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1F59-924C-443D-9F56-7E49F2F8A8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343-1CC9-4965-82F9-2C0A78F583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A76-053E-46EC-80E6-6B031BF1BB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B3F-A2F5-428E-977B-10DAB5AC13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185C-8D23-49EE-AA57-1747E30A6D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3BAE-2636-4772-BF41-54B01AC323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992-8B05-4FCE-8B1F-45F71A0739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8FFF-BED1-4D67-A0E1-ADF5418EF5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03B-74CF-4718-A386-7B6BF9D483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959-EE69-4263-9570-B63993B914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CEF5-2DEF-4A59-8AB0-F69D01ACBC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33A-D74A-49FE-973F-869D002F1A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699-2A52-417B-98A9-ACEB4C2106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76BD-A367-4819-89F0-8F58EFCC1F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DA7-88E6-458B-8EC7-4CABA2A898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B4A-E6E9-435A-9ABB-4508537DF4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3BA-0944-4775-A6D6-3CE69508F5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87B1-FDC6-4979-9C8F-FB6738C126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DD7-D9C7-4C50-84E8-A5889E9E7C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92C-E282-4FDF-8EC7-C9013DCC5F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DC9-4A37-4123-BD66-F03AAED53F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7BD-730A-4BDD-9BAF-F7295EE7D0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4DD-6D81-4337-BA30-3BBC027247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9FB-2B71-4096-95D8-E7779021C8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1E3-CE34-4A0D-9441-66EBB970B5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F02B-9867-426C-B78B-951C0E4B27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259-A0F2-4A43-88CA-73331A3EA6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484-FEF1-45ED-9F41-E46D4C2131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F6F-CABF-4021-8330-F2DCA0CB58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E3D5-D9AB-4863-90D6-33D31DD95B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D39-41A4-411A-ACF8-8A483C3203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42E-7EC4-45FF-BAEB-CF119BAB54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F8B-7B56-4A8A-A6EF-81A5F2D38E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D9F-1310-46C0-A107-7C7D048A21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86C-E615-49B6-BC4A-697DE218B5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F88-C510-4ED1-9F2B-5EFDB97BB7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F18-61EB-4E8A-BD42-48D21567BB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982-6786-41FF-B29F-FF8DA52690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1C0E-7A6B-4FEA-ACDB-4C3375AE7D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311-E88C-439E-AFDC-C37FFFA46C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83F-64EC-431B-A771-78D479532E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E5D-2982-481B-8A63-8EABFCDD66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290-6E85-4C43-A84E-9A6928D5F4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1DA-D7B3-45BE-8531-33F5B56B3B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DE2-063B-42FC-B986-AA300A0ABF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4DD-8564-4499-A00F-EB4718224E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756-93FE-4CEC-8212-9FF7FEA896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83D-94F0-4A53-B6EA-5C95A660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61C-3FC3-49EB-BF7A-B042A573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602-2187-4DF4-86D1-00857713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37A-BC20-4224-9859-0BBCDEF7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BD4-C7D7-4802-A35B-7EB3D58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24C-CE73-466B-97FE-92B2597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51F-B42A-4E10-8BC0-880441B6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17C-CA58-4C59-B7FC-C730280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F8C-B631-4B29-8FC8-E7592F9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D27-223D-4E74-9420-479FB6C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563-BBBF-4B64-A9A3-F182624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534-FBDB-4984-92FA-602A25F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F0D7-B7A1-428B-9CD5-A890FC7DE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6021-</a:t>
            </a:r>
            <a:fld id="{A4978938-F547-4041-8B13-917E01D29CCB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fcfeb9"/>
                </a:solidFill>
                <a:latin typeface="Arial"/>
              </a:rPr>
              <a:t>Module 3.3 Portugues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2680" y="142920"/>
            <a:ext cx="967896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263560" y="282564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14"/>
          <p:cNvSpPr/>
          <p:nvPr/>
        </p:nvSpPr>
        <p:spPr>
          <a:xfrm>
            <a:off x="3932280" y="3095640"/>
            <a:ext cx="2943360" cy="34128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2" h="175">
                <a:moveTo>
                  <a:pt x="1512" y="175"/>
                </a:moveTo>
                <a:lnTo>
                  <a:pt x="67" y="175"/>
                </a:lnTo>
                <a:lnTo>
                  <a:pt x="48" y="140"/>
                </a:lnTo>
                <a:lnTo>
                  <a:pt x="32" y="105"/>
                </a:lnTo>
                <a:lnTo>
                  <a:pt x="21" y="77"/>
                </a:lnTo>
                <a:lnTo>
                  <a:pt x="11" y="52"/>
                </a:lnTo>
                <a:lnTo>
                  <a:pt x="6" y="31"/>
                </a:lnTo>
                <a:lnTo>
                  <a:pt x="2" y="13"/>
                </a:lnTo>
                <a:lnTo>
                  <a:pt x="0" y="4"/>
                </a:lnTo>
                <a:lnTo>
                  <a:pt x="0" y="0"/>
                </a:lnTo>
                <a:lnTo>
                  <a:pt x="1512" y="17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5475240" y="2697120"/>
            <a:ext cx="15840" cy="133560"/>
          </a:xfrm>
          <a:custGeom>
            <a:avLst/>
            <a:gdLst>
              <a:gd name="textAreaLeft" fmla="*/ 0 w 15840"/>
              <a:gd name="textAreaRight" fmla="*/ 16200 w 15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8" h="69">
                <a:moveTo>
                  <a:pt x="4" y="69"/>
                </a:moveTo>
                <a:lnTo>
                  <a:pt x="0" y="69"/>
                </a:lnTo>
                <a:lnTo>
                  <a:pt x="0" y="0"/>
                </a:lnTo>
                <a:lnTo>
                  <a:pt x="8" y="0"/>
                </a:lnTo>
                <a:lnTo>
                  <a:pt x="8" y="69"/>
                </a:lnTo>
                <a:lnTo>
                  <a:pt x="4" y="69"/>
                </a:lnTo>
                <a:close/>
              </a:path>
            </a:pathLst>
          </a:custGeom>
          <a:solidFill>
            <a:srgbClr val="0033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5481720" y="2755800"/>
            <a:ext cx="1393920" cy="1440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16" h="8">
                <a:moveTo>
                  <a:pt x="716" y="4"/>
                </a:moveTo>
                <a:lnTo>
                  <a:pt x="716" y="0"/>
                </a:lnTo>
                <a:lnTo>
                  <a:pt x="0" y="0"/>
                </a:lnTo>
                <a:lnTo>
                  <a:pt x="0" y="8"/>
                </a:lnTo>
                <a:lnTo>
                  <a:pt x="716" y="8"/>
                </a:lnTo>
                <a:lnTo>
                  <a:pt x="716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6869160" y="2697120"/>
            <a:ext cx="14400" cy="133560"/>
          </a:xfrm>
          <a:custGeom>
            <a:avLst/>
            <a:gdLst>
              <a:gd name="textAreaLeft" fmla="*/ 0 w 14400"/>
              <a:gd name="textAreaRight" fmla="*/ 14760 w 14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8" h="69">
                <a:moveTo>
                  <a:pt x="4" y="69"/>
                </a:moveTo>
                <a:lnTo>
                  <a:pt x="8" y="69"/>
                </a:lnTo>
                <a:lnTo>
                  <a:pt x="8" y="0"/>
                </a:lnTo>
                <a:lnTo>
                  <a:pt x="0" y="0"/>
                </a:lnTo>
                <a:lnTo>
                  <a:pt x="0" y="69"/>
                </a:ln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8"/>
          <p:cNvSpPr/>
          <p:nvPr/>
        </p:nvSpPr>
        <p:spPr>
          <a:xfrm>
            <a:off x="4056120" y="2867040"/>
            <a:ext cx="2849400" cy="113184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447" h="581">
                <a:moveTo>
                  <a:pt x="1395" y="581"/>
                </a:moveTo>
                <a:lnTo>
                  <a:pt x="88" y="13"/>
                </a:lnTo>
                <a:lnTo>
                  <a:pt x="79" y="27"/>
                </a:lnTo>
                <a:lnTo>
                  <a:pt x="60" y="63"/>
                </a:lnTo>
                <a:lnTo>
                  <a:pt x="48" y="90"/>
                </a:lnTo>
                <a:lnTo>
                  <a:pt x="37" y="121"/>
                </a:lnTo>
                <a:lnTo>
                  <a:pt x="25" y="155"/>
                </a:lnTo>
                <a:lnTo>
                  <a:pt x="14" y="194"/>
                </a:lnTo>
                <a:lnTo>
                  <a:pt x="6" y="234"/>
                </a:lnTo>
                <a:lnTo>
                  <a:pt x="2" y="278"/>
                </a:lnTo>
                <a:lnTo>
                  <a:pt x="0" y="301"/>
                </a:lnTo>
                <a:lnTo>
                  <a:pt x="0" y="326"/>
                </a:lnTo>
                <a:lnTo>
                  <a:pt x="2" y="349"/>
                </a:lnTo>
                <a:lnTo>
                  <a:pt x="6" y="374"/>
                </a:lnTo>
                <a:lnTo>
                  <a:pt x="10" y="399"/>
                </a:lnTo>
                <a:lnTo>
                  <a:pt x="15" y="426"/>
                </a:lnTo>
                <a:lnTo>
                  <a:pt x="23" y="451"/>
                </a:lnTo>
                <a:lnTo>
                  <a:pt x="31" y="476"/>
                </a:lnTo>
                <a:lnTo>
                  <a:pt x="42" y="503"/>
                </a:lnTo>
                <a:lnTo>
                  <a:pt x="56" y="530"/>
                </a:lnTo>
                <a:lnTo>
                  <a:pt x="71" y="556"/>
                </a:lnTo>
                <a:lnTo>
                  <a:pt x="88" y="581"/>
                </a:lnTo>
                <a:lnTo>
                  <a:pt x="1384" y="0"/>
                </a:lnTo>
                <a:lnTo>
                  <a:pt x="1399" y="34"/>
                </a:lnTo>
                <a:lnTo>
                  <a:pt x="1412" y="69"/>
                </a:lnTo>
                <a:lnTo>
                  <a:pt x="1424" y="107"/>
                </a:lnTo>
                <a:lnTo>
                  <a:pt x="1432" y="144"/>
                </a:lnTo>
                <a:lnTo>
                  <a:pt x="1439" y="182"/>
                </a:lnTo>
                <a:lnTo>
                  <a:pt x="1443" y="221"/>
                </a:lnTo>
                <a:lnTo>
                  <a:pt x="1447" y="259"/>
                </a:lnTo>
                <a:lnTo>
                  <a:pt x="1447" y="297"/>
                </a:lnTo>
                <a:lnTo>
                  <a:pt x="1447" y="336"/>
                </a:lnTo>
                <a:lnTo>
                  <a:pt x="1445" y="374"/>
                </a:lnTo>
                <a:lnTo>
                  <a:pt x="1441" y="411"/>
                </a:lnTo>
                <a:lnTo>
                  <a:pt x="1435" y="445"/>
                </a:lnTo>
                <a:lnTo>
                  <a:pt x="1428" y="480"/>
                </a:lnTo>
                <a:lnTo>
                  <a:pt x="1418" y="514"/>
                </a:lnTo>
                <a:lnTo>
                  <a:pt x="1407" y="547"/>
                </a:lnTo>
                <a:lnTo>
                  <a:pt x="1395" y="58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4064040" y="3436920"/>
            <a:ext cx="2811600" cy="411120"/>
          </a:xfrm>
          <a:custGeom>
            <a:avLst/>
            <a:gdLst>
              <a:gd name="textAreaLeft" fmla="*/ 0 w 2811600"/>
              <a:gd name="textAreaRight" fmla="*/ 2811960 w 28116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445" h="211">
                <a:moveTo>
                  <a:pt x="1445" y="0"/>
                </a:moveTo>
                <a:lnTo>
                  <a:pt x="224" y="211"/>
                </a:lnTo>
                <a:lnTo>
                  <a:pt x="203" y="201"/>
                </a:lnTo>
                <a:lnTo>
                  <a:pt x="184" y="191"/>
                </a:lnTo>
                <a:lnTo>
                  <a:pt x="167" y="182"/>
                </a:lnTo>
                <a:lnTo>
                  <a:pt x="150" y="168"/>
                </a:lnTo>
                <a:lnTo>
                  <a:pt x="117" y="143"/>
                </a:lnTo>
                <a:lnTo>
                  <a:pt x="86" y="117"/>
                </a:lnTo>
                <a:lnTo>
                  <a:pt x="61" y="88"/>
                </a:lnTo>
                <a:lnTo>
                  <a:pt x="36" y="57"/>
                </a:lnTo>
                <a:lnTo>
                  <a:pt x="17" y="28"/>
                </a:lnTo>
                <a:lnTo>
                  <a:pt x="0" y="0"/>
                </a:lnTo>
                <a:lnTo>
                  <a:pt x="1445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5637240" y="3340080"/>
            <a:ext cx="42840" cy="28440"/>
          </a:xfrm>
          <a:custGeom>
            <a:avLst/>
            <a:gdLst>
              <a:gd name="textAreaLeft" fmla="*/ 0 w 42840"/>
              <a:gd name="textAreaRight" fmla="*/ 43200 w 428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3" h="15">
                <a:moveTo>
                  <a:pt x="21" y="0"/>
                </a:moveTo>
                <a:lnTo>
                  <a:pt x="23" y="5"/>
                </a:lnTo>
                <a:lnTo>
                  <a:pt x="2" y="15"/>
                </a:lnTo>
                <a:lnTo>
                  <a:pt x="0" y="9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978440" y="3209760"/>
            <a:ext cx="36360" cy="17640"/>
          </a:xfrm>
          <a:custGeom>
            <a:avLst/>
            <a:gdLst>
              <a:gd name="textAreaLeft" fmla="*/ 0 w 36360"/>
              <a:gd name="textAreaRight" fmla="*/ 36720 w 363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" h="8">
                <a:moveTo>
                  <a:pt x="19" y="4"/>
                </a:moveTo>
                <a:lnTo>
                  <a:pt x="19" y="2"/>
                </a:lnTo>
                <a:lnTo>
                  <a:pt x="2" y="0"/>
                </a:lnTo>
                <a:lnTo>
                  <a:pt x="0" y="6"/>
                </a:lnTo>
                <a:lnTo>
                  <a:pt x="19" y="8"/>
                </a:lnTo>
                <a:lnTo>
                  <a:pt x="1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1"/>
          <p:cNvSpPr/>
          <p:nvPr/>
        </p:nvSpPr>
        <p:spPr>
          <a:xfrm flipH="1">
            <a:off x="4432320" y="3836880"/>
            <a:ext cx="17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2"/>
          <p:cNvSpPr/>
          <p:nvPr/>
        </p:nvSpPr>
        <p:spPr>
          <a:xfrm flipH="1">
            <a:off x="4400280" y="3836880"/>
            <a:ext cx="140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3"/>
          <p:cNvSpPr/>
          <p:nvPr/>
        </p:nvSpPr>
        <p:spPr>
          <a:xfrm flipH="1">
            <a:off x="436572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4"/>
          <p:cNvSpPr/>
          <p:nvPr/>
        </p:nvSpPr>
        <p:spPr>
          <a:xfrm flipH="1">
            <a:off x="433224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5"/>
          <p:cNvSpPr/>
          <p:nvPr/>
        </p:nvSpPr>
        <p:spPr>
          <a:xfrm flipH="1">
            <a:off x="429912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6"/>
          <p:cNvSpPr/>
          <p:nvPr/>
        </p:nvSpPr>
        <p:spPr>
          <a:xfrm flipH="1">
            <a:off x="419724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7"/>
          <p:cNvSpPr/>
          <p:nvPr/>
        </p:nvSpPr>
        <p:spPr>
          <a:xfrm flipH="1">
            <a:off x="4129200" y="3836880"/>
            <a:ext cx="17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8"/>
          <p:cNvSpPr/>
          <p:nvPr/>
        </p:nvSpPr>
        <p:spPr>
          <a:xfrm flipH="1">
            <a:off x="4097160" y="3836880"/>
            <a:ext cx="1440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9"/>
          <p:cNvSpPr/>
          <p:nvPr/>
        </p:nvSpPr>
        <p:spPr>
          <a:xfrm flipH="1">
            <a:off x="4064040" y="3836880"/>
            <a:ext cx="1440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0"/>
          <p:cNvSpPr/>
          <p:nvPr/>
        </p:nvSpPr>
        <p:spPr>
          <a:xfrm flipH="1">
            <a:off x="4030560" y="3836880"/>
            <a:ext cx="1296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1"/>
          <p:cNvSpPr/>
          <p:nvPr/>
        </p:nvSpPr>
        <p:spPr>
          <a:xfrm flipH="1">
            <a:off x="3994200" y="3836880"/>
            <a:ext cx="17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2"/>
          <p:cNvSpPr/>
          <p:nvPr/>
        </p:nvSpPr>
        <p:spPr>
          <a:xfrm flipH="1">
            <a:off x="396252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3"/>
          <p:cNvSpPr/>
          <p:nvPr/>
        </p:nvSpPr>
        <p:spPr>
          <a:xfrm flipH="1">
            <a:off x="3929040" y="3836880"/>
            <a:ext cx="15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4"/>
          <p:cNvSpPr/>
          <p:nvPr/>
        </p:nvSpPr>
        <p:spPr>
          <a:xfrm flipV="1">
            <a:off x="4427640" y="2304720"/>
            <a:ext cx="3570120" cy="1616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5"/>
          <p:cNvSpPr/>
          <p:nvPr/>
        </p:nvSpPr>
        <p:spPr>
          <a:xfrm>
            <a:off x="2792520" y="3700440"/>
            <a:ext cx="1284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6"/>
          <p:cNvSpPr/>
          <p:nvPr/>
        </p:nvSpPr>
        <p:spPr>
          <a:xfrm flipV="1">
            <a:off x="4500720" y="3065040"/>
            <a:ext cx="4651200" cy="776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5510160" y="3417840"/>
            <a:ext cx="2524320" cy="1130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8"/>
          <p:cNvSpPr/>
          <p:nvPr/>
        </p:nvSpPr>
        <p:spPr>
          <a:xfrm flipH="1">
            <a:off x="2806560" y="3987720"/>
            <a:ext cx="131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9"/>
          <p:cNvSpPr/>
          <p:nvPr/>
        </p:nvSpPr>
        <p:spPr>
          <a:xfrm flipH="1" flipV="1">
            <a:off x="3178080" y="3095640"/>
            <a:ext cx="76680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60"/>
          <p:cNvSpPr/>
          <p:nvPr/>
        </p:nvSpPr>
        <p:spPr>
          <a:xfrm flipH="1">
            <a:off x="2806560" y="2903400"/>
            <a:ext cx="1346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1"/>
          <p:cNvSpPr/>
          <p:nvPr/>
        </p:nvSpPr>
        <p:spPr>
          <a:xfrm flipH="1">
            <a:off x="2806560" y="3841920"/>
            <a:ext cx="131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2"/>
          <p:cNvSpPr/>
          <p:nvPr/>
        </p:nvSpPr>
        <p:spPr>
          <a:xfrm>
            <a:off x="3938760" y="3110040"/>
            <a:ext cx="5313240" cy="5666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3"/>
          <p:cNvSpPr/>
          <p:nvPr/>
        </p:nvSpPr>
        <p:spPr>
          <a:xfrm>
            <a:off x="3357720" y="3448080"/>
            <a:ext cx="5356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4"/>
          <p:cNvSpPr/>
          <p:nvPr/>
        </p:nvSpPr>
        <p:spPr>
          <a:xfrm>
            <a:off x="4164120" y="2008080"/>
            <a:ext cx="2730240" cy="285768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1427" h="1477">
                <a:moveTo>
                  <a:pt x="0" y="468"/>
                </a:moveTo>
                <a:lnTo>
                  <a:pt x="11" y="443"/>
                </a:lnTo>
                <a:lnTo>
                  <a:pt x="23" y="418"/>
                </a:lnTo>
                <a:lnTo>
                  <a:pt x="34" y="393"/>
                </a:lnTo>
                <a:lnTo>
                  <a:pt x="48" y="370"/>
                </a:lnTo>
                <a:lnTo>
                  <a:pt x="63" y="347"/>
                </a:lnTo>
                <a:lnTo>
                  <a:pt x="77" y="324"/>
                </a:lnTo>
                <a:lnTo>
                  <a:pt x="94" y="301"/>
                </a:lnTo>
                <a:lnTo>
                  <a:pt x="109" y="280"/>
                </a:lnTo>
                <a:lnTo>
                  <a:pt x="127" y="259"/>
                </a:lnTo>
                <a:lnTo>
                  <a:pt x="146" y="238"/>
                </a:lnTo>
                <a:lnTo>
                  <a:pt x="163" y="218"/>
                </a:lnTo>
                <a:lnTo>
                  <a:pt x="184" y="199"/>
                </a:lnTo>
                <a:lnTo>
                  <a:pt x="203" y="182"/>
                </a:lnTo>
                <a:lnTo>
                  <a:pt x="224" y="165"/>
                </a:lnTo>
                <a:lnTo>
                  <a:pt x="246" y="147"/>
                </a:lnTo>
                <a:lnTo>
                  <a:pt x="269" y="132"/>
                </a:lnTo>
                <a:lnTo>
                  <a:pt x="290" y="117"/>
                </a:lnTo>
                <a:lnTo>
                  <a:pt x="315" y="101"/>
                </a:lnTo>
                <a:lnTo>
                  <a:pt x="338" y="88"/>
                </a:lnTo>
                <a:lnTo>
                  <a:pt x="363" y="76"/>
                </a:lnTo>
                <a:lnTo>
                  <a:pt x="387" y="65"/>
                </a:lnTo>
                <a:lnTo>
                  <a:pt x="412" y="53"/>
                </a:lnTo>
                <a:lnTo>
                  <a:pt x="437" y="44"/>
                </a:lnTo>
                <a:lnTo>
                  <a:pt x="464" y="34"/>
                </a:lnTo>
                <a:lnTo>
                  <a:pt x="491" y="26"/>
                </a:lnTo>
                <a:lnTo>
                  <a:pt x="518" y="19"/>
                </a:lnTo>
                <a:lnTo>
                  <a:pt x="545" y="13"/>
                </a:lnTo>
                <a:lnTo>
                  <a:pt x="574" y="9"/>
                </a:lnTo>
                <a:lnTo>
                  <a:pt x="600" y="5"/>
                </a:lnTo>
                <a:lnTo>
                  <a:pt x="629" y="1"/>
                </a:lnTo>
                <a:lnTo>
                  <a:pt x="658" y="0"/>
                </a:lnTo>
                <a:lnTo>
                  <a:pt x="687" y="0"/>
                </a:lnTo>
                <a:lnTo>
                  <a:pt x="725" y="1"/>
                </a:lnTo>
                <a:lnTo>
                  <a:pt x="763" y="3"/>
                </a:lnTo>
                <a:lnTo>
                  <a:pt x="800" y="7"/>
                </a:lnTo>
                <a:lnTo>
                  <a:pt x="836" y="15"/>
                </a:lnTo>
                <a:lnTo>
                  <a:pt x="873" y="23"/>
                </a:lnTo>
                <a:lnTo>
                  <a:pt x="907" y="32"/>
                </a:lnTo>
                <a:lnTo>
                  <a:pt x="942" y="44"/>
                </a:lnTo>
                <a:lnTo>
                  <a:pt x="975" y="57"/>
                </a:lnTo>
                <a:lnTo>
                  <a:pt x="1007" y="72"/>
                </a:lnTo>
                <a:lnTo>
                  <a:pt x="1040" y="90"/>
                </a:lnTo>
                <a:lnTo>
                  <a:pt x="1070" y="107"/>
                </a:lnTo>
                <a:lnTo>
                  <a:pt x="1101" y="126"/>
                </a:lnTo>
                <a:lnTo>
                  <a:pt x="1130" y="147"/>
                </a:lnTo>
                <a:lnTo>
                  <a:pt x="1157" y="168"/>
                </a:lnTo>
                <a:lnTo>
                  <a:pt x="1184" y="191"/>
                </a:lnTo>
                <a:lnTo>
                  <a:pt x="1210" y="216"/>
                </a:lnTo>
                <a:lnTo>
                  <a:pt x="1235" y="241"/>
                </a:lnTo>
                <a:lnTo>
                  <a:pt x="1258" y="268"/>
                </a:lnTo>
                <a:lnTo>
                  <a:pt x="1280" y="297"/>
                </a:lnTo>
                <a:lnTo>
                  <a:pt x="1301" y="326"/>
                </a:lnTo>
                <a:lnTo>
                  <a:pt x="1320" y="357"/>
                </a:lnTo>
                <a:lnTo>
                  <a:pt x="1337" y="387"/>
                </a:lnTo>
                <a:lnTo>
                  <a:pt x="1354" y="418"/>
                </a:lnTo>
                <a:lnTo>
                  <a:pt x="1370" y="453"/>
                </a:lnTo>
                <a:lnTo>
                  <a:pt x="1381" y="485"/>
                </a:lnTo>
                <a:lnTo>
                  <a:pt x="1395" y="520"/>
                </a:lnTo>
                <a:lnTo>
                  <a:pt x="1404" y="554"/>
                </a:lnTo>
                <a:lnTo>
                  <a:pt x="1412" y="591"/>
                </a:lnTo>
                <a:lnTo>
                  <a:pt x="1418" y="627"/>
                </a:lnTo>
                <a:lnTo>
                  <a:pt x="1423" y="664"/>
                </a:lnTo>
                <a:lnTo>
                  <a:pt x="1425" y="700"/>
                </a:lnTo>
                <a:lnTo>
                  <a:pt x="1427" y="739"/>
                </a:lnTo>
                <a:lnTo>
                  <a:pt x="1425" y="777"/>
                </a:lnTo>
                <a:lnTo>
                  <a:pt x="1423" y="813"/>
                </a:lnTo>
                <a:lnTo>
                  <a:pt x="1418" y="852"/>
                </a:lnTo>
                <a:lnTo>
                  <a:pt x="1412" y="888"/>
                </a:lnTo>
                <a:lnTo>
                  <a:pt x="1404" y="923"/>
                </a:lnTo>
                <a:lnTo>
                  <a:pt x="1395" y="957"/>
                </a:lnTo>
                <a:lnTo>
                  <a:pt x="1381" y="992"/>
                </a:lnTo>
                <a:lnTo>
                  <a:pt x="1370" y="1026"/>
                </a:lnTo>
                <a:lnTo>
                  <a:pt x="1354" y="1059"/>
                </a:lnTo>
                <a:lnTo>
                  <a:pt x="1337" y="1090"/>
                </a:lnTo>
                <a:lnTo>
                  <a:pt x="1320" y="1122"/>
                </a:lnTo>
                <a:lnTo>
                  <a:pt x="1301" y="1151"/>
                </a:lnTo>
                <a:lnTo>
                  <a:pt x="1280" y="1180"/>
                </a:lnTo>
                <a:lnTo>
                  <a:pt x="1258" y="1209"/>
                </a:lnTo>
                <a:lnTo>
                  <a:pt x="1235" y="1236"/>
                </a:lnTo>
                <a:lnTo>
                  <a:pt x="1210" y="1261"/>
                </a:lnTo>
                <a:lnTo>
                  <a:pt x="1184" y="1286"/>
                </a:lnTo>
                <a:lnTo>
                  <a:pt x="1157" y="1309"/>
                </a:lnTo>
                <a:lnTo>
                  <a:pt x="1130" y="1330"/>
                </a:lnTo>
                <a:lnTo>
                  <a:pt x="1101" y="1351"/>
                </a:lnTo>
                <a:lnTo>
                  <a:pt x="1070" y="1370"/>
                </a:lnTo>
                <a:lnTo>
                  <a:pt x="1040" y="1387"/>
                </a:lnTo>
                <a:lnTo>
                  <a:pt x="1007" y="1405"/>
                </a:lnTo>
                <a:lnTo>
                  <a:pt x="975" y="1420"/>
                </a:lnTo>
                <a:lnTo>
                  <a:pt x="942" y="1433"/>
                </a:lnTo>
                <a:lnTo>
                  <a:pt x="907" y="1445"/>
                </a:lnTo>
                <a:lnTo>
                  <a:pt x="873" y="1454"/>
                </a:lnTo>
                <a:lnTo>
                  <a:pt x="836" y="1462"/>
                </a:lnTo>
                <a:lnTo>
                  <a:pt x="800" y="1470"/>
                </a:lnTo>
                <a:lnTo>
                  <a:pt x="763" y="1474"/>
                </a:lnTo>
                <a:lnTo>
                  <a:pt x="725" y="1477"/>
                </a:lnTo>
                <a:lnTo>
                  <a:pt x="687" y="1477"/>
                </a:lnTo>
                <a:lnTo>
                  <a:pt x="658" y="1477"/>
                </a:lnTo>
                <a:lnTo>
                  <a:pt x="629" y="1476"/>
                </a:lnTo>
                <a:lnTo>
                  <a:pt x="600" y="1472"/>
                </a:lnTo>
                <a:lnTo>
                  <a:pt x="574" y="1468"/>
                </a:lnTo>
                <a:lnTo>
                  <a:pt x="545" y="1464"/>
                </a:lnTo>
                <a:lnTo>
                  <a:pt x="518" y="1458"/>
                </a:lnTo>
                <a:lnTo>
                  <a:pt x="491" y="1451"/>
                </a:lnTo>
                <a:lnTo>
                  <a:pt x="464" y="1443"/>
                </a:lnTo>
                <a:lnTo>
                  <a:pt x="437" y="1433"/>
                </a:lnTo>
                <a:lnTo>
                  <a:pt x="412" y="1424"/>
                </a:lnTo>
                <a:lnTo>
                  <a:pt x="387" y="1412"/>
                </a:lnTo>
                <a:lnTo>
                  <a:pt x="363" y="1401"/>
                </a:lnTo>
                <a:lnTo>
                  <a:pt x="338" y="1389"/>
                </a:lnTo>
                <a:lnTo>
                  <a:pt x="315" y="1376"/>
                </a:lnTo>
                <a:lnTo>
                  <a:pt x="292" y="1360"/>
                </a:lnTo>
                <a:lnTo>
                  <a:pt x="269" y="1345"/>
                </a:lnTo>
                <a:lnTo>
                  <a:pt x="246" y="1330"/>
                </a:lnTo>
                <a:lnTo>
                  <a:pt x="224" y="1312"/>
                </a:lnTo>
                <a:lnTo>
                  <a:pt x="203" y="1295"/>
                </a:lnTo>
                <a:lnTo>
                  <a:pt x="184" y="1278"/>
                </a:lnTo>
                <a:lnTo>
                  <a:pt x="165" y="1259"/>
                </a:lnTo>
                <a:lnTo>
                  <a:pt x="146" y="1239"/>
                </a:lnTo>
                <a:lnTo>
                  <a:pt x="127" y="1218"/>
                </a:lnTo>
                <a:lnTo>
                  <a:pt x="109" y="1197"/>
                </a:lnTo>
                <a:lnTo>
                  <a:pt x="94" y="1176"/>
                </a:lnTo>
                <a:lnTo>
                  <a:pt x="77" y="1153"/>
                </a:lnTo>
                <a:lnTo>
                  <a:pt x="63" y="1132"/>
                </a:lnTo>
                <a:lnTo>
                  <a:pt x="48" y="1107"/>
                </a:lnTo>
                <a:lnTo>
                  <a:pt x="34" y="1084"/>
                </a:lnTo>
                <a:lnTo>
                  <a:pt x="23" y="1059"/>
                </a:lnTo>
                <a:lnTo>
                  <a:pt x="11" y="1034"/>
                </a:lnTo>
                <a:lnTo>
                  <a:pt x="0" y="1009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65"/>
          <p:cNvSpPr/>
          <p:nvPr/>
        </p:nvSpPr>
        <p:spPr>
          <a:xfrm>
            <a:off x="6847920" y="280980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66"/>
          <p:cNvSpPr/>
          <p:nvPr/>
        </p:nvSpPr>
        <p:spPr>
          <a:xfrm>
            <a:off x="1757880" y="3178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ZapfHumnst BT"/>
              </a:rPr>
              <a:t>Eix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67"/>
          <p:cNvSpPr/>
          <p:nvPr/>
        </p:nvSpPr>
        <p:spPr>
          <a:xfrm>
            <a:off x="1500120" y="227808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8"/>
          <p:cNvSpPr/>
          <p:nvPr/>
        </p:nvSpPr>
        <p:spPr>
          <a:xfrm>
            <a:off x="1725120" y="425592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E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9"/>
          <p:cNvSpPr/>
          <p:nvPr/>
        </p:nvSpPr>
        <p:spPr>
          <a:xfrm flipH="1" flipV="1">
            <a:off x="3430440" y="2528640"/>
            <a:ext cx="657360" cy="655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70"/>
          <p:cNvSpPr/>
          <p:nvPr/>
        </p:nvSpPr>
        <p:spPr>
          <a:xfrm flipH="1">
            <a:off x="3475080" y="3622680"/>
            <a:ext cx="744480" cy="744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71"/>
          <p:cNvSpPr/>
          <p:nvPr/>
        </p:nvSpPr>
        <p:spPr>
          <a:xfrm>
            <a:off x="3835440" y="2892600"/>
            <a:ext cx="780840" cy="1109520"/>
          </a:xfrm>
          <a:custGeom>
            <a:avLst/>
            <a:gdLst>
              <a:gd name="textAreaLeft" fmla="*/ 0 w 780840"/>
              <a:gd name="textAreaRight" fmla="*/ 781200 w 78084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401" h="570">
                <a:moveTo>
                  <a:pt x="201" y="0"/>
                </a:moveTo>
                <a:lnTo>
                  <a:pt x="221" y="2"/>
                </a:lnTo>
                <a:lnTo>
                  <a:pt x="242" y="6"/>
                </a:lnTo>
                <a:lnTo>
                  <a:pt x="261" y="14"/>
                </a:lnTo>
                <a:lnTo>
                  <a:pt x="278" y="23"/>
                </a:lnTo>
                <a:lnTo>
                  <a:pt x="297" y="35"/>
                </a:lnTo>
                <a:lnTo>
                  <a:pt x="313" y="48"/>
                </a:lnTo>
                <a:lnTo>
                  <a:pt x="328" y="66"/>
                </a:lnTo>
                <a:lnTo>
                  <a:pt x="343" y="85"/>
                </a:lnTo>
                <a:lnTo>
                  <a:pt x="355" y="104"/>
                </a:lnTo>
                <a:lnTo>
                  <a:pt x="368" y="127"/>
                </a:lnTo>
                <a:lnTo>
                  <a:pt x="378" y="150"/>
                </a:lnTo>
                <a:lnTo>
                  <a:pt x="386" y="175"/>
                </a:lnTo>
                <a:lnTo>
                  <a:pt x="393" y="200"/>
                </a:lnTo>
                <a:lnTo>
                  <a:pt x="397" y="229"/>
                </a:lnTo>
                <a:lnTo>
                  <a:pt x="401" y="256"/>
                </a:lnTo>
                <a:lnTo>
                  <a:pt x="401" y="284"/>
                </a:lnTo>
                <a:lnTo>
                  <a:pt x="401" y="313"/>
                </a:lnTo>
                <a:lnTo>
                  <a:pt x="397" y="342"/>
                </a:lnTo>
                <a:lnTo>
                  <a:pt x="393" y="369"/>
                </a:lnTo>
                <a:lnTo>
                  <a:pt x="386" y="396"/>
                </a:lnTo>
                <a:lnTo>
                  <a:pt x="378" y="421"/>
                </a:lnTo>
                <a:lnTo>
                  <a:pt x="368" y="444"/>
                </a:lnTo>
                <a:lnTo>
                  <a:pt x="355" y="467"/>
                </a:lnTo>
                <a:lnTo>
                  <a:pt x="343" y="486"/>
                </a:lnTo>
                <a:lnTo>
                  <a:pt x="328" y="505"/>
                </a:lnTo>
                <a:lnTo>
                  <a:pt x="313" y="520"/>
                </a:lnTo>
                <a:lnTo>
                  <a:pt x="297" y="536"/>
                </a:lnTo>
                <a:lnTo>
                  <a:pt x="278" y="547"/>
                </a:lnTo>
                <a:lnTo>
                  <a:pt x="261" y="557"/>
                </a:lnTo>
                <a:lnTo>
                  <a:pt x="242" y="564"/>
                </a:lnTo>
                <a:lnTo>
                  <a:pt x="221" y="568"/>
                </a:lnTo>
                <a:lnTo>
                  <a:pt x="201" y="570"/>
                </a:lnTo>
                <a:lnTo>
                  <a:pt x="180" y="568"/>
                </a:lnTo>
                <a:lnTo>
                  <a:pt x="159" y="564"/>
                </a:lnTo>
                <a:lnTo>
                  <a:pt x="140" y="557"/>
                </a:lnTo>
                <a:lnTo>
                  <a:pt x="123" y="547"/>
                </a:lnTo>
                <a:lnTo>
                  <a:pt x="105" y="536"/>
                </a:lnTo>
                <a:lnTo>
                  <a:pt x="88" y="520"/>
                </a:lnTo>
                <a:lnTo>
                  <a:pt x="73" y="505"/>
                </a:lnTo>
                <a:lnTo>
                  <a:pt x="57" y="486"/>
                </a:lnTo>
                <a:lnTo>
                  <a:pt x="46" y="467"/>
                </a:lnTo>
                <a:lnTo>
                  <a:pt x="34" y="444"/>
                </a:lnTo>
                <a:lnTo>
                  <a:pt x="23" y="421"/>
                </a:lnTo>
                <a:lnTo>
                  <a:pt x="15" y="396"/>
                </a:lnTo>
                <a:lnTo>
                  <a:pt x="8" y="369"/>
                </a:lnTo>
                <a:lnTo>
                  <a:pt x="4" y="342"/>
                </a:lnTo>
                <a:lnTo>
                  <a:pt x="0" y="313"/>
                </a:lnTo>
                <a:lnTo>
                  <a:pt x="0" y="284"/>
                </a:lnTo>
                <a:lnTo>
                  <a:pt x="0" y="256"/>
                </a:lnTo>
                <a:lnTo>
                  <a:pt x="4" y="229"/>
                </a:lnTo>
                <a:lnTo>
                  <a:pt x="8" y="200"/>
                </a:lnTo>
                <a:lnTo>
                  <a:pt x="15" y="175"/>
                </a:lnTo>
                <a:lnTo>
                  <a:pt x="23" y="150"/>
                </a:lnTo>
                <a:lnTo>
                  <a:pt x="34" y="127"/>
                </a:lnTo>
                <a:lnTo>
                  <a:pt x="46" y="104"/>
                </a:lnTo>
                <a:lnTo>
                  <a:pt x="57" y="85"/>
                </a:lnTo>
                <a:lnTo>
                  <a:pt x="73" y="66"/>
                </a:lnTo>
                <a:lnTo>
                  <a:pt x="88" y="48"/>
                </a:lnTo>
                <a:lnTo>
                  <a:pt x="105" y="35"/>
                </a:lnTo>
                <a:lnTo>
                  <a:pt x="123" y="23"/>
                </a:lnTo>
                <a:lnTo>
                  <a:pt x="140" y="14"/>
                </a:lnTo>
                <a:lnTo>
                  <a:pt x="159" y="6"/>
                </a:lnTo>
                <a:lnTo>
                  <a:pt x="180" y="2"/>
                </a:lnTo>
                <a:lnTo>
                  <a:pt x="201" y="0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3"/>
          <p:cNvSpPr/>
          <p:nvPr/>
        </p:nvSpPr>
        <p:spPr>
          <a:xfrm>
            <a:off x="754200" y="958680"/>
            <a:ext cx="918036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STIGMATISMO MIÓPICO SIMPLES (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5"/>
          <p:cNvSpPr/>
          <p:nvPr/>
        </p:nvSpPr>
        <p:spPr>
          <a:xfrm>
            <a:off x="4338720" y="2932200"/>
            <a:ext cx="1123920" cy="50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941220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728640" y="819000"/>
            <a:ext cx="918036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STIGMATISMO MIÓPICO COMPOSTO (AM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67"/>
          <p:cNvGrpSpPr/>
          <p:nvPr/>
        </p:nvGrpSpPr>
        <p:grpSpPr>
          <a:xfrm>
            <a:off x="1095480" y="1903320"/>
            <a:ext cx="8270280" cy="3687840"/>
            <a:chOff x="1095480" y="1903320"/>
            <a:chExt cx="8270280" cy="3687840"/>
          </a:xfrm>
        </p:grpSpPr>
        <p:sp>
          <p:nvSpPr>
            <p:cNvPr id="322" name="Freeform 15"/>
            <p:cNvSpPr/>
            <p:nvPr/>
          </p:nvSpPr>
          <p:spPr>
            <a:xfrm>
              <a:off x="3895920" y="3263760"/>
              <a:ext cx="3103920" cy="432720"/>
            </a:xfrm>
            <a:custGeom>
              <a:avLst/>
              <a:gdLst>
                <a:gd name="textAreaLeft" fmla="*/ 0 w 3103920"/>
                <a:gd name="textAreaRight" fmla="*/ 3104280 w 310392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1422" h="199">
                  <a:moveTo>
                    <a:pt x="1422" y="199"/>
                  </a:moveTo>
                  <a:lnTo>
                    <a:pt x="72" y="195"/>
                  </a:lnTo>
                  <a:lnTo>
                    <a:pt x="51" y="155"/>
                  </a:lnTo>
                  <a:lnTo>
                    <a:pt x="34" y="119"/>
                  </a:lnTo>
                  <a:lnTo>
                    <a:pt x="21" y="85"/>
                  </a:lnTo>
                  <a:lnTo>
                    <a:pt x="13" y="55"/>
                  </a:lnTo>
                  <a:lnTo>
                    <a:pt x="6" y="32"/>
                  </a:lnTo>
                  <a:lnTo>
                    <a:pt x="2" y="15"/>
                  </a:lnTo>
                  <a:lnTo>
                    <a:pt x="2" y="4"/>
                  </a:lnTo>
                  <a:lnTo>
                    <a:pt x="0" y="0"/>
                  </a:lnTo>
                  <a:lnTo>
                    <a:pt x="1422" y="19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4049640" y="2964240"/>
              <a:ext cx="3491640" cy="1421640"/>
            </a:xfrm>
            <a:custGeom>
              <a:avLst/>
              <a:gdLst>
                <a:gd name="textAreaLeft" fmla="*/ 0 w 3491640"/>
                <a:gd name="textAreaRight" fmla="*/ 3492000 w 3491640"/>
                <a:gd name="textAreaTop" fmla="*/ 0 h 1421640"/>
                <a:gd name="textAreaBottom" fmla="*/ 1422000 h 1421640"/>
              </a:gdLst>
              <a:ahLst/>
              <a:rect l="textAreaLeft" t="textAreaTop" r="textAreaRight" b="textAreaBottom"/>
              <a:pathLst>
                <a:path w="1600" h="649">
                  <a:moveTo>
                    <a:pt x="1530" y="649"/>
                  </a:moveTo>
                  <a:lnTo>
                    <a:pt x="97" y="13"/>
                  </a:lnTo>
                  <a:lnTo>
                    <a:pt x="89" y="28"/>
                  </a:lnTo>
                  <a:lnTo>
                    <a:pt x="66" y="68"/>
                  </a:lnTo>
                  <a:lnTo>
                    <a:pt x="53" y="98"/>
                  </a:lnTo>
                  <a:lnTo>
                    <a:pt x="38" y="132"/>
                  </a:lnTo>
                  <a:lnTo>
                    <a:pt x="25" y="168"/>
                  </a:lnTo>
                  <a:lnTo>
                    <a:pt x="15" y="210"/>
                  </a:lnTo>
                  <a:lnTo>
                    <a:pt x="4" y="257"/>
                  </a:lnTo>
                  <a:lnTo>
                    <a:pt x="0" y="306"/>
                  </a:lnTo>
                  <a:lnTo>
                    <a:pt x="0" y="331"/>
                  </a:lnTo>
                  <a:lnTo>
                    <a:pt x="0" y="359"/>
                  </a:lnTo>
                  <a:lnTo>
                    <a:pt x="2" y="384"/>
                  </a:lnTo>
                  <a:lnTo>
                    <a:pt x="4" y="412"/>
                  </a:lnTo>
                  <a:lnTo>
                    <a:pt x="8" y="439"/>
                  </a:lnTo>
                  <a:lnTo>
                    <a:pt x="15" y="467"/>
                  </a:lnTo>
                  <a:lnTo>
                    <a:pt x="23" y="496"/>
                  </a:lnTo>
                  <a:lnTo>
                    <a:pt x="34" y="524"/>
                  </a:lnTo>
                  <a:lnTo>
                    <a:pt x="47" y="554"/>
                  </a:lnTo>
                  <a:lnTo>
                    <a:pt x="61" y="583"/>
                  </a:lnTo>
                  <a:lnTo>
                    <a:pt x="78" y="611"/>
                  </a:lnTo>
                  <a:lnTo>
                    <a:pt x="97" y="641"/>
                  </a:lnTo>
                  <a:lnTo>
                    <a:pt x="1528" y="0"/>
                  </a:lnTo>
                  <a:lnTo>
                    <a:pt x="1542" y="39"/>
                  </a:lnTo>
                  <a:lnTo>
                    <a:pt x="1557" y="79"/>
                  </a:lnTo>
                  <a:lnTo>
                    <a:pt x="1570" y="121"/>
                  </a:lnTo>
                  <a:lnTo>
                    <a:pt x="1581" y="164"/>
                  </a:lnTo>
                  <a:lnTo>
                    <a:pt x="1589" y="206"/>
                  </a:lnTo>
                  <a:lnTo>
                    <a:pt x="1595" y="248"/>
                  </a:lnTo>
                  <a:lnTo>
                    <a:pt x="1597" y="293"/>
                  </a:lnTo>
                  <a:lnTo>
                    <a:pt x="1600" y="335"/>
                  </a:lnTo>
                  <a:lnTo>
                    <a:pt x="1597" y="378"/>
                  </a:lnTo>
                  <a:lnTo>
                    <a:pt x="1595" y="420"/>
                  </a:lnTo>
                  <a:lnTo>
                    <a:pt x="1589" y="460"/>
                  </a:lnTo>
                  <a:lnTo>
                    <a:pt x="1581" y="499"/>
                  </a:lnTo>
                  <a:lnTo>
                    <a:pt x="1570" y="537"/>
                  </a:lnTo>
                  <a:lnTo>
                    <a:pt x="1559" y="575"/>
                  </a:lnTo>
                  <a:lnTo>
                    <a:pt x="1545" y="613"/>
                  </a:lnTo>
                  <a:lnTo>
                    <a:pt x="1530" y="64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4049640" y="3687480"/>
              <a:ext cx="2829600" cy="487080"/>
            </a:xfrm>
            <a:custGeom>
              <a:avLst/>
              <a:gdLst>
                <a:gd name="textAreaLeft" fmla="*/ 0 w 2829600"/>
                <a:gd name="textAreaRight" fmla="*/ 2829960 w 282960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297" h="223">
                  <a:moveTo>
                    <a:pt x="1297" y="2"/>
                  </a:moveTo>
                  <a:lnTo>
                    <a:pt x="248" y="223"/>
                  </a:lnTo>
                  <a:lnTo>
                    <a:pt x="227" y="212"/>
                  </a:lnTo>
                  <a:lnTo>
                    <a:pt x="205" y="201"/>
                  </a:lnTo>
                  <a:lnTo>
                    <a:pt x="184" y="191"/>
                  </a:lnTo>
                  <a:lnTo>
                    <a:pt x="165" y="178"/>
                  </a:lnTo>
                  <a:lnTo>
                    <a:pt x="129" y="150"/>
                  </a:lnTo>
                  <a:lnTo>
                    <a:pt x="97" y="123"/>
                  </a:lnTo>
                  <a:lnTo>
                    <a:pt x="68" y="93"/>
                  </a:lnTo>
                  <a:lnTo>
                    <a:pt x="42" y="61"/>
                  </a:lnTo>
                  <a:lnTo>
                    <a:pt x="21" y="30"/>
                  </a:lnTo>
                  <a:lnTo>
                    <a:pt x="0" y="0"/>
                  </a:lnTo>
                  <a:lnTo>
                    <a:pt x="1297" y="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4091040" y="1903320"/>
              <a:ext cx="3443040" cy="3561840"/>
            </a:xfrm>
            <a:custGeom>
              <a:avLst/>
              <a:gdLst>
                <a:gd name="textAreaLeft" fmla="*/ 0 w 3443040"/>
                <a:gd name="textAreaRight" fmla="*/ 3443400 w 3443040"/>
                <a:gd name="textAreaTop" fmla="*/ 0 h 3561840"/>
                <a:gd name="textAreaBottom" fmla="*/ 3562200 h 3561840"/>
              </a:gdLst>
              <a:ahLst/>
              <a:rect l="textAreaLeft" t="textAreaTop" r="textAreaRight" b="textAreaBottom"/>
              <a:pathLst>
                <a:path w="1578" h="1632">
                  <a:moveTo>
                    <a:pt x="0" y="525"/>
                  </a:moveTo>
                  <a:lnTo>
                    <a:pt x="13" y="498"/>
                  </a:lnTo>
                  <a:lnTo>
                    <a:pt x="23" y="470"/>
                  </a:lnTo>
                  <a:lnTo>
                    <a:pt x="38" y="443"/>
                  </a:lnTo>
                  <a:lnTo>
                    <a:pt x="53" y="415"/>
                  </a:lnTo>
                  <a:lnTo>
                    <a:pt x="68" y="390"/>
                  </a:lnTo>
                  <a:lnTo>
                    <a:pt x="85" y="364"/>
                  </a:lnTo>
                  <a:lnTo>
                    <a:pt x="102" y="339"/>
                  </a:lnTo>
                  <a:lnTo>
                    <a:pt x="121" y="316"/>
                  </a:lnTo>
                  <a:lnTo>
                    <a:pt x="140" y="292"/>
                  </a:lnTo>
                  <a:lnTo>
                    <a:pt x="159" y="269"/>
                  </a:lnTo>
                  <a:lnTo>
                    <a:pt x="180" y="246"/>
                  </a:lnTo>
                  <a:lnTo>
                    <a:pt x="201" y="224"/>
                  </a:lnTo>
                  <a:lnTo>
                    <a:pt x="225" y="205"/>
                  </a:lnTo>
                  <a:lnTo>
                    <a:pt x="246" y="184"/>
                  </a:lnTo>
                  <a:lnTo>
                    <a:pt x="271" y="165"/>
                  </a:lnTo>
                  <a:lnTo>
                    <a:pt x="294" y="148"/>
                  </a:lnTo>
                  <a:lnTo>
                    <a:pt x="320" y="131"/>
                  </a:lnTo>
                  <a:lnTo>
                    <a:pt x="345" y="114"/>
                  </a:lnTo>
                  <a:lnTo>
                    <a:pt x="373" y="99"/>
                  </a:lnTo>
                  <a:lnTo>
                    <a:pt x="400" y="85"/>
                  </a:lnTo>
                  <a:lnTo>
                    <a:pt x="428" y="72"/>
                  </a:lnTo>
                  <a:lnTo>
                    <a:pt x="456" y="59"/>
                  </a:lnTo>
                  <a:lnTo>
                    <a:pt x="485" y="48"/>
                  </a:lnTo>
                  <a:lnTo>
                    <a:pt x="513" y="38"/>
                  </a:lnTo>
                  <a:lnTo>
                    <a:pt x="542" y="29"/>
                  </a:lnTo>
                  <a:lnTo>
                    <a:pt x="574" y="23"/>
                  </a:lnTo>
                  <a:lnTo>
                    <a:pt x="604" y="15"/>
                  </a:lnTo>
                  <a:lnTo>
                    <a:pt x="636" y="10"/>
                  </a:lnTo>
                  <a:lnTo>
                    <a:pt x="667" y="6"/>
                  </a:lnTo>
                  <a:lnTo>
                    <a:pt x="699" y="2"/>
                  </a:lnTo>
                  <a:lnTo>
                    <a:pt x="731" y="0"/>
                  </a:lnTo>
                  <a:lnTo>
                    <a:pt x="763" y="0"/>
                  </a:lnTo>
                  <a:lnTo>
                    <a:pt x="805" y="2"/>
                  </a:lnTo>
                  <a:lnTo>
                    <a:pt x="845" y="4"/>
                  </a:lnTo>
                  <a:lnTo>
                    <a:pt x="886" y="8"/>
                  </a:lnTo>
                  <a:lnTo>
                    <a:pt x="926" y="17"/>
                  </a:lnTo>
                  <a:lnTo>
                    <a:pt x="966" y="25"/>
                  </a:lnTo>
                  <a:lnTo>
                    <a:pt x="1004" y="36"/>
                  </a:lnTo>
                  <a:lnTo>
                    <a:pt x="1042" y="48"/>
                  </a:lnTo>
                  <a:lnTo>
                    <a:pt x="1081" y="63"/>
                  </a:lnTo>
                  <a:lnTo>
                    <a:pt x="1117" y="80"/>
                  </a:lnTo>
                  <a:lnTo>
                    <a:pt x="1150" y="99"/>
                  </a:lnTo>
                  <a:lnTo>
                    <a:pt x="1184" y="118"/>
                  </a:lnTo>
                  <a:lnTo>
                    <a:pt x="1218" y="140"/>
                  </a:lnTo>
                  <a:lnTo>
                    <a:pt x="1250" y="163"/>
                  </a:lnTo>
                  <a:lnTo>
                    <a:pt x="1282" y="186"/>
                  </a:lnTo>
                  <a:lnTo>
                    <a:pt x="1312" y="212"/>
                  </a:lnTo>
                  <a:lnTo>
                    <a:pt x="1339" y="239"/>
                  </a:lnTo>
                  <a:lnTo>
                    <a:pt x="1367" y="267"/>
                  </a:lnTo>
                  <a:lnTo>
                    <a:pt x="1392" y="296"/>
                  </a:lnTo>
                  <a:lnTo>
                    <a:pt x="1417" y="328"/>
                  </a:lnTo>
                  <a:lnTo>
                    <a:pt x="1439" y="360"/>
                  </a:lnTo>
                  <a:lnTo>
                    <a:pt x="1460" y="394"/>
                  </a:lnTo>
                  <a:lnTo>
                    <a:pt x="1481" y="428"/>
                  </a:lnTo>
                  <a:lnTo>
                    <a:pt x="1498" y="464"/>
                  </a:lnTo>
                  <a:lnTo>
                    <a:pt x="1515" y="500"/>
                  </a:lnTo>
                  <a:lnTo>
                    <a:pt x="1530" y="536"/>
                  </a:lnTo>
                  <a:lnTo>
                    <a:pt x="1542" y="574"/>
                  </a:lnTo>
                  <a:lnTo>
                    <a:pt x="1553" y="612"/>
                  </a:lnTo>
                  <a:lnTo>
                    <a:pt x="1562" y="653"/>
                  </a:lnTo>
                  <a:lnTo>
                    <a:pt x="1570" y="693"/>
                  </a:lnTo>
                  <a:lnTo>
                    <a:pt x="1574" y="733"/>
                  </a:lnTo>
                  <a:lnTo>
                    <a:pt x="1578" y="776"/>
                  </a:lnTo>
                  <a:lnTo>
                    <a:pt x="1578" y="816"/>
                  </a:lnTo>
                  <a:lnTo>
                    <a:pt x="1578" y="858"/>
                  </a:lnTo>
                  <a:lnTo>
                    <a:pt x="1574" y="901"/>
                  </a:lnTo>
                  <a:lnTo>
                    <a:pt x="1570" y="941"/>
                  </a:lnTo>
                  <a:lnTo>
                    <a:pt x="1562" y="981"/>
                  </a:lnTo>
                  <a:lnTo>
                    <a:pt x="1553" y="1019"/>
                  </a:lnTo>
                  <a:lnTo>
                    <a:pt x="1542" y="1060"/>
                  </a:lnTo>
                  <a:lnTo>
                    <a:pt x="1530" y="1096"/>
                  </a:lnTo>
                  <a:lnTo>
                    <a:pt x="1515" y="1134"/>
                  </a:lnTo>
                  <a:lnTo>
                    <a:pt x="1498" y="1170"/>
                  </a:lnTo>
                  <a:lnTo>
                    <a:pt x="1481" y="1206"/>
                  </a:lnTo>
                  <a:lnTo>
                    <a:pt x="1460" y="1240"/>
                  </a:lnTo>
                  <a:lnTo>
                    <a:pt x="1439" y="1272"/>
                  </a:lnTo>
                  <a:lnTo>
                    <a:pt x="1417" y="1303"/>
                  </a:lnTo>
                  <a:lnTo>
                    <a:pt x="1392" y="1335"/>
                  </a:lnTo>
                  <a:lnTo>
                    <a:pt x="1367" y="1365"/>
                  </a:lnTo>
                  <a:lnTo>
                    <a:pt x="1339" y="1392"/>
                  </a:lnTo>
                  <a:lnTo>
                    <a:pt x="1312" y="1420"/>
                  </a:lnTo>
                  <a:lnTo>
                    <a:pt x="1282" y="1445"/>
                  </a:lnTo>
                  <a:lnTo>
                    <a:pt x="1250" y="1471"/>
                  </a:lnTo>
                  <a:lnTo>
                    <a:pt x="1218" y="1492"/>
                  </a:lnTo>
                  <a:lnTo>
                    <a:pt x="1184" y="1513"/>
                  </a:lnTo>
                  <a:lnTo>
                    <a:pt x="1150" y="1534"/>
                  </a:lnTo>
                  <a:lnTo>
                    <a:pt x="1117" y="1551"/>
                  </a:lnTo>
                  <a:lnTo>
                    <a:pt x="1081" y="1568"/>
                  </a:lnTo>
                  <a:lnTo>
                    <a:pt x="1042" y="1583"/>
                  </a:lnTo>
                  <a:lnTo>
                    <a:pt x="1004" y="1596"/>
                  </a:lnTo>
                  <a:lnTo>
                    <a:pt x="966" y="1607"/>
                  </a:lnTo>
                  <a:lnTo>
                    <a:pt x="926" y="1615"/>
                  </a:lnTo>
                  <a:lnTo>
                    <a:pt x="886" y="1623"/>
                  </a:lnTo>
                  <a:lnTo>
                    <a:pt x="845" y="1628"/>
                  </a:lnTo>
                  <a:lnTo>
                    <a:pt x="805" y="1632"/>
                  </a:lnTo>
                  <a:lnTo>
                    <a:pt x="763" y="1632"/>
                  </a:lnTo>
                  <a:lnTo>
                    <a:pt x="731" y="1632"/>
                  </a:lnTo>
                  <a:lnTo>
                    <a:pt x="699" y="1630"/>
                  </a:lnTo>
                  <a:lnTo>
                    <a:pt x="667" y="1628"/>
                  </a:lnTo>
                  <a:lnTo>
                    <a:pt x="636" y="1623"/>
                  </a:lnTo>
                  <a:lnTo>
                    <a:pt x="604" y="1617"/>
                  </a:lnTo>
                  <a:lnTo>
                    <a:pt x="574" y="1611"/>
                  </a:lnTo>
                  <a:lnTo>
                    <a:pt x="542" y="1602"/>
                  </a:lnTo>
                  <a:lnTo>
                    <a:pt x="513" y="1594"/>
                  </a:lnTo>
                  <a:lnTo>
                    <a:pt x="485" y="1583"/>
                  </a:lnTo>
                  <a:lnTo>
                    <a:pt x="456" y="1573"/>
                  </a:lnTo>
                  <a:lnTo>
                    <a:pt x="428" y="1560"/>
                  </a:lnTo>
                  <a:lnTo>
                    <a:pt x="400" y="1547"/>
                  </a:lnTo>
                  <a:lnTo>
                    <a:pt x="373" y="1532"/>
                  </a:lnTo>
                  <a:lnTo>
                    <a:pt x="345" y="1517"/>
                  </a:lnTo>
                  <a:lnTo>
                    <a:pt x="320" y="1501"/>
                  </a:lnTo>
                  <a:lnTo>
                    <a:pt x="294" y="1484"/>
                  </a:lnTo>
                  <a:lnTo>
                    <a:pt x="271" y="1467"/>
                  </a:lnTo>
                  <a:lnTo>
                    <a:pt x="246" y="1448"/>
                  </a:lnTo>
                  <a:lnTo>
                    <a:pt x="225" y="1428"/>
                  </a:lnTo>
                  <a:lnTo>
                    <a:pt x="201" y="1407"/>
                  </a:lnTo>
                  <a:lnTo>
                    <a:pt x="180" y="1386"/>
                  </a:lnTo>
                  <a:lnTo>
                    <a:pt x="159" y="1365"/>
                  </a:lnTo>
                  <a:lnTo>
                    <a:pt x="140" y="1342"/>
                  </a:lnTo>
                  <a:lnTo>
                    <a:pt x="121" y="1318"/>
                  </a:lnTo>
                  <a:lnTo>
                    <a:pt x="102" y="1293"/>
                  </a:lnTo>
                  <a:lnTo>
                    <a:pt x="85" y="1269"/>
                  </a:lnTo>
                  <a:lnTo>
                    <a:pt x="68" y="1242"/>
                  </a:lnTo>
                  <a:lnTo>
                    <a:pt x="53" y="1216"/>
                  </a:lnTo>
                  <a:lnTo>
                    <a:pt x="38" y="1189"/>
                  </a:lnTo>
                  <a:lnTo>
                    <a:pt x="23" y="1161"/>
                  </a:lnTo>
                  <a:lnTo>
                    <a:pt x="13" y="1134"/>
                  </a:lnTo>
                  <a:lnTo>
                    <a:pt x="0" y="1106"/>
                  </a:lnTo>
                </a:path>
              </a:pathLst>
            </a:custGeom>
            <a:noFill/>
            <a:ln w="1908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5781960" y="2155680"/>
              <a:ext cx="19800" cy="167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9" h="77">
                  <a:moveTo>
                    <a:pt x="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7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9"/>
            <p:cNvSpPr/>
            <p:nvPr/>
          </p:nvSpPr>
          <p:spPr>
            <a:xfrm>
              <a:off x="5792760" y="2229840"/>
              <a:ext cx="1737360" cy="1980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796" h="9">
                  <a:moveTo>
                    <a:pt x="796" y="4"/>
                  </a:moveTo>
                  <a:lnTo>
                    <a:pt x="79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96" y="9"/>
                  </a:lnTo>
                  <a:lnTo>
                    <a:pt x="796" y="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>
              <a:off x="7521480" y="2155680"/>
              <a:ext cx="19800" cy="167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9" h="77">
                  <a:moveTo>
                    <a:pt x="4" y="77"/>
                  </a:moveTo>
                  <a:lnTo>
                    <a:pt x="9" y="7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4" y="7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>
              <a:off x="5789160" y="2767320"/>
              <a:ext cx="1145520" cy="198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25" h="9">
                  <a:moveTo>
                    <a:pt x="525" y="4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25" y="9"/>
                  </a:lnTo>
                  <a:lnTo>
                    <a:pt x="525" y="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>
              <a:off x="6926040" y="2693160"/>
              <a:ext cx="16200" cy="167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8" h="77">
                  <a:moveTo>
                    <a:pt x="4" y="77"/>
                  </a:moveTo>
                  <a:lnTo>
                    <a:pt x="8" y="7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4" y="7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>
              <a:off x="6926040" y="2693160"/>
              <a:ext cx="16200" cy="167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8" h="77">
                  <a:moveTo>
                    <a:pt x="4" y="0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8" y="7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44"/>
            <p:cNvSpPr/>
            <p:nvPr/>
          </p:nvSpPr>
          <p:spPr>
            <a:xfrm>
              <a:off x="5563800" y="2879280"/>
              <a:ext cx="46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ZapfHumnst BT"/>
                </a:rPr>
                <a:t>F</a:t>
              </a:r>
              <a:r>
                <a:rPr b="1" lang="en-US" sz="2000" spc="-1" strike="noStrike">
                  <a:solidFill>
                    <a:srgbClr val="ffffff"/>
                  </a:solidFill>
                  <a:latin typeface="ZapfHumnst BT"/>
                </a:rPr>
                <a:t>'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ZapfHumnst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45"/>
            <p:cNvSpPr/>
            <p:nvPr/>
          </p:nvSpPr>
          <p:spPr>
            <a:xfrm>
              <a:off x="6684120" y="2866680"/>
              <a:ext cx="46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ZapfHumnst BT"/>
                </a:rPr>
                <a:t>F</a:t>
              </a:r>
              <a:r>
                <a:rPr b="1" lang="en-US" sz="2000" spc="-1" strike="noStrike">
                  <a:solidFill>
                    <a:srgbClr val="ffffff"/>
                  </a:solidFill>
                  <a:latin typeface="ZapfHumnst BT"/>
                </a:rPr>
                <a:t>'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ZapfHumnst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6"/>
            <p:cNvSpPr/>
            <p:nvPr/>
          </p:nvSpPr>
          <p:spPr>
            <a:xfrm flipH="1">
              <a:off x="2813400" y="3878640"/>
              <a:ext cx="123768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5781960" y="2693160"/>
              <a:ext cx="19800" cy="167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9" h="77">
                  <a:moveTo>
                    <a:pt x="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7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5792760" y="2767320"/>
              <a:ext cx="1737360" cy="1980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796" h="9">
                  <a:moveTo>
                    <a:pt x="796" y="4"/>
                  </a:moveTo>
                  <a:lnTo>
                    <a:pt x="79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96" y="9"/>
                  </a:lnTo>
                  <a:lnTo>
                    <a:pt x="796" y="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49"/>
            <p:cNvSpPr/>
            <p:nvPr/>
          </p:nvSpPr>
          <p:spPr>
            <a:xfrm>
              <a:off x="7521480" y="2693160"/>
              <a:ext cx="19800" cy="167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9" h="77">
                  <a:moveTo>
                    <a:pt x="4" y="77"/>
                  </a:moveTo>
                  <a:lnTo>
                    <a:pt x="9" y="7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4" y="7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50"/>
            <p:cNvSpPr/>
            <p:nvPr/>
          </p:nvSpPr>
          <p:spPr>
            <a:xfrm>
              <a:off x="4304160" y="2998440"/>
              <a:ext cx="4727520" cy="21214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51"/>
            <p:cNvSpPr/>
            <p:nvPr/>
          </p:nvSpPr>
          <p:spPr>
            <a:xfrm flipV="1">
              <a:off x="4460760" y="2260440"/>
              <a:ext cx="4497120" cy="20188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52"/>
            <p:cNvSpPr/>
            <p:nvPr/>
          </p:nvSpPr>
          <p:spPr>
            <a:xfrm>
              <a:off x="3898080" y="3274200"/>
              <a:ext cx="4947840" cy="66924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53"/>
            <p:cNvSpPr/>
            <p:nvPr/>
          </p:nvSpPr>
          <p:spPr>
            <a:xfrm flipV="1">
              <a:off x="4612680" y="3246840"/>
              <a:ext cx="4275000" cy="929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54"/>
            <p:cNvSpPr/>
            <p:nvPr/>
          </p:nvSpPr>
          <p:spPr>
            <a:xfrm flipH="1">
              <a:off x="2784600" y="3030840"/>
              <a:ext cx="13096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55"/>
            <p:cNvSpPr/>
            <p:nvPr/>
          </p:nvSpPr>
          <p:spPr>
            <a:xfrm flipH="1">
              <a:off x="2784240" y="3276360"/>
              <a:ext cx="11005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56"/>
            <p:cNvSpPr/>
            <p:nvPr/>
          </p:nvSpPr>
          <p:spPr>
            <a:xfrm flipH="1">
              <a:off x="2784240" y="4340520"/>
              <a:ext cx="13352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7"/>
            <p:cNvSpPr/>
            <p:nvPr/>
          </p:nvSpPr>
          <p:spPr>
            <a:xfrm flipH="1">
              <a:off x="2784600" y="4192920"/>
              <a:ext cx="17719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>
              <a:off x="3203280" y="3686040"/>
              <a:ext cx="61624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59"/>
            <p:cNvSpPr/>
            <p:nvPr/>
          </p:nvSpPr>
          <p:spPr>
            <a:xfrm>
              <a:off x="1513800" y="3375360"/>
              <a:ext cx="161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ZapfHumnst BT"/>
                </a:rPr>
                <a:t>Eixo Óp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60"/>
            <p:cNvSpPr/>
            <p:nvPr/>
          </p:nvSpPr>
          <p:spPr>
            <a:xfrm>
              <a:off x="1095480" y="2309040"/>
              <a:ext cx="229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ZapfHumnst BT"/>
                </a:rPr>
                <a:t>Meridiano do P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61"/>
            <p:cNvSpPr/>
            <p:nvPr/>
          </p:nvSpPr>
          <p:spPr>
            <a:xfrm>
              <a:off x="1361880" y="4582440"/>
              <a:ext cx="1931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ZapfHumnst BT"/>
                </a:rPr>
                <a:t>Meridiano 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ZapfHumnst BT"/>
                </a:rPr>
                <a:t>Ei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62"/>
            <p:cNvSpPr/>
            <p:nvPr/>
          </p:nvSpPr>
          <p:spPr>
            <a:xfrm flipH="1" flipV="1">
              <a:off x="3273480" y="2620800"/>
              <a:ext cx="838800" cy="837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63"/>
            <p:cNvSpPr/>
            <p:nvPr/>
          </p:nvSpPr>
          <p:spPr>
            <a:xfrm flipH="1">
              <a:off x="3325680" y="3931200"/>
              <a:ext cx="891000" cy="889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64"/>
            <p:cNvSpPr/>
            <p:nvPr/>
          </p:nvSpPr>
          <p:spPr>
            <a:xfrm>
              <a:off x="3775320" y="2998440"/>
              <a:ext cx="957960" cy="13618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1361880"/>
                <a:gd name="textAreaBottom" fmla="*/ 1362240 h 1361880"/>
              </a:gdLst>
              <a:ahLst/>
              <a:rect l="textAreaLeft" t="textAreaTop" r="textAreaRight" b="textAreaBottom"/>
              <a:pathLst>
                <a:path w="443" h="630">
                  <a:moveTo>
                    <a:pt x="222" y="0"/>
                  </a:moveTo>
                  <a:lnTo>
                    <a:pt x="244" y="2"/>
                  </a:lnTo>
                  <a:lnTo>
                    <a:pt x="267" y="6"/>
                  </a:lnTo>
                  <a:lnTo>
                    <a:pt x="288" y="15"/>
                  </a:lnTo>
                  <a:lnTo>
                    <a:pt x="307" y="26"/>
                  </a:lnTo>
                  <a:lnTo>
                    <a:pt x="328" y="38"/>
                  </a:lnTo>
                  <a:lnTo>
                    <a:pt x="345" y="53"/>
                  </a:lnTo>
                  <a:lnTo>
                    <a:pt x="362" y="72"/>
                  </a:lnTo>
                  <a:lnTo>
                    <a:pt x="379" y="93"/>
                  </a:lnTo>
                  <a:lnTo>
                    <a:pt x="392" y="115"/>
                  </a:lnTo>
                  <a:lnTo>
                    <a:pt x="407" y="140"/>
                  </a:lnTo>
                  <a:lnTo>
                    <a:pt x="417" y="165"/>
                  </a:lnTo>
                  <a:lnTo>
                    <a:pt x="426" y="193"/>
                  </a:lnTo>
                  <a:lnTo>
                    <a:pt x="434" y="221"/>
                  </a:lnTo>
                  <a:lnTo>
                    <a:pt x="438" y="250"/>
                  </a:lnTo>
                  <a:lnTo>
                    <a:pt x="443" y="282"/>
                  </a:lnTo>
                  <a:lnTo>
                    <a:pt x="443" y="314"/>
                  </a:lnTo>
                  <a:lnTo>
                    <a:pt x="443" y="346"/>
                  </a:lnTo>
                  <a:lnTo>
                    <a:pt x="438" y="377"/>
                  </a:lnTo>
                  <a:lnTo>
                    <a:pt x="434" y="407"/>
                  </a:lnTo>
                  <a:lnTo>
                    <a:pt x="426" y="437"/>
                  </a:lnTo>
                  <a:lnTo>
                    <a:pt x="417" y="464"/>
                  </a:lnTo>
                  <a:lnTo>
                    <a:pt x="407" y="490"/>
                  </a:lnTo>
                  <a:lnTo>
                    <a:pt x="392" y="513"/>
                  </a:lnTo>
                  <a:lnTo>
                    <a:pt x="379" y="536"/>
                  </a:lnTo>
                  <a:lnTo>
                    <a:pt x="362" y="558"/>
                  </a:lnTo>
                  <a:lnTo>
                    <a:pt x="345" y="575"/>
                  </a:lnTo>
                  <a:lnTo>
                    <a:pt x="328" y="592"/>
                  </a:lnTo>
                  <a:lnTo>
                    <a:pt x="307" y="604"/>
                  </a:lnTo>
                  <a:lnTo>
                    <a:pt x="288" y="615"/>
                  </a:lnTo>
                  <a:lnTo>
                    <a:pt x="267" y="623"/>
                  </a:lnTo>
                  <a:lnTo>
                    <a:pt x="244" y="628"/>
                  </a:lnTo>
                  <a:lnTo>
                    <a:pt x="222" y="630"/>
                  </a:lnTo>
                  <a:lnTo>
                    <a:pt x="199" y="628"/>
                  </a:lnTo>
                  <a:lnTo>
                    <a:pt x="176" y="623"/>
                  </a:lnTo>
                  <a:lnTo>
                    <a:pt x="155" y="615"/>
                  </a:lnTo>
                  <a:lnTo>
                    <a:pt x="136" y="604"/>
                  </a:lnTo>
                  <a:lnTo>
                    <a:pt x="116" y="592"/>
                  </a:lnTo>
                  <a:lnTo>
                    <a:pt x="97" y="575"/>
                  </a:lnTo>
                  <a:lnTo>
                    <a:pt x="80" y="558"/>
                  </a:lnTo>
                  <a:lnTo>
                    <a:pt x="63" y="536"/>
                  </a:lnTo>
                  <a:lnTo>
                    <a:pt x="51" y="513"/>
                  </a:lnTo>
                  <a:lnTo>
                    <a:pt x="38" y="490"/>
                  </a:lnTo>
                  <a:lnTo>
                    <a:pt x="25" y="464"/>
                  </a:lnTo>
                  <a:lnTo>
                    <a:pt x="17" y="437"/>
                  </a:lnTo>
                  <a:lnTo>
                    <a:pt x="8" y="407"/>
                  </a:lnTo>
                  <a:lnTo>
                    <a:pt x="4" y="377"/>
                  </a:lnTo>
                  <a:lnTo>
                    <a:pt x="0" y="346"/>
                  </a:lnTo>
                  <a:lnTo>
                    <a:pt x="0" y="314"/>
                  </a:lnTo>
                  <a:lnTo>
                    <a:pt x="0" y="282"/>
                  </a:lnTo>
                  <a:lnTo>
                    <a:pt x="4" y="250"/>
                  </a:lnTo>
                  <a:lnTo>
                    <a:pt x="8" y="221"/>
                  </a:lnTo>
                  <a:lnTo>
                    <a:pt x="17" y="193"/>
                  </a:lnTo>
                  <a:lnTo>
                    <a:pt x="25" y="165"/>
                  </a:lnTo>
                  <a:lnTo>
                    <a:pt x="38" y="140"/>
                  </a:lnTo>
                  <a:lnTo>
                    <a:pt x="51" y="115"/>
                  </a:lnTo>
                  <a:lnTo>
                    <a:pt x="63" y="93"/>
                  </a:lnTo>
                  <a:lnTo>
                    <a:pt x="80" y="72"/>
                  </a:lnTo>
                  <a:lnTo>
                    <a:pt x="97" y="53"/>
                  </a:lnTo>
                  <a:lnTo>
                    <a:pt x="116" y="38"/>
                  </a:lnTo>
                  <a:lnTo>
                    <a:pt x="136" y="26"/>
                  </a:lnTo>
                  <a:lnTo>
                    <a:pt x="155" y="15"/>
                  </a:lnTo>
                  <a:lnTo>
                    <a:pt x="176" y="6"/>
                  </a:lnTo>
                  <a:lnTo>
                    <a:pt x="199" y="2"/>
                  </a:lnTo>
                  <a:lnTo>
                    <a:pt x="222" y="0"/>
                  </a:lnTo>
                </a:path>
              </a:pathLst>
            </a:custGeom>
            <a:noFill/>
            <a:ln w="1908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83840" y="142920"/>
            <a:ext cx="9310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703440" y="895320"/>
            <a:ext cx="918036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STIGMATISMO MISTO (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1330920" y="33591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ZapfHumnst BT"/>
              </a:rPr>
              <a:t>Eix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768240" y="2468520"/>
            <a:ext cx="19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1129680" y="449424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E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7"/>
          <p:cNvSpPr/>
          <p:nvPr/>
        </p:nvSpPr>
        <p:spPr>
          <a:xfrm>
            <a:off x="3176640" y="3201840"/>
            <a:ext cx="3085920" cy="36540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705" h="202">
                <a:moveTo>
                  <a:pt x="1701" y="202"/>
                </a:moveTo>
                <a:lnTo>
                  <a:pt x="1705" y="126"/>
                </a:lnTo>
                <a:lnTo>
                  <a:pt x="0" y="0"/>
                </a:lnTo>
                <a:lnTo>
                  <a:pt x="0" y="4"/>
                </a:lnTo>
                <a:lnTo>
                  <a:pt x="2" y="15"/>
                </a:lnTo>
                <a:lnTo>
                  <a:pt x="6" y="35"/>
                </a:lnTo>
                <a:lnTo>
                  <a:pt x="13" y="59"/>
                </a:lnTo>
                <a:lnTo>
                  <a:pt x="23" y="89"/>
                </a:lnTo>
                <a:lnTo>
                  <a:pt x="36" y="124"/>
                </a:lnTo>
                <a:lnTo>
                  <a:pt x="51" y="163"/>
                </a:lnTo>
                <a:lnTo>
                  <a:pt x="73" y="202"/>
                </a:lnTo>
                <a:lnTo>
                  <a:pt x="1701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8"/>
          <p:cNvSpPr/>
          <p:nvPr/>
        </p:nvSpPr>
        <p:spPr>
          <a:xfrm>
            <a:off x="5270400" y="3244680"/>
            <a:ext cx="1000080" cy="63504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552" h="351">
                <a:moveTo>
                  <a:pt x="0" y="175"/>
                </a:moveTo>
                <a:lnTo>
                  <a:pt x="533" y="0"/>
                </a:lnTo>
                <a:lnTo>
                  <a:pt x="539" y="43"/>
                </a:lnTo>
                <a:lnTo>
                  <a:pt x="546" y="89"/>
                </a:lnTo>
                <a:lnTo>
                  <a:pt x="550" y="132"/>
                </a:lnTo>
                <a:lnTo>
                  <a:pt x="552" y="175"/>
                </a:lnTo>
                <a:lnTo>
                  <a:pt x="550" y="221"/>
                </a:lnTo>
                <a:lnTo>
                  <a:pt x="546" y="264"/>
                </a:lnTo>
                <a:lnTo>
                  <a:pt x="539" y="307"/>
                </a:lnTo>
                <a:lnTo>
                  <a:pt x="531" y="351"/>
                </a:lnTo>
                <a:lnTo>
                  <a:pt x="0" y="175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9"/>
          <p:cNvSpPr/>
          <p:nvPr/>
        </p:nvSpPr>
        <p:spPr>
          <a:xfrm>
            <a:off x="3308400" y="2989440"/>
            <a:ext cx="1931760" cy="1160280"/>
          </a:xfrm>
          <a:custGeom>
            <a:avLst/>
            <a:gdLst>
              <a:gd name="textAreaLeft" fmla="*/ 0 w 1931760"/>
              <a:gd name="textAreaRight" fmla="*/ 1931760 w 19317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067" h="641">
                <a:moveTo>
                  <a:pt x="1067" y="312"/>
                </a:moveTo>
                <a:lnTo>
                  <a:pt x="100" y="0"/>
                </a:lnTo>
                <a:lnTo>
                  <a:pt x="89" y="15"/>
                </a:lnTo>
                <a:lnTo>
                  <a:pt x="67" y="57"/>
                </a:lnTo>
                <a:lnTo>
                  <a:pt x="52" y="85"/>
                </a:lnTo>
                <a:lnTo>
                  <a:pt x="39" y="119"/>
                </a:lnTo>
                <a:lnTo>
                  <a:pt x="26" y="158"/>
                </a:lnTo>
                <a:lnTo>
                  <a:pt x="15" y="202"/>
                </a:lnTo>
                <a:lnTo>
                  <a:pt x="7" y="249"/>
                </a:lnTo>
                <a:lnTo>
                  <a:pt x="0" y="299"/>
                </a:lnTo>
                <a:lnTo>
                  <a:pt x="0" y="325"/>
                </a:lnTo>
                <a:lnTo>
                  <a:pt x="0" y="351"/>
                </a:lnTo>
                <a:lnTo>
                  <a:pt x="2" y="379"/>
                </a:lnTo>
                <a:lnTo>
                  <a:pt x="4" y="407"/>
                </a:lnTo>
                <a:lnTo>
                  <a:pt x="9" y="435"/>
                </a:lnTo>
                <a:lnTo>
                  <a:pt x="15" y="464"/>
                </a:lnTo>
                <a:lnTo>
                  <a:pt x="24" y="492"/>
                </a:lnTo>
                <a:lnTo>
                  <a:pt x="35" y="522"/>
                </a:lnTo>
                <a:lnTo>
                  <a:pt x="48" y="550"/>
                </a:lnTo>
                <a:lnTo>
                  <a:pt x="61" y="580"/>
                </a:lnTo>
                <a:lnTo>
                  <a:pt x="78" y="611"/>
                </a:lnTo>
                <a:lnTo>
                  <a:pt x="97" y="641"/>
                </a:lnTo>
                <a:lnTo>
                  <a:pt x="1067" y="312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3311640" y="3570120"/>
            <a:ext cx="2954160" cy="419400"/>
          </a:xfrm>
          <a:custGeom>
            <a:avLst/>
            <a:gdLst>
              <a:gd name="textAreaLeft" fmla="*/ 0 w 2954160"/>
              <a:gd name="textAreaRight" fmla="*/ 2954520 w 295416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1632" h="231">
                <a:moveTo>
                  <a:pt x="1632" y="0"/>
                </a:moveTo>
                <a:lnTo>
                  <a:pt x="0" y="4"/>
                </a:lnTo>
                <a:lnTo>
                  <a:pt x="20" y="34"/>
                </a:lnTo>
                <a:lnTo>
                  <a:pt x="41" y="67"/>
                </a:lnTo>
                <a:lnTo>
                  <a:pt x="67" y="99"/>
                </a:lnTo>
                <a:lnTo>
                  <a:pt x="98" y="130"/>
                </a:lnTo>
                <a:lnTo>
                  <a:pt x="130" y="158"/>
                </a:lnTo>
                <a:lnTo>
                  <a:pt x="167" y="184"/>
                </a:lnTo>
                <a:lnTo>
                  <a:pt x="189" y="197"/>
                </a:lnTo>
                <a:lnTo>
                  <a:pt x="208" y="210"/>
                </a:lnTo>
                <a:lnTo>
                  <a:pt x="232" y="220"/>
                </a:lnTo>
                <a:lnTo>
                  <a:pt x="253" y="231"/>
                </a:lnTo>
                <a:lnTo>
                  <a:pt x="1626" y="99"/>
                </a:lnTo>
                <a:lnTo>
                  <a:pt x="1632" y="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3348000" y="2057400"/>
            <a:ext cx="2917800" cy="301788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612" h="1667">
                <a:moveTo>
                  <a:pt x="0" y="530"/>
                </a:moveTo>
                <a:lnTo>
                  <a:pt x="13" y="502"/>
                </a:lnTo>
                <a:lnTo>
                  <a:pt x="26" y="474"/>
                </a:lnTo>
                <a:lnTo>
                  <a:pt x="39" y="446"/>
                </a:lnTo>
                <a:lnTo>
                  <a:pt x="54" y="418"/>
                </a:lnTo>
                <a:lnTo>
                  <a:pt x="69" y="392"/>
                </a:lnTo>
                <a:lnTo>
                  <a:pt x="86" y="366"/>
                </a:lnTo>
                <a:lnTo>
                  <a:pt x="104" y="342"/>
                </a:lnTo>
                <a:lnTo>
                  <a:pt x="123" y="316"/>
                </a:lnTo>
                <a:lnTo>
                  <a:pt x="143" y="292"/>
                </a:lnTo>
                <a:lnTo>
                  <a:pt x="162" y="271"/>
                </a:lnTo>
                <a:lnTo>
                  <a:pt x="184" y="249"/>
                </a:lnTo>
                <a:lnTo>
                  <a:pt x="205" y="227"/>
                </a:lnTo>
                <a:lnTo>
                  <a:pt x="229" y="206"/>
                </a:lnTo>
                <a:lnTo>
                  <a:pt x="253" y="186"/>
                </a:lnTo>
                <a:lnTo>
                  <a:pt x="277" y="167"/>
                </a:lnTo>
                <a:lnTo>
                  <a:pt x="303" y="149"/>
                </a:lnTo>
                <a:lnTo>
                  <a:pt x="327" y="132"/>
                </a:lnTo>
                <a:lnTo>
                  <a:pt x="355" y="115"/>
                </a:lnTo>
                <a:lnTo>
                  <a:pt x="381" y="100"/>
                </a:lnTo>
                <a:lnTo>
                  <a:pt x="409" y="87"/>
                </a:lnTo>
                <a:lnTo>
                  <a:pt x="437" y="74"/>
                </a:lnTo>
                <a:lnTo>
                  <a:pt x="465" y="61"/>
                </a:lnTo>
                <a:lnTo>
                  <a:pt x="493" y="50"/>
                </a:lnTo>
                <a:lnTo>
                  <a:pt x="523" y="39"/>
                </a:lnTo>
                <a:lnTo>
                  <a:pt x="554" y="30"/>
                </a:lnTo>
                <a:lnTo>
                  <a:pt x="584" y="22"/>
                </a:lnTo>
                <a:lnTo>
                  <a:pt x="617" y="15"/>
                </a:lnTo>
                <a:lnTo>
                  <a:pt x="647" y="11"/>
                </a:lnTo>
                <a:lnTo>
                  <a:pt x="679" y="6"/>
                </a:lnTo>
                <a:lnTo>
                  <a:pt x="712" y="2"/>
                </a:lnTo>
                <a:lnTo>
                  <a:pt x="744" y="0"/>
                </a:lnTo>
                <a:lnTo>
                  <a:pt x="777" y="0"/>
                </a:lnTo>
                <a:lnTo>
                  <a:pt x="820" y="2"/>
                </a:lnTo>
                <a:lnTo>
                  <a:pt x="861" y="4"/>
                </a:lnTo>
                <a:lnTo>
                  <a:pt x="904" y="9"/>
                </a:lnTo>
                <a:lnTo>
                  <a:pt x="945" y="17"/>
                </a:lnTo>
                <a:lnTo>
                  <a:pt x="984" y="26"/>
                </a:lnTo>
                <a:lnTo>
                  <a:pt x="1023" y="37"/>
                </a:lnTo>
                <a:lnTo>
                  <a:pt x="1062" y="50"/>
                </a:lnTo>
                <a:lnTo>
                  <a:pt x="1101" y="65"/>
                </a:lnTo>
                <a:lnTo>
                  <a:pt x="1138" y="82"/>
                </a:lnTo>
                <a:lnTo>
                  <a:pt x="1175" y="102"/>
                </a:lnTo>
                <a:lnTo>
                  <a:pt x="1209" y="121"/>
                </a:lnTo>
                <a:lnTo>
                  <a:pt x="1242" y="143"/>
                </a:lnTo>
                <a:lnTo>
                  <a:pt x="1274" y="167"/>
                </a:lnTo>
                <a:lnTo>
                  <a:pt x="1307" y="191"/>
                </a:lnTo>
                <a:lnTo>
                  <a:pt x="1337" y="216"/>
                </a:lnTo>
                <a:lnTo>
                  <a:pt x="1365" y="245"/>
                </a:lnTo>
                <a:lnTo>
                  <a:pt x="1393" y="273"/>
                </a:lnTo>
                <a:lnTo>
                  <a:pt x="1419" y="303"/>
                </a:lnTo>
                <a:lnTo>
                  <a:pt x="1445" y="336"/>
                </a:lnTo>
                <a:lnTo>
                  <a:pt x="1469" y="368"/>
                </a:lnTo>
                <a:lnTo>
                  <a:pt x="1491" y="403"/>
                </a:lnTo>
                <a:lnTo>
                  <a:pt x="1510" y="437"/>
                </a:lnTo>
                <a:lnTo>
                  <a:pt x="1528" y="472"/>
                </a:lnTo>
                <a:lnTo>
                  <a:pt x="1545" y="511"/>
                </a:lnTo>
                <a:lnTo>
                  <a:pt x="1560" y="548"/>
                </a:lnTo>
                <a:lnTo>
                  <a:pt x="1573" y="587"/>
                </a:lnTo>
                <a:lnTo>
                  <a:pt x="1584" y="626"/>
                </a:lnTo>
                <a:lnTo>
                  <a:pt x="1595" y="667"/>
                </a:lnTo>
                <a:lnTo>
                  <a:pt x="1601" y="708"/>
                </a:lnTo>
                <a:lnTo>
                  <a:pt x="1608" y="749"/>
                </a:lnTo>
                <a:lnTo>
                  <a:pt x="1610" y="790"/>
                </a:lnTo>
                <a:lnTo>
                  <a:pt x="1612" y="834"/>
                </a:lnTo>
                <a:lnTo>
                  <a:pt x="1610" y="877"/>
                </a:lnTo>
                <a:lnTo>
                  <a:pt x="1608" y="918"/>
                </a:lnTo>
                <a:lnTo>
                  <a:pt x="1601" y="961"/>
                </a:lnTo>
                <a:lnTo>
                  <a:pt x="1595" y="1002"/>
                </a:lnTo>
                <a:lnTo>
                  <a:pt x="1584" y="1041"/>
                </a:lnTo>
                <a:lnTo>
                  <a:pt x="1573" y="1080"/>
                </a:lnTo>
                <a:lnTo>
                  <a:pt x="1560" y="1119"/>
                </a:lnTo>
                <a:lnTo>
                  <a:pt x="1545" y="1158"/>
                </a:lnTo>
                <a:lnTo>
                  <a:pt x="1528" y="1195"/>
                </a:lnTo>
                <a:lnTo>
                  <a:pt x="1510" y="1230"/>
                </a:lnTo>
                <a:lnTo>
                  <a:pt x="1491" y="1266"/>
                </a:lnTo>
                <a:lnTo>
                  <a:pt x="1469" y="1299"/>
                </a:lnTo>
                <a:lnTo>
                  <a:pt x="1445" y="1331"/>
                </a:lnTo>
                <a:lnTo>
                  <a:pt x="1419" y="1364"/>
                </a:lnTo>
                <a:lnTo>
                  <a:pt x="1393" y="1394"/>
                </a:lnTo>
                <a:lnTo>
                  <a:pt x="1365" y="1422"/>
                </a:lnTo>
                <a:lnTo>
                  <a:pt x="1337" y="1451"/>
                </a:lnTo>
                <a:lnTo>
                  <a:pt x="1307" y="1476"/>
                </a:lnTo>
                <a:lnTo>
                  <a:pt x="1274" y="1500"/>
                </a:lnTo>
                <a:lnTo>
                  <a:pt x="1242" y="1524"/>
                </a:lnTo>
                <a:lnTo>
                  <a:pt x="1209" y="1546"/>
                </a:lnTo>
                <a:lnTo>
                  <a:pt x="1175" y="1565"/>
                </a:lnTo>
                <a:lnTo>
                  <a:pt x="1138" y="1585"/>
                </a:lnTo>
                <a:lnTo>
                  <a:pt x="1101" y="1602"/>
                </a:lnTo>
                <a:lnTo>
                  <a:pt x="1062" y="1617"/>
                </a:lnTo>
                <a:lnTo>
                  <a:pt x="1023" y="1630"/>
                </a:lnTo>
                <a:lnTo>
                  <a:pt x="984" y="1641"/>
                </a:lnTo>
                <a:lnTo>
                  <a:pt x="945" y="1650"/>
                </a:lnTo>
                <a:lnTo>
                  <a:pt x="904" y="1658"/>
                </a:lnTo>
                <a:lnTo>
                  <a:pt x="861" y="1663"/>
                </a:lnTo>
                <a:lnTo>
                  <a:pt x="820" y="1667"/>
                </a:lnTo>
                <a:lnTo>
                  <a:pt x="777" y="1667"/>
                </a:lnTo>
                <a:lnTo>
                  <a:pt x="744" y="1667"/>
                </a:lnTo>
                <a:lnTo>
                  <a:pt x="712" y="1665"/>
                </a:lnTo>
                <a:lnTo>
                  <a:pt x="679" y="1661"/>
                </a:lnTo>
                <a:lnTo>
                  <a:pt x="647" y="1656"/>
                </a:lnTo>
                <a:lnTo>
                  <a:pt x="617" y="1652"/>
                </a:lnTo>
                <a:lnTo>
                  <a:pt x="586" y="1645"/>
                </a:lnTo>
                <a:lnTo>
                  <a:pt x="554" y="1637"/>
                </a:lnTo>
                <a:lnTo>
                  <a:pt x="526" y="1628"/>
                </a:lnTo>
                <a:lnTo>
                  <a:pt x="495" y="1617"/>
                </a:lnTo>
                <a:lnTo>
                  <a:pt x="465" y="1606"/>
                </a:lnTo>
                <a:lnTo>
                  <a:pt x="437" y="1593"/>
                </a:lnTo>
                <a:lnTo>
                  <a:pt x="409" y="1580"/>
                </a:lnTo>
                <a:lnTo>
                  <a:pt x="383" y="1567"/>
                </a:lnTo>
                <a:lnTo>
                  <a:pt x="355" y="1552"/>
                </a:lnTo>
                <a:lnTo>
                  <a:pt x="329" y="1535"/>
                </a:lnTo>
                <a:lnTo>
                  <a:pt x="303" y="1518"/>
                </a:lnTo>
                <a:lnTo>
                  <a:pt x="279" y="1500"/>
                </a:lnTo>
                <a:lnTo>
                  <a:pt x="255" y="1481"/>
                </a:lnTo>
                <a:lnTo>
                  <a:pt x="231" y="1461"/>
                </a:lnTo>
                <a:lnTo>
                  <a:pt x="207" y="1442"/>
                </a:lnTo>
                <a:lnTo>
                  <a:pt x="186" y="1420"/>
                </a:lnTo>
                <a:lnTo>
                  <a:pt x="164" y="1399"/>
                </a:lnTo>
                <a:lnTo>
                  <a:pt x="145" y="1375"/>
                </a:lnTo>
                <a:lnTo>
                  <a:pt x="125" y="1351"/>
                </a:lnTo>
                <a:lnTo>
                  <a:pt x="106" y="1327"/>
                </a:lnTo>
                <a:lnTo>
                  <a:pt x="88" y="1301"/>
                </a:lnTo>
                <a:lnTo>
                  <a:pt x="71" y="1277"/>
                </a:lnTo>
                <a:lnTo>
                  <a:pt x="56" y="1249"/>
                </a:lnTo>
                <a:lnTo>
                  <a:pt x="41" y="1223"/>
                </a:lnTo>
                <a:lnTo>
                  <a:pt x="26" y="1195"/>
                </a:lnTo>
                <a:lnTo>
                  <a:pt x="13" y="1167"/>
                </a:lnTo>
                <a:lnTo>
                  <a:pt x="2" y="1139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1854360" y="4138560"/>
            <a:ext cx="1630080" cy="1584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00" h="8">
                <a:moveTo>
                  <a:pt x="0" y="4"/>
                </a:moveTo>
                <a:lnTo>
                  <a:pt x="0" y="8"/>
                </a:lnTo>
                <a:lnTo>
                  <a:pt x="900" y="8"/>
                </a:lnTo>
                <a:lnTo>
                  <a:pt x="900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2"/>
          <p:cNvSpPr/>
          <p:nvPr/>
        </p:nvSpPr>
        <p:spPr>
          <a:xfrm>
            <a:off x="6256440" y="2843280"/>
            <a:ext cx="17280" cy="141120"/>
          </a:xfrm>
          <a:custGeom>
            <a:avLst/>
            <a:gdLst>
              <a:gd name="textAreaLeft" fmla="*/ 0 w 17280"/>
              <a:gd name="textAreaRight" fmla="*/ 17640 w 172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0" h="78">
                <a:moveTo>
                  <a:pt x="6" y="78"/>
                </a:moveTo>
                <a:lnTo>
                  <a:pt x="0" y="78"/>
                </a:lnTo>
                <a:lnTo>
                  <a:pt x="0" y="0"/>
                </a:lnTo>
                <a:lnTo>
                  <a:pt x="10" y="0"/>
                </a:lnTo>
                <a:lnTo>
                  <a:pt x="10" y="78"/>
                </a:lnTo>
                <a:lnTo>
                  <a:pt x="6" y="7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3"/>
          <p:cNvSpPr/>
          <p:nvPr/>
        </p:nvSpPr>
        <p:spPr>
          <a:xfrm>
            <a:off x="6265800" y="2906640"/>
            <a:ext cx="1849680" cy="15840"/>
          </a:xfrm>
          <a:custGeom>
            <a:avLst/>
            <a:gdLst>
              <a:gd name="textAreaLeft" fmla="*/ 0 w 1849680"/>
              <a:gd name="textAreaRight" fmla="*/ 1850040 w 1849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021" h="9">
                <a:moveTo>
                  <a:pt x="1021" y="4"/>
                </a:moveTo>
                <a:lnTo>
                  <a:pt x="1021" y="0"/>
                </a:lnTo>
                <a:lnTo>
                  <a:pt x="0" y="0"/>
                </a:lnTo>
                <a:lnTo>
                  <a:pt x="0" y="9"/>
                </a:lnTo>
                <a:lnTo>
                  <a:pt x="1021" y="9"/>
                </a:lnTo>
                <a:lnTo>
                  <a:pt x="1021" y="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44"/>
          <p:cNvSpPr/>
          <p:nvPr/>
        </p:nvSpPr>
        <p:spPr>
          <a:xfrm>
            <a:off x="8107200" y="2843280"/>
            <a:ext cx="17640" cy="141120"/>
          </a:xfrm>
          <a:custGeom>
            <a:avLst/>
            <a:gdLst>
              <a:gd name="textAreaLeft" fmla="*/ 0 w 17640"/>
              <a:gd name="textAreaRight" fmla="*/ 18000 w 176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9" h="78">
                <a:moveTo>
                  <a:pt x="4" y="78"/>
                </a:moveTo>
                <a:lnTo>
                  <a:pt x="9" y="78"/>
                </a:lnTo>
                <a:lnTo>
                  <a:pt x="9" y="0"/>
                </a:lnTo>
                <a:lnTo>
                  <a:pt x="0" y="0"/>
                </a:lnTo>
                <a:lnTo>
                  <a:pt x="0" y="78"/>
                </a:lnTo>
                <a:lnTo>
                  <a:pt x="4" y="7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5"/>
          <p:cNvSpPr/>
          <p:nvPr/>
        </p:nvSpPr>
        <p:spPr>
          <a:xfrm>
            <a:off x="5224320" y="2392200"/>
            <a:ext cx="15840" cy="141480"/>
          </a:xfrm>
          <a:custGeom>
            <a:avLst/>
            <a:gdLst>
              <a:gd name="textAreaLeft" fmla="*/ 0 w 15840"/>
              <a:gd name="textAreaRight" fmla="*/ 16200 w 158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9" h="78">
                <a:moveTo>
                  <a:pt x="5" y="78"/>
                </a:moveTo>
                <a:lnTo>
                  <a:pt x="0" y="78"/>
                </a:lnTo>
                <a:lnTo>
                  <a:pt x="0" y="0"/>
                </a:lnTo>
                <a:lnTo>
                  <a:pt x="9" y="0"/>
                </a:lnTo>
                <a:lnTo>
                  <a:pt x="9" y="78"/>
                </a:lnTo>
                <a:lnTo>
                  <a:pt x="5" y="7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46"/>
          <p:cNvSpPr/>
          <p:nvPr/>
        </p:nvSpPr>
        <p:spPr>
          <a:xfrm>
            <a:off x="5232240" y="2455920"/>
            <a:ext cx="2883240" cy="1584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92" h="9">
                <a:moveTo>
                  <a:pt x="1592" y="4"/>
                </a:moveTo>
                <a:lnTo>
                  <a:pt x="1592" y="0"/>
                </a:lnTo>
                <a:lnTo>
                  <a:pt x="0" y="0"/>
                </a:lnTo>
                <a:lnTo>
                  <a:pt x="0" y="9"/>
                </a:lnTo>
                <a:lnTo>
                  <a:pt x="1592" y="9"/>
                </a:lnTo>
                <a:lnTo>
                  <a:pt x="1592" y="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47"/>
          <p:cNvSpPr/>
          <p:nvPr/>
        </p:nvSpPr>
        <p:spPr>
          <a:xfrm>
            <a:off x="8107200" y="2392200"/>
            <a:ext cx="20880" cy="141480"/>
          </a:xfrm>
          <a:custGeom>
            <a:avLst/>
            <a:gdLst>
              <a:gd name="textAreaLeft" fmla="*/ 0 w 20880"/>
              <a:gd name="textAreaRight" fmla="*/ 21240 w 208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1" h="78">
                <a:moveTo>
                  <a:pt x="4" y="78"/>
                </a:moveTo>
                <a:lnTo>
                  <a:pt x="11" y="78"/>
                </a:lnTo>
                <a:lnTo>
                  <a:pt x="11" y="0"/>
                </a:lnTo>
                <a:lnTo>
                  <a:pt x="0" y="0"/>
                </a:lnTo>
                <a:lnTo>
                  <a:pt x="0" y="78"/>
                </a:lnTo>
                <a:lnTo>
                  <a:pt x="4" y="7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48"/>
          <p:cNvSpPr/>
          <p:nvPr/>
        </p:nvSpPr>
        <p:spPr>
          <a:xfrm>
            <a:off x="6256440" y="2843280"/>
            <a:ext cx="17280" cy="141120"/>
          </a:xfrm>
          <a:custGeom>
            <a:avLst/>
            <a:gdLst>
              <a:gd name="textAreaLeft" fmla="*/ 0 w 17280"/>
              <a:gd name="textAreaRight" fmla="*/ 17640 w 172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0" h="78">
                <a:moveTo>
                  <a:pt x="6" y="0"/>
                </a:moveTo>
                <a:lnTo>
                  <a:pt x="10" y="0"/>
                </a:lnTo>
                <a:lnTo>
                  <a:pt x="10" y="78"/>
                </a:lnTo>
                <a:lnTo>
                  <a:pt x="0" y="78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49"/>
          <p:cNvSpPr/>
          <p:nvPr/>
        </p:nvSpPr>
        <p:spPr>
          <a:xfrm>
            <a:off x="5232240" y="2906640"/>
            <a:ext cx="1033560" cy="158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71" h="9">
                <a:moveTo>
                  <a:pt x="0" y="4"/>
                </a:moveTo>
                <a:lnTo>
                  <a:pt x="0" y="9"/>
                </a:lnTo>
                <a:lnTo>
                  <a:pt x="571" y="9"/>
                </a:lnTo>
                <a:lnTo>
                  <a:pt x="57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0"/>
          <p:cNvSpPr/>
          <p:nvPr/>
        </p:nvSpPr>
        <p:spPr>
          <a:xfrm>
            <a:off x="5224320" y="2843280"/>
            <a:ext cx="15840" cy="141120"/>
          </a:xfrm>
          <a:custGeom>
            <a:avLst/>
            <a:gdLst>
              <a:gd name="textAreaLeft" fmla="*/ 0 w 15840"/>
              <a:gd name="textAreaRight" fmla="*/ 16200 w 15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9" h="78">
                <a:moveTo>
                  <a:pt x="5" y="0"/>
                </a:moveTo>
                <a:lnTo>
                  <a:pt x="0" y="0"/>
                </a:lnTo>
                <a:lnTo>
                  <a:pt x="0" y="78"/>
                </a:lnTo>
                <a:lnTo>
                  <a:pt x="9" y="78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51"/>
          <p:cNvSpPr/>
          <p:nvPr/>
        </p:nvSpPr>
        <p:spPr>
          <a:xfrm>
            <a:off x="3529080" y="2987640"/>
            <a:ext cx="4821120" cy="1620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3529080" y="2523600"/>
            <a:ext cx="4827600" cy="1622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3760920" y="3450960"/>
            <a:ext cx="5864040" cy="5223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4"/>
          <p:cNvSpPr/>
          <p:nvPr/>
        </p:nvSpPr>
        <p:spPr>
          <a:xfrm>
            <a:off x="3195720" y="3205080"/>
            <a:ext cx="6414840" cy="4636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5"/>
          <p:cNvSpPr/>
          <p:nvPr/>
        </p:nvSpPr>
        <p:spPr>
          <a:xfrm>
            <a:off x="2703600" y="3581280"/>
            <a:ext cx="69069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6"/>
          <p:cNvSpPr/>
          <p:nvPr/>
        </p:nvSpPr>
        <p:spPr>
          <a:xfrm flipH="1">
            <a:off x="1993680" y="4132440"/>
            <a:ext cx="136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7"/>
          <p:cNvSpPr/>
          <p:nvPr/>
        </p:nvSpPr>
        <p:spPr>
          <a:xfrm flipH="1">
            <a:off x="1993680" y="3002040"/>
            <a:ext cx="13618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 flipH="1">
            <a:off x="1993680" y="3205080"/>
            <a:ext cx="1158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1993680" y="3973680"/>
            <a:ext cx="17809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H="1" flipV="1">
            <a:off x="2717280" y="2727360"/>
            <a:ext cx="652680" cy="65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61"/>
          <p:cNvSpPr/>
          <p:nvPr/>
        </p:nvSpPr>
        <p:spPr>
          <a:xfrm flipH="1">
            <a:off x="2762280" y="3813120"/>
            <a:ext cx="738000" cy="738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2"/>
          <p:cNvSpPr/>
          <p:nvPr/>
        </p:nvSpPr>
        <p:spPr>
          <a:xfrm>
            <a:off x="5052600" y="294012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7908480" y="294012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64"/>
          <p:cNvSpPr/>
          <p:nvPr/>
        </p:nvSpPr>
        <p:spPr>
          <a:xfrm>
            <a:off x="3076560" y="2986200"/>
            <a:ext cx="820800" cy="1160280"/>
          </a:xfrm>
          <a:custGeom>
            <a:avLst/>
            <a:gdLst>
              <a:gd name="textAreaLeft" fmla="*/ 0 w 820800"/>
              <a:gd name="textAreaRight" fmla="*/ 821160 w 82080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453" h="641">
                <a:moveTo>
                  <a:pt x="228" y="0"/>
                </a:moveTo>
                <a:lnTo>
                  <a:pt x="249" y="2"/>
                </a:lnTo>
                <a:lnTo>
                  <a:pt x="273" y="7"/>
                </a:lnTo>
                <a:lnTo>
                  <a:pt x="295" y="15"/>
                </a:lnTo>
                <a:lnTo>
                  <a:pt x="314" y="26"/>
                </a:lnTo>
                <a:lnTo>
                  <a:pt x="334" y="39"/>
                </a:lnTo>
                <a:lnTo>
                  <a:pt x="353" y="54"/>
                </a:lnTo>
                <a:lnTo>
                  <a:pt x="370" y="74"/>
                </a:lnTo>
                <a:lnTo>
                  <a:pt x="388" y="93"/>
                </a:lnTo>
                <a:lnTo>
                  <a:pt x="401" y="117"/>
                </a:lnTo>
                <a:lnTo>
                  <a:pt x="416" y="141"/>
                </a:lnTo>
                <a:lnTo>
                  <a:pt x="427" y="169"/>
                </a:lnTo>
                <a:lnTo>
                  <a:pt x="435" y="197"/>
                </a:lnTo>
                <a:lnTo>
                  <a:pt x="444" y="225"/>
                </a:lnTo>
                <a:lnTo>
                  <a:pt x="448" y="256"/>
                </a:lnTo>
                <a:lnTo>
                  <a:pt x="453" y="288"/>
                </a:lnTo>
                <a:lnTo>
                  <a:pt x="453" y="321"/>
                </a:lnTo>
                <a:lnTo>
                  <a:pt x="453" y="353"/>
                </a:lnTo>
                <a:lnTo>
                  <a:pt x="448" y="385"/>
                </a:lnTo>
                <a:lnTo>
                  <a:pt x="444" y="416"/>
                </a:lnTo>
                <a:lnTo>
                  <a:pt x="435" y="446"/>
                </a:lnTo>
                <a:lnTo>
                  <a:pt x="427" y="474"/>
                </a:lnTo>
                <a:lnTo>
                  <a:pt x="416" y="500"/>
                </a:lnTo>
                <a:lnTo>
                  <a:pt x="401" y="524"/>
                </a:lnTo>
                <a:lnTo>
                  <a:pt x="388" y="548"/>
                </a:lnTo>
                <a:lnTo>
                  <a:pt x="370" y="567"/>
                </a:lnTo>
                <a:lnTo>
                  <a:pt x="353" y="587"/>
                </a:lnTo>
                <a:lnTo>
                  <a:pt x="334" y="602"/>
                </a:lnTo>
                <a:lnTo>
                  <a:pt x="314" y="617"/>
                </a:lnTo>
                <a:lnTo>
                  <a:pt x="295" y="628"/>
                </a:lnTo>
                <a:lnTo>
                  <a:pt x="273" y="634"/>
                </a:lnTo>
                <a:lnTo>
                  <a:pt x="249" y="641"/>
                </a:lnTo>
                <a:lnTo>
                  <a:pt x="228" y="641"/>
                </a:lnTo>
                <a:lnTo>
                  <a:pt x="204" y="641"/>
                </a:lnTo>
                <a:lnTo>
                  <a:pt x="180" y="634"/>
                </a:lnTo>
                <a:lnTo>
                  <a:pt x="158" y="628"/>
                </a:lnTo>
                <a:lnTo>
                  <a:pt x="139" y="617"/>
                </a:lnTo>
                <a:lnTo>
                  <a:pt x="119" y="602"/>
                </a:lnTo>
                <a:lnTo>
                  <a:pt x="100" y="587"/>
                </a:lnTo>
                <a:lnTo>
                  <a:pt x="83" y="567"/>
                </a:lnTo>
                <a:lnTo>
                  <a:pt x="65" y="548"/>
                </a:lnTo>
                <a:lnTo>
                  <a:pt x="52" y="524"/>
                </a:lnTo>
                <a:lnTo>
                  <a:pt x="39" y="500"/>
                </a:lnTo>
                <a:lnTo>
                  <a:pt x="26" y="474"/>
                </a:lnTo>
                <a:lnTo>
                  <a:pt x="18" y="446"/>
                </a:lnTo>
                <a:lnTo>
                  <a:pt x="9" y="416"/>
                </a:lnTo>
                <a:lnTo>
                  <a:pt x="5" y="385"/>
                </a:lnTo>
                <a:lnTo>
                  <a:pt x="0" y="353"/>
                </a:lnTo>
                <a:lnTo>
                  <a:pt x="0" y="321"/>
                </a:lnTo>
                <a:lnTo>
                  <a:pt x="0" y="288"/>
                </a:lnTo>
                <a:lnTo>
                  <a:pt x="5" y="256"/>
                </a:lnTo>
                <a:lnTo>
                  <a:pt x="9" y="225"/>
                </a:lnTo>
                <a:lnTo>
                  <a:pt x="18" y="197"/>
                </a:lnTo>
                <a:lnTo>
                  <a:pt x="26" y="169"/>
                </a:lnTo>
                <a:lnTo>
                  <a:pt x="39" y="141"/>
                </a:lnTo>
                <a:lnTo>
                  <a:pt x="52" y="117"/>
                </a:lnTo>
                <a:lnTo>
                  <a:pt x="65" y="93"/>
                </a:lnTo>
                <a:lnTo>
                  <a:pt x="83" y="74"/>
                </a:lnTo>
                <a:lnTo>
                  <a:pt x="100" y="54"/>
                </a:lnTo>
                <a:lnTo>
                  <a:pt x="119" y="39"/>
                </a:lnTo>
                <a:lnTo>
                  <a:pt x="139" y="26"/>
                </a:lnTo>
                <a:lnTo>
                  <a:pt x="158" y="15"/>
                </a:lnTo>
                <a:lnTo>
                  <a:pt x="180" y="7"/>
                </a:lnTo>
                <a:lnTo>
                  <a:pt x="204" y="2"/>
                </a:lnTo>
                <a:lnTo>
                  <a:pt x="228" y="0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50760" y="1730520"/>
            <a:ext cx="8444160" cy="399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i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os astigmatismos intern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59840" y="297000"/>
            <a:ext cx="98283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905040" y="1211400"/>
            <a:ext cx="83548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STRUTUR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6280" y="28368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CORNE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982800"/>
            <a:ext cx="1028700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órnea raramente esféric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stigmatismo corneal pressupõe anterior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Verdadeiro astigmatismo corneal deve incluir o posterio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 posterior neutraliza 10-14% do astigmatismo anterio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stigmatismo corneal = descrição óptic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8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oricidade corneal     =  descrição anatômic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35120" y="18216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LENTICULA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868320"/>
            <a:ext cx="9167760" cy="517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ido a diferenças 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der refrativo dos meridia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da uma das superfíci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bas superfí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Índice de refração das camadas do cristali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s de aplanamento das superfícies das capas do cristali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etria das capas do cristalin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linação e/ou descentração do cristali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6280" y="2700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INTERN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29880" y="1347480"/>
            <a:ext cx="6859800" cy="442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 pólo posterior (retina) deve ser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órico na form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clinad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scentrad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836640" y="936720"/>
            <a:ext cx="8744040" cy="49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UTR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324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TOT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68360" y="982800"/>
            <a:ext cx="801360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astigmatismo total é a combinação d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lenti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os astigmatismos intern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6280" y="1429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23560" y="1170000"/>
            <a:ext cx="916308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gul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ncipais meridianos, separados em 9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gul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ncipal meridianos não separados em 9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s que 2 principais meridia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 principais meridia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ralmente adquirido (i.e. secundariamente 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nç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952560" y="63972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EGULAR E IRREGULA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6280" y="2127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IRREGULA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4160" y="1096920"/>
            <a:ext cx="9181800" cy="485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orção(ões) de superfícies refrativ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rregularidades no índice de 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nças/degene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icatriz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824040" y="78120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AUS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826920" y="89208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693800" y="1057320"/>
            <a:ext cx="6986520" cy="64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449360" y="2023920"/>
            <a:ext cx="7375680" cy="2122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400" spc="-1" strike="noStrike">
                <a:solidFill>
                  <a:srgbClr val="fcfeb9"/>
                </a:solidFill>
                <a:latin typeface="Arial"/>
              </a:rPr>
              <a:t>Definido como uma condição refrativa. É a diferença entre o poder refrativo dos dois principais eixos do olh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6280" y="28368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77880" y="2428920"/>
            <a:ext cx="4390920" cy="393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favor da reg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a a reg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blíqu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rreg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836640" y="7462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IP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-210960" y="1266840"/>
            <a:ext cx="10904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me a orientação do eixo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Cil na forma negativa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6280" y="2127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POS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6440" y="1469520"/>
            <a:ext cx="8489880" cy="4859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ocular onde a força refrativa do meridiano vertical (ou próximo ao vertical) é a ma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ixo refrativo cilíndrico 0-3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,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50-18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1736640" y="92376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 FAVOR DA REGR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6984360" y="3613320"/>
            <a:ext cx="207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Millodot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POS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2080" y="1459080"/>
            <a:ext cx="8793360" cy="41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ocular onde a força refrativa do meridiano horizontal (ou próximo ao  horizontal) é a ma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ixo refrativo cilíndrico 60-12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639800" y="77148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NTRA A REGR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7331760" y="3497400"/>
            <a:ext cx="207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Millodot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464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POS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-360" y="1487160"/>
            <a:ext cx="102870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onde os dois principais meridianos situam-se em algum lugar entre os eixos que definem o astigmatismo a FR assim como o C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ixo refrativo cilíndrico 31-59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,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21-149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593720" y="96192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STIGMATISMO OBLÍQU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331760" y="3583080"/>
            <a:ext cx="207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Millodot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88800" y="2006280"/>
            <a:ext cx="794052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ignificant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75 D Ci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00 to 1.50 D Ci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derad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75 to 2.50 D Ci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gt; 2.50 D Ci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631880" y="74628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ILÍNDRICO REFRATIV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1631880" y="141120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Classificação pela magnitu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62080" y="1979640"/>
            <a:ext cx="8362800" cy="442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lt; 0.5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9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50 to 1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7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25 to 2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.25 to 3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gt; 3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52600" y="809640"/>
            <a:ext cx="90914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CIDÊNCIA POR GRAU (DIOPTRI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4240080" y="1425600"/>
            <a:ext cx="36655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olden (19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6535800" y="1425600"/>
            <a:ext cx="36655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vara (19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62080" y="1979280"/>
            <a:ext cx="8609040" cy="324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&lt; 0.5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3.6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66.6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60 a 1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9.4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7.7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10 a 3.0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5.6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3.6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.00 a 4.50 D C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3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.1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056"/>
          <p:cNvSpPr/>
          <p:nvPr/>
        </p:nvSpPr>
        <p:spPr>
          <a:xfrm>
            <a:off x="654120" y="746280"/>
            <a:ext cx="8850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CIDÊNCIA POR GRAU (DIOPTRIA)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057"/>
          <p:cNvSpPr/>
          <p:nvPr/>
        </p:nvSpPr>
        <p:spPr>
          <a:xfrm>
            <a:off x="5319720" y="1425600"/>
            <a:ext cx="23223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&amp;S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058"/>
          <p:cNvSpPr/>
          <p:nvPr/>
        </p:nvSpPr>
        <p:spPr>
          <a:xfrm>
            <a:off x="7574040" y="1425600"/>
            <a:ext cx="209556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H (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62080" y="2195640"/>
            <a:ext cx="8609040" cy="324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20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favor da regr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20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a a regr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7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20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blíqu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3%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056"/>
          <p:cNvSpPr/>
          <p:nvPr/>
        </p:nvSpPr>
        <p:spPr>
          <a:xfrm>
            <a:off x="1631880" y="74628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CIDÊNCIA POR TIP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057"/>
          <p:cNvSpPr/>
          <p:nvPr/>
        </p:nvSpPr>
        <p:spPr>
          <a:xfrm>
            <a:off x="5029200" y="2030400"/>
            <a:ext cx="23223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6 -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058"/>
          <p:cNvSpPr/>
          <p:nvPr/>
        </p:nvSpPr>
        <p:spPr>
          <a:xfrm>
            <a:off x="7431120" y="2030400"/>
            <a:ext cx="209556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5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059"/>
          <p:cNvSpPr/>
          <p:nvPr/>
        </p:nvSpPr>
        <p:spPr>
          <a:xfrm>
            <a:off x="7113960" y="1174680"/>
            <a:ext cx="224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Fledelius,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18680" y="1215720"/>
            <a:ext cx="958212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ianç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a a regra          Oblíquo/A favor da reg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ult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favor da regra        Contra a regra/Oblíqu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49200" y="746280"/>
            <a:ext cx="96757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VIO DE INCIDÊNCIA COM A IDA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4113360" y="2728800"/>
            <a:ext cx="707760" cy="35244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4113360" y="4780080"/>
            <a:ext cx="707760" cy="35244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6280" y="22716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126960" y="1528560"/>
            <a:ext cx="4522680" cy="290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icular/Inter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1631880" y="746280"/>
            <a:ext cx="7186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MPONE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2722320" y="4451400"/>
            <a:ext cx="5532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Rel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Total = Corneal + Len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49" descr=""/>
          <p:cNvPicPr/>
          <p:nvPr/>
        </p:nvPicPr>
        <p:blipFill>
          <a:blip r:embed="rId1"/>
          <a:stretch/>
        </p:blipFill>
        <p:spPr>
          <a:xfrm>
            <a:off x="1766880" y="1324080"/>
            <a:ext cx="7429680" cy="4037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3960" y="105840"/>
            <a:ext cx="8744040" cy="6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PLANOS FOCAIS DO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4" name="Text Box 1037"/>
          <p:cNvSpPr/>
          <p:nvPr/>
        </p:nvSpPr>
        <p:spPr>
          <a:xfrm>
            <a:off x="1495440" y="174960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RIDIANO DE EI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8"/>
          <p:cNvSpPr/>
          <p:nvPr/>
        </p:nvSpPr>
        <p:spPr>
          <a:xfrm>
            <a:off x="758880" y="25113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9"/>
          <p:cNvSpPr/>
          <p:nvPr/>
        </p:nvSpPr>
        <p:spPr>
          <a:xfrm>
            <a:off x="200160" y="3476520"/>
            <a:ext cx="133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RIDIANO DE P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0"/>
          <p:cNvSpPr/>
          <p:nvPr/>
        </p:nvSpPr>
        <p:spPr>
          <a:xfrm>
            <a:off x="5711760" y="5051520"/>
            <a:ext cx="19591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OS FOC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41"/>
          <p:cNvSpPr/>
          <p:nvPr/>
        </p:nvSpPr>
        <p:spPr>
          <a:xfrm>
            <a:off x="5407200" y="5864400"/>
            <a:ext cx="330516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, B, C = pontos imagem de fontes de pontos obje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42"/>
          <p:cNvSpPr/>
          <p:nvPr/>
        </p:nvSpPr>
        <p:spPr>
          <a:xfrm>
            <a:off x="1012680" y="5292720"/>
            <a:ext cx="119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nte do objeto no infin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43"/>
          <p:cNvSpPr/>
          <p:nvPr/>
        </p:nvSpPr>
        <p:spPr>
          <a:xfrm flipH="1">
            <a:off x="888840" y="5257800"/>
            <a:ext cx="123192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44"/>
          <p:cNvSpPr/>
          <p:nvPr/>
        </p:nvSpPr>
        <p:spPr>
          <a:xfrm>
            <a:off x="4518000" y="1432080"/>
            <a:ext cx="195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'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45"/>
          <p:cNvSpPr/>
          <p:nvPr/>
        </p:nvSpPr>
        <p:spPr>
          <a:xfrm>
            <a:off x="6715080" y="1000080"/>
            <a:ext cx="195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'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46"/>
          <p:cNvSpPr/>
          <p:nvPr/>
        </p:nvSpPr>
        <p:spPr>
          <a:xfrm>
            <a:off x="8823240" y="242244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ixo Ópt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48"/>
          <p:cNvSpPr/>
          <p:nvPr/>
        </p:nvSpPr>
        <p:spPr>
          <a:xfrm>
            <a:off x="2158920" y="2286000"/>
            <a:ext cx="241560" cy="417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49"/>
          <p:cNvSpPr/>
          <p:nvPr/>
        </p:nvSpPr>
        <p:spPr>
          <a:xfrm>
            <a:off x="1549440" y="2806560"/>
            <a:ext cx="355680" cy="379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50"/>
          <p:cNvSpPr/>
          <p:nvPr/>
        </p:nvSpPr>
        <p:spPr>
          <a:xfrm flipV="1">
            <a:off x="1473120" y="3706920"/>
            <a:ext cx="2667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3040" y="228600"/>
            <a:ext cx="9321840" cy="1255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TERMINAÇÃO DO ASTIGMATISMO OCULAR A PARTIR DO ASTIGMATISMO CORNE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86840" y="1633680"/>
            <a:ext cx="10099800" cy="41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ra de Javal (1890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Astigmatismo = 1.25 astigmatismo corneal  – 0.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osvenor et al (1988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Astigmatismo = Astigmatismo corneal – 0.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tigmatismo corneal a favor da regra  = +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tigmatismo corneal contra a regra     = 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EDIÇÃO DO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1198080"/>
            <a:ext cx="9791640" cy="491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vatura da superfície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eratomet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Fotoqueratosc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apeamento corneal assistido por sistema computadoriz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vatura da superfície pos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magem de Purkinj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056"/>
          <p:cNvSpPr/>
          <p:nvPr/>
        </p:nvSpPr>
        <p:spPr>
          <a:xfrm>
            <a:off x="1703520" y="801720"/>
            <a:ext cx="71863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RNE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28120" y="313920"/>
            <a:ext cx="9455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STIGMATISMO DE SUPERFICIE POSTERIOR 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14200" y="1026720"/>
            <a:ext cx="9707760" cy="551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Dunn, 1991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superfície posterior neutraliza 14% do astigmatismo de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Suposição prévia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superfície posterior neutraliza 10% do astigmatismo de superfície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INTERN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29840" y="1344240"/>
            <a:ext cx="95742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corneal post.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=+0.21 D Cil x 8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=+0.22 D Cil x 8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ant. cristalin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=+0.52 D Cil x 8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=+0.49 D Cil x 165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fície Post. cristalin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=+1.48 D Cil x 99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=+1.16 D Cil x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7086240" y="711360"/>
            <a:ext cx="2416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Dunn et al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TERMINÃÇÃO DO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58480" y="1299960"/>
            <a:ext cx="964548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belas optotipos p/ astigmatismo e técnica de embaça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nda estenopê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inosc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écnica de cilindro cruz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o-refr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1660680" y="689040"/>
            <a:ext cx="71863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ÉCNIC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6280" y="1843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36440" y="1166400"/>
            <a:ext cx="8793000" cy="417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residual é definido como o erro refrativo astigmático que é existente quando  uma lente de contato é colocada sobre a córnea para corrigir a ametropia pres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erprete como, ‘com lentes de contato esféricas' a menos que se estabeleça o contrár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652760" y="758880"/>
            <a:ext cx="7186320" cy="561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FINI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7394760" y="3933720"/>
            <a:ext cx="170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Mandell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" y="225000"/>
            <a:ext cx="10287000" cy="6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 FISIOLÓGICO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79600" y="968400"/>
            <a:ext cx="9037440" cy="514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corneal não neutraliz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corneal 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lenti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ristalino inclin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rmalidades no índice refrati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berrações oblíqu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alinhamento dos compon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360" y="32652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 INDUZID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43080" y="1112400"/>
            <a:ext cx="9672480" cy="458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C descentrada e/ou inclin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ricidade e/ou bitoricidade das 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locamento das LC (rotaçã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orção e/ou flexão das 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1320" y="167760"/>
            <a:ext cx="8339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090880" y="1326960"/>
            <a:ext cx="7278480" cy="433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x: -2.00 / -1.00 x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s: 7.80 @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ZOP: 7.80 m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.60 @ 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ágrimas, por cálcu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fíce anterior (esférico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+43.07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fície posterior (vertical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-44.21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fície posterior (horizontal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-43.07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P lente lacrim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I/-1.13 x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igmatismo ocula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-1.00 x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igmatismo residu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-0.13 D Cil x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1111320" y="625320"/>
            <a:ext cx="8339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Arial"/>
              </a:rPr>
              <a:t>LC Esférica, Córnea Tórica, Rx Astigm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6800" y="196560"/>
            <a:ext cx="9383400" cy="94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 CALCULADO (ARC) USANDO LEITURA K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38040" y="1430280"/>
            <a:ext cx="8329320" cy="514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x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3.00/-1.00 x 1.8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s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3.00 @ 1.8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5.00 @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-2.00 x 1.8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idua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Total -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-1.00 x 1.80 - (-2.00 x 1.8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+1.00 x 1.80  (or -1.00 x 9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6720" y="14940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NÓIDE DE STÜRM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3201840" y="3251160"/>
            <a:ext cx="2984760" cy="159084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2147" h="1144">
                <a:moveTo>
                  <a:pt x="299" y="1144"/>
                </a:moveTo>
                <a:lnTo>
                  <a:pt x="274" y="1125"/>
                </a:lnTo>
                <a:lnTo>
                  <a:pt x="249" y="1104"/>
                </a:lnTo>
                <a:lnTo>
                  <a:pt x="224" y="1083"/>
                </a:lnTo>
                <a:lnTo>
                  <a:pt x="201" y="1060"/>
                </a:lnTo>
                <a:lnTo>
                  <a:pt x="178" y="1035"/>
                </a:lnTo>
                <a:lnTo>
                  <a:pt x="157" y="1008"/>
                </a:lnTo>
                <a:lnTo>
                  <a:pt x="136" y="979"/>
                </a:lnTo>
                <a:lnTo>
                  <a:pt x="115" y="950"/>
                </a:lnTo>
                <a:lnTo>
                  <a:pt x="96" y="918"/>
                </a:lnTo>
                <a:lnTo>
                  <a:pt x="78" y="883"/>
                </a:lnTo>
                <a:lnTo>
                  <a:pt x="61" y="847"/>
                </a:lnTo>
                <a:lnTo>
                  <a:pt x="46" y="806"/>
                </a:lnTo>
                <a:lnTo>
                  <a:pt x="32" y="766"/>
                </a:lnTo>
                <a:lnTo>
                  <a:pt x="19" y="722"/>
                </a:lnTo>
                <a:lnTo>
                  <a:pt x="9" y="676"/>
                </a:lnTo>
                <a:lnTo>
                  <a:pt x="0" y="626"/>
                </a:lnTo>
                <a:lnTo>
                  <a:pt x="2147" y="0"/>
                </a:lnTo>
                <a:lnTo>
                  <a:pt x="299" y="1144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3"/>
          <p:cNvSpPr/>
          <p:nvPr/>
        </p:nvSpPr>
        <p:spPr>
          <a:xfrm>
            <a:off x="2862360" y="2862360"/>
            <a:ext cx="4690800" cy="1251000"/>
          </a:xfrm>
          <a:custGeom>
            <a:avLst/>
            <a:gdLst>
              <a:gd name="textAreaLeft" fmla="*/ 0 w 4690800"/>
              <a:gd name="textAreaRight" fmla="*/ 4691160 w 46908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75" h="900">
                <a:moveTo>
                  <a:pt x="3375" y="0"/>
                </a:moveTo>
                <a:lnTo>
                  <a:pt x="2769" y="171"/>
                </a:lnTo>
                <a:lnTo>
                  <a:pt x="248" y="900"/>
                </a:lnTo>
                <a:lnTo>
                  <a:pt x="217" y="895"/>
                </a:lnTo>
                <a:lnTo>
                  <a:pt x="190" y="887"/>
                </a:lnTo>
                <a:lnTo>
                  <a:pt x="165" y="879"/>
                </a:lnTo>
                <a:lnTo>
                  <a:pt x="144" y="870"/>
                </a:lnTo>
                <a:lnTo>
                  <a:pt x="108" y="854"/>
                </a:lnTo>
                <a:lnTo>
                  <a:pt x="79" y="837"/>
                </a:lnTo>
                <a:lnTo>
                  <a:pt x="56" y="820"/>
                </a:lnTo>
                <a:lnTo>
                  <a:pt x="35" y="806"/>
                </a:lnTo>
                <a:lnTo>
                  <a:pt x="17" y="793"/>
                </a:lnTo>
                <a:lnTo>
                  <a:pt x="0" y="781"/>
                </a:lnTo>
                <a:lnTo>
                  <a:pt x="3375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4"/>
          <p:cNvSpPr/>
          <p:nvPr/>
        </p:nvSpPr>
        <p:spPr>
          <a:xfrm>
            <a:off x="3187800" y="3233880"/>
            <a:ext cx="2998800" cy="88236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882360"/>
              <a:gd name="textAreaBottom" fmla="*/ 882720 h 882360"/>
            </a:gdLst>
            <a:ahLst/>
            <a:rect l="textAreaLeft" t="textAreaTop" r="textAreaRight" b="textAreaBottom"/>
            <a:pathLst>
              <a:path w="2157" h="635">
                <a:moveTo>
                  <a:pt x="2157" y="13"/>
                </a:moveTo>
                <a:lnTo>
                  <a:pt x="158" y="0"/>
                </a:lnTo>
                <a:lnTo>
                  <a:pt x="133" y="31"/>
                </a:lnTo>
                <a:lnTo>
                  <a:pt x="111" y="65"/>
                </a:lnTo>
                <a:lnTo>
                  <a:pt x="90" y="100"/>
                </a:lnTo>
                <a:lnTo>
                  <a:pt x="73" y="136"/>
                </a:lnTo>
                <a:lnTo>
                  <a:pt x="58" y="173"/>
                </a:lnTo>
                <a:lnTo>
                  <a:pt x="44" y="211"/>
                </a:lnTo>
                <a:lnTo>
                  <a:pt x="31" y="251"/>
                </a:lnTo>
                <a:lnTo>
                  <a:pt x="21" y="292"/>
                </a:lnTo>
                <a:lnTo>
                  <a:pt x="14" y="332"/>
                </a:lnTo>
                <a:lnTo>
                  <a:pt x="8" y="374"/>
                </a:lnTo>
                <a:lnTo>
                  <a:pt x="4" y="418"/>
                </a:lnTo>
                <a:lnTo>
                  <a:pt x="2" y="461"/>
                </a:lnTo>
                <a:lnTo>
                  <a:pt x="0" y="505"/>
                </a:lnTo>
                <a:lnTo>
                  <a:pt x="2" y="547"/>
                </a:lnTo>
                <a:lnTo>
                  <a:pt x="4" y="591"/>
                </a:lnTo>
                <a:lnTo>
                  <a:pt x="10" y="635"/>
                </a:lnTo>
                <a:lnTo>
                  <a:pt x="2157" y="13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5"/>
          <p:cNvSpPr/>
          <p:nvPr/>
        </p:nvSpPr>
        <p:spPr>
          <a:xfrm>
            <a:off x="6186600" y="1712880"/>
            <a:ext cx="2757240" cy="163512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1984" h="1176">
                <a:moveTo>
                  <a:pt x="0" y="1105"/>
                </a:moveTo>
                <a:lnTo>
                  <a:pt x="1648" y="0"/>
                </a:lnTo>
                <a:lnTo>
                  <a:pt x="1640" y="25"/>
                </a:lnTo>
                <a:lnTo>
                  <a:pt x="1632" y="48"/>
                </a:lnTo>
                <a:lnTo>
                  <a:pt x="1629" y="69"/>
                </a:lnTo>
                <a:lnTo>
                  <a:pt x="1627" y="90"/>
                </a:lnTo>
                <a:lnTo>
                  <a:pt x="1625" y="109"/>
                </a:lnTo>
                <a:lnTo>
                  <a:pt x="1627" y="126"/>
                </a:lnTo>
                <a:lnTo>
                  <a:pt x="1629" y="144"/>
                </a:lnTo>
                <a:lnTo>
                  <a:pt x="1634" y="159"/>
                </a:lnTo>
                <a:lnTo>
                  <a:pt x="1640" y="174"/>
                </a:lnTo>
                <a:lnTo>
                  <a:pt x="1648" y="188"/>
                </a:lnTo>
                <a:lnTo>
                  <a:pt x="1655" y="201"/>
                </a:lnTo>
                <a:lnTo>
                  <a:pt x="1665" y="215"/>
                </a:lnTo>
                <a:lnTo>
                  <a:pt x="1688" y="240"/>
                </a:lnTo>
                <a:lnTo>
                  <a:pt x="1713" y="263"/>
                </a:lnTo>
                <a:lnTo>
                  <a:pt x="1742" y="288"/>
                </a:lnTo>
                <a:lnTo>
                  <a:pt x="1773" y="314"/>
                </a:lnTo>
                <a:lnTo>
                  <a:pt x="1803" y="343"/>
                </a:lnTo>
                <a:lnTo>
                  <a:pt x="1836" y="374"/>
                </a:lnTo>
                <a:lnTo>
                  <a:pt x="1851" y="391"/>
                </a:lnTo>
                <a:lnTo>
                  <a:pt x="1867" y="410"/>
                </a:lnTo>
                <a:lnTo>
                  <a:pt x="1882" y="430"/>
                </a:lnTo>
                <a:lnTo>
                  <a:pt x="1895" y="451"/>
                </a:lnTo>
                <a:lnTo>
                  <a:pt x="1909" y="474"/>
                </a:lnTo>
                <a:lnTo>
                  <a:pt x="1922" y="497"/>
                </a:lnTo>
                <a:lnTo>
                  <a:pt x="1936" y="524"/>
                </a:lnTo>
                <a:lnTo>
                  <a:pt x="1947" y="552"/>
                </a:lnTo>
                <a:lnTo>
                  <a:pt x="1934" y="579"/>
                </a:lnTo>
                <a:lnTo>
                  <a:pt x="1922" y="604"/>
                </a:lnTo>
                <a:lnTo>
                  <a:pt x="1913" y="629"/>
                </a:lnTo>
                <a:lnTo>
                  <a:pt x="1905" y="652"/>
                </a:lnTo>
                <a:lnTo>
                  <a:pt x="1899" y="675"/>
                </a:lnTo>
                <a:lnTo>
                  <a:pt x="1893" y="696"/>
                </a:lnTo>
                <a:lnTo>
                  <a:pt x="1890" y="718"/>
                </a:lnTo>
                <a:lnTo>
                  <a:pt x="1888" y="737"/>
                </a:lnTo>
                <a:lnTo>
                  <a:pt x="1888" y="756"/>
                </a:lnTo>
                <a:lnTo>
                  <a:pt x="1888" y="775"/>
                </a:lnTo>
                <a:lnTo>
                  <a:pt x="1888" y="794"/>
                </a:lnTo>
                <a:lnTo>
                  <a:pt x="1890" y="812"/>
                </a:lnTo>
                <a:lnTo>
                  <a:pt x="1897" y="844"/>
                </a:lnTo>
                <a:lnTo>
                  <a:pt x="1907" y="879"/>
                </a:lnTo>
                <a:lnTo>
                  <a:pt x="1930" y="944"/>
                </a:lnTo>
                <a:lnTo>
                  <a:pt x="1955" y="1011"/>
                </a:lnTo>
                <a:lnTo>
                  <a:pt x="1966" y="1048"/>
                </a:lnTo>
                <a:lnTo>
                  <a:pt x="1974" y="1088"/>
                </a:lnTo>
                <a:lnTo>
                  <a:pt x="1982" y="1130"/>
                </a:lnTo>
                <a:lnTo>
                  <a:pt x="1984" y="1176"/>
                </a:lnTo>
                <a:lnTo>
                  <a:pt x="0" y="1105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7548480" y="2479680"/>
            <a:ext cx="1616040" cy="38592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163" h="277">
                <a:moveTo>
                  <a:pt x="0" y="277"/>
                </a:moveTo>
                <a:lnTo>
                  <a:pt x="1132" y="66"/>
                </a:lnTo>
                <a:lnTo>
                  <a:pt x="1151" y="60"/>
                </a:lnTo>
                <a:lnTo>
                  <a:pt x="1161" y="56"/>
                </a:lnTo>
                <a:lnTo>
                  <a:pt x="1163" y="54"/>
                </a:lnTo>
                <a:lnTo>
                  <a:pt x="1163" y="52"/>
                </a:lnTo>
                <a:lnTo>
                  <a:pt x="1161" y="50"/>
                </a:lnTo>
                <a:lnTo>
                  <a:pt x="1157" y="48"/>
                </a:lnTo>
                <a:lnTo>
                  <a:pt x="1128" y="43"/>
                </a:lnTo>
                <a:lnTo>
                  <a:pt x="1086" y="37"/>
                </a:lnTo>
                <a:lnTo>
                  <a:pt x="1038" y="33"/>
                </a:lnTo>
                <a:lnTo>
                  <a:pt x="994" y="25"/>
                </a:lnTo>
                <a:lnTo>
                  <a:pt x="979" y="20"/>
                </a:lnTo>
                <a:lnTo>
                  <a:pt x="967" y="16"/>
                </a:lnTo>
                <a:lnTo>
                  <a:pt x="963" y="12"/>
                </a:lnTo>
                <a:lnTo>
                  <a:pt x="961" y="8"/>
                </a:lnTo>
                <a:lnTo>
                  <a:pt x="961" y="4"/>
                </a:lnTo>
                <a:lnTo>
                  <a:pt x="963" y="0"/>
                </a:lnTo>
                <a:lnTo>
                  <a:pt x="0" y="277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6600960" y="2960640"/>
            <a:ext cx="34920" cy="19080"/>
          </a:xfrm>
          <a:custGeom>
            <a:avLst/>
            <a:gdLst>
              <a:gd name="textAreaLeft" fmla="*/ 0 w 34920"/>
              <a:gd name="textAreaRight" fmla="*/ 35280 w 34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5" h="13">
                <a:moveTo>
                  <a:pt x="25" y="2"/>
                </a:moveTo>
                <a:lnTo>
                  <a:pt x="17" y="0"/>
                </a:lnTo>
                <a:lnTo>
                  <a:pt x="10" y="2"/>
                </a:lnTo>
                <a:lnTo>
                  <a:pt x="0" y="4"/>
                </a:lnTo>
                <a:lnTo>
                  <a:pt x="4" y="13"/>
                </a:lnTo>
                <a:lnTo>
                  <a:pt x="10" y="13"/>
                </a:lnTo>
                <a:lnTo>
                  <a:pt x="17" y="12"/>
                </a:lnTo>
                <a:lnTo>
                  <a:pt x="25" y="13"/>
                </a:lnTo>
                <a:lnTo>
                  <a:pt x="25" y="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8"/>
          <p:cNvSpPr/>
          <p:nvPr/>
        </p:nvSpPr>
        <p:spPr>
          <a:xfrm>
            <a:off x="6662880" y="2975040"/>
            <a:ext cx="34920" cy="30240"/>
          </a:xfrm>
          <a:custGeom>
            <a:avLst/>
            <a:gdLst>
              <a:gd name="textAreaLeft" fmla="*/ 0 w 34920"/>
              <a:gd name="textAreaRight" fmla="*/ 35280 w 34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5" h="21">
                <a:moveTo>
                  <a:pt x="25" y="13"/>
                </a:moveTo>
                <a:lnTo>
                  <a:pt x="23" y="9"/>
                </a:lnTo>
                <a:lnTo>
                  <a:pt x="6" y="0"/>
                </a:lnTo>
                <a:lnTo>
                  <a:pt x="4" y="0"/>
                </a:lnTo>
                <a:lnTo>
                  <a:pt x="0" y="9"/>
                </a:lnTo>
                <a:lnTo>
                  <a:pt x="2" y="9"/>
                </a:lnTo>
                <a:lnTo>
                  <a:pt x="16" y="19"/>
                </a:lnTo>
                <a:lnTo>
                  <a:pt x="17" y="21"/>
                </a:lnTo>
                <a:lnTo>
                  <a:pt x="25" y="13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9"/>
          <p:cNvSpPr/>
          <p:nvPr/>
        </p:nvSpPr>
        <p:spPr>
          <a:xfrm>
            <a:off x="6708600" y="301608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" h="27">
                <a:moveTo>
                  <a:pt x="21" y="20"/>
                </a:moveTo>
                <a:lnTo>
                  <a:pt x="15" y="10"/>
                </a:lnTo>
                <a:lnTo>
                  <a:pt x="9" y="0"/>
                </a:lnTo>
                <a:lnTo>
                  <a:pt x="0" y="8"/>
                </a:lnTo>
                <a:lnTo>
                  <a:pt x="6" y="16"/>
                </a:lnTo>
                <a:lnTo>
                  <a:pt x="11" y="27"/>
                </a:lnTo>
                <a:lnTo>
                  <a:pt x="21" y="2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0"/>
          <p:cNvSpPr/>
          <p:nvPr/>
        </p:nvSpPr>
        <p:spPr>
          <a:xfrm>
            <a:off x="6737400" y="3076560"/>
            <a:ext cx="19080" cy="12600"/>
          </a:xfrm>
          <a:custGeom>
            <a:avLst/>
            <a:gdLst>
              <a:gd name="textAreaLeft" fmla="*/ 0 w 19080"/>
              <a:gd name="textAreaRight" fmla="*/ 19440 w 19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3" h="9">
                <a:moveTo>
                  <a:pt x="13" y="7"/>
                </a:moveTo>
                <a:lnTo>
                  <a:pt x="9" y="0"/>
                </a:lnTo>
                <a:lnTo>
                  <a:pt x="0" y="3"/>
                </a:lnTo>
                <a:lnTo>
                  <a:pt x="2" y="9"/>
                </a:lnTo>
                <a:lnTo>
                  <a:pt x="13" y="7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21"/>
          <p:cNvSpPr/>
          <p:nvPr/>
        </p:nvSpPr>
        <p:spPr>
          <a:xfrm>
            <a:off x="6740640" y="3086280"/>
            <a:ext cx="17280" cy="23760"/>
          </a:xfrm>
          <a:custGeom>
            <a:avLst/>
            <a:gdLst>
              <a:gd name="textAreaLeft" fmla="*/ 0 w 17280"/>
              <a:gd name="textAreaRight" fmla="*/ 17640 w 17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3" h="17">
                <a:moveTo>
                  <a:pt x="13" y="16"/>
                </a:moveTo>
                <a:lnTo>
                  <a:pt x="4" y="17"/>
                </a:lnTo>
                <a:lnTo>
                  <a:pt x="0" y="2"/>
                </a:lnTo>
                <a:lnTo>
                  <a:pt x="11" y="0"/>
                </a:lnTo>
                <a:lnTo>
                  <a:pt x="13" y="16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6746760" y="3139920"/>
            <a:ext cx="17640" cy="34920"/>
          </a:xfrm>
          <a:custGeom>
            <a:avLst/>
            <a:gdLst>
              <a:gd name="textAreaLeft" fmla="*/ 0 w 17640"/>
              <a:gd name="textAreaRight" fmla="*/ 18000 w 176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3" h="25">
                <a:moveTo>
                  <a:pt x="11" y="25"/>
                </a:moveTo>
                <a:lnTo>
                  <a:pt x="13" y="3"/>
                </a:lnTo>
                <a:lnTo>
                  <a:pt x="13" y="0"/>
                </a:lnTo>
                <a:lnTo>
                  <a:pt x="2" y="2"/>
                </a:lnTo>
                <a:lnTo>
                  <a:pt x="2" y="3"/>
                </a:lnTo>
                <a:lnTo>
                  <a:pt x="0" y="23"/>
                </a:lnTo>
                <a:lnTo>
                  <a:pt x="11" y="25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6721560" y="3201840"/>
            <a:ext cx="28440" cy="34920"/>
          </a:xfrm>
          <a:custGeom>
            <a:avLst/>
            <a:gdLst>
              <a:gd name="textAreaLeft" fmla="*/ 0 w 28440"/>
              <a:gd name="textAreaRight" fmla="*/ 28800 w 284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1" h="25">
                <a:moveTo>
                  <a:pt x="10" y="25"/>
                </a:moveTo>
                <a:lnTo>
                  <a:pt x="16" y="15"/>
                </a:lnTo>
                <a:lnTo>
                  <a:pt x="21" y="4"/>
                </a:lnTo>
                <a:lnTo>
                  <a:pt x="10" y="0"/>
                </a:lnTo>
                <a:lnTo>
                  <a:pt x="6" y="9"/>
                </a:lnTo>
                <a:lnTo>
                  <a:pt x="0" y="19"/>
                </a:lnTo>
                <a:lnTo>
                  <a:pt x="10" y="25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4"/>
          <p:cNvSpPr/>
          <p:nvPr/>
        </p:nvSpPr>
        <p:spPr>
          <a:xfrm>
            <a:off x="6684840" y="324648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6">
                <a:moveTo>
                  <a:pt x="1" y="16"/>
                </a:moveTo>
                <a:lnTo>
                  <a:pt x="11" y="12"/>
                </a:lnTo>
                <a:lnTo>
                  <a:pt x="17" y="10"/>
                </a:lnTo>
                <a:lnTo>
                  <a:pt x="11" y="0"/>
                </a:lnTo>
                <a:lnTo>
                  <a:pt x="5" y="2"/>
                </a:lnTo>
                <a:lnTo>
                  <a:pt x="0" y="4"/>
                </a:lnTo>
                <a:lnTo>
                  <a:pt x="1" y="16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25"/>
          <p:cNvSpPr/>
          <p:nvPr/>
        </p:nvSpPr>
        <p:spPr>
          <a:xfrm>
            <a:off x="6673680" y="3251160"/>
            <a:ext cx="12960" cy="20520"/>
          </a:xfrm>
          <a:custGeom>
            <a:avLst/>
            <a:gdLst>
              <a:gd name="textAreaLeft" fmla="*/ 0 w 12960"/>
              <a:gd name="textAreaRight" fmla="*/ 13320 w 129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2" y="14"/>
                </a:lnTo>
                <a:lnTo>
                  <a:pt x="9" y="12"/>
                </a:lnTo>
                <a:lnTo>
                  <a:pt x="8" y="0"/>
                </a:lnTo>
                <a:lnTo>
                  <a:pt x="0" y="2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26"/>
          <p:cNvSpPr/>
          <p:nvPr/>
        </p:nvSpPr>
        <p:spPr>
          <a:xfrm>
            <a:off x="6610320" y="3240000"/>
            <a:ext cx="34920" cy="28800"/>
          </a:xfrm>
          <a:custGeom>
            <a:avLst/>
            <a:gdLst>
              <a:gd name="textAreaLeft" fmla="*/ 0 w 34920"/>
              <a:gd name="textAreaRight" fmla="*/ 35280 w 349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5" h="21">
                <a:moveTo>
                  <a:pt x="0" y="11"/>
                </a:moveTo>
                <a:lnTo>
                  <a:pt x="6" y="15"/>
                </a:lnTo>
                <a:lnTo>
                  <a:pt x="21" y="21"/>
                </a:lnTo>
                <a:lnTo>
                  <a:pt x="25" y="9"/>
                </a:lnTo>
                <a:lnTo>
                  <a:pt x="11" y="3"/>
                </a:lnTo>
                <a:lnTo>
                  <a:pt x="6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6561000" y="3195720"/>
            <a:ext cx="32040" cy="38160"/>
          </a:xfrm>
          <a:custGeom>
            <a:avLst/>
            <a:gdLst>
              <a:gd name="textAreaLeft" fmla="*/ 0 w 32040"/>
              <a:gd name="textAreaRight" fmla="*/ 32400 w 32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" h="27">
                <a:moveTo>
                  <a:pt x="0" y="8"/>
                </a:moveTo>
                <a:lnTo>
                  <a:pt x="12" y="21"/>
                </a:lnTo>
                <a:lnTo>
                  <a:pt x="16" y="27"/>
                </a:lnTo>
                <a:lnTo>
                  <a:pt x="23" y="17"/>
                </a:lnTo>
                <a:lnTo>
                  <a:pt x="19" y="13"/>
                </a:lnTo>
                <a:lnTo>
                  <a:pt x="1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6534000" y="3143160"/>
            <a:ext cx="24120" cy="33480"/>
          </a:xfrm>
          <a:custGeom>
            <a:avLst/>
            <a:gdLst>
              <a:gd name="textAreaLeft" fmla="*/ 0 w 24120"/>
              <a:gd name="textAreaRight" fmla="*/ 24480 w 241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7" h="24">
                <a:moveTo>
                  <a:pt x="0" y="3"/>
                </a:moveTo>
                <a:lnTo>
                  <a:pt x="8" y="24"/>
                </a:lnTo>
                <a:lnTo>
                  <a:pt x="17" y="19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6534000" y="3143160"/>
            <a:ext cx="17640" cy="4680"/>
          </a:xfrm>
          <a:custGeom>
            <a:avLst/>
            <a:gdLst>
              <a:gd name="textAreaLeft" fmla="*/ 0 w 17640"/>
              <a:gd name="textAreaRight" fmla="*/ 18000 w 176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2" h="3">
                <a:moveTo>
                  <a:pt x="0" y="1"/>
                </a:moveTo>
                <a:lnTo>
                  <a:pt x="10" y="0"/>
                </a:lnTo>
                <a:lnTo>
                  <a:pt x="12" y="0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6526080" y="3081240"/>
            <a:ext cx="17640" cy="31680"/>
          </a:xfrm>
          <a:custGeom>
            <a:avLst/>
            <a:gdLst>
              <a:gd name="textAreaLeft" fmla="*/ 0 w 17640"/>
              <a:gd name="textAreaRight" fmla="*/ 18000 w 17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2" h="23">
                <a:moveTo>
                  <a:pt x="0" y="0"/>
                </a:moveTo>
                <a:lnTo>
                  <a:pt x="0" y="6"/>
                </a:lnTo>
                <a:lnTo>
                  <a:pt x="0" y="23"/>
                </a:lnTo>
                <a:lnTo>
                  <a:pt x="12" y="21"/>
                </a:lnTo>
                <a:lnTo>
                  <a:pt x="12" y="6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6532560" y="3016080"/>
            <a:ext cx="25560" cy="33480"/>
          </a:xfrm>
          <a:custGeom>
            <a:avLst/>
            <a:gdLst>
              <a:gd name="textAreaLeft" fmla="*/ 0 w 25560"/>
              <a:gd name="textAreaRight" fmla="*/ 25920 w 25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9" h="23">
                <a:moveTo>
                  <a:pt x="8" y="0"/>
                </a:moveTo>
                <a:lnTo>
                  <a:pt x="2" y="12"/>
                </a:lnTo>
                <a:lnTo>
                  <a:pt x="0" y="21"/>
                </a:lnTo>
                <a:lnTo>
                  <a:pt x="12" y="23"/>
                </a:lnTo>
                <a:lnTo>
                  <a:pt x="14" y="16"/>
                </a:lnTo>
                <a:lnTo>
                  <a:pt x="19" y="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6564240" y="2970360"/>
            <a:ext cx="36720" cy="28440"/>
          </a:xfrm>
          <a:custGeom>
            <a:avLst/>
            <a:gdLst>
              <a:gd name="textAreaLeft" fmla="*/ 0 w 36720"/>
              <a:gd name="textAreaRight" fmla="*/ 37080 w 36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" h="21">
                <a:moveTo>
                  <a:pt x="21" y="0"/>
                </a:moveTo>
                <a:lnTo>
                  <a:pt x="19" y="0"/>
                </a:lnTo>
                <a:lnTo>
                  <a:pt x="12" y="4"/>
                </a:lnTo>
                <a:lnTo>
                  <a:pt x="4" y="9"/>
                </a:lnTo>
                <a:lnTo>
                  <a:pt x="0" y="13"/>
                </a:lnTo>
                <a:lnTo>
                  <a:pt x="10" y="21"/>
                </a:lnTo>
                <a:lnTo>
                  <a:pt x="12" y="19"/>
                </a:lnTo>
                <a:lnTo>
                  <a:pt x="17" y="13"/>
                </a:lnTo>
                <a:lnTo>
                  <a:pt x="23" y="11"/>
                </a:lnTo>
                <a:lnTo>
                  <a:pt x="27" y="9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6607080" y="2960640"/>
            <a:ext cx="149400" cy="128520"/>
          </a:xfrm>
          <a:custGeom>
            <a:avLst/>
            <a:gdLst>
              <a:gd name="textAreaLeft" fmla="*/ 0 w 149400"/>
              <a:gd name="textAreaRight" fmla="*/ 149760 w 149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07" h="92">
                <a:moveTo>
                  <a:pt x="107" y="90"/>
                </a:moveTo>
                <a:lnTo>
                  <a:pt x="100" y="69"/>
                </a:lnTo>
                <a:lnTo>
                  <a:pt x="90" y="50"/>
                </a:lnTo>
                <a:lnTo>
                  <a:pt x="77" y="35"/>
                </a:lnTo>
                <a:lnTo>
                  <a:pt x="63" y="21"/>
                </a:lnTo>
                <a:lnTo>
                  <a:pt x="48" y="10"/>
                </a:lnTo>
                <a:lnTo>
                  <a:pt x="32" y="4"/>
                </a:lnTo>
                <a:lnTo>
                  <a:pt x="25" y="2"/>
                </a:lnTo>
                <a:lnTo>
                  <a:pt x="15" y="0"/>
                </a:lnTo>
                <a:lnTo>
                  <a:pt x="8" y="2"/>
                </a:lnTo>
                <a:lnTo>
                  <a:pt x="0" y="2"/>
                </a:lnTo>
                <a:lnTo>
                  <a:pt x="2" y="13"/>
                </a:lnTo>
                <a:lnTo>
                  <a:pt x="9" y="13"/>
                </a:lnTo>
                <a:lnTo>
                  <a:pt x="15" y="12"/>
                </a:lnTo>
                <a:lnTo>
                  <a:pt x="23" y="13"/>
                </a:lnTo>
                <a:lnTo>
                  <a:pt x="29" y="15"/>
                </a:lnTo>
                <a:lnTo>
                  <a:pt x="42" y="21"/>
                </a:lnTo>
                <a:lnTo>
                  <a:pt x="56" y="29"/>
                </a:lnTo>
                <a:lnTo>
                  <a:pt x="69" y="42"/>
                </a:lnTo>
                <a:lnTo>
                  <a:pt x="80" y="56"/>
                </a:lnTo>
                <a:lnTo>
                  <a:pt x="88" y="73"/>
                </a:lnTo>
                <a:lnTo>
                  <a:pt x="96" y="92"/>
                </a:lnTo>
                <a:lnTo>
                  <a:pt x="107" y="9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6740640" y="3086280"/>
            <a:ext cx="23760" cy="41040"/>
          </a:xfrm>
          <a:custGeom>
            <a:avLst/>
            <a:gdLst>
              <a:gd name="textAreaLeft" fmla="*/ 0 w 23760"/>
              <a:gd name="textAreaRight" fmla="*/ 24120 w 237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7" h="29">
                <a:moveTo>
                  <a:pt x="17" y="29"/>
                </a:moveTo>
                <a:lnTo>
                  <a:pt x="15" y="25"/>
                </a:lnTo>
                <a:lnTo>
                  <a:pt x="15" y="21"/>
                </a:lnTo>
                <a:lnTo>
                  <a:pt x="15" y="17"/>
                </a:lnTo>
                <a:lnTo>
                  <a:pt x="13" y="14"/>
                </a:lnTo>
                <a:lnTo>
                  <a:pt x="13" y="10"/>
                </a:lnTo>
                <a:lnTo>
                  <a:pt x="13" y="6"/>
                </a:lnTo>
                <a:lnTo>
                  <a:pt x="11" y="2"/>
                </a:lnTo>
                <a:lnTo>
                  <a:pt x="11" y="0"/>
                </a:lnTo>
                <a:lnTo>
                  <a:pt x="0" y="2"/>
                </a:lnTo>
                <a:lnTo>
                  <a:pt x="0" y="6"/>
                </a:lnTo>
                <a:lnTo>
                  <a:pt x="2" y="10"/>
                </a:lnTo>
                <a:lnTo>
                  <a:pt x="2" y="14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4" y="27"/>
                </a:lnTo>
                <a:lnTo>
                  <a:pt x="6" y="29"/>
                </a:lnTo>
                <a:lnTo>
                  <a:pt x="17" y="29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7562880" y="2328840"/>
            <a:ext cx="9360" cy="977760"/>
          </a:xfrm>
          <a:custGeom>
            <a:avLst/>
            <a:gdLst>
              <a:gd name="textAreaLeft" fmla="*/ 0 w 9360"/>
              <a:gd name="textAreaRight" fmla="*/ 9720 w 936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7" h="703">
                <a:moveTo>
                  <a:pt x="4" y="703"/>
                </a:moveTo>
                <a:lnTo>
                  <a:pt x="7" y="703"/>
                </a:lnTo>
                <a:lnTo>
                  <a:pt x="7" y="0"/>
                </a:lnTo>
                <a:lnTo>
                  <a:pt x="0" y="0"/>
                </a:lnTo>
                <a:lnTo>
                  <a:pt x="0" y="703"/>
                </a:lnTo>
                <a:lnTo>
                  <a:pt x="4" y="703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3211560" y="2862360"/>
            <a:ext cx="4344840" cy="1303200"/>
          </a:xfrm>
          <a:custGeom>
            <a:avLst/>
            <a:gdLst>
              <a:gd name="textAreaLeft" fmla="*/ 0 w 4344840"/>
              <a:gd name="textAreaRight" fmla="*/ 4345200 w 4344840"/>
              <a:gd name="textAreaTop" fmla="*/ 0 h 1303200"/>
              <a:gd name="textAreaBottom" fmla="*/ 1303560 h 1303200"/>
            </a:gdLst>
            <a:ahLst/>
            <a:rect l="textAreaLeft" t="textAreaTop" r="textAreaRight" b="textAreaBottom"/>
            <a:pathLst>
              <a:path w="3126" h="937">
                <a:moveTo>
                  <a:pt x="3126" y="0"/>
                </a:moveTo>
                <a:lnTo>
                  <a:pt x="0" y="904"/>
                </a:lnTo>
                <a:lnTo>
                  <a:pt x="39" y="912"/>
                </a:lnTo>
                <a:lnTo>
                  <a:pt x="77" y="918"/>
                </a:lnTo>
                <a:lnTo>
                  <a:pt x="118" y="923"/>
                </a:lnTo>
                <a:lnTo>
                  <a:pt x="158" y="929"/>
                </a:lnTo>
                <a:lnTo>
                  <a:pt x="198" y="931"/>
                </a:lnTo>
                <a:lnTo>
                  <a:pt x="240" y="935"/>
                </a:lnTo>
                <a:lnTo>
                  <a:pt x="281" y="935"/>
                </a:lnTo>
                <a:lnTo>
                  <a:pt x="323" y="937"/>
                </a:lnTo>
                <a:lnTo>
                  <a:pt x="405" y="935"/>
                </a:lnTo>
                <a:lnTo>
                  <a:pt x="488" y="931"/>
                </a:lnTo>
                <a:lnTo>
                  <a:pt x="565" y="923"/>
                </a:lnTo>
                <a:lnTo>
                  <a:pt x="639" y="914"/>
                </a:lnTo>
                <a:lnTo>
                  <a:pt x="3126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6062760" y="3201840"/>
            <a:ext cx="295200" cy="108000"/>
          </a:xfrm>
          <a:custGeom>
            <a:avLst/>
            <a:gdLst>
              <a:gd name="textAreaLeft" fmla="*/ 0 w 295200"/>
              <a:gd name="textAreaRight" fmla="*/ 295560 w 295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3" h="78">
                <a:moveTo>
                  <a:pt x="212" y="75"/>
                </a:moveTo>
                <a:lnTo>
                  <a:pt x="213" y="71"/>
                </a:lnTo>
                <a:lnTo>
                  <a:pt x="2" y="0"/>
                </a:lnTo>
                <a:lnTo>
                  <a:pt x="0" y="7"/>
                </a:lnTo>
                <a:lnTo>
                  <a:pt x="212" y="78"/>
                </a:lnTo>
                <a:lnTo>
                  <a:pt x="212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8"/>
          <p:cNvSpPr/>
          <p:nvPr/>
        </p:nvSpPr>
        <p:spPr>
          <a:xfrm>
            <a:off x="1216080" y="3262320"/>
            <a:ext cx="151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Meridian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E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3932280" y="2585880"/>
            <a:ext cx="1307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Linha Focal Horizo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0"/>
          <p:cNvSpPr/>
          <p:nvPr/>
        </p:nvSpPr>
        <p:spPr>
          <a:xfrm>
            <a:off x="5119560" y="1582560"/>
            <a:ext cx="1928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Linha Focal Ver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1"/>
          <p:cNvSpPr/>
          <p:nvPr/>
        </p:nvSpPr>
        <p:spPr>
          <a:xfrm>
            <a:off x="3462480" y="2025720"/>
            <a:ext cx="2481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Círculo de menor Conf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52000" y="27925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Meridiano de P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071720" y="468648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Fonte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5261040" y="2878200"/>
            <a:ext cx="145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5613480" y="3330720"/>
            <a:ext cx="145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6981840" y="3292560"/>
            <a:ext cx="145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6819840" y="1996920"/>
            <a:ext cx="145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48"/>
          <p:cNvSpPr/>
          <p:nvPr/>
        </p:nvSpPr>
        <p:spPr>
          <a:xfrm>
            <a:off x="2871720" y="3228840"/>
            <a:ext cx="1212840" cy="1616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7566120" y="2898720"/>
            <a:ext cx="1584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7566120" y="3139920"/>
            <a:ext cx="1584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7566120" y="3382920"/>
            <a:ext cx="15840" cy="1605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7566120" y="3624120"/>
            <a:ext cx="15840" cy="1605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7566120" y="3865680"/>
            <a:ext cx="15840" cy="16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7566120" y="4106880"/>
            <a:ext cx="15840" cy="162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7566120" y="4349880"/>
            <a:ext cx="15840" cy="16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56"/>
          <p:cNvSpPr/>
          <p:nvPr/>
        </p:nvSpPr>
        <p:spPr>
          <a:xfrm>
            <a:off x="6059520" y="3208320"/>
            <a:ext cx="298440" cy="106560"/>
          </a:xfrm>
          <a:custGeom>
            <a:avLst/>
            <a:gdLst>
              <a:gd name="textAreaLeft" fmla="*/ 0 w 298440"/>
              <a:gd name="textAreaRight" fmla="*/ 298800 w 2984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88" h="67">
                <a:moveTo>
                  <a:pt x="188" y="64"/>
                </a:moveTo>
                <a:lnTo>
                  <a:pt x="188" y="61"/>
                </a:lnTo>
                <a:lnTo>
                  <a:pt x="3" y="0"/>
                </a:lnTo>
                <a:lnTo>
                  <a:pt x="0" y="6"/>
                </a:lnTo>
                <a:lnTo>
                  <a:pt x="186" y="67"/>
                </a:lnTo>
                <a:lnTo>
                  <a:pt x="188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57"/>
          <p:cNvSpPr/>
          <p:nvPr/>
        </p:nvSpPr>
        <p:spPr>
          <a:xfrm>
            <a:off x="6672240" y="3243240"/>
            <a:ext cx="1440" cy="12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8"/>
          <p:cNvSpPr/>
          <p:nvPr/>
        </p:nvSpPr>
        <p:spPr>
          <a:xfrm>
            <a:off x="6672240" y="3267000"/>
            <a:ext cx="1440" cy="12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6183360" y="3263760"/>
            <a:ext cx="15840" cy="162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6183360" y="3505320"/>
            <a:ext cx="15840" cy="16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6183360" y="3747960"/>
            <a:ext cx="15840" cy="1605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6183360" y="3989520"/>
            <a:ext cx="15840" cy="1602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6183360" y="4230720"/>
            <a:ext cx="15840" cy="162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6183360" y="4471920"/>
            <a:ext cx="15840" cy="162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5"/>
          <p:cNvSpPr/>
          <p:nvPr/>
        </p:nvSpPr>
        <p:spPr>
          <a:xfrm>
            <a:off x="6183360" y="4714920"/>
            <a:ext cx="15840" cy="16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6183360" y="4956120"/>
            <a:ext cx="15840" cy="160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7"/>
          <p:cNvSpPr/>
          <p:nvPr/>
        </p:nvSpPr>
        <p:spPr>
          <a:xfrm>
            <a:off x="6416640" y="3200400"/>
            <a:ext cx="1800" cy="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6416640" y="3224160"/>
            <a:ext cx="1800" cy="11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6416640" y="3247920"/>
            <a:ext cx="1800" cy="11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0"/>
          <p:cNvSpPr/>
          <p:nvPr/>
        </p:nvSpPr>
        <p:spPr>
          <a:xfrm>
            <a:off x="6416640" y="3271680"/>
            <a:ext cx="1800" cy="11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71"/>
          <p:cNvSpPr/>
          <p:nvPr/>
        </p:nvSpPr>
        <p:spPr>
          <a:xfrm>
            <a:off x="5078520" y="5838840"/>
            <a:ext cx="174600" cy="17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110" h="11">
                <a:moveTo>
                  <a:pt x="0" y="11"/>
                </a:moveTo>
                <a:lnTo>
                  <a:pt x="14" y="11"/>
                </a:lnTo>
                <a:lnTo>
                  <a:pt x="27" y="11"/>
                </a:lnTo>
                <a:lnTo>
                  <a:pt x="41" y="11"/>
                </a:lnTo>
                <a:lnTo>
                  <a:pt x="56" y="11"/>
                </a:lnTo>
                <a:lnTo>
                  <a:pt x="69" y="11"/>
                </a:lnTo>
                <a:lnTo>
                  <a:pt x="83" y="9"/>
                </a:lnTo>
                <a:lnTo>
                  <a:pt x="96" y="7"/>
                </a:lnTo>
                <a:lnTo>
                  <a:pt x="110" y="5"/>
                </a:lnTo>
                <a:lnTo>
                  <a:pt x="105" y="0"/>
                </a:lnTo>
                <a:lnTo>
                  <a:pt x="93" y="4"/>
                </a:lnTo>
                <a:lnTo>
                  <a:pt x="81" y="5"/>
                </a:lnTo>
                <a:lnTo>
                  <a:pt x="68" y="5"/>
                </a:lnTo>
                <a:lnTo>
                  <a:pt x="56" y="7"/>
                </a:lnTo>
                <a:lnTo>
                  <a:pt x="42" y="7"/>
                </a:lnTo>
                <a:lnTo>
                  <a:pt x="29" y="7"/>
                </a:lnTo>
                <a:lnTo>
                  <a:pt x="17" y="7"/>
                </a:lnTo>
                <a:lnTo>
                  <a:pt x="3" y="5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2"/>
          <p:cNvSpPr/>
          <p:nvPr/>
        </p:nvSpPr>
        <p:spPr>
          <a:xfrm>
            <a:off x="4741920" y="5578560"/>
            <a:ext cx="341280" cy="277560"/>
          </a:xfrm>
          <a:custGeom>
            <a:avLst/>
            <a:gdLst>
              <a:gd name="textAreaLeft" fmla="*/ 0 w 341280"/>
              <a:gd name="textAreaRight" fmla="*/ 341640 w 341280"/>
              <a:gd name="textAreaTop" fmla="*/ 0 h 277560"/>
              <a:gd name="textAreaBottom" fmla="*/ 277560 h 277560"/>
            </a:gdLst>
            <a:ahLst/>
            <a:rect l="textAreaLeft" t="textAreaTop" r="textAreaRight" b="textAreaBottom"/>
            <a:pathLst>
              <a:path w="215" h="175">
                <a:moveTo>
                  <a:pt x="2" y="0"/>
                </a:moveTo>
                <a:lnTo>
                  <a:pt x="0" y="16"/>
                </a:lnTo>
                <a:lnTo>
                  <a:pt x="0" y="31"/>
                </a:lnTo>
                <a:lnTo>
                  <a:pt x="2" y="46"/>
                </a:lnTo>
                <a:lnTo>
                  <a:pt x="7" y="61"/>
                </a:lnTo>
                <a:lnTo>
                  <a:pt x="14" y="75"/>
                </a:lnTo>
                <a:lnTo>
                  <a:pt x="24" y="88"/>
                </a:lnTo>
                <a:lnTo>
                  <a:pt x="34" y="100"/>
                </a:lnTo>
                <a:lnTo>
                  <a:pt x="48" y="114"/>
                </a:lnTo>
                <a:lnTo>
                  <a:pt x="63" y="124"/>
                </a:lnTo>
                <a:lnTo>
                  <a:pt x="80" y="136"/>
                </a:lnTo>
                <a:lnTo>
                  <a:pt x="99" y="144"/>
                </a:lnTo>
                <a:lnTo>
                  <a:pt x="119" y="153"/>
                </a:lnTo>
                <a:lnTo>
                  <a:pt x="139" y="159"/>
                </a:lnTo>
                <a:lnTo>
                  <a:pt x="163" y="166"/>
                </a:lnTo>
                <a:lnTo>
                  <a:pt x="187" y="171"/>
                </a:lnTo>
                <a:lnTo>
                  <a:pt x="212" y="175"/>
                </a:lnTo>
                <a:lnTo>
                  <a:pt x="215" y="169"/>
                </a:lnTo>
                <a:lnTo>
                  <a:pt x="192" y="166"/>
                </a:lnTo>
                <a:lnTo>
                  <a:pt x="170" y="163"/>
                </a:lnTo>
                <a:lnTo>
                  <a:pt x="148" y="156"/>
                </a:lnTo>
                <a:lnTo>
                  <a:pt x="127" y="149"/>
                </a:lnTo>
                <a:lnTo>
                  <a:pt x="109" y="141"/>
                </a:lnTo>
                <a:lnTo>
                  <a:pt x="90" y="132"/>
                </a:lnTo>
                <a:lnTo>
                  <a:pt x="73" y="122"/>
                </a:lnTo>
                <a:lnTo>
                  <a:pt x="60" y="112"/>
                </a:lnTo>
                <a:lnTo>
                  <a:pt x="46" y="98"/>
                </a:lnTo>
                <a:lnTo>
                  <a:pt x="36" y="87"/>
                </a:lnTo>
                <a:lnTo>
                  <a:pt x="26" y="73"/>
                </a:lnTo>
                <a:lnTo>
                  <a:pt x="19" y="60"/>
                </a:lnTo>
                <a:lnTo>
                  <a:pt x="14" y="46"/>
                </a:lnTo>
                <a:lnTo>
                  <a:pt x="12" y="31"/>
                </a:lnTo>
                <a:lnTo>
                  <a:pt x="12" y="16"/>
                </a:lnTo>
                <a:lnTo>
                  <a:pt x="1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73"/>
          <p:cNvSpPr/>
          <p:nvPr/>
        </p:nvSpPr>
        <p:spPr>
          <a:xfrm>
            <a:off x="4745160" y="5372280"/>
            <a:ext cx="453960" cy="206280"/>
          </a:xfrm>
          <a:custGeom>
            <a:avLst/>
            <a:gdLst>
              <a:gd name="textAreaLeft" fmla="*/ 0 w 453960"/>
              <a:gd name="textAreaRight" fmla="*/ 454320 w 4539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86" h="130">
                <a:moveTo>
                  <a:pt x="286" y="2"/>
                </a:moveTo>
                <a:lnTo>
                  <a:pt x="259" y="0"/>
                </a:lnTo>
                <a:lnTo>
                  <a:pt x="234" y="0"/>
                </a:lnTo>
                <a:lnTo>
                  <a:pt x="210" y="2"/>
                </a:lnTo>
                <a:lnTo>
                  <a:pt x="185" y="5"/>
                </a:lnTo>
                <a:lnTo>
                  <a:pt x="161" y="8"/>
                </a:lnTo>
                <a:lnTo>
                  <a:pt x="139" y="15"/>
                </a:lnTo>
                <a:lnTo>
                  <a:pt x="119" y="22"/>
                </a:lnTo>
                <a:lnTo>
                  <a:pt x="98" y="30"/>
                </a:lnTo>
                <a:lnTo>
                  <a:pt x="80" y="39"/>
                </a:lnTo>
                <a:lnTo>
                  <a:pt x="63" y="49"/>
                </a:lnTo>
                <a:lnTo>
                  <a:pt x="48" y="61"/>
                </a:lnTo>
                <a:lnTo>
                  <a:pt x="34" y="73"/>
                </a:lnTo>
                <a:lnTo>
                  <a:pt x="22" y="86"/>
                </a:lnTo>
                <a:lnTo>
                  <a:pt x="12" y="100"/>
                </a:lnTo>
                <a:lnTo>
                  <a:pt x="5" y="115"/>
                </a:lnTo>
                <a:lnTo>
                  <a:pt x="0" y="130"/>
                </a:lnTo>
                <a:lnTo>
                  <a:pt x="12" y="130"/>
                </a:lnTo>
                <a:lnTo>
                  <a:pt x="17" y="115"/>
                </a:lnTo>
                <a:lnTo>
                  <a:pt x="24" y="102"/>
                </a:lnTo>
                <a:lnTo>
                  <a:pt x="34" y="88"/>
                </a:lnTo>
                <a:lnTo>
                  <a:pt x="46" y="74"/>
                </a:lnTo>
                <a:lnTo>
                  <a:pt x="58" y="63"/>
                </a:lnTo>
                <a:lnTo>
                  <a:pt x="73" y="52"/>
                </a:lnTo>
                <a:lnTo>
                  <a:pt x="90" y="42"/>
                </a:lnTo>
                <a:lnTo>
                  <a:pt x="107" y="32"/>
                </a:lnTo>
                <a:lnTo>
                  <a:pt x="127" y="25"/>
                </a:lnTo>
                <a:lnTo>
                  <a:pt x="146" y="19"/>
                </a:lnTo>
                <a:lnTo>
                  <a:pt x="168" y="12"/>
                </a:lnTo>
                <a:lnTo>
                  <a:pt x="190" y="8"/>
                </a:lnTo>
                <a:lnTo>
                  <a:pt x="212" y="5"/>
                </a:lnTo>
                <a:lnTo>
                  <a:pt x="234" y="3"/>
                </a:lnTo>
                <a:lnTo>
                  <a:pt x="257" y="3"/>
                </a:lnTo>
                <a:lnTo>
                  <a:pt x="281" y="5"/>
                </a:lnTo>
                <a:lnTo>
                  <a:pt x="286" y="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4"/>
          <p:cNvSpPr/>
          <p:nvPr/>
        </p:nvSpPr>
        <p:spPr>
          <a:xfrm>
            <a:off x="5191200" y="5375160"/>
            <a:ext cx="344520" cy="273240"/>
          </a:xfrm>
          <a:custGeom>
            <a:avLst/>
            <a:gdLst>
              <a:gd name="textAreaLeft" fmla="*/ 0 w 344520"/>
              <a:gd name="textAreaRight" fmla="*/ 344880 w 344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17" h="172">
                <a:moveTo>
                  <a:pt x="213" y="172"/>
                </a:moveTo>
                <a:lnTo>
                  <a:pt x="217" y="157"/>
                </a:lnTo>
                <a:lnTo>
                  <a:pt x="217" y="142"/>
                </a:lnTo>
                <a:lnTo>
                  <a:pt x="213" y="127"/>
                </a:lnTo>
                <a:lnTo>
                  <a:pt x="208" y="113"/>
                </a:lnTo>
                <a:lnTo>
                  <a:pt x="201" y="98"/>
                </a:lnTo>
                <a:lnTo>
                  <a:pt x="193" y="84"/>
                </a:lnTo>
                <a:lnTo>
                  <a:pt x="181" y="72"/>
                </a:lnTo>
                <a:lnTo>
                  <a:pt x="168" y="61"/>
                </a:lnTo>
                <a:lnTo>
                  <a:pt x="152" y="49"/>
                </a:lnTo>
                <a:lnTo>
                  <a:pt x="137" y="39"/>
                </a:lnTo>
                <a:lnTo>
                  <a:pt x="119" y="28"/>
                </a:lnTo>
                <a:lnTo>
                  <a:pt x="98" y="20"/>
                </a:lnTo>
                <a:lnTo>
                  <a:pt x="76" y="13"/>
                </a:lnTo>
                <a:lnTo>
                  <a:pt x="54" y="6"/>
                </a:lnTo>
                <a:lnTo>
                  <a:pt x="31" y="3"/>
                </a:lnTo>
                <a:lnTo>
                  <a:pt x="5" y="0"/>
                </a:lnTo>
                <a:lnTo>
                  <a:pt x="0" y="3"/>
                </a:lnTo>
                <a:lnTo>
                  <a:pt x="24" y="6"/>
                </a:lnTo>
                <a:lnTo>
                  <a:pt x="47" y="12"/>
                </a:lnTo>
                <a:lnTo>
                  <a:pt x="68" y="17"/>
                </a:lnTo>
                <a:lnTo>
                  <a:pt x="90" y="23"/>
                </a:lnTo>
                <a:lnTo>
                  <a:pt x="108" y="32"/>
                </a:lnTo>
                <a:lnTo>
                  <a:pt x="125" y="40"/>
                </a:lnTo>
                <a:lnTo>
                  <a:pt x="142" y="50"/>
                </a:lnTo>
                <a:lnTo>
                  <a:pt x="157" y="62"/>
                </a:lnTo>
                <a:lnTo>
                  <a:pt x="169" y="74"/>
                </a:lnTo>
                <a:lnTo>
                  <a:pt x="181" y="86"/>
                </a:lnTo>
                <a:lnTo>
                  <a:pt x="190" y="100"/>
                </a:lnTo>
                <a:lnTo>
                  <a:pt x="196" y="113"/>
                </a:lnTo>
                <a:lnTo>
                  <a:pt x="201" y="128"/>
                </a:lnTo>
                <a:lnTo>
                  <a:pt x="205" y="142"/>
                </a:lnTo>
                <a:lnTo>
                  <a:pt x="205" y="157"/>
                </a:lnTo>
                <a:lnTo>
                  <a:pt x="201" y="172"/>
                </a:lnTo>
                <a:lnTo>
                  <a:pt x="213" y="17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75"/>
          <p:cNvSpPr/>
          <p:nvPr/>
        </p:nvSpPr>
        <p:spPr>
          <a:xfrm>
            <a:off x="5245200" y="5648400"/>
            <a:ext cx="284040" cy="198360"/>
          </a:xfrm>
          <a:custGeom>
            <a:avLst/>
            <a:gdLst>
              <a:gd name="textAreaLeft" fmla="*/ 0 w 284040"/>
              <a:gd name="textAreaRight" fmla="*/ 284400 w 284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9" h="125">
                <a:moveTo>
                  <a:pt x="5" y="125"/>
                </a:moveTo>
                <a:lnTo>
                  <a:pt x="39" y="117"/>
                </a:lnTo>
                <a:lnTo>
                  <a:pt x="69" y="107"/>
                </a:lnTo>
                <a:lnTo>
                  <a:pt x="85" y="100"/>
                </a:lnTo>
                <a:lnTo>
                  <a:pt x="98" y="93"/>
                </a:lnTo>
                <a:lnTo>
                  <a:pt x="110" y="87"/>
                </a:lnTo>
                <a:lnTo>
                  <a:pt x="122" y="78"/>
                </a:lnTo>
                <a:lnTo>
                  <a:pt x="134" y="70"/>
                </a:lnTo>
                <a:lnTo>
                  <a:pt x="144" y="61"/>
                </a:lnTo>
                <a:lnTo>
                  <a:pt x="152" y="51"/>
                </a:lnTo>
                <a:lnTo>
                  <a:pt x="159" y="43"/>
                </a:lnTo>
                <a:lnTo>
                  <a:pt x="166" y="32"/>
                </a:lnTo>
                <a:lnTo>
                  <a:pt x="173" y="22"/>
                </a:lnTo>
                <a:lnTo>
                  <a:pt x="176" y="12"/>
                </a:lnTo>
                <a:lnTo>
                  <a:pt x="179" y="0"/>
                </a:lnTo>
                <a:lnTo>
                  <a:pt x="167" y="0"/>
                </a:lnTo>
                <a:lnTo>
                  <a:pt x="164" y="12"/>
                </a:lnTo>
                <a:lnTo>
                  <a:pt x="161" y="22"/>
                </a:lnTo>
                <a:lnTo>
                  <a:pt x="154" y="32"/>
                </a:lnTo>
                <a:lnTo>
                  <a:pt x="147" y="41"/>
                </a:lnTo>
                <a:lnTo>
                  <a:pt x="140" y="51"/>
                </a:lnTo>
                <a:lnTo>
                  <a:pt x="132" y="59"/>
                </a:lnTo>
                <a:lnTo>
                  <a:pt x="122" y="68"/>
                </a:lnTo>
                <a:lnTo>
                  <a:pt x="112" y="76"/>
                </a:lnTo>
                <a:lnTo>
                  <a:pt x="100" y="85"/>
                </a:lnTo>
                <a:lnTo>
                  <a:pt x="88" y="92"/>
                </a:lnTo>
                <a:lnTo>
                  <a:pt x="74" y="98"/>
                </a:lnTo>
                <a:lnTo>
                  <a:pt x="61" y="103"/>
                </a:lnTo>
                <a:lnTo>
                  <a:pt x="32" y="114"/>
                </a:lnTo>
                <a:lnTo>
                  <a:pt x="0" y="120"/>
                </a:lnTo>
                <a:lnTo>
                  <a:pt x="5" y="125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76"/>
          <p:cNvSpPr/>
          <p:nvPr/>
        </p:nvSpPr>
        <p:spPr>
          <a:xfrm>
            <a:off x="8385120" y="4275000"/>
            <a:ext cx="216000" cy="354240"/>
          </a:xfrm>
          <a:custGeom>
            <a:avLst/>
            <a:gdLst>
              <a:gd name="textAreaLeft" fmla="*/ 0 w 216000"/>
              <a:gd name="textAreaRight" fmla="*/ 216360 w 21600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136" h="223">
                <a:moveTo>
                  <a:pt x="136" y="223"/>
                </a:moveTo>
                <a:lnTo>
                  <a:pt x="136" y="201"/>
                </a:lnTo>
                <a:lnTo>
                  <a:pt x="134" y="179"/>
                </a:lnTo>
                <a:lnTo>
                  <a:pt x="130" y="157"/>
                </a:lnTo>
                <a:lnTo>
                  <a:pt x="125" y="137"/>
                </a:lnTo>
                <a:lnTo>
                  <a:pt x="120" y="118"/>
                </a:lnTo>
                <a:lnTo>
                  <a:pt x="114" y="99"/>
                </a:lnTo>
                <a:lnTo>
                  <a:pt x="107" y="82"/>
                </a:lnTo>
                <a:lnTo>
                  <a:pt x="98" y="66"/>
                </a:lnTo>
                <a:lnTo>
                  <a:pt x="88" y="52"/>
                </a:lnTo>
                <a:lnTo>
                  <a:pt x="78" y="39"/>
                </a:lnTo>
                <a:lnTo>
                  <a:pt x="66" y="27"/>
                </a:lnTo>
                <a:lnTo>
                  <a:pt x="54" y="18"/>
                </a:lnTo>
                <a:lnTo>
                  <a:pt x="42" y="10"/>
                </a:lnTo>
                <a:lnTo>
                  <a:pt x="29" y="5"/>
                </a:lnTo>
                <a:lnTo>
                  <a:pt x="15" y="0"/>
                </a:lnTo>
                <a:lnTo>
                  <a:pt x="0" y="0"/>
                </a:lnTo>
                <a:lnTo>
                  <a:pt x="0" y="11"/>
                </a:lnTo>
                <a:lnTo>
                  <a:pt x="14" y="13"/>
                </a:lnTo>
                <a:lnTo>
                  <a:pt x="26" y="15"/>
                </a:lnTo>
                <a:lnTo>
                  <a:pt x="36" y="20"/>
                </a:lnTo>
                <a:lnTo>
                  <a:pt x="48" y="27"/>
                </a:lnTo>
                <a:lnTo>
                  <a:pt x="58" y="37"/>
                </a:lnTo>
                <a:lnTo>
                  <a:pt x="68" y="47"/>
                </a:lnTo>
                <a:lnTo>
                  <a:pt x="78" y="59"/>
                </a:lnTo>
                <a:lnTo>
                  <a:pt x="86" y="72"/>
                </a:lnTo>
                <a:lnTo>
                  <a:pt x="95" y="88"/>
                </a:lnTo>
                <a:lnTo>
                  <a:pt x="102" y="104"/>
                </a:lnTo>
                <a:lnTo>
                  <a:pt x="108" y="121"/>
                </a:lnTo>
                <a:lnTo>
                  <a:pt x="114" y="140"/>
                </a:lnTo>
                <a:lnTo>
                  <a:pt x="119" y="160"/>
                </a:lnTo>
                <a:lnTo>
                  <a:pt x="122" y="181"/>
                </a:lnTo>
                <a:lnTo>
                  <a:pt x="124" y="201"/>
                </a:lnTo>
                <a:lnTo>
                  <a:pt x="124" y="223"/>
                </a:lnTo>
                <a:lnTo>
                  <a:pt x="136" y="22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77"/>
          <p:cNvSpPr/>
          <p:nvPr/>
        </p:nvSpPr>
        <p:spPr>
          <a:xfrm>
            <a:off x="8385120" y="4629240"/>
            <a:ext cx="216000" cy="3571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6" h="225">
                <a:moveTo>
                  <a:pt x="0" y="225"/>
                </a:moveTo>
                <a:lnTo>
                  <a:pt x="15" y="223"/>
                </a:lnTo>
                <a:lnTo>
                  <a:pt x="29" y="220"/>
                </a:lnTo>
                <a:lnTo>
                  <a:pt x="42" y="213"/>
                </a:lnTo>
                <a:lnTo>
                  <a:pt x="54" y="206"/>
                </a:lnTo>
                <a:lnTo>
                  <a:pt x="66" y="196"/>
                </a:lnTo>
                <a:lnTo>
                  <a:pt x="78" y="184"/>
                </a:lnTo>
                <a:lnTo>
                  <a:pt x="88" y="172"/>
                </a:lnTo>
                <a:lnTo>
                  <a:pt x="98" y="157"/>
                </a:lnTo>
                <a:lnTo>
                  <a:pt x="107" y="142"/>
                </a:lnTo>
                <a:lnTo>
                  <a:pt x="114" y="123"/>
                </a:lnTo>
                <a:lnTo>
                  <a:pt x="120" y="106"/>
                </a:lnTo>
                <a:lnTo>
                  <a:pt x="125" y="86"/>
                </a:lnTo>
                <a:lnTo>
                  <a:pt x="130" y="66"/>
                </a:lnTo>
                <a:lnTo>
                  <a:pt x="134" y="44"/>
                </a:lnTo>
                <a:lnTo>
                  <a:pt x="136" y="22"/>
                </a:lnTo>
                <a:lnTo>
                  <a:pt x="136" y="0"/>
                </a:lnTo>
                <a:lnTo>
                  <a:pt x="124" y="0"/>
                </a:lnTo>
                <a:lnTo>
                  <a:pt x="124" y="22"/>
                </a:lnTo>
                <a:lnTo>
                  <a:pt x="122" y="44"/>
                </a:lnTo>
                <a:lnTo>
                  <a:pt x="119" y="64"/>
                </a:lnTo>
                <a:lnTo>
                  <a:pt x="114" y="83"/>
                </a:lnTo>
                <a:lnTo>
                  <a:pt x="108" y="101"/>
                </a:lnTo>
                <a:lnTo>
                  <a:pt x="102" y="120"/>
                </a:lnTo>
                <a:lnTo>
                  <a:pt x="95" y="135"/>
                </a:lnTo>
                <a:lnTo>
                  <a:pt x="86" y="150"/>
                </a:lnTo>
                <a:lnTo>
                  <a:pt x="78" y="164"/>
                </a:lnTo>
                <a:lnTo>
                  <a:pt x="68" y="178"/>
                </a:lnTo>
                <a:lnTo>
                  <a:pt x="58" y="188"/>
                </a:lnTo>
                <a:lnTo>
                  <a:pt x="48" y="196"/>
                </a:lnTo>
                <a:lnTo>
                  <a:pt x="36" y="203"/>
                </a:lnTo>
                <a:lnTo>
                  <a:pt x="26" y="208"/>
                </a:lnTo>
                <a:lnTo>
                  <a:pt x="14" y="211"/>
                </a:lnTo>
                <a:lnTo>
                  <a:pt x="0" y="211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78"/>
          <p:cNvSpPr/>
          <p:nvPr/>
        </p:nvSpPr>
        <p:spPr>
          <a:xfrm>
            <a:off x="8170920" y="4629240"/>
            <a:ext cx="214200" cy="357120"/>
          </a:xfrm>
          <a:custGeom>
            <a:avLst/>
            <a:gdLst>
              <a:gd name="textAreaLeft" fmla="*/ 0 w 214200"/>
              <a:gd name="textAreaRight" fmla="*/ 214560 w 2142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225">
                <a:moveTo>
                  <a:pt x="0" y="0"/>
                </a:moveTo>
                <a:lnTo>
                  <a:pt x="1" y="22"/>
                </a:lnTo>
                <a:lnTo>
                  <a:pt x="3" y="44"/>
                </a:lnTo>
                <a:lnTo>
                  <a:pt x="7" y="66"/>
                </a:lnTo>
                <a:lnTo>
                  <a:pt x="10" y="86"/>
                </a:lnTo>
                <a:lnTo>
                  <a:pt x="17" y="106"/>
                </a:lnTo>
                <a:lnTo>
                  <a:pt x="23" y="123"/>
                </a:lnTo>
                <a:lnTo>
                  <a:pt x="30" y="142"/>
                </a:lnTo>
                <a:lnTo>
                  <a:pt x="39" y="157"/>
                </a:lnTo>
                <a:lnTo>
                  <a:pt x="49" y="172"/>
                </a:lnTo>
                <a:lnTo>
                  <a:pt x="59" y="184"/>
                </a:lnTo>
                <a:lnTo>
                  <a:pt x="71" y="196"/>
                </a:lnTo>
                <a:lnTo>
                  <a:pt x="83" y="206"/>
                </a:lnTo>
                <a:lnTo>
                  <a:pt x="95" y="213"/>
                </a:lnTo>
                <a:lnTo>
                  <a:pt x="108" y="220"/>
                </a:lnTo>
                <a:lnTo>
                  <a:pt x="122" y="223"/>
                </a:lnTo>
                <a:lnTo>
                  <a:pt x="135" y="225"/>
                </a:lnTo>
                <a:lnTo>
                  <a:pt x="135" y="211"/>
                </a:lnTo>
                <a:lnTo>
                  <a:pt x="123" y="211"/>
                </a:lnTo>
                <a:lnTo>
                  <a:pt x="111" y="208"/>
                </a:lnTo>
                <a:lnTo>
                  <a:pt x="100" y="203"/>
                </a:lnTo>
                <a:lnTo>
                  <a:pt x="89" y="196"/>
                </a:lnTo>
                <a:lnTo>
                  <a:pt x="78" y="188"/>
                </a:lnTo>
                <a:lnTo>
                  <a:pt x="67" y="178"/>
                </a:lnTo>
                <a:lnTo>
                  <a:pt x="59" y="164"/>
                </a:lnTo>
                <a:lnTo>
                  <a:pt x="49" y="150"/>
                </a:lnTo>
                <a:lnTo>
                  <a:pt x="42" y="135"/>
                </a:lnTo>
                <a:lnTo>
                  <a:pt x="34" y="120"/>
                </a:lnTo>
                <a:lnTo>
                  <a:pt x="29" y="101"/>
                </a:lnTo>
                <a:lnTo>
                  <a:pt x="22" y="83"/>
                </a:lnTo>
                <a:lnTo>
                  <a:pt x="18" y="64"/>
                </a:lnTo>
                <a:lnTo>
                  <a:pt x="15" y="44"/>
                </a:lnTo>
                <a:lnTo>
                  <a:pt x="13" y="2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9"/>
          <p:cNvSpPr/>
          <p:nvPr/>
        </p:nvSpPr>
        <p:spPr>
          <a:xfrm>
            <a:off x="8170920" y="4275000"/>
            <a:ext cx="214200" cy="354240"/>
          </a:xfrm>
          <a:custGeom>
            <a:avLst/>
            <a:gdLst>
              <a:gd name="textAreaLeft" fmla="*/ 0 w 214200"/>
              <a:gd name="textAreaRight" fmla="*/ 214560 w 21420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135" h="223">
                <a:moveTo>
                  <a:pt x="135" y="0"/>
                </a:moveTo>
                <a:lnTo>
                  <a:pt x="122" y="0"/>
                </a:lnTo>
                <a:lnTo>
                  <a:pt x="108" y="5"/>
                </a:lnTo>
                <a:lnTo>
                  <a:pt x="95" y="10"/>
                </a:lnTo>
                <a:lnTo>
                  <a:pt x="83" y="18"/>
                </a:lnTo>
                <a:lnTo>
                  <a:pt x="71" y="27"/>
                </a:lnTo>
                <a:lnTo>
                  <a:pt x="59" y="39"/>
                </a:lnTo>
                <a:lnTo>
                  <a:pt x="49" y="52"/>
                </a:lnTo>
                <a:lnTo>
                  <a:pt x="39" y="66"/>
                </a:lnTo>
                <a:lnTo>
                  <a:pt x="30" y="82"/>
                </a:lnTo>
                <a:lnTo>
                  <a:pt x="23" y="99"/>
                </a:lnTo>
                <a:lnTo>
                  <a:pt x="17" y="118"/>
                </a:lnTo>
                <a:lnTo>
                  <a:pt x="10" y="137"/>
                </a:lnTo>
                <a:lnTo>
                  <a:pt x="7" y="157"/>
                </a:lnTo>
                <a:lnTo>
                  <a:pt x="3" y="179"/>
                </a:lnTo>
                <a:lnTo>
                  <a:pt x="1" y="201"/>
                </a:lnTo>
                <a:lnTo>
                  <a:pt x="0" y="223"/>
                </a:lnTo>
                <a:lnTo>
                  <a:pt x="12" y="223"/>
                </a:lnTo>
                <a:lnTo>
                  <a:pt x="13" y="201"/>
                </a:lnTo>
                <a:lnTo>
                  <a:pt x="15" y="181"/>
                </a:lnTo>
                <a:lnTo>
                  <a:pt x="18" y="160"/>
                </a:lnTo>
                <a:lnTo>
                  <a:pt x="22" y="140"/>
                </a:lnTo>
                <a:lnTo>
                  <a:pt x="29" y="121"/>
                </a:lnTo>
                <a:lnTo>
                  <a:pt x="34" y="104"/>
                </a:lnTo>
                <a:lnTo>
                  <a:pt x="42" y="88"/>
                </a:lnTo>
                <a:lnTo>
                  <a:pt x="49" y="72"/>
                </a:lnTo>
                <a:lnTo>
                  <a:pt x="59" y="59"/>
                </a:lnTo>
                <a:lnTo>
                  <a:pt x="67" y="47"/>
                </a:lnTo>
                <a:lnTo>
                  <a:pt x="78" y="37"/>
                </a:lnTo>
                <a:lnTo>
                  <a:pt x="89" y="27"/>
                </a:lnTo>
                <a:lnTo>
                  <a:pt x="100" y="20"/>
                </a:lnTo>
                <a:lnTo>
                  <a:pt x="111" y="15"/>
                </a:lnTo>
                <a:lnTo>
                  <a:pt x="123" y="13"/>
                </a:lnTo>
                <a:lnTo>
                  <a:pt x="135" y="11"/>
                </a:lnTo>
                <a:lnTo>
                  <a:pt x="135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80"/>
          <p:cNvSpPr/>
          <p:nvPr/>
        </p:nvSpPr>
        <p:spPr>
          <a:xfrm>
            <a:off x="6732720" y="4925880"/>
            <a:ext cx="147600" cy="155880"/>
          </a:xfrm>
          <a:custGeom>
            <a:avLst/>
            <a:gdLst>
              <a:gd name="textAreaLeft" fmla="*/ 0 w 147600"/>
              <a:gd name="textAreaRight" fmla="*/ 147600 w 14760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93" h="98">
                <a:moveTo>
                  <a:pt x="93" y="98"/>
                </a:moveTo>
                <a:lnTo>
                  <a:pt x="91" y="88"/>
                </a:lnTo>
                <a:lnTo>
                  <a:pt x="91" y="78"/>
                </a:lnTo>
                <a:lnTo>
                  <a:pt x="88" y="69"/>
                </a:lnTo>
                <a:lnTo>
                  <a:pt x="85" y="59"/>
                </a:lnTo>
                <a:lnTo>
                  <a:pt x="76" y="44"/>
                </a:lnTo>
                <a:lnTo>
                  <a:pt x="66" y="29"/>
                </a:lnTo>
                <a:lnTo>
                  <a:pt x="52" y="17"/>
                </a:lnTo>
                <a:lnTo>
                  <a:pt x="37" y="8"/>
                </a:lnTo>
                <a:lnTo>
                  <a:pt x="27" y="5"/>
                </a:lnTo>
                <a:lnTo>
                  <a:pt x="19" y="2"/>
                </a:lnTo>
                <a:lnTo>
                  <a:pt x="10" y="0"/>
                </a:lnTo>
                <a:lnTo>
                  <a:pt x="0" y="0"/>
                </a:lnTo>
                <a:lnTo>
                  <a:pt x="0" y="12"/>
                </a:lnTo>
                <a:lnTo>
                  <a:pt x="8" y="12"/>
                </a:lnTo>
                <a:lnTo>
                  <a:pt x="17" y="13"/>
                </a:lnTo>
                <a:lnTo>
                  <a:pt x="24" y="15"/>
                </a:lnTo>
                <a:lnTo>
                  <a:pt x="30" y="19"/>
                </a:lnTo>
                <a:lnTo>
                  <a:pt x="46" y="27"/>
                </a:lnTo>
                <a:lnTo>
                  <a:pt x="57" y="37"/>
                </a:lnTo>
                <a:lnTo>
                  <a:pt x="66" y="49"/>
                </a:lnTo>
                <a:lnTo>
                  <a:pt x="74" y="64"/>
                </a:lnTo>
                <a:lnTo>
                  <a:pt x="76" y="73"/>
                </a:lnTo>
                <a:lnTo>
                  <a:pt x="79" y="81"/>
                </a:lnTo>
                <a:lnTo>
                  <a:pt x="79" y="90"/>
                </a:lnTo>
                <a:lnTo>
                  <a:pt x="81" y="98"/>
                </a:lnTo>
                <a:lnTo>
                  <a:pt x="93" y="9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81"/>
          <p:cNvSpPr/>
          <p:nvPr/>
        </p:nvSpPr>
        <p:spPr>
          <a:xfrm>
            <a:off x="6732720" y="5081760"/>
            <a:ext cx="147600" cy="155520"/>
          </a:xfrm>
          <a:custGeom>
            <a:avLst/>
            <a:gdLst>
              <a:gd name="textAreaLeft" fmla="*/ 0 w 147600"/>
              <a:gd name="textAreaRight" fmla="*/ 147600 w 147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3" h="98">
                <a:moveTo>
                  <a:pt x="0" y="98"/>
                </a:moveTo>
                <a:lnTo>
                  <a:pt x="10" y="96"/>
                </a:lnTo>
                <a:lnTo>
                  <a:pt x="19" y="96"/>
                </a:lnTo>
                <a:lnTo>
                  <a:pt x="27" y="93"/>
                </a:lnTo>
                <a:lnTo>
                  <a:pt x="37" y="90"/>
                </a:lnTo>
                <a:lnTo>
                  <a:pt x="52" y="81"/>
                </a:lnTo>
                <a:lnTo>
                  <a:pt x="66" y="69"/>
                </a:lnTo>
                <a:lnTo>
                  <a:pt x="76" y="54"/>
                </a:lnTo>
                <a:lnTo>
                  <a:pt x="85" y="37"/>
                </a:lnTo>
                <a:lnTo>
                  <a:pt x="88" y="29"/>
                </a:lnTo>
                <a:lnTo>
                  <a:pt x="91" y="19"/>
                </a:lnTo>
                <a:lnTo>
                  <a:pt x="91" y="10"/>
                </a:lnTo>
                <a:lnTo>
                  <a:pt x="93" y="0"/>
                </a:lnTo>
                <a:lnTo>
                  <a:pt x="81" y="0"/>
                </a:lnTo>
                <a:lnTo>
                  <a:pt x="79" y="9"/>
                </a:lnTo>
                <a:lnTo>
                  <a:pt x="79" y="17"/>
                </a:lnTo>
                <a:lnTo>
                  <a:pt x="76" y="25"/>
                </a:lnTo>
                <a:lnTo>
                  <a:pt x="74" y="32"/>
                </a:lnTo>
                <a:lnTo>
                  <a:pt x="66" y="47"/>
                </a:lnTo>
                <a:lnTo>
                  <a:pt x="57" y="61"/>
                </a:lnTo>
                <a:lnTo>
                  <a:pt x="46" y="71"/>
                </a:lnTo>
                <a:lnTo>
                  <a:pt x="30" y="80"/>
                </a:lnTo>
                <a:lnTo>
                  <a:pt x="24" y="81"/>
                </a:lnTo>
                <a:lnTo>
                  <a:pt x="17" y="85"/>
                </a:lnTo>
                <a:lnTo>
                  <a:pt x="8" y="85"/>
                </a:lnTo>
                <a:lnTo>
                  <a:pt x="0" y="86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2"/>
          <p:cNvSpPr/>
          <p:nvPr/>
        </p:nvSpPr>
        <p:spPr>
          <a:xfrm>
            <a:off x="6588000" y="5081760"/>
            <a:ext cx="144720" cy="155520"/>
          </a:xfrm>
          <a:custGeom>
            <a:avLst/>
            <a:gdLst>
              <a:gd name="textAreaLeft" fmla="*/ 0 w 144720"/>
              <a:gd name="textAreaRight" fmla="*/ 145080 w 1447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1" h="98">
                <a:moveTo>
                  <a:pt x="0" y="0"/>
                </a:moveTo>
                <a:lnTo>
                  <a:pt x="0" y="10"/>
                </a:lnTo>
                <a:lnTo>
                  <a:pt x="1" y="19"/>
                </a:lnTo>
                <a:lnTo>
                  <a:pt x="3" y="29"/>
                </a:lnTo>
                <a:lnTo>
                  <a:pt x="6" y="37"/>
                </a:lnTo>
                <a:lnTo>
                  <a:pt x="15" y="54"/>
                </a:lnTo>
                <a:lnTo>
                  <a:pt x="27" y="69"/>
                </a:lnTo>
                <a:lnTo>
                  <a:pt x="40" y="81"/>
                </a:lnTo>
                <a:lnTo>
                  <a:pt x="55" y="90"/>
                </a:lnTo>
                <a:lnTo>
                  <a:pt x="64" y="93"/>
                </a:lnTo>
                <a:lnTo>
                  <a:pt x="72" y="96"/>
                </a:lnTo>
                <a:lnTo>
                  <a:pt x="83" y="96"/>
                </a:lnTo>
                <a:lnTo>
                  <a:pt x="91" y="98"/>
                </a:lnTo>
                <a:lnTo>
                  <a:pt x="91" y="86"/>
                </a:lnTo>
                <a:lnTo>
                  <a:pt x="83" y="85"/>
                </a:lnTo>
                <a:lnTo>
                  <a:pt x="76" y="85"/>
                </a:lnTo>
                <a:lnTo>
                  <a:pt x="67" y="81"/>
                </a:lnTo>
                <a:lnTo>
                  <a:pt x="61" y="80"/>
                </a:lnTo>
                <a:lnTo>
                  <a:pt x="47" y="71"/>
                </a:lnTo>
                <a:lnTo>
                  <a:pt x="35" y="61"/>
                </a:lnTo>
                <a:lnTo>
                  <a:pt x="25" y="47"/>
                </a:lnTo>
                <a:lnTo>
                  <a:pt x="18" y="32"/>
                </a:lnTo>
                <a:lnTo>
                  <a:pt x="15" y="25"/>
                </a:lnTo>
                <a:lnTo>
                  <a:pt x="13" y="17"/>
                </a:lnTo>
                <a:lnTo>
                  <a:pt x="11" y="9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83"/>
          <p:cNvSpPr/>
          <p:nvPr/>
        </p:nvSpPr>
        <p:spPr>
          <a:xfrm>
            <a:off x="6588000" y="4925880"/>
            <a:ext cx="144720" cy="155880"/>
          </a:xfrm>
          <a:custGeom>
            <a:avLst/>
            <a:gdLst>
              <a:gd name="textAreaLeft" fmla="*/ 0 w 144720"/>
              <a:gd name="textAreaRight" fmla="*/ 145080 w 14472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91" h="98">
                <a:moveTo>
                  <a:pt x="91" y="0"/>
                </a:moveTo>
                <a:lnTo>
                  <a:pt x="83" y="0"/>
                </a:lnTo>
                <a:lnTo>
                  <a:pt x="72" y="2"/>
                </a:lnTo>
                <a:lnTo>
                  <a:pt x="64" y="5"/>
                </a:lnTo>
                <a:lnTo>
                  <a:pt x="55" y="8"/>
                </a:lnTo>
                <a:lnTo>
                  <a:pt x="40" y="17"/>
                </a:lnTo>
                <a:lnTo>
                  <a:pt x="27" y="29"/>
                </a:lnTo>
                <a:lnTo>
                  <a:pt x="15" y="44"/>
                </a:lnTo>
                <a:lnTo>
                  <a:pt x="6" y="59"/>
                </a:lnTo>
                <a:lnTo>
                  <a:pt x="3" y="69"/>
                </a:lnTo>
                <a:lnTo>
                  <a:pt x="1" y="78"/>
                </a:lnTo>
                <a:lnTo>
                  <a:pt x="0" y="88"/>
                </a:lnTo>
                <a:lnTo>
                  <a:pt x="0" y="98"/>
                </a:lnTo>
                <a:lnTo>
                  <a:pt x="11" y="98"/>
                </a:lnTo>
                <a:lnTo>
                  <a:pt x="11" y="90"/>
                </a:lnTo>
                <a:lnTo>
                  <a:pt x="13" y="81"/>
                </a:lnTo>
                <a:lnTo>
                  <a:pt x="15" y="73"/>
                </a:lnTo>
                <a:lnTo>
                  <a:pt x="18" y="64"/>
                </a:lnTo>
                <a:lnTo>
                  <a:pt x="25" y="49"/>
                </a:lnTo>
                <a:lnTo>
                  <a:pt x="35" y="37"/>
                </a:lnTo>
                <a:lnTo>
                  <a:pt x="47" y="27"/>
                </a:lnTo>
                <a:lnTo>
                  <a:pt x="61" y="19"/>
                </a:lnTo>
                <a:lnTo>
                  <a:pt x="67" y="15"/>
                </a:lnTo>
                <a:lnTo>
                  <a:pt x="76" y="13"/>
                </a:lnTo>
                <a:lnTo>
                  <a:pt x="83" y="12"/>
                </a:lnTo>
                <a:lnTo>
                  <a:pt x="91" y="12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84"/>
          <p:cNvSpPr/>
          <p:nvPr/>
        </p:nvSpPr>
        <p:spPr>
          <a:xfrm>
            <a:off x="6183360" y="5408640"/>
            <a:ext cx="15840" cy="314280"/>
          </a:xfrm>
          <a:custGeom>
            <a:avLst/>
            <a:gdLst>
              <a:gd name="textAreaLeft" fmla="*/ 0 w 15840"/>
              <a:gd name="textAreaRight" fmla="*/ 16200 w 15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0" h="198">
                <a:moveTo>
                  <a:pt x="5" y="188"/>
                </a:moveTo>
                <a:lnTo>
                  <a:pt x="10" y="193"/>
                </a:lnTo>
                <a:lnTo>
                  <a:pt x="10" y="0"/>
                </a:lnTo>
                <a:lnTo>
                  <a:pt x="0" y="0"/>
                </a:lnTo>
                <a:lnTo>
                  <a:pt x="0" y="193"/>
                </a:lnTo>
                <a:lnTo>
                  <a:pt x="5" y="198"/>
                </a:lnTo>
                <a:lnTo>
                  <a:pt x="0" y="193"/>
                </a:lnTo>
                <a:lnTo>
                  <a:pt x="0" y="198"/>
                </a:lnTo>
                <a:lnTo>
                  <a:pt x="5" y="198"/>
                </a:lnTo>
                <a:lnTo>
                  <a:pt x="5" y="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85"/>
          <p:cNvSpPr/>
          <p:nvPr/>
        </p:nvSpPr>
        <p:spPr>
          <a:xfrm>
            <a:off x="6191280" y="5707080"/>
            <a:ext cx="133200" cy="15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4" h="10">
                <a:moveTo>
                  <a:pt x="84" y="5"/>
                </a:moveTo>
                <a:lnTo>
                  <a:pt x="84" y="0"/>
                </a:lnTo>
                <a:lnTo>
                  <a:pt x="0" y="0"/>
                </a:lnTo>
                <a:lnTo>
                  <a:pt x="0" y="10"/>
                </a:lnTo>
                <a:lnTo>
                  <a:pt x="84" y="10"/>
                </a:lnTo>
                <a:lnTo>
                  <a:pt x="8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86"/>
          <p:cNvSpPr/>
          <p:nvPr/>
        </p:nvSpPr>
        <p:spPr>
          <a:xfrm>
            <a:off x="6319800" y="5665680"/>
            <a:ext cx="98640" cy="96840"/>
          </a:xfrm>
          <a:custGeom>
            <a:avLst/>
            <a:gdLst>
              <a:gd name="textAreaLeft" fmla="*/ 0 w 98640"/>
              <a:gd name="textAreaRight" fmla="*/ 99000 w 986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2" h="61">
                <a:moveTo>
                  <a:pt x="62" y="31"/>
                </a:moveTo>
                <a:lnTo>
                  <a:pt x="0" y="0"/>
                </a:lnTo>
                <a:lnTo>
                  <a:pt x="0" y="61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87"/>
          <p:cNvSpPr/>
          <p:nvPr/>
        </p:nvSpPr>
        <p:spPr>
          <a:xfrm>
            <a:off x="7570800" y="5403960"/>
            <a:ext cx="17280" cy="318960"/>
          </a:xfrm>
          <a:custGeom>
            <a:avLst/>
            <a:gdLst>
              <a:gd name="textAreaLeft" fmla="*/ 0 w 17280"/>
              <a:gd name="textAreaRight" fmla="*/ 17280 w 17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1" h="201">
                <a:moveTo>
                  <a:pt x="5" y="201"/>
                </a:moveTo>
                <a:lnTo>
                  <a:pt x="11" y="196"/>
                </a:lnTo>
                <a:lnTo>
                  <a:pt x="11" y="0"/>
                </a:lnTo>
                <a:lnTo>
                  <a:pt x="0" y="0"/>
                </a:lnTo>
                <a:lnTo>
                  <a:pt x="0" y="196"/>
                </a:lnTo>
                <a:lnTo>
                  <a:pt x="5" y="191"/>
                </a:lnTo>
                <a:lnTo>
                  <a:pt x="5" y="201"/>
                </a:lnTo>
                <a:lnTo>
                  <a:pt x="11" y="201"/>
                </a:lnTo>
                <a:lnTo>
                  <a:pt x="11" y="196"/>
                </a:lnTo>
                <a:lnTo>
                  <a:pt x="5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8"/>
          <p:cNvSpPr/>
          <p:nvPr/>
        </p:nvSpPr>
        <p:spPr>
          <a:xfrm>
            <a:off x="7439040" y="5707080"/>
            <a:ext cx="139680" cy="15840"/>
          </a:xfrm>
          <a:custGeom>
            <a:avLst/>
            <a:gdLst>
              <a:gd name="textAreaLeft" fmla="*/ 0 w 139680"/>
              <a:gd name="textAreaRight" fmla="*/ 140040 w 139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8" h="10">
                <a:moveTo>
                  <a:pt x="0" y="5"/>
                </a:moveTo>
                <a:lnTo>
                  <a:pt x="0" y="10"/>
                </a:lnTo>
                <a:lnTo>
                  <a:pt x="88" y="10"/>
                </a:lnTo>
                <a:lnTo>
                  <a:pt x="88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89"/>
          <p:cNvSpPr/>
          <p:nvPr/>
        </p:nvSpPr>
        <p:spPr>
          <a:xfrm>
            <a:off x="7348680" y="566424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1" h="62">
                <a:moveTo>
                  <a:pt x="0" y="32"/>
                </a:moveTo>
                <a:lnTo>
                  <a:pt x="61" y="62"/>
                </a:lnTo>
                <a:lnTo>
                  <a:pt x="61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0"/>
          <p:cNvSpPr/>
          <p:nvPr/>
        </p:nvSpPr>
        <p:spPr>
          <a:xfrm flipH="1" flipV="1">
            <a:off x="6857640" y="1817280"/>
            <a:ext cx="70956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1"/>
          <p:cNvSpPr/>
          <p:nvPr/>
        </p:nvSpPr>
        <p:spPr>
          <a:xfrm flipH="1" flipV="1">
            <a:off x="4965840" y="2732040"/>
            <a:ext cx="1217520" cy="51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2"/>
          <p:cNvSpPr/>
          <p:nvPr/>
        </p:nvSpPr>
        <p:spPr>
          <a:xfrm flipH="1" flipV="1">
            <a:off x="5918040" y="2273040"/>
            <a:ext cx="711360" cy="71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3"/>
          <p:cNvSpPr/>
          <p:nvPr/>
        </p:nvSpPr>
        <p:spPr>
          <a:xfrm>
            <a:off x="5137200" y="3567240"/>
            <a:ext cx="0" cy="18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4"/>
          <p:cNvSpPr/>
          <p:nvPr/>
        </p:nvSpPr>
        <p:spPr>
          <a:xfrm>
            <a:off x="8370720" y="2643120"/>
            <a:ext cx="0" cy="1614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95"/>
          <p:cNvSpPr/>
          <p:nvPr/>
        </p:nvSpPr>
        <p:spPr>
          <a:xfrm>
            <a:off x="7101000" y="2975040"/>
            <a:ext cx="0" cy="174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96"/>
          <p:cNvSpPr/>
          <p:nvPr/>
        </p:nvSpPr>
        <p:spPr>
          <a:xfrm>
            <a:off x="6408720" y="3278160"/>
            <a:ext cx="0" cy="185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7"/>
          <p:cNvSpPr/>
          <p:nvPr/>
        </p:nvSpPr>
        <p:spPr>
          <a:xfrm>
            <a:off x="6713640" y="3105000"/>
            <a:ext cx="0" cy="181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8"/>
          <p:cNvSpPr/>
          <p:nvPr/>
        </p:nvSpPr>
        <p:spPr>
          <a:xfrm>
            <a:off x="6380280" y="5427720"/>
            <a:ext cx="1093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nst BT"/>
              </a:rPr>
              <a:t>Intervalo de Stü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9"/>
          <p:cNvSpPr/>
          <p:nvPr/>
        </p:nvSpPr>
        <p:spPr>
          <a:xfrm flipV="1">
            <a:off x="1612800" y="2349000"/>
            <a:ext cx="7720200" cy="22352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0"/>
          <p:cNvSpPr/>
          <p:nvPr/>
        </p:nvSpPr>
        <p:spPr>
          <a:xfrm flipV="1">
            <a:off x="1790640" y="4142880"/>
            <a:ext cx="2276640" cy="390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1"/>
          <p:cNvSpPr/>
          <p:nvPr/>
        </p:nvSpPr>
        <p:spPr>
          <a:xfrm flipV="1">
            <a:off x="1800360" y="3228840"/>
            <a:ext cx="1609560" cy="13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2"/>
          <p:cNvSpPr/>
          <p:nvPr/>
        </p:nvSpPr>
        <p:spPr>
          <a:xfrm flipH="1" flipV="1">
            <a:off x="1795320" y="4533840"/>
            <a:ext cx="177480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3"/>
          <p:cNvSpPr/>
          <p:nvPr/>
        </p:nvSpPr>
        <p:spPr>
          <a:xfrm flipH="1">
            <a:off x="1805040" y="3952800"/>
            <a:ext cx="1071360" cy="581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4"/>
          <p:cNvSpPr/>
          <p:nvPr/>
        </p:nvSpPr>
        <p:spPr>
          <a:xfrm flipH="1" flipV="1">
            <a:off x="2762280" y="3009960"/>
            <a:ext cx="581040" cy="58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5"/>
          <p:cNvSpPr/>
          <p:nvPr/>
        </p:nvSpPr>
        <p:spPr>
          <a:xfrm flipH="1" flipV="1">
            <a:off x="2629080" y="3457080"/>
            <a:ext cx="466560" cy="4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6"/>
          <p:cNvSpPr/>
          <p:nvPr/>
        </p:nvSpPr>
        <p:spPr>
          <a:xfrm>
            <a:off x="5958000" y="5300640"/>
            <a:ext cx="44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7"/>
          <p:cNvSpPr/>
          <p:nvPr/>
        </p:nvSpPr>
        <p:spPr>
          <a:xfrm flipV="1">
            <a:off x="7569360" y="4593960"/>
            <a:ext cx="1440" cy="38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08"/>
          <p:cNvSpPr/>
          <p:nvPr/>
        </p:nvSpPr>
        <p:spPr>
          <a:xfrm>
            <a:off x="6200640" y="5133960"/>
            <a:ext cx="401760" cy="123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9"/>
          <p:cNvSpPr/>
          <p:nvPr/>
        </p:nvSpPr>
        <p:spPr>
          <a:xfrm rot="16200000">
            <a:off x="6860160" y="4864320"/>
            <a:ext cx="489240" cy="185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4720" y="124920"/>
            <a:ext cx="91346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ALCULADO vs MEDID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22000" y="1271520"/>
            <a:ext cx="9474120" cy="481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descentrada ou inclin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tórica fora do eix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lex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dagem corneal e pressão da pálpeb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fração incorret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1546200" y="574560"/>
            <a:ext cx="7186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STIGMATISMO RESIDU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58720" y="182160"/>
            <a:ext cx="73278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85520" y="1213920"/>
            <a:ext cx="7234200" cy="514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ailey (1959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66% 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0.50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7% 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0.75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arver (1969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4% 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50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Yamamoto (1986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 lentes rígida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1.34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 lentes gelatinosas   0.61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1488960" y="606600"/>
            <a:ext cx="7186680" cy="57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INCIDÊNC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01240" y="32544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RESIDUAL PREVISTO (ARP)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71200" y="1128240"/>
            <a:ext cx="7234200" cy="514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visão baseada no cálculo do astigmatismo residual (ARC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arver (1969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P = 0.3 x ARC ± 0.50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llande (197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P = 0.5 x ARC ± 0.50 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1240" y="142920"/>
            <a:ext cx="10085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LEXÃO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69720" y="847440"/>
            <a:ext cx="9714240" cy="601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tes de contato RGP em córneas tó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em à flexão se espessura é adequ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am se são f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ão depend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riedades físicas do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ssura da l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ho da l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ão afe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GP e gelatin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Aft>
                <a:spcPts val="104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te lacrimal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penas RG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93800" y="220320"/>
            <a:ext cx="9091440" cy="5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LEXÃO LENTES RGP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38040" y="1300320"/>
            <a:ext cx="8329320" cy="514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x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3.00/-1.00 x 1.8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s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3.00 @ 1.8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5.00 @ 9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lente RGP se flexiona induzindo astigmatismo de +1.00 x 18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idua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Ocular - (Corneal+Flexã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-1.00 x 180 - ([-2.00 x 180]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+[+1.00 x 180]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793800" y="714240"/>
            <a:ext cx="909144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STIGMATISMO RESIDU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1008216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SOLVENDO CILINDROS CRUZADOS OBLÍQUO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26" name="Rectangle 2056"/>
          <p:cNvSpPr/>
          <p:nvPr/>
        </p:nvSpPr>
        <p:spPr>
          <a:xfrm>
            <a:off x="765000" y="1092240"/>
            <a:ext cx="909180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NSTRUÇÃO DE STOK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058"/>
          <p:cNvSpPr/>
          <p:nvPr/>
        </p:nvSpPr>
        <p:spPr>
          <a:xfrm>
            <a:off x="2514600" y="5184720"/>
            <a:ext cx="4010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59"/>
          <p:cNvSpPr/>
          <p:nvPr/>
        </p:nvSpPr>
        <p:spPr>
          <a:xfrm flipV="1">
            <a:off x="2520360" y="2259360"/>
            <a:ext cx="1673280" cy="289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060"/>
          <p:cNvSpPr/>
          <p:nvPr/>
        </p:nvSpPr>
        <p:spPr>
          <a:xfrm flipV="1">
            <a:off x="6517800" y="2259000"/>
            <a:ext cx="1672920" cy="28947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061"/>
          <p:cNvSpPr/>
          <p:nvPr/>
        </p:nvSpPr>
        <p:spPr>
          <a:xfrm>
            <a:off x="4175280" y="2287440"/>
            <a:ext cx="40100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63"/>
          <p:cNvSpPr/>
          <p:nvPr/>
        </p:nvSpPr>
        <p:spPr>
          <a:xfrm>
            <a:off x="4203720" y="5184720"/>
            <a:ext cx="30430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064"/>
          <p:cNvSpPr/>
          <p:nvPr/>
        </p:nvSpPr>
        <p:spPr>
          <a:xfrm flipV="1">
            <a:off x="2511360" y="2297160"/>
            <a:ext cx="5657760" cy="2884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065"/>
          <p:cNvSpPr/>
          <p:nvPr/>
        </p:nvSpPr>
        <p:spPr>
          <a:xfrm>
            <a:off x="2878200" y="32004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066"/>
          <p:cNvSpPr/>
          <p:nvPr/>
        </p:nvSpPr>
        <p:spPr>
          <a:xfrm>
            <a:off x="4819680" y="5307120"/>
            <a:ext cx="4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67"/>
          <p:cNvSpPr/>
          <p:nvPr/>
        </p:nvSpPr>
        <p:spPr>
          <a:xfrm rot="19895400">
            <a:off x="4495680" y="3327840"/>
            <a:ext cx="134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RESUL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068"/>
          <p:cNvSpPr/>
          <p:nvPr/>
        </p:nvSpPr>
        <p:spPr>
          <a:xfrm>
            <a:off x="2120760" y="508968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069"/>
          <p:cNvSpPr/>
          <p:nvPr/>
        </p:nvSpPr>
        <p:spPr>
          <a:xfrm>
            <a:off x="2971800" y="434016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070"/>
          <p:cNvSpPr/>
          <p:nvPr/>
        </p:nvSpPr>
        <p:spPr>
          <a:xfrm>
            <a:off x="3203640" y="465768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2075"/>
          <p:cNvGrpSpPr/>
          <p:nvPr/>
        </p:nvGrpSpPr>
        <p:grpSpPr>
          <a:xfrm>
            <a:off x="3490560" y="4628880"/>
            <a:ext cx="471600" cy="554760"/>
            <a:chOff x="3490560" y="4628880"/>
            <a:chExt cx="471600" cy="554760"/>
          </a:xfrm>
        </p:grpSpPr>
        <p:sp>
          <p:nvSpPr>
            <p:cNvPr id="640" name="Freeform 2076"/>
            <p:cNvSpPr/>
            <p:nvPr/>
          </p:nvSpPr>
          <p:spPr>
            <a:xfrm rot="1782600">
              <a:off x="3641040" y="4639320"/>
              <a:ext cx="57240" cy="52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52" h="48">
                  <a:moveTo>
                    <a:pt x="0" y="19"/>
                  </a:moveTo>
                  <a:lnTo>
                    <a:pt x="52" y="0"/>
                  </a:lnTo>
                  <a:lnTo>
                    <a:pt x="48" y="4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2077"/>
            <p:cNvSpPr/>
            <p:nvPr/>
          </p:nvSpPr>
          <p:spPr>
            <a:xfrm rot="1782600">
              <a:off x="3570120" y="4727880"/>
              <a:ext cx="312120" cy="40464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2" h="366">
                  <a:moveTo>
                    <a:pt x="0" y="0"/>
                  </a:moveTo>
                  <a:lnTo>
                    <a:pt x="29" y="5"/>
                  </a:lnTo>
                  <a:lnTo>
                    <a:pt x="57" y="11"/>
                  </a:lnTo>
                  <a:lnTo>
                    <a:pt x="84" y="23"/>
                  </a:lnTo>
                  <a:lnTo>
                    <a:pt x="111" y="34"/>
                  </a:lnTo>
                  <a:lnTo>
                    <a:pt x="136" y="50"/>
                  </a:lnTo>
                  <a:lnTo>
                    <a:pt x="159" y="65"/>
                  </a:lnTo>
                  <a:lnTo>
                    <a:pt x="180" y="84"/>
                  </a:lnTo>
                  <a:lnTo>
                    <a:pt x="202" y="105"/>
                  </a:lnTo>
                  <a:lnTo>
                    <a:pt x="219" y="126"/>
                  </a:lnTo>
                  <a:lnTo>
                    <a:pt x="234" y="151"/>
                  </a:lnTo>
                  <a:lnTo>
                    <a:pt x="250" y="176"/>
                  </a:lnTo>
                  <a:lnTo>
                    <a:pt x="261" y="201"/>
                  </a:lnTo>
                  <a:lnTo>
                    <a:pt x="271" y="230"/>
                  </a:lnTo>
                  <a:lnTo>
                    <a:pt x="277" y="259"/>
                  </a:lnTo>
                  <a:lnTo>
                    <a:pt x="280" y="288"/>
                  </a:lnTo>
                  <a:lnTo>
                    <a:pt x="282" y="316"/>
                  </a:lnTo>
                  <a:lnTo>
                    <a:pt x="282" y="324"/>
                  </a:lnTo>
                  <a:lnTo>
                    <a:pt x="282" y="330"/>
                  </a:lnTo>
                  <a:lnTo>
                    <a:pt x="282" y="336"/>
                  </a:lnTo>
                  <a:lnTo>
                    <a:pt x="282" y="343"/>
                  </a:lnTo>
                  <a:lnTo>
                    <a:pt x="280" y="349"/>
                  </a:lnTo>
                  <a:lnTo>
                    <a:pt x="280" y="355"/>
                  </a:lnTo>
                  <a:lnTo>
                    <a:pt x="280" y="361"/>
                  </a:lnTo>
                  <a:lnTo>
                    <a:pt x="279" y="366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2078"/>
          <p:cNvGrpSpPr/>
          <p:nvPr/>
        </p:nvGrpSpPr>
        <p:grpSpPr>
          <a:xfrm>
            <a:off x="6723000" y="4628880"/>
            <a:ext cx="471240" cy="554400"/>
            <a:chOff x="6723000" y="4628880"/>
            <a:chExt cx="471240" cy="554400"/>
          </a:xfrm>
        </p:grpSpPr>
        <p:sp>
          <p:nvSpPr>
            <p:cNvPr id="643" name="Freeform 2079"/>
            <p:cNvSpPr/>
            <p:nvPr/>
          </p:nvSpPr>
          <p:spPr>
            <a:xfrm rot="1782600">
              <a:off x="6873480" y="4639320"/>
              <a:ext cx="57240" cy="52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52" h="48">
                  <a:moveTo>
                    <a:pt x="0" y="19"/>
                  </a:moveTo>
                  <a:lnTo>
                    <a:pt x="52" y="0"/>
                  </a:lnTo>
                  <a:lnTo>
                    <a:pt x="48" y="4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080"/>
            <p:cNvSpPr/>
            <p:nvPr/>
          </p:nvSpPr>
          <p:spPr>
            <a:xfrm rot="1782600">
              <a:off x="6802560" y="4727880"/>
              <a:ext cx="311760" cy="4046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2" h="366">
                  <a:moveTo>
                    <a:pt x="0" y="0"/>
                  </a:moveTo>
                  <a:lnTo>
                    <a:pt x="29" y="5"/>
                  </a:lnTo>
                  <a:lnTo>
                    <a:pt x="57" y="11"/>
                  </a:lnTo>
                  <a:lnTo>
                    <a:pt x="84" y="23"/>
                  </a:lnTo>
                  <a:lnTo>
                    <a:pt x="111" y="34"/>
                  </a:lnTo>
                  <a:lnTo>
                    <a:pt x="136" y="50"/>
                  </a:lnTo>
                  <a:lnTo>
                    <a:pt x="159" y="65"/>
                  </a:lnTo>
                  <a:lnTo>
                    <a:pt x="180" y="84"/>
                  </a:lnTo>
                  <a:lnTo>
                    <a:pt x="202" y="105"/>
                  </a:lnTo>
                  <a:lnTo>
                    <a:pt x="219" y="126"/>
                  </a:lnTo>
                  <a:lnTo>
                    <a:pt x="234" y="151"/>
                  </a:lnTo>
                  <a:lnTo>
                    <a:pt x="250" y="176"/>
                  </a:lnTo>
                  <a:lnTo>
                    <a:pt x="261" y="201"/>
                  </a:lnTo>
                  <a:lnTo>
                    <a:pt x="271" y="230"/>
                  </a:lnTo>
                  <a:lnTo>
                    <a:pt x="277" y="259"/>
                  </a:lnTo>
                  <a:lnTo>
                    <a:pt x="280" y="288"/>
                  </a:lnTo>
                  <a:lnTo>
                    <a:pt x="282" y="316"/>
                  </a:lnTo>
                  <a:lnTo>
                    <a:pt x="282" y="324"/>
                  </a:lnTo>
                  <a:lnTo>
                    <a:pt x="282" y="330"/>
                  </a:lnTo>
                  <a:lnTo>
                    <a:pt x="282" y="336"/>
                  </a:lnTo>
                  <a:lnTo>
                    <a:pt x="282" y="343"/>
                  </a:lnTo>
                  <a:lnTo>
                    <a:pt x="280" y="349"/>
                  </a:lnTo>
                  <a:lnTo>
                    <a:pt x="280" y="355"/>
                  </a:lnTo>
                  <a:lnTo>
                    <a:pt x="280" y="361"/>
                  </a:lnTo>
                  <a:lnTo>
                    <a:pt x="279" y="366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 Box 2081"/>
          <p:cNvSpPr/>
          <p:nvPr/>
        </p:nvSpPr>
        <p:spPr>
          <a:xfrm>
            <a:off x="6608880" y="4802040"/>
            <a:ext cx="4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2089"/>
          <p:cNvGrpSpPr/>
          <p:nvPr/>
        </p:nvGrpSpPr>
        <p:grpSpPr>
          <a:xfrm>
            <a:off x="3132360" y="4036680"/>
            <a:ext cx="931680" cy="1145880"/>
            <a:chOff x="3132360" y="4036680"/>
            <a:chExt cx="931680" cy="1145880"/>
          </a:xfrm>
        </p:grpSpPr>
        <p:sp>
          <p:nvSpPr>
            <p:cNvPr id="647" name="Freeform 2086"/>
            <p:cNvSpPr/>
            <p:nvPr/>
          </p:nvSpPr>
          <p:spPr>
            <a:xfrm rot="542400">
              <a:off x="3250440" y="4040280"/>
              <a:ext cx="50400" cy="46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2" h="48">
                  <a:moveTo>
                    <a:pt x="0" y="19"/>
                  </a:moveTo>
                  <a:lnTo>
                    <a:pt x="52" y="0"/>
                  </a:lnTo>
                  <a:lnTo>
                    <a:pt x="48" y="4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087"/>
            <p:cNvSpPr/>
            <p:nvPr/>
          </p:nvSpPr>
          <p:spPr>
            <a:xfrm rot="542400">
              <a:off x="3206520" y="4115880"/>
              <a:ext cx="782640" cy="10112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82" h="366">
                  <a:moveTo>
                    <a:pt x="0" y="0"/>
                  </a:moveTo>
                  <a:lnTo>
                    <a:pt x="29" y="5"/>
                  </a:lnTo>
                  <a:lnTo>
                    <a:pt x="57" y="11"/>
                  </a:lnTo>
                  <a:lnTo>
                    <a:pt x="84" y="23"/>
                  </a:lnTo>
                  <a:lnTo>
                    <a:pt x="111" y="34"/>
                  </a:lnTo>
                  <a:lnTo>
                    <a:pt x="136" y="50"/>
                  </a:lnTo>
                  <a:lnTo>
                    <a:pt x="159" y="65"/>
                  </a:lnTo>
                  <a:lnTo>
                    <a:pt x="180" y="84"/>
                  </a:lnTo>
                  <a:lnTo>
                    <a:pt x="202" y="105"/>
                  </a:lnTo>
                  <a:lnTo>
                    <a:pt x="219" y="126"/>
                  </a:lnTo>
                  <a:lnTo>
                    <a:pt x="234" y="151"/>
                  </a:lnTo>
                  <a:lnTo>
                    <a:pt x="250" y="176"/>
                  </a:lnTo>
                  <a:lnTo>
                    <a:pt x="261" y="201"/>
                  </a:lnTo>
                  <a:lnTo>
                    <a:pt x="271" y="230"/>
                  </a:lnTo>
                  <a:lnTo>
                    <a:pt x="277" y="259"/>
                  </a:lnTo>
                  <a:lnTo>
                    <a:pt x="280" y="288"/>
                  </a:lnTo>
                  <a:lnTo>
                    <a:pt x="282" y="316"/>
                  </a:lnTo>
                  <a:lnTo>
                    <a:pt x="282" y="324"/>
                  </a:lnTo>
                  <a:lnTo>
                    <a:pt x="282" y="330"/>
                  </a:lnTo>
                  <a:lnTo>
                    <a:pt x="282" y="336"/>
                  </a:lnTo>
                  <a:lnTo>
                    <a:pt x="282" y="343"/>
                  </a:lnTo>
                  <a:lnTo>
                    <a:pt x="280" y="349"/>
                  </a:lnTo>
                  <a:lnTo>
                    <a:pt x="280" y="355"/>
                  </a:lnTo>
                  <a:lnTo>
                    <a:pt x="280" y="361"/>
                  </a:lnTo>
                  <a:lnTo>
                    <a:pt x="279" y="366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55840" y="254160"/>
            <a:ext cx="775008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SOLVENDO CILINDROS CRUZADOS OBLÍQUO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54" name="Rectangle 12"/>
          <p:cNvSpPr/>
          <p:nvPr/>
        </p:nvSpPr>
        <p:spPr>
          <a:xfrm>
            <a:off x="736560" y="1049400"/>
            <a:ext cx="909180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ILÍNDRICOS DE SINAIS OPOST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3"/>
          <p:cNvSpPr/>
          <p:nvPr/>
        </p:nvSpPr>
        <p:spPr>
          <a:xfrm>
            <a:off x="2616120" y="2554200"/>
            <a:ext cx="4010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4"/>
          <p:cNvSpPr/>
          <p:nvPr/>
        </p:nvSpPr>
        <p:spPr>
          <a:xfrm>
            <a:off x="2621880" y="2584800"/>
            <a:ext cx="1673280" cy="289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5"/>
          <p:cNvSpPr/>
          <p:nvPr/>
        </p:nvSpPr>
        <p:spPr>
          <a:xfrm>
            <a:off x="6619320" y="2584080"/>
            <a:ext cx="1672920" cy="28947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6"/>
          <p:cNvSpPr/>
          <p:nvPr/>
        </p:nvSpPr>
        <p:spPr>
          <a:xfrm>
            <a:off x="4276800" y="5451480"/>
            <a:ext cx="40100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7"/>
          <p:cNvSpPr/>
          <p:nvPr/>
        </p:nvSpPr>
        <p:spPr>
          <a:xfrm>
            <a:off x="4305240" y="2554200"/>
            <a:ext cx="30434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8"/>
          <p:cNvSpPr/>
          <p:nvPr/>
        </p:nvSpPr>
        <p:spPr>
          <a:xfrm>
            <a:off x="2612880" y="2557440"/>
            <a:ext cx="5658120" cy="2884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9"/>
          <p:cNvSpPr/>
          <p:nvPr/>
        </p:nvSpPr>
        <p:spPr>
          <a:xfrm>
            <a:off x="2979720" y="4141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0"/>
          <p:cNvSpPr/>
          <p:nvPr/>
        </p:nvSpPr>
        <p:spPr>
          <a:xfrm flipH="1">
            <a:off x="4920480" y="2035080"/>
            <a:ext cx="4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1"/>
          <p:cNvSpPr/>
          <p:nvPr/>
        </p:nvSpPr>
        <p:spPr>
          <a:xfrm flipH="1" rot="1704600">
            <a:off x="4806360" y="3503880"/>
            <a:ext cx="134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RESUL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2"/>
          <p:cNvSpPr/>
          <p:nvPr/>
        </p:nvSpPr>
        <p:spPr>
          <a:xfrm>
            <a:off x="2222640" y="2252520"/>
            <a:ext cx="4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3"/>
          <p:cNvSpPr/>
          <p:nvPr/>
        </p:nvSpPr>
        <p:spPr>
          <a:xfrm>
            <a:off x="3073320" y="300204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4"/>
          <p:cNvSpPr/>
          <p:nvPr/>
        </p:nvSpPr>
        <p:spPr>
          <a:xfrm>
            <a:off x="3305160" y="256716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25"/>
          <p:cNvGrpSpPr/>
          <p:nvPr/>
        </p:nvGrpSpPr>
        <p:grpSpPr>
          <a:xfrm>
            <a:off x="3592440" y="2555640"/>
            <a:ext cx="471240" cy="554400"/>
            <a:chOff x="3592440" y="2555640"/>
            <a:chExt cx="471240" cy="554400"/>
          </a:xfrm>
        </p:grpSpPr>
        <p:sp>
          <p:nvSpPr>
            <p:cNvPr id="668" name="Freeform 26"/>
            <p:cNvSpPr/>
            <p:nvPr/>
          </p:nvSpPr>
          <p:spPr>
            <a:xfrm flipV="1" rot="19817400">
              <a:off x="3742920" y="3046320"/>
              <a:ext cx="57240" cy="5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360 h 52560"/>
                <a:gd name="textAreaBottom" fmla="*/ 53280 h 52560"/>
              </a:gdLst>
              <a:ahLst/>
              <a:rect l="textAreaLeft" t="textAreaTop" r="textAreaRight" b="textAreaBottom"/>
              <a:pathLst>
                <a:path w="52" h="48">
                  <a:moveTo>
                    <a:pt x="0" y="19"/>
                  </a:moveTo>
                  <a:lnTo>
                    <a:pt x="52" y="0"/>
                  </a:lnTo>
                  <a:lnTo>
                    <a:pt x="48" y="4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7"/>
            <p:cNvSpPr/>
            <p:nvPr/>
          </p:nvSpPr>
          <p:spPr>
            <a:xfrm flipV="1" rot="19817400">
              <a:off x="3672000" y="2605680"/>
              <a:ext cx="311760" cy="4046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360 h 404640"/>
                <a:gd name="textAreaBottom" fmla="*/ 405360 h 404640"/>
              </a:gdLst>
              <a:ahLst/>
              <a:rect l="textAreaLeft" t="textAreaTop" r="textAreaRight" b="textAreaBottom"/>
              <a:pathLst>
                <a:path w="282" h="366">
                  <a:moveTo>
                    <a:pt x="0" y="0"/>
                  </a:moveTo>
                  <a:lnTo>
                    <a:pt x="29" y="5"/>
                  </a:lnTo>
                  <a:lnTo>
                    <a:pt x="57" y="11"/>
                  </a:lnTo>
                  <a:lnTo>
                    <a:pt x="84" y="23"/>
                  </a:lnTo>
                  <a:lnTo>
                    <a:pt x="111" y="34"/>
                  </a:lnTo>
                  <a:lnTo>
                    <a:pt x="136" y="50"/>
                  </a:lnTo>
                  <a:lnTo>
                    <a:pt x="159" y="65"/>
                  </a:lnTo>
                  <a:lnTo>
                    <a:pt x="180" y="84"/>
                  </a:lnTo>
                  <a:lnTo>
                    <a:pt x="202" y="105"/>
                  </a:lnTo>
                  <a:lnTo>
                    <a:pt x="219" y="126"/>
                  </a:lnTo>
                  <a:lnTo>
                    <a:pt x="234" y="151"/>
                  </a:lnTo>
                  <a:lnTo>
                    <a:pt x="250" y="176"/>
                  </a:lnTo>
                  <a:lnTo>
                    <a:pt x="261" y="201"/>
                  </a:lnTo>
                  <a:lnTo>
                    <a:pt x="271" y="230"/>
                  </a:lnTo>
                  <a:lnTo>
                    <a:pt x="277" y="259"/>
                  </a:lnTo>
                  <a:lnTo>
                    <a:pt x="280" y="288"/>
                  </a:lnTo>
                  <a:lnTo>
                    <a:pt x="282" y="316"/>
                  </a:lnTo>
                  <a:lnTo>
                    <a:pt x="282" y="324"/>
                  </a:lnTo>
                  <a:lnTo>
                    <a:pt x="282" y="330"/>
                  </a:lnTo>
                  <a:lnTo>
                    <a:pt x="282" y="336"/>
                  </a:lnTo>
                  <a:lnTo>
                    <a:pt x="282" y="343"/>
                  </a:lnTo>
                  <a:lnTo>
                    <a:pt x="280" y="349"/>
                  </a:lnTo>
                  <a:lnTo>
                    <a:pt x="280" y="355"/>
                  </a:lnTo>
                  <a:lnTo>
                    <a:pt x="280" y="361"/>
                  </a:lnTo>
                  <a:lnTo>
                    <a:pt x="279" y="366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32"/>
          <p:cNvGrpSpPr/>
          <p:nvPr/>
        </p:nvGrpSpPr>
        <p:grpSpPr>
          <a:xfrm>
            <a:off x="3233520" y="2555640"/>
            <a:ext cx="932040" cy="1146600"/>
            <a:chOff x="3233520" y="2555640"/>
            <a:chExt cx="932040" cy="1146600"/>
          </a:xfrm>
        </p:grpSpPr>
        <p:sp>
          <p:nvSpPr>
            <p:cNvPr id="671" name="Freeform 33"/>
            <p:cNvSpPr/>
            <p:nvPr/>
          </p:nvSpPr>
          <p:spPr>
            <a:xfrm flipV="1" rot="21057600">
              <a:off x="3351960" y="3652560"/>
              <a:ext cx="50400" cy="46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360 h 46080"/>
                <a:gd name="textAreaBottom" fmla="*/ 46800 h 46080"/>
              </a:gdLst>
              <a:ahLst/>
              <a:rect l="textAreaLeft" t="textAreaTop" r="textAreaRight" b="textAreaBottom"/>
              <a:pathLst>
                <a:path w="52" h="48">
                  <a:moveTo>
                    <a:pt x="0" y="19"/>
                  </a:moveTo>
                  <a:lnTo>
                    <a:pt x="52" y="0"/>
                  </a:lnTo>
                  <a:lnTo>
                    <a:pt x="48" y="4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34"/>
            <p:cNvSpPr/>
            <p:nvPr/>
          </p:nvSpPr>
          <p:spPr>
            <a:xfrm flipV="1" rot="21057600">
              <a:off x="3308040" y="2610360"/>
              <a:ext cx="782640" cy="101160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360 h 1011600"/>
                <a:gd name="textAreaBottom" fmla="*/ 1012320 h 1011600"/>
              </a:gdLst>
              <a:ahLst/>
              <a:rect l="textAreaLeft" t="textAreaTop" r="textAreaRight" b="textAreaBottom"/>
              <a:pathLst>
                <a:path w="282" h="366">
                  <a:moveTo>
                    <a:pt x="0" y="0"/>
                  </a:moveTo>
                  <a:lnTo>
                    <a:pt x="29" y="5"/>
                  </a:lnTo>
                  <a:lnTo>
                    <a:pt x="57" y="11"/>
                  </a:lnTo>
                  <a:lnTo>
                    <a:pt x="84" y="23"/>
                  </a:lnTo>
                  <a:lnTo>
                    <a:pt x="111" y="34"/>
                  </a:lnTo>
                  <a:lnTo>
                    <a:pt x="136" y="50"/>
                  </a:lnTo>
                  <a:lnTo>
                    <a:pt x="159" y="65"/>
                  </a:lnTo>
                  <a:lnTo>
                    <a:pt x="180" y="84"/>
                  </a:lnTo>
                  <a:lnTo>
                    <a:pt x="202" y="105"/>
                  </a:lnTo>
                  <a:lnTo>
                    <a:pt x="219" y="126"/>
                  </a:lnTo>
                  <a:lnTo>
                    <a:pt x="234" y="151"/>
                  </a:lnTo>
                  <a:lnTo>
                    <a:pt x="250" y="176"/>
                  </a:lnTo>
                  <a:lnTo>
                    <a:pt x="261" y="201"/>
                  </a:lnTo>
                  <a:lnTo>
                    <a:pt x="271" y="230"/>
                  </a:lnTo>
                  <a:lnTo>
                    <a:pt x="277" y="259"/>
                  </a:lnTo>
                  <a:lnTo>
                    <a:pt x="280" y="288"/>
                  </a:lnTo>
                  <a:lnTo>
                    <a:pt x="282" y="316"/>
                  </a:lnTo>
                  <a:lnTo>
                    <a:pt x="282" y="324"/>
                  </a:lnTo>
                  <a:lnTo>
                    <a:pt x="282" y="330"/>
                  </a:lnTo>
                  <a:lnTo>
                    <a:pt x="282" y="336"/>
                  </a:lnTo>
                  <a:lnTo>
                    <a:pt x="282" y="343"/>
                  </a:lnTo>
                  <a:lnTo>
                    <a:pt x="280" y="349"/>
                  </a:lnTo>
                  <a:lnTo>
                    <a:pt x="280" y="355"/>
                  </a:lnTo>
                  <a:lnTo>
                    <a:pt x="280" y="361"/>
                  </a:lnTo>
                  <a:lnTo>
                    <a:pt x="279" y="366"/>
                  </a:lnTo>
                </a:path>
              </a:pathLst>
            </a:custGeom>
            <a:noFill/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55840" y="254160"/>
            <a:ext cx="7750080" cy="60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SOLVENDO CILÍNDRO CRUZADO OBLÍQUO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736560" y="992160"/>
            <a:ext cx="9091800" cy="6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ATEMÁ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104920" y="2232000"/>
            <a:ext cx="65232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±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4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2116080" y="3271680"/>
            <a:ext cx="7272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arc tan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              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4976640" y="3243240"/>
            <a:ext cx="29307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8"/>
          <p:cNvSpPr/>
          <p:nvPr/>
        </p:nvSpPr>
        <p:spPr>
          <a:xfrm>
            <a:off x="5235480" y="3819600"/>
            <a:ext cx="29307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5079960" y="3867120"/>
            <a:ext cx="2639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20"/>
          <p:cNvSpPr/>
          <p:nvPr/>
        </p:nvSpPr>
        <p:spPr>
          <a:xfrm>
            <a:off x="2116080" y="4917960"/>
            <a:ext cx="4286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1"/>
          <p:cNvSpPr/>
          <p:nvPr/>
        </p:nvSpPr>
        <p:spPr>
          <a:xfrm>
            <a:off x="3373560" y="4643280"/>
            <a:ext cx="29304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2"/>
          <p:cNvSpPr/>
          <p:nvPr/>
        </p:nvSpPr>
        <p:spPr>
          <a:xfrm>
            <a:off x="3419640" y="5253120"/>
            <a:ext cx="2639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4484520" y="5235480"/>
            <a:ext cx="419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4"/>
          <p:cNvSpPr/>
          <p:nvPr/>
        </p:nvSpPr>
        <p:spPr>
          <a:xfrm>
            <a:off x="3642120" y="1422360"/>
            <a:ext cx="3349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Bennett and Rabbett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5"/>
          <p:cNvSpPr/>
          <p:nvPr/>
        </p:nvSpPr>
        <p:spPr>
          <a:xfrm>
            <a:off x="3848040" y="2305080"/>
            <a:ext cx="416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" y="195120"/>
            <a:ext cx="986940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 OCULAR OCULAR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2560" y="1247760"/>
            <a:ext cx="8291520" cy="463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lvl="1" marL="690840" indent="0">
              <a:lnSpc>
                <a:spcPct val="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s do olh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 do pod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 com maior poder ópt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 do eix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idiano do menor poder óptic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crições dos Meridiano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der Refrativo (Dioptria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o de Curvatura (m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60"/>
          <p:cNvSpPr/>
          <p:nvPr/>
        </p:nvSpPr>
        <p:spPr>
          <a:xfrm>
            <a:off x="417600" y="720720"/>
            <a:ext cx="9869400" cy="47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MERIDIANOS DO ASTIGMATISM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76040"/>
            <a:ext cx="92916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5680" y="1274760"/>
            <a:ext cx="8655120" cy="476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ferenças Meridionai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vatura e/ou taxas de aplanamento 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órn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stali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Índice de refração dos componentes óptic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a do pólo pos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82760" y="822240"/>
            <a:ext cx="92916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AUSA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338040"/>
            <a:ext cx="8744040" cy="463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3680" y="1387440"/>
            <a:ext cx="9588600" cy="473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hipermetrópico simples (AH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hipermetrópico composto (AHC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miópico simples (AM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miópico composto (AMC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tigmatismo misto (AM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30080" y="955800"/>
            <a:ext cx="8744040" cy="46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SSIFIC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200" y="142920"/>
            <a:ext cx="952668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-291960" y="789120"/>
            <a:ext cx="1079496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STIGMATISMO HIPERMETRÓPICO SIMPLES  (A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6241680" y="313992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845120" y="3259080"/>
            <a:ext cx="4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'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5"/>
          <p:cNvSpPr/>
          <p:nvPr/>
        </p:nvSpPr>
        <p:spPr>
          <a:xfrm>
            <a:off x="3481560" y="3355920"/>
            <a:ext cx="2814480" cy="343080"/>
          </a:xfrm>
          <a:custGeom>
            <a:avLst/>
            <a:gdLst>
              <a:gd name="textAreaLeft" fmla="*/ 0 w 2814480"/>
              <a:gd name="textAreaRight" fmla="*/ 2814840 w 28144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511" h="184">
                <a:moveTo>
                  <a:pt x="1507" y="179"/>
                </a:moveTo>
                <a:lnTo>
                  <a:pt x="1511" y="113"/>
                </a:lnTo>
                <a:lnTo>
                  <a:pt x="0" y="0"/>
                </a:lnTo>
                <a:lnTo>
                  <a:pt x="0" y="4"/>
                </a:lnTo>
                <a:lnTo>
                  <a:pt x="1" y="15"/>
                </a:lnTo>
                <a:lnTo>
                  <a:pt x="5" y="33"/>
                </a:lnTo>
                <a:lnTo>
                  <a:pt x="9" y="56"/>
                </a:lnTo>
                <a:lnTo>
                  <a:pt x="17" y="83"/>
                </a:lnTo>
                <a:lnTo>
                  <a:pt x="28" y="115"/>
                </a:lnTo>
                <a:lnTo>
                  <a:pt x="44" y="148"/>
                </a:lnTo>
                <a:lnTo>
                  <a:pt x="61" y="184"/>
                </a:lnTo>
                <a:lnTo>
                  <a:pt x="1507" y="17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6"/>
          <p:cNvSpPr/>
          <p:nvPr/>
        </p:nvSpPr>
        <p:spPr>
          <a:xfrm>
            <a:off x="3602160" y="3162240"/>
            <a:ext cx="2693880" cy="106056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446" h="569">
                <a:moveTo>
                  <a:pt x="1446" y="285"/>
                </a:moveTo>
                <a:lnTo>
                  <a:pt x="88" y="0"/>
                </a:lnTo>
                <a:lnTo>
                  <a:pt x="78" y="14"/>
                </a:lnTo>
                <a:lnTo>
                  <a:pt x="59" y="50"/>
                </a:lnTo>
                <a:lnTo>
                  <a:pt x="46" y="77"/>
                </a:lnTo>
                <a:lnTo>
                  <a:pt x="34" y="106"/>
                </a:lnTo>
                <a:lnTo>
                  <a:pt x="23" y="141"/>
                </a:lnTo>
                <a:lnTo>
                  <a:pt x="13" y="179"/>
                </a:lnTo>
                <a:lnTo>
                  <a:pt x="6" y="221"/>
                </a:lnTo>
                <a:lnTo>
                  <a:pt x="0" y="265"/>
                </a:lnTo>
                <a:lnTo>
                  <a:pt x="0" y="288"/>
                </a:lnTo>
                <a:lnTo>
                  <a:pt x="0" y="313"/>
                </a:lnTo>
                <a:lnTo>
                  <a:pt x="2" y="336"/>
                </a:lnTo>
                <a:lnTo>
                  <a:pt x="4" y="361"/>
                </a:lnTo>
                <a:lnTo>
                  <a:pt x="7" y="386"/>
                </a:lnTo>
                <a:lnTo>
                  <a:pt x="13" y="411"/>
                </a:lnTo>
                <a:lnTo>
                  <a:pt x="21" y="438"/>
                </a:lnTo>
                <a:lnTo>
                  <a:pt x="30" y="463"/>
                </a:lnTo>
                <a:lnTo>
                  <a:pt x="42" y="490"/>
                </a:lnTo>
                <a:lnTo>
                  <a:pt x="53" y="517"/>
                </a:lnTo>
                <a:lnTo>
                  <a:pt x="69" y="542"/>
                </a:lnTo>
                <a:lnTo>
                  <a:pt x="86" y="569"/>
                </a:lnTo>
                <a:lnTo>
                  <a:pt x="1446" y="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7"/>
          <p:cNvSpPr/>
          <p:nvPr/>
        </p:nvSpPr>
        <p:spPr>
          <a:xfrm>
            <a:off x="3605040" y="3693960"/>
            <a:ext cx="2695680" cy="381240"/>
          </a:xfrm>
          <a:custGeom>
            <a:avLst/>
            <a:gdLst>
              <a:gd name="textAreaLeft" fmla="*/ 0 w 2695680"/>
              <a:gd name="textAreaRight" fmla="*/ 2696040 w 26956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6" h="205">
                <a:moveTo>
                  <a:pt x="1446" y="0"/>
                </a:moveTo>
                <a:lnTo>
                  <a:pt x="0" y="3"/>
                </a:lnTo>
                <a:lnTo>
                  <a:pt x="17" y="32"/>
                </a:lnTo>
                <a:lnTo>
                  <a:pt x="36" y="61"/>
                </a:lnTo>
                <a:lnTo>
                  <a:pt x="59" y="88"/>
                </a:lnTo>
                <a:lnTo>
                  <a:pt x="86" y="115"/>
                </a:lnTo>
                <a:lnTo>
                  <a:pt x="115" y="140"/>
                </a:lnTo>
                <a:lnTo>
                  <a:pt x="147" y="165"/>
                </a:lnTo>
                <a:lnTo>
                  <a:pt x="167" y="176"/>
                </a:lnTo>
                <a:lnTo>
                  <a:pt x="184" y="186"/>
                </a:lnTo>
                <a:lnTo>
                  <a:pt x="205" y="195"/>
                </a:lnTo>
                <a:lnTo>
                  <a:pt x="224" y="205"/>
                </a:lnTo>
                <a:lnTo>
                  <a:pt x="1440" y="88"/>
                </a:lnTo>
                <a:lnTo>
                  <a:pt x="144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18"/>
          <p:cNvSpPr/>
          <p:nvPr/>
        </p:nvSpPr>
        <p:spPr>
          <a:xfrm>
            <a:off x="3637080" y="2316240"/>
            <a:ext cx="2658960" cy="2752560"/>
          </a:xfrm>
          <a:custGeom>
            <a:avLst/>
            <a:gdLst>
              <a:gd name="textAreaLeft" fmla="*/ 0 w 2658960"/>
              <a:gd name="textAreaRight" fmla="*/ 2659320 w 265896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1427" h="1477">
                <a:moveTo>
                  <a:pt x="0" y="468"/>
                </a:moveTo>
                <a:lnTo>
                  <a:pt x="11" y="443"/>
                </a:lnTo>
                <a:lnTo>
                  <a:pt x="23" y="418"/>
                </a:lnTo>
                <a:lnTo>
                  <a:pt x="34" y="393"/>
                </a:lnTo>
                <a:lnTo>
                  <a:pt x="48" y="370"/>
                </a:lnTo>
                <a:lnTo>
                  <a:pt x="63" y="347"/>
                </a:lnTo>
                <a:lnTo>
                  <a:pt x="77" y="324"/>
                </a:lnTo>
                <a:lnTo>
                  <a:pt x="94" y="301"/>
                </a:lnTo>
                <a:lnTo>
                  <a:pt x="109" y="280"/>
                </a:lnTo>
                <a:lnTo>
                  <a:pt x="127" y="259"/>
                </a:lnTo>
                <a:lnTo>
                  <a:pt x="146" y="238"/>
                </a:lnTo>
                <a:lnTo>
                  <a:pt x="163" y="218"/>
                </a:lnTo>
                <a:lnTo>
                  <a:pt x="184" y="199"/>
                </a:lnTo>
                <a:lnTo>
                  <a:pt x="203" y="182"/>
                </a:lnTo>
                <a:lnTo>
                  <a:pt x="224" y="165"/>
                </a:lnTo>
                <a:lnTo>
                  <a:pt x="246" y="147"/>
                </a:lnTo>
                <a:lnTo>
                  <a:pt x="269" y="132"/>
                </a:lnTo>
                <a:lnTo>
                  <a:pt x="290" y="117"/>
                </a:lnTo>
                <a:lnTo>
                  <a:pt x="315" y="101"/>
                </a:lnTo>
                <a:lnTo>
                  <a:pt x="338" y="88"/>
                </a:lnTo>
                <a:lnTo>
                  <a:pt x="363" y="76"/>
                </a:lnTo>
                <a:lnTo>
                  <a:pt x="387" y="65"/>
                </a:lnTo>
                <a:lnTo>
                  <a:pt x="412" y="53"/>
                </a:lnTo>
                <a:lnTo>
                  <a:pt x="437" y="44"/>
                </a:lnTo>
                <a:lnTo>
                  <a:pt x="464" y="34"/>
                </a:lnTo>
                <a:lnTo>
                  <a:pt x="491" y="26"/>
                </a:lnTo>
                <a:lnTo>
                  <a:pt x="518" y="19"/>
                </a:lnTo>
                <a:lnTo>
                  <a:pt x="545" y="13"/>
                </a:lnTo>
                <a:lnTo>
                  <a:pt x="574" y="9"/>
                </a:lnTo>
                <a:lnTo>
                  <a:pt x="600" y="5"/>
                </a:lnTo>
                <a:lnTo>
                  <a:pt x="629" y="1"/>
                </a:lnTo>
                <a:lnTo>
                  <a:pt x="658" y="0"/>
                </a:lnTo>
                <a:lnTo>
                  <a:pt x="687" y="0"/>
                </a:lnTo>
                <a:lnTo>
                  <a:pt x="725" y="1"/>
                </a:lnTo>
                <a:lnTo>
                  <a:pt x="763" y="3"/>
                </a:lnTo>
                <a:lnTo>
                  <a:pt x="800" y="7"/>
                </a:lnTo>
                <a:lnTo>
                  <a:pt x="836" y="15"/>
                </a:lnTo>
                <a:lnTo>
                  <a:pt x="873" y="23"/>
                </a:lnTo>
                <a:lnTo>
                  <a:pt x="907" y="32"/>
                </a:lnTo>
                <a:lnTo>
                  <a:pt x="942" y="44"/>
                </a:lnTo>
                <a:lnTo>
                  <a:pt x="975" y="57"/>
                </a:lnTo>
                <a:lnTo>
                  <a:pt x="1007" y="72"/>
                </a:lnTo>
                <a:lnTo>
                  <a:pt x="1040" y="90"/>
                </a:lnTo>
                <a:lnTo>
                  <a:pt x="1070" y="107"/>
                </a:lnTo>
                <a:lnTo>
                  <a:pt x="1101" y="126"/>
                </a:lnTo>
                <a:lnTo>
                  <a:pt x="1130" y="147"/>
                </a:lnTo>
                <a:lnTo>
                  <a:pt x="1157" y="168"/>
                </a:lnTo>
                <a:lnTo>
                  <a:pt x="1184" y="191"/>
                </a:lnTo>
                <a:lnTo>
                  <a:pt x="1210" y="216"/>
                </a:lnTo>
                <a:lnTo>
                  <a:pt x="1235" y="241"/>
                </a:lnTo>
                <a:lnTo>
                  <a:pt x="1258" y="268"/>
                </a:lnTo>
                <a:lnTo>
                  <a:pt x="1280" y="297"/>
                </a:lnTo>
                <a:lnTo>
                  <a:pt x="1301" y="326"/>
                </a:lnTo>
                <a:lnTo>
                  <a:pt x="1320" y="357"/>
                </a:lnTo>
                <a:lnTo>
                  <a:pt x="1337" y="387"/>
                </a:lnTo>
                <a:lnTo>
                  <a:pt x="1354" y="418"/>
                </a:lnTo>
                <a:lnTo>
                  <a:pt x="1370" y="453"/>
                </a:lnTo>
                <a:lnTo>
                  <a:pt x="1381" y="485"/>
                </a:lnTo>
                <a:lnTo>
                  <a:pt x="1395" y="520"/>
                </a:lnTo>
                <a:lnTo>
                  <a:pt x="1404" y="554"/>
                </a:lnTo>
                <a:lnTo>
                  <a:pt x="1412" y="591"/>
                </a:lnTo>
                <a:lnTo>
                  <a:pt x="1418" y="627"/>
                </a:lnTo>
                <a:lnTo>
                  <a:pt x="1423" y="664"/>
                </a:lnTo>
                <a:lnTo>
                  <a:pt x="1425" y="700"/>
                </a:lnTo>
                <a:lnTo>
                  <a:pt x="1427" y="739"/>
                </a:lnTo>
                <a:lnTo>
                  <a:pt x="1425" y="777"/>
                </a:lnTo>
                <a:lnTo>
                  <a:pt x="1423" y="813"/>
                </a:lnTo>
                <a:lnTo>
                  <a:pt x="1418" y="852"/>
                </a:lnTo>
                <a:lnTo>
                  <a:pt x="1412" y="888"/>
                </a:lnTo>
                <a:lnTo>
                  <a:pt x="1404" y="923"/>
                </a:lnTo>
                <a:lnTo>
                  <a:pt x="1395" y="957"/>
                </a:lnTo>
                <a:lnTo>
                  <a:pt x="1381" y="992"/>
                </a:lnTo>
                <a:lnTo>
                  <a:pt x="1370" y="1026"/>
                </a:lnTo>
                <a:lnTo>
                  <a:pt x="1354" y="1059"/>
                </a:lnTo>
                <a:lnTo>
                  <a:pt x="1337" y="1090"/>
                </a:lnTo>
                <a:lnTo>
                  <a:pt x="1320" y="1122"/>
                </a:lnTo>
                <a:lnTo>
                  <a:pt x="1301" y="1151"/>
                </a:lnTo>
                <a:lnTo>
                  <a:pt x="1280" y="1180"/>
                </a:lnTo>
                <a:lnTo>
                  <a:pt x="1258" y="1209"/>
                </a:lnTo>
                <a:lnTo>
                  <a:pt x="1235" y="1236"/>
                </a:lnTo>
                <a:lnTo>
                  <a:pt x="1210" y="1261"/>
                </a:lnTo>
                <a:lnTo>
                  <a:pt x="1184" y="1286"/>
                </a:lnTo>
                <a:lnTo>
                  <a:pt x="1157" y="1309"/>
                </a:lnTo>
                <a:lnTo>
                  <a:pt x="1130" y="1330"/>
                </a:lnTo>
                <a:lnTo>
                  <a:pt x="1101" y="1351"/>
                </a:lnTo>
                <a:lnTo>
                  <a:pt x="1070" y="1370"/>
                </a:lnTo>
                <a:lnTo>
                  <a:pt x="1040" y="1387"/>
                </a:lnTo>
                <a:lnTo>
                  <a:pt x="1007" y="1405"/>
                </a:lnTo>
                <a:lnTo>
                  <a:pt x="975" y="1420"/>
                </a:lnTo>
                <a:lnTo>
                  <a:pt x="942" y="1433"/>
                </a:lnTo>
                <a:lnTo>
                  <a:pt x="907" y="1445"/>
                </a:lnTo>
                <a:lnTo>
                  <a:pt x="873" y="1454"/>
                </a:lnTo>
                <a:lnTo>
                  <a:pt x="836" y="1462"/>
                </a:lnTo>
                <a:lnTo>
                  <a:pt x="800" y="1470"/>
                </a:lnTo>
                <a:lnTo>
                  <a:pt x="763" y="1474"/>
                </a:lnTo>
                <a:lnTo>
                  <a:pt x="725" y="1477"/>
                </a:lnTo>
                <a:lnTo>
                  <a:pt x="687" y="1477"/>
                </a:lnTo>
                <a:lnTo>
                  <a:pt x="658" y="1477"/>
                </a:lnTo>
                <a:lnTo>
                  <a:pt x="629" y="1476"/>
                </a:lnTo>
                <a:lnTo>
                  <a:pt x="600" y="1472"/>
                </a:lnTo>
                <a:lnTo>
                  <a:pt x="574" y="1468"/>
                </a:lnTo>
                <a:lnTo>
                  <a:pt x="545" y="1464"/>
                </a:lnTo>
                <a:lnTo>
                  <a:pt x="518" y="1458"/>
                </a:lnTo>
                <a:lnTo>
                  <a:pt x="491" y="1451"/>
                </a:lnTo>
                <a:lnTo>
                  <a:pt x="464" y="1443"/>
                </a:lnTo>
                <a:lnTo>
                  <a:pt x="437" y="1433"/>
                </a:lnTo>
                <a:lnTo>
                  <a:pt x="412" y="1424"/>
                </a:lnTo>
                <a:lnTo>
                  <a:pt x="387" y="1412"/>
                </a:lnTo>
                <a:lnTo>
                  <a:pt x="363" y="1401"/>
                </a:lnTo>
                <a:lnTo>
                  <a:pt x="338" y="1389"/>
                </a:lnTo>
                <a:lnTo>
                  <a:pt x="315" y="1376"/>
                </a:lnTo>
                <a:lnTo>
                  <a:pt x="292" y="1360"/>
                </a:lnTo>
                <a:lnTo>
                  <a:pt x="269" y="1345"/>
                </a:lnTo>
                <a:lnTo>
                  <a:pt x="246" y="1330"/>
                </a:lnTo>
                <a:lnTo>
                  <a:pt x="224" y="1312"/>
                </a:lnTo>
                <a:lnTo>
                  <a:pt x="203" y="1295"/>
                </a:lnTo>
                <a:lnTo>
                  <a:pt x="184" y="1278"/>
                </a:lnTo>
                <a:lnTo>
                  <a:pt x="165" y="1259"/>
                </a:lnTo>
                <a:lnTo>
                  <a:pt x="146" y="1239"/>
                </a:lnTo>
                <a:lnTo>
                  <a:pt x="127" y="1218"/>
                </a:lnTo>
                <a:lnTo>
                  <a:pt x="109" y="1197"/>
                </a:lnTo>
                <a:lnTo>
                  <a:pt x="94" y="1176"/>
                </a:lnTo>
                <a:lnTo>
                  <a:pt x="77" y="1153"/>
                </a:lnTo>
                <a:lnTo>
                  <a:pt x="63" y="1132"/>
                </a:lnTo>
                <a:lnTo>
                  <a:pt x="48" y="1107"/>
                </a:lnTo>
                <a:lnTo>
                  <a:pt x="34" y="1084"/>
                </a:lnTo>
                <a:lnTo>
                  <a:pt x="23" y="1059"/>
                </a:lnTo>
                <a:lnTo>
                  <a:pt x="11" y="1034"/>
                </a:lnTo>
                <a:lnTo>
                  <a:pt x="0" y="1009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38"/>
          <p:cNvSpPr/>
          <p:nvPr/>
        </p:nvSpPr>
        <p:spPr>
          <a:xfrm>
            <a:off x="6289560" y="2979720"/>
            <a:ext cx="14400" cy="128520"/>
          </a:xfrm>
          <a:custGeom>
            <a:avLst/>
            <a:gdLst>
              <a:gd name="textAreaLeft" fmla="*/ 0 w 14400"/>
              <a:gd name="textAreaRight" fmla="*/ 14760 w 14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" h="69">
                <a:moveTo>
                  <a:pt x="4" y="69"/>
                </a:moveTo>
                <a:lnTo>
                  <a:pt x="0" y="69"/>
                </a:lnTo>
                <a:lnTo>
                  <a:pt x="0" y="0"/>
                </a:lnTo>
                <a:lnTo>
                  <a:pt x="8" y="0"/>
                </a:lnTo>
                <a:lnTo>
                  <a:pt x="8" y="69"/>
                </a:lnTo>
                <a:lnTo>
                  <a:pt x="4" y="69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39"/>
          <p:cNvSpPr/>
          <p:nvPr/>
        </p:nvSpPr>
        <p:spPr>
          <a:xfrm>
            <a:off x="6296040" y="3036960"/>
            <a:ext cx="1692360" cy="1404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08" h="7">
                <a:moveTo>
                  <a:pt x="908" y="3"/>
                </a:moveTo>
                <a:lnTo>
                  <a:pt x="908" y="0"/>
                </a:lnTo>
                <a:lnTo>
                  <a:pt x="0" y="0"/>
                </a:lnTo>
                <a:lnTo>
                  <a:pt x="0" y="7"/>
                </a:lnTo>
                <a:lnTo>
                  <a:pt x="908" y="7"/>
                </a:lnTo>
                <a:lnTo>
                  <a:pt x="908" y="3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40"/>
          <p:cNvSpPr/>
          <p:nvPr/>
        </p:nvSpPr>
        <p:spPr>
          <a:xfrm>
            <a:off x="7981920" y="2979720"/>
            <a:ext cx="14400" cy="128520"/>
          </a:xfrm>
          <a:custGeom>
            <a:avLst/>
            <a:gdLst>
              <a:gd name="textAreaLeft" fmla="*/ 0 w 14400"/>
              <a:gd name="textAreaRight" fmla="*/ 14760 w 14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" h="69">
                <a:moveTo>
                  <a:pt x="4" y="69"/>
                </a:moveTo>
                <a:lnTo>
                  <a:pt x="8" y="69"/>
                </a:lnTo>
                <a:lnTo>
                  <a:pt x="8" y="0"/>
                </a:lnTo>
                <a:lnTo>
                  <a:pt x="0" y="0"/>
                </a:lnTo>
                <a:lnTo>
                  <a:pt x="0" y="69"/>
                </a:lnTo>
                <a:lnTo>
                  <a:pt x="4" y="69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41"/>
          <p:cNvSpPr/>
          <p:nvPr/>
        </p:nvSpPr>
        <p:spPr>
          <a:xfrm>
            <a:off x="9590040" y="3811680"/>
            <a:ext cx="3240" cy="15840"/>
          </a:xfrm>
          <a:custGeom>
            <a:avLst/>
            <a:gdLst>
              <a:gd name="textAreaLeft" fmla="*/ 0 w 3240"/>
              <a:gd name="textAreaRight" fmla="*/ 3600 w 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" h="9">
                <a:moveTo>
                  <a:pt x="2" y="6"/>
                </a:moveTo>
                <a:lnTo>
                  <a:pt x="2" y="0"/>
                </a:lnTo>
                <a:lnTo>
                  <a:pt x="0" y="9"/>
                </a:lnTo>
                <a:lnTo>
                  <a:pt x="2" y="9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2"/>
          <p:cNvSpPr/>
          <p:nvPr/>
        </p:nvSpPr>
        <p:spPr>
          <a:xfrm>
            <a:off x="4827600" y="3978360"/>
            <a:ext cx="79200" cy="28440"/>
          </a:xfrm>
          <a:custGeom>
            <a:avLst/>
            <a:gdLst>
              <a:gd name="textAreaLeft" fmla="*/ 0 w 79200"/>
              <a:gd name="textAreaRight" fmla="*/ 79560 w 792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42" h="15">
                <a:moveTo>
                  <a:pt x="40" y="0"/>
                </a:moveTo>
                <a:lnTo>
                  <a:pt x="42" y="8"/>
                </a:lnTo>
                <a:lnTo>
                  <a:pt x="2" y="15"/>
                </a:lnTo>
                <a:lnTo>
                  <a:pt x="0" y="8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3"/>
          <p:cNvSpPr/>
          <p:nvPr/>
        </p:nvSpPr>
        <p:spPr>
          <a:xfrm>
            <a:off x="2478240" y="3930480"/>
            <a:ext cx="1139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4"/>
          <p:cNvSpPr/>
          <p:nvPr/>
        </p:nvSpPr>
        <p:spPr>
          <a:xfrm flipV="1">
            <a:off x="3787920" y="3686040"/>
            <a:ext cx="2509560" cy="534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3855960" y="3184560"/>
            <a:ext cx="2451240" cy="511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 flipV="1">
            <a:off x="6307200" y="3553920"/>
            <a:ext cx="320364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6283440" y="3541680"/>
            <a:ext cx="3227400" cy="344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8"/>
          <p:cNvSpPr/>
          <p:nvPr/>
        </p:nvSpPr>
        <p:spPr>
          <a:xfrm>
            <a:off x="2536920" y="3170160"/>
            <a:ext cx="114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9"/>
          <p:cNvSpPr/>
          <p:nvPr/>
        </p:nvSpPr>
        <p:spPr>
          <a:xfrm>
            <a:off x="2536920" y="4199040"/>
            <a:ext cx="114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0"/>
          <p:cNvSpPr/>
          <p:nvPr/>
        </p:nvSpPr>
        <p:spPr>
          <a:xfrm>
            <a:off x="2536920" y="4064040"/>
            <a:ext cx="114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1"/>
          <p:cNvSpPr/>
          <p:nvPr/>
        </p:nvSpPr>
        <p:spPr>
          <a:xfrm>
            <a:off x="2751120" y="3710160"/>
            <a:ext cx="596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1013400" y="34527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ZapfHumnst BT"/>
              </a:rPr>
              <a:t>Eix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1898640" y="1897200"/>
            <a:ext cx="19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1245240" y="46432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E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5"/>
          <p:cNvSpPr/>
          <p:nvPr/>
        </p:nvSpPr>
        <p:spPr>
          <a:xfrm flipH="1" flipV="1">
            <a:off x="2945880" y="2771280"/>
            <a:ext cx="669960" cy="66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2990880" y="3889440"/>
            <a:ext cx="760320" cy="760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57"/>
          <p:cNvSpPr/>
          <p:nvPr/>
        </p:nvSpPr>
        <p:spPr>
          <a:xfrm>
            <a:off x="3387600" y="3162240"/>
            <a:ext cx="750960" cy="1060560"/>
          </a:xfrm>
          <a:custGeom>
            <a:avLst/>
            <a:gdLst>
              <a:gd name="textAreaLeft" fmla="*/ 0 w 750960"/>
              <a:gd name="textAreaRight" fmla="*/ 751320 w 75096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403" h="569">
                <a:moveTo>
                  <a:pt x="201" y="0"/>
                </a:moveTo>
                <a:lnTo>
                  <a:pt x="222" y="2"/>
                </a:lnTo>
                <a:lnTo>
                  <a:pt x="241" y="6"/>
                </a:lnTo>
                <a:lnTo>
                  <a:pt x="261" y="14"/>
                </a:lnTo>
                <a:lnTo>
                  <a:pt x="280" y="23"/>
                </a:lnTo>
                <a:lnTo>
                  <a:pt x="297" y="35"/>
                </a:lnTo>
                <a:lnTo>
                  <a:pt x="314" y="48"/>
                </a:lnTo>
                <a:lnTo>
                  <a:pt x="330" y="66"/>
                </a:lnTo>
                <a:lnTo>
                  <a:pt x="343" y="83"/>
                </a:lnTo>
                <a:lnTo>
                  <a:pt x="356" y="104"/>
                </a:lnTo>
                <a:lnTo>
                  <a:pt x="368" y="125"/>
                </a:lnTo>
                <a:lnTo>
                  <a:pt x="378" y="150"/>
                </a:lnTo>
                <a:lnTo>
                  <a:pt x="387" y="175"/>
                </a:lnTo>
                <a:lnTo>
                  <a:pt x="393" y="200"/>
                </a:lnTo>
                <a:lnTo>
                  <a:pt x="399" y="227"/>
                </a:lnTo>
                <a:lnTo>
                  <a:pt x="401" y="256"/>
                </a:lnTo>
                <a:lnTo>
                  <a:pt x="403" y="285"/>
                </a:lnTo>
                <a:lnTo>
                  <a:pt x="401" y="313"/>
                </a:lnTo>
                <a:lnTo>
                  <a:pt x="399" y="342"/>
                </a:lnTo>
                <a:lnTo>
                  <a:pt x="393" y="369"/>
                </a:lnTo>
                <a:lnTo>
                  <a:pt x="387" y="396"/>
                </a:lnTo>
                <a:lnTo>
                  <a:pt x="378" y="421"/>
                </a:lnTo>
                <a:lnTo>
                  <a:pt x="368" y="444"/>
                </a:lnTo>
                <a:lnTo>
                  <a:pt x="356" y="465"/>
                </a:lnTo>
                <a:lnTo>
                  <a:pt x="343" y="486"/>
                </a:lnTo>
                <a:lnTo>
                  <a:pt x="330" y="503"/>
                </a:lnTo>
                <a:lnTo>
                  <a:pt x="314" y="521"/>
                </a:lnTo>
                <a:lnTo>
                  <a:pt x="297" y="534"/>
                </a:lnTo>
                <a:lnTo>
                  <a:pt x="280" y="547"/>
                </a:lnTo>
                <a:lnTo>
                  <a:pt x="261" y="557"/>
                </a:lnTo>
                <a:lnTo>
                  <a:pt x="241" y="563"/>
                </a:lnTo>
                <a:lnTo>
                  <a:pt x="222" y="569"/>
                </a:lnTo>
                <a:lnTo>
                  <a:pt x="201" y="569"/>
                </a:lnTo>
                <a:lnTo>
                  <a:pt x="180" y="569"/>
                </a:lnTo>
                <a:lnTo>
                  <a:pt x="161" y="563"/>
                </a:lnTo>
                <a:lnTo>
                  <a:pt x="142" y="557"/>
                </a:lnTo>
                <a:lnTo>
                  <a:pt x="122" y="547"/>
                </a:lnTo>
                <a:lnTo>
                  <a:pt x="105" y="534"/>
                </a:lnTo>
                <a:lnTo>
                  <a:pt x="88" y="521"/>
                </a:lnTo>
                <a:lnTo>
                  <a:pt x="73" y="503"/>
                </a:lnTo>
                <a:lnTo>
                  <a:pt x="59" y="486"/>
                </a:lnTo>
                <a:lnTo>
                  <a:pt x="46" y="465"/>
                </a:lnTo>
                <a:lnTo>
                  <a:pt x="34" y="444"/>
                </a:lnTo>
                <a:lnTo>
                  <a:pt x="25" y="421"/>
                </a:lnTo>
                <a:lnTo>
                  <a:pt x="15" y="396"/>
                </a:lnTo>
                <a:lnTo>
                  <a:pt x="9" y="369"/>
                </a:lnTo>
                <a:lnTo>
                  <a:pt x="3" y="342"/>
                </a:lnTo>
                <a:lnTo>
                  <a:pt x="2" y="313"/>
                </a:lnTo>
                <a:lnTo>
                  <a:pt x="0" y="285"/>
                </a:lnTo>
                <a:lnTo>
                  <a:pt x="2" y="256"/>
                </a:lnTo>
                <a:lnTo>
                  <a:pt x="3" y="227"/>
                </a:lnTo>
                <a:lnTo>
                  <a:pt x="9" y="200"/>
                </a:lnTo>
                <a:lnTo>
                  <a:pt x="15" y="175"/>
                </a:lnTo>
                <a:lnTo>
                  <a:pt x="25" y="150"/>
                </a:lnTo>
                <a:lnTo>
                  <a:pt x="34" y="125"/>
                </a:lnTo>
                <a:lnTo>
                  <a:pt x="46" y="104"/>
                </a:lnTo>
                <a:lnTo>
                  <a:pt x="59" y="83"/>
                </a:lnTo>
                <a:lnTo>
                  <a:pt x="73" y="66"/>
                </a:lnTo>
                <a:lnTo>
                  <a:pt x="88" y="48"/>
                </a:lnTo>
                <a:lnTo>
                  <a:pt x="105" y="35"/>
                </a:lnTo>
                <a:lnTo>
                  <a:pt x="122" y="23"/>
                </a:lnTo>
                <a:lnTo>
                  <a:pt x="142" y="14"/>
                </a:lnTo>
                <a:lnTo>
                  <a:pt x="161" y="6"/>
                </a:lnTo>
                <a:lnTo>
                  <a:pt x="180" y="2"/>
                </a:lnTo>
                <a:lnTo>
                  <a:pt x="201" y="0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5"/>
          <p:cNvSpPr/>
          <p:nvPr/>
        </p:nvSpPr>
        <p:spPr>
          <a:xfrm flipV="1">
            <a:off x="6296040" y="3114720"/>
            <a:ext cx="2647800" cy="5810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286680" y="3705120"/>
            <a:ext cx="2666880" cy="5716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7"/>
          <p:cNvSpPr/>
          <p:nvPr/>
        </p:nvSpPr>
        <p:spPr>
          <a:xfrm flipH="1" flipV="1">
            <a:off x="3476520" y="3352680"/>
            <a:ext cx="2810160" cy="200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8"/>
          <p:cNvSpPr/>
          <p:nvPr/>
        </p:nvSpPr>
        <p:spPr>
          <a:xfrm flipV="1">
            <a:off x="4010040" y="3848040"/>
            <a:ext cx="2286000" cy="2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7400" y="228600"/>
            <a:ext cx="92725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ASSIFICAÇÃO DE ASTIGMATISM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654840" y="348444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ZapfHumnst BT"/>
              </a:rPr>
              <a:t>Eix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212840" y="220680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1075680" y="45324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Meridiano do E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5"/>
          <p:cNvSpPr/>
          <p:nvPr/>
        </p:nvSpPr>
        <p:spPr>
          <a:xfrm>
            <a:off x="2700360" y="3400560"/>
            <a:ext cx="2801880" cy="33156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1765" h="209">
                <a:moveTo>
                  <a:pt x="1761" y="209"/>
                </a:moveTo>
                <a:lnTo>
                  <a:pt x="1765" y="115"/>
                </a:lnTo>
                <a:lnTo>
                  <a:pt x="0" y="0"/>
                </a:lnTo>
                <a:lnTo>
                  <a:pt x="2" y="5"/>
                </a:lnTo>
                <a:lnTo>
                  <a:pt x="2" y="16"/>
                </a:lnTo>
                <a:lnTo>
                  <a:pt x="7" y="36"/>
                </a:lnTo>
                <a:lnTo>
                  <a:pt x="13" y="63"/>
                </a:lnTo>
                <a:lnTo>
                  <a:pt x="22" y="94"/>
                </a:lnTo>
                <a:lnTo>
                  <a:pt x="34" y="128"/>
                </a:lnTo>
                <a:lnTo>
                  <a:pt x="51" y="168"/>
                </a:lnTo>
                <a:lnTo>
                  <a:pt x="74" y="209"/>
                </a:lnTo>
                <a:lnTo>
                  <a:pt x="1761" y="20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6"/>
          <p:cNvSpPr/>
          <p:nvPr/>
        </p:nvSpPr>
        <p:spPr>
          <a:xfrm>
            <a:off x="2820960" y="3208320"/>
            <a:ext cx="2681280" cy="1054080"/>
          </a:xfrm>
          <a:custGeom>
            <a:avLst/>
            <a:gdLst>
              <a:gd name="textAreaLeft" fmla="*/ 0 w 2681280"/>
              <a:gd name="textAreaRight" fmla="*/ 2681640 w 268128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1689" h="664">
                <a:moveTo>
                  <a:pt x="1689" y="442"/>
                </a:moveTo>
                <a:lnTo>
                  <a:pt x="1678" y="211"/>
                </a:lnTo>
                <a:lnTo>
                  <a:pt x="103" y="0"/>
                </a:lnTo>
                <a:lnTo>
                  <a:pt x="92" y="16"/>
                </a:lnTo>
                <a:lnTo>
                  <a:pt x="70" y="59"/>
                </a:lnTo>
                <a:lnTo>
                  <a:pt x="56" y="88"/>
                </a:lnTo>
                <a:lnTo>
                  <a:pt x="40" y="124"/>
                </a:lnTo>
                <a:lnTo>
                  <a:pt x="27" y="164"/>
                </a:lnTo>
                <a:lnTo>
                  <a:pt x="16" y="209"/>
                </a:lnTo>
                <a:lnTo>
                  <a:pt x="7" y="258"/>
                </a:lnTo>
                <a:lnTo>
                  <a:pt x="0" y="310"/>
                </a:lnTo>
                <a:lnTo>
                  <a:pt x="0" y="336"/>
                </a:lnTo>
                <a:lnTo>
                  <a:pt x="0" y="363"/>
                </a:lnTo>
                <a:lnTo>
                  <a:pt x="2" y="392"/>
                </a:lnTo>
                <a:lnTo>
                  <a:pt x="5" y="422"/>
                </a:lnTo>
                <a:lnTo>
                  <a:pt x="9" y="451"/>
                </a:lnTo>
                <a:lnTo>
                  <a:pt x="16" y="480"/>
                </a:lnTo>
                <a:lnTo>
                  <a:pt x="25" y="509"/>
                </a:lnTo>
                <a:lnTo>
                  <a:pt x="36" y="540"/>
                </a:lnTo>
                <a:lnTo>
                  <a:pt x="49" y="572"/>
                </a:lnTo>
                <a:lnTo>
                  <a:pt x="63" y="601"/>
                </a:lnTo>
                <a:lnTo>
                  <a:pt x="81" y="632"/>
                </a:lnTo>
                <a:lnTo>
                  <a:pt x="101" y="664"/>
                </a:lnTo>
                <a:lnTo>
                  <a:pt x="1689" y="44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7"/>
          <p:cNvSpPr/>
          <p:nvPr/>
        </p:nvSpPr>
        <p:spPr>
          <a:xfrm>
            <a:off x="2824200" y="3735360"/>
            <a:ext cx="2682720" cy="380880"/>
          </a:xfrm>
          <a:custGeom>
            <a:avLst/>
            <a:gdLst>
              <a:gd name="textAreaLeft" fmla="*/ 0 w 2682720"/>
              <a:gd name="textAreaRight" fmla="*/ 2683080 w 2682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90" h="240">
                <a:moveTo>
                  <a:pt x="1690" y="0"/>
                </a:moveTo>
                <a:lnTo>
                  <a:pt x="0" y="4"/>
                </a:lnTo>
                <a:lnTo>
                  <a:pt x="21" y="38"/>
                </a:lnTo>
                <a:lnTo>
                  <a:pt x="45" y="69"/>
                </a:lnTo>
                <a:lnTo>
                  <a:pt x="72" y="103"/>
                </a:lnTo>
                <a:lnTo>
                  <a:pt x="101" y="134"/>
                </a:lnTo>
                <a:lnTo>
                  <a:pt x="135" y="164"/>
                </a:lnTo>
                <a:lnTo>
                  <a:pt x="175" y="193"/>
                </a:lnTo>
                <a:lnTo>
                  <a:pt x="195" y="204"/>
                </a:lnTo>
                <a:lnTo>
                  <a:pt x="218" y="217"/>
                </a:lnTo>
                <a:lnTo>
                  <a:pt x="240" y="229"/>
                </a:lnTo>
                <a:lnTo>
                  <a:pt x="265" y="240"/>
                </a:lnTo>
                <a:lnTo>
                  <a:pt x="1683" y="128"/>
                </a:lnTo>
                <a:lnTo>
                  <a:pt x="169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2857680" y="2365200"/>
            <a:ext cx="2644560" cy="2740320"/>
          </a:xfrm>
          <a:custGeom>
            <a:avLst/>
            <a:gdLst>
              <a:gd name="textAreaLeft" fmla="*/ 0 w 2644560"/>
              <a:gd name="textAreaRight" fmla="*/ 2644920 w 2644560"/>
              <a:gd name="textAreaTop" fmla="*/ 0 h 2740320"/>
              <a:gd name="textAreaBottom" fmla="*/ 2740680 h 2740320"/>
            </a:gdLst>
            <a:ahLst/>
            <a:rect l="textAreaLeft" t="textAreaTop" r="textAreaRight" b="textAreaBottom"/>
            <a:pathLst>
              <a:path w="1666" h="1726">
                <a:moveTo>
                  <a:pt x="0" y="552"/>
                </a:moveTo>
                <a:lnTo>
                  <a:pt x="11" y="522"/>
                </a:lnTo>
                <a:lnTo>
                  <a:pt x="24" y="493"/>
                </a:lnTo>
                <a:lnTo>
                  <a:pt x="40" y="464"/>
                </a:lnTo>
                <a:lnTo>
                  <a:pt x="56" y="435"/>
                </a:lnTo>
                <a:lnTo>
                  <a:pt x="71" y="408"/>
                </a:lnTo>
                <a:lnTo>
                  <a:pt x="89" y="381"/>
                </a:lnTo>
                <a:lnTo>
                  <a:pt x="107" y="357"/>
                </a:lnTo>
                <a:lnTo>
                  <a:pt x="127" y="330"/>
                </a:lnTo>
                <a:lnTo>
                  <a:pt x="147" y="305"/>
                </a:lnTo>
                <a:lnTo>
                  <a:pt x="168" y="280"/>
                </a:lnTo>
                <a:lnTo>
                  <a:pt x="190" y="258"/>
                </a:lnTo>
                <a:lnTo>
                  <a:pt x="212" y="236"/>
                </a:lnTo>
                <a:lnTo>
                  <a:pt x="235" y="216"/>
                </a:lnTo>
                <a:lnTo>
                  <a:pt x="259" y="193"/>
                </a:lnTo>
                <a:lnTo>
                  <a:pt x="286" y="175"/>
                </a:lnTo>
                <a:lnTo>
                  <a:pt x="311" y="155"/>
                </a:lnTo>
                <a:lnTo>
                  <a:pt x="338" y="137"/>
                </a:lnTo>
                <a:lnTo>
                  <a:pt x="365" y="121"/>
                </a:lnTo>
                <a:lnTo>
                  <a:pt x="394" y="106"/>
                </a:lnTo>
                <a:lnTo>
                  <a:pt x="421" y="90"/>
                </a:lnTo>
                <a:lnTo>
                  <a:pt x="450" y="77"/>
                </a:lnTo>
                <a:lnTo>
                  <a:pt x="481" y="63"/>
                </a:lnTo>
                <a:lnTo>
                  <a:pt x="510" y="52"/>
                </a:lnTo>
                <a:lnTo>
                  <a:pt x="542" y="41"/>
                </a:lnTo>
                <a:lnTo>
                  <a:pt x="573" y="32"/>
                </a:lnTo>
                <a:lnTo>
                  <a:pt x="604" y="23"/>
                </a:lnTo>
                <a:lnTo>
                  <a:pt x="636" y="16"/>
                </a:lnTo>
                <a:lnTo>
                  <a:pt x="669" y="12"/>
                </a:lnTo>
                <a:lnTo>
                  <a:pt x="703" y="7"/>
                </a:lnTo>
                <a:lnTo>
                  <a:pt x="737" y="3"/>
                </a:lnTo>
                <a:lnTo>
                  <a:pt x="770" y="0"/>
                </a:lnTo>
                <a:lnTo>
                  <a:pt x="804" y="0"/>
                </a:lnTo>
                <a:lnTo>
                  <a:pt x="849" y="3"/>
                </a:lnTo>
                <a:lnTo>
                  <a:pt x="891" y="5"/>
                </a:lnTo>
                <a:lnTo>
                  <a:pt x="934" y="9"/>
                </a:lnTo>
                <a:lnTo>
                  <a:pt x="976" y="18"/>
                </a:lnTo>
                <a:lnTo>
                  <a:pt x="1019" y="27"/>
                </a:lnTo>
                <a:lnTo>
                  <a:pt x="1059" y="39"/>
                </a:lnTo>
                <a:lnTo>
                  <a:pt x="1100" y="52"/>
                </a:lnTo>
                <a:lnTo>
                  <a:pt x="1138" y="68"/>
                </a:lnTo>
                <a:lnTo>
                  <a:pt x="1176" y="86"/>
                </a:lnTo>
                <a:lnTo>
                  <a:pt x="1212" y="106"/>
                </a:lnTo>
                <a:lnTo>
                  <a:pt x="1248" y="126"/>
                </a:lnTo>
                <a:lnTo>
                  <a:pt x="1283" y="148"/>
                </a:lnTo>
                <a:lnTo>
                  <a:pt x="1317" y="173"/>
                </a:lnTo>
                <a:lnTo>
                  <a:pt x="1348" y="198"/>
                </a:lnTo>
                <a:lnTo>
                  <a:pt x="1380" y="224"/>
                </a:lnTo>
                <a:lnTo>
                  <a:pt x="1409" y="254"/>
                </a:lnTo>
                <a:lnTo>
                  <a:pt x="1438" y="285"/>
                </a:lnTo>
                <a:lnTo>
                  <a:pt x="1465" y="316"/>
                </a:lnTo>
                <a:lnTo>
                  <a:pt x="1489" y="348"/>
                </a:lnTo>
                <a:lnTo>
                  <a:pt x="1514" y="381"/>
                </a:lnTo>
                <a:lnTo>
                  <a:pt x="1537" y="417"/>
                </a:lnTo>
                <a:lnTo>
                  <a:pt x="1557" y="453"/>
                </a:lnTo>
                <a:lnTo>
                  <a:pt x="1577" y="491"/>
                </a:lnTo>
                <a:lnTo>
                  <a:pt x="1595" y="529"/>
                </a:lnTo>
                <a:lnTo>
                  <a:pt x="1610" y="567"/>
                </a:lnTo>
                <a:lnTo>
                  <a:pt x="1624" y="608"/>
                </a:lnTo>
                <a:lnTo>
                  <a:pt x="1635" y="648"/>
                </a:lnTo>
                <a:lnTo>
                  <a:pt x="1646" y="690"/>
                </a:lnTo>
                <a:lnTo>
                  <a:pt x="1655" y="733"/>
                </a:lnTo>
                <a:lnTo>
                  <a:pt x="1660" y="776"/>
                </a:lnTo>
                <a:lnTo>
                  <a:pt x="1664" y="818"/>
                </a:lnTo>
                <a:lnTo>
                  <a:pt x="1666" y="863"/>
                </a:lnTo>
                <a:lnTo>
                  <a:pt x="1666" y="908"/>
                </a:lnTo>
                <a:lnTo>
                  <a:pt x="1664" y="950"/>
                </a:lnTo>
                <a:lnTo>
                  <a:pt x="1660" y="995"/>
                </a:lnTo>
                <a:lnTo>
                  <a:pt x="1653" y="1036"/>
                </a:lnTo>
                <a:lnTo>
                  <a:pt x="1644" y="1078"/>
                </a:lnTo>
                <a:lnTo>
                  <a:pt x="1633" y="1118"/>
                </a:lnTo>
                <a:lnTo>
                  <a:pt x="1619" y="1159"/>
                </a:lnTo>
                <a:lnTo>
                  <a:pt x="1604" y="1199"/>
                </a:lnTo>
                <a:lnTo>
                  <a:pt x="1586" y="1237"/>
                </a:lnTo>
                <a:lnTo>
                  <a:pt x="1568" y="1273"/>
                </a:lnTo>
                <a:lnTo>
                  <a:pt x="1548" y="1309"/>
                </a:lnTo>
                <a:lnTo>
                  <a:pt x="1525" y="1345"/>
                </a:lnTo>
                <a:lnTo>
                  <a:pt x="1501" y="1378"/>
                </a:lnTo>
                <a:lnTo>
                  <a:pt x="1474" y="1412"/>
                </a:lnTo>
                <a:lnTo>
                  <a:pt x="1447" y="1443"/>
                </a:lnTo>
                <a:lnTo>
                  <a:pt x="1418" y="1472"/>
                </a:lnTo>
                <a:lnTo>
                  <a:pt x="1389" y="1502"/>
                </a:lnTo>
                <a:lnTo>
                  <a:pt x="1357" y="1528"/>
                </a:lnTo>
                <a:lnTo>
                  <a:pt x="1324" y="1553"/>
                </a:lnTo>
                <a:lnTo>
                  <a:pt x="1290" y="1578"/>
                </a:lnTo>
                <a:lnTo>
                  <a:pt x="1254" y="1600"/>
                </a:lnTo>
                <a:lnTo>
                  <a:pt x="1218" y="1620"/>
                </a:lnTo>
                <a:lnTo>
                  <a:pt x="1180" y="1640"/>
                </a:lnTo>
                <a:lnTo>
                  <a:pt x="1142" y="1658"/>
                </a:lnTo>
                <a:lnTo>
                  <a:pt x="1102" y="1672"/>
                </a:lnTo>
                <a:lnTo>
                  <a:pt x="1062" y="1687"/>
                </a:lnTo>
                <a:lnTo>
                  <a:pt x="1019" y="1699"/>
                </a:lnTo>
                <a:lnTo>
                  <a:pt x="979" y="1708"/>
                </a:lnTo>
                <a:lnTo>
                  <a:pt x="936" y="1714"/>
                </a:lnTo>
                <a:lnTo>
                  <a:pt x="891" y="1721"/>
                </a:lnTo>
                <a:lnTo>
                  <a:pt x="849" y="1723"/>
                </a:lnTo>
                <a:lnTo>
                  <a:pt x="804" y="1726"/>
                </a:lnTo>
                <a:lnTo>
                  <a:pt x="770" y="1726"/>
                </a:lnTo>
                <a:lnTo>
                  <a:pt x="737" y="1723"/>
                </a:lnTo>
                <a:lnTo>
                  <a:pt x="703" y="1719"/>
                </a:lnTo>
                <a:lnTo>
                  <a:pt x="669" y="1714"/>
                </a:lnTo>
                <a:lnTo>
                  <a:pt x="638" y="1710"/>
                </a:lnTo>
                <a:lnTo>
                  <a:pt x="607" y="1703"/>
                </a:lnTo>
                <a:lnTo>
                  <a:pt x="573" y="1694"/>
                </a:lnTo>
                <a:lnTo>
                  <a:pt x="544" y="1685"/>
                </a:lnTo>
                <a:lnTo>
                  <a:pt x="513" y="1674"/>
                </a:lnTo>
                <a:lnTo>
                  <a:pt x="481" y="1663"/>
                </a:lnTo>
                <a:lnTo>
                  <a:pt x="452" y="1649"/>
                </a:lnTo>
                <a:lnTo>
                  <a:pt x="423" y="1636"/>
                </a:lnTo>
                <a:lnTo>
                  <a:pt x="396" y="1622"/>
                </a:lnTo>
                <a:lnTo>
                  <a:pt x="367" y="1607"/>
                </a:lnTo>
                <a:lnTo>
                  <a:pt x="340" y="1589"/>
                </a:lnTo>
                <a:lnTo>
                  <a:pt x="313" y="1571"/>
                </a:lnTo>
                <a:lnTo>
                  <a:pt x="289" y="1553"/>
                </a:lnTo>
                <a:lnTo>
                  <a:pt x="264" y="1533"/>
                </a:lnTo>
                <a:lnTo>
                  <a:pt x="239" y="1513"/>
                </a:lnTo>
                <a:lnTo>
                  <a:pt x="215" y="1493"/>
                </a:lnTo>
                <a:lnTo>
                  <a:pt x="192" y="1470"/>
                </a:lnTo>
                <a:lnTo>
                  <a:pt x="170" y="1448"/>
                </a:lnTo>
                <a:lnTo>
                  <a:pt x="150" y="1423"/>
                </a:lnTo>
                <a:lnTo>
                  <a:pt x="129" y="1398"/>
                </a:lnTo>
                <a:lnTo>
                  <a:pt x="109" y="1374"/>
                </a:lnTo>
                <a:lnTo>
                  <a:pt x="91" y="1347"/>
                </a:lnTo>
                <a:lnTo>
                  <a:pt x="73" y="1322"/>
                </a:lnTo>
                <a:lnTo>
                  <a:pt x="58" y="1293"/>
                </a:lnTo>
                <a:lnTo>
                  <a:pt x="42" y="1266"/>
                </a:lnTo>
                <a:lnTo>
                  <a:pt x="26" y="1237"/>
                </a:lnTo>
                <a:lnTo>
                  <a:pt x="13" y="1208"/>
                </a:lnTo>
                <a:lnTo>
                  <a:pt x="2" y="1179"/>
                </a:lnTo>
              </a:path>
            </a:pathLst>
          </a:custGeom>
          <a:noFill/>
          <a:ln w="190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2"/>
          <p:cNvSpPr/>
          <p:nvPr/>
        </p:nvSpPr>
        <p:spPr>
          <a:xfrm>
            <a:off x="6585120" y="283536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ZapfHumnst BT"/>
              </a:rPr>
              <a:t>’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3"/>
          <p:cNvSpPr/>
          <p:nvPr/>
        </p:nvSpPr>
        <p:spPr>
          <a:xfrm>
            <a:off x="7679520" y="283536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ZapfHumnst BT"/>
              </a:rPr>
              <a:t>F’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ZapfHumnst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4"/>
          <p:cNvSpPr/>
          <p:nvPr/>
        </p:nvSpPr>
        <p:spPr>
          <a:xfrm flipV="1">
            <a:off x="3247920" y="3588840"/>
            <a:ext cx="6410520" cy="520920"/>
          </a:xfrm>
          <a:prstGeom prst="line">
            <a:avLst/>
          </a:prstGeom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2092320" y="3740040"/>
            <a:ext cx="76359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9"/>
          <p:cNvSpPr/>
          <p:nvPr/>
        </p:nvSpPr>
        <p:spPr>
          <a:xfrm flipH="1" flipV="1">
            <a:off x="2199960" y="2922120"/>
            <a:ext cx="63828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0"/>
          <p:cNvSpPr/>
          <p:nvPr/>
        </p:nvSpPr>
        <p:spPr>
          <a:xfrm flipH="1">
            <a:off x="2295360" y="3919680"/>
            <a:ext cx="632160" cy="63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51"/>
          <p:cNvSpPr/>
          <p:nvPr/>
        </p:nvSpPr>
        <p:spPr>
          <a:xfrm>
            <a:off x="2611440" y="3208320"/>
            <a:ext cx="743040" cy="1054080"/>
          </a:xfrm>
          <a:custGeom>
            <a:avLst/>
            <a:gdLst>
              <a:gd name="textAreaLeft" fmla="*/ 0 w 743040"/>
              <a:gd name="textAreaRight" fmla="*/ 743400 w 74304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468" h="664">
                <a:moveTo>
                  <a:pt x="233" y="0"/>
                </a:moveTo>
                <a:lnTo>
                  <a:pt x="258" y="3"/>
                </a:lnTo>
                <a:lnTo>
                  <a:pt x="282" y="7"/>
                </a:lnTo>
                <a:lnTo>
                  <a:pt x="305" y="16"/>
                </a:lnTo>
                <a:lnTo>
                  <a:pt x="325" y="27"/>
                </a:lnTo>
                <a:lnTo>
                  <a:pt x="345" y="41"/>
                </a:lnTo>
                <a:lnTo>
                  <a:pt x="365" y="56"/>
                </a:lnTo>
                <a:lnTo>
                  <a:pt x="383" y="77"/>
                </a:lnTo>
                <a:lnTo>
                  <a:pt x="401" y="97"/>
                </a:lnTo>
                <a:lnTo>
                  <a:pt x="414" y="121"/>
                </a:lnTo>
                <a:lnTo>
                  <a:pt x="428" y="146"/>
                </a:lnTo>
                <a:lnTo>
                  <a:pt x="441" y="175"/>
                </a:lnTo>
                <a:lnTo>
                  <a:pt x="450" y="204"/>
                </a:lnTo>
                <a:lnTo>
                  <a:pt x="459" y="233"/>
                </a:lnTo>
                <a:lnTo>
                  <a:pt x="464" y="265"/>
                </a:lnTo>
                <a:lnTo>
                  <a:pt x="468" y="298"/>
                </a:lnTo>
                <a:lnTo>
                  <a:pt x="468" y="332"/>
                </a:lnTo>
                <a:lnTo>
                  <a:pt x="468" y="366"/>
                </a:lnTo>
                <a:lnTo>
                  <a:pt x="464" y="399"/>
                </a:lnTo>
                <a:lnTo>
                  <a:pt x="459" y="431"/>
                </a:lnTo>
                <a:lnTo>
                  <a:pt x="450" y="462"/>
                </a:lnTo>
                <a:lnTo>
                  <a:pt x="441" y="491"/>
                </a:lnTo>
                <a:lnTo>
                  <a:pt x="428" y="518"/>
                </a:lnTo>
                <a:lnTo>
                  <a:pt x="414" y="543"/>
                </a:lnTo>
                <a:lnTo>
                  <a:pt x="401" y="567"/>
                </a:lnTo>
                <a:lnTo>
                  <a:pt x="383" y="587"/>
                </a:lnTo>
                <a:lnTo>
                  <a:pt x="365" y="608"/>
                </a:lnTo>
                <a:lnTo>
                  <a:pt x="345" y="623"/>
                </a:lnTo>
                <a:lnTo>
                  <a:pt x="325" y="639"/>
                </a:lnTo>
                <a:lnTo>
                  <a:pt x="305" y="650"/>
                </a:lnTo>
                <a:lnTo>
                  <a:pt x="282" y="657"/>
                </a:lnTo>
                <a:lnTo>
                  <a:pt x="258" y="664"/>
                </a:lnTo>
                <a:lnTo>
                  <a:pt x="233" y="664"/>
                </a:lnTo>
                <a:lnTo>
                  <a:pt x="211" y="664"/>
                </a:lnTo>
                <a:lnTo>
                  <a:pt x="186" y="657"/>
                </a:lnTo>
                <a:lnTo>
                  <a:pt x="163" y="650"/>
                </a:lnTo>
                <a:lnTo>
                  <a:pt x="143" y="639"/>
                </a:lnTo>
                <a:lnTo>
                  <a:pt x="123" y="623"/>
                </a:lnTo>
                <a:lnTo>
                  <a:pt x="103" y="608"/>
                </a:lnTo>
                <a:lnTo>
                  <a:pt x="85" y="587"/>
                </a:lnTo>
                <a:lnTo>
                  <a:pt x="67" y="567"/>
                </a:lnTo>
                <a:lnTo>
                  <a:pt x="54" y="543"/>
                </a:lnTo>
                <a:lnTo>
                  <a:pt x="40" y="518"/>
                </a:lnTo>
                <a:lnTo>
                  <a:pt x="27" y="491"/>
                </a:lnTo>
                <a:lnTo>
                  <a:pt x="18" y="462"/>
                </a:lnTo>
                <a:lnTo>
                  <a:pt x="9" y="431"/>
                </a:lnTo>
                <a:lnTo>
                  <a:pt x="4" y="399"/>
                </a:lnTo>
                <a:lnTo>
                  <a:pt x="0" y="366"/>
                </a:lnTo>
                <a:lnTo>
                  <a:pt x="0" y="332"/>
                </a:lnTo>
                <a:lnTo>
                  <a:pt x="0" y="298"/>
                </a:lnTo>
                <a:lnTo>
                  <a:pt x="4" y="265"/>
                </a:lnTo>
                <a:lnTo>
                  <a:pt x="9" y="233"/>
                </a:lnTo>
                <a:lnTo>
                  <a:pt x="18" y="204"/>
                </a:lnTo>
                <a:lnTo>
                  <a:pt x="27" y="175"/>
                </a:lnTo>
                <a:lnTo>
                  <a:pt x="40" y="146"/>
                </a:lnTo>
                <a:lnTo>
                  <a:pt x="54" y="121"/>
                </a:lnTo>
                <a:lnTo>
                  <a:pt x="67" y="97"/>
                </a:lnTo>
                <a:lnTo>
                  <a:pt x="85" y="77"/>
                </a:lnTo>
                <a:lnTo>
                  <a:pt x="103" y="56"/>
                </a:lnTo>
                <a:lnTo>
                  <a:pt x="123" y="41"/>
                </a:lnTo>
                <a:lnTo>
                  <a:pt x="143" y="27"/>
                </a:lnTo>
                <a:lnTo>
                  <a:pt x="163" y="16"/>
                </a:lnTo>
                <a:lnTo>
                  <a:pt x="186" y="7"/>
                </a:lnTo>
                <a:lnTo>
                  <a:pt x="211" y="3"/>
                </a:lnTo>
                <a:lnTo>
                  <a:pt x="23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"/>
          <p:cNvSpPr/>
          <p:nvPr/>
        </p:nvSpPr>
        <p:spPr>
          <a:xfrm>
            <a:off x="-395280" y="838080"/>
            <a:ext cx="1096812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STIGMATISMO HIPERMETRÓPICO COMPOSTO (C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8"/>
          <p:cNvSpPr/>
          <p:nvPr/>
        </p:nvSpPr>
        <p:spPr>
          <a:xfrm flipH="1">
            <a:off x="1709640" y="4262400"/>
            <a:ext cx="1285920" cy="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60"/>
          <p:cNvSpPr/>
          <p:nvPr/>
        </p:nvSpPr>
        <p:spPr>
          <a:xfrm flipH="1">
            <a:off x="1685520" y="3209760"/>
            <a:ext cx="1305000" cy="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1"/>
          <p:cNvSpPr/>
          <p:nvPr/>
        </p:nvSpPr>
        <p:spPr>
          <a:xfrm flipH="1">
            <a:off x="1976040" y="3400560"/>
            <a:ext cx="7239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3"/>
          <p:cNvSpPr/>
          <p:nvPr/>
        </p:nvSpPr>
        <p:spPr>
          <a:xfrm flipV="1">
            <a:off x="2998800" y="3368160"/>
            <a:ext cx="6518160" cy="892440"/>
          </a:xfrm>
          <a:prstGeom prst="line">
            <a:avLst/>
          </a:prstGeom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64"/>
          <p:cNvSpPr/>
          <p:nvPr/>
        </p:nvSpPr>
        <p:spPr>
          <a:xfrm>
            <a:off x="2709720" y="3398760"/>
            <a:ext cx="7077240" cy="463680"/>
          </a:xfrm>
          <a:prstGeom prst="line">
            <a:avLst/>
          </a:prstGeom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7"/>
          <p:cNvSpPr/>
          <p:nvPr/>
        </p:nvSpPr>
        <p:spPr>
          <a:xfrm>
            <a:off x="2998800" y="3211560"/>
            <a:ext cx="6518160" cy="892080"/>
          </a:xfrm>
          <a:prstGeom prst="line">
            <a:avLst/>
          </a:prstGeom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9"/>
          <p:cNvSpPr/>
          <p:nvPr/>
        </p:nvSpPr>
        <p:spPr>
          <a:xfrm flipH="1">
            <a:off x="1956960" y="4110120"/>
            <a:ext cx="1281240" cy="46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70"/>
          <p:cNvGrpSpPr/>
          <p:nvPr/>
        </p:nvGrpSpPr>
        <p:grpSpPr>
          <a:xfrm>
            <a:off x="6799320" y="3271680"/>
            <a:ext cx="1092240" cy="104760"/>
            <a:chOff x="6799320" y="3271680"/>
            <a:chExt cx="1092240" cy="104760"/>
          </a:xfrm>
        </p:grpSpPr>
        <p:sp>
          <p:nvSpPr>
            <p:cNvPr id="265" name="Line 67"/>
            <p:cNvSpPr/>
            <p:nvPr/>
          </p:nvSpPr>
          <p:spPr>
            <a:xfrm>
              <a:off x="6800760" y="3324240"/>
              <a:ext cx="1090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68"/>
            <p:cNvSpPr/>
            <p:nvPr/>
          </p:nvSpPr>
          <p:spPr>
            <a:xfrm>
              <a:off x="7891560" y="3271680"/>
              <a:ext cx="0" cy="104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69"/>
            <p:cNvSpPr/>
            <p:nvPr/>
          </p:nvSpPr>
          <p:spPr>
            <a:xfrm>
              <a:off x="6799320" y="3271680"/>
              <a:ext cx="0" cy="104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8:49Z</dcterms:modified>
  <cp:revision>109</cp:revision>
  <dc:subject/>
  <dc:title>No Slide Title</dc:title>
</cp:coreProperties>
</file>