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10288588" cy="6858000"/>
  <p:notesSz cx="6386513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386400" cy="98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9000"/>
            <a:ext cx="2766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619440" y="9000"/>
            <a:ext cx="2766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EC1A-9CD0-4D13-B09E-3AA58C52C1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620280" y="858600"/>
            <a:ext cx="5146920" cy="34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53CC-53E7-41BE-BCA1-1CC9E952E9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5962-AB85-4ADE-9A9F-24432FA7AE1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48BB-3957-4BB4-8921-F757116D04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5A60-950A-4B1C-87D9-CDC8E91FC4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4CA4-EB3F-41D8-A3E7-8C4E08D2501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2050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2051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052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053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2054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055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056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2057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EB6D-50BE-4ABE-910F-D6B396094C5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E49B-896C-407D-8DD5-11FDFE6817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A848-E645-46BE-8C9E-CDFB84CB0F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4852-7567-4DE8-BE9F-BF8F674709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07A3-F3EE-4FD3-9E65-CD9A1FD6B0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5226-B53A-4D55-8599-5042D7C3DD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F147-3C05-4FDE-83A4-5A7D6E5C0C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CC82-AE49-47C8-973C-84FE90C54A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1135-F41D-4005-8C84-0C130BBA258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57DD-7379-42DB-8AB7-9026560BEA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3FF8-7C90-4317-8A52-5629F0ACA7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35DD-3367-4447-A153-D468FCFF41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7480-3102-4E0F-AFA9-5990E4C690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18E9-BE50-479C-9AB3-89700B8295E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8AC6-89E8-4640-A2A2-0CEB37C785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CDF8-1F03-46D0-B036-023E5799E3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A8EC-0255-4AF8-8A56-922578C5F6D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15EF-243F-4F57-BF94-10374009D91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0994-CEA2-4865-9E06-F53DAEC12D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EA87-DAAA-48F5-BF10-982389BC92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C753-9FFC-403E-8C9E-60E247A9DA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5590-C66A-4ED0-AFF6-24A44A39654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D97E-A845-43C2-AB70-C60BF42D96B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7F4A-498A-400F-9751-7B6167C87B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3CB2-B0EF-4C45-BA73-D57D9B3F54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27B3-A051-452D-83DE-8AC902BE6F4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D222-9A54-4020-9C5E-A0A3E422BD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F76F-7F58-4272-8C53-13AF25FFB8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8A7F-1BF3-4D07-99D0-CE485DC3B3C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145E-444A-4B04-A92F-47D92387584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6824-1F8F-410F-912B-665F7FC5B7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BDEB-1F89-4C84-9D36-FACFD0F360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01A0-AB73-471E-8669-6175B7AAF9D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3214-E277-4841-85AC-C864942C71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AC00-6703-47CE-BBB9-0CEA30F53A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B992-BE5D-4B79-9B3D-6CB31CF573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4B17-4943-4499-AB44-08572E836C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66DA-E4EC-4E29-9CC8-134E9EDF31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673D-1B93-4AD9-8993-5A963A05EF3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7E6D-B020-4467-B7E8-002BBD6B917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FAC1-522F-4F03-B3CC-E6053A3E39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FF3F-4FBE-4316-BA8F-4739A877503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3C57-57B5-44A1-A68C-94104E997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8320" y="3915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B955-56F8-4939-8E33-FEEA56CC2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3924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9B59-8EA8-4A12-8B61-2554ADF0C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1464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096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832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1464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096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0D2A-761E-42DF-A819-7B8B32115C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CB7D-909C-4318-9B02-F155B2C4BC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F12E-D27D-4D1A-9B18-3E36E2D9C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C9FB-6F96-4F0E-8E22-559E704B0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89F3-0E31-4988-8DDA-570AB5750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495000"/>
            <a:ext cx="874404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F81B-73CA-4403-9B9B-F14424147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4BB1-C091-4B71-883D-8B56603A7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3924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2522-0B54-488A-BEFB-9B9DF9629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94D8-E87A-43FA-9970-A42F53E93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3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F2DE-36BE-4637-911C-A849EE755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358640" indent="-19872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1723320" indent="-19872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1723320" indent="-198720">
              <a:spcAft>
                <a:spcPts val="1276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1723320" indent="-198720">
              <a:spcAft>
                <a:spcPts val="1276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339440" y="6261120"/>
            <a:ext cx="1798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beff"/>
                </a:solidFill>
                <a:latin typeface="Arial"/>
              </a:rPr>
              <a:t>96508-</a:t>
            </a:r>
            <a:fld id="{EC2419F3-D120-49B5-AAF4-20D4A2595167}" type="slidenum">
              <a:rPr b="0" lang="en-US" sz="1200" spc="-1" strike="noStrike">
                <a:solidFill>
                  <a:srgbClr val="e3be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e3beff"/>
                </a:solidFill>
                <a:latin typeface="Arial"/>
              </a:rPr>
              <a:t>S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IACLEBW"/>
          <p:cNvPicPr/>
          <p:nvPr/>
        </p:nvPicPr>
        <p:blipFill>
          <a:blip r:embed="rId2"/>
          <a:stretch/>
        </p:blipFill>
        <p:spPr>
          <a:xfrm>
            <a:off x="9288360" y="5862600"/>
            <a:ext cx="52704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826920" y="806400"/>
            <a:ext cx="8633160" cy="49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447920" y="2081160"/>
            <a:ext cx="7505640" cy="192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DE CONTATO RÍGIDAS GÁS PERMEÁVEIS ESFÉRICAS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3.4_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7920" y="358920"/>
            <a:ext cx="816768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ELEÇÃO DAS LENTES DE TES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7920" y="1449000"/>
            <a:ext cx="8462880" cy="384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20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trole de prescrição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V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total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2240" y="387360"/>
            <a:ext cx="816768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ELEÇÃO DA LENTE DE TES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82120" y="1695600"/>
            <a:ext cx="9704520" cy="3162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21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amanho da pupila controla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ZO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36800" y="297000"/>
            <a:ext cx="83548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POSIÇÃO DAS PÁLPEBR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168" name="Picture 16" descr=""/>
          <p:cNvPicPr/>
          <p:nvPr/>
        </p:nvPicPr>
        <p:blipFill>
          <a:blip r:embed="rId1"/>
          <a:stretch/>
        </p:blipFill>
        <p:spPr>
          <a:xfrm>
            <a:off x="596880" y="1251000"/>
            <a:ext cx="9094680" cy="43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6280" y="38592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ELEÇÃO DAS LENTES DE TES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65160" y="1847880"/>
            <a:ext cx="8672400" cy="3657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8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ônus palpebral controla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total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050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051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05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05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8200" y="326520"/>
            <a:ext cx="8743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ELEÇÃO DAS LENTES DE TES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9000" y="1893960"/>
            <a:ext cx="10098000" cy="253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adaptação das lentes de teste será um guia para definição do desenho da lente,  considerado o ideal para o paci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6280" y="27000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AS LENTES DE TES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6800" y="1695600"/>
            <a:ext cx="9452160" cy="4427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crição da sens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fiança profission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écnicas para promover a adapt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79400" y="905040"/>
            <a:ext cx="8744040" cy="552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PREPARAÇÃO DO PACIEN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40960" y="1828800"/>
            <a:ext cx="8489880" cy="222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VALIAÇÃO DAS LENTES DE TES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826920" y="806400"/>
            <a:ext cx="8633160" cy="49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429840"/>
            <a:ext cx="10287000" cy="73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PLICAÇÃO DAS LENTE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3760" y="1617840"/>
            <a:ext cx="8104320" cy="382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struções ao paci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luçõ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empo de estabiliz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1284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VALIAÇÃO DAS LENTES DE TES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801440" y="1528920"/>
            <a:ext cx="7480440" cy="4859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aptação dinâm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si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imen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aptação estát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lação lente/córne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793800" y="89064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FATORES CHAV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0600" y="253800"/>
            <a:ext cx="87440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VALIAÇÃO DA VIS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3200" y="1126800"/>
            <a:ext cx="9539280" cy="4398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midificação da superfície anterior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bre-refr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fé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ilínd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026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27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28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29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520" y="228600"/>
            <a:ext cx="8744040" cy="66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FATORES CHAV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8000" y="1147680"/>
            <a:ext cx="7358400" cy="463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leção do Paci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didas preliminar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de tes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leção das lentes de tes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valiação da adapt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edido das len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6280" y="21276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PEDIDO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37600" y="1138320"/>
            <a:ext cx="9852120" cy="4859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É Necessário especificar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enho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perfície an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perfície pos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V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teri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lor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VALIAÇÃO DA ADAPTAÇÃO DINÂM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444320"/>
            <a:ext cx="10287000" cy="4179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iente inicialmente com olhar à frente (posição primária de visã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tilize lâmpada de Burton e/ou biomicroscópio com luz branc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terar direção do olhar do paciente conforme necessár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793800" y="90504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MÉTOD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226800"/>
            <a:ext cx="1028700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VALIAÇÃO DA ADAPTAÇÃO DINÂM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1356840"/>
            <a:ext cx="10287000" cy="4179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centr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tabilida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imento depois da piscage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imento com olhar  late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fluência da pálpebra inf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fluência da pálpebra sup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631880" y="833400"/>
            <a:ext cx="7186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BSERVAÇÕES CLÍNIC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1284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VALIAÇÃO DA ADAPTAÇÃO DINÂM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417760" y="990720"/>
            <a:ext cx="565776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DESCENTRAÇÃ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86840" y="1447920"/>
            <a:ext cx="10099800" cy="541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lativa ao centro da córne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dida horizontal e verticalmente em milímetr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ta “cavalgada”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aixa “cavalgada”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27000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STABILIDADE DA ADAPTAÇÃO DINÂM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1531800" y="1382760"/>
            <a:ext cx="71866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ESTABILIDA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2170080"/>
            <a:ext cx="10287000" cy="3092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 lentes apresentam movimento consistente e posição de descentração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VALIAÇÃO DA ADAPTAÇÃO DINÂM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0" y="1020600"/>
            <a:ext cx="10287000" cy="595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MOVIMENTO DEPOIS DA PISCAGE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67960" y="1515960"/>
            <a:ext cx="635508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uantida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ip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elocidade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re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31284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MOVIMENTO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1487520" y="876240"/>
            <a:ext cx="7186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QUANTIDA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14200" y="1201320"/>
            <a:ext cx="10072800" cy="451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ós-piscage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ridiano vertica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bserve a borda inferior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gistrar em milímetr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MOVIMENTO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22240" y="1333080"/>
            <a:ext cx="8756640" cy="4900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a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otação apica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alanceamen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tenção da pálpebr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uas par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631880" y="892080"/>
            <a:ext cx="7186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TIP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13920"/>
            <a:ext cx="102870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VELOCIDADE DO MOVIMENTO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-360" y="2493720"/>
            <a:ext cx="10287000" cy="803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assifique como lento, médio ou rápid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401760"/>
            <a:ext cx="10287000" cy="606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IREÇÃO DO MOVIMENTO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360" y="1964880"/>
            <a:ext cx="10287000" cy="228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crever o caminho do movimen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assifique como vertical, oblíquo (temporal-nasal),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720" y="149040"/>
            <a:ext cx="8744040" cy="479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ELEÇÃO DO PACI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5" name="Rectangle 111"/>
          <p:cNvSpPr/>
          <p:nvPr/>
        </p:nvSpPr>
        <p:spPr>
          <a:xfrm>
            <a:off x="727200" y="942840"/>
            <a:ext cx="8743680" cy="479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ARACTERÍSTICAS IDEAI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28400" y="1724040"/>
            <a:ext cx="6278760" cy="3349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ta motiv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escrição moderada a alt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ricidade cornea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299520"/>
            <a:ext cx="102870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VALIAÇÃO DA ADAPTAÇÃO ESTÁT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81240" y="950400"/>
            <a:ext cx="7999200" cy="4915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valiada na posição primária de vis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 centralizada sobre córne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m influência da pálpebr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luoresceína e luz azul cobal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valiar a espessura do filme lacrim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895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VALIAÇÃO DA ADAPTAÇÃO ESTÁTICA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FLUORESCEÍNA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-360" y="1228320"/>
            <a:ext cx="10287000" cy="4179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midifique as tiras com solução salina estéri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tire o excess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que suavemente a conjuntiva bulbar sup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e mínima quantidade necessár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283680"/>
            <a:ext cx="102870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PADRÃO DE ADAPTAÇÃO ESTÁT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-360" y="1403280"/>
            <a:ext cx="1028700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padrão de adaptação estática é geralmente indicativo das características de adaptação dinâm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valiado para determinar mudanças na adaptação além do tempo norm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18432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VÃLIAÇÃO DA ADAPTAÇÃO ESTÁT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43040" y="1228320"/>
            <a:ext cx="7448400" cy="4483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Zona cent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Zona periférica méd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Zona perifé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tato ou clarida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ridianos horizontal e vertic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1660680" y="747720"/>
            <a:ext cx="718632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TÉCNIC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8432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VALIAÇÃO DA ADAPTAÇÃO ESTÁT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960560" y="1271160"/>
            <a:ext cx="6570720" cy="4179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9000"/>
          </a:bodyPr>
          <a:p>
            <a:pPr marL="270720" indent="-270720" algn="just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xarcamento - apert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just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inh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just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que  - plan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just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mplitude da zona de enxarcamento ou de toqu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1703520" y="647640"/>
            <a:ext cx="71863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ENTR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226800"/>
            <a:ext cx="10287000" cy="477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VALIAÇÃO DA ADAPTAÇÃO ESTÁT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-360" y="1458720"/>
            <a:ext cx="10287000" cy="423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tato – suave, médio, intens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inhamen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aixa de fluoresceín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490680" y="849240"/>
            <a:ext cx="9105840" cy="47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PERIFERIA MÉDI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0640" y="210600"/>
            <a:ext cx="8904240" cy="66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MPLITUDE DE BORDA E RESERVATÓRIO DE LÁGRIMA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4" name="Oval 14"/>
          <p:cNvSpPr/>
          <p:nvPr/>
        </p:nvSpPr>
        <p:spPr>
          <a:xfrm>
            <a:off x="1382760" y="1442880"/>
            <a:ext cx="3349440" cy="33498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16"/>
          <p:cNvSpPr/>
          <p:nvPr/>
        </p:nvSpPr>
        <p:spPr>
          <a:xfrm>
            <a:off x="1881360" y="1900080"/>
            <a:ext cx="2393640" cy="23940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17"/>
          <p:cNvSpPr/>
          <p:nvPr/>
        </p:nvSpPr>
        <p:spPr>
          <a:xfrm>
            <a:off x="5884920" y="1442880"/>
            <a:ext cx="3349440" cy="33498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18"/>
          <p:cNvSpPr/>
          <p:nvPr/>
        </p:nvSpPr>
        <p:spPr>
          <a:xfrm>
            <a:off x="6183360" y="1739880"/>
            <a:ext cx="2754360" cy="2754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2220840" y="2593800"/>
            <a:ext cx="1559160" cy="8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rda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MP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6505560" y="2665440"/>
            <a:ext cx="2049480" cy="8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rda ESTRE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Group 26"/>
          <p:cNvGrpSpPr/>
          <p:nvPr/>
        </p:nvGrpSpPr>
        <p:grpSpPr>
          <a:xfrm>
            <a:off x="1624680" y="3189960"/>
            <a:ext cx="465480" cy="875880"/>
            <a:chOff x="1624680" y="3189960"/>
            <a:chExt cx="465480" cy="875880"/>
          </a:xfrm>
        </p:grpSpPr>
        <p:sp>
          <p:nvSpPr>
            <p:cNvPr id="331" name="Freeform 24"/>
            <p:cNvSpPr/>
            <p:nvPr/>
          </p:nvSpPr>
          <p:spPr>
            <a:xfrm rot="21080400">
              <a:off x="2004840" y="3972960"/>
              <a:ext cx="79200" cy="874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50" h="55">
                  <a:moveTo>
                    <a:pt x="50" y="55"/>
                  </a:moveTo>
                  <a:lnTo>
                    <a:pt x="0" y="30"/>
                  </a:lnTo>
                  <a:lnTo>
                    <a:pt x="39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25"/>
            <p:cNvSpPr/>
            <p:nvPr/>
          </p:nvSpPr>
          <p:spPr>
            <a:xfrm rot="21080400">
              <a:off x="1684440" y="3207240"/>
              <a:ext cx="290520" cy="820440"/>
            </a:xfrm>
            <a:custGeom>
              <a:avLst/>
              <a:gdLst>
                <a:gd name="textAreaLeft" fmla="*/ 0 w 290520"/>
                <a:gd name="textAreaRight" fmla="*/ 290520 w 29052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83" h="517">
                  <a:moveTo>
                    <a:pt x="183" y="517"/>
                  </a:moveTo>
                  <a:lnTo>
                    <a:pt x="162" y="490"/>
                  </a:lnTo>
                  <a:lnTo>
                    <a:pt x="143" y="459"/>
                  </a:lnTo>
                  <a:lnTo>
                    <a:pt x="125" y="430"/>
                  </a:lnTo>
                  <a:lnTo>
                    <a:pt x="108" y="400"/>
                  </a:lnTo>
                  <a:lnTo>
                    <a:pt x="91" y="369"/>
                  </a:lnTo>
                  <a:lnTo>
                    <a:pt x="77" y="338"/>
                  </a:lnTo>
                  <a:lnTo>
                    <a:pt x="63" y="305"/>
                  </a:lnTo>
                  <a:lnTo>
                    <a:pt x="50" y="273"/>
                  </a:lnTo>
                  <a:lnTo>
                    <a:pt x="38" y="240"/>
                  </a:lnTo>
                  <a:lnTo>
                    <a:pt x="29" y="205"/>
                  </a:lnTo>
                  <a:lnTo>
                    <a:pt x="21" y="173"/>
                  </a:lnTo>
                  <a:lnTo>
                    <a:pt x="13" y="138"/>
                  </a:lnTo>
                  <a:lnTo>
                    <a:pt x="7" y="103"/>
                  </a:lnTo>
                  <a:lnTo>
                    <a:pt x="4" y="69"/>
                  </a:lnTo>
                  <a:lnTo>
                    <a:pt x="2" y="34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30"/>
          <p:cNvGrpSpPr/>
          <p:nvPr/>
        </p:nvGrpSpPr>
        <p:grpSpPr>
          <a:xfrm>
            <a:off x="4083840" y="3190320"/>
            <a:ext cx="465120" cy="875880"/>
            <a:chOff x="4083840" y="3190320"/>
            <a:chExt cx="465120" cy="875880"/>
          </a:xfrm>
        </p:grpSpPr>
        <p:sp>
          <p:nvSpPr>
            <p:cNvPr id="334" name="Freeform 31"/>
            <p:cNvSpPr/>
            <p:nvPr/>
          </p:nvSpPr>
          <p:spPr>
            <a:xfrm flipH="1" rot="519600">
              <a:off x="4089960" y="3973320"/>
              <a:ext cx="78840" cy="87480"/>
            </a:xfrm>
            <a:custGeom>
              <a:avLst/>
              <a:gdLst>
                <a:gd name="textAreaLeft" fmla="*/ -360 w 78840"/>
                <a:gd name="textAreaRight" fmla="*/ 78840 w 788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50" h="55">
                  <a:moveTo>
                    <a:pt x="50" y="55"/>
                  </a:moveTo>
                  <a:lnTo>
                    <a:pt x="0" y="30"/>
                  </a:lnTo>
                  <a:lnTo>
                    <a:pt x="39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32"/>
            <p:cNvSpPr/>
            <p:nvPr/>
          </p:nvSpPr>
          <p:spPr>
            <a:xfrm flipH="1" rot="519600">
              <a:off x="4198320" y="3207240"/>
              <a:ext cx="290160" cy="820440"/>
            </a:xfrm>
            <a:custGeom>
              <a:avLst/>
              <a:gdLst>
                <a:gd name="textAreaLeft" fmla="*/ 360 w 290160"/>
                <a:gd name="textAreaRight" fmla="*/ 290880 w 29016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83" h="517">
                  <a:moveTo>
                    <a:pt x="183" y="517"/>
                  </a:moveTo>
                  <a:lnTo>
                    <a:pt x="162" y="490"/>
                  </a:lnTo>
                  <a:lnTo>
                    <a:pt x="143" y="459"/>
                  </a:lnTo>
                  <a:lnTo>
                    <a:pt x="125" y="430"/>
                  </a:lnTo>
                  <a:lnTo>
                    <a:pt x="108" y="400"/>
                  </a:lnTo>
                  <a:lnTo>
                    <a:pt x="91" y="369"/>
                  </a:lnTo>
                  <a:lnTo>
                    <a:pt x="77" y="338"/>
                  </a:lnTo>
                  <a:lnTo>
                    <a:pt x="63" y="305"/>
                  </a:lnTo>
                  <a:lnTo>
                    <a:pt x="50" y="273"/>
                  </a:lnTo>
                  <a:lnTo>
                    <a:pt x="38" y="240"/>
                  </a:lnTo>
                  <a:lnTo>
                    <a:pt x="29" y="205"/>
                  </a:lnTo>
                  <a:lnTo>
                    <a:pt x="21" y="173"/>
                  </a:lnTo>
                  <a:lnTo>
                    <a:pt x="13" y="138"/>
                  </a:lnTo>
                  <a:lnTo>
                    <a:pt x="7" y="103"/>
                  </a:lnTo>
                  <a:lnTo>
                    <a:pt x="4" y="69"/>
                  </a:lnTo>
                  <a:lnTo>
                    <a:pt x="2" y="34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37"/>
          <p:cNvGrpSpPr/>
          <p:nvPr/>
        </p:nvGrpSpPr>
        <p:grpSpPr>
          <a:xfrm>
            <a:off x="6030720" y="3202560"/>
            <a:ext cx="343080" cy="881280"/>
            <a:chOff x="6030720" y="3202560"/>
            <a:chExt cx="343080" cy="881280"/>
          </a:xfrm>
        </p:grpSpPr>
        <p:sp>
          <p:nvSpPr>
            <p:cNvPr id="337" name="Freeform 38"/>
            <p:cNvSpPr/>
            <p:nvPr/>
          </p:nvSpPr>
          <p:spPr>
            <a:xfrm rot="21576000">
              <a:off x="6293880" y="3996000"/>
              <a:ext cx="79200" cy="874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50" h="55">
                  <a:moveTo>
                    <a:pt x="50" y="55"/>
                  </a:moveTo>
                  <a:lnTo>
                    <a:pt x="0" y="30"/>
                  </a:lnTo>
                  <a:lnTo>
                    <a:pt x="39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39"/>
            <p:cNvSpPr/>
            <p:nvPr/>
          </p:nvSpPr>
          <p:spPr>
            <a:xfrm rot="21576000">
              <a:off x="6033240" y="3203640"/>
              <a:ext cx="290520" cy="820440"/>
            </a:xfrm>
            <a:custGeom>
              <a:avLst/>
              <a:gdLst>
                <a:gd name="textAreaLeft" fmla="*/ 0 w 290520"/>
                <a:gd name="textAreaRight" fmla="*/ 290520 w 29052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83" h="517">
                  <a:moveTo>
                    <a:pt x="183" y="517"/>
                  </a:moveTo>
                  <a:lnTo>
                    <a:pt x="162" y="490"/>
                  </a:lnTo>
                  <a:lnTo>
                    <a:pt x="143" y="459"/>
                  </a:lnTo>
                  <a:lnTo>
                    <a:pt x="125" y="430"/>
                  </a:lnTo>
                  <a:lnTo>
                    <a:pt x="108" y="400"/>
                  </a:lnTo>
                  <a:lnTo>
                    <a:pt x="91" y="369"/>
                  </a:lnTo>
                  <a:lnTo>
                    <a:pt x="77" y="338"/>
                  </a:lnTo>
                  <a:lnTo>
                    <a:pt x="63" y="305"/>
                  </a:lnTo>
                  <a:lnTo>
                    <a:pt x="50" y="273"/>
                  </a:lnTo>
                  <a:lnTo>
                    <a:pt x="38" y="240"/>
                  </a:lnTo>
                  <a:lnTo>
                    <a:pt x="29" y="205"/>
                  </a:lnTo>
                  <a:lnTo>
                    <a:pt x="21" y="173"/>
                  </a:lnTo>
                  <a:lnTo>
                    <a:pt x="13" y="138"/>
                  </a:lnTo>
                  <a:lnTo>
                    <a:pt x="7" y="103"/>
                  </a:lnTo>
                  <a:lnTo>
                    <a:pt x="4" y="69"/>
                  </a:lnTo>
                  <a:lnTo>
                    <a:pt x="2" y="34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40"/>
          <p:cNvGrpSpPr/>
          <p:nvPr/>
        </p:nvGrpSpPr>
        <p:grpSpPr>
          <a:xfrm>
            <a:off x="5533200" y="3137400"/>
            <a:ext cx="432720" cy="484200"/>
            <a:chOff x="5533200" y="3137400"/>
            <a:chExt cx="432720" cy="484200"/>
          </a:xfrm>
        </p:grpSpPr>
        <p:sp>
          <p:nvSpPr>
            <p:cNvPr id="340" name="Freeform 41"/>
            <p:cNvSpPr/>
            <p:nvPr/>
          </p:nvSpPr>
          <p:spPr>
            <a:xfrm flipH="1" rot="1959000">
              <a:off x="5542560" y="3512880"/>
              <a:ext cx="45000" cy="49680"/>
            </a:xfrm>
            <a:custGeom>
              <a:avLst/>
              <a:gdLst>
                <a:gd name="textAreaLeft" fmla="*/ -360 w 45000"/>
                <a:gd name="textAreaRight" fmla="*/ 45000 w 45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50" h="55">
                  <a:moveTo>
                    <a:pt x="50" y="55"/>
                  </a:moveTo>
                  <a:lnTo>
                    <a:pt x="0" y="30"/>
                  </a:lnTo>
                  <a:lnTo>
                    <a:pt x="39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42"/>
            <p:cNvSpPr/>
            <p:nvPr/>
          </p:nvSpPr>
          <p:spPr>
            <a:xfrm flipH="1" rot="1959000">
              <a:off x="5686200" y="3144960"/>
              <a:ext cx="165960" cy="468720"/>
            </a:xfrm>
            <a:custGeom>
              <a:avLst/>
              <a:gdLst>
                <a:gd name="textAreaLeft" fmla="*/ -360 w 165960"/>
                <a:gd name="textAreaRight" fmla="*/ 165960 w 16596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83" h="517">
                  <a:moveTo>
                    <a:pt x="183" y="517"/>
                  </a:moveTo>
                  <a:lnTo>
                    <a:pt x="162" y="490"/>
                  </a:lnTo>
                  <a:lnTo>
                    <a:pt x="143" y="459"/>
                  </a:lnTo>
                  <a:lnTo>
                    <a:pt x="125" y="430"/>
                  </a:lnTo>
                  <a:lnTo>
                    <a:pt x="108" y="400"/>
                  </a:lnTo>
                  <a:lnTo>
                    <a:pt x="91" y="369"/>
                  </a:lnTo>
                  <a:lnTo>
                    <a:pt x="77" y="338"/>
                  </a:lnTo>
                  <a:lnTo>
                    <a:pt x="63" y="305"/>
                  </a:lnTo>
                  <a:lnTo>
                    <a:pt x="50" y="273"/>
                  </a:lnTo>
                  <a:lnTo>
                    <a:pt x="38" y="240"/>
                  </a:lnTo>
                  <a:lnTo>
                    <a:pt x="29" y="205"/>
                  </a:lnTo>
                  <a:lnTo>
                    <a:pt x="21" y="173"/>
                  </a:lnTo>
                  <a:lnTo>
                    <a:pt x="13" y="138"/>
                  </a:lnTo>
                  <a:lnTo>
                    <a:pt x="7" y="103"/>
                  </a:lnTo>
                  <a:lnTo>
                    <a:pt x="4" y="69"/>
                  </a:lnTo>
                  <a:lnTo>
                    <a:pt x="2" y="34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43"/>
          <p:cNvGrpSpPr/>
          <p:nvPr/>
        </p:nvGrpSpPr>
        <p:grpSpPr>
          <a:xfrm>
            <a:off x="4610160" y="3137400"/>
            <a:ext cx="433080" cy="484200"/>
            <a:chOff x="4610160" y="3137400"/>
            <a:chExt cx="433080" cy="484200"/>
          </a:xfrm>
        </p:grpSpPr>
        <p:sp>
          <p:nvSpPr>
            <p:cNvPr id="343" name="Freeform 44"/>
            <p:cNvSpPr/>
            <p:nvPr/>
          </p:nvSpPr>
          <p:spPr>
            <a:xfrm rot="19641000">
              <a:off x="4988160" y="3512880"/>
              <a:ext cx="45000" cy="496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50" h="55">
                  <a:moveTo>
                    <a:pt x="50" y="55"/>
                  </a:moveTo>
                  <a:lnTo>
                    <a:pt x="0" y="30"/>
                  </a:lnTo>
                  <a:lnTo>
                    <a:pt x="39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45"/>
            <p:cNvSpPr/>
            <p:nvPr/>
          </p:nvSpPr>
          <p:spPr>
            <a:xfrm rot="19641000">
              <a:off x="4723200" y="3144960"/>
              <a:ext cx="165960" cy="4687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83" h="517">
                  <a:moveTo>
                    <a:pt x="183" y="517"/>
                  </a:moveTo>
                  <a:lnTo>
                    <a:pt x="162" y="490"/>
                  </a:lnTo>
                  <a:lnTo>
                    <a:pt x="143" y="459"/>
                  </a:lnTo>
                  <a:lnTo>
                    <a:pt x="125" y="430"/>
                  </a:lnTo>
                  <a:lnTo>
                    <a:pt x="108" y="400"/>
                  </a:lnTo>
                  <a:lnTo>
                    <a:pt x="91" y="369"/>
                  </a:lnTo>
                  <a:lnTo>
                    <a:pt x="77" y="338"/>
                  </a:lnTo>
                  <a:lnTo>
                    <a:pt x="63" y="305"/>
                  </a:lnTo>
                  <a:lnTo>
                    <a:pt x="50" y="273"/>
                  </a:lnTo>
                  <a:lnTo>
                    <a:pt x="38" y="240"/>
                  </a:lnTo>
                  <a:lnTo>
                    <a:pt x="29" y="205"/>
                  </a:lnTo>
                  <a:lnTo>
                    <a:pt x="21" y="173"/>
                  </a:lnTo>
                  <a:lnTo>
                    <a:pt x="13" y="138"/>
                  </a:lnTo>
                  <a:lnTo>
                    <a:pt x="7" y="103"/>
                  </a:lnTo>
                  <a:lnTo>
                    <a:pt x="4" y="69"/>
                  </a:lnTo>
                  <a:lnTo>
                    <a:pt x="2" y="34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46"/>
          <p:cNvGrpSpPr/>
          <p:nvPr/>
        </p:nvGrpSpPr>
        <p:grpSpPr>
          <a:xfrm>
            <a:off x="1161000" y="3137400"/>
            <a:ext cx="432360" cy="483840"/>
            <a:chOff x="1161000" y="3137400"/>
            <a:chExt cx="432360" cy="483840"/>
          </a:xfrm>
        </p:grpSpPr>
        <p:sp>
          <p:nvSpPr>
            <p:cNvPr id="346" name="Freeform 47"/>
            <p:cNvSpPr/>
            <p:nvPr/>
          </p:nvSpPr>
          <p:spPr>
            <a:xfrm flipH="1" rot="1959000">
              <a:off x="1170360" y="3512880"/>
              <a:ext cx="45000" cy="49680"/>
            </a:xfrm>
            <a:custGeom>
              <a:avLst/>
              <a:gdLst>
                <a:gd name="textAreaLeft" fmla="*/ -360 w 45000"/>
                <a:gd name="textAreaRight" fmla="*/ 45000 w 45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50" h="55">
                  <a:moveTo>
                    <a:pt x="50" y="55"/>
                  </a:moveTo>
                  <a:lnTo>
                    <a:pt x="0" y="30"/>
                  </a:lnTo>
                  <a:lnTo>
                    <a:pt x="39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48"/>
            <p:cNvSpPr/>
            <p:nvPr/>
          </p:nvSpPr>
          <p:spPr>
            <a:xfrm flipH="1" rot="1959000">
              <a:off x="1314000" y="3144960"/>
              <a:ext cx="165600" cy="468720"/>
            </a:xfrm>
            <a:custGeom>
              <a:avLst/>
              <a:gdLst>
                <a:gd name="textAreaLeft" fmla="*/ 360 w 165600"/>
                <a:gd name="textAreaRight" fmla="*/ 166320 w 16560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83" h="517">
                  <a:moveTo>
                    <a:pt x="183" y="517"/>
                  </a:moveTo>
                  <a:lnTo>
                    <a:pt x="162" y="490"/>
                  </a:lnTo>
                  <a:lnTo>
                    <a:pt x="143" y="459"/>
                  </a:lnTo>
                  <a:lnTo>
                    <a:pt x="125" y="430"/>
                  </a:lnTo>
                  <a:lnTo>
                    <a:pt x="108" y="400"/>
                  </a:lnTo>
                  <a:lnTo>
                    <a:pt x="91" y="369"/>
                  </a:lnTo>
                  <a:lnTo>
                    <a:pt x="77" y="338"/>
                  </a:lnTo>
                  <a:lnTo>
                    <a:pt x="63" y="305"/>
                  </a:lnTo>
                  <a:lnTo>
                    <a:pt x="50" y="273"/>
                  </a:lnTo>
                  <a:lnTo>
                    <a:pt x="38" y="240"/>
                  </a:lnTo>
                  <a:lnTo>
                    <a:pt x="29" y="205"/>
                  </a:lnTo>
                  <a:lnTo>
                    <a:pt x="21" y="173"/>
                  </a:lnTo>
                  <a:lnTo>
                    <a:pt x="13" y="138"/>
                  </a:lnTo>
                  <a:lnTo>
                    <a:pt x="7" y="103"/>
                  </a:lnTo>
                  <a:lnTo>
                    <a:pt x="4" y="69"/>
                  </a:lnTo>
                  <a:lnTo>
                    <a:pt x="2" y="34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52"/>
          <p:cNvGrpSpPr/>
          <p:nvPr/>
        </p:nvGrpSpPr>
        <p:grpSpPr>
          <a:xfrm>
            <a:off x="8730720" y="3202560"/>
            <a:ext cx="343080" cy="881280"/>
            <a:chOff x="8730720" y="3202560"/>
            <a:chExt cx="343080" cy="881280"/>
          </a:xfrm>
        </p:grpSpPr>
        <p:sp>
          <p:nvSpPr>
            <p:cNvPr id="349" name="Freeform 53"/>
            <p:cNvSpPr/>
            <p:nvPr/>
          </p:nvSpPr>
          <p:spPr>
            <a:xfrm flipH="1" rot="24000">
              <a:off x="8731080" y="3995640"/>
              <a:ext cx="79200" cy="87480"/>
            </a:xfrm>
            <a:custGeom>
              <a:avLst/>
              <a:gdLst>
                <a:gd name="textAreaLeft" fmla="*/ 360 w 79200"/>
                <a:gd name="textAreaRight" fmla="*/ 79920 w 792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50" h="55">
                  <a:moveTo>
                    <a:pt x="50" y="55"/>
                  </a:moveTo>
                  <a:lnTo>
                    <a:pt x="0" y="30"/>
                  </a:lnTo>
                  <a:lnTo>
                    <a:pt x="39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54"/>
            <p:cNvSpPr/>
            <p:nvPr/>
          </p:nvSpPr>
          <p:spPr>
            <a:xfrm flipH="1" rot="24000">
              <a:off x="8780040" y="3203280"/>
              <a:ext cx="290520" cy="820440"/>
            </a:xfrm>
            <a:custGeom>
              <a:avLst/>
              <a:gdLst>
                <a:gd name="textAreaLeft" fmla="*/ 0 w 290520"/>
                <a:gd name="textAreaRight" fmla="*/ 290520 w 29052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83" h="517">
                  <a:moveTo>
                    <a:pt x="183" y="517"/>
                  </a:moveTo>
                  <a:lnTo>
                    <a:pt x="162" y="490"/>
                  </a:lnTo>
                  <a:lnTo>
                    <a:pt x="143" y="459"/>
                  </a:lnTo>
                  <a:lnTo>
                    <a:pt x="125" y="430"/>
                  </a:lnTo>
                  <a:lnTo>
                    <a:pt x="108" y="400"/>
                  </a:lnTo>
                  <a:lnTo>
                    <a:pt x="91" y="369"/>
                  </a:lnTo>
                  <a:lnTo>
                    <a:pt x="77" y="338"/>
                  </a:lnTo>
                  <a:lnTo>
                    <a:pt x="63" y="305"/>
                  </a:lnTo>
                  <a:lnTo>
                    <a:pt x="50" y="273"/>
                  </a:lnTo>
                  <a:lnTo>
                    <a:pt x="38" y="240"/>
                  </a:lnTo>
                  <a:lnTo>
                    <a:pt x="29" y="205"/>
                  </a:lnTo>
                  <a:lnTo>
                    <a:pt x="21" y="173"/>
                  </a:lnTo>
                  <a:lnTo>
                    <a:pt x="13" y="138"/>
                  </a:lnTo>
                  <a:lnTo>
                    <a:pt x="7" y="103"/>
                  </a:lnTo>
                  <a:lnTo>
                    <a:pt x="4" y="69"/>
                  </a:lnTo>
                  <a:lnTo>
                    <a:pt x="2" y="34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55"/>
          <p:cNvGrpSpPr/>
          <p:nvPr/>
        </p:nvGrpSpPr>
        <p:grpSpPr>
          <a:xfrm>
            <a:off x="9169560" y="3137400"/>
            <a:ext cx="432720" cy="483840"/>
            <a:chOff x="9169560" y="3137400"/>
            <a:chExt cx="432720" cy="483840"/>
          </a:xfrm>
        </p:grpSpPr>
        <p:sp>
          <p:nvSpPr>
            <p:cNvPr id="352" name="Freeform 56"/>
            <p:cNvSpPr/>
            <p:nvPr/>
          </p:nvSpPr>
          <p:spPr>
            <a:xfrm rot="19641000">
              <a:off x="9547200" y="3512880"/>
              <a:ext cx="45000" cy="496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50" h="55">
                  <a:moveTo>
                    <a:pt x="50" y="55"/>
                  </a:moveTo>
                  <a:lnTo>
                    <a:pt x="0" y="30"/>
                  </a:lnTo>
                  <a:lnTo>
                    <a:pt x="39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57"/>
            <p:cNvSpPr/>
            <p:nvPr/>
          </p:nvSpPr>
          <p:spPr>
            <a:xfrm rot="19641000">
              <a:off x="9282600" y="3144600"/>
              <a:ext cx="165600" cy="46872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83" h="517">
                  <a:moveTo>
                    <a:pt x="183" y="517"/>
                  </a:moveTo>
                  <a:lnTo>
                    <a:pt x="162" y="490"/>
                  </a:lnTo>
                  <a:lnTo>
                    <a:pt x="143" y="459"/>
                  </a:lnTo>
                  <a:lnTo>
                    <a:pt x="125" y="430"/>
                  </a:lnTo>
                  <a:lnTo>
                    <a:pt x="108" y="400"/>
                  </a:lnTo>
                  <a:lnTo>
                    <a:pt x="91" y="369"/>
                  </a:lnTo>
                  <a:lnTo>
                    <a:pt x="77" y="338"/>
                  </a:lnTo>
                  <a:lnTo>
                    <a:pt x="63" y="305"/>
                  </a:lnTo>
                  <a:lnTo>
                    <a:pt x="50" y="273"/>
                  </a:lnTo>
                  <a:lnTo>
                    <a:pt x="38" y="240"/>
                  </a:lnTo>
                  <a:lnTo>
                    <a:pt x="29" y="205"/>
                  </a:lnTo>
                  <a:lnTo>
                    <a:pt x="21" y="173"/>
                  </a:lnTo>
                  <a:lnTo>
                    <a:pt x="13" y="138"/>
                  </a:lnTo>
                  <a:lnTo>
                    <a:pt x="7" y="103"/>
                  </a:lnTo>
                  <a:lnTo>
                    <a:pt x="4" y="69"/>
                  </a:lnTo>
                  <a:lnTo>
                    <a:pt x="2" y="34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Rectangle 58"/>
          <p:cNvSpPr/>
          <p:nvPr/>
        </p:nvSpPr>
        <p:spPr>
          <a:xfrm>
            <a:off x="919080" y="4975200"/>
            <a:ext cx="3611520" cy="8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essivo reservatório – adaptação inst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59"/>
          <p:cNvSpPr/>
          <p:nvPr/>
        </p:nvSpPr>
        <p:spPr>
          <a:xfrm>
            <a:off x="5610240" y="4975200"/>
            <a:ext cx="4143240" cy="8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ervatório inadequado – adaptação est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12"/>
          <p:cNvSpPr/>
          <p:nvPr/>
        </p:nvSpPr>
        <p:spPr>
          <a:xfrm>
            <a:off x="4659480" y="3560760"/>
            <a:ext cx="33120" cy="239760"/>
          </a:xfrm>
          <a:custGeom>
            <a:avLst/>
            <a:gdLst>
              <a:gd name="textAreaLeft" fmla="*/ 0 w 33120"/>
              <a:gd name="textAreaRight" fmla="*/ 33480 w 331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" h="151">
                <a:moveTo>
                  <a:pt x="9" y="0"/>
                </a:moveTo>
                <a:lnTo>
                  <a:pt x="0" y="10"/>
                </a:lnTo>
                <a:lnTo>
                  <a:pt x="0" y="151"/>
                </a:lnTo>
                <a:lnTo>
                  <a:pt x="21" y="151"/>
                </a:lnTo>
                <a:lnTo>
                  <a:pt x="21" y="10"/>
                </a:lnTo>
                <a:lnTo>
                  <a:pt x="9" y="21"/>
                </a:lnTo>
                <a:lnTo>
                  <a:pt x="9" y="0"/>
                </a:lnTo>
                <a:lnTo>
                  <a:pt x="0" y="0"/>
                </a:lnTo>
                <a:lnTo>
                  <a:pt x="0" y="10"/>
                </a:lnTo>
                <a:lnTo>
                  <a:pt x="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13"/>
          <p:cNvSpPr/>
          <p:nvPr/>
        </p:nvSpPr>
        <p:spPr>
          <a:xfrm>
            <a:off x="4673520" y="3560760"/>
            <a:ext cx="2525760" cy="33480"/>
          </a:xfrm>
          <a:custGeom>
            <a:avLst/>
            <a:gdLst>
              <a:gd name="textAreaLeft" fmla="*/ 0 w 2525760"/>
              <a:gd name="textAreaRight" fmla="*/ 2526120 w 2525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591" h="21">
                <a:moveTo>
                  <a:pt x="1591" y="10"/>
                </a:moveTo>
                <a:lnTo>
                  <a:pt x="1582" y="0"/>
                </a:lnTo>
                <a:lnTo>
                  <a:pt x="0" y="0"/>
                </a:lnTo>
                <a:lnTo>
                  <a:pt x="0" y="21"/>
                </a:lnTo>
                <a:lnTo>
                  <a:pt x="1582" y="21"/>
                </a:lnTo>
                <a:lnTo>
                  <a:pt x="1571" y="10"/>
                </a:lnTo>
                <a:lnTo>
                  <a:pt x="1591" y="10"/>
                </a:lnTo>
                <a:lnTo>
                  <a:pt x="1591" y="0"/>
                </a:lnTo>
                <a:lnTo>
                  <a:pt x="1582" y="0"/>
                </a:lnTo>
                <a:lnTo>
                  <a:pt x="1591" y="1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14"/>
          <p:cNvSpPr/>
          <p:nvPr/>
        </p:nvSpPr>
        <p:spPr>
          <a:xfrm>
            <a:off x="7167600" y="3576600"/>
            <a:ext cx="31680" cy="1697040"/>
          </a:xfrm>
          <a:custGeom>
            <a:avLst/>
            <a:gdLst>
              <a:gd name="textAreaLeft" fmla="*/ 0 w 31680"/>
              <a:gd name="textAreaRight" fmla="*/ 32040 w 31680"/>
              <a:gd name="textAreaTop" fmla="*/ 0 h 1697040"/>
              <a:gd name="textAreaBottom" fmla="*/ 1697400 h 1697040"/>
            </a:gdLst>
            <a:ahLst/>
            <a:rect l="textAreaLeft" t="textAreaTop" r="textAreaRight" b="textAreaBottom"/>
            <a:pathLst>
              <a:path w="20" h="1069">
                <a:moveTo>
                  <a:pt x="11" y="1069"/>
                </a:moveTo>
                <a:lnTo>
                  <a:pt x="20" y="1058"/>
                </a:lnTo>
                <a:lnTo>
                  <a:pt x="20" y="0"/>
                </a:lnTo>
                <a:lnTo>
                  <a:pt x="0" y="0"/>
                </a:lnTo>
                <a:lnTo>
                  <a:pt x="0" y="1058"/>
                </a:lnTo>
                <a:lnTo>
                  <a:pt x="11" y="1048"/>
                </a:lnTo>
                <a:lnTo>
                  <a:pt x="11" y="1069"/>
                </a:lnTo>
                <a:lnTo>
                  <a:pt x="20" y="1069"/>
                </a:lnTo>
                <a:lnTo>
                  <a:pt x="20" y="1058"/>
                </a:lnTo>
                <a:lnTo>
                  <a:pt x="11" y="10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15"/>
          <p:cNvSpPr/>
          <p:nvPr/>
        </p:nvSpPr>
        <p:spPr>
          <a:xfrm>
            <a:off x="4659480" y="5240160"/>
            <a:ext cx="2525400" cy="33480"/>
          </a:xfrm>
          <a:custGeom>
            <a:avLst/>
            <a:gdLst>
              <a:gd name="textAreaLeft" fmla="*/ 0 w 2525400"/>
              <a:gd name="textAreaRight" fmla="*/ 2525760 w 25254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591" h="21">
                <a:moveTo>
                  <a:pt x="0" y="10"/>
                </a:moveTo>
                <a:lnTo>
                  <a:pt x="9" y="21"/>
                </a:lnTo>
                <a:lnTo>
                  <a:pt x="1591" y="21"/>
                </a:lnTo>
                <a:lnTo>
                  <a:pt x="1591" y="0"/>
                </a:lnTo>
                <a:lnTo>
                  <a:pt x="9" y="0"/>
                </a:lnTo>
                <a:lnTo>
                  <a:pt x="21" y="10"/>
                </a:lnTo>
                <a:lnTo>
                  <a:pt x="0" y="10"/>
                </a:lnTo>
                <a:lnTo>
                  <a:pt x="0" y="21"/>
                </a:lnTo>
                <a:lnTo>
                  <a:pt x="9" y="21"/>
                </a:lnTo>
                <a:lnTo>
                  <a:pt x="0" y="1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16"/>
          <p:cNvSpPr/>
          <p:nvPr/>
        </p:nvSpPr>
        <p:spPr>
          <a:xfrm>
            <a:off x="4659480" y="5067360"/>
            <a:ext cx="33120" cy="189000"/>
          </a:xfrm>
          <a:custGeom>
            <a:avLst/>
            <a:gdLst>
              <a:gd name="textAreaLeft" fmla="*/ 0 w 33120"/>
              <a:gd name="textAreaRight" fmla="*/ 33480 w 3312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" h="119">
                <a:moveTo>
                  <a:pt x="9" y="0"/>
                </a:moveTo>
                <a:lnTo>
                  <a:pt x="0" y="0"/>
                </a:lnTo>
                <a:lnTo>
                  <a:pt x="0" y="119"/>
                </a:lnTo>
                <a:lnTo>
                  <a:pt x="21" y="119"/>
                </a:lnTo>
                <a:lnTo>
                  <a:pt x="21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17"/>
          <p:cNvSpPr/>
          <p:nvPr/>
        </p:nvSpPr>
        <p:spPr>
          <a:xfrm>
            <a:off x="1041480" y="1184400"/>
            <a:ext cx="6810120" cy="4728960"/>
          </a:xfrm>
          <a:custGeom>
            <a:avLst/>
            <a:gdLst>
              <a:gd name="textAreaLeft" fmla="*/ 0 w 6810120"/>
              <a:gd name="textAreaRight" fmla="*/ 6810480 w 6810120"/>
              <a:gd name="textAreaTop" fmla="*/ 0 h 4728960"/>
              <a:gd name="textAreaBottom" fmla="*/ 4729320 h 4728960"/>
            </a:gdLst>
            <a:ahLst/>
            <a:rect l="textAreaLeft" t="textAreaTop" r="textAreaRight" b="textAreaBottom"/>
            <a:pathLst>
              <a:path w="4290" h="2979">
                <a:moveTo>
                  <a:pt x="4290" y="2950"/>
                </a:moveTo>
                <a:lnTo>
                  <a:pt x="4168" y="2834"/>
                </a:lnTo>
                <a:lnTo>
                  <a:pt x="4049" y="2716"/>
                </a:lnTo>
                <a:lnTo>
                  <a:pt x="3926" y="2600"/>
                </a:lnTo>
                <a:lnTo>
                  <a:pt x="3807" y="2486"/>
                </a:lnTo>
                <a:lnTo>
                  <a:pt x="3686" y="2373"/>
                </a:lnTo>
                <a:lnTo>
                  <a:pt x="3565" y="2259"/>
                </a:lnTo>
                <a:lnTo>
                  <a:pt x="3443" y="2148"/>
                </a:lnTo>
                <a:lnTo>
                  <a:pt x="3321" y="2038"/>
                </a:lnTo>
                <a:lnTo>
                  <a:pt x="3198" y="1929"/>
                </a:lnTo>
                <a:lnTo>
                  <a:pt x="3076" y="1821"/>
                </a:lnTo>
                <a:lnTo>
                  <a:pt x="2952" y="1716"/>
                </a:lnTo>
                <a:lnTo>
                  <a:pt x="2826" y="1610"/>
                </a:lnTo>
                <a:lnTo>
                  <a:pt x="2701" y="1508"/>
                </a:lnTo>
                <a:lnTo>
                  <a:pt x="2573" y="1407"/>
                </a:lnTo>
                <a:lnTo>
                  <a:pt x="2446" y="1308"/>
                </a:lnTo>
                <a:lnTo>
                  <a:pt x="2317" y="1212"/>
                </a:lnTo>
                <a:lnTo>
                  <a:pt x="2187" y="1115"/>
                </a:lnTo>
                <a:lnTo>
                  <a:pt x="2055" y="1022"/>
                </a:lnTo>
                <a:lnTo>
                  <a:pt x="1921" y="931"/>
                </a:lnTo>
                <a:lnTo>
                  <a:pt x="1786" y="843"/>
                </a:lnTo>
                <a:lnTo>
                  <a:pt x="1651" y="757"/>
                </a:lnTo>
                <a:lnTo>
                  <a:pt x="1512" y="674"/>
                </a:lnTo>
                <a:lnTo>
                  <a:pt x="1372" y="593"/>
                </a:lnTo>
                <a:lnTo>
                  <a:pt x="1230" y="516"/>
                </a:lnTo>
                <a:lnTo>
                  <a:pt x="1087" y="440"/>
                </a:lnTo>
                <a:lnTo>
                  <a:pt x="939" y="368"/>
                </a:lnTo>
                <a:lnTo>
                  <a:pt x="791" y="298"/>
                </a:lnTo>
                <a:lnTo>
                  <a:pt x="639" y="232"/>
                </a:lnTo>
                <a:lnTo>
                  <a:pt x="486" y="169"/>
                </a:lnTo>
                <a:lnTo>
                  <a:pt x="332" y="110"/>
                </a:lnTo>
                <a:lnTo>
                  <a:pt x="172" y="55"/>
                </a:lnTo>
                <a:lnTo>
                  <a:pt x="11" y="0"/>
                </a:lnTo>
                <a:lnTo>
                  <a:pt x="0" y="41"/>
                </a:lnTo>
                <a:lnTo>
                  <a:pt x="159" y="94"/>
                </a:lnTo>
                <a:lnTo>
                  <a:pt x="317" y="148"/>
                </a:lnTo>
                <a:lnTo>
                  <a:pt x="472" y="208"/>
                </a:lnTo>
                <a:lnTo>
                  <a:pt x="623" y="271"/>
                </a:lnTo>
                <a:lnTo>
                  <a:pt x="774" y="335"/>
                </a:lnTo>
                <a:lnTo>
                  <a:pt x="921" y="405"/>
                </a:lnTo>
                <a:lnTo>
                  <a:pt x="1068" y="477"/>
                </a:lnTo>
                <a:lnTo>
                  <a:pt x="1211" y="551"/>
                </a:lnTo>
                <a:lnTo>
                  <a:pt x="1351" y="629"/>
                </a:lnTo>
                <a:lnTo>
                  <a:pt x="1491" y="709"/>
                </a:lnTo>
                <a:lnTo>
                  <a:pt x="1628" y="793"/>
                </a:lnTo>
                <a:lnTo>
                  <a:pt x="1765" y="878"/>
                </a:lnTo>
                <a:lnTo>
                  <a:pt x="1899" y="965"/>
                </a:lnTo>
                <a:lnTo>
                  <a:pt x="2031" y="1057"/>
                </a:lnTo>
                <a:lnTo>
                  <a:pt x="2163" y="1149"/>
                </a:lnTo>
                <a:lnTo>
                  <a:pt x="2292" y="1244"/>
                </a:lnTo>
                <a:lnTo>
                  <a:pt x="2420" y="1341"/>
                </a:lnTo>
                <a:lnTo>
                  <a:pt x="2549" y="1439"/>
                </a:lnTo>
                <a:lnTo>
                  <a:pt x="2675" y="1540"/>
                </a:lnTo>
                <a:lnTo>
                  <a:pt x="2800" y="1643"/>
                </a:lnTo>
                <a:lnTo>
                  <a:pt x="2924" y="1747"/>
                </a:lnTo>
                <a:lnTo>
                  <a:pt x="3048" y="1853"/>
                </a:lnTo>
                <a:lnTo>
                  <a:pt x="3171" y="1959"/>
                </a:lnTo>
                <a:lnTo>
                  <a:pt x="3293" y="2069"/>
                </a:lnTo>
                <a:lnTo>
                  <a:pt x="3414" y="2180"/>
                </a:lnTo>
                <a:lnTo>
                  <a:pt x="3536" y="2291"/>
                </a:lnTo>
                <a:lnTo>
                  <a:pt x="3657" y="2402"/>
                </a:lnTo>
                <a:lnTo>
                  <a:pt x="3778" y="2517"/>
                </a:lnTo>
                <a:lnTo>
                  <a:pt x="3899" y="2631"/>
                </a:lnTo>
                <a:lnTo>
                  <a:pt x="4020" y="2747"/>
                </a:lnTo>
                <a:lnTo>
                  <a:pt x="4140" y="2863"/>
                </a:lnTo>
                <a:lnTo>
                  <a:pt x="4261" y="2979"/>
                </a:lnTo>
                <a:lnTo>
                  <a:pt x="4290" y="295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18"/>
          <p:cNvSpPr/>
          <p:nvPr/>
        </p:nvSpPr>
        <p:spPr>
          <a:xfrm>
            <a:off x="1041480" y="1184400"/>
            <a:ext cx="6846840" cy="3744720"/>
          </a:xfrm>
          <a:custGeom>
            <a:avLst/>
            <a:gdLst>
              <a:gd name="textAreaLeft" fmla="*/ 0 w 6846840"/>
              <a:gd name="textAreaRight" fmla="*/ 6847200 w 6846840"/>
              <a:gd name="textAreaTop" fmla="*/ 0 h 3744720"/>
              <a:gd name="textAreaBottom" fmla="*/ 3745080 h 3744720"/>
            </a:gdLst>
            <a:ahLst/>
            <a:rect l="textAreaLeft" t="textAreaTop" r="textAreaRight" b="textAreaBottom"/>
            <a:pathLst>
              <a:path w="4313" h="2359">
                <a:moveTo>
                  <a:pt x="4313" y="2325"/>
                </a:moveTo>
                <a:lnTo>
                  <a:pt x="4179" y="2223"/>
                </a:lnTo>
                <a:lnTo>
                  <a:pt x="4049" y="2124"/>
                </a:lnTo>
                <a:lnTo>
                  <a:pt x="3918" y="2027"/>
                </a:lnTo>
                <a:lnTo>
                  <a:pt x="3791" y="1930"/>
                </a:lnTo>
                <a:lnTo>
                  <a:pt x="3662" y="1837"/>
                </a:lnTo>
                <a:lnTo>
                  <a:pt x="3535" y="1747"/>
                </a:lnTo>
                <a:lnTo>
                  <a:pt x="3409" y="1658"/>
                </a:lnTo>
                <a:lnTo>
                  <a:pt x="3284" y="1573"/>
                </a:lnTo>
                <a:lnTo>
                  <a:pt x="3158" y="1489"/>
                </a:lnTo>
                <a:lnTo>
                  <a:pt x="3032" y="1407"/>
                </a:lnTo>
                <a:lnTo>
                  <a:pt x="2907" y="1326"/>
                </a:lnTo>
                <a:lnTo>
                  <a:pt x="2783" y="1247"/>
                </a:lnTo>
                <a:lnTo>
                  <a:pt x="2657" y="1170"/>
                </a:lnTo>
                <a:lnTo>
                  <a:pt x="2531" y="1097"/>
                </a:lnTo>
                <a:lnTo>
                  <a:pt x="2404" y="1023"/>
                </a:lnTo>
                <a:lnTo>
                  <a:pt x="2275" y="951"/>
                </a:lnTo>
                <a:lnTo>
                  <a:pt x="2148" y="883"/>
                </a:lnTo>
                <a:lnTo>
                  <a:pt x="2019" y="815"/>
                </a:lnTo>
                <a:lnTo>
                  <a:pt x="1889" y="748"/>
                </a:lnTo>
                <a:lnTo>
                  <a:pt x="1757" y="683"/>
                </a:lnTo>
                <a:lnTo>
                  <a:pt x="1625" y="620"/>
                </a:lnTo>
                <a:lnTo>
                  <a:pt x="1488" y="558"/>
                </a:lnTo>
                <a:lnTo>
                  <a:pt x="1351" y="496"/>
                </a:lnTo>
                <a:lnTo>
                  <a:pt x="1214" y="437"/>
                </a:lnTo>
                <a:lnTo>
                  <a:pt x="1072" y="379"/>
                </a:lnTo>
                <a:lnTo>
                  <a:pt x="929" y="322"/>
                </a:lnTo>
                <a:lnTo>
                  <a:pt x="782" y="266"/>
                </a:lnTo>
                <a:lnTo>
                  <a:pt x="634" y="211"/>
                </a:lnTo>
                <a:lnTo>
                  <a:pt x="483" y="158"/>
                </a:lnTo>
                <a:lnTo>
                  <a:pt x="330" y="105"/>
                </a:lnTo>
                <a:lnTo>
                  <a:pt x="172" y="52"/>
                </a:lnTo>
                <a:lnTo>
                  <a:pt x="11" y="0"/>
                </a:lnTo>
                <a:lnTo>
                  <a:pt x="0" y="41"/>
                </a:lnTo>
                <a:lnTo>
                  <a:pt x="159" y="92"/>
                </a:lnTo>
                <a:lnTo>
                  <a:pt x="315" y="144"/>
                </a:lnTo>
                <a:lnTo>
                  <a:pt x="470" y="197"/>
                </a:lnTo>
                <a:lnTo>
                  <a:pt x="620" y="250"/>
                </a:lnTo>
                <a:lnTo>
                  <a:pt x="768" y="305"/>
                </a:lnTo>
                <a:lnTo>
                  <a:pt x="915" y="361"/>
                </a:lnTo>
                <a:lnTo>
                  <a:pt x="1056" y="417"/>
                </a:lnTo>
                <a:lnTo>
                  <a:pt x="1196" y="475"/>
                </a:lnTo>
                <a:lnTo>
                  <a:pt x="1335" y="535"/>
                </a:lnTo>
                <a:lnTo>
                  <a:pt x="1472" y="595"/>
                </a:lnTo>
                <a:lnTo>
                  <a:pt x="1605" y="658"/>
                </a:lnTo>
                <a:lnTo>
                  <a:pt x="1739" y="720"/>
                </a:lnTo>
                <a:lnTo>
                  <a:pt x="1870" y="785"/>
                </a:lnTo>
                <a:lnTo>
                  <a:pt x="2000" y="852"/>
                </a:lnTo>
                <a:lnTo>
                  <a:pt x="2129" y="920"/>
                </a:lnTo>
                <a:lnTo>
                  <a:pt x="2258" y="989"/>
                </a:lnTo>
                <a:lnTo>
                  <a:pt x="2383" y="1059"/>
                </a:lnTo>
                <a:lnTo>
                  <a:pt x="2511" y="1133"/>
                </a:lnTo>
                <a:lnTo>
                  <a:pt x="2636" y="1207"/>
                </a:lnTo>
                <a:lnTo>
                  <a:pt x="2760" y="1283"/>
                </a:lnTo>
                <a:lnTo>
                  <a:pt x="2886" y="1362"/>
                </a:lnTo>
                <a:lnTo>
                  <a:pt x="3010" y="1440"/>
                </a:lnTo>
                <a:lnTo>
                  <a:pt x="3135" y="1523"/>
                </a:lnTo>
                <a:lnTo>
                  <a:pt x="3259" y="1606"/>
                </a:lnTo>
                <a:lnTo>
                  <a:pt x="3385" y="1693"/>
                </a:lnTo>
                <a:lnTo>
                  <a:pt x="3511" y="1780"/>
                </a:lnTo>
                <a:lnTo>
                  <a:pt x="3638" y="1872"/>
                </a:lnTo>
                <a:lnTo>
                  <a:pt x="3765" y="1964"/>
                </a:lnTo>
                <a:lnTo>
                  <a:pt x="3894" y="2059"/>
                </a:lnTo>
                <a:lnTo>
                  <a:pt x="4023" y="2156"/>
                </a:lnTo>
                <a:lnTo>
                  <a:pt x="4155" y="2256"/>
                </a:lnTo>
                <a:lnTo>
                  <a:pt x="4287" y="2359"/>
                </a:lnTo>
                <a:lnTo>
                  <a:pt x="4313" y="2325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19"/>
          <p:cNvSpPr/>
          <p:nvPr/>
        </p:nvSpPr>
        <p:spPr>
          <a:xfrm>
            <a:off x="1071720" y="614520"/>
            <a:ext cx="6222960" cy="2947680"/>
          </a:xfrm>
          <a:custGeom>
            <a:avLst/>
            <a:gdLst>
              <a:gd name="textAreaLeft" fmla="*/ 0 w 6222960"/>
              <a:gd name="textAreaRight" fmla="*/ 6223320 w 6222960"/>
              <a:gd name="textAreaTop" fmla="*/ 0 h 2947680"/>
              <a:gd name="textAreaBottom" fmla="*/ 2948040 h 2947680"/>
            </a:gdLst>
            <a:ahLst/>
            <a:rect l="textAreaLeft" t="textAreaTop" r="textAreaRight" b="textAreaBottom"/>
            <a:pathLst>
              <a:path w="3920" h="1857">
                <a:moveTo>
                  <a:pt x="0" y="358"/>
                </a:moveTo>
                <a:lnTo>
                  <a:pt x="92" y="387"/>
                </a:lnTo>
                <a:lnTo>
                  <a:pt x="187" y="417"/>
                </a:lnTo>
                <a:lnTo>
                  <a:pt x="280" y="446"/>
                </a:lnTo>
                <a:lnTo>
                  <a:pt x="375" y="475"/>
                </a:lnTo>
                <a:lnTo>
                  <a:pt x="470" y="506"/>
                </a:lnTo>
                <a:lnTo>
                  <a:pt x="565" y="538"/>
                </a:lnTo>
                <a:lnTo>
                  <a:pt x="662" y="569"/>
                </a:lnTo>
                <a:lnTo>
                  <a:pt x="757" y="599"/>
                </a:lnTo>
                <a:lnTo>
                  <a:pt x="854" y="633"/>
                </a:lnTo>
                <a:lnTo>
                  <a:pt x="950" y="665"/>
                </a:lnTo>
                <a:lnTo>
                  <a:pt x="1047" y="699"/>
                </a:lnTo>
                <a:lnTo>
                  <a:pt x="1144" y="733"/>
                </a:lnTo>
                <a:lnTo>
                  <a:pt x="1239" y="770"/>
                </a:lnTo>
                <a:lnTo>
                  <a:pt x="1335" y="805"/>
                </a:lnTo>
                <a:lnTo>
                  <a:pt x="1432" y="843"/>
                </a:lnTo>
                <a:lnTo>
                  <a:pt x="1527" y="881"/>
                </a:lnTo>
                <a:lnTo>
                  <a:pt x="1622" y="920"/>
                </a:lnTo>
                <a:lnTo>
                  <a:pt x="1717" y="962"/>
                </a:lnTo>
                <a:lnTo>
                  <a:pt x="1812" y="1004"/>
                </a:lnTo>
                <a:lnTo>
                  <a:pt x="1905" y="1046"/>
                </a:lnTo>
                <a:lnTo>
                  <a:pt x="1999" y="1091"/>
                </a:lnTo>
                <a:lnTo>
                  <a:pt x="2092" y="1137"/>
                </a:lnTo>
                <a:lnTo>
                  <a:pt x="2184" y="1184"/>
                </a:lnTo>
                <a:lnTo>
                  <a:pt x="2274" y="1234"/>
                </a:lnTo>
                <a:lnTo>
                  <a:pt x="2366" y="1284"/>
                </a:lnTo>
                <a:lnTo>
                  <a:pt x="2454" y="1337"/>
                </a:lnTo>
                <a:lnTo>
                  <a:pt x="2543" y="1390"/>
                </a:lnTo>
                <a:lnTo>
                  <a:pt x="2632" y="1447"/>
                </a:lnTo>
                <a:lnTo>
                  <a:pt x="2717" y="1505"/>
                </a:lnTo>
                <a:lnTo>
                  <a:pt x="2804" y="1566"/>
                </a:lnTo>
                <a:lnTo>
                  <a:pt x="2888" y="1627"/>
                </a:lnTo>
                <a:lnTo>
                  <a:pt x="2971" y="1692"/>
                </a:lnTo>
                <a:lnTo>
                  <a:pt x="2978" y="1695"/>
                </a:lnTo>
                <a:lnTo>
                  <a:pt x="2988" y="1700"/>
                </a:lnTo>
                <a:lnTo>
                  <a:pt x="2997" y="1704"/>
                </a:lnTo>
                <a:lnTo>
                  <a:pt x="3007" y="1709"/>
                </a:lnTo>
                <a:lnTo>
                  <a:pt x="3018" y="1712"/>
                </a:lnTo>
                <a:lnTo>
                  <a:pt x="3031" y="1717"/>
                </a:lnTo>
                <a:lnTo>
                  <a:pt x="3044" y="1722"/>
                </a:lnTo>
                <a:lnTo>
                  <a:pt x="3057" y="1727"/>
                </a:lnTo>
                <a:lnTo>
                  <a:pt x="3071" y="1732"/>
                </a:lnTo>
                <a:lnTo>
                  <a:pt x="3087" y="1737"/>
                </a:lnTo>
                <a:lnTo>
                  <a:pt x="3104" y="1741"/>
                </a:lnTo>
                <a:lnTo>
                  <a:pt x="3118" y="1746"/>
                </a:lnTo>
                <a:lnTo>
                  <a:pt x="3136" y="1751"/>
                </a:lnTo>
                <a:lnTo>
                  <a:pt x="3152" y="1756"/>
                </a:lnTo>
                <a:lnTo>
                  <a:pt x="3170" y="1761"/>
                </a:lnTo>
                <a:lnTo>
                  <a:pt x="3187" y="1766"/>
                </a:lnTo>
                <a:lnTo>
                  <a:pt x="3205" y="1770"/>
                </a:lnTo>
                <a:lnTo>
                  <a:pt x="3223" y="1777"/>
                </a:lnTo>
                <a:lnTo>
                  <a:pt x="3240" y="1780"/>
                </a:lnTo>
                <a:lnTo>
                  <a:pt x="3260" y="1785"/>
                </a:lnTo>
                <a:lnTo>
                  <a:pt x="3277" y="1791"/>
                </a:lnTo>
                <a:lnTo>
                  <a:pt x="3297" y="1796"/>
                </a:lnTo>
                <a:lnTo>
                  <a:pt x="3315" y="1801"/>
                </a:lnTo>
                <a:lnTo>
                  <a:pt x="3332" y="1806"/>
                </a:lnTo>
                <a:lnTo>
                  <a:pt x="3352" y="1811"/>
                </a:lnTo>
                <a:lnTo>
                  <a:pt x="3369" y="1816"/>
                </a:lnTo>
                <a:lnTo>
                  <a:pt x="3387" y="1820"/>
                </a:lnTo>
                <a:lnTo>
                  <a:pt x="3405" y="1825"/>
                </a:lnTo>
                <a:lnTo>
                  <a:pt x="3422" y="1830"/>
                </a:lnTo>
                <a:lnTo>
                  <a:pt x="3439" y="1835"/>
                </a:lnTo>
                <a:lnTo>
                  <a:pt x="3456" y="1840"/>
                </a:lnTo>
                <a:lnTo>
                  <a:pt x="3471" y="1843"/>
                </a:lnTo>
                <a:lnTo>
                  <a:pt x="3495" y="1848"/>
                </a:lnTo>
                <a:lnTo>
                  <a:pt x="3519" y="1851"/>
                </a:lnTo>
                <a:lnTo>
                  <a:pt x="3543" y="1853"/>
                </a:lnTo>
                <a:lnTo>
                  <a:pt x="3566" y="1854"/>
                </a:lnTo>
                <a:lnTo>
                  <a:pt x="3590" y="1856"/>
                </a:lnTo>
                <a:lnTo>
                  <a:pt x="3614" y="1857"/>
                </a:lnTo>
                <a:lnTo>
                  <a:pt x="3637" y="1857"/>
                </a:lnTo>
                <a:lnTo>
                  <a:pt x="3661" y="1857"/>
                </a:lnTo>
                <a:lnTo>
                  <a:pt x="3685" y="1857"/>
                </a:lnTo>
                <a:lnTo>
                  <a:pt x="3707" y="1857"/>
                </a:lnTo>
                <a:lnTo>
                  <a:pt x="3732" y="1856"/>
                </a:lnTo>
                <a:lnTo>
                  <a:pt x="3756" y="1854"/>
                </a:lnTo>
                <a:lnTo>
                  <a:pt x="3778" y="1853"/>
                </a:lnTo>
                <a:lnTo>
                  <a:pt x="3802" y="1851"/>
                </a:lnTo>
                <a:lnTo>
                  <a:pt x="3827" y="1848"/>
                </a:lnTo>
                <a:lnTo>
                  <a:pt x="3851" y="1843"/>
                </a:lnTo>
                <a:lnTo>
                  <a:pt x="3867" y="1837"/>
                </a:lnTo>
                <a:lnTo>
                  <a:pt x="3881" y="1828"/>
                </a:lnTo>
                <a:lnTo>
                  <a:pt x="3893" y="1819"/>
                </a:lnTo>
                <a:lnTo>
                  <a:pt x="3902" y="1811"/>
                </a:lnTo>
                <a:lnTo>
                  <a:pt x="3910" y="1801"/>
                </a:lnTo>
                <a:lnTo>
                  <a:pt x="3915" y="1791"/>
                </a:lnTo>
                <a:lnTo>
                  <a:pt x="3918" y="1782"/>
                </a:lnTo>
                <a:lnTo>
                  <a:pt x="3920" y="1770"/>
                </a:lnTo>
                <a:lnTo>
                  <a:pt x="3920" y="1761"/>
                </a:lnTo>
                <a:lnTo>
                  <a:pt x="3918" y="1751"/>
                </a:lnTo>
                <a:lnTo>
                  <a:pt x="3915" y="1741"/>
                </a:lnTo>
                <a:lnTo>
                  <a:pt x="3910" y="1732"/>
                </a:lnTo>
                <a:lnTo>
                  <a:pt x="3906" y="1722"/>
                </a:lnTo>
                <a:lnTo>
                  <a:pt x="3899" y="1714"/>
                </a:lnTo>
                <a:lnTo>
                  <a:pt x="3891" y="1706"/>
                </a:lnTo>
                <a:lnTo>
                  <a:pt x="3883" y="1698"/>
                </a:lnTo>
                <a:lnTo>
                  <a:pt x="3788" y="1624"/>
                </a:lnTo>
                <a:lnTo>
                  <a:pt x="3691" y="1551"/>
                </a:lnTo>
                <a:lnTo>
                  <a:pt x="3595" y="1482"/>
                </a:lnTo>
                <a:lnTo>
                  <a:pt x="3496" y="1413"/>
                </a:lnTo>
                <a:lnTo>
                  <a:pt x="3397" y="1345"/>
                </a:lnTo>
                <a:lnTo>
                  <a:pt x="3297" y="1281"/>
                </a:lnTo>
                <a:lnTo>
                  <a:pt x="3194" y="1216"/>
                </a:lnTo>
                <a:lnTo>
                  <a:pt x="3092" y="1153"/>
                </a:lnTo>
                <a:lnTo>
                  <a:pt x="2989" y="1092"/>
                </a:lnTo>
                <a:lnTo>
                  <a:pt x="2885" y="1034"/>
                </a:lnTo>
                <a:lnTo>
                  <a:pt x="2780" y="976"/>
                </a:lnTo>
                <a:lnTo>
                  <a:pt x="2675" y="920"/>
                </a:lnTo>
                <a:lnTo>
                  <a:pt x="2569" y="863"/>
                </a:lnTo>
                <a:lnTo>
                  <a:pt x="2461" y="810"/>
                </a:lnTo>
                <a:lnTo>
                  <a:pt x="2353" y="759"/>
                </a:lnTo>
                <a:lnTo>
                  <a:pt x="2245" y="706"/>
                </a:lnTo>
                <a:lnTo>
                  <a:pt x="2136" y="656"/>
                </a:lnTo>
                <a:lnTo>
                  <a:pt x="2026" y="606"/>
                </a:lnTo>
                <a:lnTo>
                  <a:pt x="1917" y="559"/>
                </a:lnTo>
                <a:lnTo>
                  <a:pt x="1805" y="511"/>
                </a:lnTo>
                <a:lnTo>
                  <a:pt x="1694" y="464"/>
                </a:lnTo>
                <a:lnTo>
                  <a:pt x="1583" y="419"/>
                </a:lnTo>
                <a:lnTo>
                  <a:pt x="1472" y="374"/>
                </a:lnTo>
                <a:lnTo>
                  <a:pt x="1359" y="330"/>
                </a:lnTo>
                <a:lnTo>
                  <a:pt x="1248" y="287"/>
                </a:lnTo>
                <a:lnTo>
                  <a:pt x="1135" y="245"/>
                </a:lnTo>
                <a:lnTo>
                  <a:pt x="1021" y="201"/>
                </a:lnTo>
                <a:lnTo>
                  <a:pt x="910" y="161"/>
                </a:lnTo>
                <a:lnTo>
                  <a:pt x="796" y="119"/>
                </a:lnTo>
                <a:lnTo>
                  <a:pt x="683" y="79"/>
                </a:lnTo>
                <a:lnTo>
                  <a:pt x="570" y="39"/>
                </a:lnTo>
                <a:lnTo>
                  <a:pt x="456" y="0"/>
                </a:lnTo>
                <a:lnTo>
                  <a:pt x="279" y="50"/>
                </a:lnTo>
                <a:lnTo>
                  <a:pt x="388" y="159"/>
                </a:lnTo>
                <a:lnTo>
                  <a:pt x="169" y="172"/>
                </a:lnTo>
                <a:lnTo>
                  <a:pt x="218" y="284"/>
                </a:lnTo>
                <a:lnTo>
                  <a:pt x="0" y="35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20"/>
          <p:cNvSpPr/>
          <p:nvPr/>
        </p:nvSpPr>
        <p:spPr>
          <a:xfrm>
            <a:off x="1062000" y="1150920"/>
            <a:ext cx="4745160" cy="2176560"/>
          </a:xfrm>
          <a:custGeom>
            <a:avLst/>
            <a:gdLst>
              <a:gd name="textAreaLeft" fmla="*/ 0 w 4745160"/>
              <a:gd name="textAreaRight" fmla="*/ 4745520 w 4745160"/>
              <a:gd name="textAreaTop" fmla="*/ 0 h 2176560"/>
              <a:gd name="textAreaBottom" fmla="*/ 2176920 h 2176560"/>
            </a:gdLst>
            <a:ahLst/>
            <a:rect l="textAreaLeft" t="textAreaTop" r="textAreaRight" b="textAreaBottom"/>
            <a:pathLst>
              <a:path w="2989" h="1371">
                <a:moveTo>
                  <a:pt x="2987" y="1336"/>
                </a:moveTo>
                <a:lnTo>
                  <a:pt x="2989" y="1336"/>
                </a:lnTo>
                <a:lnTo>
                  <a:pt x="2907" y="1273"/>
                </a:lnTo>
                <a:lnTo>
                  <a:pt x="2821" y="1210"/>
                </a:lnTo>
                <a:lnTo>
                  <a:pt x="2736" y="1151"/>
                </a:lnTo>
                <a:lnTo>
                  <a:pt x="2649" y="1093"/>
                </a:lnTo>
                <a:lnTo>
                  <a:pt x="2560" y="1035"/>
                </a:lnTo>
                <a:lnTo>
                  <a:pt x="2470" y="981"/>
                </a:lnTo>
                <a:lnTo>
                  <a:pt x="2382" y="928"/>
                </a:lnTo>
                <a:lnTo>
                  <a:pt x="2291" y="878"/>
                </a:lnTo>
                <a:lnTo>
                  <a:pt x="2200" y="828"/>
                </a:lnTo>
                <a:lnTo>
                  <a:pt x="2108" y="780"/>
                </a:lnTo>
                <a:lnTo>
                  <a:pt x="2013" y="735"/>
                </a:lnTo>
                <a:lnTo>
                  <a:pt x="1919" y="690"/>
                </a:lnTo>
                <a:lnTo>
                  <a:pt x="1826" y="646"/>
                </a:lnTo>
                <a:lnTo>
                  <a:pt x="1731" y="604"/>
                </a:lnTo>
                <a:lnTo>
                  <a:pt x="1636" y="564"/>
                </a:lnTo>
                <a:lnTo>
                  <a:pt x="1541" y="524"/>
                </a:lnTo>
                <a:lnTo>
                  <a:pt x="1444" y="485"/>
                </a:lnTo>
                <a:lnTo>
                  <a:pt x="1349" y="448"/>
                </a:lnTo>
                <a:lnTo>
                  <a:pt x="1253" y="411"/>
                </a:lnTo>
                <a:lnTo>
                  <a:pt x="1156" y="376"/>
                </a:lnTo>
                <a:lnTo>
                  <a:pt x="1059" y="342"/>
                </a:lnTo>
                <a:lnTo>
                  <a:pt x="963" y="308"/>
                </a:lnTo>
                <a:lnTo>
                  <a:pt x="866" y="276"/>
                </a:lnTo>
                <a:lnTo>
                  <a:pt x="769" y="242"/>
                </a:lnTo>
                <a:lnTo>
                  <a:pt x="674" y="211"/>
                </a:lnTo>
                <a:lnTo>
                  <a:pt x="579" y="179"/>
                </a:lnTo>
                <a:lnTo>
                  <a:pt x="483" y="149"/>
                </a:lnTo>
                <a:lnTo>
                  <a:pt x="388" y="118"/>
                </a:lnTo>
                <a:lnTo>
                  <a:pt x="293" y="89"/>
                </a:lnTo>
                <a:lnTo>
                  <a:pt x="198" y="58"/>
                </a:lnTo>
                <a:lnTo>
                  <a:pt x="104" y="29"/>
                </a:lnTo>
                <a:lnTo>
                  <a:pt x="11" y="0"/>
                </a:lnTo>
                <a:lnTo>
                  <a:pt x="0" y="39"/>
                </a:lnTo>
                <a:lnTo>
                  <a:pt x="91" y="68"/>
                </a:lnTo>
                <a:lnTo>
                  <a:pt x="186" y="99"/>
                </a:lnTo>
                <a:lnTo>
                  <a:pt x="281" y="128"/>
                </a:lnTo>
                <a:lnTo>
                  <a:pt x="375" y="158"/>
                </a:lnTo>
                <a:lnTo>
                  <a:pt x="470" y="189"/>
                </a:lnTo>
                <a:lnTo>
                  <a:pt x="565" y="219"/>
                </a:lnTo>
                <a:lnTo>
                  <a:pt x="662" y="250"/>
                </a:lnTo>
                <a:lnTo>
                  <a:pt x="757" y="282"/>
                </a:lnTo>
                <a:lnTo>
                  <a:pt x="853" y="314"/>
                </a:lnTo>
                <a:lnTo>
                  <a:pt x="950" y="347"/>
                </a:lnTo>
                <a:lnTo>
                  <a:pt x="1045" y="380"/>
                </a:lnTo>
                <a:lnTo>
                  <a:pt x="1141" y="414"/>
                </a:lnTo>
                <a:lnTo>
                  <a:pt x="1238" y="450"/>
                </a:lnTo>
                <a:lnTo>
                  <a:pt x="1335" y="487"/>
                </a:lnTo>
                <a:lnTo>
                  <a:pt x="1430" y="524"/>
                </a:lnTo>
                <a:lnTo>
                  <a:pt x="1523" y="563"/>
                </a:lnTo>
                <a:lnTo>
                  <a:pt x="1620" y="603"/>
                </a:lnTo>
                <a:lnTo>
                  <a:pt x="1715" y="643"/>
                </a:lnTo>
                <a:lnTo>
                  <a:pt x="1810" y="683"/>
                </a:lnTo>
                <a:lnTo>
                  <a:pt x="1902" y="727"/>
                </a:lnTo>
                <a:lnTo>
                  <a:pt x="1995" y="772"/>
                </a:lnTo>
                <a:lnTo>
                  <a:pt x="2088" y="817"/>
                </a:lnTo>
                <a:lnTo>
                  <a:pt x="2180" y="865"/>
                </a:lnTo>
                <a:lnTo>
                  <a:pt x="2270" y="915"/>
                </a:lnTo>
                <a:lnTo>
                  <a:pt x="2361" y="965"/>
                </a:lnTo>
                <a:lnTo>
                  <a:pt x="2451" y="1017"/>
                </a:lnTo>
                <a:lnTo>
                  <a:pt x="2538" y="1070"/>
                </a:lnTo>
                <a:lnTo>
                  <a:pt x="2626" y="1126"/>
                </a:lnTo>
                <a:lnTo>
                  <a:pt x="2712" y="1184"/>
                </a:lnTo>
                <a:lnTo>
                  <a:pt x="2799" y="1244"/>
                </a:lnTo>
                <a:lnTo>
                  <a:pt x="2881" y="1305"/>
                </a:lnTo>
                <a:lnTo>
                  <a:pt x="2965" y="1370"/>
                </a:lnTo>
                <a:lnTo>
                  <a:pt x="2966" y="1371"/>
                </a:lnTo>
                <a:lnTo>
                  <a:pt x="2965" y="1370"/>
                </a:lnTo>
                <a:lnTo>
                  <a:pt x="2966" y="1371"/>
                </a:lnTo>
                <a:lnTo>
                  <a:pt x="2987" y="133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21"/>
          <p:cNvSpPr/>
          <p:nvPr/>
        </p:nvSpPr>
        <p:spPr>
          <a:xfrm>
            <a:off x="5770440" y="3271680"/>
            <a:ext cx="820800" cy="301680"/>
          </a:xfrm>
          <a:custGeom>
            <a:avLst/>
            <a:gdLst>
              <a:gd name="textAreaLeft" fmla="*/ 0 w 820800"/>
              <a:gd name="textAreaRight" fmla="*/ 821160 w 82080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517" h="190">
                <a:moveTo>
                  <a:pt x="514" y="150"/>
                </a:moveTo>
                <a:lnTo>
                  <a:pt x="517" y="150"/>
                </a:lnTo>
                <a:lnTo>
                  <a:pt x="501" y="145"/>
                </a:lnTo>
                <a:lnTo>
                  <a:pt x="485" y="140"/>
                </a:lnTo>
                <a:lnTo>
                  <a:pt x="467" y="135"/>
                </a:lnTo>
                <a:lnTo>
                  <a:pt x="451" y="132"/>
                </a:lnTo>
                <a:lnTo>
                  <a:pt x="432" y="125"/>
                </a:lnTo>
                <a:lnTo>
                  <a:pt x="414" y="122"/>
                </a:lnTo>
                <a:lnTo>
                  <a:pt x="396" y="116"/>
                </a:lnTo>
                <a:lnTo>
                  <a:pt x="379" y="111"/>
                </a:lnTo>
                <a:lnTo>
                  <a:pt x="361" y="106"/>
                </a:lnTo>
                <a:lnTo>
                  <a:pt x="342" y="101"/>
                </a:lnTo>
                <a:lnTo>
                  <a:pt x="324" y="96"/>
                </a:lnTo>
                <a:lnTo>
                  <a:pt x="306" y="92"/>
                </a:lnTo>
                <a:lnTo>
                  <a:pt x="287" y="87"/>
                </a:lnTo>
                <a:lnTo>
                  <a:pt x="269" y="82"/>
                </a:lnTo>
                <a:lnTo>
                  <a:pt x="250" y="77"/>
                </a:lnTo>
                <a:lnTo>
                  <a:pt x="232" y="72"/>
                </a:lnTo>
                <a:lnTo>
                  <a:pt x="214" y="66"/>
                </a:lnTo>
                <a:lnTo>
                  <a:pt x="197" y="63"/>
                </a:lnTo>
                <a:lnTo>
                  <a:pt x="181" y="58"/>
                </a:lnTo>
                <a:lnTo>
                  <a:pt x="164" y="53"/>
                </a:lnTo>
                <a:lnTo>
                  <a:pt x="148" y="47"/>
                </a:lnTo>
                <a:lnTo>
                  <a:pt x="134" y="43"/>
                </a:lnTo>
                <a:lnTo>
                  <a:pt x="118" y="37"/>
                </a:lnTo>
                <a:lnTo>
                  <a:pt x="105" y="34"/>
                </a:lnTo>
                <a:lnTo>
                  <a:pt x="92" y="29"/>
                </a:lnTo>
                <a:lnTo>
                  <a:pt x="78" y="24"/>
                </a:lnTo>
                <a:lnTo>
                  <a:pt x="66" y="19"/>
                </a:lnTo>
                <a:lnTo>
                  <a:pt x="55" y="16"/>
                </a:lnTo>
                <a:lnTo>
                  <a:pt x="45" y="11"/>
                </a:lnTo>
                <a:lnTo>
                  <a:pt x="36" y="8"/>
                </a:lnTo>
                <a:lnTo>
                  <a:pt x="28" y="3"/>
                </a:lnTo>
                <a:lnTo>
                  <a:pt x="21" y="0"/>
                </a:lnTo>
                <a:lnTo>
                  <a:pt x="0" y="35"/>
                </a:lnTo>
                <a:lnTo>
                  <a:pt x="8" y="40"/>
                </a:lnTo>
                <a:lnTo>
                  <a:pt x="18" y="43"/>
                </a:lnTo>
                <a:lnTo>
                  <a:pt x="29" y="48"/>
                </a:lnTo>
                <a:lnTo>
                  <a:pt x="40" y="55"/>
                </a:lnTo>
                <a:lnTo>
                  <a:pt x="52" y="58"/>
                </a:lnTo>
                <a:lnTo>
                  <a:pt x="65" y="63"/>
                </a:lnTo>
                <a:lnTo>
                  <a:pt x="78" y="67"/>
                </a:lnTo>
                <a:lnTo>
                  <a:pt x="90" y="72"/>
                </a:lnTo>
                <a:lnTo>
                  <a:pt x="105" y="77"/>
                </a:lnTo>
                <a:lnTo>
                  <a:pt x="121" y="84"/>
                </a:lnTo>
                <a:lnTo>
                  <a:pt x="137" y="87"/>
                </a:lnTo>
                <a:lnTo>
                  <a:pt x="153" y="93"/>
                </a:lnTo>
                <a:lnTo>
                  <a:pt x="169" y="96"/>
                </a:lnTo>
                <a:lnTo>
                  <a:pt x="187" y="103"/>
                </a:lnTo>
                <a:lnTo>
                  <a:pt x="205" y="106"/>
                </a:lnTo>
                <a:lnTo>
                  <a:pt x="221" y="111"/>
                </a:lnTo>
                <a:lnTo>
                  <a:pt x="239" y="117"/>
                </a:lnTo>
                <a:lnTo>
                  <a:pt x="258" y="122"/>
                </a:lnTo>
                <a:lnTo>
                  <a:pt x="276" y="127"/>
                </a:lnTo>
                <a:lnTo>
                  <a:pt x="293" y="132"/>
                </a:lnTo>
                <a:lnTo>
                  <a:pt x="313" y="137"/>
                </a:lnTo>
                <a:lnTo>
                  <a:pt x="332" y="142"/>
                </a:lnTo>
                <a:lnTo>
                  <a:pt x="350" y="146"/>
                </a:lnTo>
                <a:lnTo>
                  <a:pt x="367" y="151"/>
                </a:lnTo>
                <a:lnTo>
                  <a:pt x="387" y="156"/>
                </a:lnTo>
                <a:lnTo>
                  <a:pt x="404" y="161"/>
                </a:lnTo>
                <a:lnTo>
                  <a:pt x="422" y="166"/>
                </a:lnTo>
                <a:lnTo>
                  <a:pt x="440" y="172"/>
                </a:lnTo>
                <a:lnTo>
                  <a:pt x="458" y="175"/>
                </a:lnTo>
                <a:lnTo>
                  <a:pt x="472" y="180"/>
                </a:lnTo>
                <a:lnTo>
                  <a:pt x="490" y="185"/>
                </a:lnTo>
                <a:lnTo>
                  <a:pt x="506" y="190"/>
                </a:lnTo>
                <a:lnTo>
                  <a:pt x="508" y="190"/>
                </a:lnTo>
                <a:lnTo>
                  <a:pt x="506" y="190"/>
                </a:lnTo>
                <a:lnTo>
                  <a:pt x="508" y="190"/>
                </a:lnTo>
                <a:lnTo>
                  <a:pt x="514" y="15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reeform 22"/>
          <p:cNvSpPr/>
          <p:nvPr/>
        </p:nvSpPr>
        <p:spPr>
          <a:xfrm>
            <a:off x="6576840" y="3510000"/>
            <a:ext cx="617760" cy="85680"/>
          </a:xfrm>
          <a:custGeom>
            <a:avLst/>
            <a:gdLst>
              <a:gd name="textAreaLeft" fmla="*/ 0 w 617760"/>
              <a:gd name="textAreaRight" fmla="*/ 618120 w 6177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89" h="54">
                <a:moveTo>
                  <a:pt x="375" y="1"/>
                </a:moveTo>
                <a:lnTo>
                  <a:pt x="380" y="0"/>
                </a:lnTo>
                <a:lnTo>
                  <a:pt x="355" y="3"/>
                </a:lnTo>
                <a:lnTo>
                  <a:pt x="333" y="6"/>
                </a:lnTo>
                <a:lnTo>
                  <a:pt x="309" y="8"/>
                </a:lnTo>
                <a:lnTo>
                  <a:pt x="286" y="11"/>
                </a:lnTo>
                <a:lnTo>
                  <a:pt x="264" y="11"/>
                </a:lnTo>
                <a:lnTo>
                  <a:pt x="239" y="13"/>
                </a:lnTo>
                <a:lnTo>
                  <a:pt x="217" y="13"/>
                </a:lnTo>
                <a:lnTo>
                  <a:pt x="193" y="13"/>
                </a:lnTo>
                <a:lnTo>
                  <a:pt x="169" y="13"/>
                </a:lnTo>
                <a:lnTo>
                  <a:pt x="146" y="13"/>
                </a:lnTo>
                <a:lnTo>
                  <a:pt x="122" y="11"/>
                </a:lnTo>
                <a:lnTo>
                  <a:pt x="99" y="11"/>
                </a:lnTo>
                <a:lnTo>
                  <a:pt x="77" y="8"/>
                </a:lnTo>
                <a:lnTo>
                  <a:pt x="53" y="6"/>
                </a:lnTo>
                <a:lnTo>
                  <a:pt x="30" y="3"/>
                </a:lnTo>
                <a:lnTo>
                  <a:pt x="6" y="0"/>
                </a:lnTo>
                <a:lnTo>
                  <a:pt x="0" y="40"/>
                </a:lnTo>
                <a:lnTo>
                  <a:pt x="24" y="45"/>
                </a:lnTo>
                <a:lnTo>
                  <a:pt x="49" y="48"/>
                </a:lnTo>
                <a:lnTo>
                  <a:pt x="72" y="50"/>
                </a:lnTo>
                <a:lnTo>
                  <a:pt x="96" y="51"/>
                </a:lnTo>
                <a:lnTo>
                  <a:pt x="120" y="53"/>
                </a:lnTo>
                <a:lnTo>
                  <a:pt x="144" y="54"/>
                </a:lnTo>
                <a:lnTo>
                  <a:pt x="169" y="54"/>
                </a:lnTo>
                <a:lnTo>
                  <a:pt x="193" y="54"/>
                </a:lnTo>
                <a:lnTo>
                  <a:pt x="217" y="54"/>
                </a:lnTo>
                <a:lnTo>
                  <a:pt x="241" y="54"/>
                </a:lnTo>
                <a:lnTo>
                  <a:pt x="265" y="53"/>
                </a:lnTo>
                <a:lnTo>
                  <a:pt x="289" y="51"/>
                </a:lnTo>
                <a:lnTo>
                  <a:pt x="314" y="50"/>
                </a:lnTo>
                <a:lnTo>
                  <a:pt x="336" y="48"/>
                </a:lnTo>
                <a:lnTo>
                  <a:pt x="362" y="45"/>
                </a:lnTo>
                <a:lnTo>
                  <a:pt x="384" y="40"/>
                </a:lnTo>
                <a:lnTo>
                  <a:pt x="389" y="40"/>
                </a:lnTo>
                <a:lnTo>
                  <a:pt x="384" y="40"/>
                </a:lnTo>
                <a:lnTo>
                  <a:pt x="388" y="40"/>
                </a:lnTo>
                <a:lnTo>
                  <a:pt x="389" y="40"/>
                </a:lnTo>
                <a:lnTo>
                  <a:pt x="375" y="1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23"/>
          <p:cNvSpPr/>
          <p:nvPr/>
        </p:nvSpPr>
        <p:spPr>
          <a:xfrm>
            <a:off x="7172280" y="3284640"/>
            <a:ext cx="155520" cy="288720"/>
          </a:xfrm>
          <a:custGeom>
            <a:avLst/>
            <a:gdLst>
              <a:gd name="textAreaLeft" fmla="*/ 0 w 155520"/>
              <a:gd name="textAreaRight" fmla="*/ 155880 w 155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98" h="182">
                <a:moveTo>
                  <a:pt x="29" y="32"/>
                </a:moveTo>
                <a:lnTo>
                  <a:pt x="27" y="32"/>
                </a:lnTo>
                <a:lnTo>
                  <a:pt x="34" y="39"/>
                </a:lnTo>
                <a:lnTo>
                  <a:pt x="40" y="45"/>
                </a:lnTo>
                <a:lnTo>
                  <a:pt x="45" y="51"/>
                </a:lnTo>
                <a:lnTo>
                  <a:pt x="50" y="59"/>
                </a:lnTo>
                <a:lnTo>
                  <a:pt x="53" y="66"/>
                </a:lnTo>
                <a:lnTo>
                  <a:pt x="55" y="76"/>
                </a:lnTo>
                <a:lnTo>
                  <a:pt x="56" y="82"/>
                </a:lnTo>
                <a:lnTo>
                  <a:pt x="56" y="87"/>
                </a:lnTo>
                <a:lnTo>
                  <a:pt x="56" y="95"/>
                </a:lnTo>
                <a:lnTo>
                  <a:pt x="53" y="100"/>
                </a:lnTo>
                <a:lnTo>
                  <a:pt x="50" y="108"/>
                </a:lnTo>
                <a:lnTo>
                  <a:pt x="43" y="114"/>
                </a:lnTo>
                <a:lnTo>
                  <a:pt x="37" y="122"/>
                </a:lnTo>
                <a:lnTo>
                  <a:pt x="27" y="129"/>
                </a:lnTo>
                <a:lnTo>
                  <a:pt x="16" y="135"/>
                </a:lnTo>
                <a:lnTo>
                  <a:pt x="0" y="143"/>
                </a:lnTo>
                <a:lnTo>
                  <a:pt x="14" y="182"/>
                </a:lnTo>
                <a:lnTo>
                  <a:pt x="34" y="172"/>
                </a:lnTo>
                <a:lnTo>
                  <a:pt x="50" y="164"/>
                </a:lnTo>
                <a:lnTo>
                  <a:pt x="64" y="153"/>
                </a:lnTo>
                <a:lnTo>
                  <a:pt x="75" y="142"/>
                </a:lnTo>
                <a:lnTo>
                  <a:pt x="84" y="130"/>
                </a:lnTo>
                <a:lnTo>
                  <a:pt x="90" y="117"/>
                </a:lnTo>
                <a:lnTo>
                  <a:pt x="96" y="105"/>
                </a:lnTo>
                <a:lnTo>
                  <a:pt x="98" y="90"/>
                </a:lnTo>
                <a:lnTo>
                  <a:pt x="98" y="77"/>
                </a:lnTo>
                <a:lnTo>
                  <a:pt x="95" y="64"/>
                </a:lnTo>
                <a:lnTo>
                  <a:pt x="92" y="53"/>
                </a:lnTo>
                <a:lnTo>
                  <a:pt x="87" y="40"/>
                </a:lnTo>
                <a:lnTo>
                  <a:pt x="79" y="29"/>
                </a:lnTo>
                <a:lnTo>
                  <a:pt x="72" y="21"/>
                </a:lnTo>
                <a:lnTo>
                  <a:pt x="64" y="10"/>
                </a:lnTo>
                <a:lnTo>
                  <a:pt x="55" y="0"/>
                </a:lnTo>
                <a:lnTo>
                  <a:pt x="53" y="0"/>
                </a:lnTo>
                <a:lnTo>
                  <a:pt x="55" y="0"/>
                </a:lnTo>
                <a:lnTo>
                  <a:pt x="53" y="0"/>
                </a:lnTo>
                <a:lnTo>
                  <a:pt x="29" y="3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24"/>
          <p:cNvSpPr/>
          <p:nvPr/>
        </p:nvSpPr>
        <p:spPr>
          <a:xfrm>
            <a:off x="1784520" y="581040"/>
            <a:ext cx="5472000" cy="2754360"/>
          </a:xfrm>
          <a:custGeom>
            <a:avLst/>
            <a:gdLst>
              <a:gd name="textAreaLeft" fmla="*/ 0 w 5472000"/>
              <a:gd name="textAreaRight" fmla="*/ 5472360 w 547200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3447" h="1735">
                <a:moveTo>
                  <a:pt x="13" y="40"/>
                </a:moveTo>
                <a:lnTo>
                  <a:pt x="0" y="40"/>
                </a:lnTo>
                <a:lnTo>
                  <a:pt x="115" y="79"/>
                </a:lnTo>
                <a:lnTo>
                  <a:pt x="227" y="119"/>
                </a:lnTo>
                <a:lnTo>
                  <a:pt x="340" y="160"/>
                </a:lnTo>
                <a:lnTo>
                  <a:pt x="453" y="201"/>
                </a:lnTo>
                <a:lnTo>
                  <a:pt x="566" y="242"/>
                </a:lnTo>
                <a:lnTo>
                  <a:pt x="678" y="285"/>
                </a:lnTo>
                <a:lnTo>
                  <a:pt x="791" y="327"/>
                </a:lnTo>
                <a:lnTo>
                  <a:pt x="904" y="371"/>
                </a:lnTo>
                <a:lnTo>
                  <a:pt x="1015" y="414"/>
                </a:lnTo>
                <a:lnTo>
                  <a:pt x="1126" y="459"/>
                </a:lnTo>
                <a:lnTo>
                  <a:pt x="1237" y="504"/>
                </a:lnTo>
                <a:lnTo>
                  <a:pt x="1348" y="551"/>
                </a:lnTo>
                <a:lnTo>
                  <a:pt x="1460" y="599"/>
                </a:lnTo>
                <a:lnTo>
                  <a:pt x="1569" y="648"/>
                </a:lnTo>
                <a:lnTo>
                  <a:pt x="1679" y="694"/>
                </a:lnTo>
                <a:lnTo>
                  <a:pt x="1786" y="746"/>
                </a:lnTo>
                <a:lnTo>
                  <a:pt x="1894" y="797"/>
                </a:lnTo>
                <a:lnTo>
                  <a:pt x="2002" y="851"/>
                </a:lnTo>
                <a:lnTo>
                  <a:pt x="2110" y="904"/>
                </a:lnTo>
                <a:lnTo>
                  <a:pt x="2215" y="959"/>
                </a:lnTo>
                <a:lnTo>
                  <a:pt x="2321" y="1017"/>
                </a:lnTo>
                <a:lnTo>
                  <a:pt x="2426" y="1073"/>
                </a:lnTo>
                <a:lnTo>
                  <a:pt x="2529" y="1131"/>
                </a:lnTo>
                <a:lnTo>
                  <a:pt x="2634" y="1192"/>
                </a:lnTo>
                <a:lnTo>
                  <a:pt x="2733" y="1255"/>
                </a:lnTo>
                <a:lnTo>
                  <a:pt x="2837" y="1319"/>
                </a:lnTo>
                <a:lnTo>
                  <a:pt x="2936" y="1384"/>
                </a:lnTo>
                <a:lnTo>
                  <a:pt x="3035" y="1450"/>
                </a:lnTo>
                <a:lnTo>
                  <a:pt x="3133" y="1519"/>
                </a:lnTo>
                <a:lnTo>
                  <a:pt x="3229" y="1590"/>
                </a:lnTo>
                <a:lnTo>
                  <a:pt x="3326" y="1661"/>
                </a:lnTo>
                <a:lnTo>
                  <a:pt x="3423" y="1735"/>
                </a:lnTo>
                <a:lnTo>
                  <a:pt x="3447" y="1703"/>
                </a:lnTo>
                <a:lnTo>
                  <a:pt x="3352" y="1629"/>
                </a:lnTo>
                <a:lnTo>
                  <a:pt x="3255" y="1556"/>
                </a:lnTo>
                <a:lnTo>
                  <a:pt x="3157" y="1485"/>
                </a:lnTo>
                <a:lnTo>
                  <a:pt x="3059" y="1416"/>
                </a:lnTo>
                <a:lnTo>
                  <a:pt x="2959" y="1350"/>
                </a:lnTo>
                <a:lnTo>
                  <a:pt x="2857" y="1284"/>
                </a:lnTo>
                <a:lnTo>
                  <a:pt x="2756" y="1220"/>
                </a:lnTo>
                <a:lnTo>
                  <a:pt x="2655" y="1157"/>
                </a:lnTo>
                <a:lnTo>
                  <a:pt x="2550" y="1096"/>
                </a:lnTo>
                <a:lnTo>
                  <a:pt x="2447" y="1038"/>
                </a:lnTo>
                <a:lnTo>
                  <a:pt x="2340" y="980"/>
                </a:lnTo>
                <a:lnTo>
                  <a:pt x="2236" y="922"/>
                </a:lnTo>
                <a:lnTo>
                  <a:pt x="2130" y="867"/>
                </a:lnTo>
                <a:lnTo>
                  <a:pt x="2020" y="814"/>
                </a:lnTo>
                <a:lnTo>
                  <a:pt x="1912" y="760"/>
                </a:lnTo>
                <a:lnTo>
                  <a:pt x="1804" y="709"/>
                </a:lnTo>
                <a:lnTo>
                  <a:pt x="1696" y="659"/>
                </a:lnTo>
                <a:lnTo>
                  <a:pt x="1585" y="609"/>
                </a:lnTo>
                <a:lnTo>
                  <a:pt x="1476" y="559"/>
                </a:lnTo>
                <a:lnTo>
                  <a:pt x="1365" y="512"/>
                </a:lnTo>
                <a:lnTo>
                  <a:pt x="1253" y="466"/>
                </a:lnTo>
                <a:lnTo>
                  <a:pt x="1142" y="421"/>
                </a:lnTo>
                <a:lnTo>
                  <a:pt x="1031" y="375"/>
                </a:lnTo>
                <a:lnTo>
                  <a:pt x="918" y="330"/>
                </a:lnTo>
                <a:lnTo>
                  <a:pt x="806" y="288"/>
                </a:lnTo>
                <a:lnTo>
                  <a:pt x="693" y="247"/>
                </a:lnTo>
                <a:lnTo>
                  <a:pt x="580" y="203"/>
                </a:lnTo>
                <a:lnTo>
                  <a:pt x="467" y="163"/>
                </a:lnTo>
                <a:lnTo>
                  <a:pt x="355" y="121"/>
                </a:lnTo>
                <a:lnTo>
                  <a:pt x="240" y="81"/>
                </a:lnTo>
                <a:lnTo>
                  <a:pt x="128" y="40"/>
                </a:lnTo>
                <a:lnTo>
                  <a:pt x="13" y="2"/>
                </a:lnTo>
                <a:lnTo>
                  <a:pt x="0" y="2"/>
                </a:lnTo>
                <a:lnTo>
                  <a:pt x="13" y="2"/>
                </a:lnTo>
                <a:lnTo>
                  <a:pt x="8" y="0"/>
                </a:lnTo>
                <a:lnTo>
                  <a:pt x="0" y="2"/>
                </a:lnTo>
                <a:lnTo>
                  <a:pt x="13" y="4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25"/>
          <p:cNvSpPr/>
          <p:nvPr/>
        </p:nvSpPr>
        <p:spPr>
          <a:xfrm>
            <a:off x="1449360" y="584280"/>
            <a:ext cx="355680" cy="142920"/>
          </a:xfrm>
          <a:custGeom>
            <a:avLst/>
            <a:gdLst>
              <a:gd name="textAreaLeft" fmla="*/ 0 w 355680"/>
              <a:gd name="textAreaRight" fmla="*/ 356040 w 355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24" h="90">
                <a:moveTo>
                  <a:pt x="55" y="54"/>
                </a:moveTo>
                <a:lnTo>
                  <a:pt x="47" y="90"/>
                </a:lnTo>
                <a:lnTo>
                  <a:pt x="224" y="38"/>
                </a:lnTo>
                <a:lnTo>
                  <a:pt x="211" y="0"/>
                </a:lnTo>
                <a:lnTo>
                  <a:pt x="34" y="50"/>
                </a:lnTo>
                <a:lnTo>
                  <a:pt x="26" y="85"/>
                </a:lnTo>
                <a:lnTo>
                  <a:pt x="34" y="50"/>
                </a:lnTo>
                <a:lnTo>
                  <a:pt x="0" y="59"/>
                </a:lnTo>
                <a:lnTo>
                  <a:pt x="26" y="85"/>
                </a:lnTo>
                <a:lnTo>
                  <a:pt x="55" y="54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26"/>
          <p:cNvSpPr/>
          <p:nvPr/>
        </p:nvSpPr>
        <p:spPr>
          <a:xfrm>
            <a:off x="1490760" y="66996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3" h="145">
                <a:moveTo>
                  <a:pt x="126" y="145"/>
                </a:moveTo>
                <a:lnTo>
                  <a:pt x="139" y="110"/>
                </a:lnTo>
                <a:lnTo>
                  <a:pt x="29" y="0"/>
                </a:lnTo>
                <a:lnTo>
                  <a:pt x="0" y="31"/>
                </a:lnTo>
                <a:lnTo>
                  <a:pt x="110" y="141"/>
                </a:lnTo>
                <a:lnTo>
                  <a:pt x="123" y="105"/>
                </a:lnTo>
                <a:lnTo>
                  <a:pt x="126" y="145"/>
                </a:lnTo>
                <a:lnTo>
                  <a:pt x="173" y="142"/>
                </a:lnTo>
                <a:lnTo>
                  <a:pt x="139" y="110"/>
                </a:lnTo>
                <a:lnTo>
                  <a:pt x="126" y="145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27"/>
          <p:cNvSpPr/>
          <p:nvPr/>
        </p:nvSpPr>
        <p:spPr>
          <a:xfrm>
            <a:off x="1292400" y="836640"/>
            <a:ext cx="398160" cy="84240"/>
          </a:xfrm>
          <a:custGeom>
            <a:avLst/>
            <a:gdLst>
              <a:gd name="textAreaLeft" fmla="*/ 0 w 398160"/>
              <a:gd name="textAreaRight" fmla="*/ 398520 w 39816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251" h="53">
                <a:moveTo>
                  <a:pt x="50" y="24"/>
                </a:moveTo>
                <a:lnTo>
                  <a:pt x="32" y="53"/>
                </a:lnTo>
                <a:lnTo>
                  <a:pt x="251" y="40"/>
                </a:lnTo>
                <a:lnTo>
                  <a:pt x="248" y="0"/>
                </a:lnTo>
                <a:lnTo>
                  <a:pt x="29" y="11"/>
                </a:lnTo>
                <a:lnTo>
                  <a:pt x="12" y="40"/>
                </a:lnTo>
                <a:lnTo>
                  <a:pt x="29" y="11"/>
                </a:lnTo>
                <a:lnTo>
                  <a:pt x="0" y="13"/>
                </a:lnTo>
                <a:lnTo>
                  <a:pt x="12" y="40"/>
                </a:lnTo>
                <a:lnTo>
                  <a:pt x="50" y="24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28"/>
          <p:cNvSpPr/>
          <p:nvPr/>
        </p:nvSpPr>
        <p:spPr>
          <a:xfrm>
            <a:off x="1311120" y="874800"/>
            <a:ext cx="150840" cy="220680"/>
          </a:xfrm>
          <a:custGeom>
            <a:avLst/>
            <a:gdLst>
              <a:gd name="textAreaLeft" fmla="*/ 0 w 150840"/>
              <a:gd name="textAreaRight" fmla="*/ 151200 w 1508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95" h="139">
                <a:moveTo>
                  <a:pt x="75" y="139"/>
                </a:moveTo>
                <a:lnTo>
                  <a:pt x="86" y="110"/>
                </a:lnTo>
                <a:lnTo>
                  <a:pt x="38" y="0"/>
                </a:lnTo>
                <a:lnTo>
                  <a:pt x="0" y="16"/>
                </a:lnTo>
                <a:lnTo>
                  <a:pt x="49" y="128"/>
                </a:lnTo>
                <a:lnTo>
                  <a:pt x="60" y="100"/>
                </a:lnTo>
                <a:lnTo>
                  <a:pt x="75" y="139"/>
                </a:lnTo>
                <a:lnTo>
                  <a:pt x="95" y="131"/>
                </a:lnTo>
                <a:lnTo>
                  <a:pt x="86" y="110"/>
                </a:lnTo>
                <a:lnTo>
                  <a:pt x="75" y="139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29"/>
          <p:cNvSpPr/>
          <p:nvPr/>
        </p:nvSpPr>
        <p:spPr>
          <a:xfrm>
            <a:off x="966960" y="1033560"/>
            <a:ext cx="463320" cy="179280"/>
          </a:xfrm>
          <a:custGeom>
            <a:avLst/>
            <a:gdLst>
              <a:gd name="textAreaLeft" fmla="*/ 0 w 463320"/>
              <a:gd name="textAreaRight" fmla="*/ 463680 w 4633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92" h="113">
                <a:moveTo>
                  <a:pt x="71" y="74"/>
                </a:moveTo>
                <a:lnTo>
                  <a:pt x="73" y="113"/>
                </a:lnTo>
                <a:lnTo>
                  <a:pt x="292" y="39"/>
                </a:lnTo>
                <a:lnTo>
                  <a:pt x="277" y="0"/>
                </a:lnTo>
                <a:lnTo>
                  <a:pt x="58" y="74"/>
                </a:lnTo>
                <a:lnTo>
                  <a:pt x="60" y="113"/>
                </a:lnTo>
                <a:lnTo>
                  <a:pt x="58" y="74"/>
                </a:lnTo>
                <a:lnTo>
                  <a:pt x="0" y="95"/>
                </a:lnTo>
                <a:lnTo>
                  <a:pt x="60" y="113"/>
                </a:lnTo>
                <a:lnTo>
                  <a:pt x="71" y="74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30"/>
          <p:cNvSpPr/>
          <p:nvPr/>
        </p:nvSpPr>
        <p:spPr>
          <a:xfrm>
            <a:off x="6667560" y="1819440"/>
            <a:ext cx="41040" cy="1966680"/>
          </a:xfrm>
          <a:custGeom>
            <a:avLst/>
            <a:gdLst>
              <a:gd name="textAreaLeft" fmla="*/ 0 w 41040"/>
              <a:gd name="textAreaRight" fmla="*/ 41400 w 41040"/>
              <a:gd name="textAreaTop" fmla="*/ 0 h 1966680"/>
              <a:gd name="textAreaBottom" fmla="*/ 1967040 h 1966680"/>
            </a:gdLst>
            <a:ahLst/>
            <a:rect l="textAreaLeft" t="textAreaTop" r="textAreaRight" b="textAreaBottom"/>
            <a:pathLst>
              <a:path w="26" h="1239">
                <a:moveTo>
                  <a:pt x="13" y="1239"/>
                </a:moveTo>
                <a:lnTo>
                  <a:pt x="26" y="1239"/>
                </a:lnTo>
                <a:lnTo>
                  <a:pt x="26" y="0"/>
                </a:lnTo>
                <a:lnTo>
                  <a:pt x="0" y="0"/>
                </a:lnTo>
                <a:lnTo>
                  <a:pt x="0" y="1239"/>
                </a:lnTo>
                <a:lnTo>
                  <a:pt x="13" y="1239"/>
                </a:lnTo>
                <a:close/>
              </a:path>
            </a:pathLst>
          </a:custGeom>
          <a:solidFill>
            <a:srgbClr val="33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31"/>
          <p:cNvSpPr/>
          <p:nvPr/>
        </p:nvSpPr>
        <p:spPr>
          <a:xfrm>
            <a:off x="6561000" y="3637080"/>
            <a:ext cx="255600" cy="296640"/>
          </a:xfrm>
          <a:custGeom>
            <a:avLst/>
            <a:gdLst>
              <a:gd name="textAreaLeft" fmla="*/ 0 w 255600"/>
              <a:gd name="textAreaRight" fmla="*/ 255600 w 2556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61" h="187">
                <a:moveTo>
                  <a:pt x="80" y="187"/>
                </a:moveTo>
                <a:lnTo>
                  <a:pt x="161" y="0"/>
                </a:lnTo>
                <a:lnTo>
                  <a:pt x="156" y="2"/>
                </a:lnTo>
                <a:lnTo>
                  <a:pt x="151" y="5"/>
                </a:lnTo>
                <a:lnTo>
                  <a:pt x="145" y="7"/>
                </a:lnTo>
                <a:lnTo>
                  <a:pt x="140" y="8"/>
                </a:lnTo>
                <a:lnTo>
                  <a:pt x="135" y="10"/>
                </a:lnTo>
                <a:lnTo>
                  <a:pt x="130" y="11"/>
                </a:lnTo>
                <a:lnTo>
                  <a:pt x="125" y="13"/>
                </a:lnTo>
                <a:lnTo>
                  <a:pt x="121" y="15"/>
                </a:lnTo>
                <a:lnTo>
                  <a:pt x="116" y="16"/>
                </a:lnTo>
                <a:lnTo>
                  <a:pt x="111" y="16"/>
                </a:lnTo>
                <a:lnTo>
                  <a:pt x="106" y="18"/>
                </a:lnTo>
                <a:lnTo>
                  <a:pt x="100" y="18"/>
                </a:lnTo>
                <a:lnTo>
                  <a:pt x="95" y="20"/>
                </a:lnTo>
                <a:lnTo>
                  <a:pt x="90" y="20"/>
                </a:lnTo>
                <a:lnTo>
                  <a:pt x="85" y="20"/>
                </a:lnTo>
                <a:lnTo>
                  <a:pt x="80" y="20"/>
                </a:lnTo>
                <a:lnTo>
                  <a:pt x="74" y="20"/>
                </a:lnTo>
                <a:lnTo>
                  <a:pt x="71" y="20"/>
                </a:lnTo>
                <a:lnTo>
                  <a:pt x="66" y="20"/>
                </a:lnTo>
                <a:lnTo>
                  <a:pt x="59" y="18"/>
                </a:lnTo>
                <a:lnTo>
                  <a:pt x="55" y="18"/>
                </a:lnTo>
                <a:lnTo>
                  <a:pt x="50" y="16"/>
                </a:lnTo>
                <a:lnTo>
                  <a:pt x="45" y="16"/>
                </a:lnTo>
                <a:lnTo>
                  <a:pt x="40" y="15"/>
                </a:lnTo>
                <a:lnTo>
                  <a:pt x="35" y="13"/>
                </a:lnTo>
                <a:lnTo>
                  <a:pt x="30" y="11"/>
                </a:lnTo>
                <a:lnTo>
                  <a:pt x="26" y="10"/>
                </a:lnTo>
                <a:lnTo>
                  <a:pt x="21" y="8"/>
                </a:lnTo>
                <a:lnTo>
                  <a:pt x="14" y="7"/>
                </a:lnTo>
                <a:lnTo>
                  <a:pt x="10" y="5"/>
                </a:lnTo>
                <a:lnTo>
                  <a:pt x="5" y="2"/>
                </a:lnTo>
                <a:lnTo>
                  <a:pt x="0" y="0"/>
                </a:lnTo>
                <a:lnTo>
                  <a:pt x="80" y="187"/>
                </a:lnTo>
                <a:close/>
              </a:path>
            </a:pathLst>
          </a:custGeom>
          <a:solidFill>
            <a:srgbClr val="33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32"/>
          <p:cNvSpPr/>
          <p:nvPr/>
        </p:nvSpPr>
        <p:spPr>
          <a:xfrm>
            <a:off x="6288120" y="3573360"/>
            <a:ext cx="896760" cy="928800"/>
          </a:xfrm>
          <a:custGeom>
            <a:avLst/>
            <a:gdLst>
              <a:gd name="textAreaLeft" fmla="*/ 0 w 896760"/>
              <a:gd name="textAreaRight" fmla="*/ 897120 w 89676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565" h="585">
                <a:moveTo>
                  <a:pt x="9" y="575"/>
                </a:moveTo>
                <a:lnTo>
                  <a:pt x="17" y="585"/>
                </a:lnTo>
                <a:lnTo>
                  <a:pt x="565" y="18"/>
                </a:lnTo>
                <a:lnTo>
                  <a:pt x="545" y="0"/>
                </a:lnTo>
                <a:lnTo>
                  <a:pt x="0" y="567"/>
                </a:lnTo>
                <a:lnTo>
                  <a:pt x="9" y="57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reeform 33"/>
          <p:cNvSpPr/>
          <p:nvPr/>
        </p:nvSpPr>
        <p:spPr>
          <a:xfrm>
            <a:off x="7331040" y="3537000"/>
            <a:ext cx="139680" cy="141120"/>
          </a:xfrm>
          <a:custGeom>
            <a:avLst/>
            <a:gdLst>
              <a:gd name="textAreaLeft" fmla="*/ 0 w 139680"/>
              <a:gd name="textAreaRight" fmla="*/ 140040 w 13968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88" h="89">
                <a:moveTo>
                  <a:pt x="43" y="0"/>
                </a:moveTo>
                <a:lnTo>
                  <a:pt x="53" y="0"/>
                </a:lnTo>
                <a:lnTo>
                  <a:pt x="61" y="4"/>
                </a:lnTo>
                <a:lnTo>
                  <a:pt x="69" y="7"/>
                </a:lnTo>
                <a:lnTo>
                  <a:pt x="75" y="13"/>
                </a:lnTo>
                <a:lnTo>
                  <a:pt x="82" y="20"/>
                </a:lnTo>
                <a:lnTo>
                  <a:pt x="85" y="28"/>
                </a:lnTo>
                <a:lnTo>
                  <a:pt x="88" y="36"/>
                </a:lnTo>
                <a:lnTo>
                  <a:pt x="88" y="44"/>
                </a:lnTo>
                <a:lnTo>
                  <a:pt x="88" y="54"/>
                </a:lnTo>
                <a:lnTo>
                  <a:pt x="85" y="62"/>
                </a:lnTo>
                <a:lnTo>
                  <a:pt x="82" y="70"/>
                </a:lnTo>
                <a:lnTo>
                  <a:pt x="75" y="76"/>
                </a:lnTo>
                <a:lnTo>
                  <a:pt x="69" y="81"/>
                </a:lnTo>
                <a:lnTo>
                  <a:pt x="61" y="86"/>
                </a:lnTo>
                <a:lnTo>
                  <a:pt x="53" y="87"/>
                </a:lnTo>
                <a:lnTo>
                  <a:pt x="43" y="89"/>
                </a:lnTo>
                <a:lnTo>
                  <a:pt x="35" y="87"/>
                </a:lnTo>
                <a:lnTo>
                  <a:pt x="27" y="86"/>
                </a:lnTo>
                <a:lnTo>
                  <a:pt x="19" y="81"/>
                </a:lnTo>
                <a:lnTo>
                  <a:pt x="12" y="76"/>
                </a:lnTo>
                <a:lnTo>
                  <a:pt x="6" y="70"/>
                </a:lnTo>
                <a:lnTo>
                  <a:pt x="3" y="62"/>
                </a:lnTo>
                <a:lnTo>
                  <a:pt x="0" y="54"/>
                </a:lnTo>
                <a:lnTo>
                  <a:pt x="0" y="44"/>
                </a:lnTo>
                <a:lnTo>
                  <a:pt x="0" y="36"/>
                </a:lnTo>
                <a:lnTo>
                  <a:pt x="3" y="28"/>
                </a:lnTo>
                <a:lnTo>
                  <a:pt x="6" y="20"/>
                </a:lnTo>
                <a:lnTo>
                  <a:pt x="12" y="13"/>
                </a:lnTo>
                <a:lnTo>
                  <a:pt x="19" y="7"/>
                </a:lnTo>
                <a:lnTo>
                  <a:pt x="27" y="4"/>
                </a:lnTo>
                <a:lnTo>
                  <a:pt x="35" y="0"/>
                </a:lnTo>
                <a:lnTo>
                  <a:pt x="43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reeform 34"/>
          <p:cNvSpPr/>
          <p:nvPr/>
        </p:nvSpPr>
        <p:spPr>
          <a:xfrm>
            <a:off x="7331040" y="3537000"/>
            <a:ext cx="139680" cy="141120"/>
          </a:xfrm>
          <a:custGeom>
            <a:avLst/>
            <a:gdLst>
              <a:gd name="textAreaLeft" fmla="*/ 0 w 139680"/>
              <a:gd name="textAreaRight" fmla="*/ 140040 w 13968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88" h="89">
                <a:moveTo>
                  <a:pt x="43" y="0"/>
                </a:moveTo>
                <a:lnTo>
                  <a:pt x="43" y="0"/>
                </a:lnTo>
                <a:lnTo>
                  <a:pt x="53" y="0"/>
                </a:lnTo>
                <a:lnTo>
                  <a:pt x="61" y="4"/>
                </a:lnTo>
                <a:lnTo>
                  <a:pt x="69" y="7"/>
                </a:lnTo>
                <a:lnTo>
                  <a:pt x="75" y="13"/>
                </a:lnTo>
                <a:lnTo>
                  <a:pt x="82" y="20"/>
                </a:lnTo>
                <a:lnTo>
                  <a:pt x="85" y="28"/>
                </a:lnTo>
                <a:lnTo>
                  <a:pt x="88" y="36"/>
                </a:lnTo>
                <a:lnTo>
                  <a:pt x="88" y="44"/>
                </a:lnTo>
                <a:lnTo>
                  <a:pt x="88" y="54"/>
                </a:lnTo>
                <a:lnTo>
                  <a:pt x="85" y="62"/>
                </a:lnTo>
                <a:lnTo>
                  <a:pt x="82" y="70"/>
                </a:lnTo>
                <a:lnTo>
                  <a:pt x="75" y="76"/>
                </a:lnTo>
                <a:lnTo>
                  <a:pt x="69" y="81"/>
                </a:lnTo>
                <a:lnTo>
                  <a:pt x="61" y="86"/>
                </a:lnTo>
                <a:lnTo>
                  <a:pt x="53" y="87"/>
                </a:lnTo>
                <a:lnTo>
                  <a:pt x="43" y="89"/>
                </a:lnTo>
                <a:lnTo>
                  <a:pt x="35" y="87"/>
                </a:lnTo>
                <a:lnTo>
                  <a:pt x="27" y="86"/>
                </a:lnTo>
                <a:lnTo>
                  <a:pt x="19" y="81"/>
                </a:lnTo>
                <a:lnTo>
                  <a:pt x="12" y="76"/>
                </a:lnTo>
                <a:lnTo>
                  <a:pt x="6" y="70"/>
                </a:lnTo>
                <a:lnTo>
                  <a:pt x="3" y="62"/>
                </a:lnTo>
                <a:lnTo>
                  <a:pt x="0" y="54"/>
                </a:lnTo>
                <a:lnTo>
                  <a:pt x="0" y="44"/>
                </a:lnTo>
                <a:lnTo>
                  <a:pt x="0" y="36"/>
                </a:lnTo>
                <a:lnTo>
                  <a:pt x="3" y="28"/>
                </a:lnTo>
                <a:lnTo>
                  <a:pt x="6" y="20"/>
                </a:lnTo>
                <a:lnTo>
                  <a:pt x="12" y="13"/>
                </a:lnTo>
                <a:lnTo>
                  <a:pt x="19" y="7"/>
                </a:lnTo>
                <a:lnTo>
                  <a:pt x="27" y="4"/>
                </a:lnTo>
                <a:lnTo>
                  <a:pt x="35" y="0"/>
                </a:lnTo>
                <a:lnTo>
                  <a:pt x="43" y="0"/>
                </a:lnTo>
              </a:path>
            </a:pathLst>
          </a:custGeom>
          <a:solidFill>
            <a:srgbClr val="fc0128"/>
          </a:solidFill>
          <a:ln w="3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reeform 35"/>
          <p:cNvSpPr/>
          <p:nvPr/>
        </p:nvSpPr>
        <p:spPr>
          <a:xfrm>
            <a:off x="7532640" y="3535200"/>
            <a:ext cx="139680" cy="140040"/>
          </a:xfrm>
          <a:custGeom>
            <a:avLst/>
            <a:gdLst>
              <a:gd name="textAreaLeft" fmla="*/ 0 w 139680"/>
              <a:gd name="textAreaRight" fmla="*/ 140040 w 139680"/>
              <a:gd name="textAreaTop" fmla="*/ 0 h 140040"/>
              <a:gd name="textAreaBottom" fmla="*/ 140400 h 140040"/>
            </a:gdLst>
            <a:ahLst/>
            <a:rect l="textAreaLeft" t="textAreaTop" r="textAreaRight" b="textAreaBottom"/>
            <a:pathLst>
              <a:path w="88" h="88">
                <a:moveTo>
                  <a:pt x="45" y="0"/>
                </a:moveTo>
                <a:lnTo>
                  <a:pt x="53" y="1"/>
                </a:lnTo>
                <a:lnTo>
                  <a:pt x="61" y="3"/>
                </a:lnTo>
                <a:lnTo>
                  <a:pt x="69" y="8"/>
                </a:lnTo>
                <a:lnTo>
                  <a:pt x="76" y="13"/>
                </a:lnTo>
                <a:lnTo>
                  <a:pt x="82" y="21"/>
                </a:lnTo>
                <a:lnTo>
                  <a:pt x="85" y="27"/>
                </a:lnTo>
                <a:lnTo>
                  <a:pt x="88" y="35"/>
                </a:lnTo>
                <a:lnTo>
                  <a:pt x="88" y="45"/>
                </a:lnTo>
                <a:lnTo>
                  <a:pt x="88" y="53"/>
                </a:lnTo>
                <a:lnTo>
                  <a:pt x="85" y="61"/>
                </a:lnTo>
                <a:lnTo>
                  <a:pt x="82" y="69"/>
                </a:lnTo>
                <a:lnTo>
                  <a:pt x="76" y="75"/>
                </a:lnTo>
                <a:lnTo>
                  <a:pt x="69" y="82"/>
                </a:lnTo>
                <a:lnTo>
                  <a:pt x="61" y="85"/>
                </a:lnTo>
                <a:lnTo>
                  <a:pt x="53" y="88"/>
                </a:lnTo>
                <a:lnTo>
                  <a:pt x="45" y="88"/>
                </a:lnTo>
                <a:lnTo>
                  <a:pt x="35" y="88"/>
                </a:lnTo>
                <a:lnTo>
                  <a:pt x="27" y="85"/>
                </a:lnTo>
                <a:lnTo>
                  <a:pt x="19" y="82"/>
                </a:lnTo>
                <a:lnTo>
                  <a:pt x="13" y="75"/>
                </a:lnTo>
                <a:lnTo>
                  <a:pt x="8" y="69"/>
                </a:lnTo>
                <a:lnTo>
                  <a:pt x="3" y="61"/>
                </a:lnTo>
                <a:lnTo>
                  <a:pt x="1" y="53"/>
                </a:lnTo>
                <a:lnTo>
                  <a:pt x="0" y="45"/>
                </a:lnTo>
                <a:lnTo>
                  <a:pt x="1" y="35"/>
                </a:lnTo>
                <a:lnTo>
                  <a:pt x="3" y="27"/>
                </a:lnTo>
                <a:lnTo>
                  <a:pt x="8" y="21"/>
                </a:lnTo>
                <a:lnTo>
                  <a:pt x="13" y="13"/>
                </a:lnTo>
                <a:lnTo>
                  <a:pt x="19" y="8"/>
                </a:lnTo>
                <a:lnTo>
                  <a:pt x="27" y="3"/>
                </a:lnTo>
                <a:lnTo>
                  <a:pt x="35" y="1"/>
                </a:lnTo>
                <a:lnTo>
                  <a:pt x="45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36"/>
          <p:cNvSpPr/>
          <p:nvPr/>
        </p:nvSpPr>
        <p:spPr>
          <a:xfrm>
            <a:off x="7532640" y="3535200"/>
            <a:ext cx="139680" cy="140040"/>
          </a:xfrm>
          <a:custGeom>
            <a:avLst/>
            <a:gdLst>
              <a:gd name="textAreaLeft" fmla="*/ 0 w 139680"/>
              <a:gd name="textAreaRight" fmla="*/ 140040 w 139680"/>
              <a:gd name="textAreaTop" fmla="*/ 0 h 140040"/>
              <a:gd name="textAreaBottom" fmla="*/ 140400 h 140040"/>
            </a:gdLst>
            <a:ahLst/>
            <a:rect l="textAreaLeft" t="textAreaTop" r="textAreaRight" b="textAreaBottom"/>
            <a:pathLst>
              <a:path w="88" h="88">
                <a:moveTo>
                  <a:pt x="45" y="0"/>
                </a:moveTo>
                <a:lnTo>
                  <a:pt x="45" y="0"/>
                </a:lnTo>
                <a:lnTo>
                  <a:pt x="53" y="1"/>
                </a:lnTo>
                <a:lnTo>
                  <a:pt x="61" y="3"/>
                </a:lnTo>
                <a:lnTo>
                  <a:pt x="69" y="8"/>
                </a:lnTo>
                <a:lnTo>
                  <a:pt x="76" y="13"/>
                </a:lnTo>
                <a:lnTo>
                  <a:pt x="82" y="21"/>
                </a:lnTo>
                <a:lnTo>
                  <a:pt x="85" y="27"/>
                </a:lnTo>
                <a:lnTo>
                  <a:pt x="88" y="35"/>
                </a:lnTo>
                <a:lnTo>
                  <a:pt x="88" y="45"/>
                </a:lnTo>
                <a:lnTo>
                  <a:pt x="88" y="53"/>
                </a:lnTo>
                <a:lnTo>
                  <a:pt x="85" y="61"/>
                </a:lnTo>
                <a:lnTo>
                  <a:pt x="82" y="69"/>
                </a:lnTo>
                <a:lnTo>
                  <a:pt x="76" y="75"/>
                </a:lnTo>
                <a:lnTo>
                  <a:pt x="69" y="82"/>
                </a:lnTo>
                <a:lnTo>
                  <a:pt x="61" y="85"/>
                </a:lnTo>
                <a:lnTo>
                  <a:pt x="53" y="88"/>
                </a:lnTo>
                <a:lnTo>
                  <a:pt x="45" y="88"/>
                </a:lnTo>
                <a:lnTo>
                  <a:pt x="35" y="88"/>
                </a:lnTo>
                <a:lnTo>
                  <a:pt x="27" y="85"/>
                </a:lnTo>
                <a:lnTo>
                  <a:pt x="19" y="82"/>
                </a:lnTo>
                <a:lnTo>
                  <a:pt x="13" y="75"/>
                </a:lnTo>
                <a:lnTo>
                  <a:pt x="8" y="69"/>
                </a:lnTo>
                <a:lnTo>
                  <a:pt x="3" y="61"/>
                </a:lnTo>
                <a:lnTo>
                  <a:pt x="1" y="53"/>
                </a:lnTo>
                <a:lnTo>
                  <a:pt x="0" y="45"/>
                </a:lnTo>
                <a:lnTo>
                  <a:pt x="1" y="35"/>
                </a:lnTo>
                <a:lnTo>
                  <a:pt x="3" y="27"/>
                </a:lnTo>
                <a:lnTo>
                  <a:pt x="8" y="21"/>
                </a:lnTo>
                <a:lnTo>
                  <a:pt x="13" y="13"/>
                </a:lnTo>
                <a:lnTo>
                  <a:pt x="19" y="8"/>
                </a:lnTo>
                <a:lnTo>
                  <a:pt x="27" y="3"/>
                </a:lnTo>
                <a:lnTo>
                  <a:pt x="35" y="1"/>
                </a:lnTo>
                <a:lnTo>
                  <a:pt x="45" y="0"/>
                </a:lnTo>
              </a:path>
            </a:pathLst>
          </a:custGeom>
          <a:solidFill>
            <a:srgbClr val="fc0128"/>
          </a:solidFill>
          <a:ln w="3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37"/>
          <p:cNvSpPr/>
          <p:nvPr/>
        </p:nvSpPr>
        <p:spPr>
          <a:xfrm>
            <a:off x="7734240" y="3535200"/>
            <a:ext cx="142920" cy="140040"/>
          </a:xfrm>
          <a:custGeom>
            <a:avLst/>
            <a:gdLst>
              <a:gd name="textAreaLeft" fmla="*/ 0 w 142920"/>
              <a:gd name="textAreaRight" fmla="*/ 143280 w 142920"/>
              <a:gd name="textAreaTop" fmla="*/ 0 h 140040"/>
              <a:gd name="textAreaBottom" fmla="*/ 140400 h 140040"/>
            </a:gdLst>
            <a:ahLst/>
            <a:rect l="textAreaLeft" t="textAreaTop" r="textAreaRight" b="textAreaBottom"/>
            <a:pathLst>
              <a:path w="90" h="88">
                <a:moveTo>
                  <a:pt x="45" y="0"/>
                </a:moveTo>
                <a:lnTo>
                  <a:pt x="53" y="1"/>
                </a:lnTo>
                <a:lnTo>
                  <a:pt x="63" y="3"/>
                </a:lnTo>
                <a:lnTo>
                  <a:pt x="69" y="8"/>
                </a:lnTo>
                <a:lnTo>
                  <a:pt x="76" y="13"/>
                </a:lnTo>
                <a:lnTo>
                  <a:pt x="82" y="21"/>
                </a:lnTo>
                <a:lnTo>
                  <a:pt x="85" y="27"/>
                </a:lnTo>
                <a:lnTo>
                  <a:pt x="89" y="35"/>
                </a:lnTo>
                <a:lnTo>
                  <a:pt x="90" y="45"/>
                </a:lnTo>
                <a:lnTo>
                  <a:pt x="89" y="53"/>
                </a:lnTo>
                <a:lnTo>
                  <a:pt x="85" y="61"/>
                </a:lnTo>
                <a:lnTo>
                  <a:pt x="82" y="69"/>
                </a:lnTo>
                <a:lnTo>
                  <a:pt x="76" y="75"/>
                </a:lnTo>
                <a:lnTo>
                  <a:pt x="69" y="82"/>
                </a:lnTo>
                <a:lnTo>
                  <a:pt x="63" y="85"/>
                </a:lnTo>
                <a:lnTo>
                  <a:pt x="53" y="88"/>
                </a:lnTo>
                <a:lnTo>
                  <a:pt x="45" y="88"/>
                </a:lnTo>
                <a:lnTo>
                  <a:pt x="35" y="88"/>
                </a:lnTo>
                <a:lnTo>
                  <a:pt x="27" y="85"/>
                </a:lnTo>
                <a:lnTo>
                  <a:pt x="21" y="82"/>
                </a:lnTo>
                <a:lnTo>
                  <a:pt x="15" y="75"/>
                </a:lnTo>
                <a:lnTo>
                  <a:pt x="8" y="69"/>
                </a:lnTo>
                <a:lnTo>
                  <a:pt x="5" y="61"/>
                </a:lnTo>
                <a:lnTo>
                  <a:pt x="2" y="53"/>
                </a:lnTo>
                <a:lnTo>
                  <a:pt x="0" y="45"/>
                </a:lnTo>
                <a:lnTo>
                  <a:pt x="2" y="35"/>
                </a:lnTo>
                <a:lnTo>
                  <a:pt x="5" y="27"/>
                </a:lnTo>
                <a:lnTo>
                  <a:pt x="8" y="21"/>
                </a:lnTo>
                <a:lnTo>
                  <a:pt x="15" y="13"/>
                </a:lnTo>
                <a:lnTo>
                  <a:pt x="21" y="8"/>
                </a:lnTo>
                <a:lnTo>
                  <a:pt x="27" y="3"/>
                </a:lnTo>
                <a:lnTo>
                  <a:pt x="35" y="1"/>
                </a:lnTo>
                <a:lnTo>
                  <a:pt x="45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reeform 38"/>
          <p:cNvSpPr/>
          <p:nvPr/>
        </p:nvSpPr>
        <p:spPr>
          <a:xfrm>
            <a:off x="7734240" y="3535200"/>
            <a:ext cx="142920" cy="140040"/>
          </a:xfrm>
          <a:custGeom>
            <a:avLst/>
            <a:gdLst>
              <a:gd name="textAreaLeft" fmla="*/ 0 w 142920"/>
              <a:gd name="textAreaRight" fmla="*/ 143280 w 142920"/>
              <a:gd name="textAreaTop" fmla="*/ 0 h 140040"/>
              <a:gd name="textAreaBottom" fmla="*/ 140400 h 140040"/>
            </a:gdLst>
            <a:ahLst/>
            <a:rect l="textAreaLeft" t="textAreaTop" r="textAreaRight" b="textAreaBottom"/>
            <a:pathLst>
              <a:path w="90" h="88">
                <a:moveTo>
                  <a:pt x="45" y="0"/>
                </a:moveTo>
                <a:lnTo>
                  <a:pt x="45" y="0"/>
                </a:lnTo>
                <a:lnTo>
                  <a:pt x="53" y="1"/>
                </a:lnTo>
                <a:lnTo>
                  <a:pt x="63" y="3"/>
                </a:lnTo>
                <a:lnTo>
                  <a:pt x="69" y="8"/>
                </a:lnTo>
                <a:lnTo>
                  <a:pt x="76" y="13"/>
                </a:lnTo>
                <a:lnTo>
                  <a:pt x="82" y="21"/>
                </a:lnTo>
                <a:lnTo>
                  <a:pt x="85" y="27"/>
                </a:lnTo>
                <a:lnTo>
                  <a:pt x="89" y="35"/>
                </a:lnTo>
                <a:lnTo>
                  <a:pt x="90" y="45"/>
                </a:lnTo>
                <a:lnTo>
                  <a:pt x="89" y="53"/>
                </a:lnTo>
                <a:lnTo>
                  <a:pt x="85" y="61"/>
                </a:lnTo>
                <a:lnTo>
                  <a:pt x="82" y="69"/>
                </a:lnTo>
                <a:lnTo>
                  <a:pt x="76" y="75"/>
                </a:lnTo>
                <a:lnTo>
                  <a:pt x="69" y="82"/>
                </a:lnTo>
                <a:lnTo>
                  <a:pt x="63" y="85"/>
                </a:lnTo>
                <a:lnTo>
                  <a:pt x="53" y="88"/>
                </a:lnTo>
                <a:lnTo>
                  <a:pt x="45" y="88"/>
                </a:lnTo>
                <a:lnTo>
                  <a:pt x="35" y="88"/>
                </a:lnTo>
                <a:lnTo>
                  <a:pt x="27" y="85"/>
                </a:lnTo>
                <a:lnTo>
                  <a:pt x="21" y="82"/>
                </a:lnTo>
                <a:lnTo>
                  <a:pt x="15" y="75"/>
                </a:lnTo>
                <a:lnTo>
                  <a:pt x="8" y="69"/>
                </a:lnTo>
                <a:lnTo>
                  <a:pt x="5" y="61"/>
                </a:lnTo>
                <a:lnTo>
                  <a:pt x="2" y="53"/>
                </a:lnTo>
                <a:lnTo>
                  <a:pt x="0" y="45"/>
                </a:lnTo>
                <a:lnTo>
                  <a:pt x="2" y="35"/>
                </a:lnTo>
                <a:lnTo>
                  <a:pt x="5" y="27"/>
                </a:lnTo>
                <a:lnTo>
                  <a:pt x="8" y="21"/>
                </a:lnTo>
                <a:lnTo>
                  <a:pt x="15" y="13"/>
                </a:lnTo>
                <a:lnTo>
                  <a:pt x="21" y="8"/>
                </a:lnTo>
                <a:lnTo>
                  <a:pt x="27" y="3"/>
                </a:lnTo>
                <a:lnTo>
                  <a:pt x="35" y="1"/>
                </a:lnTo>
                <a:lnTo>
                  <a:pt x="45" y="0"/>
                </a:lnTo>
              </a:path>
            </a:pathLst>
          </a:custGeom>
          <a:solidFill>
            <a:srgbClr val="fc0128"/>
          </a:solidFill>
          <a:ln w="3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39"/>
          <p:cNvSpPr/>
          <p:nvPr/>
        </p:nvSpPr>
        <p:spPr>
          <a:xfrm>
            <a:off x="7935840" y="3535200"/>
            <a:ext cx="142920" cy="140040"/>
          </a:xfrm>
          <a:custGeom>
            <a:avLst/>
            <a:gdLst>
              <a:gd name="textAreaLeft" fmla="*/ 0 w 142920"/>
              <a:gd name="textAreaRight" fmla="*/ 143280 w 142920"/>
              <a:gd name="textAreaTop" fmla="*/ 0 h 140040"/>
              <a:gd name="textAreaBottom" fmla="*/ 140400 h 140040"/>
            </a:gdLst>
            <a:ahLst/>
            <a:rect l="textAreaLeft" t="textAreaTop" r="textAreaRight" b="textAreaBottom"/>
            <a:pathLst>
              <a:path w="90" h="88">
                <a:moveTo>
                  <a:pt x="45" y="0"/>
                </a:moveTo>
                <a:lnTo>
                  <a:pt x="53" y="1"/>
                </a:lnTo>
                <a:lnTo>
                  <a:pt x="61" y="3"/>
                </a:lnTo>
                <a:lnTo>
                  <a:pt x="70" y="8"/>
                </a:lnTo>
                <a:lnTo>
                  <a:pt x="76" y="13"/>
                </a:lnTo>
                <a:lnTo>
                  <a:pt x="82" y="21"/>
                </a:lnTo>
                <a:lnTo>
                  <a:pt x="86" y="27"/>
                </a:lnTo>
                <a:lnTo>
                  <a:pt x="89" y="35"/>
                </a:lnTo>
                <a:lnTo>
                  <a:pt x="90" y="45"/>
                </a:lnTo>
                <a:lnTo>
                  <a:pt x="89" y="53"/>
                </a:lnTo>
                <a:lnTo>
                  <a:pt x="86" y="61"/>
                </a:lnTo>
                <a:lnTo>
                  <a:pt x="82" y="69"/>
                </a:lnTo>
                <a:lnTo>
                  <a:pt x="76" y="75"/>
                </a:lnTo>
                <a:lnTo>
                  <a:pt x="70" y="82"/>
                </a:lnTo>
                <a:lnTo>
                  <a:pt x="61" y="85"/>
                </a:lnTo>
                <a:lnTo>
                  <a:pt x="53" y="88"/>
                </a:lnTo>
                <a:lnTo>
                  <a:pt x="45" y="88"/>
                </a:lnTo>
                <a:lnTo>
                  <a:pt x="36" y="88"/>
                </a:lnTo>
                <a:lnTo>
                  <a:pt x="28" y="85"/>
                </a:lnTo>
                <a:lnTo>
                  <a:pt x="21" y="82"/>
                </a:lnTo>
                <a:lnTo>
                  <a:pt x="15" y="75"/>
                </a:lnTo>
                <a:lnTo>
                  <a:pt x="8" y="69"/>
                </a:lnTo>
                <a:lnTo>
                  <a:pt x="5" y="61"/>
                </a:lnTo>
                <a:lnTo>
                  <a:pt x="2" y="53"/>
                </a:lnTo>
                <a:lnTo>
                  <a:pt x="0" y="45"/>
                </a:lnTo>
                <a:lnTo>
                  <a:pt x="2" y="35"/>
                </a:lnTo>
                <a:lnTo>
                  <a:pt x="5" y="27"/>
                </a:lnTo>
                <a:lnTo>
                  <a:pt x="8" y="21"/>
                </a:lnTo>
                <a:lnTo>
                  <a:pt x="15" y="13"/>
                </a:lnTo>
                <a:lnTo>
                  <a:pt x="21" y="8"/>
                </a:lnTo>
                <a:lnTo>
                  <a:pt x="28" y="3"/>
                </a:lnTo>
                <a:lnTo>
                  <a:pt x="36" y="1"/>
                </a:lnTo>
                <a:lnTo>
                  <a:pt x="45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40"/>
          <p:cNvSpPr/>
          <p:nvPr/>
        </p:nvSpPr>
        <p:spPr>
          <a:xfrm>
            <a:off x="7935840" y="3535200"/>
            <a:ext cx="142920" cy="140040"/>
          </a:xfrm>
          <a:custGeom>
            <a:avLst/>
            <a:gdLst>
              <a:gd name="textAreaLeft" fmla="*/ 0 w 142920"/>
              <a:gd name="textAreaRight" fmla="*/ 143280 w 142920"/>
              <a:gd name="textAreaTop" fmla="*/ 0 h 140040"/>
              <a:gd name="textAreaBottom" fmla="*/ 140400 h 140040"/>
            </a:gdLst>
            <a:ahLst/>
            <a:rect l="textAreaLeft" t="textAreaTop" r="textAreaRight" b="textAreaBottom"/>
            <a:pathLst>
              <a:path w="90" h="88">
                <a:moveTo>
                  <a:pt x="45" y="0"/>
                </a:moveTo>
                <a:lnTo>
                  <a:pt x="45" y="0"/>
                </a:lnTo>
                <a:lnTo>
                  <a:pt x="53" y="1"/>
                </a:lnTo>
                <a:lnTo>
                  <a:pt x="61" y="3"/>
                </a:lnTo>
                <a:lnTo>
                  <a:pt x="70" y="8"/>
                </a:lnTo>
                <a:lnTo>
                  <a:pt x="76" y="13"/>
                </a:lnTo>
                <a:lnTo>
                  <a:pt x="82" y="21"/>
                </a:lnTo>
                <a:lnTo>
                  <a:pt x="86" y="27"/>
                </a:lnTo>
                <a:lnTo>
                  <a:pt x="89" y="35"/>
                </a:lnTo>
                <a:lnTo>
                  <a:pt x="90" y="45"/>
                </a:lnTo>
                <a:lnTo>
                  <a:pt x="89" y="53"/>
                </a:lnTo>
                <a:lnTo>
                  <a:pt x="86" y="61"/>
                </a:lnTo>
                <a:lnTo>
                  <a:pt x="82" y="69"/>
                </a:lnTo>
                <a:lnTo>
                  <a:pt x="76" y="75"/>
                </a:lnTo>
                <a:lnTo>
                  <a:pt x="70" y="82"/>
                </a:lnTo>
                <a:lnTo>
                  <a:pt x="61" y="85"/>
                </a:lnTo>
                <a:lnTo>
                  <a:pt x="53" y="88"/>
                </a:lnTo>
                <a:lnTo>
                  <a:pt x="45" y="88"/>
                </a:lnTo>
                <a:lnTo>
                  <a:pt x="36" y="88"/>
                </a:lnTo>
                <a:lnTo>
                  <a:pt x="28" y="85"/>
                </a:lnTo>
                <a:lnTo>
                  <a:pt x="21" y="82"/>
                </a:lnTo>
                <a:lnTo>
                  <a:pt x="15" y="75"/>
                </a:lnTo>
                <a:lnTo>
                  <a:pt x="8" y="69"/>
                </a:lnTo>
                <a:lnTo>
                  <a:pt x="5" y="61"/>
                </a:lnTo>
                <a:lnTo>
                  <a:pt x="2" y="53"/>
                </a:lnTo>
                <a:lnTo>
                  <a:pt x="0" y="45"/>
                </a:lnTo>
                <a:lnTo>
                  <a:pt x="2" y="35"/>
                </a:lnTo>
                <a:lnTo>
                  <a:pt x="5" y="27"/>
                </a:lnTo>
                <a:lnTo>
                  <a:pt x="8" y="21"/>
                </a:lnTo>
                <a:lnTo>
                  <a:pt x="15" y="13"/>
                </a:lnTo>
                <a:lnTo>
                  <a:pt x="21" y="8"/>
                </a:lnTo>
                <a:lnTo>
                  <a:pt x="28" y="3"/>
                </a:lnTo>
                <a:lnTo>
                  <a:pt x="36" y="1"/>
                </a:lnTo>
                <a:lnTo>
                  <a:pt x="45" y="0"/>
                </a:lnTo>
              </a:path>
            </a:pathLst>
          </a:custGeom>
          <a:solidFill>
            <a:srgbClr val="fc0128"/>
          </a:solidFill>
          <a:ln w="3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Freeform 41"/>
          <p:cNvSpPr/>
          <p:nvPr/>
        </p:nvSpPr>
        <p:spPr>
          <a:xfrm>
            <a:off x="8140680" y="3535200"/>
            <a:ext cx="141480" cy="140040"/>
          </a:xfrm>
          <a:custGeom>
            <a:avLst/>
            <a:gdLst>
              <a:gd name="textAreaLeft" fmla="*/ 0 w 141480"/>
              <a:gd name="textAreaRight" fmla="*/ 141840 w 141480"/>
              <a:gd name="textAreaTop" fmla="*/ 0 h 140040"/>
              <a:gd name="textAreaBottom" fmla="*/ 140400 h 140040"/>
            </a:gdLst>
            <a:ahLst/>
            <a:rect l="textAreaLeft" t="textAreaTop" r="textAreaRight" b="textAreaBottom"/>
            <a:pathLst>
              <a:path w="89" h="88">
                <a:moveTo>
                  <a:pt x="44" y="0"/>
                </a:moveTo>
                <a:lnTo>
                  <a:pt x="53" y="1"/>
                </a:lnTo>
                <a:lnTo>
                  <a:pt x="61" y="3"/>
                </a:lnTo>
                <a:lnTo>
                  <a:pt x="68" y="8"/>
                </a:lnTo>
                <a:lnTo>
                  <a:pt x="76" y="13"/>
                </a:lnTo>
                <a:lnTo>
                  <a:pt x="81" y="21"/>
                </a:lnTo>
                <a:lnTo>
                  <a:pt x="85" y="27"/>
                </a:lnTo>
                <a:lnTo>
                  <a:pt x="87" y="35"/>
                </a:lnTo>
                <a:lnTo>
                  <a:pt x="89" y="45"/>
                </a:lnTo>
                <a:lnTo>
                  <a:pt x="87" y="53"/>
                </a:lnTo>
                <a:lnTo>
                  <a:pt x="85" y="61"/>
                </a:lnTo>
                <a:lnTo>
                  <a:pt x="81" y="69"/>
                </a:lnTo>
                <a:lnTo>
                  <a:pt x="76" y="75"/>
                </a:lnTo>
                <a:lnTo>
                  <a:pt x="68" y="82"/>
                </a:lnTo>
                <a:lnTo>
                  <a:pt x="61" y="85"/>
                </a:lnTo>
                <a:lnTo>
                  <a:pt x="53" y="88"/>
                </a:lnTo>
                <a:lnTo>
                  <a:pt x="44" y="88"/>
                </a:lnTo>
                <a:lnTo>
                  <a:pt x="36" y="88"/>
                </a:lnTo>
                <a:lnTo>
                  <a:pt x="28" y="85"/>
                </a:lnTo>
                <a:lnTo>
                  <a:pt x="19" y="82"/>
                </a:lnTo>
                <a:lnTo>
                  <a:pt x="13" y="75"/>
                </a:lnTo>
                <a:lnTo>
                  <a:pt x="7" y="69"/>
                </a:lnTo>
                <a:lnTo>
                  <a:pt x="3" y="61"/>
                </a:lnTo>
                <a:lnTo>
                  <a:pt x="0" y="53"/>
                </a:lnTo>
                <a:lnTo>
                  <a:pt x="0" y="45"/>
                </a:lnTo>
                <a:lnTo>
                  <a:pt x="0" y="35"/>
                </a:lnTo>
                <a:lnTo>
                  <a:pt x="3" y="27"/>
                </a:lnTo>
                <a:lnTo>
                  <a:pt x="7" y="21"/>
                </a:lnTo>
                <a:lnTo>
                  <a:pt x="13" y="13"/>
                </a:lnTo>
                <a:lnTo>
                  <a:pt x="19" y="8"/>
                </a:lnTo>
                <a:lnTo>
                  <a:pt x="28" y="3"/>
                </a:lnTo>
                <a:lnTo>
                  <a:pt x="36" y="1"/>
                </a:lnTo>
                <a:lnTo>
                  <a:pt x="44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42"/>
          <p:cNvSpPr/>
          <p:nvPr/>
        </p:nvSpPr>
        <p:spPr>
          <a:xfrm>
            <a:off x="8140680" y="3535200"/>
            <a:ext cx="141480" cy="140040"/>
          </a:xfrm>
          <a:custGeom>
            <a:avLst/>
            <a:gdLst>
              <a:gd name="textAreaLeft" fmla="*/ 0 w 141480"/>
              <a:gd name="textAreaRight" fmla="*/ 141840 w 141480"/>
              <a:gd name="textAreaTop" fmla="*/ 0 h 140040"/>
              <a:gd name="textAreaBottom" fmla="*/ 140400 h 140040"/>
            </a:gdLst>
            <a:ahLst/>
            <a:rect l="textAreaLeft" t="textAreaTop" r="textAreaRight" b="textAreaBottom"/>
            <a:pathLst>
              <a:path w="89" h="88">
                <a:moveTo>
                  <a:pt x="44" y="0"/>
                </a:moveTo>
                <a:lnTo>
                  <a:pt x="44" y="0"/>
                </a:lnTo>
                <a:lnTo>
                  <a:pt x="53" y="1"/>
                </a:lnTo>
                <a:lnTo>
                  <a:pt x="61" y="3"/>
                </a:lnTo>
                <a:lnTo>
                  <a:pt x="68" y="8"/>
                </a:lnTo>
                <a:lnTo>
                  <a:pt x="76" y="13"/>
                </a:lnTo>
                <a:lnTo>
                  <a:pt x="81" y="21"/>
                </a:lnTo>
                <a:lnTo>
                  <a:pt x="85" y="27"/>
                </a:lnTo>
                <a:lnTo>
                  <a:pt x="87" y="35"/>
                </a:lnTo>
                <a:lnTo>
                  <a:pt x="89" y="45"/>
                </a:lnTo>
                <a:lnTo>
                  <a:pt x="87" y="53"/>
                </a:lnTo>
                <a:lnTo>
                  <a:pt x="85" y="61"/>
                </a:lnTo>
                <a:lnTo>
                  <a:pt x="81" y="69"/>
                </a:lnTo>
                <a:lnTo>
                  <a:pt x="76" y="75"/>
                </a:lnTo>
                <a:lnTo>
                  <a:pt x="68" y="82"/>
                </a:lnTo>
                <a:lnTo>
                  <a:pt x="61" y="85"/>
                </a:lnTo>
                <a:lnTo>
                  <a:pt x="53" y="88"/>
                </a:lnTo>
                <a:lnTo>
                  <a:pt x="44" y="88"/>
                </a:lnTo>
                <a:lnTo>
                  <a:pt x="36" y="88"/>
                </a:lnTo>
                <a:lnTo>
                  <a:pt x="28" y="85"/>
                </a:lnTo>
                <a:lnTo>
                  <a:pt x="19" y="82"/>
                </a:lnTo>
                <a:lnTo>
                  <a:pt x="13" y="75"/>
                </a:lnTo>
                <a:lnTo>
                  <a:pt x="7" y="69"/>
                </a:lnTo>
                <a:lnTo>
                  <a:pt x="3" y="61"/>
                </a:lnTo>
                <a:lnTo>
                  <a:pt x="0" y="53"/>
                </a:lnTo>
                <a:lnTo>
                  <a:pt x="0" y="45"/>
                </a:lnTo>
                <a:lnTo>
                  <a:pt x="0" y="35"/>
                </a:lnTo>
                <a:lnTo>
                  <a:pt x="3" y="27"/>
                </a:lnTo>
                <a:lnTo>
                  <a:pt x="7" y="21"/>
                </a:lnTo>
                <a:lnTo>
                  <a:pt x="13" y="13"/>
                </a:lnTo>
                <a:lnTo>
                  <a:pt x="19" y="8"/>
                </a:lnTo>
                <a:lnTo>
                  <a:pt x="28" y="3"/>
                </a:lnTo>
                <a:lnTo>
                  <a:pt x="36" y="1"/>
                </a:lnTo>
                <a:lnTo>
                  <a:pt x="44" y="0"/>
                </a:lnTo>
              </a:path>
            </a:pathLst>
          </a:custGeom>
          <a:solidFill>
            <a:srgbClr val="fc0128"/>
          </a:solidFill>
          <a:ln w="3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43"/>
          <p:cNvSpPr/>
          <p:nvPr/>
        </p:nvSpPr>
        <p:spPr>
          <a:xfrm>
            <a:off x="8342280" y="3537000"/>
            <a:ext cx="141480" cy="141120"/>
          </a:xfrm>
          <a:custGeom>
            <a:avLst/>
            <a:gdLst>
              <a:gd name="textAreaLeft" fmla="*/ 0 w 141480"/>
              <a:gd name="textAreaRight" fmla="*/ 141840 w 14148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89" h="89">
                <a:moveTo>
                  <a:pt x="45" y="0"/>
                </a:moveTo>
                <a:lnTo>
                  <a:pt x="54" y="0"/>
                </a:lnTo>
                <a:lnTo>
                  <a:pt x="62" y="4"/>
                </a:lnTo>
                <a:lnTo>
                  <a:pt x="70" y="7"/>
                </a:lnTo>
                <a:lnTo>
                  <a:pt x="76" y="13"/>
                </a:lnTo>
                <a:lnTo>
                  <a:pt x="81" y="20"/>
                </a:lnTo>
                <a:lnTo>
                  <a:pt x="86" y="28"/>
                </a:lnTo>
                <a:lnTo>
                  <a:pt x="89" y="36"/>
                </a:lnTo>
                <a:lnTo>
                  <a:pt x="89" y="44"/>
                </a:lnTo>
                <a:lnTo>
                  <a:pt x="89" y="54"/>
                </a:lnTo>
                <a:lnTo>
                  <a:pt x="86" y="62"/>
                </a:lnTo>
                <a:lnTo>
                  <a:pt x="81" y="70"/>
                </a:lnTo>
                <a:lnTo>
                  <a:pt x="76" y="76"/>
                </a:lnTo>
                <a:lnTo>
                  <a:pt x="70" y="81"/>
                </a:lnTo>
                <a:lnTo>
                  <a:pt x="62" y="86"/>
                </a:lnTo>
                <a:lnTo>
                  <a:pt x="54" y="87"/>
                </a:lnTo>
                <a:lnTo>
                  <a:pt x="45" y="89"/>
                </a:lnTo>
                <a:lnTo>
                  <a:pt x="36" y="87"/>
                </a:lnTo>
                <a:lnTo>
                  <a:pt x="28" y="86"/>
                </a:lnTo>
                <a:lnTo>
                  <a:pt x="20" y="81"/>
                </a:lnTo>
                <a:lnTo>
                  <a:pt x="13" y="76"/>
                </a:lnTo>
                <a:lnTo>
                  <a:pt x="7" y="70"/>
                </a:lnTo>
                <a:lnTo>
                  <a:pt x="4" y="62"/>
                </a:lnTo>
                <a:lnTo>
                  <a:pt x="0" y="54"/>
                </a:lnTo>
                <a:lnTo>
                  <a:pt x="0" y="44"/>
                </a:lnTo>
                <a:lnTo>
                  <a:pt x="0" y="36"/>
                </a:lnTo>
                <a:lnTo>
                  <a:pt x="4" y="28"/>
                </a:lnTo>
                <a:lnTo>
                  <a:pt x="7" y="20"/>
                </a:lnTo>
                <a:lnTo>
                  <a:pt x="13" y="13"/>
                </a:lnTo>
                <a:lnTo>
                  <a:pt x="20" y="7"/>
                </a:lnTo>
                <a:lnTo>
                  <a:pt x="28" y="4"/>
                </a:lnTo>
                <a:lnTo>
                  <a:pt x="36" y="0"/>
                </a:lnTo>
                <a:lnTo>
                  <a:pt x="45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reeform 44"/>
          <p:cNvSpPr/>
          <p:nvPr/>
        </p:nvSpPr>
        <p:spPr>
          <a:xfrm>
            <a:off x="8342280" y="3537000"/>
            <a:ext cx="141480" cy="141120"/>
          </a:xfrm>
          <a:custGeom>
            <a:avLst/>
            <a:gdLst>
              <a:gd name="textAreaLeft" fmla="*/ 0 w 141480"/>
              <a:gd name="textAreaRight" fmla="*/ 141840 w 14148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89" h="89">
                <a:moveTo>
                  <a:pt x="45" y="0"/>
                </a:moveTo>
                <a:lnTo>
                  <a:pt x="45" y="0"/>
                </a:lnTo>
                <a:lnTo>
                  <a:pt x="54" y="0"/>
                </a:lnTo>
                <a:lnTo>
                  <a:pt x="62" y="4"/>
                </a:lnTo>
                <a:lnTo>
                  <a:pt x="70" y="7"/>
                </a:lnTo>
                <a:lnTo>
                  <a:pt x="76" y="13"/>
                </a:lnTo>
                <a:lnTo>
                  <a:pt x="81" y="20"/>
                </a:lnTo>
                <a:lnTo>
                  <a:pt x="86" y="28"/>
                </a:lnTo>
                <a:lnTo>
                  <a:pt x="89" y="36"/>
                </a:lnTo>
                <a:lnTo>
                  <a:pt x="89" y="44"/>
                </a:lnTo>
                <a:lnTo>
                  <a:pt x="89" y="54"/>
                </a:lnTo>
                <a:lnTo>
                  <a:pt x="86" y="62"/>
                </a:lnTo>
                <a:lnTo>
                  <a:pt x="81" y="70"/>
                </a:lnTo>
                <a:lnTo>
                  <a:pt x="76" y="76"/>
                </a:lnTo>
                <a:lnTo>
                  <a:pt x="70" y="81"/>
                </a:lnTo>
                <a:lnTo>
                  <a:pt x="62" y="86"/>
                </a:lnTo>
                <a:lnTo>
                  <a:pt x="54" y="87"/>
                </a:lnTo>
                <a:lnTo>
                  <a:pt x="45" y="89"/>
                </a:lnTo>
                <a:lnTo>
                  <a:pt x="36" y="87"/>
                </a:lnTo>
                <a:lnTo>
                  <a:pt x="28" y="86"/>
                </a:lnTo>
                <a:lnTo>
                  <a:pt x="20" y="81"/>
                </a:lnTo>
                <a:lnTo>
                  <a:pt x="13" y="76"/>
                </a:lnTo>
                <a:lnTo>
                  <a:pt x="7" y="70"/>
                </a:lnTo>
                <a:lnTo>
                  <a:pt x="4" y="62"/>
                </a:lnTo>
                <a:lnTo>
                  <a:pt x="0" y="54"/>
                </a:lnTo>
                <a:lnTo>
                  <a:pt x="0" y="44"/>
                </a:lnTo>
                <a:lnTo>
                  <a:pt x="0" y="36"/>
                </a:lnTo>
                <a:lnTo>
                  <a:pt x="4" y="28"/>
                </a:lnTo>
                <a:lnTo>
                  <a:pt x="7" y="20"/>
                </a:lnTo>
                <a:lnTo>
                  <a:pt x="13" y="13"/>
                </a:lnTo>
                <a:lnTo>
                  <a:pt x="20" y="7"/>
                </a:lnTo>
                <a:lnTo>
                  <a:pt x="28" y="4"/>
                </a:lnTo>
                <a:lnTo>
                  <a:pt x="36" y="0"/>
                </a:lnTo>
                <a:lnTo>
                  <a:pt x="45" y="0"/>
                </a:lnTo>
              </a:path>
            </a:pathLst>
          </a:custGeom>
          <a:solidFill>
            <a:srgbClr val="fc0128"/>
          </a:solidFill>
          <a:ln w="3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45"/>
          <p:cNvSpPr/>
          <p:nvPr/>
        </p:nvSpPr>
        <p:spPr>
          <a:xfrm>
            <a:off x="7331040" y="4302000"/>
            <a:ext cx="139680" cy="141480"/>
          </a:xfrm>
          <a:custGeom>
            <a:avLst/>
            <a:gdLst>
              <a:gd name="textAreaLeft" fmla="*/ 0 w 139680"/>
              <a:gd name="textAreaRight" fmla="*/ 140040 w 13968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88" h="89">
                <a:moveTo>
                  <a:pt x="43" y="0"/>
                </a:moveTo>
                <a:lnTo>
                  <a:pt x="53" y="0"/>
                </a:lnTo>
                <a:lnTo>
                  <a:pt x="61" y="3"/>
                </a:lnTo>
                <a:lnTo>
                  <a:pt x="69" y="6"/>
                </a:lnTo>
                <a:lnTo>
                  <a:pt x="75" y="13"/>
                </a:lnTo>
                <a:lnTo>
                  <a:pt x="82" y="19"/>
                </a:lnTo>
                <a:lnTo>
                  <a:pt x="85" y="27"/>
                </a:lnTo>
                <a:lnTo>
                  <a:pt x="88" y="35"/>
                </a:lnTo>
                <a:lnTo>
                  <a:pt x="88" y="45"/>
                </a:lnTo>
                <a:lnTo>
                  <a:pt x="88" y="53"/>
                </a:lnTo>
                <a:lnTo>
                  <a:pt x="85" y="61"/>
                </a:lnTo>
                <a:lnTo>
                  <a:pt x="82" y="69"/>
                </a:lnTo>
                <a:lnTo>
                  <a:pt x="75" y="76"/>
                </a:lnTo>
                <a:lnTo>
                  <a:pt x="69" y="81"/>
                </a:lnTo>
                <a:lnTo>
                  <a:pt x="61" y="85"/>
                </a:lnTo>
                <a:lnTo>
                  <a:pt x="53" y="89"/>
                </a:lnTo>
                <a:lnTo>
                  <a:pt x="43" y="89"/>
                </a:lnTo>
                <a:lnTo>
                  <a:pt x="35" y="89"/>
                </a:lnTo>
                <a:lnTo>
                  <a:pt x="27" y="85"/>
                </a:lnTo>
                <a:lnTo>
                  <a:pt x="19" y="81"/>
                </a:lnTo>
                <a:lnTo>
                  <a:pt x="12" y="76"/>
                </a:lnTo>
                <a:lnTo>
                  <a:pt x="6" y="69"/>
                </a:lnTo>
                <a:lnTo>
                  <a:pt x="3" y="61"/>
                </a:lnTo>
                <a:lnTo>
                  <a:pt x="0" y="53"/>
                </a:lnTo>
                <a:lnTo>
                  <a:pt x="0" y="45"/>
                </a:lnTo>
                <a:lnTo>
                  <a:pt x="0" y="35"/>
                </a:lnTo>
                <a:lnTo>
                  <a:pt x="3" y="27"/>
                </a:lnTo>
                <a:lnTo>
                  <a:pt x="6" y="19"/>
                </a:lnTo>
                <a:lnTo>
                  <a:pt x="12" y="13"/>
                </a:lnTo>
                <a:lnTo>
                  <a:pt x="19" y="6"/>
                </a:lnTo>
                <a:lnTo>
                  <a:pt x="27" y="3"/>
                </a:lnTo>
                <a:lnTo>
                  <a:pt x="35" y="0"/>
                </a:lnTo>
                <a:lnTo>
                  <a:pt x="43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46"/>
          <p:cNvSpPr/>
          <p:nvPr/>
        </p:nvSpPr>
        <p:spPr>
          <a:xfrm>
            <a:off x="7331040" y="4302000"/>
            <a:ext cx="139680" cy="141480"/>
          </a:xfrm>
          <a:custGeom>
            <a:avLst/>
            <a:gdLst>
              <a:gd name="textAreaLeft" fmla="*/ 0 w 139680"/>
              <a:gd name="textAreaRight" fmla="*/ 140040 w 13968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88" h="89">
                <a:moveTo>
                  <a:pt x="43" y="0"/>
                </a:moveTo>
                <a:lnTo>
                  <a:pt x="43" y="0"/>
                </a:lnTo>
                <a:lnTo>
                  <a:pt x="53" y="0"/>
                </a:lnTo>
                <a:lnTo>
                  <a:pt x="61" y="3"/>
                </a:lnTo>
                <a:lnTo>
                  <a:pt x="69" y="6"/>
                </a:lnTo>
                <a:lnTo>
                  <a:pt x="75" y="13"/>
                </a:lnTo>
                <a:lnTo>
                  <a:pt x="82" y="19"/>
                </a:lnTo>
                <a:lnTo>
                  <a:pt x="85" y="27"/>
                </a:lnTo>
                <a:lnTo>
                  <a:pt x="88" y="35"/>
                </a:lnTo>
                <a:lnTo>
                  <a:pt x="88" y="45"/>
                </a:lnTo>
                <a:lnTo>
                  <a:pt x="88" y="53"/>
                </a:lnTo>
                <a:lnTo>
                  <a:pt x="85" y="61"/>
                </a:lnTo>
                <a:lnTo>
                  <a:pt x="82" y="69"/>
                </a:lnTo>
                <a:lnTo>
                  <a:pt x="75" y="76"/>
                </a:lnTo>
                <a:lnTo>
                  <a:pt x="69" y="81"/>
                </a:lnTo>
                <a:lnTo>
                  <a:pt x="61" y="85"/>
                </a:lnTo>
                <a:lnTo>
                  <a:pt x="53" y="89"/>
                </a:lnTo>
                <a:lnTo>
                  <a:pt x="43" y="89"/>
                </a:lnTo>
                <a:lnTo>
                  <a:pt x="35" y="89"/>
                </a:lnTo>
                <a:lnTo>
                  <a:pt x="27" y="85"/>
                </a:lnTo>
                <a:lnTo>
                  <a:pt x="19" y="81"/>
                </a:lnTo>
                <a:lnTo>
                  <a:pt x="12" y="76"/>
                </a:lnTo>
                <a:lnTo>
                  <a:pt x="6" y="69"/>
                </a:lnTo>
                <a:lnTo>
                  <a:pt x="3" y="61"/>
                </a:lnTo>
                <a:lnTo>
                  <a:pt x="0" y="53"/>
                </a:lnTo>
                <a:lnTo>
                  <a:pt x="0" y="45"/>
                </a:lnTo>
                <a:lnTo>
                  <a:pt x="0" y="35"/>
                </a:lnTo>
                <a:lnTo>
                  <a:pt x="3" y="27"/>
                </a:lnTo>
                <a:lnTo>
                  <a:pt x="6" y="19"/>
                </a:lnTo>
                <a:lnTo>
                  <a:pt x="12" y="13"/>
                </a:lnTo>
                <a:lnTo>
                  <a:pt x="19" y="6"/>
                </a:lnTo>
                <a:lnTo>
                  <a:pt x="27" y="3"/>
                </a:lnTo>
                <a:lnTo>
                  <a:pt x="35" y="0"/>
                </a:lnTo>
                <a:lnTo>
                  <a:pt x="43" y="0"/>
                </a:lnTo>
              </a:path>
            </a:pathLst>
          </a:custGeom>
          <a:solidFill>
            <a:srgbClr val="fc0128"/>
          </a:solidFill>
          <a:ln w="3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47"/>
          <p:cNvSpPr/>
          <p:nvPr/>
        </p:nvSpPr>
        <p:spPr>
          <a:xfrm>
            <a:off x="7532640" y="4299120"/>
            <a:ext cx="139680" cy="144360"/>
          </a:xfrm>
          <a:custGeom>
            <a:avLst/>
            <a:gdLst>
              <a:gd name="textAreaLeft" fmla="*/ 0 w 139680"/>
              <a:gd name="textAreaRight" fmla="*/ 140040 w 1396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88" h="91">
                <a:moveTo>
                  <a:pt x="45" y="0"/>
                </a:moveTo>
                <a:lnTo>
                  <a:pt x="53" y="2"/>
                </a:lnTo>
                <a:lnTo>
                  <a:pt x="61" y="5"/>
                </a:lnTo>
                <a:lnTo>
                  <a:pt x="69" y="8"/>
                </a:lnTo>
                <a:lnTo>
                  <a:pt x="76" y="15"/>
                </a:lnTo>
                <a:lnTo>
                  <a:pt x="82" y="21"/>
                </a:lnTo>
                <a:lnTo>
                  <a:pt x="85" y="28"/>
                </a:lnTo>
                <a:lnTo>
                  <a:pt x="88" y="36"/>
                </a:lnTo>
                <a:lnTo>
                  <a:pt x="88" y="46"/>
                </a:lnTo>
                <a:lnTo>
                  <a:pt x="88" y="54"/>
                </a:lnTo>
                <a:lnTo>
                  <a:pt x="85" y="63"/>
                </a:lnTo>
                <a:lnTo>
                  <a:pt x="82" y="70"/>
                </a:lnTo>
                <a:lnTo>
                  <a:pt x="76" y="76"/>
                </a:lnTo>
                <a:lnTo>
                  <a:pt x="69" y="83"/>
                </a:lnTo>
                <a:lnTo>
                  <a:pt x="61" y="86"/>
                </a:lnTo>
                <a:lnTo>
                  <a:pt x="53" y="89"/>
                </a:lnTo>
                <a:lnTo>
                  <a:pt x="45" y="91"/>
                </a:lnTo>
                <a:lnTo>
                  <a:pt x="35" y="89"/>
                </a:lnTo>
                <a:lnTo>
                  <a:pt x="27" y="86"/>
                </a:lnTo>
                <a:lnTo>
                  <a:pt x="19" y="83"/>
                </a:lnTo>
                <a:lnTo>
                  <a:pt x="13" y="76"/>
                </a:lnTo>
                <a:lnTo>
                  <a:pt x="8" y="70"/>
                </a:lnTo>
                <a:lnTo>
                  <a:pt x="3" y="63"/>
                </a:lnTo>
                <a:lnTo>
                  <a:pt x="1" y="54"/>
                </a:lnTo>
                <a:lnTo>
                  <a:pt x="0" y="46"/>
                </a:lnTo>
                <a:lnTo>
                  <a:pt x="1" y="36"/>
                </a:lnTo>
                <a:lnTo>
                  <a:pt x="3" y="28"/>
                </a:lnTo>
                <a:lnTo>
                  <a:pt x="8" y="21"/>
                </a:lnTo>
                <a:lnTo>
                  <a:pt x="13" y="15"/>
                </a:lnTo>
                <a:lnTo>
                  <a:pt x="19" y="8"/>
                </a:lnTo>
                <a:lnTo>
                  <a:pt x="27" y="5"/>
                </a:lnTo>
                <a:lnTo>
                  <a:pt x="35" y="2"/>
                </a:lnTo>
                <a:lnTo>
                  <a:pt x="45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48"/>
          <p:cNvSpPr/>
          <p:nvPr/>
        </p:nvSpPr>
        <p:spPr>
          <a:xfrm>
            <a:off x="7532640" y="4299120"/>
            <a:ext cx="139680" cy="144360"/>
          </a:xfrm>
          <a:custGeom>
            <a:avLst/>
            <a:gdLst>
              <a:gd name="textAreaLeft" fmla="*/ 0 w 139680"/>
              <a:gd name="textAreaRight" fmla="*/ 140040 w 1396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88" h="91">
                <a:moveTo>
                  <a:pt x="45" y="0"/>
                </a:moveTo>
                <a:lnTo>
                  <a:pt x="45" y="0"/>
                </a:lnTo>
                <a:lnTo>
                  <a:pt x="53" y="2"/>
                </a:lnTo>
                <a:lnTo>
                  <a:pt x="61" y="5"/>
                </a:lnTo>
                <a:lnTo>
                  <a:pt x="69" y="8"/>
                </a:lnTo>
                <a:lnTo>
                  <a:pt x="76" y="15"/>
                </a:lnTo>
                <a:lnTo>
                  <a:pt x="82" y="21"/>
                </a:lnTo>
                <a:lnTo>
                  <a:pt x="85" y="28"/>
                </a:lnTo>
                <a:lnTo>
                  <a:pt x="88" y="36"/>
                </a:lnTo>
                <a:lnTo>
                  <a:pt x="88" y="46"/>
                </a:lnTo>
                <a:lnTo>
                  <a:pt x="88" y="54"/>
                </a:lnTo>
                <a:lnTo>
                  <a:pt x="85" y="63"/>
                </a:lnTo>
                <a:lnTo>
                  <a:pt x="82" y="70"/>
                </a:lnTo>
                <a:lnTo>
                  <a:pt x="76" y="76"/>
                </a:lnTo>
                <a:lnTo>
                  <a:pt x="69" y="83"/>
                </a:lnTo>
                <a:lnTo>
                  <a:pt x="61" y="86"/>
                </a:lnTo>
                <a:lnTo>
                  <a:pt x="53" y="89"/>
                </a:lnTo>
                <a:lnTo>
                  <a:pt x="45" y="91"/>
                </a:lnTo>
                <a:lnTo>
                  <a:pt x="35" y="89"/>
                </a:lnTo>
                <a:lnTo>
                  <a:pt x="27" y="86"/>
                </a:lnTo>
                <a:lnTo>
                  <a:pt x="19" y="83"/>
                </a:lnTo>
                <a:lnTo>
                  <a:pt x="13" y="76"/>
                </a:lnTo>
                <a:lnTo>
                  <a:pt x="8" y="70"/>
                </a:lnTo>
                <a:lnTo>
                  <a:pt x="3" y="63"/>
                </a:lnTo>
                <a:lnTo>
                  <a:pt x="1" y="54"/>
                </a:lnTo>
                <a:lnTo>
                  <a:pt x="0" y="46"/>
                </a:lnTo>
                <a:lnTo>
                  <a:pt x="1" y="36"/>
                </a:lnTo>
                <a:lnTo>
                  <a:pt x="3" y="28"/>
                </a:lnTo>
                <a:lnTo>
                  <a:pt x="8" y="21"/>
                </a:lnTo>
                <a:lnTo>
                  <a:pt x="13" y="15"/>
                </a:lnTo>
                <a:lnTo>
                  <a:pt x="19" y="8"/>
                </a:lnTo>
                <a:lnTo>
                  <a:pt x="27" y="5"/>
                </a:lnTo>
                <a:lnTo>
                  <a:pt x="35" y="2"/>
                </a:lnTo>
                <a:lnTo>
                  <a:pt x="45" y="0"/>
                </a:lnTo>
              </a:path>
            </a:pathLst>
          </a:custGeom>
          <a:solidFill>
            <a:srgbClr val="fc0128"/>
          </a:solidFill>
          <a:ln w="3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49"/>
          <p:cNvSpPr/>
          <p:nvPr/>
        </p:nvSpPr>
        <p:spPr>
          <a:xfrm>
            <a:off x="7734240" y="429912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91">
                <a:moveTo>
                  <a:pt x="45" y="0"/>
                </a:moveTo>
                <a:lnTo>
                  <a:pt x="53" y="2"/>
                </a:lnTo>
                <a:lnTo>
                  <a:pt x="63" y="5"/>
                </a:lnTo>
                <a:lnTo>
                  <a:pt x="69" y="8"/>
                </a:lnTo>
                <a:lnTo>
                  <a:pt x="76" y="15"/>
                </a:lnTo>
                <a:lnTo>
                  <a:pt x="82" y="21"/>
                </a:lnTo>
                <a:lnTo>
                  <a:pt x="85" y="28"/>
                </a:lnTo>
                <a:lnTo>
                  <a:pt x="89" y="36"/>
                </a:lnTo>
                <a:lnTo>
                  <a:pt x="90" y="46"/>
                </a:lnTo>
                <a:lnTo>
                  <a:pt x="89" y="54"/>
                </a:lnTo>
                <a:lnTo>
                  <a:pt x="85" y="63"/>
                </a:lnTo>
                <a:lnTo>
                  <a:pt x="82" y="70"/>
                </a:lnTo>
                <a:lnTo>
                  <a:pt x="76" y="76"/>
                </a:lnTo>
                <a:lnTo>
                  <a:pt x="69" y="83"/>
                </a:lnTo>
                <a:lnTo>
                  <a:pt x="63" y="86"/>
                </a:lnTo>
                <a:lnTo>
                  <a:pt x="53" y="89"/>
                </a:lnTo>
                <a:lnTo>
                  <a:pt x="45" y="91"/>
                </a:lnTo>
                <a:lnTo>
                  <a:pt x="35" y="89"/>
                </a:lnTo>
                <a:lnTo>
                  <a:pt x="27" y="86"/>
                </a:lnTo>
                <a:lnTo>
                  <a:pt x="21" y="83"/>
                </a:lnTo>
                <a:lnTo>
                  <a:pt x="15" y="76"/>
                </a:lnTo>
                <a:lnTo>
                  <a:pt x="8" y="70"/>
                </a:lnTo>
                <a:lnTo>
                  <a:pt x="5" y="63"/>
                </a:lnTo>
                <a:lnTo>
                  <a:pt x="2" y="54"/>
                </a:lnTo>
                <a:lnTo>
                  <a:pt x="0" y="46"/>
                </a:lnTo>
                <a:lnTo>
                  <a:pt x="2" y="36"/>
                </a:lnTo>
                <a:lnTo>
                  <a:pt x="5" y="28"/>
                </a:lnTo>
                <a:lnTo>
                  <a:pt x="8" y="21"/>
                </a:lnTo>
                <a:lnTo>
                  <a:pt x="15" y="15"/>
                </a:lnTo>
                <a:lnTo>
                  <a:pt x="21" y="8"/>
                </a:lnTo>
                <a:lnTo>
                  <a:pt x="27" y="5"/>
                </a:lnTo>
                <a:lnTo>
                  <a:pt x="35" y="2"/>
                </a:lnTo>
                <a:lnTo>
                  <a:pt x="45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50"/>
          <p:cNvSpPr/>
          <p:nvPr/>
        </p:nvSpPr>
        <p:spPr>
          <a:xfrm>
            <a:off x="7734240" y="429912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91">
                <a:moveTo>
                  <a:pt x="45" y="0"/>
                </a:moveTo>
                <a:lnTo>
                  <a:pt x="45" y="0"/>
                </a:lnTo>
                <a:lnTo>
                  <a:pt x="53" y="2"/>
                </a:lnTo>
                <a:lnTo>
                  <a:pt x="63" y="5"/>
                </a:lnTo>
                <a:lnTo>
                  <a:pt x="69" y="8"/>
                </a:lnTo>
                <a:lnTo>
                  <a:pt x="76" y="15"/>
                </a:lnTo>
                <a:lnTo>
                  <a:pt x="82" y="21"/>
                </a:lnTo>
                <a:lnTo>
                  <a:pt x="85" y="28"/>
                </a:lnTo>
                <a:lnTo>
                  <a:pt x="89" y="36"/>
                </a:lnTo>
                <a:lnTo>
                  <a:pt x="90" y="46"/>
                </a:lnTo>
                <a:lnTo>
                  <a:pt x="89" y="54"/>
                </a:lnTo>
                <a:lnTo>
                  <a:pt x="85" y="63"/>
                </a:lnTo>
                <a:lnTo>
                  <a:pt x="82" y="70"/>
                </a:lnTo>
                <a:lnTo>
                  <a:pt x="76" y="76"/>
                </a:lnTo>
                <a:lnTo>
                  <a:pt x="69" y="83"/>
                </a:lnTo>
                <a:lnTo>
                  <a:pt x="63" y="86"/>
                </a:lnTo>
                <a:lnTo>
                  <a:pt x="53" y="89"/>
                </a:lnTo>
                <a:lnTo>
                  <a:pt x="45" y="91"/>
                </a:lnTo>
                <a:lnTo>
                  <a:pt x="35" y="89"/>
                </a:lnTo>
                <a:lnTo>
                  <a:pt x="27" y="86"/>
                </a:lnTo>
                <a:lnTo>
                  <a:pt x="21" y="83"/>
                </a:lnTo>
                <a:lnTo>
                  <a:pt x="15" y="76"/>
                </a:lnTo>
                <a:lnTo>
                  <a:pt x="8" y="70"/>
                </a:lnTo>
                <a:lnTo>
                  <a:pt x="5" y="63"/>
                </a:lnTo>
                <a:lnTo>
                  <a:pt x="2" y="54"/>
                </a:lnTo>
                <a:lnTo>
                  <a:pt x="0" y="46"/>
                </a:lnTo>
                <a:lnTo>
                  <a:pt x="2" y="36"/>
                </a:lnTo>
                <a:lnTo>
                  <a:pt x="5" y="28"/>
                </a:lnTo>
                <a:lnTo>
                  <a:pt x="8" y="21"/>
                </a:lnTo>
                <a:lnTo>
                  <a:pt x="15" y="15"/>
                </a:lnTo>
                <a:lnTo>
                  <a:pt x="21" y="8"/>
                </a:lnTo>
                <a:lnTo>
                  <a:pt x="27" y="5"/>
                </a:lnTo>
                <a:lnTo>
                  <a:pt x="35" y="2"/>
                </a:lnTo>
                <a:lnTo>
                  <a:pt x="45" y="0"/>
                </a:lnTo>
              </a:path>
            </a:pathLst>
          </a:custGeom>
          <a:solidFill>
            <a:srgbClr val="fc0128"/>
          </a:solidFill>
          <a:ln w="3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51"/>
          <p:cNvSpPr/>
          <p:nvPr/>
        </p:nvSpPr>
        <p:spPr>
          <a:xfrm>
            <a:off x="7935840" y="429912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91">
                <a:moveTo>
                  <a:pt x="45" y="0"/>
                </a:moveTo>
                <a:lnTo>
                  <a:pt x="53" y="2"/>
                </a:lnTo>
                <a:lnTo>
                  <a:pt x="61" y="5"/>
                </a:lnTo>
                <a:lnTo>
                  <a:pt x="70" y="8"/>
                </a:lnTo>
                <a:lnTo>
                  <a:pt x="76" y="15"/>
                </a:lnTo>
                <a:lnTo>
                  <a:pt x="82" y="21"/>
                </a:lnTo>
                <a:lnTo>
                  <a:pt x="86" y="28"/>
                </a:lnTo>
                <a:lnTo>
                  <a:pt x="89" y="36"/>
                </a:lnTo>
                <a:lnTo>
                  <a:pt x="90" y="46"/>
                </a:lnTo>
                <a:lnTo>
                  <a:pt x="89" y="54"/>
                </a:lnTo>
                <a:lnTo>
                  <a:pt x="86" y="63"/>
                </a:lnTo>
                <a:lnTo>
                  <a:pt x="82" y="70"/>
                </a:lnTo>
                <a:lnTo>
                  <a:pt x="76" y="76"/>
                </a:lnTo>
                <a:lnTo>
                  <a:pt x="70" y="83"/>
                </a:lnTo>
                <a:lnTo>
                  <a:pt x="61" y="86"/>
                </a:lnTo>
                <a:lnTo>
                  <a:pt x="53" y="89"/>
                </a:lnTo>
                <a:lnTo>
                  <a:pt x="45" y="91"/>
                </a:lnTo>
                <a:lnTo>
                  <a:pt x="36" y="89"/>
                </a:lnTo>
                <a:lnTo>
                  <a:pt x="28" y="86"/>
                </a:lnTo>
                <a:lnTo>
                  <a:pt x="21" y="83"/>
                </a:lnTo>
                <a:lnTo>
                  <a:pt x="15" y="76"/>
                </a:lnTo>
                <a:lnTo>
                  <a:pt x="8" y="70"/>
                </a:lnTo>
                <a:lnTo>
                  <a:pt x="5" y="63"/>
                </a:lnTo>
                <a:lnTo>
                  <a:pt x="2" y="54"/>
                </a:lnTo>
                <a:lnTo>
                  <a:pt x="0" y="46"/>
                </a:lnTo>
                <a:lnTo>
                  <a:pt x="2" y="36"/>
                </a:lnTo>
                <a:lnTo>
                  <a:pt x="5" y="28"/>
                </a:lnTo>
                <a:lnTo>
                  <a:pt x="8" y="21"/>
                </a:lnTo>
                <a:lnTo>
                  <a:pt x="15" y="15"/>
                </a:lnTo>
                <a:lnTo>
                  <a:pt x="21" y="8"/>
                </a:lnTo>
                <a:lnTo>
                  <a:pt x="28" y="5"/>
                </a:lnTo>
                <a:lnTo>
                  <a:pt x="36" y="2"/>
                </a:lnTo>
                <a:lnTo>
                  <a:pt x="45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52"/>
          <p:cNvSpPr/>
          <p:nvPr/>
        </p:nvSpPr>
        <p:spPr>
          <a:xfrm>
            <a:off x="7935840" y="429912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91">
                <a:moveTo>
                  <a:pt x="45" y="0"/>
                </a:moveTo>
                <a:lnTo>
                  <a:pt x="45" y="0"/>
                </a:lnTo>
                <a:lnTo>
                  <a:pt x="53" y="2"/>
                </a:lnTo>
                <a:lnTo>
                  <a:pt x="61" y="5"/>
                </a:lnTo>
                <a:lnTo>
                  <a:pt x="70" y="8"/>
                </a:lnTo>
                <a:lnTo>
                  <a:pt x="76" y="15"/>
                </a:lnTo>
                <a:lnTo>
                  <a:pt x="82" y="21"/>
                </a:lnTo>
                <a:lnTo>
                  <a:pt x="86" y="28"/>
                </a:lnTo>
                <a:lnTo>
                  <a:pt x="89" y="36"/>
                </a:lnTo>
                <a:lnTo>
                  <a:pt x="90" y="46"/>
                </a:lnTo>
                <a:lnTo>
                  <a:pt x="89" y="54"/>
                </a:lnTo>
                <a:lnTo>
                  <a:pt x="86" y="63"/>
                </a:lnTo>
                <a:lnTo>
                  <a:pt x="82" y="70"/>
                </a:lnTo>
                <a:lnTo>
                  <a:pt x="76" y="76"/>
                </a:lnTo>
                <a:lnTo>
                  <a:pt x="70" y="83"/>
                </a:lnTo>
                <a:lnTo>
                  <a:pt x="61" y="86"/>
                </a:lnTo>
                <a:lnTo>
                  <a:pt x="53" y="89"/>
                </a:lnTo>
                <a:lnTo>
                  <a:pt x="45" y="91"/>
                </a:lnTo>
                <a:lnTo>
                  <a:pt x="36" y="89"/>
                </a:lnTo>
                <a:lnTo>
                  <a:pt x="28" y="86"/>
                </a:lnTo>
                <a:lnTo>
                  <a:pt x="21" y="83"/>
                </a:lnTo>
                <a:lnTo>
                  <a:pt x="15" y="76"/>
                </a:lnTo>
                <a:lnTo>
                  <a:pt x="8" y="70"/>
                </a:lnTo>
                <a:lnTo>
                  <a:pt x="5" y="63"/>
                </a:lnTo>
                <a:lnTo>
                  <a:pt x="2" y="54"/>
                </a:lnTo>
                <a:lnTo>
                  <a:pt x="0" y="46"/>
                </a:lnTo>
                <a:lnTo>
                  <a:pt x="2" y="36"/>
                </a:lnTo>
                <a:lnTo>
                  <a:pt x="5" y="28"/>
                </a:lnTo>
                <a:lnTo>
                  <a:pt x="8" y="21"/>
                </a:lnTo>
                <a:lnTo>
                  <a:pt x="15" y="15"/>
                </a:lnTo>
                <a:lnTo>
                  <a:pt x="21" y="8"/>
                </a:lnTo>
                <a:lnTo>
                  <a:pt x="28" y="5"/>
                </a:lnTo>
                <a:lnTo>
                  <a:pt x="36" y="2"/>
                </a:lnTo>
                <a:lnTo>
                  <a:pt x="45" y="0"/>
                </a:lnTo>
              </a:path>
            </a:pathLst>
          </a:custGeom>
          <a:solidFill>
            <a:srgbClr val="fc0128"/>
          </a:solidFill>
          <a:ln w="3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53"/>
          <p:cNvSpPr/>
          <p:nvPr/>
        </p:nvSpPr>
        <p:spPr>
          <a:xfrm>
            <a:off x="8140680" y="4299120"/>
            <a:ext cx="141480" cy="144360"/>
          </a:xfrm>
          <a:custGeom>
            <a:avLst/>
            <a:gdLst>
              <a:gd name="textAreaLeft" fmla="*/ 0 w 141480"/>
              <a:gd name="textAreaRight" fmla="*/ 141840 w 1414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89" h="91">
                <a:moveTo>
                  <a:pt x="44" y="0"/>
                </a:moveTo>
                <a:lnTo>
                  <a:pt x="53" y="2"/>
                </a:lnTo>
                <a:lnTo>
                  <a:pt x="61" y="5"/>
                </a:lnTo>
                <a:lnTo>
                  <a:pt x="68" y="8"/>
                </a:lnTo>
                <a:lnTo>
                  <a:pt x="76" y="15"/>
                </a:lnTo>
                <a:lnTo>
                  <a:pt x="81" y="21"/>
                </a:lnTo>
                <a:lnTo>
                  <a:pt x="85" y="28"/>
                </a:lnTo>
                <a:lnTo>
                  <a:pt x="87" y="36"/>
                </a:lnTo>
                <a:lnTo>
                  <a:pt x="89" y="46"/>
                </a:lnTo>
                <a:lnTo>
                  <a:pt x="87" y="54"/>
                </a:lnTo>
                <a:lnTo>
                  <a:pt x="85" y="63"/>
                </a:lnTo>
                <a:lnTo>
                  <a:pt x="81" y="70"/>
                </a:lnTo>
                <a:lnTo>
                  <a:pt x="76" y="76"/>
                </a:lnTo>
                <a:lnTo>
                  <a:pt x="68" y="83"/>
                </a:lnTo>
                <a:lnTo>
                  <a:pt x="61" y="86"/>
                </a:lnTo>
                <a:lnTo>
                  <a:pt x="53" y="89"/>
                </a:lnTo>
                <a:lnTo>
                  <a:pt x="44" y="91"/>
                </a:lnTo>
                <a:lnTo>
                  <a:pt x="36" y="89"/>
                </a:lnTo>
                <a:lnTo>
                  <a:pt x="28" y="86"/>
                </a:lnTo>
                <a:lnTo>
                  <a:pt x="19" y="83"/>
                </a:lnTo>
                <a:lnTo>
                  <a:pt x="13" y="76"/>
                </a:lnTo>
                <a:lnTo>
                  <a:pt x="7" y="70"/>
                </a:lnTo>
                <a:lnTo>
                  <a:pt x="3" y="63"/>
                </a:lnTo>
                <a:lnTo>
                  <a:pt x="0" y="54"/>
                </a:lnTo>
                <a:lnTo>
                  <a:pt x="0" y="46"/>
                </a:lnTo>
                <a:lnTo>
                  <a:pt x="0" y="36"/>
                </a:lnTo>
                <a:lnTo>
                  <a:pt x="3" y="28"/>
                </a:lnTo>
                <a:lnTo>
                  <a:pt x="7" y="21"/>
                </a:lnTo>
                <a:lnTo>
                  <a:pt x="13" y="15"/>
                </a:lnTo>
                <a:lnTo>
                  <a:pt x="19" y="8"/>
                </a:lnTo>
                <a:lnTo>
                  <a:pt x="28" y="5"/>
                </a:lnTo>
                <a:lnTo>
                  <a:pt x="36" y="2"/>
                </a:lnTo>
                <a:lnTo>
                  <a:pt x="44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reeform 54"/>
          <p:cNvSpPr/>
          <p:nvPr/>
        </p:nvSpPr>
        <p:spPr>
          <a:xfrm>
            <a:off x="8140680" y="4299120"/>
            <a:ext cx="141480" cy="144360"/>
          </a:xfrm>
          <a:custGeom>
            <a:avLst/>
            <a:gdLst>
              <a:gd name="textAreaLeft" fmla="*/ 0 w 141480"/>
              <a:gd name="textAreaRight" fmla="*/ 141840 w 1414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89" h="91">
                <a:moveTo>
                  <a:pt x="44" y="0"/>
                </a:moveTo>
                <a:lnTo>
                  <a:pt x="44" y="0"/>
                </a:lnTo>
                <a:lnTo>
                  <a:pt x="53" y="2"/>
                </a:lnTo>
                <a:lnTo>
                  <a:pt x="61" y="5"/>
                </a:lnTo>
                <a:lnTo>
                  <a:pt x="68" y="8"/>
                </a:lnTo>
                <a:lnTo>
                  <a:pt x="76" y="15"/>
                </a:lnTo>
                <a:lnTo>
                  <a:pt x="81" y="21"/>
                </a:lnTo>
                <a:lnTo>
                  <a:pt x="85" y="28"/>
                </a:lnTo>
                <a:lnTo>
                  <a:pt x="87" y="36"/>
                </a:lnTo>
                <a:lnTo>
                  <a:pt x="89" y="46"/>
                </a:lnTo>
                <a:lnTo>
                  <a:pt x="87" y="54"/>
                </a:lnTo>
                <a:lnTo>
                  <a:pt x="85" y="63"/>
                </a:lnTo>
                <a:lnTo>
                  <a:pt x="81" y="70"/>
                </a:lnTo>
                <a:lnTo>
                  <a:pt x="76" y="76"/>
                </a:lnTo>
                <a:lnTo>
                  <a:pt x="68" y="83"/>
                </a:lnTo>
                <a:lnTo>
                  <a:pt x="61" y="86"/>
                </a:lnTo>
                <a:lnTo>
                  <a:pt x="53" y="89"/>
                </a:lnTo>
                <a:lnTo>
                  <a:pt x="44" y="91"/>
                </a:lnTo>
                <a:lnTo>
                  <a:pt x="36" y="89"/>
                </a:lnTo>
                <a:lnTo>
                  <a:pt x="28" y="86"/>
                </a:lnTo>
                <a:lnTo>
                  <a:pt x="19" y="83"/>
                </a:lnTo>
                <a:lnTo>
                  <a:pt x="13" y="76"/>
                </a:lnTo>
                <a:lnTo>
                  <a:pt x="7" y="70"/>
                </a:lnTo>
                <a:lnTo>
                  <a:pt x="3" y="63"/>
                </a:lnTo>
                <a:lnTo>
                  <a:pt x="0" y="54"/>
                </a:lnTo>
                <a:lnTo>
                  <a:pt x="0" y="46"/>
                </a:lnTo>
                <a:lnTo>
                  <a:pt x="0" y="36"/>
                </a:lnTo>
                <a:lnTo>
                  <a:pt x="3" y="28"/>
                </a:lnTo>
                <a:lnTo>
                  <a:pt x="7" y="21"/>
                </a:lnTo>
                <a:lnTo>
                  <a:pt x="13" y="15"/>
                </a:lnTo>
                <a:lnTo>
                  <a:pt x="19" y="8"/>
                </a:lnTo>
                <a:lnTo>
                  <a:pt x="28" y="5"/>
                </a:lnTo>
                <a:lnTo>
                  <a:pt x="36" y="2"/>
                </a:lnTo>
                <a:lnTo>
                  <a:pt x="44" y="0"/>
                </a:lnTo>
              </a:path>
            </a:pathLst>
          </a:custGeom>
          <a:solidFill>
            <a:srgbClr val="fc0128"/>
          </a:solidFill>
          <a:ln w="3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55"/>
          <p:cNvSpPr/>
          <p:nvPr/>
        </p:nvSpPr>
        <p:spPr>
          <a:xfrm>
            <a:off x="8342280" y="4302000"/>
            <a:ext cx="141480" cy="141480"/>
          </a:xfrm>
          <a:custGeom>
            <a:avLst/>
            <a:gdLst>
              <a:gd name="textAreaLeft" fmla="*/ 0 w 141480"/>
              <a:gd name="textAreaRight" fmla="*/ 141840 w 14148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89" h="89">
                <a:moveTo>
                  <a:pt x="45" y="0"/>
                </a:moveTo>
                <a:lnTo>
                  <a:pt x="54" y="0"/>
                </a:lnTo>
                <a:lnTo>
                  <a:pt x="62" y="3"/>
                </a:lnTo>
                <a:lnTo>
                  <a:pt x="70" y="6"/>
                </a:lnTo>
                <a:lnTo>
                  <a:pt x="76" y="13"/>
                </a:lnTo>
                <a:lnTo>
                  <a:pt x="81" y="19"/>
                </a:lnTo>
                <a:lnTo>
                  <a:pt x="86" y="27"/>
                </a:lnTo>
                <a:lnTo>
                  <a:pt x="89" y="35"/>
                </a:lnTo>
                <a:lnTo>
                  <a:pt x="89" y="45"/>
                </a:lnTo>
                <a:lnTo>
                  <a:pt x="89" y="53"/>
                </a:lnTo>
                <a:lnTo>
                  <a:pt x="86" y="61"/>
                </a:lnTo>
                <a:lnTo>
                  <a:pt x="81" y="69"/>
                </a:lnTo>
                <a:lnTo>
                  <a:pt x="76" y="76"/>
                </a:lnTo>
                <a:lnTo>
                  <a:pt x="70" y="81"/>
                </a:lnTo>
                <a:lnTo>
                  <a:pt x="62" y="85"/>
                </a:lnTo>
                <a:lnTo>
                  <a:pt x="54" y="89"/>
                </a:lnTo>
                <a:lnTo>
                  <a:pt x="45" y="89"/>
                </a:lnTo>
                <a:lnTo>
                  <a:pt x="36" y="89"/>
                </a:lnTo>
                <a:lnTo>
                  <a:pt x="28" y="85"/>
                </a:lnTo>
                <a:lnTo>
                  <a:pt x="20" y="81"/>
                </a:lnTo>
                <a:lnTo>
                  <a:pt x="13" y="76"/>
                </a:lnTo>
                <a:lnTo>
                  <a:pt x="7" y="69"/>
                </a:lnTo>
                <a:lnTo>
                  <a:pt x="4" y="61"/>
                </a:lnTo>
                <a:lnTo>
                  <a:pt x="0" y="53"/>
                </a:lnTo>
                <a:lnTo>
                  <a:pt x="0" y="45"/>
                </a:lnTo>
                <a:lnTo>
                  <a:pt x="0" y="35"/>
                </a:lnTo>
                <a:lnTo>
                  <a:pt x="4" y="27"/>
                </a:lnTo>
                <a:lnTo>
                  <a:pt x="7" y="19"/>
                </a:lnTo>
                <a:lnTo>
                  <a:pt x="13" y="13"/>
                </a:lnTo>
                <a:lnTo>
                  <a:pt x="20" y="6"/>
                </a:lnTo>
                <a:lnTo>
                  <a:pt x="28" y="3"/>
                </a:lnTo>
                <a:lnTo>
                  <a:pt x="36" y="0"/>
                </a:lnTo>
                <a:lnTo>
                  <a:pt x="45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56"/>
          <p:cNvSpPr/>
          <p:nvPr/>
        </p:nvSpPr>
        <p:spPr>
          <a:xfrm>
            <a:off x="8342280" y="4302000"/>
            <a:ext cx="141480" cy="141480"/>
          </a:xfrm>
          <a:custGeom>
            <a:avLst/>
            <a:gdLst>
              <a:gd name="textAreaLeft" fmla="*/ 0 w 141480"/>
              <a:gd name="textAreaRight" fmla="*/ 141840 w 14148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89" h="89">
                <a:moveTo>
                  <a:pt x="45" y="0"/>
                </a:moveTo>
                <a:lnTo>
                  <a:pt x="45" y="0"/>
                </a:lnTo>
                <a:lnTo>
                  <a:pt x="54" y="0"/>
                </a:lnTo>
                <a:lnTo>
                  <a:pt x="62" y="3"/>
                </a:lnTo>
                <a:lnTo>
                  <a:pt x="70" y="6"/>
                </a:lnTo>
                <a:lnTo>
                  <a:pt x="76" y="13"/>
                </a:lnTo>
                <a:lnTo>
                  <a:pt x="81" y="19"/>
                </a:lnTo>
                <a:lnTo>
                  <a:pt x="86" y="27"/>
                </a:lnTo>
                <a:lnTo>
                  <a:pt x="89" y="35"/>
                </a:lnTo>
                <a:lnTo>
                  <a:pt x="89" y="45"/>
                </a:lnTo>
                <a:lnTo>
                  <a:pt x="89" y="53"/>
                </a:lnTo>
                <a:lnTo>
                  <a:pt x="86" y="61"/>
                </a:lnTo>
                <a:lnTo>
                  <a:pt x="81" y="69"/>
                </a:lnTo>
                <a:lnTo>
                  <a:pt x="76" y="76"/>
                </a:lnTo>
                <a:lnTo>
                  <a:pt x="70" y="81"/>
                </a:lnTo>
                <a:lnTo>
                  <a:pt x="62" y="85"/>
                </a:lnTo>
                <a:lnTo>
                  <a:pt x="54" y="89"/>
                </a:lnTo>
                <a:lnTo>
                  <a:pt x="45" y="89"/>
                </a:lnTo>
                <a:lnTo>
                  <a:pt x="36" y="89"/>
                </a:lnTo>
                <a:lnTo>
                  <a:pt x="28" y="85"/>
                </a:lnTo>
                <a:lnTo>
                  <a:pt x="20" y="81"/>
                </a:lnTo>
                <a:lnTo>
                  <a:pt x="13" y="76"/>
                </a:lnTo>
                <a:lnTo>
                  <a:pt x="7" y="69"/>
                </a:lnTo>
                <a:lnTo>
                  <a:pt x="4" y="61"/>
                </a:lnTo>
                <a:lnTo>
                  <a:pt x="0" y="53"/>
                </a:lnTo>
                <a:lnTo>
                  <a:pt x="0" y="45"/>
                </a:lnTo>
                <a:lnTo>
                  <a:pt x="0" y="35"/>
                </a:lnTo>
                <a:lnTo>
                  <a:pt x="4" y="27"/>
                </a:lnTo>
                <a:lnTo>
                  <a:pt x="7" y="19"/>
                </a:lnTo>
                <a:lnTo>
                  <a:pt x="13" y="13"/>
                </a:lnTo>
                <a:lnTo>
                  <a:pt x="20" y="6"/>
                </a:lnTo>
                <a:lnTo>
                  <a:pt x="28" y="3"/>
                </a:lnTo>
                <a:lnTo>
                  <a:pt x="36" y="0"/>
                </a:lnTo>
                <a:lnTo>
                  <a:pt x="45" y="0"/>
                </a:lnTo>
              </a:path>
            </a:pathLst>
          </a:custGeom>
          <a:solidFill>
            <a:srgbClr val="fc0128"/>
          </a:solidFill>
          <a:ln w="3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57"/>
          <p:cNvSpPr/>
          <p:nvPr/>
        </p:nvSpPr>
        <p:spPr>
          <a:xfrm>
            <a:off x="1785240" y="3916440"/>
            <a:ext cx="1017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58"/>
          <p:cNvSpPr/>
          <p:nvPr/>
        </p:nvSpPr>
        <p:spPr>
          <a:xfrm>
            <a:off x="3251160" y="3976560"/>
            <a:ext cx="20131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evant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xial de bo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59"/>
          <p:cNvSpPr/>
          <p:nvPr/>
        </p:nvSpPr>
        <p:spPr>
          <a:xfrm>
            <a:off x="8539200" y="3486240"/>
            <a:ext cx="18082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lar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xial de bo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60"/>
          <p:cNvSpPr/>
          <p:nvPr/>
        </p:nvSpPr>
        <p:spPr>
          <a:xfrm>
            <a:off x="5278320" y="1089000"/>
            <a:ext cx="274968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laridade Radial de Bor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61"/>
          <p:cNvSpPr/>
          <p:nvPr/>
        </p:nvSpPr>
        <p:spPr>
          <a:xfrm>
            <a:off x="7451280" y="3699000"/>
            <a:ext cx="1063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62"/>
          <p:cNvSpPr/>
          <p:nvPr/>
        </p:nvSpPr>
        <p:spPr>
          <a:xfrm>
            <a:off x="7921800" y="4713120"/>
            <a:ext cx="1017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ór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63"/>
          <p:cNvSpPr/>
          <p:nvPr/>
        </p:nvSpPr>
        <p:spPr>
          <a:xfrm>
            <a:off x="6921360" y="5518080"/>
            <a:ext cx="3365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ZOP estendido da 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196560"/>
            <a:ext cx="1028700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RITÉRIO DE RESPOST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20480" y="985320"/>
            <a:ext cx="7821720" cy="4808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o de lentes RGP deve prover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a acuidade visu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for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m dano ocul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parência normal da face (postura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124920"/>
            <a:ext cx="102870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ARACTERISTICAS IDEAIS DE ADAPT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3360" y="1155240"/>
            <a:ext cx="9150480" cy="481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aridade central mínim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ve zona de contato na periferia méd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mplitude de borda id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aridade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0" y="70488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DAPTAÇÃO ESTÁT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4320" y="325440"/>
            <a:ext cx="9869400" cy="479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MEDIDAS PRELIMINARE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73400" y="1147680"/>
            <a:ext cx="6062400" cy="463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aio de curvatura da córne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cornea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racterísticas da pálpebr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amanho da pupil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fração (óculos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ARACTERÍSTICAS IDEAIS DE ADAPT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82800" y="1546200"/>
            <a:ext cx="8416800" cy="4324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ntralizada (± 0.5 mm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tá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bertura da pálpebra sup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1387440" y="1049400"/>
            <a:ext cx="71866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DAPTAÇÃO DINÂM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731880" y="1402920"/>
            <a:ext cx="9555120" cy="436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imen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a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ertic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elocidade méd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-2 m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-360" y="25416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ARACTERÍSTICAS IDEAIS DE ADAPT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1488960" y="847800"/>
            <a:ext cx="7186680" cy="63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DAPTAÇÃO DINÂM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256680"/>
            <a:ext cx="102870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CARACTERÍSTICAS DE ADAPTAÇÃO AJUSTADA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90440" y="1476000"/>
            <a:ext cx="10096560" cy="428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aridade central excessiv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Zona de contato intensa na periferia méd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mplitude de borda estreit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duzida claridade de bor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201600" y="893880"/>
            <a:ext cx="100854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DAPTAÇÃO ESTÁT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93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CARACTERÍSTICAS DE ADAPTAÇÃO AJUSTADA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201600" y="895320"/>
            <a:ext cx="100854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DAPTAÇÃO DINÂM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98320" y="1476360"/>
            <a:ext cx="922824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ntralizada (± 0.5 mm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tá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bertura da pálpebra sup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10287000" cy="607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CARACTERÍSTICA DE ADAPTACÃO AJUSTADA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592200" y="920880"/>
            <a:ext cx="9091440" cy="6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DAPTAÇÃO DINÂM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50880" y="1490400"/>
            <a:ext cx="7724880" cy="444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imen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alanceado, sua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ertic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elocidade rápi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&lt; 1 m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10287000" cy="607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CARACTERÍSTICAS DE ADAPTAÇÃO FROUXA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620640" y="949320"/>
            <a:ext cx="9091800" cy="6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DAPTAÇÃO ESTÁT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88840" y="1460520"/>
            <a:ext cx="8831520" cy="444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Zona de toque central excessiv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Zona periférica média plan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cessiva amplitude de bor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cessiva claridade de bor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4840" y="254160"/>
            <a:ext cx="8659800" cy="607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FROUX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06600" y="919080"/>
            <a:ext cx="9091440" cy="6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DAPTAÇÃO DINÂMICA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62080" y="1562040"/>
            <a:ext cx="8020080" cy="444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centrada (&gt; ± 0.5 mm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ta “cavalgada”, baixa “cavalgada”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stá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4840" y="254160"/>
            <a:ext cx="8659800" cy="607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FROUX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592200" y="920880"/>
            <a:ext cx="9091440" cy="6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DAPTAÇÃO DINÂMICA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549080" y="1562040"/>
            <a:ext cx="6783480" cy="444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imen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otação apic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tenção palpeb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elocidade variá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&gt; 2.0 m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22"/>
          <p:cNvSpPr/>
          <p:nvPr/>
        </p:nvSpPr>
        <p:spPr>
          <a:xfrm>
            <a:off x="2936880" y="1308240"/>
            <a:ext cx="3292560" cy="3276360"/>
          </a:xfrm>
          <a:custGeom>
            <a:avLst/>
            <a:gdLst>
              <a:gd name="textAreaLeft" fmla="*/ 0 w 3292560"/>
              <a:gd name="textAreaRight" fmla="*/ 3292920 w 329256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074" h="2064">
                <a:moveTo>
                  <a:pt x="1037" y="0"/>
                </a:moveTo>
                <a:lnTo>
                  <a:pt x="1089" y="2"/>
                </a:lnTo>
                <a:lnTo>
                  <a:pt x="1141" y="7"/>
                </a:lnTo>
                <a:lnTo>
                  <a:pt x="1193" y="12"/>
                </a:lnTo>
                <a:lnTo>
                  <a:pt x="1245" y="21"/>
                </a:lnTo>
                <a:lnTo>
                  <a:pt x="1297" y="34"/>
                </a:lnTo>
                <a:lnTo>
                  <a:pt x="1345" y="46"/>
                </a:lnTo>
                <a:lnTo>
                  <a:pt x="1392" y="63"/>
                </a:lnTo>
                <a:lnTo>
                  <a:pt x="1440" y="82"/>
                </a:lnTo>
                <a:lnTo>
                  <a:pt x="1485" y="102"/>
                </a:lnTo>
                <a:lnTo>
                  <a:pt x="1530" y="125"/>
                </a:lnTo>
                <a:lnTo>
                  <a:pt x="1575" y="150"/>
                </a:lnTo>
                <a:lnTo>
                  <a:pt x="1616" y="177"/>
                </a:lnTo>
                <a:lnTo>
                  <a:pt x="1657" y="206"/>
                </a:lnTo>
                <a:lnTo>
                  <a:pt x="1696" y="236"/>
                </a:lnTo>
                <a:lnTo>
                  <a:pt x="1732" y="269"/>
                </a:lnTo>
                <a:lnTo>
                  <a:pt x="1770" y="303"/>
                </a:lnTo>
                <a:lnTo>
                  <a:pt x="1804" y="338"/>
                </a:lnTo>
                <a:lnTo>
                  <a:pt x="1838" y="376"/>
                </a:lnTo>
                <a:lnTo>
                  <a:pt x="1868" y="416"/>
                </a:lnTo>
                <a:lnTo>
                  <a:pt x="1895" y="455"/>
                </a:lnTo>
                <a:lnTo>
                  <a:pt x="1924" y="496"/>
                </a:lnTo>
                <a:lnTo>
                  <a:pt x="1949" y="541"/>
                </a:lnTo>
                <a:lnTo>
                  <a:pt x="1972" y="584"/>
                </a:lnTo>
                <a:lnTo>
                  <a:pt x="1992" y="631"/>
                </a:lnTo>
                <a:lnTo>
                  <a:pt x="2010" y="677"/>
                </a:lnTo>
                <a:lnTo>
                  <a:pt x="2026" y="725"/>
                </a:lnTo>
                <a:lnTo>
                  <a:pt x="2042" y="774"/>
                </a:lnTo>
                <a:lnTo>
                  <a:pt x="2053" y="824"/>
                </a:lnTo>
                <a:lnTo>
                  <a:pt x="2062" y="874"/>
                </a:lnTo>
                <a:lnTo>
                  <a:pt x="2067" y="926"/>
                </a:lnTo>
                <a:lnTo>
                  <a:pt x="2073" y="978"/>
                </a:lnTo>
                <a:lnTo>
                  <a:pt x="2074" y="1032"/>
                </a:lnTo>
                <a:lnTo>
                  <a:pt x="2062" y="1032"/>
                </a:lnTo>
                <a:lnTo>
                  <a:pt x="2060" y="978"/>
                </a:lnTo>
                <a:lnTo>
                  <a:pt x="2055" y="926"/>
                </a:lnTo>
                <a:lnTo>
                  <a:pt x="2049" y="876"/>
                </a:lnTo>
                <a:lnTo>
                  <a:pt x="2040" y="826"/>
                </a:lnTo>
                <a:lnTo>
                  <a:pt x="2028" y="777"/>
                </a:lnTo>
                <a:lnTo>
                  <a:pt x="2015" y="729"/>
                </a:lnTo>
                <a:lnTo>
                  <a:pt x="1999" y="681"/>
                </a:lnTo>
                <a:lnTo>
                  <a:pt x="1981" y="632"/>
                </a:lnTo>
                <a:lnTo>
                  <a:pt x="1960" y="589"/>
                </a:lnTo>
                <a:lnTo>
                  <a:pt x="1936" y="545"/>
                </a:lnTo>
                <a:lnTo>
                  <a:pt x="1913" y="502"/>
                </a:lnTo>
                <a:lnTo>
                  <a:pt x="1886" y="460"/>
                </a:lnTo>
                <a:lnTo>
                  <a:pt x="1858" y="419"/>
                </a:lnTo>
                <a:lnTo>
                  <a:pt x="1827" y="381"/>
                </a:lnTo>
                <a:lnTo>
                  <a:pt x="1793" y="344"/>
                </a:lnTo>
                <a:lnTo>
                  <a:pt x="1759" y="308"/>
                </a:lnTo>
                <a:lnTo>
                  <a:pt x="1725" y="274"/>
                </a:lnTo>
                <a:lnTo>
                  <a:pt x="1687" y="242"/>
                </a:lnTo>
                <a:lnTo>
                  <a:pt x="1648" y="211"/>
                </a:lnTo>
                <a:lnTo>
                  <a:pt x="1609" y="183"/>
                </a:lnTo>
                <a:lnTo>
                  <a:pt x="1567" y="156"/>
                </a:lnTo>
                <a:lnTo>
                  <a:pt x="1524" y="132"/>
                </a:lnTo>
                <a:lnTo>
                  <a:pt x="1480" y="109"/>
                </a:lnTo>
                <a:lnTo>
                  <a:pt x="1435" y="88"/>
                </a:lnTo>
                <a:lnTo>
                  <a:pt x="1388" y="70"/>
                </a:lnTo>
                <a:lnTo>
                  <a:pt x="1340" y="54"/>
                </a:lnTo>
                <a:lnTo>
                  <a:pt x="1292" y="41"/>
                </a:lnTo>
                <a:lnTo>
                  <a:pt x="1243" y="29"/>
                </a:lnTo>
                <a:lnTo>
                  <a:pt x="1191" y="20"/>
                </a:lnTo>
                <a:lnTo>
                  <a:pt x="1141" y="14"/>
                </a:lnTo>
                <a:lnTo>
                  <a:pt x="1089" y="9"/>
                </a:lnTo>
                <a:lnTo>
                  <a:pt x="1037" y="9"/>
                </a:lnTo>
                <a:lnTo>
                  <a:pt x="983" y="9"/>
                </a:lnTo>
                <a:lnTo>
                  <a:pt x="932" y="14"/>
                </a:lnTo>
                <a:lnTo>
                  <a:pt x="881" y="20"/>
                </a:lnTo>
                <a:lnTo>
                  <a:pt x="831" y="29"/>
                </a:lnTo>
                <a:lnTo>
                  <a:pt x="781" y="41"/>
                </a:lnTo>
                <a:lnTo>
                  <a:pt x="733" y="54"/>
                </a:lnTo>
                <a:lnTo>
                  <a:pt x="684" y="70"/>
                </a:lnTo>
                <a:lnTo>
                  <a:pt x="638" y="88"/>
                </a:lnTo>
                <a:lnTo>
                  <a:pt x="593" y="109"/>
                </a:lnTo>
                <a:lnTo>
                  <a:pt x="548" y="132"/>
                </a:lnTo>
                <a:lnTo>
                  <a:pt x="505" y="156"/>
                </a:lnTo>
                <a:lnTo>
                  <a:pt x="464" y="183"/>
                </a:lnTo>
                <a:lnTo>
                  <a:pt x="425" y="211"/>
                </a:lnTo>
                <a:lnTo>
                  <a:pt x="385" y="242"/>
                </a:lnTo>
                <a:lnTo>
                  <a:pt x="349" y="274"/>
                </a:lnTo>
                <a:lnTo>
                  <a:pt x="314" y="308"/>
                </a:lnTo>
                <a:lnTo>
                  <a:pt x="279" y="344"/>
                </a:lnTo>
                <a:lnTo>
                  <a:pt x="247" y="381"/>
                </a:lnTo>
                <a:lnTo>
                  <a:pt x="215" y="419"/>
                </a:lnTo>
                <a:lnTo>
                  <a:pt x="188" y="460"/>
                </a:lnTo>
                <a:lnTo>
                  <a:pt x="161" y="502"/>
                </a:lnTo>
                <a:lnTo>
                  <a:pt x="136" y="545"/>
                </a:lnTo>
                <a:lnTo>
                  <a:pt x="113" y="589"/>
                </a:lnTo>
                <a:lnTo>
                  <a:pt x="91" y="632"/>
                </a:lnTo>
                <a:lnTo>
                  <a:pt x="75" y="681"/>
                </a:lnTo>
                <a:lnTo>
                  <a:pt x="59" y="729"/>
                </a:lnTo>
                <a:lnTo>
                  <a:pt x="45" y="777"/>
                </a:lnTo>
                <a:lnTo>
                  <a:pt x="34" y="826"/>
                </a:lnTo>
                <a:lnTo>
                  <a:pt x="25" y="876"/>
                </a:lnTo>
                <a:lnTo>
                  <a:pt x="18" y="926"/>
                </a:lnTo>
                <a:lnTo>
                  <a:pt x="14" y="978"/>
                </a:lnTo>
                <a:lnTo>
                  <a:pt x="13" y="1032"/>
                </a:lnTo>
                <a:lnTo>
                  <a:pt x="14" y="1086"/>
                </a:lnTo>
                <a:lnTo>
                  <a:pt x="18" y="1138"/>
                </a:lnTo>
                <a:lnTo>
                  <a:pt x="25" y="1188"/>
                </a:lnTo>
                <a:lnTo>
                  <a:pt x="34" y="1238"/>
                </a:lnTo>
                <a:lnTo>
                  <a:pt x="45" y="1286"/>
                </a:lnTo>
                <a:lnTo>
                  <a:pt x="59" y="1336"/>
                </a:lnTo>
                <a:lnTo>
                  <a:pt x="75" y="1383"/>
                </a:lnTo>
                <a:lnTo>
                  <a:pt x="91" y="1431"/>
                </a:lnTo>
                <a:lnTo>
                  <a:pt x="113" y="1474"/>
                </a:lnTo>
                <a:lnTo>
                  <a:pt x="136" y="1519"/>
                </a:lnTo>
                <a:lnTo>
                  <a:pt x="161" y="1562"/>
                </a:lnTo>
                <a:lnTo>
                  <a:pt x="188" y="1603"/>
                </a:lnTo>
                <a:lnTo>
                  <a:pt x="215" y="1645"/>
                </a:lnTo>
                <a:lnTo>
                  <a:pt x="247" y="1682"/>
                </a:lnTo>
                <a:lnTo>
                  <a:pt x="279" y="1720"/>
                </a:lnTo>
                <a:lnTo>
                  <a:pt x="314" y="1756"/>
                </a:lnTo>
                <a:lnTo>
                  <a:pt x="349" y="1790"/>
                </a:lnTo>
                <a:lnTo>
                  <a:pt x="385" y="1822"/>
                </a:lnTo>
                <a:lnTo>
                  <a:pt x="425" y="1852"/>
                </a:lnTo>
                <a:lnTo>
                  <a:pt x="464" y="1881"/>
                </a:lnTo>
                <a:lnTo>
                  <a:pt x="505" y="1908"/>
                </a:lnTo>
                <a:lnTo>
                  <a:pt x="548" y="1931"/>
                </a:lnTo>
                <a:lnTo>
                  <a:pt x="593" y="1955"/>
                </a:lnTo>
                <a:lnTo>
                  <a:pt x="638" y="1976"/>
                </a:lnTo>
                <a:lnTo>
                  <a:pt x="684" y="1994"/>
                </a:lnTo>
                <a:lnTo>
                  <a:pt x="733" y="2010"/>
                </a:lnTo>
                <a:lnTo>
                  <a:pt x="781" y="2023"/>
                </a:lnTo>
                <a:lnTo>
                  <a:pt x="831" y="2035"/>
                </a:lnTo>
                <a:lnTo>
                  <a:pt x="881" y="2044"/>
                </a:lnTo>
                <a:lnTo>
                  <a:pt x="932" y="2049"/>
                </a:lnTo>
                <a:lnTo>
                  <a:pt x="983" y="2055"/>
                </a:lnTo>
                <a:lnTo>
                  <a:pt x="1037" y="2055"/>
                </a:lnTo>
                <a:lnTo>
                  <a:pt x="1089" y="2055"/>
                </a:lnTo>
                <a:lnTo>
                  <a:pt x="1141" y="2049"/>
                </a:lnTo>
                <a:lnTo>
                  <a:pt x="1191" y="2044"/>
                </a:lnTo>
                <a:lnTo>
                  <a:pt x="1243" y="2035"/>
                </a:lnTo>
                <a:lnTo>
                  <a:pt x="1292" y="2023"/>
                </a:lnTo>
                <a:lnTo>
                  <a:pt x="1340" y="2010"/>
                </a:lnTo>
                <a:lnTo>
                  <a:pt x="1388" y="1994"/>
                </a:lnTo>
                <a:lnTo>
                  <a:pt x="1435" y="1976"/>
                </a:lnTo>
                <a:lnTo>
                  <a:pt x="1480" y="1955"/>
                </a:lnTo>
                <a:lnTo>
                  <a:pt x="1524" y="1931"/>
                </a:lnTo>
                <a:lnTo>
                  <a:pt x="1567" y="1908"/>
                </a:lnTo>
                <a:lnTo>
                  <a:pt x="1609" y="1881"/>
                </a:lnTo>
                <a:lnTo>
                  <a:pt x="1648" y="1852"/>
                </a:lnTo>
                <a:lnTo>
                  <a:pt x="1687" y="1822"/>
                </a:lnTo>
                <a:lnTo>
                  <a:pt x="1725" y="1790"/>
                </a:lnTo>
                <a:lnTo>
                  <a:pt x="1759" y="1756"/>
                </a:lnTo>
                <a:lnTo>
                  <a:pt x="1793" y="1720"/>
                </a:lnTo>
                <a:lnTo>
                  <a:pt x="1827" y="1682"/>
                </a:lnTo>
                <a:lnTo>
                  <a:pt x="1858" y="1645"/>
                </a:lnTo>
                <a:lnTo>
                  <a:pt x="1886" y="1603"/>
                </a:lnTo>
                <a:lnTo>
                  <a:pt x="1913" y="1562"/>
                </a:lnTo>
                <a:lnTo>
                  <a:pt x="1936" y="1519"/>
                </a:lnTo>
                <a:lnTo>
                  <a:pt x="1960" y="1474"/>
                </a:lnTo>
                <a:lnTo>
                  <a:pt x="1981" y="1431"/>
                </a:lnTo>
                <a:lnTo>
                  <a:pt x="1999" y="1383"/>
                </a:lnTo>
                <a:lnTo>
                  <a:pt x="2015" y="1336"/>
                </a:lnTo>
                <a:lnTo>
                  <a:pt x="2028" y="1286"/>
                </a:lnTo>
                <a:lnTo>
                  <a:pt x="2040" y="1238"/>
                </a:lnTo>
                <a:lnTo>
                  <a:pt x="2049" y="1188"/>
                </a:lnTo>
                <a:lnTo>
                  <a:pt x="2055" y="1138"/>
                </a:lnTo>
                <a:lnTo>
                  <a:pt x="2060" y="1086"/>
                </a:lnTo>
                <a:lnTo>
                  <a:pt x="2062" y="1032"/>
                </a:lnTo>
                <a:lnTo>
                  <a:pt x="2074" y="1032"/>
                </a:lnTo>
                <a:lnTo>
                  <a:pt x="2073" y="1086"/>
                </a:lnTo>
                <a:lnTo>
                  <a:pt x="2067" y="1138"/>
                </a:lnTo>
                <a:lnTo>
                  <a:pt x="2062" y="1190"/>
                </a:lnTo>
                <a:lnTo>
                  <a:pt x="2053" y="1240"/>
                </a:lnTo>
                <a:lnTo>
                  <a:pt x="2042" y="1290"/>
                </a:lnTo>
                <a:lnTo>
                  <a:pt x="2026" y="1338"/>
                </a:lnTo>
                <a:lnTo>
                  <a:pt x="2010" y="1387"/>
                </a:lnTo>
                <a:lnTo>
                  <a:pt x="1992" y="1433"/>
                </a:lnTo>
                <a:lnTo>
                  <a:pt x="1972" y="1480"/>
                </a:lnTo>
                <a:lnTo>
                  <a:pt x="1949" y="1525"/>
                </a:lnTo>
                <a:lnTo>
                  <a:pt x="1924" y="1568"/>
                </a:lnTo>
                <a:lnTo>
                  <a:pt x="1895" y="1609"/>
                </a:lnTo>
                <a:lnTo>
                  <a:pt x="1868" y="1648"/>
                </a:lnTo>
                <a:lnTo>
                  <a:pt x="1838" y="1688"/>
                </a:lnTo>
                <a:lnTo>
                  <a:pt x="1804" y="1725"/>
                </a:lnTo>
                <a:lnTo>
                  <a:pt x="1770" y="1761"/>
                </a:lnTo>
                <a:lnTo>
                  <a:pt x="1732" y="1795"/>
                </a:lnTo>
                <a:lnTo>
                  <a:pt x="1696" y="1827"/>
                </a:lnTo>
                <a:lnTo>
                  <a:pt x="1657" y="1858"/>
                </a:lnTo>
                <a:lnTo>
                  <a:pt x="1616" y="1886"/>
                </a:lnTo>
                <a:lnTo>
                  <a:pt x="1575" y="1913"/>
                </a:lnTo>
                <a:lnTo>
                  <a:pt x="1530" y="1938"/>
                </a:lnTo>
                <a:lnTo>
                  <a:pt x="1485" y="1962"/>
                </a:lnTo>
                <a:lnTo>
                  <a:pt x="1440" y="1981"/>
                </a:lnTo>
                <a:lnTo>
                  <a:pt x="1392" y="2001"/>
                </a:lnTo>
                <a:lnTo>
                  <a:pt x="1345" y="2017"/>
                </a:lnTo>
                <a:lnTo>
                  <a:pt x="1297" y="2030"/>
                </a:lnTo>
                <a:lnTo>
                  <a:pt x="1245" y="2042"/>
                </a:lnTo>
                <a:lnTo>
                  <a:pt x="1193" y="2051"/>
                </a:lnTo>
                <a:lnTo>
                  <a:pt x="1141" y="2057"/>
                </a:lnTo>
                <a:lnTo>
                  <a:pt x="1089" y="2062"/>
                </a:lnTo>
                <a:lnTo>
                  <a:pt x="1037" y="2064"/>
                </a:lnTo>
                <a:lnTo>
                  <a:pt x="983" y="2062"/>
                </a:lnTo>
                <a:lnTo>
                  <a:pt x="932" y="2057"/>
                </a:lnTo>
                <a:lnTo>
                  <a:pt x="880" y="2051"/>
                </a:lnTo>
                <a:lnTo>
                  <a:pt x="829" y="2042"/>
                </a:lnTo>
                <a:lnTo>
                  <a:pt x="779" y="2030"/>
                </a:lnTo>
                <a:lnTo>
                  <a:pt x="729" y="2017"/>
                </a:lnTo>
                <a:lnTo>
                  <a:pt x="681" y="2001"/>
                </a:lnTo>
                <a:lnTo>
                  <a:pt x="634" y="1981"/>
                </a:lnTo>
                <a:lnTo>
                  <a:pt x="589" y="1962"/>
                </a:lnTo>
                <a:lnTo>
                  <a:pt x="543" y="1938"/>
                </a:lnTo>
                <a:lnTo>
                  <a:pt x="500" y="1913"/>
                </a:lnTo>
                <a:lnTo>
                  <a:pt x="459" y="1886"/>
                </a:lnTo>
                <a:lnTo>
                  <a:pt x="417" y="1858"/>
                </a:lnTo>
                <a:lnTo>
                  <a:pt x="378" y="1827"/>
                </a:lnTo>
                <a:lnTo>
                  <a:pt x="340" y="1795"/>
                </a:lnTo>
                <a:lnTo>
                  <a:pt x="305" y="1761"/>
                </a:lnTo>
                <a:lnTo>
                  <a:pt x="271" y="1725"/>
                </a:lnTo>
                <a:lnTo>
                  <a:pt x="238" y="1688"/>
                </a:lnTo>
                <a:lnTo>
                  <a:pt x="206" y="1648"/>
                </a:lnTo>
                <a:lnTo>
                  <a:pt x="177" y="1609"/>
                </a:lnTo>
                <a:lnTo>
                  <a:pt x="151" y="1568"/>
                </a:lnTo>
                <a:lnTo>
                  <a:pt x="125" y="1525"/>
                </a:lnTo>
                <a:lnTo>
                  <a:pt x="102" y="1480"/>
                </a:lnTo>
                <a:lnTo>
                  <a:pt x="81" y="1433"/>
                </a:lnTo>
                <a:lnTo>
                  <a:pt x="63" y="1387"/>
                </a:lnTo>
                <a:lnTo>
                  <a:pt x="47" y="1338"/>
                </a:lnTo>
                <a:lnTo>
                  <a:pt x="32" y="1290"/>
                </a:lnTo>
                <a:lnTo>
                  <a:pt x="20" y="1240"/>
                </a:lnTo>
                <a:lnTo>
                  <a:pt x="11" y="1190"/>
                </a:lnTo>
                <a:lnTo>
                  <a:pt x="5" y="1138"/>
                </a:lnTo>
                <a:lnTo>
                  <a:pt x="0" y="1086"/>
                </a:lnTo>
                <a:lnTo>
                  <a:pt x="0" y="1032"/>
                </a:lnTo>
                <a:lnTo>
                  <a:pt x="0" y="978"/>
                </a:lnTo>
                <a:lnTo>
                  <a:pt x="5" y="926"/>
                </a:lnTo>
                <a:lnTo>
                  <a:pt x="11" y="874"/>
                </a:lnTo>
                <a:lnTo>
                  <a:pt x="20" y="824"/>
                </a:lnTo>
                <a:lnTo>
                  <a:pt x="32" y="774"/>
                </a:lnTo>
                <a:lnTo>
                  <a:pt x="47" y="725"/>
                </a:lnTo>
                <a:lnTo>
                  <a:pt x="63" y="677"/>
                </a:lnTo>
                <a:lnTo>
                  <a:pt x="81" y="631"/>
                </a:lnTo>
                <a:lnTo>
                  <a:pt x="102" y="584"/>
                </a:lnTo>
                <a:lnTo>
                  <a:pt x="125" y="541"/>
                </a:lnTo>
                <a:lnTo>
                  <a:pt x="151" y="496"/>
                </a:lnTo>
                <a:lnTo>
                  <a:pt x="177" y="455"/>
                </a:lnTo>
                <a:lnTo>
                  <a:pt x="206" y="416"/>
                </a:lnTo>
                <a:lnTo>
                  <a:pt x="238" y="376"/>
                </a:lnTo>
                <a:lnTo>
                  <a:pt x="271" y="338"/>
                </a:lnTo>
                <a:lnTo>
                  <a:pt x="305" y="303"/>
                </a:lnTo>
                <a:lnTo>
                  <a:pt x="340" y="269"/>
                </a:lnTo>
                <a:lnTo>
                  <a:pt x="378" y="236"/>
                </a:lnTo>
                <a:lnTo>
                  <a:pt x="417" y="206"/>
                </a:lnTo>
                <a:lnTo>
                  <a:pt x="459" y="177"/>
                </a:lnTo>
                <a:lnTo>
                  <a:pt x="500" y="150"/>
                </a:lnTo>
                <a:lnTo>
                  <a:pt x="543" y="125"/>
                </a:lnTo>
                <a:lnTo>
                  <a:pt x="589" y="102"/>
                </a:lnTo>
                <a:lnTo>
                  <a:pt x="634" y="82"/>
                </a:lnTo>
                <a:lnTo>
                  <a:pt x="681" y="63"/>
                </a:lnTo>
                <a:lnTo>
                  <a:pt x="729" y="46"/>
                </a:lnTo>
                <a:lnTo>
                  <a:pt x="779" y="34"/>
                </a:lnTo>
                <a:lnTo>
                  <a:pt x="829" y="21"/>
                </a:lnTo>
                <a:lnTo>
                  <a:pt x="880" y="12"/>
                </a:lnTo>
                <a:lnTo>
                  <a:pt x="932" y="7"/>
                </a:lnTo>
                <a:lnTo>
                  <a:pt x="983" y="2"/>
                </a:lnTo>
                <a:lnTo>
                  <a:pt x="1037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23"/>
          <p:cNvSpPr/>
          <p:nvPr/>
        </p:nvSpPr>
        <p:spPr>
          <a:xfrm>
            <a:off x="2954160" y="1319040"/>
            <a:ext cx="3256200" cy="3254400"/>
          </a:xfrm>
          <a:custGeom>
            <a:avLst/>
            <a:gdLst>
              <a:gd name="textAreaLeft" fmla="*/ 0 w 3256200"/>
              <a:gd name="textAreaRight" fmla="*/ 3256560 w 3256200"/>
              <a:gd name="textAreaTop" fmla="*/ 0 h 3254400"/>
              <a:gd name="textAreaBottom" fmla="*/ 3254760 h 3254400"/>
            </a:gdLst>
            <a:ahLst/>
            <a:rect l="textAreaLeft" t="textAreaTop" r="textAreaRight" b="textAreaBottom"/>
            <a:pathLst>
              <a:path w="2051" h="2050">
                <a:moveTo>
                  <a:pt x="2051" y="1025"/>
                </a:moveTo>
                <a:lnTo>
                  <a:pt x="2051" y="971"/>
                </a:lnTo>
                <a:lnTo>
                  <a:pt x="2045" y="919"/>
                </a:lnTo>
                <a:lnTo>
                  <a:pt x="2040" y="869"/>
                </a:lnTo>
                <a:lnTo>
                  <a:pt x="2031" y="819"/>
                </a:lnTo>
                <a:lnTo>
                  <a:pt x="2019" y="769"/>
                </a:lnTo>
                <a:lnTo>
                  <a:pt x="2006" y="720"/>
                </a:lnTo>
                <a:lnTo>
                  <a:pt x="1990" y="672"/>
                </a:lnTo>
                <a:lnTo>
                  <a:pt x="1970" y="625"/>
                </a:lnTo>
                <a:lnTo>
                  <a:pt x="1951" y="581"/>
                </a:lnTo>
                <a:lnTo>
                  <a:pt x="1927" y="536"/>
                </a:lnTo>
                <a:lnTo>
                  <a:pt x="1904" y="493"/>
                </a:lnTo>
                <a:lnTo>
                  <a:pt x="1877" y="452"/>
                </a:lnTo>
                <a:lnTo>
                  <a:pt x="1847" y="412"/>
                </a:lnTo>
                <a:lnTo>
                  <a:pt x="1818" y="373"/>
                </a:lnTo>
                <a:lnTo>
                  <a:pt x="1784" y="337"/>
                </a:lnTo>
                <a:lnTo>
                  <a:pt x="1750" y="301"/>
                </a:lnTo>
                <a:lnTo>
                  <a:pt x="1714" y="267"/>
                </a:lnTo>
                <a:lnTo>
                  <a:pt x="1678" y="233"/>
                </a:lnTo>
                <a:lnTo>
                  <a:pt x="1639" y="204"/>
                </a:lnTo>
                <a:lnTo>
                  <a:pt x="1599" y="174"/>
                </a:lnTo>
                <a:lnTo>
                  <a:pt x="1558" y="147"/>
                </a:lnTo>
                <a:lnTo>
                  <a:pt x="1515" y="124"/>
                </a:lnTo>
                <a:lnTo>
                  <a:pt x="1470" y="100"/>
                </a:lnTo>
                <a:lnTo>
                  <a:pt x="1424" y="79"/>
                </a:lnTo>
                <a:lnTo>
                  <a:pt x="1377" y="61"/>
                </a:lnTo>
                <a:lnTo>
                  <a:pt x="1331" y="45"/>
                </a:lnTo>
                <a:lnTo>
                  <a:pt x="1282" y="32"/>
                </a:lnTo>
                <a:lnTo>
                  <a:pt x="1232" y="20"/>
                </a:lnTo>
                <a:lnTo>
                  <a:pt x="1180" y="11"/>
                </a:lnTo>
                <a:lnTo>
                  <a:pt x="1130" y="5"/>
                </a:lnTo>
                <a:lnTo>
                  <a:pt x="1078" y="2"/>
                </a:lnTo>
                <a:lnTo>
                  <a:pt x="1026" y="0"/>
                </a:lnTo>
                <a:lnTo>
                  <a:pt x="972" y="2"/>
                </a:lnTo>
                <a:lnTo>
                  <a:pt x="921" y="5"/>
                </a:lnTo>
                <a:lnTo>
                  <a:pt x="870" y="11"/>
                </a:lnTo>
                <a:lnTo>
                  <a:pt x="820" y="20"/>
                </a:lnTo>
                <a:lnTo>
                  <a:pt x="768" y="32"/>
                </a:lnTo>
                <a:lnTo>
                  <a:pt x="720" y="45"/>
                </a:lnTo>
                <a:lnTo>
                  <a:pt x="673" y="61"/>
                </a:lnTo>
                <a:lnTo>
                  <a:pt x="627" y="79"/>
                </a:lnTo>
                <a:lnTo>
                  <a:pt x="580" y="100"/>
                </a:lnTo>
                <a:lnTo>
                  <a:pt x="537" y="124"/>
                </a:lnTo>
                <a:lnTo>
                  <a:pt x="494" y="147"/>
                </a:lnTo>
                <a:lnTo>
                  <a:pt x="451" y="174"/>
                </a:lnTo>
                <a:lnTo>
                  <a:pt x="412" y="204"/>
                </a:lnTo>
                <a:lnTo>
                  <a:pt x="374" y="233"/>
                </a:lnTo>
                <a:lnTo>
                  <a:pt x="337" y="267"/>
                </a:lnTo>
                <a:lnTo>
                  <a:pt x="301" y="301"/>
                </a:lnTo>
                <a:lnTo>
                  <a:pt x="267" y="337"/>
                </a:lnTo>
                <a:lnTo>
                  <a:pt x="234" y="373"/>
                </a:lnTo>
                <a:lnTo>
                  <a:pt x="204" y="412"/>
                </a:lnTo>
                <a:lnTo>
                  <a:pt x="175" y="452"/>
                </a:lnTo>
                <a:lnTo>
                  <a:pt x="148" y="493"/>
                </a:lnTo>
                <a:lnTo>
                  <a:pt x="125" y="536"/>
                </a:lnTo>
                <a:lnTo>
                  <a:pt x="100" y="581"/>
                </a:lnTo>
                <a:lnTo>
                  <a:pt x="80" y="625"/>
                </a:lnTo>
                <a:lnTo>
                  <a:pt x="62" y="672"/>
                </a:lnTo>
                <a:lnTo>
                  <a:pt x="46" y="720"/>
                </a:lnTo>
                <a:lnTo>
                  <a:pt x="32" y="769"/>
                </a:lnTo>
                <a:lnTo>
                  <a:pt x="21" y="819"/>
                </a:lnTo>
                <a:lnTo>
                  <a:pt x="12" y="869"/>
                </a:lnTo>
                <a:lnTo>
                  <a:pt x="5" y="919"/>
                </a:lnTo>
                <a:lnTo>
                  <a:pt x="2" y="971"/>
                </a:lnTo>
                <a:lnTo>
                  <a:pt x="0" y="1025"/>
                </a:lnTo>
                <a:lnTo>
                  <a:pt x="2" y="1079"/>
                </a:lnTo>
                <a:lnTo>
                  <a:pt x="5" y="1131"/>
                </a:lnTo>
                <a:lnTo>
                  <a:pt x="12" y="1181"/>
                </a:lnTo>
                <a:lnTo>
                  <a:pt x="21" y="1231"/>
                </a:lnTo>
                <a:lnTo>
                  <a:pt x="32" y="1281"/>
                </a:lnTo>
                <a:lnTo>
                  <a:pt x="46" y="1329"/>
                </a:lnTo>
                <a:lnTo>
                  <a:pt x="62" y="1378"/>
                </a:lnTo>
                <a:lnTo>
                  <a:pt x="80" y="1424"/>
                </a:lnTo>
                <a:lnTo>
                  <a:pt x="100" y="1469"/>
                </a:lnTo>
                <a:lnTo>
                  <a:pt x="125" y="1514"/>
                </a:lnTo>
                <a:lnTo>
                  <a:pt x="148" y="1557"/>
                </a:lnTo>
                <a:lnTo>
                  <a:pt x="175" y="1598"/>
                </a:lnTo>
                <a:lnTo>
                  <a:pt x="204" y="1638"/>
                </a:lnTo>
                <a:lnTo>
                  <a:pt x="234" y="1677"/>
                </a:lnTo>
                <a:lnTo>
                  <a:pt x="267" y="1715"/>
                </a:lnTo>
                <a:lnTo>
                  <a:pt x="301" y="1749"/>
                </a:lnTo>
                <a:lnTo>
                  <a:pt x="337" y="1784"/>
                </a:lnTo>
                <a:lnTo>
                  <a:pt x="374" y="1817"/>
                </a:lnTo>
                <a:lnTo>
                  <a:pt x="412" y="1845"/>
                </a:lnTo>
                <a:lnTo>
                  <a:pt x="451" y="1876"/>
                </a:lnTo>
                <a:lnTo>
                  <a:pt x="494" y="1903"/>
                </a:lnTo>
                <a:lnTo>
                  <a:pt x="537" y="1926"/>
                </a:lnTo>
                <a:lnTo>
                  <a:pt x="580" y="1949"/>
                </a:lnTo>
                <a:lnTo>
                  <a:pt x="627" y="1971"/>
                </a:lnTo>
                <a:lnTo>
                  <a:pt x="673" y="1989"/>
                </a:lnTo>
                <a:lnTo>
                  <a:pt x="720" y="2005"/>
                </a:lnTo>
                <a:lnTo>
                  <a:pt x="768" y="2017"/>
                </a:lnTo>
                <a:lnTo>
                  <a:pt x="820" y="2030"/>
                </a:lnTo>
                <a:lnTo>
                  <a:pt x="870" y="2039"/>
                </a:lnTo>
                <a:lnTo>
                  <a:pt x="921" y="2044"/>
                </a:lnTo>
                <a:lnTo>
                  <a:pt x="972" y="2048"/>
                </a:lnTo>
                <a:lnTo>
                  <a:pt x="1026" y="2050"/>
                </a:lnTo>
                <a:lnTo>
                  <a:pt x="1078" y="2048"/>
                </a:lnTo>
                <a:lnTo>
                  <a:pt x="1130" y="2044"/>
                </a:lnTo>
                <a:lnTo>
                  <a:pt x="1180" y="2039"/>
                </a:lnTo>
                <a:lnTo>
                  <a:pt x="1232" y="2030"/>
                </a:lnTo>
                <a:lnTo>
                  <a:pt x="1282" y="2017"/>
                </a:lnTo>
                <a:lnTo>
                  <a:pt x="1331" y="2005"/>
                </a:lnTo>
                <a:lnTo>
                  <a:pt x="1377" y="1989"/>
                </a:lnTo>
                <a:lnTo>
                  <a:pt x="1424" y="1971"/>
                </a:lnTo>
                <a:lnTo>
                  <a:pt x="1470" y="1949"/>
                </a:lnTo>
                <a:lnTo>
                  <a:pt x="1515" y="1926"/>
                </a:lnTo>
                <a:lnTo>
                  <a:pt x="1558" y="1903"/>
                </a:lnTo>
                <a:lnTo>
                  <a:pt x="1599" y="1876"/>
                </a:lnTo>
                <a:lnTo>
                  <a:pt x="1639" y="1845"/>
                </a:lnTo>
                <a:lnTo>
                  <a:pt x="1678" y="1817"/>
                </a:lnTo>
                <a:lnTo>
                  <a:pt x="1714" y="1784"/>
                </a:lnTo>
                <a:lnTo>
                  <a:pt x="1750" y="1749"/>
                </a:lnTo>
                <a:lnTo>
                  <a:pt x="1784" y="1715"/>
                </a:lnTo>
                <a:lnTo>
                  <a:pt x="1818" y="1677"/>
                </a:lnTo>
                <a:lnTo>
                  <a:pt x="1847" y="1638"/>
                </a:lnTo>
                <a:lnTo>
                  <a:pt x="1877" y="1598"/>
                </a:lnTo>
                <a:lnTo>
                  <a:pt x="1904" y="1557"/>
                </a:lnTo>
                <a:lnTo>
                  <a:pt x="1927" y="1514"/>
                </a:lnTo>
                <a:lnTo>
                  <a:pt x="1951" y="1469"/>
                </a:lnTo>
                <a:lnTo>
                  <a:pt x="1970" y="1424"/>
                </a:lnTo>
                <a:lnTo>
                  <a:pt x="1990" y="1378"/>
                </a:lnTo>
                <a:lnTo>
                  <a:pt x="2006" y="1329"/>
                </a:lnTo>
                <a:lnTo>
                  <a:pt x="2019" y="1281"/>
                </a:lnTo>
                <a:lnTo>
                  <a:pt x="2031" y="1231"/>
                </a:lnTo>
                <a:lnTo>
                  <a:pt x="2040" y="1181"/>
                </a:lnTo>
                <a:lnTo>
                  <a:pt x="2045" y="1131"/>
                </a:lnTo>
                <a:lnTo>
                  <a:pt x="2051" y="1079"/>
                </a:lnTo>
                <a:lnTo>
                  <a:pt x="2051" y="1025"/>
                </a:lnTo>
                <a:lnTo>
                  <a:pt x="1976" y="1025"/>
                </a:lnTo>
                <a:lnTo>
                  <a:pt x="1970" y="928"/>
                </a:lnTo>
                <a:lnTo>
                  <a:pt x="1956" y="833"/>
                </a:lnTo>
                <a:lnTo>
                  <a:pt x="1933" y="744"/>
                </a:lnTo>
                <a:lnTo>
                  <a:pt x="1900" y="656"/>
                </a:lnTo>
                <a:lnTo>
                  <a:pt x="1859" y="573"/>
                </a:lnTo>
                <a:lnTo>
                  <a:pt x="1813" y="495"/>
                </a:lnTo>
                <a:lnTo>
                  <a:pt x="1757" y="421"/>
                </a:lnTo>
                <a:lnTo>
                  <a:pt x="1696" y="353"/>
                </a:lnTo>
                <a:lnTo>
                  <a:pt x="1630" y="292"/>
                </a:lnTo>
                <a:lnTo>
                  <a:pt x="1556" y="238"/>
                </a:lnTo>
                <a:lnTo>
                  <a:pt x="1478" y="190"/>
                </a:lnTo>
                <a:lnTo>
                  <a:pt x="1395" y="151"/>
                </a:lnTo>
                <a:lnTo>
                  <a:pt x="1307" y="118"/>
                </a:lnTo>
                <a:lnTo>
                  <a:pt x="1216" y="95"/>
                </a:lnTo>
                <a:lnTo>
                  <a:pt x="1123" y="79"/>
                </a:lnTo>
                <a:lnTo>
                  <a:pt x="1026" y="75"/>
                </a:lnTo>
                <a:lnTo>
                  <a:pt x="929" y="79"/>
                </a:lnTo>
                <a:lnTo>
                  <a:pt x="835" y="95"/>
                </a:lnTo>
                <a:lnTo>
                  <a:pt x="743" y="118"/>
                </a:lnTo>
                <a:lnTo>
                  <a:pt x="657" y="151"/>
                </a:lnTo>
                <a:lnTo>
                  <a:pt x="573" y="190"/>
                </a:lnTo>
                <a:lnTo>
                  <a:pt x="494" y="238"/>
                </a:lnTo>
                <a:lnTo>
                  <a:pt x="423" y="292"/>
                </a:lnTo>
                <a:lnTo>
                  <a:pt x="354" y="353"/>
                </a:lnTo>
                <a:lnTo>
                  <a:pt x="294" y="421"/>
                </a:lnTo>
                <a:lnTo>
                  <a:pt x="238" y="495"/>
                </a:lnTo>
                <a:lnTo>
                  <a:pt x="191" y="573"/>
                </a:lnTo>
                <a:lnTo>
                  <a:pt x="150" y="656"/>
                </a:lnTo>
                <a:lnTo>
                  <a:pt x="118" y="744"/>
                </a:lnTo>
                <a:lnTo>
                  <a:pt x="95" y="833"/>
                </a:lnTo>
                <a:lnTo>
                  <a:pt x="80" y="928"/>
                </a:lnTo>
                <a:lnTo>
                  <a:pt x="75" y="1025"/>
                </a:lnTo>
                <a:lnTo>
                  <a:pt x="80" y="1122"/>
                </a:lnTo>
                <a:lnTo>
                  <a:pt x="95" y="1217"/>
                </a:lnTo>
                <a:lnTo>
                  <a:pt x="118" y="1306"/>
                </a:lnTo>
                <a:lnTo>
                  <a:pt x="150" y="1394"/>
                </a:lnTo>
                <a:lnTo>
                  <a:pt x="191" y="1476"/>
                </a:lnTo>
                <a:lnTo>
                  <a:pt x="238" y="1555"/>
                </a:lnTo>
                <a:lnTo>
                  <a:pt x="294" y="1629"/>
                </a:lnTo>
                <a:lnTo>
                  <a:pt x="354" y="1697"/>
                </a:lnTo>
                <a:lnTo>
                  <a:pt x="423" y="1758"/>
                </a:lnTo>
                <a:lnTo>
                  <a:pt x="494" y="1811"/>
                </a:lnTo>
                <a:lnTo>
                  <a:pt x="573" y="1860"/>
                </a:lnTo>
                <a:lnTo>
                  <a:pt x="657" y="1899"/>
                </a:lnTo>
                <a:lnTo>
                  <a:pt x="743" y="1931"/>
                </a:lnTo>
                <a:lnTo>
                  <a:pt x="835" y="1956"/>
                </a:lnTo>
                <a:lnTo>
                  <a:pt x="929" y="1971"/>
                </a:lnTo>
                <a:lnTo>
                  <a:pt x="1026" y="1974"/>
                </a:lnTo>
                <a:lnTo>
                  <a:pt x="1123" y="1971"/>
                </a:lnTo>
                <a:lnTo>
                  <a:pt x="1216" y="1956"/>
                </a:lnTo>
                <a:lnTo>
                  <a:pt x="1307" y="1931"/>
                </a:lnTo>
                <a:lnTo>
                  <a:pt x="1395" y="1899"/>
                </a:lnTo>
                <a:lnTo>
                  <a:pt x="1478" y="1860"/>
                </a:lnTo>
                <a:lnTo>
                  <a:pt x="1556" y="1811"/>
                </a:lnTo>
                <a:lnTo>
                  <a:pt x="1630" y="1758"/>
                </a:lnTo>
                <a:lnTo>
                  <a:pt x="1696" y="1697"/>
                </a:lnTo>
                <a:lnTo>
                  <a:pt x="1757" y="1629"/>
                </a:lnTo>
                <a:lnTo>
                  <a:pt x="1813" y="1555"/>
                </a:lnTo>
                <a:lnTo>
                  <a:pt x="1859" y="1476"/>
                </a:lnTo>
                <a:lnTo>
                  <a:pt x="1900" y="1394"/>
                </a:lnTo>
                <a:lnTo>
                  <a:pt x="1933" y="1306"/>
                </a:lnTo>
                <a:lnTo>
                  <a:pt x="1956" y="1217"/>
                </a:lnTo>
                <a:lnTo>
                  <a:pt x="1970" y="1122"/>
                </a:lnTo>
                <a:lnTo>
                  <a:pt x="1976" y="1025"/>
                </a:lnTo>
                <a:lnTo>
                  <a:pt x="2051" y="1025"/>
                </a:lnTo>
                <a:close/>
              </a:path>
            </a:pathLst>
          </a:cu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24"/>
          <p:cNvSpPr/>
          <p:nvPr/>
        </p:nvSpPr>
        <p:spPr>
          <a:xfrm>
            <a:off x="3073320" y="1434960"/>
            <a:ext cx="3019680" cy="3021120"/>
          </a:xfrm>
          <a:custGeom>
            <a:avLst/>
            <a:gdLst>
              <a:gd name="textAreaLeft" fmla="*/ 0 w 3019680"/>
              <a:gd name="textAreaRight" fmla="*/ 3020040 w 3019680"/>
              <a:gd name="textAreaTop" fmla="*/ 0 h 3021120"/>
              <a:gd name="textAreaBottom" fmla="*/ 3021480 h 3021120"/>
            </a:gdLst>
            <a:ahLst/>
            <a:rect l="textAreaLeft" t="textAreaTop" r="textAreaRight" b="textAreaBottom"/>
            <a:pathLst>
              <a:path w="1902" h="1903">
                <a:moveTo>
                  <a:pt x="1902" y="952"/>
                </a:moveTo>
                <a:lnTo>
                  <a:pt x="1897" y="853"/>
                </a:lnTo>
                <a:lnTo>
                  <a:pt x="1883" y="760"/>
                </a:lnTo>
                <a:lnTo>
                  <a:pt x="1859" y="669"/>
                </a:lnTo>
                <a:lnTo>
                  <a:pt x="1827" y="581"/>
                </a:lnTo>
                <a:lnTo>
                  <a:pt x="1786" y="499"/>
                </a:lnTo>
                <a:lnTo>
                  <a:pt x="1739" y="420"/>
                </a:lnTo>
                <a:lnTo>
                  <a:pt x="1684" y="348"/>
                </a:lnTo>
                <a:lnTo>
                  <a:pt x="1623" y="280"/>
                </a:lnTo>
                <a:lnTo>
                  <a:pt x="1555" y="219"/>
                </a:lnTo>
                <a:lnTo>
                  <a:pt x="1483" y="164"/>
                </a:lnTo>
                <a:lnTo>
                  <a:pt x="1404" y="117"/>
                </a:lnTo>
                <a:lnTo>
                  <a:pt x="1322" y="76"/>
                </a:lnTo>
                <a:lnTo>
                  <a:pt x="1234" y="43"/>
                </a:lnTo>
                <a:lnTo>
                  <a:pt x="1141" y="20"/>
                </a:lnTo>
                <a:lnTo>
                  <a:pt x="1048" y="6"/>
                </a:lnTo>
                <a:lnTo>
                  <a:pt x="951" y="0"/>
                </a:lnTo>
                <a:lnTo>
                  <a:pt x="853" y="6"/>
                </a:lnTo>
                <a:lnTo>
                  <a:pt x="760" y="20"/>
                </a:lnTo>
                <a:lnTo>
                  <a:pt x="668" y="43"/>
                </a:lnTo>
                <a:lnTo>
                  <a:pt x="580" y="76"/>
                </a:lnTo>
                <a:lnTo>
                  <a:pt x="496" y="117"/>
                </a:lnTo>
                <a:lnTo>
                  <a:pt x="419" y="164"/>
                </a:lnTo>
                <a:lnTo>
                  <a:pt x="346" y="219"/>
                </a:lnTo>
                <a:lnTo>
                  <a:pt x="278" y="280"/>
                </a:lnTo>
                <a:lnTo>
                  <a:pt x="217" y="348"/>
                </a:lnTo>
                <a:lnTo>
                  <a:pt x="161" y="420"/>
                </a:lnTo>
                <a:lnTo>
                  <a:pt x="115" y="499"/>
                </a:lnTo>
                <a:lnTo>
                  <a:pt x="75" y="581"/>
                </a:lnTo>
                <a:lnTo>
                  <a:pt x="41" y="669"/>
                </a:lnTo>
                <a:lnTo>
                  <a:pt x="18" y="760"/>
                </a:lnTo>
                <a:lnTo>
                  <a:pt x="4" y="853"/>
                </a:lnTo>
                <a:lnTo>
                  <a:pt x="0" y="952"/>
                </a:lnTo>
                <a:lnTo>
                  <a:pt x="4" y="1049"/>
                </a:lnTo>
                <a:lnTo>
                  <a:pt x="18" y="1144"/>
                </a:lnTo>
                <a:lnTo>
                  <a:pt x="41" y="1235"/>
                </a:lnTo>
                <a:lnTo>
                  <a:pt x="75" y="1323"/>
                </a:lnTo>
                <a:lnTo>
                  <a:pt x="115" y="1405"/>
                </a:lnTo>
                <a:lnTo>
                  <a:pt x="161" y="1484"/>
                </a:lnTo>
                <a:lnTo>
                  <a:pt x="217" y="1556"/>
                </a:lnTo>
                <a:lnTo>
                  <a:pt x="278" y="1625"/>
                </a:lnTo>
                <a:lnTo>
                  <a:pt x="346" y="1685"/>
                </a:lnTo>
                <a:lnTo>
                  <a:pt x="419" y="1740"/>
                </a:lnTo>
                <a:lnTo>
                  <a:pt x="496" y="1787"/>
                </a:lnTo>
                <a:lnTo>
                  <a:pt x="580" y="1828"/>
                </a:lnTo>
                <a:lnTo>
                  <a:pt x="668" y="1860"/>
                </a:lnTo>
                <a:lnTo>
                  <a:pt x="760" y="1883"/>
                </a:lnTo>
                <a:lnTo>
                  <a:pt x="853" y="1898"/>
                </a:lnTo>
                <a:lnTo>
                  <a:pt x="951" y="1903"/>
                </a:lnTo>
                <a:lnTo>
                  <a:pt x="1048" y="1898"/>
                </a:lnTo>
                <a:lnTo>
                  <a:pt x="1141" y="1883"/>
                </a:lnTo>
                <a:lnTo>
                  <a:pt x="1234" y="1860"/>
                </a:lnTo>
                <a:lnTo>
                  <a:pt x="1322" y="1828"/>
                </a:lnTo>
                <a:lnTo>
                  <a:pt x="1404" y="1787"/>
                </a:lnTo>
                <a:lnTo>
                  <a:pt x="1483" y="1740"/>
                </a:lnTo>
                <a:lnTo>
                  <a:pt x="1555" y="1685"/>
                </a:lnTo>
                <a:lnTo>
                  <a:pt x="1623" y="1625"/>
                </a:lnTo>
                <a:lnTo>
                  <a:pt x="1684" y="1556"/>
                </a:lnTo>
                <a:lnTo>
                  <a:pt x="1739" y="1484"/>
                </a:lnTo>
                <a:lnTo>
                  <a:pt x="1786" y="1405"/>
                </a:lnTo>
                <a:lnTo>
                  <a:pt x="1827" y="1323"/>
                </a:lnTo>
                <a:lnTo>
                  <a:pt x="1859" y="1235"/>
                </a:lnTo>
                <a:lnTo>
                  <a:pt x="1883" y="1144"/>
                </a:lnTo>
                <a:lnTo>
                  <a:pt x="1897" y="1049"/>
                </a:lnTo>
                <a:lnTo>
                  <a:pt x="1902" y="952"/>
                </a:lnTo>
                <a:lnTo>
                  <a:pt x="1829" y="952"/>
                </a:lnTo>
                <a:lnTo>
                  <a:pt x="1824" y="862"/>
                </a:lnTo>
                <a:lnTo>
                  <a:pt x="1809" y="776"/>
                </a:lnTo>
                <a:lnTo>
                  <a:pt x="1788" y="690"/>
                </a:lnTo>
                <a:lnTo>
                  <a:pt x="1759" y="611"/>
                </a:lnTo>
                <a:lnTo>
                  <a:pt x="1721" y="534"/>
                </a:lnTo>
                <a:lnTo>
                  <a:pt x="1678" y="461"/>
                </a:lnTo>
                <a:lnTo>
                  <a:pt x="1628" y="395"/>
                </a:lnTo>
                <a:lnTo>
                  <a:pt x="1571" y="332"/>
                </a:lnTo>
                <a:lnTo>
                  <a:pt x="1508" y="275"/>
                </a:lnTo>
                <a:lnTo>
                  <a:pt x="1442" y="224"/>
                </a:lnTo>
                <a:lnTo>
                  <a:pt x="1369" y="181"/>
                </a:lnTo>
                <a:lnTo>
                  <a:pt x="1292" y="144"/>
                </a:lnTo>
                <a:lnTo>
                  <a:pt x="1211" y="115"/>
                </a:lnTo>
                <a:lnTo>
                  <a:pt x="1127" y="92"/>
                </a:lnTo>
                <a:lnTo>
                  <a:pt x="1039" y="79"/>
                </a:lnTo>
                <a:lnTo>
                  <a:pt x="951" y="74"/>
                </a:lnTo>
                <a:lnTo>
                  <a:pt x="862" y="79"/>
                </a:lnTo>
                <a:lnTo>
                  <a:pt x="774" y="92"/>
                </a:lnTo>
                <a:lnTo>
                  <a:pt x="690" y="115"/>
                </a:lnTo>
                <a:lnTo>
                  <a:pt x="609" y="144"/>
                </a:lnTo>
                <a:lnTo>
                  <a:pt x="532" y="181"/>
                </a:lnTo>
                <a:lnTo>
                  <a:pt x="460" y="224"/>
                </a:lnTo>
                <a:lnTo>
                  <a:pt x="394" y="275"/>
                </a:lnTo>
                <a:lnTo>
                  <a:pt x="331" y="332"/>
                </a:lnTo>
                <a:lnTo>
                  <a:pt x="274" y="395"/>
                </a:lnTo>
                <a:lnTo>
                  <a:pt x="222" y="461"/>
                </a:lnTo>
                <a:lnTo>
                  <a:pt x="179" y="534"/>
                </a:lnTo>
                <a:lnTo>
                  <a:pt x="143" y="611"/>
                </a:lnTo>
                <a:lnTo>
                  <a:pt x="113" y="690"/>
                </a:lnTo>
                <a:lnTo>
                  <a:pt x="91" y="776"/>
                </a:lnTo>
                <a:lnTo>
                  <a:pt x="77" y="862"/>
                </a:lnTo>
                <a:lnTo>
                  <a:pt x="73" y="952"/>
                </a:lnTo>
                <a:lnTo>
                  <a:pt x="77" y="1041"/>
                </a:lnTo>
                <a:lnTo>
                  <a:pt x="91" y="1129"/>
                </a:lnTo>
                <a:lnTo>
                  <a:pt x="113" y="1213"/>
                </a:lnTo>
                <a:lnTo>
                  <a:pt x="143" y="1292"/>
                </a:lnTo>
                <a:lnTo>
                  <a:pt x="179" y="1369"/>
                </a:lnTo>
                <a:lnTo>
                  <a:pt x="222" y="1443"/>
                </a:lnTo>
                <a:lnTo>
                  <a:pt x="274" y="1509"/>
                </a:lnTo>
                <a:lnTo>
                  <a:pt x="331" y="1572"/>
                </a:lnTo>
                <a:lnTo>
                  <a:pt x="394" y="1629"/>
                </a:lnTo>
                <a:lnTo>
                  <a:pt x="460" y="1679"/>
                </a:lnTo>
                <a:lnTo>
                  <a:pt x="532" y="1722"/>
                </a:lnTo>
                <a:lnTo>
                  <a:pt x="609" y="1760"/>
                </a:lnTo>
                <a:lnTo>
                  <a:pt x="690" y="1789"/>
                </a:lnTo>
                <a:lnTo>
                  <a:pt x="774" y="1812"/>
                </a:lnTo>
                <a:lnTo>
                  <a:pt x="862" y="1824"/>
                </a:lnTo>
                <a:lnTo>
                  <a:pt x="951" y="1830"/>
                </a:lnTo>
                <a:lnTo>
                  <a:pt x="1039" y="1824"/>
                </a:lnTo>
                <a:lnTo>
                  <a:pt x="1127" y="1812"/>
                </a:lnTo>
                <a:lnTo>
                  <a:pt x="1211" y="1789"/>
                </a:lnTo>
                <a:lnTo>
                  <a:pt x="1292" y="1760"/>
                </a:lnTo>
                <a:lnTo>
                  <a:pt x="1369" y="1722"/>
                </a:lnTo>
                <a:lnTo>
                  <a:pt x="1442" y="1679"/>
                </a:lnTo>
                <a:lnTo>
                  <a:pt x="1508" y="1629"/>
                </a:lnTo>
                <a:lnTo>
                  <a:pt x="1571" y="1572"/>
                </a:lnTo>
                <a:lnTo>
                  <a:pt x="1628" y="1509"/>
                </a:lnTo>
                <a:lnTo>
                  <a:pt x="1678" y="1443"/>
                </a:lnTo>
                <a:lnTo>
                  <a:pt x="1721" y="1369"/>
                </a:lnTo>
                <a:lnTo>
                  <a:pt x="1759" y="1292"/>
                </a:lnTo>
                <a:lnTo>
                  <a:pt x="1788" y="1213"/>
                </a:lnTo>
                <a:lnTo>
                  <a:pt x="1809" y="1129"/>
                </a:lnTo>
                <a:lnTo>
                  <a:pt x="1824" y="1041"/>
                </a:lnTo>
                <a:lnTo>
                  <a:pt x="1829" y="952"/>
                </a:lnTo>
                <a:lnTo>
                  <a:pt x="1902" y="952"/>
                </a:lnTo>
                <a:close/>
              </a:path>
            </a:pathLst>
          </a:cu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25"/>
          <p:cNvSpPr/>
          <p:nvPr/>
        </p:nvSpPr>
        <p:spPr>
          <a:xfrm>
            <a:off x="3187800" y="1549440"/>
            <a:ext cx="2789280" cy="2793960"/>
          </a:xfrm>
          <a:custGeom>
            <a:avLst/>
            <a:gdLst>
              <a:gd name="textAreaLeft" fmla="*/ 0 w 2789280"/>
              <a:gd name="textAreaRight" fmla="*/ 2789280 w 2789280"/>
              <a:gd name="textAreaTop" fmla="*/ 0 h 2793960"/>
              <a:gd name="textAreaBottom" fmla="*/ 2794320 h 2793960"/>
            </a:gdLst>
            <a:ahLst/>
            <a:rect l="textAreaLeft" t="textAreaTop" r="textAreaRight" b="textAreaBottom"/>
            <a:pathLst>
              <a:path w="1757" h="1760">
                <a:moveTo>
                  <a:pt x="1757" y="880"/>
                </a:moveTo>
                <a:lnTo>
                  <a:pt x="1753" y="790"/>
                </a:lnTo>
                <a:lnTo>
                  <a:pt x="1739" y="704"/>
                </a:lnTo>
                <a:lnTo>
                  <a:pt x="1718" y="618"/>
                </a:lnTo>
                <a:lnTo>
                  <a:pt x="1687" y="538"/>
                </a:lnTo>
                <a:lnTo>
                  <a:pt x="1651" y="462"/>
                </a:lnTo>
                <a:lnTo>
                  <a:pt x="1608" y="389"/>
                </a:lnTo>
                <a:lnTo>
                  <a:pt x="1556" y="321"/>
                </a:lnTo>
                <a:lnTo>
                  <a:pt x="1499" y="258"/>
                </a:lnTo>
                <a:lnTo>
                  <a:pt x="1438" y="203"/>
                </a:lnTo>
                <a:lnTo>
                  <a:pt x="1370" y="151"/>
                </a:lnTo>
                <a:lnTo>
                  <a:pt x="1297" y="108"/>
                </a:lnTo>
                <a:lnTo>
                  <a:pt x="1221" y="70"/>
                </a:lnTo>
                <a:lnTo>
                  <a:pt x="1139" y="41"/>
                </a:lnTo>
                <a:lnTo>
                  <a:pt x="1055" y="20"/>
                </a:lnTo>
                <a:lnTo>
                  <a:pt x="969" y="6"/>
                </a:lnTo>
                <a:lnTo>
                  <a:pt x="879" y="0"/>
                </a:lnTo>
                <a:lnTo>
                  <a:pt x="788" y="6"/>
                </a:lnTo>
                <a:lnTo>
                  <a:pt x="702" y="20"/>
                </a:lnTo>
                <a:lnTo>
                  <a:pt x="618" y="41"/>
                </a:lnTo>
                <a:lnTo>
                  <a:pt x="535" y="70"/>
                </a:lnTo>
                <a:lnTo>
                  <a:pt x="460" y="108"/>
                </a:lnTo>
                <a:lnTo>
                  <a:pt x="388" y="151"/>
                </a:lnTo>
                <a:lnTo>
                  <a:pt x="320" y="203"/>
                </a:lnTo>
                <a:lnTo>
                  <a:pt x="258" y="258"/>
                </a:lnTo>
                <a:lnTo>
                  <a:pt x="202" y="321"/>
                </a:lnTo>
                <a:lnTo>
                  <a:pt x="150" y="389"/>
                </a:lnTo>
                <a:lnTo>
                  <a:pt x="105" y="462"/>
                </a:lnTo>
                <a:lnTo>
                  <a:pt x="70" y="538"/>
                </a:lnTo>
                <a:lnTo>
                  <a:pt x="39" y="618"/>
                </a:lnTo>
                <a:lnTo>
                  <a:pt x="18" y="704"/>
                </a:lnTo>
                <a:lnTo>
                  <a:pt x="3" y="790"/>
                </a:lnTo>
                <a:lnTo>
                  <a:pt x="0" y="880"/>
                </a:lnTo>
                <a:lnTo>
                  <a:pt x="3" y="971"/>
                </a:lnTo>
                <a:lnTo>
                  <a:pt x="18" y="1057"/>
                </a:lnTo>
                <a:lnTo>
                  <a:pt x="39" y="1141"/>
                </a:lnTo>
                <a:lnTo>
                  <a:pt x="70" y="1222"/>
                </a:lnTo>
                <a:lnTo>
                  <a:pt x="105" y="1297"/>
                </a:lnTo>
                <a:lnTo>
                  <a:pt x="150" y="1371"/>
                </a:lnTo>
                <a:lnTo>
                  <a:pt x="202" y="1439"/>
                </a:lnTo>
                <a:lnTo>
                  <a:pt x="258" y="1502"/>
                </a:lnTo>
                <a:lnTo>
                  <a:pt x="320" y="1557"/>
                </a:lnTo>
                <a:lnTo>
                  <a:pt x="388" y="1609"/>
                </a:lnTo>
                <a:lnTo>
                  <a:pt x="460" y="1652"/>
                </a:lnTo>
                <a:lnTo>
                  <a:pt x="535" y="1690"/>
                </a:lnTo>
                <a:lnTo>
                  <a:pt x="618" y="1718"/>
                </a:lnTo>
                <a:lnTo>
                  <a:pt x="702" y="1742"/>
                </a:lnTo>
                <a:lnTo>
                  <a:pt x="788" y="1754"/>
                </a:lnTo>
                <a:lnTo>
                  <a:pt x="879" y="1760"/>
                </a:lnTo>
                <a:lnTo>
                  <a:pt x="969" y="1754"/>
                </a:lnTo>
                <a:lnTo>
                  <a:pt x="1055" y="1742"/>
                </a:lnTo>
                <a:lnTo>
                  <a:pt x="1139" y="1718"/>
                </a:lnTo>
                <a:lnTo>
                  <a:pt x="1221" y="1690"/>
                </a:lnTo>
                <a:lnTo>
                  <a:pt x="1297" y="1652"/>
                </a:lnTo>
                <a:lnTo>
                  <a:pt x="1370" y="1609"/>
                </a:lnTo>
                <a:lnTo>
                  <a:pt x="1438" y="1557"/>
                </a:lnTo>
                <a:lnTo>
                  <a:pt x="1499" y="1502"/>
                </a:lnTo>
                <a:lnTo>
                  <a:pt x="1556" y="1439"/>
                </a:lnTo>
                <a:lnTo>
                  <a:pt x="1608" y="1371"/>
                </a:lnTo>
                <a:lnTo>
                  <a:pt x="1651" y="1297"/>
                </a:lnTo>
                <a:lnTo>
                  <a:pt x="1687" y="1222"/>
                </a:lnTo>
                <a:lnTo>
                  <a:pt x="1718" y="1141"/>
                </a:lnTo>
                <a:lnTo>
                  <a:pt x="1739" y="1057"/>
                </a:lnTo>
                <a:lnTo>
                  <a:pt x="1753" y="971"/>
                </a:lnTo>
                <a:lnTo>
                  <a:pt x="1757" y="880"/>
                </a:lnTo>
                <a:lnTo>
                  <a:pt x="1684" y="880"/>
                </a:lnTo>
                <a:lnTo>
                  <a:pt x="1680" y="799"/>
                </a:lnTo>
                <a:lnTo>
                  <a:pt x="1667" y="719"/>
                </a:lnTo>
                <a:lnTo>
                  <a:pt x="1648" y="642"/>
                </a:lnTo>
                <a:lnTo>
                  <a:pt x="1619" y="566"/>
                </a:lnTo>
                <a:lnTo>
                  <a:pt x="1585" y="498"/>
                </a:lnTo>
                <a:lnTo>
                  <a:pt x="1546" y="430"/>
                </a:lnTo>
                <a:lnTo>
                  <a:pt x="1499" y="369"/>
                </a:lnTo>
                <a:lnTo>
                  <a:pt x="1447" y="310"/>
                </a:lnTo>
                <a:lnTo>
                  <a:pt x="1390" y="258"/>
                </a:lnTo>
                <a:lnTo>
                  <a:pt x="1327" y="213"/>
                </a:lnTo>
                <a:lnTo>
                  <a:pt x="1261" y="172"/>
                </a:lnTo>
                <a:lnTo>
                  <a:pt x="1191" y="138"/>
                </a:lnTo>
                <a:lnTo>
                  <a:pt x="1117" y="111"/>
                </a:lnTo>
                <a:lnTo>
                  <a:pt x="1040" y="92"/>
                </a:lnTo>
                <a:lnTo>
                  <a:pt x="960" y="79"/>
                </a:lnTo>
                <a:lnTo>
                  <a:pt x="879" y="75"/>
                </a:lnTo>
                <a:lnTo>
                  <a:pt x="797" y="79"/>
                </a:lnTo>
                <a:lnTo>
                  <a:pt x="718" y="92"/>
                </a:lnTo>
                <a:lnTo>
                  <a:pt x="639" y="111"/>
                </a:lnTo>
                <a:lnTo>
                  <a:pt x="566" y="138"/>
                </a:lnTo>
                <a:lnTo>
                  <a:pt x="496" y="172"/>
                </a:lnTo>
                <a:lnTo>
                  <a:pt x="430" y="213"/>
                </a:lnTo>
                <a:lnTo>
                  <a:pt x="367" y="258"/>
                </a:lnTo>
                <a:lnTo>
                  <a:pt x="310" y="310"/>
                </a:lnTo>
                <a:lnTo>
                  <a:pt x="258" y="369"/>
                </a:lnTo>
                <a:lnTo>
                  <a:pt x="211" y="430"/>
                </a:lnTo>
                <a:lnTo>
                  <a:pt x="172" y="498"/>
                </a:lnTo>
                <a:lnTo>
                  <a:pt x="138" y="566"/>
                </a:lnTo>
                <a:lnTo>
                  <a:pt x="109" y="642"/>
                </a:lnTo>
                <a:lnTo>
                  <a:pt x="89" y="719"/>
                </a:lnTo>
                <a:lnTo>
                  <a:pt x="78" y="799"/>
                </a:lnTo>
                <a:lnTo>
                  <a:pt x="73" y="880"/>
                </a:lnTo>
                <a:lnTo>
                  <a:pt x="78" y="960"/>
                </a:lnTo>
                <a:lnTo>
                  <a:pt x="89" y="1041"/>
                </a:lnTo>
                <a:lnTo>
                  <a:pt x="109" y="1118"/>
                </a:lnTo>
                <a:lnTo>
                  <a:pt x="138" y="1193"/>
                </a:lnTo>
                <a:lnTo>
                  <a:pt x="172" y="1261"/>
                </a:lnTo>
                <a:lnTo>
                  <a:pt x="211" y="1330"/>
                </a:lnTo>
                <a:lnTo>
                  <a:pt x="258" y="1390"/>
                </a:lnTo>
                <a:lnTo>
                  <a:pt x="310" y="1450"/>
                </a:lnTo>
                <a:lnTo>
                  <a:pt x="367" y="1502"/>
                </a:lnTo>
                <a:lnTo>
                  <a:pt x="430" y="1546"/>
                </a:lnTo>
                <a:lnTo>
                  <a:pt x="496" y="1588"/>
                </a:lnTo>
                <a:lnTo>
                  <a:pt x="566" y="1620"/>
                </a:lnTo>
                <a:lnTo>
                  <a:pt x="639" y="1648"/>
                </a:lnTo>
                <a:lnTo>
                  <a:pt x="718" y="1668"/>
                </a:lnTo>
                <a:lnTo>
                  <a:pt x="797" y="1681"/>
                </a:lnTo>
                <a:lnTo>
                  <a:pt x="879" y="1684"/>
                </a:lnTo>
                <a:lnTo>
                  <a:pt x="960" y="1681"/>
                </a:lnTo>
                <a:lnTo>
                  <a:pt x="1040" y="1668"/>
                </a:lnTo>
                <a:lnTo>
                  <a:pt x="1117" y="1648"/>
                </a:lnTo>
                <a:lnTo>
                  <a:pt x="1191" y="1620"/>
                </a:lnTo>
                <a:lnTo>
                  <a:pt x="1261" y="1588"/>
                </a:lnTo>
                <a:lnTo>
                  <a:pt x="1327" y="1546"/>
                </a:lnTo>
                <a:lnTo>
                  <a:pt x="1390" y="1502"/>
                </a:lnTo>
                <a:lnTo>
                  <a:pt x="1447" y="1450"/>
                </a:lnTo>
                <a:lnTo>
                  <a:pt x="1499" y="1390"/>
                </a:lnTo>
                <a:lnTo>
                  <a:pt x="1546" y="1330"/>
                </a:lnTo>
                <a:lnTo>
                  <a:pt x="1585" y="1261"/>
                </a:lnTo>
                <a:lnTo>
                  <a:pt x="1619" y="1193"/>
                </a:lnTo>
                <a:lnTo>
                  <a:pt x="1648" y="1118"/>
                </a:lnTo>
                <a:lnTo>
                  <a:pt x="1667" y="1041"/>
                </a:lnTo>
                <a:lnTo>
                  <a:pt x="1680" y="960"/>
                </a:lnTo>
                <a:lnTo>
                  <a:pt x="1684" y="880"/>
                </a:lnTo>
                <a:lnTo>
                  <a:pt x="1757" y="880"/>
                </a:lnTo>
                <a:close/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26"/>
          <p:cNvSpPr/>
          <p:nvPr/>
        </p:nvSpPr>
        <p:spPr>
          <a:xfrm>
            <a:off x="3303720" y="1666800"/>
            <a:ext cx="2558880" cy="2559240"/>
          </a:xfrm>
          <a:custGeom>
            <a:avLst/>
            <a:gdLst>
              <a:gd name="textAreaLeft" fmla="*/ 0 w 2558880"/>
              <a:gd name="textAreaRight" fmla="*/ 2559240 w 2558880"/>
              <a:gd name="textAreaTop" fmla="*/ 0 h 2559240"/>
              <a:gd name="textAreaBottom" fmla="*/ 2559240 h 2559240"/>
            </a:gdLst>
            <a:ahLst/>
            <a:rect l="textAreaLeft" t="textAreaTop" r="textAreaRight" b="textAreaBottom"/>
            <a:pathLst>
              <a:path w="1612" h="1612">
                <a:moveTo>
                  <a:pt x="1612" y="806"/>
                </a:moveTo>
                <a:lnTo>
                  <a:pt x="1607" y="723"/>
                </a:lnTo>
                <a:lnTo>
                  <a:pt x="1596" y="643"/>
                </a:lnTo>
                <a:lnTo>
                  <a:pt x="1576" y="566"/>
                </a:lnTo>
                <a:lnTo>
                  <a:pt x="1548" y="492"/>
                </a:lnTo>
                <a:lnTo>
                  <a:pt x="1514" y="422"/>
                </a:lnTo>
                <a:lnTo>
                  <a:pt x="1474" y="356"/>
                </a:lnTo>
                <a:lnTo>
                  <a:pt x="1428" y="293"/>
                </a:lnTo>
                <a:lnTo>
                  <a:pt x="1376" y="234"/>
                </a:lnTo>
                <a:lnTo>
                  <a:pt x="1319" y="184"/>
                </a:lnTo>
                <a:lnTo>
                  <a:pt x="1256" y="138"/>
                </a:lnTo>
                <a:lnTo>
                  <a:pt x="1190" y="98"/>
                </a:lnTo>
                <a:lnTo>
                  <a:pt x="1120" y="64"/>
                </a:lnTo>
                <a:lnTo>
                  <a:pt x="1046" y="35"/>
                </a:lnTo>
                <a:lnTo>
                  <a:pt x="969" y="16"/>
                </a:lnTo>
                <a:lnTo>
                  <a:pt x="889" y="5"/>
                </a:lnTo>
                <a:lnTo>
                  <a:pt x="806" y="0"/>
                </a:lnTo>
                <a:lnTo>
                  <a:pt x="722" y="5"/>
                </a:lnTo>
                <a:lnTo>
                  <a:pt x="643" y="16"/>
                </a:lnTo>
                <a:lnTo>
                  <a:pt x="564" y="35"/>
                </a:lnTo>
                <a:lnTo>
                  <a:pt x="491" y="64"/>
                </a:lnTo>
                <a:lnTo>
                  <a:pt x="421" y="98"/>
                </a:lnTo>
                <a:lnTo>
                  <a:pt x="355" y="138"/>
                </a:lnTo>
                <a:lnTo>
                  <a:pt x="292" y="184"/>
                </a:lnTo>
                <a:lnTo>
                  <a:pt x="237" y="234"/>
                </a:lnTo>
                <a:lnTo>
                  <a:pt x="183" y="293"/>
                </a:lnTo>
                <a:lnTo>
                  <a:pt x="138" y="356"/>
                </a:lnTo>
                <a:lnTo>
                  <a:pt x="97" y="422"/>
                </a:lnTo>
                <a:lnTo>
                  <a:pt x="63" y="492"/>
                </a:lnTo>
                <a:lnTo>
                  <a:pt x="34" y="566"/>
                </a:lnTo>
                <a:lnTo>
                  <a:pt x="16" y="643"/>
                </a:lnTo>
                <a:lnTo>
                  <a:pt x="4" y="723"/>
                </a:lnTo>
                <a:lnTo>
                  <a:pt x="0" y="806"/>
                </a:lnTo>
                <a:lnTo>
                  <a:pt x="4" y="888"/>
                </a:lnTo>
                <a:lnTo>
                  <a:pt x="16" y="969"/>
                </a:lnTo>
                <a:lnTo>
                  <a:pt x="34" y="1046"/>
                </a:lnTo>
                <a:lnTo>
                  <a:pt x="63" y="1119"/>
                </a:lnTo>
                <a:lnTo>
                  <a:pt x="97" y="1189"/>
                </a:lnTo>
                <a:lnTo>
                  <a:pt x="138" y="1256"/>
                </a:lnTo>
                <a:lnTo>
                  <a:pt x="183" y="1318"/>
                </a:lnTo>
                <a:lnTo>
                  <a:pt x="237" y="1376"/>
                </a:lnTo>
                <a:lnTo>
                  <a:pt x="292" y="1428"/>
                </a:lnTo>
                <a:lnTo>
                  <a:pt x="355" y="1474"/>
                </a:lnTo>
                <a:lnTo>
                  <a:pt x="421" y="1514"/>
                </a:lnTo>
                <a:lnTo>
                  <a:pt x="491" y="1548"/>
                </a:lnTo>
                <a:lnTo>
                  <a:pt x="564" y="1576"/>
                </a:lnTo>
                <a:lnTo>
                  <a:pt x="643" y="1596"/>
                </a:lnTo>
                <a:lnTo>
                  <a:pt x="722" y="1607"/>
                </a:lnTo>
                <a:lnTo>
                  <a:pt x="806" y="1612"/>
                </a:lnTo>
                <a:lnTo>
                  <a:pt x="889" y="1607"/>
                </a:lnTo>
                <a:lnTo>
                  <a:pt x="969" y="1596"/>
                </a:lnTo>
                <a:lnTo>
                  <a:pt x="1046" y="1576"/>
                </a:lnTo>
                <a:lnTo>
                  <a:pt x="1120" y="1548"/>
                </a:lnTo>
                <a:lnTo>
                  <a:pt x="1190" y="1514"/>
                </a:lnTo>
                <a:lnTo>
                  <a:pt x="1256" y="1474"/>
                </a:lnTo>
                <a:lnTo>
                  <a:pt x="1319" y="1428"/>
                </a:lnTo>
                <a:lnTo>
                  <a:pt x="1376" y="1376"/>
                </a:lnTo>
                <a:lnTo>
                  <a:pt x="1428" y="1318"/>
                </a:lnTo>
                <a:lnTo>
                  <a:pt x="1474" y="1256"/>
                </a:lnTo>
                <a:lnTo>
                  <a:pt x="1514" y="1189"/>
                </a:lnTo>
                <a:lnTo>
                  <a:pt x="1548" y="1119"/>
                </a:lnTo>
                <a:lnTo>
                  <a:pt x="1576" y="1046"/>
                </a:lnTo>
                <a:lnTo>
                  <a:pt x="1596" y="969"/>
                </a:lnTo>
                <a:lnTo>
                  <a:pt x="1607" y="888"/>
                </a:lnTo>
                <a:lnTo>
                  <a:pt x="1612" y="806"/>
                </a:lnTo>
                <a:lnTo>
                  <a:pt x="1537" y="806"/>
                </a:lnTo>
                <a:lnTo>
                  <a:pt x="1532" y="732"/>
                </a:lnTo>
                <a:lnTo>
                  <a:pt x="1521" y="659"/>
                </a:lnTo>
                <a:lnTo>
                  <a:pt x="1503" y="587"/>
                </a:lnTo>
                <a:lnTo>
                  <a:pt x="1478" y="521"/>
                </a:lnTo>
                <a:lnTo>
                  <a:pt x="1447" y="458"/>
                </a:lnTo>
                <a:lnTo>
                  <a:pt x="1412" y="397"/>
                </a:lnTo>
                <a:lnTo>
                  <a:pt x="1369" y="342"/>
                </a:lnTo>
                <a:lnTo>
                  <a:pt x="1324" y="288"/>
                </a:lnTo>
                <a:lnTo>
                  <a:pt x="1270" y="243"/>
                </a:lnTo>
                <a:lnTo>
                  <a:pt x="1215" y="200"/>
                </a:lnTo>
                <a:lnTo>
                  <a:pt x="1154" y="164"/>
                </a:lnTo>
                <a:lnTo>
                  <a:pt x="1091" y="134"/>
                </a:lnTo>
                <a:lnTo>
                  <a:pt x="1023" y="107"/>
                </a:lnTo>
                <a:lnTo>
                  <a:pt x="953" y="91"/>
                </a:lnTo>
                <a:lnTo>
                  <a:pt x="880" y="80"/>
                </a:lnTo>
                <a:lnTo>
                  <a:pt x="806" y="75"/>
                </a:lnTo>
                <a:lnTo>
                  <a:pt x="731" y="80"/>
                </a:lnTo>
                <a:lnTo>
                  <a:pt x="659" y="91"/>
                </a:lnTo>
                <a:lnTo>
                  <a:pt x="588" y="107"/>
                </a:lnTo>
                <a:lnTo>
                  <a:pt x="521" y="134"/>
                </a:lnTo>
                <a:lnTo>
                  <a:pt x="457" y="164"/>
                </a:lnTo>
                <a:lnTo>
                  <a:pt x="396" y="200"/>
                </a:lnTo>
                <a:lnTo>
                  <a:pt x="342" y="243"/>
                </a:lnTo>
                <a:lnTo>
                  <a:pt x="290" y="288"/>
                </a:lnTo>
                <a:lnTo>
                  <a:pt x="242" y="342"/>
                </a:lnTo>
                <a:lnTo>
                  <a:pt x="199" y="397"/>
                </a:lnTo>
                <a:lnTo>
                  <a:pt x="163" y="458"/>
                </a:lnTo>
                <a:lnTo>
                  <a:pt x="133" y="521"/>
                </a:lnTo>
                <a:lnTo>
                  <a:pt x="108" y="587"/>
                </a:lnTo>
                <a:lnTo>
                  <a:pt x="90" y="659"/>
                </a:lnTo>
                <a:lnTo>
                  <a:pt x="79" y="732"/>
                </a:lnTo>
                <a:lnTo>
                  <a:pt x="75" y="806"/>
                </a:lnTo>
                <a:lnTo>
                  <a:pt x="79" y="879"/>
                </a:lnTo>
                <a:lnTo>
                  <a:pt x="90" y="953"/>
                </a:lnTo>
                <a:lnTo>
                  <a:pt x="108" y="1024"/>
                </a:lnTo>
                <a:lnTo>
                  <a:pt x="133" y="1091"/>
                </a:lnTo>
                <a:lnTo>
                  <a:pt x="163" y="1153"/>
                </a:lnTo>
                <a:lnTo>
                  <a:pt x="199" y="1214"/>
                </a:lnTo>
                <a:lnTo>
                  <a:pt x="242" y="1270"/>
                </a:lnTo>
                <a:lnTo>
                  <a:pt x="290" y="1322"/>
                </a:lnTo>
                <a:lnTo>
                  <a:pt x="342" y="1368"/>
                </a:lnTo>
                <a:lnTo>
                  <a:pt x="396" y="1411"/>
                </a:lnTo>
                <a:lnTo>
                  <a:pt x="457" y="1447"/>
                </a:lnTo>
                <a:lnTo>
                  <a:pt x="521" y="1479"/>
                </a:lnTo>
                <a:lnTo>
                  <a:pt x="588" y="1505"/>
                </a:lnTo>
                <a:lnTo>
                  <a:pt x="659" y="1521"/>
                </a:lnTo>
                <a:lnTo>
                  <a:pt x="731" y="1531"/>
                </a:lnTo>
                <a:lnTo>
                  <a:pt x="806" y="1537"/>
                </a:lnTo>
                <a:lnTo>
                  <a:pt x="880" y="1531"/>
                </a:lnTo>
                <a:lnTo>
                  <a:pt x="953" y="1521"/>
                </a:lnTo>
                <a:lnTo>
                  <a:pt x="1023" y="1505"/>
                </a:lnTo>
                <a:lnTo>
                  <a:pt x="1091" y="1479"/>
                </a:lnTo>
                <a:lnTo>
                  <a:pt x="1154" y="1447"/>
                </a:lnTo>
                <a:lnTo>
                  <a:pt x="1215" y="1411"/>
                </a:lnTo>
                <a:lnTo>
                  <a:pt x="1270" y="1368"/>
                </a:lnTo>
                <a:lnTo>
                  <a:pt x="1324" y="1322"/>
                </a:lnTo>
                <a:lnTo>
                  <a:pt x="1369" y="1270"/>
                </a:lnTo>
                <a:lnTo>
                  <a:pt x="1412" y="1214"/>
                </a:lnTo>
                <a:lnTo>
                  <a:pt x="1447" y="1153"/>
                </a:lnTo>
                <a:lnTo>
                  <a:pt x="1478" y="1091"/>
                </a:lnTo>
                <a:lnTo>
                  <a:pt x="1503" y="1024"/>
                </a:lnTo>
                <a:lnTo>
                  <a:pt x="1521" y="953"/>
                </a:lnTo>
                <a:lnTo>
                  <a:pt x="1532" y="879"/>
                </a:lnTo>
                <a:lnTo>
                  <a:pt x="1537" y="806"/>
                </a:lnTo>
                <a:lnTo>
                  <a:pt x="1612" y="806"/>
                </a:lnTo>
                <a:close/>
              </a:path>
            </a:pathLst>
          </a:cu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reeform 27"/>
          <p:cNvSpPr/>
          <p:nvPr/>
        </p:nvSpPr>
        <p:spPr>
          <a:xfrm>
            <a:off x="3421080" y="1782720"/>
            <a:ext cx="2322360" cy="2327400"/>
          </a:xfrm>
          <a:custGeom>
            <a:avLst/>
            <a:gdLst>
              <a:gd name="textAreaLeft" fmla="*/ 0 w 2322360"/>
              <a:gd name="textAreaRight" fmla="*/ 2322720 w 2322360"/>
              <a:gd name="textAreaTop" fmla="*/ 0 h 2327400"/>
              <a:gd name="textAreaBottom" fmla="*/ 2327760 h 2327400"/>
            </a:gdLst>
            <a:ahLst/>
            <a:rect l="textAreaLeft" t="textAreaTop" r="textAreaRight" b="textAreaBottom"/>
            <a:pathLst>
              <a:path w="1463" h="1466">
                <a:moveTo>
                  <a:pt x="1463" y="733"/>
                </a:moveTo>
                <a:lnTo>
                  <a:pt x="1459" y="659"/>
                </a:lnTo>
                <a:lnTo>
                  <a:pt x="1449" y="586"/>
                </a:lnTo>
                <a:lnTo>
                  <a:pt x="1431" y="514"/>
                </a:lnTo>
                <a:lnTo>
                  <a:pt x="1406" y="448"/>
                </a:lnTo>
                <a:lnTo>
                  <a:pt x="1375" y="385"/>
                </a:lnTo>
                <a:lnTo>
                  <a:pt x="1338" y="324"/>
                </a:lnTo>
                <a:lnTo>
                  <a:pt x="1296" y="267"/>
                </a:lnTo>
                <a:lnTo>
                  <a:pt x="1250" y="215"/>
                </a:lnTo>
                <a:lnTo>
                  <a:pt x="1196" y="168"/>
                </a:lnTo>
                <a:lnTo>
                  <a:pt x="1141" y="127"/>
                </a:lnTo>
                <a:lnTo>
                  <a:pt x="1080" y="90"/>
                </a:lnTo>
                <a:lnTo>
                  <a:pt x="1017" y="59"/>
                </a:lnTo>
                <a:lnTo>
                  <a:pt x="949" y="34"/>
                </a:lnTo>
                <a:lnTo>
                  <a:pt x="879" y="16"/>
                </a:lnTo>
                <a:lnTo>
                  <a:pt x="806" y="5"/>
                </a:lnTo>
                <a:lnTo>
                  <a:pt x="732" y="0"/>
                </a:lnTo>
                <a:lnTo>
                  <a:pt x="657" y="5"/>
                </a:lnTo>
                <a:lnTo>
                  <a:pt x="585" y="16"/>
                </a:lnTo>
                <a:lnTo>
                  <a:pt x="514" y="34"/>
                </a:lnTo>
                <a:lnTo>
                  <a:pt x="447" y="59"/>
                </a:lnTo>
                <a:lnTo>
                  <a:pt x="383" y="90"/>
                </a:lnTo>
                <a:lnTo>
                  <a:pt x="322" y="127"/>
                </a:lnTo>
                <a:lnTo>
                  <a:pt x="266" y="168"/>
                </a:lnTo>
                <a:lnTo>
                  <a:pt x="215" y="215"/>
                </a:lnTo>
                <a:lnTo>
                  <a:pt x="166" y="267"/>
                </a:lnTo>
                <a:lnTo>
                  <a:pt x="125" y="324"/>
                </a:lnTo>
                <a:lnTo>
                  <a:pt x="89" y="385"/>
                </a:lnTo>
                <a:lnTo>
                  <a:pt x="57" y="448"/>
                </a:lnTo>
                <a:lnTo>
                  <a:pt x="32" y="514"/>
                </a:lnTo>
                <a:lnTo>
                  <a:pt x="14" y="586"/>
                </a:lnTo>
                <a:lnTo>
                  <a:pt x="3" y="659"/>
                </a:lnTo>
                <a:lnTo>
                  <a:pt x="0" y="733"/>
                </a:lnTo>
                <a:lnTo>
                  <a:pt x="3" y="806"/>
                </a:lnTo>
                <a:lnTo>
                  <a:pt x="14" y="880"/>
                </a:lnTo>
                <a:lnTo>
                  <a:pt x="32" y="951"/>
                </a:lnTo>
                <a:lnTo>
                  <a:pt x="57" y="1018"/>
                </a:lnTo>
                <a:lnTo>
                  <a:pt x="89" y="1080"/>
                </a:lnTo>
                <a:lnTo>
                  <a:pt x="125" y="1141"/>
                </a:lnTo>
                <a:lnTo>
                  <a:pt x="166" y="1199"/>
                </a:lnTo>
                <a:lnTo>
                  <a:pt x="215" y="1251"/>
                </a:lnTo>
                <a:lnTo>
                  <a:pt x="266" y="1297"/>
                </a:lnTo>
                <a:lnTo>
                  <a:pt x="322" y="1338"/>
                </a:lnTo>
                <a:lnTo>
                  <a:pt x="383" y="1376"/>
                </a:lnTo>
                <a:lnTo>
                  <a:pt x="447" y="1406"/>
                </a:lnTo>
                <a:lnTo>
                  <a:pt x="514" y="1432"/>
                </a:lnTo>
                <a:lnTo>
                  <a:pt x="585" y="1449"/>
                </a:lnTo>
                <a:lnTo>
                  <a:pt x="657" y="1460"/>
                </a:lnTo>
                <a:lnTo>
                  <a:pt x="732" y="1466"/>
                </a:lnTo>
                <a:lnTo>
                  <a:pt x="806" y="1460"/>
                </a:lnTo>
                <a:lnTo>
                  <a:pt x="879" y="1449"/>
                </a:lnTo>
                <a:lnTo>
                  <a:pt x="949" y="1432"/>
                </a:lnTo>
                <a:lnTo>
                  <a:pt x="1017" y="1406"/>
                </a:lnTo>
                <a:lnTo>
                  <a:pt x="1080" y="1376"/>
                </a:lnTo>
                <a:lnTo>
                  <a:pt x="1141" y="1338"/>
                </a:lnTo>
                <a:lnTo>
                  <a:pt x="1196" y="1297"/>
                </a:lnTo>
                <a:lnTo>
                  <a:pt x="1250" y="1251"/>
                </a:lnTo>
                <a:lnTo>
                  <a:pt x="1296" y="1199"/>
                </a:lnTo>
                <a:lnTo>
                  <a:pt x="1338" y="1141"/>
                </a:lnTo>
                <a:lnTo>
                  <a:pt x="1375" y="1080"/>
                </a:lnTo>
                <a:lnTo>
                  <a:pt x="1406" y="1018"/>
                </a:lnTo>
                <a:lnTo>
                  <a:pt x="1431" y="951"/>
                </a:lnTo>
                <a:lnTo>
                  <a:pt x="1449" y="880"/>
                </a:lnTo>
                <a:lnTo>
                  <a:pt x="1459" y="806"/>
                </a:lnTo>
                <a:lnTo>
                  <a:pt x="1463" y="733"/>
                </a:lnTo>
                <a:lnTo>
                  <a:pt x="1390" y="733"/>
                </a:lnTo>
                <a:lnTo>
                  <a:pt x="1386" y="667"/>
                </a:lnTo>
                <a:lnTo>
                  <a:pt x="1377" y="600"/>
                </a:lnTo>
                <a:lnTo>
                  <a:pt x="1361" y="538"/>
                </a:lnTo>
                <a:lnTo>
                  <a:pt x="1338" y="477"/>
                </a:lnTo>
                <a:lnTo>
                  <a:pt x="1309" y="419"/>
                </a:lnTo>
                <a:lnTo>
                  <a:pt x="1277" y="366"/>
                </a:lnTo>
                <a:lnTo>
                  <a:pt x="1239" y="315"/>
                </a:lnTo>
                <a:lnTo>
                  <a:pt x="1196" y="267"/>
                </a:lnTo>
                <a:lnTo>
                  <a:pt x="1150" y="224"/>
                </a:lnTo>
                <a:lnTo>
                  <a:pt x="1099" y="188"/>
                </a:lnTo>
                <a:lnTo>
                  <a:pt x="1046" y="156"/>
                </a:lnTo>
                <a:lnTo>
                  <a:pt x="988" y="127"/>
                </a:lnTo>
                <a:lnTo>
                  <a:pt x="927" y="104"/>
                </a:lnTo>
                <a:lnTo>
                  <a:pt x="863" y="88"/>
                </a:lnTo>
                <a:lnTo>
                  <a:pt x="798" y="77"/>
                </a:lnTo>
                <a:lnTo>
                  <a:pt x="732" y="75"/>
                </a:lnTo>
                <a:lnTo>
                  <a:pt x="664" y="77"/>
                </a:lnTo>
                <a:lnTo>
                  <a:pt x="600" y="88"/>
                </a:lnTo>
                <a:lnTo>
                  <a:pt x="535" y="104"/>
                </a:lnTo>
                <a:lnTo>
                  <a:pt x="474" y="127"/>
                </a:lnTo>
                <a:lnTo>
                  <a:pt x="417" y="156"/>
                </a:lnTo>
                <a:lnTo>
                  <a:pt x="363" y="188"/>
                </a:lnTo>
                <a:lnTo>
                  <a:pt x="313" y="224"/>
                </a:lnTo>
                <a:lnTo>
                  <a:pt x="266" y="267"/>
                </a:lnTo>
                <a:lnTo>
                  <a:pt x="223" y="315"/>
                </a:lnTo>
                <a:lnTo>
                  <a:pt x="186" y="366"/>
                </a:lnTo>
                <a:lnTo>
                  <a:pt x="154" y="419"/>
                </a:lnTo>
                <a:lnTo>
                  <a:pt x="125" y="477"/>
                </a:lnTo>
                <a:lnTo>
                  <a:pt x="103" y="538"/>
                </a:lnTo>
                <a:lnTo>
                  <a:pt x="87" y="600"/>
                </a:lnTo>
                <a:lnTo>
                  <a:pt x="77" y="667"/>
                </a:lnTo>
                <a:lnTo>
                  <a:pt x="73" y="733"/>
                </a:lnTo>
                <a:lnTo>
                  <a:pt x="77" y="799"/>
                </a:lnTo>
                <a:lnTo>
                  <a:pt x="87" y="865"/>
                </a:lnTo>
                <a:lnTo>
                  <a:pt x="103" y="928"/>
                </a:lnTo>
                <a:lnTo>
                  <a:pt x="125" y="989"/>
                </a:lnTo>
                <a:lnTo>
                  <a:pt x="154" y="1046"/>
                </a:lnTo>
                <a:lnTo>
                  <a:pt x="186" y="1100"/>
                </a:lnTo>
                <a:lnTo>
                  <a:pt x="223" y="1150"/>
                </a:lnTo>
                <a:lnTo>
                  <a:pt x="266" y="1199"/>
                </a:lnTo>
                <a:lnTo>
                  <a:pt x="313" y="1242"/>
                </a:lnTo>
                <a:lnTo>
                  <a:pt x="363" y="1277"/>
                </a:lnTo>
                <a:lnTo>
                  <a:pt x="417" y="1312"/>
                </a:lnTo>
                <a:lnTo>
                  <a:pt x="474" y="1338"/>
                </a:lnTo>
                <a:lnTo>
                  <a:pt x="535" y="1362"/>
                </a:lnTo>
                <a:lnTo>
                  <a:pt x="600" y="1378"/>
                </a:lnTo>
                <a:lnTo>
                  <a:pt x="664" y="1389"/>
                </a:lnTo>
                <a:lnTo>
                  <a:pt x="732" y="1390"/>
                </a:lnTo>
                <a:lnTo>
                  <a:pt x="798" y="1389"/>
                </a:lnTo>
                <a:lnTo>
                  <a:pt x="863" y="1378"/>
                </a:lnTo>
                <a:lnTo>
                  <a:pt x="927" y="1362"/>
                </a:lnTo>
                <a:lnTo>
                  <a:pt x="988" y="1338"/>
                </a:lnTo>
                <a:lnTo>
                  <a:pt x="1046" y="1312"/>
                </a:lnTo>
                <a:lnTo>
                  <a:pt x="1099" y="1277"/>
                </a:lnTo>
                <a:lnTo>
                  <a:pt x="1150" y="1242"/>
                </a:lnTo>
                <a:lnTo>
                  <a:pt x="1196" y="1199"/>
                </a:lnTo>
                <a:lnTo>
                  <a:pt x="1239" y="1150"/>
                </a:lnTo>
                <a:lnTo>
                  <a:pt x="1277" y="1100"/>
                </a:lnTo>
                <a:lnTo>
                  <a:pt x="1309" y="1046"/>
                </a:lnTo>
                <a:lnTo>
                  <a:pt x="1338" y="989"/>
                </a:lnTo>
                <a:lnTo>
                  <a:pt x="1361" y="928"/>
                </a:lnTo>
                <a:lnTo>
                  <a:pt x="1377" y="865"/>
                </a:lnTo>
                <a:lnTo>
                  <a:pt x="1386" y="799"/>
                </a:lnTo>
                <a:lnTo>
                  <a:pt x="1390" y="733"/>
                </a:lnTo>
                <a:lnTo>
                  <a:pt x="1463" y="733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28"/>
          <p:cNvSpPr/>
          <p:nvPr/>
        </p:nvSpPr>
        <p:spPr>
          <a:xfrm>
            <a:off x="3533760" y="1900080"/>
            <a:ext cx="2095560" cy="2092320"/>
          </a:xfrm>
          <a:custGeom>
            <a:avLst/>
            <a:gdLst>
              <a:gd name="textAreaLeft" fmla="*/ 0 w 2095560"/>
              <a:gd name="textAreaRight" fmla="*/ 2095560 w 2095560"/>
              <a:gd name="textAreaTop" fmla="*/ 0 h 2092320"/>
              <a:gd name="textAreaBottom" fmla="*/ 2092680 h 2092320"/>
            </a:gdLst>
            <a:ahLst/>
            <a:rect l="textAreaLeft" t="textAreaTop" r="textAreaRight" b="textAreaBottom"/>
            <a:pathLst>
              <a:path w="1320" h="1318">
                <a:moveTo>
                  <a:pt x="1320" y="659"/>
                </a:moveTo>
                <a:lnTo>
                  <a:pt x="1317" y="593"/>
                </a:lnTo>
                <a:lnTo>
                  <a:pt x="1306" y="526"/>
                </a:lnTo>
                <a:lnTo>
                  <a:pt x="1290" y="464"/>
                </a:lnTo>
                <a:lnTo>
                  <a:pt x="1268" y="403"/>
                </a:lnTo>
                <a:lnTo>
                  <a:pt x="1240" y="345"/>
                </a:lnTo>
                <a:lnTo>
                  <a:pt x="1208" y="292"/>
                </a:lnTo>
                <a:lnTo>
                  <a:pt x="1168" y="240"/>
                </a:lnTo>
                <a:lnTo>
                  <a:pt x="1125" y="193"/>
                </a:lnTo>
                <a:lnTo>
                  <a:pt x="1080" y="150"/>
                </a:lnTo>
                <a:lnTo>
                  <a:pt x="1028" y="112"/>
                </a:lnTo>
                <a:lnTo>
                  <a:pt x="975" y="80"/>
                </a:lnTo>
                <a:lnTo>
                  <a:pt x="917" y="51"/>
                </a:lnTo>
                <a:lnTo>
                  <a:pt x="856" y="28"/>
                </a:lnTo>
                <a:lnTo>
                  <a:pt x="792" y="12"/>
                </a:lnTo>
                <a:lnTo>
                  <a:pt x="727" y="3"/>
                </a:lnTo>
                <a:lnTo>
                  <a:pt x="661" y="0"/>
                </a:lnTo>
                <a:lnTo>
                  <a:pt x="593" y="3"/>
                </a:lnTo>
                <a:lnTo>
                  <a:pt x="529" y="12"/>
                </a:lnTo>
                <a:lnTo>
                  <a:pt x="464" y="28"/>
                </a:lnTo>
                <a:lnTo>
                  <a:pt x="403" y="51"/>
                </a:lnTo>
                <a:lnTo>
                  <a:pt x="346" y="80"/>
                </a:lnTo>
                <a:lnTo>
                  <a:pt x="292" y="112"/>
                </a:lnTo>
                <a:lnTo>
                  <a:pt x="242" y="150"/>
                </a:lnTo>
                <a:lnTo>
                  <a:pt x="195" y="193"/>
                </a:lnTo>
                <a:lnTo>
                  <a:pt x="152" y="240"/>
                </a:lnTo>
                <a:lnTo>
                  <a:pt x="113" y="292"/>
                </a:lnTo>
                <a:lnTo>
                  <a:pt x="81" y="345"/>
                </a:lnTo>
                <a:lnTo>
                  <a:pt x="54" y="403"/>
                </a:lnTo>
                <a:lnTo>
                  <a:pt x="31" y="464"/>
                </a:lnTo>
                <a:lnTo>
                  <a:pt x="15" y="526"/>
                </a:lnTo>
                <a:lnTo>
                  <a:pt x="4" y="593"/>
                </a:lnTo>
                <a:lnTo>
                  <a:pt x="0" y="659"/>
                </a:lnTo>
                <a:lnTo>
                  <a:pt x="4" y="725"/>
                </a:lnTo>
                <a:lnTo>
                  <a:pt x="15" y="791"/>
                </a:lnTo>
                <a:lnTo>
                  <a:pt x="31" y="854"/>
                </a:lnTo>
                <a:lnTo>
                  <a:pt x="54" y="915"/>
                </a:lnTo>
                <a:lnTo>
                  <a:pt x="81" y="972"/>
                </a:lnTo>
                <a:lnTo>
                  <a:pt x="113" y="1026"/>
                </a:lnTo>
                <a:lnTo>
                  <a:pt x="152" y="1078"/>
                </a:lnTo>
                <a:lnTo>
                  <a:pt x="195" y="1125"/>
                </a:lnTo>
                <a:lnTo>
                  <a:pt x="242" y="1168"/>
                </a:lnTo>
                <a:lnTo>
                  <a:pt x="292" y="1205"/>
                </a:lnTo>
                <a:lnTo>
                  <a:pt x="346" y="1238"/>
                </a:lnTo>
                <a:lnTo>
                  <a:pt x="403" y="1266"/>
                </a:lnTo>
                <a:lnTo>
                  <a:pt x="464" y="1288"/>
                </a:lnTo>
                <a:lnTo>
                  <a:pt x="529" y="1306"/>
                </a:lnTo>
                <a:lnTo>
                  <a:pt x="593" y="1315"/>
                </a:lnTo>
                <a:lnTo>
                  <a:pt x="661" y="1318"/>
                </a:lnTo>
                <a:lnTo>
                  <a:pt x="727" y="1315"/>
                </a:lnTo>
                <a:lnTo>
                  <a:pt x="792" y="1306"/>
                </a:lnTo>
                <a:lnTo>
                  <a:pt x="856" y="1288"/>
                </a:lnTo>
                <a:lnTo>
                  <a:pt x="917" y="1266"/>
                </a:lnTo>
                <a:lnTo>
                  <a:pt x="975" y="1238"/>
                </a:lnTo>
                <a:lnTo>
                  <a:pt x="1028" y="1205"/>
                </a:lnTo>
                <a:lnTo>
                  <a:pt x="1080" y="1168"/>
                </a:lnTo>
                <a:lnTo>
                  <a:pt x="1125" y="1125"/>
                </a:lnTo>
                <a:lnTo>
                  <a:pt x="1168" y="1078"/>
                </a:lnTo>
                <a:lnTo>
                  <a:pt x="1208" y="1026"/>
                </a:lnTo>
                <a:lnTo>
                  <a:pt x="1240" y="972"/>
                </a:lnTo>
                <a:lnTo>
                  <a:pt x="1268" y="915"/>
                </a:lnTo>
                <a:lnTo>
                  <a:pt x="1290" y="854"/>
                </a:lnTo>
                <a:lnTo>
                  <a:pt x="1306" y="791"/>
                </a:lnTo>
                <a:lnTo>
                  <a:pt x="1317" y="725"/>
                </a:lnTo>
                <a:lnTo>
                  <a:pt x="1320" y="659"/>
                </a:lnTo>
                <a:lnTo>
                  <a:pt x="1245" y="659"/>
                </a:lnTo>
                <a:lnTo>
                  <a:pt x="1243" y="600"/>
                </a:lnTo>
                <a:lnTo>
                  <a:pt x="1234" y="541"/>
                </a:lnTo>
                <a:lnTo>
                  <a:pt x="1220" y="485"/>
                </a:lnTo>
                <a:lnTo>
                  <a:pt x="1200" y="431"/>
                </a:lnTo>
                <a:lnTo>
                  <a:pt x="1175" y="381"/>
                </a:lnTo>
                <a:lnTo>
                  <a:pt x="1147" y="331"/>
                </a:lnTo>
                <a:lnTo>
                  <a:pt x="1113" y="286"/>
                </a:lnTo>
                <a:lnTo>
                  <a:pt x="1073" y="245"/>
                </a:lnTo>
                <a:lnTo>
                  <a:pt x="1032" y="207"/>
                </a:lnTo>
                <a:lnTo>
                  <a:pt x="987" y="173"/>
                </a:lnTo>
                <a:lnTo>
                  <a:pt x="939" y="145"/>
                </a:lnTo>
                <a:lnTo>
                  <a:pt x="889" y="120"/>
                </a:lnTo>
                <a:lnTo>
                  <a:pt x="835" y="100"/>
                </a:lnTo>
                <a:lnTo>
                  <a:pt x="779" y="86"/>
                </a:lnTo>
                <a:lnTo>
                  <a:pt x="720" y="77"/>
                </a:lnTo>
                <a:lnTo>
                  <a:pt x="661" y="73"/>
                </a:lnTo>
                <a:lnTo>
                  <a:pt x="602" y="77"/>
                </a:lnTo>
                <a:lnTo>
                  <a:pt x="541" y="86"/>
                </a:lnTo>
                <a:lnTo>
                  <a:pt x="487" y="100"/>
                </a:lnTo>
                <a:lnTo>
                  <a:pt x="432" y="120"/>
                </a:lnTo>
                <a:lnTo>
                  <a:pt x="382" y="145"/>
                </a:lnTo>
                <a:lnTo>
                  <a:pt x="333" y="173"/>
                </a:lnTo>
                <a:lnTo>
                  <a:pt x="289" y="207"/>
                </a:lnTo>
                <a:lnTo>
                  <a:pt x="247" y="245"/>
                </a:lnTo>
                <a:lnTo>
                  <a:pt x="208" y="286"/>
                </a:lnTo>
                <a:lnTo>
                  <a:pt x="176" y="331"/>
                </a:lnTo>
                <a:lnTo>
                  <a:pt x="145" y="381"/>
                </a:lnTo>
                <a:lnTo>
                  <a:pt x="120" y="431"/>
                </a:lnTo>
                <a:lnTo>
                  <a:pt x="102" y="485"/>
                </a:lnTo>
                <a:lnTo>
                  <a:pt x="86" y="541"/>
                </a:lnTo>
                <a:lnTo>
                  <a:pt x="79" y="600"/>
                </a:lnTo>
                <a:lnTo>
                  <a:pt x="75" y="659"/>
                </a:lnTo>
                <a:lnTo>
                  <a:pt x="79" y="718"/>
                </a:lnTo>
                <a:lnTo>
                  <a:pt x="86" y="777"/>
                </a:lnTo>
                <a:lnTo>
                  <a:pt x="102" y="833"/>
                </a:lnTo>
                <a:lnTo>
                  <a:pt x="120" y="886"/>
                </a:lnTo>
                <a:lnTo>
                  <a:pt x="145" y="938"/>
                </a:lnTo>
                <a:lnTo>
                  <a:pt x="176" y="987"/>
                </a:lnTo>
                <a:lnTo>
                  <a:pt x="208" y="1031"/>
                </a:lnTo>
                <a:lnTo>
                  <a:pt x="247" y="1073"/>
                </a:lnTo>
                <a:lnTo>
                  <a:pt x="289" y="1110"/>
                </a:lnTo>
                <a:lnTo>
                  <a:pt x="333" y="1144"/>
                </a:lnTo>
                <a:lnTo>
                  <a:pt x="382" y="1173"/>
                </a:lnTo>
                <a:lnTo>
                  <a:pt x="432" y="1198"/>
                </a:lnTo>
                <a:lnTo>
                  <a:pt x="487" y="1218"/>
                </a:lnTo>
                <a:lnTo>
                  <a:pt x="541" y="1232"/>
                </a:lnTo>
                <a:lnTo>
                  <a:pt x="602" y="1241"/>
                </a:lnTo>
                <a:lnTo>
                  <a:pt x="661" y="1245"/>
                </a:lnTo>
                <a:lnTo>
                  <a:pt x="720" y="1241"/>
                </a:lnTo>
                <a:lnTo>
                  <a:pt x="779" y="1232"/>
                </a:lnTo>
                <a:lnTo>
                  <a:pt x="835" y="1218"/>
                </a:lnTo>
                <a:lnTo>
                  <a:pt x="889" y="1198"/>
                </a:lnTo>
                <a:lnTo>
                  <a:pt x="939" y="1173"/>
                </a:lnTo>
                <a:lnTo>
                  <a:pt x="987" y="1144"/>
                </a:lnTo>
                <a:lnTo>
                  <a:pt x="1032" y="1110"/>
                </a:lnTo>
                <a:lnTo>
                  <a:pt x="1073" y="1073"/>
                </a:lnTo>
                <a:lnTo>
                  <a:pt x="1113" y="1031"/>
                </a:lnTo>
                <a:lnTo>
                  <a:pt x="1147" y="987"/>
                </a:lnTo>
                <a:lnTo>
                  <a:pt x="1175" y="938"/>
                </a:lnTo>
                <a:lnTo>
                  <a:pt x="1200" y="886"/>
                </a:lnTo>
                <a:lnTo>
                  <a:pt x="1220" y="833"/>
                </a:lnTo>
                <a:lnTo>
                  <a:pt x="1234" y="777"/>
                </a:lnTo>
                <a:lnTo>
                  <a:pt x="1243" y="718"/>
                </a:lnTo>
                <a:lnTo>
                  <a:pt x="1245" y="659"/>
                </a:lnTo>
                <a:lnTo>
                  <a:pt x="1320" y="659"/>
                </a:lnTo>
                <a:close/>
              </a:path>
            </a:pathLst>
          </a:cu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29"/>
          <p:cNvSpPr/>
          <p:nvPr/>
        </p:nvSpPr>
        <p:spPr>
          <a:xfrm>
            <a:off x="3651120" y="2016000"/>
            <a:ext cx="1862280" cy="1862280"/>
          </a:xfrm>
          <a:custGeom>
            <a:avLst/>
            <a:gdLst>
              <a:gd name="textAreaLeft" fmla="*/ 0 w 1862280"/>
              <a:gd name="textAreaRight" fmla="*/ 1862640 w 1862280"/>
              <a:gd name="textAreaTop" fmla="*/ 0 h 1862280"/>
              <a:gd name="textAreaBottom" fmla="*/ 1862640 h 1862280"/>
            </a:gdLst>
            <a:ahLst/>
            <a:rect l="textAreaLeft" t="textAreaTop" r="textAreaRight" b="textAreaBottom"/>
            <a:pathLst>
              <a:path w="1173" h="1173">
                <a:moveTo>
                  <a:pt x="1173" y="586"/>
                </a:moveTo>
                <a:lnTo>
                  <a:pt x="1171" y="527"/>
                </a:lnTo>
                <a:lnTo>
                  <a:pt x="1162" y="468"/>
                </a:lnTo>
                <a:lnTo>
                  <a:pt x="1146" y="412"/>
                </a:lnTo>
                <a:lnTo>
                  <a:pt x="1128" y="358"/>
                </a:lnTo>
                <a:lnTo>
                  <a:pt x="1103" y="308"/>
                </a:lnTo>
                <a:lnTo>
                  <a:pt x="1073" y="258"/>
                </a:lnTo>
                <a:lnTo>
                  <a:pt x="1039" y="213"/>
                </a:lnTo>
                <a:lnTo>
                  <a:pt x="1001" y="170"/>
                </a:lnTo>
                <a:lnTo>
                  <a:pt x="960" y="134"/>
                </a:lnTo>
                <a:lnTo>
                  <a:pt x="913" y="100"/>
                </a:lnTo>
                <a:lnTo>
                  <a:pt x="865" y="70"/>
                </a:lnTo>
                <a:lnTo>
                  <a:pt x="815" y="45"/>
                </a:lnTo>
                <a:lnTo>
                  <a:pt x="761" y="25"/>
                </a:lnTo>
                <a:lnTo>
                  <a:pt x="705" y="11"/>
                </a:lnTo>
                <a:lnTo>
                  <a:pt x="646" y="2"/>
                </a:lnTo>
                <a:lnTo>
                  <a:pt x="587" y="0"/>
                </a:lnTo>
                <a:lnTo>
                  <a:pt x="528" y="2"/>
                </a:lnTo>
                <a:lnTo>
                  <a:pt x="467" y="11"/>
                </a:lnTo>
                <a:lnTo>
                  <a:pt x="413" y="25"/>
                </a:lnTo>
                <a:lnTo>
                  <a:pt x="358" y="45"/>
                </a:lnTo>
                <a:lnTo>
                  <a:pt x="308" y="70"/>
                </a:lnTo>
                <a:lnTo>
                  <a:pt x="259" y="100"/>
                </a:lnTo>
                <a:lnTo>
                  <a:pt x="213" y="134"/>
                </a:lnTo>
                <a:lnTo>
                  <a:pt x="172" y="170"/>
                </a:lnTo>
                <a:lnTo>
                  <a:pt x="134" y="213"/>
                </a:lnTo>
                <a:lnTo>
                  <a:pt x="100" y="258"/>
                </a:lnTo>
                <a:lnTo>
                  <a:pt x="71" y="308"/>
                </a:lnTo>
                <a:lnTo>
                  <a:pt x="46" y="358"/>
                </a:lnTo>
                <a:lnTo>
                  <a:pt x="27" y="412"/>
                </a:lnTo>
                <a:lnTo>
                  <a:pt x="12" y="468"/>
                </a:lnTo>
                <a:lnTo>
                  <a:pt x="3" y="527"/>
                </a:lnTo>
                <a:lnTo>
                  <a:pt x="0" y="586"/>
                </a:lnTo>
                <a:lnTo>
                  <a:pt x="3" y="645"/>
                </a:lnTo>
                <a:lnTo>
                  <a:pt x="12" y="704"/>
                </a:lnTo>
                <a:lnTo>
                  <a:pt x="27" y="760"/>
                </a:lnTo>
                <a:lnTo>
                  <a:pt x="46" y="813"/>
                </a:lnTo>
                <a:lnTo>
                  <a:pt x="71" y="865"/>
                </a:lnTo>
                <a:lnTo>
                  <a:pt x="100" y="914"/>
                </a:lnTo>
                <a:lnTo>
                  <a:pt x="134" y="960"/>
                </a:lnTo>
                <a:lnTo>
                  <a:pt x="172" y="1001"/>
                </a:lnTo>
                <a:lnTo>
                  <a:pt x="213" y="1037"/>
                </a:lnTo>
                <a:lnTo>
                  <a:pt x="259" y="1071"/>
                </a:lnTo>
                <a:lnTo>
                  <a:pt x="308" y="1102"/>
                </a:lnTo>
                <a:lnTo>
                  <a:pt x="358" y="1127"/>
                </a:lnTo>
                <a:lnTo>
                  <a:pt x="413" y="1147"/>
                </a:lnTo>
                <a:lnTo>
                  <a:pt x="467" y="1161"/>
                </a:lnTo>
                <a:lnTo>
                  <a:pt x="528" y="1170"/>
                </a:lnTo>
                <a:lnTo>
                  <a:pt x="587" y="1173"/>
                </a:lnTo>
                <a:lnTo>
                  <a:pt x="646" y="1170"/>
                </a:lnTo>
                <a:lnTo>
                  <a:pt x="705" y="1161"/>
                </a:lnTo>
                <a:lnTo>
                  <a:pt x="761" y="1147"/>
                </a:lnTo>
                <a:lnTo>
                  <a:pt x="815" y="1127"/>
                </a:lnTo>
                <a:lnTo>
                  <a:pt x="865" y="1102"/>
                </a:lnTo>
                <a:lnTo>
                  <a:pt x="913" y="1071"/>
                </a:lnTo>
                <a:lnTo>
                  <a:pt x="960" y="1037"/>
                </a:lnTo>
                <a:lnTo>
                  <a:pt x="1001" y="1001"/>
                </a:lnTo>
                <a:lnTo>
                  <a:pt x="1039" y="960"/>
                </a:lnTo>
                <a:lnTo>
                  <a:pt x="1073" y="914"/>
                </a:lnTo>
                <a:lnTo>
                  <a:pt x="1103" y="865"/>
                </a:lnTo>
                <a:lnTo>
                  <a:pt x="1128" y="813"/>
                </a:lnTo>
                <a:lnTo>
                  <a:pt x="1146" y="760"/>
                </a:lnTo>
                <a:lnTo>
                  <a:pt x="1162" y="704"/>
                </a:lnTo>
                <a:lnTo>
                  <a:pt x="1171" y="645"/>
                </a:lnTo>
                <a:lnTo>
                  <a:pt x="1173" y="586"/>
                </a:lnTo>
                <a:lnTo>
                  <a:pt x="1100" y="586"/>
                </a:lnTo>
                <a:lnTo>
                  <a:pt x="1096" y="534"/>
                </a:lnTo>
                <a:lnTo>
                  <a:pt x="1089" y="482"/>
                </a:lnTo>
                <a:lnTo>
                  <a:pt x="1076" y="434"/>
                </a:lnTo>
                <a:lnTo>
                  <a:pt x="1060" y="385"/>
                </a:lnTo>
                <a:lnTo>
                  <a:pt x="1037" y="342"/>
                </a:lnTo>
                <a:lnTo>
                  <a:pt x="1012" y="299"/>
                </a:lnTo>
                <a:lnTo>
                  <a:pt x="983" y="260"/>
                </a:lnTo>
                <a:lnTo>
                  <a:pt x="949" y="222"/>
                </a:lnTo>
                <a:lnTo>
                  <a:pt x="913" y="190"/>
                </a:lnTo>
                <a:lnTo>
                  <a:pt x="872" y="161"/>
                </a:lnTo>
                <a:lnTo>
                  <a:pt x="831" y="136"/>
                </a:lnTo>
                <a:lnTo>
                  <a:pt x="786" y="113"/>
                </a:lnTo>
                <a:lnTo>
                  <a:pt x="739" y="97"/>
                </a:lnTo>
                <a:lnTo>
                  <a:pt x="691" y="84"/>
                </a:lnTo>
                <a:lnTo>
                  <a:pt x="639" y="75"/>
                </a:lnTo>
                <a:lnTo>
                  <a:pt x="587" y="73"/>
                </a:lnTo>
                <a:lnTo>
                  <a:pt x="535" y="75"/>
                </a:lnTo>
                <a:lnTo>
                  <a:pt x="483" y="84"/>
                </a:lnTo>
                <a:lnTo>
                  <a:pt x="433" y="97"/>
                </a:lnTo>
                <a:lnTo>
                  <a:pt x="387" y="113"/>
                </a:lnTo>
                <a:lnTo>
                  <a:pt x="342" y="136"/>
                </a:lnTo>
                <a:lnTo>
                  <a:pt x="301" y="161"/>
                </a:lnTo>
                <a:lnTo>
                  <a:pt x="261" y="190"/>
                </a:lnTo>
                <a:lnTo>
                  <a:pt x="224" y="222"/>
                </a:lnTo>
                <a:lnTo>
                  <a:pt x="191" y="260"/>
                </a:lnTo>
                <a:lnTo>
                  <a:pt x="161" y="299"/>
                </a:lnTo>
                <a:lnTo>
                  <a:pt x="136" y="342"/>
                </a:lnTo>
                <a:lnTo>
                  <a:pt x="114" y="385"/>
                </a:lnTo>
                <a:lnTo>
                  <a:pt x="98" y="434"/>
                </a:lnTo>
                <a:lnTo>
                  <a:pt x="84" y="482"/>
                </a:lnTo>
                <a:lnTo>
                  <a:pt x="77" y="534"/>
                </a:lnTo>
                <a:lnTo>
                  <a:pt x="73" y="586"/>
                </a:lnTo>
                <a:lnTo>
                  <a:pt x="77" y="638"/>
                </a:lnTo>
                <a:lnTo>
                  <a:pt x="84" y="690"/>
                </a:lnTo>
                <a:lnTo>
                  <a:pt x="98" y="738"/>
                </a:lnTo>
                <a:lnTo>
                  <a:pt x="114" y="787"/>
                </a:lnTo>
                <a:lnTo>
                  <a:pt x="136" y="829"/>
                </a:lnTo>
                <a:lnTo>
                  <a:pt x="161" y="872"/>
                </a:lnTo>
                <a:lnTo>
                  <a:pt x="191" y="912"/>
                </a:lnTo>
                <a:lnTo>
                  <a:pt x="224" y="950"/>
                </a:lnTo>
                <a:lnTo>
                  <a:pt x="261" y="982"/>
                </a:lnTo>
                <a:lnTo>
                  <a:pt x="301" y="1010"/>
                </a:lnTo>
                <a:lnTo>
                  <a:pt x="342" y="1036"/>
                </a:lnTo>
                <a:lnTo>
                  <a:pt x="387" y="1059"/>
                </a:lnTo>
                <a:lnTo>
                  <a:pt x="433" y="1075"/>
                </a:lnTo>
                <a:lnTo>
                  <a:pt x="483" y="1087"/>
                </a:lnTo>
                <a:lnTo>
                  <a:pt x="535" y="1096"/>
                </a:lnTo>
                <a:lnTo>
                  <a:pt x="587" y="1098"/>
                </a:lnTo>
                <a:lnTo>
                  <a:pt x="639" y="1096"/>
                </a:lnTo>
                <a:lnTo>
                  <a:pt x="691" y="1087"/>
                </a:lnTo>
                <a:lnTo>
                  <a:pt x="739" y="1075"/>
                </a:lnTo>
                <a:lnTo>
                  <a:pt x="786" y="1059"/>
                </a:lnTo>
                <a:lnTo>
                  <a:pt x="831" y="1036"/>
                </a:lnTo>
                <a:lnTo>
                  <a:pt x="872" y="1010"/>
                </a:lnTo>
                <a:lnTo>
                  <a:pt x="913" y="982"/>
                </a:lnTo>
                <a:lnTo>
                  <a:pt x="949" y="950"/>
                </a:lnTo>
                <a:lnTo>
                  <a:pt x="983" y="912"/>
                </a:lnTo>
                <a:lnTo>
                  <a:pt x="1012" y="872"/>
                </a:lnTo>
                <a:lnTo>
                  <a:pt x="1037" y="829"/>
                </a:lnTo>
                <a:lnTo>
                  <a:pt x="1060" y="787"/>
                </a:lnTo>
                <a:lnTo>
                  <a:pt x="1076" y="738"/>
                </a:lnTo>
                <a:lnTo>
                  <a:pt x="1089" y="690"/>
                </a:lnTo>
                <a:lnTo>
                  <a:pt x="1096" y="638"/>
                </a:lnTo>
                <a:lnTo>
                  <a:pt x="1100" y="586"/>
                </a:lnTo>
                <a:lnTo>
                  <a:pt x="1173" y="58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30"/>
          <p:cNvSpPr/>
          <p:nvPr/>
        </p:nvSpPr>
        <p:spPr>
          <a:xfrm>
            <a:off x="3763800" y="2130480"/>
            <a:ext cx="1635120" cy="1631880"/>
          </a:xfrm>
          <a:custGeom>
            <a:avLst/>
            <a:gdLst>
              <a:gd name="textAreaLeft" fmla="*/ 0 w 1635120"/>
              <a:gd name="textAreaRight" fmla="*/ 1635480 w 163512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w="1030" h="1028">
                <a:moveTo>
                  <a:pt x="1030" y="514"/>
                </a:moveTo>
                <a:lnTo>
                  <a:pt x="1027" y="462"/>
                </a:lnTo>
                <a:lnTo>
                  <a:pt x="1020" y="410"/>
                </a:lnTo>
                <a:lnTo>
                  <a:pt x="1007" y="362"/>
                </a:lnTo>
                <a:lnTo>
                  <a:pt x="989" y="313"/>
                </a:lnTo>
                <a:lnTo>
                  <a:pt x="968" y="270"/>
                </a:lnTo>
                <a:lnTo>
                  <a:pt x="943" y="227"/>
                </a:lnTo>
                <a:lnTo>
                  <a:pt x="912" y="188"/>
                </a:lnTo>
                <a:lnTo>
                  <a:pt x="878" y="150"/>
                </a:lnTo>
                <a:lnTo>
                  <a:pt x="842" y="116"/>
                </a:lnTo>
                <a:lnTo>
                  <a:pt x="803" y="87"/>
                </a:lnTo>
                <a:lnTo>
                  <a:pt x="760" y="62"/>
                </a:lnTo>
                <a:lnTo>
                  <a:pt x="715" y="39"/>
                </a:lnTo>
                <a:lnTo>
                  <a:pt x="668" y="23"/>
                </a:lnTo>
                <a:lnTo>
                  <a:pt x="620" y="10"/>
                </a:lnTo>
                <a:lnTo>
                  <a:pt x="568" y="3"/>
                </a:lnTo>
                <a:lnTo>
                  <a:pt x="516" y="0"/>
                </a:lnTo>
                <a:lnTo>
                  <a:pt x="464" y="3"/>
                </a:lnTo>
                <a:lnTo>
                  <a:pt x="412" y="10"/>
                </a:lnTo>
                <a:lnTo>
                  <a:pt x="362" y="23"/>
                </a:lnTo>
                <a:lnTo>
                  <a:pt x="316" y="39"/>
                </a:lnTo>
                <a:lnTo>
                  <a:pt x="271" y="62"/>
                </a:lnTo>
                <a:lnTo>
                  <a:pt x="228" y="87"/>
                </a:lnTo>
                <a:lnTo>
                  <a:pt x="190" y="116"/>
                </a:lnTo>
                <a:lnTo>
                  <a:pt x="153" y="150"/>
                </a:lnTo>
                <a:lnTo>
                  <a:pt x="119" y="188"/>
                </a:lnTo>
                <a:lnTo>
                  <a:pt x="88" y="227"/>
                </a:lnTo>
                <a:lnTo>
                  <a:pt x="63" y="270"/>
                </a:lnTo>
                <a:lnTo>
                  <a:pt x="42" y="313"/>
                </a:lnTo>
                <a:lnTo>
                  <a:pt x="25" y="362"/>
                </a:lnTo>
                <a:lnTo>
                  <a:pt x="11" y="410"/>
                </a:lnTo>
                <a:lnTo>
                  <a:pt x="4" y="462"/>
                </a:lnTo>
                <a:lnTo>
                  <a:pt x="0" y="514"/>
                </a:lnTo>
                <a:lnTo>
                  <a:pt x="4" y="566"/>
                </a:lnTo>
                <a:lnTo>
                  <a:pt x="11" y="618"/>
                </a:lnTo>
                <a:lnTo>
                  <a:pt x="25" y="666"/>
                </a:lnTo>
                <a:lnTo>
                  <a:pt x="42" y="715"/>
                </a:lnTo>
                <a:lnTo>
                  <a:pt x="63" y="757"/>
                </a:lnTo>
                <a:lnTo>
                  <a:pt x="88" y="802"/>
                </a:lnTo>
                <a:lnTo>
                  <a:pt x="119" y="840"/>
                </a:lnTo>
                <a:lnTo>
                  <a:pt x="153" y="878"/>
                </a:lnTo>
                <a:lnTo>
                  <a:pt x="190" y="912"/>
                </a:lnTo>
                <a:lnTo>
                  <a:pt x="228" y="940"/>
                </a:lnTo>
                <a:lnTo>
                  <a:pt x="271" y="965"/>
                </a:lnTo>
                <a:lnTo>
                  <a:pt x="316" y="989"/>
                </a:lnTo>
                <a:lnTo>
                  <a:pt x="362" y="1005"/>
                </a:lnTo>
                <a:lnTo>
                  <a:pt x="412" y="1017"/>
                </a:lnTo>
                <a:lnTo>
                  <a:pt x="464" y="1024"/>
                </a:lnTo>
                <a:lnTo>
                  <a:pt x="516" y="1028"/>
                </a:lnTo>
                <a:lnTo>
                  <a:pt x="568" y="1024"/>
                </a:lnTo>
                <a:lnTo>
                  <a:pt x="620" y="1017"/>
                </a:lnTo>
                <a:lnTo>
                  <a:pt x="668" y="1005"/>
                </a:lnTo>
                <a:lnTo>
                  <a:pt x="715" y="989"/>
                </a:lnTo>
                <a:lnTo>
                  <a:pt x="760" y="965"/>
                </a:lnTo>
                <a:lnTo>
                  <a:pt x="803" y="940"/>
                </a:lnTo>
                <a:lnTo>
                  <a:pt x="842" y="912"/>
                </a:lnTo>
                <a:lnTo>
                  <a:pt x="878" y="878"/>
                </a:lnTo>
                <a:lnTo>
                  <a:pt x="912" y="840"/>
                </a:lnTo>
                <a:lnTo>
                  <a:pt x="943" y="802"/>
                </a:lnTo>
                <a:lnTo>
                  <a:pt x="968" y="757"/>
                </a:lnTo>
                <a:lnTo>
                  <a:pt x="989" y="715"/>
                </a:lnTo>
                <a:lnTo>
                  <a:pt x="1007" y="666"/>
                </a:lnTo>
                <a:lnTo>
                  <a:pt x="1020" y="618"/>
                </a:lnTo>
                <a:lnTo>
                  <a:pt x="1027" y="566"/>
                </a:lnTo>
                <a:lnTo>
                  <a:pt x="1030" y="514"/>
                </a:lnTo>
                <a:lnTo>
                  <a:pt x="953" y="514"/>
                </a:lnTo>
                <a:lnTo>
                  <a:pt x="951" y="469"/>
                </a:lnTo>
                <a:lnTo>
                  <a:pt x="946" y="424"/>
                </a:lnTo>
                <a:lnTo>
                  <a:pt x="935" y="383"/>
                </a:lnTo>
                <a:lnTo>
                  <a:pt x="921" y="344"/>
                </a:lnTo>
                <a:lnTo>
                  <a:pt x="901" y="304"/>
                </a:lnTo>
                <a:lnTo>
                  <a:pt x="878" y="270"/>
                </a:lnTo>
                <a:lnTo>
                  <a:pt x="853" y="236"/>
                </a:lnTo>
                <a:lnTo>
                  <a:pt x="826" y="204"/>
                </a:lnTo>
                <a:lnTo>
                  <a:pt x="794" y="175"/>
                </a:lnTo>
                <a:lnTo>
                  <a:pt x="760" y="150"/>
                </a:lnTo>
                <a:lnTo>
                  <a:pt x="724" y="129"/>
                </a:lnTo>
                <a:lnTo>
                  <a:pt x="686" y="109"/>
                </a:lnTo>
                <a:lnTo>
                  <a:pt x="645" y="95"/>
                </a:lnTo>
                <a:lnTo>
                  <a:pt x="604" y="84"/>
                </a:lnTo>
                <a:lnTo>
                  <a:pt x="559" y="78"/>
                </a:lnTo>
                <a:lnTo>
                  <a:pt x="516" y="75"/>
                </a:lnTo>
                <a:lnTo>
                  <a:pt x="471" y="78"/>
                </a:lnTo>
                <a:lnTo>
                  <a:pt x="427" y="84"/>
                </a:lnTo>
                <a:lnTo>
                  <a:pt x="385" y="95"/>
                </a:lnTo>
                <a:lnTo>
                  <a:pt x="344" y="109"/>
                </a:lnTo>
                <a:lnTo>
                  <a:pt x="307" y="129"/>
                </a:lnTo>
                <a:lnTo>
                  <a:pt x="271" y="150"/>
                </a:lnTo>
                <a:lnTo>
                  <a:pt x="237" y="175"/>
                </a:lnTo>
                <a:lnTo>
                  <a:pt x="206" y="204"/>
                </a:lnTo>
                <a:lnTo>
                  <a:pt x="178" y="236"/>
                </a:lnTo>
                <a:lnTo>
                  <a:pt x="153" y="270"/>
                </a:lnTo>
                <a:lnTo>
                  <a:pt x="131" y="304"/>
                </a:lnTo>
                <a:lnTo>
                  <a:pt x="111" y="344"/>
                </a:lnTo>
                <a:lnTo>
                  <a:pt x="97" y="383"/>
                </a:lnTo>
                <a:lnTo>
                  <a:pt x="86" y="424"/>
                </a:lnTo>
                <a:lnTo>
                  <a:pt x="79" y="469"/>
                </a:lnTo>
                <a:lnTo>
                  <a:pt x="77" y="514"/>
                </a:lnTo>
                <a:lnTo>
                  <a:pt x="79" y="559"/>
                </a:lnTo>
                <a:lnTo>
                  <a:pt x="86" y="603"/>
                </a:lnTo>
                <a:lnTo>
                  <a:pt x="97" y="645"/>
                </a:lnTo>
                <a:lnTo>
                  <a:pt x="111" y="684"/>
                </a:lnTo>
                <a:lnTo>
                  <a:pt x="131" y="723"/>
                </a:lnTo>
                <a:lnTo>
                  <a:pt x="153" y="757"/>
                </a:lnTo>
                <a:lnTo>
                  <a:pt x="178" y="793"/>
                </a:lnTo>
                <a:lnTo>
                  <a:pt x="206" y="824"/>
                </a:lnTo>
                <a:lnTo>
                  <a:pt x="237" y="852"/>
                </a:lnTo>
                <a:lnTo>
                  <a:pt x="271" y="878"/>
                </a:lnTo>
                <a:lnTo>
                  <a:pt x="307" y="899"/>
                </a:lnTo>
                <a:lnTo>
                  <a:pt x="344" y="919"/>
                </a:lnTo>
                <a:lnTo>
                  <a:pt x="385" y="933"/>
                </a:lnTo>
                <a:lnTo>
                  <a:pt x="427" y="944"/>
                </a:lnTo>
                <a:lnTo>
                  <a:pt x="471" y="949"/>
                </a:lnTo>
                <a:lnTo>
                  <a:pt x="516" y="953"/>
                </a:lnTo>
                <a:lnTo>
                  <a:pt x="559" y="949"/>
                </a:lnTo>
                <a:lnTo>
                  <a:pt x="604" y="944"/>
                </a:lnTo>
                <a:lnTo>
                  <a:pt x="645" y="933"/>
                </a:lnTo>
                <a:lnTo>
                  <a:pt x="686" y="919"/>
                </a:lnTo>
                <a:lnTo>
                  <a:pt x="724" y="899"/>
                </a:lnTo>
                <a:lnTo>
                  <a:pt x="760" y="878"/>
                </a:lnTo>
                <a:lnTo>
                  <a:pt x="794" y="852"/>
                </a:lnTo>
                <a:lnTo>
                  <a:pt x="826" y="824"/>
                </a:lnTo>
                <a:lnTo>
                  <a:pt x="853" y="793"/>
                </a:lnTo>
                <a:lnTo>
                  <a:pt x="878" y="757"/>
                </a:lnTo>
                <a:lnTo>
                  <a:pt x="901" y="723"/>
                </a:lnTo>
                <a:lnTo>
                  <a:pt x="921" y="684"/>
                </a:lnTo>
                <a:lnTo>
                  <a:pt x="935" y="645"/>
                </a:lnTo>
                <a:lnTo>
                  <a:pt x="946" y="603"/>
                </a:lnTo>
                <a:lnTo>
                  <a:pt x="951" y="559"/>
                </a:lnTo>
                <a:lnTo>
                  <a:pt x="953" y="514"/>
                </a:lnTo>
                <a:lnTo>
                  <a:pt x="1030" y="514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31"/>
          <p:cNvSpPr/>
          <p:nvPr/>
        </p:nvSpPr>
        <p:spPr>
          <a:xfrm>
            <a:off x="3884760" y="2246400"/>
            <a:ext cx="1395360" cy="140004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1400040"/>
              <a:gd name="textAreaBottom" fmla="*/ 1400400 h 1400040"/>
            </a:gdLst>
            <a:ahLst/>
            <a:rect l="textAreaLeft" t="textAreaTop" r="textAreaRight" b="textAreaBottom"/>
            <a:pathLst>
              <a:path w="879" h="882">
                <a:moveTo>
                  <a:pt x="879" y="441"/>
                </a:moveTo>
                <a:lnTo>
                  <a:pt x="877" y="396"/>
                </a:lnTo>
                <a:lnTo>
                  <a:pt x="872" y="351"/>
                </a:lnTo>
                <a:lnTo>
                  <a:pt x="861" y="310"/>
                </a:lnTo>
                <a:lnTo>
                  <a:pt x="845" y="269"/>
                </a:lnTo>
                <a:lnTo>
                  <a:pt x="827" y="229"/>
                </a:lnTo>
                <a:lnTo>
                  <a:pt x="804" y="195"/>
                </a:lnTo>
                <a:lnTo>
                  <a:pt x="779" y="161"/>
                </a:lnTo>
                <a:lnTo>
                  <a:pt x="750" y="129"/>
                </a:lnTo>
                <a:lnTo>
                  <a:pt x="720" y="102"/>
                </a:lnTo>
                <a:lnTo>
                  <a:pt x="686" y="77"/>
                </a:lnTo>
                <a:lnTo>
                  <a:pt x="650" y="54"/>
                </a:lnTo>
                <a:lnTo>
                  <a:pt x="612" y="34"/>
                </a:lnTo>
                <a:lnTo>
                  <a:pt x="569" y="20"/>
                </a:lnTo>
                <a:lnTo>
                  <a:pt x="528" y="9"/>
                </a:lnTo>
                <a:lnTo>
                  <a:pt x="483" y="4"/>
                </a:lnTo>
                <a:lnTo>
                  <a:pt x="440" y="0"/>
                </a:lnTo>
                <a:lnTo>
                  <a:pt x="395" y="4"/>
                </a:lnTo>
                <a:lnTo>
                  <a:pt x="351" y="9"/>
                </a:lnTo>
                <a:lnTo>
                  <a:pt x="309" y="20"/>
                </a:lnTo>
                <a:lnTo>
                  <a:pt x="268" y="34"/>
                </a:lnTo>
                <a:lnTo>
                  <a:pt x="229" y="54"/>
                </a:lnTo>
                <a:lnTo>
                  <a:pt x="193" y="77"/>
                </a:lnTo>
                <a:lnTo>
                  <a:pt x="159" y="102"/>
                </a:lnTo>
                <a:lnTo>
                  <a:pt x="129" y="129"/>
                </a:lnTo>
                <a:lnTo>
                  <a:pt x="100" y="161"/>
                </a:lnTo>
                <a:lnTo>
                  <a:pt x="75" y="195"/>
                </a:lnTo>
                <a:lnTo>
                  <a:pt x="53" y="229"/>
                </a:lnTo>
                <a:lnTo>
                  <a:pt x="34" y="269"/>
                </a:lnTo>
                <a:lnTo>
                  <a:pt x="19" y="310"/>
                </a:lnTo>
                <a:lnTo>
                  <a:pt x="8" y="351"/>
                </a:lnTo>
                <a:lnTo>
                  <a:pt x="1" y="396"/>
                </a:lnTo>
                <a:lnTo>
                  <a:pt x="0" y="441"/>
                </a:lnTo>
                <a:lnTo>
                  <a:pt x="1" y="486"/>
                </a:lnTo>
                <a:lnTo>
                  <a:pt x="8" y="530"/>
                </a:lnTo>
                <a:lnTo>
                  <a:pt x="19" y="572"/>
                </a:lnTo>
                <a:lnTo>
                  <a:pt x="34" y="613"/>
                </a:lnTo>
                <a:lnTo>
                  <a:pt x="53" y="650"/>
                </a:lnTo>
                <a:lnTo>
                  <a:pt x="75" y="686"/>
                </a:lnTo>
                <a:lnTo>
                  <a:pt x="100" y="720"/>
                </a:lnTo>
                <a:lnTo>
                  <a:pt x="129" y="753"/>
                </a:lnTo>
                <a:lnTo>
                  <a:pt x="159" y="779"/>
                </a:lnTo>
                <a:lnTo>
                  <a:pt x="193" y="805"/>
                </a:lnTo>
                <a:lnTo>
                  <a:pt x="229" y="828"/>
                </a:lnTo>
                <a:lnTo>
                  <a:pt x="268" y="848"/>
                </a:lnTo>
                <a:lnTo>
                  <a:pt x="309" y="862"/>
                </a:lnTo>
                <a:lnTo>
                  <a:pt x="351" y="873"/>
                </a:lnTo>
                <a:lnTo>
                  <a:pt x="395" y="878"/>
                </a:lnTo>
                <a:lnTo>
                  <a:pt x="440" y="882"/>
                </a:lnTo>
                <a:lnTo>
                  <a:pt x="483" y="878"/>
                </a:lnTo>
                <a:lnTo>
                  <a:pt x="528" y="873"/>
                </a:lnTo>
                <a:lnTo>
                  <a:pt x="569" y="862"/>
                </a:lnTo>
                <a:lnTo>
                  <a:pt x="612" y="848"/>
                </a:lnTo>
                <a:lnTo>
                  <a:pt x="650" y="828"/>
                </a:lnTo>
                <a:lnTo>
                  <a:pt x="686" y="805"/>
                </a:lnTo>
                <a:lnTo>
                  <a:pt x="720" y="779"/>
                </a:lnTo>
                <a:lnTo>
                  <a:pt x="750" y="753"/>
                </a:lnTo>
                <a:lnTo>
                  <a:pt x="779" y="720"/>
                </a:lnTo>
                <a:lnTo>
                  <a:pt x="804" y="686"/>
                </a:lnTo>
                <a:lnTo>
                  <a:pt x="827" y="650"/>
                </a:lnTo>
                <a:lnTo>
                  <a:pt x="845" y="613"/>
                </a:lnTo>
                <a:lnTo>
                  <a:pt x="861" y="572"/>
                </a:lnTo>
                <a:lnTo>
                  <a:pt x="872" y="530"/>
                </a:lnTo>
                <a:lnTo>
                  <a:pt x="877" y="486"/>
                </a:lnTo>
                <a:lnTo>
                  <a:pt x="879" y="441"/>
                </a:lnTo>
                <a:lnTo>
                  <a:pt x="806" y="441"/>
                </a:lnTo>
                <a:lnTo>
                  <a:pt x="804" y="403"/>
                </a:lnTo>
                <a:lnTo>
                  <a:pt x="798" y="367"/>
                </a:lnTo>
                <a:lnTo>
                  <a:pt x="790" y="333"/>
                </a:lnTo>
                <a:lnTo>
                  <a:pt x="777" y="299"/>
                </a:lnTo>
                <a:lnTo>
                  <a:pt x="761" y="265"/>
                </a:lnTo>
                <a:lnTo>
                  <a:pt x="743" y="237"/>
                </a:lnTo>
                <a:lnTo>
                  <a:pt x="721" y="208"/>
                </a:lnTo>
                <a:lnTo>
                  <a:pt x="700" y="181"/>
                </a:lnTo>
                <a:lnTo>
                  <a:pt x="673" y="160"/>
                </a:lnTo>
                <a:lnTo>
                  <a:pt x="644" y="138"/>
                </a:lnTo>
                <a:lnTo>
                  <a:pt x="614" y="118"/>
                </a:lnTo>
                <a:lnTo>
                  <a:pt x="582" y="102"/>
                </a:lnTo>
                <a:lnTo>
                  <a:pt x="548" y="91"/>
                </a:lnTo>
                <a:lnTo>
                  <a:pt x="514" y="83"/>
                </a:lnTo>
                <a:lnTo>
                  <a:pt x="476" y="77"/>
                </a:lnTo>
                <a:lnTo>
                  <a:pt x="440" y="75"/>
                </a:lnTo>
                <a:lnTo>
                  <a:pt x="403" y="77"/>
                </a:lnTo>
                <a:lnTo>
                  <a:pt x="365" y="83"/>
                </a:lnTo>
                <a:lnTo>
                  <a:pt x="331" y="91"/>
                </a:lnTo>
                <a:lnTo>
                  <a:pt x="297" y="102"/>
                </a:lnTo>
                <a:lnTo>
                  <a:pt x="265" y="118"/>
                </a:lnTo>
                <a:lnTo>
                  <a:pt x="234" y="138"/>
                </a:lnTo>
                <a:lnTo>
                  <a:pt x="207" y="160"/>
                </a:lnTo>
                <a:lnTo>
                  <a:pt x="182" y="181"/>
                </a:lnTo>
                <a:lnTo>
                  <a:pt x="157" y="208"/>
                </a:lnTo>
                <a:lnTo>
                  <a:pt x="136" y="237"/>
                </a:lnTo>
                <a:lnTo>
                  <a:pt x="118" y="265"/>
                </a:lnTo>
                <a:lnTo>
                  <a:pt x="102" y="299"/>
                </a:lnTo>
                <a:lnTo>
                  <a:pt x="89" y="333"/>
                </a:lnTo>
                <a:lnTo>
                  <a:pt x="80" y="367"/>
                </a:lnTo>
                <a:lnTo>
                  <a:pt x="75" y="403"/>
                </a:lnTo>
                <a:lnTo>
                  <a:pt x="73" y="441"/>
                </a:lnTo>
                <a:lnTo>
                  <a:pt x="75" y="478"/>
                </a:lnTo>
                <a:lnTo>
                  <a:pt x="80" y="514"/>
                </a:lnTo>
                <a:lnTo>
                  <a:pt x="89" y="548"/>
                </a:lnTo>
                <a:lnTo>
                  <a:pt x="102" y="582"/>
                </a:lnTo>
                <a:lnTo>
                  <a:pt x="118" y="616"/>
                </a:lnTo>
                <a:lnTo>
                  <a:pt x="136" y="645"/>
                </a:lnTo>
                <a:lnTo>
                  <a:pt x="157" y="674"/>
                </a:lnTo>
                <a:lnTo>
                  <a:pt x="182" y="699"/>
                </a:lnTo>
                <a:lnTo>
                  <a:pt x="207" y="722"/>
                </a:lnTo>
                <a:lnTo>
                  <a:pt x="234" y="745"/>
                </a:lnTo>
                <a:lnTo>
                  <a:pt x="265" y="762"/>
                </a:lnTo>
                <a:lnTo>
                  <a:pt x="297" y="779"/>
                </a:lnTo>
                <a:lnTo>
                  <a:pt x="331" y="790"/>
                </a:lnTo>
                <a:lnTo>
                  <a:pt x="365" y="799"/>
                </a:lnTo>
                <a:lnTo>
                  <a:pt x="403" y="805"/>
                </a:lnTo>
                <a:lnTo>
                  <a:pt x="440" y="806"/>
                </a:lnTo>
                <a:lnTo>
                  <a:pt x="476" y="805"/>
                </a:lnTo>
                <a:lnTo>
                  <a:pt x="514" y="799"/>
                </a:lnTo>
                <a:lnTo>
                  <a:pt x="548" y="790"/>
                </a:lnTo>
                <a:lnTo>
                  <a:pt x="582" y="779"/>
                </a:lnTo>
                <a:lnTo>
                  <a:pt x="614" y="762"/>
                </a:lnTo>
                <a:lnTo>
                  <a:pt x="644" y="745"/>
                </a:lnTo>
                <a:lnTo>
                  <a:pt x="673" y="722"/>
                </a:lnTo>
                <a:lnTo>
                  <a:pt x="700" y="699"/>
                </a:lnTo>
                <a:lnTo>
                  <a:pt x="721" y="674"/>
                </a:lnTo>
                <a:lnTo>
                  <a:pt x="743" y="645"/>
                </a:lnTo>
                <a:lnTo>
                  <a:pt x="761" y="616"/>
                </a:lnTo>
                <a:lnTo>
                  <a:pt x="777" y="582"/>
                </a:lnTo>
                <a:lnTo>
                  <a:pt x="790" y="548"/>
                </a:lnTo>
                <a:lnTo>
                  <a:pt x="798" y="514"/>
                </a:lnTo>
                <a:lnTo>
                  <a:pt x="804" y="478"/>
                </a:lnTo>
                <a:lnTo>
                  <a:pt x="806" y="441"/>
                </a:lnTo>
                <a:lnTo>
                  <a:pt x="879" y="441"/>
                </a:lnTo>
                <a:close/>
              </a:path>
            </a:pathLst>
          </a:cu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32"/>
          <p:cNvSpPr/>
          <p:nvPr/>
        </p:nvSpPr>
        <p:spPr>
          <a:xfrm>
            <a:off x="3997440" y="2363760"/>
            <a:ext cx="1168200" cy="116532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165320"/>
              <a:gd name="textAreaBottom" fmla="*/ 1165680 h 1165320"/>
            </a:gdLst>
            <a:ahLst/>
            <a:rect l="textAreaLeft" t="textAreaTop" r="textAreaRight" b="textAreaBottom"/>
            <a:pathLst>
              <a:path w="736" h="734">
                <a:moveTo>
                  <a:pt x="736" y="367"/>
                </a:moveTo>
                <a:lnTo>
                  <a:pt x="735" y="329"/>
                </a:lnTo>
                <a:lnTo>
                  <a:pt x="729" y="293"/>
                </a:lnTo>
                <a:lnTo>
                  <a:pt x="720" y="259"/>
                </a:lnTo>
                <a:lnTo>
                  <a:pt x="706" y="225"/>
                </a:lnTo>
                <a:lnTo>
                  <a:pt x="692" y="191"/>
                </a:lnTo>
                <a:lnTo>
                  <a:pt x="672" y="163"/>
                </a:lnTo>
                <a:lnTo>
                  <a:pt x="652" y="134"/>
                </a:lnTo>
                <a:lnTo>
                  <a:pt x="629" y="107"/>
                </a:lnTo>
                <a:lnTo>
                  <a:pt x="602" y="84"/>
                </a:lnTo>
                <a:lnTo>
                  <a:pt x="573" y="64"/>
                </a:lnTo>
                <a:lnTo>
                  <a:pt x="543" y="44"/>
                </a:lnTo>
                <a:lnTo>
                  <a:pt x="511" y="28"/>
                </a:lnTo>
                <a:lnTo>
                  <a:pt x="477" y="16"/>
                </a:lnTo>
                <a:lnTo>
                  <a:pt x="443" y="7"/>
                </a:lnTo>
                <a:lnTo>
                  <a:pt x="405" y="1"/>
                </a:lnTo>
                <a:lnTo>
                  <a:pt x="369" y="0"/>
                </a:lnTo>
                <a:lnTo>
                  <a:pt x="332" y="1"/>
                </a:lnTo>
                <a:lnTo>
                  <a:pt x="294" y="7"/>
                </a:lnTo>
                <a:lnTo>
                  <a:pt x="260" y="16"/>
                </a:lnTo>
                <a:lnTo>
                  <a:pt x="226" y="28"/>
                </a:lnTo>
                <a:lnTo>
                  <a:pt x="194" y="44"/>
                </a:lnTo>
                <a:lnTo>
                  <a:pt x="163" y="64"/>
                </a:lnTo>
                <a:lnTo>
                  <a:pt x="136" y="84"/>
                </a:lnTo>
                <a:lnTo>
                  <a:pt x="109" y="107"/>
                </a:lnTo>
                <a:lnTo>
                  <a:pt x="86" y="134"/>
                </a:lnTo>
                <a:lnTo>
                  <a:pt x="65" y="163"/>
                </a:lnTo>
                <a:lnTo>
                  <a:pt x="45" y="191"/>
                </a:lnTo>
                <a:lnTo>
                  <a:pt x="31" y="225"/>
                </a:lnTo>
                <a:lnTo>
                  <a:pt x="16" y="259"/>
                </a:lnTo>
                <a:lnTo>
                  <a:pt x="9" y="293"/>
                </a:lnTo>
                <a:lnTo>
                  <a:pt x="2" y="329"/>
                </a:lnTo>
                <a:lnTo>
                  <a:pt x="0" y="367"/>
                </a:lnTo>
                <a:lnTo>
                  <a:pt x="2" y="404"/>
                </a:lnTo>
                <a:lnTo>
                  <a:pt x="9" y="440"/>
                </a:lnTo>
                <a:lnTo>
                  <a:pt x="16" y="474"/>
                </a:lnTo>
                <a:lnTo>
                  <a:pt x="31" y="508"/>
                </a:lnTo>
                <a:lnTo>
                  <a:pt x="45" y="542"/>
                </a:lnTo>
                <a:lnTo>
                  <a:pt x="65" y="571"/>
                </a:lnTo>
                <a:lnTo>
                  <a:pt x="86" y="600"/>
                </a:lnTo>
                <a:lnTo>
                  <a:pt x="109" y="627"/>
                </a:lnTo>
                <a:lnTo>
                  <a:pt x="136" y="650"/>
                </a:lnTo>
                <a:lnTo>
                  <a:pt x="163" y="671"/>
                </a:lnTo>
                <a:lnTo>
                  <a:pt x="194" y="689"/>
                </a:lnTo>
                <a:lnTo>
                  <a:pt x="226" y="705"/>
                </a:lnTo>
                <a:lnTo>
                  <a:pt x="260" y="718"/>
                </a:lnTo>
                <a:lnTo>
                  <a:pt x="294" y="727"/>
                </a:lnTo>
                <a:lnTo>
                  <a:pt x="332" y="732"/>
                </a:lnTo>
                <a:lnTo>
                  <a:pt x="369" y="734"/>
                </a:lnTo>
                <a:lnTo>
                  <a:pt x="405" y="732"/>
                </a:lnTo>
                <a:lnTo>
                  <a:pt x="443" y="727"/>
                </a:lnTo>
                <a:lnTo>
                  <a:pt x="477" y="718"/>
                </a:lnTo>
                <a:lnTo>
                  <a:pt x="511" y="705"/>
                </a:lnTo>
                <a:lnTo>
                  <a:pt x="543" y="689"/>
                </a:lnTo>
                <a:lnTo>
                  <a:pt x="573" y="671"/>
                </a:lnTo>
                <a:lnTo>
                  <a:pt x="602" y="650"/>
                </a:lnTo>
                <a:lnTo>
                  <a:pt x="629" y="627"/>
                </a:lnTo>
                <a:lnTo>
                  <a:pt x="652" y="600"/>
                </a:lnTo>
                <a:lnTo>
                  <a:pt x="672" y="571"/>
                </a:lnTo>
                <a:lnTo>
                  <a:pt x="692" y="542"/>
                </a:lnTo>
                <a:lnTo>
                  <a:pt x="706" y="508"/>
                </a:lnTo>
                <a:lnTo>
                  <a:pt x="720" y="474"/>
                </a:lnTo>
                <a:lnTo>
                  <a:pt x="729" y="440"/>
                </a:lnTo>
                <a:lnTo>
                  <a:pt x="735" y="404"/>
                </a:lnTo>
                <a:lnTo>
                  <a:pt x="736" y="367"/>
                </a:lnTo>
                <a:lnTo>
                  <a:pt x="663" y="367"/>
                </a:lnTo>
                <a:lnTo>
                  <a:pt x="661" y="336"/>
                </a:lnTo>
                <a:lnTo>
                  <a:pt x="656" y="308"/>
                </a:lnTo>
                <a:lnTo>
                  <a:pt x="649" y="279"/>
                </a:lnTo>
                <a:lnTo>
                  <a:pt x="638" y="252"/>
                </a:lnTo>
                <a:lnTo>
                  <a:pt x="627" y="227"/>
                </a:lnTo>
                <a:lnTo>
                  <a:pt x="611" y="202"/>
                </a:lnTo>
                <a:lnTo>
                  <a:pt x="595" y="181"/>
                </a:lnTo>
                <a:lnTo>
                  <a:pt x="577" y="159"/>
                </a:lnTo>
                <a:lnTo>
                  <a:pt x="555" y="139"/>
                </a:lnTo>
                <a:lnTo>
                  <a:pt x="532" y="123"/>
                </a:lnTo>
                <a:lnTo>
                  <a:pt x="507" y="109"/>
                </a:lnTo>
                <a:lnTo>
                  <a:pt x="482" y="98"/>
                </a:lnTo>
                <a:lnTo>
                  <a:pt x="457" y="87"/>
                </a:lnTo>
                <a:lnTo>
                  <a:pt x="428" y="80"/>
                </a:lnTo>
                <a:lnTo>
                  <a:pt x="398" y="75"/>
                </a:lnTo>
                <a:lnTo>
                  <a:pt x="369" y="73"/>
                </a:lnTo>
                <a:lnTo>
                  <a:pt x="339" y="75"/>
                </a:lnTo>
                <a:lnTo>
                  <a:pt x="310" y="80"/>
                </a:lnTo>
                <a:lnTo>
                  <a:pt x="281" y="87"/>
                </a:lnTo>
                <a:lnTo>
                  <a:pt x="255" y="98"/>
                </a:lnTo>
                <a:lnTo>
                  <a:pt x="229" y="109"/>
                </a:lnTo>
                <a:lnTo>
                  <a:pt x="204" y="123"/>
                </a:lnTo>
                <a:lnTo>
                  <a:pt x="183" y="139"/>
                </a:lnTo>
                <a:lnTo>
                  <a:pt x="161" y="159"/>
                </a:lnTo>
                <a:lnTo>
                  <a:pt x="142" y="181"/>
                </a:lnTo>
                <a:lnTo>
                  <a:pt x="126" y="202"/>
                </a:lnTo>
                <a:lnTo>
                  <a:pt x="111" y="227"/>
                </a:lnTo>
                <a:lnTo>
                  <a:pt x="99" y="252"/>
                </a:lnTo>
                <a:lnTo>
                  <a:pt x="88" y="279"/>
                </a:lnTo>
                <a:lnTo>
                  <a:pt x="81" y="308"/>
                </a:lnTo>
                <a:lnTo>
                  <a:pt x="77" y="336"/>
                </a:lnTo>
                <a:lnTo>
                  <a:pt x="75" y="367"/>
                </a:lnTo>
                <a:lnTo>
                  <a:pt x="77" y="397"/>
                </a:lnTo>
                <a:lnTo>
                  <a:pt x="81" y="426"/>
                </a:lnTo>
                <a:lnTo>
                  <a:pt x="88" y="455"/>
                </a:lnTo>
                <a:lnTo>
                  <a:pt x="99" y="482"/>
                </a:lnTo>
                <a:lnTo>
                  <a:pt x="111" y="507"/>
                </a:lnTo>
                <a:lnTo>
                  <a:pt x="126" y="532"/>
                </a:lnTo>
                <a:lnTo>
                  <a:pt x="142" y="553"/>
                </a:lnTo>
                <a:lnTo>
                  <a:pt x="161" y="575"/>
                </a:lnTo>
                <a:lnTo>
                  <a:pt x="183" y="594"/>
                </a:lnTo>
                <a:lnTo>
                  <a:pt x="204" y="610"/>
                </a:lnTo>
                <a:lnTo>
                  <a:pt x="229" y="625"/>
                </a:lnTo>
                <a:lnTo>
                  <a:pt x="255" y="636"/>
                </a:lnTo>
                <a:lnTo>
                  <a:pt x="281" y="646"/>
                </a:lnTo>
                <a:lnTo>
                  <a:pt x="310" y="655"/>
                </a:lnTo>
                <a:lnTo>
                  <a:pt x="339" y="659"/>
                </a:lnTo>
                <a:lnTo>
                  <a:pt x="369" y="661"/>
                </a:lnTo>
                <a:lnTo>
                  <a:pt x="398" y="659"/>
                </a:lnTo>
                <a:lnTo>
                  <a:pt x="428" y="655"/>
                </a:lnTo>
                <a:lnTo>
                  <a:pt x="457" y="646"/>
                </a:lnTo>
                <a:lnTo>
                  <a:pt x="482" y="636"/>
                </a:lnTo>
                <a:lnTo>
                  <a:pt x="507" y="625"/>
                </a:lnTo>
                <a:lnTo>
                  <a:pt x="532" y="610"/>
                </a:lnTo>
                <a:lnTo>
                  <a:pt x="555" y="594"/>
                </a:lnTo>
                <a:lnTo>
                  <a:pt x="577" y="575"/>
                </a:lnTo>
                <a:lnTo>
                  <a:pt x="595" y="553"/>
                </a:lnTo>
                <a:lnTo>
                  <a:pt x="611" y="532"/>
                </a:lnTo>
                <a:lnTo>
                  <a:pt x="627" y="507"/>
                </a:lnTo>
                <a:lnTo>
                  <a:pt x="638" y="482"/>
                </a:lnTo>
                <a:lnTo>
                  <a:pt x="649" y="455"/>
                </a:lnTo>
                <a:lnTo>
                  <a:pt x="656" y="426"/>
                </a:lnTo>
                <a:lnTo>
                  <a:pt x="661" y="397"/>
                </a:lnTo>
                <a:lnTo>
                  <a:pt x="663" y="367"/>
                </a:lnTo>
                <a:lnTo>
                  <a:pt x="736" y="367"/>
                </a:lnTo>
                <a:close/>
              </a:path>
            </a:pathLst>
          </a:cu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3"/>
          <p:cNvSpPr/>
          <p:nvPr/>
        </p:nvSpPr>
        <p:spPr>
          <a:xfrm>
            <a:off x="4114800" y="2476440"/>
            <a:ext cx="934920" cy="938160"/>
          </a:xfrm>
          <a:custGeom>
            <a:avLst/>
            <a:gdLst>
              <a:gd name="textAreaLeft" fmla="*/ 0 w 934920"/>
              <a:gd name="textAreaRight" fmla="*/ 935280 w 934920"/>
              <a:gd name="textAreaTop" fmla="*/ 0 h 938160"/>
              <a:gd name="textAreaBottom" fmla="*/ 938160 h 938160"/>
            </a:gdLst>
            <a:ahLst/>
            <a:rect l="textAreaLeft" t="textAreaTop" r="textAreaRight" b="textAreaBottom"/>
            <a:pathLst>
              <a:path w="589" h="591">
                <a:moveTo>
                  <a:pt x="589" y="296"/>
                </a:moveTo>
                <a:lnTo>
                  <a:pt x="589" y="265"/>
                </a:lnTo>
                <a:lnTo>
                  <a:pt x="584" y="237"/>
                </a:lnTo>
                <a:lnTo>
                  <a:pt x="576" y="208"/>
                </a:lnTo>
                <a:lnTo>
                  <a:pt x="566" y="181"/>
                </a:lnTo>
                <a:lnTo>
                  <a:pt x="555" y="156"/>
                </a:lnTo>
                <a:lnTo>
                  <a:pt x="539" y="131"/>
                </a:lnTo>
                <a:lnTo>
                  <a:pt x="521" y="110"/>
                </a:lnTo>
                <a:lnTo>
                  <a:pt x="503" y="88"/>
                </a:lnTo>
                <a:lnTo>
                  <a:pt x="481" y="68"/>
                </a:lnTo>
                <a:lnTo>
                  <a:pt x="458" y="52"/>
                </a:lnTo>
                <a:lnTo>
                  <a:pt x="433" y="36"/>
                </a:lnTo>
                <a:lnTo>
                  <a:pt x="408" y="25"/>
                </a:lnTo>
                <a:lnTo>
                  <a:pt x="383" y="15"/>
                </a:lnTo>
                <a:lnTo>
                  <a:pt x="354" y="7"/>
                </a:lnTo>
                <a:lnTo>
                  <a:pt x="324" y="2"/>
                </a:lnTo>
                <a:lnTo>
                  <a:pt x="295" y="0"/>
                </a:lnTo>
                <a:lnTo>
                  <a:pt x="265" y="2"/>
                </a:lnTo>
                <a:lnTo>
                  <a:pt x="236" y="7"/>
                </a:lnTo>
                <a:lnTo>
                  <a:pt x="207" y="15"/>
                </a:lnTo>
                <a:lnTo>
                  <a:pt x="181" y="25"/>
                </a:lnTo>
                <a:lnTo>
                  <a:pt x="155" y="36"/>
                </a:lnTo>
                <a:lnTo>
                  <a:pt x="130" y="52"/>
                </a:lnTo>
                <a:lnTo>
                  <a:pt x="109" y="68"/>
                </a:lnTo>
                <a:lnTo>
                  <a:pt x="87" y="88"/>
                </a:lnTo>
                <a:lnTo>
                  <a:pt x="68" y="110"/>
                </a:lnTo>
                <a:lnTo>
                  <a:pt x="50" y="131"/>
                </a:lnTo>
                <a:lnTo>
                  <a:pt x="35" y="156"/>
                </a:lnTo>
                <a:lnTo>
                  <a:pt x="23" y="181"/>
                </a:lnTo>
                <a:lnTo>
                  <a:pt x="12" y="208"/>
                </a:lnTo>
                <a:lnTo>
                  <a:pt x="5" y="237"/>
                </a:lnTo>
                <a:lnTo>
                  <a:pt x="1" y="265"/>
                </a:lnTo>
                <a:lnTo>
                  <a:pt x="0" y="296"/>
                </a:lnTo>
                <a:lnTo>
                  <a:pt x="1" y="326"/>
                </a:lnTo>
                <a:lnTo>
                  <a:pt x="5" y="355"/>
                </a:lnTo>
                <a:lnTo>
                  <a:pt x="12" y="384"/>
                </a:lnTo>
                <a:lnTo>
                  <a:pt x="23" y="411"/>
                </a:lnTo>
                <a:lnTo>
                  <a:pt x="35" y="436"/>
                </a:lnTo>
                <a:lnTo>
                  <a:pt x="50" y="461"/>
                </a:lnTo>
                <a:lnTo>
                  <a:pt x="68" y="482"/>
                </a:lnTo>
                <a:lnTo>
                  <a:pt x="87" y="504"/>
                </a:lnTo>
                <a:lnTo>
                  <a:pt x="109" y="523"/>
                </a:lnTo>
                <a:lnTo>
                  <a:pt x="130" y="539"/>
                </a:lnTo>
                <a:lnTo>
                  <a:pt x="155" y="556"/>
                </a:lnTo>
                <a:lnTo>
                  <a:pt x="181" y="566"/>
                </a:lnTo>
                <a:lnTo>
                  <a:pt x="207" y="577"/>
                </a:lnTo>
                <a:lnTo>
                  <a:pt x="236" y="584"/>
                </a:lnTo>
                <a:lnTo>
                  <a:pt x="265" y="590"/>
                </a:lnTo>
                <a:lnTo>
                  <a:pt x="295" y="591"/>
                </a:lnTo>
                <a:lnTo>
                  <a:pt x="324" y="590"/>
                </a:lnTo>
                <a:lnTo>
                  <a:pt x="354" y="584"/>
                </a:lnTo>
                <a:lnTo>
                  <a:pt x="383" y="577"/>
                </a:lnTo>
                <a:lnTo>
                  <a:pt x="408" y="566"/>
                </a:lnTo>
                <a:lnTo>
                  <a:pt x="433" y="556"/>
                </a:lnTo>
                <a:lnTo>
                  <a:pt x="458" y="539"/>
                </a:lnTo>
                <a:lnTo>
                  <a:pt x="481" y="523"/>
                </a:lnTo>
                <a:lnTo>
                  <a:pt x="503" y="504"/>
                </a:lnTo>
                <a:lnTo>
                  <a:pt x="521" y="482"/>
                </a:lnTo>
                <a:lnTo>
                  <a:pt x="539" y="461"/>
                </a:lnTo>
                <a:lnTo>
                  <a:pt x="555" y="436"/>
                </a:lnTo>
                <a:lnTo>
                  <a:pt x="566" y="411"/>
                </a:lnTo>
                <a:lnTo>
                  <a:pt x="576" y="384"/>
                </a:lnTo>
                <a:lnTo>
                  <a:pt x="584" y="355"/>
                </a:lnTo>
                <a:lnTo>
                  <a:pt x="589" y="326"/>
                </a:lnTo>
                <a:lnTo>
                  <a:pt x="589" y="296"/>
                </a:lnTo>
                <a:lnTo>
                  <a:pt x="514" y="296"/>
                </a:lnTo>
                <a:lnTo>
                  <a:pt x="510" y="251"/>
                </a:lnTo>
                <a:lnTo>
                  <a:pt x="496" y="212"/>
                </a:lnTo>
                <a:lnTo>
                  <a:pt x="476" y="174"/>
                </a:lnTo>
                <a:lnTo>
                  <a:pt x="449" y="142"/>
                </a:lnTo>
                <a:lnTo>
                  <a:pt x="417" y="113"/>
                </a:lnTo>
                <a:lnTo>
                  <a:pt x="379" y="93"/>
                </a:lnTo>
                <a:lnTo>
                  <a:pt x="338" y="81"/>
                </a:lnTo>
                <a:lnTo>
                  <a:pt x="295" y="77"/>
                </a:lnTo>
                <a:lnTo>
                  <a:pt x="250" y="81"/>
                </a:lnTo>
                <a:lnTo>
                  <a:pt x="211" y="93"/>
                </a:lnTo>
                <a:lnTo>
                  <a:pt x="173" y="113"/>
                </a:lnTo>
                <a:lnTo>
                  <a:pt x="139" y="142"/>
                </a:lnTo>
                <a:lnTo>
                  <a:pt x="112" y="174"/>
                </a:lnTo>
                <a:lnTo>
                  <a:pt x="93" y="212"/>
                </a:lnTo>
                <a:lnTo>
                  <a:pt x="80" y="251"/>
                </a:lnTo>
                <a:lnTo>
                  <a:pt x="75" y="296"/>
                </a:lnTo>
                <a:lnTo>
                  <a:pt x="80" y="341"/>
                </a:lnTo>
                <a:lnTo>
                  <a:pt x="93" y="380"/>
                </a:lnTo>
                <a:lnTo>
                  <a:pt x="112" y="418"/>
                </a:lnTo>
                <a:lnTo>
                  <a:pt x="139" y="450"/>
                </a:lnTo>
                <a:lnTo>
                  <a:pt x="173" y="479"/>
                </a:lnTo>
                <a:lnTo>
                  <a:pt x="211" y="498"/>
                </a:lnTo>
                <a:lnTo>
                  <a:pt x="250" y="511"/>
                </a:lnTo>
                <a:lnTo>
                  <a:pt x="295" y="514"/>
                </a:lnTo>
                <a:lnTo>
                  <a:pt x="338" y="511"/>
                </a:lnTo>
                <a:lnTo>
                  <a:pt x="379" y="498"/>
                </a:lnTo>
                <a:lnTo>
                  <a:pt x="417" y="479"/>
                </a:lnTo>
                <a:lnTo>
                  <a:pt x="449" y="450"/>
                </a:lnTo>
                <a:lnTo>
                  <a:pt x="476" y="418"/>
                </a:lnTo>
                <a:lnTo>
                  <a:pt x="496" y="380"/>
                </a:lnTo>
                <a:lnTo>
                  <a:pt x="510" y="341"/>
                </a:lnTo>
                <a:lnTo>
                  <a:pt x="514" y="296"/>
                </a:lnTo>
                <a:lnTo>
                  <a:pt x="589" y="296"/>
                </a:lnTo>
                <a:close/>
              </a:path>
            </a:pathLst>
          </a:cu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34"/>
          <p:cNvSpPr/>
          <p:nvPr/>
        </p:nvSpPr>
        <p:spPr>
          <a:xfrm>
            <a:off x="4230720" y="2595600"/>
            <a:ext cx="703080" cy="700200"/>
          </a:xfrm>
          <a:custGeom>
            <a:avLst/>
            <a:gdLst>
              <a:gd name="textAreaLeft" fmla="*/ 0 w 703080"/>
              <a:gd name="textAreaRight" fmla="*/ 703080 w 70308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443" h="441">
                <a:moveTo>
                  <a:pt x="443" y="221"/>
                </a:moveTo>
                <a:lnTo>
                  <a:pt x="437" y="176"/>
                </a:lnTo>
                <a:lnTo>
                  <a:pt x="425" y="135"/>
                </a:lnTo>
                <a:lnTo>
                  <a:pt x="403" y="97"/>
                </a:lnTo>
                <a:lnTo>
                  <a:pt x="376" y="65"/>
                </a:lnTo>
                <a:lnTo>
                  <a:pt x="344" y="38"/>
                </a:lnTo>
                <a:lnTo>
                  <a:pt x="308" y="18"/>
                </a:lnTo>
                <a:lnTo>
                  <a:pt x="265" y="4"/>
                </a:lnTo>
                <a:lnTo>
                  <a:pt x="222" y="0"/>
                </a:lnTo>
                <a:lnTo>
                  <a:pt x="177" y="4"/>
                </a:lnTo>
                <a:lnTo>
                  <a:pt x="136" y="18"/>
                </a:lnTo>
                <a:lnTo>
                  <a:pt x="99" y="38"/>
                </a:lnTo>
                <a:lnTo>
                  <a:pt x="66" y="65"/>
                </a:lnTo>
                <a:lnTo>
                  <a:pt x="39" y="97"/>
                </a:lnTo>
                <a:lnTo>
                  <a:pt x="18" y="135"/>
                </a:lnTo>
                <a:lnTo>
                  <a:pt x="5" y="176"/>
                </a:lnTo>
                <a:lnTo>
                  <a:pt x="0" y="221"/>
                </a:lnTo>
                <a:lnTo>
                  <a:pt x="5" y="266"/>
                </a:lnTo>
                <a:lnTo>
                  <a:pt x="18" y="307"/>
                </a:lnTo>
                <a:lnTo>
                  <a:pt x="39" y="344"/>
                </a:lnTo>
                <a:lnTo>
                  <a:pt x="66" y="377"/>
                </a:lnTo>
                <a:lnTo>
                  <a:pt x="99" y="404"/>
                </a:lnTo>
                <a:lnTo>
                  <a:pt x="136" y="423"/>
                </a:lnTo>
                <a:lnTo>
                  <a:pt x="177" y="438"/>
                </a:lnTo>
                <a:lnTo>
                  <a:pt x="222" y="441"/>
                </a:lnTo>
                <a:lnTo>
                  <a:pt x="265" y="438"/>
                </a:lnTo>
                <a:lnTo>
                  <a:pt x="308" y="423"/>
                </a:lnTo>
                <a:lnTo>
                  <a:pt x="344" y="404"/>
                </a:lnTo>
                <a:lnTo>
                  <a:pt x="376" y="377"/>
                </a:lnTo>
                <a:lnTo>
                  <a:pt x="403" y="344"/>
                </a:lnTo>
                <a:lnTo>
                  <a:pt x="425" y="307"/>
                </a:lnTo>
                <a:lnTo>
                  <a:pt x="437" y="266"/>
                </a:lnTo>
                <a:lnTo>
                  <a:pt x="443" y="221"/>
                </a:lnTo>
                <a:lnTo>
                  <a:pt x="369" y="221"/>
                </a:lnTo>
                <a:lnTo>
                  <a:pt x="366" y="190"/>
                </a:lnTo>
                <a:lnTo>
                  <a:pt x="357" y="165"/>
                </a:lnTo>
                <a:lnTo>
                  <a:pt x="344" y="140"/>
                </a:lnTo>
                <a:lnTo>
                  <a:pt x="326" y="117"/>
                </a:lnTo>
                <a:lnTo>
                  <a:pt x="303" y="99"/>
                </a:lnTo>
                <a:lnTo>
                  <a:pt x="278" y="86"/>
                </a:lnTo>
                <a:lnTo>
                  <a:pt x="251" y="78"/>
                </a:lnTo>
                <a:lnTo>
                  <a:pt x="222" y="74"/>
                </a:lnTo>
                <a:lnTo>
                  <a:pt x="192" y="78"/>
                </a:lnTo>
                <a:lnTo>
                  <a:pt x="165" y="86"/>
                </a:lnTo>
                <a:lnTo>
                  <a:pt x="140" y="99"/>
                </a:lnTo>
                <a:lnTo>
                  <a:pt x="118" y="117"/>
                </a:lnTo>
                <a:lnTo>
                  <a:pt x="100" y="140"/>
                </a:lnTo>
                <a:lnTo>
                  <a:pt x="86" y="165"/>
                </a:lnTo>
                <a:lnTo>
                  <a:pt x="77" y="190"/>
                </a:lnTo>
                <a:lnTo>
                  <a:pt x="75" y="221"/>
                </a:lnTo>
                <a:lnTo>
                  <a:pt x="77" y="251"/>
                </a:lnTo>
                <a:lnTo>
                  <a:pt x="86" y="276"/>
                </a:lnTo>
                <a:lnTo>
                  <a:pt x="100" y="301"/>
                </a:lnTo>
                <a:lnTo>
                  <a:pt x="118" y="325"/>
                </a:lnTo>
                <a:lnTo>
                  <a:pt x="140" y="343"/>
                </a:lnTo>
                <a:lnTo>
                  <a:pt x="165" y="355"/>
                </a:lnTo>
                <a:lnTo>
                  <a:pt x="192" y="364"/>
                </a:lnTo>
                <a:lnTo>
                  <a:pt x="222" y="368"/>
                </a:lnTo>
                <a:lnTo>
                  <a:pt x="251" y="364"/>
                </a:lnTo>
                <a:lnTo>
                  <a:pt x="278" y="355"/>
                </a:lnTo>
                <a:lnTo>
                  <a:pt x="303" y="343"/>
                </a:lnTo>
                <a:lnTo>
                  <a:pt x="326" y="325"/>
                </a:lnTo>
                <a:lnTo>
                  <a:pt x="344" y="301"/>
                </a:lnTo>
                <a:lnTo>
                  <a:pt x="357" y="276"/>
                </a:lnTo>
                <a:lnTo>
                  <a:pt x="366" y="251"/>
                </a:lnTo>
                <a:lnTo>
                  <a:pt x="369" y="221"/>
                </a:lnTo>
                <a:lnTo>
                  <a:pt x="443" y="221"/>
                </a:lnTo>
                <a:close/>
              </a:path>
            </a:pathLst>
          </a:cu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35"/>
          <p:cNvSpPr/>
          <p:nvPr/>
        </p:nvSpPr>
        <p:spPr>
          <a:xfrm>
            <a:off x="4348080" y="2709720"/>
            <a:ext cx="468360" cy="473040"/>
          </a:xfrm>
          <a:custGeom>
            <a:avLst/>
            <a:gdLst>
              <a:gd name="textAreaLeft" fmla="*/ 0 w 468360"/>
              <a:gd name="textAreaRight" fmla="*/ 468720 w 468360"/>
              <a:gd name="textAreaTop" fmla="*/ 0 h 473040"/>
              <a:gd name="textAreaBottom" fmla="*/ 473040 h 473040"/>
            </a:gdLst>
            <a:ahLst/>
            <a:rect l="textAreaLeft" t="textAreaTop" r="textAreaRight" b="textAreaBottom"/>
            <a:pathLst>
              <a:path w="295" h="298">
                <a:moveTo>
                  <a:pt x="295" y="149"/>
                </a:moveTo>
                <a:lnTo>
                  <a:pt x="293" y="118"/>
                </a:lnTo>
                <a:lnTo>
                  <a:pt x="284" y="92"/>
                </a:lnTo>
                <a:lnTo>
                  <a:pt x="270" y="66"/>
                </a:lnTo>
                <a:lnTo>
                  <a:pt x="252" y="43"/>
                </a:lnTo>
                <a:lnTo>
                  <a:pt x="231" y="25"/>
                </a:lnTo>
                <a:lnTo>
                  <a:pt x="206" y="13"/>
                </a:lnTo>
                <a:lnTo>
                  <a:pt x="177" y="4"/>
                </a:lnTo>
                <a:lnTo>
                  <a:pt x="148" y="0"/>
                </a:lnTo>
                <a:lnTo>
                  <a:pt x="118" y="4"/>
                </a:lnTo>
                <a:lnTo>
                  <a:pt x="89" y="13"/>
                </a:lnTo>
                <a:lnTo>
                  <a:pt x="64" y="25"/>
                </a:lnTo>
                <a:lnTo>
                  <a:pt x="43" y="43"/>
                </a:lnTo>
                <a:lnTo>
                  <a:pt x="25" y="66"/>
                </a:lnTo>
                <a:lnTo>
                  <a:pt x="12" y="92"/>
                </a:lnTo>
                <a:lnTo>
                  <a:pt x="3" y="118"/>
                </a:lnTo>
                <a:lnTo>
                  <a:pt x="0" y="149"/>
                </a:lnTo>
                <a:lnTo>
                  <a:pt x="3" y="179"/>
                </a:lnTo>
                <a:lnTo>
                  <a:pt x="12" y="206"/>
                </a:lnTo>
                <a:lnTo>
                  <a:pt x="25" y="231"/>
                </a:lnTo>
                <a:lnTo>
                  <a:pt x="43" y="255"/>
                </a:lnTo>
                <a:lnTo>
                  <a:pt x="64" y="272"/>
                </a:lnTo>
                <a:lnTo>
                  <a:pt x="89" y="285"/>
                </a:lnTo>
                <a:lnTo>
                  <a:pt x="118" y="294"/>
                </a:lnTo>
                <a:lnTo>
                  <a:pt x="148" y="298"/>
                </a:lnTo>
                <a:lnTo>
                  <a:pt x="177" y="294"/>
                </a:lnTo>
                <a:lnTo>
                  <a:pt x="206" y="285"/>
                </a:lnTo>
                <a:lnTo>
                  <a:pt x="231" y="272"/>
                </a:lnTo>
                <a:lnTo>
                  <a:pt x="252" y="255"/>
                </a:lnTo>
                <a:lnTo>
                  <a:pt x="270" y="231"/>
                </a:lnTo>
                <a:lnTo>
                  <a:pt x="284" y="206"/>
                </a:lnTo>
                <a:lnTo>
                  <a:pt x="293" y="179"/>
                </a:lnTo>
                <a:lnTo>
                  <a:pt x="295" y="149"/>
                </a:ln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36"/>
          <p:cNvSpPr/>
          <p:nvPr/>
        </p:nvSpPr>
        <p:spPr>
          <a:xfrm>
            <a:off x="4464000" y="2827440"/>
            <a:ext cx="238320" cy="237960"/>
          </a:xfrm>
          <a:custGeom>
            <a:avLst/>
            <a:gdLst>
              <a:gd name="textAreaLeft" fmla="*/ 0 w 238320"/>
              <a:gd name="textAreaRight" fmla="*/ 238680 w 23832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50" h="150">
                <a:moveTo>
                  <a:pt x="150" y="75"/>
                </a:moveTo>
                <a:lnTo>
                  <a:pt x="149" y="61"/>
                </a:lnTo>
                <a:lnTo>
                  <a:pt x="143" y="44"/>
                </a:lnTo>
                <a:lnTo>
                  <a:pt x="136" y="34"/>
                </a:lnTo>
                <a:lnTo>
                  <a:pt x="127" y="21"/>
                </a:lnTo>
                <a:lnTo>
                  <a:pt x="116" y="12"/>
                </a:lnTo>
                <a:lnTo>
                  <a:pt x="104" y="5"/>
                </a:lnTo>
                <a:lnTo>
                  <a:pt x="90" y="1"/>
                </a:lnTo>
                <a:lnTo>
                  <a:pt x="75" y="0"/>
                </a:lnTo>
                <a:lnTo>
                  <a:pt x="59" y="1"/>
                </a:lnTo>
                <a:lnTo>
                  <a:pt x="45" y="5"/>
                </a:lnTo>
                <a:lnTo>
                  <a:pt x="32" y="12"/>
                </a:lnTo>
                <a:lnTo>
                  <a:pt x="21" y="21"/>
                </a:lnTo>
                <a:lnTo>
                  <a:pt x="13" y="34"/>
                </a:lnTo>
                <a:lnTo>
                  <a:pt x="5" y="44"/>
                </a:lnTo>
                <a:lnTo>
                  <a:pt x="0" y="61"/>
                </a:lnTo>
                <a:lnTo>
                  <a:pt x="0" y="75"/>
                </a:lnTo>
                <a:lnTo>
                  <a:pt x="0" y="89"/>
                </a:lnTo>
                <a:lnTo>
                  <a:pt x="5" y="105"/>
                </a:lnTo>
                <a:lnTo>
                  <a:pt x="13" y="116"/>
                </a:lnTo>
                <a:lnTo>
                  <a:pt x="21" y="129"/>
                </a:lnTo>
                <a:lnTo>
                  <a:pt x="32" y="138"/>
                </a:lnTo>
                <a:lnTo>
                  <a:pt x="45" y="145"/>
                </a:lnTo>
                <a:lnTo>
                  <a:pt x="59" y="148"/>
                </a:lnTo>
                <a:lnTo>
                  <a:pt x="75" y="150"/>
                </a:lnTo>
                <a:lnTo>
                  <a:pt x="90" y="148"/>
                </a:lnTo>
                <a:lnTo>
                  <a:pt x="104" y="145"/>
                </a:lnTo>
                <a:lnTo>
                  <a:pt x="116" y="138"/>
                </a:lnTo>
                <a:lnTo>
                  <a:pt x="127" y="129"/>
                </a:lnTo>
                <a:lnTo>
                  <a:pt x="136" y="116"/>
                </a:lnTo>
                <a:lnTo>
                  <a:pt x="143" y="105"/>
                </a:lnTo>
                <a:lnTo>
                  <a:pt x="149" y="89"/>
                </a:lnTo>
                <a:lnTo>
                  <a:pt x="15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37"/>
          <p:cNvSpPr/>
          <p:nvPr/>
        </p:nvSpPr>
        <p:spPr>
          <a:xfrm>
            <a:off x="4583160" y="1279440"/>
            <a:ext cx="1677960" cy="167004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1057" h="1052">
                <a:moveTo>
                  <a:pt x="1057" y="1052"/>
                </a:moveTo>
                <a:lnTo>
                  <a:pt x="1055" y="996"/>
                </a:lnTo>
                <a:lnTo>
                  <a:pt x="1052" y="944"/>
                </a:lnTo>
                <a:lnTo>
                  <a:pt x="1046" y="892"/>
                </a:lnTo>
                <a:lnTo>
                  <a:pt x="1037" y="838"/>
                </a:lnTo>
                <a:lnTo>
                  <a:pt x="1025" y="788"/>
                </a:lnTo>
                <a:lnTo>
                  <a:pt x="1009" y="738"/>
                </a:lnTo>
                <a:lnTo>
                  <a:pt x="993" y="690"/>
                </a:lnTo>
                <a:lnTo>
                  <a:pt x="975" y="643"/>
                </a:lnTo>
                <a:lnTo>
                  <a:pt x="953" y="595"/>
                </a:lnTo>
                <a:lnTo>
                  <a:pt x="928" y="548"/>
                </a:lnTo>
                <a:lnTo>
                  <a:pt x="903" y="505"/>
                </a:lnTo>
                <a:lnTo>
                  <a:pt x="876" y="464"/>
                </a:lnTo>
                <a:lnTo>
                  <a:pt x="846" y="423"/>
                </a:lnTo>
                <a:lnTo>
                  <a:pt x="817" y="382"/>
                </a:lnTo>
                <a:lnTo>
                  <a:pt x="781" y="342"/>
                </a:lnTo>
                <a:lnTo>
                  <a:pt x="747" y="308"/>
                </a:lnTo>
                <a:lnTo>
                  <a:pt x="710" y="274"/>
                </a:lnTo>
                <a:lnTo>
                  <a:pt x="672" y="240"/>
                </a:lnTo>
                <a:lnTo>
                  <a:pt x="631" y="208"/>
                </a:lnTo>
                <a:lnTo>
                  <a:pt x="591" y="179"/>
                </a:lnTo>
                <a:lnTo>
                  <a:pt x="547" y="152"/>
                </a:lnTo>
                <a:lnTo>
                  <a:pt x="504" y="127"/>
                </a:lnTo>
                <a:lnTo>
                  <a:pt x="457" y="104"/>
                </a:lnTo>
                <a:lnTo>
                  <a:pt x="410" y="82"/>
                </a:lnTo>
                <a:lnTo>
                  <a:pt x="362" y="63"/>
                </a:lnTo>
                <a:lnTo>
                  <a:pt x="314" y="47"/>
                </a:lnTo>
                <a:lnTo>
                  <a:pt x="262" y="32"/>
                </a:lnTo>
                <a:lnTo>
                  <a:pt x="213" y="20"/>
                </a:lnTo>
                <a:lnTo>
                  <a:pt x="160" y="11"/>
                </a:lnTo>
                <a:lnTo>
                  <a:pt x="106" y="5"/>
                </a:lnTo>
                <a:lnTo>
                  <a:pt x="54" y="0"/>
                </a:lnTo>
                <a:lnTo>
                  <a:pt x="0" y="0"/>
                </a:lnTo>
                <a:lnTo>
                  <a:pt x="0" y="41"/>
                </a:lnTo>
                <a:lnTo>
                  <a:pt x="52" y="43"/>
                </a:lnTo>
                <a:lnTo>
                  <a:pt x="104" y="47"/>
                </a:lnTo>
                <a:lnTo>
                  <a:pt x="154" y="52"/>
                </a:lnTo>
                <a:lnTo>
                  <a:pt x="204" y="61"/>
                </a:lnTo>
                <a:lnTo>
                  <a:pt x="253" y="73"/>
                </a:lnTo>
                <a:lnTo>
                  <a:pt x="301" y="84"/>
                </a:lnTo>
                <a:lnTo>
                  <a:pt x="348" y="102"/>
                </a:lnTo>
                <a:lnTo>
                  <a:pt x="396" y="120"/>
                </a:lnTo>
                <a:lnTo>
                  <a:pt x="439" y="141"/>
                </a:lnTo>
                <a:lnTo>
                  <a:pt x="482" y="163"/>
                </a:lnTo>
                <a:lnTo>
                  <a:pt x="525" y="188"/>
                </a:lnTo>
                <a:lnTo>
                  <a:pt x="568" y="215"/>
                </a:lnTo>
                <a:lnTo>
                  <a:pt x="607" y="240"/>
                </a:lnTo>
                <a:lnTo>
                  <a:pt x="645" y="272"/>
                </a:lnTo>
                <a:lnTo>
                  <a:pt x="683" y="303"/>
                </a:lnTo>
                <a:lnTo>
                  <a:pt x="717" y="337"/>
                </a:lnTo>
                <a:lnTo>
                  <a:pt x="753" y="373"/>
                </a:lnTo>
                <a:lnTo>
                  <a:pt x="783" y="408"/>
                </a:lnTo>
                <a:lnTo>
                  <a:pt x="813" y="446"/>
                </a:lnTo>
                <a:lnTo>
                  <a:pt x="842" y="487"/>
                </a:lnTo>
                <a:lnTo>
                  <a:pt x="867" y="527"/>
                </a:lnTo>
                <a:lnTo>
                  <a:pt x="894" y="570"/>
                </a:lnTo>
                <a:lnTo>
                  <a:pt x="916" y="613"/>
                </a:lnTo>
                <a:lnTo>
                  <a:pt x="937" y="657"/>
                </a:lnTo>
                <a:lnTo>
                  <a:pt x="953" y="704"/>
                </a:lnTo>
                <a:lnTo>
                  <a:pt x="969" y="751"/>
                </a:lnTo>
                <a:lnTo>
                  <a:pt x="984" y="799"/>
                </a:lnTo>
                <a:lnTo>
                  <a:pt x="996" y="847"/>
                </a:lnTo>
                <a:lnTo>
                  <a:pt x="1005" y="898"/>
                </a:lnTo>
                <a:lnTo>
                  <a:pt x="1011" y="948"/>
                </a:lnTo>
                <a:lnTo>
                  <a:pt x="1014" y="1000"/>
                </a:lnTo>
                <a:lnTo>
                  <a:pt x="1016" y="1052"/>
                </a:lnTo>
                <a:lnTo>
                  <a:pt x="1057" y="105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38"/>
          <p:cNvSpPr/>
          <p:nvPr/>
        </p:nvSpPr>
        <p:spPr>
          <a:xfrm>
            <a:off x="4583160" y="2949480"/>
            <a:ext cx="1677960" cy="166680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w="1057" h="1050">
                <a:moveTo>
                  <a:pt x="0" y="1050"/>
                </a:moveTo>
                <a:lnTo>
                  <a:pt x="54" y="1048"/>
                </a:lnTo>
                <a:lnTo>
                  <a:pt x="106" y="1044"/>
                </a:lnTo>
                <a:lnTo>
                  <a:pt x="160" y="1039"/>
                </a:lnTo>
                <a:lnTo>
                  <a:pt x="213" y="1030"/>
                </a:lnTo>
                <a:lnTo>
                  <a:pt x="262" y="1017"/>
                </a:lnTo>
                <a:lnTo>
                  <a:pt x="314" y="1003"/>
                </a:lnTo>
                <a:lnTo>
                  <a:pt x="362" y="987"/>
                </a:lnTo>
                <a:lnTo>
                  <a:pt x="410" y="967"/>
                </a:lnTo>
                <a:lnTo>
                  <a:pt x="457" y="946"/>
                </a:lnTo>
                <a:lnTo>
                  <a:pt x="504" y="922"/>
                </a:lnTo>
                <a:lnTo>
                  <a:pt x="547" y="897"/>
                </a:lnTo>
                <a:lnTo>
                  <a:pt x="591" y="870"/>
                </a:lnTo>
                <a:lnTo>
                  <a:pt x="631" y="842"/>
                </a:lnTo>
                <a:lnTo>
                  <a:pt x="672" y="809"/>
                </a:lnTo>
                <a:lnTo>
                  <a:pt x="710" y="775"/>
                </a:lnTo>
                <a:lnTo>
                  <a:pt x="747" y="741"/>
                </a:lnTo>
                <a:lnTo>
                  <a:pt x="781" y="706"/>
                </a:lnTo>
                <a:lnTo>
                  <a:pt x="817" y="668"/>
                </a:lnTo>
                <a:lnTo>
                  <a:pt x="846" y="627"/>
                </a:lnTo>
                <a:lnTo>
                  <a:pt x="876" y="585"/>
                </a:lnTo>
                <a:lnTo>
                  <a:pt x="903" y="542"/>
                </a:lnTo>
                <a:lnTo>
                  <a:pt x="928" y="499"/>
                </a:lnTo>
                <a:lnTo>
                  <a:pt x="953" y="455"/>
                </a:lnTo>
                <a:lnTo>
                  <a:pt x="975" y="406"/>
                </a:lnTo>
                <a:lnTo>
                  <a:pt x="993" y="362"/>
                </a:lnTo>
                <a:lnTo>
                  <a:pt x="1009" y="311"/>
                </a:lnTo>
                <a:lnTo>
                  <a:pt x="1025" y="261"/>
                </a:lnTo>
                <a:lnTo>
                  <a:pt x="1037" y="211"/>
                </a:lnTo>
                <a:lnTo>
                  <a:pt x="1046" y="159"/>
                </a:lnTo>
                <a:lnTo>
                  <a:pt x="1052" y="105"/>
                </a:lnTo>
                <a:lnTo>
                  <a:pt x="1055" y="53"/>
                </a:lnTo>
                <a:lnTo>
                  <a:pt x="1057" y="0"/>
                </a:lnTo>
                <a:lnTo>
                  <a:pt x="1016" y="0"/>
                </a:lnTo>
                <a:lnTo>
                  <a:pt x="1014" y="52"/>
                </a:lnTo>
                <a:lnTo>
                  <a:pt x="1011" y="104"/>
                </a:lnTo>
                <a:lnTo>
                  <a:pt x="1005" y="154"/>
                </a:lnTo>
                <a:lnTo>
                  <a:pt x="996" y="202"/>
                </a:lnTo>
                <a:lnTo>
                  <a:pt x="985" y="250"/>
                </a:lnTo>
                <a:lnTo>
                  <a:pt x="969" y="299"/>
                </a:lnTo>
                <a:lnTo>
                  <a:pt x="953" y="345"/>
                </a:lnTo>
                <a:lnTo>
                  <a:pt x="937" y="392"/>
                </a:lnTo>
                <a:lnTo>
                  <a:pt x="916" y="437"/>
                </a:lnTo>
                <a:lnTo>
                  <a:pt x="894" y="480"/>
                </a:lnTo>
                <a:lnTo>
                  <a:pt x="867" y="523"/>
                </a:lnTo>
                <a:lnTo>
                  <a:pt x="842" y="562"/>
                </a:lnTo>
                <a:lnTo>
                  <a:pt x="813" y="602"/>
                </a:lnTo>
                <a:lnTo>
                  <a:pt x="783" y="641"/>
                </a:lnTo>
                <a:lnTo>
                  <a:pt x="753" y="677"/>
                </a:lnTo>
                <a:lnTo>
                  <a:pt x="717" y="713"/>
                </a:lnTo>
                <a:lnTo>
                  <a:pt x="683" y="747"/>
                </a:lnTo>
                <a:lnTo>
                  <a:pt x="645" y="777"/>
                </a:lnTo>
                <a:lnTo>
                  <a:pt x="607" y="808"/>
                </a:lnTo>
                <a:lnTo>
                  <a:pt x="568" y="835"/>
                </a:lnTo>
                <a:lnTo>
                  <a:pt x="525" y="861"/>
                </a:lnTo>
                <a:lnTo>
                  <a:pt x="482" y="886"/>
                </a:lnTo>
                <a:lnTo>
                  <a:pt x="439" y="908"/>
                </a:lnTo>
                <a:lnTo>
                  <a:pt x="396" y="929"/>
                </a:lnTo>
                <a:lnTo>
                  <a:pt x="348" y="947"/>
                </a:lnTo>
                <a:lnTo>
                  <a:pt x="301" y="964"/>
                </a:lnTo>
                <a:lnTo>
                  <a:pt x="253" y="976"/>
                </a:lnTo>
                <a:lnTo>
                  <a:pt x="204" y="989"/>
                </a:lnTo>
                <a:lnTo>
                  <a:pt x="154" y="996"/>
                </a:lnTo>
                <a:lnTo>
                  <a:pt x="104" y="1003"/>
                </a:lnTo>
                <a:lnTo>
                  <a:pt x="52" y="1007"/>
                </a:lnTo>
                <a:lnTo>
                  <a:pt x="0" y="1008"/>
                </a:lnTo>
                <a:lnTo>
                  <a:pt x="0" y="105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39"/>
          <p:cNvSpPr/>
          <p:nvPr/>
        </p:nvSpPr>
        <p:spPr>
          <a:xfrm>
            <a:off x="2903400" y="2949480"/>
            <a:ext cx="1679760" cy="166680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w="1058" h="1050">
                <a:moveTo>
                  <a:pt x="0" y="0"/>
                </a:moveTo>
                <a:lnTo>
                  <a:pt x="1" y="53"/>
                </a:lnTo>
                <a:lnTo>
                  <a:pt x="5" y="105"/>
                </a:lnTo>
                <a:lnTo>
                  <a:pt x="10" y="159"/>
                </a:lnTo>
                <a:lnTo>
                  <a:pt x="21" y="211"/>
                </a:lnTo>
                <a:lnTo>
                  <a:pt x="34" y="261"/>
                </a:lnTo>
                <a:lnTo>
                  <a:pt x="48" y="311"/>
                </a:lnTo>
                <a:lnTo>
                  <a:pt x="64" y="362"/>
                </a:lnTo>
                <a:lnTo>
                  <a:pt x="82" y="406"/>
                </a:lnTo>
                <a:lnTo>
                  <a:pt x="103" y="455"/>
                </a:lnTo>
                <a:lnTo>
                  <a:pt x="129" y="499"/>
                </a:lnTo>
                <a:lnTo>
                  <a:pt x="154" y="542"/>
                </a:lnTo>
                <a:lnTo>
                  <a:pt x="182" y="585"/>
                </a:lnTo>
                <a:lnTo>
                  <a:pt x="211" y="627"/>
                </a:lnTo>
                <a:lnTo>
                  <a:pt x="241" y="668"/>
                </a:lnTo>
                <a:lnTo>
                  <a:pt x="275" y="706"/>
                </a:lnTo>
                <a:lnTo>
                  <a:pt x="311" y="741"/>
                </a:lnTo>
                <a:lnTo>
                  <a:pt x="347" y="775"/>
                </a:lnTo>
                <a:lnTo>
                  <a:pt x="385" y="809"/>
                </a:lnTo>
                <a:lnTo>
                  <a:pt x="426" y="842"/>
                </a:lnTo>
                <a:lnTo>
                  <a:pt x="467" y="870"/>
                </a:lnTo>
                <a:lnTo>
                  <a:pt x="510" y="897"/>
                </a:lnTo>
                <a:lnTo>
                  <a:pt x="553" y="922"/>
                </a:lnTo>
                <a:lnTo>
                  <a:pt x="600" y="946"/>
                </a:lnTo>
                <a:lnTo>
                  <a:pt x="648" y="967"/>
                </a:lnTo>
                <a:lnTo>
                  <a:pt x="695" y="987"/>
                </a:lnTo>
                <a:lnTo>
                  <a:pt x="743" y="1003"/>
                </a:lnTo>
                <a:lnTo>
                  <a:pt x="795" y="1017"/>
                </a:lnTo>
                <a:lnTo>
                  <a:pt x="845" y="1030"/>
                </a:lnTo>
                <a:lnTo>
                  <a:pt x="897" y="1039"/>
                </a:lnTo>
                <a:lnTo>
                  <a:pt x="951" y="1044"/>
                </a:lnTo>
                <a:lnTo>
                  <a:pt x="1003" y="1048"/>
                </a:lnTo>
                <a:lnTo>
                  <a:pt x="1058" y="1050"/>
                </a:lnTo>
                <a:lnTo>
                  <a:pt x="1058" y="1008"/>
                </a:lnTo>
                <a:lnTo>
                  <a:pt x="1006" y="1007"/>
                </a:lnTo>
                <a:lnTo>
                  <a:pt x="954" y="1003"/>
                </a:lnTo>
                <a:lnTo>
                  <a:pt x="902" y="996"/>
                </a:lnTo>
                <a:lnTo>
                  <a:pt x="852" y="989"/>
                </a:lnTo>
                <a:lnTo>
                  <a:pt x="804" y="976"/>
                </a:lnTo>
                <a:lnTo>
                  <a:pt x="755" y="964"/>
                </a:lnTo>
                <a:lnTo>
                  <a:pt x="709" y="947"/>
                </a:lnTo>
                <a:lnTo>
                  <a:pt x="662" y="929"/>
                </a:lnTo>
                <a:lnTo>
                  <a:pt x="618" y="908"/>
                </a:lnTo>
                <a:lnTo>
                  <a:pt x="575" y="886"/>
                </a:lnTo>
                <a:lnTo>
                  <a:pt x="532" y="861"/>
                </a:lnTo>
                <a:lnTo>
                  <a:pt x="490" y="835"/>
                </a:lnTo>
                <a:lnTo>
                  <a:pt x="451" y="808"/>
                </a:lnTo>
                <a:lnTo>
                  <a:pt x="412" y="777"/>
                </a:lnTo>
                <a:lnTo>
                  <a:pt x="374" y="747"/>
                </a:lnTo>
                <a:lnTo>
                  <a:pt x="340" y="713"/>
                </a:lnTo>
                <a:lnTo>
                  <a:pt x="304" y="677"/>
                </a:lnTo>
                <a:lnTo>
                  <a:pt x="274" y="641"/>
                </a:lnTo>
                <a:lnTo>
                  <a:pt x="243" y="602"/>
                </a:lnTo>
                <a:lnTo>
                  <a:pt x="214" y="562"/>
                </a:lnTo>
                <a:lnTo>
                  <a:pt x="189" y="523"/>
                </a:lnTo>
                <a:lnTo>
                  <a:pt x="164" y="480"/>
                </a:lnTo>
                <a:lnTo>
                  <a:pt x="141" y="437"/>
                </a:lnTo>
                <a:lnTo>
                  <a:pt x="121" y="392"/>
                </a:lnTo>
                <a:lnTo>
                  <a:pt x="103" y="345"/>
                </a:lnTo>
                <a:lnTo>
                  <a:pt x="87" y="299"/>
                </a:lnTo>
                <a:lnTo>
                  <a:pt x="71" y="250"/>
                </a:lnTo>
                <a:lnTo>
                  <a:pt x="62" y="202"/>
                </a:lnTo>
                <a:lnTo>
                  <a:pt x="53" y="154"/>
                </a:lnTo>
                <a:lnTo>
                  <a:pt x="46" y="104"/>
                </a:lnTo>
                <a:lnTo>
                  <a:pt x="43" y="52"/>
                </a:lnTo>
                <a:lnTo>
                  <a:pt x="41" y="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40"/>
          <p:cNvSpPr/>
          <p:nvPr/>
        </p:nvSpPr>
        <p:spPr>
          <a:xfrm>
            <a:off x="2903400" y="1279440"/>
            <a:ext cx="1679760" cy="167004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1058" h="1052">
                <a:moveTo>
                  <a:pt x="1058" y="0"/>
                </a:moveTo>
                <a:lnTo>
                  <a:pt x="1003" y="0"/>
                </a:lnTo>
                <a:lnTo>
                  <a:pt x="951" y="5"/>
                </a:lnTo>
                <a:lnTo>
                  <a:pt x="897" y="11"/>
                </a:lnTo>
                <a:lnTo>
                  <a:pt x="845" y="20"/>
                </a:lnTo>
                <a:lnTo>
                  <a:pt x="795" y="32"/>
                </a:lnTo>
                <a:lnTo>
                  <a:pt x="743" y="47"/>
                </a:lnTo>
                <a:lnTo>
                  <a:pt x="695" y="63"/>
                </a:lnTo>
                <a:lnTo>
                  <a:pt x="648" y="82"/>
                </a:lnTo>
                <a:lnTo>
                  <a:pt x="600" y="104"/>
                </a:lnTo>
                <a:lnTo>
                  <a:pt x="553" y="127"/>
                </a:lnTo>
                <a:lnTo>
                  <a:pt x="510" y="152"/>
                </a:lnTo>
                <a:lnTo>
                  <a:pt x="467" y="179"/>
                </a:lnTo>
                <a:lnTo>
                  <a:pt x="426" y="208"/>
                </a:lnTo>
                <a:lnTo>
                  <a:pt x="385" y="240"/>
                </a:lnTo>
                <a:lnTo>
                  <a:pt x="347" y="274"/>
                </a:lnTo>
                <a:lnTo>
                  <a:pt x="311" y="308"/>
                </a:lnTo>
                <a:lnTo>
                  <a:pt x="275" y="342"/>
                </a:lnTo>
                <a:lnTo>
                  <a:pt x="241" y="382"/>
                </a:lnTo>
                <a:lnTo>
                  <a:pt x="211" y="423"/>
                </a:lnTo>
                <a:lnTo>
                  <a:pt x="182" y="464"/>
                </a:lnTo>
                <a:lnTo>
                  <a:pt x="154" y="505"/>
                </a:lnTo>
                <a:lnTo>
                  <a:pt x="129" y="548"/>
                </a:lnTo>
                <a:lnTo>
                  <a:pt x="103" y="595"/>
                </a:lnTo>
                <a:lnTo>
                  <a:pt x="82" y="643"/>
                </a:lnTo>
                <a:lnTo>
                  <a:pt x="64" y="690"/>
                </a:lnTo>
                <a:lnTo>
                  <a:pt x="48" y="738"/>
                </a:lnTo>
                <a:lnTo>
                  <a:pt x="32" y="788"/>
                </a:lnTo>
                <a:lnTo>
                  <a:pt x="21" y="838"/>
                </a:lnTo>
                <a:lnTo>
                  <a:pt x="10" y="892"/>
                </a:lnTo>
                <a:lnTo>
                  <a:pt x="5" y="944"/>
                </a:lnTo>
                <a:lnTo>
                  <a:pt x="1" y="996"/>
                </a:lnTo>
                <a:lnTo>
                  <a:pt x="0" y="1052"/>
                </a:lnTo>
                <a:lnTo>
                  <a:pt x="41" y="1052"/>
                </a:lnTo>
                <a:lnTo>
                  <a:pt x="43" y="1000"/>
                </a:lnTo>
                <a:lnTo>
                  <a:pt x="46" y="948"/>
                </a:lnTo>
                <a:lnTo>
                  <a:pt x="53" y="898"/>
                </a:lnTo>
                <a:lnTo>
                  <a:pt x="62" y="847"/>
                </a:lnTo>
                <a:lnTo>
                  <a:pt x="73" y="799"/>
                </a:lnTo>
                <a:lnTo>
                  <a:pt x="87" y="751"/>
                </a:lnTo>
                <a:lnTo>
                  <a:pt x="103" y="704"/>
                </a:lnTo>
                <a:lnTo>
                  <a:pt x="121" y="657"/>
                </a:lnTo>
                <a:lnTo>
                  <a:pt x="141" y="613"/>
                </a:lnTo>
                <a:lnTo>
                  <a:pt x="164" y="570"/>
                </a:lnTo>
                <a:lnTo>
                  <a:pt x="189" y="527"/>
                </a:lnTo>
                <a:lnTo>
                  <a:pt x="214" y="487"/>
                </a:lnTo>
                <a:lnTo>
                  <a:pt x="243" y="446"/>
                </a:lnTo>
                <a:lnTo>
                  <a:pt x="274" y="408"/>
                </a:lnTo>
                <a:lnTo>
                  <a:pt x="304" y="373"/>
                </a:lnTo>
                <a:lnTo>
                  <a:pt x="340" y="337"/>
                </a:lnTo>
                <a:lnTo>
                  <a:pt x="374" y="303"/>
                </a:lnTo>
                <a:lnTo>
                  <a:pt x="412" y="272"/>
                </a:lnTo>
                <a:lnTo>
                  <a:pt x="451" y="240"/>
                </a:lnTo>
                <a:lnTo>
                  <a:pt x="490" y="215"/>
                </a:lnTo>
                <a:lnTo>
                  <a:pt x="532" y="188"/>
                </a:lnTo>
                <a:lnTo>
                  <a:pt x="575" y="163"/>
                </a:lnTo>
                <a:lnTo>
                  <a:pt x="618" y="141"/>
                </a:lnTo>
                <a:lnTo>
                  <a:pt x="662" y="120"/>
                </a:lnTo>
                <a:lnTo>
                  <a:pt x="709" y="102"/>
                </a:lnTo>
                <a:lnTo>
                  <a:pt x="755" y="84"/>
                </a:lnTo>
                <a:lnTo>
                  <a:pt x="804" y="73"/>
                </a:lnTo>
                <a:lnTo>
                  <a:pt x="852" y="61"/>
                </a:lnTo>
                <a:lnTo>
                  <a:pt x="902" y="52"/>
                </a:lnTo>
                <a:lnTo>
                  <a:pt x="954" y="47"/>
                </a:lnTo>
                <a:lnTo>
                  <a:pt x="1006" y="43"/>
                </a:lnTo>
                <a:lnTo>
                  <a:pt x="1058" y="41"/>
                </a:lnTo>
                <a:lnTo>
                  <a:pt x="1058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41"/>
          <p:cNvSpPr/>
          <p:nvPr/>
        </p:nvSpPr>
        <p:spPr>
          <a:xfrm>
            <a:off x="3938760" y="2325600"/>
            <a:ext cx="1304640" cy="1224000"/>
          </a:xfrm>
          <a:custGeom>
            <a:avLst/>
            <a:gdLst>
              <a:gd name="textAreaLeft" fmla="*/ 0 w 1304640"/>
              <a:gd name="textAreaRight" fmla="*/ 1305000 w 1304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822" h="771">
                <a:moveTo>
                  <a:pt x="412" y="0"/>
                </a:moveTo>
                <a:lnTo>
                  <a:pt x="453" y="2"/>
                </a:lnTo>
                <a:lnTo>
                  <a:pt x="494" y="7"/>
                </a:lnTo>
                <a:lnTo>
                  <a:pt x="533" y="18"/>
                </a:lnTo>
                <a:lnTo>
                  <a:pt x="571" y="31"/>
                </a:lnTo>
                <a:lnTo>
                  <a:pt x="607" y="47"/>
                </a:lnTo>
                <a:lnTo>
                  <a:pt x="641" y="67"/>
                </a:lnTo>
                <a:lnTo>
                  <a:pt x="671" y="88"/>
                </a:lnTo>
                <a:lnTo>
                  <a:pt x="702" y="113"/>
                </a:lnTo>
                <a:lnTo>
                  <a:pt x="729" y="140"/>
                </a:lnTo>
                <a:lnTo>
                  <a:pt x="752" y="172"/>
                </a:lnTo>
                <a:lnTo>
                  <a:pt x="773" y="203"/>
                </a:lnTo>
                <a:lnTo>
                  <a:pt x="790" y="237"/>
                </a:lnTo>
                <a:lnTo>
                  <a:pt x="804" y="273"/>
                </a:lnTo>
                <a:lnTo>
                  <a:pt x="813" y="310"/>
                </a:lnTo>
                <a:lnTo>
                  <a:pt x="820" y="348"/>
                </a:lnTo>
                <a:lnTo>
                  <a:pt x="822" y="387"/>
                </a:lnTo>
                <a:lnTo>
                  <a:pt x="820" y="425"/>
                </a:lnTo>
                <a:lnTo>
                  <a:pt x="813" y="463"/>
                </a:lnTo>
                <a:lnTo>
                  <a:pt x="804" y="500"/>
                </a:lnTo>
                <a:lnTo>
                  <a:pt x="790" y="534"/>
                </a:lnTo>
                <a:lnTo>
                  <a:pt x="773" y="568"/>
                </a:lnTo>
                <a:lnTo>
                  <a:pt x="752" y="600"/>
                </a:lnTo>
                <a:lnTo>
                  <a:pt x="729" y="629"/>
                </a:lnTo>
                <a:lnTo>
                  <a:pt x="702" y="658"/>
                </a:lnTo>
                <a:lnTo>
                  <a:pt x="671" y="683"/>
                </a:lnTo>
                <a:lnTo>
                  <a:pt x="641" y="704"/>
                </a:lnTo>
                <a:lnTo>
                  <a:pt x="607" y="724"/>
                </a:lnTo>
                <a:lnTo>
                  <a:pt x="571" y="738"/>
                </a:lnTo>
                <a:lnTo>
                  <a:pt x="533" y="753"/>
                </a:lnTo>
                <a:lnTo>
                  <a:pt x="494" y="763"/>
                </a:lnTo>
                <a:lnTo>
                  <a:pt x="453" y="769"/>
                </a:lnTo>
                <a:lnTo>
                  <a:pt x="412" y="771"/>
                </a:lnTo>
                <a:lnTo>
                  <a:pt x="369" y="769"/>
                </a:lnTo>
                <a:lnTo>
                  <a:pt x="329" y="763"/>
                </a:lnTo>
                <a:lnTo>
                  <a:pt x="288" y="753"/>
                </a:lnTo>
                <a:lnTo>
                  <a:pt x="250" y="738"/>
                </a:lnTo>
                <a:lnTo>
                  <a:pt x="215" y="724"/>
                </a:lnTo>
                <a:lnTo>
                  <a:pt x="180" y="704"/>
                </a:lnTo>
                <a:lnTo>
                  <a:pt x="148" y="683"/>
                </a:lnTo>
                <a:lnTo>
                  <a:pt x="120" y="658"/>
                </a:lnTo>
                <a:lnTo>
                  <a:pt x="93" y="629"/>
                </a:lnTo>
                <a:lnTo>
                  <a:pt x="69" y="600"/>
                </a:lnTo>
                <a:lnTo>
                  <a:pt x="48" y="568"/>
                </a:lnTo>
                <a:lnTo>
                  <a:pt x="32" y="534"/>
                </a:lnTo>
                <a:lnTo>
                  <a:pt x="17" y="500"/>
                </a:lnTo>
                <a:lnTo>
                  <a:pt x="9" y="463"/>
                </a:lnTo>
                <a:lnTo>
                  <a:pt x="1" y="425"/>
                </a:lnTo>
                <a:lnTo>
                  <a:pt x="0" y="387"/>
                </a:lnTo>
                <a:lnTo>
                  <a:pt x="1" y="348"/>
                </a:lnTo>
                <a:lnTo>
                  <a:pt x="9" y="310"/>
                </a:lnTo>
                <a:lnTo>
                  <a:pt x="17" y="273"/>
                </a:lnTo>
                <a:lnTo>
                  <a:pt x="32" y="237"/>
                </a:lnTo>
                <a:lnTo>
                  <a:pt x="48" y="203"/>
                </a:lnTo>
                <a:lnTo>
                  <a:pt x="69" y="172"/>
                </a:lnTo>
                <a:lnTo>
                  <a:pt x="93" y="140"/>
                </a:lnTo>
                <a:lnTo>
                  <a:pt x="120" y="113"/>
                </a:lnTo>
                <a:lnTo>
                  <a:pt x="148" y="88"/>
                </a:lnTo>
                <a:lnTo>
                  <a:pt x="180" y="67"/>
                </a:lnTo>
                <a:lnTo>
                  <a:pt x="215" y="47"/>
                </a:lnTo>
                <a:lnTo>
                  <a:pt x="250" y="31"/>
                </a:lnTo>
                <a:lnTo>
                  <a:pt x="288" y="18"/>
                </a:lnTo>
                <a:lnTo>
                  <a:pt x="329" y="7"/>
                </a:lnTo>
                <a:lnTo>
                  <a:pt x="369" y="2"/>
                </a:lnTo>
                <a:lnTo>
                  <a:pt x="412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42"/>
          <p:cNvSpPr/>
          <p:nvPr/>
        </p:nvSpPr>
        <p:spPr>
          <a:xfrm>
            <a:off x="4592520" y="2292480"/>
            <a:ext cx="684360" cy="647640"/>
          </a:xfrm>
          <a:custGeom>
            <a:avLst/>
            <a:gdLst>
              <a:gd name="textAreaLeft" fmla="*/ 0 w 684360"/>
              <a:gd name="textAreaRight" fmla="*/ 684720 w 6843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431" h="408">
                <a:moveTo>
                  <a:pt x="431" y="408"/>
                </a:moveTo>
                <a:lnTo>
                  <a:pt x="429" y="365"/>
                </a:lnTo>
                <a:lnTo>
                  <a:pt x="422" y="326"/>
                </a:lnTo>
                <a:lnTo>
                  <a:pt x="412" y="286"/>
                </a:lnTo>
                <a:lnTo>
                  <a:pt x="397" y="249"/>
                </a:lnTo>
                <a:lnTo>
                  <a:pt x="379" y="213"/>
                </a:lnTo>
                <a:lnTo>
                  <a:pt x="356" y="181"/>
                </a:lnTo>
                <a:lnTo>
                  <a:pt x="333" y="148"/>
                </a:lnTo>
                <a:lnTo>
                  <a:pt x="304" y="120"/>
                </a:lnTo>
                <a:lnTo>
                  <a:pt x="274" y="93"/>
                </a:lnTo>
                <a:lnTo>
                  <a:pt x="240" y="70"/>
                </a:lnTo>
                <a:lnTo>
                  <a:pt x="204" y="50"/>
                </a:lnTo>
                <a:lnTo>
                  <a:pt x="168" y="32"/>
                </a:lnTo>
                <a:lnTo>
                  <a:pt x="127" y="19"/>
                </a:lnTo>
                <a:lnTo>
                  <a:pt x="87" y="7"/>
                </a:lnTo>
                <a:lnTo>
                  <a:pt x="43" y="2"/>
                </a:lnTo>
                <a:lnTo>
                  <a:pt x="0" y="0"/>
                </a:lnTo>
                <a:lnTo>
                  <a:pt x="0" y="41"/>
                </a:lnTo>
                <a:lnTo>
                  <a:pt x="39" y="43"/>
                </a:lnTo>
                <a:lnTo>
                  <a:pt x="78" y="48"/>
                </a:lnTo>
                <a:lnTo>
                  <a:pt x="116" y="57"/>
                </a:lnTo>
                <a:lnTo>
                  <a:pt x="152" y="71"/>
                </a:lnTo>
                <a:lnTo>
                  <a:pt x="186" y="86"/>
                </a:lnTo>
                <a:lnTo>
                  <a:pt x="218" y="105"/>
                </a:lnTo>
                <a:lnTo>
                  <a:pt x="247" y="125"/>
                </a:lnTo>
                <a:lnTo>
                  <a:pt x="277" y="150"/>
                </a:lnTo>
                <a:lnTo>
                  <a:pt x="301" y="175"/>
                </a:lnTo>
                <a:lnTo>
                  <a:pt x="324" y="204"/>
                </a:lnTo>
                <a:lnTo>
                  <a:pt x="344" y="234"/>
                </a:lnTo>
                <a:lnTo>
                  <a:pt x="358" y="267"/>
                </a:lnTo>
                <a:lnTo>
                  <a:pt x="372" y="299"/>
                </a:lnTo>
                <a:lnTo>
                  <a:pt x="381" y="335"/>
                </a:lnTo>
                <a:lnTo>
                  <a:pt x="388" y="372"/>
                </a:lnTo>
                <a:lnTo>
                  <a:pt x="390" y="408"/>
                </a:lnTo>
                <a:lnTo>
                  <a:pt x="431" y="4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43"/>
          <p:cNvSpPr/>
          <p:nvPr/>
        </p:nvSpPr>
        <p:spPr>
          <a:xfrm>
            <a:off x="4592520" y="2940120"/>
            <a:ext cx="684360" cy="639720"/>
          </a:xfrm>
          <a:custGeom>
            <a:avLst/>
            <a:gdLst>
              <a:gd name="textAreaLeft" fmla="*/ 0 w 684360"/>
              <a:gd name="textAreaRight" fmla="*/ 684720 w 6843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431" h="403">
                <a:moveTo>
                  <a:pt x="0" y="403"/>
                </a:moveTo>
                <a:lnTo>
                  <a:pt x="43" y="403"/>
                </a:lnTo>
                <a:lnTo>
                  <a:pt x="87" y="396"/>
                </a:lnTo>
                <a:lnTo>
                  <a:pt x="127" y="384"/>
                </a:lnTo>
                <a:lnTo>
                  <a:pt x="168" y="371"/>
                </a:lnTo>
                <a:lnTo>
                  <a:pt x="204" y="355"/>
                </a:lnTo>
                <a:lnTo>
                  <a:pt x="240" y="333"/>
                </a:lnTo>
                <a:lnTo>
                  <a:pt x="272" y="312"/>
                </a:lnTo>
                <a:lnTo>
                  <a:pt x="304" y="285"/>
                </a:lnTo>
                <a:lnTo>
                  <a:pt x="333" y="256"/>
                </a:lnTo>
                <a:lnTo>
                  <a:pt x="356" y="224"/>
                </a:lnTo>
                <a:lnTo>
                  <a:pt x="379" y="192"/>
                </a:lnTo>
                <a:lnTo>
                  <a:pt x="397" y="156"/>
                </a:lnTo>
                <a:lnTo>
                  <a:pt x="412" y="120"/>
                </a:lnTo>
                <a:lnTo>
                  <a:pt x="422" y="81"/>
                </a:lnTo>
                <a:lnTo>
                  <a:pt x="429" y="41"/>
                </a:lnTo>
                <a:lnTo>
                  <a:pt x="431" y="0"/>
                </a:lnTo>
                <a:lnTo>
                  <a:pt x="390" y="0"/>
                </a:lnTo>
                <a:lnTo>
                  <a:pt x="388" y="34"/>
                </a:lnTo>
                <a:lnTo>
                  <a:pt x="381" y="72"/>
                </a:lnTo>
                <a:lnTo>
                  <a:pt x="372" y="108"/>
                </a:lnTo>
                <a:lnTo>
                  <a:pt x="358" y="138"/>
                </a:lnTo>
                <a:lnTo>
                  <a:pt x="344" y="170"/>
                </a:lnTo>
                <a:lnTo>
                  <a:pt x="324" y="201"/>
                </a:lnTo>
                <a:lnTo>
                  <a:pt x="301" y="230"/>
                </a:lnTo>
                <a:lnTo>
                  <a:pt x="275" y="256"/>
                </a:lnTo>
                <a:lnTo>
                  <a:pt x="249" y="280"/>
                </a:lnTo>
                <a:lnTo>
                  <a:pt x="218" y="299"/>
                </a:lnTo>
                <a:lnTo>
                  <a:pt x="186" y="319"/>
                </a:lnTo>
                <a:lnTo>
                  <a:pt x="152" y="333"/>
                </a:lnTo>
                <a:lnTo>
                  <a:pt x="116" y="346"/>
                </a:lnTo>
                <a:lnTo>
                  <a:pt x="78" y="355"/>
                </a:lnTo>
                <a:lnTo>
                  <a:pt x="39" y="360"/>
                </a:lnTo>
                <a:lnTo>
                  <a:pt x="0" y="362"/>
                </a:lnTo>
                <a:lnTo>
                  <a:pt x="0" y="4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44"/>
          <p:cNvSpPr/>
          <p:nvPr/>
        </p:nvSpPr>
        <p:spPr>
          <a:xfrm>
            <a:off x="3903840" y="2940120"/>
            <a:ext cx="688680" cy="639720"/>
          </a:xfrm>
          <a:custGeom>
            <a:avLst/>
            <a:gdLst>
              <a:gd name="textAreaLeft" fmla="*/ 0 w 688680"/>
              <a:gd name="textAreaRight" fmla="*/ 689040 w 6886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434" h="403">
                <a:moveTo>
                  <a:pt x="0" y="0"/>
                </a:moveTo>
                <a:lnTo>
                  <a:pt x="2" y="41"/>
                </a:lnTo>
                <a:lnTo>
                  <a:pt x="9" y="81"/>
                </a:lnTo>
                <a:lnTo>
                  <a:pt x="20" y="120"/>
                </a:lnTo>
                <a:lnTo>
                  <a:pt x="34" y="156"/>
                </a:lnTo>
                <a:lnTo>
                  <a:pt x="52" y="192"/>
                </a:lnTo>
                <a:lnTo>
                  <a:pt x="75" y="224"/>
                </a:lnTo>
                <a:lnTo>
                  <a:pt x="99" y="256"/>
                </a:lnTo>
                <a:lnTo>
                  <a:pt x="127" y="285"/>
                </a:lnTo>
                <a:lnTo>
                  <a:pt x="160" y="312"/>
                </a:lnTo>
                <a:lnTo>
                  <a:pt x="192" y="333"/>
                </a:lnTo>
                <a:lnTo>
                  <a:pt x="228" y="355"/>
                </a:lnTo>
                <a:lnTo>
                  <a:pt x="267" y="371"/>
                </a:lnTo>
                <a:lnTo>
                  <a:pt x="305" y="384"/>
                </a:lnTo>
                <a:lnTo>
                  <a:pt x="346" y="396"/>
                </a:lnTo>
                <a:lnTo>
                  <a:pt x="389" y="403"/>
                </a:lnTo>
                <a:lnTo>
                  <a:pt x="434" y="403"/>
                </a:lnTo>
                <a:lnTo>
                  <a:pt x="434" y="362"/>
                </a:lnTo>
                <a:lnTo>
                  <a:pt x="392" y="360"/>
                </a:lnTo>
                <a:lnTo>
                  <a:pt x="355" y="355"/>
                </a:lnTo>
                <a:lnTo>
                  <a:pt x="317" y="346"/>
                </a:lnTo>
                <a:lnTo>
                  <a:pt x="281" y="333"/>
                </a:lnTo>
                <a:lnTo>
                  <a:pt x="245" y="319"/>
                </a:lnTo>
                <a:lnTo>
                  <a:pt x="213" y="299"/>
                </a:lnTo>
                <a:lnTo>
                  <a:pt x="183" y="280"/>
                </a:lnTo>
                <a:lnTo>
                  <a:pt x="156" y="256"/>
                </a:lnTo>
                <a:lnTo>
                  <a:pt x="131" y="230"/>
                </a:lnTo>
                <a:lnTo>
                  <a:pt x="108" y="201"/>
                </a:lnTo>
                <a:lnTo>
                  <a:pt x="88" y="170"/>
                </a:lnTo>
                <a:lnTo>
                  <a:pt x="74" y="138"/>
                </a:lnTo>
                <a:lnTo>
                  <a:pt x="59" y="108"/>
                </a:lnTo>
                <a:lnTo>
                  <a:pt x="50" y="72"/>
                </a:lnTo>
                <a:lnTo>
                  <a:pt x="43" y="34"/>
                </a:lnTo>
                <a:lnTo>
                  <a:pt x="4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45"/>
          <p:cNvSpPr/>
          <p:nvPr/>
        </p:nvSpPr>
        <p:spPr>
          <a:xfrm>
            <a:off x="3903840" y="2292480"/>
            <a:ext cx="688680" cy="647640"/>
          </a:xfrm>
          <a:custGeom>
            <a:avLst/>
            <a:gdLst>
              <a:gd name="textAreaLeft" fmla="*/ 0 w 688680"/>
              <a:gd name="textAreaRight" fmla="*/ 689040 w 6886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434" h="408">
                <a:moveTo>
                  <a:pt x="434" y="0"/>
                </a:moveTo>
                <a:lnTo>
                  <a:pt x="389" y="2"/>
                </a:lnTo>
                <a:lnTo>
                  <a:pt x="346" y="7"/>
                </a:lnTo>
                <a:lnTo>
                  <a:pt x="305" y="19"/>
                </a:lnTo>
                <a:lnTo>
                  <a:pt x="267" y="32"/>
                </a:lnTo>
                <a:lnTo>
                  <a:pt x="228" y="50"/>
                </a:lnTo>
                <a:lnTo>
                  <a:pt x="192" y="70"/>
                </a:lnTo>
                <a:lnTo>
                  <a:pt x="158" y="93"/>
                </a:lnTo>
                <a:lnTo>
                  <a:pt x="129" y="120"/>
                </a:lnTo>
                <a:lnTo>
                  <a:pt x="99" y="148"/>
                </a:lnTo>
                <a:lnTo>
                  <a:pt x="75" y="181"/>
                </a:lnTo>
                <a:lnTo>
                  <a:pt x="52" y="213"/>
                </a:lnTo>
                <a:lnTo>
                  <a:pt x="34" y="249"/>
                </a:lnTo>
                <a:lnTo>
                  <a:pt x="20" y="286"/>
                </a:lnTo>
                <a:lnTo>
                  <a:pt x="9" y="326"/>
                </a:lnTo>
                <a:lnTo>
                  <a:pt x="2" y="365"/>
                </a:lnTo>
                <a:lnTo>
                  <a:pt x="0" y="408"/>
                </a:lnTo>
                <a:lnTo>
                  <a:pt x="43" y="408"/>
                </a:lnTo>
                <a:lnTo>
                  <a:pt x="43" y="372"/>
                </a:lnTo>
                <a:lnTo>
                  <a:pt x="50" y="335"/>
                </a:lnTo>
                <a:lnTo>
                  <a:pt x="59" y="299"/>
                </a:lnTo>
                <a:lnTo>
                  <a:pt x="74" y="267"/>
                </a:lnTo>
                <a:lnTo>
                  <a:pt x="88" y="234"/>
                </a:lnTo>
                <a:lnTo>
                  <a:pt x="108" y="204"/>
                </a:lnTo>
                <a:lnTo>
                  <a:pt x="131" y="175"/>
                </a:lnTo>
                <a:lnTo>
                  <a:pt x="154" y="150"/>
                </a:lnTo>
                <a:lnTo>
                  <a:pt x="185" y="125"/>
                </a:lnTo>
                <a:lnTo>
                  <a:pt x="213" y="105"/>
                </a:lnTo>
                <a:lnTo>
                  <a:pt x="245" y="86"/>
                </a:lnTo>
                <a:lnTo>
                  <a:pt x="281" y="71"/>
                </a:lnTo>
                <a:lnTo>
                  <a:pt x="317" y="57"/>
                </a:lnTo>
                <a:lnTo>
                  <a:pt x="355" y="48"/>
                </a:lnTo>
                <a:lnTo>
                  <a:pt x="392" y="43"/>
                </a:lnTo>
                <a:lnTo>
                  <a:pt x="434" y="41"/>
                </a:lnTo>
                <a:lnTo>
                  <a:pt x="4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46"/>
          <p:cNvSpPr/>
          <p:nvPr/>
        </p:nvSpPr>
        <p:spPr>
          <a:xfrm>
            <a:off x="7620120" y="2787480"/>
            <a:ext cx="264960" cy="873360"/>
          </a:xfrm>
          <a:custGeom>
            <a:avLst/>
            <a:gdLst>
              <a:gd name="textAreaLeft" fmla="*/ 0 w 264960"/>
              <a:gd name="textAreaRight" fmla="*/ 265320 w 264960"/>
              <a:gd name="textAreaTop" fmla="*/ 0 h 873360"/>
              <a:gd name="textAreaBottom" fmla="*/ 873720 h 873360"/>
            </a:gdLst>
            <a:ahLst/>
            <a:rect l="textAreaLeft" t="textAreaTop" r="textAreaRight" b="textAreaBottom"/>
            <a:pathLst>
              <a:path w="167" h="550">
                <a:moveTo>
                  <a:pt x="11" y="550"/>
                </a:moveTo>
                <a:lnTo>
                  <a:pt x="45" y="532"/>
                </a:lnTo>
                <a:lnTo>
                  <a:pt x="74" y="505"/>
                </a:lnTo>
                <a:lnTo>
                  <a:pt x="101" y="476"/>
                </a:lnTo>
                <a:lnTo>
                  <a:pt x="120" y="440"/>
                </a:lnTo>
                <a:lnTo>
                  <a:pt x="138" y="403"/>
                </a:lnTo>
                <a:lnTo>
                  <a:pt x="149" y="361"/>
                </a:lnTo>
                <a:lnTo>
                  <a:pt x="158" y="318"/>
                </a:lnTo>
                <a:lnTo>
                  <a:pt x="165" y="277"/>
                </a:lnTo>
                <a:lnTo>
                  <a:pt x="167" y="232"/>
                </a:lnTo>
                <a:lnTo>
                  <a:pt x="167" y="191"/>
                </a:lnTo>
                <a:lnTo>
                  <a:pt x="165" y="150"/>
                </a:lnTo>
                <a:lnTo>
                  <a:pt x="162" y="112"/>
                </a:lnTo>
                <a:lnTo>
                  <a:pt x="154" y="78"/>
                </a:lnTo>
                <a:lnTo>
                  <a:pt x="144" y="46"/>
                </a:lnTo>
                <a:lnTo>
                  <a:pt x="136" y="19"/>
                </a:lnTo>
                <a:lnTo>
                  <a:pt x="124" y="0"/>
                </a:lnTo>
                <a:lnTo>
                  <a:pt x="104" y="14"/>
                </a:lnTo>
                <a:lnTo>
                  <a:pt x="113" y="30"/>
                </a:lnTo>
                <a:lnTo>
                  <a:pt x="122" y="53"/>
                </a:lnTo>
                <a:lnTo>
                  <a:pt x="131" y="84"/>
                </a:lnTo>
                <a:lnTo>
                  <a:pt x="136" y="114"/>
                </a:lnTo>
                <a:lnTo>
                  <a:pt x="140" y="154"/>
                </a:lnTo>
                <a:lnTo>
                  <a:pt x="142" y="191"/>
                </a:lnTo>
                <a:lnTo>
                  <a:pt x="142" y="232"/>
                </a:lnTo>
                <a:lnTo>
                  <a:pt x="140" y="275"/>
                </a:lnTo>
                <a:lnTo>
                  <a:pt x="133" y="317"/>
                </a:lnTo>
                <a:lnTo>
                  <a:pt x="124" y="356"/>
                </a:lnTo>
                <a:lnTo>
                  <a:pt x="115" y="394"/>
                </a:lnTo>
                <a:lnTo>
                  <a:pt x="97" y="429"/>
                </a:lnTo>
                <a:lnTo>
                  <a:pt x="79" y="462"/>
                </a:lnTo>
                <a:lnTo>
                  <a:pt x="56" y="489"/>
                </a:lnTo>
                <a:lnTo>
                  <a:pt x="29" y="510"/>
                </a:lnTo>
                <a:lnTo>
                  <a:pt x="0" y="524"/>
                </a:lnTo>
                <a:lnTo>
                  <a:pt x="11" y="55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47"/>
          <p:cNvSpPr/>
          <p:nvPr/>
        </p:nvSpPr>
        <p:spPr>
          <a:xfrm>
            <a:off x="7620120" y="2787480"/>
            <a:ext cx="264960" cy="873360"/>
          </a:xfrm>
          <a:custGeom>
            <a:avLst/>
            <a:gdLst>
              <a:gd name="textAreaLeft" fmla="*/ 0 w 264960"/>
              <a:gd name="textAreaRight" fmla="*/ 265320 w 264960"/>
              <a:gd name="textAreaTop" fmla="*/ 0 h 873360"/>
              <a:gd name="textAreaBottom" fmla="*/ 873720 h 873360"/>
            </a:gdLst>
            <a:ahLst/>
            <a:rect l="textAreaLeft" t="textAreaTop" r="textAreaRight" b="textAreaBottom"/>
            <a:pathLst>
              <a:path w="167" h="550">
                <a:moveTo>
                  <a:pt x="11" y="550"/>
                </a:moveTo>
                <a:lnTo>
                  <a:pt x="45" y="532"/>
                </a:lnTo>
                <a:lnTo>
                  <a:pt x="74" y="505"/>
                </a:lnTo>
                <a:lnTo>
                  <a:pt x="101" y="476"/>
                </a:lnTo>
                <a:lnTo>
                  <a:pt x="120" y="440"/>
                </a:lnTo>
                <a:lnTo>
                  <a:pt x="138" y="403"/>
                </a:lnTo>
                <a:lnTo>
                  <a:pt x="149" y="361"/>
                </a:lnTo>
                <a:lnTo>
                  <a:pt x="158" y="318"/>
                </a:lnTo>
                <a:lnTo>
                  <a:pt x="165" y="277"/>
                </a:lnTo>
                <a:lnTo>
                  <a:pt x="167" y="232"/>
                </a:lnTo>
                <a:lnTo>
                  <a:pt x="167" y="191"/>
                </a:lnTo>
                <a:lnTo>
                  <a:pt x="165" y="150"/>
                </a:lnTo>
                <a:lnTo>
                  <a:pt x="162" y="112"/>
                </a:lnTo>
                <a:lnTo>
                  <a:pt x="154" y="78"/>
                </a:lnTo>
                <a:lnTo>
                  <a:pt x="144" y="46"/>
                </a:lnTo>
                <a:lnTo>
                  <a:pt x="136" y="19"/>
                </a:lnTo>
                <a:lnTo>
                  <a:pt x="124" y="0"/>
                </a:lnTo>
                <a:lnTo>
                  <a:pt x="104" y="14"/>
                </a:lnTo>
                <a:lnTo>
                  <a:pt x="113" y="30"/>
                </a:lnTo>
                <a:lnTo>
                  <a:pt x="122" y="53"/>
                </a:lnTo>
                <a:lnTo>
                  <a:pt x="131" y="84"/>
                </a:lnTo>
                <a:lnTo>
                  <a:pt x="136" y="114"/>
                </a:lnTo>
                <a:lnTo>
                  <a:pt x="140" y="154"/>
                </a:lnTo>
                <a:lnTo>
                  <a:pt x="142" y="191"/>
                </a:lnTo>
                <a:lnTo>
                  <a:pt x="142" y="232"/>
                </a:lnTo>
                <a:lnTo>
                  <a:pt x="140" y="275"/>
                </a:lnTo>
                <a:lnTo>
                  <a:pt x="133" y="317"/>
                </a:lnTo>
                <a:lnTo>
                  <a:pt x="124" y="356"/>
                </a:lnTo>
                <a:lnTo>
                  <a:pt x="115" y="394"/>
                </a:lnTo>
                <a:lnTo>
                  <a:pt x="97" y="429"/>
                </a:lnTo>
                <a:lnTo>
                  <a:pt x="79" y="462"/>
                </a:lnTo>
                <a:lnTo>
                  <a:pt x="56" y="489"/>
                </a:lnTo>
                <a:lnTo>
                  <a:pt x="29" y="510"/>
                </a:lnTo>
                <a:lnTo>
                  <a:pt x="0" y="524"/>
                </a:lnTo>
              </a:path>
            </a:pathLst>
          </a:custGeom>
          <a:noFill/>
          <a:ln w="3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48"/>
          <p:cNvSpPr/>
          <p:nvPr/>
        </p:nvSpPr>
        <p:spPr>
          <a:xfrm>
            <a:off x="7853400" y="3205080"/>
            <a:ext cx="677880" cy="341280"/>
          </a:xfrm>
          <a:custGeom>
            <a:avLst/>
            <a:gdLst>
              <a:gd name="textAreaLeft" fmla="*/ 0 w 677880"/>
              <a:gd name="textAreaRight" fmla="*/ 677880 w 6778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427" h="215">
                <a:moveTo>
                  <a:pt x="0" y="215"/>
                </a:moveTo>
                <a:lnTo>
                  <a:pt x="49" y="206"/>
                </a:lnTo>
                <a:lnTo>
                  <a:pt x="72" y="201"/>
                </a:lnTo>
                <a:lnTo>
                  <a:pt x="95" y="195"/>
                </a:lnTo>
                <a:lnTo>
                  <a:pt x="124" y="190"/>
                </a:lnTo>
                <a:lnTo>
                  <a:pt x="154" y="181"/>
                </a:lnTo>
                <a:lnTo>
                  <a:pt x="185" y="172"/>
                </a:lnTo>
                <a:lnTo>
                  <a:pt x="215" y="163"/>
                </a:lnTo>
                <a:lnTo>
                  <a:pt x="251" y="154"/>
                </a:lnTo>
                <a:lnTo>
                  <a:pt x="287" y="147"/>
                </a:lnTo>
                <a:lnTo>
                  <a:pt x="314" y="132"/>
                </a:lnTo>
                <a:lnTo>
                  <a:pt x="341" y="118"/>
                </a:lnTo>
                <a:lnTo>
                  <a:pt x="369" y="104"/>
                </a:lnTo>
                <a:lnTo>
                  <a:pt x="391" y="80"/>
                </a:lnTo>
                <a:lnTo>
                  <a:pt x="409" y="55"/>
                </a:lnTo>
                <a:lnTo>
                  <a:pt x="423" y="30"/>
                </a:lnTo>
                <a:lnTo>
                  <a:pt x="427" y="0"/>
                </a:lnTo>
                <a:lnTo>
                  <a:pt x="398" y="0"/>
                </a:lnTo>
                <a:lnTo>
                  <a:pt x="398" y="14"/>
                </a:lnTo>
                <a:lnTo>
                  <a:pt x="387" y="34"/>
                </a:lnTo>
                <a:lnTo>
                  <a:pt x="373" y="54"/>
                </a:lnTo>
                <a:lnTo>
                  <a:pt x="353" y="68"/>
                </a:lnTo>
                <a:lnTo>
                  <a:pt x="328" y="86"/>
                </a:lnTo>
                <a:lnTo>
                  <a:pt x="303" y="100"/>
                </a:lnTo>
                <a:lnTo>
                  <a:pt x="272" y="116"/>
                </a:lnTo>
                <a:lnTo>
                  <a:pt x="238" y="125"/>
                </a:lnTo>
                <a:lnTo>
                  <a:pt x="208" y="131"/>
                </a:lnTo>
                <a:lnTo>
                  <a:pt x="178" y="138"/>
                </a:lnTo>
                <a:lnTo>
                  <a:pt x="145" y="149"/>
                </a:lnTo>
                <a:lnTo>
                  <a:pt x="120" y="158"/>
                </a:lnTo>
                <a:lnTo>
                  <a:pt x="88" y="161"/>
                </a:lnTo>
                <a:lnTo>
                  <a:pt x="61" y="166"/>
                </a:lnTo>
                <a:lnTo>
                  <a:pt x="40" y="177"/>
                </a:lnTo>
                <a:lnTo>
                  <a:pt x="25" y="181"/>
                </a:lnTo>
                <a:lnTo>
                  <a:pt x="0" y="215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49"/>
          <p:cNvSpPr/>
          <p:nvPr/>
        </p:nvSpPr>
        <p:spPr>
          <a:xfrm>
            <a:off x="7853400" y="3205080"/>
            <a:ext cx="677880" cy="341280"/>
          </a:xfrm>
          <a:custGeom>
            <a:avLst/>
            <a:gdLst>
              <a:gd name="textAreaLeft" fmla="*/ 0 w 677880"/>
              <a:gd name="textAreaRight" fmla="*/ 677880 w 6778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427" h="215">
                <a:moveTo>
                  <a:pt x="0" y="215"/>
                </a:moveTo>
                <a:lnTo>
                  <a:pt x="49" y="206"/>
                </a:lnTo>
                <a:lnTo>
                  <a:pt x="72" y="201"/>
                </a:lnTo>
                <a:lnTo>
                  <a:pt x="95" y="195"/>
                </a:lnTo>
                <a:lnTo>
                  <a:pt x="124" y="190"/>
                </a:lnTo>
                <a:lnTo>
                  <a:pt x="154" y="181"/>
                </a:lnTo>
                <a:lnTo>
                  <a:pt x="185" y="172"/>
                </a:lnTo>
                <a:lnTo>
                  <a:pt x="215" y="163"/>
                </a:lnTo>
                <a:lnTo>
                  <a:pt x="251" y="154"/>
                </a:lnTo>
                <a:lnTo>
                  <a:pt x="287" y="147"/>
                </a:lnTo>
                <a:lnTo>
                  <a:pt x="314" y="132"/>
                </a:lnTo>
                <a:lnTo>
                  <a:pt x="341" y="118"/>
                </a:lnTo>
                <a:lnTo>
                  <a:pt x="369" y="104"/>
                </a:lnTo>
                <a:lnTo>
                  <a:pt x="391" y="80"/>
                </a:lnTo>
                <a:lnTo>
                  <a:pt x="409" y="55"/>
                </a:lnTo>
                <a:lnTo>
                  <a:pt x="423" y="30"/>
                </a:lnTo>
                <a:lnTo>
                  <a:pt x="427" y="0"/>
                </a:lnTo>
                <a:lnTo>
                  <a:pt x="398" y="0"/>
                </a:lnTo>
                <a:lnTo>
                  <a:pt x="398" y="14"/>
                </a:lnTo>
                <a:lnTo>
                  <a:pt x="387" y="34"/>
                </a:lnTo>
                <a:lnTo>
                  <a:pt x="373" y="54"/>
                </a:lnTo>
                <a:lnTo>
                  <a:pt x="353" y="68"/>
                </a:lnTo>
                <a:lnTo>
                  <a:pt x="328" y="86"/>
                </a:lnTo>
                <a:lnTo>
                  <a:pt x="303" y="100"/>
                </a:lnTo>
                <a:lnTo>
                  <a:pt x="272" y="116"/>
                </a:lnTo>
                <a:lnTo>
                  <a:pt x="238" y="125"/>
                </a:lnTo>
                <a:lnTo>
                  <a:pt x="208" y="131"/>
                </a:lnTo>
                <a:lnTo>
                  <a:pt x="178" y="138"/>
                </a:lnTo>
                <a:lnTo>
                  <a:pt x="145" y="149"/>
                </a:lnTo>
                <a:lnTo>
                  <a:pt x="120" y="158"/>
                </a:lnTo>
                <a:lnTo>
                  <a:pt x="88" y="161"/>
                </a:lnTo>
                <a:lnTo>
                  <a:pt x="61" y="166"/>
                </a:lnTo>
                <a:lnTo>
                  <a:pt x="40" y="177"/>
                </a:lnTo>
                <a:lnTo>
                  <a:pt x="25" y="181"/>
                </a:lnTo>
                <a:lnTo>
                  <a:pt x="0" y="215"/>
                </a:lnTo>
              </a:path>
            </a:pathLst>
          </a:custGeom>
          <a:noFill/>
          <a:ln w="3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50"/>
          <p:cNvSpPr/>
          <p:nvPr/>
        </p:nvSpPr>
        <p:spPr>
          <a:xfrm>
            <a:off x="4583160" y="3478320"/>
            <a:ext cx="3359160" cy="1020600"/>
          </a:xfrm>
          <a:custGeom>
            <a:avLst/>
            <a:gdLst>
              <a:gd name="textAreaLeft" fmla="*/ 0 w 3359160"/>
              <a:gd name="textAreaRight" fmla="*/ 3359520 w 335916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2116" h="643">
                <a:moveTo>
                  <a:pt x="0" y="643"/>
                </a:moveTo>
                <a:lnTo>
                  <a:pt x="86" y="638"/>
                </a:lnTo>
                <a:lnTo>
                  <a:pt x="170" y="638"/>
                </a:lnTo>
                <a:lnTo>
                  <a:pt x="256" y="629"/>
                </a:lnTo>
                <a:lnTo>
                  <a:pt x="335" y="622"/>
                </a:lnTo>
                <a:lnTo>
                  <a:pt x="416" y="613"/>
                </a:lnTo>
                <a:lnTo>
                  <a:pt x="496" y="602"/>
                </a:lnTo>
                <a:lnTo>
                  <a:pt x="573" y="586"/>
                </a:lnTo>
                <a:lnTo>
                  <a:pt x="650" y="570"/>
                </a:lnTo>
                <a:lnTo>
                  <a:pt x="726" y="555"/>
                </a:lnTo>
                <a:lnTo>
                  <a:pt x="801" y="536"/>
                </a:lnTo>
                <a:lnTo>
                  <a:pt x="871" y="516"/>
                </a:lnTo>
                <a:lnTo>
                  <a:pt x="942" y="494"/>
                </a:lnTo>
                <a:lnTo>
                  <a:pt x="1012" y="475"/>
                </a:lnTo>
                <a:lnTo>
                  <a:pt x="1082" y="453"/>
                </a:lnTo>
                <a:lnTo>
                  <a:pt x="1148" y="426"/>
                </a:lnTo>
                <a:lnTo>
                  <a:pt x="1213" y="405"/>
                </a:lnTo>
                <a:lnTo>
                  <a:pt x="1279" y="380"/>
                </a:lnTo>
                <a:lnTo>
                  <a:pt x="1342" y="353"/>
                </a:lnTo>
                <a:lnTo>
                  <a:pt x="1405" y="328"/>
                </a:lnTo>
                <a:lnTo>
                  <a:pt x="1467" y="303"/>
                </a:lnTo>
                <a:lnTo>
                  <a:pt x="1526" y="278"/>
                </a:lnTo>
                <a:lnTo>
                  <a:pt x="1586" y="251"/>
                </a:lnTo>
                <a:lnTo>
                  <a:pt x="1643" y="227"/>
                </a:lnTo>
                <a:lnTo>
                  <a:pt x="1700" y="202"/>
                </a:lnTo>
                <a:lnTo>
                  <a:pt x="1756" y="175"/>
                </a:lnTo>
                <a:lnTo>
                  <a:pt x="1809" y="154"/>
                </a:lnTo>
                <a:lnTo>
                  <a:pt x="1863" y="129"/>
                </a:lnTo>
                <a:lnTo>
                  <a:pt x="1915" y="109"/>
                </a:lnTo>
                <a:lnTo>
                  <a:pt x="1967" y="89"/>
                </a:lnTo>
                <a:lnTo>
                  <a:pt x="2017" y="70"/>
                </a:lnTo>
                <a:lnTo>
                  <a:pt x="2067" y="54"/>
                </a:lnTo>
                <a:lnTo>
                  <a:pt x="2116" y="34"/>
                </a:lnTo>
                <a:lnTo>
                  <a:pt x="2109" y="0"/>
                </a:lnTo>
                <a:lnTo>
                  <a:pt x="2058" y="20"/>
                </a:lnTo>
                <a:lnTo>
                  <a:pt x="2010" y="39"/>
                </a:lnTo>
                <a:lnTo>
                  <a:pt x="1960" y="57"/>
                </a:lnTo>
                <a:lnTo>
                  <a:pt x="1906" y="79"/>
                </a:lnTo>
                <a:lnTo>
                  <a:pt x="1856" y="100"/>
                </a:lnTo>
                <a:lnTo>
                  <a:pt x="1802" y="123"/>
                </a:lnTo>
                <a:lnTo>
                  <a:pt x="1749" y="149"/>
                </a:lnTo>
                <a:lnTo>
                  <a:pt x="1693" y="174"/>
                </a:lnTo>
                <a:lnTo>
                  <a:pt x="1636" y="197"/>
                </a:lnTo>
                <a:lnTo>
                  <a:pt x="1578" y="222"/>
                </a:lnTo>
                <a:lnTo>
                  <a:pt x="1517" y="249"/>
                </a:lnTo>
                <a:lnTo>
                  <a:pt x="1458" y="270"/>
                </a:lnTo>
                <a:lnTo>
                  <a:pt x="1397" y="297"/>
                </a:lnTo>
                <a:lnTo>
                  <a:pt x="1335" y="321"/>
                </a:lnTo>
                <a:lnTo>
                  <a:pt x="1272" y="346"/>
                </a:lnTo>
                <a:lnTo>
                  <a:pt x="1208" y="373"/>
                </a:lnTo>
                <a:lnTo>
                  <a:pt x="1139" y="394"/>
                </a:lnTo>
                <a:lnTo>
                  <a:pt x="1075" y="419"/>
                </a:lnTo>
                <a:lnTo>
                  <a:pt x="1005" y="441"/>
                </a:lnTo>
                <a:lnTo>
                  <a:pt x="937" y="462"/>
                </a:lnTo>
                <a:lnTo>
                  <a:pt x="867" y="484"/>
                </a:lnTo>
                <a:lnTo>
                  <a:pt x="794" y="502"/>
                </a:lnTo>
                <a:lnTo>
                  <a:pt x="720" y="521"/>
                </a:lnTo>
                <a:lnTo>
                  <a:pt x="645" y="539"/>
                </a:lnTo>
                <a:lnTo>
                  <a:pt x="570" y="553"/>
                </a:lnTo>
                <a:lnTo>
                  <a:pt x="493" y="570"/>
                </a:lnTo>
                <a:lnTo>
                  <a:pt x="412" y="577"/>
                </a:lnTo>
                <a:lnTo>
                  <a:pt x="333" y="589"/>
                </a:lnTo>
                <a:lnTo>
                  <a:pt x="253" y="596"/>
                </a:lnTo>
                <a:lnTo>
                  <a:pt x="170" y="602"/>
                </a:lnTo>
                <a:lnTo>
                  <a:pt x="86" y="607"/>
                </a:lnTo>
                <a:lnTo>
                  <a:pt x="0" y="609"/>
                </a:lnTo>
                <a:lnTo>
                  <a:pt x="0" y="64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51"/>
          <p:cNvSpPr/>
          <p:nvPr/>
        </p:nvSpPr>
        <p:spPr>
          <a:xfrm>
            <a:off x="4583160" y="3478320"/>
            <a:ext cx="3359160" cy="1020600"/>
          </a:xfrm>
          <a:custGeom>
            <a:avLst/>
            <a:gdLst>
              <a:gd name="textAreaLeft" fmla="*/ 0 w 3359160"/>
              <a:gd name="textAreaRight" fmla="*/ 3359520 w 335916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2116" h="643">
                <a:moveTo>
                  <a:pt x="0" y="643"/>
                </a:moveTo>
                <a:lnTo>
                  <a:pt x="0" y="643"/>
                </a:lnTo>
                <a:lnTo>
                  <a:pt x="86" y="638"/>
                </a:lnTo>
                <a:lnTo>
                  <a:pt x="170" y="638"/>
                </a:lnTo>
                <a:lnTo>
                  <a:pt x="256" y="629"/>
                </a:lnTo>
                <a:lnTo>
                  <a:pt x="335" y="622"/>
                </a:lnTo>
                <a:lnTo>
                  <a:pt x="416" y="613"/>
                </a:lnTo>
                <a:lnTo>
                  <a:pt x="496" y="602"/>
                </a:lnTo>
                <a:lnTo>
                  <a:pt x="573" y="586"/>
                </a:lnTo>
                <a:lnTo>
                  <a:pt x="650" y="570"/>
                </a:lnTo>
                <a:lnTo>
                  <a:pt x="726" y="555"/>
                </a:lnTo>
                <a:lnTo>
                  <a:pt x="801" y="536"/>
                </a:lnTo>
                <a:lnTo>
                  <a:pt x="871" y="516"/>
                </a:lnTo>
                <a:lnTo>
                  <a:pt x="942" y="494"/>
                </a:lnTo>
                <a:lnTo>
                  <a:pt x="1012" y="475"/>
                </a:lnTo>
                <a:lnTo>
                  <a:pt x="1082" y="453"/>
                </a:lnTo>
                <a:lnTo>
                  <a:pt x="1148" y="426"/>
                </a:lnTo>
                <a:lnTo>
                  <a:pt x="1213" y="405"/>
                </a:lnTo>
                <a:lnTo>
                  <a:pt x="1279" y="380"/>
                </a:lnTo>
                <a:lnTo>
                  <a:pt x="1342" y="353"/>
                </a:lnTo>
                <a:lnTo>
                  <a:pt x="1405" y="328"/>
                </a:lnTo>
                <a:lnTo>
                  <a:pt x="1467" y="303"/>
                </a:lnTo>
                <a:lnTo>
                  <a:pt x="1526" y="278"/>
                </a:lnTo>
                <a:lnTo>
                  <a:pt x="1586" y="251"/>
                </a:lnTo>
                <a:lnTo>
                  <a:pt x="1643" y="227"/>
                </a:lnTo>
                <a:lnTo>
                  <a:pt x="1700" y="202"/>
                </a:lnTo>
                <a:lnTo>
                  <a:pt x="1756" y="175"/>
                </a:lnTo>
                <a:lnTo>
                  <a:pt x="1809" y="154"/>
                </a:lnTo>
                <a:lnTo>
                  <a:pt x="1863" y="129"/>
                </a:lnTo>
                <a:lnTo>
                  <a:pt x="1915" y="109"/>
                </a:lnTo>
                <a:lnTo>
                  <a:pt x="1967" y="89"/>
                </a:lnTo>
                <a:lnTo>
                  <a:pt x="2017" y="70"/>
                </a:lnTo>
                <a:lnTo>
                  <a:pt x="2067" y="54"/>
                </a:lnTo>
                <a:lnTo>
                  <a:pt x="2116" y="34"/>
                </a:lnTo>
                <a:lnTo>
                  <a:pt x="2109" y="0"/>
                </a:lnTo>
                <a:lnTo>
                  <a:pt x="2058" y="20"/>
                </a:lnTo>
                <a:lnTo>
                  <a:pt x="2010" y="39"/>
                </a:lnTo>
                <a:lnTo>
                  <a:pt x="1960" y="57"/>
                </a:lnTo>
                <a:lnTo>
                  <a:pt x="1906" y="79"/>
                </a:lnTo>
                <a:lnTo>
                  <a:pt x="1856" y="100"/>
                </a:lnTo>
                <a:lnTo>
                  <a:pt x="1802" y="123"/>
                </a:lnTo>
                <a:lnTo>
                  <a:pt x="1749" y="149"/>
                </a:lnTo>
                <a:lnTo>
                  <a:pt x="1693" y="174"/>
                </a:lnTo>
                <a:lnTo>
                  <a:pt x="1636" y="197"/>
                </a:lnTo>
                <a:lnTo>
                  <a:pt x="1578" y="222"/>
                </a:lnTo>
                <a:lnTo>
                  <a:pt x="1517" y="249"/>
                </a:lnTo>
                <a:lnTo>
                  <a:pt x="1458" y="270"/>
                </a:lnTo>
                <a:lnTo>
                  <a:pt x="1397" y="297"/>
                </a:lnTo>
                <a:lnTo>
                  <a:pt x="1335" y="321"/>
                </a:lnTo>
                <a:lnTo>
                  <a:pt x="1272" y="346"/>
                </a:lnTo>
                <a:lnTo>
                  <a:pt x="1208" y="373"/>
                </a:lnTo>
                <a:lnTo>
                  <a:pt x="1139" y="394"/>
                </a:lnTo>
                <a:lnTo>
                  <a:pt x="1075" y="419"/>
                </a:lnTo>
                <a:lnTo>
                  <a:pt x="1005" y="441"/>
                </a:lnTo>
                <a:lnTo>
                  <a:pt x="937" y="462"/>
                </a:lnTo>
                <a:lnTo>
                  <a:pt x="867" y="484"/>
                </a:lnTo>
                <a:lnTo>
                  <a:pt x="794" y="502"/>
                </a:lnTo>
                <a:lnTo>
                  <a:pt x="720" y="521"/>
                </a:lnTo>
                <a:lnTo>
                  <a:pt x="645" y="539"/>
                </a:lnTo>
                <a:lnTo>
                  <a:pt x="570" y="553"/>
                </a:lnTo>
                <a:lnTo>
                  <a:pt x="493" y="570"/>
                </a:lnTo>
                <a:lnTo>
                  <a:pt x="412" y="577"/>
                </a:lnTo>
                <a:lnTo>
                  <a:pt x="333" y="589"/>
                </a:lnTo>
                <a:lnTo>
                  <a:pt x="253" y="596"/>
                </a:lnTo>
                <a:lnTo>
                  <a:pt x="170" y="602"/>
                </a:lnTo>
                <a:lnTo>
                  <a:pt x="86" y="607"/>
                </a:lnTo>
                <a:lnTo>
                  <a:pt x="0" y="609"/>
                </a:lnTo>
              </a:path>
            </a:pathLst>
          </a:custGeom>
          <a:noFill/>
          <a:ln w="3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52"/>
          <p:cNvSpPr/>
          <p:nvPr/>
        </p:nvSpPr>
        <p:spPr>
          <a:xfrm>
            <a:off x="1193760" y="3033720"/>
            <a:ext cx="3389400" cy="1465200"/>
          </a:xfrm>
          <a:custGeom>
            <a:avLst/>
            <a:gdLst>
              <a:gd name="textAreaLeft" fmla="*/ 0 w 3389400"/>
              <a:gd name="textAreaRight" fmla="*/ 3389760 w 3389400"/>
              <a:gd name="textAreaTop" fmla="*/ 0 h 1465200"/>
              <a:gd name="textAreaBottom" fmla="*/ 1465200 h 1465200"/>
            </a:gdLst>
            <a:ahLst/>
            <a:rect l="textAreaLeft" t="textAreaTop" r="textAreaRight" b="textAreaBottom"/>
            <a:pathLst>
              <a:path w="2135" h="923">
                <a:moveTo>
                  <a:pt x="0" y="0"/>
                </a:moveTo>
                <a:lnTo>
                  <a:pt x="5" y="22"/>
                </a:lnTo>
                <a:lnTo>
                  <a:pt x="14" y="47"/>
                </a:lnTo>
                <a:lnTo>
                  <a:pt x="27" y="68"/>
                </a:lnTo>
                <a:lnTo>
                  <a:pt x="47" y="95"/>
                </a:lnTo>
                <a:lnTo>
                  <a:pt x="73" y="122"/>
                </a:lnTo>
                <a:lnTo>
                  <a:pt x="100" y="154"/>
                </a:lnTo>
                <a:lnTo>
                  <a:pt x="134" y="185"/>
                </a:lnTo>
                <a:lnTo>
                  <a:pt x="170" y="219"/>
                </a:lnTo>
                <a:lnTo>
                  <a:pt x="215" y="253"/>
                </a:lnTo>
                <a:lnTo>
                  <a:pt x="261" y="292"/>
                </a:lnTo>
                <a:lnTo>
                  <a:pt x="312" y="332"/>
                </a:lnTo>
                <a:lnTo>
                  <a:pt x="367" y="368"/>
                </a:lnTo>
                <a:lnTo>
                  <a:pt x="426" y="407"/>
                </a:lnTo>
                <a:lnTo>
                  <a:pt x="487" y="446"/>
                </a:lnTo>
                <a:lnTo>
                  <a:pt x="555" y="484"/>
                </a:lnTo>
                <a:lnTo>
                  <a:pt x="625" y="524"/>
                </a:lnTo>
                <a:lnTo>
                  <a:pt x="699" y="565"/>
                </a:lnTo>
                <a:lnTo>
                  <a:pt x="777" y="601"/>
                </a:lnTo>
                <a:lnTo>
                  <a:pt x="856" y="638"/>
                </a:lnTo>
                <a:lnTo>
                  <a:pt x="939" y="672"/>
                </a:lnTo>
                <a:lnTo>
                  <a:pt x="1026" y="708"/>
                </a:lnTo>
                <a:lnTo>
                  <a:pt x="1114" y="740"/>
                </a:lnTo>
                <a:lnTo>
                  <a:pt x="1209" y="773"/>
                </a:lnTo>
                <a:lnTo>
                  <a:pt x="1302" y="801"/>
                </a:lnTo>
                <a:lnTo>
                  <a:pt x="1399" y="828"/>
                </a:lnTo>
                <a:lnTo>
                  <a:pt x="1497" y="850"/>
                </a:lnTo>
                <a:lnTo>
                  <a:pt x="1598" y="869"/>
                </a:lnTo>
                <a:lnTo>
                  <a:pt x="1703" y="889"/>
                </a:lnTo>
                <a:lnTo>
                  <a:pt x="1809" y="903"/>
                </a:lnTo>
                <a:lnTo>
                  <a:pt x="1915" y="914"/>
                </a:lnTo>
                <a:lnTo>
                  <a:pt x="2026" y="918"/>
                </a:lnTo>
                <a:lnTo>
                  <a:pt x="2135" y="923"/>
                </a:lnTo>
                <a:lnTo>
                  <a:pt x="2135" y="889"/>
                </a:lnTo>
                <a:lnTo>
                  <a:pt x="2026" y="887"/>
                </a:lnTo>
                <a:lnTo>
                  <a:pt x="1917" y="882"/>
                </a:lnTo>
                <a:lnTo>
                  <a:pt x="1809" y="869"/>
                </a:lnTo>
                <a:lnTo>
                  <a:pt x="1705" y="857"/>
                </a:lnTo>
                <a:lnTo>
                  <a:pt x="1603" y="837"/>
                </a:lnTo>
                <a:lnTo>
                  <a:pt x="1501" y="819"/>
                </a:lnTo>
                <a:lnTo>
                  <a:pt x="1404" y="794"/>
                </a:lnTo>
                <a:lnTo>
                  <a:pt x="1306" y="769"/>
                </a:lnTo>
                <a:lnTo>
                  <a:pt x="1213" y="740"/>
                </a:lnTo>
                <a:lnTo>
                  <a:pt x="1123" y="708"/>
                </a:lnTo>
                <a:lnTo>
                  <a:pt x="1034" y="678"/>
                </a:lnTo>
                <a:lnTo>
                  <a:pt x="948" y="644"/>
                </a:lnTo>
                <a:lnTo>
                  <a:pt x="865" y="608"/>
                </a:lnTo>
                <a:lnTo>
                  <a:pt x="785" y="572"/>
                </a:lnTo>
                <a:lnTo>
                  <a:pt x="709" y="534"/>
                </a:lnTo>
                <a:lnTo>
                  <a:pt x="636" y="497"/>
                </a:lnTo>
                <a:lnTo>
                  <a:pt x="564" y="455"/>
                </a:lnTo>
                <a:lnTo>
                  <a:pt x="498" y="416"/>
                </a:lnTo>
                <a:lnTo>
                  <a:pt x="435" y="378"/>
                </a:lnTo>
                <a:lnTo>
                  <a:pt x="380" y="339"/>
                </a:lnTo>
                <a:lnTo>
                  <a:pt x="322" y="300"/>
                </a:lnTo>
                <a:lnTo>
                  <a:pt x="274" y="264"/>
                </a:lnTo>
                <a:lnTo>
                  <a:pt x="227" y="226"/>
                </a:lnTo>
                <a:lnTo>
                  <a:pt x="186" y="192"/>
                </a:lnTo>
                <a:lnTo>
                  <a:pt x="149" y="158"/>
                </a:lnTo>
                <a:lnTo>
                  <a:pt x="116" y="128"/>
                </a:lnTo>
                <a:lnTo>
                  <a:pt x="88" y="95"/>
                </a:lnTo>
                <a:lnTo>
                  <a:pt x="64" y="74"/>
                </a:lnTo>
                <a:lnTo>
                  <a:pt x="48" y="47"/>
                </a:lnTo>
                <a:lnTo>
                  <a:pt x="34" y="25"/>
                </a:lnTo>
                <a:lnTo>
                  <a:pt x="27" y="13"/>
                </a:lnTo>
                <a:lnTo>
                  <a:pt x="2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53"/>
          <p:cNvSpPr/>
          <p:nvPr/>
        </p:nvSpPr>
        <p:spPr>
          <a:xfrm>
            <a:off x="1193760" y="3033720"/>
            <a:ext cx="3389400" cy="1465200"/>
          </a:xfrm>
          <a:custGeom>
            <a:avLst/>
            <a:gdLst>
              <a:gd name="textAreaLeft" fmla="*/ 0 w 3389400"/>
              <a:gd name="textAreaRight" fmla="*/ 3389760 w 3389400"/>
              <a:gd name="textAreaTop" fmla="*/ 0 h 1465200"/>
              <a:gd name="textAreaBottom" fmla="*/ 1465200 h 1465200"/>
            </a:gdLst>
            <a:ahLst/>
            <a:rect l="textAreaLeft" t="textAreaTop" r="textAreaRight" b="textAreaBottom"/>
            <a:pathLst>
              <a:path w="2135" h="923">
                <a:moveTo>
                  <a:pt x="0" y="0"/>
                </a:moveTo>
                <a:lnTo>
                  <a:pt x="0" y="0"/>
                </a:lnTo>
                <a:lnTo>
                  <a:pt x="5" y="22"/>
                </a:lnTo>
                <a:lnTo>
                  <a:pt x="14" y="47"/>
                </a:lnTo>
                <a:lnTo>
                  <a:pt x="27" y="68"/>
                </a:lnTo>
                <a:lnTo>
                  <a:pt x="47" y="95"/>
                </a:lnTo>
                <a:lnTo>
                  <a:pt x="73" y="122"/>
                </a:lnTo>
                <a:lnTo>
                  <a:pt x="100" y="154"/>
                </a:lnTo>
                <a:lnTo>
                  <a:pt x="134" y="185"/>
                </a:lnTo>
                <a:lnTo>
                  <a:pt x="170" y="219"/>
                </a:lnTo>
                <a:lnTo>
                  <a:pt x="215" y="253"/>
                </a:lnTo>
                <a:lnTo>
                  <a:pt x="261" y="292"/>
                </a:lnTo>
                <a:lnTo>
                  <a:pt x="312" y="332"/>
                </a:lnTo>
                <a:lnTo>
                  <a:pt x="367" y="368"/>
                </a:lnTo>
                <a:lnTo>
                  <a:pt x="426" y="407"/>
                </a:lnTo>
                <a:lnTo>
                  <a:pt x="487" y="446"/>
                </a:lnTo>
                <a:lnTo>
                  <a:pt x="555" y="484"/>
                </a:lnTo>
                <a:lnTo>
                  <a:pt x="625" y="524"/>
                </a:lnTo>
                <a:lnTo>
                  <a:pt x="699" y="565"/>
                </a:lnTo>
                <a:lnTo>
                  <a:pt x="777" y="601"/>
                </a:lnTo>
                <a:lnTo>
                  <a:pt x="856" y="638"/>
                </a:lnTo>
                <a:lnTo>
                  <a:pt x="939" y="672"/>
                </a:lnTo>
                <a:lnTo>
                  <a:pt x="1026" y="708"/>
                </a:lnTo>
                <a:lnTo>
                  <a:pt x="1114" y="740"/>
                </a:lnTo>
                <a:lnTo>
                  <a:pt x="1209" y="773"/>
                </a:lnTo>
                <a:lnTo>
                  <a:pt x="1302" y="801"/>
                </a:lnTo>
                <a:lnTo>
                  <a:pt x="1399" y="828"/>
                </a:lnTo>
                <a:lnTo>
                  <a:pt x="1497" y="850"/>
                </a:lnTo>
                <a:lnTo>
                  <a:pt x="1598" y="869"/>
                </a:lnTo>
                <a:lnTo>
                  <a:pt x="1703" y="889"/>
                </a:lnTo>
                <a:lnTo>
                  <a:pt x="1809" y="903"/>
                </a:lnTo>
                <a:lnTo>
                  <a:pt x="1915" y="914"/>
                </a:lnTo>
                <a:lnTo>
                  <a:pt x="2026" y="918"/>
                </a:lnTo>
                <a:lnTo>
                  <a:pt x="2135" y="923"/>
                </a:lnTo>
                <a:lnTo>
                  <a:pt x="2135" y="889"/>
                </a:lnTo>
                <a:lnTo>
                  <a:pt x="2026" y="887"/>
                </a:lnTo>
                <a:lnTo>
                  <a:pt x="1917" y="882"/>
                </a:lnTo>
                <a:lnTo>
                  <a:pt x="1809" y="869"/>
                </a:lnTo>
                <a:lnTo>
                  <a:pt x="1705" y="857"/>
                </a:lnTo>
                <a:lnTo>
                  <a:pt x="1603" y="837"/>
                </a:lnTo>
                <a:lnTo>
                  <a:pt x="1501" y="819"/>
                </a:lnTo>
                <a:lnTo>
                  <a:pt x="1404" y="794"/>
                </a:lnTo>
                <a:lnTo>
                  <a:pt x="1306" y="769"/>
                </a:lnTo>
                <a:lnTo>
                  <a:pt x="1213" y="740"/>
                </a:lnTo>
                <a:lnTo>
                  <a:pt x="1123" y="708"/>
                </a:lnTo>
                <a:lnTo>
                  <a:pt x="1034" y="678"/>
                </a:lnTo>
                <a:lnTo>
                  <a:pt x="948" y="644"/>
                </a:lnTo>
                <a:lnTo>
                  <a:pt x="865" y="608"/>
                </a:lnTo>
                <a:lnTo>
                  <a:pt x="785" y="572"/>
                </a:lnTo>
                <a:lnTo>
                  <a:pt x="709" y="534"/>
                </a:lnTo>
                <a:lnTo>
                  <a:pt x="636" y="497"/>
                </a:lnTo>
                <a:lnTo>
                  <a:pt x="564" y="455"/>
                </a:lnTo>
                <a:lnTo>
                  <a:pt x="498" y="416"/>
                </a:lnTo>
                <a:lnTo>
                  <a:pt x="435" y="378"/>
                </a:lnTo>
                <a:lnTo>
                  <a:pt x="380" y="339"/>
                </a:lnTo>
                <a:lnTo>
                  <a:pt x="322" y="300"/>
                </a:lnTo>
                <a:lnTo>
                  <a:pt x="274" y="264"/>
                </a:lnTo>
                <a:lnTo>
                  <a:pt x="227" y="226"/>
                </a:lnTo>
                <a:lnTo>
                  <a:pt x="186" y="192"/>
                </a:lnTo>
                <a:lnTo>
                  <a:pt x="149" y="158"/>
                </a:lnTo>
                <a:lnTo>
                  <a:pt x="116" y="128"/>
                </a:lnTo>
                <a:lnTo>
                  <a:pt x="88" y="95"/>
                </a:lnTo>
                <a:lnTo>
                  <a:pt x="64" y="74"/>
                </a:lnTo>
                <a:lnTo>
                  <a:pt x="48" y="47"/>
                </a:lnTo>
                <a:lnTo>
                  <a:pt x="34" y="25"/>
                </a:lnTo>
                <a:lnTo>
                  <a:pt x="27" y="13"/>
                </a:lnTo>
                <a:lnTo>
                  <a:pt x="27" y="0"/>
                </a:lnTo>
              </a:path>
            </a:pathLst>
          </a:custGeom>
          <a:noFill/>
          <a:ln w="3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54"/>
          <p:cNvSpPr/>
          <p:nvPr/>
        </p:nvSpPr>
        <p:spPr>
          <a:xfrm>
            <a:off x="1193760" y="1571760"/>
            <a:ext cx="3389400" cy="1461960"/>
          </a:xfrm>
          <a:custGeom>
            <a:avLst/>
            <a:gdLst>
              <a:gd name="textAreaLeft" fmla="*/ 0 w 3389400"/>
              <a:gd name="textAreaRight" fmla="*/ 3389760 w 3389400"/>
              <a:gd name="textAreaTop" fmla="*/ 0 h 1461960"/>
              <a:gd name="textAreaBottom" fmla="*/ 1462320 h 1461960"/>
            </a:gdLst>
            <a:ahLst/>
            <a:rect l="textAreaLeft" t="textAreaTop" r="textAreaRight" b="textAreaBottom"/>
            <a:pathLst>
              <a:path w="2135" h="921">
                <a:moveTo>
                  <a:pt x="2135" y="0"/>
                </a:moveTo>
                <a:lnTo>
                  <a:pt x="2026" y="2"/>
                </a:lnTo>
                <a:lnTo>
                  <a:pt x="1915" y="8"/>
                </a:lnTo>
                <a:lnTo>
                  <a:pt x="1809" y="18"/>
                </a:lnTo>
                <a:lnTo>
                  <a:pt x="1703" y="33"/>
                </a:lnTo>
                <a:lnTo>
                  <a:pt x="1598" y="52"/>
                </a:lnTo>
                <a:lnTo>
                  <a:pt x="1497" y="70"/>
                </a:lnTo>
                <a:lnTo>
                  <a:pt x="1399" y="95"/>
                </a:lnTo>
                <a:lnTo>
                  <a:pt x="1302" y="121"/>
                </a:lnTo>
                <a:lnTo>
                  <a:pt x="1209" y="149"/>
                </a:lnTo>
                <a:lnTo>
                  <a:pt x="1114" y="181"/>
                </a:lnTo>
                <a:lnTo>
                  <a:pt x="1026" y="212"/>
                </a:lnTo>
                <a:lnTo>
                  <a:pt x="939" y="250"/>
                </a:lnTo>
                <a:lnTo>
                  <a:pt x="856" y="285"/>
                </a:lnTo>
                <a:lnTo>
                  <a:pt x="777" y="323"/>
                </a:lnTo>
                <a:lnTo>
                  <a:pt x="699" y="359"/>
                </a:lnTo>
                <a:lnTo>
                  <a:pt x="625" y="396"/>
                </a:lnTo>
                <a:lnTo>
                  <a:pt x="555" y="436"/>
                </a:lnTo>
                <a:lnTo>
                  <a:pt x="487" y="475"/>
                </a:lnTo>
                <a:lnTo>
                  <a:pt x="426" y="515"/>
                </a:lnTo>
                <a:lnTo>
                  <a:pt x="367" y="554"/>
                </a:lnTo>
                <a:lnTo>
                  <a:pt x="312" y="595"/>
                </a:lnTo>
                <a:lnTo>
                  <a:pt x="261" y="629"/>
                </a:lnTo>
                <a:lnTo>
                  <a:pt x="215" y="669"/>
                </a:lnTo>
                <a:lnTo>
                  <a:pt x="170" y="705"/>
                </a:lnTo>
                <a:lnTo>
                  <a:pt x="134" y="737"/>
                </a:lnTo>
                <a:lnTo>
                  <a:pt x="100" y="771"/>
                </a:lnTo>
                <a:lnTo>
                  <a:pt x="73" y="800"/>
                </a:lnTo>
                <a:lnTo>
                  <a:pt x="47" y="826"/>
                </a:lnTo>
                <a:lnTo>
                  <a:pt x="27" y="852"/>
                </a:lnTo>
                <a:lnTo>
                  <a:pt x="14" y="877"/>
                </a:lnTo>
                <a:lnTo>
                  <a:pt x="5" y="900"/>
                </a:lnTo>
                <a:lnTo>
                  <a:pt x="0" y="921"/>
                </a:lnTo>
                <a:lnTo>
                  <a:pt x="27" y="921"/>
                </a:lnTo>
                <a:lnTo>
                  <a:pt x="27" y="912"/>
                </a:lnTo>
                <a:lnTo>
                  <a:pt x="34" y="896"/>
                </a:lnTo>
                <a:lnTo>
                  <a:pt x="48" y="875"/>
                </a:lnTo>
                <a:lnTo>
                  <a:pt x="64" y="852"/>
                </a:lnTo>
                <a:lnTo>
                  <a:pt x="88" y="826"/>
                </a:lnTo>
                <a:lnTo>
                  <a:pt x="116" y="794"/>
                </a:lnTo>
                <a:lnTo>
                  <a:pt x="149" y="762"/>
                </a:lnTo>
                <a:lnTo>
                  <a:pt x="186" y="731"/>
                </a:lnTo>
                <a:lnTo>
                  <a:pt x="227" y="694"/>
                </a:lnTo>
                <a:lnTo>
                  <a:pt x="274" y="660"/>
                </a:lnTo>
                <a:lnTo>
                  <a:pt x="322" y="622"/>
                </a:lnTo>
                <a:lnTo>
                  <a:pt x="380" y="583"/>
                </a:lnTo>
                <a:lnTo>
                  <a:pt x="435" y="543"/>
                </a:lnTo>
                <a:lnTo>
                  <a:pt x="498" y="504"/>
                </a:lnTo>
                <a:lnTo>
                  <a:pt x="564" y="466"/>
                </a:lnTo>
                <a:lnTo>
                  <a:pt x="636" y="425"/>
                </a:lnTo>
                <a:lnTo>
                  <a:pt x="709" y="389"/>
                </a:lnTo>
                <a:lnTo>
                  <a:pt x="785" y="352"/>
                </a:lnTo>
                <a:lnTo>
                  <a:pt x="865" y="314"/>
                </a:lnTo>
                <a:lnTo>
                  <a:pt x="948" y="278"/>
                </a:lnTo>
                <a:lnTo>
                  <a:pt x="1034" y="244"/>
                </a:lnTo>
                <a:lnTo>
                  <a:pt x="1123" y="212"/>
                </a:lnTo>
                <a:lnTo>
                  <a:pt x="1213" y="181"/>
                </a:lnTo>
                <a:lnTo>
                  <a:pt x="1306" y="155"/>
                </a:lnTo>
                <a:lnTo>
                  <a:pt x="1404" y="128"/>
                </a:lnTo>
                <a:lnTo>
                  <a:pt x="1501" y="103"/>
                </a:lnTo>
                <a:lnTo>
                  <a:pt x="1603" y="83"/>
                </a:lnTo>
                <a:lnTo>
                  <a:pt x="1705" y="65"/>
                </a:lnTo>
                <a:lnTo>
                  <a:pt x="1809" y="52"/>
                </a:lnTo>
                <a:lnTo>
                  <a:pt x="1917" y="40"/>
                </a:lnTo>
                <a:lnTo>
                  <a:pt x="2026" y="35"/>
                </a:lnTo>
                <a:lnTo>
                  <a:pt x="2135" y="33"/>
                </a:lnTo>
                <a:lnTo>
                  <a:pt x="213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55"/>
          <p:cNvSpPr/>
          <p:nvPr/>
        </p:nvSpPr>
        <p:spPr>
          <a:xfrm>
            <a:off x="1193760" y="1571760"/>
            <a:ext cx="3389400" cy="1461960"/>
          </a:xfrm>
          <a:custGeom>
            <a:avLst/>
            <a:gdLst>
              <a:gd name="textAreaLeft" fmla="*/ 0 w 3389400"/>
              <a:gd name="textAreaRight" fmla="*/ 3389760 w 3389400"/>
              <a:gd name="textAreaTop" fmla="*/ 0 h 1461960"/>
              <a:gd name="textAreaBottom" fmla="*/ 1462320 h 1461960"/>
            </a:gdLst>
            <a:ahLst/>
            <a:rect l="textAreaLeft" t="textAreaTop" r="textAreaRight" b="textAreaBottom"/>
            <a:pathLst>
              <a:path w="2135" h="921">
                <a:moveTo>
                  <a:pt x="2135" y="0"/>
                </a:moveTo>
                <a:lnTo>
                  <a:pt x="2135" y="0"/>
                </a:lnTo>
                <a:lnTo>
                  <a:pt x="2026" y="2"/>
                </a:lnTo>
                <a:lnTo>
                  <a:pt x="1915" y="8"/>
                </a:lnTo>
                <a:lnTo>
                  <a:pt x="1809" y="18"/>
                </a:lnTo>
                <a:lnTo>
                  <a:pt x="1703" y="33"/>
                </a:lnTo>
                <a:lnTo>
                  <a:pt x="1598" y="52"/>
                </a:lnTo>
                <a:lnTo>
                  <a:pt x="1497" y="70"/>
                </a:lnTo>
                <a:lnTo>
                  <a:pt x="1399" y="95"/>
                </a:lnTo>
                <a:lnTo>
                  <a:pt x="1302" y="121"/>
                </a:lnTo>
                <a:lnTo>
                  <a:pt x="1209" y="149"/>
                </a:lnTo>
                <a:lnTo>
                  <a:pt x="1114" y="181"/>
                </a:lnTo>
                <a:lnTo>
                  <a:pt x="1026" y="212"/>
                </a:lnTo>
                <a:lnTo>
                  <a:pt x="939" y="250"/>
                </a:lnTo>
                <a:lnTo>
                  <a:pt x="856" y="285"/>
                </a:lnTo>
                <a:lnTo>
                  <a:pt x="777" y="323"/>
                </a:lnTo>
                <a:lnTo>
                  <a:pt x="699" y="359"/>
                </a:lnTo>
                <a:lnTo>
                  <a:pt x="625" y="396"/>
                </a:lnTo>
                <a:lnTo>
                  <a:pt x="555" y="436"/>
                </a:lnTo>
                <a:lnTo>
                  <a:pt x="487" y="475"/>
                </a:lnTo>
                <a:lnTo>
                  <a:pt x="426" y="515"/>
                </a:lnTo>
                <a:lnTo>
                  <a:pt x="367" y="554"/>
                </a:lnTo>
                <a:lnTo>
                  <a:pt x="312" y="595"/>
                </a:lnTo>
                <a:lnTo>
                  <a:pt x="261" y="629"/>
                </a:lnTo>
                <a:lnTo>
                  <a:pt x="215" y="669"/>
                </a:lnTo>
                <a:lnTo>
                  <a:pt x="170" y="705"/>
                </a:lnTo>
                <a:lnTo>
                  <a:pt x="134" y="737"/>
                </a:lnTo>
                <a:lnTo>
                  <a:pt x="100" y="771"/>
                </a:lnTo>
                <a:lnTo>
                  <a:pt x="73" y="800"/>
                </a:lnTo>
                <a:lnTo>
                  <a:pt x="47" y="826"/>
                </a:lnTo>
                <a:lnTo>
                  <a:pt x="27" y="852"/>
                </a:lnTo>
                <a:lnTo>
                  <a:pt x="14" y="877"/>
                </a:lnTo>
                <a:lnTo>
                  <a:pt x="5" y="900"/>
                </a:lnTo>
                <a:lnTo>
                  <a:pt x="0" y="921"/>
                </a:lnTo>
                <a:lnTo>
                  <a:pt x="27" y="921"/>
                </a:lnTo>
                <a:lnTo>
                  <a:pt x="27" y="912"/>
                </a:lnTo>
                <a:lnTo>
                  <a:pt x="34" y="896"/>
                </a:lnTo>
                <a:lnTo>
                  <a:pt x="48" y="875"/>
                </a:lnTo>
                <a:lnTo>
                  <a:pt x="64" y="852"/>
                </a:lnTo>
                <a:lnTo>
                  <a:pt x="88" y="826"/>
                </a:lnTo>
                <a:lnTo>
                  <a:pt x="116" y="794"/>
                </a:lnTo>
                <a:lnTo>
                  <a:pt x="149" y="762"/>
                </a:lnTo>
                <a:lnTo>
                  <a:pt x="186" y="731"/>
                </a:lnTo>
                <a:lnTo>
                  <a:pt x="227" y="694"/>
                </a:lnTo>
                <a:lnTo>
                  <a:pt x="274" y="660"/>
                </a:lnTo>
                <a:lnTo>
                  <a:pt x="322" y="622"/>
                </a:lnTo>
                <a:lnTo>
                  <a:pt x="380" y="583"/>
                </a:lnTo>
                <a:lnTo>
                  <a:pt x="435" y="543"/>
                </a:lnTo>
                <a:lnTo>
                  <a:pt x="498" y="504"/>
                </a:lnTo>
                <a:lnTo>
                  <a:pt x="564" y="466"/>
                </a:lnTo>
                <a:lnTo>
                  <a:pt x="636" y="425"/>
                </a:lnTo>
                <a:lnTo>
                  <a:pt x="709" y="389"/>
                </a:lnTo>
                <a:lnTo>
                  <a:pt x="785" y="352"/>
                </a:lnTo>
                <a:lnTo>
                  <a:pt x="865" y="314"/>
                </a:lnTo>
                <a:lnTo>
                  <a:pt x="948" y="278"/>
                </a:lnTo>
                <a:lnTo>
                  <a:pt x="1034" y="244"/>
                </a:lnTo>
                <a:lnTo>
                  <a:pt x="1123" y="212"/>
                </a:lnTo>
                <a:lnTo>
                  <a:pt x="1213" y="181"/>
                </a:lnTo>
                <a:lnTo>
                  <a:pt x="1306" y="155"/>
                </a:lnTo>
                <a:lnTo>
                  <a:pt x="1404" y="128"/>
                </a:lnTo>
                <a:lnTo>
                  <a:pt x="1501" y="103"/>
                </a:lnTo>
                <a:lnTo>
                  <a:pt x="1603" y="83"/>
                </a:lnTo>
                <a:lnTo>
                  <a:pt x="1705" y="65"/>
                </a:lnTo>
                <a:lnTo>
                  <a:pt x="1809" y="52"/>
                </a:lnTo>
                <a:lnTo>
                  <a:pt x="1917" y="40"/>
                </a:lnTo>
                <a:lnTo>
                  <a:pt x="2026" y="35"/>
                </a:lnTo>
                <a:lnTo>
                  <a:pt x="2135" y="33"/>
                </a:lnTo>
              </a:path>
            </a:pathLst>
          </a:custGeom>
          <a:noFill/>
          <a:ln w="3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56"/>
          <p:cNvSpPr/>
          <p:nvPr/>
        </p:nvSpPr>
        <p:spPr>
          <a:xfrm>
            <a:off x="4583160" y="1571760"/>
            <a:ext cx="3359160" cy="1323720"/>
          </a:xfrm>
          <a:custGeom>
            <a:avLst/>
            <a:gdLst>
              <a:gd name="textAreaLeft" fmla="*/ 0 w 3359160"/>
              <a:gd name="textAreaRight" fmla="*/ 3359520 w 3359160"/>
              <a:gd name="textAreaTop" fmla="*/ 0 h 1323720"/>
              <a:gd name="textAreaBottom" fmla="*/ 1324080 h 1323720"/>
            </a:gdLst>
            <a:ahLst/>
            <a:rect l="textAreaLeft" t="textAreaTop" r="textAreaRight" b="textAreaBottom"/>
            <a:pathLst>
              <a:path w="2116" h="834">
                <a:moveTo>
                  <a:pt x="2116" y="801"/>
                </a:moveTo>
                <a:lnTo>
                  <a:pt x="2116" y="801"/>
                </a:lnTo>
                <a:lnTo>
                  <a:pt x="2067" y="778"/>
                </a:lnTo>
                <a:lnTo>
                  <a:pt x="2017" y="760"/>
                </a:lnTo>
                <a:lnTo>
                  <a:pt x="1967" y="737"/>
                </a:lnTo>
                <a:lnTo>
                  <a:pt x="1917" y="712"/>
                </a:lnTo>
                <a:lnTo>
                  <a:pt x="1865" y="685"/>
                </a:lnTo>
                <a:lnTo>
                  <a:pt x="1809" y="658"/>
                </a:lnTo>
                <a:lnTo>
                  <a:pt x="1756" y="629"/>
                </a:lnTo>
                <a:lnTo>
                  <a:pt x="1702" y="597"/>
                </a:lnTo>
                <a:lnTo>
                  <a:pt x="1645" y="568"/>
                </a:lnTo>
                <a:lnTo>
                  <a:pt x="1587" y="534"/>
                </a:lnTo>
                <a:lnTo>
                  <a:pt x="1526" y="502"/>
                </a:lnTo>
                <a:lnTo>
                  <a:pt x="1467" y="466"/>
                </a:lnTo>
                <a:lnTo>
                  <a:pt x="1406" y="434"/>
                </a:lnTo>
                <a:lnTo>
                  <a:pt x="1345" y="400"/>
                </a:lnTo>
                <a:lnTo>
                  <a:pt x="1281" y="366"/>
                </a:lnTo>
                <a:lnTo>
                  <a:pt x="1215" y="332"/>
                </a:lnTo>
                <a:lnTo>
                  <a:pt x="1150" y="301"/>
                </a:lnTo>
                <a:lnTo>
                  <a:pt x="1082" y="267"/>
                </a:lnTo>
                <a:lnTo>
                  <a:pt x="1012" y="237"/>
                </a:lnTo>
                <a:lnTo>
                  <a:pt x="944" y="208"/>
                </a:lnTo>
                <a:lnTo>
                  <a:pt x="873" y="178"/>
                </a:lnTo>
                <a:lnTo>
                  <a:pt x="801" y="149"/>
                </a:lnTo>
                <a:lnTo>
                  <a:pt x="726" y="122"/>
                </a:lnTo>
                <a:lnTo>
                  <a:pt x="650" y="99"/>
                </a:lnTo>
                <a:lnTo>
                  <a:pt x="575" y="78"/>
                </a:lnTo>
                <a:lnTo>
                  <a:pt x="498" y="60"/>
                </a:lnTo>
                <a:lnTo>
                  <a:pt x="418" y="40"/>
                </a:lnTo>
                <a:lnTo>
                  <a:pt x="335" y="26"/>
                </a:lnTo>
                <a:lnTo>
                  <a:pt x="256" y="15"/>
                </a:lnTo>
                <a:lnTo>
                  <a:pt x="172" y="6"/>
                </a:lnTo>
                <a:lnTo>
                  <a:pt x="86" y="2"/>
                </a:lnTo>
                <a:lnTo>
                  <a:pt x="0" y="0"/>
                </a:lnTo>
                <a:lnTo>
                  <a:pt x="0" y="33"/>
                </a:lnTo>
                <a:lnTo>
                  <a:pt x="86" y="35"/>
                </a:lnTo>
                <a:lnTo>
                  <a:pt x="169" y="40"/>
                </a:lnTo>
                <a:lnTo>
                  <a:pt x="253" y="47"/>
                </a:lnTo>
                <a:lnTo>
                  <a:pt x="333" y="60"/>
                </a:lnTo>
                <a:lnTo>
                  <a:pt x="412" y="72"/>
                </a:lnTo>
                <a:lnTo>
                  <a:pt x="491" y="92"/>
                </a:lnTo>
                <a:lnTo>
                  <a:pt x="570" y="113"/>
                </a:lnTo>
                <a:lnTo>
                  <a:pt x="645" y="133"/>
                </a:lnTo>
                <a:lnTo>
                  <a:pt x="720" y="155"/>
                </a:lnTo>
                <a:lnTo>
                  <a:pt x="792" y="181"/>
                </a:lnTo>
                <a:lnTo>
                  <a:pt x="864" y="210"/>
                </a:lnTo>
                <a:lnTo>
                  <a:pt x="937" y="237"/>
                </a:lnTo>
                <a:lnTo>
                  <a:pt x="1005" y="266"/>
                </a:lnTo>
                <a:lnTo>
                  <a:pt x="1075" y="296"/>
                </a:lnTo>
                <a:lnTo>
                  <a:pt x="1139" y="330"/>
                </a:lnTo>
                <a:lnTo>
                  <a:pt x="1204" y="362"/>
                </a:lnTo>
                <a:lnTo>
                  <a:pt x="1272" y="396"/>
                </a:lnTo>
                <a:lnTo>
                  <a:pt x="1335" y="432"/>
                </a:lnTo>
                <a:lnTo>
                  <a:pt x="1396" y="466"/>
                </a:lnTo>
                <a:lnTo>
                  <a:pt x="1457" y="495"/>
                </a:lnTo>
                <a:lnTo>
                  <a:pt x="1517" y="531"/>
                </a:lnTo>
                <a:lnTo>
                  <a:pt x="1577" y="563"/>
                </a:lnTo>
                <a:lnTo>
                  <a:pt x="1634" y="597"/>
                </a:lnTo>
                <a:lnTo>
                  <a:pt x="1691" y="629"/>
                </a:lnTo>
                <a:lnTo>
                  <a:pt x="1745" y="658"/>
                </a:lnTo>
                <a:lnTo>
                  <a:pt x="1800" y="690"/>
                </a:lnTo>
                <a:lnTo>
                  <a:pt x="1854" y="715"/>
                </a:lnTo>
                <a:lnTo>
                  <a:pt x="1906" y="740"/>
                </a:lnTo>
                <a:lnTo>
                  <a:pt x="1960" y="766"/>
                </a:lnTo>
                <a:lnTo>
                  <a:pt x="2010" y="789"/>
                </a:lnTo>
                <a:lnTo>
                  <a:pt x="2058" y="810"/>
                </a:lnTo>
                <a:lnTo>
                  <a:pt x="2109" y="826"/>
                </a:lnTo>
                <a:lnTo>
                  <a:pt x="2109" y="834"/>
                </a:lnTo>
                <a:lnTo>
                  <a:pt x="2116" y="801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57"/>
          <p:cNvSpPr/>
          <p:nvPr/>
        </p:nvSpPr>
        <p:spPr>
          <a:xfrm>
            <a:off x="4583160" y="1571760"/>
            <a:ext cx="3359160" cy="1323720"/>
          </a:xfrm>
          <a:custGeom>
            <a:avLst/>
            <a:gdLst>
              <a:gd name="textAreaLeft" fmla="*/ 0 w 3359160"/>
              <a:gd name="textAreaRight" fmla="*/ 3359520 w 3359160"/>
              <a:gd name="textAreaTop" fmla="*/ 0 h 1323720"/>
              <a:gd name="textAreaBottom" fmla="*/ 1324080 h 1323720"/>
            </a:gdLst>
            <a:ahLst/>
            <a:rect l="textAreaLeft" t="textAreaTop" r="textAreaRight" b="textAreaBottom"/>
            <a:pathLst>
              <a:path w="2116" h="834">
                <a:moveTo>
                  <a:pt x="2116" y="801"/>
                </a:moveTo>
                <a:lnTo>
                  <a:pt x="2116" y="801"/>
                </a:lnTo>
                <a:lnTo>
                  <a:pt x="2067" y="778"/>
                </a:lnTo>
                <a:lnTo>
                  <a:pt x="2017" y="760"/>
                </a:lnTo>
                <a:lnTo>
                  <a:pt x="1967" y="737"/>
                </a:lnTo>
                <a:lnTo>
                  <a:pt x="1917" y="712"/>
                </a:lnTo>
                <a:lnTo>
                  <a:pt x="1865" y="685"/>
                </a:lnTo>
                <a:lnTo>
                  <a:pt x="1809" y="658"/>
                </a:lnTo>
                <a:lnTo>
                  <a:pt x="1756" y="629"/>
                </a:lnTo>
                <a:lnTo>
                  <a:pt x="1702" y="597"/>
                </a:lnTo>
                <a:lnTo>
                  <a:pt x="1645" y="568"/>
                </a:lnTo>
                <a:lnTo>
                  <a:pt x="1587" y="534"/>
                </a:lnTo>
                <a:lnTo>
                  <a:pt x="1526" y="502"/>
                </a:lnTo>
                <a:lnTo>
                  <a:pt x="1467" y="466"/>
                </a:lnTo>
                <a:lnTo>
                  <a:pt x="1406" y="434"/>
                </a:lnTo>
                <a:lnTo>
                  <a:pt x="1345" y="400"/>
                </a:lnTo>
                <a:lnTo>
                  <a:pt x="1281" y="366"/>
                </a:lnTo>
                <a:lnTo>
                  <a:pt x="1215" y="332"/>
                </a:lnTo>
                <a:lnTo>
                  <a:pt x="1150" y="301"/>
                </a:lnTo>
                <a:lnTo>
                  <a:pt x="1082" y="267"/>
                </a:lnTo>
                <a:lnTo>
                  <a:pt x="1012" y="237"/>
                </a:lnTo>
                <a:lnTo>
                  <a:pt x="944" y="208"/>
                </a:lnTo>
                <a:lnTo>
                  <a:pt x="873" y="178"/>
                </a:lnTo>
                <a:lnTo>
                  <a:pt x="801" y="149"/>
                </a:lnTo>
                <a:lnTo>
                  <a:pt x="726" y="122"/>
                </a:lnTo>
                <a:lnTo>
                  <a:pt x="650" y="99"/>
                </a:lnTo>
                <a:lnTo>
                  <a:pt x="575" y="78"/>
                </a:lnTo>
                <a:lnTo>
                  <a:pt x="498" y="60"/>
                </a:lnTo>
                <a:lnTo>
                  <a:pt x="418" y="40"/>
                </a:lnTo>
                <a:lnTo>
                  <a:pt x="335" y="26"/>
                </a:lnTo>
                <a:lnTo>
                  <a:pt x="256" y="15"/>
                </a:lnTo>
                <a:lnTo>
                  <a:pt x="172" y="6"/>
                </a:lnTo>
                <a:lnTo>
                  <a:pt x="86" y="2"/>
                </a:lnTo>
                <a:lnTo>
                  <a:pt x="0" y="0"/>
                </a:lnTo>
                <a:lnTo>
                  <a:pt x="0" y="33"/>
                </a:lnTo>
                <a:lnTo>
                  <a:pt x="86" y="35"/>
                </a:lnTo>
                <a:lnTo>
                  <a:pt x="169" y="40"/>
                </a:lnTo>
                <a:lnTo>
                  <a:pt x="253" y="47"/>
                </a:lnTo>
                <a:lnTo>
                  <a:pt x="333" y="60"/>
                </a:lnTo>
                <a:lnTo>
                  <a:pt x="412" y="72"/>
                </a:lnTo>
                <a:lnTo>
                  <a:pt x="491" y="92"/>
                </a:lnTo>
                <a:lnTo>
                  <a:pt x="570" y="113"/>
                </a:lnTo>
                <a:lnTo>
                  <a:pt x="645" y="133"/>
                </a:lnTo>
                <a:lnTo>
                  <a:pt x="720" y="155"/>
                </a:lnTo>
                <a:lnTo>
                  <a:pt x="792" y="181"/>
                </a:lnTo>
                <a:lnTo>
                  <a:pt x="864" y="210"/>
                </a:lnTo>
                <a:lnTo>
                  <a:pt x="937" y="237"/>
                </a:lnTo>
                <a:lnTo>
                  <a:pt x="1005" y="266"/>
                </a:lnTo>
                <a:lnTo>
                  <a:pt x="1075" y="296"/>
                </a:lnTo>
                <a:lnTo>
                  <a:pt x="1139" y="330"/>
                </a:lnTo>
                <a:lnTo>
                  <a:pt x="1204" y="362"/>
                </a:lnTo>
                <a:lnTo>
                  <a:pt x="1272" y="396"/>
                </a:lnTo>
                <a:lnTo>
                  <a:pt x="1335" y="432"/>
                </a:lnTo>
                <a:lnTo>
                  <a:pt x="1396" y="466"/>
                </a:lnTo>
                <a:lnTo>
                  <a:pt x="1457" y="495"/>
                </a:lnTo>
                <a:lnTo>
                  <a:pt x="1517" y="531"/>
                </a:lnTo>
                <a:lnTo>
                  <a:pt x="1577" y="563"/>
                </a:lnTo>
                <a:lnTo>
                  <a:pt x="1634" y="597"/>
                </a:lnTo>
                <a:lnTo>
                  <a:pt x="1691" y="629"/>
                </a:lnTo>
                <a:lnTo>
                  <a:pt x="1745" y="658"/>
                </a:lnTo>
                <a:lnTo>
                  <a:pt x="1800" y="690"/>
                </a:lnTo>
                <a:lnTo>
                  <a:pt x="1854" y="715"/>
                </a:lnTo>
                <a:lnTo>
                  <a:pt x="1906" y="740"/>
                </a:lnTo>
                <a:lnTo>
                  <a:pt x="1960" y="766"/>
                </a:lnTo>
                <a:lnTo>
                  <a:pt x="2010" y="789"/>
                </a:lnTo>
                <a:lnTo>
                  <a:pt x="2058" y="810"/>
                </a:lnTo>
                <a:lnTo>
                  <a:pt x="2109" y="826"/>
                </a:lnTo>
                <a:lnTo>
                  <a:pt x="2109" y="834"/>
                </a:lnTo>
              </a:path>
            </a:pathLst>
          </a:custGeom>
          <a:noFill/>
          <a:ln w="3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58"/>
          <p:cNvSpPr/>
          <p:nvPr/>
        </p:nvSpPr>
        <p:spPr>
          <a:xfrm>
            <a:off x="7808760" y="2792520"/>
            <a:ext cx="723960" cy="415800"/>
          </a:xfrm>
          <a:custGeom>
            <a:avLst/>
            <a:gdLst>
              <a:gd name="textAreaLeft" fmla="*/ 0 w 723960"/>
              <a:gd name="textAreaRight" fmla="*/ 724320 w 72396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56" h="262">
                <a:moveTo>
                  <a:pt x="456" y="262"/>
                </a:moveTo>
                <a:lnTo>
                  <a:pt x="451" y="229"/>
                </a:lnTo>
                <a:lnTo>
                  <a:pt x="433" y="204"/>
                </a:lnTo>
                <a:lnTo>
                  <a:pt x="415" y="181"/>
                </a:lnTo>
                <a:lnTo>
                  <a:pt x="390" y="161"/>
                </a:lnTo>
                <a:lnTo>
                  <a:pt x="358" y="140"/>
                </a:lnTo>
                <a:lnTo>
                  <a:pt x="327" y="122"/>
                </a:lnTo>
                <a:lnTo>
                  <a:pt x="288" y="104"/>
                </a:lnTo>
                <a:lnTo>
                  <a:pt x="254" y="90"/>
                </a:lnTo>
                <a:lnTo>
                  <a:pt x="211" y="77"/>
                </a:lnTo>
                <a:lnTo>
                  <a:pt x="173" y="61"/>
                </a:lnTo>
                <a:lnTo>
                  <a:pt x="136" y="50"/>
                </a:lnTo>
                <a:lnTo>
                  <a:pt x="102" y="36"/>
                </a:lnTo>
                <a:lnTo>
                  <a:pt x="80" y="27"/>
                </a:lnTo>
                <a:lnTo>
                  <a:pt x="46" y="14"/>
                </a:lnTo>
                <a:lnTo>
                  <a:pt x="25" y="9"/>
                </a:lnTo>
                <a:lnTo>
                  <a:pt x="3" y="0"/>
                </a:lnTo>
                <a:lnTo>
                  <a:pt x="0" y="25"/>
                </a:lnTo>
                <a:lnTo>
                  <a:pt x="19" y="36"/>
                </a:lnTo>
                <a:lnTo>
                  <a:pt x="44" y="47"/>
                </a:lnTo>
                <a:lnTo>
                  <a:pt x="64" y="57"/>
                </a:lnTo>
                <a:lnTo>
                  <a:pt x="91" y="70"/>
                </a:lnTo>
                <a:lnTo>
                  <a:pt x="127" y="81"/>
                </a:lnTo>
                <a:lnTo>
                  <a:pt x="164" y="91"/>
                </a:lnTo>
                <a:lnTo>
                  <a:pt x="204" y="104"/>
                </a:lnTo>
                <a:lnTo>
                  <a:pt x="238" y="118"/>
                </a:lnTo>
                <a:lnTo>
                  <a:pt x="275" y="136"/>
                </a:lnTo>
                <a:lnTo>
                  <a:pt x="311" y="151"/>
                </a:lnTo>
                <a:lnTo>
                  <a:pt x="342" y="169"/>
                </a:lnTo>
                <a:lnTo>
                  <a:pt x="370" y="188"/>
                </a:lnTo>
                <a:lnTo>
                  <a:pt x="392" y="204"/>
                </a:lnTo>
                <a:lnTo>
                  <a:pt x="408" y="224"/>
                </a:lnTo>
                <a:lnTo>
                  <a:pt x="421" y="242"/>
                </a:lnTo>
                <a:lnTo>
                  <a:pt x="422" y="262"/>
                </a:lnTo>
                <a:lnTo>
                  <a:pt x="456" y="262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59"/>
          <p:cNvSpPr/>
          <p:nvPr/>
        </p:nvSpPr>
        <p:spPr>
          <a:xfrm>
            <a:off x="7808760" y="2792520"/>
            <a:ext cx="723960" cy="415800"/>
          </a:xfrm>
          <a:custGeom>
            <a:avLst/>
            <a:gdLst>
              <a:gd name="textAreaLeft" fmla="*/ 0 w 723960"/>
              <a:gd name="textAreaRight" fmla="*/ 724320 w 72396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56" h="262">
                <a:moveTo>
                  <a:pt x="456" y="262"/>
                </a:moveTo>
                <a:lnTo>
                  <a:pt x="456" y="262"/>
                </a:lnTo>
                <a:lnTo>
                  <a:pt x="451" y="229"/>
                </a:lnTo>
                <a:lnTo>
                  <a:pt x="433" y="204"/>
                </a:lnTo>
                <a:lnTo>
                  <a:pt x="415" y="181"/>
                </a:lnTo>
                <a:lnTo>
                  <a:pt x="390" y="161"/>
                </a:lnTo>
                <a:lnTo>
                  <a:pt x="358" y="140"/>
                </a:lnTo>
                <a:lnTo>
                  <a:pt x="327" y="122"/>
                </a:lnTo>
                <a:lnTo>
                  <a:pt x="288" y="104"/>
                </a:lnTo>
                <a:lnTo>
                  <a:pt x="254" y="90"/>
                </a:lnTo>
                <a:lnTo>
                  <a:pt x="211" y="77"/>
                </a:lnTo>
                <a:lnTo>
                  <a:pt x="173" y="61"/>
                </a:lnTo>
                <a:lnTo>
                  <a:pt x="136" y="50"/>
                </a:lnTo>
                <a:lnTo>
                  <a:pt x="102" y="36"/>
                </a:lnTo>
                <a:lnTo>
                  <a:pt x="80" y="27"/>
                </a:lnTo>
                <a:lnTo>
                  <a:pt x="46" y="14"/>
                </a:lnTo>
                <a:lnTo>
                  <a:pt x="25" y="9"/>
                </a:lnTo>
                <a:lnTo>
                  <a:pt x="3" y="0"/>
                </a:lnTo>
                <a:lnTo>
                  <a:pt x="0" y="25"/>
                </a:lnTo>
                <a:lnTo>
                  <a:pt x="19" y="36"/>
                </a:lnTo>
                <a:lnTo>
                  <a:pt x="44" y="47"/>
                </a:lnTo>
                <a:lnTo>
                  <a:pt x="64" y="57"/>
                </a:lnTo>
                <a:lnTo>
                  <a:pt x="91" y="70"/>
                </a:lnTo>
                <a:lnTo>
                  <a:pt x="127" y="81"/>
                </a:lnTo>
                <a:lnTo>
                  <a:pt x="164" y="91"/>
                </a:lnTo>
                <a:lnTo>
                  <a:pt x="204" y="104"/>
                </a:lnTo>
                <a:lnTo>
                  <a:pt x="238" y="118"/>
                </a:lnTo>
                <a:lnTo>
                  <a:pt x="275" y="136"/>
                </a:lnTo>
                <a:lnTo>
                  <a:pt x="311" y="151"/>
                </a:lnTo>
                <a:lnTo>
                  <a:pt x="342" y="169"/>
                </a:lnTo>
                <a:lnTo>
                  <a:pt x="370" y="188"/>
                </a:lnTo>
                <a:lnTo>
                  <a:pt x="392" y="204"/>
                </a:lnTo>
                <a:lnTo>
                  <a:pt x="408" y="224"/>
                </a:lnTo>
                <a:lnTo>
                  <a:pt x="421" y="242"/>
                </a:lnTo>
                <a:lnTo>
                  <a:pt x="422" y="262"/>
                </a:lnTo>
              </a:path>
            </a:pathLst>
          </a:custGeom>
          <a:noFill/>
          <a:ln w="3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60"/>
          <p:cNvSpPr/>
          <p:nvPr/>
        </p:nvSpPr>
        <p:spPr>
          <a:xfrm>
            <a:off x="3906720" y="2835360"/>
            <a:ext cx="230400" cy="198360"/>
          </a:xfrm>
          <a:custGeom>
            <a:avLst/>
            <a:gdLst>
              <a:gd name="textAreaLeft" fmla="*/ 0 w 230400"/>
              <a:gd name="textAreaRight" fmla="*/ 230760 w 2304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45" h="125">
                <a:moveTo>
                  <a:pt x="0" y="63"/>
                </a:moveTo>
                <a:lnTo>
                  <a:pt x="145" y="0"/>
                </a:lnTo>
                <a:lnTo>
                  <a:pt x="143" y="5"/>
                </a:lnTo>
                <a:lnTo>
                  <a:pt x="143" y="7"/>
                </a:lnTo>
                <a:lnTo>
                  <a:pt x="140" y="13"/>
                </a:lnTo>
                <a:lnTo>
                  <a:pt x="138" y="14"/>
                </a:lnTo>
                <a:lnTo>
                  <a:pt x="136" y="20"/>
                </a:lnTo>
                <a:lnTo>
                  <a:pt x="136" y="23"/>
                </a:lnTo>
                <a:lnTo>
                  <a:pt x="134" y="27"/>
                </a:lnTo>
                <a:lnTo>
                  <a:pt x="134" y="30"/>
                </a:lnTo>
                <a:lnTo>
                  <a:pt x="134" y="36"/>
                </a:lnTo>
                <a:lnTo>
                  <a:pt x="132" y="39"/>
                </a:lnTo>
                <a:lnTo>
                  <a:pt x="132" y="43"/>
                </a:lnTo>
                <a:lnTo>
                  <a:pt x="131" y="47"/>
                </a:lnTo>
                <a:lnTo>
                  <a:pt x="131" y="50"/>
                </a:lnTo>
                <a:lnTo>
                  <a:pt x="131" y="56"/>
                </a:lnTo>
                <a:lnTo>
                  <a:pt x="131" y="57"/>
                </a:lnTo>
                <a:lnTo>
                  <a:pt x="131" y="63"/>
                </a:lnTo>
                <a:lnTo>
                  <a:pt x="131" y="66"/>
                </a:lnTo>
                <a:lnTo>
                  <a:pt x="131" y="70"/>
                </a:lnTo>
                <a:lnTo>
                  <a:pt x="131" y="75"/>
                </a:lnTo>
                <a:lnTo>
                  <a:pt x="131" y="79"/>
                </a:lnTo>
                <a:lnTo>
                  <a:pt x="132" y="82"/>
                </a:lnTo>
                <a:lnTo>
                  <a:pt x="132" y="86"/>
                </a:lnTo>
                <a:lnTo>
                  <a:pt x="134" y="90"/>
                </a:lnTo>
                <a:lnTo>
                  <a:pt x="134" y="93"/>
                </a:lnTo>
                <a:lnTo>
                  <a:pt x="134" y="99"/>
                </a:lnTo>
                <a:lnTo>
                  <a:pt x="136" y="100"/>
                </a:lnTo>
                <a:lnTo>
                  <a:pt x="136" y="106"/>
                </a:lnTo>
                <a:lnTo>
                  <a:pt x="138" y="109"/>
                </a:lnTo>
                <a:lnTo>
                  <a:pt x="140" y="113"/>
                </a:lnTo>
                <a:lnTo>
                  <a:pt x="143" y="116"/>
                </a:lnTo>
                <a:lnTo>
                  <a:pt x="143" y="120"/>
                </a:lnTo>
                <a:lnTo>
                  <a:pt x="145" y="125"/>
                </a:lnTo>
                <a:lnTo>
                  <a:pt x="0" y="6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61"/>
          <p:cNvSpPr/>
          <p:nvPr/>
        </p:nvSpPr>
        <p:spPr>
          <a:xfrm>
            <a:off x="4022640" y="2917800"/>
            <a:ext cx="1127160" cy="3348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710" h="21">
                <a:moveTo>
                  <a:pt x="710" y="11"/>
                </a:moveTo>
                <a:lnTo>
                  <a:pt x="710" y="0"/>
                </a:lnTo>
                <a:lnTo>
                  <a:pt x="0" y="0"/>
                </a:lnTo>
                <a:lnTo>
                  <a:pt x="0" y="21"/>
                </a:lnTo>
                <a:lnTo>
                  <a:pt x="710" y="21"/>
                </a:lnTo>
                <a:lnTo>
                  <a:pt x="71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62"/>
          <p:cNvSpPr/>
          <p:nvPr/>
        </p:nvSpPr>
        <p:spPr>
          <a:xfrm>
            <a:off x="5035680" y="2835360"/>
            <a:ext cx="230040" cy="198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45" h="125">
                <a:moveTo>
                  <a:pt x="145" y="63"/>
                </a:moveTo>
                <a:lnTo>
                  <a:pt x="0" y="0"/>
                </a:lnTo>
                <a:lnTo>
                  <a:pt x="0" y="5"/>
                </a:lnTo>
                <a:lnTo>
                  <a:pt x="2" y="7"/>
                </a:lnTo>
                <a:lnTo>
                  <a:pt x="5" y="13"/>
                </a:lnTo>
                <a:lnTo>
                  <a:pt x="7" y="14"/>
                </a:lnTo>
                <a:lnTo>
                  <a:pt x="9" y="20"/>
                </a:lnTo>
                <a:lnTo>
                  <a:pt x="9" y="23"/>
                </a:lnTo>
                <a:lnTo>
                  <a:pt x="9" y="27"/>
                </a:lnTo>
                <a:lnTo>
                  <a:pt x="11" y="30"/>
                </a:lnTo>
                <a:lnTo>
                  <a:pt x="11" y="36"/>
                </a:lnTo>
                <a:lnTo>
                  <a:pt x="13" y="39"/>
                </a:lnTo>
                <a:lnTo>
                  <a:pt x="13" y="43"/>
                </a:lnTo>
                <a:lnTo>
                  <a:pt x="14" y="47"/>
                </a:lnTo>
                <a:lnTo>
                  <a:pt x="14" y="50"/>
                </a:lnTo>
                <a:lnTo>
                  <a:pt x="14" y="56"/>
                </a:lnTo>
                <a:lnTo>
                  <a:pt x="14" y="57"/>
                </a:lnTo>
                <a:lnTo>
                  <a:pt x="14" y="63"/>
                </a:lnTo>
                <a:lnTo>
                  <a:pt x="14" y="66"/>
                </a:lnTo>
                <a:lnTo>
                  <a:pt x="14" y="70"/>
                </a:lnTo>
                <a:lnTo>
                  <a:pt x="14" y="75"/>
                </a:lnTo>
                <a:lnTo>
                  <a:pt x="14" y="79"/>
                </a:lnTo>
                <a:lnTo>
                  <a:pt x="13" y="82"/>
                </a:lnTo>
                <a:lnTo>
                  <a:pt x="13" y="86"/>
                </a:lnTo>
                <a:lnTo>
                  <a:pt x="11" y="90"/>
                </a:lnTo>
                <a:lnTo>
                  <a:pt x="11" y="93"/>
                </a:lnTo>
                <a:lnTo>
                  <a:pt x="9" y="99"/>
                </a:lnTo>
                <a:lnTo>
                  <a:pt x="9" y="100"/>
                </a:lnTo>
                <a:lnTo>
                  <a:pt x="9" y="106"/>
                </a:lnTo>
                <a:lnTo>
                  <a:pt x="7" y="109"/>
                </a:lnTo>
                <a:lnTo>
                  <a:pt x="5" y="113"/>
                </a:lnTo>
                <a:lnTo>
                  <a:pt x="2" y="116"/>
                </a:lnTo>
                <a:lnTo>
                  <a:pt x="0" y="120"/>
                </a:lnTo>
                <a:lnTo>
                  <a:pt x="0" y="125"/>
                </a:lnTo>
                <a:lnTo>
                  <a:pt x="145" y="6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63"/>
          <p:cNvSpPr/>
          <p:nvPr/>
        </p:nvSpPr>
        <p:spPr>
          <a:xfrm>
            <a:off x="2948040" y="4923000"/>
            <a:ext cx="463320" cy="395280"/>
          </a:xfrm>
          <a:custGeom>
            <a:avLst/>
            <a:gdLst>
              <a:gd name="textAreaLeft" fmla="*/ 0 w 463320"/>
              <a:gd name="textAreaRight" fmla="*/ 463680 w 4633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292" h="249">
                <a:moveTo>
                  <a:pt x="0" y="125"/>
                </a:moveTo>
                <a:lnTo>
                  <a:pt x="292" y="0"/>
                </a:lnTo>
                <a:lnTo>
                  <a:pt x="287" y="9"/>
                </a:lnTo>
                <a:lnTo>
                  <a:pt x="283" y="16"/>
                </a:lnTo>
                <a:lnTo>
                  <a:pt x="281" y="25"/>
                </a:lnTo>
                <a:lnTo>
                  <a:pt x="278" y="32"/>
                </a:lnTo>
                <a:lnTo>
                  <a:pt x="276" y="39"/>
                </a:lnTo>
                <a:lnTo>
                  <a:pt x="272" y="47"/>
                </a:lnTo>
                <a:lnTo>
                  <a:pt x="271" y="56"/>
                </a:lnTo>
                <a:lnTo>
                  <a:pt x="267" y="63"/>
                </a:lnTo>
                <a:lnTo>
                  <a:pt x="267" y="70"/>
                </a:lnTo>
                <a:lnTo>
                  <a:pt x="265" y="79"/>
                </a:lnTo>
                <a:lnTo>
                  <a:pt x="264" y="86"/>
                </a:lnTo>
                <a:lnTo>
                  <a:pt x="262" y="95"/>
                </a:lnTo>
                <a:lnTo>
                  <a:pt x="262" y="102"/>
                </a:lnTo>
                <a:lnTo>
                  <a:pt x="260" y="109"/>
                </a:lnTo>
                <a:lnTo>
                  <a:pt x="260" y="118"/>
                </a:lnTo>
                <a:lnTo>
                  <a:pt x="260" y="125"/>
                </a:lnTo>
                <a:lnTo>
                  <a:pt x="260" y="133"/>
                </a:lnTo>
                <a:lnTo>
                  <a:pt x="260" y="140"/>
                </a:lnTo>
                <a:lnTo>
                  <a:pt x="262" y="149"/>
                </a:lnTo>
                <a:lnTo>
                  <a:pt x="262" y="156"/>
                </a:lnTo>
                <a:lnTo>
                  <a:pt x="264" y="165"/>
                </a:lnTo>
                <a:lnTo>
                  <a:pt x="265" y="172"/>
                </a:lnTo>
                <a:lnTo>
                  <a:pt x="267" y="181"/>
                </a:lnTo>
                <a:lnTo>
                  <a:pt x="267" y="188"/>
                </a:lnTo>
                <a:lnTo>
                  <a:pt x="271" y="195"/>
                </a:lnTo>
                <a:lnTo>
                  <a:pt x="272" y="202"/>
                </a:lnTo>
                <a:lnTo>
                  <a:pt x="276" y="211"/>
                </a:lnTo>
                <a:lnTo>
                  <a:pt x="278" y="219"/>
                </a:lnTo>
                <a:lnTo>
                  <a:pt x="281" y="226"/>
                </a:lnTo>
                <a:lnTo>
                  <a:pt x="283" y="233"/>
                </a:lnTo>
                <a:lnTo>
                  <a:pt x="287" y="242"/>
                </a:lnTo>
                <a:lnTo>
                  <a:pt x="292" y="249"/>
                </a:lnTo>
                <a:lnTo>
                  <a:pt x="0" y="12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64"/>
          <p:cNvSpPr/>
          <p:nvPr/>
        </p:nvSpPr>
        <p:spPr>
          <a:xfrm>
            <a:off x="3178080" y="5091120"/>
            <a:ext cx="2809800" cy="6516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770" h="41">
                <a:moveTo>
                  <a:pt x="1770" y="19"/>
                </a:moveTo>
                <a:lnTo>
                  <a:pt x="1770" y="0"/>
                </a:lnTo>
                <a:lnTo>
                  <a:pt x="0" y="0"/>
                </a:lnTo>
                <a:lnTo>
                  <a:pt x="0" y="41"/>
                </a:lnTo>
                <a:lnTo>
                  <a:pt x="1770" y="41"/>
                </a:lnTo>
                <a:lnTo>
                  <a:pt x="1770" y="1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65"/>
          <p:cNvSpPr/>
          <p:nvPr/>
        </p:nvSpPr>
        <p:spPr>
          <a:xfrm>
            <a:off x="5757840" y="4923000"/>
            <a:ext cx="460440" cy="395280"/>
          </a:xfrm>
          <a:custGeom>
            <a:avLst/>
            <a:gdLst>
              <a:gd name="textAreaLeft" fmla="*/ 0 w 460440"/>
              <a:gd name="textAreaRight" fmla="*/ 460800 w 46044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290" h="249">
                <a:moveTo>
                  <a:pt x="290" y="125"/>
                </a:moveTo>
                <a:lnTo>
                  <a:pt x="0" y="0"/>
                </a:lnTo>
                <a:lnTo>
                  <a:pt x="5" y="9"/>
                </a:lnTo>
                <a:lnTo>
                  <a:pt x="7" y="16"/>
                </a:lnTo>
                <a:lnTo>
                  <a:pt x="11" y="25"/>
                </a:lnTo>
                <a:lnTo>
                  <a:pt x="14" y="32"/>
                </a:lnTo>
                <a:lnTo>
                  <a:pt x="16" y="39"/>
                </a:lnTo>
                <a:lnTo>
                  <a:pt x="20" y="47"/>
                </a:lnTo>
                <a:lnTo>
                  <a:pt x="22" y="56"/>
                </a:lnTo>
                <a:lnTo>
                  <a:pt x="25" y="63"/>
                </a:lnTo>
                <a:lnTo>
                  <a:pt x="25" y="70"/>
                </a:lnTo>
                <a:lnTo>
                  <a:pt x="27" y="79"/>
                </a:lnTo>
                <a:lnTo>
                  <a:pt x="29" y="86"/>
                </a:lnTo>
                <a:lnTo>
                  <a:pt x="30" y="95"/>
                </a:lnTo>
                <a:lnTo>
                  <a:pt x="30" y="102"/>
                </a:lnTo>
                <a:lnTo>
                  <a:pt x="32" y="109"/>
                </a:lnTo>
                <a:lnTo>
                  <a:pt x="32" y="118"/>
                </a:lnTo>
                <a:lnTo>
                  <a:pt x="32" y="125"/>
                </a:lnTo>
                <a:lnTo>
                  <a:pt x="32" y="133"/>
                </a:lnTo>
                <a:lnTo>
                  <a:pt x="32" y="140"/>
                </a:lnTo>
                <a:lnTo>
                  <a:pt x="30" y="149"/>
                </a:lnTo>
                <a:lnTo>
                  <a:pt x="30" y="156"/>
                </a:lnTo>
                <a:lnTo>
                  <a:pt x="29" y="165"/>
                </a:lnTo>
                <a:lnTo>
                  <a:pt x="27" y="172"/>
                </a:lnTo>
                <a:lnTo>
                  <a:pt x="25" y="181"/>
                </a:lnTo>
                <a:lnTo>
                  <a:pt x="25" y="188"/>
                </a:lnTo>
                <a:lnTo>
                  <a:pt x="22" y="195"/>
                </a:lnTo>
                <a:lnTo>
                  <a:pt x="20" y="202"/>
                </a:lnTo>
                <a:lnTo>
                  <a:pt x="16" y="211"/>
                </a:lnTo>
                <a:lnTo>
                  <a:pt x="14" y="219"/>
                </a:lnTo>
                <a:lnTo>
                  <a:pt x="11" y="226"/>
                </a:lnTo>
                <a:lnTo>
                  <a:pt x="7" y="233"/>
                </a:lnTo>
                <a:lnTo>
                  <a:pt x="5" y="242"/>
                </a:lnTo>
                <a:lnTo>
                  <a:pt x="0" y="249"/>
                </a:lnTo>
                <a:lnTo>
                  <a:pt x="290" y="12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66"/>
          <p:cNvSpPr/>
          <p:nvPr/>
        </p:nvSpPr>
        <p:spPr>
          <a:xfrm>
            <a:off x="8496360" y="4014720"/>
            <a:ext cx="395280" cy="461880"/>
          </a:xfrm>
          <a:custGeom>
            <a:avLst/>
            <a:gdLst>
              <a:gd name="textAreaLeft" fmla="*/ 0 w 395280"/>
              <a:gd name="textAreaRight" fmla="*/ 395640 w 39528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249" h="291">
                <a:moveTo>
                  <a:pt x="125" y="291"/>
                </a:moveTo>
                <a:lnTo>
                  <a:pt x="0" y="0"/>
                </a:lnTo>
                <a:lnTo>
                  <a:pt x="9" y="4"/>
                </a:lnTo>
                <a:lnTo>
                  <a:pt x="16" y="8"/>
                </a:lnTo>
                <a:lnTo>
                  <a:pt x="25" y="9"/>
                </a:lnTo>
                <a:lnTo>
                  <a:pt x="32" y="13"/>
                </a:lnTo>
                <a:lnTo>
                  <a:pt x="39" y="17"/>
                </a:lnTo>
                <a:lnTo>
                  <a:pt x="47" y="18"/>
                </a:lnTo>
                <a:lnTo>
                  <a:pt x="56" y="20"/>
                </a:lnTo>
                <a:lnTo>
                  <a:pt x="63" y="24"/>
                </a:lnTo>
                <a:lnTo>
                  <a:pt x="70" y="26"/>
                </a:lnTo>
                <a:lnTo>
                  <a:pt x="79" y="26"/>
                </a:lnTo>
                <a:lnTo>
                  <a:pt x="86" y="27"/>
                </a:lnTo>
                <a:lnTo>
                  <a:pt x="95" y="29"/>
                </a:lnTo>
                <a:lnTo>
                  <a:pt x="102" y="29"/>
                </a:lnTo>
                <a:lnTo>
                  <a:pt x="109" y="31"/>
                </a:lnTo>
                <a:lnTo>
                  <a:pt x="118" y="31"/>
                </a:lnTo>
                <a:lnTo>
                  <a:pt x="125" y="31"/>
                </a:lnTo>
                <a:lnTo>
                  <a:pt x="133" y="31"/>
                </a:lnTo>
                <a:lnTo>
                  <a:pt x="140" y="31"/>
                </a:lnTo>
                <a:lnTo>
                  <a:pt x="149" y="29"/>
                </a:lnTo>
                <a:lnTo>
                  <a:pt x="156" y="29"/>
                </a:lnTo>
                <a:lnTo>
                  <a:pt x="165" y="27"/>
                </a:lnTo>
                <a:lnTo>
                  <a:pt x="172" y="26"/>
                </a:lnTo>
                <a:lnTo>
                  <a:pt x="181" y="26"/>
                </a:lnTo>
                <a:lnTo>
                  <a:pt x="188" y="24"/>
                </a:lnTo>
                <a:lnTo>
                  <a:pt x="195" y="20"/>
                </a:lnTo>
                <a:lnTo>
                  <a:pt x="202" y="18"/>
                </a:lnTo>
                <a:lnTo>
                  <a:pt x="211" y="17"/>
                </a:lnTo>
                <a:lnTo>
                  <a:pt x="219" y="13"/>
                </a:lnTo>
                <a:lnTo>
                  <a:pt x="226" y="9"/>
                </a:lnTo>
                <a:lnTo>
                  <a:pt x="233" y="8"/>
                </a:lnTo>
                <a:lnTo>
                  <a:pt x="242" y="4"/>
                </a:lnTo>
                <a:lnTo>
                  <a:pt x="249" y="0"/>
                </a:lnTo>
                <a:lnTo>
                  <a:pt x="125" y="29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67"/>
          <p:cNvSpPr/>
          <p:nvPr/>
        </p:nvSpPr>
        <p:spPr>
          <a:xfrm>
            <a:off x="8661240" y="1825560"/>
            <a:ext cx="68400" cy="2421000"/>
          </a:xfrm>
          <a:custGeom>
            <a:avLst/>
            <a:gdLst>
              <a:gd name="textAreaLeft" fmla="*/ 0 w 68400"/>
              <a:gd name="textAreaRight" fmla="*/ 68760 w 68400"/>
              <a:gd name="textAreaTop" fmla="*/ 0 h 2421000"/>
              <a:gd name="textAreaBottom" fmla="*/ 2421360 h 2421000"/>
            </a:gdLst>
            <a:ahLst/>
            <a:rect l="textAreaLeft" t="textAreaTop" r="textAreaRight" b="textAreaBottom"/>
            <a:pathLst>
              <a:path w="43" h="1525">
                <a:moveTo>
                  <a:pt x="21" y="0"/>
                </a:moveTo>
                <a:lnTo>
                  <a:pt x="0" y="0"/>
                </a:lnTo>
                <a:lnTo>
                  <a:pt x="0" y="1525"/>
                </a:lnTo>
                <a:lnTo>
                  <a:pt x="43" y="1525"/>
                </a:lnTo>
                <a:lnTo>
                  <a:pt x="43" y="0"/>
                </a:lnTo>
                <a:lnTo>
                  <a:pt x="2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68"/>
          <p:cNvSpPr/>
          <p:nvPr/>
        </p:nvSpPr>
        <p:spPr>
          <a:xfrm>
            <a:off x="8496360" y="1595520"/>
            <a:ext cx="395280" cy="460440"/>
          </a:xfrm>
          <a:custGeom>
            <a:avLst/>
            <a:gdLst>
              <a:gd name="textAreaLeft" fmla="*/ 0 w 395280"/>
              <a:gd name="textAreaRight" fmla="*/ 395640 w 39528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49" h="290">
                <a:moveTo>
                  <a:pt x="125" y="0"/>
                </a:moveTo>
                <a:lnTo>
                  <a:pt x="0" y="290"/>
                </a:lnTo>
                <a:lnTo>
                  <a:pt x="9" y="286"/>
                </a:lnTo>
                <a:lnTo>
                  <a:pt x="16" y="283"/>
                </a:lnTo>
                <a:lnTo>
                  <a:pt x="25" y="279"/>
                </a:lnTo>
                <a:lnTo>
                  <a:pt x="32" y="278"/>
                </a:lnTo>
                <a:lnTo>
                  <a:pt x="39" y="274"/>
                </a:lnTo>
                <a:lnTo>
                  <a:pt x="47" y="272"/>
                </a:lnTo>
                <a:lnTo>
                  <a:pt x="56" y="270"/>
                </a:lnTo>
                <a:lnTo>
                  <a:pt x="63" y="267"/>
                </a:lnTo>
                <a:lnTo>
                  <a:pt x="70" y="265"/>
                </a:lnTo>
                <a:lnTo>
                  <a:pt x="79" y="265"/>
                </a:lnTo>
                <a:lnTo>
                  <a:pt x="86" y="263"/>
                </a:lnTo>
                <a:lnTo>
                  <a:pt x="95" y="261"/>
                </a:lnTo>
                <a:lnTo>
                  <a:pt x="102" y="261"/>
                </a:lnTo>
                <a:lnTo>
                  <a:pt x="109" y="260"/>
                </a:lnTo>
                <a:lnTo>
                  <a:pt x="118" y="260"/>
                </a:lnTo>
                <a:lnTo>
                  <a:pt x="125" y="260"/>
                </a:lnTo>
                <a:lnTo>
                  <a:pt x="133" y="260"/>
                </a:lnTo>
                <a:lnTo>
                  <a:pt x="140" y="260"/>
                </a:lnTo>
                <a:lnTo>
                  <a:pt x="149" y="261"/>
                </a:lnTo>
                <a:lnTo>
                  <a:pt x="156" y="261"/>
                </a:lnTo>
                <a:lnTo>
                  <a:pt x="165" y="263"/>
                </a:lnTo>
                <a:lnTo>
                  <a:pt x="172" y="265"/>
                </a:lnTo>
                <a:lnTo>
                  <a:pt x="181" y="265"/>
                </a:lnTo>
                <a:lnTo>
                  <a:pt x="188" y="267"/>
                </a:lnTo>
                <a:lnTo>
                  <a:pt x="195" y="270"/>
                </a:lnTo>
                <a:lnTo>
                  <a:pt x="202" y="272"/>
                </a:lnTo>
                <a:lnTo>
                  <a:pt x="211" y="274"/>
                </a:lnTo>
                <a:lnTo>
                  <a:pt x="219" y="278"/>
                </a:lnTo>
                <a:lnTo>
                  <a:pt x="226" y="279"/>
                </a:lnTo>
                <a:lnTo>
                  <a:pt x="233" y="283"/>
                </a:lnTo>
                <a:lnTo>
                  <a:pt x="242" y="286"/>
                </a:lnTo>
                <a:lnTo>
                  <a:pt x="249" y="290"/>
                </a:lnTo>
                <a:lnTo>
                  <a:pt x="125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102920" y="24573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7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4017600" y="51595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8784360" y="27036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6720" y="425160"/>
            <a:ext cx="8744040" cy="463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DE TES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64960" y="1085760"/>
            <a:ext cx="8093160" cy="4734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ama de desenhos exigido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ara altas e baixas dioptrias negativ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ara altas e baixas dioptrias positiv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ZO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0080" y="258840"/>
            <a:ext cx="816804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ELEÇÃO DAS LENTES DE TES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19240" y="1074600"/>
            <a:ext cx="4896000" cy="463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aseada em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pografia cornea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amanho cornea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escri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amanho da pupil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sição das pálpebr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ônus palpeb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6160" y="372960"/>
            <a:ext cx="816768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ELEÇÃO DAS LENTES DE TES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329920" y="1246320"/>
            <a:ext cx="6293160" cy="40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8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trole da topografia corneal 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ZO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ZO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total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04920" y="330120"/>
            <a:ext cx="816768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ELEÇÃO DAS LENTES DE TES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5760" y="1247760"/>
            <a:ext cx="8553240" cy="391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2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amanho corneal controla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total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ZO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5T01:34:08Z</dcterms:created>
  <dc:creator>Bbro</dc:creator>
  <dc:description>Any questions, contact Graphics on x331</dc:description>
  <cp:keywords/>
  <dc:language>en-US</dc:language>
  <cp:lastModifiedBy>Siobhan</cp:lastModifiedBy>
  <cp:lastPrinted>1998-09-05T05:14:48Z</cp:lastPrinted>
  <dcterms:modified xsi:type="dcterms:W3CDTF">2013-02-20T02:59:25Z</dcterms:modified>
  <cp:revision>108</cp:revision>
  <dc:subject/>
  <dc:title>No Slide Title</dc:title>
</cp:coreProperties>
</file>