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10288588" cy="6858000"/>
  <p:notesSz cx="6386513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386400" cy="98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9000"/>
            <a:ext cx="27669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619440" y="9000"/>
            <a:ext cx="27669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442C-7EC5-4CF3-8380-A7F13743CA7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620280" y="858600"/>
            <a:ext cx="5146920" cy="34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0176-7727-4DE8-846C-AFA9FB2508A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0E50-7753-430E-9F5E-DEAF018A2C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4E79-5894-4253-B3DF-5A58C6E8F4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3F88-3A4A-4B7A-94B9-F1A5C8F420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41DC-394D-493F-9461-06451501FC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85EB-687D-419C-8EA8-7534D7C7117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15AA-2747-426C-A4C5-0F9FF60A764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C19F-4C07-41B3-BC98-321612435C5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290D-0B55-4DB6-B6D4-81BD61FF235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E839-0C01-4C91-96DC-0DB3E1B5FCC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EE3D-5626-4A39-AE9D-4C49C3D86A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4AEC-8CA1-4FE9-A0E0-F38B45E1F8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BAD2-1B65-432A-95E3-79E8DDC8BE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28A1-BEB1-4544-9971-A8A48A194F5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DCEC-8D0A-4486-AB06-BF108C5D7F7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0443-4FB4-45CF-AA93-F0C74525D45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3B97-2224-4ACE-8F3D-7D06037FA1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9DA7-0419-4FCD-9FE6-340BAF1EB6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214E-3DB0-4159-84AC-19E0FB92AEF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18EB-9EC2-4A58-8FF9-93FB2E2F409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0B4B-84B3-4AC1-A24E-F3BB22C5BA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8C24-C244-4E36-AF83-2246B42C4D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D7E6-2778-425C-AB29-46734B5DA91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95C1-A69B-4A71-A565-B53E4BEB4B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5B18-E4CD-40D3-A2E9-62EF1ACD0F8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FBCF-289C-4A5A-9C2F-EAB05E9D85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58DD-1A05-4FFA-9A79-4D7AF0F831F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4850-B944-4503-B3C1-374BBD1D1E6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E2A2-3BAC-4BDA-8866-C6A11BE76FE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6BC8-FC66-49EC-9A0E-FEDE76E438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F78B-D773-46EF-BF4C-F4739FAE89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8FCB-9505-4B1E-AFC0-19723B1D62B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BBFF-A698-43B3-80B6-D714F09EB50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2FC7-CB69-434C-90A3-DE9C7662B4A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4EBB-00AC-4333-B4D7-9442BC3A7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8320" y="39150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5237-7E0E-4191-8A0F-AA7037999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3924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C9E4-84A2-46D6-8765-55F78185A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1464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096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832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1464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096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E3F5-9995-4C3F-A15D-39F9E6BEA9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0D29-3316-4FEA-B720-0657944430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48AC-01A9-42D6-BE0E-1FE40C53A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F0FC-55EB-438E-9332-6E2F7A6BB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0A653-2B6A-4919-9E31-8D65F2664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495000"/>
            <a:ext cx="874404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B79B-5043-459B-9ABC-5765D26A6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6FBF-2B7D-4D40-987C-D547C149D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3924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4F8F-8948-4750-8861-22CBF0243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7DD1-32DE-4218-9BA8-692280DBB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3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3E60-9B18-4F0D-8202-96249DB47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7000"/>
          </a:bodyPr>
          <a:p>
            <a:pPr marL="298440" indent="-29844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358640" indent="-19872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1723320" indent="-19872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1723320" indent="-198720">
              <a:spcAft>
                <a:spcPts val="1276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1723320" indent="-198720">
              <a:spcAft>
                <a:spcPts val="1276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339440" y="6261120"/>
            <a:ext cx="1798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beff"/>
                </a:solidFill>
                <a:latin typeface="Arial"/>
              </a:rPr>
              <a:t>97712-</a:t>
            </a:r>
            <a:fld id="{20DEC5E7-8D0E-45C4-9A37-82E6657B88C4}" type="slidenum">
              <a:rPr b="0" lang="en-US" sz="1200" spc="-1" strike="noStrike">
                <a:solidFill>
                  <a:srgbClr val="e3beff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e3beff"/>
                </a:solidFill>
                <a:latin typeface="Arial"/>
              </a:rPr>
              <a:t>S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IACLEBW"/>
          <p:cNvPicPr/>
          <p:nvPr/>
        </p:nvPicPr>
        <p:blipFill>
          <a:blip r:embed="rId2"/>
          <a:stretch/>
        </p:blipFill>
        <p:spPr>
          <a:xfrm>
            <a:off x="9288360" y="5862600"/>
            <a:ext cx="527040" cy="6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826920" y="806400"/>
            <a:ext cx="8633160" cy="49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852560" y="1979640"/>
            <a:ext cx="7072200" cy="1920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 DE CONTATO RÍGIDA TÓRICA GÁS PERMEÁVEL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IPOS E DESENH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3.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7920" y="356760"/>
            <a:ext cx="9518400" cy="523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PRISMA DE BASE INF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31480" y="1432080"/>
            <a:ext cx="9798120" cy="5425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iste uma contínua variação na espessura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Ápice é porção mais fina e base é a mais gross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17160"/>
            <a:ext cx="10287000" cy="755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UPERFÍCIE ANTERIOR CILÍND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4160" y="2257560"/>
            <a:ext cx="8197920" cy="2226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correção astigmática é proporcionada por um cilíndrico positivo na superfície an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050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051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05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05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8200" y="355320"/>
            <a:ext cx="8743680" cy="406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CIRCULA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23600" y="1030320"/>
            <a:ext cx="7705800" cy="424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Zona óptica é centra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isma de base inf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ácil fabricação e duplic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13920"/>
            <a:ext cx="102870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TRUNCAD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1240" y="982440"/>
            <a:ext cx="9750600" cy="5111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arte inferior da lente é trunca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justa sob a pálpebra inferior para estabilida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isma de lastr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Zona óptica está descentrada superiorm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52560" y="340920"/>
            <a:ext cx="83390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 TRUNCAD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4" name="Freeform 8"/>
          <p:cNvSpPr/>
          <p:nvPr/>
        </p:nvSpPr>
        <p:spPr>
          <a:xfrm>
            <a:off x="3805200" y="1467000"/>
            <a:ext cx="1944720" cy="194292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942920"/>
              <a:gd name="textAreaBottom" fmla="*/ 1943280 h 1942920"/>
            </a:gdLst>
            <a:ahLst/>
            <a:rect l="textAreaLeft" t="textAreaTop" r="textAreaRight" b="textAreaBottom"/>
            <a:pathLst>
              <a:path w="1225" h="1224">
                <a:moveTo>
                  <a:pt x="1225" y="1224"/>
                </a:moveTo>
                <a:lnTo>
                  <a:pt x="1223" y="1163"/>
                </a:lnTo>
                <a:lnTo>
                  <a:pt x="1217" y="1099"/>
                </a:lnTo>
                <a:lnTo>
                  <a:pt x="1209" y="1038"/>
                </a:lnTo>
                <a:lnTo>
                  <a:pt x="1200" y="978"/>
                </a:lnTo>
                <a:lnTo>
                  <a:pt x="1184" y="919"/>
                </a:lnTo>
                <a:lnTo>
                  <a:pt x="1169" y="860"/>
                </a:lnTo>
                <a:lnTo>
                  <a:pt x="1150" y="804"/>
                </a:lnTo>
                <a:lnTo>
                  <a:pt x="1127" y="748"/>
                </a:lnTo>
                <a:lnTo>
                  <a:pt x="1102" y="693"/>
                </a:lnTo>
                <a:lnTo>
                  <a:pt x="1075" y="641"/>
                </a:lnTo>
                <a:lnTo>
                  <a:pt x="1046" y="589"/>
                </a:lnTo>
                <a:lnTo>
                  <a:pt x="1014" y="539"/>
                </a:lnTo>
                <a:lnTo>
                  <a:pt x="979" y="491"/>
                </a:lnTo>
                <a:lnTo>
                  <a:pt x="944" y="445"/>
                </a:lnTo>
                <a:lnTo>
                  <a:pt x="904" y="401"/>
                </a:lnTo>
                <a:lnTo>
                  <a:pt x="864" y="359"/>
                </a:lnTo>
                <a:lnTo>
                  <a:pt x="822" y="318"/>
                </a:lnTo>
                <a:lnTo>
                  <a:pt x="777" y="280"/>
                </a:lnTo>
                <a:lnTo>
                  <a:pt x="731" y="244"/>
                </a:lnTo>
                <a:lnTo>
                  <a:pt x="683" y="209"/>
                </a:lnTo>
                <a:lnTo>
                  <a:pt x="634" y="176"/>
                </a:lnTo>
                <a:lnTo>
                  <a:pt x="582" y="148"/>
                </a:lnTo>
                <a:lnTo>
                  <a:pt x="530" y="121"/>
                </a:lnTo>
                <a:lnTo>
                  <a:pt x="474" y="96"/>
                </a:lnTo>
                <a:lnTo>
                  <a:pt x="420" y="75"/>
                </a:lnTo>
                <a:lnTo>
                  <a:pt x="363" y="56"/>
                </a:lnTo>
                <a:lnTo>
                  <a:pt x="305" y="38"/>
                </a:lnTo>
                <a:lnTo>
                  <a:pt x="246" y="25"/>
                </a:lnTo>
                <a:lnTo>
                  <a:pt x="186" y="15"/>
                </a:lnTo>
                <a:lnTo>
                  <a:pt x="125" y="8"/>
                </a:lnTo>
                <a:lnTo>
                  <a:pt x="62" y="2"/>
                </a:lnTo>
                <a:lnTo>
                  <a:pt x="0" y="0"/>
                </a:lnTo>
                <a:lnTo>
                  <a:pt x="0" y="17"/>
                </a:lnTo>
                <a:lnTo>
                  <a:pt x="62" y="19"/>
                </a:lnTo>
                <a:lnTo>
                  <a:pt x="123" y="23"/>
                </a:lnTo>
                <a:lnTo>
                  <a:pt x="182" y="31"/>
                </a:lnTo>
                <a:lnTo>
                  <a:pt x="242" y="40"/>
                </a:lnTo>
                <a:lnTo>
                  <a:pt x="301" y="54"/>
                </a:lnTo>
                <a:lnTo>
                  <a:pt x="357" y="71"/>
                </a:lnTo>
                <a:lnTo>
                  <a:pt x="415" y="90"/>
                </a:lnTo>
                <a:lnTo>
                  <a:pt x="468" y="111"/>
                </a:lnTo>
                <a:lnTo>
                  <a:pt x="522" y="136"/>
                </a:lnTo>
                <a:lnTo>
                  <a:pt x="574" y="163"/>
                </a:lnTo>
                <a:lnTo>
                  <a:pt x="626" y="192"/>
                </a:lnTo>
                <a:lnTo>
                  <a:pt x="674" y="222"/>
                </a:lnTo>
                <a:lnTo>
                  <a:pt x="722" y="257"/>
                </a:lnTo>
                <a:lnTo>
                  <a:pt x="768" y="292"/>
                </a:lnTo>
                <a:lnTo>
                  <a:pt x="810" y="330"/>
                </a:lnTo>
                <a:lnTo>
                  <a:pt x="852" y="370"/>
                </a:lnTo>
                <a:lnTo>
                  <a:pt x="893" y="412"/>
                </a:lnTo>
                <a:lnTo>
                  <a:pt x="931" y="455"/>
                </a:lnTo>
                <a:lnTo>
                  <a:pt x="967" y="501"/>
                </a:lnTo>
                <a:lnTo>
                  <a:pt x="1000" y="549"/>
                </a:lnTo>
                <a:lnTo>
                  <a:pt x="1033" y="597"/>
                </a:lnTo>
                <a:lnTo>
                  <a:pt x="1061" y="648"/>
                </a:lnTo>
                <a:lnTo>
                  <a:pt x="1088" y="700"/>
                </a:lnTo>
                <a:lnTo>
                  <a:pt x="1113" y="754"/>
                </a:lnTo>
                <a:lnTo>
                  <a:pt x="1134" y="808"/>
                </a:lnTo>
                <a:lnTo>
                  <a:pt x="1154" y="865"/>
                </a:lnTo>
                <a:lnTo>
                  <a:pt x="1169" y="923"/>
                </a:lnTo>
                <a:lnTo>
                  <a:pt x="1182" y="980"/>
                </a:lnTo>
                <a:lnTo>
                  <a:pt x="1194" y="1040"/>
                </a:lnTo>
                <a:lnTo>
                  <a:pt x="1202" y="1101"/>
                </a:lnTo>
                <a:lnTo>
                  <a:pt x="1205" y="1163"/>
                </a:lnTo>
                <a:lnTo>
                  <a:pt x="1207" y="1224"/>
                </a:lnTo>
                <a:lnTo>
                  <a:pt x="1225" y="1224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9"/>
          <p:cNvSpPr/>
          <p:nvPr/>
        </p:nvSpPr>
        <p:spPr>
          <a:xfrm>
            <a:off x="4673520" y="3409920"/>
            <a:ext cx="1076400" cy="170964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1709640"/>
              <a:gd name="textAreaBottom" fmla="*/ 1710000 h 1709640"/>
            </a:gdLst>
            <a:ahLst/>
            <a:rect l="textAreaLeft" t="textAreaTop" r="textAreaRight" b="textAreaBottom"/>
            <a:pathLst>
              <a:path w="678" h="1077">
                <a:moveTo>
                  <a:pt x="4" y="1077"/>
                </a:moveTo>
                <a:lnTo>
                  <a:pt x="8" y="1077"/>
                </a:lnTo>
                <a:lnTo>
                  <a:pt x="44" y="1057"/>
                </a:lnTo>
                <a:lnTo>
                  <a:pt x="81" y="1036"/>
                </a:lnTo>
                <a:lnTo>
                  <a:pt x="115" y="1015"/>
                </a:lnTo>
                <a:lnTo>
                  <a:pt x="150" y="992"/>
                </a:lnTo>
                <a:lnTo>
                  <a:pt x="184" y="969"/>
                </a:lnTo>
                <a:lnTo>
                  <a:pt x="217" y="944"/>
                </a:lnTo>
                <a:lnTo>
                  <a:pt x="250" y="917"/>
                </a:lnTo>
                <a:lnTo>
                  <a:pt x="280" y="890"/>
                </a:lnTo>
                <a:lnTo>
                  <a:pt x="309" y="864"/>
                </a:lnTo>
                <a:lnTo>
                  <a:pt x="338" y="835"/>
                </a:lnTo>
                <a:lnTo>
                  <a:pt x="367" y="804"/>
                </a:lnTo>
                <a:lnTo>
                  <a:pt x="394" y="773"/>
                </a:lnTo>
                <a:lnTo>
                  <a:pt x="420" y="743"/>
                </a:lnTo>
                <a:lnTo>
                  <a:pt x="445" y="710"/>
                </a:lnTo>
                <a:lnTo>
                  <a:pt x="468" y="676"/>
                </a:lnTo>
                <a:lnTo>
                  <a:pt x="491" y="643"/>
                </a:lnTo>
                <a:lnTo>
                  <a:pt x="513" y="606"/>
                </a:lnTo>
                <a:lnTo>
                  <a:pt x="532" y="572"/>
                </a:lnTo>
                <a:lnTo>
                  <a:pt x="551" y="535"/>
                </a:lnTo>
                <a:lnTo>
                  <a:pt x="570" y="497"/>
                </a:lnTo>
                <a:lnTo>
                  <a:pt x="585" y="461"/>
                </a:lnTo>
                <a:lnTo>
                  <a:pt x="601" y="420"/>
                </a:lnTo>
                <a:lnTo>
                  <a:pt x="616" y="382"/>
                </a:lnTo>
                <a:lnTo>
                  <a:pt x="628" y="342"/>
                </a:lnTo>
                <a:lnTo>
                  <a:pt x="639" y="301"/>
                </a:lnTo>
                <a:lnTo>
                  <a:pt x="649" y="259"/>
                </a:lnTo>
                <a:lnTo>
                  <a:pt x="657" y="219"/>
                </a:lnTo>
                <a:lnTo>
                  <a:pt x="664" y="177"/>
                </a:lnTo>
                <a:lnTo>
                  <a:pt x="670" y="133"/>
                </a:lnTo>
                <a:lnTo>
                  <a:pt x="674" y="90"/>
                </a:lnTo>
                <a:lnTo>
                  <a:pt x="676" y="46"/>
                </a:lnTo>
                <a:lnTo>
                  <a:pt x="678" y="0"/>
                </a:lnTo>
                <a:lnTo>
                  <a:pt x="660" y="0"/>
                </a:lnTo>
                <a:lnTo>
                  <a:pt x="660" y="44"/>
                </a:lnTo>
                <a:lnTo>
                  <a:pt x="658" y="88"/>
                </a:lnTo>
                <a:lnTo>
                  <a:pt x="655" y="131"/>
                </a:lnTo>
                <a:lnTo>
                  <a:pt x="649" y="173"/>
                </a:lnTo>
                <a:lnTo>
                  <a:pt x="641" y="215"/>
                </a:lnTo>
                <a:lnTo>
                  <a:pt x="633" y="257"/>
                </a:lnTo>
                <a:lnTo>
                  <a:pt x="624" y="298"/>
                </a:lnTo>
                <a:lnTo>
                  <a:pt x="612" y="338"/>
                </a:lnTo>
                <a:lnTo>
                  <a:pt x="601" y="376"/>
                </a:lnTo>
                <a:lnTo>
                  <a:pt x="585" y="416"/>
                </a:lnTo>
                <a:lnTo>
                  <a:pt x="572" y="453"/>
                </a:lnTo>
                <a:lnTo>
                  <a:pt x="555" y="491"/>
                </a:lnTo>
                <a:lnTo>
                  <a:pt x="538" y="528"/>
                </a:lnTo>
                <a:lnTo>
                  <a:pt x="518" y="564"/>
                </a:lnTo>
                <a:lnTo>
                  <a:pt x="499" y="599"/>
                </a:lnTo>
                <a:lnTo>
                  <a:pt x="478" y="633"/>
                </a:lnTo>
                <a:lnTo>
                  <a:pt x="455" y="668"/>
                </a:lnTo>
                <a:lnTo>
                  <a:pt x="432" y="700"/>
                </a:lnTo>
                <a:lnTo>
                  <a:pt x="407" y="733"/>
                </a:lnTo>
                <a:lnTo>
                  <a:pt x="382" y="764"/>
                </a:lnTo>
                <a:lnTo>
                  <a:pt x="355" y="795"/>
                </a:lnTo>
                <a:lnTo>
                  <a:pt x="326" y="823"/>
                </a:lnTo>
                <a:lnTo>
                  <a:pt x="298" y="852"/>
                </a:lnTo>
                <a:lnTo>
                  <a:pt x="269" y="879"/>
                </a:lnTo>
                <a:lnTo>
                  <a:pt x="238" y="906"/>
                </a:lnTo>
                <a:lnTo>
                  <a:pt x="207" y="931"/>
                </a:lnTo>
                <a:lnTo>
                  <a:pt x="175" y="956"/>
                </a:lnTo>
                <a:lnTo>
                  <a:pt x="142" y="979"/>
                </a:lnTo>
                <a:lnTo>
                  <a:pt x="108" y="1002"/>
                </a:lnTo>
                <a:lnTo>
                  <a:pt x="73" y="1023"/>
                </a:lnTo>
                <a:lnTo>
                  <a:pt x="37" y="1044"/>
                </a:lnTo>
                <a:lnTo>
                  <a:pt x="0" y="1061"/>
                </a:lnTo>
                <a:lnTo>
                  <a:pt x="4" y="1061"/>
                </a:lnTo>
                <a:lnTo>
                  <a:pt x="4" y="1077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10"/>
          <p:cNvSpPr/>
          <p:nvPr/>
        </p:nvSpPr>
        <p:spPr>
          <a:xfrm>
            <a:off x="2879640" y="5094360"/>
            <a:ext cx="1800360" cy="27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134" h="17">
                <a:moveTo>
                  <a:pt x="0" y="16"/>
                </a:moveTo>
                <a:lnTo>
                  <a:pt x="4" y="16"/>
                </a:lnTo>
                <a:lnTo>
                  <a:pt x="136" y="17"/>
                </a:lnTo>
                <a:lnTo>
                  <a:pt x="274" y="17"/>
                </a:lnTo>
                <a:lnTo>
                  <a:pt x="414" y="17"/>
                </a:lnTo>
                <a:lnTo>
                  <a:pt x="558" y="17"/>
                </a:lnTo>
                <a:lnTo>
                  <a:pt x="704" y="17"/>
                </a:lnTo>
                <a:lnTo>
                  <a:pt x="848" y="17"/>
                </a:lnTo>
                <a:lnTo>
                  <a:pt x="992" y="17"/>
                </a:lnTo>
                <a:lnTo>
                  <a:pt x="1134" y="16"/>
                </a:lnTo>
                <a:lnTo>
                  <a:pt x="1134" y="0"/>
                </a:lnTo>
                <a:lnTo>
                  <a:pt x="992" y="0"/>
                </a:lnTo>
                <a:lnTo>
                  <a:pt x="848" y="2"/>
                </a:lnTo>
                <a:lnTo>
                  <a:pt x="704" y="2"/>
                </a:lnTo>
                <a:lnTo>
                  <a:pt x="558" y="2"/>
                </a:lnTo>
                <a:lnTo>
                  <a:pt x="414" y="2"/>
                </a:lnTo>
                <a:lnTo>
                  <a:pt x="274" y="2"/>
                </a:lnTo>
                <a:lnTo>
                  <a:pt x="136" y="0"/>
                </a:lnTo>
                <a:lnTo>
                  <a:pt x="4" y="0"/>
                </a:lnTo>
                <a:lnTo>
                  <a:pt x="7" y="2"/>
                </a:lnTo>
                <a:lnTo>
                  <a:pt x="0" y="16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1"/>
          <p:cNvSpPr/>
          <p:nvPr/>
        </p:nvSpPr>
        <p:spPr>
          <a:xfrm>
            <a:off x="1862280" y="3409920"/>
            <a:ext cx="1028520" cy="170964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1709640"/>
              <a:gd name="textAreaBottom" fmla="*/ 1710000 h 1709640"/>
            </a:gdLst>
            <a:ahLst/>
            <a:rect l="textAreaLeft" t="textAreaTop" r="textAreaRight" b="textAreaBottom"/>
            <a:pathLst>
              <a:path w="648" h="1077">
                <a:moveTo>
                  <a:pt x="0" y="0"/>
                </a:moveTo>
                <a:lnTo>
                  <a:pt x="0" y="44"/>
                </a:lnTo>
                <a:lnTo>
                  <a:pt x="2" y="86"/>
                </a:lnTo>
                <a:lnTo>
                  <a:pt x="5" y="129"/>
                </a:lnTo>
                <a:lnTo>
                  <a:pt x="11" y="171"/>
                </a:lnTo>
                <a:lnTo>
                  <a:pt x="17" y="213"/>
                </a:lnTo>
                <a:lnTo>
                  <a:pt x="27" y="253"/>
                </a:lnTo>
                <a:lnTo>
                  <a:pt x="34" y="296"/>
                </a:lnTo>
                <a:lnTo>
                  <a:pt x="46" y="336"/>
                </a:lnTo>
                <a:lnTo>
                  <a:pt x="57" y="374"/>
                </a:lnTo>
                <a:lnTo>
                  <a:pt x="71" y="415"/>
                </a:lnTo>
                <a:lnTo>
                  <a:pt x="86" y="453"/>
                </a:lnTo>
                <a:lnTo>
                  <a:pt x="101" y="489"/>
                </a:lnTo>
                <a:lnTo>
                  <a:pt x="119" y="528"/>
                </a:lnTo>
                <a:lnTo>
                  <a:pt x="138" y="564"/>
                </a:lnTo>
                <a:lnTo>
                  <a:pt x="157" y="599"/>
                </a:lnTo>
                <a:lnTo>
                  <a:pt x="176" y="635"/>
                </a:lnTo>
                <a:lnTo>
                  <a:pt x="199" y="670"/>
                </a:lnTo>
                <a:lnTo>
                  <a:pt x="222" y="702"/>
                </a:lnTo>
                <a:lnTo>
                  <a:pt x="245" y="735"/>
                </a:lnTo>
                <a:lnTo>
                  <a:pt x="270" y="768"/>
                </a:lnTo>
                <a:lnTo>
                  <a:pt x="297" y="798"/>
                </a:lnTo>
                <a:lnTo>
                  <a:pt x="324" y="829"/>
                </a:lnTo>
                <a:lnTo>
                  <a:pt x="351" y="858"/>
                </a:lnTo>
                <a:lnTo>
                  <a:pt x="380" y="887"/>
                </a:lnTo>
                <a:lnTo>
                  <a:pt x="410" y="913"/>
                </a:lnTo>
                <a:lnTo>
                  <a:pt x="441" y="940"/>
                </a:lnTo>
                <a:lnTo>
                  <a:pt x="472" y="965"/>
                </a:lnTo>
                <a:lnTo>
                  <a:pt x="504" y="990"/>
                </a:lnTo>
                <a:lnTo>
                  <a:pt x="537" y="1013"/>
                </a:lnTo>
                <a:lnTo>
                  <a:pt x="572" y="1034"/>
                </a:lnTo>
                <a:lnTo>
                  <a:pt x="606" y="1055"/>
                </a:lnTo>
                <a:lnTo>
                  <a:pt x="641" y="1077"/>
                </a:lnTo>
                <a:lnTo>
                  <a:pt x="648" y="1063"/>
                </a:lnTo>
                <a:lnTo>
                  <a:pt x="614" y="1042"/>
                </a:lnTo>
                <a:lnTo>
                  <a:pt x="579" y="1021"/>
                </a:lnTo>
                <a:lnTo>
                  <a:pt x="547" y="1000"/>
                </a:lnTo>
                <a:lnTo>
                  <a:pt x="514" y="977"/>
                </a:lnTo>
                <a:lnTo>
                  <a:pt x="481" y="952"/>
                </a:lnTo>
                <a:lnTo>
                  <a:pt x="451" y="927"/>
                </a:lnTo>
                <a:lnTo>
                  <a:pt x="420" y="902"/>
                </a:lnTo>
                <a:lnTo>
                  <a:pt x="391" y="875"/>
                </a:lnTo>
                <a:lnTo>
                  <a:pt x="362" y="846"/>
                </a:lnTo>
                <a:lnTo>
                  <a:pt x="336" y="818"/>
                </a:lnTo>
                <a:lnTo>
                  <a:pt x="309" y="787"/>
                </a:lnTo>
                <a:lnTo>
                  <a:pt x="284" y="756"/>
                </a:lnTo>
                <a:lnTo>
                  <a:pt x="259" y="725"/>
                </a:lnTo>
                <a:lnTo>
                  <a:pt x="236" y="693"/>
                </a:lnTo>
                <a:lnTo>
                  <a:pt x="213" y="660"/>
                </a:lnTo>
                <a:lnTo>
                  <a:pt x="192" y="626"/>
                </a:lnTo>
                <a:lnTo>
                  <a:pt x="171" y="591"/>
                </a:lnTo>
                <a:lnTo>
                  <a:pt x="151" y="557"/>
                </a:lnTo>
                <a:lnTo>
                  <a:pt x="134" y="520"/>
                </a:lnTo>
                <a:lnTo>
                  <a:pt x="117" y="484"/>
                </a:lnTo>
                <a:lnTo>
                  <a:pt x="101" y="445"/>
                </a:lnTo>
                <a:lnTo>
                  <a:pt x="86" y="409"/>
                </a:lnTo>
                <a:lnTo>
                  <a:pt x="73" y="370"/>
                </a:lnTo>
                <a:lnTo>
                  <a:pt x="61" y="330"/>
                </a:lnTo>
                <a:lnTo>
                  <a:pt x="52" y="292"/>
                </a:lnTo>
                <a:lnTo>
                  <a:pt x="42" y="251"/>
                </a:lnTo>
                <a:lnTo>
                  <a:pt x="34" y="211"/>
                </a:lnTo>
                <a:lnTo>
                  <a:pt x="27" y="169"/>
                </a:lnTo>
                <a:lnTo>
                  <a:pt x="23" y="129"/>
                </a:lnTo>
                <a:lnTo>
                  <a:pt x="19" y="86"/>
                </a:lnTo>
                <a:lnTo>
                  <a:pt x="15" y="44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12"/>
          <p:cNvSpPr/>
          <p:nvPr/>
        </p:nvSpPr>
        <p:spPr>
          <a:xfrm>
            <a:off x="1862280" y="1467000"/>
            <a:ext cx="1942920" cy="194292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1942920"/>
              <a:gd name="textAreaBottom" fmla="*/ 1943280 h 1942920"/>
            </a:gdLst>
            <a:ahLst/>
            <a:rect l="textAreaLeft" t="textAreaTop" r="textAreaRight" b="textAreaBottom"/>
            <a:pathLst>
              <a:path w="1224" h="1224">
                <a:moveTo>
                  <a:pt x="1224" y="0"/>
                </a:moveTo>
                <a:lnTo>
                  <a:pt x="1161" y="2"/>
                </a:lnTo>
                <a:lnTo>
                  <a:pt x="1099" y="8"/>
                </a:lnTo>
                <a:lnTo>
                  <a:pt x="1038" y="15"/>
                </a:lnTo>
                <a:lnTo>
                  <a:pt x="979" y="25"/>
                </a:lnTo>
                <a:lnTo>
                  <a:pt x="919" y="38"/>
                </a:lnTo>
                <a:lnTo>
                  <a:pt x="860" y="56"/>
                </a:lnTo>
                <a:lnTo>
                  <a:pt x="804" y="75"/>
                </a:lnTo>
                <a:lnTo>
                  <a:pt x="748" y="98"/>
                </a:lnTo>
                <a:lnTo>
                  <a:pt x="694" y="121"/>
                </a:lnTo>
                <a:lnTo>
                  <a:pt x="641" y="150"/>
                </a:lnTo>
                <a:lnTo>
                  <a:pt x="589" y="178"/>
                </a:lnTo>
                <a:lnTo>
                  <a:pt x="541" y="211"/>
                </a:lnTo>
                <a:lnTo>
                  <a:pt x="493" y="244"/>
                </a:lnTo>
                <a:lnTo>
                  <a:pt x="445" y="280"/>
                </a:lnTo>
                <a:lnTo>
                  <a:pt x="401" y="318"/>
                </a:lnTo>
                <a:lnTo>
                  <a:pt x="359" y="361"/>
                </a:lnTo>
                <a:lnTo>
                  <a:pt x="318" y="403"/>
                </a:lnTo>
                <a:lnTo>
                  <a:pt x="280" y="447"/>
                </a:lnTo>
                <a:lnTo>
                  <a:pt x="243" y="493"/>
                </a:lnTo>
                <a:lnTo>
                  <a:pt x="209" y="541"/>
                </a:lnTo>
                <a:lnTo>
                  <a:pt x="176" y="591"/>
                </a:lnTo>
                <a:lnTo>
                  <a:pt x="147" y="643"/>
                </a:lnTo>
                <a:lnTo>
                  <a:pt x="121" y="695"/>
                </a:lnTo>
                <a:lnTo>
                  <a:pt x="96" y="748"/>
                </a:lnTo>
                <a:lnTo>
                  <a:pt x="75" y="804"/>
                </a:lnTo>
                <a:lnTo>
                  <a:pt x="53" y="861"/>
                </a:lnTo>
                <a:lnTo>
                  <a:pt x="38" y="919"/>
                </a:lnTo>
                <a:lnTo>
                  <a:pt x="25" y="978"/>
                </a:lnTo>
                <a:lnTo>
                  <a:pt x="13" y="1040"/>
                </a:lnTo>
                <a:lnTo>
                  <a:pt x="5" y="1099"/>
                </a:lnTo>
                <a:lnTo>
                  <a:pt x="2" y="1163"/>
                </a:lnTo>
                <a:lnTo>
                  <a:pt x="0" y="1224"/>
                </a:lnTo>
                <a:lnTo>
                  <a:pt x="15" y="1224"/>
                </a:lnTo>
                <a:lnTo>
                  <a:pt x="17" y="1163"/>
                </a:lnTo>
                <a:lnTo>
                  <a:pt x="21" y="1101"/>
                </a:lnTo>
                <a:lnTo>
                  <a:pt x="29" y="1042"/>
                </a:lnTo>
                <a:lnTo>
                  <a:pt x="40" y="982"/>
                </a:lnTo>
                <a:lnTo>
                  <a:pt x="53" y="923"/>
                </a:lnTo>
                <a:lnTo>
                  <a:pt x="69" y="867"/>
                </a:lnTo>
                <a:lnTo>
                  <a:pt x="88" y="810"/>
                </a:lnTo>
                <a:lnTo>
                  <a:pt x="111" y="756"/>
                </a:lnTo>
                <a:lnTo>
                  <a:pt x="134" y="702"/>
                </a:lnTo>
                <a:lnTo>
                  <a:pt x="161" y="650"/>
                </a:lnTo>
                <a:lnTo>
                  <a:pt x="192" y="599"/>
                </a:lnTo>
                <a:lnTo>
                  <a:pt x="222" y="551"/>
                </a:lnTo>
                <a:lnTo>
                  <a:pt x="257" y="503"/>
                </a:lnTo>
                <a:lnTo>
                  <a:pt x="291" y="457"/>
                </a:lnTo>
                <a:lnTo>
                  <a:pt x="330" y="412"/>
                </a:lnTo>
                <a:lnTo>
                  <a:pt x="370" y="372"/>
                </a:lnTo>
                <a:lnTo>
                  <a:pt x="412" y="332"/>
                </a:lnTo>
                <a:lnTo>
                  <a:pt x="456" y="293"/>
                </a:lnTo>
                <a:lnTo>
                  <a:pt x="503" y="257"/>
                </a:lnTo>
                <a:lnTo>
                  <a:pt x="549" y="224"/>
                </a:lnTo>
                <a:lnTo>
                  <a:pt x="599" y="192"/>
                </a:lnTo>
                <a:lnTo>
                  <a:pt x="648" y="163"/>
                </a:lnTo>
                <a:lnTo>
                  <a:pt x="700" y="136"/>
                </a:lnTo>
                <a:lnTo>
                  <a:pt x="754" y="111"/>
                </a:lnTo>
                <a:lnTo>
                  <a:pt x="810" y="90"/>
                </a:lnTo>
                <a:lnTo>
                  <a:pt x="865" y="71"/>
                </a:lnTo>
                <a:lnTo>
                  <a:pt x="923" y="56"/>
                </a:lnTo>
                <a:lnTo>
                  <a:pt x="980" y="42"/>
                </a:lnTo>
                <a:lnTo>
                  <a:pt x="1040" y="31"/>
                </a:lnTo>
                <a:lnTo>
                  <a:pt x="1101" y="23"/>
                </a:lnTo>
                <a:lnTo>
                  <a:pt x="1161" y="19"/>
                </a:lnTo>
                <a:lnTo>
                  <a:pt x="1224" y="17"/>
                </a:lnTo>
                <a:lnTo>
                  <a:pt x="1224" y="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13"/>
          <p:cNvSpPr/>
          <p:nvPr/>
        </p:nvSpPr>
        <p:spPr>
          <a:xfrm>
            <a:off x="3805200" y="1585800"/>
            <a:ext cx="1770120" cy="177012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1770120"/>
              <a:gd name="textAreaBottom" fmla="*/ 1770480 h 1770120"/>
            </a:gdLst>
            <a:ahLst/>
            <a:rect l="textAreaLeft" t="textAreaTop" r="textAreaRight" b="textAreaBottom"/>
            <a:pathLst>
              <a:path w="1115" h="1115">
                <a:moveTo>
                  <a:pt x="1115" y="1115"/>
                </a:moveTo>
                <a:lnTo>
                  <a:pt x="1113" y="1059"/>
                </a:lnTo>
                <a:lnTo>
                  <a:pt x="1109" y="1001"/>
                </a:lnTo>
                <a:lnTo>
                  <a:pt x="1102" y="946"/>
                </a:lnTo>
                <a:lnTo>
                  <a:pt x="1092" y="892"/>
                </a:lnTo>
                <a:lnTo>
                  <a:pt x="1081" y="838"/>
                </a:lnTo>
                <a:lnTo>
                  <a:pt x="1065" y="785"/>
                </a:lnTo>
                <a:lnTo>
                  <a:pt x="1048" y="733"/>
                </a:lnTo>
                <a:lnTo>
                  <a:pt x="1027" y="683"/>
                </a:lnTo>
                <a:lnTo>
                  <a:pt x="1006" y="633"/>
                </a:lnTo>
                <a:lnTo>
                  <a:pt x="981" y="585"/>
                </a:lnTo>
                <a:lnTo>
                  <a:pt x="954" y="537"/>
                </a:lnTo>
                <a:lnTo>
                  <a:pt x="925" y="493"/>
                </a:lnTo>
                <a:lnTo>
                  <a:pt x="893" y="449"/>
                </a:lnTo>
                <a:lnTo>
                  <a:pt x="860" y="407"/>
                </a:lnTo>
                <a:lnTo>
                  <a:pt x="825" y="366"/>
                </a:lnTo>
                <a:lnTo>
                  <a:pt x="789" y="328"/>
                </a:lnTo>
                <a:lnTo>
                  <a:pt x="749" y="291"/>
                </a:lnTo>
                <a:lnTo>
                  <a:pt x="708" y="255"/>
                </a:lnTo>
                <a:lnTo>
                  <a:pt x="666" y="222"/>
                </a:lnTo>
                <a:lnTo>
                  <a:pt x="624" y="192"/>
                </a:lnTo>
                <a:lnTo>
                  <a:pt x="578" y="163"/>
                </a:lnTo>
                <a:lnTo>
                  <a:pt x="532" y="136"/>
                </a:lnTo>
                <a:lnTo>
                  <a:pt x="484" y="111"/>
                </a:lnTo>
                <a:lnTo>
                  <a:pt x="434" y="88"/>
                </a:lnTo>
                <a:lnTo>
                  <a:pt x="382" y="69"/>
                </a:lnTo>
                <a:lnTo>
                  <a:pt x="330" y="52"/>
                </a:lnTo>
                <a:lnTo>
                  <a:pt x="278" y="36"/>
                </a:lnTo>
                <a:lnTo>
                  <a:pt x="225" y="23"/>
                </a:lnTo>
                <a:lnTo>
                  <a:pt x="169" y="13"/>
                </a:lnTo>
                <a:lnTo>
                  <a:pt x="113" y="5"/>
                </a:lnTo>
                <a:lnTo>
                  <a:pt x="58" y="2"/>
                </a:lnTo>
                <a:lnTo>
                  <a:pt x="0" y="0"/>
                </a:lnTo>
                <a:lnTo>
                  <a:pt x="0" y="17"/>
                </a:lnTo>
                <a:lnTo>
                  <a:pt x="56" y="17"/>
                </a:lnTo>
                <a:lnTo>
                  <a:pt x="111" y="23"/>
                </a:lnTo>
                <a:lnTo>
                  <a:pt x="167" y="29"/>
                </a:lnTo>
                <a:lnTo>
                  <a:pt x="221" y="38"/>
                </a:lnTo>
                <a:lnTo>
                  <a:pt x="275" y="52"/>
                </a:lnTo>
                <a:lnTo>
                  <a:pt x="326" y="67"/>
                </a:lnTo>
                <a:lnTo>
                  <a:pt x="378" y="84"/>
                </a:lnTo>
                <a:lnTo>
                  <a:pt x="428" y="103"/>
                </a:lnTo>
                <a:lnTo>
                  <a:pt x="476" y="124"/>
                </a:lnTo>
                <a:lnTo>
                  <a:pt x="524" y="149"/>
                </a:lnTo>
                <a:lnTo>
                  <a:pt x="570" y="176"/>
                </a:lnTo>
                <a:lnTo>
                  <a:pt x="614" y="205"/>
                </a:lnTo>
                <a:lnTo>
                  <a:pt x="657" y="236"/>
                </a:lnTo>
                <a:lnTo>
                  <a:pt x="699" y="268"/>
                </a:lnTo>
                <a:lnTo>
                  <a:pt x="739" y="303"/>
                </a:lnTo>
                <a:lnTo>
                  <a:pt x="777" y="339"/>
                </a:lnTo>
                <a:lnTo>
                  <a:pt x="814" y="378"/>
                </a:lnTo>
                <a:lnTo>
                  <a:pt x="848" y="418"/>
                </a:lnTo>
                <a:lnTo>
                  <a:pt x="881" y="458"/>
                </a:lnTo>
                <a:lnTo>
                  <a:pt x="912" y="502"/>
                </a:lnTo>
                <a:lnTo>
                  <a:pt x="941" y="547"/>
                </a:lnTo>
                <a:lnTo>
                  <a:pt x="966" y="593"/>
                </a:lnTo>
                <a:lnTo>
                  <a:pt x="990" y="641"/>
                </a:lnTo>
                <a:lnTo>
                  <a:pt x="1014" y="689"/>
                </a:lnTo>
                <a:lnTo>
                  <a:pt x="1033" y="738"/>
                </a:lnTo>
                <a:lnTo>
                  <a:pt x="1050" y="788"/>
                </a:lnTo>
                <a:lnTo>
                  <a:pt x="1065" y="842"/>
                </a:lnTo>
                <a:lnTo>
                  <a:pt x="1077" y="894"/>
                </a:lnTo>
                <a:lnTo>
                  <a:pt x="1086" y="948"/>
                </a:lnTo>
                <a:lnTo>
                  <a:pt x="1094" y="1003"/>
                </a:lnTo>
                <a:lnTo>
                  <a:pt x="1098" y="1059"/>
                </a:lnTo>
                <a:lnTo>
                  <a:pt x="1100" y="1115"/>
                </a:lnTo>
                <a:lnTo>
                  <a:pt x="1115" y="111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14"/>
          <p:cNvSpPr/>
          <p:nvPr/>
        </p:nvSpPr>
        <p:spPr>
          <a:xfrm>
            <a:off x="3805200" y="3355920"/>
            <a:ext cx="1770120" cy="176868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1768680"/>
              <a:gd name="textAreaBottom" fmla="*/ 1769040 h 1768680"/>
            </a:gdLst>
            <a:ahLst/>
            <a:rect l="textAreaLeft" t="textAreaTop" r="textAreaRight" b="textAreaBottom"/>
            <a:pathLst>
              <a:path w="1115" h="1114">
                <a:moveTo>
                  <a:pt x="0" y="1114"/>
                </a:moveTo>
                <a:lnTo>
                  <a:pt x="58" y="1114"/>
                </a:lnTo>
                <a:lnTo>
                  <a:pt x="113" y="1109"/>
                </a:lnTo>
                <a:lnTo>
                  <a:pt x="169" y="1103"/>
                </a:lnTo>
                <a:lnTo>
                  <a:pt x="225" y="1093"/>
                </a:lnTo>
                <a:lnTo>
                  <a:pt x="278" y="1080"/>
                </a:lnTo>
                <a:lnTo>
                  <a:pt x="330" y="1065"/>
                </a:lnTo>
                <a:lnTo>
                  <a:pt x="382" y="1047"/>
                </a:lnTo>
                <a:lnTo>
                  <a:pt x="434" y="1028"/>
                </a:lnTo>
                <a:lnTo>
                  <a:pt x="484" y="1005"/>
                </a:lnTo>
                <a:lnTo>
                  <a:pt x="532" y="980"/>
                </a:lnTo>
                <a:lnTo>
                  <a:pt x="578" y="953"/>
                </a:lnTo>
                <a:lnTo>
                  <a:pt x="624" y="924"/>
                </a:lnTo>
                <a:lnTo>
                  <a:pt x="666" y="894"/>
                </a:lnTo>
                <a:lnTo>
                  <a:pt x="708" y="861"/>
                </a:lnTo>
                <a:lnTo>
                  <a:pt x="749" y="825"/>
                </a:lnTo>
                <a:lnTo>
                  <a:pt x="789" y="788"/>
                </a:lnTo>
                <a:lnTo>
                  <a:pt x="825" y="750"/>
                </a:lnTo>
                <a:lnTo>
                  <a:pt x="860" y="710"/>
                </a:lnTo>
                <a:lnTo>
                  <a:pt x="893" y="667"/>
                </a:lnTo>
                <a:lnTo>
                  <a:pt x="925" y="623"/>
                </a:lnTo>
                <a:lnTo>
                  <a:pt x="954" y="577"/>
                </a:lnTo>
                <a:lnTo>
                  <a:pt x="981" y="531"/>
                </a:lnTo>
                <a:lnTo>
                  <a:pt x="1006" y="483"/>
                </a:lnTo>
                <a:lnTo>
                  <a:pt x="1027" y="433"/>
                </a:lnTo>
                <a:lnTo>
                  <a:pt x="1048" y="383"/>
                </a:lnTo>
                <a:lnTo>
                  <a:pt x="1065" y="332"/>
                </a:lnTo>
                <a:lnTo>
                  <a:pt x="1081" y="278"/>
                </a:lnTo>
                <a:lnTo>
                  <a:pt x="1092" y="224"/>
                </a:lnTo>
                <a:lnTo>
                  <a:pt x="1102" y="170"/>
                </a:lnTo>
                <a:lnTo>
                  <a:pt x="1109" y="115"/>
                </a:lnTo>
                <a:lnTo>
                  <a:pt x="1113" y="57"/>
                </a:lnTo>
                <a:lnTo>
                  <a:pt x="1115" y="0"/>
                </a:lnTo>
                <a:lnTo>
                  <a:pt x="1100" y="0"/>
                </a:lnTo>
                <a:lnTo>
                  <a:pt x="1098" y="57"/>
                </a:lnTo>
                <a:lnTo>
                  <a:pt x="1094" y="113"/>
                </a:lnTo>
                <a:lnTo>
                  <a:pt x="1086" y="167"/>
                </a:lnTo>
                <a:lnTo>
                  <a:pt x="1077" y="222"/>
                </a:lnTo>
                <a:lnTo>
                  <a:pt x="1065" y="274"/>
                </a:lnTo>
                <a:lnTo>
                  <a:pt x="1050" y="326"/>
                </a:lnTo>
                <a:lnTo>
                  <a:pt x="1033" y="378"/>
                </a:lnTo>
                <a:lnTo>
                  <a:pt x="1014" y="427"/>
                </a:lnTo>
                <a:lnTo>
                  <a:pt x="990" y="475"/>
                </a:lnTo>
                <a:lnTo>
                  <a:pt x="966" y="523"/>
                </a:lnTo>
                <a:lnTo>
                  <a:pt x="941" y="569"/>
                </a:lnTo>
                <a:lnTo>
                  <a:pt x="912" y="614"/>
                </a:lnTo>
                <a:lnTo>
                  <a:pt x="881" y="658"/>
                </a:lnTo>
                <a:lnTo>
                  <a:pt x="848" y="698"/>
                </a:lnTo>
                <a:lnTo>
                  <a:pt x="814" y="738"/>
                </a:lnTo>
                <a:lnTo>
                  <a:pt x="777" y="777"/>
                </a:lnTo>
                <a:lnTo>
                  <a:pt x="739" y="813"/>
                </a:lnTo>
                <a:lnTo>
                  <a:pt x="699" y="848"/>
                </a:lnTo>
                <a:lnTo>
                  <a:pt x="657" y="880"/>
                </a:lnTo>
                <a:lnTo>
                  <a:pt x="614" y="911"/>
                </a:lnTo>
                <a:lnTo>
                  <a:pt x="570" y="940"/>
                </a:lnTo>
                <a:lnTo>
                  <a:pt x="524" y="967"/>
                </a:lnTo>
                <a:lnTo>
                  <a:pt x="476" y="990"/>
                </a:lnTo>
                <a:lnTo>
                  <a:pt x="428" y="1013"/>
                </a:lnTo>
                <a:lnTo>
                  <a:pt x="378" y="1032"/>
                </a:lnTo>
                <a:lnTo>
                  <a:pt x="326" y="1049"/>
                </a:lnTo>
                <a:lnTo>
                  <a:pt x="275" y="1065"/>
                </a:lnTo>
                <a:lnTo>
                  <a:pt x="221" y="1076"/>
                </a:lnTo>
                <a:lnTo>
                  <a:pt x="167" y="1086"/>
                </a:lnTo>
                <a:lnTo>
                  <a:pt x="111" y="1093"/>
                </a:lnTo>
                <a:lnTo>
                  <a:pt x="56" y="1097"/>
                </a:lnTo>
                <a:lnTo>
                  <a:pt x="0" y="1099"/>
                </a:lnTo>
                <a:lnTo>
                  <a:pt x="0" y="111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15"/>
          <p:cNvSpPr/>
          <p:nvPr/>
        </p:nvSpPr>
        <p:spPr>
          <a:xfrm>
            <a:off x="2035080" y="3355920"/>
            <a:ext cx="1770120" cy="176868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1768680"/>
              <a:gd name="textAreaBottom" fmla="*/ 1769040 h 1768680"/>
            </a:gdLst>
            <a:ahLst/>
            <a:rect l="textAreaLeft" t="textAreaTop" r="textAreaRight" b="textAreaBottom"/>
            <a:pathLst>
              <a:path w="1115" h="1114">
                <a:moveTo>
                  <a:pt x="0" y="0"/>
                </a:moveTo>
                <a:lnTo>
                  <a:pt x="2" y="57"/>
                </a:lnTo>
                <a:lnTo>
                  <a:pt x="6" y="115"/>
                </a:lnTo>
                <a:lnTo>
                  <a:pt x="14" y="170"/>
                </a:lnTo>
                <a:lnTo>
                  <a:pt x="23" y="224"/>
                </a:lnTo>
                <a:lnTo>
                  <a:pt x="35" y="278"/>
                </a:lnTo>
                <a:lnTo>
                  <a:pt x="50" y="332"/>
                </a:lnTo>
                <a:lnTo>
                  <a:pt x="67" y="383"/>
                </a:lnTo>
                <a:lnTo>
                  <a:pt x="88" y="433"/>
                </a:lnTo>
                <a:lnTo>
                  <a:pt x="110" y="483"/>
                </a:lnTo>
                <a:lnTo>
                  <a:pt x="134" y="531"/>
                </a:lnTo>
                <a:lnTo>
                  <a:pt x="161" y="577"/>
                </a:lnTo>
                <a:lnTo>
                  <a:pt x="190" y="623"/>
                </a:lnTo>
                <a:lnTo>
                  <a:pt x="223" y="667"/>
                </a:lnTo>
                <a:lnTo>
                  <a:pt x="255" y="710"/>
                </a:lnTo>
                <a:lnTo>
                  <a:pt x="290" y="750"/>
                </a:lnTo>
                <a:lnTo>
                  <a:pt x="326" y="788"/>
                </a:lnTo>
                <a:lnTo>
                  <a:pt x="367" y="825"/>
                </a:lnTo>
                <a:lnTo>
                  <a:pt x="407" y="861"/>
                </a:lnTo>
                <a:lnTo>
                  <a:pt x="449" y="894"/>
                </a:lnTo>
                <a:lnTo>
                  <a:pt x="493" y="924"/>
                </a:lnTo>
                <a:lnTo>
                  <a:pt x="537" y="953"/>
                </a:lnTo>
                <a:lnTo>
                  <a:pt x="584" y="980"/>
                </a:lnTo>
                <a:lnTo>
                  <a:pt x="632" y="1005"/>
                </a:lnTo>
                <a:lnTo>
                  <a:pt x="681" y="1028"/>
                </a:lnTo>
                <a:lnTo>
                  <a:pt x="733" y="1047"/>
                </a:lnTo>
                <a:lnTo>
                  <a:pt x="785" y="1065"/>
                </a:lnTo>
                <a:lnTo>
                  <a:pt x="837" y="1080"/>
                </a:lnTo>
                <a:lnTo>
                  <a:pt x="891" y="1093"/>
                </a:lnTo>
                <a:lnTo>
                  <a:pt x="946" y="1103"/>
                </a:lnTo>
                <a:lnTo>
                  <a:pt x="1002" y="1109"/>
                </a:lnTo>
                <a:lnTo>
                  <a:pt x="1058" y="1114"/>
                </a:lnTo>
                <a:lnTo>
                  <a:pt x="1115" y="1114"/>
                </a:lnTo>
                <a:lnTo>
                  <a:pt x="1115" y="1099"/>
                </a:lnTo>
                <a:lnTo>
                  <a:pt x="1060" y="1097"/>
                </a:lnTo>
                <a:lnTo>
                  <a:pt x="1004" y="1093"/>
                </a:lnTo>
                <a:lnTo>
                  <a:pt x="948" y="1086"/>
                </a:lnTo>
                <a:lnTo>
                  <a:pt x="894" y="1076"/>
                </a:lnTo>
                <a:lnTo>
                  <a:pt x="841" y="1065"/>
                </a:lnTo>
                <a:lnTo>
                  <a:pt x="789" y="1049"/>
                </a:lnTo>
                <a:lnTo>
                  <a:pt x="737" y="1032"/>
                </a:lnTo>
                <a:lnTo>
                  <a:pt x="687" y="1013"/>
                </a:lnTo>
                <a:lnTo>
                  <a:pt x="639" y="990"/>
                </a:lnTo>
                <a:lnTo>
                  <a:pt x="591" y="967"/>
                </a:lnTo>
                <a:lnTo>
                  <a:pt x="545" y="940"/>
                </a:lnTo>
                <a:lnTo>
                  <a:pt x="501" y="911"/>
                </a:lnTo>
                <a:lnTo>
                  <a:pt x="459" y="880"/>
                </a:lnTo>
                <a:lnTo>
                  <a:pt x="417" y="848"/>
                </a:lnTo>
                <a:lnTo>
                  <a:pt x="376" y="813"/>
                </a:lnTo>
                <a:lnTo>
                  <a:pt x="338" y="777"/>
                </a:lnTo>
                <a:lnTo>
                  <a:pt x="301" y="738"/>
                </a:lnTo>
                <a:lnTo>
                  <a:pt x="267" y="698"/>
                </a:lnTo>
                <a:lnTo>
                  <a:pt x="234" y="658"/>
                </a:lnTo>
                <a:lnTo>
                  <a:pt x="204" y="614"/>
                </a:lnTo>
                <a:lnTo>
                  <a:pt x="175" y="569"/>
                </a:lnTo>
                <a:lnTo>
                  <a:pt x="150" y="523"/>
                </a:lnTo>
                <a:lnTo>
                  <a:pt x="125" y="475"/>
                </a:lnTo>
                <a:lnTo>
                  <a:pt x="102" y="427"/>
                </a:lnTo>
                <a:lnTo>
                  <a:pt x="83" y="378"/>
                </a:lnTo>
                <a:lnTo>
                  <a:pt x="65" y="326"/>
                </a:lnTo>
                <a:lnTo>
                  <a:pt x="50" y="274"/>
                </a:lnTo>
                <a:lnTo>
                  <a:pt x="38" y="222"/>
                </a:lnTo>
                <a:lnTo>
                  <a:pt x="29" y="167"/>
                </a:lnTo>
                <a:lnTo>
                  <a:pt x="21" y="113"/>
                </a:lnTo>
                <a:lnTo>
                  <a:pt x="17" y="57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16"/>
          <p:cNvSpPr/>
          <p:nvPr/>
        </p:nvSpPr>
        <p:spPr>
          <a:xfrm>
            <a:off x="2035080" y="1585800"/>
            <a:ext cx="1770120" cy="177012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1770120"/>
              <a:gd name="textAreaBottom" fmla="*/ 1770480 h 1770120"/>
            </a:gdLst>
            <a:ahLst/>
            <a:rect l="textAreaLeft" t="textAreaTop" r="textAreaRight" b="textAreaBottom"/>
            <a:pathLst>
              <a:path w="1115" h="1115">
                <a:moveTo>
                  <a:pt x="1115" y="0"/>
                </a:moveTo>
                <a:lnTo>
                  <a:pt x="1058" y="2"/>
                </a:lnTo>
                <a:lnTo>
                  <a:pt x="1002" y="5"/>
                </a:lnTo>
                <a:lnTo>
                  <a:pt x="946" y="13"/>
                </a:lnTo>
                <a:lnTo>
                  <a:pt x="891" y="23"/>
                </a:lnTo>
                <a:lnTo>
                  <a:pt x="837" y="36"/>
                </a:lnTo>
                <a:lnTo>
                  <a:pt x="785" y="52"/>
                </a:lnTo>
                <a:lnTo>
                  <a:pt x="733" y="69"/>
                </a:lnTo>
                <a:lnTo>
                  <a:pt x="681" y="88"/>
                </a:lnTo>
                <a:lnTo>
                  <a:pt x="632" y="111"/>
                </a:lnTo>
                <a:lnTo>
                  <a:pt x="584" y="136"/>
                </a:lnTo>
                <a:lnTo>
                  <a:pt x="537" y="163"/>
                </a:lnTo>
                <a:lnTo>
                  <a:pt x="493" y="192"/>
                </a:lnTo>
                <a:lnTo>
                  <a:pt x="449" y="222"/>
                </a:lnTo>
                <a:lnTo>
                  <a:pt x="407" y="255"/>
                </a:lnTo>
                <a:lnTo>
                  <a:pt x="367" y="291"/>
                </a:lnTo>
                <a:lnTo>
                  <a:pt x="326" y="328"/>
                </a:lnTo>
                <a:lnTo>
                  <a:pt x="290" y="366"/>
                </a:lnTo>
                <a:lnTo>
                  <a:pt x="255" y="407"/>
                </a:lnTo>
                <a:lnTo>
                  <a:pt x="223" y="449"/>
                </a:lnTo>
                <a:lnTo>
                  <a:pt x="190" y="493"/>
                </a:lnTo>
                <a:lnTo>
                  <a:pt x="161" y="537"/>
                </a:lnTo>
                <a:lnTo>
                  <a:pt x="134" y="585"/>
                </a:lnTo>
                <a:lnTo>
                  <a:pt x="110" y="633"/>
                </a:lnTo>
                <a:lnTo>
                  <a:pt x="88" y="683"/>
                </a:lnTo>
                <a:lnTo>
                  <a:pt x="67" y="733"/>
                </a:lnTo>
                <a:lnTo>
                  <a:pt x="50" y="785"/>
                </a:lnTo>
                <a:lnTo>
                  <a:pt x="35" y="838"/>
                </a:lnTo>
                <a:lnTo>
                  <a:pt x="23" y="892"/>
                </a:lnTo>
                <a:lnTo>
                  <a:pt x="14" y="946"/>
                </a:lnTo>
                <a:lnTo>
                  <a:pt x="6" y="1001"/>
                </a:lnTo>
                <a:lnTo>
                  <a:pt x="2" y="1059"/>
                </a:lnTo>
                <a:lnTo>
                  <a:pt x="0" y="1115"/>
                </a:lnTo>
                <a:lnTo>
                  <a:pt x="15" y="1115"/>
                </a:lnTo>
                <a:lnTo>
                  <a:pt x="17" y="1059"/>
                </a:lnTo>
                <a:lnTo>
                  <a:pt x="21" y="1003"/>
                </a:lnTo>
                <a:lnTo>
                  <a:pt x="29" y="948"/>
                </a:lnTo>
                <a:lnTo>
                  <a:pt x="38" y="894"/>
                </a:lnTo>
                <a:lnTo>
                  <a:pt x="50" y="842"/>
                </a:lnTo>
                <a:lnTo>
                  <a:pt x="65" y="788"/>
                </a:lnTo>
                <a:lnTo>
                  <a:pt x="83" y="738"/>
                </a:lnTo>
                <a:lnTo>
                  <a:pt x="102" y="689"/>
                </a:lnTo>
                <a:lnTo>
                  <a:pt x="125" y="641"/>
                </a:lnTo>
                <a:lnTo>
                  <a:pt x="150" y="593"/>
                </a:lnTo>
                <a:lnTo>
                  <a:pt x="175" y="547"/>
                </a:lnTo>
                <a:lnTo>
                  <a:pt x="204" y="502"/>
                </a:lnTo>
                <a:lnTo>
                  <a:pt x="234" y="458"/>
                </a:lnTo>
                <a:lnTo>
                  <a:pt x="267" y="418"/>
                </a:lnTo>
                <a:lnTo>
                  <a:pt x="301" y="378"/>
                </a:lnTo>
                <a:lnTo>
                  <a:pt x="338" y="339"/>
                </a:lnTo>
                <a:lnTo>
                  <a:pt x="376" y="303"/>
                </a:lnTo>
                <a:lnTo>
                  <a:pt x="417" y="268"/>
                </a:lnTo>
                <a:lnTo>
                  <a:pt x="459" y="236"/>
                </a:lnTo>
                <a:lnTo>
                  <a:pt x="501" y="205"/>
                </a:lnTo>
                <a:lnTo>
                  <a:pt x="545" y="176"/>
                </a:lnTo>
                <a:lnTo>
                  <a:pt x="591" y="149"/>
                </a:lnTo>
                <a:lnTo>
                  <a:pt x="639" y="124"/>
                </a:lnTo>
                <a:lnTo>
                  <a:pt x="687" y="103"/>
                </a:lnTo>
                <a:lnTo>
                  <a:pt x="737" y="84"/>
                </a:lnTo>
                <a:lnTo>
                  <a:pt x="789" y="67"/>
                </a:lnTo>
                <a:lnTo>
                  <a:pt x="841" y="52"/>
                </a:lnTo>
                <a:lnTo>
                  <a:pt x="894" y="38"/>
                </a:lnTo>
                <a:lnTo>
                  <a:pt x="948" y="29"/>
                </a:lnTo>
                <a:lnTo>
                  <a:pt x="1004" y="23"/>
                </a:lnTo>
                <a:lnTo>
                  <a:pt x="1060" y="17"/>
                </a:lnTo>
                <a:lnTo>
                  <a:pt x="1115" y="17"/>
                </a:lnTo>
                <a:lnTo>
                  <a:pt x="1115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17"/>
          <p:cNvSpPr/>
          <p:nvPr/>
        </p:nvSpPr>
        <p:spPr>
          <a:xfrm>
            <a:off x="3805200" y="1709640"/>
            <a:ext cx="1584360" cy="15876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998" h="1000">
                <a:moveTo>
                  <a:pt x="998" y="1000"/>
                </a:moveTo>
                <a:lnTo>
                  <a:pt x="998" y="948"/>
                </a:lnTo>
                <a:lnTo>
                  <a:pt x="994" y="898"/>
                </a:lnTo>
                <a:lnTo>
                  <a:pt x="987" y="849"/>
                </a:lnTo>
                <a:lnTo>
                  <a:pt x="979" y="799"/>
                </a:lnTo>
                <a:lnTo>
                  <a:pt x="967" y="751"/>
                </a:lnTo>
                <a:lnTo>
                  <a:pt x="954" y="703"/>
                </a:lnTo>
                <a:lnTo>
                  <a:pt x="939" y="657"/>
                </a:lnTo>
                <a:lnTo>
                  <a:pt x="919" y="611"/>
                </a:lnTo>
                <a:lnTo>
                  <a:pt x="900" y="566"/>
                </a:lnTo>
                <a:lnTo>
                  <a:pt x="877" y="524"/>
                </a:lnTo>
                <a:lnTo>
                  <a:pt x="854" y="482"/>
                </a:lnTo>
                <a:lnTo>
                  <a:pt x="827" y="442"/>
                </a:lnTo>
                <a:lnTo>
                  <a:pt x="800" y="403"/>
                </a:lnTo>
                <a:lnTo>
                  <a:pt x="770" y="365"/>
                </a:lnTo>
                <a:lnTo>
                  <a:pt x="739" y="329"/>
                </a:lnTo>
                <a:lnTo>
                  <a:pt x="706" y="294"/>
                </a:lnTo>
                <a:lnTo>
                  <a:pt x="672" y="261"/>
                </a:lnTo>
                <a:lnTo>
                  <a:pt x="635" y="229"/>
                </a:lnTo>
                <a:lnTo>
                  <a:pt x="597" y="200"/>
                </a:lnTo>
                <a:lnTo>
                  <a:pt x="559" y="171"/>
                </a:lnTo>
                <a:lnTo>
                  <a:pt x="518" y="146"/>
                </a:lnTo>
                <a:lnTo>
                  <a:pt x="476" y="121"/>
                </a:lnTo>
                <a:lnTo>
                  <a:pt x="432" y="100"/>
                </a:lnTo>
                <a:lnTo>
                  <a:pt x="388" y="79"/>
                </a:lnTo>
                <a:lnTo>
                  <a:pt x="344" y="62"/>
                </a:lnTo>
                <a:lnTo>
                  <a:pt x="296" y="46"/>
                </a:lnTo>
                <a:lnTo>
                  <a:pt x="250" y="33"/>
                </a:lnTo>
                <a:lnTo>
                  <a:pt x="202" y="22"/>
                </a:lnTo>
                <a:lnTo>
                  <a:pt x="152" y="12"/>
                </a:lnTo>
                <a:lnTo>
                  <a:pt x="102" y="6"/>
                </a:lnTo>
                <a:lnTo>
                  <a:pt x="52" y="2"/>
                </a:lnTo>
                <a:lnTo>
                  <a:pt x="0" y="0"/>
                </a:lnTo>
                <a:lnTo>
                  <a:pt x="0" y="18"/>
                </a:lnTo>
                <a:lnTo>
                  <a:pt x="50" y="18"/>
                </a:lnTo>
                <a:lnTo>
                  <a:pt x="100" y="22"/>
                </a:lnTo>
                <a:lnTo>
                  <a:pt x="150" y="27"/>
                </a:lnTo>
                <a:lnTo>
                  <a:pt x="198" y="37"/>
                </a:lnTo>
                <a:lnTo>
                  <a:pt x="246" y="48"/>
                </a:lnTo>
                <a:lnTo>
                  <a:pt x="292" y="62"/>
                </a:lnTo>
                <a:lnTo>
                  <a:pt x="338" y="77"/>
                </a:lnTo>
                <a:lnTo>
                  <a:pt x="382" y="94"/>
                </a:lnTo>
                <a:lnTo>
                  <a:pt x="426" y="114"/>
                </a:lnTo>
                <a:lnTo>
                  <a:pt x="468" y="135"/>
                </a:lnTo>
                <a:lnTo>
                  <a:pt x="509" y="160"/>
                </a:lnTo>
                <a:lnTo>
                  <a:pt x="549" y="185"/>
                </a:lnTo>
                <a:lnTo>
                  <a:pt x="587" y="211"/>
                </a:lnTo>
                <a:lnTo>
                  <a:pt x="624" y="242"/>
                </a:lnTo>
                <a:lnTo>
                  <a:pt x="660" y="273"/>
                </a:lnTo>
                <a:lnTo>
                  <a:pt x="695" y="305"/>
                </a:lnTo>
                <a:lnTo>
                  <a:pt x="728" y="340"/>
                </a:lnTo>
                <a:lnTo>
                  <a:pt x="758" y="375"/>
                </a:lnTo>
                <a:lnTo>
                  <a:pt x="787" y="413"/>
                </a:lnTo>
                <a:lnTo>
                  <a:pt x="814" y="451"/>
                </a:lnTo>
                <a:lnTo>
                  <a:pt x="841" y="490"/>
                </a:lnTo>
                <a:lnTo>
                  <a:pt x="864" y="532"/>
                </a:lnTo>
                <a:lnTo>
                  <a:pt x="885" y="574"/>
                </a:lnTo>
                <a:lnTo>
                  <a:pt x="906" y="618"/>
                </a:lnTo>
                <a:lnTo>
                  <a:pt x="923" y="662"/>
                </a:lnTo>
                <a:lnTo>
                  <a:pt x="939" y="708"/>
                </a:lnTo>
                <a:lnTo>
                  <a:pt x="952" y="755"/>
                </a:lnTo>
                <a:lnTo>
                  <a:pt x="964" y="802"/>
                </a:lnTo>
                <a:lnTo>
                  <a:pt x="971" y="850"/>
                </a:lnTo>
                <a:lnTo>
                  <a:pt x="977" y="898"/>
                </a:lnTo>
                <a:lnTo>
                  <a:pt x="981" y="948"/>
                </a:lnTo>
                <a:lnTo>
                  <a:pt x="983" y="1000"/>
                </a:lnTo>
                <a:lnTo>
                  <a:pt x="998" y="10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18"/>
          <p:cNvSpPr/>
          <p:nvPr/>
        </p:nvSpPr>
        <p:spPr>
          <a:xfrm>
            <a:off x="3805200" y="3297240"/>
            <a:ext cx="1584360" cy="15843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998" h="998">
                <a:moveTo>
                  <a:pt x="0" y="998"/>
                </a:moveTo>
                <a:lnTo>
                  <a:pt x="52" y="996"/>
                </a:lnTo>
                <a:lnTo>
                  <a:pt x="102" y="992"/>
                </a:lnTo>
                <a:lnTo>
                  <a:pt x="152" y="986"/>
                </a:lnTo>
                <a:lnTo>
                  <a:pt x="202" y="977"/>
                </a:lnTo>
                <a:lnTo>
                  <a:pt x="250" y="967"/>
                </a:lnTo>
                <a:lnTo>
                  <a:pt x="296" y="954"/>
                </a:lnTo>
                <a:lnTo>
                  <a:pt x="344" y="936"/>
                </a:lnTo>
                <a:lnTo>
                  <a:pt x="388" y="919"/>
                </a:lnTo>
                <a:lnTo>
                  <a:pt x="432" y="900"/>
                </a:lnTo>
                <a:lnTo>
                  <a:pt x="476" y="877"/>
                </a:lnTo>
                <a:lnTo>
                  <a:pt x="518" y="854"/>
                </a:lnTo>
                <a:lnTo>
                  <a:pt x="559" y="827"/>
                </a:lnTo>
                <a:lnTo>
                  <a:pt x="597" y="798"/>
                </a:lnTo>
                <a:lnTo>
                  <a:pt x="635" y="770"/>
                </a:lnTo>
                <a:lnTo>
                  <a:pt x="672" y="739"/>
                </a:lnTo>
                <a:lnTo>
                  <a:pt x="706" y="704"/>
                </a:lnTo>
                <a:lnTo>
                  <a:pt x="739" y="670"/>
                </a:lnTo>
                <a:lnTo>
                  <a:pt x="770" y="633"/>
                </a:lnTo>
                <a:lnTo>
                  <a:pt x="800" y="597"/>
                </a:lnTo>
                <a:lnTo>
                  <a:pt x="827" y="557"/>
                </a:lnTo>
                <a:lnTo>
                  <a:pt x="854" y="516"/>
                </a:lnTo>
                <a:lnTo>
                  <a:pt x="877" y="474"/>
                </a:lnTo>
                <a:lnTo>
                  <a:pt x="900" y="432"/>
                </a:lnTo>
                <a:lnTo>
                  <a:pt x="919" y="388"/>
                </a:lnTo>
                <a:lnTo>
                  <a:pt x="939" y="342"/>
                </a:lnTo>
                <a:lnTo>
                  <a:pt x="954" y="296"/>
                </a:lnTo>
                <a:lnTo>
                  <a:pt x="967" y="248"/>
                </a:lnTo>
                <a:lnTo>
                  <a:pt x="979" y="200"/>
                </a:lnTo>
                <a:lnTo>
                  <a:pt x="987" y="152"/>
                </a:lnTo>
                <a:lnTo>
                  <a:pt x="994" y="102"/>
                </a:lnTo>
                <a:lnTo>
                  <a:pt x="998" y="50"/>
                </a:lnTo>
                <a:lnTo>
                  <a:pt x="998" y="0"/>
                </a:lnTo>
                <a:lnTo>
                  <a:pt x="983" y="0"/>
                </a:lnTo>
                <a:lnTo>
                  <a:pt x="981" y="50"/>
                </a:lnTo>
                <a:lnTo>
                  <a:pt x="977" y="100"/>
                </a:lnTo>
                <a:lnTo>
                  <a:pt x="971" y="148"/>
                </a:lnTo>
                <a:lnTo>
                  <a:pt x="964" y="198"/>
                </a:lnTo>
                <a:lnTo>
                  <a:pt x="952" y="244"/>
                </a:lnTo>
                <a:lnTo>
                  <a:pt x="939" y="292"/>
                </a:lnTo>
                <a:lnTo>
                  <a:pt x="923" y="336"/>
                </a:lnTo>
                <a:lnTo>
                  <a:pt x="906" y="382"/>
                </a:lnTo>
                <a:lnTo>
                  <a:pt x="885" y="424"/>
                </a:lnTo>
                <a:lnTo>
                  <a:pt x="864" y="466"/>
                </a:lnTo>
                <a:lnTo>
                  <a:pt x="841" y="509"/>
                </a:lnTo>
                <a:lnTo>
                  <a:pt x="814" y="549"/>
                </a:lnTo>
                <a:lnTo>
                  <a:pt x="787" y="587"/>
                </a:lnTo>
                <a:lnTo>
                  <a:pt x="758" y="624"/>
                </a:lnTo>
                <a:lnTo>
                  <a:pt x="728" y="660"/>
                </a:lnTo>
                <a:lnTo>
                  <a:pt x="695" y="693"/>
                </a:lnTo>
                <a:lnTo>
                  <a:pt x="660" y="725"/>
                </a:lnTo>
                <a:lnTo>
                  <a:pt x="624" y="756"/>
                </a:lnTo>
                <a:lnTo>
                  <a:pt x="587" y="787"/>
                </a:lnTo>
                <a:lnTo>
                  <a:pt x="549" y="814"/>
                </a:lnTo>
                <a:lnTo>
                  <a:pt x="509" y="839"/>
                </a:lnTo>
                <a:lnTo>
                  <a:pt x="468" y="864"/>
                </a:lnTo>
                <a:lnTo>
                  <a:pt x="426" y="885"/>
                </a:lnTo>
                <a:lnTo>
                  <a:pt x="382" y="904"/>
                </a:lnTo>
                <a:lnTo>
                  <a:pt x="338" y="921"/>
                </a:lnTo>
                <a:lnTo>
                  <a:pt x="292" y="938"/>
                </a:lnTo>
                <a:lnTo>
                  <a:pt x="246" y="950"/>
                </a:lnTo>
                <a:lnTo>
                  <a:pt x="198" y="961"/>
                </a:lnTo>
                <a:lnTo>
                  <a:pt x="150" y="971"/>
                </a:lnTo>
                <a:lnTo>
                  <a:pt x="100" y="977"/>
                </a:lnTo>
                <a:lnTo>
                  <a:pt x="50" y="981"/>
                </a:lnTo>
                <a:lnTo>
                  <a:pt x="0" y="983"/>
                </a:lnTo>
                <a:lnTo>
                  <a:pt x="0" y="99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220840" y="3297240"/>
            <a:ext cx="1584360" cy="15843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998" h="998">
                <a:moveTo>
                  <a:pt x="0" y="0"/>
                </a:moveTo>
                <a:lnTo>
                  <a:pt x="0" y="50"/>
                </a:lnTo>
                <a:lnTo>
                  <a:pt x="4" y="102"/>
                </a:lnTo>
                <a:lnTo>
                  <a:pt x="12" y="152"/>
                </a:lnTo>
                <a:lnTo>
                  <a:pt x="19" y="200"/>
                </a:lnTo>
                <a:lnTo>
                  <a:pt x="31" y="248"/>
                </a:lnTo>
                <a:lnTo>
                  <a:pt x="44" y="296"/>
                </a:lnTo>
                <a:lnTo>
                  <a:pt x="60" y="342"/>
                </a:lnTo>
                <a:lnTo>
                  <a:pt x="79" y="388"/>
                </a:lnTo>
                <a:lnTo>
                  <a:pt x="98" y="432"/>
                </a:lnTo>
                <a:lnTo>
                  <a:pt x="121" y="474"/>
                </a:lnTo>
                <a:lnTo>
                  <a:pt x="144" y="516"/>
                </a:lnTo>
                <a:lnTo>
                  <a:pt x="171" y="557"/>
                </a:lnTo>
                <a:lnTo>
                  <a:pt x="198" y="597"/>
                </a:lnTo>
                <a:lnTo>
                  <a:pt x="229" y="633"/>
                </a:lnTo>
                <a:lnTo>
                  <a:pt x="259" y="670"/>
                </a:lnTo>
                <a:lnTo>
                  <a:pt x="292" y="704"/>
                </a:lnTo>
                <a:lnTo>
                  <a:pt x="326" y="739"/>
                </a:lnTo>
                <a:lnTo>
                  <a:pt x="363" y="770"/>
                </a:lnTo>
                <a:lnTo>
                  <a:pt x="401" y="798"/>
                </a:lnTo>
                <a:lnTo>
                  <a:pt x="440" y="827"/>
                </a:lnTo>
                <a:lnTo>
                  <a:pt x="482" y="854"/>
                </a:lnTo>
                <a:lnTo>
                  <a:pt x="522" y="877"/>
                </a:lnTo>
                <a:lnTo>
                  <a:pt x="566" y="900"/>
                </a:lnTo>
                <a:lnTo>
                  <a:pt x="610" y="919"/>
                </a:lnTo>
                <a:lnTo>
                  <a:pt x="655" y="936"/>
                </a:lnTo>
                <a:lnTo>
                  <a:pt x="703" y="954"/>
                </a:lnTo>
                <a:lnTo>
                  <a:pt x="749" y="967"/>
                </a:lnTo>
                <a:lnTo>
                  <a:pt x="797" y="977"/>
                </a:lnTo>
                <a:lnTo>
                  <a:pt x="847" y="986"/>
                </a:lnTo>
                <a:lnTo>
                  <a:pt x="896" y="992"/>
                </a:lnTo>
                <a:lnTo>
                  <a:pt x="946" y="996"/>
                </a:lnTo>
                <a:lnTo>
                  <a:pt x="998" y="998"/>
                </a:lnTo>
                <a:lnTo>
                  <a:pt x="998" y="983"/>
                </a:lnTo>
                <a:lnTo>
                  <a:pt x="948" y="981"/>
                </a:lnTo>
                <a:lnTo>
                  <a:pt x="898" y="977"/>
                </a:lnTo>
                <a:lnTo>
                  <a:pt x="848" y="971"/>
                </a:lnTo>
                <a:lnTo>
                  <a:pt x="800" y="961"/>
                </a:lnTo>
                <a:lnTo>
                  <a:pt x="753" y="950"/>
                </a:lnTo>
                <a:lnTo>
                  <a:pt x="706" y="938"/>
                </a:lnTo>
                <a:lnTo>
                  <a:pt x="660" y="921"/>
                </a:lnTo>
                <a:lnTo>
                  <a:pt x="616" y="904"/>
                </a:lnTo>
                <a:lnTo>
                  <a:pt x="572" y="885"/>
                </a:lnTo>
                <a:lnTo>
                  <a:pt x="530" y="864"/>
                </a:lnTo>
                <a:lnTo>
                  <a:pt x="490" y="839"/>
                </a:lnTo>
                <a:lnTo>
                  <a:pt x="449" y="814"/>
                </a:lnTo>
                <a:lnTo>
                  <a:pt x="411" y="787"/>
                </a:lnTo>
                <a:lnTo>
                  <a:pt x="374" y="756"/>
                </a:lnTo>
                <a:lnTo>
                  <a:pt x="338" y="725"/>
                </a:lnTo>
                <a:lnTo>
                  <a:pt x="303" y="693"/>
                </a:lnTo>
                <a:lnTo>
                  <a:pt x="271" y="660"/>
                </a:lnTo>
                <a:lnTo>
                  <a:pt x="240" y="624"/>
                </a:lnTo>
                <a:lnTo>
                  <a:pt x="211" y="587"/>
                </a:lnTo>
                <a:lnTo>
                  <a:pt x="184" y="549"/>
                </a:lnTo>
                <a:lnTo>
                  <a:pt x="158" y="509"/>
                </a:lnTo>
                <a:lnTo>
                  <a:pt x="135" y="466"/>
                </a:lnTo>
                <a:lnTo>
                  <a:pt x="113" y="424"/>
                </a:lnTo>
                <a:lnTo>
                  <a:pt x="92" y="382"/>
                </a:lnTo>
                <a:lnTo>
                  <a:pt x="75" y="336"/>
                </a:lnTo>
                <a:lnTo>
                  <a:pt x="60" y="292"/>
                </a:lnTo>
                <a:lnTo>
                  <a:pt x="46" y="244"/>
                </a:lnTo>
                <a:lnTo>
                  <a:pt x="35" y="198"/>
                </a:lnTo>
                <a:lnTo>
                  <a:pt x="27" y="148"/>
                </a:lnTo>
                <a:lnTo>
                  <a:pt x="21" y="100"/>
                </a:lnTo>
                <a:lnTo>
                  <a:pt x="17" y="50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220840" y="1709640"/>
            <a:ext cx="1584360" cy="15876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998" h="1000">
                <a:moveTo>
                  <a:pt x="998" y="0"/>
                </a:moveTo>
                <a:lnTo>
                  <a:pt x="946" y="2"/>
                </a:lnTo>
                <a:lnTo>
                  <a:pt x="896" y="6"/>
                </a:lnTo>
                <a:lnTo>
                  <a:pt x="847" y="12"/>
                </a:lnTo>
                <a:lnTo>
                  <a:pt x="797" y="22"/>
                </a:lnTo>
                <a:lnTo>
                  <a:pt x="749" y="33"/>
                </a:lnTo>
                <a:lnTo>
                  <a:pt x="703" y="46"/>
                </a:lnTo>
                <a:lnTo>
                  <a:pt x="655" y="62"/>
                </a:lnTo>
                <a:lnTo>
                  <a:pt x="610" y="79"/>
                </a:lnTo>
                <a:lnTo>
                  <a:pt x="566" y="100"/>
                </a:lnTo>
                <a:lnTo>
                  <a:pt x="522" y="121"/>
                </a:lnTo>
                <a:lnTo>
                  <a:pt x="482" y="146"/>
                </a:lnTo>
                <a:lnTo>
                  <a:pt x="440" y="171"/>
                </a:lnTo>
                <a:lnTo>
                  <a:pt x="401" y="200"/>
                </a:lnTo>
                <a:lnTo>
                  <a:pt x="363" y="229"/>
                </a:lnTo>
                <a:lnTo>
                  <a:pt x="326" y="261"/>
                </a:lnTo>
                <a:lnTo>
                  <a:pt x="292" y="294"/>
                </a:lnTo>
                <a:lnTo>
                  <a:pt x="259" y="329"/>
                </a:lnTo>
                <a:lnTo>
                  <a:pt x="229" y="365"/>
                </a:lnTo>
                <a:lnTo>
                  <a:pt x="198" y="403"/>
                </a:lnTo>
                <a:lnTo>
                  <a:pt x="171" y="442"/>
                </a:lnTo>
                <a:lnTo>
                  <a:pt x="144" y="482"/>
                </a:lnTo>
                <a:lnTo>
                  <a:pt x="121" y="524"/>
                </a:lnTo>
                <a:lnTo>
                  <a:pt x="98" y="566"/>
                </a:lnTo>
                <a:lnTo>
                  <a:pt x="79" y="611"/>
                </a:lnTo>
                <a:lnTo>
                  <a:pt x="60" y="657"/>
                </a:lnTo>
                <a:lnTo>
                  <a:pt x="44" y="703"/>
                </a:lnTo>
                <a:lnTo>
                  <a:pt x="31" y="751"/>
                </a:lnTo>
                <a:lnTo>
                  <a:pt x="19" y="799"/>
                </a:lnTo>
                <a:lnTo>
                  <a:pt x="12" y="849"/>
                </a:lnTo>
                <a:lnTo>
                  <a:pt x="4" y="898"/>
                </a:lnTo>
                <a:lnTo>
                  <a:pt x="0" y="948"/>
                </a:lnTo>
                <a:lnTo>
                  <a:pt x="0" y="1000"/>
                </a:lnTo>
                <a:lnTo>
                  <a:pt x="16" y="1000"/>
                </a:lnTo>
                <a:lnTo>
                  <a:pt x="17" y="948"/>
                </a:lnTo>
                <a:lnTo>
                  <a:pt x="21" y="898"/>
                </a:lnTo>
                <a:lnTo>
                  <a:pt x="27" y="850"/>
                </a:lnTo>
                <a:lnTo>
                  <a:pt x="35" y="802"/>
                </a:lnTo>
                <a:lnTo>
                  <a:pt x="46" y="755"/>
                </a:lnTo>
                <a:lnTo>
                  <a:pt x="60" y="708"/>
                </a:lnTo>
                <a:lnTo>
                  <a:pt x="75" y="662"/>
                </a:lnTo>
                <a:lnTo>
                  <a:pt x="92" y="618"/>
                </a:lnTo>
                <a:lnTo>
                  <a:pt x="113" y="574"/>
                </a:lnTo>
                <a:lnTo>
                  <a:pt x="135" y="532"/>
                </a:lnTo>
                <a:lnTo>
                  <a:pt x="158" y="490"/>
                </a:lnTo>
                <a:lnTo>
                  <a:pt x="184" y="451"/>
                </a:lnTo>
                <a:lnTo>
                  <a:pt x="211" y="413"/>
                </a:lnTo>
                <a:lnTo>
                  <a:pt x="240" y="375"/>
                </a:lnTo>
                <a:lnTo>
                  <a:pt x="271" y="340"/>
                </a:lnTo>
                <a:lnTo>
                  <a:pt x="303" y="305"/>
                </a:lnTo>
                <a:lnTo>
                  <a:pt x="338" y="273"/>
                </a:lnTo>
                <a:lnTo>
                  <a:pt x="374" y="242"/>
                </a:lnTo>
                <a:lnTo>
                  <a:pt x="411" y="211"/>
                </a:lnTo>
                <a:lnTo>
                  <a:pt x="449" y="185"/>
                </a:lnTo>
                <a:lnTo>
                  <a:pt x="490" y="160"/>
                </a:lnTo>
                <a:lnTo>
                  <a:pt x="530" y="135"/>
                </a:lnTo>
                <a:lnTo>
                  <a:pt x="572" y="114"/>
                </a:lnTo>
                <a:lnTo>
                  <a:pt x="616" y="94"/>
                </a:lnTo>
                <a:lnTo>
                  <a:pt x="660" y="77"/>
                </a:lnTo>
                <a:lnTo>
                  <a:pt x="706" y="62"/>
                </a:lnTo>
                <a:lnTo>
                  <a:pt x="753" y="48"/>
                </a:lnTo>
                <a:lnTo>
                  <a:pt x="800" y="37"/>
                </a:lnTo>
                <a:lnTo>
                  <a:pt x="848" y="27"/>
                </a:lnTo>
                <a:lnTo>
                  <a:pt x="898" y="22"/>
                </a:lnTo>
                <a:lnTo>
                  <a:pt x="948" y="18"/>
                </a:lnTo>
                <a:lnTo>
                  <a:pt x="998" y="18"/>
                </a:lnTo>
                <a:lnTo>
                  <a:pt x="998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31"/>
          <p:cNvSpPr/>
          <p:nvPr/>
        </p:nvSpPr>
        <p:spPr>
          <a:xfrm>
            <a:off x="5737320" y="803160"/>
            <a:ext cx="12600" cy="2295720"/>
          </a:xfrm>
          <a:custGeom>
            <a:avLst/>
            <a:gdLst>
              <a:gd name="textAreaLeft" fmla="*/ 0 w 12600"/>
              <a:gd name="textAreaRight" fmla="*/ 12960 w 12600"/>
              <a:gd name="textAreaTop" fmla="*/ 0 h 2295720"/>
              <a:gd name="textAreaBottom" fmla="*/ 2296080 h 2295720"/>
            </a:gdLst>
            <a:ahLst/>
            <a:rect l="textAreaLeft" t="textAreaTop" r="textAreaRight" b="textAreaBottom"/>
            <a:pathLst>
              <a:path w="8" h="1446">
                <a:moveTo>
                  <a:pt x="4" y="0"/>
                </a:moveTo>
                <a:lnTo>
                  <a:pt x="0" y="0"/>
                </a:lnTo>
                <a:lnTo>
                  <a:pt x="0" y="1446"/>
                </a:lnTo>
                <a:lnTo>
                  <a:pt x="8" y="144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32"/>
          <p:cNvSpPr/>
          <p:nvPr/>
        </p:nvSpPr>
        <p:spPr>
          <a:xfrm>
            <a:off x="2230560" y="1168560"/>
            <a:ext cx="12600" cy="1930320"/>
          </a:xfrm>
          <a:custGeom>
            <a:avLst/>
            <a:gdLst>
              <a:gd name="textAreaLeft" fmla="*/ 0 w 12600"/>
              <a:gd name="textAreaRight" fmla="*/ 12960 w 12600"/>
              <a:gd name="textAreaTop" fmla="*/ 0 h 1930320"/>
              <a:gd name="textAreaBottom" fmla="*/ 1930680 h 1930320"/>
            </a:gdLst>
            <a:ahLst/>
            <a:rect l="textAreaLeft" t="textAreaTop" r="textAreaRight" b="textAreaBottom"/>
            <a:pathLst>
              <a:path w="8" h="1216">
                <a:moveTo>
                  <a:pt x="4" y="0"/>
                </a:moveTo>
                <a:lnTo>
                  <a:pt x="0" y="0"/>
                </a:lnTo>
                <a:lnTo>
                  <a:pt x="0" y="1216"/>
                </a:lnTo>
                <a:lnTo>
                  <a:pt x="8" y="12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34"/>
          <p:cNvSpPr/>
          <p:nvPr/>
        </p:nvSpPr>
        <p:spPr>
          <a:xfrm>
            <a:off x="7705800" y="5097600"/>
            <a:ext cx="27000" cy="12600"/>
          </a:xfrm>
          <a:custGeom>
            <a:avLst/>
            <a:gdLst>
              <a:gd name="textAreaLeft" fmla="*/ 0 w 27000"/>
              <a:gd name="textAreaRight" fmla="*/ 27360 w 270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" h="8">
                <a:moveTo>
                  <a:pt x="0" y="8"/>
                </a:moveTo>
                <a:lnTo>
                  <a:pt x="17" y="0"/>
                </a:lnTo>
                <a:lnTo>
                  <a:pt x="17" y="2"/>
                </a:lnTo>
                <a:lnTo>
                  <a:pt x="15" y="2"/>
                </a:lnTo>
                <a:lnTo>
                  <a:pt x="15" y="4"/>
                </a:lnTo>
                <a:lnTo>
                  <a:pt x="13" y="4"/>
                </a:lnTo>
                <a:lnTo>
                  <a:pt x="13" y="4"/>
                </a:lnTo>
                <a:lnTo>
                  <a:pt x="11" y="6"/>
                </a:lnTo>
                <a:lnTo>
                  <a:pt x="11" y="6"/>
                </a:lnTo>
                <a:lnTo>
                  <a:pt x="9" y="8"/>
                </a:lnTo>
                <a:lnTo>
                  <a:pt x="0" y="8"/>
                </a:lnTo>
                <a:close/>
              </a:path>
            </a:pathLst>
          </a:custGeom>
          <a:solidFill>
            <a:srgbClr val="01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35"/>
          <p:cNvSpPr/>
          <p:nvPr/>
        </p:nvSpPr>
        <p:spPr>
          <a:xfrm>
            <a:off x="7677000" y="5084640"/>
            <a:ext cx="71640" cy="25560"/>
          </a:xfrm>
          <a:custGeom>
            <a:avLst/>
            <a:gdLst>
              <a:gd name="textAreaLeft" fmla="*/ 0 w 71640"/>
              <a:gd name="textAreaRight" fmla="*/ 72000 w 716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45" h="16">
                <a:moveTo>
                  <a:pt x="0" y="16"/>
                </a:moveTo>
                <a:lnTo>
                  <a:pt x="8" y="12"/>
                </a:lnTo>
                <a:lnTo>
                  <a:pt x="45" y="0"/>
                </a:lnTo>
                <a:lnTo>
                  <a:pt x="45" y="2"/>
                </a:lnTo>
                <a:lnTo>
                  <a:pt x="41" y="4"/>
                </a:lnTo>
                <a:lnTo>
                  <a:pt x="39" y="6"/>
                </a:lnTo>
                <a:lnTo>
                  <a:pt x="37" y="8"/>
                </a:lnTo>
                <a:lnTo>
                  <a:pt x="35" y="10"/>
                </a:lnTo>
                <a:lnTo>
                  <a:pt x="33" y="12"/>
                </a:lnTo>
                <a:lnTo>
                  <a:pt x="29" y="14"/>
                </a:lnTo>
                <a:lnTo>
                  <a:pt x="27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2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36"/>
          <p:cNvSpPr/>
          <p:nvPr/>
        </p:nvSpPr>
        <p:spPr>
          <a:xfrm>
            <a:off x="7650000" y="5073480"/>
            <a:ext cx="109800" cy="36720"/>
          </a:xfrm>
          <a:custGeom>
            <a:avLst/>
            <a:gdLst>
              <a:gd name="textAreaLeft" fmla="*/ 0 w 109800"/>
              <a:gd name="textAreaRight" fmla="*/ 110160 w 1098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69" h="23">
                <a:moveTo>
                  <a:pt x="35" y="23"/>
                </a:moveTo>
                <a:lnTo>
                  <a:pt x="52" y="15"/>
                </a:lnTo>
                <a:lnTo>
                  <a:pt x="56" y="13"/>
                </a:lnTo>
                <a:lnTo>
                  <a:pt x="58" y="11"/>
                </a:lnTo>
                <a:lnTo>
                  <a:pt x="60" y="9"/>
                </a:lnTo>
                <a:lnTo>
                  <a:pt x="62" y="7"/>
                </a:lnTo>
                <a:lnTo>
                  <a:pt x="64" y="6"/>
                </a:lnTo>
                <a:lnTo>
                  <a:pt x="65" y="4"/>
                </a:lnTo>
                <a:lnTo>
                  <a:pt x="67" y="2"/>
                </a:lnTo>
                <a:lnTo>
                  <a:pt x="69" y="0"/>
                </a:lnTo>
                <a:lnTo>
                  <a:pt x="25" y="15"/>
                </a:lnTo>
                <a:lnTo>
                  <a:pt x="0" y="23"/>
                </a:lnTo>
                <a:lnTo>
                  <a:pt x="35" y="23"/>
                </a:lnTo>
                <a:close/>
              </a:path>
            </a:pathLst>
          </a:custGeom>
          <a:solidFill>
            <a:srgbClr val="039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37"/>
          <p:cNvSpPr/>
          <p:nvPr/>
        </p:nvSpPr>
        <p:spPr>
          <a:xfrm>
            <a:off x="7623000" y="5064120"/>
            <a:ext cx="140040" cy="46080"/>
          </a:xfrm>
          <a:custGeom>
            <a:avLst/>
            <a:gdLst>
              <a:gd name="textAreaLeft" fmla="*/ 0 w 140040"/>
              <a:gd name="textAreaRight" fmla="*/ 140400 w 1400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88" h="29">
                <a:moveTo>
                  <a:pt x="34" y="29"/>
                </a:moveTo>
                <a:lnTo>
                  <a:pt x="42" y="25"/>
                </a:lnTo>
                <a:lnTo>
                  <a:pt x="79" y="13"/>
                </a:lnTo>
                <a:lnTo>
                  <a:pt x="81" y="12"/>
                </a:lnTo>
                <a:lnTo>
                  <a:pt x="82" y="10"/>
                </a:lnTo>
                <a:lnTo>
                  <a:pt x="84" y="8"/>
                </a:lnTo>
                <a:lnTo>
                  <a:pt x="84" y="8"/>
                </a:lnTo>
                <a:lnTo>
                  <a:pt x="86" y="6"/>
                </a:lnTo>
                <a:lnTo>
                  <a:pt x="86" y="4"/>
                </a:lnTo>
                <a:lnTo>
                  <a:pt x="88" y="2"/>
                </a:lnTo>
                <a:lnTo>
                  <a:pt x="88" y="0"/>
                </a:lnTo>
                <a:lnTo>
                  <a:pt x="40" y="17"/>
                </a:lnTo>
                <a:lnTo>
                  <a:pt x="0" y="29"/>
                </a:lnTo>
                <a:lnTo>
                  <a:pt x="34" y="29"/>
                </a:lnTo>
                <a:close/>
              </a:path>
            </a:pathLst>
          </a:custGeom>
          <a:solidFill>
            <a:srgbClr val="049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38"/>
          <p:cNvSpPr/>
          <p:nvPr/>
        </p:nvSpPr>
        <p:spPr>
          <a:xfrm>
            <a:off x="7596360" y="1519200"/>
            <a:ext cx="166680" cy="3591000"/>
          </a:xfrm>
          <a:custGeom>
            <a:avLst/>
            <a:gdLst>
              <a:gd name="textAreaLeft" fmla="*/ 0 w 166680"/>
              <a:gd name="textAreaRight" fmla="*/ 167040 w 166680"/>
              <a:gd name="textAreaTop" fmla="*/ 0 h 3591000"/>
              <a:gd name="textAreaBottom" fmla="*/ 3591360 h 3591000"/>
            </a:gdLst>
            <a:ahLst/>
            <a:rect l="textAreaLeft" t="textAreaTop" r="textAreaRight" b="textAreaBottom"/>
            <a:pathLst>
              <a:path w="105" h="2262">
                <a:moveTo>
                  <a:pt x="34" y="2262"/>
                </a:moveTo>
                <a:lnTo>
                  <a:pt x="59" y="2254"/>
                </a:lnTo>
                <a:lnTo>
                  <a:pt x="103" y="2239"/>
                </a:lnTo>
                <a:lnTo>
                  <a:pt x="103" y="2239"/>
                </a:lnTo>
                <a:lnTo>
                  <a:pt x="103" y="2237"/>
                </a:lnTo>
                <a:lnTo>
                  <a:pt x="105" y="2235"/>
                </a:lnTo>
                <a:lnTo>
                  <a:pt x="105" y="2233"/>
                </a:lnTo>
                <a:lnTo>
                  <a:pt x="105" y="2233"/>
                </a:lnTo>
                <a:lnTo>
                  <a:pt x="105" y="2231"/>
                </a:lnTo>
                <a:lnTo>
                  <a:pt x="105" y="2229"/>
                </a:lnTo>
                <a:lnTo>
                  <a:pt x="105" y="2229"/>
                </a:lnTo>
                <a:lnTo>
                  <a:pt x="55" y="2245"/>
                </a:lnTo>
                <a:lnTo>
                  <a:pt x="0" y="2262"/>
                </a:lnTo>
                <a:lnTo>
                  <a:pt x="0" y="2262"/>
                </a:lnTo>
                <a:lnTo>
                  <a:pt x="34" y="2262"/>
                </a:lnTo>
                <a:close/>
                <a:moveTo>
                  <a:pt x="74" y="1"/>
                </a:moveTo>
                <a:lnTo>
                  <a:pt x="67" y="0"/>
                </a:lnTo>
                <a:lnTo>
                  <a:pt x="67" y="0"/>
                </a:lnTo>
                <a:lnTo>
                  <a:pt x="69" y="0"/>
                </a:lnTo>
                <a:lnTo>
                  <a:pt x="71" y="0"/>
                </a:lnTo>
                <a:lnTo>
                  <a:pt x="71" y="0"/>
                </a:lnTo>
                <a:lnTo>
                  <a:pt x="73" y="1"/>
                </a:lnTo>
                <a:lnTo>
                  <a:pt x="73" y="1"/>
                </a:lnTo>
                <a:lnTo>
                  <a:pt x="74" y="1"/>
                </a:lnTo>
                <a:lnTo>
                  <a:pt x="74" y="1"/>
                </a:lnTo>
                <a:close/>
              </a:path>
            </a:pathLst>
          </a:custGeom>
          <a:solidFill>
            <a:srgbClr val="05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39"/>
          <p:cNvSpPr/>
          <p:nvPr/>
        </p:nvSpPr>
        <p:spPr>
          <a:xfrm>
            <a:off x="7562880" y="1519200"/>
            <a:ext cx="200160" cy="3591000"/>
          </a:xfrm>
          <a:custGeom>
            <a:avLst/>
            <a:gdLst>
              <a:gd name="textAreaLeft" fmla="*/ 0 w 200160"/>
              <a:gd name="textAreaRight" fmla="*/ 200520 w 200160"/>
              <a:gd name="textAreaTop" fmla="*/ 0 h 3591000"/>
              <a:gd name="textAreaBottom" fmla="*/ 3591360 h 3591000"/>
            </a:gdLst>
            <a:ahLst/>
            <a:rect l="textAreaLeft" t="textAreaTop" r="textAreaRight" b="textAreaBottom"/>
            <a:pathLst>
              <a:path w="126" h="2262">
                <a:moveTo>
                  <a:pt x="38" y="2262"/>
                </a:moveTo>
                <a:lnTo>
                  <a:pt x="78" y="2250"/>
                </a:lnTo>
                <a:lnTo>
                  <a:pt x="126" y="2233"/>
                </a:lnTo>
                <a:lnTo>
                  <a:pt x="126" y="2233"/>
                </a:lnTo>
                <a:lnTo>
                  <a:pt x="126" y="2231"/>
                </a:lnTo>
                <a:lnTo>
                  <a:pt x="126" y="2229"/>
                </a:lnTo>
                <a:lnTo>
                  <a:pt x="126" y="2229"/>
                </a:lnTo>
                <a:lnTo>
                  <a:pt x="126" y="2227"/>
                </a:lnTo>
                <a:lnTo>
                  <a:pt x="126" y="2225"/>
                </a:lnTo>
                <a:lnTo>
                  <a:pt x="126" y="2225"/>
                </a:lnTo>
                <a:lnTo>
                  <a:pt x="126" y="2223"/>
                </a:lnTo>
                <a:lnTo>
                  <a:pt x="76" y="2241"/>
                </a:lnTo>
                <a:lnTo>
                  <a:pt x="19" y="2256"/>
                </a:lnTo>
                <a:lnTo>
                  <a:pt x="0" y="2262"/>
                </a:lnTo>
                <a:lnTo>
                  <a:pt x="38" y="2262"/>
                </a:lnTo>
                <a:close/>
                <a:moveTo>
                  <a:pt x="99" y="9"/>
                </a:moveTo>
                <a:lnTo>
                  <a:pt x="76" y="1"/>
                </a:lnTo>
                <a:lnTo>
                  <a:pt x="80" y="0"/>
                </a:lnTo>
                <a:lnTo>
                  <a:pt x="84" y="0"/>
                </a:lnTo>
                <a:lnTo>
                  <a:pt x="88" y="0"/>
                </a:lnTo>
                <a:lnTo>
                  <a:pt x="92" y="0"/>
                </a:lnTo>
                <a:lnTo>
                  <a:pt x="94" y="1"/>
                </a:lnTo>
                <a:lnTo>
                  <a:pt x="95" y="3"/>
                </a:lnTo>
                <a:lnTo>
                  <a:pt x="97" y="5"/>
                </a:lnTo>
                <a:lnTo>
                  <a:pt x="99" y="9"/>
                </a:lnTo>
                <a:close/>
              </a:path>
            </a:pathLst>
          </a:custGeom>
          <a:solidFill>
            <a:srgbClr val="06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40"/>
          <p:cNvSpPr/>
          <p:nvPr/>
        </p:nvSpPr>
        <p:spPr>
          <a:xfrm>
            <a:off x="7534440" y="1519200"/>
            <a:ext cx="228600" cy="3591000"/>
          </a:xfrm>
          <a:custGeom>
            <a:avLst/>
            <a:gdLst>
              <a:gd name="textAreaLeft" fmla="*/ 0 w 228600"/>
              <a:gd name="textAreaRight" fmla="*/ 228960 w 228600"/>
              <a:gd name="textAreaTop" fmla="*/ 0 h 3591000"/>
              <a:gd name="textAreaBottom" fmla="*/ 3591360 h 3591000"/>
            </a:gdLst>
            <a:ahLst/>
            <a:rect l="textAreaLeft" t="textAreaTop" r="textAreaRight" b="textAreaBottom"/>
            <a:pathLst>
              <a:path w="144" h="2262">
                <a:moveTo>
                  <a:pt x="113" y="1"/>
                </a:moveTo>
                <a:lnTo>
                  <a:pt x="106" y="0"/>
                </a:lnTo>
                <a:lnTo>
                  <a:pt x="104" y="0"/>
                </a:lnTo>
                <a:lnTo>
                  <a:pt x="100" y="0"/>
                </a:lnTo>
                <a:lnTo>
                  <a:pt x="98" y="0"/>
                </a:lnTo>
                <a:lnTo>
                  <a:pt x="96" y="0"/>
                </a:lnTo>
                <a:lnTo>
                  <a:pt x="94" y="1"/>
                </a:lnTo>
                <a:lnTo>
                  <a:pt x="92" y="1"/>
                </a:lnTo>
                <a:lnTo>
                  <a:pt x="89" y="3"/>
                </a:lnTo>
                <a:lnTo>
                  <a:pt x="87" y="3"/>
                </a:lnTo>
                <a:lnTo>
                  <a:pt x="92" y="5"/>
                </a:lnTo>
                <a:lnTo>
                  <a:pt x="117" y="13"/>
                </a:lnTo>
                <a:lnTo>
                  <a:pt x="117" y="11"/>
                </a:lnTo>
                <a:lnTo>
                  <a:pt x="117" y="9"/>
                </a:lnTo>
                <a:lnTo>
                  <a:pt x="117" y="7"/>
                </a:lnTo>
                <a:lnTo>
                  <a:pt x="117" y="7"/>
                </a:lnTo>
                <a:lnTo>
                  <a:pt x="115" y="5"/>
                </a:lnTo>
                <a:lnTo>
                  <a:pt x="115" y="3"/>
                </a:lnTo>
                <a:lnTo>
                  <a:pt x="115" y="3"/>
                </a:lnTo>
                <a:lnTo>
                  <a:pt x="113" y="1"/>
                </a:lnTo>
                <a:close/>
                <a:moveTo>
                  <a:pt x="39" y="2262"/>
                </a:moveTo>
                <a:lnTo>
                  <a:pt x="39" y="2262"/>
                </a:lnTo>
                <a:lnTo>
                  <a:pt x="94" y="2245"/>
                </a:lnTo>
                <a:lnTo>
                  <a:pt x="144" y="2229"/>
                </a:lnTo>
                <a:lnTo>
                  <a:pt x="144" y="2227"/>
                </a:lnTo>
                <a:lnTo>
                  <a:pt x="144" y="2227"/>
                </a:lnTo>
                <a:lnTo>
                  <a:pt x="144" y="2225"/>
                </a:lnTo>
                <a:lnTo>
                  <a:pt x="144" y="2225"/>
                </a:lnTo>
                <a:lnTo>
                  <a:pt x="144" y="2223"/>
                </a:lnTo>
                <a:lnTo>
                  <a:pt x="144" y="2223"/>
                </a:lnTo>
                <a:lnTo>
                  <a:pt x="144" y="2222"/>
                </a:lnTo>
                <a:lnTo>
                  <a:pt x="142" y="2222"/>
                </a:lnTo>
                <a:lnTo>
                  <a:pt x="142" y="2220"/>
                </a:lnTo>
                <a:lnTo>
                  <a:pt x="142" y="2220"/>
                </a:lnTo>
                <a:lnTo>
                  <a:pt x="142" y="2220"/>
                </a:lnTo>
                <a:lnTo>
                  <a:pt x="142" y="2220"/>
                </a:lnTo>
                <a:lnTo>
                  <a:pt x="142" y="2220"/>
                </a:lnTo>
                <a:lnTo>
                  <a:pt x="142" y="2220"/>
                </a:lnTo>
                <a:lnTo>
                  <a:pt x="142" y="2220"/>
                </a:lnTo>
                <a:lnTo>
                  <a:pt x="142" y="2220"/>
                </a:lnTo>
                <a:lnTo>
                  <a:pt x="92" y="2237"/>
                </a:lnTo>
                <a:lnTo>
                  <a:pt x="37" y="2252"/>
                </a:lnTo>
                <a:lnTo>
                  <a:pt x="0" y="2260"/>
                </a:lnTo>
                <a:lnTo>
                  <a:pt x="2" y="2260"/>
                </a:lnTo>
                <a:lnTo>
                  <a:pt x="2" y="2260"/>
                </a:lnTo>
                <a:lnTo>
                  <a:pt x="4" y="2260"/>
                </a:lnTo>
                <a:lnTo>
                  <a:pt x="4" y="2262"/>
                </a:lnTo>
                <a:lnTo>
                  <a:pt x="6" y="2262"/>
                </a:lnTo>
                <a:lnTo>
                  <a:pt x="6" y="2262"/>
                </a:lnTo>
                <a:lnTo>
                  <a:pt x="8" y="2262"/>
                </a:lnTo>
                <a:lnTo>
                  <a:pt x="10" y="2262"/>
                </a:lnTo>
                <a:lnTo>
                  <a:pt x="39" y="2262"/>
                </a:lnTo>
                <a:close/>
              </a:path>
            </a:pathLst>
          </a:custGeom>
          <a:solidFill>
            <a:srgbClr val="07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41"/>
          <p:cNvSpPr/>
          <p:nvPr/>
        </p:nvSpPr>
        <p:spPr>
          <a:xfrm>
            <a:off x="7520040" y="1521000"/>
            <a:ext cx="243000" cy="3589200"/>
          </a:xfrm>
          <a:custGeom>
            <a:avLst/>
            <a:gdLst>
              <a:gd name="textAreaLeft" fmla="*/ 0 w 243000"/>
              <a:gd name="textAreaRight" fmla="*/ 243360 w 243000"/>
              <a:gd name="textAreaTop" fmla="*/ 0 h 3589200"/>
              <a:gd name="textAreaBottom" fmla="*/ 3589560 h 3589200"/>
            </a:gdLst>
            <a:ahLst/>
            <a:rect l="textAreaLeft" t="textAreaTop" r="textAreaRight" b="textAreaBottom"/>
            <a:pathLst>
              <a:path w="153" h="2261">
                <a:moveTo>
                  <a:pt x="126" y="8"/>
                </a:moveTo>
                <a:lnTo>
                  <a:pt x="103" y="0"/>
                </a:lnTo>
                <a:lnTo>
                  <a:pt x="101" y="0"/>
                </a:lnTo>
                <a:lnTo>
                  <a:pt x="99" y="0"/>
                </a:lnTo>
                <a:lnTo>
                  <a:pt x="98" y="2"/>
                </a:lnTo>
                <a:lnTo>
                  <a:pt x="96" y="2"/>
                </a:lnTo>
                <a:lnTo>
                  <a:pt x="94" y="2"/>
                </a:lnTo>
                <a:lnTo>
                  <a:pt x="92" y="4"/>
                </a:lnTo>
                <a:lnTo>
                  <a:pt x="90" y="4"/>
                </a:lnTo>
                <a:lnTo>
                  <a:pt x="90" y="6"/>
                </a:lnTo>
                <a:lnTo>
                  <a:pt x="99" y="8"/>
                </a:lnTo>
                <a:lnTo>
                  <a:pt x="126" y="18"/>
                </a:lnTo>
                <a:lnTo>
                  <a:pt x="126" y="16"/>
                </a:lnTo>
                <a:lnTo>
                  <a:pt x="126" y="14"/>
                </a:lnTo>
                <a:lnTo>
                  <a:pt x="126" y="14"/>
                </a:lnTo>
                <a:lnTo>
                  <a:pt x="126" y="12"/>
                </a:lnTo>
                <a:lnTo>
                  <a:pt x="126" y="10"/>
                </a:lnTo>
                <a:lnTo>
                  <a:pt x="126" y="10"/>
                </a:lnTo>
                <a:lnTo>
                  <a:pt x="126" y="8"/>
                </a:lnTo>
                <a:lnTo>
                  <a:pt x="126" y="8"/>
                </a:lnTo>
                <a:close/>
                <a:moveTo>
                  <a:pt x="27" y="2261"/>
                </a:moveTo>
                <a:lnTo>
                  <a:pt x="46" y="2255"/>
                </a:lnTo>
                <a:lnTo>
                  <a:pt x="103" y="2240"/>
                </a:lnTo>
                <a:lnTo>
                  <a:pt x="153" y="2222"/>
                </a:lnTo>
                <a:lnTo>
                  <a:pt x="153" y="2222"/>
                </a:lnTo>
                <a:lnTo>
                  <a:pt x="153" y="2222"/>
                </a:lnTo>
                <a:lnTo>
                  <a:pt x="153" y="2221"/>
                </a:lnTo>
                <a:lnTo>
                  <a:pt x="153" y="2221"/>
                </a:lnTo>
                <a:lnTo>
                  <a:pt x="153" y="2221"/>
                </a:lnTo>
                <a:lnTo>
                  <a:pt x="153" y="2221"/>
                </a:lnTo>
                <a:lnTo>
                  <a:pt x="153" y="2221"/>
                </a:lnTo>
                <a:lnTo>
                  <a:pt x="151" y="2221"/>
                </a:lnTo>
                <a:lnTo>
                  <a:pt x="151" y="2219"/>
                </a:lnTo>
                <a:lnTo>
                  <a:pt x="151" y="2219"/>
                </a:lnTo>
                <a:lnTo>
                  <a:pt x="151" y="2217"/>
                </a:lnTo>
                <a:lnTo>
                  <a:pt x="151" y="2217"/>
                </a:lnTo>
                <a:lnTo>
                  <a:pt x="149" y="2217"/>
                </a:lnTo>
                <a:lnTo>
                  <a:pt x="149" y="2215"/>
                </a:lnTo>
                <a:lnTo>
                  <a:pt x="149" y="2215"/>
                </a:lnTo>
                <a:lnTo>
                  <a:pt x="149" y="2215"/>
                </a:lnTo>
                <a:lnTo>
                  <a:pt x="99" y="2230"/>
                </a:lnTo>
                <a:lnTo>
                  <a:pt x="44" y="2247"/>
                </a:lnTo>
                <a:lnTo>
                  <a:pt x="0" y="2257"/>
                </a:lnTo>
                <a:lnTo>
                  <a:pt x="2" y="2257"/>
                </a:lnTo>
                <a:lnTo>
                  <a:pt x="4" y="2257"/>
                </a:lnTo>
                <a:lnTo>
                  <a:pt x="5" y="2259"/>
                </a:lnTo>
                <a:lnTo>
                  <a:pt x="9" y="2259"/>
                </a:lnTo>
                <a:lnTo>
                  <a:pt x="11" y="2259"/>
                </a:lnTo>
                <a:lnTo>
                  <a:pt x="13" y="2259"/>
                </a:lnTo>
                <a:lnTo>
                  <a:pt x="15" y="2261"/>
                </a:lnTo>
                <a:lnTo>
                  <a:pt x="19" y="2261"/>
                </a:lnTo>
                <a:lnTo>
                  <a:pt x="27" y="2261"/>
                </a:lnTo>
                <a:close/>
              </a:path>
            </a:pathLst>
          </a:custGeom>
          <a:solidFill>
            <a:srgbClr val="08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42"/>
          <p:cNvSpPr/>
          <p:nvPr/>
        </p:nvSpPr>
        <p:spPr>
          <a:xfrm>
            <a:off x="7504200" y="1523880"/>
            <a:ext cx="255600" cy="3583080"/>
          </a:xfrm>
          <a:custGeom>
            <a:avLst/>
            <a:gdLst>
              <a:gd name="textAreaLeft" fmla="*/ 0 w 255600"/>
              <a:gd name="textAreaRight" fmla="*/ 255600 w 255600"/>
              <a:gd name="textAreaTop" fmla="*/ 0 h 3583080"/>
              <a:gd name="textAreaBottom" fmla="*/ 3583440 h 3583080"/>
            </a:gdLst>
            <a:ahLst/>
            <a:rect l="textAreaLeft" t="textAreaTop" r="textAreaRight" b="textAreaBottom"/>
            <a:pathLst>
              <a:path w="161" h="2257">
                <a:moveTo>
                  <a:pt x="136" y="10"/>
                </a:moveTo>
                <a:lnTo>
                  <a:pt x="111" y="2"/>
                </a:lnTo>
                <a:lnTo>
                  <a:pt x="106" y="0"/>
                </a:lnTo>
                <a:lnTo>
                  <a:pt x="104" y="0"/>
                </a:lnTo>
                <a:lnTo>
                  <a:pt x="102" y="2"/>
                </a:lnTo>
                <a:lnTo>
                  <a:pt x="100" y="2"/>
                </a:lnTo>
                <a:lnTo>
                  <a:pt x="98" y="4"/>
                </a:lnTo>
                <a:lnTo>
                  <a:pt x="98" y="4"/>
                </a:lnTo>
                <a:lnTo>
                  <a:pt x="96" y="6"/>
                </a:lnTo>
                <a:lnTo>
                  <a:pt x="94" y="6"/>
                </a:lnTo>
                <a:lnTo>
                  <a:pt x="94" y="6"/>
                </a:lnTo>
                <a:lnTo>
                  <a:pt x="108" y="10"/>
                </a:lnTo>
                <a:lnTo>
                  <a:pt x="134" y="20"/>
                </a:lnTo>
                <a:lnTo>
                  <a:pt x="134" y="18"/>
                </a:lnTo>
                <a:lnTo>
                  <a:pt x="134" y="18"/>
                </a:lnTo>
                <a:lnTo>
                  <a:pt x="136" y="16"/>
                </a:lnTo>
                <a:lnTo>
                  <a:pt x="136" y="14"/>
                </a:lnTo>
                <a:lnTo>
                  <a:pt x="136" y="14"/>
                </a:lnTo>
                <a:lnTo>
                  <a:pt x="136" y="12"/>
                </a:lnTo>
                <a:lnTo>
                  <a:pt x="136" y="12"/>
                </a:lnTo>
                <a:lnTo>
                  <a:pt x="136" y="10"/>
                </a:lnTo>
                <a:close/>
                <a:moveTo>
                  <a:pt x="19" y="2257"/>
                </a:moveTo>
                <a:lnTo>
                  <a:pt x="56" y="2249"/>
                </a:lnTo>
                <a:lnTo>
                  <a:pt x="111" y="2234"/>
                </a:lnTo>
                <a:lnTo>
                  <a:pt x="161" y="2217"/>
                </a:lnTo>
                <a:lnTo>
                  <a:pt x="161" y="2215"/>
                </a:lnTo>
                <a:lnTo>
                  <a:pt x="159" y="2215"/>
                </a:lnTo>
                <a:lnTo>
                  <a:pt x="159" y="2213"/>
                </a:lnTo>
                <a:lnTo>
                  <a:pt x="159" y="2213"/>
                </a:lnTo>
                <a:lnTo>
                  <a:pt x="157" y="2211"/>
                </a:lnTo>
                <a:lnTo>
                  <a:pt x="157" y="2211"/>
                </a:lnTo>
                <a:lnTo>
                  <a:pt x="157" y="2209"/>
                </a:lnTo>
                <a:lnTo>
                  <a:pt x="156" y="2207"/>
                </a:lnTo>
                <a:lnTo>
                  <a:pt x="108" y="2224"/>
                </a:lnTo>
                <a:lnTo>
                  <a:pt x="54" y="2240"/>
                </a:lnTo>
                <a:lnTo>
                  <a:pt x="0" y="2251"/>
                </a:lnTo>
                <a:lnTo>
                  <a:pt x="2" y="2253"/>
                </a:lnTo>
                <a:lnTo>
                  <a:pt x="6" y="2253"/>
                </a:lnTo>
                <a:lnTo>
                  <a:pt x="8" y="2255"/>
                </a:lnTo>
                <a:lnTo>
                  <a:pt x="10" y="2255"/>
                </a:lnTo>
                <a:lnTo>
                  <a:pt x="12" y="2255"/>
                </a:lnTo>
                <a:lnTo>
                  <a:pt x="15" y="2257"/>
                </a:lnTo>
                <a:lnTo>
                  <a:pt x="17" y="2257"/>
                </a:lnTo>
                <a:lnTo>
                  <a:pt x="19" y="2257"/>
                </a:lnTo>
                <a:close/>
              </a:path>
            </a:pathLst>
          </a:custGeom>
          <a:solidFill>
            <a:srgbClr val="09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43"/>
          <p:cNvSpPr/>
          <p:nvPr/>
        </p:nvSpPr>
        <p:spPr>
          <a:xfrm>
            <a:off x="7491240" y="1530360"/>
            <a:ext cx="265320" cy="3573360"/>
          </a:xfrm>
          <a:custGeom>
            <a:avLst/>
            <a:gdLst>
              <a:gd name="textAreaLeft" fmla="*/ 0 w 265320"/>
              <a:gd name="textAreaRight" fmla="*/ 265680 w 265320"/>
              <a:gd name="textAreaTop" fmla="*/ 0 h 3573360"/>
              <a:gd name="textAreaBottom" fmla="*/ 3573720 h 3573360"/>
            </a:gdLst>
            <a:ahLst/>
            <a:rect l="textAreaLeft" t="textAreaTop" r="textAreaRight" b="textAreaBottom"/>
            <a:pathLst>
              <a:path w="167" h="2251">
                <a:moveTo>
                  <a:pt x="144" y="12"/>
                </a:moveTo>
                <a:lnTo>
                  <a:pt x="117" y="2"/>
                </a:lnTo>
                <a:lnTo>
                  <a:pt x="108" y="0"/>
                </a:lnTo>
                <a:lnTo>
                  <a:pt x="106" y="0"/>
                </a:lnTo>
                <a:lnTo>
                  <a:pt x="104" y="0"/>
                </a:lnTo>
                <a:lnTo>
                  <a:pt x="104" y="2"/>
                </a:lnTo>
                <a:lnTo>
                  <a:pt x="102" y="2"/>
                </a:lnTo>
                <a:lnTo>
                  <a:pt x="102" y="2"/>
                </a:lnTo>
                <a:lnTo>
                  <a:pt x="100" y="2"/>
                </a:lnTo>
                <a:lnTo>
                  <a:pt x="100" y="4"/>
                </a:lnTo>
                <a:lnTo>
                  <a:pt x="100" y="4"/>
                </a:lnTo>
                <a:lnTo>
                  <a:pt x="100" y="4"/>
                </a:lnTo>
                <a:lnTo>
                  <a:pt x="98" y="4"/>
                </a:lnTo>
                <a:lnTo>
                  <a:pt x="98" y="4"/>
                </a:lnTo>
                <a:lnTo>
                  <a:pt x="98" y="4"/>
                </a:lnTo>
                <a:lnTo>
                  <a:pt x="98" y="6"/>
                </a:lnTo>
                <a:lnTo>
                  <a:pt x="98" y="6"/>
                </a:lnTo>
                <a:lnTo>
                  <a:pt x="96" y="6"/>
                </a:lnTo>
                <a:lnTo>
                  <a:pt x="96" y="6"/>
                </a:lnTo>
                <a:lnTo>
                  <a:pt x="116" y="12"/>
                </a:lnTo>
                <a:lnTo>
                  <a:pt x="140" y="19"/>
                </a:lnTo>
                <a:lnTo>
                  <a:pt x="140" y="19"/>
                </a:lnTo>
                <a:lnTo>
                  <a:pt x="142" y="17"/>
                </a:lnTo>
                <a:lnTo>
                  <a:pt x="142" y="17"/>
                </a:lnTo>
                <a:lnTo>
                  <a:pt x="142" y="16"/>
                </a:lnTo>
                <a:lnTo>
                  <a:pt x="142" y="14"/>
                </a:lnTo>
                <a:lnTo>
                  <a:pt x="142" y="14"/>
                </a:lnTo>
                <a:lnTo>
                  <a:pt x="144" y="12"/>
                </a:lnTo>
                <a:lnTo>
                  <a:pt x="144" y="12"/>
                </a:lnTo>
                <a:close/>
                <a:moveTo>
                  <a:pt x="18" y="2251"/>
                </a:moveTo>
                <a:lnTo>
                  <a:pt x="62" y="2241"/>
                </a:lnTo>
                <a:lnTo>
                  <a:pt x="117" y="2224"/>
                </a:lnTo>
                <a:lnTo>
                  <a:pt x="167" y="2209"/>
                </a:lnTo>
                <a:lnTo>
                  <a:pt x="165" y="2207"/>
                </a:lnTo>
                <a:lnTo>
                  <a:pt x="165" y="2207"/>
                </a:lnTo>
                <a:lnTo>
                  <a:pt x="165" y="2205"/>
                </a:lnTo>
                <a:lnTo>
                  <a:pt x="164" y="2203"/>
                </a:lnTo>
                <a:lnTo>
                  <a:pt x="164" y="2203"/>
                </a:lnTo>
                <a:lnTo>
                  <a:pt x="164" y="2201"/>
                </a:lnTo>
                <a:lnTo>
                  <a:pt x="162" y="2201"/>
                </a:lnTo>
                <a:lnTo>
                  <a:pt x="162" y="2199"/>
                </a:lnTo>
                <a:lnTo>
                  <a:pt x="116" y="2216"/>
                </a:lnTo>
                <a:lnTo>
                  <a:pt x="60" y="2232"/>
                </a:lnTo>
                <a:lnTo>
                  <a:pt x="4" y="2243"/>
                </a:lnTo>
                <a:lnTo>
                  <a:pt x="0" y="2245"/>
                </a:lnTo>
                <a:lnTo>
                  <a:pt x="2" y="2245"/>
                </a:lnTo>
                <a:lnTo>
                  <a:pt x="4" y="2247"/>
                </a:lnTo>
                <a:lnTo>
                  <a:pt x="6" y="2247"/>
                </a:lnTo>
                <a:lnTo>
                  <a:pt x="8" y="2247"/>
                </a:lnTo>
                <a:lnTo>
                  <a:pt x="10" y="2249"/>
                </a:lnTo>
                <a:lnTo>
                  <a:pt x="14" y="2249"/>
                </a:lnTo>
                <a:lnTo>
                  <a:pt x="16" y="2251"/>
                </a:lnTo>
                <a:lnTo>
                  <a:pt x="18" y="2251"/>
                </a:lnTo>
                <a:close/>
              </a:path>
            </a:pathLst>
          </a:custGeom>
          <a:solidFill>
            <a:srgbClr val="0a9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44"/>
          <p:cNvSpPr/>
          <p:nvPr/>
        </p:nvSpPr>
        <p:spPr>
          <a:xfrm>
            <a:off x="7480440" y="1533600"/>
            <a:ext cx="271440" cy="3564000"/>
          </a:xfrm>
          <a:custGeom>
            <a:avLst/>
            <a:gdLst>
              <a:gd name="textAreaLeft" fmla="*/ 0 w 271440"/>
              <a:gd name="textAreaRight" fmla="*/ 271800 w 271440"/>
              <a:gd name="textAreaTop" fmla="*/ 0 h 3564000"/>
              <a:gd name="textAreaBottom" fmla="*/ 3564360 h 3564000"/>
            </a:gdLst>
            <a:ahLst/>
            <a:rect l="textAreaLeft" t="textAreaTop" r="textAreaRight" b="textAreaBottom"/>
            <a:pathLst>
              <a:path w="171" h="2245">
                <a:moveTo>
                  <a:pt x="149" y="14"/>
                </a:moveTo>
                <a:lnTo>
                  <a:pt x="123" y="4"/>
                </a:lnTo>
                <a:lnTo>
                  <a:pt x="109" y="0"/>
                </a:lnTo>
                <a:lnTo>
                  <a:pt x="107" y="0"/>
                </a:lnTo>
                <a:lnTo>
                  <a:pt x="107" y="0"/>
                </a:lnTo>
                <a:lnTo>
                  <a:pt x="107" y="0"/>
                </a:lnTo>
                <a:lnTo>
                  <a:pt x="107" y="2"/>
                </a:lnTo>
                <a:lnTo>
                  <a:pt x="107" y="2"/>
                </a:lnTo>
                <a:lnTo>
                  <a:pt x="107" y="2"/>
                </a:lnTo>
                <a:lnTo>
                  <a:pt x="107" y="2"/>
                </a:lnTo>
                <a:lnTo>
                  <a:pt x="107" y="2"/>
                </a:lnTo>
                <a:lnTo>
                  <a:pt x="105" y="2"/>
                </a:lnTo>
                <a:lnTo>
                  <a:pt x="105" y="4"/>
                </a:lnTo>
                <a:lnTo>
                  <a:pt x="103" y="4"/>
                </a:lnTo>
                <a:lnTo>
                  <a:pt x="103" y="4"/>
                </a:lnTo>
                <a:lnTo>
                  <a:pt x="101" y="6"/>
                </a:lnTo>
                <a:lnTo>
                  <a:pt x="101" y="6"/>
                </a:lnTo>
                <a:lnTo>
                  <a:pt x="100" y="8"/>
                </a:lnTo>
                <a:lnTo>
                  <a:pt x="100" y="8"/>
                </a:lnTo>
                <a:lnTo>
                  <a:pt x="121" y="14"/>
                </a:lnTo>
                <a:lnTo>
                  <a:pt x="146" y="23"/>
                </a:lnTo>
                <a:lnTo>
                  <a:pt x="146" y="23"/>
                </a:lnTo>
                <a:lnTo>
                  <a:pt x="146" y="23"/>
                </a:lnTo>
                <a:lnTo>
                  <a:pt x="146" y="23"/>
                </a:lnTo>
                <a:lnTo>
                  <a:pt x="146" y="23"/>
                </a:lnTo>
                <a:lnTo>
                  <a:pt x="146" y="21"/>
                </a:lnTo>
                <a:lnTo>
                  <a:pt x="146" y="21"/>
                </a:lnTo>
                <a:lnTo>
                  <a:pt x="146" y="21"/>
                </a:lnTo>
                <a:lnTo>
                  <a:pt x="147" y="21"/>
                </a:lnTo>
                <a:lnTo>
                  <a:pt x="147" y="21"/>
                </a:lnTo>
                <a:lnTo>
                  <a:pt x="147" y="19"/>
                </a:lnTo>
                <a:lnTo>
                  <a:pt x="147" y="19"/>
                </a:lnTo>
                <a:lnTo>
                  <a:pt x="147" y="17"/>
                </a:lnTo>
                <a:lnTo>
                  <a:pt x="149" y="17"/>
                </a:lnTo>
                <a:lnTo>
                  <a:pt x="149" y="15"/>
                </a:lnTo>
                <a:lnTo>
                  <a:pt x="149" y="15"/>
                </a:lnTo>
                <a:lnTo>
                  <a:pt x="149" y="14"/>
                </a:lnTo>
                <a:close/>
                <a:moveTo>
                  <a:pt x="15" y="2245"/>
                </a:moveTo>
                <a:lnTo>
                  <a:pt x="69" y="2234"/>
                </a:lnTo>
                <a:lnTo>
                  <a:pt x="123" y="2218"/>
                </a:lnTo>
                <a:lnTo>
                  <a:pt x="171" y="2201"/>
                </a:lnTo>
                <a:lnTo>
                  <a:pt x="171" y="2201"/>
                </a:lnTo>
                <a:lnTo>
                  <a:pt x="171" y="2199"/>
                </a:lnTo>
                <a:lnTo>
                  <a:pt x="169" y="2199"/>
                </a:lnTo>
                <a:lnTo>
                  <a:pt x="169" y="2197"/>
                </a:lnTo>
                <a:lnTo>
                  <a:pt x="169" y="2197"/>
                </a:lnTo>
                <a:lnTo>
                  <a:pt x="169" y="2195"/>
                </a:lnTo>
                <a:lnTo>
                  <a:pt x="167" y="2195"/>
                </a:lnTo>
                <a:lnTo>
                  <a:pt x="167" y="2193"/>
                </a:lnTo>
                <a:lnTo>
                  <a:pt x="121" y="2209"/>
                </a:lnTo>
                <a:lnTo>
                  <a:pt x="65" y="2224"/>
                </a:lnTo>
                <a:lnTo>
                  <a:pt x="9" y="2237"/>
                </a:lnTo>
                <a:lnTo>
                  <a:pt x="0" y="2239"/>
                </a:lnTo>
                <a:lnTo>
                  <a:pt x="2" y="2239"/>
                </a:lnTo>
                <a:lnTo>
                  <a:pt x="4" y="2241"/>
                </a:lnTo>
                <a:lnTo>
                  <a:pt x="5" y="2241"/>
                </a:lnTo>
                <a:lnTo>
                  <a:pt x="7" y="2243"/>
                </a:lnTo>
                <a:lnTo>
                  <a:pt x="9" y="2243"/>
                </a:lnTo>
                <a:lnTo>
                  <a:pt x="11" y="2245"/>
                </a:lnTo>
                <a:lnTo>
                  <a:pt x="13" y="2245"/>
                </a:lnTo>
                <a:lnTo>
                  <a:pt x="15" y="2245"/>
                </a:lnTo>
                <a:close/>
              </a:path>
            </a:pathLst>
          </a:custGeom>
          <a:solidFill>
            <a:srgbClr val="0b9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45"/>
          <p:cNvSpPr/>
          <p:nvPr/>
        </p:nvSpPr>
        <p:spPr>
          <a:xfrm>
            <a:off x="7470720" y="1539720"/>
            <a:ext cx="277920" cy="3554640"/>
          </a:xfrm>
          <a:custGeom>
            <a:avLst/>
            <a:gdLst>
              <a:gd name="textAreaLeft" fmla="*/ 0 w 277920"/>
              <a:gd name="textAreaRight" fmla="*/ 278280 w 277920"/>
              <a:gd name="textAreaTop" fmla="*/ 0 h 3554640"/>
              <a:gd name="textAreaBottom" fmla="*/ 3554640 h 3554640"/>
            </a:gdLst>
            <a:ahLst/>
            <a:rect l="textAreaLeft" t="textAreaTop" r="textAreaRight" b="textAreaBottom"/>
            <a:pathLst>
              <a:path w="175" h="2239">
                <a:moveTo>
                  <a:pt x="153" y="13"/>
                </a:moveTo>
                <a:lnTo>
                  <a:pt x="129" y="6"/>
                </a:lnTo>
                <a:lnTo>
                  <a:pt x="109" y="0"/>
                </a:lnTo>
                <a:lnTo>
                  <a:pt x="109" y="2"/>
                </a:lnTo>
                <a:lnTo>
                  <a:pt x="107" y="2"/>
                </a:lnTo>
                <a:lnTo>
                  <a:pt x="107" y="4"/>
                </a:lnTo>
                <a:lnTo>
                  <a:pt x="106" y="4"/>
                </a:lnTo>
                <a:lnTo>
                  <a:pt x="104" y="6"/>
                </a:lnTo>
                <a:lnTo>
                  <a:pt x="104" y="6"/>
                </a:lnTo>
                <a:lnTo>
                  <a:pt x="102" y="8"/>
                </a:lnTo>
                <a:lnTo>
                  <a:pt x="102" y="8"/>
                </a:lnTo>
                <a:lnTo>
                  <a:pt x="125" y="15"/>
                </a:lnTo>
                <a:lnTo>
                  <a:pt x="150" y="23"/>
                </a:lnTo>
                <a:lnTo>
                  <a:pt x="150" y="21"/>
                </a:lnTo>
                <a:lnTo>
                  <a:pt x="150" y="21"/>
                </a:lnTo>
                <a:lnTo>
                  <a:pt x="150" y="21"/>
                </a:lnTo>
                <a:lnTo>
                  <a:pt x="152" y="21"/>
                </a:lnTo>
                <a:lnTo>
                  <a:pt x="152" y="19"/>
                </a:lnTo>
                <a:lnTo>
                  <a:pt x="152" y="19"/>
                </a:lnTo>
                <a:lnTo>
                  <a:pt x="152" y="19"/>
                </a:lnTo>
                <a:lnTo>
                  <a:pt x="153" y="17"/>
                </a:lnTo>
                <a:lnTo>
                  <a:pt x="153" y="17"/>
                </a:lnTo>
                <a:lnTo>
                  <a:pt x="153" y="17"/>
                </a:lnTo>
                <a:lnTo>
                  <a:pt x="153" y="17"/>
                </a:lnTo>
                <a:lnTo>
                  <a:pt x="153" y="15"/>
                </a:lnTo>
                <a:lnTo>
                  <a:pt x="153" y="15"/>
                </a:lnTo>
                <a:lnTo>
                  <a:pt x="153" y="15"/>
                </a:lnTo>
                <a:lnTo>
                  <a:pt x="153" y="15"/>
                </a:lnTo>
                <a:lnTo>
                  <a:pt x="153" y="13"/>
                </a:lnTo>
                <a:close/>
                <a:moveTo>
                  <a:pt x="13" y="2239"/>
                </a:moveTo>
                <a:lnTo>
                  <a:pt x="17" y="2237"/>
                </a:lnTo>
                <a:lnTo>
                  <a:pt x="73" y="2226"/>
                </a:lnTo>
                <a:lnTo>
                  <a:pt x="129" y="2210"/>
                </a:lnTo>
                <a:lnTo>
                  <a:pt x="175" y="2193"/>
                </a:lnTo>
                <a:lnTo>
                  <a:pt x="175" y="2193"/>
                </a:lnTo>
                <a:lnTo>
                  <a:pt x="175" y="2191"/>
                </a:lnTo>
                <a:lnTo>
                  <a:pt x="173" y="2191"/>
                </a:lnTo>
                <a:lnTo>
                  <a:pt x="173" y="2189"/>
                </a:lnTo>
                <a:lnTo>
                  <a:pt x="173" y="2189"/>
                </a:lnTo>
                <a:lnTo>
                  <a:pt x="171" y="2187"/>
                </a:lnTo>
                <a:lnTo>
                  <a:pt x="171" y="2187"/>
                </a:lnTo>
                <a:lnTo>
                  <a:pt x="171" y="2185"/>
                </a:lnTo>
                <a:lnTo>
                  <a:pt x="125" y="2201"/>
                </a:lnTo>
                <a:lnTo>
                  <a:pt x="71" y="2216"/>
                </a:lnTo>
                <a:lnTo>
                  <a:pt x="15" y="2230"/>
                </a:lnTo>
                <a:lnTo>
                  <a:pt x="0" y="2232"/>
                </a:lnTo>
                <a:lnTo>
                  <a:pt x="2" y="2233"/>
                </a:lnTo>
                <a:lnTo>
                  <a:pt x="2" y="2233"/>
                </a:lnTo>
                <a:lnTo>
                  <a:pt x="4" y="2235"/>
                </a:lnTo>
                <a:lnTo>
                  <a:pt x="6" y="2235"/>
                </a:lnTo>
                <a:lnTo>
                  <a:pt x="8" y="2235"/>
                </a:lnTo>
                <a:lnTo>
                  <a:pt x="10" y="2237"/>
                </a:lnTo>
                <a:lnTo>
                  <a:pt x="11" y="2237"/>
                </a:lnTo>
                <a:lnTo>
                  <a:pt x="13" y="2239"/>
                </a:lnTo>
                <a:close/>
              </a:path>
            </a:pathLst>
          </a:custGeom>
          <a:solidFill>
            <a:srgbClr val="0c9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46"/>
          <p:cNvSpPr/>
          <p:nvPr/>
        </p:nvSpPr>
        <p:spPr>
          <a:xfrm>
            <a:off x="7461360" y="1546200"/>
            <a:ext cx="284040" cy="3541680"/>
          </a:xfrm>
          <a:custGeom>
            <a:avLst/>
            <a:gdLst>
              <a:gd name="textAreaLeft" fmla="*/ 0 w 284040"/>
              <a:gd name="textAreaRight" fmla="*/ 284400 w 284040"/>
              <a:gd name="textAreaTop" fmla="*/ 0 h 3541680"/>
              <a:gd name="textAreaBottom" fmla="*/ 3542040 h 3541680"/>
            </a:gdLst>
            <a:ahLst/>
            <a:rect l="textAreaLeft" t="textAreaTop" r="textAreaRight" b="textAreaBottom"/>
            <a:pathLst>
              <a:path w="179" h="2231">
                <a:moveTo>
                  <a:pt x="158" y="15"/>
                </a:moveTo>
                <a:lnTo>
                  <a:pt x="133" y="6"/>
                </a:lnTo>
                <a:lnTo>
                  <a:pt x="112" y="0"/>
                </a:lnTo>
                <a:lnTo>
                  <a:pt x="110" y="2"/>
                </a:lnTo>
                <a:lnTo>
                  <a:pt x="110" y="2"/>
                </a:lnTo>
                <a:lnTo>
                  <a:pt x="108" y="4"/>
                </a:lnTo>
                <a:lnTo>
                  <a:pt x="108" y="4"/>
                </a:lnTo>
                <a:lnTo>
                  <a:pt x="106" y="4"/>
                </a:lnTo>
                <a:lnTo>
                  <a:pt x="106" y="6"/>
                </a:lnTo>
                <a:lnTo>
                  <a:pt x="104" y="6"/>
                </a:lnTo>
                <a:lnTo>
                  <a:pt x="102" y="7"/>
                </a:lnTo>
                <a:lnTo>
                  <a:pt x="129" y="15"/>
                </a:lnTo>
                <a:lnTo>
                  <a:pt x="152" y="23"/>
                </a:lnTo>
                <a:lnTo>
                  <a:pt x="154" y="21"/>
                </a:lnTo>
                <a:lnTo>
                  <a:pt x="154" y="21"/>
                </a:lnTo>
                <a:lnTo>
                  <a:pt x="154" y="19"/>
                </a:lnTo>
                <a:lnTo>
                  <a:pt x="156" y="19"/>
                </a:lnTo>
                <a:lnTo>
                  <a:pt x="156" y="17"/>
                </a:lnTo>
                <a:lnTo>
                  <a:pt x="156" y="17"/>
                </a:lnTo>
                <a:lnTo>
                  <a:pt x="158" y="15"/>
                </a:lnTo>
                <a:lnTo>
                  <a:pt x="158" y="15"/>
                </a:lnTo>
                <a:close/>
                <a:moveTo>
                  <a:pt x="12" y="2231"/>
                </a:moveTo>
                <a:lnTo>
                  <a:pt x="21" y="2229"/>
                </a:lnTo>
                <a:lnTo>
                  <a:pt x="77" y="2216"/>
                </a:lnTo>
                <a:lnTo>
                  <a:pt x="133" y="2201"/>
                </a:lnTo>
                <a:lnTo>
                  <a:pt x="179" y="2185"/>
                </a:lnTo>
                <a:lnTo>
                  <a:pt x="179" y="2185"/>
                </a:lnTo>
                <a:lnTo>
                  <a:pt x="177" y="2183"/>
                </a:lnTo>
                <a:lnTo>
                  <a:pt x="177" y="2183"/>
                </a:lnTo>
                <a:lnTo>
                  <a:pt x="177" y="2181"/>
                </a:lnTo>
                <a:lnTo>
                  <a:pt x="175" y="2180"/>
                </a:lnTo>
                <a:lnTo>
                  <a:pt x="175" y="2180"/>
                </a:lnTo>
                <a:lnTo>
                  <a:pt x="175" y="2178"/>
                </a:lnTo>
                <a:lnTo>
                  <a:pt x="173" y="2178"/>
                </a:lnTo>
                <a:lnTo>
                  <a:pt x="129" y="2193"/>
                </a:lnTo>
                <a:lnTo>
                  <a:pt x="75" y="2208"/>
                </a:lnTo>
                <a:lnTo>
                  <a:pt x="19" y="2220"/>
                </a:lnTo>
                <a:lnTo>
                  <a:pt x="0" y="2224"/>
                </a:lnTo>
                <a:lnTo>
                  <a:pt x="0" y="2226"/>
                </a:lnTo>
                <a:lnTo>
                  <a:pt x="2" y="2226"/>
                </a:lnTo>
                <a:lnTo>
                  <a:pt x="4" y="2228"/>
                </a:lnTo>
                <a:lnTo>
                  <a:pt x="6" y="2228"/>
                </a:lnTo>
                <a:lnTo>
                  <a:pt x="8" y="2229"/>
                </a:lnTo>
                <a:lnTo>
                  <a:pt x="8" y="2229"/>
                </a:lnTo>
                <a:lnTo>
                  <a:pt x="10" y="2231"/>
                </a:lnTo>
                <a:lnTo>
                  <a:pt x="12" y="2231"/>
                </a:lnTo>
                <a:close/>
              </a:path>
            </a:pathLst>
          </a:custGeom>
          <a:solidFill>
            <a:srgbClr val="0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47"/>
          <p:cNvSpPr/>
          <p:nvPr/>
        </p:nvSpPr>
        <p:spPr>
          <a:xfrm>
            <a:off x="7451640" y="1552680"/>
            <a:ext cx="290520" cy="3530520"/>
          </a:xfrm>
          <a:custGeom>
            <a:avLst/>
            <a:gdLst>
              <a:gd name="textAreaLeft" fmla="*/ 0 w 290520"/>
              <a:gd name="textAreaRight" fmla="*/ 290520 w 290520"/>
              <a:gd name="textAreaTop" fmla="*/ 0 h 3530520"/>
              <a:gd name="textAreaBottom" fmla="*/ 3530880 h 3530520"/>
            </a:gdLst>
            <a:ahLst/>
            <a:rect l="textAreaLeft" t="textAreaTop" r="textAreaRight" b="textAreaBottom"/>
            <a:pathLst>
              <a:path w="183" h="2224">
                <a:moveTo>
                  <a:pt x="162" y="15"/>
                </a:moveTo>
                <a:lnTo>
                  <a:pt x="137" y="7"/>
                </a:lnTo>
                <a:lnTo>
                  <a:pt x="114" y="0"/>
                </a:lnTo>
                <a:lnTo>
                  <a:pt x="112" y="0"/>
                </a:lnTo>
                <a:lnTo>
                  <a:pt x="112" y="2"/>
                </a:lnTo>
                <a:lnTo>
                  <a:pt x="110" y="2"/>
                </a:lnTo>
                <a:lnTo>
                  <a:pt x="108" y="3"/>
                </a:lnTo>
                <a:lnTo>
                  <a:pt x="108" y="3"/>
                </a:lnTo>
                <a:lnTo>
                  <a:pt x="106" y="5"/>
                </a:lnTo>
                <a:lnTo>
                  <a:pt x="106" y="5"/>
                </a:lnTo>
                <a:lnTo>
                  <a:pt x="104" y="7"/>
                </a:lnTo>
                <a:lnTo>
                  <a:pt x="135" y="15"/>
                </a:lnTo>
                <a:lnTo>
                  <a:pt x="156" y="23"/>
                </a:lnTo>
                <a:lnTo>
                  <a:pt x="156" y="21"/>
                </a:lnTo>
                <a:lnTo>
                  <a:pt x="156" y="21"/>
                </a:lnTo>
                <a:lnTo>
                  <a:pt x="158" y="19"/>
                </a:lnTo>
                <a:lnTo>
                  <a:pt x="158" y="19"/>
                </a:lnTo>
                <a:lnTo>
                  <a:pt x="160" y="17"/>
                </a:lnTo>
                <a:lnTo>
                  <a:pt x="160" y="17"/>
                </a:lnTo>
                <a:lnTo>
                  <a:pt x="160" y="15"/>
                </a:lnTo>
                <a:lnTo>
                  <a:pt x="162" y="15"/>
                </a:lnTo>
                <a:close/>
                <a:moveTo>
                  <a:pt x="12" y="2224"/>
                </a:moveTo>
                <a:lnTo>
                  <a:pt x="27" y="2222"/>
                </a:lnTo>
                <a:lnTo>
                  <a:pt x="83" y="2208"/>
                </a:lnTo>
                <a:lnTo>
                  <a:pt x="137" y="2193"/>
                </a:lnTo>
                <a:lnTo>
                  <a:pt x="183" y="2177"/>
                </a:lnTo>
                <a:lnTo>
                  <a:pt x="181" y="2176"/>
                </a:lnTo>
                <a:lnTo>
                  <a:pt x="181" y="2176"/>
                </a:lnTo>
                <a:lnTo>
                  <a:pt x="181" y="2174"/>
                </a:lnTo>
                <a:lnTo>
                  <a:pt x="179" y="2174"/>
                </a:lnTo>
                <a:lnTo>
                  <a:pt x="179" y="2172"/>
                </a:lnTo>
                <a:lnTo>
                  <a:pt x="179" y="2172"/>
                </a:lnTo>
                <a:lnTo>
                  <a:pt x="177" y="2170"/>
                </a:lnTo>
                <a:lnTo>
                  <a:pt x="177" y="2170"/>
                </a:lnTo>
                <a:lnTo>
                  <a:pt x="135" y="2183"/>
                </a:lnTo>
                <a:lnTo>
                  <a:pt x="81" y="2199"/>
                </a:lnTo>
                <a:lnTo>
                  <a:pt x="25" y="2212"/>
                </a:lnTo>
                <a:lnTo>
                  <a:pt x="0" y="2216"/>
                </a:lnTo>
                <a:lnTo>
                  <a:pt x="0" y="2218"/>
                </a:lnTo>
                <a:lnTo>
                  <a:pt x="2" y="2218"/>
                </a:lnTo>
                <a:lnTo>
                  <a:pt x="4" y="2220"/>
                </a:lnTo>
                <a:lnTo>
                  <a:pt x="6" y="2220"/>
                </a:lnTo>
                <a:lnTo>
                  <a:pt x="6" y="2222"/>
                </a:lnTo>
                <a:lnTo>
                  <a:pt x="8" y="2222"/>
                </a:lnTo>
                <a:lnTo>
                  <a:pt x="10" y="2224"/>
                </a:lnTo>
                <a:lnTo>
                  <a:pt x="12" y="2224"/>
                </a:lnTo>
                <a:close/>
              </a:path>
            </a:pathLst>
          </a:custGeom>
          <a:solidFill>
            <a:srgbClr val="0e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48"/>
          <p:cNvSpPr/>
          <p:nvPr/>
        </p:nvSpPr>
        <p:spPr>
          <a:xfrm>
            <a:off x="7443720" y="1557360"/>
            <a:ext cx="292320" cy="351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3519360"/>
              <a:gd name="textAreaBottom" fmla="*/ 3519720 h 3519360"/>
            </a:gdLst>
            <a:ahLst/>
            <a:rect l="textAreaLeft" t="textAreaTop" r="textAreaRight" b="textAreaBottom"/>
            <a:pathLst>
              <a:path w="184" h="2217">
                <a:moveTo>
                  <a:pt x="163" y="16"/>
                </a:moveTo>
                <a:lnTo>
                  <a:pt x="140" y="8"/>
                </a:lnTo>
                <a:lnTo>
                  <a:pt x="113" y="0"/>
                </a:lnTo>
                <a:lnTo>
                  <a:pt x="113" y="0"/>
                </a:lnTo>
                <a:lnTo>
                  <a:pt x="111" y="2"/>
                </a:lnTo>
                <a:lnTo>
                  <a:pt x="111" y="2"/>
                </a:lnTo>
                <a:lnTo>
                  <a:pt x="109" y="4"/>
                </a:lnTo>
                <a:lnTo>
                  <a:pt x="109" y="4"/>
                </a:lnTo>
                <a:lnTo>
                  <a:pt x="107" y="6"/>
                </a:lnTo>
                <a:lnTo>
                  <a:pt x="107" y="6"/>
                </a:lnTo>
                <a:lnTo>
                  <a:pt x="105" y="8"/>
                </a:lnTo>
                <a:lnTo>
                  <a:pt x="138" y="18"/>
                </a:lnTo>
                <a:lnTo>
                  <a:pt x="157" y="23"/>
                </a:lnTo>
                <a:lnTo>
                  <a:pt x="159" y="23"/>
                </a:lnTo>
                <a:lnTo>
                  <a:pt x="159" y="22"/>
                </a:lnTo>
                <a:lnTo>
                  <a:pt x="159" y="22"/>
                </a:lnTo>
                <a:lnTo>
                  <a:pt x="161" y="20"/>
                </a:lnTo>
                <a:lnTo>
                  <a:pt x="161" y="18"/>
                </a:lnTo>
                <a:lnTo>
                  <a:pt x="161" y="18"/>
                </a:lnTo>
                <a:lnTo>
                  <a:pt x="163" y="16"/>
                </a:lnTo>
                <a:lnTo>
                  <a:pt x="163" y="16"/>
                </a:lnTo>
                <a:close/>
                <a:moveTo>
                  <a:pt x="11" y="2217"/>
                </a:moveTo>
                <a:lnTo>
                  <a:pt x="30" y="2213"/>
                </a:lnTo>
                <a:lnTo>
                  <a:pt x="86" y="2201"/>
                </a:lnTo>
                <a:lnTo>
                  <a:pt x="140" y="2186"/>
                </a:lnTo>
                <a:lnTo>
                  <a:pt x="184" y="2171"/>
                </a:lnTo>
                <a:lnTo>
                  <a:pt x="184" y="2169"/>
                </a:lnTo>
                <a:lnTo>
                  <a:pt x="184" y="2169"/>
                </a:lnTo>
                <a:lnTo>
                  <a:pt x="182" y="2167"/>
                </a:lnTo>
                <a:lnTo>
                  <a:pt x="182" y="2167"/>
                </a:lnTo>
                <a:lnTo>
                  <a:pt x="182" y="2165"/>
                </a:lnTo>
                <a:lnTo>
                  <a:pt x="180" y="2165"/>
                </a:lnTo>
                <a:lnTo>
                  <a:pt x="180" y="2163"/>
                </a:lnTo>
                <a:lnTo>
                  <a:pt x="180" y="2163"/>
                </a:lnTo>
                <a:lnTo>
                  <a:pt x="138" y="2176"/>
                </a:lnTo>
                <a:lnTo>
                  <a:pt x="84" y="2192"/>
                </a:lnTo>
                <a:lnTo>
                  <a:pt x="28" y="2203"/>
                </a:lnTo>
                <a:lnTo>
                  <a:pt x="0" y="2209"/>
                </a:lnTo>
                <a:lnTo>
                  <a:pt x="2" y="2211"/>
                </a:lnTo>
                <a:lnTo>
                  <a:pt x="2" y="2211"/>
                </a:lnTo>
                <a:lnTo>
                  <a:pt x="4" y="2213"/>
                </a:lnTo>
                <a:lnTo>
                  <a:pt x="5" y="2213"/>
                </a:lnTo>
                <a:lnTo>
                  <a:pt x="5" y="2215"/>
                </a:lnTo>
                <a:lnTo>
                  <a:pt x="7" y="2215"/>
                </a:lnTo>
                <a:lnTo>
                  <a:pt x="9" y="2217"/>
                </a:lnTo>
                <a:lnTo>
                  <a:pt x="11" y="2217"/>
                </a:lnTo>
                <a:close/>
              </a:path>
            </a:pathLst>
          </a:custGeom>
          <a:solidFill>
            <a:srgbClr val="0f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49"/>
          <p:cNvSpPr/>
          <p:nvPr/>
        </p:nvSpPr>
        <p:spPr>
          <a:xfrm>
            <a:off x="7434360" y="1563840"/>
            <a:ext cx="298440" cy="3506760"/>
          </a:xfrm>
          <a:custGeom>
            <a:avLst/>
            <a:gdLst>
              <a:gd name="textAreaLeft" fmla="*/ 0 w 298440"/>
              <a:gd name="textAreaRight" fmla="*/ 298800 w 298440"/>
              <a:gd name="textAreaTop" fmla="*/ 0 h 3506760"/>
              <a:gd name="textAreaBottom" fmla="*/ 3507120 h 3506760"/>
            </a:gdLst>
            <a:ahLst/>
            <a:rect l="textAreaLeft" t="textAreaTop" r="textAreaRight" b="textAreaBottom"/>
            <a:pathLst>
              <a:path w="188" h="2209">
                <a:moveTo>
                  <a:pt x="167" y="16"/>
                </a:moveTo>
                <a:lnTo>
                  <a:pt x="146" y="8"/>
                </a:lnTo>
                <a:lnTo>
                  <a:pt x="115" y="0"/>
                </a:lnTo>
                <a:lnTo>
                  <a:pt x="115" y="0"/>
                </a:lnTo>
                <a:lnTo>
                  <a:pt x="113" y="2"/>
                </a:lnTo>
                <a:lnTo>
                  <a:pt x="113" y="2"/>
                </a:lnTo>
                <a:lnTo>
                  <a:pt x="111" y="4"/>
                </a:lnTo>
                <a:lnTo>
                  <a:pt x="109" y="4"/>
                </a:lnTo>
                <a:lnTo>
                  <a:pt x="109" y="6"/>
                </a:lnTo>
                <a:lnTo>
                  <a:pt x="107" y="6"/>
                </a:lnTo>
                <a:lnTo>
                  <a:pt x="107" y="8"/>
                </a:lnTo>
                <a:lnTo>
                  <a:pt x="142" y="18"/>
                </a:lnTo>
                <a:lnTo>
                  <a:pt x="161" y="23"/>
                </a:lnTo>
                <a:lnTo>
                  <a:pt x="161" y="23"/>
                </a:lnTo>
                <a:lnTo>
                  <a:pt x="161" y="21"/>
                </a:lnTo>
                <a:lnTo>
                  <a:pt x="163" y="21"/>
                </a:lnTo>
                <a:lnTo>
                  <a:pt x="163" y="19"/>
                </a:lnTo>
                <a:lnTo>
                  <a:pt x="165" y="19"/>
                </a:lnTo>
                <a:lnTo>
                  <a:pt x="165" y="18"/>
                </a:lnTo>
                <a:lnTo>
                  <a:pt x="165" y="18"/>
                </a:lnTo>
                <a:lnTo>
                  <a:pt x="167" y="16"/>
                </a:lnTo>
                <a:close/>
                <a:moveTo>
                  <a:pt x="11" y="2209"/>
                </a:moveTo>
                <a:lnTo>
                  <a:pt x="36" y="2205"/>
                </a:lnTo>
                <a:lnTo>
                  <a:pt x="92" y="2192"/>
                </a:lnTo>
                <a:lnTo>
                  <a:pt x="146" y="2176"/>
                </a:lnTo>
                <a:lnTo>
                  <a:pt x="188" y="2163"/>
                </a:lnTo>
                <a:lnTo>
                  <a:pt x="188" y="2161"/>
                </a:lnTo>
                <a:lnTo>
                  <a:pt x="186" y="2161"/>
                </a:lnTo>
                <a:lnTo>
                  <a:pt x="186" y="2159"/>
                </a:lnTo>
                <a:lnTo>
                  <a:pt x="186" y="2159"/>
                </a:lnTo>
                <a:lnTo>
                  <a:pt x="184" y="2157"/>
                </a:lnTo>
                <a:lnTo>
                  <a:pt x="184" y="2155"/>
                </a:lnTo>
                <a:lnTo>
                  <a:pt x="184" y="2155"/>
                </a:lnTo>
                <a:lnTo>
                  <a:pt x="182" y="2153"/>
                </a:lnTo>
                <a:lnTo>
                  <a:pt x="142" y="2169"/>
                </a:lnTo>
                <a:lnTo>
                  <a:pt x="88" y="2182"/>
                </a:lnTo>
                <a:lnTo>
                  <a:pt x="34" y="2195"/>
                </a:lnTo>
                <a:lnTo>
                  <a:pt x="0" y="2201"/>
                </a:lnTo>
                <a:lnTo>
                  <a:pt x="2" y="2203"/>
                </a:lnTo>
                <a:lnTo>
                  <a:pt x="4" y="2203"/>
                </a:lnTo>
                <a:lnTo>
                  <a:pt x="4" y="2205"/>
                </a:lnTo>
                <a:lnTo>
                  <a:pt x="6" y="2205"/>
                </a:lnTo>
                <a:lnTo>
                  <a:pt x="8" y="2207"/>
                </a:lnTo>
                <a:lnTo>
                  <a:pt x="8" y="2207"/>
                </a:lnTo>
                <a:lnTo>
                  <a:pt x="10" y="2209"/>
                </a:lnTo>
                <a:lnTo>
                  <a:pt x="11" y="2209"/>
                </a:lnTo>
                <a:close/>
              </a:path>
            </a:pathLst>
          </a:custGeom>
          <a:solidFill>
            <a:srgbClr val="10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50"/>
          <p:cNvSpPr/>
          <p:nvPr/>
        </p:nvSpPr>
        <p:spPr>
          <a:xfrm>
            <a:off x="7427880" y="1569960"/>
            <a:ext cx="301680" cy="3494160"/>
          </a:xfrm>
          <a:custGeom>
            <a:avLst/>
            <a:gdLst>
              <a:gd name="textAreaLeft" fmla="*/ 0 w 301680"/>
              <a:gd name="textAreaRight" fmla="*/ 302040 w 301680"/>
              <a:gd name="textAreaTop" fmla="*/ 0 h 3494160"/>
              <a:gd name="textAreaBottom" fmla="*/ 3494520 h 3494160"/>
            </a:gdLst>
            <a:ahLst/>
            <a:rect l="textAreaLeft" t="textAreaTop" r="textAreaRight" b="textAreaBottom"/>
            <a:pathLst>
              <a:path w="190" h="2201">
                <a:moveTo>
                  <a:pt x="167" y="15"/>
                </a:moveTo>
                <a:lnTo>
                  <a:pt x="148" y="10"/>
                </a:lnTo>
                <a:lnTo>
                  <a:pt x="115" y="0"/>
                </a:lnTo>
                <a:lnTo>
                  <a:pt x="113" y="0"/>
                </a:lnTo>
                <a:lnTo>
                  <a:pt x="113" y="2"/>
                </a:lnTo>
                <a:lnTo>
                  <a:pt x="111" y="2"/>
                </a:lnTo>
                <a:lnTo>
                  <a:pt x="111" y="4"/>
                </a:lnTo>
                <a:lnTo>
                  <a:pt x="109" y="4"/>
                </a:lnTo>
                <a:lnTo>
                  <a:pt x="109" y="6"/>
                </a:lnTo>
                <a:lnTo>
                  <a:pt x="108" y="6"/>
                </a:lnTo>
                <a:lnTo>
                  <a:pt x="106" y="8"/>
                </a:lnTo>
                <a:lnTo>
                  <a:pt x="144" y="17"/>
                </a:lnTo>
                <a:lnTo>
                  <a:pt x="161" y="23"/>
                </a:lnTo>
                <a:lnTo>
                  <a:pt x="163" y="23"/>
                </a:lnTo>
                <a:lnTo>
                  <a:pt x="163" y="21"/>
                </a:lnTo>
                <a:lnTo>
                  <a:pt x="163" y="21"/>
                </a:lnTo>
                <a:lnTo>
                  <a:pt x="165" y="19"/>
                </a:lnTo>
                <a:lnTo>
                  <a:pt x="165" y="19"/>
                </a:lnTo>
                <a:lnTo>
                  <a:pt x="165" y="17"/>
                </a:lnTo>
                <a:lnTo>
                  <a:pt x="167" y="17"/>
                </a:lnTo>
                <a:lnTo>
                  <a:pt x="167" y="15"/>
                </a:lnTo>
                <a:close/>
                <a:moveTo>
                  <a:pt x="10" y="2201"/>
                </a:moveTo>
                <a:lnTo>
                  <a:pt x="38" y="2195"/>
                </a:lnTo>
                <a:lnTo>
                  <a:pt x="94" y="2184"/>
                </a:lnTo>
                <a:lnTo>
                  <a:pt x="148" y="2168"/>
                </a:lnTo>
                <a:lnTo>
                  <a:pt x="190" y="2155"/>
                </a:lnTo>
                <a:lnTo>
                  <a:pt x="188" y="2153"/>
                </a:lnTo>
                <a:lnTo>
                  <a:pt x="188" y="2151"/>
                </a:lnTo>
                <a:lnTo>
                  <a:pt x="188" y="2151"/>
                </a:lnTo>
                <a:lnTo>
                  <a:pt x="186" y="2149"/>
                </a:lnTo>
                <a:lnTo>
                  <a:pt x="186" y="2149"/>
                </a:lnTo>
                <a:lnTo>
                  <a:pt x="186" y="2147"/>
                </a:lnTo>
                <a:lnTo>
                  <a:pt x="184" y="2147"/>
                </a:lnTo>
                <a:lnTo>
                  <a:pt x="184" y="2145"/>
                </a:lnTo>
                <a:lnTo>
                  <a:pt x="144" y="2159"/>
                </a:lnTo>
                <a:lnTo>
                  <a:pt x="92" y="2174"/>
                </a:lnTo>
                <a:lnTo>
                  <a:pt x="37" y="2188"/>
                </a:lnTo>
                <a:lnTo>
                  <a:pt x="0" y="2193"/>
                </a:lnTo>
                <a:lnTo>
                  <a:pt x="0" y="2195"/>
                </a:lnTo>
                <a:lnTo>
                  <a:pt x="2" y="2195"/>
                </a:lnTo>
                <a:lnTo>
                  <a:pt x="4" y="2197"/>
                </a:lnTo>
                <a:lnTo>
                  <a:pt x="4" y="2197"/>
                </a:lnTo>
                <a:lnTo>
                  <a:pt x="6" y="2199"/>
                </a:lnTo>
                <a:lnTo>
                  <a:pt x="8" y="2199"/>
                </a:lnTo>
                <a:lnTo>
                  <a:pt x="8" y="2201"/>
                </a:lnTo>
                <a:lnTo>
                  <a:pt x="10" y="2201"/>
                </a:lnTo>
                <a:close/>
              </a:path>
            </a:pathLst>
          </a:custGeom>
          <a:solidFill>
            <a:srgbClr val="11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51"/>
          <p:cNvSpPr/>
          <p:nvPr/>
        </p:nvSpPr>
        <p:spPr>
          <a:xfrm>
            <a:off x="7418520" y="1576440"/>
            <a:ext cx="304560" cy="3481200"/>
          </a:xfrm>
          <a:custGeom>
            <a:avLst/>
            <a:gdLst>
              <a:gd name="textAreaLeft" fmla="*/ 0 w 304560"/>
              <a:gd name="textAreaRight" fmla="*/ 304920 w 304560"/>
              <a:gd name="textAreaTop" fmla="*/ 0 h 3481200"/>
              <a:gd name="textAreaBottom" fmla="*/ 3481560 h 3481200"/>
            </a:gdLst>
            <a:ahLst/>
            <a:rect l="textAreaLeft" t="textAreaTop" r="textAreaRight" b="textAreaBottom"/>
            <a:pathLst>
              <a:path w="192" h="2193">
                <a:moveTo>
                  <a:pt x="171" y="15"/>
                </a:moveTo>
                <a:lnTo>
                  <a:pt x="152" y="10"/>
                </a:lnTo>
                <a:lnTo>
                  <a:pt x="117" y="0"/>
                </a:lnTo>
                <a:lnTo>
                  <a:pt x="115" y="0"/>
                </a:lnTo>
                <a:lnTo>
                  <a:pt x="115" y="2"/>
                </a:lnTo>
                <a:lnTo>
                  <a:pt x="114" y="2"/>
                </a:lnTo>
                <a:lnTo>
                  <a:pt x="114" y="4"/>
                </a:lnTo>
                <a:lnTo>
                  <a:pt x="112" y="4"/>
                </a:lnTo>
                <a:lnTo>
                  <a:pt x="110" y="6"/>
                </a:lnTo>
                <a:lnTo>
                  <a:pt x="110" y="6"/>
                </a:lnTo>
                <a:lnTo>
                  <a:pt x="108" y="8"/>
                </a:lnTo>
                <a:lnTo>
                  <a:pt x="150" y="19"/>
                </a:lnTo>
                <a:lnTo>
                  <a:pt x="165" y="23"/>
                </a:lnTo>
                <a:lnTo>
                  <a:pt x="165" y="23"/>
                </a:lnTo>
                <a:lnTo>
                  <a:pt x="165" y="21"/>
                </a:lnTo>
                <a:lnTo>
                  <a:pt x="167" y="21"/>
                </a:lnTo>
                <a:lnTo>
                  <a:pt x="167" y="19"/>
                </a:lnTo>
                <a:lnTo>
                  <a:pt x="169" y="19"/>
                </a:lnTo>
                <a:lnTo>
                  <a:pt x="169" y="17"/>
                </a:lnTo>
                <a:lnTo>
                  <a:pt x="169" y="17"/>
                </a:lnTo>
                <a:lnTo>
                  <a:pt x="171" y="15"/>
                </a:lnTo>
                <a:close/>
                <a:moveTo>
                  <a:pt x="10" y="2193"/>
                </a:moveTo>
                <a:lnTo>
                  <a:pt x="44" y="2187"/>
                </a:lnTo>
                <a:lnTo>
                  <a:pt x="98" y="2174"/>
                </a:lnTo>
                <a:lnTo>
                  <a:pt x="152" y="2161"/>
                </a:lnTo>
                <a:lnTo>
                  <a:pt x="192" y="2145"/>
                </a:lnTo>
                <a:lnTo>
                  <a:pt x="192" y="2145"/>
                </a:lnTo>
                <a:lnTo>
                  <a:pt x="192" y="2143"/>
                </a:lnTo>
                <a:lnTo>
                  <a:pt x="190" y="2143"/>
                </a:lnTo>
                <a:lnTo>
                  <a:pt x="190" y="2141"/>
                </a:lnTo>
                <a:lnTo>
                  <a:pt x="190" y="2141"/>
                </a:lnTo>
                <a:lnTo>
                  <a:pt x="188" y="2139"/>
                </a:lnTo>
                <a:lnTo>
                  <a:pt x="188" y="2139"/>
                </a:lnTo>
                <a:lnTo>
                  <a:pt x="188" y="2138"/>
                </a:lnTo>
                <a:lnTo>
                  <a:pt x="150" y="2151"/>
                </a:lnTo>
                <a:lnTo>
                  <a:pt x="96" y="2166"/>
                </a:lnTo>
                <a:lnTo>
                  <a:pt x="43" y="2178"/>
                </a:lnTo>
                <a:lnTo>
                  <a:pt x="0" y="2186"/>
                </a:lnTo>
                <a:lnTo>
                  <a:pt x="2" y="2187"/>
                </a:lnTo>
                <a:lnTo>
                  <a:pt x="4" y="2187"/>
                </a:lnTo>
                <a:lnTo>
                  <a:pt x="4" y="2189"/>
                </a:lnTo>
                <a:lnTo>
                  <a:pt x="6" y="2189"/>
                </a:lnTo>
                <a:lnTo>
                  <a:pt x="6" y="2191"/>
                </a:lnTo>
                <a:lnTo>
                  <a:pt x="8" y="2191"/>
                </a:lnTo>
                <a:lnTo>
                  <a:pt x="10" y="2193"/>
                </a:lnTo>
                <a:lnTo>
                  <a:pt x="10" y="2193"/>
                </a:lnTo>
                <a:close/>
              </a:path>
            </a:pathLst>
          </a:custGeom>
          <a:solidFill>
            <a:srgbClr val="12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52"/>
          <p:cNvSpPr/>
          <p:nvPr/>
        </p:nvSpPr>
        <p:spPr>
          <a:xfrm>
            <a:off x="7412040" y="1582560"/>
            <a:ext cx="307800" cy="3468960"/>
          </a:xfrm>
          <a:custGeom>
            <a:avLst/>
            <a:gdLst>
              <a:gd name="textAreaLeft" fmla="*/ 0 w 307800"/>
              <a:gd name="textAreaRight" fmla="*/ 308160 w 307800"/>
              <a:gd name="textAreaTop" fmla="*/ 0 h 3468960"/>
              <a:gd name="textAreaBottom" fmla="*/ 3469320 h 3468960"/>
            </a:gdLst>
            <a:ahLst/>
            <a:rect l="textAreaLeft" t="textAreaTop" r="textAreaRight" b="textAreaBottom"/>
            <a:pathLst>
              <a:path w="194" h="2185">
                <a:moveTo>
                  <a:pt x="171" y="15"/>
                </a:moveTo>
                <a:lnTo>
                  <a:pt x="154" y="9"/>
                </a:lnTo>
                <a:lnTo>
                  <a:pt x="116" y="0"/>
                </a:lnTo>
                <a:lnTo>
                  <a:pt x="116" y="0"/>
                </a:lnTo>
                <a:lnTo>
                  <a:pt x="114" y="2"/>
                </a:lnTo>
                <a:lnTo>
                  <a:pt x="114" y="2"/>
                </a:lnTo>
                <a:lnTo>
                  <a:pt x="112" y="4"/>
                </a:lnTo>
                <a:lnTo>
                  <a:pt x="112" y="4"/>
                </a:lnTo>
                <a:lnTo>
                  <a:pt x="110" y="6"/>
                </a:lnTo>
                <a:lnTo>
                  <a:pt x="110" y="6"/>
                </a:lnTo>
                <a:lnTo>
                  <a:pt x="108" y="7"/>
                </a:lnTo>
                <a:lnTo>
                  <a:pt x="152" y="19"/>
                </a:lnTo>
                <a:lnTo>
                  <a:pt x="166" y="23"/>
                </a:lnTo>
                <a:lnTo>
                  <a:pt x="167" y="23"/>
                </a:lnTo>
                <a:lnTo>
                  <a:pt x="167" y="21"/>
                </a:lnTo>
                <a:lnTo>
                  <a:pt x="167" y="21"/>
                </a:lnTo>
                <a:lnTo>
                  <a:pt x="169" y="19"/>
                </a:lnTo>
                <a:lnTo>
                  <a:pt x="169" y="19"/>
                </a:lnTo>
                <a:lnTo>
                  <a:pt x="169" y="17"/>
                </a:lnTo>
                <a:lnTo>
                  <a:pt x="171" y="17"/>
                </a:lnTo>
                <a:lnTo>
                  <a:pt x="171" y="15"/>
                </a:lnTo>
                <a:close/>
                <a:moveTo>
                  <a:pt x="10" y="2185"/>
                </a:moveTo>
                <a:lnTo>
                  <a:pt x="47" y="2180"/>
                </a:lnTo>
                <a:lnTo>
                  <a:pt x="102" y="2166"/>
                </a:lnTo>
                <a:lnTo>
                  <a:pt x="154" y="2151"/>
                </a:lnTo>
                <a:lnTo>
                  <a:pt x="194" y="2137"/>
                </a:lnTo>
                <a:lnTo>
                  <a:pt x="194" y="2137"/>
                </a:lnTo>
                <a:lnTo>
                  <a:pt x="192" y="2135"/>
                </a:lnTo>
                <a:lnTo>
                  <a:pt x="192" y="2135"/>
                </a:lnTo>
                <a:lnTo>
                  <a:pt x="192" y="2134"/>
                </a:lnTo>
                <a:lnTo>
                  <a:pt x="190" y="2134"/>
                </a:lnTo>
                <a:lnTo>
                  <a:pt x="190" y="2132"/>
                </a:lnTo>
                <a:lnTo>
                  <a:pt x="190" y="2130"/>
                </a:lnTo>
                <a:lnTo>
                  <a:pt x="189" y="2130"/>
                </a:lnTo>
                <a:lnTo>
                  <a:pt x="152" y="2141"/>
                </a:lnTo>
                <a:lnTo>
                  <a:pt x="98" y="2157"/>
                </a:lnTo>
                <a:lnTo>
                  <a:pt x="45" y="2170"/>
                </a:lnTo>
                <a:lnTo>
                  <a:pt x="0" y="2178"/>
                </a:lnTo>
                <a:lnTo>
                  <a:pt x="2" y="2178"/>
                </a:lnTo>
                <a:lnTo>
                  <a:pt x="2" y="2178"/>
                </a:lnTo>
                <a:lnTo>
                  <a:pt x="2" y="2180"/>
                </a:lnTo>
                <a:lnTo>
                  <a:pt x="2" y="2180"/>
                </a:lnTo>
                <a:lnTo>
                  <a:pt x="4" y="2180"/>
                </a:lnTo>
                <a:lnTo>
                  <a:pt x="4" y="2180"/>
                </a:lnTo>
                <a:lnTo>
                  <a:pt x="4" y="2182"/>
                </a:lnTo>
                <a:lnTo>
                  <a:pt x="4" y="2182"/>
                </a:lnTo>
                <a:lnTo>
                  <a:pt x="6" y="2182"/>
                </a:lnTo>
                <a:lnTo>
                  <a:pt x="6" y="2182"/>
                </a:lnTo>
                <a:lnTo>
                  <a:pt x="6" y="2183"/>
                </a:lnTo>
                <a:lnTo>
                  <a:pt x="6" y="2183"/>
                </a:lnTo>
                <a:lnTo>
                  <a:pt x="8" y="2183"/>
                </a:lnTo>
                <a:lnTo>
                  <a:pt x="8" y="2183"/>
                </a:lnTo>
                <a:lnTo>
                  <a:pt x="8" y="2185"/>
                </a:lnTo>
                <a:lnTo>
                  <a:pt x="10" y="2185"/>
                </a:lnTo>
                <a:close/>
              </a:path>
            </a:pathLst>
          </a:custGeom>
          <a:solidFill>
            <a:srgbClr val="13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53"/>
          <p:cNvSpPr/>
          <p:nvPr/>
        </p:nvSpPr>
        <p:spPr>
          <a:xfrm>
            <a:off x="7407360" y="1589040"/>
            <a:ext cx="309600" cy="3457800"/>
          </a:xfrm>
          <a:custGeom>
            <a:avLst/>
            <a:gdLst>
              <a:gd name="textAreaLeft" fmla="*/ 0 w 309600"/>
              <a:gd name="textAreaRight" fmla="*/ 309960 w 309600"/>
              <a:gd name="textAreaTop" fmla="*/ 0 h 3457800"/>
              <a:gd name="textAreaBottom" fmla="*/ 3458160 h 3457800"/>
            </a:gdLst>
            <a:ahLst/>
            <a:rect l="textAreaLeft" t="textAreaTop" r="textAreaRight" b="textAreaBottom"/>
            <a:pathLst>
              <a:path w="195" h="2178">
                <a:moveTo>
                  <a:pt x="172" y="15"/>
                </a:moveTo>
                <a:lnTo>
                  <a:pt x="157" y="11"/>
                </a:lnTo>
                <a:lnTo>
                  <a:pt x="115" y="0"/>
                </a:lnTo>
                <a:lnTo>
                  <a:pt x="115" y="0"/>
                </a:lnTo>
                <a:lnTo>
                  <a:pt x="113" y="2"/>
                </a:lnTo>
                <a:lnTo>
                  <a:pt x="113" y="2"/>
                </a:lnTo>
                <a:lnTo>
                  <a:pt x="111" y="3"/>
                </a:lnTo>
                <a:lnTo>
                  <a:pt x="111" y="3"/>
                </a:lnTo>
                <a:lnTo>
                  <a:pt x="109" y="3"/>
                </a:lnTo>
                <a:lnTo>
                  <a:pt x="109" y="5"/>
                </a:lnTo>
                <a:lnTo>
                  <a:pt x="107" y="5"/>
                </a:lnTo>
                <a:lnTo>
                  <a:pt x="153" y="19"/>
                </a:lnTo>
                <a:lnTo>
                  <a:pt x="167" y="25"/>
                </a:lnTo>
                <a:lnTo>
                  <a:pt x="167" y="23"/>
                </a:lnTo>
                <a:lnTo>
                  <a:pt x="167" y="23"/>
                </a:lnTo>
                <a:lnTo>
                  <a:pt x="169" y="21"/>
                </a:lnTo>
                <a:lnTo>
                  <a:pt x="169" y="19"/>
                </a:lnTo>
                <a:lnTo>
                  <a:pt x="170" y="19"/>
                </a:lnTo>
                <a:lnTo>
                  <a:pt x="170" y="17"/>
                </a:lnTo>
                <a:lnTo>
                  <a:pt x="170" y="17"/>
                </a:lnTo>
                <a:lnTo>
                  <a:pt x="172" y="15"/>
                </a:lnTo>
                <a:close/>
                <a:moveTo>
                  <a:pt x="7" y="2178"/>
                </a:moveTo>
                <a:lnTo>
                  <a:pt x="50" y="2170"/>
                </a:lnTo>
                <a:lnTo>
                  <a:pt x="103" y="2158"/>
                </a:lnTo>
                <a:lnTo>
                  <a:pt x="157" y="2143"/>
                </a:lnTo>
                <a:lnTo>
                  <a:pt x="195" y="2130"/>
                </a:lnTo>
                <a:lnTo>
                  <a:pt x="193" y="2130"/>
                </a:lnTo>
                <a:lnTo>
                  <a:pt x="193" y="2128"/>
                </a:lnTo>
                <a:lnTo>
                  <a:pt x="193" y="2126"/>
                </a:lnTo>
                <a:lnTo>
                  <a:pt x="192" y="2126"/>
                </a:lnTo>
                <a:lnTo>
                  <a:pt x="192" y="2124"/>
                </a:lnTo>
                <a:lnTo>
                  <a:pt x="192" y="2124"/>
                </a:lnTo>
                <a:lnTo>
                  <a:pt x="190" y="2122"/>
                </a:lnTo>
                <a:lnTo>
                  <a:pt x="190" y="2122"/>
                </a:lnTo>
                <a:lnTo>
                  <a:pt x="153" y="2133"/>
                </a:lnTo>
                <a:lnTo>
                  <a:pt x="101" y="2149"/>
                </a:lnTo>
                <a:lnTo>
                  <a:pt x="48" y="2160"/>
                </a:lnTo>
                <a:lnTo>
                  <a:pt x="0" y="2170"/>
                </a:lnTo>
                <a:lnTo>
                  <a:pt x="2" y="2170"/>
                </a:lnTo>
                <a:lnTo>
                  <a:pt x="2" y="2172"/>
                </a:lnTo>
                <a:lnTo>
                  <a:pt x="3" y="2172"/>
                </a:lnTo>
                <a:lnTo>
                  <a:pt x="3" y="2174"/>
                </a:lnTo>
                <a:lnTo>
                  <a:pt x="5" y="2174"/>
                </a:lnTo>
                <a:lnTo>
                  <a:pt x="5" y="2176"/>
                </a:lnTo>
                <a:lnTo>
                  <a:pt x="7" y="2176"/>
                </a:lnTo>
                <a:lnTo>
                  <a:pt x="7" y="2178"/>
                </a:lnTo>
                <a:lnTo>
                  <a:pt x="7" y="2178"/>
                </a:lnTo>
                <a:lnTo>
                  <a:pt x="7" y="2178"/>
                </a:lnTo>
                <a:lnTo>
                  <a:pt x="7" y="2178"/>
                </a:lnTo>
                <a:lnTo>
                  <a:pt x="7" y="2178"/>
                </a:lnTo>
                <a:lnTo>
                  <a:pt x="7" y="2178"/>
                </a:lnTo>
                <a:lnTo>
                  <a:pt x="7" y="2178"/>
                </a:lnTo>
                <a:lnTo>
                  <a:pt x="7" y="2178"/>
                </a:lnTo>
                <a:lnTo>
                  <a:pt x="7" y="2178"/>
                </a:lnTo>
                <a:close/>
              </a:path>
            </a:pathLst>
          </a:custGeom>
          <a:solidFill>
            <a:srgbClr val="14a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54"/>
          <p:cNvSpPr/>
          <p:nvPr/>
        </p:nvSpPr>
        <p:spPr>
          <a:xfrm>
            <a:off x="7400880" y="1593720"/>
            <a:ext cx="311040" cy="3446640"/>
          </a:xfrm>
          <a:custGeom>
            <a:avLst/>
            <a:gdLst>
              <a:gd name="textAreaLeft" fmla="*/ 0 w 311040"/>
              <a:gd name="textAreaRight" fmla="*/ 311400 w 311040"/>
              <a:gd name="textAreaTop" fmla="*/ 0 h 3446640"/>
              <a:gd name="textAreaBottom" fmla="*/ 3447000 h 3446640"/>
            </a:gdLst>
            <a:ahLst/>
            <a:rect l="textAreaLeft" t="textAreaTop" r="textAreaRight" b="textAreaBottom"/>
            <a:pathLst>
              <a:path w="196" h="2171">
                <a:moveTo>
                  <a:pt x="173" y="16"/>
                </a:moveTo>
                <a:lnTo>
                  <a:pt x="159" y="12"/>
                </a:lnTo>
                <a:lnTo>
                  <a:pt x="115" y="0"/>
                </a:lnTo>
                <a:lnTo>
                  <a:pt x="115" y="0"/>
                </a:lnTo>
                <a:lnTo>
                  <a:pt x="113" y="0"/>
                </a:lnTo>
                <a:lnTo>
                  <a:pt x="113" y="2"/>
                </a:lnTo>
                <a:lnTo>
                  <a:pt x="111" y="2"/>
                </a:lnTo>
                <a:lnTo>
                  <a:pt x="109" y="4"/>
                </a:lnTo>
                <a:lnTo>
                  <a:pt x="109" y="4"/>
                </a:lnTo>
                <a:lnTo>
                  <a:pt x="107" y="6"/>
                </a:lnTo>
                <a:lnTo>
                  <a:pt x="107" y="6"/>
                </a:lnTo>
                <a:lnTo>
                  <a:pt x="157" y="22"/>
                </a:lnTo>
                <a:lnTo>
                  <a:pt x="167" y="25"/>
                </a:lnTo>
                <a:lnTo>
                  <a:pt x="169" y="24"/>
                </a:lnTo>
                <a:lnTo>
                  <a:pt x="169" y="24"/>
                </a:lnTo>
                <a:lnTo>
                  <a:pt x="169" y="22"/>
                </a:lnTo>
                <a:lnTo>
                  <a:pt x="171" y="22"/>
                </a:lnTo>
                <a:lnTo>
                  <a:pt x="171" y="20"/>
                </a:lnTo>
                <a:lnTo>
                  <a:pt x="171" y="20"/>
                </a:lnTo>
                <a:lnTo>
                  <a:pt x="173" y="18"/>
                </a:lnTo>
                <a:lnTo>
                  <a:pt x="173" y="16"/>
                </a:lnTo>
                <a:close/>
                <a:moveTo>
                  <a:pt x="7" y="2171"/>
                </a:moveTo>
                <a:lnTo>
                  <a:pt x="52" y="2163"/>
                </a:lnTo>
                <a:lnTo>
                  <a:pt x="105" y="2150"/>
                </a:lnTo>
                <a:lnTo>
                  <a:pt x="159" y="2134"/>
                </a:lnTo>
                <a:lnTo>
                  <a:pt x="196" y="2123"/>
                </a:lnTo>
                <a:lnTo>
                  <a:pt x="196" y="2121"/>
                </a:lnTo>
                <a:lnTo>
                  <a:pt x="196" y="2121"/>
                </a:lnTo>
                <a:lnTo>
                  <a:pt x="194" y="2119"/>
                </a:lnTo>
                <a:lnTo>
                  <a:pt x="194" y="2119"/>
                </a:lnTo>
                <a:lnTo>
                  <a:pt x="194" y="2117"/>
                </a:lnTo>
                <a:lnTo>
                  <a:pt x="192" y="2117"/>
                </a:lnTo>
                <a:lnTo>
                  <a:pt x="192" y="2115"/>
                </a:lnTo>
                <a:lnTo>
                  <a:pt x="192" y="2115"/>
                </a:lnTo>
                <a:lnTo>
                  <a:pt x="157" y="2127"/>
                </a:lnTo>
                <a:lnTo>
                  <a:pt x="103" y="2140"/>
                </a:lnTo>
                <a:lnTo>
                  <a:pt x="50" y="2153"/>
                </a:lnTo>
                <a:lnTo>
                  <a:pt x="0" y="2163"/>
                </a:lnTo>
                <a:lnTo>
                  <a:pt x="2" y="2163"/>
                </a:lnTo>
                <a:lnTo>
                  <a:pt x="2" y="2165"/>
                </a:lnTo>
                <a:lnTo>
                  <a:pt x="4" y="2165"/>
                </a:lnTo>
                <a:lnTo>
                  <a:pt x="4" y="2167"/>
                </a:lnTo>
                <a:lnTo>
                  <a:pt x="6" y="2167"/>
                </a:lnTo>
                <a:lnTo>
                  <a:pt x="6" y="2169"/>
                </a:lnTo>
                <a:lnTo>
                  <a:pt x="7" y="2169"/>
                </a:lnTo>
                <a:lnTo>
                  <a:pt x="7" y="2171"/>
                </a:lnTo>
                <a:close/>
              </a:path>
            </a:pathLst>
          </a:custGeom>
          <a:solidFill>
            <a:srgbClr val="15a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55"/>
          <p:cNvSpPr/>
          <p:nvPr/>
        </p:nvSpPr>
        <p:spPr>
          <a:xfrm>
            <a:off x="7394400" y="1596960"/>
            <a:ext cx="314640" cy="3436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436920"/>
              <a:gd name="textAreaBottom" fmla="*/ 3437280 h 3436920"/>
            </a:gdLst>
            <a:ahLst/>
            <a:rect l="textAreaLeft" t="textAreaTop" r="textAreaRight" b="textAreaBottom"/>
            <a:pathLst>
              <a:path w="198" h="2165">
                <a:moveTo>
                  <a:pt x="175" y="20"/>
                </a:moveTo>
                <a:lnTo>
                  <a:pt x="161" y="14"/>
                </a:lnTo>
                <a:lnTo>
                  <a:pt x="115" y="0"/>
                </a:lnTo>
                <a:lnTo>
                  <a:pt x="113" y="2"/>
                </a:lnTo>
                <a:lnTo>
                  <a:pt x="113" y="2"/>
                </a:lnTo>
                <a:lnTo>
                  <a:pt x="111" y="4"/>
                </a:lnTo>
                <a:lnTo>
                  <a:pt x="111" y="4"/>
                </a:lnTo>
                <a:lnTo>
                  <a:pt x="109" y="6"/>
                </a:lnTo>
                <a:lnTo>
                  <a:pt x="109" y="6"/>
                </a:lnTo>
                <a:lnTo>
                  <a:pt x="107" y="8"/>
                </a:lnTo>
                <a:lnTo>
                  <a:pt x="107" y="8"/>
                </a:lnTo>
                <a:lnTo>
                  <a:pt x="159" y="23"/>
                </a:lnTo>
                <a:lnTo>
                  <a:pt x="169" y="27"/>
                </a:lnTo>
                <a:lnTo>
                  <a:pt x="169" y="25"/>
                </a:lnTo>
                <a:lnTo>
                  <a:pt x="171" y="25"/>
                </a:lnTo>
                <a:lnTo>
                  <a:pt x="171" y="23"/>
                </a:lnTo>
                <a:lnTo>
                  <a:pt x="171" y="23"/>
                </a:lnTo>
                <a:lnTo>
                  <a:pt x="173" y="22"/>
                </a:lnTo>
                <a:lnTo>
                  <a:pt x="173" y="22"/>
                </a:lnTo>
                <a:lnTo>
                  <a:pt x="173" y="20"/>
                </a:lnTo>
                <a:lnTo>
                  <a:pt x="175" y="20"/>
                </a:lnTo>
                <a:close/>
                <a:moveTo>
                  <a:pt x="8" y="2165"/>
                </a:moveTo>
                <a:lnTo>
                  <a:pt x="56" y="2155"/>
                </a:lnTo>
                <a:lnTo>
                  <a:pt x="109" y="2144"/>
                </a:lnTo>
                <a:lnTo>
                  <a:pt x="161" y="2128"/>
                </a:lnTo>
                <a:lnTo>
                  <a:pt x="198" y="2117"/>
                </a:lnTo>
                <a:lnTo>
                  <a:pt x="198" y="2115"/>
                </a:lnTo>
                <a:lnTo>
                  <a:pt x="196" y="2115"/>
                </a:lnTo>
                <a:lnTo>
                  <a:pt x="196" y="2113"/>
                </a:lnTo>
                <a:lnTo>
                  <a:pt x="196" y="2113"/>
                </a:lnTo>
                <a:lnTo>
                  <a:pt x="194" y="2111"/>
                </a:lnTo>
                <a:lnTo>
                  <a:pt x="194" y="2109"/>
                </a:lnTo>
                <a:lnTo>
                  <a:pt x="194" y="2109"/>
                </a:lnTo>
                <a:lnTo>
                  <a:pt x="192" y="2107"/>
                </a:lnTo>
                <a:lnTo>
                  <a:pt x="159" y="2119"/>
                </a:lnTo>
                <a:lnTo>
                  <a:pt x="107" y="2134"/>
                </a:lnTo>
                <a:lnTo>
                  <a:pt x="54" y="2146"/>
                </a:lnTo>
                <a:lnTo>
                  <a:pt x="0" y="2155"/>
                </a:lnTo>
                <a:lnTo>
                  <a:pt x="2" y="2157"/>
                </a:lnTo>
                <a:lnTo>
                  <a:pt x="2" y="2157"/>
                </a:lnTo>
                <a:lnTo>
                  <a:pt x="4" y="2159"/>
                </a:lnTo>
                <a:lnTo>
                  <a:pt x="4" y="2161"/>
                </a:lnTo>
                <a:lnTo>
                  <a:pt x="6" y="2161"/>
                </a:lnTo>
                <a:lnTo>
                  <a:pt x="6" y="2163"/>
                </a:lnTo>
                <a:lnTo>
                  <a:pt x="8" y="2163"/>
                </a:lnTo>
                <a:lnTo>
                  <a:pt x="8" y="2165"/>
                </a:lnTo>
                <a:close/>
              </a:path>
            </a:pathLst>
          </a:custGeom>
          <a:solidFill>
            <a:srgbClr val="16a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56"/>
          <p:cNvSpPr/>
          <p:nvPr/>
        </p:nvSpPr>
        <p:spPr>
          <a:xfrm>
            <a:off x="7388280" y="1603440"/>
            <a:ext cx="317520" cy="3424320"/>
          </a:xfrm>
          <a:custGeom>
            <a:avLst/>
            <a:gdLst>
              <a:gd name="textAreaLeft" fmla="*/ 0 w 317520"/>
              <a:gd name="textAreaRight" fmla="*/ 317880 w 317520"/>
              <a:gd name="textAreaTop" fmla="*/ 0 h 3424320"/>
              <a:gd name="textAreaBottom" fmla="*/ 3424680 h 3424320"/>
            </a:gdLst>
            <a:ahLst/>
            <a:rect l="textAreaLeft" t="textAreaTop" r="textAreaRight" b="textAreaBottom"/>
            <a:pathLst>
              <a:path w="200" h="2157">
                <a:moveTo>
                  <a:pt x="175" y="19"/>
                </a:moveTo>
                <a:lnTo>
                  <a:pt x="165" y="16"/>
                </a:lnTo>
                <a:lnTo>
                  <a:pt x="115" y="0"/>
                </a:lnTo>
                <a:lnTo>
                  <a:pt x="113" y="2"/>
                </a:lnTo>
                <a:lnTo>
                  <a:pt x="113" y="2"/>
                </a:lnTo>
                <a:lnTo>
                  <a:pt x="111" y="4"/>
                </a:lnTo>
                <a:lnTo>
                  <a:pt x="111" y="4"/>
                </a:lnTo>
                <a:lnTo>
                  <a:pt x="110" y="6"/>
                </a:lnTo>
                <a:lnTo>
                  <a:pt x="110" y="6"/>
                </a:lnTo>
                <a:lnTo>
                  <a:pt x="108" y="8"/>
                </a:lnTo>
                <a:lnTo>
                  <a:pt x="108" y="8"/>
                </a:lnTo>
                <a:lnTo>
                  <a:pt x="110" y="10"/>
                </a:lnTo>
                <a:lnTo>
                  <a:pt x="161" y="23"/>
                </a:lnTo>
                <a:lnTo>
                  <a:pt x="171" y="27"/>
                </a:lnTo>
                <a:lnTo>
                  <a:pt x="171" y="25"/>
                </a:lnTo>
                <a:lnTo>
                  <a:pt x="171" y="25"/>
                </a:lnTo>
                <a:lnTo>
                  <a:pt x="173" y="23"/>
                </a:lnTo>
                <a:lnTo>
                  <a:pt x="173" y="23"/>
                </a:lnTo>
                <a:lnTo>
                  <a:pt x="173" y="21"/>
                </a:lnTo>
                <a:lnTo>
                  <a:pt x="175" y="21"/>
                </a:lnTo>
                <a:lnTo>
                  <a:pt x="175" y="19"/>
                </a:lnTo>
                <a:lnTo>
                  <a:pt x="175" y="19"/>
                </a:lnTo>
                <a:close/>
                <a:moveTo>
                  <a:pt x="8" y="2157"/>
                </a:moveTo>
                <a:lnTo>
                  <a:pt x="58" y="2147"/>
                </a:lnTo>
                <a:lnTo>
                  <a:pt x="111" y="2134"/>
                </a:lnTo>
                <a:lnTo>
                  <a:pt x="165" y="2121"/>
                </a:lnTo>
                <a:lnTo>
                  <a:pt x="200" y="2109"/>
                </a:lnTo>
                <a:lnTo>
                  <a:pt x="198" y="2107"/>
                </a:lnTo>
                <a:lnTo>
                  <a:pt x="198" y="2105"/>
                </a:lnTo>
                <a:lnTo>
                  <a:pt x="198" y="2105"/>
                </a:lnTo>
                <a:lnTo>
                  <a:pt x="196" y="2103"/>
                </a:lnTo>
                <a:lnTo>
                  <a:pt x="196" y="2103"/>
                </a:lnTo>
                <a:lnTo>
                  <a:pt x="196" y="2101"/>
                </a:lnTo>
                <a:lnTo>
                  <a:pt x="196" y="2101"/>
                </a:lnTo>
                <a:lnTo>
                  <a:pt x="194" y="2099"/>
                </a:lnTo>
                <a:lnTo>
                  <a:pt x="161" y="2111"/>
                </a:lnTo>
                <a:lnTo>
                  <a:pt x="110" y="2126"/>
                </a:lnTo>
                <a:lnTo>
                  <a:pt x="56" y="2138"/>
                </a:lnTo>
                <a:lnTo>
                  <a:pt x="2" y="2147"/>
                </a:lnTo>
                <a:lnTo>
                  <a:pt x="0" y="2147"/>
                </a:lnTo>
                <a:lnTo>
                  <a:pt x="2" y="2149"/>
                </a:lnTo>
                <a:lnTo>
                  <a:pt x="2" y="2149"/>
                </a:lnTo>
                <a:lnTo>
                  <a:pt x="4" y="2151"/>
                </a:lnTo>
                <a:lnTo>
                  <a:pt x="4" y="2151"/>
                </a:lnTo>
                <a:lnTo>
                  <a:pt x="6" y="2153"/>
                </a:lnTo>
                <a:lnTo>
                  <a:pt x="6" y="2153"/>
                </a:lnTo>
                <a:lnTo>
                  <a:pt x="8" y="2155"/>
                </a:lnTo>
                <a:lnTo>
                  <a:pt x="8" y="2157"/>
                </a:lnTo>
                <a:close/>
              </a:path>
            </a:pathLst>
          </a:custGeom>
          <a:solidFill>
            <a:srgbClr val="17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57"/>
          <p:cNvSpPr/>
          <p:nvPr/>
        </p:nvSpPr>
        <p:spPr>
          <a:xfrm>
            <a:off x="7381800" y="1609560"/>
            <a:ext cx="317520" cy="3408480"/>
          </a:xfrm>
          <a:custGeom>
            <a:avLst/>
            <a:gdLst>
              <a:gd name="textAreaLeft" fmla="*/ 0 w 317520"/>
              <a:gd name="textAreaRight" fmla="*/ 317880 w 317520"/>
              <a:gd name="textAreaTop" fmla="*/ 0 h 3408480"/>
              <a:gd name="textAreaBottom" fmla="*/ 3408840 h 3408480"/>
            </a:gdLst>
            <a:ahLst/>
            <a:rect l="textAreaLeft" t="textAreaTop" r="textAreaRight" b="textAreaBottom"/>
            <a:pathLst>
              <a:path w="200" h="2147">
                <a:moveTo>
                  <a:pt x="177" y="19"/>
                </a:moveTo>
                <a:lnTo>
                  <a:pt x="167" y="15"/>
                </a:lnTo>
                <a:lnTo>
                  <a:pt x="115" y="0"/>
                </a:lnTo>
                <a:lnTo>
                  <a:pt x="114" y="2"/>
                </a:lnTo>
                <a:lnTo>
                  <a:pt x="114" y="2"/>
                </a:lnTo>
                <a:lnTo>
                  <a:pt x="112" y="4"/>
                </a:lnTo>
                <a:lnTo>
                  <a:pt x="110" y="4"/>
                </a:lnTo>
                <a:lnTo>
                  <a:pt x="110" y="6"/>
                </a:lnTo>
                <a:lnTo>
                  <a:pt x="108" y="6"/>
                </a:lnTo>
                <a:lnTo>
                  <a:pt x="108" y="8"/>
                </a:lnTo>
                <a:lnTo>
                  <a:pt x="106" y="8"/>
                </a:lnTo>
                <a:lnTo>
                  <a:pt x="112" y="10"/>
                </a:lnTo>
                <a:lnTo>
                  <a:pt x="163" y="25"/>
                </a:lnTo>
                <a:lnTo>
                  <a:pt x="171" y="27"/>
                </a:lnTo>
                <a:lnTo>
                  <a:pt x="173" y="27"/>
                </a:lnTo>
                <a:lnTo>
                  <a:pt x="173" y="25"/>
                </a:lnTo>
                <a:lnTo>
                  <a:pt x="173" y="23"/>
                </a:lnTo>
                <a:lnTo>
                  <a:pt x="175" y="23"/>
                </a:lnTo>
                <a:lnTo>
                  <a:pt x="175" y="21"/>
                </a:lnTo>
                <a:lnTo>
                  <a:pt x="175" y="21"/>
                </a:lnTo>
                <a:lnTo>
                  <a:pt x="177" y="19"/>
                </a:lnTo>
                <a:lnTo>
                  <a:pt x="177" y="19"/>
                </a:lnTo>
                <a:close/>
                <a:moveTo>
                  <a:pt x="8" y="2147"/>
                </a:moveTo>
                <a:lnTo>
                  <a:pt x="62" y="2138"/>
                </a:lnTo>
                <a:lnTo>
                  <a:pt x="115" y="2126"/>
                </a:lnTo>
                <a:lnTo>
                  <a:pt x="167" y="2111"/>
                </a:lnTo>
                <a:lnTo>
                  <a:pt x="200" y="2099"/>
                </a:lnTo>
                <a:lnTo>
                  <a:pt x="200" y="2099"/>
                </a:lnTo>
                <a:lnTo>
                  <a:pt x="200" y="2097"/>
                </a:lnTo>
                <a:lnTo>
                  <a:pt x="200" y="2097"/>
                </a:lnTo>
                <a:lnTo>
                  <a:pt x="198" y="2095"/>
                </a:lnTo>
                <a:lnTo>
                  <a:pt x="198" y="2095"/>
                </a:lnTo>
                <a:lnTo>
                  <a:pt x="198" y="2094"/>
                </a:lnTo>
                <a:lnTo>
                  <a:pt x="196" y="2094"/>
                </a:lnTo>
                <a:lnTo>
                  <a:pt x="196" y="2092"/>
                </a:lnTo>
                <a:lnTo>
                  <a:pt x="163" y="2103"/>
                </a:lnTo>
                <a:lnTo>
                  <a:pt x="112" y="2117"/>
                </a:lnTo>
                <a:lnTo>
                  <a:pt x="60" y="2130"/>
                </a:lnTo>
                <a:lnTo>
                  <a:pt x="6" y="2140"/>
                </a:lnTo>
                <a:lnTo>
                  <a:pt x="0" y="2140"/>
                </a:lnTo>
                <a:lnTo>
                  <a:pt x="2" y="2141"/>
                </a:lnTo>
                <a:lnTo>
                  <a:pt x="2" y="2141"/>
                </a:lnTo>
                <a:lnTo>
                  <a:pt x="4" y="2143"/>
                </a:lnTo>
                <a:lnTo>
                  <a:pt x="4" y="2143"/>
                </a:lnTo>
                <a:lnTo>
                  <a:pt x="6" y="2145"/>
                </a:lnTo>
                <a:lnTo>
                  <a:pt x="6" y="2145"/>
                </a:lnTo>
                <a:lnTo>
                  <a:pt x="8" y="2147"/>
                </a:lnTo>
                <a:lnTo>
                  <a:pt x="8" y="2147"/>
                </a:lnTo>
                <a:close/>
              </a:path>
            </a:pathLst>
          </a:custGeom>
          <a:solidFill>
            <a:srgbClr val="18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8"/>
          <p:cNvSpPr/>
          <p:nvPr/>
        </p:nvSpPr>
        <p:spPr>
          <a:xfrm>
            <a:off x="7378560" y="1616040"/>
            <a:ext cx="317520" cy="3395520"/>
          </a:xfrm>
          <a:custGeom>
            <a:avLst/>
            <a:gdLst>
              <a:gd name="textAreaLeft" fmla="*/ 0 w 317520"/>
              <a:gd name="textAreaRight" fmla="*/ 317880 w 317520"/>
              <a:gd name="textAreaTop" fmla="*/ 0 h 3395520"/>
              <a:gd name="textAreaBottom" fmla="*/ 3395880 h 3395520"/>
            </a:gdLst>
            <a:ahLst/>
            <a:rect l="textAreaLeft" t="textAreaTop" r="textAreaRight" b="textAreaBottom"/>
            <a:pathLst>
              <a:path w="200" h="2139">
                <a:moveTo>
                  <a:pt x="177" y="19"/>
                </a:moveTo>
                <a:lnTo>
                  <a:pt x="167" y="15"/>
                </a:lnTo>
                <a:lnTo>
                  <a:pt x="116" y="2"/>
                </a:lnTo>
                <a:lnTo>
                  <a:pt x="114" y="0"/>
                </a:lnTo>
                <a:lnTo>
                  <a:pt x="112" y="2"/>
                </a:lnTo>
                <a:lnTo>
                  <a:pt x="110" y="2"/>
                </a:lnTo>
                <a:lnTo>
                  <a:pt x="110" y="4"/>
                </a:lnTo>
                <a:lnTo>
                  <a:pt x="108" y="4"/>
                </a:lnTo>
                <a:lnTo>
                  <a:pt x="108" y="6"/>
                </a:lnTo>
                <a:lnTo>
                  <a:pt x="106" y="6"/>
                </a:lnTo>
                <a:lnTo>
                  <a:pt x="106" y="8"/>
                </a:lnTo>
                <a:lnTo>
                  <a:pt x="104" y="8"/>
                </a:lnTo>
                <a:lnTo>
                  <a:pt x="114" y="11"/>
                </a:lnTo>
                <a:lnTo>
                  <a:pt x="165" y="25"/>
                </a:lnTo>
                <a:lnTo>
                  <a:pt x="171" y="27"/>
                </a:lnTo>
                <a:lnTo>
                  <a:pt x="171" y="27"/>
                </a:lnTo>
                <a:lnTo>
                  <a:pt x="173" y="25"/>
                </a:lnTo>
                <a:lnTo>
                  <a:pt x="173" y="25"/>
                </a:lnTo>
                <a:lnTo>
                  <a:pt x="173" y="23"/>
                </a:lnTo>
                <a:lnTo>
                  <a:pt x="175" y="23"/>
                </a:lnTo>
                <a:lnTo>
                  <a:pt x="175" y="21"/>
                </a:lnTo>
                <a:lnTo>
                  <a:pt x="175" y="19"/>
                </a:lnTo>
                <a:lnTo>
                  <a:pt x="177" y="19"/>
                </a:lnTo>
                <a:close/>
                <a:moveTo>
                  <a:pt x="6" y="2139"/>
                </a:moveTo>
                <a:lnTo>
                  <a:pt x="8" y="2139"/>
                </a:lnTo>
                <a:lnTo>
                  <a:pt x="62" y="2130"/>
                </a:lnTo>
                <a:lnTo>
                  <a:pt x="116" y="2118"/>
                </a:lnTo>
                <a:lnTo>
                  <a:pt x="167" y="2103"/>
                </a:lnTo>
                <a:lnTo>
                  <a:pt x="200" y="2091"/>
                </a:lnTo>
                <a:lnTo>
                  <a:pt x="200" y="2091"/>
                </a:lnTo>
                <a:lnTo>
                  <a:pt x="200" y="2090"/>
                </a:lnTo>
                <a:lnTo>
                  <a:pt x="198" y="2090"/>
                </a:lnTo>
                <a:lnTo>
                  <a:pt x="198" y="2088"/>
                </a:lnTo>
                <a:lnTo>
                  <a:pt x="198" y="2086"/>
                </a:lnTo>
                <a:lnTo>
                  <a:pt x="196" y="2086"/>
                </a:lnTo>
                <a:lnTo>
                  <a:pt x="196" y="2084"/>
                </a:lnTo>
                <a:lnTo>
                  <a:pt x="196" y="2084"/>
                </a:lnTo>
                <a:lnTo>
                  <a:pt x="165" y="2093"/>
                </a:lnTo>
                <a:lnTo>
                  <a:pt x="114" y="2109"/>
                </a:lnTo>
                <a:lnTo>
                  <a:pt x="60" y="2120"/>
                </a:lnTo>
                <a:lnTo>
                  <a:pt x="8" y="2130"/>
                </a:lnTo>
                <a:lnTo>
                  <a:pt x="0" y="2132"/>
                </a:lnTo>
                <a:lnTo>
                  <a:pt x="0" y="2132"/>
                </a:lnTo>
                <a:lnTo>
                  <a:pt x="0" y="2134"/>
                </a:lnTo>
                <a:lnTo>
                  <a:pt x="2" y="2134"/>
                </a:lnTo>
                <a:lnTo>
                  <a:pt x="2" y="2136"/>
                </a:lnTo>
                <a:lnTo>
                  <a:pt x="4" y="2137"/>
                </a:lnTo>
                <a:lnTo>
                  <a:pt x="4" y="2137"/>
                </a:lnTo>
                <a:lnTo>
                  <a:pt x="6" y="2139"/>
                </a:lnTo>
                <a:lnTo>
                  <a:pt x="6" y="2139"/>
                </a:lnTo>
                <a:close/>
              </a:path>
            </a:pathLst>
          </a:custGeom>
          <a:solidFill>
            <a:srgbClr val="19a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59"/>
          <p:cNvSpPr/>
          <p:nvPr/>
        </p:nvSpPr>
        <p:spPr>
          <a:xfrm>
            <a:off x="7373880" y="1622520"/>
            <a:ext cx="319320" cy="3384360"/>
          </a:xfrm>
          <a:custGeom>
            <a:avLst/>
            <a:gdLst>
              <a:gd name="textAreaLeft" fmla="*/ 0 w 319320"/>
              <a:gd name="textAreaRight" fmla="*/ 319680 w 319320"/>
              <a:gd name="textAreaTop" fmla="*/ 0 h 3384360"/>
              <a:gd name="textAreaBottom" fmla="*/ 3384720 h 3384360"/>
            </a:gdLst>
            <a:ahLst/>
            <a:rect l="textAreaLeft" t="textAreaTop" r="textAreaRight" b="textAreaBottom"/>
            <a:pathLst>
              <a:path w="201" h="2132">
                <a:moveTo>
                  <a:pt x="176" y="19"/>
                </a:moveTo>
                <a:lnTo>
                  <a:pt x="168" y="17"/>
                </a:lnTo>
                <a:lnTo>
                  <a:pt x="117" y="2"/>
                </a:lnTo>
                <a:lnTo>
                  <a:pt x="111" y="0"/>
                </a:lnTo>
                <a:lnTo>
                  <a:pt x="111" y="2"/>
                </a:lnTo>
                <a:lnTo>
                  <a:pt x="109" y="2"/>
                </a:lnTo>
                <a:lnTo>
                  <a:pt x="109" y="4"/>
                </a:lnTo>
                <a:lnTo>
                  <a:pt x="107" y="4"/>
                </a:lnTo>
                <a:lnTo>
                  <a:pt x="107" y="6"/>
                </a:lnTo>
                <a:lnTo>
                  <a:pt x="105" y="6"/>
                </a:lnTo>
                <a:lnTo>
                  <a:pt x="103" y="7"/>
                </a:lnTo>
                <a:lnTo>
                  <a:pt x="103" y="7"/>
                </a:lnTo>
                <a:lnTo>
                  <a:pt x="115" y="11"/>
                </a:lnTo>
                <a:lnTo>
                  <a:pt x="167" y="25"/>
                </a:lnTo>
                <a:lnTo>
                  <a:pt x="172" y="27"/>
                </a:lnTo>
                <a:lnTo>
                  <a:pt x="172" y="27"/>
                </a:lnTo>
                <a:lnTo>
                  <a:pt x="172" y="25"/>
                </a:lnTo>
                <a:lnTo>
                  <a:pt x="174" y="25"/>
                </a:lnTo>
                <a:lnTo>
                  <a:pt x="174" y="23"/>
                </a:lnTo>
                <a:lnTo>
                  <a:pt x="174" y="23"/>
                </a:lnTo>
                <a:lnTo>
                  <a:pt x="176" y="21"/>
                </a:lnTo>
                <a:lnTo>
                  <a:pt x="176" y="21"/>
                </a:lnTo>
                <a:lnTo>
                  <a:pt x="176" y="19"/>
                </a:lnTo>
                <a:close/>
                <a:moveTo>
                  <a:pt x="5" y="2132"/>
                </a:moveTo>
                <a:lnTo>
                  <a:pt x="11" y="2132"/>
                </a:lnTo>
                <a:lnTo>
                  <a:pt x="65" y="2122"/>
                </a:lnTo>
                <a:lnTo>
                  <a:pt x="117" y="2109"/>
                </a:lnTo>
                <a:lnTo>
                  <a:pt x="168" y="2095"/>
                </a:lnTo>
                <a:lnTo>
                  <a:pt x="201" y="2084"/>
                </a:lnTo>
                <a:lnTo>
                  <a:pt x="201" y="2082"/>
                </a:lnTo>
                <a:lnTo>
                  <a:pt x="199" y="2082"/>
                </a:lnTo>
                <a:lnTo>
                  <a:pt x="199" y="2080"/>
                </a:lnTo>
                <a:lnTo>
                  <a:pt x="199" y="2080"/>
                </a:lnTo>
                <a:lnTo>
                  <a:pt x="197" y="2078"/>
                </a:lnTo>
                <a:lnTo>
                  <a:pt x="197" y="2078"/>
                </a:lnTo>
                <a:lnTo>
                  <a:pt x="197" y="2076"/>
                </a:lnTo>
                <a:lnTo>
                  <a:pt x="197" y="2076"/>
                </a:lnTo>
                <a:lnTo>
                  <a:pt x="167" y="2086"/>
                </a:lnTo>
                <a:lnTo>
                  <a:pt x="115" y="2101"/>
                </a:lnTo>
                <a:lnTo>
                  <a:pt x="63" y="2112"/>
                </a:lnTo>
                <a:lnTo>
                  <a:pt x="9" y="2122"/>
                </a:lnTo>
                <a:lnTo>
                  <a:pt x="0" y="2122"/>
                </a:lnTo>
                <a:lnTo>
                  <a:pt x="0" y="2124"/>
                </a:lnTo>
                <a:lnTo>
                  <a:pt x="1" y="2126"/>
                </a:lnTo>
                <a:lnTo>
                  <a:pt x="1" y="2126"/>
                </a:lnTo>
                <a:lnTo>
                  <a:pt x="3" y="2128"/>
                </a:lnTo>
                <a:lnTo>
                  <a:pt x="3" y="2128"/>
                </a:lnTo>
                <a:lnTo>
                  <a:pt x="3" y="2130"/>
                </a:lnTo>
                <a:lnTo>
                  <a:pt x="5" y="2130"/>
                </a:lnTo>
                <a:lnTo>
                  <a:pt x="5" y="2132"/>
                </a:lnTo>
                <a:close/>
              </a:path>
            </a:pathLst>
          </a:custGeom>
          <a:solidFill>
            <a:srgbClr val="1aa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60"/>
          <p:cNvSpPr/>
          <p:nvPr/>
        </p:nvSpPr>
        <p:spPr>
          <a:xfrm>
            <a:off x="7367760" y="1628640"/>
            <a:ext cx="322200" cy="3372120"/>
          </a:xfrm>
          <a:custGeom>
            <a:avLst/>
            <a:gdLst>
              <a:gd name="textAreaLeft" fmla="*/ 0 w 322200"/>
              <a:gd name="textAreaRight" fmla="*/ 322560 w 322200"/>
              <a:gd name="textAreaTop" fmla="*/ 0 h 3372120"/>
              <a:gd name="textAreaBottom" fmla="*/ 3372480 h 3372120"/>
            </a:gdLst>
            <a:ahLst/>
            <a:rect l="textAreaLeft" t="textAreaTop" r="textAreaRight" b="textAreaBottom"/>
            <a:pathLst>
              <a:path w="203" h="2124">
                <a:moveTo>
                  <a:pt x="178" y="19"/>
                </a:moveTo>
                <a:lnTo>
                  <a:pt x="172" y="17"/>
                </a:lnTo>
                <a:lnTo>
                  <a:pt x="121" y="3"/>
                </a:lnTo>
                <a:lnTo>
                  <a:pt x="111" y="0"/>
                </a:lnTo>
                <a:lnTo>
                  <a:pt x="111" y="2"/>
                </a:lnTo>
                <a:lnTo>
                  <a:pt x="109" y="2"/>
                </a:lnTo>
                <a:lnTo>
                  <a:pt x="107" y="3"/>
                </a:lnTo>
                <a:lnTo>
                  <a:pt x="107" y="3"/>
                </a:lnTo>
                <a:lnTo>
                  <a:pt x="105" y="5"/>
                </a:lnTo>
                <a:lnTo>
                  <a:pt x="105" y="5"/>
                </a:lnTo>
                <a:lnTo>
                  <a:pt x="103" y="7"/>
                </a:lnTo>
                <a:lnTo>
                  <a:pt x="103" y="9"/>
                </a:lnTo>
                <a:lnTo>
                  <a:pt x="119" y="11"/>
                </a:lnTo>
                <a:lnTo>
                  <a:pt x="169" y="26"/>
                </a:lnTo>
                <a:lnTo>
                  <a:pt x="172" y="28"/>
                </a:lnTo>
                <a:lnTo>
                  <a:pt x="174" y="26"/>
                </a:lnTo>
                <a:lnTo>
                  <a:pt x="174" y="26"/>
                </a:lnTo>
                <a:lnTo>
                  <a:pt x="174" y="25"/>
                </a:lnTo>
                <a:lnTo>
                  <a:pt x="176" y="23"/>
                </a:lnTo>
                <a:lnTo>
                  <a:pt x="176" y="23"/>
                </a:lnTo>
                <a:lnTo>
                  <a:pt x="176" y="21"/>
                </a:lnTo>
                <a:lnTo>
                  <a:pt x="178" y="21"/>
                </a:lnTo>
                <a:lnTo>
                  <a:pt x="178" y="19"/>
                </a:lnTo>
                <a:close/>
                <a:moveTo>
                  <a:pt x="7" y="2124"/>
                </a:moveTo>
                <a:lnTo>
                  <a:pt x="15" y="2122"/>
                </a:lnTo>
                <a:lnTo>
                  <a:pt x="67" y="2112"/>
                </a:lnTo>
                <a:lnTo>
                  <a:pt x="121" y="2101"/>
                </a:lnTo>
                <a:lnTo>
                  <a:pt x="172" y="2085"/>
                </a:lnTo>
                <a:lnTo>
                  <a:pt x="203" y="2076"/>
                </a:lnTo>
                <a:lnTo>
                  <a:pt x="201" y="2074"/>
                </a:lnTo>
                <a:lnTo>
                  <a:pt x="201" y="2074"/>
                </a:lnTo>
                <a:lnTo>
                  <a:pt x="201" y="2072"/>
                </a:lnTo>
                <a:lnTo>
                  <a:pt x="201" y="2072"/>
                </a:lnTo>
                <a:lnTo>
                  <a:pt x="199" y="2070"/>
                </a:lnTo>
                <a:lnTo>
                  <a:pt x="199" y="2070"/>
                </a:lnTo>
                <a:lnTo>
                  <a:pt x="199" y="2068"/>
                </a:lnTo>
                <a:lnTo>
                  <a:pt x="197" y="2066"/>
                </a:lnTo>
                <a:lnTo>
                  <a:pt x="169" y="2078"/>
                </a:lnTo>
                <a:lnTo>
                  <a:pt x="119" y="2091"/>
                </a:lnTo>
                <a:lnTo>
                  <a:pt x="65" y="2103"/>
                </a:lnTo>
                <a:lnTo>
                  <a:pt x="13" y="2112"/>
                </a:lnTo>
                <a:lnTo>
                  <a:pt x="0" y="2114"/>
                </a:lnTo>
                <a:lnTo>
                  <a:pt x="0" y="2116"/>
                </a:lnTo>
                <a:lnTo>
                  <a:pt x="2" y="2116"/>
                </a:lnTo>
                <a:lnTo>
                  <a:pt x="2" y="2118"/>
                </a:lnTo>
                <a:lnTo>
                  <a:pt x="4" y="2118"/>
                </a:lnTo>
                <a:lnTo>
                  <a:pt x="4" y="2120"/>
                </a:lnTo>
                <a:lnTo>
                  <a:pt x="5" y="2122"/>
                </a:lnTo>
                <a:lnTo>
                  <a:pt x="5" y="2122"/>
                </a:lnTo>
                <a:lnTo>
                  <a:pt x="7" y="2124"/>
                </a:lnTo>
                <a:close/>
              </a:path>
            </a:pathLst>
          </a:custGeom>
          <a:solidFill>
            <a:srgbClr val="1ba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61"/>
          <p:cNvSpPr/>
          <p:nvPr/>
        </p:nvSpPr>
        <p:spPr>
          <a:xfrm>
            <a:off x="7361280" y="1633680"/>
            <a:ext cx="325440" cy="3357360"/>
          </a:xfrm>
          <a:custGeom>
            <a:avLst/>
            <a:gdLst>
              <a:gd name="textAreaLeft" fmla="*/ 0 w 325440"/>
              <a:gd name="textAreaRight" fmla="*/ 325800 w 325440"/>
              <a:gd name="textAreaTop" fmla="*/ 0 h 3357360"/>
              <a:gd name="textAreaBottom" fmla="*/ 3357720 h 3357360"/>
            </a:gdLst>
            <a:ahLst/>
            <a:rect l="textAreaLeft" t="textAreaTop" r="textAreaRight" b="textAreaBottom"/>
            <a:pathLst>
              <a:path w="205" h="2115">
                <a:moveTo>
                  <a:pt x="180" y="20"/>
                </a:moveTo>
                <a:lnTo>
                  <a:pt x="175" y="18"/>
                </a:lnTo>
                <a:lnTo>
                  <a:pt x="123" y="4"/>
                </a:lnTo>
                <a:lnTo>
                  <a:pt x="111" y="0"/>
                </a:lnTo>
                <a:lnTo>
                  <a:pt x="109" y="2"/>
                </a:lnTo>
                <a:lnTo>
                  <a:pt x="109" y="2"/>
                </a:lnTo>
                <a:lnTo>
                  <a:pt x="107" y="4"/>
                </a:lnTo>
                <a:lnTo>
                  <a:pt x="107" y="6"/>
                </a:lnTo>
                <a:lnTo>
                  <a:pt x="105" y="6"/>
                </a:lnTo>
                <a:lnTo>
                  <a:pt x="105" y="8"/>
                </a:lnTo>
                <a:lnTo>
                  <a:pt x="104" y="8"/>
                </a:lnTo>
                <a:lnTo>
                  <a:pt x="104" y="10"/>
                </a:lnTo>
                <a:lnTo>
                  <a:pt x="121" y="14"/>
                </a:lnTo>
                <a:lnTo>
                  <a:pt x="171" y="27"/>
                </a:lnTo>
                <a:lnTo>
                  <a:pt x="175" y="29"/>
                </a:lnTo>
                <a:lnTo>
                  <a:pt x="175" y="27"/>
                </a:lnTo>
                <a:lnTo>
                  <a:pt x="176" y="27"/>
                </a:lnTo>
                <a:lnTo>
                  <a:pt x="176" y="25"/>
                </a:lnTo>
                <a:lnTo>
                  <a:pt x="176" y="25"/>
                </a:lnTo>
                <a:lnTo>
                  <a:pt x="178" y="23"/>
                </a:lnTo>
                <a:lnTo>
                  <a:pt x="178" y="23"/>
                </a:lnTo>
                <a:lnTo>
                  <a:pt x="178" y="22"/>
                </a:lnTo>
                <a:lnTo>
                  <a:pt x="180" y="20"/>
                </a:lnTo>
                <a:close/>
                <a:moveTo>
                  <a:pt x="8" y="2115"/>
                </a:moveTo>
                <a:lnTo>
                  <a:pt x="17" y="2115"/>
                </a:lnTo>
                <a:lnTo>
                  <a:pt x="71" y="2105"/>
                </a:lnTo>
                <a:lnTo>
                  <a:pt x="123" y="2094"/>
                </a:lnTo>
                <a:lnTo>
                  <a:pt x="175" y="2079"/>
                </a:lnTo>
                <a:lnTo>
                  <a:pt x="205" y="2069"/>
                </a:lnTo>
                <a:lnTo>
                  <a:pt x="203" y="2067"/>
                </a:lnTo>
                <a:lnTo>
                  <a:pt x="203" y="2067"/>
                </a:lnTo>
                <a:lnTo>
                  <a:pt x="203" y="2065"/>
                </a:lnTo>
                <a:lnTo>
                  <a:pt x="201" y="2063"/>
                </a:lnTo>
                <a:lnTo>
                  <a:pt x="201" y="2063"/>
                </a:lnTo>
                <a:lnTo>
                  <a:pt x="201" y="2061"/>
                </a:lnTo>
                <a:lnTo>
                  <a:pt x="201" y="2061"/>
                </a:lnTo>
                <a:lnTo>
                  <a:pt x="199" y="2059"/>
                </a:lnTo>
                <a:lnTo>
                  <a:pt x="171" y="2069"/>
                </a:lnTo>
                <a:lnTo>
                  <a:pt x="121" y="2084"/>
                </a:lnTo>
                <a:lnTo>
                  <a:pt x="69" y="2096"/>
                </a:lnTo>
                <a:lnTo>
                  <a:pt x="17" y="2105"/>
                </a:lnTo>
                <a:lnTo>
                  <a:pt x="0" y="2107"/>
                </a:lnTo>
                <a:lnTo>
                  <a:pt x="0" y="2109"/>
                </a:lnTo>
                <a:lnTo>
                  <a:pt x="2" y="2109"/>
                </a:lnTo>
                <a:lnTo>
                  <a:pt x="2" y="2111"/>
                </a:lnTo>
                <a:lnTo>
                  <a:pt x="4" y="2111"/>
                </a:lnTo>
                <a:lnTo>
                  <a:pt x="4" y="2113"/>
                </a:lnTo>
                <a:lnTo>
                  <a:pt x="6" y="2113"/>
                </a:lnTo>
                <a:lnTo>
                  <a:pt x="6" y="2115"/>
                </a:lnTo>
                <a:lnTo>
                  <a:pt x="8" y="2115"/>
                </a:lnTo>
                <a:close/>
              </a:path>
            </a:pathLst>
          </a:custGeom>
          <a:solidFill>
            <a:srgbClr val="1ca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62"/>
          <p:cNvSpPr/>
          <p:nvPr/>
        </p:nvSpPr>
        <p:spPr>
          <a:xfrm>
            <a:off x="7354800" y="1643040"/>
            <a:ext cx="325440" cy="3341880"/>
          </a:xfrm>
          <a:custGeom>
            <a:avLst/>
            <a:gdLst>
              <a:gd name="textAreaLeft" fmla="*/ 0 w 325440"/>
              <a:gd name="textAreaRight" fmla="*/ 325800 w 325440"/>
              <a:gd name="textAreaTop" fmla="*/ 0 h 3341880"/>
              <a:gd name="textAreaBottom" fmla="*/ 3342240 h 3341880"/>
            </a:gdLst>
            <a:ahLst/>
            <a:rect l="textAreaLeft" t="textAreaTop" r="textAreaRight" b="textAreaBottom"/>
            <a:pathLst>
              <a:path w="205" h="2105">
                <a:moveTo>
                  <a:pt x="180" y="19"/>
                </a:moveTo>
                <a:lnTo>
                  <a:pt x="177" y="17"/>
                </a:lnTo>
                <a:lnTo>
                  <a:pt x="127" y="2"/>
                </a:lnTo>
                <a:lnTo>
                  <a:pt x="111" y="0"/>
                </a:lnTo>
                <a:lnTo>
                  <a:pt x="109" y="0"/>
                </a:lnTo>
                <a:lnTo>
                  <a:pt x="109" y="2"/>
                </a:lnTo>
                <a:lnTo>
                  <a:pt x="108" y="2"/>
                </a:lnTo>
                <a:lnTo>
                  <a:pt x="108" y="4"/>
                </a:lnTo>
                <a:lnTo>
                  <a:pt x="106" y="4"/>
                </a:lnTo>
                <a:lnTo>
                  <a:pt x="106" y="6"/>
                </a:lnTo>
                <a:lnTo>
                  <a:pt x="104" y="6"/>
                </a:lnTo>
                <a:lnTo>
                  <a:pt x="104" y="8"/>
                </a:lnTo>
                <a:lnTo>
                  <a:pt x="123" y="12"/>
                </a:lnTo>
                <a:lnTo>
                  <a:pt x="175" y="27"/>
                </a:lnTo>
                <a:lnTo>
                  <a:pt x="177" y="27"/>
                </a:lnTo>
                <a:lnTo>
                  <a:pt x="177" y="25"/>
                </a:lnTo>
                <a:lnTo>
                  <a:pt x="179" y="25"/>
                </a:lnTo>
                <a:lnTo>
                  <a:pt x="179" y="23"/>
                </a:lnTo>
                <a:lnTo>
                  <a:pt x="179" y="23"/>
                </a:lnTo>
                <a:lnTo>
                  <a:pt x="179" y="21"/>
                </a:lnTo>
                <a:lnTo>
                  <a:pt x="180" y="21"/>
                </a:lnTo>
                <a:lnTo>
                  <a:pt x="180" y="19"/>
                </a:lnTo>
                <a:lnTo>
                  <a:pt x="180" y="19"/>
                </a:lnTo>
                <a:close/>
                <a:moveTo>
                  <a:pt x="8" y="2105"/>
                </a:moveTo>
                <a:lnTo>
                  <a:pt x="21" y="2103"/>
                </a:lnTo>
                <a:lnTo>
                  <a:pt x="73" y="2094"/>
                </a:lnTo>
                <a:lnTo>
                  <a:pt x="127" y="2082"/>
                </a:lnTo>
                <a:lnTo>
                  <a:pt x="177" y="2069"/>
                </a:lnTo>
                <a:lnTo>
                  <a:pt x="205" y="2057"/>
                </a:lnTo>
                <a:lnTo>
                  <a:pt x="205" y="2057"/>
                </a:lnTo>
                <a:lnTo>
                  <a:pt x="205" y="2055"/>
                </a:lnTo>
                <a:lnTo>
                  <a:pt x="205" y="2055"/>
                </a:lnTo>
                <a:lnTo>
                  <a:pt x="203" y="2053"/>
                </a:lnTo>
                <a:lnTo>
                  <a:pt x="203" y="2053"/>
                </a:lnTo>
                <a:lnTo>
                  <a:pt x="203" y="2051"/>
                </a:lnTo>
                <a:lnTo>
                  <a:pt x="202" y="2051"/>
                </a:lnTo>
                <a:lnTo>
                  <a:pt x="202" y="2049"/>
                </a:lnTo>
                <a:lnTo>
                  <a:pt x="175" y="2059"/>
                </a:lnTo>
                <a:lnTo>
                  <a:pt x="123" y="2073"/>
                </a:lnTo>
                <a:lnTo>
                  <a:pt x="71" y="2086"/>
                </a:lnTo>
                <a:lnTo>
                  <a:pt x="19" y="2094"/>
                </a:lnTo>
                <a:lnTo>
                  <a:pt x="0" y="2097"/>
                </a:lnTo>
                <a:lnTo>
                  <a:pt x="0" y="2097"/>
                </a:lnTo>
                <a:lnTo>
                  <a:pt x="2" y="2099"/>
                </a:lnTo>
                <a:lnTo>
                  <a:pt x="2" y="2099"/>
                </a:lnTo>
                <a:lnTo>
                  <a:pt x="4" y="2101"/>
                </a:lnTo>
                <a:lnTo>
                  <a:pt x="4" y="2103"/>
                </a:lnTo>
                <a:lnTo>
                  <a:pt x="6" y="2103"/>
                </a:lnTo>
                <a:lnTo>
                  <a:pt x="6" y="2105"/>
                </a:lnTo>
                <a:lnTo>
                  <a:pt x="8" y="2105"/>
                </a:lnTo>
                <a:close/>
              </a:path>
            </a:pathLst>
          </a:custGeom>
          <a:solidFill>
            <a:srgbClr val="1da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63"/>
          <p:cNvSpPr/>
          <p:nvPr/>
        </p:nvSpPr>
        <p:spPr>
          <a:xfrm>
            <a:off x="7348680" y="1649520"/>
            <a:ext cx="328320" cy="3328920"/>
          </a:xfrm>
          <a:custGeom>
            <a:avLst/>
            <a:gdLst>
              <a:gd name="textAreaLeft" fmla="*/ 0 w 328320"/>
              <a:gd name="textAreaRight" fmla="*/ 328680 w 328320"/>
              <a:gd name="textAreaTop" fmla="*/ 0 h 3328920"/>
              <a:gd name="textAreaBottom" fmla="*/ 3329280 h 3328920"/>
            </a:gdLst>
            <a:ahLst/>
            <a:rect l="textAreaLeft" t="textAreaTop" r="textAreaRight" b="textAreaBottom"/>
            <a:pathLst>
              <a:path w="207" h="2097">
                <a:moveTo>
                  <a:pt x="183" y="19"/>
                </a:moveTo>
                <a:lnTo>
                  <a:pt x="179" y="17"/>
                </a:lnTo>
                <a:lnTo>
                  <a:pt x="129" y="4"/>
                </a:lnTo>
                <a:lnTo>
                  <a:pt x="112" y="0"/>
                </a:lnTo>
                <a:lnTo>
                  <a:pt x="110" y="0"/>
                </a:lnTo>
                <a:lnTo>
                  <a:pt x="110" y="2"/>
                </a:lnTo>
                <a:lnTo>
                  <a:pt x="108" y="2"/>
                </a:lnTo>
                <a:lnTo>
                  <a:pt x="108" y="4"/>
                </a:lnTo>
                <a:lnTo>
                  <a:pt x="106" y="4"/>
                </a:lnTo>
                <a:lnTo>
                  <a:pt x="106" y="6"/>
                </a:lnTo>
                <a:lnTo>
                  <a:pt x="104" y="6"/>
                </a:lnTo>
                <a:lnTo>
                  <a:pt x="104" y="8"/>
                </a:lnTo>
                <a:lnTo>
                  <a:pt x="127" y="12"/>
                </a:lnTo>
                <a:lnTo>
                  <a:pt x="177" y="27"/>
                </a:lnTo>
                <a:lnTo>
                  <a:pt x="179" y="27"/>
                </a:lnTo>
                <a:lnTo>
                  <a:pt x="179" y="27"/>
                </a:lnTo>
                <a:lnTo>
                  <a:pt x="181" y="25"/>
                </a:lnTo>
                <a:lnTo>
                  <a:pt x="181" y="25"/>
                </a:lnTo>
                <a:lnTo>
                  <a:pt x="181" y="23"/>
                </a:lnTo>
                <a:lnTo>
                  <a:pt x="181" y="21"/>
                </a:lnTo>
                <a:lnTo>
                  <a:pt x="183" y="21"/>
                </a:lnTo>
                <a:lnTo>
                  <a:pt x="183" y="19"/>
                </a:lnTo>
                <a:lnTo>
                  <a:pt x="183" y="19"/>
                </a:lnTo>
                <a:close/>
                <a:moveTo>
                  <a:pt x="8" y="2097"/>
                </a:moveTo>
                <a:lnTo>
                  <a:pt x="25" y="2095"/>
                </a:lnTo>
                <a:lnTo>
                  <a:pt x="77" y="2086"/>
                </a:lnTo>
                <a:lnTo>
                  <a:pt x="129" y="2074"/>
                </a:lnTo>
                <a:lnTo>
                  <a:pt x="179" y="2059"/>
                </a:lnTo>
                <a:lnTo>
                  <a:pt x="207" y="2049"/>
                </a:lnTo>
                <a:lnTo>
                  <a:pt x="207" y="2049"/>
                </a:lnTo>
                <a:lnTo>
                  <a:pt x="207" y="2047"/>
                </a:lnTo>
                <a:lnTo>
                  <a:pt x="206" y="2047"/>
                </a:lnTo>
                <a:lnTo>
                  <a:pt x="206" y="2045"/>
                </a:lnTo>
                <a:lnTo>
                  <a:pt x="206" y="2044"/>
                </a:lnTo>
                <a:lnTo>
                  <a:pt x="206" y="2044"/>
                </a:lnTo>
                <a:lnTo>
                  <a:pt x="204" y="2042"/>
                </a:lnTo>
                <a:lnTo>
                  <a:pt x="204" y="2042"/>
                </a:lnTo>
                <a:lnTo>
                  <a:pt x="177" y="2051"/>
                </a:lnTo>
                <a:lnTo>
                  <a:pt x="127" y="2065"/>
                </a:lnTo>
                <a:lnTo>
                  <a:pt x="75" y="2076"/>
                </a:lnTo>
                <a:lnTo>
                  <a:pt x="23" y="2086"/>
                </a:lnTo>
                <a:lnTo>
                  <a:pt x="0" y="2090"/>
                </a:lnTo>
                <a:lnTo>
                  <a:pt x="0" y="2090"/>
                </a:lnTo>
                <a:lnTo>
                  <a:pt x="2" y="2092"/>
                </a:lnTo>
                <a:lnTo>
                  <a:pt x="2" y="2092"/>
                </a:lnTo>
                <a:lnTo>
                  <a:pt x="4" y="2093"/>
                </a:lnTo>
                <a:lnTo>
                  <a:pt x="4" y="2093"/>
                </a:lnTo>
                <a:lnTo>
                  <a:pt x="6" y="2095"/>
                </a:lnTo>
                <a:lnTo>
                  <a:pt x="6" y="2095"/>
                </a:lnTo>
                <a:lnTo>
                  <a:pt x="8" y="2097"/>
                </a:lnTo>
                <a:close/>
              </a:path>
            </a:pathLst>
          </a:custGeom>
          <a:solidFill>
            <a:srgbClr val="1ea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64"/>
          <p:cNvSpPr/>
          <p:nvPr/>
        </p:nvSpPr>
        <p:spPr>
          <a:xfrm>
            <a:off x="7342200" y="1655640"/>
            <a:ext cx="333360" cy="3316320"/>
          </a:xfrm>
          <a:custGeom>
            <a:avLst/>
            <a:gdLst>
              <a:gd name="textAreaLeft" fmla="*/ 0 w 333360"/>
              <a:gd name="textAreaRight" fmla="*/ 333720 w 33336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210" h="2089">
                <a:moveTo>
                  <a:pt x="185" y="19"/>
                </a:moveTo>
                <a:lnTo>
                  <a:pt x="183" y="19"/>
                </a:lnTo>
                <a:lnTo>
                  <a:pt x="131" y="4"/>
                </a:lnTo>
                <a:lnTo>
                  <a:pt x="112" y="0"/>
                </a:lnTo>
                <a:lnTo>
                  <a:pt x="110" y="0"/>
                </a:lnTo>
                <a:lnTo>
                  <a:pt x="110" y="2"/>
                </a:lnTo>
                <a:lnTo>
                  <a:pt x="108" y="2"/>
                </a:lnTo>
                <a:lnTo>
                  <a:pt x="108" y="4"/>
                </a:lnTo>
                <a:lnTo>
                  <a:pt x="106" y="4"/>
                </a:lnTo>
                <a:lnTo>
                  <a:pt x="104" y="6"/>
                </a:lnTo>
                <a:lnTo>
                  <a:pt x="104" y="6"/>
                </a:lnTo>
                <a:lnTo>
                  <a:pt x="102" y="8"/>
                </a:lnTo>
                <a:lnTo>
                  <a:pt x="129" y="13"/>
                </a:lnTo>
                <a:lnTo>
                  <a:pt x="179" y="27"/>
                </a:lnTo>
                <a:lnTo>
                  <a:pt x="181" y="29"/>
                </a:lnTo>
                <a:lnTo>
                  <a:pt x="181" y="27"/>
                </a:lnTo>
                <a:lnTo>
                  <a:pt x="183" y="25"/>
                </a:lnTo>
                <a:lnTo>
                  <a:pt x="183" y="25"/>
                </a:lnTo>
                <a:lnTo>
                  <a:pt x="183" y="23"/>
                </a:lnTo>
                <a:lnTo>
                  <a:pt x="183" y="23"/>
                </a:lnTo>
                <a:lnTo>
                  <a:pt x="185" y="21"/>
                </a:lnTo>
                <a:lnTo>
                  <a:pt x="185" y="21"/>
                </a:lnTo>
                <a:lnTo>
                  <a:pt x="185" y="19"/>
                </a:lnTo>
                <a:close/>
                <a:moveTo>
                  <a:pt x="8" y="2089"/>
                </a:moveTo>
                <a:lnTo>
                  <a:pt x="27" y="2086"/>
                </a:lnTo>
                <a:lnTo>
                  <a:pt x="79" y="2078"/>
                </a:lnTo>
                <a:lnTo>
                  <a:pt x="131" y="2065"/>
                </a:lnTo>
                <a:lnTo>
                  <a:pt x="183" y="2051"/>
                </a:lnTo>
                <a:lnTo>
                  <a:pt x="210" y="2041"/>
                </a:lnTo>
                <a:lnTo>
                  <a:pt x="210" y="2040"/>
                </a:lnTo>
                <a:lnTo>
                  <a:pt x="210" y="2040"/>
                </a:lnTo>
                <a:lnTo>
                  <a:pt x="208" y="2038"/>
                </a:lnTo>
                <a:lnTo>
                  <a:pt x="208" y="2038"/>
                </a:lnTo>
                <a:lnTo>
                  <a:pt x="208" y="2036"/>
                </a:lnTo>
                <a:lnTo>
                  <a:pt x="206" y="2036"/>
                </a:lnTo>
                <a:lnTo>
                  <a:pt x="206" y="2034"/>
                </a:lnTo>
                <a:lnTo>
                  <a:pt x="206" y="2034"/>
                </a:lnTo>
                <a:lnTo>
                  <a:pt x="179" y="2041"/>
                </a:lnTo>
                <a:lnTo>
                  <a:pt x="129" y="2057"/>
                </a:lnTo>
                <a:lnTo>
                  <a:pt x="79" y="2068"/>
                </a:lnTo>
                <a:lnTo>
                  <a:pt x="25" y="2078"/>
                </a:lnTo>
                <a:lnTo>
                  <a:pt x="0" y="2080"/>
                </a:lnTo>
                <a:lnTo>
                  <a:pt x="2" y="2082"/>
                </a:lnTo>
                <a:lnTo>
                  <a:pt x="2" y="2082"/>
                </a:lnTo>
                <a:lnTo>
                  <a:pt x="4" y="2084"/>
                </a:lnTo>
                <a:lnTo>
                  <a:pt x="4" y="2086"/>
                </a:lnTo>
                <a:lnTo>
                  <a:pt x="4" y="2086"/>
                </a:lnTo>
                <a:lnTo>
                  <a:pt x="6" y="2088"/>
                </a:lnTo>
                <a:lnTo>
                  <a:pt x="6" y="2088"/>
                </a:lnTo>
                <a:lnTo>
                  <a:pt x="8" y="2089"/>
                </a:lnTo>
                <a:close/>
              </a:path>
            </a:pathLst>
          </a:custGeom>
          <a:solidFill>
            <a:srgbClr val="1fa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65"/>
          <p:cNvSpPr/>
          <p:nvPr/>
        </p:nvSpPr>
        <p:spPr>
          <a:xfrm>
            <a:off x="7337520" y="1662120"/>
            <a:ext cx="334800" cy="3305160"/>
          </a:xfrm>
          <a:custGeom>
            <a:avLst/>
            <a:gdLst>
              <a:gd name="textAreaLeft" fmla="*/ 0 w 334800"/>
              <a:gd name="textAreaRight" fmla="*/ 334800 w 334800"/>
              <a:gd name="textAreaTop" fmla="*/ 0 h 3305160"/>
              <a:gd name="textAreaBottom" fmla="*/ 3305520 h 3305160"/>
            </a:gdLst>
            <a:ahLst/>
            <a:rect l="textAreaLeft" t="textAreaTop" r="textAreaRight" b="textAreaBottom"/>
            <a:pathLst>
              <a:path w="211" h="2082">
                <a:moveTo>
                  <a:pt x="186" y="19"/>
                </a:moveTo>
                <a:lnTo>
                  <a:pt x="184" y="19"/>
                </a:lnTo>
                <a:lnTo>
                  <a:pt x="134" y="4"/>
                </a:lnTo>
                <a:lnTo>
                  <a:pt x="111" y="0"/>
                </a:lnTo>
                <a:lnTo>
                  <a:pt x="109" y="0"/>
                </a:lnTo>
                <a:lnTo>
                  <a:pt x="107" y="2"/>
                </a:lnTo>
                <a:lnTo>
                  <a:pt x="107" y="2"/>
                </a:lnTo>
                <a:lnTo>
                  <a:pt x="105" y="4"/>
                </a:lnTo>
                <a:lnTo>
                  <a:pt x="105" y="4"/>
                </a:lnTo>
                <a:lnTo>
                  <a:pt x="103" y="5"/>
                </a:lnTo>
                <a:lnTo>
                  <a:pt x="103" y="5"/>
                </a:lnTo>
                <a:lnTo>
                  <a:pt x="101" y="7"/>
                </a:lnTo>
                <a:lnTo>
                  <a:pt x="130" y="13"/>
                </a:lnTo>
                <a:lnTo>
                  <a:pt x="180" y="28"/>
                </a:lnTo>
                <a:lnTo>
                  <a:pt x="182" y="28"/>
                </a:lnTo>
                <a:lnTo>
                  <a:pt x="182" y="27"/>
                </a:lnTo>
                <a:lnTo>
                  <a:pt x="184" y="27"/>
                </a:lnTo>
                <a:lnTo>
                  <a:pt x="184" y="25"/>
                </a:lnTo>
                <a:lnTo>
                  <a:pt x="184" y="25"/>
                </a:lnTo>
                <a:lnTo>
                  <a:pt x="184" y="23"/>
                </a:lnTo>
                <a:lnTo>
                  <a:pt x="186" y="21"/>
                </a:lnTo>
                <a:lnTo>
                  <a:pt x="186" y="21"/>
                </a:lnTo>
                <a:lnTo>
                  <a:pt x="186" y="19"/>
                </a:lnTo>
                <a:close/>
                <a:moveTo>
                  <a:pt x="7" y="2082"/>
                </a:moveTo>
                <a:lnTo>
                  <a:pt x="30" y="2078"/>
                </a:lnTo>
                <a:lnTo>
                  <a:pt x="82" y="2068"/>
                </a:lnTo>
                <a:lnTo>
                  <a:pt x="134" y="2057"/>
                </a:lnTo>
                <a:lnTo>
                  <a:pt x="184" y="2043"/>
                </a:lnTo>
                <a:lnTo>
                  <a:pt x="211" y="2034"/>
                </a:lnTo>
                <a:lnTo>
                  <a:pt x="211" y="2032"/>
                </a:lnTo>
                <a:lnTo>
                  <a:pt x="209" y="2032"/>
                </a:lnTo>
                <a:lnTo>
                  <a:pt x="209" y="2030"/>
                </a:lnTo>
                <a:lnTo>
                  <a:pt x="209" y="2030"/>
                </a:lnTo>
                <a:lnTo>
                  <a:pt x="209" y="2028"/>
                </a:lnTo>
                <a:lnTo>
                  <a:pt x="207" y="2026"/>
                </a:lnTo>
                <a:lnTo>
                  <a:pt x="207" y="2026"/>
                </a:lnTo>
                <a:lnTo>
                  <a:pt x="207" y="2024"/>
                </a:lnTo>
                <a:lnTo>
                  <a:pt x="180" y="2034"/>
                </a:lnTo>
                <a:lnTo>
                  <a:pt x="130" y="2047"/>
                </a:lnTo>
                <a:lnTo>
                  <a:pt x="80" y="2059"/>
                </a:lnTo>
                <a:lnTo>
                  <a:pt x="28" y="2068"/>
                </a:lnTo>
                <a:lnTo>
                  <a:pt x="0" y="2072"/>
                </a:lnTo>
                <a:lnTo>
                  <a:pt x="1" y="2074"/>
                </a:lnTo>
                <a:lnTo>
                  <a:pt x="1" y="2074"/>
                </a:lnTo>
                <a:lnTo>
                  <a:pt x="3" y="2076"/>
                </a:lnTo>
                <a:lnTo>
                  <a:pt x="3" y="2076"/>
                </a:lnTo>
                <a:lnTo>
                  <a:pt x="5" y="2078"/>
                </a:lnTo>
                <a:lnTo>
                  <a:pt x="5" y="2078"/>
                </a:lnTo>
                <a:lnTo>
                  <a:pt x="5" y="2080"/>
                </a:lnTo>
                <a:lnTo>
                  <a:pt x="7" y="2082"/>
                </a:lnTo>
                <a:close/>
              </a:path>
            </a:pathLst>
          </a:custGeom>
          <a:solidFill>
            <a:srgbClr val="20a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66"/>
          <p:cNvSpPr/>
          <p:nvPr/>
        </p:nvSpPr>
        <p:spPr>
          <a:xfrm>
            <a:off x="7331040" y="1668600"/>
            <a:ext cx="338040" cy="3289320"/>
          </a:xfrm>
          <a:custGeom>
            <a:avLst/>
            <a:gdLst>
              <a:gd name="textAreaLeft" fmla="*/ 0 w 338040"/>
              <a:gd name="textAreaRight" fmla="*/ 338400 w 338040"/>
              <a:gd name="textAreaTop" fmla="*/ 0 h 3289320"/>
              <a:gd name="textAreaBottom" fmla="*/ 3289680 h 3289320"/>
            </a:gdLst>
            <a:ahLst/>
            <a:rect l="textAreaLeft" t="textAreaTop" r="textAreaRight" b="textAreaBottom"/>
            <a:pathLst>
              <a:path w="213" h="2072">
                <a:moveTo>
                  <a:pt x="188" y="21"/>
                </a:moveTo>
                <a:lnTo>
                  <a:pt x="186" y="19"/>
                </a:lnTo>
                <a:lnTo>
                  <a:pt x="136" y="5"/>
                </a:lnTo>
                <a:lnTo>
                  <a:pt x="109" y="0"/>
                </a:lnTo>
                <a:lnTo>
                  <a:pt x="109" y="0"/>
                </a:lnTo>
                <a:lnTo>
                  <a:pt x="107" y="1"/>
                </a:lnTo>
                <a:lnTo>
                  <a:pt x="107" y="1"/>
                </a:lnTo>
                <a:lnTo>
                  <a:pt x="105" y="3"/>
                </a:lnTo>
                <a:lnTo>
                  <a:pt x="105" y="3"/>
                </a:lnTo>
                <a:lnTo>
                  <a:pt x="103" y="5"/>
                </a:lnTo>
                <a:lnTo>
                  <a:pt x="103" y="5"/>
                </a:lnTo>
                <a:lnTo>
                  <a:pt x="101" y="7"/>
                </a:lnTo>
                <a:lnTo>
                  <a:pt x="134" y="15"/>
                </a:lnTo>
                <a:lnTo>
                  <a:pt x="184" y="28"/>
                </a:lnTo>
                <a:lnTo>
                  <a:pt x="184" y="28"/>
                </a:lnTo>
                <a:lnTo>
                  <a:pt x="184" y="26"/>
                </a:lnTo>
                <a:lnTo>
                  <a:pt x="184" y="26"/>
                </a:lnTo>
                <a:lnTo>
                  <a:pt x="184" y="26"/>
                </a:lnTo>
                <a:lnTo>
                  <a:pt x="184" y="26"/>
                </a:lnTo>
                <a:lnTo>
                  <a:pt x="186" y="24"/>
                </a:lnTo>
                <a:lnTo>
                  <a:pt x="186" y="24"/>
                </a:lnTo>
                <a:lnTo>
                  <a:pt x="186" y="24"/>
                </a:lnTo>
                <a:lnTo>
                  <a:pt x="186" y="24"/>
                </a:lnTo>
                <a:lnTo>
                  <a:pt x="186" y="23"/>
                </a:lnTo>
                <a:lnTo>
                  <a:pt x="186" y="23"/>
                </a:lnTo>
                <a:lnTo>
                  <a:pt x="188" y="23"/>
                </a:lnTo>
                <a:lnTo>
                  <a:pt x="188" y="21"/>
                </a:lnTo>
                <a:lnTo>
                  <a:pt x="188" y="21"/>
                </a:lnTo>
                <a:lnTo>
                  <a:pt x="188" y="21"/>
                </a:lnTo>
                <a:lnTo>
                  <a:pt x="188" y="21"/>
                </a:lnTo>
                <a:close/>
                <a:moveTo>
                  <a:pt x="7" y="2072"/>
                </a:moveTo>
                <a:lnTo>
                  <a:pt x="32" y="2070"/>
                </a:lnTo>
                <a:lnTo>
                  <a:pt x="86" y="2060"/>
                </a:lnTo>
                <a:lnTo>
                  <a:pt x="136" y="2049"/>
                </a:lnTo>
                <a:lnTo>
                  <a:pt x="186" y="2033"/>
                </a:lnTo>
                <a:lnTo>
                  <a:pt x="213" y="2026"/>
                </a:lnTo>
                <a:lnTo>
                  <a:pt x="213" y="2024"/>
                </a:lnTo>
                <a:lnTo>
                  <a:pt x="211" y="2022"/>
                </a:lnTo>
                <a:lnTo>
                  <a:pt x="211" y="2022"/>
                </a:lnTo>
                <a:lnTo>
                  <a:pt x="211" y="2020"/>
                </a:lnTo>
                <a:lnTo>
                  <a:pt x="211" y="2020"/>
                </a:lnTo>
                <a:lnTo>
                  <a:pt x="209" y="2018"/>
                </a:lnTo>
                <a:lnTo>
                  <a:pt x="209" y="2018"/>
                </a:lnTo>
                <a:lnTo>
                  <a:pt x="209" y="2016"/>
                </a:lnTo>
                <a:lnTo>
                  <a:pt x="184" y="2024"/>
                </a:lnTo>
                <a:lnTo>
                  <a:pt x="134" y="2039"/>
                </a:lnTo>
                <a:lnTo>
                  <a:pt x="84" y="2051"/>
                </a:lnTo>
                <a:lnTo>
                  <a:pt x="32" y="2060"/>
                </a:lnTo>
                <a:lnTo>
                  <a:pt x="0" y="2064"/>
                </a:lnTo>
                <a:lnTo>
                  <a:pt x="2" y="2064"/>
                </a:lnTo>
                <a:lnTo>
                  <a:pt x="2" y="2066"/>
                </a:lnTo>
                <a:lnTo>
                  <a:pt x="4" y="2066"/>
                </a:lnTo>
                <a:lnTo>
                  <a:pt x="4" y="2068"/>
                </a:lnTo>
                <a:lnTo>
                  <a:pt x="5" y="2070"/>
                </a:lnTo>
                <a:lnTo>
                  <a:pt x="5" y="2070"/>
                </a:lnTo>
                <a:lnTo>
                  <a:pt x="7" y="2072"/>
                </a:lnTo>
                <a:lnTo>
                  <a:pt x="7" y="2072"/>
                </a:lnTo>
                <a:close/>
              </a:path>
            </a:pathLst>
          </a:custGeom>
          <a:solidFill>
            <a:srgbClr val="21a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67"/>
          <p:cNvSpPr/>
          <p:nvPr/>
        </p:nvSpPr>
        <p:spPr>
          <a:xfrm>
            <a:off x="7327800" y="1673280"/>
            <a:ext cx="338400" cy="3278160"/>
          </a:xfrm>
          <a:custGeom>
            <a:avLst/>
            <a:gdLst>
              <a:gd name="textAreaLeft" fmla="*/ 0 w 338400"/>
              <a:gd name="textAreaRight" fmla="*/ 338400 w 338400"/>
              <a:gd name="textAreaTop" fmla="*/ 0 h 3278160"/>
              <a:gd name="textAreaBottom" fmla="*/ 3278520 h 3278160"/>
            </a:gdLst>
            <a:ahLst/>
            <a:rect l="textAreaLeft" t="textAreaTop" r="textAreaRight" b="textAreaBottom"/>
            <a:pathLst>
              <a:path w="213" h="2065">
                <a:moveTo>
                  <a:pt x="188" y="21"/>
                </a:moveTo>
                <a:lnTo>
                  <a:pt x="186" y="21"/>
                </a:lnTo>
                <a:lnTo>
                  <a:pt x="136" y="6"/>
                </a:lnTo>
                <a:lnTo>
                  <a:pt x="107" y="0"/>
                </a:lnTo>
                <a:lnTo>
                  <a:pt x="107" y="0"/>
                </a:lnTo>
                <a:lnTo>
                  <a:pt x="105" y="2"/>
                </a:lnTo>
                <a:lnTo>
                  <a:pt x="105" y="2"/>
                </a:lnTo>
                <a:lnTo>
                  <a:pt x="103" y="4"/>
                </a:lnTo>
                <a:lnTo>
                  <a:pt x="103" y="4"/>
                </a:lnTo>
                <a:lnTo>
                  <a:pt x="101" y="6"/>
                </a:lnTo>
                <a:lnTo>
                  <a:pt x="101" y="6"/>
                </a:lnTo>
                <a:lnTo>
                  <a:pt x="100" y="8"/>
                </a:lnTo>
                <a:lnTo>
                  <a:pt x="134" y="16"/>
                </a:lnTo>
                <a:lnTo>
                  <a:pt x="182" y="29"/>
                </a:lnTo>
                <a:lnTo>
                  <a:pt x="182" y="27"/>
                </a:lnTo>
                <a:lnTo>
                  <a:pt x="184" y="27"/>
                </a:lnTo>
                <a:lnTo>
                  <a:pt x="184" y="25"/>
                </a:lnTo>
                <a:lnTo>
                  <a:pt x="184" y="25"/>
                </a:lnTo>
                <a:lnTo>
                  <a:pt x="186" y="23"/>
                </a:lnTo>
                <a:lnTo>
                  <a:pt x="186" y="23"/>
                </a:lnTo>
                <a:lnTo>
                  <a:pt x="188" y="21"/>
                </a:lnTo>
                <a:lnTo>
                  <a:pt x="188" y="21"/>
                </a:lnTo>
                <a:lnTo>
                  <a:pt x="188" y="21"/>
                </a:lnTo>
                <a:lnTo>
                  <a:pt x="188" y="21"/>
                </a:lnTo>
                <a:lnTo>
                  <a:pt x="188" y="21"/>
                </a:lnTo>
                <a:lnTo>
                  <a:pt x="188" y="21"/>
                </a:lnTo>
                <a:lnTo>
                  <a:pt x="188" y="21"/>
                </a:lnTo>
                <a:lnTo>
                  <a:pt x="188" y="21"/>
                </a:lnTo>
                <a:lnTo>
                  <a:pt x="188" y="21"/>
                </a:lnTo>
                <a:lnTo>
                  <a:pt x="188" y="21"/>
                </a:lnTo>
                <a:close/>
                <a:moveTo>
                  <a:pt x="6" y="2065"/>
                </a:moveTo>
                <a:lnTo>
                  <a:pt x="34" y="2061"/>
                </a:lnTo>
                <a:lnTo>
                  <a:pt x="86" y="2052"/>
                </a:lnTo>
                <a:lnTo>
                  <a:pt x="136" y="2040"/>
                </a:lnTo>
                <a:lnTo>
                  <a:pt x="186" y="2027"/>
                </a:lnTo>
                <a:lnTo>
                  <a:pt x="213" y="2017"/>
                </a:lnTo>
                <a:lnTo>
                  <a:pt x="213" y="2017"/>
                </a:lnTo>
                <a:lnTo>
                  <a:pt x="211" y="2015"/>
                </a:lnTo>
                <a:lnTo>
                  <a:pt x="211" y="2015"/>
                </a:lnTo>
                <a:lnTo>
                  <a:pt x="211" y="2013"/>
                </a:lnTo>
                <a:lnTo>
                  <a:pt x="209" y="2013"/>
                </a:lnTo>
                <a:lnTo>
                  <a:pt x="209" y="2011"/>
                </a:lnTo>
                <a:lnTo>
                  <a:pt x="209" y="2009"/>
                </a:lnTo>
                <a:lnTo>
                  <a:pt x="209" y="2009"/>
                </a:lnTo>
                <a:lnTo>
                  <a:pt x="184" y="2017"/>
                </a:lnTo>
                <a:lnTo>
                  <a:pt x="134" y="2030"/>
                </a:lnTo>
                <a:lnTo>
                  <a:pt x="84" y="2042"/>
                </a:lnTo>
                <a:lnTo>
                  <a:pt x="32" y="2052"/>
                </a:lnTo>
                <a:lnTo>
                  <a:pt x="0" y="2057"/>
                </a:lnTo>
                <a:lnTo>
                  <a:pt x="0" y="2057"/>
                </a:lnTo>
                <a:lnTo>
                  <a:pt x="2" y="2059"/>
                </a:lnTo>
                <a:lnTo>
                  <a:pt x="2" y="2059"/>
                </a:lnTo>
                <a:lnTo>
                  <a:pt x="2" y="2061"/>
                </a:lnTo>
                <a:lnTo>
                  <a:pt x="4" y="2061"/>
                </a:lnTo>
                <a:lnTo>
                  <a:pt x="4" y="2063"/>
                </a:lnTo>
                <a:lnTo>
                  <a:pt x="6" y="2063"/>
                </a:lnTo>
                <a:lnTo>
                  <a:pt x="6" y="2065"/>
                </a:lnTo>
                <a:close/>
              </a:path>
            </a:pathLst>
          </a:custGeom>
          <a:solidFill>
            <a:srgbClr val="22a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68"/>
          <p:cNvSpPr/>
          <p:nvPr/>
        </p:nvSpPr>
        <p:spPr>
          <a:xfrm>
            <a:off x="7321680" y="1679400"/>
            <a:ext cx="341280" cy="3265560"/>
          </a:xfrm>
          <a:custGeom>
            <a:avLst/>
            <a:gdLst>
              <a:gd name="textAreaLeft" fmla="*/ 0 w 341280"/>
              <a:gd name="textAreaRight" fmla="*/ 341640 w 341280"/>
              <a:gd name="textAreaTop" fmla="*/ 0 h 3265560"/>
              <a:gd name="textAreaBottom" fmla="*/ 3265920 h 3265560"/>
            </a:gdLst>
            <a:ahLst/>
            <a:rect l="textAreaLeft" t="textAreaTop" r="textAreaRight" b="textAreaBottom"/>
            <a:pathLst>
              <a:path w="215" h="2057">
                <a:moveTo>
                  <a:pt x="190" y="21"/>
                </a:moveTo>
                <a:lnTo>
                  <a:pt x="140" y="8"/>
                </a:lnTo>
                <a:lnTo>
                  <a:pt x="107" y="0"/>
                </a:lnTo>
                <a:lnTo>
                  <a:pt x="107" y="0"/>
                </a:lnTo>
                <a:lnTo>
                  <a:pt x="105" y="2"/>
                </a:lnTo>
                <a:lnTo>
                  <a:pt x="105" y="2"/>
                </a:lnTo>
                <a:lnTo>
                  <a:pt x="104" y="4"/>
                </a:lnTo>
                <a:lnTo>
                  <a:pt x="104" y="4"/>
                </a:lnTo>
                <a:lnTo>
                  <a:pt x="102" y="6"/>
                </a:lnTo>
                <a:lnTo>
                  <a:pt x="102" y="6"/>
                </a:lnTo>
                <a:lnTo>
                  <a:pt x="100" y="8"/>
                </a:lnTo>
                <a:lnTo>
                  <a:pt x="138" y="16"/>
                </a:lnTo>
                <a:lnTo>
                  <a:pt x="182" y="29"/>
                </a:lnTo>
                <a:lnTo>
                  <a:pt x="184" y="29"/>
                </a:lnTo>
                <a:lnTo>
                  <a:pt x="184" y="27"/>
                </a:lnTo>
                <a:lnTo>
                  <a:pt x="184" y="27"/>
                </a:lnTo>
                <a:lnTo>
                  <a:pt x="186" y="25"/>
                </a:lnTo>
                <a:lnTo>
                  <a:pt x="186" y="23"/>
                </a:lnTo>
                <a:lnTo>
                  <a:pt x="188" y="23"/>
                </a:lnTo>
                <a:lnTo>
                  <a:pt x="188" y="21"/>
                </a:lnTo>
                <a:lnTo>
                  <a:pt x="190" y="21"/>
                </a:lnTo>
                <a:close/>
                <a:moveTo>
                  <a:pt x="6" y="2057"/>
                </a:moveTo>
                <a:lnTo>
                  <a:pt x="38" y="2053"/>
                </a:lnTo>
                <a:lnTo>
                  <a:pt x="90" y="2044"/>
                </a:lnTo>
                <a:lnTo>
                  <a:pt x="140" y="2032"/>
                </a:lnTo>
                <a:lnTo>
                  <a:pt x="190" y="2017"/>
                </a:lnTo>
                <a:lnTo>
                  <a:pt x="215" y="2009"/>
                </a:lnTo>
                <a:lnTo>
                  <a:pt x="213" y="2009"/>
                </a:lnTo>
                <a:lnTo>
                  <a:pt x="213" y="2007"/>
                </a:lnTo>
                <a:lnTo>
                  <a:pt x="213" y="2005"/>
                </a:lnTo>
                <a:lnTo>
                  <a:pt x="213" y="2005"/>
                </a:lnTo>
                <a:lnTo>
                  <a:pt x="211" y="2003"/>
                </a:lnTo>
                <a:lnTo>
                  <a:pt x="211" y="2003"/>
                </a:lnTo>
                <a:lnTo>
                  <a:pt x="211" y="2002"/>
                </a:lnTo>
                <a:lnTo>
                  <a:pt x="211" y="2002"/>
                </a:lnTo>
                <a:lnTo>
                  <a:pt x="186" y="2009"/>
                </a:lnTo>
                <a:lnTo>
                  <a:pt x="138" y="2023"/>
                </a:lnTo>
                <a:lnTo>
                  <a:pt x="88" y="2034"/>
                </a:lnTo>
                <a:lnTo>
                  <a:pt x="36" y="2044"/>
                </a:lnTo>
                <a:lnTo>
                  <a:pt x="0" y="2048"/>
                </a:lnTo>
                <a:lnTo>
                  <a:pt x="0" y="2050"/>
                </a:lnTo>
                <a:lnTo>
                  <a:pt x="2" y="2050"/>
                </a:lnTo>
                <a:lnTo>
                  <a:pt x="2" y="2051"/>
                </a:lnTo>
                <a:lnTo>
                  <a:pt x="4" y="2053"/>
                </a:lnTo>
                <a:lnTo>
                  <a:pt x="4" y="2053"/>
                </a:lnTo>
                <a:lnTo>
                  <a:pt x="6" y="2055"/>
                </a:lnTo>
                <a:lnTo>
                  <a:pt x="6" y="2055"/>
                </a:lnTo>
                <a:lnTo>
                  <a:pt x="6" y="2057"/>
                </a:lnTo>
                <a:close/>
              </a:path>
            </a:pathLst>
          </a:custGeom>
          <a:solidFill>
            <a:srgbClr val="23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69"/>
          <p:cNvSpPr/>
          <p:nvPr/>
        </p:nvSpPr>
        <p:spPr>
          <a:xfrm>
            <a:off x="7315200" y="1685880"/>
            <a:ext cx="344520" cy="3252960"/>
          </a:xfrm>
          <a:custGeom>
            <a:avLst/>
            <a:gdLst>
              <a:gd name="textAreaLeft" fmla="*/ 0 w 344520"/>
              <a:gd name="textAreaRight" fmla="*/ 344880 w 344520"/>
              <a:gd name="textAreaTop" fmla="*/ 0 h 3252960"/>
              <a:gd name="textAreaBottom" fmla="*/ 3253320 h 3252960"/>
            </a:gdLst>
            <a:ahLst/>
            <a:rect l="textAreaLeft" t="textAreaTop" r="textAreaRight" b="textAreaBottom"/>
            <a:pathLst>
              <a:path w="217" h="2049">
                <a:moveTo>
                  <a:pt x="190" y="21"/>
                </a:moveTo>
                <a:lnTo>
                  <a:pt x="142" y="8"/>
                </a:lnTo>
                <a:lnTo>
                  <a:pt x="108" y="0"/>
                </a:lnTo>
                <a:lnTo>
                  <a:pt x="108" y="0"/>
                </a:lnTo>
                <a:lnTo>
                  <a:pt x="106" y="2"/>
                </a:lnTo>
                <a:lnTo>
                  <a:pt x="106" y="2"/>
                </a:lnTo>
                <a:lnTo>
                  <a:pt x="104" y="4"/>
                </a:lnTo>
                <a:lnTo>
                  <a:pt x="104" y="4"/>
                </a:lnTo>
                <a:lnTo>
                  <a:pt x="102" y="6"/>
                </a:lnTo>
                <a:lnTo>
                  <a:pt x="102" y="6"/>
                </a:lnTo>
                <a:lnTo>
                  <a:pt x="100" y="8"/>
                </a:lnTo>
                <a:lnTo>
                  <a:pt x="140" y="17"/>
                </a:lnTo>
                <a:lnTo>
                  <a:pt x="184" y="29"/>
                </a:lnTo>
                <a:lnTo>
                  <a:pt x="184" y="29"/>
                </a:lnTo>
                <a:lnTo>
                  <a:pt x="184" y="27"/>
                </a:lnTo>
                <a:lnTo>
                  <a:pt x="186" y="27"/>
                </a:lnTo>
                <a:lnTo>
                  <a:pt x="186" y="25"/>
                </a:lnTo>
                <a:lnTo>
                  <a:pt x="188" y="25"/>
                </a:lnTo>
                <a:lnTo>
                  <a:pt x="188" y="23"/>
                </a:lnTo>
                <a:lnTo>
                  <a:pt x="188" y="23"/>
                </a:lnTo>
                <a:lnTo>
                  <a:pt x="190" y="21"/>
                </a:lnTo>
                <a:close/>
                <a:moveTo>
                  <a:pt x="8" y="2049"/>
                </a:moveTo>
                <a:lnTo>
                  <a:pt x="40" y="2044"/>
                </a:lnTo>
                <a:lnTo>
                  <a:pt x="92" y="2034"/>
                </a:lnTo>
                <a:lnTo>
                  <a:pt x="142" y="2022"/>
                </a:lnTo>
                <a:lnTo>
                  <a:pt x="192" y="2009"/>
                </a:lnTo>
                <a:lnTo>
                  <a:pt x="217" y="2001"/>
                </a:lnTo>
                <a:lnTo>
                  <a:pt x="217" y="2001"/>
                </a:lnTo>
                <a:lnTo>
                  <a:pt x="215" y="1999"/>
                </a:lnTo>
                <a:lnTo>
                  <a:pt x="215" y="1999"/>
                </a:lnTo>
                <a:lnTo>
                  <a:pt x="215" y="1999"/>
                </a:lnTo>
                <a:lnTo>
                  <a:pt x="215" y="1998"/>
                </a:lnTo>
                <a:lnTo>
                  <a:pt x="215" y="1998"/>
                </a:lnTo>
                <a:lnTo>
                  <a:pt x="215" y="1998"/>
                </a:lnTo>
                <a:lnTo>
                  <a:pt x="215" y="1996"/>
                </a:lnTo>
                <a:lnTo>
                  <a:pt x="213" y="1996"/>
                </a:lnTo>
                <a:lnTo>
                  <a:pt x="213" y="1996"/>
                </a:lnTo>
                <a:lnTo>
                  <a:pt x="213" y="1996"/>
                </a:lnTo>
                <a:lnTo>
                  <a:pt x="213" y="1994"/>
                </a:lnTo>
                <a:lnTo>
                  <a:pt x="213" y="1994"/>
                </a:lnTo>
                <a:lnTo>
                  <a:pt x="211" y="1994"/>
                </a:lnTo>
                <a:lnTo>
                  <a:pt x="211" y="1994"/>
                </a:lnTo>
                <a:lnTo>
                  <a:pt x="211" y="1992"/>
                </a:lnTo>
                <a:lnTo>
                  <a:pt x="190" y="1999"/>
                </a:lnTo>
                <a:lnTo>
                  <a:pt x="140" y="2015"/>
                </a:lnTo>
                <a:lnTo>
                  <a:pt x="90" y="2026"/>
                </a:lnTo>
                <a:lnTo>
                  <a:pt x="40" y="2034"/>
                </a:lnTo>
                <a:lnTo>
                  <a:pt x="0" y="2040"/>
                </a:lnTo>
                <a:lnTo>
                  <a:pt x="2" y="2042"/>
                </a:lnTo>
                <a:lnTo>
                  <a:pt x="2" y="2042"/>
                </a:lnTo>
                <a:lnTo>
                  <a:pt x="2" y="2044"/>
                </a:lnTo>
                <a:lnTo>
                  <a:pt x="4" y="2044"/>
                </a:lnTo>
                <a:lnTo>
                  <a:pt x="4" y="2046"/>
                </a:lnTo>
                <a:lnTo>
                  <a:pt x="6" y="2046"/>
                </a:lnTo>
                <a:lnTo>
                  <a:pt x="6" y="2047"/>
                </a:lnTo>
                <a:lnTo>
                  <a:pt x="8" y="2049"/>
                </a:lnTo>
                <a:close/>
              </a:path>
            </a:pathLst>
          </a:custGeom>
          <a:solidFill>
            <a:srgbClr val="24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70"/>
          <p:cNvSpPr/>
          <p:nvPr/>
        </p:nvSpPr>
        <p:spPr>
          <a:xfrm>
            <a:off x="7308720" y="1692360"/>
            <a:ext cx="347760" cy="3238560"/>
          </a:xfrm>
          <a:custGeom>
            <a:avLst/>
            <a:gdLst>
              <a:gd name="textAreaLeft" fmla="*/ 0 w 347760"/>
              <a:gd name="textAreaRight" fmla="*/ 348120 w 347760"/>
              <a:gd name="textAreaTop" fmla="*/ 0 h 3238560"/>
              <a:gd name="textAreaBottom" fmla="*/ 3238920 h 3238560"/>
            </a:gdLst>
            <a:ahLst/>
            <a:rect l="textAreaLeft" t="textAreaTop" r="textAreaRight" b="textAreaBottom"/>
            <a:pathLst>
              <a:path w="219" h="2040">
                <a:moveTo>
                  <a:pt x="190" y="21"/>
                </a:moveTo>
                <a:lnTo>
                  <a:pt x="146" y="8"/>
                </a:lnTo>
                <a:lnTo>
                  <a:pt x="108" y="0"/>
                </a:lnTo>
                <a:lnTo>
                  <a:pt x="108" y="0"/>
                </a:lnTo>
                <a:lnTo>
                  <a:pt x="106" y="2"/>
                </a:lnTo>
                <a:lnTo>
                  <a:pt x="106" y="2"/>
                </a:lnTo>
                <a:lnTo>
                  <a:pt x="104" y="4"/>
                </a:lnTo>
                <a:lnTo>
                  <a:pt x="104" y="4"/>
                </a:lnTo>
                <a:lnTo>
                  <a:pt x="102" y="6"/>
                </a:lnTo>
                <a:lnTo>
                  <a:pt x="102" y="8"/>
                </a:lnTo>
                <a:lnTo>
                  <a:pt x="100" y="8"/>
                </a:lnTo>
                <a:lnTo>
                  <a:pt x="142" y="17"/>
                </a:lnTo>
                <a:lnTo>
                  <a:pt x="184" y="29"/>
                </a:lnTo>
                <a:lnTo>
                  <a:pt x="184" y="29"/>
                </a:lnTo>
                <a:lnTo>
                  <a:pt x="186" y="27"/>
                </a:lnTo>
                <a:lnTo>
                  <a:pt x="186" y="27"/>
                </a:lnTo>
                <a:lnTo>
                  <a:pt x="188" y="25"/>
                </a:lnTo>
                <a:lnTo>
                  <a:pt x="188" y="25"/>
                </a:lnTo>
                <a:lnTo>
                  <a:pt x="188" y="23"/>
                </a:lnTo>
                <a:lnTo>
                  <a:pt x="190" y="23"/>
                </a:lnTo>
                <a:lnTo>
                  <a:pt x="190" y="21"/>
                </a:lnTo>
                <a:close/>
                <a:moveTo>
                  <a:pt x="8" y="2040"/>
                </a:moveTo>
                <a:lnTo>
                  <a:pt x="44" y="2036"/>
                </a:lnTo>
                <a:lnTo>
                  <a:pt x="96" y="2026"/>
                </a:lnTo>
                <a:lnTo>
                  <a:pt x="146" y="2015"/>
                </a:lnTo>
                <a:lnTo>
                  <a:pt x="194" y="2001"/>
                </a:lnTo>
                <a:lnTo>
                  <a:pt x="219" y="1994"/>
                </a:lnTo>
                <a:lnTo>
                  <a:pt x="219" y="1994"/>
                </a:lnTo>
                <a:lnTo>
                  <a:pt x="219" y="1994"/>
                </a:lnTo>
                <a:lnTo>
                  <a:pt x="219" y="1992"/>
                </a:lnTo>
                <a:lnTo>
                  <a:pt x="219" y="1992"/>
                </a:lnTo>
                <a:lnTo>
                  <a:pt x="219" y="1992"/>
                </a:lnTo>
                <a:lnTo>
                  <a:pt x="219" y="1992"/>
                </a:lnTo>
                <a:lnTo>
                  <a:pt x="219" y="1992"/>
                </a:lnTo>
                <a:lnTo>
                  <a:pt x="219" y="1992"/>
                </a:lnTo>
                <a:lnTo>
                  <a:pt x="217" y="1992"/>
                </a:lnTo>
                <a:lnTo>
                  <a:pt x="217" y="1990"/>
                </a:lnTo>
                <a:lnTo>
                  <a:pt x="215" y="1990"/>
                </a:lnTo>
                <a:lnTo>
                  <a:pt x="215" y="1988"/>
                </a:lnTo>
                <a:lnTo>
                  <a:pt x="215" y="1988"/>
                </a:lnTo>
                <a:lnTo>
                  <a:pt x="213" y="1986"/>
                </a:lnTo>
                <a:lnTo>
                  <a:pt x="213" y="1986"/>
                </a:lnTo>
                <a:lnTo>
                  <a:pt x="211" y="1984"/>
                </a:lnTo>
                <a:lnTo>
                  <a:pt x="192" y="1992"/>
                </a:lnTo>
                <a:lnTo>
                  <a:pt x="142" y="2005"/>
                </a:lnTo>
                <a:lnTo>
                  <a:pt x="94" y="2017"/>
                </a:lnTo>
                <a:lnTo>
                  <a:pt x="42" y="2026"/>
                </a:lnTo>
                <a:lnTo>
                  <a:pt x="0" y="2032"/>
                </a:lnTo>
                <a:lnTo>
                  <a:pt x="2" y="2032"/>
                </a:lnTo>
                <a:lnTo>
                  <a:pt x="2" y="2034"/>
                </a:lnTo>
                <a:lnTo>
                  <a:pt x="4" y="2034"/>
                </a:lnTo>
                <a:lnTo>
                  <a:pt x="4" y="2036"/>
                </a:lnTo>
                <a:lnTo>
                  <a:pt x="6" y="2038"/>
                </a:lnTo>
                <a:lnTo>
                  <a:pt x="6" y="2038"/>
                </a:lnTo>
                <a:lnTo>
                  <a:pt x="6" y="2040"/>
                </a:lnTo>
                <a:lnTo>
                  <a:pt x="8" y="2040"/>
                </a:lnTo>
                <a:close/>
              </a:path>
            </a:pathLst>
          </a:custGeom>
          <a:solidFill>
            <a:srgbClr val="25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71"/>
          <p:cNvSpPr/>
          <p:nvPr/>
        </p:nvSpPr>
        <p:spPr>
          <a:xfrm>
            <a:off x="7305840" y="1698480"/>
            <a:ext cx="344160" cy="3225960"/>
          </a:xfrm>
          <a:custGeom>
            <a:avLst/>
            <a:gdLst>
              <a:gd name="textAreaLeft" fmla="*/ 0 w 344160"/>
              <a:gd name="textAreaRight" fmla="*/ 344520 w 34416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7" h="2032">
                <a:moveTo>
                  <a:pt x="190" y="21"/>
                </a:moveTo>
                <a:lnTo>
                  <a:pt x="146" y="9"/>
                </a:lnTo>
                <a:lnTo>
                  <a:pt x="106" y="0"/>
                </a:lnTo>
                <a:lnTo>
                  <a:pt x="106" y="0"/>
                </a:lnTo>
                <a:lnTo>
                  <a:pt x="104" y="2"/>
                </a:lnTo>
                <a:lnTo>
                  <a:pt x="104" y="4"/>
                </a:lnTo>
                <a:lnTo>
                  <a:pt x="102" y="4"/>
                </a:lnTo>
                <a:lnTo>
                  <a:pt x="102" y="5"/>
                </a:lnTo>
                <a:lnTo>
                  <a:pt x="100" y="5"/>
                </a:lnTo>
                <a:lnTo>
                  <a:pt x="100" y="7"/>
                </a:lnTo>
                <a:lnTo>
                  <a:pt x="98" y="7"/>
                </a:lnTo>
                <a:lnTo>
                  <a:pt x="144" y="19"/>
                </a:lnTo>
                <a:lnTo>
                  <a:pt x="185" y="29"/>
                </a:lnTo>
                <a:lnTo>
                  <a:pt x="185" y="29"/>
                </a:lnTo>
                <a:lnTo>
                  <a:pt x="185" y="27"/>
                </a:lnTo>
                <a:lnTo>
                  <a:pt x="186" y="27"/>
                </a:lnTo>
                <a:lnTo>
                  <a:pt x="186" y="25"/>
                </a:lnTo>
                <a:lnTo>
                  <a:pt x="186" y="25"/>
                </a:lnTo>
                <a:lnTo>
                  <a:pt x="188" y="23"/>
                </a:lnTo>
                <a:lnTo>
                  <a:pt x="188" y="23"/>
                </a:lnTo>
                <a:lnTo>
                  <a:pt x="190" y="21"/>
                </a:lnTo>
                <a:close/>
                <a:moveTo>
                  <a:pt x="6" y="2032"/>
                </a:moveTo>
                <a:lnTo>
                  <a:pt x="46" y="2026"/>
                </a:lnTo>
                <a:lnTo>
                  <a:pt x="96" y="2018"/>
                </a:lnTo>
                <a:lnTo>
                  <a:pt x="146" y="2007"/>
                </a:lnTo>
                <a:lnTo>
                  <a:pt x="196" y="1991"/>
                </a:lnTo>
                <a:lnTo>
                  <a:pt x="217" y="1984"/>
                </a:lnTo>
                <a:lnTo>
                  <a:pt x="217" y="1984"/>
                </a:lnTo>
                <a:lnTo>
                  <a:pt x="215" y="1982"/>
                </a:lnTo>
                <a:lnTo>
                  <a:pt x="215" y="1982"/>
                </a:lnTo>
                <a:lnTo>
                  <a:pt x="213" y="1980"/>
                </a:lnTo>
                <a:lnTo>
                  <a:pt x="213" y="1980"/>
                </a:lnTo>
                <a:lnTo>
                  <a:pt x="213" y="1978"/>
                </a:lnTo>
                <a:lnTo>
                  <a:pt x="211" y="1978"/>
                </a:lnTo>
                <a:lnTo>
                  <a:pt x="211" y="1976"/>
                </a:lnTo>
                <a:lnTo>
                  <a:pt x="192" y="1984"/>
                </a:lnTo>
                <a:lnTo>
                  <a:pt x="144" y="1997"/>
                </a:lnTo>
                <a:lnTo>
                  <a:pt x="94" y="2009"/>
                </a:lnTo>
                <a:lnTo>
                  <a:pt x="44" y="2018"/>
                </a:lnTo>
                <a:lnTo>
                  <a:pt x="0" y="2022"/>
                </a:lnTo>
                <a:lnTo>
                  <a:pt x="0" y="2024"/>
                </a:lnTo>
                <a:lnTo>
                  <a:pt x="0" y="2026"/>
                </a:lnTo>
                <a:lnTo>
                  <a:pt x="2" y="2026"/>
                </a:lnTo>
                <a:lnTo>
                  <a:pt x="2" y="2028"/>
                </a:lnTo>
                <a:lnTo>
                  <a:pt x="4" y="2028"/>
                </a:lnTo>
                <a:lnTo>
                  <a:pt x="4" y="2030"/>
                </a:lnTo>
                <a:lnTo>
                  <a:pt x="6" y="2030"/>
                </a:lnTo>
                <a:lnTo>
                  <a:pt x="6" y="2032"/>
                </a:lnTo>
                <a:close/>
              </a:path>
            </a:pathLst>
          </a:custGeom>
          <a:solidFill>
            <a:srgbClr val="26a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72"/>
          <p:cNvSpPr/>
          <p:nvPr/>
        </p:nvSpPr>
        <p:spPr>
          <a:xfrm>
            <a:off x="7299360" y="1704960"/>
            <a:ext cx="344520" cy="3213000"/>
          </a:xfrm>
          <a:custGeom>
            <a:avLst/>
            <a:gdLst>
              <a:gd name="textAreaLeft" fmla="*/ 0 w 344520"/>
              <a:gd name="textAreaRight" fmla="*/ 344880 w 344520"/>
              <a:gd name="textAreaTop" fmla="*/ 0 h 3213000"/>
              <a:gd name="textAreaBottom" fmla="*/ 3213360 h 3213000"/>
            </a:gdLst>
            <a:ahLst/>
            <a:rect l="textAreaLeft" t="textAreaTop" r="textAreaRight" b="textAreaBottom"/>
            <a:pathLst>
              <a:path w="217" h="2024">
                <a:moveTo>
                  <a:pt x="190" y="21"/>
                </a:moveTo>
                <a:lnTo>
                  <a:pt x="148" y="9"/>
                </a:lnTo>
                <a:lnTo>
                  <a:pt x="106" y="0"/>
                </a:lnTo>
                <a:lnTo>
                  <a:pt x="106" y="1"/>
                </a:lnTo>
                <a:lnTo>
                  <a:pt x="104" y="1"/>
                </a:lnTo>
                <a:lnTo>
                  <a:pt x="104" y="3"/>
                </a:lnTo>
                <a:lnTo>
                  <a:pt x="102" y="3"/>
                </a:lnTo>
                <a:lnTo>
                  <a:pt x="102" y="5"/>
                </a:lnTo>
                <a:lnTo>
                  <a:pt x="100" y="5"/>
                </a:lnTo>
                <a:lnTo>
                  <a:pt x="100" y="7"/>
                </a:lnTo>
                <a:lnTo>
                  <a:pt x="98" y="7"/>
                </a:lnTo>
                <a:lnTo>
                  <a:pt x="146" y="19"/>
                </a:lnTo>
                <a:lnTo>
                  <a:pt x="185" y="30"/>
                </a:lnTo>
                <a:lnTo>
                  <a:pt x="185" y="28"/>
                </a:lnTo>
                <a:lnTo>
                  <a:pt x="187" y="26"/>
                </a:lnTo>
                <a:lnTo>
                  <a:pt x="187" y="26"/>
                </a:lnTo>
                <a:lnTo>
                  <a:pt x="189" y="25"/>
                </a:lnTo>
                <a:lnTo>
                  <a:pt x="189" y="25"/>
                </a:lnTo>
                <a:lnTo>
                  <a:pt x="189" y="23"/>
                </a:lnTo>
                <a:lnTo>
                  <a:pt x="190" y="23"/>
                </a:lnTo>
                <a:lnTo>
                  <a:pt x="190" y="21"/>
                </a:lnTo>
                <a:close/>
                <a:moveTo>
                  <a:pt x="6" y="2024"/>
                </a:moveTo>
                <a:lnTo>
                  <a:pt x="48" y="2018"/>
                </a:lnTo>
                <a:lnTo>
                  <a:pt x="100" y="2009"/>
                </a:lnTo>
                <a:lnTo>
                  <a:pt x="148" y="1997"/>
                </a:lnTo>
                <a:lnTo>
                  <a:pt x="198" y="1984"/>
                </a:lnTo>
                <a:lnTo>
                  <a:pt x="217" y="1976"/>
                </a:lnTo>
                <a:lnTo>
                  <a:pt x="217" y="1976"/>
                </a:lnTo>
                <a:lnTo>
                  <a:pt x="217" y="1974"/>
                </a:lnTo>
                <a:lnTo>
                  <a:pt x="215" y="1974"/>
                </a:lnTo>
                <a:lnTo>
                  <a:pt x="215" y="1972"/>
                </a:lnTo>
                <a:lnTo>
                  <a:pt x="214" y="1972"/>
                </a:lnTo>
                <a:lnTo>
                  <a:pt x="214" y="1970"/>
                </a:lnTo>
                <a:lnTo>
                  <a:pt x="214" y="1970"/>
                </a:lnTo>
                <a:lnTo>
                  <a:pt x="212" y="1968"/>
                </a:lnTo>
                <a:lnTo>
                  <a:pt x="194" y="1974"/>
                </a:lnTo>
                <a:lnTo>
                  <a:pt x="146" y="1989"/>
                </a:lnTo>
                <a:lnTo>
                  <a:pt x="98" y="1999"/>
                </a:lnTo>
                <a:lnTo>
                  <a:pt x="47" y="2009"/>
                </a:lnTo>
                <a:lnTo>
                  <a:pt x="0" y="2014"/>
                </a:lnTo>
                <a:lnTo>
                  <a:pt x="0" y="2016"/>
                </a:lnTo>
                <a:lnTo>
                  <a:pt x="2" y="2016"/>
                </a:lnTo>
                <a:lnTo>
                  <a:pt x="2" y="2018"/>
                </a:lnTo>
                <a:lnTo>
                  <a:pt x="4" y="2018"/>
                </a:lnTo>
                <a:lnTo>
                  <a:pt x="4" y="2020"/>
                </a:lnTo>
                <a:lnTo>
                  <a:pt x="4" y="2022"/>
                </a:lnTo>
                <a:lnTo>
                  <a:pt x="6" y="2022"/>
                </a:lnTo>
                <a:lnTo>
                  <a:pt x="6" y="2024"/>
                </a:lnTo>
                <a:close/>
              </a:path>
            </a:pathLst>
          </a:custGeom>
          <a:solidFill>
            <a:srgbClr val="27a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73"/>
          <p:cNvSpPr/>
          <p:nvPr/>
        </p:nvSpPr>
        <p:spPr>
          <a:xfrm>
            <a:off x="7294680" y="1709640"/>
            <a:ext cx="345960" cy="3198960"/>
          </a:xfrm>
          <a:custGeom>
            <a:avLst/>
            <a:gdLst>
              <a:gd name="textAreaLeft" fmla="*/ 0 w 345960"/>
              <a:gd name="textAreaRight" fmla="*/ 346320 w 345960"/>
              <a:gd name="textAreaTop" fmla="*/ 0 h 3198960"/>
              <a:gd name="textAreaBottom" fmla="*/ 3199320 h 3198960"/>
            </a:gdLst>
            <a:ahLst/>
            <a:rect l="textAreaLeft" t="textAreaTop" r="textAreaRight" b="textAreaBottom"/>
            <a:pathLst>
              <a:path w="218" h="2015">
                <a:moveTo>
                  <a:pt x="192" y="22"/>
                </a:moveTo>
                <a:lnTo>
                  <a:pt x="151" y="12"/>
                </a:lnTo>
                <a:lnTo>
                  <a:pt x="105" y="0"/>
                </a:lnTo>
                <a:lnTo>
                  <a:pt x="105" y="2"/>
                </a:lnTo>
                <a:lnTo>
                  <a:pt x="103" y="2"/>
                </a:lnTo>
                <a:lnTo>
                  <a:pt x="103" y="4"/>
                </a:lnTo>
                <a:lnTo>
                  <a:pt x="101" y="4"/>
                </a:lnTo>
                <a:lnTo>
                  <a:pt x="101" y="6"/>
                </a:lnTo>
                <a:lnTo>
                  <a:pt x="99" y="6"/>
                </a:lnTo>
                <a:lnTo>
                  <a:pt x="99" y="8"/>
                </a:lnTo>
                <a:lnTo>
                  <a:pt x="98" y="8"/>
                </a:lnTo>
                <a:lnTo>
                  <a:pt x="99" y="8"/>
                </a:lnTo>
                <a:lnTo>
                  <a:pt x="149" y="20"/>
                </a:lnTo>
                <a:lnTo>
                  <a:pt x="184" y="31"/>
                </a:lnTo>
                <a:lnTo>
                  <a:pt x="186" y="29"/>
                </a:lnTo>
                <a:lnTo>
                  <a:pt x="186" y="29"/>
                </a:lnTo>
                <a:lnTo>
                  <a:pt x="188" y="27"/>
                </a:lnTo>
                <a:lnTo>
                  <a:pt x="188" y="27"/>
                </a:lnTo>
                <a:lnTo>
                  <a:pt x="188" y="25"/>
                </a:lnTo>
                <a:lnTo>
                  <a:pt x="190" y="23"/>
                </a:lnTo>
                <a:lnTo>
                  <a:pt x="190" y="23"/>
                </a:lnTo>
                <a:lnTo>
                  <a:pt x="192" y="22"/>
                </a:lnTo>
                <a:close/>
                <a:moveTo>
                  <a:pt x="7" y="2015"/>
                </a:moveTo>
                <a:lnTo>
                  <a:pt x="51" y="2011"/>
                </a:lnTo>
                <a:lnTo>
                  <a:pt x="101" y="2002"/>
                </a:lnTo>
                <a:lnTo>
                  <a:pt x="151" y="1990"/>
                </a:lnTo>
                <a:lnTo>
                  <a:pt x="199" y="1977"/>
                </a:lnTo>
                <a:lnTo>
                  <a:pt x="218" y="1969"/>
                </a:lnTo>
                <a:lnTo>
                  <a:pt x="217" y="1969"/>
                </a:lnTo>
                <a:lnTo>
                  <a:pt x="217" y="1967"/>
                </a:lnTo>
                <a:lnTo>
                  <a:pt x="217" y="1967"/>
                </a:lnTo>
                <a:lnTo>
                  <a:pt x="215" y="1965"/>
                </a:lnTo>
                <a:lnTo>
                  <a:pt x="215" y="1965"/>
                </a:lnTo>
                <a:lnTo>
                  <a:pt x="213" y="1963"/>
                </a:lnTo>
                <a:lnTo>
                  <a:pt x="213" y="1963"/>
                </a:lnTo>
                <a:lnTo>
                  <a:pt x="213" y="1961"/>
                </a:lnTo>
                <a:lnTo>
                  <a:pt x="197" y="1967"/>
                </a:lnTo>
                <a:lnTo>
                  <a:pt x="149" y="1981"/>
                </a:lnTo>
                <a:lnTo>
                  <a:pt x="99" y="1992"/>
                </a:lnTo>
                <a:lnTo>
                  <a:pt x="50" y="2002"/>
                </a:lnTo>
                <a:lnTo>
                  <a:pt x="0" y="2007"/>
                </a:lnTo>
                <a:lnTo>
                  <a:pt x="2" y="2009"/>
                </a:lnTo>
                <a:lnTo>
                  <a:pt x="2" y="2009"/>
                </a:lnTo>
                <a:lnTo>
                  <a:pt x="2" y="2011"/>
                </a:lnTo>
                <a:lnTo>
                  <a:pt x="3" y="2011"/>
                </a:lnTo>
                <a:lnTo>
                  <a:pt x="3" y="2013"/>
                </a:lnTo>
                <a:lnTo>
                  <a:pt x="5" y="2013"/>
                </a:lnTo>
                <a:lnTo>
                  <a:pt x="5" y="2015"/>
                </a:lnTo>
                <a:lnTo>
                  <a:pt x="7" y="2015"/>
                </a:lnTo>
                <a:close/>
              </a:path>
            </a:pathLst>
          </a:custGeom>
          <a:solidFill>
            <a:srgbClr val="28a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74"/>
          <p:cNvSpPr/>
          <p:nvPr/>
        </p:nvSpPr>
        <p:spPr>
          <a:xfrm>
            <a:off x="7288200" y="1716120"/>
            <a:ext cx="347760" cy="3186000"/>
          </a:xfrm>
          <a:custGeom>
            <a:avLst/>
            <a:gdLst>
              <a:gd name="textAreaLeft" fmla="*/ 0 w 347760"/>
              <a:gd name="textAreaRight" fmla="*/ 348120 w 347760"/>
              <a:gd name="textAreaTop" fmla="*/ 0 h 3186000"/>
              <a:gd name="textAreaBottom" fmla="*/ 3186360 h 3186000"/>
            </a:gdLst>
            <a:ahLst/>
            <a:rect l="textAreaLeft" t="textAreaTop" r="textAreaRight" b="textAreaBottom"/>
            <a:pathLst>
              <a:path w="219" h="2007">
                <a:moveTo>
                  <a:pt x="192" y="23"/>
                </a:moveTo>
                <a:lnTo>
                  <a:pt x="153" y="12"/>
                </a:lnTo>
                <a:lnTo>
                  <a:pt x="105" y="0"/>
                </a:lnTo>
                <a:lnTo>
                  <a:pt x="105" y="2"/>
                </a:lnTo>
                <a:lnTo>
                  <a:pt x="103" y="2"/>
                </a:lnTo>
                <a:lnTo>
                  <a:pt x="103" y="4"/>
                </a:lnTo>
                <a:lnTo>
                  <a:pt x="102" y="4"/>
                </a:lnTo>
                <a:lnTo>
                  <a:pt x="102" y="6"/>
                </a:lnTo>
                <a:lnTo>
                  <a:pt x="100" y="6"/>
                </a:lnTo>
                <a:lnTo>
                  <a:pt x="100" y="8"/>
                </a:lnTo>
                <a:lnTo>
                  <a:pt x="98" y="8"/>
                </a:lnTo>
                <a:lnTo>
                  <a:pt x="103" y="10"/>
                </a:lnTo>
                <a:lnTo>
                  <a:pt x="151" y="21"/>
                </a:lnTo>
                <a:lnTo>
                  <a:pt x="186" y="31"/>
                </a:lnTo>
                <a:lnTo>
                  <a:pt x="186" y="29"/>
                </a:lnTo>
                <a:lnTo>
                  <a:pt x="188" y="29"/>
                </a:lnTo>
                <a:lnTo>
                  <a:pt x="188" y="27"/>
                </a:lnTo>
                <a:lnTo>
                  <a:pt x="188" y="27"/>
                </a:lnTo>
                <a:lnTo>
                  <a:pt x="190" y="25"/>
                </a:lnTo>
                <a:lnTo>
                  <a:pt x="190" y="25"/>
                </a:lnTo>
                <a:lnTo>
                  <a:pt x="192" y="23"/>
                </a:lnTo>
                <a:lnTo>
                  <a:pt x="192" y="23"/>
                </a:lnTo>
                <a:close/>
                <a:moveTo>
                  <a:pt x="7" y="2007"/>
                </a:moveTo>
                <a:lnTo>
                  <a:pt x="54" y="2002"/>
                </a:lnTo>
                <a:lnTo>
                  <a:pt x="105" y="1992"/>
                </a:lnTo>
                <a:lnTo>
                  <a:pt x="153" y="1980"/>
                </a:lnTo>
                <a:lnTo>
                  <a:pt x="201" y="1967"/>
                </a:lnTo>
                <a:lnTo>
                  <a:pt x="219" y="1961"/>
                </a:lnTo>
                <a:lnTo>
                  <a:pt x="219" y="1961"/>
                </a:lnTo>
                <a:lnTo>
                  <a:pt x="217" y="1959"/>
                </a:lnTo>
                <a:lnTo>
                  <a:pt x="217" y="1959"/>
                </a:lnTo>
                <a:lnTo>
                  <a:pt x="217" y="1957"/>
                </a:lnTo>
                <a:lnTo>
                  <a:pt x="215" y="1957"/>
                </a:lnTo>
                <a:lnTo>
                  <a:pt x="215" y="1956"/>
                </a:lnTo>
                <a:lnTo>
                  <a:pt x="213" y="1956"/>
                </a:lnTo>
                <a:lnTo>
                  <a:pt x="213" y="1954"/>
                </a:lnTo>
                <a:lnTo>
                  <a:pt x="199" y="1959"/>
                </a:lnTo>
                <a:lnTo>
                  <a:pt x="151" y="1973"/>
                </a:lnTo>
                <a:lnTo>
                  <a:pt x="103" y="1984"/>
                </a:lnTo>
                <a:lnTo>
                  <a:pt x="54" y="1992"/>
                </a:lnTo>
                <a:lnTo>
                  <a:pt x="2" y="2000"/>
                </a:lnTo>
                <a:lnTo>
                  <a:pt x="0" y="2000"/>
                </a:lnTo>
                <a:lnTo>
                  <a:pt x="2" y="2000"/>
                </a:lnTo>
                <a:lnTo>
                  <a:pt x="2" y="2002"/>
                </a:lnTo>
                <a:lnTo>
                  <a:pt x="4" y="2002"/>
                </a:lnTo>
                <a:lnTo>
                  <a:pt x="4" y="2003"/>
                </a:lnTo>
                <a:lnTo>
                  <a:pt x="6" y="2003"/>
                </a:lnTo>
                <a:lnTo>
                  <a:pt x="6" y="2005"/>
                </a:lnTo>
                <a:lnTo>
                  <a:pt x="6" y="2007"/>
                </a:lnTo>
                <a:lnTo>
                  <a:pt x="7" y="2007"/>
                </a:lnTo>
                <a:close/>
              </a:path>
            </a:pathLst>
          </a:custGeom>
          <a:solidFill>
            <a:srgbClr val="29a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75"/>
          <p:cNvSpPr/>
          <p:nvPr/>
        </p:nvSpPr>
        <p:spPr>
          <a:xfrm>
            <a:off x="7284960" y="1722600"/>
            <a:ext cx="347760" cy="3173400"/>
          </a:xfrm>
          <a:custGeom>
            <a:avLst/>
            <a:gdLst>
              <a:gd name="textAreaLeft" fmla="*/ 0 w 347760"/>
              <a:gd name="textAreaRight" fmla="*/ 348120 w 347760"/>
              <a:gd name="textAreaTop" fmla="*/ 0 h 3173400"/>
              <a:gd name="textAreaBottom" fmla="*/ 3173760 h 3173400"/>
            </a:gdLst>
            <a:ahLst/>
            <a:rect l="textAreaLeft" t="textAreaTop" r="textAreaRight" b="textAreaBottom"/>
            <a:pathLst>
              <a:path w="219" h="1999">
                <a:moveTo>
                  <a:pt x="190" y="23"/>
                </a:moveTo>
                <a:lnTo>
                  <a:pt x="155" y="12"/>
                </a:lnTo>
                <a:lnTo>
                  <a:pt x="105" y="0"/>
                </a:lnTo>
                <a:lnTo>
                  <a:pt x="104" y="0"/>
                </a:lnTo>
                <a:lnTo>
                  <a:pt x="104" y="2"/>
                </a:lnTo>
                <a:lnTo>
                  <a:pt x="102" y="2"/>
                </a:lnTo>
                <a:lnTo>
                  <a:pt x="102" y="4"/>
                </a:lnTo>
                <a:lnTo>
                  <a:pt x="100" y="4"/>
                </a:lnTo>
                <a:lnTo>
                  <a:pt x="100" y="6"/>
                </a:lnTo>
                <a:lnTo>
                  <a:pt x="98" y="6"/>
                </a:lnTo>
                <a:lnTo>
                  <a:pt x="98" y="8"/>
                </a:lnTo>
                <a:lnTo>
                  <a:pt x="96" y="10"/>
                </a:lnTo>
                <a:lnTo>
                  <a:pt x="104" y="10"/>
                </a:lnTo>
                <a:lnTo>
                  <a:pt x="152" y="21"/>
                </a:lnTo>
                <a:lnTo>
                  <a:pt x="184" y="31"/>
                </a:lnTo>
                <a:lnTo>
                  <a:pt x="186" y="29"/>
                </a:lnTo>
                <a:lnTo>
                  <a:pt x="186" y="29"/>
                </a:lnTo>
                <a:lnTo>
                  <a:pt x="186" y="27"/>
                </a:lnTo>
                <a:lnTo>
                  <a:pt x="188" y="27"/>
                </a:lnTo>
                <a:lnTo>
                  <a:pt x="188" y="25"/>
                </a:lnTo>
                <a:lnTo>
                  <a:pt x="190" y="25"/>
                </a:lnTo>
                <a:lnTo>
                  <a:pt x="190" y="23"/>
                </a:lnTo>
                <a:lnTo>
                  <a:pt x="190" y="23"/>
                </a:lnTo>
                <a:close/>
                <a:moveTo>
                  <a:pt x="6" y="1999"/>
                </a:moveTo>
                <a:lnTo>
                  <a:pt x="56" y="1994"/>
                </a:lnTo>
                <a:lnTo>
                  <a:pt x="105" y="1984"/>
                </a:lnTo>
                <a:lnTo>
                  <a:pt x="155" y="1973"/>
                </a:lnTo>
                <a:lnTo>
                  <a:pt x="203" y="1959"/>
                </a:lnTo>
                <a:lnTo>
                  <a:pt x="219" y="1953"/>
                </a:lnTo>
                <a:lnTo>
                  <a:pt x="217" y="1953"/>
                </a:lnTo>
                <a:lnTo>
                  <a:pt x="217" y="1952"/>
                </a:lnTo>
                <a:lnTo>
                  <a:pt x="215" y="1952"/>
                </a:lnTo>
                <a:lnTo>
                  <a:pt x="215" y="1950"/>
                </a:lnTo>
                <a:lnTo>
                  <a:pt x="213" y="1950"/>
                </a:lnTo>
                <a:lnTo>
                  <a:pt x="213" y="1948"/>
                </a:lnTo>
                <a:lnTo>
                  <a:pt x="213" y="1948"/>
                </a:lnTo>
                <a:lnTo>
                  <a:pt x="211" y="1946"/>
                </a:lnTo>
                <a:lnTo>
                  <a:pt x="199" y="1950"/>
                </a:lnTo>
                <a:lnTo>
                  <a:pt x="152" y="1963"/>
                </a:lnTo>
                <a:lnTo>
                  <a:pt x="104" y="1975"/>
                </a:lnTo>
                <a:lnTo>
                  <a:pt x="54" y="1984"/>
                </a:lnTo>
                <a:lnTo>
                  <a:pt x="4" y="1990"/>
                </a:lnTo>
                <a:lnTo>
                  <a:pt x="0" y="1990"/>
                </a:lnTo>
                <a:lnTo>
                  <a:pt x="0" y="1992"/>
                </a:lnTo>
                <a:lnTo>
                  <a:pt x="2" y="1992"/>
                </a:lnTo>
                <a:lnTo>
                  <a:pt x="2" y="1994"/>
                </a:lnTo>
                <a:lnTo>
                  <a:pt x="2" y="1996"/>
                </a:lnTo>
                <a:lnTo>
                  <a:pt x="4" y="1996"/>
                </a:lnTo>
                <a:lnTo>
                  <a:pt x="4" y="1998"/>
                </a:lnTo>
                <a:lnTo>
                  <a:pt x="6" y="1998"/>
                </a:lnTo>
                <a:lnTo>
                  <a:pt x="6" y="1999"/>
                </a:lnTo>
                <a:close/>
              </a:path>
            </a:pathLst>
          </a:custGeom>
          <a:solidFill>
            <a:srgbClr val="2aa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76"/>
          <p:cNvSpPr/>
          <p:nvPr/>
        </p:nvSpPr>
        <p:spPr>
          <a:xfrm>
            <a:off x="7278840" y="1728720"/>
            <a:ext cx="347400" cy="3162240"/>
          </a:xfrm>
          <a:custGeom>
            <a:avLst/>
            <a:gdLst>
              <a:gd name="textAreaLeft" fmla="*/ 0 w 347400"/>
              <a:gd name="textAreaRight" fmla="*/ 347760 w 347400"/>
              <a:gd name="textAreaTop" fmla="*/ 0 h 3162240"/>
              <a:gd name="textAreaBottom" fmla="*/ 3162600 h 3162240"/>
            </a:gdLst>
            <a:ahLst/>
            <a:rect l="textAreaLeft" t="textAreaTop" r="textAreaRight" b="textAreaBottom"/>
            <a:pathLst>
              <a:path w="219" h="1992">
                <a:moveTo>
                  <a:pt x="192" y="23"/>
                </a:moveTo>
                <a:lnTo>
                  <a:pt x="157" y="13"/>
                </a:lnTo>
                <a:lnTo>
                  <a:pt x="109" y="2"/>
                </a:lnTo>
                <a:lnTo>
                  <a:pt x="104" y="0"/>
                </a:lnTo>
                <a:lnTo>
                  <a:pt x="104" y="2"/>
                </a:lnTo>
                <a:lnTo>
                  <a:pt x="102" y="2"/>
                </a:lnTo>
                <a:lnTo>
                  <a:pt x="102" y="4"/>
                </a:lnTo>
                <a:lnTo>
                  <a:pt x="100" y="6"/>
                </a:lnTo>
                <a:lnTo>
                  <a:pt x="100" y="6"/>
                </a:lnTo>
                <a:lnTo>
                  <a:pt x="98" y="8"/>
                </a:lnTo>
                <a:lnTo>
                  <a:pt x="98" y="8"/>
                </a:lnTo>
                <a:lnTo>
                  <a:pt x="96" y="10"/>
                </a:lnTo>
                <a:lnTo>
                  <a:pt x="108" y="11"/>
                </a:lnTo>
                <a:lnTo>
                  <a:pt x="156" y="21"/>
                </a:lnTo>
                <a:lnTo>
                  <a:pt x="186" y="31"/>
                </a:lnTo>
                <a:lnTo>
                  <a:pt x="186" y="31"/>
                </a:lnTo>
                <a:lnTo>
                  <a:pt x="188" y="29"/>
                </a:lnTo>
                <a:lnTo>
                  <a:pt x="188" y="27"/>
                </a:lnTo>
                <a:lnTo>
                  <a:pt x="188" y="27"/>
                </a:lnTo>
                <a:lnTo>
                  <a:pt x="190" y="25"/>
                </a:lnTo>
                <a:lnTo>
                  <a:pt x="190" y="25"/>
                </a:lnTo>
                <a:lnTo>
                  <a:pt x="190" y="23"/>
                </a:lnTo>
                <a:lnTo>
                  <a:pt x="192" y="23"/>
                </a:lnTo>
                <a:close/>
                <a:moveTo>
                  <a:pt x="6" y="1992"/>
                </a:moveTo>
                <a:lnTo>
                  <a:pt x="8" y="1992"/>
                </a:lnTo>
                <a:lnTo>
                  <a:pt x="60" y="1984"/>
                </a:lnTo>
                <a:lnTo>
                  <a:pt x="109" y="1976"/>
                </a:lnTo>
                <a:lnTo>
                  <a:pt x="157" y="1965"/>
                </a:lnTo>
                <a:lnTo>
                  <a:pt x="205" y="1951"/>
                </a:lnTo>
                <a:lnTo>
                  <a:pt x="219" y="1946"/>
                </a:lnTo>
                <a:lnTo>
                  <a:pt x="217" y="1946"/>
                </a:lnTo>
                <a:lnTo>
                  <a:pt x="217" y="1944"/>
                </a:lnTo>
                <a:lnTo>
                  <a:pt x="217" y="1944"/>
                </a:lnTo>
                <a:lnTo>
                  <a:pt x="215" y="1942"/>
                </a:lnTo>
                <a:lnTo>
                  <a:pt x="215" y="1942"/>
                </a:lnTo>
                <a:lnTo>
                  <a:pt x="213" y="1940"/>
                </a:lnTo>
                <a:lnTo>
                  <a:pt x="213" y="1940"/>
                </a:lnTo>
                <a:lnTo>
                  <a:pt x="213" y="1938"/>
                </a:lnTo>
                <a:lnTo>
                  <a:pt x="202" y="1942"/>
                </a:lnTo>
                <a:lnTo>
                  <a:pt x="156" y="1955"/>
                </a:lnTo>
                <a:lnTo>
                  <a:pt x="108" y="1967"/>
                </a:lnTo>
                <a:lnTo>
                  <a:pt x="58" y="1974"/>
                </a:lnTo>
                <a:lnTo>
                  <a:pt x="8" y="1982"/>
                </a:lnTo>
                <a:lnTo>
                  <a:pt x="0" y="1982"/>
                </a:lnTo>
                <a:lnTo>
                  <a:pt x="0" y="1984"/>
                </a:lnTo>
                <a:lnTo>
                  <a:pt x="2" y="1984"/>
                </a:lnTo>
                <a:lnTo>
                  <a:pt x="2" y="1986"/>
                </a:lnTo>
                <a:lnTo>
                  <a:pt x="4" y="1986"/>
                </a:lnTo>
                <a:lnTo>
                  <a:pt x="4" y="1988"/>
                </a:lnTo>
                <a:lnTo>
                  <a:pt x="6" y="1988"/>
                </a:lnTo>
                <a:lnTo>
                  <a:pt x="6" y="1990"/>
                </a:lnTo>
                <a:lnTo>
                  <a:pt x="6" y="1992"/>
                </a:lnTo>
                <a:close/>
              </a:path>
            </a:pathLst>
          </a:custGeom>
          <a:solidFill>
            <a:srgbClr val="2ba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77"/>
          <p:cNvSpPr/>
          <p:nvPr/>
        </p:nvSpPr>
        <p:spPr>
          <a:xfrm>
            <a:off x="7272360" y="1738440"/>
            <a:ext cx="347760" cy="3143160"/>
          </a:xfrm>
          <a:custGeom>
            <a:avLst/>
            <a:gdLst>
              <a:gd name="textAreaLeft" fmla="*/ 0 w 347760"/>
              <a:gd name="textAreaRight" fmla="*/ 348120 w 347760"/>
              <a:gd name="textAreaTop" fmla="*/ 0 h 3143160"/>
              <a:gd name="textAreaBottom" fmla="*/ 3143520 h 3143160"/>
            </a:gdLst>
            <a:ahLst/>
            <a:rect l="textAreaLeft" t="textAreaTop" r="textAreaRight" b="textAreaBottom"/>
            <a:pathLst>
              <a:path w="219" h="1980">
                <a:moveTo>
                  <a:pt x="192" y="21"/>
                </a:moveTo>
                <a:lnTo>
                  <a:pt x="160" y="11"/>
                </a:lnTo>
                <a:lnTo>
                  <a:pt x="112" y="0"/>
                </a:lnTo>
                <a:lnTo>
                  <a:pt x="104" y="0"/>
                </a:lnTo>
                <a:lnTo>
                  <a:pt x="104" y="0"/>
                </a:lnTo>
                <a:lnTo>
                  <a:pt x="102" y="2"/>
                </a:lnTo>
                <a:lnTo>
                  <a:pt x="102" y="2"/>
                </a:lnTo>
                <a:lnTo>
                  <a:pt x="100" y="4"/>
                </a:lnTo>
                <a:lnTo>
                  <a:pt x="100" y="4"/>
                </a:lnTo>
                <a:lnTo>
                  <a:pt x="98" y="5"/>
                </a:lnTo>
                <a:lnTo>
                  <a:pt x="98" y="5"/>
                </a:lnTo>
                <a:lnTo>
                  <a:pt x="96" y="7"/>
                </a:lnTo>
                <a:lnTo>
                  <a:pt x="110" y="9"/>
                </a:lnTo>
                <a:lnTo>
                  <a:pt x="158" y="21"/>
                </a:lnTo>
                <a:lnTo>
                  <a:pt x="186" y="28"/>
                </a:lnTo>
                <a:lnTo>
                  <a:pt x="188" y="28"/>
                </a:lnTo>
                <a:lnTo>
                  <a:pt x="188" y="27"/>
                </a:lnTo>
                <a:lnTo>
                  <a:pt x="188" y="27"/>
                </a:lnTo>
                <a:lnTo>
                  <a:pt x="190" y="25"/>
                </a:lnTo>
                <a:lnTo>
                  <a:pt x="190" y="25"/>
                </a:lnTo>
                <a:lnTo>
                  <a:pt x="192" y="23"/>
                </a:lnTo>
                <a:lnTo>
                  <a:pt x="192" y="21"/>
                </a:lnTo>
                <a:lnTo>
                  <a:pt x="192" y="21"/>
                </a:lnTo>
                <a:close/>
                <a:moveTo>
                  <a:pt x="8" y="1980"/>
                </a:moveTo>
                <a:lnTo>
                  <a:pt x="12" y="1980"/>
                </a:lnTo>
                <a:lnTo>
                  <a:pt x="62" y="1974"/>
                </a:lnTo>
                <a:lnTo>
                  <a:pt x="112" y="1965"/>
                </a:lnTo>
                <a:lnTo>
                  <a:pt x="160" y="1953"/>
                </a:lnTo>
                <a:lnTo>
                  <a:pt x="207" y="1940"/>
                </a:lnTo>
                <a:lnTo>
                  <a:pt x="219" y="1936"/>
                </a:lnTo>
                <a:lnTo>
                  <a:pt x="219" y="1936"/>
                </a:lnTo>
                <a:lnTo>
                  <a:pt x="217" y="1934"/>
                </a:lnTo>
                <a:lnTo>
                  <a:pt x="217" y="1934"/>
                </a:lnTo>
                <a:lnTo>
                  <a:pt x="217" y="1932"/>
                </a:lnTo>
                <a:lnTo>
                  <a:pt x="215" y="1932"/>
                </a:lnTo>
                <a:lnTo>
                  <a:pt x="215" y="1930"/>
                </a:lnTo>
                <a:lnTo>
                  <a:pt x="213" y="1930"/>
                </a:lnTo>
                <a:lnTo>
                  <a:pt x="213" y="1928"/>
                </a:lnTo>
                <a:lnTo>
                  <a:pt x="206" y="1932"/>
                </a:lnTo>
                <a:lnTo>
                  <a:pt x="158" y="1945"/>
                </a:lnTo>
                <a:lnTo>
                  <a:pt x="110" y="1955"/>
                </a:lnTo>
                <a:lnTo>
                  <a:pt x="62" y="1965"/>
                </a:lnTo>
                <a:lnTo>
                  <a:pt x="12" y="1970"/>
                </a:lnTo>
                <a:lnTo>
                  <a:pt x="0" y="1972"/>
                </a:lnTo>
                <a:lnTo>
                  <a:pt x="2" y="1972"/>
                </a:lnTo>
                <a:lnTo>
                  <a:pt x="2" y="1974"/>
                </a:lnTo>
                <a:lnTo>
                  <a:pt x="4" y="1974"/>
                </a:lnTo>
                <a:lnTo>
                  <a:pt x="4" y="1976"/>
                </a:lnTo>
                <a:lnTo>
                  <a:pt x="4" y="1978"/>
                </a:lnTo>
                <a:lnTo>
                  <a:pt x="6" y="1978"/>
                </a:lnTo>
                <a:lnTo>
                  <a:pt x="6" y="1980"/>
                </a:lnTo>
                <a:lnTo>
                  <a:pt x="8" y="1980"/>
                </a:lnTo>
                <a:close/>
              </a:path>
            </a:pathLst>
          </a:custGeom>
          <a:solidFill>
            <a:srgbClr val="2ca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78"/>
          <p:cNvSpPr/>
          <p:nvPr/>
        </p:nvSpPr>
        <p:spPr>
          <a:xfrm>
            <a:off x="7269120" y="1744560"/>
            <a:ext cx="347760" cy="3130560"/>
          </a:xfrm>
          <a:custGeom>
            <a:avLst/>
            <a:gdLst>
              <a:gd name="textAreaLeft" fmla="*/ 0 w 347760"/>
              <a:gd name="textAreaRight" fmla="*/ 348120 w 347760"/>
              <a:gd name="textAreaTop" fmla="*/ 0 h 3130560"/>
              <a:gd name="textAreaBottom" fmla="*/ 3130920 h 3130560"/>
            </a:gdLst>
            <a:ahLst/>
            <a:rect l="textAreaLeft" t="textAreaTop" r="textAreaRight" b="textAreaBottom"/>
            <a:pathLst>
              <a:path w="219" h="1972">
                <a:moveTo>
                  <a:pt x="192" y="21"/>
                </a:moveTo>
                <a:lnTo>
                  <a:pt x="162" y="11"/>
                </a:lnTo>
                <a:lnTo>
                  <a:pt x="114" y="1"/>
                </a:lnTo>
                <a:lnTo>
                  <a:pt x="102" y="0"/>
                </a:lnTo>
                <a:lnTo>
                  <a:pt x="102" y="0"/>
                </a:lnTo>
                <a:lnTo>
                  <a:pt x="100" y="1"/>
                </a:lnTo>
                <a:lnTo>
                  <a:pt x="100" y="1"/>
                </a:lnTo>
                <a:lnTo>
                  <a:pt x="98" y="3"/>
                </a:lnTo>
                <a:lnTo>
                  <a:pt x="98" y="3"/>
                </a:lnTo>
                <a:lnTo>
                  <a:pt x="96" y="5"/>
                </a:lnTo>
                <a:lnTo>
                  <a:pt x="96" y="5"/>
                </a:lnTo>
                <a:lnTo>
                  <a:pt x="94" y="7"/>
                </a:lnTo>
                <a:lnTo>
                  <a:pt x="112" y="11"/>
                </a:lnTo>
                <a:lnTo>
                  <a:pt x="158" y="21"/>
                </a:lnTo>
                <a:lnTo>
                  <a:pt x="186" y="28"/>
                </a:lnTo>
                <a:lnTo>
                  <a:pt x="186" y="28"/>
                </a:lnTo>
                <a:lnTo>
                  <a:pt x="186" y="26"/>
                </a:lnTo>
                <a:lnTo>
                  <a:pt x="188" y="26"/>
                </a:lnTo>
                <a:lnTo>
                  <a:pt x="188" y="24"/>
                </a:lnTo>
                <a:lnTo>
                  <a:pt x="190" y="24"/>
                </a:lnTo>
                <a:lnTo>
                  <a:pt x="190" y="23"/>
                </a:lnTo>
                <a:lnTo>
                  <a:pt x="190" y="23"/>
                </a:lnTo>
                <a:lnTo>
                  <a:pt x="192" y="21"/>
                </a:lnTo>
                <a:close/>
                <a:moveTo>
                  <a:pt x="6" y="1972"/>
                </a:moveTo>
                <a:lnTo>
                  <a:pt x="14" y="1972"/>
                </a:lnTo>
                <a:lnTo>
                  <a:pt x="64" y="1964"/>
                </a:lnTo>
                <a:lnTo>
                  <a:pt x="114" y="1957"/>
                </a:lnTo>
                <a:lnTo>
                  <a:pt x="162" y="1945"/>
                </a:lnTo>
                <a:lnTo>
                  <a:pt x="208" y="1932"/>
                </a:lnTo>
                <a:lnTo>
                  <a:pt x="219" y="1928"/>
                </a:lnTo>
                <a:lnTo>
                  <a:pt x="217" y="1928"/>
                </a:lnTo>
                <a:lnTo>
                  <a:pt x="217" y="1926"/>
                </a:lnTo>
                <a:lnTo>
                  <a:pt x="215" y="1926"/>
                </a:lnTo>
                <a:lnTo>
                  <a:pt x="215" y="1924"/>
                </a:lnTo>
                <a:lnTo>
                  <a:pt x="215" y="1924"/>
                </a:lnTo>
                <a:lnTo>
                  <a:pt x="213" y="1922"/>
                </a:lnTo>
                <a:lnTo>
                  <a:pt x="213" y="1922"/>
                </a:lnTo>
                <a:lnTo>
                  <a:pt x="211" y="1920"/>
                </a:lnTo>
                <a:lnTo>
                  <a:pt x="206" y="1922"/>
                </a:lnTo>
                <a:lnTo>
                  <a:pt x="158" y="1936"/>
                </a:lnTo>
                <a:lnTo>
                  <a:pt x="112" y="1947"/>
                </a:lnTo>
                <a:lnTo>
                  <a:pt x="62" y="1955"/>
                </a:lnTo>
                <a:lnTo>
                  <a:pt x="12" y="1962"/>
                </a:lnTo>
                <a:lnTo>
                  <a:pt x="0" y="1962"/>
                </a:lnTo>
                <a:lnTo>
                  <a:pt x="0" y="1964"/>
                </a:lnTo>
                <a:lnTo>
                  <a:pt x="2" y="1964"/>
                </a:lnTo>
                <a:lnTo>
                  <a:pt x="2" y="1966"/>
                </a:lnTo>
                <a:lnTo>
                  <a:pt x="2" y="1968"/>
                </a:lnTo>
                <a:lnTo>
                  <a:pt x="4" y="1968"/>
                </a:lnTo>
                <a:lnTo>
                  <a:pt x="4" y="1970"/>
                </a:lnTo>
                <a:lnTo>
                  <a:pt x="6" y="1970"/>
                </a:lnTo>
                <a:lnTo>
                  <a:pt x="6" y="1972"/>
                </a:lnTo>
                <a:close/>
              </a:path>
            </a:pathLst>
          </a:custGeom>
          <a:solidFill>
            <a:srgbClr val="2da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79"/>
          <p:cNvSpPr/>
          <p:nvPr/>
        </p:nvSpPr>
        <p:spPr>
          <a:xfrm>
            <a:off x="7262640" y="1749600"/>
            <a:ext cx="347760" cy="3119400"/>
          </a:xfrm>
          <a:custGeom>
            <a:avLst/>
            <a:gdLst>
              <a:gd name="textAreaLeft" fmla="*/ 0 w 347760"/>
              <a:gd name="textAreaRight" fmla="*/ 348120 w 347760"/>
              <a:gd name="textAreaTop" fmla="*/ 0 h 3119400"/>
              <a:gd name="textAreaBottom" fmla="*/ 3119760 h 3119400"/>
            </a:gdLst>
            <a:ahLst/>
            <a:rect l="textAreaLeft" t="textAreaTop" r="textAreaRight" b="textAreaBottom"/>
            <a:pathLst>
              <a:path w="219" h="1965">
                <a:moveTo>
                  <a:pt x="192" y="21"/>
                </a:moveTo>
                <a:lnTo>
                  <a:pt x="164" y="14"/>
                </a:lnTo>
                <a:lnTo>
                  <a:pt x="116" y="2"/>
                </a:lnTo>
                <a:lnTo>
                  <a:pt x="102" y="0"/>
                </a:lnTo>
                <a:lnTo>
                  <a:pt x="102" y="0"/>
                </a:lnTo>
                <a:lnTo>
                  <a:pt x="100" y="2"/>
                </a:lnTo>
                <a:lnTo>
                  <a:pt x="100" y="2"/>
                </a:lnTo>
                <a:lnTo>
                  <a:pt x="98" y="4"/>
                </a:lnTo>
                <a:lnTo>
                  <a:pt x="98" y="6"/>
                </a:lnTo>
                <a:lnTo>
                  <a:pt x="96" y="6"/>
                </a:lnTo>
                <a:lnTo>
                  <a:pt x="96" y="8"/>
                </a:lnTo>
                <a:lnTo>
                  <a:pt x="94" y="8"/>
                </a:lnTo>
                <a:lnTo>
                  <a:pt x="114" y="12"/>
                </a:lnTo>
                <a:lnTo>
                  <a:pt x="162" y="23"/>
                </a:lnTo>
                <a:lnTo>
                  <a:pt x="187" y="29"/>
                </a:lnTo>
                <a:lnTo>
                  <a:pt x="189" y="29"/>
                </a:lnTo>
                <a:lnTo>
                  <a:pt x="189" y="27"/>
                </a:lnTo>
                <a:lnTo>
                  <a:pt x="189" y="27"/>
                </a:lnTo>
                <a:lnTo>
                  <a:pt x="190" y="25"/>
                </a:lnTo>
                <a:lnTo>
                  <a:pt x="190" y="25"/>
                </a:lnTo>
                <a:lnTo>
                  <a:pt x="190" y="23"/>
                </a:lnTo>
                <a:lnTo>
                  <a:pt x="192" y="23"/>
                </a:lnTo>
                <a:lnTo>
                  <a:pt x="192" y="21"/>
                </a:lnTo>
                <a:close/>
                <a:moveTo>
                  <a:pt x="6" y="1965"/>
                </a:moveTo>
                <a:lnTo>
                  <a:pt x="18" y="1963"/>
                </a:lnTo>
                <a:lnTo>
                  <a:pt x="68" y="1958"/>
                </a:lnTo>
                <a:lnTo>
                  <a:pt x="116" y="1948"/>
                </a:lnTo>
                <a:lnTo>
                  <a:pt x="164" y="1938"/>
                </a:lnTo>
                <a:lnTo>
                  <a:pt x="212" y="1925"/>
                </a:lnTo>
                <a:lnTo>
                  <a:pt x="219" y="1921"/>
                </a:lnTo>
                <a:lnTo>
                  <a:pt x="219" y="1921"/>
                </a:lnTo>
                <a:lnTo>
                  <a:pt x="217" y="1919"/>
                </a:lnTo>
                <a:lnTo>
                  <a:pt x="217" y="1919"/>
                </a:lnTo>
                <a:lnTo>
                  <a:pt x="215" y="1917"/>
                </a:lnTo>
                <a:lnTo>
                  <a:pt x="215" y="1917"/>
                </a:lnTo>
                <a:lnTo>
                  <a:pt x="215" y="1915"/>
                </a:lnTo>
                <a:lnTo>
                  <a:pt x="213" y="1915"/>
                </a:lnTo>
                <a:lnTo>
                  <a:pt x="213" y="1913"/>
                </a:lnTo>
                <a:lnTo>
                  <a:pt x="208" y="1915"/>
                </a:lnTo>
                <a:lnTo>
                  <a:pt x="162" y="1929"/>
                </a:lnTo>
                <a:lnTo>
                  <a:pt x="114" y="1940"/>
                </a:lnTo>
                <a:lnTo>
                  <a:pt x="66" y="1948"/>
                </a:lnTo>
                <a:lnTo>
                  <a:pt x="16" y="1954"/>
                </a:lnTo>
                <a:lnTo>
                  <a:pt x="0" y="1956"/>
                </a:lnTo>
                <a:lnTo>
                  <a:pt x="0" y="1956"/>
                </a:lnTo>
                <a:lnTo>
                  <a:pt x="2" y="1958"/>
                </a:lnTo>
                <a:lnTo>
                  <a:pt x="2" y="1959"/>
                </a:lnTo>
                <a:lnTo>
                  <a:pt x="4" y="1959"/>
                </a:lnTo>
                <a:lnTo>
                  <a:pt x="4" y="1961"/>
                </a:lnTo>
                <a:lnTo>
                  <a:pt x="6" y="1961"/>
                </a:lnTo>
                <a:lnTo>
                  <a:pt x="6" y="1963"/>
                </a:lnTo>
                <a:lnTo>
                  <a:pt x="6" y="1965"/>
                </a:lnTo>
                <a:close/>
              </a:path>
            </a:pathLst>
          </a:custGeom>
          <a:solidFill>
            <a:srgbClr val="2ea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80"/>
          <p:cNvSpPr/>
          <p:nvPr/>
        </p:nvSpPr>
        <p:spPr>
          <a:xfrm>
            <a:off x="7257960" y="1755720"/>
            <a:ext cx="346320" cy="3103560"/>
          </a:xfrm>
          <a:custGeom>
            <a:avLst/>
            <a:gdLst>
              <a:gd name="textAreaLeft" fmla="*/ 0 w 346320"/>
              <a:gd name="textAreaRight" fmla="*/ 346680 w 346320"/>
              <a:gd name="textAreaTop" fmla="*/ 0 h 3103560"/>
              <a:gd name="textAreaBottom" fmla="*/ 3103920 h 3103560"/>
            </a:gdLst>
            <a:ahLst/>
            <a:rect l="textAreaLeft" t="textAreaTop" r="textAreaRight" b="textAreaBottom"/>
            <a:pathLst>
              <a:path w="218" h="1955">
                <a:moveTo>
                  <a:pt x="193" y="21"/>
                </a:moveTo>
                <a:lnTo>
                  <a:pt x="165" y="14"/>
                </a:lnTo>
                <a:lnTo>
                  <a:pt x="119" y="4"/>
                </a:lnTo>
                <a:lnTo>
                  <a:pt x="101" y="0"/>
                </a:lnTo>
                <a:lnTo>
                  <a:pt x="101" y="2"/>
                </a:lnTo>
                <a:lnTo>
                  <a:pt x="99" y="2"/>
                </a:lnTo>
                <a:lnTo>
                  <a:pt x="99" y="4"/>
                </a:lnTo>
                <a:lnTo>
                  <a:pt x="97" y="4"/>
                </a:lnTo>
                <a:lnTo>
                  <a:pt x="97" y="6"/>
                </a:lnTo>
                <a:lnTo>
                  <a:pt x="96" y="6"/>
                </a:lnTo>
                <a:lnTo>
                  <a:pt x="96" y="8"/>
                </a:lnTo>
                <a:lnTo>
                  <a:pt x="94" y="8"/>
                </a:lnTo>
                <a:lnTo>
                  <a:pt x="117" y="12"/>
                </a:lnTo>
                <a:lnTo>
                  <a:pt x="163" y="23"/>
                </a:lnTo>
                <a:lnTo>
                  <a:pt x="188" y="31"/>
                </a:lnTo>
                <a:lnTo>
                  <a:pt x="188" y="29"/>
                </a:lnTo>
                <a:lnTo>
                  <a:pt x="188" y="29"/>
                </a:lnTo>
                <a:lnTo>
                  <a:pt x="190" y="27"/>
                </a:lnTo>
                <a:lnTo>
                  <a:pt x="190" y="25"/>
                </a:lnTo>
                <a:lnTo>
                  <a:pt x="192" y="25"/>
                </a:lnTo>
                <a:lnTo>
                  <a:pt x="192" y="23"/>
                </a:lnTo>
                <a:lnTo>
                  <a:pt x="192" y="23"/>
                </a:lnTo>
                <a:lnTo>
                  <a:pt x="193" y="21"/>
                </a:lnTo>
                <a:close/>
                <a:moveTo>
                  <a:pt x="7" y="1955"/>
                </a:moveTo>
                <a:lnTo>
                  <a:pt x="19" y="1955"/>
                </a:lnTo>
                <a:lnTo>
                  <a:pt x="69" y="1948"/>
                </a:lnTo>
                <a:lnTo>
                  <a:pt x="119" y="1940"/>
                </a:lnTo>
                <a:lnTo>
                  <a:pt x="165" y="1929"/>
                </a:lnTo>
                <a:lnTo>
                  <a:pt x="213" y="1915"/>
                </a:lnTo>
                <a:lnTo>
                  <a:pt x="218" y="1913"/>
                </a:lnTo>
                <a:lnTo>
                  <a:pt x="218" y="1913"/>
                </a:lnTo>
                <a:lnTo>
                  <a:pt x="218" y="1911"/>
                </a:lnTo>
                <a:lnTo>
                  <a:pt x="216" y="1911"/>
                </a:lnTo>
                <a:lnTo>
                  <a:pt x="216" y="1909"/>
                </a:lnTo>
                <a:lnTo>
                  <a:pt x="215" y="1907"/>
                </a:lnTo>
                <a:lnTo>
                  <a:pt x="215" y="1907"/>
                </a:lnTo>
                <a:lnTo>
                  <a:pt x="215" y="1906"/>
                </a:lnTo>
                <a:lnTo>
                  <a:pt x="213" y="1906"/>
                </a:lnTo>
                <a:lnTo>
                  <a:pt x="209" y="1907"/>
                </a:lnTo>
                <a:lnTo>
                  <a:pt x="163" y="1919"/>
                </a:lnTo>
                <a:lnTo>
                  <a:pt x="117" y="1931"/>
                </a:lnTo>
                <a:lnTo>
                  <a:pt x="67" y="1940"/>
                </a:lnTo>
                <a:lnTo>
                  <a:pt x="19" y="1946"/>
                </a:lnTo>
                <a:lnTo>
                  <a:pt x="0" y="1948"/>
                </a:lnTo>
                <a:lnTo>
                  <a:pt x="2" y="1948"/>
                </a:lnTo>
                <a:lnTo>
                  <a:pt x="2" y="1950"/>
                </a:lnTo>
                <a:lnTo>
                  <a:pt x="3" y="1950"/>
                </a:lnTo>
                <a:lnTo>
                  <a:pt x="3" y="1952"/>
                </a:lnTo>
                <a:lnTo>
                  <a:pt x="3" y="1952"/>
                </a:lnTo>
                <a:lnTo>
                  <a:pt x="5" y="1954"/>
                </a:lnTo>
                <a:lnTo>
                  <a:pt x="5" y="1955"/>
                </a:lnTo>
                <a:lnTo>
                  <a:pt x="7" y="1955"/>
                </a:lnTo>
                <a:close/>
              </a:path>
            </a:pathLst>
          </a:custGeom>
          <a:solidFill>
            <a:srgbClr val="2fa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81"/>
          <p:cNvSpPr/>
          <p:nvPr/>
        </p:nvSpPr>
        <p:spPr>
          <a:xfrm>
            <a:off x="7254720" y="1762200"/>
            <a:ext cx="346320" cy="3092400"/>
          </a:xfrm>
          <a:custGeom>
            <a:avLst/>
            <a:gdLst>
              <a:gd name="textAreaLeft" fmla="*/ 0 w 346320"/>
              <a:gd name="textAreaRight" fmla="*/ 346680 w 346320"/>
              <a:gd name="textAreaTop" fmla="*/ 0 h 3092400"/>
              <a:gd name="textAreaBottom" fmla="*/ 3092760 h 3092400"/>
            </a:gdLst>
            <a:ahLst/>
            <a:rect l="textAreaLeft" t="textAreaTop" r="textAreaRight" b="textAreaBottom"/>
            <a:pathLst>
              <a:path w="218" h="1948">
                <a:moveTo>
                  <a:pt x="192" y="21"/>
                </a:moveTo>
                <a:lnTo>
                  <a:pt x="167" y="15"/>
                </a:lnTo>
                <a:lnTo>
                  <a:pt x="119" y="4"/>
                </a:lnTo>
                <a:lnTo>
                  <a:pt x="99" y="0"/>
                </a:lnTo>
                <a:lnTo>
                  <a:pt x="99" y="2"/>
                </a:lnTo>
                <a:lnTo>
                  <a:pt x="98" y="2"/>
                </a:lnTo>
                <a:lnTo>
                  <a:pt x="98" y="4"/>
                </a:lnTo>
                <a:lnTo>
                  <a:pt x="96" y="4"/>
                </a:lnTo>
                <a:lnTo>
                  <a:pt x="96" y="6"/>
                </a:lnTo>
                <a:lnTo>
                  <a:pt x="94" y="6"/>
                </a:lnTo>
                <a:lnTo>
                  <a:pt x="94" y="8"/>
                </a:lnTo>
                <a:lnTo>
                  <a:pt x="92" y="8"/>
                </a:lnTo>
                <a:lnTo>
                  <a:pt x="117" y="13"/>
                </a:lnTo>
                <a:lnTo>
                  <a:pt x="165" y="23"/>
                </a:lnTo>
                <a:lnTo>
                  <a:pt x="186" y="31"/>
                </a:lnTo>
                <a:lnTo>
                  <a:pt x="188" y="29"/>
                </a:lnTo>
                <a:lnTo>
                  <a:pt x="188" y="29"/>
                </a:lnTo>
                <a:lnTo>
                  <a:pt x="188" y="27"/>
                </a:lnTo>
                <a:lnTo>
                  <a:pt x="190" y="27"/>
                </a:lnTo>
                <a:lnTo>
                  <a:pt x="190" y="25"/>
                </a:lnTo>
                <a:lnTo>
                  <a:pt x="190" y="25"/>
                </a:lnTo>
                <a:lnTo>
                  <a:pt x="192" y="23"/>
                </a:lnTo>
                <a:lnTo>
                  <a:pt x="192" y="21"/>
                </a:lnTo>
                <a:close/>
                <a:moveTo>
                  <a:pt x="5" y="1948"/>
                </a:moveTo>
                <a:lnTo>
                  <a:pt x="21" y="1946"/>
                </a:lnTo>
                <a:lnTo>
                  <a:pt x="71" y="1940"/>
                </a:lnTo>
                <a:lnTo>
                  <a:pt x="119" y="1932"/>
                </a:lnTo>
                <a:lnTo>
                  <a:pt x="167" y="1921"/>
                </a:lnTo>
                <a:lnTo>
                  <a:pt x="213" y="1907"/>
                </a:lnTo>
                <a:lnTo>
                  <a:pt x="218" y="1905"/>
                </a:lnTo>
                <a:lnTo>
                  <a:pt x="217" y="1903"/>
                </a:lnTo>
                <a:lnTo>
                  <a:pt x="217" y="1903"/>
                </a:lnTo>
                <a:lnTo>
                  <a:pt x="217" y="1902"/>
                </a:lnTo>
                <a:lnTo>
                  <a:pt x="215" y="1902"/>
                </a:lnTo>
                <a:lnTo>
                  <a:pt x="215" y="1900"/>
                </a:lnTo>
                <a:lnTo>
                  <a:pt x="213" y="1900"/>
                </a:lnTo>
                <a:lnTo>
                  <a:pt x="213" y="1898"/>
                </a:lnTo>
                <a:lnTo>
                  <a:pt x="213" y="1898"/>
                </a:lnTo>
                <a:lnTo>
                  <a:pt x="211" y="1898"/>
                </a:lnTo>
                <a:lnTo>
                  <a:pt x="165" y="1911"/>
                </a:lnTo>
                <a:lnTo>
                  <a:pt x="117" y="1923"/>
                </a:lnTo>
                <a:lnTo>
                  <a:pt x="69" y="1930"/>
                </a:lnTo>
                <a:lnTo>
                  <a:pt x="21" y="1936"/>
                </a:lnTo>
                <a:lnTo>
                  <a:pt x="0" y="1938"/>
                </a:lnTo>
                <a:lnTo>
                  <a:pt x="0" y="1940"/>
                </a:lnTo>
                <a:lnTo>
                  <a:pt x="2" y="1940"/>
                </a:lnTo>
                <a:lnTo>
                  <a:pt x="2" y="1942"/>
                </a:lnTo>
                <a:lnTo>
                  <a:pt x="2" y="1944"/>
                </a:lnTo>
                <a:lnTo>
                  <a:pt x="4" y="1944"/>
                </a:lnTo>
                <a:lnTo>
                  <a:pt x="4" y="1946"/>
                </a:lnTo>
                <a:lnTo>
                  <a:pt x="5" y="1946"/>
                </a:lnTo>
                <a:lnTo>
                  <a:pt x="5" y="1948"/>
                </a:lnTo>
                <a:close/>
              </a:path>
            </a:pathLst>
          </a:custGeom>
          <a:solidFill>
            <a:srgbClr val="30a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82"/>
          <p:cNvSpPr/>
          <p:nvPr/>
        </p:nvSpPr>
        <p:spPr>
          <a:xfrm>
            <a:off x="7248600" y="1768320"/>
            <a:ext cx="347760" cy="3079800"/>
          </a:xfrm>
          <a:custGeom>
            <a:avLst/>
            <a:gdLst>
              <a:gd name="textAreaLeft" fmla="*/ 0 w 347760"/>
              <a:gd name="textAreaRight" fmla="*/ 348120 w 347760"/>
              <a:gd name="textAreaTop" fmla="*/ 0 h 3079800"/>
              <a:gd name="textAreaBottom" fmla="*/ 3080160 h 3079800"/>
            </a:gdLst>
            <a:ahLst/>
            <a:rect l="textAreaLeft" t="textAreaTop" r="textAreaRight" b="textAreaBottom"/>
            <a:pathLst>
              <a:path w="219" h="1940">
                <a:moveTo>
                  <a:pt x="194" y="23"/>
                </a:moveTo>
                <a:lnTo>
                  <a:pt x="169" y="15"/>
                </a:lnTo>
                <a:lnTo>
                  <a:pt x="123" y="4"/>
                </a:lnTo>
                <a:lnTo>
                  <a:pt x="100" y="0"/>
                </a:lnTo>
                <a:lnTo>
                  <a:pt x="100" y="2"/>
                </a:lnTo>
                <a:lnTo>
                  <a:pt x="98" y="2"/>
                </a:lnTo>
                <a:lnTo>
                  <a:pt x="98" y="4"/>
                </a:lnTo>
                <a:lnTo>
                  <a:pt x="96" y="4"/>
                </a:lnTo>
                <a:lnTo>
                  <a:pt x="96" y="6"/>
                </a:lnTo>
                <a:lnTo>
                  <a:pt x="94" y="8"/>
                </a:lnTo>
                <a:lnTo>
                  <a:pt x="94" y="8"/>
                </a:lnTo>
                <a:lnTo>
                  <a:pt x="94" y="9"/>
                </a:lnTo>
                <a:lnTo>
                  <a:pt x="121" y="13"/>
                </a:lnTo>
                <a:lnTo>
                  <a:pt x="167" y="25"/>
                </a:lnTo>
                <a:lnTo>
                  <a:pt x="188" y="31"/>
                </a:lnTo>
                <a:lnTo>
                  <a:pt x="188" y="29"/>
                </a:lnTo>
                <a:lnTo>
                  <a:pt x="190" y="29"/>
                </a:lnTo>
                <a:lnTo>
                  <a:pt x="190" y="27"/>
                </a:lnTo>
                <a:lnTo>
                  <a:pt x="190" y="27"/>
                </a:lnTo>
                <a:lnTo>
                  <a:pt x="192" y="25"/>
                </a:lnTo>
                <a:lnTo>
                  <a:pt x="192" y="25"/>
                </a:lnTo>
                <a:lnTo>
                  <a:pt x="192" y="23"/>
                </a:lnTo>
                <a:lnTo>
                  <a:pt x="194" y="23"/>
                </a:lnTo>
                <a:close/>
                <a:moveTo>
                  <a:pt x="6" y="1940"/>
                </a:moveTo>
                <a:lnTo>
                  <a:pt x="25" y="1938"/>
                </a:lnTo>
                <a:lnTo>
                  <a:pt x="73" y="1932"/>
                </a:lnTo>
                <a:lnTo>
                  <a:pt x="123" y="1923"/>
                </a:lnTo>
                <a:lnTo>
                  <a:pt x="169" y="1911"/>
                </a:lnTo>
                <a:lnTo>
                  <a:pt x="215" y="1899"/>
                </a:lnTo>
                <a:lnTo>
                  <a:pt x="219" y="1898"/>
                </a:lnTo>
                <a:lnTo>
                  <a:pt x="219" y="1896"/>
                </a:lnTo>
                <a:lnTo>
                  <a:pt x="217" y="1896"/>
                </a:lnTo>
                <a:lnTo>
                  <a:pt x="217" y="1894"/>
                </a:lnTo>
                <a:lnTo>
                  <a:pt x="217" y="1894"/>
                </a:lnTo>
                <a:lnTo>
                  <a:pt x="215" y="1892"/>
                </a:lnTo>
                <a:lnTo>
                  <a:pt x="215" y="1892"/>
                </a:lnTo>
                <a:lnTo>
                  <a:pt x="213" y="1890"/>
                </a:lnTo>
                <a:lnTo>
                  <a:pt x="213" y="1890"/>
                </a:lnTo>
                <a:lnTo>
                  <a:pt x="213" y="1890"/>
                </a:lnTo>
                <a:lnTo>
                  <a:pt x="167" y="1903"/>
                </a:lnTo>
                <a:lnTo>
                  <a:pt x="121" y="1913"/>
                </a:lnTo>
                <a:lnTo>
                  <a:pt x="73" y="1923"/>
                </a:lnTo>
                <a:lnTo>
                  <a:pt x="23" y="1928"/>
                </a:lnTo>
                <a:lnTo>
                  <a:pt x="0" y="1930"/>
                </a:lnTo>
                <a:lnTo>
                  <a:pt x="2" y="1930"/>
                </a:lnTo>
                <a:lnTo>
                  <a:pt x="2" y="1932"/>
                </a:lnTo>
                <a:lnTo>
                  <a:pt x="2" y="1934"/>
                </a:lnTo>
                <a:lnTo>
                  <a:pt x="4" y="1934"/>
                </a:lnTo>
                <a:lnTo>
                  <a:pt x="4" y="1936"/>
                </a:lnTo>
                <a:lnTo>
                  <a:pt x="6" y="1936"/>
                </a:lnTo>
                <a:lnTo>
                  <a:pt x="6" y="1938"/>
                </a:lnTo>
                <a:lnTo>
                  <a:pt x="6" y="1940"/>
                </a:lnTo>
                <a:close/>
              </a:path>
            </a:pathLst>
          </a:custGeom>
          <a:solidFill>
            <a:srgbClr val="31a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83"/>
          <p:cNvSpPr/>
          <p:nvPr/>
        </p:nvSpPr>
        <p:spPr>
          <a:xfrm>
            <a:off x="7245360" y="1774800"/>
            <a:ext cx="347760" cy="3063960"/>
          </a:xfrm>
          <a:custGeom>
            <a:avLst/>
            <a:gdLst>
              <a:gd name="textAreaLeft" fmla="*/ 0 w 347760"/>
              <a:gd name="textAreaRight" fmla="*/ 348120 w 347760"/>
              <a:gd name="textAreaTop" fmla="*/ 0 h 3063960"/>
              <a:gd name="textAreaBottom" fmla="*/ 3064320 h 3063960"/>
            </a:gdLst>
            <a:ahLst/>
            <a:rect l="textAreaLeft" t="textAreaTop" r="textAreaRight" b="textAreaBottom"/>
            <a:pathLst>
              <a:path w="219" h="1930">
                <a:moveTo>
                  <a:pt x="192" y="23"/>
                </a:moveTo>
                <a:lnTo>
                  <a:pt x="171" y="15"/>
                </a:lnTo>
                <a:lnTo>
                  <a:pt x="123" y="5"/>
                </a:lnTo>
                <a:lnTo>
                  <a:pt x="98" y="0"/>
                </a:lnTo>
                <a:lnTo>
                  <a:pt x="98" y="2"/>
                </a:lnTo>
                <a:lnTo>
                  <a:pt x="96" y="4"/>
                </a:lnTo>
                <a:lnTo>
                  <a:pt x="96" y="4"/>
                </a:lnTo>
                <a:lnTo>
                  <a:pt x="94" y="5"/>
                </a:lnTo>
                <a:lnTo>
                  <a:pt x="94" y="5"/>
                </a:lnTo>
                <a:lnTo>
                  <a:pt x="94" y="7"/>
                </a:lnTo>
                <a:lnTo>
                  <a:pt x="92" y="7"/>
                </a:lnTo>
                <a:lnTo>
                  <a:pt x="92" y="9"/>
                </a:lnTo>
                <a:lnTo>
                  <a:pt x="121" y="15"/>
                </a:lnTo>
                <a:lnTo>
                  <a:pt x="167" y="25"/>
                </a:lnTo>
                <a:lnTo>
                  <a:pt x="186" y="30"/>
                </a:lnTo>
                <a:lnTo>
                  <a:pt x="188" y="28"/>
                </a:lnTo>
                <a:lnTo>
                  <a:pt x="188" y="28"/>
                </a:lnTo>
                <a:lnTo>
                  <a:pt x="188" y="27"/>
                </a:lnTo>
                <a:lnTo>
                  <a:pt x="190" y="27"/>
                </a:lnTo>
                <a:lnTo>
                  <a:pt x="190" y="25"/>
                </a:lnTo>
                <a:lnTo>
                  <a:pt x="192" y="25"/>
                </a:lnTo>
                <a:lnTo>
                  <a:pt x="192" y="23"/>
                </a:lnTo>
                <a:lnTo>
                  <a:pt x="192" y="23"/>
                </a:lnTo>
                <a:close/>
                <a:moveTo>
                  <a:pt x="6" y="1930"/>
                </a:moveTo>
                <a:lnTo>
                  <a:pt x="27" y="1928"/>
                </a:lnTo>
                <a:lnTo>
                  <a:pt x="75" y="1922"/>
                </a:lnTo>
                <a:lnTo>
                  <a:pt x="123" y="1915"/>
                </a:lnTo>
                <a:lnTo>
                  <a:pt x="171" y="1903"/>
                </a:lnTo>
                <a:lnTo>
                  <a:pt x="217" y="1890"/>
                </a:lnTo>
                <a:lnTo>
                  <a:pt x="219" y="1890"/>
                </a:lnTo>
                <a:lnTo>
                  <a:pt x="217" y="1888"/>
                </a:lnTo>
                <a:lnTo>
                  <a:pt x="217" y="1888"/>
                </a:lnTo>
                <a:lnTo>
                  <a:pt x="215" y="1886"/>
                </a:lnTo>
                <a:lnTo>
                  <a:pt x="215" y="1886"/>
                </a:lnTo>
                <a:lnTo>
                  <a:pt x="215" y="1884"/>
                </a:lnTo>
                <a:lnTo>
                  <a:pt x="213" y="1884"/>
                </a:lnTo>
                <a:lnTo>
                  <a:pt x="213" y="1882"/>
                </a:lnTo>
                <a:lnTo>
                  <a:pt x="211" y="1882"/>
                </a:lnTo>
                <a:lnTo>
                  <a:pt x="167" y="1894"/>
                </a:lnTo>
                <a:lnTo>
                  <a:pt x="121" y="1905"/>
                </a:lnTo>
                <a:lnTo>
                  <a:pt x="73" y="1913"/>
                </a:lnTo>
                <a:lnTo>
                  <a:pt x="25" y="1919"/>
                </a:lnTo>
                <a:lnTo>
                  <a:pt x="0" y="1922"/>
                </a:lnTo>
                <a:lnTo>
                  <a:pt x="0" y="1922"/>
                </a:lnTo>
                <a:lnTo>
                  <a:pt x="0" y="1924"/>
                </a:lnTo>
                <a:lnTo>
                  <a:pt x="2" y="1924"/>
                </a:lnTo>
                <a:lnTo>
                  <a:pt x="2" y="1926"/>
                </a:lnTo>
                <a:lnTo>
                  <a:pt x="4" y="1926"/>
                </a:lnTo>
                <a:lnTo>
                  <a:pt x="4" y="1928"/>
                </a:lnTo>
                <a:lnTo>
                  <a:pt x="4" y="1930"/>
                </a:lnTo>
                <a:lnTo>
                  <a:pt x="6" y="1930"/>
                </a:lnTo>
                <a:close/>
              </a:path>
            </a:pathLst>
          </a:custGeom>
          <a:solidFill>
            <a:srgbClr val="32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84"/>
          <p:cNvSpPr/>
          <p:nvPr/>
        </p:nvSpPr>
        <p:spPr>
          <a:xfrm>
            <a:off x="7238880" y="1782720"/>
            <a:ext cx="347760" cy="3049560"/>
          </a:xfrm>
          <a:custGeom>
            <a:avLst/>
            <a:gdLst>
              <a:gd name="textAreaLeft" fmla="*/ 0 w 347760"/>
              <a:gd name="textAreaRight" fmla="*/ 348120 w 347760"/>
              <a:gd name="textAreaTop" fmla="*/ 0 h 3049560"/>
              <a:gd name="textAreaBottom" fmla="*/ 3049920 h 3049560"/>
            </a:gdLst>
            <a:ahLst/>
            <a:rect l="textAreaLeft" t="textAreaTop" r="textAreaRight" b="textAreaBottom"/>
            <a:pathLst>
              <a:path w="219" h="1921">
                <a:moveTo>
                  <a:pt x="194" y="22"/>
                </a:moveTo>
                <a:lnTo>
                  <a:pt x="173" y="16"/>
                </a:lnTo>
                <a:lnTo>
                  <a:pt x="127" y="4"/>
                </a:lnTo>
                <a:lnTo>
                  <a:pt x="100" y="0"/>
                </a:lnTo>
                <a:lnTo>
                  <a:pt x="98" y="0"/>
                </a:lnTo>
                <a:lnTo>
                  <a:pt x="98" y="2"/>
                </a:lnTo>
                <a:lnTo>
                  <a:pt x="96" y="2"/>
                </a:lnTo>
                <a:lnTo>
                  <a:pt x="96" y="4"/>
                </a:lnTo>
                <a:lnTo>
                  <a:pt x="94" y="4"/>
                </a:lnTo>
                <a:lnTo>
                  <a:pt x="94" y="6"/>
                </a:lnTo>
                <a:lnTo>
                  <a:pt x="92" y="6"/>
                </a:lnTo>
                <a:lnTo>
                  <a:pt x="92" y="8"/>
                </a:lnTo>
                <a:lnTo>
                  <a:pt x="125" y="14"/>
                </a:lnTo>
                <a:lnTo>
                  <a:pt x="171" y="25"/>
                </a:lnTo>
                <a:lnTo>
                  <a:pt x="188" y="29"/>
                </a:lnTo>
                <a:lnTo>
                  <a:pt x="188" y="29"/>
                </a:lnTo>
                <a:lnTo>
                  <a:pt x="190" y="27"/>
                </a:lnTo>
                <a:lnTo>
                  <a:pt x="190" y="27"/>
                </a:lnTo>
                <a:lnTo>
                  <a:pt x="190" y="25"/>
                </a:lnTo>
                <a:lnTo>
                  <a:pt x="192" y="23"/>
                </a:lnTo>
                <a:lnTo>
                  <a:pt x="192" y="23"/>
                </a:lnTo>
                <a:lnTo>
                  <a:pt x="192" y="22"/>
                </a:lnTo>
                <a:lnTo>
                  <a:pt x="194" y="22"/>
                </a:lnTo>
                <a:close/>
                <a:moveTo>
                  <a:pt x="6" y="1921"/>
                </a:moveTo>
                <a:lnTo>
                  <a:pt x="29" y="1919"/>
                </a:lnTo>
                <a:lnTo>
                  <a:pt x="79" y="1914"/>
                </a:lnTo>
                <a:lnTo>
                  <a:pt x="127" y="1904"/>
                </a:lnTo>
                <a:lnTo>
                  <a:pt x="173" y="1894"/>
                </a:lnTo>
                <a:lnTo>
                  <a:pt x="219" y="1881"/>
                </a:lnTo>
                <a:lnTo>
                  <a:pt x="219" y="1881"/>
                </a:lnTo>
                <a:lnTo>
                  <a:pt x="219" y="1879"/>
                </a:lnTo>
                <a:lnTo>
                  <a:pt x="217" y="1879"/>
                </a:lnTo>
                <a:lnTo>
                  <a:pt x="217" y="1877"/>
                </a:lnTo>
                <a:lnTo>
                  <a:pt x="215" y="1877"/>
                </a:lnTo>
                <a:lnTo>
                  <a:pt x="215" y="1875"/>
                </a:lnTo>
                <a:lnTo>
                  <a:pt x="215" y="1875"/>
                </a:lnTo>
                <a:lnTo>
                  <a:pt x="213" y="1873"/>
                </a:lnTo>
                <a:lnTo>
                  <a:pt x="213" y="1873"/>
                </a:lnTo>
                <a:lnTo>
                  <a:pt x="171" y="1885"/>
                </a:lnTo>
                <a:lnTo>
                  <a:pt x="125" y="1894"/>
                </a:lnTo>
                <a:lnTo>
                  <a:pt x="77" y="1904"/>
                </a:lnTo>
                <a:lnTo>
                  <a:pt x="29" y="1910"/>
                </a:lnTo>
                <a:lnTo>
                  <a:pt x="0" y="1912"/>
                </a:lnTo>
                <a:lnTo>
                  <a:pt x="0" y="1914"/>
                </a:lnTo>
                <a:lnTo>
                  <a:pt x="2" y="1914"/>
                </a:lnTo>
                <a:lnTo>
                  <a:pt x="2" y="1915"/>
                </a:lnTo>
                <a:lnTo>
                  <a:pt x="4" y="1917"/>
                </a:lnTo>
                <a:lnTo>
                  <a:pt x="4" y="1917"/>
                </a:lnTo>
                <a:lnTo>
                  <a:pt x="4" y="1919"/>
                </a:lnTo>
                <a:lnTo>
                  <a:pt x="6" y="1919"/>
                </a:lnTo>
                <a:lnTo>
                  <a:pt x="6" y="1921"/>
                </a:lnTo>
                <a:close/>
              </a:path>
            </a:pathLst>
          </a:custGeom>
          <a:solidFill>
            <a:srgbClr val="33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85"/>
          <p:cNvSpPr/>
          <p:nvPr/>
        </p:nvSpPr>
        <p:spPr>
          <a:xfrm>
            <a:off x="7232760" y="1789200"/>
            <a:ext cx="347400" cy="3036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219" h="1913">
                <a:moveTo>
                  <a:pt x="194" y="21"/>
                </a:moveTo>
                <a:lnTo>
                  <a:pt x="175" y="16"/>
                </a:lnTo>
                <a:lnTo>
                  <a:pt x="129" y="6"/>
                </a:lnTo>
                <a:lnTo>
                  <a:pt x="100" y="0"/>
                </a:lnTo>
                <a:lnTo>
                  <a:pt x="98" y="0"/>
                </a:lnTo>
                <a:lnTo>
                  <a:pt x="98" y="2"/>
                </a:lnTo>
                <a:lnTo>
                  <a:pt x="96" y="2"/>
                </a:lnTo>
                <a:lnTo>
                  <a:pt x="96" y="4"/>
                </a:lnTo>
                <a:lnTo>
                  <a:pt x="94" y="6"/>
                </a:lnTo>
                <a:lnTo>
                  <a:pt x="94" y="6"/>
                </a:lnTo>
                <a:lnTo>
                  <a:pt x="92" y="8"/>
                </a:lnTo>
                <a:lnTo>
                  <a:pt x="92" y="8"/>
                </a:lnTo>
                <a:lnTo>
                  <a:pt x="127" y="14"/>
                </a:lnTo>
                <a:lnTo>
                  <a:pt x="173" y="25"/>
                </a:lnTo>
                <a:lnTo>
                  <a:pt x="188" y="29"/>
                </a:lnTo>
                <a:lnTo>
                  <a:pt x="190" y="29"/>
                </a:lnTo>
                <a:lnTo>
                  <a:pt x="190" y="27"/>
                </a:lnTo>
                <a:lnTo>
                  <a:pt x="192" y="27"/>
                </a:lnTo>
                <a:lnTo>
                  <a:pt x="192" y="25"/>
                </a:lnTo>
                <a:lnTo>
                  <a:pt x="192" y="25"/>
                </a:lnTo>
                <a:lnTo>
                  <a:pt x="194" y="23"/>
                </a:lnTo>
                <a:lnTo>
                  <a:pt x="194" y="23"/>
                </a:lnTo>
                <a:lnTo>
                  <a:pt x="194" y="21"/>
                </a:lnTo>
                <a:close/>
                <a:moveTo>
                  <a:pt x="8" y="1913"/>
                </a:moveTo>
                <a:lnTo>
                  <a:pt x="33" y="1910"/>
                </a:lnTo>
                <a:lnTo>
                  <a:pt x="81" y="1904"/>
                </a:lnTo>
                <a:lnTo>
                  <a:pt x="129" y="1896"/>
                </a:lnTo>
                <a:lnTo>
                  <a:pt x="175" y="1885"/>
                </a:lnTo>
                <a:lnTo>
                  <a:pt x="219" y="1873"/>
                </a:lnTo>
                <a:lnTo>
                  <a:pt x="219" y="1871"/>
                </a:lnTo>
                <a:lnTo>
                  <a:pt x="219" y="1871"/>
                </a:lnTo>
                <a:lnTo>
                  <a:pt x="217" y="1869"/>
                </a:lnTo>
                <a:lnTo>
                  <a:pt x="217" y="1869"/>
                </a:lnTo>
                <a:lnTo>
                  <a:pt x="215" y="1867"/>
                </a:lnTo>
                <a:lnTo>
                  <a:pt x="215" y="1867"/>
                </a:lnTo>
                <a:lnTo>
                  <a:pt x="215" y="1865"/>
                </a:lnTo>
                <a:lnTo>
                  <a:pt x="213" y="1863"/>
                </a:lnTo>
                <a:lnTo>
                  <a:pt x="173" y="1875"/>
                </a:lnTo>
                <a:lnTo>
                  <a:pt x="127" y="1886"/>
                </a:lnTo>
                <a:lnTo>
                  <a:pt x="81" y="1894"/>
                </a:lnTo>
                <a:lnTo>
                  <a:pt x="33" y="1902"/>
                </a:lnTo>
                <a:lnTo>
                  <a:pt x="0" y="1904"/>
                </a:lnTo>
                <a:lnTo>
                  <a:pt x="2" y="1904"/>
                </a:lnTo>
                <a:lnTo>
                  <a:pt x="2" y="1906"/>
                </a:lnTo>
                <a:lnTo>
                  <a:pt x="4" y="1908"/>
                </a:lnTo>
                <a:lnTo>
                  <a:pt x="4" y="1908"/>
                </a:lnTo>
                <a:lnTo>
                  <a:pt x="4" y="1910"/>
                </a:lnTo>
                <a:lnTo>
                  <a:pt x="6" y="1910"/>
                </a:lnTo>
                <a:lnTo>
                  <a:pt x="6" y="1911"/>
                </a:lnTo>
                <a:lnTo>
                  <a:pt x="8" y="1913"/>
                </a:lnTo>
                <a:close/>
              </a:path>
            </a:pathLst>
          </a:custGeom>
          <a:solidFill>
            <a:srgbClr val="34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86"/>
          <p:cNvSpPr/>
          <p:nvPr/>
        </p:nvSpPr>
        <p:spPr>
          <a:xfrm>
            <a:off x="7229520" y="1795320"/>
            <a:ext cx="347760" cy="3022920"/>
          </a:xfrm>
          <a:custGeom>
            <a:avLst/>
            <a:gdLst>
              <a:gd name="textAreaLeft" fmla="*/ 0 w 347760"/>
              <a:gd name="textAreaRight" fmla="*/ 348120 w 347760"/>
              <a:gd name="textAreaTop" fmla="*/ 0 h 3022920"/>
              <a:gd name="textAreaBottom" fmla="*/ 3023280 h 3022920"/>
            </a:gdLst>
            <a:ahLst/>
            <a:rect l="textAreaLeft" t="textAreaTop" r="textAreaRight" b="textAreaBottom"/>
            <a:pathLst>
              <a:path w="219" h="1904">
                <a:moveTo>
                  <a:pt x="194" y="21"/>
                </a:moveTo>
                <a:lnTo>
                  <a:pt x="177" y="17"/>
                </a:lnTo>
                <a:lnTo>
                  <a:pt x="131" y="6"/>
                </a:lnTo>
                <a:lnTo>
                  <a:pt x="98" y="0"/>
                </a:lnTo>
                <a:lnTo>
                  <a:pt x="96" y="2"/>
                </a:lnTo>
                <a:lnTo>
                  <a:pt x="96" y="2"/>
                </a:lnTo>
                <a:lnTo>
                  <a:pt x="94" y="4"/>
                </a:lnTo>
                <a:lnTo>
                  <a:pt x="94" y="4"/>
                </a:lnTo>
                <a:lnTo>
                  <a:pt x="92" y="6"/>
                </a:lnTo>
                <a:lnTo>
                  <a:pt x="92" y="6"/>
                </a:lnTo>
                <a:lnTo>
                  <a:pt x="92" y="8"/>
                </a:lnTo>
                <a:lnTo>
                  <a:pt x="91" y="8"/>
                </a:lnTo>
                <a:lnTo>
                  <a:pt x="129" y="15"/>
                </a:lnTo>
                <a:lnTo>
                  <a:pt x="175" y="25"/>
                </a:lnTo>
                <a:lnTo>
                  <a:pt x="188" y="29"/>
                </a:lnTo>
                <a:lnTo>
                  <a:pt x="188" y="29"/>
                </a:lnTo>
                <a:lnTo>
                  <a:pt x="190" y="27"/>
                </a:lnTo>
                <a:lnTo>
                  <a:pt x="190" y="27"/>
                </a:lnTo>
                <a:lnTo>
                  <a:pt x="190" y="25"/>
                </a:lnTo>
                <a:lnTo>
                  <a:pt x="192" y="25"/>
                </a:lnTo>
                <a:lnTo>
                  <a:pt x="192" y="23"/>
                </a:lnTo>
                <a:lnTo>
                  <a:pt x="194" y="23"/>
                </a:lnTo>
                <a:lnTo>
                  <a:pt x="194" y="21"/>
                </a:lnTo>
                <a:close/>
                <a:moveTo>
                  <a:pt x="6" y="1904"/>
                </a:moveTo>
                <a:lnTo>
                  <a:pt x="35" y="1902"/>
                </a:lnTo>
                <a:lnTo>
                  <a:pt x="83" y="1896"/>
                </a:lnTo>
                <a:lnTo>
                  <a:pt x="131" y="1886"/>
                </a:lnTo>
                <a:lnTo>
                  <a:pt x="177" y="1877"/>
                </a:lnTo>
                <a:lnTo>
                  <a:pt x="219" y="1865"/>
                </a:lnTo>
                <a:lnTo>
                  <a:pt x="217" y="1863"/>
                </a:lnTo>
                <a:lnTo>
                  <a:pt x="217" y="1863"/>
                </a:lnTo>
                <a:lnTo>
                  <a:pt x="217" y="1861"/>
                </a:lnTo>
                <a:lnTo>
                  <a:pt x="215" y="1859"/>
                </a:lnTo>
                <a:lnTo>
                  <a:pt x="215" y="1859"/>
                </a:lnTo>
                <a:lnTo>
                  <a:pt x="213" y="1858"/>
                </a:lnTo>
                <a:lnTo>
                  <a:pt x="213" y="1858"/>
                </a:lnTo>
                <a:lnTo>
                  <a:pt x="213" y="1856"/>
                </a:lnTo>
                <a:lnTo>
                  <a:pt x="175" y="1867"/>
                </a:lnTo>
                <a:lnTo>
                  <a:pt x="129" y="1879"/>
                </a:lnTo>
                <a:lnTo>
                  <a:pt x="81" y="1886"/>
                </a:lnTo>
                <a:lnTo>
                  <a:pt x="33" y="1892"/>
                </a:lnTo>
                <a:lnTo>
                  <a:pt x="0" y="1894"/>
                </a:lnTo>
                <a:lnTo>
                  <a:pt x="0" y="1896"/>
                </a:lnTo>
                <a:lnTo>
                  <a:pt x="2" y="1898"/>
                </a:lnTo>
                <a:lnTo>
                  <a:pt x="2" y="1898"/>
                </a:lnTo>
                <a:lnTo>
                  <a:pt x="2" y="1900"/>
                </a:lnTo>
                <a:lnTo>
                  <a:pt x="4" y="1900"/>
                </a:lnTo>
                <a:lnTo>
                  <a:pt x="4" y="1902"/>
                </a:lnTo>
                <a:lnTo>
                  <a:pt x="6" y="1904"/>
                </a:lnTo>
                <a:lnTo>
                  <a:pt x="6" y="1904"/>
                </a:lnTo>
                <a:close/>
              </a:path>
            </a:pathLst>
          </a:custGeom>
          <a:solidFill>
            <a:srgbClr val="35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87"/>
          <p:cNvSpPr/>
          <p:nvPr/>
        </p:nvSpPr>
        <p:spPr>
          <a:xfrm>
            <a:off x="7224840" y="1801800"/>
            <a:ext cx="345960" cy="3009960"/>
          </a:xfrm>
          <a:custGeom>
            <a:avLst/>
            <a:gdLst>
              <a:gd name="textAreaLeft" fmla="*/ 0 w 345960"/>
              <a:gd name="textAreaRight" fmla="*/ 346320 w 345960"/>
              <a:gd name="textAreaTop" fmla="*/ 0 h 3009960"/>
              <a:gd name="textAreaBottom" fmla="*/ 3010320 h 3009960"/>
            </a:gdLst>
            <a:ahLst/>
            <a:rect l="textAreaLeft" t="textAreaTop" r="textAreaRight" b="textAreaBottom"/>
            <a:pathLst>
              <a:path w="218" h="1896">
                <a:moveTo>
                  <a:pt x="193" y="21"/>
                </a:moveTo>
                <a:lnTo>
                  <a:pt x="178" y="17"/>
                </a:lnTo>
                <a:lnTo>
                  <a:pt x="132" y="6"/>
                </a:lnTo>
                <a:lnTo>
                  <a:pt x="97" y="0"/>
                </a:lnTo>
                <a:lnTo>
                  <a:pt x="95" y="2"/>
                </a:lnTo>
                <a:lnTo>
                  <a:pt x="95" y="2"/>
                </a:lnTo>
                <a:lnTo>
                  <a:pt x="95" y="4"/>
                </a:lnTo>
                <a:lnTo>
                  <a:pt x="94" y="4"/>
                </a:lnTo>
                <a:lnTo>
                  <a:pt x="94" y="6"/>
                </a:lnTo>
                <a:lnTo>
                  <a:pt x="92" y="6"/>
                </a:lnTo>
                <a:lnTo>
                  <a:pt x="92" y="8"/>
                </a:lnTo>
                <a:lnTo>
                  <a:pt x="90" y="10"/>
                </a:lnTo>
                <a:lnTo>
                  <a:pt x="130" y="15"/>
                </a:lnTo>
                <a:lnTo>
                  <a:pt x="176" y="27"/>
                </a:lnTo>
                <a:lnTo>
                  <a:pt x="190" y="31"/>
                </a:lnTo>
                <a:lnTo>
                  <a:pt x="190" y="29"/>
                </a:lnTo>
                <a:lnTo>
                  <a:pt x="190" y="29"/>
                </a:lnTo>
                <a:lnTo>
                  <a:pt x="191" y="27"/>
                </a:lnTo>
                <a:lnTo>
                  <a:pt x="191" y="25"/>
                </a:lnTo>
                <a:lnTo>
                  <a:pt x="191" y="25"/>
                </a:lnTo>
                <a:lnTo>
                  <a:pt x="193" y="23"/>
                </a:lnTo>
                <a:lnTo>
                  <a:pt x="193" y="23"/>
                </a:lnTo>
                <a:lnTo>
                  <a:pt x="193" y="21"/>
                </a:lnTo>
                <a:close/>
                <a:moveTo>
                  <a:pt x="5" y="1896"/>
                </a:moveTo>
                <a:lnTo>
                  <a:pt x="38" y="1894"/>
                </a:lnTo>
                <a:lnTo>
                  <a:pt x="86" y="1886"/>
                </a:lnTo>
                <a:lnTo>
                  <a:pt x="132" y="1878"/>
                </a:lnTo>
                <a:lnTo>
                  <a:pt x="178" y="1867"/>
                </a:lnTo>
                <a:lnTo>
                  <a:pt x="218" y="1855"/>
                </a:lnTo>
                <a:lnTo>
                  <a:pt x="218" y="1855"/>
                </a:lnTo>
                <a:lnTo>
                  <a:pt x="216" y="1854"/>
                </a:lnTo>
                <a:lnTo>
                  <a:pt x="216" y="1854"/>
                </a:lnTo>
                <a:lnTo>
                  <a:pt x="216" y="1852"/>
                </a:lnTo>
                <a:lnTo>
                  <a:pt x="214" y="1852"/>
                </a:lnTo>
                <a:lnTo>
                  <a:pt x="214" y="1850"/>
                </a:lnTo>
                <a:lnTo>
                  <a:pt x="213" y="1850"/>
                </a:lnTo>
                <a:lnTo>
                  <a:pt x="213" y="1848"/>
                </a:lnTo>
                <a:lnTo>
                  <a:pt x="176" y="1859"/>
                </a:lnTo>
                <a:lnTo>
                  <a:pt x="130" y="1869"/>
                </a:lnTo>
                <a:lnTo>
                  <a:pt x="84" y="1878"/>
                </a:lnTo>
                <a:lnTo>
                  <a:pt x="36" y="1884"/>
                </a:lnTo>
                <a:lnTo>
                  <a:pt x="0" y="1886"/>
                </a:lnTo>
                <a:lnTo>
                  <a:pt x="1" y="1888"/>
                </a:lnTo>
                <a:lnTo>
                  <a:pt x="1" y="1888"/>
                </a:lnTo>
                <a:lnTo>
                  <a:pt x="1" y="1890"/>
                </a:lnTo>
                <a:lnTo>
                  <a:pt x="3" y="1890"/>
                </a:lnTo>
                <a:lnTo>
                  <a:pt x="3" y="1892"/>
                </a:lnTo>
                <a:lnTo>
                  <a:pt x="5" y="1894"/>
                </a:lnTo>
                <a:lnTo>
                  <a:pt x="5" y="1894"/>
                </a:lnTo>
                <a:lnTo>
                  <a:pt x="5" y="1896"/>
                </a:lnTo>
                <a:close/>
              </a:path>
            </a:pathLst>
          </a:custGeom>
          <a:solidFill>
            <a:srgbClr val="36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88"/>
          <p:cNvSpPr/>
          <p:nvPr/>
        </p:nvSpPr>
        <p:spPr>
          <a:xfrm>
            <a:off x="7221600" y="1808280"/>
            <a:ext cx="345960" cy="2993760"/>
          </a:xfrm>
          <a:custGeom>
            <a:avLst/>
            <a:gdLst>
              <a:gd name="textAreaLeft" fmla="*/ 0 w 345960"/>
              <a:gd name="textAreaRight" fmla="*/ 346320 w 345960"/>
              <a:gd name="textAreaTop" fmla="*/ 0 h 2993760"/>
              <a:gd name="textAreaBottom" fmla="*/ 2994120 h 2993760"/>
            </a:gdLst>
            <a:ahLst/>
            <a:rect l="textAreaLeft" t="textAreaTop" r="textAreaRight" b="textAreaBottom"/>
            <a:pathLst>
              <a:path w="218" h="1886">
                <a:moveTo>
                  <a:pt x="193" y="21"/>
                </a:moveTo>
                <a:lnTo>
                  <a:pt x="180" y="17"/>
                </a:lnTo>
                <a:lnTo>
                  <a:pt x="134" y="7"/>
                </a:lnTo>
                <a:lnTo>
                  <a:pt x="96" y="0"/>
                </a:lnTo>
                <a:lnTo>
                  <a:pt x="96" y="2"/>
                </a:lnTo>
                <a:lnTo>
                  <a:pt x="94" y="2"/>
                </a:lnTo>
                <a:lnTo>
                  <a:pt x="94" y="4"/>
                </a:lnTo>
                <a:lnTo>
                  <a:pt x="92" y="6"/>
                </a:lnTo>
                <a:lnTo>
                  <a:pt x="92" y="6"/>
                </a:lnTo>
                <a:lnTo>
                  <a:pt x="90" y="7"/>
                </a:lnTo>
                <a:lnTo>
                  <a:pt x="90" y="7"/>
                </a:lnTo>
                <a:lnTo>
                  <a:pt x="88" y="9"/>
                </a:lnTo>
                <a:lnTo>
                  <a:pt x="132" y="17"/>
                </a:lnTo>
                <a:lnTo>
                  <a:pt x="176" y="27"/>
                </a:lnTo>
                <a:lnTo>
                  <a:pt x="188" y="31"/>
                </a:lnTo>
                <a:lnTo>
                  <a:pt x="190" y="29"/>
                </a:lnTo>
                <a:lnTo>
                  <a:pt x="190" y="29"/>
                </a:lnTo>
                <a:lnTo>
                  <a:pt x="190" y="27"/>
                </a:lnTo>
                <a:lnTo>
                  <a:pt x="192" y="27"/>
                </a:lnTo>
                <a:lnTo>
                  <a:pt x="192" y="25"/>
                </a:lnTo>
                <a:lnTo>
                  <a:pt x="192" y="25"/>
                </a:lnTo>
                <a:lnTo>
                  <a:pt x="193" y="23"/>
                </a:lnTo>
                <a:lnTo>
                  <a:pt x="193" y="21"/>
                </a:lnTo>
                <a:close/>
                <a:moveTo>
                  <a:pt x="5" y="1886"/>
                </a:moveTo>
                <a:lnTo>
                  <a:pt x="38" y="1884"/>
                </a:lnTo>
                <a:lnTo>
                  <a:pt x="86" y="1878"/>
                </a:lnTo>
                <a:lnTo>
                  <a:pt x="134" y="1871"/>
                </a:lnTo>
                <a:lnTo>
                  <a:pt x="180" y="1859"/>
                </a:lnTo>
                <a:lnTo>
                  <a:pt x="218" y="1848"/>
                </a:lnTo>
                <a:lnTo>
                  <a:pt x="216" y="1848"/>
                </a:lnTo>
                <a:lnTo>
                  <a:pt x="216" y="1846"/>
                </a:lnTo>
                <a:lnTo>
                  <a:pt x="215" y="1846"/>
                </a:lnTo>
                <a:lnTo>
                  <a:pt x="215" y="1844"/>
                </a:lnTo>
                <a:lnTo>
                  <a:pt x="215" y="1844"/>
                </a:lnTo>
                <a:lnTo>
                  <a:pt x="213" y="1842"/>
                </a:lnTo>
                <a:lnTo>
                  <a:pt x="213" y="1842"/>
                </a:lnTo>
                <a:lnTo>
                  <a:pt x="213" y="1840"/>
                </a:lnTo>
                <a:lnTo>
                  <a:pt x="176" y="1850"/>
                </a:lnTo>
                <a:lnTo>
                  <a:pt x="132" y="1861"/>
                </a:lnTo>
                <a:lnTo>
                  <a:pt x="84" y="1869"/>
                </a:lnTo>
                <a:lnTo>
                  <a:pt x="38" y="1874"/>
                </a:lnTo>
                <a:lnTo>
                  <a:pt x="0" y="1878"/>
                </a:lnTo>
                <a:lnTo>
                  <a:pt x="0" y="1878"/>
                </a:lnTo>
                <a:lnTo>
                  <a:pt x="0" y="1880"/>
                </a:lnTo>
                <a:lnTo>
                  <a:pt x="2" y="1882"/>
                </a:lnTo>
                <a:lnTo>
                  <a:pt x="2" y="1882"/>
                </a:lnTo>
                <a:lnTo>
                  <a:pt x="3" y="1884"/>
                </a:lnTo>
                <a:lnTo>
                  <a:pt x="3" y="1884"/>
                </a:lnTo>
                <a:lnTo>
                  <a:pt x="3" y="1886"/>
                </a:lnTo>
                <a:lnTo>
                  <a:pt x="5" y="1886"/>
                </a:lnTo>
                <a:close/>
              </a:path>
            </a:pathLst>
          </a:custGeom>
          <a:solidFill>
            <a:srgbClr val="3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89"/>
          <p:cNvSpPr/>
          <p:nvPr/>
        </p:nvSpPr>
        <p:spPr>
          <a:xfrm>
            <a:off x="7215120" y="1817640"/>
            <a:ext cx="347760" cy="2978280"/>
          </a:xfrm>
          <a:custGeom>
            <a:avLst/>
            <a:gdLst>
              <a:gd name="textAreaLeft" fmla="*/ 0 w 347760"/>
              <a:gd name="textAreaRight" fmla="*/ 348120 w 347760"/>
              <a:gd name="textAreaTop" fmla="*/ 0 h 2978280"/>
              <a:gd name="textAreaBottom" fmla="*/ 2978640 h 2978280"/>
            </a:gdLst>
            <a:ahLst/>
            <a:rect l="textAreaLeft" t="textAreaTop" r="textAreaRight" b="textAreaBottom"/>
            <a:pathLst>
              <a:path w="219" h="1876">
                <a:moveTo>
                  <a:pt x="196" y="21"/>
                </a:moveTo>
                <a:lnTo>
                  <a:pt x="182" y="17"/>
                </a:lnTo>
                <a:lnTo>
                  <a:pt x="136" y="5"/>
                </a:lnTo>
                <a:lnTo>
                  <a:pt x="96" y="0"/>
                </a:lnTo>
                <a:lnTo>
                  <a:pt x="96" y="0"/>
                </a:lnTo>
                <a:lnTo>
                  <a:pt x="94" y="1"/>
                </a:lnTo>
                <a:lnTo>
                  <a:pt x="94" y="1"/>
                </a:lnTo>
                <a:lnTo>
                  <a:pt x="92" y="3"/>
                </a:lnTo>
                <a:lnTo>
                  <a:pt x="92" y="3"/>
                </a:lnTo>
                <a:lnTo>
                  <a:pt x="90" y="5"/>
                </a:lnTo>
                <a:lnTo>
                  <a:pt x="90" y="5"/>
                </a:lnTo>
                <a:lnTo>
                  <a:pt x="88" y="7"/>
                </a:lnTo>
                <a:lnTo>
                  <a:pt x="134" y="15"/>
                </a:lnTo>
                <a:lnTo>
                  <a:pt x="180" y="26"/>
                </a:lnTo>
                <a:lnTo>
                  <a:pt x="190" y="28"/>
                </a:lnTo>
                <a:lnTo>
                  <a:pt x="190" y="26"/>
                </a:lnTo>
                <a:lnTo>
                  <a:pt x="190" y="26"/>
                </a:lnTo>
                <a:lnTo>
                  <a:pt x="192" y="25"/>
                </a:lnTo>
                <a:lnTo>
                  <a:pt x="192" y="25"/>
                </a:lnTo>
                <a:lnTo>
                  <a:pt x="194" y="23"/>
                </a:lnTo>
                <a:lnTo>
                  <a:pt x="194" y="23"/>
                </a:lnTo>
                <a:lnTo>
                  <a:pt x="194" y="21"/>
                </a:lnTo>
                <a:lnTo>
                  <a:pt x="196" y="21"/>
                </a:lnTo>
                <a:close/>
                <a:moveTo>
                  <a:pt x="6" y="1876"/>
                </a:moveTo>
                <a:lnTo>
                  <a:pt x="42" y="1874"/>
                </a:lnTo>
                <a:lnTo>
                  <a:pt x="90" y="1868"/>
                </a:lnTo>
                <a:lnTo>
                  <a:pt x="136" y="1859"/>
                </a:lnTo>
                <a:lnTo>
                  <a:pt x="182" y="1849"/>
                </a:lnTo>
                <a:lnTo>
                  <a:pt x="219" y="1838"/>
                </a:lnTo>
                <a:lnTo>
                  <a:pt x="219" y="1838"/>
                </a:lnTo>
                <a:lnTo>
                  <a:pt x="217" y="1836"/>
                </a:lnTo>
                <a:lnTo>
                  <a:pt x="217" y="1836"/>
                </a:lnTo>
                <a:lnTo>
                  <a:pt x="217" y="1834"/>
                </a:lnTo>
                <a:lnTo>
                  <a:pt x="215" y="1834"/>
                </a:lnTo>
                <a:lnTo>
                  <a:pt x="215" y="1832"/>
                </a:lnTo>
                <a:lnTo>
                  <a:pt x="213" y="1832"/>
                </a:lnTo>
                <a:lnTo>
                  <a:pt x="213" y="1830"/>
                </a:lnTo>
                <a:lnTo>
                  <a:pt x="180" y="1840"/>
                </a:lnTo>
                <a:lnTo>
                  <a:pt x="134" y="1849"/>
                </a:lnTo>
                <a:lnTo>
                  <a:pt x="88" y="1859"/>
                </a:lnTo>
                <a:lnTo>
                  <a:pt x="42" y="1865"/>
                </a:lnTo>
                <a:lnTo>
                  <a:pt x="0" y="1867"/>
                </a:lnTo>
                <a:lnTo>
                  <a:pt x="2" y="1868"/>
                </a:lnTo>
                <a:lnTo>
                  <a:pt x="2" y="1870"/>
                </a:lnTo>
                <a:lnTo>
                  <a:pt x="2" y="1870"/>
                </a:lnTo>
                <a:lnTo>
                  <a:pt x="4" y="1872"/>
                </a:lnTo>
                <a:lnTo>
                  <a:pt x="4" y="1872"/>
                </a:lnTo>
                <a:lnTo>
                  <a:pt x="4" y="1874"/>
                </a:lnTo>
                <a:lnTo>
                  <a:pt x="6" y="1876"/>
                </a:lnTo>
                <a:lnTo>
                  <a:pt x="6" y="1876"/>
                </a:lnTo>
                <a:close/>
              </a:path>
            </a:pathLst>
          </a:custGeom>
          <a:solidFill>
            <a:srgbClr val="38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90"/>
          <p:cNvSpPr/>
          <p:nvPr/>
        </p:nvSpPr>
        <p:spPr>
          <a:xfrm>
            <a:off x="7211880" y="1822320"/>
            <a:ext cx="347760" cy="2967120"/>
          </a:xfrm>
          <a:custGeom>
            <a:avLst/>
            <a:gdLst>
              <a:gd name="textAreaLeft" fmla="*/ 0 w 347760"/>
              <a:gd name="textAreaRight" fmla="*/ 348120 w 347760"/>
              <a:gd name="textAreaTop" fmla="*/ 0 h 2967120"/>
              <a:gd name="textAreaBottom" fmla="*/ 2967480 h 2967120"/>
            </a:gdLst>
            <a:ahLst/>
            <a:rect l="textAreaLeft" t="textAreaTop" r="textAreaRight" b="textAreaBottom"/>
            <a:pathLst>
              <a:path w="219" h="1869">
                <a:moveTo>
                  <a:pt x="194" y="22"/>
                </a:moveTo>
                <a:lnTo>
                  <a:pt x="182" y="18"/>
                </a:lnTo>
                <a:lnTo>
                  <a:pt x="138" y="8"/>
                </a:lnTo>
                <a:lnTo>
                  <a:pt x="94" y="0"/>
                </a:lnTo>
                <a:lnTo>
                  <a:pt x="94" y="0"/>
                </a:lnTo>
                <a:lnTo>
                  <a:pt x="92" y="2"/>
                </a:lnTo>
                <a:lnTo>
                  <a:pt x="92" y="2"/>
                </a:lnTo>
                <a:lnTo>
                  <a:pt x="92" y="4"/>
                </a:lnTo>
                <a:lnTo>
                  <a:pt x="90" y="4"/>
                </a:lnTo>
                <a:lnTo>
                  <a:pt x="90" y="6"/>
                </a:lnTo>
                <a:lnTo>
                  <a:pt x="88" y="8"/>
                </a:lnTo>
                <a:lnTo>
                  <a:pt x="88" y="8"/>
                </a:lnTo>
                <a:lnTo>
                  <a:pt x="90" y="8"/>
                </a:lnTo>
                <a:lnTo>
                  <a:pt x="136" y="16"/>
                </a:lnTo>
                <a:lnTo>
                  <a:pt x="180" y="27"/>
                </a:lnTo>
                <a:lnTo>
                  <a:pt x="188" y="29"/>
                </a:lnTo>
                <a:lnTo>
                  <a:pt x="190" y="29"/>
                </a:lnTo>
                <a:lnTo>
                  <a:pt x="190" y="27"/>
                </a:lnTo>
                <a:lnTo>
                  <a:pt x="190" y="27"/>
                </a:lnTo>
                <a:lnTo>
                  <a:pt x="192" y="25"/>
                </a:lnTo>
                <a:lnTo>
                  <a:pt x="192" y="23"/>
                </a:lnTo>
                <a:lnTo>
                  <a:pt x="192" y="23"/>
                </a:lnTo>
                <a:lnTo>
                  <a:pt x="194" y="22"/>
                </a:lnTo>
                <a:lnTo>
                  <a:pt x="194" y="22"/>
                </a:lnTo>
                <a:close/>
                <a:moveTo>
                  <a:pt x="6" y="1869"/>
                </a:moveTo>
                <a:lnTo>
                  <a:pt x="44" y="1865"/>
                </a:lnTo>
                <a:lnTo>
                  <a:pt x="90" y="1860"/>
                </a:lnTo>
                <a:lnTo>
                  <a:pt x="138" y="1852"/>
                </a:lnTo>
                <a:lnTo>
                  <a:pt x="182" y="1841"/>
                </a:lnTo>
                <a:lnTo>
                  <a:pt x="219" y="1831"/>
                </a:lnTo>
                <a:lnTo>
                  <a:pt x="217" y="1831"/>
                </a:lnTo>
                <a:lnTo>
                  <a:pt x="217" y="1829"/>
                </a:lnTo>
                <a:lnTo>
                  <a:pt x="215" y="1829"/>
                </a:lnTo>
                <a:lnTo>
                  <a:pt x="215" y="1827"/>
                </a:lnTo>
                <a:lnTo>
                  <a:pt x="215" y="1825"/>
                </a:lnTo>
                <a:lnTo>
                  <a:pt x="213" y="1825"/>
                </a:lnTo>
                <a:lnTo>
                  <a:pt x="213" y="1823"/>
                </a:lnTo>
                <a:lnTo>
                  <a:pt x="213" y="1823"/>
                </a:lnTo>
                <a:lnTo>
                  <a:pt x="180" y="1833"/>
                </a:lnTo>
                <a:lnTo>
                  <a:pt x="136" y="1842"/>
                </a:lnTo>
                <a:lnTo>
                  <a:pt x="90" y="1850"/>
                </a:lnTo>
                <a:lnTo>
                  <a:pt x="42" y="1856"/>
                </a:lnTo>
                <a:lnTo>
                  <a:pt x="0" y="1860"/>
                </a:lnTo>
                <a:lnTo>
                  <a:pt x="0" y="1862"/>
                </a:lnTo>
                <a:lnTo>
                  <a:pt x="0" y="1862"/>
                </a:lnTo>
                <a:lnTo>
                  <a:pt x="2" y="1864"/>
                </a:lnTo>
                <a:lnTo>
                  <a:pt x="2" y="1864"/>
                </a:lnTo>
                <a:lnTo>
                  <a:pt x="4" y="1865"/>
                </a:lnTo>
                <a:lnTo>
                  <a:pt x="4" y="1867"/>
                </a:lnTo>
                <a:lnTo>
                  <a:pt x="4" y="1867"/>
                </a:lnTo>
                <a:lnTo>
                  <a:pt x="6" y="1869"/>
                </a:lnTo>
                <a:close/>
              </a:path>
            </a:pathLst>
          </a:custGeom>
          <a:solidFill>
            <a:srgbClr val="39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91"/>
          <p:cNvSpPr/>
          <p:nvPr/>
        </p:nvSpPr>
        <p:spPr>
          <a:xfrm>
            <a:off x="7205760" y="1828800"/>
            <a:ext cx="347400" cy="2952720"/>
          </a:xfrm>
          <a:custGeom>
            <a:avLst/>
            <a:gdLst>
              <a:gd name="textAreaLeft" fmla="*/ 0 w 347400"/>
              <a:gd name="textAreaRight" fmla="*/ 347760 w 34740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19" h="1860">
                <a:moveTo>
                  <a:pt x="196" y="21"/>
                </a:moveTo>
                <a:lnTo>
                  <a:pt x="186" y="19"/>
                </a:lnTo>
                <a:lnTo>
                  <a:pt x="140" y="8"/>
                </a:lnTo>
                <a:lnTo>
                  <a:pt x="94" y="0"/>
                </a:lnTo>
                <a:lnTo>
                  <a:pt x="94" y="0"/>
                </a:lnTo>
                <a:lnTo>
                  <a:pt x="94" y="2"/>
                </a:lnTo>
                <a:lnTo>
                  <a:pt x="92" y="4"/>
                </a:lnTo>
                <a:lnTo>
                  <a:pt x="92" y="4"/>
                </a:lnTo>
                <a:lnTo>
                  <a:pt x="90" y="6"/>
                </a:lnTo>
                <a:lnTo>
                  <a:pt x="90" y="6"/>
                </a:lnTo>
                <a:lnTo>
                  <a:pt x="88" y="8"/>
                </a:lnTo>
                <a:lnTo>
                  <a:pt x="88" y="8"/>
                </a:lnTo>
                <a:lnTo>
                  <a:pt x="92" y="10"/>
                </a:lnTo>
                <a:lnTo>
                  <a:pt x="138" y="18"/>
                </a:lnTo>
                <a:lnTo>
                  <a:pt x="182" y="27"/>
                </a:lnTo>
                <a:lnTo>
                  <a:pt x="190" y="29"/>
                </a:lnTo>
                <a:lnTo>
                  <a:pt x="190" y="29"/>
                </a:lnTo>
                <a:lnTo>
                  <a:pt x="192" y="27"/>
                </a:lnTo>
                <a:lnTo>
                  <a:pt x="192" y="27"/>
                </a:lnTo>
                <a:lnTo>
                  <a:pt x="192" y="25"/>
                </a:lnTo>
                <a:lnTo>
                  <a:pt x="194" y="25"/>
                </a:lnTo>
                <a:lnTo>
                  <a:pt x="194" y="23"/>
                </a:lnTo>
                <a:lnTo>
                  <a:pt x="194" y="23"/>
                </a:lnTo>
                <a:lnTo>
                  <a:pt x="196" y="21"/>
                </a:lnTo>
                <a:close/>
                <a:moveTo>
                  <a:pt x="6" y="1860"/>
                </a:moveTo>
                <a:lnTo>
                  <a:pt x="48" y="1858"/>
                </a:lnTo>
                <a:lnTo>
                  <a:pt x="94" y="1852"/>
                </a:lnTo>
                <a:lnTo>
                  <a:pt x="140" y="1842"/>
                </a:lnTo>
                <a:lnTo>
                  <a:pt x="186" y="1833"/>
                </a:lnTo>
                <a:lnTo>
                  <a:pt x="219" y="1823"/>
                </a:lnTo>
                <a:lnTo>
                  <a:pt x="219" y="1821"/>
                </a:lnTo>
                <a:lnTo>
                  <a:pt x="217" y="1821"/>
                </a:lnTo>
                <a:lnTo>
                  <a:pt x="217" y="1819"/>
                </a:lnTo>
                <a:lnTo>
                  <a:pt x="215" y="1819"/>
                </a:lnTo>
                <a:lnTo>
                  <a:pt x="215" y="1817"/>
                </a:lnTo>
                <a:lnTo>
                  <a:pt x="215" y="1817"/>
                </a:lnTo>
                <a:lnTo>
                  <a:pt x="213" y="1815"/>
                </a:lnTo>
                <a:lnTo>
                  <a:pt x="213" y="1815"/>
                </a:lnTo>
                <a:lnTo>
                  <a:pt x="182" y="1823"/>
                </a:lnTo>
                <a:lnTo>
                  <a:pt x="138" y="1835"/>
                </a:lnTo>
                <a:lnTo>
                  <a:pt x="92" y="1842"/>
                </a:lnTo>
                <a:lnTo>
                  <a:pt x="46" y="1848"/>
                </a:lnTo>
                <a:lnTo>
                  <a:pt x="0" y="1852"/>
                </a:lnTo>
                <a:lnTo>
                  <a:pt x="2" y="1852"/>
                </a:lnTo>
                <a:lnTo>
                  <a:pt x="2" y="1854"/>
                </a:lnTo>
                <a:lnTo>
                  <a:pt x="2" y="1854"/>
                </a:lnTo>
                <a:lnTo>
                  <a:pt x="4" y="1856"/>
                </a:lnTo>
                <a:lnTo>
                  <a:pt x="4" y="1858"/>
                </a:lnTo>
                <a:lnTo>
                  <a:pt x="4" y="1858"/>
                </a:lnTo>
                <a:lnTo>
                  <a:pt x="6" y="1860"/>
                </a:lnTo>
                <a:lnTo>
                  <a:pt x="6" y="1860"/>
                </a:lnTo>
                <a:close/>
              </a:path>
            </a:pathLst>
          </a:custGeom>
          <a:solidFill>
            <a:srgbClr val="3a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92"/>
          <p:cNvSpPr/>
          <p:nvPr/>
        </p:nvSpPr>
        <p:spPr>
          <a:xfrm>
            <a:off x="7202520" y="1835280"/>
            <a:ext cx="347760" cy="2939760"/>
          </a:xfrm>
          <a:custGeom>
            <a:avLst/>
            <a:gdLst>
              <a:gd name="textAreaLeft" fmla="*/ 0 w 347760"/>
              <a:gd name="textAreaRight" fmla="*/ 348120 w 347760"/>
              <a:gd name="textAreaTop" fmla="*/ 0 h 2939760"/>
              <a:gd name="textAreaBottom" fmla="*/ 2940120 h 2939760"/>
            </a:gdLst>
            <a:ahLst/>
            <a:rect l="textAreaLeft" t="textAreaTop" r="textAreaRight" b="textAreaBottom"/>
            <a:pathLst>
              <a:path w="219" h="1852">
                <a:moveTo>
                  <a:pt x="194" y="21"/>
                </a:moveTo>
                <a:lnTo>
                  <a:pt x="186" y="19"/>
                </a:lnTo>
                <a:lnTo>
                  <a:pt x="142" y="8"/>
                </a:lnTo>
                <a:lnTo>
                  <a:pt x="96" y="0"/>
                </a:lnTo>
                <a:lnTo>
                  <a:pt x="94" y="0"/>
                </a:lnTo>
                <a:lnTo>
                  <a:pt x="92" y="2"/>
                </a:lnTo>
                <a:lnTo>
                  <a:pt x="92" y="2"/>
                </a:lnTo>
                <a:lnTo>
                  <a:pt x="90" y="4"/>
                </a:lnTo>
                <a:lnTo>
                  <a:pt x="90" y="4"/>
                </a:lnTo>
                <a:lnTo>
                  <a:pt x="88" y="6"/>
                </a:lnTo>
                <a:lnTo>
                  <a:pt x="88" y="6"/>
                </a:lnTo>
                <a:lnTo>
                  <a:pt x="88" y="8"/>
                </a:lnTo>
                <a:lnTo>
                  <a:pt x="86" y="10"/>
                </a:lnTo>
                <a:lnTo>
                  <a:pt x="94" y="10"/>
                </a:lnTo>
                <a:lnTo>
                  <a:pt x="140" y="17"/>
                </a:lnTo>
                <a:lnTo>
                  <a:pt x="184" y="29"/>
                </a:lnTo>
                <a:lnTo>
                  <a:pt x="190" y="29"/>
                </a:lnTo>
                <a:lnTo>
                  <a:pt x="190" y="29"/>
                </a:lnTo>
                <a:lnTo>
                  <a:pt x="190" y="27"/>
                </a:lnTo>
                <a:lnTo>
                  <a:pt x="192" y="27"/>
                </a:lnTo>
                <a:lnTo>
                  <a:pt x="192" y="25"/>
                </a:lnTo>
                <a:lnTo>
                  <a:pt x="192" y="25"/>
                </a:lnTo>
                <a:lnTo>
                  <a:pt x="194" y="23"/>
                </a:lnTo>
                <a:lnTo>
                  <a:pt x="194" y="23"/>
                </a:lnTo>
                <a:lnTo>
                  <a:pt x="194" y="21"/>
                </a:lnTo>
                <a:close/>
                <a:moveTo>
                  <a:pt x="6" y="1852"/>
                </a:moveTo>
                <a:lnTo>
                  <a:pt x="48" y="1848"/>
                </a:lnTo>
                <a:lnTo>
                  <a:pt x="96" y="1842"/>
                </a:lnTo>
                <a:lnTo>
                  <a:pt x="142" y="1834"/>
                </a:lnTo>
                <a:lnTo>
                  <a:pt x="186" y="1825"/>
                </a:lnTo>
                <a:lnTo>
                  <a:pt x="219" y="1815"/>
                </a:lnTo>
                <a:lnTo>
                  <a:pt x="217" y="1813"/>
                </a:lnTo>
                <a:lnTo>
                  <a:pt x="217" y="1813"/>
                </a:lnTo>
                <a:lnTo>
                  <a:pt x="215" y="1811"/>
                </a:lnTo>
                <a:lnTo>
                  <a:pt x="215" y="1811"/>
                </a:lnTo>
                <a:lnTo>
                  <a:pt x="215" y="1810"/>
                </a:lnTo>
                <a:lnTo>
                  <a:pt x="213" y="1810"/>
                </a:lnTo>
                <a:lnTo>
                  <a:pt x="213" y="1808"/>
                </a:lnTo>
                <a:lnTo>
                  <a:pt x="211" y="1808"/>
                </a:lnTo>
                <a:lnTo>
                  <a:pt x="184" y="1815"/>
                </a:lnTo>
                <a:lnTo>
                  <a:pt x="140" y="1825"/>
                </a:lnTo>
                <a:lnTo>
                  <a:pt x="94" y="1833"/>
                </a:lnTo>
                <a:lnTo>
                  <a:pt x="48" y="1838"/>
                </a:lnTo>
                <a:lnTo>
                  <a:pt x="0" y="1842"/>
                </a:lnTo>
                <a:lnTo>
                  <a:pt x="0" y="1842"/>
                </a:lnTo>
                <a:lnTo>
                  <a:pt x="0" y="1844"/>
                </a:lnTo>
                <a:lnTo>
                  <a:pt x="0" y="1844"/>
                </a:lnTo>
                <a:lnTo>
                  <a:pt x="2" y="1846"/>
                </a:lnTo>
                <a:lnTo>
                  <a:pt x="2" y="1848"/>
                </a:lnTo>
                <a:lnTo>
                  <a:pt x="4" y="1848"/>
                </a:lnTo>
                <a:lnTo>
                  <a:pt x="4" y="1850"/>
                </a:lnTo>
                <a:lnTo>
                  <a:pt x="4" y="1850"/>
                </a:lnTo>
                <a:lnTo>
                  <a:pt x="6" y="1852"/>
                </a:lnTo>
                <a:close/>
              </a:path>
            </a:pathLst>
          </a:custGeom>
          <a:solidFill>
            <a:srgbClr val="3b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93"/>
          <p:cNvSpPr/>
          <p:nvPr/>
        </p:nvSpPr>
        <p:spPr>
          <a:xfrm>
            <a:off x="7196040" y="1841400"/>
            <a:ext cx="347760" cy="2927520"/>
          </a:xfrm>
          <a:custGeom>
            <a:avLst/>
            <a:gdLst>
              <a:gd name="textAreaLeft" fmla="*/ 0 w 347760"/>
              <a:gd name="textAreaRight" fmla="*/ 348120 w 347760"/>
              <a:gd name="textAreaTop" fmla="*/ 0 h 2927520"/>
              <a:gd name="textAreaBottom" fmla="*/ 2927880 h 2927520"/>
            </a:gdLst>
            <a:ahLst/>
            <a:rect l="textAreaLeft" t="textAreaTop" r="textAreaRight" b="textAreaBottom"/>
            <a:pathLst>
              <a:path w="219" h="1844">
                <a:moveTo>
                  <a:pt x="196" y="21"/>
                </a:moveTo>
                <a:lnTo>
                  <a:pt x="188" y="19"/>
                </a:lnTo>
                <a:lnTo>
                  <a:pt x="144" y="10"/>
                </a:lnTo>
                <a:lnTo>
                  <a:pt x="98" y="2"/>
                </a:lnTo>
                <a:lnTo>
                  <a:pt x="94" y="0"/>
                </a:lnTo>
                <a:lnTo>
                  <a:pt x="92" y="2"/>
                </a:lnTo>
                <a:lnTo>
                  <a:pt x="92" y="2"/>
                </a:lnTo>
                <a:lnTo>
                  <a:pt x="92" y="4"/>
                </a:lnTo>
                <a:lnTo>
                  <a:pt x="90" y="6"/>
                </a:lnTo>
                <a:lnTo>
                  <a:pt x="90" y="6"/>
                </a:lnTo>
                <a:lnTo>
                  <a:pt x="89" y="8"/>
                </a:lnTo>
                <a:lnTo>
                  <a:pt x="89" y="8"/>
                </a:lnTo>
                <a:lnTo>
                  <a:pt x="87" y="10"/>
                </a:lnTo>
                <a:lnTo>
                  <a:pt x="98" y="11"/>
                </a:lnTo>
                <a:lnTo>
                  <a:pt x="142" y="19"/>
                </a:lnTo>
                <a:lnTo>
                  <a:pt x="186" y="29"/>
                </a:lnTo>
                <a:lnTo>
                  <a:pt x="190" y="31"/>
                </a:lnTo>
                <a:lnTo>
                  <a:pt x="192" y="29"/>
                </a:lnTo>
                <a:lnTo>
                  <a:pt x="192" y="29"/>
                </a:lnTo>
                <a:lnTo>
                  <a:pt x="192" y="27"/>
                </a:lnTo>
                <a:lnTo>
                  <a:pt x="194" y="25"/>
                </a:lnTo>
                <a:lnTo>
                  <a:pt x="194" y="25"/>
                </a:lnTo>
                <a:lnTo>
                  <a:pt x="194" y="23"/>
                </a:lnTo>
                <a:lnTo>
                  <a:pt x="196" y="23"/>
                </a:lnTo>
                <a:lnTo>
                  <a:pt x="196" y="21"/>
                </a:lnTo>
                <a:close/>
                <a:moveTo>
                  <a:pt x="6" y="1844"/>
                </a:moveTo>
                <a:lnTo>
                  <a:pt x="52" y="1840"/>
                </a:lnTo>
                <a:lnTo>
                  <a:pt x="98" y="1834"/>
                </a:lnTo>
                <a:lnTo>
                  <a:pt x="144" y="1827"/>
                </a:lnTo>
                <a:lnTo>
                  <a:pt x="188" y="1815"/>
                </a:lnTo>
                <a:lnTo>
                  <a:pt x="219" y="1807"/>
                </a:lnTo>
                <a:lnTo>
                  <a:pt x="219" y="1806"/>
                </a:lnTo>
                <a:lnTo>
                  <a:pt x="217" y="1806"/>
                </a:lnTo>
                <a:lnTo>
                  <a:pt x="217" y="1804"/>
                </a:lnTo>
                <a:lnTo>
                  <a:pt x="215" y="1804"/>
                </a:lnTo>
                <a:lnTo>
                  <a:pt x="215" y="1802"/>
                </a:lnTo>
                <a:lnTo>
                  <a:pt x="215" y="1802"/>
                </a:lnTo>
                <a:lnTo>
                  <a:pt x="213" y="1800"/>
                </a:lnTo>
                <a:lnTo>
                  <a:pt x="213" y="1798"/>
                </a:lnTo>
                <a:lnTo>
                  <a:pt x="186" y="1806"/>
                </a:lnTo>
                <a:lnTo>
                  <a:pt x="142" y="1817"/>
                </a:lnTo>
                <a:lnTo>
                  <a:pt x="98" y="1825"/>
                </a:lnTo>
                <a:lnTo>
                  <a:pt x="52" y="1830"/>
                </a:lnTo>
                <a:lnTo>
                  <a:pt x="4" y="1834"/>
                </a:lnTo>
                <a:lnTo>
                  <a:pt x="0" y="1834"/>
                </a:lnTo>
                <a:lnTo>
                  <a:pt x="2" y="1834"/>
                </a:lnTo>
                <a:lnTo>
                  <a:pt x="2" y="1836"/>
                </a:lnTo>
                <a:lnTo>
                  <a:pt x="2" y="1838"/>
                </a:lnTo>
                <a:lnTo>
                  <a:pt x="4" y="1838"/>
                </a:lnTo>
                <a:lnTo>
                  <a:pt x="4" y="1840"/>
                </a:lnTo>
                <a:lnTo>
                  <a:pt x="4" y="1840"/>
                </a:lnTo>
                <a:lnTo>
                  <a:pt x="6" y="1842"/>
                </a:lnTo>
                <a:lnTo>
                  <a:pt x="6" y="1844"/>
                </a:lnTo>
                <a:close/>
              </a:path>
            </a:pathLst>
          </a:custGeom>
          <a:solidFill>
            <a:srgbClr val="3cb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94"/>
          <p:cNvSpPr/>
          <p:nvPr/>
        </p:nvSpPr>
        <p:spPr>
          <a:xfrm>
            <a:off x="7192800" y="1851120"/>
            <a:ext cx="344520" cy="2908080"/>
          </a:xfrm>
          <a:custGeom>
            <a:avLst/>
            <a:gdLst>
              <a:gd name="textAreaLeft" fmla="*/ 0 w 344520"/>
              <a:gd name="textAreaRight" fmla="*/ 344880 w 344520"/>
              <a:gd name="textAreaTop" fmla="*/ 0 h 2908080"/>
              <a:gd name="textAreaBottom" fmla="*/ 2908440 h 2908080"/>
            </a:gdLst>
            <a:ahLst/>
            <a:rect l="textAreaLeft" t="textAreaTop" r="textAreaRight" b="textAreaBottom"/>
            <a:pathLst>
              <a:path w="217" h="1832">
                <a:moveTo>
                  <a:pt x="196" y="19"/>
                </a:moveTo>
                <a:lnTo>
                  <a:pt x="190" y="19"/>
                </a:lnTo>
                <a:lnTo>
                  <a:pt x="146" y="7"/>
                </a:lnTo>
                <a:lnTo>
                  <a:pt x="100" y="0"/>
                </a:lnTo>
                <a:lnTo>
                  <a:pt x="92" y="0"/>
                </a:lnTo>
                <a:lnTo>
                  <a:pt x="92" y="0"/>
                </a:lnTo>
                <a:lnTo>
                  <a:pt x="91" y="2"/>
                </a:lnTo>
                <a:lnTo>
                  <a:pt x="91" y="2"/>
                </a:lnTo>
                <a:lnTo>
                  <a:pt x="89" y="4"/>
                </a:lnTo>
                <a:lnTo>
                  <a:pt x="89" y="4"/>
                </a:lnTo>
                <a:lnTo>
                  <a:pt x="87" y="5"/>
                </a:lnTo>
                <a:lnTo>
                  <a:pt x="87" y="7"/>
                </a:lnTo>
                <a:lnTo>
                  <a:pt x="85" y="7"/>
                </a:lnTo>
                <a:lnTo>
                  <a:pt x="98" y="9"/>
                </a:lnTo>
                <a:lnTo>
                  <a:pt x="144" y="17"/>
                </a:lnTo>
                <a:lnTo>
                  <a:pt x="188" y="27"/>
                </a:lnTo>
                <a:lnTo>
                  <a:pt x="190" y="28"/>
                </a:lnTo>
                <a:lnTo>
                  <a:pt x="190" y="27"/>
                </a:lnTo>
                <a:lnTo>
                  <a:pt x="192" y="27"/>
                </a:lnTo>
                <a:lnTo>
                  <a:pt x="192" y="25"/>
                </a:lnTo>
                <a:lnTo>
                  <a:pt x="192" y="25"/>
                </a:lnTo>
                <a:lnTo>
                  <a:pt x="194" y="23"/>
                </a:lnTo>
                <a:lnTo>
                  <a:pt x="194" y="23"/>
                </a:lnTo>
                <a:lnTo>
                  <a:pt x="194" y="21"/>
                </a:lnTo>
                <a:lnTo>
                  <a:pt x="196" y="19"/>
                </a:lnTo>
                <a:close/>
                <a:moveTo>
                  <a:pt x="6" y="1832"/>
                </a:moveTo>
                <a:lnTo>
                  <a:pt x="6" y="1832"/>
                </a:lnTo>
                <a:lnTo>
                  <a:pt x="54" y="1828"/>
                </a:lnTo>
                <a:lnTo>
                  <a:pt x="100" y="1823"/>
                </a:lnTo>
                <a:lnTo>
                  <a:pt x="146" y="1815"/>
                </a:lnTo>
                <a:lnTo>
                  <a:pt x="190" y="1805"/>
                </a:lnTo>
                <a:lnTo>
                  <a:pt x="217" y="1798"/>
                </a:lnTo>
                <a:lnTo>
                  <a:pt x="217" y="1796"/>
                </a:lnTo>
                <a:lnTo>
                  <a:pt x="217" y="1796"/>
                </a:lnTo>
                <a:lnTo>
                  <a:pt x="215" y="1794"/>
                </a:lnTo>
                <a:lnTo>
                  <a:pt x="215" y="1792"/>
                </a:lnTo>
                <a:lnTo>
                  <a:pt x="213" y="1792"/>
                </a:lnTo>
                <a:lnTo>
                  <a:pt x="213" y="1790"/>
                </a:lnTo>
                <a:lnTo>
                  <a:pt x="213" y="1790"/>
                </a:lnTo>
                <a:lnTo>
                  <a:pt x="211" y="1788"/>
                </a:lnTo>
                <a:lnTo>
                  <a:pt x="188" y="1796"/>
                </a:lnTo>
                <a:lnTo>
                  <a:pt x="144" y="1805"/>
                </a:lnTo>
                <a:lnTo>
                  <a:pt x="98" y="1813"/>
                </a:lnTo>
                <a:lnTo>
                  <a:pt x="52" y="1819"/>
                </a:lnTo>
                <a:lnTo>
                  <a:pt x="6" y="1823"/>
                </a:lnTo>
                <a:lnTo>
                  <a:pt x="0" y="1823"/>
                </a:lnTo>
                <a:lnTo>
                  <a:pt x="0" y="1824"/>
                </a:lnTo>
                <a:lnTo>
                  <a:pt x="0" y="1826"/>
                </a:lnTo>
                <a:lnTo>
                  <a:pt x="2" y="1826"/>
                </a:lnTo>
                <a:lnTo>
                  <a:pt x="2" y="1828"/>
                </a:lnTo>
                <a:lnTo>
                  <a:pt x="4" y="1828"/>
                </a:lnTo>
                <a:lnTo>
                  <a:pt x="4" y="1830"/>
                </a:lnTo>
                <a:lnTo>
                  <a:pt x="4" y="1832"/>
                </a:lnTo>
                <a:lnTo>
                  <a:pt x="6" y="1832"/>
                </a:lnTo>
                <a:close/>
              </a:path>
            </a:pathLst>
          </a:custGeom>
          <a:solidFill>
            <a:srgbClr val="3db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95"/>
          <p:cNvSpPr/>
          <p:nvPr/>
        </p:nvSpPr>
        <p:spPr>
          <a:xfrm>
            <a:off x="7186680" y="1857240"/>
            <a:ext cx="347760" cy="2895840"/>
          </a:xfrm>
          <a:custGeom>
            <a:avLst/>
            <a:gdLst>
              <a:gd name="textAreaLeft" fmla="*/ 0 w 347760"/>
              <a:gd name="textAreaRight" fmla="*/ 348120 w 3477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9" h="1824">
                <a:moveTo>
                  <a:pt x="196" y="21"/>
                </a:moveTo>
                <a:lnTo>
                  <a:pt x="192" y="19"/>
                </a:lnTo>
                <a:lnTo>
                  <a:pt x="148" y="9"/>
                </a:lnTo>
                <a:lnTo>
                  <a:pt x="104" y="1"/>
                </a:lnTo>
                <a:lnTo>
                  <a:pt x="93" y="0"/>
                </a:lnTo>
                <a:lnTo>
                  <a:pt x="93" y="0"/>
                </a:lnTo>
                <a:lnTo>
                  <a:pt x="91" y="1"/>
                </a:lnTo>
                <a:lnTo>
                  <a:pt x="91" y="3"/>
                </a:lnTo>
                <a:lnTo>
                  <a:pt x="89" y="3"/>
                </a:lnTo>
                <a:lnTo>
                  <a:pt x="89" y="5"/>
                </a:lnTo>
                <a:lnTo>
                  <a:pt x="89" y="5"/>
                </a:lnTo>
                <a:lnTo>
                  <a:pt x="87" y="7"/>
                </a:lnTo>
                <a:lnTo>
                  <a:pt x="87" y="7"/>
                </a:lnTo>
                <a:lnTo>
                  <a:pt x="102" y="9"/>
                </a:lnTo>
                <a:lnTo>
                  <a:pt x="146" y="19"/>
                </a:lnTo>
                <a:lnTo>
                  <a:pt x="190" y="28"/>
                </a:lnTo>
                <a:lnTo>
                  <a:pt x="192" y="28"/>
                </a:lnTo>
                <a:lnTo>
                  <a:pt x="192" y="26"/>
                </a:lnTo>
                <a:lnTo>
                  <a:pt x="192" y="26"/>
                </a:lnTo>
                <a:lnTo>
                  <a:pt x="194" y="24"/>
                </a:lnTo>
                <a:lnTo>
                  <a:pt x="194" y="24"/>
                </a:lnTo>
                <a:lnTo>
                  <a:pt x="194" y="23"/>
                </a:lnTo>
                <a:lnTo>
                  <a:pt x="196" y="23"/>
                </a:lnTo>
                <a:lnTo>
                  <a:pt x="196" y="21"/>
                </a:lnTo>
                <a:lnTo>
                  <a:pt x="196" y="21"/>
                </a:lnTo>
                <a:close/>
                <a:moveTo>
                  <a:pt x="6" y="1824"/>
                </a:moveTo>
                <a:lnTo>
                  <a:pt x="10" y="1824"/>
                </a:lnTo>
                <a:lnTo>
                  <a:pt x="58" y="1820"/>
                </a:lnTo>
                <a:lnTo>
                  <a:pt x="104" y="1815"/>
                </a:lnTo>
                <a:lnTo>
                  <a:pt x="148" y="1807"/>
                </a:lnTo>
                <a:lnTo>
                  <a:pt x="192" y="1796"/>
                </a:lnTo>
                <a:lnTo>
                  <a:pt x="219" y="1788"/>
                </a:lnTo>
                <a:lnTo>
                  <a:pt x="219" y="1788"/>
                </a:lnTo>
                <a:lnTo>
                  <a:pt x="217" y="1786"/>
                </a:lnTo>
                <a:lnTo>
                  <a:pt x="217" y="1786"/>
                </a:lnTo>
                <a:lnTo>
                  <a:pt x="215" y="1784"/>
                </a:lnTo>
                <a:lnTo>
                  <a:pt x="215" y="1784"/>
                </a:lnTo>
                <a:lnTo>
                  <a:pt x="215" y="1782"/>
                </a:lnTo>
                <a:lnTo>
                  <a:pt x="214" y="1782"/>
                </a:lnTo>
                <a:lnTo>
                  <a:pt x="214" y="1780"/>
                </a:lnTo>
                <a:lnTo>
                  <a:pt x="190" y="1788"/>
                </a:lnTo>
                <a:lnTo>
                  <a:pt x="146" y="1797"/>
                </a:lnTo>
                <a:lnTo>
                  <a:pt x="102" y="1805"/>
                </a:lnTo>
                <a:lnTo>
                  <a:pt x="56" y="1811"/>
                </a:lnTo>
                <a:lnTo>
                  <a:pt x="10" y="1815"/>
                </a:lnTo>
                <a:lnTo>
                  <a:pt x="0" y="1815"/>
                </a:lnTo>
                <a:lnTo>
                  <a:pt x="2" y="1817"/>
                </a:lnTo>
                <a:lnTo>
                  <a:pt x="2" y="1817"/>
                </a:lnTo>
                <a:lnTo>
                  <a:pt x="2" y="1819"/>
                </a:lnTo>
                <a:lnTo>
                  <a:pt x="4" y="1819"/>
                </a:lnTo>
                <a:lnTo>
                  <a:pt x="4" y="1820"/>
                </a:lnTo>
                <a:lnTo>
                  <a:pt x="4" y="1822"/>
                </a:lnTo>
                <a:lnTo>
                  <a:pt x="6" y="1822"/>
                </a:lnTo>
                <a:lnTo>
                  <a:pt x="6" y="1824"/>
                </a:lnTo>
                <a:close/>
              </a:path>
            </a:pathLst>
          </a:custGeom>
          <a:solidFill>
            <a:srgbClr val="3eb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96"/>
          <p:cNvSpPr/>
          <p:nvPr/>
        </p:nvSpPr>
        <p:spPr>
          <a:xfrm>
            <a:off x="7184880" y="1862280"/>
            <a:ext cx="343080" cy="2882880"/>
          </a:xfrm>
          <a:custGeom>
            <a:avLst/>
            <a:gdLst>
              <a:gd name="textAreaLeft" fmla="*/ 0 w 343080"/>
              <a:gd name="textAreaRight" fmla="*/ 343440 w 343080"/>
              <a:gd name="textAreaTop" fmla="*/ 0 h 2882880"/>
              <a:gd name="textAreaBottom" fmla="*/ 2883240 h 2882880"/>
            </a:gdLst>
            <a:ahLst/>
            <a:rect l="textAreaLeft" t="textAreaTop" r="textAreaRight" b="textAreaBottom"/>
            <a:pathLst>
              <a:path w="216" h="1816">
                <a:moveTo>
                  <a:pt x="195" y="21"/>
                </a:moveTo>
                <a:lnTo>
                  <a:pt x="193" y="20"/>
                </a:lnTo>
                <a:lnTo>
                  <a:pt x="149" y="10"/>
                </a:lnTo>
                <a:lnTo>
                  <a:pt x="103" y="2"/>
                </a:lnTo>
                <a:lnTo>
                  <a:pt x="90" y="0"/>
                </a:lnTo>
                <a:lnTo>
                  <a:pt x="90" y="2"/>
                </a:lnTo>
                <a:lnTo>
                  <a:pt x="90" y="2"/>
                </a:lnTo>
                <a:lnTo>
                  <a:pt x="88" y="4"/>
                </a:lnTo>
                <a:lnTo>
                  <a:pt x="88" y="4"/>
                </a:lnTo>
                <a:lnTo>
                  <a:pt x="86" y="6"/>
                </a:lnTo>
                <a:lnTo>
                  <a:pt x="86" y="6"/>
                </a:lnTo>
                <a:lnTo>
                  <a:pt x="84" y="8"/>
                </a:lnTo>
                <a:lnTo>
                  <a:pt x="84" y="10"/>
                </a:lnTo>
                <a:lnTo>
                  <a:pt x="101" y="12"/>
                </a:lnTo>
                <a:lnTo>
                  <a:pt x="147" y="20"/>
                </a:lnTo>
                <a:lnTo>
                  <a:pt x="190" y="29"/>
                </a:lnTo>
                <a:lnTo>
                  <a:pt x="191" y="29"/>
                </a:lnTo>
                <a:lnTo>
                  <a:pt x="191" y="27"/>
                </a:lnTo>
                <a:lnTo>
                  <a:pt x="191" y="27"/>
                </a:lnTo>
                <a:lnTo>
                  <a:pt x="193" y="25"/>
                </a:lnTo>
                <a:lnTo>
                  <a:pt x="193" y="23"/>
                </a:lnTo>
                <a:lnTo>
                  <a:pt x="193" y="23"/>
                </a:lnTo>
                <a:lnTo>
                  <a:pt x="195" y="21"/>
                </a:lnTo>
                <a:lnTo>
                  <a:pt x="195" y="21"/>
                </a:lnTo>
                <a:close/>
                <a:moveTo>
                  <a:pt x="5" y="1816"/>
                </a:moveTo>
                <a:lnTo>
                  <a:pt x="11" y="1816"/>
                </a:lnTo>
                <a:lnTo>
                  <a:pt x="57" y="1812"/>
                </a:lnTo>
                <a:lnTo>
                  <a:pt x="103" y="1806"/>
                </a:lnTo>
                <a:lnTo>
                  <a:pt x="149" y="1798"/>
                </a:lnTo>
                <a:lnTo>
                  <a:pt x="193" y="1789"/>
                </a:lnTo>
                <a:lnTo>
                  <a:pt x="216" y="1781"/>
                </a:lnTo>
                <a:lnTo>
                  <a:pt x="216" y="1781"/>
                </a:lnTo>
                <a:lnTo>
                  <a:pt x="216" y="1779"/>
                </a:lnTo>
                <a:lnTo>
                  <a:pt x="215" y="1779"/>
                </a:lnTo>
                <a:lnTo>
                  <a:pt x="215" y="1777"/>
                </a:lnTo>
                <a:lnTo>
                  <a:pt x="213" y="1777"/>
                </a:lnTo>
                <a:lnTo>
                  <a:pt x="213" y="1775"/>
                </a:lnTo>
                <a:lnTo>
                  <a:pt x="213" y="1775"/>
                </a:lnTo>
                <a:lnTo>
                  <a:pt x="211" y="1773"/>
                </a:lnTo>
                <a:lnTo>
                  <a:pt x="190" y="1779"/>
                </a:lnTo>
                <a:lnTo>
                  <a:pt x="147" y="1789"/>
                </a:lnTo>
                <a:lnTo>
                  <a:pt x="101" y="1798"/>
                </a:lnTo>
                <a:lnTo>
                  <a:pt x="57" y="1804"/>
                </a:lnTo>
                <a:lnTo>
                  <a:pt x="11" y="1806"/>
                </a:lnTo>
                <a:lnTo>
                  <a:pt x="0" y="1808"/>
                </a:lnTo>
                <a:lnTo>
                  <a:pt x="0" y="1808"/>
                </a:lnTo>
                <a:lnTo>
                  <a:pt x="1" y="1810"/>
                </a:lnTo>
                <a:lnTo>
                  <a:pt x="1" y="1810"/>
                </a:lnTo>
                <a:lnTo>
                  <a:pt x="1" y="1812"/>
                </a:lnTo>
                <a:lnTo>
                  <a:pt x="3" y="1814"/>
                </a:lnTo>
                <a:lnTo>
                  <a:pt x="3" y="1814"/>
                </a:lnTo>
                <a:lnTo>
                  <a:pt x="3" y="1816"/>
                </a:lnTo>
                <a:lnTo>
                  <a:pt x="5" y="1816"/>
                </a:lnTo>
                <a:close/>
              </a:path>
            </a:pathLst>
          </a:custGeom>
          <a:solidFill>
            <a:srgbClr val="3f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97"/>
          <p:cNvSpPr/>
          <p:nvPr/>
        </p:nvSpPr>
        <p:spPr>
          <a:xfrm>
            <a:off x="7178760" y="1868400"/>
            <a:ext cx="347400" cy="2870280"/>
          </a:xfrm>
          <a:custGeom>
            <a:avLst/>
            <a:gdLst>
              <a:gd name="textAreaLeft" fmla="*/ 0 w 347400"/>
              <a:gd name="textAreaRight" fmla="*/ 347760 w 347400"/>
              <a:gd name="textAreaTop" fmla="*/ 0 h 2870280"/>
              <a:gd name="textAreaBottom" fmla="*/ 2870640 h 2870280"/>
            </a:gdLst>
            <a:ahLst/>
            <a:rect l="textAreaLeft" t="textAreaTop" r="textAreaRight" b="textAreaBottom"/>
            <a:pathLst>
              <a:path w="219" h="1808">
                <a:moveTo>
                  <a:pt x="197" y="21"/>
                </a:moveTo>
                <a:lnTo>
                  <a:pt x="195" y="21"/>
                </a:lnTo>
                <a:lnTo>
                  <a:pt x="151" y="12"/>
                </a:lnTo>
                <a:lnTo>
                  <a:pt x="107" y="2"/>
                </a:lnTo>
                <a:lnTo>
                  <a:pt x="92" y="0"/>
                </a:lnTo>
                <a:lnTo>
                  <a:pt x="90" y="2"/>
                </a:lnTo>
                <a:lnTo>
                  <a:pt x="90" y="2"/>
                </a:lnTo>
                <a:lnTo>
                  <a:pt x="88" y="4"/>
                </a:lnTo>
                <a:lnTo>
                  <a:pt x="88" y="6"/>
                </a:lnTo>
                <a:lnTo>
                  <a:pt x="86" y="6"/>
                </a:lnTo>
                <a:lnTo>
                  <a:pt x="86" y="8"/>
                </a:lnTo>
                <a:lnTo>
                  <a:pt x="84" y="8"/>
                </a:lnTo>
                <a:lnTo>
                  <a:pt x="84" y="10"/>
                </a:lnTo>
                <a:lnTo>
                  <a:pt x="105" y="12"/>
                </a:lnTo>
                <a:lnTo>
                  <a:pt x="149" y="19"/>
                </a:lnTo>
                <a:lnTo>
                  <a:pt x="192" y="29"/>
                </a:lnTo>
                <a:lnTo>
                  <a:pt x="192" y="29"/>
                </a:lnTo>
                <a:lnTo>
                  <a:pt x="194" y="27"/>
                </a:lnTo>
                <a:lnTo>
                  <a:pt x="194" y="27"/>
                </a:lnTo>
                <a:lnTo>
                  <a:pt x="194" y="25"/>
                </a:lnTo>
                <a:lnTo>
                  <a:pt x="195" y="25"/>
                </a:lnTo>
                <a:lnTo>
                  <a:pt x="195" y="23"/>
                </a:lnTo>
                <a:lnTo>
                  <a:pt x="195" y="23"/>
                </a:lnTo>
                <a:lnTo>
                  <a:pt x="197" y="21"/>
                </a:lnTo>
                <a:close/>
                <a:moveTo>
                  <a:pt x="5" y="1808"/>
                </a:moveTo>
                <a:lnTo>
                  <a:pt x="15" y="1808"/>
                </a:lnTo>
                <a:lnTo>
                  <a:pt x="61" y="1804"/>
                </a:lnTo>
                <a:lnTo>
                  <a:pt x="107" y="1798"/>
                </a:lnTo>
                <a:lnTo>
                  <a:pt x="151" y="1790"/>
                </a:lnTo>
                <a:lnTo>
                  <a:pt x="195" y="1781"/>
                </a:lnTo>
                <a:lnTo>
                  <a:pt x="219" y="1773"/>
                </a:lnTo>
                <a:lnTo>
                  <a:pt x="217" y="1773"/>
                </a:lnTo>
                <a:lnTo>
                  <a:pt x="217" y="1771"/>
                </a:lnTo>
                <a:lnTo>
                  <a:pt x="217" y="1771"/>
                </a:lnTo>
                <a:lnTo>
                  <a:pt x="215" y="1769"/>
                </a:lnTo>
                <a:lnTo>
                  <a:pt x="215" y="1769"/>
                </a:lnTo>
                <a:lnTo>
                  <a:pt x="215" y="1767"/>
                </a:lnTo>
                <a:lnTo>
                  <a:pt x="213" y="1766"/>
                </a:lnTo>
                <a:lnTo>
                  <a:pt x="213" y="1766"/>
                </a:lnTo>
                <a:lnTo>
                  <a:pt x="194" y="1771"/>
                </a:lnTo>
                <a:lnTo>
                  <a:pt x="149" y="1781"/>
                </a:lnTo>
                <a:lnTo>
                  <a:pt x="105" y="1789"/>
                </a:lnTo>
                <a:lnTo>
                  <a:pt x="61" y="1794"/>
                </a:lnTo>
                <a:lnTo>
                  <a:pt x="15" y="1798"/>
                </a:lnTo>
                <a:lnTo>
                  <a:pt x="0" y="1798"/>
                </a:lnTo>
                <a:lnTo>
                  <a:pt x="2" y="1800"/>
                </a:lnTo>
                <a:lnTo>
                  <a:pt x="2" y="1800"/>
                </a:lnTo>
                <a:lnTo>
                  <a:pt x="2" y="1802"/>
                </a:lnTo>
                <a:lnTo>
                  <a:pt x="4" y="1804"/>
                </a:lnTo>
                <a:lnTo>
                  <a:pt x="4" y="1804"/>
                </a:lnTo>
                <a:lnTo>
                  <a:pt x="5" y="1806"/>
                </a:lnTo>
                <a:lnTo>
                  <a:pt x="5" y="1806"/>
                </a:lnTo>
                <a:lnTo>
                  <a:pt x="5" y="1808"/>
                </a:lnTo>
                <a:close/>
              </a:path>
            </a:pathLst>
          </a:custGeom>
          <a:solidFill>
            <a:srgbClr val="4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98"/>
          <p:cNvSpPr/>
          <p:nvPr/>
        </p:nvSpPr>
        <p:spPr>
          <a:xfrm>
            <a:off x="7175520" y="1878120"/>
            <a:ext cx="344520" cy="2854080"/>
          </a:xfrm>
          <a:custGeom>
            <a:avLst/>
            <a:gdLst>
              <a:gd name="textAreaLeft" fmla="*/ 0 w 344520"/>
              <a:gd name="textAreaRight" fmla="*/ 344880 w 344520"/>
              <a:gd name="textAreaTop" fmla="*/ 0 h 2854080"/>
              <a:gd name="textAreaBottom" fmla="*/ 2854080 h 2854080"/>
            </a:gdLst>
            <a:ahLst/>
            <a:rect l="textAreaLeft" t="textAreaTop" r="textAreaRight" b="textAreaBottom"/>
            <a:pathLst>
              <a:path w="217" h="1798">
                <a:moveTo>
                  <a:pt x="196" y="19"/>
                </a:moveTo>
                <a:lnTo>
                  <a:pt x="153" y="10"/>
                </a:lnTo>
                <a:lnTo>
                  <a:pt x="107" y="2"/>
                </a:lnTo>
                <a:lnTo>
                  <a:pt x="90" y="0"/>
                </a:lnTo>
                <a:lnTo>
                  <a:pt x="88" y="0"/>
                </a:lnTo>
                <a:lnTo>
                  <a:pt x="88" y="2"/>
                </a:lnTo>
                <a:lnTo>
                  <a:pt x="86" y="2"/>
                </a:lnTo>
                <a:lnTo>
                  <a:pt x="86" y="4"/>
                </a:lnTo>
                <a:lnTo>
                  <a:pt x="86" y="4"/>
                </a:lnTo>
                <a:lnTo>
                  <a:pt x="84" y="6"/>
                </a:lnTo>
                <a:lnTo>
                  <a:pt x="84" y="8"/>
                </a:lnTo>
                <a:lnTo>
                  <a:pt x="82" y="8"/>
                </a:lnTo>
                <a:lnTo>
                  <a:pt x="107" y="11"/>
                </a:lnTo>
                <a:lnTo>
                  <a:pt x="151" y="19"/>
                </a:lnTo>
                <a:lnTo>
                  <a:pt x="190" y="29"/>
                </a:lnTo>
                <a:lnTo>
                  <a:pt x="192" y="27"/>
                </a:lnTo>
                <a:lnTo>
                  <a:pt x="192" y="27"/>
                </a:lnTo>
                <a:lnTo>
                  <a:pt x="192" y="25"/>
                </a:lnTo>
                <a:lnTo>
                  <a:pt x="194" y="23"/>
                </a:lnTo>
                <a:lnTo>
                  <a:pt x="194" y="23"/>
                </a:lnTo>
                <a:lnTo>
                  <a:pt x="196" y="21"/>
                </a:lnTo>
                <a:lnTo>
                  <a:pt x="196" y="21"/>
                </a:lnTo>
                <a:lnTo>
                  <a:pt x="196" y="19"/>
                </a:lnTo>
                <a:close/>
                <a:moveTo>
                  <a:pt x="6" y="1798"/>
                </a:moveTo>
                <a:lnTo>
                  <a:pt x="17" y="1796"/>
                </a:lnTo>
                <a:lnTo>
                  <a:pt x="63" y="1794"/>
                </a:lnTo>
                <a:lnTo>
                  <a:pt x="107" y="1788"/>
                </a:lnTo>
                <a:lnTo>
                  <a:pt x="153" y="1779"/>
                </a:lnTo>
                <a:lnTo>
                  <a:pt x="196" y="1769"/>
                </a:lnTo>
                <a:lnTo>
                  <a:pt x="217" y="1763"/>
                </a:lnTo>
                <a:lnTo>
                  <a:pt x="217" y="1763"/>
                </a:lnTo>
                <a:lnTo>
                  <a:pt x="217" y="1761"/>
                </a:lnTo>
                <a:lnTo>
                  <a:pt x="215" y="1760"/>
                </a:lnTo>
                <a:lnTo>
                  <a:pt x="215" y="1760"/>
                </a:lnTo>
                <a:lnTo>
                  <a:pt x="215" y="1758"/>
                </a:lnTo>
                <a:lnTo>
                  <a:pt x="213" y="1758"/>
                </a:lnTo>
                <a:lnTo>
                  <a:pt x="213" y="1756"/>
                </a:lnTo>
                <a:lnTo>
                  <a:pt x="211" y="1756"/>
                </a:lnTo>
                <a:lnTo>
                  <a:pt x="194" y="1760"/>
                </a:lnTo>
                <a:lnTo>
                  <a:pt x="151" y="1771"/>
                </a:lnTo>
                <a:lnTo>
                  <a:pt x="107" y="1779"/>
                </a:lnTo>
                <a:lnTo>
                  <a:pt x="61" y="1784"/>
                </a:lnTo>
                <a:lnTo>
                  <a:pt x="17" y="1786"/>
                </a:lnTo>
                <a:lnTo>
                  <a:pt x="0" y="1788"/>
                </a:lnTo>
                <a:lnTo>
                  <a:pt x="0" y="1788"/>
                </a:lnTo>
                <a:lnTo>
                  <a:pt x="2" y="1790"/>
                </a:lnTo>
                <a:lnTo>
                  <a:pt x="2" y="1792"/>
                </a:lnTo>
                <a:lnTo>
                  <a:pt x="2" y="1792"/>
                </a:lnTo>
                <a:lnTo>
                  <a:pt x="4" y="1794"/>
                </a:lnTo>
                <a:lnTo>
                  <a:pt x="4" y="1794"/>
                </a:lnTo>
                <a:lnTo>
                  <a:pt x="4" y="1796"/>
                </a:lnTo>
                <a:lnTo>
                  <a:pt x="6" y="1798"/>
                </a:lnTo>
                <a:close/>
              </a:path>
            </a:pathLst>
          </a:custGeom>
          <a:solidFill>
            <a:srgbClr val="41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99"/>
          <p:cNvSpPr/>
          <p:nvPr/>
        </p:nvSpPr>
        <p:spPr>
          <a:xfrm>
            <a:off x="7169040" y="1884240"/>
            <a:ext cx="347760" cy="2838600"/>
          </a:xfrm>
          <a:custGeom>
            <a:avLst/>
            <a:gdLst>
              <a:gd name="textAreaLeft" fmla="*/ 0 w 347760"/>
              <a:gd name="textAreaRight" fmla="*/ 348120 w 347760"/>
              <a:gd name="textAreaTop" fmla="*/ 0 h 2838600"/>
              <a:gd name="textAreaBottom" fmla="*/ 2838960 h 2838600"/>
            </a:gdLst>
            <a:ahLst/>
            <a:rect l="textAreaLeft" t="textAreaTop" r="textAreaRight" b="textAreaBottom"/>
            <a:pathLst>
              <a:path w="219" h="1788">
                <a:moveTo>
                  <a:pt x="198" y="19"/>
                </a:moveTo>
                <a:lnTo>
                  <a:pt x="155" y="9"/>
                </a:lnTo>
                <a:lnTo>
                  <a:pt x="111" y="2"/>
                </a:lnTo>
                <a:lnTo>
                  <a:pt x="90" y="0"/>
                </a:lnTo>
                <a:lnTo>
                  <a:pt x="90" y="0"/>
                </a:lnTo>
                <a:lnTo>
                  <a:pt x="88" y="2"/>
                </a:lnTo>
                <a:lnTo>
                  <a:pt x="88" y="4"/>
                </a:lnTo>
                <a:lnTo>
                  <a:pt x="86" y="4"/>
                </a:lnTo>
                <a:lnTo>
                  <a:pt x="86" y="6"/>
                </a:lnTo>
                <a:lnTo>
                  <a:pt x="84" y="6"/>
                </a:lnTo>
                <a:lnTo>
                  <a:pt x="84" y="7"/>
                </a:lnTo>
                <a:lnTo>
                  <a:pt x="84" y="7"/>
                </a:lnTo>
                <a:lnTo>
                  <a:pt x="109" y="11"/>
                </a:lnTo>
                <a:lnTo>
                  <a:pt x="153" y="19"/>
                </a:lnTo>
                <a:lnTo>
                  <a:pt x="192" y="29"/>
                </a:lnTo>
                <a:lnTo>
                  <a:pt x="192" y="27"/>
                </a:lnTo>
                <a:lnTo>
                  <a:pt x="194" y="27"/>
                </a:lnTo>
                <a:lnTo>
                  <a:pt x="194" y="25"/>
                </a:lnTo>
                <a:lnTo>
                  <a:pt x="194" y="25"/>
                </a:lnTo>
                <a:lnTo>
                  <a:pt x="196" y="23"/>
                </a:lnTo>
                <a:lnTo>
                  <a:pt x="196" y="23"/>
                </a:lnTo>
                <a:lnTo>
                  <a:pt x="196" y="21"/>
                </a:lnTo>
                <a:lnTo>
                  <a:pt x="198" y="19"/>
                </a:lnTo>
                <a:close/>
                <a:moveTo>
                  <a:pt x="6" y="1788"/>
                </a:moveTo>
                <a:lnTo>
                  <a:pt x="21" y="1788"/>
                </a:lnTo>
                <a:lnTo>
                  <a:pt x="67" y="1784"/>
                </a:lnTo>
                <a:lnTo>
                  <a:pt x="111" y="1779"/>
                </a:lnTo>
                <a:lnTo>
                  <a:pt x="155" y="1771"/>
                </a:lnTo>
                <a:lnTo>
                  <a:pt x="200" y="1761"/>
                </a:lnTo>
                <a:lnTo>
                  <a:pt x="219" y="1756"/>
                </a:lnTo>
                <a:lnTo>
                  <a:pt x="219" y="1754"/>
                </a:lnTo>
                <a:lnTo>
                  <a:pt x="217" y="1754"/>
                </a:lnTo>
                <a:lnTo>
                  <a:pt x="217" y="1752"/>
                </a:lnTo>
                <a:lnTo>
                  <a:pt x="215" y="1752"/>
                </a:lnTo>
                <a:lnTo>
                  <a:pt x="215" y="1750"/>
                </a:lnTo>
                <a:lnTo>
                  <a:pt x="215" y="1750"/>
                </a:lnTo>
                <a:lnTo>
                  <a:pt x="213" y="1748"/>
                </a:lnTo>
                <a:lnTo>
                  <a:pt x="213" y="1748"/>
                </a:lnTo>
                <a:lnTo>
                  <a:pt x="198" y="1752"/>
                </a:lnTo>
                <a:lnTo>
                  <a:pt x="153" y="1761"/>
                </a:lnTo>
                <a:lnTo>
                  <a:pt x="109" y="1769"/>
                </a:lnTo>
                <a:lnTo>
                  <a:pt x="65" y="1775"/>
                </a:lnTo>
                <a:lnTo>
                  <a:pt x="21" y="1779"/>
                </a:lnTo>
                <a:lnTo>
                  <a:pt x="0" y="1779"/>
                </a:lnTo>
                <a:lnTo>
                  <a:pt x="2" y="1780"/>
                </a:lnTo>
                <a:lnTo>
                  <a:pt x="2" y="1782"/>
                </a:lnTo>
                <a:lnTo>
                  <a:pt x="4" y="1782"/>
                </a:lnTo>
                <a:lnTo>
                  <a:pt x="4" y="1784"/>
                </a:lnTo>
                <a:lnTo>
                  <a:pt x="4" y="1784"/>
                </a:lnTo>
                <a:lnTo>
                  <a:pt x="6" y="1786"/>
                </a:lnTo>
                <a:lnTo>
                  <a:pt x="6" y="1788"/>
                </a:lnTo>
                <a:lnTo>
                  <a:pt x="6" y="1788"/>
                </a:lnTo>
                <a:close/>
              </a:path>
            </a:pathLst>
          </a:custGeom>
          <a:solidFill>
            <a:srgbClr val="42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100"/>
          <p:cNvSpPr/>
          <p:nvPr/>
        </p:nvSpPr>
        <p:spPr>
          <a:xfrm>
            <a:off x="7165800" y="1890720"/>
            <a:ext cx="344520" cy="2825640"/>
          </a:xfrm>
          <a:custGeom>
            <a:avLst/>
            <a:gdLst>
              <a:gd name="textAreaLeft" fmla="*/ 0 w 344520"/>
              <a:gd name="textAreaRight" fmla="*/ 344880 w 344520"/>
              <a:gd name="textAreaTop" fmla="*/ 0 h 2825640"/>
              <a:gd name="textAreaBottom" fmla="*/ 2826000 h 2825640"/>
            </a:gdLst>
            <a:ahLst/>
            <a:rect l="textAreaLeft" t="textAreaTop" r="textAreaRight" b="textAreaBottom"/>
            <a:pathLst>
              <a:path w="217" h="1780">
                <a:moveTo>
                  <a:pt x="196" y="21"/>
                </a:moveTo>
                <a:lnTo>
                  <a:pt x="157" y="11"/>
                </a:lnTo>
                <a:lnTo>
                  <a:pt x="113" y="3"/>
                </a:lnTo>
                <a:lnTo>
                  <a:pt x="88" y="0"/>
                </a:lnTo>
                <a:lnTo>
                  <a:pt x="88" y="2"/>
                </a:lnTo>
                <a:lnTo>
                  <a:pt x="86" y="2"/>
                </a:lnTo>
                <a:lnTo>
                  <a:pt x="86" y="3"/>
                </a:lnTo>
                <a:lnTo>
                  <a:pt x="86" y="3"/>
                </a:lnTo>
                <a:lnTo>
                  <a:pt x="84" y="5"/>
                </a:lnTo>
                <a:lnTo>
                  <a:pt x="84" y="7"/>
                </a:lnTo>
                <a:lnTo>
                  <a:pt x="83" y="7"/>
                </a:lnTo>
                <a:lnTo>
                  <a:pt x="83" y="9"/>
                </a:lnTo>
                <a:lnTo>
                  <a:pt x="111" y="13"/>
                </a:lnTo>
                <a:lnTo>
                  <a:pt x="155" y="21"/>
                </a:lnTo>
                <a:lnTo>
                  <a:pt x="192" y="28"/>
                </a:lnTo>
                <a:lnTo>
                  <a:pt x="192" y="28"/>
                </a:lnTo>
                <a:lnTo>
                  <a:pt x="192" y="26"/>
                </a:lnTo>
                <a:lnTo>
                  <a:pt x="194" y="25"/>
                </a:lnTo>
                <a:lnTo>
                  <a:pt x="194" y="25"/>
                </a:lnTo>
                <a:lnTo>
                  <a:pt x="194" y="23"/>
                </a:lnTo>
                <a:lnTo>
                  <a:pt x="196" y="23"/>
                </a:lnTo>
                <a:lnTo>
                  <a:pt x="196" y="21"/>
                </a:lnTo>
                <a:lnTo>
                  <a:pt x="196" y="21"/>
                </a:lnTo>
                <a:close/>
                <a:moveTo>
                  <a:pt x="6" y="1780"/>
                </a:moveTo>
                <a:lnTo>
                  <a:pt x="23" y="1778"/>
                </a:lnTo>
                <a:lnTo>
                  <a:pt x="67" y="1776"/>
                </a:lnTo>
                <a:lnTo>
                  <a:pt x="113" y="1771"/>
                </a:lnTo>
                <a:lnTo>
                  <a:pt x="157" y="1763"/>
                </a:lnTo>
                <a:lnTo>
                  <a:pt x="200" y="1752"/>
                </a:lnTo>
                <a:lnTo>
                  <a:pt x="217" y="1748"/>
                </a:lnTo>
                <a:lnTo>
                  <a:pt x="217" y="1746"/>
                </a:lnTo>
                <a:lnTo>
                  <a:pt x="217" y="1746"/>
                </a:lnTo>
                <a:lnTo>
                  <a:pt x="215" y="1744"/>
                </a:lnTo>
                <a:lnTo>
                  <a:pt x="215" y="1744"/>
                </a:lnTo>
                <a:lnTo>
                  <a:pt x="215" y="1742"/>
                </a:lnTo>
                <a:lnTo>
                  <a:pt x="213" y="1742"/>
                </a:lnTo>
                <a:lnTo>
                  <a:pt x="213" y="1740"/>
                </a:lnTo>
                <a:lnTo>
                  <a:pt x="213" y="1738"/>
                </a:lnTo>
                <a:lnTo>
                  <a:pt x="198" y="1744"/>
                </a:lnTo>
                <a:lnTo>
                  <a:pt x="155" y="1753"/>
                </a:lnTo>
                <a:lnTo>
                  <a:pt x="111" y="1761"/>
                </a:lnTo>
                <a:lnTo>
                  <a:pt x="67" y="1767"/>
                </a:lnTo>
                <a:lnTo>
                  <a:pt x="21" y="1771"/>
                </a:lnTo>
                <a:lnTo>
                  <a:pt x="0" y="1771"/>
                </a:lnTo>
                <a:lnTo>
                  <a:pt x="0" y="1771"/>
                </a:lnTo>
                <a:lnTo>
                  <a:pt x="2" y="1773"/>
                </a:lnTo>
                <a:lnTo>
                  <a:pt x="2" y="1775"/>
                </a:lnTo>
                <a:lnTo>
                  <a:pt x="2" y="1775"/>
                </a:lnTo>
                <a:lnTo>
                  <a:pt x="4" y="1776"/>
                </a:lnTo>
                <a:lnTo>
                  <a:pt x="4" y="1778"/>
                </a:lnTo>
                <a:lnTo>
                  <a:pt x="4" y="1778"/>
                </a:lnTo>
                <a:lnTo>
                  <a:pt x="6" y="1780"/>
                </a:lnTo>
                <a:close/>
              </a:path>
            </a:pathLst>
          </a:custGeom>
          <a:solidFill>
            <a:srgbClr val="43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01"/>
          <p:cNvSpPr/>
          <p:nvPr/>
        </p:nvSpPr>
        <p:spPr>
          <a:xfrm>
            <a:off x="7162920" y="1895400"/>
            <a:ext cx="344520" cy="2813040"/>
          </a:xfrm>
          <a:custGeom>
            <a:avLst/>
            <a:gdLst>
              <a:gd name="textAreaLeft" fmla="*/ 0 w 344520"/>
              <a:gd name="textAreaRight" fmla="*/ 344880 w 344520"/>
              <a:gd name="textAreaTop" fmla="*/ 0 h 2813040"/>
              <a:gd name="textAreaBottom" fmla="*/ 2813400 h 2813040"/>
            </a:gdLst>
            <a:ahLst/>
            <a:rect l="textAreaLeft" t="textAreaTop" r="textAreaRight" b="textAreaBottom"/>
            <a:pathLst>
              <a:path w="217" h="1772">
                <a:moveTo>
                  <a:pt x="196" y="22"/>
                </a:moveTo>
                <a:lnTo>
                  <a:pt x="157" y="12"/>
                </a:lnTo>
                <a:lnTo>
                  <a:pt x="113" y="4"/>
                </a:lnTo>
                <a:lnTo>
                  <a:pt x="88" y="0"/>
                </a:lnTo>
                <a:lnTo>
                  <a:pt x="86" y="2"/>
                </a:lnTo>
                <a:lnTo>
                  <a:pt x="86" y="4"/>
                </a:lnTo>
                <a:lnTo>
                  <a:pt x="85" y="4"/>
                </a:lnTo>
                <a:lnTo>
                  <a:pt x="85" y="6"/>
                </a:lnTo>
                <a:lnTo>
                  <a:pt x="83" y="6"/>
                </a:lnTo>
                <a:lnTo>
                  <a:pt x="83" y="8"/>
                </a:lnTo>
                <a:lnTo>
                  <a:pt x="83" y="8"/>
                </a:lnTo>
                <a:lnTo>
                  <a:pt x="81" y="10"/>
                </a:lnTo>
                <a:lnTo>
                  <a:pt x="113" y="14"/>
                </a:lnTo>
                <a:lnTo>
                  <a:pt x="156" y="22"/>
                </a:lnTo>
                <a:lnTo>
                  <a:pt x="190" y="29"/>
                </a:lnTo>
                <a:lnTo>
                  <a:pt x="192" y="29"/>
                </a:lnTo>
                <a:lnTo>
                  <a:pt x="192" y="27"/>
                </a:lnTo>
                <a:lnTo>
                  <a:pt x="192" y="27"/>
                </a:lnTo>
                <a:lnTo>
                  <a:pt x="194" y="25"/>
                </a:lnTo>
                <a:lnTo>
                  <a:pt x="194" y="25"/>
                </a:lnTo>
                <a:lnTo>
                  <a:pt x="194" y="23"/>
                </a:lnTo>
                <a:lnTo>
                  <a:pt x="196" y="22"/>
                </a:lnTo>
                <a:lnTo>
                  <a:pt x="196" y="22"/>
                </a:lnTo>
                <a:close/>
                <a:moveTo>
                  <a:pt x="4" y="1772"/>
                </a:moveTo>
                <a:lnTo>
                  <a:pt x="25" y="1772"/>
                </a:lnTo>
                <a:lnTo>
                  <a:pt x="69" y="1768"/>
                </a:lnTo>
                <a:lnTo>
                  <a:pt x="113" y="1762"/>
                </a:lnTo>
                <a:lnTo>
                  <a:pt x="157" y="1754"/>
                </a:lnTo>
                <a:lnTo>
                  <a:pt x="202" y="1745"/>
                </a:lnTo>
                <a:lnTo>
                  <a:pt x="217" y="1741"/>
                </a:lnTo>
                <a:lnTo>
                  <a:pt x="217" y="1739"/>
                </a:lnTo>
                <a:lnTo>
                  <a:pt x="215" y="1739"/>
                </a:lnTo>
                <a:lnTo>
                  <a:pt x="215" y="1737"/>
                </a:lnTo>
                <a:lnTo>
                  <a:pt x="213" y="1737"/>
                </a:lnTo>
                <a:lnTo>
                  <a:pt x="213" y="1735"/>
                </a:lnTo>
                <a:lnTo>
                  <a:pt x="213" y="1733"/>
                </a:lnTo>
                <a:lnTo>
                  <a:pt x="211" y="1733"/>
                </a:lnTo>
                <a:lnTo>
                  <a:pt x="211" y="1731"/>
                </a:lnTo>
                <a:lnTo>
                  <a:pt x="198" y="1735"/>
                </a:lnTo>
                <a:lnTo>
                  <a:pt x="156" y="1745"/>
                </a:lnTo>
                <a:lnTo>
                  <a:pt x="113" y="1752"/>
                </a:lnTo>
                <a:lnTo>
                  <a:pt x="69" y="1758"/>
                </a:lnTo>
                <a:lnTo>
                  <a:pt x="23" y="1762"/>
                </a:lnTo>
                <a:lnTo>
                  <a:pt x="0" y="1762"/>
                </a:lnTo>
                <a:lnTo>
                  <a:pt x="0" y="1764"/>
                </a:lnTo>
                <a:lnTo>
                  <a:pt x="0" y="1766"/>
                </a:lnTo>
                <a:lnTo>
                  <a:pt x="2" y="1766"/>
                </a:lnTo>
                <a:lnTo>
                  <a:pt x="2" y="1768"/>
                </a:lnTo>
                <a:lnTo>
                  <a:pt x="2" y="1768"/>
                </a:lnTo>
                <a:lnTo>
                  <a:pt x="4" y="1770"/>
                </a:lnTo>
                <a:lnTo>
                  <a:pt x="4" y="1772"/>
                </a:lnTo>
                <a:lnTo>
                  <a:pt x="4" y="1772"/>
                </a:lnTo>
                <a:close/>
              </a:path>
            </a:pathLst>
          </a:custGeom>
          <a:solidFill>
            <a:srgbClr val="44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102"/>
          <p:cNvSpPr/>
          <p:nvPr/>
        </p:nvSpPr>
        <p:spPr>
          <a:xfrm>
            <a:off x="7156440" y="1905120"/>
            <a:ext cx="347760" cy="2797200"/>
          </a:xfrm>
          <a:custGeom>
            <a:avLst/>
            <a:gdLst>
              <a:gd name="textAreaLeft" fmla="*/ 0 w 347760"/>
              <a:gd name="textAreaRight" fmla="*/ 348120 w 347760"/>
              <a:gd name="textAreaTop" fmla="*/ 0 h 2797200"/>
              <a:gd name="textAreaBottom" fmla="*/ 2797560 h 2797200"/>
            </a:gdLst>
            <a:ahLst/>
            <a:rect l="textAreaLeft" t="textAreaTop" r="textAreaRight" b="textAreaBottom"/>
            <a:pathLst>
              <a:path w="219" h="1762">
                <a:moveTo>
                  <a:pt x="198" y="19"/>
                </a:moveTo>
                <a:lnTo>
                  <a:pt x="161" y="12"/>
                </a:lnTo>
                <a:lnTo>
                  <a:pt x="117" y="4"/>
                </a:lnTo>
                <a:lnTo>
                  <a:pt x="89" y="0"/>
                </a:lnTo>
                <a:lnTo>
                  <a:pt x="87" y="0"/>
                </a:lnTo>
                <a:lnTo>
                  <a:pt x="87" y="2"/>
                </a:lnTo>
                <a:lnTo>
                  <a:pt x="87" y="2"/>
                </a:lnTo>
                <a:lnTo>
                  <a:pt x="85" y="4"/>
                </a:lnTo>
                <a:lnTo>
                  <a:pt x="85" y="6"/>
                </a:lnTo>
                <a:lnTo>
                  <a:pt x="83" y="6"/>
                </a:lnTo>
                <a:lnTo>
                  <a:pt x="83" y="8"/>
                </a:lnTo>
                <a:lnTo>
                  <a:pt x="81" y="8"/>
                </a:lnTo>
                <a:lnTo>
                  <a:pt x="115" y="12"/>
                </a:lnTo>
                <a:lnTo>
                  <a:pt x="160" y="19"/>
                </a:lnTo>
                <a:lnTo>
                  <a:pt x="192" y="29"/>
                </a:lnTo>
                <a:lnTo>
                  <a:pt x="192" y="27"/>
                </a:lnTo>
                <a:lnTo>
                  <a:pt x="194" y="25"/>
                </a:lnTo>
                <a:lnTo>
                  <a:pt x="194" y="25"/>
                </a:lnTo>
                <a:lnTo>
                  <a:pt x="194" y="23"/>
                </a:lnTo>
                <a:lnTo>
                  <a:pt x="196" y="23"/>
                </a:lnTo>
                <a:lnTo>
                  <a:pt x="196" y="21"/>
                </a:lnTo>
                <a:lnTo>
                  <a:pt x="196" y="21"/>
                </a:lnTo>
                <a:lnTo>
                  <a:pt x="198" y="19"/>
                </a:lnTo>
                <a:close/>
                <a:moveTo>
                  <a:pt x="6" y="1762"/>
                </a:moveTo>
                <a:lnTo>
                  <a:pt x="27" y="1762"/>
                </a:lnTo>
                <a:lnTo>
                  <a:pt x="73" y="1758"/>
                </a:lnTo>
                <a:lnTo>
                  <a:pt x="117" y="1752"/>
                </a:lnTo>
                <a:lnTo>
                  <a:pt x="161" y="1744"/>
                </a:lnTo>
                <a:lnTo>
                  <a:pt x="204" y="1735"/>
                </a:lnTo>
                <a:lnTo>
                  <a:pt x="219" y="1729"/>
                </a:lnTo>
                <a:lnTo>
                  <a:pt x="217" y="1729"/>
                </a:lnTo>
                <a:lnTo>
                  <a:pt x="217" y="1727"/>
                </a:lnTo>
                <a:lnTo>
                  <a:pt x="215" y="1727"/>
                </a:lnTo>
                <a:lnTo>
                  <a:pt x="215" y="1725"/>
                </a:lnTo>
                <a:lnTo>
                  <a:pt x="215" y="1725"/>
                </a:lnTo>
                <a:lnTo>
                  <a:pt x="213" y="1723"/>
                </a:lnTo>
                <a:lnTo>
                  <a:pt x="213" y="1723"/>
                </a:lnTo>
                <a:lnTo>
                  <a:pt x="213" y="1721"/>
                </a:lnTo>
                <a:lnTo>
                  <a:pt x="202" y="1725"/>
                </a:lnTo>
                <a:lnTo>
                  <a:pt x="160" y="1735"/>
                </a:lnTo>
                <a:lnTo>
                  <a:pt x="115" y="1743"/>
                </a:lnTo>
                <a:lnTo>
                  <a:pt x="71" y="1748"/>
                </a:lnTo>
                <a:lnTo>
                  <a:pt x="27" y="1752"/>
                </a:lnTo>
                <a:lnTo>
                  <a:pt x="0" y="1752"/>
                </a:lnTo>
                <a:lnTo>
                  <a:pt x="2" y="1754"/>
                </a:lnTo>
                <a:lnTo>
                  <a:pt x="2" y="1754"/>
                </a:lnTo>
                <a:lnTo>
                  <a:pt x="2" y="1756"/>
                </a:lnTo>
                <a:lnTo>
                  <a:pt x="4" y="1756"/>
                </a:lnTo>
                <a:lnTo>
                  <a:pt x="4" y="1758"/>
                </a:lnTo>
                <a:lnTo>
                  <a:pt x="4" y="1760"/>
                </a:lnTo>
                <a:lnTo>
                  <a:pt x="6" y="1760"/>
                </a:lnTo>
                <a:lnTo>
                  <a:pt x="6" y="1762"/>
                </a:lnTo>
                <a:close/>
              </a:path>
            </a:pathLst>
          </a:custGeom>
          <a:solidFill>
            <a:srgbClr val="45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103"/>
          <p:cNvSpPr/>
          <p:nvPr/>
        </p:nvSpPr>
        <p:spPr>
          <a:xfrm>
            <a:off x="7153200" y="1911240"/>
            <a:ext cx="344520" cy="2781360"/>
          </a:xfrm>
          <a:custGeom>
            <a:avLst/>
            <a:gdLst>
              <a:gd name="textAreaLeft" fmla="*/ 0 w 344520"/>
              <a:gd name="textAreaRight" fmla="*/ 344880 w 34452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217" h="1752">
                <a:moveTo>
                  <a:pt x="196" y="19"/>
                </a:moveTo>
                <a:lnTo>
                  <a:pt x="162" y="12"/>
                </a:lnTo>
                <a:lnTo>
                  <a:pt x="119" y="4"/>
                </a:lnTo>
                <a:lnTo>
                  <a:pt x="87" y="0"/>
                </a:lnTo>
                <a:lnTo>
                  <a:pt x="87" y="2"/>
                </a:lnTo>
                <a:lnTo>
                  <a:pt x="85" y="2"/>
                </a:lnTo>
                <a:lnTo>
                  <a:pt x="85" y="4"/>
                </a:lnTo>
                <a:lnTo>
                  <a:pt x="83" y="4"/>
                </a:lnTo>
                <a:lnTo>
                  <a:pt x="83" y="6"/>
                </a:lnTo>
                <a:lnTo>
                  <a:pt x="83" y="6"/>
                </a:lnTo>
                <a:lnTo>
                  <a:pt x="81" y="8"/>
                </a:lnTo>
                <a:lnTo>
                  <a:pt x="81" y="8"/>
                </a:lnTo>
                <a:lnTo>
                  <a:pt x="117" y="13"/>
                </a:lnTo>
                <a:lnTo>
                  <a:pt x="160" y="21"/>
                </a:lnTo>
                <a:lnTo>
                  <a:pt x="192" y="29"/>
                </a:lnTo>
                <a:lnTo>
                  <a:pt x="192" y="27"/>
                </a:lnTo>
                <a:lnTo>
                  <a:pt x="194" y="27"/>
                </a:lnTo>
                <a:lnTo>
                  <a:pt x="194" y="25"/>
                </a:lnTo>
                <a:lnTo>
                  <a:pt x="194" y="25"/>
                </a:lnTo>
                <a:lnTo>
                  <a:pt x="194" y="23"/>
                </a:lnTo>
                <a:lnTo>
                  <a:pt x="196" y="21"/>
                </a:lnTo>
                <a:lnTo>
                  <a:pt x="196" y="21"/>
                </a:lnTo>
                <a:lnTo>
                  <a:pt x="196" y="19"/>
                </a:lnTo>
                <a:close/>
                <a:moveTo>
                  <a:pt x="6" y="1752"/>
                </a:moveTo>
                <a:lnTo>
                  <a:pt x="29" y="1752"/>
                </a:lnTo>
                <a:lnTo>
                  <a:pt x="75" y="1748"/>
                </a:lnTo>
                <a:lnTo>
                  <a:pt x="119" y="1742"/>
                </a:lnTo>
                <a:lnTo>
                  <a:pt x="162" y="1735"/>
                </a:lnTo>
                <a:lnTo>
                  <a:pt x="204" y="1725"/>
                </a:lnTo>
                <a:lnTo>
                  <a:pt x="217" y="1721"/>
                </a:lnTo>
                <a:lnTo>
                  <a:pt x="217" y="1721"/>
                </a:lnTo>
                <a:lnTo>
                  <a:pt x="215" y="1719"/>
                </a:lnTo>
                <a:lnTo>
                  <a:pt x="215" y="1719"/>
                </a:lnTo>
                <a:lnTo>
                  <a:pt x="215" y="1717"/>
                </a:lnTo>
                <a:lnTo>
                  <a:pt x="213" y="1717"/>
                </a:lnTo>
                <a:lnTo>
                  <a:pt x="213" y="1715"/>
                </a:lnTo>
                <a:lnTo>
                  <a:pt x="211" y="1715"/>
                </a:lnTo>
                <a:lnTo>
                  <a:pt x="211" y="1714"/>
                </a:lnTo>
                <a:lnTo>
                  <a:pt x="202" y="1715"/>
                </a:lnTo>
                <a:lnTo>
                  <a:pt x="160" y="1727"/>
                </a:lnTo>
                <a:lnTo>
                  <a:pt x="117" y="1735"/>
                </a:lnTo>
                <a:lnTo>
                  <a:pt x="73" y="1739"/>
                </a:lnTo>
                <a:lnTo>
                  <a:pt x="29" y="1742"/>
                </a:lnTo>
                <a:lnTo>
                  <a:pt x="0" y="1744"/>
                </a:lnTo>
                <a:lnTo>
                  <a:pt x="0" y="1744"/>
                </a:lnTo>
                <a:lnTo>
                  <a:pt x="2" y="1746"/>
                </a:lnTo>
                <a:lnTo>
                  <a:pt x="2" y="1746"/>
                </a:lnTo>
                <a:lnTo>
                  <a:pt x="2" y="1748"/>
                </a:lnTo>
                <a:lnTo>
                  <a:pt x="4" y="1750"/>
                </a:lnTo>
                <a:lnTo>
                  <a:pt x="4" y="1750"/>
                </a:lnTo>
                <a:lnTo>
                  <a:pt x="4" y="1752"/>
                </a:lnTo>
                <a:lnTo>
                  <a:pt x="6" y="1752"/>
                </a:lnTo>
                <a:close/>
              </a:path>
            </a:pathLst>
          </a:custGeom>
          <a:solidFill>
            <a:srgbClr val="46b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104"/>
          <p:cNvSpPr/>
          <p:nvPr/>
        </p:nvSpPr>
        <p:spPr>
          <a:xfrm>
            <a:off x="7149960" y="1917720"/>
            <a:ext cx="344520" cy="2768760"/>
          </a:xfrm>
          <a:custGeom>
            <a:avLst/>
            <a:gdLst>
              <a:gd name="textAreaLeft" fmla="*/ 0 w 344520"/>
              <a:gd name="textAreaRight" fmla="*/ 344880 w 344520"/>
              <a:gd name="textAreaTop" fmla="*/ 0 h 2768760"/>
              <a:gd name="textAreaBottom" fmla="*/ 2768760 h 2768760"/>
            </a:gdLst>
            <a:ahLst/>
            <a:rect l="textAreaLeft" t="textAreaTop" r="textAreaRight" b="textAreaBottom"/>
            <a:pathLst>
              <a:path w="217" h="1744">
                <a:moveTo>
                  <a:pt x="196" y="21"/>
                </a:moveTo>
                <a:lnTo>
                  <a:pt x="164" y="11"/>
                </a:lnTo>
                <a:lnTo>
                  <a:pt x="119" y="4"/>
                </a:lnTo>
                <a:lnTo>
                  <a:pt x="85" y="0"/>
                </a:lnTo>
                <a:lnTo>
                  <a:pt x="85" y="2"/>
                </a:lnTo>
                <a:lnTo>
                  <a:pt x="85" y="2"/>
                </a:lnTo>
                <a:lnTo>
                  <a:pt x="83" y="4"/>
                </a:lnTo>
                <a:lnTo>
                  <a:pt x="83" y="4"/>
                </a:lnTo>
                <a:lnTo>
                  <a:pt x="81" y="6"/>
                </a:lnTo>
                <a:lnTo>
                  <a:pt x="81" y="8"/>
                </a:lnTo>
                <a:lnTo>
                  <a:pt x="79" y="8"/>
                </a:lnTo>
                <a:lnTo>
                  <a:pt x="79" y="9"/>
                </a:lnTo>
                <a:lnTo>
                  <a:pt x="118" y="13"/>
                </a:lnTo>
                <a:lnTo>
                  <a:pt x="162" y="21"/>
                </a:lnTo>
                <a:lnTo>
                  <a:pt x="192" y="29"/>
                </a:lnTo>
                <a:lnTo>
                  <a:pt x="192" y="27"/>
                </a:lnTo>
                <a:lnTo>
                  <a:pt x="192" y="27"/>
                </a:lnTo>
                <a:lnTo>
                  <a:pt x="194" y="25"/>
                </a:lnTo>
                <a:lnTo>
                  <a:pt x="194" y="25"/>
                </a:lnTo>
                <a:lnTo>
                  <a:pt x="194" y="23"/>
                </a:lnTo>
                <a:lnTo>
                  <a:pt x="196" y="23"/>
                </a:lnTo>
                <a:lnTo>
                  <a:pt x="196" y="21"/>
                </a:lnTo>
                <a:lnTo>
                  <a:pt x="196" y="21"/>
                </a:lnTo>
                <a:close/>
                <a:moveTo>
                  <a:pt x="4" y="1744"/>
                </a:moveTo>
                <a:lnTo>
                  <a:pt x="31" y="1744"/>
                </a:lnTo>
                <a:lnTo>
                  <a:pt x="75" y="1740"/>
                </a:lnTo>
                <a:lnTo>
                  <a:pt x="119" y="1735"/>
                </a:lnTo>
                <a:lnTo>
                  <a:pt x="164" y="1727"/>
                </a:lnTo>
                <a:lnTo>
                  <a:pt x="206" y="1717"/>
                </a:lnTo>
                <a:lnTo>
                  <a:pt x="217" y="1713"/>
                </a:lnTo>
                <a:lnTo>
                  <a:pt x="215" y="1713"/>
                </a:lnTo>
                <a:lnTo>
                  <a:pt x="215" y="1711"/>
                </a:lnTo>
                <a:lnTo>
                  <a:pt x="213" y="1711"/>
                </a:lnTo>
                <a:lnTo>
                  <a:pt x="213" y="1710"/>
                </a:lnTo>
                <a:lnTo>
                  <a:pt x="213" y="1710"/>
                </a:lnTo>
                <a:lnTo>
                  <a:pt x="212" y="1708"/>
                </a:lnTo>
                <a:lnTo>
                  <a:pt x="212" y="1706"/>
                </a:lnTo>
                <a:lnTo>
                  <a:pt x="212" y="1706"/>
                </a:lnTo>
                <a:lnTo>
                  <a:pt x="202" y="1708"/>
                </a:lnTo>
                <a:lnTo>
                  <a:pt x="162" y="1717"/>
                </a:lnTo>
                <a:lnTo>
                  <a:pt x="118" y="1725"/>
                </a:lnTo>
                <a:lnTo>
                  <a:pt x="75" y="1731"/>
                </a:lnTo>
                <a:lnTo>
                  <a:pt x="31" y="1735"/>
                </a:lnTo>
                <a:lnTo>
                  <a:pt x="0" y="1735"/>
                </a:lnTo>
                <a:lnTo>
                  <a:pt x="0" y="1736"/>
                </a:lnTo>
                <a:lnTo>
                  <a:pt x="0" y="1736"/>
                </a:lnTo>
                <a:lnTo>
                  <a:pt x="2" y="1738"/>
                </a:lnTo>
                <a:lnTo>
                  <a:pt x="2" y="1740"/>
                </a:lnTo>
                <a:lnTo>
                  <a:pt x="2" y="1740"/>
                </a:lnTo>
                <a:lnTo>
                  <a:pt x="4" y="1742"/>
                </a:lnTo>
                <a:lnTo>
                  <a:pt x="4" y="1742"/>
                </a:lnTo>
                <a:lnTo>
                  <a:pt x="4" y="1744"/>
                </a:lnTo>
                <a:close/>
              </a:path>
            </a:pathLst>
          </a:custGeom>
          <a:solidFill>
            <a:srgbClr val="47b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105"/>
          <p:cNvSpPr/>
          <p:nvPr/>
        </p:nvSpPr>
        <p:spPr>
          <a:xfrm>
            <a:off x="7145280" y="1924200"/>
            <a:ext cx="343080" cy="2755800"/>
          </a:xfrm>
          <a:custGeom>
            <a:avLst/>
            <a:gdLst>
              <a:gd name="textAreaLeft" fmla="*/ 0 w 343080"/>
              <a:gd name="textAreaRight" fmla="*/ 343440 w 343080"/>
              <a:gd name="textAreaTop" fmla="*/ 0 h 2755800"/>
              <a:gd name="textAreaBottom" fmla="*/ 2756160 h 2755800"/>
            </a:gdLst>
            <a:ahLst/>
            <a:rect l="textAreaLeft" t="textAreaTop" r="textAreaRight" b="textAreaBottom"/>
            <a:pathLst>
              <a:path w="216" h="1736">
                <a:moveTo>
                  <a:pt x="197" y="21"/>
                </a:moveTo>
                <a:lnTo>
                  <a:pt x="165" y="13"/>
                </a:lnTo>
                <a:lnTo>
                  <a:pt x="122" y="5"/>
                </a:lnTo>
                <a:lnTo>
                  <a:pt x="86" y="0"/>
                </a:lnTo>
                <a:lnTo>
                  <a:pt x="84" y="2"/>
                </a:lnTo>
                <a:lnTo>
                  <a:pt x="84" y="4"/>
                </a:lnTo>
                <a:lnTo>
                  <a:pt x="84" y="4"/>
                </a:lnTo>
                <a:lnTo>
                  <a:pt x="82" y="5"/>
                </a:lnTo>
                <a:lnTo>
                  <a:pt x="82" y="5"/>
                </a:lnTo>
                <a:lnTo>
                  <a:pt x="80" y="7"/>
                </a:lnTo>
                <a:lnTo>
                  <a:pt x="80" y="7"/>
                </a:lnTo>
                <a:lnTo>
                  <a:pt x="78" y="9"/>
                </a:lnTo>
                <a:lnTo>
                  <a:pt x="121" y="15"/>
                </a:lnTo>
                <a:lnTo>
                  <a:pt x="163" y="23"/>
                </a:lnTo>
                <a:lnTo>
                  <a:pt x="192" y="29"/>
                </a:lnTo>
                <a:lnTo>
                  <a:pt x="193" y="29"/>
                </a:lnTo>
                <a:lnTo>
                  <a:pt x="193" y="27"/>
                </a:lnTo>
                <a:lnTo>
                  <a:pt x="193" y="27"/>
                </a:lnTo>
                <a:lnTo>
                  <a:pt x="195" y="25"/>
                </a:lnTo>
                <a:lnTo>
                  <a:pt x="195" y="23"/>
                </a:lnTo>
                <a:lnTo>
                  <a:pt x="195" y="23"/>
                </a:lnTo>
                <a:lnTo>
                  <a:pt x="197" y="21"/>
                </a:lnTo>
                <a:lnTo>
                  <a:pt x="197" y="21"/>
                </a:lnTo>
                <a:close/>
                <a:moveTo>
                  <a:pt x="5" y="1736"/>
                </a:moveTo>
                <a:lnTo>
                  <a:pt x="34" y="1734"/>
                </a:lnTo>
                <a:lnTo>
                  <a:pt x="78" y="1731"/>
                </a:lnTo>
                <a:lnTo>
                  <a:pt x="122" y="1727"/>
                </a:lnTo>
                <a:lnTo>
                  <a:pt x="165" y="1719"/>
                </a:lnTo>
                <a:lnTo>
                  <a:pt x="207" y="1707"/>
                </a:lnTo>
                <a:lnTo>
                  <a:pt x="216" y="1706"/>
                </a:lnTo>
                <a:lnTo>
                  <a:pt x="216" y="1706"/>
                </a:lnTo>
                <a:lnTo>
                  <a:pt x="215" y="1704"/>
                </a:lnTo>
                <a:lnTo>
                  <a:pt x="215" y="1702"/>
                </a:lnTo>
                <a:lnTo>
                  <a:pt x="215" y="1702"/>
                </a:lnTo>
                <a:lnTo>
                  <a:pt x="213" y="1700"/>
                </a:lnTo>
                <a:lnTo>
                  <a:pt x="213" y="1700"/>
                </a:lnTo>
                <a:lnTo>
                  <a:pt x="213" y="1698"/>
                </a:lnTo>
                <a:lnTo>
                  <a:pt x="211" y="1698"/>
                </a:lnTo>
                <a:lnTo>
                  <a:pt x="205" y="1700"/>
                </a:lnTo>
                <a:lnTo>
                  <a:pt x="163" y="1709"/>
                </a:lnTo>
                <a:lnTo>
                  <a:pt x="121" y="1717"/>
                </a:lnTo>
                <a:lnTo>
                  <a:pt x="78" y="1723"/>
                </a:lnTo>
                <a:lnTo>
                  <a:pt x="34" y="1725"/>
                </a:lnTo>
                <a:lnTo>
                  <a:pt x="0" y="1727"/>
                </a:lnTo>
                <a:lnTo>
                  <a:pt x="0" y="1727"/>
                </a:lnTo>
                <a:lnTo>
                  <a:pt x="2" y="1729"/>
                </a:lnTo>
                <a:lnTo>
                  <a:pt x="2" y="1731"/>
                </a:lnTo>
                <a:lnTo>
                  <a:pt x="3" y="1731"/>
                </a:lnTo>
                <a:lnTo>
                  <a:pt x="3" y="1732"/>
                </a:lnTo>
                <a:lnTo>
                  <a:pt x="3" y="1732"/>
                </a:lnTo>
                <a:lnTo>
                  <a:pt x="5" y="1734"/>
                </a:lnTo>
                <a:lnTo>
                  <a:pt x="5" y="1736"/>
                </a:lnTo>
                <a:close/>
              </a:path>
            </a:pathLst>
          </a:custGeom>
          <a:solidFill>
            <a:srgbClr val="48b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06"/>
          <p:cNvSpPr/>
          <p:nvPr/>
        </p:nvSpPr>
        <p:spPr>
          <a:xfrm>
            <a:off x="7142040" y="1932120"/>
            <a:ext cx="344520" cy="2739960"/>
          </a:xfrm>
          <a:custGeom>
            <a:avLst/>
            <a:gdLst>
              <a:gd name="textAreaLeft" fmla="*/ 0 w 344520"/>
              <a:gd name="textAreaRight" fmla="*/ 344880 w 344520"/>
              <a:gd name="textAreaTop" fmla="*/ 0 h 2739960"/>
              <a:gd name="textAreaBottom" fmla="*/ 2740320 h 2739960"/>
            </a:gdLst>
            <a:ahLst/>
            <a:rect l="textAreaLeft" t="textAreaTop" r="textAreaRight" b="textAreaBottom"/>
            <a:pathLst>
              <a:path w="217" h="1726">
                <a:moveTo>
                  <a:pt x="197" y="20"/>
                </a:moveTo>
                <a:lnTo>
                  <a:pt x="167" y="12"/>
                </a:lnTo>
                <a:lnTo>
                  <a:pt x="123" y="4"/>
                </a:lnTo>
                <a:lnTo>
                  <a:pt x="84" y="0"/>
                </a:lnTo>
                <a:lnTo>
                  <a:pt x="84" y="0"/>
                </a:lnTo>
                <a:lnTo>
                  <a:pt x="82" y="2"/>
                </a:lnTo>
                <a:lnTo>
                  <a:pt x="82" y="2"/>
                </a:lnTo>
                <a:lnTo>
                  <a:pt x="80" y="4"/>
                </a:lnTo>
                <a:lnTo>
                  <a:pt x="80" y="6"/>
                </a:lnTo>
                <a:lnTo>
                  <a:pt x="80" y="6"/>
                </a:lnTo>
                <a:lnTo>
                  <a:pt x="78" y="8"/>
                </a:lnTo>
                <a:lnTo>
                  <a:pt x="78" y="8"/>
                </a:lnTo>
                <a:lnTo>
                  <a:pt x="78" y="8"/>
                </a:lnTo>
                <a:lnTo>
                  <a:pt x="123" y="14"/>
                </a:lnTo>
                <a:lnTo>
                  <a:pt x="165" y="22"/>
                </a:lnTo>
                <a:lnTo>
                  <a:pt x="192" y="27"/>
                </a:lnTo>
                <a:lnTo>
                  <a:pt x="192" y="27"/>
                </a:lnTo>
                <a:lnTo>
                  <a:pt x="194" y="25"/>
                </a:lnTo>
                <a:lnTo>
                  <a:pt x="194" y="25"/>
                </a:lnTo>
                <a:lnTo>
                  <a:pt x="194" y="24"/>
                </a:lnTo>
                <a:lnTo>
                  <a:pt x="195" y="24"/>
                </a:lnTo>
                <a:lnTo>
                  <a:pt x="195" y="22"/>
                </a:lnTo>
                <a:lnTo>
                  <a:pt x="195" y="22"/>
                </a:lnTo>
                <a:lnTo>
                  <a:pt x="197" y="20"/>
                </a:lnTo>
                <a:close/>
                <a:moveTo>
                  <a:pt x="5" y="1726"/>
                </a:moveTo>
                <a:lnTo>
                  <a:pt x="36" y="1726"/>
                </a:lnTo>
                <a:lnTo>
                  <a:pt x="80" y="1722"/>
                </a:lnTo>
                <a:lnTo>
                  <a:pt x="123" y="1716"/>
                </a:lnTo>
                <a:lnTo>
                  <a:pt x="167" y="1708"/>
                </a:lnTo>
                <a:lnTo>
                  <a:pt x="207" y="1699"/>
                </a:lnTo>
                <a:lnTo>
                  <a:pt x="217" y="1697"/>
                </a:lnTo>
                <a:lnTo>
                  <a:pt x="215" y="1695"/>
                </a:lnTo>
                <a:lnTo>
                  <a:pt x="215" y="1695"/>
                </a:lnTo>
                <a:lnTo>
                  <a:pt x="215" y="1693"/>
                </a:lnTo>
                <a:lnTo>
                  <a:pt x="213" y="1693"/>
                </a:lnTo>
                <a:lnTo>
                  <a:pt x="213" y="1691"/>
                </a:lnTo>
                <a:lnTo>
                  <a:pt x="213" y="1691"/>
                </a:lnTo>
                <a:lnTo>
                  <a:pt x="211" y="1689"/>
                </a:lnTo>
                <a:lnTo>
                  <a:pt x="211" y="1689"/>
                </a:lnTo>
                <a:lnTo>
                  <a:pt x="205" y="1689"/>
                </a:lnTo>
                <a:lnTo>
                  <a:pt x="165" y="1699"/>
                </a:lnTo>
                <a:lnTo>
                  <a:pt x="123" y="1706"/>
                </a:lnTo>
                <a:lnTo>
                  <a:pt x="78" y="1712"/>
                </a:lnTo>
                <a:lnTo>
                  <a:pt x="36" y="1716"/>
                </a:lnTo>
                <a:lnTo>
                  <a:pt x="0" y="1716"/>
                </a:lnTo>
                <a:lnTo>
                  <a:pt x="0" y="1718"/>
                </a:lnTo>
                <a:lnTo>
                  <a:pt x="2" y="1718"/>
                </a:lnTo>
                <a:lnTo>
                  <a:pt x="2" y="1720"/>
                </a:lnTo>
                <a:lnTo>
                  <a:pt x="2" y="1722"/>
                </a:lnTo>
                <a:lnTo>
                  <a:pt x="2" y="1722"/>
                </a:lnTo>
                <a:lnTo>
                  <a:pt x="4" y="1724"/>
                </a:lnTo>
                <a:lnTo>
                  <a:pt x="4" y="1726"/>
                </a:lnTo>
                <a:lnTo>
                  <a:pt x="5" y="1726"/>
                </a:lnTo>
                <a:close/>
              </a:path>
            </a:pathLst>
          </a:custGeom>
          <a:solidFill>
            <a:srgbClr val="49b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107"/>
          <p:cNvSpPr/>
          <p:nvPr/>
        </p:nvSpPr>
        <p:spPr>
          <a:xfrm>
            <a:off x="7139160" y="1938240"/>
            <a:ext cx="341280" cy="2727360"/>
          </a:xfrm>
          <a:custGeom>
            <a:avLst/>
            <a:gdLst>
              <a:gd name="textAreaLeft" fmla="*/ 0 w 341280"/>
              <a:gd name="textAreaRight" fmla="*/ 341640 w 341280"/>
              <a:gd name="textAreaTop" fmla="*/ 0 h 2727360"/>
              <a:gd name="textAreaBottom" fmla="*/ 2727720 h 2727360"/>
            </a:gdLst>
            <a:ahLst/>
            <a:rect l="textAreaLeft" t="textAreaTop" r="textAreaRight" b="textAreaBottom"/>
            <a:pathLst>
              <a:path w="215" h="1718">
                <a:moveTo>
                  <a:pt x="196" y="20"/>
                </a:moveTo>
                <a:lnTo>
                  <a:pt x="167" y="14"/>
                </a:lnTo>
                <a:lnTo>
                  <a:pt x="125" y="6"/>
                </a:lnTo>
                <a:lnTo>
                  <a:pt x="82" y="0"/>
                </a:lnTo>
                <a:lnTo>
                  <a:pt x="82" y="2"/>
                </a:lnTo>
                <a:lnTo>
                  <a:pt x="82" y="2"/>
                </a:lnTo>
                <a:lnTo>
                  <a:pt x="80" y="4"/>
                </a:lnTo>
                <a:lnTo>
                  <a:pt x="80" y="4"/>
                </a:lnTo>
                <a:lnTo>
                  <a:pt x="78" y="6"/>
                </a:lnTo>
                <a:lnTo>
                  <a:pt x="78" y="8"/>
                </a:lnTo>
                <a:lnTo>
                  <a:pt x="78" y="8"/>
                </a:lnTo>
                <a:lnTo>
                  <a:pt x="77" y="10"/>
                </a:lnTo>
                <a:lnTo>
                  <a:pt x="80" y="10"/>
                </a:lnTo>
                <a:lnTo>
                  <a:pt x="123" y="16"/>
                </a:lnTo>
                <a:lnTo>
                  <a:pt x="165" y="23"/>
                </a:lnTo>
                <a:lnTo>
                  <a:pt x="192" y="29"/>
                </a:lnTo>
                <a:lnTo>
                  <a:pt x="192" y="27"/>
                </a:lnTo>
                <a:lnTo>
                  <a:pt x="192" y="27"/>
                </a:lnTo>
                <a:lnTo>
                  <a:pt x="194" y="25"/>
                </a:lnTo>
                <a:lnTo>
                  <a:pt x="194" y="23"/>
                </a:lnTo>
                <a:lnTo>
                  <a:pt x="194" y="23"/>
                </a:lnTo>
                <a:lnTo>
                  <a:pt x="196" y="21"/>
                </a:lnTo>
                <a:lnTo>
                  <a:pt x="196" y="21"/>
                </a:lnTo>
                <a:lnTo>
                  <a:pt x="196" y="20"/>
                </a:lnTo>
                <a:close/>
                <a:moveTo>
                  <a:pt x="4" y="1718"/>
                </a:moveTo>
                <a:lnTo>
                  <a:pt x="38" y="1716"/>
                </a:lnTo>
                <a:lnTo>
                  <a:pt x="82" y="1714"/>
                </a:lnTo>
                <a:lnTo>
                  <a:pt x="125" y="1708"/>
                </a:lnTo>
                <a:lnTo>
                  <a:pt x="167" y="1700"/>
                </a:lnTo>
                <a:lnTo>
                  <a:pt x="209" y="1691"/>
                </a:lnTo>
                <a:lnTo>
                  <a:pt x="215" y="1689"/>
                </a:lnTo>
                <a:lnTo>
                  <a:pt x="215" y="1687"/>
                </a:lnTo>
                <a:lnTo>
                  <a:pt x="215" y="1687"/>
                </a:lnTo>
                <a:lnTo>
                  <a:pt x="213" y="1685"/>
                </a:lnTo>
                <a:lnTo>
                  <a:pt x="213" y="1685"/>
                </a:lnTo>
                <a:lnTo>
                  <a:pt x="213" y="1683"/>
                </a:lnTo>
                <a:lnTo>
                  <a:pt x="211" y="1681"/>
                </a:lnTo>
                <a:lnTo>
                  <a:pt x="211" y="1681"/>
                </a:lnTo>
                <a:lnTo>
                  <a:pt x="209" y="1679"/>
                </a:lnTo>
                <a:lnTo>
                  <a:pt x="207" y="1681"/>
                </a:lnTo>
                <a:lnTo>
                  <a:pt x="165" y="1691"/>
                </a:lnTo>
                <a:lnTo>
                  <a:pt x="123" y="1698"/>
                </a:lnTo>
                <a:lnTo>
                  <a:pt x="80" y="1704"/>
                </a:lnTo>
                <a:lnTo>
                  <a:pt x="38" y="1706"/>
                </a:lnTo>
                <a:lnTo>
                  <a:pt x="0" y="1708"/>
                </a:lnTo>
                <a:lnTo>
                  <a:pt x="0" y="1708"/>
                </a:lnTo>
                <a:lnTo>
                  <a:pt x="0" y="1710"/>
                </a:lnTo>
                <a:lnTo>
                  <a:pt x="2" y="1712"/>
                </a:lnTo>
                <a:lnTo>
                  <a:pt x="2" y="1712"/>
                </a:lnTo>
                <a:lnTo>
                  <a:pt x="2" y="1714"/>
                </a:lnTo>
                <a:lnTo>
                  <a:pt x="2" y="1714"/>
                </a:lnTo>
                <a:lnTo>
                  <a:pt x="4" y="1716"/>
                </a:lnTo>
                <a:lnTo>
                  <a:pt x="4" y="1718"/>
                </a:lnTo>
                <a:close/>
              </a:path>
            </a:pathLst>
          </a:custGeom>
          <a:solidFill>
            <a:srgbClr val="4ab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08"/>
          <p:cNvSpPr/>
          <p:nvPr/>
        </p:nvSpPr>
        <p:spPr>
          <a:xfrm>
            <a:off x="7132680" y="1944720"/>
            <a:ext cx="344520" cy="2711520"/>
          </a:xfrm>
          <a:custGeom>
            <a:avLst/>
            <a:gdLst>
              <a:gd name="textAreaLeft" fmla="*/ 0 w 344520"/>
              <a:gd name="textAreaRight" fmla="*/ 344880 w 344520"/>
              <a:gd name="textAreaTop" fmla="*/ 0 h 2711520"/>
              <a:gd name="textAreaBottom" fmla="*/ 2711880 h 2711520"/>
            </a:gdLst>
            <a:ahLst/>
            <a:rect l="textAreaLeft" t="textAreaTop" r="textAreaRight" b="textAreaBottom"/>
            <a:pathLst>
              <a:path w="217" h="1708">
                <a:moveTo>
                  <a:pt x="198" y="19"/>
                </a:moveTo>
                <a:lnTo>
                  <a:pt x="171" y="14"/>
                </a:lnTo>
                <a:lnTo>
                  <a:pt x="129" y="6"/>
                </a:lnTo>
                <a:lnTo>
                  <a:pt x="84" y="0"/>
                </a:lnTo>
                <a:lnTo>
                  <a:pt x="84" y="0"/>
                </a:lnTo>
                <a:lnTo>
                  <a:pt x="82" y="2"/>
                </a:lnTo>
                <a:lnTo>
                  <a:pt x="82" y="2"/>
                </a:lnTo>
                <a:lnTo>
                  <a:pt x="82" y="4"/>
                </a:lnTo>
                <a:lnTo>
                  <a:pt x="81" y="6"/>
                </a:lnTo>
                <a:lnTo>
                  <a:pt x="81" y="6"/>
                </a:lnTo>
                <a:lnTo>
                  <a:pt x="79" y="8"/>
                </a:lnTo>
                <a:lnTo>
                  <a:pt x="79" y="8"/>
                </a:lnTo>
                <a:lnTo>
                  <a:pt x="77" y="10"/>
                </a:lnTo>
                <a:lnTo>
                  <a:pt x="84" y="10"/>
                </a:lnTo>
                <a:lnTo>
                  <a:pt x="127" y="16"/>
                </a:lnTo>
                <a:lnTo>
                  <a:pt x="169" y="23"/>
                </a:lnTo>
                <a:lnTo>
                  <a:pt x="192" y="29"/>
                </a:lnTo>
                <a:lnTo>
                  <a:pt x="194" y="27"/>
                </a:lnTo>
                <a:lnTo>
                  <a:pt x="194" y="27"/>
                </a:lnTo>
                <a:lnTo>
                  <a:pt x="194" y="25"/>
                </a:lnTo>
                <a:lnTo>
                  <a:pt x="196" y="25"/>
                </a:lnTo>
                <a:lnTo>
                  <a:pt x="196" y="23"/>
                </a:lnTo>
                <a:lnTo>
                  <a:pt x="196" y="23"/>
                </a:lnTo>
                <a:lnTo>
                  <a:pt x="198" y="21"/>
                </a:lnTo>
                <a:lnTo>
                  <a:pt x="198" y="19"/>
                </a:lnTo>
                <a:close/>
                <a:moveTo>
                  <a:pt x="6" y="1708"/>
                </a:moveTo>
                <a:lnTo>
                  <a:pt x="42" y="1708"/>
                </a:lnTo>
                <a:lnTo>
                  <a:pt x="84" y="1704"/>
                </a:lnTo>
                <a:lnTo>
                  <a:pt x="129" y="1698"/>
                </a:lnTo>
                <a:lnTo>
                  <a:pt x="171" y="1691"/>
                </a:lnTo>
                <a:lnTo>
                  <a:pt x="211" y="1681"/>
                </a:lnTo>
                <a:lnTo>
                  <a:pt x="217" y="1681"/>
                </a:lnTo>
                <a:lnTo>
                  <a:pt x="217" y="1679"/>
                </a:lnTo>
                <a:lnTo>
                  <a:pt x="215" y="1677"/>
                </a:lnTo>
                <a:lnTo>
                  <a:pt x="215" y="1677"/>
                </a:lnTo>
                <a:lnTo>
                  <a:pt x="213" y="1675"/>
                </a:lnTo>
                <a:lnTo>
                  <a:pt x="213" y="1675"/>
                </a:lnTo>
                <a:lnTo>
                  <a:pt x="213" y="1673"/>
                </a:lnTo>
                <a:lnTo>
                  <a:pt x="211" y="1673"/>
                </a:lnTo>
                <a:lnTo>
                  <a:pt x="211" y="1671"/>
                </a:lnTo>
                <a:lnTo>
                  <a:pt x="209" y="1673"/>
                </a:lnTo>
                <a:lnTo>
                  <a:pt x="169" y="1681"/>
                </a:lnTo>
                <a:lnTo>
                  <a:pt x="127" y="1689"/>
                </a:lnTo>
                <a:lnTo>
                  <a:pt x="84" y="1694"/>
                </a:lnTo>
                <a:lnTo>
                  <a:pt x="40" y="1698"/>
                </a:lnTo>
                <a:lnTo>
                  <a:pt x="0" y="1698"/>
                </a:lnTo>
                <a:lnTo>
                  <a:pt x="2" y="1700"/>
                </a:lnTo>
                <a:lnTo>
                  <a:pt x="2" y="1702"/>
                </a:lnTo>
                <a:lnTo>
                  <a:pt x="2" y="1702"/>
                </a:lnTo>
                <a:lnTo>
                  <a:pt x="4" y="1704"/>
                </a:lnTo>
                <a:lnTo>
                  <a:pt x="4" y="1704"/>
                </a:lnTo>
                <a:lnTo>
                  <a:pt x="4" y="1706"/>
                </a:lnTo>
                <a:lnTo>
                  <a:pt x="6" y="1708"/>
                </a:lnTo>
                <a:lnTo>
                  <a:pt x="6" y="1708"/>
                </a:lnTo>
                <a:close/>
              </a:path>
            </a:pathLst>
          </a:custGeom>
          <a:solidFill>
            <a:srgbClr val="4b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109"/>
          <p:cNvSpPr/>
          <p:nvPr/>
        </p:nvSpPr>
        <p:spPr>
          <a:xfrm>
            <a:off x="7129440" y="1954080"/>
            <a:ext cx="341280" cy="2695680"/>
          </a:xfrm>
          <a:custGeom>
            <a:avLst/>
            <a:gdLst>
              <a:gd name="textAreaLeft" fmla="*/ 0 w 341280"/>
              <a:gd name="textAreaRight" fmla="*/ 341640 w 341280"/>
              <a:gd name="textAreaTop" fmla="*/ 0 h 2695680"/>
              <a:gd name="textAreaBottom" fmla="*/ 2696040 h 2695680"/>
            </a:gdLst>
            <a:ahLst/>
            <a:rect l="textAreaLeft" t="textAreaTop" r="textAreaRight" b="textAreaBottom"/>
            <a:pathLst>
              <a:path w="215" h="1698">
                <a:moveTo>
                  <a:pt x="198" y="19"/>
                </a:moveTo>
                <a:lnTo>
                  <a:pt x="171" y="13"/>
                </a:lnTo>
                <a:lnTo>
                  <a:pt x="129" y="6"/>
                </a:lnTo>
                <a:lnTo>
                  <a:pt x="86" y="0"/>
                </a:lnTo>
                <a:lnTo>
                  <a:pt x="83" y="0"/>
                </a:lnTo>
                <a:lnTo>
                  <a:pt x="83" y="0"/>
                </a:lnTo>
                <a:lnTo>
                  <a:pt x="81" y="2"/>
                </a:lnTo>
                <a:lnTo>
                  <a:pt x="81" y="2"/>
                </a:lnTo>
                <a:lnTo>
                  <a:pt x="79" y="4"/>
                </a:lnTo>
                <a:lnTo>
                  <a:pt x="79" y="6"/>
                </a:lnTo>
                <a:lnTo>
                  <a:pt x="79" y="6"/>
                </a:lnTo>
                <a:lnTo>
                  <a:pt x="77" y="8"/>
                </a:lnTo>
                <a:lnTo>
                  <a:pt x="77" y="8"/>
                </a:lnTo>
                <a:lnTo>
                  <a:pt x="86" y="10"/>
                </a:lnTo>
                <a:lnTo>
                  <a:pt x="129" y="15"/>
                </a:lnTo>
                <a:lnTo>
                  <a:pt x="169" y="21"/>
                </a:lnTo>
                <a:lnTo>
                  <a:pt x="192" y="27"/>
                </a:lnTo>
                <a:lnTo>
                  <a:pt x="192" y="27"/>
                </a:lnTo>
                <a:lnTo>
                  <a:pt x="194" y="25"/>
                </a:lnTo>
                <a:lnTo>
                  <a:pt x="194" y="23"/>
                </a:lnTo>
                <a:lnTo>
                  <a:pt x="194" y="23"/>
                </a:lnTo>
                <a:lnTo>
                  <a:pt x="196" y="21"/>
                </a:lnTo>
                <a:lnTo>
                  <a:pt x="196" y="21"/>
                </a:lnTo>
                <a:lnTo>
                  <a:pt x="196" y="19"/>
                </a:lnTo>
                <a:lnTo>
                  <a:pt x="198" y="19"/>
                </a:lnTo>
                <a:close/>
                <a:moveTo>
                  <a:pt x="6" y="1698"/>
                </a:moveTo>
                <a:lnTo>
                  <a:pt x="44" y="1696"/>
                </a:lnTo>
                <a:lnTo>
                  <a:pt x="86" y="1694"/>
                </a:lnTo>
                <a:lnTo>
                  <a:pt x="129" y="1688"/>
                </a:lnTo>
                <a:lnTo>
                  <a:pt x="171" y="1681"/>
                </a:lnTo>
                <a:lnTo>
                  <a:pt x="213" y="1671"/>
                </a:lnTo>
                <a:lnTo>
                  <a:pt x="215" y="1669"/>
                </a:lnTo>
                <a:lnTo>
                  <a:pt x="215" y="1669"/>
                </a:lnTo>
                <a:lnTo>
                  <a:pt x="215" y="1667"/>
                </a:lnTo>
                <a:lnTo>
                  <a:pt x="213" y="1667"/>
                </a:lnTo>
                <a:lnTo>
                  <a:pt x="213" y="1665"/>
                </a:lnTo>
                <a:lnTo>
                  <a:pt x="213" y="1665"/>
                </a:lnTo>
                <a:lnTo>
                  <a:pt x="211" y="1664"/>
                </a:lnTo>
                <a:lnTo>
                  <a:pt x="211" y="1664"/>
                </a:lnTo>
                <a:lnTo>
                  <a:pt x="211" y="1662"/>
                </a:lnTo>
                <a:lnTo>
                  <a:pt x="209" y="1662"/>
                </a:lnTo>
                <a:lnTo>
                  <a:pt x="169" y="1671"/>
                </a:lnTo>
                <a:lnTo>
                  <a:pt x="129" y="1679"/>
                </a:lnTo>
                <a:lnTo>
                  <a:pt x="86" y="1685"/>
                </a:lnTo>
                <a:lnTo>
                  <a:pt x="42" y="1687"/>
                </a:lnTo>
                <a:lnTo>
                  <a:pt x="0" y="1688"/>
                </a:lnTo>
                <a:lnTo>
                  <a:pt x="0" y="1690"/>
                </a:lnTo>
                <a:lnTo>
                  <a:pt x="2" y="1690"/>
                </a:lnTo>
                <a:lnTo>
                  <a:pt x="2" y="1692"/>
                </a:lnTo>
                <a:lnTo>
                  <a:pt x="2" y="1692"/>
                </a:lnTo>
                <a:lnTo>
                  <a:pt x="4" y="1694"/>
                </a:lnTo>
                <a:lnTo>
                  <a:pt x="4" y="1696"/>
                </a:lnTo>
                <a:lnTo>
                  <a:pt x="4" y="1696"/>
                </a:lnTo>
                <a:lnTo>
                  <a:pt x="6" y="1698"/>
                </a:lnTo>
                <a:close/>
              </a:path>
            </a:pathLst>
          </a:custGeom>
          <a:solidFill>
            <a:srgbClr val="4c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110"/>
          <p:cNvSpPr/>
          <p:nvPr/>
        </p:nvSpPr>
        <p:spPr>
          <a:xfrm>
            <a:off x="7126200" y="1960560"/>
            <a:ext cx="341280" cy="2679840"/>
          </a:xfrm>
          <a:custGeom>
            <a:avLst/>
            <a:gdLst>
              <a:gd name="textAreaLeft" fmla="*/ 0 w 341280"/>
              <a:gd name="textAreaRight" fmla="*/ 341640 w 341280"/>
              <a:gd name="textAreaTop" fmla="*/ 0 h 2679840"/>
              <a:gd name="textAreaBottom" fmla="*/ 2680200 h 2679840"/>
            </a:gdLst>
            <a:ahLst/>
            <a:rect l="textAreaLeft" t="textAreaTop" r="textAreaRight" b="textAreaBottom"/>
            <a:pathLst>
              <a:path w="215" h="1688">
                <a:moveTo>
                  <a:pt x="196" y="19"/>
                </a:moveTo>
                <a:lnTo>
                  <a:pt x="173" y="13"/>
                </a:lnTo>
                <a:lnTo>
                  <a:pt x="131" y="6"/>
                </a:lnTo>
                <a:lnTo>
                  <a:pt x="88" y="0"/>
                </a:lnTo>
                <a:lnTo>
                  <a:pt x="81" y="0"/>
                </a:lnTo>
                <a:lnTo>
                  <a:pt x="81" y="2"/>
                </a:lnTo>
                <a:lnTo>
                  <a:pt x="81" y="2"/>
                </a:lnTo>
                <a:lnTo>
                  <a:pt x="79" y="4"/>
                </a:lnTo>
                <a:lnTo>
                  <a:pt x="79" y="4"/>
                </a:lnTo>
                <a:lnTo>
                  <a:pt x="77" y="6"/>
                </a:lnTo>
                <a:lnTo>
                  <a:pt x="77" y="7"/>
                </a:lnTo>
                <a:lnTo>
                  <a:pt x="77" y="7"/>
                </a:lnTo>
                <a:lnTo>
                  <a:pt x="75" y="9"/>
                </a:lnTo>
                <a:lnTo>
                  <a:pt x="86" y="9"/>
                </a:lnTo>
                <a:lnTo>
                  <a:pt x="129" y="15"/>
                </a:lnTo>
                <a:lnTo>
                  <a:pt x="171" y="23"/>
                </a:lnTo>
                <a:lnTo>
                  <a:pt x="192" y="27"/>
                </a:lnTo>
                <a:lnTo>
                  <a:pt x="192" y="27"/>
                </a:lnTo>
                <a:lnTo>
                  <a:pt x="194" y="25"/>
                </a:lnTo>
                <a:lnTo>
                  <a:pt x="194" y="25"/>
                </a:lnTo>
                <a:lnTo>
                  <a:pt x="194" y="23"/>
                </a:lnTo>
                <a:lnTo>
                  <a:pt x="194" y="23"/>
                </a:lnTo>
                <a:lnTo>
                  <a:pt x="196" y="21"/>
                </a:lnTo>
                <a:lnTo>
                  <a:pt x="196" y="19"/>
                </a:lnTo>
                <a:lnTo>
                  <a:pt x="196" y="19"/>
                </a:lnTo>
                <a:close/>
                <a:moveTo>
                  <a:pt x="4" y="1688"/>
                </a:moveTo>
                <a:lnTo>
                  <a:pt x="44" y="1688"/>
                </a:lnTo>
                <a:lnTo>
                  <a:pt x="88" y="1684"/>
                </a:lnTo>
                <a:lnTo>
                  <a:pt x="131" y="1679"/>
                </a:lnTo>
                <a:lnTo>
                  <a:pt x="173" y="1671"/>
                </a:lnTo>
                <a:lnTo>
                  <a:pt x="213" y="1663"/>
                </a:lnTo>
                <a:lnTo>
                  <a:pt x="215" y="1661"/>
                </a:lnTo>
                <a:lnTo>
                  <a:pt x="215" y="1661"/>
                </a:lnTo>
                <a:lnTo>
                  <a:pt x="213" y="1660"/>
                </a:lnTo>
                <a:lnTo>
                  <a:pt x="213" y="1660"/>
                </a:lnTo>
                <a:lnTo>
                  <a:pt x="213" y="1658"/>
                </a:lnTo>
                <a:lnTo>
                  <a:pt x="211" y="1658"/>
                </a:lnTo>
                <a:lnTo>
                  <a:pt x="211" y="1656"/>
                </a:lnTo>
                <a:lnTo>
                  <a:pt x="211" y="1654"/>
                </a:lnTo>
                <a:lnTo>
                  <a:pt x="209" y="1654"/>
                </a:lnTo>
                <a:lnTo>
                  <a:pt x="171" y="1663"/>
                </a:lnTo>
                <a:lnTo>
                  <a:pt x="129" y="1669"/>
                </a:lnTo>
                <a:lnTo>
                  <a:pt x="86" y="1675"/>
                </a:lnTo>
                <a:lnTo>
                  <a:pt x="44" y="1679"/>
                </a:lnTo>
                <a:lnTo>
                  <a:pt x="2" y="1681"/>
                </a:lnTo>
                <a:lnTo>
                  <a:pt x="0" y="1679"/>
                </a:lnTo>
                <a:lnTo>
                  <a:pt x="0" y="1681"/>
                </a:lnTo>
                <a:lnTo>
                  <a:pt x="0" y="1683"/>
                </a:lnTo>
                <a:lnTo>
                  <a:pt x="2" y="1683"/>
                </a:lnTo>
                <a:lnTo>
                  <a:pt x="2" y="1684"/>
                </a:lnTo>
                <a:lnTo>
                  <a:pt x="2" y="1686"/>
                </a:lnTo>
                <a:lnTo>
                  <a:pt x="4" y="1686"/>
                </a:lnTo>
                <a:lnTo>
                  <a:pt x="4" y="1688"/>
                </a:lnTo>
                <a:lnTo>
                  <a:pt x="4" y="1688"/>
                </a:lnTo>
                <a:close/>
              </a:path>
            </a:pathLst>
          </a:custGeom>
          <a:solidFill>
            <a:srgbClr val="4d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111"/>
          <p:cNvSpPr/>
          <p:nvPr/>
        </p:nvSpPr>
        <p:spPr>
          <a:xfrm>
            <a:off x="7120080" y="1967040"/>
            <a:ext cx="344520" cy="2666880"/>
          </a:xfrm>
          <a:custGeom>
            <a:avLst/>
            <a:gdLst>
              <a:gd name="textAreaLeft" fmla="*/ 0 w 344520"/>
              <a:gd name="textAreaRight" fmla="*/ 344880 w 3445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7" h="1680">
                <a:moveTo>
                  <a:pt x="198" y="19"/>
                </a:moveTo>
                <a:lnTo>
                  <a:pt x="175" y="13"/>
                </a:lnTo>
                <a:lnTo>
                  <a:pt x="135" y="7"/>
                </a:lnTo>
                <a:lnTo>
                  <a:pt x="92" y="2"/>
                </a:lnTo>
                <a:lnTo>
                  <a:pt x="83" y="0"/>
                </a:lnTo>
                <a:lnTo>
                  <a:pt x="81" y="2"/>
                </a:lnTo>
                <a:lnTo>
                  <a:pt x="81" y="3"/>
                </a:lnTo>
                <a:lnTo>
                  <a:pt x="81" y="3"/>
                </a:lnTo>
                <a:lnTo>
                  <a:pt x="79" y="5"/>
                </a:lnTo>
                <a:lnTo>
                  <a:pt x="79" y="5"/>
                </a:lnTo>
                <a:lnTo>
                  <a:pt x="77" y="7"/>
                </a:lnTo>
                <a:lnTo>
                  <a:pt x="77" y="7"/>
                </a:lnTo>
                <a:lnTo>
                  <a:pt x="75" y="9"/>
                </a:lnTo>
                <a:lnTo>
                  <a:pt x="90" y="11"/>
                </a:lnTo>
                <a:lnTo>
                  <a:pt x="133" y="15"/>
                </a:lnTo>
                <a:lnTo>
                  <a:pt x="173" y="23"/>
                </a:lnTo>
                <a:lnTo>
                  <a:pt x="194" y="28"/>
                </a:lnTo>
                <a:lnTo>
                  <a:pt x="194" y="26"/>
                </a:lnTo>
                <a:lnTo>
                  <a:pt x="194" y="26"/>
                </a:lnTo>
                <a:lnTo>
                  <a:pt x="196" y="25"/>
                </a:lnTo>
                <a:lnTo>
                  <a:pt x="196" y="23"/>
                </a:lnTo>
                <a:lnTo>
                  <a:pt x="196" y="23"/>
                </a:lnTo>
                <a:lnTo>
                  <a:pt x="198" y="21"/>
                </a:lnTo>
                <a:lnTo>
                  <a:pt x="198" y="21"/>
                </a:lnTo>
                <a:lnTo>
                  <a:pt x="198" y="19"/>
                </a:lnTo>
                <a:close/>
                <a:moveTo>
                  <a:pt x="6" y="1680"/>
                </a:moveTo>
                <a:lnTo>
                  <a:pt x="48" y="1679"/>
                </a:lnTo>
                <a:lnTo>
                  <a:pt x="92" y="1677"/>
                </a:lnTo>
                <a:lnTo>
                  <a:pt x="135" y="1671"/>
                </a:lnTo>
                <a:lnTo>
                  <a:pt x="175" y="1663"/>
                </a:lnTo>
                <a:lnTo>
                  <a:pt x="215" y="1654"/>
                </a:lnTo>
                <a:lnTo>
                  <a:pt x="217" y="1654"/>
                </a:lnTo>
                <a:lnTo>
                  <a:pt x="215" y="1654"/>
                </a:lnTo>
                <a:lnTo>
                  <a:pt x="215" y="1652"/>
                </a:lnTo>
                <a:lnTo>
                  <a:pt x="215" y="1650"/>
                </a:lnTo>
                <a:lnTo>
                  <a:pt x="213" y="1650"/>
                </a:lnTo>
                <a:lnTo>
                  <a:pt x="213" y="1648"/>
                </a:lnTo>
                <a:lnTo>
                  <a:pt x="213" y="1648"/>
                </a:lnTo>
                <a:lnTo>
                  <a:pt x="211" y="1646"/>
                </a:lnTo>
                <a:lnTo>
                  <a:pt x="211" y="1646"/>
                </a:lnTo>
                <a:lnTo>
                  <a:pt x="173" y="1654"/>
                </a:lnTo>
                <a:lnTo>
                  <a:pt x="133" y="1661"/>
                </a:lnTo>
                <a:lnTo>
                  <a:pt x="90" y="1667"/>
                </a:lnTo>
                <a:lnTo>
                  <a:pt x="48" y="1669"/>
                </a:lnTo>
                <a:lnTo>
                  <a:pt x="6" y="1671"/>
                </a:lnTo>
                <a:lnTo>
                  <a:pt x="0" y="1671"/>
                </a:lnTo>
                <a:lnTo>
                  <a:pt x="2" y="1673"/>
                </a:lnTo>
                <a:lnTo>
                  <a:pt x="2" y="1673"/>
                </a:lnTo>
                <a:lnTo>
                  <a:pt x="2" y="1675"/>
                </a:lnTo>
                <a:lnTo>
                  <a:pt x="4" y="1675"/>
                </a:lnTo>
                <a:lnTo>
                  <a:pt x="4" y="1677"/>
                </a:lnTo>
                <a:lnTo>
                  <a:pt x="4" y="1679"/>
                </a:lnTo>
                <a:lnTo>
                  <a:pt x="6" y="1679"/>
                </a:lnTo>
                <a:lnTo>
                  <a:pt x="6" y="1680"/>
                </a:lnTo>
                <a:close/>
              </a:path>
            </a:pathLst>
          </a:custGeom>
          <a:solidFill>
            <a:srgbClr val="4e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112"/>
          <p:cNvSpPr/>
          <p:nvPr/>
        </p:nvSpPr>
        <p:spPr>
          <a:xfrm>
            <a:off x="7116840" y="1974960"/>
            <a:ext cx="341280" cy="2654280"/>
          </a:xfrm>
          <a:custGeom>
            <a:avLst/>
            <a:gdLst>
              <a:gd name="textAreaLeft" fmla="*/ 0 w 341280"/>
              <a:gd name="textAreaRight" fmla="*/ 341640 w 341280"/>
              <a:gd name="textAreaTop" fmla="*/ 0 h 2654280"/>
              <a:gd name="textAreaBottom" fmla="*/ 2654640 h 2654280"/>
            </a:gdLst>
            <a:ahLst/>
            <a:rect l="textAreaLeft" t="textAreaTop" r="textAreaRight" b="textAreaBottom"/>
            <a:pathLst>
              <a:path w="215" h="1672">
                <a:moveTo>
                  <a:pt x="198" y="18"/>
                </a:moveTo>
                <a:lnTo>
                  <a:pt x="177" y="14"/>
                </a:lnTo>
                <a:lnTo>
                  <a:pt x="135" y="6"/>
                </a:lnTo>
                <a:lnTo>
                  <a:pt x="92" y="0"/>
                </a:lnTo>
                <a:lnTo>
                  <a:pt x="81" y="0"/>
                </a:lnTo>
                <a:lnTo>
                  <a:pt x="81" y="0"/>
                </a:lnTo>
                <a:lnTo>
                  <a:pt x="79" y="2"/>
                </a:lnTo>
                <a:lnTo>
                  <a:pt x="79" y="2"/>
                </a:lnTo>
                <a:lnTo>
                  <a:pt x="77" y="4"/>
                </a:lnTo>
                <a:lnTo>
                  <a:pt x="77" y="6"/>
                </a:lnTo>
                <a:lnTo>
                  <a:pt x="77" y="6"/>
                </a:lnTo>
                <a:lnTo>
                  <a:pt x="75" y="8"/>
                </a:lnTo>
                <a:lnTo>
                  <a:pt x="75" y="8"/>
                </a:lnTo>
                <a:lnTo>
                  <a:pt x="92" y="10"/>
                </a:lnTo>
                <a:lnTo>
                  <a:pt x="133" y="16"/>
                </a:lnTo>
                <a:lnTo>
                  <a:pt x="175" y="23"/>
                </a:lnTo>
                <a:lnTo>
                  <a:pt x="192" y="27"/>
                </a:lnTo>
                <a:lnTo>
                  <a:pt x="194" y="25"/>
                </a:lnTo>
                <a:lnTo>
                  <a:pt x="194" y="25"/>
                </a:lnTo>
                <a:lnTo>
                  <a:pt x="194" y="23"/>
                </a:lnTo>
                <a:lnTo>
                  <a:pt x="196" y="23"/>
                </a:lnTo>
                <a:lnTo>
                  <a:pt x="196" y="21"/>
                </a:lnTo>
                <a:lnTo>
                  <a:pt x="196" y="21"/>
                </a:lnTo>
                <a:lnTo>
                  <a:pt x="198" y="20"/>
                </a:lnTo>
                <a:lnTo>
                  <a:pt x="198" y="18"/>
                </a:lnTo>
                <a:close/>
                <a:moveTo>
                  <a:pt x="6" y="1670"/>
                </a:moveTo>
                <a:lnTo>
                  <a:pt x="8" y="1672"/>
                </a:lnTo>
                <a:lnTo>
                  <a:pt x="50" y="1670"/>
                </a:lnTo>
                <a:lnTo>
                  <a:pt x="92" y="1666"/>
                </a:lnTo>
                <a:lnTo>
                  <a:pt x="135" y="1660"/>
                </a:lnTo>
                <a:lnTo>
                  <a:pt x="177" y="1654"/>
                </a:lnTo>
                <a:lnTo>
                  <a:pt x="215" y="1645"/>
                </a:lnTo>
                <a:lnTo>
                  <a:pt x="215" y="1643"/>
                </a:lnTo>
                <a:lnTo>
                  <a:pt x="215" y="1643"/>
                </a:lnTo>
                <a:lnTo>
                  <a:pt x="213" y="1641"/>
                </a:lnTo>
                <a:lnTo>
                  <a:pt x="213" y="1641"/>
                </a:lnTo>
                <a:lnTo>
                  <a:pt x="211" y="1639"/>
                </a:lnTo>
                <a:lnTo>
                  <a:pt x="211" y="1639"/>
                </a:lnTo>
                <a:lnTo>
                  <a:pt x="211" y="1637"/>
                </a:lnTo>
                <a:lnTo>
                  <a:pt x="210" y="1635"/>
                </a:lnTo>
                <a:lnTo>
                  <a:pt x="175" y="1645"/>
                </a:lnTo>
                <a:lnTo>
                  <a:pt x="133" y="1652"/>
                </a:lnTo>
                <a:lnTo>
                  <a:pt x="92" y="1656"/>
                </a:lnTo>
                <a:lnTo>
                  <a:pt x="50" y="1660"/>
                </a:lnTo>
                <a:lnTo>
                  <a:pt x="8" y="1662"/>
                </a:lnTo>
                <a:lnTo>
                  <a:pt x="0" y="1660"/>
                </a:lnTo>
                <a:lnTo>
                  <a:pt x="0" y="1662"/>
                </a:lnTo>
                <a:lnTo>
                  <a:pt x="2" y="1664"/>
                </a:lnTo>
                <a:lnTo>
                  <a:pt x="2" y="1664"/>
                </a:lnTo>
                <a:lnTo>
                  <a:pt x="2" y="1666"/>
                </a:lnTo>
                <a:lnTo>
                  <a:pt x="4" y="1668"/>
                </a:lnTo>
                <a:lnTo>
                  <a:pt x="4" y="1668"/>
                </a:lnTo>
                <a:lnTo>
                  <a:pt x="4" y="1670"/>
                </a:lnTo>
                <a:lnTo>
                  <a:pt x="6" y="1670"/>
                </a:lnTo>
                <a:close/>
              </a:path>
            </a:pathLst>
          </a:custGeom>
          <a:solidFill>
            <a:srgbClr val="4f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113"/>
          <p:cNvSpPr/>
          <p:nvPr/>
        </p:nvSpPr>
        <p:spPr>
          <a:xfrm>
            <a:off x="7113600" y="1981080"/>
            <a:ext cx="341280" cy="2638440"/>
          </a:xfrm>
          <a:custGeom>
            <a:avLst/>
            <a:gdLst>
              <a:gd name="textAreaLeft" fmla="*/ 0 w 341280"/>
              <a:gd name="textAreaRight" fmla="*/ 341640 w 341280"/>
              <a:gd name="textAreaTop" fmla="*/ 0 h 2638440"/>
              <a:gd name="textAreaBottom" fmla="*/ 2638800 h 2638440"/>
            </a:gdLst>
            <a:ahLst/>
            <a:rect l="textAreaLeft" t="textAreaTop" r="textAreaRight" b="textAreaBottom"/>
            <a:pathLst>
              <a:path w="215" h="1662">
                <a:moveTo>
                  <a:pt x="198" y="19"/>
                </a:moveTo>
                <a:lnTo>
                  <a:pt x="177" y="14"/>
                </a:lnTo>
                <a:lnTo>
                  <a:pt x="137" y="6"/>
                </a:lnTo>
                <a:lnTo>
                  <a:pt x="94" y="2"/>
                </a:lnTo>
                <a:lnTo>
                  <a:pt x="79" y="0"/>
                </a:lnTo>
                <a:lnTo>
                  <a:pt x="79" y="2"/>
                </a:lnTo>
                <a:lnTo>
                  <a:pt x="79" y="2"/>
                </a:lnTo>
                <a:lnTo>
                  <a:pt x="77" y="4"/>
                </a:lnTo>
                <a:lnTo>
                  <a:pt x="77" y="4"/>
                </a:lnTo>
                <a:lnTo>
                  <a:pt x="75" y="6"/>
                </a:lnTo>
                <a:lnTo>
                  <a:pt x="75" y="8"/>
                </a:lnTo>
                <a:lnTo>
                  <a:pt x="75" y="8"/>
                </a:lnTo>
                <a:lnTo>
                  <a:pt x="73" y="10"/>
                </a:lnTo>
                <a:lnTo>
                  <a:pt x="94" y="12"/>
                </a:lnTo>
                <a:lnTo>
                  <a:pt x="135" y="16"/>
                </a:lnTo>
                <a:lnTo>
                  <a:pt x="175" y="23"/>
                </a:lnTo>
                <a:lnTo>
                  <a:pt x="192" y="27"/>
                </a:lnTo>
                <a:lnTo>
                  <a:pt x="194" y="27"/>
                </a:lnTo>
                <a:lnTo>
                  <a:pt x="194" y="25"/>
                </a:lnTo>
                <a:lnTo>
                  <a:pt x="194" y="23"/>
                </a:lnTo>
                <a:lnTo>
                  <a:pt x="194" y="23"/>
                </a:lnTo>
                <a:lnTo>
                  <a:pt x="196" y="21"/>
                </a:lnTo>
                <a:lnTo>
                  <a:pt x="196" y="21"/>
                </a:lnTo>
                <a:lnTo>
                  <a:pt x="196" y="19"/>
                </a:lnTo>
                <a:lnTo>
                  <a:pt x="198" y="19"/>
                </a:lnTo>
                <a:close/>
                <a:moveTo>
                  <a:pt x="4" y="1662"/>
                </a:moveTo>
                <a:lnTo>
                  <a:pt x="10" y="1662"/>
                </a:lnTo>
                <a:lnTo>
                  <a:pt x="52" y="1660"/>
                </a:lnTo>
                <a:lnTo>
                  <a:pt x="94" y="1658"/>
                </a:lnTo>
                <a:lnTo>
                  <a:pt x="137" y="1652"/>
                </a:lnTo>
                <a:lnTo>
                  <a:pt x="177" y="1645"/>
                </a:lnTo>
                <a:lnTo>
                  <a:pt x="215" y="1637"/>
                </a:lnTo>
                <a:lnTo>
                  <a:pt x="213" y="1635"/>
                </a:lnTo>
                <a:lnTo>
                  <a:pt x="213" y="1635"/>
                </a:lnTo>
                <a:lnTo>
                  <a:pt x="213" y="1633"/>
                </a:lnTo>
                <a:lnTo>
                  <a:pt x="212" y="1631"/>
                </a:lnTo>
                <a:lnTo>
                  <a:pt x="212" y="1631"/>
                </a:lnTo>
                <a:lnTo>
                  <a:pt x="212" y="1629"/>
                </a:lnTo>
                <a:lnTo>
                  <a:pt x="210" y="1629"/>
                </a:lnTo>
                <a:lnTo>
                  <a:pt x="210" y="1627"/>
                </a:lnTo>
                <a:lnTo>
                  <a:pt x="175" y="1635"/>
                </a:lnTo>
                <a:lnTo>
                  <a:pt x="135" y="1643"/>
                </a:lnTo>
                <a:lnTo>
                  <a:pt x="94" y="1648"/>
                </a:lnTo>
                <a:lnTo>
                  <a:pt x="52" y="1652"/>
                </a:lnTo>
                <a:lnTo>
                  <a:pt x="10" y="1652"/>
                </a:lnTo>
                <a:lnTo>
                  <a:pt x="0" y="1652"/>
                </a:lnTo>
                <a:lnTo>
                  <a:pt x="0" y="1654"/>
                </a:lnTo>
                <a:lnTo>
                  <a:pt x="0" y="1654"/>
                </a:lnTo>
                <a:lnTo>
                  <a:pt x="2" y="1656"/>
                </a:lnTo>
                <a:lnTo>
                  <a:pt x="2" y="1656"/>
                </a:lnTo>
                <a:lnTo>
                  <a:pt x="2" y="1658"/>
                </a:lnTo>
                <a:lnTo>
                  <a:pt x="4" y="1660"/>
                </a:lnTo>
                <a:lnTo>
                  <a:pt x="4" y="1660"/>
                </a:lnTo>
                <a:lnTo>
                  <a:pt x="4" y="1662"/>
                </a:lnTo>
                <a:close/>
              </a:path>
            </a:pathLst>
          </a:custGeom>
          <a:solidFill>
            <a:srgbClr val="50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114"/>
          <p:cNvSpPr/>
          <p:nvPr/>
        </p:nvSpPr>
        <p:spPr>
          <a:xfrm>
            <a:off x="7108920" y="1987560"/>
            <a:ext cx="341280" cy="2625840"/>
          </a:xfrm>
          <a:custGeom>
            <a:avLst/>
            <a:gdLst>
              <a:gd name="textAreaLeft" fmla="*/ 0 w 341280"/>
              <a:gd name="textAreaRight" fmla="*/ 341640 w 341280"/>
              <a:gd name="textAreaTop" fmla="*/ 0 h 2625840"/>
              <a:gd name="textAreaBottom" fmla="*/ 2626200 h 2625840"/>
            </a:gdLst>
            <a:ahLst/>
            <a:rect l="textAreaLeft" t="textAreaTop" r="textAreaRight" b="textAreaBottom"/>
            <a:pathLst>
              <a:path w="215" h="1654">
                <a:moveTo>
                  <a:pt x="197" y="19"/>
                </a:moveTo>
                <a:lnTo>
                  <a:pt x="180" y="15"/>
                </a:lnTo>
                <a:lnTo>
                  <a:pt x="138" y="8"/>
                </a:lnTo>
                <a:lnTo>
                  <a:pt x="97" y="2"/>
                </a:lnTo>
                <a:lnTo>
                  <a:pt x="80" y="0"/>
                </a:lnTo>
                <a:lnTo>
                  <a:pt x="78" y="2"/>
                </a:lnTo>
                <a:lnTo>
                  <a:pt x="78" y="4"/>
                </a:lnTo>
                <a:lnTo>
                  <a:pt x="78" y="4"/>
                </a:lnTo>
                <a:lnTo>
                  <a:pt x="76" y="6"/>
                </a:lnTo>
                <a:lnTo>
                  <a:pt x="76" y="6"/>
                </a:lnTo>
                <a:lnTo>
                  <a:pt x="76" y="8"/>
                </a:lnTo>
                <a:lnTo>
                  <a:pt x="74" y="10"/>
                </a:lnTo>
                <a:lnTo>
                  <a:pt x="74" y="10"/>
                </a:lnTo>
                <a:lnTo>
                  <a:pt x="96" y="12"/>
                </a:lnTo>
                <a:lnTo>
                  <a:pt x="138" y="17"/>
                </a:lnTo>
                <a:lnTo>
                  <a:pt x="178" y="23"/>
                </a:lnTo>
                <a:lnTo>
                  <a:pt x="193" y="27"/>
                </a:lnTo>
                <a:lnTo>
                  <a:pt x="193" y="27"/>
                </a:lnTo>
                <a:lnTo>
                  <a:pt x="195" y="25"/>
                </a:lnTo>
                <a:lnTo>
                  <a:pt x="195" y="25"/>
                </a:lnTo>
                <a:lnTo>
                  <a:pt x="195" y="23"/>
                </a:lnTo>
                <a:lnTo>
                  <a:pt x="197" y="23"/>
                </a:lnTo>
                <a:lnTo>
                  <a:pt x="197" y="21"/>
                </a:lnTo>
                <a:lnTo>
                  <a:pt x="197" y="19"/>
                </a:lnTo>
                <a:lnTo>
                  <a:pt x="197" y="19"/>
                </a:lnTo>
                <a:close/>
                <a:moveTo>
                  <a:pt x="5" y="1652"/>
                </a:moveTo>
                <a:lnTo>
                  <a:pt x="13" y="1654"/>
                </a:lnTo>
                <a:lnTo>
                  <a:pt x="55" y="1652"/>
                </a:lnTo>
                <a:lnTo>
                  <a:pt x="97" y="1648"/>
                </a:lnTo>
                <a:lnTo>
                  <a:pt x="138" y="1644"/>
                </a:lnTo>
                <a:lnTo>
                  <a:pt x="180" y="1637"/>
                </a:lnTo>
                <a:lnTo>
                  <a:pt x="215" y="1627"/>
                </a:lnTo>
                <a:lnTo>
                  <a:pt x="215" y="1627"/>
                </a:lnTo>
                <a:lnTo>
                  <a:pt x="215" y="1625"/>
                </a:lnTo>
                <a:lnTo>
                  <a:pt x="213" y="1625"/>
                </a:lnTo>
                <a:lnTo>
                  <a:pt x="213" y="1623"/>
                </a:lnTo>
                <a:lnTo>
                  <a:pt x="213" y="1623"/>
                </a:lnTo>
                <a:lnTo>
                  <a:pt x="211" y="1621"/>
                </a:lnTo>
                <a:lnTo>
                  <a:pt x="211" y="1621"/>
                </a:lnTo>
                <a:lnTo>
                  <a:pt x="211" y="1620"/>
                </a:lnTo>
                <a:lnTo>
                  <a:pt x="178" y="1627"/>
                </a:lnTo>
                <a:lnTo>
                  <a:pt x="138" y="1635"/>
                </a:lnTo>
                <a:lnTo>
                  <a:pt x="96" y="1639"/>
                </a:lnTo>
                <a:lnTo>
                  <a:pt x="55" y="1643"/>
                </a:lnTo>
                <a:lnTo>
                  <a:pt x="13" y="1644"/>
                </a:lnTo>
                <a:lnTo>
                  <a:pt x="0" y="1643"/>
                </a:lnTo>
                <a:lnTo>
                  <a:pt x="1" y="1644"/>
                </a:lnTo>
                <a:lnTo>
                  <a:pt x="1" y="1646"/>
                </a:lnTo>
                <a:lnTo>
                  <a:pt x="1" y="1646"/>
                </a:lnTo>
                <a:lnTo>
                  <a:pt x="3" y="1648"/>
                </a:lnTo>
                <a:lnTo>
                  <a:pt x="3" y="1650"/>
                </a:lnTo>
                <a:lnTo>
                  <a:pt x="3" y="1650"/>
                </a:lnTo>
                <a:lnTo>
                  <a:pt x="5" y="1652"/>
                </a:lnTo>
                <a:lnTo>
                  <a:pt x="5" y="1652"/>
                </a:lnTo>
                <a:close/>
              </a:path>
            </a:pathLst>
          </a:custGeom>
          <a:solidFill>
            <a:srgbClr val="51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115"/>
          <p:cNvSpPr/>
          <p:nvPr/>
        </p:nvSpPr>
        <p:spPr>
          <a:xfrm>
            <a:off x="7105680" y="1996920"/>
            <a:ext cx="341280" cy="2606760"/>
          </a:xfrm>
          <a:custGeom>
            <a:avLst/>
            <a:gdLst>
              <a:gd name="textAreaLeft" fmla="*/ 0 w 341280"/>
              <a:gd name="textAreaRight" fmla="*/ 341640 w 34128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15" h="1642">
                <a:moveTo>
                  <a:pt x="197" y="17"/>
                </a:moveTo>
                <a:lnTo>
                  <a:pt x="180" y="13"/>
                </a:lnTo>
                <a:lnTo>
                  <a:pt x="140" y="6"/>
                </a:lnTo>
                <a:lnTo>
                  <a:pt x="99" y="2"/>
                </a:lnTo>
                <a:lnTo>
                  <a:pt x="78" y="0"/>
                </a:lnTo>
                <a:lnTo>
                  <a:pt x="78" y="0"/>
                </a:lnTo>
                <a:lnTo>
                  <a:pt x="76" y="2"/>
                </a:lnTo>
                <a:lnTo>
                  <a:pt x="76" y="4"/>
                </a:lnTo>
                <a:lnTo>
                  <a:pt x="76" y="4"/>
                </a:lnTo>
                <a:lnTo>
                  <a:pt x="75" y="6"/>
                </a:lnTo>
                <a:lnTo>
                  <a:pt x="75" y="6"/>
                </a:lnTo>
                <a:lnTo>
                  <a:pt x="75" y="7"/>
                </a:lnTo>
                <a:lnTo>
                  <a:pt x="73" y="7"/>
                </a:lnTo>
                <a:lnTo>
                  <a:pt x="98" y="9"/>
                </a:lnTo>
                <a:lnTo>
                  <a:pt x="138" y="15"/>
                </a:lnTo>
                <a:lnTo>
                  <a:pt x="178" y="23"/>
                </a:lnTo>
                <a:lnTo>
                  <a:pt x="193" y="27"/>
                </a:lnTo>
                <a:lnTo>
                  <a:pt x="193" y="25"/>
                </a:lnTo>
                <a:lnTo>
                  <a:pt x="193" y="23"/>
                </a:lnTo>
                <a:lnTo>
                  <a:pt x="195" y="23"/>
                </a:lnTo>
                <a:lnTo>
                  <a:pt x="195" y="21"/>
                </a:lnTo>
                <a:lnTo>
                  <a:pt x="195" y="21"/>
                </a:lnTo>
                <a:lnTo>
                  <a:pt x="197" y="19"/>
                </a:lnTo>
                <a:lnTo>
                  <a:pt x="197" y="19"/>
                </a:lnTo>
                <a:lnTo>
                  <a:pt x="197" y="17"/>
                </a:lnTo>
                <a:close/>
                <a:moveTo>
                  <a:pt x="5" y="1642"/>
                </a:moveTo>
                <a:lnTo>
                  <a:pt x="15" y="1642"/>
                </a:lnTo>
                <a:lnTo>
                  <a:pt x="57" y="1642"/>
                </a:lnTo>
                <a:lnTo>
                  <a:pt x="99" y="1638"/>
                </a:lnTo>
                <a:lnTo>
                  <a:pt x="140" y="1633"/>
                </a:lnTo>
                <a:lnTo>
                  <a:pt x="180" y="1625"/>
                </a:lnTo>
                <a:lnTo>
                  <a:pt x="215" y="1617"/>
                </a:lnTo>
                <a:lnTo>
                  <a:pt x="215" y="1617"/>
                </a:lnTo>
                <a:lnTo>
                  <a:pt x="213" y="1615"/>
                </a:lnTo>
                <a:lnTo>
                  <a:pt x="213" y="1615"/>
                </a:lnTo>
                <a:lnTo>
                  <a:pt x="213" y="1614"/>
                </a:lnTo>
                <a:lnTo>
                  <a:pt x="211" y="1614"/>
                </a:lnTo>
                <a:lnTo>
                  <a:pt x="211" y="1612"/>
                </a:lnTo>
                <a:lnTo>
                  <a:pt x="211" y="1610"/>
                </a:lnTo>
                <a:lnTo>
                  <a:pt x="209" y="1610"/>
                </a:lnTo>
                <a:lnTo>
                  <a:pt x="178" y="1617"/>
                </a:lnTo>
                <a:lnTo>
                  <a:pt x="138" y="1623"/>
                </a:lnTo>
                <a:lnTo>
                  <a:pt x="98" y="1629"/>
                </a:lnTo>
                <a:lnTo>
                  <a:pt x="57" y="1633"/>
                </a:lnTo>
                <a:lnTo>
                  <a:pt x="15" y="1633"/>
                </a:lnTo>
                <a:lnTo>
                  <a:pt x="0" y="1633"/>
                </a:lnTo>
                <a:lnTo>
                  <a:pt x="0" y="1635"/>
                </a:lnTo>
                <a:lnTo>
                  <a:pt x="2" y="1635"/>
                </a:lnTo>
                <a:lnTo>
                  <a:pt x="2" y="1637"/>
                </a:lnTo>
                <a:lnTo>
                  <a:pt x="2" y="1637"/>
                </a:lnTo>
                <a:lnTo>
                  <a:pt x="3" y="1638"/>
                </a:lnTo>
                <a:lnTo>
                  <a:pt x="3" y="1640"/>
                </a:lnTo>
                <a:lnTo>
                  <a:pt x="3" y="1640"/>
                </a:lnTo>
                <a:lnTo>
                  <a:pt x="5" y="1642"/>
                </a:lnTo>
                <a:close/>
              </a:path>
            </a:pathLst>
          </a:custGeom>
          <a:solidFill>
            <a:srgbClr val="52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116"/>
          <p:cNvSpPr/>
          <p:nvPr/>
        </p:nvSpPr>
        <p:spPr>
          <a:xfrm>
            <a:off x="7102440" y="2003400"/>
            <a:ext cx="341280" cy="2594160"/>
          </a:xfrm>
          <a:custGeom>
            <a:avLst/>
            <a:gdLst>
              <a:gd name="textAreaLeft" fmla="*/ 0 w 341280"/>
              <a:gd name="textAreaRight" fmla="*/ 341640 w 341280"/>
              <a:gd name="textAreaTop" fmla="*/ 0 h 2594160"/>
              <a:gd name="textAreaBottom" fmla="*/ 2594520 h 2594160"/>
            </a:gdLst>
            <a:ahLst/>
            <a:rect l="textAreaLeft" t="textAreaTop" r="textAreaRight" b="textAreaBottom"/>
            <a:pathLst>
              <a:path w="215" h="1634">
                <a:moveTo>
                  <a:pt x="197" y="17"/>
                </a:moveTo>
                <a:lnTo>
                  <a:pt x="182" y="13"/>
                </a:lnTo>
                <a:lnTo>
                  <a:pt x="142" y="7"/>
                </a:lnTo>
                <a:lnTo>
                  <a:pt x="100" y="2"/>
                </a:lnTo>
                <a:lnTo>
                  <a:pt x="78" y="0"/>
                </a:lnTo>
                <a:lnTo>
                  <a:pt x="77" y="2"/>
                </a:lnTo>
                <a:lnTo>
                  <a:pt x="77" y="2"/>
                </a:lnTo>
                <a:lnTo>
                  <a:pt x="77" y="3"/>
                </a:lnTo>
                <a:lnTo>
                  <a:pt x="75" y="3"/>
                </a:lnTo>
                <a:lnTo>
                  <a:pt x="75" y="5"/>
                </a:lnTo>
                <a:lnTo>
                  <a:pt x="73" y="7"/>
                </a:lnTo>
                <a:lnTo>
                  <a:pt x="73" y="7"/>
                </a:lnTo>
                <a:lnTo>
                  <a:pt x="73" y="9"/>
                </a:lnTo>
                <a:lnTo>
                  <a:pt x="100" y="11"/>
                </a:lnTo>
                <a:lnTo>
                  <a:pt x="140" y="17"/>
                </a:lnTo>
                <a:lnTo>
                  <a:pt x="180" y="23"/>
                </a:lnTo>
                <a:lnTo>
                  <a:pt x="194" y="26"/>
                </a:lnTo>
                <a:lnTo>
                  <a:pt x="194" y="25"/>
                </a:lnTo>
                <a:lnTo>
                  <a:pt x="194" y="25"/>
                </a:lnTo>
                <a:lnTo>
                  <a:pt x="194" y="23"/>
                </a:lnTo>
                <a:lnTo>
                  <a:pt x="195" y="23"/>
                </a:lnTo>
                <a:lnTo>
                  <a:pt x="195" y="21"/>
                </a:lnTo>
                <a:lnTo>
                  <a:pt x="195" y="19"/>
                </a:lnTo>
                <a:lnTo>
                  <a:pt x="197" y="19"/>
                </a:lnTo>
                <a:lnTo>
                  <a:pt x="197" y="17"/>
                </a:lnTo>
                <a:close/>
                <a:moveTo>
                  <a:pt x="4" y="1633"/>
                </a:moveTo>
                <a:lnTo>
                  <a:pt x="17" y="1634"/>
                </a:lnTo>
                <a:lnTo>
                  <a:pt x="59" y="1633"/>
                </a:lnTo>
                <a:lnTo>
                  <a:pt x="100" y="1629"/>
                </a:lnTo>
                <a:lnTo>
                  <a:pt x="142" y="1625"/>
                </a:lnTo>
                <a:lnTo>
                  <a:pt x="182" y="1617"/>
                </a:lnTo>
                <a:lnTo>
                  <a:pt x="215" y="1610"/>
                </a:lnTo>
                <a:lnTo>
                  <a:pt x="213" y="1610"/>
                </a:lnTo>
                <a:lnTo>
                  <a:pt x="213" y="1608"/>
                </a:lnTo>
                <a:lnTo>
                  <a:pt x="213" y="1606"/>
                </a:lnTo>
                <a:lnTo>
                  <a:pt x="211" y="1606"/>
                </a:lnTo>
                <a:lnTo>
                  <a:pt x="211" y="1604"/>
                </a:lnTo>
                <a:lnTo>
                  <a:pt x="211" y="1604"/>
                </a:lnTo>
                <a:lnTo>
                  <a:pt x="209" y="1602"/>
                </a:lnTo>
                <a:lnTo>
                  <a:pt x="209" y="1602"/>
                </a:lnTo>
                <a:lnTo>
                  <a:pt x="180" y="1608"/>
                </a:lnTo>
                <a:lnTo>
                  <a:pt x="140" y="1615"/>
                </a:lnTo>
                <a:lnTo>
                  <a:pt x="100" y="1621"/>
                </a:lnTo>
                <a:lnTo>
                  <a:pt x="57" y="1623"/>
                </a:lnTo>
                <a:lnTo>
                  <a:pt x="17" y="1625"/>
                </a:lnTo>
                <a:lnTo>
                  <a:pt x="0" y="1625"/>
                </a:lnTo>
                <a:lnTo>
                  <a:pt x="0" y="1625"/>
                </a:lnTo>
                <a:lnTo>
                  <a:pt x="2" y="1627"/>
                </a:lnTo>
                <a:lnTo>
                  <a:pt x="2" y="1627"/>
                </a:lnTo>
                <a:lnTo>
                  <a:pt x="2" y="1629"/>
                </a:lnTo>
                <a:lnTo>
                  <a:pt x="2" y="1631"/>
                </a:lnTo>
                <a:lnTo>
                  <a:pt x="4" y="1631"/>
                </a:lnTo>
                <a:lnTo>
                  <a:pt x="4" y="1633"/>
                </a:lnTo>
                <a:lnTo>
                  <a:pt x="4" y="1633"/>
                </a:lnTo>
                <a:close/>
              </a:path>
            </a:pathLst>
          </a:custGeom>
          <a:solidFill>
            <a:srgbClr val="53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117"/>
          <p:cNvSpPr/>
          <p:nvPr/>
        </p:nvSpPr>
        <p:spPr>
          <a:xfrm>
            <a:off x="7099200" y="2008080"/>
            <a:ext cx="338400" cy="2581560"/>
          </a:xfrm>
          <a:custGeom>
            <a:avLst/>
            <a:gdLst>
              <a:gd name="textAreaLeft" fmla="*/ 0 w 338400"/>
              <a:gd name="textAreaRight" fmla="*/ 338400 w 338400"/>
              <a:gd name="textAreaTop" fmla="*/ 0 h 2581560"/>
              <a:gd name="textAreaBottom" fmla="*/ 2581920 h 2581560"/>
            </a:gdLst>
            <a:ahLst/>
            <a:rect l="textAreaLeft" t="textAreaTop" r="textAreaRight" b="textAreaBottom"/>
            <a:pathLst>
              <a:path w="213" h="1626">
                <a:moveTo>
                  <a:pt x="197" y="20"/>
                </a:moveTo>
                <a:lnTo>
                  <a:pt x="182" y="16"/>
                </a:lnTo>
                <a:lnTo>
                  <a:pt x="142" y="8"/>
                </a:lnTo>
                <a:lnTo>
                  <a:pt x="102" y="2"/>
                </a:lnTo>
                <a:lnTo>
                  <a:pt x="77" y="0"/>
                </a:lnTo>
                <a:lnTo>
                  <a:pt x="77" y="2"/>
                </a:lnTo>
                <a:lnTo>
                  <a:pt x="75" y="4"/>
                </a:lnTo>
                <a:lnTo>
                  <a:pt x="75" y="4"/>
                </a:lnTo>
                <a:lnTo>
                  <a:pt x="75" y="6"/>
                </a:lnTo>
                <a:lnTo>
                  <a:pt x="73" y="6"/>
                </a:lnTo>
                <a:lnTo>
                  <a:pt x="73" y="8"/>
                </a:lnTo>
                <a:lnTo>
                  <a:pt x="71" y="10"/>
                </a:lnTo>
                <a:lnTo>
                  <a:pt x="71" y="10"/>
                </a:lnTo>
                <a:lnTo>
                  <a:pt x="102" y="12"/>
                </a:lnTo>
                <a:lnTo>
                  <a:pt x="142" y="18"/>
                </a:lnTo>
                <a:lnTo>
                  <a:pt x="180" y="25"/>
                </a:lnTo>
                <a:lnTo>
                  <a:pt x="192" y="27"/>
                </a:lnTo>
                <a:lnTo>
                  <a:pt x="194" y="27"/>
                </a:lnTo>
                <a:lnTo>
                  <a:pt x="194" y="25"/>
                </a:lnTo>
                <a:lnTo>
                  <a:pt x="194" y="23"/>
                </a:lnTo>
                <a:lnTo>
                  <a:pt x="196" y="23"/>
                </a:lnTo>
                <a:lnTo>
                  <a:pt x="196" y="22"/>
                </a:lnTo>
                <a:lnTo>
                  <a:pt x="196" y="22"/>
                </a:lnTo>
                <a:lnTo>
                  <a:pt x="196" y="20"/>
                </a:lnTo>
                <a:lnTo>
                  <a:pt x="197" y="20"/>
                </a:lnTo>
                <a:close/>
                <a:moveTo>
                  <a:pt x="4" y="1626"/>
                </a:moveTo>
                <a:lnTo>
                  <a:pt x="19" y="1626"/>
                </a:lnTo>
                <a:lnTo>
                  <a:pt x="61" y="1626"/>
                </a:lnTo>
                <a:lnTo>
                  <a:pt x="102" y="1622"/>
                </a:lnTo>
                <a:lnTo>
                  <a:pt x="142" y="1616"/>
                </a:lnTo>
                <a:lnTo>
                  <a:pt x="182" y="1610"/>
                </a:lnTo>
                <a:lnTo>
                  <a:pt x="213" y="1603"/>
                </a:lnTo>
                <a:lnTo>
                  <a:pt x="213" y="1601"/>
                </a:lnTo>
                <a:lnTo>
                  <a:pt x="213" y="1601"/>
                </a:lnTo>
                <a:lnTo>
                  <a:pt x="211" y="1599"/>
                </a:lnTo>
                <a:lnTo>
                  <a:pt x="211" y="1599"/>
                </a:lnTo>
                <a:lnTo>
                  <a:pt x="211" y="1597"/>
                </a:lnTo>
                <a:lnTo>
                  <a:pt x="209" y="1597"/>
                </a:lnTo>
                <a:lnTo>
                  <a:pt x="209" y="1595"/>
                </a:lnTo>
                <a:lnTo>
                  <a:pt x="209" y="1593"/>
                </a:lnTo>
                <a:lnTo>
                  <a:pt x="180" y="1601"/>
                </a:lnTo>
                <a:lnTo>
                  <a:pt x="142" y="1607"/>
                </a:lnTo>
                <a:lnTo>
                  <a:pt x="102" y="1612"/>
                </a:lnTo>
                <a:lnTo>
                  <a:pt x="59" y="1616"/>
                </a:lnTo>
                <a:lnTo>
                  <a:pt x="19" y="1616"/>
                </a:lnTo>
                <a:lnTo>
                  <a:pt x="0" y="1616"/>
                </a:lnTo>
                <a:lnTo>
                  <a:pt x="0" y="1618"/>
                </a:lnTo>
                <a:lnTo>
                  <a:pt x="0" y="1618"/>
                </a:lnTo>
                <a:lnTo>
                  <a:pt x="2" y="1620"/>
                </a:lnTo>
                <a:lnTo>
                  <a:pt x="2" y="1622"/>
                </a:lnTo>
                <a:lnTo>
                  <a:pt x="2" y="1622"/>
                </a:lnTo>
                <a:lnTo>
                  <a:pt x="4" y="1624"/>
                </a:lnTo>
                <a:lnTo>
                  <a:pt x="4" y="1624"/>
                </a:lnTo>
                <a:lnTo>
                  <a:pt x="4" y="1626"/>
                </a:lnTo>
                <a:close/>
              </a:path>
            </a:pathLst>
          </a:custGeom>
          <a:solidFill>
            <a:srgbClr val="54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8"/>
          <p:cNvSpPr/>
          <p:nvPr/>
        </p:nvSpPr>
        <p:spPr>
          <a:xfrm>
            <a:off x="7093080" y="2017800"/>
            <a:ext cx="341280" cy="2565360"/>
          </a:xfrm>
          <a:custGeom>
            <a:avLst/>
            <a:gdLst>
              <a:gd name="textAreaLeft" fmla="*/ 0 w 341280"/>
              <a:gd name="textAreaRight" fmla="*/ 341640 w 341280"/>
              <a:gd name="textAreaTop" fmla="*/ 0 h 2565360"/>
              <a:gd name="textAreaBottom" fmla="*/ 2565720 h 2565360"/>
            </a:gdLst>
            <a:ahLst/>
            <a:rect l="textAreaLeft" t="textAreaTop" r="textAreaRight" b="textAreaBottom"/>
            <a:pathLst>
              <a:path w="215" h="1616">
                <a:moveTo>
                  <a:pt x="200" y="17"/>
                </a:moveTo>
                <a:lnTo>
                  <a:pt x="186" y="14"/>
                </a:lnTo>
                <a:lnTo>
                  <a:pt x="146" y="8"/>
                </a:lnTo>
                <a:lnTo>
                  <a:pt x="106" y="2"/>
                </a:lnTo>
                <a:lnTo>
                  <a:pt x="79" y="0"/>
                </a:lnTo>
                <a:lnTo>
                  <a:pt x="77" y="0"/>
                </a:lnTo>
                <a:lnTo>
                  <a:pt x="77" y="2"/>
                </a:lnTo>
                <a:lnTo>
                  <a:pt x="75" y="4"/>
                </a:lnTo>
                <a:lnTo>
                  <a:pt x="75" y="4"/>
                </a:lnTo>
                <a:lnTo>
                  <a:pt x="75" y="6"/>
                </a:lnTo>
                <a:lnTo>
                  <a:pt x="73" y="6"/>
                </a:lnTo>
                <a:lnTo>
                  <a:pt x="73" y="8"/>
                </a:lnTo>
                <a:lnTo>
                  <a:pt x="71" y="10"/>
                </a:lnTo>
                <a:lnTo>
                  <a:pt x="104" y="12"/>
                </a:lnTo>
                <a:lnTo>
                  <a:pt x="144" y="16"/>
                </a:lnTo>
                <a:lnTo>
                  <a:pt x="184" y="23"/>
                </a:lnTo>
                <a:lnTo>
                  <a:pt x="194" y="25"/>
                </a:lnTo>
                <a:lnTo>
                  <a:pt x="194" y="25"/>
                </a:lnTo>
                <a:lnTo>
                  <a:pt x="196" y="23"/>
                </a:lnTo>
                <a:lnTo>
                  <a:pt x="196" y="23"/>
                </a:lnTo>
                <a:lnTo>
                  <a:pt x="196" y="21"/>
                </a:lnTo>
                <a:lnTo>
                  <a:pt x="198" y="21"/>
                </a:lnTo>
                <a:lnTo>
                  <a:pt x="198" y="19"/>
                </a:lnTo>
                <a:lnTo>
                  <a:pt x="198" y="17"/>
                </a:lnTo>
                <a:lnTo>
                  <a:pt x="200" y="17"/>
                </a:lnTo>
                <a:close/>
                <a:moveTo>
                  <a:pt x="6" y="1616"/>
                </a:moveTo>
                <a:lnTo>
                  <a:pt x="23" y="1616"/>
                </a:lnTo>
                <a:lnTo>
                  <a:pt x="63" y="1614"/>
                </a:lnTo>
                <a:lnTo>
                  <a:pt x="106" y="1612"/>
                </a:lnTo>
                <a:lnTo>
                  <a:pt x="146" y="1606"/>
                </a:lnTo>
                <a:lnTo>
                  <a:pt x="186" y="1599"/>
                </a:lnTo>
                <a:lnTo>
                  <a:pt x="215" y="1593"/>
                </a:lnTo>
                <a:lnTo>
                  <a:pt x="215" y="1591"/>
                </a:lnTo>
                <a:lnTo>
                  <a:pt x="213" y="1591"/>
                </a:lnTo>
                <a:lnTo>
                  <a:pt x="213" y="1589"/>
                </a:lnTo>
                <a:lnTo>
                  <a:pt x="213" y="1587"/>
                </a:lnTo>
                <a:lnTo>
                  <a:pt x="211" y="1587"/>
                </a:lnTo>
                <a:lnTo>
                  <a:pt x="211" y="1585"/>
                </a:lnTo>
                <a:lnTo>
                  <a:pt x="211" y="1585"/>
                </a:lnTo>
                <a:lnTo>
                  <a:pt x="209" y="1583"/>
                </a:lnTo>
                <a:lnTo>
                  <a:pt x="184" y="1589"/>
                </a:lnTo>
                <a:lnTo>
                  <a:pt x="144" y="1597"/>
                </a:lnTo>
                <a:lnTo>
                  <a:pt x="104" y="1602"/>
                </a:lnTo>
                <a:lnTo>
                  <a:pt x="63" y="1604"/>
                </a:lnTo>
                <a:lnTo>
                  <a:pt x="23" y="1606"/>
                </a:lnTo>
                <a:lnTo>
                  <a:pt x="0" y="1606"/>
                </a:lnTo>
                <a:lnTo>
                  <a:pt x="2" y="1606"/>
                </a:lnTo>
                <a:lnTo>
                  <a:pt x="2" y="1608"/>
                </a:lnTo>
                <a:lnTo>
                  <a:pt x="2" y="1608"/>
                </a:lnTo>
                <a:lnTo>
                  <a:pt x="4" y="1610"/>
                </a:lnTo>
                <a:lnTo>
                  <a:pt x="4" y="1612"/>
                </a:lnTo>
                <a:lnTo>
                  <a:pt x="4" y="1612"/>
                </a:lnTo>
                <a:lnTo>
                  <a:pt x="6" y="1614"/>
                </a:lnTo>
                <a:lnTo>
                  <a:pt x="6" y="1616"/>
                </a:lnTo>
                <a:close/>
              </a:path>
            </a:pathLst>
          </a:custGeom>
          <a:solidFill>
            <a:srgbClr val="55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9"/>
          <p:cNvSpPr/>
          <p:nvPr/>
        </p:nvSpPr>
        <p:spPr>
          <a:xfrm>
            <a:off x="7089840" y="2023920"/>
            <a:ext cx="341280" cy="2549520"/>
          </a:xfrm>
          <a:custGeom>
            <a:avLst/>
            <a:gdLst>
              <a:gd name="textAreaLeft" fmla="*/ 0 w 341280"/>
              <a:gd name="textAreaRight" fmla="*/ 341640 w 341280"/>
              <a:gd name="textAreaTop" fmla="*/ 0 h 2549520"/>
              <a:gd name="textAreaBottom" fmla="*/ 2549520 h 2549520"/>
            </a:gdLst>
            <a:ahLst/>
            <a:rect l="textAreaLeft" t="textAreaTop" r="textAreaRight" b="textAreaBottom"/>
            <a:pathLst>
              <a:path w="215" h="1606">
                <a:moveTo>
                  <a:pt x="198" y="17"/>
                </a:moveTo>
                <a:lnTo>
                  <a:pt x="186" y="15"/>
                </a:lnTo>
                <a:lnTo>
                  <a:pt x="148" y="8"/>
                </a:lnTo>
                <a:lnTo>
                  <a:pt x="108" y="2"/>
                </a:lnTo>
                <a:lnTo>
                  <a:pt x="77" y="0"/>
                </a:lnTo>
                <a:lnTo>
                  <a:pt x="77" y="2"/>
                </a:lnTo>
                <a:lnTo>
                  <a:pt x="75" y="2"/>
                </a:lnTo>
                <a:lnTo>
                  <a:pt x="75" y="4"/>
                </a:lnTo>
                <a:lnTo>
                  <a:pt x="73" y="6"/>
                </a:lnTo>
                <a:lnTo>
                  <a:pt x="73" y="6"/>
                </a:lnTo>
                <a:lnTo>
                  <a:pt x="73" y="8"/>
                </a:lnTo>
                <a:lnTo>
                  <a:pt x="71" y="8"/>
                </a:lnTo>
                <a:lnTo>
                  <a:pt x="71" y="10"/>
                </a:lnTo>
                <a:lnTo>
                  <a:pt x="106" y="12"/>
                </a:lnTo>
                <a:lnTo>
                  <a:pt x="146" y="17"/>
                </a:lnTo>
                <a:lnTo>
                  <a:pt x="184" y="25"/>
                </a:lnTo>
                <a:lnTo>
                  <a:pt x="194" y="27"/>
                </a:lnTo>
                <a:lnTo>
                  <a:pt x="194" y="25"/>
                </a:lnTo>
                <a:lnTo>
                  <a:pt x="196" y="25"/>
                </a:lnTo>
                <a:lnTo>
                  <a:pt x="196" y="23"/>
                </a:lnTo>
                <a:lnTo>
                  <a:pt x="196" y="21"/>
                </a:lnTo>
                <a:lnTo>
                  <a:pt x="196" y="21"/>
                </a:lnTo>
                <a:lnTo>
                  <a:pt x="198" y="19"/>
                </a:lnTo>
                <a:lnTo>
                  <a:pt x="198" y="19"/>
                </a:lnTo>
                <a:lnTo>
                  <a:pt x="198" y="17"/>
                </a:lnTo>
                <a:close/>
                <a:moveTo>
                  <a:pt x="6" y="1606"/>
                </a:moveTo>
                <a:lnTo>
                  <a:pt x="25" y="1606"/>
                </a:lnTo>
                <a:lnTo>
                  <a:pt x="65" y="1606"/>
                </a:lnTo>
                <a:lnTo>
                  <a:pt x="108" y="1602"/>
                </a:lnTo>
                <a:lnTo>
                  <a:pt x="148" y="1597"/>
                </a:lnTo>
                <a:lnTo>
                  <a:pt x="186" y="1591"/>
                </a:lnTo>
                <a:lnTo>
                  <a:pt x="215" y="1583"/>
                </a:lnTo>
                <a:lnTo>
                  <a:pt x="213" y="1583"/>
                </a:lnTo>
                <a:lnTo>
                  <a:pt x="213" y="1581"/>
                </a:lnTo>
                <a:lnTo>
                  <a:pt x="213" y="1581"/>
                </a:lnTo>
                <a:lnTo>
                  <a:pt x="211" y="1579"/>
                </a:lnTo>
                <a:lnTo>
                  <a:pt x="211" y="1579"/>
                </a:lnTo>
                <a:lnTo>
                  <a:pt x="211" y="1577"/>
                </a:lnTo>
                <a:lnTo>
                  <a:pt x="209" y="1577"/>
                </a:lnTo>
                <a:lnTo>
                  <a:pt x="209" y="1575"/>
                </a:lnTo>
                <a:lnTo>
                  <a:pt x="184" y="1581"/>
                </a:lnTo>
                <a:lnTo>
                  <a:pt x="146" y="1589"/>
                </a:lnTo>
                <a:lnTo>
                  <a:pt x="106" y="1593"/>
                </a:lnTo>
                <a:lnTo>
                  <a:pt x="65" y="1597"/>
                </a:lnTo>
                <a:lnTo>
                  <a:pt x="25" y="1597"/>
                </a:lnTo>
                <a:lnTo>
                  <a:pt x="0" y="1597"/>
                </a:lnTo>
                <a:lnTo>
                  <a:pt x="2" y="1598"/>
                </a:lnTo>
                <a:lnTo>
                  <a:pt x="2" y="1598"/>
                </a:lnTo>
                <a:lnTo>
                  <a:pt x="2" y="1600"/>
                </a:lnTo>
                <a:lnTo>
                  <a:pt x="2" y="1602"/>
                </a:lnTo>
                <a:lnTo>
                  <a:pt x="4" y="1602"/>
                </a:lnTo>
                <a:lnTo>
                  <a:pt x="4" y="1604"/>
                </a:lnTo>
                <a:lnTo>
                  <a:pt x="4" y="1604"/>
                </a:lnTo>
                <a:lnTo>
                  <a:pt x="6" y="1606"/>
                </a:lnTo>
                <a:close/>
              </a:path>
            </a:pathLst>
          </a:custGeom>
          <a:solidFill>
            <a:srgbClr val="5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120"/>
          <p:cNvSpPr/>
          <p:nvPr/>
        </p:nvSpPr>
        <p:spPr>
          <a:xfrm>
            <a:off x="7086600" y="2033640"/>
            <a:ext cx="338040" cy="2533680"/>
          </a:xfrm>
          <a:custGeom>
            <a:avLst/>
            <a:gdLst>
              <a:gd name="textAreaLeft" fmla="*/ 0 w 338040"/>
              <a:gd name="textAreaRight" fmla="*/ 338400 w 338040"/>
              <a:gd name="textAreaTop" fmla="*/ 0 h 2533680"/>
              <a:gd name="textAreaBottom" fmla="*/ 2534040 h 2533680"/>
            </a:gdLst>
            <a:ahLst/>
            <a:rect l="textAreaLeft" t="textAreaTop" r="textAreaRight" b="textAreaBottom"/>
            <a:pathLst>
              <a:path w="213" h="1596">
                <a:moveTo>
                  <a:pt x="198" y="15"/>
                </a:moveTo>
                <a:lnTo>
                  <a:pt x="188" y="13"/>
                </a:lnTo>
                <a:lnTo>
                  <a:pt x="148" y="6"/>
                </a:lnTo>
                <a:lnTo>
                  <a:pt x="108" y="2"/>
                </a:lnTo>
                <a:lnTo>
                  <a:pt x="75" y="0"/>
                </a:lnTo>
                <a:lnTo>
                  <a:pt x="75" y="0"/>
                </a:lnTo>
                <a:lnTo>
                  <a:pt x="75" y="2"/>
                </a:lnTo>
                <a:lnTo>
                  <a:pt x="73" y="2"/>
                </a:lnTo>
                <a:lnTo>
                  <a:pt x="73" y="4"/>
                </a:lnTo>
                <a:lnTo>
                  <a:pt x="73" y="4"/>
                </a:lnTo>
                <a:lnTo>
                  <a:pt x="71" y="6"/>
                </a:lnTo>
                <a:lnTo>
                  <a:pt x="71" y="7"/>
                </a:lnTo>
                <a:lnTo>
                  <a:pt x="69" y="7"/>
                </a:lnTo>
                <a:lnTo>
                  <a:pt x="108" y="11"/>
                </a:lnTo>
                <a:lnTo>
                  <a:pt x="146" y="15"/>
                </a:lnTo>
                <a:lnTo>
                  <a:pt x="186" y="23"/>
                </a:lnTo>
                <a:lnTo>
                  <a:pt x="194" y="25"/>
                </a:lnTo>
                <a:lnTo>
                  <a:pt x="194" y="23"/>
                </a:lnTo>
                <a:lnTo>
                  <a:pt x="194" y="23"/>
                </a:lnTo>
                <a:lnTo>
                  <a:pt x="196" y="21"/>
                </a:lnTo>
                <a:lnTo>
                  <a:pt x="196" y="21"/>
                </a:lnTo>
                <a:lnTo>
                  <a:pt x="196" y="19"/>
                </a:lnTo>
                <a:lnTo>
                  <a:pt x="198" y="19"/>
                </a:lnTo>
                <a:lnTo>
                  <a:pt x="198" y="17"/>
                </a:lnTo>
                <a:lnTo>
                  <a:pt x="198" y="15"/>
                </a:lnTo>
                <a:close/>
                <a:moveTo>
                  <a:pt x="4" y="1596"/>
                </a:moveTo>
                <a:lnTo>
                  <a:pt x="27" y="1596"/>
                </a:lnTo>
                <a:lnTo>
                  <a:pt x="67" y="1594"/>
                </a:lnTo>
                <a:lnTo>
                  <a:pt x="108" y="1592"/>
                </a:lnTo>
                <a:lnTo>
                  <a:pt x="148" y="1587"/>
                </a:lnTo>
                <a:lnTo>
                  <a:pt x="188" y="1579"/>
                </a:lnTo>
                <a:lnTo>
                  <a:pt x="213" y="1573"/>
                </a:lnTo>
                <a:lnTo>
                  <a:pt x="213" y="1573"/>
                </a:lnTo>
                <a:lnTo>
                  <a:pt x="213" y="1571"/>
                </a:lnTo>
                <a:lnTo>
                  <a:pt x="211" y="1571"/>
                </a:lnTo>
                <a:lnTo>
                  <a:pt x="211" y="1569"/>
                </a:lnTo>
                <a:lnTo>
                  <a:pt x="211" y="1567"/>
                </a:lnTo>
                <a:lnTo>
                  <a:pt x="209" y="1567"/>
                </a:lnTo>
                <a:lnTo>
                  <a:pt x="209" y="1566"/>
                </a:lnTo>
                <a:lnTo>
                  <a:pt x="209" y="1566"/>
                </a:lnTo>
                <a:lnTo>
                  <a:pt x="186" y="1571"/>
                </a:lnTo>
                <a:lnTo>
                  <a:pt x="146" y="1577"/>
                </a:lnTo>
                <a:lnTo>
                  <a:pt x="108" y="1583"/>
                </a:lnTo>
                <a:lnTo>
                  <a:pt x="67" y="1585"/>
                </a:lnTo>
                <a:lnTo>
                  <a:pt x="27" y="1587"/>
                </a:lnTo>
                <a:lnTo>
                  <a:pt x="0" y="1587"/>
                </a:lnTo>
                <a:lnTo>
                  <a:pt x="0" y="1587"/>
                </a:lnTo>
                <a:lnTo>
                  <a:pt x="2" y="1589"/>
                </a:lnTo>
                <a:lnTo>
                  <a:pt x="2" y="1589"/>
                </a:lnTo>
                <a:lnTo>
                  <a:pt x="2" y="1591"/>
                </a:lnTo>
                <a:lnTo>
                  <a:pt x="2" y="1592"/>
                </a:lnTo>
                <a:lnTo>
                  <a:pt x="4" y="1592"/>
                </a:lnTo>
                <a:lnTo>
                  <a:pt x="4" y="1594"/>
                </a:lnTo>
                <a:lnTo>
                  <a:pt x="4" y="1596"/>
                </a:lnTo>
                <a:close/>
              </a:path>
            </a:pathLst>
          </a:custGeom>
          <a:solidFill>
            <a:srgbClr val="57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121"/>
          <p:cNvSpPr/>
          <p:nvPr/>
        </p:nvSpPr>
        <p:spPr>
          <a:xfrm>
            <a:off x="7083360" y="2039760"/>
            <a:ext cx="338040" cy="2519640"/>
          </a:xfrm>
          <a:custGeom>
            <a:avLst/>
            <a:gdLst>
              <a:gd name="textAreaLeft" fmla="*/ 0 w 338040"/>
              <a:gd name="textAreaRight" fmla="*/ 338400 w 338040"/>
              <a:gd name="textAreaTop" fmla="*/ 0 h 2519640"/>
              <a:gd name="textAreaBottom" fmla="*/ 2520000 h 2519640"/>
            </a:gdLst>
            <a:ahLst/>
            <a:rect l="textAreaLeft" t="textAreaTop" r="textAreaRight" b="textAreaBottom"/>
            <a:pathLst>
              <a:path w="213" h="1587">
                <a:moveTo>
                  <a:pt x="198" y="17"/>
                </a:moveTo>
                <a:lnTo>
                  <a:pt x="188" y="15"/>
                </a:lnTo>
                <a:lnTo>
                  <a:pt x="150" y="7"/>
                </a:lnTo>
                <a:lnTo>
                  <a:pt x="110" y="2"/>
                </a:lnTo>
                <a:lnTo>
                  <a:pt x="75" y="0"/>
                </a:lnTo>
                <a:lnTo>
                  <a:pt x="75" y="0"/>
                </a:lnTo>
                <a:lnTo>
                  <a:pt x="73" y="2"/>
                </a:lnTo>
                <a:lnTo>
                  <a:pt x="73" y="3"/>
                </a:lnTo>
                <a:lnTo>
                  <a:pt x="71" y="3"/>
                </a:lnTo>
                <a:lnTo>
                  <a:pt x="71" y="5"/>
                </a:lnTo>
                <a:lnTo>
                  <a:pt x="71" y="5"/>
                </a:lnTo>
                <a:lnTo>
                  <a:pt x="69" y="7"/>
                </a:lnTo>
                <a:lnTo>
                  <a:pt x="69" y="9"/>
                </a:lnTo>
                <a:lnTo>
                  <a:pt x="110" y="11"/>
                </a:lnTo>
                <a:lnTo>
                  <a:pt x="148" y="17"/>
                </a:lnTo>
                <a:lnTo>
                  <a:pt x="186" y="23"/>
                </a:lnTo>
                <a:lnTo>
                  <a:pt x="194" y="25"/>
                </a:lnTo>
                <a:lnTo>
                  <a:pt x="194" y="25"/>
                </a:lnTo>
                <a:lnTo>
                  <a:pt x="194" y="23"/>
                </a:lnTo>
                <a:lnTo>
                  <a:pt x="196" y="21"/>
                </a:lnTo>
                <a:lnTo>
                  <a:pt x="196" y="21"/>
                </a:lnTo>
                <a:lnTo>
                  <a:pt x="196" y="19"/>
                </a:lnTo>
                <a:lnTo>
                  <a:pt x="196" y="19"/>
                </a:lnTo>
                <a:lnTo>
                  <a:pt x="198" y="17"/>
                </a:lnTo>
                <a:lnTo>
                  <a:pt x="198" y="17"/>
                </a:lnTo>
                <a:close/>
                <a:moveTo>
                  <a:pt x="4" y="1587"/>
                </a:moveTo>
                <a:lnTo>
                  <a:pt x="29" y="1587"/>
                </a:lnTo>
                <a:lnTo>
                  <a:pt x="69" y="1587"/>
                </a:lnTo>
                <a:lnTo>
                  <a:pt x="110" y="1583"/>
                </a:lnTo>
                <a:lnTo>
                  <a:pt x="150" y="1579"/>
                </a:lnTo>
                <a:lnTo>
                  <a:pt x="188" y="1571"/>
                </a:lnTo>
                <a:lnTo>
                  <a:pt x="213" y="1565"/>
                </a:lnTo>
                <a:lnTo>
                  <a:pt x="213" y="1563"/>
                </a:lnTo>
                <a:lnTo>
                  <a:pt x="211" y="1563"/>
                </a:lnTo>
                <a:lnTo>
                  <a:pt x="211" y="1562"/>
                </a:lnTo>
                <a:lnTo>
                  <a:pt x="211" y="1562"/>
                </a:lnTo>
                <a:lnTo>
                  <a:pt x="209" y="1560"/>
                </a:lnTo>
                <a:lnTo>
                  <a:pt x="209" y="1560"/>
                </a:lnTo>
                <a:lnTo>
                  <a:pt x="209" y="1558"/>
                </a:lnTo>
                <a:lnTo>
                  <a:pt x="207" y="1558"/>
                </a:lnTo>
                <a:lnTo>
                  <a:pt x="186" y="1562"/>
                </a:lnTo>
                <a:lnTo>
                  <a:pt x="148" y="1569"/>
                </a:lnTo>
                <a:lnTo>
                  <a:pt x="110" y="1573"/>
                </a:lnTo>
                <a:lnTo>
                  <a:pt x="69" y="1577"/>
                </a:lnTo>
                <a:lnTo>
                  <a:pt x="29" y="1577"/>
                </a:lnTo>
                <a:lnTo>
                  <a:pt x="0" y="1577"/>
                </a:lnTo>
                <a:lnTo>
                  <a:pt x="0" y="1579"/>
                </a:lnTo>
                <a:lnTo>
                  <a:pt x="0" y="1579"/>
                </a:lnTo>
                <a:lnTo>
                  <a:pt x="2" y="1581"/>
                </a:lnTo>
                <a:lnTo>
                  <a:pt x="2" y="1583"/>
                </a:lnTo>
                <a:lnTo>
                  <a:pt x="2" y="1583"/>
                </a:lnTo>
                <a:lnTo>
                  <a:pt x="4" y="1585"/>
                </a:lnTo>
                <a:lnTo>
                  <a:pt x="4" y="1585"/>
                </a:lnTo>
                <a:lnTo>
                  <a:pt x="4" y="1587"/>
                </a:lnTo>
                <a:close/>
              </a:path>
            </a:pathLst>
          </a:custGeom>
          <a:solidFill>
            <a:srgbClr val="58b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122"/>
          <p:cNvSpPr/>
          <p:nvPr/>
        </p:nvSpPr>
        <p:spPr>
          <a:xfrm>
            <a:off x="7080120" y="2044800"/>
            <a:ext cx="338400" cy="2508120"/>
          </a:xfrm>
          <a:custGeom>
            <a:avLst/>
            <a:gdLst>
              <a:gd name="textAreaLeft" fmla="*/ 0 w 338400"/>
              <a:gd name="textAreaRight" fmla="*/ 338400 w 338400"/>
              <a:gd name="textAreaTop" fmla="*/ 0 h 2508120"/>
              <a:gd name="textAreaBottom" fmla="*/ 2508480 h 2508120"/>
            </a:gdLst>
            <a:ahLst/>
            <a:rect l="textAreaLeft" t="textAreaTop" r="textAreaRight" b="textAreaBottom"/>
            <a:pathLst>
              <a:path w="213" h="1580">
                <a:moveTo>
                  <a:pt x="198" y="18"/>
                </a:moveTo>
                <a:lnTo>
                  <a:pt x="190" y="16"/>
                </a:lnTo>
                <a:lnTo>
                  <a:pt x="150" y="8"/>
                </a:lnTo>
                <a:lnTo>
                  <a:pt x="112" y="4"/>
                </a:lnTo>
                <a:lnTo>
                  <a:pt x="73" y="0"/>
                </a:lnTo>
                <a:lnTo>
                  <a:pt x="73" y="2"/>
                </a:lnTo>
                <a:lnTo>
                  <a:pt x="73" y="2"/>
                </a:lnTo>
                <a:lnTo>
                  <a:pt x="71" y="4"/>
                </a:lnTo>
                <a:lnTo>
                  <a:pt x="71" y="6"/>
                </a:lnTo>
                <a:lnTo>
                  <a:pt x="71" y="6"/>
                </a:lnTo>
                <a:lnTo>
                  <a:pt x="69" y="8"/>
                </a:lnTo>
                <a:lnTo>
                  <a:pt x="69" y="8"/>
                </a:lnTo>
                <a:lnTo>
                  <a:pt x="67" y="10"/>
                </a:lnTo>
                <a:lnTo>
                  <a:pt x="71" y="10"/>
                </a:lnTo>
                <a:lnTo>
                  <a:pt x="110" y="14"/>
                </a:lnTo>
                <a:lnTo>
                  <a:pt x="150" y="18"/>
                </a:lnTo>
                <a:lnTo>
                  <a:pt x="188" y="25"/>
                </a:lnTo>
                <a:lnTo>
                  <a:pt x="194" y="25"/>
                </a:lnTo>
                <a:lnTo>
                  <a:pt x="194" y="25"/>
                </a:lnTo>
                <a:lnTo>
                  <a:pt x="194" y="24"/>
                </a:lnTo>
                <a:lnTo>
                  <a:pt x="194" y="24"/>
                </a:lnTo>
                <a:lnTo>
                  <a:pt x="196" y="22"/>
                </a:lnTo>
                <a:lnTo>
                  <a:pt x="196" y="22"/>
                </a:lnTo>
                <a:lnTo>
                  <a:pt x="196" y="20"/>
                </a:lnTo>
                <a:lnTo>
                  <a:pt x="198" y="18"/>
                </a:lnTo>
                <a:lnTo>
                  <a:pt x="198" y="18"/>
                </a:lnTo>
                <a:close/>
                <a:moveTo>
                  <a:pt x="4" y="1580"/>
                </a:moveTo>
                <a:lnTo>
                  <a:pt x="31" y="1580"/>
                </a:lnTo>
                <a:lnTo>
                  <a:pt x="71" y="1578"/>
                </a:lnTo>
                <a:lnTo>
                  <a:pt x="112" y="1576"/>
                </a:lnTo>
                <a:lnTo>
                  <a:pt x="150" y="1570"/>
                </a:lnTo>
                <a:lnTo>
                  <a:pt x="190" y="1564"/>
                </a:lnTo>
                <a:lnTo>
                  <a:pt x="213" y="1559"/>
                </a:lnTo>
                <a:lnTo>
                  <a:pt x="211" y="1557"/>
                </a:lnTo>
                <a:lnTo>
                  <a:pt x="211" y="1557"/>
                </a:lnTo>
                <a:lnTo>
                  <a:pt x="211" y="1555"/>
                </a:lnTo>
                <a:lnTo>
                  <a:pt x="209" y="1555"/>
                </a:lnTo>
                <a:lnTo>
                  <a:pt x="209" y="1553"/>
                </a:lnTo>
                <a:lnTo>
                  <a:pt x="209" y="1551"/>
                </a:lnTo>
                <a:lnTo>
                  <a:pt x="208" y="1551"/>
                </a:lnTo>
                <a:lnTo>
                  <a:pt x="208" y="1549"/>
                </a:lnTo>
                <a:lnTo>
                  <a:pt x="188" y="1555"/>
                </a:lnTo>
                <a:lnTo>
                  <a:pt x="150" y="1560"/>
                </a:lnTo>
                <a:lnTo>
                  <a:pt x="110" y="1566"/>
                </a:lnTo>
                <a:lnTo>
                  <a:pt x="71" y="1568"/>
                </a:lnTo>
                <a:lnTo>
                  <a:pt x="31" y="1570"/>
                </a:lnTo>
                <a:lnTo>
                  <a:pt x="0" y="1570"/>
                </a:lnTo>
                <a:lnTo>
                  <a:pt x="0" y="1570"/>
                </a:lnTo>
                <a:lnTo>
                  <a:pt x="0" y="1572"/>
                </a:lnTo>
                <a:lnTo>
                  <a:pt x="2" y="1572"/>
                </a:lnTo>
                <a:lnTo>
                  <a:pt x="2" y="1574"/>
                </a:lnTo>
                <a:lnTo>
                  <a:pt x="2" y="1576"/>
                </a:lnTo>
                <a:lnTo>
                  <a:pt x="2" y="1576"/>
                </a:lnTo>
                <a:lnTo>
                  <a:pt x="4" y="1578"/>
                </a:lnTo>
                <a:lnTo>
                  <a:pt x="4" y="1580"/>
                </a:lnTo>
                <a:close/>
              </a:path>
            </a:pathLst>
          </a:custGeom>
          <a:solidFill>
            <a:srgbClr val="59b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23"/>
          <p:cNvSpPr/>
          <p:nvPr/>
        </p:nvSpPr>
        <p:spPr>
          <a:xfrm>
            <a:off x="7074000" y="2054160"/>
            <a:ext cx="338040" cy="2489400"/>
          </a:xfrm>
          <a:custGeom>
            <a:avLst/>
            <a:gdLst>
              <a:gd name="textAreaLeft" fmla="*/ 0 w 338040"/>
              <a:gd name="textAreaRight" fmla="*/ 338400 w 338040"/>
              <a:gd name="textAreaTop" fmla="*/ 0 h 2489400"/>
              <a:gd name="textAreaBottom" fmla="*/ 2489760 h 2489400"/>
            </a:gdLst>
            <a:ahLst/>
            <a:rect l="textAreaLeft" t="textAreaTop" r="textAreaRight" b="textAreaBottom"/>
            <a:pathLst>
              <a:path w="213" h="1568">
                <a:moveTo>
                  <a:pt x="200" y="16"/>
                </a:moveTo>
                <a:lnTo>
                  <a:pt x="192" y="14"/>
                </a:lnTo>
                <a:lnTo>
                  <a:pt x="154" y="8"/>
                </a:lnTo>
                <a:lnTo>
                  <a:pt x="116" y="2"/>
                </a:lnTo>
                <a:lnTo>
                  <a:pt x="75" y="0"/>
                </a:lnTo>
                <a:lnTo>
                  <a:pt x="75" y="0"/>
                </a:lnTo>
                <a:lnTo>
                  <a:pt x="73" y="2"/>
                </a:lnTo>
                <a:lnTo>
                  <a:pt x="73" y="2"/>
                </a:lnTo>
                <a:lnTo>
                  <a:pt x="71" y="4"/>
                </a:lnTo>
                <a:lnTo>
                  <a:pt x="71" y="6"/>
                </a:lnTo>
                <a:lnTo>
                  <a:pt x="71" y="6"/>
                </a:lnTo>
                <a:lnTo>
                  <a:pt x="70" y="8"/>
                </a:lnTo>
                <a:lnTo>
                  <a:pt x="70" y="8"/>
                </a:lnTo>
                <a:lnTo>
                  <a:pt x="75" y="8"/>
                </a:lnTo>
                <a:lnTo>
                  <a:pt x="114" y="12"/>
                </a:lnTo>
                <a:lnTo>
                  <a:pt x="152" y="18"/>
                </a:lnTo>
                <a:lnTo>
                  <a:pt x="190" y="23"/>
                </a:lnTo>
                <a:lnTo>
                  <a:pt x="194" y="25"/>
                </a:lnTo>
                <a:lnTo>
                  <a:pt x="196" y="23"/>
                </a:lnTo>
                <a:lnTo>
                  <a:pt x="196" y="23"/>
                </a:lnTo>
                <a:lnTo>
                  <a:pt x="196" y="21"/>
                </a:lnTo>
                <a:lnTo>
                  <a:pt x="198" y="19"/>
                </a:lnTo>
                <a:lnTo>
                  <a:pt x="198" y="19"/>
                </a:lnTo>
                <a:lnTo>
                  <a:pt x="198" y="18"/>
                </a:lnTo>
                <a:lnTo>
                  <a:pt x="198" y="18"/>
                </a:lnTo>
                <a:lnTo>
                  <a:pt x="200" y="16"/>
                </a:lnTo>
                <a:close/>
                <a:moveTo>
                  <a:pt x="6" y="1568"/>
                </a:moveTo>
                <a:lnTo>
                  <a:pt x="35" y="1568"/>
                </a:lnTo>
                <a:lnTo>
                  <a:pt x="75" y="1568"/>
                </a:lnTo>
                <a:lnTo>
                  <a:pt x="116" y="1564"/>
                </a:lnTo>
                <a:lnTo>
                  <a:pt x="154" y="1560"/>
                </a:lnTo>
                <a:lnTo>
                  <a:pt x="192" y="1553"/>
                </a:lnTo>
                <a:lnTo>
                  <a:pt x="213" y="1549"/>
                </a:lnTo>
                <a:lnTo>
                  <a:pt x="213" y="1547"/>
                </a:lnTo>
                <a:lnTo>
                  <a:pt x="213" y="1545"/>
                </a:lnTo>
                <a:lnTo>
                  <a:pt x="212" y="1545"/>
                </a:lnTo>
                <a:lnTo>
                  <a:pt x="212" y="1543"/>
                </a:lnTo>
                <a:lnTo>
                  <a:pt x="212" y="1543"/>
                </a:lnTo>
                <a:lnTo>
                  <a:pt x="210" y="1541"/>
                </a:lnTo>
                <a:lnTo>
                  <a:pt x="210" y="1541"/>
                </a:lnTo>
                <a:lnTo>
                  <a:pt x="210" y="1539"/>
                </a:lnTo>
                <a:lnTo>
                  <a:pt x="190" y="1543"/>
                </a:lnTo>
                <a:lnTo>
                  <a:pt x="152" y="1551"/>
                </a:lnTo>
                <a:lnTo>
                  <a:pt x="114" y="1554"/>
                </a:lnTo>
                <a:lnTo>
                  <a:pt x="75" y="1558"/>
                </a:lnTo>
                <a:lnTo>
                  <a:pt x="35" y="1558"/>
                </a:lnTo>
                <a:lnTo>
                  <a:pt x="0" y="1558"/>
                </a:lnTo>
                <a:lnTo>
                  <a:pt x="2" y="1560"/>
                </a:lnTo>
                <a:lnTo>
                  <a:pt x="2" y="1560"/>
                </a:lnTo>
                <a:lnTo>
                  <a:pt x="2" y="1562"/>
                </a:lnTo>
                <a:lnTo>
                  <a:pt x="4" y="1564"/>
                </a:lnTo>
                <a:lnTo>
                  <a:pt x="4" y="1564"/>
                </a:lnTo>
                <a:lnTo>
                  <a:pt x="4" y="1566"/>
                </a:lnTo>
                <a:lnTo>
                  <a:pt x="6" y="1566"/>
                </a:lnTo>
                <a:lnTo>
                  <a:pt x="6" y="1568"/>
                </a:lnTo>
                <a:close/>
              </a:path>
            </a:pathLst>
          </a:custGeom>
          <a:solidFill>
            <a:srgbClr val="5a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124"/>
          <p:cNvSpPr/>
          <p:nvPr/>
        </p:nvSpPr>
        <p:spPr>
          <a:xfrm>
            <a:off x="7072200" y="2060640"/>
            <a:ext cx="338400" cy="2476440"/>
          </a:xfrm>
          <a:custGeom>
            <a:avLst/>
            <a:gdLst>
              <a:gd name="textAreaLeft" fmla="*/ 0 w 338400"/>
              <a:gd name="textAreaRight" fmla="*/ 338400 w 338400"/>
              <a:gd name="textAreaTop" fmla="*/ 0 h 2476440"/>
              <a:gd name="textAreaBottom" fmla="*/ 2476800 h 2476440"/>
            </a:gdLst>
            <a:ahLst/>
            <a:rect l="textAreaLeft" t="textAreaTop" r="textAreaRight" b="textAreaBottom"/>
            <a:pathLst>
              <a:path w="213" h="1560">
                <a:moveTo>
                  <a:pt x="199" y="15"/>
                </a:moveTo>
                <a:lnTo>
                  <a:pt x="193" y="15"/>
                </a:lnTo>
                <a:lnTo>
                  <a:pt x="155" y="8"/>
                </a:lnTo>
                <a:lnTo>
                  <a:pt x="115" y="4"/>
                </a:lnTo>
                <a:lnTo>
                  <a:pt x="76" y="0"/>
                </a:lnTo>
                <a:lnTo>
                  <a:pt x="72" y="0"/>
                </a:lnTo>
                <a:lnTo>
                  <a:pt x="72" y="2"/>
                </a:lnTo>
                <a:lnTo>
                  <a:pt x="72" y="2"/>
                </a:lnTo>
                <a:lnTo>
                  <a:pt x="71" y="4"/>
                </a:lnTo>
                <a:lnTo>
                  <a:pt x="71" y="4"/>
                </a:lnTo>
                <a:lnTo>
                  <a:pt x="71" y="6"/>
                </a:lnTo>
                <a:lnTo>
                  <a:pt x="69" y="8"/>
                </a:lnTo>
                <a:lnTo>
                  <a:pt x="69" y="8"/>
                </a:lnTo>
                <a:lnTo>
                  <a:pt x="67" y="10"/>
                </a:lnTo>
                <a:lnTo>
                  <a:pt x="74" y="10"/>
                </a:lnTo>
                <a:lnTo>
                  <a:pt x="115" y="14"/>
                </a:lnTo>
                <a:lnTo>
                  <a:pt x="153" y="17"/>
                </a:lnTo>
                <a:lnTo>
                  <a:pt x="191" y="25"/>
                </a:lnTo>
                <a:lnTo>
                  <a:pt x="193" y="25"/>
                </a:lnTo>
                <a:lnTo>
                  <a:pt x="193" y="23"/>
                </a:lnTo>
                <a:lnTo>
                  <a:pt x="195" y="23"/>
                </a:lnTo>
                <a:lnTo>
                  <a:pt x="195" y="21"/>
                </a:lnTo>
                <a:lnTo>
                  <a:pt x="195" y="21"/>
                </a:lnTo>
                <a:lnTo>
                  <a:pt x="197" y="19"/>
                </a:lnTo>
                <a:lnTo>
                  <a:pt x="197" y="19"/>
                </a:lnTo>
                <a:lnTo>
                  <a:pt x="197" y="17"/>
                </a:lnTo>
                <a:lnTo>
                  <a:pt x="199" y="15"/>
                </a:lnTo>
                <a:close/>
                <a:moveTo>
                  <a:pt x="5" y="1560"/>
                </a:moveTo>
                <a:lnTo>
                  <a:pt x="36" y="1560"/>
                </a:lnTo>
                <a:lnTo>
                  <a:pt x="76" y="1558"/>
                </a:lnTo>
                <a:lnTo>
                  <a:pt x="115" y="1556"/>
                </a:lnTo>
                <a:lnTo>
                  <a:pt x="155" y="1550"/>
                </a:lnTo>
                <a:lnTo>
                  <a:pt x="193" y="1545"/>
                </a:lnTo>
                <a:lnTo>
                  <a:pt x="213" y="1539"/>
                </a:lnTo>
                <a:lnTo>
                  <a:pt x="213" y="1539"/>
                </a:lnTo>
                <a:lnTo>
                  <a:pt x="211" y="1537"/>
                </a:lnTo>
                <a:lnTo>
                  <a:pt x="211" y="1537"/>
                </a:lnTo>
                <a:lnTo>
                  <a:pt x="211" y="1535"/>
                </a:lnTo>
                <a:lnTo>
                  <a:pt x="209" y="1535"/>
                </a:lnTo>
                <a:lnTo>
                  <a:pt x="209" y="1533"/>
                </a:lnTo>
                <a:lnTo>
                  <a:pt x="209" y="1531"/>
                </a:lnTo>
                <a:lnTo>
                  <a:pt x="207" y="1531"/>
                </a:lnTo>
                <a:lnTo>
                  <a:pt x="191" y="1535"/>
                </a:lnTo>
                <a:lnTo>
                  <a:pt x="153" y="1541"/>
                </a:lnTo>
                <a:lnTo>
                  <a:pt x="115" y="1547"/>
                </a:lnTo>
                <a:lnTo>
                  <a:pt x="74" y="1549"/>
                </a:lnTo>
                <a:lnTo>
                  <a:pt x="36" y="1550"/>
                </a:lnTo>
                <a:lnTo>
                  <a:pt x="0" y="1550"/>
                </a:lnTo>
                <a:lnTo>
                  <a:pt x="1" y="1550"/>
                </a:lnTo>
                <a:lnTo>
                  <a:pt x="1" y="1552"/>
                </a:lnTo>
                <a:lnTo>
                  <a:pt x="1" y="1552"/>
                </a:lnTo>
                <a:lnTo>
                  <a:pt x="1" y="1554"/>
                </a:lnTo>
                <a:lnTo>
                  <a:pt x="3" y="1556"/>
                </a:lnTo>
                <a:lnTo>
                  <a:pt x="3" y="1556"/>
                </a:lnTo>
                <a:lnTo>
                  <a:pt x="3" y="1558"/>
                </a:lnTo>
                <a:lnTo>
                  <a:pt x="5" y="1560"/>
                </a:lnTo>
                <a:close/>
              </a:path>
            </a:pathLst>
          </a:custGeom>
          <a:solidFill>
            <a:srgbClr val="5b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125"/>
          <p:cNvSpPr/>
          <p:nvPr/>
        </p:nvSpPr>
        <p:spPr>
          <a:xfrm>
            <a:off x="7068960" y="2066760"/>
            <a:ext cx="338400" cy="2460960"/>
          </a:xfrm>
          <a:custGeom>
            <a:avLst/>
            <a:gdLst>
              <a:gd name="textAreaLeft" fmla="*/ 0 w 338400"/>
              <a:gd name="textAreaRight" fmla="*/ 338400 w 338400"/>
              <a:gd name="textAreaTop" fmla="*/ 0 h 2460960"/>
              <a:gd name="textAreaBottom" fmla="*/ 2461320 h 2460960"/>
            </a:gdLst>
            <a:ahLst/>
            <a:rect l="textAreaLeft" t="textAreaTop" r="textAreaRight" b="textAreaBottom"/>
            <a:pathLst>
              <a:path w="213" h="1550">
                <a:moveTo>
                  <a:pt x="197" y="17"/>
                </a:moveTo>
                <a:lnTo>
                  <a:pt x="193" y="15"/>
                </a:lnTo>
                <a:lnTo>
                  <a:pt x="155" y="10"/>
                </a:lnTo>
                <a:lnTo>
                  <a:pt x="117" y="4"/>
                </a:lnTo>
                <a:lnTo>
                  <a:pt x="78" y="0"/>
                </a:lnTo>
                <a:lnTo>
                  <a:pt x="73" y="0"/>
                </a:lnTo>
                <a:lnTo>
                  <a:pt x="73" y="2"/>
                </a:lnTo>
                <a:lnTo>
                  <a:pt x="71" y="4"/>
                </a:lnTo>
                <a:lnTo>
                  <a:pt x="71" y="4"/>
                </a:lnTo>
                <a:lnTo>
                  <a:pt x="69" y="6"/>
                </a:lnTo>
                <a:lnTo>
                  <a:pt x="69" y="6"/>
                </a:lnTo>
                <a:lnTo>
                  <a:pt x="69" y="8"/>
                </a:lnTo>
                <a:lnTo>
                  <a:pt x="67" y="10"/>
                </a:lnTo>
                <a:lnTo>
                  <a:pt x="67" y="10"/>
                </a:lnTo>
                <a:lnTo>
                  <a:pt x="76" y="10"/>
                </a:lnTo>
                <a:lnTo>
                  <a:pt x="117" y="13"/>
                </a:lnTo>
                <a:lnTo>
                  <a:pt x="155" y="17"/>
                </a:lnTo>
                <a:lnTo>
                  <a:pt x="192" y="25"/>
                </a:lnTo>
                <a:lnTo>
                  <a:pt x="193" y="25"/>
                </a:lnTo>
                <a:lnTo>
                  <a:pt x="193" y="25"/>
                </a:lnTo>
                <a:lnTo>
                  <a:pt x="195" y="23"/>
                </a:lnTo>
                <a:lnTo>
                  <a:pt x="195" y="23"/>
                </a:lnTo>
                <a:lnTo>
                  <a:pt x="195" y="21"/>
                </a:lnTo>
                <a:lnTo>
                  <a:pt x="195" y="19"/>
                </a:lnTo>
                <a:lnTo>
                  <a:pt x="197" y="19"/>
                </a:lnTo>
                <a:lnTo>
                  <a:pt x="197" y="17"/>
                </a:lnTo>
                <a:lnTo>
                  <a:pt x="197" y="17"/>
                </a:lnTo>
                <a:close/>
                <a:moveTo>
                  <a:pt x="3" y="1550"/>
                </a:moveTo>
                <a:lnTo>
                  <a:pt x="38" y="1550"/>
                </a:lnTo>
                <a:lnTo>
                  <a:pt x="78" y="1550"/>
                </a:lnTo>
                <a:lnTo>
                  <a:pt x="117" y="1546"/>
                </a:lnTo>
                <a:lnTo>
                  <a:pt x="155" y="1543"/>
                </a:lnTo>
                <a:lnTo>
                  <a:pt x="193" y="1535"/>
                </a:lnTo>
                <a:lnTo>
                  <a:pt x="213" y="1531"/>
                </a:lnTo>
                <a:lnTo>
                  <a:pt x="211" y="1529"/>
                </a:lnTo>
                <a:lnTo>
                  <a:pt x="211" y="1529"/>
                </a:lnTo>
                <a:lnTo>
                  <a:pt x="211" y="1527"/>
                </a:lnTo>
                <a:lnTo>
                  <a:pt x="209" y="1527"/>
                </a:lnTo>
                <a:lnTo>
                  <a:pt x="209" y="1525"/>
                </a:lnTo>
                <a:lnTo>
                  <a:pt x="209" y="1525"/>
                </a:lnTo>
                <a:lnTo>
                  <a:pt x="207" y="1523"/>
                </a:lnTo>
                <a:lnTo>
                  <a:pt x="207" y="1523"/>
                </a:lnTo>
                <a:lnTo>
                  <a:pt x="192" y="1525"/>
                </a:lnTo>
                <a:lnTo>
                  <a:pt x="155" y="1533"/>
                </a:lnTo>
                <a:lnTo>
                  <a:pt x="117" y="1537"/>
                </a:lnTo>
                <a:lnTo>
                  <a:pt x="76" y="1541"/>
                </a:lnTo>
                <a:lnTo>
                  <a:pt x="38" y="1543"/>
                </a:lnTo>
                <a:lnTo>
                  <a:pt x="0" y="1541"/>
                </a:lnTo>
                <a:lnTo>
                  <a:pt x="0" y="1543"/>
                </a:lnTo>
                <a:lnTo>
                  <a:pt x="2" y="1543"/>
                </a:lnTo>
                <a:lnTo>
                  <a:pt x="2" y="1545"/>
                </a:lnTo>
                <a:lnTo>
                  <a:pt x="2" y="1546"/>
                </a:lnTo>
                <a:lnTo>
                  <a:pt x="3" y="1546"/>
                </a:lnTo>
                <a:lnTo>
                  <a:pt x="3" y="1548"/>
                </a:lnTo>
                <a:lnTo>
                  <a:pt x="3" y="1548"/>
                </a:lnTo>
                <a:lnTo>
                  <a:pt x="3" y="1550"/>
                </a:lnTo>
                <a:close/>
              </a:path>
            </a:pathLst>
          </a:custGeom>
          <a:solidFill>
            <a:srgbClr val="5c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126"/>
          <p:cNvSpPr/>
          <p:nvPr/>
        </p:nvSpPr>
        <p:spPr>
          <a:xfrm>
            <a:off x="7066080" y="2076480"/>
            <a:ext cx="334800" cy="2444760"/>
          </a:xfrm>
          <a:custGeom>
            <a:avLst/>
            <a:gdLst>
              <a:gd name="textAreaLeft" fmla="*/ 0 w 334800"/>
              <a:gd name="textAreaRight" fmla="*/ 334800 w 334800"/>
              <a:gd name="textAreaTop" fmla="*/ 0 h 2444760"/>
              <a:gd name="textAreaBottom" fmla="*/ 2445120 h 2444760"/>
            </a:gdLst>
            <a:ahLst/>
            <a:rect l="textAreaLeft" t="textAreaTop" r="textAreaRight" b="textAreaBottom"/>
            <a:pathLst>
              <a:path w="211" h="1540">
                <a:moveTo>
                  <a:pt x="197" y="15"/>
                </a:moveTo>
                <a:lnTo>
                  <a:pt x="195" y="15"/>
                </a:lnTo>
                <a:lnTo>
                  <a:pt x="157" y="7"/>
                </a:lnTo>
                <a:lnTo>
                  <a:pt x="119" y="4"/>
                </a:lnTo>
                <a:lnTo>
                  <a:pt x="78" y="0"/>
                </a:lnTo>
                <a:lnTo>
                  <a:pt x="71" y="0"/>
                </a:lnTo>
                <a:lnTo>
                  <a:pt x="71" y="0"/>
                </a:lnTo>
                <a:lnTo>
                  <a:pt x="71" y="2"/>
                </a:lnTo>
                <a:lnTo>
                  <a:pt x="69" y="4"/>
                </a:lnTo>
                <a:lnTo>
                  <a:pt x="69" y="4"/>
                </a:lnTo>
                <a:lnTo>
                  <a:pt x="67" y="5"/>
                </a:lnTo>
                <a:lnTo>
                  <a:pt x="67" y="5"/>
                </a:lnTo>
                <a:lnTo>
                  <a:pt x="67" y="7"/>
                </a:lnTo>
                <a:lnTo>
                  <a:pt x="65" y="9"/>
                </a:lnTo>
                <a:lnTo>
                  <a:pt x="78" y="9"/>
                </a:lnTo>
                <a:lnTo>
                  <a:pt x="117" y="11"/>
                </a:lnTo>
                <a:lnTo>
                  <a:pt x="155" y="17"/>
                </a:lnTo>
                <a:lnTo>
                  <a:pt x="194" y="23"/>
                </a:lnTo>
                <a:lnTo>
                  <a:pt x="194" y="23"/>
                </a:lnTo>
                <a:lnTo>
                  <a:pt x="194" y="23"/>
                </a:lnTo>
                <a:lnTo>
                  <a:pt x="194" y="21"/>
                </a:lnTo>
                <a:lnTo>
                  <a:pt x="195" y="21"/>
                </a:lnTo>
                <a:lnTo>
                  <a:pt x="195" y="19"/>
                </a:lnTo>
                <a:lnTo>
                  <a:pt x="195" y="19"/>
                </a:lnTo>
                <a:lnTo>
                  <a:pt x="197" y="17"/>
                </a:lnTo>
                <a:lnTo>
                  <a:pt x="197" y="17"/>
                </a:lnTo>
                <a:lnTo>
                  <a:pt x="197" y="15"/>
                </a:lnTo>
                <a:close/>
                <a:moveTo>
                  <a:pt x="4" y="1540"/>
                </a:moveTo>
                <a:lnTo>
                  <a:pt x="40" y="1540"/>
                </a:lnTo>
                <a:lnTo>
                  <a:pt x="78" y="1539"/>
                </a:lnTo>
                <a:lnTo>
                  <a:pt x="119" y="1537"/>
                </a:lnTo>
                <a:lnTo>
                  <a:pt x="157" y="1531"/>
                </a:lnTo>
                <a:lnTo>
                  <a:pt x="195" y="1525"/>
                </a:lnTo>
                <a:lnTo>
                  <a:pt x="211" y="1521"/>
                </a:lnTo>
                <a:lnTo>
                  <a:pt x="211" y="1519"/>
                </a:lnTo>
                <a:lnTo>
                  <a:pt x="211" y="1519"/>
                </a:lnTo>
                <a:lnTo>
                  <a:pt x="209" y="1517"/>
                </a:lnTo>
                <a:lnTo>
                  <a:pt x="209" y="1517"/>
                </a:lnTo>
                <a:lnTo>
                  <a:pt x="209" y="1516"/>
                </a:lnTo>
                <a:lnTo>
                  <a:pt x="209" y="1514"/>
                </a:lnTo>
                <a:lnTo>
                  <a:pt x="207" y="1514"/>
                </a:lnTo>
                <a:lnTo>
                  <a:pt x="207" y="1512"/>
                </a:lnTo>
                <a:lnTo>
                  <a:pt x="194" y="1516"/>
                </a:lnTo>
                <a:lnTo>
                  <a:pt x="155" y="1523"/>
                </a:lnTo>
                <a:lnTo>
                  <a:pt x="117" y="1527"/>
                </a:lnTo>
                <a:lnTo>
                  <a:pt x="78" y="1531"/>
                </a:lnTo>
                <a:lnTo>
                  <a:pt x="40" y="1531"/>
                </a:lnTo>
                <a:lnTo>
                  <a:pt x="0" y="1531"/>
                </a:lnTo>
                <a:lnTo>
                  <a:pt x="0" y="1531"/>
                </a:lnTo>
                <a:lnTo>
                  <a:pt x="0" y="1531"/>
                </a:lnTo>
                <a:lnTo>
                  <a:pt x="2" y="1533"/>
                </a:lnTo>
                <a:lnTo>
                  <a:pt x="2" y="1533"/>
                </a:lnTo>
                <a:lnTo>
                  <a:pt x="2" y="1535"/>
                </a:lnTo>
                <a:lnTo>
                  <a:pt x="2" y="1537"/>
                </a:lnTo>
                <a:lnTo>
                  <a:pt x="4" y="1537"/>
                </a:lnTo>
                <a:lnTo>
                  <a:pt x="4" y="1539"/>
                </a:lnTo>
                <a:lnTo>
                  <a:pt x="4" y="1540"/>
                </a:lnTo>
                <a:close/>
              </a:path>
            </a:pathLst>
          </a:custGeom>
          <a:solidFill>
            <a:srgbClr val="5db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127"/>
          <p:cNvSpPr/>
          <p:nvPr/>
        </p:nvSpPr>
        <p:spPr>
          <a:xfrm>
            <a:off x="7062840" y="2082960"/>
            <a:ext cx="334800" cy="2433600"/>
          </a:xfrm>
          <a:custGeom>
            <a:avLst/>
            <a:gdLst/>
            <a:ahLst/>
            <a:rect l="l" t="t" r="r" b="b"/>
            <a:pathLst>
              <a:path w="211" h="1533">
                <a:moveTo>
                  <a:pt x="197" y="15"/>
                </a:moveTo>
                <a:lnTo>
                  <a:pt x="196" y="15"/>
                </a:lnTo>
                <a:lnTo>
                  <a:pt x="159" y="7"/>
                </a:lnTo>
                <a:lnTo>
                  <a:pt x="121" y="3"/>
                </a:lnTo>
                <a:lnTo>
                  <a:pt x="80" y="0"/>
                </a:lnTo>
                <a:lnTo>
                  <a:pt x="71" y="0"/>
                </a:lnTo>
                <a:lnTo>
                  <a:pt x="71" y="1"/>
                </a:lnTo>
                <a:lnTo>
                  <a:pt x="69" y="1"/>
                </a:lnTo>
                <a:lnTo>
                  <a:pt x="69" y="3"/>
                </a:lnTo>
                <a:lnTo>
                  <a:pt x="67" y="5"/>
                </a:lnTo>
                <a:lnTo>
                  <a:pt x="67" y="5"/>
                </a:lnTo>
                <a:lnTo>
                  <a:pt x="67" y="7"/>
                </a:lnTo>
                <a:lnTo>
                  <a:pt x="65" y="9"/>
                </a:lnTo>
                <a:lnTo>
                  <a:pt x="65" y="9"/>
                </a:lnTo>
                <a:lnTo>
                  <a:pt x="80" y="9"/>
                </a:lnTo>
                <a:lnTo>
                  <a:pt x="119" y="13"/>
                </a:lnTo>
                <a:lnTo>
                  <a:pt x="157" y="17"/>
                </a:lnTo>
                <a:lnTo>
                  <a:pt x="194" y="24"/>
                </a:lnTo>
                <a:lnTo>
                  <a:pt x="194" y="23"/>
                </a:lnTo>
                <a:lnTo>
                  <a:pt x="194" y="23"/>
                </a:lnTo>
                <a:lnTo>
                  <a:pt x="196" y="21"/>
                </a:lnTo>
                <a:lnTo>
                  <a:pt x="196" y="19"/>
                </a:lnTo>
                <a:lnTo>
                  <a:pt x="196" y="19"/>
                </a:lnTo>
                <a:lnTo>
                  <a:pt x="196" y="17"/>
                </a:lnTo>
                <a:lnTo>
                  <a:pt x="197" y="17"/>
                </a:lnTo>
                <a:lnTo>
                  <a:pt x="197" y="15"/>
                </a:lnTo>
                <a:close/>
                <a:moveTo>
                  <a:pt x="4" y="1531"/>
                </a:moveTo>
                <a:lnTo>
                  <a:pt x="42" y="1533"/>
                </a:lnTo>
                <a:lnTo>
                  <a:pt x="80" y="1531"/>
                </a:lnTo>
                <a:lnTo>
                  <a:pt x="121" y="1527"/>
                </a:lnTo>
                <a:lnTo>
                  <a:pt x="159" y="1523"/>
                </a:lnTo>
                <a:lnTo>
                  <a:pt x="196" y="1515"/>
                </a:lnTo>
                <a:lnTo>
                  <a:pt x="211" y="1513"/>
                </a:lnTo>
                <a:lnTo>
                  <a:pt x="211" y="1512"/>
                </a:lnTo>
                <a:lnTo>
                  <a:pt x="211" y="1510"/>
                </a:lnTo>
                <a:lnTo>
                  <a:pt x="209" y="1510"/>
                </a:lnTo>
                <a:lnTo>
                  <a:pt x="209" y="1508"/>
                </a:lnTo>
                <a:lnTo>
                  <a:pt x="209" y="1508"/>
                </a:lnTo>
                <a:lnTo>
                  <a:pt x="207" y="1506"/>
                </a:lnTo>
                <a:lnTo>
                  <a:pt x="207" y="1506"/>
                </a:lnTo>
                <a:lnTo>
                  <a:pt x="207" y="1504"/>
                </a:lnTo>
                <a:lnTo>
                  <a:pt x="194" y="1508"/>
                </a:lnTo>
                <a:lnTo>
                  <a:pt x="157" y="1513"/>
                </a:lnTo>
                <a:lnTo>
                  <a:pt x="119" y="1519"/>
                </a:lnTo>
                <a:lnTo>
                  <a:pt x="80" y="1521"/>
                </a:lnTo>
                <a:lnTo>
                  <a:pt x="42" y="1523"/>
                </a:lnTo>
                <a:lnTo>
                  <a:pt x="2" y="1521"/>
                </a:lnTo>
                <a:lnTo>
                  <a:pt x="0" y="1521"/>
                </a:lnTo>
                <a:lnTo>
                  <a:pt x="0" y="1523"/>
                </a:lnTo>
                <a:lnTo>
                  <a:pt x="0" y="1523"/>
                </a:lnTo>
                <a:lnTo>
                  <a:pt x="2" y="1525"/>
                </a:lnTo>
                <a:lnTo>
                  <a:pt x="2" y="1527"/>
                </a:lnTo>
                <a:lnTo>
                  <a:pt x="2" y="1527"/>
                </a:lnTo>
                <a:lnTo>
                  <a:pt x="4" y="1529"/>
                </a:lnTo>
                <a:lnTo>
                  <a:pt x="4" y="1529"/>
                </a:lnTo>
                <a:lnTo>
                  <a:pt x="4" y="1531"/>
                </a:lnTo>
                <a:close/>
              </a:path>
            </a:pathLst>
          </a:custGeom>
          <a:solidFill>
            <a:srgbClr val="5eb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128"/>
          <p:cNvSpPr/>
          <p:nvPr/>
        </p:nvSpPr>
        <p:spPr>
          <a:xfrm>
            <a:off x="7059600" y="2090880"/>
            <a:ext cx="334800" cy="2415960"/>
          </a:xfrm>
          <a:custGeom>
            <a:avLst/>
            <a:gdLst>
              <a:gd name="textAreaLeft" fmla="*/ 0 w 334800"/>
              <a:gd name="textAreaRight" fmla="*/ 334800 w 334800"/>
              <a:gd name="textAreaTop" fmla="*/ 0 h 2415960"/>
              <a:gd name="textAreaBottom" fmla="*/ 2416320 h 2415960"/>
            </a:gdLst>
            <a:ahLst/>
            <a:rect l="textAreaLeft" t="textAreaTop" r="textAreaRight" b="textAreaBottom"/>
            <a:pathLst>
              <a:path w="211" h="1522">
                <a:moveTo>
                  <a:pt x="198" y="14"/>
                </a:moveTo>
                <a:lnTo>
                  <a:pt x="198" y="14"/>
                </a:lnTo>
                <a:lnTo>
                  <a:pt x="159" y="8"/>
                </a:lnTo>
                <a:lnTo>
                  <a:pt x="121" y="2"/>
                </a:lnTo>
                <a:lnTo>
                  <a:pt x="82" y="0"/>
                </a:lnTo>
                <a:lnTo>
                  <a:pt x="69" y="0"/>
                </a:lnTo>
                <a:lnTo>
                  <a:pt x="69" y="0"/>
                </a:lnTo>
                <a:lnTo>
                  <a:pt x="69" y="2"/>
                </a:lnTo>
                <a:lnTo>
                  <a:pt x="67" y="4"/>
                </a:lnTo>
                <a:lnTo>
                  <a:pt x="67" y="4"/>
                </a:lnTo>
                <a:lnTo>
                  <a:pt x="67" y="6"/>
                </a:lnTo>
                <a:lnTo>
                  <a:pt x="65" y="6"/>
                </a:lnTo>
                <a:lnTo>
                  <a:pt x="65" y="8"/>
                </a:lnTo>
                <a:lnTo>
                  <a:pt x="63" y="10"/>
                </a:lnTo>
                <a:lnTo>
                  <a:pt x="82" y="10"/>
                </a:lnTo>
                <a:lnTo>
                  <a:pt x="121" y="12"/>
                </a:lnTo>
                <a:lnTo>
                  <a:pt x="157" y="18"/>
                </a:lnTo>
                <a:lnTo>
                  <a:pt x="194" y="23"/>
                </a:lnTo>
                <a:lnTo>
                  <a:pt x="194" y="21"/>
                </a:lnTo>
                <a:lnTo>
                  <a:pt x="194" y="21"/>
                </a:lnTo>
                <a:lnTo>
                  <a:pt x="196" y="19"/>
                </a:lnTo>
                <a:lnTo>
                  <a:pt x="196" y="19"/>
                </a:lnTo>
                <a:lnTo>
                  <a:pt x="196" y="18"/>
                </a:lnTo>
                <a:lnTo>
                  <a:pt x="196" y="18"/>
                </a:lnTo>
                <a:lnTo>
                  <a:pt x="198" y="16"/>
                </a:lnTo>
                <a:lnTo>
                  <a:pt x="198" y="14"/>
                </a:lnTo>
                <a:close/>
                <a:moveTo>
                  <a:pt x="4" y="1522"/>
                </a:moveTo>
                <a:lnTo>
                  <a:pt x="4" y="1522"/>
                </a:lnTo>
                <a:lnTo>
                  <a:pt x="44" y="1522"/>
                </a:lnTo>
                <a:lnTo>
                  <a:pt x="82" y="1522"/>
                </a:lnTo>
                <a:lnTo>
                  <a:pt x="121" y="1518"/>
                </a:lnTo>
                <a:lnTo>
                  <a:pt x="159" y="1514"/>
                </a:lnTo>
                <a:lnTo>
                  <a:pt x="198" y="1507"/>
                </a:lnTo>
                <a:lnTo>
                  <a:pt x="211" y="1503"/>
                </a:lnTo>
                <a:lnTo>
                  <a:pt x="211" y="1503"/>
                </a:lnTo>
                <a:lnTo>
                  <a:pt x="209" y="1501"/>
                </a:lnTo>
                <a:lnTo>
                  <a:pt x="209" y="1501"/>
                </a:lnTo>
                <a:lnTo>
                  <a:pt x="209" y="1499"/>
                </a:lnTo>
                <a:lnTo>
                  <a:pt x="207" y="1499"/>
                </a:lnTo>
                <a:lnTo>
                  <a:pt x="207" y="1497"/>
                </a:lnTo>
                <a:lnTo>
                  <a:pt x="207" y="1495"/>
                </a:lnTo>
                <a:lnTo>
                  <a:pt x="205" y="1495"/>
                </a:lnTo>
                <a:lnTo>
                  <a:pt x="196" y="1497"/>
                </a:lnTo>
                <a:lnTo>
                  <a:pt x="157" y="1505"/>
                </a:lnTo>
                <a:lnTo>
                  <a:pt x="121" y="1508"/>
                </a:lnTo>
                <a:lnTo>
                  <a:pt x="82" y="1512"/>
                </a:lnTo>
                <a:lnTo>
                  <a:pt x="44" y="1512"/>
                </a:lnTo>
                <a:lnTo>
                  <a:pt x="6" y="1512"/>
                </a:lnTo>
                <a:lnTo>
                  <a:pt x="0" y="1510"/>
                </a:lnTo>
                <a:lnTo>
                  <a:pt x="0" y="1512"/>
                </a:lnTo>
                <a:lnTo>
                  <a:pt x="0" y="1514"/>
                </a:lnTo>
                <a:lnTo>
                  <a:pt x="2" y="1514"/>
                </a:lnTo>
                <a:lnTo>
                  <a:pt x="2" y="1516"/>
                </a:lnTo>
                <a:lnTo>
                  <a:pt x="2" y="1518"/>
                </a:lnTo>
                <a:lnTo>
                  <a:pt x="2" y="1518"/>
                </a:lnTo>
                <a:lnTo>
                  <a:pt x="4" y="1520"/>
                </a:lnTo>
                <a:lnTo>
                  <a:pt x="4" y="1522"/>
                </a:lnTo>
                <a:close/>
              </a:path>
            </a:pathLst>
          </a:custGeom>
          <a:solidFill>
            <a:srgbClr val="5f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129"/>
          <p:cNvSpPr/>
          <p:nvPr/>
        </p:nvSpPr>
        <p:spPr>
          <a:xfrm>
            <a:off x="7056360" y="2097000"/>
            <a:ext cx="335160" cy="2403720"/>
          </a:xfrm>
          <a:custGeom>
            <a:avLst/>
            <a:gdLst>
              <a:gd name="textAreaLeft" fmla="*/ 0 w 335160"/>
              <a:gd name="textAreaRight" fmla="*/ 335520 w 335160"/>
              <a:gd name="textAreaTop" fmla="*/ 0 h 2403720"/>
              <a:gd name="textAreaBottom" fmla="*/ 2404080 h 2403720"/>
            </a:gdLst>
            <a:ahLst/>
            <a:rect l="textAreaLeft" t="textAreaTop" r="textAreaRight" b="textAreaBottom"/>
            <a:pathLst>
              <a:path w="211" h="1514">
                <a:moveTo>
                  <a:pt x="198" y="15"/>
                </a:moveTo>
                <a:lnTo>
                  <a:pt x="161" y="8"/>
                </a:lnTo>
                <a:lnTo>
                  <a:pt x="123" y="4"/>
                </a:lnTo>
                <a:lnTo>
                  <a:pt x="84" y="0"/>
                </a:lnTo>
                <a:lnTo>
                  <a:pt x="69" y="0"/>
                </a:lnTo>
                <a:lnTo>
                  <a:pt x="69" y="2"/>
                </a:lnTo>
                <a:lnTo>
                  <a:pt x="67" y="2"/>
                </a:lnTo>
                <a:lnTo>
                  <a:pt x="67" y="4"/>
                </a:lnTo>
                <a:lnTo>
                  <a:pt x="65" y="6"/>
                </a:lnTo>
                <a:lnTo>
                  <a:pt x="65" y="6"/>
                </a:lnTo>
                <a:lnTo>
                  <a:pt x="65" y="8"/>
                </a:lnTo>
                <a:lnTo>
                  <a:pt x="63" y="8"/>
                </a:lnTo>
                <a:lnTo>
                  <a:pt x="63" y="10"/>
                </a:lnTo>
                <a:lnTo>
                  <a:pt x="84" y="10"/>
                </a:lnTo>
                <a:lnTo>
                  <a:pt x="123" y="14"/>
                </a:lnTo>
                <a:lnTo>
                  <a:pt x="159" y="17"/>
                </a:lnTo>
                <a:lnTo>
                  <a:pt x="194" y="23"/>
                </a:lnTo>
                <a:lnTo>
                  <a:pt x="194" y="23"/>
                </a:lnTo>
                <a:lnTo>
                  <a:pt x="194" y="21"/>
                </a:lnTo>
                <a:lnTo>
                  <a:pt x="194" y="21"/>
                </a:lnTo>
                <a:lnTo>
                  <a:pt x="196" y="19"/>
                </a:lnTo>
                <a:lnTo>
                  <a:pt x="196" y="17"/>
                </a:lnTo>
                <a:lnTo>
                  <a:pt x="196" y="17"/>
                </a:lnTo>
                <a:lnTo>
                  <a:pt x="198" y="15"/>
                </a:lnTo>
                <a:lnTo>
                  <a:pt x="198" y="15"/>
                </a:lnTo>
                <a:close/>
                <a:moveTo>
                  <a:pt x="4" y="1512"/>
                </a:moveTo>
                <a:lnTo>
                  <a:pt x="6" y="1512"/>
                </a:lnTo>
                <a:lnTo>
                  <a:pt x="46" y="1514"/>
                </a:lnTo>
                <a:lnTo>
                  <a:pt x="84" y="1512"/>
                </a:lnTo>
                <a:lnTo>
                  <a:pt x="123" y="1510"/>
                </a:lnTo>
                <a:lnTo>
                  <a:pt x="161" y="1504"/>
                </a:lnTo>
                <a:lnTo>
                  <a:pt x="198" y="1499"/>
                </a:lnTo>
                <a:lnTo>
                  <a:pt x="211" y="1495"/>
                </a:lnTo>
                <a:lnTo>
                  <a:pt x="209" y="1495"/>
                </a:lnTo>
                <a:lnTo>
                  <a:pt x="209" y="1493"/>
                </a:lnTo>
                <a:lnTo>
                  <a:pt x="209" y="1491"/>
                </a:lnTo>
                <a:lnTo>
                  <a:pt x="207" y="1491"/>
                </a:lnTo>
                <a:lnTo>
                  <a:pt x="207" y="1489"/>
                </a:lnTo>
                <a:lnTo>
                  <a:pt x="207" y="1489"/>
                </a:lnTo>
                <a:lnTo>
                  <a:pt x="205" y="1487"/>
                </a:lnTo>
                <a:lnTo>
                  <a:pt x="205" y="1487"/>
                </a:lnTo>
                <a:lnTo>
                  <a:pt x="196" y="1489"/>
                </a:lnTo>
                <a:lnTo>
                  <a:pt x="159" y="1495"/>
                </a:lnTo>
                <a:lnTo>
                  <a:pt x="123" y="1501"/>
                </a:lnTo>
                <a:lnTo>
                  <a:pt x="84" y="1503"/>
                </a:lnTo>
                <a:lnTo>
                  <a:pt x="46" y="1504"/>
                </a:lnTo>
                <a:lnTo>
                  <a:pt x="8" y="1503"/>
                </a:lnTo>
                <a:lnTo>
                  <a:pt x="0" y="1503"/>
                </a:lnTo>
                <a:lnTo>
                  <a:pt x="0" y="1503"/>
                </a:lnTo>
                <a:lnTo>
                  <a:pt x="0" y="1504"/>
                </a:lnTo>
                <a:lnTo>
                  <a:pt x="0" y="1506"/>
                </a:lnTo>
                <a:lnTo>
                  <a:pt x="2" y="1506"/>
                </a:lnTo>
                <a:lnTo>
                  <a:pt x="2" y="1508"/>
                </a:lnTo>
                <a:lnTo>
                  <a:pt x="2" y="1510"/>
                </a:lnTo>
                <a:lnTo>
                  <a:pt x="4" y="1510"/>
                </a:lnTo>
                <a:lnTo>
                  <a:pt x="4" y="1512"/>
                </a:lnTo>
                <a:close/>
              </a:path>
            </a:pathLst>
          </a:custGeom>
          <a:solidFill>
            <a:srgbClr val="60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reeform 130"/>
          <p:cNvSpPr/>
          <p:nvPr/>
        </p:nvSpPr>
        <p:spPr>
          <a:xfrm>
            <a:off x="7050240" y="2106720"/>
            <a:ext cx="334800" cy="2384280"/>
          </a:xfrm>
          <a:custGeom>
            <a:avLst/>
            <a:gdLst>
              <a:gd name="textAreaLeft" fmla="*/ 0 w 334800"/>
              <a:gd name="textAreaRight" fmla="*/ 334800 w 334800"/>
              <a:gd name="textAreaTop" fmla="*/ 0 h 2384280"/>
              <a:gd name="textAreaBottom" fmla="*/ 2384640 h 2384280"/>
            </a:gdLst>
            <a:ahLst/>
            <a:rect l="textAreaLeft" t="textAreaTop" r="textAreaRight" b="textAreaBottom"/>
            <a:pathLst>
              <a:path w="211" h="1502">
                <a:moveTo>
                  <a:pt x="200" y="13"/>
                </a:moveTo>
                <a:lnTo>
                  <a:pt x="163" y="8"/>
                </a:lnTo>
                <a:lnTo>
                  <a:pt x="127" y="2"/>
                </a:lnTo>
                <a:lnTo>
                  <a:pt x="88" y="0"/>
                </a:lnTo>
                <a:lnTo>
                  <a:pt x="69" y="0"/>
                </a:lnTo>
                <a:lnTo>
                  <a:pt x="69" y="0"/>
                </a:lnTo>
                <a:lnTo>
                  <a:pt x="69" y="2"/>
                </a:lnTo>
                <a:lnTo>
                  <a:pt x="67" y="2"/>
                </a:lnTo>
                <a:lnTo>
                  <a:pt x="67" y="4"/>
                </a:lnTo>
                <a:lnTo>
                  <a:pt x="67" y="6"/>
                </a:lnTo>
                <a:lnTo>
                  <a:pt x="65" y="6"/>
                </a:lnTo>
                <a:lnTo>
                  <a:pt x="65" y="8"/>
                </a:lnTo>
                <a:lnTo>
                  <a:pt x="65" y="8"/>
                </a:lnTo>
                <a:lnTo>
                  <a:pt x="88" y="9"/>
                </a:lnTo>
                <a:lnTo>
                  <a:pt x="125" y="11"/>
                </a:lnTo>
                <a:lnTo>
                  <a:pt x="163" y="17"/>
                </a:lnTo>
                <a:lnTo>
                  <a:pt x="194" y="23"/>
                </a:lnTo>
                <a:lnTo>
                  <a:pt x="196" y="21"/>
                </a:lnTo>
                <a:lnTo>
                  <a:pt x="196" y="21"/>
                </a:lnTo>
                <a:lnTo>
                  <a:pt x="196" y="19"/>
                </a:lnTo>
                <a:lnTo>
                  <a:pt x="198" y="17"/>
                </a:lnTo>
                <a:lnTo>
                  <a:pt x="198" y="17"/>
                </a:lnTo>
                <a:lnTo>
                  <a:pt x="198" y="15"/>
                </a:lnTo>
                <a:lnTo>
                  <a:pt x="198" y="15"/>
                </a:lnTo>
                <a:lnTo>
                  <a:pt x="200" y="13"/>
                </a:lnTo>
                <a:close/>
                <a:moveTo>
                  <a:pt x="6" y="1500"/>
                </a:moveTo>
                <a:lnTo>
                  <a:pt x="12" y="1502"/>
                </a:lnTo>
                <a:lnTo>
                  <a:pt x="50" y="1502"/>
                </a:lnTo>
                <a:lnTo>
                  <a:pt x="88" y="1502"/>
                </a:lnTo>
                <a:lnTo>
                  <a:pt x="127" y="1498"/>
                </a:lnTo>
                <a:lnTo>
                  <a:pt x="163" y="1495"/>
                </a:lnTo>
                <a:lnTo>
                  <a:pt x="202" y="1487"/>
                </a:lnTo>
                <a:lnTo>
                  <a:pt x="211" y="1485"/>
                </a:lnTo>
                <a:lnTo>
                  <a:pt x="211" y="1483"/>
                </a:lnTo>
                <a:lnTo>
                  <a:pt x="211" y="1483"/>
                </a:lnTo>
                <a:lnTo>
                  <a:pt x="209" y="1481"/>
                </a:lnTo>
                <a:lnTo>
                  <a:pt x="209" y="1481"/>
                </a:lnTo>
                <a:lnTo>
                  <a:pt x="209" y="1479"/>
                </a:lnTo>
                <a:lnTo>
                  <a:pt x="207" y="1479"/>
                </a:lnTo>
                <a:lnTo>
                  <a:pt x="207" y="1477"/>
                </a:lnTo>
                <a:lnTo>
                  <a:pt x="207" y="1475"/>
                </a:lnTo>
                <a:lnTo>
                  <a:pt x="200" y="1477"/>
                </a:lnTo>
                <a:lnTo>
                  <a:pt x="163" y="1485"/>
                </a:lnTo>
                <a:lnTo>
                  <a:pt x="125" y="1489"/>
                </a:lnTo>
                <a:lnTo>
                  <a:pt x="88" y="1493"/>
                </a:lnTo>
                <a:lnTo>
                  <a:pt x="50" y="1493"/>
                </a:lnTo>
                <a:lnTo>
                  <a:pt x="12" y="1493"/>
                </a:lnTo>
                <a:lnTo>
                  <a:pt x="0" y="1491"/>
                </a:lnTo>
                <a:lnTo>
                  <a:pt x="2" y="1493"/>
                </a:lnTo>
                <a:lnTo>
                  <a:pt x="2" y="1495"/>
                </a:lnTo>
                <a:lnTo>
                  <a:pt x="2" y="1495"/>
                </a:lnTo>
                <a:lnTo>
                  <a:pt x="4" y="1497"/>
                </a:lnTo>
                <a:lnTo>
                  <a:pt x="4" y="1497"/>
                </a:lnTo>
                <a:lnTo>
                  <a:pt x="4" y="1498"/>
                </a:lnTo>
                <a:lnTo>
                  <a:pt x="4" y="1500"/>
                </a:lnTo>
                <a:lnTo>
                  <a:pt x="6" y="1500"/>
                </a:lnTo>
                <a:close/>
              </a:path>
            </a:pathLst>
          </a:custGeom>
          <a:solidFill>
            <a:srgbClr val="61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131"/>
          <p:cNvSpPr/>
          <p:nvPr/>
        </p:nvSpPr>
        <p:spPr>
          <a:xfrm>
            <a:off x="7047000" y="2112840"/>
            <a:ext cx="334800" cy="2371680"/>
          </a:xfrm>
          <a:custGeom>
            <a:avLst/>
            <a:gdLst>
              <a:gd name="textAreaLeft" fmla="*/ 0 w 334800"/>
              <a:gd name="textAreaRight" fmla="*/ 334800 w 334800"/>
              <a:gd name="textAreaTop" fmla="*/ 0 h 2371680"/>
              <a:gd name="textAreaBottom" fmla="*/ 2372040 h 2371680"/>
            </a:gdLst>
            <a:ahLst/>
            <a:rect l="textAreaLeft" t="textAreaTop" r="textAreaRight" b="textAreaBottom"/>
            <a:pathLst>
              <a:path w="211" h="1494">
                <a:moveTo>
                  <a:pt x="200" y="13"/>
                </a:moveTo>
                <a:lnTo>
                  <a:pt x="165" y="7"/>
                </a:lnTo>
                <a:lnTo>
                  <a:pt x="129" y="4"/>
                </a:lnTo>
                <a:lnTo>
                  <a:pt x="90" y="0"/>
                </a:lnTo>
                <a:lnTo>
                  <a:pt x="69" y="0"/>
                </a:lnTo>
                <a:lnTo>
                  <a:pt x="69" y="2"/>
                </a:lnTo>
                <a:lnTo>
                  <a:pt x="67" y="2"/>
                </a:lnTo>
                <a:lnTo>
                  <a:pt x="67" y="4"/>
                </a:lnTo>
                <a:lnTo>
                  <a:pt x="67" y="4"/>
                </a:lnTo>
                <a:lnTo>
                  <a:pt x="65" y="5"/>
                </a:lnTo>
                <a:lnTo>
                  <a:pt x="65" y="7"/>
                </a:lnTo>
                <a:lnTo>
                  <a:pt x="65" y="7"/>
                </a:lnTo>
                <a:lnTo>
                  <a:pt x="64" y="9"/>
                </a:lnTo>
                <a:lnTo>
                  <a:pt x="90" y="9"/>
                </a:lnTo>
                <a:lnTo>
                  <a:pt x="127" y="13"/>
                </a:lnTo>
                <a:lnTo>
                  <a:pt x="163" y="17"/>
                </a:lnTo>
                <a:lnTo>
                  <a:pt x="194" y="23"/>
                </a:lnTo>
                <a:lnTo>
                  <a:pt x="196" y="21"/>
                </a:lnTo>
                <a:lnTo>
                  <a:pt x="196" y="21"/>
                </a:lnTo>
                <a:lnTo>
                  <a:pt x="196" y="19"/>
                </a:lnTo>
                <a:lnTo>
                  <a:pt x="196" y="19"/>
                </a:lnTo>
                <a:lnTo>
                  <a:pt x="198" y="17"/>
                </a:lnTo>
                <a:lnTo>
                  <a:pt x="198" y="17"/>
                </a:lnTo>
                <a:lnTo>
                  <a:pt x="198" y="15"/>
                </a:lnTo>
                <a:lnTo>
                  <a:pt x="200" y="13"/>
                </a:lnTo>
                <a:close/>
                <a:moveTo>
                  <a:pt x="6" y="1493"/>
                </a:moveTo>
                <a:lnTo>
                  <a:pt x="14" y="1493"/>
                </a:lnTo>
                <a:lnTo>
                  <a:pt x="52" y="1494"/>
                </a:lnTo>
                <a:lnTo>
                  <a:pt x="90" y="1493"/>
                </a:lnTo>
                <a:lnTo>
                  <a:pt x="129" y="1491"/>
                </a:lnTo>
                <a:lnTo>
                  <a:pt x="165" y="1485"/>
                </a:lnTo>
                <a:lnTo>
                  <a:pt x="202" y="1479"/>
                </a:lnTo>
                <a:lnTo>
                  <a:pt x="211" y="1477"/>
                </a:lnTo>
                <a:lnTo>
                  <a:pt x="211" y="1475"/>
                </a:lnTo>
                <a:lnTo>
                  <a:pt x="209" y="1475"/>
                </a:lnTo>
                <a:lnTo>
                  <a:pt x="209" y="1473"/>
                </a:lnTo>
                <a:lnTo>
                  <a:pt x="209" y="1471"/>
                </a:lnTo>
                <a:lnTo>
                  <a:pt x="209" y="1471"/>
                </a:lnTo>
                <a:lnTo>
                  <a:pt x="207" y="1470"/>
                </a:lnTo>
                <a:lnTo>
                  <a:pt x="207" y="1470"/>
                </a:lnTo>
                <a:lnTo>
                  <a:pt x="207" y="1468"/>
                </a:lnTo>
                <a:lnTo>
                  <a:pt x="200" y="1470"/>
                </a:lnTo>
                <a:lnTo>
                  <a:pt x="163" y="1475"/>
                </a:lnTo>
                <a:lnTo>
                  <a:pt x="127" y="1481"/>
                </a:lnTo>
                <a:lnTo>
                  <a:pt x="90" y="1483"/>
                </a:lnTo>
                <a:lnTo>
                  <a:pt x="52" y="1485"/>
                </a:lnTo>
                <a:lnTo>
                  <a:pt x="14" y="1483"/>
                </a:lnTo>
                <a:lnTo>
                  <a:pt x="0" y="1483"/>
                </a:lnTo>
                <a:lnTo>
                  <a:pt x="2" y="1483"/>
                </a:lnTo>
                <a:lnTo>
                  <a:pt x="2" y="1485"/>
                </a:lnTo>
                <a:lnTo>
                  <a:pt x="2" y="1487"/>
                </a:lnTo>
                <a:lnTo>
                  <a:pt x="2" y="1487"/>
                </a:lnTo>
                <a:lnTo>
                  <a:pt x="4" y="1489"/>
                </a:lnTo>
                <a:lnTo>
                  <a:pt x="4" y="1491"/>
                </a:lnTo>
                <a:lnTo>
                  <a:pt x="4" y="1491"/>
                </a:lnTo>
                <a:lnTo>
                  <a:pt x="6" y="1493"/>
                </a:lnTo>
                <a:close/>
              </a:path>
            </a:pathLst>
          </a:custGeom>
          <a:solidFill>
            <a:srgbClr val="62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132"/>
          <p:cNvSpPr/>
          <p:nvPr/>
        </p:nvSpPr>
        <p:spPr>
          <a:xfrm>
            <a:off x="7043760" y="2119320"/>
            <a:ext cx="334800" cy="2357280"/>
          </a:xfrm>
          <a:custGeom>
            <a:avLst/>
            <a:gdLst>
              <a:gd name="textAreaLeft" fmla="*/ 0 w 334800"/>
              <a:gd name="textAreaRight" fmla="*/ 334800 w 334800"/>
              <a:gd name="textAreaTop" fmla="*/ 0 h 2357280"/>
              <a:gd name="textAreaBottom" fmla="*/ 2357640 h 2357280"/>
            </a:gdLst>
            <a:ahLst/>
            <a:rect l="textAreaLeft" t="textAreaTop" r="textAreaRight" b="textAreaBottom"/>
            <a:pathLst>
              <a:path w="211" h="1485">
                <a:moveTo>
                  <a:pt x="198" y="15"/>
                </a:moveTo>
                <a:lnTo>
                  <a:pt x="167" y="9"/>
                </a:lnTo>
                <a:lnTo>
                  <a:pt x="129" y="3"/>
                </a:lnTo>
                <a:lnTo>
                  <a:pt x="92" y="1"/>
                </a:lnTo>
                <a:lnTo>
                  <a:pt x="69" y="0"/>
                </a:lnTo>
                <a:lnTo>
                  <a:pt x="67" y="1"/>
                </a:lnTo>
                <a:lnTo>
                  <a:pt x="67" y="3"/>
                </a:lnTo>
                <a:lnTo>
                  <a:pt x="67" y="3"/>
                </a:lnTo>
                <a:lnTo>
                  <a:pt x="66" y="5"/>
                </a:lnTo>
                <a:lnTo>
                  <a:pt x="66" y="5"/>
                </a:lnTo>
                <a:lnTo>
                  <a:pt x="64" y="7"/>
                </a:lnTo>
                <a:lnTo>
                  <a:pt x="64" y="9"/>
                </a:lnTo>
                <a:lnTo>
                  <a:pt x="64" y="9"/>
                </a:lnTo>
                <a:lnTo>
                  <a:pt x="90" y="11"/>
                </a:lnTo>
                <a:lnTo>
                  <a:pt x="129" y="13"/>
                </a:lnTo>
                <a:lnTo>
                  <a:pt x="165" y="19"/>
                </a:lnTo>
                <a:lnTo>
                  <a:pt x="194" y="23"/>
                </a:lnTo>
                <a:lnTo>
                  <a:pt x="194" y="23"/>
                </a:lnTo>
                <a:lnTo>
                  <a:pt x="196" y="21"/>
                </a:lnTo>
                <a:lnTo>
                  <a:pt x="196" y="21"/>
                </a:lnTo>
                <a:lnTo>
                  <a:pt x="196" y="19"/>
                </a:lnTo>
                <a:lnTo>
                  <a:pt x="198" y="17"/>
                </a:lnTo>
                <a:lnTo>
                  <a:pt x="198" y="17"/>
                </a:lnTo>
                <a:lnTo>
                  <a:pt x="198" y="15"/>
                </a:lnTo>
                <a:lnTo>
                  <a:pt x="198" y="15"/>
                </a:lnTo>
                <a:close/>
                <a:moveTo>
                  <a:pt x="4" y="1483"/>
                </a:moveTo>
                <a:lnTo>
                  <a:pt x="16" y="1485"/>
                </a:lnTo>
                <a:lnTo>
                  <a:pt x="54" y="1485"/>
                </a:lnTo>
                <a:lnTo>
                  <a:pt x="92" y="1485"/>
                </a:lnTo>
                <a:lnTo>
                  <a:pt x="129" y="1481"/>
                </a:lnTo>
                <a:lnTo>
                  <a:pt x="167" y="1477"/>
                </a:lnTo>
                <a:lnTo>
                  <a:pt x="204" y="1469"/>
                </a:lnTo>
                <a:lnTo>
                  <a:pt x="211" y="1467"/>
                </a:lnTo>
                <a:lnTo>
                  <a:pt x="211" y="1467"/>
                </a:lnTo>
                <a:lnTo>
                  <a:pt x="209" y="1466"/>
                </a:lnTo>
                <a:lnTo>
                  <a:pt x="209" y="1466"/>
                </a:lnTo>
                <a:lnTo>
                  <a:pt x="209" y="1464"/>
                </a:lnTo>
                <a:lnTo>
                  <a:pt x="208" y="1464"/>
                </a:lnTo>
                <a:lnTo>
                  <a:pt x="208" y="1462"/>
                </a:lnTo>
                <a:lnTo>
                  <a:pt x="208" y="1460"/>
                </a:lnTo>
                <a:lnTo>
                  <a:pt x="206" y="1460"/>
                </a:lnTo>
                <a:lnTo>
                  <a:pt x="202" y="1462"/>
                </a:lnTo>
                <a:lnTo>
                  <a:pt x="165" y="1467"/>
                </a:lnTo>
                <a:lnTo>
                  <a:pt x="129" y="1471"/>
                </a:lnTo>
                <a:lnTo>
                  <a:pt x="90" y="1475"/>
                </a:lnTo>
                <a:lnTo>
                  <a:pt x="54" y="1475"/>
                </a:lnTo>
                <a:lnTo>
                  <a:pt x="16" y="1475"/>
                </a:lnTo>
                <a:lnTo>
                  <a:pt x="0" y="1473"/>
                </a:lnTo>
                <a:lnTo>
                  <a:pt x="0" y="1475"/>
                </a:lnTo>
                <a:lnTo>
                  <a:pt x="2" y="1475"/>
                </a:lnTo>
                <a:lnTo>
                  <a:pt x="2" y="1477"/>
                </a:lnTo>
                <a:lnTo>
                  <a:pt x="2" y="1479"/>
                </a:lnTo>
                <a:lnTo>
                  <a:pt x="4" y="1479"/>
                </a:lnTo>
                <a:lnTo>
                  <a:pt x="4" y="1481"/>
                </a:lnTo>
                <a:lnTo>
                  <a:pt x="4" y="1483"/>
                </a:lnTo>
                <a:lnTo>
                  <a:pt x="4" y="1483"/>
                </a:lnTo>
                <a:close/>
              </a:path>
            </a:pathLst>
          </a:custGeom>
          <a:solidFill>
            <a:srgbClr val="63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133"/>
          <p:cNvSpPr/>
          <p:nvPr/>
        </p:nvSpPr>
        <p:spPr>
          <a:xfrm>
            <a:off x="7040520" y="2127240"/>
            <a:ext cx="335160" cy="2343240"/>
          </a:xfrm>
          <a:custGeom>
            <a:avLst/>
            <a:gdLst>
              <a:gd name="textAreaLeft" fmla="*/ 0 w 335160"/>
              <a:gd name="textAreaRight" fmla="*/ 335520 w 335160"/>
              <a:gd name="textAreaTop" fmla="*/ 0 h 2343240"/>
              <a:gd name="textAreaBottom" fmla="*/ 2343240 h 2343240"/>
            </a:gdLst>
            <a:ahLst/>
            <a:rect l="textAreaLeft" t="textAreaTop" r="textAreaRight" b="textAreaBottom"/>
            <a:pathLst>
              <a:path w="211" h="1476">
                <a:moveTo>
                  <a:pt x="198" y="14"/>
                </a:moveTo>
                <a:lnTo>
                  <a:pt x="167" y="8"/>
                </a:lnTo>
                <a:lnTo>
                  <a:pt x="131" y="4"/>
                </a:lnTo>
                <a:lnTo>
                  <a:pt x="94" y="0"/>
                </a:lnTo>
                <a:lnTo>
                  <a:pt x="68" y="0"/>
                </a:lnTo>
                <a:lnTo>
                  <a:pt x="68" y="0"/>
                </a:lnTo>
                <a:lnTo>
                  <a:pt x="68" y="2"/>
                </a:lnTo>
                <a:lnTo>
                  <a:pt x="66" y="4"/>
                </a:lnTo>
                <a:lnTo>
                  <a:pt x="66" y="4"/>
                </a:lnTo>
                <a:lnTo>
                  <a:pt x="64" y="6"/>
                </a:lnTo>
                <a:lnTo>
                  <a:pt x="64" y="6"/>
                </a:lnTo>
                <a:lnTo>
                  <a:pt x="64" y="8"/>
                </a:lnTo>
                <a:lnTo>
                  <a:pt x="62" y="10"/>
                </a:lnTo>
                <a:lnTo>
                  <a:pt x="92" y="10"/>
                </a:lnTo>
                <a:lnTo>
                  <a:pt x="131" y="14"/>
                </a:lnTo>
                <a:lnTo>
                  <a:pt x="167" y="18"/>
                </a:lnTo>
                <a:lnTo>
                  <a:pt x="194" y="23"/>
                </a:lnTo>
                <a:lnTo>
                  <a:pt x="194" y="21"/>
                </a:lnTo>
                <a:lnTo>
                  <a:pt x="196" y="19"/>
                </a:lnTo>
                <a:lnTo>
                  <a:pt x="196" y="19"/>
                </a:lnTo>
                <a:lnTo>
                  <a:pt x="196" y="18"/>
                </a:lnTo>
                <a:lnTo>
                  <a:pt x="196" y="18"/>
                </a:lnTo>
                <a:lnTo>
                  <a:pt x="198" y="16"/>
                </a:lnTo>
                <a:lnTo>
                  <a:pt x="198" y="16"/>
                </a:lnTo>
                <a:lnTo>
                  <a:pt x="198" y="14"/>
                </a:lnTo>
                <a:close/>
                <a:moveTo>
                  <a:pt x="4" y="1474"/>
                </a:moveTo>
                <a:lnTo>
                  <a:pt x="18" y="1474"/>
                </a:lnTo>
                <a:lnTo>
                  <a:pt x="56" y="1476"/>
                </a:lnTo>
                <a:lnTo>
                  <a:pt x="94" y="1474"/>
                </a:lnTo>
                <a:lnTo>
                  <a:pt x="131" y="1472"/>
                </a:lnTo>
                <a:lnTo>
                  <a:pt x="167" y="1466"/>
                </a:lnTo>
                <a:lnTo>
                  <a:pt x="204" y="1461"/>
                </a:lnTo>
                <a:lnTo>
                  <a:pt x="211" y="1459"/>
                </a:lnTo>
                <a:lnTo>
                  <a:pt x="210" y="1459"/>
                </a:lnTo>
                <a:lnTo>
                  <a:pt x="210" y="1457"/>
                </a:lnTo>
                <a:lnTo>
                  <a:pt x="210" y="1455"/>
                </a:lnTo>
                <a:lnTo>
                  <a:pt x="208" y="1455"/>
                </a:lnTo>
                <a:lnTo>
                  <a:pt x="208" y="1453"/>
                </a:lnTo>
                <a:lnTo>
                  <a:pt x="208" y="1453"/>
                </a:lnTo>
                <a:lnTo>
                  <a:pt x="206" y="1451"/>
                </a:lnTo>
                <a:lnTo>
                  <a:pt x="206" y="1451"/>
                </a:lnTo>
                <a:lnTo>
                  <a:pt x="202" y="1451"/>
                </a:lnTo>
                <a:lnTo>
                  <a:pt x="167" y="1457"/>
                </a:lnTo>
                <a:lnTo>
                  <a:pt x="131" y="1462"/>
                </a:lnTo>
                <a:lnTo>
                  <a:pt x="92" y="1464"/>
                </a:lnTo>
                <a:lnTo>
                  <a:pt x="56" y="1466"/>
                </a:lnTo>
                <a:lnTo>
                  <a:pt x="18" y="1464"/>
                </a:lnTo>
                <a:lnTo>
                  <a:pt x="0" y="1464"/>
                </a:lnTo>
                <a:lnTo>
                  <a:pt x="0" y="1464"/>
                </a:lnTo>
                <a:lnTo>
                  <a:pt x="2" y="1466"/>
                </a:lnTo>
                <a:lnTo>
                  <a:pt x="2" y="1468"/>
                </a:lnTo>
                <a:lnTo>
                  <a:pt x="2" y="1468"/>
                </a:lnTo>
                <a:lnTo>
                  <a:pt x="2" y="1470"/>
                </a:lnTo>
                <a:lnTo>
                  <a:pt x="4" y="1470"/>
                </a:lnTo>
                <a:lnTo>
                  <a:pt x="4" y="1472"/>
                </a:lnTo>
                <a:lnTo>
                  <a:pt x="4" y="1474"/>
                </a:lnTo>
                <a:close/>
              </a:path>
            </a:pathLst>
          </a:custGeom>
          <a:solidFill>
            <a:srgbClr val="64c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134"/>
          <p:cNvSpPr/>
          <p:nvPr/>
        </p:nvSpPr>
        <p:spPr>
          <a:xfrm>
            <a:off x="7037280" y="2133720"/>
            <a:ext cx="333360" cy="2327040"/>
          </a:xfrm>
          <a:custGeom>
            <a:avLst/>
            <a:gdLst>
              <a:gd name="textAreaLeft" fmla="*/ 0 w 333360"/>
              <a:gd name="textAreaRight" fmla="*/ 333720 w 333360"/>
              <a:gd name="textAreaTop" fmla="*/ 0 h 2327040"/>
              <a:gd name="textAreaBottom" fmla="*/ 2327400 h 2327040"/>
            </a:gdLst>
            <a:ahLst/>
            <a:rect l="textAreaLeft" t="textAreaTop" r="textAreaRight" b="textAreaBottom"/>
            <a:pathLst>
              <a:path w="210" h="1466">
                <a:moveTo>
                  <a:pt x="198" y="14"/>
                </a:moveTo>
                <a:lnTo>
                  <a:pt x="169" y="10"/>
                </a:lnTo>
                <a:lnTo>
                  <a:pt x="133" y="4"/>
                </a:lnTo>
                <a:lnTo>
                  <a:pt x="94" y="2"/>
                </a:lnTo>
                <a:lnTo>
                  <a:pt x="68" y="0"/>
                </a:lnTo>
                <a:lnTo>
                  <a:pt x="66" y="2"/>
                </a:lnTo>
                <a:lnTo>
                  <a:pt x="66" y="2"/>
                </a:lnTo>
                <a:lnTo>
                  <a:pt x="66" y="4"/>
                </a:lnTo>
                <a:lnTo>
                  <a:pt x="64" y="6"/>
                </a:lnTo>
                <a:lnTo>
                  <a:pt x="64" y="6"/>
                </a:lnTo>
                <a:lnTo>
                  <a:pt x="64" y="8"/>
                </a:lnTo>
                <a:lnTo>
                  <a:pt x="62" y="10"/>
                </a:lnTo>
                <a:lnTo>
                  <a:pt x="62" y="10"/>
                </a:lnTo>
                <a:lnTo>
                  <a:pt x="94" y="12"/>
                </a:lnTo>
                <a:lnTo>
                  <a:pt x="131" y="14"/>
                </a:lnTo>
                <a:lnTo>
                  <a:pt x="167" y="17"/>
                </a:lnTo>
                <a:lnTo>
                  <a:pt x="194" y="23"/>
                </a:lnTo>
                <a:lnTo>
                  <a:pt x="194" y="21"/>
                </a:lnTo>
                <a:lnTo>
                  <a:pt x="196" y="21"/>
                </a:lnTo>
                <a:lnTo>
                  <a:pt x="196" y="19"/>
                </a:lnTo>
                <a:lnTo>
                  <a:pt x="196" y="19"/>
                </a:lnTo>
                <a:lnTo>
                  <a:pt x="196" y="17"/>
                </a:lnTo>
                <a:lnTo>
                  <a:pt x="198" y="15"/>
                </a:lnTo>
                <a:lnTo>
                  <a:pt x="198" y="15"/>
                </a:lnTo>
                <a:lnTo>
                  <a:pt x="198" y="14"/>
                </a:lnTo>
                <a:close/>
                <a:moveTo>
                  <a:pt x="4" y="1464"/>
                </a:moveTo>
                <a:lnTo>
                  <a:pt x="20" y="1466"/>
                </a:lnTo>
                <a:lnTo>
                  <a:pt x="58" y="1466"/>
                </a:lnTo>
                <a:lnTo>
                  <a:pt x="94" y="1466"/>
                </a:lnTo>
                <a:lnTo>
                  <a:pt x="133" y="1462"/>
                </a:lnTo>
                <a:lnTo>
                  <a:pt x="169" y="1458"/>
                </a:lnTo>
                <a:lnTo>
                  <a:pt x="206" y="1453"/>
                </a:lnTo>
                <a:lnTo>
                  <a:pt x="210" y="1451"/>
                </a:lnTo>
                <a:lnTo>
                  <a:pt x="210" y="1449"/>
                </a:lnTo>
                <a:lnTo>
                  <a:pt x="210" y="1449"/>
                </a:lnTo>
                <a:lnTo>
                  <a:pt x="208" y="1447"/>
                </a:lnTo>
                <a:lnTo>
                  <a:pt x="208" y="1447"/>
                </a:lnTo>
                <a:lnTo>
                  <a:pt x="208" y="1445"/>
                </a:lnTo>
                <a:lnTo>
                  <a:pt x="208" y="1445"/>
                </a:lnTo>
                <a:lnTo>
                  <a:pt x="206" y="1443"/>
                </a:lnTo>
                <a:lnTo>
                  <a:pt x="206" y="1441"/>
                </a:lnTo>
                <a:lnTo>
                  <a:pt x="204" y="1443"/>
                </a:lnTo>
                <a:lnTo>
                  <a:pt x="167" y="1449"/>
                </a:lnTo>
                <a:lnTo>
                  <a:pt x="131" y="1453"/>
                </a:lnTo>
                <a:lnTo>
                  <a:pt x="94" y="1457"/>
                </a:lnTo>
                <a:lnTo>
                  <a:pt x="58" y="1457"/>
                </a:lnTo>
                <a:lnTo>
                  <a:pt x="20" y="1457"/>
                </a:lnTo>
                <a:lnTo>
                  <a:pt x="0" y="1455"/>
                </a:lnTo>
                <a:lnTo>
                  <a:pt x="0" y="1457"/>
                </a:lnTo>
                <a:lnTo>
                  <a:pt x="2" y="1457"/>
                </a:lnTo>
                <a:lnTo>
                  <a:pt x="2" y="1458"/>
                </a:lnTo>
                <a:lnTo>
                  <a:pt x="2" y="1460"/>
                </a:lnTo>
                <a:lnTo>
                  <a:pt x="2" y="1460"/>
                </a:lnTo>
                <a:lnTo>
                  <a:pt x="4" y="1462"/>
                </a:lnTo>
                <a:lnTo>
                  <a:pt x="4" y="1464"/>
                </a:lnTo>
                <a:lnTo>
                  <a:pt x="4" y="1464"/>
                </a:lnTo>
                <a:close/>
              </a:path>
            </a:pathLst>
          </a:custGeom>
          <a:solidFill>
            <a:srgbClr val="65c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135"/>
          <p:cNvSpPr/>
          <p:nvPr/>
        </p:nvSpPr>
        <p:spPr>
          <a:xfrm>
            <a:off x="7035840" y="2143080"/>
            <a:ext cx="331920" cy="2311560"/>
          </a:xfrm>
          <a:custGeom>
            <a:avLst/>
            <a:gdLst>
              <a:gd name="textAreaLeft" fmla="*/ 0 w 331920"/>
              <a:gd name="textAreaRight" fmla="*/ 332280 w 331920"/>
              <a:gd name="textAreaTop" fmla="*/ 0 h 2311560"/>
              <a:gd name="textAreaBottom" fmla="*/ 2311920 h 2311560"/>
            </a:gdLst>
            <a:ahLst/>
            <a:rect l="textAreaLeft" t="textAreaTop" r="textAreaRight" b="textAreaBottom"/>
            <a:pathLst>
              <a:path w="209" h="1456">
                <a:moveTo>
                  <a:pt x="197" y="13"/>
                </a:moveTo>
                <a:lnTo>
                  <a:pt x="170" y="8"/>
                </a:lnTo>
                <a:lnTo>
                  <a:pt x="134" y="4"/>
                </a:lnTo>
                <a:lnTo>
                  <a:pt x="95" y="0"/>
                </a:lnTo>
                <a:lnTo>
                  <a:pt x="65" y="0"/>
                </a:lnTo>
                <a:lnTo>
                  <a:pt x="65" y="0"/>
                </a:lnTo>
                <a:lnTo>
                  <a:pt x="65" y="2"/>
                </a:lnTo>
                <a:lnTo>
                  <a:pt x="63" y="4"/>
                </a:lnTo>
                <a:lnTo>
                  <a:pt x="63" y="4"/>
                </a:lnTo>
                <a:lnTo>
                  <a:pt x="63" y="6"/>
                </a:lnTo>
                <a:lnTo>
                  <a:pt x="61" y="6"/>
                </a:lnTo>
                <a:lnTo>
                  <a:pt x="61" y="8"/>
                </a:lnTo>
                <a:lnTo>
                  <a:pt x="61" y="9"/>
                </a:lnTo>
                <a:lnTo>
                  <a:pt x="95" y="9"/>
                </a:lnTo>
                <a:lnTo>
                  <a:pt x="132" y="11"/>
                </a:lnTo>
                <a:lnTo>
                  <a:pt x="168" y="17"/>
                </a:lnTo>
                <a:lnTo>
                  <a:pt x="193" y="21"/>
                </a:lnTo>
                <a:lnTo>
                  <a:pt x="193" y="21"/>
                </a:lnTo>
                <a:lnTo>
                  <a:pt x="193" y="19"/>
                </a:lnTo>
                <a:lnTo>
                  <a:pt x="195" y="17"/>
                </a:lnTo>
                <a:lnTo>
                  <a:pt x="195" y="17"/>
                </a:lnTo>
                <a:lnTo>
                  <a:pt x="195" y="15"/>
                </a:lnTo>
                <a:lnTo>
                  <a:pt x="197" y="15"/>
                </a:lnTo>
                <a:lnTo>
                  <a:pt x="197" y="13"/>
                </a:lnTo>
                <a:lnTo>
                  <a:pt x="197" y="13"/>
                </a:lnTo>
                <a:close/>
                <a:moveTo>
                  <a:pt x="3" y="1454"/>
                </a:moveTo>
                <a:lnTo>
                  <a:pt x="21" y="1454"/>
                </a:lnTo>
                <a:lnTo>
                  <a:pt x="59" y="1456"/>
                </a:lnTo>
                <a:lnTo>
                  <a:pt x="95" y="1454"/>
                </a:lnTo>
                <a:lnTo>
                  <a:pt x="134" y="1452"/>
                </a:lnTo>
                <a:lnTo>
                  <a:pt x="170" y="1447"/>
                </a:lnTo>
                <a:lnTo>
                  <a:pt x="205" y="1441"/>
                </a:lnTo>
                <a:lnTo>
                  <a:pt x="209" y="1441"/>
                </a:lnTo>
                <a:lnTo>
                  <a:pt x="209" y="1439"/>
                </a:lnTo>
                <a:lnTo>
                  <a:pt x="209" y="1439"/>
                </a:lnTo>
                <a:lnTo>
                  <a:pt x="207" y="1437"/>
                </a:lnTo>
                <a:lnTo>
                  <a:pt x="207" y="1435"/>
                </a:lnTo>
                <a:lnTo>
                  <a:pt x="207" y="1435"/>
                </a:lnTo>
                <a:lnTo>
                  <a:pt x="205" y="1433"/>
                </a:lnTo>
                <a:lnTo>
                  <a:pt x="205" y="1433"/>
                </a:lnTo>
                <a:lnTo>
                  <a:pt x="205" y="1431"/>
                </a:lnTo>
                <a:lnTo>
                  <a:pt x="203" y="1431"/>
                </a:lnTo>
                <a:lnTo>
                  <a:pt x="168" y="1439"/>
                </a:lnTo>
                <a:lnTo>
                  <a:pt x="132" y="1443"/>
                </a:lnTo>
                <a:lnTo>
                  <a:pt x="95" y="1445"/>
                </a:lnTo>
                <a:lnTo>
                  <a:pt x="59" y="1447"/>
                </a:lnTo>
                <a:lnTo>
                  <a:pt x="21" y="1445"/>
                </a:lnTo>
                <a:lnTo>
                  <a:pt x="0" y="1445"/>
                </a:lnTo>
                <a:lnTo>
                  <a:pt x="0" y="1445"/>
                </a:lnTo>
                <a:lnTo>
                  <a:pt x="0" y="1447"/>
                </a:lnTo>
                <a:lnTo>
                  <a:pt x="1" y="1447"/>
                </a:lnTo>
                <a:lnTo>
                  <a:pt x="1" y="1449"/>
                </a:lnTo>
                <a:lnTo>
                  <a:pt x="1" y="1451"/>
                </a:lnTo>
                <a:lnTo>
                  <a:pt x="3" y="1451"/>
                </a:lnTo>
                <a:lnTo>
                  <a:pt x="3" y="1452"/>
                </a:lnTo>
                <a:lnTo>
                  <a:pt x="3" y="1454"/>
                </a:lnTo>
                <a:close/>
              </a:path>
            </a:pathLst>
          </a:custGeom>
          <a:solidFill>
            <a:srgbClr val="66c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136"/>
          <p:cNvSpPr/>
          <p:nvPr/>
        </p:nvSpPr>
        <p:spPr>
          <a:xfrm>
            <a:off x="7032600" y="2149560"/>
            <a:ext cx="331920" cy="2297160"/>
          </a:xfrm>
          <a:custGeom>
            <a:avLst/>
            <a:gdLst>
              <a:gd name="textAreaLeft" fmla="*/ 0 w 331920"/>
              <a:gd name="textAreaRight" fmla="*/ 332280 w 331920"/>
              <a:gd name="textAreaTop" fmla="*/ 0 h 2297160"/>
              <a:gd name="textAreaBottom" fmla="*/ 2297520 h 2297160"/>
            </a:gdLst>
            <a:ahLst/>
            <a:rect l="textAreaLeft" t="textAreaTop" r="textAreaRight" b="textAreaBottom"/>
            <a:pathLst>
              <a:path w="209" h="1447">
                <a:moveTo>
                  <a:pt x="197" y="13"/>
                </a:moveTo>
                <a:lnTo>
                  <a:pt x="170" y="7"/>
                </a:lnTo>
                <a:lnTo>
                  <a:pt x="134" y="4"/>
                </a:lnTo>
                <a:lnTo>
                  <a:pt x="97" y="2"/>
                </a:lnTo>
                <a:lnTo>
                  <a:pt x="65" y="0"/>
                </a:lnTo>
                <a:lnTo>
                  <a:pt x="65" y="2"/>
                </a:lnTo>
                <a:lnTo>
                  <a:pt x="63" y="2"/>
                </a:lnTo>
                <a:lnTo>
                  <a:pt x="63" y="4"/>
                </a:lnTo>
                <a:lnTo>
                  <a:pt x="63" y="5"/>
                </a:lnTo>
                <a:lnTo>
                  <a:pt x="61" y="5"/>
                </a:lnTo>
                <a:lnTo>
                  <a:pt x="61" y="7"/>
                </a:lnTo>
                <a:lnTo>
                  <a:pt x="61" y="7"/>
                </a:lnTo>
                <a:lnTo>
                  <a:pt x="59" y="9"/>
                </a:lnTo>
                <a:lnTo>
                  <a:pt x="61" y="9"/>
                </a:lnTo>
                <a:lnTo>
                  <a:pt x="97" y="9"/>
                </a:lnTo>
                <a:lnTo>
                  <a:pt x="134" y="13"/>
                </a:lnTo>
                <a:lnTo>
                  <a:pt x="168" y="17"/>
                </a:lnTo>
                <a:lnTo>
                  <a:pt x="193" y="23"/>
                </a:lnTo>
                <a:lnTo>
                  <a:pt x="193" y="21"/>
                </a:lnTo>
                <a:lnTo>
                  <a:pt x="193" y="19"/>
                </a:lnTo>
                <a:lnTo>
                  <a:pt x="195" y="19"/>
                </a:lnTo>
                <a:lnTo>
                  <a:pt x="195" y="17"/>
                </a:lnTo>
                <a:lnTo>
                  <a:pt x="195" y="17"/>
                </a:lnTo>
                <a:lnTo>
                  <a:pt x="195" y="15"/>
                </a:lnTo>
                <a:lnTo>
                  <a:pt x="197" y="13"/>
                </a:lnTo>
                <a:lnTo>
                  <a:pt x="197" y="13"/>
                </a:lnTo>
                <a:close/>
                <a:moveTo>
                  <a:pt x="3" y="1445"/>
                </a:moveTo>
                <a:lnTo>
                  <a:pt x="23" y="1447"/>
                </a:lnTo>
                <a:lnTo>
                  <a:pt x="61" y="1447"/>
                </a:lnTo>
                <a:lnTo>
                  <a:pt x="97" y="1447"/>
                </a:lnTo>
                <a:lnTo>
                  <a:pt x="134" y="1443"/>
                </a:lnTo>
                <a:lnTo>
                  <a:pt x="170" y="1439"/>
                </a:lnTo>
                <a:lnTo>
                  <a:pt x="207" y="1433"/>
                </a:lnTo>
                <a:lnTo>
                  <a:pt x="209" y="1431"/>
                </a:lnTo>
                <a:lnTo>
                  <a:pt x="209" y="1431"/>
                </a:lnTo>
                <a:lnTo>
                  <a:pt x="207" y="1429"/>
                </a:lnTo>
                <a:lnTo>
                  <a:pt x="207" y="1429"/>
                </a:lnTo>
                <a:lnTo>
                  <a:pt x="207" y="1427"/>
                </a:lnTo>
                <a:lnTo>
                  <a:pt x="205" y="1427"/>
                </a:lnTo>
                <a:lnTo>
                  <a:pt x="205" y="1425"/>
                </a:lnTo>
                <a:lnTo>
                  <a:pt x="205" y="1423"/>
                </a:lnTo>
                <a:lnTo>
                  <a:pt x="205" y="1423"/>
                </a:lnTo>
                <a:lnTo>
                  <a:pt x="168" y="1429"/>
                </a:lnTo>
                <a:lnTo>
                  <a:pt x="134" y="1435"/>
                </a:lnTo>
                <a:lnTo>
                  <a:pt x="97" y="1437"/>
                </a:lnTo>
                <a:lnTo>
                  <a:pt x="61" y="1437"/>
                </a:lnTo>
                <a:lnTo>
                  <a:pt x="25" y="1437"/>
                </a:lnTo>
                <a:lnTo>
                  <a:pt x="0" y="1435"/>
                </a:lnTo>
                <a:lnTo>
                  <a:pt x="0" y="1437"/>
                </a:lnTo>
                <a:lnTo>
                  <a:pt x="0" y="1437"/>
                </a:lnTo>
                <a:lnTo>
                  <a:pt x="2" y="1439"/>
                </a:lnTo>
                <a:lnTo>
                  <a:pt x="2" y="1441"/>
                </a:lnTo>
                <a:lnTo>
                  <a:pt x="2" y="1441"/>
                </a:lnTo>
                <a:lnTo>
                  <a:pt x="2" y="1443"/>
                </a:lnTo>
                <a:lnTo>
                  <a:pt x="3" y="1443"/>
                </a:lnTo>
                <a:lnTo>
                  <a:pt x="3" y="1445"/>
                </a:lnTo>
                <a:close/>
              </a:path>
            </a:pathLst>
          </a:custGeom>
          <a:solidFill>
            <a:srgbClr val="67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137"/>
          <p:cNvSpPr/>
          <p:nvPr/>
        </p:nvSpPr>
        <p:spPr>
          <a:xfrm>
            <a:off x="7029360" y="2157480"/>
            <a:ext cx="331920" cy="2282760"/>
          </a:xfrm>
          <a:custGeom>
            <a:avLst/>
            <a:gdLst>
              <a:gd name="textAreaLeft" fmla="*/ 0 w 331920"/>
              <a:gd name="textAreaRight" fmla="*/ 332280 w 331920"/>
              <a:gd name="textAreaTop" fmla="*/ 0 h 2282760"/>
              <a:gd name="textAreaBottom" fmla="*/ 2283120 h 2282760"/>
            </a:gdLst>
            <a:ahLst/>
            <a:rect l="textAreaLeft" t="textAreaTop" r="textAreaRight" b="textAreaBottom"/>
            <a:pathLst>
              <a:path w="209" h="1438">
                <a:moveTo>
                  <a:pt x="197" y="12"/>
                </a:moveTo>
                <a:lnTo>
                  <a:pt x="172" y="8"/>
                </a:lnTo>
                <a:lnTo>
                  <a:pt x="136" y="2"/>
                </a:lnTo>
                <a:lnTo>
                  <a:pt x="99" y="0"/>
                </a:lnTo>
                <a:lnTo>
                  <a:pt x="65" y="0"/>
                </a:lnTo>
                <a:lnTo>
                  <a:pt x="63" y="0"/>
                </a:lnTo>
                <a:lnTo>
                  <a:pt x="63" y="2"/>
                </a:lnTo>
                <a:lnTo>
                  <a:pt x="63" y="2"/>
                </a:lnTo>
                <a:lnTo>
                  <a:pt x="61" y="4"/>
                </a:lnTo>
                <a:lnTo>
                  <a:pt x="61" y="6"/>
                </a:lnTo>
                <a:lnTo>
                  <a:pt x="61" y="6"/>
                </a:lnTo>
                <a:lnTo>
                  <a:pt x="59" y="8"/>
                </a:lnTo>
                <a:lnTo>
                  <a:pt x="59" y="10"/>
                </a:lnTo>
                <a:lnTo>
                  <a:pt x="63" y="8"/>
                </a:lnTo>
                <a:lnTo>
                  <a:pt x="99" y="10"/>
                </a:lnTo>
                <a:lnTo>
                  <a:pt x="136" y="12"/>
                </a:lnTo>
                <a:lnTo>
                  <a:pt x="170" y="18"/>
                </a:lnTo>
                <a:lnTo>
                  <a:pt x="194" y="22"/>
                </a:lnTo>
                <a:lnTo>
                  <a:pt x="194" y="20"/>
                </a:lnTo>
                <a:lnTo>
                  <a:pt x="194" y="20"/>
                </a:lnTo>
                <a:lnTo>
                  <a:pt x="195" y="18"/>
                </a:lnTo>
                <a:lnTo>
                  <a:pt x="195" y="18"/>
                </a:lnTo>
                <a:lnTo>
                  <a:pt x="195" y="16"/>
                </a:lnTo>
                <a:lnTo>
                  <a:pt x="195" y="14"/>
                </a:lnTo>
                <a:lnTo>
                  <a:pt x="197" y="14"/>
                </a:lnTo>
                <a:lnTo>
                  <a:pt x="197" y="12"/>
                </a:lnTo>
                <a:close/>
                <a:moveTo>
                  <a:pt x="4" y="1436"/>
                </a:moveTo>
                <a:lnTo>
                  <a:pt x="25" y="1436"/>
                </a:lnTo>
                <a:lnTo>
                  <a:pt x="63" y="1438"/>
                </a:lnTo>
                <a:lnTo>
                  <a:pt x="99" y="1436"/>
                </a:lnTo>
                <a:lnTo>
                  <a:pt x="136" y="1434"/>
                </a:lnTo>
                <a:lnTo>
                  <a:pt x="172" y="1430"/>
                </a:lnTo>
                <a:lnTo>
                  <a:pt x="207" y="1422"/>
                </a:lnTo>
                <a:lnTo>
                  <a:pt x="209" y="1422"/>
                </a:lnTo>
                <a:lnTo>
                  <a:pt x="207" y="1422"/>
                </a:lnTo>
                <a:lnTo>
                  <a:pt x="207" y="1420"/>
                </a:lnTo>
                <a:lnTo>
                  <a:pt x="207" y="1418"/>
                </a:lnTo>
                <a:lnTo>
                  <a:pt x="207" y="1418"/>
                </a:lnTo>
                <a:lnTo>
                  <a:pt x="205" y="1417"/>
                </a:lnTo>
                <a:lnTo>
                  <a:pt x="205" y="1417"/>
                </a:lnTo>
                <a:lnTo>
                  <a:pt x="205" y="1415"/>
                </a:lnTo>
                <a:lnTo>
                  <a:pt x="203" y="1415"/>
                </a:lnTo>
                <a:lnTo>
                  <a:pt x="170" y="1420"/>
                </a:lnTo>
                <a:lnTo>
                  <a:pt x="136" y="1424"/>
                </a:lnTo>
                <a:lnTo>
                  <a:pt x="99" y="1426"/>
                </a:lnTo>
                <a:lnTo>
                  <a:pt x="63" y="1428"/>
                </a:lnTo>
                <a:lnTo>
                  <a:pt x="27" y="1426"/>
                </a:lnTo>
                <a:lnTo>
                  <a:pt x="0" y="1424"/>
                </a:lnTo>
                <a:lnTo>
                  <a:pt x="0" y="1426"/>
                </a:lnTo>
                <a:lnTo>
                  <a:pt x="0" y="1428"/>
                </a:lnTo>
                <a:lnTo>
                  <a:pt x="2" y="1428"/>
                </a:lnTo>
                <a:lnTo>
                  <a:pt x="2" y="1430"/>
                </a:lnTo>
                <a:lnTo>
                  <a:pt x="2" y="1432"/>
                </a:lnTo>
                <a:lnTo>
                  <a:pt x="2" y="1432"/>
                </a:lnTo>
                <a:lnTo>
                  <a:pt x="4" y="1434"/>
                </a:lnTo>
                <a:lnTo>
                  <a:pt x="4" y="1436"/>
                </a:lnTo>
                <a:close/>
              </a:path>
            </a:pathLst>
          </a:custGeom>
          <a:solidFill>
            <a:srgbClr val="68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138"/>
          <p:cNvSpPr/>
          <p:nvPr/>
        </p:nvSpPr>
        <p:spPr>
          <a:xfrm>
            <a:off x="7026120" y="2163600"/>
            <a:ext cx="331920" cy="2267280"/>
          </a:xfrm>
          <a:custGeom>
            <a:avLst/>
            <a:gdLst>
              <a:gd name="textAreaLeft" fmla="*/ 0 w 331920"/>
              <a:gd name="textAreaRight" fmla="*/ 332280 w 331920"/>
              <a:gd name="textAreaTop" fmla="*/ 0 h 2267280"/>
              <a:gd name="textAreaBottom" fmla="*/ 2267640 h 2267280"/>
            </a:gdLst>
            <a:ahLst/>
            <a:rect l="textAreaLeft" t="textAreaTop" r="textAreaRight" b="textAreaBottom"/>
            <a:pathLst>
              <a:path w="209" h="1428">
                <a:moveTo>
                  <a:pt x="197" y="14"/>
                </a:moveTo>
                <a:lnTo>
                  <a:pt x="172" y="8"/>
                </a:lnTo>
                <a:lnTo>
                  <a:pt x="138" y="4"/>
                </a:lnTo>
                <a:lnTo>
                  <a:pt x="101" y="0"/>
                </a:lnTo>
                <a:lnTo>
                  <a:pt x="65" y="0"/>
                </a:lnTo>
                <a:lnTo>
                  <a:pt x="63" y="0"/>
                </a:lnTo>
                <a:lnTo>
                  <a:pt x="63" y="2"/>
                </a:lnTo>
                <a:lnTo>
                  <a:pt x="63" y="2"/>
                </a:lnTo>
                <a:lnTo>
                  <a:pt x="61" y="4"/>
                </a:lnTo>
                <a:lnTo>
                  <a:pt x="61" y="6"/>
                </a:lnTo>
                <a:lnTo>
                  <a:pt x="61" y="6"/>
                </a:lnTo>
                <a:lnTo>
                  <a:pt x="59" y="8"/>
                </a:lnTo>
                <a:lnTo>
                  <a:pt x="59" y="8"/>
                </a:lnTo>
                <a:lnTo>
                  <a:pt x="59" y="10"/>
                </a:lnTo>
                <a:lnTo>
                  <a:pt x="65" y="10"/>
                </a:lnTo>
                <a:lnTo>
                  <a:pt x="101" y="10"/>
                </a:lnTo>
                <a:lnTo>
                  <a:pt x="136" y="14"/>
                </a:lnTo>
                <a:lnTo>
                  <a:pt x="172" y="18"/>
                </a:lnTo>
                <a:lnTo>
                  <a:pt x="194" y="21"/>
                </a:lnTo>
                <a:lnTo>
                  <a:pt x="194" y="21"/>
                </a:lnTo>
                <a:lnTo>
                  <a:pt x="194" y="19"/>
                </a:lnTo>
                <a:lnTo>
                  <a:pt x="196" y="18"/>
                </a:lnTo>
                <a:lnTo>
                  <a:pt x="196" y="18"/>
                </a:lnTo>
                <a:lnTo>
                  <a:pt x="196" y="16"/>
                </a:lnTo>
                <a:lnTo>
                  <a:pt x="196" y="16"/>
                </a:lnTo>
                <a:lnTo>
                  <a:pt x="197" y="14"/>
                </a:lnTo>
                <a:lnTo>
                  <a:pt x="197" y="14"/>
                </a:lnTo>
                <a:close/>
                <a:moveTo>
                  <a:pt x="4" y="1426"/>
                </a:moveTo>
                <a:lnTo>
                  <a:pt x="29" y="1428"/>
                </a:lnTo>
                <a:lnTo>
                  <a:pt x="65" y="1428"/>
                </a:lnTo>
                <a:lnTo>
                  <a:pt x="101" y="1428"/>
                </a:lnTo>
                <a:lnTo>
                  <a:pt x="138" y="1426"/>
                </a:lnTo>
                <a:lnTo>
                  <a:pt x="172" y="1420"/>
                </a:lnTo>
                <a:lnTo>
                  <a:pt x="209" y="1414"/>
                </a:lnTo>
                <a:lnTo>
                  <a:pt x="207" y="1413"/>
                </a:lnTo>
                <a:lnTo>
                  <a:pt x="207" y="1413"/>
                </a:lnTo>
                <a:lnTo>
                  <a:pt x="207" y="1411"/>
                </a:lnTo>
                <a:lnTo>
                  <a:pt x="205" y="1411"/>
                </a:lnTo>
                <a:lnTo>
                  <a:pt x="205" y="1409"/>
                </a:lnTo>
                <a:lnTo>
                  <a:pt x="205" y="1407"/>
                </a:lnTo>
                <a:lnTo>
                  <a:pt x="203" y="1407"/>
                </a:lnTo>
                <a:lnTo>
                  <a:pt x="203" y="1405"/>
                </a:lnTo>
                <a:lnTo>
                  <a:pt x="172" y="1411"/>
                </a:lnTo>
                <a:lnTo>
                  <a:pt x="136" y="1416"/>
                </a:lnTo>
                <a:lnTo>
                  <a:pt x="101" y="1418"/>
                </a:lnTo>
                <a:lnTo>
                  <a:pt x="65" y="1418"/>
                </a:lnTo>
                <a:lnTo>
                  <a:pt x="29" y="1418"/>
                </a:lnTo>
                <a:lnTo>
                  <a:pt x="0" y="1416"/>
                </a:lnTo>
                <a:lnTo>
                  <a:pt x="0" y="1418"/>
                </a:lnTo>
                <a:lnTo>
                  <a:pt x="0" y="1418"/>
                </a:lnTo>
                <a:lnTo>
                  <a:pt x="2" y="1420"/>
                </a:lnTo>
                <a:lnTo>
                  <a:pt x="2" y="1420"/>
                </a:lnTo>
                <a:lnTo>
                  <a:pt x="2" y="1422"/>
                </a:lnTo>
                <a:lnTo>
                  <a:pt x="2" y="1424"/>
                </a:lnTo>
                <a:lnTo>
                  <a:pt x="4" y="1424"/>
                </a:lnTo>
                <a:lnTo>
                  <a:pt x="4" y="1426"/>
                </a:lnTo>
                <a:close/>
              </a:path>
            </a:pathLst>
          </a:custGeom>
          <a:solidFill>
            <a:srgbClr val="69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139"/>
          <p:cNvSpPr/>
          <p:nvPr/>
        </p:nvSpPr>
        <p:spPr>
          <a:xfrm>
            <a:off x="7023240" y="2170080"/>
            <a:ext cx="328320" cy="2254320"/>
          </a:xfrm>
          <a:custGeom>
            <a:avLst/>
            <a:gdLst>
              <a:gd name="textAreaLeft" fmla="*/ 0 w 328320"/>
              <a:gd name="textAreaRight" fmla="*/ 328680 w 328320"/>
              <a:gd name="textAreaTop" fmla="*/ 0 h 2254320"/>
              <a:gd name="textAreaBottom" fmla="*/ 2254680 h 2254320"/>
            </a:gdLst>
            <a:ahLst/>
            <a:rect l="textAreaLeft" t="textAreaTop" r="textAreaRight" b="textAreaBottom"/>
            <a:pathLst>
              <a:path w="207" h="1420">
                <a:moveTo>
                  <a:pt x="198" y="14"/>
                </a:moveTo>
                <a:lnTo>
                  <a:pt x="174" y="10"/>
                </a:lnTo>
                <a:lnTo>
                  <a:pt x="140" y="4"/>
                </a:lnTo>
                <a:lnTo>
                  <a:pt x="103" y="2"/>
                </a:lnTo>
                <a:lnTo>
                  <a:pt x="67" y="0"/>
                </a:lnTo>
                <a:lnTo>
                  <a:pt x="63" y="2"/>
                </a:lnTo>
                <a:lnTo>
                  <a:pt x="63" y="2"/>
                </a:lnTo>
                <a:lnTo>
                  <a:pt x="61" y="4"/>
                </a:lnTo>
                <a:lnTo>
                  <a:pt x="61" y="4"/>
                </a:lnTo>
                <a:lnTo>
                  <a:pt x="61" y="6"/>
                </a:lnTo>
                <a:lnTo>
                  <a:pt x="59" y="8"/>
                </a:lnTo>
                <a:lnTo>
                  <a:pt x="59" y="8"/>
                </a:lnTo>
                <a:lnTo>
                  <a:pt x="59" y="10"/>
                </a:lnTo>
                <a:lnTo>
                  <a:pt x="57" y="12"/>
                </a:lnTo>
                <a:lnTo>
                  <a:pt x="67" y="10"/>
                </a:lnTo>
                <a:lnTo>
                  <a:pt x="103" y="12"/>
                </a:lnTo>
                <a:lnTo>
                  <a:pt x="138" y="14"/>
                </a:lnTo>
                <a:lnTo>
                  <a:pt x="173" y="19"/>
                </a:lnTo>
                <a:lnTo>
                  <a:pt x="194" y="21"/>
                </a:lnTo>
                <a:lnTo>
                  <a:pt x="194" y="21"/>
                </a:lnTo>
                <a:lnTo>
                  <a:pt x="194" y="19"/>
                </a:lnTo>
                <a:lnTo>
                  <a:pt x="194" y="19"/>
                </a:lnTo>
                <a:lnTo>
                  <a:pt x="196" y="17"/>
                </a:lnTo>
                <a:lnTo>
                  <a:pt x="196" y="17"/>
                </a:lnTo>
                <a:lnTo>
                  <a:pt x="196" y="15"/>
                </a:lnTo>
                <a:lnTo>
                  <a:pt x="198" y="14"/>
                </a:lnTo>
                <a:lnTo>
                  <a:pt x="198" y="14"/>
                </a:lnTo>
                <a:close/>
                <a:moveTo>
                  <a:pt x="4" y="1416"/>
                </a:moveTo>
                <a:lnTo>
                  <a:pt x="31" y="1418"/>
                </a:lnTo>
                <a:lnTo>
                  <a:pt x="67" y="1420"/>
                </a:lnTo>
                <a:lnTo>
                  <a:pt x="103" y="1418"/>
                </a:lnTo>
                <a:lnTo>
                  <a:pt x="140" y="1416"/>
                </a:lnTo>
                <a:lnTo>
                  <a:pt x="174" y="1412"/>
                </a:lnTo>
                <a:lnTo>
                  <a:pt x="207" y="1407"/>
                </a:lnTo>
                <a:lnTo>
                  <a:pt x="207" y="1405"/>
                </a:lnTo>
                <a:lnTo>
                  <a:pt x="207" y="1403"/>
                </a:lnTo>
                <a:lnTo>
                  <a:pt x="205" y="1403"/>
                </a:lnTo>
                <a:lnTo>
                  <a:pt x="205" y="1401"/>
                </a:lnTo>
                <a:lnTo>
                  <a:pt x="205" y="1401"/>
                </a:lnTo>
                <a:lnTo>
                  <a:pt x="205" y="1399"/>
                </a:lnTo>
                <a:lnTo>
                  <a:pt x="203" y="1399"/>
                </a:lnTo>
                <a:lnTo>
                  <a:pt x="203" y="1397"/>
                </a:lnTo>
                <a:lnTo>
                  <a:pt x="173" y="1403"/>
                </a:lnTo>
                <a:lnTo>
                  <a:pt x="138" y="1407"/>
                </a:lnTo>
                <a:lnTo>
                  <a:pt x="103" y="1410"/>
                </a:lnTo>
                <a:lnTo>
                  <a:pt x="67" y="1410"/>
                </a:lnTo>
                <a:lnTo>
                  <a:pt x="31" y="1410"/>
                </a:lnTo>
                <a:lnTo>
                  <a:pt x="0" y="1407"/>
                </a:lnTo>
                <a:lnTo>
                  <a:pt x="0" y="1409"/>
                </a:lnTo>
                <a:lnTo>
                  <a:pt x="0" y="1410"/>
                </a:lnTo>
                <a:lnTo>
                  <a:pt x="2" y="1410"/>
                </a:lnTo>
                <a:lnTo>
                  <a:pt x="2" y="1412"/>
                </a:lnTo>
                <a:lnTo>
                  <a:pt x="2" y="1414"/>
                </a:lnTo>
                <a:lnTo>
                  <a:pt x="2" y="1414"/>
                </a:lnTo>
                <a:lnTo>
                  <a:pt x="4" y="1416"/>
                </a:lnTo>
                <a:lnTo>
                  <a:pt x="4" y="1416"/>
                </a:lnTo>
                <a:close/>
              </a:path>
            </a:pathLst>
          </a:custGeom>
          <a:solidFill>
            <a:srgbClr val="6a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140"/>
          <p:cNvSpPr/>
          <p:nvPr/>
        </p:nvSpPr>
        <p:spPr>
          <a:xfrm>
            <a:off x="7020000" y="2179800"/>
            <a:ext cx="328680" cy="2234880"/>
          </a:xfrm>
          <a:custGeom>
            <a:avLst/>
            <a:gdLst>
              <a:gd name="textAreaLeft" fmla="*/ 0 w 328680"/>
              <a:gd name="textAreaRight" fmla="*/ 329040 w 328680"/>
              <a:gd name="textAreaTop" fmla="*/ 0 h 2234880"/>
              <a:gd name="textAreaBottom" fmla="*/ 2235240 h 2234880"/>
            </a:gdLst>
            <a:ahLst/>
            <a:rect l="textAreaLeft" t="textAreaTop" r="textAreaRight" b="textAreaBottom"/>
            <a:pathLst>
              <a:path w="207" h="1408">
                <a:moveTo>
                  <a:pt x="198" y="11"/>
                </a:moveTo>
                <a:lnTo>
                  <a:pt x="176" y="8"/>
                </a:lnTo>
                <a:lnTo>
                  <a:pt x="140" y="4"/>
                </a:lnTo>
                <a:lnTo>
                  <a:pt x="105" y="0"/>
                </a:lnTo>
                <a:lnTo>
                  <a:pt x="69" y="0"/>
                </a:lnTo>
                <a:lnTo>
                  <a:pt x="63" y="0"/>
                </a:lnTo>
                <a:lnTo>
                  <a:pt x="61" y="2"/>
                </a:lnTo>
                <a:lnTo>
                  <a:pt x="61" y="2"/>
                </a:lnTo>
                <a:lnTo>
                  <a:pt x="61" y="4"/>
                </a:lnTo>
                <a:lnTo>
                  <a:pt x="59" y="6"/>
                </a:lnTo>
                <a:lnTo>
                  <a:pt x="59" y="6"/>
                </a:lnTo>
                <a:lnTo>
                  <a:pt x="57" y="8"/>
                </a:lnTo>
                <a:lnTo>
                  <a:pt x="57" y="8"/>
                </a:lnTo>
                <a:lnTo>
                  <a:pt x="57" y="9"/>
                </a:lnTo>
                <a:lnTo>
                  <a:pt x="69" y="9"/>
                </a:lnTo>
                <a:lnTo>
                  <a:pt x="104" y="9"/>
                </a:lnTo>
                <a:lnTo>
                  <a:pt x="140" y="13"/>
                </a:lnTo>
                <a:lnTo>
                  <a:pt x="175" y="17"/>
                </a:lnTo>
                <a:lnTo>
                  <a:pt x="194" y="21"/>
                </a:lnTo>
                <a:lnTo>
                  <a:pt x="194" y="19"/>
                </a:lnTo>
                <a:lnTo>
                  <a:pt x="194" y="19"/>
                </a:lnTo>
                <a:lnTo>
                  <a:pt x="194" y="17"/>
                </a:lnTo>
                <a:lnTo>
                  <a:pt x="196" y="15"/>
                </a:lnTo>
                <a:lnTo>
                  <a:pt x="196" y="15"/>
                </a:lnTo>
                <a:lnTo>
                  <a:pt x="196" y="13"/>
                </a:lnTo>
                <a:lnTo>
                  <a:pt x="196" y="13"/>
                </a:lnTo>
                <a:lnTo>
                  <a:pt x="198" y="11"/>
                </a:lnTo>
                <a:close/>
                <a:moveTo>
                  <a:pt x="4" y="1406"/>
                </a:moveTo>
                <a:lnTo>
                  <a:pt x="33" y="1408"/>
                </a:lnTo>
                <a:lnTo>
                  <a:pt x="69" y="1408"/>
                </a:lnTo>
                <a:lnTo>
                  <a:pt x="105" y="1408"/>
                </a:lnTo>
                <a:lnTo>
                  <a:pt x="140" y="1406"/>
                </a:lnTo>
                <a:lnTo>
                  <a:pt x="176" y="1401"/>
                </a:lnTo>
                <a:lnTo>
                  <a:pt x="207" y="1395"/>
                </a:lnTo>
                <a:lnTo>
                  <a:pt x="207" y="1395"/>
                </a:lnTo>
                <a:lnTo>
                  <a:pt x="207" y="1393"/>
                </a:lnTo>
                <a:lnTo>
                  <a:pt x="205" y="1393"/>
                </a:lnTo>
                <a:lnTo>
                  <a:pt x="205" y="1391"/>
                </a:lnTo>
                <a:lnTo>
                  <a:pt x="205" y="1389"/>
                </a:lnTo>
                <a:lnTo>
                  <a:pt x="203" y="1389"/>
                </a:lnTo>
                <a:lnTo>
                  <a:pt x="203" y="1387"/>
                </a:lnTo>
                <a:lnTo>
                  <a:pt x="203" y="1387"/>
                </a:lnTo>
                <a:lnTo>
                  <a:pt x="175" y="1391"/>
                </a:lnTo>
                <a:lnTo>
                  <a:pt x="140" y="1397"/>
                </a:lnTo>
                <a:lnTo>
                  <a:pt x="104" y="1399"/>
                </a:lnTo>
                <a:lnTo>
                  <a:pt x="69" y="1401"/>
                </a:lnTo>
                <a:lnTo>
                  <a:pt x="33" y="1399"/>
                </a:lnTo>
                <a:lnTo>
                  <a:pt x="0" y="1397"/>
                </a:lnTo>
                <a:lnTo>
                  <a:pt x="0" y="1397"/>
                </a:lnTo>
                <a:lnTo>
                  <a:pt x="0" y="1399"/>
                </a:lnTo>
                <a:lnTo>
                  <a:pt x="2" y="1401"/>
                </a:lnTo>
                <a:lnTo>
                  <a:pt x="2" y="1401"/>
                </a:lnTo>
                <a:lnTo>
                  <a:pt x="2" y="1403"/>
                </a:lnTo>
                <a:lnTo>
                  <a:pt x="2" y="1404"/>
                </a:lnTo>
                <a:lnTo>
                  <a:pt x="4" y="1404"/>
                </a:lnTo>
                <a:lnTo>
                  <a:pt x="4" y="1406"/>
                </a:lnTo>
                <a:close/>
              </a:path>
            </a:pathLst>
          </a:custGeom>
          <a:solidFill>
            <a:srgbClr val="6b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141"/>
          <p:cNvSpPr/>
          <p:nvPr/>
        </p:nvSpPr>
        <p:spPr>
          <a:xfrm>
            <a:off x="7016760" y="2185920"/>
            <a:ext cx="328680" cy="2222640"/>
          </a:xfrm>
          <a:custGeom>
            <a:avLst/>
            <a:gdLst>
              <a:gd name="textAreaLeft" fmla="*/ 0 w 328680"/>
              <a:gd name="textAreaRight" fmla="*/ 329040 w 328680"/>
              <a:gd name="textAreaTop" fmla="*/ 0 h 2222640"/>
              <a:gd name="textAreaBottom" fmla="*/ 2223000 h 2222640"/>
            </a:gdLst>
            <a:ahLst/>
            <a:rect l="textAreaLeft" t="textAreaTop" r="textAreaRight" b="textAreaBottom"/>
            <a:pathLst>
              <a:path w="207" h="1400">
                <a:moveTo>
                  <a:pt x="198" y="11"/>
                </a:moveTo>
                <a:lnTo>
                  <a:pt x="177" y="9"/>
                </a:lnTo>
                <a:lnTo>
                  <a:pt x="142" y="4"/>
                </a:lnTo>
                <a:lnTo>
                  <a:pt x="107" y="2"/>
                </a:lnTo>
                <a:lnTo>
                  <a:pt x="71" y="0"/>
                </a:lnTo>
                <a:lnTo>
                  <a:pt x="61" y="2"/>
                </a:lnTo>
                <a:lnTo>
                  <a:pt x="61" y="2"/>
                </a:lnTo>
                <a:lnTo>
                  <a:pt x="61" y="4"/>
                </a:lnTo>
                <a:lnTo>
                  <a:pt x="59" y="4"/>
                </a:lnTo>
                <a:lnTo>
                  <a:pt x="59" y="5"/>
                </a:lnTo>
                <a:lnTo>
                  <a:pt x="58" y="7"/>
                </a:lnTo>
                <a:lnTo>
                  <a:pt x="58" y="7"/>
                </a:lnTo>
                <a:lnTo>
                  <a:pt x="58" y="9"/>
                </a:lnTo>
                <a:lnTo>
                  <a:pt x="56" y="11"/>
                </a:lnTo>
                <a:lnTo>
                  <a:pt x="71" y="9"/>
                </a:lnTo>
                <a:lnTo>
                  <a:pt x="106" y="11"/>
                </a:lnTo>
                <a:lnTo>
                  <a:pt x="142" y="13"/>
                </a:lnTo>
                <a:lnTo>
                  <a:pt x="177" y="17"/>
                </a:lnTo>
                <a:lnTo>
                  <a:pt x="194" y="21"/>
                </a:lnTo>
                <a:lnTo>
                  <a:pt x="194" y="21"/>
                </a:lnTo>
                <a:lnTo>
                  <a:pt x="194" y="19"/>
                </a:lnTo>
                <a:lnTo>
                  <a:pt x="194" y="17"/>
                </a:lnTo>
                <a:lnTo>
                  <a:pt x="196" y="17"/>
                </a:lnTo>
                <a:lnTo>
                  <a:pt x="196" y="15"/>
                </a:lnTo>
                <a:lnTo>
                  <a:pt x="196" y="15"/>
                </a:lnTo>
                <a:lnTo>
                  <a:pt x="196" y="13"/>
                </a:lnTo>
                <a:lnTo>
                  <a:pt x="198" y="11"/>
                </a:lnTo>
                <a:close/>
                <a:moveTo>
                  <a:pt x="4" y="1397"/>
                </a:moveTo>
                <a:lnTo>
                  <a:pt x="35" y="1400"/>
                </a:lnTo>
                <a:lnTo>
                  <a:pt x="71" y="1400"/>
                </a:lnTo>
                <a:lnTo>
                  <a:pt x="107" y="1400"/>
                </a:lnTo>
                <a:lnTo>
                  <a:pt x="142" y="1397"/>
                </a:lnTo>
                <a:lnTo>
                  <a:pt x="177" y="1393"/>
                </a:lnTo>
                <a:lnTo>
                  <a:pt x="207" y="1387"/>
                </a:lnTo>
                <a:lnTo>
                  <a:pt x="207" y="1385"/>
                </a:lnTo>
                <a:lnTo>
                  <a:pt x="205" y="1385"/>
                </a:lnTo>
                <a:lnTo>
                  <a:pt x="205" y="1383"/>
                </a:lnTo>
                <a:lnTo>
                  <a:pt x="205" y="1383"/>
                </a:lnTo>
                <a:lnTo>
                  <a:pt x="205" y="1381"/>
                </a:lnTo>
                <a:lnTo>
                  <a:pt x="203" y="1381"/>
                </a:lnTo>
                <a:lnTo>
                  <a:pt x="203" y="1379"/>
                </a:lnTo>
                <a:lnTo>
                  <a:pt x="203" y="1377"/>
                </a:lnTo>
                <a:lnTo>
                  <a:pt x="177" y="1383"/>
                </a:lnTo>
                <a:lnTo>
                  <a:pt x="142" y="1387"/>
                </a:lnTo>
                <a:lnTo>
                  <a:pt x="106" y="1391"/>
                </a:lnTo>
                <a:lnTo>
                  <a:pt x="71" y="1391"/>
                </a:lnTo>
                <a:lnTo>
                  <a:pt x="35" y="1391"/>
                </a:lnTo>
                <a:lnTo>
                  <a:pt x="0" y="1387"/>
                </a:lnTo>
                <a:lnTo>
                  <a:pt x="0" y="1387"/>
                </a:lnTo>
                <a:lnTo>
                  <a:pt x="0" y="1389"/>
                </a:lnTo>
                <a:lnTo>
                  <a:pt x="0" y="1389"/>
                </a:lnTo>
                <a:lnTo>
                  <a:pt x="0" y="1391"/>
                </a:lnTo>
                <a:lnTo>
                  <a:pt x="2" y="1393"/>
                </a:lnTo>
                <a:lnTo>
                  <a:pt x="2" y="1393"/>
                </a:lnTo>
                <a:lnTo>
                  <a:pt x="2" y="1395"/>
                </a:lnTo>
                <a:lnTo>
                  <a:pt x="4" y="1397"/>
                </a:lnTo>
                <a:lnTo>
                  <a:pt x="4" y="1397"/>
                </a:lnTo>
                <a:close/>
              </a:path>
            </a:pathLst>
          </a:custGeom>
          <a:solidFill>
            <a:srgbClr val="6c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142"/>
          <p:cNvSpPr/>
          <p:nvPr/>
        </p:nvSpPr>
        <p:spPr>
          <a:xfrm>
            <a:off x="7013520" y="2193840"/>
            <a:ext cx="328680" cy="2210040"/>
          </a:xfrm>
          <a:custGeom>
            <a:avLst/>
            <a:gdLst>
              <a:gd name="textAreaLeft" fmla="*/ 0 w 328680"/>
              <a:gd name="textAreaRight" fmla="*/ 329040 w 328680"/>
              <a:gd name="textAreaTop" fmla="*/ 0 h 2210040"/>
              <a:gd name="textAreaBottom" fmla="*/ 2210040 h 2210040"/>
            </a:gdLst>
            <a:ahLst/>
            <a:rect l="textAreaLeft" t="textAreaTop" r="textAreaRight" b="textAreaBottom"/>
            <a:pathLst>
              <a:path w="207" h="1392">
                <a:moveTo>
                  <a:pt x="198" y="12"/>
                </a:moveTo>
                <a:lnTo>
                  <a:pt x="179" y="8"/>
                </a:lnTo>
                <a:lnTo>
                  <a:pt x="144" y="4"/>
                </a:lnTo>
                <a:lnTo>
                  <a:pt x="108" y="0"/>
                </a:lnTo>
                <a:lnTo>
                  <a:pt x="73" y="0"/>
                </a:lnTo>
                <a:lnTo>
                  <a:pt x="61" y="0"/>
                </a:lnTo>
                <a:lnTo>
                  <a:pt x="60" y="2"/>
                </a:lnTo>
                <a:lnTo>
                  <a:pt x="60" y="2"/>
                </a:lnTo>
                <a:lnTo>
                  <a:pt x="60" y="4"/>
                </a:lnTo>
                <a:lnTo>
                  <a:pt x="58" y="6"/>
                </a:lnTo>
                <a:lnTo>
                  <a:pt x="58" y="6"/>
                </a:lnTo>
                <a:lnTo>
                  <a:pt x="58" y="8"/>
                </a:lnTo>
                <a:lnTo>
                  <a:pt x="56" y="8"/>
                </a:lnTo>
                <a:lnTo>
                  <a:pt x="56" y="10"/>
                </a:lnTo>
                <a:lnTo>
                  <a:pt x="73" y="10"/>
                </a:lnTo>
                <a:lnTo>
                  <a:pt x="108" y="10"/>
                </a:lnTo>
                <a:lnTo>
                  <a:pt x="142" y="14"/>
                </a:lnTo>
                <a:lnTo>
                  <a:pt x="177" y="18"/>
                </a:lnTo>
                <a:lnTo>
                  <a:pt x="194" y="20"/>
                </a:lnTo>
                <a:lnTo>
                  <a:pt x="194" y="20"/>
                </a:lnTo>
                <a:lnTo>
                  <a:pt x="194" y="18"/>
                </a:lnTo>
                <a:lnTo>
                  <a:pt x="194" y="18"/>
                </a:lnTo>
                <a:lnTo>
                  <a:pt x="196" y="16"/>
                </a:lnTo>
                <a:lnTo>
                  <a:pt x="196" y="16"/>
                </a:lnTo>
                <a:lnTo>
                  <a:pt x="196" y="14"/>
                </a:lnTo>
                <a:lnTo>
                  <a:pt x="196" y="12"/>
                </a:lnTo>
                <a:lnTo>
                  <a:pt x="198" y="12"/>
                </a:lnTo>
                <a:close/>
                <a:moveTo>
                  <a:pt x="4" y="1388"/>
                </a:moveTo>
                <a:lnTo>
                  <a:pt x="37" y="1390"/>
                </a:lnTo>
                <a:lnTo>
                  <a:pt x="73" y="1392"/>
                </a:lnTo>
                <a:lnTo>
                  <a:pt x="108" y="1390"/>
                </a:lnTo>
                <a:lnTo>
                  <a:pt x="144" y="1388"/>
                </a:lnTo>
                <a:lnTo>
                  <a:pt x="179" y="1382"/>
                </a:lnTo>
                <a:lnTo>
                  <a:pt x="207" y="1378"/>
                </a:lnTo>
                <a:lnTo>
                  <a:pt x="207" y="1376"/>
                </a:lnTo>
                <a:lnTo>
                  <a:pt x="205" y="1376"/>
                </a:lnTo>
                <a:lnTo>
                  <a:pt x="205" y="1374"/>
                </a:lnTo>
                <a:lnTo>
                  <a:pt x="205" y="1372"/>
                </a:lnTo>
                <a:lnTo>
                  <a:pt x="204" y="1372"/>
                </a:lnTo>
                <a:lnTo>
                  <a:pt x="204" y="1371"/>
                </a:lnTo>
                <a:lnTo>
                  <a:pt x="204" y="1371"/>
                </a:lnTo>
                <a:lnTo>
                  <a:pt x="202" y="1369"/>
                </a:lnTo>
                <a:lnTo>
                  <a:pt x="177" y="1374"/>
                </a:lnTo>
                <a:lnTo>
                  <a:pt x="142" y="1378"/>
                </a:lnTo>
                <a:lnTo>
                  <a:pt x="108" y="1380"/>
                </a:lnTo>
                <a:lnTo>
                  <a:pt x="73" y="1382"/>
                </a:lnTo>
                <a:lnTo>
                  <a:pt x="37" y="1380"/>
                </a:lnTo>
                <a:lnTo>
                  <a:pt x="2" y="1378"/>
                </a:lnTo>
                <a:lnTo>
                  <a:pt x="0" y="1378"/>
                </a:lnTo>
                <a:lnTo>
                  <a:pt x="0" y="1378"/>
                </a:lnTo>
                <a:lnTo>
                  <a:pt x="0" y="1380"/>
                </a:lnTo>
                <a:lnTo>
                  <a:pt x="0" y="1382"/>
                </a:lnTo>
                <a:lnTo>
                  <a:pt x="2" y="1382"/>
                </a:lnTo>
                <a:lnTo>
                  <a:pt x="2" y="1384"/>
                </a:lnTo>
                <a:lnTo>
                  <a:pt x="2" y="1384"/>
                </a:lnTo>
                <a:lnTo>
                  <a:pt x="2" y="1386"/>
                </a:lnTo>
                <a:lnTo>
                  <a:pt x="4" y="1388"/>
                </a:lnTo>
                <a:close/>
              </a:path>
            </a:pathLst>
          </a:custGeom>
          <a:solidFill>
            <a:srgbClr val="6d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reeform 143"/>
          <p:cNvSpPr/>
          <p:nvPr/>
        </p:nvSpPr>
        <p:spPr>
          <a:xfrm>
            <a:off x="7010280" y="2200320"/>
            <a:ext cx="328680" cy="2193840"/>
          </a:xfrm>
          <a:custGeom>
            <a:avLst/>
            <a:gdLst>
              <a:gd name="textAreaLeft" fmla="*/ 0 w 328680"/>
              <a:gd name="textAreaRight" fmla="*/ 329040 w 328680"/>
              <a:gd name="textAreaTop" fmla="*/ 0 h 2193840"/>
              <a:gd name="textAreaBottom" fmla="*/ 2194200 h 2193840"/>
            </a:gdLst>
            <a:ahLst/>
            <a:rect l="textAreaLeft" t="textAreaTop" r="textAreaRight" b="textAreaBottom"/>
            <a:pathLst>
              <a:path w="207" h="1382">
                <a:moveTo>
                  <a:pt x="198" y="12"/>
                </a:moveTo>
                <a:lnTo>
                  <a:pt x="181" y="8"/>
                </a:lnTo>
                <a:lnTo>
                  <a:pt x="146" y="4"/>
                </a:lnTo>
                <a:lnTo>
                  <a:pt x="110" y="2"/>
                </a:lnTo>
                <a:lnTo>
                  <a:pt x="75" y="0"/>
                </a:lnTo>
                <a:lnTo>
                  <a:pt x="60" y="2"/>
                </a:lnTo>
                <a:lnTo>
                  <a:pt x="60" y="2"/>
                </a:lnTo>
                <a:lnTo>
                  <a:pt x="60" y="4"/>
                </a:lnTo>
                <a:lnTo>
                  <a:pt x="58" y="4"/>
                </a:lnTo>
                <a:lnTo>
                  <a:pt x="58" y="6"/>
                </a:lnTo>
                <a:lnTo>
                  <a:pt x="58" y="8"/>
                </a:lnTo>
                <a:lnTo>
                  <a:pt x="56" y="8"/>
                </a:lnTo>
                <a:lnTo>
                  <a:pt x="56" y="10"/>
                </a:lnTo>
                <a:lnTo>
                  <a:pt x="56" y="12"/>
                </a:lnTo>
                <a:lnTo>
                  <a:pt x="75" y="10"/>
                </a:lnTo>
                <a:lnTo>
                  <a:pt x="110" y="12"/>
                </a:lnTo>
                <a:lnTo>
                  <a:pt x="144" y="14"/>
                </a:lnTo>
                <a:lnTo>
                  <a:pt x="179" y="18"/>
                </a:lnTo>
                <a:lnTo>
                  <a:pt x="194" y="21"/>
                </a:lnTo>
                <a:lnTo>
                  <a:pt x="194" y="20"/>
                </a:lnTo>
                <a:lnTo>
                  <a:pt x="194" y="20"/>
                </a:lnTo>
                <a:lnTo>
                  <a:pt x="194" y="18"/>
                </a:lnTo>
                <a:lnTo>
                  <a:pt x="196" y="16"/>
                </a:lnTo>
                <a:lnTo>
                  <a:pt x="196" y="16"/>
                </a:lnTo>
                <a:lnTo>
                  <a:pt x="196" y="14"/>
                </a:lnTo>
                <a:lnTo>
                  <a:pt x="196" y="14"/>
                </a:lnTo>
                <a:lnTo>
                  <a:pt x="198" y="12"/>
                </a:lnTo>
                <a:close/>
                <a:moveTo>
                  <a:pt x="4" y="1378"/>
                </a:moveTo>
                <a:lnTo>
                  <a:pt x="4" y="1378"/>
                </a:lnTo>
                <a:lnTo>
                  <a:pt x="39" y="1382"/>
                </a:lnTo>
                <a:lnTo>
                  <a:pt x="75" y="1382"/>
                </a:lnTo>
                <a:lnTo>
                  <a:pt x="110" y="1382"/>
                </a:lnTo>
                <a:lnTo>
                  <a:pt x="146" y="1378"/>
                </a:lnTo>
                <a:lnTo>
                  <a:pt x="181" y="1374"/>
                </a:lnTo>
                <a:lnTo>
                  <a:pt x="207" y="1368"/>
                </a:lnTo>
                <a:lnTo>
                  <a:pt x="206" y="1368"/>
                </a:lnTo>
                <a:lnTo>
                  <a:pt x="206" y="1367"/>
                </a:lnTo>
                <a:lnTo>
                  <a:pt x="206" y="1367"/>
                </a:lnTo>
                <a:lnTo>
                  <a:pt x="204" y="1365"/>
                </a:lnTo>
                <a:lnTo>
                  <a:pt x="204" y="1365"/>
                </a:lnTo>
                <a:lnTo>
                  <a:pt x="204" y="1363"/>
                </a:lnTo>
                <a:lnTo>
                  <a:pt x="204" y="1361"/>
                </a:lnTo>
                <a:lnTo>
                  <a:pt x="202" y="1361"/>
                </a:lnTo>
                <a:lnTo>
                  <a:pt x="179" y="1365"/>
                </a:lnTo>
                <a:lnTo>
                  <a:pt x="144" y="1368"/>
                </a:lnTo>
                <a:lnTo>
                  <a:pt x="110" y="1372"/>
                </a:lnTo>
                <a:lnTo>
                  <a:pt x="75" y="1372"/>
                </a:lnTo>
                <a:lnTo>
                  <a:pt x="39" y="1372"/>
                </a:lnTo>
                <a:lnTo>
                  <a:pt x="4" y="1368"/>
                </a:lnTo>
                <a:lnTo>
                  <a:pt x="0" y="1368"/>
                </a:lnTo>
                <a:lnTo>
                  <a:pt x="0" y="1370"/>
                </a:lnTo>
                <a:lnTo>
                  <a:pt x="0" y="1370"/>
                </a:lnTo>
                <a:lnTo>
                  <a:pt x="0" y="1372"/>
                </a:lnTo>
                <a:lnTo>
                  <a:pt x="2" y="1374"/>
                </a:lnTo>
                <a:lnTo>
                  <a:pt x="2" y="1374"/>
                </a:lnTo>
                <a:lnTo>
                  <a:pt x="2" y="1376"/>
                </a:lnTo>
                <a:lnTo>
                  <a:pt x="2" y="1378"/>
                </a:lnTo>
                <a:lnTo>
                  <a:pt x="4" y="1378"/>
                </a:lnTo>
                <a:close/>
              </a:path>
            </a:pathLst>
          </a:custGeom>
          <a:solidFill>
            <a:srgbClr val="6e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reeform 144"/>
          <p:cNvSpPr/>
          <p:nvPr/>
        </p:nvSpPr>
        <p:spPr>
          <a:xfrm>
            <a:off x="7007400" y="2209680"/>
            <a:ext cx="326880" cy="2178000"/>
          </a:xfrm>
          <a:custGeom>
            <a:avLst/>
            <a:gdLst>
              <a:gd name="textAreaLeft" fmla="*/ 0 w 326880"/>
              <a:gd name="textAreaRight" fmla="*/ 326880 w 326880"/>
              <a:gd name="textAreaTop" fmla="*/ 0 h 2178000"/>
              <a:gd name="textAreaBottom" fmla="*/ 2178360 h 2178000"/>
            </a:gdLst>
            <a:ahLst/>
            <a:rect l="textAreaLeft" t="textAreaTop" r="textAreaRight" b="textAreaBottom"/>
            <a:pathLst>
              <a:path w="206" h="1372">
                <a:moveTo>
                  <a:pt x="198" y="10"/>
                </a:moveTo>
                <a:lnTo>
                  <a:pt x="181" y="8"/>
                </a:lnTo>
                <a:lnTo>
                  <a:pt x="146" y="4"/>
                </a:lnTo>
                <a:lnTo>
                  <a:pt x="112" y="0"/>
                </a:lnTo>
                <a:lnTo>
                  <a:pt x="77" y="0"/>
                </a:lnTo>
                <a:lnTo>
                  <a:pt x="60" y="0"/>
                </a:lnTo>
                <a:lnTo>
                  <a:pt x="60" y="2"/>
                </a:lnTo>
                <a:lnTo>
                  <a:pt x="58" y="2"/>
                </a:lnTo>
                <a:lnTo>
                  <a:pt x="58" y="4"/>
                </a:lnTo>
                <a:lnTo>
                  <a:pt x="58" y="6"/>
                </a:lnTo>
                <a:lnTo>
                  <a:pt x="58" y="6"/>
                </a:lnTo>
                <a:lnTo>
                  <a:pt x="56" y="8"/>
                </a:lnTo>
                <a:lnTo>
                  <a:pt x="56" y="8"/>
                </a:lnTo>
                <a:lnTo>
                  <a:pt x="56" y="10"/>
                </a:lnTo>
                <a:lnTo>
                  <a:pt x="77" y="10"/>
                </a:lnTo>
                <a:lnTo>
                  <a:pt x="112" y="10"/>
                </a:lnTo>
                <a:lnTo>
                  <a:pt x="146" y="14"/>
                </a:lnTo>
                <a:lnTo>
                  <a:pt x="179" y="17"/>
                </a:lnTo>
                <a:lnTo>
                  <a:pt x="194" y="19"/>
                </a:lnTo>
                <a:lnTo>
                  <a:pt x="194" y="17"/>
                </a:lnTo>
                <a:lnTo>
                  <a:pt x="194" y="17"/>
                </a:lnTo>
                <a:lnTo>
                  <a:pt x="194" y="15"/>
                </a:lnTo>
                <a:lnTo>
                  <a:pt x="196" y="15"/>
                </a:lnTo>
                <a:lnTo>
                  <a:pt x="196" y="14"/>
                </a:lnTo>
                <a:lnTo>
                  <a:pt x="196" y="14"/>
                </a:lnTo>
                <a:lnTo>
                  <a:pt x="196" y="12"/>
                </a:lnTo>
                <a:lnTo>
                  <a:pt x="198" y="10"/>
                </a:lnTo>
                <a:close/>
                <a:moveTo>
                  <a:pt x="4" y="1368"/>
                </a:moveTo>
                <a:lnTo>
                  <a:pt x="6" y="1368"/>
                </a:lnTo>
                <a:lnTo>
                  <a:pt x="41" y="1370"/>
                </a:lnTo>
                <a:lnTo>
                  <a:pt x="77" y="1372"/>
                </a:lnTo>
                <a:lnTo>
                  <a:pt x="112" y="1370"/>
                </a:lnTo>
                <a:lnTo>
                  <a:pt x="146" y="1368"/>
                </a:lnTo>
                <a:lnTo>
                  <a:pt x="181" y="1364"/>
                </a:lnTo>
                <a:lnTo>
                  <a:pt x="206" y="1359"/>
                </a:lnTo>
                <a:lnTo>
                  <a:pt x="206" y="1359"/>
                </a:lnTo>
                <a:lnTo>
                  <a:pt x="206" y="1357"/>
                </a:lnTo>
                <a:lnTo>
                  <a:pt x="206" y="1355"/>
                </a:lnTo>
                <a:lnTo>
                  <a:pt x="204" y="1355"/>
                </a:lnTo>
                <a:lnTo>
                  <a:pt x="204" y="1353"/>
                </a:lnTo>
                <a:lnTo>
                  <a:pt x="204" y="1353"/>
                </a:lnTo>
                <a:lnTo>
                  <a:pt x="202" y="1351"/>
                </a:lnTo>
                <a:lnTo>
                  <a:pt x="202" y="1351"/>
                </a:lnTo>
                <a:lnTo>
                  <a:pt x="179" y="1355"/>
                </a:lnTo>
                <a:lnTo>
                  <a:pt x="146" y="1359"/>
                </a:lnTo>
                <a:lnTo>
                  <a:pt x="112" y="1361"/>
                </a:lnTo>
                <a:lnTo>
                  <a:pt x="77" y="1362"/>
                </a:lnTo>
                <a:lnTo>
                  <a:pt x="42" y="1361"/>
                </a:lnTo>
                <a:lnTo>
                  <a:pt x="8" y="1359"/>
                </a:lnTo>
                <a:lnTo>
                  <a:pt x="0" y="1357"/>
                </a:lnTo>
                <a:lnTo>
                  <a:pt x="0" y="1359"/>
                </a:lnTo>
                <a:lnTo>
                  <a:pt x="0" y="1361"/>
                </a:lnTo>
                <a:lnTo>
                  <a:pt x="0" y="1361"/>
                </a:lnTo>
                <a:lnTo>
                  <a:pt x="2" y="1362"/>
                </a:lnTo>
                <a:lnTo>
                  <a:pt x="2" y="1364"/>
                </a:lnTo>
                <a:lnTo>
                  <a:pt x="2" y="1364"/>
                </a:lnTo>
                <a:lnTo>
                  <a:pt x="2" y="1366"/>
                </a:lnTo>
                <a:lnTo>
                  <a:pt x="4" y="1368"/>
                </a:lnTo>
                <a:close/>
              </a:path>
            </a:pathLst>
          </a:custGeom>
          <a:solidFill>
            <a:srgbClr val="6f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145"/>
          <p:cNvSpPr/>
          <p:nvPr/>
        </p:nvSpPr>
        <p:spPr>
          <a:xfrm>
            <a:off x="7004160" y="2216160"/>
            <a:ext cx="326880" cy="2162160"/>
          </a:xfrm>
          <a:custGeom>
            <a:avLst/>
            <a:gdLst>
              <a:gd name="textAreaLeft" fmla="*/ 0 w 326880"/>
              <a:gd name="textAreaRight" fmla="*/ 326880 w 326880"/>
              <a:gd name="textAreaTop" fmla="*/ 0 h 2162160"/>
              <a:gd name="textAreaBottom" fmla="*/ 2162520 h 2162160"/>
            </a:gdLst>
            <a:ahLst/>
            <a:rect l="textAreaLeft" t="textAreaTop" r="textAreaRight" b="textAreaBottom"/>
            <a:pathLst>
              <a:path w="206" h="1362">
                <a:moveTo>
                  <a:pt x="198" y="11"/>
                </a:moveTo>
                <a:lnTo>
                  <a:pt x="183" y="8"/>
                </a:lnTo>
                <a:lnTo>
                  <a:pt x="148" y="4"/>
                </a:lnTo>
                <a:lnTo>
                  <a:pt x="114" y="2"/>
                </a:lnTo>
                <a:lnTo>
                  <a:pt x="79" y="0"/>
                </a:lnTo>
                <a:lnTo>
                  <a:pt x="60" y="2"/>
                </a:lnTo>
                <a:lnTo>
                  <a:pt x="60" y="2"/>
                </a:lnTo>
                <a:lnTo>
                  <a:pt x="58" y="4"/>
                </a:lnTo>
                <a:lnTo>
                  <a:pt x="58" y="4"/>
                </a:lnTo>
                <a:lnTo>
                  <a:pt x="58" y="6"/>
                </a:lnTo>
                <a:lnTo>
                  <a:pt x="56" y="8"/>
                </a:lnTo>
                <a:lnTo>
                  <a:pt x="56" y="8"/>
                </a:lnTo>
                <a:lnTo>
                  <a:pt x="56" y="10"/>
                </a:lnTo>
                <a:lnTo>
                  <a:pt x="54" y="11"/>
                </a:lnTo>
                <a:lnTo>
                  <a:pt x="79" y="10"/>
                </a:lnTo>
                <a:lnTo>
                  <a:pt x="114" y="11"/>
                </a:lnTo>
                <a:lnTo>
                  <a:pt x="148" y="13"/>
                </a:lnTo>
                <a:lnTo>
                  <a:pt x="181" y="17"/>
                </a:lnTo>
                <a:lnTo>
                  <a:pt x="194" y="19"/>
                </a:lnTo>
                <a:lnTo>
                  <a:pt x="194" y="19"/>
                </a:lnTo>
                <a:lnTo>
                  <a:pt x="194" y="17"/>
                </a:lnTo>
                <a:lnTo>
                  <a:pt x="194" y="17"/>
                </a:lnTo>
                <a:lnTo>
                  <a:pt x="196" y="15"/>
                </a:lnTo>
                <a:lnTo>
                  <a:pt x="196" y="13"/>
                </a:lnTo>
                <a:lnTo>
                  <a:pt x="196" y="13"/>
                </a:lnTo>
                <a:lnTo>
                  <a:pt x="196" y="11"/>
                </a:lnTo>
                <a:lnTo>
                  <a:pt x="198" y="11"/>
                </a:lnTo>
                <a:close/>
                <a:moveTo>
                  <a:pt x="4" y="1358"/>
                </a:moveTo>
                <a:lnTo>
                  <a:pt x="8" y="1358"/>
                </a:lnTo>
                <a:lnTo>
                  <a:pt x="43" y="1362"/>
                </a:lnTo>
                <a:lnTo>
                  <a:pt x="79" y="1362"/>
                </a:lnTo>
                <a:lnTo>
                  <a:pt x="114" y="1362"/>
                </a:lnTo>
                <a:lnTo>
                  <a:pt x="148" y="1358"/>
                </a:lnTo>
                <a:lnTo>
                  <a:pt x="183" y="1355"/>
                </a:lnTo>
                <a:lnTo>
                  <a:pt x="206" y="1351"/>
                </a:lnTo>
                <a:lnTo>
                  <a:pt x="206" y="1349"/>
                </a:lnTo>
                <a:lnTo>
                  <a:pt x="206" y="1349"/>
                </a:lnTo>
                <a:lnTo>
                  <a:pt x="204" y="1347"/>
                </a:lnTo>
                <a:lnTo>
                  <a:pt x="204" y="1347"/>
                </a:lnTo>
                <a:lnTo>
                  <a:pt x="204" y="1345"/>
                </a:lnTo>
                <a:lnTo>
                  <a:pt x="204" y="1343"/>
                </a:lnTo>
                <a:lnTo>
                  <a:pt x="202" y="1343"/>
                </a:lnTo>
                <a:lnTo>
                  <a:pt x="202" y="1341"/>
                </a:lnTo>
                <a:lnTo>
                  <a:pt x="181" y="1345"/>
                </a:lnTo>
                <a:lnTo>
                  <a:pt x="148" y="1349"/>
                </a:lnTo>
                <a:lnTo>
                  <a:pt x="114" y="1353"/>
                </a:lnTo>
                <a:lnTo>
                  <a:pt x="79" y="1353"/>
                </a:lnTo>
                <a:lnTo>
                  <a:pt x="44" y="1353"/>
                </a:lnTo>
                <a:lnTo>
                  <a:pt x="10" y="1349"/>
                </a:lnTo>
                <a:lnTo>
                  <a:pt x="0" y="1349"/>
                </a:lnTo>
                <a:lnTo>
                  <a:pt x="0" y="1349"/>
                </a:lnTo>
                <a:lnTo>
                  <a:pt x="0" y="1351"/>
                </a:lnTo>
                <a:lnTo>
                  <a:pt x="0" y="1353"/>
                </a:lnTo>
                <a:lnTo>
                  <a:pt x="2" y="1353"/>
                </a:lnTo>
                <a:lnTo>
                  <a:pt x="2" y="1355"/>
                </a:lnTo>
                <a:lnTo>
                  <a:pt x="2" y="1357"/>
                </a:lnTo>
                <a:lnTo>
                  <a:pt x="2" y="1357"/>
                </a:lnTo>
                <a:lnTo>
                  <a:pt x="4" y="1358"/>
                </a:lnTo>
                <a:close/>
              </a:path>
            </a:pathLst>
          </a:custGeom>
          <a:solidFill>
            <a:srgbClr val="70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Freeform 146"/>
          <p:cNvSpPr/>
          <p:nvPr/>
        </p:nvSpPr>
        <p:spPr>
          <a:xfrm>
            <a:off x="7000920" y="2225520"/>
            <a:ext cx="326880" cy="2146320"/>
          </a:xfrm>
          <a:custGeom>
            <a:avLst/>
            <a:gdLst>
              <a:gd name="textAreaLeft" fmla="*/ 0 w 326880"/>
              <a:gd name="textAreaRight" fmla="*/ 326880 w 326880"/>
              <a:gd name="textAreaTop" fmla="*/ 0 h 2146320"/>
              <a:gd name="textAreaBottom" fmla="*/ 2146680 h 2146320"/>
            </a:gdLst>
            <a:ahLst/>
            <a:rect l="textAreaLeft" t="textAreaTop" r="textAreaRight" b="textAreaBottom"/>
            <a:pathLst>
              <a:path w="206" h="1352">
                <a:moveTo>
                  <a:pt x="198" y="9"/>
                </a:moveTo>
                <a:lnTo>
                  <a:pt x="183" y="7"/>
                </a:lnTo>
                <a:lnTo>
                  <a:pt x="150" y="4"/>
                </a:lnTo>
                <a:lnTo>
                  <a:pt x="116" y="0"/>
                </a:lnTo>
                <a:lnTo>
                  <a:pt x="81" y="0"/>
                </a:lnTo>
                <a:lnTo>
                  <a:pt x="60" y="0"/>
                </a:lnTo>
                <a:lnTo>
                  <a:pt x="58" y="2"/>
                </a:lnTo>
                <a:lnTo>
                  <a:pt x="58" y="2"/>
                </a:lnTo>
                <a:lnTo>
                  <a:pt x="58" y="4"/>
                </a:lnTo>
                <a:lnTo>
                  <a:pt x="56" y="5"/>
                </a:lnTo>
                <a:lnTo>
                  <a:pt x="56" y="5"/>
                </a:lnTo>
                <a:lnTo>
                  <a:pt x="56" y="7"/>
                </a:lnTo>
                <a:lnTo>
                  <a:pt x="54" y="7"/>
                </a:lnTo>
                <a:lnTo>
                  <a:pt x="54" y="9"/>
                </a:lnTo>
                <a:lnTo>
                  <a:pt x="81" y="9"/>
                </a:lnTo>
                <a:lnTo>
                  <a:pt x="116" y="9"/>
                </a:lnTo>
                <a:lnTo>
                  <a:pt x="148" y="11"/>
                </a:lnTo>
                <a:lnTo>
                  <a:pt x="183" y="17"/>
                </a:lnTo>
                <a:lnTo>
                  <a:pt x="194" y="19"/>
                </a:lnTo>
                <a:lnTo>
                  <a:pt x="194" y="17"/>
                </a:lnTo>
                <a:lnTo>
                  <a:pt x="194" y="17"/>
                </a:lnTo>
                <a:lnTo>
                  <a:pt x="194" y="15"/>
                </a:lnTo>
                <a:lnTo>
                  <a:pt x="196" y="13"/>
                </a:lnTo>
                <a:lnTo>
                  <a:pt x="196" y="13"/>
                </a:lnTo>
                <a:lnTo>
                  <a:pt x="196" y="11"/>
                </a:lnTo>
                <a:lnTo>
                  <a:pt x="196" y="11"/>
                </a:lnTo>
                <a:lnTo>
                  <a:pt x="198" y="9"/>
                </a:lnTo>
                <a:close/>
                <a:moveTo>
                  <a:pt x="4" y="1347"/>
                </a:moveTo>
                <a:lnTo>
                  <a:pt x="12" y="1349"/>
                </a:lnTo>
                <a:lnTo>
                  <a:pt x="46" y="1351"/>
                </a:lnTo>
                <a:lnTo>
                  <a:pt x="81" y="1352"/>
                </a:lnTo>
                <a:lnTo>
                  <a:pt x="116" y="1351"/>
                </a:lnTo>
                <a:lnTo>
                  <a:pt x="150" y="1349"/>
                </a:lnTo>
                <a:lnTo>
                  <a:pt x="183" y="1345"/>
                </a:lnTo>
                <a:lnTo>
                  <a:pt x="206" y="1341"/>
                </a:lnTo>
                <a:lnTo>
                  <a:pt x="206" y="1339"/>
                </a:lnTo>
                <a:lnTo>
                  <a:pt x="206" y="1337"/>
                </a:lnTo>
                <a:lnTo>
                  <a:pt x="204" y="1337"/>
                </a:lnTo>
                <a:lnTo>
                  <a:pt x="204" y="1335"/>
                </a:lnTo>
                <a:lnTo>
                  <a:pt x="204" y="1335"/>
                </a:lnTo>
                <a:lnTo>
                  <a:pt x="202" y="1333"/>
                </a:lnTo>
                <a:lnTo>
                  <a:pt x="202" y="1333"/>
                </a:lnTo>
                <a:lnTo>
                  <a:pt x="202" y="1331"/>
                </a:lnTo>
                <a:lnTo>
                  <a:pt x="183" y="1335"/>
                </a:lnTo>
                <a:lnTo>
                  <a:pt x="148" y="1339"/>
                </a:lnTo>
                <a:lnTo>
                  <a:pt x="116" y="1341"/>
                </a:lnTo>
                <a:lnTo>
                  <a:pt x="81" y="1343"/>
                </a:lnTo>
                <a:lnTo>
                  <a:pt x="46" y="1341"/>
                </a:lnTo>
                <a:lnTo>
                  <a:pt x="12" y="1339"/>
                </a:lnTo>
                <a:lnTo>
                  <a:pt x="0" y="1337"/>
                </a:lnTo>
                <a:lnTo>
                  <a:pt x="0" y="1339"/>
                </a:lnTo>
                <a:lnTo>
                  <a:pt x="0" y="1339"/>
                </a:lnTo>
                <a:lnTo>
                  <a:pt x="0" y="1341"/>
                </a:lnTo>
                <a:lnTo>
                  <a:pt x="2" y="1343"/>
                </a:lnTo>
                <a:lnTo>
                  <a:pt x="2" y="1343"/>
                </a:lnTo>
                <a:lnTo>
                  <a:pt x="2" y="1345"/>
                </a:lnTo>
                <a:lnTo>
                  <a:pt x="2" y="1347"/>
                </a:lnTo>
                <a:lnTo>
                  <a:pt x="4" y="1347"/>
                </a:lnTo>
                <a:close/>
              </a:path>
            </a:pathLst>
          </a:custGeom>
          <a:solidFill>
            <a:srgbClr val="71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147"/>
          <p:cNvSpPr/>
          <p:nvPr/>
        </p:nvSpPr>
        <p:spPr>
          <a:xfrm>
            <a:off x="6997680" y="2232000"/>
            <a:ext cx="326880" cy="2131920"/>
          </a:xfrm>
          <a:custGeom>
            <a:avLst/>
            <a:gdLst>
              <a:gd name="textAreaLeft" fmla="*/ 0 w 326880"/>
              <a:gd name="textAreaRight" fmla="*/ 326880 w 326880"/>
              <a:gd name="textAreaTop" fmla="*/ 0 h 2131920"/>
              <a:gd name="textAreaBottom" fmla="*/ 2132280 h 2131920"/>
            </a:gdLst>
            <a:ahLst/>
            <a:rect l="textAreaLeft" t="textAreaTop" r="textAreaRight" b="textAreaBottom"/>
            <a:pathLst>
              <a:path w="206" h="1343">
                <a:moveTo>
                  <a:pt x="198" y="9"/>
                </a:moveTo>
                <a:lnTo>
                  <a:pt x="185" y="7"/>
                </a:lnTo>
                <a:lnTo>
                  <a:pt x="152" y="3"/>
                </a:lnTo>
                <a:lnTo>
                  <a:pt x="118" y="1"/>
                </a:lnTo>
                <a:lnTo>
                  <a:pt x="83" y="0"/>
                </a:lnTo>
                <a:lnTo>
                  <a:pt x="58" y="1"/>
                </a:lnTo>
                <a:lnTo>
                  <a:pt x="58" y="1"/>
                </a:lnTo>
                <a:lnTo>
                  <a:pt x="58" y="3"/>
                </a:lnTo>
                <a:lnTo>
                  <a:pt x="56" y="3"/>
                </a:lnTo>
                <a:lnTo>
                  <a:pt x="56" y="5"/>
                </a:lnTo>
                <a:lnTo>
                  <a:pt x="56" y="7"/>
                </a:lnTo>
                <a:lnTo>
                  <a:pt x="54" y="7"/>
                </a:lnTo>
                <a:lnTo>
                  <a:pt x="54" y="9"/>
                </a:lnTo>
                <a:lnTo>
                  <a:pt x="54" y="11"/>
                </a:lnTo>
                <a:lnTo>
                  <a:pt x="83" y="9"/>
                </a:lnTo>
                <a:lnTo>
                  <a:pt x="116" y="11"/>
                </a:lnTo>
                <a:lnTo>
                  <a:pt x="150" y="13"/>
                </a:lnTo>
                <a:lnTo>
                  <a:pt x="183" y="17"/>
                </a:lnTo>
                <a:lnTo>
                  <a:pt x="194" y="19"/>
                </a:lnTo>
                <a:lnTo>
                  <a:pt x="194" y="17"/>
                </a:lnTo>
                <a:lnTo>
                  <a:pt x="194" y="17"/>
                </a:lnTo>
                <a:lnTo>
                  <a:pt x="194" y="15"/>
                </a:lnTo>
                <a:lnTo>
                  <a:pt x="196" y="15"/>
                </a:lnTo>
                <a:lnTo>
                  <a:pt x="196" y="13"/>
                </a:lnTo>
                <a:lnTo>
                  <a:pt x="196" y="13"/>
                </a:lnTo>
                <a:lnTo>
                  <a:pt x="196" y="11"/>
                </a:lnTo>
                <a:lnTo>
                  <a:pt x="198" y="9"/>
                </a:lnTo>
                <a:close/>
                <a:moveTo>
                  <a:pt x="4" y="1339"/>
                </a:moveTo>
                <a:lnTo>
                  <a:pt x="14" y="1339"/>
                </a:lnTo>
                <a:lnTo>
                  <a:pt x="48" y="1343"/>
                </a:lnTo>
                <a:lnTo>
                  <a:pt x="83" y="1343"/>
                </a:lnTo>
                <a:lnTo>
                  <a:pt x="118" y="1343"/>
                </a:lnTo>
                <a:lnTo>
                  <a:pt x="152" y="1339"/>
                </a:lnTo>
                <a:lnTo>
                  <a:pt x="185" y="1335"/>
                </a:lnTo>
                <a:lnTo>
                  <a:pt x="206" y="1331"/>
                </a:lnTo>
                <a:lnTo>
                  <a:pt x="206" y="1331"/>
                </a:lnTo>
                <a:lnTo>
                  <a:pt x="204" y="1329"/>
                </a:lnTo>
                <a:lnTo>
                  <a:pt x="204" y="1329"/>
                </a:lnTo>
                <a:lnTo>
                  <a:pt x="204" y="1327"/>
                </a:lnTo>
                <a:lnTo>
                  <a:pt x="204" y="1325"/>
                </a:lnTo>
                <a:lnTo>
                  <a:pt x="202" y="1325"/>
                </a:lnTo>
                <a:lnTo>
                  <a:pt x="202" y="1324"/>
                </a:lnTo>
                <a:lnTo>
                  <a:pt x="202" y="1324"/>
                </a:lnTo>
                <a:lnTo>
                  <a:pt x="183" y="1325"/>
                </a:lnTo>
                <a:lnTo>
                  <a:pt x="150" y="1331"/>
                </a:lnTo>
                <a:lnTo>
                  <a:pt x="116" y="1333"/>
                </a:lnTo>
                <a:lnTo>
                  <a:pt x="83" y="1333"/>
                </a:lnTo>
                <a:lnTo>
                  <a:pt x="48" y="1333"/>
                </a:lnTo>
                <a:lnTo>
                  <a:pt x="14" y="1331"/>
                </a:lnTo>
                <a:lnTo>
                  <a:pt x="0" y="1329"/>
                </a:lnTo>
                <a:lnTo>
                  <a:pt x="0" y="1329"/>
                </a:lnTo>
                <a:lnTo>
                  <a:pt x="0" y="1331"/>
                </a:lnTo>
                <a:lnTo>
                  <a:pt x="0" y="1333"/>
                </a:lnTo>
                <a:lnTo>
                  <a:pt x="2" y="1333"/>
                </a:lnTo>
                <a:lnTo>
                  <a:pt x="2" y="1335"/>
                </a:lnTo>
                <a:lnTo>
                  <a:pt x="2" y="1335"/>
                </a:lnTo>
                <a:lnTo>
                  <a:pt x="2" y="1337"/>
                </a:lnTo>
                <a:lnTo>
                  <a:pt x="4" y="1339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reeform 148"/>
          <p:cNvSpPr/>
          <p:nvPr/>
        </p:nvSpPr>
        <p:spPr>
          <a:xfrm>
            <a:off x="6996240" y="2239920"/>
            <a:ext cx="325440" cy="2117880"/>
          </a:xfrm>
          <a:custGeom>
            <a:avLst/>
            <a:gdLst>
              <a:gd name="textAreaLeft" fmla="*/ 0 w 325440"/>
              <a:gd name="textAreaRight" fmla="*/ 325800 w 325440"/>
              <a:gd name="textAreaTop" fmla="*/ 0 h 2117880"/>
              <a:gd name="textAreaBottom" fmla="*/ 2118240 h 2117880"/>
            </a:gdLst>
            <a:ahLst/>
            <a:rect l="textAreaLeft" t="textAreaTop" r="textAreaRight" b="textAreaBottom"/>
            <a:pathLst>
              <a:path w="205" h="1334">
                <a:moveTo>
                  <a:pt x="197" y="10"/>
                </a:moveTo>
                <a:lnTo>
                  <a:pt x="186" y="8"/>
                </a:lnTo>
                <a:lnTo>
                  <a:pt x="151" y="2"/>
                </a:lnTo>
                <a:lnTo>
                  <a:pt x="119" y="0"/>
                </a:lnTo>
                <a:lnTo>
                  <a:pt x="84" y="0"/>
                </a:lnTo>
                <a:lnTo>
                  <a:pt x="57" y="0"/>
                </a:lnTo>
                <a:lnTo>
                  <a:pt x="57" y="2"/>
                </a:lnTo>
                <a:lnTo>
                  <a:pt x="55" y="2"/>
                </a:lnTo>
                <a:lnTo>
                  <a:pt x="55" y="4"/>
                </a:lnTo>
                <a:lnTo>
                  <a:pt x="55" y="6"/>
                </a:lnTo>
                <a:lnTo>
                  <a:pt x="53" y="6"/>
                </a:lnTo>
                <a:lnTo>
                  <a:pt x="53" y="8"/>
                </a:lnTo>
                <a:lnTo>
                  <a:pt x="53" y="8"/>
                </a:lnTo>
                <a:lnTo>
                  <a:pt x="53" y="10"/>
                </a:lnTo>
                <a:lnTo>
                  <a:pt x="84" y="10"/>
                </a:lnTo>
                <a:lnTo>
                  <a:pt x="117" y="10"/>
                </a:lnTo>
                <a:lnTo>
                  <a:pt x="151" y="12"/>
                </a:lnTo>
                <a:lnTo>
                  <a:pt x="184" y="18"/>
                </a:lnTo>
                <a:lnTo>
                  <a:pt x="193" y="18"/>
                </a:lnTo>
                <a:lnTo>
                  <a:pt x="193" y="18"/>
                </a:lnTo>
                <a:lnTo>
                  <a:pt x="193" y="16"/>
                </a:lnTo>
                <a:lnTo>
                  <a:pt x="193" y="16"/>
                </a:lnTo>
                <a:lnTo>
                  <a:pt x="195" y="14"/>
                </a:lnTo>
                <a:lnTo>
                  <a:pt x="195" y="12"/>
                </a:lnTo>
                <a:lnTo>
                  <a:pt x="195" y="12"/>
                </a:lnTo>
                <a:lnTo>
                  <a:pt x="195" y="10"/>
                </a:lnTo>
                <a:lnTo>
                  <a:pt x="197" y="10"/>
                </a:lnTo>
                <a:close/>
                <a:moveTo>
                  <a:pt x="3" y="1328"/>
                </a:moveTo>
                <a:lnTo>
                  <a:pt x="15" y="1330"/>
                </a:lnTo>
                <a:lnTo>
                  <a:pt x="49" y="1332"/>
                </a:lnTo>
                <a:lnTo>
                  <a:pt x="84" y="1334"/>
                </a:lnTo>
                <a:lnTo>
                  <a:pt x="119" y="1332"/>
                </a:lnTo>
                <a:lnTo>
                  <a:pt x="151" y="1330"/>
                </a:lnTo>
                <a:lnTo>
                  <a:pt x="186" y="1326"/>
                </a:lnTo>
                <a:lnTo>
                  <a:pt x="205" y="1322"/>
                </a:lnTo>
                <a:lnTo>
                  <a:pt x="205" y="1320"/>
                </a:lnTo>
                <a:lnTo>
                  <a:pt x="203" y="1320"/>
                </a:lnTo>
                <a:lnTo>
                  <a:pt x="203" y="1319"/>
                </a:lnTo>
                <a:lnTo>
                  <a:pt x="203" y="1319"/>
                </a:lnTo>
                <a:lnTo>
                  <a:pt x="203" y="1317"/>
                </a:lnTo>
                <a:lnTo>
                  <a:pt x="201" y="1315"/>
                </a:lnTo>
                <a:lnTo>
                  <a:pt x="201" y="1315"/>
                </a:lnTo>
                <a:lnTo>
                  <a:pt x="201" y="1313"/>
                </a:lnTo>
                <a:lnTo>
                  <a:pt x="184" y="1317"/>
                </a:lnTo>
                <a:lnTo>
                  <a:pt x="151" y="1320"/>
                </a:lnTo>
                <a:lnTo>
                  <a:pt x="117" y="1322"/>
                </a:lnTo>
                <a:lnTo>
                  <a:pt x="84" y="1324"/>
                </a:lnTo>
                <a:lnTo>
                  <a:pt x="49" y="1322"/>
                </a:lnTo>
                <a:lnTo>
                  <a:pt x="17" y="1320"/>
                </a:lnTo>
                <a:lnTo>
                  <a:pt x="0" y="1319"/>
                </a:lnTo>
                <a:lnTo>
                  <a:pt x="0" y="1320"/>
                </a:lnTo>
                <a:lnTo>
                  <a:pt x="0" y="1320"/>
                </a:lnTo>
                <a:lnTo>
                  <a:pt x="0" y="1322"/>
                </a:lnTo>
                <a:lnTo>
                  <a:pt x="1" y="1324"/>
                </a:lnTo>
                <a:lnTo>
                  <a:pt x="1" y="1324"/>
                </a:lnTo>
                <a:lnTo>
                  <a:pt x="1" y="1326"/>
                </a:lnTo>
                <a:lnTo>
                  <a:pt x="1" y="1328"/>
                </a:lnTo>
                <a:lnTo>
                  <a:pt x="3" y="1328"/>
                </a:lnTo>
                <a:close/>
              </a:path>
            </a:pathLst>
          </a:custGeom>
          <a:solidFill>
            <a:srgbClr val="73c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reeform 149"/>
          <p:cNvSpPr/>
          <p:nvPr/>
        </p:nvSpPr>
        <p:spPr>
          <a:xfrm>
            <a:off x="6993000" y="2246400"/>
            <a:ext cx="325440" cy="2101680"/>
          </a:xfrm>
          <a:custGeom>
            <a:avLst/>
            <a:gdLst>
              <a:gd name="textAreaLeft" fmla="*/ 0 w 325440"/>
              <a:gd name="textAreaRight" fmla="*/ 325800 w 325440"/>
              <a:gd name="textAreaTop" fmla="*/ 0 h 2101680"/>
              <a:gd name="textAreaBottom" fmla="*/ 2102040 h 2101680"/>
            </a:gdLst>
            <a:ahLst/>
            <a:rect l="textAreaLeft" t="textAreaTop" r="textAreaRight" b="textAreaBottom"/>
            <a:pathLst>
              <a:path w="205" h="1324">
                <a:moveTo>
                  <a:pt x="197" y="10"/>
                </a:moveTo>
                <a:lnTo>
                  <a:pt x="186" y="8"/>
                </a:lnTo>
                <a:lnTo>
                  <a:pt x="153" y="4"/>
                </a:lnTo>
                <a:lnTo>
                  <a:pt x="119" y="2"/>
                </a:lnTo>
                <a:lnTo>
                  <a:pt x="86" y="0"/>
                </a:lnTo>
                <a:lnTo>
                  <a:pt x="57" y="2"/>
                </a:lnTo>
                <a:lnTo>
                  <a:pt x="55" y="2"/>
                </a:lnTo>
                <a:lnTo>
                  <a:pt x="55" y="4"/>
                </a:lnTo>
                <a:lnTo>
                  <a:pt x="55" y="4"/>
                </a:lnTo>
                <a:lnTo>
                  <a:pt x="53" y="6"/>
                </a:lnTo>
                <a:lnTo>
                  <a:pt x="53" y="8"/>
                </a:lnTo>
                <a:lnTo>
                  <a:pt x="53" y="8"/>
                </a:lnTo>
                <a:lnTo>
                  <a:pt x="53" y="10"/>
                </a:lnTo>
                <a:lnTo>
                  <a:pt x="51" y="10"/>
                </a:lnTo>
                <a:lnTo>
                  <a:pt x="51" y="10"/>
                </a:lnTo>
                <a:lnTo>
                  <a:pt x="86" y="10"/>
                </a:lnTo>
                <a:lnTo>
                  <a:pt x="119" y="10"/>
                </a:lnTo>
                <a:lnTo>
                  <a:pt x="153" y="14"/>
                </a:lnTo>
                <a:lnTo>
                  <a:pt x="186" y="17"/>
                </a:lnTo>
                <a:lnTo>
                  <a:pt x="193" y="19"/>
                </a:lnTo>
                <a:lnTo>
                  <a:pt x="193" y="17"/>
                </a:lnTo>
                <a:lnTo>
                  <a:pt x="193" y="17"/>
                </a:lnTo>
                <a:lnTo>
                  <a:pt x="193" y="15"/>
                </a:lnTo>
                <a:lnTo>
                  <a:pt x="195" y="14"/>
                </a:lnTo>
                <a:lnTo>
                  <a:pt x="195" y="14"/>
                </a:lnTo>
                <a:lnTo>
                  <a:pt x="195" y="12"/>
                </a:lnTo>
                <a:lnTo>
                  <a:pt x="195" y="12"/>
                </a:lnTo>
                <a:lnTo>
                  <a:pt x="197" y="10"/>
                </a:lnTo>
                <a:close/>
                <a:moveTo>
                  <a:pt x="3" y="1320"/>
                </a:moveTo>
                <a:lnTo>
                  <a:pt x="17" y="1322"/>
                </a:lnTo>
                <a:lnTo>
                  <a:pt x="51" y="1324"/>
                </a:lnTo>
                <a:lnTo>
                  <a:pt x="86" y="1324"/>
                </a:lnTo>
                <a:lnTo>
                  <a:pt x="119" y="1324"/>
                </a:lnTo>
                <a:lnTo>
                  <a:pt x="153" y="1322"/>
                </a:lnTo>
                <a:lnTo>
                  <a:pt x="186" y="1316"/>
                </a:lnTo>
                <a:lnTo>
                  <a:pt x="205" y="1315"/>
                </a:lnTo>
                <a:lnTo>
                  <a:pt x="205" y="1313"/>
                </a:lnTo>
                <a:lnTo>
                  <a:pt x="203" y="1311"/>
                </a:lnTo>
                <a:lnTo>
                  <a:pt x="203" y="1311"/>
                </a:lnTo>
                <a:lnTo>
                  <a:pt x="203" y="1309"/>
                </a:lnTo>
                <a:lnTo>
                  <a:pt x="201" y="1309"/>
                </a:lnTo>
                <a:lnTo>
                  <a:pt x="201" y="1307"/>
                </a:lnTo>
                <a:lnTo>
                  <a:pt x="201" y="1307"/>
                </a:lnTo>
                <a:lnTo>
                  <a:pt x="201" y="1305"/>
                </a:lnTo>
                <a:lnTo>
                  <a:pt x="186" y="1307"/>
                </a:lnTo>
                <a:lnTo>
                  <a:pt x="153" y="1313"/>
                </a:lnTo>
                <a:lnTo>
                  <a:pt x="119" y="1315"/>
                </a:lnTo>
                <a:lnTo>
                  <a:pt x="86" y="1315"/>
                </a:lnTo>
                <a:lnTo>
                  <a:pt x="51" y="1315"/>
                </a:lnTo>
                <a:lnTo>
                  <a:pt x="19" y="1313"/>
                </a:lnTo>
                <a:lnTo>
                  <a:pt x="0" y="1309"/>
                </a:lnTo>
                <a:lnTo>
                  <a:pt x="0" y="1311"/>
                </a:lnTo>
                <a:lnTo>
                  <a:pt x="0" y="1313"/>
                </a:lnTo>
                <a:lnTo>
                  <a:pt x="2" y="1313"/>
                </a:lnTo>
                <a:lnTo>
                  <a:pt x="2" y="1315"/>
                </a:lnTo>
                <a:lnTo>
                  <a:pt x="2" y="1316"/>
                </a:lnTo>
                <a:lnTo>
                  <a:pt x="2" y="1316"/>
                </a:lnTo>
                <a:lnTo>
                  <a:pt x="2" y="1318"/>
                </a:lnTo>
                <a:lnTo>
                  <a:pt x="3" y="1320"/>
                </a:lnTo>
                <a:close/>
              </a:path>
            </a:pathLst>
          </a:custGeom>
          <a:solidFill>
            <a:srgbClr val="74c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reeform 150"/>
          <p:cNvSpPr/>
          <p:nvPr/>
        </p:nvSpPr>
        <p:spPr>
          <a:xfrm>
            <a:off x="6989760" y="2255760"/>
            <a:ext cx="325440" cy="2086200"/>
          </a:xfrm>
          <a:custGeom>
            <a:avLst/>
            <a:gdLst>
              <a:gd name="textAreaLeft" fmla="*/ 0 w 325440"/>
              <a:gd name="textAreaRight" fmla="*/ 325800 w 325440"/>
              <a:gd name="textAreaTop" fmla="*/ 0 h 2086200"/>
              <a:gd name="textAreaBottom" fmla="*/ 2086560 h 2086200"/>
            </a:gdLst>
            <a:ahLst/>
            <a:rect l="textAreaLeft" t="textAreaTop" r="textAreaRight" b="textAreaBottom"/>
            <a:pathLst>
              <a:path w="205" h="1314">
                <a:moveTo>
                  <a:pt x="197" y="8"/>
                </a:moveTo>
                <a:lnTo>
                  <a:pt x="188" y="8"/>
                </a:lnTo>
                <a:lnTo>
                  <a:pt x="155" y="2"/>
                </a:lnTo>
                <a:lnTo>
                  <a:pt x="121" y="0"/>
                </a:lnTo>
                <a:lnTo>
                  <a:pt x="88" y="0"/>
                </a:lnTo>
                <a:lnTo>
                  <a:pt x="57" y="0"/>
                </a:lnTo>
                <a:lnTo>
                  <a:pt x="55" y="2"/>
                </a:lnTo>
                <a:lnTo>
                  <a:pt x="55" y="2"/>
                </a:lnTo>
                <a:lnTo>
                  <a:pt x="55" y="4"/>
                </a:lnTo>
                <a:lnTo>
                  <a:pt x="53" y="6"/>
                </a:lnTo>
                <a:lnTo>
                  <a:pt x="53" y="6"/>
                </a:lnTo>
                <a:lnTo>
                  <a:pt x="53" y="8"/>
                </a:lnTo>
                <a:lnTo>
                  <a:pt x="52" y="8"/>
                </a:lnTo>
                <a:lnTo>
                  <a:pt x="52" y="9"/>
                </a:lnTo>
                <a:lnTo>
                  <a:pt x="53" y="9"/>
                </a:lnTo>
                <a:lnTo>
                  <a:pt x="88" y="9"/>
                </a:lnTo>
                <a:lnTo>
                  <a:pt x="121" y="9"/>
                </a:lnTo>
                <a:lnTo>
                  <a:pt x="153" y="11"/>
                </a:lnTo>
                <a:lnTo>
                  <a:pt x="186" y="15"/>
                </a:lnTo>
                <a:lnTo>
                  <a:pt x="194" y="17"/>
                </a:lnTo>
                <a:lnTo>
                  <a:pt x="194" y="15"/>
                </a:lnTo>
                <a:lnTo>
                  <a:pt x="194" y="15"/>
                </a:lnTo>
                <a:lnTo>
                  <a:pt x="194" y="13"/>
                </a:lnTo>
                <a:lnTo>
                  <a:pt x="195" y="13"/>
                </a:lnTo>
                <a:lnTo>
                  <a:pt x="195" y="11"/>
                </a:lnTo>
                <a:lnTo>
                  <a:pt x="195" y="11"/>
                </a:lnTo>
                <a:lnTo>
                  <a:pt x="195" y="9"/>
                </a:lnTo>
                <a:lnTo>
                  <a:pt x="197" y="8"/>
                </a:lnTo>
                <a:close/>
                <a:moveTo>
                  <a:pt x="4" y="1309"/>
                </a:moveTo>
                <a:lnTo>
                  <a:pt x="21" y="1310"/>
                </a:lnTo>
                <a:lnTo>
                  <a:pt x="53" y="1312"/>
                </a:lnTo>
                <a:lnTo>
                  <a:pt x="88" y="1314"/>
                </a:lnTo>
                <a:lnTo>
                  <a:pt x="121" y="1312"/>
                </a:lnTo>
                <a:lnTo>
                  <a:pt x="155" y="1310"/>
                </a:lnTo>
                <a:lnTo>
                  <a:pt x="188" y="1307"/>
                </a:lnTo>
                <a:lnTo>
                  <a:pt x="205" y="1303"/>
                </a:lnTo>
                <a:lnTo>
                  <a:pt x="203" y="1303"/>
                </a:lnTo>
                <a:lnTo>
                  <a:pt x="203" y="1301"/>
                </a:lnTo>
                <a:lnTo>
                  <a:pt x="203" y="1301"/>
                </a:lnTo>
                <a:lnTo>
                  <a:pt x="203" y="1299"/>
                </a:lnTo>
                <a:lnTo>
                  <a:pt x="201" y="1297"/>
                </a:lnTo>
                <a:lnTo>
                  <a:pt x="201" y="1297"/>
                </a:lnTo>
                <a:lnTo>
                  <a:pt x="201" y="1295"/>
                </a:lnTo>
                <a:lnTo>
                  <a:pt x="201" y="1295"/>
                </a:lnTo>
                <a:lnTo>
                  <a:pt x="186" y="1297"/>
                </a:lnTo>
                <a:lnTo>
                  <a:pt x="153" y="1301"/>
                </a:lnTo>
                <a:lnTo>
                  <a:pt x="121" y="1303"/>
                </a:lnTo>
                <a:lnTo>
                  <a:pt x="88" y="1305"/>
                </a:lnTo>
                <a:lnTo>
                  <a:pt x="53" y="1303"/>
                </a:lnTo>
                <a:lnTo>
                  <a:pt x="21" y="1301"/>
                </a:lnTo>
                <a:lnTo>
                  <a:pt x="0" y="1299"/>
                </a:lnTo>
                <a:lnTo>
                  <a:pt x="0" y="1299"/>
                </a:lnTo>
                <a:lnTo>
                  <a:pt x="0" y="1301"/>
                </a:lnTo>
                <a:lnTo>
                  <a:pt x="2" y="1303"/>
                </a:lnTo>
                <a:lnTo>
                  <a:pt x="2" y="1303"/>
                </a:lnTo>
                <a:lnTo>
                  <a:pt x="2" y="1305"/>
                </a:lnTo>
                <a:lnTo>
                  <a:pt x="2" y="1307"/>
                </a:lnTo>
                <a:lnTo>
                  <a:pt x="4" y="1307"/>
                </a:lnTo>
                <a:lnTo>
                  <a:pt x="4" y="1309"/>
                </a:lnTo>
                <a:close/>
              </a:path>
            </a:pathLst>
          </a:custGeom>
          <a:solidFill>
            <a:srgbClr val="75c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151"/>
          <p:cNvSpPr/>
          <p:nvPr/>
        </p:nvSpPr>
        <p:spPr>
          <a:xfrm>
            <a:off x="6986520" y="2262240"/>
            <a:ext cx="325440" cy="2071800"/>
          </a:xfrm>
          <a:custGeom>
            <a:avLst/>
            <a:gdLst>
              <a:gd name="textAreaLeft" fmla="*/ 0 w 325440"/>
              <a:gd name="textAreaRight" fmla="*/ 325800 w 325440"/>
              <a:gd name="textAreaTop" fmla="*/ 0 h 2071800"/>
              <a:gd name="textAreaBottom" fmla="*/ 2072160 h 2071800"/>
            </a:gdLst>
            <a:ahLst/>
            <a:rect l="textAreaLeft" t="textAreaTop" r="textAreaRight" b="textAreaBottom"/>
            <a:pathLst>
              <a:path w="205" h="1305">
                <a:moveTo>
                  <a:pt x="197" y="9"/>
                </a:moveTo>
                <a:lnTo>
                  <a:pt x="190" y="7"/>
                </a:lnTo>
                <a:lnTo>
                  <a:pt x="157" y="4"/>
                </a:lnTo>
                <a:lnTo>
                  <a:pt x="123" y="0"/>
                </a:lnTo>
                <a:lnTo>
                  <a:pt x="90" y="0"/>
                </a:lnTo>
                <a:lnTo>
                  <a:pt x="55" y="0"/>
                </a:lnTo>
                <a:lnTo>
                  <a:pt x="55" y="0"/>
                </a:lnTo>
                <a:lnTo>
                  <a:pt x="55" y="2"/>
                </a:lnTo>
                <a:lnTo>
                  <a:pt x="55" y="4"/>
                </a:lnTo>
                <a:lnTo>
                  <a:pt x="54" y="4"/>
                </a:lnTo>
                <a:lnTo>
                  <a:pt x="54" y="5"/>
                </a:lnTo>
                <a:lnTo>
                  <a:pt x="54" y="7"/>
                </a:lnTo>
                <a:lnTo>
                  <a:pt x="52" y="7"/>
                </a:lnTo>
                <a:lnTo>
                  <a:pt x="52" y="9"/>
                </a:lnTo>
                <a:lnTo>
                  <a:pt x="52" y="11"/>
                </a:lnTo>
                <a:lnTo>
                  <a:pt x="55" y="9"/>
                </a:lnTo>
                <a:lnTo>
                  <a:pt x="90" y="9"/>
                </a:lnTo>
                <a:lnTo>
                  <a:pt x="123" y="9"/>
                </a:lnTo>
                <a:lnTo>
                  <a:pt x="155" y="13"/>
                </a:lnTo>
                <a:lnTo>
                  <a:pt x="188" y="17"/>
                </a:lnTo>
                <a:lnTo>
                  <a:pt x="194" y="17"/>
                </a:lnTo>
                <a:lnTo>
                  <a:pt x="194" y="17"/>
                </a:lnTo>
                <a:lnTo>
                  <a:pt x="194" y="15"/>
                </a:lnTo>
                <a:lnTo>
                  <a:pt x="194" y="15"/>
                </a:lnTo>
                <a:lnTo>
                  <a:pt x="196" y="13"/>
                </a:lnTo>
                <a:lnTo>
                  <a:pt x="196" y="11"/>
                </a:lnTo>
                <a:lnTo>
                  <a:pt x="196" y="11"/>
                </a:lnTo>
                <a:lnTo>
                  <a:pt x="196" y="9"/>
                </a:lnTo>
                <a:lnTo>
                  <a:pt x="197" y="9"/>
                </a:lnTo>
                <a:close/>
                <a:moveTo>
                  <a:pt x="4" y="1299"/>
                </a:moveTo>
                <a:lnTo>
                  <a:pt x="23" y="1303"/>
                </a:lnTo>
                <a:lnTo>
                  <a:pt x="55" y="1305"/>
                </a:lnTo>
                <a:lnTo>
                  <a:pt x="90" y="1305"/>
                </a:lnTo>
                <a:lnTo>
                  <a:pt x="123" y="1305"/>
                </a:lnTo>
                <a:lnTo>
                  <a:pt x="157" y="1303"/>
                </a:lnTo>
                <a:lnTo>
                  <a:pt x="190" y="1297"/>
                </a:lnTo>
                <a:lnTo>
                  <a:pt x="205" y="1295"/>
                </a:lnTo>
                <a:lnTo>
                  <a:pt x="203" y="1293"/>
                </a:lnTo>
                <a:lnTo>
                  <a:pt x="203" y="1293"/>
                </a:lnTo>
                <a:lnTo>
                  <a:pt x="203" y="1291"/>
                </a:lnTo>
                <a:lnTo>
                  <a:pt x="203" y="1291"/>
                </a:lnTo>
                <a:lnTo>
                  <a:pt x="201" y="1289"/>
                </a:lnTo>
                <a:lnTo>
                  <a:pt x="201" y="1289"/>
                </a:lnTo>
                <a:lnTo>
                  <a:pt x="201" y="1287"/>
                </a:lnTo>
                <a:lnTo>
                  <a:pt x="199" y="1285"/>
                </a:lnTo>
                <a:lnTo>
                  <a:pt x="188" y="1289"/>
                </a:lnTo>
                <a:lnTo>
                  <a:pt x="155" y="1293"/>
                </a:lnTo>
                <a:lnTo>
                  <a:pt x="123" y="1295"/>
                </a:lnTo>
                <a:lnTo>
                  <a:pt x="90" y="1295"/>
                </a:lnTo>
                <a:lnTo>
                  <a:pt x="55" y="1295"/>
                </a:lnTo>
                <a:lnTo>
                  <a:pt x="23" y="1293"/>
                </a:lnTo>
                <a:lnTo>
                  <a:pt x="0" y="1289"/>
                </a:lnTo>
                <a:lnTo>
                  <a:pt x="0" y="1291"/>
                </a:lnTo>
                <a:lnTo>
                  <a:pt x="0" y="1291"/>
                </a:lnTo>
                <a:lnTo>
                  <a:pt x="2" y="1293"/>
                </a:lnTo>
                <a:lnTo>
                  <a:pt x="2" y="1295"/>
                </a:lnTo>
                <a:lnTo>
                  <a:pt x="2" y="1295"/>
                </a:lnTo>
                <a:lnTo>
                  <a:pt x="2" y="1297"/>
                </a:lnTo>
                <a:lnTo>
                  <a:pt x="4" y="1299"/>
                </a:lnTo>
                <a:lnTo>
                  <a:pt x="4" y="1299"/>
                </a:lnTo>
                <a:close/>
              </a:path>
            </a:pathLst>
          </a:custGeom>
          <a:solidFill>
            <a:srgbClr val="76c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152"/>
          <p:cNvSpPr/>
          <p:nvPr/>
        </p:nvSpPr>
        <p:spPr>
          <a:xfrm>
            <a:off x="6983280" y="2270160"/>
            <a:ext cx="325440" cy="2057400"/>
          </a:xfrm>
          <a:custGeom>
            <a:avLst/>
            <a:gdLst>
              <a:gd name="textAreaLeft" fmla="*/ 0 w 325440"/>
              <a:gd name="textAreaRight" fmla="*/ 325800 w 32544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205" h="1296">
                <a:moveTo>
                  <a:pt x="198" y="8"/>
                </a:moveTo>
                <a:lnTo>
                  <a:pt x="190" y="6"/>
                </a:lnTo>
                <a:lnTo>
                  <a:pt x="157" y="2"/>
                </a:lnTo>
                <a:lnTo>
                  <a:pt x="125" y="0"/>
                </a:lnTo>
                <a:lnTo>
                  <a:pt x="92" y="0"/>
                </a:lnTo>
                <a:lnTo>
                  <a:pt x="57" y="0"/>
                </a:lnTo>
                <a:lnTo>
                  <a:pt x="56" y="0"/>
                </a:lnTo>
                <a:lnTo>
                  <a:pt x="56" y="2"/>
                </a:lnTo>
                <a:lnTo>
                  <a:pt x="54" y="2"/>
                </a:lnTo>
                <a:lnTo>
                  <a:pt x="54" y="4"/>
                </a:lnTo>
                <a:lnTo>
                  <a:pt x="54" y="6"/>
                </a:lnTo>
                <a:lnTo>
                  <a:pt x="52" y="6"/>
                </a:lnTo>
                <a:lnTo>
                  <a:pt x="52" y="8"/>
                </a:lnTo>
                <a:lnTo>
                  <a:pt x="52" y="10"/>
                </a:lnTo>
                <a:lnTo>
                  <a:pt x="52" y="10"/>
                </a:lnTo>
                <a:lnTo>
                  <a:pt x="59" y="10"/>
                </a:lnTo>
                <a:lnTo>
                  <a:pt x="92" y="8"/>
                </a:lnTo>
                <a:lnTo>
                  <a:pt x="125" y="10"/>
                </a:lnTo>
                <a:lnTo>
                  <a:pt x="157" y="12"/>
                </a:lnTo>
                <a:lnTo>
                  <a:pt x="188" y="16"/>
                </a:lnTo>
                <a:lnTo>
                  <a:pt x="194" y="18"/>
                </a:lnTo>
                <a:lnTo>
                  <a:pt x="194" y="16"/>
                </a:lnTo>
                <a:lnTo>
                  <a:pt x="194" y="16"/>
                </a:lnTo>
                <a:lnTo>
                  <a:pt x="194" y="14"/>
                </a:lnTo>
                <a:lnTo>
                  <a:pt x="196" y="12"/>
                </a:lnTo>
                <a:lnTo>
                  <a:pt x="196" y="12"/>
                </a:lnTo>
                <a:lnTo>
                  <a:pt x="196" y="10"/>
                </a:lnTo>
                <a:lnTo>
                  <a:pt x="196" y="10"/>
                </a:lnTo>
                <a:lnTo>
                  <a:pt x="198" y="8"/>
                </a:lnTo>
                <a:close/>
                <a:moveTo>
                  <a:pt x="4" y="1290"/>
                </a:moveTo>
                <a:lnTo>
                  <a:pt x="25" y="1292"/>
                </a:lnTo>
                <a:lnTo>
                  <a:pt x="57" y="1294"/>
                </a:lnTo>
                <a:lnTo>
                  <a:pt x="92" y="1296"/>
                </a:lnTo>
                <a:lnTo>
                  <a:pt x="125" y="1294"/>
                </a:lnTo>
                <a:lnTo>
                  <a:pt x="157" y="1292"/>
                </a:lnTo>
                <a:lnTo>
                  <a:pt x="190" y="1288"/>
                </a:lnTo>
                <a:lnTo>
                  <a:pt x="205" y="1286"/>
                </a:lnTo>
                <a:lnTo>
                  <a:pt x="203" y="1284"/>
                </a:lnTo>
                <a:lnTo>
                  <a:pt x="203" y="1284"/>
                </a:lnTo>
                <a:lnTo>
                  <a:pt x="203" y="1282"/>
                </a:lnTo>
                <a:lnTo>
                  <a:pt x="201" y="1280"/>
                </a:lnTo>
                <a:lnTo>
                  <a:pt x="201" y="1280"/>
                </a:lnTo>
                <a:lnTo>
                  <a:pt x="201" y="1278"/>
                </a:lnTo>
                <a:lnTo>
                  <a:pt x="201" y="1278"/>
                </a:lnTo>
                <a:lnTo>
                  <a:pt x="199" y="1276"/>
                </a:lnTo>
                <a:lnTo>
                  <a:pt x="188" y="1278"/>
                </a:lnTo>
                <a:lnTo>
                  <a:pt x="157" y="1282"/>
                </a:lnTo>
                <a:lnTo>
                  <a:pt x="125" y="1286"/>
                </a:lnTo>
                <a:lnTo>
                  <a:pt x="92" y="1286"/>
                </a:lnTo>
                <a:lnTo>
                  <a:pt x="59" y="1286"/>
                </a:lnTo>
                <a:lnTo>
                  <a:pt x="27" y="1282"/>
                </a:lnTo>
                <a:lnTo>
                  <a:pt x="0" y="1280"/>
                </a:lnTo>
                <a:lnTo>
                  <a:pt x="0" y="1280"/>
                </a:lnTo>
                <a:lnTo>
                  <a:pt x="0" y="1282"/>
                </a:lnTo>
                <a:lnTo>
                  <a:pt x="2" y="1282"/>
                </a:lnTo>
                <a:lnTo>
                  <a:pt x="2" y="1284"/>
                </a:lnTo>
                <a:lnTo>
                  <a:pt x="2" y="1286"/>
                </a:lnTo>
                <a:lnTo>
                  <a:pt x="2" y="1286"/>
                </a:lnTo>
                <a:lnTo>
                  <a:pt x="4" y="1288"/>
                </a:lnTo>
                <a:lnTo>
                  <a:pt x="4" y="1290"/>
                </a:lnTo>
                <a:close/>
              </a:path>
            </a:pathLst>
          </a:custGeom>
          <a:solidFill>
            <a:srgbClr val="77c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153"/>
          <p:cNvSpPr/>
          <p:nvPr/>
        </p:nvSpPr>
        <p:spPr>
          <a:xfrm>
            <a:off x="6980400" y="2276640"/>
            <a:ext cx="322200" cy="2041200"/>
          </a:xfrm>
          <a:custGeom>
            <a:avLst/>
            <a:gdLst>
              <a:gd name="textAreaLeft" fmla="*/ 0 w 322200"/>
              <a:gd name="textAreaRight" fmla="*/ 322560 w 322200"/>
              <a:gd name="textAreaTop" fmla="*/ 0 h 2041200"/>
              <a:gd name="textAreaBottom" fmla="*/ 2041560 h 2041200"/>
            </a:gdLst>
            <a:ahLst/>
            <a:rect l="textAreaLeft" t="textAreaTop" r="textAreaRight" b="textAreaBottom"/>
            <a:pathLst>
              <a:path w="203" h="1286">
                <a:moveTo>
                  <a:pt x="198" y="8"/>
                </a:moveTo>
                <a:lnTo>
                  <a:pt x="192" y="8"/>
                </a:lnTo>
                <a:lnTo>
                  <a:pt x="159" y="4"/>
                </a:lnTo>
                <a:lnTo>
                  <a:pt x="127" y="0"/>
                </a:lnTo>
                <a:lnTo>
                  <a:pt x="94" y="0"/>
                </a:lnTo>
                <a:lnTo>
                  <a:pt x="59" y="0"/>
                </a:lnTo>
                <a:lnTo>
                  <a:pt x="56" y="2"/>
                </a:lnTo>
                <a:lnTo>
                  <a:pt x="54" y="2"/>
                </a:lnTo>
                <a:lnTo>
                  <a:pt x="54" y="4"/>
                </a:lnTo>
                <a:lnTo>
                  <a:pt x="54" y="6"/>
                </a:lnTo>
                <a:lnTo>
                  <a:pt x="54" y="6"/>
                </a:lnTo>
                <a:lnTo>
                  <a:pt x="52" y="8"/>
                </a:lnTo>
                <a:lnTo>
                  <a:pt x="52" y="8"/>
                </a:lnTo>
                <a:lnTo>
                  <a:pt x="52" y="10"/>
                </a:lnTo>
                <a:lnTo>
                  <a:pt x="50" y="12"/>
                </a:lnTo>
                <a:lnTo>
                  <a:pt x="61" y="10"/>
                </a:lnTo>
                <a:lnTo>
                  <a:pt x="94" y="10"/>
                </a:lnTo>
                <a:lnTo>
                  <a:pt x="127" y="10"/>
                </a:lnTo>
                <a:lnTo>
                  <a:pt x="159" y="14"/>
                </a:lnTo>
                <a:lnTo>
                  <a:pt x="190" y="18"/>
                </a:lnTo>
                <a:lnTo>
                  <a:pt x="194" y="18"/>
                </a:lnTo>
                <a:lnTo>
                  <a:pt x="194" y="16"/>
                </a:lnTo>
                <a:lnTo>
                  <a:pt x="194" y="16"/>
                </a:lnTo>
                <a:lnTo>
                  <a:pt x="194" y="14"/>
                </a:lnTo>
                <a:lnTo>
                  <a:pt x="196" y="14"/>
                </a:lnTo>
                <a:lnTo>
                  <a:pt x="196" y="12"/>
                </a:lnTo>
                <a:lnTo>
                  <a:pt x="196" y="12"/>
                </a:lnTo>
                <a:lnTo>
                  <a:pt x="196" y="10"/>
                </a:lnTo>
                <a:lnTo>
                  <a:pt x="198" y="8"/>
                </a:lnTo>
                <a:close/>
                <a:moveTo>
                  <a:pt x="4" y="1280"/>
                </a:moveTo>
                <a:lnTo>
                  <a:pt x="27" y="1284"/>
                </a:lnTo>
                <a:lnTo>
                  <a:pt x="59" y="1286"/>
                </a:lnTo>
                <a:lnTo>
                  <a:pt x="94" y="1286"/>
                </a:lnTo>
                <a:lnTo>
                  <a:pt x="127" y="1286"/>
                </a:lnTo>
                <a:lnTo>
                  <a:pt x="159" y="1284"/>
                </a:lnTo>
                <a:lnTo>
                  <a:pt x="192" y="1280"/>
                </a:lnTo>
                <a:lnTo>
                  <a:pt x="203" y="1276"/>
                </a:lnTo>
                <a:lnTo>
                  <a:pt x="203" y="1276"/>
                </a:lnTo>
                <a:lnTo>
                  <a:pt x="203" y="1274"/>
                </a:lnTo>
                <a:lnTo>
                  <a:pt x="203" y="1274"/>
                </a:lnTo>
                <a:lnTo>
                  <a:pt x="201" y="1272"/>
                </a:lnTo>
                <a:lnTo>
                  <a:pt x="201" y="1272"/>
                </a:lnTo>
                <a:lnTo>
                  <a:pt x="201" y="1271"/>
                </a:lnTo>
                <a:lnTo>
                  <a:pt x="201" y="1269"/>
                </a:lnTo>
                <a:lnTo>
                  <a:pt x="200" y="1269"/>
                </a:lnTo>
                <a:lnTo>
                  <a:pt x="190" y="1271"/>
                </a:lnTo>
                <a:lnTo>
                  <a:pt x="159" y="1274"/>
                </a:lnTo>
                <a:lnTo>
                  <a:pt x="127" y="1276"/>
                </a:lnTo>
                <a:lnTo>
                  <a:pt x="94" y="1278"/>
                </a:lnTo>
                <a:lnTo>
                  <a:pt x="61" y="1276"/>
                </a:lnTo>
                <a:lnTo>
                  <a:pt x="29" y="1274"/>
                </a:lnTo>
                <a:lnTo>
                  <a:pt x="0" y="1271"/>
                </a:lnTo>
                <a:lnTo>
                  <a:pt x="0" y="1272"/>
                </a:lnTo>
                <a:lnTo>
                  <a:pt x="2" y="1272"/>
                </a:lnTo>
                <a:lnTo>
                  <a:pt x="2" y="1274"/>
                </a:lnTo>
                <a:lnTo>
                  <a:pt x="2" y="1276"/>
                </a:lnTo>
                <a:lnTo>
                  <a:pt x="2" y="1276"/>
                </a:lnTo>
                <a:lnTo>
                  <a:pt x="2" y="1278"/>
                </a:lnTo>
                <a:lnTo>
                  <a:pt x="4" y="1278"/>
                </a:lnTo>
                <a:lnTo>
                  <a:pt x="4" y="1280"/>
                </a:lnTo>
                <a:close/>
              </a:path>
            </a:pathLst>
          </a:custGeom>
          <a:solidFill>
            <a:srgbClr val="78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154"/>
          <p:cNvSpPr/>
          <p:nvPr/>
        </p:nvSpPr>
        <p:spPr>
          <a:xfrm>
            <a:off x="6977160" y="2282760"/>
            <a:ext cx="322200" cy="2028960"/>
          </a:xfrm>
          <a:custGeom>
            <a:avLst/>
            <a:gdLst>
              <a:gd name="textAreaLeft" fmla="*/ 0 w 322200"/>
              <a:gd name="textAreaRight" fmla="*/ 322560 w 322200"/>
              <a:gd name="textAreaTop" fmla="*/ 0 h 2028960"/>
              <a:gd name="textAreaBottom" fmla="*/ 2029320 h 2028960"/>
            </a:gdLst>
            <a:ahLst/>
            <a:rect l="textAreaLeft" t="textAreaTop" r="textAreaRight" b="textAreaBottom"/>
            <a:pathLst>
              <a:path w="203" h="1278">
                <a:moveTo>
                  <a:pt x="198" y="10"/>
                </a:moveTo>
                <a:lnTo>
                  <a:pt x="192" y="8"/>
                </a:lnTo>
                <a:lnTo>
                  <a:pt x="161" y="4"/>
                </a:lnTo>
                <a:lnTo>
                  <a:pt x="129" y="2"/>
                </a:lnTo>
                <a:lnTo>
                  <a:pt x="96" y="0"/>
                </a:lnTo>
                <a:lnTo>
                  <a:pt x="63" y="2"/>
                </a:lnTo>
                <a:lnTo>
                  <a:pt x="56" y="2"/>
                </a:lnTo>
                <a:lnTo>
                  <a:pt x="54" y="4"/>
                </a:lnTo>
                <a:lnTo>
                  <a:pt x="54" y="4"/>
                </a:lnTo>
                <a:lnTo>
                  <a:pt x="54" y="6"/>
                </a:lnTo>
                <a:lnTo>
                  <a:pt x="52" y="8"/>
                </a:lnTo>
                <a:lnTo>
                  <a:pt x="52" y="8"/>
                </a:lnTo>
                <a:lnTo>
                  <a:pt x="52" y="10"/>
                </a:lnTo>
                <a:lnTo>
                  <a:pt x="50" y="12"/>
                </a:lnTo>
                <a:lnTo>
                  <a:pt x="50" y="12"/>
                </a:lnTo>
                <a:lnTo>
                  <a:pt x="63" y="12"/>
                </a:lnTo>
                <a:lnTo>
                  <a:pt x="96" y="10"/>
                </a:lnTo>
                <a:lnTo>
                  <a:pt x="129" y="12"/>
                </a:lnTo>
                <a:lnTo>
                  <a:pt x="159" y="14"/>
                </a:lnTo>
                <a:lnTo>
                  <a:pt x="192" y="17"/>
                </a:lnTo>
                <a:lnTo>
                  <a:pt x="194" y="17"/>
                </a:lnTo>
                <a:lnTo>
                  <a:pt x="194" y="17"/>
                </a:lnTo>
                <a:lnTo>
                  <a:pt x="194" y="15"/>
                </a:lnTo>
                <a:lnTo>
                  <a:pt x="194" y="15"/>
                </a:lnTo>
                <a:lnTo>
                  <a:pt x="196" y="14"/>
                </a:lnTo>
                <a:lnTo>
                  <a:pt x="196" y="12"/>
                </a:lnTo>
                <a:lnTo>
                  <a:pt x="196" y="12"/>
                </a:lnTo>
                <a:lnTo>
                  <a:pt x="196" y="10"/>
                </a:lnTo>
                <a:lnTo>
                  <a:pt x="198" y="10"/>
                </a:lnTo>
                <a:close/>
                <a:moveTo>
                  <a:pt x="4" y="1272"/>
                </a:moveTo>
                <a:lnTo>
                  <a:pt x="31" y="1274"/>
                </a:lnTo>
                <a:lnTo>
                  <a:pt x="63" y="1278"/>
                </a:lnTo>
                <a:lnTo>
                  <a:pt x="96" y="1278"/>
                </a:lnTo>
                <a:lnTo>
                  <a:pt x="129" y="1278"/>
                </a:lnTo>
                <a:lnTo>
                  <a:pt x="161" y="1274"/>
                </a:lnTo>
                <a:lnTo>
                  <a:pt x="192" y="1270"/>
                </a:lnTo>
                <a:lnTo>
                  <a:pt x="203" y="1268"/>
                </a:lnTo>
                <a:lnTo>
                  <a:pt x="203" y="1268"/>
                </a:lnTo>
                <a:lnTo>
                  <a:pt x="203" y="1267"/>
                </a:lnTo>
                <a:lnTo>
                  <a:pt x="203" y="1265"/>
                </a:lnTo>
                <a:lnTo>
                  <a:pt x="202" y="1265"/>
                </a:lnTo>
                <a:lnTo>
                  <a:pt x="202" y="1263"/>
                </a:lnTo>
                <a:lnTo>
                  <a:pt x="202" y="1263"/>
                </a:lnTo>
                <a:lnTo>
                  <a:pt x="200" y="1261"/>
                </a:lnTo>
                <a:lnTo>
                  <a:pt x="200" y="1259"/>
                </a:lnTo>
                <a:lnTo>
                  <a:pt x="192" y="1261"/>
                </a:lnTo>
                <a:lnTo>
                  <a:pt x="159" y="1265"/>
                </a:lnTo>
                <a:lnTo>
                  <a:pt x="129" y="1268"/>
                </a:lnTo>
                <a:lnTo>
                  <a:pt x="96" y="1268"/>
                </a:lnTo>
                <a:lnTo>
                  <a:pt x="63" y="1268"/>
                </a:lnTo>
                <a:lnTo>
                  <a:pt x="31" y="1265"/>
                </a:lnTo>
                <a:lnTo>
                  <a:pt x="0" y="1261"/>
                </a:lnTo>
                <a:lnTo>
                  <a:pt x="0" y="1263"/>
                </a:lnTo>
                <a:lnTo>
                  <a:pt x="2" y="1265"/>
                </a:lnTo>
                <a:lnTo>
                  <a:pt x="2" y="1265"/>
                </a:lnTo>
                <a:lnTo>
                  <a:pt x="2" y="1267"/>
                </a:lnTo>
                <a:lnTo>
                  <a:pt x="2" y="1268"/>
                </a:lnTo>
                <a:lnTo>
                  <a:pt x="4" y="1268"/>
                </a:lnTo>
                <a:lnTo>
                  <a:pt x="4" y="1270"/>
                </a:lnTo>
                <a:lnTo>
                  <a:pt x="4" y="1272"/>
                </a:lnTo>
                <a:close/>
              </a:path>
            </a:pathLst>
          </a:custGeom>
          <a:solidFill>
            <a:srgbClr val="79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155"/>
          <p:cNvSpPr/>
          <p:nvPr/>
        </p:nvSpPr>
        <p:spPr>
          <a:xfrm>
            <a:off x="6973920" y="2292480"/>
            <a:ext cx="323640" cy="2012760"/>
          </a:xfrm>
          <a:custGeom>
            <a:avLst/>
            <a:gdLst>
              <a:gd name="textAreaLeft" fmla="*/ 0 w 323640"/>
              <a:gd name="textAreaRight" fmla="*/ 324000 w 323640"/>
              <a:gd name="textAreaTop" fmla="*/ 0 h 2012760"/>
              <a:gd name="textAreaBottom" fmla="*/ 2013120 h 2012760"/>
            </a:gdLst>
            <a:ahLst/>
            <a:rect l="textAreaLeft" t="textAreaTop" r="textAreaRight" b="textAreaBottom"/>
            <a:pathLst>
              <a:path w="204" h="1268">
                <a:moveTo>
                  <a:pt x="198" y="8"/>
                </a:moveTo>
                <a:lnTo>
                  <a:pt x="194" y="8"/>
                </a:lnTo>
                <a:lnTo>
                  <a:pt x="163" y="4"/>
                </a:lnTo>
                <a:lnTo>
                  <a:pt x="131" y="0"/>
                </a:lnTo>
                <a:lnTo>
                  <a:pt x="98" y="0"/>
                </a:lnTo>
                <a:lnTo>
                  <a:pt x="65" y="0"/>
                </a:lnTo>
                <a:lnTo>
                  <a:pt x="54" y="2"/>
                </a:lnTo>
                <a:lnTo>
                  <a:pt x="54" y="2"/>
                </a:lnTo>
                <a:lnTo>
                  <a:pt x="54" y="4"/>
                </a:lnTo>
                <a:lnTo>
                  <a:pt x="52" y="6"/>
                </a:lnTo>
                <a:lnTo>
                  <a:pt x="52" y="6"/>
                </a:lnTo>
                <a:lnTo>
                  <a:pt x="52" y="8"/>
                </a:lnTo>
                <a:lnTo>
                  <a:pt x="52" y="9"/>
                </a:lnTo>
                <a:lnTo>
                  <a:pt x="50" y="9"/>
                </a:lnTo>
                <a:lnTo>
                  <a:pt x="50" y="11"/>
                </a:lnTo>
                <a:lnTo>
                  <a:pt x="65" y="9"/>
                </a:lnTo>
                <a:lnTo>
                  <a:pt x="98" y="9"/>
                </a:lnTo>
                <a:lnTo>
                  <a:pt x="129" y="9"/>
                </a:lnTo>
                <a:lnTo>
                  <a:pt x="161" y="13"/>
                </a:lnTo>
                <a:lnTo>
                  <a:pt x="192" y="17"/>
                </a:lnTo>
                <a:lnTo>
                  <a:pt x="194" y="17"/>
                </a:lnTo>
                <a:lnTo>
                  <a:pt x="194" y="15"/>
                </a:lnTo>
                <a:lnTo>
                  <a:pt x="194" y="15"/>
                </a:lnTo>
                <a:lnTo>
                  <a:pt x="196" y="13"/>
                </a:lnTo>
                <a:lnTo>
                  <a:pt x="196" y="11"/>
                </a:lnTo>
                <a:lnTo>
                  <a:pt x="196" y="11"/>
                </a:lnTo>
                <a:lnTo>
                  <a:pt x="196" y="9"/>
                </a:lnTo>
                <a:lnTo>
                  <a:pt x="198" y="9"/>
                </a:lnTo>
                <a:lnTo>
                  <a:pt x="198" y="8"/>
                </a:lnTo>
                <a:close/>
                <a:moveTo>
                  <a:pt x="4" y="1261"/>
                </a:moveTo>
                <a:lnTo>
                  <a:pt x="33" y="1264"/>
                </a:lnTo>
                <a:lnTo>
                  <a:pt x="65" y="1266"/>
                </a:lnTo>
                <a:lnTo>
                  <a:pt x="98" y="1268"/>
                </a:lnTo>
                <a:lnTo>
                  <a:pt x="131" y="1266"/>
                </a:lnTo>
                <a:lnTo>
                  <a:pt x="163" y="1264"/>
                </a:lnTo>
                <a:lnTo>
                  <a:pt x="194" y="1261"/>
                </a:lnTo>
                <a:lnTo>
                  <a:pt x="204" y="1259"/>
                </a:lnTo>
                <a:lnTo>
                  <a:pt x="204" y="1257"/>
                </a:lnTo>
                <a:lnTo>
                  <a:pt x="204" y="1257"/>
                </a:lnTo>
                <a:lnTo>
                  <a:pt x="202" y="1255"/>
                </a:lnTo>
                <a:lnTo>
                  <a:pt x="202" y="1253"/>
                </a:lnTo>
                <a:lnTo>
                  <a:pt x="202" y="1253"/>
                </a:lnTo>
                <a:lnTo>
                  <a:pt x="202" y="1251"/>
                </a:lnTo>
                <a:lnTo>
                  <a:pt x="200" y="1251"/>
                </a:lnTo>
                <a:lnTo>
                  <a:pt x="200" y="1249"/>
                </a:lnTo>
                <a:lnTo>
                  <a:pt x="192" y="1251"/>
                </a:lnTo>
                <a:lnTo>
                  <a:pt x="161" y="1255"/>
                </a:lnTo>
                <a:lnTo>
                  <a:pt x="129" y="1257"/>
                </a:lnTo>
                <a:lnTo>
                  <a:pt x="98" y="1259"/>
                </a:lnTo>
                <a:lnTo>
                  <a:pt x="65" y="1257"/>
                </a:lnTo>
                <a:lnTo>
                  <a:pt x="33" y="1255"/>
                </a:lnTo>
                <a:lnTo>
                  <a:pt x="2" y="1251"/>
                </a:lnTo>
                <a:lnTo>
                  <a:pt x="0" y="1251"/>
                </a:lnTo>
                <a:lnTo>
                  <a:pt x="2" y="1251"/>
                </a:lnTo>
                <a:lnTo>
                  <a:pt x="2" y="1253"/>
                </a:lnTo>
                <a:lnTo>
                  <a:pt x="2" y="1255"/>
                </a:lnTo>
                <a:lnTo>
                  <a:pt x="2" y="1255"/>
                </a:lnTo>
                <a:lnTo>
                  <a:pt x="2" y="1257"/>
                </a:lnTo>
                <a:lnTo>
                  <a:pt x="4" y="1259"/>
                </a:lnTo>
                <a:lnTo>
                  <a:pt x="4" y="1259"/>
                </a:lnTo>
                <a:lnTo>
                  <a:pt x="4" y="1261"/>
                </a:lnTo>
                <a:close/>
              </a:path>
            </a:pathLst>
          </a:custGeom>
          <a:solidFill>
            <a:srgbClr val="7a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156"/>
          <p:cNvSpPr/>
          <p:nvPr/>
        </p:nvSpPr>
        <p:spPr>
          <a:xfrm>
            <a:off x="6970680" y="2298600"/>
            <a:ext cx="324000" cy="1997280"/>
          </a:xfrm>
          <a:custGeom>
            <a:avLst/>
            <a:gdLst>
              <a:gd name="textAreaLeft" fmla="*/ 0 w 324000"/>
              <a:gd name="textAreaRight" fmla="*/ 324360 w 324000"/>
              <a:gd name="textAreaTop" fmla="*/ 0 h 1997280"/>
              <a:gd name="textAreaBottom" fmla="*/ 1997640 h 1997280"/>
            </a:gdLst>
            <a:ahLst/>
            <a:rect l="textAreaLeft" t="textAreaTop" r="textAreaRight" b="textAreaBottom"/>
            <a:pathLst>
              <a:path w="204" h="1258">
                <a:moveTo>
                  <a:pt x="198" y="7"/>
                </a:moveTo>
                <a:lnTo>
                  <a:pt x="196" y="7"/>
                </a:lnTo>
                <a:lnTo>
                  <a:pt x="163" y="4"/>
                </a:lnTo>
                <a:lnTo>
                  <a:pt x="133" y="2"/>
                </a:lnTo>
                <a:lnTo>
                  <a:pt x="100" y="0"/>
                </a:lnTo>
                <a:lnTo>
                  <a:pt x="67" y="2"/>
                </a:lnTo>
                <a:lnTo>
                  <a:pt x="54" y="2"/>
                </a:lnTo>
                <a:lnTo>
                  <a:pt x="54" y="4"/>
                </a:lnTo>
                <a:lnTo>
                  <a:pt x="54" y="5"/>
                </a:lnTo>
                <a:lnTo>
                  <a:pt x="52" y="5"/>
                </a:lnTo>
                <a:lnTo>
                  <a:pt x="52" y="7"/>
                </a:lnTo>
                <a:lnTo>
                  <a:pt x="52" y="9"/>
                </a:lnTo>
                <a:lnTo>
                  <a:pt x="50" y="9"/>
                </a:lnTo>
                <a:lnTo>
                  <a:pt x="50" y="11"/>
                </a:lnTo>
                <a:lnTo>
                  <a:pt x="50" y="11"/>
                </a:lnTo>
                <a:lnTo>
                  <a:pt x="67" y="11"/>
                </a:lnTo>
                <a:lnTo>
                  <a:pt x="100" y="9"/>
                </a:lnTo>
                <a:lnTo>
                  <a:pt x="131" y="11"/>
                </a:lnTo>
                <a:lnTo>
                  <a:pt x="163" y="13"/>
                </a:lnTo>
                <a:lnTo>
                  <a:pt x="194" y="17"/>
                </a:lnTo>
                <a:lnTo>
                  <a:pt x="194" y="15"/>
                </a:lnTo>
                <a:lnTo>
                  <a:pt x="194" y="15"/>
                </a:lnTo>
                <a:lnTo>
                  <a:pt x="196" y="13"/>
                </a:lnTo>
                <a:lnTo>
                  <a:pt x="196" y="13"/>
                </a:lnTo>
                <a:lnTo>
                  <a:pt x="196" y="11"/>
                </a:lnTo>
                <a:lnTo>
                  <a:pt x="196" y="11"/>
                </a:lnTo>
                <a:lnTo>
                  <a:pt x="198" y="9"/>
                </a:lnTo>
                <a:lnTo>
                  <a:pt x="198" y="7"/>
                </a:lnTo>
                <a:close/>
                <a:moveTo>
                  <a:pt x="4" y="1251"/>
                </a:moveTo>
                <a:lnTo>
                  <a:pt x="35" y="1255"/>
                </a:lnTo>
                <a:lnTo>
                  <a:pt x="67" y="1258"/>
                </a:lnTo>
                <a:lnTo>
                  <a:pt x="100" y="1258"/>
                </a:lnTo>
                <a:lnTo>
                  <a:pt x="133" y="1258"/>
                </a:lnTo>
                <a:lnTo>
                  <a:pt x="163" y="1255"/>
                </a:lnTo>
                <a:lnTo>
                  <a:pt x="196" y="1251"/>
                </a:lnTo>
                <a:lnTo>
                  <a:pt x="204" y="1249"/>
                </a:lnTo>
                <a:lnTo>
                  <a:pt x="204" y="1249"/>
                </a:lnTo>
                <a:lnTo>
                  <a:pt x="204" y="1247"/>
                </a:lnTo>
                <a:lnTo>
                  <a:pt x="202" y="1247"/>
                </a:lnTo>
                <a:lnTo>
                  <a:pt x="202" y="1245"/>
                </a:lnTo>
                <a:lnTo>
                  <a:pt x="202" y="1245"/>
                </a:lnTo>
                <a:lnTo>
                  <a:pt x="202" y="1243"/>
                </a:lnTo>
                <a:lnTo>
                  <a:pt x="200" y="1241"/>
                </a:lnTo>
                <a:lnTo>
                  <a:pt x="200" y="1241"/>
                </a:lnTo>
                <a:lnTo>
                  <a:pt x="194" y="1241"/>
                </a:lnTo>
                <a:lnTo>
                  <a:pt x="163" y="1245"/>
                </a:lnTo>
                <a:lnTo>
                  <a:pt x="131" y="1249"/>
                </a:lnTo>
                <a:lnTo>
                  <a:pt x="100" y="1249"/>
                </a:lnTo>
                <a:lnTo>
                  <a:pt x="67" y="1249"/>
                </a:lnTo>
                <a:lnTo>
                  <a:pt x="37" y="1245"/>
                </a:lnTo>
                <a:lnTo>
                  <a:pt x="6" y="1241"/>
                </a:lnTo>
                <a:lnTo>
                  <a:pt x="0" y="1241"/>
                </a:lnTo>
                <a:lnTo>
                  <a:pt x="2" y="1243"/>
                </a:lnTo>
                <a:lnTo>
                  <a:pt x="2" y="1243"/>
                </a:lnTo>
                <a:lnTo>
                  <a:pt x="2" y="1245"/>
                </a:lnTo>
                <a:lnTo>
                  <a:pt x="2" y="1247"/>
                </a:lnTo>
                <a:lnTo>
                  <a:pt x="4" y="1247"/>
                </a:lnTo>
                <a:lnTo>
                  <a:pt x="4" y="1249"/>
                </a:lnTo>
                <a:lnTo>
                  <a:pt x="4" y="1251"/>
                </a:lnTo>
                <a:lnTo>
                  <a:pt x="4" y="1251"/>
                </a:lnTo>
                <a:close/>
              </a:path>
            </a:pathLst>
          </a:custGeom>
          <a:solidFill>
            <a:srgbClr val="7bc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157"/>
          <p:cNvSpPr/>
          <p:nvPr/>
        </p:nvSpPr>
        <p:spPr>
          <a:xfrm>
            <a:off x="6967440" y="2306520"/>
            <a:ext cx="324000" cy="1984320"/>
          </a:xfrm>
          <a:custGeom>
            <a:avLst/>
            <a:gdLst>
              <a:gd name="textAreaLeft" fmla="*/ 0 w 324000"/>
              <a:gd name="textAreaRight" fmla="*/ 324360 w 324000"/>
              <a:gd name="textAreaTop" fmla="*/ 0 h 1984320"/>
              <a:gd name="textAreaBottom" fmla="*/ 1984680 h 1984320"/>
            </a:gdLst>
            <a:ahLst/>
            <a:rect l="textAreaLeft" t="textAreaTop" r="textAreaRight" b="textAreaBottom"/>
            <a:pathLst>
              <a:path w="204" h="1250">
                <a:moveTo>
                  <a:pt x="198" y="8"/>
                </a:moveTo>
                <a:lnTo>
                  <a:pt x="196" y="8"/>
                </a:lnTo>
                <a:lnTo>
                  <a:pt x="165" y="4"/>
                </a:lnTo>
                <a:lnTo>
                  <a:pt x="133" y="0"/>
                </a:lnTo>
                <a:lnTo>
                  <a:pt x="102" y="0"/>
                </a:lnTo>
                <a:lnTo>
                  <a:pt x="69" y="0"/>
                </a:lnTo>
                <a:lnTo>
                  <a:pt x="54" y="2"/>
                </a:lnTo>
                <a:lnTo>
                  <a:pt x="54" y="4"/>
                </a:lnTo>
                <a:lnTo>
                  <a:pt x="52" y="4"/>
                </a:lnTo>
                <a:lnTo>
                  <a:pt x="52" y="6"/>
                </a:lnTo>
                <a:lnTo>
                  <a:pt x="52" y="6"/>
                </a:lnTo>
                <a:lnTo>
                  <a:pt x="50" y="8"/>
                </a:lnTo>
                <a:lnTo>
                  <a:pt x="50" y="10"/>
                </a:lnTo>
                <a:lnTo>
                  <a:pt x="50" y="10"/>
                </a:lnTo>
                <a:lnTo>
                  <a:pt x="50" y="12"/>
                </a:lnTo>
                <a:lnTo>
                  <a:pt x="69" y="10"/>
                </a:lnTo>
                <a:lnTo>
                  <a:pt x="102" y="10"/>
                </a:lnTo>
                <a:lnTo>
                  <a:pt x="133" y="10"/>
                </a:lnTo>
                <a:lnTo>
                  <a:pt x="163" y="12"/>
                </a:lnTo>
                <a:lnTo>
                  <a:pt x="194" y="16"/>
                </a:lnTo>
                <a:lnTo>
                  <a:pt x="194" y="16"/>
                </a:lnTo>
                <a:lnTo>
                  <a:pt x="194" y="14"/>
                </a:lnTo>
                <a:lnTo>
                  <a:pt x="196" y="14"/>
                </a:lnTo>
                <a:lnTo>
                  <a:pt x="196" y="12"/>
                </a:lnTo>
                <a:lnTo>
                  <a:pt x="196" y="10"/>
                </a:lnTo>
                <a:lnTo>
                  <a:pt x="196" y="10"/>
                </a:lnTo>
                <a:lnTo>
                  <a:pt x="198" y="8"/>
                </a:lnTo>
                <a:lnTo>
                  <a:pt x="198" y="8"/>
                </a:lnTo>
                <a:close/>
                <a:moveTo>
                  <a:pt x="4" y="1242"/>
                </a:moveTo>
                <a:lnTo>
                  <a:pt x="6" y="1242"/>
                </a:lnTo>
                <a:lnTo>
                  <a:pt x="37" y="1246"/>
                </a:lnTo>
                <a:lnTo>
                  <a:pt x="69" y="1248"/>
                </a:lnTo>
                <a:lnTo>
                  <a:pt x="102" y="1250"/>
                </a:lnTo>
                <a:lnTo>
                  <a:pt x="133" y="1248"/>
                </a:lnTo>
                <a:lnTo>
                  <a:pt x="165" y="1246"/>
                </a:lnTo>
                <a:lnTo>
                  <a:pt x="196" y="1242"/>
                </a:lnTo>
                <a:lnTo>
                  <a:pt x="204" y="1240"/>
                </a:lnTo>
                <a:lnTo>
                  <a:pt x="204" y="1240"/>
                </a:lnTo>
                <a:lnTo>
                  <a:pt x="204" y="1238"/>
                </a:lnTo>
                <a:lnTo>
                  <a:pt x="202" y="1236"/>
                </a:lnTo>
                <a:lnTo>
                  <a:pt x="202" y="1236"/>
                </a:lnTo>
                <a:lnTo>
                  <a:pt x="202" y="1234"/>
                </a:lnTo>
                <a:lnTo>
                  <a:pt x="202" y="1234"/>
                </a:lnTo>
                <a:lnTo>
                  <a:pt x="200" y="1232"/>
                </a:lnTo>
                <a:lnTo>
                  <a:pt x="200" y="1232"/>
                </a:lnTo>
                <a:lnTo>
                  <a:pt x="196" y="1232"/>
                </a:lnTo>
                <a:lnTo>
                  <a:pt x="163" y="1236"/>
                </a:lnTo>
                <a:lnTo>
                  <a:pt x="133" y="1238"/>
                </a:lnTo>
                <a:lnTo>
                  <a:pt x="102" y="1240"/>
                </a:lnTo>
                <a:lnTo>
                  <a:pt x="69" y="1238"/>
                </a:lnTo>
                <a:lnTo>
                  <a:pt x="39" y="1236"/>
                </a:lnTo>
                <a:lnTo>
                  <a:pt x="8" y="1232"/>
                </a:lnTo>
                <a:lnTo>
                  <a:pt x="0" y="1230"/>
                </a:lnTo>
                <a:lnTo>
                  <a:pt x="2" y="1232"/>
                </a:lnTo>
                <a:lnTo>
                  <a:pt x="2" y="1234"/>
                </a:lnTo>
                <a:lnTo>
                  <a:pt x="2" y="1234"/>
                </a:lnTo>
                <a:lnTo>
                  <a:pt x="2" y="1236"/>
                </a:lnTo>
                <a:lnTo>
                  <a:pt x="4" y="1238"/>
                </a:lnTo>
                <a:lnTo>
                  <a:pt x="4" y="1238"/>
                </a:lnTo>
                <a:lnTo>
                  <a:pt x="4" y="1240"/>
                </a:lnTo>
                <a:lnTo>
                  <a:pt x="4" y="1242"/>
                </a:lnTo>
                <a:close/>
              </a:path>
            </a:pathLst>
          </a:custGeom>
          <a:solidFill>
            <a:srgbClr val="7cc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158"/>
          <p:cNvSpPr/>
          <p:nvPr/>
        </p:nvSpPr>
        <p:spPr>
          <a:xfrm>
            <a:off x="6967440" y="2313000"/>
            <a:ext cx="320760" cy="1968480"/>
          </a:xfrm>
          <a:custGeom>
            <a:avLst/>
            <a:gdLst>
              <a:gd name="textAreaLeft" fmla="*/ 0 w 320760"/>
              <a:gd name="textAreaRight" fmla="*/ 321120 w 32076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02" h="1240">
                <a:moveTo>
                  <a:pt x="196" y="8"/>
                </a:moveTo>
                <a:lnTo>
                  <a:pt x="165" y="4"/>
                </a:lnTo>
                <a:lnTo>
                  <a:pt x="133" y="2"/>
                </a:lnTo>
                <a:lnTo>
                  <a:pt x="102" y="0"/>
                </a:lnTo>
                <a:lnTo>
                  <a:pt x="69" y="2"/>
                </a:lnTo>
                <a:lnTo>
                  <a:pt x="52" y="2"/>
                </a:lnTo>
                <a:lnTo>
                  <a:pt x="50" y="4"/>
                </a:lnTo>
                <a:lnTo>
                  <a:pt x="50" y="6"/>
                </a:lnTo>
                <a:lnTo>
                  <a:pt x="50" y="6"/>
                </a:lnTo>
                <a:lnTo>
                  <a:pt x="50" y="8"/>
                </a:lnTo>
                <a:lnTo>
                  <a:pt x="48" y="10"/>
                </a:lnTo>
                <a:lnTo>
                  <a:pt x="48" y="10"/>
                </a:lnTo>
                <a:lnTo>
                  <a:pt x="48" y="12"/>
                </a:lnTo>
                <a:lnTo>
                  <a:pt x="46" y="14"/>
                </a:lnTo>
                <a:lnTo>
                  <a:pt x="69" y="12"/>
                </a:lnTo>
                <a:lnTo>
                  <a:pt x="102" y="10"/>
                </a:lnTo>
                <a:lnTo>
                  <a:pt x="133" y="12"/>
                </a:lnTo>
                <a:lnTo>
                  <a:pt x="163" y="14"/>
                </a:lnTo>
                <a:lnTo>
                  <a:pt x="192" y="18"/>
                </a:lnTo>
                <a:lnTo>
                  <a:pt x="192" y="16"/>
                </a:lnTo>
                <a:lnTo>
                  <a:pt x="194" y="16"/>
                </a:lnTo>
                <a:lnTo>
                  <a:pt x="194" y="14"/>
                </a:lnTo>
                <a:lnTo>
                  <a:pt x="194" y="12"/>
                </a:lnTo>
                <a:lnTo>
                  <a:pt x="194" y="12"/>
                </a:lnTo>
                <a:lnTo>
                  <a:pt x="194" y="10"/>
                </a:lnTo>
                <a:lnTo>
                  <a:pt x="196" y="10"/>
                </a:lnTo>
                <a:lnTo>
                  <a:pt x="196" y="8"/>
                </a:lnTo>
                <a:close/>
                <a:moveTo>
                  <a:pt x="2" y="1232"/>
                </a:moveTo>
                <a:lnTo>
                  <a:pt x="8" y="1232"/>
                </a:lnTo>
                <a:lnTo>
                  <a:pt x="39" y="1236"/>
                </a:lnTo>
                <a:lnTo>
                  <a:pt x="69" y="1240"/>
                </a:lnTo>
                <a:lnTo>
                  <a:pt x="102" y="1240"/>
                </a:lnTo>
                <a:lnTo>
                  <a:pt x="133" y="1240"/>
                </a:lnTo>
                <a:lnTo>
                  <a:pt x="165" y="1236"/>
                </a:lnTo>
                <a:lnTo>
                  <a:pt x="196" y="1232"/>
                </a:lnTo>
                <a:lnTo>
                  <a:pt x="202" y="1232"/>
                </a:lnTo>
                <a:lnTo>
                  <a:pt x="202" y="1230"/>
                </a:lnTo>
                <a:lnTo>
                  <a:pt x="202" y="1230"/>
                </a:lnTo>
                <a:lnTo>
                  <a:pt x="200" y="1228"/>
                </a:lnTo>
                <a:lnTo>
                  <a:pt x="200" y="1228"/>
                </a:lnTo>
                <a:lnTo>
                  <a:pt x="200" y="1226"/>
                </a:lnTo>
                <a:lnTo>
                  <a:pt x="200" y="1225"/>
                </a:lnTo>
                <a:lnTo>
                  <a:pt x="198" y="1225"/>
                </a:lnTo>
                <a:lnTo>
                  <a:pt x="198" y="1223"/>
                </a:lnTo>
                <a:lnTo>
                  <a:pt x="194" y="1225"/>
                </a:lnTo>
                <a:lnTo>
                  <a:pt x="163" y="1228"/>
                </a:lnTo>
                <a:lnTo>
                  <a:pt x="133" y="1230"/>
                </a:lnTo>
                <a:lnTo>
                  <a:pt x="102" y="1230"/>
                </a:lnTo>
                <a:lnTo>
                  <a:pt x="69" y="1230"/>
                </a:lnTo>
                <a:lnTo>
                  <a:pt x="39" y="1228"/>
                </a:lnTo>
                <a:lnTo>
                  <a:pt x="8" y="1225"/>
                </a:lnTo>
                <a:lnTo>
                  <a:pt x="0" y="1223"/>
                </a:lnTo>
                <a:lnTo>
                  <a:pt x="0" y="1223"/>
                </a:lnTo>
                <a:lnTo>
                  <a:pt x="0" y="1225"/>
                </a:lnTo>
                <a:lnTo>
                  <a:pt x="0" y="1226"/>
                </a:lnTo>
                <a:lnTo>
                  <a:pt x="0" y="1226"/>
                </a:lnTo>
                <a:lnTo>
                  <a:pt x="2" y="1228"/>
                </a:lnTo>
                <a:lnTo>
                  <a:pt x="2" y="1230"/>
                </a:lnTo>
                <a:lnTo>
                  <a:pt x="2" y="1230"/>
                </a:lnTo>
                <a:lnTo>
                  <a:pt x="2" y="1232"/>
                </a:lnTo>
                <a:close/>
              </a:path>
            </a:pathLst>
          </a:custGeom>
          <a:solidFill>
            <a:srgbClr val="7d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159"/>
          <p:cNvSpPr/>
          <p:nvPr/>
        </p:nvSpPr>
        <p:spPr>
          <a:xfrm>
            <a:off x="6964200" y="2322360"/>
            <a:ext cx="320760" cy="1952640"/>
          </a:xfrm>
          <a:custGeom>
            <a:avLst/>
            <a:gdLst>
              <a:gd name="textAreaLeft" fmla="*/ 0 w 320760"/>
              <a:gd name="textAreaRight" fmla="*/ 321120 w 320760"/>
              <a:gd name="textAreaTop" fmla="*/ 0 h 1952640"/>
              <a:gd name="textAreaBottom" fmla="*/ 1952640 h 1952640"/>
            </a:gdLst>
            <a:ahLst/>
            <a:rect l="textAreaLeft" t="textAreaTop" r="textAreaRight" b="textAreaBottom"/>
            <a:pathLst>
              <a:path w="202" h="1230">
                <a:moveTo>
                  <a:pt x="196" y="6"/>
                </a:moveTo>
                <a:lnTo>
                  <a:pt x="165" y="2"/>
                </a:lnTo>
                <a:lnTo>
                  <a:pt x="135" y="0"/>
                </a:lnTo>
                <a:lnTo>
                  <a:pt x="104" y="0"/>
                </a:lnTo>
                <a:lnTo>
                  <a:pt x="71" y="0"/>
                </a:lnTo>
                <a:lnTo>
                  <a:pt x="52" y="2"/>
                </a:lnTo>
                <a:lnTo>
                  <a:pt x="50" y="4"/>
                </a:lnTo>
                <a:lnTo>
                  <a:pt x="50" y="4"/>
                </a:lnTo>
                <a:lnTo>
                  <a:pt x="50" y="6"/>
                </a:lnTo>
                <a:lnTo>
                  <a:pt x="48" y="8"/>
                </a:lnTo>
                <a:lnTo>
                  <a:pt x="48" y="8"/>
                </a:lnTo>
                <a:lnTo>
                  <a:pt x="48" y="10"/>
                </a:lnTo>
                <a:lnTo>
                  <a:pt x="48" y="10"/>
                </a:lnTo>
                <a:lnTo>
                  <a:pt x="46" y="12"/>
                </a:lnTo>
                <a:lnTo>
                  <a:pt x="73" y="10"/>
                </a:lnTo>
                <a:lnTo>
                  <a:pt x="104" y="10"/>
                </a:lnTo>
                <a:lnTo>
                  <a:pt x="135" y="10"/>
                </a:lnTo>
                <a:lnTo>
                  <a:pt x="165" y="12"/>
                </a:lnTo>
                <a:lnTo>
                  <a:pt x="192" y="15"/>
                </a:lnTo>
                <a:lnTo>
                  <a:pt x="192" y="15"/>
                </a:lnTo>
                <a:lnTo>
                  <a:pt x="194" y="14"/>
                </a:lnTo>
                <a:lnTo>
                  <a:pt x="194" y="12"/>
                </a:lnTo>
                <a:lnTo>
                  <a:pt x="194" y="12"/>
                </a:lnTo>
                <a:lnTo>
                  <a:pt x="194" y="10"/>
                </a:lnTo>
                <a:lnTo>
                  <a:pt x="196" y="10"/>
                </a:lnTo>
                <a:lnTo>
                  <a:pt x="196" y="8"/>
                </a:lnTo>
                <a:lnTo>
                  <a:pt x="196" y="6"/>
                </a:lnTo>
                <a:close/>
                <a:moveTo>
                  <a:pt x="2" y="1220"/>
                </a:moveTo>
                <a:lnTo>
                  <a:pt x="10" y="1222"/>
                </a:lnTo>
                <a:lnTo>
                  <a:pt x="41" y="1226"/>
                </a:lnTo>
                <a:lnTo>
                  <a:pt x="71" y="1228"/>
                </a:lnTo>
                <a:lnTo>
                  <a:pt x="104" y="1230"/>
                </a:lnTo>
                <a:lnTo>
                  <a:pt x="135" y="1228"/>
                </a:lnTo>
                <a:lnTo>
                  <a:pt x="165" y="1226"/>
                </a:lnTo>
                <a:lnTo>
                  <a:pt x="198" y="1222"/>
                </a:lnTo>
                <a:lnTo>
                  <a:pt x="202" y="1222"/>
                </a:lnTo>
                <a:lnTo>
                  <a:pt x="202" y="1220"/>
                </a:lnTo>
                <a:lnTo>
                  <a:pt x="202" y="1219"/>
                </a:lnTo>
                <a:lnTo>
                  <a:pt x="200" y="1219"/>
                </a:lnTo>
                <a:lnTo>
                  <a:pt x="200" y="1217"/>
                </a:lnTo>
                <a:lnTo>
                  <a:pt x="200" y="1217"/>
                </a:lnTo>
                <a:lnTo>
                  <a:pt x="200" y="1215"/>
                </a:lnTo>
                <a:lnTo>
                  <a:pt x="198" y="1213"/>
                </a:lnTo>
                <a:lnTo>
                  <a:pt x="198" y="1213"/>
                </a:lnTo>
                <a:lnTo>
                  <a:pt x="196" y="1213"/>
                </a:lnTo>
                <a:lnTo>
                  <a:pt x="165" y="1217"/>
                </a:lnTo>
                <a:lnTo>
                  <a:pt x="135" y="1219"/>
                </a:lnTo>
                <a:lnTo>
                  <a:pt x="104" y="1220"/>
                </a:lnTo>
                <a:lnTo>
                  <a:pt x="73" y="1219"/>
                </a:lnTo>
                <a:lnTo>
                  <a:pt x="41" y="1217"/>
                </a:lnTo>
                <a:lnTo>
                  <a:pt x="12" y="1213"/>
                </a:lnTo>
                <a:lnTo>
                  <a:pt x="0" y="1211"/>
                </a:lnTo>
                <a:lnTo>
                  <a:pt x="0" y="1213"/>
                </a:lnTo>
                <a:lnTo>
                  <a:pt x="0" y="1213"/>
                </a:lnTo>
                <a:lnTo>
                  <a:pt x="0" y="1215"/>
                </a:lnTo>
                <a:lnTo>
                  <a:pt x="2" y="1217"/>
                </a:lnTo>
                <a:lnTo>
                  <a:pt x="2" y="1217"/>
                </a:lnTo>
                <a:lnTo>
                  <a:pt x="2" y="1219"/>
                </a:lnTo>
                <a:lnTo>
                  <a:pt x="2" y="1220"/>
                </a:lnTo>
                <a:lnTo>
                  <a:pt x="2" y="1220"/>
                </a:lnTo>
                <a:close/>
              </a:path>
            </a:pathLst>
          </a:custGeom>
          <a:solidFill>
            <a:srgbClr val="7e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160"/>
          <p:cNvSpPr/>
          <p:nvPr/>
        </p:nvSpPr>
        <p:spPr>
          <a:xfrm>
            <a:off x="6961320" y="2328840"/>
            <a:ext cx="320400" cy="1936800"/>
          </a:xfrm>
          <a:custGeom>
            <a:avLst/>
            <a:gdLst>
              <a:gd name="textAreaLeft" fmla="*/ 0 w 320400"/>
              <a:gd name="textAreaRight" fmla="*/ 320760 w 320400"/>
              <a:gd name="textAreaTop" fmla="*/ 0 h 1936800"/>
              <a:gd name="textAreaBottom" fmla="*/ 1937160 h 1936800"/>
            </a:gdLst>
            <a:ahLst/>
            <a:rect l="textAreaLeft" t="textAreaTop" r="textAreaRight" b="textAreaBottom"/>
            <a:pathLst>
              <a:path w="202" h="1220">
                <a:moveTo>
                  <a:pt x="196" y="8"/>
                </a:moveTo>
                <a:lnTo>
                  <a:pt x="167" y="4"/>
                </a:lnTo>
                <a:lnTo>
                  <a:pt x="137" y="2"/>
                </a:lnTo>
                <a:lnTo>
                  <a:pt x="106" y="0"/>
                </a:lnTo>
                <a:lnTo>
                  <a:pt x="73" y="2"/>
                </a:lnTo>
                <a:lnTo>
                  <a:pt x="50" y="4"/>
                </a:lnTo>
                <a:lnTo>
                  <a:pt x="50" y="4"/>
                </a:lnTo>
                <a:lnTo>
                  <a:pt x="50" y="6"/>
                </a:lnTo>
                <a:lnTo>
                  <a:pt x="50" y="6"/>
                </a:lnTo>
                <a:lnTo>
                  <a:pt x="48" y="8"/>
                </a:lnTo>
                <a:lnTo>
                  <a:pt x="48" y="10"/>
                </a:lnTo>
                <a:lnTo>
                  <a:pt x="48" y="10"/>
                </a:lnTo>
                <a:lnTo>
                  <a:pt x="47" y="11"/>
                </a:lnTo>
                <a:lnTo>
                  <a:pt x="47" y="13"/>
                </a:lnTo>
                <a:lnTo>
                  <a:pt x="75" y="11"/>
                </a:lnTo>
                <a:lnTo>
                  <a:pt x="106" y="10"/>
                </a:lnTo>
                <a:lnTo>
                  <a:pt x="137" y="11"/>
                </a:lnTo>
                <a:lnTo>
                  <a:pt x="167" y="13"/>
                </a:lnTo>
                <a:lnTo>
                  <a:pt x="192" y="15"/>
                </a:lnTo>
                <a:lnTo>
                  <a:pt x="192" y="15"/>
                </a:lnTo>
                <a:lnTo>
                  <a:pt x="194" y="13"/>
                </a:lnTo>
                <a:lnTo>
                  <a:pt x="194" y="13"/>
                </a:lnTo>
                <a:lnTo>
                  <a:pt x="194" y="11"/>
                </a:lnTo>
                <a:lnTo>
                  <a:pt x="194" y="11"/>
                </a:lnTo>
                <a:lnTo>
                  <a:pt x="196" y="10"/>
                </a:lnTo>
                <a:lnTo>
                  <a:pt x="196" y="8"/>
                </a:lnTo>
                <a:lnTo>
                  <a:pt x="196" y="8"/>
                </a:lnTo>
                <a:close/>
                <a:moveTo>
                  <a:pt x="4" y="1213"/>
                </a:moveTo>
                <a:lnTo>
                  <a:pt x="12" y="1215"/>
                </a:lnTo>
                <a:lnTo>
                  <a:pt x="43" y="1218"/>
                </a:lnTo>
                <a:lnTo>
                  <a:pt x="73" y="1220"/>
                </a:lnTo>
                <a:lnTo>
                  <a:pt x="106" y="1220"/>
                </a:lnTo>
                <a:lnTo>
                  <a:pt x="137" y="1220"/>
                </a:lnTo>
                <a:lnTo>
                  <a:pt x="167" y="1218"/>
                </a:lnTo>
                <a:lnTo>
                  <a:pt x="198" y="1215"/>
                </a:lnTo>
                <a:lnTo>
                  <a:pt x="202" y="1213"/>
                </a:lnTo>
                <a:lnTo>
                  <a:pt x="202" y="1213"/>
                </a:lnTo>
                <a:lnTo>
                  <a:pt x="202" y="1211"/>
                </a:lnTo>
                <a:lnTo>
                  <a:pt x="200" y="1209"/>
                </a:lnTo>
                <a:lnTo>
                  <a:pt x="200" y="1209"/>
                </a:lnTo>
                <a:lnTo>
                  <a:pt x="200" y="1207"/>
                </a:lnTo>
                <a:lnTo>
                  <a:pt x="200" y="1207"/>
                </a:lnTo>
                <a:lnTo>
                  <a:pt x="198" y="1205"/>
                </a:lnTo>
                <a:lnTo>
                  <a:pt x="198" y="1205"/>
                </a:lnTo>
                <a:lnTo>
                  <a:pt x="196" y="1205"/>
                </a:lnTo>
                <a:lnTo>
                  <a:pt x="167" y="1209"/>
                </a:lnTo>
                <a:lnTo>
                  <a:pt x="137" y="1211"/>
                </a:lnTo>
                <a:lnTo>
                  <a:pt x="106" y="1211"/>
                </a:lnTo>
                <a:lnTo>
                  <a:pt x="75" y="1211"/>
                </a:lnTo>
                <a:lnTo>
                  <a:pt x="45" y="1209"/>
                </a:lnTo>
                <a:lnTo>
                  <a:pt x="14" y="1205"/>
                </a:lnTo>
                <a:lnTo>
                  <a:pt x="0" y="1201"/>
                </a:lnTo>
                <a:lnTo>
                  <a:pt x="0" y="1203"/>
                </a:lnTo>
                <a:lnTo>
                  <a:pt x="0" y="1205"/>
                </a:lnTo>
                <a:lnTo>
                  <a:pt x="0" y="1205"/>
                </a:lnTo>
                <a:lnTo>
                  <a:pt x="2" y="1207"/>
                </a:lnTo>
                <a:lnTo>
                  <a:pt x="2" y="1209"/>
                </a:lnTo>
                <a:lnTo>
                  <a:pt x="2" y="1209"/>
                </a:lnTo>
                <a:lnTo>
                  <a:pt x="2" y="1211"/>
                </a:lnTo>
                <a:lnTo>
                  <a:pt x="4" y="1213"/>
                </a:lnTo>
                <a:close/>
              </a:path>
            </a:pathLst>
          </a:custGeom>
          <a:solidFill>
            <a:srgbClr val="7f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161"/>
          <p:cNvSpPr/>
          <p:nvPr/>
        </p:nvSpPr>
        <p:spPr>
          <a:xfrm>
            <a:off x="6959520" y="2338560"/>
            <a:ext cx="319320" cy="1920600"/>
          </a:xfrm>
          <a:custGeom>
            <a:avLst/>
            <a:gdLst>
              <a:gd name="textAreaLeft" fmla="*/ 0 w 319320"/>
              <a:gd name="textAreaRight" fmla="*/ 319680 w 319320"/>
              <a:gd name="textAreaTop" fmla="*/ 0 h 1920600"/>
              <a:gd name="textAreaBottom" fmla="*/ 1920960 h 1920600"/>
            </a:gdLst>
            <a:ahLst/>
            <a:rect l="textAreaLeft" t="textAreaTop" r="textAreaRight" b="textAreaBottom"/>
            <a:pathLst>
              <a:path w="201" h="1210">
                <a:moveTo>
                  <a:pt x="195" y="5"/>
                </a:moveTo>
                <a:lnTo>
                  <a:pt x="168" y="2"/>
                </a:lnTo>
                <a:lnTo>
                  <a:pt x="138" y="0"/>
                </a:lnTo>
                <a:lnTo>
                  <a:pt x="107" y="0"/>
                </a:lnTo>
                <a:lnTo>
                  <a:pt x="76" y="0"/>
                </a:lnTo>
                <a:lnTo>
                  <a:pt x="49" y="2"/>
                </a:lnTo>
                <a:lnTo>
                  <a:pt x="49" y="4"/>
                </a:lnTo>
                <a:lnTo>
                  <a:pt x="49" y="4"/>
                </a:lnTo>
                <a:lnTo>
                  <a:pt x="48" y="5"/>
                </a:lnTo>
                <a:lnTo>
                  <a:pt x="48" y="7"/>
                </a:lnTo>
                <a:lnTo>
                  <a:pt x="48" y="7"/>
                </a:lnTo>
                <a:lnTo>
                  <a:pt x="48" y="9"/>
                </a:lnTo>
                <a:lnTo>
                  <a:pt x="46" y="11"/>
                </a:lnTo>
                <a:lnTo>
                  <a:pt x="46" y="11"/>
                </a:lnTo>
                <a:lnTo>
                  <a:pt x="76" y="9"/>
                </a:lnTo>
                <a:lnTo>
                  <a:pt x="107" y="9"/>
                </a:lnTo>
                <a:lnTo>
                  <a:pt x="138" y="9"/>
                </a:lnTo>
                <a:lnTo>
                  <a:pt x="167" y="11"/>
                </a:lnTo>
                <a:lnTo>
                  <a:pt x="191" y="15"/>
                </a:lnTo>
                <a:lnTo>
                  <a:pt x="193" y="13"/>
                </a:lnTo>
                <a:lnTo>
                  <a:pt x="193" y="13"/>
                </a:lnTo>
                <a:lnTo>
                  <a:pt x="193" y="11"/>
                </a:lnTo>
                <a:lnTo>
                  <a:pt x="193" y="9"/>
                </a:lnTo>
                <a:lnTo>
                  <a:pt x="193" y="9"/>
                </a:lnTo>
                <a:lnTo>
                  <a:pt x="195" y="7"/>
                </a:lnTo>
                <a:lnTo>
                  <a:pt x="195" y="7"/>
                </a:lnTo>
                <a:lnTo>
                  <a:pt x="195" y="5"/>
                </a:lnTo>
                <a:close/>
                <a:moveTo>
                  <a:pt x="3" y="1201"/>
                </a:moveTo>
                <a:lnTo>
                  <a:pt x="15" y="1203"/>
                </a:lnTo>
                <a:lnTo>
                  <a:pt x="44" y="1207"/>
                </a:lnTo>
                <a:lnTo>
                  <a:pt x="76" y="1209"/>
                </a:lnTo>
                <a:lnTo>
                  <a:pt x="107" y="1210"/>
                </a:lnTo>
                <a:lnTo>
                  <a:pt x="138" y="1209"/>
                </a:lnTo>
                <a:lnTo>
                  <a:pt x="168" y="1207"/>
                </a:lnTo>
                <a:lnTo>
                  <a:pt x="199" y="1203"/>
                </a:lnTo>
                <a:lnTo>
                  <a:pt x="201" y="1203"/>
                </a:lnTo>
                <a:lnTo>
                  <a:pt x="201" y="1201"/>
                </a:lnTo>
                <a:lnTo>
                  <a:pt x="201" y="1201"/>
                </a:lnTo>
                <a:lnTo>
                  <a:pt x="199" y="1199"/>
                </a:lnTo>
                <a:lnTo>
                  <a:pt x="199" y="1199"/>
                </a:lnTo>
                <a:lnTo>
                  <a:pt x="199" y="1197"/>
                </a:lnTo>
                <a:lnTo>
                  <a:pt x="199" y="1195"/>
                </a:lnTo>
                <a:lnTo>
                  <a:pt x="197" y="1195"/>
                </a:lnTo>
                <a:lnTo>
                  <a:pt x="197" y="1193"/>
                </a:lnTo>
                <a:lnTo>
                  <a:pt x="167" y="1197"/>
                </a:lnTo>
                <a:lnTo>
                  <a:pt x="138" y="1199"/>
                </a:lnTo>
                <a:lnTo>
                  <a:pt x="107" y="1201"/>
                </a:lnTo>
                <a:lnTo>
                  <a:pt x="76" y="1199"/>
                </a:lnTo>
                <a:lnTo>
                  <a:pt x="46" y="1197"/>
                </a:lnTo>
                <a:lnTo>
                  <a:pt x="15" y="1193"/>
                </a:lnTo>
                <a:lnTo>
                  <a:pt x="0" y="1191"/>
                </a:lnTo>
                <a:lnTo>
                  <a:pt x="0" y="1191"/>
                </a:lnTo>
                <a:lnTo>
                  <a:pt x="0" y="1193"/>
                </a:lnTo>
                <a:lnTo>
                  <a:pt x="1" y="1195"/>
                </a:lnTo>
                <a:lnTo>
                  <a:pt x="1" y="1195"/>
                </a:lnTo>
                <a:lnTo>
                  <a:pt x="1" y="1197"/>
                </a:lnTo>
                <a:lnTo>
                  <a:pt x="1" y="1199"/>
                </a:lnTo>
                <a:lnTo>
                  <a:pt x="1" y="1199"/>
                </a:lnTo>
                <a:lnTo>
                  <a:pt x="3" y="1201"/>
                </a:lnTo>
                <a:close/>
              </a:path>
            </a:pathLst>
          </a:custGeom>
          <a:solidFill>
            <a:srgbClr val="8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162"/>
          <p:cNvSpPr/>
          <p:nvPr/>
        </p:nvSpPr>
        <p:spPr>
          <a:xfrm>
            <a:off x="6956280" y="2344680"/>
            <a:ext cx="319320" cy="1906560"/>
          </a:xfrm>
          <a:custGeom>
            <a:avLst/>
            <a:gdLst>
              <a:gd name="textAreaLeft" fmla="*/ 0 w 319320"/>
              <a:gd name="textAreaRight" fmla="*/ 319680 w 319320"/>
              <a:gd name="textAreaTop" fmla="*/ 0 h 1906560"/>
              <a:gd name="textAreaBottom" fmla="*/ 1906920 h 1906560"/>
            </a:gdLst>
            <a:ahLst/>
            <a:rect l="textAreaLeft" t="textAreaTop" r="textAreaRight" b="textAreaBottom"/>
            <a:pathLst>
              <a:path w="201" h="1201">
                <a:moveTo>
                  <a:pt x="195" y="5"/>
                </a:moveTo>
                <a:lnTo>
                  <a:pt x="170" y="3"/>
                </a:lnTo>
                <a:lnTo>
                  <a:pt x="140" y="1"/>
                </a:lnTo>
                <a:lnTo>
                  <a:pt x="109" y="0"/>
                </a:lnTo>
                <a:lnTo>
                  <a:pt x="78" y="1"/>
                </a:lnTo>
                <a:lnTo>
                  <a:pt x="50" y="3"/>
                </a:lnTo>
                <a:lnTo>
                  <a:pt x="50" y="3"/>
                </a:lnTo>
                <a:lnTo>
                  <a:pt x="50" y="5"/>
                </a:lnTo>
                <a:lnTo>
                  <a:pt x="48" y="7"/>
                </a:lnTo>
                <a:lnTo>
                  <a:pt x="48" y="7"/>
                </a:lnTo>
                <a:lnTo>
                  <a:pt x="48" y="9"/>
                </a:lnTo>
                <a:lnTo>
                  <a:pt x="46" y="11"/>
                </a:lnTo>
                <a:lnTo>
                  <a:pt x="46" y="11"/>
                </a:lnTo>
                <a:lnTo>
                  <a:pt x="46" y="13"/>
                </a:lnTo>
                <a:lnTo>
                  <a:pt x="48" y="13"/>
                </a:lnTo>
                <a:lnTo>
                  <a:pt x="78" y="9"/>
                </a:lnTo>
                <a:lnTo>
                  <a:pt x="109" y="9"/>
                </a:lnTo>
                <a:lnTo>
                  <a:pt x="140" y="9"/>
                </a:lnTo>
                <a:lnTo>
                  <a:pt x="169" y="13"/>
                </a:lnTo>
                <a:lnTo>
                  <a:pt x="192" y="15"/>
                </a:lnTo>
                <a:lnTo>
                  <a:pt x="193" y="15"/>
                </a:lnTo>
                <a:lnTo>
                  <a:pt x="193" y="13"/>
                </a:lnTo>
                <a:lnTo>
                  <a:pt x="193" y="11"/>
                </a:lnTo>
                <a:lnTo>
                  <a:pt x="193" y="11"/>
                </a:lnTo>
                <a:lnTo>
                  <a:pt x="195" y="9"/>
                </a:lnTo>
                <a:lnTo>
                  <a:pt x="195" y="9"/>
                </a:lnTo>
                <a:lnTo>
                  <a:pt x="195" y="7"/>
                </a:lnTo>
                <a:lnTo>
                  <a:pt x="195" y="5"/>
                </a:lnTo>
                <a:close/>
                <a:moveTo>
                  <a:pt x="3" y="1191"/>
                </a:moveTo>
                <a:lnTo>
                  <a:pt x="17" y="1195"/>
                </a:lnTo>
                <a:lnTo>
                  <a:pt x="48" y="1199"/>
                </a:lnTo>
                <a:lnTo>
                  <a:pt x="78" y="1201"/>
                </a:lnTo>
                <a:lnTo>
                  <a:pt x="109" y="1201"/>
                </a:lnTo>
                <a:lnTo>
                  <a:pt x="140" y="1201"/>
                </a:lnTo>
                <a:lnTo>
                  <a:pt x="170" y="1199"/>
                </a:lnTo>
                <a:lnTo>
                  <a:pt x="199" y="1195"/>
                </a:lnTo>
                <a:lnTo>
                  <a:pt x="201" y="1195"/>
                </a:lnTo>
                <a:lnTo>
                  <a:pt x="201" y="1193"/>
                </a:lnTo>
                <a:lnTo>
                  <a:pt x="201" y="1191"/>
                </a:lnTo>
                <a:lnTo>
                  <a:pt x="199" y="1191"/>
                </a:lnTo>
                <a:lnTo>
                  <a:pt x="199" y="1189"/>
                </a:lnTo>
                <a:lnTo>
                  <a:pt x="199" y="1189"/>
                </a:lnTo>
                <a:lnTo>
                  <a:pt x="199" y="1187"/>
                </a:lnTo>
                <a:lnTo>
                  <a:pt x="197" y="1185"/>
                </a:lnTo>
                <a:lnTo>
                  <a:pt x="197" y="1185"/>
                </a:lnTo>
                <a:lnTo>
                  <a:pt x="169" y="1189"/>
                </a:lnTo>
                <a:lnTo>
                  <a:pt x="140" y="1191"/>
                </a:lnTo>
                <a:lnTo>
                  <a:pt x="109" y="1191"/>
                </a:lnTo>
                <a:lnTo>
                  <a:pt x="78" y="1191"/>
                </a:lnTo>
                <a:lnTo>
                  <a:pt x="48" y="1189"/>
                </a:lnTo>
                <a:lnTo>
                  <a:pt x="19" y="1185"/>
                </a:lnTo>
                <a:lnTo>
                  <a:pt x="0" y="1182"/>
                </a:lnTo>
                <a:lnTo>
                  <a:pt x="0" y="1183"/>
                </a:lnTo>
                <a:lnTo>
                  <a:pt x="2" y="1183"/>
                </a:lnTo>
                <a:lnTo>
                  <a:pt x="2" y="1185"/>
                </a:lnTo>
                <a:lnTo>
                  <a:pt x="2" y="1187"/>
                </a:lnTo>
                <a:lnTo>
                  <a:pt x="2" y="1187"/>
                </a:lnTo>
                <a:lnTo>
                  <a:pt x="2" y="1189"/>
                </a:lnTo>
                <a:lnTo>
                  <a:pt x="3" y="1191"/>
                </a:lnTo>
                <a:lnTo>
                  <a:pt x="3" y="1191"/>
                </a:lnTo>
                <a:close/>
              </a:path>
            </a:pathLst>
          </a:custGeom>
          <a:solidFill>
            <a:srgbClr val="81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163"/>
          <p:cNvSpPr/>
          <p:nvPr/>
        </p:nvSpPr>
        <p:spPr>
          <a:xfrm>
            <a:off x="6953400" y="2352600"/>
            <a:ext cx="318960" cy="1892520"/>
          </a:xfrm>
          <a:custGeom>
            <a:avLst/>
            <a:gdLst>
              <a:gd name="textAreaLeft" fmla="*/ 0 w 318960"/>
              <a:gd name="textAreaRight" fmla="*/ 319320 w 318960"/>
              <a:gd name="textAreaTop" fmla="*/ 0 h 1892520"/>
              <a:gd name="textAreaBottom" fmla="*/ 1892880 h 1892520"/>
            </a:gdLst>
            <a:ahLst/>
            <a:rect l="textAreaLeft" t="textAreaTop" r="textAreaRight" b="textAreaBottom"/>
            <a:pathLst>
              <a:path w="201" h="1192">
                <a:moveTo>
                  <a:pt x="195" y="6"/>
                </a:moveTo>
                <a:lnTo>
                  <a:pt x="171" y="2"/>
                </a:lnTo>
                <a:lnTo>
                  <a:pt x="142" y="0"/>
                </a:lnTo>
                <a:lnTo>
                  <a:pt x="111" y="0"/>
                </a:lnTo>
                <a:lnTo>
                  <a:pt x="80" y="0"/>
                </a:lnTo>
                <a:lnTo>
                  <a:pt x="50" y="2"/>
                </a:lnTo>
                <a:lnTo>
                  <a:pt x="50" y="4"/>
                </a:lnTo>
                <a:lnTo>
                  <a:pt x="48" y="6"/>
                </a:lnTo>
                <a:lnTo>
                  <a:pt x="48" y="6"/>
                </a:lnTo>
                <a:lnTo>
                  <a:pt x="48" y="8"/>
                </a:lnTo>
                <a:lnTo>
                  <a:pt x="48" y="10"/>
                </a:lnTo>
                <a:lnTo>
                  <a:pt x="46" y="10"/>
                </a:lnTo>
                <a:lnTo>
                  <a:pt x="46" y="12"/>
                </a:lnTo>
                <a:lnTo>
                  <a:pt x="46" y="12"/>
                </a:lnTo>
                <a:lnTo>
                  <a:pt x="50" y="12"/>
                </a:lnTo>
                <a:lnTo>
                  <a:pt x="80" y="10"/>
                </a:lnTo>
                <a:lnTo>
                  <a:pt x="111" y="10"/>
                </a:lnTo>
                <a:lnTo>
                  <a:pt x="140" y="10"/>
                </a:lnTo>
                <a:lnTo>
                  <a:pt x="171" y="12"/>
                </a:lnTo>
                <a:lnTo>
                  <a:pt x="194" y="16"/>
                </a:lnTo>
                <a:lnTo>
                  <a:pt x="194" y="14"/>
                </a:lnTo>
                <a:lnTo>
                  <a:pt x="194" y="12"/>
                </a:lnTo>
                <a:lnTo>
                  <a:pt x="194" y="12"/>
                </a:lnTo>
                <a:lnTo>
                  <a:pt x="194" y="10"/>
                </a:lnTo>
                <a:lnTo>
                  <a:pt x="195" y="10"/>
                </a:lnTo>
                <a:lnTo>
                  <a:pt x="195" y="8"/>
                </a:lnTo>
                <a:lnTo>
                  <a:pt x="195" y="6"/>
                </a:lnTo>
                <a:lnTo>
                  <a:pt x="195" y="6"/>
                </a:lnTo>
                <a:close/>
                <a:moveTo>
                  <a:pt x="4" y="1182"/>
                </a:moveTo>
                <a:lnTo>
                  <a:pt x="19" y="1184"/>
                </a:lnTo>
                <a:lnTo>
                  <a:pt x="50" y="1188"/>
                </a:lnTo>
                <a:lnTo>
                  <a:pt x="80" y="1190"/>
                </a:lnTo>
                <a:lnTo>
                  <a:pt x="111" y="1192"/>
                </a:lnTo>
                <a:lnTo>
                  <a:pt x="142" y="1190"/>
                </a:lnTo>
                <a:lnTo>
                  <a:pt x="171" y="1188"/>
                </a:lnTo>
                <a:lnTo>
                  <a:pt x="201" y="1184"/>
                </a:lnTo>
                <a:lnTo>
                  <a:pt x="201" y="1184"/>
                </a:lnTo>
                <a:lnTo>
                  <a:pt x="201" y="1182"/>
                </a:lnTo>
                <a:lnTo>
                  <a:pt x="199" y="1180"/>
                </a:lnTo>
                <a:lnTo>
                  <a:pt x="199" y="1180"/>
                </a:lnTo>
                <a:lnTo>
                  <a:pt x="199" y="1178"/>
                </a:lnTo>
                <a:lnTo>
                  <a:pt x="199" y="1178"/>
                </a:lnTo>
                <a:lnTo>
                  <a:pt x="197" y="1177"/>
                </a:lnTo>
                <a:lnTo>
                  <a:pt x="197" y="1177"/>
                </a:lnTo>
                <a:lnTo>
                  <a:pt x="171" y="1178"/>
                </a:lnTo>
                <a:lnTo>
                  <a:pt x="140" y="1180"/>
                </a:lnTo>
                <a:lnTo>
                  <a:pt x="111" y="1182"/>
                </a:lnTo>
                <a:lnTo>
                  <a:pt x="80" y="1180"/>
                </a:lnTo>
                <a:lnTo>
                  <a:pt x="50" y="1178"/>
                </a:lnTo>
                <a:lnTo>
                  <a:pt x="21" y="1175"/>
                </a:lnTo>
                <a:lnTo>
                  <a:pt x="0" y="1171"/>
                </a:lnTo>
                <a:lnTo>
                  <a:pt x="2" y="1173"/>
                </a:lnTo>
                <a:lnTo>
                  <a:pt x="2" y="1175"/>
                </a:lnTo>
                <a:lnTo>
                  <a:pt x="2" y="1175"/>
                </a:lnTo>
                <a:lnTo>
                  <a:pt x="2" y="1177"/>
                </a:lnTo>
                <a:lnTo>
                  <a:pt x="2" y="1178"/>
                </a:lnTo>
                <a:lnTo>
                  <a:pt x="4" y="1178"/>
                </a:lnTo>
                <a:lnTo>
                  <a:pt x="4" y="1180"/>
                </a:lnTo>
                <a:lnTo>
                  <a:pt x="4" y="1182"/>
                </a:lnTo>
                <a:close/>
              </a:path>
            </a:pathLst>
          </a:custGeom>
          <a:solidFill>
            <a:srgbClr val="82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164"/>
          <p:cNvSpPr/>
          <p:nvPr/>
        </p:nvSpPr>
        <p:spPr>
          <a:xfrm>
            <a:off x="6950160" y="2359080"/>
            <a:ext cx="318960" cy="1876320"/>
          </a:xfrm>
          <a:custGeom>
            <a:avLst/>
            <a:gdLst>
              <a:gd name="textAreaLeft" fmla="*/ 0 w 318960"/>
              <a:gd name="textAreaRight" fmla="*/ 319320 w 318960"/>
              <a:gd name="textAreaTop" fmla="*/ 0 h 1876320"/>
              <a:gd name="textAreaBottom" fmla="*/ 1876680 h 1876320"/>
            </a:gdLst>
            <a:ahLst/>
            <a:rect l="textAreaLeft" t="textAreaTop" r="textAreaRight" b="textAreaBottom"/>
            <a:pathLst>
              <a:path w="201" h="1182">
                <a:moveTo>
                  <a:pt x="196" y="6"/>
                </a:moveTo>
                <a:lnTo>
                  <a:pt x="173" y="4"/>
                </a:lnTo>
                <a:lnTo>
                  <a:pt x="144" y="0"/>
                </a:lnTo>
                <a:lnTo>
                  <a:pt x="113" y="0"/>
                </a:lnTo>
                <a:lnTo>
                  <a:pt x="82" y="0"/>
                </a:lnTo>
                <a:lnTo>
                  <a:pt x="52" y="4"/>
                </a:lnTo>
                <a:lnTo>
                  <a:pt x="50" y="4"/>
                </a:lnTo>
                <a:lnTo>
                  <a:pt x="50" y="6"/>
                </a:lnTo>
                <a:lnTo>
                  <a:pt x="48" y="6"/>
                </a:lnTo>
                <a:lnTo>
                  <a:pt x="48" y="8"/>
                </a:lnTo>
                <a:lnTo>
                  <a:pt x="48" y="8"/>
                </a:lnTo>
                <a:lnTo>
                  <a:pt x="46" y="10"/>
                </a:lnTo>
                <a:lnTo>
                  <a:pt x="46" y="12"/>
                </a:lnTo>
                <a:lnTo>
                  <a:pt x="46" y="12"/>
                </a:lnTo>
                <a:lnTo>
                  <a:pt x="46" y="14"/>
                </a:lnTo>
                <a:lnTo>
                  <a:pt x="54" y="14"/>
                </a:lnTo>
                <a:lnTo>
                  <a:pt x="82" y="10"/>
                </a:lnTo>
                <a:lnTo>
                  <a:pt x="113" y="10"/>
                </a:lnTo>
                <a:lnTo>
                  <a:pt x="142" y="10"/>
                </a:lnTo>
                <a:lnTo>
                  <a:pt x="173" y="14"/>
                </a:lnTo>
                <a:lnTo>
                  <a:pt x="194" y="15"/>
                </a:lnTo>
                <a:lnTo>
                  <a:pt x="194" y="14"/>
                </a:lnTo>
                <a:lnTo>
                  <a:pt x="194" y="14"/>
                </a:lnTo>
                <a:lnTo>
                  <a:pt x="194" y="12"/>
                </a:lnTo>
                <a:lnTo>
                  <a:pt x="196" y="12"/>
                </a:lnTo>
                <a:lnTo>
                  <a:pt x="196" y="10"/>
                </a:lnTo>
                <a:lnTo>
                  <a:pt x="196" y="8"/>
                </a:lnTo>
                <a:lnTo>
                  <a:pt x="196" y="8"/>
                </a:lnTo>
                <a:lnTo>
                  <a:pt x="196" y="6"/>
                </a:lnTo>
                <a:close/>
                <a:moveTo>
                  <a:pt x="4" y="1173"/>
                </a:moveTo>
                <a:lnTo>
                  <a:pt x="23" y="1176"/>
                </a:lnTo>
                <a:lnTo>
                  <a:pt x="52" y="1180"/>
                </a:lnTo>
                <a:lnTo>
                  <a:pt x="82" y="1182"/>
                </a:lnTo>
                <a:lnTo>
                  <a:pt x="113" y="1182"/>
                </a:lnTo>
                <a:lnTo>
                  <a:pt x="144" y="1182"/>
                </a:lnTo>
                <a:lnTo>
                  <a:pt x="173" y="1180"/>
                </a:lnTo>
                <a:lnTo>
                  <a:pt x="201" y="1176"/>
                </a:lnTo>
                <a:lnTo>
                  <a:pt x="201" y="1174"/>
                </a:lnTo>
                <a:lnTo>
                  <a:pt x="201" y="1174"/>
                </a:lnTo>
                <a:lnTo>
                  <a:pt x="199" y="1173"/>
                </a:lnTo>
                <a:lnTo>
                  <a:pt x="199" y="1173"/>
                </a:lnTo>
                <a:lnTo>
                  <a:pt x="199" y="1171"/>
                </a:lnTo>
                <a:lnTo>
                  <a:pt x="199" y="1169"/>
                </a:lnTo>
                <a:lnTo>
                  <a:pt x="197" y="1169"/>
                </a:lnTo>
                <a:lnTo>
                  <a:pt x="197" y="1167"/>
                </a:lnTo>
                <a:lnTo>
                  <a:pt x="173" y="1171"/>
                </a:lnTo>
                <a:lnTo>
                  <a:pt x="142" y="1173"/>
                </a:lnTo>
                <a:lnTo>
                  <a:pt x="113" y="1173"/>
                </a:lnTo>
                <a:lnTo>
                  <a:pt x="82" y="1173"/>
                </a:lnTo>
                <a:lnTo>
                  <a:pt x="54" y="1171"/>
                </a:lnTo>
                <a:lnTo>
                  <a:pt x="25" y="1167"/>
                </a:lnTo>
                <a:lnTo>
                  <a:pt x="0" y="1163"/>
                </a:lnTo>
                <a:lnTo>
                  <a:pt x="2" y="1163"/>
                </a:lnTo>
                <a:lnTo>
                  <a:pt x="2" y="1165"/>
                </a:lnTo>
                <a:lnTo>
                  <a:pt x="2" y="1167"/>
                </a:lnTo>
                <a:lnTo>
                  <a:pt x="2" y="1167"/>
                </a:lnTo>
                <a:lnTo>
                  <a:pt x="4" y="1169"/>
                </a:lnTo>
                <a:lnTo>
                  <a:pt x="4" y="1171"/>
                </a:lnTo>
                <a:lnTo>
                  <a:pt x="4" y="1171"/>
                </a:lnTo>
                <a:lnTo>
                  <a:pt x="4" y="1173"/>
                </a:lnTo>
                <a:close/>
              </a:path>
            </a:pathLst>
          </a:custGeom>
          <a:solidFill>
            <a:srgbClr val="83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65"/>
          <p:cNvSpPr/>
          <p:nvPr/>
        </p:nvSpPr>
        <p:spPr>
          <a:xfrm>
            <a:off x="6950160" y="2368440"/>
            <a:ext cx="315720" cy="1860840"/>
          </a:xfrm>
          <a:custGeom>
            <a:avLst/>
            <a:gdLst>
              <a:gd name="textAreaLeft" fmla="*/ 0 w 315720"/>
              <a:gd name="textAreaRight" fmla="*/ 316080 w 315720"/>
              <a:gd name="textAreaTop" fmla="*/ 0 h 1860840"/>
              <a:gd name="textAreaBottom" fmla="*/ 1861200 h 1860840"/>
            </a:gdLst>
            <a:ahLst/>
            <a:rect l="textAreaLeft" t="textAreaTop" r="textAreaRight" b="textAreaBottom"/>
            <a:pathLst>
              <a:path w="199" h="1172">
                <a:moveTo>
                  <a:pt x="196" y="6"/>
                </a:moveTo>
                <a:lnTo>
                  <a:pt x="173" y="2"/>
                </a:lnTo>
                <a:lnTo>
                  <a:pt x="142" y="0"/>
                </a:lnTo>
                <a:lnTo>
                  <a:pt x="113" y="0"/>
                </a:lnTo>
                <a:lnTo>
                  <a:pt x="82" y="0"/>
                </a:lnTo>
                <a:lnTo>
                  <a:pt x="52" y="2"/>
                </a:lnTo>
                <a:lnTo>
                  <a:pt x="48" y="2"/>
                </a:lnTo>
                <a:lnTo>
                  <a:pt x="46" y="4"/>
                </a:lnTo>
                <a:lnTo>
                  <a:pt x="46" y="6"/>
                </a:lnTo>
                <a:lnTo>
                  <a:pt x="46" y="6"/>
                </a:lnTo>
                <a:lnTo>
                  <a:pt x="46" y="8"/>
                </a:lnTo>
                <a:lnTo>
                  <a:pt x="44" y="9"/>
                </a:lnTo>
                <a:lnTo>
                  <a:pt x="44" y="9"/>
                </a:lnTo>
                <a:lnTo>
                  <a:pt x="44" y="11"/>
                </a:lnTo>
                <a:lnTo>
                  <a:pt x="42" y="13"/>
                </a:lnTo>
                <a:lnTo>
                  <a:pt x="54" y="11"/>
                </a:lnTo>
                <a:lnTo>
                  <a:pt x="82" y="9"/>
                </a:lnTo>
                <a:lnTo>
                  <a:pt x="113" y="8"/>
                </a:lnTo>
                <a:lnTo>
                  <a:pt x="142" y="9"/>
                </a:lnTo>
                <a:lnTo>
                  <a:pt x="171" y="11"/>
                </a:lnTo>
                <a:lnTo>
                  <a:pt x="192" y="13"/>
                </a:lnTo>
                <a:lnTo>
                  <a:pt x="192" y="13"/>
                </a:lnTo>
                <a:lnTo>
                  <a:pt x="192" y="11"/>
                </a:lnTo>
                <a:lnTo>
                  <a:pt x="192" y="11"/>
                </a:lnTo>
                <a:lnTo>
                  <a:pt x="194" y="9"/>
                </a:lnTo>
                <a:lnTo>
                  <a:pt x="194" y="8"/>
                </a:lnTo>
                <a:lnTo>
                  <a:pt x="194" y="8"/>
                </a:lnTo>
                <a:lnTo>
                  <a:pt x="194" y="6"/>
                </a:lnTo>
                <a:lnTo>
                  <a:pt x="196" y="6"/>
                </a:lnTo>
                <a:close/>
                <a:moveTo>
                  <a:pt x="2" y="1161"/>
                </a:moveTo>
                <a:lnTo>
                  <a:pt x="23" y="1165"/>
                </a:lnTo>
                <a:lnTo>
                  <a:pt x="52" y="1168"/>
                </a:lnTo>
                <a:lnTo>
                  <a:pt x="82" y="1170"/>
                </a:lnTo>
                <a:lnTo>
                  <a:pt x="113" y="1172"/>
                </a:lnTo>
                <a:lnTo>
                  <a:pt x="142" y="1170"/>
                </a:lnTo>
                <a:lnTo>
                  <a:pt x="173" y="1168"/>
                </a:lnTo>
                <a:lnTo>
                  <a:pt x="199" y="1167"/>
                </a:lnTo>
                <a:lnTo>
                  <a:pt x="199" y="1165"/>
                </a:lnTo>
                <a:lnTo>
                  <a:pt x="199" y="1163"/>
                </a:lnTo>
                <a:lnTo>
                  <a:pt x="197" y="1163"/>
                </a:lnTo>
                <a:lnTo>
                  <a:pt x="197" y="1161"/>
                </a:lnTo>
                <a:lnTo>
                  <a:pt x="197" y="1161"/>
                </a:lnTo>
                <a:lnTo>
                  <a:pt x="197" y="1159"/>
                </a:lnTo>
                <a:lnTo>
                  <a:pt x="196" y="1157"/>
                </a:lnTo>
                <a:lnTo>
                  <a:pt x="196" y="1157"/>
                </a:lnTo>
                <a:lnTo>
                  <a:pt x="171" y="1159"/>
                </a:lnTo>
                <a:lnTo>
                  <a:pt x="142" y="1163"/>
                </a:lnTo>
                <a:lnTo>
                  <a:pt x="113" y="1163"/>
                </a:lnTo>
                <a:lnTo>
                  <a:pt x="82" y="1163"/>
                </a:lnTo>
                <a:lnTo>
                  <a:pt x="54" y="1159"/>
                </a:lnTo>
                <a:lnTo>
                  <a:pt x="25" y="1155"/>
                </a:lnTo>
                <a:lnTo>
                  <a:pt x="0" y="1151"/>
                </a:lnTo>
                <a:lnTo>
                  <a:pt x="0" y="1153"/>
                </a:lnTo>
                <a:lnTo>
                  <a:pt x="0" y="1153"/>
                </a:lnTo>
                <a:lnTo>
                  <a:pt x="0" y="1155"/>
                </a:lnTo>
                <a:lnTo>
                  <a:pt x="0" y="1157"/>
                </a:lnTo>
                <a:lnTo>
                  <a:pt x="2" y="1157"/>
                </a:lnTo>
                <a:lnTo>
                  <a:pt x="2" y="1159"/>
                </a:lnTo>
                <a:lnTo>
                  <a:pt x="2" y="1161"/>
                </a:lnTo>
                <a:lnTo>
                  <a:pt x="2" y="1161"/>
                </a:lnTo>
                <a:close/>
              </a:path>
            </a:pathLst>
          </a:custGeom>
          <a:solidFill>
            <a:srgbClr val="84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166"/>
          <p:cNvSpPr/>
          <p:nvPr/>
        </p:nvSpPr>
        <p:spPr>
          <a:xfrm>
            <a:off x="6946920" y="2374920"/>
            <a:ext cx="315720" cy="1846080"/>
          </a:xfrm>
          <a:custGeom>
            <a:avLst/>
            <a:gdLst>
              <a:gd name="textAreaLeft" fmla="*/ 0 w 315720"/>
              <a:gd name="textAreaRight" fmla="*/ 316080 w 315720"/>
              <a:gd name="textAreaTop" fmla="*/ 0 h 1846080"/>
              <a:gd name="textAreaBottom" fmla="*/ 1846440 h 1846080"/>
            </a:gdLst>
            <a:ahLst/>
            <a:rect l="textAreaLeft" t="textAreaTop" r="textAreaRight" b="textAreaBottom"/>
            <a:pathLst>
              <a:path w="199" h="1163">
                <a:moveTo>
                  <a:pt x="196" y="5"/>
                </a:moveTo>
                <a:lnTo>
                  <a:pt x="175" y="4"/>
                </a:lnTo>
                <a:lnTo>
                  <a:pt x="144" y="0"/>
                </a:lnTo>
                <a:lnTo>
                  <a:pt x="115" y="0"/>
                </a:lnTo>
                <a:lnTo>
                  <a:pt x="84" y="0"/>
                </a:lnTo>
                <a:lnTo>
                  <a:pt x="56" y="4"/>
                </a:lnTo>
                <a:lnTo>
                  <a:pt x="48" y="4"/>
                </a:lnTo>
                <a:lnTo>
                  <a:pt x="46" y="5"/>
                </a:lnTo>
                <a:lnTo>
                  <a:pt x="46" y="5"/>
                </a:lnTo>
                <a:lnTo>
                  <a:pt x="46" y="7"/>
                </a:lnTo>
                <a:lnTo>
                  <a:pt x="44" y="9"/>
                </a:lnTo>
                <a:lnTo>
                  <a:pt x="44" y="9"/>
                </a:lnTo>
                <a:lnTo>
                  <a:pt x="44" y="11"/>
                </a:lnTo>
                <a:lnTo>
                  <a:pt x="44" y="13"/>
                </a:lnTo>
                <a:lnTo>
                  <a:pt x="42" y="13"/>
                </a:lnTo>
                <a:lnTo>
                  <a:pt x="56" y="11"/>
                </a:lnTo>
                <a:lnTo>
                  <a:pt x="84" y="9"/>
                </a:lnTo>
                <a:lnTo>
                  <a:pt x="115" y="9"/>
                </a:lnTo>
                <a:lnTo>
                  <a:pt x="144" y="9"/>
                </a:lnTo>
                <a:lnTo>
                  <a:pt x="173" y="11"/>
                </a:lnTo>
                <a:lnTo>
                  <a:pt x="192" y="15"/>
                </a:lnTo>
                <a:lnTo>
                  <a:pt x="192" y="13"/>
                </a:lnTo>
                <a:lnTo>
                  <a:pt x="192" y="13"/>
                </a:lnTo>
                <a:lnTo>
                  <a:pt x="194" y="11"/>
                </a:lnTo>
                <a:lnTo>
                  <a:pt x="194" y="9"/>
                </a:lnTo>
                <a:lnTo>
                  <a:pt x="194" y="9"/>
                </a:lnTo>
                <a:lnTo>
                  <a:pt x="194" y="7"/>
                </a:lnTo>
                <a:lnTo>
                  <a:pt x="194" y="7"/>
                </a:lnTo>
                <a:lnTo>
                  <a:pt x="196" y="5"/>
                </a:lnTo>
                <a:close/>
                <a:moveTo>
                  <a:pt x="2" y="1153"/>
                </a:moveTo>
                <a:lnTo>
                  <a:pt x="27" y="1157"/>
                </a:lnTo>
                <a:lnTo>
                  <a:pt x="56" y="1161"/>
                </a:lnTo>
                <a:lnTo>
                  <a:pt x="84" y="1163"/>
                </a:lnTo>
                <a:lnTo>
                  <a:pt x="115" y="1163"/>
                </a:lnTo>
                <a:lnTo>
                  <a:pt x="144" y="1163"/>
                </a:lnTo>
                <a:lnTo>
                  <a:pt x="175" y="1161"/>
                </a:lnTo>
                <a:lnTo>
                  <a:pt x="199" y="1157"/>
                </a:lnTo>
                <a:lnTo>
                  <a:pt x="199" y="1157"/>
                </a:lnTo>
                <a:lnTo>
                  <a:pt x="199" y="1155"/>
                </a:lnTo>
                <a:lnTo>
                  <a:pt x="198" y="1153"/>
                </a:lnTo>
                <a:lnTo>
                  <a:pt x="198" y="1153"/>
                </a:lnTo>
                <a:lnTo>
                  <a:pt x="198" y="1151"/>
                </a:lnTo>
                <a:lnTo>
                  <a:pt x="198" y="1151"/>
                </a:lnTo>
                <a:lnTo>
                  <a:pt x="196" y="1149"/>
                </a:lnTo>
                <a:lnTo>
                  <a:pt x="196" y="1147"/>
                </a:lnTo>
                <a:lnTo>
                  <a:pt x="173" y="1151"/>
                </a:lnTo>
                <a:lnTo>
                  <a:pt x="144" y="1153"/>
                </a:lnTo>
                <a:lnTo>
                  <a:pt x="115" y="1153"/>
                </a:lnTo>
                <a:lnTo>
                  <a:pt x="84" y="1153"/>
                </a:lnTo>
                <a:lnTo>
                  <a:pt x="56" y="1151"/>
                </a:lnTo>
                <a:lnTo>
                  <a:pt x="27" y="1147"/>
                </a:lnTo>
                <a:lnTo>
                  <a:pt x="0" y="1141"/>
                </a:lnTo>
                <a:lnTo>
                  <a:pt x="0" y="1143"/>
                </a:lnTo>
                <a:lnTo>
                  <a:pt x="0" y="1145"/>
                </a:lnTo>
                <a:lnTo>
                  <a:pt x="0" y="1145"/>
                </a:lnTo>
                <a:lnTo>
                  <a:pt x="2" y="1147"/>
                </a:lnTo>
                <a:lnTo>
                  <a:pt x="2" y="1149"/>
                </a:lnTo>
                <a:lnTo>
                  <a:pt x="2" y="1149"/>
                </a:lnTo>
                <a:lnTo>
                  <a:pt x="2" y="1151"/>
                </a:lnTo>
                <a:lnTo>
                  <a:pt x="2" y="1153"/>
                </a:lnTo>
                <a:close/>
              </a:path>
            </a:pathLst>
          </a:custGeom>
          <a:solidFill>
            <a:srgbClr val="85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167"/>
          <p:cNvSpPr/>
          <p:nvPr/>
        </p:nvSpPr>
        <p:spPr>
          <a:xfrm>
            <a:off x="6943680" y="2381400"/>
            <a:ext cx="317520" cy="1833480"/>
          </a:xfrm>
          <a:custGeom>
            <a:avLst/>
            <a:gdLst>
              <a:gd name="textAreaLeft" fmla="*/ 0 w 317520"/>
              <a:gd name="textAreaRight" fmla="*/ 317880 w 317520"/>
              <a:gd name="textAreaTop" fmla="*/ 0 h 1833480"/>
              <a:gd name="textAreaBottom" fmla="*/ 1833840 h 1833480"/>
            </a:gdLst>
            <a:ahLst/>
            <a:rect l="textAreaLeft" t="textAreaTop" r="textAreaRight" b="textAreaBottom"/>
            <a:pathLst>
              <a:path w="200" h="1155">
                <a:moveTo>
                  <a:pt x="196" y="5"/>
                </a:moveTo>
                <a:lnTo>
                  <a:pt x="175" y="3"/>
                </a:lnTo>
                <a:lnTo>
                  <a:pt x="146" y="1"/>
                </a:lnTo>
                <a:lnTo>
                  <a:pt x="117" y="0"/>
                </a:lnTo>
                <a:lnTo>
                  <a:pt x="86" y="1"/>
                </a:lnTo>
                <a:lnTo>
                  <a:pt x="58" y="3"/>
                </a:lnTo>
                <a:lnTo>
                  <a:pt x="46" y="5"/>
                </a:lnTo>
                <a:lnTo>
                  <a:pt x="46" y="5"/>
                </a:lnTo>
                <a:lnTo>
                  <a:pt x="46" y="7"/>
                </a:lnTo>
                <a:lnTo>
                  <a:pt x="46" y="9"/>
                </a:lnTo>
                <a:lnTo>
                  <a:pt x="44" y="9"/>
                </a:lnTo>
                <a:lnTo>
                  <a:pt x="44" y="11"/>
                </a:lnTo>
                <a:lnTo>
                  <a:pt x="44" y="13"/>
                </a:lnTo>
                <a:lnTo>
                  <a:pt x="44" y="13"/>
                </a:lnTo>
                <a:lnTo>
                  <a:pt x="42" y="15"/>
                </a:lnTo>
                <a:lnTo>
                  <a:pt x="58" y="13"/>
                </a:lnTo>
                <a:lnTo>
                  <a:pt x="88" y="11"/>
                </a:lnTo>
                <a:lnTo>
                  <a:pt x="117" y="9"/>
                </a:lnTo>
                <a:lnTo>
                  <a:pt x="146" y="11"/>
                </a:lnTo>
                <a:lnTo>
                  <a:pt x="175" y="13"/>
                </a:lnTo>
                <a:lnTo>
                  <a:pt x="192" y="15"/>
                </a:lnTo>
                <a:lnTo>
                  <a:pt x="192" y="15"/>
                </a:lnTo>
                <a:lnTo>
                  <a:pt x="192" y="13"/>
                </a:lnTo>
                <a:lnTo>
                  <a:pt x="194" y="11"/>
                </a:lnTo>
                <a:lnTo>
                  <a:pt x="194" y="11"/>
                </a:lnTo>
                <a:lnTo>
                  <a:pt x="194" y="9"/>
                </a:lnTo>
                <a:lnTo>
                  <a:pt x="194" y="9"/>
                </a:lnTo>
                <a:lnTo>
                  <a:pt x="196" y="7"/>
                </a:lnTo>
                <a:lnTo>
                  <a:pt x="196" y="5"/>
                </a:lnTo>
                <a:close/>
                <a:moveTo>
                  <a:pt x="4" y="1143"/>
                </a:moveTo>
                <a:lnTo>
                  <a:pt x="29" y="1147"/>
                </a:lnTo>
                <a:lnTo>
                  <a:pt x="58" y="1151"/>
                </a:lnTo>
                <a:lnTo>
                  <a:pt x="86" y="1155"/>
                </a:lnTo>
                <a:lnTo>
                  <a:pt x="117" y="1155"/>
                </a:lnTo>
                <a:lnTo>
                  <a:pt x="146" y="1155"/>
                </a:lnTo>
                <a:lnTo>
                  <a:pt x="175" y="1151"/>
                </a:lnTo>
                <a:lnTo>
                  <a:pt x="200" y="1149"/>
                </a:lnTo>
                <a:lnTo>
                  <a:pt x="200" y="1147"/>
                </a:lnTo>
                <a:lnTo>
                  <a:pt x="200" y="1147"/>
                </a:lnTo>
                <a:lnTo>
                  <a:pt x="198" y="1145"/>
                </a:lnTo>
                <a:lnTo>
                  <a:pt x="198" y="1143"/>
                </a:lnTo>
                <a:lnTo>
                  <a:pt x="198" y="1143"/>
                </a:lnTo>
                <a:lnTo>
                  <a:pt x="198" y="1141"/>
                </a:lnTo>
                <a:lnTo>
                  <a:pt x="196" y="1141"/>
                </a:lnTo>
                <a:lnTo>
                  <a:pt x="196" y="1139"/>
                </a:lnTo>
                <a:lnTo>
                  <a:pt x="175" y="1141"/>
                </a:lnTo>
                <a:lnTo>
                  <a:pt x="146" y="1145"/>
                </a:lnTo>
                <a:lnTo>
                  <a:pt x="117" y="1145"/>
                </a:lnTo>
                <a:lnTo>
                  <a:pt x="88" y="1145"/>
                </a:lnTo>
                <a:lnTo>
                  <a:pt x="58" y="1141"/>
                </a:lnTo>
                <a:lnTo>
                  <a:pt x="31" y="1139"/>
                </a:lnTo>
                <a:lnTo>
                  <a:pt x="2" y="1134"/>
                </a:lnTo>
                <a:lnTo>
                  <a:pt x="0" y="1134"/>
                </a:lnTo>
                <a:lnTo>
                  <a:pt x="0" y="1134"/>
                </a:lnTo>
                <a:lnTo>
                  <a:pt x="0" y="1135"/>
                </a:lnTo>
                <a:lnTo>
                  <a:pt x="2" y="1137"/>
                </a:lnTo>
                <a:lnTo>
                  <a:pt x="2" y="1137"/>
                </a:lnTo>
                <a:lnTo>
                  <a:pt x="2" y="1139"/>
                </a:lnTo>
                <a:lnTo>
                  <a:pt x="2" y="1141"/>
                </a:lnTo>
                <a:lnTo>
                  <a:pt x="2" y="1141"/>
                </a:lnTo>
                <a:lnTo>
                  <a:pt x="4" y="1143"/>
                </a:lnTo>
                <a:close/>
              </a:path>
            </a:pathLst>
          </a:custGeom>
          <a:solidFill>
            <a:srgbClr val="86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68"/>
          <p:cNvSpPr/>
          <p:nvPr/>
        </p:nvSpPr>
        <p:spPr>
          <a:xfrm>
            <a:off x="6940440" y="2389320"/>
            <a:ext cx="317520" cy="1815840"/>
          </a:xfrm>
          <a:custGeom>
            <a:avLst/>
            <a:gdLst>
              <a:gd name="textAreaLeft" fmla="*/ 0 w 317520"/>
              <a:gd name="textAreaRight" fmla="*/ 317880 w 317520"/>
              <a:gd name="textAreaTop" fmla="*/ 0 h 1815840"/>
              <a:gd name="textAreaBottom" fmla="*/ 1816200 h 1815840"/>
            </a:gdLst>
            <a:ahLst/>
            <a:rect l="textAreaLeft" t="textAreaTop" r="textAreaRight" b="textAreaBottom"/>
            <a:pathLst>
              <a:path w="200" h="1144">
                <a:moveTo>
                  <a:pt x="196" y="6"/>
                </a:moveTo>
                <a:lnTo>
                  <a:pt x="177" y="2"/>
                </a:lnTo>
                <a:lnTo>
                  <a:pt x="148" y="0"/>
                </a:lnTo>
                <a:lnTo>
                  <a:pt x="119" y="0"/>
                </a:lnTo>
                <a:lnTo>
                  <a:pt x="88" y="0"/>
                </a:lnTo>
                <a:lnTo>
                  <a:pt x="60" y="2"/>
                </a:lnTo>
                <a:lnTo>
                  <a:pt x="46" y="4"/>
                </a:lnTo>
                <a:lnTo>
                  <a:pt x="46" y="6"/>
                </a:lnTo>
                <a:lnTo>
                  <a:pt x="46" y="8"/>
                </a:lnTo>
                <a:lnTo>
                  <a:pt x="46" y="8"/>
                </a:lnTo>
                <a:lnTo>
                  <a:pt x="44" y="10"/>
                </a:lnTo>
                <a:lnTo>
                  <a:pt x="44" y="12"/>
                </a:lnTo>
                <a:lnTo>
                  <a:pt x="44" y="12"/>
                </a:lnTo>
                <a:lnTo>
                  <a:pt x="44" y="14"/>
                </a:lnTo>
                <a:lnTo>
                  <a:pt x="42" y="16"/>
                </a:lnTo>
                <a:lnTo>
                  <a:pt x="61" y="12"/>
                </a:lnTo>
                <a:lnTo>
                  <a:pt x="90" y="10"/>
                </a:lnTo>
                <a:lnTo>
                  <a:pt x="119" y="10"/>
                </a:lnTo>
                <a:lnTo>
                  <a:pt x="148" y="10"/>
                </a:lnTo>
                <a:lnTo>
                  <a:pt x="177" y="12"/>
                </a:lnTo>
                <a:lnTo>
                  <a:pt x="192" y="14"/>
                </a:lnTo>
                <a:lnTo>
                  <a:pt x="192" y="14"/>
                </a:lnTo>
                <a:lnTo>
                  <a:pt x="194" y="12"/>
                </a:lnTo>
                <a:lnTo>
                  <a:pt x="194" y="12"/>
                </a:lnTo>
                <a:lnTo>
                  <a:pt x="194" y="10"/>
                </a:lnTo>
                <a:lnTo>
                  <a:pt x="194" y="10"/>
                </a:lnTo>
                <a:lnTo>
                  <a:pt x="194" y="8"/>
                </a:lnTo>
                <a:lnTo>
                  <a:pt x="196" y="6"/>
                </a:lnTo>
                <a:lnTo>
                  <a:pt x="196" y="6"/>
                </a:lnTo>
                <a:close/>
                <a:moveTo>
                  <a:pt x="4" y="1132"/>
                </a:moveTo>
                <a:lnTo>
                  <a:pt x="31" y="1138"/>
                </a:lnTo>
                <a:lnTo>
                  <a:pt x="60" y="1142"/>
                </a:lnTo>
                <a:lnTo>
                  <a:pt x="88" y="1144"/>
                </a:lnTo>
                <a:lnTo>
                  <a:pt x="119" y="1144"/>
                </a:lnTo>
                <a:lnTo>
                  <a:pt x="148" y="1144"/>
                </a:lnTo>
                <a:lnTo>
                  <a:pt x="177" y="1142"/>
                </a:lnTo>
                <a:lnTo>
                  <a:pt x="200" y="1138"/>
                </a:lnTo>
                <a:lnTo>
                  <a:pt x="200" y="1138"/>
                </a:lnTo>
                <a:lnTo>
                  <a:pt x="200" y="1136"/>
                </a:lnTo>
                <a:lnTo>
                  <a:pt x="198" y="1136"/>
                </a:lnTo>
                <a:lnTo>
                  <a:pt x="198" y="1134"/>
                </a:lnTo>
                <a:lnTo>
                  <a:pt x="198" y="1132"/>
                </a:lnTo>
                <a:lnTo>
                  <a:pt x="198" y="1132"/>
                </a:lnTo>
                <a:lnTo>
                  <a:pt x="196" y="1130"/>
                </a:lnTo>
                <a:lnTo>
                  <a:pt x="196" y="1130"/>
                </a:lnTo>
                <a:lnTo>
                  <a:pt x="177" y="1132"/>
                </a:lnTo>
                <a:lnTo>
                  <a:pt x="148" y="1134"/>
                </a:lnTo>
                <a:lnTo>
                  <a:pt x="119" y="1136"/>
                </a:lnTo>
                <a:lnTo>
                  <a:pt x="90" y="1134"/>
                </a:lnTo>
                <a:lnTo>
                  <a:pt x="61" y="1132"/>
                </a:lnTo>
                <a:lnTo>
                  <a:pt x="33" y="1129"/>
                </a:lnTo>
                <a:lnTo>
                  <a:pt x="6" y="1125"/>
                </a:lnTo>
                <a:lnTo>
                  <a:pt x="0" y="1123"/>
                </a:lnTo>
                <a:lnTo>
                  <a:pt x="0" y="1125"/>
                </a:lnTo>
                <a:lnTo>
                  <a:pt x="2" y="1125"/>
                </a:lnTo>
                <a:lnTo>
                  <a:pt x="2" y="1127"/>
                </a:lnTo>
                <a:lnTo>
                  <a:pt x="2" y="1129"/>
                </a:lnTo>
                <a:lnTo>
                  <a:pt x="2" y="1129"/>
                </a:lnTo>
                <a:lnTo>
                  <a:pt x="2" y="1130"/>
                </a:lnTo>
                <a:lnTo>
                  <a:pt x="4" y="1132"/>
                </a:lnTo>
                <a:lnTo>
                  <a:pt x="4" y="1132"/>
                </a:lnTo>
                <a:close/>
              </a:path>
            </a:pathLst>
          </a:custGeom>
          <a:solidFill>
            <a:srgbClr val="87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169"/>
          <p:cNvSpPr/>
          <p:nvPr/>
        </p:nvSpPr>
        <p:spPr>
          <a:xfrm>
            <a:off x="6937200" y="2395440"/>
            <a:ext cx="317520" cy="1803600"/>
          </a:xfrm>
          <a:custGeom>
            <a:avLst/>
            <a:gdLst>
              <a:gd name="textAreaLeft" fmla="*/ 0 w 317520"/>
              <a:gd name="textAreaRight" fmla="*/ 317880 w 317520"/>
              <a:gd name="textAreaTop" fmla="*/ 0 h 1803600"/>
              <a:gd name="textAreaBottom" fmla="*/ 1803960 h 1803600"/>
            </a:gdLst>
            <a:ahLst/>
            <a:rect l="textAreaLeft" t="textAreaTop" r="textAreaRight" b="textAreaBottom"/>
            <a:pathLst>
              <a:path w="200" h="1136">
                <a:moveTo>
                  <a:pt x="196" y="6"/>
                </a:moveTo>
                <a:lnTo>
                  <a:pt x="179" y="4"/>
                </a:lnTo>
                <a:lnTo>
                  <a:pt x="150" y="2"/>
                </a:lnTo>
                <a:lnTo>
                  <a:pt x="121" y="0"/>
                </a:lnTo>
                <a:lnTo>
                  <a:pt x="92" y="2"/>
                </a:lnTo>
                <a:lnTo>
                  <a:pt x="62" y="4"/>
                </a:lnTo>
                <a:lnTo>
                  <a:pt x="46" y="6"/>
                </a:lnTo>
                <a:lnTo>
                  <a:pt x="46" y="8"/>
                </a:lnTo>
                <a:lnTo>
                  <a:pt x="46" y="8"/>
                </a:lnTo>
                <a:lnTo>
                  <a:pt x="46" y="10"/>
                </a:lnTo>
                <a:lnTo>
                  <a:pt x="44" y="12"/>
                </a:lnTo>
                <a:lnTo>
                  <a:pt x="44" y="12"/>
                </a:lnTo>
                <a:lnTo>
                  <a:pt x="44" y="14"/>
                </a:lnTo>
                <a:lnTo>
                  <a:pt x="42" y="15"/>
                </a:lnTo>
                <a:lnTo>
                  <a:pt x="42" y="15"/>
                </a:lnTo>
                <a:lnTo>
                  <a:pt x="63" y="14"/>
                </a:lnTo>
                <a:lnTo>
                  <a:pt x="92" y="12"/>
                </a:lnTo>
                <a:lnTo>
                  <a:pt x="121" y="10"/>
                </a:lnTo>
                <a:lnTo>
                  <a:pt x="150" y="12"/>
                </a:lnTo>
                <a:lnTo>
                  <a:pt x="177" y="14"/>
                </a:lnTo>
                <a:lnTo>
                  <a:pt x="192" y="15"/>
                </a:lnTo>
                <a:lnTo>
                  <a:pt x="194" y="14"/>
                </a:lnTo>
                <a:lnTo>
                  <a:pt x="194" y="14"/>
                </a:lnTo>
                <a:lnTo>
                  <a:pt x="194" y="12"/>
                </a:lnTo>
                <a:lnTo>
                  <a:pt x="194" y="10"/>
                </a:lnTo>
                <a:lnTo>
                  <a:pt x="194" y="10"/>
                </a:lnTo>
                <a:lnTo>
                  <a:pt x="196" y="8"/>
                </a:lnTo>
                <a:lnTo>
                  <a:pt x="196" y="8"/>
                </a:lnTo>
                <a:lnTo>
                  <a:pt x="196" y="6"/>
                </a:lnTo>
                <a:close/>
                <a:moveTo>
                  <a:pt x="4" y="1125"/>
                </a:moveTo>
                <a:lnTo>
                  <a:pt x="6" y="1125"/>
                </a:lnTo>
                <a:lnTo>
                  <a:pt x="35" y="1130"/>
                </a:lnTo>
                <a:lnTo>
                  <a:pt x="62" y="1132"/>
                </a:lnTo>
                <a:lnTo>
                  <a:pt x="92" y="1136"/>
                </a:lnTo>
                <a:lnTo>
                  <a:pt x="121" y="1136"/>
                </a:lnTo>
                <a:lnTo>
                  <a:pt x="150" y="1136"/>
                </a:lnTo>
                <a:lnTo>
                  <a:pt x="179" y="1132"/>
                </a:lnTo>
                <a:lnTo>
                  <a:pt x="200" y="1130"/>
                </a:lnTo>
                <a:lnTo>
                  <a:pt x="200" y="1128"/>
                </a:lnTo>
                <a:lnTo>
                  <a:pt x="200" y="1128"/>
                </a:lnTo>
                <a:lnTo>
                  <a:pt x="198" y="1126"/>
                </a:lnTo>
                <a:lnTo>
                  <a:pt x="198" y="1126"/>
                </a:lnTo>
                <a:lnTo>
                  <a:pt x="198" y="1125"/>
                </a:lnTo>
                <a:lnTo>
                  <a:pt x="198" y="1125"/>
                </a:lnTo>
                <a:lnTo>
                  <a:pt x="196" y="1123"/>
                </a:lnTo>
                <a:lnTo>
                  <a:pt x="196" y="1121"/>
                </a:lnTo>
                <a:lnTo>
                  <a:pt x="177" y="1125"/>
                </a:lnTo>
                <a:lnTo>
                  <a:pt x="150" y="1126"/>
                </a:lnTo>
                <a:lnTo>
                  <a:pt x="121" y="1126"/>
                </a:lnTo>
                <a:lnTo>
                  <a:pt x="92" y="1126"/>
                </a:lnTo>
                <a:lnTo>
                  <a:pt x="63" y="1125"/>
                </a:lnTo>
                <a:lnTo>
                  <a:pt x="35" y="1121"/>
                </a:lnTo>
                <a:lnTo>
                  <a:pt x="8" y="1115"/>
                </a:lnTo>
                <a:lnTo>
                  <a:pt x="0" y="1113"/>
                </a:lnTo>
                <a:lnTo>
                  <a:pt x="2" y="1115"/>
                </a:lnTo>
                <a:lnTo>
                  <a:pt x="2" y="1117"/>
                </a:lnTo>
                <a:lnTo>
                  <a:pt x="2" y="1117"/>
                </a:lnTo>
                <a:lnTo>
                  <a:pt x="2" y="1119"/>
                </a:lnTo>
                <a:lnTo>
                  <a:pt x="2" y="1121"/>
                </a:lnTo>
                <a:lnTo>
                  <a:pt x="4" y="1121"/>
                </a:lnTo>
                <a:lnTo>
                  <a:pt x="4" y="1123"/>
                </a:lnTo>
                <a:lnTo>
                  <a:pt x="4" y="1125"/>
                </a:lnTo>
                <a:close/>
              </a:path>
            </a:pathLst>
          </a:custGeom>
          <a:solidFill>
            <a:srgbClr val="88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170"/>
          <p:cNvSpPr/>
          <p:nvPr/>
        </p:nvSpPr>
        <p:spPr>
          <a:xfrm>
            <a:off x="6937200" y="2405160"/>
            <a:ext cx="314640" cy="1787400"/>
          </a:xfrm>
          <a:custGeom>
            <a:avLst/>
            <a:gdLst>
              <a:gd name="textAreaLeft" fmla="*/ 0 w 314640"/>
              <a:gd name="textAreaRight" fmla="*/ 315000 w 31464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198" h="1126">
                <a:moveTo>
                  <a:pt x="194" y="4"/>
                </a:moveTo>
                <a:lnTo>
                  <a:pt x="179" y="2"/>
                </a:lnTo>
                <a:lnTo>
                  <a:pt x="150" y="0"/>
                </a:lnTo>
                <a:lnTo>
                  <a:pt x="121" y="0"/>
                </a:lnTo>
                <a:lnTo>
                  <a:pt x="92" y="0"/>
                </a:lnTo>
                <a:lnTo>
                  <a:pt x="63" y="2"/>
                </a:lnTo>
                <a:lnTo>
                  <a:pt x="44" y="6"/>
                </a:lnTo>
                <a:lnTo>
                  <a:pt x="44" y="6"/>
                </a:lnTo>
                <a:lnTo>
                  <a:pt x="44" y="8"/>
                </a:lnTo>
                <a:lnTo>
                  <a:pt x="42" y="9"/>
                </a:lnTo>
                <a:lnTo>
                  <a:pt x="42" y="9"/>
                </a:lnTo>
                <a:lnTo>
                  <a:pt x="42" y="11"/>
                </a:lnTo>
                <a:lnTo>
                  <a:pt x="42" y="13"/>
                </a:lnTo>
                <a:lnTo>
                  <a:pt x="40" y="13"/>
                </a:lnTo>
                <a:lnTo>
                  <a:pt x="40" y="15"/>
                </a:lnTo>
                <a:lnTo>
                  <a:pt x="63" y="11"/>
                </a:lnTo>
                <a:lnTo>
                  <a:pt x="92" y="9"/>
                </a:lnTo>
                <a:lnTo>
                  <a:pt x="121" y="9"/>
                </a:lnTo>
                <a:lnTo>
                  <a:pt x="150" y="9"/>
                </a:lnTo>
                <a:lnTo>
                  <a:pt x="177" y="11"/>
                </a:lnTo>
                <a:lnTo>
                  <a:pt x="190" y="13"/>
                </a:lnTo>
                <a:lnTo>
                  <a:pt x="192" y="13"/>
                </a:lnTo>
                <a:lnTo>
                  <a:pt x="192" y="11"/>
                </a:lnTo>
                <a:lnTo>
                  <a:pt x="192" y="9"/>
                </a:lnTo>
                <a:lnTo>
                  <a:pt x="192" y="9"/>
                </a:lnTo>
                <a:lnTo>
                  <a:pt x="192" y="8"/>
                </a:lnTo>
                <a:lnTo>
                  <a:pt x="194" y="8"/>
                </a:lnTo>
                <a:lnTo>
                  <a:pt x="194" y="6"/>
                </a:lnTo>
                <a:lnTo>
                  <a:pt x="194" y="4"/>
                </a:lnTo>
                <a:close/>
                <a:moveTo>
                  <a:pt x="2" y="1113"/>
                </a:moveTo>
                <a:lnTo>
                  <a:pt x="8" y="1115"/>
                </a:lnTo>
                <a:lnTo>
                  <a:pt x="35" y="1119"/>
                </a:lnTo>
                <a:lnTo>
                  <a:pt x="63" y="1122"/>
                </a:lnTo>
                <a:lnTo>
                  <a:pt x="92" y="1124"/>
                </a:lnTo>
                <a:lnTo>
                  <a:pt x="121" y="1126"/>
                </a:lnTo>
                <a:lnTo>
                  <a:pt x="150" y="1124"/>
                </a:lnTo>
                <a:lnTo>
                  <a:pt x="179" y="1122"/>
                </a:lnTo>
                <a:lnTo>
                  <a:pt x="198" y="1120"/>
                </a:lnTo>
                <a:lnTo>
                  <a:pt x="198" y="1119"/>
                </a:lnTo>
                <a:lnTo>
                  <a:pt x="198" y="1119"/>
                </a:lnTo>
                <a:lnTo>
                  <a:pt x="196" y="1117"/>
                </a:lnTo>
                <a:lnTo>
                  <a:pt x="196" y="1115"/>
                </a:lnTo>
                <a:lnTo>
                  <a:pt x="196" y="1115"/>
                </a:lnTo>
                <a:lnTo>
                  <a:pt x="196" y="1113"/>
                </a:lnTo>
                <a:lnTo>
                  <a:pt x="196" y="1113"/>
                </a:lnTo>
                <a:lnTo>
                  <a:pt x="194" y="1111"/>
                </a:lnTo>
                <a:lnTo>
                  <a:pt x="177" y="1113"/>
                </a:lnTo>
                <a:lnTo>
                  <a:pt x="150" y="1115"/>
                </a:lnTo>
                <a:lnTo>
                  <a:pt x="121" y="1117"/>
                </a:lnTo>
                <a:lnTo>
                  <a:pt x="92" y="1115"/>
                </a:lnTo>
                <a:lnTo>
                  <a:pt x="63" y="1113"/>
                </a:lnTo>
                <a:lnTo>
                  <a:pt x="37" y="1109"/>
                </a:lnTo>
                <a:lnTo>
                  <a:pt x="10" y="1105"/>
                </a:lnTo>
                <a:lnTo>
                  <a:pt x="0" y="1103"/>
                </a:lnTo>
                <a:lnTo>
                  <a:pt x="0" y="1103"/>
                </a:lnTo>
                <a:lnTo>
                  <a:pt x="0" y="1105"/>
                </a:lnTo>
                <a:lnTo>
                  <a:pt x="0" y="1107"/>
                </a:lnTo>
                <a:lnTo>
                  <a:pt x="0" y="1107"/>
                </a:lnTo>
                <a:lnTo>
                  <a:pt x="2" y="1109"/>
                </a:lnTo>
                <a:lnTo>
                  <a:pt x="2" y="1111"/>
                </a:lnTo>
                <a:lnTo>
                  <a:pt x="2" y="1111"/>
                </a:lnTo>
                <a:lnTo>
                  <a:pt x="2" y="1113"/>
                </a:lnTo>
                <a:close/>
              </a:path>
            </a:pathLst>
          </a:custGeom>
          <a:solidFill>
            <a:srgbClr val="89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171"/>
          <p:cNvSpPr/>
          <p:nvPr/>
        </p:nvSpPr>
        <p:spPr>
          <a:xfrm>
            <a:off x="6934320" y="2411280"/>
            <a:ext cx="314280" cy="1771920"/>
          </a:xfrm>
          <a:custGeom>
            <a:avLst/>
            <a:gdLst>
              <a:gd name="textAreaLeft" fmla="*/ 0 w 314280"/>
              <a:gd name="textAreaRight" fmla="*/ 314640 w 314280"/>
              <a:gd name="textAreaTop" fmla="*/ 0 h 1771920"/>
              <a:gd name="textAreaBottom" fmla="*/ 1772280 h 1771920"/>
            </a:gdLst>
            <a:ahLst/>
            <a:rect l="textAreaLeft" t="textAreaTop" r="textAreaRight" b="textAreaBottom"/>
            <a:pathLst>
              <a:path w="198" h="1116">
                <a:moveTo>
                  <a:pt x="194" y="5"/>
                </a:moveTo>
                <a:lnTo>
                  <a:pt x="179" y="4"/>
                </a:lnTo>
                <a:lnTo>
                  <a:pt x="152" y="2"/>
                </a:lnTo>
                <a:lnTo>
                  <a:pt x="123" y="0"/>
                </a:lnTo>
                <a:lnTo>
                  <a:pt x="94" y="2"/>
                </a:lnTo>
                <a:lnTo>
                  <a:pt x="65" y="4"/>
                </a:lnTo>
                <a:lnTo>
                  <a:pt x="44" y="5"/>
                </a:lnTo>
                <a:lnTo>
                  <a:pt x="44" y="7"/>
                </a:lnTo>
                <a:lnTo>
                  <a:pt x="44" y="9"/>
                </a:lnTo>
                <a:lnTo>
                  <a:pt x="42" y="9"/>
                </a:lnTo>
                <a:lnTo>
                  <a:pt x="42" y="11"/>
                </a:lnTo>
                <a:lnTo>
                  <a:pt x="42" y="11"/>
                </a:lnTo>
                <a:lnTo>
                  <a:pt x="42" y="13"/>
                </a:lnTo>
                <a:lnTo>
                  <a:pt x="40" y="15"/>
                </a:lnTo>
                <a:lnTo>
                  <a:pt x="40" y="15"/>
                </a:lnTo>
                <a:lnTo>
                  <a:pt x="67" y="13"/>
                </a:lnTo>
                <a:lnTo>
                  <a:pt x="94" y="11"/>
                </a:lnTo>
                <a:lnTo>
                  <a:pt x="123" y="9"/>
                </a:lnTo>
                <a:lnTo>
                  <a:pt x="150" y="11"/>
                </a:lnTo>
                <a:lnTo>
                  <a:pt x="179" y="13"/>
                </a:lnTo>
                <a:lnTo>
                  <a:pt x="192" y="15"/>
                </a:lnTo>
                <a:lnTo>
                  <a:pt x="192" y="13"/>
                </a:lnTo>
                <a:lnTo>
                  <a:pt x="192" y="11"/>
                </a:lnTo>
                <a:lnTo>
                  <a:pt x="192" y="11"/>
                </a:lnTo>
                <a:lnTo>
                  <a:pt x="192" y="9"/>
                </a:lnTo>
                <a:lnTo>
                  <a:pt x="194" y="9"/>
                </a:lnTo>
                <a:lnTo>
                  <a:pt x="194" y="7"/>
                </a:lnTo>
                <a:lnTo>
                  <a:pt x="194" y="5"/>
                </a:lnTo>
                <a:lnTo>
                  <a:pt x="194" y="5"/>
                </a:lnTo>
                <a:close/>
                <a:moveTo>
                  <a:pt x="2" y="1103"/>
                </a:moveTo>
                <a:lnTo>
                  <a:pt x="10" y="1105"/>
                </a:lnTo>
                <a:lnTo>
                  <a:pt x="37" y="1111"/>
                </a:lnTo>
                <a:lnTo>
                  <a:pt x="65" y="1115"/>
                </a:lnTo>
                <a:lnTo>
                  <a:pt x="94" y="1116"/>
                </a:lnTo>
                <a:lnTo>
                  <a:pt x="123" y="1116"/>
                </a:lnTo>
                <a:lnTo>
                  <a:pt x="152" y="1116"/>
                </a:lnTo>
                <a:lnTo>
                  <a:pt x="179" y="1115"/>
                </a:lnTo>
                <a:lnTo>
                  <a:pt x="198" y="1111"/>
                </a:lnTo>
                <a:lnTo>
                  <a:pt x="198" y="1111"/>
                </a:lnTo>
                <a:lnTo>
                  <a:pt x="198" y="1109"/>
                </a:lnTo>
                <a:lnTo>
                  <a:pt x="198" y="1109"/>
                </a:lnTo>
                <a:lnTo>
                  <a:pt x="196" y="1107"/>
                </a:lnTo>
                <a:lnTo>
                  <a:pt x="196" y="1105"/>
                </a:lnTo>
                <a:lnTo>
                  <a:pt x="196" y="1105"/>
                </a:lnTo>
                <a:lnTo>
                  <a:pt x="196" y="1103"/>
                </a:lnTo>
                <a:lnTo>
                  <a:pt x="194" y="1103"/>
                </a:lnTo>
                <a:lnTo>
                  <a:pt x="179" y="1105"/>
                </a:lnTo>
                <a:lnTo>
                  <a:pt x="150" y="1107"/>
                </a:lnTo>
                <a:lnTo>
                  <a:pt x="123" y="1107"/>
                </a:lnTo>
                <a:lnTo>
                  <a:pt x="94" y="1107"/>
                </a:lnTo>
                <a:lnTo>
                  <a:pt x="67" y="1105"/>
                </a:lnTo>
                <a:lnTo>
                  <a:pt x="39" y="1101"/>
                </a:lnTo>
                <a:lnTo>
                  <a:pt x="12" y="1095"/>
                </a:lnTo>
                <a:lnTo>
                  <a:pt x="0" y="1093"/>
                </a:lnTo>
                <a:lnTo>
                  <a:pt x="0" y="1095"/>
                </a:lnTo>
                <a:lnTo>
                  <a:pt x="0" y="1095"/>
                </a:lnTo>
                <a:lnTo>
                  <a:pt x="0" y="1097"/>
                </a:lnTo>
                <a:lnTo>
                  <a:pt x="2" y="1099"/>
                </a:lnTo>
                <a:lnTo>
                  <a:pt x="2" y="1099"/>
                </a:lnTo>
                <a:lnTo>
                  <a:pt x="2" y="1101"/>
                </a:lnTo>
                <a:lnTo>
                  <a:pt x="2" y="1103"/>
                </a:lnTo>
                <a:lnTo>
                  <a:pt x="2" y="1103"/>
                </a:lnTo>
                <a:close/>
              </a:path>
            </a:pathLst>
          </a:custGeom>
          <a:solidFill>
            <a:srgbClr val="8a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72"/>
          <p:cNvSpPr/>
          <p:nvPr/>
        </p:nvSpPr>
        <p:spPr>
          <a:xfrm>
            <a:off x="6931080" y="2419200"/>
            <a:ext cx="314280" cy="1758960"/>
          </a:xfrm>
          <a:custGeom>
            <a:avLst/>
            <a:gdLst>
              <a:gd name="textAreaLeft" fmla="*/ 0 w 314280"/>
              <a:gd name="textAreaRight" fmla="*/ 314640 w 314280"/>
              <a:gd name="textAreaTop" fmla="*/ 0 h 1758960"/>
              <a:gd name="textAreaBottom" fmla="*/ 1759320 h 1758960"/>
            </a:gdLst>
            <a:ahLst/>
            <a:rect l="textAreaLeft" t="textAreaTop" r="textAreaRight" b="textAreaBottom"/>
            <a:pathLst>
              <a:path w="198" h="1108">
                <a:moveTo>
                  <a:pt x="194" y="4"/>
                </a:moveTo>
                <a:lnTo>
                  <a:pt x="181" y="2"/>
                </a:lnTo>
                <a:lnTo>
                  <a:pt x="154" y="0"/>
                </a:lnTo>
                <a:lnTo>
                  <a:pt x="125" y="0"/>
                </a:lnTo>
                <a:lnTo>
                  <a:pt x="96" y="0"/>
                </a:lnTo>
                <a:lnTo>
                  <a:pt x="67" y="2"/>
                </a:lnTo>
                <a:lnTo>
                  <a:pt x="44" y="6"/>
                </a:lnTo>
                <a:lnTo>
                  <a:pt x="44" y="8"/>
                </a:lnTo>
                <a:lnTo>
                  <a:pt x="44" y="8"/>
                </a:lnTo>
                <a:lnTo>
                  <a:pt x="42" y="10"/>
                </a:lnTo>
                <a:lnTo>
                  <a:pt x="42" y="10"/>
                </a:lnTo>
                <a:lnTo>
                  <a:pt x="42" y="12"/>
                </a:lnTo>
                <a:lnTo>
                  <a:pt x="42" y="14"/>
                </a:lnTo>
                <a:lnTo>
                  <a:pt x="41" y="14"/>
                </a:lnTo>
                <a:lnTo>
                  <a:pt x="41" y="16"/>
                </a:lnTo>
                <a:lnTo>
                  <a:pt x="42" y="16"/>
                </a:lnTo>
                <a:lnTo>
                  <a:pt x="69" y="12"/>
                </a:lnTo>
                <a:lnTo>
                  <a:pt x="96" y="10"/>
                </a:lnTo>
                <a:lnTo>
                  <a:pt x="125" y="10"/>
                </a:lnTo>
                <a:lnTo>
                  <a:pt x="152" y="10"/>
                </a:lnTo>
                <a:lnTo>
                  <a:pt x="181" y="12"/>
                </a:lnTo>
                <a:lnTo>
                  <a:pt x="192" y="14"/>
                </a:lnTo>
                <a:lnTo>
                  <a:pt x="192" y="12"/>
                </a:lnTo>
                <a:lnTo>
                  <a:pt x="192" y="12"/>
                </a:lnTo>
                <a:lnTo>
                  <a:pt x="192" y="10"/>
                </a:lnTo>
                <a:lnTo>
                  <a:pt x="194" y="10"/>
                </a:lnTo>
                <a:lnTo>
                  <a:pt x="194" y="8"/>
                </a:lnTo>
                <a:lnTo>
                  <a:pt x="194" y="6"/>
                </a:lnTo>
                <a:lnTo>
                  <a:pt x="194" y="6"/>
                </a:lnTo>
                <a:lnTo>
                  <a:pt x="194" y="4"/>
                </a:lnTo>
                <a:close/>
                <a:moveTo>
                  <a:pt x="4" y="1094"/>
                </a:moveTo>
                <a:lnTo>
                  <a:pt x="14" y="1096"/>
                </a:lnTo>
                <a:lnTo>
                  <a:pt x="41" y="1100"/>
                </a:lnTo>
                <a:lnTo>
                  <a:pt x="67" y="1104"/>
                </a:lnTo>
                <a:lnTo>
                  <a:pt x="96" y="1106"/>
                </a:lnTo>
                <a:lnTo>
                  <a:pt x="125" y="1108"/>
                </a:lnTo>
                <a:lnTo>
                  <a:pt x="154" y="1106"/>
                </a:lnTo>
                <a:lnTo>
                  <a:pt x="181" y="1104"/>
                </a:lnTo>
                <a:lnTo>
                  <a:pt x="198" y="1102"/>
                </a:lnTo>
                <a:lnTo>
                  <a:pt x="198" y="1100"/>
                </a:lnTo>
                <a:lnTo>
                  <a:pt x="198" y="1100"/>
                </a:lnTo>
                <a:lnTo>
                  <a:pt x="198" y="1098"/>
                </a:lnTo>
                <a:lnTo>
                  <a:pt x="196" y="1098"/>
                </a:lnTo>
                <a:lnTo>
                  <a:pt x="196" y="1096"/>
                </a:lnTo>
                <a:lnTo>
                  <a:pt x="196" y="1094"/>
                </a:lnTo>
                <a:lnTo>
                  <a:pt x="196" y="1094"/>
                </a:lnTo>
                <a:lnTo>
                  <a:pt x="196" y="1092"/>
                </a:lnTo>
                <a:lnTo>
                  <a:pt x="181" y="1094"/>
                </a:lnTo>
                <a:lnTo>
                  <a:pt x="152" y="1096"/>
                </a:lnTo>
                <a:lnTo>
                  <a:pt x="125" y="1098"/>
                </a:lnTo>
                <a:lnTo>
                  <a:pt x="96" y="1096"/>
                </a:lnTo>
                <a:lnTo>
                  <a:pt x="69" y="1094"/>
                </a:lnTo>
                <a:lnTo>
                  <a:pt x="42" y="1090"/>
                </a:lnTo>
                <a:lnTo>
                  <a:pt x="16" y="1087"/>
                </a:lnTo>
                <a:lnTo>
                  <a:pt x="0" y="1083"/>
                </a:lnTo>
                <a:lnTo>
                  <a:pt x="0" y="1085"/>
                </a:lnTo>
                <a:lnTo>
                  <a:pt x="0" y="1087"/>
                </a:lnTo>
                <a:lnTo>
                  <a:pt x="2" y="1087"/>
                </a:lnTo>
                <a:lnTo>
                  <a:pt x="2" y="1088"/>
                </a:lnTo>
                <a:lnTo>
                  <a:pt x="2" y="1090"/>
                </a:lnTo>
                <a:lnTo>
                  <a:pt x="2" y="1090"/>
                </a:lnTo>
                <a:lnTo>
                  <a:pt x="2" y="1092"/>
                </a:lnTo>
                <a:lnTo>
                  <a:pt x="4" y="1094"/>
                </a:lnTo>
                <a:close/>
              </a:path>
            </a:pathLst>
          </a:custGeom>
          <a:solidFill>
            <a:srgbClr val="8b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173"/>
          <p:cNvSpPr/>
          <p:nvPr/>
        </p:nvSpPr>
        <p:spPr>
          <a:xfrm>
            <a:off x="6927840" y="2425680"/>
            <a:ext cx="314280" cy="1743120"/>
          </a:xfrm>
          <a:custGeom>
            <a:avLst/>
            <a:gdLst>
              <a:gd name="textAreaLeft" fmla="*/ 0 w 314280"/>
              <a:gd name="textAreaRight" fmla="*/ 314640 w 31428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198" h="1098">
                <a:moveTo>
                  <a:pt x="196" y="6"/>
                </a:moveTo>
                <a:lnTo>
                  <a:pt x="183" y="4"/>
                </a:lnTo>
                <a:lnTo>
                  <a:pt x="154" y="2"/>
                </a:lnTo>
                <a:lnTo>
                  <a:pt x="127" y="0"/>
                </a:lnTo>
                <a:lnTo>
                  <a:pt x="98" y="2"/>
                </a:lnTo>
                <a:lnTo>
                  <a:pt x="71" y="4"/>
                </a:lnTo>
                <a:lnTo>
                  <a:pt x="44" y="6"/>
                </a:lnTo>
                <a:lnTo>
                  <a:pt x="44" y="8"/>
                </a:lnTo>
                <a:lnTo>
                  <a:pt x="44" y="10"/>
                </a:lnTo>
                <a:lnTo>
                  <a:pt x="43" y="10"/>
                </a:lnTo>
                <a:lnTo>
                  <a:pt x="43" y="12"/>
                </a:lnTo>
                <a:lnTo>
                  <a:pt x="43" y="14"/>
                </a:lnTo>
                <a:lnTo>
                  <a:pt x="43" y="14"/>
                </a:lnTo>
                <a:lnTo>
                  <a:pt x="41" y="16"/>
                </a:lnTo>
                <a:lnTo>
                  <a:pt x="41" y="18"/>
                </a:lnTo>
                <a:lnTo>
                  <a:pt x="44" y="16"/>
                </a:lnTo>
                <a:lnTo>
                  <a:pt x="71" y="14"/>
                </a:lnTo>
                <a:lnTo>
                  <a:pt x="98" y="12"/>
                </a:lnTo>
                <a:lnTo>
                  <a:pt x="127" y="10"/>
                </a:lnTo>
                <a:lnTo>
                  <a:pt x="154" y="12"/>
                </a:lnTo>
                <a:lnTo>
                  <a:pt x="181" y="14"/>
                </a:lnTo>
                <a:lnTo>
                  <a:pt x="192" y="14"/>
                </a:lnTo>
                <a:lnTo>
                  <a:pt x="192" y="14"/>
                </a:lnTo>
                <a:lnTo>
                  <a:pt x="192" y="12"/>
                </a:lnTo>
                <a:lnTo>
                  <a:pt x="194" y="12"/>
                </a:lnTo>
                <a:lnTo>
                  <a:pt x="194" y="10"/>
                </a:lnTo>
                <a:lnTo>
                  <a:pt x="194" y="8"/>
                </a:lnTo>
                <a:lnTo>
                  <a:pt x="194" y="8"/>
                </a:lnTo>
                <a:lnTo>
                  <a:pt x="194" y="6"/>
                </a:lnTo>
                <a:lnTo>
                  <a:pt x="196" y="6"/>
                </a:lnTo>
                <a:close/>
                <a:moveTo>
                  <a:pt x="4" y="1084"/>
                </a:moveTo>
                <a:lnTo>
                  <a:pt x="16" y="1086"/>
                </a:lnTo>
                <a:lnTo>
                  <a:pt x="43" y="1092"/>
                </a:lnTo>
                <a:lnTo>
                  <a:pt x="71" y="1096"/>
                </a:lnTo>
                <a:lnTo>
                  <a:pt x="98" y="1098"/>
                </a:lnTo>
                <a:lnTo>
                  <a:pt x="127" y="1098"/>
                </a:lnTo>
                <a:lnTo>
                  <a:pt x="154" y="1098"/>
                </a:lnTo>
                <a:lnTo>
                  <a:pt x="183" y="1096"/>
                </a:lnTo>
                <a:lnTo>
                  <a:pt x="198" y="1094"/>
                </a:lnTo>
                <a:lnTo>
                  <a:pt x="198" y="1092"/>
                </a:lnTo>
                <a:lnTo>
                  <a:pt x="198" y="1090"/>
                </a:lnTo>
                <a:lnTo>
                  <a:pt x="198" y="1090"/>
                </a:lnTo>
                <a:lnTo>
                  <a:pt x="196" y="1088"/>
                </a:lnTo>
                <a:lnTo>
                  <a:pt x="196" y="1088"/>
                </a:lnTo>
                <a:lnTo>
                  <a:pt x="196" y="1086"/>
                </a:lnTo>
                <a:lnTo>
                  <a:pt x="196" y="1084"/>
                </a:lnTo>
                <a:lnTo>
                  <a:pt x="196" y="1084"/>
                </a:lnTo>
                <a:lnTo>
                  <a:pt x="181" y="1086"/>
                </a:lnTo>
                <a:lnTo>
                  <a:pt x="154" y="1088"/>
                </a:lnTo>
                <a:lnTo>
                  <a:pt x="127" y="1088"/>
                </a:lnTo>
                <a:lnTo>
                  <a:pt x="98" y="1088"/>
                </a:lnTo>
                <a:lnTo>
                  <a:pt x="71" y="1086"/>
                </a:lnTo>
                <a:lnTo>
                  <a:pt x="44" y="1083"/>
                </a:lnTo>
                <a:lnTo>
                  <a:pt x="18" y="1079"/>
                </a:lnTo>
                <a:lnTo>
                  <a:pt x="0" y="1073"/>
                </a:lnTo>
                <a:lnTo>
                  <a:pt x="2" y="1075"/>
                </a:lnTo>
                <a:lnTo>
                  <a:pt x="2" y="1077"/>
                </a:lnTo>
                <a:lnTo>
                  <a:pt x="2" y="1079"/>
                </a:lnTo>
                <a:lnTo>
                  <a:pt x="2" y="1079"/>
                </a:lnTo>
                <a:lnTo>
                  <a:pt x="2" y="1081"/>
                </a:lnTo>
                <a:lnTo>
                  <a:pt x="2" y="1083"/>
                </a:lnTo>
                <a:lnTo>
                  <a:pt x="4" y="1083"/>
                </a:lnTo>
                <a:lnTo>
                  <a:pt x="4" y="1084"/>
                </a:lnTo>
                <a:close/>
              </a:path>
            </a:pathLst>
          </a:custGeom>
          <a:solidFill>
            <a:srgbClr val="8c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174"/>
          <p:cNvSpPr/>
          <p:nvPr/>
        </p:nvSpPr>
        <p:spPr>
          <a:xfrm>
            <a:off x="6927840" y="2435400"/>
            <a:ext cx="314280" cy="1726920"/>
          </a:xfrm>
          <a:custGeom>
            <a:avLst/>
            <a:gdLst>
              <a:gd name="textAreaLeft" fmla="*/ 0 w 314280"/>
              <a:gd name="textAreaRight" fmla="*/ 314640 w 31428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198" h="1088">
                <a:moveTo>
                  <a:pt x="194" y="4"/>
                </a:moveTo>
                <a:lnTo>
                  <a:pt x="183" y="2"/>
                </a:lnTo>
                <a:lnTo>
                  <a:pt x="154" y="0"/>
                </a:lnTo>
                <a:lnTo>
                  <a:pt x="127" y="0"/>
                </a:lnTo>
                <a:lnTo>
                  <a:pt x="98" y="0"/>
                </a:lnTo>
                <a:lnTo>
                  <a:pt x="71" y="2"/>
                </a:lnTo>
                <a:lnTo>
                  <a:pt x="44" y="6"/>
                </a:lnTo>
                <a:lnTo>
                  <a:pt x="43" y="6"/>
                </a:lnTo>
                <a:lnTo>
                  <a:pt x="43" y="8"/>
                </a:lnTo>
                <a:lnTo>
                  <a:pt x="43" y="8"/>
                </a:lnTo>
                <a:lnTo>
                  <a:pt x="41" y="10"/>
                </a:lnTo>
                <a:lnTo>
                  <a:pt x="41" y="12"/>
                </a:lnTo>
                <a:lnTo>
                  <a:pt x="41" y="12"/>
                </a:lnTo>
                <a:lnTo>
                  <a:pt x="41" y="14"/>
                </a:lnTo>
                <a:lnTo>
                  <a:pt x="39" y="15"/>
                </a:lnTo>
                <a:lnTo>
                  <a:pt x="39" y="15"/>
                </a:lnTo>
                <a:lnTo>
                  <a:pt x="44" y="15"/>
                </a:lnTo>
                <a:lnTo>
                  <a:pt x="71" y="12"/>
                </a:lnTo>
                <a:lnTo>
                  <a:pt x="98" y="10"/>
                </a:lnTo>
                <a:lnTo>
                  <a:pt x="127" y="10"/>
                </a:lnTo>
                <a:lnTo>
                  <a:pt x="154" y="10"/>
                </a:lnTo>
                <a:lnTo>
                  <a:pt x="181" y="12"/>
                </a:lnTo>
                <a:lnTo>
                  <a:pt x="190" y="14"/>
                </a:lnTo>
                <a:lnTo>
                  <a:pt x="190" y="12"/>
                </a:lnTo>
                <a:lnTo>
                  <a:pt x="192" y="12"/>
                </a:lnTo>
                <a:lnTo>
                  <a:pt x="192" y="10"/>
                </a:lnTo>
                <a:lnTo>
                  <a:pt x="192" y="8"/>
                </a:lnTo>
                <a:lnTo>
                  <a:pt x="192" y="8"/>
                </a:lnTo>
                <a:lnTo>
                  <a:pt x="192" y="6"/>
                </a:lnTo>
                <a:lnTo>
                  <a:pt x="194" y="6"/>
                </a:lnTo>
                <a:lnTo>
                  <a:pt x="194" y="4"/>
                </a:lnTo>
                <a:close/>
                <a:moveTo>
                  <a:pt x="2" y="1073"/>
                </a:moveTo>
                <a:lnTo>
                  <a:pt x="18" y="1077"/>
                </a:lnTo>
                <a:lnTo>
                  <a:pt x="44" y="1080"/>
                </a:lnTo>
                <a:lnTo>
                  <a:pt x="71" y="1084"/>
                </a:lnTo>
                <a:lnTo>
                  <a:pt x="98" y="1086"/>
                </a:lnTo>
                <a:lnTo>
                  <a:pt x="127" y="1088"/>
                </a:lnTo>
                <a:lnTo>
                  <a:pt x="154" y="1086"/>
                </a:lnTo>
                <a:lnTo>
                  <a:pt x="183" y="1084"/>
                </a:lnTo>
                <a:lnTo>
                  <a:pt x="198" y="1082"/>
                </a:lnTo>
                <a:lnTo>
                  <a:pt x="196" y="1082"/>
                </a:lnTo>
                <a:lnTo>
                  <a:pt x="196" y="1080"/>
                </a:lnTo>
                <a:lnTo>
                  <a:pt x="196" y="1078"/>
                </a:lnTo>
                <a:lnTo>
                  <a:pt x="196" y="1078"/>
                </a:lnTo>
                <a:lnTo>
                  <a:pt x="194" y="1077"/>
                </a:lnTo>
                <a:lnTo>
                  <a:pt x="194" y="1077"/>
                </a:lnTo>
                <a:lnTo>
                  <a:pt x="194" y="1075"/>
                </a:lnTo>
                <a:lnTo>
                  <a:pt x="194" y="1073"/>
                </a:lnTo>
                <a:lnTo>
                  <a:pt x="181" y="1075"/>
                </a:lnTo>
                <a:lnTo>
                  <a:pt x="154" y="1077"/>
                </a:lnTo>
                <a:lnTo>
                  <a:pt x="127" y="1078"/>
                </a:lnTo>
                <a:lnTo>
                  <a:pt x="98" y="1077"/>
                </a:lnTo>
                <a:lnTo>
                  <a:pt x="71" y="1075"/>
                </a:lnTo>
                <a:lnTo>
                  <a:pt x="44" y="1073"/>
                </a:lnTo>
                <a:lnTo>
                  <a:pt x="20" y="1067"/>
                </a:lnTo>
                <a:lnTo>
                  <a:pt x="0" y="1063"/>
                </a:lnTo>
                <a:lnTo>
                  <a:pt x="0" y="1063"/>
                </a:lnTo>
                <a:lnTo>
                  <a:pt x="0" y="1065"/>
                </a:lnTo>
                <a:lnTo>
                  <a:pt x="0" y="1067"/>
                </a:lnTo>
                <a:lnTo>
                  <a:pt x="0" y="1067"/>
                </a:lnTo>
                <a:lnTo>
                  <a:pt x="2" y="1069"/>
                </a:lnTo>
                <a:lnTo>
                  <a:pt x="2" y="1071"/>
                </a:lnTo>
                <a:lnTo>
                  <a:pt x="2" y="1073"/>
                </a:lnTo>
                <a:lnTo>
                  <a:pt x="2" y="1073"/>
                </a:lnTo>
                <a:close/>
              </a:path>
            </a:pathLst>
          </a:custGeom>
          <a:solidFill>
            <a:srgbClr val="8d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reeform 175"/>
          <p:cNvSpPr/>
          <p:nvPr/>
        </p:nvSpPr>
        <p:spPr>
          <a:xfrm>
            <a:off x="6924600" y="2441520"/>
            <a:ext cx="314280" cy="1711440"/>
          </a:xfrm>
          <a:custGeom>
            <a:avLst/>
            <a:gdLst>
              <a:gd name="textAreaLeft" fmla="*/ 0 w 314280"/>
              <a:gd name="textAreaRight" fmla="*/ 314640 w 31428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198" h="1078">
                <a:moveTo>
                  <a:pt x="194" y="4"/>
                </a:moveTo>
                <a:lnTo>
                  <a:pt x="183" y="4"/>
                </a:lnTo>
                <a:lnTo>
                  <a:pt x="156" y="2"/>
                </a:lnTo>
                <a:lnTo>
                  <a:pt x="129" y="0"/>
                </a:lnTo>
                <a:lnTo>
                  <a:pt x="100" y="2"/>
                </a:lnTo>
                <a:lnTo>
                  <a:pt x="73" y="4"/>
                </a:lnTo>
                <a:lnTo>
                  <a:pt x="46" y="6"/>
                </a:lnTo>
                <a:lnTo>
                  <a:pt x="43" y="8"/>
                </a:lnTo>
                <a:lnTo>
                  <a:pt x="43" y="8"/>
                </a:lnTo>
                <a:lnTo>
                  <a:pt x="43" y="10"/>
                </a:lnTo>
                <a:lnTo>
                  <a:pt x="41" y="11"/>
                </a:lnTo>
                <a:lnTo>
                  <a:pt x="41" y="11"/>
                </a:lnTo>
                <a:lnTo>
                  <a:pt x="41" y="13"/>
                </a:lnTo>
                <a:lnTo>
                  <a:pt x="41" y="15"/>
                </a:lnTo>
                <a:lnTo>
                  <a:pt x="39" y="15"/>
                </a:lnTo>
                <a:lnTo>
                  <a:pt x="39" y="17"/>
                </a:lnTo>
                <a:lnTo>
                  <a:pt x="48" y="15"/>
                </a:lnTo>
                <a:lnTo>
                  <a:pt x="75" y="13"/>
                </a:lnTo>
                <a:lnTo>
                  <a:pt x="102" y="11"/>
                </a:lnTo>
                <a:lnTo>
                  <a:pt x="129" y="10"/>
                </a:lnTo>
                <a:lnTo>
                  <a:pt x="156" y="11"/>
                </a:lnTo>
                <a:lnTo>
                  <a:pt x="183" y="13"/>
                </a:lnTo>
                <a:lnTo>
                  <a:pt x="190" y="13"/>
                </a:lnTo>
                <a:lnTo>
                  <a:pt x="192" y="13"/>
                </a:lnTo>
                <a:lnTo>
                  <a:pt x="192" y="11"/>
                </a:lnTo>
                <a:lnTo>
                  <a:pt x="192" y="10"/>
                </a:lnTo>
                <a:lnTo>
                  <a:pt x="192" y="10"/>
                </a:lnTo>
                <a:lnTo>
                  <a:pt x="192" y="8"/>
                </a:lnTo>
                <a:lnTo>
                  <a:pt x="194" y="8"/>
                </a:lnTo>
                <a:lnTo>
                  <a:pt x="194" y="6"/>
                </a:lnTo>
                <a:lnTo>
                  <a:pt x="194" y="4"/>
                </a:lnTo>
                <a:close/>
                <a:moveTo>
                  <a:pt x="2" y="1063"/>
                </a:moveTo>
                <a:lnTo>
                  <a:pt x="20" y="1069"/>
                </a:lnTo>
                <a:lnTo>
                  <a:pt x="46" y="1073"/>
                </a:lnTo>
                <a:lnTo>
                  <a:pt x="73" y="1076"/>
                </a:lnTo>
                <a:lnTo>
                  <a:pt x="100" y="1078"/>
                </a:lnTo>
                <a:lnTo>
                  <a:pt x="129" y="1078"/>
                </a:lnTo>
                <a:lnTo>
                  <a:pt x="156" y="1078"/>
                </a:lnTo>
                <a:lnTo>
                  <a:pt x="183" y="1076"/>
                </a:lnTo>
                <a:lnTo>
                  <a:pt x="198" y="1074"/>
                </a:lnTo>
                <a:lnTo>
                  <a:pt x="196" y="1073"/>
                </a:lnTo>
                <a:lnTo>
                  <a:pt x="196" y="1073"/>
                </a:lnTo>
                <a:lnTo>
                  <a:pt x="196" y="1071"/>
                </a:lnTo>
                <a:lnTo>
                  <a:pt x="196" y="1069"/>
                </a:lnTo>
                <a:lnTo>
                  <a:pt x="194" y="1069"/>
                </a:lnTo>
                <a:lnTo>
                  <a:pt x="194" y="1067"/>
                </a:lnTo>
                <a:lnTo>
                  <a:pt x="194" y="1067"/>
                </a:lnTo>
                <a:lnTo>
                  <a:pt x="194" y="1065"/>
                </a:lnTo>
                <a:lnTo>
                  <a:pt x="183" y="1067"/>
                </a:lnTo>
                <a:lnTo>
                  <a:pt x="156" y="1069"/>
                </a:lnTo>
                <a:lnTo>
                  <a:pt x="129" y="1069"/>
                </a:lnTo>
                <a:lnTo>
                  <a:pt x="102" y="1069"/>
                </a:lnTo>
                <a:lnTo>
                  <a:pt x="75" y="1067"/>
                </a:lnTo>
                <a:lnTo>
                  <a:pt x="48" y="1063"/>
                </a:lnTo>
                <a:lnTo>
                  <a:pt x="22" y="1059"/>
                </a:lnTo>
                <a:lnTo>
                  <a:pt x="0" y="1053"/>
                </a:lnTo>
                <a:lnTo>
                  <a:pt x="0" y="1055"/>
                </a:lnTo>
                <a:lnTo>
                  <a:pt x="0" y="1055"/>
                </a:lnTo>
                <a:lnTo>
                  <a:pt x="0" y="1057"/>
                </a:lnTo>
                <a:lnTo>
                  <a:pt x="2" y="1059"/>
                </a:lnTo>
                <a:lnTo>
                  <a:pt x="2" y="1059"/>
                </a:lnTo>
                <a:lnTo>
                  <a:pt x="2" y="1061"/>
                </a:lnTo>
                <a:lnTo>
                  <a:pt x="2" y="1063"/>
                </a:lnTo>
                <a:lnTo>
                  <a:pt x="2" y="1063"/>
                </a:lnTo>
                <a:close/>
              </a:path>
            </a:pathLst>
          </a:custGeom>
          <a:solidFill>
            <a:srgbClr val="8e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176"/>
          <p:cNvSpPr/>
          <p:nvPr/>
        </p:nvSpPr>
        <p:spPr>
          <a:xfrm>
            <a:off x="6923160" y="2451240"/>
            <a:ext cx="312840" cy="1695240"/>
          </a:xfrm>
          <a:custGeom>
            <a:avLst/>
            <a:gdLst>
              <a:gd name="textAreaLeft" fmla="*/ 0 w 312840"/>
              <a:gd name="textAreaRight" fmla="*/ 312840 w 312840"/>
              <a:gd name="textAreaTop" fmla="*/ 0 h 1695240"/>
              <a:gd name="textAreaBottom" fmla="*/ 1695600 h 1695240"/>
            </a:gdLst>
            <a:ahLst/>
            <a:rect l="textAreaLeft" t="textAreaTop" r="textAreaRight" b="textAreaBottom"/>
            <a:pathLst>
              <a:path w="197" h="1068">
                <a:moveTo>
                  <a:pt x="193" y="4"/>
                </a:moveTo>
                <a:lnTo>
                  <a:pt x="184" y="2"/>
                </a:lnTo>
                <a:lnTo>
                  <a:pt x="157" y="0"/>
                </a:lnTo>
                <a:lnTo>
                  <a:pt x="130" y="0"/>
                </a:lnTo>
                <a:lnTo>
                  <a:pt x="101" y="0"/>
                </a:lnTo>
                <a:lnTo>
                  <a:pt x="74" y="2"/>
                </a:lnTo>
                <a:lnTo>
                  <a:pt x="47" y="5"/>
                </a:lnTo>
                <a:lnTo>
                  <a:pt x="42" y="5"/>
                </a:lnTo>
                <a:lnTo>
                  <a:pt x="42" y="7"/>
                </a:lnTo>
                <a:lnTo>
                  <a:pt x="42" y="9"/>
                </a:lnTo>
                <a:lnTo>
                  <a:pt x="40" y="9"/>
                </a:lnTo>
                <a:lnTo>
                  <a:pt x="40" y="11"/>
                </a:lnTo>
                <a:lnTo>
                  <a:pt x="40" y="13"/>
                </a:lnTo>
                <a:lnTo>
                  <a:pt x="40" y="15"/>
                </a:lnTo>
                <a:lnTo>
                  <a:pt x="38" y="15"/>
                </a:lnTo>
                <a:lnTo>
                  <a:pt x="38" y="17"/>
                </a:lnTo>
                <a:lnTo>
                  <a:pt x="49" y="15"/>
                </a:lnTo>
                <a:lnTo>
                  <a:pt x="76" y="11"/>
                </a:lnTo>
                <a:lnTo>
                  <a:pt x="103" y="9"/>
                </a:lnTo>
                <a:lnTo>
                  <a:pt x="130" y="9"/>
                </a:lnTo>
                <a:lnTo>
                  <a:pt x="157" y="9"/>
                </a:lnTo>
                <a:lnTo>
                  <a:pt x="184" y="11"/>
                </a:lnTo>
                <a:lnTo>
                  <a:pt x="191" y="13"/>
                </a:lnTo>
                <a:lnTo>
                  <a:pt x="191" y="11"/>
                </a:lnTo>
                <a:lnTo>
                  <a:pt x="191" y="9"/>
                </a:lnTo>
                <a:lnTo>
                  <a:pt x="191" y="9"/>
                </a:lnTo>
                <a:lnTo>
                  <a:pt x="191" y="7"/>
                </a:lnTo>
                <a:lnTo>
                  <a:pt x="193" y="7"/>
                </a:lnTo>
                <a:lnTo>
                  <a:pt x="193" y="5"/>
                </a:lnTo>
                <a:lnTo>
                  <a:pt x="193" y="4"/>
                </a:lnTo>
                <a:lnTo>
                  <a:pt x="193" y="4"/>
                </a:lnTo>
                <a:close/>
                <a:moveTo>
                  <a:pt x="3" y="1053"/>
                </a:moveTo>
                <a:lnTo>
                  <a:pt x="23" y="1057"/>
                </a:lnTo>
                <a:lnTo>
                  <a:pt x="47" y="1063"/>
                </a:lnTo>
                <a:lnTo>
                  <a:pt x="74" y="1065"/>
                </a:lnTo>
                <a:lnTo>
                  <a:pt x="101" y="1067"/>
                </a:lnTo>
                <a:lnTo>
                  <a:pt x="130" y="1068"/>
                </a:lnTo>
                <a:lnTo>
                  <a:pt x="157" y="1067"/>
                </a:lnTo>
                <a:lnTo>
                  <a:pt x="184" y="1065"/>
                </a:lnTo>
                <a:lnTo>
                  <a:pt x="197" y="1063"/>
                </a:lnTo>
                <a:lnTo>
                  <a:pt x="195" y="1063"/>
                </a:lnTo>
                <a:lnTo>
                  <a:pt x="195" y="1061"/>
                </a:lnTo>
                <a:lnTo>
                  <a:pt x="195" y="1061"/>
                </a:lnTo>
                <a:lnTo>
                  <a:pt x="195" y="1059"/>
                </a:lnTo>
                <a:lnTo>
                  <a:pt x="195" y="1059"/>
                </a:lnTo>
                <a:lnTo>
                  <a:pt x="193" y="1057"/>
                </a:lnTo>
                <a:lnTo>
                  <a:pt x="193" y="1055"/>
                </a:lnTo>
                <a:lnTo>
                  <a:pt x="193" y="1055"/>
                </a:lnTo>
                <a:lnTo>
                  <a:pt x="184" y="1055"/>
                </a:lnTo>
                <a:lnTo>
                  <a:pt x="157" y="1057"/>
                </a:lnTo>
                <a:lnTo>
                  <a:pt x="130" y="1059"/>
                </a:lnTo>
                <a:lnTo>
                  <a:pt x="103" y="1057"/>
                </a:lnTo>
                <a:lnTo>
                  <a:pt x="76" y="1055"/>
                </a:lnTo>
                <a:lnTo>
                  <a:pt x="49" y="1053"/>
                </a:lnTo>
                <a:lnTo>
                  <a:pt x="24" y="1047"/>
                </a:lnTo>
                <a:lnTo>
                  <a:pt x="0" y="1042"/>
                </a:lnTo>
                <a:lnTo>
                  <a:pt x="0" y="1044"/>
                </a:lnTo>
                <a:lnTo>
                  <a:pt x="0" y="1045"/>
                </a:lnTo>
                <a:lnTo>
                  <a:pt x="1" y="1045"/>
                </a:lnTo>
                <a:lnTo>
                  <a:pt x="1" y="1047"/>
                </a:lnTo>
                <a:lnTo>
                  <a:pt x="1" y="1049"/>
                </a:lnTo>
                <a:lnTo>
                  <a:pt x="1" y="1049"/>
                </a:lnTo>
                <a:lnTo>
                  <a:pt x="1" y="1051"/>
                </a:lnTo>
                <a:lnTo>
                  <a:pt x="3" y="1053"/>
                </a:lnTo>
                <a:close/>
              </a:path>
            </a:pathLst>
          </a:custGeom>
          <a:solidFill>
            <a:srgbClr val="8fd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177"/>
          <p:cNvSpPr/>
          <p:nvPr/>
        </p:nvSpPr>
        <p:spPr>
          <a:xfrm>
            <a:off x="6919920" y="2457360"/>
            <a:ext cx="312840" cy="1681200"/>
          </a:xfrm>
          <a:custGeom>
            <a:avLst/>
            <a:gdLst>
              <a:gd name="textAreaLeft" fmla="*/ 0 w 312840"/>
              <a:gd name="textAreaRight" fmla="*/ 312840 w 312840"/>
              <a:gd name="textAreaTop" fmla="*/ 0 h 1681200"/>
              <a:gd name="textAreaBottom" fmla="*/ 1681560 h 1681200"/>
            </a:gdLst>
            <a:ahLst/>
            <a:rect l="textAreaLeft" t="textAreaTop" r="textAreaRight" b="textAreaBottom"/>
            <a:pathLst>
              <a:path w="197" h="1059">
                <a:moveTo>
                  <a:pt x="193" y="3"/>
                </a:moveTo>
                <a:lnTo>
                  <a:pt x="186" y="3"/>
                </a:lnTo>
                <a:lnTo>
                  <a:pt x="159" y="1"/>
                </a:lnTo>
                <a:lnTo>
                  <a:pt x="132" y="0"/>
                </a:lnTo>
                <a:lnTo>
                  <a:pt x="105" y="1"/>
                </a:lnTo>
                <a:lnTo>
                  <a:pt x="78" y="3"/>
                </a:lnTo>
                <a:lnTo>
                  <a:pt x="51" y="5"/>
                </a:lnTo>
                <a:lnTo>
                  <a:pt x="42" y="7"/>
                </a:lnTo>
                <a:lnTo>
                  <a:pt x="42" y="9"/>
                </a:lnTo>
                <a:lnTo>
                  <a:pt x="42" y="11"/>
                </a:lnTo>
                <a:lnTo>
                  <a:pt x="40" y="11"/>
                </a:lnTo>
                <a:lnTo>
                  <a:pt x="40" y="13"/>
                </a:lnTo>
                <a:lnTo>
                  <a:pt x="40" y="15"/>
                </a:lnTo>
                <a:lnTo>
                  <a:pt x="40" y="15"/>
                </a:lnTo>
                <a:lnTo>
                  <a:pt x="38" y="17"/>
                </a:lnTo>
                <a:lnTo>
                  <a:pt x="38" y="19"/>
                </a:lnTo>
                <a:lnTo>
                  <a:pt x="51" y="15"/>
                </a:lnTo>
                <a:lnTo>
                  <a:pt x="78" y="11"/>
                </a:lnTo>
                <a:lnTo>
                  <a:pt x="105" y="9"/>
                </a:lnTo>
                <a:lnTo>
                  <a:pt x="132" y="9"/>
                </a:lnTo>
                <a:lnTo>
                  <a:pt x="159" y="9"/>
                </a:lnTo>
                <a:lnTo>
                  <a:pt x="184" y="11"/>
                </a:lnTo>
                <a:lnTo>
                  <a:pt x="192" y="13"/>
                </a:lnTo>
                <a:lnTo>
                  <a:pt x="192" y="11"/>
                </a:lnTo>
                <a:lnTo>
                  <a:pt x="192" y="11"/>
                </a:lnTo>
                <a:lnTo>
                  <a:pt x="192" y="9"/>
                </a:lnTo>
                <a:lnTo>
                  <a:pt x="193" y="9"/>
                </a:lnTo>
                <a:lnTo>
                  <a:pt x="193" y="7"/>
                </a:lnTo>
                <a:lnTo>
                  <a:pt x="193" y="5"/>
                </a:lnTo>
                <a:lnTo>
                  <a:pt x="193" y="5"/>
                </a:lnTo>
                <a:lnTo>
                  <a:pt x="193" y="3"/>
                </a:lnTo>
                <a:close/>
                <a:moveTo>
                  <a:pt x="3" y="1043"/>
                </a:moveTo>
                <a:lnTo>
                  <a:pt x="25" y="1049"/>
                </a:lnTo>
                <a:lnTo>
                  <a:pt x="51" y="1053"/>
                </a:lnTo>
                <a:lnTo>
                  <a:pt x="78" y="1057"/>
                </a:lnTo>
                <a:lnTo>
                  <a:pt x="105" y="1059"/>
                </a:lnTo>
                <a:lnTo>
                  <a:pt x="132" y="1059"/>
                </a:lnTo>
                <a:lnTo>
                  <a:pt x="159" y="1059"/>
                </a:lnTo>
                <a:lnTo>
                  <a:pt x="186" y="1057"/>
                </a:lnTo>
                <a:lnTo>
                  <a:pt x="197" y="1055"/>
                </a:lnTo>
                <a:lnTo>
                  <a:pt x="197" y="1055"/>
                </a:lnTo>
                <a:lnTo>
                  <a:pt x="195" y="1053"/>
                </a:lnTo>
                <a:lnTo>
                  <a:pt x="195" y="1051"/>
                </a:lnTo>
                <a:lnTo>
                  <a:pt x="195" y="1051"/>
                </a:lnTo>
                <a:lnTo>
                  <a:pt x="195" y="1049"/>
                </a:lnTo>
                <a:lnTo>
                  <a:pt x="193" y="1049"/>
                </a:lnTo>
                <a:lnTo>
                  <a:pt x="193" y="1047"/>
                </a:lnTo>
                <a:lnTo>
                  <a:pt x="193" y="1045"/>
                </a:lnTo>
                <a:lnTo>
                  <a:pt x="184" y="1047"/>
                </a:lnTo>
                <a:lnTo>
                  <a:pt x="159" y="1049"/>
                </a:lnTo>
                <a:lnTo>
                  <a:pt x="132" y="1049"/>
                </a:lnTo>
                <a:lnTo>
                  <a:pt x="105" y="1049"/>
                </a:lnTo>
                <a:lnTo>
                  <a:pt x="78" y="1047"/>
                </a:lnTo>
                <a:lnTo>
                  <a:pt x="51" y="1043"/>
                </a:lnTo>
                <a:lnTo>
                  <a:pt x="26" y="1040"/>
                </a:lnTo>
                <a:lnTo>
                  <a:pt x="2" y="1034"/>
                </a:lnTo>
                <a:lnTo>
                  <a:pt x="0" y="1034"/>
                </a:lnTo>
                <a:lnTo>
                  <a:pt x="2" y="1034"/>
                </a:lnTo>
                <a:lnTo>
                  <a:pt x="2" y="1036"/>
                </a:lnTo>
                <a:lnTo>
                  <a:pt x="2" y="1038"/>
                </a:lnTo>
                <a:lnTo>
                  <a:pt x="2" y="1038"/>
                </a:lnTo>
                <a:lnTo>
                  <a:pt x="2" y="1040"/>
                </a:lnTo>
                <a:lnTo>
                  <a:pt x="2" y="1041"/>
                </a:lnTo>
                <a:lnTo>
                  <a:pt x="3" y="1041"/>
                </a:lnTo>
                <a:lnTo>
                  <a:pt x="3" y="1043"/>
                </a:lnTo>
                <a:close/>
              </a:path>
            </a:pathLst>
          </a:custGeom>
          <a:solidFill>
            <a:srgbClr val="90d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178"/>
          <p:cNvSpPr/>
          <p:nvPr/>
        </p:nvSpPr>
        <p:spPr>
          <a:xfrm>
            <a:off x="6919920" y="2465280"/>
            <a:ext cx="309600" cy="1667160"/>
          </a:xfrm>
          <a:custGeom>
            <a:avLst/>
            <a:gdLst>
              <a:gd name="textAreaLeft" fmla="*/ 0 w 309600"/>
              <a:gd name="textAreaRight" fmla="*/ 309960 w 309600"/>
              <a:gd name="textAreaTop" fmla="*/ 0 h 1667160"/>
              <a:gd name="textAreaBottom" fmla="*/ 1667520 h 1667160"/>
            </a:gdLst>
            <a:ahLst/>
            <a:rect l="textAreaLeft" t="textAreaTop" r="textAreaRight" b="textAreaBottom"/>
            <a:pathLst>
              <a:path w="195" h="1050">
                <a:moveTo>
                  <a:pt x="193" y="4"/>
                </a:moveTo>
                <a:lnTo>
                  <a:pt x="186" y="2"/>
                </a:lnTo>
                <a:lnTo>
                  <a:pt x="159" y="0"/>
                </a:lnTo>
                <a:lnTo>
                  <a:pt x="132" y="0"/>
                </a:lnTo>
                <a:lnTo>
                  <a:pt x="105" y="0"/>
                </a:lnTo>
                <a:lnTo>
                  <a:pt x="78" y="2"/>
                </a:lnTo>
                <a:lnTo>
                  <a:pt x="51" y="6"/>
                </a:lnTo>
                <a:lnTo>
                  <a:pt x="40" y="8"/>
                </a:lnTo>
                <a:lnTo>
                  <a:pt x="40" y="10"/>
                </a:lnTo>
                <a:lnTo>
                  <a:pt x="40" y="10"/>
                </a:lnTo>
                <a:lnTo>
                  <a:pt x="38" y="12"/>
                </a:lnTo>
                <a:lnTo>
                  <a:pt x="38" y="14"/>
                </a:lnTo>
                <a:lnTo>
                  <a:pt x="38" y="14"/>
                </a:lnTo>
                <a:lnTo>
                  <a:pt x="38" y="16"/>
                </a:lnTo>
                <a:lnTo>
                  <a:pt x="36" y="18"/>
                </a:lnTo>
                <a:lnTo>
                  <a:pt x="36" y="18"/>
                </a:lnTo>
                <a:lnTo>
                  <a:pt x="53" y="16"/>
                </a:lnTo>
                <a:lnTo>
                  <a:pt x="78" y="12"/>
                </a:lnTo>
                <a:lnTo>
                  <a:pt x="105" y="10"/>
                </a:lnTo>
                <a:lnTo>
                  <a:pt x="132" y="10"/>
                </a:lnTo>
                <a:lnTo>
                  <a:pt x="159" y="10"/>
                </a:lnTo>
                <a:lnTo>
                  <a:pt x="184" y="12"/>
                </a:lnTo>
                <a:lnTo>
                  <a:pt x="190" y="12"/>
                </a:lnTo>
                <a:lnTo>
                  <a:pt x="190" y="12"/>
                </a:lnTo>
                <a:lnTo>
                  <a:pt x="190" y="10"/>
                </a:lnTo>
                <a:lnTo>
                  <a:pt x="192" y="8"/>
                </a:lnTo>
                <a:lnTo>
                  <a:pt x="192" y="8"/>
                </a:lnTo>
                <a:lnTo>
                  <a:pt x="192" y="6"/>
                </a:lnTo>
                <a:lnTo>
                  <a:pt x="192" y="6"/>
                </a:lnTo>
                <a:lnTo>
                  <a:pt x="192" y="4"/>
                </a:lnTo>
                <a:lnTo>
                  <a:pt x="193" y="4"/>
                </a:lnTo>
                <a:close/>
                <a:moveTo>
                  <a:pt x="2" y="1033"/>
                </a:moveTo>
                <a:lnTo>
                  <a:pt x="26" y="1038"/>
                </a:lnTo>
                <a:lnTo>
                  <a:pt x="51" y="1044"/>
                </a:lnTo>
                <a:lnTo>
                  <a:pt x="78" y="1046"/>
                </a:lnTo>
                <a:lnTo>
                  <a:pt x="105" y="1048"/>
                </a:lnTo>
                <a:lnTo>
                  <a:pt x="132" y="1050"/>
                </a:lnTo>
                <a:lnTo>
                  <a:pt x="159" y="1048"/>
                </a:lnTo>
                <a:lnTo>
                  <a:pt x="186" y="1046"/>
                </a:lnTo>
                <a:lnTo>
                  <a:pt x="195" y="1046"/>
                </a:lnTo>
                <a:lnTo>
                  <a:pt x="195" y="1044"/>
                </a:lnTo>
                <a:lnTo>
                  <a:pt x="193" y="1044"/>
                </a:lnTo>
                <a:lnTo>
                  <a:pt x="193" y="1042"/>
                </a:lnTo>
                <a:lnTo>
                  <a:pt x="193" y="1040"/>
                </a:lnTo>
                <a:lnTo>
                  <a:pt x="193" y="1040"/>
                </a:lnTo>
                <a:lnTo>
                  <a:pt x="193" y="1038"/>
                </a:lnTo>
                <a:lnTo>
                  <a:pt x="192" y="1038"/>
                </a:lnTo>
                <a:lnTo>
                  <a:pt x="192" y="1036"/>
                </a:lnTo>
                <a:lnTo>
                  <a:pt x="184" y="1038"/>
                </a:lnTo>
                <a:lnTo>
                  <a:pt x="159" y="1040"/>
                </a:lnTo>
                <a:lnTo>
                  <a:pt x="132" y="1040"/>
                </a:lnTo>
                <a:lnTo>
                  <a:pt x="105" y="1040"/>
                </a:lnTo>
                <a:lnTo>
                  <a:pt x="78" y="1038"/>
                </a:lnTo>
                <a:lnTo>
                  <a:pt x="53" y="1035"/>
                </a:lnTo>
                <a:lnTo>
                  <a:pt x="28" y="1029"/>
                </a:lnTo>
                <a:lnTo>
                  <a:pt x="3" y="1023"/>
                </a:lnTo>
                <a:lnTo>
                  <a:pt x="0" y="1023"/>
                </a:lnTo>
                <a:lnTo>
                  <a:pt x="0" y="1025"/>
                </a:lnTo>
                <a:lnTo>
                  <a:pt x="0" y="1025"/>
                </a:lnTo>
                <a:lnTo>
                  <a:pt x="0" y="1027"/>
                </a:lnTo>
                <a:lnTo>
                  <a:pt x="0" y="1029"/>
                </a:lnTo>
                <a:lnTo>
                  <a:pt x="2" y="1029"/>
                </a:lnTo>
                <a:lnTo>
                  <a:pt x="2" y="1031"/>
                </a:lnTo>
                <a:lnTo>
                  <a:pt x="2" y="1033"/>
                </a:lnTo>
                <a:lnTo>
                  <a:pt x="2" y="1033"/>
                </a:lnTo>
                <a:close/>
              </a:path>
            </a:pathLst>
          </a:custGeom>
          <a:solidFill>
            <a:srgbClr val="91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179"/>
          <p:cNvSpPr/>
          <p:nvPr/>
        </p:nvSpPr>
        <p:spPr>
          <a:xfrm>
            <a:off x="6916680" y="2471760"/>
            <a:ext cx="309600" cy="1650960"/>
          </a:xfrm>
          <a:custGeom>
            <a:avLst/>
            <a:gdLst>
              <a:gd name="textAreaLeft" fmla="*/ 0 w 309600"/>
              <a:gd name="textAreaRight" fmla="*/ 309960 w 30960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195" h="1040">
                <a:moveTo>
                  <a:pt x="194" y="4"/>
                </a:moveTo>
                <a:lnTo>
                  <a:pt x="186" y="2"/>
                </a:lnTo>
                <a:lnTo>
                  <a:pt x="161" y="0"/>
                </a:lnTo>
                <a:lnTo>
                  <a:pt x="134" y="0"/>
                </a:lnTo>
                <a:lnTo>
                  <a:pt x="107" y="0"/>
                </a:lnTo>
                <a:lnTo>
                  <a:pt x="80" y="2"/>
                </a:lnTo>
                <a:lnTo>
                  <a:pt x="53" y="6"/>
                </a:lnTo>
                <a:lnTo>
                  <a:pt x="40" y="10"/>
                </a:lnTo>
                <a:lnTo>
                  <a:pt x="40" y="10"/>
                </a:lnTo>
                <a:lnTo>
                  <a:pt x="40" y="12"/>
                </a:lnTo>
                <a:lnTo>
                  <a:pt x="38" y="14"/>
                </a:lnTo>
                <a:lnTo>
                  <a:pt x="38" y="14"/>
                </a:lnTo>
                <a:lnTo>
                  <a:pt x="38" y="15"/>
                </a:lnTo>
                <a:lnTo>
                  <a:pt x="36" y="17"/>
                </a:lnTo>
                <a:lnTo>
                  <a:pt x="36" y="17"/>
                </a:lnTo>
                <a:lnTo>
                  <a:pt x="36" y="19"/>
                </a:lnTo>
                <a:lnTo>
                  <a:pt x="55" y="15"/>
                </a:lnTo>
                <a:lnTo>
                  <a:pt x="82" y="12"/>
                </a:lnTo>
                <a:lnTo>
                  <a:pt x="107" y="10"/>
                </a:lnTo>
                <a:lnTo>
                  <a:pt x="134" y="10"/>
                </a:lnTo>
                <a:lnTo>
                  <a:pt x="159" y="10"/>
                </a:lnTo>
                <a:lnTo>
                  <a:pt x="186" y="12"/>
                </a:lnTo>
                <a:lnTo>
                  <a:pt x="190" y="14"/>
                </a:lnTo>
                <a:lnTo>
                  <a:pt x="190" y="12"/>
                </a:lnTo>
                <a:lnTo>
                  <a:pt x="192" y="10"/>
                </a:lnTo>
                <a:lnTo>
                  <a:pt x="192" y="10"/>
                </a:lnTo>
                <a:lnTo>
                  <a:pt x="192" y="8"/>
                </a:lnTo>
                <a:lnTo>
                  <a:pt x="192" y="8"/>
                </a:lnTo>
                <a:lnTo>
                  <a:pt x="192" y="6"/>
                </a:lnTo>
                <a:lnTo>
                  <a:pt x="194" y="4"/>
                </a:lnTo>
                <a:lnTo>
                  <a:pt x="194" y="4"/>
                </a:lnTo>
                <a:close/>
                <a:moveTo>
                  <a:pt x="2" y="1025"/>
                </a:moveTo>
                <a:lnTo>
                  <a:pt x="4" y="1025"/>
                </a:lnTo>
                <a:lnTo>
                  <a:pt x="28" y="1031"/>
                </a:lnTo>
                <a:lnTo>
                  <a:pt x="53" y="1034"/>
                </a:lnTo>
                <a:lnTo>
                  <a:pt x="80" y="1038"/>
                </a:lnTo>
                <a:lnTo>
                  <a:pt x="107" y="1040"/>
                </a:lnTo>
                <a:lnTo>
                  <a:pt x="134" y="1040"/>
                </a:lnTo>
                <a:lnTo>
                  <a:pt x="161" y="1040"/>
                </a:lnTo>
                <a:lnTo>
                  <a:pt x="186" y="1038"/>
                </a:lnTo>
                <a:lnTo>
                  <a:pt x="195" y="1036"/>
                </a:lnTo>
                <a:lnTo>
                  <a:pt x="195" y="1036"/>
                </a:lnTo>
                <a:lnTo>
                  <a:pt x="195" y="1034"/>
                </a:lnTo>
                <a:lnTo>
                  <a:pt x="194" y="1034"/>
                </a:lnTo>
                <a:lnTo>
                  <a:pt x="194" y="1032"/>
                </a:lnTo>
                <a:lnTo>
                  <a:pt x="194" y="1031"/>
                </a:lnTo>
                <a:lnTo>
                  <a:pt x="194" y="1031"/>
                </a:lnTo>
                <a:lnTo>
                  <a:pt x="194" y="1029"/>
                </a:lnTo>
                <a:lnTo>
                  <a:pt x="192" y="1029"/>
                </a:lnTo>
                <a:lnTo>
                  <a:pt x="186" y="1029"/>
                </a:lnTo>
                <a:lnTo>
                  <a:pt x="159" y="1031"/>
                </a:lnTo>
                <a:lnTo>
                  <a:pt x="134" y="1031"/>
                </a:lnTo>
                <a:lnTo>
                  <a:pt x="107" y="1031"/>
                </a:lnTo>
                <a:lnTo>
                  <a:pt x="82" y="1029"/>
                </a:lnTo>
                <a:lnTo>
                  <a:pt x="55" y="1025"/>
                </a:lnTo>
                <a:lnTo>
                  <a:pt x="30" y="1021"/>
                </a:lnTo>
                <a:lnTo>
                  <a:pt x="5" y="1015"/>
                </a:lnTo>
                <a:lnTo>
                  <a:pt x="0" y="1013"/>
                </a:lnTo>
                <a:lnTo>
                  <a:pt x="0" y="1015"/>
                </a:lnTo>
                <a:lnTo>
                  <a:pt x="0" y="1017"/>
                </a:lnTo>
                <a:lnTo>
                  <a:pt x="0" y="1017"/>
                </a:lnTo>
                <a:lnTo>
                  <a:pt x="2" y="1019"/>
                </a:lnTo>
                <a:lnTo>
                  <a:pt x="2" y="1021"/>
                </a:lnTo>
                <a:lnTo>
                  <a:pt x="2" y="1021"/>
                </a:lnTo>
                <a:lnTo>
                  <a:pt x="2" y="1023"/>
                </a:lnTo>
                <a:lnTo>
                  <a:pt x="2" y="1025"/>
                </a:lnTo>
                <a:close/>
              </a:path>
            </a:pathLst>
          </a:custGeom>
          <a:solidFill>
            <a:srgbClr val="92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180"/>
          <p:cNvSpPr/>
          <p:nvPr/>
        </p:nvSpPr>
        <p:spPr>
          <a:xfrm>
            <a:off x="6913440" y="2481120"/>
            <a:ext cx="311400" cy="1635120"/>
          </a:xfrm>
          <a:custGeom>
            <a:avLst/>
            <a:gdLst>
              <a:gd name="textAreaLeft" fmla="*/ 0 w 311400"/>
              <a:gd name="textAreaRight" fmla="*/ 311760 w 311400"/>
              <a:gd name="textAreaTop" fmla="*/ 0 h 1635120"/>
              <a:gd name="textAreaBottom" fmla="*/ 1635480 h 1635120"/>
            </a:gdLst>
            <a:ahLst/>
            <a:rect l="textAreaLeft" t="textAreaTop" r="textAreaRight" b="textAreaBottom"/>
            <a:pathLst>
              <a:path w="196" h="1030">
                <a:moveTo>
                  <a:pt x="194" y="2"/>
                </a:moveTo>
                <a:lnTo>
                  <a:pt x="188" y="2"/>
                </a:lnTo>
                <a:lnTo>
                  <a:pt x="163" y="0"/>
                </a:lnTo>
                <a:lnTo>
                  <a:pt x="136" y="0"/>
                </a:lnTo>
                <a:lnTo>
                  <a:pt x="109" y="0"/>
                </a:lnTo>
                <a:lnTo>
                  <a:pt x="82" y="2"/>
                </a:lnTo>
                <a:lnTo>
                  <a:pt x="57" y="6"/>
                </a:lnTo>
                <a:lnTo>
                  <a:pt x="40" y="8"/>
                </a:lnTo>
                <a:lnTo>
                  <a:pt x="40" y="9"/>
                </a:lnTo>
                <a:lnTo>
                  <a:pt x="40" y="11"/>
                </a:lnTo>
                <a:lnTo>
                  <a:pt x="38" y="11"/>
                </a:lnTo>
                <a:lnTo>
                  <a:pt x="38" y="13"/>
                </a:lnTo>
                <a:lnTo>
                  <a:pt x="38" y="15"/>
                </a:lnTo>
                <a:lnTo>
                  <a:pt x="38" y="15"/>
                </a:lnTo>
                <a:lnTo>
                  <a:pt x="36" y="17"/>
                </a:lnTo>
                <a:lnTo>
                  <a:pt x="36" y="19"/>
                </a:lnTo>
                <a:lnTo>
                  <a:pt x="59" y="15"/>
                </a:lnTo>
                <a:lnTo>
                  <a:pt x="84" y="11"/>
                </a:lnTo>
                <a:lnTo>
                  <a:pt x="109" y="9"/>
                </a:lnTo>
                <a:lnTo>
                  <a:pt x="136" y="8"/>
                </a:lnTo>
                <a:lnTo>
                  <a:pt x="161" y="9"/>
                </a:lnTo>
                <a:lnTo>
                  <a:pt x="188" y="11"/>
                </a:lnTo>
                <a:lnTo>
                  <a:pt x="190" y="11"/>
                </a:lnTo>
                <a:lnTo>
                  <a:pt x="192" y="9"/>
                </a:lnTo>
                <a:lnTo>
                  <a:pt x="192" y="9"/>
                </a:lnTo>
                <a:lnTo>
                  <a:pt x="192" y="8"/>
                </a:lnTo>
                <a:lnTo>
                  <a:pt x="192" y="8"/>
                </a:lnTo>
                <a:lnTo>
                  <a:pt x="192" y="6"/>
                </a:lnTo>
                <a:lnTo>
                  <a:pt x="194" y="4"/>
                </a:lnTo>
                <a:lnTo>
                  <a:pt x="194" y="4"/>
                </a:lnTo>
                <a:lnTo>
                  <a:pt x="194" y="2"/>
                </a:lnTo>
                <a:close/>
                <a:moveTo>
                  <a:pt x="4" y="1013"/>
                </a:moveTo>
                <a:lnTo>
                  <a:pt x="7" y="1013"/>
                </a:lnTo>
                <a:lnTo>
                  <a:pt x="32" y="1019"/>
                </a:lnTo>
                <a:lnTo>
                  <a:pt x="57" y="1025"/>
                </a:lnTo>
                <a:lnTo>
                  <a:pt x="82" y="1028"/>
                </a:lnTo>
                <a:lnTo>
                  <a:pt x="109" y="1030"/>
                </a:lnTo>
                <a:lnTo>
                  <a:pt x="136" y="1030"/>
                </a:lnTo>
                <a:lnTo>
                  <a:pt x="163" y="1030"/>
                </a:lnTo>
                <a:lnTo>
                  <a:pt x="188" y="1028"/>
                </a:lnTo>
                <a:lnTo>
                  <a:pt x="196" y="1026"/>
                </a:lnTo>
                <a:lnTo>
                  <a:pt x="196" y="1025"/>
                </a:lnTo>
                <a:lnTo>
                  <a:pt x="196" y="1025"/>
                </a:lnTo>
                <a:lnTo>
                  <a:pt x="196" y="1023"/>
                </a:lnTo>
                <a:lnTo>
                  <a:pt x="194" y="1023"/>
                </a:lnTo>
                <a:lnTo>
                  <a:pt x="194" y="1021"/>
                </a:lnTo>
                <a:lnTo>
                  <a:pt x="194" y="1019"/>
                </a:lnTo>
                <a:lnTo>
                  <a:pt x="194" y="1019"/>
                </a:lnTo>
                <a:lnTo>
                  <a:pt x="192" y="1017"/>
                </a:lnTo>
                <a:lnTo>
                  <a:pt x="188" y="1019"/>
                </a:lnTo>
                <a:lnTo>
                  <a:pt x="161" y="1021"/>
                </a:lnTo>
                <a:lnTo>
                  <a:pt x="136" y="1021"/>
                </a:lnTo>
                <a:lnTo>
                  <a:pt x="109" y="1021"/>
                </a:lnTo>
                <a:lnTo>
                  <a:pt x="84" y="1019"/>
                </a:lnTo>
                <a:lnTo>
                  <a:pt x="59" y="1015"/>
                </a:lnTo>
                <a:lnTo>
                  <a:pt x="34" y="1011"/>
                </a:lnTo>
                <a:lnTo>
                  <a:pt x="9" y="1005"/>
                </a:lnTo>
                <a:lnTo>
                  <a:pt x="0" y="1001"/>
                </a:lnTo>
                <a:lnTo>
                  <a:pt x="0" y="1003"/>
                </a:lnTo>
                <a:lnTo>
                  <a:pt x="2" y="1005"/>
                </a:lnTo>
                <a:lnTo>
                  <a:pt x="2" y="1005"/>
                </a:lnTo>
                <a:lnTo>
                  <a:pt x="2" y="1007"/>
                </a:lnTo>
                <a:lnTo>
                  <a:pt x="2" y="1009"/>
                </a:lnTo>
                <a:lnTo>
                  <a:pt x="2" y="1011"/>
                </a:lnTo>
                <a:lnTo>
                  <a:pt x="2" y="1011"/>
                </a:lnTo>
                <a:lnTo>
                  <a:pt x="4" y="1013"/>
                </a:lnTo>
                <a:close/>
              </a:path>
            </a:pathLst>
          </a:custGeom>
          <a:solidFill>
            <a:srgbClr val="93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181"/>
          <p:cNvSpPr/>
          <p:nvPr/>
        </p:nvSpPr>
        <p:spPr>
          <a:xfrm>
            <a:off x="6913440" y="2487600"/>
            <a:ext cx="308160" cy="1620720"/>
          </a:xfrm>
          <a:custGeom>
            <a:avLst/>
            <a:gdLst>
              <a:gd name="textAreaLeft" fmla="*/ 0 w 308160"/>
              <a:gd name="textAreaRight" fmla="*/ 308520 w 308160"/>
              <a:gd name="textAreaTop" fmla="*/ 0 h 1620720"/>
              <a:gd name="textAreaBottom" fmla="*/ 1621080 h 1620720"/>
            </a:gdLst>
            <a:ahLst/>
            <a:rect l="textAreaLeft" t="textAreaTop" r="textAreaRight" b="textAreaBottom"/>
            <a:pathLst>
              <a:path w="194" h="1021">
                <a:moveTo>
                  <a:pt x="192" y="4"/>
                </a:moveTo>
                <a:lnTo>
                  <a:pt x="188" y="2"/>
                </a:lnTo>
                <a:lnTo>
                  <a:pt x="161" y="0"/>
                </a:lnTo>
                <a:lnTo>
                  <a:pt x="136" y="0"/>
                </a:lnTo>
                <a:lnTo>
                  <a:pt x="109" y="0"/>
                </a:lnTo>
                <a:lnTo>
                  <a:pt x="84" y="2"/>
                </a:lnTo>
                <a:lnTo>
                  <a:pt x="57" y="5"/>
                </a:lnTo>
                <a:lnTo>
                  <a:pt x="38" y="9"/>
                </a:lnTo>
                <a:lnTo>
                  <a:pt x="38" y="11"/>
                </a:lnTo>
                <a:lnTo>
                  <a:pt x="38" y="11"/>
                </a:lnTo>
                <a:lnTo>
                  <a:pt x="36" y="13"/>
                </a:lnTo>
                <a:lnTo>
                  <a:pt x="36" y="15"/>
                </a:lnTo>
                <a:lnTo>
                  <a:pt x="36" y="15"/>
                </a:lnTo>
                <a:lnTo>
                  <a:pt x="36" y="17"/>
                </a:lnTo>
                <a:lnTo>
                  <a:pt x="34" y="19"/>
                </a:lnTo>
                <a:lnTo>
                  <a:pt x="34" y="19"/>
                </a:lnTo>
                <a:lnTo>
                  <a:pt x="59" y="15"/>
                </a:lnTo>
                <a:lnTo>
                  <a:pt x="84" y="11"/>
                </a:lnTo>
                <a:lnTo>
                  <a:pt x="109" y="9"/>
                </a:lnTo>
                <a:lnTo>
                  <a:pt x="136" y="9"/>
                </a:lnTo>
                <a:lnTo>
                  <a:pt x="161" y="9"/>
                </a:lnTo>
                <a:lnTo>
                  <a:pt x="186" y="11"/>
                </a:lnTo>
                <a:lnTo>
                  <a:pt x="190" y="11"/>
                </a:lnTo>
                <a:lnTo>
                  <a:pt x="190" y="11"/>
                </a:lnTo>
                <a:lnTo>
                  <a:pt x="190" y="9"/>
                </a:lnTo>
                <a:lnTo>
                  <a:pt x="190" y="9"/>
                </a:lnTo>
                <a:lnTo>
                  <a:pt x="190" y="7"/>
                </a:lnTo>
                <a:lnTo>
                  <a:pt x="192" y="5"/>
                </a:lnTo>
                <a:lnTo>
                  <a:pt x="192" y="5"/>
                </a:lnTo>
                <a:lnTo>
                  <a:pt x="192" y="4"/>
                </a:lnTo>
                <a:lnTo>
                  <a:pt x="192" y="4"/>
                </a:lnTo>
                <a:close/>
                <a:moveTo>
                  <a:pt x="2" y="1003"/>
                </a:moveTo>
                <a:lnTo>
                  <a:pt x="7" y="1005"/>
                </a:lnTo>
                <a:lnTo>
                  <a:pt x="32" y="1011"/>
                </a:lnTo>
                <a:lnTo>
                  <a:pt x="57" y="1015"/>
                </a:lnTo>
                <a:lnTo>
                  <a:pt x="84" y="1019"/>
                </a:lnTo>
                <a:lnTo>
                  <a:pt x="109" y="1021"/>
                </a:lnTo>
                <a:lnTo>
                  <a:pt x="136" y="1021"/>
                </a:lnTo>
                <a:lnTo>
                  <a:pt x="161" y="1021"/>
                </a:lnTo>
                <a:lnTo>
                  <a:pt x="188" y="1019"/>
                </a:lnTo>
                <a:lnTo>
                  <a:pt x="194" y="1019"/>
                </a:lnTo>
                <a:lnTo>
                  <a:pt x="194" y="1017"/>
                </a:lnTo>
                <a:lnTo>
                  <a:pt x="194" y="1015"/>
                </a:lnTo>
                <a:lnTo>
                  <a:pt x="194" y="1015"/>
                </a:lnTo>
                <a:lnTo>
                  <a:pt x="192" y="1013"/>
                </a:lnTo>
                <a:lnTo>
                  <a:pt x="192" y="1013"/>
                </a:lnTo>
                <a:lnTo>
                  <a:pt x="192" y="1011"/>
                </a:lnTo>
                <a:lnTo>
                  <a:pt x="192" y="1009"/>
                </a:lnTo>
                <a:lnTo>
                  <a:pt x="192" y="1009"/>
                </a:lnTo>
                <a:lnTo>
                  <a:pt x="186" y="1009"/>
                </a:lnTo>
                <a:lnTo>
                  <a:pt x="161" y="1011"/>
                </a:lnTo>
                <a:lnTo>
                  <a:pt x="136" y="1013"/>
                </a:lnTo>
                <a:lnTo>
                  <a:pt x="109" y="1011"/>
                </a:lnTo>
                <a:lnTo>
                  <a:pt x="84" y="1009"/>
                </a:lnTo>
                <a:lnTo>
                  <a:pt x="59" y="1005"/>
                </a:lnTo>
                <a:lnTo>
                  <a:pt x="34" y="1001"/>
                </a:lnTo>
                <a:lnTo>
                  <a:pt x="9" y="996"/>
                </a:lnTo>
                <a:lnTo>
                  <a:pt x="0" y="994"/>
                </a:lnTo>
                <a:lnTo>
                  <a:pt x="0" y="994"/>
                </a:lnTo>
                <a:lnTo>
                  <a:pt x="0" y="996"/>
                </a:lnTo>
                <a:lnTo>
                  <a:pt x="0" y="997"/>
                </a:lnTo>
                <a:lnTo>
                  <a:pt x="0" y="997"/>
                </a:lnTo>
                <a:lnTo>
                  <a:pt x="0" y="999"/>
                </a:lnTo>
                <a:lnTo>
                  <a:pt x="2" y="1001"/>
                </a:lnTo>
                <a:lnTo>
                  <a:pt x="2" y="1001"/>
                </a:lnTo>
                <a:lnTo>
                  <a:pt x="2" y="1003"/>
                </a:lnTo>
                <a:close/>
              </a:path>
            </a:pathLst>
          </a:custGeom>
          <a:solidFill>
            <a:srgbClr val="94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182"/>
          <p:cNvSpPr/>
          <p:nvPr/>
        </p:nvSpPr>
        <p:spPr>
          <a:xfrm>
            <a:off x="6910560" y="2494080"/>
            <a:ext cx="307800" cy="1608120"/>
          </a:xfrm>
          <a:custGeom>
            <a:avLst/>
            <a:gdLst>
              <a:gd name="textAreaLeft" fmla="*/ 0 w 307800"/>
              <a:gd name="textAreaRight" fmla="*/ 308160 w 307800"/>
              <a:gd name="textAreaTop" fmla="*/ 0 h 1608120"/>
              <a:gd name="textAreaBottom" fmla="*/ 1608480 h 1608120"/>
            </a:gdLst>
            <a:ahLst/>
            <a:rect l="textAreaLeft" t="textAreaTop" r="textAreaRight" b="textAreaBottom"/>
            <a:pathLst>
              <a:path w="194" h="1013">
                <a:moveTo>
                  <a:pt x="192" y="3"/>
                </a:moveTo>
                <a:lnTo>
                  <a:pt x="190" y="3"/>
                </a:lnTo>
                <a:lnTo>
                  <a:pt x="163" y="1"/>
                </a:lnTo>
                <a:lnTo>
                  <a:pt x="138" y="0"/>
                </a:lnTo>
                <a:lnTo>
                  <a:pt x="111" y="1"/>
                </a:lnTo>
                <a:lnTo>
                  <a:pt x="86" y="3"/>
                </a:lnTo>
                <a:lnTo>
                  <a:pt x="61" y="7"/>
                </a:lnTo>
                <a:lnTo>
                  <a:pt x="38" y="11"/>
                </a:lnTo>
                <a:lnTo>
                  <a:pt x="38" y="11"/>
                </a:lnTo>
                <a:lnTo>
                  <a:pt x="38" y="13"/>
                </a:lnTo>
                <a:lnTo>
                  <a:pt x="36" y="15"/>
                </a:lnTo>
                <a:lnTo>
                  <a:pt x="36" y="15"/>
                </a:lnTo>
                <a:lnTo>
                  <a:pt x="36" y="17"/>
                </a:lnTo>
                <a:lnTo>
                  <a:pt x="36" y="19"/>
                </a:lnTo>
                <a:lnTo>
                  <a:pt x="34" y="19"/>
                </a:lnTo>
                <a:lnTo>
                  <a:pt x="34" y="21"/>
                </a:lnTo>
                <a:lnTo>
                  <a:pt x="38" y="21"/>
                </a:lnTo>
                <a:lnTo>
                  <a:pt x="61" y="15"/>
                </a:lnTo>
                <a:lnTo>
                  <a:pt x="86" y="13"/>
                </a:lnTo>
                <a:lnTo>
                  <a:pt x="111" y="11"/>
                </a:lnTo>
                <a:lnTo>
                  <a:pt x="138" y="9"/>
                </a:lnTo>
                <a:lnTo>
                  <a:pt x="163" y="11"/>
                </a:lnTo>
                <a:lnTo>
                  <a:pt x="188" y="13"/>
                </a:lnTo>
                <a:lnTo>
                  <a:pt x="190" y="13"/>
                </a:lnTo>
                <a:lnTo>
                  <a:pt x="190" y="11"/>
                </a:lnTo>
                <a:lnTo>
                  <a:pt x="190" y="11"/>
                </a:lnTo>
                <a:lnTo>
                  <a:pt x="190" y="9"/>
                </a:lnTo>
                <a:lnTo>
                  <a:pt x="192" y="7"/>
                </a:lnTo>
                <a:lnTo>
                  <a:pt x="192" y="7"/>
                </a:lnTo>
                <a:lnTo>
                  <a:pt x="192" y="5"/>
                </a:lnTo>
                <a:lnTo>
                  <a:pt x="192" y="5"/>
                </a:lnTo>
                <a:lnTo>
                  <a:pt x="192" y="3"/>
                </a:lnTo>
                <a:close/>
                <a:moveTo>
                  <a:pt x="2" y="993"/>
                </a:moveTo>
                <a:lnTo>
                  <a:pt x="11" y="997"/>
                </a:lnTo>
                <a:lnTo>
                  <a:pt x="36" y="1003"/>
                </a:lnTo>
                <a:lnTo>
                  <a:pt x="61" y="1007"/>
                </a:lnTo>
                <a:lnTo>
                  <a:pt x="86" y="1011"/>
                </a:lnTo>
                <a:lnTo>
                  <a:pt x="111" y="1013"/>
                </a:lnTo>
                <a:lnTo>
                  <a:pt x="138" y="1013"/>
                </a:lnTo>
                <a:lnTo>
                  <a:pt x="163" y="1013"/>
                </a:lnTo>
                <a:lnTo>
                  <a:pt x="190" y="1011"/>
                </a:lnTo>
                <a:lnTo>
                  <a:pt x="194" y="1009"/>
                </a:lnTo>
                <a:lnTo>
                  <a:pt x="194" y="1009"/>
                </a:lnTo>
                <a:lnTo>
                  <a:pt x="194" y="1007"/>
                </a:lnTo>
                <a:lnTo>
                  <a:pt x="194" y="1005"/>
                </a:lnTo>
                <a:lnTo>
                  <a:pt x="194" y="1005"/>
                </a:lnTo>
                <a:lnTo>
                  <a:pt x="192" y="1003"/>
                </a:lnTo>
                <a:lnTo>
                  <a:pt x="192" y="1003"/>
                </a:lnTo>
                <a:lnTo>
                  <a:pt x="192" y="1001"/>
                </a:lnTo>
                <a:lnTo>
                  <a:pt x="192" y="999"/>
                </a:lnTo>
                <a:lnTo>
                  <a:pt x="188" y="1001"/>
                </a:lnTo>
                <a:lnTo>
                  <a:pt x="163" y="1003"/>
                </a:lnTo>
                <a:lnTo>
                  <a:pt x="138" y="1003"/>
                </a:lnTo>
                <a:lnTo>
                  <a:pt x="111" y="1003"/>
                </a:lnTo>
                <a:lnTo>
                  <a:pt x="86" y="1001"/>
                </a:lnTo>
                <a:lnTo>
                  <a:pt x="61" y="997"/>
                </a:lnTo>
                <a:lnTo>
                  <a:pt x="38" y="993"/>
                </a:lnTo>
                <a:lnTo>
                  <a:pt x="13" y="988"/>
                </a:lnTo>
                <a:lnTo>
                  <a:pt x="0" y="984"/>
                </a:lnTo>
                <a:lnTo>
                  <a:pt x="0" y="986"/>
                </a:lnTo>
                <a:lnTo>
                  <a:pt x="0" y="986"/>
                </a:lnTo>
                <a:lnTo>
                  <a:pt x="0" y="988"/>
                </a:lnTo>
                <a:lnTo>
                  <a:pt x="2" y="990"/>
                </a:lnTo>
                <a:lnTo>
                  <a:pt x="2" y="990"/>
                </a:lnTo>
                <a:lnTo>
                  <a:pt x="2" y="992"/>
                </a:lnTo>
                <a:lnTo>
                  <a:pt x="2" y="993"/>
                </a:lnTo>
                <a:lnTo>
                  <a:pt x="2" y="993"/>
                </a:lnTo>
                <a:close/>
              </a:path>
            </a:pathLst>
          </a:custGeom>
          <a:solidFill>
            <a:srgbClr val="95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83"/>
          <p:cNvSpPr/>
          <p:nvPr/>
        </p:nvSpPr>
        <p:spPr>
          <a:xfrm>
            <a:off x="6907320" y="2502000"/>
            <a:ext cx="311040" cy="1593720"/>
          </a:xfrm>
          <a:custGeom>
            <a:avLst/>
            <a:gdLst>
              <a:gd name="textAreaLeft" fmla="*/ 0 w 311040"/>
              <a:gd name="textAreaRight" fmla="*/ 311400 w 31104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96" h="1004">
                <a:moveTo>
                  <a:pt x="194" y="2"/>
                </a:moveTo>
                <a:lnTo>
                  <a:pt x="190" y="2"/>
                </a:lnTo>
                <a:lnTo>
                  <a:pt x="165" y="0"/>
                </a:lnTo>
                <a:lnTo>
                  <a:pt x="140" y="0"/>
                </a:lnTo>
                <a:lnTo>
                  <a:pt x="113" y="0"/>
                </a:lnTo>
                <a:lnTo>
                  <a:pt x="88" y="2"/>
                </a:lnTo>
                <a:lnTo>
                  <a:pt x="63" y="6"/>
                </a:lnTo>
                <a:lnTo>
                  <a:pt x="38" y="10"/>
                </a:lnTo>
                <a:lnTo>
                  <a:pt x="38" y="12"/>
                </a:lnTo>
                <a:lnTo>
                  <a:pt x="38" y="14"/>
                </a:lnTo>
                <a:lnTo>
                  <a:pt x="36" y="14"/>
                </a:lnTo>
                <a:lnTo>
                  <a:pt x="36" y="16"/>
                </a:lnTo>
                <a:lnTo>
                  <a:pt x="36" y="18"/>
                </a:lnTo>
                <a:lnTo>
                  <a:pt x="36" y="18"/>
                </a:lnTo>
                <a:lnTo>
                  <a:pt x="36" y="19"/>
                </a:lnTo>
                <a:lnTo>
                  <a:pt x="34" y="21"/>
                </a:lnTo>
                <a:lnTo>
                  <a:pt x="40" y="19"/>
                </a:lnTo>
                <a:lnTo>
                  <a:pt x="65" y="16"/>
                </a:lnTo>
                <a:lnTo>
                  <a:pt x="90" y="12"/>
                </a:lnTo>
                <a:lnTo>
                  <a:pt x="115" y="10"/>
                </a:lnTo>
                <a:lnTo>
                  <a:pt x="140" y="10"/>
                </a:lnTo>
                <a:lnTo>
                  <a:pt x="165" y="10"/>
                </a:lnTo>
                <a:lnTo>
                  <a:pt x="190" y="12"/>
                </a:lnTo>
                <a:lnTo>
                  <a:pt x="190" y="12"/>
                </a:lnTo>
                <a:lnTo>
                  <a:pt x="190" y="12"/>
                </a:lnTo>
                <a:lnTo>
                  <a:pt x="190" y="10"/>
                </a:lnTo>
                <a:lnTo>
                  <a:pt x="192" y="8"/>
                </a:lnTo>
                <a:lnTo>
                  <a:pt x="192" y="8"/>
                </a:lnTo>
                <a:lnTo>
                  <a:pt x="192" y="6"/>
                </a:lnTo>
                <a:lnTo>
                  <a:pt x="192" y="6"/>
                </a:lnTo>
                <a:lnTo>
                  <a:pt x="192" y="4"/>
                </a:lnTo>
                <a:lnTo>
                  <a:pt x="194" y="2"/>
                </a:lnTo>
                <a:close/>
                <a:moveTo>
                  <a:pt x="4" y="985"/>
                </a:moveTo>
                <a:lnTo>
                  <a:pt x="13" y="987"/>
                </a:lnTo>
                <a:lnTo>
                  <a:pt x="38" y="992"/>
                </a:lnTo>
                <a:lnTo>
                  <a:pt x="63" y="996"/>
                </a:lnTo>
                <a:lnTo>
                  <a:pt x="88" y="1000"/>
                </a:lnTo>
                <a:lnTo>
                  <a:pt x="113" y="1002"/>
                </a:lnTo>
                <a:lnTo>
                  <a:pt x="140" y="1004"/>
                </a:lnTo>
                <a:lnTo>
                  <a:pt x="165" y="1002"/>
                </a:lnTo>
                <a:lnTo>
                  <a:pt x="190" y="1000"/>
                </a:lnTo>
                <a:lnTo>
                  <a:pt x="196" y="1000"/>
                </a:lnTo>
                <a:lnTo>
                  <a:pt x="194" y="998"/>
                </a:lnTo>
                <a:lnTo>
                  <a:pt x="194" y="998"/>
                </a:lnTo>
                <a:lnTo>
                  <a:pt x="194" y="996"/>
                </a:lnTo>
                <a:lnTo>
                  <a:pt x="194" y="994"/>
                </a:lnTo>
                <a:lnTo>
                  <a:pt x="194" y="994"/>
                </a:lnTo>
                <a:lnTo>
                  <a:pt x="192" y="992"/>
                </a:lnTo>
                <a:lnTo>
                  <a:pt x="192" y="992"/>
                </a:lnTo>
                <a:lnTo>
                  <a:pt x="192" y="990"/>
                </a:lnTo>
                <a:lnTo>
                  <a:pt x="190" y="990"/>
                </a:lnTo>
                <a:lnTo>
                  <a:pt x="165" y="992"/>
                </a:lnTo>
                <a:lnTo>
                  <a:pt x="140" y="994"/>
                </a:lnTo>
                <a:lnTo>
                  <a:pt x="115" y="992"/>
                </a:lnTo>
                <a:lnTo>
                  <a:pt x="90" y="990"/>
                </a:lnTo>
                <a:lnTo>
                  <a:pt x="65" y="988"/>
                </a:lnTo>
                <a:lnTo>
                  <a:pt x="40" y="983"/>
                </a:lnTo>
                <a:lnTo>
                  <a:pt x="17" y="979"/>
                </a:lnTo>
                <a:lnTo>
                  <a:pt x="0" y="973"/>
                </a:lnTo>
                <a:lnTo>
                  <a:pt x="0" y="975"/>
                </a:lnTo>
                <a:lnTo>
                  <a:pt x="0" y="975"/>
                </a:lnTo>
                <a:lnTo>
                  <a:pt x="2" y="977"/>
                </a:lnTo>
                <a:lnTo>
                  <a:pt x="2" y="979"/>
                </a:lnTo>
                <a:lnTo>
                  <a:pt x="2" y="981"/>
                </a:lnTo>
                <a:lnTo>
                  <a:pt x="2" y="981"/>
                </a:lnTo>
                <a:lnTo>
                  <a:pt x="2" y="983"/>
                </a:lnTo>
                <a:lnTo>
                  <a:pt x="4" y="985"/>
                </a:lnTo>
                <a:close/>
              </a:path>
            </a:pathLst>
          </a:custGeom>
          <a:solidFill>
            <a:srgbClr val="96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84"/>
          <p:cNvSpPr/>
          <p:nvPr/>
        </p:nvSpPr>
        <p:spPr>
          <a:xfrm>
            <a:off x="6904080" y="2508120"/>
            <a:ext cx="311040" cy="1578240"/>
          </a:xfrm>
          <a:custGeom>
            <a:avLst/>
            <a:gdLst>
              <a:gd name="textAreaLeft" fmla="*/ 0 w 311040"/>
              <a:gd name="textAreaRight" fmla="*/ 311400 w 311040"/>
              <a:gd name="textAreaTop" fmla="*/ 0 h 1578240"/>
              <a:gd name="textAreaBottom" fmla="*/ 1578600 h 1578240"/>
            </a:gdLst>
            <a:ahLst/>
            <a:rect l="textAreaLeft" t="textAreaTop" r="textAreaRight" b="textAreaBottom"/>
            <a:pathLst>
              <a:path w="196" h="994">
                <a:moveTo>
                  <a:pt x="194" y="4"/>
                </a:moveTo>
                <a:lnTo>
                  <a:pt x="192" y="4"/>
                </a:lnTo>
                <a:lnTo>
                  <a:pt x="167" y="2"/>
                </a:lnTo>
                <a:lnTo>
                  <a:pt x="142" y="0"/>
                </a:lnTo>
                <a:lnTo>
                  <a:pt x="115" y="2"/>
                </a:lnTo>
                <a:lnTo>
                  <a:pt x="90" y="4"/>
                </a:lnTo>
                <a:lnTo>
                  <a:pt x="65" y="6"/>
                </a:lnTo>
                <a:lnTo>
                  <a:pt x="42" y="12"/>
                </a:lnTo>
                <a:lnTo>
                  <a:pt x="38" y="12"/>
                </a:lnTo>
                <a:lnTo>
                  <a:pt x="38" y="14"/>
                </a:lnTo>
                <a:lnTo>
                  <a:pt x="38" y="14"/>
                </a:lnTo>
                <a:lnTo>
                  <a:pt x="38" y="15"/>
                </a:lnTo>
                <a:lnTo>
                  <a:pt x="36" y="17"/>
                </a:lnTo>
                <a:lnTo>
                  <a:pt x="36" y="17"/>
                </a:lnTo>
                <a:lnTo>
                  <a:pt x="36" y="19"/>
                </a:lnTo>
                <a:lnTo>
                  <a:pt x="36" y="21"/>
                </a:lnTo>
                <a:lnTo>
                  <a:pt x="35" y="21"/>
                </a:lnTo>
                <a:lnTo>
                  <a:pt x="44" y="19"/>
                </a:lnTo>
                <a:lnTo>
                  <a:pt x="67" y="15"/>
                </a:lnTo>
                <a:lnTo>
                  <a:pt x="92" y="14"/>
                </a:lnTo>
                <a:lnTo>
                  <a:pt x="117" y="12"/>
                </a:lnTo>
                <a:lnTo>
                  <a:pt x="142" y="10"/>
                </a:lnTo>
                <a:lnTo>
                  <a:pt x="167" y="12"/>
                </a:lnTo>
                <a:lnTo>
                  <a:pt x="190" y="14"/>
                </a:lnTo>
                <a:lnTo>
                  <a:pt x="192" y="12"/>
                </a:lnTo>
                <a:lnTo>
                  <a:pt x="192" y="10"/>
                </a:lnTo>
                <a:lnTo>
                  <a:pt x="192" y="10"/>
                </a:lnTo>
                <a:lnTo>
                  <a:pt x="192" y="8"/>
                </a:lnTo>
                <a:lnTo>
                  <a:pt x="192" y="8"/>
                </a:lnTo>
                <a:lnTo>
                  <a:pt x="192" y="6"/>
                </a:lnTo>
                <a:lnTo>
                  <a:pt x="194" y="4"/>
                </a:lnTo>
                <a:lnTo>
                  <a:pt x="194" y="4"/>
                </a:lnTo>
                <a:close/>
                <a:moveTo>
                  <a:pt x="4" y="975"/>
                </a:moveTo>
                <a:lnTo>
                  <a:pt x="17" y="979"/>
                </a:lnTo>
                <a:lnTo>
                  <a:pt x="42" y="984"/>
                </a:lnTo>
                <a:lnTo>
                  <a:pt x="65" y="988"/>
                </a:lnTo>
                <a:lnTo>
                  <a:pt x="90" y="992"/>
                </a:lnTo>
                <a:lnTo>
                  <a:pt x="115" y="994"/>
                </a:lnTo>
                <a:lnTo>
                  <a:pt x="142" y="994"/>
                </a:lnTo>
                <a:lnTo>
                  <a:pt x="167" y="994"/>
                </a:lnTo>
                <a:lnTo>
                  <a:pt x="192" y="992"/>
                </a:lnTo>
                <a:lnTo>
                  <a:pt x="196" y="990"/>
                </a:lnTo>
                <a:lnTo>
                  <a:pt x="196" y="990"/>
                </a:lnTo>
                <a:lnTo>
                  <a:pt x="194" y="988"/>
                </a:lnTo>
                <a:lnTo>
                  <a:pt x="194" y="988"/>
                </a:lnTo>
                <a:lnTo>
                  <a:pt x="194" y="986"/>
                </a:lnTo>
                <a:lnTo>
                  <a:pt x="194" y="986"/>
                </a:lnTo>
                <a:lnTo>
                  <a:pt x="194" y="984"/>
                </a:lnTo>
                <a:lnTo>
                  <a:pt x="192" y="983"/>
                </a:lnTo>
                <a:lnTo>
                  <a:pt x="192" y="983"/>
                </a:lnTo>
                <a:lnTo>
                  <a:pt x="192" y="983"/>
                </a:lnTo>
                <a:lnTo>
                  <a:pt x="167" y="984"/>
                </a:lnTo>
                <a:lnTo>
                  <a:pt x="142" y="984"/>
                </a:lnTo>
                <a:lnTo>
                  <a:pt x="117" y="984"/>
                </a:lnTo>
                <a:lnTo>
                  <a:pt x="92" y="983"/>
                </a:lnTo>
                <a:lnTo>
                  <a:pt x="67" y="979"/>
                </a:lnTo>
                <a:lnTo>
                  <a:pt x="44" y="975"/>
                </a:lnTo>
                <a:lnTo>
                  <a:pt x="19" y="969"/>
                </a:lnTo>
                <a:lnTo>
                  <a:pt x="0" y="963"/>
                </a:lnTo>
                <a:lnTo>
                  <a:pt x="2" y="965"/>
                </a:lnTo>
                <a:lnTo>
                  <a:pt x="2" y="967"/>
                </a:lnTo>
                <a:lnTo>
                  <a:pt x="2" y="967"/>
                </a:lnTo>
                <a:lnTo>
                  <a:pt x="2" y="969"/>
                </a:lnTo>
                <a:lnTo>
                  <a:pt x="2" y="971"/>
                </a:lnTo>
                <a:lnTo>
                  <a:pt x="4" y="971"/>
                </a:lnTo>
                <a:lnTo>
                  <a:pt x="4" y="973"/>
                </a:lnTo>
                <a:lnTo>
                  <a:pt x="4" y="975"/>
                </a:lnTo>
                <a:close/>
              </a:path>
            </a:pathLst>
          </a:custGeom>
          <a:solidFill>
            <a:srgbClr val="97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85"/>
          <p:cNvSpPr/>
          <p:nvPr/>
        </p:nvSpPr>
        <p:spPr>
          <a:xfrm>
            <a:off x="6904080" y="2517840"/>
            <a:ext cx="307800" cy="1562040"/>
          </a:xfrm>
          <a:custGeom>
            <a:avLst/>
            <a:gdLst>
              <a:gd name="textAreaLeft" fmla="*/ 0 w 307800"/>
              <a:gd name="textAreaRight" fmla="*/ 308160 w 30780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94" h="984">
                <a:moveTo>
                  <a:pt x="192" y="2"/>
                </a:moveTo>
                <a:lnTo>
                  <a:pt x="192" y="2"/>
                </a:lnTo>
                <a:lnTo>
                  <a:pt x="167" y="0"/>
                </a:lnTo>
                <a:lnTo>
                  <a:pt x="142" y="0"/>
                </a:lnTo>
                <a:lnTo>
                  <a:pt x="117" y="0"/>
                </a:lnTo>
                <a:lnTo>
                  <a:pt x="92" y="2"/>
                </a:lnTo>
                <a:lnTo>
                  <a:pt x="67" y="6"/>
                </a:lnTo>
                <a:lnTo>
                  <a:pt x="42" y="9"/>
                </a:lnTo>
                <a:lnTo>
                  <a:pt x="36" y="11"/>
                </a:lnTo>
                <a:lnTo>
                  <a:pt x="36" y="11"/>
                </a:lnTo>
                <a:lnTo>
                  <a:pt x="36" y="13"/>
                </a:lnTo>
                <a:lnTo>
                  <a:pt x="36" y="15"/>
                </a:lnTo>
                <a:lnTo>
                  <a:pt x="35" y="15"/>
                </a:lnTo>
                <a:lnTo>
                  <a:pt x="35" y="17"/>
                </a:lnTo>
                <a:lnTo>
                  <a:pt x="35" y="19"/>
                </a:lnTo>
                <a:lnTo>
                  <a:pt x="35" y="21"/>
                </a:lnTo>
                <a:lnTo>
                  <a:pt x="33" y="21"/>
                </a:lnTo>
                <a:lnTo>
                  <a:pt x="44" y="19"/>
                </a:lnTo>
                <a:lnTo>
                  <a:pt x="67" y="15"/>
                </a:lnTo>
                <a:lnTo>
                  <a:pt x="92" y="11"/>
                </a:lnTo>
                <a:lnTo>
                  <a:pt x="117" y="9"/>
                </a:lnTo>
                <a:lnTo>
                  <a:pt x="142" y="9"/>
                </a:lnTo>
                <a:lnTo>
                  <a:pt x="167" y="9"/>
                </a:lnTo>
                <a:lnTo>
                  <a:pt x="190" y="11"/>
                </a:lnTo>
                <a:lnTo>
                  <a:pt x="190" y="9"/>
                </a:lnTo>
                <a:lnTo>
                  <a:pt x="190" y="9"/>
                </a:lnTo>
                <a:lnTo>
                  <a:pt x="190" y="8"/>
                </a:lnTo>
                <a:lnTo>
                  <a:pt x="190" y="8"/>
                </a:lnTo>
                <a:lnTo>
                  <a:pt x="192" y="6"/>
                </a:lnTo>
                <a:lnTo>
                  <a:pt x="192" y="4"/>
                </a:lnTo>
                <a:lnTo>
                  <a:pt x="192" y="4"/>
                </a:lnTo>
                <a:lnTo>
                  <a:pt x="192" y="2"/>
                </a:lnTo>
                <a:close/>
                <a:moveTo>
                  <a:pt x="2" y="963"/>
                </a:moveTo>
                <a:lnTo>
                  <a:pt x="19" y="969"/>
                </a:lnTo>
                <a:lnTo>
                  <a:pt x="42" y="973"/>
                </a:lnTo>
                <a:lnTo>
                  <a:pt x="67" y="978"/>
                </a:lnTo>
                <a:lnTo>
                  <a:pt x="92" y="980"/>
                </a:lnTo>
                <a:lnTo>
                  <a:pt x="117" y="982"/>
                </a:lnTo>
                <a:lnTo>
                  <a:pt x="142" y="984"/>
                </a:lnTo>
                <a:lnTo>
                  <a:pt x="167" y="982"/>
                </a:lnTo>
                <a:lnTo>
                  <a:pt x="192" y="980"/>
                </a:lnTo>
                <a:lnTo>
                  <a:pt x="194" y="980"/>
                </a:lnTo>
                <a:lnTo>
                  <a:pt x="194" y="980"/>
                </a:lnTo>
                <a:lnTo>
                  <a:pt x="194" y="978"/>
                </a:lnTo>
                <a:lnTo>
                  <a:pt x="192" y="977"/>
                </a:lnTo>
                <a:lnTo>
                  <a:pt x="192" y="977"/>
                </a:lnTo>
                <a:lnTo>
                  <a:pt x="192" y="975"/>
                </a:lnTo>
                <a:lnTo>
                  <a:pt x="192" y="975"/>
                </a:lnTo>
                <a:lnTo>
                  <a:pt x="192" y="973"/>
                </a:lnTo>
                <a:lnTo>
                  <a:pt x="190" y="971"/>
                </a:lnTo>
                <a:lnTo>
                  <a:pt x="167" y="973"/>
                </a:lnTo>
                <a:lnTo>
                  <a:pt x="142" y="975"/>
                </a:lnTo>
                <a:lnTo>
                  <a:pt x="117" y="973"/>
                </a:lnTo>
                <a:lnTo>
                  <a:pt x="92" y="971"/>
                </a:lnTo>
                <a:lnTo>
                  <a:pt x="67" y="969"/>
                </a:lnTo>
                <a:lnTo>
                  <a:pt x="44" y="965"/>
                </a:lnTo>
                <a:lnTo>
                  <a:pt x="21" y="959"/>
                </a:lnTo>
                <a:lnTo>
                  <a:pt x="0" y="954"/>
                </a:lnTo>
                <a:lnTo>
                  <a:pt x="0" y="954"/>
                </a:lnTo>
                <a:lnTo>
                  <a:pt x="0" y="955"/>
                </a:lnTo>
                <a:lnTo>
                  <a:pt x="0" y="957"/>
                </a:lnTo>
                <a:lnTo>
                  <a:pt x="0" y="957"/>
                </a:lnTo>
                <a:lnTo>
                  <a:pt x="2" y="959"/>
                </a:lnTo>
                <a:lnTo>
                  <a:pt x="2" y="961"/>
                </a:lnTo>
                <a:lnTo>
                  <a:pt x="2" y="961"/>
                </a:lnTo>
                <a:lnTo>
                  <a:pt x="2" y="963"/>
                </a:lnTo>
                <a:close/>
              </a:path>
            </a:pathLst>
          </a:custGeom>
          <a:solidFill>
            <a:srgbClr val="98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186"/>
          <p:cNvSpPr/>
          <p:nvPr/>
        </p:nvSpPr>
        <p:spPr>
          <a:xfrm>
            <a:off x="6900840" y="2523960"/>
            <a:ext cx="308160" cy="1546560"/>
          </a:xfrm>
          <a:custGeom>
            <a:avLst/>
            <a:gdLst>
              <a:gd name="textAreaLeft" fmla="*/ 0 w 308160"/>
              <a:gd name="textAreaRight" fmla="*/ 308520 w 308160"/>
              <a:gd name="textAreaTop" fmla="*/ 0 h 1546560"/>
              <a:gd name="textAreaBottom" fmla="*/ 1546920 h 1546560"/>
            </a:gdLst>
            <a:ahLst/>
            <a:rect l="textAreaLeft" t="textAreaTop" r="textAreaRight" b="textAreaBottom"/>
            <a:pathLst>
              <a:path w="194" h="974">
                <a:moveTo>
                  <a:pt x="192" y="4"/>
                </a:moveTo>
                <a:lnTo>
                  <a:pt x="169" y="2"/>
                </a:lnTo>
                <a:lnTo>
                  <a:pt x="144" y="0"/>
                </a:lnTo>
                <a:lnTo>
                  <a:pt x="119" y="2"/>
                </a:lnTo>
                <a:lnTo>
                  <a:pt x="94" y="4"/>
                </a:lnTo>
                <a:lnTo>
                  <a:pt x="69" y="5"/>
                </a:lnTo>
                <a:lnTo>
                  <a:pt x="46" y="9"/>
                </a:lnTo>
                <a:lnTo>
                  <a:pt x="37" y="11"/>
                </a:lnTo>
                <a:lnTo>
                  <a:pt x="37" y="13"/>
                </a:lnTo>
                <a:lnTo>
                  <a:pt x="37" y="15"/>
                </a:lnTo>
                <a:lnTo>
                  <a:pt x="37" y="17"/>
                </a:lnTo>
                <a:lnTo>
                  <a:pt x="35" y="17"/>
                </a:lnTo>
                <a:lnTo>
                  <a:pt x="35" y="19"/>
                </a:lnTo>
                <a:lnTo>
                  <a:pt x="35" y="21"/>
                </a:lnTo>
                <a:lnTo>
                  <a:pt x="35" y="21"/>
                </a:lnTo>
                <a:lnTo>
                  <a:pt x="33" y="23"/>
                </a:lnTo>
                <a:lnTo>
                  <a:pt x="48" y="19"/>
                </a:lnTo>
                <a:lnTo>
                  <a:pt x="71" y="15"/>
                </a:lnTo>
                <a:lnTo>
                  <a:pt x="94" y="13"/>
                </a:lnTo>
                <a:lnTo>
                  <a:pt x="119" y="11"/>
                </a:lnTo>
                <a:lnTo>
                  <a:pt x="144" y="9"/>
                </a:lnTo>
                <a:lnTo>
                  <a:pt x="169" y="11"/>
                </a:lnTo>
                <a:lnTo>
                  <a:pt x="190" y="11"/>
                </a:lnTo>
                <a:lnTo>
                  <a:pt x="190" y="11"/>
                </a:lnTo>
                <a:lnTo>
                  <a:pt x="190" y="9"/>
                </a:lnTo>
                <a:lnTo>
                  <a:pt x="190" y="9"/>
                </a:lnTo>
                <a:lnTo>
                  <a:pt x="192" y="7"/>
                </a:lnTo>
                <a:lnTo>
                  <a:pt x="192" y="5"/>
                </a:lnTo>
                <a:lnTo>
                  <a:pt x="192" y="5"/>
                </a:lnTo>
                <a:lnTo>
                  <a:pt x="192" y="4"/>
                </a:lnTo>
                <a:lnTo>
                  <a:pt x="192" y="4"/>
                </a:lnTo>
                <a:close/>
                <a:moveTo>
                  <a:pt x="2" y="953"/>
                </a:moveTo>
                <a:lnTo>
                  <a:pt x="21" y="959"/>
                </a:lnTo>
                <a:lnTo>
                  <a:pt x="46" y="965"/>
                </a:lnTo>
                <a:lnTo>
                  <a:pt x="69" y="969"/>
                </a:lnTo>
                <a:lnTo>
                  <a:pt x="94" y="973"/>
                </a:lnTo>
                <a:lnTo>
                  <a:pt x="119" y="974"/>
                </a:lnTo>
                <a:lnTo>
                  <a:pt x="144" y="974"/>
                </a:lnTo>
                <a:lnTo>
                  <a:pt x="169" y="974"/>
                </a:lnTo>
                <a:lnTo>
                  <a:pt x="194" y="973"/>
                </a:lnTo>
                <a:lnTo>
                  <a:pt x="194" y="973"/>
                </a:lnTo>
                <a:lnTo>
                  <a:pt x="194" y="971"/>
                </a:lnTo>
                <a:lnTo>
                  <a:pt x="194" y="971"/>
                </a:lnTo>
                <a:lnTo>
                  <a:pt x="194" y="969"/>
                </a:lnTo>
                <a:lnTo>
                  <a:pt x="192" y="967"/>
                </a:lnTo>
                <a:lnTo>
                  <a:pt x="192" y="967"/>
                </a:lnTo>
                <a:lnTo>
                  <a:pt x="192" y="965"/>
                </a:lnTo>
                <a:lnTo>
                  <a:pt x="192" y="965"/>
                </a:lnTo>
                <a:lnTo>
                  <a:pt x="192" y="963"/>
                </a:lnTo>
                <a:lnTo>
                  <a:pt x="169" y="965"/>
                </a:lnTo>
                <a:lnTo>
                  <a:pt x="144" y="965"/>
                </a:lnTo>
                <a:lnTo>
                  <a:pt x="119" y="965"/>
                </a:lnTo>
                <a:lnTo>
                  <a:pt x="94" y="963"/>
                </a:lnTo>
                <a:lnTo>
                  <a:pt x="71" y="959"/>
                </a:lnTo>
                <a:lnTo>
                  <a:pt x="48" y="955"/>
                </a:lnTo>
                <a:lnTo>
                  <a:pt x="25" y="950"/>
                </a:lnTo>
                <a:lnTo>
                  <a:pt x="2" y="944"/>
                </a:lnTo>
                <a:lnTo>
                  <a:pt x="0" y="944"/>
                </a:lnTo>
                <a:lnTo>
                  <a:pt x="0" y="944"/>
                </a:lnTo>
                <a:lnTo>
                  <a:pt x="0" y="946"/>
                </a:lnTo>
                <a:lnTo>
                  <a:pt x="2" y="948"/>
                </a:lnTo>
                <a:lnTo>
                  <a:pt x="2" y="950"/>
                </a:lnTo>
                <a:lnTo>
                  <a:pt x="2" y="950"/>
                </a:lnTo>
                <a:lnTo>
                  <a:pt x="2" y="951"/>
                </a:lnTo>
                <a:lnTo>
                  <a:pt x="2" y="953"/>
                </a:lnTo>
                <a:lnTo>
                  <a:pt x="2" y="953"/>
                </a:lnTo>
                <a:close/>
              </a:path>
            </a:pathLst>
          </a:custGeom>
          <a:solidFill>
            <a:srgbClr val="99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87"/>
          <p:cNvSpPr/>
          <p:nvPr/>
        </p:nvSpPr>
        <p:spPr>
          <a:xfrm>
            <a:off x="6897600" y="2532240"/>
            <a:ext cx="308160" cy="1533240"/>
          </a:xfrm>
          <a:custGeom>
            <a:avLst/>
            <a:gdLst>
              <a:gd name="textAreaLeft" fmla="*/ 0 w 308160"/>
              <a:gd name="textAreaRight" fmla="*/ 308520 w 308160"/>
              <a:gd name="textAreaTop" fmla="*/ 0 h 1533240"/>
              <a:gd name="textAreaBottom" fmla="*/ 1533600 h 1533240"/>
            </a:gdLst>
            <a:ahLst/>
            <a:rect l="textAreaLeft" t="textAreaTop" r="textAreaRight" b="textAreaBottom"/>
            <a:pathLst>
              <a:path w="194" h="966">
                <a:moveTo>
                  <a:pt x="194" y="2"/>
                </a:moveTo>
                <a:lnTo>
                  <a:pt x="171" y="0"/>
                </a:lnTo>
                <a:lnTo>
                  <a:pt x="146" y="0"/>
                </a:lnTo>
                <a:lnTo>
                  <a:pt x="121" y="0"/>
                </a:lnTo>
                <a:lnTo>
                  <a:pt x="96" y="2"/>
                </a:lnTo>
                <a:lnTo>
                  <a:pt x="71" y="6"/>
                </a:lnTo>
                <a:lnTo>
                  <a:pt x="48" y="10"/>
                </a:lnTo>
                <a:lnTo>
                  <a:pt x="37" y="12"/>
                </a:lnTo>
                <a:lnTo>
                  <a:pt x="37" y="14"/>
                </a:lnTo>
                <a:lnTo>
                  <a:pt x="37" y="16"/>
                </a:lnTo>
                <a:lnTo>
                  <a:pt x="37" y="16"/>
                </a:lnTo>
                <a:lnTo>
                  <a:pt x="35" y="18"/>
                </a:lnTo>
                <a:lnTo>
                  <a:pt x="35" y="20"/>
                </a:lnTo>
                <a:lnTo>
                  <a:pt x="35" y="20"/>
                </a:lnTo>
                <a:lnTo>
                  <a:pt x="35" y="22"/>
                </a:lnTo>
                <a:lnTo>
                  <a:pt x="35" y="24"/>
                </a:lnTo>
                <a:lnTo>
                  <a:pt x="50" y="20"/>
                </a:lnTo>
                <a:lnTo>
                  <a:pt x="73" y="16"/>
                </a:lnTo>
                <a:lnTo>
                  <a:pt x="98" y="12"/>
                </a:lnTo>
                <a:lnTo>
                  <a:pt x="121" y="10"/>
                </a:lnTo>
                <a:lnTo>
                  <a:pt x="146" y="10"/>
                </a:lnTo>
                <a:lnTo>
                  <a:pt x="169" y="10"/>
                </a:lnTo>
                <a:lnTo>
                  <a:pt x="190" y="12"/>
                </a:lnTo>
                <a:lnTo>
                  <a:pt x="190" y="10"/>
                </a:lnTo>
                <a:lnTo>
                  <a:pt x="190" y="10"/>
                </a:lnTo>
                <a:lnTo>
                  <a:pt x="192" y="8"/>
                </a:lnTo>
                <a:lnTo>
                  <a:pt x="192" y="6"/>
                </a:lnTo>
                <a:lnTo>
                  <a:pt x="192" y="6"/>
                </a:lnTo>
                <a:lnTo>
                  <a:pt x="192" y="4"/>
                </a:lnTo>
                <a:lnTo>
                  <a:pt x="192" y="4"/>
                </a:lnTo>
                <a:lnTo>
                  <a:pt x="194" y="2"/>
                </a:lnTo>
                <a:close/>
                <a:moveTo>
                  <a:pt x="4" y="945"/>
                </a:moveTo>
                <a:lnTo>
                  <a:pt x="25" y="950"/>
                </a:lnTo>
                <a:lnTo>
                  <a:pt x="48" y="956"/>
                </a:lnTo>
                <a:lnTo>
                  <a:pt x="71" y="960"/>
                </a:lnTo>
                <a:lnTo>
                  <a:pt x="96" y="962"/>
                </a:lnTo>
                <a:lnTo>
                  <a:pt x="121" y="964"/>
                </a:lnTo>
                <a:lnTo>
                  <a:pt x="146" y="966"/>
                </a:lnTo>
                <a:lnTo>
                  <a:pt x="171" y="964"/>
                </a:lnTo>
                <a:lnTo>
                  <a:pt x="194" y="962"/>
                </a:lnTo>
                <a:lnTo>
                  <a:pt x="194" y="962"/>
                </a:lnTo>
                <a:lnTo>
                  <a:pt x="194" y="960"/>
                </a:lnTo>
                <a:lnTo>
                  <a:pt x="194" y="960"/>
                </a:lnTo>
                <a:lnTo>
                  <a:pt x="194" y="958"/>
                </a:lnTo>
                <a:lnTo>
                  <a:pt x="192" y="956"/>
                </a:lnTo>
                <a:lnTo>
                  <a:pt x="192" y="956"/>
                </a:lnTo>
                <a:lnTo>
                  <a:pt x="192" y="954"/>
                </a:lnTo>
                <a:lnTo>
                  <a:pt x="192" y="954"/>
                </a:lnTo>
                <a:lnTo>
                  <a:pt x="169" y="954"/>
                </a:lnTo>
                <a:lnTo>
                  <a:pt x="146" y="956"/>
                </a:lnTo>
                <a:lnTo>
                  <a:pt x="121" y="954"/>
                </a:lnTo>
                <a:lnTo>
                  <a:pt x="98" y="952"/>
                </a:lnTo>
                <a:lnTo>
                  <a:pt x="73" y="950"/>
                </a:lnTo>
                <a:lnTo>
                  <a:pt x="50" y="946"/>
                </a:lnTo>
                <a:lnTo>
                  <a:pt x="27" y="941"/>
                </a:lnTo>
                <a:lnTo>
                  <a:pt x="4" y="935"/>
                </a:lnTo>
                <a:lnTo>
                  <a:pt x="0" y="933"/>
                </a:lnTo>
                <a:lnTo>
                  <a:pt x="2" y="935"/>
                </a:lnTo>
                <a:lnTo>
                  <a:pt x="2" y="935"/>
                </a:lnTo>
                <a:lnTo>
                  <a:pt x="2" y="937"/>
                </a:lnTo>
                <a:lnTo>
                  <a:pt x="2" y="939"/>
                </a:lnTo>
                <a:lnTo>
                  <a:pt x="2" y="939"/>
                </a:lnTo>
                <a:lnTo>
                  <a:pt x="2" y="941"/>
                </a:lnTo>
                <a:lnTo>
                  <a:pt x="4" y="943"/>
                </a:lnTo>
                <a:lnTo>
                  <a:pt x="4" y="945"/>
                </a:lnTo>
                <a:close/>
              </a:path>
            </a:pathLst>
          </a:custGeom>
          <a:solidFill>
            <a:srgbClr val="9a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188"/>
          <p:cNvSpPr/>
          <p:nvPr/>
        </p:nvSpPr>
        <p:spPr>
          <a:xfrm>
            <a:off x="6897600" y="2538360"/>
            <a:ext cx="308160" cy="1517760"/>
          </a:xfrm>
          <a:custGeom>
            <a:avLst/>
            <a:gdLst>
              <a:gd name="textAreaLeft" fmla="*/ 0 w 308160"/>
              <a:gd name="textAreaRight" fmla="*/ 308520 w 308160"/>
              <a:gd name="textAreaTop" fmla="*/ 0 h 1517760"/>
              <a:gd name="textAreaBottom" fmla="*/ 1518120 h 1517760"/>
            </a:gdLst>
            <a:ahLst/>
            <a:rect l="textAreaLeft" t="textAreaTop" r="textAreaRight" b="textAreaBottom"/>
            <a:pathLst>
              <a:path w="194" h="956">
                <a:moveTo>
                  <a:pt x="192" y="2"/>
                </a:moveTo>
                <a:lnTo>
                  <a:pt x="171" y="2"/>
                </a:lnTo>
                <a:lnTo>
                  <a:pt x="146" y="0"/>
                </a:lnTo>
                <a:lnTo>
                  <a:pt x="121" y="2"/>
                </a:lnTo>
                <a:lnTo>
                  <a:pt x="96" y="4"/>
                </a:lnTo>
                <a:lnTo>
                  <a:pt x="73" y="6"/>
                </a:lnTo>
                <a:lnTo>
                  <a:pt x="50" y="10"/>
                </a:lnTo>
                <a:lnTo>
                  <a:pt x="35" y="14"/>
                </a:lnTo>
                <a:lnTo>
                  <a:pt x="35" y="16"/>
                </a:lnTo>
                <a:lnTo>
                  <a:pt x="35" y="16"/>
                </a:lnTo>
                <a:lnTo>
                  <a:pt x="35" y="18"/>
                </a:lnTo>
                <a:lnTo>
                  <a:pt x="35" y="20"/>
                </a:lnTo>
                <a:lnTo>
                  <a:pt x="33" y="20"/>
                </a:lnTo>
                <a:lnTo>
                  <a:pt x="33" y="21"/>
                </a:lnTo>
                <a:lnTo>
                  <a:pt x="33" y="23"/>
                </a:lnTo>
                <a:lnTo>
                  <a:pt x="33" y="23"/>
                </a:lnTo>
                <a:lnTo>
                  <a:pt x="52" y="20"/>
                </a:lnTo>
                <a:lnTo>
                  <a:pt x="75" y="16"/>
                </a:lnTo>
                <a:lnTo>
                  <a:pt x="98" y="12"/>
                </a:lnTo>
                <a:lnTo>
                  <a:pt x="121" y="12"/>
                </a:lnTo>
                <a:lnTo>
                  <a:pt x="146" y="10"/>
                </a:lnTo>
                <a:lnTo>
                  <a:pt x="169" y="12"/>
                </a:lnTo>
                <a:lnTo>
                  <a:pt x="188" y="12"/>
                </a:lnTo>
                <a:lnTo>
                  <a:pt x="190" y="12"/>
                </a:lnTo>
                <a:lnTo>
                  <a:pt x="190" y="10"/>
                </a:lnTo>
                <a:lnTo>
                  <a:pt x="190" y="8"/>
                </a:lnTo>
                <a:lnTo>
                  <a:pt x="190" y="8"/>
                </a:lnTo>
                <a:lnTo>
                  <a:pt x="190" y="6"/>
                </a:lnTo>
                <a:lnTo>
                  <a:pt x="190" y="6"/>
                </a:lnTo>
                <a:lnTo>
                  <a:pt x="192" y="4"/>
                </a:lnTo>
                <a:lnTo>
                  <a:pt x="192" y="2"/>
                </a:lnTo>
                <a:close/>
                <a:moveTo>
                  <a:pt x="2" y="935"/>
                </a:moveTo>
                <a:lnTo>
                  <a:pt x="4" y="935"/>
                </a:lnTo>
                <a:lnTo>
                  <a:pt x="27" y="941"/>
                </a:lnTo>
                <a:lnTo>
                  <a:pt x="50" y="946"/>
                </a:lnTo>
                <a:lnTo>
                  <a:pt x="73" y="950"/>
                </a:lnTo>
                <a:lnTo>
                  <a:pt x="96" y="954"/>
                </a:lnTo>
                <a:lnTo>
                  <a:pt x="121" y="956"/>
                </a:lnTo>
                <a:lnTo>
                  <a:pt x="146" y="956"/>
                </a:lnTo>
                <a:lnTo>
                  <a:pt x="171" y="956"/>
                </a:lnTo>
                <a:lnTo>
                  <a:pt x="194" y="954"/>
                </a:lnTo>
                <a:lnTo>
                  <a:pt x="192" y="952"/>
                </a:lnTo>
                <a:lnTo>
                  <a:pt x="192" y="952"/>
                </a:lnTo>
                <a:lnTo>
                  <a:pt x="192" y="950"/>
                </a:lnTo>
                <a:lnTo>
                  <a:pt x="192" y="950"/>
                </a:lnTo>
                <a:lnTo>
                  <a:pt x="192" y="948"/>
                </a:lnTo>
                <a:lnTo>
                  <a:pt x="190" y="946"/>
                </a:lnTo>
                <a:lnTo>
                  <a:pt x="190" y="946"/>
                </a:lnTo>
                <a:lnTo>
                  <a:pt x="190" y="944"/>
                </a:lnTo>
                <a:lnTo>
                  <a:pt x="169" y="946"/>
                </a:lnTo>
                <a:lnTo>
                  <a:pt x="146" y="946"/>
                </a:lnTo>
                <a:lnTo>
                  <a:pt x="121" y="946"/>
                </a:lnTo>
                <a:lnTo>
                  <a:pt x="98" y="944"/>
                </a:lnTo>
                <a:lnTo>
                  <a:pt x="75" y="941"/>
                </a:lnTo>
                <a:lnTo>
                  <a:pt x="52" y="937"/>
                </a:lnTo>
                <a:lnTo>
                  <a:pt x="29" y="933"/>
                </a:lnTo>
                <a:lnTo>
                  <a:pt x="6" y="925"/>
                </a:lnTo>
                <a:lnTo>
                  <a:pt x="0" y="923"/>
                </a:lnTo>
                <a:lnTo>
                  <a:pt x="0" y="925"/>
                </a:lnTo>
                <a:lnTo>
                  <a:pt x="0" y="927"/>
                </a:lnTo>
                <a:lnTo>
                  <a:pt x="0" y="927"/>
                </a:lnTo>
                <a:lnTo>
                  <a:pt x="0" y="929"/>
                </a:lnTo>
                <a:lnTo>
                  <a:pt x="2" y="931"/>
                </a:lnTo>
                <a:lnTo>
                  <a:pt x="2" y="931"/>
                </a:lnTo>
                <a:lnTo>
                  <a:pt x="2" y="933"/>
                </a:lnTo>
                <a:lnTo>
                  <a:pt x="2" y="935"/>
                </a:lnTo>
                <a:close/>
              </a:path>
            </a:pathLst>
          </a:custGeom>
          <a:solidFill>
            <a:srgbClr val="9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189"/>
          <p:cNvSpPr/>
          <p:nvPr/>
        </p:nvSpPr>
        <p:spPr>
          <a:xfrm>
            <a:off x="6894360" y="2548080"/>
            <a:ext cx="308160" cy="1501560"/>
          </a:xfrm>
          <a:custGeom>
            <a:avLst/>
            <a:gdLst>
              <a:gd name="textAreaLeft" fmla="*/ 0 w 308160"/>
              <a:gd name="textAreaRight" fmla="*/ 308520 w 308160"/>
              <a:gd name="textAreaTop" fmla="*/ 0 h 1501560"/>
              <a:gd name="textAreaBottom" fmla="*/ 1501920 h 1501560"/>
            </a:gdLst>
            <a:ahLst/>
            <a:rect l="textAreaLeft" t="textAreaTop" r="textAreaRight" b="textAreaBottom"/>
            <a:pathLst>
              <a:path w="194" h="946">
                <a:moveTo>
                  <a:pt x="192" y="2"/>
                </a:moveTo>
                <a:lnTo>
                  <a:pt x="171" y="0"/>
                </a:lnTo>
                <a:lnTo>
                  <a:pt x="148" y="0"/>
                </a:lnTo>
                <a:lnTo>
                  <a:pt x="123" y="0"/>
                </a:lnTo>
                <a:lnTo>
                  <a:pt x="100" y="2"/>
                </a:lnTo>
                <a:lnTo>
                  <a:pt x="75" y="6"/>
                </a:lnTo>
                <a:lnTo>
                  <a:pt x="52" y="10"/>
                </a:lnTo>
                <a:lnTo>
                  <a:pt x="37" y="14"/>
                </a:lnTo>
                <a:lnTo>
                  <a:pt x="35" y="14"/>
                </a:lnTo>
                <a:lnTo>
                  <a:pt x="35" y="15"/>
                </a:lnTo>
                <a:lnTo>
                  <a:pt x="35" y="17"/>
                </a:lnTo>
                <a:lnTo>
                  <a:pt x="35" y="17"/>
                </a:lnTo>
                <a:lnTo>
                  <a:pt x="33" y="19"/>
                </a:lnTo>
                <a:lnTo>
                  <a:pt x="33" y="21"/>
                </a:lnTo>
                <a:lnTo>
                  <a:pt x="33" y="21"/>
                </a:lnTo>
                <a:lnTo>
                  <a:pt x="33" y="23"/>
                </a:lnTo>
                <a:lnTo>
                  <a:pt x="54" y="19"/>
                </a:lnTo>
                <a:lnTo>
                  <a:pt x="77" y="14"/>
                </a:lnTo>
                <a:lnTo>
                  <a:pt x="100" y="12"/>
                </a:lnTo>
                <a:lnTo>
                  <a:pt x="123" y="10"/>
                </a:lnTo>
                <a:lnTo>
                  <a:pt x="148" y="10"/>
                </a:lnTo>
                <a:lnTo>
                  <a:pt x="171" y="10"/>
                </a:lnTo>
                <a:lnTo>
                  <a:pt x="190" y="12"/>
                </a:lnTo>
                <a:lnTo>
                  <a:pt x="190" y="10"/>
                </a:lnTo>
                <a:lnTo>
                  <a:pt x="190" y="8"/>
                </a:lnTo>
                <a:lnTo>
                  <a:pt x="190" y="8"/>
                </a:lnTo>
                <a:lnTo>
                  <a:pt x="190" y="6"/>
                </a:lnTo>
                <a:lnTo>
                  <a:pt x="192" y="6"/>
                </a:lnTo>
                <a:lnTo>
                  <a:pt x="192" y="4"/>
                </a:lnTo>
                <a:lnTo>
                  <a:pt x="192" y="2"/>
                </a:lnTo>
                <a:lnTo>
                  <a:pt x="192" y="2"/>
                </a:lnTo>
                <a:close/>
                <a:moveTo>
                  <a:pt x="2" y="923"/>
                </a:moveTo>
                <a:lnTo>
                  <a:pt x="6" y="925"/>
                </a:lnTo>
                <a:lnTo>
                  <a:pt x="29" y="931"/>
                </a:lnTo>
                <a:lnTo>
                  <a:pt x="52" y="936"/>
                </a:lnTo>
                <a:lnTo>
                  <a:pt x="75" y="940"/>
                </a:lnTo>
                <a:lnTo>
                  <a:pt x="100" y="942"/>
                </a:lnTo>
                <a:lnTo>
                  <a:pt x="123" y="944"/>
                </a:lnTo>
                <a:lnTo>
                  <a:pt x="148" y="946"/>
                </a:lnTo>
                <a:lnTo>
                  <a:pt x="171" y="944"/>
                </a:lnTo>
                <a:lnTo>
                  <a:pt x="194" y="944"/>
                </a:lnTo>
                <a:lnTo>
                  <a:pt x="194" y="942"/>
                </a:lnTo>
                <a:lnTo>
                  <a:pt x="192" y="940"/>
                </a:lnTo>
                <a:lnTo>
                  <a:pt x="192" y="940"/>
                </a:lnTo>
                <a:lnTo>
                  <a:pt x="192" y="938"/>
                </a:lnTo>
                <a:lnTo>
                  <a:pt x="192" y="938"/>
                </a:lnTo>
                <a:lnTo>
                  <a:pt x="192" y="936"/>
                </a:lnTo>
                <a:lnTo>
                  <a:pt x="190" y="935"/>
                </a:lnTo>
                <a:lnTo>
                  <a:pt x="190" y="935"/>
                </a:lnTo>
                <a:lnTo>
                  <a:pt x="171" y="935"/>
                </a:lnTo>
                <a:lnTo>
                  <a:pt x="148" y="936"/>
                </a:lnTo>
                <a:lnTo>
                  <a:pt x="123" y="935"/>
                </a:lnTo>
                <a:lnTo>
                  <a:pt x="100" y="935"/>
                </a:lnTo>
                <a:lnTo>
                  <a:pt x="77" y="931"/>
                </a:lnTo>
                <a:lnTo>
                  <a:pt x="54" y="927"/>
                </a:lnTo>
                <a:lnTo>
                  <a:pt x="31" y="921"/>
                </a:lnTo>
                <a:lnTo>
                  <a:pt x="10" y="915"/>
                </a:lnTo>
                <a:lnTo>
                  <a:pt x="0" y="912"/>
                </a:lnTo>
                <a:lnTo>
                  <a:pt x="0" y="913"/>
                </a:lnTo>
                <a:lnTo>
                  <a:pt x="2" y="915"/>
                </a:lnTo>
                <a:lnTo>
                  <a:pt x="2" y="915"/>
                </a:lnTo>
                <a:lnTo>
                  <a:pt x="2" y="917"/>
                </a:lnTo>
                <a:lnTo>
                  <a:pt x="2" y="919"/>
                </a:lnTo>
                <a:lnTo>
                  <a:pt x="2" y="921"/>
                </a:lnTo>
                <a:lnTo>
                  <a:pt x="2" y="921"/>
                </a:lnTo>
                <a:lnTo>
                  <a:pt x="2" y="923"/>
                </a:lnTo>
                <a:close/>
              </a:path>
            </a:pathLst>
          </a:custGeom>
          <a:solidFill>
            <a:srgbClr val="9c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190"/>
          <p:cNvSpPr/>
          <p:nvPr/>
        </p:nvSpPr>
        <p:spPr>
          <a:xfrm>
            <a:off x="6894360" y="2554200"/>
            <a:ext cx="304920" cy="1486080"/>
          </a:xfrm>
          <a:custGeom>
            <a:avLst/>
            <a:gdLst>
              <a:gd name="textAreaLeft" fmla="*/ 0 w 304920"/>
              <a:gd name="textAreaRight" fmla="*/ 305280 w 30492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192" h="936">
                <a:moveTo>
                  <a:pt x="190" y="2"/>
                </a:moveTo>
                <a:lnTo>
                  <a:pt x="171" y="2"/>
                </a:lnTo>
                <a:lnTo>
                  <a:pt x="148" y="0"/>
                </a:lnTo>
                <a:lnTo>
                  <a:pt x="123" y="2"/>
                </a:lnTo>
                <a:lnTo>
                  <a:pt x="100" y="2"/>
                </a:lnTo>
                <a:lnTo>
                  <a:pt x="77" y="6"/>
                </a:lnTo>
                <a:lnTo>
                  <a:pt x="54" y="10"/>
                </a:lnTo>
                <a:lnTo>
                  <a:pt x="35" y="13"/>
                </a:lnTo>
                <a:lnTo>
                  <a:pt x="33" y="15"/>
                </a:lnTo>
                <a:lnTo>
                  <a:pt x="33" y="17"/>
                </a:lnTo>
                <a:lnTo>
                  <a:pt x="33" y="17"/>
                </a:lnTo>
                <a:lnTo>
                  <a:pt x="33" y="19"/>
                </a:lnTo>
                <a:lnTo>
                  <a:pt x="33" y="21"/>
                </a:lnTo>
                <a:lnTo>
                  <a:pt x="31" y="23"/>
                </a:lnTo>
                <a:lnTo>
                  <a:pt x="31" y="23"/>
                </a:lnTo>
                <a:lnTo>
                  <a:pt x="31" y="25"/>
                </a:lnTo>
                <a:lnTo>
                  <a:pt x="33" y="25"/>
                </a:lnTo>
                <a:lnTo>
                  <a:pt x="56" y="19"/>
                </a:lnTo>
                <a:lnTo>
                  <a:pt x="77" y="15"/>
                </a:lnTo>
                <a:lnTo>
                  <a:pt x="100" y="11"/>
                </a:lnTo>
                <a:lnTo>
                  <a:pt x="123" y="10"/>
                </a:lnTo>
                <a:lnTo>
                  <a:pt x="148" y="10"/>
                </a:lnTo>
                <a:lnTo>
                  <a:pt x="171" y="10"/>
                </a:lnTo>
                <a:lnTo>
                  <a:pt x="188" y="11"/>
                </a:lnTo>
                <a:lnTo>
                  <a:pt x="188" y="11"/>
                </a:lnTo>
                <a:lnTo>
                  <a:pt x="188" y="10"/>
                </a:lnTo>
                <a:lnTo>
                  <a:pt x="190" y="8"/>
                </a:lnTo>
                <a:lnTo>
                  <a:pt x="190" y="8"/>
                </a:lnTo>
                <a:lnTo>
                  <a:pt x="190" y="6"/>
                </a:lnTo>
                <a:lnTo>
                  <a:pt x="190" y="4"/>
                </a:lnTo>
                <a:lnTo>
                  <a:pt x="190" y="4"/>
                </a:lnTo>
                <a:lnTo>
                  <a:pt x="190" y="2"/>
                </a:lnTo>
                <a:close/>
                <a:moveTo>
                  <a:pt x="2" y="913"/>
                </a:moveTo>
                <a:lnTo>
                  <a:pt x="8" y="915"/>
                </a:lnTo>
                <a:lnTo>
                  <a:pt x="31" y="923"/>
                </a:lnTo>
                <a:lnTo>
                  <a:pt x="54" y="927"/>
                </a:lnTo>
                <a:lnTo>
                  <a:pt x="77" y="931"/>
                </a:lnTo>
                <a:lnTo>
                  <a:pt x="100" y="934"/>
                </a:lnTo>
                <a:lnTo>
                  <a:pt x="123" y="936"/>
                </a:lnTo>
                <a:lnTo>
                  <a:pt x="148" y="936"/>
                </a:lnTo>
                <a:lnTo>
                  <a:pt x="171" y="936"/>
                </a:lnTo>
                <a:lnTo>
                  <a:pt x="192" y="934"/>
                </a:lnTo>
                <a:lnTo>
                  <a:pt x="192" y="934"/>
                </a:lnTo>
                <a:lnTo>
                  <a:pt x="192" y="932"/>
                </a:lnTo>
                <a:lnTo>
                  <a:pt x="190" y="931"/>
                </a:lnTo>
                <a:lnTo>
                  <a:pt x="190" y="931"/>
                </a:lnTo>
                <a:lnTo>
                  <a:pt x="190" y="929"/>
                </a:lnTo>
                <a:lnTo>
                  <a:pt x="190" y="929"/>
                </a:lnTo>
                <a:lnTo>
                  <a:pt x="190" y="927"/>
                </a:lnTo>
                <a:lnTo>
                  <a:pt x="188" y="925"/>
                </a:lnTo>
                <a:lnTo>
                  <a:pt x="171" y="927"/>
                </a:lnTo>
                <a:lnTo>
                  <a:pt x="148" y="927"/>
                </a:lnTo>
                <a:lnTo>
                  <a:pt x="123" y="927"/>
                </a:lnTo>
                <a:lnTo>
                  <a:pt x="100" y="925"/>
                </a:lnTo>
                <a:lnTo>
                  <a:pt x="77" y="923"/>
                </a:lnTo>
                <a:lnTo>
                  <a:pt x="56" y="917"/>
                </a:lnTo>
                <a:lnTo>
                  <a:pt x="33" y="913"/>
                </a:lnTo>
                <a:lnTo>
                  <a:pt x="12" y="908"/>
                </a:lnTo>
                <a:lnTo>
                  <a:pt x="0" y="904"/>
                </a:lnTo>
                <a:lnTo>
                  <a:pt x="0" y="904"/>
                </a:lnTo>
                <a:lnTo>
                  <a:pt x="0" y="906"/>
                </a:lnTo>
                <a:lnTo>
                  <a:pt x="0" y="908"/>
                </a:lnTo>
                <a:lnTo>
                  <a:pt x="0" y="908"/>
                </a:lnTo>
                <a:lnTo>
                  <a:pt x="0" y="909"/>
                </a:lnTo>
                <a:lnTo>
                  <a:pt x="2" y="911"/>
                </a:lnTo>
                <a:lnTo>
                  <a:pt x="2" y="911"/>
                </a:lnTo>
                <a:lnTo>
                  <a:pt x="2" y="913"/>
                </a:lnTo>
                <a:close/>
              </a:path>
            </a:pathLst>
          </a:custGeom>
          <a:solidFill>
            <a:srgbClr val="9d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191"/>
          <p:cNvSpPr/>
          <p:nvPr/>
        </p:nvSpPr>
        <p:spPr>
          <a:xfrm>
            <a:off x="6891480" y="2563920"/>
            <a:ext cx="304560" cy="1469880"/>
          </a:xfrm>
          <a:custGeom>
            <a:avLst/>
            <a:gdLst>
              <a:gd name="textAreaLeft" fmla="*/ 0 w 304560"/>
              <a:gd name="textAreaRight" fmla="*/ 304920 w 304560"/>
              <a:gd name="textAreaTop" fmla="*/ 0 h 1469880"/>
              <a:gd name="textAreaBottom" fmla="*/ 1470240 h 1469880"/>
            </a:gdLst>
            <a:ahLst/>
            <a:rect l="textAreaLeft" t="textAreaTop" r="textAreaRight" b="textAreaBottom"/>
            <a:pathLst>
              <a:path w="192" h="926">
                <a:moveTo>
                  <a:pt x="192" y="2"/>
                </a:moveTo>
                <a:lnTo>
                  <a:pt x="173" y="0"/>
                </a:lnTo>
                <a:lnTo>
                  <a:pt x="150" y="0"/>
                </a:lnTo>
                <a:lnTo>
                  <a:pt x="125" y="0"/>
                </a:lnTo>
                <a:lnTo>
                  <a:pt x="102" y="2"/>
                </a:lnTo>
                <a:lnTo>
                  <a:pt x="79" y="4"/>
                </a:lnTo>
                <a:lnTo>
                  <a:pt x="56" y="9"/>
                </a:lnTo>
                <a:lnTo>
                  <a:pt x="35" y="13"/>
                </a:lnTo>
                <a:lnTo>
                  <a:pt x="35" y="15"/>
                </a:lnTo>
                <a:lnTo>
                  <a:pt x="33" y="17"/>
                </a:lnTo>
                <a:lnTo>
                  <a:pt x="33" y="17"/>
                </a:lnTo>
                <a:lnTo>
                  <a:pt x="33" y="19"/>
                </a:lnTo>
                <a:lnTo>
                  <a:pt x="33" y="21"/>
                </a:lnTo>
                <a:lnTo>
                  <a:pt x="33" y="21"/>
                </a:lnTo>
                <a:lnTo>
                  <a:pt x="31" y="23"/>
                </a:lnTo>
                <a:lnTo>
                  <a:pt x="31" y="25"/>
                </a:lnTo>
                <a:lnTo>
                  <a:pt x="37" y="23"/>
                </a:lnTo>
                <a:lnTo>
                  <a:pt x="58" y="17"/>
                </a:lnTo>
                <a:lnTo>
                  <a:pt x="81" y="13"/>
                </a:lnTo>
                <a:lnTo>
                  <a:pt x="104" y="11"/>
                </a:lnTo>
                <a:lnTo>
                  <a:pt x="127" y="9"/>
                </a:lnTo>
                <a:lnTo>
                  <a:pt x="150" y="9"/>
                </a:lnTo>
                <a:lnTo>
                  <a:pt x="173" y="9"/>
                </a:lnTo>
                <a:lnTo>
                  <a:pt x="188" y="11"/>
                </a:lnTo>
                <a:lnTo>
                  <a:pt x="188" y="9"/>
                </a:lnTo>
                <a:lnTo>
                  <a:pt x="190" y="7"/>
                </a:lnTo>
                <a:lnTo>
                  <a:pt x="190" y="7"/>
                </a:lnTo>
                <a:lnTo>
                  <a:pt x="190" y="5"/>
                </a:lnTo>
                <a:lnTo>
                  <a:pt x="190" y="5"/>
                </a:lnTo>
                <a:lnTo>
                  <a:pt x="190" y="4"/>
                </a:lnTo>
                <a:lnTo>
                  <a:pt x="192" y="2"/>
                </a:lnTo>
                <a:lnTo>
                  <a:pt x="192" y="2"/>
                </a:lnTo>
                <a:close/>
                <a:moveTo>
                  <a:pt x="2" y="902"/>
                </a:moveTo>
                <a:lnTo>
                  <a:pt x="12" y="905"/>
                </a:lnTo>
                <a:lnTo>
                  <a:pt x="33" y="911"/>
                </a:lnTo>
                <a:lnTo>
                  <a:pt x="56" y="917"/>
                </a:lnTo>
                <a:lnTo>
                  <a:pt x="79" y="921"/>
                </a:lnTo>
                <a:lnTo>
                  <a:pt x="102" y="925"/>
                </a:lnTo>
                <a:lnTo>
                  <a:pt x="125" y="925"/>
                </a:lnTo>
                <a:lnTo>
                  <a:pt x="150" y="926"/>
                </a:lnTo>
                <a:lnTo>
                  <a:pt x="173" y="925"/>
                </a:lnTo>
                <a:lnTo>
                  <a:pt x="192" y="925"/>
                </a:lnTo>
                <a:lnTo>
                  <a:pt x="192" y="923"/>
                </a:lnTo>
                <a:lnTo>
                  <a:pt x="192" y="923"/>
                </a:lnTo>
                <a:lnTo>
                  <a:pt x="192" y="921"/>
                </a:lnTo>
                <a:lnTo>
                  <a:pt x="190" y="919"/>
                </a:lnTo>
                <a:lnTo>
                  <a:pt x="190" y="919"/>
                </a:lnTo>
                <a:lnTo>
                  <a:pt x="190" y="917"/>
                </a:lnTo>
                <a:lnTo>
                  <a:pt x="190" y="915"/>
                </a:lnTo>
                <a:lnTo>
                  <a:pt x="190" y="915"/>
                </a:lnTo>
                <a:lnTo>
                  <a:pt x="173" y="917"/>
                </a:lnTo>
                <a:lnTo>
                  <a:pt x="150" y="917"/>
                </a:lnTo>
                <a:lnTo>
                  <a:pt x="127" y="917"/>
                </a:lnTo>
                <a:lnTo>
                  <a:pt x="104" y="915"/>
                </a:lnTo>
                <a:lnTo>
                  <a:pt x="81" y="911"/>
                </a:lnTo>
                <a:lnTo>
                  <a:pt x="58" y="907"/>
                </a:lnTo>
                <a:lnTo>
                  <a:pt x="37" y="902"/>
                </a:lnTo>
                <a:lnTo>
                  <a:pt x="14" y="896"/>
                </a:lnTo>
                <a:lnTo>
                  <a:pt x="0" y="892"/>
                </a:lnTo>
                <a:lnTo>
                  <a:pt x="0" y="892"/>
                </a:lnTo>
                <a:lnTo>
                  <a:pt x="0" y="894"/>
                </a:lnTo>
                <a:lnTo>
                  <a:pt x="0" y="896"/>
                </a:lnTo>
                <a:lnTo>
                  <a:pt x="2" y="898"/>
                </a:lnTo>
                <a:lnTo>
                  <a:pt x="2" y="898"/>
                </a:lnTo>
                <a:lnTo>
                  <a:pt x="2" y="900"/>
                </a:lnTo>
                <a:lnTo>
                  <a:pt x="2" y="902"/>
                </a:lnTo>
                <a:lnTo>
                  <a:pt x="2" y="902"/>
                </a:lnTo>
                <a:close/>
              </a:path>
            </a:pathLst>
          </a:custGeom>
          <a:solidFill>
            <a:srgbClr val="9e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192"/>
          <p:cNvSpPr/>
          <p:nvPr/>
        </p:nvSpPr>
        <p:spPr>
          <a:xfrm>
            <a:off x="6888240" y="2570040"/>
            <a:ext cx="304560" cy="1455840"/>
          </a:xfrm>
          <a:custGeom>
            <a:avLst/>
            <a:gdLst>
              <a:gd name="textAreaLeft" fmla="*/ 0 w 304560"/>
              <a:gd name="textAreaRight" fmla="*/ 304920 w 304560"/>
              <a:gd name="textAreaTop" fmla="*/ 0 h 1455840"/>
              <a:gd name="textAreaBottom" fmla="*/ 1455840 h 1455840"/>
            </a:gdLst>
            <a:ahLst/>
            <a:rect l="textAreaLeft" t="textAreaTop" r="textAreaRight" b="textAreaBottom"/>
            <a:pathLst>
              <a:path w="192" h="917">
                <a:moveTo>
                  <a:pt x="192" y="1"/>
                </a:moveTo>
                <a:lnTo>
                  <a:pt x="175" y="0"/>
                </a:lnTo>
                <a:lnTo>
                  <a:pt x="152" y="0"/>
                </a:lnTo>
                <a:lnTo>
                  <a:pt x="127" y="0"/>
                </a:lnTo>
                <a:lnTo>
                  <a:pt x="104" y="1"/>
                </a:lnTo>
                <a:lnTo>
                  <a:pt x="81" y="5"/>
                </a:lnTo>
                <a:lnTo>
                  <a:pt x="60" y="9"/>
                </a:lnTo>
                <a:lnTo>
                  <a:pt x="37" y="15"/>
                </a:lnTo>
                <a:lnTo>
                  <a:pt x="35" y="15"/>
                </a:lnTo>
                <a:lnTo>
                  <a:pt x="35" y="17"/>
                </a:lnTo>
                <a:lnTo>
                  <a:pt x="35" y="17"/>
                </a:lnTo>
                <a:lnTo>
                  <a:pt x="33" y="19"/>
                </a:lnTo>
                <a:lnTo>
                  <a:pt x="33" y="21"/>
                </a:lnTo>
                <a:lnTo>
                  <a:pt x="33" y="21"/>
                </a:lnTo>
                <a:lnTo>
                  <a:pt x="33" y="23"/>
                </a:lnTo>
                <a:lnTo>
                  <a:pt x="31" y="24"/>
                </a:lnTo>
                <a:lnTo>
                  <a:pt x="31" y="26"/>
                </a:lnTo>
                <a:lnTo>
                  <a:pt x="39" y="23"/>
                </a:lnTo>
                <a:lnTo>
                  <a:pt x="62" y="19"/>
                </a:lnTo>
                <a:lnTo>
                  <a:pt x="83" y="15"/>
                </a:lnTo>
                <a:lnTo>
                  <a:pt x="106" y="11"/>
                </a:lnTo>
                <a:lnTo>
                  <a:pt x="129" y="9"/>
                </a:lnTo>
                <a:lnTo>
                  <a:pt x="152" y="9"/>
                </a:lnTo>
                <a:lnTo>
                  <a:pt x="175" y="9"/>
                </a:lnTo>
                <a:lnTo>
                  <a:pt x="190" y="11"/>
                </a:lnTo>
                <a:lnTo>
                  <a:pt x="190" y="9"/>
                </a:lnTo>
                <a:lnTo>
                  <a:pt x="190" y="9"/>
                </a:lnTo>
                <a:lnTo>
                  <a:pt x="190" y="7"/>
                </a:lnTo>
                <a:lnTo>
                  <a:pt x="190" y="7"/>
                </a:lnTo>
                <a:lnTo>
                  <a:pt x="190" y="5"/>
                </a:lnTo>
                <a:lnTo>
                  <a:pt x="192" y="3"/>
                </a:lnTo>
                <a:lnTo>
                  <a:pt x="192" y="3"/>
                </a:lnTo>
                <a:lnTo>
                  <a:pt x="192" y="1"/>
                </a:lnTo>
                <a:close/>
                <a:moveTo>
                  <a:pt x="4" y="894"/>
                </a:moveTo>
                <a:lnTo>
                  <a:pt x="16" y="898"/>
                </a:lnTo>
                <a:lnTo>
                  <a:pt x="37" y="903"/>
                </a:lnTo>
                <a:lnTo>
                  <a:pt x="60" y="907"/>
                </a:lnTo>
                <a:lnTo>
                  <a:pt x="81" y="913"/>
                </a:lnTo>
                <a:lnTo>
                  <a:pt x="104" y="915"/>
                </a:lnTo>
                <a:lnTo>
                  <a:pt x="127" y="917"/>
                </a:lnTo>
                <a:lnTo>
                  <a:pt x="152" y="917"/>
                </a:lnTo>
                <a:lnTo>
                  <a:pt x="175" y="917"/>
                </a:lnTo>
                <a:lnTo>
                  <a:pt x="192" y="915"/>
                </a:lnTo>
                <a:lnTo>
                  <a:pt x="192" y="915"/>
                </a:lnTo>
                <a:lnTo>
                  <a:pt x="192" y="913"/>
                </a:lnTo>
                <a:lnTo>
                  <a:pt x="192" y="911"/>
                </a:lnTo>
                <a:lnTo>
                  <a:pt x="192" y="911"/>
                </a:lnTo>
                <a:lnTo>
                  <a:pt x="190" y="909"/>
                </a:lnTo>
                <a:lnTo>
                  <a:pt x="190" y="909"/>
                </a:lnTo>
                <a:lnTo>
                  <a:pt x="190" y="907"/>
                </a:lnTo>
                <a:lnTo>
                  <a:pt x="190" y="905"/>
                </a:lnTo>
                <a:lnTo>
                  <a:pt x="175" y="907"/>
                </a:lnTo>
                <a:lnTo>
                  <a:pt x="152" y="907"/>
                </a:lnTo>
                <a:lnTo>
                  <a:pt x="129" y="907"/>
                </a:lnTo>
                <a:lnTo>
                  <a:pt x="106" y="905"/>
                </a:lnTo>
                <a:lnTo>
                  <a:pt x="83" y="903"/>
                </a:lnTo>
                <a:lnTo>
                  <a:pt x="62" y="899"/>
                </a:lnTo>
                <a:lnTo>
                  <a:pt x="39" y="894"/>
                </a:lnTo>
                <a:lnTo>
                  <a:pt x="18" y="888"/>
                </a:lnTo>
                <a:lnTo>
                  <a:pt x="0" y="882"/>
                </a:lnTo>
                <a:lnTo>
                  <a:pt x="0" y="884"/>
                </a:lnTo>
                <a:lnTo>
                  <a:pt x="2" y="884"/>
                </a:lnTo>
                <a:lnTo>
                  <a:pt x="2" y="886"/>
                </a:lnTo>
                <a:lnTo>
                  <a:pt x="2" y="888"/>
                </a:lnTo>
                <a:lnTo>
                  <a:pt x="2" y="888"/>
                </a:lnTo>
                <a:lnTo>
                  <a:pt x="2" y="890"/>
                </a:lnTo>
                <a:lnTo>
                  <a:pt x="2" y="892"/>
                </a:lnTo>
                <a:lnTo>
                  <a:pt x="4" y="894"/>
                </a:lnTo>
                <a:close/>
              </a:path>
            </a:pathLst>
          </a:custGeom>
          <a:solidFill>
            <a:srgbClr val="9f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193"/>
          <p:cNvSpPr/>
          <p:nvPr/>
        </p:nvSpPr>
        <p:spPr>
          <a:xfrm>
            <a:off x="6888240" y="2577960"/>
            <a:ext cx="304560" cy="1441440"/>
          </a:xfrm>
          <a:custGeom>
            <a:avLst/>
            <a:gdLst>
              <a:gd name="textAreaLeft" fmla="*/ 0 w 304560"/>
              <a:gd name="textAreaRight" fmla="*/ 304920 w 30456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192" h="908">
                <a:moveTo>
                  <a:pt x="190" y="2"/>
                </a:moveTo>
                <a:lnTo>
                  <a:pt x="175" y="0"/>
                </a:lnTo>
                <a:lnTo>
                  <a:pt x="152" y="0"/>
                </a:lnTo>
                <a:lnTo>
                  <a:pt x="129" y="0"/>
                </a:lnTo>
                <a:lnTo>
                  <a:pt x="106" y="2"/>
                </a:lnTo>
                <a:lnTo>
                  <a:pt x="83" y="4"/>
                </a:lnTo>
                <a:lnTo>
                  <a:pt x="60" y="8"/>
                </a:lnTo>
                <a:lnTo>
                  <a:pt x="39" y="14"/>
                </a:lnTo>
                <a:lnTo>
                  <a:pt x="33" y="16"/>
                </a:lnTo>
                <a:lnTo>
                  <a:pt x="33" y="16"/>
                </a:lnTo>
                <a:lnTo>
                  <a:pt x="33" y="18"/>
                </a:lnTo>
                <a:lnTo>
                  <a:pt x="31" y="19"/>
                </a:lnTo>
                <a:lnTo>
                  <a:pt x="31" y="21"/>
                </a:lnTo>
                <a:lnTo>
                  <a:pt x="31" y="21"/>
                </a:lnTo>
                <a:lnTo>
                  <a:pt x="31" y="23"/>
                </a:lnTo>
                <a:lnTo>
                  <a:pt x="31" y="25"/>
                </a:lnTo>
                <a:lnTo>
                  <a:pt x="29" y="25"/>
                </a:lnTo>
                <a:lnTo>
                  <a:pt x="41" y="23"/>
                </a:lnTo>
                <a:lnTo>
                  <a:pt x="62" y="18"/>
                </a:lnTo>
                <a:lnTo>
                  <a:pt x="83" y="14"/>
                </a:lnTo>
                <a:lnTo>
                  <a:pt x="106" y="12"/>
                </a:lnTo>
                <a:lnTo>
                  <a:pt x="129" y="10"/>
                </a:lnTo>
                <a:lnTo>
                  <a:pt x="152" y="10"/>
                </a:lnTo>
                <a:lnTo>
                  <a:pt x="175" y="10"/>
                </a:lnTo>
                <a:lnTo>
                  <a:pt x="188" y="10"/>
                </a:lnTo>
                <a:lnTo>
                  <a:pt x="188" y="10"/>
                </a:lnTo>
                <a:lnTo>
                  <a:pt x="188" y="8"/>
                </a:lnTo>
                <a:lnTo>
                  <a:pt x="188" y="8"/>
                </a:lnTo>
                <a:lnTo>
                  <a:pt x="190" y="6"/>
                </a:lnTo>
                <a:lnTo>
                  <a:pt x="190" y="4"/>
                </a:lnTo>
                <a:lnTo>
                  <a:pt x="190" y="4"/>
                </a:lnTo>
                <a:lnTo>
                  <a:pt x="190" y="2"/>
                </a:lnTo>
                <a:lnTo>
                  <a:pt x="190" y="2"/>
                </a:lnTo>
                <a:close/>
                <a:moveTo>
                  <a:pt x="2" y="883"/>
                </a:moveTo>
                <a:lnTo>
                  <a:pt x="16" y="887"/>
                </a:lnTo>
                <a:lnTo>
                  <a:pt x="39" y="893"/>
                </a:lnTo>
                <a:lnTo>
                  <a:pt x="60" y="898"/>
                </a:lnTo>
                <a:lnTo>
                  <a:pt x="83" y="902"/>
                </a:lnTo>
                <a:lnTo>
                  <a:pt x="106" y="906"/>
                </a:lnTo>
                <a:lnTo>
                  <a:pt x="129" y="908"/>
                </a:lnTo>
                <a:lnTo>
                  <a:pt x="152" y="908"/>
                </a:lnTo>
                <a:lnTo>
                  <a:pt x="175" y="908"/>
                </a:lnTo>
                <a:lnTo>
                  <a:pt x="192" y="906"/>
                </a:lnTo>
                <a:lnTo>
                  <a:pt x="190" y="904"/>
                </a:lnTo>
                <a:lnTo>
                  <a:pt x="190" y="904"/>
                </a:lnTo>
                <a:lnTo>
                  <a:pt x="190" y="902"/>
                </a:lnTo>
                <a:lnTo>
                  <a:pt x="190" y="900"/>
                </a:lnTo>
                <a:lnTo>
                  <a:pt x="190" y="900"/>
                </a:lnTo>
                <a:lnTo>
                  <a:pt x="188" y="898"/>
                </a:lnTo>
                <a:lnTo>
                  <a:pt x="188" y="898"/>
                </a:lnTo>
                <a:lnTo>
                  <a:pt x="188" y="896"/>
                </a:lnTo>
                <a:lnTo>
                  <a:pt x="175" y="898"/>
                </a:lnTo>
                <a:lnTo>
                  <a:pt x="152" y="898"/>
                </a:lnTo>
                <a:lnTo>
                  <a:pt x="129" y="898"/>
                </a:lnTo>
                <a:lnTo>
                  <a:pt x="106" y="896"/>
                </a:lnTo>
                <a:lnTo>
                  <a:pt x="83" y="893"/>
                </a:lnTo>
                <a:lnTo>
                  <a:pt x="62" y="889"/>
                </a:lnTo>
                <a:lnTo>
                  <a:pt x="41" y="885"/>
                </a:lnTo>
                <a:lnTo>
                  <a:pt x="20" y="879"/>
                </a:lnTo>
                <a:lnTo>
                  <a:pt x="0" y="871"/>
                </a:lnTo>
                <a:lnTo>
                  <a:pt x="0" y="873"/>
                </a:lnTo>
                <a:lnTo>
                  <a:pt x="0" y="873"/>
                </a:lnTo>
                <a:lnTo>
                  <a:pt x="0" y="875"/>
                </a:lnTo>
                <a:lnTo>
                  <a:pt x="0" y="877"/>
                </a:lnTo>
                <a:lnTo>
                  <a:pt x="0" y="879"/>
                </a:lnTo>
                <a:lnTo>
                  <a:pt x="2" y="879"/>
                </a:lnTo>
                <a:lnTo>
                  <a:pt x="2" y="881"/>
                </a:lnTo>
                <a:lnTo>
                  <a:pt x="2" y="883"/>
                </a:lnTo>
                <a:close/>
              </a:path>
            </a:pathLst>
          </a:custGeom>
          <a:solidFill>
            <a:srgbClr val="a0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194"/>
          <p:cNvSpPr/>
          <p:nvPr/>
        </p:nvSpPr>
        <p:spPr>
          <a:xfrm>
            <a:off x="6885000" y="2584440"/>
            <a:ext cx="304920" cy="1425600"/>
          </a:xfrm>
          <a:custGeom>
            <a:avLst/>
            <a:gdLst>
              <a:gd name="textAreaLeft" fmla="*/ 0 w 304920"/>
              <a:gd name="textAreaRight" fmla="*/ 305280 w 30492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192" h="898">
                <a:moveTo>
                  <a:pt x="192" y="2"/>
                </a:moveTo>
                <a:lnTo>
                  <a:pt x="177" y="0"/>
                </a:lnTo>
                <a:lnTo>
                  <a:pt x="154" y="0"/>
                </a:lnTo>
                <a:lnTo>
                  <a:pt x="131" y="0"/>
                </a:lnTo>
                <a:lnTo>
                  <a:pt x="108" y="2"/>
                </a:lnTo>
                <a:lnTo>
                  <a:pt x="85" y="6"/>
                </a:lnTo>
                <a:lnTo>
                  <a:pt x="64" y="10"/>
                </a:lnTo>
                <a:lnTo>
                  <a:pt x="41" y="14"/>
                </a:lnTo>
                <a:lnTo>
                  <a:pt x="33" y="17"/>
                </a:lnTo>
                <a:lnTo>
                  <a:pt x="33" y="17"/>
                </a:lnTo>
                <a:lnTo>
                  <a:pt x="33" y="19"/>
                </a:lnTo>
                <a:lnTo>
                  <a:pt x="33" y="21"/>
                </a:lnTo>
                <a:lnTo>
                  <a:pt x="31" y="21"/>
                </a:lnTo>
                <a:lnTo>
                  <a:pt x="31" y="23"/>
                </a:lnTo>
                <a:lnTo>
                  <a:pt x="31" y="25"/>
                </a:lnTo>
                <a:lnTo>
                  <a:pt x="31" y="25"/>
                </a:lnTo>
                <a:lnTo>
                  <a:pt x="29" y="27"/>
                </a:lnTo>
                <a:lnTo>
                  <a:pt x="43" y="23"/>
                </a:lnTo>
                <a:lnTo>
                  <a:pt x="66" y="19"/>
                </a:lnTo>
                <a:lnTo>
                  <a:pt x="87" y="15"/>
                </a:lnTo>
                <a:lnTo>
                  <a:pt x="108" y="12"/>
                </a:lnTo>
                <a:lnTo>
                  <a:pt x="131" y="10"/>
                </a:lnTo>
                <a:lnTo>
                  <a:pt x="154" y="10"/>
                </a:lnTo>
                <a:lnTo>
                  <a:pt x="177" y="10"/>
                </a:lnTo>
                <a:lnTo>
                  <a:pt x="189" y="12"/>
                </a:lnTo>
                <a:lnTo>
                  <a:pt x="189" y="10"/>
                </a:lnTo>
                <a:lnTo>
                  <a:pt x="190" y="10"/>
                </a:lnTo>
                <a:lnTo>
                  <a:pt x="190" y="8"/>
                </a:lnTo>
                <a:lnTo>
                  <a:pt x="190" y="6"/>
                </a:lnTo>
                <a:lnTo>
                  <a:pt x="190" y="6"/>
                </a:lnTo>
                <a:lnTo>
                  <a:pt x="190" y="4"/>
                </a:lnTo>
                <a:lnTo>
                  <a:pt x="190" y="4"/>
                </a:lnTo>
                <a:lnTo>
                  <a:pt x="192" y="2"/>
                </a:lnTo>
                <a:close/>
                <a:moveTo>
                  <a:pt x="2" y="873"/>
                </a:moveTo>
                <a:lnTo>
                  <a:pt x="20" y="879"/>
                </a:lnTo>
                <a:lnTo>
                  <a:pt x="41" y="885"/>
                </a:lnTo>
                <a:lnTo>
                  <a:pt x="64" y="890"/>
                </a:lnTo>
                <a:lnTo>
                  <a:pt x="85" y="894"/>
                </a:lnTo>
                <a:lnTo>
                  <a:pt x="108" y="896"/>
                </a:lnTo>
                <a:lnTo>
                  <a:pt x="131" y="898"/>
                </a:lnTo>
                <a:lnTo>
                  <a:pt x="154" y="898"/>
                </a:lnTo>
                <a:lnTo>
                  <a:pt x="177" y="898"/>
                </a:lnTo>
                <a:lnTo>
                  <a:pt x="192" y="896"/>
                </a:lnTo>
                <a:lnTo>
                  <a:pt x="192" y="896"/>
                </a:lnTo>
                <a:lnTo>
                  <a:pt x="190" y="894"/>
                </a:lnTo>
                <a:lnTo>
                  <a:pt x="190" y="894"/>
                </a:lnTo>
                <a:lnTo>
                  <a:pt x="190" y="892"/>
                </a:lnTo>
                <a:lnTo>
                  <a:pt x="190" y="890"/>
                </a:lnTo>
                <a:lnTo>
                  <a:pt x="190" y="890"/>
                </a:lnTo>
                <a:lnTo>
                  <a:pt x="190" y="889"/>
                </a:lnTo>
                <a:lnTo>
                  <a:pt x="189" y="889"/>
                </a:lnTo>
                <a:lnTo>
                  <a:pt x="177" y="889"/>
                </a:lnTo>
                <a:lnTo>
                  <a:pt x="154" y="889"/>
                </a:lnTo>
                <a:lnTo>
                  <a:pt x="131" y="889"/>
                </a:lnTo>
                <a:lnTo>
                  <a:pt x="108" y="887"/>
                </a:lnTo>
                <a:lnTo>
                  <a:pt x="87" y="885"/>
                </a:lnTo>
                <a:lnTo>
                  <a:pt x="66" y="881"/>
                </a:lnTo>
                <a:lnTo>
                  <a:pt x="43" y="875"/>
                </a:lnTo>
                <a:lnTo>
                  <a:pt x="24" y="869"/>
                </a:lnTo>
                <a:lnTo>
                  <a:pt x="2" y="864"/>
                </a:lnTo>
                <a:lnTo>
                  <a:pt x="0" y="862"/>
                </a:lnTo>
                <a:lnTo>
                  <a:pt x="0" y="864"/>
                </a:lnTo>
                <a:lnTo>
                  <a:pt x="0" y="865"/>
                </a:lnTo>
                <a:lnTo>
                  <a:pt x="2" y="865"/>
                </a:lnTo>
                <a:lnTo>
                  <a:pt x="2" y="867"/>
                </a:lnTo>
                <a:lnTo>
                  <a:pt x="2" y="869"/>
                </a:lnTo>
                <a:lnTo>
                  <a:pt x="2" y="869"/>
                </a:lnTo>
                <a:lnTo>
                  <a:pt x="2" y="871"/>
                </a:lnTo>
                <a:lnTo>
                  <a:pt x="2" y="873"/>
                </a:lnTo>
                <a:close/>
              </a:path>
            </a:pathLst>
          </a:custGeom>
          <a:solidFill>
            <a:srgbClr val="a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195"/>
          <p:cNvSpPr/>
          <p:nvPr/>
        </p:nvSpPr>
        <p:spPr>
          <a:xfrm>
            <a:off x="6885000" y="2593800"/>
            <a:ext cx="301680" cy="1409760"/>
          </a:xfrm>
          <a:custGeom>
            <a:avLst/>
            <a:gdLst>
              <a:gd name="textAreaLeft" fmla="*/ 0 w 301680"/>
              <a:gd name="textAreaRight" fmla="*/ 302040 w 301680"/>
              <a:gd name="textAreaTop" fmla="*/ 0 h 1409760"/>
              <a:gd name="textAreaBottom" fmla="*/ 1409760 h 1409760"/>
            </a:gdLst>
            <a:ahLst/>
            <a:rect l="textAreaLeft" t="textAreaTop" r="textAreaRight" b="textAreaBottom"/>
            <a:pathLst>
              <a:path w="190" h="888">
                <a:moveTo>
                  <a:pt x="190" y="0"/>
                </a:moveTo>
                <a:lnTo>
                  <a:pt x="177" y="0"/>
                </a:lnTo>
                <a:lnTo>
                  <a:pt x="154" y="0"/>
                </a:lnTo>
                <a:lnTo>
                  <a:pt x="131" y="0"/>
                </a:lnTo>
                <a:lnTo>
                  <a:pt x="108" y="2"/>
                </a:lnTo>
                <a:lnTo>
                  <a:pt x="85" y="4"/>
                </a:lnTo>
                <a:lnTo>
                  <a:pt x="64" y="8"/>
                </a:lnTo>
                <a:lnTo>
                  <a:pt x="43" y="13"/>
                </a:lnTo>
                <a:lnTo>
                  <a:pt x="31" y="15"/>
                </a:lnTo>
                <a:lnTo>
                  <a:pt x="31" y="17"/>
                </a:lnTo>
                <a:lnTo>
                  <a:pt x="31" y="19"/>
                </a:lnTo>
                <a:lnTo>
                  <a:pt x="31" y="19"/>
                </a:lnTo>
                <a:lnTo>
                  <a:pt x="29" y="21"/>
                </a:lnTo>
                <a:lnTo>
                  <a:pt x="29" y="23"/>
                </a:lnTo>
                <a:lnTo>
                  <a:pt x="29" y="25"/>
                </a:lnTo>
                <a:lnTo>
                  <a:pt x="29" y="25"/>
                </a:lnTo>
                <a:lnTo>
                  <a:pt x="29" y="27"/>
                </a:lnTo>
                <a:lnTo>
                  <a:pt x="45" y="23"/>
                </a:lnTo>
                <a:lnTo>
                  <a:pt x="66" y="17"/>
                </a:lnTo>
                <a:lnTo>
                  <a:pt x="87" y="13"/>
                </a:lnTo>
                <a:lnTo>
                  <a:pt x="110" y="11"/>
                </a:lnTo>
                <a:lnTo>
                  <a:pt x="131" y="9"/>
                </a:lnTo>
                <a:lnTo>
                  <a:pt x="154" y="8"/>
                </a:lnTo>
                <a:lnTo>
                  <a:pt x="175" y="9"/>
                </a:lnTo>
                <a:lnTo>
                  <a:pt x="189" y="9"/>
                </a:lnTo>
                <a:lnTo>
                  <a:pt x="189" y="9"/>
                </a:lnTo>
                <a:lnTo>
                  <a:pt x="189" y="8"/>
                </a:lnTo>
                <a:lnTo>
                  <a:pt x="189" y="6"/>
                </a:lnTo>
                <a:lnTo>
                  <a:pt x="189" y="6"/>
                </a:lnTo>
                <a:lnTo>
                  <a:pt x="189" y="4"/>
                </a:lnTo>
                <a:lnTo>
                  <a:pt x="190" y="4"/>
                </a:lnTo>
                <a:lnTo>
                  <a:pt x="190" y="2"/>
                </a:lnTo>
                <a:lnTo>
                  <a:pt x="190" y="0"/>
                </a:lnTo>
                <a:close/>
                <a:moveTo>
                  <a:pt x="2" y="861"/>
                </a:moveTo>
                <a:lnTo>
                  <a:pt x="22" y="869"/>
                </a:lnTo>
                <a:lnTo>
                  <a:pt x="43" y="875"/>
                </a:lnTo>
                <a:lnTo>
                  <a:pt x="64" y="879"/>
                </a:lnTo>
                <a:lnTo>
                  <a:pt x="85" y="883"/>
                </a:lnTo>
                <a:lnTo>
                  <a:pt x="108" y="886"/>
                </a:lnTo>
                <a:lnTo>
                  <a:pt x="131" y="888"/>
                </a:lnTo>
                <a:lnTo>
                  <a:pt x="154" y="888"/>
                </a:lnTo>
                <a:lnTo>
                  <a:pt x="177" y="888"/>
                </a:lnTo>
                <a:lnTo>
                  <a:pt x="190" y="886"/>
                </a:lnTo>
                <a:lnTo>
                  <a:pt x="190" y="884"/>
                </a:lnTo>
                <a:lnTo>
                  <a:pt x="190" y="884"/>
                </a:lnTo>
                <a:lnTo>
                  <a:pt x="190" y="883"/>
                </a:lnTo>
                <a:lnTo>
                  <a:pt x="189" y="883"/>
                </a:lnTo>
                <a:lnTo>
                  <a:pt x="189" y="881"/>
                </a:lnTo>
                <a:lnTo>
                  <a:pt x="189" y="879"/>
                </a:lnTo>
                <a:lnTo>
                  <a:pt x="189" y="879"/>
                </a:lnTo>
                <a:lnTo>
                  <a:pt x="189" y="877"/>
                </a:lnTo>
                <a:lnTo>
                  <a:pt x="175" y="879"/>
                </a:lnTo>
                <a:lnTo>
                  <a:pt x="154" y="879"/>
                </a:lnTo>
                <a:lnTo>
                  <a:pt x="131" y="879"/>
                </a:lnTo>
                <a:lnTo>
                  <a:pt x="110" y="877"/>
                </a:lnTo>
                <a:lnTo>
                  <a:pt x="87" y="873"/>
                </a:lnTo>
                <a:lnTo>
                  <a:pt x="66" y="869"/>
                </a:lnTo>
                <a:lnTo>
                  <a:pt x="45" y="865"/>
                </a:lnTo>
                <a:lnTo>
                  <a:pt x="24" y="859"/>
                </a:lnTo>
                <a:lnTo>
                  <a:pt x="4" y="852"/>
                </a:lnTo>
                <a:lnTo>
                  <a:pt x="0" y="850"/>
                </a:lnTo>
                <a:lnTo>
                  <a:pt x="0" y="852"/>
                </a:lnTo>
                <a:lnTo>
                  <a:pt x="0" y="854"/>
                </a:lnTo>
                <a:lnTo>
                  <a:pt x="0" y="856"/>
                </a:lnTo>
                <a:lnTo>
                  <a:pt x="0" y="856"/>
                </a:lnTo>
                <a:lnTo>
                  <a:pt x="0" y="858"/>
                </a:lnTo>
                <a:lnTo>
                  <a:pt x="0" y="859"/>
                </a:lnTo>
                <a:lnTo>
                  <a:pt x="2" y="859"/>
                </a:lnTo>
                <a:lnTo>
                  <a:pt x="2" y="861"/>
                </a:lnTo>
                <a:close/>
              </a:path>
            </a:pathLst>
          </a:custGeom>
          <a:solidFill>
            <a:srgbClr val="a2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96"/>
          <p:cNvSpPr/>
          <p:nvPr/>
        </p:nvSpPr>
        <p:spPr>
          <a:xfrm>
            <a:off x="6883560" y="2600280"/>
            <a:ext cx="301320" cy="1395360"/>
          </a:xfrm>
          <a:custGeom>
            <a:avLst/>
            <a:gdLst>
              <a:gd name="textAreaLeft" fmla="*/ 0 w 301320"/>
              <a:gd name="textAreaRight" fmla="*/ 301680 w 301320"/>
              <a:gd name="textAreaTop" fmla="*/ 0 h 1395360"/>
              <a:gd name="textAreaBottom" fmla="*/ 1395720 h 1395360"/>
            </a:gdLst>
            <a:ahLst/>
            <a:rect l="textAreaLeft" t="textAreaTop" r="textAreaRight" b="textAreaBottom"/>
            <a:pathLst>
              <a:path w="190" h="879">
                <a:moveTo>
                  <a:pt x="190" y="2"/>
                </a:moveTo>
                <a:lnTo>
                  <a:pt x="178" y="0"/>
                </a:lnTo>
                <a:lnTo>
                  <a:pt x="155" y="0"/>
                </a:lnTo>
                <a:lnTo>
                  <a:pt x="132" y="0"/>
                </a:lnTo>
                <a:lnTo>
                  <a:pt x="109" y="2"/>
                </a:lnTo>
                <a:lnTo>
                  <a:pt x="88" y="5"/>
                </a:lnTo>
                <a:lnTo>
                  <a:pt x="67" y="9"/>
                </a:lnTo>
                <a:lnTo>
                  <a:pt x="44" y="13"/>
                </a:lnTo>
                <a:lnTo>
                  <a:pt x="30" y="17"/>
                </a:lnTo>
                <a:lnTo>
                  <a:pt x="30" y="19"/>
                </a:lnTo>
                <a:lnTo>
                  <a:pt x="30" y="21"/>
                </a:lnTo>
                <a:lnTo>
                  <a:pt x="30" y="21"/>
                </a:lnTo>
                <a:lnTo>
                  <a:pt x="30" y="23"/>
                </a:lnTo>
                <a:lnTo>
                  <a:pt x="28" y="25"/>
                </a:lnTo>
                <a:lnTo>
                  <a:pt x="28" y="25"/>
                </a:lnTo>
                <a:lnTo>
                  <a:pt x="28" y="27"/>
                </a:lnTo>
                <a:lnTo>
                  <a:pt x="28" y="28"/>
                </a:lnTo>
                <a:lnTo>
                  <a:pt x="48" y="23"/>
                </a:lnTo>
                <a:lnTo>
                  <a:pt x="69" y="17"/>
                </a:lnTo>
                <a:lnTo>
                  <a:pt x="90" y="13"/>
                </a:lnTo>
                <a:lnTo>
                  <a:pt x="111" y="11"/>
                </a:lnTo>
                <a:lnTo>
                  <a:pt x="132" y="9"/>
                </a:lnTo>
                <a:lnTo>
                  <a:pt x="155" y="9"/>
                </a:lnTo>
                <a:lnTo>
                  <a:pt x="176" y="9"/>
                </a:lnTo>
                <a:lnTo>
                  <a:pt x="188" y="11"/>
                </a:lnTo>
                <a:lnTo>
                  <a:pt x="188" y="9"/>
                </a:lnTo>
                <a:lnTo>
                  <a:pt x="188" y="7"/>
                </a:lnTo>
                <a:lnTo>
                  <a:pt x="188" y="7"/>
                </a:lnTo>
                <a:lnTo>
                  <a:pt x="190" y="5"/>
                </a:lnTo>
                <a:lnTo>
                  <a:pt x="190" y="5"/>
                </a:lnTo>
                <a:lnTo>
                  <a:pt x="190" y="4"/>
                </a:lnTo>
                <a:lnTo>
                  <a:pt x="190" y="2"/>
                </a:lnTo>
                <a:lnTo>
                  <a:pt x="190" y="2"/>
                </a:lnTo>
                <a:close/>
                <a:moveTo>
                  <a:pt x="1" y="852"/>
                </a:moveTo>
                <a:lnTo>
                  <a:pt x="3" y="854"/>
                </a:lnTo>
                <a:lnTo>
                  <a:pt x="25" y="859"/>
                </a:lnTo>
                <a:lnTo>
                  <a:pt x="44" y="865"/>
                </a:lnTo>
                <a:lnTo>
                  <a:pt x="67" y="871"/>
                </a:lnTo>
                <a:lnTo>
                  <a:pt x="88" y="875"/>
                </a:lnTo>
                <a:lnTo>
                  <a:pt x="109" y="877"/>
                </a:lnTo>
                <a:lnTo>
                  <a:pt x="132" y="879"/>
                </a:lnTo>
                <a:lnTo>
                  <a:pt x="155" y="879"/>
                </a:lnTo>
                <a:lnTo>
                  <a:pt x="178" y="879"/>
                </a:lnTo>
                <a:lnTo>
                  <a:pt x="190" y="879"/>
                </a:lnTo>
                <a:lnTo>
                  <a:pt x="190" y="877"/>
                </a:lnTo>
                <a:lnTo>
                  <a:pt x="190" y="875"/>
                </a:lnTo>
                <a:lnTo>
                  <a:pt x="190" y="875"/>
                </a:lnTo>
                <a:lnTo>
                  <a:pt x="190" y="873"/>
                </a:lnTo>
                <a:lnTo>
                  <a:pt x="188" y="873"/>
                </a:lnTo>
                <a:lnTo>
                  <a:pt x="188" y="871"/>
                </a:lnTo>
                <a:lnTo>
                  <a:pt x="188" y="869"/>
                </a:lnTo>
                <a:lnTo>
                  <a:pt x="188" y="869"/>
                </a:lnTo>
                <a:lnTo>
                  <a:pt x="176" y="869"/>
                </a:lnTo>
                <a:lnTo>
                  <a:pt x="155" y="871"/>
                </a:lnTo>
                <a:lnTo>
                  <a:pt x="132" y="869"/>
                </a:lnTo>
                <a:lnTo>
                  <a:pt x="111" y="867"/>
                </a:lnTo>
                <a:lnTo>
                  <a:pt x="90" y="865"/>
                </a:lnTo>
                <a:lnTo>
                  <a:pt x="69" y="861"/>
                </a:lnTo>
                <a:lnTo>
                  <a:pt x="48" y="855"/>
                </a:lnTo>
                <a:lnTo>
                  <a:pt x="26" y="850"/>
                </a:lnTo>
                <a:lnTo>
                  <a:pt x="7" y="844"/>
                </a:lnTo>
                <a:lnTo>
                  <a:pt x="0" y="840"/>
                </a:lnTo>
                <a:lnTo>
                  <a:pt x="0" y="842"/>
                </a:lnTo>
                <a:lnTo>
                  <a:pt x="0" y="844"/>
                </a:lnTo>
                <a:lnTo>
                  <a:pt x="0" y="846"/>
                </a:lnTo>
                <a:lnTo>
                  <a:pt x="1" y="846"/>
                </a:lnTo>
                <a:lnTo>
                  <a:pt x="1" y="848"/>
                </a:lnTo>
                <a:lnTo>
                  <a:pt x="1" y="850"/>
                </a:lnTo>
                <a:lnTo>
                  <a:pt x="1" y="852"/>
                </a:lnTo>
                <a:lnTo>
                  <a:pt x="1" y="852"/>
                </a:lnTo>
                <a:close/>
              </a:path>
            </a:pathLst>
          </a:custGeom>
          <a:solidFill>
            <a:srgbClr val="a3d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197"/>
          <p:cNvSpPr/>
          <p:nvPr/>
        </p:nvSpPr>
        <p:spPr>
          <a:xfrm>
            <a:off x="6880320" y="2606760"/>
            <a:ext cx="304560" cy="1382760"/>
          </a:xfrm>
          <a:custGeom>
            <a:avLst/>
            <a:gdLst>
              <a:gd name="textAreaLeft" fmla="*/ 0 w 304560"/>
              <a:gd name="textAreaRight" fmla="*/ 304920 w 30456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192" h="871">
                <a:moveTo>
                  <a:pt x="192" y="1"/>
                </a:moveTo>
                <a:lnTo>
                  <a:pt x="178" y="1"/>
                </a:lnTo>
                <a:lnTo>
                  <a:pt x="157" y="0"/>
                </a:lnTo>
                <a:lnTo>
                  <a:pt x="134" y="1"/>
                </a:lnTo>
                <a:lnTo>
                  <a:pt x="113" y="3"/>
                </a:lnTo>
                <a:lnTo>
                  <a:pt x="90" y="5"/>
                </a:lnTo>
                <a:lnTo>
                  <a:pt x="69" y="9"/>
                </a:lnTo>
                <a:lnTo>
                  <a:pt x="48" y="15"/>
                </a:lnTo>
                <a:lnTo>
                  <a:pt x="32" y="19"/>
                </a:lnTo>
                <a:lnTo>
                  <a:pt x="30" y="21"/>
                </a:lnTo>
                <a:lnTo>
                  <a:pt x="30" y="21"/>
                </a:lnTo>
                <a:lnTo>
                  <a:pt x="30" y="23"/>
                </a:lnTo>
                <a:lnTo>
                  <a:pt x="30" y="24"/>
                </a:lnTo>
                <a:lnTo>
                  <a:pt x="30" y="24"/>
                </a:lnTo>
                <a:lnTo>
                  <a:pt x="28" y="26"/>
                </a:lnTo>
                <a:lnTo>
                  <a:pt x="28" y="28"/>
                </a:lnTo>
                <a:lnTo>
                  <a:pt x="28" y="30"/>
                </a:lnTo>
                <a:lnTo>
                  <a:pt x="30" y="28"/>
                </a:lnTo>
                <a:lnTo>
                  <a:pt x="50" y="23"/>
                </a:lnTo>
                <a:lnTo>
                  <a:pt x="71" y="19"/>
                </a:lnTo>
                <a:lnTo>
                  <a:pt x="92" y="15"/>
                </a:lnTo>
                <a:lnTo>
                  <a:pt x="113" y="13"/>
                </a:lnTo>
                <a:lnTo>
                  <a:pt x="134" y="11"/>
                </a:lnTo>
                <a:lnTo>
                  <a:pt x="157" y="9"/>
                </a:lnTo>
                <a:lnTo>
                  <a:pt x="178" y="11"/>
                </a:lnTo>
                <a:lnTo>
                  <a:pt x="188" y="11"/>
                </a:lnTo>
                <a:lnTo>
                  <a:pt x="188" y="9"/>
                </a:lnTo>
                <a:lnTo>
                  <a:pt x="190" y="9"/>
                </a:lnTo>
                <a:lnTo>
                  <a:pt x="190" y="7"/>
                </a:lnTo>
                <a:lnTo>
                  <a:pt x="190" y="7"/>
                </a:lnTo>
                <a:lnTo>
                  <a:pt x="190" y="5"/>
                </a:lnTo>
                <a:lnTo>
                  <a:pt x="190" y="3"/>
                </a:lnTo>
                <a:lnTo>
                  <a:pt x="190" y="3"/>
                </a:lnTo>
                <a:lnTo>
                  <a:pt x="192" y="1"/>
                </a:lnTo>
                <a:close/>
                <a:moveTo>
                  <a:pt x="3" y="842"/>
                </a:moveTo>
                <a:lnTo>
                  <a:pt x="7" y="844"/>
                </a:lnTo>
                <a:lnTo>
                  <a:pt x="27" y="851"/>
                </a:lnTo>
                <a:lnTo>
                  <a:pt x="48" y="857"/>
                </a:lnTo>
                <a:lnTo>
                  <a:pt x="69" y="861"/>
                </a:lnTo>
                <a:lnTo>
                  <a:pt x="90" y="865"/>
                </a:lnTo>
                <a:lnTo>
                  <a:pt x="113" y="869"/>
                </a:lnTo>
                <a:lnTo>
                  <a:pt x="134" y="871"/>
                </a:lnTo>
                <a:lnTo>
                  <a:pt x="157" y="871"/>
                </a:lnTo>
                <a:lnTo>
                  <a:pt x="178" y="871"/>
                </a:lnTo>
                <a:lnTo>
                  <a:pt x="192" y="869"/>
                </a:lnTo>
                <a:lnTo>
                  <a:pt x="190" y="869"/>
                </a:lnTo>
                <a:lnTo>
                  <a:pt x="190" y="867"/>
                </a:lnTo>
                <a:lnTo>
                  <a:pt x="190" y="865"/>
                </a:lnTo>
                <a:lnTo>
                  <a:pt x="190" y="865"/>
                </a:lnTo>
                <a:lnTo>
                  <a:pt x="190" y="863"/>
                </a:lnTo>
                <a:lnTo>
                  <a:pt x="190" y="863"/>
                </a:lnTo>
                <a:lnTo>
                  <a:pt x="188" y="861"/>
                </a:lnTo>
                <a:lnTo>
                  <a:pt x="188" y="859"/>
                </a:lnTo>
                <a:lnTo>
                  <a:pt x="178" y="861"/>
                </a:lnTo>
                <a:lnTo>
                  <a:pt x="157" y="861"/>
                </a:lnTo>
                <a:lnTo>
                  <a:pt x="134" y="861"/>
                </a:lnTo>
                <a:lnTo>
                  <a:pt x="113" y="859"/>
                </a:lnTo>
                <a:lnTo>
                  <a:pt x="92" y="857"/>
                </a:lnTo>
                <a:lnTo>
                  <a:pt x="71" y="853"/>
                </a:lnTo>
                <a:lnTo>
                  <a:pt x="50" y="848"/>
                </a:lnTo>
                <a:lnTo>
                  <a:pt x="30" y="842"/>
                </a:lnTo>
                <a:lnTo>
                  <a:pt x="9" y="836"/>
                </a:lnTo>
                <a:lnTo>
                  <a:pt x="0" y="832"/>
                </a:lnTo>
                <a:lnTo>
                  <a:pt x="2" y="832"/>
                </a:lnTo>
                <a:lnTo>
                  <a:pt x="2" y="834"/>
                </a:lnTo>
                <a:lnTo>
                  <a:pt x="2" y="836"/>
                </a:lnTo>
                <a:lnTo>
                  <a:pt x="2" y="836"/>
                </a:lnTo>
                <a:lnTo>
                  <a:pt x="2" y="838"/>
                </a:lnTo>
                <a:lnTo>
                  <a:pt x="2" y="840"/>
                </a:lnTo>
                <a:lnTo>
                  <a:pt x="2" y="842"/>
                </a:lnTo>
                <a:lnTo>
                  <a:pt x="3" y="842"/>
                </a:lnTo>
                <a:close/>
              </a:path>
            </a:pathLst>
          </a:custGeom>
          <a:solidFill>
            <a:srgbClr val="a4d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198"/>
          <p:cNvSpPr/>
          <p:nvPr/>
        </p:nvSpPr>
        <p:spPr>
          <a:xfrm>
            <a:off x="6880320" y="2614680"/>
            <a:ext cx="301680" cy="1368360"/>
          </a:xfrm>
          <a:custGeom>
            <a:avLst/>
            <a:gdLst>
              <a:gd name="textAreaLeft" fmla="*/ 0 w 301680"/>
              <a:gd name="textAreaRight" fmla="*/ 302040 w 30168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190" h="862">
                <a:moveTo>
                  <a:pt x="190" y="2"/>
                </a:moveTo>
                <a:lnTo>
                  <a:pt x="178" y="0"/>
                </a:lnTo>
                <a:lnTo>
                  <a:pt x="157" y="0"/>
                </a:lnTo>
                <a:lnTo>
                  <a:pt x="134" y="0"/>
                </a:lnTo>
                <a:lnTo>
                  <a:pt x="113" y="2"/>
                </a:lnTo>
                <a:lnTo>
                  <a:pt x="92" y="4"/>
                </a:lnTo>
                <a:lnTo>
                  <a:pt x="71" y="8"/>
                </a:lnTo>
                <a:lnTo>
                  <a:pt x="50" y="14"/>
                </a:lnTo>
                <a:lnTo>
                  <a:pt x="30" y="19"/>
                </a:lnTo>
                <a:lnTo>
                  <a:pt x="30" y="19"/>
                </a:lnTo>
                <a:lnTo>
                  <a:pt x="28" y="21"/>
                </a:lnTo>
                <a:lnTo>
                  <a:pt x="28" y="23"/>
                </a:lnTo>
                <a:lnTo>
                  <a:pt x="28" y="25"/>
                </a:lnTo>
                <a:lnTo>
                  <a:pt x="28" y="25"/>
                </a:lnTo>
                <a:lnTo>
                  <a:pt x="28" y="27"/>
                </a:lnTo>
                <a:lnTo>
                  <a:pt x="27" y="29"/>
                </a:lnTo>
                <a:lnTo>
                  <a:pt x="27" y="29"/>
                </a:lnTo>
                <a:lnTo>
                  <a:pt x="32" y="29"/>
                </a:lnTo>
                <a:lnTo>
                  <a:pt x="51" y="23"/>
                </a:lnTo>
                <a:lnTo>
                  <a:pt x="73" y="18"/>
                </a:lnTo>
                <a:lnTo>
                  <a:pt x="92" y="14"/>
                </a:lnTo>
                <a:lnTo>
                  <a:pt x="113" y="12"/>
                </a:lnTo>
                <a:lnTo>
                  <a:pt x="134" y="10"/>
                </a:lnTo>
                <a:lnTo>
                  <a:pt x="157" y="10"/>
                </a:lnTo>
                <a:lnTo>
                  <a:pt x="178" y="10"/>
                </a:lnTo>
                <a:lnTo>
                  <a:pt x="188" y="10"/>
                </a:lnTo>
                <a:lnTo>
                  <a:pt x="188" y="10"/>
                </a:lnTo>
                <a:lnTo>
                  <a:pt x="188" y="8"/>
                </a:lnTo>
                <a:lnTo>
                  <a:pt x="188" y="8"/>
                </a:lnTo>
                <a:lnTo>
                  <a:pt x="188" y="6"/>
                </a:lnTo>
                <a:lnTo>
                  <a:pt x="188" y="4"/>
                </a:lnTo>
                <a:lnTo>
                  <a:pt x="190" y="4"/>
                </a:lnTo>
                <a:lnTo>
                  <a:pt x="190" y="2"/>
                </a:lnTo>
                <a:lnTo>
                  <a:pt x="190" y="2"/>
                </a:lnTo>
                <a:close/>
                <a:moveTo>
                  <a:pt x="2" y="831"/>
                </a:moveTo>
                <a:lnTo>
                  <a:pt x="9" y="835"/>
                </a:lnTo>
                <a:lnTo>
                  <a:pt x="28" y="841"/>
                </a:lnTo>
                <a:lnTo>
                  <a:pt x="50" y="846"/>
                </a:lnTo>
                <a:lnTo>
                  <a:pt x="71" y="852"/>
                </a:lnTo>
                <a:lnTo>
                  <a:pt x="92" y="856"/>
                </a:lnTo>
                <a:lnTo>
                  <a:pt x="113" y="858"/>
                </a:lnTo>
                <a:lnTo>
                  <a:pt x="134" y="860"/>
                </a:lnTo>
                <a:lnTo>
                  <a:pt x="157" y="862"/>
                </a:lnTo>
                <a:lnTo>
                  <a:pt x="178" y="860"/>
                </a:lnTo>
                <a:lnTo>
                  <a:pt x="190" y="860"/>
                </a:lnTo>
                <a:lnTo>
                  <a:pt x="190" y="858"/>
                </a:lnTo>
                <a:lnTo>
                  <a:pt x="190" y="858"/>
                </a:lnTo>
                <a:lnTo>
                  <a:pt x="188" y="856"/>
                </a:lnTo>
                <a:lnTo>
                  <a:pt x="188" y="854"/>
                </a:lnTo>
                <a:lnTo>
                  <a:pt x="188" y="854"/>
                </a:lnTo>
                <a:lnTo>
                  <a:pt x="188" y="852"/>
                </a:lnTo>
                <a:lnTo>
                  <a:pt x="188" y="852"/>
                </a:lnTo>
                <a:lnTo>
                  <a:pt x="188" y="850"/>
                </a:lnTo>
                <a:lnTo>
                  <a:pt x="178" y="850"/>
                </a:lnTo>
                <a:lnTo>
                  <a:pt x="157" y="852"/>
                </a:lnTo>
                <a:lnTo>
                  <a:pt x="134" y="850"/>
                </a:lnTo>
                <a:lnTo>
                  <a:pt x="113" y="848"/>
                </a:lnTo>
                <a:lnTo>
                  <a:pt x="92" y="846"/>
                </a:lnTo>
                <a:lnTo>
                  <a:pt x="73" y="843"/>
                </a:lnTo>
                <a:lnTo>
                  <a:pt x="51" y="839"/>
                </a:lnTo>
                <a:lnTo>
                  <a:pt x="32" y="833"/>
                </a:lnTo>
                <a:lnTo>
                  <a:pt x="11" y="825"/>
                </a:lnTo>
                <a:lnTo>
                  <a:pt x="0" y="822"/>
                </a:lnTo>
                <a:lnTo>
                  <a:pt x="0" y="822"/>
                </a:lnTo>
                <a:lnTo>
                  <a:pt x="0" y="823"/>
                </a:lnTo>
                <a:lnTo>
                  <a:pt x="0" y="825"/>
                </a:lnTo>
                <a:lnTo>
                  <a:pt x="0" y="827"/>
                </a:lnTo>
                <a:lnTo>
                  <a:pt x="2" y="827"/>
                </a:lnTo>
                <a:lnTo>
                  <a:pt x="2" y="829"/>
                </a:lnTo>
                <a:lnTo>
                  <a:pt x="2" y="831"/>
                </a:lnTo>
                <a:lnTo>
                  <a:pt x="2" y="831"/>
                </a:lnTo>
                <a:close/>
              </a:path>
            </a:pathLst>
          </a:custGeom>
          <a:solidFill>
            <a:srgbClr val="a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199"/>
          <p:cNvSpPr/>
          <p:nvPr/>
        </p:nvSpPr>
        <p:spPr>
          <a:xfrm>
            <a:off x="6877080" y="2620800"/>
            <a:ext cx="301680" cy="1352880"/>
          </a:xfrm>
          <a:custGeom>
            <a:avLst/>
            <a:gdLst>
              <a:gd name="textAreaLeft" fmla="*/ 0 w 301680"/>
              <a:gd name="textAreaRight" fmla="*/ 302040 w 301680"/>
              <a:gd name="textAreaTop" fmla="*/ 0 h 1352880"/>
              <a:gd name="textAreaBottom" fmla="*/ 1352880 h 1352880"/>
            </a:gdLst>
            <a:ahLst/>
            <a:rect l="textAreaLeft" t="textAreaTop" r="textAreaRight" b="textAreaBottom"/>
            <a:pathLst>
              <a:path w="190" h="852">
                <a:moveTo>
                  <a:pt x="190" y="2"/>
                </a:moveTo>
                <a:lnTo>
                  <a:pt x="180" y="2"/>
                </a:lnTo>
                <a:lnTo>
                  <a:pt x="159" y="0"/>
                </a:lnTo>
                <a:lnTo>
                  <a:pt x="136" y="2"/>
                </a:lnTo>
                <a:lnTo>
                  <a:pt x="115" y="4"/>
                </a:lnTo>
                <a:lnTo>
                  <a:pt x="94" y="6"/>
                </a:lnTo>
                <a:lnTo>
                  <a:pt x="73" y="10"/>
                </a:lnTo>
                <a:lnTo>
                  <a:pt x="52" y="14"/>
                </a:lnTo>
                <a:lnTo>
                  <a:pt x="32" y="19"/>
                </a:lnTo>
                <a:lnTo>
                  <a:pt x="30" y="21"/>
                </a:lnTo>
                <a:lnTo>
                  <a:pt x="30" y="21"/>
                </a:lnTo>
                <a:lnTo>
                  <a:pt x="30" y="23"/>
                </a:lnTo>
                <a:lnTo>
                  <a:pt x="29" y="25"/>
                </a:lnTo>
                <a:lnTo>
                  <a:pt x="29" y="25"/>
                </a:lnTo>
                <a:lnTo>
                  <a:pt x="29" y="27"/>
                </a:lnTo>
                <a:lnTo>
                  <a:pt x="29" y="29"/>
                </a:lnTo>
                <a:lnTo>
                  <a:pt x="29" y="31"/>
                </a:lnTo>
                <a:lnTo>
                  <a:pt x="27" y="31"/>
                </a:lnTo>
                <a:lnTo>
                  <a:pt x="34" y="29"/>
                </a:lnTo>
                <a:lnTo>
                  <a:pt x="55" y="23"/>
                </a:lnTo>
                <a:lnTo>
                  <a:pt x="75" y="19"/>
                </a:lnTo>
                <a:lnTo>
                  <a:pt x="96" y="15"/>
                </a:lnTo>
                <a:lnTo>
                  <a:pt x="117" y="12"/>
                </a:lnTo>
                <a:lnTo>
                  <a:pt x="138" y="12"/>
                </a:lnTo>
                <a:lnTo>
                  <a:pt x="159" y="10"/>
                </a:lnTo>
                <a:lnTo>
                  <a:pt x="180" y="12"/>
                </a:lnTo>
                <a:lnTo>
                  <a:pt x="188" y="12"/>
                </a:lnTo>
                <a:lnTo>
                  <a:pt x="188" y="10"/>
                </a:lnTo>
                <a:lnTo>
                  <a:pt x="188" y="10"/>
                </a:lnTo>
                <a:lnTo>
                  <a:pt x="188" y="8"/>
                </a:lnTo>
                <a:lnTo>
                  <a:pt x="190" y="6"/>
                </a:lnTo>
                <a:lnTo>
                  <a:pt x="190" y="6"/>
                </a:lnTo>
                <a:lnTo>
                  <a:pt x="190" y="4"/>
                </a:lnTo>
                <a:lnTo>
                  <a:pt x="190" y="4"/>
                </a:lnTo>
                <a:lnTo>
                  <a:pt x="190" y="2"/>
                </a:lnTo>
                <a:close/>
                <a:moveTo>
                  <a:pt x="2" y="823"/>
                </a:moveTo>
                <a:lnTo>
                  <a:pt x="11" y="827"/>
                </a:lnTo>
                <a:lnTo>
                  <a:pt x="32" y="833"/>
                </a:lnTo>
                <a:lnTo>
                  <a:pt x="52" y="839"/>
                </a:lnTo>
                <a:lnTo>
                  <a:pt x="73" y="844"/>
                </a:lnTo>
                <a:lnTo>
                  <a:pt x="94" y="848"/>
                </a:lnTo>
                <a:lnTo>
                  <a:pt x="115" y="850"/>
                </a:lnTo>
                <a:lnTo>
                  <a:pt x="136" y="852"/>
                </a:lnTo>
                <a:lnTo>
                  <a:pt x="159" y="852"/>
                </a:lnTo>
                <a:lnTo>
                  <a:pt x="180" y="852"/>
                </a:lnTo>
                <a:lnTo>
                  <a:pt x="190" y="850"/>
                </a:lnTo>
                <a:lnTo>
                  <a:pt x="190" y="850"/>
                </a:lnTo>
                <a:lnTo>
                  <a:pt x="190" y="848"/>
                </a:lnTo>
                <a:lnTo>
                  <a:pt x="190" y="848"/>
                </a:lnTo>
                <a:lnTo>
                  <a:pt x="190" y="846"/>
                </a:lnTo>
                <a:lnTo>
                  <a:pt x="188" y="844"/>
                </a:lnTo>
                <a:lnTo>
                  <a:pt x="188" y="844"/>
                </a:lnTo>
                <a:lnTo>
                  <a:pt x="188" y="842"/>
                </a:lnTo>
                <a:lnTo>
                  <a:pt x="188" y="842"/>
                </a:lnTo>
                <a:lnTo>
                  <a:pt x="180" y="842"/>
                </a:lnTo>
                <a:lnTo>
                  <a:pt x="159" y="842"/>
                </a:lnTo>
                <a:lnTo>
                  <a:pt x="138" y="842"/>
                </a:lnTo>
                <a:lnTo>
                  <a:pt x="117" y="841"/>
                </a:lnTo>
                <a:lnTo>
                  <a:pt x="96" y="839"/>
                </a:lnTo>
                <a:lnTo>
                  <a:pt x="75" y="835"/>
                </a:lnTo>
                <a:lnTo>
                  <a:pt x="55" y="829"/>
                </a:lnTo>
                <a:lnTo>
                  <a:pt x="34" y="823"/>
                </a:lnTo>
                <a:lnTo>
                  <a:pt x="15" y="818"/>
                </a:lnTo>
                <a:lnTo>
                  <a:pt x="0" y="812"/>
                </a:lnTo>
                <a:lnTo>
                  <a:pt x="0" y="814"/>
                </a:lnTo>
                <a:lnTo>
                  <a:pt x="2" y="814"/>
                </a:lnTo>
                <a:lnTo>
                  <a:pt x="2" y="816"/>
                </a:lnTo>
                <a:lnTo>
                  <a:pt x="2" y="818"/>
                </a:lnTo>
                <a:lnTo>
                  <a:pt x="2" y="818"/>
                </a:lnTo>
                <a:lnTo>
                  <a:pt x="2" y="819"/>
                </a:lnTo>
                <a:lnTo>
                  <a:pt x="2" y="821"/>
                </a:lnTo>
                <a:lnTo>
                  <a:pt x="2" y="823"/>
                </a:lnTo>
                <a:close/>
              </a:path>
            </a:pathLst>
          </a:custGeom>
          <a:solidFill>
            <a:srgbClr val="a6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200"/>
          <p:cNvSpPr/>
          <p:nvPr/>
        </p:nvSpPr>
        <p:spPr>
          <a:xfrm>
            <a:off x="6877080" y="2630520"/>
            <a:ext cx="301680" cy="1336680"/>
          </a:xfrm>
          <a:custGeom>
            <a:avLst/>
            <a:gdLst>
              <a:gd name="textAreaLeft" fmla="*/ 0 w 301680"/>
              <a:gd name="textAreaRight" fmla="*/ 302040 w 30168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190" h="842">
                <a:moveTo>
                  <a:pt x="190" y="0"/>
                </a:moveTo>
                <a:lnTo>
                  <a:pt x="180" y="0"/>
                </a:lnTo>
                <a:lnTo>
                  <a:pt x="159" y="0"/>
                </a:lnTo>
                <a:lnTo>
                  <a:pt x="136" y="0"/>
                </a:lnTo>
                <a:lnTo>
                  <a:pt x="115" y="2"/>
                </a:lnTo>
                <a:lnTo>
                  <a:pt x="94" y="4"/>
                </a:lnTo>
                <a:lnTo>
                  <a:pt x="75" y="8"/>
                </a:lnTo>
                <a:lnTo>
                  <a:pt x="53" y="13"/>
                </a:lnTo>
                <a:lnTo>
                  <a:pt x="34" y="19"/>
                </a:lnTo>
                <a:lnTo>
                  <a:pt x="29" y="19"/>
                </a:lnTo>
                <a:lnTo>
                  <a:pt x="29" y="21"/>
                </a:lnTo>
                <a:lnTo>
                  <a:pt x="29" y="23"/>
                </a:lnTo>
                <a:lnTo>
                  <a:pt x="29" y="25"/>
                </a:lnTo>
                <a:lnTo>
                  <a:pt x="27" y="25"/>
                </a:lnTo>
                <a:lnTo>
                  <a:pt x="27" y="27"/>
                </a:lnTo>
                <a:lnTo>
                  <a:pt x="27" y="29"/>
                </a:lnTo>
                <a:lnTo>
                  <a:pt x="27" y="31"/>
                </a:lnTo>
                <a:lnTo>
                  <a:pt x="27" y="31"/>
                </a:lnTo>
                <a:lnTo>
                  <a:pt x="36" y="27"/>
                </a:lnTo>
                <a:lnTo>
                  <a:pt x="55" y="23"/>
                </a:lnTo>
                <a:lnTo>
                  <a:pt x="76" y="17"/>
                </a:lnTo>
                <a:lnTo>
                  <a:pt x="96" y="13"/>
                </a:lnTo>
                <a:lnTo>
                  <a:pt x="117" y="11"/>
                </a:lnTo>
                <a:lnTo>
                  <a:pt x="138" y="9"/>
                </a:lnTo>
                <a:lnTo>
                  <a:pt x="159" y="9"/>
                </a:lnTo>
                <a:lnTo>
                  <a:pt x="180" y="9"/>
                </a:lnTo>
                <a:lnTo>
                  <a:pt x="186" y="9"/>
                </a:lnTo>
                <a:lnTo>
                  <a:pt x="186" y="9"/>
                </a:lnTo>
                <a:lnTo>
                  <a:pt x="188" y="8"/>
                </a:lnTo>
                <a:lnTo>
                  <a:pt x="188" y="6"/>
                </a:lnTo>
                <a:lnTo>
                  <a:pt x="188" y="6"/>
                </a:lnTo>
                <a:lnTo>
                  <a:pt x="188" y="4"/>
                </a:lnTo>
                <a:lnTo>
                  <a:pt x="188" y="4"/>
                </a:lnTo>
                <a:lnTo>
                  <a:pt x="188" y="2"/>
                </a:lnTo>
                <a:lnTo>
                  <a:pt x="190" y="0"/>
                </a:lnTo>
                <a:close/>
                <a:moveTo>
                  <a:pt x="2" y="812"/>
                </a:moveTo>
                <a:lnTo>
                  <a:pt x="13" y="815"/>
                </a:lnTo>
                <a:lnTo>
                  <a:pt x="34" y="823"/>
                </a:lnTo>
                <a:lnTo>
                  <a:pt x="53" y="829"/>
                </a:lnTo>
                <a:lnTo>
                  <a:pt x="75" y="833"/>
                </a:lnTo>
                <a:lnTo>
                  <a:pt x="94" y="836"/>
                </a:lnTo>
                <a:lnTo>
                  <a:pt x="115" y="838"/>
                </a:lnTo>
                <a:lnTo>
                  <a:pt x="136" y="840"/>
                </a:lnTo>
                <a:lnTo>
                  <a:pt x="159" y="842"/>
                </a:lnTo>
                <a:lnTo>
                  <a:pt x="180" y="840"/>
                </a:lnTo>
                <a:lnTo>
                  <a:pt x="190" y="840"/>
                </a:lnTo>
                <a:lnTo>
                  <a:pt x="188" y="838"/>
                </a:lnTo>
                <a:lnTo>
                  <a:pt x="188" y="838"/>
                </a:lnTo>
                <a:lnTo>
                  <a:pt x="188" y="836"/>
                </a:lnTo>
                <a:lnTo>
                  <a:pt x="188" y="836"/>
                </a:lnTo>
                <a:lnTo>
                  <a:pt x="188" y="835"/>
                </a:lnTo>
                <a:lnTo>
                  <a:pt x="186" y="833"/>
                </a:lnTo>
                <a:lnTo>
                  <a:pt x="186" y="833"/>
                </a:lnTo>
                <a:lnTo>
                  <a:pt x="186" y="831"/>
                </a:lnTo>
                <a:lnTo>
                  <a:pt x="180" y="831"/>
                </a:lnTo>
                <a:lnTo>
                  <a:pt x="159" y="833"/>
                </a:lnTo>
                <a:lnTo>
                  <a:pt x="138" y="831"/>
                </a:lnTo>
                <a:lnTo>
                  <a:pt x="117" y="831"/>
                </a:lnTo>
                <a:lnTo>
                  <a:pt x="96" y="827"/>
                </a:lnTo>
                <a:lnTo>
                  <a:pt x="76" y="823"/>
                </a:lnTo>
                <a:lnTo>
                  <a:pt x="55" y="819"/>
                </a:lnTo>
                <a:lnTo>
                  <a:pt x="36" y="813"/>
                </a:lnTo>
                <a:lnTo>
                  <a:pt x="17" y="808"/>
                </a:lnTo>
                <a:lnTo>
                  <a:pt x="0" y="800"/>
                </a:lnTo>
                <a:lnTo>
                  <a:pt x="0" y="802"/>
                </a:lnTo>
                <a:lnTo>
                  <a:pt x="0" y="802"/>
                </a:lnTo>
                <a:lnTo>
                  <a:pt x="0" y="804"/>
                </a:lnTo>
                <a:lnTo>
                  <a:pt x="0" y="806"/>
                </a:lnTo>
                <a:lnTo>
                  <a:pt x="0" y="808"/>
                </a:lnTo>
                <a:lnTo>
                  <a:pt x="2" y="808"/>
                </a:lnTo>
                <a:lnTo>
                  <a:pt x="2" y="810"/>
                </a:lnTo>
                <a:lnTo>
                  <a:pt x="2" y="812"/>
                </a:lnTo>
                <a:close/>
              </a:path>
            </a:pathLst>
          </a:custGeom>
          <a:solidFill>
            <a:srgbClr val="a7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201"/>
          <p:cNvSpPr/>
          <p:nvPr/>
        </p:nvSpPr>
        <p:spPr>
          <a:xfrm>
            <a:off x="6873840" y="2637000"/>
            <a:ext cx="301680" cy="1320480"/>
          </a:xfrm>
          <a:custGeom>
            <a:avLst/>
            <a:gdLst>
              <a:gd name="textAreaLeft" fmla="*/ 0 w 301680"/>
              <a:gd name="textAreaRight" fmla="*/ 302040 w 301680"/>
              <a:gd name="textAreaTop" fmla="*/ 0 h 1320480"/>
              <a:gd name="textAreaBottom" fmla="*/ 1320840 h 1320480"/>
            </a:gdLst>
            <a:ahLst/>
            <a:rect l="textAreaLeft" t="textAreaTop" r="textAreaRight" b="textAreaBottom"/>
            <a:pathLst>
              <a:path w="190" h="832">
                <a:moveTo>
                  <a:pt x="190" y="2"/>
                </a:moveTo>
                <a:lnTo>
                  <a:pt x="182" y="2"/>
                </a:lnTo>
                <a:lnTo>
                  <a:pt x="161" y="0"/>
                </a:lnTo>
                <a:lnTo>
                  <a:pt x="140" y="2"/>
                </a:lnTo>
                <a:lnTo>
                  <a:pt x="119" y="2"/>
                </a:lnTo>
                <a:lnTo>
                  <a:pt x="98" y="5"/>
                </a:lnTo>
                <a:lnTo>
                  <a:pt x="77" y="9"/>
                </a:lnTo>
                <a:lnTo>
                  <a:pt x="57" y="13"/>
                </a:lnTo>
                <a:lnTo>
                  <a:pt x="36" y="19"/>
                </a:lnTo>
                <a:lnTo>
                  <a:pt x="29" y="21"/>
                </a:lnTo>
                <a:lnTo>
                  <a:pt x="29" y="23"/>
                </a:lnTo>
                <a:lnTo>
                  <a:pt x="29" y="25"/>
                </a:lnTo>
                <a:lnTo>
                  <a:pt x="29" y="27"/>
                </a:lnTo>
                <a:lnTo>
                  <a:pt x="29" y="27"/>
                </a:lnTo>
                <a:lnTo>
                  <a:pt x="27" y="29"/>
                </a:lnTo>
                <a:lnTo>
                  <a:pt x="27" y="30"/>
                </a:lnTo>
                <a:lnTo>
                  <a:pt x="27" y="30"/>
                </a:lnTo>
                <a:lnTo>
                  <a:pt x="27" y="32"/>
                </a:lnTo>
                <a:lnTo>
                  <a:pt x="40" y="29"/>
                </a:lnTo>
                <a:lnTo>
                  <a:pt x="59" y="23"/>
                </a:lnTo>
                <a:lnTo>
                  <a:pt x="78" y="19"/>
                </a:lnTo>
                <a:lnTo>
                  <a:pt x="98" y="15"/>
                </a:lnTo>
                <a:lnTo>
                  <a:pt x="119" y="11"/>
                </a:lnTo>
                <a:lnTo>
                  <a:pt x="140" y="11"/>
                </a:lnTo>
                <a:lnTo>
                  <a:pt x="161" y="9"/>
                </a:lnTo>
                <a:lnTo>
                  <a:pt x="182" y="11"/>
                </a:lnTo>
                <a:lnTo>
                  <a:pt x="188" y="11"/>
                </a:lnTo>
                <a:lnTo>
                  <a:pt x="188" y="9"/>
                </a:lnTo>
                <a:lnTo>
                  <a:pt x="188" y="9"/>
                </a:lnTo>
                <a:lnTo>
                  <a:pt x="188" y="7"/>
                </a:lnTo>
                <a:lnTo>
                  <a:pt x="188" y="5"/>
                </a:lnTo>
                <a:lnTo>
                  <a:pt x="188" y="5"/>
                </a:lnTo>
                <a:lnTo>
                  <a:pt x="190" y="4"/>
                </a:lnTo>
                <a:lnTo>
                  <a:pt x="190" y="2"/>
                </a:lnTo>
                <a:lnTo>
                  <a:pt x="190" y="2"/>
                </a:lnTo>
                <a:close/>
                <a:moveTo>
                  <a:pt x="2" y="802"/>
                </a:moveTo>
                <a:lnTo>
                  <a:pt x="17" y="808"/>
                </a:lnTo>
                <a:lnTo>
                  <a:pt x="36" y="813"/>
                </a:lnTo>
                <a:lnTo>
                  <a:pt x="57" y="819"/>
                </a:lnTo>
                <a:lnTo>
                  <a:pt x="77" y="825"/>
                </a:lnTo>
                <a:lnTo>
                  <a:pt x="98" y="829"/>
                </a:lnTo>
                <a:lnTo>
                  <a:pt x="119" y="831"/>
                </a:lnTo>
                <a:lnTo>
                  <a:pt x="140" y="832"/>
                </a:lnTo>
                <a:lnTo>
                  <a:pt x="161" y="832"/>
                </a:lnTo>
                <a:lnTo>
                  <a:pt x="182" y="832"/>
                </a:lnTo>
                <a:lnTo>
                  <a:pt x="190" y="832"/>
                </a:lnTo>
                <a:lnTo>
                  <a:pt x="190" y="831"/>
                </a:lnTo>
                <a:lnTo>
                  <a:pt x="188" y="829"/>
                </a:lnTo>
                <a:lnTo>
                  <a:pt x="188" y="829"/>
                </a:lnTo>
                <a:lnTo>
                  <a:pt x="188" y="827"/>
                </a:lnTo>
                <a:lnTo>
                  <a:pt x="188" y="827"/>
                </a:lnTo>
                <a:lnTo>
                  <a:pt x="188" y="825"/>
                </a:lnTo>
                <a:lnTo>
                  <a:pt x="188" y="823"/>
                </a:lnTo>
                <a:lnTo>
                  <a:pt x="186" y="823"/>
                </a:lnTo>
                <a:lnTo>
                  <a:pt x="182" y="823"/>
                </a:lnTo>
                <a:lnTo>
                  <a:pt x="161" y="823"/>
                </a:lnTo>
                <a:lnTo>
                  <a:pt x="140" y="823"/>
                </a:lnTo>
                <a:lnTo>
                  <a:pt x="119" y="821"/>
                </a:lnTo>
                <a:lnTo>
                  <a:pt x="98" y="819"/>
                </a:lnTo>
                <a:lnTo>
                  <a:pt x="78" y="815"/>
                </a:lnTo>
                <a:lnTo>
                  <a:pt x="59" y="811"/>
                </a:lnTo>
                <a:lnTo>
                  <a:pt x="40" y="806"/>
                </a:lnTo>
                <a:lnTo>
                  <a:pt x="21" y="798"/>
                </a:lnTo>
                <a:lnTo>
                  <a:pt x="2" y="792"/>
                </a:lnTo>
                <a:lnTo>
                  <a:pt x="0" y="790"/>
                </a:lnTo>
                <a:lnTo>
                  <a:pt x="0" y="792"/>
                </a:lnTo>
                <a:lnTo>
                  <a:pt x="0" y="792"/>
                </a:lnTo>
                <a:lnTo>
                  <a:pt x="2" y="794"/>
                </a:lnTo>
                <a:lnTo>
                  <a:pt x="2" y="796"/>
                </a:lnTo>
                <a:lnTo>
                  <a:pt x="2" y="798"/>
                </a:lnTo>
                <a:lnTo>
                  <a:pt x="2" y="798"/>
                </a:lnTo>
                <a:lnTo>
                  <a:pt x="2" y="800"/>
                </a:lnTo>
                <a:lnTo>
                  <a:pt x="2" y="802"/>
                </a:lnTo>
                <a:close/>
              </a:path>
            </a:pathLst>
          </a:custGeom>
          <a:solidFill>
            <a:srgbClr val="a8d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202"/>
          <p:cNvSpPr/>
          <p:nvPr/>
        </p:nvSpPr>
        <p:spPr>
          <a:xfrm>
            <a:off x="6873840" y="2644920"/>
            <a:ext cx="298440" cy="1307880"/>
          </a:xfrm>
          <a:custGeom>
            <a:avLst/>
            <a:gdLst>
              <a:gd name="textAreaLeft" fmla="*/ 0 w 298440"/>
              <a:gd name="textAreaRight" fmla="*/ 298800 w 298440"/>
              <a:gd name="textAreaTop" fmla="*/ 0 h 1307880"/>
              <a:gd name="textAreaBottom" fmla="*/ 1307880 h 1307880"/>
            </a:gdLst>
            <a:ahLst/>
            <a:rect l="textAreaLeft" t="textAreaTop" r="textAreaRight" b="textAreaBottom"/>
            <a:pathLst>
              <a:path w="188" h="824">
                <a:moveTo>
                  <a:pt x="188" y="0"/>
                </a:moveTo>
                <a:lnTo>
                  <a:pt x="182" y="0"/>
                </a:lnTo>
                <a:lnTo>
                  <a:pt x="161" y="0"/>
                </a:lnTo>
                <a:lnTo>
                  <a:pt x="140" y="0"/>
                </a:lnTo>
                <a:lnTo>
                  <a:pt x="119" y="2"/>
                </a:lnTo>
                <a:lnTo>
                  <a:pt x="98" y="4"/>
                </a:lnTo>
                <a:lnTo>
                  <a:pt x="78" y="8"/>
                </a:lnTo>
                <a:lnTo>
                  <a:pt x="57" y="14"/>
                </a:lnTo>
                <a:lnTo>
                  <a:pt x="38" y="18"/>
                </a:lnTo>
                <a:lnTo>
                  <a:pt x="29" y="22"/>
                </a:lnTo>
                <a:lnTo>
                  <a:pt x="27" y="24"/>
                </a:lnTo>
                <a:lnTo>
                  <a:pt x="27" y="25"/>
                </a:lnTo>
                <a:lnTo>
                  <a:pt x="27" y="25"/>
                </a:lnTo>
                <a:lnTo>
                  <a:pt x="27" y="27"/>
                </a:lnTo>
                <a:lnTo>
                  <a:pt x="27" y="29"/>
                </a:lnTo>
                <a:lnTo>
                  <a:pt x="25" y="31"/>
                </a:lnTo>
                <a:lnTo>
                  <a:pt x="25" y="31"/>
                </a:lnTo>
                <a:lnTo>
                  <a:pt x="25" y="33"/>
                </a:lnTo>
                <a:lnTo>
                  <a:pt x="40" y="27"/>
                </a:lnTo>
                <a:lnTo>
                  <a:pt x="59" y="22"/>
                </a:lnTo>
                <a:lnTo>
                  <a:pt x="80" y="18"/>
                </a:lnTo>
                <a:lnTo>
                  <a:pt x="100" y="14"/>
                </a:lnTo>
                <a:lnTo>
                  <a:pt x="119" y="12"/>
                </a:lnTo>
                <a:lnTo>
                  <a:pt x="140" y="10"/>
                </a:lnTo>
                <a:lnTo>
                  <a:pt x="161" y="10"/>
                </a:lnTo>
                <a:lnTo>
                  <a:pt x="182" y="10"/>
                </a:lnTo>
                <a:lnTo>
                  <a:pt x="186" y="10"/>
                </a:lnTo>
                <a:lnTo>
                  <a:pt x="186" y="10"/>
                </a:lnTo>
                <a:lnTo>
                  <a:pt x="186" y="8"/>
                </a:lnTo>
                <a:lnTo>
                  <a:pt x="186" y="6"/>
                </a:lnTo>
                <a:lnTo>
                  <a:pt x="188" y="6"/>
                </a:lnTo>
                <a:lnTo>
                  <a:pt x="188" y="4"/>
                </a:lnTo>
                <a:lnTo>
                  <a:pt x="188" y="4"/>
                </a:lnTo>
                <a:lnTo>
                  <a:pt x="188" y="2"/>
                </a:lnTo>
                <a:lnTo>
                  <a:pt x="188" y="0"/>
                </a:lnTo>
                <a:close/>
                <a:moveTo>
                  <a:pt x="2" y="791"/>
                </a:moveTo>
                <a:lnTo>
                  <a:pt x="19" y="799"/>
                </a:lnTo>
                <a:lnTo>
                  <a:pt x="38" y="804"/>
                </a:lnTo>
                <a:lnTo>
                  <a:pt x="57" y="810"/>
                </a:lnTo>
                <a:lnTo>
                  <a:pt x="78" y="814"/>
                </a:lnTo>
                <a:lnTo>
                  <a:pt x="98" y="818"/>
                </a:lnTo>
                <a:lnTo>
                  <a:pt x="119" y="822"/>
                </a:lnTo>
                <a:lnTo>
                  <a:pt x="140" y="822"/>
                </a:lnTo>
                <a:lnTo>
                  <a:pt x="161" y="824"/>
                </a:lnTo>
                <a:lnTo>
                  <a:pt x="182" y="822"/>
                </a:lnTo>
                <a:lnTo>
                  <a:pt x="188" y="822"/>
                </a:lnTo>
                <a:lnTo>
                  <a:pt x="188" y="822"/>
                </a:lnTo>
                <a:lnTo>
                  <a:pt x="188" y="820"/>
                </a:lnTo>
                <a:lnTo>
                  <a:pt x="188" y="818"/>
                </a:lnTo>
                <a:lnTo>
                  <a:pt x="186" y="818"/>
                </a:lnTo>
                <a:lnTo>
                  <a:pt x="186" y="816"/>
                </a:lnTo>
                <a:lnTo>
                  <a:pt x="186" y="816"/>
                </a:lnTo>
                <a:lnTo>
                  <a:pt x="186" y="814"/>
                </a:lnTo>
                <a:lnTo>
                  <a:pt x="186" y="812"/>
                </a:lnTo>
                <a:lnTo>
                  <a:pt x="182" y="812"/>
                </a:lnTo>
                <a:lnTo>
                  <a:pt x="161" y="814"/>
                </a:lnTo>
                <a:lnTo>
                  <a:pt x="140" y="812"/>
                </a:lnTo>
                <a:lnTo>
                  <a:pt x="119" y="812"/>
                </a:lnTo>
                <a:lnTo>
                  <a:pt x="100" y="808"/>
                </a:lnTo>
                <a:lnTo>
                  <a:pt x="80" y="804"/>
                </a:lnTo>
                <a:lnTo>
                  <a:pt x="59" y="801"/>
                </a:lnTo>
                <a:lnTo>
                  <a:pt x="40" y="795"/>
                </a:lnTo>
                <a:lnTo>
                  <a:pt x="23" y="789"/>
                </a:lnTo>
                <a:lnTo>
                  <a:pt x="4" y="781"/>
                </a:lnTo>
                <a:lnTo>
                  <a:pt x="0" y="780"/>
                </a:lnTo>
                <a:lnTo>
                  <a:pt x="0" y="781"/>
                </a:lnTo>
                <a:lnTo>
                  <a:pt x="0" y="783"/>
                </a:lnTo>
                <a:lnTo>
                  <a:pt x="0" y="783"/>
                </a:lnTo>
                <a:lnTo>
                  <a:pt x="0" y="785"/>
                </a:lnTo>
                <a:lnTo>
                  <a:pt x="0" y="787"/>
                </a:lnTo>
                <a:lnTo>
                  <a:pt x="0" y="787"/>
                </a:lnTo>
                <a:lnTo>
                  <a:pt x="2" y="789"/>
                </a:lnTo>
                <a:lnTo>
                  <a:pt x="2" y="791"/>
                </a:lnTo>
                <a:close/>
              </a:path>
            </a:pathLst>
          </a:custGeom>
          <a:solidFill>
            <a:srgbClr val="a9d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203"/>
          <p:cNvSpPr/>
          <p:nvPr/>
        </p:nvSpPr>
        <p:spPr>
          <a:xfrm>
            <a:off x="6870600" y="2651040"/>
            <a:ext cx="301680" cy="1292400"/>
          </a:xfrm>
          <a:custGeom>
            <a:avLst/>
            <a:gdLst>
              <a:gd name="textAreaLeft" fmla="*/ 0 w 301680"/>
              <a:gd name="textAreaRight" fmla="*/ 302040 w 301680"/>
              <a:gd name="textAreaTop" fmla="*/ 0 h 1292400"/>
              <a:gd name="textAreaBottom" fmla="*/ 1292760 h 1292400"/>
            </a:gdLst>
            <a:ahLst/>
            <a:rect l="textAreaLeft" t="textAreaTop" r="textAreaRight" b="textAreaBottom"/>
            <a:pathLst>
              <a:path w="190" h="814">
                <a:moveTo>
                  <a:pt x="190" y="2"/>
                </a:moveTo>
                <a:lnTo>
                  <a:pt x="184" y="2"/>
                </a:lnTo>
                <a:lnTo>
                  <a:pt x="163" y="0"/>
                </a:lnTo>
                <a:lnTo>
                  <a:pt x="142" y="2"/>
                </a:lnTo>
                <a:lnTo>
                  <a:pt x="121" y="2"/>
                </a:lnTo>
                <a:lnTo>
                  <a:pt x="100" y="6"/>
                </a:lnTo>
                <a:lnTo>
                  <a:pt x="80" y="10"/>
                </a:lnTo>
                <a:lnTo>
                  <a:pt x="61" y="14"/>
                </a:lnTo>
                <a:lnTo>
                  <a:pt x="42" y="20"/>
                </a:lnTo>
                <a:lnTo>
                  <a:pt x="29" y="23"/>
                </a:lnTo>
                <a:lnTo>
                  <a:pt x="29" y="25"/>
                </a:lnTo>
                <a:lnTo>
                  <a:pt x="27" y="27"/>
                </a:lnTo>
                <a:lnTo>
                  <a:pt x="27" y="27"/>
                </a:lnTo>
                <a:lnTo>
                  <a:pt x="27" y="29"/>
                </a:lnTo>
                <a:lnTo>
                  <a:pt x="27" y="31"/>
                </a:lnTo>
                <a:lnTo>
                  <a:pt x="27" y="31"/>
                </a:lnTo>
                <a:lnTo>
                  <a:pt x="27" y="33"/>
                </a:lnTo>
                <a:lnTo>
                  <a:pt x="25" y="35"/>
                </a:lnTo>
                <a:lnTo>
                  <a:pt x="27" y="35"/>
                </a:lnTo>
                <a:lnTo>
                  <a:pt x="44" y="27"/>
                </a:lnTo>
                <a:lnTo>
                  <a:pt x="63" y="23"/>
                </a:lnTo>
                <a:lnTo>
                  <a:pt x="82" y="18"/>
                </a:lnTo>
                <a:lnTo>
                  <a:pt x="102" y="16"/>
                </a:lnTo>
                <a:lnTo>
                  <a:pt x="123" y="12"/>
                </a:lnTo>
                <a:lnTo>
                  <a:pt x="142" y="10"/>
                </a:lnTo>
                <a:lnTo>
                  <a:pt x="163" y="10"/>
                </a:lnTo>
                <a:lnTo>
                  <a:pt x="182" y="10"/>
                </a:lnTo>
                <a:lnTo>
                  <a:pt x="186" y="12"/>
                </a:lnTo>
                <a:lnTo>
                  <a:pt x="188" y="10"/>
                </a:lnTo>
                <a:lnTo>
                  <a:pt x="188" y="8"/>
                </a:lnTo>
                <a:lnTo>
                  <a:pt x="188" y="8"/>
                </a:lnTo>
                <a:lnTo>
                  <a:pt x="188" y="6"/>
                </a:lnTo>
                <a:lnTo>
                  <a:pt x="188" y="6"/>
                </a:lnTo>
                <a:lnTo>
                  <a:pt x="188" y="4"/>
                </a:lnTo>
                <a:lnTo>
                  <a:pt x="188" y="2"/>
                </a:lnTo>
                <a:lnTo>
                  <a:pt x="190" y="2"/>
                </a:lnTo>
                <a:close/>
                <a:moveTo>
                  <a:pt x="2" y="781"/>
                </a:moveTo>
                <a:lnTo>
                  <a:pt x="4" y="783"/>
                </a:lnTo>
                <a:lnTo>
                  <a:pt x="23" y="789"/>
                </a:lnTo>
                <a:lnTo>
                  <a:pt x="42" y="797"/>
                </a:lnTo>
                <a:lnTo>
                  <a:pt x="61" y="802"/>
                </a:lnTo>
                <a:lnTo>
                  <a:pt x="80" y="806"/>
                </a:lnTo>
                <a:lnTo>
                  <a:pt x="100" y="810"/>
                </a:lnTo>
                <a:lnTo>
                  <a:pt x="121" y="812"/>
                </a:lnTo>
                <a:lnTo>
                  <a:pt x="142" y="814"/>
                </a:lnTo>
                <a:lnTo>
                  <a:pt x="163" y="814"/>
                </a:lnTo>
                <a:lnTo>
                  <a:pt x="184" y="814"/>
                </a:lnTo>
                <a:lnTo>
                  <a:pt x="188" y="814"/>
                </a:lnTo>
                <a:lnTo>
                  <a:pt x="188" y="812"/>
                </a:lnTo>
                <a:lnTo>
                  <a:pt x="188" y="812"/>
                </a:lnTo>
                <a:lnTo>
                  <a:pt x="188" y="810"/>
                </a:lnTo>
                <a:lnTo>
                  <a:pt x="188" y="808"/>
                </a:lnTo>
                <a:lnTo>
                  <a:pt x="188" y="808"/>
                </a:lnTo>
                <a:lnTo>
                  <a:pt x="186" y="806"/>
                </a:lnTo>
                <a:lnTo>
                  <a:pt x="186" y="804"/>
                </a:lnTo>
                <a:lnTo>
                  <a:pt x="186" y="804"/>
                </a:lnTo>
                <a:lnTo>
                  <a:pt x="182" y="804"/>
                </a:lnTo>
                <a:lnTo>
                  <a:pt x="163" y="804"/>
                </a:lnTo>
                <a:lnTo>
                  <a:pt x="142" y="804"/>
                </a:lnTo>
                <a:lnTo>
                  <a:pt x="123" y="802"/>
                </a:lnTo>
                <a:lnTo>
                  <a:pt x="102" y="800"/>
                </a:lnTo>
                <a:lnTo>
                  <a:pt x="82" y="797"/>
                </a:lnTo>
                <a:lnTo>
                  <a:pt x="63" y="793"/>
                </a:lnTo>
                <a:lnTo>
                  <a:pt x="44" y="787"/>
                </a:lnTo>
                <a:lnTo>
                  <a:pt x="27" y="781"/>
                </a:lnTo>
                <a:lnTo>
                  <a:pt x="8" y="774"/>
                </a:lnTo>
                <a:lnTo>
                  <a:pt x="0" y="770"/>
                </a:lnTo>
                <a:lnTo>
                  <a:pt x="0" y="772"/>
                </a:lnTo>
                <a:lnTo>
                  <a:pt x="0" y="774"/>
                </a:lnTo>
                <a:lnTo>
                  <a:pt x="0" y="774"/>
                </a:lnTo>
                <a:lnTo>
                  <a:pt x="2" y="776"/>
                </a:lnTo>
                <a:lnTo>
                  <a:pt x="2" y="777"/>
                </a:lnTo>
                <a:lnTo>
                  <a:pt x="2" y="779"/>
                </a:lnTo>
                <a:lnTo>
                  <a:pt x="2" y="779"/>
                </a:lnTo>
                <a:lnTo>
                  <a:pt x="2" y="781"/>
                </a:lnTo>
                <a:close/>
              </a:path>
            </a:pathLst>
          </a:custGeom>
          <a:solidFill>
            <a:srgbClr val="aa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204"/>
          <p:cNvSpPr/>
          <p:nvPr/>
        </p:nvSpPr>
        <p:spPr>
          <a:xfrm>
            <a:off x="6870600" y="2660760"/>
            <a:ext cx="298440" cy="1276200"/>
          </a:xfrm>
          <a:custGeom>
            <a:avLst/>
            <a:gdLst>
              <a:gd name="textAreaLeft" fmla="*/ 0 w 298440"/>
              <a:gd name="textAreaRight" fmla="*/ 298800 w 298440"/>
              <a:gd name="textAreaTop" fmla="*/ 0 h 1276200"/>
              <a:gd name="textAreaBottom" fmla="*/ 1276560 h 1276200"/>
            </a:gdLst>
            <a:ahLst/>
            <a:rect l="textAreaLeft" t="textAreaTop" r="textAreaRight" b="textAreaBottom"/>
            <a:pathLst>
              <a:path w="188" h="804">
                <a:moveTo>
                  <a:pt x="188" y="0"/>
                </a:moveTo>
                <a:lnTo>
                  <a:pt x="184" y="0"/>
                </a:lnTo>
                <a:lnTo>
                  <a:pt x="163" y="0"/>
                </a:lnTo>
                <a:lnTo>
                  <a:pt x="142" y="0"/>
                </a:lnTo>
                <a:lnTo>
                  <a:pt x="121" y="2"/>
                </a:lnTo>
                <a:lnTo>
                  <a:pt x="102" y="4"/>
                </a:lnTo>
                <a:lnTo>
                  <a:pt x="82" y="8"/>
                </a:lnTo>
                <a:lnTo>
                  <a:pt x="61" y="12"/>
                </a:lnTo>
                <a:lnTo>
                  <a:pt x="42" y="17"/>
                </a:lnTo>
                <a:lnTo>
                  <a:pt x="27" y="23"/>
                </a:lnTo>
                <a:lnTo>
                  <a:pt x="27" y="25"/>
                </a:lnTo>
                <a:lnTo>
                  <a:pt x="27" y="25"/>
                </a:lnTo>
                <a:lnTo>
                  <a:pt x="25" y="27"/>
                </a:lnTo>
                <a:lnTo>
                  <a:pt x="25" y="29"/>
                </a:lnTo>
                <a:lnTo>
                  <a:pt x="25" y="31"/>
                </a:lnTo>
                <a:lnTo>
                  <a:pt x="25" y="31"/>
                </a:lnTo>
                <a:lnTo>
                  <a:pt x="25" y="33"/>
                </a:lnTo>
                <a:lnTo>
                  <a:pt x="23" y="35"/>
                </a:lnTo>
                <a:lnTo>
                  <a:pt x="46" y="27"/>
                </a:lnTo>
                <a:lnTo>
                  <a:pt x="84" y="17"/>
                </a:lnTo>
                <a:lnTo>
                  <a:pt x="104" y="14"/>
                </a:lnTo>
                <a:lnTo>
                  <a:pt x="123" y="12"/>
                </a:lnTo>
                <a:lnTo>
                  <a:pt x="142" y="10"/>
                </a:lnTo>
                <a:lnTo>
                  <a:pt x="163" y="10"/>
                </a:lnTo>
                <a:lnTo>
                  <a:pt x="182" y="10"/>
                </a:lnTo>
                <a:lnTo>
                  <a:pt x="186" y="10"/>
                </a:lnTo>
                <a:lnTo>
                  <a:pt x="186" y="8"/>
                </a:lnTo>
                <a:lnTo>
                  <a:pt x="186" y="8"/>
                </a:lnTo>
                <a:lnTo>
                  <a:pt x="186" y="6"/>
                </a:lnTo>
                <a:lnTo>
                  <a:pt x="186" y="6"/>
                </a:lnTo>
                <a:lnTo>
                  <a:pt x="188" y="4"/>
                </a:lnTo>
                <a:lnTo>
                  <a:pt x="188" y="2"/>
                </a:lnTo>
                <a:lnTo>
                  <a:pt x="188" y="2"/>
                </a:lnTo>
                <a:lnTo>
                  <a:pt x="188" y="0"/>
                </a:lnTo>
                <a:close/>
                <a:moveTo>
                  <a:pt x="2" y="770"/>
                </a:moveTo>
                <a:lnTo>
                  <a:pt x="6" y="771"/>
                </a:lnTo>
                <a:lnTo>
                  <a:pt x="25" y="779"/>
                </a:lnTo>
                <a:lnTo>
                  <a:pt x="42" y="785"/>
                </a:lnTo>
                <a:lnTo>
                  <a:pt x="61" y="791"/>
                </a:lnTo>
                <a:lnTo>
                  <a:pt x="82" y="794"/>
                </a:lnTo>
                <a:lnTo>
                  <a:pt x="102" y="798"/>
                </a:lnTo>
                <a:lnTo>
                  <a:pt x="121" y="802"/>
                </a:lnTo>
                <a:lnTo>
                  <a:pt x="142" y="802"/>
                </a:lnTo>
                <a:lnTo>
                  <a:pt x="163" y="804"/>
                </a:lnTo>
                <a:lnTo>
                  <a:pt x="184" y="802"/>
                </a:lnTo>
                <a:lnTo>
                  <a:pt x="188" y="802"/>
                </a:lnTo>
                <a:lnTo>
                  <a:pt x="188" y="802"/>
                </a:lnTo>
                <a:lnTo>
                  <a:pt x="186" y="800"/>
                </a:lnTo>
                <a:lnTo>
                  <a:pt x="186" y="798"/>
                </a:lnTo>
                <a:lnTo>
                  <a:pt x="186" y="798"/>
                </a:lnTo>
                <a:lnTo>
                  <a:pt x="186" y="796"/>
                </a:lnTo>
                <a:lnTo>
                  <a:pt x="186" y="796"/>
                </a:lnTo>
                <a:lnTo>
                  <a:pt x="186" y="794"/>
                </a:lnTo>
                <a:lnTo>
                  <a:pt x="184" y="793"/>
                </a:lnTo>
                <a:lnTo>
                  <a:pt x="182" y="794"/>
                </a:lnTo>
                <a:lnTo>
                  <a:pt x="163" y="794"/>
                </a:lnTo>
                <a:lnTo>
                  <a:pt x="142" y="794"/>
                </a:lnTo>
                <a:lnTo>
                  <a:pt x="123" y="793"/>
                </a:lnTo>
                <a:lnTo>
                  <a:pt x="104" y="789"/>
                </a:lnTo>
                <a:lnTo>
                  <a:pt x="84" y="787"/>
                </a:lnTo>
                <a:lnTo>
                  <a:pt x="46" y="777"/>
                </a:lnTo>
                <a:lnTo>
                  <a:pt x="9" y="764"/>
                </a:lnTo>
                <a:lnTo>
                  <a:pt x="0" y="758"/>
                </a:lnTo>
                <a:lnTo>
                  <a:pt x="0" y="760"/>
                </a:lnTo>
                <a:lnTo>
                  <a:pt x="0" y="762"/>
                </a:lnTo>
                <a:lnTo>
                  <a:pt x="0" y="762"/>
                </a:lnTo>
                <a:lnTo>
                  <a:pt x="0" y="764"/>
                </a:lnTo>
                <a:lnTo>
                  <a:pt x="0" y="766"/>
                </a:lnTo>
                <a:lnTo>
                  <a:pt x="0" y="768"/>
                </a:lnTo>
                <a:lnTo>
                  <a:pt x="0" y="768"/>
                </a:lnTo>
                <a:lnTo>
                  <a:pt x="2" y="770"/>
                </a:lnTo>
                <a:close/>
              </a:path>
            </a:pathLst>
          </a:custGeom>
          <a:solidFill>
            <a:srgbClr val="ab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205"/>
          <p:cNvSpPr/>
          <p:nvPr/>
        </p:nvSpPr>
        <p:spPr>
          <a:xfrm>
            <a:off x="6867360" y="2666880"/>
            <a:ext cx="298440" cy="1260720"/>
          </a:xfrm>
          <a:custGeom>
            <a:avLst/>
            <a:gdLst>
              <a:gd name="textAreaLeft" fmla="*/ 0 w 298440"/>
              <a:gd name="textAreaRight" fmla="*/ 298800 w 298440"/>
              <a:gd name="textAreaTop" fmla="*/ 0 h 1260720"/>
              <a:gd name="textAreaBottom" fmla="*/ 1260720 h 1260720"/>
            </a:gdLst>
            <a:ahLst/>
            <a:rect l="textAreaLeft" t="textAreaTop" r="textAreaRight" b="textAreaBottom"/>
            <a:pathLst>
              <a:path w="188" h="794">
                <a:moveTo>
                  <a:pt x="188" y="2"/>
                </a:moveTo>
                <a:lnTo>
                  <a:pt x="184" y="0"/>
                </a:lnTo>
                <a:lnTo>
                  <a:pt x="165" y="0"/>
                </a:lnTo>
                <a:lnTo>
                  <a:pt x="144" y="0"/>
                </a:lnTo>
                <a:lnTo>
                  <a:pt x="125" y="2"/>
                </a:lnTo>
                <a:lnTo>
                  <a:pt x="104" y="6"/>
                </a:lnTo>
                <a:lnTo>
                  <a:pt x="84" y="8"/>
                </a:lnTo>
                <a:lnTo>
                  <a:pt x="65" y="13"/>
                </a:lnTo>
                <a:lnTo>
                  <a:pt x="46" y="17"/>
                </a:lnTo>
                <a:lnTo>
                  <a:pt x="29" y="25"/>
                </a:lnTo>
                <a:lnTo>
                  <a:pt x="27" y="25"/>
                </a:lnTo>
                <a:lnTo>
                  <a:pt x="27" y="27"/>
                </a:lnTo>
                <a:lnTo>
                  <a:pt x="27" y="27"/>
                </a:lnTo>
                <a:lnTo>
                  <a:pt x="27" y="29"/>
                </a:lnTo>
                <a:lnTo>
                  <a:pt x="27" y="31"/>
                </a:lnTo>
                <a:lnTo>
                  <a:pt x="25" y="33"/>
                </a:lnTo>
                <a:lnTo>
                  <a:pt x="25" y="33"/>
                </a:lnTo>
                <a:lnTo>
                  <a:pt x="25" y="34"/>
                </a:lnTo>
                <a:lnTo>
                  <a:pt x="25" y="36"/>
                </a:lnTo>
                <a:lnTo>
                  <a:pt x="50" y="27"/>
                </a:lnTo>
                <a:lnTo>
                  <a:pt x="86" y="17"/>
                </a:lnTo>
                <a:lnTo>
                  <a:pt x="106" y="13"/>
                </a:lnTo>
                <a:lnTo>
                  <a:pt x="125" y="11"/>
                </a:lnTo>
                <a:lnTo>
                  <a:pt x="144" y="10"/>
                </a:lnTo>
                <a:lnTo>
                  <a:pt x="165" y="10"/>
                </a:lnTo>
                <a:lnTo>
                  <a:pt x="184" y="10"/>
                </a:lnTo>
                <a:lnTo>
                  <a:pt x="186" y="10"/>
                </a:lnTo>
                <a:lnTo>
                  <a:pt x="186" y="10"/>
                </a:lnTo>
                <a:lnTo>
                  <a:pt x="186" y="8"/>
                </a:lnTo>
                <a:lnTo>
                  <a:pt x="188" y="8"/>
                </a:lnTo>
                <a:lnTo>
                  <a:pt x="188" y="6"/>
                </a:lnTo>
                <a:lnTo>
                  <a:pt x="188" y="4"/>
                </a:lnTo>
                <a:lnTo>
                  <a:pt x="188" y="4"/>
                </a:lnTo>
                <a:lnTo>
                  <a:pt x="188" y="2"/>
                </a:lnTo>
                <a:lnTo>
                  <a:pt x="188" y="2"/>
                </a:lnTo>
                <a:close/>
                <a:moveTo>
                  <a:pt x="2" y="760"/>
                </a:moveTo>
                <a:lnTo>
                  <a:pt x="10" y="764"/>
                </a:lnTo>
                <a:lnTo>
                  <a:pt x="29" y="771"/>
                </a:lnTo>
                <a:lnTo>
                  <a:pt x="46" y="777"/>
                </a:lnTo>
                <a:lnTo>
                  <a:pt x="65" y="783"/>
                </a:lnTo>
                <a:lnTo>
                  <a:pt x="84" y="787"/>
                </a:lnTo>
                <a:lnTo>
                  <a:pt x="104" y="790"/>
                </a:lnTo>
                <a:lnTo>
                  <a:pt x="125" y="792"/>
                </a:lnTo>
                <a:lnTo>
                  <a:pt x="144" y="794"/>
                </a:lnTo>
                <a:lnTo>
                  <a:pt x="165" y="794"/>
                </a:lnTo>
                <a:lnTo>
                  <a:pt x="184" y="794"/>
                </a:lnTo>
                <a:lnTo>
                  <a:pt x="188" y="794"/>
                </a:lnTo>
                <a:lnTo>
                  <a:pt x="188" y="792"/>
                </a:lnTo>
                <a:lnTo>
                  <a:pt x="188" y="792"/>
                </a:lnTo>
                <a:lnTo>
                  <a:pt x="188" y="790"/>
                </a:lnTo>
                <a:lnTo>
                  <a:pt x="186" y="789"/>
                </a:lnTo>
                <a:lnTo>
                  <a:pt x="186" y="789"/>
                </a:lnTo>
                <a:lnTo>
                  <a:pt x="186" y="787"/>
                </a:lnTo>
                <a:lnTo>
                  <a:pt x="186" y="787"/>
                </a:lnTo>
                <a:lnTo>
                  <a:pt x="186" y="785"/>
                </a:lnTo>
                <a:lnTo>
                  <a:pt x="184" y="785"/>
                </a:lnTo>
                <a:lnTo>
                  <a:pt x="165" y="785"/>
                </a:lnTo>
                <a:lnTo>
                  <a:pt x="144" y="785"/>
                </a:lnTo>
                <a:lnTo>
                  <a:pt x="125" y="783"/>
                </a:lnTo>
                <a:lnTo>
                  <a:pt x="106" y="781"/>
                </a:lnTo>
                <a:lnTo>
                  <a:pt x="86" y="777"/>
                </a:lnTo>
                <a:lnTo>
                  <a:pt x="50" y="767"/>
                </a:lnTo>
                <a:lnTo>
                  <a:pt x="13" y="754"/>
                </a:lnTo>
                <a:lnTo>
                  <a:pt x="0" y="748"/>
                </a:lnTo>
                <a:lnTo>
                  <a:pt x="0" y="750"/>
                </a:lnTo>
                <a:lnTo>
                  <a:pt x="0" y="752"/>
                </a:lnTo>
                <a:lnTo>
                  <a:pt x="0" y="752"/>
                </a:lnTo>
                <a:lnTo>
                  <a:pt x="2" y="754"/>
                </a:lnTo>
                <a:lnTo>
                  <a:pt x="2" y="756"/>
                </a:lnTo>
                <a:lnTo>
                  <a:pt x="2" y="758"/>
                </a:lnTo>
                <a:lnTo>
                  <a:pt x="2" y="758"/>
                </a:lnTo>
                <a:lnTo>
                  <a:pt x="2" y="760"/>
                </a:lnTo>
                <a:close/>
              </a:path>
            </a:pathLst>
          </a:custGeom>
          <a:solidFill>
            <a:srgbClr val="ac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206"/>
          <p:cNvSpPr/>
          <p:nvPr/>
        </p:nvSpPr>
        <p:spPr>
          <a:xfrm>
            <a:off x="6864480" y="2676600"/>
            <a:ext cx="301320" cy="1244520"/>
          </a:xfrm>
          <a:custGeom>
            <a:avLst/>
            <a:gdLst>
              <a:gd name="textAreaLeft" fmla="*/ 0 w 301320"/>
              <a:gd name="textAreaRight" fmla="*/ 301680 w 30132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190" h="784">
                <a:moveTo>
                  <a:pt x="190" y="0"/>
                </a:moveTo>
                <a:lnTo>
                  <a:pt x="186" y="0"/>
                </a:lnTo>
                <a:lnTo>
                  <a:pt x="167" y="0"/>
                </a:lnTo>
                <a:lnTo>
                  <a:pt x="146" y="0"/>
                </a:lnTo>
                <a:lnTo>
                  <a:pt x="127" y="2"/>
                </a:lnTo>
                <a:lnTo>
                  <a:pt x="108" y="4"/>
                </a:lnTo>
                <a:lnTo>
                  <a:pt x="88" y="7"/>
                </a:lnTo>
                <a:lnTo>
                  <a:pt x="50" y="17"/>
                </a:lnTo>
                <a:lnTo>
                  <a:pt x="27" y="25"/>
                </a:lnTo>
                <a:lnTo>
                  <a:pt x="27" y="27"/>
                </a:lnTo>
                <a:lnTo>
                  <a:pt x="27" y="27"/>
                </a:lnTo>
                <a:lnTo>
                  <a:pt x="27" y="28"/>
                </a:lnTo>
                <a:lnTo>
                  <a:pt x="27" y="30"/>
                </a:lnTo>
                <a:lnTo>
                  <a:pt x="27" y="32"/>
                </a:lnTo>
                <a:lnTo>
                  <a:pt x="25" y="32"/>
                </a:lnTo>
                <a:lnTo>
                  <a:pt x="25" y="34"/>
                </a:lnTo>
                <a:lnTo>
                  <a:pt x="25" y="36"/>
                </a:lnTo>
                <a:lnTo>
                  <a:pt x="52" y="27"/>
                </a:lnTo>
                <a:lnTo>
                  <a:pt x="90" y="17"/>
                </a:lnTo>
                <a:lnTo>
                  <a:pt x="108" y="13"/>
                </a:lnTo>
                <a:lnTo>
                  <a:pt x="127" y="11"/>
                </a:lnTo>
                <a:lnTo>
                  <a:pt x="146" y="9"/>
                </a:lnTo>
                <a:lnTo>
                  <a:pt x="167" y="9"/>
                </a:lnTo>
                <a:lnTo>
                  <a:pt x="186" y="9"/>
                </a:lnTo>
                <a:lnTo>
                  <a:pt x="188" y="9"/>
                </a:lnTo>
                <a:lnTo>
                  <a:pt x="188" y="7"/>
                </a:lnTo>
                <a:lnTo>
                  <a:pt x="188" y="7"/>
                </a:lnTo>
                <a:lnTo>
                  <a:pt x="188" y="5"/>
                </a:lnTo>
                <a:lnTo>
                  <a:pt x="188" y="4"/>
                </a:lnTo>
                <a:lnTo>
                  <a:pt x="188" y="4"/>
                </a:lnTo>
                <a:lnTo>
                  <a:pt x="188" y="2"/>
                </a:lnTo>
                <a:lnTo>
                  <a:pt x="190" y="2"/>
                </a:lnTo>
                <a:lnTo>
                  <a:pt x="190" y="0"/>
                </a:lnTo>
                <a:close/>
                <a:moveTo>
                  <a:pt x="4" y="748"/>
                </a:moveTo>
                <a:lnTo>
                  <a:pt x="13" y="754"/>
                </a:lnTo>
                <a:lnTo>
                  <a:pt x="50" y="767"/>
                </a:lnTo>
                <a:lnTo>
                  <a:pt x="88" y="777"/>
                </a:lnTo>
                <a:lnTo>
                  <a:pt x="108" y="779"/>
                </a:lnTo>
                <a:lnTo>
                  <a:pt x="127" y="783"/>
                </a:lnTo>
                <a:lnTo>
                  <a:pt x="146" y="784"/>
                </a:lnTo>
                <a:lnTo>
                  <a:pt x="167" y="784"/>
                </a:lnTo>
                <a:lnTo>
                  <a:pt x="186" y="784"/>
                </a:lnTo>
                <a:lnTo>
                  <a:pt x="188" y="783"/>
                </a:lnTo>
                <a:lnTo>
                  <a:pt x="188" y="783"/>
                </a:lnTo>
                <a:lnTo>
                  <a:pt x="188" y="781"/>
                </a:lnTo>
                <a:lnTo>
                  <a:pt x="188" y="781"/>
                </a:lnTo>
                <a:lnTo>
                  <a:pt x="188" y="779"/>
                </a:lnTo>
                <a:lnTo>
                  <a:pt x="188" y="777"/>
                </a:lnTo>
                <a:lnTo>
                  <a:pt x="188" y="777"/>
                </a:lnTo>
                <a:lnTo>
                  <a:pt x="186" y="775"/>
                </a:lnTo>
                <a:lnTo>
                  <a:pt x="186" y="775"/>
                </a:lnTo>
                <a:lnTo>
                  <a:pt x="186" y="775"/>
                </a:lnTo>
                <a:lnTo>
                  <a:pt x="167" y="775"/>
                </a:lnTo>
                <a:lnTo>
                  <a:pt x="146" y="775"/>
                </a:lnTo>
                <a:lnTo>
                  <a:pt x="127" y="773"/>
                </a:lnTo>
                <a:lnTo>
                  <a:pt x="108" y="771"/>
                </a:lnTo>
                <a:lnTo>
                  <a:pt x="90" y="767"/>
                </a:lnTo>
                <a:lnTo>
                  <a:pt x="52" y="758"/>
                </a:lnTo>
                <a:lnTo>
                  <a:pt x="17" y="744"/>
                </a:lnTo>
                <a:lnTo>
                  <a:pt x="0" y="736"/>
                </a:lnTo>
                <a:lnTo>
                  <a:pt x="2" y="738"/>
                </a:lnTo>
                <a:lnTo>
                  <a:pt x="2" y="740"/>
                </a:lnTo>
                <a:lnTo>
                  <a:pt x="2" y="740"/>
                </a:lnTo>
                <a:lnTo>
                  <a:pt x="2" y="742"/>
                </a:lnTo>
                <a:lnTo>
                  <a:pt x="2" y="744"/>
                </a:lnTo>
                <a:lnTo>
                  <a:pt x="2" y="746"/>
                </a:lnTo>
                <a:lnTo>
                  <a:pt x="2" y="746"/>
                </a:lnTo>
                <a:lnTo>
                  <a:pt x="4" y="748"/>
                </a:lnTo>
                <a:close/>
              </a:path>
            </a:pathLst>
          </a:custGeom>
          <a:solidFill>
            <a:srgbClr val="a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207"/>
          <p:cNvSpPr/>
          <p:nvPr/>
        </p:nvSpPr>
        <p:spPr>
          <a:xfrm>
            <a:off x="6864480" y="2682720"/>
            <a:ext cx="298440" cy="1230480"/>
          </a:xfrm>
          <a:custGeom>
            <a:avLst/>
            <a:gdLst>
              <a:gd name="textAreaLeft" fmla="*/ 0 w 298440"/>
              <a:gd name="textAreaRight" fmla="*/ 298800 w 298440"/>
              <a:gd name="textAreaTop" fmla="*/ 0 h 1230480"/>
              <a:gd name="textAreaBottom" fmla="*/ 1230480 h 1230480"/>
            </a:gdLst>
            <a:ahLst/>
            <a:rect l="textAreaLeft" t="textAreaTop" r="textAreaRight" b="textAreaBottom"/>
            <a:pathLst>
              <a:path w="188" h="775">
                <a:moveTo>
                  <a:pt x="188" y="0"/>
                </a:moveTo>
                <a:lnTo>
                  <a:pt x="186" y="0"/>
                </a:lnTo>
                <a:lnTo>
                  <a:pt x="167" y="0"/>
                </a:lnTo>
                <a:lnTo>
                  <a:pt x="146" y="0"/>
                </a:lnTo>
                <a:lnTo>
                  <a:pt x="127" y="1"/>
                </a:lnTo>
                <a:lnTo>
                  <a:pt x="108" y="3"/>
                </a:lnTo>
                <a:lnTo>
                  <a:pt x="88" y="7"/>
                </a:lnTo>
                <a:lnTo>
                  <a:pt x="52" y="17"/>
                </a:lnTo>
                <a:lnTo>
                  <a:pt x="27" y="26"/>
                </a:lnTo>
                <a:lnTo>
                  <a:pt x="27" y="28"/>
                </a:lnTo>
                <a:lnTo>
                  <a:pt x="25" y="28"/>
                </a:lnTo>
                <a:lnTo>
                  <a:pt x="25" y="30"/>
                </a:lnTo>
                <a:lnTo>
                  <a:pt x="25" y="32"/>
                </a:lnTo>
                <a:lnTo>
                  <a:pt x="25" y="34"/>
                </a:lnTo>
                <a:lnTo>
                  <a:pt x="25" y="34"/>
                </a:lnTo>
                <a:lnTo>
                  <a:pt x="23" y="36"/>
                </a:lnTo>
                <a:lnTo>
                  <a:pt x="23" y="38"/>
                </a:lnTo>
                <a:lnTo>
                  <a:pt x="54" y="26"/>
                </a:lnTo>
                <a:lnTo>
                  <a:pt x="90" y="17"/>
                </a:lnTo>
                <a:lnTo>
                  <a:pt x="109" y="13"/>
                </a:lnTo>
                <a:lnTo>
                  <a:pt x="129" y="11"/>
                </a:lnTo>
                <a:lnTo>
                  <a:pt x="148" y="9"/>
                </a:lnTo>
                <a:lnTo>
                  <a:pt x="167" y="9"/>
                </a:lnTo>
                <a:lnTo>
                  <a:pt x="186" y="9"/>
                </a:lnTo>
                <a:lnTo>
                  <a:pt x="186" y="9"/>
                </a:lnTo>
                <a:lnTo>
                  <a:pt x="186" y="9"/>
                </a:lnTo>
                <a:lnTo>
                  <a:pt x="186" y="7"/>
                </a:lnTo>
                <a:lnTo>
                  <a:pt x="186" y="5"/>
                </a:lnTo>
                <a:lnTo>
                  <a:pt x="188" y="5"/>
                </a:lnTo>
                <a:lnTo>
                  <a:pt x="188" y="3"/>
                </a:lnTo>
                <a:lnTo>
                  <a:pt x="188" y="3"/>
                </a:lnTo>
                <a:lnTo>
                  <a:pt x="188" y="1"/>
                </a:lnTo>
                <a:lnTo>
                  <a:pt x="188" y="0"/>
                </a:lnTo>
                <a:close/>
                <a:moveTo>
                  <a:pt x="2" y="738"/>
                </a:moveTo>
                <a:lnTo>
                  <a:pt x="15" y="744"/>
                </a:lnTo>
                <a:lnTo>
                  <a:pt x="52" y="757"/>
                </a:lnTo>
                <a:lnTo>
                  <a:pt x="88" y="767"/>
                </a:lnTo>
                <a:lnTo>
                  <a:pt x="108" y="771"/>
                </a:lnTo>
                <a:lnTo>
                  <a:pt x="127" y="773"/>
                </a:lnTo>
                <a:lnTo>
                  <a:pt x="146" y="775"/>
                </a:lnTo>
                <a:lnTo>
                  <a:pt x="167" y="775"/>
                </a:lnTo>
                <a:lnTo>
                  <a:pt x="186" y="775"/>
                </a:lnTo>
                <a:lnTo>
                  <a:pt x="188" y="775"/>
                </a:lnTo>
                <a:lnTo>
                  <a:pt x="188" y="773"/>
                </a:lnTo>
                <a:lnTo>
                  <a:pt x="188" y="773"/>
                </a:lnTo>
                <a:lnTo>
                  <a:pt x="186" y="771"/>
                </a:lnTo>
                <a:lnTo>
                  <a:pt x="186" y="771"/>
                </a:lnTo>
                <a:lnTo>
                  <a:pt x="186" y="769"/>
                </a:lnTo>
                <a:lnTo>
                  <a:pt x="186" y="767"/>
                </a:lnTo>
                <a:lnTo>
                  <a:pt x="186" y="767"/>
                </a:lnTo>
                <a:lnTo>
                  <a:pt x="186" y="765"/>
                </a:lnTo>
                <a:lnTo>
                  <a:pt x="167" y="765"/>
                </a:lnTo>
                <a:lnTo>
                  <a:pt x="148" y="765"/>
                </a:lnTo>
                <a:lnTo>
                  <a:pt x="129" y="763"/>
                </a:lnTo>
                <a:lnTo>
                  <a:pt x="109" y="761"/>
                </a:lnTo>
                <a:lnTo>
                  <a:pt x="90" y="757"/>
                </a:lnTo>
                <a:lnTo>
                  <a:pt x="54" y="750"/>
                </a:lnTo>
                <a:lnTo>
                  <a:pt x="19" y="736"/>
                </a:lnTo>
                <a:lnTo>
                  <a:pt x="0" y="727"/>
                </a:lnTo>
                <a:lnTo>
                  <a:pt x="0" y="729"/>
                </a:lnTo>
                <a:lnTo>
                  <a:pt x="0" y="731"/>
                </a:lnTo>
                <a:lnTo>
                  <a:pt x="0" y="731"/>
                </a:lnTo>
                <a:lnTo>
                  <a:pt x="0" y="732"/>
                </a:lnTo>
                <a:lnTo>
                  <a:pt x="2" y="734"/>
                </a:lnTo>
                <a:lnTo>
                  <a:pt x="2" y="736"/>
                </a:lnTo>
                <a:lnTo>
                  <a:pt x="2" y="736"/>
                </a:lnTo>
                <a:lnTo>
                  <a:pt x="2" y="738"/>
                </a:lnTo>
                <a:close/>
              </a:path>
            </a:pathLst>
          </a:custGeom>
          <a:solidFill>
            <a:srgbClr val="ae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209"/>
          <p:cNvSpPr/>
          <p:nvPr/>
        </p:nvSpPr>
        <p:spPr>
          <a:xfrm>
            <a:off x="6864480" y="2690640"/>
            <a:ext cx="298440" cy="1216080"/>
          </a:xfrm>
          <a:custGeom>
            <a:avLst/>
            <a:gdLst>
              <a:gd name="textAreaLeft" fmla="*/ 0 w 298440"/>
              <a:gd name="textAreaRight" fmla="*/ 298800 w 2984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188" h="766">
                <a:moveTo>
                  <a:pt x="188" y="0"/>
                </a:moveTo>
                <a:lnTo>
                  <a:pt x="186" y="0"/>
                </a:lnTo>
                <a:lnTo>
                  <a:pt x="167" y="0"/>
                </a:lnTo>
                <a:lnTo>
                  <a:pt x="146" y="0"/>
                </a:lnTo>
                <a:lnTo>
                  <a:pt x="127" y="2"/>
                </a:lnTo>
                <a:lnTo>
                  <a:pt x="108" y="4"/>
                </a:lnTo>
                <a:lnTo>
                  <a:pt x="90" y="8"/>
                </a:lnTo>
                <a:lnTo>
                  <a:pt x="52" y="18"/>
                </a:lnTo>
                <a:lnTo>
                  <a:pt x="25" y="27"/>
                </a:lnTo>
                <a:lnTo>
                  <a:pt x="25" y="29"/>
                </a:lnTo>
                <a:lnTo>
                  <a:pt x="25" y="29"/>
                </a:lnTo>
                <a:lnTo>
                  <a:pt x="23" y="31"/>
                </a:lnTo>
                <a:lnTo>
                  <a:pt x="23" y="33"/>
                </a:lnTo>
                <a:lnTo>
                  <a:pt x="23" y="33"/>
                </a:lnTo>
                <a:lnTo>
                  <a:pt x="23" y="35"/>
                </a:lnTo>
                <a:lnTo>
                  <a:pt x="23" y="37"/>
                </a:lnTo>
                <a:lnTo>
                  <a:pt x="23" y="39"/>
                </a:lnTo>
                <a:lnTo>
                  <a:pt x="56" y="25"/>
                </a:lnTo>
                <a:lnTo>
                  <a:pt x="90" y="16"/>
                </a:lnTo>
                <a:lnTo>
                  <a:pt x="129" y="10"/>
                </a:lnTo>
                <a:lnTo>
                  <a:pt x="167" y="8"/>
                </a:lnTo>
                <a:lnTo>
                  <a:pt x="184" y="10"/>
                </a:lnTo>
                <a:lnTo>
                  <a:pt x="184" y="8"/>
                </a:lnTo>
                <a:lnTo>
                  <a:pt x="186" y="8"/>
                </a:lnTo>
                <a:lnTo>
                  <a:pt x="186" y="6"/>
                </a:lnTo>
                <a:lnTo>
                  <a:pt x="186" y="4"/>
                </a:lnTo>
                <a:lnTo>
                  <a:pt x="186" y="4"/>
                </a:lnTo>
                <a:lnTo>
                  <a:pt x="186" y="2"/>
                </a:lnTo>
                <a:lnTo>
                  <a:pt x="186" y="0"/>
                </a:lnTo>
                <a:lnTo>
                  <a:pt x="188" y="0"/>
                </a:lnTo>
                <a:close/>
                <a:moveTo>
                  <a:pt x="0" y="727"/>
                </a:moveTo>
                <a:lnTo>
                  <a:pt x="17" y="735"/>
                </a:lnTo>
                <a:lnTo>
                  <a:pt x="52" y="749"/>
                </a:lnTo>
                <a:lnTo>
                  <a:pt x="90" y="758"/>
                </a:lnTo>
                <a:lnTo>
                  <a:pt x="108" y="762"/>
                </a:lnTo>
                <a:lnTo>
                  <a:pt x="127" y="764"/>
                </a:lnTo>
                <a:lnTo>
                  <a:pt x="146" y="766"/>
                </a:lnTo>
                <a:lnTo>
                  <a:pt x="167" y="766"/>
                </a:lnTo>
                <a:lnTo>
                  <a:pt x="186" y="766"/>
                </a:lnTo>
                <a:lnTo>
                  <a:pt x="186" y="766"/>
                </a:lnTo>
                <a:lnTo>
                  <a:pt x="186" y="764"/>
                </a:lnTo>
                <a:lnTo>
                  <a:pt x="186" y="762"/>
                </a:lnTo>
                <a:lnTo>
                  <a:pt x="186" y="762"/>
                </a:lnTo>
                <a:lnTo>
                  <a:pt x="186" y="760"/>
                </a:lnTo>
                <a:lnTo>
                  <a:pt x="184" y="758"/>
                </a:lnTo>
                <a:lnTo>
                  <a:pt x="184" y="758"/>
                </a:lnTo>
                <a:lnTo>
                  <a:pt x="184" y="756"/>
                </a:lnTo>
                <a:lnTo>
                  <a:pt x="184" y="754"/>
                </a:lnTo>
                <a:lnTo>
                  <a:pt x="167" y="756"/>
                </a:lnTo>
                <a:lnTo>
                  <a:pt x="129" y="754"/>
                </a:lnTo>
                <a:lnTo>
                  <a:pt x="90" y="749"/>
                </a:lnTo>
                <a:lnTo>
                  <a:pt x="56" y="739"/>
                </a:lnTo>
                <a:lnTo>
                  <a:pt x="21" y="727"/>
                </a:lnTo>
                <a:lnTo>
                  <a:pt x="0" y="716"/>
                </a:lnTo>
                <a:lnTo>
                  <a:pt x="0" y="718"/>
                </a:lnTo>
                <a:lnTo>
                  <a:pt x="0" y="720"/>
                </a:lnTo>
                <a:lnTo>
                  <a:pt x="0" y="720"/>
                </a:lnTo>
                <a:lnTo>
                  <a:pt x="0" y="722"/>
                </a:lnTo>
                <a:lnTo>
                  <a:pt x="0" y="724"/>
                </a:lnTo>
                <a:lnTo>
                  <a:pt x="0" y="726"/>
                </a:lnTo>
                <a:lnTo>
                  <a:pt x="0" y="726"/>
                </a:lnTo>
                <a:lnTo>
                  <a:pt x="0" y="727"/>
                </a:lnTo>
                <a:close/>
              </a:path>
            </a:pathLst>
          </a:custGeom>
          <a:solidFill>
            <a:srgbClr val="af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10"/>
          <p:cNvSpPr/>
          <p:nvPr/>
        </p:nvSpPr>
        <p:spPr>
          <a:xfrm>
            <a:off x="6861240" y="2697120"/>
            <a:ext cx="298440" cy="1200240"/>
          </a:xfrm>
          <a:custGeom>
            <a:avLst/>
            <a:gdLst>
              <a:gd name="textAreaLeft" fmla="*/ 0 w 298440"/>
              <a:gd name="textAreaRight" fmla="*/ 298800 w 29844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188" h="756">
                <a:moveTo>
                  <a:pt x="188" y="0"/>
                </a:moveTo>
                <a:lnTo>
                  <a:pt x="188" y="0"/>
                </a:lnTo>
                <a:lnTo>
                  <a:pt x="169" y="0"/>
                </a:lnTo>
                <a:lnTo>
                  <a:pt x="150" y="0"/>
                </a:lnTo>
                <a:lnTo>
                  <a:pt x="131" y="2"/>
                </a:lnTo>
                <a:lnTo>
                  <a:pt x="111" y="4"/>
                </a:lnTo>
                <a:lnTo>
                  <a:pt x="92" y="8"/>
                </a:lnTo>
                <a:lnTo>
                  <a:pt x="56" y="17"/>
                </a:lnTo>
                <a:lnTo>
                  <a:pt x="25" y="29"/>
                </a:lnTo>
                <a:lnTo>
                  <a:pt x="25" y="29"/>
                </a:lnTo>
                <a:lnTo>
                  <a:pt x="25" y="31"/>
                </a:lnTo>
                <a:lnTo>
                  <a:pt x="25" y="33"/>
                </a:lnTo>
                <a:lnTo>
                  <a:pt x="25" y="35"/>
                </a:lnTo>
                <a:lnTo>
                  <a:pt x="23" y="35"/>
                </a:lnTo>
                <a:lnTo>
                  <a:pt x="23" y="37"/>
                </a:lnTo>
                <a:lnTo>
                  <a:pt x="23" y="38"/>
                </a:lnTo>
                <a:lnTo>
                  <a:pt x="23" y="40"/>
                </a:lnTo>
                <a:lnTo>
                  <a:pt x="25" y="38"/>
                </a:lnTo>
                <a:lnTo>
                  <a:pt x="60" y="27"/>
                </a:lnTo>
                <a:lnTo>
                  <a:pt x="94" y="17"/>
                </a:lnTo>
                <a:lnTo>
                  <a:pt x="131" y="12"/>
                </a:lnTo>
                <a:lnTo>
                  <a:pt x="169" y="10"/>
                </a:lnTo>
                <a:lnTo>
                  <a:pt x="186" y="10"/>
                </a:lnTo>
                <a:lnTo>
                  <a:pt x="186" y="10"/>
                </a:lnTo>
                <a:lnTo>
                  <a:pt x="186" y="8"/>
                </a:lnTo>
                <a:lnTo>
                  <a:pt x="186" y="6"/>
                </a:lnTo>
                <a:lnTo>
                  <a:pt x="186" y="6"/>
                </a:lnTo>
                <a:lnTo>
                  <a:pt x="186" y="4"/>
                </a:lnTo>
                <a:lnTo>
                  <a:pt x="188" y="4"/>
                </a:lnTo>
                <a:lnTo>
                  <a:pt x="188" y="2"/>
                </a:lnTo>
                <a:lnTo>
                  <a:pt x="188" y="0"/>
                </a:lnTo>
                <a:close/>
                <a:moveTo>
                  <a:pt x="2" y="718"/>
                </a:moveTo>
                <a:lnTo>
                  <a:pt x="21" y="727"/>
                </a:lnTo>
                <a:lnTo>
                  <a:pt x="56" y="741"/>
                </a:lnTo>
                <a:lnTo>
                  <a:pt x="92" y="748"/>
                </a:lnTo>
                <a:lnTo>
                  <a:pt x="111" y="752"/>
                </a:lnTo>
                <a:lnTo>
                  <a:pt x="131" y="754"/>
                </a:lnTo>
                <a:lnTo>
                  <a:pt x="150" y="756"/>
                </a:lnTo>
                <a:lnTo>
                  <a:pt x="169" y="756"/>
                </a:lnTo>
                <a:lnTo>
                  <a:pt x="188" y="756"/>
                </a:lnTo>
                <a:lnTo>
                  <a:pt x="186" y="756"/>
                </a:lnTo>
                <a:lnTo>
                  <a:pt x="186" y="754"/>
                </a:lnTo>
                <a:lnTo>
                  <a:pt x="186" y="752"/>
                </a:lnTo>
                <a:lnTo>
                  <a:pt x="186" y="752"/>
                </a:lnTo>
                <a:lnTo>
                  <a:pt x="186" y="750"/>
                </a:lnTo>
                <a:lnTo>
                  <a:pt x="186" y="748"/>
                </a:lnTo>
                <a:lnTo>
                  <a:pt x="184" y="748"/>
                </a:lnTo>
                <a:lnTo>
                  <a:pt x="184" y="747"/>
                </a:lnTo>
                <a:lnTo>
                  <a:pt x="169" y="747"/>
                </a:lnTo>
                <a:lnTo>
                  <a:pt x="131" y="745"/>
                </a:lnTo>
                <a:lnTo>
                  <a:pt x="94" y="741"/>
                </a:lnTo>
                <a:lnTo>
                  <a:pt x="60" y="731"/>
                </a:lnTo>
                <a:lnTo>
                  <a:pt x="25" y="718"/>
                </a:lnTo>
                <a:lnTo>
                  <a:pt x="0" y="706"/>
                </a:lnTo>
                <a:lnTo>
                  <a:pt x="0" y="708"/>
                </a:lnTo>
                <a:lnTo>
                  <a:pt x="0" y="710"/>
                </a:lnTo>
                <a:lnTo>
                  <a:pt x="0" y="710"/>
                </a:lnTo>
                <a:lnTo>
                  <a:pt x="2" y="712"/>
                </a:lnTo>
                <a:lnTo>
                  <a:pt x="2" y="714"/>
                </a:lnTo>
                <a:lnTo>
                  <a:pt x="2" y="716"/>
                </a:lnTo>
                <a:lnTo>
                  <a:pt x="2" y="716"/>
                </a:lnTo>
                <a:lnTo>
                  <a:pt x="2" y="718"/>
                </a:lnTo>
                <a:close/>
              </a:path>
            </a:pathLst>
          </a:custGeom>
          <a:solidFill>
            <a:srgbClr val="b0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211"/>
          <p:cNvSpPr/>
          <p:nvPr/>
        </p:nvSpPr>
        <p:spPr>
          <a:xfrm>
            <a:off x="6861240" y="2703600"/>
            <a:ext cx="295200" cy="1187280"/>
          </a:xfrm>
          <a:custGeom>
            <a:avLst/>
            <a:gdLst>
              <a:gd name="textAreaLeft" fmla="*/ 0 w 295200"/>
              <a:gd name="textAreaRight" fmla="*/ 295560 w 29520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186" h="748">
                <a:moveTo>
                  <a:pt x="186" y="2"/>
                </a:moveTo>
                <a:lnTo>
                  <a:pt x="169" y="0"/>
                </a:lnTo>
                <a:lnTo>
                  <a:pt x="131" y="2"/>
                </a:lnTo>
                <a:lnTo>
                  <a:pt x="92" y="8"/>
                </a:lnTo>
                <a:lnTo>
                  <a:pt x="58" y="17"/>
                </a:lnTo>
                <a:lnTo>
                  <a:pt x="25" y="31"/>
                </a:lnTo>
                <a:lnTo>
                  <a:pt x="23" y="31"/>
                </a:lnTo>
                <a:lnTo>
                  <a:pt x="23" y="33"/>
                </a:lnTo>
                <a:lnTo>
                  <a:pt x="23" y="34"/>
                </a:lnTo>
                <a:lnTo>
                  <a:pt x="23" y="36"/>
                </a:lnTo>
                <a:lnTo>
                  <a:pt x="23" y="36"/>
                </a:lnTo>
                <a:lnTo>
                  <a:pt x="21" y="38"/>
                </a:lnTo>
                <a:lnTo>
                  <a:pt x="21" y="40"/>
                </a:lnTo>
                <a:lnTo>
                  <a:pt x="21" y="42"/>
                </a:lnTo>
                <a:lnTo>
                  <a:pt x="27" y="38"/>
                </a:lnTo>
                <a:lnTo>
                  <a:pt x="60" y="27"/>
                </a:lnTo>
                <a:lnTo>
                  <a:pt x="94" y="17"/>
                </a:lnTo>
                <a:lnTo>
                  <a:pt x="131" y="11"/>
                </a:lnTo>
                <a:lnTo>
                  <a:pt x="169" y="10"/>
                </a:lnTo>
                <a:lnTo>
                  <a:pt x="184" y="11"/>
                </a:lnTo>
                <a:lnTo>
                  <a:pt x="184" y="10"/>
                </a:lnTo>
                <a:lnTo>
                  <a:pt x="184" y="10"/>
                </a:lnTo>
                <a:lnTo>
                  <a:pt x="186" y="8"/>
                </a:lnTo>
                <a:lnTo>
                  <a:pt x="186" y="6"/>
                </a:lnTo>
                <a:lnTo>
                  <a:pt x="186" y="6"/>
                </a:lnTo>
                <a:lnTo>
                  <a:pt x="186" y="4"/>
                </a:lnTo>
                <a:lnTo>
                  <a:pt x="186" y="4"/>
                </a:lnTo>
                <a:lnTo>
                  <a:pt x="186" y="2"/>
                </a:lnTo>
                <a:close/>
                <a:moveTo>
                  <a:pt x="2" y="708"/>
                </a:moveTo>
                <a:lnTo>
                  <a:pt x="23" y="719"/>
                </a:lnTo>
                <a:lnTo>
                  <a:pt x="58" y="731"/>
                </a:lnTo>
                <a:lnTo>
                  <a:pt x="92" y="741"/>
                </a:lnTo>
                <a:lnTo>
                  <a:pt x="131" y="746"/>
                </a:lnTo>
                <a:lnTo>
                  <a:pt x="169" y="748"/>
                </a:lnTo>
                <a:lnTo>
                  <a:pt x="186" y="746"/>
                </a:lnTo>
                <a:lnTo>
                  <a:pt x="186" y="746"/>
                </a:lnTo>
                <a:lnTo>
                  <a:pt x="186" y="744"/>
                </a:lnTo>
                <a:lnTo>
                  <a:pt x="184" y="744"/>
                </a:lnTo>
                <a:lnTo>
                  <a:pt x="184" y="743"/>
                </a:lnTo>
                <a:lnTo>
                  <a:pt x="184" y="741"/>
                </a:lnTo>
                <a:lnTo>
                  <a:pt x="184" y="741"/>
                </a:lnTo>
                <a:lnTo>
                  <a:pt x="184" y="739"/>
                </a:lnTo>
                <a:lnTo>
                  <a:pt x="184" y="739"/>
                </a:lnTo>
                <a:lnTo>
                  <a:pt x="169" y="739"/>
                </a:lnTo>
                <a:lnTo>
                  <a:pt x="131" y="737"/>
                </a:lnTo>
                <a:lnTo>
                  <a:pt x="94" y="731"/>
                </a:lnTo>
                <a:lnTo>
                  <a:pt x="60" y="721"/>
                </a:lnTo>
                <a:lnTo>
                  <a:pt x="27" y="710"/>
                </a:lnTo>
                <a:lnTo>
                  <a:pt x="0" y="696"/>
                </a:lnTo>
                <a:lnTo>
                  <a:pt x="0" y="698"/>
                </a:lnTo>
                <a:lnTo>
                  <a:pt x="0" y="700"/>
                </a:lnTo>
                <a:lnTo>
                  <a:pt x="0" y="700"/>
                </a:lnTo>
                <a:lnTo>
                  <a:pt x="0" y="702"/>
                </a:lnTo>
                <a:lnTo>
                  <a:pt x="0" y="704"/>
                </a:lnTo>
                <a:lnTo>
                  <a:pt x="0" y="706"/>
                </a:lnTo>
                <a:lnTo>
                  <a:pt x="0" y="706"/>
                </a:lnTo>
                <a:lnTo>
                  <a:pt x="2" y="708"/>
                </a:lnTo>
                <a:close/>
              </a:path>
            </a:pathLst>
          </a:custGeom>
          <a:solidFill>
            <a:srgbClr val="b1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212"/>
          <p:cNvSpPr/>
          <p:nvPr/>
        </p:nvSpPr>
        <p:spPr>
          <a:xfrm>
            <a:off x="6858000" y="2712960"/>
            <a:ext cx="298440" cy="1170000"/>
          </a:xfrm>
          <a:custGeom>
            <a:avLst/>
            <a:gdLst>
              <a:gd name="textAreaLeft" fmla="*/ 0 w 298440"/>
              <a:gd name="textAreaRight" fmla="*/ 298800 w 29844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188" h="737">
                <a:moveTo>
                  <a:pt x="188" y="0"/>
                </a:moveTo>
                <a:lnTo>
                  <a:pt x="171" y="0"/>
                </a:lnTo>
                <a:lnTo>
                  <a:pt x="133" y="2"/>
                </a:lnTo>
                <a:lnTo>
                  <a:pt x="96" y="7"/>
                </a:lnTo>
                <a:lnTo>
                  <a:pt x="62" y="17"/>
                </a:lnTo>
                <a:lnTo>
                  <a:pt x="27" y="28"/>
                </a:lnTo>
                <a:lnTo>
                  <a:pt x="25" y="30"/>
                </a:lnTo>
                <a:lnTo>
                  <a:pt x="25" y="30"/>
                </a:lnTo>
                <a:lnTo>
                  <a:pt x="23" y="32"/>
                </a:lnTo>
                <a:lnTo>
                  <a:pt x="23" y="34"/>
                </a:lnTo>
                <a:lnTo>
                  <a:pt x="23" y="36"/>
                </a:lnTo>
                <a:lnTo>
                  <a:pt x="23" y="36"/>
                </a:lnTo>
                <a:lnTo>
                  <a:pt x="23" y="38"/>
                </a:lnTo>
                <a:lnTo>
                  <a:pt x="23" y="40"/>
                </a:lnTo>
                <a:lnTo>
                  <a:pt x="21" y="42"/>
                </a:lnTo>
                <a:lnTo>
                  <a:pt x="31" y="38"/>
                </a:lnTo>
                <a:lnTo>
                  <a:pt x="64" y="25"/>
                </a:lnTo>
                <a:lnTo>
                  <a:pt x="98" y="17"/>
                </a:lnTo>
                <a:lnTo>
                  <a:pt x="135" y="11"/>
                </a:lnTo>
                <a:lnTo>
                  <a:pt x="171" y="9"/>
                </a:lnTo>
                <a:lnTo>
                  <a:pt x="186" y="9"/>
                </a:lnTo>
                <a:lnTo>
                  <a:pt x="186" y="9"/>
                </a:lnTo>
                <a:lnTo>
                  <a:pt x="186" y="7"/>
                </a:lnTo>
                <a:lnTo>
                  <a:pt x="186" y="5"/>
                </a:lnTo>
                <a:lnTo>
                  <a:pt x="186" y="5"/>
                </a:lnTo>
                <a:lnTo>
                  <a:pt x="186" y="4"/>
                </a:lnTo>
                <a:lnTo>
                  <a:pt x="186" y="4"/>
                </a:lnTo>
                <a:lnTo>
                  <a:pt x="188" y="2"/>
                </a:lnTo>
                <a:lnTo>
                  <a:pt x="188" y="0"/>
                </a:lnTo>
                <a:close/>
                <a:moveTo>
                  <a:pt x="2" y="696"/>
                </a:moveTo>
                <a:lnTo>
                  <a:pt x="27" y="708"/>
                </a:lnTo>
                <a:lnTo>
                  <a:pt x="62" y="721"/>
                </a:lnTo>
                <a:lnTo>
                  <a:pt x="96" y="731"/>
                </a:lnTo>
                <a:lnTo>
                  <a:pt x="133" y="735"/>
                </a:lnTo>
                <a:lnTo>
                  <a:pt x="171" y="737"/>
                </a:lnTo>
                <a:lnTo>
                  <a:pt x="186" y="737"/>
                </a:lnTo>
                <a:lnTo>
                  <a:pt x="186" y="735"/>
                </a:lnTo>
                <a:lnTo>
                  <a:pt x="186" y="735"/>
                </a:lnTo>
                <a:lnTo>
                  <a:pt x="186" y="733"/>
                </a:lnTo>
                <a:lnTo>
                  <a:pt x="186" y="733"/>
                </a:lnTo>
                <a:lnTo>
                  <a:pt x="184" y="731"/>
                </a:lnTo>
                <a:lnTo>
                  <a:pt x="184" y="729"/>
                </a:lnTo>
                <a:lnTo>
                  <a:pt x="184" y="729"/>
                </a:lnTo>
                <a:lnTo>
                  <a:pt x="184" y="727"/>
                </a:lnTo>
                <a:lnTo>
                  <a:pt x="171" y="729"/>
                </a:lnTo>
                <a:lnTo>
                  <a:pt x="135" y="727"/>
                </a:lnTo>
                <a:lnTo>
                  <a:pt x="98" y="721"/>
                </a:lnTo>
                <a:lnTo>
                  <a:pt x="64" y="712"/>
                </a:lnTo>
                <a:lnTo>
                  <a:pt x="31" y="700"/>
                </a:lnTo>
                <a:lnTo>
                  <a:pt x="0" y="685"/>
                </a:lnTo>
                <a:lnTo>
                  <a:pt x="0" y="687"/>
                </a:lnTo>
                <a:lnTo>
                  <a:pt x="0" y="689"/>
                </a:lnTo>
                <a:lnTo>
                  <a:pt x="0" y="689"/>
                </a:lnTo>
                <a:lnTo>
                  <a:pt x="2" y="690"/>
                </a:lnTo>
                <a:lnTo>
                  <a:pt x="2" y="692"/>
                </a:lnTo>
                <a:lnTo>
                  <a:pt x="2" y="694"/>
                </a:lnTo>
                <a:lnTo>
                  <a:pt x="2" y="694"/>
                </a:lnTo>
                <a:lnTo>
                  <a:pt x="2" y="696"/>
                </a:lnTo>
                <a:close/>
              </a:path>
            </a:pathLst>
          </a:custGeom>
          <a:solidFill>
            <a:srgbClr val="b2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213"/>
          <p:cNvSpPr/>
          <p:nvPr/>
        </p:nvSpPr>
        <p:spPr>
          <a:xfrm>
            <a:off x="6858000" y="2719440"/>
            <a:ext cx="295200" cy="1157400"/>
          </a:xfrm>
          <a:custGeom>
            <a:avLst/>
            <a:gdLst>
              <a:gd name="textAreaLeft" fmla="*/ 0 w 295200"/>
              <a:gd name="textAreaRight" fmla="*/ 295560 w 29520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186" h="729">
                <a:moveTo>
                  <a:pt x="186" y="1"/>
                </a:moveTo>
                <a:lnTo>
                  <a:pt x="171" y="0"/>
                </a:lnTo>
                <a:lnTo>
                  <a:pt x="133" y="1"/>
                </a:lnTo>
                <a:lnTo>
                  <a:pt x="96" y="7"/>
                </a:lnTo>
                <a:lnTo>
                  <a:pt x="62" y="17"/>
                </a:lnTo>
                <a:lnTo>
                  <a:pt x="29" y="28"/>
                </a:lnTo>
                <a:lnTo>
                  <a:pt x="23" y="32"/>
                </a:lnTo>
                <a:lnTo>
                  <a:pt x="23" y="32"/>
                </a:lnTo>
                <a:lnTo>
                  <a:pt x="23" y="34"/>
                </a:lnTo>
                <a:lnTo>
                  <a:pt x="23" y="36"/>
                </a:lnTo>
                <a:lnTo>
                  <a:pt x="21" y="38"/>
                </a:lnTo>
                <a:lnTo>
                  <a:pt x="21" y="38"/>
                </a:lnTo>
                <a:lnTo>
                  <a:pt x="21" y="40"/>
                </a:lnTo>
                <a:lnTo>
                  <a:pt x="21" y="42"/>
                </a:lnTo>
                <a:lnTo>
                  <a:pt x="21" y="44"/>
                </a:lnTo>
                <a:lnTo>
                  <a:pt x="33" y="38"/>
                </a:lnTo>
                <a:lnTo>
                  <a:pt x="65" y="26"/>
                </a:lnTo>
                <a:lnTo>
                  <a:pt x="98" y="17"/>
                </a:lnTo>
                <a:lnTo>
                  <a:pt x="135" y="11"/>
                </a:lnTo>
                <a:lnTo>
                  <a:pt x="171" y="9"/>
                </a:lnTo>
                <a:lnTo>
                  <a:pt x="184" y="11"/>
                </a:lnTo>
                <a:lnTo>
                  <a:pt x="184" y="9"/>
                </a:lnTo>
                <a:lnTo>
                  <a:pt x="184" y="7"/>
                </a:lnTo>
                <a:lnTo>
                  <a:pt x="184" y="7"/>
                </a:lnTo>
                <a:lnTo>
                  <a:pt x="186" y="5"/>
                </a:lnTo>
                <a:lnTo>
                  <a:pt x="186" y="5"/>
                </a:lnTo>
                <a:lnTo>
                  <a:pt x="186" y="3"/>
                </a:lnTo>
                <a:lnTo>
                  <a:pt x="186" y="1"/>
                </a:lnTo>
                <a:lnTo>
                  <a:pt x="186" y="1"/>
                </a:lnTo>
                <a:close/>
                <a:moveTo>
                  <a:pt x="2" y="686"/>
                </a:moveTo>
                <a:lnTo>
                  <a:pt x="29" y="700"/>
                </a:lnTo>
                <a:lnTo>
                  <a:pt x="62" y="711"/>
                </a:lnTo>
                <a:lnTo>
                  <a:pt x="96" y="721"/>
                </a:lnTo>
                <a:lnTo>
                  <a:pt x="133" y="727"/>
                </a:lnTo>
                <a:lnTo>
                  <a:pt x="171" y="729"/>
                </a:lnTo>
                <a:lnTo>
                  <a:pt x="186" y="729"/>
                </a:lnTo>
                <a:lnTo>
                  <a:pt x="184" y="727"/>
                </a:lnTo>
                <a:lnTo>
                  <a:pt x="184" y="725"/>
                </a:lnTo>
                <a:lnTo>
                  <a:pt x="184" y="725"/>
                </a:lnTo>
                <a:lnTo>
                  <a:pt x="184" y="723"/>
                </a:lnTo>
                <a:lnTo>
                  <a:pt x="184" y="723"/>
                </a:lnTo>
                <a:lnTo>
                  <a:pt x="184" y="721"/>
                </a:lnTo>
                <a:lnTo>
                  <a:pt x="184" y="719"/>
                </a:lnTo>
                <a:lnTo>
                  <a:pt x="183" y="719"/>
                </a:lnTo>
                <a:lnTo>
                  <a:pt x="171" y="719"/>
                </a:lnTo>
                <a:lnTo>
                  <a:pt x="135" y="717"/>
                </a:lnTo>
                <a:lnTo>
                  <a:pt x="98" y="711"/>
                </a:lnTo>
                <a:lnTo>
                  <a:pt x="65" y="704"/>
                </a:lnTo>
                <a:lnTo>
                  <a:pt x="33" y="692"/>
                </a:lnTo>
                <a:lnTo>
                  <a:pt x="2" y="677"/>
                </a:lnTo>
                <a:lnTo>
                  <a:pt x="0" y="675"/>
                </a:lnTo>
                <a:lnTo>
                  <a:pt x="0" y="677"/>
                </a:lnTo>
                <a:lnTo>
                  <a:pt x="0" y="679"/>
                </a:lnTo>
                <a:lnTo>
                  <a:pt x="0" y="679"/>
                </a:lnTo>
                <a:lnTo>
                  <a:pt x="0" y="681"/>
                </a:lnTo>
                <a:lnTo>
                  <a:pt x="0" y="683"/>
                </a:lnTo>
                <a:lnTo>
                  <a:pt x="0" y="685"/>
                </a:lnTo>
                <a:lnTo>
                  <a:pt x="0" y="685"/>
                </a:lnTo>
                <a:lnTo>
                  <a:pt x="2" y="686"/>
                </a:lnTo>
                <a:close/>
              </a:path>
            </a:pathLst>
          </a:custGeom>
          <a:solidFill>
            <a:srgbClr val="b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214"/>
          <p:cNvSpPr/>
          <p:nvPr/>
        </p:nvSpPr>
        <p:spPr>
          <a:xfrm>
            <a:off x="6854760" y="2727360"/>
            <a:ext cx="298440" cy="1143000"/>
          </a:xfrm>
          <a:custGeom>
            <a:avLst/>
            <a:gdLst>
              <a:gd name="textAreaLeft" fmla="*/ 0 w 298440"/>
              <a:gd name="textAreaRight" fmla="*/ 298800 w 2984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88" h="720">
                <a:moveTo>
                  <a:pt x="188" y="0"/>
                </a:moveTo>
                <a:lnTo>
                  <a:pt x="173" y="0"/>
                </a:lnTo>
                <a:lnTo>
                  <a:pt x="137" y="2"/>
                </a:lnTo>
                <a:lnTo>
                  <a:pt x="100" y="8"/>
                </a:lnTo>
                <a:lnTo>
                  <a:pt x="66" y="16"/>
                </a:lnTo>
                <a:lnTo>
                  <a:pt x="33" y="29"/>
                </a:lnTo>
                <a:lnTo>
                  <a:pt x="23" y="33"/>
                </a:lnTo>
                <a:lnTo>
                  <a:pt x="23" y="33"/>
                </a:lnTo>
                <a:lnTo>
                  <a:pt x="23" y="35"/>
                </a:lnTo>
                <a:lnTo>
                  <a:pt x="23" y="37"/>
                </a:lnTo>
                <a:lnTo>
                  <a:pt x="23" y="39"/>
                </a:lnTo>
                <a:lnTo>
                  <a:pt x="23" y="41"/>
                </a:lnTo>
                <a:lnTo>
                  <a:pt x="21" y="41"/>
                </a:lnTo>
                <a:lnTo>
                  <a:pt x="21" y="43"/>
                </a:lnTo>
                <a:lnTo>
                  <a:pt x="21" y="44"/>
                </a:lnTo>
                <a:lnTo>
                  <a:pt x="37" y="37"/>
                </a:lnTo>
                <a:lnTo>
                  <a:pt x="67" y="25"/>
                </a:lnTo>
                <a:lnTo>
                  <a:pt x="102" y="18"/>
                </a:lnTo>
                <a:lnTo>
                  <a:pt x="137" y="12"/>
                </a:lnTo>
                <a:lnTo>
                  <a:pt x="173" y="10"/>
                </a:lnTo>
                <a:lnTo>
                  <a:pt x="185" y="10"/>
                </a:lnTo>
                <a:lnTo>
                  <a:pt x="186" y="10"/>
                </a:lnTo>
                <a:lnTo>
                  <a:pt x="186" y="8"/>
                </a:lnTo>
                <a:lnTo>
                  <a:pt x="186" y="6"/>
                </a:lnTo>
                <a:lnTo>
                  <a:pt x="186" y="6"/>
                </a:lnTo>
                <a:lnTo>
                  <a:pt x="186" y="4"/>
                </a:lnTo>
                <a:lnTo>
                  <a:pt x="186" y="2"/>
                </a:lnTo>
                <a:lnTo>
                  <a:pt x="186" y="2"/>
                </a:lnTo>
                <a:lnTo>
                  <a:pt x="188" y="0"/>
                </a:lnTo>
                <a:close/>
                <a:moveTo>
                  <a:pt x="2" y="676"/>
                </a:moveTo>
                <a:lnTo>
                  <a:pt x="33" y="691"/>
                </a:lnTo>
                <a:lnTo>
                  <a:pt x="66" y="703"/>
                </a:lnTo>
                <a:lnTo>
                  <a:pt x="100" y="712"/>
                </a:lnTo>
                <a:lnTo>
                  <a:pt x="137" y="718"/>
                </a:lnTo>
                <a:lnTo>
                  <a:pt x="173" y="720"/>
                </a:lnTo>
                <a:lnTo>
                  <a:pt x="186" y="718"/>
                </a:lnTo>
                <a:lnTo>
                  <a:pt x="186" y="718"/>
                </a:lnTo>
                <a:lnTo>
                  <a:pt x="186" y="716"/>
                </a:lnTo>
                <a:lnTo>
                  <a:pt x="186" y="714"/>
                </a:lnTo>
                <a:lnTo>
                  <a:pt x="185" y="714"/>
                </a:lnTo>
                <a:lnTo>
                  <a:pt x="185" y="712"/>
                </a:lnTo>
                <a:lnTo>
                  <a:pt x="185" y="712"/>
                </a:lnTo>
                <a:lnTo>
                  <a:pt x="185" y="710"/>
                </a:lnTo>
                <a:lnTo>
                  <a:pt x="185" y="708"/>
                </a:lnTo>
                <a:lnTo>
                  <a:pt x="173" y="710"/>
                </a:lnTo>
                <a:lnTo>
                  <a:pt x="137" y="708"/>
                </a:lnTo>
                <a:lnTo>
                  <a:pt x="102" y="703"/>
                </a:lnTo>
                <a:lnTo>
                  <a:pt x="67" y="693"/>
                </a:lnTo>
                <a:lnTo>
                  <a:pt x="37" y="681"/>
                </a:lnTo>
                <a:lnTo>
                  <a:pt x="6" y="668"/>
                </a:lnTo>
                <a:lnTo>
                  <a:pt x="0" y="664"/>
                </a:lnTo>
                <a:lnTo>
                  <a:pt x="0" y="666"/>
                </a:lnTo>
                <a:lnTo>
                  <a:pt x="0" y="668"/>
                </a:lnTo>
                <a:lnTo>
                  <a:pt x="2" y="668"/>
                </a:lnTo>
                <a:lnTo>
                  <a:pt x="2" y="670"/>
                </a:lnTo>
                <a:lnTo>
                  <a:pt x="2" y="672"/>
                </a:lnTo>
                <a:lnTo>
                  <a:pt x="2" y="674"/>
                </a:lnTo>
                <a:lnTo>
                  <a:pt x="2" y="674"/>
                </a:lnTo>
                <a:lnTo>
                  <a:pt x="2" y="676"/>
                </a:lnTo>
                <a:close/>
              </a:path>
            </a:pathLst>
          </a:custGeom>
          <a:solidFill>
            <a:srgbClr val="b4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215"/>
          <p:cNvSpPr/>
          <p:nvPr/>
        </p:nvSpPr>
        <p:spPr>
          <a:xfrm>
            <a:off x="6854760" y="2733840"/>
            <a:ext cx="295200" cy="1126800"/>
          </a:xfrm>
          <a:custGeom>
            <a:avLst/>
            <a:gdLst>
              <a:gd name="textAreaLeft" fmla="*/ 0 w 295200"/>
              <a:gd name="textAreaRight" fmla="*/ 295560 w 295200"/>
              <a:gd name="textAreaTop" fmla="*/ 0 h 1126800"/>
              <a:gd name="textAreaBottom" fmla="*/ 1127160 h 1126800"/>
            </a:gdLst>
            <a:ahLst/>
            <a:rect l="textAreaLeft" t="textAreaTop" r="textAreaRight" b="textAreaBottom"/>
            <a:pathLst>
              <a:path w="186" h="710">
                <a:moveTo>
                  <a:pt x="186" y="2"/>
                </a:moveTo>
                <a:lnTo>
                  <a:pt x="173" y="0"/>
                </a:lnTo>
                <a:lnTo>
                  <a:pt x="137" y="2"/>
                </a:lnTo>
                <a:lnTo>
                  <a:pt x="100" y="8"/>
                </a:lnTo>
                <a:lnTo>
                  <a:pt x="67" y="17"/>
                </a:lnTo>
                <a:lnTo>
                  <a:pt x="35" y="29"/>
                </a:lnTo>
                <a:lnTo>
                  <a:pt x="23" y="35"/>
                </a:lnTo>
                <a:lnTo>
                  <a:pt x="23" y="37"/>
                </a:lnTo>
                <a:lnTo>
                  <a:pt x="21" y="37"/>
                </a:lnTo>
                <a:lnTo>
                  <a:pt x="21" y="39"/>
                </a:lnTo>
                <a:lnTo>
                  <a:pt x="21" y="40"/>
                </a:lnTo>
                <a:lnTo>
                  <a:pt x="21" y="42"/>
                </a:lnTo>
                <a:lnTo>
                  <a:pt x="21" y="42"/>
                </a:lnTo>
                <a:lnTo>
                  <a:pt x="19" y="44"/>
                </a:lnTo>
                <a:lnTo>
                  <a:pt x="19" y="46"/>
                </a:lnTo>
                <a:lnTo>
                  <a:pt x="39" y="37"/>
                </a:lnTo>
                <a:lnTo>
                  <a:pt x="69" y="25"/>
                </a:lnTo>
                <a:lnTo>
                  <a:pt x="102" y="17"/>
                </a:lnTo>
                <a:lnTo>
                  <a:pt x="137" y="12"/>
                </a:lnTo>
                <a:lnTo>
                  <a:pt x="173" y="10"/>
                </a:lnTo>
                <a:lnTo>
                  <a:pt x="185" y="12"/>
                </a:lnTo>
                <a:lnTo>
                  <a:pt x="185" y="10"/>
                </a:lnTo>
                <a:lnTo>
                  <a:pt x="185" y="8"/>
                </a:lnTo>
                <a:lnTo>
                  <a:pt x="185" y="8"/>
                </a:lnTo>
                <a:lnTo>
                  <a:pt x="185" y="6"/>
                </a:lnTo>
                <a:lnTo>
                  <a:pt x="186" y="6"/>
                </a:lnTo>
                <a:lnTo>
                  <a:pt x="186" y="4"/>
                </a:lnTo>
                <a:lnTo>
                  <a:pt x="186" y="2"/>
                </a:lnTo>
                <a:lnTo>
                  <a:pt x="186" y="2"/>
                </a:lnTo>
                <a:close/>
                <a:moveTo>
                  <a:pt x="2" y="666"/>
                </a:moveTo>
                <a:lnTo>
                  <a:pt x="4" y="668"/>
                </a:lnTo>
                <a:lnTo>
                  <a:pt x="35" y="683"/>
                </a:lnTo>
                <a:lnTo>
                  <a:pt x="67" y="695"/>
                </a:lnTo>
                <a:lnTo>
                  <a:pt x="100" y="702"/>
                </a:lnTo>
                <a:lnTo>
                  <a:pt x="137" y="708"/>
                </a:lnTo>
                <a:lnTo>
                  <a:pt x="173" y="710"/>
                </a:lnTo>
                <a:lnTo>
                  <a:pt x="185" y="710"/>
                </a:lnTo>
                <a:lnTo>
                  <a:pt x="185" y="708"/>
                </a:lnTo>
                <a:lnTo>
                  <a:pt x="185" y="708"/>
                </a:lnTo>
                <a:lnTo>
                  <a:pt x="185" y="706"/>
                </a:lnTo>
                <a:lnTo>
                  <a:pt x="185" y="704"/>
                </a:lnTo>
                <a:lnTo>
                  <a:pt x="185" y="704"/>
                </a:lnTo>
                <a:lnTo>
                  <a:pt x="185" y="702"/>
                </a:lnTo>
                <a:lnTo>
                  <a:pt x="183" y="700"/>
                </a:lnTo>
                <a:lnTo>
                  <a:pt x="183" y="700"/>
                </a:lnTo>
                <a:lnTo>
                  <a:pt x="173" y="700"/>
                </a:lnTo>
                <a:lnTo>
                  <a:pt x="137" y="699"/>
                </a:lnTo>
                <a:lnTo>
                  <a:pt x="102" y="695"/>
                </a:lnTo>
                <a:lnTo>
                  <a:pt x="69" y="685"/>
                </a:lnTo>
                <a:lnTo>
                  <a:pt x="39" y="674"/>
                </a:lnTo>
                <a:lnTo>
                  <a:pt x="8" y="658"/>
                </a:lnTo>
                <a:lnTo>
                  <a:pt x="0" y="654"/>
                </a:lnTo>
                <a:lnTo>
                  <a:pt x="0" y="656"/>
                </a:lnTo>
                <a:lnTo>
                  <a:pt x="0" y="656"/>
                </a:lnTo>
                <a:lnTo>
                  <a:pt x="0" y="658"/>
                </a:lnTo>
                <a:lnTo>
                  <a:pt x="0" y="660"/>
                </a:lnTo>
                <a:lnTo>
                  <a:pt x="0" y="662"/>
                </a:lnTo>
                <a:lnTo>
                  <a:pt x="0" y="664"/>
                </a:lnTo>
                <a:lnTo>
                  <a:pt x="0" y="664"/>
                </a:lnTo>
                <a:lnTo>
                  <a:pt x="2" y="666"/>
                </a:lnTo>
                <a:close/>
              </a:path>
            </a:pathLst>
          </a:custGeom>
          <a:solidFill>
            <a:srgbClr val="b5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216"/>
          <p:cNvSpPr/>
          <p:nvPr/>
        </p:nvSpPr>
        <p:spPr>
          <a:xfrm>
            <a:off x="6851520" y="2743200"/>
            <a:ext cx="297000" cy="1111320"/>
          </a:xfrm>
          <a:custGeom>
            <a:avLst/>
            <a:gdLst>
              <a:gd name="textAreaLeft" fmla="*/ 0 w 297000"/>
              <a:gd name="textAreaRight" fmla="*/ 297360 w 297000"/>
              <a:gd name="textAreaTop" fmla="*/ 0 h 1111320"/>
              <a:gd name="textAreaBottom" fmla="*/ 1111320 h 1111320"/>
            </a:gdLst>
            <a:ahLst/>
            <a:rect l="textAreaLeft" t="textAreaTop" r="textAreaRight" b="textAreaBottom"/>
            <a:pathLst>
              <a:path w="187" h="700">
                <a:moveTo>
                  <a:pt x="187" y="0"/>
                </a:moveTo>
                <a:lnTo>
                  <a:pt x="175" y="0"/>
                </a:lnTo>
                <a:lnTo>
                  <a:pt x="139" y="2"/>
                </a:lnTo>
                <a:lnTo>
                  <a:pt x="104" y="8"/>
                </a:lnTo>
                <a:lnTo>
                  <a:pt x="69" y="15"/>
                </a:lnTo>
                <a:lnTo>
                  <a:pt x="39" y="27"/>
                </a:lnTo>
                <a:lnTo>
                  <a:pt x="23" y="34"/>
                </a:lnTo>
                <a:lnTo>
                  <a:pt x="23" y="36"/>
                </a:lnTo>
                <a:lnTo>
                  <a:pt x="23" y="36"/>
                </a:lnTo>
                <a:lnTo>
                  <a:pt x="21" y="38"/>
                </a:lnTo>
                <a:lnTo>
                  <a:pt x="21" y="40"/>
                </a:lnTo>
                <a:lnTo>
                  <a:pt x="21" y="42"/>
                </a:lnTo>
                <a:lnTo>
                  <a:pt x="21" y="42"/>
                </a:lnTo>
                <a:lnTo>
                  <a:pt x="21" y="44"/>
                </a:lnTo>
                <a:lnTo>
                  <a:pt x="21" y="46"/>
                </a:lnTo>
                <a:lnTo>
                  <a:pt x="43" y="36"/>
                </a:lnTo>
                <a:lnTo>
                  <a:pt x="73" y="25"/>
                </a:lnTo>
                <a:lnTo>
                  <a:pt x="106" y="15"/>
                </a:lnTo>
                <a:lnTo>
                  <a:pt x="140" y="11"/>
                </a:lnTo>
                <a:lnTo>
                  <a:pt x="175" y="9"/>
                </a:lnTo>
                <a:lnTo>
                  <a:pt x="185" y="9"/>
                </a:lnTo>
                <a:lnTo>
                  <a:pt x="185" y="8"/>
                </a:lnTo>
                <a:lnTo>
                  <a:pt x="187" y="8"/>
                </a:lnTo>
                <a:lnTo>
                  <a:pt x="187" y="6"/>
                </a:lnTo>
                <a:lnTo>
                  <a:pt x="187" y="6"/>
                </a:lnTo>
                <a:lnTo>
                  <a:pt x="187" y="4"/>
                </a:lnTo>
                <a:lnTo>
                  <a:pt x="187" y="2"/>
                </a:lnTo>
                <a:lnTo>
                  <a:pt x="187" y="2"/>
                </a:lnTo>
                <a:lnTo>
                  <a:pt x="187" y="0"/>
                </a:lnTo>
                <a:close/>
                <a:moveTo>
                  <a:pt x="2" y="654"/>
                </a:moveTo>
                <a:lnTo>
                  <a:pt x="8" y="658"/>
                </a:lnTo>
                <a:lnTo>
                  <a:pt x="39" y="671"/>
                </a:lnTo>
                <a:lnTo>
                  <a:pt x="69" y="683"/>
                </a:lnTo>
                <a:lnTo>
                  <a:pt x="104" y="693"/>
                </a:lnTo>
                <a:lnTo>
                  <a:pt x="139" y="698"/>
                </a:lnTo>
                <a:lnTo>
                  <a:pt x="175" y="700"/>
                </a:lnTo>
                <a:lnTo>
                  <a:pt x="187" y="698"/>
                </a:lnTo>
                <a:lnTo>
                  <a:pt x="187" y="698"/>
                </a:lnTo>
                <a:lnTo>
                  <a:pt x="187" y="696"/>
                </a:lnTo>
                <a:lnTo>
                  <a:pt x="185" y="694"/>
                </a:lnTo>
                <a:lnTo>
                  <a:pt x="185" y="694"/>
                </a:lnTo>
                <a:lnTo>
                  <a:pt x="185" y="693"/>
                </a:lnTo>
                <a:lnTo>
                  <a:pt x="185" y="693"/>
                </a:lnTo>
                <a:lnTo>
                  <a:pt x="185" y="691"/>
                </a:lnTo>
                <a:lnTo>
                  <a:pt x="185" y="689"/>
                </a:lnTo>
                <a:lnTo>
                  <a:pt x="175" y="691"/>
                </a:lnTo>
                <a:lnTo>
                  <a:pt x="140" y="689"/>
                </a:lnTo>
                <a:lnTo>
                  <a:pt x="106" y="683"/>
                </a:lnTo>
                <a:lnTo>
                  <a:pt x="73" y="675"/>
                </a:lnTo>
                <a:lnTo>
                  <a:pt x="43" y="664"/>
                </a:lnTo>
                <a:lnTo>
                  <a:pt x="12" y="648"/>
                </a:lnTo>
                <a:lnTo>
                  <a:pt x="0" y="643"/>
                </a:lnTo>
                <a:lnTo>
                  <a:pt x="0" y="645"/>
                </a:lnTo>
                <a:lnTo>
                  <a:pt x="2" y="645"/>
                </a:lnTo>
                <a:lnTo>
                  <a:pt x="2" y="647"/>
                </a:lnTo>
                <a:lnTo>
                  <a:pt x="2" y="648"/>
                </a:lnTo>
                <a:lnTo>
                  <a:pt x="2" y="650"/>
                </a:lnTo>
                <a:lnTo>
                  <a:pt x="2" y="650"/>
                </a:lnTo>
                <a:lnTo>
                  <a:pt x="2" y="652"/>
                </a:lnTo>
                <a:lnTo>
                  <a:pt x="2" y="654"/>
                </a:lnTo>
                <a:close/>
              </a:path>
            </a:pathLst>
          </a:custGeom>
          <a:solidFill>
            <a:srgbClr val="b6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217"/>
          <p:cNvSpPr/>
          <p:nvPr/>
        </p:nvSpPr>
        <p:spPr>
          <a:xfrm>
            <a:off x="6851520" y="2749680"/>
            <a:ext cx="297000" cy="1095120"/>
          </a:xfrm>
          <a:custGeom>
            <a:avLst/>
            <a:gdLst>
              <a:gd name="textAreaLeft" fmla="*/ 0 w 297000"/>
              <a:gd name="textAreaRight" fmla="*/ 297360 w 297000"/>
              <a:gd name="textAreaTop" fmla="*/ 0 h 1095120"/>
              <a:gd name="textAreaBottom" fmla="*/ 1095480 h 1095120"/>
            </a:gdLst>
            <a:ahLst/>
            <a:rect l="textAreaLeft" t="textAreaTop" r="textAreaRight" b="textAreaBottom"/>
            <a:pathLst>
              <a:path w="187" h="690">
                <a:moveTo>
                  <a:pt x="187" y="2"/>
                </a:moveTo>
                <a:lnTo>
                  <a:pt x="175" y="0"/>
                </a:lnTo>
                <a:lnTo>
                  <a:pt x="139" y="2"/>
                </a:lnTo>
                <a:lnTo>
                  <a:pt x="104" y="7"/>
                </a:lnTo>
                <a:lnTo>
                  <a:pt x="71" y="15"/>
                </a:lnTo>
                <a:lnTo>
                  <a:pt x="41" y="27"/>
                </a:lnTo>
                <a:lnTo>
                  <a:pt x="21" y="36"/>
                </a:lnTo>
                <a:lnTo>
                  <a:pt x="21" y="38"/>
                </a:lnTo>
                <a:lnTo>
                  <a:pt x="21" y="38"/>
                </a:lnTo>
                <a:lnTo>
                  <a:pt x="21" y="40"/>
                </a:lnTo>
                <a:lnTo>
                  <a:pt x="21" y="42"/>
                </a:lnTo>
                <a:lnTo>
                  <a:pt x="21" y="44"/>
                </a:lnTo>
                <a:lnTo>
                  <a:pt x="20" y="46"/>
                </a:lnTo>
                <a:lnTo>
                  <a:pt x="20" y="46"/>
                </a:lnTo>
                <a:lnTo>
                  <a:pt x="20" y="48"/>
                </a:lnTo>
                <a:lnTo>
                  <a:pt x="45" y="36"/>
                </a:lnTo>
                <a:lnTo>
                  <a:pt x="75" y="25"/>
                </a:lnTo>
                <a:lnTo>
                  <a:pt x="106" y="17"/>
                </a:lnTo>
                <a:lnTo>
                  <a:pt x="140" y="11"/>
                </a:lnTo>
                <a:lnTo>
                  <a:pt x="175" y="9"/>
                </a:lnTo>
                <a:lnTo>
                  <a:pt x="185" y="9"/>
                </a:lnTo>
                <a:lnTo>
                  <a:pt x="185" y="9"/>
                </a:lnTo>
                <a:lnTo>
                  <a:pt x="185" y="7"/>
                </a:lnTo>
                <a:lnTo>
                  <a:pt x="185" y="7"/>
                </a:lnTo>
                <a:lnTo>
                  <a:pt x="185" y="5"/>
                </a:lnTo>
                <a:lnTo>
                  <a:pt x="185" y="4"/>
                </a:lnTo>
                <a:lnTo>
                  <a:pt x="187" y="4"/>
                </a:lnTo>
                <a:lnTo>
                  <a:pt x="187" y="2"/>
                </a:lnTo>
                <a:lnTo>
                  <a:pt x="187" y="2"/>
                </a:lnTo>
                <a:close/>
                <a:moveTo>
                  <a:pt x="2" y="644"/>
                </a:moveTo>
                <a:lnTo>
                  <a:pt x="10" y="648"/>
                </a:lnTo>
                <a:lnTo>
                  <a:pt x="41" y="664"/>
                </a:lnTo>
                <a:lnTo>
                  <a:pt x="71" y="675"/>
                </a:lnTo>
                <a:lnTo>
                  <a:pt x="104" y="685"/>
                </a:lnTo>
                <a:lnTo>
                  <a:pt x="139" y="689"/>
                </a:lnTo>
                <a:lnTo>
                  <a:pt x="175" y="690"/>
                </a:lnTo>
                <a:lnTo>
                  <a:pt x="185" y="690"/>
                </a:lnTo>
                <a:lnTo>
                  <a:pt x="185" y="689"/>
                </a:lnTo>
                <a:lnTo>
                  <a:pt x="185" y="689"/>
                </a:lnTo>
                <a:lnTo>
                  <a:pt x="185" y="687"/>
                </a:lnTo>
                <a:lnTo>
                  <a:pt x="185" y="685"/>
                </a:lnTo>
                <a:lnTo>
                  <a:pt x="185" y="685"/>
                </a:lnTo>
                <a:lnTo>
                  <a:pt x="183" y="683"/>
                </a:lnTo>
                <a:lnTo>
                  <a:pt x="183" y="683"/>
                </a:lnTo>
                <a:lnTo>
                  <a:pt x="183" y="681"/>
                </a:lnTo>
                <a:lnTo>
                  <a:pt x="175" y="681"/>
                </a:lnTo>
                <a:lnTo>
                  <a:pt x="140" y="679"/>
                </a:lnTo>
                <a:lnTo>
                  <a:pt x="106" y="675"/>
                </a:lnTo>
                <a:lnTo>
                  <a:pt x="75" y="666"/>
                </a:lnTo>
                <a:lnTo>
                  <a:pt x="45" y="654"/>
                </a:lnTo>
                <a:lnTo>
                  <a:pt x="14" y="641"/>
                </a:lnTo>
                <a:lnTo>
                  <a:pt x="0" y="633"/>
                </a:lnTo>
                <a:lnTo>
                  <a:pt x="0" y="633"/>
                </a:lnTo>
                <a:lnTo>
                  <a:pt x="0" y="635"/>
                </a:lnTo>
                <a:lnTo>
                  <a:pt x="0" y="637"/>
                </a:lnTo>
                <a:lnTo>
                  <a:pt x="0" y="639"/>
                </a:lnTo>
                <a:lnTo>
                  <a:pt x="0" y="641"/>
                </a:lnTo>
                <a:lnTo>
                  <a:pt x="2" y="641"/>
                </a:lnTo>
                <a:lnTo>
                  <a:pt x="2" y="643"/>
                </a:lnTo>
                <a:lnTo>
                  <a:pt x="2" y="644"/>
                </a:lnTo>
                <a:close/>
              </a:path>
            </a:pathLst>
          </a:custGeom>
          <a:solidFill>
            <a:srgbClr val="b7e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218"/>
          <p:cNvSpPr/>
          <p:nvPr/>
        </p:nvSpPr>
        <p:spPr>
          <a:xfrm>
            <a:off x="6848640" y="2757600"/>
            <a:ext cx="296640" cy="1082520"/>
          </a:xfrm>
          <a:custGeom>
            <a:avLst/>
            <a:gdLst>
              <a:gd name="textAreaLeft" fmla="*/ 0 w 296640"/>
              <a:gd name="textAreaRight" fmla="*/ 297000 w 296640"/>
              <a:gd name="textAreaTop" fmla="*/ 0 h 1082520"/>
              <a:gd name="textAreaBottom" fmla="*/ 1082520 h 1082520"/>
            </a:gdLst>
            <a:ahLst/>
            <a:rect l="textAreaLeft" t="textAreaTop" r="textAreaRight" b="textAreaBottom"/>
            <a:pathLst>
              <a:path w="187" h="682">
                <a:moveTo>
                  <a:pt x="187" y="0"/>
                </a:moveTo>
                <a:lnTo>
                  <a:pt x="177" y="0"/>
                </a:lnTo>
                <a:lnTo>
                  <a:pt x="142" y="2"/>
                </a:lnTo>
                <a:lnTo>
                  <a:pt x="108" y="6"/>
                </a:lnTo>
                <a:lnTo>
                  <a:pt x="75" y="16"/>
                </a:lnTo>
                <a:lnTo>
                  <a:pt x="45" y="27"/>
                </a:lnTo>
                <a:lnTo>
                  <a:pt x="23" y="37"/>
                </a:lnTo>
                <a:lnTo>
                  <a:pt x="23" y="39"/>
                </a:lnTo>
                <a:lnTo>
                  <a:pt x="22" y="41"/>
                </a:lnTo>
                <a:lnTo>
                  <a:pt x="22" y="41"/>
                </a:lnTo>
                <a:lnTo>
                  <a:pt x="22" y="43"/>
                </a:lnTo>
                <a:lnTo>
                  <a:pt x="22" y="45"/>
                </a:lnTo>
                <a:lnTo>
                  <a:pt x="22" y="47"/>
                </a:lnTo>
                <a:lnTo>
                  <a:pt x="22" y="47"/>
                </a:lnTo>
                <a:lnTo>
                  <a:pt x="20" y="48"/>
                </a:lnTo>
                <a:lnTo>
                  <a:pt x="48" y="35"/>
                </a:lnTo>
                <a:lnTo>
                  <a:pt x="77" y="24"/>
                </a:lnTo>
                <a:lnTo>
                  <a:pt x="110" y="16"/>
                </a:lnTo>
                <a:lnTo>
                  <a:pt x="142" y="12"/>
                </a:lnTo>
                <a:lnTo>
                  <a:pt x="177" y="10"/>
                </a:lnTo>
                <a:lnTo>
                  <a:pt x="185" y="10"/>
                </a:lnTo>
                <a:lnTo>
                  <a:pt x="185" y="8"/>
                </a:lnTo>
                <a:lnTo>
                  <a:pt x="187" y="8"/>
                </a:lnTo>
                <a:lnTo>
                  <a:pt x="187" y="6"/>
                </a:lnTo>
                <a:lnTo>
                  <a:pt x="187" y="4"/>
                </a:lnTo>
                <a:lnTo>
                  <a:pt x="187" y="4"/>
                </a:lnTo>
                <a:lnTo>
                  <a:pt x="187" y="2"/>
                </a:lnTo>
                <a:lnTo>
                  <a:pt x="187" y="2"/>
                </a:lnTo>
                <a:lnTo>
                  <a:pt x="187" y="0"/>
                </a:lnTo>
                <a:close/>
                <a:moveTo>
                  <a:pt x="2" y="634"/>
                </a:moveTo>
                <a:lnTo>
                  <a:pt x="14" y="639"/>
                </a:lnTo>
                <a:lnTo>
                  <a:pt x="45" y="655"/>
                </a:lnTo>
                <a:lnTo>
                  <a:pt x="75" y="666"/>
                </a:lnTo>
                <a:lnTo>
                  <a:pt x="108" y="674"/>
                </a:lnTo>
                <a:lnTo>
                  <a:pt x="142" y="680"/>
                </a:lnTo>
                <a:lnTo>
                  <a:pt x="177" y="682"/>
                </a:lnTo>
                <a:lnTo>
                  <a:pt x="187" y="680"/>
                </a:lnTo>
                <a:lnTo>
                  <a:pt x="187" y="680"/>
                </a:lnTo>
                <a:lnTo>
                  <a:pt x="185" y="678"/>
                </a:lnTo>
                <a:lnTo>
                  <a:pt x="185" y="678"/>
                </a:lnTo>
                <a:lnTo>
                  <a:pt x="185" y="676"/>
                </a:lnTo>
                <a:lnTo>
                  <a:pt x="185" y="674"/>
                </a:lnTo>
                <a:lnTo>
                  <a:pt x="185" y="674"/>
                </a:lnTo>
                <a:lnTo>
                  <a:pt x="185" y="672"/>
                </a:lnTo>
                <a:lnTo>
                  <a:pt x="185" y="672"/>
                </a:lnTo>
                <a:lnTo>
                  <a:pt x="177" y="672"/>
                </a:lnTo>
                <a:lnTo>
                  <a:pt x="142" y="670"/>
                </a:lnTo>
                <a:lnTo>
                  <a:pt x="110" y="664"/>
                </a:lnTo>
                <a:lnTo>
                  <a:pt x="77" y="657"/>
                </a:lnTo>
                <a:lnTo>
                  <a:pt x="48" y="645"/>
                </a:lnTo>
                <a:lnTo>
                  <a:pt x="18" y="632"/>
                </a:lnTo>
                <a:lnTo>
                  <a:pt x="0" y="620"/>
                </a:lnTo>
                <a:lnTo>
                  <a:pt x="2" y="622"/>
                </a:lnTo>
                <a:lnTo>
                  <a:pt x="2" y="624"/>
                </a:lnTo>
                <a:lnTo>
                  <a:pt x="2" y="626"/>
                </a:lnTo>
                <a:lnTo>
                  <a:pt x="2" y="628"/>
                </a:lnTo>
                <a:lnTo>
                  <a:pt x="2" y="628"/>
                </a:lnTo>
                <a:lnTo>
                  <a:pt x="2" y="630"/>
                </a:lnTo>
                <a:lnTo>
                  <a:pt x="2" y="632"/>
                </a:lnTo>
                <a:lnTo>
                  <a:pt x="2" y="634"/>
                </a:lnTo>
                <a:close/>
              </a:path>
            </a:pathLst>
          </a:custGeom>
          <a:solidFill>
            <a:srgbClr val="b8e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219"/>
          <p:cNvSpPr/>
          <p:nvPr/>
        </p:nvSpPr>
        <p:spPr>
          <a:xfrm>
            <a:off x="6848640" y="2763720"/>
            <a:ext cx="296640" cy="1067040"/>
          </a:xfrm>
          <a:custGeom>
            <a:avLst/>
            <a:gdLst>
              <a:gd name="textAreaLeft" fmla="*/ 0 w 296640"/>
              <a:gd name="textAreaRight" fmla="*/ 297000 w 29664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187" h="672">
                <a:moveTo>
                  <a:pt x="187" y="0"/>
                </a:moveTo>
                <a:lnTo>
                  <a:pt x="177" y="0"/>
                </a:lnTo>
                <a:lnTo>
                  <a:pt x="142" y="2"/>
                </a:lnTo>
                <a:lnTo>
                  <a:pt x="108" y="8"/>
                </a:lnTo>
                <a:lnTo>
                  <a:pt x="77" y="16"/>
                </a:lnTo>
                <a:lnTo>
                  <a:pt x="47" y="27"/>
                </a:lnTo>
                <a:lnTo>
                  <a:pt x="22" y="39"/>
                </a:lnTo>
                <a:lnTo>
                  <a:pt x="22" y="41"/>
                </a:lnTo>
                <a:lnTo>
                  <a:pt x="22" y="43"/>
                </a:lnTo>
                <a:lnTo>
                  <a:pt x="22" y="43"/>
                </a:lnTo>
                <a:lnTo>
                  <a:pt x="20" y="44"/>
                </a:lnTo>
                <a:lnTo>
                  <a:pt x="20" y="46"/>
                </a:lnTo>
                <a:lnTo>
                  <a:pt x="20" y="48"/>
                </a:lnTo>
                <a:lnTo>
                  <a:pt x="20" y="48"/>
                </a:lnTo>
                <a:lnTo>
                  <a:pt x="20" y="50"/>
                </a:lnTo>
                <a:lnTo>
                  <a:pt x="22" y="50"/>
                </a:lnTo>
                <a:lnTo>
                  <a:pt x="50" y="37"/>
                </a:lnTo>
                <a:lnTo>
                  <a:pt x="79" y="25"/>
                </a:lnTo>
                <a:lnTo>
                  <a:pt x="110" y="18"/>
                </a:lnTo>
                <a:lnTo>
                  <a:pt x="142" y="12"/>
                </a:lnTo>
                <a:lnTo>
                  <a:pt x="177" y="10"/>
                </a:lnTo>
                <a:lnTo>
                  <a:pt x="185" y="10"/>
                </a:lnTo>
                <a:lnTo>
                  <a:pt x="185" y="10"/>
                </a:lnTo>
                <a:lnTo>
                  <a:pt x="185" y="8"/>
                </a:lnTo>
                <a:lnTo>
                  <a:pt x="185" y="8"/>
                </a:lnTo>
                <a:lnTo>
                  <a:pt x="185" y="6"/>
                </a:lnTo>
                <a:lnTo>
                  <a:pt x="185" y="4"/>
                </a:lnTo>
                <a:lnTo>
                  <a:pt x="187" y="4"/>
                </a:lnTo>
                <a:lnTo>
                  <a:pt x="187" y="2"/>
                </a:lnTo>
                <a:lnTo>
                  <a:pt x="187" y="0"/>
                </a:lnTo>
                <a:close/>
                <a:moveTo>
                  <a:pt x="2" y="624"/>
                </a:moveTo>
                <a:lnTo>
                  <a:pt x="16" y="632"/>
                </a:lnTo>
                <a:lnTo>
                  <a:pt x="47" y="645"/>
                </a:lnTo>
                <a:lnTo>
                  <a:pt x="77" y="657"/>
                </a:lnTo>
                <a:lnTo>
                  <a:pt x="108" y="666"/>
                </a:lnTo>
                <a:lnTo>
                  <a:pt x="142" y="670"/>
                </a:lnTo>
                <a:lnTo>
                  <a:pt x="177" y="672"/>
                </a:lnTo>
                <a:lnTo>
                  <a:pt x="185" y="672"/>
                </a:lnTo>
                <a:lnTo>
                  <a:pt x="185" y="670"/>
                </a:lnTo>
                <a:lnTo>
                  <a:pt x="185" y="670"/>
                </a:lnTo>
                <a:lnTo>
                  <a:pt x="185" y="668"/>
                </a:lnTo>
                <a:lnTo>
                  <a:pt x="185" y="668"/>
                </a:lnTo>
                <a:lnTo>
                  <a:pt x="185" y="666"/>
                </a:lnTo>
                <a:lnTo>
                  <a:pt x="183" y="664"/>
                </a:lnTo>
                <a:lnTo>
                  <a:pt x="183" y="664"/>
                </a:lnTo>
                <a:lnTo>
                  <a:pt x="183" y="662"/>
                </a:lnTo>
                <a:lnTo>
                  <a:pt x="177" y="662"/>
                </a:lnTo>
                <a:lnTo>
                  <a:pt x="142" y="660"/>
                </a:lnTo>
                <a:lnTo>
                  <a:pt x="110" y="657"/>
                </a:lnTo>
                <a:lnTo>
                  <a:pt x="79" y="649"/>
                </a:lnTo>
                <a:lnTo>
                  <a:pt x="50" y="637"/>
                </a:lnTo>
                <a:lnTo>
                  <a:pt x="22" y="624"/>
                </a:lnTo>
                <a:lnTo>
                  <a:pt x="0" y="611"/>
                </a:lnTo>
                <a:lnTo>
                  <a:pt x="0" y="612"/>
                </a:lnTo>
                <a:lnTo>
                  <a:pt x="0" y="614"/>
                </a:lnTo>
                <a:lnTo>
                  <a:pt x="0" y="616"/>
                </a:lnTo>
                <a:lnTo>
                  <a:pt x="0" y="616"/>
                </a:lnTo>
                <a:lnTo>
                  <a:pt x="2" y="618"/>
                </a:lnTo>
                <a:lnTo>
                  <a:pt x="2" y="620"/>
                </a:lnTo>
                <a:lnTo>
                  <a:pt x="2" y="622"/>
                </a:lnTo>
                <a:lnTo>
                  <a:pt x="2" y="624"/>
                </a:lnTo>
                <a:close/>
              </a:path>
            </a:pathLst>
          </a:custGeom>
          <a:solidFill>
            <a:srgbClr val="b9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220"/>
          <p:cNvSpPr/>
          <p:nvPr/>
        </p:nvSpPr>
        <p:spPr>
          <a:xfrm>
            <a:off x="6848640" y="2773440"/>
            <a:ext cx="293400" cy="1050840"/>
          </a:xfrm>
          <a:custGeom>
            <a:avLst/>
            <a:gdLst>
              <a:gd name="textAreaLeft" fmla="*/ 0 w 293400"/>
              <a:gd name="textAreaRight" fmla="*/ 293760 w 293400"/>
              <a:gd name="textAreaTop" fmla="*/ 0 h 1050840"/>
              <a:gd name="textAreaBottom" fmla="*/ 1051200 h 1050840"/>
            </a:gdLst>
            <a:ahLst/>
            <a:rect l="textAreaLeft" t="textAreaTop" r="textAreaRight" b="textAreaBottom"/>
            <a:pathLst>
              <a:path w="185" h="662">
                <a:moveTo>
                  <a:pt x="185" y="0"/>
                </a:moveTo>
                <a:lnTo>
                  <a:pt x="177" y="0"/>
                </a:lnTo>
                <a:lnTo>
                  <a:pt x="142" y="2"/>
                </a:lnTo>
                <a:lnTo>
                  <a:pt x="110" y="6"/>
                </a:lnTo>
                <a:lnTo>
                  <a:pt x="77" y="14"/>
                </a:lnTo>
                <a:lnTo>
                  <a:pt x="48" y="25"/>
                </a:lnTo>
                <a:lnTo>
                  <a:pt x="20" y="38"/>
                </a:lnTo>
                <a:lnTo>
                  <a:pt x="20" y="40"/>
                </a:lnTo>
                <a:lnTo>
                  <a:pt x="20" y="42"/>
                </a:lnTo>
                <a:lnTo>
                  <a:pt x="20" y="42"/>
                </a:lnTo>
                <a:lnTo>
                  <a:pt x="20" y="44"/>
                </a:lnTo>
                <a:lnTo>
                  <a:pt x="20" y="46"/>
                </a:lnTo>
                <a:lnTo>
                  <a:pt x="18" y="48"/>
                </a:lnTo>
                <a:lnTo>
                  <a:pt x="18" y="50"/>
                </a:lnTo>
                <a:lnTo>
                  <a:pt x="18" y="52"/>
                </a:lnTo>
                <a:lnTo>
                  <a:pt x="23" y="48"/>
                </a:lnTo>
                <a:lnTo>
                  <a:pt x="50" y="35"/>
                </a:lnTo>
                <a:lnTo>
                  <a:pt x="81" y="23"/>
                </a:lnTo>
                <a:lnTo>
                  <a:pt x="112" y="15"/>
                </a:lnTo>
                <a:lnTo>
                  <a:pt x="144" y="10"/>
                </a:lnTo>
                <a:lnTo>
                  <a:pt x="177" y="10"/>
                </a:lnTo>
                <a:lnTo>
                  <a:pt x="183" y="10"/>
                </a:lnTo>
                <a:lnTo>
                  <a:pt x="183" y="8"/>
                </a:lnTo>
                <a:lnTo>
                  <a:pt x="185" y="8"/>
                </a:lnTo>
                <a:lnTo>
                  <a:pt x="185" y="6"/>
                </a:lnTo>
                <a:lnTo>
                  <a:pt x="185" y="4"/>
                </a:lnTo>
                <a:lnTo>
                  <a:pt x="185" y="4"/>
                </a:lnTo>
                <a:lnTo>
                  <a:pt x="185" y="2"/>
                </a:lnTo>
                <a:lnTo>
                  <a:pt x="185" y="2"/>
                </a:lnTo>
                <a:lnTo>
                  <a:pt x="185" y="0"/>
                </a:lnTo>
                <a:close/>
                <a:moveTo>
                  <a:pt x="0" y="610"/>
                </a:moveTo>
                <a:lnTo>
                  <a:pt x="18" y="622"/>
                </a:lnTo>
                <a:lnTo>
                  <a:pt x="48" y="635"/>
                </a:lnTo>
                <a:lnTo>
                  <a:pt x="77" y="647"/>
                </a:lnTo>
                <a:lnTo>
                  <a:pt x="110" y="654"/>
                </a:lnTo>
                <a:lnTo>
                  <a:pt x="142" y="660"/>
                </a:lnTo>
                <a:lnTo>
                  <a:pt x="177" y="662"/>
                </a:lnTo>
                <a:lnTo>
                  <a:pt x="185" y="662"/>
                </a:lnTo>
                <a:lnTo>
                  <a:pt x="183" y="660"/>
                </a:lnTo>
                <a:lnTo>
                  <a:pt x="183" y="658"/>
                </a:lnTo>
                <a:lnTo>
                  <a:pt x="183" y="658"/>
                </a:lnTo>
                <a:lnTo>
                  <a:pt x="183" y="656"/>
                </a:lnTo>
                <a:lnTo>
                  <a:pt x="183" y="656"/>
                </a:lnTo>
                <a:lnTo>
                  <a:pt x="183" y="654"/>
                </a:lnTo>
                <a:lnTo>
                  <a:pt x="183" y="652"/>
                </a:lnTo>
                <a:lnTo>
                  <a:pt x="183" y="652"/>
                </a:lnTo>
                <a:lnTo>
                  <a:pt x="177" y="652"/>
                </a:lnTo>
                <a:lnTo>
                  <a:pt x="144" y="651"/>
                </a:lnTo>
                <a:lnTo>
                  <a:pt x="112" y="645"/>
                </a:lnTo>
                <a:lnTo>
                  <a:pt x="81" y="637"/>
                </a:lnTo>
                <a:lnTo>
                  <a:pt x="50" y="628"/>
                </a:lnTo>
                <a:lnTo>
                  <a:pt x="23" y="614"/>
                </a:lnTo>
                <a:lnTo>
                  <a:pt x="0" y="599"/>
                </a:lnTo>
                <a:lnTo>
                  <a:pt x="0" y="601"/>
                </a:lnTo>
                <a:lnTo>
                  <a:pt x="0" y="603"/>
                </a:lnTo>
                <a:lnTo>
                  <a:pt x="0" y="605"/>
                </a:lnTo>
                <a:lnTo>
                  <a:pt x="0" y="605"/>
                </a:lnTo>
                <a:lnTo>
                  <a:pt x="0" y="606"/>
                </a:lnTo>
                <a:lnTo>
                  <a:pt x="0" y="608"/>
                </a:lnTo>
                <a:lnTo>
                  <a:pt x="0" y="610"/>
                </a:lnTo>
                <a:lnTo>
                  <a:pt x="0" y="610"/>
                </a:lnTo>
                <a:close/>
              </a:path>
            </a:pathLst>
          </a:custGeom>
          <a:solidFill>
            <a:srgbClr val="ba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221"/>
          <p:cNvSpPr/>
          <p:nvPr/>
        </p:nvSpPr>
        <p:spPr>
          <a:xfrm>
            <a:off x="6846840" y="2779560"/>
            <a:ext cx="295200" cy="1035360"/>
          </a:xfrm>
          <a:custGeom>
            <a:avLst/>
            <a:gdLst>
              <a:gd name="textAreaLeft" fmla="*/ 0 w 295200"/>
              <a:gd name="textAreaRight" fmla="*/ 295560 w 295200"/>
              <a:gd name="textAreaTop" fmla="*/ 0 h 1035360"/>
              <a:gd name="textAreaBottom" fmla="*/ 1035720 h 1035360"/>
            </a:gdLst>
            <a:ahLst/>
            <a:rect l="textAreaLeft" t="textAreaTop" r="textAreaRight" b="textAreaBottom"/>
            <a:pathLst>
              <a:path w="186" h="652">
                <a:moveTo>
                  <a:pt x="186" y="0"/>
                </a:moveTo>
                <a:lnTo>
                  <a:pt x="178" y="0"/>
                </a:lnTo>
                <a:lnTo>
                  <a:pt x="143" y="2"/>
                </a:lnTo>
                <a:lnTo>
                  <a:pt x="111" y="8"/>
                </a:lnTo>
                <a:lnTo>
                  <a:pt x="80" y="15"/>
                </a:lnTo>
                <a:lnTo>
                  <a:pt x="51" y="27"/>
                </a:lnTo>
                <a:lnTo>
                  <a:pt x="23" y="40"/>
                </a:lnTo>
                <a:lnTo>
                  <a:pt x="21" y="40"/>
                </a:lnTo>
                <a:lnTo>
                  <a:pt x="21" y="42"/>
                </a:lnTo>
                <a:lnTo>
                  <a:pt x="19" y="44"/>
                </a:lnTo>
                <a:lnTo>
                  <a:pt x="19" y="46"/>
                </a:lnTo>
                <a:lnTo>
                  <a:pt x="19" y="48"/>
                </a:lnTo>
                <a:lnTo>
                  <a:pt x="19" y="48"/>
                </a:lnTo>
                <a:lnTo>
                  <a:pt x="19" y="50"/>
                </a:lnTo>
                <a:lnTo>
                  <a:pt x="19" y="52"/>
                </a:lnTo>
                <a:lnTo>
                  <a:pt x="17" y="54"/>
                </a:lnTo>
                <a:lnTo>
                  <a:pt x="26" y="48"/>
                </a:lnTo>
                <a:lnTo>
                  <a:pt x="53" y="34"/>
                </a:lnTo>
                <a:lnTo>
                  <a:pt x="84" y="23"/>
                </a:lnTo>
                <a:lnTo>
                  <a:pt x="113" y="15"/>
                </a:lnTo>
                <a:lnTo>
                  <a:pt x="145" y="11"/>
                </a:lnTo>
                <a:lnTo>
                  <a:pt x="178" y="10"/>
                </a:lnTo>
                <a:lnTo>
                  <a:pt x="184" y="10"/>
                </a:lnTo>
                <a:lnTo>
                  <a:pt x="184" y="10"/>
                </a:lnTo>
                <a:lnTo>
                  <a:pt x="184" y="8"/>
                </a:lnTo>
                <a:lnTo>
                  <a:pt x="184" y="6"/>
                </a:lnTo>
                <a:lnTo>
                  <a:pt x="184" y="6"/>
                </a:lnTo>
                <a:lnTo>
                  <a:pt x="184" y="4"/>
                </a:lnTo>
                <a:lnTo>
                  <a:pt x="186" y="4"/>
                </a:lnTo>
                <a:lnTo>
                  <a:pt x="186" y="2"/>
                </a:lnTo>
                <a:lnTo>
                  <a:pt x="186" y="0"/>
                </a:lnTo>
                <a:close/>
                <a:moveTo>
                  <a:pt x="1" y="601"/>
                </a:moveTo>
                <a:lnTo>
                  <a:pt x="23" y="614"/>
                </a:lnTo>
                <a:lnTo>
                  <a:pt x="51" y="627"/>
                </a:lnTo>
                <a:lnTo>
                  <a:pt x="80" y="639"/>
                </a:lnTo>
                <a:lnTo>
                  <a:pt x="111" y="647"/>
                </a:lnTo>
                <a:lnTo>
                  <a:pt x="143" y="650"/>
                </a:lnTo>
                <a:lnTo>
                  <a:pt x="178" y="652"/>
                </a:lnTo>
                <a:lnTo>
                  <a:pt x="184" y="652"/>
                </a:lnTo>
                <a:lnTo>
                  <a:pt x="184" y="652"/>
                </a:lnTo>
                <a:lnTo>
                  <a:pt x="184" y="650"/>
                </a:lnTo>
                <a:lnTo>
                  <a:pt x="184" y="648"/>
                </a:lnTo>
                <a:lnTo>
                  <a:pt x="184" y="648"/>
                </a:lnTo>
                <a:lnTo>
                  <a:pt x="182" y="647"/>
                </a:lnTo>
                <a:lnTo>
                  <a:pt x="182" y="645"/>
                </a:lnTo>
                <a:lnTo>
                  <a:pt x="182" y="645"/>
                </a:lnTo>
                <a:lnTo>
                  <a:pt x="182" y="643"/>
                </a:lnTo>
                <a:lnTo>
                  <a:pt x="178" y="643"/>
                </a:lnTo>
                <a:lnTo>
                  <a:pt x="145" y="643"/>
                </a:lnTo>
                <a:lnTo>
                  <a:pt x="113" y="637"/>
                </a:lnTo>
                <a:lnTo>
                  <a:pt x="84" y="629"/>
                </a:lnTo>
                <a:lnTo>
                  <a:pt x="53" y="618"/>
                </a:lnTo>
                <a:lnTo>
                  <a:pt x="26" y="604"/>
                </a:lnTo>
                <a:lnTo>
                  <a:pt x="0" y="589"/>
                </a:lnTo>
                <a:lnTo>
                  <a:pt x="0" y="589"/>
                </a:lnTo>
                <a:lnTo>
                  <a:pt x="0" y="591"/>
                </a:lnTo>
                <a:lnTo>
                  <a:pt x="0" y="593"/>
                </a:lnTo>
                <a:lnTo>
                  <a:pt x="1" y="593"/>
                </a:lnTo>
                <a:lnTo>
                  <a:pt x="1" y="595"/>
                </a:lnTo>
                <a:lnTo>
                  <a:pt x="1" y="597"/>
                </a:lnTo>
                <a:lnTo>
                  <a:pt x="1" y="599"/>
                </a:lnTo>
                <a:lnTo>
                  <a:pt x="1" y="601"/>
                </a:lnTo>
                <a:lnTo>
                  <a:pt x="1" y="601"/>
                </a:lnTo>
                <a:close/>
              </a:path>
            </a:pathLst>
          </a:custGeom>
          <a:solidFill>
            <a:srgbClr val="bb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222"/>
          <p:cNvSpPr/>
          <p:nvPr/>
        </p:nvSpPr>
        <p:spPr>
          <a:xfrm>
            <a:off x="6846840" y="2789280"/>
            <a:ext cx="292320" cy="1019160"/>
          </a:xfrm>
          <a:custGeom>
            <a:avLst/>
            <a:gdLst>
              <a:gd name="textAreaLeft" fmla="*/ 0 w 292320"/>
              <a:gd name="textAreaRight" fmla="*/ 292680 w 292320"/>
              <a:gd name="textAreaTop" fmla="*/ 0 h 1019160"/>
              <a:gd name="textAreaBottom" fmla="*/ 1019160 h 1019160"/>
            </a:gdLst>
            <a:ahLst/>
            <a:rect l="textAreaLeft" t="textAreaTop" r="textAreaRight" b="textAreaBottom"/>
            <a:pathLst>
              <a:path w="184" h="642">
                <a:moveTo>
                  <a:pt x="184" y="0"/>
                </a:moveTo>
                <a:lnTo>
                  <a:pt x="178" y="0"/>
                </a:lnTo>
                <a:lnTo>
                  <a:pt x="145" y="0"/>
                </a:lnTo>
                <a:lnTo>
                  <a:pt x="113" y="5"/>
                </a:lnTo>
                <a:lnTo>
                  <a:pt x="82" y="13"/>
                </a:lnTo>
                <a:lnTo>
                  <a:pt x="51" y="25"/>
                </a:lnTo>
                <a:lnTo>
                  <a:pt x="24" y="38"/>
                </a:lnTo>
                <a:lnTo>
                  <a:pt x="19" y="42"/>
                </a:lnTo>
                <a:lnTo>
                  <a:pt x="19" y="42"/>
                </a:lnTo>
                <a:lnTo>
                  <a:pt x="19" y="44"/>
                </a:lnTo>
                <a:lnTo>
                  <a:pt x="19" y="46"/>
                </a:lnTo>
                <a:lnTo>
                  <a:pt x="17" y="48"/>
                </a:lnTo>
                <a:lnTo>
                  <a:pt x="17" y="50"/>
                </a:lnTo>
                <a:lnTo>
                  <a:pt x="17" y="50"/>
                </a:lnTo>
                <a:lnTo>
                  <a:pt x="17" y="51"/>
                </a:lnTo>
                <a:lnTo>
                  <a:pt x="17" y="53"/>
                </a:lnTo>
                <a:lnTo>
                  <a:pt x="28" y="46"/>
                </a:lnTo>
                <a:lnTo>
                  <a:pt x="55" y="32"/>
                </a:lnTo>
                <a:lnTo>
                  <a:pt x="84" y="23"/>
                </a:lnTo>
                <a:lnTo>
                  <a:pt x="115" y="15"/>
                </a:lnTo>
                <a:lnTo>
                  <a:pt x="145" y="9"/>
                </a:lnTo>
                <a:lnTo>
                  <a:pt x="178" y="9"/>
                </a:lnTo>
                <a:lnTo>
                  <a:pt x="182" y="9"/>
                </a:lnTo>
                <a:lnTo>
                  <a:pt x="182" y="7"/>
                </a:lnTo>
                <a:lnTo>
                  <a:pt x="184" y="5"/>
                </a:lnTo>
                <a:lnTo>
                  <a:pt x="184" y="5"/>
                </a:lnTo>
                <a:lnTo>
                  <a:pt x="184" y="4"/>
                </a:lnTo>
                <a:lnTo>
                  <a:pt x="184" y="4"/>
                </a:lnTo>
                <a:lnTo>
                  <a:pt x="184" y="2"/>
                </a:lnTo>
                <a:lnTo>
                  <a:pt x="184" y="0"/>
                </a:lnTo>
                <a:lnTo>
                  <a:pt x="184" y="0"/>
                </a:lnTo>
                <a:close/>
                <a:moveTo>
                  <a:pt x="1" y="589"/>
                </a:moveTo>
                <a:lnTo>
                  <a:pt x="24" y="604"/>
                </a:lnTo>
                <a:lnTo>
                  <a:pt x="51" y="618"/>
                </a:lnTo>
                <a:lnTo>
                  <a:pt x="82" y="627"/>
                </a:lnTo>
                <a:lnTo>
                  <a:pt x="113" y="635"/>
                </a:lnTo>
                <a:lnTo>
                  <a:pt x="145" y="641"/>
                </a:lnTo>
                <a:lnTo>
                  <a:pt x="178" y="642"/>
                </a:lnTo>
                <a:lnTo>
                  <a:pt x="184" y="642"/>
                </a:lnTo>
                <a:lnTo>
                  <a:pt x="182" y="641"/>
                </a:lnTo>
                <a:lnTo>
                  <a:pt x="182" y="639"/>
                </a:lnTo>
                <a:lnTo>
                  <a:pt x="182" y="639"/>
                </a:lnTo>
                <a:lnTo>
                  <a:pt x="182" y="637"/>
                </a:lnTo>
                <a:lnTo>
                  <a:pt x="182" y="637"/>
                </a:lnTo>
                <a:lnTo>
                  <a:pt x="182" y="635"/>
                </a:lnTo>
                <a:lnTo>
                  <a:pt x="182" y="633"/>
                </a:lnTo>
                <a:lnTo>
                  <a:pt x="182" y="633"/>
                </a:lnTo>
                <a:lnTo>
                  <a:pt x="178" y="633"/>
                </a:lnTo>
                <a:lnTo>
                  <a:pt x="145" y="631"/>
                </a:lnTo>
                <a:lnTo>
                  <a:pt x="115" y="627"/>
                </a:lnTo>
                <a:lnTo>
                  <a:pt x="84" y="619"/>
                </a:lnTo>
                <a:lnTo>
                  <a:pt x="55" y="608"/>
                </a:lnTo>
                <a:lnTo>
                  <a:pt x="28" y="595"/>
                </a:lnTo>
                <a:lnTo>
                  <a:pt x="3" y="579"/>
                </a:lnTo>
                <a:lnTo>
                  <a:pt x="0" y="577"/>
                </a:lnTo>
                <a:lnTo>
                  <a:pt x="0" y="577"/>
                </a:lnTo>
                <a:lnTo>
                  <a:pt x="0" y="579"/>
                </a:lnTo>
                <a:lnTo>
                  <a:pt x="0" y="581"/>
                </a:lnTo>
                <a:lnTo>
                  <a:pt x="0" y="583"/>
                </a:lnTo>
                <a:lnTo>
                  <a:pt x="0" y="585"/>
                </a:lnTo>
                <a:lnTo>
                  <a:pt x="0" y="587"/>
                </a:lnTo>
                <a:lnTo>
                  <a:pt x="1" y="587"/>
                </a:lnTo>
                <a:lnTo>
                  <a:pt x="1" y="589"/>
                </a:lnTo>
                <a:close/>
              </a:path>
            </a:pathLst>
          </a:custGeom>
          <a:solidFill>
            <a:srgbClr val="bce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223"/>
          <p:cNvSpPr/>
          <p:nvPr/>
        </p:nvSpPr>
        <p:spPr>
          <a:xfrm>
            <a:off x="6843600" y="2795760"/>
            <a:ext cx="295560" cy="1004760"/>
          </a:xfrm>
          <a:custGeom>
            <a:avLst/>
            <a:gdLst>
              <a:gd name="textAreaLeft" fmla="*/ 0 w 295560"/>
              <a:gd name="textAreaRight" fmla="*/ 295560 w 29556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186" h="633">
                <a:moveTo>
                  <a:pt x="186" y="0"/>
                </a:moveTo>
                <a:lnTo>
                  <a:pt x="180" y="0"/>
                </a:lnTo>
                <a:lnTo>
                  <a:pt x="147" y="1"/>
                </a:lnTo>
                <a:lnTo>
                  <a:pt x="115" y="5"/>
                </a:lnTo>
                <a:lnTo>
                  <a:pt x="86" y="13"/>
                </a:lnTo>
                <a:lnTo>
                  <a:pt x="55" y="24"/>
                </a:lnTo>
                <a:lnTo>
                  <a:pt x="28" y="38"/>
                </a:lnTo>
                <a:lnTo>
                  <a:pt x="19" y="44"/>
                </a:lnTo>
                <a:lnTo>
                  <a:pt x="19" y="46"/>
                </a:lnTo>
                <a:lnTo>
                  <a:pt x="19" y="46"/>
                </a:lnTo>
                <a:lnTo>
                  <a:pt x="19" y="47"/>
                </a:lnTo>
                <a:lnTo>
                  <a:pt x="19" y="49"/>
                </a:lnTo>
                <a:lnTo>
                  <a:pt x="19" y="51"/>
                </a:lnTo>
                <a:lnTo>
                  <a:pt x="19" y="53"/>
                </a:lnTo>
                <a:lnTo>
                  <a:pt x="17" y="53"/>
                </a:lnTo>
                <a:lnTo>
                  <a:pt x="17" y="55"/>
                </a:lnTo>
                <a:lnTo>
                  <a:pt x="32" y="46"/>
                </a:lnTo>
                <a:lnTo>
                  <a:pt x="59" y="34"/>
                </a:lnTo>
                <a:lnTo>
                  <a:pt x="88" y="23"/>
                </a:lnTo>
                <a:lnTo>
                  <a:pt x="117" y="15"/>
                </a:lnTo>
                <a:lnTo>
                  <a:pt x="147" y="11"/>
                </a:lnTo>
                <a:lnTo>
                  <a:pt x="180" y="9"/>
                </a:lnTo>
                <a:lnTo>
                  <a:pt x="184" y="9"/>
                </a:lnTo>
                <a:lnTo>
                  <a:pt x="184" y="7"/>
                </a:lnTo>
                <a:lnTo>
                  <a:pt x="184" y="7"/>
                </a:lnTo>
                <a:lnTo>
                  <a:pt x="184" y="5"/>
                </a:lnTo>
                <a:lnTo>
                  <a:pt x="184" y="5"/>
                </a:lnTo>
                <a:lnTo>
                  <a:pt x="184" y="3"/>
                </a:lnTo>
                <a:lnTo>
                  <a:pt x="186" y="1"/>
                </a:lnTo>
                <a:lnTo>
                  <a:pt x="186" y="1"/>
                </a:lnTo>
                <a:lnTo>
                  <a:pt x="186" y="0"/>
                </a:lnTo>
                <a:close/>
                <a:moveTo>
                  <a:pt x="2" y="579"/>
                </a:moveTo>
                <a:lnTo>
                  <a:pt x="2" y="579"/>
                </a:lnTo>
                <a:lnTo>
                  <a:pt x="28" y="594"/>
                </a:lnTo>
                <a:lnTo>
                  <a:pt x="55" y="608"/>
                </a:lnTo>
                <a:lnTo>
                  <a:pt x="86" y="619"/>
                </a:lnTo>
                <a:lnTo>
                  <a:pt x="115" y="627"/>
                </a:lnTo>
                <a:lnTo>
                  <a:pt x="147" y="633"/>
                </a:lnTo>
                <a:lnTo>
                  <a:pt x="180" y="633"/>
                </a:lnTo>
                <a:lnTo>
                  <a:pt x="184" y="633"/>
                </a:lnTo>
                <a:lnTo>
                  <a:pt x="184" y="633"/>
                </a:lnTo>
                <a:lnTo>
                  <a:pt x="184" y="631"/>
                </a:lnTo>
                <a:lnTo>
                  <a:pt x="184" y="629"/>
                </a:lnTo>
                <a:lnTo>
                  <a:pt x="184" y="629"/>
                </a:lnTo>
                <a:lnTo>
                  <a:pt x="182" y="627"/>
                </a:lnTo>
                <a:lnTo>
                  <a:pt x="182" y="627"/>
                </a:lnTo>
                <a:lnTo>
                  <a:pt x="182" y="625"/>
                </a:lnTo>
                <a:lnTo>
                  <a:pt x="182" y="623"/>
                </a:lnTo>
                <a:lnTo>
                  <a:pt x="180" y="623"/>
                </a:lnTo>
                <a:lnTo>
                  <a:pt x="147" y="623"/>
                </a:lnTo>
                <a:lnTo>
                  <a:pt x="117" y="617"/>
                </a:lnTo>
                <a:lnTo>
                  <a:pt x="88" y="610"/>
                </a:lnTo>
                <a:lnTo>
                  <a:pt x="59" y="600"/>
                </a:lnTo>
                <a:lnTo>
                  <a:pt x="32" y="587"/>
                </a:lnTo>
                <a:lnTo>
                  <a:pt x="7" y="571"/>
                </a:lnTo>
                <a:lnTo>
                  <a:pt x="0" y="566"/>
                </a:lnTo>
                <a:lnTo>
                  <a:pt x="2" y="567"/>
                </a:lnTo>
                <a:lnTo>
                  <a:pt x="2" y="569"/>
                </a:lnTo>
                <a:lnTo>
                  <a:pt x="2" y="571"/>
                </a:lnTo>
                <a:lnTo>
                  <a:pt x="2" y="573"/>
                </a:lnTo>
                <a:lnTo>
                  <a:pt x="2" y="575"/>
                </a:lnTo>
                <a:lnTo>
                  <a:pt x="2" y="575"/>
                </a:lnTo>
                <a:lnTo>
                  <a:pt x="2" y="577"/>
                </a:lnTo>
                <a:lnTo>
                  <a:pt x="2" y="579"/>
                </a:lnTo>
                <a:close/>
              </a:path>
            </a:pathLst>
          </a:custGeom>
          <a:solidFill>
            <a:srgbClr val="bde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224"/>
          <p:cNvSpPr/>
          <p:nvPr/>
        </p:nvSpPr>
        <p:spPr>
          <a:xfrm>
            <a:off x="6843600" y="2803680"/>
            <a:ext cx="292320" cy="990360"/>
          </a:xfrm>
          <a:custGeom>
            <a:avLst/>
            <a:gdLst>
              <a:gd name="textAreaLeft" fmla="*/ 0 w 292320"/>
              <a:gd name="textAreaRight" fmla="*/ 292680 w 2923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184" h="624">
                <a:moveTo>
                  <a:pt x="184" y="0"/>
                </a:moveTo>
                <a:lnTo>
                  <a:pt x="180" y="0"/>
                </a:lnTo>
                <a:lnTo>
                  <a:pt x="147" y="0"/>
                </a:lnTo>
                <a:lnTo>
                  <a:pt x="117" y="6"/>
                </a:lnTo>
                <a:lnTo>
                  <a:pt x="86" y="14"/>
                </a:lnTo>
                <a:lnTo>
                  <a:pt x="57" y="23"/>
                </a:lnTo>
                <a:lnTo>
                  <a:pt x="30" y="37"/>
                </a:lnTo>
                <a:lnTo>
                  <a:pt x="19" y="44"/>
                </a:lnTo>
                <a:lnTo>
                  <a:pt x="19" y="46"/>
                </a:lnTo>
                <a:lnTo>
                  <a:pt x="17" y="48"/>
                </a:lnTo>
                <a:lnTo>
                  <a:pt x="17" y="48"/>
                </a:lnTo>
                <a:lnTo>
                  <a:pt x="17" y="50"/>
                </a:lnTo>
                <a:lnTo>
                  <a:pt x="17" y="52"/>
                </a:lnTo>
                <a:lnTo>
                  <a:pt x="17" y="54"/>
                </a:lnTo>
                <a:lnTo>
                  <a:pt x="17" y="56"/>
                </a:lnTo>
                <a:lnTo>
                  <a:pt x="17" y="58"/>
                </a:lnTo>
                <a:lnTo>
                  <a:pt x="36" y="46"/>
                </a:lnTo>
                <a:lnTo>
                  <a:pt x="61" y="33"/>
                </a:lnTo>
                <a:lnTo>
                  <a:pt x="90" y="23"/>
                </a:lnTo>
                <a:lnTo>
                  <a:pt x="119" y="16"/>
                </a:lnTo>
                <a:lnTo>
                  <a:pt x="149" y="10"/>
                </a:lnTo>
                <a:lnTo>
                  <a:pt x="180" y="8"/>
                </a:lnTo>
                <a:lnTo>
                  <a:pt x="182" y="10"/>
                </a:lnTo>
                <a:lnTo>
                  <a:pt x="182" y="8"/>
                </a:lnTo>
                <a:lnTo>
                  <a:pt x="184" y="6"/>
                </a:lnTo>
                <a:lnTo>
                  <a:pt x="184" y="6"/>
                </a:lnTo>
                <a:lnTo>
                  <a:pt x="184" y="4"/>
                </a:lnTo>
                <a:lnTo>
                  <a:pt x="184" y="2"/>
                </a:lnTo>
                <a:lnTo>
                  <a:pt x="184" y="2"/>
                </a:lnTo>
                <a:lnTo>
                  <a:pt x="184" y="0"/>
                </a:lnTo>
                <a:lnTo>
                  <a:pt x="184" y="0"/>
                </a:lnTo>
                <a:close/>
                <a:moveTo>
                  <a:pt x="2" y="568"/>
                </a:moveTo>
                <a:lnTo>
                  <a:pt x="5" y="570"/>
                </a:lnTo>
                <a:lnTo>
                  <a:pt x="30" y="586"/>
                </a:lnTo>
                <a:lnTo>
                  <a:pt x="57" y="599"/>
                </a:lnTo>
                <a:lnTo>
                  <a:pt x="86" y="610"/>
                </a:lnTo>
                <a:lnTo>
                  <a:pt x="117" y="618"/>
                </a:lnTo>
                <a:lnTo>
                  <a:pt x="147" y="622"/>
                </a:lnTo>
                <a:lnTo>
                  <a:pt x="180" y="624"/>
                </a:lnTo>
                <a:lnTo>
                  <a:pt x="184" y="624"/>
                </a:lnTo>
                <a:lnTo>
                  <a:pt x="182" y="622"/>
                </a:lnTo>
                <a:lnTo>
                  <a:pt x="182" y="622"/>
                </a:lnTo>
                <a:lnTo>
                  <a:pt x="182" y="620"/>
                </a:lnTo>
                <a:lnTo>
                  <a:pt x="182" y="618"/>
                </a:lnTo>
                <a:lnTo>
                  <a:pt x="182" y="618"/>
                </a:lnTo>
                <a:lnTo>
                  <a:pt x="182" y="616"/>
                </a:lnTo>
                <a:lnTo>
                  <a:pt x="182" y="616"/>
                </a:lnTo>
                <a:lnTo>
                  <a:pt x="182" y="614"/>
                </a:lnTo>
                <a:lnTo>
                  <a:pt x="180" y="614"/>
                </a:lnTo>
                <a:lnTo>
                  <a:pt x="149" y="612"/>
                </a:lnTo>
                <a:lnTo>
                  <a:pt x="119" y="609"/>
                </a:lnTo>
                <a:lnTo>
                  <a:pt x="90" y="601"/>
                </a:lnTo>
                <a:lnTo>
                  <a:pt x="61" y="591"/>
                </a:lnTo>
                <a:lnTo>
                  <a:pt x="36" y="578"/>
                </a:lnTo>
                <a:lnTo>
                  <a:pt x="11" y="562"/>
                </a:lnTo>
                <a:lnTo>
                  <a:pt x="0" y="555"/>
                </a:lnTo>
                <a:lnTo>
                  <a:pt x="0" y="557"/>
                </a:lnTo>
                <a:lnTo>
                  <a:pt x="0" y="559"/>
                </a:lnTo>
                <a:lnTo>
                  <a:pt x="0" y="559"/>
                </a:lnTo>
                <a:lnTo>
                  <a:pt x="0" y="561"/>
                </a:lnTo>
                <a:lnTo>
                  <a:pt x="2" y="562"/>
                </a:lnTo>
                <a:lnTo>
                  <a:pt x="2" y="564"/>
                </a:lnTo>
                <a:lnTo>
                  <a:pt x="2" y="566"/>
                </a:lnTo>
                <a:lnTo>
                  <a:pt x="2" y="568"/>
                </a:lnTo>
                <a:close/>
              </a:path>
            </a:pathLst>
          </a:custGeom>
          <a:solidFill>
            <a:srgbClr val="be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225"/>
          <p:cNvSpPr/>
          <p:nvPr/>
        </p:nvSpPr>
        <p:spPr>
          <a:xfrm>
            <a:off x="6843600" y="2809800"/>
            <a:ext cx="292320" cy="974880"/>
          </a:xfrm>
          <a:custGeom>
            <a:avLst/>
            <a:gdLst>
              <a:gd name="textAreaLeft" fmla="*/ 0 w 292320"/>
              <a:gd name="textAreaRight" fmla="*/ 292680 w 29232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w="184" h="614">
                <a:moveTo>
                  <a:pt x="184" y="0"/>
                </a:moveTo>
                <a:lnTo>
                  <a:pt x="180" y="0"/>
                </a:lnTo>
                <a:lnTo>
                  <a:pt x="147" y="2"/>
                </a:lnTo>
                <a:lnTo>
                  <a:pt x="117" y="6"/>
                </a:lnTo>
                <a:lnTo>
                  <a:pt x="88" y="14"/>
                </a:lnTo>
                <a:lnTo>
                  <a:pt x="59" y="25"/>
                </a:lnTo>
                <a:lnTo>
                  <a:pt x="32" y="37"/>
                </a:lnTo>
                <a:lnTo>
                  <a:pt x="17" y="46"/>
                </a:lnTo>
                <a:lnTo>
                  <a:pt x="17" y="48"/>
                </a:lnTo>
                <a:lnTo>
                  <a:pt x="17" y="50"/>
                </a:lnTo>
                <a:lnTo>
                  <a:pt x="17" y="52"/>
                </a:lnTo>
                <a:lnTo>
                  <a:pt x="17" y="54"/>
                </a:lnTo>
                <a:lnTo>
                  <a:pt x="15" y="54"/>
                </a:lnTo>
                <a:lnTo>
                  <a:pt x="15" y="56"/>
                </a:lnTo>
                <a:lnTo>
                  <a:pt x="15" y="58"/>
                </a:lnTo>
                <a:lnTo>
                  <a:pt x="15" y="60"/>
                </a:lnTo>
                <a:lnTo>
                  <a:pt x="38" y="46"/>
                </a:lnTo>
                <a:lnTo>
                  <a:pt x="63" y="33"/>
                </a:lnTo>
                <a:lnTo>
                  <a:pt x="92" y="23"/>
                </a:lnTo>
                <a:lnTo>
                  <a:pt x="119" y="15"/>
                </a:lnTo>
                <a:lnTo>
                  <a:pt x="149" y="12"/>
                </a:lnTo>
                <a:lnTo>
                  <a:pt x="180" y="10"/>
                </a:lnTo>
                <a:lnTo>
                  <a:pt x="182" y="10"/>
                </a:lnTo>
                <a:lnTo>
                  <a:pt x="182" y="8"/>
                </a:lnTo>
                <a:lnTo>
                  <a:pt x="182" y="8"/>
                </a:lnTo>
                <a:lnTo>
                  <a:pt x="182" y="6"/>
                </a:lnTo>
                <a:lnTo>
                  <a:pt x="182" y="6"/>
                </a:lnTo>
                <a:lnTo>
                  <a:pt x="182" y="4"/>
                </a:lnTo>
                <a:lnTo>
                  <a:pt x="184" y="2"/>
                </a:lnTo>
                <a:lnTo>
                  <a:pt x="184" y="2"/>
                </a:lnTo>
                <a:lnTo>
                  <a:pt x="184" y="0"/>
                </a:lnTo>
                <a:close/>
                <a:moveTo>
                  <a:pt x="0" y="557"/>
                </a:moveTo>
                <a:lnTo>
                  <a:pt x="7" y="562"/>
                </a:lnTo>
                <a:lnTo>
                  <a:pt x="32" y="578"/>
                </a:lnTo>
                <a:lnTo>
                  <a:pt x="59" y="591"/>
                </a:lnTo>
                <a:lnTo>
                  <a:pt x="88" y="601"/>
                </a:lnTo>
                <a:lnTo>
                  <a:pt x="117" y="608"/>
                </a:lnTo>
                <a:lnTo>
                  <a:pt x="147" y="614"/>
                </a:lnTo>
                <a:lnTo>
                  <a:pt x="180" y="614"/>
                </a:lnTo>
                <a:lnTo>
                  <a:pt x="182" y="614"/>
                </a:lnTo>
                <a:lnTo>
                  <a:pt x="182" y="614"/>
                </a:lnTo>
                <a:lnTo>
                  <a:pt x="182" y="612"/>
                </a:lnTo>
                <a:lnTo>
                  <a:pt x="182" y="612"/>
                </a:lnTo>
                <a:lnTo>
                  <a:pt x="182" y="610"/>
                </a:lnTo>
                <a:lnTo>
                  <a:pt x="180" y="608"/>
                </a:lnTo>
                <a:lnTo>
                  <a:pt x="180" y="608"/>
                </a:lnTo>
                <a:lnTo>
                  <a:pt x="180" y="606"/>
                </a:lnTo>
                <a:lnTo>
                  <a:pt x="180" y="605"/>
                </a:lnTo>
                <a:lnTo>
                  <a:pt x="180" y="606"/>
                </a:lnTo>
                <a:lnTo>
                  <a:pt x="149" y="605"/>
                </a:lnTo>
                <a:lnTo>
                  <a:pt x="119" y="599"/>
                </a:lnTo>
                <a:lnTo>
                  <a:pt x="92" y="593"/>
                </a:lnTo>
                <a:lnTo>
                  <a:pt x="63" y="582"/>
                </a:lnTo>
                <a:lnTo>
                  <a:pt x="38" y="570"/>
                </a:lnTo>
                <a:lnTo>
                  <a:pt x="13" y="555"/>
                </a:lnTo>
                <a:lnTo>
                  <a:pt x="0" y="545"/>
                </a:lnTo>
                <a:lnTo>
                  <a:pt x="0" y="545"/>
                </a:lnTo>
                <a:lnTo>
                  <a:pt x="0" y="547"/>
                </a:lnTo>
                <a:lnTo>
                  <a:pt x="0" y="549"/>
                </a:lnTo>
                <a:lnTo>
                  <a:pt x="0" y="551"/>
                </a:lnTo>
                <a:lnTo>
                  <a:pt x="0" y="553"/>
                </a:lnTo>
                <a:lnTo>
                  <a:pt x="0" y="555"/>
                </a:lnTo>
                <a:lnTo>
                  <a:pt x="0" y="555"/>
                </a:lnTo>
                <a:lnTo>
                  <a:pt x="0" y="557"/>
                </a:lnTo>
                <a:close/>
              </a:path>
            </a:pathLst>
          </a:custGeom>
          <a:solidFill>
            <a:srgbClr val="b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226"/>
          <p:cNvSpPr/>
          <p:nvPr/>
        </p:nvSpPr>
        <p:spPr>
          <a:xfrm>
            <a:off x="6840360" y="2816280"/>
            <a:ext cx="292320" cy="961920"/>
          </a:xfrm>
          <a:custGeom>
            <a:avLst/>
            <a:gdLst>
              <a:gd name="textAreaLeft" fmla="*/ 0 w 292320"/>
              <a:gd name="textAreaRight" fmla="*/ 292680 w 29232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184" h="606">
                <a:moveTo>
                  <a:pt x="184" y="2"/>
                </a:moveTo>
                <a:lnTo>
                  <a:pt x="182" y="0"/>
                </a:lnTo>
                <a:lnTo>
                  <a:pt x="151" y="2"/>
                </a:lnTo>
                <a:lnTo>
                  <a:pt x="121" y="8"/>
                </a:lnTo>
                <a:lnTo>
                  <a:pt x="92" y="15"/>
                </a:lnTo>
                <a:lnTo>
                  <a:pt x="63" y="25"/>
                </a:lnTo>
                <a:lnTo>
                  <a:pt x="38" y="38"/>
                </a:lnTo>
                <a:lnTo>
                  <a:pt x="19" y="50"/>
                </a:lnTo>
                <a:lnTo>
                  <a:pt x="17" y="50"/>
                </a:lnTo>
                <a:lnTo>
                  <a:pt x="17" y="52"/>
                </a:lnTo>
                <a:lnTo>
                  <a:pt x="17" y="54"/>
                </a:lnTo>
                <a:lnTo>
                  <a:pt x="17" y="56"/>
                </a:lnTo>
                <a:lnTo>
                  <a:pt x="17" y="58"/>
                </a:lnTo>
                <a:lnTo>
                  <a:pt x="17" y="58"/>
                </a:lnTo>
                <a:lnTo>
                  <a:pt x="17" y="59"/>
                </a:lnTo>
                <a:lnTo>
                  <a:pt x="15" y="61"/>
                </a:lnTo>
                <a:lnTo>
                  <a:pt x="17" y="59"/>
                </a:lnTo>
                <a:lnTo>
                  <a:pt x="42" y="46"/>
                </a:lnTo>
                <a:lnTo>
                  <a:pt x="67" y="33"/>
                </a:lnTo>
                <a:lnTo>
                  <a:pt x="94" y="23"/>
                </a:lnTo>
                <a:lnTo>
                  <a:pt x="123" y="15"/>
                </a:lnTo>
                <a:lnTo>
                  <a:pt x="151" y="11"/>
                </a:lnTo>
                <a:lnTo>
                  <a:pt x="182" y="10"/>
                </a:lnTo>
                <a:lnTo>
                  <a:pt x="182" y="10"/>
                </a:lnTo>
                <a:lnTo>
                  <a:pt x="182" y="10"/>
                </a:lnTo>
                <a:lnTo>
                  <a:pt x="184" y="8"/>
                </a:lnTo>
                <a:lnTo>
                  <a:pt x="184" y="8"/>
                </a:lnTo>
                <a:lnTo>
                  <a:pt x="184" y="6"/>
                </a:lnTo>
                <a:lnTo>
                  <a:pt x="184" y="4"/>
                </a:lnTo>
                <a:lnTo>
                  <a:pt x="184" y="4"/>
                </a:lnTo>
                <a:lnTo>
                  <a:pt x="184" y="2"/>
                </a:lnTo>
                <a:lnTo>
                  <a:pt x="184" y="2"/>
                </a:lnTo>
                <a:close/>
                <a:moveTo>
                  <a:pt x="2" y="547"/>
                </a:moveTo>
                <a:lnTo>
                  <a:pt x="13" y="554"/>
                </a:lnTo>
                <a:lnTo>
                  <a:pt x="38" y="570"/>
                </a:lnTo>
                <a:lnTo>
                  <a:pt x="63" y="583"/>
                </a:lnTo>
                <a:lnTo>
                  <a:pt x="92" y="593"/>
                </a:lnTo>
                <a:lnTo>
                  <a:pt x="121" y="601"/>
                </a:lnTo>
                <a:lnTo>
                  <a:pt x="151" y="604"/>
                </a:lnTo>
                <a:lnTo>
                  <a:pt x="182" y="606"/>
                </a:lnTo>
                <a:lnTo>
                  <a:pt x="184" y="606"/>
                </a:lnTo>
                <a:lnTo>
                  <a:pt x="182" y="604"/>
                </a:lnTo>
                <a:lnTo>
                  <a:pt x="182" y="604"/>
                </a:lnTo>
                <a:lnTo>
                  <a:pt x="182" y="602"/>
                </a:lnTo>
                <a:lnTo>
                  <a:pt x="182" y="601"/>
                </a:lnTo>
                <a:lnTo>
                  <a:pt x="182" y="601"/>
                </a:lnTo>
                <a:lnTo>
                  <a:pt x="182" y="599"/>
                </a:lnTo>
                <a:lnTo>
                  <a:pt x="182" y="599"/>
                </a:lnTo>
                <a:lnTo>
                  <a:pt x="182" y="597"/>
                </a:lnTo>
                <a:lnTo>
                  <a:pt x="151" y="595"/>
                </a:lnTo>
                <a:lnTo>
                  <a:pt x="123" y="591"/>
                </a:lnTo>
                <a:lnTo>
                  <a:pt x="94" y="583"/>
                </a:lnTo>
                <a:lnTo>
                  <a:pt x="67" y="574"/>
                </a:lnTo>
                <a:lnTo>
                  <a:pt x="42" y="562"/>
                </a:lnTo>
                <a:lnTo>
                  <a:pt x="17" y="547"/>
                </a:lnTo>
                <a:lnTo>
                  <a:pt x="0" y="533"/>
                </a:lnTo>
                <a:lnTo>
                  <a:pt x="0" y="535"/>
                </a:lnTo>
                <a:lnTo>
                  <a:pt x="2" y="537"/>
                </a:lnTo>
                <a:lnTo>
                  <a:pt x="2" y="539"/>
                </a:lnTo>
                <a:lnTo>
                  <a:pt x="2" y="541"/>
                </a:lnTo>
                <a:lnTo>
                  <a:pt x="2" y="541"/>
                </a:lnTo>
                <a:lnTo>
                  <a:pt x="2" y="543"/>
                </a:lnTo>
                <a:lnTo>
                  <a:pt x="2" y="545"/>
                </a:lnTo>
                <a:lnTo>
                  <a:pt x="2" y="547"/>
                </a:lnTo>
                <a:close/>
              </a:path>
            </a:pathLst>
          </a:custGeom>
          <a:solidFill>
            <a:srgbClr val="c0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227"/>
          <p:cNvSpPr/>
          <p:nvPr/>
        </p:nvSpPr>
        <p:spPr>
          <a:xfrm>
            <a:off x="6840360" y="2825640"/>
            <a:ext cx="292320" cy="946440"/>
          </a:xfrm>
          <a:custGeom>
            <a:avLst/>
            <a:gdLst>
              <a:gd name="textAreaLeft" fmla="*/ 0 w 292320"/>
              <a:gd name="textAreaRight" fmla="*/ 292680 w 292320"/>
              <a:gd name="textAreaTop" fmla="*/ 0 h 946440"/>
              <a:gd name="textAreaBottom" fmla="*/ 946440 h 946440"/>
            </a:gdLst>
            <a:ahLst/>
            <a:rect l="textAreaLeft" t="textAreaTop" r="textAreaRight" b="textAreaBottom"/>
            <a:pathLst>
              <a:path w="184" h="596">
                <a:moveTo>
                  <a:pt x="184" y="0"/>
                </a:moveTo>
                <a:lnTo>
                  <a:pt x="182" y="0"/>
                </a:lnTo>
                <a:lnTo>
                  <a:pt x="151" y="2"/>
                </a:lnTo>
                <a:lnTo>
                  <a:pt x="121" y="5"/>
                </a:lnTo>
                <a:lnTo>
                  <a:pt x="94" y="13"/>
                </a:lnTo>
                <a:lnTo>
                  <a:pt x="65" y="23"/>
                </a:lnTo>
                <a:lnTo>
                  <a:pt x="40" y="36"/>
                </a:lnTo>
                <a:lnTo>
                  <a:pt x="17" y="50"/>
                </a:lnTo>
                <a:lnTo>
                  <a:pt x="17" y="52"/>
                </a:lnTo>
                <a:lnTo>
                  <a:pt x="17" y="53"/>
                </a:lnTo>
                <a:lnTo>
                  <a:pt x="17" y="53"/>
                </a:lnTo>
                <a:lnTo>
                  <a:pt x="15" y="55"/>
                </a:lnTo>
                <a:lnTo>
                  <a:pt x="15" y="57"/>
                </a:lnTo>
                <a:lnTo>
                  <a:pt x="15" y="59"/>
                </a:lnTo>
                <a:lnTo>
                  <a:pt x="15" y="61"/>
                </a:lnTo>
                <a:lnTo>
                  <a:pt x="15" y="63"/>
                </a:lnTo>
                <a:lnTo>
                  <a:pt x="21" y="59"/>
                </a:lnTo>
                <a:lnTo>
                  <a:pt x="44" y="44"/>
                </a:lnTo>
                <a:lnTo>
                  <a:pt x="69" y="32"/>
                </a:lnTo>
                <a:lnTo>
                  <a:pt x="96" y="23"/>
                </a:lnTo>
                <a:lnTo>
                  <a:pt x="123" y="15"/>
                </a:lnTo>
                <a:lnTo>
                  <a:pt x="151" y="11"/>
                </a:lnTo>
                <a:lnTo>
                  <a:pt x="182" y="9"/>
                </a:lnTo>
                <a:lnTo>
                  <a:pt x="182" y="9"/>
                </a:lnTo>
                <a:lnTo>
                  <a:pt x="182" y="7"/>
                </a:lnTo>
                <a:lnTo>
                  <a:pt x="182" y="7"/>
                </a:lnTo>
                <a:lnTo>
                  <a:pt x="182" y="5"/>
                </a:lnTo>
                <a:lnTo>
                  <a:pt x="182" y="4"/>
                </a:lnTo>
                <a:lnTo>
                  <a:pt x="182" y="4"/>
                </a:lnTo>
                <a:lnTo>
                  <a:pt x="184" y="2"/>
                </a:lnTo>
                <a:lnTo>
                  <a:pt x="184" y="2"/>
                </a:lnTo>
                <a:lnTo>
                  <a:pt x="184" y="0"/>
                </a:lnTo>
                <a:close/>
                <a:moveTo>
                  <a:pt x="2" y="535"/>
                </a:moveTo>
                <a:lnTo>
                  <a:pt x="15" y="545"/>
                </a:lnTo>
                <a:lnTo>
                  <a:pt x="40" y="560"/>
                </a:lnTo>
                <a:lnTo>
                  <a:pt x="65" y="572"/>
                </a:lnTo>
                <a:lnTo>
                  <a:pt x="94" y="583"/>
                </a:lnTo>
                <a:lnTo>
                  <a:pt x="121" y="589"/>
                </a:lnTo>
                <a:lnTo>
                  <a:pt x="151" y="595"/>
                </a:lnTo>
                <a:lnTo>
                  <a:pt x="182" y="596"/>
                </a:lnTo>
                <a:lnTo>
                  <a:pt x="182" y="595"/>
                </a:lnTo>
                <a:lnTo>
                  <a:pt x="182" y="595"/>
                </a:lnTo>
                <a:lnTo>
                  <a:pt x="182" y="593"/>
                </a:lnTo>
                <a:lnTo>
                  <a:pt x="182" y="593"/>
                </a:lnTo>
                <a:lnTo>
                  <a:pt x="182" y="591"/>
                </a:lnTo>
                <a:lnTo>
                  <a:pt x="180" y="589"/>
                </a:lnTo>
                <a:lnTo>
                  <a:pt x="180" y="589"/>
                </a:lnTo>
                <a:lnTo>
                  <a:pt x="180" y="587"/>
                </a:lnTo>
                <a:lnTo>
                  <a:pt x="180" y="587"/>
                </a:lnTo>
                <a:lnTo>
                  <a:pt x="151" y="585"/>
                </a:lnTo>
                <a:lnTo>
                  <a:pt x="123" y="581"/>
                </a:lnTo>
                <a:lnTo>
                  <a:pt x="96" y="573"/>
                </a:lnTo>
                <a:lnTo>
                  <a:pt x="69" y="564"/>
                </a:lnTo>
                <a:lnTo>
                  <a:pt x="44" y="550"/>
                </a:lnTo>
                <a:lnTo>
                  <a:pt x="21" y="537"/>
                </a:lnTo>
                <a:lnTo>
                  <a:pt x="0" y="522"/>
                </a:lnTo>
                <a:lnTo>
                  <a:pt x="0" y="524"/>
                </a:lnTo>
                <a:lnTo>
                  <a:pt x="0" y="525"/>
                </a:lnTo>
                <a:lnTo>
                  <a:pt x="0" y="525"/>
                </a:lnTo>
                <a:lnTo>
                  <a:pt x="0" y="527"/>
                </a:lnTo>
                <a:lnTo>
                  <a:pt x="0" y="529"/>
                </a:lnTo>
                <a:lnTo>
                  <a:pt x="2" y="531"/>
                </a:lnTo>
                <a:lnTo>
                  <a:pt x="2" y="533"/>
                </a:lnTo>
                <a:lnTo>
                  <a:pt x="2" y="535"/>
                </a:lnTo>
                <a:close/>
              </a:path>
            </a:pathLst>
          </a:custGeom>
          <a:solidFill>
            <a:srgbClr val="c1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228"/>
          <p:cNvSpPr/>
          <p:nvPr/>
        </p:nvSpPr>
        <p:spPr>
          <a:xfrm>
            <a:off x="6840360" y="2832120"/>
            <a:ext cx="289080" cy="931680"/>
          </a:xfrm>
          <a:custGeom>
            <a:avLst/>
            <a:gdLst>
              <a:gd name="textAreaLeft" fmla="*/ 0 w 289080"/>
              <a:gd name="textAreaRight" fmla="*/ 289440 w 28908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182" h="587">
                <a:moveTo>
                  <a:pt x="182" y="0"/>
                </a:moveTo>
                <a:lnTo>
                  <a:pt x="182" y="0"/>
                </a:lnTo>
                <a:lnTo>
                  <a:pt x="151" y="1"/>
                </a:lnTo>
                <a:lnTo>
                  <a:pt x="123" y="5"/>
                </a:lnTo>
                <a:lnTo>
                  <a:pt x="94" y="13"/>
                </a:lnTo>
                <a:lnTo>
                  <a:pt x="67" y="23"/>
                </a:lnTo>
                <a:lnTo>
                  <a:pt x="42" y="36"/>
                </a:lnTo>
                <a:lnTo>
                  <a:pt x="17" y="49"/>
                </a:lnTo>
                <a:lnTo>
                  <a:pt x="15" y="51"/>
                </a:lnTo>
                <a:lnTo>
                  <a:pt x="15" y="53"/>
                </a:lnTo>
                <a:lnTo>
                  <a:pt x="15" y="55"/>
                </a:lnTo>
                <a:lnTo>
                  <a:pt x="15" y="57"/>
                </a:lnTo>
                <a:lnTo>
                  <a:pt x="15" y="59"/>
                </a:lnTo>
                <a:lnTo>
                  <a:pt x="15" y="61"/>
                </a:lnTo>
                <a:lnTo>
                  <a:pt x="15" y="61"/>
                </a:lnTo>
                <a:lnTo>
                  <a:pt x="13" y="63"/>
                </a:lnTo>
                <a:lnTo>
                  <a:pt x="13" y="65"/>
                </a:lnTo>
                <a:lnTo>
                  <a:pt x="23" y="59"/>
                </a:lnTo>
                <a:lnTo>
                  <a:pt x="46" y="44"/>
                </a:lnTo>
                <a:lnTo>
                  <a:pt x="71" y="32"/>
                </a:lnTo>
                <a:lnTo>
                  <a:pt x="98" y="23"/>
                </a:lnTo>
                <a:lnTo>
                  <a:pt x="124" y="15"/>
                </a:lnTo>
                <a:lnTo>
                  <a:pt x="153" y="11"/>
                </a:lnTo>
                <a:lnTo>
                  <a:pt x="180" y="9"/>
                </a:lnTo>
                <a:lnTo>
                  <a:pt x="182" y="9"/>
                </a:lnTo>
                <a:lnTo>
                  <a:pt x="182" y="7"/>
                </a:lnTo>
                <a:lnTo>
                  <a:pt x="182" y="5"/>
                </a:lnTo>
                <a:lnTo>
                  <a:pt x="182" y="5"/>
                </a:lnTo>
                <a:lnTo>
                  <a:pt x="182" y="3"/>
                </a:lnTo>
                <a:lnTo>
                  <a:pt x="182" y="3"/>
                </a:lnTo>
                <a:lnTo>
                  <a:pt x="182" y="1"/>
                </a:lnTo>
                <a:lnTo>
                  <a:pt x="182" y="0"/>
                </a:lnTo>
                <a:close/>
                <a:moveTo>
                  <a:pt x="0" y="523"/>
                </a:moveTo>
                <a:lnTo>
                  <a:pt x="17" y="537"/>
                </a:lnTo>
                <a:lnTo>
                  <a:pt x="42" y="552"/>
                </a:lnTo>
                <a:lnTo>
                  <a:pt x="67" y="564"/>
                </a:lnTo>
                <a:lnTo>
                  <a:pt x="94" y="573"/>
                </a:lnTo>
                <a:lnTo>
                  <a:pt x="123" y="581"/>
                </a:lnTo>
                <a:lnTo>
                  <a:pt x="151" y="585"/>
                </a:lnTo>
                <a:lnTo>
                  <a:pt x="182" y="587"/>
                </a:lnTo>
                <a:lnTo>
                  <a:pt x="180" y="585"/>
                </a:lnTo>
                <a:lnTo>
                  <a:pt x="180" y="585"/>
                </a:lnTo>
                <a:lnTo>
                  <a:pt x="180" y="583"/>
                </a:lnTo>
                <a:lnTo>
                  <a:pt x="180" y="583"/>
                </a:lnTo>
                <a:lnTo>
                  <a:pt x="180" y="581"/>
                </a:lnTo>
                <a:lnTo>
                  <a:pt x="180" y="579"/>
                </a:lnTo>
                <a:lnTo>
                  <a:pt x="180" y="579"/>
                </a:lnTo>
                <a:lnTo>
                  <a:pt x="180" y="577"/>
                </a:lnTo>
                <a:lnTo>
                  <a:pt x="153" y="575"/>
                </a:lnTo>
                <a:lnTo>
                  <a:pt x="124" y="571"/>
                </a:lnTo>
                <a:lnTo>
                  <a:pt x="98" y="564"/>
                </a:lnTo>
                <a:lnTo>
                  <a:pt x="71" y="554"/>
                </a:lnTo>
                <a:lnTo>
                  <a:pt x="46" y="543"/>
                </a:lnTo>
                <a:lnTo>
                  <a:pt x="23" y="529"/>
                </a:lnTo>
                <a:lnTo>
                  <a:pt x="2" y="512"/>
                </a:lnTo>
                <a:lnTo>
                  <a:pt x="0" y="510"/>
                </a:lnTo>
                <a:lnTo>
                  <a:pt x="0" y="512"/>
                </a:lnTo>
                <a:lnTo>
                  <a:pt x="0" y="514"/>
                </a:lnTo>
                <a:lnTo>
                  <a:pt x="0" y="516"/>
                </a:lnTo>
                <a:lnTo>
                  <a:pt x="0" y="518"/>
                </a:lnTo>
                <a:lnTo>
                  <a:pt x="0" y="520"/>
                </a:lnTo>
                <a:lnTo>
                  <a:pt x="0" y="521"/>
                </a:lnTo>
                <a:lnTo>
                  <a:pt x="0" y="521"/>
                </a:lnTo>
                <a:lnTo>
                  <a:pt x="0" y="523"/>
                </a:lnTo>
                <a:close/>
              </a:path>
            </a:pathLst>
          </a:custGeom>
          <a:solidFill>
            <a:srgbClr val="c2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229"/>
          <p:cNvSpPr/>
          <p:nvPr/>
        </p:nvSpPr>
        <p:spPr>
          <a:xfrm>
            <a:off x="6837480" y="2840040"/>
            <a:ext cx="291960" cy="917640"/>
          </a:xfrm>
          <a:custGeom>
            <a:avLst/>
            <a:gdLst>
              <a:gd name="textAreaLeft" fmla="*/ 0 w 291960"/>
              <a:gd name="textAreaRight" fmla="*/ 291960 w 29196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184" h="578">
                <a:moveTo>
                  <a:pt x="184" y="0"/>
                </a:moveTo>
                <a:lnTo>
                  <a:pt x="184" y="0"/>
                </a:lnTo>
                <a:lnTo>
                  <a:pt x="153" y="2"/>
                </a:lnTo>
                <a:lnTo>
                  <a:pt x="125" y="6"/>
                </a:lnTo>
                <a:lnTo>
                  <a:pt x="98" y="14"/>
                </a:lnTo>
                <a:lnTo>
                  <a:pt x="71" y="23"/>
                </a:lnTo>
                <a:lnTo>
                  <a:pt x="46" y="35"/>
                </a:lnTo>
                <a:lnTo>
                  <a:pt x="23" y="50"/>
                </a:lnTo>
                <a:lnTo>
                  <a:pt x="17" y="54"/>
                </a:lnTo>
                <a:lnTo>
                  <a:pt x="17" y="56"/>
                </a:lnTo>
                <a:lnTo>
                  <a:pt x="15" y="56"/>
                </a:lnTo>
                <a:lnTo>
                  <a:pt x="15" y="58"/>
                </a:lnTo>
                <a:lnTo>
                  <a:pt x="15" y="60"/>
                </a:lnTo>
                <a:lnTo>
                  <a:pt x="15" y="62"/>
                </a:lnTo>
                <a:lnTo>
                  <a:pt x="15" y="64"/>
                </a:lnTo>
                <a:lnTo>
                  <a:pt x="15" y="66"/>
                </a:lnTo>
                <a:lnTo>
                  <a:pt x="15" y="67"/>
                </a:lnTo>
                <a:lnTo>
                  <a:pt x="27" y="58"/>
                </a:lnTo>
                <a:lnTo>
                  <a:pt x="50" y="43"/>
                </a:lnTo>
                <a:lnTo>
                  <a:pt x="75" y="31"/>
                </a:lnTo>
                <a:lnTo>
                  <a:pt x="100" y="21"/>
                </a:lnTo>
                <a:lnTo>
                  <a:pt x="126" y="16"/>
                </a:lnTo>
                <a:lnTo>
                  <a:pt x="155" y="12"/>
                </a:lnTo>
                <a:lnTo>
                  <a:pt x="182" y="10"/>
                </a:lnTo>
                <a:lnTo>
                  <a:pt x="182" y="8"/>
                </a:lnTo>
                <a:lnTo>
                  <a:pt x="182" y="8"/>
                </a:lnTo>
                <a:lnTo>
                  <a:pt x="182" y="6"/>
                </a:lnTo>
                <a:lnTo>
                  <a:pt x="182" y="4"/>
                </a:lnTo>
                <a:lnTo>
                  <a:pt x="184" y="4"/>
                </a:lnTo>
                <a:lnTo>
                  <a:pt x="184" y="2"/>
                </a:lnTo>
                <a:lnTo>
                  <a:pt x="184" y="0"/>
                </a:lnTo>
                <a:lnTo>
                  <a:pt x="184" y="0"/>
                </a:lnTo>
                <a:close/>
                <a:moveTo>
                  <a:pt x="2" y="513"/>
                </a:moveTo>
                <a:lnTo>
                  <a:pt x="23" y="528"/>
                </a:lnTo>
                <a:lnTo>
                  <a:pt x="46" y="541"/>
                </a:lnTo>
                <a:lnTo>
                  <a:pt x="71" y="555"/>
                </a:lnTo>
                <a:lnTo>
                  <a:pt x="98" y="564"/>
                </a:lnTo>
                <a:lnTo>
                  <a:pt x="125" y="572"/>
                </a:lnTo>
                <a:lnTo>
                  <a:pt x="153" y="576"/>
                </a:lnTo>
                <a:lnTo>
                  <a:pt x="182" y="578"/>
                </a:lnTo>
                <a:lnTo>
                  <a:pt x="182" y="576"/>
                </a:lnTo>
                <a:lnTo>
                  <a:pt x="182" y="574"/>
                </a:lnTo>
                <a:lnTo>
                  <a:pt x="182" y="574"/>
                </a:lnTo>
                <a:lnTo>
                  <a:pt x="182" y="572"/>
                </a:lnTo>
                <a:lnTo>
                  <a:pt x="182" y="570"/>
                </a:lnTo>
                <a:lnTo>
                  <a:pt x="180" y="570"/>
                </a:lnTo>
                <a:lnTo>
                  <a:pt x="180" y="568"/>
                </a:lnTo>
                <a:lnTo>
                  <a:pt x="180" y="568"/>
                </a:lnTo>
                <a:lnTo>
                  <a:pt x="155" y="566"/>
                </a:lnTo>
                <a:lnTo>
                  <a:pt x="126" y="563"/>
                </a:lnTo>
                <a:lnTo>
                  <a:pt x="100" y="555"/>
                </a:lnTo>
                <a:lnTo>
                  <a:pt x="75" y="545"/>
                </a:lnTo>
                <a:lnTo>
                  <a:pt x="50" y="534"/>
                </a:lnTo>
                <a:lnTo>
                  <a:pt x="27" y="520"/>
                </a:lnTo>
                <a:lnTo>
                  <a:pt x="6" y="503"/>
                </a:lnTo>
                <a:lnTo>
                  <a:pt x="0" y="499"/>
                </a:lnTo>
                <a:lnTo>
                  <a:pt x="0" y="501"/>
                </a:lnTo>
                <a:lnTo>
                  <a:pt x="2" y="503"/>
                </a:lnTo>
                <a:lnTo>
                  <a:pt x="2" y="505"/>
                </a:lnTo>
                <a:lnTo>
                  <a:pt x="2" y="505"/>
                </a:lnTo>
                <a:lnTo>
                  <a:pt x="2" y="507"/>
                </a:lnTo>
                <a:lnTo>
                  <a:pt x="2" y="509"/>
                </a:lnTo>
                <a:lnTo>
                  <a:pt x="2" y="511"/>
                </a:lnTo>
                <a:lnTo>
                  <a:pt x="2" y="513"/>
                </a:lnTo>
                <a:close/>
              </a:path>
            </a:pathLst>
          </a:custGeom>
          <a:solidFill>
            <a:srgbClr val="c3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30"/>
          <p:cNvSpPr/>
          <p:nvPr/>
        </p:nvSpPr>
        <p:spPr>
          <a:xfrm>
            <a:off x="6837480" y="2846520"/>
            <a:ext cx="288720" cy="901440"/>
          </a:xfrm>
          <a:custGeom>
            <a:avLst/>
            <a:gdLst>
              <a:gd name="textAreaLeft" fmla="*/ 0 w 288720"/>
              <a:gd name="textAreaRight" fmla="*/ 289080 w 288720"/>
              <a:gd name="textAreaTop" fmla="*/ 0 h 901440"/>
              <a:gd name="textAreaBottom" fmla="*/ 901800 h 901440"/>
            </a:gdLst>
            <a:ahLst/>
            <a:rect l="textAreaLeft" t="textAreaTop" r="textAreaRight" b="textAreaBottom"/>
            <a:pathLst>
              <a:path w="182" h="568">
                <a:moveTo>
                  <a:pt x="182" y="0"/>
                </a:moveTo>
                <a:lnTo>
                  <a:pt x="155" y="2"/>
                </a:lnTo>
                <a:lnTo>
                  <a:pt x="126" y="6"/>
                </a:lnTo>
                <a:lnTo>
                  <a:pt x="100" y="14"/>
                </a:lnTo>
                <a:lnTo>
                  <a:pt x="73" y="23"/>
                </a:lnTo>
                <a:lnTo>
                  <a:pt x="48" y="35"/>
                </a:lnTo>
                <a:lnTo>
                  <a:pt x="25" y="50"/>
                </a:lnTo>
                <a:lnTo>
                  <a:pt x="15" y="56"/>
                </a:lnTo>
                <a:lnTo>
                  <a:pt x="15" y="58"/>
                </a:lnTo>
                <a:lnTo>
                  <a:pt x="15" y="60"/>
                </a:lnTo>
                <a:lnTo>
                  <a:pt x="15" y="62"/>
                </a:lnTo>
                <a:lnTo>
                  <a:pt x="15" y="63"/>
                </a:lnTo>
                <a:lnTo>
                  <a:pt x="15" y="65"/>
                </a:lnTo>
                <a:lnTo>
                  <a:pt x="13" y="65"/>
                </a:lnTo>
                <a:lnTo>
                  <a:pt x="13" y="67"/>
                </a:lnTo>
                <a:lnTo>
                  <a:pt x="13" y="69"/>
                </a:lnTo>
                <a:lnTo>
                  <a:pt x="30" y="58"/>
                </a:lnTo>
                <a:lnTo>
                  <a:pt x="54" y="44"/>
                </a:lnTo>
                <a:lnTo>
                  <a:pt x="77" y="31"/>
                </a:lnTo>
                <a:lnTo>
                  <a:pt x="101" y="23"/>
                </a:lnTo>
                <a:lnTo>
                  <a:pt x="128" y="15"/>
                </a:lnTo>
                <a:lnTo>
                  <a:pt x="155" y="12"/>
                </a:lnTo>
                <a:lnTo>
                  <a:pt x="182" y="10"/>
                </a:lnTo>
                <a:lnTo>
                  <a:pt x="182" y="10"/>
                </a:lnTo>
                <a:lnTo>
                  <a:pt x="182" y="8"/>
                </a:lnTo>
                <a:lnTo>
                  <a:pt x="182" y="6"/>
                </a:lnTo>
                <a:lnTo>
                  <a:pt x="182" y="6"/>
                </a:lnTo>
                <a:lnTo>
                  <a:pt x="182" y="4"/>
                </a:lnTo>
                <a:lnTo>
                  <a:pt x="182" y="4"/>
                </a:lnTo>
                <a:lnTo>
                  <a:pt x="182" y="2"/>
                </a:lnTo>
                <a:lnTo>
                  <a:pt x="182" y="0"/>
                </a:lnTo>
                <a:close/>
                <a:moveTo>
                  <a:pt x="2" y="501"/>
                </a:moveTo>
                <a:lnTo>
                  <a:pt x="4" y="503"/>
                </a:lnTo>
                <a:lnTo>
                  <a:pt x="25" y="520"/>
                </a:lnTo>
                <a:lnTo>
                  <a:pt x="48" y="534"/>
                </a:lnTo>
                <a:lnTo>
                  <a:pt x="73" y="545"/>
                </a:lnTo>
                <a:lnTo>
                  <a:pt x="100" y="555"/>
                </a:lnTo>
                <a:lnTo>
                  <a:pt x="126" y="562"/>
                </a:lnTo>
                <a:lnTo>
                  <a:pt x="155" y="566"/>
                </a:lnTo>
                <a:lnTo>
                  <a:pt x="182" y="568"/>
                </a:lnTo>
                <a:lnTo>
                  <a:pt x="182" y="566"/>
                </a:lnTo>
                <a:lnTo>
                  <a:pt x="180" y="566"/>
                </a:lnTo>
                <a:lnTo>
                  <a:pt x="180" y="564"/>
                </a:lnTo>
                <a:lnTo>
                  <a:pt x="180" y="564"/>
                </a:lnTo>
                <a:lnTo>
                  <a:pt x="180" y="562"/>
                </a:lnTo>
                <a:lnTo>
                  <a:pt x="180" y="560"/>
                </a:lnTo>
                <a:lnTo>
                  <a:pt x="180" y="560"/>
                </a:lnTo>
                <a:lnTo>
                  <a:pt x="180" y="559"/>
                </a:lnTo>
                <a:lnTo>
                  <a:pt x="155" y="557"/>
                </a:lnTo>
                <a:lnTo>
                  <a:pt x="128" y="553"/>
                </a:lnTo>
                <a:lnTo>
                  <a:pt x="101" y="547"/>
                </a:lnTo>
                <a:lnTo>
                  <a:pt x="77" y="537"/>
                </a:lnTo>
                <a:lnTo>
                  <a:pt x="54" y="526"/>
                </a:lnTo>
                <a:lnTo>
                  <a:pt x="30" y="512"/>
                </a:lnTo>
                <a:lnTo>
                  <a:pt x="9" y="497"/>
                </a:lnTo>
                <a:lnTo>
                  <a:pt x="0" y="488"/>
                </a:lnTo>
                <a:lnTo>
                  <a:pt x="0" y="489"/>
                </a:lnTo>
                <a:lnTo>
                  <a:pt x="0" y="491"/>
                </a:lnTo>
                <a:lnTo>
                  <a:pt x="0" y="493"/>
                </a:lnTo>
                <a:lnTo>
                  <a:pt x="0" y="495"/>
                </a:lnTo>
                <a:lnTo>
                  <a:pt x="0" y="497"/>
                </a:lnTo>
                <a:lnTo>
                  <a:pt x="2" y="499"/>
                </a:lnTo>
                <a:lnTo>
                  <a:pt x="2" y="501"/>
                </a:lnTo>
                <a:lnTo>
                  <a:pt x="2" y="501"/>
                </a:lnTo>
                <a:close/>
              </a:path>
            </a:pathLst>
          </a:custGeom>
          <a:solidFill>
            <a:srgbClr val="c4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231"/>
          <p:cNvSpPr/>
          <p:nvPr/>
        </p:nvSpPr>
        <p:spPr>
          <a:xfrm>
            <a:off x="6837480" y="2855880"/>
            <a:ext cx="288720" cy="885960"/>
          </a:xfrm>
          <a:custGeom>
            <a:avLst/>
            <a:gdLst>
              <a:gd name="textAreaLeft" fmla="*/ 0 w 288720"/>
              <a:gd name="textAreaRight" fmla="*/ 289080 w 28872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82" h="558">
                <a:moveTo>
                  <a:pt x="182" y="0"/>
                </a:moveTo>
                <a:lnTo>
                  <a:pt x="155" y="2"/>
                </a:lnTo>
                <a:lnTo>
                  <a:pt x="126" y="6"/>
                </a:lnTo>
                <a:lnTo>
                  <a:pt x="100" y="11"/>
                </a:lnTo>
                <a:lnTo>
                  <a:pt x="75" y="21"/>
                </a:lnTo>
                <a:lnTo>
                  <a:pt x="50" y="33"/>
                </a:lnTo>
                <a:lnTo>
                  <a:pt x="27" y="48"/>
                </a:lnTo>
                <a:lnTo>
                  <a:pt x="15" y="57"/>
                </a:lnTo>
                <a:lnTo>
                  <a:pt x="15" y="59"/>
                </a:lnTo>
                <a:lnTo>
                  <a:pt x="13" y="59"/>
                </a:lnTo>
                <a:lnTo>
                  <a:pt x="13" y="61"/>
                </a:lnTo>
                <a:lnTo>
                  <a:pt x="13" y="63"/>
                </a:lnTo>
                <a:lnTo>
                  <a:pt x="13" y="65"/>
                </a:lnTo>
                <a:lnTo>
                  <a:pt x="13" y="67"/>
                </a:lnTo>
                <a:lnTo>
                  <a:pt x="13" y="69"/>
                </a:lnTo>
                <a:lnTo>
                  <a:pt x="13" y="71"/>
                </a:lnTo>
                <a:lnTo>
                  <a:pt x="32" y="56"/>
                </a:lnTo>
                <a:lnTo>
                  <a:pt x="55" y="42"/>
                </a:lnTo>
                <a:lnTo>
                  <a:pt x="78" y="31"/>
                </a:lnTo>
                <a:lnTo>
                  <a:pt x="103" y="21"/>
                </a:lnTo>
                <a:lnTo>
                  <a:pt x="128" y="15"/>
                </a:lnTo>
                <a:lnTo>
                  <a:pt x="155" y="9"/>
                </a:lnTo>
                <a:lnTo>
                  <a:pt x="180" y="9"/>
                </a:lnTo>
                <a:lnTo>
                  <a:pt x="180" y="8"/>
                </a:lnTo>
                <a:lnTo>
                  <a:pt x="180" y="8"/>
                </a:lnTo>
                <a:lnTo>
                  <a:pt x="180" y="6"/>
                </a:lnTo>
                <a:lnTo>
                  <a:pt x="182" y="4"/>
                </a:lnTo>
                <a:lnTo>
                  <a:pt x="182" y="4"/>
                </a:lnTo>
                <a:lnTo>
                  <a:pt x="182" y="2"/>
                </a:lnTo>
                <a:lnTo>
                  <a:pt x="182" y="0"/>
                </a:lnTo>
                <a:lnTo>
                  <a:pt x="182" y="0"/>
                </a:lnTo>
                <a:close/>
                <a:moveTo>
                  <a:pt x="0" y="489"/>
                </a:moveTo>
                <a:lnTo>
                  <a:pt x="6" y="493"/>
                </a:lnTo>
                <a:lnTo>
                  <a:pt x="27" y="510"/>
                </a:lnTo>
                <a:lnTo>
                  <a:pt x="50" y="524"/>
                </a:lnTo>
                <a:lnTo>
                  <a:pt x="75" y="535"/>
                </a:lnTo>
                <a:lnTo>
                  <a:pt x="100" y="545"/>
                </a:lnTo>
                <a:lnTo>
                  <a:pt x="126" y="553"/>
                </a:lnTo>
                <a:lnTo>
                  <a:pt x="155" y="556"/>
                </a:lnTo>
                <a:lnTo>
                  <a:pt x="180" y="558"/>
                </a:lnTo>
                <a:lnTo>
                  <a:pt x="180" y="556"/>
                </a:lnTo>
                <a:lnTo>
                  <a:pt x="180" y="554"/>
                </a:lnTo>
                <a:lnTo>
                  <a:pt x="180" y="554"/>
                </a:lnTo>
                <a:lnTo>
                  <a:pt x="180" y="553"/>
                </a:lnTo>
                <a:lnTo>
                  <a:pt x="180" y="551"/>
                </a:lnTo>
                <a:lnTo>
                  <a:pt x="178" y="551"/>
                </a:lnTo>
                <a:lnTo>
                  <a:pt x="178" y="549"/>
                </a:lnTo>
                <a:lnTo>
                  <a:pt x="178" y="549"/>
                </a:lnTo>
                <a:lnTo>
                  <a:pt x="155" y="547"/>
                </a:lnTo>
                <a:lnTo>
                  <a:pt x="128" y="543"/>
                </a:lnTo>
                <a:lnTo>
                  <a:pt x="103" y="535"/>
                </a:lnTo>
                <a:lnTo>
                  <a:pt x="78" y="528"/>
                </a:lnTo>
                <a:lnTo>
                  <a:pt x="55" y="516"/>
                </a:lnTo>
                <a:lnTo>
                  <a:pt x="32" y="503"/>
                </a:lnTo>
                <a:lnTo>
                  <a:pt x="11" y="487"/>
                </a:lnTo>
                <a:lnTo>
                  <a:pt x="0" y="476"/>
                </a:lnTo>
                <a:lnTo>
                  <a:pt x="0" y="476"/>
                </a:lnTo>
                <a:lnTo>
                  <a:pt x="0" y="478"/>
                </a:lnTo>
                <a:lnTo>
                  <a:pt x="0" y="480"/>
                </a:lnTo>
                <a:lnTo>
                  <a:pt x="0" y="482"/>
                </a:lnTo>
                <a:lnTo>
                  <a:pt x="0" y="483"/>
                </a:lnTo>
                <a:lnTo>
                  <a:pt x="0" y="485"/>
                </a:lnTo>
                <a:lnTo>
                  <a:pt x="0" y="487"/>
                </a:lnTo>
                <a:lnTo>
                  <a:pt x="0" y="489"/>
                </a:lnTo>
                <a:close/>
              </a:path>
            </a:pathLst>
          </a:custGeom>
          <a:solidFill>
            <a:srgbClr val="c5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32"/>
          <p:cNvSpPr/>
          <p:nvPr/>
        </p:nvSpPr>
        <p:spPr>
          <a:xfrm>
            <a:off x="6834240" y="2862360"/>
            <a:ext cx="291960" cy="871560"/>
          </a:xfrm>
          <a:custGeom>
            <a:avLst/>
            <a:gdLst>
              <a:gd name="textAreaLeft" fmla="*/ 0 w 291960"/>
              <a:gd name="textAreaRight" fmla="*/ 291960 w 291960"/>
              <a:gd name="textAreaTop" fmla="*/ 0 h 871560"/>
              <a:gd name="textAreaBottom" fmla="*/ 871920 h 871560"/>
            </a:gdLst>
            <a:ahLst/>
            <a:rect l="textAreaLeft" t="textAreaTop" r="textAreaRight" b="textAreaBottom"/>
            <a:pathLst>
              <a:path w="184" h="549">
                <a:moveTo>
                  <a:pt x="184" y="0"/>
                </a:moveTo>
                <a:lnTo>
                  <a:pt x="157" y="2"/>
                </a:lnTo>
                <a:lnTo>
                  <a:pt x="130" y="5"/>
                </a:lnTo>
                <a:lnTo>
                  <a:pt x="103" y="13"/>
                </a:lnTo>
                <a:lnTo>
                  <a:pt x="79" y="21"/>
                </a:lnTo>
                <a:lnTo>
                  <a:pt x="56" y="34"/>
                </a:lnTo>
                <a:lnTo>
                  <a:pt x="32" y="48"/>
                </a:lnTo>
                <a:lnTo>
                  <a:pt x="15" y="59"/>
                </a:lnTo>
                <a:lnTo>
                  <a:pt x="15" y="61"/>
                </a:lnTo>
                <a:lnTo>
                  <a:pt x="15" y="63"/>
                </a:lnTo>
                <a:lnTo>
                  <a:pt x="15" y="65"/>
                </a:lnTo>
                <a:lnTo>
                  <a:pt x="15" y="67"/>
                </a:lnTo>
                <a:lnTo>
                  <a:pt x="13" y="69"/>
                </a:lnTo>
                <a:lnTo>
                  <a:pt x="13" y="71"/>
                </a:lnTo>
                <a:lnTo>
                  <a:pt x="13" y="73"/>
                </a:lnTo>
                <a:lnTo>
                  <a:pt x="13" y="73"/>
                </a:lnTo>
                <a:lnTo>
                  <a:pt x="17" y="71"/>
                </a:lnTo>
                <a:lnTo>
                  <a:pt x="38" y="55"/>
                </a:lnTo>
                <a:lnTo>
                  <a:pt x="59" y="42"/>
                </a:lnTo>
                <a:lnTo>
                  <a:pt x="82" y="30"/>
                </a:lnTo>
                <a:lnTo>
                  <a:pt x="107" y="21"/>
                </a:lnTo>
                <a:lnTo>
                  <a:pt x="132" y="15"/>
                </a:lnTo>
                <a:lnTo>
                  <a:pt x="159" y="11"/>
                </a:lnTo>
                <a:lnTo>
                  <a:pt x="182" y="9"/>
                </a:lnTo>
                <a:lnTo>
                  <a:pt x="182" y="9"/>
                </a:lnTo>
                <a:lnTo>
                  <a:pt x="182" y="7"/>
                </a:lnTo>
                <a:lnTo>
                  <a:pt x="182" y="5"/>
                </a:lnTo>
                <a:lnTo>
                  <a:pt x="182" y="5"/>
                </a:lnTo>
                <a:lnTo>
                  <a:pt x="182" y="4"/>
                </a:lnTo>
                <a:lnTo>
                  <a:pt x="182" y="4"/>
                </a:lnTo>
                <a:lnTo>
                  <a:pt x="182" y="2"/>
                </a:lnTo>
                <a:lnTo>
                  <a:pt x="184" y="0"/>
                </a:lnTo>
                <a:close/>
                <a:moveTo>
                  <a:pt x="2" y="478"/>
                </a:moveTo>
                <a:lnTo>
                  <a:pt x="11" y="487"/>
                </a:lnTo>
                <a:lnTo>
                  <a:pt x="32" y="502"/>
                </a:lnTo>
                <a:lnTo>
                  <a:pt x="56" y="516"/>
                </a:lnTo>
                <a:lnTo>
                  <a:pt x="79" y="527"/>
                </a:lnTo>
                <a:lnTo>
                  <a:pt x="103" y="537"/>
                </a:lnTo>
                <a:lnTo>
                  <a:pt x="130" y="543"/>
                </a:lnTo>
                <a:lnTo>
                  <a:pt x="157" y="547"/>
                </a:lnTo>
                <a:lnTo>
                  <a:pt x="182" y="549"/>
                </a:lnTo>
                <a:lnTo>
                  <a:pt x="182" y="547"/>
                </a:lnTo>
                <a:lnTo>
                  <a:pt x="180" y="547"/>
                </a:lnTo>
                <a:lnTo>
                  <a:pt x="180" y="545"/>
                </a:lnTo>
                <a:lnTo>
                  <a:pt x="180" y="545"/>
                </a:lnTo>
                <a:lnTo>
                  <a:pt x="180" y="543"/>
                </a:lnTo>
                <a:lnTo>
                  <a:pt x="180" y="541"/>
                </a:lnTo>
                <a:lnTo>
                  <a:pt x="180" y="541"/>
                </a:lnTo>
                <a:lnTo>
                  <a:pt x="180" y="539"/>
                </a:lnTo>
                <a:lnTo>
                  <a:pt x="159" y="539"/>
                </a:lnTo>
                <a:lnTo>
                  <a:pt x="132" y="533"/>
                </a:lnTo>
                <a:lnTo>
                  <a:pt x="107" y="527"/>
                </a:lnTo>
                <a:lnTo>
                  <a:pt x="82" y="518"/>
                </a:lnTo>
                <a:lnTo>
                  <a:pt x="59" y="508"/>
                </a:lnTo>
                <a:lnTo>
                  <a:pt x="38" y="495"/>
                </a:lnTo>
                <a:lnTo>
                  <a:pt x="17" y="479"/>
                </a:lnTo>
                <a:lnTo>
                  <a:pt x="0" y="464"/>
                </a:lnTo>
                <a:lnTo>
                  <a:pt x="0" y="466"/>
                </a:lnTo>
                <a:lnTo>
                  <a:pt x="2" y="468"/>
                </a:lnTo>
                <a:lnTo>
                  <a:pt x="2" y="470"/>
                </a:lnTo>
                <a:lnTo>
                  <a:pt x="2" y="472"/>
                </a:lnTo>
                <a:lnTo>
                  <a:pt x="2" y="472"/>
                </a:lnTo>
                <a:lnTo>
                  <a:pt x="2" y="474"/>
                </a:lnTo>
                <a:lnTo>
                  <a:pt x="2" y="476"/>
                </a:lnTo>
                <a:lnTo>
                  <a:pt x="2" y="478"/>
                </a:lnTo>
                <a:close/>
              </a:path>
            </a:pathLst>
          </a:custGeom>
          <a:solidFill>
            <a:srgbClr val="c6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33"/>
          <p:cNvSpPr/>
          <p:nvPr/>
        </p:nvSpPr>
        <p:spPr>
          <a:xfrm>
            <a:off x="6834240" y="2870280"/>
            <a:ext cx="288720" cy="857160"/>
          </a:xfrm>
          <a:custGeom>
            <a:avLst/>
            <a:gdLst>
              <a:gd name="textAreaLeft" fmla="*/ 0 w 288720"/>
              <a:gd name="textAreaRight" fmla="*/ 289080 w 28872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182" h="540">
                <a:moveTo>
                  <a:pt x="182" y="0"/>
                </a:moveTo>
                <a:lnTo>
                  <a:pt x="157" y="0"/>
                </a:lnTo>
                <a:lnTo>
                  <a:pt x="130" y="6"/>
                </a:lnTo>
                <a:lnTo>
                  <a:pt x="105" y="12"/>
                </a:lnTo>
                <a:lnTo>
                  <a:pt x="80" y="22"/>
                </a:lnTo>
                <a:lnTo>
                  <a:pt x="57" y="33"/>
                </a:lnTo>
                <a:lnTo>
                  <a:pt x="34" y="47"/>
                </a:lnTo>
                <a:lnTo>
                  <a:pt x="15" y="62"/>
                </a:lnTo>
                <a:lnTo>
                  <a:pt x="13" y="64"/>
                </a:lnTo>
                <a:lnTo>
                  <a:pt x="13" y="66"/>
                </a:lnTo>
                <a:lnTo>
                  <a:pt x="13" y="68"/>
                </a:lnTo>
                <a:lnTo>
                  <a:pt x="13" y="68"/>
                </a:lnTo>
                <a:lnTo>
                  <a:pt x="13" y="70"/>
                </a:lnTo>
                <a:lnTo>
                  <a:pt x="13" y="71"/>
                </a:lnTo>
                <a:lnTo>
                  <a:pt x="13" y="73"/>
                </a:lnTo>
                <a:lnTo>
                  <a:pt x="11" y="75"/>
                </a:lnTo>
                <a:lnTo>
                  <a:pt x="21" y="70"/>
                </a:lnTo>
                <a:lnTo>
                  <a:pt x="40" y="54"/>
                </a:lnTo>
                <a:lnTo>
                  <a:pt x="61" y="41"/>
                </a:lnTo>
                <a:lnTo>
                  <a:pt x="84" y="29"/>
                </a:lnTo>
                <a:lnTo>
                  <a:pt x="107" y="22"/>
                </a:lnTo>
                <a:lnTo>
                  <a:pt x="132" y="14"/>
                </a:lnTo>
                <a:lnTo>
                  <a:pt x="159" y="10"/>
                </a:lnTo>
                <a:lnTo>
                  <a:pt x="180" y="10"/>
                </a:lnTo>
                <a:lnTo>
                  <a:pt x="180" y="8"/>
                </a:lnTo>
                <a:lnTo>
                  <a:pt x="180" y="8"/>
                </a:lnTo>
                <a:lnTo>
                  <a:pt x="182" y="6"/>
                </a:lnTo>
                <a:lnTo>
                  <a:pt x="182" y="4"/>
                </a:lnTo>
                <a:lnTo>
                  <a:pt x="182" y="4"/>
                </a:lnTo>
                <a:lnTo>
                  <a:pt x="182" y="2"/>
                </a:lnTo>
                <a:lnTo>
                  <a:pt x="182" y="0"/>
                </a:lnTo>
                <a:lnTo>
                  <a:pt x="182" y="0"/>
                </a:lnTo>
                <a:close/>
                <a:moveTo>
                  <a:pt x="2" y="467"/>
                </a:moveTo>
                <a:lnTo>
                  <a:pt x="13" y="478"/>
                </a:lnTo>
                <a:lnTo>
                  <a:pt x="34" y="494"/>
                </a:lnTo>
                <a:lnTo>
                  <a:pt x="57" y="507"/>
                </a:lnTo>
                <a:lnTo>
                  <a:pt x="80" y="519"/>
                </a:lnTo>
                <a:lnTo>
                  <a:pt x="105" y="526"/>
                </a:lnTo>
                <a:lnTo>
                  <a:pt x="130" y="534"/>
                </a:lnTo>
                <a:lnTo>
                  <a:pt x="157" y="538"/>
                </a:lnTo>
                <a:lnTo>
                  <a:pt x="180" y="540"/>
                </a:lnTo>
                <a:lnTo>
                  <a:pt x="180" y="538"/>
                </a:lnTo>
                <a:lnTo>
                  <a:pt x="180" y="536"/>
                </a:lnTo>
                <a:lnTo>
                  <a:pt x="180" y="536"/>
                </a:lnTo>
                <a:lnTo>
                  <a:pt x="180" y="534"/>
                </a:lnTo>
                <a:lnTo>
                  <a:pt x="180" y="532"/>
                </a:lnTo>
                <a:lnTo>
                  <a:pt x="180" y="532"/>
                </a:lnTo>
                <a:lnTo>
                  <a:pt x="178" y="530"/>
                </a:lnTo>
                <a:lnTo>
                  <a:pt x="178" y="530"/>
                </a:lnTo>
                <a:lnTo>
                  <a:pt x="159" y="528"/>
                </a:lnTo>
                <a:lnTo>
                  <a:pt x="132" y="524"/>
                </a:lnTo>
                <a:lnTo>
                  <a:pt x="107" y="519"/>
                </a:lnTo>
                <a:lnTo>
                  <a:pt x="84" y="509"/>
                </a:lnTo>
                <a:lnTo>
                  <a:pt x="61" y="497"/>
                </a:lnTo>
                <a:lnTo>
                  <a:pt x="40" y="486"/>
                </a:lnTo>
                <a:lnTo>
                  <a:pt x="21" y="471"/>
                </a:lnTo>
                <a:lnTo>
                  <a:pt x="2" y="453"/>
                </a:lnTo>
                <a:lnTo>
                  <a:pt x="0" y="451"/>
                </a:lnTo>
                <a:lnTo>
                  <a:pt x="0" y="453"/>
                </a:lnTo>
                <a:lnTo>
                  <a:pt x="0" y="455"/>
                </a:lnTo>
                <a:lnTo>
                  <a:pt x="0" y="457"/>
                </a:lnTo>
                <a:lnTo>
                  <a:pt x="0" y="459"/>
                </a:lnTo>
                <a:lnTo>
                  <a:pt x="0" y="461"/>
                </a:lnTo>
                <a:lnTo>
                  <a:pt x="2" y="463"/>
                </a:lnTo>
                <a:lnTo>
                  <a:pt x="2" y="465"/>
                </a:lnTo>
                <a:lnTo>
                  <a:pt x="2" y="467"/>
                </a:lnTo>
                <a:close/>
              </a:path>
            </a:pathLst>
          </a:custGeom>
          <a:solidFill>
            <a:srgbClr val="c7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234"/>
          <p:cNvSpPr/>
          <p:nvPr/>
        </p:nvSpPr>
        <p:spPr>
          <a:xfrm>
            <a:off x="6834240" y="2876400"/>
            <a:ext cx="288720" cy="841680"/>
          </a:xfrm>
          <a:custGeom>
            <a:avLst/>
            <a:gdLst>
              <a:gd name="textAreaLeft" fmla="*/ 0 w 288720"/>
              <a:gd name="textAreaRight" fmla="*/ 289080 w 28872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182" h="530">
                <a:moveTo>
                  <a:pt x="182" y="0"/>
                </a:moveTo>
                <a:lnTo>
                  <a:pt x="159" y="2"/>
                </a:lnTo>
                <a:lnTo>
                  <a:pt x="132" y="6"/>
                </a:lnTo>
                <a:lnTo>
                  <a:pt x="107" y="12"/>
                </a:lnTo>
                <a:lnTo>
                  <a:pt x="82" y="21"/>
                </a:lnTo>
                <a:lnTo>
                  <a:pt x="59" y="33"/>
                </a:lnTo>
                <a:lnTo>
                  <a:pt x="38" y="46"/>
                </a:lnTo>
                <a:lnTo>
                  <a:pt x="17" y="62"/>
                </a:lnTo>
                <a:lnTo>
                  <a:pt x="13" y="64"/>
                </a:lnTo>
                <a:lnTo>
                  <a:pt x="13" y="66"/>
                </a:lnTo>
                <a:lnTo>
                  <a:pt x="13" y="67"/>
                </a:lnTo>
                <a:lnTo>
                  <a:pt x="13" y="69"/>
                </a:lnTo>
                <a:lnTo>
                  <a:pt x="11" y="71"/>
                </a:lnTo>
                <a:lnTo>
                  <a:pt x="11" y="73"/>
                </a:lnTo>
                <a:lnTo>
                  <a:pt x="11" y="75"/>
                </a:lnTo>
                <a:lnTo>
                  <a:pt x="11" y="77"/>
                </a:lnTo>
                <a:lnTo>
                  <a:pt x="11" y="79"/>
                </a:lnTo>
                <a:lnTo>
                  <a:pt x="23" y="69"/>
                </a:lnTo>
                <a:lnTo>
                  <a:pt x="42" y="54"/>
                </a:lnTo>
                <a:lnTo>
                  <a:pt x="63" y="41"/>
                </a:lnTo>
                <a:lnTo>
                  <a:pt x="86" y="31"/>
                </a:lnTo>
                <a:lnTo>
                  <a:pt x="109" y="21"/>
                </a:lnTo>
                <a:lnTo>
                  <a:pt x="134" y="16"/>
                </a:lnTo>
                <a:lnTo>
                  <a:pt x="159" y="12"/>
                </a:lnTo>
                <a:lnTo>
                  <a:pt x="180" y="10"/>
                </a:lnTo>
                <a:lnTo>
                  <a:pt x="180" y="10"/>
                </a:lnTo>
                <a:lnTo>
                  <a:pt x="180" y="8"/>
                </a:lnTo>
                <a:lnTo>
                  <a:pt x="180" y="6"/>
                </a:lnTo>
                <a:lnTo>
                  <a:pt x="180" y="6"/>
                </a:lnTo>
                <a:lnTo>
                  <a:pt x="180" y="4"/>
                </a:lnTo>
                <a:lnTo>
                  <a:pt x="180" y="4"/>
                </a:lnTo>
                <a:lnTo>
                  <a:pt x="182" y="2"/>
                </a:lnTo>
                <a:lnTo>
                  <a:pt x="182" y="0"/>
                </a:lnTo>
                <a:close/>
                <a:moveTo>
                  <a:pt x="0" y="455"/>
                </a:moveTo>
                <a:lnTo>
                  <a:pt x="17" y="470"/>
                </a:lnTo>
                <a:lnTo>
                  <a:pt x="38" y="486"/>
                </a:lnTo>
                <a:lnTo>
                  <a:pt x="59" y="499"/>
                </a:lnTo>
                <a:lnTo>
                  <a:pt x="82" y="509"/>
                </a:lnTo>
                <a:lnTo>
                  <a:pt x="107" y="518"/>
                </a:lnTo>
                <a:lnTo>
                  <a:pt x="132" y="524"/>
                </a:lnTo>
                <a:lnTo>
                  <a:pt x="159" y="530"/>
                </a:lnTo>
                <a:lnTo>
                  <a:pt x="180" y="530"/>
                </a:lnTo>
                <a:lnTo>
                  <a:pt x="180" y="528"/>
                </a:lnTo>
                <a:lnTo>
                  <a:pt x="180" y="528"/>
                </a:lnTo>
                <a:lnTo>
                  <a:pt x="178" y="526"/>
                </a:lnTo>
                <a:lnTo>
                  <a:pt x="178" y="526"/>
                </a:lnTo>
                <a:lnTo>
                  <a:pt x="178" y="524"/>
                </a:lnTo>
                <a:lnTo>
                  <a:pt x="178" y="522"/>
                </a:lnTo>
                <a:lnTo>
                  <a:pt x="178" y="522"/>
                </a:lnTo>
                <a:lnTo>
                  <a:pt x="178" y="520"/>
                </a:lnTo>
                <a:lnTo>
                  <a:pt x="159" y="520"/>
                </a:lnTo>
                <a:lnTo>
                  <a:pt x="134" y="516"/>
                </a:lnTo>
                <a:lnTo>
                  <a:pt x="109" y="509"/>
                </a:lnTo>
                <a:lnTo>
                  <a:pt x="86" y="501"/>
                </a:lnTo>
                <a:lnTo>
                  <a:pt x="63" y="490"/>
                </a:lnTo>
                <a:lnTo>
                  <a:pt x="42" y="478"/>
                </a:lnTo>
                <a:lnTo>
                  <a:pt x="23" y="463"/>
                </a:lnTo>
                <a:lnTo>
                  <a:pt x="6" y="445"/>
                </a:lnTo>
                <a:lnTo>
                  <a:pt x="0" y="440"/>
                </a:lnTo>
                <a:lnTo>
                  <a:pt x="0" y="442"/>
                </a:lnTo>
                <a:lnTo>
                  <a:pt x="0" y="444"/>
                </a:lnTo>
                <a:lnTo>
                  <a:pt x="0" y="445"/>
                </a:lnTo>
                <a:lnTo>
                  <a:pt x="0" y="447"/>
                </a:lnTo>
                <a:lnTo>
                  <a:pt x="0" y="449"/>
                </a:lnTo>
                <a:lnTo>
                  <a:pt x="0" y="451"/>
                </a:lnTo>
                <a:lnTo>
                  <a:pt x="0" y="453"/>
                </a:lnTo>
                <a:lnTo>
                  <a:pt x="0" y="455"/>
                </a:lnTo>
                <a:close/>
              </a:path>
            </a:pathLst>
          </a:custGeom>
          <a:solidFill>
            <a:srgbClr val="c8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235"/>
          <p:cNvSpPr/>
          <p:nvPr/>
        </p:nvSpPr>
        <p:spPr>
          <a:xfrm>
            <a:off x="6834240" y="2886120"/>
            <a:ext cx="285840" cy="825480"/>
          </a:xfrm>
          <a:custGeom>
            <a:avLst/>
            <a:gdLst>
              <a:gd name="textAreaLeft" fmla="*/ 0 w 285840"/>
              <a:gd name="textAreaRight" fmla="*/ 286200 w 28584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80" h="520">
                <a:moveTo>
                  <a:pt x="180" y="0"/>
                </a:moveTo>
                <a:lnTo>
                  <a:pt x="159" y="0"/>
                </a:lnTo>
                <a:lnTo>
                  <a:pt x="132" y="4"/>
                </a:lnTo>
                <a:lnTo>
                  <a:pt x="107" y="12"/>
                </a:lnTo>
                <a:lnTo>
                  <a:pt x="84" y="19"/>
                </a:lnTo>
                <a:lnTo>
                  <a:pt x="61" y="31"/>
                </a:lnTo>
                <a:lnTo>
                  <a:pt x="40" y="44"/>
                </a:lnTo>
                <a:lnTo>
                  <a:pt x="21" y="60"/>
                </a:lnTo>
                <a:lnTo>
                  <a:pt x="11" y="65"/>
                </a:lnTo>
                <a:lnTo>
                  <a:pt x="11" y="67"/>
                </a:lnTo>
                <a:lnTo>
                  <a:pt x="11" y="69"/>
                </a:lnTo>
                <a:lnTo>
                  <a:pt x="11" y="71"/>
                </a:lnTo>
                <a:lnTo>
                  <a:pt x="11" y="73"/>
                </a:lnTo>
                <a:lnTo>
                  <a:pt x="11" y="75"/>
                </a:lnTo>
                <a:lnTo>
                  <a:pt x="11" y="77"/>
                </a:lnTo>
                <a:lnTo>
                  <a:pt x="11" y="79"/>
                </a:lnTo>
                <a:lnTo>
                  <a:pt x="9" y="81"/>
                </a:lnTo>
                <a:lnTo>
                  <a:pt x="27" y="65"/>
                </a:lnTo>
                <a:lnTo>
                  <a:pt x="46" y="52"/>
                </a:lnTo>
                <a:lnTo>
                  <a:pt x="65" y="38"/>
                </a:lnTo>
                <a:lnTo>
                  <a:pt x="88" y="29"/>
                </a:lnTo>
                <a:lnTo>
                  <a:pt x="111" y="19"/>
                </a:lnTo>
                <a:lnTo>
                  <a:pt x="134" y="14"/>
                </a:lnTo>
                <a:lnTo>
                  <a:pt x="159" y="10"/>
                </a:lnTo>
                <a:lnTo>
                  <a:pt x="178" y="10"/>
                </a:lnTo>
                <a:lnTo>
                  <a:pt x="180" y="8"/>
                </a:lnTo>
                <a:lnTo>
                  <a:pt x="180" y="6"/>
                </a:lnTo>
                <a:lnTo>
                  <a:pt x="180" y="6"/>
                </a:lnTo>
                <a:lnTo>
                  <a:pt x="180" y="4"/>
                </a:lnTo>
                <a:lnTo>
                  <a:pt x="180" y="4"/>
                </a:lnTo>
                <a:lnTo>
                  <a:pt x="180" y="2"/>
                </a:lnTo>
                <a:lnTo>
                  <a:pt x="180" y="0"/>
                </a:lnTo>
                <a:lnTo>
                  <a:pt x="180" y="0"/>
                </a:lnTo>
                <a:close/>
                <a:moveTo>
                  <a:pt x="0" y="441"/>
                </a:moveTo>
                <a:lnTo>
                  <a:pt x="2" y="443"/>
                </a:lnTo>
                <a:lnTo>
                  <a:pt x="21" y="461"/>
                </a:lnTo>
                <a:lnTo>
                  <a:pt x="40" y="476"/>
                </a:lnTo>
                <a:lnTo>
                  <a:pt x="61" y="487"/>
                </a:lnTo>
                <a:lnTo>
                  <a:pt x="84" y="499"/>
                </a:lnTo>
                <a:lnTo>
                  <a:pt x="107" y="509"/>
                </a:lnTo>
                <a:lnTo>
                  <a:pt x="132" y="514"/>
                </a:lnTo>
                <a:lnTo>
                  <a:pt x="159" y="518"/>
                </a:lnTo>
                <a:lnTo>
                  <a:pt x="178" y="520"/>
                </a:lnTo>
                <a:lnTo>
                  <a:pt x="178" y="518"/>
                </a:lnTo>
                <a:lnTo>
                  <a:pt x="178" y="516"/>
                </a:lnTo>
                <a:lnTo>
                  <a:pt x="178" y="516"/>
                </a:lnTo>
                <a:lnTo>
                  <a:pt x="178" y="514"/>
                </a:lnTo>
                <a:lnTo>
                  <a:pt x="178" y="514"/>
                </a:lnTo>
                <a:lnTo>
                  <a:pt x="178" y="512"/>
                </a:lnTo>
                <a:lnTo>
                  <a:pt x="178" y="510"/>
                </a:lnTo>
                <a:lnTo>
                  <a:pt x="178" y="510"/>
                </a:lnTo>
                <a:lnTo>
                  <a:pt x="159" y="509"/>
                </a:lnTo>
                <a:lnTo>
                  <a:pt x="134" y="505"/>
                </a:lnTo>
                <a:lnTo>
                  <a:pt x="111" y="499"/>
                </a:lnTo>
                <a:lnTo>
                  <a:pt x="88" y="491"/>
                </a:lnTo>
                <a:lnTo>
                  <a:pt x="65" y="480"/>
                </a:lnTo>
                <a:lnTo>
                  <a:pt x="46" y="468"/>
                </a:lnTo>
                <a:lnTo>
                  <a:pt x="27" y="453"/>
                </a:lnTo>
                <a:lnTo>
                  <a:pt x="8" y="438"/>
                </a:lnTo>
                <a:lnTo>
                  <a:pt x="0" y="426"/>
                </a:lnTo>
                <a:lnTo>
                  <a:pt x="0" y="428"/>
                </a:lnTo>
                <a:lnTo>
                  <a:pt x="0" y="430"/>
                </a:lnTo>
                <a:lnTo>
                  <a:pt x="0" y="432"/>
                </a:lnTo>
                <a:lnTo>
                  <a:pt x="0" y="434"/>
                </a:lnTo>
                <a:lnTo>
                  <a:pt x="0" y="436"/>
                </a:lnTo>
                <a:lnTo>
                  <a:pt x="0" y="438"/>
                </a:lnTo>
                <a:lnTo>
                  <a:pt x="0" y="439"/>
                </a:lnTo>
                <a:lnTo>
                  <a:pt x="0" y="441"/>
                </a:lnTo>
                <a:close/>
              </a:path>
            </a:pathLst>
          </a:custGeom>
          <a:solidFill>
            <a:srgbClr val="c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236"/>
          <p:cNvSpPr/>
          <p:nvPr/>
        </p:nvSpPr>
        <p:spPr>
          <a:xfrm>
            <a:off x="6831000" y="2892600"/>
            <a:ext cx="289080" cy="809280"/>
          </a:xfrm>
          <a:custGeom>
            <a:avLst/>
            <a:gdLst>
              <a:gd name="textAreaLeft" fmla="*/ 0 w 289080"/>
              <a:gd name="textAreaRight" fmla="*/ 289440 w 289080"/>
              <a:gd name="textAreaTop" fmla="*/ 0 h 809280"/>
              <a:gd name="textAreaBottom" fmla="*/ 809640 h 809280"/>
            </a:gdLst>
            <a:ahLst/>
            <a:rect l="textAreaLeft" t="textAreaTop" r="textAreaRight" b="textAreaBottom"/>
            <a:pathLst>
              <a:path w="182" h="510">
                <a:moveTo>
                  <a:pt x="182" y="0"/>
                </a:moveTo>
                <a:lnTo>
                  <a:pt x="161" y="2"/>
                </a:lnTo>
                <a:lnTo>
                  <a:pt x="136" y="6"/>
                </a:lnTo>
                <a:lnTo>
                  <a:pt x="111" y="11"/>
                </a:lnTo>
                <a:lnTo>
                  <a:pt x="88" y="21"/>
                </a:lnTo>
                <a:lnTo>
                  <a:pt x="65" y="31"/>
                </a:lnTo>
                <a:lnTo>
                  <a:pt x="44" y="44"/>
                </a:lnTo>
                <a:lnTo>
                  <a:pt x="25" y="59"/>
                </a:lnTo>
                <a:lnTo>
                  <a:pt x="13" y="69"/>
                </a:lnTo>
                <a:lnTo>
                  <a:pt x="13" y="71"/>
                </a:lnTo>
                <a:lnTo>
                  <a:pt x="13" y="73"/>
                </a:lnTo>
                <a:lnTo>
                  <a:pt x="11" y="75"/>
                </a:lnTo>
                <a:lnTo>
                  <a:pt x="11" y="77"/>
                </a:lnTo>
                <a:lnTo>
                  <a:pt x="11" y="79"/>
                </a:lnTo>
                <a:lnTo>
                  <a:pt x="11" y="80"/>
                </a:lnTo>
                <a:lnTo>
                  <a:pt x="11" y="82"/>
                </a:lnTo>
                <a:lnTo>
                  <a:pt x="11" y="84"/>
                </a:lnTo>
                <a:lnTo>
                  <a:pt x="13" y="82"/>
                </a:lnTo>
                <a:lnTo>
                  <a:pt x="31" y="65"/>
                </a:lnTo>
                <a:lnTo>
                  <a:pt x="50" y="52"/>
                </a:lnTo>
                <a:lnTo>
                  <a:pt x="71" y="40"/>
                </a:lnTo>
                <a:lnTo>
                  <a:pt x="92" y="29"/>
                </a:lnTo>
                <a:lnTo>
                  <a:pt x="115" y="21"/>
                </a:lnTo>
                <a:lnTo>
                  <a:pt x="138" y="15"/>
                </a:lnTo>
                <a:lnTo>
                  <a:pt x="163" y="11"/>
                </a:lnTo>
                <a:lnTo>
                  <a:pt x="180" y="10"/>
                </a:lnTo>
                <a:lnTo>
                  <a:pt x="180" y="10"/>
                </a:lnTo>
                <a:lnTo>
                  <a:pt x="180" y="8"/>
                </a:lnTo>
                <a:lnTo>
                  <a:pt x="180" y="6"/>
                </a:lnTo>
                <a:lnTo>
                  <a:pt x="180" y="6"/>
                </a:lnTo>
                <a:lnTo>
                  <a:pt x="182" y="4"/>
                </a:lnTo>
                <a:lnTo>
                  <a:pt x="182" y="2"/>
                </a:lnTo>
                <a:lnTo>
                  <a:pt x="182" y="2"/>
                </a:lnTo>
                <a:lnTo>
                  <a:pt x="182" y="0"/>
                </a:lnTo>
                <a:close/>
                <a:moveTo>
                  <a:pt x="2" y="430"/>
                </a:moveTo>
                <a:lnTo>
                  <a:pt x="8" y="435"/>
                </a:lnTo>
                <a:lnTo>
                  <a:pt x="25" y="453"/>
                </a:lnTo>
                <a:lnTo>
                  <a:pt x="44" y="468"/>
                </a:lnTo>
                <a:lnTo>
                  <a:pt x="65" y="480"/>
                </a:lnTo>
                <a:lnTo>
                  <a:pt x="88" y="491"/>
                </a:lnTo>
                <a:lnTo>
                  <a:pt x="111" y="499"/>
                </a:lnTo>
                <a:lnTo>
                  <a:pt x="136" y="506"/>
                </a:lnTo>
                <a:lnTo>
                  <a:pt x="161" y="510"/>
                </a:lnTo>
                <a:lnTo>
                  <a:pt x="180" y="510"/>
                </a:lnTo>
                <a:lnTo>
                  <a:pt x="180" y="510"/>
                </a:lnTo>
                <a:lnTo>
                  <a:pt x="180" y="508"/>
                </a:lnTo>
                <a:lnTo>
                  <a:pt x="180" y="506"/>
                </a:lnTo>
                <a:lnTo>
                  <a:pt x="180" y="506"/>
                </a:lnTo>
                <a:lnTo>
                  <a:pt x="178" y="505"/>
                </a:lnTo>
                <a:lnTo>
                  <a:pt x="178" y="503"/>
                </a:lnTo>
                <a:lnTo>
                  <a:pt x="178" y="503"/>
                </a:lnTo>
                <a:lnTo>
                  <a:pt x="178" y="501"/>
                </a:lnTo>
                <a:lnTo>
                  <a:pt x="163" y="501"/>
                </a:lnTo>
                <a:lnTo>
                  <a:pt x="138" y="497"/>
                </a:lnTo>
                <a:lnTo>
                  <a:pt x="115" y="491"/>
                </a:lnTo>
                <a:lnTo>
                  <a:pt x="92" y="482"/>
                </a:lnTo>
                <a:lnTo>
                  <a:pt x="71" y="472"/>
                </a:lnTo>
                <a:lnTo>
                  <a:pt x="50" y="460"/>
                </a:lnTo>
                <a:lnTo>
                  <a:pt x="31" y="445"/>
                </a:lnTo>
                <a:lnTo>
                  <a:pt x="13" y="430"/>
                </a:lnTo>
                <a:lnTo>
                  <a:pt x="0" y="414"/>
                </a:lnTo>
                <a:lnTo>
                  <a:pt x="0" y="416"/>
                </a:lnTo>
                <a:lnTo>
                  <a:pt x="0" y="418"/>
                </a:lnTo>
                <a:lnTo>
                  <a:pt x="0" y="420"/>
                </a:lnTo>
                <a:lnTo>
                  <a:pt x="2" y="422"/>
                </a:lnTo>
                <a:lnTo>
                  <a:pt x="2" y="424"/>
                </a:lnTo>
                <a:lnTo>
                  <a:pt x="2" y="426"/>
                </a:lnTo>
                <a:lnTo>
                  <a:pt x="2" y="428"/>
                </a:lnTo>
                <a:lnTo>
                  <a:pt x="2" y="430"/>
                </a:lnTo>
                <a:close/>
              </a:path>
            </a:pathLst>
          </a:custGeom>
          <a:solidFill>
            <a:srgbClr val="ca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237"/>
          <p:cNvSpPr/>
          <p:nvPr/>
        </p:nvSpPr>
        <p:spPr>
          <a:xfrm>
            <a:off x="6831000" y="2901960"/>
            <a:ext cx="285840" cy="793800"/>
          </a:xfrm>
          <a:custGeom>
            <a:avLst/>
            <a:gdLst>
              <a:gd name="textAreaLeft" fmla="*/ 0 w 285840"/>
              <a:gd name="textAreaRight" fmla="*/ 286200 w 28584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180" h="500">
                <a:moveTo>
                  <a:pt x="180" y="0"/>
                </a:moveTo>
                <a:lnTo>
                  <a:pt x="161" y="0"/>
                </a:lnTo>
                <a:lnTo>
                  <a:pt x="136" y="4"/>
                </a:lnTo>
                <a:lnTo>
                  <a:pt x="113" y="9"/>
                </a:lnTo>
                <a:lnTo>
                  <a:pt x="90" y="19"/>
                </a:lnTo>
                <a:lnTo>
                  <a:pt x="67" y="28"/>
                </a:lnTo>
                <a:lnTo>
                  <a:pt x="48" y="42"/>
                </a:lnTo>
                <a:lnTo>
                  <a:pt x="29" y="55"/>
                </a:lnTo>
                <a:lnTo>
                  <a:pt x="11" y="71"/>
                </a:lnTo>
                <a:lnTo>
                  <a:pt x="11" y="73"/>
                </a:lnTo>
                <a:lnTo>
                  <a:pt x="11" y="74"/>
                </a:lnTo>
                <a:lnTo>
                  <a:pt x="11" y="76"/>
                </a:lnTo>
                <a:lnTo>
                  <a:pt x="11" y="78"/>
                </a:lnTo>
                <a:lnTo>
                  <a:pt x="11" y="80"/>
                </a:lnTo>
                <a:lnTo>
                  <a:pt x="11" y="82"/>
                </a:lnTo>
                <a:lnTo>
                  <a:pt x="10" y="84"/>
                </a:lnTo>
                <a:lnTo>
                  <a:pt x="10" y="86"/>
                </a:lnTo>
                <a:lnTo>
                  <a:pt x="17" y="78"/>
                </a:lnTo>
                <a:lnTo>
                  <a:pt x="34" y="63"/>
                </a:lnTo>
                <a:lnTo>
                  <a:pt x="52" y="50"/>
                </a:lnTo>
                <a:lnTo>
                  <a:pt x="73" y="38"/>
                </a:lnTo>
                <a:lnTo>
                  <a:pt x="94" y="27"/>
                </a:lnTo>
                <a:lnTo>
                  <a:pt x="115" y="19"/>
                </a:lnTo>
                <a:lnTo>
                  <a:pt x="138" y="13"/>
                </a:lnTo>
                <a:lnTo>
                  <a:pt x="163" y="9"/>
                </a:lnTo>
                <a:lnTo>
                  <a:pt x="180" y="9"/>
                </a:lnTo>
                <a:lnTo>
                  <a:pt x="180" y="7"/>
                </a:lnTo>
                <a:lnTo>
                  <a:pt x="180" y="5"/>
                </a:lnTo>
                <a:lnTo>
                  <a:pt x="180" y="5"/>
                </a:lnTo>
                <a:lnTo>
                  <a:pt x="180" y="4"/>
                </a:lnTo>
                <a:lnTo>
                  <a:pt x="180" y="4"/>
                </a:lnTo>
                <a:lnTo>
                  <a:pt x="180" y="2"/>
                </a:lnTo>
                <a:lnTo>
                  <a:pt x="180" y="0"/>
                </a:lnTo>
                <a:lnTo>
                  <a:pt x="180" y="0"/>
                </a:lnTo>
                <a:close/>
                <a:moveTo>
                  <a:pt x="2" y="416"/>
                </a:moveTo>
                <a:lnTo>
                  <a:pt x="10" y="428"/>
                </a:lnTo>
                <a:lnTo>
                  <a:pt x="29" y="443"/>
                </a:lnTo>
                <a:lnTo>
                  <a:pt x="48" y="458"/>
                </a:lnTo>
                <a:lnTo>
                  <a:pt x="67" y="470"/>
                </a:lnTo>
                <a:lnTo>
                  <a:pt x="90" y="481"/>
                </a:lnTo>
                <a:lnTo>
                  <a:pt x="113" y="489"/>
                </a:lnTo>
                <a:lnTo>
                  <a:pt x="136" y="495"/>
                </a:lnTo>
                <a:lnTo>
                  <a:pt x="161" y="499"/>
                </a:lnTo>
                <a:lnTo>
                  <a:pt x="180" y="500"/>
                </a:lnTo>
                <a:lnTo>
                  <a:pt x="178" y="499"/>
                </a:lnTo>
                <a:lnTo>
                  <a:pt x="178" y="497"/>
                </a:lnTo>
                <a:lnTo>
                  <a:pt x="178" y="497"/>
                </a:lnTo>
                <a:lnTo>
                  <a:pt x="178" y="495"/>
                </a:lnTo>
                <a:lnTo>
                  <a:pt x="178" y="495"/>
                </a:lnTo>
                <a:lnTo>
                  <a:pt x="178" y="493"/>
                </a:lnTo>
                <a:lnTo>
                  <a:pt x="178" y="491"/>
                </a:lnTo>
                <a:lnTo>
                  <a:pt x="178" y="491"/>
                </a:lnTo>
                <a:lnTo>
                  <a:pt x="163" y="489"/>
                </a:lnTo>
                <a:lnTo>
                  <a:pt x="138" y="485"/>
                </a:lnTo>
                <a:lnTo>
                  <a:pt x="115" y="479"/>
                </a:lnTo>
                <a:lnTo>
                  <a:pt x="94" y="472"/>
                </a:lnTo>
                <a:lnTo>
                  <a:pt x="73" y="462"/>
                </a:lnTo>
                <a:lnTo>
                  <a:pt x="52" y="449"/>
                </a:lnTo>
                <a:lnTo>
                  <a:pt x="34" y="435"/>
                </a:lnTo>
                <a:lnTo>
                  <a:pt x="17" y="420"/>
                </a:lnTo>
                <a:lnTo>
                  <a:pt x="2" y="403"/>
                </a:lnTo>
                <a:lnTo>
                  <a:pt x="0" y="401"/>
                </a:lnTo>
                <a:lnTo>
                  <a:pt x="0" y="403"/>
                </a:lnTo>
                <a:lnTo>
                  <a:pt x="0" y="405"/>
                </a:lnTo>
                <a:lnTo>
                  <a:pt x="0" y="406"/>
                </a:lnTo>
                <a:lnTo>
                  <a:pt x="0" y="408"/>
                </a:lnTo>
                <a:lnTo>
                  <a:pt x="0" y="410"/>
                </a:lnTo>
                <a:lnTo>
                  <a:pt x="0" y="412"/>
                </a:lnTo>
                <a:lnTo>
                  <a:pt x="2" y="414"/>
                </a:lnTo>
                <a:lnTo>
                  <a:pt x="2" y="416"/>
                </a:lnTo>
                <a:close/>
              </a:path>
            </a:pathLst>
          </a:custGeom>
          <a:solidFill>
            <a:srgbClr val="cb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238"/>
          <p:cNvSpPr/>
          <p:nvPr/>
        </p:nvSpPr>
        <p:spPr>
          <a:xfrm>
            <a:off x="6831000" y="2908440"/>
            <a:ext cx="285840" cy="779400"/>
          </a:xfrm>
          <a:custGeom>
            <a:avLst/>
            <a:gdLst>
              <a:gd name="textAreaLeft" fmla="*/ 0 w 285840"/>
              <a:gd name="textAreaRight" fmla="*/ 286200 w 285840"/>
              <a:gd name="textAreaTop" fmla="*/ 0 h 779400"/>
              <a:gd name="textAreaBottom" fmla="*/ 779760 h 779400"/>
            </a:gdLst>
            <a:ahLst/>
            <a:rect l="textAreaLeft" t="textAreaTop" r="textAreaRight" b="textAreaBottom"/>
            <a:pathLst>
              <a:path w="180" h="491">
                <a:moveTo>
                  <a:pt x="180" y="0"/>
                </a:moveTo>
                <a:lnTo>
                  <a:pt x="163" y="1"/>
                </a:lnTo>
                <a:lnTo>
                  <a:pt x="138" y="5"/>
                </a:lnTo>
                <a:lnTo>
                  <a:pt x="115" y="11"/>
                </a:lnTo>
                <a:lnTo>
                  <a:pt x="92" y="19"/>
                </a:lnTo>
                <a:lnTo>
                  <a:pt x="71" y="30"/>
                </a:lnTo>
                <a:lnTo>
                  <a:pt x="50" y="42"/>
                </a:lnTo>
                <a:lnTo>
                  <a:pt x="31" y="55"/>
                </a:lnTo>
                <a:lnTo>
                  <a:pt x="13" y="72"/>
                </a:lnTo>
                <a:lnTo>
                  <a:pt x="11" y="74"/>
                </a:lnTo>
                <a:lnTo>
                  <a:pt x="11" y="76"/>
                </a:lnTo>
                <a:lnTo>
                  <a:pt x="11" y="78"/>
                </a:lnTo>
                <a:lnTo>
                  <a:pt x="10" y="80"/>
                </a:lnTo>
                <a:lnTo>
                  <a:pt x="10" y="82"/>
                </a:lnTo>
                <a:lnTo>
                  <a:pt x="10" y="84"/>
                </a:lnTo>
                <a:lnTo>
                  <a:pt x="10" y="86"/>
                </a:lnTo>
                <a:lnTo>
                  <a:pt x="10" y="88"/>
                </a:lnTo>
                <a:lnTo>
                  <a:pt x="10" y="92"/>
                </a:lnTo>
                <a:lnTo>
                  <a:pt x="21" y="78"/>
                </a:lnTo>
                <a:lnTo>
                  <a:pt x="36" y="63"/>
                </a:lnTo>
                <a:lnTo>
                  <a:pt x="56" y="49"/>
                </a:lnTo>
                <a:lnTo>
                  <a:pt x="75" y="38"/>
                </a:lnTo>
                <a:lnTo>
                  <a:pt x="96" y="28"/>
                </a:lnTo>
                <a:lnTo>
                  <a:pt x="117" y="21"/>
                </a:lnTo>
                <a:lnTo>
                  <a:pt x="140" y="13"/>
                </a:lnTo>
                <a:lnTo>
                  <a:pt x="163" y="11"/>
                </a:lnTo>
                <a:lnTo>
                  <a:pt x="178" y="9"/>
                </a:lnTo>
                <a:lnTo>
                  <a:pt x="178" y="9"/>
                </a:lnTo>
                <a:lnTo>
                  <a:pt x="178" y="7"/>
                </a:lnTo>
                <a:lnTo>
                  <a:pt x="180" y="5"/>
                </a:lnTo>
                <a:lnTo>
                  <a:pt x="180" y="5"/>
                </a:lnTo>
                <a:lnTo>
                  <a:pt x="180" y="3"/>
                </a:lnTo>
                <a:lnTo>
                  <a:pt x="180" y="1"/>
                </a:lnTo>
                <a:lnTo>
                  <a:pt x="180" y="1"/>
                </a:lnTo>
                <a:lnTo>
                  <a:pt x="180" y="0"/>
                </a:lnTo>
                <a:close/>
                <a:moveTo>
                  <a:pt x="0" y="404"/>
                </a:moveTo>
                <a:lnTo>
                  <a:pt x="13" y="420"/>
                </a:lnTo>
                <a:lnTo>
                  <a:pt x="31" y="435"/>
                </a:lnTo>
                <a:lnTo>
                  <a:pt x="50" y="450"/>
                </a:lnTo>
                <a:lnTo>
                  <a:pt x="71" y="462"/>
                </a:lnTo>
                <a:lnTo>
                  <a:pt x="92" y="472"/>
                </a:lnTo>
                <a:lnTo>
                  <a:pt x="115" y="481"/>
                </a:lnTo>
                <a:lnTo>
                  <a:pt x="138" y="487"/>
                </a:lnTo>
                <a:lnTo>
                  <a:pt x="163" y="491"/>
                </a:lnTo>
                <a:lnTo>
                  <a:pt x="178" y="491"/>
                </a:lnTo>
                <a:lnTo>
                  <a:pt x="178" y="491"/>
                </a:lnTo>
                <a:lnTo>
                  <a:pt x="178" y="489"/>
                </a:lnTo>
                <a:lnTo>
                  <a:pt x="178" y="487"/>
                </a:lnTo>
                <a:lnTo>
                  <a:pt x="178" y="487"/>
                </a:lnTo>
                <a:lnTo>
                  <a:pt x="178" y="485"/>
                </a:lnTo>
                <a:lnTo>
                  <a:pt x="178" y="483"/>
                </a:lnTo>
                <a:lnTo>
                  <a:pt x="176" y="483"/>
                </a:lnTo>
                <a:lnTo>
                  <a:pt x="176" y="481"/>
                </a:lnTo>
                <a:lnTo>
                  <a:pt x="163" y="481"/>
                </a:lnTo>
                <a:lnTo>
                  <a:pt x="140" y="477"/>
                </a:lnTo>
                <a:lnTo>
                  <a:pt x="117" y="472"/>
                </a:lnTo>
                <a:lnTo>
                  <a:pt x="96" y="464"/>
                </a:lnTo>
                <a:lnTo>
                  <a:pt x="75" y="454"/>
                </a:lnTo>
                <a:lnTo>
                  <a:pt x="56" y="441"/>
                </a:lnTo>
                <a:lnTo>
                  <a:pt x="36" y="427"/>
                </a:lnTo>
                <a:lnTo>
                  <a:pt x="21" y="412"/>
                </a:lnTo>
                <a:lnTo>
                  <a:pt x="6" y="397"/>
                </a:lnTo>
                <a:lnTo>
                  <a:pt x="0" y="389"/>
                </a:lnTo>
                <a:lnTo>
                  <a:pt x="0" y="391"/>
                </a:lnTo>
                <a:lnTo>
                  <a:pt x="0" y="393"/>
                </a:lnTo>
                <a:lnTo>
                  <a:pt x="0" y="395"/>
                </a:lnTo>
                <a:lnTo>
                  <a:pt x="0" y="397"/>
                </a:lnTo>
                <a:lnTo>
                  <a:pt x="0" y="399"/>
                </a:lnTo>
                <a:lnTo>
                  <a:pt x="0" y="401"/>
                </a:lnTo>
                <a:lnTo>
                  <a:pt x="0" y="402"/>
                </a:lnTo>
                <a:lnTo>
                  <a:pt x="0" y="404"/>
                </a:lnTo>
                <a:close/>
              </a:path>
            </a:pathLst>
          </a:custGeom>
          <a:solidFill>
            <a:srgbClr val="cc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239"/>
          <p:cNvSpPr/>
          <p:nvPr/>
        </p:nvSpPr>
        <p:spPr>
          <a:xfrm>
            <a:off x="6831000" y="2916360"/>
            <a:ext cx="285840" cy="765000"/>
          </a:xfrm>
          <a:custGeom>
            <a:avLst/>
            <a:gdLst>
              <a:gd name="textAreaLeft" fmla="*/ 0 w 285840"/>
              <a:gd name="textAreaRight" fmla="*/ 286200 w 28584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180" h="482">
                <a:moveTo>
                  <a:pt x="180" y="0"/>
                </a:moveTo>
                <a:lnTo>
                  <a:pt x="163" y="0"/>
                </a:lnTo>
                <a:lnTo>
                  <a:pt x="138" y="4"/>
                </a:lnTo>
                <a:lnTo>
                  <a:pt x="115" y="10"/>
                </a:lnTo>
                <a:lnTo>
                  <a:pt x="94" y="18"/>
                </a:lnTo>
                <a:lnTo>
                  <a:pt x="73" y="29"/>
                </a:lnTo>
                <a:lnTo>
                  <a:pt x="52" y="41"/>
                </a:lnTo>
                <a:lnTo>
                  <a:pt x="34" y="54"/>
                </a:lnTo>
                <a:lnTo>
                  <a:pt x="17" y="69"/>
                </a:lnTo>
                <a:lnTo>
                  <a:pt x="10" y="77"/>
                </a:lnTo>
                <a:lnTo>
                  <a:pt x="10" y="79"/>
                </a:lnTo>
                <a:lnTo>
                  <a:pt x="10" y="81"/>
                </a:lnTo>
                <a:lnTo>
                  <a:pt x="10" y="83"/>
                </a:lnTo>
                <a:lnTo>
                  <a:pt x="10" y="85"/>
                </a:lnTo>
                <a:lnTo>
                  <a:pt x="10" y="89"/>
                </a:lnTo>
                <a:lnTo>
                  <a:pt x="10" y="90"/>
                </a:lnTo>
                <a:lnTo>
                  <a:pt x="8" y="92"/>
                </a:lnTo>
                <a:lnTo>
                  <a:pt x="8" y="94"/>
                </a:lnTo>
                <a:lnTo>
                  <a:pt x="10" y="92"/>
                </a:lnTo>
                <a:lnTo>
                  <a:pt x="23" y="77"/>
                </a:lnTo>
                <a:lnTo>
                  <a:pt x="40" y="62"/>
                </a:lnTo>
                <a:lnTo>
                  <a:pt x="58" y="48"/>
                </a:lnTo>
                <a:lnTo>
                  <a:pt x="77" y="37"/>
                </a:lnTo>
                <a:lnTo>
                  <a:pt x="98" y="27"/>
                </a:lnTo>
                <a:lnTo>
                  <a:pt x="119" y="19"/>
                </a:lnTo>
                <a:lnTo>
                  <a:pt x="140" y="14"/>
                </a:lnTo>
                <a:lnTo>
                  <a:pt x="163" y="10"/>
                </a:lnTo>
                <a:lnTo>
                  <a:pt x="178" y="10"/>
                </a:lnTo>
                <a:lnTo>
                  <a:pt x="178" y="8"/>
                </a:lnTo>
                <a:lnTo>
                  <a:pt x="178" y="6"/>
                </a:lnTo>
                <a:lnTo>
                  <a:pt x="178" y="6"/>
                </a:lnTo>
                <a:lnTo>
                  <a:pt x="178" y="4"/>
                </a:lnTo>
                <a:lnTo>
                  <a:pt x="178" y="4"/>
                </a:lnTo>
                <a:lnTo>
                  <a:pt x="178" y="2"/>
                </a:lnTo>
                <a:lnTo>
                  <a:pt x="180" y="0"/>
                </a:lnTo>
                <a:lnTo>
                  <a:pt x="180" y="0"/>
                </a:lnTo>
                <a:close/>
                <a:moveTo>
                  <a:pt x="0" y="392"/>
                </a:moveTo>
                <a:lnTo>
                  <a:pt x="2" y="394"/>
                </a:lnTo>
                <a:lnTo>
                  <a:pt x="17" y="411"/>
                </a:lnTo>
                <a:lnTo>
                  <a:pt x="34" y="426"/>
                </a:lnTo>
                <a:lnTo>
                  <a:pt x="52" y="440"/>
                </a:lnTo>
                <a:lnTo>
                  <a:pt x="73" y="453"/>
                </a:lnTo>
                <a:lnTo>
                  <a:pt x="94" y="463"/>
                </a:lnTo>
                <a:lnTo>
                  <a:pt x="115" y="470"/>
                </a:lnTo>
                <a:lnTo>
                  <a:pt x="138" y="476"/>
                </a:lnTo>
                <a:lnTo>
                  <a:pt x="163" y="480"/>
                </a:lnTo>
                <a:lnTo>
                  <a:pt x="178" y="482"/>
                </a:lnTo>
                <a:lnTo>
                  <a:pt x="178" y="480"/>
                </a:lnTo>
                <a:lnTo>
                  <a:pt x="178" y="478"/>
                </a:lnTo>
                <a:lnTo>
                  <a:pt x="176" y="478"/>
                </a:lnTo>
                <a:lnTo>
                  <a:pt x="176" y="476"/>
                </a:lnTo>
                <a:lnTo>
                  <a:pt x="176" y="476"/>
                </a:lnTo>
                <a:lnTo>
                  <a:pt x="176" y="474"/>
                </a:lnTo>
                <a:lnTo>
                  <a:pt x="176" y="472"/>
                </a:lnTo>
                <a:lnTo>
                  <a:pt x="176" y="472"/>
                </a:lnTo>
                <a:lnTo>
                  <a:pt x="163" y="470"/>
                </a:lnTo>
                <a:lnTo>
                  <a:pt x="140" y="468"/>
                </a:lnTo>
                <a:lnTo>
                  <a:pt x="119" y="463"/>
                </a:lnTo>
                <a:lnTo>
                  <a:pt x="98" y="455"/>
                </a:lnTo>
                <a:lnTo>
                  <a:pt x="77" y="444"/>
                </a:lnTo>
                <a:lnTo>
                  <a:pt x="58" y="432"/>
                </a:lnTo>
                <a:lnTo>
                  <a:pt x="40" y="419"/>
                </a:lnTo>
                <a:lnTo>
                  <a:pt x="23" y="405"/>
                </a:lnTo>
                <a:lnTo>
                  <a:pt x="10" y="388"/>
                </a:lnTo>
                <a:lnTo>
                  <a:pt x="0" y="374"/>
                </a:lnTo>
                <a:lnTo>
                  <a:pt x="0" y="378"/>
                </a:lnTo>
                <a:lnTo>
                  <a:pt x="0" y="380"/>
                </a:lnTo>
                <a:lnTo>
                  <a:pt x="0" y="382"/>
                </a:lnTo>
                <a:lnTo>
                  <a:pt x="0" y="384"/>
                </a:lnTo>
                <a:lnTo>
                  <a:pt x="0" y="386"/>
                </a:lnTo>
                <a:lnTo>
                  <a:pt x="0" y="388"/>
                </a:lnTo>
                <a:lnTo>
                  <a:pt x="0" y="390"/>
                </a:lnTo>
                <a:lnTo>
                  <a:pt x="0" y="392"/>
                </a:lnTo>
                <a:close/>
              </a:path>
            </a:pathLst>
          </a:cu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reeform 240"/>
          <p:cNvSpPr/>
          <p:nvPr/>
        </p:nvSpPr>
        <p:spPr>
          <a:xfrm>
            <a:off x="6827760" y="2922480"/>
            <a:ext cx="285840" cy="749520"/>
          </a:xfrm>
          <a:custGeom>
            <a:avLst/>
            <a:gdLst>
              <a:gd name="textAreaLeft" fmla="*/ 0 w 285840"/>
              <a:gd name="textAreaRight" fmla="*/ 286200 w 285840"/>
              <a:gd name="textAreaTop" fmla="*/ 0 h 749520"/>
              <a:gd name="textAreaBottom" fmla="*/ 749880 h 749520"/>
            </a:gdLst>
            <a:ahLst/>
            <a:rect l="textAreaLeft" t="textAreaTop" r="textAreaRight" b="textAreaBottom"/>
            <a:pathLst>
              <a:path w="180" h="472">
                <a:moveTo>
                  <a:pt x="180" y="0"/>
                </a:moveTo>
                <a:lnTo>
                  <a:pt x="165" y="2"/>
                </a:lnTo>
                <a:lnTo>
                  <a:pt x="142" y="4"/>
                </a:lnTo>
                <a:lnTo>
                  <a:pt x="119" y="12"/>
                </a:lnTo>
                <a:lnTo>
                  <a:pt x="98" y="19"/>
                </a:lnTo>
                <a:lnTo>
                  <a:pt x="77" y="29"/>
                </a:lnTo>
                <a:lnTo>
                  <a:pt x="58" y="40"/>
                </a:lnTo>
                <a:lnTo>
                  <a:pt x="38" y="54"/>
                </a:lnTo>
                <a:lnTo>
                  <a:pt x="23" y="69"/>
                </a:lnTo>
                <a:lnTo>
                  <a:pt x="12" y="83"/>
                </a:lnTo>
                <a:lnTo>
                  <a:pt x="12" y="85"/>
                </a:lnTo>
                <a:lnTo>
                  <a:pt x="10" y="86"/>
                </a:lnTo>
                <a:lnTo>
                  <a:pt x="10" y="88"/>
                </a:lnTo>
                <a:lnTo>
                  <a:pt x="10" y="90"/>
                </a:lnTo>
                <a:lnTo>
                  <a:pt x="10" y="92"/>
                </a:lnTo>
                <a:lnTo>
                  <a:pt x="10" y="94"/>
                </a:lnTo>
                <a:lnTo>
                  <a:pt x="10" y="96"/>
                </a:lnTo>
                <a:lnTo>
                  <a:pt x="10" y="100"/>
                </a:lnTo>
                <a:lnTo>
                  <a:pt x="13" y="92"/>
                </a:lnTo>
                <a:lnTo>
                  <a:pt x="29" y="77"/>
                </a:lnTo>
                <a:lnTo>
                  <a:pt x="44" y="61"/>
                </a:lnTo>
                <a:lnTo>
                  <a:pt x="63" y="48"/>
                </a:lnTo>
                <a:lnTo>
                  <a:pt x="81" y="37"/>
                </a:lnTo>
                <a:lnTo>
                  <a:pt x="102" y="27"/>
                </a:lnTo>
                <a:lnTo>
                  <a:pt x="123" y="19"/>
                </a:lnTo>
                <a:lnTo>
                  <a:pt x="144" y="14"/>
                </a:lnTo>
                <a:lnTo>
                  <a:pt x="167" y="12"/>
                </a:lnTo>
                <a:lnTo>
                  <a:pt x="178" y="10"/>
                </a:lnTo>
                <a:lnTo>
                  <a:pt x="180" y="10"/>
                </a:lnTo>
                <a:lnTo>
                  <a:pt x="180" y="8"/>
                </a:lnTo>
                <a:lnTo>
                  <a:pt x="180" y="6"/>
                </a:lnTo>
                <a:lnTo>
                  <a:pt x="180" y="6"/>
                </a:lnTo>
                <a:lnTo>
                  <a:pt x="180" y="4"/>
                </a:lnTo>
                <a:lnTo>
                  <a:pt x="180" y="2"/>
                </a:lnTo>
                <a:lnTo>
                  <a:pt x="180" y="2"/>
                </a:lnTo>
                <a:lnTo>
                  <a:pt x="180" y="0"/>
                </a:lnTo>
                <a:close/>
                <a:moveTo>
                  <a:pt x="2" y="380"/>
                </a:moveTo>
                <a:lnTo>
                  <a:pt x="8" y="388"/>
                </a:lnTo>
                <a:lnTo>
                  <a:pt x="23" y="403"/>
                </a:lnTo>
                <a:lnTo>
                  <a:pt x="38" y="418"/>
                </a:lnTo>
                <a:lnTo>
                  <a:pt x="58" y="432"/>
                </a:lnTo>
                <a:lnTo>
                  <a:pt x="77" y="445"/>
                </a:lnTo>
                <a:lnTo>
                  <a:pt x="98" y="455"/>
                </a:lnTo>
                <a:lnTo>
                  <a:pt x="119" y="463"/>
                </a:lnTo>
                <a:lnTo>
                  <a:pt x="142" y="468"/>
                </a:lnTo>
                <a:lnTo>
                  <a:pt x="165" y="472"/>
                </a:lnTo>
                <a:lnTo>
                  <a:pt x="178" y="472"/>
                </a:lnTo>
                <a:lnTo>
                  <a:pt x="178" y="472"/>
                </a:lnTo>
                <a:lnTo>
                  <a:pt x="178" y="470"/>
                </a:lnTo>
                <a:lnTo>
                  <a:pt x="178" y="468"/>
                </a:lnTo>
                <a:lnTo>
                  <a:pt x="178" y="468"/>
                </a:lnTo>
                <a:lnTo>
                  <a:pt x="178" y="466"/>
                </a:lnTo>
                <a:lnTo>
                  <a:pt x="178" y="464"/>
                </a:lnTo>
                <a:lnTo>
                  <a:pt x="178" y="464"/>
                </a:lnTo>
                <a:lnTo>
                  <a:pt x="178" y="463"/>
                </a:lnTo>
                <a:lnTo>
                  <a:pt x="167" y="463"/>
                </a:lnTo>
                <a:lnTo>
                  <a:pt x="144" y="459"/>
                </a:lnTo>
                <a:lnTo>
                  <a:pt x="123" y="453"/>
                </a:lnTo>
                <a:lnTo>
                  <a:pt x="102" y="445"/>
                </a:lnTo>
                <a:lnTo>
                  <a:pt x="81" y="436"/>
                </a:lnTo>
                <a:lnTo>
                  <a:pt x="63" y="424"/>
                </a:lnTo>
                <a:lnTo>
                  <a:pt x="44" y="413"/>
                </a:lnTo>
                <a:lnTo>
                  <a:pt x="29" y="397"/>
                </a:lnTo>
                <a:lnTo>
                  <a:pt x="13" y="380"/>
                </a:lnTo>
                <a:lnTo>
                  <a:pt x="2" y="363"/>
                </a:lnTo>
                <a:lnTo>
                  <a:pt x="0" y="363"/>
                </a:lnTo>
                <a:lnTo>
                  <a:pt x="0" y="365"/>
                </a:lnTo>
                <a:lnTo>
                  <a:pt x="0" y="367"/>
                </a:lnTo>
                <a:lnTo>
                  <a:pt x="2" y="369"/>
                </a:lnTo>
                <a:lnTo>
                  <a:pt x="2" y="370"/>
                </a:lnTo>
                <a:lnTo>
                  <a:pt x="2" y="374"/>
                </a:lnTo>
                <a:lnTo>
                  <a:pt x="2" y="376"/>
                </a:lnTo>
                <a:lnTo>
                  <a:pt x="2" y="378"/>
                </a:lnTo>
                <a:lnTo>
                  <a:pt x="2" y="380"/>
                </a:lnTo>
                <a:close/>
              </a:path>
            </a:pathLst>
          </a:custGeom>
          <a:solidFill>
            <a:srgbClr val="ce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241"/>
          <p:cNvSpPr/>
          <p:nvPr/>
        </p:nvSpPr>
        <p:spPr>
          <a:xfrm>
            <a:off x="6827760" y="2932200"/>
            <a:ext cx="285840" cy="733320"/>
          </a:xfrm>
          <a:custGeom>
            <a:avLst/>
            <a:gdLst>
              <a:gd name="textAreaLeft" fmla="*/ 0 w 285840"/>
              <a:gd name="textAreaRight" fmla="*/ 286200 w 28584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180" h="462">
                <a:moveTo>
                  <a:pt x="180" y="0"/>
                </a:moveTo>
                <a:lnTo>
                  <a:pt x="165" y="0"/>
                </a:lnTo>
                <a:lnTo>
                  <a:pt x="142" y="4"/>
                </a:lnTo>
                <a:lnTo>
                  <a:pt x="121" y="9"/>
                </a:lnTo>
                <a:lnTo>
                  <a:pt x="100" y="17"/>
                </a:lnTo>
                <a:lnTo>
                  <a:pt x="79" y="27"/>
                </a:lnTo>
                <a:lnTo>
                  <a:pt x="60" y="38"/>
                </a:lnTo>
                <a:lnTo>
                  <a:pt x="42" y="52"/>
                </a:lnTo>
                <a:lnTo>
                  <a:pt x="25" y="67"/>
                </a:lnTo>
                <a:lnTo>
                  <a:pt x="12" y="82"/>
                </a:lnTo>
                <a:lnTo>
                  <a:pt x="10" y="84"/>
                </a:lnTo>
                <a:lnTo>
                  <a:pt x="10" y="86"/>
                </a:lnTo>
                <a:lnTo>
                  <a:pt x="10" y="88"/>
                </a:lnTo>
                <a:lnTo>
                  <a:pt x="10" y="90"/>
                </a:lnTo>
                <a:lnTo>
                  <a:pt x="10" y="94"/>
                </a:lnTo>
                <a:lnTo>
                  <a:pt x="10" y="96"/>
                </a:lnTo>
                <a:lnTo>
                  <a:pt x="8" y="98"/>
                </a:lnTo>
                <a:lnTo>
                  <a:pt x="8" y="100"/>
                </a:lnTo>
                <a:lnTo>
                  <a:pt x="8" y="102"/>
                </a:lnTo>
                <a:lnTo>
                  <a:pt x="17" y="90"/>
                </a:lnTo>
                <a:lnTo>
                  <a:pt x="33" y="73"/>
                </a:lnTo>
                <a:lnTo>
                  <a:pt x="48" y="59"/>
                </a:lnTo>
                <a:lnTo>
                  <a:pt x="65" y="46"/>
                </a:lnTo>
                <a:lnTo>
                  <a:pt x="84" y="34"/>
                </a:lnTo>
                <a:lnTo>
                  <a:pt x="104" y="25"/>
                </a:lnTo>
                <a:lnTo>
                  <a:pt x="123" y="19"/>
                </a:lnTo>
                <a:lnTo>
                  <a:pt x="144" y="13"/>
                </a:lnTo>
                <a:lnTo>
                  <a:pt x="167" y="9"/>
                </a:lnTo>
                <a:lnTo>
                  <a:pt x="178" y="9"/>
                </a:lnTo>
                <a:lnTo>
                  <a:pt x="178" y="8"/>
                </a:lnTo>
                <a:lnTo>
                  <a:pt x="178" y="6"/>
                </a:lnTo>
                <a:lnTo>
                  <a:pt x="178" y="6"/>
                </a:lnTo>
                <a:lnTo>
                  <a:pt x="178" y="4"/>
                </a:lnTo>
                <a:lnTo>
                  <a:pt x="180" y="4"/>
                </a:lnTo>
                <a:lnTo>
                  <a:pt x="180" y="2"/>
                </a:lnTo>
                <a:lnTo>
                  <a:pt x="180" y="0"/>
                </a:lnTo>
                <a:lnTo>
                  <a:pt x="180" y="0"/>
                </a:lnTo>
                <a:close/>
                <a:moveTo>
                  <a:pt x="2" y="364"/>
                </a:moveTo>
                <a:lnTo>
                  <a:pt x="12" y="378"/>
                </a:lnTo>
                <a:lnTo>
                  <a:pt x="25" y="395"/>
                </a:lnTo>
                <a:lnTo>
                  <a:pt x="42" y="409"/>
                </a:lnTo>
                <a:lnTo>
                  <a:pt x="60" y="422"/>
                </a:lnTo>
                <a:lnTo>
                  <a:pt x="79" y="434"/>
                </a:lnTo>
                <a:lnTo>
                  <a:pt x="100" y="445"/>
                </a:lnTo>
                <a:lnTo>
                  <a:pt x="121" y="453"/>
                </a:lnTo>
                <a:lnTo>
                  <a:pt x="142" y="458"/>
                </a:lnTo>
                <a:lnTo>
                  <a:pt x="165" y="460"/>
                </a:lnTo>
                <a:lnTo>
                  <a:pt x="178" y="462"/>
                </a:lnTo>
                <a:lnTo>
                  <a:pt x="178" y="460"/>
                </a:lnTo>
                <a:lnTo>
                  <a:pt x="178" y="458"/>
                </a:lnTo>
                <a:lnTo>
                  <a:pt x="178" y="458"/>
                </a:lnTo>
                <a:lnTo>
                  <a:pt x="178" y="457"/>
                </a:lnTo>
                <a:lnTo>
                  <a:pt x="178" y="457"/>
                </a:lnTo>
                <a:lnTo>
                  <a:pt x="177" y="455"/>
                </a:lnTo>
                <a:lnTo>
                  <a:pt x="177" y="453"/>
                </a:lnTo>
                <a:lnTo>
                  <a:pt x="177" y="453"/>
                </a:lnTo>
                <a:lnTo>
                  <a:pt x="167" y="451"/>
                </a:lnTo>
                <a:lnTo>
                  <a:pt x="144" y="449"/>
                </a:lnTo>
                <a:lnTo>
                  <a:pt x="123" y="443"/>
                </a:lnTo>
                <a:lnTo>
                  <a:pt x="104" y="435"/>
                </a:lnTo>
                <a:lnTo>
                  <a:pt x="84" y="426"/>
                </a:lnTo>
                <a:lnTo>
                  <a:pt x="65" y="414"/>
                </a:lnTo>
                <a:lnTo>
                  <a:pt x="48" y="403"/>
                </a:lnTo>
                <a:lnTo>
                  <a:pt x="33" y="387"/>
                </a:lnTo>
                <a:lnTo>
                  <a:pt x="17" y="372"/>
                </a:lnTo>
                <a:lnTo>
                  <a:pt x="6" y="355"/>
                </a:lnTo>
                <a:lnTo>
                  <a:pt x="0" y="347"/>
                </a:lnTo>
                <a:lnTo>
                  <a:pt x="0" y="349"/>
                </a:lnTo>
                <a:lnTo>
                  <a:pt x="0" y="351"/>
                </a:lnTo>
                <a:lnTo>
                  <a:pt x="0" y="353"/>
                </a:lnTo>
                <a:lnTo>
                  <a:pt x="0" y="357"/>
                </a:lnTo>
                <a:lnTo>
                  <a:pt x="0" y="359"/>
                </a:lnTo>
                <a:lnTo>
                  <a:pt x="0" y="361"/>
                </a:lnTo>
                <a:lnTo>
                  <a:pt x="2" y="363"/>
                </a:lnTo>
                <a:lnTo>
                  <a:pt x="2" y="364"/>
                </a:lnTo>
                <a:close/>
              </a:path>
            </a:pathLst>
          </a:custGeom>
          <a:solidFill>
            <a:srgbClr val="cf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242"/>
          <p:cNvSpPr/>
          <p:nvPr/>
        </p:nvSpPr>
        <p:spPr>
          <a:xfrm>
            <a:off x="6827760" y="2938320"/>
            <a:ext cx="282600" cy="719280"/>
          </a:xfrm>
          <a:custGeom>
            <a:avLst/>
            <a:gdLst>
              <a:gd name="textAreaLeft" fmla="*/ 0 w 282600"/>
              <a:gd name="textAreaRight" fmla="*/ 282960 w 2826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178" h="453">
                <a:moveTo>
                  <a:pt x="178" y="0"/>
                </a:moveTo>
                <a:lnTo>
                  <a:pt x="167" y="2"/>
                </a:lnTo>
                <a:lnTo>
                  <a:pt x="144" y="4"/>
                </a:lnTo>
                <a:lnTo>
                  <a:pt x="123" y="9"/>
                </a:lnTo>
                <a:lnTo>
                  <a:pt x="102" y="17"/>
                </a:lnTo>
                <a:lnTo>
                  <a:pt x="81" y="27"/>
                </a:lnTo>
                <a:lnTo>
                  <a:pt x="63" y="38"/>
                </a:lnTo>
                <a:lnTo>
                  <a:pt x="44" y="51"/>
                </a:lnTo>
                <a:lnTo>
                  <a:pt x="29" y="67"/>
                </a:lnTo>
                <a:lnTo>
                  <a:pt x="13" y="82"/>
                </a:lnTo>
                <a:lnTo>
                  <a:pt x="10" y="90"/>
                </a:lnTo>
                <a:lnTo>
                  <a:pt x="10" y="92"/>
                </a:lnTo>
                <a:lnTo>
                  <a:pt x="8" y="94"/>
                </a:lnTo>
                <a:lnTo>
                  <a:pt x="8" y="96"/>
                </a:lnTo>
                <a:lnTo>
                  <a:pt x="8" y="99"/>
                </a:lnTo>
                <a:lnTo>
                  <a:pt x="8" y="101"/>
                </a:lnTo>
                <a:lnTo>
                  <a:pt x="8" y="103"/>
                </a:lnTo>
                <a:lnTo>
                  <a:pt x="8" y="105"/>
                </a:lnTo>
                <a:lnTo>
                  <a:pt x="8" y="109"/>
                </a:lnTo>
                <a:lnTo>
                  <a:pt x="10" y="105"/>
                </a:lnTo>
                <a:lnTo>
                  <a:pt x="21" y="88"/>
                </a:lnTo>
                <a:lnTo>
                  <a:pt x="36" y="73"/>
                </a:lnTo>
                <a:lnTo>
                  <a:pt x="52" y="59"/>
                </a:lnTo>
                <a:lnTo>
                  <a:pt x="67" y="46"/>
                </a:lnTo>
                <a:lnTo>
                  <a:pt x="86" y="36"/>
                </a:lnTo>
                <a:lnTo>
                  <a:pt x="106" y="27"/>
                </a:lnTo>
                <a:lnTo>
                  <a:pt x="125" y="19"/>
                </a:lnTo>
                <a:lnTo>
                  <a:pt x="146" y="13"/>
                </a:lnTo>
                <a:lnTo>
                  <a:pt x="167" y="9"/>
                </a:lnTo>
                <a:lnTo>
                  <a:pt x="178" y="9"/>
                </a:lnTo>
                <a:lnTo>
                  <a:pt x="178" y="9"/>
                </a:lnTo>
                <a:lnTo>
                  <a:pt x="178" y="7"/>
                </a:lnTo>
                <a:lnTo>
                  <a:pt x="178" y="5"/>
                </a:lnTo>
                <a:lnTo>
                  <a:pt x="178" y="5"/>
                </a:lnTo>
                <a:lnTo>
                  <a:pt x="178" y="4"/>
                </a:lnTo>
                <a:lnTo>
                  <a:pt x="178" y="2"/>
                </a:lnTo>
                <a:lnTo>
                  <a:pt x="178" y="2"/>
                </a:lnTo>
                <a:lnTo>
                  <a:pt x="178" y="0"/>
                </a:lnTo>
                <a:close/>
                <a:moveTo>
                  <a:pt x="0" y="353"/>
                </a:moveTo>
                <a:lnTo>
                  <a:pt x="2" y="353"/>
                </a:lnTo>
                <a:lnTo>
                  <a:pt x="13" y="370"/>
                </a:lnTo>
                <a:lnTo>
                  <a:pt x="29" y="387"/>
                </a:lnTo>
                <a:lnTo>
                  <a:pt x="44" y="403"/>
                </a:lnTo>
                <a:lnTo>
                  <a:pt x="63" y="414"/>
                </a:lnTo>
                <a:lnTo>
                  <a:pt x="81" y="426"/>
                </a:lnTo>
                <a:lnTo>
                  <a:pt x="102" y="435"/>
                </a:lnTo>
                <a:lnTo>
                  <a:pt x="123" y="443"/>
                </a:lnTo>
                <a:lnTo>
                  <a:pt x="144" y="449"/>
                </a:lnTo>
                <a:lnTo>
                  <a:pt x="167" y="453"/>
                </a:lnTo>
                <a:lnTo>
                  <a:pt x="178" y="453"/>
                </a:lnTo>
                <a:lnTo>
                  <a:pt x="178" y="453"/>
                </a:lnTo>
                <a:lnTo>
                  <a:pt x="177" y="451"/>
                </a:lnTo>
                <a:lnTo>
                  <a:pt x="177" y="449"/>
                </a:lnTo>
                <a:lnTo>
                  <a:pt x="177" y="449"/>
                </a:lnTo>
                <a:lnTo>
                  <a:pt x="177" y="447"/>
                </a:lnTo>
                <a:lnTo>
                  <a:pt x="177" y="447"/>
                </a:lnTo>
                <a:lnTo>
                  <a:pt x="177" y="445"/>
                </a:lnTo>
                <a:lnTo>
                  <a:pt x="177" y="443"/>
                </a:lnTo>
                <a:lnTo>
                  <a:pt x="167" y="443"/>
                </a:lnTo>
                <a:lnTo>
                  <a:pt x="146" y="439"/>
                </a:lnTo>
                <a:lnTo>
                  <a:pt x="125" y="435"/>
                </a:lnTo>
                <a:lnTo>
                  <a:pt x="106" y="428"/>
                </a:lnTo>
                <a:lnTo>
                  <a:pt x="86" y="418"/>
                </a:lnTo>
                <a:lnTo>
                  <a:pt x="67" y="406"/>
                </a:lnTo>
                <a:lnTo>
                  <a:pt x="52" y="395"/>
                </a:lnTo>
                <a:lnTo>
                  <a:pt x="36" y="380"/>
                </a:lnTo>
                <a:lnTo>
                  <a:pt x="21" y="364"/>
                </a:lnTo>
                <a:lnTo>
                  <a:pt x="10" y="349"/>
                </a:lnTo>
                <a:lnTo>
                  <a:pt x="0" y="334"/>
                </a:lnTo>
                <a:lnTo>
                  <a:pt x="0" y="335"/>
                </a:lnTo>
                <a:lnTo>
                  <a:pt x="0" y="337"/>
                </a:lnTo>
                <a:lnTo>
                  <a:pt x="0" y="341"/>
                </a:lnTo>
                <a:lnTo>
                  <a:pt x="0" y="343"/>
                </a:lnTo>
                <a:lnTo>
                  <a:pt x="0" y="345"/>
                </a:lnTo>
                <a:lnTo>
                  <a:pt x="0" y="347"/>
                </a:lnTo>
                <a:lnTo>
                  <a:pt x="0" y="351"/>
                </a:lnTo>
                <a:lnTo>
                  <a:pt x="0" y="353"/>
                </a:lnTo>
                <a:close/>
              </a:path>
            </a:pathLst>
          </a:custGeom>
          <a:solidFill>
            <a:srgbClr val="d0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243"/>
          <p:cNvSpPr/>
          <p:nvPr/>
        </p:nvSpPr>
        <p:spPr>
          <a:xfrm>
            <a:off x="6827760" y="2946240"/>
            <a:ext cx="282600" cy="704880"/>
          </a:xfrm>
          <a:custGeom>
            <a:avLst/>
            <a:gdLst>
              <a:gd name="textAreaLeft" fmla="*/ 0 w 282600"/>
              <a:gd name="textAreaRight" fmla="*/ 282960 w 28260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78" h="444">
                <a:moveTo>
                  <a:pt x="178" y="0"/>
                </a:moveTo>
                <a:lnTo>
                  <a:pt x="167" y="0"/>
                </a:lnTo>
                <a:lnTo>
                  <a:pt x="144" y="4"/>
                </a:lnTo>
                <a:lnTo>
                  <a:pt x="123" y="10"/>
                </a:lnTo>
                <a:lnTo>
                  <a:pt x="104" y="16"/>
                </a:lnTo>
                <a:lnTo>
                  <a:pt x="84" y="25"/>
                </a:lnTo>
                <a:lnTo>
                  <a:pt x="65" y="37"/>
                </a:lnTo>
                <a:lnTo>
                  <a:pt x="48" y="50"/>
                </a:lnTo>
                <a:lnTo>
                  <a:pt x="33" y="64"/>
                </a:lnTo>
                <a:lnTo>
                  <a:pt x="17" y="81"/>
                </a:lnTo>
                <a:lnTo>
                  <a:pt x="8" y="93"/>
                </a:lnTo>
                <a:lnTo>
                  <a:pt x="8" y="96"/>
                </a:lnTo>
                <a:lnTo>
                  <a:pt x="8" y="98"/>
                </a:lnTo>
                <a:lnTo>
                  <a:pt x="8" y="100"/>
                </a:lnTo>
                <a:lnTo>
                  <a:pt x="8" y="104"/>
                </a:lnTo>
                <a:lnTo>
                  <a:pt x="8" y="106"/>
                </a:lnTo>
                <a:lnTo>
                  <a:pt x="6" y="108"/>
                </a:lnTo>
                <a:lnTo>
                  <a:pt x="6" y="112"/>
                </a:lnTo>
                <a:lnTo>
                  <a:pt x="6" y="114"/>
                </a:lnTo>
                <a:lnTo>
                  <a:pt x="13" y="102"/>
                </a:lnTo>
                <a:lnTo>
                  <a:pt x="25" y="87"/>
                </a:lnTo>
                <a:lnTo>
                  <a:pt x="38" y="71"/>
                </a:lnTo>
                <a:lnTo>
                  <a:pt x="54" y="58"/>
                </a:lnTo>
                <a:lnTo>
                  <a:pt x="71" y="45"/>
                </a:lnTo>
                <a:lnTo>
                  <a:pt x="88" y="35"/>
                </a:lnTo>
                <a:lnTo>
                  <a:pt x="107" y="25"/>
                </a:lnTo>
                <a:lnTo>
                  <a:pt x="127" y="18"/>
                </a:lnTo>
                <a:lnTo>
                  <a:pt x="146" y="14"/>
                </a:lnTo>
                <a:lnTo>
                  <a:pt x="167" y="10"/>
                </a:lnTo>
                <a:lnTo>
                  <a:pt x="177" y="10"/>
                </a:lnTo>
                <a:lnTo>
                  <a:pt x="178" y="8"/>
                </a:lnTo>
                <a:lnTo>
                  <a:pt x="178" y="6"/>
                </a:lnTo>
                <a:lnTo>
                  <a:pt x="178" y="6"/>
                </a:lnTo>
                <a:lnTo>
                  <a:pt x="178" y="4"/>
                </a:lnTo>
                <a:lnTo>
                  <a:pt x="178" y="4"/>
                </a:lnTo>
                <a:lnTo>
                  <a:pt x="178" y="2"/>
                </a:lnTo>
                <a:lnTo>
                  <a:pt x="178" y="0"/>
                </a:lnTo>
                <a:lnTo>
                  <a:pt x="178" y="0"/>
                </a:lnTo>
                <a:close/>
                <a:moveTo>
                  <a:pt x="0" y="338"/>
                </a:moveTo>
                <a:lnTo>
                  <a:pt x="6" y="346"/>
                </a:lnTo>
                <a:lnTo>
                  <a:pt x="17" y="363"/>
                </a:lnTo>
                <a:lnTo>
                  <a:pt x="33" y="378"/>
                </a:lnTo>
                <a:lnTo>
                  <a:pt x="48" y="394"/>
                </a:lnTo>
                <a:lnTo>
                  <a:pt x="65" y="405"/>
                </a:lnTo>
                <a:lnTo>
                  <a:pt x="84" y="417"/>
                </a:lnTo>
                <a:lnTo>
                  <a:pt x="104" y="426"/>
                </a:lnTo>
                <a:lnTo>
                  <a:pt x="123" y="434"/>
                </a:lnTo>
                <a:lnTo>
                  <a:pt x="144" y="440"/>
                </a:lnTo>
                <a:lnTo>
                  <a:pt x="167" y="442"/>
                </a:lnTo>
                <a:lnTo>
                  <a:pt x="177" y="444"/>
                </a:lnTo>
                <a:lnTo>
                  <a:pt x="177" y="442"/>
                </a:lnTo>
                <a:lnTo>
                  <a:pt x="177" y="442"/>
                </a:lnTo>
                <a:lnTo>
                  <a:pt x="177" y="440"/>
                </a:lnTo>
                <a:lnTo>
                  <a:pt x="177" y="438"/>
                </a:lnTo>
                <a:lnTo>
                  <a:pt x="177" y="438"/>
                </a:lnTo>
                <a:lnTo>
                  <a:pt x="177" y="436"/>
                </a:lnTo>
                <a:lnTo>
                  <a:pt x="177" y="434"/>
                </a:lnTo>
                <a:lnTo>
                  <a:pt x="177" y="434"/>
                </a:lnTo>
                <a:lnTo>
                  <a:pt x="167" y="434"/>
                </a:lnTo>
                <a:lnTo>
                  <a:pt x="146" y="430"/>
                </a:lnTo>
                <a:lnTo>
                  <a:pt x="127" y="425"/>
                </a:lnTo>
                <a:lnTo>
                  <a:pt x="107" y="417"/>
                </a:lnTo>
                <a:lnTo>
                  <a:pt x="88" y="409"/>
                </a:lnTo>
                <a:lnTo>
                  <a:pt x="71" y="398"/>
                </a:lnTo>
                <a:lnTo>
                  <a:pt x="54" y="386"/>
                </a:lnTo>
                <a:lnTo>
                  <a:pt x="38" y="373"/>
                </a:lnTo>
                <a:lnTo>
                  <a:pt x="25" y="357"/>
                </a:lnTo>
                <a:lnTo>
                  <a:pt x="13" y="340"/>
                </a:lnTo>
                <a:lnTo>
                  <a:pt x="2" y="323"/>
                </a:lnTo>
                <a:lnTo>
                  <a:pt x="0" y="317"/>
                </a:lnTo>
                <a:lnTo>
                  <a:pt x="0" y="321"/>
                </a:lnTo>
                <a:lnTo>
                  <a:pt x="0" y="323"/>
                </a:lnTo>
                <a:lnTo>
                  <a:pt x="0" y="325"/>
                </a:lnTo>
                <a:lnTo>
                  <a:pt x="0" y="329"/>
                </a:lnTo>
                <a:lnTo>
                  <a:pt x="0" y="330"/>
                </a:lnTo>
                <a:lnTo>
                  <a:pt x="0" y="332"/>
                </a:lnTo>
                <a:lnTo>
                  <a:pt x="0" y="336"/>
                </a:lnTo>
                <a:lnTo>
                  <a:pt x="0" y="338"/>
                </a:lnTo>
                <a:close/>
              </a:path>
            </a:pathLst>
          </a:custGeom>
          <a:solidFill>
            <a:srgbClr val="d1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244"/>
          <p:cNvSpPr/>
          <p:nvPr/>
        </p:nvSpPr>
        <p:spPr>
          <a:xfrm>
            <a:off x="6827760" y="2952720"/>
            <a:ext cx="282600" cy="689040"/>
          </a:xfrm>
          <a:custGeom>
            <a:avLst/>
            <a:gdLst>
              <a:gd name="textAreaLeft" fmla="*/ 0 w 282600"/>
              <a:gd name="textAreaRight" fmla="*/ 282960 w 28260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178" h="434">
                <a:moveTo>
                  <a:pt x="178" y="0"/>
                </a:moveTo>
                <a:lnTo>
                  <a:pt x="167" y="0"/>
                </a:lnTo>
                <a:lnTo>
                  <a:pt x="146" y="4"/>
                </a:lnTo>
                <a:lnTo>
                  <a:pt x="125" y="10"/>
                </a:lnTo>
                <a:lnTo>
                  <a:pt x="106" y="18"/>
                </a:lnTo>
                <a:lnTo>
                  <a:pt x="86" y="27"/>
                </a:lnTo>
                <a:lnTo>
                  <a:pt x="67" y="37"/>
                </a:lnTo>
                <a:lnTo>
                  <a:pt x="52" y="50"/>
                </a:lnTo>
                <a:lnTo>
                  <a:pt x="36" y="64"/>
                </a:lnTo>
                <a:lnTo>
                  <a:pt x="21" y="79"/>
                </a:lnTo>
                <a:lnTo>
                  <a:pt x="10" y="96"/>
                </a:lnTo>
                <a:lnTo>
                  <a:pt x="8" y="100"/>
                </a:lnTo>
                <a:lnTo>
                  <a:pt x="8" y="102"/>
                </a:lnTo>
                <a:lnTo>
                  <a:pt x="6" y="104"/>
                </a:lnTo>
                <a:lnTo>
                  <a:pt x="6" y="108"/>
                </a:lnTo>
                <a:lnTo>
                  <a:pt x="6" y="110"/>
                </a:lnTo>
                <a:lnTo>
                  <a:pt x="6" y="113"/>
                </a:lnTo>
                <a:lnTo>
                  <a:pt x="6" y="115"/>
                </a:lnTo>
                <a:lnTo>
                  <a:pt x="6" y="119"/>
                </a:lnTo>
                <a:lnTo>
                  <a:pt x="6" y="121"/>
                </a:lnTo>
                <a:lnTo>
                  <a:pt x="6" y="119"/>
                </a:lnTo>
                <a:lnTo>
                  <a:pt x="17" y="102"/>
                </a:lnTo>
                <a:lnTo>
                  <a:pt x="29" y="85"/>
                </a:lnTo>
                <a:lnTo>
                  <a:pt x="42" y="71"/>
                </a:lnTo>
                <a:lnTo>
                  <a:pt x="58" y="58"/>
                </a:lnTo>
                <a:lnTo>
                  <a:pt x="73" y="44"/>
                </a:lnTo>
                <a:lnTo>
                  <a:pt x="90" y="35"/>
                </a:lnTo>
                <a:lnTo>
                  <a:pt x="109" y="25"/>
                </a:lnTo>
                <a:lnTo>
                  <a:pt x="127" y="19"/>
                </a:lnTo>
                <a:lnTo>
                  <a:pt x="148" y="14"/>
                </a:lnTo>
                <a:lnTo>
                  <a:pt x="169" y="10"/>
                </a:lnTo>
                <a:lnTo>
                  <a:pt x="177" y="10"/>
                </a:lnTo>
                <a:lnTo>
                  <a:pt x="177" y="8"/>
                </a:lnTo>
                <a:lnTo>
                  <a:pt x="177" y="8"/>
                </a:lnTo>
                <a:lnTo>
                  <a:pt x="177" y="6"/>
                </a:lnTo>
                <a:lnTo>
                  <a:pt x="177" y="6"/>
                </a:lnTo>
                <a:lnTo>
                  <a:pt x="177" y="4"/>
                </a:lnTo>
                <a:lnTo>
                  <a:pt x="178" y="2"/>
                </a:lnTo>
                <a:lnTo>
                  <a:pt x="178" y="2"/>
                </a:lnTo>
                <a:lnTo>
                  <a:pt x="178" y="0"/>
                </a:lnTo>
                <a:close/>
                <a:moveTo>
                  <a:pt x="0" y="325"/>
                </a:moveTo>
                <a:lnTo>
                  <a:pt x="10" y="340"/>
                </a:lnTo>
                <a:lnTo>
                  <a:pt x="21" y="355"/>
                </a:lnTo>
                <a:lnTo>
                  <a:pt x="36" y="371"/>
                </a:lnTo>
                <a:lnTo>
                  <a:pt x="52" y="386"/>
                </a:lnTo>
                <a:lnTo>
                  <a:pt x="67" y="397"/>
                </a:lnTo>
                <a:lnTo>
                  <a:pt x="86" y="409"/>
                </a:lnTo>
                <a:lnTo>
                  <a:pt x="106" y="419"/>
                </a:lnTo>
                <a:lnTo>
                  <a:pt x="125" y="426"/>
                </a:lnTo>
                <a:lnTo>
                  <a:pt x="146" y="430"/>
                </a:lnTo>
                <a:lnTo>
                  <a:pt x="167" y="434"/>
                </a:lnTo>
                <a:lnTo>
                  <a:pt x="177" y="434"/>
                </a:lnTo>
                <a:lnTo>
                  <a:pt x="177" y="434"/>
                </a:lnTo>
                <a:lnTo>
                  <a:pt x="177" y="432"/>
                </a:lnTo>
                <a:lnTo>
                  <a:pt x="177" y="430"/>
                </a:lnTo>
                <a:lnTo>
                  <a:pt x="177" y="430"/>
                </a:lnTo>
                <a:lnTo>
                  <a:pt x="177" y="428"/>
                </a:lnTo>
                <a:lnTo>
                  <a:pt x="175" y="428"/>
                </a:lnTo>
                <a:lnTo>
                  <a:pt x="175" y="426"/>
                </a:lnTo>
                <a:lnTo>
                  <a:pt x="175" y="424"/>
                </a:lnTo>
                <a:lnTo>
                  <a:pt x="169" y="424"/>
                </a:lnTo>
                <a:lnTo>
                  <a:pt x="148" y="421"/>
                </a:lnTo>
                <a:lnTo>
                  <a:pt x="127" y="417"/>
                </a:lnTo>
                <a:lnTo>
                  <a:pt x="109" y="409"/>
                </a:lnTo>
                <a:lnTo>
                  <a:pt x="90" y="401"/>
                </a:lnTo>
                <a:lnTo>
                  <a:pt x="73" y="390"/>
                </a:lnTo>
                <a:lnTo>
                  <a:pt x="58" y="378"/>
                </a:lnTo>
                <a:lnTo>
                  <a:pt x="42" y="365"/>
                </a:lnTo>
                <a:lnTo>
                  <a:pt x="29" y="350"/>
                </a:lnTo>
                <a:lnTo>
                  <a:pt x="17" y="334"/>
                </a:lnTo>
                <a:lnTo>
                  <a:pt x="6" y="317"/>
                </a:lnTo>
                <a:lnTo>
                  <a:pt x="0" y="302"/>
                </a:lnTo>
                <a:lnTo>
                  <a:pt x="0" y="305"/>
                </a:lnTo>
                <a:lnTo>
                  <a:pt x="0" y="307"/>
                </a:lnTo>
                <a:lnTo>
                  <a:pt x="0" y="311"/>
                </a:lnTo>
                <a:lnTo>
                  <a:pt x="0" y="313"/>
                </a:lnTo>
                <a:lnTo>
                  <a:pt x="0" y="315"/>
                </a:lnTo>
                <a:lnTo>
                  <a:pt x="0" y="319"/>
                </a:lnTo>
                <a:lnTo>
                  <a:pt x="0" y="321"/>
                </a:lnTo>
                <a:lnTo>
                  <a:pt x="0" y="325"/>
                </a:lnTo>
                <a:close/>
              </a:path>
            </a:pathLst>
          </a:custGeom>
          <a:solidFill>
            <a:srgbClr val="d2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245"/>
          <p:cNvSpPr/>
          <p:nvPr/>
        </p:nvSpPr>
        <p:spPr>
          <a:xfrm>
            <a:off x="6827760" y="2962440"/>
            <a:ext cx="281160" cy="672840"/>
          </a:xfrm>
          <a:custGeom>
            <a:avLst/>
            <a:gdLst>
              <a:gd name="textAreaLeft" fmla="*/ 0 w 281160"/>
              <a:gd name="textAreaRight" fmla="*/ 281520 w 281160"/>
              <a:gd name="textAreaTop" fmla="*/ 0 h 672840"/>
              <a:gd name="textAreaBottom" fmla="*/ 672840 h 672840"/>
            </a:gdLst>
            <a:ahLst/>
            <a:rect l="textAreaLeft" t="textAreaTop" r="textAreaRight" b="textAreaBottom"/>
            <a:pathLst>
              <a:path w="177" h="424">
                <a:moveTo>
                  <a:pt x="177" y="0"/>
                </a:moveTo>
                <a:lnTo>
                  <a:pt x="167" y="0"/>
                </a:lnTo>
                <a:lnTo>
                  <a:pt x="146" y="4"/>
                </a:lnTo>
                <a:lnTo>
                  <a:pt x="127" y="8"/>
                </a:lnTo>
                <a:lnTo>
                  <a:pt x="107" y="15"/>
                </a:lnTo>
                <a:lnTo>
                  <a:pt x="88" y="25"/>
                </a:lnTo>
                <a:lnTo>
                  <a:pt x="71" y="35"/>
                </a:lnTo>
                <a:lnTo>
                  <a:pt x="54" y="48"/>
                </a:lnTo>
                <a:lnTo>
                  <a:pt x="38" y="61"/>
                </a:lnTo>
                <a:lnTo>
                  <a:pt x="25" y="77"/>
                </a:lnTo>
                <a:lnTo>
                  <a:pt x="13" y="92"/>
                </a:lnTo>
                <a:lnTo>
                  <a:pt x="6" y="104"/>
                </a:lnTo>
                <a:lnTo>
                  <a:pt x="6" y="107"/>
                </a:lnTo>
                <a:lnTo>
                  <a:pt x="6" y="109"/>
                </a:lnTo>
                <a:lnTo>
                  <a:pt x="6" y="113"/>
                </a:lnTo>
                <a:lnTo>
                  <a:pt x="6" y="115"/>
                </a:lnTo>
                <a:lnTo>
                  <a:pt x="4" y="119"/>
                </a:lnTo>
                <a:lnTo>
                  <a:pt x="4" y="123"/>
                </a:lnTo>
                <a:lnTo>
                  <a:pt x="4" y="125"/>
                </a:lnTo>
                <a:lnTo>
                  <a:pt x="4" y="129"/>
                </a:lnTo>
                <a:lnTo>
                  <a:pt x="12" y="115"/>
                </a:lnTo>
                <a:lnTo>
                  <a:pt x="21" y="98"/>
                </a:lnTo>
                <a:lnTo>
                  <a:pt x="33" y="83"/>
                </a:lnTo>
                <a:lnTo>
                  <a:pt x="46" y="67"/>
                </a:lnTo>
                <a:lnTo>
                  <a:pt x="60" y="54"/>
                </a:lnTo>
                <a:lnTo>
                  <a:pt x="75" y="42"/>
                </a:lnTo>
                <a:lnTo>
                  <a:pt x="92" y="33"/>
                </a:lnTo>
                <a:lnTo>
                  <a:pt x="109" y="25"/>
                </a:lnTo>
                <a:lnTo>
                  <a:pt x="129" y="17"/>
                </a:lnTo>
                <a:lnTo>
                  <a:pt x="148" y="12"/>
                </a:lnTo>
                <a:lnTo>
                  <a:pt x="169" y="10"/>
                </a:lnTo>
                <a:lnTo>
                  <a:pt x="177" y="10"/>
                </a:lnTo>
                <a:lnTo>
                  <a:pt x="177" y="8"/>
                </a:lnTo>
                <a:lnTo>
                  <a:pt x="177" y="6"/>
                </a:lnTo>
                <a:lnTo>
                  <a:pt x="177" y="6"/>
                </a:lnTo>
                <a:lnTo>
                  <a:pt x="177" y="4"/>
                </a:lnTo>
                <a:lnTo>
                  <a:pt x="177" y="2"/>
                </a:lnTo>
                <a:lnTo>
                  <a:pt x="177" y="2"/>
                </a:lnTo>
                <a:lnTo>
                  <a:pt x="177" y="0"/>
                </a:lnTo>
                <a:lnTo>
                  <a:pt x="177" y="0"/>
                </a:lnTo>
                <a:close/>
                <a:moveTo>
                  <a:pt x="0" y="307"/>
                </a:moveTo>
                <a:lnTo>
                  <a:pt x="2" y="313"/>
                </a:lnTo>
                <a:lnTo>
                  <a:pt x="13" y="330"/>
                </a:lnTo>
                <a:lnTo>
                  <a:pt x="25" y="347"/>
                </a:lnTo>
                <a:lnTo>
                  <a:pt x="38" y="363"/>
                </a:lnTo>
                <a:lnTo>
                  <a:pt x="54" y="376"/>
                </a:lnTo>
                <a:lnTo>
                  <a:pt x="71" y="388"/>
                </a:lnTo>
                <a:lnTo>
                  <a:pt x="88" y="399"/>
                </a:lnTo>
                <a:lnTo>
                  <a:pt x="107" y="407"/>
                </a:lnTo>
                <a:lnTo>
                  <a:pt x="127" y="415"/>
                </a:lnTo>
                <a:lnTo>
                  <a:pt x="146" y="420"/>
                </a:lnTo>
                <a:lnTo>
                  <a:pt x="167" y="424"/>
                </a:lnTo>
                <a:lnTo>
                  <a:pt x="177" y="424"/>
                </a:lnTo>
                <a:lnTo>
                  <a:pt x="177" y="422"/>
                </a:lnTo>
                <a:lnTo>
                  <a:pt x="175" y="422"/>
                </a:lnTo>
                <a:lnTo>
                  <a:pt x="175" y="420"/>
                </a:lnTo>
                <a:lnTo>
                  <a:pt x="175" y="418"/>
                </a:lnTo>
                <a:lnTo>
                  <a:pt x="175" y="418"/>
                </a:lnTo>
                <a:lnTo>
                  <a:pt x="175" y="416"/>
                </a:lnTo>
                <a:lnTo>
                  <a:pt x="175" y="415"/>
                </a:lnTo>
                <a:lnTo>
                  <a:pt x="175" y="415"/>
                </a:lnTo>
                <a:lnTo>
                  <a:pt x="169" y="415"/>
                </a:lnTo>
                <a:lnTo>
                  <a:pt x="148" y="411"/>
                </a:lnTo>
                <a:lnTo>
                  <a:pt x="129" y="405"/>
                </a:lnTo>
                <a:lnTo>
                  <a:pt x="109" y="399"/>
                </a:lnTo>
                <a:lnTo>
                  <a:pt x="92" y="390"/>
                </a:lnTo>
                <a:lnTo>
                  <a:pt x="75" y="380"/>
                </a:lnTo>
                <a:lnTo>
                  <a:pt x="60" y="368"/>
                </a:lnTo>
                <a:lnTo>
                  <a:pt x="46" y="355"/>
                </a:lnTo>
                <a:lnTo>
                  <a:pt x="33" y="342"/>
                </a:lnTo>
                <a:lnTo>
                  <a:pt x="21" y="324"/>
                </a:lnTo>
                <a:lnTo>
                  <a:pt x="12" y="309"/>
                </a:lnTo>
                <a:lnTo>
                  <a:pt x="2" y="290"/>
                </a:lnTo>
                <a:lnTo>
                  <a:pt x="0" y="282"/>
                </a:lnTo>
                <a:lnTo>
                  <a:pt x="0" y="286"/>
                </a:lnTo>
                <a:lnTo>
                  <a:pt x="0" y="290"/>
                </a:lnTo>
                <a:lnTo>
                  <a:pt x="0" y="292"/>
                </a:lnTo>
                <a:lnTo>
                  <a:pt x="0" y="296"/>
                </a:lnTo>
                <a:lnTo>
                  <a:pt x="0" y="297"/>
                </a:lnTo>
                <a:lnTo>
                  <a:pt x="0" y="301"/>
                </a:lnTo>
                <a:lnTo>
                  <a:pt x="0" y="305"/>
                </a:lnTo>
                <a:lnTo>
                  <a:pt x="0" y="307"/>
                </a:lnTo>
                <a:close/>
              </a:path>
            </a:pathLst>
          </a:custGeom>
          <a:solidFill>
            <a:srgbClr val="d3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246"/>
          <p:cNvSpPr/>
          <p:nvPr/>
        </p:nvSpPr>
        <p:spPr>
          <a:xfrm>
            <a:off x="6827760" y="2968560"/>
            <a:ext cx="281160" cy="657360"/>
          </a:xfrm>
          <a:custGeom>
            <a:avLst/>
            <a:gdLst>
              <a:gd name="textAreaLeft" fmla="*/ 0 w 281160"/>
              <a:gd name="textAreaRight" fmla="*/ 281520 w 281160"/>
              <a:gd name="textAreaTop" fmla="*/ 0 h 657360"/>
              <a:gd name="textAreaBottom" fmla="*/ 657360 h 657360"/>
            </a:gdLst>
            <a:ahLst/>
            <a:rect l="textAreaLeft" t="textAreaTop" r="textAreaRight" b="textAreaBottom"/>
            <a:pathLst>
              <a:path w="177" h="414">
                <a:moveTo>
                  <a:pt x="177" y="0"/>
                </a:moveTo>
                <a:lnTo>
                  <a:pt x="169" y="0"/>
                </a:lnTo>
                <a:lnTo>
                  <a:pt x="148" y="4"/>
                </a:lnTo>
                <a:lnTo>
                  <a:pt x="127" y="9"/>
                </a:lnTo>
                <a:lnTo>
                  <a:pt x="109" y="15"/>
                </a:lnTo>
                <a:lnTo>
                  <a:pt x="90" y="25"/>
                </a:lnTo>
                <a:lnTo>
                  <a:pt x="73" y="34"/>
                </a:lnTo>
                <a:lnTo>
                  <a:pt x="58" y="48"/>
                </a:lnTo>
                <a:lnTo>
                  <a:pt x="42" y="61"/>
                </a:lnTo>
                <a:lnTo>
                  <a:pt x="29" y="75"/>
                </a:lnTo>
                <a:lnTo>
                  <a:pt x="17" y="92"/>
                </a:lnTo>
                <a:lnTo>
                  <a:pt x="6" y="109"/>
                </a:lnTo>
                <a:lnTo>
                  <a:pt x="6" y="111"/>
                </a:lnTo>
                <a:lnTo>
                  <a:pt x="6" y="115"/>
                </a:lnTo>
                <a:lnTo>
                  <a:pt x="4" y="119"/>
                </a:lnTo>
                <a:lnTo>
                  <a:pt x="4" y="123"/>
                </a:lnTo>
                <a:lnTo>
                  <a:pt x="4" y="125"/>
                </a:lnTo>
                <a:lnTo>
                  <a:pt x="4" y="128"/>
                </a:lnTo>
                <a:lnTo>
                  <a:pt x="4" y="132"/>
                </a:lnTo>
                <a:lnTo>
                  <a:pt x="4" y="136"/>
                </a:lnTo>
                <a:lnTo>
                  <a:pt x="4" y="140"/>
                </a:lnTo>
                <a:lnTo>
                  <a:pt x="6" y="130"/>
                </a:lnTo>
                <a:lnTo>
                  <a:pt x="15" y="113"/>
                </a:lnTo>
                <a:lnTo>
                  <a:pt x="25" y="96"/>
                </a:lnTo>
                <a:lnTo>
                  <a:pt x="36" y="80"/>
                </a:lnTo>
                <a:lnTo>
                  <a:pt x="50" y="67"/>
                </a:lnTo>
                <a:lnTo>
                  <a:pt x="63" y="54"/>
                </a:lnTo>
                <a:lnTo>
                  <a:pt x="79" y="42"/>
                </a:lnTo>
                <a:lnTo>
                  <a:pt x="94" y="32"/>
                </a:lnTo>
                <a:lnTo>
                  <a:pt x="111" y="25"/>
                </a:lnTo>
                <a:lnTo>
                  <a:pt x="131" y="17"/>
                </a:lnTo>
                <a:lnTo>
                  <a:pt x="150" y="13"/>
                </a:lnTo>
                <a:lnTo>
                  <a:pt x="169" y="9"/>
                </a:lnTo>
                <a:lnTo>
                  <a:pt x="175" y="9"/>
                </a:lnTo>
                <a:lnTo>
                  <a:pt x="177" y="8"/>
                </a:lnTo>
                <a:lnTo>
                  <a:pt x="177" y="8"/>
                </a:lnTo>
                <a:lnTo>
                  <a:pt x="177" y="6"/>
                </a:lnTo>
                <a:lnTo>
                  <a:pt x="177" y="6"/>
                </a:lnTo>
                <a:lnTo>
                  <a:pt x="177" y="4"/>
                </a:lnTo>
                <a:lnTo>
                  <a:pt x="177" y="2"/>
                </a:lnTo>
                <a:lnTo>
                  <a:pt x="177" y="2"/>
                </a:lnTo>
                <a:lnTo>
                  <a:pt x="177" y="0"/>
                </a:lnTo>
                <a:close/>
                <a:moveTo>
                  <a:pt x="0" y="292"/>
                </a:moveTo>
                <a:lnTo>
                  <a:pt x="6" y="307"/>
                </a:lnTo>
                <a:lnTo>
                  <a:pt x="17" y="324"/>
                </a:lnTo>
                <a:lnTo>
                  <a:pt x="29" y="340"/>
                </a:lnTo>
                <a:lnTo>
                  <a:pt x="42" y="355"/>
                </a:lnTo>
                <a:lnTo>
                  <a:pt x="58" y="368"/>
                </a:lnTo>
                <a:lnTo>
                  <a:pt x="73" y="380"/>
                </a:lnTo>
                <a:lnTo>
                  <a:pt x="90" y="391"/>
                </a:lnTo>
                <a:lnTo>
                  <a:pt x="109" y="399"/>
                </a:lnTo>
                <a:lnTo>
                  <a:pt x="127" y="407"/>
                </a:lnTo>
                <a:lnTo>
                  <a:pt x="148" y="411"/>
                </a:lnTo>
                <a:lnTo>
                  <a:pt x="169" y="414"/>
                </a:lnTo>
                <a:lnTo>
                  <a:pt x="175" y="414"/>
                </a:lnTo>
                <a:lnTo>
                  <a:pt x="175" y="414"/>
                </a:lnTo>
                <a:lnTo>
                  <a:pt x="175" y="412"/>
                </a:lnTo>
                <a:lnTo>
                  <a:pt x="175" y="411"/>
                </a:lnTo>
                <a:lnTo>
                  <a:pt x="175" y="411"/>
                </a:lnTo>
                <a:lnTo>
                  <a:pt x="175" y="409"/>
                </a:lnTo>
                <a:lnTo>
                  <a:pt x="175" y="409"/>
                </a:lnTo>
                <a:lnTo>
                  <a:pt x="175" y="407"/>
                </a:lnTo>
                <a:lnTo>
                  <a:pt x="175" y="405"/>
                </a:lnTo>
                <a:lnTo>
                  <a:pt x="169" y="405"/>
                </a:lnTo>
                <a:lnTo>
                  <a:pt x="150" y="403"/>
                </a:lnTo>
                <a:lnTo>
                  <a:pt x="131" y="397"/>
                </a:lnTo>
                <a:lnTo>
                  <a:pt x="111" y="391"/>
                </a:lnTo>
                <a:lnTo>
                  <a:pt x="94" y="382"/>
                </a:lnTo>
                <a:lnTo>
                  <a:pt x="79" y="372"/>
                </a:lnTo>
                <a:lnTo>
                  <a:pt x="63" y="361"/>
                </a:lnTo>
                <a:lnTo>
                  <a:pt x="50" y="347"/>
                </a:lnTo>
                <a:lnTo>
                  <a:pt x="36" y="334"/>
                </a:lnTo>
                <a:lnTo>
                  <a:pt x="25" y="318"/>
                </a:lnTo>
                <a:lnTo>
                  <a:pt x="15" y="303"/>
                </a:lnTo>
                <a:lnTo>
                  <a:pt x="6" y="286"/>
                </a:lnTo>
                <a:lnTo>
                  <a:pt x="0" y="267"/>
                </a:lnTo>
                <a:lnTo>
                  <a:pt x="0" y="265"/>
                </a:lnTo>
                <a:lnTo>
                  <a:pt x="0" y="267"/>
                </a:lnTo>
                <a:lnTo>
                  <a:pt x="0" y="270"/>
                </a:lnTo>
                <a:lnTo>
                  <a:pt x="0" y="274"/>
                </a:lnTo>
                <a:lnTo>
                  <a:pt x="0" y="278"/>
                </a:lnTo>
                <a:lnTo>
                  <a:pt x="0" y="282"/>
                </a:lnTo>
                <a:lnTo>
                  <a:pt x="0" y="286"/>
                </a:lnTo>
                <a:lnTo>
                  <a:pt x="0" y="288"/>
                </a:lnTo>
                <a:lnTo>
                  <a:pt x="0" y="292"/>
                </a:lnTo>
                <a:close/>
              </a:path>
            </a:pathLst>
          </a:custGeom>
          <a:solidFill>
            <a:srgbClr val="d4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247"/>
          <p:cNvSpPr/>
          <p:nvPr/>
        </p:nvSpPr>
        <p:spPr>
          <a:xfrm>
            <a:off x="6824520" y="2978280"/>
            <a:ext cx="284400" cy="642960"/>
          </a:xfrm>
          <a:custGeom>
            <a:avLst/>
            <a:gdLst>
              <a:gd name="textAreaLeft" fmla="*/ 0 w 284400"/>
              <a:gd name="textAreaRight" fmla="*/ 284760 w 2844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9" h="405">
                <a:moveTo>
                  <a:pt x="179" y="0"/>
                </a:moveTo>
                <a:lnTo>
                  <a:pt x="171" y="0"/>
                </a:lnTo>
                <a:lnTo>
                  <a:pt x="150" y="2"/>
                </a:lnTo>
                <a:lnTo>
                  <a:pt x="131" y="7"/>
                </a:lnTo>
                <a:lnTo>
                  <a:pt x="111" y="15"/>
                </a:lnTo>
                <a:lnTo>
                  <a:pt x="94" y="23"/>
                </a:lnTo>
                <a:lnTo>
                  <a:pt x="77" y="32"/>
                </a:lnTo>
                <a:lnTo>
                  <a:pt x="62" y="44"/>
                </a:lnTo>
                <a:lnTo>
                  <a:pt x="48" y="57"/>
                </a:lnTo>
                <a:lnTo>
                  <a:pt x="35" y="73"/>
                </a:lnTo>
                <a:lnTo>
                  <a:pt x="23" y="88"/>
                </a:lnTo>
                <a:lnTo>
                  <a:pt x="14" y="105"/>
                </a:lnTo>
                <a:lnTo>
                  <a:pt x="6" y="119"/>
                </a:lnTo>
                <a:lnTo>
                  <a:pt x="6" y="122"/>
                </a:lnTo>
                <a:lnTo>
                  <a:pt x="6" y="126"/>
                </a:lnTo>
                <a:lnTo>
                  <a:pt x="6" y="132"/>
                </a:lnTo>
                <a:lnTo>
                  <a:pt x="4" y="136"/>
                </a:lnTo>
                <a:lnTo>
                  <a:pt x="4" y="140"/>
                </a:lnTo>
                <a:lnTo>
                  <a:pt x="4" y="145"/>
                </a:lnTo>
                <a:lnTo>
                  <a:pt x="4" y="149"/>
                </a:lnTo>
                <a:lnTo>
                  <a:pt x="4" y="153"/>
                </a:lnTo>
                <a:lnTo>
                  <a:pt x="6" y="144"/>
                </a:lnTo>
                <a:lnTo>
                  <a:pt x="14" y="126"/>
                </a:lnTo>
                <a:lnTo>
                  <a:pt x="21" y="109"/>
                </a:lnTo>
                <a:lnTo>
                  <a:pt x="31" y="94"/>
                </a:lnTo>
                <a:lnTo>
                  <a:pt x="42" y="78"/>
                </a:lnTo>
                <a:lnTo>
                  <a:pt x="54" y="65"/>
                </a:lnTo>
                <a:lnTo>
                  <a:pt x="67" y="51"/>
                </a:lnTo>
                <a:lnTo>
                  <a:pt x="83" y="40"/>
                </a:lnTo>
                <a:lnTo>
                  <a:pt x="100" y="30"/>
                </a:lnTo>
                <a:lnTo>
                  <a:pt x="115" y="23"/>
                </a:lnTo>
                <a:lnTo>
                  <a:pt x="134" y="17"/>
                </a:lnTo>
                <a:lnTo>
                  <a:pt x="152" y="11"/>
                </a:lnTo>
                <a:lnTo>
                  <a:pt x="171" y="9"/>
                </a:lnTo>
                <a:lnTo>
                  <a:pt x="177" y="9"/>
                </a:lnTo>
                <a:lnTo>
                  <a:pt x="177" y="7"/>
                </a:lnTo>
                <a:lnTo>
                  <a:pt x="177" y="5"/>
                </a:lnTo>
                <a:lnTo>
                  <a:pt x="177" y="5"/>
                </a:lnTo>
                <a:lnTo>
                  <a:pt x="177" y="3"/>
                </a:lnTo>
                <a:lnTo>
                  <a:pt x="179" y="2"/>
                </a:lnTo>
                <a:lnTo>
                  <a:pt x="179" y="2"/>
                </a:lnTo>
                <a:lnTo>
                  <a:pt x="179" y="0"/>
                </a:lnTo>
                <a:lnTo>
                  <a:pt x="179" y="0"/>
                </a:lnTo>
                <a:close/>
                <a:moveTo>
                  <a:pt x="2" y="272"/>
                </a:moveTo>
                <a:lnTo>
                  <a:pt x="4" y="280"/>
                </a:lnTo>
                <a:lnTo>
                  <a:pt x="14" y="299"/>
                </a:lnTo>
                <a:lnTo>
                  <a:pt x="23" y="314"/>
                </a:lnTo>
                <a:lnTo>
                  <a:pt x="35" y="332"/>
                </a:lnTo>
                <a:lnTo>
                  <a:pt x="48" y="345"/>
                </a:lnTo>
                <a:lnTo>
                  <a:pt x="62" y="358"/>
                </a:lnTo>
                <a:lnTo>
                  <a:pt x="77" y="370"/>
                </a:lnTo>
                <a:lnTo>
                  <a:pt x="94" y="380"/>
                </a:lnTo>
                <a:lnTo>
                  <a:pt x="111" y="389"/>
                </a:lnTo>
                <a:lnTo>
                  <a:pt x="131" y="395"/>
                </a:lnTo>
                <a:lnTo>
                  <a:pt x="150" y="401"/>
                </a:lnTo>
                <a:lnTo>
                  <a:pt x="171" y="405"/>
                </a:lnTo>
                <a:lnTo>
                  <a:pt x="177" y="405"/>
                </a:lnTo>
                <a:lnTo>
                  <a:pt x="177" y="403"/>
                </a:lnTo>
                <a:lnTo>
                  <a:pt x="177" y="403"/>
                </a:lnTo>
                <a:lnTo>
                  <a:pt x="177" y="401"/>
                </a:lnTo>
                <a:lnTo>
                  <a:pt x="177" y="399"/>
                </a:lnTo>
                <a:lnTo>
                  <a:pt x="175" y="399"/>
                </a:lnTo>
                <a:lnTo>
                  <a:pt x="175" y="397"/>
                </a:lnTo>
                <a:lnTo>
                  <a:pt x="175" y="395"/>
                </a:lnTo>
                <a:lnTo>
                  <a:pt x="175" y="395"/>
                </a:lnTo>
                <a:lnTo>
                  <a:pt x="171" y="395"/>
                </a:lnTo>
                <a:lnTo>
                  <a:pt x="152" y="391"/>
                </a:lnTo>
                <a:lnTo>
                  <a:pt x="134" y="387"/>
                </a:lnTo>
                <a:lnTo>
                  <a:pt x="115" y="380"/>
                </a:lnTo>
                <a:lnTo>
                  <a:pt x="100" y="372"/>
                </a:lnTo>
                <a:lnTo>
                  <a:pt x="83" y="362"/>
                </a:lnTo>
                <a:lnTo>
                  <a:pt x="67" y="351"/>
                </a:lnTo>
                <a:lnTo>
                  <a:pt x="54" y="339"/>
                </a:lnTo>
                <a:lnTo>
                  <a:pt x="42" y="326"/>
                </a:lnTo>
                <a:lnTo>
                  <a:pt x="31" y="310"/>
                </a:lnTo>
                <a:lnTo>
                  <a:pt x="21" y="293"/>
                </a:lnTo>
                <a:lnTo>
                  <a:pt x="14" y="278"/>
                </a:lnTo>
                <a:lnTo>
                  <a:pt x="6" y="259"/>
                </a:lnTo>
                <a:lnTo>
                  <a:pt x="2" y="241"/>
                </a:lnTo>
                <a:lnTo>
                  <a:pt x="2" y="238"/>
                </a:lnTo>
                <a:lnTo>
                  <a:pt x="0" y="241"/>
                </a:lnTo>
                <a:lnTo>
                  <a:pt x="0" y="247"/>
                </a:lnTo>
                <a:lnTo>
                  <a:pt x="0" y="251"/>
                </a:lnTo>
                <a:lnTo>
                  <a:pt x="0" y="255"/>
                </a:lnTo>
                <a:lnTo>
                  <a:pt x="2" y="261"/>
                </a:lnTo>
                <a:lnTo>
                  <a:pt x="2" y="264"/>
                </a:lnTo>
                <a:lnTo>
                  <a:pt x="2" y="268"/>
                </a:lnTo>
                <a:lnTo>
                  <a:pt x="2" y="272"/>
                </a:lnTo>
                <a:close/>
              </a:path>
            </a:pathLst>
          </a:cu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248"/>
          <p:cNvSpPr/>
          <p:nvPr/>
        </p:nvSpPr>
        <p:spPr>
          <a:xfrm>
            <a:off x="6827760" y="2982960"/>
            <a:ext cx="277920" cy="628560"/>
          </a:xfrm>
          <a:custGeom>
            <a:avLst/>
            <a:gdLst>
              <a:gd name="textAreaLeft" fmla="*/ 0 w 277920"/>
              <a:gd name="textAreaRight" fmla="*/ 278280 w 27792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75" h="396">
                <a:moveTo>
                  <a:pt x="175" y="0"/>
                </a:moveTo>
                <a:lnTo>
                  <a:pt x="169" y="0"/>
                </a:lnTo>
                <a:lnTo>
                  <a:pt x="150" y="4"/>
                </a:lnTo>
                <a:lnTo>
                  <a:pt x="131" y="8"/>
                </a:lnTo>
                <a:lnTo>
                  <a:pt x="111" y="16"/>
                </a:lnTo>
                <a:lnTo>
                  <a:pt x="94" y="23"/>
                </a:lnTo>
                <a:lnTo>
                  <a:pt x="79" y="33"/>
                </a:lnTo>
                <a:lnTo>
                  <a:pt x="63" y="45"/>
                </a:lnTo>
                <a:lnTo>
                  <a:pt x="50" y="58"/>
                </a:lnTo>
                <a:lnTo>
                  <a:pt x="36" y="71"/>
                </a:lnTo>
                <a:lnTo>
                  <a:pt x="25" y="87"/>
                </a:lnTo>
                <a:lnTo>
                  <a:pt x="15" y="104"/>
                </a:lnTo>
                <a:lnTo>
                  <a:pt x="6" y="121"/>
                </a:lnTo>
                <a:lnTo>
                  <a:pt x="4" y="131"/>
                </a:lnTo>
                <a:lnTo>
                  <a:pt x="2" y="146"/>
                </a:lnTo>
                <a:lnTo>
                  <a:pt x="2" y="162"/>
                </a:lnTo>
                <a:lnTo>
                  <a:pt x="0" y="177"/>
                </a:lnTo>
                <a:lnTo>
                  <a:pt x="0" y="192"/>
                </a:lnTo>
                <a:lnTo>
                  <a:pt x="0" y="208"/>
                </a:lnTo>
                <a:lnTo>
                  <a:pt x="0" y="225"/>
                </a:lnTo>
                <a:lnTo>
                  <a:pt x="0" y="240"/>
                </a:lnTo>
                <a:lnTo>
                  <a:pt x="0" y="256"/>
                </a:lnTo>
                <a:lnTo>
                  <a:pt x="0" y="258"/>
                </a:lnTo>
                <a:lnTo>
                  <a:pt x="6" y="277"/>
                </a:lnTo>
                <a:lnTo>
                  <a:pt x="15" y="294"/>
                </a:lnTo>
                <a:lnTo>
                  <a:pt x="25" y="309"/>
                </a:lnTo>
                <a:lnTo>
                  <a:pt x="36" y="325"/>
                </a:lnTo>
                <a:lnTo>
                  <a:pt x="50" y="338"/>
                </a:lnTo>
                <a:lnTo>
                  <a:pt x="63" y="352"/>
                </a:lnTo>
                <a:lnTo>
                  <a:pt x="79" y="363"/>
                </a:lnTo>
                <a:lnTo>
                  <a:pt x="94" y="373"/>
                </a:lnTo>
                <a:lnTo>
                  <a:pt x="111" y="382"/>
                </a:lnTo>
                <a:lnTo>
                  <a:pt x="131" y="388"/>
                </a:lnTo>
                <a:lnTo>
                  <a:pt x="150" y="394"/>
                </a:lnTo>
                <a:lnTo>
                  <a:pt x="169" y="396"/>
                </a:lnTo>
                <a:lnTo>
                  <a:pt x="175" y="396"/>
                </a:lnTo>
                <a:lnTo>
                  <a:pt x="175" y="396"/>
                </a:lnTo>
                <a:lnTo>
                  <a:pt x="173" y="394"/>
                </a:lnTo>
                <a:lnTo>
                  <a:pt x="173" y="392"/>
                </a:lnTo>
                <a:lnTo>
                  <a:pt x="173" y="392"/>
                </a:lnTo>
                <a:lnTo>
                  <a:pt x="173" y="390"/>
                </a:lnTo>
                <a:lnTo>
                  <a:pt x="173" y="390"/>
                </a:lnTo>
                <a:lnTo>
                  <a:pt x="173" y="388"/>
                </a:lnTo>
                <a:lnTo>
                  <a:pt x="173" y="386"/>
                </a:lnTo>
                <a:lnTo>
                  <a:pt x="171" y="386"/>
                </a:lnTo>
                <a:lnTo>
                  <a:pt x="152" y="384"/>
                </a:lnTo>
                <a:lnTo>
                  <a:pt x="132" y="378"/>
                </a:lnTo>
                <a:lnTo>
                  <a:pt x="115" y="373"/>
                </a:lnTo>
                <a:lnTo>
                  <a:pt x="100" y="365"/>
                </a:lnTo>
                <a:lnTo>
                  <a:pt x="84" y="355"/>
                </a:lnTo>
                <a:lnTo>
                  <a:pt x="69" y="344"/>
                </a:lnTo>
                <a:lnTo>
                  <a:pt x="56" y="332"/>
                </a:lnTo>
                <a:lnTo>
                  <a:pt x="44" y="319"/>
                </a:lnTo>
                <a:lnTo>
                  <a:pt x="33" y="304"/>
                </a:lnTo>
                <a:lnTo>
                  <a:pt x="23" y="288"/>
                </a:lnTo>
                <a:lnTo>
                  <a:pt x="15" y="273"/>
                </a:lnTo>
                <a:lnTo>
                  <a:pt x="10" y="256"/>
                </a:lnTo>
                <a:lnTo>
                  <a:pt x="4" y="236"/>
                </a:lnTo>
                <a:lnTo>
                  <a:pt x="2" y="217"/>
                </a:lnTo>
                <a:lnTo>
                  <a:pt x="0" y="198"/>
                </a:lnTo>
                <a:lnTo>
                  <a:pt x="2" y="179"/>
                </a:lnTo>
                <a:lnTo>
                  <a:pt x="4" y="160"/>
                </a:lnTo>
                <a:lnTo>
                  <a:pt x="10" y="142"/>
                </a:lnTo>
                <a:lnTo>
                  <a:pt x="15" y="125"/>
                </a:lnTo>
                <a:lnTo>
                  <a:pt x="23" y="108"/>
                </a:lnTo>
                <a:lnTo>
                  <a:pt x="33" y="93"/>
                </a:lnTo>
                <a:lnTo>
                  <a:pt x="44" y="79"/>
                </a:lnTo>
                <a:lnTo>
                  <a:pt x="56" y="64"/>
                </a:lnTo>
                <a:lnTo>
                  <a:pt x="69" y="52"/>
                </a:lnTo>
                <a:lnTo>
                  <a:pt x="84" y="41"/>
                </a:lnTo>
                <a:lnTo>
                  <a:pt x="100" y="33"/>
                </a:lnTo>
                <a:lnTo>
                  <a:pt x="115" y="23"/>
                </a:lnTo>
                <a:lnTo>
                  <a:pt x="132" y="18"/>
                </a:lnTo>
                <a:lnTo>
                  <a:pt x="152" y="14"/>
                </a:lnTo>
                <a:lnTo>
                  <a:pt x="171" y="10"/>
                </a:lnTo>
                <a:lnTo>
                  <a:pt x="175" y="10"/>
                </a:lnTo>
                <a:lnTo>
                  <a:pt x="175" y="8"/>
                </a:lnTo>
                <a:lnTo>
                  <a:pt x="175" y="8"/>
                </a:lnTo>
                <a:lnTo>
                  <a:pt x="175" y="6"/>
                </a:lnTo>
                <a:lnTo>
                  <a:pt x="175" y="6"/>
                </a:lnTo>
                <a:lnTo>
                  <a:pt x="175" y="4"/>
                </a:lnTo>
                <a:lnTo>
                  <a:pt x="175" y="2"/>
                </a:lnTo>
                <a:lnTo>
                  <a:pt x="175" y="2"/>
                </a:lnTo>
                <a:lnTo>
                  <a:pt x="175" y="0"/>
                </a:lnTo>
                <a:close/>
              </a:path>
            </a:pathLst>
          </a:custGeom>
          <a:solidFill>
            <a:srgbClr val="d6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249"/>
          <p:cNvSpPr/>
          <p:nvPr/>
        </p:nvSpPr>
        <p:spPr>
          <a:xfrm>
            <a:off x="6827760" y="2992320"/>
            <a:ext cx="277920" cy="612720"/>
          </a:xfrm>
          <a:custGeom>
            <a:avLst/>
            <a:gdLst>
              <a:gd name="textAreaLeft" fmla="*/ 0 w 277920"/>
              <a:gd name="textAreaRight" fmla="*/ 278280 w 277920"/>
              <a:gd name="textAreaTop" fmla="*/ 0 h 612720"/>
              <a:gd name="textAreaBottom" fmla="*/ 612720 h 612720"/>
            </a:gdLst>
            <a:ahLst/>
            <a:rect l="textAreaLeft" t="textAreaTop" r="textAreaRight" b="textAreaBottom"/>
            <a:pathLst>
              <a:path w="175" h="386">
                <a:moveTo>
                  <a:pt x="175" y="0"/>
                </a:moveTo>
                <a:lnTo>
                  <a:pt x="169" y="0"/>
                </a:lnTo>
                <a:lnTo>
                  <a:pt x="150" y="2"/>
                </a:lnTo>
                <a:lnTo>
                  <a:pt x="132" y="8"/>
                </a:lnTo>
                <a:lnTo>
                  <a:pt x="113" y="14"/>
                </a:lnTo>
                <a:lnTo>
                  <a:pt x="98" y="21"/>
                </a:lnTo>
                <a:lnTo>
                  <a:pt x="81" y="31"/>
                </a:lnTo>
                <a:lnTo>
                  <a:pt x="65" y="42"/>
                </a:lnTo>
                <a:lnTo>
                  <a:pt x="52" y="56"/>
                </a:lnTo>
                <a:lnTo>
                  <a:pt x="40" y="69"/>
                </a:lnTo>
                <a:lnTo>
                  <a:pt x="29" y="85"/>
                </a:lnTo>
                <a:lnTo>
                  <a:pt x="19" y="100"/>
                </a:lnTo>
                <a:lnTo>
                  <a:pt x="12" y="117"/>
                </a:lnTo>
                <a:lnTo>
                  <a:pt x="4" y="135"/>
                </a:lnTo>
                <a:lnTo>
                  <a:pt x="2" y="144"/>
                </a:lnTo>
                <a:lnTo>
                  <a:pt x="2" y="156"/>
                </a:lnTo>
                <a:lnTo>
                  <a:pt x="0" y="165"/>
                </a:lnTo>
                <a:lnTo>
                  <a:pt x="0" y="177"/>
                </a:lnTo>
                <a:lnTo>
                  <a:pt x="0" y="186"/>
                </a:lnTo>
                <a:lnTo>
                  <a:pt x="0" y="198"/>
                </a:lnTo>
                <a:lnTo>
                  <a:pt x="0" y="207"/>
                </a:lnTo>
                <a:lnTo>
                  <a:pt x="0" y="219"/>
                </a:lnTo>
                <a:lnTo>
                  <a:pt x="0" y="229"/>
                </a:lnTo>
                <a:lnTo>
                  <a:pt x="0" y="232"/>
                </a:lnTo>
                <a:lnTo>
                  <a:pt x="4" y="250"/>
                </a:lnTo>
                <a:lnTo>
                  <a:pt x="12" y="269"/>
                </a:lnTo>
                <a:lnTo>
                  <a:pt x="19" y="284"/>
                </a:lnTo>
                <a:lnTo>
                  <a:pt x="29" y="301"/>
                </a:lnTo>
                <a:lnTo>
                  <a:pt x="40" y="317"/>
                </a:lnTo>
                <a:lnTo>
                  <a:pt x="52" y="330"/>
                </a:lnTo>
                <a:lnTo>
                  <a:pt x="65" y="342"/>
                </a:lnTo>
                <a:lnTo>
                  <a:pt x="81" y="353"/>
                </a:lnTo>
                <a:lnTo>
                  <a:pt x="98" y="363"/>
                </a:lnTo>
                <a:lnTo>
                  <a:pt x="113" y="371"/>
                </a:lnTo>
                <a:lnTo>
                  <a:pt x="132" y="378"/>
                </a:lnTo>
                <a:lnTo>
                  <a:pt x="150" y="382"/>
                </a:lnTo>
                <a:lnTo>
                  <a:pt x="169" y="386"/>
                </a:lnTo>
                <a:lnTo>
                  <a:pt x="173" y="386"/>
                </a:lnTo>
                <a:lnTo>
                  <a:pt x="173" y="384"/>
                </a:lnTo>
                <a:lnTo>
                  <a:pt x="173" y="384"/>
                </a:lnTo>
                <a:lnTo>
                  <a:pt x="173" y="382"/>
                </a:lnTo>
                <a:lnTo>
                  <a:pt x="173" y="380"/>
                </a:lnTo>
                <a:lnTo>
                  <a:pt x="173" y="380"/>
                </a:lnTo>
                <a:lnTo>
                  <a:pt x="173" y="378"/>
                </a:lnTo>
                <a:lnTo>
                  <a:pt x="173" y="378"/>
                </a:lnTo>
                <a:lnTo>
                  <a:pt x="173" y="376"/>
                </a:lnTo>
                <a:lnTo>
                  <a:pt x="171" y="376"/>
                </a:lnTo>
                <a:lnTo>
                  <a:pt x="152" y="372"/>
                </a:lnTo>
                <a:lnTo>
                  <a:pt x="134" y="369"/>
                </a:lnTo>
                <a:lnTo>
                  <a:pt x="117" y="363"/>
                </a:lnTo>
                <a:lnTo>
                  <a:pt x="102" y="355"/>
                </a:lnTo>
                <a:lnTo>
                  <a:pt x="86" y="346"/>
                </a:lnTo>
                <a:lnTo>
                  <a:pt x="73" y="334"/>
                </a:lnTo>
                <a:lnTo>
                  <a:pt x="60" y="323"/>
                </a:lnTo>
                <a:lnTo>
                  <a:pt x="48" y="309"/>
                </a:lnTo>
                <a:lnTo>
                  <a:pt x="36" y="296"/>
                </a:lnTo>
                <a:lnTo>
                  <a:pt x="27" y="280"/>
                </a:lnTo>
                <a:lnTo>
                  <a:pt x="19" y="265"/>
                </a:lnTo>
                <a:lnTo>
                  <a:pt x="13" y="248"/>
                </a:lnTo>
                <a:lnTo>
                  <a:pt x="10" y="230"/>
                </a:lnTo>
                <a:lnTo>
                  <a:pt x="6" y="211"/>
                </a:lnTo>
                <a:lnTo>
                  <a:pt x="6" y="192"/>
                </a:lnTo>
                <a:lnTo>
                  <a:pt x="6" y="173"/>
                </a:lnTo>
                <a:lnTo>
                  <a:pt x="10" y="156"/>
                </a:lnTo>
                <a:lnTo>
                  <a:pt x="13" y="138"/>
                </a:lnTo>
                <a:lnTo>
                  <a:pt x="19" y="121"/>
                </a:lnTo>
                <a:lnTo>
                  <a:pt x="27" y="104"/>
                </a:lnTo>
                <a:lnTo>
                  <a:pt x="36" y="88"/>
                </a:lnTo>
                <a:lnTo>
                  <a:pt x="48" y="75"/>
                </a:lnTo>
                <a:lnTo>
                  <a:pt x="60" y="62"/>
                </a:lnTo>
                <a:lnTo>
                  <a:pt x="73" y="50"/>
                </a:lnTo>
                <a:lnTo>
                  <a:pt x="86" y="41"/>
                </a:lnTo>
                <a:lnTo>
                  <a:pt x="102" y="31"/>
                </a:lnTo>
                <a:lnTo>
                  <a:pt x="117" y="23"/>
                </a:lnTo>
                <a:lnTo>
                  <a:pt x="134" y="16"/>
                </a:lnTo>
                <a:lnTo>
                  <a:pt x="152" y="12"/>
                </a:lnTo>
                <a:lnTo>
                  <a:pt x="171" y="10"/>
                </a:lnTo>
                <a:lnTo>
                  <a:pt x="173" y="10"/>
                </a:lnTo>
                <a:lnTo>
                  <a:pt x="175" y="8"/>
                </a:lnTo>
                <a:lnTo>
                  <a:pt x="175" y="6"/>
                </a:lnTo>
                <a:lnTo>
                  <a:pt x="175" y="6"/>
                </a:lnTo>
                <a:lnTo>
                  <a:pt x="175" y="4"/>
                </a:lnTo>
                <a:lnTo>
                  <a:pt x="175" y="2"/>
                </a:lnTo>
                <a:lnTo>
                  <a:pt x="175" y="2"/>
                </a:lnTo>
                <a:lnTo>
                  <a:pt x="175" y="0"/>
                </a:lnTo>
                <a:lnTo>
                  <a:pt x="175" y="0"/>
                </a:lnTo>
                <a:close/>
              </a:path>
            </a:pathLst>
          </a:custGeom>
          <a:solidFill>
            <a:srgbClr val="d7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250"/>
          <p:cNvSpPr/>
          <p:nvPr/>
        </p:nvSpPr>
        <p:spPr>
          <a:xfrm>
            <a:off x="6827760" y="2998800"/>
            <a:ext cx="277920" cy="596880"/>
          </a:xfrm>
          <a:custGeom>
            <a:avLst/>
            <a:gdLst>
              <a:gd name="textAreaLeft" fmla="*/ 0 w 277920"/>
              <a:gd name="textAreaRight" fmla="*/ 278280 w 27792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75" h="376">
                <a:moveTo>
                  <a:pt x="175" y="0"/>
                </a:moveTo>
                <a:lnTo>
                  <a:pt x="171" y="0"/>
                </a:lnTo>
                <a:lnTo>
                  <a:pt x="152" y="4"/>
                </a:lnTo>
                <a:lnTo>
                  <a:pt x="132" y="8"/>
                </a:lnTo>
                <a:lnTo>
                  <a:pt x="115" y="13"/>
                </a:lnTo>
                <a:lnTo>
                  <a:pt x="100" y="23"/>
                </a:lnTo>
                <a:lnTo>
                  <a:pt x="84" y="31"/>
                </a:lnTo>
                <a:lnTo>
                  <a:pt x="69" y="42"/>
                </a:lnTo>
                <a:lnTo>
                  <a:pt x="56" y="54"/>
                </a:lnTo>
                <a:lnTo>
                  <a:pt x="44" y="69"/>
                </a:lnTo>
                <a:lnTo>
                  <a:pt x="33" y="83"/>
                </a:lnTo>
                <a:lnTo>
                  <a:pt x="23" y="98"/>
                </a:lnTo>
                <a:lnTo>
                  <a:pt x="15" y="115"/>
                </a:lnTo>
                <a:lnTo>
                  <a:pt x="10" y="132"/>
                </a:lnTo>
                <a:lnTo>
                  <a:pt x="4" y="150"/>
                </a:lnTo>
                <a:lnTo>
                  <a:pt x="2" y="169"/>
                </a:lnTo>
                <a:lnTo>
                  <a:pt x="0" y="188"/>
                </a:lnTo>
                <a:lnTo>
                  <a:pt x="2" y="207"/>
                </a:lnTo>
                <a:lnTo>
                  <a:pt x="4" y="226"/>
                </a:lnTo>
                <a:lnTo>
                  <a:pt x="10" y="246"/>
                </a:lnTo>
                <a:lnTo>
                  <a:pt x="15" y="263"/>
                </a:lnTo>
                <a:lnTo>
                  <a:pt x="23" y="278"/>
                </a:lnTo>
                <a:lnTo>
                  <a:pt x="33" y="294"/>
                </a:lnTo>
                <a:lnTo>
                  <a:pt x="44" y="309"/>
                </a:lnTo>
                <a:lnTo>
                  <a:pt x="56" y="322"/>
                </a:lnTo>
                <a:lnTo>
                  <a:pt x="69" y="334"/>
                </a:lnTo>
                <a:lnTo>
                  <a:pt x="84" y="345"/>
                </a:lnTo>
                <a:lnTo>
                  <a:pt x="100" y="355"/>
                </a:lnTo>
                <a:lnTo>
                  <a:pt x="115" y="363"/>
                </a:lnTo>
                <a:lnTo>
                  <a:pt x="132" y="368"/>
                </a:lnTo>
                <a:lnTo>
                  <a:pt x="152" y="374"/>
                </a:lnTo>
                <a:lnTo>
                  <a:pt x="171" y="376"/>
                </a:lnTo>
                <a:lnTo>
                  <a:pt x="173" y="376"/>
                </a:lnTo>
                <a:lnTo>
                  <a:pt x="173" y="376"/>
                </a:lnTo>
                <a:lnTo>
                  <a:pt x="173" y="374"/>
                </a:lnTo>
                <a:lnTo>
                  <a:pt x="173" y="374"/>
                </a:lnTo>
                <a:lnTo>
                  <a:pt x="173" y="372"/>
                </a:lnTo>
                <a:lnTo>
                  <a:pt x="173" y="370"/>
                </a:lnTo>
                <a:lnTo>
                  <a:pt x="173" y="370"/>
                </a:lnTo>
                <a:lnTo>
                  <a:pt x="171" y="368"/>
                </a:lnTo>
                <a:lnTo>
                  <a:pt x="171" y="367"/>
                </a:lnTo>
                <a:lnTo>
                  <a:pt x="171" y="367"/>
                </a:lnTo>
                <a:lnTo>
                  <a:pt x="154" y="365"/>
                </a:lnTo>
                <a:lnTo>
                  <a:pt x="136" y="361"/>
                </a:lnTo>
                <a:lnTo>
                  <a:pt x="119" y="355"/>
                </a:lnTo>
                <a:lnTo>
                  <a:pt x="104" y="347"/>
                </a:lnTo>
                <a:lnTo>
                  <a:pt x="88" y="338"/>
                </a:lnTo>
                <a:lnTo>
                  <a:pt x="75" y="326"/>
                </a:lnTo>
                <a:lnTo>
                  <a:pt x="63" y="315"/>
                </a:lnTo>
                <a:lnTo>
                  <a:pt x="50" y="303"/>
                </a:lnTo>
                <a:lnTo>
                  <a:pt x="40" y="290"/>
                </a:lnTo>
                <a:lnTo>
                  <a:pt x="31" y="274"/>
                </a:lnTo>
                <a:lnTo>
                  <a:pt x="23" y="259"/>
                </a:lnTo>
                <a:lnTo>
                  <a:pt x="17" y="242"/>
                </a:lnTo>
                <a:lnTo>
                  <a:pt x="13" y="225"/>
                </a:lnTo>
                <a:lnTo>
                  <a:pt x="12" y="207"/>
                </a:lnTo>
                <a:lnTo>
                  <a:pt x="10" y="188"/>
                </a:lnTo>
                <a:lnTo>
                  <a:pt x="12" y="171"/>
                </a:lnTo>
                <a:lnTo>
                  <a:pt x="13" y="152"/>
                </a:lnTo>
                <a:lnTo>
                  <a:pt x="17" y="134"/>
                </a:lnTo>
                <a:lnTo>
                  <a:pt x="23" y="119"/>
                </a:lnTo>
                <a:lnTo>
                  <a:pt x="31" y="104"/>
                </a:lnTo>
                <a:lnTo>
                  <a:pt x="40" y="88"/>
                </a:lnTo>
                <a:lnTo>
                  <a:pt x="50" y="75"/>
                </a:lnTo>
                <a:lnTo>
                  <a:pt x="63" y="61"/>
                </a:lnTo>
                <a:lnTo>
                  <a:pt x="75" y="50"/>
                </a:lnTo>
                <a:lnTo>
                  <a:pt x="88" y="40"/>
                </a:lnTo>
                <a:lnTo>
                  <a:pt x="104" y="31"/>
                </a:lnTo>
                <a:lnTo>
                  <a:pt x="119" y="23"/>
                </a:lnTo>
                <a:lnTo>
                  <a:pt x="136" y="17"/>
                </a:lnTo>
                <a:lnTo>
                  <a:pt x="154" y="12"/>
                </a:lnTo>
                <a:lnTo>
                  <a:pt x="171" y="10"/>
                </a:lnTo>
                <a:lnTo>
                  <a:pt x="173" y="10"/>
                </a:lnTo>
                <a:lnTo>
                  <a:pt x="173" y="8"/>
                </a:lnTo>
                <a:lnTo>
                  <a:pt x="173" y="8"/>
                </a:lnTo>
                <a:lnTo>
                  <a:pt x="173" y="6"/>
                </a:lnTo>
                <a:lnTo>
                  <a:pt x="173" y="4"/>
                </a:lnTo>
                <a:lnTo>
                  <a:pt x="175" y="4"/>
                </a:lnTo>
                <a:lnTo>
                  <a:pt x="175" y="2"/>
                </a:lnTo>
                <a:lnTo>
                  <a:pt x="175" y="2"/>
                </a:lnTo>
                <a:lnTo>
                  <a:pt x="175" y="0"/>
                </a:lnTo>
                <a:close/>
              </a:path>
            </a:pathLst>
          </a:custGeom>
          <a:solidFill>
            <a:srgbClr val="d8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251"/>
          <p:cNvSpPr/>
          <p:nvPr/>
        </p:nvSpPr>
        <p:spPr>
          <a:xfrm>
            <a:off x="6837480" y="3008160"/>
            <a:ext cx="264960" cy="581040"/>
          </a:xfrm>
          <a:custGeom>
            <a:avLst/>
            <a:gdLst>
              <a:gd name="textAreaLeft" fmla="*/ 0 w 264960"/>
              <a:gd name="textAreaRight" fmla="*/ 265320 w 2649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67" h="366">
                <a:moveTo>
                  <a:pt x="167" y="0"/>
                </a:moveTo>
                <a:lnTo>
                  <a:pt x="165" y="0"/>
                </a:lnTo>
                <a:lnTo>
                  <a:pt x="146" y="2"/>
                </a:lnTo>
                <a:lnTo>
                  <a:pt x="128" y="6"/>
                </a:lnTo>
                <a:lnTo>
                  <a:pt x="111" y="13"/>
                </a:lnTo>
                <a:lnTo>
                  <a:pt x="96" y="21"/>
                </a:lnTo>
                <a:lnTo>
                  <a:pt x="80" y="31"/>
                </a:lnTo>
                <a:lnTo>
                  <a:pt x="67" y="40"/>
                </a:lnTo>
                <a:lnTo>
                  <a:pt x="54" y="52"/>
                </a:lnTo>
                <a:lnTo>
                  <a:pt x="42" y="65"/>
                </a:lnTo>
                <a:lnTo>
                  <a:pt x="30" y="78"/>
                </a:lnTo>
                <a:lnTo>
                  <a:pt x="21" y="94"/>
                </a:lnTo>
                <a:lnTo>
                  <a:pt x="13" y="111"/>
                </a:lnTo>
                <a:lnTo>
                  <a:pt x="7" y="128"/>
                </a:lnTo>
                <a:lnTo>
                  <a:pt x="4" y="146"/>
                </a:lnTo>
                <a:lnTo>
                  <a:pt x="0" y="163"/>
                </a:lnTo>
                <a:lnTo>
                  <a:pt x="0" y="182"/>
                </a:lnTo>
                <a:lnTo>
                  <a:pt x="0" y="201"/>
                </a:lnTo>
                <a:lnTo>
                  <a:pt x="4" y="220"/>
                </a:lnTo>
                <a:lnTo>
                  <a:pt x="7" y="238"/>
                </a:lnTo>
                <a:lnTo>
                  <a:pt x="13" y="255"/>
                </a:lnTo>
                <a:lnTo>
                  <a:pt x="21" y="270"/>
                </a:lnTo>
                <a:lnTo>
                  <a:pt x="30" y="286"/>
                </a:lnTo>
                <a:lnTo>
                  <a:pt x="42" y="299"/>
                </a:lnTo>
                <a:lnTo>
                  <a:pt x="54" y="313"/>
                </a:lnTo>
                <a:lnTo>
                  <a:pt x="67" y="324"/>
                </a:lnTo>
                <a:lnTo>
                  <a:pt x="80" y="336"/>
                </a:lnTo>
                <a:lnTo>
                  <a:pt x="96" y="345"/>
                </a:lnTo>
                <a:lnTo>
                  <a:pt x="111" y="353"/>
                </a:lnTo>
                <a:lnTo>
                  <a:pt x="128" y="359"/>
                </a:lnTo>
                <a:lnTo>
                  <a:pt x="146" y="362"/>
                </a:lnTo>
                <a:lnTo>
                  <a:pt x="165" y="366"/>
                </a:lnTo>
                <a:lnTo>
                  <a:pt x="167" y="366"/>
                </a:lnTo>
                <a:lnTo>
                  <a:pt x="167" y="364"/>
                </a:lnTo>
                <a:lnTo>
                  <a:pt x="167" y="364"/>
                </a:lnTo>
                <a:lnTo>
                  <a:pt x="165" y="362"/>
                </a:lnTo>
                <a:lnTo>
                  <a:pt x="165" y="361"/>
                </a:lnTo>
                <a:lnTo>
                  <a:pt x="165" y="361"/>
                </a:lnTo>
                <a:lnTo>
                  <a:pt x="165" y="359"/>
                </a:lnTo>
                <a:lnTo>
                  <a:pt x="165" y="359"/>
                </a:lnTo>
                <a:lnTo>
                  <a:pt x="165" y="357"/>
                </a:lnTo>
                <a:lnTo>
                  <a:pt x="148" y="355"/>
                </a:lnTo>
                <a:lnTo>
                  <a:pt x="132" y="349"/>
                </a:lnTo>
                <a:lnTo>
                  <a:pt x="115" y="343"/>
                </a:lnTo>
                <a:lnTo>
                  <a:pt x="100" y="336"/>
                </a:lnTo>
                <a:lnTo>
                  <a:pt x="86" y="328"/>
                </a:lnTo>
                <a:lnTo>
                  <a:pt x="73" y="318"/>
                </a:lnTo>
                <a:lnTo>
                  <a:pt x="59" y="307"/>
                </a:lnTo>
                <a:lnTo>
                  <a:pt x="48" y="293"/>
                </a:lnTo>
                <a:lnTo>
                  <a:pt x="38" y="280"/>
                </a:lnTo>
                <a:lnTo>
                  <a:pt x="30" y="267"/>
                </a:lnTo>
                <a:lnTo>
                  <a:pt x="23" y="251"/>
                </a:lnTo>
                <a:lnTo>
                  <a:pt x="17" y="234"/>
                </a:lnTo>
                <a:lnTo>
                  <a:pt x="11" y="219"/>
                </a:lnTo>
                <a:lnTo>
                  <a:pt x="9" y="201"/>
                </a:lnTo>
                <a:lnTo>
                  <a:pt x="9" y="182"/>
                </a:lnTo>
                <a:lnTo>
                  <a:pt x="9" y="165"/>
                </a:lnTo>
                <a:lnTo>
                  <a:pt x="11" y="148"/>
                </a:lnTo>
                <a:lnTo>
                  <a:pt x="17" y="130"/>
                </a:lnTo>
                <a:lnTo>
                  <a:pt x="23" y="115"/>
                </a:lnTo>
                <a:lnTo>
                  <a:pt x="30" y="100"/>
                </a:lnTo>
                <a:lnTo>
                  <a:pt x="38" y="84"/>
                </a:lnTo>
                <a:lnTo>
                  <a:pt x="48" y="71"/>
                </a:lnTo>
                <a:lnTo>
                  <a:pt x="59" y="59"/>
                </a:lnTo>
                <a:lnTo>
                  <a:pt x="73" y="48"/>
                </a:lnTo>
                <a:lnTo>
                  <a:pt x="86" y="38"/>
                </a:lnTo>
                <a:lnTo>
                  <a:pt x="100" y="29"/>
                </a:lnTo>
                <a:lnTo>
                  <a:pt x="115" y="21"/>
                </a:lnTo>
                <a:lnTo>
                  <a:pt x="132" y="15"/>
                </a:lnTo>
                <a:lnTo>
                  <a:pt x="148" y="11"/>
                </a:lnTo>
                <a:lnTo>
                  <a:pt x="165" y="7"/>
                </a:lnTo>
                <a:lnTo>
                  <a:pt x="167" y="7"/>
                </a:lnTo>
                <a:lnTo>
                  <a:pt x="167" y="7"/>
                </a:lnTo>
                <a:lnTo>
                  <a:pt x="167" y="6"/>
                </a:lnTo>
                <a:lnTo>
                  <a:pt x="167" y="6"/>
                </a:lnTo>
                <a:lnTo>
                  <a:pt x="167" y="4"/>
                </a:lnTo>
                <a:lnTo>
                  <a:pt x="167" y="2"/>
                </a:lnTo>
                <a:lnTo>
                  <a:pt x="167" y="2"/>
                </a:lnTo>
                <a:lnTo>
                  <a:pt x="167" y="0"/>
                </a:lnTo>
                <a:lnTo>
                  <a:pt x="167" y="0"/>
                </a:lnTo>
                <a:close/>
              </a:path>
            </a:pathLst>
          </a:custGeom>
          <a:solidFill>
            <a:srgbClr val="d9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252"/>
          <p:cNvSpPr/>
          <p:nvPr/>
        </p:nvSpPr>
        <p:spPr>
          <a:xfrm>
            <a:off x="6843600" y="3014640"/>
            <a:ext cx="258840" cy="566640"/>
          </a:xfrm>
          <a:custGeom>
            <a:avLst/>
            <a:gdLst>
              <a:gd name="textAreaLeft" fmla="*/ 0 w 258840"/>
              <a:gd name="textAreaRight" fmla="*/ 259200 w 25884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163" h="357">
                <a:moveTo>
                  <a:pt x="163" y="0"/>
                </a:moveTo>
                <a:lnTo>
                  <a:pt x="161" y="0"/>
                </a:lnTo>
                <a:lnTo>
                  <a:pt x="144" y="2"/>
                </a:lnTo>
                <a:lnTo>
                  <a:pt x="126" y="7"/>
                </a:lnTo>
                <a:lnTo>
                  <a:pt x="109" y="13"/>
                </a:lnTo>
                <a:lnTo>
                  <a:pt x="94" y="21"/>
                </a:lnTo>
                <a:lnTo>
                  <a:pt x="78" y="30"/>
                </a:lnTo>
                <a:lnTo>
                  <a:pt x="65" y="40"/>
                </a:lnTo>
                <a:lnTo>
                  <a:pt x="53" y="51"/>
                </a:lnTo>
                <a:lnTo>
                  <a:pt x="40" y="65"/>
                </a:lnTo>
                <a:lnTo>
                  <a:pt x="30" y="78"/>
                </a:lnTo>
                <a:lnTo>
                  <a:pt x="21" y="94"/>
                </a:lnTo>
                <a:lnTo>
                  <a:pt x="13" y="109"/>
                </a:lnTo>
                <a:lnTo>
                  <a:pt x="7" y="124"/>
                </a:lnTo>
                <a:lnTo>
                  <a:pt x="3" y="142"/>
                </a:lnTo>
                <a:lnTo>
                  <a:pt x="2" y="161"/>
                </a:lnTo>
                <a:lnTo>
                  <a:pt x="0" y="178"/>
                </a:lnTo>
                <a:lnTo>
                  <a:pt x="2" y="197"/>
                </a:lnTo>
                <a:lnTo>
                  <a:pt x="3" y="215"/>
                </a:lnTo>
                <a:lnTo>
                  <a:pt x="7" y="232"/>
                </a:lnTo>
                <a:lnTo>
                  <a:pt x="13" y="249"/>
                </a:lnTo>
                <a:lnTo>
                  <a:pt x="21" y="264"/>
                </a:lnTo>
                <a:lnTo>
                  <a:pt x="30" y="280"/>
                </a:lnTo>
                <a:lnTo>
                  <a:pt x="40" y="293"/>
                </a:lnTo>
                <a:lnTo>
                  <a:pt x="53" y="305"/>
                </a:lnTo>
                <a:lnTo>
                  <a:pt x="65" y="316"/>
                </a:lnTo>
                <a:lnTo>
                  <a:pt x="78" y="328"/>
                </a:lnTo>
                <a:lnTo>
                  <a:pt x="94" y="337"/>
                </a:lnTo>
                <a:lnTo>
                  <a:pt x="109" y="345"/>
                </a:lnTo>
                <a:lnTo>
                  <a:pt x="126" y="351"/>
                </a:lnTo>
                <a:lnTo>
                  <a:pt x="144" y="355"/>
                </a:lnTo>
                <a:lnTo>
                  <a:pt x="161" y="357"/>
                </a:lnTo>
                <a:lnTo>
                  <a:pt x="161" y="357"/>
                </a:lnTo>
                <a:lnTo>
                  <a:pt x="161" y="357"/>
                </a:lnTo>
                <a:lnTo>
                  <a:pt x="161" y="355"/>
                </a:lnTo>
                <a:lnTo>
                  <a:pt x="161" y="355"/>
                </a:lnTo>
                <a:lnTo>
                  <a:pt x="161" y="353"/>
                </a:lnTo>
                <a:lnTo>
                  <a:pt x="161" y="351"/>
                </a:lnTo>
                <a:lnTo>
                  <a:pt x="161" y="351"/>
                </a:lnTo>
                <a:lnTo>
                  <a:pt x="161" y="349"/>
                </a:lnTo>
                <a:lnTo>
                  <a:pt x="161" y="347"/>
                </a:lnTo>
                <a:lnTo>
                  <a:pt x="145" y="345"/>
                </a:lnTo>
                <a:lnTo>
                  <a:pt x="128" y="341"/>
                </a:lnTo>
                <a:lnTo>
                  <a:pt x="113" y="335"/>
                </a:lnTo>
                <a:lnTo>
                  <a:pt x="97" y="328"/>
                </a:lnTo>
                <a:lnTo>
                  <a:pt x="84" y="320"/>
                </a:lnTo>
                <a:lnTo>
                  <a:pt x="71" y="311"/>
                </a:lnTo>
                <a:lnTo>
                  <a:pt x="59" y="299"/>
                </a:lnTo>
                <a:lnTo>
                  <a:pt x="48" y="287"/>
                </a:lnTo>
                <a:lnTo>
                  <a:pt x="38" y="274"/>
                </a:lnTo>
                <a:lnTo>
                  <a:pt x="30" y="261"/>
                </a:lnTo>
                <a:lnTo>
                  <a:pt x="23" y="245"/>
                </a:lnTo>
                <a:lnTo>
                  <a:pt x="17" y="230"/>
                </a:lnTo>
                <a:lnTo>
                  <a:pt x="13" y="213"/>
                </a:lnTo>
                <a:lnTo>
                  <a:pt x="9" y="195"/>
                </a:lnTo>
                <a:lnTo>
                  <a:pt x="9" y="178"/>
                </a:lnTo>
                <a:lnTo>
                  <a:pt x="9" y="161"/>
                </a:lnTo>
                <a:lnTo>
                  <a:pt x="13" y="144"/>
                </a:lnTo>
                <a:lnTo>
                  <a:pt x="17" y="128"/>
                </a:lnTo>
                <a:lnTo>
                  <a:pt x="23" y="113"/>
                </a:lnTo>
                <a:lnTo>
                  <a:pt x="30" y="98"/>
                </a:lnTo>
                <a:lnTo>
                  <a:pt x="38" y="84"/>
                </a:lnTo>
                <a:lnTo>
                  <a:pt x="48" y="71"/>
                </a:lnTo>
                <a:lnTo>
                  <a:pt x="59" y="57"/>
                </a:lnTo>
                <a:lnTo>
                  <a:pt x="71" y="48"/>
                </a:lnTo>
                <a:lnTo>
                  <a:pt x="84" y="38"/>
                </a:lnTo>
                <a:lnTo>
                  <a:pt x="97" y="28"/>
                </a:lnTo>
                <a:lnTo>
                  <a:pt x="113" y="21"/>
                </a:lnTo>
                <a:lnTo>
                  <a:pt x="128" y="15"/>
                </a:lnTo>
                <a:lnTo>
                  <a:pt x="145" y="11"/>
                </a:lnTo>
                <a:lnTo>
                  <a:pt x="163" y="9"/>
                </a:lnTo>
                <a:lnTo>
                  <a:pt x="163" y="7"/>
                </a:lnTo>
                <a:lnTo>
                  <a:pt x="163" y="7"/>
                </a:lnTo>
                <a:lnTo>
                  <a:pt x="163" y="5"/>
                </a:lnTo>
                <a:lnTo>
                  <a:pt x="163" y="3"/>
                </a:lnTo>
                <a:lnTo>
                  <a:pt x="163" y="3"/>
                </a:lnTo>
                <a:lnTo>
                  <a:pt x="163" y="2"/>
                </a:lnTo>
                <a:lnTo>
                  <a:pt x="163" y="2"/>
                </a:lnTo>
                <a:lnTo>
                  <a:pt x="163" y="0"/>
                </a:lnTo>
                <a:close/>
              </a:path>
            </a:pathLst>
          </a:custGeom>
          <a:solidFill>
            <a:srgbClr val="da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253"/>
          <p:cNvSpPr/>
          <p:nvPr/>
        </p:nvSpPr>
        <p:spPr>
          <a:xfrm>
            <a:off x="6851520" y="3019320"/>
            <a:ext cx="250920" cy="555840"/>
          </a:xfrm>
          <a:custGeom>
            <a:avLst/>
            <a:gdLst>
              <a:gd name="textAreaLeft" fmla="*/ 0 w 250920"/>
              <a:gd name="textAreaRight" fmla="*/ 250920 w 25092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158" h="350">
                <a:moveTo>
                  <a:pt x="158" y="0"/>
                </a:moveTo>
                <a:lnTo>
                  <a:pt x="156" y="0"/>
                </a:lnTo>
                <a:lnTo>
                  <a:pt x="139" y="4"/>
                </a:lnTo>
                <a:lnTo>
                  <a:pt x="123" y="8"/>
                </a:lnTo>
                <a:lnTo>
                  <a:pt x="106" y="14"/>
                </a:lnTo>
                <a:lnTo>
                  <a:pt x="91" y="22"/>
                </a:lnTo>
                <a:lnTo>
                  <a:pt x="77" y="31"/>
                </a:lnTo>
                <a:lnTo>
                  <a:pt x="64" y="41"/>
                </a:lnTo>
                <a:lnTo>
                  <a:pt x="50" y="52"/>
                </a:lnTo>
                <a:lnTo>
                  <a:pt x="39" y="64"/>
                </a:lnTo>
                <a:lnTo>
                  <a:pt x="29" y="77"/>
                </a:lnTo>
                <a:lnTo>
                  <a:pt x="21" y="93"/>
                </a:lnTo>
                <a:lnTo>
                  <a:pt x="14" y="108"/>
                </a:lnTo>
                <a:lnTo>
                  <a:pt x="8" y="123"/>
                </a:lnTo>
                <a:lnTo>
                  <a:pt x="2" y="141"/>
                </a:lnTo>
                <a:lnTo>
                  <a:pt x="0" y="158"/>
                </a:lnTo>
                <a:lnTo>
                  <a:pt x="0" y="175"/>
                </a:lnTo>
                <a:lnTo>
                  <a:pt x="0" y="194"/>
                </a:lnTo>
                <a:lnTo>
                  <a:pt x="2" y="212"/>
                </a:lnTo>
                <a:lnTo>
                  <a:pt x="8" y="227"/>
                </a:lnTo>
                <a:lnTo>
                  <a:pt x="14" y="244"/>
                </a:lnTo>
                <a:lnTo>
                  <a:pt x="21" y="260"/>
                </a:lnTo>
                <a:lnTo>
                  <a:pt x="29" y="273"/>
                </a:lnTo>
                <a:lnTo>
                  <a:pt x="39" y="286"/>
                </a:lnTo>
                <a:lnTo>
                  <a:pt x="50" y="300"/>
                </a:lnTo>
                <a:lnTo>
                  <a:pt x="64" y="311"/>
                </a:lnTo>
                <a:lnTo>
                  <a:pt x="77" y="321"/>
                </a:lnTo>
                <a:lnTo>
                  <a:pt x="91" y="329"/>
                </a:lnTo>
                <a:lnTo>
                  <a:pt x="106" y="336"/>
                </a:lnTo>
                <a:lnTo>
                  <a:pt x="123" y="342"/>
                </a:lnTo>
                <a:lnTo>
                  <a:pt x="139" y="348"/>
                </a:lnTo>
                <a:lnTo>
                  <a:pt x="156" y="350"/>
                </a:lnTo>
                <a:lnTo>
                  <a:pt x="156" y="348"/>
                </a:lnTo>
                <a:lnTo>
                  <a:pt x="156" y="348"/>
                </a:lnTo>
                <a:lnTo>
                  <a:pt x="156" y="346"/>
                </a:lnTo>
                <a:lnTo>
                  <a:pt x="156" y="344"/>
                </a:lnTo>
                <a:lnTo>
                  <a:pt x="156" y="344"/>
                </a:lnTo>
                <a:lnTo>
                  <a:pt x="156" y="342"/>
                </a:lnTo>
                <a:lnTo>
                  <a:pt x="156" y="340"/>
                </a:lnTo>
                <a:lnTo>
                  <a:pt x="156" y="340"/>
                </a:lnTo>
                <a:lnTo>
                  <a:pt x="140" y="338"/>
                </a:lnTo>
                <a:lnTo>
                  <a:pt x="125" y="334"/>
                </a:lnTo>
                <a:lnTo>
                  <a:pt x="110" y="329"/>
                </a:lnTo>
                <a:lnTo>
                  <a:pt x="96" y="321"/>
                </a:lnTo>
                <a:lnTo>
                  <a:pt x="83" y="313"/>
                </a:lnTo>
                <a:lnTo>
                  <a:pt x="69" y="304"/>
                </a:lnTo>
                <a:lnTo>
                  <a:pt x="58" y="292"/>
                </a:lnTo>
                <a:lnTo>
                  <a:pt x="46" y="281"/>
                </a:lnTo>
                <a:lnTo>
                  <a:pt x="37" y="267"/>
                </a:lnTo>
                <a:lnTo>
                  <a:pt x="29" y="254"/>
                </a:lnTo>
                <a:lnTo>
                  <a:pt x="21" y="240"/>
                </a:lnTo>
                <a:lnTo>
                  <a:pt x="16" y="225"/>
                </a:lnTo>
                <a:lnTo>
                  <a:pt x="12" y="210"/>
                </a:lnTo>
                <a:lnTo>
                  <a:pt x="10" y="192"/>
                </a:lnTo>
                <a:lnTo>
                  <a:pt x="8" y="175"/>
                </a:lnTo>
                <a:lnTo>
                  <a:pt x="10" y="158"/>
                </a:lnTo>
                <a:lnTo>
                  <a:pt x="12" y="142"/>
                </a:lnTo>
                <a:lnTo>
                  <a:pt x="16" y="127"/>
                </a:lnTo>
                <a:lnTo>
                  <a:pt x="21" y="112"/>
                </a:lnTo>
                <a:lnTo>
                  <a:pt x="29" y="96"/>
                </a:lnTo>
                <a:lnTo>
                  <a:pt x="37" y="83"/>
                </a:lnTo>
                <a:lnTo>
                  <a:pt x="46" y="70"/>
                </a:lnTo>
                <a:lnTo>
                  <a:pt x="58" y="58"/>
                </a:lnTo>
                <a:lnTo>
                  <a:pt x="69" y="48"/>
                </a:lnTo>
                <a:lnTo>
                  <a:pt x="83" y="39"/>
                </a:lnTo>
                <a:lnTo>
                  <a:pt x="96" y="29"/>
                </a:lnTo>
                <a:lnTo>
                  <a:pt x="110" y="24"/>
                </a:lnTo>
                <a:lnTo>
                  <a:pt x="125" y="18"/>
                </a:lnTo>
                <a:lnTo>
                  <a:pt x="140" y="14"/>
                </a:lnTo>
                <a:lnTo>
                  <a:pt x="156" y="10"/>
                </a:lnTo>
                <a:lnTo>
                  <a:pt x="156" y="10"/>
                </a:lnTo>
                <a:lnTo>
                  <a:pt x="156" y="8"/>
                </a:lnTo>
                <a:lnTo>
                  <a:pt x="158" y="8"/>
                </a:lnTo>
                <a:lnTo>
                  <a:pt x="158" y="6"/>
                </a:lnTo>
                <a:lnTo>
                  <a:pt x="158" y="4"/>
                </a:lnTo>
                <a:lnTo>
                  <a:pt x="158" y="4"/>
                </a:lnTo>
                <a:lnTo>
                  <a:pt x="158" y="2"/>
                </a:lnTo>
                <a:lnTo>
                  <a:pt x="158" y="0"/>
                </a:lnTo>
                <a:close/>
              </a:path>
            </a:pathLst>
          </a:custGeom>
          <a:solidFill>
            <a:srgbClr val="db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254"/>
          <p:cNvSpPr/>
          <p:nvPr/>
        </p:nvSpPr>
        <p:spPr>
          <a:xfrm>
            <a:off x="6858000" y="3029040"/>
            <a:ext cx="244440" cy="536400"/>
          </a:xfrm>
          <a:custGeom>
            <a:avLst/>
            <a:gdLst>
              <a:gd name="textAreaLeft" fmla="*/ 0 w 244440"/>
              <a:gd name="textAreaRight" fmla="*/ 244800 w 24444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154" h="338">
                <a:moveTo>
                  <a:pt x="154" y="0"/>
                </a:moveTo>
                <a:lnTo>
                  <a:pt x="136" y="2"/>
                </a:lnTo>
                <a:lnTo>
                  <a:pt x="119" y="6"/>
                </a:lnTo>
                <a:lnTo>
                  <a:pt x="104" y="12"/>
                </a:lnTo>
                <a:lnTo>
                  <a:pt x="88" y="19"/>
                </a:lnTo>
                <a:lnTo>
                  <a:pt x="75" y="29"/>
                </a:lnTo>
                <a:lnTo>
                  <a:pt x="62" y="39"/>
                </a:lnTo>
                <a:lnTo>
                  <a:pt x="50" y="48"/>
                </a:lnTo>
                <a:lnTo>
                  <a:pt x="39" y="62"/>
                </a:lnTo>
                <a:lnTo>
                  <a:pt x="29" y="75"/>
                </a:lnTo>
                <a:lnTo>
                  <a:pt x="21" y="89"/>
                </a:lnTo>
                <a:lnTo>
                  <a:pt x="14" y="104"/>
                </a:lnTo>
                <a:lnTo>
                  <a:pt x="8" y="119"/>
                </a:lnTo>
                <a:lnTo>
                  <a:pt x="4" y="135"/>
                </a:lnTo>
                <a:lnTo>
                  <a:pt x="0" y="152"/>
                </a:lnTo>
                <a:lnTo>
                  <a:pt x="0" y="169"/>
                </a:lnTo>
                <a:lnTo>
                  <a:pt x="0" y="186"/>
                </a:lnTo>
                <a:lnTo>
                  <a:pt x="4" y="204"/>
                </a:lnTo>
                <a:lnTo>
                  <a:pt x="8" y="221"/>
                </a:lnTo>
                <a:lnTo>
                  <a:pt x="14" y="236"/>
                </a:lnTo>
                <a:lnTo>
                  <a:pt x="21" y="252"/>
                </a:lnTo>
                <a:lnTo>
                  <a:pt x="29" y="265"/>
                </a:lnTo>
                <a:lnTo>
                  <a:pt x="39" y="278"/>
                </a:lnTo>
                <a:lnTo>
                  <a:pt x="50" y="290"/>
                </a:lnTo>
                <a:lnTo>
                  <a:pt x="62" y="302"/>
                </a:lnTo>
                <a:lnTo>
                  <a:pt x="75" y="311"/>
                </a:lnTo>
                <a:lnTo>
                  <a:pt x="88" y="319"/>
                </a:lnTo>
                <a:lnTo>
                  <a:pt x="104" y="326"/>
                </a:lnTo>
                <a:lnTo>
                  <a:pt x="119" y="332"/>
                </a:lnTo>
                <a:lnTo>
                  <a:pt x="136" y="336"/>
                </a:lnTo>
                <a:lnTo>
                  <a:pt x="152" y="338"/>
                </a:lnTo>
                <a:lnTo>
                  <a:pt x="152" y="338"/>
                </a:lnTo>
                <a:lnTo>
                  <a:pt x="152" y="336"/>
                </a:lnTo>
                <a:lnTo>
                  <a:pt x="152" y="334"/>
                </a:lnTo>
                <a:lnTo>
                  <a:pt x="152" y="334"/>
                </a:lnTo>
                <a:lnTo>
                  <a:pt x="150" y="332"/>
                </a:lnTo>
                <a:lnTo>
                  <a:pt x="150" y="332"/>
                </a:lnTo>
                <a:lnTo>
                  <a:pt x="150" y="330"/>
                </a:lnTo>
                <a:lnTo>
                  <a:pt x="150" y="328"/>
                </a:lnTo>
                <a:lnTo>
                  <a:pt x="138" y="326"/>
                </a:lnTo>
                <a:lnTo>
                  <a:pt x="123" y="323"/>
                </a:lnTo>
                <a:lnTo>
                  <a:pt x="108" y="317"/>
                </a:lnTo>
                <a:lnTo>
                  <a:pt x="94" y="311"/>
                </a:lnTo>
                <a:lnTo>
                  <a:pt x="81" y="303"/>
                </a:lnTo>
                <a:lnTo>
                  <a:pt x="67" y="294"/>
                </a:lnTo>
                <a:lnTo>
                  <a:pt x="56" y="282"/>
                </a:lnTo>
                <a:lnTo>
                  <a:pt x="46" y="273"/>
                </a:lnTo>
                <a:lnTo>
                  <a:pt x="37" y="259"/>
                </a:lnTo>
                <a:lnTo>
                  <a:pt x="29" y="246"/>
                </a:lnTo>
                <a:lnTo>
                  <a:pt x="23" y="232"/>
                </a:lnTo>
                <a:lnTo>
                  <a:pt x="17" y="217"/>
                </a:lnTo>
                <a:lnTo>
                  <a:pt x="14" y="202"/>
                </a:lnTo>
                <a:lnTo>
                  <a:pt x="10" y="186"/>
                </a:lnTo>
                <a:lnTo>
                  <a:pt x="10" y="169"/>
                </a:lnTo>
                <a:lnTo>
                  <a:pt x="10" y="154"/>
                </a:lnTo>
                <a:lnTo>
                  <a:pt x="14" y="136"/>
                </a:lnTo>
                <a:lnTo>
                  <a:pt x="17" y="121"/>
                </a:lnTo>
                <a:lnTo>
                  <a:pt x="23" y="108"/>
                </a:lnTo>
                <a:lnTo>
                  <a:pt x="29" y="92"/>
                </a:lnTo>
                <a:lnTo>
                  <a:pt x="37" y="79"/>
                </a:lnTo>
                <a:lnTo>
                  <a:pt x="46" y="67"/>
                </a:lnTo>
                <a:lnTo>
                  <a:pt x="56" y="56"/>
                </a:lnTo>
                <a:lnTo>
                  <a:pt x="67" y="46"/>
                </a:lnTo>
                <a:lnTo>
                  <a:pt x="81" y="37"/>
                </a:lnTo>
                <a:lnTo>
                  <a:pt x="94" y="29"/>
                </a:lnTo>
                <a:lnTo>
                  <a:pt x="108" y="21"/>
                </a:lnTo>
                <a:lnTo>
                  <a:pt x="123" y="16"/>
                </a:lnTo>
                <a:lnTo>
                  <a:pt x="138" y="12"/>
                </a:lnTo>
                <a:lnTo>
                  <a:pt x="152" y="10"/>
                </a:lnTo>
                <a:lnTo>
                  <a:pt x="152" y="8"/>
                </a:lnTo>
                <a:lnTo>
                  <a:pt x="152" y="8"/>
                </a:lnTo>
                <a:lnTo>
                  <a:pt x="152" y="6"/>
                </a:lnTo>
                <a:lnTo>
                  <a:pt x="152" y="4"/>
                </a:lnTo>
                <a:lnTo>
                  <a:pt x="152" y="4"/>
                </a:lnTo>
                <a:lnTo>
                  <a:pt x="152" y="2"/>
                </a:lnTo>
                <a:lnTo>
                  <a:pt x="154" y="2"/>
                </a:lnTo>
                <a:lnTo>
                  <a:pt x="154" y="0"/>
                </a:lnTo>
                <a:close/>
              </a:path>
            </a:pathLst>
          </a:custGeom>
          <a:solidFill>
            <a:srgbClr val="dc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255"/>
          <p:cNvSpPr/>
          <p:nvPr/>
        </p:nvSpPr>
        <p:spPr>
          <a:xfrm>
            <a:off x="6864480" y="3035160"/>
            <a:ext cx="234720" cy="524160"/>
          </a:xfrm>
          <a:custGeom>
            <a:avLst/>
            <a:gdLst>
              <a:gd name="textAreaLeft" fmla="*/ 0 w 234720"/>
              <a:gd name="textAreaRight" fmla="*/ 235080 w 2347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148" h="330">
                <a:moveTo>
                  <a:pt x="148" y="0"/>
                </a:moveTo>
                <a:lnTo>
                  <a:pt x="132" y="4"/>
                </a:lnTo>
                <a:lnTo>
                  <a:pt x="117" y="8"/>
                </a:lnTo>
                <a:lnTo>
                  <a:pt x="102" y="14"/>
                </a:lnTo>
                <a:lnTo>
                  <a:pt x="88" y="19"/>
                </a:lnTo>
                <a:lnTo>
                  <a:pt x="75" y="29"/>
                </a:lnTo>
                <a:lnTo>
                  <a:pt x="61" y="38"/>
                </a:lnTo>
                <a:lnTo>
                  <a:pt x="50" y="48"/>
                </a:lnTo>
                <a:lnTo>
                  <a:pt x="38" y="60"/>
                </a:lnTo>
                <a:lnTo>
                  <a:pt x="29" y="73"/>
                </a:lnTo>
                <a:lnTo>
                  <a:pt x="21" y="86"/>
                </a:lnTo>
                <a:lnTo>
                  <a:pt x="13" y="102"/>
                </a:lnTo>
                <a:lnTo>
                  <a:pt x="8" y="117"/>
                </a:lnTo>
                <a:lnTo>
                  <a:pt x="4" y="132"/>
                </a:lnTo>
                <a:lnTo>
                  <a:pt x="2" y="148"/>
                </a:lnTo>
                <a:lnTo>
                  <a:pt x="0" y="165"/>
                </a:lnTo>
                <a:lnTo>
                  <a:pt x="2" y="182"/>
                </a:lnTo>
                <a:lnTo>
                  <a:pt x="4" y="200"/>
                </a:lnTo>
                <a:lnTo>
                  <a:pt x="8" y="215"/>
                </a:lnTo>
                <a:lnTo>
                  <a:pt x="13" y="230"/>
                </a:lnTo>
                <a:lnTo>
                  <a:pt x="21" y="244"/>
                </a:lnTo>
                <a:lnTo>
                  <a:pt x="29" y="257"/>
                </a:lnTo>
                <a:lnTo>
                  <a:pt x="38" y="271"/>
                </a:lnTo>
                <a:lnTo>
                  <a:pt x="50" y="282"/>
                </a:lnTo>
                <a:lnTo>
                  <a:pt x="61" y="294"/>
                </a:lnTo>
                <a:lnTo>
                  <a:pt x="75" y="303"/>
                </a:lnTo>
                <a:lnTo>
                  <a:pt x="88" y="311"/>
                </a:lnTo>
                <a:lnTo>
                  <a:pt x="102" y="319"/>
                </a:lnTo>
                <a:lnTo>
                  <a:pt x="117" y="324"/>
                </a:lnTo>
                <a:lnTo>
                  <a:pt x="132" y="328"/>
                </a:lnTo>
                <a:lnTo>
                  <a:pt x="148" y="330"/>
                </a:lnTo>
                <a:lnTo>
                  <a:pt x="148" y="328"/>
                </a:lnTo>
                <a:lnTo>
                  <a:pt x="146" y="328"/>
                </a:lnTo>
                <a:lnTo>
                  <a:pt x="146" y="326"/>
                </a:lnTo>
                <a:lnTo>
                  <a:pt x="146" y="324"/>
                </a:lnTo>
                <a:lnTo>
                  <a:pt x="146" y="324"/>
                </a:lnTo>
                <a:lnTo>
                  <a:pt x="146" y="322"/>
                </a:lnTo>
                <a:lnTo>
                  <a:pt x="146" y="321"/>
                </a:lnTo>
                <a:lnTo>
                  <a:pt x="146" y="321"/>
                </a:lnTo>
                <a:lnTo>
                  <a:pt x="134" y="319"/>
                </a:lnTo>
                <a:lnTo>
                  <a:pt x="121" y="315"/>
                </a:lnTo>
                <a:lnTo>
                  <a:pt x="106" y="309"/>
                </a:lnTo>
                <a:lnTo>
                  <a:pt x="92" y="303"/>
                </a:lnTo>
                <a:lnTo>
                  <a:pt x="79" y="296"/>
                </a:lnTo>
                <a:lnTo>
                  <a:pt x="67" y="286"/>
                </a:lnTo>
                <a:lnTo>
                  <a:pt x="56" y="276"/>
                </a:lnTo>
                <a:lnTo>
                  <a:pt x="46" y="265"/>
                </a:lnTo>
                <a:lnTo>
                  <a:pt x="37" y="253"/>
                </a:lnTo>
                <a:lnTo>
                  <a:pt x="29" y="240"/>
                </a:lnTo>
                <a:lnTo>
                  <a:pt x="23" y="227"/>
                </a:lnTo>
                <a:lnTo>
                  <a:pt x="17" y="211"/>
                </a:lnTo>
                <a:lnTo>
                  <a:pt x="13" y="198"/>
                </a:lnTo>
                <a:lnTo>
                  <a:pt x="12" y="182"/>
                </a:lnTo>
                <a:lnTo>
                  <a:pt x="10" y="165"/>
                </a:lnTo>
                <a:lnTo>
                  <a:pt x="12" y="150"/>
                </a:lnTo>
                <a:lnTo>
                  <a:pt x="13" y="134"/>
                </a:lnTo>
                <a:lnTo>
                  <a:pt x="17" y="119"/>
                </a:lnTo>
                <a:lnTo>
                  <a:pt x="23" y="106"/>
                </a:lnTo>
                <a:lnTo>
                  <a:pt x="29" y="90"/>
                </a:lnTo>
                <a:lnTo>
                  <a:pt x="37" y="79"/>
                </a:lnTo>
                <a:lnTo>
                  <a:pt x="46" y="65"/>
                </a:lnTo>
                <a:lnTo>
                  <a:pt x="56" y="56"/>
                </a:lnTo>
                <a:lnTo>
                  <a:pt x="67" y="44"/>
                </a:lnTo>
                <a:lnTo>
                  <a:pt x="79" y="37"/>
                </a:lnTo>
                <a:lnTo>
                  <a:pt x="92" y="29"/>
                </a:lnTo>
                <a:lnTo>
                  <a:pt x="106" y="21"/>
                </a:lnTo>
                <a:lnTo>
                  <a:pt x="121" y="17"/>
                </a:lnTo>
                <a:lnTo>
                  <a:pt x="134" y="14"/>
                </a:lnTo>
                <a:lnTo>
                  <a:pt x="148" y="12"/>
                </a:lnTo>
                <a:lnTo>
                  <a:pt x="148" y="10"/>
                </a:lnTo>
                <a:lnTo>
                  <a:pt x="148" y="8"/>
                </a:lnTo>
                <a:lnTo>
                  <a:pt x="148" y="8"/>
                </a:lnTo>
                <a:lnTo>
                  <a:pt x="148" y="6"/>
                </a:lnTo>
                <a:lnTo>
                  <a:pt x="148" y="4"/>
                </a:lnTo>
                <a:lnTo>
                  <a:pt x="148" y="4"/>
                </a:lnTo>
                <a:lnTo>
                  <a:pt x="148" y="2"/>
                </a:lnTo>
                <a:lnTo>
                  <a:pt x="148" y="0"/>
                </a:lnTo>
                <a:close/>
              </a:path>
            </a:pathLst>
          </a:custGeom>
          <a:solidFill>
            <a:srgbClr val="dd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reeform 256"/>
          <p:cNvSpPr/>
          <p:nvPr/>
        </p:nvSpPr>
        <p:spPr>
          <a:xfrm>
            <a:off x="6873840" y="3044880"/>
            <a:ext cx="225360" cy="504720"/>
          </a:xfrm>
          <a:custGeom>
            <a:avLst/>
            <a:gdLst>
              <a:gd name="textAreaLeft" fmla="*/ 0 w 225360"/>
              <a:gd name="textAreaRight" fmla="*/ 225720 w 22536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142" h="318">
                <a:moveTo>
                  <a:pt x="142" y="0"/>
                </a:moveTo>
                <a:lnTo>
                  <a:pt x="128" y="2"/>
                </a:lnTo>
                <a:lnTo>
                  <a:pt x="113" y="6"/>
                </a:lnTo>
                <a:lnTo>
                  <a:pt x="98" y="11"/>
                </a:lnTo>
                <a:lnTo>
                  <a:pt x="84" y="19"/>
                </a:lnTo>
                <a:lnTo>
                  <a:pt x="71" y="27"/>
                </a:lnTo>
                <a:lnTo>
                  <a:pt x="57" y="36"/>
                </a:lnTo>
                <a:lnTo>
                  <a:pt x="46" y="46"/>
                </a:lnTo>
                <a:lnTo>
                  <a:pt x="36" y="57"/>
                </a:lnTo>
                <a:lnTo>
                  <a:pt x="27" y="69"/>
                </a:lnTo>
                <a:lnTo>
                  <a:pt x="19" y="82"/>
                </a:lnTo>
                <a:lnTo>
                  <a:pt x="13" y="98"/>
                </a:lnTo>
                <a:lnTo>
                  <a:pt x="7" y="111"/>
                </a:lnTo>
                <a:lnTo>
                  <a:pt x="4" y="126"/>
                </a:lnTo>
                <a:lnTo>
                  <a:pt x="0" y="144"/>
                </a:lnTo>
                <a:lnTo>
                  <a:pt x="0" y="159"/>
                </a:lnTo>
                <a:lnTo>
                  <a:pt x="0" y="176"/>
                </a:lnTo>
                <a:lnTo>
                  <a:pt x="4" y="192"/>
                </a:lnTo>
                <a:lnTo>
                  <a:pt x="7" y="207"/>
                </a:lnTo>
                <a:lnTo>
                  <a:pt x="13" y="222"/>
                </a:lnTo>
                <a:lnTo>
                  <a:pt x="19" y="236"/>
                </a:lnTo>
                <a:lnTo>
                  <a:pt x="27" y="249"/>
                </a:lnTo>
                <a:lnTo>
                  <a:pt x="36" y="263"/>
                </a:lnTo>
                <a:lnTo>
                  <a:pt x="46" y="272"/>
                </a:lnTo>
                <a:lnTo>
                  <a:pt x="57" y="284"/>
                </a:lnTo>
                <a:lnTo>
                  <a:pt x="71" y="293"/>
                </a:lnTo>
                <a:lnTo>
                  <a:pt x="84" y="301"/>
                </a:lnTo>
                <a:lnTo>
                  <a:pt x="98" y="307"/>
                </a:lnTo>
                <a:lnTo>
                  <a:pt x="113" y="313"/>
                </a:lnTo>
                <a:lnTo>
                  <a:pt x="128" y="316"/>
                </a:lnTo>
                <a:lnTo>
                  <a:pt x="140" y="318"/>
                </a:lnTo>
                <a:lnTo>
                  <a:pt x="140" y="318"/>
                </a:lnTo>
                <a:lnTo>
                  <a:pt x="140" y="316"/>
                </a:lnTo>
                <a:lnTo>
                  <a:pt x="140" y="315"/>
                </a:lnTo>
                <a:lnTo>
                  <a:pt x="140" y="315"/>
                </a:lnTo>
                <a:lnTo>
                  <a:pt x="140" y="313"/>
                </a:lnTo>
                <a:lnTo>
                  <a:pt x="140" y="313"/>
                </a:lnTo>
                <a:lnTo>
                  <a:pt x="140" y="311"/>
                </a:lnTo>
                <a:lnTo>
                  <a:pt x="140" y="309"/>
                </a:lnTo>
                <a:lnTo>
                  <a:pt x="130" y="307"/>
                </a:lnTo>
                <a:lnTo>
                  <a:pt x="115" y="305"/>
                </a:lnTo>
                <a:lnTo>
                  <a:pt x="102" y="299"/>
                </a:lnTo>
                <a:lnTo>
                  <a:pt x="88" y="293"/>
                </a:lnTo>
                <a:lnTo>
                  <a:pt x="77" y="286"/>
                </a:lnTo>
                <a:lnTo>
                  <a:pt x="65" y="276"/>
                </a:lnTo>
                <a:lnTo>
                  <a:pt x="54" y="267"/>
                </a:lnTo>
                <a:lnTo>
                  <a:pt x="44" y="255"/>
                </a:lnTo>
                <a:lnTo>
                  <a:pt x="34" y="244"/>
                </a:lnTo>
                <a:lnTo>
                  <a:pt x="27" y="232"/>
                </a:lnTo>
                <a:lnTo>
                  <a:pt x="21" y="219"/>
                </a:lnTo>
                <a:lnTo>
                  <a:pt x="15" y="205"/>
                </a:lnTo>
                <a:lnTo>
                  <a:pt x="11" y="190"/>
                </a:lnTo>
                <a:lnTo>
                  <a:pt x="9" y="174"/>
                </a:lnTo>
                <a:lnTo>
                  <a:pt x="9" y="159"/>
                </a:lnTo>
                <a:lnTo>
                  <a:pt x="9" y="144"/>
                </a:lnTo>
                <a:lnTo>
                  <a:pt x="11" y="128"/>
                </a:lnTo>
                <a:lnTo>
                  <a:pt x="15" y="115"/>
                </a:lnTo>
                <a:lnTo>
                  <a:pt x="21" y="102"/>
                </a:lnTo>
                <a:lnTo>
                  <a:pt x="27" y="88"/>
                </a:lnTo>
                <a:lnTo>
                  <a:pt x="34" y="75"/>
                </a:lnTo>
                <a:lnTo>
                  <a:pt x="44" y="63"/>
                </a:lnTo>
                <a:lnTo>
                  <a:pt x="54" y="52"/>
                </a:lnTo>
                <a:lnTo>
                  <a:pt x="65" y="42"/>
                </a:lnTo>
                <a:lnTo>
                  <a:pt x="77" y="34"/>
                </a:lnTo>
                <a:lnTo>
                  <a:pt x="88" y="27"/>
                </a:lnTo>
                <a:lnTo>
                  <a:pt x="102" y="21"/>
                </a:lnTo>
                <a:lnTo>
                  <a:pt x="115" y="15"/>
                </a:lnTo>
                <a:lnTo>
                  <a:pt x="130" y="11"/>
                </a:lnTo>
                <a:lnTo>
                  <a:pt x="142" y="9"/>
                </a:lnTo>
                <a:lnTo>
                  <a:pt x="142" y="8"/>
                </a:lnTo>
                <a:lnTo>
                  <a:pt x="142" y="8"/>
                </a:lnTo>
                <a:lnTo>
                  <a:pt x="142" y="6"/>
                </a:lnTo>
                <a:lnTo>
                  <a:pt x="142" y="6"/>
                </a:lnTo>
                <a:lnTo>
                  <a:pt x="142" y="4"/>
                </a:lnTo>
                <a:lnTo>
                  <a:pt x="142" y="2"/>
                </a:lnTo>
                <a:lnTo>
                  <a:pt x="142" y="2"/>
                </a:lnTo>
                <a:lnTo>
                  <a:pt x="142" y="0"/>
                </a:lnTo>
                <a:close/>
              </a:path>
            </a:pathLst>
          </a:custGeom>
          <a:solidFill>
            <a:srgbClr val="de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257"/>
          <p:cNvSpPr/>
          <p:nvPr/>
        </p:nvSpPr>
        <p:spPr>
          <a:xfrm>
            <a:off x="6880320" y="3054240"/>
            <a:ext cx="218880" cy="490680"/>
          </a:xfrm>
          <a:custGeom>
            <a:avLst/>
            <a:gdLst>
              <a:gd name="textAreaLeft" fmla="*/ 0 w 218880"/>
              <a:gd name="textAreaRight" fmla="*/ 219240 w 21888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138" h="309">
                <a:moveTo>
                  <a:pt x="138" y="0"/>
                </a:moveTo>
                <a:lnTo>
                  <a:pt x="124" y="2"/>
                </a:lnTo>
                <a:lnTo>
                  <a:pt x="111" y="5"/>
                </a:lnTo>
                <a:lnTo>
                  <a:pt x="96" y="9"/>
                </a:lnTo>
                <a:lnTo>
                  <a:pt x="82" y="17"/>
                </a:lnTo>
                <a:lnTo>
                  <a:pt x="69" y="25"/>
                </a:lnTo>
                <a:lnTo>
                  <a:pt x="57" y="32"/>
                </a:lnTo>
                <a:lnTo>
                  <a:pt x="46" y="44"/>
                </a:lnTo>
                <a:lnTo>
                  <a:pt x="36" y="53"/>
                </a:lnTo>
                <a:lnTo>
                  <a:pt x="27" y="67"/>
                </a:lnTo>
                <a:lnTo>
                  <a:pt x="19" y="78"/>
                </a:lnTo>
                <a:lnTo>
                  <a:pt x="13" y="94"/>
                </a:lnTo>
                <a:lnTo>
                  <a:pt x="7" y="107"/>
                </a:lnTo>
                <a:lnTo>
                  <a:pt x="3" y="122"/>
                </a:lnTo>
                <a:lnTo>
                  <a:pt x="2" y="138"/>
                </a:lnTo>
                <a:lnTo>
                  <a:pt x="0" y="153"/>
                </a:lnTo>
                <a:lnTo>
                  <a:pt x="2" y="170"/>
                </a:lnTo>
                <a:lnTo>
                  <a:pt x="3" y="186"/>
                </a:lnTo>
                <a:lnTo>
                  <a:pt x="7" y="199"/>
                </a:lnTo>
                <a:lnTo>
                  <a:pt x="13" y="215"/>
                </a:lnTo>
                <a:lnTo>
                  <a:pt x="19" y="228"/>
                </a:lnTo>
                <a:lnTo>
                  <a:pt x="27" y="241"/>
                </a:lnTo>
                <a:lnTo>
                  <a:pt x="36" y="253"/>
                </a:lnTo>
                <a:lnTo>
                  <a:pt x="46" y="264"/>
                </a:lnTo>
                <a:lnTo>
                  <a:pt x="57" y="274"/>
                </a:lnTo>
                <a:lnTo>
                  <a:pt x="69" y="284"/>
                </a:lnTo>
                <a:lnTo>
                  <a:pt x="82" y="291"/>
                </a:lnTo>
                <a:lnTo>
                  <a:pt x="96" y="297"/>
                </a:lnTo>
                <a:lnTo>
                  <a:pt x="111" y="303"/>
                </a:lnTo>
                <a:lnTo>
                  <a:pt x="124" y="307"/>
                </a:lnTo>
                <a:lnTo>
                  <a:pt x="136" y="309"/>
                </a:lnTo>
                <a:lnTo>
                  <a:pt x="136" y="307"/>
                </a:lnTo>
                <a:lnTo>
                  <a:pt x="136" y="307"/>
                </a:lnTo>
                <a:lnTo>
                  <a:pt x="136" y="305"/>
                </a:lnTo>
                <a:lnTo>
                  <a:pt x="136" y="303"/>
                </a:lnTo>
                <a:lnTo>
                  <a:pt x="136" y="303"/>
                </a:lnTo>
                <a:lnTo>
                  <a:pt x="136" y="301"/>
                </a:lnTo>
                <a:lnTo>
                  <a:pt x="136" y="299"/>
                </a:lnTo>
                <a:lnTo>
                  <a:pt x="136" y="299"/>
                </a:lnTo>
                <a:lnTo>
                  <a:pt x="126" y="297"/>
                </a:lnTo>
                <a:lnTo>
                  <a:pt x="113" y="293"/>
                </a:lnTo>
                <a:lnTo>
                  <a:pt x="99" y="289"/>
                </a:lnTo>
                <a:lnTo>
                  <a:pt x="86" y="282"/>
                </a:lnTo>
                <a:lnTo>
                  <a:pt x="74" y="276"/>
                </a:lnTo>
                <a:lnTo>
                  <a:pt x="63" y="266"/>
                </a:lnTo>
                <a:lnTo>
                  <a:pt x="53" y="257"/>
                </a:lnTo>
                <a:lnTo>
                  <a:pt x="44" y="247"/>
                </a:lnTo>
                <a:lnTo>
                  <a:pt x="34" y="236"/>
                </a:lnTo>
                <a:lnTo>
                  <a:pt x="28" y="224"/>
                </a:lnTo>
                <a:lnTo>
                  <a:pt x="21" y="211"/>
                </a:lnTo>
                <a:lnTo>
                  <a:pt x="17" y="197"/>
                </a:lnTo>
                <a:lnTo>
                  <a:pt x="13" y="184"/>
                </a:lnTo>
                <a:lnTo>
                  <a:pt x="11" y="168"/>
                </a:lnTo>
                <a:lnTo>
                  <a:pt x="9" y="153"/>
                </a:lnTo>
                <a:lnTo>
                  <a:pt x="11" y="138"/>
                </a:lnTo>
                <a:lnTo>
                  <a:pt x="13" y="124"/>
                </a:lnTo>
                <a:lnTo>
                  <a:pt x="17" y="109"/>
                </a:lnTo>
                <a:lnTo>
                  <a:pt x="21" y="96"/>
                </a:lnTo>
                <a:lnTo>
                  <a:pt x="28" y="84"/>
                </a:lnTo>
                <a:lnTo>
                  <a:pt x="34" y="71"/>
                </a:lnTo>
                <a:lnTo>
                  <a:pt x="44" y="61"/>
                </a:lnTo>
                <a:lnTo>
                  <a:pt x="53" y="49"/>
                </a:lnTo>
                <a:lnTo>
                  <a:pt x="63" y="40"/>
                </a:lnTo>
                <a:lnTo>
                  <a:pt x="74" y="32"/>
                </a:lnTo>
                <a:lnTo>
                  <a:pt x="86" y="25"/>
                </a:lnTo>
                <a:lnTo>
                  <a:pt x="99" y="19"/>
                </a:lnTo>
                <a:lnTo>
                  <a:pt x="113" y="13"/>
                </a:lnTo>
                <a:lnTo>
                  <a:pt x="126" y="9"/>
                </a:lnTo>
                <a:lnTo>
                  <a:pt x="136" y="9"/>
                </a:lnTo>
                <a:lnTo>
                  <a:pt x="136" y="7"/>
                </a:lnTo>
                <a:lnTo>
                  <a:pt x="136" y="5"/>
                </a:lnTo>
                <a:lnTo>
                  <a:pt x="136" y="5"/>
                </a:lnTo>
                <a:lnTo>
                  <a:pt x="138" y="3"/>
                </a:lnTo>
                <a:lnTo>
                  <a:pt x="138" y="2"/>
                </a:lnTo>
                <a:lnTo>
                  <a:pt x="138" y="2"/>
                </a:lnTo>
                <a:lnTo>
                  <a:pt x="138" y="0"/>
                </a:lnTo>
                <a:lnTo>
                  <a:pt x="138" y="0"/>
                </a:lnTo>
                <a:close/>
              </a:path>
            </a:pathLst>
          </a:custGeom>
          <a:solidFill>
            <a:srgbClr val="df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258"/>
          <p:cNvSpPr/>
          <p:nvPr/>
        </p:nvSpPr>
        <p:spPr>
          <a:xfrm>
            <a:off x="6888240" y="3059280"/>
            <a:ext cx="210960" cy="475920"/>
          </a:xfrm>
          <a:custGeom>
            <a:avLst/>
            <a:gdLst>
              <a:gd name="textAreaLeft" fmla="*/ 0 w 210960"/>
              <a:gd name="textAreaRight" fmla="*/ 211320 w 210960"/>
              <a:gd name="textAreaTop" fmla="*/ 0 h 475920"/>
              <a:gd name="textAreaBottom" fmla="*/ 476280 h 475920"/>
            </a:gdLst>
            <a:ahLst/>
            <a:rect l="textAreaLeft" t="textAreaTop" r="textAreaRight" b="textAreaBottom"/>
            <a:pathLst>
              <a:path w="133" h="300">
                <a:moveTo>
                  <a:pt x="133" y="0"/>
                </a:moveTo>
                <a:lnTo>
                  <a:pt x="121" y="2"/>
                </a:lnTo>
                <a:lnTo>
                  <a:pt x="106" y="6"/>
                </a:lnTo>
                <a:lnTo>
                  <a:pt x="93" y="12"/>
                </a:lnTo>
                <a:lnTo>
                  <a:pt x="79" y="18"/>
                </a:lnTo>
                <a:lnTo>
                  <a:pt x="68" y="25"/>
                </a:lnTo>
                <a:lnTo>
                  <a:pt x="56" y="33"/>
                </a:lnTo>
                <a:lnTo>
                  <a:pt x="45" y="43"/>
                </a:lnTo>
                <a:lnTo>
                  <a:pt x="35" y="54"/>
                </a:lnTo>
                <a:lnTo>
                  <a:pt x="25" y="66"/>
                </a:lnTo>
                <a:lnTo>
                  <a:pt x="18" y="79"/>
                </a:lnTo>
                <a:lnTo>
                  <a:pt x="12" y="93"/>
                </a:lnTo>
                <a:lnTo>
                  <a:pt x="6" y="106"/>
                </a:lnTo>
                <a:lnTo>
                  <a:pt x="2" y="119"/>
                </a:lnTo>
                <a:lnTo>
                  <a:pt x="0" y="135"/>
                </a:lnTo>
                <a:lnTo>
                  <a:pt x="0" y="150"/>
                </a:lnTo>
                <a:lnTo>
                  <a:pt x="0" y="165"/>
                </a:lnTo>
                <a:lnTo>
                  <a:pt x="2" y="181"/>
                </a:lnTo>
                <a:lnTo>
                  <a:pt x="6" y="196"/>
                </a:lnTo>
                <a:lnTo>
                  <a:pt x="12" y="210"/>
                </a:lnTo>
                <a:lnTo>
                  <a:pt x="18" y="223"/>
                </a:lnTo>
                <a:lnTo>
                  <a:pt x="25" y="235"/>
                </a:lnTo>
                <a:lnTo>
                  <a:pt x="35" y="246"/>
                </a:lnTo>
                <a:lnTo>
                  <a:pt x="45" y="258"/>
                </a:lnTo>
                <a:lnTo>
                  <a:pt x="56" y="267"/>
                </a:lnTo>
                <a:lnTo>
                  <a:pt x="68" y="277"/>
                </a:lnTo>
                <a:lnTo>
                  <a:pt x="79" y="284"/>
                </a:lnTo>
                <a:lnTo>
                  <a:pt x="93" y="290"/>
                </a:lnTo>
                <a:lnTo>
                  <a:pt x="106" y="296"/>
                </a:lnTo>
                <a:lnTo>
                  <a:pt x="121" y="298"/>
                </a:lnTo>
                <a:lnTo>
                  <a:pt x="131" y="300"/>
                </a:lnTo>
                <a:lnTo>
                  <a:pt x="131" y="300"/>
                </a:lnTo>
                <a:lnTo>
                  <a:pt x="131" y="298"/>
                </a:lnTo>
                <a:lnTo>
                  <a:pt x="131" y="296"/>
                </a:lnTo>
                <a:lnTo>
                  <a:pt x="131" y="296"/>
                </a:lnTo>
                <a:lnTo>
                  <a:pt x="131" y="294"/>
                </a:lnTo>
                <a:lnTo>
                  <a:pt x="129" y="292"/>
                </a:lnTo>
                <a:lnTo>
                  <a:pt x="129" y="292"/>
                </a:lnTo>
                <a:lnTo>
                  <a:pt x="129" y="290"/>
                </a:lnTo>
                <a:lnTo>
                  <a:pt x="123" y="290"/>
                </a:lnTo>
                <a:lnTo>
                  <a:pt x="110" y="286"/>
                </a:lnTo>
                <a:lnTo>
                  <a:pt x="96" y="281"/>
                </a:lnTo>
                <a:lnTo>
                  <a:pt x="83" y="275"/>
                </a:lnTo>
                <a:lnTo>
                  <a:pt x="71" y="269"/>
                </a:lnTo>
                <a:lnTo>
                  <a:pt x="62" y="259"/>
                </a:lnTo>
                <a:lnTo>
                  <a:pt x="50" y="252"/>
                </a:lnTo>
                <a:lnTo>
                  <a:pt x="43" y="240"/>
                </a:lnTo>
                <a:lnTo>
                  <a:pt x="33" y="231"/>
                </a:lnTo>
                <a:lnTo>
                  <a:pt x="27" y="217"/>
                </a:lnTo>
                <a:lnTo>
                  <a:pt x="22" y="206"/>
                </a:lnTo>
                <a:lnTo>
                  <a:pt x="16" y="192"/>
                </a:lnTo>
                <a:lnTo>
                  <a:pt x="12" y="179"/>
                </a:lnTo>
                <a:lnTo>
                  <a:pt x="10" y="165"/>
                </a:lnTo>
                <a:lnTo>
                  <a:pt x="10" y="150"/>
                </a:lnTo>
                <a:lnTo>
                  <a:pt x="10" y="137"/>
                </a:lnTo>
                <a:lnTo>
                  <a:pt x="12" y="121"/>
                </a:lnTo>
                <a:lnTo>
                  <a:pt x="16" y="108"/>
                </a:lnTo>
                <a:lnTo>
                  <a:pt x="22" y="94"/>
                </a:lnTo>
                <a:lnTo>
                  <a:pt x="27" y="83"/>
                </a:lnTo>
                <a:lnTo>
                  <a:pt x="33" y="71"/>
                </a:lnTo>
                <a:lnTo>
                  <a:pt x="43" y="60"/>
                </a:lnTo>
                <a:lnTo>
                  <a:pt x="50" y="50"/>
                </a:lnTo>
                <a:lnTo>
                  <a:pt x="62" y="41"/>
                </a:lnTo>
                <a:lnTo>
                  <a:pt x="71" y="33"/>
                </a:lnTo>
                <a:lnTo>
                  <a:pt x="83" y="25"/>
                </a:lnTo>
                <a:lnTo>
                  <a:pt x="96" y="20"/>
                </a:lnTo>
                <a:lnTo>
                  <a:pt x="110" y="16"/>
                </a:lnTo>
                <a:lnTo>
                  <a:pt x="123" y="12"/>
                </a:lnTo>
                <a:lnTo>
                  <a:pt x="131" y="10"/>
                </a:lnTo>
                <a:lnTo>
                  <a:pt x="131" y="8"/>
                </a:lnTo>
                <a:lnTo>
                  <a:pt x="131" y="8"/>
                </a:lnTo>
                <a:lnTo>
                  <a:pt x="131" y="6"/>
                </a:lnTo>
                <a:lnTo>
                  <a:pt x="131" y="6"/>
                </a:lnTo>
                <a:lnTo>
                  <a:pt x="131" y="4"/>
                </a:lnTo>
                <a:lnTo>
                  <a:pt x="131" y="2"/>
                </a:lnTo>
                <a:lnTo>
                  <a:pt x="131" y="2"/>
                </a:lnTo>
                <a:lnTo>
                  <a:pt x="133" y="0"/>
                </a:lnTo>
                <a:close/>
              </a:path>
            </a:pathLst>
          </a:custGeom>
          <a:solidFill>
            <a:srgbClr val="e0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259"/>
          <p:cNvSpPr/>
          <p:nvPr/>
        </p:nvSpPr>
        <p:spPr>
          <a:xfrm>
            <a:off x="6894360" y="3068640"/>
            <a:ext cx="201600" cy="460440"/>
          </a:xfrm>
          <a:custGeom>
            <a:avLst/>
            <a:gdLst>
              <a:gd name="textAreaLeft" fmla="*/ 0 w 201600"/>
              <a:gd name="textAreaRight" fmla="*/ 201960 w 20160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127" h="290">
                <a:moveTo>
                  <a:pt x="127" y="0"/>
                </a:moveTo>
                <a:lnTo>
                  <a:pt x="117" y="0"/>
                </a:lnTo>
                <a:lnTo>
                  <a:pt x="104" y="4"/>
                </a:lnTo>
                <a:lnTo>
                  <a:pt x="90" y="10"/>
                </a:lnTo>
                <a:lnTo>
                  <a:pt x="77" y="16"/>
                </a:lnTo>
                <a:lnTo>
                  <a:pt x="65" y="23"/>
                </a:lnTo>
                <a:lnTo>
                  <a:pt x="54" y="31"/>
                </a:lnTo>
                <a:lnTo>
                  <a:pt x="44" y="40"/>
                </a:lnTo>
                <a:lnTo>
                  <a:pt x="35" y="52"/>
                </a:lnTo>
                <a:lnTo>
                  <a:pt x="25" y="62"/>
                </a:lnTo>
                <a:lnTo>
                  <a:pt x="19" y="75"/>
                </a:lnTo>
                <a:lnTo>
                  <a:pt x="12" y="87"/>
                </a:lnTo>
                <a:lnTo>
                  <a:pt x="8" y="100"/>
                </a:lnTo>
                <a:lnTo>
                  <a:pt x="4" y="115"/>
                </a:lnTo>
                <a:lnTo>
                  <a:pt x="2" y="129"/>
                </a:lnTo>
                <a:lnTo>
                  <a:pt x="0" y="144"/>
                </a:lnTo>
                <a:lnTo>
                  <a:pt x="2" y="159"/>
                </a:lnTo>
                <a:lnTo>
                  <a:pt x="4" y="175"/>
                </a:lnTo>
                <a:lnTo>
                  <a:pt x="8" y="188"/>
                </a:lnTo>
                <a:lnTo>
                  <a:pt x="12" y="202"/>
                </a:lnTo>
                <a:lnTo>
                  <a:pt x="19" y="215"/>
                </a:lnTo>
                <a:lnTo>
                  <a:pt x="25" y="227"/>
                </a:lnTo>
                <a:lnTo>
                  <a:pt x="35" y="238"/>
                </a:lnTo>
                <a:lnTo>
                  <a:pt x="44" y="248"/>
                </a:lnTo>
                <a:lnTo>
                  <a:pt x="54" y="257"/>
                </a:lnTo>
                <a:lnTo>
                  <a:pt x="65" y="267"/>
                </a:lnTo>
                <a:lnTo>
                  <a:pt x="77" y="273"/>
                </a:lnTo>
                <a:lnTo>
                  <a:pt x="90" y="280"/>
                </a:lnTo>
                <a:lnTo>
                  <a:pt x="104" y="284"/>
                </a:lnTo>
                <a:lnTo>
                  <a:pt x="117" y="288"/>
                </a:lnTo>
                <a:lnTo>
                  <a:pt x="127" y="290"/>
                </a:lnTo>
                <a:lnTo>
                  <a:pt x="127" y="288"/>
                </a:lnTo>
                <a:lnTo>
                  <a:pt x="125" y="286"/>
                </a:lnTo>
                <a:lnTo>
                  <a:pt x="125" y="286"/>
                </a:lnTo>
                <a:lnTo>
                  <a:pt x="125" y="284"/>
                </a:lnTo>
                <a:lnTo>
                  <a:pt x="125" y="284"/>
                </a:lnTo>
                <a:lnTo>
                  <a:pt x="125" y="282"/>
                </a:lnTo>
                <a:lnTo>
                  <a:pt x="125" y="280"/>
                </a:lnTo>
                <a:lnTo>
                  <a:pt x="125" y="280"/>
                </a:lnTo>
                <a:lnTo>
                  <a:pt x="119" y="278"/>
                </a:lnTo>
                <a:lnTo>
                  <a:pt x="106" y="275"/>
                </a:lnTo>
                <a:lnTo>
                  <a:pt x="94" y="271"/>
                </a:lnTo>
                <a:lnTo>
                  <a:pt x="83" y="265"/>
                </a:lnTo>
                <a:lnTo>
                  <a:pt x="71" y="257"/>
                </a:lnTo>
                <a:lnTo>
                  <a:pt x="60" y="250"/>
                </a:lnTo>
                <a:lnTo>
                  <a:pt x="50" y="242"/>
                </a:lnTo>
                <a:lnTo>
                  <a:pt x="42" y="232"/>
                </a:lnTo>
                <a:lnTo>
                  <a:pt x="33" y="221"/>
                </a:lnTo>
                <a:lnTo>
                  <a:pt x="27" y="209"/>
                </a:lnTo>
                <a:lnTo>
                  <a:pt x="21" y="198"/>
                </a:lnTo>
                <a:lnTo>
                  <a:pt x="16" y="184"/>
                </a:lnTo>
                <a:lnTo>
                  <a:pt x="14" y="173"/>
                </a:lnTo>
                <a:lnTo>
                  <a:pt x="12" y="159"/>
                </a:lnTo>
                <a:lnTo>
                  <a:pt x="10" y="144"/>
                </a:lnTo>
                <a:lnTo>
                  <a:pt x="12" y="131"/>
                </a:lnTo>
                <a:lnTo>
                  <a:pt x="14" y="117"/>
                </a:lnTo>
                <a:lnTo>
                  <a:pt x="16" y="104"/>
                </a:lnTo>
                <a:lnTo>
                  <a:pt x="21" y="90"/>
                </a:lnTo>
                <a:lnTo>
                  <a:pt x="27" y="79"/>
                </a:lnTo>
                <a:lnTo>
                  <a:pt x="33" y="67"/>
                </a:lnTo>
                <a:lnTo>
                  <a:pt x="42" y="58"/>
                </a:lnTo>
                <a:lnTo>
                  <a:pt x="50" y="48"/>
                </a:lnTo>
                <a:lnTo>
                  <a:pt x="60" y="39"/>
                </a:lnTo>
                <a:lnTo>
                  <a:pt x="71" y="31"/>
                </a:lnTo>
                <a:lnTo>
                  <a:pt x="83" y="23"/>
                </a:lnTo>
                <a:lnTo>
                  <a:pt x="94" y="17"/>
                </a:lnTo>
                <a:lnTo>
                  <a:pt x="106" y="14"/>
                </a:lnTo>
                <a:lnTo>
                  <a:pt x="119" y="10"/>
                </a:lnTo>
                <a:lnTo>
                  <a:pt x="127" y="10"/>
                </a:lnTo>
                <a:lnTo>
                  <a:pt x="127" y="8"/>
                </a:lnTo>
                <a:lnTo>
                  <a:pt x="127" y="6"/>
                </a:lnTo>
                <a:lnTo>
                  <a:pt x="127" y="6"/>
                </a:lnTo>
                <a:lnTo>
                  <a:pt x="127" y="4"/>
                </a:lnTo>
                <a:lnTo>
                  <a:pt x="127" y="2"/>
                </a:lnTo>
                <a:lnTo>
                  <a:pt x="127" y="2"/>
                </a:lnTo>
                <a:lnTo>
                  <a:pt x="127" y="0"/>
                </a:lnTo>
                <a:lnTo>
                  <a:pt x="127" y="0"/>
                </a:lnTo>
                <a:close/>
              </a:path>
            </a:pathLst>
          </a:custGeom>
          <a:solidFill>
            <a:srgbClr val="e1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260"/>
          <p:cNvSpPr/>
          <p:nvPr/>
        </p:nvSpPr>
        <p:spPr>
          <a:xfrm>
            <a:off x="6904080" y="3075120"/>
            <a:ext cx="191880" cy="444240"/>
          </a:xfrm>
          <a:custGeom>
            <a:avLst/>
            <a:gdLst>
              <a:gd name="textAreaLeft" fmla="*/ 0 w 191880"/>
              <a:gd name="textAreaRight" fmla="*/ 192240 w 19188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121" h="280">
                <a:moveTo>
                  <a:pt x="121" y="0"/>
                </a:moveTo>
                <a:lnTo>
                  <a:pt x="113" y="2"/>
                </a:lnTo>
                <a:lnTo>
                  <a:pt x="100" y="6"/>
                </a:lnTo>
                <a:lnTo>
                  <a:pt x="86" y="10"/>
                </a:lnTo>
                <a:lnTo>
                  <a:pt x="73" y="15"/>
                </a:lnTo>
                <a:lnTo>
                  <a:pt x="61" y="23"/>
                </a:lnTo>
                <a:lnTo>
                  <a:pt x="52" y="31"/>
                </a:lnTo>
                <a:lnTo>
                  <a:pt x="40" y="40"/>
                </a:lnTo>
                <a:lnTo>
                  <a:pt x="33" y="50"/>
                </a:lnTo>
                <a:lnTo>
                  <a:pt x="23" y="61"/>
                </a:lnTo>
                <a:lnTo>
                  <a:pt x="17" y="73"/>
                </a:lnTo>
                <a:lnTo>
                  <a:pt x="12" y="84"/>
                </a:lnTo>
                <a:lnTo>
                  <a:pt x="6" y="98"/>
                </a:lnTo>
                <a:lnTo>
                  <a:pt x="2" y="111"/>
                </a:lnTo>
                <a:lnTo>
                  <a:pt x="0" y="127"/>
                </a:lnTo>
                <a:lnTo>
                  <a:pt x="0" y="140"/>
                </a:lnTo>
                <a:lnTo>
                  <a:pt x="0" y="155"/>
                </a:lnTo>
                <a:lnTo>
                  <a:pt x="2" y="169"/>
                </a:lnTo>
                <a:lnTo>
                  <a:pt x="6" y="182"/>
                </a:lnTo>
                <a:lnTo>
                  <a:pt x="12" y="196"/>
                </a:lnTo>
                <a:lnTo>
                  <a:pt x="17" y="207"/>
                </a:lnTo>
                <a:lnTo>
                  <a:pt x="23" y="221"/>
                </a:lnTo>
                <a:lnTo>
                  <a:pt x="33" y="230"/>
                </a:lnTo>
                <a:lnTo>
                  <a:pt x="40" y="242"/>
                </a:lnTo>
                <a:lnTo>
                  <a:pt x="52" y="249"/>
                </a:lnTo>
                <a:lnTo>
                  <a:pt x="61" y="259"/>
                </a:lnTo>
                <a:lnTo>
                  <a:pt x="73" y="265"/>
                </a:lnTo>
                <a:lnTo>
                  <a:pt x="86" y="271"/>
                </a:lnTo>
                <a:lnTo>
                  <a:pt x="100" y="276"/>
                </a:lnTo>
                <a:lnTo>
                  <a:pt x="113" y="280"/>
                </a:lnTo>
                <a:lnTo>
                  <a:pt x="119" y="280"/>
                </a:lnTo>
                <a:lnTo>
                  <a:pt x="119" y="280"/>
                </a:lnTo>
                <a:lnTo>
                  <a:pt x="119" y="278"/>
                </a:lnTo>
                <a:lnTo>
                  <a:pt x="119" y="276"/>
                </a:lnTo>
                <a:lnTo>
                  <a:pt x="119" y="276"/>
                </a:lnTo>
                <a:lnTo>
                  <a:pt x="119" y="274"/>
                </a:lnTo>
                <a:lnTo>
                  <a:pt x="119" y="273"/>
                </a:lnTo>
                <a:lnTo>
                  <a:pt x="119" y="273"/>
                </a:lnTo>
                <a:lnTo>
                  <a:pt x="119" y="271"/>
                </a:lnTo>
                <a:lnTo>
                  <a:pt x="115" y="271"/>
                </a:lnTo>
                <a:lnTo>
                  <a:pt x="102" y="267"/>
                </a:lnTo>
                <a:lnTo>
                  <a:pt x="90" y="263"/>
                </a:lnTo>
                <a:lnTo>
                  <a:pt x="79" y="257"/>
                </a:lnTo>
                <a:lnTo>
                  <a:pt x="67" y="249"/>
                </a:lnTo>
                <a:lnTo>
                  <a:pt x="58" y="242"/>
                </a:lnTo>
                <a:lnTo>
                  <a:pt x="48" y="234"/>
                </a:lnTo>
                <a:lnTo>
                  <a:pt x="38" y="225"/>
                </a:lnTo>
                <a:lnTo>
                  <a:pt x="33" y="215"/>
                </a:lnTo>
                <a:lnTo>
                  <a:pt x="25" y="203"/>
                </a:lnTo>
                <a:lnTo>
                  <a:pt x="19" y="192"/>
                </a:lnTo>
                <a:lnTo>
                  <a:pt x="15" y="180"/>
                </a:lnTo>
                <a:lnTo>
                  <a:pt x="12" y="167"/>
                </a:lnTo>
                <a:lnTo>
                  <a:pt x="10" y="154"/>
                </a:lnTo>
                <a:lnTo>
                  <a:pt x="10" y="140"/>
                </a:lnTo>
                <a:lnTo>
                  <a:pt x="10" y="127"/>
                </a:lnTo>
                <a:lnTo>
                  <a:pt x="12" y="113"/>
                </a:lnTo>
                <a:lnTo>
                  <a:pt x="15" y="102"/>
                </a:lnTo>
                <a:lnTo>
                  <a:pt x="19" y="88"/>
                </a:lnTo>
                <a:lnTo>
                  <a:pt x="25" y="77"/>
                </a:lnTo>
                <a:lnTo>
                  <a:pt x="33" y="67"/>
                </a:lnTo>
                <a:lnTo>
                  <a:pt x="38" y="56"/>
                </a:lnTo>
                <a:lnTo>
                  <a:pt x="48" y="46"/>
                </a:lnTo>
                <a:lnTo>
                  <a:pt x="58" y="38"/>
                </a:lnTo>
                <a:lnTo>
                  <a:pt x="67" y="31"/>
                </a:lnTo>
                <a:lnTo>
                  <a:pt x="79" y="25"/>
                </a:lnTo>
                <a:lnTo>
                  <a:pt x="90" y="19"/>
                </a:lnTo>
                <a:lnTo>
                  <a:pt x="102" y="13"/>
                </a:lnTo>
                <a:lnTo>
                  <a:pt x="115" y="12"/>
                </a:lnTo>
                <a:lnTo>
                  <a:pt x="121" y="10"/>
                </a:lnTo>
                <a:lnTo>
                  <a:pt x="121" y="10"/>
                </a:lnTo>
                <a:lnTo>
                  <a:pt x="121" y="8"/>
                </a:lnTo>
                <a:lnTo>
                  <a:pt x="121" y="6"/>
                </a:lnTo>
                <a:lnTo>
                  <a:pt x="121" y="6"/>
                </a:lnTo>
                <a:lnTo>
                  <a:pt x="121" y="4"/>
                </a:lnTo>
                <a:lnTo>
                  <a:pt x="121" y="2"/>
                </a:lnTo>
                <a:lnTo>
                  <a:pt x="121" y="2"/>
                </a:lnTo>
                <a:lnTo>
                  <a:pt x="121" y="0"/>
                </a:lnTo>
                <a:close/>
              </a:path>
            </a:pathLst>
          </a:custGeom>
          <a:solidFill>
            <a:srgbClr val="e2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261"/>
          <p:cNvSpPr/>
          <p:nvPr/>
        </p:nvSpPr>
        <p:spPr>
          <a:xfrm>
            <a:off x="6910560" y="3084480"/>
            <a:ext cx="185400" cy="428760"/>
          </a:xfrm>
          <a:custGeom>
            <a:avLst/>
            <a:gdLst>
              <a:gd name="textAreaLeft" fmla="*/ 0 w 185400"/>
              <a:gd name="textAreaRight" fmla="*/ 185760 w 1854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117" h="270">
                <a:moveTo>
                  <a:pt x="117" y="0"/>
                </a:moveTo>
                <a:lnTo>
                  <a:pt x="109" y="0"/>
                </a:lnTo>
                <a:lnTo>
                  <a:pt x="96" y="4"/>
                </a:lnTo>
                <a:lnTo>
                  <a:pt x="84" y="7"/>
                </a:lnTo>
                <a:lnTo>
                  <a:pt x="73" y="13"/>
                </a:lnTo>
                <a:lnTo>
                  <a:pt x="61" y="21"/>
                </a:lnTo>
                <a:lnTo>
                  <a:pt x="50" y="29"/>
                </a:lnTo>
                <a:lnTo>
                  <a:pt x="40" y="38"/>
                </a:lnTo>
                <a:lnTo>
                  <a:pt x="32" y="48"/>
                </a:lnTo>
                <a:lnTo>
                  <a:pt x="23" y="57"/>
                </a:lnTo>
                <a:lnTo>
                  <a:pt x="17" y="69"/>
                </a:lnTo>
                <a:lnTo>
                  <a:pt x="11" y="80"/>
                </a:lnTo>
                <a:lnTo>
                  <a:pt x="6" y="94"/>
                </a:lnTo>
                <a:lnTo>
                  <a:pt x="4" y="107"/>
                </a:lnTo>
                <a:lnTo>
                  <a:pt x="2" y="121"/>
                </a:lnTo>
                <a:lnTo>
                  <a:pt x="0" y="134"/>
                </a:lnTo>
                <a:lnTo>
                  <a:pt x="2" y="149"/>
                </a:lnTo>
                <a:lnTo>
                  <a:pt x="4" y="163"/>
                </a:lnTo>
                <a:lnTo>
                  <a:pt x="6" y="174"/>
                </a:lnTo>
                <a:lnTo>
                  <a:pt x="11" y="188"/>
                </a:lnTo>
                <a:lnTo>
                  <a:pt x="17" y="199"/>
                </a:lnTo>
                <a:lnTo>
                  <a:pt x="23" y="211"/>
                </a:lnTo>
                <a:lnTo>
                  <a:pt x="32" y="222"/>
                </a:lnTo>
                <a:lnTo>
                  <a:pt x="40" y="232"/>
                </a:lnTo>
                <a:lnTo>
                  <a:pt x="50" y="240"/>
                </a:lnTo>
                <a:lnTo>
                  <a:pt x="61" y="247"/>
                </a:lnTo>
                <a:lnTo>
                  <a:pt x="73" y="255"/>
                </a:lnTo>
                <a:lnTo>
                  <a:pt x="84" y="261"/>
                </a:lnTo>
                <a:lnTo>
                  <a:pt x="96" y="265"/>
                </a:lnTo>
                <a:lnTo>
                  <a:pt x="109" y="268"/>
                </a:lnTo>
                <a:lnTo>
                  <a:pt x="115" y="270"/>
                </a:lnTo>
                <a:lnTo>
                  <a:pt x="115" y="268"/>
                </a:lnTo>
                <a:lnTo>
                  <a:pt x="115" y="267"/>
                </a:lnTo>
                <a:lnTo>
                  <a:pt x="115" y="267"/>
                </a:lnTo>
                <a:lnTo>
                  <a:pt x="115" y="265"/>
                </a:lnTo>
                <a:lnTo>
                  <a:pt x="115" y="265"/>
                </a:lnTo>
                <a:lnTo>
                  <a:pt x="115" y="263"/>
                </a:lnTo>
                <a:lnTo>
                  <a:pt x="115" y="261"/>
                </a:lnTo>
                <a:lnTo>
                  <a:pt x="115" y="261"/>
                </a:lnTo>
                <a:lnTo>
                  <a:pt x="111" y="259"/>
                </a:lnTo>
                <a:lnTo>
                  <a:pt x="100" y="257"/>
                </a:lnTo>
                <a:lnTo>
                  <a:pt x="88" y="253"/>
                </a:lnTo>
                <a:lnTo>
                  <a:pt x="77" y="247"/>
                </a:lnTo>
                <a:lnTo>
                  <a:pt x="67" y="240"/>
                </a:lnTo>
                <a:lnTo>
                  <a:pt x="55" y="234"/>
                </a:lnTo>
                <a:lnTo>
                  <a:pt x="48" y="224"/>
                </a:lnTo>
                <a:lnTo>
                  <a:pt x="38" y="217"/>
                </a:lnTo>
                <a:lnTo>
                  <a:pt x="32" y="205"/>
                </a:lnTo>
                <a:lnTo>
                  <a:pt x="25" y="196"/>
                </a:lnTo>
                <a:lnTo>
                  <a:pt x="19" y="184"/>
                </a:lnTo>
                <a:lnTo>
                  <a:pt x="15" y="172"/>
                </a:lnTo>
                <a:lnTo>
                  <a:pt x="13" y="161"/>
                </a:lnTo>
                <a:lnTo>
                  <a:pt x="11" y="148"/>
                </a:lnTo>
                <a:lnTo>
                  <a:pt x="9" y="134"/>
                </a:lnTo>
                <a:lnTo>
                  <a:pt x="11" y="121"/>
                </a:lnTo>
                <a:lnTo>
                  <a:pt x="13" y="109"/>
                </a:lnTo>
                <a:lnTo>
                  <a:pt x="15" y="96"/>
                </a:lnTo>
                <a:lnTo>
                  <a:pt x="19" y="84"/>
                </a:lnTo>
                <a:lnTo>
                  <a:pt x="25" y="73"/>
                </a:lnTo>
                <a:lnTo>
                  <a:pt x="32" y="63"/>
                </a:lnTo>
                <a:lnTo>
                  <a:pt x="38" y="54"/>
                </a:lnTo>
                <a:lnTo>
                  <a:pt x="48" y="44"/>
                </a:lnTo>
                <a:lnTo>
                  <a:pt x="55" y="36"/>
                </a:lnTo>
                <a:lnTo>
                  <a:pt x="67" y="29"/>
                </a:lnTo>
                <a:lnTo>
                  <a:pt x="77" y="23"/>
                </a:lnTo>
                <a:lnTo>
                  <a:pt x="88" y="17"/>
                </a:lnTo>
                <a:lnTo>
                  <a:pt x="100" y="13"/>
                </a:lnTo>
                <a:lnTo>
                  <a:pt x="111" y="9"/>
                </a:lnTo>
                <a:lnTo>
                  <a:pt x="115" y="9"/>
                </a:lnTo>
                <a:lnTo>
                  <a:pt x="115" y="7"/>
                </a:lnTo>
                <a:lnTo>
                  <a:pt x="115" y="6"/>
                </a:lnTo>
                <a:lnTo>
                  <a:pt x="117" y="6"/>
                </a:lnTo>
                <a:lnTo>
                  <a:pt x="117" y="4"/>
                </a:lnTo>
                <a:lnTo>
                  <a:pt x="117" y="4"/>
                </a:lnTo>
                <a:lnTo>
                  <a:pt x="117" y="2"/>
                </a:lnTo>
                <a:lnTo>
                  <a:pt x="117" y="0"/>
                </a:lnTo>
                <a:lnTo>
                  <a:pt x="117" y="0"/>
                </a:lnTo>
                <a:close/>
              </a:path>
            </a:pathLst>
          </a:custGeom>
          <a:solidFill>
            <a:srgbClr val="e3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262"/>
          <p:cNvSpPr/>
          <p:nvPr/>
        </p:nvSpPr>
        <p:spPr>
          <a:xfrm>
            <a:off x="6919920" y="3090960"/>
            <a:ext cx="176040" cy="414360"/>
          </a:xfrm>
          <a:custGeom>
            <a:avLst/>
            <a:gdLst>
              <a:gd name="textAreaLeft" fmla="*/ 0 w 176040"/>
              <a:gd name="textAreaRight" fmla="*/ 176400 w 17604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11" h="261">
                <a:moveTo>
                  <a:pt x="111" y="0"/>
                </a:moveTo>
                <a:lnTo>
                  <a:pt x="105" y="2"/>
                </a:lnTo>
                <a:lnTo>
                  <a:pt x="92" y="3"/>
                </a:lnTo>
                <a:lnTo>
                  <a:pt x="80" y="9"/>
                </a:lnTo>
                <a:lnTo>
                  <a:pt x="69" y="15"/>
                </a:lnTo>
                <a:lnTo>
                  <a:pt x="57" y="21"/>
                </a:lnTo>
                <a:lnTo>
                  <a:pt x="48" y="28"/>
                </a:lnTo>
                <a:lnTo>
                  <a:pt x="38" y="36"/>
                </a:lnTo>
                <a:lnTo>
                  <a:pt x="28" y="46"/>
                </a:lnTo>
                <a:lnTo>
                  <a:pt x="23" y="57"/>
                </a:lnTo>
                <a:lnTo>
                  <a:pt x="15" y="67"/>
                </a:lnTo>
                <a:lnTo>
                  <a:pt x="9" y="78"/>
                </a:lnTo>
                <a:lnTo>
                  <a:pt x="5" y="92"/>
                </a:lnTo>
                <a:lnTo>
                  <a:pt x="2" y="103"/>
                </a:lnTo>
                <a:lnTo>
                  <a:pt x="0" y="117"/>
                </a:lnTo>
                <a:lnTo>
                  <a:pt x="0" y="130"/>
                </a:lnTo>
                <a:lnTo>
                  <a:pt x="0" y="144"/>
                </a:lnTo>
                <a:lnTo>
                  <a:pt x="2" y="157"/>
                </a:lnTo>
                <a:lnTo>
                  <a:pt x="5" y="170"/>
                </a:lnTo>
                <a:lnTo>
                  <a:pt x="9" y="182"/>
                </a:lnTo>
                <a:lnTo>
                  <a:pt x="15" y="193"/>
                </a:lnTo>
                <a:lnTo>
                  <a:pt x="23" y="205"/>
                </a:lnTo>
                <a:lnTo>
                  <a:pt x="28" y="215"/>
                </a:lnTo>
                <a:lnTo>
                  <a:pt x="38" y="224"/>
                </a:lnTo>
                <a:lnTo>
                  <a:pt x="48" y="232"/>
                </a:lnTo>
                <a:lnTo>
                  <a:pt x="57" y="239"/>
                </a:lnTo>
                <a:lnTo>
                  <a:pt x="69" y="247"/>
                </a:lnTo>
                <a:lnTo>
                  <a:pt x="80" y="253"/>
                </a:lnTo>
                <a:lnTo>
                  <a:pt x="92" y="257"/>
                </a:lnTo>
                <a:lnTo>
                  <a:pt x="105" y="261"/>
                </a:lnTo>
                <a:lnTo>
                  <a:pt x="109" y="261"/>
                </a:lnTo>
                <a:lnTo>
                  <a:pt x="109" y="261"/>
                </a:lnTo>
                <a:lnTo>
                  <a:pt x="109" y="259"/>
                </a:lnTo>
                <a:lnTo>
                  <a:pt x="109" y="257"/>
                </a:lnTo>
                <a:lnTo>
                  <a:pt x="109" y="257"/>
                </a:lnTo>
                <a:lnTo>
                  <a:pt x="109" y="255"/>
                </a:lnTo>
                <a:lnTo>
                  <a:pt x="109" y="253"/>
                </a:lnTo>
                <a:lnTo>
                  <a:pt x="109" y="253"/>
                </a:lnTo>
                <a:lnTo>
                  <a:pt x="109" y="251"/>
                </a:lnTo>
                <a:lnTo>
                  <a:pt x="107" y="251"/>
                </a:lnTo>
                <a:lnTo>
                  <a:pt x="96" y="247"/>
                </a:lnTo>
                <a:lnTo>
                  <a:pt x="84" y="243"/>
                </a:lnTo>
                <a:lnTo>
                  <a:pt x="73" y="239"/>
                </a:lnTo>
                <a:lnTo>
                  <a:pt x="63" y="232"/>
                </a:lnTo>
                <a:lnTo>
                  <a:pt x="53" y="226"/>
                </a:lnTo>
                <a:lnTo>
                  <a:pt x="44" y="218"/>
                </a:lnTo>
                <a:lnTo>
                  <a:pt x="36" y="209"/>
                </a:lnTo>
                <a:lnTo>
                  <a:pt x="30" y="199"/>
                </a:lnTo>
                <a:lnTo>
                  <a:pt x="23" y="190"/>
                </a:lnTo>
                <a:lnTo>
                  <a:pt x="19" y="178"/>
                </a:lnTo>
                <a:lnTo>
                  <a:pt x="15" y="167"/>
                </a:lnTo>
                <a:lnTo>
                  <a:pt x="11" y="155"/>
                </a:lnTo>
                <a:lnTo>
                  <a:pt x="9" y="144"/>
                </a:lnTo>
                <a:lnTo>
                  <a:pt x="9" y="130"/>
                </a:lnTo>
                <a:lnTo>
                  <a:pt x="9" y="119"/>
                </a:lnTo>
                <a:lnTo>
                  <a:pt x="11" y="105"/>
                </a:lnTo>
                <a:lnTo>
                  <a:pt x="15" y="94"/>
                </a:lnTo>
                <a:lnTo>
                  <a:pt x="19" y="82"/>
                </a:lnTo>
                <a:lnTo>
                  <a:pt x="23" y="73"/>
                </a:lnTo>
                <a:lnTo>
                  <a:pt x="30" y="61"/>
                </a:lnTo>
                <a:lnTo>
                  <a:pt x="36" y="51"/>
                </a:lnTo>
                <a:lnTo>
                  <a:pt x="44" y="44"/>
                </a:lnTo>
                <a:lnTo>
                  <a:pt x="53" y="36"/>
                </a:lnTo>
                <a:lnTo>
                  <a:pt x="63" y="28"/>
                </a:lnTo>
                <a:lnTo>
                  <a:pt x="73" y="23"/>
                </a:lnTo>
                <a:lnTo>
                  <a:pt x="84" y="17"/>
                </a:lnTo>
                <a:lnTo>
                  <a:pt x="96" y="13"/>
                </a:lnTo>
                <a:lnTo>
                  <a:pt x="107" y="9"/>
                </a:lnTo>
                <a:lnTo>
                  <a:pt x="109" y="9"/>
                </a:lnTo>
                <a:lnTo>
                  <a:pt x="109" y="9"/>
                </a:lnTo>
                <a:lnTo>
                  <a:pt x="109" y="7"/>
                </a:lnTo>
                <a:lnTo>
                  <a:pt x="109" y="5"/>
                </a:lnTo>
                <a:lnTo>
                  <a:pt x="109" y="5"/>
                </a:lnTo>
                <a:lnTo>
                  <a:pt x="109" y="3"/>
                </a:lnTo>
                <a:lnTo>
                  <a:pt x="109" y="2"/>
                </a:lnTo>
                <a:lnTo>
                  <a:pt x="111" y="2"/>
                </a:lnTo>
                <a:lnTo>
                  <a:pt x="111" y="0"/>
                </a:lnTo>
                <a:close/>
              </a:path>
            </a:pathLst>
          </a:custGeom>
          <a:solidFill>
            <a:srgbClr val="e4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263"/>
          <p:cNvSpPr/>
          <p:nvPr/>
        </p:nvSpPr>
        <p:spPr>
          <a:xfrm>
            <a:off x="6924600" y="3098880"/>
            <a:ext cx="168480" cy="399960"/>
          </a:xfrm>
          <a:custGeom>
            <a:avLst/>
            <a:gdLst>
              <a:gd name="textAreaLeft" fmla="*/ 0 w 168480"/>
              <a:gd name="textAreaRight" fmla="*/ 168840 w 16848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06" h="252">
                <a:moveTo>
                  <a:pt x="106" y="0"/>
                </a:moveTo>
                <a:lnTo>
                  <a:pt x="102" y="0"/>
                </a:lnTo>
                <a:lnTo>
                  <a:pt x="91" y="4"/>
                </a:lnTo>
                <a:lnTo>
                  <a:pt x="79" y="8"/>
                </a:lnTo>
                <a:lnTo>
                  <a:pt x="68" y="14"/>
                </a:lnTo>
                <a:lnTo>
                  <a:pt x="58" y="20"/>
                </a:lnTo>
                <a:lnTo>
                  <a:pt x="46" y="27"/>
                </a:lnTo>
                <a:lnTo>
                  <a:pt x="39" y="35"/>
                </a:lnTo>
                <a:lnTo>
                  <a:pt x="29" y="45"/>
                </a:lnTo>
                <a:lnTo>
                  <a:pt x="23" y="54"/>
                </a:lnTo>
                <a:lnTo>
                  <a:pt x="16" y="64"/>
                </a:lnTo>
                <a:lnTo>
                  <a:pt x="10" y="75"/>
                </a:lnTo>
                <a:lnTo>
                  <a:pt x="6" y="87"/>
                </a:lnTo>
                <a:lnTo>
                  <a:pt x="4" y="100"/>
                </a:lnTo>
                <a:lnTo>
                  <a:pt x="2" y="112"/>
                </a:lnTo>
                <a:lnTo>
                  <a:pt x="0" y="125"/>
                </a:lnTo>
                <a:lnTo>
                  <a:pt x="2" y="139"/>
                </a:lnTo>
                <a:lnTo>
                  <a:pt x="4" y="152"/>
                </a:lnTo>
                <a:lnTo>
                  <a:pt x="6" y="163"/>
                </a:lnTo>
                <a:lnTo>
                  <a:pt x="10" y="175"/>
                </a:lnTo>
                <a:lnTo>
                  <a:pt x="16" y="187"/>
                </a:lnTo>
                <a:lnTo>
                  <a:pt x="23" y="196"/>
                </a:lnTo>
                <a:lnTo>
                  <a:pt x="29" y="208"/>
                </a:lnTo>
                <a:lnTo>
                  <a:pt x="39" y="215"/>
                </a:lnTo>
                <a:lnTo>
                  <a:pt x="46" y="225"/>
                </a:lnTo>
                <a:lnTo>
                  <a:pt x="58" y="231"/>
                </a:lnTo>
                <a:lnTo>
                  <a:pt x="68" y="238"/>
                </a:lnTo>
                <a:lnTo>
                  <a:pt x="79" y="244"/>
                </a:lnTo>
                <a:lnTo>
                  <a:pt x="91" y="248"/>
                </a:lnTo>
                <a:lnTo>
                  <a:pt x="102" y="250"/>
                </a:lnTo>
                <a:lnTo>
                  <a:pt x="106" y="252"/>
                </a:lnTo>
                <a:lnTo>
                  <a:pt x="106" y="250"/>
                </a:lnTo>
                <a:lnTo>
                  <a:pt x="106" y="248"/>
                </a:lnTo>
                <a:lnTo>
                  <a:pt x="106" y="248"/>
                </a:lnTo>
                <a:lnTo>
                  <a:pt x="106" y="246"/>
                </a:lnTo>
                <a:lnTo>
                  <a:pt x="104" y="244"/>
                </a:lnTo>
                <a:lnTo>
                  <a:pt x="104" y="244"/>
                </a:lnTo>
                <a:lnTo>
                  <a:pt x="104" y="242"/>
                </a:lnTo>
                <a:lnTo>
                  <a:pt x="104" y="242"/>
                </a:lnTo>
                <a:lnTo>
                  <a:pt x="104" y="242"/>
                </a:lnTo>
                <a:lnTo>
                  <a:pt x="93" y="238"/>
                </a:lnTo>
                <a:lnTo>
                  <a:pt x="83" y="234"/>
                </a:lnTo>
                <a:lnTo>
                  <a:pt x="71" y="229"/>
                </a:lnTo>
                <a:lnTo>
                  <a:pt x="62" y="223"/>
                </a:lnTo>
                <a:lnTo>
                  <a:pt x="54" y="217"/>
                </a:lnTo>
                <a:lnTo>
                  <a:pt x="45" y="210"/>
                </a:lnTo>
                <a:lnTo>
                  <a:pt x="37" y="200"/>
                </a:lnTo>
                <a:lnTo>
                  <a:pt x="31" y="192"/>
                </a:lnTo>
                <a:lnTo>
                  <a:pt x="25" y="183"/>
                </a:lnTo>
                <a:lnTo>
                  <a:pt x="20" y="171"/>
                </a:lnTo>
                <a:lnTo>
                  <a:pt x="16" y="162"/>
                </a:lnTo>
                <a:lnTo>
                  <a:pt x="12" y="150"/>
                </a:lnTo>
                <a:lnTo>
                  <a:pt x="10" y="139"/>
                </a:lnTo>
                <a:lnTo>
                  <a:pt x="10" y="125"/>
                </a:lnTo>
                <a:lnTo>
                  <a:pt x="10" y="114"/>
                </a:lnTo>
                <a:lnTo>
                  <a:pt x="12" y="102"/>
                </a:lnTo>
                <a:lnTo>
                  <a:pt x="16" y="91"/>
                </a:lnTo>
                <a:lnTo>
                  <a:pt x="20" y="79"/>
                </a:lnTo>
                <a:lnTo>
                  <a:pt x="25" y="69"/>
                </a:lnTo>
                <a:lnTo>
                  <a:pt x="31" y="60"/>
                </a:lnTo>
                <a:lnTo>
                  <a:pt x="37" y="50"/>
                </a:lnTo>
                <a:lnTo>
                  <a:pt x="45" y="43"/>
                </a:lnTo>
                <a:lnTo>
                  <a:pt x="54" y="35"/>
                </a:lnTo>
                <a:lnTo>
                  <a:pt x="62" y="27"/>
                </a:lnTo>
                <a:lnTo>
                  <a:pt x="71" y="21"/>
                </a:lnTo>
                <a:lnTo>
                  <a:pt x="83" y="16"/>
                </a:lnTo>
                <a:lnTo>
                  <a:pt x="93" y="12"/>
                </a:lnTo>
                <a:lnTo>
                  <a:pt x="104" y="10"/>
                </a:lnTo>
                <a:lnTo>
                  <a:pt x="106" y="10"/>
                </a:lnTo>
                <a:lnTo>
                  <a:pt x="106" y="8"/>
                </a:lnTo>
                <a:lnTo>
                  <a:pt x="106" y="6"/>
                </a:lnTo>
                <a:lnTo>
                  <a:pt x="106" y="6"/>
                </a:lnTo>
                <a:lnTo>
                  <a:pt x="106" y="4"/>
                </a:lnTo>
                <a:lnTo>
                  <a:pt x="106" y="4"/>
                </a:lnTo>
                <a:lnTo>
                  <a:pt x="106" y="2"/>
                </a:lnTo>
                <a:lnTo>
                  <a:pt x="106" y="0"/>
                </a:lnTo>
                <a:lnTo>
                  <a:pt x="106" y="0"/>
                </a:lnTo>
                <a:close/>
              </a:path>
            </a:pathLst>
          </a:custGeom>
          <a:solidFill>
            <a:srgbClr val="e5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264"/>
          <p:cNvSpPr/>
          <p:nvPr/>
        </p:nvSpPr>
        <p:spPr>
          <a:xfrm>
            <a:off x="6934320" y="3105000"/>
            <a:ext cx="158760" cy="384480"/>
          </a:xfrm>
          <a:custGeom>
            <a:avLst/>
            <a:gdLst>
              <a:gd name="textAreaLeft" fmla="*/ 0 w 158760"/>
              <a:gd name="textAreaRight" fmla="*/ 159120 w 158760"/>
              <a:gd name="textAreaTop" fmla="*/ 0 h 384480"/>
              <a:gd name="textAreaBottom" fmla="*/ 384840 h 384480"/>
            </a:gdLst>
            <a:ahLst/>
            <a:rect l="textAreaLeft" t="textAreaTop" r="textAreaRight" b="textAreaBottom"/>
            <a:pathLst>
              <a:path w="100" h="242">
                <a:moveTo>
                  <a:pt x="100" y="0"/>
                </a:moveTo>
                <a:lnTo>
                  <a:pt x="98" y="0"/>
                </a:lnTo>
                <a:lnTo>
                  <a:pt x="87" y="4"/>
                </a:lnTo>
                <a:lnTo>
                  <a:pt x="75" y="8"/>
                </a:lnTo>
                <a:lnTo>
                  <a:pt x="64" y="14"/>
                </a:lnTo>
                <a:lnTo>
                  <a:pt x="54" y="19"/>
                </a:lnTo>
                <a:lnTo>
                  <a:pt x="44" y="27"/>
                </a:lnTo>
                <a:lnTo>
                  <a:pt x="35" y="35"/>
                </a:lnTo>
                <a:lnTo>
                  <a:pt x="27" y="42"/>
                </a:lnTo>
                <a:lnTo>
                  <a:pt x="21" y="52"/>
                </a:lnTo>
                <a:lnTo>
                  <a:pt x="14" y="64"/>
                </a:lnTo>
                <a:lnTo>
                  <a:pt x="10" y="73"/>
                </a:lnTo>
                <a:lnTo>
                  <a:pt x="6" y="85"/>
                </a:lnTo>
                <a:lnTo>
                  <a:pt x="2" y="96"/>
                </a:lnTo>
                <a:lnTo>
                  <a:pt x="0" y="110"/>
                </a:lnTo>
                <a:lnTo>
                  <a:pt x="0" y="121"/>
                </a:lnTo>
                <a:lnTo>
                  <a:pt x="0" y="135"/>
                </a:lnTo>
                <a:lnTo>
                  <a:pt x="2" y="146"/>
                </a:lnTo>
                <a:lnTo>
                  <a:pt x="6" y="158"/>
                </a:lnTo>
                <a:lnTo>
                  <a:pt x="10" y="169"/>
                </a:lnTo>
                <a:lnTo>
                  <a:pt x="14" y="181"/>
                </a:lnTo>
                <a:lnTo>
                  <a:pt x="21" y="190"/>
                </a:lnTo>
                <a:lnTo>
                  <a:pt x="27" y="200"/>
                </a:lnTo>
                <a:lnTo>
                  <a:pt x="35" y="209"/>
                </a:lnTo>
                <a:lnTo>
                  <a:pt x="44" y="217"/>
                </a:lnTo>
                <a:lnTo>
                  <a:pt x="54" y="223"/>
                </a:lnTo>
                <a:lnTo>
                  <a:pt x="64" y="230"/>
                </a:lnTo>
                <a:lnTo>
                  <a:pt x="75" y="234"/>
                </a:lnTo>
                <a:lnTo>
                  <a:pt x="87" y="238"/>
                </a:lnTo>
                <a:lnTo>
                  <a:pt x="98" y="242"/>
                </a:lnTo>
                <a:lnTo>
                  <a:pt x="100" y="242"/>
                </a:lnTo>
                <a:lnTo>
                  <a:pt x="98" y="240"/>
                </a:lnTo>
                <a:lnTo>
                  <a:pt x="98" y="240"/>
                </a:lnTo>
                <a:lnTo>
                  <a:pt x="98" y="238"/>
                </a:lnTo>
                <a:lnTo>
                  <a:pt x="98" y="238"/>
                </a:lnTo>
                <a:lnTo>
                  <a:pt x="98" y="236"/>
                </a:lnTo>
                <a:lnTo>
                  <a:pt x="98" y="234"/>
                </a:lnTo>
                <a:lnTo>
                  <a:pt x="98" y="234"/>
                </a:lnTo>
                <a:lnTo>
                  <a:pt x="98" y="232"/>
                </a:lnTo>
                <a:lnTo>
                  <a:pt x="88" y="230"/>
                </a:lnTo>
                <a:lnTo>
                  <a:pt x="79" y="227"/>
                </a:lnTo>
                <a:lnTo>
                  <a:pt x="69" y="221"/>
                </a:lnTo>
                <a:lnTo>
                  <a:pt x="60" y="215"/>
                </a:lnTo>
                <a:lnTo>
                  <a:pt x="50" y="209"/>
                </a:lnTo>
                <a:lnTo>
                  <a:pt x="42" y="202"/>
                </a:lnTo>
                <a:lnTo>
                  <a:pt x="35" y="194"/>
                </a:lnTo>
                <a:lnTo>
                  <a:pt x="29" y="184"/>
                </a:lnTo>
                <a:lnTo>
                  <a:pt x="23" y="175"/>
                </a:lnTo>
                <a:lnTo>
                  <a:pt x="17" y="165"/>
                </a:lnTo>
                <a:lnTo>
                  <a:pt x="14" y="156"/>
                </a:lnTo>
                <a:lnTo>
                  <a:pt x="12" y="144"/>
                </a:lnTo>
                <a:lnTo>
                  <a:pt x="10" y="133"/>
                </a:lnTo>
                <a:lnTo>
                  <a:pt x="10" y="121"/>
                </a:lnTo>
                <a:lnTo>
                  <a:pt x="10" y="110"/>
                </a:lnTo>
                <a:lnTo>
                  <a:pt x="12" y="98"/>
                </a:lnTo>
                <a:lnTo>
                  <a:pt x="14" y="88"/>
                </a:lnTo>
                <a:lnTo>
                  <a:pt x="17" y="77"/>
                </a:lnTo>
                <a:lnTo>
                  <a:pt x="23" y="67"/>
                </a:lnTo>
                <a:lnTo>
                  <a:pt x="29" y="58"/>
                </a:lnTo>
                <a:lnTo>
                  <a:pt x="35" y="50"/>
                </a:lnTo>
                <a:lnTo>
                  <a:pt x="42" y="41"/>
                </a:lnTo>
                <a:lnTo>
                  <a:pt x="50" y="35"/>
                </a:lnTo>
                <a:lnTo>
                  <a:pt x="60" y="27"/>
                </a:lnTo>
                <a:lnTo>
                  <a:pt x="69" y="21"/>
                </a:lnTo>
                <a:lnTo>
                  <a:pt x="79" y="17"/>
                </a:lnTo>
                <a:lnTo>
                  <a:pt x="88" y="14"/>
                </a:lnTo>
                <a:lnTo>
                  <a:pt x="100" y="10"/>
                </a:lnTo>
                <a:lnTo>
                  <a:pt x="100" y="10"/>
                </a:lnTo>
                <a:lnTo>
                  <a:pt x="100" y="8"/>
                </a:lnTo>
                <a:lnTo>
                  <a:pt x="100" y="6"/>
                </a:lnTo>
                <a:lnTo>
                  <a:pt x="100" y="6"/>
                </a:lnTo>
                <a:lnTo>
                  <a:pt x="100" y="4"/>
                </a:lnTo>
                <a:lnTo>
                  <a:pt x="100" y="2"/>
                </a:lnTo>
                <a:lnTo>
                  <a:pt x="100" y="2"/>
                </a:lnTo>
                <a:lnTo>
                  <a:pt x="100" y="0"/>
                </a:lnTo>
                <a:close/>
              </a:path>
            </a:pathLst>
          </a:custGeom>
          <a:solidFill>
            <a:srgbClr val="e6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265"/>
          <p:cNvSpPr/>
          <p:nvPr/>
        </p:nvSpPr>
        <p:spPr>
          <a:xfrm>
            <a:off x="6940440" y="3114720"/>
            <a:ext cx="152640" cy="368280"/>
          </a:xfrm>
          <a:custGeom>
            <a:avLst/>
            <a:gdLst>
              <a:gd name="textAreaLeft" fmla="*/ 0 w 152640"/>
              <a:gd name="textAreaRight" fmla="*/ 153000 w 1526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96" h="232">
                <a:moveTo>
                  <a:pt x="96" y="0"/>
                </a:moveTo>
                <a:lnTo>
                  <a:pt x="94" y="0"/>
                </a:lnTo>
                <a:lnTo>
                  <a:pt x="83" y="2"/>
                </a:lnTo>
                <a:lnTo>
                  <a:pt x="73" y="6"/>
                </a:lnTo>
                <a:lnTo>
                  <a:pt x="61" y="11"/>
                </a:lnTo>
                <a:lnTo>
                  <a:pt x="52" y="17"/>
                </a:lnTo>
                <a:lnTo>
                  <a:pt x="44" y="25"/>
                </a:lnTo>
                <a:lnTo>
                  <a:pt x="35" y="33"/>
                </a:lnTo>
                <a:lnTo>
                  <a:pt x="27" y="40"/>
                </a:lnTo>
                <a:lnTo>
                  <a:pt x="21" y="50"/>
                </a:lnTo>
                <a:lnTo>
                  <a:pt x="15" y="59"/>
                </a:lnTo>
                <a:lnTo>
                  <a:pt x="10" y="69"/>
                </a:lnTo>
                <a:lnTo>
                  <a:pt x="6" y="81"/>
                </a:lnTo>
                <a:lnTo>
                  <a:pt x="2" y="92"/>
                </a:lnTo>
                <a:lnTo>
                  <a:pt x="0" y="104"/>
                </a:lnTo>
                <a:lnTo>
                  <a:pt x="0" y="115"/>
                </a:lnTo>
                <a:lnTo>
                  <a:pt x="0" y="129"/>
                </a:lnTo>
                <a:lnTo>
                  <a:pt x="2" y="140"/>
                </a:lnTo>
                <a:lnTo>
                  <a:pt x="6" y="152"/>
                </a:lnTo>
                <a:lnTo>
                  <a:pt x="10" y="161"/>
                </a:lnTo>
                <a:lnTo>
                  <a:pt x="15" y="173"/>
                </a:lnTo>
                <a:lnTo>
                  <a:pt x="21" y="182"/>
                </a:lnTo>
                <a:lnTo>
                  <a:pt x="27" y="190"/>
                </a:lnTo>
                <a:lnTo>
                  <a:pt x="35" y="200"/>
                </a:lnTo>
                <a:lnTo>
                  <a:pt x="44" y="207"/>
                </a:lnTo>
                <a:lnTo>
                  <a:pt x="52" y="213"/>
                </a:lnTo>
                <a:lnTo>
                  <a:pt x="61" y="219"/>
                </a:lnTo>
                <a:lnTo>
                  <a:pt x="73" y="224"/>
                </a:lnTo>
                <a:lnTo>
                  <a:pt x="83" y="228"/>
                </a:lnTo>
                <a:lnTo>
                  <a:pt x="94" y="232"/>
                </a:lnTo>
                <a:lnTo>
                  <a:pt x="94" y="232"/>
                </a:lnTo>
                <a:lnTo>
                  <a:pt x="94" y="230"/>
                </a:lnTo>
                <a:lnTo>
                  <a:pt x="94" y="228"/>
                </a:lnTo>
                <a:lnTo>
                  <a:pt x="94" y="228"/>
                </a:lnTo>
                <a:lnTo>
                  <a:pt x="94" y="226"/>
                </a:lnTo>
                <a:lnTo>
                  <a:pt x="94" y="224"/>
                </a:lnTo>
                <a:lnTo>
                  <a:pt x="94" y="224"/>
                </a:lnTo>
                <a:lnTo>
                  <a:pt x="94" y="223"/>
                </a:lnTo>
                <a:lnTo>
                  <a:pt x="94" y="221"/>
                </a:lnTo>
                <a:lnTo>
                  <a:pt x="86" y="219"/>
                </a:lnTo>
                <a:lnTo>
                  <a:pt x="77" y="215"/>
                </a:lnTo>
                <a:lnTo>
                  <a:pt x="67" y="211"/>
                </a:lnTo>
                <a:lnTo>
                  <a:pt x="58" y="205"/>
                </a:lnTo>
                <a:lnTo>
                  <a:pt x="50" y="200"/>
                </a:lnTo>
                <a:lnTo>
                  <a:pt x="42" y="192"/>
                </a:lnTo>
                <a:lnTo>
                  <a:pt x="35" y="184"/>
                </a:lnTo>
                <a:lnTo>
                  <a:pt x="29" y="177"/>
                </a:lnTo>
                <a:lnTo>
                  <a:pt x="23" y="167"/>
                </a:lnTo>
                <a:lnTo>
                  <a:pt x="19" y="157"/>
                </a:lnTo>
                <a:lnTo>
                  <a:pt x="15" y="148"/>
                </a:lnTo>
                <a:lnTo>
                  <a:pt x="12" y="138"/>
                </a:lnTo>
                <a:lnTo>
                  <a:pt x="10" y="127"/>
                </a:lnTo>
                <a:lnTo>
                  <a:pt x="10" y="115"/>
                </a:lnTo>
                <a:lnTo>
                  <a:pt x="10" y="104"/>
                </a:lnTo>
                <a:lnTo>
                  <a:pt x="12" y="94"/>
                </a:lnTo>
                <a:lnTo>
                  <a:pt x="15" y="82"/>
                </a:lnTo>
                <a:lnTo>
                  <a:pt x="19" y="73"/>
                </a:lnTo>
                <a:lnTo>
                  <a:pt x="23" y="63"/>
                </a:lnTo>
                <a:lnTo>
                  <a:pt x="29" y="56"/>
                </a:lnTo>
                <a:lnTo>
                  <a:pt x="35" y="46"/>
                </a:lnTo>
                <a:lnTo>
                  <a:pt x="42" y="38"/>
                </a:lnTo>
                <a:lnTo>
                  <a:pt x="50" y="31"/>
                </a:lnTo>
                <a:lnTo>
                  <a:pt x="58" y="25"/>
                </a:lnTo>
                <a:lnTo>
                  <a:pt x="67" y="19"/>
                </a:lnTo>
                <a:lnTo>
                  <a:pt x="77" y="15"/>
                </a:lnTo>
                <a:lnTo>
                  <a:pt x="86" y="11"/>
                </a:lnTo>
                <a:lnTo>
                  <a:pt x="96" y="10"/>
                </a:lnTo>
                <a:lnTo>
                  <a:pt x="96" y="8"/>
                </a:lnTo>
                <a:lnTo>
                  <a:pt x="96" y="8"/>
                </a:lnTo>
                <a:lnTo>
                  <a:pt x="96" y="6"/>
                </a:lnTo>
                <a:lnTo>
                  <a:pt x="96" y="4"/>
                </a:lnTo>
                <a:lnTo>
                  <a:pt x="96" y="4"/>
                </a:lnTo>
                <a:lnTo>
                  <a:pt x="96" y="2"/>
                </a:lnTo>
                <a:lnTo>
                  <a:pt x="96" y="0"/>
                </a:lnTo>
                <a:lnTo>
                  <a:pt x="96" y="0"/>
                </a:lnTo>
                <a:close/>
              </a:path>
            </a:pathLst>
          </a:custGeom>
          <a:solidFill>
            <a:srgbClr val="e7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266"/>
          <p:cNvSpPr/>
          <p:nvPr/>
        </p:nvSpPr>
        <p:spPr>
          <a:xfrm>
            <a:off x="6950160" y="3121200"/>
            <a:ext cx="142920" cy="352080"/>
          </a:xfrm>
          <a:custGeom>
            <a:avLst/>
            <a:gdLst>
              <a:gd name="textAreaLeft" fmla="*/ 0 w 142920"/>
              <a:gd name="textAreaRight" fmla="*/ 143280 w 14292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90" h="222">
                <a:moveTo>
                  <a:pt x="90" y="0"/>
                </a:moveTo>
                <a:lnTo>
                  <a:pt x="78" y="4"/>
                </a:lnTo>
                <a:lnTo>
                  <a:pt x="69" y="7"/>
                </a:lnTo>
                <a:lnTo>
                  <a:pt x="59" y="11"/>
                </a:lnTo>
                <a:lnTo>
                  <a:pt x="50" y="17"/>
                </a:lnTo>
                <a:lnTo>
                  <a:pt x="40" y="25"/>
                </a:lnTo>
                <a:lnTo>
                  <a:pt x="32" y="31"/>
                </a:lnTo>
                <a:lnTo>
                  <a:pt x="25" y="40"/>
                </a:lnTo>
                <a:lnTo>
                  <a:pt x="19" y="48"/>
                </a:lnTo>
                <a:lnTo>
                  <a:pt x="13" y="57"/>
                </a:lnTo>
                <a:lnTo>
                  <a:pt x="7" y="67"/>
                </a:lnTo>
                <a:lnTo>
                  <a:pt x="4" y="78"/>
                </a:lnTo>
                <a:lnTo>
                  <a:pt x="2" y="88"/>
                </a:lnTo>
                <a:lnTo>
                  <a:pt x="0" y="100"/>
                </a:lnTo>
                <a:lnTo>
                  <a:pt x="0" y="111"/>
                </a:lnTo>
                <a:lnTo>
                  <a:pt x="0" y="123"/>
                </a:lnTo>
                <a:lnTo>
                  <a:pt x="2" y="134"/>
                </a:lnTo>
                <a:lnTo>
                  <a:pt x="4" y="146"/>
                </a:lnTo>
                <a:lnTo>
                  <a:pt x="7" y="155"/>
                </a:lnTo>
                <a:lnTo>
                  <a:pt x="13" y="165"/>
                </a:lnTo>
                <a:lnTo>
                  <a:pt x="19" y="174"/>
                </a:lnTo>
                <a:lnTo>
                  <a:pt x="25" y="184"/>
                </a:lnTo>
                <a:lnTo>
                  <a:pt x="32" y="192"/>
                </a:lnTo>
                <a:lnTo>
                  <a:pt x="40" y="199"/>
                </a:lnTo>
                <a:lnTo>
                  <a:pt x="50" y="205"/>
                </a:lnTo>
                <a:lnTo>
                  <a:pt x="59" y="211"/>
                </a:lnTo>
                <a:lnTo>
                  <a:pt x="69" y="217"/>
                </a:lnTo>
                <a:lnTo>
                  <a:pt x="78" y="220"/>
                </a:lnTo>
                <a:lnTo>
                  <a:pt x="88" y="222"/>
                </a:lnTo>
                <a:lnTo>
                  <a:pt x="88" y="220"/>
                </a:lnTo>
                <a:lnTo>
                  <a:pt x="88" y="220"/>
                </a:lnTo>
                <a:lnTo>
                  <a:pt x="88" y="219"/>
                </a:lnTo>
                <a:lnTo>
                  <a:pt x="88" y="217"/>
                </a:lnTo>
                <a:lnTo>
                  <a:pt x="88" y="217"/>
                </a:lnTo>
                <a:lnTo>
                  <a:pt x="88" y="215"/>
                </a:lnTo>
                <a:lnTo>
                  <a:pt x="88" y="213"/>
                </a:lnTo>
                <a:lnTo>
                  <a:pt x="88" y="213"/>
                </a:lnTo>
                <a:lnTo>
                  <a:pt x="82" y="211"/>
                </a:lnTo>
                <a:lnTo>
                  <a:pt x="73" y="207"/>
                </a:lnTo>
                <a:lnTo>
                  <a:pt x="63" y="203"/>
                </a:lnTo>
                <a:lnTo>
                  <a:pt x="54" y="197"/>
                </a:lnTo>
                <a:lnTo>
                  <a:pt x="46" y="192"/>
                </a:lnTo>
                <a:lnTo>
                  <a:pt x="38" y="186"/>
                </a:lnTo>
                <a:lnTo>
                  <a:pt x="32" y="178"/>
                </a:lnTo>
                <a:lnTo>
                  <a:pt x="27" y="171"/>
                </a:lnTo>
                <a:lnTo>
                  <a:pt x="21" y="161"/>
                </a:lnTo>
                <a:lnTo>
                  <a:pt x="17" y="151"/>
                </a:lnTo>
                <a:lnTo>
                  <a:pt x="13" y="142"/>
                </a:lnTo>
                <a:lnTo>
                  <a:pt x="11" y="132"/>
                </a:lnTo>
                <a:lnTo>
                  <a:pt x="9" y="123"/>
                </a:lnTo>
                <a:lnTo>
                  <a:pt x="9" y="111"/>
                </a:lnTo>
                <a:lnTo>
                  <a:pt x="9" y="102"/>
                </a:lnTo>
                <a:lnTo>
                  <a:pt x="11" y="90"/>
                </a:lnTo>
                <a:lnTo>
                  <a:pt x="13" y="80"/>
                </a:lnTo>
                <a:lnTo>
                  <a:pt x="17" y="71"/>
                </a:lnTo>
                <a:lnTo>
                  <a:pt x="21" y="61"/>
                </a:lnTo>
                <a:lnTo>
                  <a:pt x="27" y="54"/>
                </a:lnTo>
                <a:lnTo>
                  <a:pt x="32" y="46"/>
                </a:lnTo>
                <a:lnTo>
                  <a:pt x="38" y="38"/>
                </a:lnTo>
                <a:lnTo>
                  <a:pt x="46" y="31"/>
                </a:lnTo>
                <a:lnTo>
                  <a:pt x="54" y="25"/>
                </a:lnTo>
                <a:lnTo>
                  <a:pt x="63" y="21"/>
                </a:lnTo>
                <a:lnTo>
                  <a:pt x="73" y="15"/>
                </a:lnTo>
                <a:lnTo>
                  <a:pt x="82" y="11"/>
                </a:lnTo>
                <a:lnTo>
                  <a:pt x="88" y="9"/>
                </a:lnTo>
                <a:lnTo>
                  <a:pt x="88" y="9"/>
                </a:lnTo>
                <a:lnTo>
                  <a:pt x="88" y="7"/>
                </a:lnTo>
                <a:lnTo>
                  <a:pt x="90" y="7"/>
                </a:lnTo>
                <a:lnTo>
                  <a:pt x="90" y="6"/>
                </a:lnTo>
                <a:lnTo>
                  <a:pt x="90" y="4"/>
                </a:lnTo>
                <a:lnTo>
                  <a:pt x="90" y="4"/>
                </a:lnTo>
                <a:lnTo>
                  <a:pt x="90" y="2"/>
                </a:lnTo>
                <a:lnTo>
                  <a:pt x="90" y="0"/>
                </a:lnTo>
                <a:close/>
              </a:path>
            </a:pathLst>
          </a:custGeom>
          <a:solidFill>
            <a:srgbClr val="e8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reeform 267"/>
          <p:cNvSpPr/>
          <p:nvPr/>
        </p:nvSpPr>
        <p:spPr>
          <a:xfrm>
            <a:off x="6956280" y="3130560"/>
            <a:ext cx="136800" cy="334800"/>
          </a:xfrm>
          <a:custGeom>
            <a:avLst/>
            <a:gdLst>
              <a:gd name="textAreaLeft" fmla="*/ 0 w 136800"/>
              <a:gd name="textAreaRight" fmla="*/ 137160 w 136800"/>
              <a:gd name="textAreaTop" fmla="*/ 0 h 334800"/>
              <a:gd name="textAreaBottom" fmla="*/ 334800 h 334800"/>
            </a:gdLst>
            <a:ahLst/>
            <a:rect l="textAreaLeft" t="textAreaTop" r="textAreaRight" b="textAreaBottom"/>
            <a:pathLst>
              <a:path w="86" h="211">
                <a:moveTo>
                  <a:pt x="86" y="0"/>
                </a:moveTo>
                <a:lnTo>
                  <a:pt x="76" y="1"/>
                </a:lnTo>
                <a:lnTo>
                  <a:pt x="67" y="5"/>
                </a:lnTo>
                <a:lnTo>
                  <a:pt x="57" y="9"/>
                </a:lnTo>
                <a:lnTo>
                  <a:pt x="48" y="15"/>
                </a:lnTo>
                <a:lnTo>
                  <a:pt x="40" y="21"/>
                </a:lnTo>
                <a:lnTo>
                  <a:pt x="32" y="28"/>
                </a:lnTo>
                <a:lnTo>
                  <a:pt x="25" y="36"/>
                </a:lnTo>
                <a:lnTo>
                  <a:pt x="19" y="46"/>
                </a:lnTo>
                <a:lnTo>
                  <a:pt x="13" y="53"/>
                </a:lnTo>
                <a:lnTo>
                  <a:pt x="9" y="63"/>
                </a:lnTo>
                <a:lnTo>
                  <a:pt x="5" y="72"/>
                </a:lnTo>
                <a:lnTo>
                  <a:pt x="2" y="84"/>
                </a:lnTo>
                <a:lnTo>
                  <a:pt x="0" y="94"/>
                </a:lnTo>
                <a:lnTo>
                  <a:pt x="0" y="105"/>
                </a:lnTo>
                <a:lnTo>
                  <a:pt x="0" y="117"/>
                </a:lnTo>
                <a:lnTo>
                  <a:pt x="2" y="128"/>
                </a:lnTo>
                <a:lnTo>
                  <a:pt x="5" y="138"/>
                </a:lnTo>
                <a:lnTo>
                  <a:pt x="9" y="147"/>
                </a:lnTo>
                <a:lnTo>
                  <a:pt x="13" y="157"/>
                </a:lnTo>
                <a:lnTo>
                  <a:pt x="19" y="167"/>
                </a:lnTo>
                <a:lnTo>
                  <a:pt x="25" y="174"/>
                </a:lnTo>
                <a:lnTo>
                  <a:pt x="32" y="182"/>
                </a:lnTo>
                <a:lnTo>
                  <a:pt x="40" y="190"/>
                </a:lnTo>
                <a:lnTo>
                  <a:pt x="48" y="195"/>
                </a:lnTo>
                <a:lnTo>
                  <a:pt x="57" y="201"/>
                </a:lnTo>
                <a:lnTo>
                  <a:pt x="67" y="205"/>
                </a:lnTo>
                <a:lnTo>
                  <a:pt x="76" y="209"/>
                </a:lnTo>
                <a:lnTo>
                  <a:pt x="84" y="211"/>
                </a:lnTo>
                <a:lnTo>
                  <a:pt x="84" y="211"/>
                </a:lnTo>
                <a:lnTo>
                  <a:pt x="84" y="209"/>
                </a:lnTo>
                <a:lnTo>
                  <a:pt x="84" y="207"/>
                </a:lnTo>
                <a:lnTo>
                  <a:pt x="84" y="207"/>
                </a:lnTo>
                <a:lnTo>
                  <a:pt x="84" y="205"/>
                </a:lnTo>
                <a:lnTo>
                  <a:pt x="84" y="205"/>
                </a:lnTo>
                <a:lnTo>
                  <a:pt x="84" y="203"/>
                </a:lnTo>
                <a:lnTo>
                  <a:pt x="84" y="201"/>
                </a:lnTo>
                <a:lnTo>
                  <a:pt x="78" y="201"/>
                </a:lnTo>
                <a:lnTo>
                  <a:pt x="71" y="197"/>
                </a:lnTo>
                <a:lnTo>
                  <a:pt x="53" y="188"/>
                </a:lnTo>
                <a:lnTo>
                  <a:pt x="38" y="176"/>
                </a:lnTo>
                <a:lnTo>
                  <a:pt x="26" y="161"/>
                </a:lnTo>
                <a:lnTo>
                  <a:pt x="17" y="143"/>
                </a:lnTo>
                <a:lnTo>
                  <a:pt x="13" y="136"/>
                </a:lnTo>
                <a:lnTo>
                  <a:pt x="11" y="126"/>
                </a:lnTo>
                <a:lnTo>
                  <a:pt x="9" y="117"/>
                </a:lnTo>
                <a:lnTo>
                  <a:pt x="9" y="105"/>
                </a:lnTo>
                <a:lnTo>
                  <a:pt x="9" y="96"/>
                </a:lnTo>
                <a:lnTo>
                  <a:pt x="11" y="86"/>
                </a:lnTo>
                <a:lnTo>
                  <a:pt x="13" y="76"/>
                </a:lnTo>
                <a:lnTo>
                  <a:pt x="17" y="67"/>
                </a:lnTo>
                <a:lnTo>
                  <a:pt x="26" y="49"/>
                </a:lnTo>
                <a:lnTo>
                  <a:pt x="38" y="36"/>
                </a:lnTo>
                <a:lnTo>
                  <a:pt x="53" y="23"/>
                </a:lnTo>
                <a:lnTo>
                  <a:pt x="71" y="15"/>
                </a:lnTo>
                <a:lnTo>
                  <a:pt x="78" y="11"/>
                </a:lnTo>
                <a:lnTo>
                  <a:pt x="84" y="9"/>
                </a:lnTo>
                <a:lnTo>
                  <a:pt x="84" y="7"/>
                </a:lnTo>
                <a:lnTo>
                  <a:pt x="84" y="7"/>
                </a:lnTo>
                <a:lnTo>
                  <a:pt x="84" y="5"/>
                </a:lnTo>
                <a:lnTo>
                  <a:pt x="84" y="3"/>
                </a:lnTo>
                <a:lnTo>
                  <a:pt x="84" y="3"/>
                </a:lnTo>
                <a:lnTo>
                  <a:pt x="84" y="1"/>
                </a:lnTo>
                <a:lnTo>
                  <a:pt x="86" y="1"/>
                </a:lnTo>
                <a:lnTo>
                  <a:pt x="86" y="0"/>
                </a:lnTo>
                <a:close/>
              </a:path>
            </a:pathLst>
          </a:custGeom>
          <a:solidFill>
            <a:srgbClr val="e9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Freeform 268"/>
          <p:cNvSpPr/>
          <p:nvPr/>
        </p:nvSpPr>
        <p:spPr>
          <a:xfrm>
            <a:off x="6964200" y="3135240"/>
            <a:ext cx="125640" cy="324000"/>
          </a:xfrm>
          <a:custGeom>
            <a:avLst/>
            <a:gdLst>
              <a:gd name="textAreaLeft" fmla="*/ 0 w 125640"/>
              <a:gd name="textAreaRight" fmla="*/ 125640 w 12564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79" h="204">
                <a:moveTo>
                  <a:pt x="79" y="0"/>
                </a:moveTo>
                <a:lnTo>
                  <a:pt x="73" y="2"/>
                </a:lnTo>
                <a:lnTo>
                  <a:pt x="64" y="6"/>
                </a:lnTo>
                <a:lnTo>
                  <a:pt x="54" y="12"/>
                </a:lnTo>
                <a:lnTo>
                  <a:pt x="45" y="16"/>
                </a:lnTo>
                <a:lnTo>
                  <a:pt x="37" y="22"/>
                </a:lnTo>
                <a:lnTo>
                  <a:pt x="29" y="29"/>
                </a:lnTo>
                <a:lnTo>
                  <a:pt x="23" y="37"/>
                </a:lnTo>
                <a:lnTo>
                  <a:pt x="18" y="45"/>
                </a:lnTo>
                <a:lnTo>
                  <a:pt x="12" y="52"/>
                </a:lnTo>
                <a:lnTo>
                  <a:pt x="8" y="62"/>
                </a:lnTo>
                <a:lnTo>
                  <a:pt x="4" y="71"/>
                </a:lnTo>
                <a:lnTo>
                  <a:pt x="2" y="81"/>
                </a:lnTo>
                <a:lnTo>
                  <a:pt x="0" y="93"/>
                </a:lnTo>
                <a:lnTo>
                  <a:pt x="0" y="102"/>
                </a:lnTo>
                <a:lnTo>
                  <a:pt x="0" y="114"/>
                </a:lnTo>
                <a:lnTo>
                  <a:pt x="2" y="123"/>
                </a:lnTo>
                <a:lnTo>
                  <a:pt x="4" y="133"/>
                </a:lnTo>
                <a:lnTo>
                  <a:pt x="8" y="142"/>
                </a:lnTo>
                <a:lnTo>
                  <a:pt x="12" y="152"/>
                </a:lnTo>
                <a:lnTo>
                  <a:pt x="18" y="162"/>
                </a:lnTo>
                <a:lnTo>
                  <a:pt x="23" y="169"/>
                </a:lnTo>
                <a:lnTo>
                  <a:pt x="29" y="177"/>
                </a:lnTo>
                <a:lnTo>
                  <a:pt x="37" y="183"/>
                </a:lnTo>
                <a:lnTo>
                  <a:pt x="45" y="188"/>
                </a:lnTo>
                <a:lnTo>
                  <a:pt x="54" y="194"/>
                </a:lnTo>
                <a:lnTo>
                  <a:pt x="64" y="198"/>
                </a:lnTo>
                <a:lnTo>
                  <a:pt x="73" y="202"/>
                </a:lnTo>
                <a:lnTo>
                  <a:pt x="79" y="204"/>
                </a:lnTo>
                <a:lnTo>
                  <a:pt x="79" y="202"/>
                </a:lnTo>
                <a:lnTo>
                  <a:pt x="79" y="202"/>
                </a:lnTo>
                <a:lnTo>
                  <a:pt x="79" y="200"/>
                </a:lnTo>
                <a:lnTo>
                  <a:pt x="79" y="198"/>
                </a:lnTo>
                <a:lnTo>
                  <a:pt x="79" y="198"/>
                </a:lnTo>
                <a:lnTo>
                  <a:pt x="79" y="196"/>
                </a:lnTo>
                <a:lnTo>
                  <a:pt x="79" y="194"/>
                </a:lnTo>
                <a:lnTo>
                  <a:pt x="79" y="192"/>
                </a:lnTo>
                <a:lnTo>
                  <a:pt x="68" y="190"/>
                </a:lnTo>
                <a:lnTo>
                  <a:pt x="50" y="181"/>
                </a:lnTo>
                <a:lnTo>
                  <a:pt x="37" y="169"/>
                </a:lnTo>
                <a:lnTo>
                  <a:pt x="25" y="156"/>
                </a:lnTo>
                <a:lnTo>
                  <a:pt x="16" y="139"/>
                </a:lnTo>
                <a:lnTo>
                  <a:pt x="10" y="121"/>
                </a:lnTo>
                <a:lnTo>
                  <a:pt x="8" y="102"/>
                </a:lnTo>
                <a:lnTo>
                  <a:pt x="10" y="83"/>
                </a:lnTo>
                <a:lnTo>
                  <a:pt x="16" y="66"/>
                </a:lnTo>
                <a:lnTo>
                  <a:pt x="25" y="50"/>
                </a:lnTo>
                <a:lnTo>
                  <a:pt x="37" y="35"/>
                </a:lnTo>
                <a:lnTo>
                  <a:pt x="50" y="23"/>
                </a:lnTo>
                <a:lnTo>
                  <a:pt x="68" y="16"/>
                </a:lnTo>
                <a:lnTo>
                  <a:pt x="79" y="12"/>
                </a:lnTo>
                <a:lnTo>
                  <a:pt x="79" y="10"/>
                </a:lnTo>
                <a:lnTo>
                  <a:pt x="79" y="8"/>
                </a:lnTo>
                <a:lnTo>
                  <a:pt x="79" y="8"/>
                </a:lnTo>
                <a:lnTo>
                  <a:pt x="79" y="6"/>
                </a:lnTo>
                <a:lnTo>
                  <a:pt x="79" y="4"/>
                </a:lnTo>
                <a:lnTo>
                  <a:pt x="79" y="4"/>
                </a:lnTo>
                <a:lnTo>
                  <a:pt x="79" y="2"/>
                </a:lnTo>
                <a:lnTo>
                  <a:pt x="79" y="0"/>
                </a:lnTo>
                <a:close/>
              </a:path>
            </a:pathLst>
          </a:custGeom>
          <a:solidFill>
            <a:srgbClr val="ea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reeform 269"/>
          <p:cNvSpPr/>
          <p:nvPr/>
        </p:nvSpPr>
        <p:spPr>
          <a:xfrm>
            <a:off x="6970680" y="3144960"/>
            <a:ext cx="119160" cy="304560"/>
          </a:xfrm>
          <a:custGeom>
            <a:avLst/>
            <a:gdLst>
              <a:gd name="textAreaLeft" fmla="*/ 0 w 119160"/>
              <a:gd name="textAreaRight" fmla="*/ 119520 w 1191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75" h="192">
                <a:moveTo>
                  <a:pt x="75" y="0"/>
                </a:moveTo>
                <a:lnTo>
                  <a:pt x="69" y="2"/>
                </a:lnTo>
                <a:lnTo>
                  <a:pt x="62" y="6"/>
                </a:lnTo>
                <a:lnTo>
                  <a:pt x="44" y="14"/>
                </a:lnTo>
                <a:lnTo>
                  <a:pt x="29" y="27"/>
                </a:lnTo>
                <a:lnTo>
                  <a:pt x="17" y="40"/>
                </a:lnTo>
                <a:lnTo>
                  <a:pt x="8" y="58"/>
                </a:lnTo>
                <a:lnTo>
                  <a:pt x="4" y="67"/>
                </a:lnTo>
                <a:lnTo>
                  <a:pt x="2" y="77"/>
                </a:lnTo>
                <a:lnTo>
                  <a:pt x="0" y="87"/>
                </a:lnTo>
                <a:lnTo>
                  <a:pt x="0" y="96"/>
                </a:lnTo>
                <a:lnTo>
                  <a:pt x="0" y="108"/>
                </a:lnTo>
                <a:lnTo>
                  <a:pt x="2" y="117"/>
                </a:lnTo>
                <a:lnTo>
                  <a:pt x="4" y="127"/>
                </a:lnTo>
                <a:lnTo>
                  <a:pt x="8" y="134"/>
                </a:lnTo>
                <a:lnTo>
                  <a:pt x="17" y="152"/>
                </a:lnTo>
                <a:lnTo>
                  <a:pt x="29" y="167"/>
                </a:lnTo>
                <a:lnTo>
                  <a:pt x="44" y="179"/>
                </a:lnTo>
                <a:lnTo>
                  <a:pt x="62" y="188"/>
                </a:lnTo>
                <a:lnTo>
                  <a:pt x="69" y="192"/>
                </a:lnTo>
                <a:lnTo>
                  <a:pt x="75" y="192"/>
                </a:lnTo>
                <a:lnTo>
                  <a:pt x="75" y="192"/>
                </a:lnTo>
                <a:lnTo>
                  <a:pt x="75" y="190"/>
                </a:lnTo>
                <a:lnTo>
                  <a:pt x="75" y="188"/>
                </a:lnTo>
                <a:lnTo>
                  <a:pt x="75" y="188"/>
                </a:lnTo>
                <a:lnTo>
                  <a:pt x="73" y="186"/>
                </a:lnTo>
                <a:lnTo>
                  <a:pt x="73" y="184"/>
                </a:lnTo>
                <a:lnTo>
                  <a:pt x="73" y="184"/>
                </a:lnTo>
                <a:lnTo>
                  <a:pt x="73" y="182"/>
                </a:lnTo>
                <a:lnTo>
                  <a:pt x="65" y="179"/>
                </a:lnTo>
                <a:lnTo>
                  <a:pt x="50" y="171"/>
                </a:lnTo>
                <a:lnTo>
                  <a:pt x="37" y="159"/>
                </a:lnTo>
                <a:lnTo>
                  <a:pt x="25" y="146"/>
                </a:lnTo>
                <a:lnTo>
                  <a:pt x="17" y="131"/>
                </a:lnTo>
                <a:lnTo>
                  <a:pt x="12" y="115"/>
                </a:lnTo>
                <a:lnTo>
                  <a:pt x="10" y="96"/>
                </a:lnTo>
                <a:lnTo>
                  <a:pt x="12" y="79"/>
                </a:lnTo>
                <a:lnTo>
                  <a:pt x="17" y="62"/>
                </a:lnTo>
                <a:lnTo>
                  <a:pt x="25" y="46"/>
                </a:lnTo>
                <a:lnTo>
                  <a:pt x="37" y="33"/>
                </a:lnTo>
                <a:lnTo>
                  <a:pt x="50" y="21"/>
                </a:lnTo>
                <a:lnTo>
                  <a:pt x="65" y="14"/>
                </a:lnTo>
                <a:lnTo>
                  <a:pt x="75" y="10"/>
                </a:lnTo>
                <a:lnTo>
                  <a:pt x="75" y="10"/>
                </a:lnTo>
                <a:lnTo>
                  <a:pt x="75" y="8"/>
                </a:lnTo>
                <a:lnTo>
                  <a:pt x="75" y="6"/>
                </a:lnTo>
                <a:lnTo>
                  <a:pt x="75" y="6"/>
                </a:lnTo>
                <a:lnTo>
                  <a:pt x="75" y="4"/>
                </a:lnTo>
                <a:lnTo>
                  <a:pt x="75" y="2"/>
                </a:lnTo>
                <a:lnTo>
                  <a:pt x="75" y="2"/>
                </a:lnTo>
                <a:lnTo>
                  <a:pt x="75" y="0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reeform 270"/>
          <p:cNvSpPr/>
          <p:nvPr/>
        </p:nvSpPr>
        <p:spPr>
          <a:xfrm>
            <a:off x="6977160" y="3154320"/>
            <a:ext cx="112680" cy="285840"/>
          </a:xfrm>
          <a:custGeom>
            <a:avLst/>
            <a:gdLst>
              <a:gd name="textAreaLeft" fmla="*/ 0 w 112680"/>
              <a:gd name="textAreaRight" fmla="*/ 113040 w 1126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71" h="180">
                <a:moveTo>
                  <a:pt x="71" y="0"/>
                </a:moveTo>
                <a:lnTo>
                  <a:pt x="60" y="4"/>
                </a:lnTo>
                <a:lnTo>
                  <a:pt x="42" y="11"/>
                </a:lnTo>
                <a:lnTo>
                  <a:pt x="29" y="23"/>
                </a:lnTo>
                <a:lnTo>
                  <a:pt x="17" y="38"/>
                </a:lnTo>
                <a:lnTo>
                  <a:pt x="8" y="54"/>
                </a:lnTo>
                <a:lnTo>
                  <a:pt x="2" y="71"/>
                </a:lnTo>
                <a:lnTo>
                  <a:pt x="0" y="90"/>
                </a:lnTo>
                <a:lnTo>
                  <a:pt x="2" y="109"/>
                </a:lnTo>
                <a:lnTo>
                  <a:pt x="8" y="127"/>
                </a:lnTo>
                <a:lnTo>
                  <a:pt x="17" y="144"/>
                </a:lnTo>
                <a:lnTo>
                  <a:pt x="29" y="157"/>
                </a:lnTo>
                <a:lnTo>
                  <a:pt x="42" y="169"/>
                </a:lnTo>
                <a:lnTo>
                  <a:pt x="60" y="178"/>
                </a:lnTo>
                <a:lnTo>
                  <a:pt x="71" y="180"/>
                </a:lnTo>
                <a:lnTo>
                  <a:pt x="69" y="180"/>
                </a:lnTo>
                <a:lnTo>
                  <a:pt x="69" y="178"/>
                </a:lnTo>
                <a:lnTo>
                  <a:pt x="69" y="178"/>
                </a:lnTo>
                <a:lnTo>
                  <a:pt x="69" y="176"/>
                </a:lnTo>
                <a:lnTo>
                  <a:pt x="69" y="175"/>
                </a:lnTo>
                <a:lnTo>
                  <a:pt x="69" y="175"/>
                </a:lnTo>
                <a:lnTo>
                  <a:pt x="69" y="173"/>
                </a:lnTo>
                <a:lnTo>
                  <a:pt x="69" y="171"/>
                </a:lnTo>
                <a:lnTo>
                  <a:pt x="61" y="169"/>
                </a:lnTo>
                <a:lnTo>
                  <a:pt x="48" y="161"/>
                </a:lnTo>
                <a:lnTo>
                  <a:pt x="35" y="152"/>
                </a:lnTo>
                <a:lnTo>
                  <a:pt x="25" y="138"/>
                </a:lnTo>
                <a:lnTo>
                  <a:pt x="17" y="123"/>
                </a:lnTo>
                <a:lnTo>
                  <a:pt x="12" y="107"/>
                </a:lnTo>
                <a:lnTo>
                  <a:pt x="10" y="90"/>
                </a:lnTo>
                <a:lnTo>
                  <a:pt x="12" y="73"/>
                </a:lnTo>
                <a:lnTo>
                  <a:pt x="17" y="57"/>
                </a:lnTo>
                <a:lnTo>
                  <a:pt x="25" y="42"/>
                </a:lnTo>
                <a:lnTo>
                  <a:pt x="35" y="31"/>
                </a:lnTo>
                <a:lnTo>
                  <a:pt x="48" y="19"/>
                </a:lnTo>
                <a:lnTo>
                  <a:pt x="61" y="11"/>
                </a:lnTo>
                <a:lnTo>
                  <a:pt x="71" y="10"/>
                </a:lnTo>
                <a:lnTo>
                  <a:pt x="71" y="8"/>
                </a:lnTo>
                <a:lnTo>
                  <a:pt x="71" y="8"/>
                </a:lnTo>
                <a:lnTo>
                  <a:pt x="71" y="6"/>
                </a:lnTo>
                <a:lnTo>
                  <a:pt x="71" y="4"/>
                </a:lnTo>
                <a:lnTo>
                  <a:pt x="71" y="4"/>
                </a:lnTo>
                <a:lnTo>
                  <a:pt x="71" y="2"/>
                </a:lnTo>
                <a:lnTo>
                  <a:pt x="71" y="0"/>
                </a:lnTo>
                <a:lnTo>
                  <a:pt x="71" y="0"/>
                </a:lnTo>
                <a:close/>
              </a:path>
            </a:pathLst>
          </a:custGeom>
          <a:solidFill>
            <a:srgbClr val="ec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reeform 271"/>
          <p:cNvSpPr/>
          <p:nvPr/>
        </p:nvSpPr>
        <p:spPr>
          <a:xfrm>
            <a:off x="6986520" y="3160800"/>
            <a:ext cx="103320" cy="272880"/>
          </a:xfrm>
          <a:custGeom>
            <a:avLst/>
            <a:gdLst>
              <a:gd name="textAreaLeft" fmla="*/ 0 w 103320"/>
              <a:gd name="textAreaRight" fmla="*/ 103680 w 1033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65" h="172">
                <a:moveTo>
                  <a:pt x="65" y="0"/>
                </a:moveTo>
                <a:lnTo>
                  <a:pt x="55" y="4"/>
                </a:lnTo>
                <a:lnTo>
                  <a:pt x="40" y="11"/>
                </a:lnTo>
                <a:lnTo>
                  <a:pt x="27" y="23"/>
                </a:lnTo>
                <a:lnTo>
                  <a:pt x="15" y="36"/>
                </a:lnTo>
                <a:lnTo>
                  <a:pt x="7" y="52"/>
                </a:lnTo>
                <a:lnTo>
                  <a:pt x="2" y="69"/>
                </a:lnTo>
                <a:lnTo>
                  <a:pt x="0" y="86"/>
                </a:lnTo>
                <a:lnTo>
                  <a:pt x="2" y="105"/>
                </a:lnTo>
                <a:lnTo>
                  <a:pt x="7" y="121"/>
                </a:lnTo>
                <a:lnTo>
                  <a:pt x="15" y="136"/>
                </a:lnTo>
                <a:lnTo>
                  <a:pt x="27" y="149"/>
                </a:lnTo>
                <a:lnTo>
                  <a:pt x="40" y="161"/>
                </a:lnTo>
                <a:lnTo>
                  <a:pt x="55" y="169"/>
                </a:lnTo>
                <a:lnTo>
                  <a:pt x="63" y="172"/>
                </a:lnTo>
                <a:lnTo>
                  <a:pt x="63" y="171"/>
                </a:lnTo>
                <a:lnTo>
                  <a:pt x="63" y="171"/>
                </a:lnTo>
                <a:lnTo>
                  <a:pt x="63" y="169"/>
                </a:lnTo>
                <a:lnTo>
                  <a:pt x="63" y="167"/>
                </a:lnTo>
                <a:lnTo>
                  <a:pt x="63" y="167"/>
                </a:lnTo>
                <a:lnTo>
                  <a:pt x="63" y="165"/>
                </a:lnTo>
                <a:lnTo>
                  <a:pt x="63" y="163"/>
                </a:lnTo>
                <a:lnTo>
                  <a:pt x="63" y="163"/>
                </a:lnTo>
                <a:lnTo>
                  <a:pt x="57" y="161"/>
                </a:lnTo>
                <a:lnTo>
                  <a:pt x="44" y="153"/>
                </a:lnTo>
                <a:lnTo>
                  <a:pt x="32" y="144"/>
                </a:lnTo>
                <a:lnTo>
                  <a:pt x="23" y="132"/>
                </a:lnTo>
                <a:lnTo>
                  <a:pt x="15" y="119"/>
                </a:lnTo>
                <a:lnTo>
                  <a:pt x="11" y="103"/>
                </a:lnTo>
                <a:lnTo>
                  <a:pt x="9" y="86"/>
                </a:lnTo>
                <a:lnTo>
                  <a:pt x="11" y="71"/>
                </a:lnTo>
                <a:lnTo>
                  <a:pt x="15" y="55"/>
                </a:lnTo>
                <a:lnTo>
                  <a:pt x="23" y="42"/>
                </a:lnTo>
                <a:lnTo>
                  <a:pt x="32" y="30"/>
                </a:lnTo>
                <a:lnTo>
                  <a:pt x="44" y="19"/>
                </a:lnTo>
                <a:lnTo>
                  <a:pt x="57" y="13"/>
                </a:lnTo>
                <a:lnTo>
                  <a:pt x="65" y="11"/>
                </a:lnTo>
                <a:lnTo>
                  <a:pt x="65" y="9"/>
                </a:lnTo>
                <a:lnTo>
                  <a:pt x="65" y="7"/>
                </a:lnTo>
                <a:lnTo>
                  <a:pt x="65" y="7"/>
                </a:lnTo>
                <a:lnTo>
                  <a:pt x="65" y="6"/>
                </a:lnTo>
                <a:lnTo>
                  <a:pt x="65" y="4"/>
                </a:lnTo>
                <a:lnTo>
                  <a:pt x="65" y="4"/>
                </a:lnTo>
                <a:lnTo>
                  <a:pt x="65" y="2"/>
                </a:lnTo>
                <a:lnTo>
                  <a:pt x="65" y="0"/>
                </a:lnTo>
                <a:close/>
              </a:path>
            </a:pathLst>
          </a:custGeom>
          <a:solidFill>
            <a:srgbClr val="ed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Freeform 272"/>
          <p:cNvSpPr/>
          <p:nvPr/>
        </p:nvSpPr>
        <p:spPr>
          <a:xfrm>
            <a:off x="6993000" y="3170160"/>
            <a:ext cx="96840" cy="255600"/>
          </a:xfrm>
          <a:custGeom>
            <a:avLst/>
            <a:gdLst>
              <a:gd name="textAreaLeft" fmla="*/ 0 w 96840"/>
              <a:gd name="textAreaRight" fmla="*/ 97200 w 9684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61" h="161">
                <a:moveTo>
                  <a:pt x="61" y="0"/>
                </a:moveTo>
                <a:lnTo>
                  <a:pt x="51" y="1"/>
                </a:lnTo>
                <a:lnTo>
                  <a:pt x="38" y="9"/>
                </a:lnTo>
                <a:lnTo>
                  <a:pt x="25" y="21"/>
                </a:lnTo>
                <a:lnTo>
                  <a:pt x="15" y="32"/>
                </a:lnTo>
                <a:lnTo>
                  <a:pt x="7" y="47"/>
                </a:lnTo>
                <a:lnTo>
                  <a:pt x="2" y="63"/>
                </a:lnTo>
                <a:lnTo>
                  <a:pt x="0" y="80"/>
                </a:lnTo>
                <a:lnTo>
                  <a:pt x="2" y="97"/>
                </a:lnTo>
                <a:lnTo>
                  <a:pt x="7" y="113"/>
                </a:lnTo>
                <a:lnTo>
                  <a:pt x="15" y="128"/>
                </a:lnTo>
                <a:lnTo>
                  <a:pt x="25" y="142"/>
                </a:lnTo>
                <a:lnTo>
                  <a:pt x="38" y="151"/>
                </a:lnTo>
                <a:lnTo>
                  <a:pt x="51" y="159"/>
                </a:lnTo>
                <a:lnTo>
                  <a:pt x="59" y="161"/>
                </a:lnTo>
                <a:lnTo>
                  <a:pt x="59" y="161"/>
                </a:lnTo>
                <a:lnTo>
                  <a:pt x="59" y="159"/>
                </a:lnTo>
                <a:lnTo>
                  <a:pt x="59" y="157"/>
                </a:lnTo>
                <a:lnTo>
                  <a:pt x="59" y="157"/>
                </a:lnTo>
                <a:lnTo>
                  <a:pt x="59" y="155"/>
                </a:lnTo>
                <a:lnTo>
                  <a:pt x="59" y="153"/>
                </a:lnTo>
                <a:lnTo>
                  <a:pt x="59" y="153"/>
                </a:lnTo>
                <a:lnTo>
                  <a:pt x="59" y="151"/>
                </a:lnTo>
                <a:lnTo>
                  <a:pt x="55" y="151"/>
                </a:lnTo>
                <a:lnTo>
                  <a:pt x="44" y="143"/>
                </a:lnTo>
                <a:lnTo>
                  <a:pt x="32" y="134"/>
                </a:lnTo>
                <a:lnTo>
                  <a:pt x="23" y="122"/>
                </a:lnTo>
                <a:lnTo>
                  <a:pt x="15" y="111"/>
                </a:lnTo>
                <a:lnTo>
                  <a:pt x="11" y="95"/>
                </a:lnTo>
                <a:lnTo>
                  <a:pt x="9" y="80"/>
                </a:lnTo>
                <a:lnTo>
                  <a:pt x="11" y="65"/>
                </a:lnTo>
                <a:lnTo>
                  <a:pt x="15" y="51"/>
                </a:lnTo>
                <a:lnTo>
                  <a:pt x="23" y="38"/>
                </a:lnTo>
                <a:lnTo>
                  <a:pt x="32" y="26"/>
                </a:lnTo>
                <a:lnTo>
                  <a:pt x="44" y="19"/>
                </a:lnTo>
                <a:lnTo>
                  <a:pt x="55" y="11"/>
                </a:lnTo>
                <a:lnTo>
                  <a:pt x="59" y="9"/>
                </a:lnTo>
                <a:lnTo>
                  <a:pt x="59" y="9"/>
                </a:lnTo>
                <a:lnTo>
                  <a:pt x="59" y="7"/>
                </a:lnTo>
                <a:lnTo>
                  <a:pt x="61" y="5"/>
                </a:lnTo>
                <a:lnTo>
                  <a:pt x="61" y="5"/>
                </a:lnTo>
                <a:lnTo>
                  <a:pt x="61" y="3"/>
                </a:lnTo>
                <a:lnTo>
                  <a:pt x="61" y="1"/>
                </a:lnTo>
                <a:lnTo>
                  <a:pt x="61" y="1"/>
                </a:lnTo>
                <a:lnTo>
                  <a:pt x="61" y="0"/>
                </a:lnTo>
                <a:close/>
              </a:path>
            </a:pathLst>
          </a:custGeom>
          <a:solidFill>
            <a:srgbClr val="ee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273"/>
          <p:cNvSpPr/>
          <p:nvPr/>
        </p:nvSpPr>
        <p:spPr>
          <a:xfrm>
            <a:off x="7000920" y="3178080"/>
            <a:ext cx="88920" cy="241560"/>
          </a:xfrm>
          <a:custGeom>
            <a:avLst/>
            <a:gdLst>
              <a:gd name="textAreaLeft" fmla="*/ 0 w 88920"/>
              <a:gd name="textAreaRight" fmla="*/ 89280 w 8892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56" h="152">
                <a:moveTo>
                  <a:pt x="56" y="0"/>
                </a:moveTo>
                <a:lnTo>
                  <a:pt x="48" y="2"/>
                </a:lnTo>
                <a:lnTo>
                  <a:pt x="35" y="8"/>
                </a:lnTo>
                <a:lnTo>
                  <a:pt x="23" y="19"/>
                </a:lnTo>
                <a:lnTo>
                  <a:pt x="14" y="31"/>
                </a:lnTo>
                <a:lnTo>
                  <a:pt x="6" y="44"/>
                </a:lnTo>
                <a:lnTo>
                  <a:pt x="2" y="60"/>
                </a:lnTo>
                <a:lnTo>
                  <a:pt x="0" y="75"/>
                </a:lnTo>
                <a:lnTo>
                  <a:pt x="2" y="92"/>
                </a:lnTo>
                <a:lnTo>
                  <a:pt x="6" y="108"/>
                </a:lnTo>
                <a:lnTo>
                  <a:pt x="14" y="121"/>
                </a:lnTo>
                <a:lnTo>
                  <a:pt x="23" y="133"/>
                </a:lnTo>
                <a:lnTo>
                  <a:pt x="35" y="142"/>
                </a:lnTo>
                <a:lnTo>
                  <a:pt x="48" y="150"/>
                </a:lnTo>
                <a:lnTo>
                  <a:pt x="54" y="152"/>
                </a:lnTo>
                <a:lnTo>
                  <a:pt x="54" y="150"/>
                </a:lnTo>
                <a:lnTo>
                  <a:pt x="54" y="148"/>
                </a:lnTo>
                <a:lnTo>
                  <a:pt x="54" y="148"/>
                </a:lnTo>
                <a:lnTo>
                  <a:pt x="54" y="146"/>
                </a:lnTo>
                <a:lnTo>
                  <a:pt x="54" y="144"/>
                </a:lnTo>
                <a:lnTo>
                  <a:pt x="54" y="144"/>
                </a:lnTo>
                <a:lnTo>
                  <a:pt x="54" y="142"/>
                </a:lnTo>
                <a:lnTo>
                  <a:pt x="54" y="140"/>
                </a:lnTo>
                <a:lnTo>
                  <a:pt x="52" y="140"/>
                </a:lnTo>
                <a:lnTo>
                  <a:pt x="41" y="135"/>
                </a:lnTo>
                <a:lnTo>
                  <a:pt x="31" y="125"/>
                </a:lnTo>
                <a:lnTo>
                  <a:pt x="22" y="115"/>
                </a:lnTo>
                <a:lnTo>
                  <a:pt x="16" y="104"/>
                </a:lnTo>
                <a:lnTo>
                  <a:pt x="12" y="90"/>
                </a:lnTo>
                <a:lnTo>
                  <a:pt x="10" y="75"/>
                </a:lnTo>
                <a:lnTo>
                  <a:pt x="12" y="62"/>
                </a:lnTo>
                <a:lnTo>
                  <a:pt x="16" y="48"/>
                </a:lnTo>
                <a:lnTo>
                  <a:pt x="22" y="37"/>
                </a:lnTo>
                <a:lnTo>
                  <a:pt x="31" y="25"/>
                </a:lnTo>
                <a:lnTo>
                  <a:pt x="41" y="18"/>
                </a:lnTo>
                <a:lnTo>
                  <a:pt x="52" y="10"/>
                </a:lnTo>
                <a:lnTo>
                  <a:pt x="54" y="10"/>
                </a:lnTo>
                <a:lnTo>
                  <a:pt x="54" y="8"/>
                </a:lnTo>
                <a:lnTo>
                  <a:pt x="54" y="8"/>
                </a:lnTo>
                <a:lnTo>
                  <a:pt x="54" y="6"/>
                </a:lnTo>
                <a:lnTo>
                  <a:pt x="54" y="4"/>
                </a:lnTo>
                <a:lnTo>
                  <a:pt x="54" y="4"/>
                </a:lnTo>
                <a:lnTo>
                  <a:pt x="54" y="2"/>
                </a:lnTo>
                <a:lnTo>
                  <a:pt x="56" y="0"/>
                </a:lnTo>
                <a:lnTo>
                  <a:pt x="56" y="0"/>
                </a:lnTo>
                <a:close/>
              </a:path>
            </a:pathLst>
          </a:custGeom>
          <a:solidFill>
            <a:srgbClr val="ef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274"/>
          <p:cNvSpPr/>
          <p:nvPr/>
        </p:nvSpPr>
        <p:spPr>
          <a:xfrm>
            <a:off x="7007400" y="3184560"/>
            <a:ext cx="79200" cy="225360"/>
          </a:xfrm>
          <a:custGeom>
            <a:avLst/>
            <a:gdLst>
              <a:gd name="textAreaLeft" fmla="*/ 0 w 79200"/>
              <a:gd name="textAreaRight" fmla="*/ 79560 w 79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50" h="142">
                <a:moveTo>
                  <a:pt x="50" y="0"/>
                </a:moveTo>
                <a:lnTo>
                  <a:pt x="46" y="2"/>
                </a:lnTo>
                <a:lnTo>
                  <a:pt x="35" y="10"/>
                </a:lnTo>
                <a:lnTo>
                  <a:pt x="23" y="17"/>
                </a:lnTo>
                <a:lnTo>
                  <a:pt x="14" y="29"/>
                </a:lnTo>
                <a:lnTo>
                  <a:pt x="6" y="42"/>
                </a:lnTo>
                <a:lnTo>
                  <a:pt x="2" y="56"/>
                </a:lnTo>
                <a:lnTo>
                  <a:pt x="0" y="71"/>
                </a:lnTo>
                <a:lnTo>
                  <a:pt x="2" y="86"/>
                </a:lnTo>
                <a:lnTo>
                  <a:pt x="6" y="102"/>
                </a:lnTo>
                <a:lnTo>
                  <a:pt x="14" y="113"/>
                </a:lnTo>
                <a:lnTo>
                  <a:pt x="23" y="125"/>
                </a:lnTo>
                <a:lnTo>
                  <a:pt x="35" y="134"/>
                </a:lnTo>
                <a:lnTo>
                  <a:pt x="46" y="142"/>
                </a:lnTo>
                <a:lnTo>
                  <a:pt x="50" y="142"/>
                </a:lnTo>
                <a:lnTo>
                  <a:pt x="50" y="140"/>
                </a:lnTo>
                <a:lnTo>
                  <a:pt x="50" y="140"/>
                </a:lnTo>
                <a:lnTo>
                  <a:pt x="50" y="138"/>
                </a:lnTo>
                <a:lnTo>
                  <a:pt x="50" y="136"/>
                </a:lnTo>
                <a:lnTo>
                  <a:pt x="50" y="136"/>
                </a:lnTo>
                <a:lnTo>
                  <a:pt x="50" y="134"/>
                </a:lnTo>
                <a:lnTo>
                  <a:pt x="50" y="133"/>
                </a:lnTo>
                <a:lnTo>
                  <a:pt x="50" y="133"/>
                </a:lnTo>
                <a:lnTo>
                  <a:pt x="39" y="127"/>
                </a:lnTo>
                <a:lnTo>
                  <a:pt x="29" y="119"/>
                </a:lnTo>
                <a:lnTo>
                  <a:pt x="21" y="109"/>
                </a:lnTo>
                <a:lnTo>
                  <a:pt x="16" y="98"/>
                </a:lnTo>
                <a:lnTo>
                  <a:pt x="12" y="85"/>
                </a:lnTo>
                <a:lnTo>
                  <a:pt x="10" y="71"/>
                </a:lnTo>
                <a:lnTo>
                  <a:pt x="12" y="58"/>
                </a:lnTo>
                <a:lnTo>
                  <a:pt x="16" y="46"/>
                </a:lnTo>
                <a:lnTo>
                  <a:pt x="21" y="35"/>
                </a:lnTo>
                <a:lnTo>
                  <a:pt x="29" y="25"/>
                </a:lnTo>
                <a:lnTo>
                  <a:pt x="39" y="17"/>
                </a:lnTo>
                <a:lnTo>
                  <a:pt x="50" y="10"/>
                </a:lnTo>
                <a:lnTo>
                  <a:pt x="50" y="10"/>
                </a:lnTo>
                <a:lnTo>
                  <a:pt x="50" y="8"/>
                </a:lnTo>
                <a:lnTo>
                  <a:pt x="50" y="8"/>
                </a:lnTo>
                <a:lnTo>
                  <a:pt x="50" y="6"/>
                </a:lnTo>
                <a:lnTo>
                  <a:pt x="50" y="4"/>
                </a:lnTo>
                <a:lnTo>
                  <a:pt x="50" y="4"/>
                </a:lnTo>
                <a:lnTo>
                  <a:pt x="50" y="2"/>
                </a:lnTo>
                <a:lnTo>
                  <a:pt x="50" y="0"/>
                </a:lnTo>
                <a:close/>
              </a:path>
            </a:pathLst>
          </a:custGeom>
          <a:solidFill>
            <a:srgbClr val="f0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Freeform 275"/>
          <p:cNvSpPr/>
          <p:nvPr/>
        </p:nvSpPr>
        <p:spPr>
          <a:xfrm>
            <a:off x="7016760" y="3193920"/>
            <a:ext cx="69840" cy="206640"/>
          </a:xfrm>
          <a:custGeom>
            <a:avLst/>
            <a:gdLst>
              <a:gd name="textAreaLeft" fmla="*/ 0 w 69840"/>
              <a:gd name="textAreaRight" fmla="*/ 70200 w 698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44" h="130">
                <a:moveTo>
                  <a:pt x="44" y="0"/>
                </a:moveTo>
                <a:lnTo>
                  <a:pt x="42" y="0"/>
                </a:lnTo>
                <a:lnTo>
                  <a:pt x="31" y="8"/>
                </a:lnTo>
                <a:lnTo>
                  <a:pt x="21" y="15"/>
                </a:lnTo>
                <a:lnTo>
                  <a:pt x="12" y="27"/>
                </a:lnTo>
                <a:lnTo>
                  <a:pt x="6" y="38"/>
                </a:lnTo>
                <a:lnTo>
                  <a:pt x="2" y="52"/>
                </a:lnTo>
                <a:lnTo>
                  <a:pt x="0" y="65"/>
                </a:lnTo>
                <a:lnTo>
                  <a:pt x="2" y="80"/>
                </a:lnTo>
                <a:lnTo>
                  <a:pt x="6" y="94"/>
                </a:lnTo>
                <a:lnTo>
                  <a:pt x="12" y="105"/>
                </a:lnTo>
                <a:lnTo>
                  <a:pt x="21" y="115"/>
                </a:lnTo>
                <a:lnTo>
                  <a:pt x="31" y="125"/>
                </a:lnTo>
                <a:lnTo>
                  <a:pt x="42" y="130"/>
                </a:lnTo>
                <a:lnTo>
                  <a:pt x="44" y="130"/>
                </a:lnTo>
                <a:lnTo>
                  <a:pt x="44" y="130"/>
                </a:lnTo>
                <a:lnTo>
                  <a:pt x="44" y="128"/>
                </a:lnTo>
                <a:lnTo>
                  <a:pt x="44" y="127"/>
                </a:lnTo>
                <a:lnTo>
                  <a:pt x="44" y="127"/>
                </a:lnTo>
                <a:lnTo>
                  <a:pt x="44" y="125"/>
                </a:lnTo>
                <a:lnTo>
                  <a:pt x="44" y="123"/>
                </a:lnTo>
                <a:lnTo>
                  <a:pt x="44" y="123"/>
                </a:lnTo>
                <a:lnTo>
                  <a:pt x="44" y="121"/>
                </a:lnTo>
                <a:lnTo>
                  <a:pt x="36" y="117"/>
                </a:lnTo>
                <a:lnTo>
                  <a:pt x="27" y="109"/>
                </a:lnTo>
                <a:lnTo>
                  <a:pt x="19" y="100"/>
                </a:lnTo>
                <a:lnTo>
                  <a:pt x="13" y="90"/>
                </a:lnTo>
                <a:lnTo>
                  <a:pt x="10" y="79"/>
                </a:lnTo>
                <a:lnTo>
                  <a:pt x="10" y="65"/>
                </a:lnTo>
                <a:lnTo>
                  <a:pt x="10" y="54"/>
                </a:lnTo>
                <a:lnTo>
                  <a:pt x="13" y="42"/>
                </a:lnTo>
                <a:lnTo>
                  <a:pt x="19" y="31"/>
                </a:lnTo>
                <a:lnTo>
                  <a:pt x="27" y="23"/>
                </a:lnTo>
                <a:lnTo>
                  <a:pt x="36" y="15"/>
                </a:lnTo>
                <a:lnTo>
                  <a:pt x="44" y="9"/>
                </a:lnTo>
                <a:lnTo>
                  <a:pt x="44" y="9"/>
                </a:lnTo>
                <a:lnTo>
                  <a:pt x="44" y="8"/>
                </a:lnTo>
                <a:lnTo>
                  <a:pt x="44" y="6"/>
                </a:lnTo>
                <a:lnTo>
                  <a:pt x="44" y="6"/>
                </a:lnTo>
                <a:lnTo>
                  <a:pt x="44" y="4"/>
                </a:lnTo>
                <a:lnTo>
                  <a:pt x="44" y="2"/>
                </a:lnTo>
                <a:lnTo>
                  <a:pt x="44" y="2"/>
                </a:lnTo>
                <a:lnTo>
                  <a:pt x="44" y="0"/>
                </a:lnTo>
                <a:close/>
              </a:path>
            </a:pathLst>
          </a:custGeom>
          <a:solidFill>
            <a:srgbClr val="f1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276"/>
          <p:cNvSpPr/>
          <p:nvPr/>
        </p:nvSpPr>
        <p:spPr>
          <a:xfrm>
            <a:off x="7023240" y="3200400"/>
            <a:ext cx="63360" cy="195120"/>
          </a:xfrm>
          <a:custGeom>
            <a:avLst/>
            <a:gdLst>
              <a:gd name="textAreaLeft" fmla="*/ 0 w 63360"/>
              <a:gd name="textAreaRight" fmla="*/ 63720 w 633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40" h="123">
                <a:moveTo>
                  <a:pt x="40" y="0"/>
                </a:moveTo>
                <a:lnTo>
                  <a:pt x="29" y="7"/>
                </a:lnTo>
                <a:lnTo>
                  <a:pt x="19" y="15"/>
                </a:lnTo>
                <a:lnTo>
                  <a:pt x="11" y="25"/>
                </a:lnTo>
                <a:lnTo>
                  <a:pt x="6" y="36"/>
                </a:lnTo>
                <a:lnTo>
                  <a:pt x="2" y="48"/>
                </a:lnTo>
                <a:lnTo>
                  <a:pt x="0" y="61"/>
                </a:lnTo>
                <a:lnTo>
                  <a:pt x="2" y="75"/>
                </a:lnTo>
                <a:lnTo>
                  <a:pt x="6" y="88"/>
                </a:lnTo>
                <a:lnTo>
                  <a:pt x="11" y="99"/>
                </a:lnTo>
                <a:lnTo>
                  <a:pt x="19" y="109"/>
                </a:lnTo>
                <a:lnTo>
                  <a:pt x="29" y="117"/>
                </a:lnTo>
                <a:lnTo>
                  <a:pt x="40" y="123"/>
                </a:lnTo>
                <a:lnTo>
                  <a:pt x="40" y="121"/>
                </a:lnTo>
                <a:lnTo>
                  <a:pt x="40" y="119"/>
                </a:lnTo>
                <a:lnTo>
                  <a:pt x="40" y="119"/>
                </a:lnTo>
                <a:lnTo>
                  <a:pt x="40" y="117"/>
                </a:lnTo>
                <a:lnTo>
                  <a:pt x="40" y="115"/>
                </a:lnTo>
                <a:lnTo>
                  <a:pt x="40" y="113"/>
                </a:lnTo>
                <a:lnTo>
                  <a:pt x="40" y="113"/>
                </a:lnTo>
                <a:lnTo>
                  <a:pt x="40" y="111"/>
                </a:lnTo>
                <a:lnTo>
                  <a:pt x="34" y="109"/>
                </a:lnTo>
                <a:lnTo>
                  <a:pt x="27" y="101"/>
                </a:lnTo>
                <a:lnTo>
                  <a:pt x="19" y="94"/>
                </a:lnTo>
                <a:lnTo>
                  <a:pt x="13" y="84"/>
                </a:lnTo>
                <a:lnTo>
                  <a:pt x="11" y="73"/>
                </a:lnTo>
                <a:lnTo>
                  <a:pt x="9" y="61"/>
                </a:lnTo>
                <a:lnTo>
                  <a:pt x="11" y="50"/>
                </a:lnTo>
                <a:lnTo>
                  <a:pt x="13" y="40"/>
                </a:lnTo>
                <a:lnTo>
                  <a:pt x="19" y="30"/>
                </a:lnTo>
                <a:lnTo>
                  <a:pt x="27" y="21"/>
                </a:lnTo>
                <a:lnTo>
                  <a:pt x="34" y="15"/>
                </a:lnTo>
                <a:lnTo>
                  <a:pt x="40" y="11"/>
                </a:lnTo>
                <a:lnTo>
                  <a:pt x="40" y="11"/>
                </a:lnTo>
                <a:lnTo>
                  <a:pt x="40" y="9"/>
                </a:lnTo>
                <a:lnTo>
                  <a:pt x="40" y="7"/>
                </a:lnTo>
                <a:lnTo>
                  <a:pt x="40" y="5"/>
                </a:lnTo>
                <a:lnTo>
                  <a:pt x="40" y="5"/>
                </a:lnTo>
                <a:lnTo>
                  <a:pt x="40" y="4"/>
                </a:lnTo>
                <a:lnTo>
                  <a:pt x="40" y="2"/>
                </a:lnTo>
                <a:lnTo>
                  <a:pt x="40" y="0"/>
                </a:lnTo>
                <a:close/>
              </a:path>
            </a:pathLst>
          </a:custGeom>
          <a:solidFill>
            <a:srgbClr val="f2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277"/>
          <p:cNvSpPr/>
          <p:nvPr/>
        </p:nvSpPr>
        <p:spPr>
          <a:xfrm>
            <a:off x="7032600" y="3208320"/>
            <a:ext cx="54000" cy="177840"/>
          </a:xfrm>
          <a:custGeom>
            <a:avLst/>
            <a:gdLst>
              <a:gd name="textAreaLeft" fmla="*/ 0 w 54000"/>
              <a:gd name="textAreaRight" fmla="*/ 54360 w 5400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34" h="112">
                <a:moveTo>
                  <a:pt x="34" y="0"/>
                </a:moveTo>
                <a:lnTo>
                  <a:pt x="26" y="6"/>
                </a:lnTo>
                <a:lnTo>
                  <a:pt x="17" y="14"/>
                </a:lnTo>
                <a:lnTo>
                  <a:pt x="9" y="22"/>
                </a:lnTo>
                <a:lnTo>
                  <a:pt x="3" y="33"/>
                </a:lnTo>
                <a:lnTo>
                  <a:pt x="0" y="45"/>
                </a:lnTo>
                <a:lnTo>
                  <a:pt x="0" y="56"/>
                </a:lnTo>
                <a:lnTo>
                  <a:pt x="0" y="70"/>
                </a:lnTo>
                <a:lnTo>
                  <a:pt x="3" y="81"/>
                </a:lnTo>
                <a:lnTo>
                  <a:pt x="9" y="91"/>
                </a:lnTo>
                <a:lnTo>
                  <a:pt x="17" y="100"/>
                </a:lnTo>
                <a:lnTo>
                  <a:pt x="26" y="108"/>
                </a:lnTo>
                <a:lnTo>
                  <a:pt x="34" y="112"/>
                </a:lnTo>
                <a:lnTo>
                  <a:pt x="34" y="110"/>
                </a:lnTo>
                <a:lnTo>
                  <a:pt x="34" y="108"/>
                </a:lnTo>
                <a:lnTo>
                  <a:pt x="34" y="108"/>
                </a:lnTo>
                <a:lnTo>
                  <a:pt x="34" y="106"/>
                </a:lnTo>
                <a:lnTo>
                  <a:pt x="34" y="104"/>
                </a:lnTo>
                <a:lnTo>
                  <a:pt x="34" y="104"/>
                </a:lnTo>
                <a:lnTo>
                  <a:pt x="34" y="102"/>
                </a:lnTo>
                <a:lnTo>
                  <a:pt x="34" y="100"/>
                </a:lnTo>
                <a:lnTo>
                  <a:pt x="32" y="100"/>
                </a:lnTo>
                <a:lnTo>
                  <a:pt x="25" y="93"/>
                </a:lnTo>
                <a:lnTo>
                  <a:pt x="17" y="85"/>
                </a:lnTo>
                <a:lnTo>
                  <a:pt x="13" y="77"/>
                </a:lnTo>
                <a:lnTo>
                  <a:pt x="9" y="68"/>
                </a:lnTo>
                <a:lnTo>
                  <a:pt x="9" y="56"/>
                </a:lnTo>
                <a:lnTo>
                  <a:pt x="9" y="47"/>
                </a:lnTo>
                <a:lnTo>
                  <a:pt x="13" y="37"/>
                </a:lnTo>
                <a:lnTo>
                  <a:pt x="17" y="27"/>
                </a:lnTo>
                <a:lnTo>
                  <a:pt x="25" y="20"/>
                </a:lnTo>
                <a:lnTo>
                  <a:pt x="32" y="14"/>
                </a:lnTo>
                <a:lnTo>
                  <a:pt x="34" y="12"/>
                </a:lnTo>
                <a:lnTo>
                  <a:pt x="34" y="10"/>
                </a:lnTo>
                <a:lnTo>
                  <a:pt x="34" y="10"/>
                </a:lnTo>
                <a:lnTo>
                  <a:pt x="34" y="8"/>
                </a:lnTo>
                <a:lnTo>
                  <a:pt x="34" y="6"/>
                </a:lnTo>
                <a:lnTo>
                  <a:pt x="34" y="6"/>
                </a:lnTo>
                <a:lnTo>
                  <a:pt x="34" y="4"/>
                </a:lnTo>
                <a:lnTo>
                  <a:pt x="34" y="2"/>
                </a:lnTo>
                <a:lnTo>
                  <a:pt x="34" y="0"/>
                </a:lnTo>
                <a:close/>
              </a:path>
            </a:pathLst>
          </a:custGeom>
          <a:solidFill>
            <a:srgbClr val="f3f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reeform 278"/>
          <p:cNvSpPr/>
          <p:nvPr/>
        </p:nvSpPr>
        <p:spPr>
          <a:xfrm>
            <a:off x="7037280" y="3218040"/>
            <a:ext cx="49320" cy="158400"/>
          </a:xfrm>
          <a:custGeom>
            <a:avLst/>
            <a:gdLst>
              <a:gd name="textAreaLeft" fmla="*/ 0 w 49320"/>
              <a:gd name="textAreaRight" fmla="*/ 49680 w 49320"/>
              <a:gd name="textAreaTop" fmla="*/ 0 h 158400"/>
              <a:gd name="textAreaBottom" fmla="*/ 158760 h 158400"/>
            </a:gdLst>
            <a:ahLst/>
            <a:rect l="textAreaLeft" t="textAreaTop" r="textAreaRight" b="textAreaBottom"/>
            <a:pathLst>
              <a:path w="31" h="100">
                <a:moveTo>
                  <a:pt x="31" y="0"/>
                </a:moveTo>
                <a:lnTo>
                  <a:pt x="25" y="4"/>
                </a:lnTo>
                <a:lnTo>
                  <a:pt x="18" y="10"/>
                </a:lnTo>
                <a:lnTo>
                  <a:pt x="10" y="19"/>
                </a:lnTo>
                <a:lnTo>
                  <a:pt x="4" y="29"/>
                </a:lnTo>
                <a:lnTo>
                  <a:pt x="2" y="39"/>
                </a:lnTo>
                <a:lnTo>
                  <a:pt x="0" y="50"/>
                </a:lnTo>
                <a:lnTo>
                  <a:pt x="2" y="62"/>
                </a:lnTo>
                <a:lnTo>
                  <a:pt x="4" y="73"/>
                </a:lnTo>
                <a:lnTo>
                  <a:pt x="10" y="83"/>
                </a:lnTo>
                <a:lnTo>
                  <a:pt x="18" y="90"/>
                </a:lnTo>
                <a:lnTo>
                  <a:pt x="25" y="98"/>
                </a:lnTo>
                <a:lnTo>
                  <a:pt x="31" y="100"/>
                </a:lnTo>
                <a:lnTo>
                  <a:pt x="31" y="98"/>
                </a:lnTo>
                <a:lnTo>
                  <a:pt x="31" y="98"/>
                </a:lnTo>
                <a:lnTo>
                  <a:pt x="31" y="96"/>
                </a:lnTo>
                <a:lnTo>
                  <a:pt x="31" y="94"/>
                </a:lnTo>
                <a:lnTo>
                  <a:pt x="31" y="92"/>
                </a:lnTo>
                <a:lnTo>
                  <a:pt x="31" y="92"/>
                </a:lnTo>
                <a:lnTo>
                  <a:pt x="31" y="90"/>
                </a:lnTo>
                <a:lnTo>
                  <a:pt x="31" y="88"/>
                </a:lnTo>
                <a:lnTo>
                  <a:pt x="23" y="85"/>
                </a:lnTo>
                <a:lnTo>
                  <a:pt x="18" y="77"/>
                </a:lnTo>
                <a:lnTo>
                  <a:pt x="14" y="69"/>
                </a:lnTo>
                <a:lnTo>
                  <a:pt x="12" y="60"/>
                </a:lnTo>
                <a:lnTo>
                  <a:pt x="10" y="50"/>
                </a:lnTo>
                <a:lnTo>
                  <a:pt x="12" y="41"/>
                </a:lnTo>
                <a:lnTo>
                  <a:pt x="14" y="33"/>
                </a:lnTo>
                <a:lnTo>
                  <a:pt x="18" y="23"/>
                </a:lnTo>
                <a:lnTo>
                  <a:pt x="23" y="17"/>
                </a:lnTo>
                <a:lnTo>
                  <a:pt x="31" y="12"/>
                </a:lnTo>
                <a:lnTo>
                  <a:pt x="31" y="10"/>
                </a:lnTo>
                <a:lnTo>
                  <a:pt x="31" y="10"/>
                </a:lnTo>
                <a:lnTo>
                  <a:pt x="31" y="8"/>
                </a:lnTo>
                <a:lnTo>
                  <a:pt x="31" y="6"/>
                </a:lnTo>
                <a:lnTo>
                  <a:pt x="31" y="4"/>
                </a:lnTo>
                <a:lnTo>
                  <a:pt x="31" y="4"/>
                </a:lnTo>
                <a:lnTo>
                  <a:pt x="31" y="2"/>
                </a:lnTo>
                <a:lnTo>
                  <a:pt x="31" y="0"/>
                </a:lnTo>
                <a:close/>
              </a:path>
            </a:pathLst>
          </a:custGeom>
          <a:solidFill>
            <a:srgbClr val="f4f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279"/>
          <p:cNvSpPr/>
          <p:nvPr/>
        </p:nvSpPr>
        <p:spPr>
          <a:xfrm>
            <a:off x="7047000" y="3227400"/>
            <a:ext cx="39600" cy="139680"/>
          </a:xfrm>
          <a:custGeom>
            <a:avLst/>
            <a:gdLst>
              <a:gd name="textAreaLeft" fmla="*/ 0 w 39600"/>
              <a:gd name="textAreaRight" fmla="*/ 39960 w 3960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5" h="88">
                <a:moveTo>
                  <a:pt x="25" y="0"/>
                </a:moveTo>
                <a:lnTo>
                  <a:pt x="23" y="2"/>
                </a:lnTo>
                <a:lnTo>
                  <a:pt x="16" y="8"/>
                </a:lnTo>
                <a:lnTo>
                  <a:pt x="8" y="15"/>
                </a:lnTo>
                <a:lnTo>
                  <a:pt x="4" y="25"/>
                </a:lnTo>
                <a:lnTo>
                  <a:pt x="0" y="35"/>
                </a:lnTo>
                <a:lnTo>
                  <a:pt x="0" y="44"/>
                </a:lnTo>
                <a:lnTo>
                  <a:pt x="0" y="56"/>
                </a:lnTo>
                <a:lnTo>
                  <a:pt x="4" y="65"/>
                </a:lnTo>
                <a:lnTo>
                  <a:pt x="8" y="73"/>
                </a:lnTo>
                <a:lnTo>
                  <a:pt x="16" y="81"/>
                </a:lnTo>
                <a:lnTo>
                  <a:pt x="23" y="88"/>
                </a:lnTo>
                <a:lnTo>
                  <a:pt x="25" y="88"/>
                </a:lnTo>
                <a:lnTo>
                  <a:pt x="25" y="86"/>
                </a:lnTo>
                <a:lnTo>
                  <a:pt x="25" y="86"/>
                </a:lnTo>
                <a:lnTo>
                  <a:pt x="25" y="84"/>
                </a:lnTo>
                <a:lnTo>
                  <a:pt x="25" y="82"/>
                </a:lnTo>
                <a:lnTo>
                  <a:pt x="25" y="81"/>
                </a:lnTo>
                <a:lnTo>
                  <a:pt x="25" y="81"/>
                </a:lnTo>
                <a:lnTo>
                  <a:pt x="23" y="79"/>
                </a:lnTo>
                <a:lnTo>
                  <a:pt x="23" y="77"/>
                </a:lnTo>
                <a:lnTo>
                  <a:pt x="21" y="75"/>
                </a:lnTo>
                <a:lnTo>
                  <a:pt x="16" y="69"/>
                </a:lnTo>
                <a:lnTo>
                  <a:pt x="12" y="61"/>
                </a:lnTo>
                <a:lnTo>
                  <a:pt x="10" y="54"/>
                </a:lnTo>
                <a:lnTo>
                  <a:pt x="10" y="44"/>
                </a:lnTo>
                <a:lnTo>
                  <a:pt x="10" y="36"/>
                </a:lnTo>
                <a:lnTo>
                  <a:pt x="12" y="29"/>
                </a:lnTo>
                <a:lnTo>
                  <a:pt x="16" y="21"/>
                </a:lnTo>
                <a:lnTo>
                  <a:pt x="21" y="15"/>
                </a:lnTo>
                <a:lnTo>
                  <a:pt x="25" y="11"/>
                </a:lnTo>
                <a:lnTo>
                  <a:pt x="25" y="10"/>
                </a:lnTo>
                <a:lnTo>
                  <a:pt x="25" y="10"/>
                </a:lnTo>
                <a:lnTo>
                  <a:pt x="25" y="8"/>
                </a:lnTo>
                <a:lnTo>
                  <a:pt x="25" y="6"/>
                </a:lnTo>
                <a:lnTo>
                  <a:pt x="25" y="4"/>
                </a:lnTo>
                <a:lnTo>
                  <a:pt x="25" y="4"/>
                </a:lnTo>
                <a:lnTo>
                  <a:pt x="25" y="2"/>
                </a:lnTo>
                <a:lnTo>
                  <a:pt x="25" y="0"/>
                </a:lnTo>
                <a:close/>
              </a:path>
            </a:pathLst>
          </a:custGeom>
          <a:solidFill>
            <a:srgbClr val="f5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reeform 280"/>
          <p:cNvSpPr/>
          <p:nvPr/>
        </p:nvSpPr>
        <p:spPr>
          <a:xfrm>
            <a:off x="7053120" y="3236760"/>
            <a:ext cx="33480" cy="120960"/>
          </a:xfrm>
          <a:custGeom>
            <a:avLst/>
            <a:gdLst>
              <a:gd name="textAreaLeft" fmla="*/ 0 w 33480"/>
              <a:gd name="textAreaRight" fmla="*/ 33840 w 33480"/>
              <a:gd name="textAreaTop" fmla="*/ 0 h 120960"/>
              <a:gd name="textAreaBottom" fmla="*/ 121320 h 120960"/>
            </a:gdLst>
            <a:ahLst/>
            <a:rect l="textAreaLeft" t="textAreaTop" r="textAreaRight" b="textAreaBottom"/>
            <a:pathLst>
              <a:path w="21" h="76">
                <a:moveTo>
                  <a:pt x="21" y="0"/>
                </a:moveTo>
                <a:lnTo>
                  <a:pt x="13" y="5"/>
                </a:lnTo>
                <a:lnTo>
                  <a:pt x="8" y="11"/>
                </a:lnTo>
                <a:lnTo>
                  <a:pt x="4" y="21"/>
                </a:lnTo>
                <a:lnTo>
                  <a:pt x="2" y="29"/>
                </a:lnTo>
                <a:lnTo>
                  <a:pt x="0" y="38"/>
                </a:lnTo>
                <a:lnTo>
                  <a:pt x="2" y="48"/>
                </a:lnTo>
                <a:lnTo>
                  <a:pt x="4" y="57"/>
                </a:lnTo>
                <a:lnTo>
                  <a:pt x="8" y="65"/>
                </a:lnTo>
                <a:lnTo>
                  <a:pt x="13" y="73"/>
                </a:lnTo>
                <a:lnTo>
                  <a:pt x="21" y="76"/>
                </a:lnTo>
                <a:lnTo>
                  <a:pt x="21" y="75"/>
                </a:lnTo>
                <a:lnTo>
                  <a:pt x="21" y="75"/>
                </a:lnTo>
                <a:lnTo>
                  <a:pt x="19" y="73"/>
                </a:lnTo>
                <a:lnTo>
                  <a:pt x="19" y="71"/>
                </a:lnTo>
                <a:lnTo>
                  <a:pt x="19" y="69"/>
                </a:lnTo>
                <a:lnTo>
                  <a:pt x="19" y="67"/>
                </a:lnTo>
                <a:lnTo>
                  <a:pt x="19" y="67"/>
                </a:lnTo>
                <a:lnTo>
                  <a:pt x="19" y="65"/>
                </a:lnTo>
                <a:lnTo>
                  <a:pt x="15" y="59"/>
                </a:lnTo>
                <a:lnTo>
                  <a:pt x="13" y="53"/>
                </a:lnTo>
                <a:lnTo>
                  <a:pt x="10" y="46"/>
                </a:lnTo>
                <a:lnTo>
                  <a:pt x="10" y="38"/>
                </a:lnTo>
                <a:lnTo>
                  <a:pt x="10" y="30"/>
                </a:lnTo>
                <a:lnTo>
                  <a:pt x="13" y="25"/>
                </a:lnTo>
                <a:lnTo>
                  <a:pt x="15" y="17"/>
                </a:lnTo>
                <a:lnTo>
                  <a:pt x="21" y="13"/>
                </a:lnTo>
                <a:lnTo>
                  <a:pt x="21" y="11"/>
                </a:lnTo>
                <a:lnTo>
                  <a:pt x="21" y="9"/>
                </a:lnTo>
                <a:lnTo>
                  <a:pt x="21" y="7"/>
                </a:lnTo>
                <a:lnTo>
                  <a:pt x="21" y="5"/>
                </a:lnTo>
                <a:lnTo>
                  <a:pt x="21" y="4"/>
                </a:lnTo>
                <a:lnTo>
                  <a:pt x="21" y="4"/>
                </a:lnTo>
                <a:lnTo>
                  <a:pt x="21" y="2"/>
                </a:lnTo>
                <a:lnTo>
                  <a:pt x="21" y="0"/>
                </a:lnTo>
                <a:close/>
              </a:path>
            </a:pathLst>
          </a:custGeom>
          <a:solidFill>
            <a:srgbClr val="f6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281"/>
          <p:cNvSpPr/>
          <p:nvPr/>
        </p:nvSpPr>
        <p:spPr>
          <a:xfrm>
            <a:off x="7062840" y="3244680"/>
            <a:ext cx="23760" cy="105120"/>
          </a:xfrm>
          <a:custGeom>
            <a:avLst/>
            <a:gdLst>
              <a:gd name="textAreaLeft" fmla="*/ 0 w 23760"/>
              <a:gd name="textAreaRight" fmla="*/ 24120 w 2376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15" h="66">
                <a:moveTo>
                  <a:pt x="15" y="0"/>
                </a:moveTo>
                <a:lnTo>
                  <a:pt x="11" y="4"/>
                </a:lnTo>
                <a:lnTo>
                  <a:pt x="6" y="10"/>
                </a:lnTo>
                <a:lnTo>
                  <a:pt x="2" y="18"/>
                </a:lnTo>
                <a:lnTo>
                  <a:pt x="0" y="25"/>
                </a:lnTo>
                <a:lnTo>
                  <a:pt x="0" y="33"/>
                </a:lnTo>
                <a:lnTo>
                  <a:pt x="0" y="43"/>
                </a:lnTo>
                <a:lnTo>
                  <a:pt x="2" y="50"/>
                </a:lnTo>
                <a:lnTo>
                  <a:pt x="6" y="58"/>
                </a:lnTo>
                <a:lnTo>
                  <a:pt x="11" y="64"/>
                </a:lnTo>
                <a:lnTo>
                  <a:pt x="13" y="66"/>
                </a:lnTo>
                <a:lnTo>
                  <a:pt x="13" y="64"/>
                </a:lnTo>
                <a:lnTo>
                  <a:pt x="13" y="62"/>
                </a:lnTo>
                <a:lnTo>
                  <a:pt x="13" y="60"/>
                </a:lnTo>
                <a:lnTo>
                  <a:pt x="13" y="58"/>
                </a:lnTo>
                <a:lnTo>
                  <a:pt x="13" y="56"/>
                </a:lnTo>
                <a:lnTo>
                  <a:pt x="13" y="56"/>
                </a:lnTo>
                <a:lnTo>
                  <a:pt x="13" y="54"/>
                </a:lnTo>
                <a:lnTo>
                  <a:pt x="13" y="52"/>
                </a:lnTo>
                <a:lnTo>
                  <a:pt x="11" y="47"/>
                </a:lnTo>
                <a:lnTo>
                  <a:pt x="9" y="41"/>
                </a:lnTo>
                <a:lnTo>
                  <a:pt x="7" y="33"/>
                </a:lnTo>
                <a:lnTo>
                  <a:pt x="9" y="27"/>
                </a:lnTo>
                <a:lnTo>
                  <a:pt x="11" y="22"/>
                </a:lnTo>
                <a:lnTo>
                  <a:pt x="13" y="16"/>
                </a:lnTo>
                <a:lnTo>
                  <a:pt x="13" y="16"/>
                </a:lnTo>
                <a:lnTo>
                  <a:pt x="13" y="14"/>
                </a:lnTo>
                <a:lnTo>
                  <a:pt x="13" y="12"/>
                </a:lnTo>
                <a:lnTo>
                  <a:pt x="15" y="10"/>
                </a:lnTo>
                <a:lnTo>
                  <a:pt x="15" y="8"/>
                </a:lnTo>
                <a:lnTo>
                  <a:pt x="15" y="6"/>
                </a:lnTo>
                <a:lnTo>
                  <a:pt x="15" y="4"/>
                </a:lnTo>
                <a:lnTo>
                  <a:pt x="15" y="2"/>
                </a:lnTo>
                <a:lnTo>
                  <a:pt x="15" y="0"/>
                </a:lnTo>
                <a:close/>
              </a:path>
            </a:pathLst>
          </a:custGeom>
          <a:solidFill>
            <a:srgbClr val="f7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282"/>
          <p:cNvSpPr/>
          <p:nvPr/>
        </p:nvSpPr>
        <p:spPr>
          <a:xfrm>
            <a:off x="7068960" y="3257640"/>
            <a:ext cx="17640" cy="82440"/>
          </a:xfrm>
          <a:custGeom>
            <a:avLst/>
            <a:gdLst>
              <a:gd name="textAreaLeft" fmla="*/ 0 w 17640"/>
              <a:gd name="textAreaRight" fmla="*/ 18000 w 176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1" h="52">
                <a:moveTo>
                  <a:pt x="11" y="0"/>
                </a:moveTo>
                <a:lnTo>
                  <a:pt x="5" y="4"/>
                </a:lnTo>
                <a:lnTo>
                  <a:pt x="3" y="12"/>
                </a:lnTo>
                <a:lnTo>
                  <a:pt x="0" y="17"/>
                </a:lnTo>
                <a:lnTo>
                  <a:pt x="0" y="25"/>
                </a:lnTo>
                <a:lnTo>
                  <a:pt x="0" y="33"/>
                </a:lnTo>
                <a:lnTo>
                  <a:pt x="3" y="40"/>
                </a:lnTo>
                <a:lnTo>
                  <a:pt x="5" y="46"/>
                </a:lnTo>
                <a:lnTo>
                  <a:pt x="9" y="52"/>
                </a:lnTo>
                <a:lnTo>
                  <a:pt x="9" y="48"/>
                </a:lnTo>
                <a:lnTo>
                  <a:pt x="9" y="46"/>
                </a:lnTo>
                <a:lnTo>
                  <a:pt x="9" y="44"/>
                </a:lnTo>
                <a:lnTo>
                  <a:pt x="9" y="42"/>
                </a:lnTo>
                <a:lnTo>
                  <a:pt x="9" y="39"/>
                </a:lnTo>
                <a:lnTo>
                  <a:pt x="9" y="37"/>
                </a:lnTo>
                <a:lnTo>
                  <a:pt x="9" y="35"/>
                </a:lnTo>
                <a:lnTo>
                  <a:pt x="9" y="33"/>
                </a:lnTo>
                <a:lnTo>
                  <a:pt x="9" y="31"/>
                </a:lnTo>
                <a:lnTo>
                  <a:pt x="9" y="25"/>
                </a:lnTo>
                <a:lnTo>
                  <a:pt x="9" y="19"/>
                </a:lnTo>
                <a:lnTo>
                  <a:pt x="9" y="19"/>
                </a:lnTo>
                <a:lnTo>
                  <a:pt x="9" y="16"/>
                </a:lnTo>
                <a:lnTo>
                  <a:pt x="9" y="14"/>
                </a:lnTo>
                <a:lnTo>
                  <a:pt x="9" y="12"/>
                </a:lnTo>
                <a:lnTo>
                  <a:pt x="9" y="10"/>
                </a:lnTo>
                <a:lnTo>
                  <a:pt x="9" y="6"/>
                </a:lnTo>
                <a:lnTo>
                  <a:pt x="11" y="4"/>
                </a:lnTo>
                <a:lnTo>
                  <a:pt x="11" y="2"/>
                </a:lnTo>
                <a:lnTo>
                  <a:pt x="11" y="0"/>
                </a:lnTo>
                <a:close/>
              </a:path>
            </a:pathLst>
          </a:cu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283"/>
          <p:cNvSpPr/>
          <p:nvPr/>
        </p:nvSpPr>
        <p:spPr>
          <a:xfrm>
            <a:off x="7074000" y="3270240"/>
            <a:ext cx="9360" cy="57240"/>
          </a:xfrm>
          <a:custGeom>
            <a:avLst/>
            <a:gdLst>
              <a:gd name="textAreaLeft" fmla="*/ 0 w 9360"/>
              <a:gd name="textAreaRight" fmla="*/ 9720 w 93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" h="36">
                <a:moveTo>
                  <a:pt x="6" y="0"/>
                </a:moveTo>
                <a:lnTo>
                  <a:pt x="6" y="0"/>
                </a:lnTo>
                <a:lnTo>
                  <a:pt x="4" y="6"/>
                </a:lnTo>
                <a:lnTo>
                  <a:pt x="2" y="11"/>
                </a:lnTo>
                <a:lnTo>
                  <a:pt x="0" y="17"/>
                </a:lnTo>
                <a:lnTo>
                  <a:pt x="2" y="25"/>
                </a:lnTo>
                <a:lnTo>
                  <a:pt x="4" y="31"/>
                </a:lnTo>
                <a:lnTo>
                  <a:pt x="6" y="36"/>
                </a:lnTo>
                <a:lnTo>
                  <a:pt x="6" y="31"/>
                </a:lnTo>
                <a:lnTo>
                  <a:pt x="6" y="27"/>
                </a:lnTo>
                <a:lnTo>
                  <a:pt x="6" y="23"/>
                </a:lnTo>
                <a:lnTo>
                  <a:pt x="6" y="17"/>
                </a:lnTo>
                <a:lnTo>
                  <a:pt x="6" y="13"/>
                </a:lnTo>
                <a:lnTo>
                  <a:pt x="6" y="8"/>
                </a:lnTo>
                <a:lnTo>
                  <a:pt x="6" y="4"/>
                </a:lnTo>
                <a:lnTo>
                  <a:pt x="6" y="0"/>
                </a:lnTo>
                <a:close/>
              </a:path>
            </a:pathLst>
          </a:custGeom>
          <a:solidFill>
            <a:srgbClr val="f9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284"/>
          <p:cNvSpPr/>
          <p:nvPr/>
        </p:nvSpPr>
        <p:spPr>
          <a:xfrm>
            <a:off x="7083360" y="3287880"/>
            <a:ext cx="1800" cy="21960"/>
          </a:xfrm>
          <a:custGeom>
            <a:avLst/>
            <a:gdLst>
              <a:gd name="textAreaLeft" fmla="*/ 0 w 1800"/>
              <a:gd name="textAreaRight" fmla="*/ 2160 w 18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88" h="14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12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4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af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285"/>
          <p:cNvSpPr/>
          <p:nvPr/>
        </p:nvSpPr>
        <p:spPr>
          <a:xfrm>
            <a:off x="7713720" y="5040360"/>
            <a:ext cx="58680" cy="76320"/>
          </a:xfrm>
          <a:custGeom>
            <a:avLst/>
            <a:gdLst>
              <a:gd name="textAreaLeft" fmla="*/ 0 w 58680"/>
              <a:gd name="textAreaRight" fmla="*/ 59040 w 586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37" h="48">
                <a:moveTo>
                  <a:pt x="25" y="5"/>
                </a:moveTo>
                <a:lnTo>
                  <a:pt x="25" y="9"/>
                </a:lnTo>
                <a:lnTo>
                  <a:pt x="25" y="11"/>
                </a:lnTo>
                <a:lnTo>
                  <a:pt x="25" y="15"/>
                </a:lnTo>
                <a:lnTo>
                  <a:pt x="24" y="19"/>
                </a:lnTo>
                <a:lnTo>
                  <a:pt x="20" y="23"/>
                </a:lnTo>
                <a:lnTo>
                  <a:pt x="14" y="28"/>
                </a:lnTo>
                <a:lnTo>
                  <a:pt x="8" y="32"/>
                </a:lnTo>
                <a:lnTo>
                  <a:pt x="0" y="38"/>
                </a:lnTo>
                <a:lnTo>
                  <a:pt x="8" y="48"/>
                </a:lnTo>
                <a:lnTo>
                  <a:pt x="16" y="42"/>
                </a:lnTo>
                <a:lnTo>
                  <a:pt x="22" y="38"/>
                </a:lnTo>
                <a:lnTo>
                  <a:pt x="27" y="32"/>
                </a:lnTo>
                <a:lnTo>
                  <a:pt x="33" y="27"/>
                </a:lnTo>
                <a:lnTo>
                  <a:pt x="35" y="21"/>
                </a:lnTo>
                <a:lnTo>
                  <a:pt x="37" y="13"/>
                </a:lnTo>
                <a:lnTo>
                  <a:pt x="37" y="7"/>
                </a:lnTo>
                <a:lnTo>
                  <a:pt x="35" y="0"/>
                </a:lnTo>
                <a:lnTo>
                  <a:pt x="2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286"/>
          <p:cNvSpPr/>
          <p:nvPr/>
        </p:nvSpPr>
        <p:spPr>
          <a:xfrm>
            <a:off x="7647120" y="4848120"/>
            <a:ext cx="122040" cy="200160"/>
          </a:xfrm>
          <a:custGeom>
            <a:avLst/>
            <a:gdLst>
              <a:gd name="textAreaLeft" fmla="*/ 0 w 122040"/>
              <a:gd name="textAreaRight" fmla="*/ 122400 w 12204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77" h="126">
                <a:moveTo>
                  <a:pt x="0" y="7"/>
                </a:moveTo>
                <a:lnTo>
                  <a:pt x="8" y="25"/>
                </a:lnTo>
                <a:lnTo>
                  <a:pt x="16" y="42"/>
                </a:lnTo>
                <a:lnTo>
                  <a:pt x="25" y="57"/>
                </a:lnTo>
                <a:lnTo>
                  <a:pt x="33" y="73"/>
                </a:lnTo>
                <a:lnTo>
                  <a:pt x="42" y="86"/>
                </a:lnTo>
                <a:lnTo>
                  <a:pt x="50" y="100"/>
                </a:lnTo>
                <a:lnTo>
                  <a:pt x="60" y="113"/>
                </a:lnTo>
                <a:lnTo>
                  <a:pt x="67" y="126"/>
                </a:lnTo>
                <a:lnTo>
                  <a:pt x="77" y="121"/>
                </a:lnTo>
                <a:lnTo>
                  <a:pt x="69" y="107"/>
                </a:lnTo>
                <a:lnTo>
                  <a:pt x="62" y="94"/>
                </a:lnTo>
                <a:lnTo>
                  <a:pt x="52" y="80"/>
                </a:lnTo>
                <a:lnTo>
                  <a:pt x="44" y="65"/>
                </a:lnTo>
                <a:lnTo>
                  <a:pt x="35" y="52"/>
                </a:lnTo>
                <a:lnTo>
                  <a:pt x="27" y="36"/>
                </a:lnTo>
                <a:lnTo>
                  <a:pt x="19" y="19"/>
                </a:lnTo>
                <a:lnTo>
                  <a:pt x="10" y="2"/>
                </a:lnTo>
                <a:lnTo>
                  <a:pt x="10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287"/>
          <p:cNvSpPr/>
          <p:nvPr/>
        </p:nvSpPr>
        <p:spPr>
          <a:xfrm>
            <a:off x="7074000" y="1701720"/>
            <a:ext cx="588960" cy="3157560"/>
          </a:xfrm>
          <a:custGeom>
            <a:avLst/>
            <a:gdLst>
              <a:gd name="textAreaLeft" fmla="*/ 0 w 588960"/>
              <a:gd name="textAreaRight" fmla="*/ 589320 w 58896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371" h="1989">
                <a:moveTo>
                  <a:pt x="342" y="2"/>
                </a:moveTo>
                <a:lnTo>
                  <a:pt x="344" y="0"/>
                </a:lnTo>
                <a:lnTo>
                  <a:pt x="315" y="36"/>
                </a:lnTo>
                <a:lnTo>
                  <a:pt x="288" y="76"/>
                </a:lnTo>
                <a:lnTo>
                  <a:pt x="261" y="117"/>
                </a:lnTo>
                <a:lnTo>
                  <a:pt x="235" y="161"/>
                </a:lnTo>
                <a:lnTo>
                  <a:pt x="208" y="209"/>
                </a:lnTo>
                <a:lnTo>
                  <a:pt x="183" y="257"/>
                </a:lnTo>
                <a:lnTo>
                  <a:pt x="158" y="309"/>
                </a:lnTo>
                <a:lnTo>
                  <a:pt x="135" y="362"/>
                </a:lnTo>
                <a:lnTo>
                  <a:pt x="114" y="418"/>
                </a:lnTo>
                <a:lnTo>
                  <a:pt x="93" y="476"/>
                </a:lnTo>
                <a:lnTo>
                  <a:pt x="73" y="535"/>
                </a:lnTo>
                <a:lnTo>
                  <a:pt x="56" y="594"/>
                </a:lnTo>
                <a:lnTo>
                  <a:pt x="41" y="658"/>
                </a:lnTo>
                <a:lnTo>
                  <a:pt x="27" y="721"/>
                </a:lnTo>
                <a:lnTo>
                  <a:pt x="18" y="786"/>
                </a:lnTo>
                <a:lnTo>
                  <a:pt x="10" y="852"/>
                </a:lnTo>
                <a:lnTo>
                  <a:pt x="4" y="919"/>
                </a:lnTo>
                <a:lnTo>
                  <a:pt x="0" y="988"/>
                </a:lnTo>
                <a:lnTo>
                  <a:pt x="2" y="1057"/>
                </a:lnTo>
                <a:lnTo>
                  <a:pt x="4" y="1128"/>
                </a:lnTo>
                <a:lnTo>
                  <a:pt x="12" y="1199"/>
                </a:lnTo>
                <a:lnTo>
                  <a:pt x="23" y="1270"/>
                </a:lnTo>
                <a:lnTo>
                  <a:pt x="37" y="1341"/>
                </a:lnTo>
                <a:lnTo>
                  <a:pt x="54" y="1414"/>
                </a:lnTo>
                <a:lnTo>
                  <a:pt x="66" y="1450"/>
                </a:lnTo>
                <a:lnTo>
                  <a:pt x="77" y="1487"/>
                </a:lnTo>
                <a:lnTo>
                  <a:pt x="91" y="1521"/>
                </a:lnTo>
                <a:lnTo>
                  <a:pt x="104" y="1558"/>
                </a:lnTo>
                <a:lnTo>
                  <a:pt x="119" y="1594"/>
                </a:lnTo>
                <a:lnTo>
                  <a:pt x="135" y="1631"/>
                </a:lnTo>
                <a:lnTo>
                  <a:pt x="152" y="1667"/>
                </a:lnTo>
                <a:lnTo>
                  <a:pt x="169" y="1704"/>
                </a:lnTo>
                <a:lnTo>
                  <a:pt x="190" y="1740"/>
                </a:lnTo>
                <a:lnTo>
                  <a:pt x="210" y="1776"/>
                </a:lnTo>
                <a:lnTo>
                  <a:pt x="233" y="1811"/>
                </a:lnTo>
                <a:lnTo>
                  <a:pt x="256" y="1847"/>
                </a:lnTo>
                <a:lnTo>
                  <a:pt x="281" y="1884"/>
                </a:lnTo>
                <a:lnTo>
                  <a:pt x="306" y="1918"/>
                </a:lnTo>
                <a:lnTo>
                  <a:pt x="332" y="1955"/>
                </a:lnTo>
                <a:lnTo>
                  <a:pt x="361" y="1989"/>
                </a:lnTo>
                <a:lnTo>
                  <a:pt x="371" y="1982"/>
                </a:lnTo>
                <a:lnTo>
                  <a:pt x="342" y="1947"/>
                </a:lnTo>
                <a:lnTo>
                  <a:pt x="315" y="1913"/>
                </a:lnTo>
                <a:lnTo>
                  <a:pt x="290" y="1876"/>
                </a:lnTo>
                <a:lnTo>
                  <a:pt x="265" y="1842"/>
                </a:lnTo>
                <a:lnTo>
                  <a:pt x="242" y="1805"/>
                </a:lnTo>
                <a:lnTo>
                  <a:pt x="221" y="1769"/>
                </a:lnTo>
                <a:lnTo>
                  <a:pt x="200" y="1734"/>
                </a:lnTo>
                <a:lnTo>
                  <a:pt x="181" y="1698"/>
                </a:lnTo>
                <a:lnTo>
                  <a:pt x="164" y="1661"/>
                </a:lnTo>
                <a:lnTo>
                  <a:pt x="146" y="1627"/>
                </a:lnTo>
                <a:lnTo>
                  <a:pt x="129" y="1590"/>
                </a:lnTo>
                <a:lnTo>
                  <a:pt x="116" y="1554"/>
                </a:lnTo>
                <a:lnTo>
                  <a:pt x="102" y="1517"/>
                </a:lnTo>
                <a:lnTo>
                  <a:pt x="89" y="1483"/>
                </a:lnTo>
                <a:lnTo>
                  <a:pt x="77" y="1446"/>
                </a:lnTo>
                <a:lnTo>
                  <a:pt x="68" y="1410"/>
                </a:lnTo>
                <a:lnTo>
                  <a:pt x="48" y="1339"/>
                </a:lnTo>
                <a:lnTo>
                  <a:pt x="35" y="1268"/>
                </a:lnTo>
                <a:lnTo>
                  <a:pt x="23" y="1197"/>
                </a:lnTo>
                <a:lnTo>
                  <a:pt x="18" y="1126"/>
                </a:lnTo>
                <a:lnTo>
                  <a:pt x="14" y="1057"/>
                </a:lnTo>
                <a:lnTo>
                  <a:pt x="14" y="988"/>
                </a:lnTo>
                <a:lnTo>
                  <a:pt x="16" y="921"/>
                </a:lnTo>
                <a:lnTo>
                  <a:pt x="22" y="854"/>
                </a:lnTo>
                <a:lnTo>
                  <a:pt x="29" y="788"/>
                </a:lnTo>
                <a:lnTo>
                  <a:pt x="41" y="723"/>
                </a:lnTo>
                <a:lnTo>
                  <a:pt x="52" y="660"/>
                </a:lnTo>
                <a:lnTo>
                  <a:pt x="68" y="598"/>
                </a:lnTo>
                <a:lnTo>
                  <a:pt x="85" y="537"/>
                </a:lnTo>
                <a:lnTo>
                  <a:pt x="104" y="479"/>
                </a:lnTo>
                <a:lnTo>
                  <a:pt x="123" y="422"/>
                </a:lnTo>
                <a:lnTo>
                  <a:pt x="146" y="366"/>
                </a:lnTo>
                <a:lnTo>
                  <a:pt x="169" y="314"/>
                </a:lnTo>
                <a:lnTo>
                  <a:pt x="194" y="263"/>
                </a:lnTo>
                <a:lnTo>
                  <a:pt x="219" y="215"/>
                </a:lnTo>
                <a:lnTo>
                  <a:pt x="244" y="169"/>
                </a:lnTo>
                <a:lnTo>
                  <a:pt x="271" y="124"/>
                </a:lnTo>
                <a:lnTo>
                  <a:pt x="298" y="82"/>
                </a:lnTo>
                <a:lnTo>
                  <a:pt x="325" y="44"/>
                </a:lnTo>
                <a:lnTo>
                  <a:pt x="352" y="7"/>
                </a:lnTo>
                <a:lnTo>
                  <a:pt x="354" y="5"/>
                </a:lnTo>
                <a:lnTo>
                  <a:pt x="34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reeform 290"/>
          <p:cNvSpPr/>
          <p:nvPr/>
        </p:nvSpPr>
        <p:spPr>
          <a:xfrm>
            <a:off x="6815160" y="1527120"/>
            <a:ext cx="841320" cy="3524400"/>
          </a:xfrm>
          <a:custGeom>
            <a:avLst/>
            <a:gdLst>
              <a:gd name="textAreaLeft" fmla="*/ 0 w 841320"/>
              <a:gd name="textAreaRight" fmla="*/ 841680 w 841320"/>
              <a:gd name="textAreaTop" fmla="*/ 0 h 3524400"/>
              <a:gd name="textAreaBottom" fmla="*/ 3524760 h 3524400"/>
            </a:gdLst>
            <a:ahLst/>
            <a:rect l="textAreaLeft" t="textAreaTop" r="textAreaRight" b="textAreaBottom"/>
            <a:pathLst>
              <a:path w="530" h="2220">
                <a:moveTo>
                  <a:pt x="384" y="2211"/>
                </a:moveTo>
                <a:lnTo>
                  <a:pt x="384" y="2213"/>
                </a:lnTo>
                <a:lnTo>
                  <a:pt x="344" y="2165"/>
                </a:lnTo>
                <a:lnTo>
                  <a:pt x="304" y="2115"/>
                </a:lnTo>
                <a:lnTo>
                  <a:pt x="267" y="2061"/>
                </a:lnTo>
                <a:lnTo>
                  <a:pt x="231" y="2005"/>
                </a:lnTo>
                <a:lnTo>
                  <a:pt x="198" y="1944"/>
                </a:lnTo>
                <a:lnTo>
                  <a:pt x="167" y="1883"/>
                </a:lnTo>
                <a:lnTo>
                  <a:pt x="139" y="1817"/>
                </a:lnTo>
                <a:lnTo>
                  <a:pt x="114" y="1750"/>
                </a:lnTo>
                <a:lnTo>
                  <a:pt x="91" y="1681"/>
                </a:lnTo>
                <a:lnTo>
                  <a:pt x="69" y="1610"/>
                </a:lnTo>
                <a:lnTo>
                  <a:pt x="52" y="1537"/>
                </a:lnTo>
                <a:lnTo>
                  <a:pt x="39" y="1464"/>
                </a:lnTo>
                <a:lnTo>
                  <a:pt x="27" y="1388"/>
                </a:lnTo>
                <a:lnTo>
                  <a:pt x="20" y="1313"/>
                </a:lnTo>
                <a:lnTo>
                  <a:pt x="14" y="1236"/>
                </a:lnTo>
                <a:lnTo>
                  <a:pt x="14" y="1157"/>
                </a:lnTo>
                <a:lnTo>
                  <a:pt x="16" y="1079"/>
                </a:lnTo>
                <a:lnTo>
                  <a:pt x="21" y="1002"/>
                </a:lnTo>
                <a:lnTo>
                  <a:pt x="29" y="923"/>
                </a:lnTo>
                <a:lnTo>
                  <a:pt x="43" y="846"/>
                </a:lnTo>
                <a:lnTo>
                  <a:pt x="50" y="806"/>
                </a:lnTo>
                <a:lnTo>
                  <a:pt x="60" y="768"/>
                </a:lnTo>
                <a:lnTo>
                  <a:pt x="69" y="729"/>
                </a:lnTo>
                <a:lnTo>
                  <a:pt x="81" y="691"/>
                </a:lnTo>
                <a:lnTo>
                  <a:pt x="92" y="655"/>
                </a:lnTo>
                <a:lnTo>
                  <a:pt x="106" y="616"/>
                </a:lnTo>
                <a:lnTo>
                  <a:pt x="119" y="578"/>
                </a:lnTo>
                <a:lnTo>
                  <a:pt x="135" y="541"/>
                </a:lnTo>
                <a:lnTo>
                  <a:pt x="152" y="505"/>
                </a:lnTo>
                <a:lnTo>
                  <a:pt x="169" y="468"/>
                </a:lnTo>
                <a:lnTo>
                  <a:pt x="186" y="432"/>
                </a:lnTo>
                <a:lnTo>
                  <a:pt x="206" y="397"/>
                </a:lnTo>
                <a:lnTo>
                  <a:pt x="227" y="361"/>
                </a:lnTo>
                <a:lnTo>
                  <a:pt x="248" y="326"/>
                </a:lnTo>
                <a:lnTo>
                  <a:pt x="271" y="292"/>
                </a:lnTo>
                <a:lnTo>
                  <a:pt x="296" y="259"/>
                </a:lnTo>
                <a:lnTo>
                  <a:pt x="321" y="225"/>
                </a:lnTo>
                <a:lnTo>
                  <a:pt x="346" y="192"/>
                </a:lnTo>
                <a:lnTo>
                  <a:pt x="375" y="161"/>
                </a:lnTo>
                <a:lnTo>
                  <a:pt x="403" y="129"/>
                </a:lnTo>
                <a:lnTo>
                  <a:pt x="432" y="98"/>
                </a:lnTo>
                <a:lnTo>
                  <a:pt x="463" y="69"/>
                </a:lnTo>
                <a:lnTo>
                  <a:pt x="495" y="39"/>
                </a:lnTo>
                <a:lnTo>
                  <a:pt x="530" y="10"/>
                </a:lnTo>
                <a:lnTo>
                  <a:pt x="522" y="0"/>
                </a:lnTo>
                <a:lnTo>
                  <a:pt x="488" y="29"/>
                </a:lnTo>
                <a:lnTo>
                  <a:pt x="455" y="60"/>
                </a:lnTo>
                <a:lnTo>
                  <a:pt x="424" y="90"/>
                </a:lnTo>
                <a:lnTo>
                  <a:pt x="394" y="121"/>
                </a:lnTo>
                <a:lnTo>
                  <a:pt x="365" y="152"/>
                </a:lnTo>
                <a:lnTo>
                  <a:pt x="338" y="184"/>
                </a:lnTo>
                <a:lnTo>
                  <a:pt x="311" y="217"/>
                </a:lnTo>
                <a:lnTo>
                  <a:pt x="284" y="252"/>
                </a:lnTo>
                <a:lnTo>
                  <a:pt x="261" y="286"/>
                </a:lnTo>
                <a:lnTo>
                  <a:pt x="238" y="321"/>
                </a:lnTo>
                <a:lnTo>
                  <a:pt x="217" y="355"/>
                </a:lnTo>
                <a:lnTo>
                  <a:pt x="196" y="390"/>
                </a:lnTo>
                <a:lnTo>
                  <a:pt x="177" y="426"/>
                </a:lnTo>
                <a:lnTo>
                  <a:pt x="158" y="463"/>
                </a:lnTo>
                <a:lnTo>
                  <a:pt x="140" y="499"/>
                </a:lnTo>
                <a:lnTo>
                  <a:pt x="123" y="538"/>
                </a:lnTo>
                <a:lnTo>
                  <a:pt x="108" y="574"/>
                </a:lnTo>
                <a:lnTo>
                  <a:pt x="94" y="612"/>
                </a:lnTo>
                <a:lnTo>
                  <a:pt x="81" y="651"/>
                </a:lnTo>
                <a:lnTo>
                  <a:pt x="69" y="689"/>
                </a:lnTo>
                <a:lnTo>
                  <a:pt x="58" y="728"/>
                </a:lnTo>
                <a:lnTo>
                  <a:pt x="48" y="766"/>
                </a:lnTo>
                <a:lnTo>
                  <a:pt x="39" y="804"/>
                </a:lnTo>
                <a:lnTo>
                  <a:pt x="31" y="843"/>
                </a:lnTo>
                <a:lnTo>
                  <a:pt x="18" y="921"/>
                </a:lnTo>
                <a:lnTo>
                  <a:pt x="8" y="1000"/>
                </a:lnTo>
                <a:lnTo>
                  <a:pt x="2" y="1079"/>
                </a:lnTo>
                <a:lnTo>
                  <a:pt x="0" y="1157"/>
                </a:lnTo>
                <a:lnTo>
                  <a:pt x="2" y="1236"/>
                </a:lnTo>
                <a:lnTo>
                  <a:pt x="8" y="1313"/>
                </a:lnTo>
                <a:lnTo>
                  <a:pt x="16" y="1390"/>
                </a:lnTo>
                <a:lnTo>
                  <a:pt x="27" y="1466"/>
                </a:lnTo>
                <a:lnTo>
                  <a:pt x="41" y="1541"/>
                </a:lnTo>
                <a:lnTo>
                  <a:pt x="58" y="1614"/>
                </a:lnTo>
                <a:lnTo>
                  <a:pt x="79" y="1685"/>
                </a:lnTo>
                <a:lnTo>
                  <a:pt x="102" y="1754"/>
                </a:lnTo>
                <a:lnTo>
                  <a:pt x="127" y="1823"/>
                </a:lnTo>
                <a:lnTo>
                  <a:pt x="156" y="1888"/>
                </a:lnTo>
                <a:lnTo>
                  <a:pt x="186" y="1950"/>
                </a:lnTo>
                <a:lnTo>
                  <a:pt x="221" y="2011"/>
                </a:lnTo>
                <a:lnTo>
                  <a:pt x="256" y="2069"/>
                </a:lnTo>
                <a:lnTo>
                  <a:pt x="294" y="2122"/>
                </a:lnTo>
                <a:lnTo>
                  <a:pt x="334" y="2172"/>
                </a:lnTo>
                <a:lnTo>
                  <a:pt x="376" y="2220"/>
                </a:lnTo>
                <a:lnTo>
                  <a:pt x="384" y="22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291"/>
          <p:cNvSpPr/>
          <p:nvPr/>
        </p:nvSpPr>
        <p:spPr>
          <a:xfrm>
            <a:off x="7412040" y="5037120"/>
            <a:ext cx="138240" cy="82440"/>
          </a:xfrm>
          <a:custGeom>
            <a:avLst/>
            <a:gdLst>
              <a:gd name="textAreaLeft" fmla="*/ 0 w 138240"/>
              <a:gd name="textAreaRight" fmla="*/ 138240 w 1382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87" h="52">
                <a:moveTo>
                  <a:pt x="85" y="40"/>
                </a:moveTo>
                <a:lnTo>
                  <a:pt x="87" y="40"/>
                </a:lnTo>
                <a:lnTo>
                  <a:pt x="73" y="38"/>
                </a:lnTo>
                <a:lnTo>
                  <a:pt x="62" y="34"/>
                </a:lnTo>
                <a:lnTo>
                  <a:pt x="52" y="30"/>
                </a:lnTo>
                <a:lnTo>
                  <a:pt x="43" y="25"/>
                </a:lnTo>
                <a:lnTo>
                  <a:pt x="33" y="21"/>
                </a:lnTo>
                <a:lnTo>
                  <a:pt x="25" y="13"/>
                </a:lnTo>
                <a:lnTo>
                  <a:pt x="16" y="7"/>
                </a:lnTo>
                <a:lnTo>
                  <a:pt x="8" y="0"/>
                </a:lnTo>
                <a:lnTo>
                  <a:pt x="0" y="9"/>
                </a:lnTo>
                <a:lnTo>
                  <a:pt x="10" y="17"/>
                </a:lnTo>
                <a:lnTo>
                  <a:pt x="18" y="23"/>
                </a:lnTo>
                <a:lnTo>
                  <a:pt x="27" y="30"/>
                </a:lnTo>
                <a:lnTo>
                  <a:pt x="37" y="36"/>
                </a:lnTo>
                <a:lnTo>
                  <a:pt x="48" y="42"/>
                </a:lnTo>
                <a:lnTo>
                  <a:pt x="60" y="46"/>
                </a:lnTo>
                <a:lnTo>
                  <a:pt x="72" y="50"/>
                </a:lnTo>
                <a:lnTo>
                  <a:pt x="85" y="52"/>
                </a:lnTo>
                <a:lnTo>
                  <a:pt x="87" y="52"/>
                </a:lnTo>
                <a:lnTo>
                  <a:pt x="85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Freeform 292"/>
          <p:cNvSpPr/>
          <p:nvPr/>
        </p:nvSpPr>
        <p:spPr>
          <a:xfrm>
            <a:off x="7547040" y="5097600"/>
            <a:ext cx="179280" cy="21960"/>
          </a:xfrm>
          <a:custGeom>
            <a:avLst/>
            <a:gdLst>
              <a:gd name="textAreaLeft" fmla="*/ 0 w 179280"/>
              <a:gd name="textAreaRight" fmla="*/ 179640 w 1792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13" h="14">
                <a:moveTo>
                  <a:pt x="105" y="2"/>
                </a:moveTo>
                <a:lnTo>
                  <a:pt x="109" y="0"/>
                </a:lnTo>
                <a:lnTo>
                  <a:pt x="0" y="2"/>
                </a:lnTo>
                <a:lnTo>
                  <a:pt x="2" y="14"/>
                </a:lnTo>
                <a:lnTo>
                  <a:pt x="109" y="14"/>
                </a:lnTo>
                <a:lnTo>
                  <a:pt x="113" y="12"/>
                </a:lnTo>
                <a:lnTo>
                  <a:pt x="10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24"/>
          <p:cNvSpPr/>
          <p:nvPr/>
        </p:nvSpPr>
        <p:spPr>
          <a:xfrm>
            <a:off x="8143920" y="4894200"/>
            <a:ext cx="633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325"/>
          <p:cNvSpPr/>
          <p:nvPr/>
        </p:nvSpPr>
        <p:spPr>
          <a:xfrm>
            <a:off x="8015400" y="4894200"/>
            <a:ext cx="6480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326"/>
          <p:cNvSpPr/>
          <p:nvPr/>
        </p:nvSpPr>
        <p:spPr>
          <a:xfrm>
            <a:off x="7888320" y="4894200"/>
            <a:ext cx="633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327"/>
          <p:cNvSpPr/>
          <p:nvPr/>
        </p:nvSpPr>
        <p:spPr>
          <a:xfrm>
            <a:off x="7759800" y="4894200"/>
            <a:ext cx="651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328"/>
          <p:cNvSpPr/>
          <p:nvPr/>
        </p:nvSpPr>
        <p:spPr>
          <a:xfrm>
            <a:off x="7632720" y="4894200"/>
            <a:ext cx="633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329"/>
          <p:cNvSpPr/>
          <p:nvPr/>
        </p:nvSpPr>
        <p:spPr>
          <a:xfrm>
            <a:off x="7504200" y="4894200"/>
            <a:ext cx="633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330"/>
          <p:cNvSpPr/>
          <p:nvPr/>
        </p:nvSpPr>
        <p:spPr>
          <a:xfrm>
            <a:off x="7375680" y="4894200"/>
            <a:ext cx="6480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31"/>
          <p:cNvSpPr/>
          <p:nvPr/>
        </p:nvSpPr>
        <p:spPr>
          <a:xfrm>
            <a:off x="7248600" y="4894200"/>
            <a:ext cx="633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332"/>
          <p:cNvSpPr/>
          <p:nvPr/>
        </p:nvSpPr>
        <p:spPr>
          <a:xfrm>
            <a:off x="7120080" y="4894200"/>
            <a:ext cx="6480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333"/>
          <p:cNvSpPr/>
          <p:nvPr/>
        </p:nvSpPr>
        <p:spPr>
          <a:xfrm>
            <a:off x="6993000" y="4894200"/>
            <a:ext cx="633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34"/>
          <p:cNvSpPr/>
          <p:nvPr/>
        </p:nvSpPr>
        <p:spPr>
          <a:xfrm>
            <a:off x="6864480" y="4894200"/>
            <a:ext cx="633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335"/>
          <p:cNvSpPr/>
          <p:nvPr/>
        </p:nvSpPr>
        <p:spPr>
          <a:xfrm>
            <a:off x="6735600" y="4894200"/>
            <a:ext cx="651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336"/>
          <p:cNvSpPr/>
          <p:nvPr/>
        </p:nvSpPr>
        <p:spPr>
          <a:xfrm>
            <a:off x="6608880" y="4894200"/>
            <a:ext cx="633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37"/>
          <p:cNvSpPr/>
          <p:nvPr/>
        </p:nvSpPr>
        <p:spPr>
          <a:xfrm>
            <a:off x="6480000" y="4894200"/>
            <a:ext cx="651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338"/>
          <p:cNvSpPr/>
          <p:nvPr/>
        </p:nvSpPr>
        <p:spPr>
          <a:xfrm>
            <a:off x="6353280" y="4894200"/>
            <a:ext cx="633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339"/>
          <p:cNvSpPr/>
          <p:nvPr/>
        </p:nvSpPr>
        <p:spPr>
          <a:xfrm>
            <a:off x="6224760" y="4894200"/>
            <a:ext cx="633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340"/>
          <p:cNvSpPr/>
          <p:nvPr/>
        </p:nvSpPr>
        <p:spPr>
          <a:xfrm>
            <a:off x="6095880" y="4894200"/>
            <a:ext cx="651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341"/>
          <p:cNvSpPr/>
          <p:nvPr/>
        </p:nvSpPr>
        <p:spPr>
          <a:xfrm>
            <a:off x="5969160" y="4894200"/>
            <a:ext cx="633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342"/>
          <p:cNvSpPr/>
          <p:nvPr/>
        </p:nvSpPr>
        <p:spPr>
          <a:xfrm>
            <a:off x="5840280" y="489420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343"/>
          <p:cNvSpPr/>
          <p:nvPr/>
        </p:nvSpPr>
        <p:spPr>
          <a:xfrm>
            <a:off x="5713560" y="4894200"/>
            <a:ext cx="633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44"/>
          <p:cNvSpPr/>
          <p:nvPr/>
        </p:nvSpPr>
        <p:spPr>
          <a:xfrm>
            <a:off x="5584680" y="489420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345"/>
          <p:cNvSpPr/>
          <p:nvPr/>
        </p:nvSpPr>
        <p:spPr>
          <a:xfrm>
            <a:off x="5456160" y="4894200"/>
            <a:ext cx="651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346"/>
          <p:cNvSpPr/>
          <p:nvPr/>
        </p:nvSpPr>
        <p:spPr>
          <a:xfrm>
            <a:off x="5329080" y="489420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347"/>
          <p:cNvSpPr/>
          <p:nvPr/>
        </p:nvSpPr>
        <p:spPr>
          <a:xfrm>
            <a:off x="5200560" y="489420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348"/>
          <p:cNvSpPr/>
          <p:nvPr/>
        </p:nvSpPr>
        <p:spPr>
          <a:xfrm>
            <a:off x="5073480" y="489420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349"/>
          <p:cNvSpPr/>
          <p:nvPr/>
        </p:nvSpPr>
        <p:spPr>
          <a:xfrm>
            <a:off x="4944960" y="489420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350"/>
          <p:cNvSpPr/>
          <p:nvPr/>
        </p:nvSpPr>
        <p:spPr>
          <a:xfrm>
            <a:off x="4816440" y="4894200"/>
            <a:ext cx="651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351"/>
          <p:cNvSpPr/>
          <p:nvPr/>
        </p:nvSpPr>
        <p:spPr>
          <a:xfrm>
            <a:off x="4689360" y="489420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352"/>
          <p:cNvSpPr/>
          <p:nvPr/>
        </p:nvSpPr>
        <p:spPr>
          <a:xfrm>
            <a:off x="4560840" y="489420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353"/>
          <p:cNvSpPr/>
          <p:nvPr/>
        </p:nvSpPr>
        <p:spPr>
          <a:xfrm>
            <a:off x="4433760" y="489420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354"/>
          <p:cNvSpPr/>
          <p:nvPr/>
        </p:nvSpPr>
        <p:spPr>
          <a:xfrm>
            <a:off x="4305240" y="489420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reeform 355"/>
          <p:cNvSpPr/>
          <p:nvPr/>
        </p:nvSpPr>
        <p:spPr>
          <a:xfrm>
            <a:off x="4206960" y="4894200"/>
            <a:ext cx="34920" cy="11160"/>
          </a:xfrm>
          <a:custGeom>
            <a:avLst/>
            <a:gdLst>
              <a:gd name="textAreaLeft" fmla="*/ 0 w 34920"/>
              <a:gd name="textAreaRight" fmla="*/ 34920 w 349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2" h="7">
                <a:moveTo>
                  <a:pt x="0" y="3"/>
                </a:moveTo>
                <a:lnTo>
                  <a:pt x="0" y="7"/>
                </a:lnTo>
                <a:lnTo>
                  <a:pt x="22" y="7"/>
                </a:lnTo>
                <a:lnTo>
                  <a:pt x="22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421"/>
          <p:cNvSpPr/>
          <p:nvPr/>
        </p:nvSpPr>
        <p:spPr>
          <a:xfrm>
            <a:off x="4835520" y="5113440"/>
            <a:ext cx="633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422"/>
          <p:cNvSpPr/>
          <p:nvPr/>
        </p:nvSpPr>
        <p:spPr>
          <a:xfrm>
            <a:off x="4962600" y="5113440"/>
            <a:ext cx="651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423"/>
          <p:cNvSpPr/>
          <p:nvPr/>
        </p:nvSpPr>
        <p:spPr>
          <a:xfrm>
            <a:off x="5091120" y="5113440"/>
            <a:ext cx="633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24"/>
          <p:cNvSpPr/>
          <p:nvPr/>
        </p:nvSpPr>
        <p:spPr>
          <a:xfrm>
            <a:off x="5219640" y="511344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425"/>
          <p:cNvSpPr/>
          <p:nvPr/>
        </p:nvSpPr>
        <p:spPr>
          <a:xfrm>
            <a:off x="5346720" y="5113440"/>
            <a:ext cx="651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426"/>
          <p:cNvSpPr/>
          <p:nvPr/>
        </p:nvSpPr>
        <p:spPr>
          <a:xfrm>
            <a:off x="5475240" y="511344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427"/>
          <p:cNvSpPr/>
          <p:nvPr/>
        </p:nvSpPr>
        <p:spPr>
          <a:xfrm>
            <a:off x="5602320" y="5113440"/>
            <a:ext cx="651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28"/>
          <p:cNvSpPr/>
          <p:nvPr/>
        </p:nvSpPr>
        <p:spPr>
          <a:xfrm>
            <a:off x="5730840" y="5113440"/>
            <a:ext cx="633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429"/>
          <p:cNvSpPr/>
          <p:nvPr/>
        </p:nvSpPr>
        <p:spPr>
          <a:xfrm>
            <a:off x="5859360" y="511344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30"/>
          <p:cNvSpPr/>
          <p:nvPr/>
        </p:nvSpPr>
        <p:spPr>
          <a:xfrm>
            <a:off x="5986440" y="5113440"/>
            <a:ext cx="651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431"/>
          <p:cNvSpPr/>
          <p:nvPr/>
        </p:nvSpPr>
        <p:spPr>
          <a:xfrm>
            <a:off x="6114960" y="511344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432"/>
          <p:cNvSpPr/>
          <p:nvPr/>
        </p:nvSpPr>
        <p:spPr>
          <a:xfrm>
            <a:off x="6245280" y="5113440"/>
            <a:ext cx="651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433"/>
          <p:cNvSpPr/>
          <p:nvPr/>
        </p:nvSpPr>
        <p:spPr>
          <a:xfrm>
            <a:off x="6373800" y="5113440"/>
            <a:ext cx="633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434"/>
          <p:cNvSpPr/>
          <p:nvPr/>
        </p:nvSpPr>
        <p:spPr>
          <a:xfrm>
            <a:off x="6502320" y="511344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35"/>
          <p:cNvSpPr/>
          <p:nvPr/>
        </p:nvSpPr>
        <p:spPr>
          <a:xfrm>
            <a:off x="6629400" y="5113440"/>
            <a:ext cx="651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436"/>
          <p:cNvSpPr/>
          <p:nvPr/>
        </p:nvSpPr>
        <p:spPr>
          <a:xfrm>
            <a:off x="6757920" y="511344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437"/>
          <p:cNvSpPr/>
          <p:nvPr/>
        </p:nvSpPr>
        <p:spPr>
          <a:xfrm>
            <a:off x="6885000" y="5113440"/>
            <a:ext cx="651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438"/>
          <p:cNvSpPr/>
          <p:nvPr/>
        </p:nvSpPr>
        <p:spPr>
          <a:xfrm>
            <a:off x="7013520" y="511344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439"/>
          <p:cNvSpPr/>
          <p:nvPr/>
        </p:nvSpPr>
        <p:spPr>
          <a:xfrm>
            <a:off x="7142040" y="511344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440"/>
          <p:cNvSpPr/>
          <p:nvPr/>
        </p:nvSpPr>
        <p:spPr>
          <a:xfrm>
            <a:off x="7269120" y="5113440"/>
            <a:ext cx="651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441"/>
          <p:cNvSpPr/>
          <p:nvPr/>
        </p:nvSpPr>
        <p:spPr>
          <a:xfrm>
            <a:off x="7397640" y="511344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442"/>
          <p:cNvSpPr/>
          <p:nvPr/>
        </p:nvSpPr>
        <p:spPr>
          <a:xfrm>
            <a:off x="7526160" y="511344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443"/>
          <p:cNvSpPr/>
          <p:nvPr/>
        </p:nvSpPr>
        <p:spPr>
          <a:xfrm>
            <a:off x="7653240" y="511344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444"/>
          <p:cNvSpPr/>
          <p:nvPr/>
        </p:nvSpPr>
        <p:spPr>
          <a:xfrm>
            <a:off x="7781760" y="511344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445"/>
          <p:cNvSpPr/>
          <p:nvPr/>
        </p:nvSpPr>
        <p:spPr>
          <a:xfrm>
            <a:off x="7908840" y="5113440"/>
            <a:ext cx="6516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446"/>
          <p:cNvSpPr/>
          <p:nvPr/>
        </p:nvSpPr>
        <p:spPr>
          <a:xfrm>
            <a:off x="8037360" y="5113440"/>
            <a:ext cx="63720" cy="11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reeform 447"/>
          <p:cNvSpPr/>
          <p:nvPr/>
        </p:nvSpPr>
        <p:spPr>
          <a:xfrm>
            <a:off x="8166240" y="5113440"/>
            <a:ext cx="36360" cy="11160"/>
          </a:xfrm>
          <a:custGeom>
            <a:avLst/>
            <a:gdLst>
              <a:gd name="textAreaLeft" fmla="*/ 0 w 36360"/>
              <a:gd name="textAreaRight" fmla="*/ 36720 w 363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3" h="7">
                <a:moveTo>
                  <a:pt x="23" y="4"/>
                </a:moveTo>
                <a:lnTo>
                  <a:pt x="23" y="0"/>
                </a:lnTo>
                <a:lnTo>
                  <a:pt x="0" y="0"/>
                </a:lnTo>
                <a:lnTo>
                  <a:pt x="0" y="7"/>
                </a:lnTo>
                <a:lnTo>
                  <a:pt x="23" y="7"/>
                </a:lnTo>
                <a:lnTo>
                  <a:pt x="23" y="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53560" y="314280"/>
            <a:ext cx="8744040" cy="49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TRUNCAD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9160" y="1128600"/>
            <a:ext cx="8823240" cy="5399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8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ssível contorn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finamento da parte frontal até a pos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ase plan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finamento da zona posterior até a front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13" descr=""/>
          <p:cNvPicPr/>
          <p:nvPr/>
        </p:nvPicPr>
        <p:blipFill>
          <a:blip r:embed="rId1"/>
          <a:stretch/>
        </p:blipFill>
        <p:spPr>
          <a:xfrm>
            <a:off x="1692360" y="627120"/>
            <a:ext cx="6995880" cy="4444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4"/>
          <p:cNvSpPr/>
          <p:nvPr/>
        </p:nvSpPr>
        <p:spPr>
          <a:xfrm>
            <a:off x="2118960" y="5191200"/>
            <a:ext cx="384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5"/>
          <p:cNvSpPr/>
          <p:nvPr/>
        </p:nvSpPr>
        <p:spPr>
          <a:xfrm>
            <a:off x="5024160" y="524844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8032680" y="5191200"/>
            <a:ext cx="362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7"/>
          <p:cNvSpPr/>
          <p:nvPr/>
        </p:nvSpPr>
        <p:spPr>
          <a:xfrm>
            <a:off x="2006640" y="5254560"/>
            <a:ext cx="561960" cy="56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8"/>
          <p:cNvSpPr/>
          <p:nvPr/>
        </p:nvSpPr>
        <p:spPr>
          <a:xfrm>
            <a:off x="4923000" y="5254560"/>
            <a:ext cx="561960" cy="56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9"/>
          <p:cNvSpPr/>
          <p:nvPr/>
        </p:nvSpPr>
        <p:spPr>
          <a:xfrm>
            <a:off x="7908840" y="5254560"/>
            <a:ext cx="561960" cy="56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414360"/>
            <a:ext cx="10287000" cy="46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TRUNCAD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12280" y="1630080"/>
            <a:ext cx="9310680" cy="439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senhado para ajustar à pálpebra inf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move alguns efeitos do prisma de lastro  (mais em dioptrias negativas do que positivas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Group 209"/>
          <p:cNvGrpSpPr/>
          <p:nvPr/>
        </p:nvGrpSpPr>
        <p:grpSpPr>
          <a:xfrm>
            <a:off x="1933560" y="1136520"/>
            <a:ext cx="966960" cy="4044960"/>
            <a:chOff x="1933560" y="1136520"/>
            <a:chExt cx="966960" cy="4044960"/>
          </a:xfrm>
        </p:grpSpPr>
        <p:sp>
          <p:nvSpPr>
            <p:cNvPr id="492" name="Freeform 9"/>
            <p:cNvSpPr/>
            <p:nvPr/>
          </p:nvSpPr>
          <p:spPr>
            <a:xfrm>
              <a:off x="2827440" y="1136520"/>
              <a:ext cx="73080" cy="40449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044960"/>
                <a:gd name="textAreaBottom" fmla="*/ 4045320 h 4044960"/>
              </a:gdLst>
              <a:ahLst/>
              <a:rect l="textAreaLeft" t="textAreaTop" r="textAreaRight" b="textAreaBottom"/>
              <a:pathLst>
                <a:path w="46" h="2548">
                  <a:moveTo>
                    <a:pt x="44" y="9"/>
                  </a:moveTo>
                  <a:lnTo>
                    <a:pt x="36" y="7"/>
                  </a:lnTo>
                  <a:lnTo>
                    <a:pt x="36" y="7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0" y="3"/>
                  </a:lnTo>
                  <a:lnTo>
                    <a:pt x="42" y="3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7"/>
                  </a:lnTo>
                  <a:lnTo>
                    <a:pt x="44" y="9"/>
                  </a:lnTo>
                  <a:lnTo>
                    <a:pt x="44" y="9"/>
                  </a:lnTo>
                  <a:close/>
                  <a:moveTo>
                    <a:pt x="0" y="2548"/>
                  </a:moveTo>
                  <a:lnTo>
                    <a:pt x="9" y="2546"/>
                  </a:lnTo>
                  <a:lnTo>
                    <a:pt x="9" y="2546"/>
                  </a:lnTo>
                  <a:lnTo>
                    <a:pt x="9" y="2546"/>
                  </a:lnTo>
                  <a:lnTo>
                    <a:pt x="9" y="2548"/>
                  </a:lnTo>
                  <a:lnTo>
                    <a:pt x="9" y="2548"/>
                  </a:lnTo>
                  <a:lnTo>
                    <a:pt x="9" y="2548"/>
                  </a:lnTo>
                  <a:lnTo>
                    <a:pt x="9" y="2548"/>
                  </a:lnTo>
                  <a:lnTo>
                    <a:pt x="9" y="2548"/>
                  </a:lnTo>
                  <a:lnTo>
                    <a:pt x="9" y="2548"/>
                  </a:lnTo>
                  <a:lnTo>
                    <a:pt x="7" y="2548"/>
                  </a:lnTo>
                  <a:lnTo>
                    <a:pt x="7" y="2548"/>
                  </a:lnTo>
                  <a:lnTo>
                    <a:pt x="6" y="2548"/>
                  </a:lnTo>
                  <a:lnTo>
                    <a:pt x="6" y="2548"/>
                  </a:lnTo>
                  <a:lnTo>
                    <a:pt x="4" y="2548"/>
                  </a:lnTo>
                  <a:lnTo>
                    <a:pt x="4" y="2548"/>
                  </a:lnTo>
                  <a:lnTo>
                    <a:pt x="2" y="2548"/>
                  </a:lnTo>
                  <a:lnTo>
                    <a:pt x="0" y="2548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10"/>
            <p:cNvSpPr/>
            <p:nvPr/>
          </p:nvSpPr>
          <p:spPr>
            <a:xfrm>
              <a:off x="2787480" y="1141200"/>
              <a:ext cx="109800" cy="40402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4040280"/>
                <a:gd name="textAreaBottom" fmla="*/ 4040280 h 4040280"/>
              </a:gdLst>
              <a:ahLst/>
              <a:rect l="textAreaLeft" t="textAreaTop" r="textAreaRight" b="textAreaBottom"/>
              <a:pathLst>
                <a:path w="69" h="2545">
                  <a:moveTo>
                    <a:pt x="69" y="2"/>
                  </a:moveTo>
                  <a:lnTo>
                    <a:pt x="65" y="0"/>
                  </a:lnTo>
                  <a:lnTo>
                    <a:pt x="65" y="2"/>
                  </a:lnTo>
                  <a:lnTo>
                    <a:pt x="63" y="2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59" y="6"/>
                  </a:lnTo>
                  <a:lnTo>
                    <a:pt x="57" y="6"/>
                  </a:lnTo>
                  <a:lnTo>
                    <a:pt x="57" y="8"/>
                  </a:lnTo>
                  <a:lnTo>
                    <a:pt x="56" y="8"/>
                  </a:lnTo>
                  <a:lnTo>
                    <a:pt x="69" y="12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9" y="8"/>
                  </a:lnTo>
                  <a:lnTo>
                    <a:pt x="69" y="6"/>
                  </a:lnTo>
                  <a:lnTo>
                    <a:pt x="69" y="6"/>
                  </a:lnTo>
                  <a:lnTo>
                    <a:pt x="69" y="4"/>
                  </a:lnTo>
                  <a:lnTo>
                    <a:pt x="69" y="2"/>
                  </a:lnTo>
                  <a:lnTo>
                    <a:pt x="69" y="2"/>
                  </a:lnTo>
                  <a:close/>
                  <a:moveTo>
                    <a:pt x="0" y="2545"/>
                  </a:moveTo>
                  <a:lnTo>
                    <a:pt x="11" y="2543"/>
                  </a:lnTo>
                  <a:lnTo>
                    <a:pt x="32" y="2539"/>
                  </a:lnTo>
                  <a:lnTo>
                    <a:pt x="32" y="2539"/>
                  </a:lnTo>
                  <a:lnTo>
                    <a:pt x="32" y="2539"/>
                  </a:lnTo>
                  <a:lnTo>
                    <a:pt x="32" y="2541"/>
                  </a:lnTo>
                  <a:lnTo>
                    <a:pt x="32" y="2541"/>
                  </a:lnTo>
                  <a:lnTo>
                    <a:pt x="32" y="2543"/>
                  </a:lnTo>
                  <a:lnTo>
                    <a:pt x="34" y="2543"/>
                  </a:lnTo>
                  <a:lnTo>
                    <a:pt x="34" y="2545"/>
                  </a:lnTo>
                  <a:lnTo>
                    <a:pt x="34" y="2545"/>
                  </a:lnTo>
                  <a:lnTo>
                    <a:pt x="31" y="2545"/>
                  </a:lnTo>
                  <a:lnTo>
                    <a:pt x="25" y="2545"/>
                  </a:lnTo>
                  <a:lnTo>
                    <a:pt x="21" y="2545"/>
                  </a:lnTo>
                  <a:lnTo>
                    <a:pt x="17" y="2545"/>
                  </a:lnTo>
                  <a:lnTo>
                    <a:pt x="13" y="2545"/>
                  </a:lnTo>
                  <a:lnTo>
                    <a:pt x="9" y="2545"/>
                  </a:lnTo>
                  <a:lnTo>
                    <a:pt x="6" y="2545"/>
                  </a:lnTo>
                  <a:lnTo>
                    <a:pt x="0" y="2545"/>
                  </a:lnTo>
                  <a:close/>
                </a:path>
              </a:pathLst>
            </a:custGeom>
            <a:solidFill>
              <a:srgbClr val="01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11"/>
            <p:cNvSpPr/>
            <p:nvPr/>
          </p:nvSpPr>
          <p:spPr>
            <a:xfrm>
              <a:off x="2741760" y="1147680"/>
              <a:ext cx="155520" cy="40338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033800"/>
                <a:gd name="textAreaBottom" fmla="*/ 4034160 h 4033800"/>
              </a:gdLst>
              <a:ahLst/>
              <a:rect l="textAreaLeft" t="textAreaTop" r="textAreaRight" b="textAreaBottom"/>
              <a:pathLst>
                <a:path w="98" h="2541">
                  <a:moveTo>
                    <a:pt x="98" y="2"/>
                  </a:moveTo>
                  <a:lnTo>
                    <a:pt x="90" y="0"/>
                  </a:lnTo>
                  <a:lnTo>
                    <a:pt x="88" y="2"/>
                  </a:lnTo>
                  <a:lnTo>
                    <a:pt x="86" y="2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6"/>
                  </a:lnTo>
                  <a:lnTo>
                    <a:pt x="83" y="8"/>
                  </a:lnTo>
                  <a:lnTo>
                    <a:pt x="81" y="8"/>
                  </a:lnTo>
                  <a:lnTo>
                    <a:pt x="79" y="10"/>
                  </a:lnTo>
                  <a:lnTo>
                    <a:pt x="96" y="14"/>
                  </a:lnTo>
                  <a:lnTo>
                    <a:pt x="96" y="12"/>
                  </a:lnTo>
                  <a:lnTo>
                    <a:pt x="96" y="10"/>
                  </a:lnTo>
                  <a:lnTo>
                    <a:pt x="96" y="10"/>
                  </a:lnTo>
                  <a:lnTo>
                    <a:pt x="98" y="8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98" y="4"/>
                  </a:lnTo>
                  <a:lnTo>
                    <a:pt x="98" y="2"/>
                  </a:lnTo>
                  <a:close/>
                  <a:moveTo>
                    <a:pt x="54" y="2541"/>
                  </a:moveTo>
                  <a:lnTo>
                    <a:pt x="63" y="2539"/>
                  </a:lnTo>
                  <a:lnTo>
                    <a:pt x="61" y="2539"/>
                  </a:lnTo>
                  <a:lnTo>
                    <a:pt x="61" y="2537"/>
                  </a:lnTo>
                  <a:lnTo>
                    <a:pt x="61" y="2535"/>
                  </a:lnTo>
                  <a:lnTo>
                    <a:pt x="61" y="2535"/>
                  </a:lnTo>
                  <a:lnTo>
                    <a:pt x="61" y="2533"/>
                  </a:lnTo>
                  <a:lnTo>
                    <a:pt x="61" y="2531"/>
                  </a:lnTo>
                  <a:lnTo>
                    <a:pt x="61" y="2531"/>
                  </a:lnTo>
                  <a:lnTo>
                    <a:pt x="61" y="2529"/>
                  </a:lnTo>
                  <a:lnTo>
                    <a:pt x="38" y="2535"/>
                  </a:lnTo>
                  <a:lnTo>
                    <a:pt x="0" y="2541"/>
                  </a:lnTo>
                  <a:lnTo>
                    <a:pt x="8" y="2541"/>
                  </a:lnTo>
                  <a:lnTo>
                    <a:pt x="13" y="2541"/>
                  </a:lnTo>
                  <a:lnTo>
                    <a:pt x="21" y="2541"/>
                  </a:lnTo>
                  <a:lnTo>
                    <a:pt x="27" y="2541"/>
                  </a:lnTo>
                  <a:lnTo>
                    <a:pt x="35" y="2541"/>
                  </a:lnTo>
                  <a:lnTo>
                    <a:pt x="40" y="2541"/>
                  </a:lnTo>
                  <a:lnTo>
                    <a:pt x="48" y="2541"/>
                  </a:lnTo>
                  <a:lnTo>
                    <a:pt x="54" y="2541"/>
                  </a:lnTo>
                  <a:close/>
                </a:path>
              </a:pathLst>
            </a:custGeom>
            <a:solidFill>
              <a:srgbClr val="0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12"/>
            <p:cNvSpPr/>
            <p:nvPr/>
          </p:nvSpPr>
          <p:spPr>
            <a:xfrm>
              <a:off x="2692440" y="1153800"/>
              <a:ext cx="204840" cy="402768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4027680"/>
                <a:gd name="textAreaBottom" fmla="*/ 4028040 h 4027680"/>
              </a:gdLst>
              <a:ahLst/>
              <a:rect l="textAreaLeft" t="textAreaTop" r="textAreaRight" b="textAreaBottom"/>
              <a:pathLst>
                <a:path w="129" h="2537">
                  <a:moveTo>
                    <a:pt x="129" y="4"/>
                  </a:moveTo>
                  <a:lnTo>
                    <a:pt x="116" y="0"/>
                  </a:lnTo>
                  <a:lnTo>
                    <a:pt x="114" y="2"/>
                  </a:lnTo>
                  <a:lnTo>
                    <a:pt x="114" y="4"/>
                  </a:lnTo>
                  <a:lnTo>
                    <a:pt x="112" y="4"/>
                  </a:lnTo>
                  <a:lnTo>
                    <a:pt x="110" y="6"/>
                  </a:lnTo>
                  <a:lnTo>
                    <a:pt x="110" y="6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6" y="10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2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8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9" y="4"/>
                  </a:lnTo>
                  <a:close/>
                  <a:moveTo>
                    <a:pt x="60" y="2537"/>
                  </a:moveTo>
                  <a:lnTo>
                    <a:pt x="71" y="2535"/>
                  </a:lnTo>
                  <a:lnTo>
                    <a:pt x="92" y="2531"/>
                  </a:lnTo>
                  <a:lnTo>
                    <a:pt x="92" y="2529"/>
                  </a:lnTo>
                  <a:lnTo>
                    <a:pt x="92" y="2527"/>
                  </a:lnTo>
                  <a:lnTo>
                    <a:pt x="92" y="2527"/>
                  </a:lnTo>
                  <a:lnTo>
                    <a:pt x="91" y="2525"/>
                  </a:lnTo>
                  <a:lnTo>
                    <a:pt x="91" y="2523"/>
                  </a:lnTo>
                  <a:lnTo>
                    <a:pt x="91" y="2523"/>
                  </a:lnTo>
                  <a:lnTo>
                    <a:pt x="91" y="2521"/>
                  </a:lnTo>
                  <a:lnTo>
                    <a:pt x="91" y="2519"/>
                  </a:lnTo>
                  <a:lnTo>
                    <a:pt x="69" y="2525"/>
                  </a:lnTo>
                  <a:lnTo>
                    <a:pt x="6" y="2537"/>
                  </a:lnTo>
                  <a:lnTo>
                    <a:pt x="0" y="2537"/>
                  </a:lnTo>
                  <a:lnTo>
                    <a:pt x="8" y="2537"/>
                  </a:lnTo>
                  <a:lnTo>
                    <a:pt x="16" y="2537"/>
                  </a:lnTo>
                  <a:lnTo>
                    <a:pt x="23" y="2537"/>
                  </a:lnTo>
                  <a:lnTo>
                    <a:pt x="31" y="2537"/>
                  </a:lnTo>
                  <a:lnTo>
                    <a:pt x="39" y="2537"/>
                  </a:lnTo>
                  <a:lnTo>
                    <a:pt x="46" y="2537"/>
                  </a:lnTo>
                  <a:lnTo>
                    <a:pt x="52" y="2537"/>
                  </a:lnTo>
                  <a:lnTo>
                    <a:pt x="60" y="2537"/>
                  </a:lnTo>
                  <a:close/>
                </a:path>
              </a:pathLst>
            </a:custGeom>
            <a:solidFill>
              <a:srgbClr val="03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13"/>
            <p:cNvSpPr/>
            <p:nvPr/>
          </p:nvSpPr>
          <p:spPr>
            <a:xfrm>
              <a:off x="2629080" y="1163520"/>
              <a:ext cx="264960" cy="40179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017960"/>
                <a:gd name="textAreaBottom" fmla="*/ 4018320 h 4017960"/>
              </a:gdLst>
              <a:ahLst/>
              <a:rect l="textAreaLeft" t="textAreaTop" r="textAreaRight" b="textAreaBottom"/>
              <a:pathLst>
                <a:path w="167" h="2531">
                  <a:moveTo>
                    <a:pt x="167" y="4"/>
                  </a:moveTo>
                  <a:lnTo>
                    <a:pt x="150" y="0"/>
                  </a:lnTo>
                  <a:lnTo>
                    <a:pt x="150" y="0"/>
                  </a:lnTo>
                  <a:lnTo>
                    <a:pt x="148" y="2"/>
                  </a:lnTo>
                  <a:lnTo>
                    <a:pt x="146" y="2"/>
                  </a:lnTo>
                  <a:lnTo>
                    <a:pt x="146" y="4"/>
                  </a:lnTo>
                  <a:lnTo>
                    <a:pt x="144" y="4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0" y="7"/>
                  </a:lnTo>
                  <a:lnTo>
                    <a:pt x="165" y="13"/>
                  </a:lnTo>
                  <a:lnTo>
                    <a:pt x="165" y="11"/>
                  </a:lnTo>
                  <a:lnTo>
                    <a:pt x="165" y="11"/>
                  </a:lnTo>
                  <a:lnTo>
                    <a:pt x="165" y="9"/>
                  </a:lnTo>
                  <a:lnTo>
                    <a:pt x="167" y="7"/>
                  </a:lnTo>
                  <a:lnTo>
                    <a:pt x="167" y="7"/>
                  </a:lnTo>
                  <a:lnTo>
                    <a:pt x="167" y="6"/>
                  </a:lnTo>
                  <a:lnTo>
                    <a:pt x="167" y="4"/>
                  </a:lnTo>
                  <a:lnTo>
                    <a:pt x="167" y="4"/>
                  </a:lnTo>
                  <a:close/>
                  <a:moveTo>
                    <a:pt x="71" y="2531"/>
                  </a:moveTo>
                  <a:lnTo>
                    <a:pt x="109" y="2525"/>
                  </a:lnTo>
                  <a:lnTo>
                    <a:pt x="132" y="2519"/>
                  </a:lnTo>
                  <a:lnTo>
                    <a:pt x="131" y="2517"/>
                  </a:lnTo>
                  <a:lnTo>
                    <a:pt x="131" y="2517"/>
                  </a:lnTo>
                  <a:lnTo>
                    <a:pt x="131" y="2515"/>
                  </a:lnTo>
                  <a:lnTo>
                    <a:pt x="131" y="2513"/>
                  </a:lnTo>
                  <a:lnTo>
                    <a:pt x="131" y="2513"/>
                  </a:lnTo>
                  <a:lnTo>
                    <a:pt x="131" y="2511"/>
                  </a:lnTo>
                  <a:lnTo>
                    <a:pt x="131" y="2509"/>
                  </a:lnTo>
                  <a:lnTo>
                    <a:pt x="129" y="2509"/>
                  </a:lnTo>
                  <a:lnTo>
                    <a:pt x="108" y="2513"/>
                  </a:lnTo>
                  <a:lnTo>
                    <a:pt x="44" y="2525"/>
                  </a:lnTo>
                  <a:lnTo>
                    <a:pt x="0" y="2531"/>
                  </a:lnTo>
                  <a:lnTo>
                    <a:pt x="10" y="2531"/>
                  </a:lnTo>
                  <a:lnTo>
                    <a:pt x="17" y="2531"/>
                  </a:lnTo>
                  <a:lnTo>
                    <a:pt x="27" y="2531"/>
                  </a:lnTo>
                  <a:lnTo>
                    <a:pt x="37" y="2531"/>
                  </a:lnTo>
                  <a:lnTo>
                    <a:pt x="44" y="2531"/>
                  </a:lnTo>
                  <a:lnTo>
                    <a:pt x="54" y="2531"/>
                  </a:lnTo>
                  <a:lnTo>
                    <a:pt x="61" y="2531"/>
                  </a:lnTo>
                  <a:lnTo>
                    <a:pt x="71" y="2531"/>
                  </a:lnTo>
                  <a:close/>
                </a:path>
              </a:pathLst>
            </a:custGeom>
            <a:solidFill>
              <a:srgbClr val="04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14"/>
            <p:cNvSpPr/>
            <p:nvPr/>
          </p:nvSpPr>
          <p:spPr>
            <a:xfrm>
              <a:off x="2543040" y="1169640"/>
              <a:ext cx="351000" cy="401184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4011840"/>
                <a:gd name="textAreaBottom" fmla="*/ 4012200 h 4011840"/>
              </a:gdLst>
              <a:ahLst/>
              <a:rect l="textAreaLeft" t="textAreaTop" r="textAreaRight" b="textAreaBottom"/>
              <a:pathLst>
                <a:path w="221" h="2527">
                  <a:moveTo>
                    <a:pt x="221" y="3"/>
                  </a:moveTo>
                  <a:lnTo>
                    <a:pt x="200" y="0"/>
                  </a:lnTo>
                  <a:lnTo>
                    <a:pt x="198" y="0"/>
                  </a:lnTo>
                  <a:lnTo>
                    <a:pt x="196" y="2"/>
                  </a:lnTo>
                  <a:lnTo>
                    <a:pt x="196" y="2"/>
                  </a:lnTo>
                  <a:lnTo>
                    <a:pt x="194" y="3"/>
                  </a:lnTo>
                  <a:lnTo>
                    <a:pt x="192" y="3"/>
                  </a:lnTo>
                  <a:lnTo>
                    <a:pt x="192" y="5"/>
                  </a:lnTo>
                  <a:lnTo>
                    <a:pt x="190" y="7"/>
                  </a:lnTo>
                  <a:lnTo>
                    <a:pt x="190" y="7"/>
                  </a:lnTo>
                  <a:lnTo>
                    <a:pt x="219" y="15"/>
                  </a:lnTo>
                  <a:lnTo>
                    <a:pt x="219" y="13"/>
                  </a:lnTo>
                  <a:lnTo>
                    <a:pt x="219" y="11"/>
                  </a:lnTo>
                  <a:lnTo>
                    <a:pt x="219" y="11"/>
                  </a:lnTo>
                  <a:lnTo>
                    <a:pt x="219" y="9"/>
                  </a:lnTo>
                  <a:lnTo>
                    <a:pt x="219" y="7"/>
                  </a:lnTo>
                  <a:lnTo>
                    <a:pt x="219" y="7"/>
                  </a:lnTo>
                  <a:lnTo>
                    <a:pt x="219" y="5"/>
                  </a:lnTo>
                  <a:lnTo>
                    <a:pt x="221" y="3"/>
                  </a:lnTo>
                  <a:close/>
                  <a:moveTo>
                    <a:pt x="94" y="2527"/>
                  </a:moveTo>
                  <a:lnTo>
                    <a:pt x="100" y="2527"/>
                  </a:lnTo>
                  <a:lnTo>
                    <a:pt x="163" y="2515"/>
                  </a:lnTo>
                  <a:lnTo>
                    <a:pt x="185" y="2509"/>
                  </a:lnTo>
                  <a:lnTo>
                    <a:pt x="185" y="2509"/>
                  </a:lnTo>
                  <a:lnTo>
                    <a:pt x="185" y="2507"/>
                  </a:lnTo>
                  <a:lnTo>
                    <a:pt x="185" y="2505"/>
                  </a:lnTo>
                  <a:lnTo>
                    <a:pt x="183" y="2505"/>
                  </a:lnTo>
                  <a:lnTo>
                    <a:pt x="183" y="2503"/>
                  </a:lnTo>
                  <a:lnTo>
                    <a:pt x="183" y="2502"/>
                  </a:lnTo>
                  <a:lnTo>
                    <a:pt x="183" y="2502"/>
                  </a:lnTo>
                  <a:lnTo>
                    <a:pt x="183" y="2500"/>
                  </a:lnTo>
                  <a:lnTo>
                    <a:pt x="162" y="2505"/>
                  </a:lnTo>
                  <a:lnTo>
                    <a:pt x="98" y="2517"/>
                  </a:lnTo>
                  <a:lnTo>
                    <a:pt x="33" y="2525"/>
                  </a:lnTo>
                  <a:lnTo>
                    <a:pt x="0" y="2527"/>
                  </a:lnTo>
                  <a:lnTo>
                    <a:pt x="12" y="2527"/>
                  </a:lnTo>
                  <a:lnTo>
                    <a:pt x="23" y="2527"/>
                  </a:lnTo>
                  <a:lnTo>
                    <a:pt x="35" y="2527"/>
                  </a:lnTo>
                  <a:lnTo>
                    <a:pt x="48" y="2527"/>
                  </a:lnTo>
                  <a:lnTo>
                    <a:pt x="60" y="2527"/>
                  </a:lnTo>
                  <a:lnTo>
                    <a:pt x="71" y="2527"/>
                  </a:lnTo>
                  <a:lnTo>
                    <a:pt x="83" y="2527"/>
                  </a:lnTo>
                  <a:lnTo>
                    <a:pt x="94" y="2527"/>
                  </a:lnTo>
                  <a:close/>
                </a:path>
              </a:pathLst>
            </a:custGeom>
            <a:solidFill>
              <a:srgbClr val="05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15"/>
            <p:cNvSpPr/>
            <p:nvPr/>
          </p:nvSpPr>
          <p:spPr>
            <a:xfrm>
              <a:off x="2327400" y="1174680"/>
              <a:ext cx="563400" cy="4006800"/>
            </a:xfrm>
            <a:custGeom>
              <a:avLst/>
              <a:gdLst>
                <a:gd name="textAreaLeft" fmla="*/ 0 w 563400"/>
                <a:gd name="textAreaRight" fmla="*/ 563760 w 563400"/>
                <a:gd name="textAreaTop" fmla="*/ 0 h 4006800"/>
                <a:gd name="textAreaBottom" fmla="*/ 4007160 h 4006800"/>
              </a:gdLst>
              <a:ahLst/>
              <a:rect l="textAreaLeft" t="textAreaTop" r="textAreaRight" b="textAreaBottom"/>
              <a:pathLst>
                <a:path w="355" h="2524">
                  <a:moveTo>
                    <a:pt x="355" y="6"/>
                  </a:moveTo>
                  <a:lnTo>
                    <a:pt x="330" y="0"/>
                  </a:lnTo>
                  <a:lnTo>
                    <a:pt x="328" y="0"/>
                  </a:lnTo>
                  <a:lnTo>
                    <a:pt x="328" y="2"/>
                  </a:lnTo>
                  <a:lnTo>
                    <a:pt x="326" y="4"/>
                  </a:lnTo>
                  <a:lnTo>
                    <a:pt x="326" y="4"/>
                  </a:lnTo>
                  <a:lnTo>
                    <a:pt x="324" y="6"/>
                  </a:lnTo>
                  <a:lnTo>
                    <a:pt x="322" y="6"/>
                  </a:lnTo>
                  <a:lnTo>
                    <a:pt x="322" y="8"/>
                  </a:lnTo>
                  <a:lnTo>
                    <a:pt x="321" y="8"/>
                  </a:lnTo>
                  <a:lnTo>
                    <a:pt x="353" y="16"/>
                  </a:lnTo>
                  <a:lnTo>
                    <a:pt x="353" y="16"/>
                  </a:lnTo>
                  <a:lnTo>
                    <a:pt x="353" y="14"/>
                  </a:lnTo>
                  <a:lnTo>
                    <a:pt x="355" y="12"/>
                  </a:lnTo>
                  <a:lnTo>
                    <a:pt x="355" y="12"/>
                  </a:lnTo>
                  <a:lnTo>
                    <a:pt x="355" y="10"/>
                  </a:lnTo>
                  <a:lnTo>
                    <a:pt x="355" y="8"/>
                  </a:lnTo>
                  <a:lnTo>
                    <a:pt x="355" y="8"/>
                  </a:lnTo>
                  <a:lnTo>
                    <a:pt x="355" y="6"/>
                  </a:lnTo>
                  <a:close/>
                  <a:moveTo>
                    <a:pt x="190" y="2524"/>
                  </a:moveTo>
                  <a:lnTo>
                    <a:pt x="234" y="2518"/>
                  </a:lnTo>
                  <a:lnTo>
                    <a:pt x="298" y="2506"/>
                  </a:lnTo>
                  <a:lnTo>
                    <a:pt x="319" y="2502"/>
                  </a:lnTo>
                  <a:lnTo>
                    <a:pt x="319" y="2500"/>
                  </a:lnTo>
                  <a:lnTo>
                    <a:pt x="319" y="2499"/>
                  </a:lnTo>
                  <a:lnTo>
                    <a:pt x="319" y="2499"/>
                  </a:lnTo>
                  <a:lnTo>
                    <a:pt x="319" y="2497"/>
                  </a:lnTo>
                  <a:lnTo>
                    <a:pt x="319" y="2495"/>
                  </a:lnTo>
                  <a:lnTo>
                    <a:pt x="319" y="2495"/>
                  </a:lnTo>
                  <a:lnTo>
                    <a:pt x="319" y="2493"/>
                  </a:lnTo>
                  <a:lnTo>
                    <a:pt x="317" y="2491"/>
                  </a:lnTo>
                  <a:lnTo>
                    <a:pt x="296" y="2497"/>
                  </a:lnTo>
                  <a:lnTo>
                    <a:pt x="232" y="2508"/>
                  </a:lnTo>
                  <a:lnTo>
                    <a:pt x="169" y="2516"/>
                  </a:lnTo>
                  <a:lnTo>
                    <a:pt x="104" y="2522"/>
                  </a:lnTo>
                  <a:lnTo>
                    <a:pt x="38" y="2524"/>
                  </a:lnTo>
                  <a:lnTo>
                    <a:pt x="0" y="2522"/>
                  </a:lnTo>
                  <a:lnTo>
                    <a:pt x="0" y="2522"/>
                  </a:lnTo>
                  <a:lnTo>
                    <a:pt x="0" y="2522"/>
                  </a:lnTo>
                  <a:lnTo>
                    <a:pt x="0" y="2522"/>
                  </a:lnTo>
                  <a:lnTo>
                    <a:pt x="0" y="2524"/>
                  </a:lnTo>
                  <a:lnTo>
                    <a:pt x="0" y="2524"/>
                  </a:lnTo>
                  <a:lnTo>
                    <a:pt x="0" y="2524"/>
                  </a:lnTo>
                  <a:lnTo>
                    <a:pt x="0" y="2524"/>
                  </a:lnTo>
                  <a:lnTo>
                    <a:pt x="0" y="2524"/>
                  </a:lnTo>
                  <a:lnTo>
                    <a:pt x="27" y="2524"/>
                  </a:lnTo>
                  <a:lnTo>
                    <a:pt x="50" y="2524"/>
                  </a:lnTo>
                  <a:lnTo>
                    <a:pt x="75" y="2524"/>
                  </a:lnTo>
                  <a:lnTo>
                    <a:pt x="98" y="2524"/>
                  </a:lnTo>
                  <a:lnTo>
                    <a:pt x="121" y="2524"/>
                  </a:lnTo>
                  <a:lnTo>
                    <a:pt x="144" y="2524"/>
                  </a:lnTo>
                  <a:lnTo>
                    <a:pt x="167" y="2524"/>
                  </a:lnTo>
                  <a:lnTo>
                    <a:pt x="190" y="2524"/>
                  </a:lnTo>
                  <a:close/>
                </a:path>
              </a:pathLst>
            </a:custGeom>
            <a:solidFill>
              <a:srgbClr val="06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16"/>
            <p:cNvSpPr/>
            <p:nvPr/>
          </p:nvSpPr>
          <p:spPr>
            <a:xfrm>
              <a:off x="2324160" y="1180800"/>
              <a:ext cx="566640" cy="4000680"/>
            </a:xfrm>
            <a:custGeom>
              <a:avLst/>
              <a:gdLst>
                <a:gd name="textAreaLeft" fmla="*/ 0 w 566640"/>
                <a:gd name="textAreaRight" fmla="*/ 567000 w 566640"/>
                <a:gd name="textAreaTop" fmla="*/ 0 h 4000680"/>
                <a:gd name="textAreaBottom" fmla="*/ 4001040 h 4000680"/>
              </a:gdLst>
              <a:ahLst/>
              <a:rect l="textAreaLeft" t="textAreaTop" r="textAreaRight" b="textAreaBottom"/>
              <a:pathLst>
                <a:path w="357" h="2520">
                  <a:moveTo>
                    <a:pt x="357" y="8"/>
                  </a:moveTo>
                  <a:lnTo>
                    <a:pt x="328" y="0"/>
                  </a:lnTo>
                  <a:lnTo>
                    <a:pt x="326" y="2"/>
                  </a:lnTo>
                  <a:lnTo>
                    <a:pt x="324" y="2"/>
                  </a:lnTo>
                  <a:lnTo>
                    <a:pt x="324" y="4"/>
                  </a:lnTo>
                  <a:lnTo>
                    <a:pt x="323" y="4"/>
                  </a:lnTo>
                  <a:lnTo>
                    <a:pt x="321" y="6"/>
                  </a:lnTo>
                  <a:lnTo>
                    <a:pt x="321" y="6"/>
                  </a:lnTo>
                  <a:lnTo>
                    <a:pt x="319" y="8"/>
                  </a:lnTo>
                  <a:lnTo>
                    <a:pt x="317" y="8"/>
                  </a:lnTo>
                  <a:lnTo>
                    <a:pt x="355" y="18"/>
                  </a:lnTo>
                  <a:lnTo>
                    <a:pt x="355" y="16"/>
                  </a:lnTo>
                  <a:lnTo>
                    <a:pt x="355" y="16"/>
                  </a:lnTo>
                  <a:lnTo>
                    <a:pt x="355" y="14"/>
                  </a:lnTo>
                  <a:lnTo>
                    <a:pt x="355" y="12"/>
                  </a:lnTo>
                  <a:lnTo>
                    <a:pt x="355" y="12"/>
                  </a:lnTo>
                  <a:lnTo>
                    <a:pt x="355" y="10"/>
                  </a:lnTo>
                  <a:lnTo>
                    <a:pt x="357" y="8"/>
                  </a:lnTo>
                  <a:lnTo>
                    <a:pt x="357" y="8"/>
                  </a:lnTo>
                  <a:close/>
                  <a:moveTo>
                    <a:pt x="138" y="2520"/>
                  </a:moveTo>
                  <a:lnTo>
                    <a:pt x="171" y="2518"/>
                  </a:lnTo>
                  <a:lnTo>
                    <a:pt x="236" y="2510"/>
                  </a:lnTo>
                  <a:lnTo>
                    <a:pt x="300" y="2498"/>
                  </a:lnTo>
                  <a:lnTo>
                    <a:pt x="321" y="2493"/>
                  </a:lnTo>
                  <a:lnTo>
                    <a:pt x="321" y="2491"/>
                  </a:lnTo>
                  <a:lnTo>
                    <a:pt x="321" y="2491"/>
                  </a:lnTo>
                  <a:lnTo>
                    <a:pt x="321" y="2489"/>
                  </a:lnTo>
                  <a:lnTo>
                    <a:pt x="319" y="2487"/>
                  </a:lnTo>
                  <a:lnTo>
                    <a:pt x="319" y="2487"/>
                  </a:lnTo>
                  <a:lnTo>
                    <a:pt x="319" y="2485"/>
                  </a:lnTo>
                  <a:lnTo>
                    <a:pt x="319" y="2483"/>
                  </a:lnTo>
                  <a:lnTo>
                    <a:pt x="319" y="2483"/>
                  </a:lnTo>
                  <a:lnTo>
                    <a:pt x="296" y="2487"/>
                  </a:lnTo>
                  <a:lnTo>
                    <a:pt x="234" y="2498"/>
                  </a:lnTo>
                  <a:lnTo>
                    <a:pt x="171" y="2506"/>
                  </a:lnTo>
                  <a:lnTo>
                    <a:pt x="106" y="2512"/>
                  </a:lnTo>
                  <a:lnTo>
                    <a:pt x="40" y="2514"/>
                  </a:lnTo>
                  <a:lnTo>
                    <a:pt x="0" y="2512"/>
                  </a:lnTo>
                  <a:lnTo>
                    <a:pt x="0" y="2514"/>
                  </a:lnTo>
                  <a:lnTo>
                    <a:pt x="0" y="2514"/>
                  </a:lnTo>
                  <a:lnTo>
                    <a:pt x="2" y="2516"/>
                  </a:lnTo>
                  <a:lnTo>
                    <a:pt x="2" y="2516"/>
                  </a:lnTo>
                  <a:lnTo>
                    <a:pt x="2" y="2518"/>
                  </a:lnTo>
                  <a:lnTo>
                    <a:pt x="2" y="2518"/>
                  </a:lnTo>
                  <a:lnTo>
                    <a:pt x="2" y="2520"/>
                  </a:lnTo>
                  <a:lnTo>
                    <a:pt x="2" y="2520"/>
                  </a:lnTo>
                  <a:lnTo>
                    <a:pt x="21" y="2520"/>
                  </a:lnTo>
                  <a:lnTo>
                    <a:pt x="38" y="2520"/>
                  </a:lnTo>
                  <a:lnTo>
                    <a:pt x="56" y="2520"/>
                  </a:lnTo>
                  <a:lnTo>
                    <a:pt x="73" y="2520"/>
                  </a:lnTo>
                  <a:lnTo>
                    <a:pt x="88" y="2520"/>
                  </a:lnTo>
                  <a:lnTo>
                    <a:pt x="106" y="2520"/>
                  </a:lnTo>
                  <a:lnTo>
                    <a:pt x="121" y="2520"/>
                  </a:lnTo>
                  <a:lnTo>
                    <a:pt x="138" y="2520"/>
                  </a:lnTo>
                  <a:close/>
                </a:path>
              </a:pathLst>
            </a:custGeom>
            <a:solidFill>
              <a:srgbClr val="07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17"/>
            <p:cNvSpPr/>
            <p:nvPr/>
          </p:nvSpPr>
          <p:spPr>
            <a:xfrm>
              <a:off x="2320920" y="1187280"/>
              <a:ext cx="566640" cy="3994200"/>
            </a:xfrm>
            <a:custGeom>
              <a:avLst/>
              <a:gdLst>
                <a:gd name="textAreaLeft" fmla="*/ 0 w 566640"/>
                <a:gd name="textAreaRight" fmla="*/ 567000 w 566640"/>
                <a:gd name="textAreaTop" fmla="*/ 0 h 3994200"/>
                <a:gd name="textAreaBottom" fmla="*/ 3994560 h 3994200"/>
              </a:gdLst>
              <a:ahLst/>
              <a:rect l="textAreaLeft" t="textAreaTop" r="textAreaRight" b="textAreaBottom"/>
              <a:pathLst>
                <a:path w="357" h="2516">
                  <a:moveTo>
                    <a:pt x="357" y="8"/>
                  </a:moveTo>
                  <a:lnTo>
                    <a:pt x="325" y="0"/>
                  </a:lnTo>
                  <a:lnTo>
                    <a:pt x="323" y="2"/>
                  </a:lnTo>
                  <a:lnTo>
                    <a:pt x="323" y="2"/>
                  </a:lnTo>
                  <a:lnTo>
                    <a:pt x="321" y="4"/>
                  </a:lnTo>
                  <a:lnTo>
                    <a:pt x="321" y="4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7" y="8"/>
                  </a:lnTo>
                  <a:lnTo>
                    <a:pt x="315" y="10"/>
                  </a:lnTo>
                  <a:lnTo>
                    <a:pt x="355" y="17"/>
                  </a:lnTo>
                  <a:lnTo>
                    <a:pt x="355" y="17"/>
                  </a:lnTo>
                  <a:lnTo>
                    <a:pt x="355" y="15"/>
                  </a:lnTo>
                  <a:lnTo>
                    <a:pt x="357" y="14"/>
                  </a:lnTo>
                  <a:lnTo>
                    <a:pt x="357" y="14"/>
                  </a:lnTo>
                  <a:lnTo>
                    <a:pt x="357" y="12"/>
                  </a:lnTo>
                  <a:lnTo>
                    <a:pt x="357" y="12"/>
                  </a:lnTo>
                  <a:lnTo>
                    <a:pt x="357" y="10"/>
                  </a:lnTo>
                  <a:lnTo>
                    <a:pt x="357" y="8"/>
                  </a:lnTo>
                  <a:close/>
                  <a:moveTo>
                    <a:pt x="4" y="2514"/>
                  </a:moveTo>
                  <a:lnTo>
                    <a:pt x="42" y="2516"/>
                  </a:lnTo>
                  <a:lnTo>
                    <a:pt x="108" y="2514"/>
                  </a:lnTo>
                  <a:lnTo>
                    <a:pt x="173" y="2508"/>
                  </a:lnTo>
                  <a:lnTo>
                    <a:pt x="236" y="2500"/>
                  </a:lnTo>
                  <a:lnTo>
                    <a:pt x="300" y="2489"/>
                  </a:lnTo>
                  <a:lnTo>
                    <a:pt x="321" y="2483"/>
                  </a:lnTo>
                  <a:lnTo>
                    <a:pt x="321" y="2483"/>
                  </a:lnTo>
                  <a:lnTo>
                    <a:pt x="321" y="2481"/>
                  </a:lnTo>
                  <a:lnTo>
                    <a:pt x="321" y="2479"/>
                  </a:lnTo>
                  <a:lnTo>
                    <a:pt x="321" y="2479"/>
                  </a:lnTo>
                  <a:lnTo>
                    <a:pt x="321" y="2477"/>
                  </a:lnTo>
                  <a:lnTo>
                    <a:pt x="321" y="2475"/>
                  </a:lnTo>
                  <a:lnTo>
                    <a:pt x="321" y="2475"/>
                  </a:lnTo>
                  <a:lnTo>
                    <a:pt x="321" y="2473"/>
                  </a:lnTo>
                  <a:lnTo>
                    <a:pt x="298" y="2479"/>
                  </a:lnTo>
                  <a:lnTo>
                    <a:pt x="236" y="2491"/>
                  </a:lnTo>
                  <a:lnTo>
                    <a:pt x="173" y="2498"/>
                  </a:lnTo>
                  <a:lnTo>
                    <a:pt x="108" y="2502"/>
                  </a:lnTo>
                  <a:lnTo>
                    <a:pt x="42" y="2504"/>
                  </a:lnTo>
                  <a:lnTo>
                    <a:pt x="0" y="2504"/>
                  </a:lnTo>
                  <a:lnTo>
                    <a:pt x="0" y="2504"/>
                  </a:lnTo>
                  <a:lnTo>
                    <a:pt x="2" y="2506"/>
                  </a:lnTo>
                  <a:lnTo>
                    <a:pt x="2" y="2508"/>
                  </a:lnTo>
                  <a:lnTo>
                    <a:pt x="2" y="2508"/>
                  </a:lnTo>
                  <a:lnTo>
                    <a:pt x="2" y="2510"/>
                  </a:lnTo>
                  <a:lnTo>
                    <a:pt x="4" y="2512"/>
                  </a:lnTo>
                  <a:lnTo>
                    <a:pt x="4" y="2512"/>
                  </a:lnTo>
                  <a:lnTo>
                    <a:pt x="4" y="2514"/>
                  </a:lnTo>
                  <a:close/>
                </a:path>
              </a:pathLst>
            </a:custGeom>
            <a:solidFill>
              <a:srgbClr val="08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18"/>
            <p:cNvSpPr/>
            <p:nvPr/>
          </p:nvSpPr>
          <p:spPr>
            <a:xfrm>
              <a:off x="2317680" y="1193760"/>
              <a:ext cx="569880" cy="397800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3978000"/>
                <a:gd name="textAreaBottom" fmla="*/ 3978360 h 3978000"/>
              </a:gdLst>
              <a:ahLst/>
              <a:rect l="textAreaLeft" t="textAreaTop" r="textAreaRight" b="textAreaBottom"/>
              <a:pathLst>
                <a:path w="359" h="2506">
                  <a:moveTo>
                    <a:pt x="359" y="10"/>
                  </a:moveTo>
                  <a:lnTo>
                    <a:pt x="321" y="0"/>
                  </a:lnTo>
                  <a:lnTo>
                    <a:pt x="321" y="2"/>
                  </a:lnTo>
                  <a:lnTo>
                    <a:pt x="319" y="2"/>
                  </a:lnTo>
                  <a:lnTo>
                    <a:pt x="319" y="4"/>
                  </a:lnTo>
                  <a:lnTo>
                    <a:pt x="317" y="6"/>
                  </a:lnTo>
                  <a:lnTo>
                    <a:pt x="315" y="6"/>
                  </a:lnTo>
                  <a:lnTo>
                    <a:pt x="315" y="8"/>
                  </a:lnTo>
                  <a:lnTo>
                    <a:pt x="313" y="8"/>
                  </a:lnTo>
                  <a:lnTo>
                    <a:pt x="313" y="10"/>
                  </a:lnTo>
                  <a:lnTo>
                    <a:pt x="357" y="19"/>
                  </a:lnTo>
                  <a:lnTo>
                    <a:pt x="357" y="17"/>
                  </a:lnTo>
                  <a:lnTo>
                    <a:pt x="357" y="17"/>
                  </a:lnTo>
                  <a:lnTo>
                    <a:pt x="357" y="15"/>
                  </a:lnTo>
                  <a:lnTo>
                    <a:pt x="357" y="13"/>
                  </a:lnTo>
                  <a:lnTo>
                    <a:pt x="357" y="13"/>
                  </a:lnTo>
                  <a:lnTo>
                    <a:pt x="357" y="11"/>
                  </a:lnTo>
                  <a:lnTo>
                    <a:pt x="359" y="10"/>
                  </a:lnTo>
                  <a:lnTo>
                    <a:pt x="359" y="10"/>
                  </a:lnTo>
                  <a:close/>
                  <a:moveTo>
                    <a:pt x="4" y="2504"/>
                  </a:moveTo>
                  <a:lnTo>
                    <a:pt x="44" y="2506"/>
                  </a:lnTo>
                  <a:lnTo>
                    <a:pt x="110" y="2504"/>
                  </a:lnTo>
                  <a:lnTo>
                    <a:pt x="175" y="2498"/>
                  </a:lnTo>
                  <a:lnTo>
                    <a:pt x="238" y="2490"/>
                  </a:lnTo>
                  <a:lnTo>
                    <a:pt x="300" y="2479"/>
                  </a:lnTo>
                  <a:lnTo>
                    <a:pt x="323" y="2475"/>
                  </a:lnTo>
                  <a:lnTo>
                    <a:pt x="323" y="2473"/>
                  </a:lnTo>
                  <a:lnTo>
                    <a:pt x="323" y="2471"/>
                  </a:lnTo>
                  <a:lnTo>
                    <a:pt x="323" y="2471"/>
                  </a:lnTo>
                  <a:lnTo>
                    <a:pt x="323" y="2469"/>
                  </a:lnTo>
                  <a:lnTo>
                    <a:pt x="321" y="2467"/>
                  </a:lnTo>
                  <a:lnTo>
                    <a:pt x="321" y="2467"/>
                  </a:lnTo>
                  <a:lnTo>
                    <a:pt x="321" y="2465"/>
                  </a:lnTo>
                  <a:lnTo>
                    <a:pt x="321" y="2465"/>
                  </a:lnTo>
                  <a:lnTo>
                    <a:pt x="298" y="2469"/>
                  </a:lnTo>
                  <a:lnTo>
                    <a:pt x="236" y="2481"/>
                  </a:lnTo>
                  <a:lnTo>
                    <a:pt x="173" y="2488"/>
                  </a:lnTo>
                  <a:lnTo>
                    <a:pt x="110" y="2494"/>
                  </a:lnTo>
                  <a:lnTo>
                    <a:pt x="44" y="2496"/>
                  </a:lnTo>
                  <a:lnTo>
                    <a:pt x="0" y="2494"/>
                  </a:lnTo>
                  <a:lnTo>
                    <a:pt x="2" y="2496"/>
                  </a:lnTo>
                  <a:lnTo>
                    <a:pt x="2" y="2496"/>
                  </a:lnTo>
                  <a:lnTo>
                    <a:pt x="2" y="2498"/>
                  </a:lnTo>
                  <a:lnTo>
                    <a:pt x="2" y="2500"/>
                  </a:lnTo>
                  <a:lnTo>
                    <a:pt x="2" y="2500"/>
                  </a:lnTo>
                  <a:lnTo>
                    <a:pt x="4" y="2502"/>
                  </a:lnTo>
                  <a:lnTo>
                    <a:pt x="4" y="2504"/>
                  </a:lnTo>
                  <a:lnTo>
                    <a:pt x="4" y="2504"/>
                  </a:lnTo>
                  <a:close/>
                </a:path>
              </a:pathLst>
            </a:custGeom>
            <a:solidFill>
              <a:srgbClr val="09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19"/>
            <p:cNvSpPr/>
            <p:nvPr/>
          </p:nvSpPr>
          <p:spPr>
            <a:xfrm>
              <a:off x="2314440" y="1203120"/>
              <a:ext cx="569880" cy="395928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3959280"/>
                <a:gd name="textAreaBottom" fmla="*/ 3959640 h 3959280"/>
              </a:gdLst>
              <a:ahLst/>
              <a:rect l="textAreaLeft" t="textAreaTop" r="textAreaRight" b="textAreaBottom"/>
              <a:pathLst>
                <a:path w="359" h="2494">
                  <a:moveTo>
                    <a:pt x="359" y="7"/>
                  </a:moveTo>
                  <a:lnTo>
                    <a:pt x="319" y="0"/>
                  </a:lnTo>
                  <a:lnTo>
                    <a:pt x="317" y="0"/>
                  </a:lnTo>
                  <a:lnTo>
                    <a:pt x="317" y="2"/>
                  </a:lnTo>
                  <a:lnTo>
                    <a:pt x="315" y="2"/>
                  </a:lnTo>
                  <a:lnTo>
                    <a:pt x="315" y="4"/>
                  </a:lnTo>
                  <a:lnTo>
                    <a:pt x="313" y="4"/>
                  </a:lnTo>
                  <a:lnTo>
                    <a:pt x="311" y="5"/>
                  </a:lnTo>
                  <a:lnTo>
                    <a:pt x="311" y="5"/>
                  </a:lnTo>
                  <a:lnTo>
                    <a:pt x="309" y="7"/>
                  </a:lnTo>
                  <a:lnTo>
                    <a:pt x="357" y="19"/>
                  </a:lnTo>
                  <a:lnTo>
                    <a:pt x="357" y="17"/>
                  </a:lnTo>
                  <a:lnTo>
                    <a:pt x="359" y="15"/>
                  </a:lnTo>
                  <a:lnTo>
                    <a:pt x="359" y="15"/>
                  </a:lnTo>
                  <a:lnTo>
                    <a:pt x="359" y="13"/>
                  </a:lnTo>
                  <a:lnTo>
                    <a:pt x="359" y="11"/>
                  </a:lnTo>
                  <a:lnTo>
                    <a:pt x="359" y="11"/>
                  </a:lnTo>
                  <a:lnTo>
                    <a:pt x="359" y="9"/>
                  </a:lnTo>
                  <a:lnTo>
                    <a:pt x="359" y="7"/>
                  </a:lnTo>
                  <a:close/>
                  <a:moveTo>
                    <a:pt x="4" y="2494"/>
                  </a:moveTo>
                  <a:lnTo>
                    <a:pt x="46" y="2494"/>
                  </a:lnTo>
                  <a:lnTo>
                    <a:pt x="112" y="2492"/>
                  </a:lnTo>
                  <a:lnTo>
                    <a:pt x="177" y="2488"/>
                  </a:lnTo>
                  <a:lnTo>
                    <a:pt x="240" y="2481"/>
                  </a:lnTo>
                  <a:lnTo>
                    <a:pt x="302" y="2469"/>
                  </a:lnTo>
                  <a:lnTo>
                    <a:pt x="325" y="2463"/>
                  </a:lnTo>
                  <a:lnTo>
                    <a:pt x="323" y="2461"/>
                  </a:lnTo>
                  <a:lnTo>
                    <a:pt x="323" y="2461"/>
                  </a:lnTo>
                  <a:lnTo>
                    <a:pt x="323" y="2459"/>
                  </a:lnTo>
                  <a:lnTo>
                    <a:pt x="323" y="2459"/>
                  </a:lnTo>
                  <a:lnTo>
                    <a:pt x="323" y="2458"/>
                  </a:lnTo>
                  <a:lnTo>
                    <a:pt x="323" y="2456"/>
                  </a:lnTo>
                  <a:lnTo>
                    <a:pt x="323" y="2456"/>
                  </a:lnTo>
                  <a:lnTo>
                    <a:pt x="323" y="2454"/>
                  </a:lnTo>
                  <a:lnTo>
                    <a:pt x="300" y="2459"/>
                  </a:lnTo>
                  <a:lnTo>
                    <a:pt x="238" y="2469"/>
                  </a:lnTo>
                  <a:lnTo>
                    <a:pt x="175" y="2477"/>
                  </a:lnTo>
                  <a:lnTo>
                    <a:pt x="112" y="2482"/>
                  </a:lnTo>
                  <a:lnTo>
                    <a:pt x="46" y="2484"/>
                  </a:lnTo>
                  <a:lnTo>
                    <a:pt x="0" y="2482"/>
                  </a:lnTo>
                  <a:lnTo>
                    <a:pt x="2" y="2484"/>
                  </a:lnTo>
                  <a:lnTo>
                    <a:pt x="2" y="2486"/>
                  </a:lnTo>
                  <a:lnTo>
                    <a:pt x="2" y="2486"/>
                  </a:lnTo>
                  <a:lnTo>
                    <a:pt x="2" y="2488"/>
                  </a:lnTo>
                  <a:lnTo>
                    <a:pt x="4" y="2490"/>
                  </a:lnTo>
                  <a:lnTo>
                    <a:pt x="4" y="2490"/>
                  </a:lnTo>
                  <a:lnTo>
                    <a:pt x="4" y="2492"/>
                  </a:lnTo>
                  <a:lnTo>
                    <a:pt x="4" y="2494"/>
                  </a:lnTo>
                  <a:close/>
                </a:path>
              </a:pathLst>
            </a:custGeom>
            <a:solidFill>
              <a:srgbClr val="0a9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20"/>
            <p:cNvSpPr/>
            <p:nvPr/>
          </p:nvSpPr>
          <p:spPr>
            <a:xfrm>
              <a:off x="2311560" y="1209600"/>
              <a:ext cx="572760" cy="3946320"/>
            </a:xfrm>
            <a:custGeom>
              <a:avLst/>
              <a:gdLst>
                <a:gd name="textAreaLeft" fmla="*/ 0 w 572760"/>
                <a:gd name="textAreaRight" fmla="*/ 572760 w 572760"/>
                <a:gd name="textAreaTop" fmla="*/ 0 h 3946320"/>
                <a:gd name="textAreaBottom" fmla="*/ 3946680 h 3946320"/>
              </a:gdLst>
              <a:ahLst/>
              <a:rect l="textAreaLeft" t="textAreaTop" r="textAreaRight" b="textAreaBottom"/>
              <a:pathLst>
                <a:path w="361" h="2486">
                  <a:moveTo>
                    <a:pt x="361" y="9"/>
                  </a:moveTo>
                  <a:lnTo>
                    <a:pt x="317" y="0"/>
                  </a:lnTo>
                  <a:lnTo>
                    <a:pt x="315" y="0"/>
                  </a:lnTo>
                  <a:lnTo>
                    <a:pt x="313" y="1"/>
                  </a:lnTo>
                  <a:lnTo>
                    <a:pt x="313" y="1"/>
                  </a:lnTo>
                  <a:lnTo>
                    <a:pt x="311" y="3"/>
                  </a:lnTo>
                  <a:lnTo>
                    <a:pt x="311" y="3"/>
                  </a:lnTo>
                  <a:lnTo>
                    <a:pt x="309" y="5"/>
                  </a:lnTo>
                  <a:lnTo>
                    <a:pt x="308" y="7"/>
                  </a:lnTo>
                  <a:lnTo>
                    <a:pt x="308" y="7"/>
                  </a:lnTo>
                  <a:lnTo>
                    <a:pt x="359" y="19"/>
                  </a:lnTo>
                  <a:lnTo>
                    <a:pt x="359" y="19"/>
                  </a:lnTo>
                  <a:lnTo>
                    <a:pt x="359" y="17"/>
                  </a:lnTo>
                  <a:lnTo>
                    <a:pt x="359" y="15"/>
                  </a:lnTo>
                  <a:lnTo>
                    <a:pt x="359" y="15"/>
                  </a:lnTo>
                  <a:lnTo>
                    <a:pt x="359" y="13"/>
                  </a:lnTo>
                  <a:lnTo>
                    <a:pt x="361" y="11"/>
                  </a:lnTo>
                  <a:lnTo>
                    <a:pt x="361" y="11"/>
                  </a:lnTo>
                  <a:lnTo>
                    <a:pt x="361" y="9"/>
                  </a:lnTo>
                  <a:close/>
                  <a:moveTo>
                    <a:pt x="4" y="2484"/>
                  </a:moveTo>
                  <a:lnTo>
                    <a:pt x="48" y="2486"/>
                  </a:lnTo>
                  <a:lnTo>
                    <a:pt x="114" y="2484"/>
                  </a:lnTo>
                  <a:lnTo>
                    <a:pt x="177" y="2478"/>
                  </a:lnTo>
                  <a:lnTo>
                    <a:pt x="240" y="2471"/>
                  </a:lnTo>
                  <a:lnTo>
                    <a:pt x="302" y="2459"/>
                  </a:lnTo>
                  <a:lnTo>
                    <a:pt x="325" y="2455"/>
                  </a:lnTo>
                  <a:lnTo>
                    <a:pt x="325" y="2454"/>
                  </a:lnTo>
                  <a:lnTo>
                    <a:pt x="325" y="2452"/>
                  </a:lnTo>
                  <a:lnTo>
                    <a:pt x="325" y="2452"/>
                  </a:lnTo>
                  <a:lnTo>
                    <a:pt x="325" y="2450"/>
                  </a:lnTo>
                  <a:lnTo>
                    <a:pt x="323" y="2448"/>
                  </a:lnTo>
                  <a:lnTo>
                    <a:pt x="323" y="2448"/>
                  </a:lnTo>
                  <a:lnTo>
                    <a:pt x="323" y="2446"/>
                  </a:lnTo>
                  <a:lnTo>
                    <a:pt x="323" y="2444"/>
                  </a:lnTo>
                  <a:lnTo>
                    <a:pt x="300" y="2450"/>
                  </a:lnTo>
                  <a:lnTo>
                    <a:pt x="238" y="2461"/>
                  </a:lnTo>
                  <a:lnTo>
                    <a:pt x="177" y="2469"/>
                  </a:lnTo>
                  <a:lnTo>
                    <a:pt x="114" y="2473"/>
                  </a:lnTo>
                  <a:lnTo>
                    <a:pt x="48" y="2475"/>
                  </a:lnTo>
                  <a:lnTo>
                    <a:pt x="0" y="2475"/>
                  </a:lnTo>
                  <a:lnTo>
                    <a:pt x="2" y="2475"/>
                  </a:lnTo>
                  <a:lnTo>
                    <a:pt x="2" y="2477"/>
                  </a:lnTo>
                  <a:lnTo>
                    <a:pt x="2" y="2478"/>
                  </a:lnTo>
                  <a:lnTo>
                    <a:pt x="2" y="2478"/>
                  </a:lnTo>
                  <a:lnTo>
                    <a:pt x="4" y="2480"/>
                  </a:lnTo>
                  <a:lnTo>
                    <a:pt x="4" y="2482"/>
                  </a:lnTo>
                  <a:lnTo>
                    <a:pt x="4" y="2482"/>
                  </a:lnTo>
                  <a:lnTo>
                    <a:pt x="4" y="2484"/>
                  </a:lnTo>
                  <a:close/>
                </a:path>
              </a:pathLst>
            </a:custGeom>
            <a:solidFill>
              <a:srgbClr val="0b9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21"/>
            <p:cNvSpPr/>
            <p:nvPr/>
          </p:nvSpPr>
          <p:spPr>
            <a:xfrm>
              <a:off x="2311560" y="1214280"/>
              <a:ext cx="569880" cy="393228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3932280"/>
                <a:gd name="textAreaBottom" fmla="*/ 3932640 h 3932280"/>
              </a:gdLst>
              <a:ahLst/>
              <a:rect l="textAreaLeft" t="textAreaTop" r="textAreaRight" b="textAreaBottom"/>
              <a:pathLst>
                <a:path w="359" h="2477">
                  <a:moveTo>
                    <a:pt x="359" y="12"/>
                  </a:moveTo>
                  <a:lnTo>
                    <a:pt x="311" y="0"/>
                  </a:lnTo>
                  <a:lnTo>
                    <a:pt x="311" y="0"/>
                  </a:lnTo>
                  <a:lnTo>
                    <a:pt x="309" y="2"/>
                  </a:lnTo>
                  <a:lnTo>
                    <a:pt x="308" y="4"/>
                  </a:lnTo>
                  <a:lnTo>
                    <a:pt x="308" y="4"/>
                  </a:lnTo>
                  <a:lnTo>
                    <a:pt x="306" y="6"/>
                  </a:lnTo>
                  <a:lnTo>
                    <a:pt x="306" y="6"/>
                  </a:lnTo>
                  <a:lnTo>
                    <a:pt x="304" y="8"/>
                  </a:lnTo>
                  <a:lnTo>
                    <a:pt x="302" y="8"/>
                  </a:lnTo>
                  <a:lnTo>
                    <a:pt x="357" y="22"/>
                  </a:lnTo>
                  <a:lnTo>
                    <a:pt x="357" y="20"/>
                  </a:lnTo>
                  <a:lnTo>
                    <a:pt x="359" y="20"/>
                  </a:lnTo>
                  <a:lnTo>
                    <a:pt x="359" y="18"/>
                  </a:lnTo>
                  <a:lnTo>
                    <a:pt x="359" y="16"/>
                  </a:lnTo>
                  <a:lnTo>
                    <a:pt x="359" y="16"/>
                  </a:lnTo>
                  <a:lnTo>
                    <a:pt x="359" y="14"/>
                  </a:lnTo>
                  <a:lnTo>
                    <a:pt x="359" y="12"/>
                  </a:lnTo>
                  <a:lnTo>
                    <a:pt x="359" y="12"/>
                  </a:lnTo>
                  <a:close/>
                  <a:moveTo>
                    <a:pt x="2" y="2475"/>
                  </a:moveTo>
                  <a:lnTo>
                    <a:pt x="48" y="2477"/>
                  </a:lnTo>
                  <a:lnTo>
                    <a:pt x="114" y="2475"/>
                  </a:lnTo>
                  <a:lnTo>
                    <a:pt x="177" y="2470"/>
                  </a:lnTo>
                  <a:lnTo>
                    <a:pt x="240" y="2462"/>
                  </a:lnTo>
                  <a:lnTo>
                    <a:pt x="302" y="2452"/>
                  </a:lnTo>
                  <a:lnTo>
                    <a:pt x="325" y="2447"/>
                  </a:lnTo>
                  <a:lnTo>
                    <a:pt x="323" y="2445"/>
                  </a:lnTo>
                  <a:lnTo>
                    <a:pt x="323" y="2445"/>
                  </a:lnTo>
                  <a:lnTo>
                    <a:pt x="323" y="2443"/>
                  </a:lnTo>
                  <a:lnTo>
                    <a:pt x="323" y="2441"/>
                  </a:lnTo>
                  <a:lnTo>
                    <a:pt x="323" y="2441"/>
                  </a:lnTo>
                  <a:lnTo>
                    <a:pt x="323" y="2439"/>
                  </a:lnTo>
                  <a:lnTo>
                    <a:pt x="323" y="2437"/>
                  </a:lnTo>
                  <a:lnTo>
                    <a:pt x="323" y="2437"/>
                  </a:lnTo>
                  <a:lnTo>
                    <a:pt x="300" y="2441"/>
                  </a:lnTo>
                  <a:lnTo>
                    <a:pt x="238" y="2452"/>
                  </a:lnTo>
                  <a:lnTo>
                    <a:pt x="175" y="2460"/>
                  </a:lnTo>
                  <a:lnTo>
                    <a:pt x="114" y="2466"/>
                  </a:lnTo>
                  <a:lnTo>
                    <a:pt x="48" y="2468"/>
                  </a:lnTo>
                  <a:lnTo>
                    <a:pt x="0" y="2466"/>
                  </a:lnTo>
                  <a:lnTo>
                    <a:pt x="0" y="2468"/>
                  </a:lnTo>
                  <a:lnTo>
                    <a:pt x="0" y="2468"/>
                  </a:lnTo>
                  <a:lnTo>
                    <a:pt x="0" y="2470"/>
                  </a:lnTo>
                  <a:lnTo>
                    <a:pt x="0" y="2472"/>
                  </a:lnTo>
                  <a:lnTo>
                    <a:pt x="2" y="2472"/>
                  </a:lnTo>
                  <a:lnTo>
                    <a:pt x="2" y="2474"/>
                  </a:lnTo>
                  <a:lnTo>
                    <a:pt x="2" y="2475"/>
                  </a:lnTo>
                  <a:lnTo>
                    <a:pt x="2" y="2475"/>
                  </a:lnTo>
                  <a:close/>
                </a:path>
              </a:pathLst>
            </a:custGeom>
            <a:solidFill>
              <a:srgbClr val="0c9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22"/>
            <p:cNvSpPr/>
            <p:nvPr/>
          </p:nvSpPr>
          <p:spPr>
            <a:xfrm>
              <a:off x="2309760" y="1220760"/>
              <a:ext cx="571680" cy="391788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3917880"/>
                <a:gd name="textAreaBottom" fmla="*/ 3918240 h 3917880"/>
              </a:gdLst>
              <a:ahLst/>
              <a:rect l="textAreaLeft" t="textAreaTop" r="textAreaRight" b="textAreaBottom"/>
              <a:pathLst>
                <a:path w="360" h="2468">
                  <a:moveTo>
                    <a:pt x="360" y="12"/>
                  </a:moveTo>
                  <a:lnTo>
                    <a:pt x="309" y="0"/>
                  </a:lnTo>
                  <a:lnTo>
                    <a:pt x="307" y="2"/>
                  </a:lnTo>
                  <a:lnTo>
                    <a:pt x="307" y="2"/>
                  </a:lnTo>
                  <a:lnTo>
                    <a:pt x="305" y="4"/>
                  </a:lnTo>
                  <a:lnTo>
                    <a:pt x="303" y="4"/>
                  </a:lnTo>
                  <a:lnTo>
                    <a:pt x="303" y="6"/>
                  </a:lnTo>
                  <a:lnTo>
                    <a:pt x="301" y="6"/>
                  </a:lnTo>
                  <a:lnTo>
                    <a:pt x="301" y="8"/>
                  </a:lnTo>
                  <a:lnTo>
                    <a:pt x="299" y="10"/>
                  </a:lnTo>
                  <a:lnTo>
                    <a:pt x="299" y="10"/>
                  </a:lnTo>
                  <a:lnTo>
                    <a:pt x="358" y="23"/>
                  </a:lnTo>
                  <a:lnTo>
                    <a:pt x="358" y="21"/>
                  </a:lnTo>
                  <a:lnTo>
                    <a:pt x="358" y="19"/>
                  </a:lnTo>
                  <a:lnTo>
                    <a:pt x="358" y="19"/>
                  </a:lnTo>
                  <a:lnTo>
                    <a:pt x="358" y="18"/>
                  </a:lnTo>
                  <a:lnTo>
                    <a:pt x="358" y="16"/>
                  </a:lnTo>
                  <a:lnTo>
                    <a:pt x="360" y="16"/>
                  </a:lnTo>
                  <a:lnTo>
                    <a:pt x="360" y="14"/>
                  </a:lnTo>
                  <a:lnTo>
                    <a:pt x="360" y="12"/>
                  </a:lnTo>
                  <a:close/>
                  <a:moveTo>
                    <a:pt x="1" y="2468"/>
                  </a:moveTo>
                  <a:lnTo>
                    <a:pt x="49" y="2468"/>
                  </a:lnTo>
                  <a:lnTo>
                    <a:pt x="115" y="2466"/>
                  </a:lnTo>
                  <a:lnTo>
                    <a:pt x="178" y="2462"/>
                  </a:lnTo>
                  <a:lnTo>
                    <a:pt x="239" y="2454"/>
                  </a:lnTo>
                  <a:lnTo>
                    <a:pt x="301" y="2443"/>
                  </a:lnTo>
                  <a:lnTo>
                    <a:pt x="324" y="2437"/>
                  </a:lnTo>
                  <a:lnTo>
                    <a:pt x="324" y="2437"/>
                  </a:lnTo>
                  <a:lnTo>
                    <a:pt x="324" y="2435"/>
                  </a:lnTo>
                  <a:lnTo>
                    <a:pt x="324" y="2433"/>
                  </a:lnTo>
                  <a:lnTo>
                    <a:pt x="324" y="2433"/>
                  </a:lnTo>
                  <a:lnTo>
                    <a:pt x="324" y="2431"/>
                  </a:lnTo>
                  <a:lnTo>
                    <a:pt x="322" y="2429"/>
                  </a:lnTo>
                  <a:lnTo>
                    <a:pt x="322" y="2429"/>
                  </a:lnTo>
                  <a:lnTo>
                    <a:pt x="322" y="2427"/>
                  </a:lnTo>
                  <a:lnTo>
                    <a:pt x="299" y="2433"/>
                  </a:lnTo>
                  <a:lnTo>
                    <a:pt x="238" y="2443"/>
                  </a:lnTo>
                  <a:lnTo>
                    <a:pt x="176" y="2450"/>
                  </a:lnTo>
                  <a:lnTo>
                    <a:pt x="113" y="2456"/>
                  </a:lnTo>
                  <a:lnTo>
                    <a:pt x="49" y="2458"/>
                  </a:lnTo>
                  <a:lnTo>
                    <a:pt x="0" y="2456"/>
                  </a:lnTo>
                  <a:lnTo>
                    <a:pt x="0" y="2458"/>
                  </a:lnTo>
                  <a:lnTo>
                    <a:pt x="0" y="2460"/>
                  </a:lnTo>
                  <a:lnTo>
                    <a:pt x="0" y="2460"/>
                  </a:lnTo>
                  <a:lnTo>
                    <a:pt x="1" y="2462"/>
                  </a:lnTo>
                  <a:lnTo>
                    <a:pt x="1" y="2464"/>
                  </a:lnTo>
                  <a:lnTo>
                    <a:pt x="1" y="2464"/>
                  </a:lnTo>
                  <a:lnTo>
                    <a:pt x="1" y="2466"/>
                  </a:lnTo>
                  <a:lnTo>
                    <a:pt x="1" y="2468"/>
                  </a:lnTo>
                  <a:close/>
                </a:path>
              </a:pathLst>
            </a:custGeom>
            <a:solidFill>
              <a:srgbClr val="0d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23"/>
            <p:cNvSpPr/>
            <p:nvPr/>
          </p:nvSpPr>
          <p:spPr>
            <a:xfrm>
              <a:off x="2306520" y="1226880"/>
              <a:ext cx="571680" cy="390528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3905280"/>
                <a:gd name="textAreaBottom" fmla="*/ 3905640 h 3905280"/>
              </a:gdLst>
              <a:ahLst/>
              <a:rect l="textAreaLeft" t="textAreaTop" r="textAreaRight" b="textAreaBottom"/>
              <a:pathLst>
                <a:path w="360" h="2460">
                  <a:moveTo>
                    <a:pt x="360" y="14"/>
                  </a:moveTo>
                  <a:lnTo>
                    <a:pt x="305" y="0"/>
                  </a:lnTo>
                  <a:lnTo>
                    <a:pt x="305" y="2"/>
                  </a:lnTo>
                  <a:lnTo>
                    <a:pt x="303" y="2"/>
                  </a:lnTo>
                  <a:lnTo>
                    <a:pt x="303" y="4"/>
                  </a:lnTo>
                  <a:lnTo>
                    <a:pt x="301" y="6"/>
                  </a:lnTo>
                  <a:lnTo>
                    <a:pt x="299" y="6"/>
                  </a:lnTo>
                  <a:lnTo>
                    <a:pt x="299" y="8"/>
                  </a:lnTo>
                  <a:lnTo>
                    <a:pt x="297" y="8"/>
                  </a:lnTo>
                  <a:lnTo>
                    <a:pt x="297" y="10"/>
                  </a:lnTo>
                  <a:lnTo>
                    <a:pt x="301" y="10"/>
                  </a:lnTo>
                  <a:lnTo>
                    <a:pt x="359" y="23"/>
                  </a:lnTo>
                  <a:lnTo>
                    <a:pt x="360" y="23"/>
                  </a:lnTo>
                  <a:lnTo>
                    <a:pt x="360" y="21"/>
                  </a:lnTo>
                  <a:lnTo>
                    <a:pt x="360" y="19"/>
                  </a:lnTo>
                  <a:lnTo>
                    <a:pt x="360" y="19"/>
                  </a:lnTo>
                  <a:lnTo>
                    <a:pt x="360" y="17"/>
                  </a:lnTo>
                  <a:lnTo>
                    <a:pt x="360" y="15"/>
                  </a:lnTo>
                  <a:lnTo>
                    <a:pt x="360" y="15"/>
                  </a:lnTo>
                  <a:lnTo>
                    <a:pt x="360" y="14"/>
                  </a:lnTo>
                  <a:close/>
                  <a:moveTo>
                    <a:pt x="3" y="2458"/>
                  </a:moveTo>
                  <a:lnTo>
                    <a:pt x="51" y="2460"/>
                  </a:lnTo>
                  <a:lnTo>
                    <a:pt x="117" y="2458"/>
                  </a:lnTo>
                  <a:lnTo>
                    <a:pt x="178" y="2452"/>
                  </a:lnTo>
                  <a:lnTo>
                    <a:pt x="241" y="2444"/>
                  </a:lnTo>
                  <a:lnTo>
                    <a:pt x="303" y="2433"/>
                  </a:lnTo>
                  <a:lnTo>
                    <a:pt x="326" y="2429"/>
                  </a:lnTo>
                  <a:lnTo>
                    <a:pt x="326" y="2427"/>
                  </a:lnTo>
                  <a:lnTo>
                    <a:pt x="324" y="2425"/>
                  </a:lnTo>
                  <a:lnTo>
                    <a:pt x="324" y="2425"/>
                  </a:lnTo>
                  <a:lnTo>
                    <a:pt x="324" y="2423"/>
                  </a:lnTo>
                  <a:lnTo>
                    <a:pt x="324" y="2421"/>
                  </a:lnTo>
                  <a:lnTo>
                    <a:pt x="324" y="2421"/>
                  </a:lnTo>
                  <a:lnTo>
                    <a:pt x="324" y="2420"/>
                  </a:lnTo>
                  <a:lnTo>
                    <a:pt x="324" y="2418"/>
                  </a:lnTo>
                  <a:lnTo>
                    <a:pt x="301" y="2423"/>
                  </a:lnTo>
                  <a:lnTo>
                    <a:pt x="240" y="2435"/>
                  </a:lnTo>
                  <a:lnTo>
                    <a:pt x="178" y="2443"/>
                  </a:lnTo>
                  <a:lnTo>
                    <a:pt x="115" y="2446"/>
                  </a:lnTo>
                  <a:lnTo>
                    <a:pt x="51" y="2448"/>
                  </a:lnTo>
                  <a:lnTo>
                    <a:pt x="0" y="2446"/>
                  </a:lnTo>
                  <a:lnTo>
                    <a:pt x="0" y="2448"/>
                  </a:lnTo>
                  <a:lnTo>
                    <a:pt x="0" y="2450"/>
                  </a:lnTo>
                  <a:lnTo>
                    <a:pt x="0" y="2450"/>
                  </a:lnTo>
                  <a:lnTo>
                    <a:pt x="2" y="2452"/>
                  </a:lnTo>
                  <a:lnTo>
                    <a:pt x="2" y="2454"/>
                  </a:lnTo>
                  <a:lnTo>
                    <a:pt x="2" y="2456"/>
                  </a:lnTo>
                  <a:lnTo>
                    <a:pt x="2" y="2456"/>
                  </a:lnTo>
                  <a:lnTo>
                    <a:pt x="3" y="2458"/>
                  </a:lnTo>
                  <a:close/>
                </a:path>
              </a:pathLst>
            </a:custGeom>
            <a:solidFill>
              <a:srgbClr val="0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24"/>
            <p:cNvSpPr/>
            <p:nvPr/>
          </p:nvSpPr>
          <p:spPr>
            <a:xfrm>
              <a:off x="2303640" y="1236600"/>
              <a:ext cx="574560" cy="38862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3886200"/>
                <a:gd name="textAreaBottom" fmla="*/ 3886560 h 3886200"/>
              </a:gdLst>
              <a:ahLst/>
              <a:rect l="textAreaLeft" t="textAreaTop" r="textAreaRight" b="textAreaBottom"/>
              <a:pathLst>
                <a:path w="362" h="2448">
                  <a:moveTo>
                    <a:pt x="362" y="13"/>
                  </a:moveTo>
                  <a:lnTo>
                    <a:pt x="303" y="0"/>
                  </a:lnTo>
                  <a:lnTo>
                    <a:pt x="303" y="0"/>
                  </a:lnTo>
                  <a:lnTo>
                    <a:pt x="301" y="0"/>
                  </a:lnTo>
                  <a:lnTo>
                    <a:pt x="301" y="2"/>
                  </a:lnTo>
                  <a:lnTo>
                    <a:pt x="299" y="2"/>
                  </a:lnTo>
                  <a:lnTo>
                    <a:pt x="299" y="4"/>
                  </a:lnTo>
                  <a:lnTo>
                    <a:pt x="297" y="4"/>
                  </a:lnTo>
                  <a:lnTo>
                    <a:pt x="295" y="6"/>
                  </a:lnTo>
                  <a:lnTo>
                    <a:pt x="295" y="8"/>
                  </a:lnTo>
                  <a:lnTo>
                    <a:pt x="293" y="8"/>
                  </a:lnTo>
                  <a:lnTo>
                    <a:pt x="301" y="9"/>
                  </a:lnTo>
                  <a:lnTo>
                    <a:pt x="361" y="23"/>
                  </a:lnTo>
                  <a:lnTo>
                    <a:pt x="361" y="21"/>
                  </a:lnTo>
                  <a:lnTo>
                    <a:pt x="361" y="21"/>
                  </a:lnTo>
                  <a:lnTo>
                    <a:pt x="361" y="19"/>
                  </a:lnTo>
                  <a:lnTo>
                    <a:pt x="361" y="17"/>
                  </a:lnTo>
                  <a:lnTo>
                    <a:pt x="362" y="17"/>
                  </a:lnTo>
                  <a:lnTo>
                    <a:pt x="362" y="15"/>
                  </a:lnTo>
                  <a:lnTo>
                    <a:pt x="362" y="13"/>
                  </a:lnTo>
                  <a:lnTo>
                    <a:pt x="362" y="13"/>
                  </a:lnTo>
                  <a:close/>
                  <a:moveTo>
                    <a:pt x="4" y="2446"/>
                  </a:moveTo>
                  <a:lnTo>
                    <a:pt x="53" y="2448"/>
                  </a:lnTo>
                  <a:lnTo>
                    <a:pt x="117" y="2446"/>
                  </a:lnTo>
                  <a:lnTo>
                    <a:pt x="180" y="2440"/>
                  </a:lnTo>
                  <a:lnTo>
                    <a:pt x="242" y="2433"/>
                  </a:lnTo>
                  <a:lnTo>
                    <a:pt x="303" y="2423"/>
                  </a:lnTo>
                  <a:lnTo>
                    <a:pt x="326" y="2417"/>
                  </a:lnTo>
                  <a:lnTo>
                    <a:pt x="326" y="2415"/>
                  </a:lnTo>
                  <a:lnTo>
                    <a:pt x="326" y="2415"/>
                  </a:lnTo>
                  <a:lnTo>
                    <a:pt x="326" y="2414"/>
                  </a:lnTo>
                  <a:lnTo>
                    <a:pt x="326" y="2412"/>
                  </a:lnTo>
                  <a:lnTo>
                    <a:pt x="326" y="2412"/>
                  </a:lnTo>
                  <a:lnTo>
                    <a:pt x="324" y="2410"/>
                  </a:lnTo>
                  <a:lnTo>
                    <a:pt x="324" y="2408"/>
                  </a:lnTo>
                  <a:lnTo>
                    <a:pt x="324" y="2408"/>
                  </a:lnTo>
                  <a:lnTo>
                    <a:pt x="301" y="2412"/>
                  </a:lnTo>
                  <a:lnTo>
                    <a:pt x="242" y="2423"/>
                  </a:lnTo>
                  <a:lnTo>
                    <a:pt x="180" y="2431"/>
                  </a:lnTo>
                  <a:lnTo>
                    <a:pt x="117" y="2437"/>
                  </a:lnTo>
                  <a:lnTo>
                    <a:pt x="53" y="2437"/>
                  </a:lnTo>
                  <a:lnTo>
                    <a:pt x="0" y="2437"/>
                  </a:lnTo>
                  <a:lnTo>
                    <a:pt x="0" y="2437"/>
                  </a:lnTo>
                  <a:lnTo>
                    <a:pt x="0" y="2438"/>
                  </a:lnTo>
                  <a:lnTo>
                    <a:pt x="2" y="2440"/>
                  </a:lnTo>
                  <a:lnTo>
                    <a:pt x="2" y="2440"/>
                  </a:lnTo>
                  <a:lnTo>
                    <a:pt x="2" y="2442"/>
                  </a:lnTo>
                  <a:lnTo>
                    <a:pt x="2" y="2444"/>
                  </a:lnTo>
                  <a:lnTo>
                    <a:pt x="2" y="2444"/>
                  </a:lnTo>
                  <a:lnTo>
                    <a:pt x="4" y="2446"/>
                  </a:lnTo>
                  <a:close/>
                </a:path>
              </a:pathLst>
            </a:custGeom>
            <a:solidFill>
              <a:srgbClr val="0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25"/>
            <p:cNvSpPr/>
            <p:nvPr/>
          </p:nvSpPr>
          <p:spPr>
            <a:xfrm>
              <a:off x="2300400" y="1242720"/>
              <a:ext cx="576000" cy="387036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3870360"/>
                <a:gd name="textAreaBottom" fmla="*/ 3870720 h 3870360"/>
              </a:gdLst>
              <a:ahLst/>
              <a:rect l="textAreaLeft" t="textAreaTop" r="textAreaRight" b="textAreaBottom"/>
              <a:pathLst>
                <a:path w="363" h="2438">
                  <a:moveTo>
                    <a:pt x="363" y="13"/>
                  </a:moveTo>
                  <a:lnTo>
                    <a:pt x="305" y="0"/>
                  </a:lnTo>
                  <a:lnTo>
                    <a:pt x="301" y="0"/>
                  </a:lnTo>
                  <a:lnTo>
                    <a:pt x="299" y="0"/>
                  </a:lnTo>
                  <a:lnTo>
                    <a:pt x="297" y="2"/>
                  </a:lnTo>
                  <a:lnTo>
                    <a:pt x="297" y="4"/>
                  </a:lnTo>
                  <a:lnTo>
                    <a:pt x="295" y="4"/>
                  </a:lnTo>
                  <a:lnTo>
                    <a:pt x="295" y="5"/>
                  </a:lnTo>
                  <a:lnTo>
                    <a:pt x="293" y="5"/>
                  </a:lnTo>
                  <a:lnTo>
                    <a:pt x="291" y="7"/>
                  </a:lnTo>
                  <a:lnTo>
                    <a:pt x="291" y="7"/>
                  </a:lnTo>
                  <a:lnTo>
                    <a:pt x="303" y="9"/>
                  </a:lnTo>
                  <a:lnTo>
                    <a:pt x="361" y="25"/>
                  </a:lnTo>
                  <a:lnTo>
                    <a:pt x="361" y="25"/>
                  </a:lnTo>
                  <a:lnTo>
                    <a:pt x="363" y="23"/>
                  </a:lnTo>
                  <a:lnTo>
                    <a:pt x="363" y="21"/>
                  </a:lnTo>
                  <a:lnTo>
                    <a:pt x="363" y="21"/>
                  </a:lnTo>
                  <a:lnTo>
                    <a:pt x="363" y="19"/>
                  </a:lnTo>
                  <a:lnTo>
                    <a:pt x="363" y="17"/>
                  </a:lnTo>
                  <a:lnTo>
                    <a:pt x="363" y="17"/>
                  </a:lnTo>
                  <a:lnTo>
                    <a:pt x="363" y="15"/>
                  </a:lnTo>
                  <a:lnTo>
                    <a:pt x="363" y="13"/>
                  </a:lnTo>
                  <a:close/>
                  <a:moveTo>
                    <a:pt x="4" y="2436"/>
                  </a:moveTo>
                  <a:lnTo>
                    <a:pt x="55" y="2438"/>
                  </a:lnTo>
                  <a:lnTo>
                    <a:pt x="119" y="2436"/>
                  </a:lnTo>
                  <a:lnTo>
                    <a:pt x="182" y="2433"/>
                  </a:lnTo>
                  <a:lnTo>
                    <a:pt x="244" y="2425"/>
                  </a:lnTo>
                  <a:lnTo>
                    <a:pt x="305" y="2413"/>
                  </a:lnTo>
                  <a:lnTo>
                    <a:pt x="328" y="2408"/>
                  </a:lnTo>
                  <a:lnTo>
                    <a:pt x="328" y="2408"/>
                  </a:lnTo>
                  <a:lnTo>
                    <a:pt x="326" y="2406"/>
                  </a:lnTo>
                  <a:lnTo>
                    <a:pt x="326" y="2404"/>
                  </a:lnTo>
                  <a:lnTo>
                    <a:pt x="326" y="2404"/>
                  </a:lnTo>
                  <a:lnTo>
                    <a:pt x="326" y="2402"/>
                  </a:lnTo>
                  <a:lnTo>
                    <a:pt x="326" y="2400"/>
                  </a:lnTo>
                  <a:lnTo>
                    <a:pt x="326" y="2400"/>
                  </a:lnTo>
                  <a:lnTo>
                    <a:pt x="326" y="2398"/>
                  </a:lnTo>
                  <a:lnTo>
                    <a:pt x="303" y="2404"/>
                  </a:lnTo>
                  <a:lnTo>
                    <a:pt x="242" y="2413"/>
                  </a:lnTo>
                  <a:lnTo>
                    <a:pt x="180" y="2423"/>
                  </a:lnTo>
                  <a:lnTo>
                    <a:pt x="119" y="2427"/>
                  </a:lnTo>
                  <a:lnTo>
                    <a:pt x="55" y="2429"/>
                  </a:lnTo>
                  <a:lnTo>
                    <a:pt x="0" y="2427"/>
                  </a:lnTo>
                  <a:lnTo>
                    <a:pt x="0" y="2429"/>
                  </a:lnTo>
                  <a:lnTo>
                    <a:pt x="0" y="2429"/>
                  </a:lnTo>
                  <a:lnTo>
                    <a:pt x="2" y="2431"/>
                  </a:lnTo>
                  <a:lnTo>
                    <a:pt x="2" y="2433"/>
                  </a:lnTo>
                  <a:lnTo>
                    <a:pt x="2" y="2433"/>
                  </a:lnTo>
                  <a:lnTo>
                    <a:pt x="2" y="2434"/>
                  </a:lnTo>
                  <a:lnTo>
                    <a:pt x="4" y="2436"/>
                  </a:lnTo>
                  <a:lnTo>
                    <a:pt x="4" y="2436"/>
                  </a:lnTo>
                  <a:close/>
                </a:path>
              </a:pathLst>
            </a:custGeom>
            <a:solidFill>
              <a:srgbClr val="1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26"/>
            <p:cNvSpPr/>
            <p:nvPr/>
          </p:nvSpPr>
          <p:spPr>
            <a:xfrm>
              <a:off x="2297160" y="1249200"/>
              <a:ext cx="579240" cy="385596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3855960"/>
                <a:gd name="textAreaBottom" fmla="*/ 3855960 h 3855960"/>
              </a:gdLst>
              <a:ahLst/>
              <a:rect l="textAreaLeft" t="textAreaTop" r="textAreaRight" b="textAreaBottom"/>
              <a:pathLst>
                <a:path w="365" h="2429">
                  <a:moveTo>
                    <a:pt x="365" y="15"/>
                  </a:moveTo>
                  <a:lnTo>
                    <a:pt x="305" y="1"/>
                  </a:lnTo>
                  <a:lnTo>
                    <a:pt x="297" y="0"/>
                  </a:lnTo>
                  <a:lnTo>
                    <a:pt x="297" y="1"/>
                  </a:lnTo>
                  <a:lnTo>
                    <a:pt x="295" y="1"/>
                  </a:lnTo>
                  <a:lnTo>
                    <a:pt x="293" y="3"/>
                  </a:lnTo>
                  <a:lnTo>
                    <a:pt x="293" y="3"/>
                  </a:lnTo>
                  <a:lnTo>
                    <a:pt x="292" y="5"/>
                  </a:lnTo>
                  <a:lnTo>
                    <a:pt x="292" y="7"/>
                  </a:lnTo>
                  <a:lnTo>
                    <a:pt x="290" y="7"/>
                  </a:lnTo>
                  <a:lnTo>
                    <a:pt x="290" y="9"/>
                  </a:lnTo>
                  <a:lnTo>
                    <a:pt x="303" y="11"/>
                  </a:lnTo>
                  <a:lnTo>
                    <a:pt x="363" y="24"/>
                  </a:lnTo>
                  <a:lnTo>
                    <a:pt x="363" y="24"/>
                  </a:lnTo>
                  <a:lnTo>
                    <a:pt x="363" y="24"/>
                  </a:lnTo>
                  <a:lnTo>
                    <a:pt x="363" y="23"/>
                  </a:lnTo>
                  <a:lnTo>
                    <a:pt x="363" y="21"/>
                  </a:lnTo>
                  <a:lnTo>
                    <a:pt x="363" y="21"/>
                  </a:lnTo>
                  <a:lnTo>
                    <a:pt x="365" y="19"/>
                  </a:lnTo>
                  <a:lnTo>
                    <a:pt x="365" y="17"/>
                  </a:lnTo>
                  <a:lnTo>
                    <a:pt x="365" y="17"/>
                  </a:lnTo>
                  <a:lnTo>
                    <a:pt x="365" y="15"/>
                  </a:lnTo>
                  <a:close/>
                  <a:moveTo>
                    <a:pt x="4" y="2429"/>
                  </a:moveTo>
                  <a:lnTo>
                    <a:pt x="57" y="2429"/>
                  </a:lnTo>
                  <a:lnTo>
                    <a:pt x="121" y="2429"/>
                  </a:lnTo>
                  <a:lnTo>
                    <a:pt x="184" y="2423"/>
                  </a:lnTo>
                  <a:lnTo>
                    <a:pt x="246" y="2415"/>
                  </a:lnTo>
                  <a:lnTo>
                    <a:pt x="305" y="2404"/>
                  </a:lnTo>
                  <a:lnTo>
                    <a:pt x="328" y="2400"/>
                  </a:lnTo>
                  <a:lnTo>
                    <a:pt x="328" y="2398"/>
                  </a:lnTo>
                  <a:lnTo>
                    <a:pt x="328" y="2396"/>
                  </a:lnTo>
                  <a:lnTo>
                    <a:pt x="328" y="2396"/>
                  </a:lnTo>
                  <a:lnTo>
                    <a:pt x="328" y="2394"/>
                  </a:lnTo>
                  <a:lnTo>
                    <a:pt x="328" y="2392"/>
                  </a:lnTo>
                  <a:lnTo>
                    <a:pt x="328" y="2392"/>
                  </a:lnTo>
                  <a:lnTo>
                    <a:pt x="326" y="2390"/>
                  </a:lnTo>
                  <a:lnTo>
                    <a:pt x="326" y="2388"/>
                  </a:lnTo>
                  <a:lnTo>
                    <a:pt x="303" y="2394"/>
                  </a:lnTo>
                  <a:lnTo>
                    <a:pt x="244" y="2406"/>
                  </a:lnTo>
                  <a:lnTo>
                    <a:pt x="182" y="2413"/>
                  </a:lnTo>
                  <a:lnTo>
                    <a:pt x="121" y="2417"/>
                  </a:lnTo>
                  <a:lnTo>
                    <a:pt x="57" y="2419"/>
                  </a:lnTo>
                  <a:lnTo>
                    <a:pt x="0" y="2417"/>
                  </a:lnTo>
                  <a:lnTo>
                    <a:pt x="0" y="2419"/>
                  </a:lnTo>
                  <a:lnTo>
                    <a:pt x="0" y="2421"/>
                  </a:lnTo>
                  <a:lnTo>
                    <a:pt x="2" y="2421"/>
                  </a:lnTo>
                  <a:lnTo>
                    <a:pt x="2" y="2423"/>
                  </a:lnTo>
                  <a:lnTo>
                    <a:pt x="2" y="2425"/>
                  </a:lnTo>
                  <a:lnTo>
                    <a:pt x="2" y="2425"/>
                  </a:lnTo>
                  <a:lnTo>
                    <a:pt x="4" y="2427"/>
                  </a:lnTo>
                  <a:lnTo>
                    <a:pt x="4" y="2429"/>
                  </a:lnTo>
                  <a:close/>
                </a:path>
              </a:pathLst>
            </a:custGeom>
            <a:solidFill>
              <a:srgbClr val="11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27"/>
            <p:cNvSpPr/>
            <p:nvPr/>
          </p:nvSpPr>
          <p:spPr>
            <a:xfrm>
              <a:off x="2293920" y="1253880"/>
              <a:ext cx="579600" cy="384516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3845160"/>
                <a:gd name="textAreaBottom" fmla="*/ 3845520 h 3845160"/>
              </a:gdLst>
              <a:ahLst/>
              <a:rect l="textAreaLeft" t="textAreaTop" r="textAreaRight" b="textAreaBottom"/>
              <a:pathLst>
                <a:path w="365" h="2422">
                  <a:moveTo>
                    <a:pt x="365" y="18"/>
                  </a:moveTo>
                  <a:lnTo>
                    <a:pt x="365" y="18"/>
                  </a:lnTo>
                  <a:lnTo>
                    <a:pt x="307" y="2"/>
                  </a:lnTo>
                  <a:lnTo>
                    <a:pt x="295" y="0"/>
                  </a:lnTo>
                  <a:lnTo>
                    <a:pt x="294" y="2"/>
                  </a:lnTo>
                  <a:lnTo>
                    <a:pt x="294" y="4"/>
                  </a:lnTo>
                  <a:lnTo>
                    <a:pt x="292" y="4"/>
                  </a:lnTo>
                  <a:lnTo>
                    <a:pt x="292" y="6"/>
                  </a:lnTo>
                  <a:lnTo>
                    <a:pt x="290" y="6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86" y="10"/>
                  </a:lnTo>
                  <a:lnTo>
                    <a:pt x="305" y="14"/>
                  </a:lnTo>
                  <a:lnTo>
                    <a:pt x="363" y="27"/>
                  </a:lnTo>
                  <a:lnTo>
                    <a:pt x="365" y="27"/>
                  </a:lnTo>
                  <a:lnTo>
                    <a:pt x="365" y="25"/>
                  </a:lnTo>
                  <a:lnTo>
                    <a:pt x="365" y="25"/>
                  </a:lnTo>
                  <a:lnTo>
                    <a:pt x="365" y="23"/>
                  </a:lnTo>
                  <a:lnTo>
                    <a:pt x="365" y="21"/>
                  </a:lnTo>
                  <a:lnTo>
                    <a:pt x="365" y="21"/>
                  </a:lnTo>
                  <a:lnTo>
                    <a:pt x="365" y="20"/>
                  </a:lnTo>
                  <a:lnTo>
                    <a:pt x="365" y="18"/>
                  </a:lnTo>
                  <a:lnTo>
                    <a:pt x="365" y="18"/>
                  </a:lnTo>
                  <a:close/>
                  <a:moveTo>
                    <a:pt x="4" y="2420"/>
                  </a:moveTo>
                  <a:lnTo>
                    <a:pt x="59" y="2422"/>
                  </a:lnTo>
                  <a:lnTo>
                    <a:pt x="123" y="2420"/>
                  </a:lnTo>
                  <a:lnTo>
                    <a:pt x="184" y="2416"/>
                  </a:lnTo>
                  <a:lnTo>
                    <a:pt x="246" y="2406"/>
                  </a:lnTo>
                  <a:lnTo>
                    <a:pt x="307" y="2397"/>
                  </a:lnTo>
                  <a:lnTo>
                    <a:pt x="330" y="2391"/>
                  </a:lnTo>
                  <a:lnTo>
                    <a:pt x="330" y="2389"/>
                  </a:lnTo>
                  <a:lnTo>
                    <a:pt x="330" y="2389"/>
                  </a:lnTo>
                  <a:lnTo>
                    <a:pt x="328" y="2387"/>
                  </a:lnTo>
                  <a:lnTo>
                    <a:pt x="328" y="2385"/>
                  </a:lnTo>
                  <a:lnTo>
                    <a:pt x="328" y="2385"/>
                  </a:lnTo>
                  <a:lnTo>
                    <a:pt x="328" y="2383"/>
                  </a:lnTo>
                  <a:lnTo>
                    <a:pt x="328" y="2381"/>
                  </a:lnTo>
                  <a:lnTo>
                    <a:pt x="328" y="2381"/>
                  </a:lnTo>
                  <a:lnTo>
                    <a:pt x="305" y="2387"/>
                  </a:lnTo>
                  <a:lnTo>
                    <a:pt x="244" y="2397"/>
                  </a:lnTo>
                  <a:lnTo>
                    <a:pt x="184" y="2404"/>
                  </a:lnTo>
                  <a:lnTo>
                    <a:pt x="123" y="2410"/>
                  </a:lnTo>
                  <a:lnTo>
                    <a:pt x="59" y="2410"/>
                  </a:lnTo>
                  <a:lnTo>
                    <a:pt x="0" y="2410"/>
                  </a:lnTo>
                  <a:lnTo>
                    <a:pt x="0" y="2410"/>
                  </a:lnTo>
                  <a:lnTo>
                    <a:pt x="2" y="2412"/>
                  </a:lnTo>
                  <a:lnTo>
                    <a:pt x="2" y="2414"/>
                  </a:lnTo>
                  <a:lnTo>
                    <a:pt x="2" y="2414"/>
                  </a:lnTo>
                  <a:lnTo>
                    <a:pt x="2" y="2416"/>
                  </a:lnTo>
                  <a:lnTo>
                    <a:pt x="2" y="2418"/>
                  </a:lnTo>
                  <a:lnTo>
                    <a:pt x="4" y="2418"/>
                  </a:lnTo>
                  <a:lnTo>
                    <a:pt x="4" y="2420"/>
                  </a:lnTo>
                  <a:close/>
                </a:path>
              </a:pathLst>
            </a:custGeom>
            <a:solidFill>
              <a:srgbClr val="12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28"/>
            <p:cNvSpPr/>
            <p:nvPr/>
          </p:nvSpPr>
          <p:spPr>
            <a:xfrm>
              <a:off x="2290680" y="1263600"/>
              <a:ext cx="582840" cy="3825720"/>
            </a:xfrm>
            <a:custGeom>
              <a:avLst/>
              <a:gdLst>
                <a:gd name="textAreaLeft" fmla="*/ 0 w 582840"/>
                <a:gd name="textAreaRight" fmla="*/ 583200 w 582840"/>
                <a:gd name="textAreaTop" fmla="*/ 0 h 3825720"/>
                <a:gd name="textAreaBottom" fmla="*/ 3826080 h 3825720"/>
              </a:gdLst>
              <a:ahLst/>
              <a:rect l="textAreaLeft" t="textAreaTop" r="textAreaRight" b="textAreaBottom"/>
              <a:pathLst>
                <a:path w="367" h="2410">
                  <a:moveTo>
                    <a:pt x="367" y="15"/>
                  </a:moveTo>
                  <a:lnTo>
                    <a:pt x="367" y="15"/>
                  </a:lnTo>
                  <a:lnTo>
                    <a:pt x="307" y="2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290" y="2"/>
                  </a:lnTo>
                  <a:lnTo>
                    <a:pt x="290" y="2"/>
                  </a:lnTo>
                  <a:lnTo>
                    <a:pt x="288" y="4"/>
                  </a:lnTo>
                  <a:lnTo>
                    <a:pt x="288" y="6"/>
                  </a:lnTo>
                  <a:lnTo>
                    <a:pt x="286" y="6"/>
                  </a:lnTo>
                  <a:lnTo>
                    <a:pt x="284" y="8"/>
                  </a:lnTo>
                  <a:lnTo>
                    <a:pt x="284" y="8"/>
                  </a:lnTo>
                  <a:lnTo>
                    <a:pt x="305" y="12"/>
                  </a:lnTo>
                  <a:lnTo>
                    <a:pt x="363" y="25"/>
                  </a:lnTo>
                  <a:lnTo>
                    <a:pt x="365" y="25"/>
                  </a:lnTo>
                  <a:lnTo>
                    <a:pt x="365" y="25"/>
                  </a:lnTo>
                  <a:lnTo>
                    <a:pt x="365" y="23"/>
                  </a:lnTo>
                  <a:lnTo>
                    <a:pt x="365" y="23"/>
                  </a:lnTo>
                  <a:lnTo>
                    <a:pt x="367" y="21"/>
                  </a:lnTo>
                  <a:lnTo>
                    <a:pt x="367" y="19"/>
                  </a:lnTo>
                  <a:lnTo>
                    <a:pt x="367" y="19"/>
                  </a:lnTo>
                  <a:lnTo>
                    <a:pt x="367" y="17"/>
                  </a:lnTo>
                  <a:lnTo>
                    <a:pt x="367" y="15"/>
                  </a:lnTo>
                  <a:close/>
                  <a:moveTo>
                    <a:pt x="4" y="2408"/>
                  </a:moveTo>
                  <a:lnTo>
                    <a:pt x="61" y="2410"/>
                  </a:lnTo>
                  <a:lnTo>
                    <a:pt x="125" y="2408"/>
                  </a:lnTo>
                  <a:lnTo>
                    <a:pt x="186" y="2404"/>
                  </a:lnTo>
                  <a:lnTo>
                    <a:pt x="248" y="2397"/>
                  </a:lnTo>
                  <a:lnTo>
                    <a:pt x="307" y="2385"/>
                  </a:lnTo>
                  <a:lnTo>
                    <a:pt x="330" y="2379"/>
                  </a:lnTo>
                  <a:lnTo>
                    <a:pt x="330" y="2379"/>
                  </a:lnTo>
                  <a:lnTo>
                    <a:pt x="330" y="2377"/>
                  </a:lnTo>
                  <a:lnTo>
                    <a:pt x="330" y="2375"/>
                  </a:lnTo>
                  <a:lnTo>
                    <a:pt x="330" y="2375"/>
                  </a:lnTo>
                  <a:lnTo>
                    <a:pt x="330" y="2374"/>
                  </a:lnTo>
                  <a:lnTo>
                    <a:pt x="330" y="2372"/>
                  </a:lnTo>
                  <a:lnTo>
                    <a:pt x="330" y="2372"/>
                  </a:lnTo>
                  <a:lnTo>
                    <a:pt x="328" y="2370"/>
                  </a:lnTo>
                  <a:lnTo>
                    <a:pt x="305" y="2375"/>
                  </a:lnTo>
                  <a:lnTo>
                    <a:pt x="246" y="2387"/>
                  </a:lnTo>
                  <a:lnTo>
                    <a:pt x="186" y="2395"/>
                  </a:lnTo>
                  <a:lnTo>
                    <a:pt x="125" y="2398"/>
                  </a:lnTo>
                  <a:lnTo>
                    <a:pt x="61" y="2400"/>
                  </a:lnTo>
                  <a:lnTo>
                    <a:pt x="0" y="2398"/>
                  </a:lnTo>
                  <a:lnTo>
                    <a:pt x="0" y="2400"/>
                  </a:lnTo>
                  <a:lnTo>
                    <a:pt x="2" y="2400"/>
                  </a:lnTo>
                  <a:lnTo>
                    <a:pt x="2" y="2402"/>
                  </a:lnTo>
                  <a:lnTo>
                    <a:pt x="2" y="2404"/>
                  </a:lnTo>
                  <a:lnTo>
                    <a:pt x="2" y="2404"/>
                  </a:lnTo>
                  <a:lnTo>
                    <a:pt x="4" y="2406"/>
                  </a:lnTo>
                  <a:lnTo>
                    <a:pt x="4" y="2408"/>
                  </a:lnTo>
                  <a:lnTo>
                    <a:pt x="4" y="2408"/>
                  </a:lnTo>
                  <a:close/>
                </a:path>
              </a:pathLst>
            </a:custGeom>
            <a:solidFill>
              <a:srgbClr val="13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29"/>
            <p:cNvSpPr/>
            <p:nvPr/>
          </p:nvSpPr>
          <p:spPr>
            <a:xfrm>
              <a:off x="2287440" y="1269720"/>
              <a:ext cx="586080" cy="3810240"/>
            </a:xfrm>
            <a:custGeom>
              <a:avLst/>
              <a:gdLst>
                <a:gd name="textAreaLeft" fmla="*/ 0 w 586080"/>
                <a:gd name="textAreaRight" fmla="*/ 586440 w 586080"/>
                <a:gd name="textAreaTop" fmla="*/ 0 h 3810240"/>
                <a:gd name="textAreaBottom" fmla="*/ 3810600 h 3810240"/>
              </a:gdLst>
              <a:ahLst/>
              <a:rect l="textAreaLeft" t="textAreaTop" r="textAreaRight" b="textAreaBottom"/>
              <a:pathLst>
                <a:path w="369" h="2400">
                  <a:moveTo>
                    <a:pt x="369" y="17"/>
                  </a:moveTo>
                  <a:lnTo>
                    <a:pt x="367" y="17"/>
                  </a:lnTo>
                  <a:lnTo>
                    <a:pt x="309" y="4"/>
                  </a:lnTo>
                  <a:lnTo>
                    <a:pt x="290" y="0"/>
                  </a:lnTo>
                  <a:lnTo>
                    <a:pt x="290" y="2"/>
                  </a:lnTo>
                  <a:lnTo>
                    <a:pt x="288" y="2"/>
                  </a:lnTo>
                  <a:lnTo>
                    <a:pt x="286" y="4"/>
                  </a:lnTo>
                  <a:lnTo>
                    <a:pt x="286" y="4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2" y="8"/>
                  </a:lnTo>
                  <a:lnTo>
                    <a:pt x="282" y="10"/>
                  </a:lnTo>
                  <a:lnTo>
                    <a:pt x="305" y="13"/>
                  </a:lnTo>
                  <a:lnTo>
                    <a:pt x="365" y="27"/>
                  </a:lnTo>
                  <a:lnTo>
                    <a:pt x="367" y="27"/>
                  </a:lnTo>
                  <a:lnTo>
                    <a:pt x="367" y="25"/>
                  </a:lnTo>
                  <a:lnTo>
                    <a:pt x="367" y="25"/>
                  </a:lnTo>
                  <a:lnTo>
                    <a:pt x="367" y="23"/>
                  </a:lnTo>
                  <a:lnTo>
                    <a:pt x="367" y="21"/>
                  </a:lnTo>
                  <a:lnTo>
                    <a:pt x="367" y="21"/>
                  </a:lnTo>
                  <a:lnTo>
                    <a:pt x="367" y="19"/>
                  </a:lnTo>
                  <a:lnTo>
                    <a:pt x="367" y="19"/>
                  </a:lnTo>
                  <a:lnTo>
                    <a:pt x="369" y="17"/>
                  </a:lnTo>
                  <a:close/>
                  <a:moveTo>
                    <a:pt x="4" y="2400"/>
                  </a:moveTo>
                  <a:lnTo>
                    <a:pt x="63" y="2400"/>
                  </a:lnTo>
                  <a:lnTo>
                    <a:pt x="127" y="2400"/>
                  </a:lnTo>
                  <a:lnTo>
                    <a:pt x="188" y="2394"/>
                  </a:lnTo>
                  <a:lnTo>
                    <a:pt x="248" y="2387"/>
                  </a:lnTo>
                  <a:lnTo>
                    <a:pt x="309" y="2377"/>
                  </a:lnTo>
                  <a:lnTo>
                    <a:pt x="332" y="2371"/>
                  </a:lnTo>
                  <a:lnTo>
                    <a:pt x="332" y="2370"/>
                  </a:lnTo>
                  <a:lnTo>
                    <a:pt x="332" y="2368"/>
                  </a:lnTo>
                  <a:lnTo>
                    <a:pt x="332" y="2368"/>
                  </a:lnTo>
                  <a:lnTo>
                    <a:pt x="330" y="2366"/>
                  </a:lnTo>
                  <a:lnTo>
                    <a:pt x="330" y="2364"/>
                  </a:lnTo>
                  <a:lnTo>
                    <a:pt x="330" y="2364"/>
                  </a:lnTo>
                  <a:lnTo>
                    <a:pt x="330" y="2362"/>
                  </a:lnTo>
                  <a:lnTo>
                    <a:pt x="330" y="2360"/>
                  </a:lnTo>
                  <a:lnTo>
                    <a:pt x="305" y="2366"/>
                  </a:lnTo>
                  <a:lnTo>
                    <a:pt x="248" y="2377"/>
                  </a:lnTo>
                  <a:lnTo>
                    <a:pt x="186" y="2385"/>
                  </a:lnTo>
                  <a:lnTo>
                    <a:pt x="127" y="2389"/>
                  </a:lnTo>
                  <a:lnTo>
                    <a:pt x="63" y="2391"/>
                  </a:lnTo>
                  <a:lnTo>
                    <a:pt x="2" y="2389"/>
                  </a:lnTo>
                  <a:lnTo>
                    <a:pt x="0" y="2389"/>
                  </a:lnTo>
                  <a:lnTo>
                    <a:pt x="0" y="2391"/>
                  </a:lnTo>
                  <a:lnTo>
                    <a:pt x="2" y="2393"/>
                  </a:lnTo>
                  <a:lnTo>
                    <a:pt x="2" y="2393"/>
                  </a:lnTo>
                  <a:lnTo>
                    <a:pt x="2" y="2394"/>
                  </a:lnTo>
                  <a:lnTo>
                    <a:pt x="2" y="2396"/>
                  </a:lnTo>
                  <a:lnTo>
                    <a:pt x="4" y="2396"/>
                  </a:lnTo>
                  <a:lnTo>
                    <a:pt x="4" y="2398"/>
                  </a:lnTo>
                  <a:lnTo>
                    <a:pt x="4" y="2400"/>
                  </a:lnTo>
                  <a:close/>
                </a:path>
              </a:pathLst>
            </a:custGeom>
            <a:solidFill>
              <a:srgbClr val="14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30"/>
            <p:cNvSpPr/>
            <p:nvPr/>
          </p:nvSpPr>
          <p:spPr>
            <a:xfrm>
              <a:off x="2284560" y="1276200"/>
              <a:ext cx="585720" cy="3797280"/>
            </a:xfrm>
            <a:custGeom>
              <a:avLst/>
              <a:gdLst>
                <a:gd name="textAreaLeft" fmla="*/ 0 w 585720"/>
                <a:gd name="textAreaRight" fmla="*/ 585720 w 585720"/>
                <a:gd name="textAreaTop" fmla="*/ 0 h 3797280"/>
                <a:gd name="textAreaBottom" fmla="*/ 3797640 h 3797280"/>
              </a:gdLst>
              <a:ahLst/>
              <a:rect l="textAreaLeft" t="textAreaTop" r="textAreaRight" b="textAreaBottom"/>
              <a:pathLst>
                <a:path w="369" h="2392">
                  <a:moveTo>
                    <a:pt x="369" y="17"/>
                  </a:moveTo>
                  <a:lnTo>
                    <a:pt x="367" y="17"/>
                  </a:lnTo>
                  <a:lnTo>
                    <a:pt x="309" y="4"/>
                  </a:lnTo>
                  <a:lnTo>
                    <a:pt x="288" y="0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84" y="4"/>
                  </a:lnTo>
                  <a:lnTo>
                    <a:pt x="284" y="6"/>
                  </a:lnTo>
                  <a:lnTo>
                    <a:pt x="282" y="6"/>
                  </a:lnTo>
                  <a:lnTo>
                    <a:pt x="282" y="7"/>
                  </a:lnTo>
                  <a:lnTo>
                    <a:pt x="280" y="7"/>
                  </a:lnTo>
                  <a:lnTo>
                    <a:pt x="278" y="9"/>
                  </a:lnTo>
                  <a:lnTo>
                    <a:pt x="307" y="15"/>
                  </a:lnTo>
                  <a:lnTo>
                    <a:pt x="365" y="27"/>
                  </a:lnTo>
                  <a:lnTo>
                    <a:pt x="367" y="29"/>
                  </a:lnTo>
                  <a:lnTo>
                    <a:pt x="367" y="27"/>
                  </a:lnTo>
                  <a:lnTo>
                    <a:pt x="367" y="25"/>
                  </a:lnTo>
                  <a:lnTo>
                    <a:pt x="367" y="25"/>
                  </a:lnTo>
                  <a:lnTo>
                    <a:pt x="369" y="23"/>
                  </a:lnTo>
                  <a:lnTo>
                    <a:pt x="369" y="21"/>
                  </a:lnTo>
                  <a:lnTo>
                    <a:pt x="369" y="21"/>
                  </a:lnTo>
                  <a:lnTo>
                    <a:pt x="369" y="19"/>
                  </a:lnTo>
                  <a:lnTo>
                    <a:pt x="369" y="17"/>
                  </a:lnTo>
                  <a:close/>
                  <a:moveTo>
                    <a:pt x="4" y="2390"/>
                  </a:moveTo>
                  <a:lnTo>
                    <a:pt x="65" y="2392"/>
                  </a:lnTo>
                  <a:lnTo>
                    <a:pt x="129" y="2390"/>
                  </a:lnTo>
                  <a:lnTo>
                    <a:pt x="190" y="2387"/>
                  </a:lnTo>
                  <a:lnTo>
                    <a:pt x="250" y="2379"/>
                  </a:lnTo>
                  <a:lnTo>
                    <a:pt x="309" y="2367"/>
                  </a:lnTo>
                  <a:lnTo>
                    <a:pt x="332" y="2362"/>
                  </a:lnTo>
                  <a:lnTo>
                    <a:pt x="332" y="2360"/>
                  </a:lnTo>
                  <a:lnTo>
                    <a:pt x="332" y="2360"/>
                  </a:lnTo>
                  <a:lnTo>
                    <a:pt x="332" y="2358"/>
                  </a:lnTo>
                  <a:lnTo>
                    <a:pt x="332" y="2356"/>
                  </a:lnTo>
                  <a:lnTo>
                    <a:pt x="332" y="2356"/>
                  </a:lnTo>
                  <a:lnTo>
                    <a:pt x="332" y="2354"/>
                  </a:lnTo>
                  <a:lnTo>
                    <a:pt x="332" y="2352"/>
                  </a:lnTo>
                  <a:lnTo>
                    <a:pt x="332" y="2352"/>
                  </a:lnTo>
                  <a:lnTo>
                    <a:pt x="307" y="2358"/>
                  </a:lnTo>
                  <a:lnTo>
                    <a:pt x="248" y="2367"/>
                  </a:lnTo>
                  <a:lnTo>
                    <a:pt x="188" y="2375"/>
                  </a:lnTo>
                  <a:lnTo>
                    <a:pt x="127" y="2381"/>
                  </a:lnTo>
                  <a:lnTo>
                    <a:pt x="65" y="2381"/>
                  </a:lnTo>
                  <a:lnTo>
                    <a:pt x="4" y="2381"/>
                  </a:lnTo>
                  <a:lnTo>
                    <a:pt x="0" y="2379"/>
                  </a:lnTo>
                  <a:lnTo>
                    <a:pt x="2" y="2381"/>
                  </a:lnTo>
                  <a:lnTo>
                    <a:pt x="2" y="2383"/>
                  </a:lnTo>
                  <a:lnTo>
                    <a:pt x="2" y="2385"/>
                  </a:lnTo>
                  <a:lnTo>
                    <a:pt x="2" y="2385"/>
                  </a:lnTo>
                  <a:lnTo>
                    <a:pt x="2" y="2387"/>
                  </a:lnTo>
                  <a:lnTo>
                    <a:pt x="4" y="2389"/>
                  </a:lnTo>
                  <a:lnTo>
                    <a:pt x="4" y="2389"/>
                  </a:lnTo>
                  <a:lnTo>
                    <a:pt x="4" y="2390"/>
                  </a:lnTo>
                  <a:close/>
                </a:path>
              </a:pathLst>
            </a:custGeom>
            <a:solidFill>
              <a:srgbClr val="15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31"/>
            <p:cNvSpPr/>
            <p:nvPr/>
          </p:nvSpPr>
          <p:spPr>
            <a:xfrm>
              <a:off x="2281320" y="1285560"/>
              <a:ext cx="588960" cy="378000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3780000"/>
                <a:gd name="textAreaBottom" fmla="*/ 3780360 h 3780000"/>
              </a:gdLst>
              <a:ahLst/>
              <a:rect l="textAreaLeft" t="textAreaTop" r="textAreaRight" b="textAreaBottom"/>
              <a:pathLst>
                <a:path w="371" h="2381">
                  <a:moveTo>
                    <a:pt x="371" y="17"/>
                  </a:moveTo>
                  <a:lnTo>
                    <a:pt x="369" y="17"/>
                  </a:lnTo>
                  <a:lnTo>
                    <a:pt x="309" y="3"/>
                  </a:lnTo>
                  <a:lnTo>
                    <a:pt x="286" y="0"/>
                  </a:lnTo>
                  <a:lnTo>
                    <a:pt x="284" y="0"/>
                  </a:lnTo>
                  <a:lnTo>
                    <a:pt x="284" y="1"/>
                  </a:lnTo>
                  <a:lnTo>
                    <a:pt x="282" y="1"/>
                  </a:lnTo>
                  <a:lnTo>
                    <a:pt x="280" y="3"/>
                  </a:lnTo>
                  <a:lnTo>
                    <a:pt x="280" y="5"/>
                  </a:lnTo>
                  <a:lnTo>
                    <a:pt x="279" y="5"/>
                  </a:lnTo>
                  <a:lnTo>
                    <a:pt x="279" y="7"/>
                  </a:lnTo>
                  <a:lnTo>
                    <a:pt x="277" y="7"/>
                  </a:lnTo>
                  <a:lnTo>
                    <a:pt x="307" y="13"/>
                  </a:lnTo>
                  <a:lnTo>
                    <a:pt x="365" y="26"/>
                  </a:lnTo>
                  <a:lnTo>
                    <a:pt x="369" y="26"/>
                  </a:lnTo>
                  <a:lnTo>
                    <a:pt x="369" y="26"/>
                  </a:lnTo>
                  <a:lnTo>
                    <a:pt x="369" y="24"/>
                  </a:lnTo>
                  <a:lnTo>
                    <a:pt x="369" y="23"/>
                  </a:lnTo>
                  <a:lnTo>
                    <a:pt x="369" y="23"/>
                  </a:lnTo>
                  <a:lnTo>
                    <a:pt x="369" y="21"/>
                  </a:lnTo>
                  <a:lnTo>
                    <a:pt x="369" y="19"/>
                  </a:lnTo>
                  <a:lnTo>
                    <a:pt x="369" y="19"/>
                  </a:lnTo>
                  <a:lnTo>
                    <a:pt x="371" y="17"/>
                  </a:lnTo>
                  <a:close/>
                  <a:moveTo>
                    <a:pt x="4" y="2379"/>
                  </a:moveTo>
                  <a:lnTo>
                    <a:pt x="6" y="2379"/>
                  </a:lnTo>
                  <a:lnTo>
                    <a:pt x="67" y="2381"/>
                  </a:lnTo>
                  <a:lnTo>
                    <a:pt x="131" y="2379"/>
                  </a:lnTo>
                  <a:lnTo>
                    <a:pt x="190" y="2375"/>
                  </a:lnTo>
                  <a:lnTo>
                    <a:pt x="252" y="2367"/>
                  </a:lnTo>
                  <a:lnTo>
                    <a:pt x="309" y="2356"/>
                  </a:lnTo>
                  <a:lnTo>
                    <a:pt x="334" y="2350"/>
                  </a:lnTo>
                  <a:lnTo>
                    <a:pt x="334" y="2350"/>
                  </a:lnTo>
                  <a:lnTo>
                    <a:pt x="334" y="2348"/>
                  </a:lnTo>
                  <a:lnTo>
                    <a:pt x="334" y="2346"/>
                  </a:lnTo>
                  <a:lnTo>
                    <a:pt x="334" y="2346"/>
                  </a:lnTo>
                  <a:lnTo>
                    <a:pt x="334" y="2344"/>
                  </a:lnTo>
                  <a:lnTo>
                    <a:pt x="332" y="2344"/>
                  </a:lnTo>
                  <a:lnTo>
                    <a:pt x="332" y="2342"/>
                  </a:lnTo>
                  <a:lnTo>
                    <a:pt x="332" y="2340"/>
                  </a:lnTo>
                  <a:lnTo>
                    <a:pt x="307" y="2346"/>
                  </a:lnTo>
                  <a:lnTo>
                    <a:pt x="250" y="2358"/>
                  </a:lnTo>
                  <a:lnTo>
                    <a:pt x="190" y="2365"/>
                  </a:lnTo>
                  <a:lnTo>
                    <a:pt x="129" y="2369"/>
                  </a:lnTo>
                  <a:lnTo>
                    <a:pt x="67" y="2371"/>
                  </a:lnTo>
                  <a:lnTo>
                    <a:pt x="6" y="2369"/>
                  </a:lnTo>
                  <a:lnTo>
                    <a:pt x="0" y="2369"/>
                  </a:lnTo>
                  <a:lnTo>
                    <a:pt x="2" y="2369"/>
                  </a:lnTo>
                  <a:lnTo>
                    <a:pt x="2" y="2371"/>
                  </a:lnTo>
                  <a:lnTo>
                    <a:pt x="2" y="2373"/>
                  </a:lnTo>
                  <a:lnTo>
                    <a:pt x="2" y="2373"/>
                  </a:lnTo>
                  <a:lnTo>
                    <a:pt x="4" y="2375"/>
                  </a:lnTo>
                  <a:lnTo>
                    <a:pt x="4" y="2377"/>
                  </a:lnTo>
                  <a:lnTo>
                    <a:pt x="4" y="2379"/>
                  </a:lnTo>
                  <a:lnTo>
                    <a:pt x="4" y="2379"/>
                  </a:lnTo>
                  <a:close/>
                </a:path>
              </a:pathLst>
            </a:custGeom>
            <a:solidFill>
              <a:srgbClr val="16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32"/>
            <p:cNvSpPr/>
            <p:nvPr/>
          </p:nvSpPr>
          <p:spPr>
            <a:xfrm>
              <a:off x="2278080" y="1290600"/>
              <a:ext cx="588960" cy="376524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3765240"/>
                <a:gd name="textAreaBottom" fmla="*/ 3765600 h 3765240"/>
              </a:gdLst>
              <a:ahLst/>
              <a:rect l="textAreaLeft" t="textAreaTop" r="textAreaRight" b="textAreaBottom"/>
              <a:pathLst>
                <a:path w="371" h="2372">
                  <a:moveTo>
                    <a:pt x="371" y="20"/>
                  </a:moveTo>
                  <a:lnTo>
                    <a:pt x="369" y="18"/>
                  </a:lnTo>
                  <a:lnTo>
                    <a:pt x="311" y="6"/>
                  </a:lnTo>
                  <a:lnTo>
                    <a:pt x="282" y="0"/>
                  </a:lnTo>
                  <a:lnTo>
                    <a:pt x="282" y="2"/>
                  </a:lnTo>
                  <a:lnTo>
                    <a:pt x="281" y="2"/>
                  </a:lnTo>
                  <a:lnTo>
                    <a:pt x="281" y="4"/>
                  </a:lnTo>
                  <a:lnTo>
                    <a:pt x="279" y="4"/>
                  </a:lnTo>
                  <a:lnTo>
                    <a:pt x="279" y="6"/>
                  </a:lnTo>
                  <a:lnTo>
                    <a:pt x="277" y="6"/>
                  </a:lnTo>
                  <a:lnTo>
                    <a:pt x="277" y="8"/>
                  </a:lnTo>
                  <a:lnTo>
                    <a:pt x="275" y="10"/>
                  </a:lnTo>
                  <a:lnTo>
                    <a:pt x="309" y="16"/>
                  </a:lnTo>
                  <a:lnTo>
                    <a:pt x="367" y="29"/>
                  </a:lnTo>
                  <a:lnTo>
                    <a:pt x="369" y="29"/>
                  </a:lnTo>
                  <a:lnTo>
                    <a:pt x="369" y="27"/>
                  </a:lnTo>
                  <a:lnTo>
                    <a:pt x="369" y="27"/>
                  </a:lnTo>
                  <a:lnTo>
                    <a:pt x="371" y="25"/>
                  </a:lnTo>
                  <a:lnTo>
                    <a:pt x="371" y="23"/>
                  </a:lnTo>
                  <a:lnTo>
                    <a:pt x="371" y="23"/>
                  </a:lnTo>
                  <a:lnTo>
                    <a:pt x="371" y="21"/>
                  </a:lnTo>
                  <a:lnTo>
                    <a:pt x="371" y="20"/>
                  </a:lnTo>
                  <a:lnTo>
                    <a:pt x="371" y="20"/>
                  </a:lnTo>
                  <a:close/>
                  <a:moveTo>
                    <a:pt x="4" y="2370"/>
                  </a:moveTo>
                  <a:lnTo>
                    <a:pt x="8" y="2372"/>
                  </a:lnTo>
                  <a:lnTo>
                    <a:pt x="69" y="2372"/>
                  </a:lnTo>
                  <a:lnTo>
                    <a:pt x="131" y="2372"/>
                  </a:lnTo>
                  <a:lnTo>
                    <a:pt x="192" y="2366"/>
                  </a:lnTo>
                  <a:lnTo>
                    <a:pt x="252" y="2358"/>
                  </a:lnTo>
                  <a:lnTo>
                    <a:pt x="311" y="2349"/>
                  </a:lnTo>
                  <a:lnTo>
                    <a:pt x="336" y="2343"/>
                  </a:lnTo>
                  <a:lnTo>
                    <a:pt x="336" y="2341"/>
                  </a:lnTo>
                  <a:lnTo>
                    <a:pt x="334" y="2341"/>
                  </a:lnTo>
                  <a:lnTo>
                    <a:pt x="334" y="2339"/>
                  </a:lnTo>
                  <a:lnTo>
                    <a:pt x="334" y="2337"/>
                  </a:lnTo>
                  <a:lnTo>
                    <a:pt x="334" y="2337"/>
                  </a:lnTo>
                  <a:lnTo>
                    <a:pt x="334" y="2335"/>
                  </a:lnTo>
                  <a:lnTo>
                    <a:pt x="334" y="2333"/>
                  </a:lnTo>
                  <a:lnTo>
                    <a:pt x="334" y="2333"/>
                  </a:lnTo>
                  <a:lnTo>
                    <a:pt x="309" y="2339"/>
                  </a:lnTo>
                  <a:lnTo>
                    <a:pt x="250" y="2349"/>
                  </a:lnTo>
                  <a:lnTo>
                    <a:pt x="190" y="2357"/>
                  </a:lnTo>
                  <a:lnTo>
                    <a:pt x="131" y="2360"/>
                  </a:lnTo>
                  <a:lnTo>
                    <a:pt x="69" y="2362"/>
                  </a:lnTo>
                  <a:lnTo>
                    <a:pt x="10" y="2360"/>
                  </a:lnTo>
                  <a:lnTo>
                    <a:pt x="0" y="2360"/>
                  </a:lnTo>
                  <a:lnTo>
                    <a:pt x="2" y="2362"/>
                  </a:lnTo>
                  <a:lnTo>
                    <a:pt x="2" y="2362"/>
                  </a:lnTo>
                  <a:lnTo>
                    <a:pt x="2" y="2364"/>
                  </a:lnTo>
                  <a:lnTo>
                    <a:pt x="2" y="2366"/>
                  </a:lnTo>
                  <a:lnTo>
                    <a:pt x="4" y="2366"/>
                  </a:lnTo>
                  <a:lnTo>
                    <a:pt x="4" y="2368"/>
                  </a:lnTo>
                  <a:lnTo>
                    <a:pt x="4" y="2370"/>
                  </a:lnTo>
                  <a:lnTo>
                    <a:pt x="4" y="2370"/>
                  </a:lnTo>
                  <a:close/>
                </a:path>
              </a:pathLst>
            </a:custGeom>
            <a:solidFill>
              <a:srgbClr val="17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33"/>
            <p:cNvSpPr/>
            <p:nvPr/>
          </p:nvSpPr>
          <p:spPr>
            <a:xfrm>
              <a:off x="2274840" y="1296720"/>
              <a:ext cx="592200" cy="375300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3753000"/>
                <a:gd name="textAreaBottom" fmla="*/ 3753360 h 3753000"/>
              </a:gdLst>
              <a:ahLst/>
              <a:rect l="textAreaLeft" t="textAreaTop" r="textAreaRight" b="textAreaBottom"/>
              <a:pathLst>
                <a:path w="373" h="2364">
                  <a:moveTo>
                    <a:pt x="373" y="19"/>
                  </a:moveTo>
                  <a:lnTo>
                    <a:pt x="369" y="19"/>
                  </a:lnTo>
                  <a:lnTo>
                    <a:pt x="311" y="6"/>
                  </a:lnTo>
                  <a:lnTo>
                    <a:pt x="281" y="0"/>
                  </a:lnTo>
                  <a:lnTo>
                    <a:pt x="281" y="2"/>
                  </a:lnTo>
                  <a:lnTo>
                    <a:pt x="279" y="2"/>
                  </a:lnTo>
                  <a:lnTo>
                    <a:pt x="279" y="4"/>
                  </a:lnTo>
                  <a:lnTo>
                    <a:pt x="277" y="6"/>
                  </a:lnTo>
                  <a:lnTo>
                    <a:pt x="275" y="6"/>
                  </a:lnTo>
                  <a:lnTo>
                    <a:pt x="275" y="8"/>
                  </a:lnTo>
                  <a:lnTo>
                    <a:pt x="273" y="8"/>
                  </a:lnTo>
                  <a:lnTo>
                    <a:pt x="273" y="10"/>
                  </a:lnTo>
                  <a:lnTo>
                    <a:pt x="309" y="16"/>
                  </a:lnTo>
                  <a:lnTo>
                    <a:pt x="367" y="29"/>
                  </a:lnTo>
                  <a:lnTo>
                    <a:pt x="371" y="31"/>
                  </a:lnTo>
                  <a:lnTo>
                    <a:pt x="371" y="29"/>
                  </a:lnTo>
                  <a:lnTo>
                    <a:pt x="371" y="27"/>
                  </a:lnTo>
                  <a:lnTo>
                    <a:pt x="371" y="27"/>
                  </a:lnTo>
                  <a:lnTo>
                    <a:pt x="371" y="25"/>
                  </a:lnTo>
                  <a:lnTo>
                    <a:pt x="371" y="23"/>
                  </a:lnTo>
                  <a:lnTo>
                    <a:pt x="371" y="23"/>
                  </a:lnTo>
                  <a:lnTo>
                    <a:pt x="373" y="21"/>
                  </a:lnTo>
                  <a:lnTo>
                    <a:pt x="373" y="19"/>
                  </a:lnTo>
                  <a:close/>
                  <a:moveTo>
                    <a:pt x="4" y="2362"/>
                  </a:moveTo>
                  <a:lnTo>
                    <a:pt x="10" y="2362"/>
                  </a:lnTo>
                  <a:lnTo>
                    <a:pt x="71" y="2364"/>
                  </a:lnTo>
                  <a:lnTo>
                    <a:pt x="133" y="2362"/>
                  </a:lnTo>
                  <a:lnTo>
                    <a:pt x="194" y="2358"/>
                  </a:lnTo>
                  <a:lnTo>
                    <a:pt x="254" y="2351"/>
                  </a:lnTo>
                  <a:lnTo>
                    <a:pt x="311" y="2339"/>
                  </a:lnTo>
                  <a:lnTo>
                    <a:pt x="336" y="2333"/>
                  </a:lnTo>
                  <a:lnTo>
                    <a:pt x="336" y="2333"/>
                  </a:lnTo>
                  <a:lnTo>
                    <a:pt x="336" y="2331"/>
                  </a:lnTo>
                  <a:lnTo>
                    <a:pt x="336" y="2329"/>
                  </a:lnTo>
                  <a:lnTo>
                    <a:pt x="336" y="2329"/>
                  </a:lnTo>
                  <a:lnTo>
                    <a:pt x="336" y="2328"/>
                  </a:lnTo>
                  <a:lnTo>
                    <a:pt x="336" y="2326"/>
                  </a:lnTo>
                  <a:lnTo>
                    <a:pt x="334" y="2326"/>
                  </a:lnTo>
                  <a:lnTo>
                    <a:pt x="334" y="2324"/>
                  </a:lnTo>
                  <a:lnTo>
                    <a:pt x="309" y="2329"/>
                  </a:lnTo>
                  <a:lnTo>
                    <a:pt x="252" y="2339"/>
                  </a:lnTo>
                  <a:lnTo>
                    <a:pt x="192" y="2347"/>
                  </a:lnTo>
                  <a:lnTo>
                    <a:pt x="133" y="2353"/>
                  </a:lnTo>
                  <a:lnTo>
                    <a:pt x="71" y="2353"/>
                  </a:lnTo>
                  <a:lnTo>
                    <a:pt x="12" y="2353"/>
                  </a:lnTo>
                  <a:lnTo>
                    <a:pt x="0" y="2351"/>
                  </a:lnTo>
                  <a:lnTo>
                    <a:pt x="2" y="2353"/>
                  </a:lnTo>
                  <a:lnTo>
                    <a:pt x="2" y="2354"/>
                  </a:lnTo>
                  <a:lnTo>
                    <a:pt x="2" y="2354"/>
                  </a:lnTo>
                  <a:lnTo>
                    <a:pt x="2" y="2356"/>
                  </a:lnTo>
                  <a:lnTo>
                    <a:pt x="4" y="2358"/>
                  </a:lnTo>
                  <a:lnTo>
                    <a:pt x="4" y="2358"/>
                  </a:lnTo>
                  <a:lnTo>
                    <a:pt x="4" y="2360"/>
                  </a:lnTo>
                  <a:lnTo>
                    <a:pt x="4" y="2362"/>
                  </a:lnTo>
                  <a:close/>
                </a:path>
              </a:pathLst>
            </a:custGeom>
            <a:solidFill>
              <a:srgbClr val="18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34"/>
            <p:cNvSpPr/>
            <p:nvPr/>
          </p:nvSpPr>
          <p:spPr>
            <a:xfrm>
              <a:off x="2274840" y="1306440"/>
              <a:ext cx="588960" cy="373356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3733560"/>
                <a:gd name="textAreaBottom" fmla="*/ 3733920 h 3733560"/>
              </a:gdLst>
              <a:ahLst/>
              <a:rect l="textAreaLeft" t="textAreaTop" r="textAreaRight" b="textAreaBottom"/>
              <a:pathLst>
                <a:path w="371" h="2352">
                  <a:moveTo>
                    <a:pt x="371" y="19"/>
                  </a:moveTo>
                  <a:lnTo>
                    <a:pt x="369" y="19"/>
                  </a:lnTo>
                  <a:lnTo>
                    <a:pt x="311" y="6"/>
                  </a:lnTo>
                  <a:lnTo>
                    <a:pt x="277" y="0"/>
                  </a:lnTo>
                  <a:lnTo>
                    <a:pt x="275" y="0"/>
                  </a:lnTo>
                  <a:lnTo>
                    <a:pt x="275" y="2"/>
                  </a:lnTo>
                  <a:lnTo>
                    <a:pt x="273" y="2"/>
                  </a:lnTo>
                  <a:lnTo>
                    <a:pt x="273" y="4"/>
                  </a:lnTo>
                  <a:lnTo>
                    <a:pt x="271" y="4"/>
                  </a:lnTo>
                  <a:lnTo>
                    <a:pt x="271" y="6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309" y="15"/>
                  </a:lnTo>
                  <a:lnTo>
                    <a:pt x="365" y="29"/>
                  </a:lnTo>
                  <a:lnTo>
                    <a:pt x="369" y="29"/>
                  </a:lnTo>
                  <a:lnTo>
                    <a:pt x="369" y="29"/>
                  </a:lnTo>
                  <a:lnTo>
                    <a:pt x="369" y="27"/>
                  </a:lnTo>
                  <a:lnTo>
                    <a:pt x="371" y="25"/>
                  </a:lnTo>
                  <a:lnTo>
                    <a:pt x="371" y="25"/>
                  </a:lnTo>
                  <a:lnTo>
                    <a:pt x="371" y="23"/>
                  </a:lnTo>
                  <a:lnTo>
                    <a:pt x="371" y="21"/>
                  </a:lnTo>
                  <a:lnTo>
                    <a:pt x="371" y="21"/>
                  </a:lnTo>
                  <a:lnTo>
                    <a:pt x="371" y="19"/>
                  </a:lnTo>
                  <a:close/>
                  <a:moveTo>
                    <a:pt x="2" y="2350"/>
                  </a:moveTo>
                  <a:lnTo>
                    <a:pt x="12" y="2350"/>
                  </a:lnTo>
                  <a:lnTo>
                    <a:pt x="71" y="2352"/>
                  </a:lnTo>
                  <a:lnTo>
                    <a:pt x="133" y="2350"/>
                  </a:lnTo>
                  <a:lnTo>
                    <a:pt x="192" y="2347"/>
                  </a:lnTo>
                  <a:lnTo>
                    <a:pt x="252" y="2339"/>
                  </a:lnTo>
                  <a:lnTo>
                    <a:pt x="311" y="2329"/>
                  </a:lnTo>
                  <a:lnTo>
                    <a:pt x="336" y="2323"/>
                  </a:lnTo>
                  <a:lnTo>
                    <a:pt x="336" y="2322"/>
                  </a:lnTo>
                  <a:lnTo>
                    <a:pt x="336" y="2320"/>
                  </a:lnTo>
                  <a:lnTo>
                    <a:pt x="334" y="2320"/>
                  </a:lnTo>
                  <a:lnTo>
                    <a:pt x="334" y="2318"/>
                  </a:lnTo>
                  <a:lnTo>
                    <a:pt x="334" y="2316"/>
                  </a:lnTo>
                  <a:lnTo>
                    <a:pt x="334" y="2316"/>
                  </a:lnTo>
                  <a:lnTo>
                    <a:pt x="334" y="2314"/>
                  </a:lnTo>
                  <a:lnTo>
                    <a:pt x="334" y="2312"/>
                  </a:lnTo>
                  <a:lnTo>
                    <a:pt x="309" y="2318"/>
                  </a:lnTo>
                  <a:lnTo>
                    <a:pt x="252" y="2329"/>
                  </a:lnTo>
                  <a:lnTo>
                    <a:pt x="192" y="2337"/>
                  </a:lnTo>
                  <a:lnTo>
                    <a:pt x="133" y="2341"/>
                  </a:lnTo>
                  <a:lnTo>
                    <a:pt x="71" y="2343"/>
                  </a:lnTo>
                  <a:lnTo>
                    <a:pt x="12" y="2341"/>
                  </a:lnTo>
                  <a:lnTo>
                    <a:pt x="0" y="2339"/>
                  </a:lnTo>
                  <a:lnTo>
                    <a:pt x="0" y="2341"/>
                  </a:lnTo>
                  <a:lnTo>
                    <a:pt x="0" y="2343"/>
                  </a:lnTo>
                  <a:lnTo>
                    <a:pt x="0" y="2345"/>
                  </a:lnTo>
                  <a:lnTo>
                    <a:pt x="0" y="2345"/>
                  </a:lnTo>
                  <a:lnTo>
                    <a:pt x="2" y="2347"/>
                  </a:lnTo>
                  <a:lnTo>
                    <a:pt x="2" y="2348"/>
                  </a:lnTo>
                  <a:lnTo>
                    <a:pt x="2" y="2348"/>
                  </a:lnTo>
                  <a:lnTo>
                    <a:pt x="2" y="2350"/>
                  </a:lnTo>
                  <a:close/>
                </a:path>
              </a:pathLst>
            </a:custGeom>
            <a:solidFill>
              <a:srgbClr val="19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Freeform 35"/>
            <p:cNvSpPr/>
            <p:nvPr/>
          </p:nvSpPr>
          <p:spPr>
            <a:xfrm>
              <a:off x="2271600" y="1312560"/>
              <a:ext cx="592200" cy="371952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3719520"/>
                <a:gd name="textAreaBottom" fmla="*/ 3719880 h 3719520"/>
              </a:gdLst>
              <a:ahLst/>
              <a:rect l="textAreaLeft" t="textAreaTop" r="textAreaRight" b="textAreaBottom"/>
              <a:pathLst>
                <a:path w="373" h="2343">
                  <a:moveTo>
                    <a:pt x="373" y="21"/>
                  </a:moveTo>
                  <a:lnTo>
                    <a:pt x="369" y="19"/>
                  </a:lnTo>
                  <a:lnTo>
                    <a:pt x="311" y="6"/>
                  </a:lnTo>
                  <a:lnTo>
                    <a:pt x="275" y="0"/>
                  </a:lnTo>
                  <a:lnTo>
                    <a:pt x="273" y="0"/>
                  </a:lnTo>
                  <a:lnTo>
                    <a:pt x="273" y="2"/>
                  </a:lnTo>
                  <a:lnTo>
                    <a:pt x="271" y="4"/>
                  </a:lnTo>
                  <a:lnTo>
                    <a:pt x="271" y="4"/>
                  </a:lnTo>
                  <a:lnTo>
                    <a:pt x="269" y="6"/>
                  </a:lnTo>
                  <a:lnTo>
                    <a:pt x="269" y="6"/>
                  </a:lnTo>
                  <a:lnTo>
                    <a:pt x="267" y="7"/>
                  </a:lnTo>
                  <a:lnTo>
                    <a:pt x="265" y="9"/>
                  </a:lnTo>
                  <a:lnTo>
                    <a:pt x="309" y="17"/>
                  </a:lnTo>
                  <a:lnTo>
                    <a:pt x="367" y="29"/>
                  </a:lnTo>
                  <a:lnTo>
                    <a:pt x="371" y="30"/>
                  </a:lnTo>
                  <a:lnTo>
                    <a:pt x="371" y="29"/>
                  </a:lnTo>
                  <a:lnTo>
                    <a:pt x="371" y="29"/>
                  </a:lnTo>
                  <a:lnTo>
                    <a:pt x="371" y="27"/>
                  </a:lnTo>
                  <a:lnTo>
                    <a:pt x="371" y="25"/>
                  </a:lnTo>
                  <a:lnTo>
                    <a:pt x="371" y="25"/>
                  </a:lnTo>
                  <a:lnTo>
                    <a:pt x="371" y="23"/>
                  </a:lnTo>
                  <a:lnTo>
                    <a:pt x="373" y="21"/>
                  </a:lnTo>
                  <a:lnTo>
                    <a:pt x="373" y="21"/>
                  </a:lnTo>
                  <a:close/>
                  <a:moveTo>
                    <a:pt x="2" y="2341"/>
                  </a:moveTo>
                  <a:lnTo>
                    <a:pt x="14" y="2343"/>
                  </a:lnTo>
                  <a:lnTo>
                    <a:pt x="73" y="2343"/>
                  </a:lnTo>
                  <a:lnTo>
                    <a:pt x="135" y="2343"/>
                  </a:lnTo>
                  <a:lnTo>
                    <a:pt x="194" y="2337"/>
                  </a:lnTo>
                  <a:lnTo>
                    <a:pt x="254" y="2329"/>
                  </a:lnTo>
                  <a:lnTo>
                    <a:pt x="311" y="2319"/>
                  </a:lnTo>
                  <a:lnTo>
                    <a:pt x="336" y="2314"/>
                  </a:lnTo>
                  <a:lnTo>
                    <a:pt x="336" y="2312"/>
                  </a:lnTo>
                  <a:lnTo>
                    <a:pt x="336" y="2312"/>
                  </a:lnTo>
                  <a:lnTo>
                    <a:pt x="336" y="2310"/>
                  </a:lnTo>
                  <a:lnTo>
                    <a:pt x="336" y="2308"/>
                  </a:lnTo>
                  <a:lnTo>
                    <a:pt x="336" y="2308"/>
                  </a:lnTo>
                  <a:lnTo>
                    <a:pt x="336" y="2306"/>
                  </a:lnTo>
                  <a:lnTo>
                    <a:pt x="336" y="2304"/>
                  </a:lnTo>
                  <a:lnTo>
                    <a:pt x="336" y="2304"/>
                  </a:lnTo>
                  <a:lnTo>
                    <a:pt x="309" y="2310"/>
                  </a:lnTo>
                  <a:lnTo>
                    <a:pt x="252" y="2319"/>
                  </a:lnTo>
                  <a:lnTo>
                    <a:pt x="194" y="2327"/>
                  </a:lnTo>
                  <a:lnTo>
                    <a:pt x="135" y="2331"/>
                  </a:lnTo>
                  <a:lnTo>
                    <a:pt x="73" y="2333"/>
                  </a:lnTo>
                  <a:lnTo>
                    <a:pt x="14" y="2331"/>
                  </a:lnTo>
                  <a:lnTo>
                    <a:pt x="0" y="2331"/>
                  </a:lnTo>
                  <a:lnTo>
                    <a:pt x="0" y="2331"/>
                  </a:lnTo>
                  <a:lnTo>
                    <a:pt x="0" y="2333"/>
                  </a:lnTo>
                  <a:lnTo>
                    <a:pt x="0" y="2335"/>
                  </a:lnTo>
                  <a:lnTo>
                    <a:pt x="2" y="2335"/>
                  </a:lnTo>
                  <a:lnTo>
                    <a:pt x="2" y="2337"/>
                  </a:lnTo>
                  <a:lnTo>
                    <a:pt x="2" y="2339"/>
                  </a:lnTo>
                  <a:lnTo>
                    <a:pt x="2" y="2341"/>
                  </a:lnTo>
                  <a:lnTo>
                    <a:pt x="2" y="2341"/>
                  </a:lnTo>
                  <a:close/>
                </a:path>
              </a:pathLst>
            </a:custGeom>
            <a:solidFill>
              <a:srgbClr val="1a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Freeform 36"/>
            <p:cNvSpPr/>
            <p:nvPr/>
          </p:nvSpPr>
          <p:spPr>
            <a:xfrm>
              <a:off x="2270160" y="1319040"/>
              <a:ext cx="590400" cy="370692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3706920"/>
                <a:gd name="textAreaBottom" fmla="*/ 3707280 h 3706920"/>
              </a:gdLst>
              <a:ahLst/>
              <a:rect l="textAreaLeft" t="textAreaTop" r="textAreaRight" b="textAreaBottom"/>
              <a:pathLst>
                <a:path w="372" h="2335">
                  <a:moveTo>
                    <a:pt x="372" y="21"/>
                  </a:moveTo>
                  <a:lnTo>
                    <a:pt x="368" y="21"/>
                  </a:lnTo>
                  <a:lnTo>
                    <a:pt x="312" y="7"/>
                  </a:lnTo>
                  <a:lnTo>
                    <a:pt x="272" y="0"/>
                  </a:lnTo>
                  <a:lnTo>
                    <a:pt x="270" y="2"/>
                  </a:lnTo>
                  <a:lnTo>
                    <a:pt x="270" y="2"/>
                  </a:lnTo>
                  <a:lnTo>
                    <a:pt x="268" y="3"/>
                  </a:lnTo>
                  <a:lnTo>
                    <a:pt x="266" y="5"/>
                  </a:lnTo>
                  <a:lnTo>
                    <a:pt x="266" y="5"/>
                  </a:lnTo>
                  <a:lnTo>
                    <a:pt x="264" y="7"/>
                  </a:lnTo>
                  <a:lnTo>
                    <a:pt x="264" y="7"/>
                  </a:lnTo>
                  <a:lnTo>
                    <a:pt x="263" y="9"/>
                  </a:lnTo>
                  <a:lnTo>
                    <a:pt x="310" y="17"/>
                  </a:lnTo>
                  <a:lnTo>
                    <a:pt x="366" y="30"/>
                  </a:lnTo>
                  <a:lnTo>
                    <a:pt x="370" y="32"/>
                  </a:lnTo>
                  <a:lnTo>
                    <a:pt x="370" y="30"/>
                  </a:lnTo>
                  <a:lnTo>
                    <a:pt x="370" y="28"/>
                  </a:lnTo>
                  <a:lnTo>
                    <a:pt x="372" y="28"/>
                  </a:lnTo>
                  <a:lnTo>
                    <a:pt x="372" y="26"/>
                  </a:lnTo>
                  <a:lnTo>
                    <a:pt x="372" y="25"/>
                  </a:lnTo>
                  <a:lnTo>
                    <a:pt x="372" y="25"/>
                  </a:lnTo>
                  <a:lnTo>
                    <a:pt x="372" y="23"/>
                  </a:lnTo>
                  <a:lnTo>
                    <a:pt x="372" y="21"/>
                  </a:lnTo>
                  <a:close/>
                  <a:moveTo>
                    <a:pt x="3" y="2331"/>
                  </a:moveTo>
                  <a:lnTo>
                    <a:pt x="15" y="2333"/>
                  </a:lnTo>
                  <a:lnTo>
                    <a:pt x="74" y="2335"/>
                  </a:lnTo>
                  <a:lnTo>
                    <a:pt x="136" y="2333"/>
                  </a:lnTo>
                  <a:lnTo>
                    <a:pt x="195" y="2329"/>
                  </a:lnTo>
                  <a:lnTo>
                    <a:pt x="255" y="2321"/>
                  </a:lnTo>
                  <a:lnTo>
                    <a:pt x="312" y="2310"/>
                  </a:lnTo>
                  <a:lnTo>
                    <a:pt x="337" y="2304"/>
                  </a:lnTo>
                  <a:lnTo>
                    <a:pt x="337" y="2304"/>
                  </a:lnTo>
                  <a:lnTo>
                    <a:pt x="337" y="2302"/>
                  </a:lnTo>
                  <a:lnTo>
                    <a:pt x="337" y="2300"/>
                  </a:lnTo>
                  <a:lnTo>
                    <a:pt x="337" y="2300"/>
                  </a:lnTo>
                  <a:lnTo>
                    <a:pt x="335" y="2298"/>
                  </a:lnTo>
                  <a:lnTo>
                    <a:pt x="335" y="2296"/>
                  </a:lnTo>
                  <a:lnTo>
                    <a:pt x="335" y="2296"/>
                  </a:lnTo>
                  <a:lnTo>
                    <a:pt x="335" y="2294"/>
                  </a:lnTo>
                  <a:lnTo>
                    <a:pt x="310" y="2300"/>
                  </a:lnTo>
                  <a:lnTo>
                    <a:pt x="253" y="2310"/>
                  </a:lnTo>
                  <a:lnTo>
                    <a:pt x="193" y="2317"/>
                  </a:lnTo>
                  <a:lnTo>
                    <a:pt x="136" y="2323"/>
                  </a:lnTo>
                  <a:lnTo>
                    <a:pt x="74" y="2323"/>
                  </a:lnTo>
                  <a:lnTo>
                    <a:pt x="15" y="2323"/>
                  </a:lnTo>
                  <a:lnTo>
                    <a:pt x="0" y="2321"/>
                  </a:lnTo>
                  <a:lnTo>
                    <a:pt x="0" y="2323"/>
                  </a:lnTo>
                  <a:lnTo>
                    <a:pt x="0" y="2323"/>
                  </a:lnTo>
                  <a:lnTo>
                    <a:pt x="0" y="2325"/>
                  </a:lnTo>
                  <a:lnTo>
                    <a:pt x="1" y="2327"/>
                  </a:lnTo>
                  <a:lnTo>
                    <a:pt x="1" y="2327"/>
                  </a:lnTo>
                  <a:lnTo>
                    <a:pt x="1" y="2329"/>
                  </a:lnTo>
                  <a:lnTo>
                    <a:pt x="1" y="2331"/>
                  </a:lnTo>
                  <a:lnTo>
                    <a:pt x="3" y="2331"/>
                  </a:lnTo>
                  <a:close/>
                </a:path>
              </a:pathLst>
            </a:custGeom>
            <a:solidFill>
              <a:srgbClr val="1b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37"/>
            <p:cNvSpPr/>
            <p:nvPr/>
          </p:nvSpPr>
          <p:spPr>
            <a:xfrm>
              <a:off x="2266920" y="1326960"/>
              <a:ext cx="593640" cy="368928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3689280"/>
                <a:gd name="textAreaBottom" fmla="*/ 3689640 h 3689280"/>
              </a:gdLst>
              <a:ahLst/>
              <a:rect l="textAreaLeft" t="textAreaTop" r="textAreaRight" b="textAreaBottom"/>
              <a:pathLst>
                <a:path w="374" h="2324">
                  <a:moveTo>
                    <a:pt x="374" y="21"/>
                  </a:moveTo>
                  <a:lnTo>
                    <a:pt x="370" y="20"/>
                  </a:lnTo>
                  <a:lnTo>
                    <a:pt x="312" y="8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66" y="2"/>
                  </a:lnTo>
                  <a:lnTo>
                    <a:pt x="266" y="2"/>
                  </a:lnTo>
                  <a:lnTo>
                    <a:pt x="265" y="4"/>
                  </a:lnTo>
                  <a:lnTo>
                    <a:pt x="265" y="4"/>
                  </a:lnTo>
                  <a:lnTo>
                    <a:pt x="263" y="6"/>
                  </a:lnTo>
                  <a:lnTo>
                    <a:pt x="263" y="8"/>
                  </a:lnTo>
                  <a:lnTo>
                    <a:pt x="261" y="8"/>
                  </a:lnTo>
                  <a:lnTo>
                    <a:pt x="311" y="18"/>
                  </a:lnTo>
                  <a:lnTo>
                    <a:pt x="366" y="31"/>
                  </a:lnTo>
                  <a:lnTo>
                    <a:pt x="372" y="31"/>
                  </a:lnTo>
                  <a:lnTo>
                    <a:pt x="372" y="31"/>
                  </a:lnTo>
                  <a:lnTo>
                    <a:pt x="372" y="29"/>
                  </a:lnTo>
                  <a:lnTo>
                    <a:pt x="372" y="27"/>
                  </a:lnTo>
                  <a:lnTo>
                    <a:pt x="372" y="27"/>
                  </a:lnTo>
                  <a:lnTo>
                    <a:pt x="372" y="25"/>
                  </a:lnTo>
                  <a:lnTo>
                    <a:pt x="372" y="23"/>
                  </a:lnTo>
                  <a:lnTo>
                    <a:pt x="374" y="23"/>
                  </a:lnTo>
                  <a:lnTo>
                    <a:pt x="374" y="21"/>
                  </a:lnTo>
                  <a:close/>
                  <a:moveTo>
                    <a:pt x="3" y="2322"/>
                  </a:moveTo>
                  <a:lnTo>
                    <a:pt x="17" y="2322"/>
                  </a:lnTo>
                  <a:lnTo>
                    <a:pt x="76" y="2324"/>
                  </a:lnTo>
                  <a:lnTo>
                    <a:pt x="138" y="2322"/>
                  </a:lnTo>
                  <a:lnTo>
                    <a:pt x="197" y="2318"/>
                  </a:lnTo>
                  <a:lnTo>
                    <a:pt x="255" y="2310"/>
                  </a:lnTo>
                  <a:lnTo>
                    <a:pt x="312" y="2301"/>
                  </a:lnTo>
                  <a:lnTo>
                    <a:pt x="339" y="2295"/>
                  </a:lnTo>
                  <a:lnTo>
                    <a:pt x="337" y="2293"/>
                  </a:lnTo>
                  <a:lnTo>
                    <a:pt x="337" y="2291"/>
                  </a:lnTo>
                  <a:lnTo>
                    <a:pt x="337" y="2291"/>
                  </a:lnTo>
                  <a:lnTo>
                    <a:pt x="337" y="2289"/>
                  </a:lnTo>
                  <a:lnTo>
                    <a:pt x="337" y="2287"/>
                  </a:lnTo>
                  <a:lnTo>
                    <a:pt x="337" y="2287"/>
                  </a:lnTo>
                  <a:lnTo>
                    <a:pt x="337" y="2286"/>
                  </a:lnTo>
                  <a:lnTo>
                    <a:pt x="337" y="2284"/>
                  </a:lnTo>
                  <a:lnTo>
                    <a:pt x="311" y="2289"/>
                  </a:lnTo>
                  <a:lnTo>
                    <a:pt x="253" y="2301"/>
                  </a:lnTo>
                  <a:lnTo>
                    <a:pt x="195" y="2309"/>
                  </a:lnTo>
                  <a:lnTo>
                    <a:pt x="136" y="2312"/>
                  </a:lnTo>
                  <a:lnTo>
                    <a:pt x="76" y="2314"/>
                  </a:lnTo>
                  <a:lnTo>
                    <a:pt x="17" y="2312"/>
                  </a:lnTo>
                  <a:lnTo>
                    <a:pt x="0" y="2310"/>
                  </a:lnTo>
                  <a:lnTo>
                    <a:pt x="0" y="2312"/>
                  </a:lnTo>
                  <a:lnTo>
                    <a:pt x="0" y="2314"/>
                  </a:lnTo>
                  <a:lnTo>
                    <a:pt x="0" y="2314"/>
                  </a:lnTo>
                  <a:lnTo>
                    <a:pt x="2" y="2316"/>
                  </a:lnTo>
                  <a:lnTo>
                    <a:pt x="2" y="2318"/>
                  </a:lnTo>
                  <a:lnTo>
                    <a:pt x="2" y="2318"/>
                  </a:lnTo>
                  <a:lnTo>
                    <a:pt x="2" y="2320"/>
                  </a:lnTo>
                  <a:lnTo>
                    <a:pt x="3" y="2322"/>
                  </a:lnTo>
                  <a:close/>
                </a:path>
              </a:pathLst>
            </a:custGeom>
            <a:solidFill>
              <a:srgbClr val="1c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38"/>
            <p:cNvSpPr/>
            <p:nvPr/>
          </p:nvSpPr>
          <p:spPr>
            <a:xfrm>
              <a:off x="2263680" y="1333440"/>
              <a:ext cx="594000" cy="3673440"/>
            </a:xfrm>
            <a:custGeom>
              <a:avLst/>
              <a:gdLst>
                <a:gd name="textAreaLeft" fmla="*/ 0 w 594000"/>
                <a:gd name="textAreaRight" fmla="*/ 594000 w 594000"/>
                <a:gd name="textAreaTop" fmla="*/ 0 h 3673440"/>
                <a:gd name="textAreaBottom" fmla="*/ 3673800 h 3673440"/>
              </a:gdLst>
              <a:ahLst/>
              <a:rect l="textAreaLeft" t="textAreaTop" r="textAreaRight" b="textAreaBottom"/>
              <a:pathLst>
                <a:path w="374" h="2314">
                  <a:moveTo>
                    <a:pt x="374" y="23"/>
                  </a:moveTo>
                  <a:lnTo>
                    <a:pt x="370" y="21"/>
                  </a:lnTo>
                  <a:lnTo>
                    <a:pt x="314" y="8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5" y="2"/>
                  </a:lnTo>
                  <a:lnTo>
                    <a:pt x="265" y="4"/>
                  </a:lnTo>
                  <a:lnTo>
                    <a:pt x="263" y="4"/>
                  </a:lnTo>
                  <a:lnTo>
                    <a:pt x="263" y="6"/>
                  </a:lnTo>
                  <a:lnTo>
                    <a:pt x="261" y="6"/>
                  </a:lnTo>
                  <a:lnTo>
                    <a:pt x="261" y="8"/>
                  </a:lnTo>
                  <a:lnTo>
                    <a:pt x="259" y="10"/>
                  </a:lnTo>
                  <a:lnTo>
                    <a:pt x="313" y="17"/>
                  </a:lnTo>
                  <a:lnTo>
                    <a:pt x="368" y="31"/>
                  </a:lnTo>
                  <a:lnTo>
                    <a:pt x="372" y="33"/>
                  </a:lnTo>
                  <a:lnTo>
                    <a:pt x="372" y="31"/>
                  </a:lnTo>
                  <a:lnTo>
                    <a:pt x="374" y="31"/>
                  </a:lnTo>
                  <a:lnTo>
                    <a:pt x="374" y="29"/>
                  </a:lnTo>
                  <a:lnTo>
                    <a:pt x="374" y="27"/>
                  </a:lnTo>
                  <a:lnTo>
                    <a:pt x="374" y="27"/>
                  </a:lnTo>
                  <a:lnTo>
                    <a:pt x="374" y="25"/>
                  </a:lnTo>
                  <a:lnTo>
                    <a:pt x="374" y="23"/>
                  </a:lnTo>
                  <a:lnTo>
                    <a:pt x="374" y="23"/>
                  </a:lnTo>
                  <a:close/>
                  <a:moveTo>
                    <a:pt x="4" y="2312"/>
                  </a:moveTo>
                  <a:lnTo>
                    <a:pt x="19" y="2314"/>
                  </a:lnTo>
                  <a:lnTo>
                    <a:pt x="78" y="2314"/>
                  </a:lnTo>
                  <a:lnTo>
                    <a:pt x="140" y="2314"/>
                  </a:lnTo>
                  <a:lnTo>
                    <a:pt x="197" y="2308"/>
                  </a:lnTo>
                  <a:lnTo>
                    <a:pt x="257" y="2301"/>
                  </a:lnTo>
                  <a:lnTo>
                    <a:pt x="314" y="2291"/>
                  </a:lnTo>
                  <a:lnTo>
                    <a:pt x="339" y="2285"/>
                  </a:lnTo>
                  <a:lnTo>
                    <a:pt x="339" y="2283"/>
                  </a:lnTo>
                  <a:lnTo>
                    <a:pt x="339" y="2283"/>
                  </a:lnTo>
                  <a:lnTo>
                    <a:pt x="339" y="2282"/>
                  </a:lnTo>
                  <a:lnTo>
                    <a:pt x="339" y="2280"/>
                  </a:lnTo>
                  <a:lnTo>
                    <a:pt x="339" y="2280"/>
                  </a:lnTo>
                  <a:lnTo>
                    <a:pt x="338" y="2278"/>
                  </a:lnTo>
                  <a:lnTo>
                    <a:pt x="338" y="2276"/>
                  </a:lnTo>
                  <a:lnTo>
                    <a:pt x="338" y="2276"/>
                  </a:lnTo>
                  <a:lnTo>
                    <a:pt x="313" y="2282"/>
                  </a:lnTo>
                  <a:lnTo>
                    <a:pt x="255" y="2291"/>
                  </a:lnTo>
                  <a:lnTo>
                    <a:pt x="197" y="2299"/>
                  </a:lnTo>
                  <a:lnTo>
                    <a:pt x="138" y="2303"/>
                  </a:lnTo>
                  <a:lnTo>
                    <a:pt x="78" y="2305"/>
                  </a:lnTo>
                  <a:lnTo>
                    <a:pt x="19" y="2303"/>
                  </a:lnTo>
                  <a:lnTo>
                    <a:pt x="0" y="2301"/>
                  </a:lnTo>
                  <a:lnTo>
                    <a:pt x="0" y="2303"/>
                  </a:lnTo>
                  <a:lnTo>
                    <a:pt x="0" y="2305"/>
                  </a:lnTo>
                  <a:lnTo>
                    <a:pt x="0" y="2306"/>
                  </a:lnTo>
                  <a:lnTo>
                    <a:pt x="2" y="2306"/>
                  </a:lnTo>
                  <a:lnTo>
                    <a:pt x="2" y="2308"/>
                  </a:lnTo>
                  <a:lnTo>
                    <a:pt x="2" y="2310"/>
                  </a:lnTo>
                  <a:lnTo>
                    <a:pt x="2" y="2310"/>
                  </a:lnTo>
                  <a:lnTo>
                    <a:pt x="4" y="2312"/>
                  </a:lnTo>
                  <a:close/>
                </a:path>
              </a:pathLst>
            </a:custGeom>
            <a:solidFill>
              <a:srgbClr val="1d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39"/>
            <p:cNvSpPr/>
            <p:nvPr/>
          </p:nvSpPr>
          <p:spPr>
            <a:xfrm>
              <a:off x="2260440" y="1339560"/>
              <a:ext cx="597240" cy="366084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660840"/>
                <a:gd name="textAreaBottom" fmla="*/ 3661200 h 3660840"/>
              </a:gdLst>
              <a:ahLst/>
              <a:rect l="textAreaLeft" t="textAreaTop" r="textAreaRight" b="textAreaBottom"/>
              <a:pathLst>
                <a:path w="376" h="2306">
                  <a:moveTo>
                    <a:pt x="376" y="23"/>
                  </a:moveTo>
                  <a:lnTo>
                    <a:pt x="370" y="23"/>
                  </a:lnTo>
                  <a:lnTo>
                    <a:pt x="315" y="10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3" y="2"/>
                  </a:lnTo>
                  <a:lnTo>
                    <a:pt x="263" y="4"/>
                  </a:lnTo>
                  <a:lnTo>
                    <a:pt x="261" y="6"/>
                  </a:lnTo>
                  <a:lnTo>
                    <a:pt x="261" y="6"/>
                  </a:lnTo>
                  <a:lnTo>
                    <a:pt x="259" y="8"/>
                  </a:lnTo>
                  <a:lnTo>
                    <a:pt x="259" y="8"/>
                  </a:lnTo>
                  <a:lnTo>
                    <a:pt x="257" y="10"/>
                  </a:lnTo>
                  <a:lnTo>
                    <a:pt x="313" y="19"/>
                  </a:lnTo>
                  <a:lnTo>
                    <a:pt x="368" y="33"/>
                  </a:lnTo>
                  <a:lnTo>
                    <a:pt x="374" y="35"/>
                  </a:lnTo>
                  <a:lnTo>
                    <a:pt x="374" y="33"/>
                  </a:lnTo>
                  <a:lnTo>
                    <a:pt x="374" y="31"/>
                  </a:lnTo>
                  <a:lnTo>
                    <a:pt x="374" y="31"/>
                  </a:lnTo>
                  <a:lnTo>
                    <a:pt x="374" y="29"/>
                  </a:lnTo>
                  <a:lnTo>
                    <a:pt x="374" y="27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3"/>
                  </a:lnTo>
                  <a:close/>
                  <a:moveTo>
                    <a:pt x="4" y="2302"/>
                  </a:moveTo>
                  <a:lnTo>
                    <a:pt x="21" y="2304"/>
                  </a:lnTo>
                  <a:lnTo>
                    <a:pt x="80" y="2306"/>
                  </a:lnTo>
                  <a:lnTo>
                    <a:pt x="140" y="2304"/>
                  </a:lnTo>
                  <a:lnTo>
                    <a:pt x="199" y="2301"/>
                  </a:lnTo>
                  <a:lnTo>
                    <a:pt x="257" y="2293"/>
                  </a:lnTo>
                  <a:lnTo>
                    <a:pt x="315" y="2281"/>
                  </a:lnTo>
                  <a:lnTo>
                    <a:pt x="341" y="2276"/>
                  </a:lnTo>
                  <a:lnTo>
                    <a:pt x="341" y="2276"/>
                  </a:lnTo>
                  <a:lnTo>
                    <a:pt x="340" y="2274"/>
                  </a:lnTo>
                  <a:lnTo>
                    <a:pt x="340" y="2272"/>
                  </a:lnTo>
                  <a:lnTo>
                    <a:pt x="340" y="2272"/>
                  </a:lnTo>
                  <a:lnTo>
                    <a:pt x="340" y="2270"/>
                  </a:lnTo>
                  <a:lnTo>
                    <a:pt x="340" y="2268"/>
                  </a:lnTo>
                  <a:lnTo>
                    <a:pt x="340" y="2268"/>
                  </a:lnTo>
                  <a:lnTo>
                    <a:pt x="340" y="2266"/>
                  </a:lnTo>
                  <a:lnTo>
                    <a:pt x="313" y="2272"/>
                  </a:lnTo>
                  <a:lnTo>
                    <a:pt x="257" y="2281"/>
                  </a:lnTo>
                  <a:lnTo>
                    <a:pt x="199" y="2289"/>
                  </a:lnTo>
                  <a:lnTo>
                    <a:pt x="140" y="2295"/>
                  </a:lnTo>
                  <a:lnTo>
                    <a:pt x="80" y="2295"/>
                  </a:lnTo>
                  <a:lnTo>
                    <a:pt x="21" y="2295"/>
                  </a:lnTo>
                  <a:lnTo>
                    <a:pt x="0" y="2293"/>
                  </a:lnTo>
                  <a:lnTo>
                    <a:pt x="0" y="2293"/>
                  </a:lnTo>
                  <a:lnTo>
                    <a:pt x="0" y="2295"/>
                  </a:lnTo>
                  <a:lnTo>
                    <a:pt x="2" y="2297"/>
                  </a:lnTo>
                  <a:lnTo>
                    <a:pt x="2" y="2297"/>
                  </a:lnTo>
                  <a:lnTo>
                    <a:pt x="2" y="2299"/>
                  </a:lnTo>
                  <a:lnTo>
                    <a:pt x="2" y="2301"/>
                  </a:lnTo>
                  <a:lnTo>
                    <a:pt x="2" y="2302"/>
                  </a:lnTo>
                  <a:lnTo>
                    <a:pt x="4" y="2302"/>
                  </a:lnTo>
                  <a:close/>
                </a:path>
              </a:pathLst>
            </a:custGeom>
            <a:solidFill>
              <a:srgbClr val="1e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40"/>
            <p:cNvSpPr/>
            <p:nvPr/>
          </p:nvSpPr>
          <p:spPr>
            <a:xfrm>
              <a:off x="2257560" y="1349280"/>
              <a:ext cx="596880" cy="36432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3643200"/>
                <a:gd name="textAreaBottom" fmla="*/ 3643560 h 3643200"/>
              </a:gdLst>
              <a:ahLst/>
              <a:rect l="textAreaLeft" t="textAreaTop" r="textAreaRight" b="textAreaBottom"/>
              <a:pathLst>
                <a:path w="376" h="2295">
                  <a:moveTo>
                    <a:pt x="376" y="23"/>
                  </a:moveTo>
                  <a:lnTo>
                    <a:pt x="372" y="21"/>
                  </a:lnTo>
                  <a:lnTo>
                    <a:pt x="317" y="7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61" y="2"/>
                  </a:lnTo>
                  <a:lnTo>
                    <a:pt x="261" y="2"/>
                  </a:lnTo>
                  <a:lnTo>
                    <a:pt x="259" y="4"/>
                  </a:lnTo>
                  <a:lnTo>
                    <a:pt x="259" y="6"/>
                  </a:lnTo>
                  <a:lnTo>
                    <a:pt x="257" y="6"/>
                  </a:lnTo>
                  <a:lnTo>
                    <a:pt x="257" y="7"/>
                  </a:lnTo>
                  <a:lnTo>
                    <a:pt x="255" y="7"/>
                  </a:lnTo>
                  <a:lnTo>
                    <a:pt x="257" y="7"/>
                  </a:lnTo>
                  <a:lnTo>
                    <a:pt x="315" y="19"/>
                  </a:lnTo>
                  <a:lnTo>
                    <a:pt x="368" y="31"/>
                  </a:lnTo>
                  <a:lnTo>
                    <a:pt x="374" y="32"/>
                  </a:lnTo>
                  <a:lnTo>
                    <a:pt x="374" y="32"/>
                  </a:lnTo>
                  <a:lnTo>
                    <a:pt x="376" y="31"/>
                  </a:lnTo>
                  <a:lnTo>
                    <a:pt x="376" y="29"/>
                  </a:lnTo>
                  <a:lnTo>
                    <a:pt x="376" y="29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5"/>
                  </a:lnTo>
                  <a:lnTo>
                    <a:pt x="376" y="23"/>
                  </a:lnTo>
                  <a:close/>
                  <a:moveTo>
                    <a:pt x="4" y="2291"/>
                  </a:moveTo>
                  <a:lnTo>
                    <a:pt x="23" y="2293"/>
                  </a:lnTo>
                  <a:lnTo>
                    <a:pt x="82" y="2295"/>
                  </a:lnTo>
                  <a:lnTo>
                    <a:pt x="142" y="2293"/>
                  </a:lnTo>
                  <a:lnTo>
                    <a:pt x="201" y="2289"/>
                  </a:lnTo>
                  <a:lnTo>
                    <a:pt x="259" y="2281"/>
                  </a:lnTo>
                  <a:lnTo>
                    <a:pt x="317" y="2272"/>
                  </a:lnTo>
                  <a:lnTo>
                    <a:pt x="342" y="2266"/>
                  </a:lnTo>
                  <a:lnTo>
                    <a:pt x="342" y="2264"/>
                  </a:lnTo>
                  <a:lnTo>
                    <a:pt x="342" y="2262"/>
                  </a:lnTo>
                  <a:lnTo>
                    <a:pt x="342" y="2262"/>
                  </a:lnTo>
                  <a:lnTo>
                    <a:pt x="342" y="2260"/>
                  </a:lnTo>
                  <a:lnTo>
                    <a:pt x="342" y="2258"/>
                  </a:lnTo>
                  <a:lnTo>
                    <a:pt x="342" y="2258"/>
                  </a:lnTo>
                  <a:lnTo>
                    <a:pt x="342" y="2256"/>
                  </a:lnTo>
                  <a:lnTo>
                    <a:pt x="340" y="2254"/>
                  </a:lnTo>
                  <a:lnTo>
                    <a:pt x="315" y="2262"/>
                  </a:lnTo>
                  <a:lnTo>
                    <a:pt x="257" y="2272"/>
                  </a:lnTo>
                  <a:lnTo>
                    <a:pt x="199" y="2279"/>
                  </a:lnTo>
                  <a:lnTo>
                    <a:pt x="142" y="2283"/>
                  </a:lnTo>
                  <a:lnTo>
                    <a:pt x="82" y="2285"/>
                  </a:lnTo>
                  <a:lnTo>
                    <a:pt x="25" y="2283"/>
                  </a:lnTo>
                  <a:lnTo>
                    <a:pt x="0" y="2281"/>
                  </a:lnTo>
                  <a:lnTo>
                    <a:pt x="0" y="2283"/>
                  </a:lnTo>
                  <a:lnTo>
                    <a:pt x="0" y="2283"/>
                  </a:lnTo>
                  <a:lnTo>
                    <a:pt x="2" y="2285"/>
                  </a:lnTo>
                  <a:lnTo>
                    <a:pt x="2" y="2287"/>
                  </a:lnTo>
                  <a:lnTo>
                    <a:pt x="2" y="2287"/>
                  </a:lnTo>
                  <a:lnTo>
                    <a:pt x="2" y="2289"/>
                  </a:lnTo>
                  <a:lnTo>
                    <a:pt x="4" y="2291"/>
                  </a:lnTo>
                  <a:lnTo>
                    <a:pt x="4" y="2291"/>
                  </a:lnTo>
                  <a:close/>
                </a:path>
              </a:pathLst>
            </a:custGeom>
            <a:solidFill>
              <a:srgbClr val="1f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Freeform 41"/>
            <p:cNvSpPr/>
            <p:nvPr/>
          </p:nvSpPr>
          <p:spPr>
            <a:xfrm>
              <a:off x="2254320" y="1355400"/>
              <a:ext cx="600120" cy="362772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3627720"/>
                <a:gd name="textAreaBottom" fmla="*/ 3628080 h 3627720"/>
              </a:gdLst>
              <a:ahLst/>
              <a:rect l="textAreaLeft" t="textAreaTop" r="textAreaRight" b="textAreaBottom"/>
              <a:pathLst>
                <a:path w="378" h="2285">
                  <a:moveTo>
                    <a:pt x="378" y="25"/>
                  </a:moveTo>
                  <a:lnTo>
                    <a:pt x="372" y="23"/>
                  </a:lnTo>
                  <a:lnTo>
                    <a:pt x="317" y="9"/>
                  </a:lnTo>
                  <a:lnTo>
                    <a:pt x="261" y="0"/>
                  </a:lnTo>
                  <a:lnTo>
                    <a:pt x="261" y="2"/>
                  </a:lnTo>
                  <a:lnTo>
                    <a:pt x="259" y="2"/>
                  </a:lnTo>
                  <a:lnTo>
                    <a:pt x="259" y="3"/>
                  </a:lnTo>
                  <a:lnTo>
                    <a:pt x="257" y="3"/>
                  </a:lnTo>
                  <a:lnTo>
                    <a:pt x="255" y="5"/>
                  </a:lnTo>
                  <a:lnTo>
                    <a:pt x="255" y="7"/>
                  </a:lnTo>
                  <a:lnTo>
                    <a:pt x="253" y="7"/>
                  </a:lnTo>
                  <a:lnTo>
                    <a:pt x="253" y="9"/>
                  </a:lnTo>
                  <a:lnTo>
                    <a:pt x="259" y="9"/>
                  </a:lnTo>
                  <a:lnTo>
                    <a:pt x="315" y="19"/>
                  </a:lnTo>
                  <a:lnTo>
                    <a:pt x="370" y="32"/>
                  </a:lnTo>
                  <a:lnTo>
                    <a:pt x="376" y="34"/>
                  </a:lnTo>
                  <a:lnTo>
                    <a:pt x="376" y="32"/>
                  </a:lnTo>
                  <a:lnTo>
                    <a:pt x="376" y="32"/>
                  </a:lnTo>
                  <a:lnTo>
                    <a:pt x="376" y="30"/>
                  </a:lnTo>
                  <a:lnTo>
                    <a:pt x="376" y="28"/>
                  </a:lnTo>
                  <a:lnTo>
                    <a:pt x="376" y="28"/>
                  </a:lnTo>
                  <a:lnTo>
                    <a:pt x="378" y="27"/>
                  </a:lnTo>
                  <a:lnTo>
                    <a:pt x="378" y="25"/>
                  </a:lnTo>
                  <a:lnTo>
                    <a:pt x="378" y="25"/>
                  </a:lnTo>
                  <a:close/>
                  <a:moveTo>
                    <a:pt x="4" y="2283"/>
                  </a:moveTo>
                  <a:lnTo>
                    <a:pt x="25" y="2285"/>
                  </a:lnTo>
                  <a:lnTo>
                    <a:pt x="84" y="2285"/>
                  </a:lnTo>
                  <a:lnTo>
                    <a:pt x="144" y="2285"/>
                  </a:lnTo>
                  <a:lnTo>
                    <a:pt x="203" y="2279"/>
                  </a:lnTo>
                  <a:lnTo>
                    <a:pt x="261" y="2271"/>
                  </a:lnTo>
                  <a:lnTo>
                    <a:pt x="317" y="2262"/>
                  </a:lnTo>
                  <a:lnTo>
                    <a:pt x="344" y="2256"/>
                  </a:lnTo>
                  <a:lnTo>
                    <a:pt x="344" y="2254"/>
                  </a:lnTo>
                  <a:lnTo>
                    <a:pt x="344" y="2254"/>
                  </a:lnTo>
                  <a:lnTo>
                    <a:pt x="344" y="2252"/>
                  </a:lnTo>
                  <a:lnTo>
                    <a:pt x="342" y="2250"/>
                  </a:lnTo>
                  <a:lnTo>
                    <a:pt x="342" y="2250"/>
                  </a:lnTo>
                  <a:lnTo>
                    <a:pt x="342" y="2248"/>
                  </a:lnTo>
                  <a:lnTo>
                    <a:pt x="342" y="2246"/>
                  </a:lnTo>
                  <a:lnTo>
                    <a:pt x="342" y="2246"/>
                  </a:lnTo>
                  <a:lnTo>
                    <a:pt x="315" y="2252"/>
                  </a:lnTo>
                  <a:lnTo>
                    <a:pt x="259" y="2262"/>
                  </a:lnTo>
                  <a:lnTo>
                    <a:pt x="201" y="2269"/>
                  </a:lnTo>
                  <a:lnTo>
                    <a:pt x="144" y="2273"/>
                  </a:lnTo>
                  <a:lnTo>
                    <a:pt x="84" y="2275"/>
                  </a:lnTo>
                  <a:lnTo>
                    <a:pt x="27" y="2273"/>
                  </a:lnTo>
                  <a:lnTo>
                    <a:pt x="0" y="2271"/>
                  </a:lnTo>
                  <a:lnTo>
                    <a:pt x="0" y="2273"/>
                  </a:lnTo>
                  <a:lnTo>
                    <a:pt x="0" y="2275"/>
                  </a:lnTo>
                  <a:lnTo>
                    <a:pt x="2" y="2275"/>
                  </a:lnTo>
                  <a:lnTo>
                    <a:pt x="2" y="2277"/>
                  </a:lnTo>
                  <a:lnTo>
                    <a:pt x="2" y="2279"/>
                  </a:lnTo>
                  <a:lnTo>
                    <a:pt x="2" y="2279"/>
                  </a:lnTo>
                  <a:lnTo>
                    <a:pt x="4" y="2281"/>
                  </a:lnTo>
                  <a:lnTo>
                    <a:pt x="4" y="2283"/>
                  </a:lnTo>
                  <a:close/>
                </a:path>
              </a:pathLst>
            </a:custGeom>
            <a:solidFill>
              <a:srgbClr val="20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Freeform 42"/>
            <p:cNvSpPr/>
            <p:nvPr/>
          </p:nvSpPr>
          <p:spPr>
            <a:xfrm>
              <a:off x="2251080" y="1360440"/>
              <a:ext cx="600120" cy="361620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3616200"/>
                <a:gd name="textAreaBottom" fmla="*/ 3616560 h 3616200"/>
              </a:gdLst>
              <a:ahLst/>
              <a:rect l="textAreaLeft" t="textAreaTop" r="textAreaRight" b="textAreaBottom"/>
              <a:pathLst>
                <a:path w="378" h="2278">
                  <a:moveTo>
                    <a:pt x="378" y="25"/>
                  </a:moveTo>
                  <a:lnTo>
                    <a:pt x="372" y="24"/>
                  </a:lnTo>
                  <a:lnTo>
                    <a:pt x="319" y="12"/>
                  </a:lnTo>
                  <a:lnTo>
                    <a:pt x="261" y="0"/>
                  </a:lnTo>
                  <a:lnTo>
                    <a:pt x="259" y="0"/>
                  </a:lnTo>
                  <a:lnTo>
                    <a:pt x="257" y="2"/>
                  </a:lnTo>
                  <a:lnTo>
                    <a:pt x="257" y="4"/>
                  </a:lnTo>
                  <a:lnTo>
                    <a:pt x="255" y="4"/>
                  </a:lnTo>
                  <a:lnTo>
                    <a:pt x="255" y="6"/>
                  </a:lnTo>
                  <a:lnTo>
                    <a:pt x="253" y="6"/>
                  </a:lnTo>
                  <a:lnTo>
                    <a:pt x="253" y="8"/>
                  </a:lnTo>
                  <a:lnTo>
                    <a:pt x="251" y="10"/>
                  </a:lnTo>
                  <a:lnTo>
                    <a:pt x="251" y="10"/>
                  </a:lnTo>
                  <a:lnTo>
                    <a:pt x="259" y="12"/>
                  </a:lnTo>
                  <a:lnTo>
                    <a:pt x="315" y="22"/>
                  </a:lnTo>
                  <a:lnTo>
                    <a:pt x="370" y="35"/>
                  </a:lnTo>
                  <a:lnTo>
                    <a:pt x="376" y="37"/>
                  </a:lnTo>
                  <a:lnTo>
                    <a:pt x="378" y="35"/>
                  </a:lnTo>
                  <a:lnTo>
                    <a:pt x="378" y="33"/>
                  </a:lnTo>
                  <a:lnTo>
                    <a:pt x="378" y="33"/>
                  </a:lnTo>
                  <a:lnTo>
                    <a:pt x="378" y="31"/>
                  </a:lnTo>
                  <a:lnTo>
                    <a:pt x="378" y="29"/>
                  </a:lnTo>
                  <a:lnTo>
                    <a:pt x="378" y="29"/>
                  </a:lnTo>
                  <a:lnTo>
                    <a:pt x="378" y="27"/>
                  </a:lnTo>
                  <a:lnTo>
                    <a:pt x="378" y="25"/>
                  </a:lnTo>
                  <a:close/>
                  <a:moveTo>
                    <a:pt x="4" y="2274"/>
                  </a:moveTo>
                  <a:lnTo>
                    <a:pt x="29" y="2276"/>
                  </a:lnTo>
                  <a:lnTo>
                    <a:pt x="86" y="2278"/>
                  </a:lnTo>
                  <a:lnTo>
                    <a:pt x="146" y="2276"/>
                  </a:lnTo>
                  <a:lnTo>
                    <a:pt x="203" y="2272"/>
                  </a:lnTo>
                  <a:lnTo>
                    <a:pt x="261" y="2265"/>
                  </a:lnTo>
                  <a:lnTo>
                    <a:pt x="319" y="2255"/>
                  </a:lnTo>
                  <a:lnTo>
                    <a:pt x="344" y="2247"/>
                  </a:lnTo>
                  <a:lnTo>
                    <a:pt x="344" y="2247"/>
                  </a:lnTo>
                  <a:lnTo>
                    <a:pt x="344" y="2245"/>
                  </a:lnTo>
                  <a:lnTo>
                    <a:pt x="344" y="2243"/>
                  </a:lnTo>
                  <a:lnTo>
                    <a:pt x="344" y="2243"/>
                  </a:lnTo>
                  <a:lnTo>
                    <a:pt x="344" y="2242"/>
                  </a:lnTo>
                  <a:lnTo>
                    <a:pt x="344" y="2240"/>
                  </a:lnTo>
                  <a:lnTo>
                    <a:pt x="344" y="2240"/>
                  </a:lnTo>
                  <a:lnTo>
                    <a:pt x="344" y="2238"/>
                  </a:lnTo>
                  <a:lnTo>
                    <a:pt x="315" y="2243"/>
                  </a:lnTo>
                  <a:lnTo>
                    <a:pt x="259" y="2255"/>
                  </a:lnTo>
                  <a:lnTo>
                    <a:pt x="203" y="2261"/>
                  </a:lnTo>
                  <a:lnTo>
                    <a:pt x="146" y="2266"/>
                  </a:lnTo>
                  <a:lnTo>
                    <a:pt x="86" y="2266"/>
                  </a:lnTo>
                  <a:lnTo>
                    <a:pt x="29" y="2266"/>
                  </a:lnTo>
                  <a:lnTo>
                    <a:pt x="0" y="2263"/>
                  </a:lnTo>
                  <a:lnTo>
                    <a:pt x="0" y="2265"/>
                  </a:lnTo>
                  <a:lnTo>
                    <a:pt x="0" y="2266"/>
                  </a:lnTo>
                  <a:lnTo>
                    <a:pt x="2" y="2266"/>
                  </a:lnTo>
                  <a:lnTo>
                    <a:pt x="2" y="2268"/>
                  </a:lnTo>
                  <a:lnTo>
                    <a:pt x="2" y="2270"/>
                  </a:lnTo>
                  <a:lnTo>
                    <a:pt x="2" y="2272"/>
                  </a:lnTo>
                  <a:lnTo>
                    <a:pt x="4" y="2272"/>
                  </a:lnTo>
                  <a:lnTo>
                    <a:pt x="4" y="2274"/>
                  </a:lnTo>
                  <a:close/>
                </a:path>
              </a:pathLst>
            </a:custGeom>
            <a:solidFill>
              <a:srgbClr val="21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43"/>
            <p:cNvSpPr/>
            <p:nvPr/>
          </p:nvSpPr>
          <p:spPr>
            <a:xfrm>
              <a:off x="2247840" y="1369800"/>
              <a:ext cx="603360" cy="3597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380" h="2266">
                  <a:moveTo>
                    <a:pt x="380" y="25"/>
                  </a:moveTo>
                  <a:lnTo>
                    <a:pt x="374" y="23"/>
                  </a:lnTo>
                  <a:lnTo>
                    <a:pt x="319" y="10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55" y="0"/>
                  </a:lnTo>
                  <a:lnTo>
                    <a:pt x="255" y="2"/>
                  </a:lnTo>
                  <a:lnTo>
                    <a:pt x="253" y="4"/>
                  </a:lnTo>
                  <a:lnTo>
                    <a:pt x="253" y="4"/>
                  </a:lnTo>
                  <a:lnTo>
                    <a:pt x="252" y="6"/>
                  </a:lnTo>
                  <a:lnTo>
                    <a:pt x="252" y="6"/>
                  </a:lnTo>
                  <a:lnTo>
                    <a:pt x="250" y="8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317" y="21"/>
                  </a:lnTo>
                  <a:lnTo>
                    <a:pt x="371" y="33"/>
                  </a:lnTo>
                  <a:lnTo>
                    <a:pt x="378" y="35"/>
                  </a:lnTo>
                  <a:lnTo>
                    <a:pt x="378" y="35"/>
                  </a:lnTo>
                  <a:lnTo>
                    <a:pt x="378" y="33"/>
                  </a:lnTo>
                  <a:lnTo>
                    <a:pt x="378" y="31"/>
                  </a:lnTo>
                  <a:lnTo>
                    <a:pt x="378" y="31"/>
                  </a:lnTo>
                  <a:lnTo>
                    <a:pt x="380" y="29"/>
                  </a:lnTo>
                  <a:lnTo>
                    <a:pt x="380" y="27"/>
                  </a:lnTo>
                  <a:lnTo>
                    <a:pt x="380" y="27"/>
                  </a:lnTo>
                  <a:lnTo>
                    <a:pt x="380" y="25"/>
                  </a:lnTo>
                  <a:close/>
                  <a:moveTo>
                    <a:pt x="4" y="2262"/>
                  </a:moveTo>
                  <a:lnTo>
                    <a:pt x="31" y="2264"/>
                  </a:lnTo>
                  <a:lnTo>
                    <a:pt x="88" y="2266"/>
                  </a:lnTo>
                  <a:lnTo>
                    <a:pt x="148" y="2264"/>
                  </a:lnTo>
                  <a:lnTo>
                    <a:pt x="205" y="2260"/>
                  </a:lnTo>
                  <a:lnTo>
                    <a:pt x="263" y="2253"/>
                  </a:lnTo>
                  <a:lnTo>
                    <a:pt x="319" y="2243"/>
                  </a:lnTo>
                  <a:lnTo>
                    <a:pt x="346" y="2237"/>
                  </a:lnTo>
                  <a:lnTo>
                    <a:pt x="346" y="2236"/>
                  </a:lnTo>
                  <a:lnTo>
                    <a:pt x="346" y="2234"/>
                  </a:lnTo>
                  <a:lnTo>
                    <a:pt x="346" y="2234"/>
                  </a:lnTo>
                  <a:lnTo>
                    <a:pt x="346" y="2232"/>
                  </a:lnTo>
                  <a:lnTo>
                    <a:pt x="346" y="2230"/>
                  </a:lnTo>
                  <a:lnTo>
                    <a:pt x="344" y="2230"/>
                  </a:lnTo>
                  <a:lnTo>
                    <a:pt x="344" y="2228"/>
                  </a:lnTo>
                  <a:lnTo>
                    <a:pt x="344" y="2226"/>
                  </a:lnTo>
                  <a:lnTo>
                    <a:pt x="317" y="2234"/>
                  </a:lnTo>
                  <a:lnTo>
                    <a:pt x="261" y="2243"/>
                  </a:lnTo>
                  <a:lnTo>
                    <a:pt x="204" y="2251"/>
                  </a:lnTo>
                  <a:lnTo>
                    <a:pt x="148" y="2255"/>
                  </a:lnTo>
                  <a:lnTo>
                    <a:pt x="88" y="2257"/>
                  </a:lnTo>
                  <a:lnTo>
                    <a:pt x="31" y="2255"/>
                  </a:lnTo>
                  <a:lnTo>
                    <a:pt x="0" y="2253"/>
                  </a:lnTo>
                  <a:lnTo>
                    <a:pt x="0" y="2253"/>
                  </a:lnTo>
                  <a:lnTo>
                    <a:pt x="2" y="2255"/>
                  </a:lnTo>
                  <a:lnTo>
                    <a:pt x="2" y="2257"/>
                  </a:lnTo>
                  <a:lnTo>
                    <a:pt x="2" y="2257"/>
                  </a:lnTo>
                  <a:lnTo>
                    <a:pt x="2" y="2259"/>
                  </a:lnTo>
                  <a:lnTo>
                    <a:pt x="2" y="2260"/>
                  </a:lnTo>
                  <a:lnTo>
                    <a:pt x="4" y="2260"/>
                  </a:lnTo>
                  <a:lnTo>
                    <a:pt x="4" y="2262"/>
                  </a:lnTo>
                  <a:close/>
                </a:path>
              </a:pathLst>
            </a:custGeom>
            <a:solidFill>
              <a:srgbClr val="22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44"/>
            <p:cNvSpPr/>
            <p:nvPr/>
          </p:nvSpPr>
          <p:spPr>
            <a:xfrm>
              <a:off x="2244600" y="1376280"/>
              <a:ext cx="603360" cy="35812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3581280"/>
                <a:gd name="textAreaBottom" fmla="*/ 3581640 h 3581280"/>
              </a:gdLst>
              <a:ahLst/>
              <a:rect l="textAreaLeft" t="textAreaTop" r="textAreaRight" b="textAreaBottom"/>
              <a:pathLst>
                <a:path w="380" h="2256">
                  <a:moveTo>
                    <a:pt x="380" y="27"/>
                  </a:moveTo>
                  <a:lnTo>
                    <a:pt x="374" y="25"/>
                  </a:lnTo>
                  <a:lnTo>
                    <a:pt x="319" y="12"/>
                  </a:lnTo>
                  <a:lnTo>
                    <a:pt x="263" y="2"/>
                  </a:lnTo>
                  <a:lnTo>
                    <a:pt x="255" y="0"/>
                  </a:lnTo>
                  <a:lnTo>
                    <a:pt x="254" y="2"/>
                  </a:lnTo>
                  <a:lnTo>
                    <a:pt x="254" y="2"/>
                  </a:lnTo>
                  <a:lnTo>
                    <a:pt x="252" y="4"/>
                  </a:lnTo>
                  <a:lnTo>
                    <a:pt x="252" y="6"/>
                  </a:lnTo>
                  <a:lnTo>
                    <a:pt x="250" y="6"/>
                  </a:lnTo>
                  <a:lnTo>
                    <a:pt x="250" y="8"/>
                  </a:lnTo>
                  <a:lnTo>
                    <a:pt x="248" y="8"/>
                  </a:lnTo>
                  <a:lnTo>
                    <a:pt x="248" y="10"/>
                  </a:lnTo>
                  <a:lnTo>
                    <a:pt x="263" y="12"/>
                  </a:lnTo>
                  <a:lnTo>
                    <a:pt x="317" y="21"/>
                  </a:lnTo>
                  <a:lnTo>
                    <a:pt x="373" y="35"/>
                  </a:lnTo>
                  <a:lnTo>
                    <a:pt x="378" y="37"/>
                  </a:lnTo>
                  <a:lnTo>
                    <a:pt x="380" y="35"/>
                  </a:lnTo>
                  <a:lnTo>
                    <a:pt x="380" y="35"/>
                  </a:lnTo>
                  <a:lnTo>
                    <a:pt x="380" y="33"/>
                  </a:lnTo>
                  <a:lnTo>
                    <a:pt x="380" y="31"/>
                  </a:lnTo>
                  <a:lnTo>
                    <a:pt x="380" y="31"/>
                  </a:lnTo>
                  <a:lnTo>
                    <a:pt x="380" y="29"/>
                  </a:lnTo>
                  <a:lnTo>
                    <a:pt x="380" y="27"/>
                  </a:lnTo>
                  <a:lnTo>
                    <a:pt x="380" y="27"/>
                  </a:lnTo>
                  <a:close/>
                  <a:moveTo>
                    <a:pt x="4" y="2253"/>
                  </a:moveTo>
                  <a:lnTo>
                    <a:pt x="33" y="2256"/>
                  </a:lnTo>
                  <a:lnTo>
                    <a:pt x="90" y="2256"/>
                  </a:lnTo>
                  <a:lnTo>
                    <a:pt x="150" y="2256"/>
                  </a:lnTo>
                  <a:lnTo>
                    <a:pt x="207" y="2251"/>
                  </a:lnTo>
                  <a:lnTo>
                    <a:pt x="263" y="2245"/>
                  </a:lnTo>
                  <a:lnTo>
                    <a:pt x="319" y="2233"/>
                  </a:lnTo>
                  <a:lnTo>
                    <a:pt x="348" y="2228"/>
                  </a:lnTo>
                  <a:lnTo>
                    <a:pt x="348" y="2226"/>
                  </a:lnTo>
                  <a:lnTo>
                    <a:pt x="346" y="2226"/>
                  </a:lnTo>
                  <a:lnTo>
                    <a:pt x="346" y="2224"/>
                  </a:lnTo>
                  <a:lnTo>
                    <a:pt x="346" y="2222"/>
                  </a:lnTo>
                  <a:lnTo>
                    <a:pt x="346" y="2222"/>
                  </a:lnTo>
                  <a:lnTo>
                    <a:pt x="346" y="2220"/>
                  </a:lnTo>
                  <a:lnTo>
                    <a:pt x="346" y="2218"/>
                  </a:lnTo>
                  <a:lnTo>
                    <a:pt x="346" y="2218"/>
                  </a:lnTo>
                  <a:lnTo>
                    <a:pt x="317" y="2224"/>
                  </a:lnTo>
                  <a:lnTo>
                    <a:pt x="263" y="2233"/>
                  </a:lnTo>
                  <a:lnTo>
                    <a:pt x="206" y="2241"/>
                  </a:lnTo>
                  <a:lnTo>
                    <a:pt x="148" y="2245"/>
                  </a:lnTo>
                  <a:lnTo>
                    <a:pt x="90" y="2247"/>
                  </a:lnTo>
                  <a:lnTo>
                    <a:pt x="33" y="2245"/>
                  </a:lnTo>
                  <a:lnTo>
                    <a:pt x="0" y="2243"/>
                  </a:lnTo>
                  <a:lnTo>
                    <a:pt x="0" y="2245"/>
                  </a:lnTo>
                  <a:lnTo>
                    <a:pt x="2" y="2245"/>
                  </a:lnTo>
                  <a:lnTo>
                    <a:pt x="2" y="2247"/>
                  </a:lnTo>
                  <a:lnTo>
                    <a:pt x="2" y="2249"/>
                  </a:lnTo>
                  <a:lnTo>
                    <a:pt x="2" y="2249"/>
                  </a:lnTo>
                  <a:lnTo>
                    <a:pt x="4" y="2251"/>
                  </a:lnTo>
                  <a:lnTo>
                    <a:pt x="4" y="2253"/>
                  </a:lnTo>
                  <a:lnTo>
                    <a:pt x="4" y="2253"/>
                  </a:lnTo>
                  <a:close/>
                </a:path>
              </a:pathLst>
            </a:custGeom>
            <a:solidFill>
              <a:srgbClr val="23a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45"/>
            <p:cNvSpPr/>
            <p:nvPr/>
          </p:nvSpPr>
          <p:spPr>
            <a:xfrm>
              <a:off x="2241720" y="1385640"/>
              <a:ext cx="606240" cy="356724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3567240"/>
                <a:gd name="textAreaBottom" fmla="*/ 3567600 h 3567240"/>
              </a:gdLst>
              <a:ahLst/>
              <a:rect l="textAreaLeft" t="textAreaTop" r="textAreaRight" b="textAreaBottom"/>
              <a:pathLst>
                <a:path w="382" h="2247">
                  <a:moveTo>
                    <a:pt x="382" y="25"/>
                  </a:moveTo>
                  <a:lnTo>
                    <a:pt x="375" y="23"/>
                  </a:lnTo>
                  <a:lnTo>
                    <a:pt x="321" y="11"/>
                  </a:lnTo>
                  <a:lnTo>
                    <a:pt x="265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2" y="2"/>
                  </a:lnTo>
                  <a:lnTo>
                    <a:pt x="250" y="2"/>
                  </a:lnTo>
                  <a:lnTo>
                    <a:pt x="250" y="4"/>
                  </a:lnTo>
                  <a:lnTo>
                    <a:pt x="248" y="6"/>
                  </a:lnTo>
                  <a:lnTo>
                    <a:pt x="248" y="6"/>
                  </a:lnTo>
                  <a:lnTo>
                    <a:pt x="246" y="8"/>
                  </a:lnTo>
                  <a:lnTo>
                    <a:pt x="246" y="9"/>
                  </a:lnTo>
                  <a:lnTo>
                    <a:pt x="263" y="11"/>
                  </a:lnTo>
                  <a:lnTo>
                    <a:pt x="319" y="21"/>
                  </a:lnTo>
                  <a:lnTo>
                    <a:pt x="373" y="32"/>
                  </a:lnTo>
                  <a:lnTo>
                    <a:pt x="380" y="34"/>
                  </a:lnTo>
                  <a:lnTo>
                    <a:pt x="380" y="34"/>
                  </a:lnTo>
                  <a:lnTo>
                    <a:pt x="380" y="32"/>
                  </a:lnTo>
                  <a:lnTo>
                    <a:pt x="380" y="31"/>
                  </a:lnTo>
                  <a:lnTo>
                    <a:pt x="380" y="31"/>
                  </a:lnTo>
                  <a:lnTo>
                    <a:pt x="382" y="29"/>
                  </a:lnTo>
                  <a:lnTo>
                    <a:pt x="382" y="29"/>
                  </a:lnTo>
                  <a:lnTo>
                    <a:pt x="382" y="27"/>
                  </a:lnTo>
                  <a:lnTo>
                    <a:pt x="382" y="25"/>
                  </a:lnTo>
                  <a:close/>
                  <a:moveTo>
                    <a:pt x="4" y="2243"/>
                  </a:moveTo>
                  <a:lnTo>
                    <a:pt x="35" y="2245"/>
                  </a:lnTo>
                  <a:lnTo>
                    <a:pt x="92" y="2247"/>
                  </a:lnTo>
                  <a:lnTo>
                    <a:pt x="152" y="2245"/>
                  </a:lnTo>
                  <a:lnTo>
                    <a:pt x="208" y="2241"/>
                  </a:lnTo>
                  <a:lnTo>
                    <a:pt x="265" y="2233"/>
                  </a:lnTo>
                  <a:lnTo>
                    <a:pt x="321" y="2224"/>
                  </a:lnTo>
                  <a:lnTo>
                    <a:pt x="348" y="2216"/>
                  </a:lnTo>
                  <a:lnTo>
                    <a:pt x="348" y="2216"/>
                  </a:lnTo>
                  <a:lnTo>
                    <a:pt x="348" y="2214"/>
                  </a:lnTo>
                  <a:lnTo>
                    <a:pt x="348" y="2212"/>
                  </a:lnTo>
                  <a:lnTo>
                    <a:pt x="348" y="2212"/>
                  </a:lnTo>
                  <a:lnTo>
                    <a:pt x="348" y="2210"/>
                  </a:lnTo>
                  <a:lnTo>
                    <a:pt x="348" y="2208"/>
                  </a:lnTo>
                  <a:lnTo>
                    <a:pt x="348" y="2208"/>
                  </a:lnTo>
                  <a:lnTo>
                    <a:pt x="346" y="2206"/>
                  </a:lnTo>
                  <a:lnTo>
                    <a:pt x="319" y="2212"/>
                  </a:lnTo>
                  <a:lnTo>
                    <a:pt x="263" y="2224"/>
                  </a:lnTo>
                  <a:lnTo>
                    <a:pt x="208" y="2229"/>
                  </a:lnTo>
                  <a:lnTo>
                    <a:pt x="150" y="2235"/>
                  </a:lnTo>
                  <a:lnTo>
                    <a:pt x="92" y="2235"/>
                  </a:lnTo>
                  <a:lnTo>
                    <a:pt x="35" y="2235"/>
                  </a:lnTo>
                  <a:lnTo>
                    <a:pt x="0" y="2231"/>
                  </a:lnTo>
                  <a:lnTo>
                    <a:pt x="0" y="2233"/>
                  </a:lnTo>
                  <a:lnTo>
                    <a:pt x="2" y="2235"/>
                  </a:lnTo>
                  <a:lnTo>
                    <a:pt x="2" y="2235"/>
                  </a:lnTo>
                  <a:lnTo>
                    <a:pt x="2" y="2237"/>
                  </a:lnTo>
                  <a:lnTo>
                    <a:pt x="2" y="2239"/>
                  </a:lnTo>
                  <a:lnTo>
                    <a:pt x="4" y="2239"/>
                  </a:lnTo>
                  <a:lnTo>
                    <a:pt x="4" y="2241"/>
                  </a:lnTo>
                  <a:lnTo>
                    <a:pt x="4" y="2243"/>
                  </a:lnTo>
                  <a:close/>
                </a:path>
              </a:pathLst>
            </a:custGeom>
            <a:solidFill>
              <a:srgbClr val="24a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46"/>
            <p:cNvSpPr/>
            <p:nvPr/>
          </p:nvSpPr>
          <p:spPr>
            <a:xfrm>
              <a:off x="2238480" y="1392120"/>
              <a:ext cx="606240" cy="355104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3551040"/>
                <a:gd name="textAreaBottom" fmla="*/ 3551400 h 3551040"/>
              </a:gdLst>
              <a:ahLst/>
              <a:rect l="textAreaLeft" t="textAreaTop" r="textAreaRight" b="textAreaBottom"/>
              <a:pathLst>
                <a:path w="382" h="2237">
                  <a:moveTo>
                    <a:pt x="382" y="27"/>
                  </a:moveTo>
                  <a:lnTo>
                    <a:pt x="377" y="25"/>
                  </a:lnTo>
                  <a:lnTo>
                    <a:pt x="321" y="11"/>
                  </a:lnTo>
                  <a:lnTo>
                    <a:pt x="267" y="2"/>
                  </a:lnTo>
                  <a:lnTo>
                    <a:pt x="252" y="0"/>
                  </a:lnTo>
                  <a:lnTo>
                    <a:pt x="250" y="2"/>
                  </a:lnTo>
                  <a:lnTo>
                    <a:pt x="250" y="2"/>
                  </a:lnTo>
                  <a:lnTo>
                    <a:pt x="248" y="4"/>
                  </a:lnTo>
                  <a:lnTo>
                    <a:pt x="248" y="5"/>
                  </a:lnTo>
                  <a:lnTo>
                    <a:pt x="246" y="5"/>
                  </a:lnTo>
                  <a:lnTo>
                    <a:pt x="246" y="7"/>
                  </a:lnTo>
                  <a:lnTo>
                    <a:pt x="244" y="7"/>
                  </a:lnTo>
                  <a:lnTo>
                    <a:pt x="244" y="9"/>
                  </a:lnTo>
                  <a:lnTo>
                    <a:pt x="265" y="11"/>
                  </a:lnTo>
                  <a:lnTo>
                    <a:pt x="319" y="21"/>
                  </a:lnTo>
                  <a:lnTo>
                    <a:pt x="373" y="34"/>
                  </a:lnTo>
                  <a:lnTo>
                    <a:pt x="382" y="36"/>
                  </a:lnTo>
                  <a:lnTo>
                    <a:pt x="382" y="34"/>
                  </a:lnTo>
                  <a:lnTo>
                    <a:pt x="382" y="34"/>
                  </a:lnTo>
                  <a:lnTo>
                    <a:pt x="382" y="32"/>
                  </a:lnTo>
                  <a:lnTo>
                    <a:pt x="382" y="30"/>
                  </a:lnTo>
                  <a:lnTo>
                    <a:pt x="382" y="30"/>
                  </a:lnTo>
                  <a:lnTo>
                    <a:pt x="382" y="28"/>
                  </a:lnTo>
                  <a:lnTo>
                    <a:pt x="382" y="27"/>
                  </a:lnTo>
                  <a:lnTo>
                    <a:pt x="382" y="27"/>
                  </a:lnTo>
                  <a:close/>
                  <a:moveTo>
                    <a:pt x="4" y="2233"/>
                  </a:moveTo>
                  <a:lnTo>
                    <a:pt x="37" y="2235"/>
                  </a:lnTo>
                  <a:lnTo>
                    <a:pt x="94" y="2237"/>
                  </a:lnTo>
                  <a:lnTo>
                    <a:pt x="152" y="2235"/>
                  </a:lnTo>
                  <a:lnTo>
                    <a:pt x="210" y="2231"/>
                  </a:lnTo>
                  <a:lnTo>
                    <a:pt x="267" y="2223"/>
                  </a:lnTo>
                  <a:lnTo>
                    <a:pt x="321" y="2214"/>
                  </a:lnTo>
                  <a:lnTo>
                    <a:pt x="350" y="2208"/>
                  </a:lnTo>
                  <a:lnTo>
                    <a:pt x="350" y="2206"/>
                  </a:lnTo>
                  <a:lnTo>
                    <a:pt x="350" y="2204"/>
                  </a:lnTo>
                  <a:lnTo>
                    <a:pt x="350" y="2204"/>
                  </a:lnTo>
                  <a:lnTo>
                    <a:pt x="348" y="2202"/>
                  </a:lnTo>
                  <a:lnTo>
                    <a:pt x="348" y="2200"/>
                  </a:lnTo>
                  <a:lnTo>
                    <a:pt x="348" y="2200"/>
                  </a:lnTo>
                  <a:lnTo>
                    <a:pt x="348" y="2198"/>
                  </a:lnTo>
                  <a:lnTo>
                    <a:pt x="348" y="2197"/>
                  </a:lnTo>
                  <a:lnTo>
                    <a:pt x="319" y="2204"/>
                  </a:lnTo>
                  <a:lnTo>
                    <a:pt x="265" y="2214"/>
                  </a:lnTo>
                  <a:lnTo>
                    <a:pt x="210" y="2222"/>
                  </a:lnTo>
                  <a:lnTo>
                    <a:pt x="152" y="2225"/>
                  </a:lnTo>
                  <a:lnTo>
                    <a:pt x="94" y="2227"/>
                  </a:lnTo>
                  <a:lnTo>
                    <a:pt x="37" y="2225"/>
                  </a:lnTo>
                  <a:lnTo>
                    <a:pt x="0" y="2222"/>
                  </a:lnTo>
                  <a:lnTo>
                    <a:pt x="0" y="2223"/>
                  </a:lnTo>
                  <a:lnTo>
                    <a:pt x="2" y="2225"/>
                  </a:lnTo>
                  <a:lnTo>
                    <a:pt x="2" y="2225"/>
                  </a:lnTo>
                  <a:lnTo>
                    <a:pt x="2" y="2227"/>
                  </a:lnTo>
                  <a:lnTo>
                    <a:pt x="2" y="2229"/>
                  </a:lnTo>
                  <a:lnTo>
                    <a:pt x="4" y="2231"/>
                  </a:lnTo>
                  <a:lnTo>
                    <a:pt x="4" y="2231"/>
                  </a:lnTo>
                  <a:lnTo>
                    <a:pt x="4" y="2233"/>
                  </a:lnTo>
                  <a:close/>
                </a:path>
              </a:pathLst>
            </a:custGeom>
            <a:solidFill>
              <a:srgbClr val="25a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47"/>
            <p:cNvSpPr/>
            <p:nvPr/>
          </p:nvSpPr>
          <p:spPr>
            <a:xfrm>
              <a:off x="2235240" y="1400040"/>
              <a:ext cx="609480" cy="35337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533760"/>
                <a:gd name="textAreaBottom" fmla="*/ 3534120 h 3533760"/>
              </a:gdLst>
              <a:ahLst/>
              <a:rect l="textAreaLeft" t="textAreaTop" r="textAreaRight" b="textAreaBottom"/>
              <a:pathLst>
                <a:path w="384" h="2226">
                  <a:moveTo>
                    <a:pt x="384" y="25"/>
                  </a:moveTo>
                  <a:lnTo>
                    <a:pt x="377" y="23"/>
                  </a:lnTo>
                  <a:lnTo>
                    <a:pt x="323" y="12"/>
                  </a:lnTo>
                  <a:lnTo>
                    <a:pt x="267" y="2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8" y="2"/>
                  </a:lnTo>
                  <a:lnTo>
                    <a:pt x="246" y="2"/>
                  </a:lnTo>
                  <a:lnTo>
                    <a:pt x="246" y="4"/>
                  </a:lnTo>
                  <a:lnTo>
                    <a:pt x="244" y="6"/>
                  </a:lnTo>
                  <a:lnTo>
                    <a:pt x="244" y="6"/>
                  </a:lnTo>
                  <a:lnTo>
                    <a:pt x="242" y="8"/>
                  </a:lnTo>
                  <a:lnTo>
                    <a:pt x="242" y="8"/>
                  </a:lnTo>
                  <a:lnTo>
                    <a:pt x="265" y="12"/>
                  </a:lnTo>
                  <a:lnTo>
                    <a:pt x="321" y="22"/>
                  </a:lnTo>
                  <a:lnTo>
                    <a:pt x="375" y="35"/>
                  </a:lnTo>
                  <a:lnTo>
                    <a:pt x="382" y="37"/>
                  </a:lnTo>
                  <a:lnTo>
                    <a:pt x="382" y="35"/>
                  </a:lnTo>
                  <a:lnTo>
                    <a:pt x="382" y="33"/>
                  </a:lnTo>
                  <a:lnTo>
                    <a:pt x="382" y="33"/>
                  </a:lnTo>
                  <a:lnTo>
                    <a:pt x="384" y="31"/>
                  </a:lnTo>
                  <a:lnTo>
                    <a:pt x="384" y="29"/>
                  </a:lnTo>
                  <a:lnTo>
                    <a:pt x="384" y="29"/>
                  </a:lnTo>
                  <a:lnTo>
                    <a:pt x="384" y="27"/>
                  </a:lnTo>
                  <a:lnTo>
                    <a:pt x="384" y="25"/>
                  </a:lnTo>
                  <a:close/>
                  <a:moveTo>
                    <a:pt x="4" y="2222"/>
                  </a:moveTo>
                  <a:lnTo>
                    <a:pt x="39" y="2226"/>
                  </a:lnTo>
                  <a:lnTo>
                    <a:pt x="96" y="2226"/>
                  </a:lnTo>
                  <a:lnTo>
                    <a:pt x="154" y="2226"/>
                  </a:lnTo>
                  <a:lnTo>
                    <a:pt x="212" y="2220"/>
                  </a:lnTo>
                  <a:lnTo>
                    <a:pt x="267" y="2215"/>
                  </a:lnTo>
                  <a:lnTo>
                    <a:pt x="323" y="2203"/>
                  </a:lnTo>
                  <a:lnTo>
                    <a:pt x="350" y="2197"/>
                  </a:lnTo>
                  <a:lnTo>
                    <a:pt x="350" y="2195"/>
                  </a:lnTo>
                  <a:lnTo>
                    <a:pt x="350" y="2195"/>
                  </a:lnTo>
                  <a:lnTo>
                    <a:pt x="350" y="2193"/>
                  </a:lnTo>
                  <a:lnTo>
                    <a:pt x="350" y="2192"/>
                  </a:lnTo>
                  <a:lnTo>
                    <a:pt x="350" y="2192"/>
                  </a:lnTo>
                  <a:lnTo>
                    <a:pt x="350" y="2190"/>
                  </a:lnTo>
                  <a:lnTo>
                    <a:pt x="350" y="2188"/>
                  </a:lnTo>
                  <a:lnTo>
                    <a:pt x="350" y="2188"/>
                  </a:lnTo>
                  <a:lnTo>
                    <a:pt x="321" y="2193"/>
                  </a:lnTo>
                  <a:lnTo>
                    <a:pt x="265" y="2203"/>
                  </a:lnTo>
                  <a:lnTo>
                    <a:pt x="210" y="2211"/>
                  </a:lnTo>
                  <a:lnTo>
                    <a:pt x="154" y="2215"/>
                  </a:lnTo>
                  <a:lnTo>
                    <a:pt x="96" y="2217"/>
                  </a:lnTo>
                  <a:lnTo>
                    <a:pt x="41" y="2215"/>
                  </a:lnTo>
                  <a:lnTo>
                    <a:pt x="0" y="2213"/>
                  </a:lnTo>
                  <a:lnTo>
                    <a:pt x="2" y="2213"/>
                  </a:lnTo>
                  <a:lnTo>
                    <a:pt x="2" y="2215"/>
                  </a:lnTo>
                  <a:lnTo>
                    <a:pt x="2" y="2217"/>
                  </a:lnTo>
                  <a:lnTo>
                    <a:pt x="2" y="2217"/>
                  </a:lnTo>
                  <a:lnTo>
                    <a:pt x="2" y="2218"/>
                  </a:lnTo>
                  <a:lnTo>
                    <a:pt x="4" y="2220"/>
                  </a:lnTo>
                  <a:lnTo>
                    <a:pt x="4" y="2220"/>
                  </a:lnTo>
                  <a:lnTo>
                    <a:pt x="4" y="2222"/>
                  </a:lnTo>
                  <a:close/>
                </a:path>
              </a:pathLst>
            </a:custGeom>
            <a:solidFill>
              <a:srgbClr val="26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48"/>
            <p:cNvSpPr/>
            <p:nvPr/>
          </p:nvSpPr>
          <p:spPr>
            <a:xfrm>
              <a:off x="2233440" y="1406520"/>
              <a:ext cx="611280" cy="3520800"/>
            </a:xfrm>
            <a:custGeom>
              <a:avLst/>
              <a:gdLst>
                <a:gd name="textAreaLeft" fmla="*/ 0 w 611280"/>
                <a:gd name="textAreaRight" fmla="*/ 611280 w 611280"/>
                <a:gd name="textAreaTop" fmla="*/ 0 h 3520800"/>
                <a:gd name="textAreaBottom" fmla="*/ 3521160 h 3520800"/>
              </a:gdLst>
              <a:ahLst/>
              <a:rect l="textAreaLeft" t="textAreaTop" r="textAreaRight" b="textAreaBottom"/>
              <a:pathLst>
                <a:path w="385" h="2218">
                  <a:moveTo>
                    <a:pt x="385" y="27"/>
                  </a:moveTo>
                  <a:lnTo>
                    <a:pt x="376" y="25"/>
                  </a:lnTo>
                  <a:lnTo>
                    <a:pt x="322" y="12"/>
                  </a:lnTo>
                  <a:lnTo>
                    <a:pt x="268" y="2"/>
                  </a:lnTo>
                  <a:lnTo>
                    <a:pt x="247" y="0"/>
                  </a:lnTo>
                  <a:lnTo>
                    <a:pt x="245" y="2"/>
                  </a:lnTo>
                  <a:lnTo>
                    <a:pt x="245" y="2"/>
                  </a:lnTo>
                  <a:lnTo>
                    <a:pt x="243" y="4"/>
                  </a:lnTo>
                  <a:lnTo>
                    <a:pt x="243" y="4"/>
                  </a:lnTo>
                  <a:lnTo>
                    <a:pt x="241" y="6"/>
                  </a:lnTo>
                  <a:lnTo>
                    <a:pt x="241" y="8"/>
                  </a:lnTo>
                  <a:lnTo>
                    <a:pt x="239" y="8"/>
                  </a:lnTo>
                  <a:lnTo>
                    <a:pt x="239" y="10"/>
                  </a:lnTo>
                  <a:lnTo>
                    <a:pt x="266" y="14"/>
                  </a:lnTo>
                  <a:lnTo>
                    <a:pt x="320" y="23"/>
                  </a:lnTo>
                  <a:lnTo>
                    <a:pt x="374" y="35"/>
                  </a:lnTo>
                  <a:lnTo>
                    <a:pt x="383" y="37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3" y="33"/>
                  </a:lnTo>
                  <a:lnTo>
                    <a:pt x="383" y="33"/>
                  </a:lnTo>
                  <a:lnTo>
                    <a:pt x="383" y="31"/>
                  </a:lnTo>
                  <a:lnTo>
                    <a:pt x="383" y="29"/>
                  </a:lnTo>
                  <a:lnTo>
                    <a:pt x="383" y="29"/>
                  </a:lnTo>
                  <a:lnTo>
                    <a:pt x="385" y="27"/>
                  </a:lnTo>
                  <a:close/>
                  <a:moveTo>
                    <a:pt x="3" y="2213"/>
                  </a:moveTo>
                  <a:lnTo>
                    <a:pt x="40" y="2216"/>
                  </a:lnTo>
                  <a:lnTo>
                    <a:pt x="97" y="2218"/>
                  </a:lnTo>
                  <a:lnTo>
                    <a:pt x="155" y="2216"/>
                  </a:lnTo>
                  <a:lnTo>
                    <a:pt x="213" y="2213"/>
                  </a:lnTo>
                  <a:lnTo>
                    <a:pt x="268" y="2205"/>
                  </a:lnTo>
                  <a:lnTo>
                    <a:pt x="322" y="2195"/>
                  </a:lnTo>
                  <a:lnTo>
                    <a:pt x="351" y="2188"/>
                  </a:lnTo>
                  <a:lnTo>
                    <a:pt x="351" y="2188"/>
                  </a:lnTo>
                  <a:lnTo>
                    <a:pt x="351" y="2186"/>
                  </a:lnTo>
                  <a:lnTo>
                    <a:pt x="351" y="2184"/>
                  </a:lnTo>
                  <a:lnTo>
                    <a:pt x="351" y="2184"/>
                  </a:lnTo>
                  <a:lnTo>
                    <a:pt x="351" y="2182"/>
                  </a:lnTo>
                  <a:lnTo>
                    <a:pt x="349" y="2180"/>
                  </a:lnTo>
                  <a:lnTo>
                    <a:pt x="349" y="2180"/>
                  </a:lnTo>
                  <a:lnTo>
                    <a:pt x="349" y="2178"/>
                  </a:lnTo>
                  <a:lnTo>
                    <a:pt x="320" y="2186"/>
                  </a:lnTo>
                  <a:lnTo>
                    <a:pt x="266" y="2195"/>
                  </a:lnTo>
                  <a:lnTo>
                    <a:pt x="211" y="2201"/>
                  </a:lnTo>
                  <a:lnTo>
                    <a:pt x="155" y="2207"/>
                  </a:lnTo>
                  <a:lnTo>
                    <a:pt x="97" y="2207"/>
                  </a:lnTo>
                  <a:lnTo>
                    <a:pt x="42" y="2207"/>
                  </a:lnTo>
                  <a:lnTo>
                    <a:pt x="0" y="2203"/>
                  </a:lnTo>
                  <a:lnTo>
                    <a:pt x="1" y="2205"/>
                  </a:lnTo>
                  <a:lnTo>
                    <a:pt x="1" y="2205"/>
                  </a:lnTo>
                  <a:lnTo>
                    <a:pt x="1" y="2207"/>
                  </a:lnTo>
                  <a:lnTo>
                    <a:pt x="1" y="2209"/>
                  </a:lnTo>
                  <a:lnTo>
                    <a:pt x="3" y="2209"/>
                  </a:lnTo>
                  <a:lnTo>
                    <a:pt x="3" y="2211"/>
                  </a:lnTo>
                  <a:lnTo>
                    <a:pt x="3" y="2213"/>
                  </a:lnTo>
                  <a:lnTo>
                    <a:pt x="3" y="2213"/>
                  </a:lnTo>
                  <a:close/>
                </a:path>
              </a:pathLst>
            </a:custGeom>
            <a:solidFill>
              <a:srgbClr val="27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49"/>
            <p:cNvSpPr/>
            <p:nvPr/>
          </p:nvSpPr>
          <p:spPr>
            <a:xfrm>
              <a:off x="2230560" y="1412640"/>
              <a:ext cx="610920" cy="350676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3506760"/>
                <a:gd name="textAreaBottom" fmla="*/ 3507120 h 3506760"/>
              </a:gdLst>
              <a:ahLst/>
              <a:rect l="textAreaLeft" t="textAreaTop" r="textAreaRight" b="textAreaBottom"/>
              <a:pathLst>
                <a:path w="385" h="2209">
                  <a:moveTo>
                    <a:pt x="385" y="29"/>
                  </a:moveTo>
                  <a:lnTo>
                    <a:pt x="378" y="27"/>
                  </a:lnTo>
                  <a:lnTo>
                    <a:pt x="324" y="14"/>
                  </a:lnTo>
                  <a:lnTo>
                    <a:pt x="268" y="4"/>
                  </a:lnTo>
                  <a:lnTo>
                    <a:pt x="245" y="0"/>
                  </a:lnTo>
                  <a:lnTo>
                    <a:pt x="243" y="2"/>
                  </a:lnTo>
                  <a:lnTo>
                    <a:pt x="243" y="4"/>
                  </a:lnTo>
                  <a:lnTo>
                    <a:pt x="241" y="4"/>
                  </a:lnTo>
                  <a:lnTo>
                    <a:pt x="241" y="6"/>
                  </a:lnTo>
                  <a:lnTo>
                    <a:pt x="240" y="6"/>
                  </a:lnTo>
                  <a:lnTo>
                    <a:pt x="240" y="8"/>
                  </a:lnTo>
                  <a:lnTo>
                    <a:pt x="238" y="10"/>
                  </a:lnTo>
                  <a:lnTo>
                    <a:pt x="238" y="10"/>
                  </a:lnTo>
                  <a:lnTo>
                    <a:pt x="266" y="14"/>
                  </a:lnTo>
                  <a:lnTo>
                    <a:pt x="322" y="23"/>
                  </a:lnTo>
                  <a:lnTo>
                    <a:pt x="374" y="37"/>
                  </a:lnTo>
                  <a:lnTo>
                    <a:pt x="383" y="38"/>
                  </a:lnTo>
                  <a:lnTo>
                    <a:pt x="383" y="37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5" y="33"/>
                  </a:lnTo>
                  <a:lnTo>
                    <a:pt x="385" y="33"/>
                  </a:lnTo>
                  <a:lnTo>
                    <a:pt x="385" y="31"/>
                  </a:lnTo>
                  <a:lnTo>
                    <a:pt x="385" y="29"/>
                  </a:lnTo>
                  <a:lnTo>
                    <a:pt x="385" y="29"/>
                  </a:lnTo>
                  <a:close/>
                  <a:moveTo>
                    <a:pt x="3" y="2205"/>
                  </a:moveTo>
                  <a:lnTo>
                    <a:pt x="44" y="2207"/>
                  </a:lnTo>
                  <a:lnTo>
                    <a:pt x="99" y="2209"/>
                  </a:lnTo>
                  <a:lnTo>
                    <a:pt x="157" y="2207"/>
                  </a:lnTo>
                  <a:lnTo>
                    <a:pt x="213" y="2203"/>
                  </a:lnTo>
                  <a:lnTo>
                    <a:pt x="268" y="2195"/>
                  </a:lnTo>
                  <a:lnTo>
                    <a:pt x="324" y="2185"/>
                  </a:lnTo>
                  <a:lnTo>
                    <a:pt x="353" y="2180"/>
                  </a:lnTo>
                  <a:lnTo>
                    <a:pt x="353" y="2178"/>
                  </a:lnTo>
                  <a:lnTo>
                    <a:pt x="351" y="2176"/>
                  </a:lnTo>
                  <a:lnTo>
                    <a:pt x="351" y="2176"/>
                  </a:lnTo>
                  <a:lnTo>
                    <a:pt x="351" y="2174"/>
                  </a:lnTo>
                  <a:lnTo>
                    <a:pt x="351" y="2172"/>
                  </a:lnTo>
                  <a:lnTo>
                    <a:pt x="351" y="2172"/>
                  </a:lnTo>
                  <a:lnTo>
                    <a:pt x="351" y="2170"/>
                  </a:lnTo>
                  <a:lnTo>
                    <a:pt x="351" y="2168"/>
                  </a:lnTo>
                  <a:lnTo>
                    <a:pt x="322" y="2176"/>
                  </a:lnTo>
                  <a:lnTo>
                    <a:pt x="266" y="2185"/>
                  </a:lnTo>
                  <a:lnTo>
                    <a:pt x="213" y="2193"/>
                  </a:lnTo>
                  <a:lnTo>
                    <a:pt x="157" y="2197"/>
                  </a:lnTo>
                  <a:lnTo>
                    <a:pt x="99" y="2199"/>
                  </a:lnTo>
                  <a:lnTo>
                    <a:pt x="44" y="2197"/>
                  </a:lnTo>
                  <a:lnTo>
                    <a:pt x="0" y="2193"/>
                  </a:lnTo>
                  <a:lnTo>
                    <a:pt x="2" y="2195"/>
                  </a:lnTo>
                  <a:lnTo>
                    <a:pt x="2" y="2197"/>
                  </a:lnTo>
                  <a:lnTo>
                    <a:pt x="2" y="2197"/>
                  </a:lnTo>
                  <a:lnTo>
                    <a:pt x="2" y="2199"/>
                  </a:lnTo>
                  <a:lnTo>
                    <a:pt x="3" y="2201"/>
                  </a:lnTo>
                  <a:lnTo>
                    <a:pt x="3" y="2201"/>
                  </a:lnTo>
                  <a:lnTo>
                    <a:pt x="3" y="2203"/>
                  </a:lnTo>
                  <a:lnTo>
                    <a:pt x="3" y="2205"/>
                  </a:lnTo>
                  <a:close/>
                </a:path>
              </a:pathLst>
            </a:custGeom>
            <a:solidFill>
              <a:srgbClr val="28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50"/>
            <p:cNvSpPr/>
            <p:nvPr/>
          </p:nvSpPr>
          <p:spPr>
            <a:xfrm>
              <a:off x="2227320" y="1422360"/>
              <a:ext cx="614160" cy="348768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3487680"/>
                <a:gd name="textAreaBottom" fmla="*/ 3488040 h 3487680"/>
              </a:gdLst>
              <a:ahLst/>
              <a:rect l="textAreaLeft" t="textAreaTop" r="textAreaRight" b="textAreaBottom"/>
              <a:pathLst>
                <a:path w="387" h="2197">
                  <a:moveTo>
                    <a:pt x="387" y="27"/>
                  </a:moveTo>
                  <a:lnTo>
                    <a:pt x="378" y="25"/>
                  </a:lnTo>
                  <a:lnTo>
                    <a:pt x="324" y="13"/>
                  </a:lnTo>
                  <a:lnTo>
                    <a:pt x="270" y="4"/>
                  </a:lnTo>
                  <a:lnTo>
                    <a:pt x="243" y="0"/>
                  </a:lnTo>
                  <a:lnTo>
                    <a:pt x="242" y="0"/>
                  </a:lnTo>
                  <a:lnTo>
                    <a:pt x="242" y="2"/>
                  </a:lnTo>
                  <a:lnTo>
                    <a:pt x="240" y="4"/>
                  </a:lnTo>
                  <a:lnTo>
                    <a:pt x="240" y="4"/>
                  </a:lnTo>
                  <a:lnTo>
                    <a:pt x="238" y="6"/>
                  </a:lnTo>
                  <a:lnTo>
                    <a:pt x="238" y="8"/>
                  </a:lnTo>
                  <a:lnTo>
                    <a:pt x="236" y="8"/>
                  </a:lnTo>
                  <a:lnTo>
                    <a:pt x="236" y="9"/>
                  </a:lnTo>
                  <a:lnTo>
                    <a:pt x="268" y="13"/>
                  </a:lnTo>
                  <a:lnTo>
                    <a:pt x="322" y="23"/>
                  </a:lnTo>
                  <a:lnTo>
                    <a:pt x="376" y="34"/>
                  </a:lnTo>
                  <a:lnTo>
                    <a:pt x="385" y="38"/>
                  </a:lnTo>
                  <a:lnTo>
                    <a:pt x="385" y="36"/>
                  </a:lnTo>
                  <a:lnTo>
                    <a:pt x="385" y="34"/>
                  </a:lnTo>
                  <a:lnTo>
                    <a:pt x="385" y="34"/>
                  </a:lnTo>
                  <a:lnTo>
                    <a:pt x="385" y="32"/>
                  </a:lnTo>
                  <a:lnTo>
                    <a:pt x="385" y="31"/>
                  </a:lnTo>
                  <a:lnTo>
                    <a:pt x="385" y="31"/>
                  </a:lnTo>
                  <a:lnTo>
                    <a:pt x="385" y="29"/>
                  </a:lnTo>
                  <a:lnTo>
                    <a:pt x="387" y="27"/>
                  </a:lnTo>
                  <a:close/>
                  <a:moveTo>
                    <a:pt x="4" y="2193"/>
                  </a:moveTo>
                  <a:lnTo>
                    <a:pt x="46" y="2197"/>
                  </a:lnTo>
                  <a:lnTo>
                    <a:pt x="101" y="2197"/>
                  </a:lnTo>
                  <a:lnTo>
                    <a:pt x="159" y="2197"/>
                  </a:lnTo>
                  <a:lnTo>
                    <a:pt x="215" y="2191"/>
                  </a:lnTo>
                  <a:lnTo>
                    <a:pt x="270" y="2185"/>
                  </a:lnTo>
                  <a:lnTo>
                    <a:pt x="324" y="2176"/>
                  </a:lnTo>
                  <a:lnTo>
                    <a:pt x="353" y="2168"/>
                  </a:lnTo>
                  <a:lnTo>
                    <a:pt x="353" y="2166"/>
                  </a:lnTo>
                  <a:lnTo>
                    <a:pt x="353" y="2166"/>
                  </a:lnTo>
                  <a:lnTo>
                    <a:pt x="353" y="2164"/>
                  </a:lnTo>
                  <a:lnTo>
                    <a:pt x="353" y="2162"/>
                  </a:lnTo>
                  <a:lnTo>
                    <a:pt x="353" y="2162"/>
                  </a:lnTo>
                  <a:lnTo>
                    <a:pt x="353" y="2160"/>
                  </a:lnTo>
                  <a:lnTo>
                    <a:pt x="353" y="2158"/>
                  </a:lnTo>
                  <a:lnTo>
                    <a:pt x="351" y="2158"/>
                  </a:lnTo>
                  <a:lnTo>
                    <a:pt x="322" y="2164"/>
                  </a:lnTo>
                  <a:lnTo>
                    <a:pt x="268" y="2174"/>
                  </a:lnTo>
                  <a:lnTo>
                    <a:pt x="215" y="2181"/>
                  </a:lnTo>
                  <a:lnTo>
                    <a:pt x="159" y="2185"/>
                  </a:lnTo>
                  <a:lnTo>
                    <a:pt x="101" y="2187"/>
                  </a:lnTo>
                  <a:lnTo>
                    <a:pt x="46" y="2185"/>
                  </a:lnTo>
                  <a:lnTo>
                    <a:pt x="0" y="2181"/>
                  </a:lnTo>
                  <a:lnTo>
                    <a:pt x="2" y="2183"/>
                  </a:lnTo>
                  <a:lnTo>
                    <a:pt x="2" y="2185"/>
                  </a:lnTo>
                  <a:lnTo>
                    <a:pt x="2" y="2185"/>
                  </a:lnTo>
                  <a:lnTo>
                    <a:pt x="2" y="2187"/>
                  </a:lnTo>
                  <a:lnTo>
                    <a:pt x="4" y="2189"/>
                  </a:lnTo>
                  <a:lnTo>
                    <a:pt x="4" y="2191"/>
                  </a:lnTo>
                  <a:lnTo>
                    <a:pt x="4" y="2191"/>
                  </a:lnTo>
                  <a:lnTo>
                    <a:pt x="4" y="2193"/>
                  </a:lnTo>
                  <a:close/>
                </a:path>
              </a:pathLst>
            </a:custGeom>
            <a:solidFill>
              <a:srgbClr val="29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Freeform 51"/>
            <p:cNvSpPr/>
            <p:nvPr/>
          </p:nvSpPr>
          <p:spPr>
            <a:xfrm>
              <a:off x="2227320" y="1428480"/>
              <a:ext cx="611280" cy="3475080"/>
            </a:xfrm>
            <a:custGeom>
              <a:avLst/>
              <a:gdLst>
                <a:gd name="textAreaLeft" fmla="*/ 0 w 611280"/>
                <a:gd name="textAreaRight" fmla="*/ 611280 w 611280"/>
                <a:gd name="textAreaTop" fmla="*/ 0 h 3475080"/>
                <a:gd name="textAreaBottom" fmla="*/ 3475440 h 3475080"/>
              </a:gdLst>
              <a:ahLst/>
              <a:rect l="textAreaLeft" t="textAreaTop" r="textAreaRight" b="textAreaBottom"/>
              <a:pathLst>
                <a:path w="385" h="2189">
                  <a:moveTo>
                    <a:pt x="385" y="28"/>
                  </a:moveTo>
                  <a:lnTo>
                    <a:pt x="376" y="27"/>
                  </a:lnTo>
                  <a:lnTo>
                    <a:pt x="324" y="13"/>
                  </a:lnTo>
                  <a:lnTo>
                    <a:pt x="268" y="4"/>
                  </a:lnTo>
                  <a:lnTo>
                    <a:pt x="240" y="0"/>
                  </a:lnTo>
                  <a:lnTo>
                    <a:pt x="238" y="2"/>
                  </a:lnTo>
                  <a:lnTo>
                    <a:pt x="238" y="4"/>
                  </a:lnTo>
                  <a:lnTo>
                    <a:pt x="236" y="4"/>
                  </a:lnTo>
                  <a:lnTo>
                    <a:pt x="236" y="5"/>
                  </a:lnTo>
                  <a:lnTo>
                    <a:pt x="234" y="5"/>
                  </a:lnTo>
                  <a:lnTo>
                    <a:pt x="234" y="7"/>
                  </a:lnTo>
                  <a:lnTo>
                    <a:pt x="232" y="9"/>
                  </a:lnTo>
                  <a:lnTo>
                    <a:pt x="232" y="9"/>
                  </a:lnTo>
                  <a:lnTo>
                    <a:pt x="268" y="15"/>
                  </a:lnTo>
                  <a:lnTo>
                    <a:pt x="322" y="25"/>
                  </a:lnTo>
                  <a:lnTo>
                    <a:pt x="374" y="36"/>
                  </a:lnTo>
                  <a:lnTo>
                    <a:pt x="384" y="38"/>
                  </a:lnTo>
                  <a:lnTo>
                    <a:pt x="384" y="38"/>
                  </a:lnTo>
                  <a:lnTo>
                    <a:pt x="384" y="36"/>
                  </a:lnTo>
                  <a:lnTo>
                    <a:pt x="385" y="34"/>
                  </a:lnTo>
                  <a:lnTo>
                    <a:pt x="385" y="34"/>
                  </a:lnTo>
                  <a:lnTo>
                    <a:pt x="385" y="32"/>
                  </a:lnTo>
                  <a:lnTo>
                    <a:pt x="385" y="30"/>
                  </a:lnTo>
                  <a:lnTo>
                    <a:pt x="385" y="30"/>
                  </a:lnTo>
                  <a:lnTo>
                    <a:pt x="385" y="28"/>
                  </a:lnTo>
                  <a:close/>
                  <a:moveTo>
                    <a:pt x="2" y="2183"/>
                  </a:moveTo>
                  <a:lnTo>
                    <a:pt x="46" y="2187"/>
                  </a:lnTo>
                  <a:lnTo>
                    <a:pt x="101" y="2189"/>
                  </a:lnTo>
                  <a:lnTo>
                    <a:pt x="159" y="2187"/>
                  </a:lnTo>
                  <a:lnTo>
                    <a:pt x="215" y="2183"/>
                  </a:lnTo>
                  <a:lnTo>
                    <a:pt x="268" y="2175"/>
                  </a:lnTo>
                  <a:lnTo>
                    <a:pt x="324" y="2166"/>
                  </a:lnTo>
                  <a:lnTo>
                    <a:pt x="353" y="2158"/>
                  </a:lnTo>
                  <a:lnTo>
                    <a:pt x="353" y="2158"/>
                  </a:lnTo>
                  <a:lnTo>
                    <a:pt x="353" y="2156"/>
                  </a:lnTo>
                  <a:lnTo>
                    <a:pt x="353" y="2154"/>
                  </a:lnTo>
                  <a:lnTo>
                    <a:pt x="351" y="2154"/>
                  </a:lnTo>
                  <a:lnTo>
                    <a:pt x="351" y="2152"/>
                  </a:lnTo>
                  <a:lnTo>
                    <a:pt x="351" y="2151"/>
                  </a:lnTo>
                  <a:lnTo>
                    <a:pt x="351" y="2151"/>
                  </a:lnTo>
                  <a:lnTo>
                    <a:pt x="351" y="2149"/>
                  </a:lnTo>
                  <a:lnTo>
                    <a:pt x="322" y="2156"/>
                  </a:lnTo>
                  <a:lnTo>
                    <a:pt x="268" y="2166"/>
                  </a:lnTo>
                  <a:lnTo>
                    <a:pt x="213" y="2172"/>
                  </a:lnTo>
                  <a:lnTo>
                    <a:pt x="157" y="2177"/>
                  </a:lnTo>
                  <a:lnTo>
                    <a:pt x="101" y="2177"/>
                  </a:lnTo>
                  <a:lnTo>
                    <a:pt x="46" y="2177"/>
                  </a:lnTo>
                  <a:lnTo>
                    <a:pt x="0" y="2174"/>
                  </a:lnTo>
                  <a:lnTo>
                    <a:pt x="0" y="2174"/>
                  </a:lnTo>
                  <a:lnTo>
                    <a:pt x="0" y="2175"/>
                  </a:lnTo>
                  <a:lnTo>
                    <a:pt x="0" y="2177"/>
                  </a:lnTo>
                  <a:lnTo>
                    <a:pt x="0" y="2177"/>
                  </a:lnTo>
                  <a:lnTo>
                    <a:pt x="2" y="2179"/>
                  </a:lnTo>
                  <a:lnTo>
                    <a:pt x="2" y="2181"/>
                  </a:lnTo>
                  <a:lnTo>
                    <a:pt x="2" y="2181"/>
                  </a:lnTo>
                  <a:lnTo>
                    <a:pt x="2" y="2183"/>
                  </a:lnTo>
                  <a:close/>
                </a:path>
              </a:pathLst>
            </a:custGeom>
            <a:solidFill>
              <a:srgbClr val="2a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Freeform 52"/>
            <p:cNvSpPr/>
            <p:nvPr/>
          </p:nvSpPr>
          <p:spPr>
            <a:xfrm>
              <a:off x="2224080" y="1436400"/>
              <a:ext cx="614520" cy="345780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3457800"/>
                <a:gd name="textAreaBottom" fmla="*/ 3458160 h 3457800"/>
              </a:gdLst>
              <a:ahLst/>
              <a:rect l="textAreaLeft" t="textAreaTop" r="textAreaRight" b="textAreaBottom"/>
              <a:pathLst>
                <a:path w="387" h="2178">
                  <a:moveTo>
                    <a:pt x="387" y="29"/>
                  </a:moveTo>
                  <a:lnTo>
                    <a:pt x="378" y="25"/>
                  </a:lnTo>
                  <a:lnTo>
                    <a:pt x="324" y="14"/>
                  </a:lnTo>
                  <a:lnTo>
                    <a:pt x="270" y="4"/>
                  </a:lnTo>
                  <a:lnTo>
                    <a:pt x="238" y="0"/>
                  </a:lnTo>
                  <a:lnTo>
                    <a:pt x="236" y="0"/>
                  </a:lnTo>
                  <a:lnTo>
                    <a:pt x="236" y="2"/>
                  </a:lnTo>
                  <a:lnTo>
                    <a:pt x="234" y="4"/>
                  </a:lnTo>
                  <a:lnTo>
                    <a:pt x="234" y="4"/>
                  </a:lnTo>
                  <a:lnTo>
                    <a:pt x="234" y="6"/>
                  </a:lnTo>
                  <a:lnTo>
                    <a:pt x="232" y="6"/>
                  </a:lnTo>
                  <a:lnTo>
                    <a:pt x="232" y="8"/>
                  </a:lnTo>
                  <a:lnTo>
                    <a:pt x="230" y="10"/>
                  </a:lnTo>
                  <a:lnTo>
                    <a:pt x="268" y="14"/>
                  </a:lnTo>
                  <a:lnTo>
                    <a:pt x="322" y="23"/>
                  </a:lnTo>
                  <a:lnTo>
                    <a:pt x="374" y="35"/>
                  </a:lnTo>
                  <a:lnTo>
                    <a:pt x="386" y="39"/>
                  </a:lnTo>
                  <a:lnTo>
                    <a:pt x="386" y="37"/>
                  </a:lnTo>
                  <a:lnTo>
                    <a:pt x="386" y="37"/>
                  </a:lnTo>
                  <a:lnTo>
                    <a:pt x="386" y="35"/>
                  </a:lnTo>
                  <a:lnTo>
                    <a:pt x="386" y="33"/>
                  </a:lnTo>
                  <a:lnTo>
                    <a:pt x="386" y="33"/>
                  </a:lnTo>
                  <a:lnTo>
                    <a:pt x="386" y="31"/>
                  </a:lnTo>
                  <a:lnTo>
                    <a:pt x="387" y="29"/>
                  </a:lnTo>
                  <a:lnTo>
                    <a:pt x="387" y="29"/>
                  </a:lnTo>
                  <a:close/>
                  <a:moveTo>
                    <a:pt x="2" y="2172"/>
                  </a:moveTo>
                  <a:lnTo>
                    <a:pt x="48" y="2176"/>
                  </a:lnTo>
                  <a:lnTo>
                    <a:pt x="103" y="2178"/>
                  </a:lnTo>
                  <a:lnTo>
                    <a:pt x="161" y="2176"/>
                  </a:lnTo>
                  <a:lnTo>
                    <a:pt x="217" y="2172"/>
                  </a:lnTo>
                  <a:lnTo>
                    <a:pt x="270" y="2165"/>
                  </a:lnTo>
                  <a:lnTo>
                    <a:pt x="324" y="2155"/>
                  </a:lnTo>
                  <a:lnTo>
                    <a:pt x="353" y="2149"/>
                  </a:lnTo>
                  <a:lnTo>
                    <a:pt x="353" y="2147"/>
                  </a:lnTo>
                  <a:lnTo>
                    <a:pt x="353" y="2146"/>
                  </a:lnTo>
                  <a:lnTo>
                    <a:pt x="353" y="2146"/>
                  </a:lnTo>
                  <a:lnTo>
                    <a:pt x="353" y="2144"/>
                  </a:lnTo>
                  <a:lnTo>
                    <a:pt x="353" y="2142"/>
                  </a:lnTo>
                  <a:lnTo>
                    <a:pt x="353" y="2142"/>
                  </a:lnTo>
                  <a:lnTo>
                    <a:pt x="353" y="2140"/>
                  </a:lnTo>
                  <a:lnTo>
                    <a:pt x="353" y="2138"/>
                  </a:lnTo>
                  <a:lnTo>
                    <a:pt x="322" y="2146"/>
                  </a:lnTo>
                  <a:lnTo>
                    <a:pt x="268" y="2155"/>
                  </a:lnTo>
                  <a:lnTo>
                    <a:pt x="215" y="2163"/>
                  </a:lnTo>
                  <a:lnTo>
                    <a:pt x="159" y="2167"/>
                  </a:lnTo>
                  <a:lnTo>
                    <a:pt x="103" y="2169"/>
                  </a:lnTo>
                  <a:lnTo>
                    <a:pt x="48" y="2167"/>
                  </a:lnTo>
                  <a:lnTo>
                    <a:pt x="0" y="2163"/>
                  </a:lnTo>
                  <a:lnTo>
                    <a:pt x="0" y="2165"/>
                  </a:lnTo>
                  <a:lnTo>
                    <a:pt x="0" y="2165"/>
                  </a:lnTo>
                  <a:lnTo>
                    <a:pt x="0" y="2167"/>
                  </a:lnTo>
                  <a:lnTo>
                    <a:pt x="2" y="2169"/>
                  </a:lnTo>
                  <a:lnTo>
                    <a:pt x="2" y="2169"/>
                  </a:lnTo>
                  <a:lnTo>
                    <a:pt x="2" y="2170"/>
                  </a:lnTo>
                  <a:lnTo>
                    <a:pt x="2" y="2172"/>
                  </a:lnTo>
                  <a:lnTo>
                    <a:pt x="2" y="2172"/>
                  </a:lnTo>
                  <a:close/>
                </a:path>
              </a:pathLst>
            </a:custGeom>
            <a:solidFill>
              <a:srgbClr val="2b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Freeform 53"/>
            <p:cNvSpPr/>
            <p:nvPr/>
          </p:nvSpPr>
          <p:spPr>
            <a:xfrm>
              <a:off x="2220840" y="1442880"/>
              <a:ext cx="615960" cy="344160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3441600"/>
                <a:gd name="textAreaBottom" fmla="*/ 3441960 h 3441600"/>
              </a:gdLst>
              <a:ahLst/>
              <a:rect l="textAreaLeft" t="textAreaTop" r="textAreaRight" b="textAreaBottom"/>
              <a:pathLst>
                <a:path w="388" h="2168">
                  <a:moveTo>
                    <a:pt x="388" y="29"/>
                  </a:moveTo>
                  <a:lnTo>
                    <a:pt x="378" y="27"/>
                  </a:lnTo>
                  <a:lnTo>
                    <a:pt x="326" y="16"/>
                  </a:lnTo>
                  <a:lnTo>
                    <a:pt x="272" y="6"/>
                  </a:lnTo>
                  <a:lnTo>
                    <a:pt x="236" y="0"/>
                  </a:lnTo>
                  <a:lnTo>
                    <a:pt x="234" y="2"/>
                  </a:lnTo>
                  <a:lnTo>
                    <a:pt x="234" y="2"/>
                  </a:lnTo>
                  <a:lnTo>
                    <a:pt x="234" y="4"/>
                  </a:lnTo>
                  <a:lnTo>
                    <a:pt x="232" y="6"/>
                  </a:lnTo>
                  <a:lnTo>
                    <a:pt x="232" y="6"/>
                  </a:lnTo>
                  <a:lnTo>
                    <a:pt x="230" y="8"/>
                  </a:lnTo>
                  <a:lnTo>
                    <a:pt x="230" y="8"/>
                  </a:lnTo>
                  <a:lnTo>
                    <a:pt x="228" y="10"/>
                  </a:lnTo>
                  <a:lnTo>
                    <a:pt x="270" y="16"/>
                  </a:lnTo>
                  <a:lnTo>
                    <a:pt x="322" y="25"/>
                  </a:lnTo>
                  <a:lnTo>
                    <a:pt x="376" y="37"/>
                  </a:lnTo>
                  <a:lnTo>
                    <a:pt x="386" y="41"/>
                  </a:lnTo>
                  <a:lnTo>
                    <a:pt x="386" y="39"/>
                  </a:lnTo>
                  <a:lnTo>
                    <a:pt x="386" y="37"/>
                  </a:lnTo>
                  <a:lnTo>
                    <a:pt x="388" y="37"/>
                  </a:lnTo>
                  <a:lnTo>
                    <a:pt x="388" y="35"/>
                  </a:lnTo>
                  <a:lnTo>
                    <a:pt x="388" y="33"/>
                  </a:lnTo>
                  <a:lnTo>
                    <a:pt x="388" y="33"/>
                  </a:lnTo>
                  <a:lnTo>
                    <a:pt x="388" y="31"/>
                  </a:lnTo>
                  <a:lnTo>
                    <a:pt x="388" y="29"/>
                  </a:lnTo>
                  <a:close/>
                  <a:moveTo>
                    <a:pt x="4" y="2165"/>
                  </a:moveTo>
                  <a:lnTo>
                    <a:pt x="50" y="2168"/>
                  </a:lnTo>
                  <a:lnTo>
                    <a:pt x="105" y="2168"/>
                  </a:lnTo>
                  <a:lnTo>
                    <a:pt x="161" y="2168"/>
                  </a:lnTo>
                  <a:lnTo>
                    <a:pt x="217" y="2163"/>
                  </a:lnTo>
                  <a:lnTo>
                    <a:pt x="272" y="2157"/>
                  </a:lnTo>
                  <a:lnTo>
                    <a:pt x="326" y="2147"/>
                  </a:lnTo>
                  <a:lnTo>
                    <a:pt x="355" y="2140"/>
                  </a:lnTo>
                  <a:lnTo>
                    <a:pt x="355" y="2138"/>
                  </a:lnTo>
                  <a:lnTo>
                    <a:pt x="355" y="2138"/>
                  </a:lnTo>
                  <a:lnTo>
                    <a:pt x="355" y="2136"/>
                  </a:lnTo>
                  <a:lnTo>
                    <a:pt x="355" y="2134"/>
                  </a:lnTo>
                  <a:lnTo>
                    <a:pt x="355" y="2134"/>
                  </a:lnTo>
                  <a:lnTo>
                    <a:pt x="353" y="2132"/>
                  </a:lnTo>
                  <a:lnTo>
                    <a:pt x="353" y="2132"/>
                  </a:lnTo>
                  <a:lnTo>
                    <a:pt x="353" y="2130"/>
                  </a:lnTo>
                  <a:lnTo>
                    <a:pt x="322" y="2136"/>
                  </a:lnTo>
                  <a:lnTo>
                    <a:pt x="270" y="2145"/>
                  </a:lnTo>
                  <a:lnTo>
                    <a:pt x="217" y="2153"/>
                  </a:lnTo>
                  <a:lnTo>
                    <a:pt x="161" y="2157"/>
                  </a:lnTo>
                  <a:lnTo>
                    <a:pt x="105" y="2159"/>
                  </a:lnTo>
                  <a:lnTo>
                    <a:pt x="50" y="2157"/>
                  </a:lnTo>
                  <a:lnTo>
                    <a:pt x="0" y="2153"/>
                  </a:lnTo>
                  <a:lnTo>
                    <a:pt x="0" y="2155"/>
                  </a:lnTo>
                  <a:lnTo>
                    <a:pt x="0" y="2157"/>
                  </a:lnTo>
                  <a:lnTo>
                    <a:pt x="0" y="2157"/>
                  </a:lnTo>
                  <a:lnTo>
                    <a:pt x="2" y="2159"/>
                  </a:lnTo>
                  <a:lnTo>
                    <a:pt x="2" y="2161"/>
                  </a:lnTo>
                  <a:lnTo>
                    <a:pt x="2" y="2161"/>
                  </a:lnTo>
                  <a:lnTo>
                    <a:pt x="2" y="2163"/>
                  </a:lnTo>
                  <a:lnTo>
                    <a:pt x="4" y="2165"/>
                  </a:lnTo>
                  <a:close/>
                </a:path>
              </a:pathLst>
            </a:custGeom>
            <a:solidFill>
              <a:srgbClr val="2c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Freeform 54"/>
            <p:cNvSpPr/>
            <p:nvPr/>
          </p:nvSpPr>
          <p:spPr>
            <a:xfrm>
              <a:off x="2217600" y="1452240"/>
              <a:ext cx="619200" cy="34275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3427560"/>
                <a:gd name="textAreaBottom" fmla="*/ 3427920 h 3427560"/>
              </a:gdLst>
              <a:ahLst/>
              <a:rect l="textAreaLeft" t="textAreaTop" r="textAreaRight" b="textAreaBottom"/>
              <a:pathLst>
                <a:path w="390" h="2159">
                  <a:moveTo>
                    <a:pt x="390" y="29"/>
                  </a:moveTo>
                  <a:lnTo>
                    <a:pt x="378" y="25"/>
                  </a:lnTo>
                  <a:lnTo>
                    <a:pt x="326" y="13"/>
                  </a:lnTo>
                  <a:lnTo>
                    <a:pt x="272" y="4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32" y="2"/>
                  </a:lnTo>
                  <a:lnTo>
                    <a:pt x="232" y="2"/>
                  </a:lnTo>
                  <a:lnTo>
                    <a:pt x="230" y="4"/>
                  </a:lnTo>
                  <a:lnTo>
                    <a:pt x="230" y="6"/>
                  </a:lnTo>
                  <a:lnTo>
                    <a:pt x="228" y="6"/>
                  </a:lnTo>
                  <a:lnTo>
                    <a:pt x="228" y="8"/>
                  </a:lnTo>
                  <a:lnTo>
                    <a:pt x="226" y="10"/>
                  </a:lnTo>
                  <a:lnTo>
                    <a:pt x="271" y="15"/>
                  </a:lnTo>
                  <a:lnTo>
                    <a:pt x="324" y="23"/>
                  </a:lnTo>
                  <a:lnTo>
                    <a:pt x="376" y="37"/>
                  </a:lnTo>
                  <a:lnTo>
                    <a:pt x="388" y="38"/>
                  </a:lnTo>
                  <a:lnTo>
                    <a:pt x="388" y="38"/>
                  </a:lnTo>
                  <a:lnTo>
                    <a:pt x="388" y="37"/>
                  </a:lnTo>
                  <a:lnTo>
                    <a:pt x="388" y="35"/>
                  </a:lnTo>
                  <a:lnTo>
                    <a:pt x="388" y="35"/>
                  </a:lnTo>
                  <a:lnTo>
                    <a:pt x="388" y="33"/>
                  </a:lnTo>
                  <a:lnTo>
                    <a:pt x="388" y="31"/>
                  </a:lnTo>
                  <a:lnTo>
                    <a:pt x="390" y="31"/>
                  </a:lnTo>
                  <a:lnTo>
                    <a:pt x="390" y="29"/>
                  </a:lnTo>
                  <a:close/>
                  <a:moveTo>
                    <a:pt x="4" y="2153"/>
                  </a:moveTo>
                  <a:lnTo>
                    <a:pt x="52" y="2157"/>
                  </a:lnTo>
                  <a:lnTo>
                    <a:pt x="107" y="2159"/>
                  </a:lnTo>
                  <a:lnTo>
                    <a:pt x="163" y="2157"/>
                  </a:lnTo>
                  <a:lnTo>
                    <a:pt x="219" y="2153"/>
                  </a:lnTo>
                  <a:lnTo>
                    <a:pt x="272" y="2145"/>
                  </a:lnTo>
                  <a:lnTo>
                    <a:pt x="326" y="2136"/>
                  </a:lnTo>
                  <a:lnTo>
                    <a:pt x="357" y="2128"/>
                  </a:lnTo>
                  <a:lnTo>
                    <a:pt x="357" y="2128"/>
                  </a:lnTo>
                  <a:lnTo>
                    <a:pt x="355" y="2126"/>
                  </a:lnTo>
                  <a:lnTo>
                    <a:pt x="355" y="2126"/>
                  </a:lnTo>
                  <a:lnTo>
                    <a:pt x="355" y="2124"/>
                  </a:lnTo>
                  <a:lnTo>
                    <a:pt x="355" y="2122"/>
                  </a:lnTo>
                  <a:lnTo>
                    <a:pt x="355" y="2122"/>
                  </a:lnTo>
                  <a:lnTo>
                    <a:pt x="355" y="2120"/>
                  </a:lnTo>
                  <a:lnTo>
                    <a:pt x="355" y="2118"/>
                  </a:lnTo>
                  <a:lnTo>
                    <a:pt x="324" y="2126"/>
                  </a:lnTo>
                  <a:lnTo>
                    <a:pt x="271" y="2136"/>
                  </a:lnTo>
                  <a:lnTo>
                    <a:pt x="217" y="2141"/>
                  </a:lnTo>
                  <a:lnTo>
                    <a:pt x="163" y="2145"/>
                  </a:lnTo>
                  <a:lnTo>
                    <a:pt x="107" y="2147"/>
                  </a:lnTo>
                  <a:lnTo>
                    <a:pt x="54" y="2145"/>
                  </a:lnTo>
                  <a:lnTo>
                    <a:pt x="0" y="2141"/>
                  </a:lnTo>
                  <a:lnTo>
                    <a:pt x="0" y="2143"/>
                  </a:lnTo>
                  <a:lnTo>
                    <a:pt x="0" y="2145"/>
                  </a:lnTo>
                  <a:lnTo>
                    <a:pt x="0" y="2145"/>
                  </a:lnTo>
                  <a:lnTo>
                    <a:pt x="2" y="2147"/>
                  </a:lnTo>
                  <a:lnTo>
                    <a:pt x="2" y="2149"/>
                  </a:lnTo>
                  <a:lnTo>
                    <a:pt x="2" y="2151"/>
                  </a:lnTo>
                  <a:lnTo>
                    <a:pt x="2" y="2151"/>
                  </a:lnTo>
                  <a:lnTo>
                    <a:pt x="4" y="2153"/>
                  </a:lnTo>
                  <a:close/>
                </a:path>
              </a:pathLst>
            </a:custGeom>
            <a:solidFill>
              <a:srgbClr val="2d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Freeform 55"/>
            <p:cNvSpPr/>
            <p:nvPr/>
          </p:nvSpPr>
          <p:spPr>
            <a:xfrm>
              <a:off x="2214720" y="1458720"/>
              <a:ext cx="618840" cy="341172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411720"/>
                <a:gd name="textAreaBottom" fmla="*/ 3412080 h 3411720"/>
              </a:gdLst>
              <a:ahLst/>
              <a:rect l="textAreaLeft" t="textAreaTop" r="textAreaRight" b="textAreaBottom"/>
              <a:pathLst>
                <a:path w="390" h="2149">
                  <a:moveTo>
                    <a:pt x="390" y="31"/>
                  </a:moveTo>
                  <a:lnTo>
                    <a:pt x="380" y="27"/>
                  </a:lnTo>
                  <a:lnTo>
                    <a:pt x="326" y="15"/>
                  </a:lnTo>
                  <a:lnTo>
                    <a:pt x="274" y="6"/>
                  </a:lnTo>
                  <a:lnTo>
                    <a:pt x="232" y="0"/>
                  </a:lnTo>
                  <a:lnTo>
                    <a:pt x="232" y="2"/>
                  </a:lnTo>
                  <a:lnTo>
                    <a:pt x="230" y="2"/>
                  </a:lnTo>
                  <a:lnTo>
                    <a:pt x="230" y="4"/>
                  </a:lnTo>
                  <a:lnTo>
                    <a:pt x="228" y="6"/>
                  </a:lnTo>
                  <a:lnTo>
                    <a:pt x="228" y="6"/>
                  </a:lnTo>
                  <a:lnTo>
                    <a:pt x="226" y="8"/>
                  </a:lnTo>
                  <a:lnTo>
                    <a:pt x="226" y="8"/>
                  </a:lnTo>
                  <a:lnTo>
                    <a:pt x="225" y="9"/>
                  </a:lnTo>
                  <a:lnTo>
                    <a:pt x="273" y="15"/>
                  </a:lnTo>
                  <a:lnTo>
                    <a:pt x="324" y="25"/>
                  </a:lnTo>
                  <a:lnTo>
                    <a:pt x="376" y="36"/>
                  </a:lnTo>
                  <a:lnTo>
                    <a:pt x="388" y="40"/>
                  </a:lnTo>
                  <a:lnTo>
                    <a:pt x="388" y="38"/>
                  </a:lnTo>
                  <a:lnTo>
                    <a:pt x="390" y="38"/>
                  </a:lnTo>
                  <a:lnTo>
                    <a:pt x="390" y="36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90" y="33"/>
                  </a:lnTo>
                  <a:lnTo>
                    <a:pt x="390" y="31"/>
                  </a:lnTo>
                  <a:lnTo>
                    <a:pt x="390" y="31"/>
                  </a:lnTo>
                  <a:close/>
                  <a:moveTo>
                    <a:pt x="4" y="2143"/>
                  </a:moveTo>
                  <a:lnTo>
                    <a:pt x="54" y="2147"/>
                  </a:lnTo>
                  <a:lnTo>
                    <a:pt x="109" y="2149"/>
                  </a:lnTo>
                  <a:lnTo>
                    <a:pt x="165" y="2147"/>
                  </a:lnTo>
                  <a:lnTo>
                    <a:pt x="221" y="2143"/>
                  </a:lnTo>
                  <a:lnTo>
                    <a:pt x="274" y="2135"/>
                  </a:lnTo>
                  <a:lnTo>
                    <a:pt x="326" y="2126"/>
                  </a:lnTo>
                  <a:lnTo>
                    <a:pt x="357" y="2120"/>
                  </a:lnTo>
                  <a:lnTo>
                    <a:pt x="357" y="2118"/>
                  </a:lnTo>
                  <a:lnTo>
                    <a:pt x="357" y="2118"/>
                  </a:lnTo>
                  <a:lnTo>
                    <a:pt x="357" y="2116"/>
                  </a:lnTo>
                  <a:lnTo>
                    <a:pt x="357" y="2114"/>
                  </a:lnTo>
                  <a:lnTo>
                    <a:pt x="357" y="2114"/>
                  </a:lnTo>
                  <a:lnTo>
                    <a:pt x="357" y="2112"/>
                  </a:lnTo>
                  <a:lnTo>
                    <a:pt x="357" y="2110"/>
                  </a:lnTo>
                  <a:lnTo>
                    <a:pt x="355" y="2110"/>
                  </a:lnTo>
                  <a:lnTo>
                    <a:pt x="324" y="2116"/>
                  </a:lnTo>
                  <a:lnTo>
                    <a:pt x="273" y="2126"/>
                  </a:lnTo>
                  <a:lnTo>
                    <a:pt x="219" y="2133"/>
                  </a:lnTo>
                  <a:lnTo>
                    <a:pt x="165" y="2137"/>
                  </a:lnTo>
                  <a:lnTo>
                    <a:pt x="109" y="2139"/>
                  </a:lnTo>
                  <a:lnTo>
                    <a:pt x="56" y="2137"/>
                  </a:lnTo>
                  <a:lnTo>
                    <a:pt x="0" y="2133"/>
                  </a:lnTo>
                  <a:lnTo>
                    <a:pt x="0" y="2133"/>
                  </a:lnTo>
                  <a:lnTo>
                    <a:pt x="0" y="2133"/>
                  </a:lnTo>
                  <a:lnTo>
                    <a:pt x="0" y="2135"/>
                  </a:lnTo>
                  <a:lnTo>
                    <a:pt x="0" y="2137"/>
                  </a:lnTo>
                  <a:lnTo>
                    <a:pt x="2" y="2137"/>
                  </a:lnTo>
                  <a:lnTo>
                    <a:pt x="2" y="2139"/>
                  </a:lnTo>
                  <a:lnTo>
                    <a:pt x="2" y="2141"/>
                  </a:lnTo>
                  <a:lnTo>
                    <a:pt x="2" y="2141"/>
                  </a:lnTo>
                  <a:lnTo>
                    <a:pt x="4" y="2143"/>
                  </a:lnTo>
                  <a:close/>
                </a:path>
              </a:pathLst>
            </a:custGeom>
            <a:solidFill>
              <a:srgbClr val="2e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Freeform 56"/>
            <p:cNvSpPr/>
            <p:nvPr/>
          </p:nvSpPr>
          <p:spPr>
            <a:xfrm>
              <a:off x="2211480" y="1468440"/>
              <a:ext cx="622080" cy="339228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3392280"/>
                <a:gd name="textAreaBottom" fmla="*/ 3392640 h 3392280"/>
              </a:gdLst>
              <a:ahLst/>
              <a:rect l="textAreaLeft" t="textAreaTop" r="textAreaRight" b="textAreaBottom"/>
              <a:pathLst>
                <a:path w="392" h="2137">
                  <a:moveTo>
                    <a:pt x="392" y="28"/>
                  </a:moveTo>
                  <a:lnTo>
                    <a:pt x="380" y="27"/>
                  </a:lnTo>
                  <a:lnTo>
                    <a:pt x="328" y="13"/>
                  </a:lnTo>
                  <a:lnTo>
                    <a:pt x="275" y="5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28" y="2"/>
                  </a:lnTo>
                  <a:lnTo>
                    <a:pt x="228" y="2"/>
                  </a:lnTo>
                  <a:lnTo>
                    <a:pt x="227" y="3"/>
                  </a:lnTo>
                  <a:lnTo>
                    <a:pt x="227" y="5"/>
                  </a:lnTo>
                  <a:lnTo>
                    <a:pt x="227" y="5"/>
                  </a:lnTo>
                  <a:lnTo>
                    <a:pt x="225" y="7"/>
                  </a:lnTo>
                  <a:lnTo>
                    <a:pt x="225" y="7"/>
                  </a:lnTo>
                  <a:lnTo>
                    <a:pt x="275" y="15"/>
                  </a:lnTo>
                  <a:lnTo>
                    <a:pt x="326" y="25"/>
                  </a:lnTo>
                  <a:lnTo>
                    <a:pt x="378" y="36"/>
                  </a:lnTo>
                  <a:lnTo>
                    <a:pt x="390" y="40"/>
                  </a:lnTo>
                  <a:lnTo>
                    <a:pt x="390" y="38"/>
                  </a:lnTo>
                  <a:lnTo>
                    <a:pt x="390" y="36"/>
                  </a:lnTo>
                  <a:lnTo>
                    <a:pt x="390" y="36"/>
                  </a:lnTo>
                  <a:lnTo>
                    <a:pt x="390" y="34"/>
                  </a:lnTo>
                  <a:lnTo>
                    <a:pt x="390" y="32"/>
                  </a:lnTo>
                  <a:lnTo>
                    <a:pt x="392" y="32"/>
                  </a:lnTo>
                  <a:lnTo>
                    <a:pt x="392" y="30"/>
                  </a:lnTo>
                  <a:lnTo>
                    <a:pt x="392" y="28"/>
                  </a:lnTo>
                  <a:close/>
                  <a:moveTo>
                    <a:pt x="4" y="2131"/>
                  </a:moveTo>
                  <a:lnTo>
                    <a:pt x="58" y="2135"/>
                  </a:lnTo>
                  <a:lnTo>
                    <a:pt x="111" y="2137"/>
                  </a:lnTo>
                  <a:lnTo>
                    <a:pt x="167" y="2135"/>
                  </a:lnTo>
                  <a:lnTo>
                    <a:pt x="221" y="2131"/>
                  </a:lnTo>
                  <a:lnTo>
                    <a:pt x="275" y="2126"/>
                  </a:lnTo>
                  <a:lnTo>
                    <a:pt x="328" y="2116"/>
                  </a:lnTo>
                  <a:lnTo>
                    <a:pt x="359" y="2108"/>
                  </a:lnTo>
                  <a:lnTo>
                    <a:pt x="359" y="2108"/>
                  </a:lnTo>
                  <a:lnTo>
                    <a:pt x="359" y="2106"/>
                  </a:lnTo>
                  <a:lnTo>
                    <a:pt x="359" y="2104"/>
                  </a:lnTo>
                  <a:lnTo>
                    <a:pt x="357" y="2104"/>
                  </a:lnTo>
                  <a:lnTo>
                    <a:pt x="357" y="2103"/>
                  </a:lnTo>
                  <a:lnTo>
                    <a:pt x="357" y="2101"/>
                  </a:lnTo>
                  <a:lnTo>
                    <a:pt x="357" y="2101"/>
                  </a:lnTo>
                  <a:lnTo>
                    <a:pt x="357" y="2099"/>
                  </a:lnTo>
                  <a:lnTo>
                    <a:pt x="326" y="2106"/>
                  </a:lnTo>
                  <a:lnTo>
                    <a:pt x="275" y="2114"/>
                  </a:lnTo>
                  <a:lnTo>
                    <a:pt x="221" y="2122"/>
                  </a:lnTo>
                  <a:lnTo>
                    <a:pt x="167" y="2126"/>
                  </a:lnTo>
                  <a:lnTo>
                    <a:pt x="111" y="2127"/>
                  </a:lnTo>
                  <a:lnTo>
                    <a:pt x="58" y="2126"/>
                  </a:lnTo>
                  <a:lnTo>
                    <a:pt x="4" y="2122"/>
                  </a:lnTo>
                  <a:lnTo>
                    <a:pt x="0" y="2122"/>
                  </a:lnTo>
                  <a:lnTo>
                    <a:pt x="0" y="2122"/>
                  </a:lnTo>
                  <a:lnTo>
                    <a:pt x="0" y="2124"/>
                  </a:lnTo>
                  <a:lnTo>
                    <a:pt x="2" y="2126"/>
                  </a:lnTo>
                  <a:lnTo>
                    <a:pt x="2" y="2127"/>
                  </a:lnTo>
                  <a:lnTo>
                    <a:pt x="2" y="2127"/>
                  </a:lnTo>
                  <a:lnTo>
                    <a:pt x="2" y="2129"/>
                  </a:lnTo>
                  <a:lnTo>
                    <a:pt x="2" y="2131"/>
                  </a:lnTo>
                  <a:lnTo>
                    <a:pt x="4" y="2131"/>
                  </a:lnTo>
                  <a:close/>
                </a:path>
              </a:pathLst>
            </a:custGeom>
            <a:solidFill>
              <a:srgbClr val="2f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57"/>
            <p:cNvSpPr/>
            <p:nvPr/>
          </p:nvSpPr>
          <p:spPr>
            <a:xfrm>
              <a:off x="2208240" y="1473120"/>
              <a:ext cx="622440" cy="338112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3381120"/>
                <a:gd name="textAreaBottom" fmla="*/ 3381480 h 3381120"/>
              </a:gdLst>
              <a:ahLst/>
              <a:rect l="textAreaLeft" t="textAreaTop" r="textAreaRight" b="textAreaBottom"/>
              <a:pathLst>
                <a:path w="392" h="2130">
                  <a:moveTo>
                    <a:pt x="392" y="31"/>
                  </a:moveTo>
                  <a:lnTo>
                    <a:pt x="380" y="27"/>
                  </a:lnTo>
                  <a:lnTo>
                    <a:pt x="328" y="16"/>
                  </a:lnTo>
                  <a:lnTo>
                    <a:pt x="277" y="6"/>
                  </a:lnTo>
                  <a:lnTo>
                    <a:pt x="229" y="0"/>
                  </a:lnTo>
                  <a:lnTo>
                    <a:pt x="229" y="2"/>
                  </a:lnTo>
                  <a:lnTo>
                    <a:pt x="229" y="2"/>
                  </a:lnTo>
                  <a:lnTo>
                    <a:pt x="227" y="4"/>
                  </a:lnTo>
                  <a:lnTo>
                    <a:pt x="227" y="4"/>
                  </a:lnTo>
                  <a:lnTo>
                    <a:pt x="225" y="6"/>
                  </a:lnTo>
                  <a:lnTo>
                    <a:pt x="225" y="8"/>
                  </a:lnTo>
                  <a:lnTo>
                    <a:pt x="223" y="8"/>
                  </a:lnTo>
                  <a:lnTo>
                    <a:pt x="223" y="10"/>
                  </a:lnTo>
                  <a:lnTo>
                    <a:pt x="275" y="16"/>
                  </a:lnTo>
                  <a:lnTo>
                    <a:pt x="326" y="25"/>
                  </a:lnTo>
                  <a:lnTo>
                    <a:pt x="378" y="37"/>
                  </a:lnTo>
                  <a:lnTo>
                    <a:pt x="390" y="41"/>
                  </a:lnTo>
                  <a:lnTo>
                    <a:pt x="390" y="41"/>
                  </a:lnTo>
                  <a:lnTo>
                    <a:pt x="392" y="39"/>
                  </a:lnTo>
                  <a:lnTo>
                    <a:pt x="392" y="37"/>
                  </a:lnTo>
                  <a:lnTo>
                    <a:pt x="392" y="37"/>
                  </a:lnTo>
                  <a:lnTo>
                    <a:pt x="392" y="35"/>
                  </a:lnTo>
                  <a:lnTo>
                    <a:pt x="392" y="33"/>
                  </a:lnTo>
                  <a:lnTo>
                    <a:pt x="392" y="33"/>
                  </a:lnTo>
                  <a:lnTo>
                    <a:pt x="392" y="31"/>
                  </a:lnTo>
                  <a:close/>
                  <a:moveTo>
                    <a:pt x="4" y="2124"/>
                  </a:moveTo>
                  <a:lnTo>
                    <a:pt x="4" y="2124"/>
                  </a:lnTo>
                  <a:lnTo>
                    <a:pt x="60" y="2128"/>
                  </a:lnTo>
                  <a:lnTo>
                    <a:pt x="113" y="2130"/>
                  </a:lnTo>
                  <a:lnTo>
                    <a:pt x="169" y="2128"/>
                  </a:lnTo>
                  <a:lnTo>
                    <a:pt x="223" y="2124"/>
                  </a:lnTo>
                  <a:lnTo>
                    <a:pt x="277" y="2117"/>
                  </a:lnTo>
                  <a:lnTo>
                    <a:pt x="328" y="2107"/>
                  </a:lnTo>
                  <a:lnTo>
                    <a:pt x="359" y="2101"/>
                  </a:lnTo>
                  <a:lnTo>
                    <a:pt x="359" y="2100"/>
                  </a:lnTo>
                  <a:lnTo>
                    <a:pt x="359" y="2098"/>
                  </a:lnTo>
                  <a:lnTo>
                    <a:pt x="359" y="2098"/>
                  </a:lnTo>
                  <a:lnTo>
                    <a:pt x="359" y="2096"/>
                  </a:lnTo>
                  <a:lnTo>
                    <a:pt x="359" y="2094"/>
                  </a:lnTo>
                  <a:lnTo>
                    <a:pt x="359" y="2094"/>
                  </a:lnTo>
                  <a:lnTo>
                    <a:pt x="359" y="2092"/>
                  </a:lnTo>
                  <a:lnTo>
                    <a:pt x="359" y="2090"/>
                  </a:lnTo>
                  <a:lnTo>
                    <a:pt x="326" y="2098"/>
                  </a:lnTo>
                  <a:lnTo>
                    <a:pt x="275" y="2107"/>
                  </a:lnTo>
                  <a:lnTo>
                    <a:pt x="223" y="2113"/>
                  </a:lnTo>
                  <a:lnTo>
                    <a:pt x="169" y="2117"/>
                  </a:lnTo>
                  <a:lnTo>
                    <a:pt x="113" y="2119"/>
                  </a:lnTo>
                  <a:lnTo>
                    <a:pt x="60" y="2117"/>
                  </a:lnTo>
                  <a:lnTo>
                    <a:pt x="6" y="2113"/>
                  </a:lnTo>
                  <a:lnTo>
                    <a:pt x="0" y="2113"/>
                  </a:lnTo>
                  <a:lnTo>
                    <a:pt x="0" y="2115"/>
                  </a:lnTo>
                  <a:lnTo>
                    <a:pt x="0" y="2115"/>
                  </a:lnTo>
                  <a:lnTo>
                    <a:pt x="2" y="2117"/>
                  </a:lnTo>
                  <a:lnTo>
                    <a:pt x="2" y="2119"/>
                  </a:lnTo>
                  <a:lnTo>
                    <a:pt x="2" y="2119"/>
                  </a:lnTo>
                  <a:lnTo>
                    <a:pt x="2" y="2121"/>
                  </a:lnTo>
                  <a:lnTo>
                    <a:pt x="4" y="2123"/>
                  </a:lnTo>
                  <a:lnTo>
                    <a:pt x="4" y="2124"/>
                  </a:lnTo>
                  <a:close/>
                </a:path>
              </a:pathLst>
            </a:custGeom>
            <a:solidFill>
              <a:srgbClr val="30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58"/>
            <p:cNvSpPr/>
            <p:nvPr/>
          </p:nvSpPr>
          <p:spPr>
            <a:xfrm>
              <a:off x="2205000" y="1479240"/>
              <a:ext cx="625680" cy="3365640"/>
            </a:xfrm>
            <a:custGeom>
              <a:avLst/>
              <a:gdLst>
                <a:gd name="textAreaLeft" fmla="*/ 0 w 625680"/>
                <a:gd name="textAreaRight" fmla="*/ 625680 w 62568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394" h="2120">
                  <a:moveTo>
                    <a:pt x="394" y="33"/>
                  </a:moveTo>
                  <a:lnTo>
                    <a:pt x="382" y="29"/>
                  </a:lnTo>
                  <a:lnTo>
                    <a:pt x="330" y="18"/>
                  </a:lnTo>
                  <a:lnTo>
                    <a:pt x="279" y="8"/>
                  </a:lnTo>
                  <a:lnTo>
                    <a:pt x="229" y="0"/>
                  </a:lnTo>
                  <a:lnTo>
                    <a:pt x="227" y="2"/>
                  </a:lnTo>
                  <a:lnTo>
                    <a:pt x="227" y="4"/>
                  </a:lnTo>
                  <a:lnTo>
                    <a:pt x="225" y="4"/>
                  </a:lnTo>
                  <a:lnTo>
                    <a:pt x="225" y="6"/>
                  </a:lnTo>
                  <a:lnTo>
                    <a:pt x="223" y="8"/>
                  </a:lnTo>
                  <a:lnTo>
                    <a:pt x="223" y="8"/>
                  </a:lnTo>
                  <a:lnTo>
                    <a:pt x="221" y="10"/>
                  </a:lnTo>
                  <a:lnTo>
                    <a:pt x="221" y="10"/>
                  </a:lnTo>
                  <a:lnTo>
                    <a:pt x="223" y="12"/>
                  </a:lnTo>
                  <a:lnTo>
                    <a:pt x="277" y="18"/>
                  </a:lnTo>
                  <a:lnTo>
                    <a:pt x="328" y="27"/>
                  </a:lnTo>
                  <a:lnTo>
                    <a:pt x="378" y="39"/>
                  </a:lnTo>
                  <a:lnTo>
                    <a:pt x="392" y="43"/>
                  </a:lnTo>
                  <a:lnTo>
                    <a:pt x="392" y="41"/>
                  </a:lnTo>
                  <a:lnTo>
                    <a:pt x="392" y="41"/>
                  </a:lnTo>
                  <a:lnTo>
                    <a:pt x="392" y="39"/>
                  </a:lnTo>
                  <a:lnTo>
                    <a:pt x="392" y="37"/>
                  </a:lnTo>
                  <a:lnTo>
                    <a:pt x="392" y="37"/>
                  </a:lnTo>
                  <a:lnTo>
                    <a:pt x="394" y="35"/>
                  </a:lnTo>
                  <a:lnTo>
                    <a:pt x="394" y="33"/>
                  </a:lnTo>
                  <a:lnTo>
                    <a:pt x="394" y="33"/>
                  </a:lnTo>
                  <a:close/>
                  <a:moveTo>
                    <a:pt x="4" y="2115"/>
                  </a:moveTo>
                  <a:lnTo>
                    <a:pt x="8" y="2115"/>
                  </a:lnTo>
                  <a:lnTo>
                    <a:pt x="62" y="2119"/>
                  </a:lnTo>
                  <a:lnTo>
                    <a:pt x="115" y="2120"/>
                  </a:lnTo>
                  <a:lnTo>
                    <a:pt x="171" y="2119"/>
                  </a:lnTo>
                  <a:lnTo>
                    <a:pt x="225" y="2115"/>
                  </a:lnTo>
                  <a:lnTo>
                    <a:pt x="279" y="2107"/>
                  </a:lnTo>
                  <a:lnTo>
                    <a:pt x="330" y="2099"/>
                  </a:lnTo>
                  <a:lnTo>
                    <a:pt x="361" y="2092"/>
                  </a:lnTo>
                  <a:lnTo>
                    <a:pt x="361" y="2090"/>
                  </a:lnTo>
                  <a:lnTo>
                    <a:pt x="361" y="2090"/>
                  </a:lnTo>
                  <a:lnTo>
                    <a:pt x="361" y="2088"/>
                  </a:lnTo>
                  <a:lnTo>
                    <a:pt x="361" y="2086"/>
                  </a:lnTo>
                  <a:lnTo>
                    <a:pt x="361" y="2086"/>
                  </a:lnTo>
                  <a:lnTo>
                    <a:pt x="359" y="2084"/>
                  </a:lnTo>
                  <a:lnTo>
                    <a:pt x="359" y="2082"/>
                  </a:lnTo>
                  <a:lnTo>
                    <a:pt x="359" y="2082"/>
                  </a:lnTo>
                  <a:lnTo>
                    <a:pt x="328" y="2088"/>
                  </a:lnTo>
                  <a:lnTo>
                    <a:pt x="277" y="2097"/>
                  </a:lnTo>
                  <a:lnTo>
                    <a:pt x="223" y="2105"/>
                  </a:lnTo>
                  <a:lnTo>
                    <a:pt x="171" y="2109"/>
                  </a:lnTo>
                  <a:lnTo>
                    <a:pt x="115" y="2111"/>
                  </a:lnTo>
                  <a:lnTo>
                    <a:pt x="62" y="2109"/>
                  </a:lnTo>
                  <a:lnTo>
                    <a:pt x="8" y="2105"/>
                  </a:lnTo>
                  <a:lnTo>
                    <a:pt x="0" y="2103"/>
                  </a:lnTo>
                  <a:lnTo>
                    <a:pt x="0" y="2105"/>
                  </a:lnTo>
                  <a:lnTo>
                    <a:pt x="0" y="2107"/>
                  </a:lnTo>
                  <a:lnTo>
                    <a:pt x="2" y="2107"/>
                  </a:lnTo>
                  <a:lnTo>
                    <a:pt x="2" y="2109"/>
                  </a:lnTo>
                  <a:lnTo>
                    <a:pt x="2" y="2111"/>
                  </a:lnTo>
                  <a:lnTo>
                    <a:pt x="2" y="2111"/>
                  </a:lnTo>
                  <a:lnTo>
                    <a:pt x="4" y="2113"/>
                  </a:lnTo>
                  <a:lnTo>
                    <a:pt x="4" y="2115"/>
                  </a:lnTo>
                  <a:close/>
                </a:path>
              </a:pathLst>
            </a:custGeom>
            <a:solidFill>
              <a:srgbClr val="31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59"/>
            <p:cNvSpPr/>
            <p:nvPr/>
          </p:nvSpPr>
          <p:spPr>
            <a:xfrm>
              <a:off x="2201760" y="1488960"/>
              <a:ext cx="625680" cy="3348000"/>
            </a:xfrm>
            <a:custGeom>
              <a:avLst/>
              <a:gdLst>
                <a:gd name="textAreaLeft" fmla="*/ 0 w 625680"/>
                <a:gd name="textAreaRight" fmla="*/ 625680 w 625680"/>
                <a:gd name="textAreaTop" fmla="*/ 0 h 3348000"/>
                <a:gd name="textAreaBottom" fmla="*/ 3348360 h 3348000"/>
              </a:gdLst>
              <a:ahLst/>
              <a:rect l="textAreaLeft" t="textAreaTop" r="textAreaRight" b="textAreaBottom"/>
              <a:pathLst>
                <a:path w="394" h="2109">
                  <a:moveTo>
                    <a:pt x="394" y="31"/>
                  </a:moveTo>
                  <a:lnTo>
                    <a:pt x="382" y="27"/>
                  </a:lnTo>
                  <a:lnTo>
                    <a:pt x="330" y="15"/>
                  </a:lnTo>
                  <a:lnTo>
                    <a:pt x="279" y="6"/>
                  </a:lnTo>
                  <a:lnTo>
                    <a:pt x="227" y="0"/>
                  </a:lnTo>
                  <a:lnTo>
                    <a:pt x="225" y="2"/>
                  </a:lnTo>
                  <a:lnTo>
                    <a:pt x="225" y="2"/>
                  </a:lnTo>
                  <a:lnTo>
                    <a:pt x="223" y="4"/>
                  </a:lnTo>
                  <a:lnTo>
                    <a:pt x="223" y="4"/>
                  </a:lnTo>
                  <a:lnTo>
                    <a:pt x="221" y="6"/>
                  </a:lnTo>
                  <a:lnTo>
                    <a:pt x="221" y="8"/>
                  </a:lnTo>
                  <a:lnTo>
                    <a:pt x="221" y="8"/>
                  </a:lnTo>
                  <a:lnTo>
                    <a:pt x="219" y="10"/>
                  </a:lnTo>
                  <a:lnTo>
                    <a:pt x="225" y="10"/>
                  </a:lnTo>
                  <a:lnTo>
                    <a:pt x="277" y="17"/>
                  </a:lnTo>
                  <a:lnTo>
                    <a:pt x="329" y="27"/>
                  </a:lnTo>
                  <a:lnTo>
                    <a:pt x="380" y="38"/>
                  </a:lnTo>
                  <a:lnTo>
                    <a:pt x="392" y="42"/>
                  </a:lnTo>
                  <a:lnTo>
                    <a:pt x="392" y="40"/>
                  </a:lnTo>
                  <a:lnTo>
                    <a:pt x="394" y="38"/>
                  </a:lnTo>
                  <a:lnTo>
                    <a:pt x="394" y="38"/>
                  </a:lnTo>
                  <a:lnTo>
                    <a:pt x="394" y="37"/>
                  </a:lnTo>
                  <a:lnTo>
                    <a:pt x="394" y="35"/>
                  </a:lnTo>
                  <a:lnTo>
                    <a:pt x="394" y="35"/>
                  </a:lnTo>
                  <a:lnTo>
                    <a:pt x="394" y="33"/>
                  </a:lnTo>
                  <a:lnTo>
                    <a:pt x="394" y="31"/>
                  </a:lnTo>
                  <a:close/>
                  <a:moveTo>
                    <a:pt x="4" y="2103"/>
                  </a:moveTo>
                  <a:lnTo>
                    <a:pt x="10" y="2103"/>
                  </a:lnTo>
                  <a:lnTo>
                    <a:pt x="64" y="2107"/>
                  </a:lnTo>
                  <a:lnTo>
                    <a:pt x="117" y="2109"/>
                  </a:lnTo>
                  <a:lnTo>
                    <a:pt x="173" y="2107"/>
                  </a:lnTo>
                  <a:lnTo>
                    <a:pt x="227" y="2103"/>
                  </a:lnTo>
                  <a:lnTo>
                    <a:pt x="279" y="2097"/>
                  </a:lnTo>
                  <a:lnTo>
                    <a:pt x="330" y="2088"/>
                  </a:lnTo>
                  <a:lnTo>
                    <a:pt x="363" y="2080"/>
                  </a:lnTo>
                  <a:lnTo>
                    <a:pt x="363" y="2080"/>
                  </a:lnTo>
                  <a:lnTo>
                    <a:pt x="361" y="2078"/>
                  </a:lnTo>
                  <a:lnTo>
                    <a:pt x="361" y="2076"/>
                  </a:lnTo>
                  <a:lnTo>
                    <a:pt x="361" y="2076"/>
                  </a:lnTo>
                  <a:lnTo>
                    <a:pt x="361" y="2074"/>
                  </a:lnTo>
                  <a:lnTo>
                    <a:pt x="361" y="2072"/>
                  </a:lnTo>
                  <a:lnTo>
                    <a:pt x="361" y="2072"/>
                  </a:lnTo>
                  <a:lnTo>
                    <a:pt x="361" y="2070"/>
                  </a:lnTo>
                  <a:lnTo>
                    <a:pt x="329" y="2078"/>
                  </a:lnTo>
                  <a:lnTo>
                    <a:pt x="277" y="2088"/>
                  </a:lnTo>
                  <a:lnTo>
                    <a:pt x="225" y="2093"/>
                  </a:lnTo>
                  <a:lnTo>
                    <a:pt x="171" y="2097"/>
                  </a:lnTo>
                  <a:lnTo>
                    <a:pt x="117" y="2099"/>
                  </a:lnTo>
                  <a:lnTo>
                    <a:pt x="64" y="2097"/>
                  </a:lnTo>
                  <a:lnTo>
                    <a:pt x="12" y="2093"/>
                  </a:lnTo>
                  <a:lnTo>
                    <a:pt x="0" y="2091"/>
                  </a:lnTo>
                  <a:lnTo>
                    <a:pt x="0" y="2093"/>
                  </a:lnTo>
                  <a:lnTo>
                    <a:pt x="0" y="2095"/>
                  </a:lnTo>
                  <a:lnTo>
                    <a:pt x="2" y="2095"/>
                  </a:lnTo>
                  <a:lnTo>
                    <a:pt x="2" y="2097"/>
                  </a:lnTo>
                  <a:lnTo>
                    <a:pt x="2" y="2099"/>
                  </a:lnTo>
                  <a:lnTo>
                    <a:pt x="2" y="2101"/>
                  </a:lnTo>
                  <a:lnTo>
                    <a:pt x="4" y="2101"/>
                  </a:lnTo>
                  <a:lnTo>
                    <a:pt x="4" y="2103"/>
                  </a:lnTo>
                  <a:close/>
                </a:path>
              </a:pathLst>
            </a:custGeom>
            <a:solidFill>
              <a:srgbClr val="32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60"/>
            <p:cNvSpPr/>
            <p:nvPr/>
          </p:nvSpPr>
          <p:spPr>
            <a:xfrm>
              <a:off x="2198520" y="1495080"/>
              <a:ext cx="628920" cy="333540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3335400"/>
                <a:gd name="textAreaBottom" fmla="*/ 3335760 h 3335400"/>
              </a:gdLst>
              <a:ahLst/>
              <a:rect l="textAreaLeft" t="textAreaTop" r="textAreaRight" b="textAreaBottom"/>
              <a:pathLst>
                <a:path w="396" h="2101">
                  <a:moveTo>
                    <a:pt x="396" y="33"/>
                  </a:moveTo>
                  <a:lnTo>
                    <a:pt x="382" y="29"/>
                  </a:lnTo>
                  <a:lnTo>
                    <a:pt x="332" y="17"/>
                  </a:lnTo>
                  <a:lnTo>
                    <a:pt x="281" y="8"/>
                  </a:lnTo>
                  <a:lnTo>
                    <a:pt x="227" y="2"/>
                  </a:lnTo>
                  <a:lnTo>
                    <a:pt x="225" y="0"/>
                  </a:lnTo>
                  <a:lnTo>
                    <a:pt x="223" y="2"/>
                  </a:lnTo>
                  <a:lnTo>
                    <a:pt x="223" y="4"/>
                  </a:lnTo>
                  <a:lnTo>
                    <a:pt x="223" y="4"/>
                  </a:lnTo>
                  <a:lnTo>
                    <a:pt x="221" y="6"/>
                  </a:lnTo>
                  <a:lnTo>
                    <a:pt x="221" y="8"/>
                  </a:lnTo>
                  <a:lnTo>
                    <a:pt x="219" y="8"/>
                  </a:lnTo>
                  <a:lnTo>
                    <a:pt x="219" y="10"/>
                  </a:lnTo>
                  <a:lnTo>
                    <a:pt x="217" y="11"/>
                  </a:lnTo>
                  <a:lnTo>
                    <a:pt x="227" y="11"/>
                  </a:lnTo>
                  <a:lnTo>
                    <a:pt x="279" y="17"/>
                  </a:lnTo>
                  <a:lnTo>
                    <a:pt x="331" y="27"/>
                  </a:lnTo>
                  <a:lnTo>
                    <a:pt x="380" y="38"/>
                  </a:lnTo>
                  <a:lnTo>
                    <a:pt x="394" y="42"/>
                  </a:lnTo>
                  <a:lnTo>
                    <a:pt x="394" y="42"/>
                  </a:lnTo>
                  <a:lnTo>
                    <a:pt x="394" y="40"/>
                  </a:lnTo>
                  <a:lnTo>
                    <a:pt x="394" y="38"/>
                  </a:lnTo>
                  <a:lnTo>
                    <a:pt x="394" y="38"/>
                  </a:lnTo>
                  <a:lnTo>
                    <a:pt x="394" y="36"/>
                  </a:lnTo>
                  <a:lnTo>
                    <a:pt x="396" y="34"/>
                  </a:lnTo>
                  <a:lnTo>
                    <a:pt x="396" y="34"/>
                  </a:lnTo>
                  <a:lnTo>
                    <a:pt x="396" y="33"/>
                  </a:lnTo>
                  <a:close/>
                  <a:moveTo>
                    <a:pt x="4" y="2093"/>
                  </a:moveTo>
                  <a:lnTo>
                    <a:pt x="12" y="2095"/>
                  </a:lnTo>
                  <a:lnTo>
                    <a:pt x="66" y="2099"/>
                  </a:lnTo>
                  <a:lnTo>
                    <a:pt x="119" y="2101"/>
                  </a:lnTo>
                  <a:lnTo>
                    <a:pt x="175" y="2099"/>
                  </a:lnTo>
                  <a:lnTo>
                    <a:pt x="227" y="2095"/>
                  </a:lnTo>
                  <a:lnTo>
                    <a:pt x="281" y="2087"/>
                  </a:lnTo>
                  <a:lnTo>
                    <a:pt x="332" y="2078"/>
                  </a:lnTo>
                  <a:lnTo>
                    <a:pt x="363" y="2072"/>
                  </a:lnTo>
                  <a:lnTo>
                    <a:pt x="363" y="2070"/>
                  </a:lnTo>
                  <a:lnTo>
                    <a:pt x="363" y="2068"/>
                  </a:lnTo>
                  <a:lnTo>
                    <a:pt x="363" y="2068"/>
                  </a:lnTo>
                  <a:lnTo>
                    <a:pt x="363" y="2066"/>
                  </a:lnTo>
                  <a:lnTo>
                    <a:pt x="363" y="2064"/>
                  </a:lnTo>
                  <a:lnTo>
                    <a:pt x="363" y="2064"/>
                  </a:lnTo>
                  <a:lnTo>
                    <a:pt x="363" y="2062"/>
                  </a:lnTo>
                  <a:lnTo>
                    <a:pt x="361" y="2061"/>
                  </a:lnTo>
                  <a:lnTo>
                    <a:pt x="331" y="2068"/>
                  </a:lnTo>
                  <a:lnTo>
                    <a:pt x="279" y="2078"/>
                  </a:lnTo>
                  <a:lnTo>
                    <a:pt x="227" y="2084"/>
                  </a:lnTo>
                  <a:lnTo>
                    <a:pt x="173" y="2087"/>
                  </a:lnTo>
                  <a:lnTo>
                    <a:pt x="119" y="2089"/>
                  </a:lnTo>
                  <a:lnTo>
                    <a:pt x="66" y="2087"/>
                  </a:lnTo>
                  <a:lnTo>
                    <a:pt x="14" y="2084"/>
                  </a:lnTo>
                  <a:lnTo>
                    <a:pt x="0" y="2084"/>
                  </a:lnTo>
                  <a:lnTo>
                    <a:pt x="0" y="2084"/>
                  </a:lnTo>
                  <a:lnTo>
                    <a:pt x="0" y="2086"/>
                  </a:lnTo>
                  <a:lnTo>
                    <a:pt x="2" y="2087"/>
                  </a:lnTo>
                  <a:lnTo>
                    <a:pt x="2" y="2087"/>
                  </a:lnTo>
                  <a:lnTo>
                    <a:pt x="2" y="2089"/>
                  </a:lnTo>
                  <a:lnTo>
                    <a:pt x="2" y="2091"/>
                  </a:lnTo>
                  <a:lnTo>
                    <a:pt x="4" y="2091"/>
                  </a:lnTo>
                  <a:lnTo>
                    <a:pt x="4" y="2093"/>
                  </a:lnTo>
                  <a:close/>
                </a:path>
              </a:pathLst>
            </a:custGeom>
            <a:solidFill>
              <a:srgbClr val="33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61"/>
            <p:cNvSpPr/>
            <p:nvPr/>
          </p:nvSpPr>
          <p:spPr>
            <a:xfrm>
              <a:off x="2195640" y="1504800"/>
              <a:ext cx="628560" cy="331632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316320"/>
                <a:gd name="textAreaBottom" fmla="*/ 3316680 h 3316320"/>
              </a:gdLst>
              <a:ahLst/>
              <a:rect l="textAreaLeft" t="textAreaTop" r="textAreaRight" b="textAreaBottom"/>
              <a:pathLst>
                <a:path w="396" h="2089">
                  <a:moveTo>
                    <a:pt x="396" y="32"/>
                  </a:moveTo>
                  <a:lnTo>
                    <a:pt x="384" y="28"/>
                  </a:lnTo>
                  <a:lnTo>
                    <a:pt x="333" y="17"/>
                  </a:lnTo>
                  <a:lnTo>
                    <a:pt x="281" y="7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23" y="2"/>
                  </a:lnTo>
                  <a:lnTo>
                    <a:pt x="221" y="2"/>
                  </a:lnTo>
                  <a:lnTo>
                    <a:pt x="221" y="4"/>
                  </a:lnTo>
                  <a:lnTo>
                    <a:pt x="219" y="5"/>
                  </a:lnTo>
                  <a:lnTo>
                    <a:pt x="219" y="5"/>
                  </a:lnTo>
                  <a:lnTo>
                    <a:pt x="217" y="7"/>
                  </a:lnTo>
                  <a:lnTo>
                    <a:pt x="217" y="7"/>
                  </a:lnTo>
                  <a:lnTo>
                    <a:pt x="215" y="9"/>
                  </a:lnTo>
                  <a:lnTo>
                    <a:pt x="229" y="11"/>
                  </a:lnTo>
                  <a:lnTo>
                    <a:pt x="281" y="17"/>
                  </a:lnTo>
                  <a:lnTo>
                    <a:pt x="331" y="27"/>
                  </a:lnTo>
                  <a:lnTo>
                    <a:pt x="381" y="38"/>
                  </a:lnTo>
                  <a:lnTo>
                    <a:pt x="394" y="42"/>
                  </a:lnTo>
                  <a:lnTo>
                    <a:pt x="396" y="40"/>
                  </a:lnTo>
                  <a:lnTo>
                    <a:pt x="396" y="40"/>
                  </a:lnTo>
                  <a:lnTo>
                    <a:pt x="396" y="38"/>
                  </a:lnTo>
                  <a:lnTo>
                    <a:pt x="396" y="36"/>
                  </a:lnTo>
                  <a:lnTo>
                    <a:pt x="396" y="36"/>
                  </a:lnTo>
                  <a:lnTo>
                    <a:pt x="396" y="34"/>
                  </a:lnTo>
                  <a:lnTo>
                    <a:pt x="396" y="32"/>
                  </a:lnTo>
                  <a:lnTo>
                    <a:pt x="396" y="32"/>
                  </a:lnTo>
                  <a:close/>
                  <a:moveTo>
                    <a:pt x="4" y="2081"/>
                  </a:moveTo>
                  <a:lnTo>
                    <a:pt x="16" y="2083"/>
                  </a:lnTo>
                  <a:lnTo>
                    <a:pt x="68" y="2087"/>
                  </a:lnTo>
                  <a:lnTo>
                    <a:pt x="121" y="2089"/>
                  </a:lnTo>
                  <a:lnTo>
                    <a:pt x="175" y="2087"/>
                  </a:lnTo>
                  <a:lnTo>
                    <a:pt x="229" y="2083"/>
                  </a:lnTo>
                  <a:lnTo>
                    <a:pt x="281" y="2078"/>
                  </a:lnTo>
                  <a:lnTo>
                    <a:pt x="333" y="2068"/>
                  </a:lnTo>
                  <a:lnTo>
                    <a:pt x="365" y="2060"/>
                  </a:lnTo>
                  <a:lnTo>
                    <a:pt x="365" y="2058"/>
                  </a:lnTo>
                  <a:lnTo>
                    <a:pt x="365" y="2058"/>
                  </a:lnTo>
                  <a:lnTo>
                    <a:pt x="365" y="2056"/>
                  </a:lnTo>
                  <a:lnTo>
                    <a:pt x="363" y="2055"/>
                  </a:lnTo>
                  <a:lnTo>
                    <a:pt x="363" y="2055"/>
                  </a:lnTo>
                  <a:lnTo>
                    <a:pt x="363" y="2053"/>
                  </a:lnTo>
                  <a:lnTo>
                    <a:pt x="363" y="2051"/>
                  </a:lnTo>
                  <a:lnTo>
                    <a:pt x="363" y="2051"/>
                  </a:lnTo>
                  <a:lnTo>
                    <a:pt x="331" y="2058"/>
                  </a:lnTo>
                  <a:lnTo>
                    <a:pt x="281" y="2066"/>
                  </a:lnTo>
                  <a:lnTo>
                    <a:pt x="229" y="2074"/>
                  </a:lnTo>
                  <a:lnTo>
                    <a:pt x="175" y="2078"/>
                  </a:lnTo>
                  <a:lnTo>
                    <a:pt x="121" y="2078"/>
                  </a:lnTo>
                  <a:lnTo>
                    <a:pt x="70" y="2078"/>
                  </a:lnTo>
                  <a:lnTo>
                    <a:pt x="16" y="2074"/>
                  </a:lnTo>
                  <a:lnTo>
                    <a:pt x="0" y="2072"/>
                  </a:lnTo>
                  <a:lnTo>
                    <a:pt x="0" y="2072"/>
                  </a:lnTo>
                  <a:lnTo>
                    <a:pt x="2" y="2074"/>
                  </a:lnTo>
                  <a:lnTo>
                    <a:pt x="2" y="2076"/>
                  </a:lnTo>
                  <a:lnTo>
                    <a:pt x="2" y="2078"/>
                  </a:lnTo>
                  <a:lnTo>
                    <a:pt x="2" y="2078"/>
                  </a:lnTo>
                  <a:lnTo>
                    <a:pt x="2" y="2080"/>
                  </a:lnTo>
                  <a:lnTo>
                    <a:pt x="4" y="2081"/>
                  </a:lnTo>
                  <a:lnTo>
                    <a:pt x="4" y="2081"/>
                  </a:lnTo>
                  <a:close/>
                </a:path>
              </a:pathLst>
            </a:custGeom>
            <a:solidFill>
              <a:srgbClr val="34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62"/>
            <p:cNvSpPr/>
            <p:nvPr/>
          </p:nvSpPr>
          <p:spPr>
            <a:xfrm>
              <a:off x="2193840" y="1512720"/>
              <a:ext cx="630360" cy="3298680"/>
            </a:xfrm>
            <a:custGeom>
              <a:avLst/>
              <a:gdLst>
                <a:gd name="textAreaLeft" fmla="*/ 0 w 630360"/>
                <a:gd name="textAreaRight" fmla="*/ 630360 w 630360"/>
                <a:gd name="textAreaTop" fmla="*/ 0 h 3298680"/>
                <a:gd name="textAreaBottom" fmla="*/ 3299040 h 3298680"/>
              </a:gdLst>
              <a:ahLst/>
              <a:rect l="textAreaLeft" t="textAreaTop" r="textAreaRight" b="textAreaBottom"/>
              <a:pathLst>
                <a:path w="397" h="2078">
                  <a:moveTo>
                    <a:pt x="397" y="31"/>
                  </a:moveTo>
                  <a:lnTo>
                    <a:pt x="383" y="27"/>
                  </a:lnTo>
                  <a:lnTo>
                    <a:pt x="334" y="16"/>
                  </a:lnTo>
                  <a:lnTo>
                    <a:pt x="282" y="6"/>
                  </a:lnTo>
                  <a:lnTo>
                    <a:pt x="230" y="0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18" y="2"/>
                  </a:lnTo>
                  <a:lnTo>
                    <a:pt x="218" y="2"/>
                  </a:lnTo>
                  <a:lnTo>
                    <a:pt x="216" y="4"/>
                  </a:lnTo>
                  <a:lnTo>
                    <a:pt x="216" y="6"/>
                  </a:lnTo>
                  <a:lnTo>
                    <a:pt x="216" y="6"/>
                  </a:lnTo>
                  <a:lnTo>
                    <a:pt x="215" y="8"/>
                  </a:lnTo>
                  <a:lnTo>
                    <a:pt x="215" y="10"/>
                  </a:lnTo>
                  <a:lnTo>
                    <a:pt x="228" y="10"/>
                  </a:lnTo>
                  <a:lnTo>
                    <a:pt x="280" y="18"/>
                  </a:lnTo>
                  <a:lnTo>
                    <a:pt x="332" y="25"/>
                  </a:lnTo>
                  <a:lnTo>
                    <a:pt x="382" y="37"/>
                  </a:lnTo>
                  <a:lnTo>
                    <a:pt x="395" y="41"/>
                  </a:lnTo>
                  <a:lnTo>
                    <a:pt x="395" y="41"/>
                  </a:lnTo>
                  <a:lnTo>
                    <a:pt x="395" y="39"/>
                  </a:lnTo>
                  <a:lnTo>
                    <a:pt x="395" y="37"/>
                  </a:lnTo>
                  <a:lnTo>
                    <a:pt x="395" y="37"/>
                  </a:lnTo>
                  <a:lnTo>
                    <a:pt x="397" y="35"/>
                  </a:lnTo>
                  <a:lnTo>
                    <a:pt x="397" y="33"/>
                  </a:lnTo>
                  <a:lnTo>
                    <a:pt x="397" y="33"/>
                  </a:lnTo>
                  <a:lnTo>
                    <a:pt x="397" y="31"/>
                  </a:lnTo>
                  <a:close/>
                  <a:moveTo>
                    <a:pt x="3" y="2073"/>
                  </a:moveTo>
                  <a:lnTo>
                    <a:pt x="17" y="2073"/>
                  </a:lnTo>
                  <a:lnTo>
                    <a:pt x="69" y="2076"/>
                  </a:lnTo>
                  <a:lnTo>
                    <a:pt x="122" y="2078"/>
                  </a:lnTo>
                  <a:lnTo>
                    <a:pt x="176" y="2076"/>
                  </a:lnTo>
                  <a:lnTo>
                    <a:pt x="230" y="2073"/>
                  </a:lnTo>
                  <a:lnTo>
                    <a:pt x="282" y="2067"/>
                  </a:lnTo>
                  <a:lnTo>
                    <a:pt x="334" y="2057"/>
                  </a:lnTo>
                  <a:lnTo>
                    <a:pt x="364" y="2050"/>
                  </a:lnTo>
                  <a:lnTo>
                    <a:pt x="364" y="2050"/>
                  </a:lnTo>
                  <a:lnTo>
                    <a:pt x="364" y="2048"/>
                  </a:lnTo>
                  <a:lnTo>
                    <a:pt x="364" y="2046"/>
                  </a:lnTo>
                  <a:lnTo>
                    <a:pt x="364" y="2046"/>
                  </a:lnTo>
                  <a:lnTo>
                    <a:pt x="364" y="2044"/>
                  </a:lnTo>
                  <a:lnTo>
                    <a:pt x="364" y="2042"/>
                  </a:lnTo>
                  <a:lnTo>
                    <a:pt x="364" y="2042"/>
                  </a:lnTo>
                  <a:lnTo>
                    <a:pt x="364" y="2040"/>
                  </a:lnTo>
                  <a:lnTo>
                    <a:pt x="332" y="2048"/>
                  </a:lnTo>
                  <a:lnTo>
                    <a:pt x="280" y="2057"/>
                  </a:lnTo>
                  <a:lnTo>
                    <a:pt x="228" y="2063"/>
                  </a:lnTo>
                  <a:lnTo>
                    <a:pt x="176" y="2067"/>
                  </a:lnTo>
                  <a:lnTo>
                    <a:pt x="122" y="2069"/>
                  </a:lnTo>
                  <a:lnTo>
                    <a:pt x="71" y="2067"/>
                  </a:lnTo>
                  <a:lnTo>
                    <a:pt x="17" y="2063"/>
                  </a:lnTo>
                  <a:lnTo>
                    <a:pt x="0" y="2061"/>
                  </a:lnTo>
                  <a:lnTo>
                    <a:pt x="0" y="2063"/>
                  </a:lnTo>
                  <a:lnTo>
                    <a:pt x="1" y="2063"/>
                  </a:lnTo>
                  <a:lnTo>
                    <a:pt x="1" y="2065"/>
                  </a:lnTo>
                  <a:lnTo>
                    <a:pt x="1" y="2067"/>
                  </a:lnTo>
                  <a:lnTo>
                    <a:pt x="1" y="2067"/>
                  </a:lnTo>
                  <a:lnTo>
                    <a:pt x="3" y="2069"/>
                  </a:lnTo>
                  <a:lnTo>
                    <a:pt x="3" y="2071"/>
                  </a:lnTo>
                  <a:lnTo>
                    <a:pt x="3" y="2073"/>
                  </a:lnTo>
                  <a:close/>
                </a:path>
              </a:pathLst>
            </a:custGeom>
            <a:solidFill>
              <a:srgbClr val="35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63"/>
            <p:cNvSpPr/>
            <p:nvPr/>
          </p:nvSpPr>
          <p:spPr>
            <a:xfrm>
              <a:off x="2190600" y="1519200"/>
              <a:ext cx="630360" cy="3284280"/>
            </a:xfrm>
            <a:custGeom>
              <a:avLst/>
              <a:gdLst>
                <a:gd name="textAreaLeft" fmla="*/ 0 w 630360"/>
                <a:gd name="textAreaRight" fmla="*/ 630360 w 630360"/>
                <a:gd name="textAreaTop" fmla="*/ 0 h 3284280"/>
                <a:gd name="textAreaBottom" fmla="*/ 3284640 h 3284280"/>
              </a:gdLst>
              <a:ahLst/>
              <a:rect l="textAreaLeft" t="textAreaTop" r="textAreaRight" b="textAreaBottom"/>
              <a:pathLst>
                <a:path w="397" h="2069">
                  <a:moveTo>
                    <a:pt x="397" y="33"/>
                  </a:moveTo>
                  <a:lnTo>
                    <a:pt x="384" y="29"/>
                  </a:lnTo>
                  <a:lnTo>
                    <a:pt x="334" y="18"/>
                  </a:lnTo>
                  <a:lnTo>
                    <a:pt x="284" y="8"/>
                  </a:lnTo>
                  <a:lnTo>
                    <a:pt x="232" y="2"/>
                  </a:lnTo>
                  <a:lnTo>
                    <a:pt x="218" y="0"/>
                  </a:lnTo>
                  <a:lnTo>
                    <a:pt x="218" y="2"/>
                  </a:lnTo>
                  <a:lnTo>
                    <a:pt x="218" y="2"/>
                  </a:lnTo>
                  <a:lnTo>
                    <a:pt x="217" y="4"/>
                  </a:lnTo>
                  <a:lnTo>
                    <a:pt x="217" y="6"/>
                  </a:lnTo>
                  <a:lnTo>
                    <a:pt x="215" y="6"/>
                  </a:lnTo>
                  <a:lnTo>
                    <a:pt x="215" y="8"/>
                  </a:lnTo>
                  <a:lnTo>
                    <a:pt x="213" y="10"/>
                  </a:lnTo>
                  <a:lnTo>
                    <a:pt x="213" y="10"/>
                  </a:lnTo>
                  <a:lnTo>
                    <a:pt x="230" y="12"/>
                  </a:lnTo>
                  <a:lnTo>
                    <a:pt x="282" y="18"/>
                  </a:lnTo>
                  <a:lnTo>
                    <a:pt x="332" y="27"/>
                  </a:lnTo>
                  <a:lnTo>
                    <a:pt x="382" y="39"/>
                  </a:lnTo>
                  <a:lnTo>
                    <a:pt x="395" y="42"/>
                  </a:lnTo>
                  <a:lnTo>
                    <a:pt x="397" y="41"/>
                  </a:lnTo>
                  <a:lnTo>
                    <a:pt x="397" y="41"/>
                  </a:lnTo>
                  <a:lnTo>
                    <a:pt x="397" y="39"/>
                  </a:lnTo>
                  <a:lnTo>
                    <a:pt x="397" y="37"/>
                  </a:lnTo>
                  <a:lnTo>
                    <a:pt x="397" y="37"/>
                  </a:lnTo>
                  <a:lnTo>
                    <a:pt x="397" y="35"/>
                  </a:lnTo>
                  <a:lnTo>
                    <a:pt x="397" y="33"/>
                  </a:lnTo>
                  <a:lnTo>
                    <a:pt x="397" y="33"/>
                  </a:lnTo>
                  <a:close/>
                  <a:moveTo>
                    <a:pt x="3" y="2063"/>
                  </a:moveTo>
                  <a:lnTo>
                    <a:pt x="19" y="2065"/>
                  </a:lnTo>
                  <a:lnTo>
                    <a:pt x="73" y="2069"/>
                  </a:lnTo>
                  <a:lnTo>
                    <a:pt x="124" y="2069"/>
                  </a:lnTo>
                  <a:lnTo>
                    <a:pt x="178" y="2069"/>
                  </a:lnTo>
                  <a:lnTo>
                    <a:pt x="232" y="2065"/>
                  </a:lnTo>
                  <a:lnTo>
                    <a:pt x="284" y="2057"/>
                  </a:lnTo>
                  <a:lnTo>
                    <a:pt x="334" y="2049"/>
                  </a:lnTo>
                  <a:lnTo>
                    <a:pt x="366" y="2042"/>
                  </a:lnTo>
                  <a:lnTo>
                    <a:pt x="366" y="2040"/>
                  </a:lnTo>
                  <a:lnTo>
                    <a:pt x="366" y="2038"/>
                  </a:lnTo>
                  <a:lnTo>
                    <a:pt x="366" y="2038"/>
                  </a:lnTo>
                  <a:lnTo>
                    <a:pt x="366" y="2036"/>
                  </a:lnTo>
                  <a:lnTo>
                    <a:pt x="366" y="2034"/>
                  </a:lnTo>
                  <a:lnTo>
                    <a:pt x="364" y="2034"/>
                  </a:lnTo>
                  <a:lnTo>
                    <a:pt x="364" y="2032"/>
                  </a:lnTo>
                  <a:lnTo>
                    <a:pt x="364" y="2030"/>
                  </a:lnTo>
                  <a:lnTo>
                    <a:pt x="332" y="2038"/>
                  </a:lnTo>
                  <a:lnTo>
                    <a:pt x="282" y="2047"/>
                  </a:lnTo>
                  <a:lnTo>
                    <a:pt x="230" y="2053"/>
                  </a:lnTo>
                  <a:lnTo>
                    <a:pt x="178" y="2057"/>
                  </a:lnTo>
                  <a:lnTo>
                    <a:pt x="124" y="2059"/>
                  </a:lnTo>
                  <a:lnTo>
                    <a:pt x="73" y="2057"/>
                  </a:lnTo>
                  <a:lnTo>
                    <a:pt x="21" y="2053"/>
                  </a:lnTo>
                  <a:lnTo>
                    <a:pt x="0" y="2051"/>
                  </a:lnTo>
                  <a:lnTo>
                    <a:pt x="0" y="2053"/>
                  </a:lnTo>
                  <a:lnTo>
                    <a:pt x="2" y="2053"/>
                  </a:lnTo>
                  <a:lnTo>
                    <a:pt x="2" y="2055"/>
                  </a:lnTo>
                  <a:lnTo>
                    <a:pt x="2" y="2057"/>
                  </a:lnTo>
                  <a:lnTo>
                    <a:pt x="2" y="2059"/>
                  </a:lnTo>
                  <a:lnTo>
                    <a:pt x="3" y="2059"/>
                  </a:lnTo>
                  <a:lnTo>
                    <a:pt x="3" y="2061"/>
                  </a:lnTo>
                  <a:lnTo>
                    <a:pt x="3" y="2063"/>
                  </a:lnTo>
                  <a:close/>
                </a:path>
              </a:pathLst>
            </a:custGeom>
            <a:solidFill>
              <a:srgbClr val="36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64"/>
            <p:cNvSpPr/>
            <p:nvPr/>
          </p:nvSpPr>
          <p:spPr>
            <a:xfrm>
              <a:off x="2187720" y="1528560"/>
              <a:ext cx="633240" cy="326880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3268800"/>
                <a:gd name="textAreaBottom" fmla="*/ 3269160 h 3268800"/>
              </a:gdLst>
              <a:ahLst/>
              <a:rect l="textAreaLeft" t="textAreaTop" r="textAreaRight" b="textAreaBottom"/>
              <a:pathLst>
                <a:path w="399" h="2059">
                  <a:moveTo>
                    <a:pt x="399" y="31"/>
                  </a:moveTo>
                  <a:lnTo>
                    <a:pt x="386" y="27"/>
                  </a:lnTo>
                  <a:lnTo>
                    <a:pt x="336" y="15"/>
                  </a:lnTo>
                  <a:lnTo>
                    <a:pt x="284" y="8"/>
                  </a:lnTo>
                  <a:lnTo>
                    <a:pt x="232" y="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7" y="2"/>
                  </a:lnTo>
                  <a:lnTo>
                    <a:pt x="215" y="4"/>
                  </a:lnTo>
                  <a:lnTo>
                    <a:pt x="215" y="4"/>
                  </a:lnTo>
                  <a:lnTo>
                    <a:pt x="213" y="6"/>
                  </a:lnTo>
                  <a:lnTo>
                    <a:pt x="213" y="6"/>
                  </a:lnTo>
                  <a:lnTo>
                    <a:pt x="213" y="8"/>
                  </a:lnTo>
                  <a:lnTo>
                    <a:pt x="211" y="10"/>
                  </a:lnTo>
                  <a:lnTo>
                    <a:pt x="232" y="12"/>
                  </a:lnTo>
                  <a:lnTo>
                    <a:pt x="282" y="17"/>
                  </a:lnTo>
                  <a:lnTo>
                    <a:pt x="334" y="27"/>
                  </a:lnTo>
                  <a:lnTo>
                    <a:pt x="382" y="38"/>
                  </a:lnTo>
                  <a:lnTo>
                    <a:pt x="397" y="42"/>
                  </a:lnTo>
                  <a:lnTo>
                    <a:pt x="397" y="40"/>
                  </a:lnTo>
                  <a:lnTo>
                    <a:pt x="397" y="38"/>
                  </a:lnTo>
                  <a:lnTo>
                    <a:pt x="397" y="38"/>
                  </a:lnTo>
                  <a:lnTo>
                    <a:pt x="397" y="36"/>
                  </a:lnTo>
                  <a:lnTo>
                    <a:pt x="399" y="35"/>
                  </a:lnTo>
                  <a:lnTo>
                    <a:pt x="399" y="35"/>
                  </a:lnTo>
                  <a:lnTo>
                    <a:pt x="399" y="33"/>
                  </a:lnTo>
                  <a:lnTo>
                    <a:pt x="399" y="31"/>
                  </a:lnTo>
                  <a:close/>
                  <a:moveTo>
                    <a:pt x="4" y="2051"/>
                  </a:moveTo>
                  <a:lnTo>
                    <a:pt x="21" y="2053"/>
                  </a:lnTo>
                  <a:lnTo>
                    <a:pt x="75" y="2057"/>
                  </a:lnTo>
                  <a:lnTo>
                    <a:pt x="126" y="2059"/>
                  </a:lnTo>
                  <a:lnTo>
                    <a:pt x="180" y="2057"/>
                  </a:lnTo>
                  <a:lnTo>
                    <a:pt x="232" y="2053"/>
                  </a:lnTo>
                  <a:lnTo>
                    <a:pt x="284" y="2047"/>
                  </a:lnTo>
                  <a:lnTo>
                    <a:pt x="336" y="2038"/>
                  </a:lnTo>
                  <a:lnTo>
                    <a:pt x="368" y="2030"/>
                  </a:lnTo>
                  <a:lnTo>
                    <a:pt x="368" y="2028"/>
                  </a:lnTo>
                  <a:lnTo>
                    <a:pt x="366" y="2028"/>
                  </a:lnTo>
                  <a:lnTo>
                    <a:pt x="366" y="2026"/>
                  </a:lnTo>
                  <a:lnTo>
                    <a:pt x="366" y="2024"/>
                  </a:lnTo>
                  <a:lnTo>
                    <a:pt x="366" y="2024"/>
                  </a:lnTo>
                  <a:lnTo>
                    <a:pt x="366" y="2022"/>
                  </a:lnTo>
                  <a:lnTo>
                    <a:pt x="366" y="2020"/>
                  </a:lnTo>
                  <a:lnTo>
                    <a:pt x="366" y="2020"/>
                  </a:lnTo>
                  <a:lnTo>
                    <a:pt x="334" y="2028"/>
                  </a:lnTo>
                  <a:lnTo>
                    <a:pt x="282" y="2036"/>
                  </a:lnTo>
                  <a:lnTo>
                    <a:pt x="232" y="2043"/>
                  </a:lnTo>
                  <a:lnTo>
                    <a:pt x="180" y="2047"/>
                  </a:lnTo>
                  <a:lnTo>
                    <a:pt x="126" y="2047"/>
                  </a:lnTo>
                  <a:lnTo>
                    <a:pt x="75" y="2047"/>
                  </a:lnTo>
                  <a:lnTo>
                    <a:pt x="23" y="2043"/>
                  </a:lnTo>
                  <a:lnTo>
                    <a:pt x="0" y="2040"/>
                  </a:lnTo>
                  <a:lnTo>
                    <a:pt x="0" y="2041"/>
                  </a:lnTo>
                  <a:lnTo>
                    <a:pt x="2" y="2043"/>
                  </a:lnTo>
                  <a:lnTo>
                    <a:pt x="2" y="2043"/>
                  </a:lnTo>
                  <a:lnTo>
                    <a:pt x="2" y="2045"/>
                  </a:lnTo>
                  <a:lnTo>
                    <a:pt x="2" y="2047"/>
                  </a:lnTo>
                  <a:lnTo>
                    <a:pt x="4" y="2047"/>
                  </a:lnTo>
                  <a:lnTo>
                    <a:pt x="4" y="2049"/>
                  </a:lnTo>
                  <a:lnTo>
                    <a:pt x="4" y="2051"/>
                  </a:lnTo>
                  <a:close/>
                </a:path>
              </a:pathLst>
            </a:custGeom>
            <a:solidFill>
              <a:srgbClr val="37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65"/>
            <p:cNvSpPr/>
            <p:nvPr/>
          </p:nvSpPr>
          <p:spPr>
            <a:xfrm>
              <a:off x="2184480" y="1535040"/>
              <a:ext cx="633240" cy="325260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3252600"/>
                <a:gd name="textAreaBottom" fmla="*/ 3252960 h 3252600"/>
              </a:gdLst>
              <a:ahLst/>
              <a:rect l="textAreaLeft" t="textAreaTop" r="textAreaRight" b="textAreaBottom"/>
              <a:pathLst>
                <a:path w="399" h="2049">
                  <a:moveTo>
                    <a:pt x="399" y="32"/>
                  </a:moveTo>
                  <a:lnTo>
                    <a:pt x="386" y="29"/>
                  </a:lnTo>
                  <a:lnTo>
                    <a:pt x="336" y="17"/>
                  </a:lnTo>
                  <a:lnTo>
                    <a:pt x="286" y="8"/>
                  </a:lnTo>
                  <a:lnTo>
                    <a:pt x="234" y="2"/>
                  </a:lnTo>
                  <a:lnTo>
                    <a:pt x="217" y="0"/>
                  </a:lnTo>
                  <a:lnTo>
                    <a:pt x="215" y="2"/>
                  </a:lnTo>
                  <a:lnTo>
                    <a:pt x="215" y="2"/>
                  </a:lnTo>
                  <a:lnTo>
                    <a:pt x="215" y="4"/>
                  </a:lnTo>
                  <a:lnTo>
                    <a:pt x="213" y="6"/>
                  </a:lnTo>
                  <a:lnTo>
                    <a:pt x="213" y="6"/>
                  </a:lnTo>
                  <a:lnTo>
                    <a:pt x="211" y="8"/>
                  </a:lnTo>
                  <a:lnTo>
                    <a:pt x="211" y="9"/>
                  </a:lnTo>
                  <a:lnTo>
                    <a:pt x="209" y="9"/>
                  </a:lnTo>
                  <a:lnTo>
                    <a:pt x="232" y="11"/>
                  </a:lnTo>
                  <a:lnTo>
                    <a:pt x="284" y="19"/>
                  </a:lnTo>
                  <a:lnTo>
                    <a:pt x="334" y="27"/>
                  </a:lnTo>
                  <a:lnTo>
                    <a:pt x="384" y="38"/>
                  </a:lnTo>
                  <a:lnTo>
                    <a:pt x="399" y="42"/>
                  </a:lnTo>
                  <a:lnTo>
                    <a:pt x="399" y="42"/>
                  </a:lnTo>
                  <a:lnTo>
                    <a:pt x="399" y="40"/>
                  </a:lnTo>
                  <a:lnTo>
                    <a:pt x="399" y="38"/>
                  </a:lnTo>
                  <a:lnTo>
                    <a:pt x="399" y="38"/>
                  </a:lnTo>
                  <a:lnTo>
                    <a:pt x="399" y="36"/>
                  </a:lnTo>
                  <a:lnTo>
                    <a:pt x="399" y="34"/>
                  </a:lnTo>
                  <a:lnTo>
                    <a:pt x="399" y="34"/>
                  </a:lnTo>
                  <a:lnTo>
                    <a:pt x="399" y="32"/>
                  </a:lnTo>
                  <a:close/>
                  <a:moveTo>
                    <a:pt x="4" y="2041"/>
                  </a:moveTo>
                  <a:lnTo>
                    <a:pt x="25" y="2043"/>
                  </a:lnTo>
                  <a:lnTo>
                    <a:pt x="77" y="2047"/>
                  </a:lnTo>
                  <a:lnTo>
                    <a:pt x="128" y="2049"/>
                  </a:lnTo>
                  <a:lnTo>
                    <a:pt x="182" y="2047"/>
                  </a:lnTo>
                  <a:lnTo>
                    <a:pt x="234" y="2043"/>
                  </a:lnTo>
                  <a:lnTo>
                    <a:pt x="286" y="2037"/>
                  </a:lnTo>
                  <a:lnTo>
                    <a:pt x="336" y="2028"/>
                  </a:lnTo>
                  <a:lnTo>
                    <a:pt x="368" y="2020"/>
                  </a:lnTo>
                  <a:lnTo>
                    <a:pt x="368" y="2020"/>
                  </a:lnTo>
                  <a:lnTo>
                    <a:pt x="368" y="2018"/>
                  </a:lnTo>
                  <a:lnTo>
                    <a:pt x="368" y="2016"/>
                  </a:lnTo>
                  <a:lnTo>
                    <a:pt x="368" y="2016"/>
                  </a:lnTo>
                  <a:lnTo>
                    <a:pt x="368" y="2014"/>
                  </a:lnTo>
                  <a:lnTo>
                    <a:pt x="368" y="2013"/>
                  </a:lnTo>
                  <a:lnTo>
                    <a:pt x="368" y="2013"/>
                  </a:lnTo>
                  <a:lnTo>
                    <a:pt x="366" y="2011"/>
                  </a:lnTo>
                  <a:lnTo>
                    <a:pt x="334" y="2018"/>
                  </a:lnTo>
                  <a:lnTo>
                    <a:pt x="284" y="2028"/>
                  </a:lnTo>
                  <a:lnTo>
                    <a:pt x="232" y="2034"/>
                  </a:lnTo>
                  <a:lnTo>
                    <a:pt x="182" y="2037"/>
                  </a:lnTo>
                  <a:lnTo>
                    <a:pt x="128" y="2039"/>
                  </a:lnTo>
                  <a:lnTo>
                    <a:pt x="77" y="2037"/>
                  </a:lnTo>
                  <a:lnTo>
                    <a:pt x="25" y="2034"/>
                  </a:lnTo>
                  <a:lnTo>
                    <a:pt x="0" y="2030"/>
                  </a:lnTo>
                  <a:lnTo>
                    <a:pt x="2" y="2032"/>
                  </a:lnTo>
                  <a:lnTo>
                    <a:pt x="2" y="2034"/>
                  </a:lnTo>
                  <a:lnTo>
                    <a:pt x="2" y="2036"/>
                  </a:lnTo>
                  <a:lnTo>
                    <a:pt x="2" y="2036"/>
                  </a:lnTo>
                  <a:lnTo>
                    <a:pt x="2" y="2037"/>
                  </a:lnTo>
                  <a:lnTo>
                    <a:pt x="4" y="2039"/>
                  </a:lnTo>
                  <a:lnTo>
                    <a:pt x="4" y="2039"/>
                  </a:lnTo>
                  <a:lnTo>
                    <a:pt x="4" y="2041"/>
                  </a:lnTo>
                  <a:close/>
                </a:path>
              </a:pathLst>
            </a:custGeom>
            <a:solidFill>
              <a:srgbClr val="38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66"/>
            <p:cNvSpPr/>
            <p:nvPr/>
          </p:nvSpPr>
          <p:spPr>
            <a:xfrm>
              <a:off x="2181240" y="1544400"/>
              <a:ext cx="636480" cy="323388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3233880"/>
                <a:gd name="textAreaBottom" fmla="*/ 3234240 h 3233880"/>
              </a:gdLst>
              <a:ahLst/>
              <a:rect l="textAreaLeft" t="textAreaTop" r="textAreaRight" b="textAreaBottom"/>
              <a:pathLst>
                <a:path w="401" h="2037">
                  <a:moveTo>
                    <a:pt x="401" y="32"/>
                  </a:moveTo>
                  <a:lnTo>
                    <a:pt x="386" y="28"/>
                  </a:lnTo>
                  <a:lnTo>
                    <a:pt x="338" y="17"/>
                  </a:lnTo>
                  <a:lnTo>
                    <a:pt x="286" y="7"/>
                  </a:lnTo>
                  <a:lnTo>
                    <a:pt x="236" y="2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3" y="2"/>
                  </a:lnTo>
                  <a:lnTo>
                    <a:pt x="213" y="3"/>
                  </a:lnTo>
                  <a:lnTo>
                    <a:pt x="211" y="3"/>
                  </a:lnTo>
                  <a:lnTo>
                    <a:pt x="211" y="5"/>
                  </a:lnTo>
                  <a:lnTo>
                    <a:pt x="209" y="7"/>
                  </a:lnTo>
                  <a:lnTo>
                    <a:pt x="209" y="7"/>
                  </a:lnTo>
                  <a:lnTo>
                    <a:pt x="209" y="9"/>
                  </a:lnTo>
                  <a:lnTo>
                    <a:pt x="234" y="11"/>
                  </a:lnTo>
                  <a:lnTo>
                    <a:pt x="286" y="17"/>
                  </a:lnTo>
                  <a:lnTo>
                    <a:pt x="334" y="26"/>
                  </a:lnTo>
                  <a:lnTo>
                    <a:pt x="384" y="38"/>
                  </a:lnTo>
                  <a:lnTo>
                    <a:pt x="399" y="42"/>
                  </a:lnTo>
                  <a:lnTo>
                    <a:pt x="399" y="40"/>
                  </a:lnTo>
                  <a:lnTo>
                    <a:pt x="399" y="40"/>
                  </a:lnTo>
                  <a:lnTo>
                    <a:pt x="399" y="38"/>
                  </a:lnTo>
                  <a:lnTo>
                    <a:pt x="401" y="36"/>
                  </a:lnTo>
                  <a:lnTo>
                    <a:pt x="401" y="36"/>
                  </a:lnTo>
                  <a:lnTo>
                    <a:pt x="401" y="34"/>
                  </a:lnTo>
                  <a:lnTo>
                    <a:pt x="401" y="32"/>
                  </a:lnTo>
                  <a:lnTo>
                    <a:pt x="401" y="32"/>
                  </a:lnTo>
                  <a:close/>
                  <a:moveTo>
                    <a:pt x="4" y="2030"/>
                  </a:moveTo>
                  <a:lnTo>
                    <a:pt x="27" y="2033"/>
                  </a:lnTo>
                  <a:lnTo>
                    <a:pt x="79" y="2037"/>
                  </a:lnTo>
                  <a:lnTo>
                    <a:pt x="130" y="2037"/>
                  </a:lnTo>
                  <a:lnTo>
                    <a:pt x="184" y="2037"/>
                  </a:lnTo>
                  <a:lnTo>
                    <a:pt x="236" y="2033"/>
                  </a:lnTo>
                  <a:lnTo>
                    <a:pt x="286" y="2026"/>
                  </a:lnTo>
                  <a:lnTo>
                    <a:pt x="338" y="2018"/>
                  </a:lnTo>
                  <a:lnTo>
                    <a:pt x="370" y="2010"/>
                  </a:lnTo>
                  <a:lnTo>
                    <a:pt x="370" y="2008"/>
                  </a:lnTo>
                  <a:lnTo>
                    <a:pt x="370" y="2007"/>
                  </a:lnTo>
                  <a:lnTo>
                    <a:pt x="370" y="2007"/>
                  </a:lnTo>
                  <a:lnTo>
                    <a:pt x="368" y="2005"/>
                  </a:lnTo>
                  <a:lnTo>
                    <a:pt x="368" y="2003"/>
                  </a:lnTo>
                  <a:lnTo>
                    <a:pt x="368" y="2003"/>
                  </a:lnTo>
                  <a:lnTo>
                    <a:pt x="368" y="2001"/>
                  </a:lnTo>
                  <a:lnTo>
                    <a:pt x="368" y="1999"/>
                  </a:lnTo>
                  <a:lnTo>
                    <a:pt x="334" y="2007"/>
                  </a:lnTo>
                  <a:lnTo>
                    <a:pt x="286" y="2016"/>
                  </a:lnTo>
                  <a:lnTo>
                    <a:pt x="234" y="2022"/>
                  </a:lnTo>
                  <a:lnTo>
                    <a:pt x="182" y="2026"/>
                  </a:lnTo>
                  <a:lnTo>
                    <a:pt x="130" y="2028"/>
                  </a:lnTo>
                  <a:lnTo>
                    <a:pt x="79" y="2026"/>
                  </a:lnTo>
                  <a:lnTo>
                    <a:pt x="27" y="2022"/>
                  </a:lnTo>
                  <a:lnTo>
                    <a:pt x="0" y="2020"/>
                  </a:lnTo>
                  <a:lnTo>
                    <a:pt x="2" y="2020"/>
                  </a:lnTo>
                  <a:lnTo>
                    <a:pt x="2" y="2022"/>
                  </a:lnTo>
                  <a:lnTo>
                    <a:pt x="2" y="2024"/>
                  </a:lnTo>
                  <a:lnTo>
                    <a:pt x="2" y="2024"/>
                  </a:lnTo>
                  <a:lnTo>
                    <a:pt x="4" y="2026"/>
                  </a:lnTo>
                  <a:lnTo>
                    <a:pt x="4" y="2028"/>
                  </a:lnTo>
                  <a:lnTo>
                    <a:pt x="4" y="2030"/>
                  </a:lnTo>
                  <a:lnTo>
                    <a:pt x="4" y="2030"/>
                  </a:lnTo>
                  <a:close/>
                </a:path>
              </a:pathLst>
            </a:custGeom>
            <a:solidFill>
              <a:srgbClr val="39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67"/>
            <p:cNvSpPr/>
            <p:nvPr/>
          </p:nvSpPr>
          <p:spPr>
            <a:xfrm>
              <a:off x="2178000" y="1549080"/>
              <a:ext cx="639720" cy="322272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3222720"/>
                <a:gd name="textAreaBottom" fmla="*/ 3223080 h 3222720"/>
              </a:gdLst>
              <a:ahLst/>
              <a:rect l="textAreaLeft" t="textAreaTop" r="textAreaRight" b="textAreaBottom"/>
              <a:pathLst>
                <a:path w="403" h="2030">
                  <a:moveTo>
                    <a:pt x="403" y="33"/>
                  </a:moveTo>
                  <a:lnTo>
                    <a:pt x="388" y="29"/>
                  </a:lnTo>
                  <a:lnTo>
                    <a:pt x="338" y="18"/>
                  </a:lnTo>
                  <a:lnTo>
                    <a:pt x="288" y="10"/>
                  </a:lnTo>
                  <a:lnTo>
                    <a:pt x="236" y="2"/>
                  </a:lnTo>
                  <a:lnTo>
                    <a:pt x="213" y="0"/>
                  </a:lnTo>
                  <a:lnTo>
                    <a:pt x="213" y="2"/>
                  </a:lnTo>
                  <a:lnTo>
                    <a:pt x="211" y="4"/>
                  </a:lnTo>
                  <a:lnTo>
                    <a:pt x="211" y="4"/>
                  </a:lnTo>
                  <a:lnTo>
                    <a:pt x="211" y="6"/>
                  </a:lnTo>
                  <a:lnTo>
                    <a:pt x="209" y="6"/>
                  </a:lnTo>
                  <a:lnTo>
                    <a:pt x="209" y="8"/>
                  </a:lnTo>
                  <a:lnTo>
                    <a:pt x="207" y="10"/>
                  </a:lnTo>
                  <a:lnTo>
                    <a:pt x="207" y="10"/>
                  </a:lnTo>
                  <a:lnTo>
                    <a:pt x="236" y="14"/>
                  </a:lnTo>
                  <a:lnTo>
                    <a:pt x="286" y="20"/>
                  </a:lnTo>
                  <a:lnTo>
                    <a:pt x="336" y="27"/>
                  </a:lnTo>
                  <a:lnTo>
                    <a:pt x="384" y="39"/>
                  </a:lnTo>
                  <a:lnTo>
                    <a:pt x="401" y="45"/>
                  </a:lnTo>
                  <a:lnTo>
                    <a:pt x="401" y="43"/>
                  </a:lnTo>
                  <a:lnTo>
                    <a:pt x="401" y="41"/>
                  </a:lnTo>
                  <a:lnTo>
                    <a:pt x="401" y="41"/>
                  </a:lnTo>
                  <a:lnTo>
                    <a:pt x="401" y="39"/>
                  </a:lnTo>
                  <a:lnTo>
                    <a:pt x="401" y="37"/>
                  </a:lnTo>
                  <a:lnTo>
                    <a:pt x="401" y="37"/>
                  </a:lnTo>
                  <a:lnTo>
                    <a:pt x="401" y="35"/>
                  </a:lnTo>
                  <a:lnTo>
                    <a:pt x="403" y="33"/>
                  </a:lnTo>
                  <a:close/>
                  <a:moveTo>
                    <a:pt x="4" y="2021"/>
                  </a:moveTo>
                  <a:lnTo>
                    <a:pt x="29" y="2025"/>
                  </a:lnTo>
                  <a:lnTo>
                    <a:pt x="81" y="2028"/>
                  </a:lnTo>
                  <a:lnTo>
                    <a:pt x="132" y="2030"/>
                  </a:lnTo>
                  <a:lnTo>
                    <a:pt x="186" y="2028"/>
                  </a:lnTo>
                  <a:lnTo>
                    <a:pt x="236" y="2025"/>
                  </a:lnTo>
                  <a:lnTo>
                    <a:pt x="288" y="2019"/>
                  </a:lnTo>
                  <a:lnTo>
                    <a:pt x="338" y="2009"/>
                  </a:lnTo>
                  <a:lnTo>
                    <a:pt x="370" y="2002"/>
                  </a:lnTo>
                  <a:lnTo>
                    <a:pt x="370" y="2000"/>
                  </a:lnTo>
                  <a:lnTo>
                    <a:pt x="370" y="2000"/>
                  </a:lnTo>
                  <a:lnTo>
                    <a:pt x="370" y="1998"/>
                  </a:lnTo>
                  <a:lnTo>
                    <a:pt x="370" y="1996"/>
                  </a:lnTo>
                  <a:lnTo>
                    <a:pt x="370" y="1996"/>
                  </a:lnTo>
                  <a:lnTo>
                    <a:pt x="370" y="1994"/>
                  </a:lnTo>
                  <a:lnTo>
                    <a:pt x="370" y="1992"/>
                  </a:lnTo>
                  <a:lnTo>
                    <a:pt x="370" y="1992"/>
                  </a:lnTo>
                  <a:lnTo>
                    <a:pt x="336" y="2000"/>
                  </a:lnTo>
                  <a:lnTo>
                    <a:pt x="286" y="2007"/>
                  </a:lnTo>
                  <a:lnTo>
                    <a:pt x="236" y="2015"/>
                  </a:lnTo>
                  <a:lnTo>
                    <a:pt x="184" y="2019"/>
                  </a:lnTo>
                  <a:lnTo>
                    <a:pt x="132" y="2019"/>
                  </a:lnTo>
                  <a:lnTo>
                    <a:pt x="81" y="2019"/>
                  </a:lnTo>
                  <a:lnTo>
                    <a:pt x="31" y="2015"/>
                  </a:lnTo>
                  <a:lnTo>
                    <a:pt x="0" y="2011"/>
                  </a:lnTo>
                  <a:lnTo>
                    <a:pt x="2" y="2013"/>
                  </a:lnTo>
                  <a:lnTo>
                    <a:pt x="2" y="2013"/>
                  </a:lnTo>
                  <a:lnTo>
                    <a:pt x="2" y="2015"/>
                  </a:lnTo>
                  <a:lnTo>
                    <a:pt x="2" y="2017"/>
                  </a:lnTo>
                  <a:lnTo>
                    <a:pt x="4" y="2017"/>
                  </a:lnTo>
                  <a:lnTo>
                    <a:pt x="4" y="2019"/>
                  </a:lnTo>
                  <a:lnTo>
                    <a:pt x="4" y="2021"/>
                  </a:lnTo>
                  <a:lnTo>
                    <a:pt x="4" y="2021"/>
                  </a:lnTo>
                  <a:close/>
                </a:path>
              </a:pathLst>
            </a:custGeom>
            <a:solidFill>
              <a:srgbClr val="3a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Freeform 68"/>
            <p:cNvSpPr/>
            <p:nvPr/>
          </p:nvSpPr>
          <p:spPr>
            <a:xfrm>
              <a:off x="2178000" y="1558800"/>
              <a:ext cx="636480" cy="320508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3205080"/>
                <a:gd name="textAreaBottom" fmla="*/ 3205440 h 3205080"/>
              </a:gdLst>
              <a:ahLst/>
              <a:rect l="textAreaLeft" t="textAreaTop" r="textAreaRight" b="textAreaBottom"/>
              <a:pathLst>
                <a:path w="401" h="2019">
                  <a:moveTo>
                    <a:pt x="401" y="33"/>
                  </a:moveTo>
                  <a:lnTo>
                    <a:pt x="386" y="29"/>
                  </a:lnTo>
                  <a:lnTo>
                    <a:pt x="336" y="17"/>
                  </a:lnTo>
                  <a:lnTo>
                    <a:pt x="288" y="8"/>
                  </a:lnTo>
                  <a:lnTo>
                    <a:pt x="236" y="2"/>
                  </a:lnTo>
                  <a:lnTo>
                    <a:pt x="211" y="0"/>
                  </a:lnTo>
                  <a:lnTo>
                    <a:pt x="209" y="0"/>
                  </a:lnTo>
                  <a:lnTo>
                    <a:pt x="209" y="2"/>
                  </a:lnTo>
                  <a:lnTo>
                    <a:pt x="207" y="4"/>
                  </a:lnTo>
                  <a:lnTo>
                    <a:pt x="207" y="4"/>
                  </a:lnTo>
                  <a:lnTo>
                    <a:pt x="205" y="6"/>
                  </a:lnTo>
                  <a:lnTo>
                    <a:pt x="205" y="8"/>
                  </a:lnTo>
                  <a:lnTo>
                    <a:pt x="205" y="8"/>
                  </a:lnTo>
                  <a:lnTo>
                    <a:pt x="203" y="10"/>
                  </a:lnTo>
                  <a:lnTo>
                    <a:pt x="236" y="12"/>
                  </a:lnTo>
                  <a:lnTo>
                    <a:pt x="286" y="19"/>
                  </a:lnTo>
                  <a:lnTo>
                    <a:pt x="334" y="27"/>
                  </a:lnTo>
                  <a:lnTo>
                    <a:pt x="384" y="39"/>
                  </a:lnTo>
                  <a:lnTo>
                    <a:pt x="399" y="42"/>
                  </a:lnTo>
                  <a:lnTo>
                    <a:pt x="399" y="42"/>
                  </a:lnTo>
                  <a:lnTo>
                    <a:pt x="399" y="41"/>
                  </a:lnTo>
                  <a:lnTo>
                    <a:pt x="399" y="39"/>
                  </a:lnTo>
                  <a:lnTo>
                    <a:pt x="401" y="39"/>
                  </a:lnTo>
                  <a:lnTo>
                    <a:pt x="401" y="37"/>
                  </a:lnTo>
                  <a:lnTo>
                    <a:pt x="401" y="35"/>
                  </a:lnTo>
                  <a:lnTo>
                    <a:pt x="401" y="35"/>
                  </a:lnTo>
                  <a:lnTo>
                    <a:pt x="401" y="33"/>
                  </a:lnTo>
                  <a:close/>
                  <a:moveTo>
                    <a:pt x="2" y="2011"/>
                  </a:moveTo>
                  <a:lnTo>
                    <a:pt x="29" y="2013"/>
                  </a:lnTo>
                  <a:lnTo>
                    <a:pt x="81" y="2017"/>
                  </a:lnTo>
                  <a:lnTo>
                    <a:pt x="132" y="2019"/>
                  </a:lnTo>
                  <a:lnTo>
                    <a:pt x="184" y="2017"/>
                  </a:lnTo>
                  <a:lnTo>
                    <a:pt x="236" y="2013"/>
                  </a:lnTo>
                  <a:lnTo>
                    <a:pt x="288" y="2007"/>
                  </a:lnTo>
                  <a:lnTo>
                    <a:pt x="336" y="1998"/>
                  </a:lnTo>
                  <a:lnTo>
                    <a:pt x="370" y="1990"/>
                  </a:lnTo>
                  <a:lnTo>
                    <a:pt x="370" y="1990"/>
                  </a:lnTo>
                  <a:lnTo>
                    <a:pt x="370" y="1988"/>
                  </a:lnTo>
                  <a:lnTo>
                    <a:pt x="370" y="1986"/>
                  </a:lnTo>
                  <a:lnTo>
                    <a:pt x="370" y="1986"/>
                  </a:lnTo>
                  <a:lnTo>
                    <a:pt x="370" y="1984"/>
                  </a:lnTo>
                  <a:lnTo>
                    <a:pt x="368" y="1982"/>
                  </a:lnTo>
                  <a:lnTo>
                    <a:pt x="368" y="1982"/>
                  </a:lnTo>
                  <a:lnTo>
                    <a:pt x="368" y="1980"/>
                  </a:lnTo>
                  <a:lnTo>
                    <a:pt x="334" y="1988"/>
                  </a:lnTo>
                  <a:lnTo>
                    <a:pt x="286" y="1998"/>
                  </a:lnTo>
                  <a:lnTo>
                    <a:pt x="236" y="2003"/>
                  </a:lnTo>
                  <a:lnTo>
                    <a:pt x="184" y="2007"/>
                  </a:lnTo>
                  <a:lnTo>
                    <a:pt x="132" y="2009"/>
                  </a:lnTo>
                  <a:lnTo>
                    <a:pt x="81" y="2007"/>
                  </a:lnTo>
                  <a:lnTo>
                    <a:pt x="31" y="2003"/>
                  </a:lnTo>
                  <a:lnTo>
                    <a:pt x="0" y="1999"/>
                  </a:lnTo>
                  <a:lnTo>
                    <a:pt x="0" y="2001"/>
                  </a:lnTo>
                  <a:lnTo>
                    <a:pt x="0" y="2001"/>
                  </a:lnTo>
                  <a:lnTo>
                    <a:pt x="0" y="2003"/>
                  </a:lnTo>
                  <a:lnTo>
                    <a:pt x="0" y="2005"/>
                  </a:lnTo>
                  <a:lnTo>
                    <a:pt x="2" y="2007"/>
                  </a:lnTo>
                  <a:lnTo>
                    <a:pt x="2" y="2007"/>
                  </a:lnTo>
                  <a:lnTo>
                    <a:pt x="2" y="2009"/>
                  </a:lnTo>
                  <a:lnTo>
                    <a:pt x="2" y="2011"/>
                  </a:lnTo>
                  <a:close/>
                </a:path>
              </a:pathLst>
            </a:custGeom>
            <a:solidFill>
              <a:srgbClr val="3b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69"/>
            <p:cNvSpPr/>
            <p:nvPr/>
          </p:nvSpPr>
          <p:spPr>
            <a:xfrm>
              <a:off x="2174760" y="1565280"/>
              <a:ext cx="639720" cy="318924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3189240"/>
                <a:gd name="textAreaBottom" fmla="*/ 3189600 h 3189240"/>
              </a:gdLst>
              <a:ahLst/>
              <a:rect l="textAreaLeft" t="textAreaTop" r="textAreaRight" b="textAreaBottom"/>
              <a:pathLst>
                <a:path w="403" h="2009">
                  <a:moveTo>
                    <a:pt x="403" y="35"/>
                  </a:moveTo>
                  <a:lnTo>
                    <a:pt x="386" y="29"/>
                  </a:lnTo>
                  <a:lnTo>
                    <a:pt x="338" y="17"/>
                  </a:lnTo>
                  <a:lnTo>
                    <a:pt x="288" y="10"/>
                  </a:lnTo>
                  <a:lnTo>
                    <a:pt x="238" y="4"/>
                  </a:lnTo>
                  <a:lnTo>
                    <a:pt x="209" y="0"/>
                  </a:lnTo>
                  <a:lnTo>
                    <a:pt x="207" y="2"/>
                  </a:lnTo>
                  <a:lnTo>
                    <a:pt x="207" y="4"/>
                  </a:lnTo>
                  <a:lnTo>
                    <a:pt x="207" y="4"/>
                  </a:lnTo>
                  <a:lnTo>
                    <a:pt x="205" y="6"/>
                  </a:lnTo>
                  <a:lnTo>
                    <a:pt x="205" y="8"/>
                  </a:lnTo>
                  <a:lnTo>
                    <a:pt x="204" y="8"/>
                  </a:lnTo>
                  <a:lnTo>
                    <a:pt x="204" y="10"/>
                  </a:lnTo>
                  <a:lnTo>
                    <a:pt x="202" y="12"/>
                  </a:lnTo>
                  <a:lnTo>
                    <a:pt x="236" y="13"/>
                  </a:lnTo>
                  <a:lnTo>
                    <a:pt x="286" y="19"/>
                  </a:lnTo>
                  <a:lnTo>
                    <a:pt x="336" y="29"/>
                  </a:lnTo>
                  <a:lnTo>
                    <a:pt x="384" y="40"/>
                  </a:lnTo>
                  <a:lnTo>
                    <a:pt x="401" y="44"/>
                  </a:lnTo>
                  <a:lnTo>
                    <a:pt x="401" y="42"/>
                  </a:lnTo>
                  <a:lnTo>
                    <a:pt x="401" y="42"/>
                  </a:lnTo>
                  <a:lnTo>
                    <a:pt x="401" y="40"/>
                  </a:lnTo>
                  <a:lnTo>
                    <a:pt x="401" y="38"/>
                  </a:lnTo>
                  <a:lnTo>
                    <a:pt x="401" y="38"/>
                  </a:lnTo>
                  <a:lnTo>
                    <a:pt x="401" y="37"/>
                  </a:lnTo>
                  <a:lnTo>
                    <a:pt x="401" y="35"/>
                  </a:lnTo>
                  <a:lnTo>
                    <a:pt x="403" y="35"/>
                  </a:lnTo>
                  <a:close/>
                  <a:moveTo>
                    <a:pt x="2" y="2001"/>
                  </a:moveTo>
                  <a:lnTo>
                    <a:pt x="33" y="2005"/>
                  </a:lnTo>
                  <a:lnTo>
                    <a:pt x="83" y="2009"/>
                  </a:lnTo>
                  <a:lnTo>
                    <a:pt x="134" y="2009"/>
                  </a:lnTo>
                  <a:lnTo>
                    <a:pt x="186" y="2009"/>
                  </a:lnTo>
                  <a:lnTo>
                    <a:pt x="238" y="2005"/>
                  </a:lnTo>
                  <a:lnTo>
                    <a:pt x="288" y="1997"/>
                  </a:lnTo>
                  <a:lnTo>
                    <a:pt x="338" y="1990"/>
                  </a:lnTo>
                  <a:lnTo>
                    <a:pt x="372" y="1982"/>
                  </a:lnTo>
                  <a:lnTo>
                    <a:pt x="372" y="1980"/>
                  </a:lnTo>
                  <a:lnTo>
                    <a:pt x="370" y="1978"/>
                  </a:lnTo>
                  <a:lnTo>
                    <a:pt x="370" y="1978"/>
                  </a:lnTo>
                  <a:lnTo>
                    <a:pt x="370" y="1976"/>
                  </a:lnTo>
                  <a:lnTo>
                    <a:pt x="370" y="1974"/>
                  </a:lnTo>
                  <a:lnTo>
                    <a:pt x="370" y="1974"/>
                  </a:lnTo>
                  <a:lnTo>
                    <a:pt x="370" y="1972"/>
                  </a:lnTo>
                  <a:lnTo>
                    <a:pt x="370" y="1971"/>
                  </a:lnTo>
                  <a:lnTo>
                    <a:pt x="336" y="1980"/>
                  </a:lnTo>
                  <a:lnTo>
                    <a:pt x="286" y="1988"/>
                  </a:lnTo>
                  <a:lnTo>
                    <a:pt x="236" y="1994"/>
                  </a:lnTo>
                  <a:lnTo>
                    <a:pt x="186" y="1997"/>
                  </a:lnTo>
                  <a:lnTo>
                    <a:pt x="134" y="1999"/>
                  </a:lnTo>
                  <a:lnTo>
                    <a:pt x="85" y="1997"/>
                  </a:lnTo>
                  <a:lnTo>
                    <a:pt x="33" y="1994"/>
                  </a:lnTo>
                  <a:lnTo>
                    <a:pt x="0" y="1990"/>
                  </a:lnTo>
                  <a:lnTo>
                    <a:pt x="0" y="1992"/>
                  </a:lnTo>
                  <a:lnTo>
                    <a:pt x="0" y="1994"/>
                  </a:lnTo>
                  <a:lnTo>
                    <a:pt x="0" y="1994"/>
                  </a:lnTo>
                  <a:lnTo>
                    <a:pt x="2" y="1995"/>
                  </a:lnTo>
                  <a:lnTo>
                    <a:pt x="2" y="1997"/>
                  </a:lnTo>
                  <a:lnTo>
                    <a:pt x="2" y="1997"/>
                  </a:lnTo>
                  <a:lnTo>
                    <a:pt x="2" y="1999"/>
                  </a:lnTo>
                  <a:lnTo>
                    <a:pt x="2" y="2001"/>
                  </a:lnTo>
                  <a:close/>
                </a:path>
              </a:pathLst>
            </a:custGeom>
            <a:solidFill>
              <a:srgbClr val="3cb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70"/>
            <p:cNvSpPr/>
            <p:nvPr/>
          </p:nvSpPr>
          <p:spPr>
            <a:xfrm>
              <a:off x="2171880" y="1574640"/>
              <a:ext cx="639720" cy="317340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3173400"/>
                <a:gd name="textAreaBottom" fmla="*/ 3173760 h 3173400"/>
              </a:gdLst>
              <a:ahLst/>
              <a:rect l="textAreaLeft" t="textAreaTop" r="textAreaRight" b="textAreaBottom"/>
              <a:pathLst>
                <a:path w="403" h="1999">
                  <a:moveTo>
                    <a:pt x="403" y="32"/>
                  </a:moveTo>
                  <a:lnTo>
                    <a:pt x="388" y="29"/>
                  </a:lnTo>
                  <a:lnTo>
                    <a:pt x="338" y="17"/>
                  </a:lnTo>
                  <a:lnTo>
                    <a:pt x="290" y="9"/>
                  </a:lnTo>
                  <a:lnTo>
                    <a:pt x="240" y="2"/>
                  </a:lnTo>
                  <a:lnTo>
                    <a:pt x="207" y="0"/>
                  </a:lnTo>
                  <a:lnTo>
                    <a:pt x="207" y="2"/>
                  </a:lnTo>
                  <a:lnTo>
                    <a:pt x="206" y="2"/>
                  </a:lnTo>
                  <a:lnTo>
                    <a:pt x="206" y="4"/>
                  </a:lnTo>
                  <a:lnTo>
                    <a:pt x="204" y="6"/>
                  </a:lnTo>
                  <a:lnTo>
                    <a:pt x="204" y="6"/>
                  </a:lnTo>
                  <a:lnTo>
                    <a:pt x="204" y="7"/>
                  </a:lnTo>
                  <a:lnTo>
                    <a:pt x="202" y="7"/>
                  </a:lnTo>
                  <a:lnTo>
                    <a:pt x="202" y="9"/>
                  </a:lnTo>
                  <a:lnTo>
                    <a:pt x="238" y="13"/>
                  </a:lnTo>
                  <a:lnTo>
                    <a:pt x="288" y="19"/>
                  </a:lnTo>
                  <a:lnTo>
                    <a:pt x="336" y="27"/>
                  </a:lnTo>
                  <a:lnTo>
                    <a:pt x="384" y="38"/>
                  </a:lnTo>
                  <a:lnTo>
                    <a:pt x="401" y="44"/>
                  </a:lnTo>
                  <a:lnTo>
                    <a:pt x="401" y="42"/>
                  </a:lnTo>
                  <a:lnTo>
                    <a:pt x="401" y="40"/>
                  </a:lnTo>
                  <a:lnTo>
                    <a:pt x="403" y="40"/>
                  </a:lnTo>
                  <a:lnTo>
                    <a:pt x="403" y="38"/>
                  </a:lnTo>
                  <a:lnTo>
                    <a:pt x="403" y="36"/>
                  </a:lnTo>
                  <a:lnTo>
                    <a:pt x="403" y="36"/>
                  </a:lnTo>
                  <a:lnTo>
                    <a:pt x="403" y="34"/>
                  </a:lnTo>
                  <a:lnTo>
                    <a:pt x="403" y="32"/>
                  </a:lnTo>
                  <a:close/>
                  <a:moveTo>
                    <a:pt x="4" y="1989"/>
                  </a:moveTo>
                  <a:lnTo>
                    <a:pt x="35" y="1993"/>
                  </a:lnTo>
                  <a:lnTo>
                    <a:pt x="85" y="1997"/>
                  </a:lnTo>
                  <a:lnTo>
                    <a:pt x="136" y="1999"/>
                  </a:lnTo>
                  <a:lnTo>
                    <a:pt x="188" y="1997"/>
                  </a:lnTo>
                  <a:lnTo>
                    <a:pt x="240" y="1993"/>
                  </a:lnTo>
                  <a:lnTo>
                    <a:pt x="290" y="1988"/>
                  </a:lnTo>
                  <a:lnTo>
                    <a:pt x="338" y="1978"/>
                  </a:lnTo>
                  <a:lnTo>
                    <a:pt x="372" y="1970"/>
                  </a:lnTo>
                  <a:lnTo>
                    <a:pt x="372" y="1968"/>
                  </a:lnTo>
                  <a:lnTo>
                    <a:pt x="372" y="1968"/>
                  </a:lnTo>
                  <a:lnTo>
                    <a:pt x="372" y="1966"/>
                  </a:lnTo>
                  <a:lnTo>
                    <a:pt x="372" y="1965"/>
                  </a:lnTo>
                  <a:lnTo>
                    <a:pt x="372" y="1965"/>
                  </a:lnTo>
                  <a:lnTo>
                    <a:pt x="372" y="1963"/>
                  </a:lnTo>
                  <a:lnTo>
                    <a:pt x="371" y="1961"/>
                  </a:lnTo>
                  <a:lnTo>
                    <a:pt x="371" y="1961"/>
                  </a:lnTo>
                  <a:lnTo>
                    <a:pt x="336" y="1968"/>
                  </a:lnTo>
                  <a:lnTo>
                    <a:pt x="288" y="1976"/>
                  </a:lnTo>
                  <a:lnTo>
                    <a:pt x="238" y="1984"/>
                  </a:lnTo>
                  <a:lnTo>
                    <a:pt x="188" y="1988"/>
                  </a:lnTo>
                  <a:lnTo>
                    <a:pt x="136" y="1988"/>
                  </a:lnTo>
                  <a:lnTo>
                    <a:pt x="87" y="1988"/>
                  </a:lnTo>
                  <a:lnTo>
                    <a:pt x="37" y="1984"/>
                  </a:lnTo>
                  <a:lnTo>
                    <a:pt x="0" y="1978"/>
                  </a:lnTo>
                  <a:lnTo>
                    <a:pt x="0" y="1980"/>
                  </a:lnTo>
                  <a:lnTo>
                    <a:pt x="0" y="1982"/>
                  </a:lnTo>
                  <a:lnTo>
                    <a:pt x="0" y="1982"/>
                  </a:lnTo>
                  <a:lnTo>
                    <a:pt x="2" y="1984"/>
                  </a:lnTo>
                  <a:lnTo>
                    <a:pt x="2" y="1986"/>
                  </a:lnTo>
                  <a:lnTo>
                    <a:pt x="2" y="1988"/>
                  </a:lnTo>
                  <a:lnTo>
                    <a:pt x="2" y="1988"/>
                  </a:lnTo>
                  <a:lnTo>
                    <a:pt x="4" y="1989"/>
                  </a:lnTo>
                  <a:close/>
                </a:path>
              </a:pathLst>
            </a:custGeom>
            <a:solidFill>
              <a:srgbClr val="3db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71"/>
            <p:cNvSpPr/>
            <p:nvPr/>
          </p:nvSpPr>
          <p:spPr>
            <a:xfrm>
              <a:off x="2168640" y="1584000"/>
              <a:ext cx="642960" cy="315468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3154680"/>
                <a:gd name="textAreaBottom" fmla="*/ 3155040 h 3154680"/>
              </a:gdLst>
              <a:ahLst/>
              <a:rect l="textAreaLeft" t="textAreaTop" r="textAreaRight" b="textAreaBottom"/>
              <a:pathLst>
                <a:path w="405" h="1987">
                  <a:moveTo>
                    <a:pt x="405" y="32"/>
                  </a:moveTo>
                  <a:lnTo>
                    <a:pt x="388" y="28"/>
                  </a:lnTo>
                  <a:lnTo>
                    <a:pt x="340" y="17"/>
                  </a:lnTo>
                  <a:lnTo>
                    <a:pt x="290" y="7"/>
                  </a:lnTo>
                  <a:lnTo>
                    <a:pt x="240" y="1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06" y="1"/>
                  </a:lnTo>
                  <a:lnTo>
                    <a:pt x="204" y="1"/>
                  </a:lnTo>
                  <a:lnTo>
                    <a:pt x="204" y="3"/>
                  </a:lnTo>
                  <a:lnTo>
                    <a:pt x="202" y="5"/>
                  </a:lnTo>
                  <a:lnTo>
                    <a:pt x="202" y="5"/>
                  </a:lnTo>
                  <a:lnTo>
                    <a:pt x="202" y="7"/>
                  </a:lnTo>
                  <a:lnTo>
                    <a:pt x="200" y="9"/>
                  </a:lnTo>
                  <a:lnTo>
                    <a:pt x="240" y="11"/>
                  </a:lnTo>
                  <a:lnTo>
                    <a:pt x="290" y="17"/>
                  </a:lnTo>
                  <a:lnTo>
                    <a:pt x="338" y="26"/>
                  </a:lnTo>
                  <a:lnTo>
                    <a:pt x="386" y="38"/>
                  </a:lnTo>
                  <a:lnTo>
                    <a:pt x="403" y="42"/>
                  </a:lnTo>
                  <a:lnTo>
                    <a:pt x="403" y="42"/>
                  </a:lnTo>
                  <a:lnTo>
                    <a:pt x="403" y="40"/>
                  </a:lnTo>
                  <a:lnTo>
                    <a:pt x="403" y="38"/>
                  </a:lnTo>
                  <a:lnTo>
                    <a:pt x="403" y="38"/>
                  </a:lnTo>
                  <a:lnTo>
                    <a:pt x="403" y="36"/>
                  </a:lnTo>
                  <a:lnTo>
                    <a:pt x="403" y="34"/>
                  </a:lnTo>
                  <a:lnTo>
                    <a:pt x="405" y="34"/>
                  </a:lnTo>
                  <a:lnTo>
                    <a:pt x="405" y="32"/>
                  </a:lnTo>
                  <a:close/>
                  <a:moveTo>
                    <a:pt x="4" y="1978"/>
                  </a:moveTo>
                  <a:lnTo>
                    <a:pt x="37" y="1982"/>
                  </a:lnTo>
                  <a:lnTo>
                    <a:pt x="89" y="1985"/>
                  </a:lnTo>
                  <a:lnTo>
                    <a:pt x="138" y="1987"/>
                  </a:lnTo>
                  <a:lnTo>
                    <a:pt x="190" y="1985"/>
                  </a:lnTo>
                  <a:lnTo>
                    <a:pt x="240" y="1982"/>
                  </a:lnTo>
                  <a:lnTo>
                    <a:pt x="290" y="1976"/>
                  </a:lnTo>
                  <a:lnTo>
                    <a:pt x="340" y="1968"/>
                  </a:lnTo>
                  <a:lnTo>
                    <a:pt x="374" y="1959"/>
                  </a:lnTo>
                  <a:lnTo>
                    <a:pt x="374" y="1959"/>
                  </a:lnTo>
                  <a:lnTo>
                    <a:pt x="374" y="1957"/>
                  </a:lnTo>
                  <a:lnTo>
                    <a:pt x="373" y="1955"/>
                  </a:lnTo>
                  <a:lnTo>
                    <a:pt x="373" y="1955"/>
                  </a:lnTo>
                  <a:lnTo>
                    <a:pt x="373" y="1953"/>
                  </a:lnTo>
                  <a:lnTo>
                    <a:pt x="373" y="1951"/>
                  </a:lnTo>
                  <a:lnTo>
                    <a:pt x="373" y="1951"/>
                  </a:lnTo>
                  <a:lnTo>
                    <a:pt x="373" y="1949"/>
                  </a:lnTo>
                  <a:lnTo>
                    <a:pt x="338" y="1957"/>
                  </a:lnTo>
                  <a:lnTo>
                    <a:pt x="290" y="1966"/>
                  </a:lnTo>
                  <a:lnTo>
                    <a:pt x="240" y="1972"/>
                  </a:lnTo>
                  <a:lnTo>
                    <a:pt x="190" y="1976"/>
                  </a:lnTo>
                  <a:lnTo>
                    <a:pt x="138" y="1978"/>
                  </a:lnTo>
                  <a:lnTo>
                    <a:pt x="89" y="1976"/>
                  </a:lnTo>
                  <a:lnTo>
                    <a:pt x="39" y="1972"/>
                  </a:lnTo>
                  <a:lnTo>
                    <a:pt x="0" y="1968"/>
                  </a:lnTo>
                  <a:lnTo>
                    <a:pt x="0" y="1968"/>
                  </a:lnTo>
                  <a:lnTo>
                    <a:pt x="0" y="1970"/>
                  </a:lnTo>
                  <a:lnTo>
                    <a:pt x="0" y="1972"/>
                  </a:lnTo>
                  <a:lnTo>
                    <a:pt x="2" y="1972"/>
                  </a:lnTo>
                  <a:lnTo>
                    <a:pt x="2" y="1974"/>
                  </a:lnTo>
                  <a:lnTo>
                    <a:pt x="2" y="1976"/>
                  </a:lnTo>
                  <a:lnTo>
                    <a:pt x="2" y="1976"/>
                  </a:lnTo>
                  <a:lnTo>
                    <a:pt x="4" y="1978"/>
                  </a:lnTo>
                  <a:close/>
                </a:path>
              </a:pathLst>
            </a:custGeom>
            <a:solidFill>
              <a:srgbClr val="3eb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72"/>
            <p:cNvSpPr/>
            <p:nvPr/>
          </p:nvSpPr>
          <p:spPr>
            <a:xfrm>
              <a:off x="2165400" y="1589040"/>
              <a:ext cx="642960" cy="314172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3141720"/>
                <a:gd name="textAreaBottom" fmla="*/ 3142080 h 3141720"/>
              </a:gdLst>
              <a:ahLst/>
              <a:rect l="textAreaLeft" t="textAreaTop" r="textAreaRight" b="textAreaBottom"/>
              <a:pathLst>
                <a:path w="405" h="1979">
                  <a:moveTo>
                    <a:pt x="405" y="35"/>
                  </a:moveTo>
                  <a:lnTo>
                    <a:pt x="388" y="29"/>
                  </a:lnTo>
                  <a:lnTo>
                    <a:pt x="340" y="18"/>
                  </a:lnTo>
                  <a:lnTo>
                    <a:pt x="292" y="10"/>
                  </a:lnTo>
                  <a:lnTo>
                    <a:pt x="242" y="4"/>
                  </a:lnTo>
                  <a:lnTo>
                    <a:pt x="206" y="0"/>
                  </a:lnTo>
                  <a:lnTo>
                    <a:pt x="204" y="2"/>
                  </a:lnTo>
                  <a:lnTo>
                    <a:pt x="204" y="2"/>
                  </a:lnTo>
                  <a:lnTo>
                    <a:pt x="204" y="4"/>
                  </a:lnTo>
                  <a:lnTo>
                    <a:pt x="202" y="6"/>
                  </a:lnTo>
                  <a:lnTo>
                    <a:pt x="202" y="6"/>
                  </a:lnTo>
                  <a:lnTo>
                    <a:pt x="200" y="8"/>
                  </a:lnTo>
                  <a:lnTo>
                    <a:pt x="200" y="10"/>
                  </a:lnTo>
                  <a:lnTo>
                    <a:pt x="198" y="10"/>
                  </a:lnTo>
                  <a:lnTo>
                    <a:pt x="242" y="14"/>
                  </a:lnTo>
                  <a:lnTo>
                    <a:pt x="290" y="20"/>
                  </a:lnTo>
                  <a:lnTo>
                    <a:pt x="338" y="29"/>
                  </a:lnTo>
                  <a:lnTo>
                    <a:pt x="386" y="39"/>
                  </a:lnTo>
                  <a:lnTo>
                    <a:pt x="403" y="45"/>
                  </a:lnTo>
                  <a:lnTo>
                    <a:pt x="403" y="43"/>
                  </a:lnTo>
                  <a:lnTo>
                    <a:pt x="403" y="43"/>
                  </a:lnTo>
                  <a:lnTo>
                    <a:pt x="405" y="41"/>
                  </a:lnTo>
                  <a:lnTo>
                    <a:pt x="405" y="39"/>
                  </a:lnTo>
                  <a:lnTo>
                    <a:pt x="405" y="39"/>
                  </a:lnTo>
                  <a:lnTo>
                    <a:pt x="405" y="37"/>
                  </a:lnTo>
                  <a:lnTo>
                    <a:pt x="405" y="35"/>
                  </a:lnTo>
                  <a:lnTo>
                    <a:pt x="405" y="35"/>
                  </a:lnTo>
                  <a:close/>
                  <a:moveTo>
                    <a:pt x="4" y="1969"/>
                  </a:moveTo>
                  <a:lnTo>
                    <a:pt x="41" y="1975"/>
                  </a:lnTo>
                  <a:lnTo>
                    <a:pt x="91" y="1979"/>
                  </a:lnTo>
                  <a:lnTo>
                    <a:pt x="140" y="1979"/>
                  </a:lnTo>
                  <a:lnTo>
                    <a:pt x="192" y="1979"/>
                  </a:lnTo>
                  <a:lnTo>
                    <a:pt x="242" y="1975"/>
                  </a:lnTo>
                  <a:lnTo>
                    <a:pt x="292" y="1967"/>
                  </a:lnTo>
                  <a:lnTo>
                    <a:pt x="340" y="1959"/>
                  </a:lnTo>
                  <a:lnTo>
                    <a:pt x="375" y="1952"/>
                  </a:lnTo>
                  <a:lnTo>
                    <a:pt x="375" y="1950"/>
                  </a:lnTo>
                  <a:lnTo>
                    <a:pt x="375" y="1948"/>
                  </a:lnTo>
                  <a:lnTo>
                    <a:pt x="375" y="1948"/>
                  </a:lnTo>
                  <a:lnTo>
                    <a:pt x="375" y="1946"/>
                  </a:lnTo>
                  <a:lnTo>
                    <a:pt x="375" y="1944"/>
                  </a:lnTo>
                  <a:lnTo>
                    <a:pt x="375" y="1944"/>
                  </a:lnTo>
                  <a:lnTo>
                    <a:pt x="375" y="1942"/>
                  </a:lnTo>
                  <a:lnTo>
                    <a:pt x="373" y="1940"/>
                  </a:lnTo>
                  <a:lnTo>
                    <a:pt x="338" y="1950"/>
                  </a:lnTo>
                  <a:lnTo>
                    <a:pt x="290" y="1957"/>
                  </a:lnTo>
                  <a:lnTo>
                    <a:pt x="242" y="1963"/>
                  </a:lnTo>
                  <a:lnTo>
                    <a:pt x="192" y="1967"/>
                  </a:lnTo>
                  <a:lnTo>
                    <a:pt x="140" y="1969"/>
                  </a:lnTo>
                  <a:lnTo>
                    <a:pt x="91" y="1967"/>
                  </a:lnTo>
                  <a:lnTo>
                    <a:pt x="41" y="1963"/>
                  </a:lnTo>
                  <a:lnTo>
                    <a:pt x="0" y="1959"/>
                  </a:lnTo>
                  <a:lnTo>
                    <a:pt x="0" y="1959"/>
                  </a:lnTo>
                  <a:lnTo>
                    <a:pt x="0" y="1961"/>
                  </a:lnTo>
                  <a:lnTo>
                    <a:pt x="2" y="1963"/>
                  </a:lnTo>
                  <a:lnTo>
                    <a:pt x="2" y="1965"/>
                  </a:lnTo>
                  <a:lnTo>
                    <a:pt x="2" y="1965"/>
                  </a:lnTo>
                  <a:lnTo>
                    <a:pt x="2" y="1967"/>
                  </a:lnTo>
                  <a:lnTo>
                    <a:pt x="2" y="1969"/>
                  </a:lnTo>
                  <a:lnTo>
                    <a:pt x="4" y="1969"/>
                  </a:lnTo>
                  <a:close/>
                </a:path>
              </a:pathLst>
            </a:custGeom>
            <a:solidFill>
              <a:srgbClr val="3f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73"/>
            <p:cNvSpPr/>
            <p:nvPr/>
          </p:nvSpPr>
          <p:spPr>
            <a:xfrm>
              <a:off x="2162160" y="1598400"/>
              <a:ext cx="646200" cy="312588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3125880"/>
                <a:gd name="textAreaBottom" fmla="*/ 3126240 h 3125880"/>
              </a:gdLst>
              <a:ahLst/>
              <a:rect l="textAreaLeft" t="textAreaTop" r="textAreaRight" b="textAreaBottom"/>
              <a:pathLst>
                <a:path w="407" h="1969">
                  <a:moveTo>
                    <a:pt x="407" y="33"/>
                  </a:moveTo>
                  <a:lnTo>
                    <a:pt x="390" y="29"/>
                  </a:lnTo>
                  <a:lnTo>
                    <a:pt x="342" y="17"/>
                  </a:lnTo>
                  <a:lnTo>
                    <a:pt x="294" y="8"/>
                  </a:lnTo>
                  <a:lnTo>
                    <a:pt x="244" y="2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202" y="2"/>
                  </a:lnTo>
                  <a:lnTo>
                    <a:pt x="202" y="4"/>
                  </a:lnTo>
                  <a:lnTo>
                    <a:pt x="200" y="4"/>
                  </a:lnTo>
                  <a:lnTo>
                    <a:pt x="200" y="6"/>
                  </a:lnTo>
                  <a:lnTo>
                    <a:pt x="200" y="6"/>
                  </a:lnTo>
                  <a:lnTo>
                    <a:pt x="198" y="8"/>
                  </a:lnTo>
                  <a:lnTo>
                    <a:pt x="198" y="10"/>
                  </a:lnTo>
                  <a:lnTo>
                    <a:pt x="242" y="14"/>
                  </a:lnTo>
                  <a:lnTo>
                    <a:pt x="292" y="19"/>
                  </a:lnTo>
                  <a:lnTo>
                    <a:pt x="340" y="27"/>
                  </a:lnTo>
                  <a:lnTo>
                    <a:pt x="386" y="39"/>
                  </a:lnTo>
                  <a:lnTo>
                    <a:pt x="405" y="44"/>
                  </a:lnTo>
                  <a:lnTo>
                    <a:pt x="405" y="42"/>
                  </a:lnTo>
                  <a:lnTo>
                    <a:pt x="405" y="40"/>
                  </a:lnTo>
                  <a:lnTo>
                    <a:pt x="405" y="40"/>
                  </a:lnTo>
                  <a:lnTo>
                    <a:pt x="405" y="39"/>
                  </a:lnTo>
                  <a:lnTo>
                    <a:pt x="405" y="37"/>
                  </a:lnTo>
                  <a:lnTo>
                    <a:pt x="405" y="37"/>
                  </a:lnTo>
                  <a:lnTo>
                    <a:pt x="407" y="35"/>
                  </a:lnTo>
                  <a:lnTo>
                    <a:pt x="407" y="33"/>
                  </a:lnTo>
                  <a:close/>
                  <a:moveTo>
                    <a:pt x="4" y="1959"/>
                  </a:moveTo>
                  <a:lnTo>
                    <a:pt x="43" y="1963"/>
                  </a:lnTo>
                  <a:lnTo>
                    <a:pt x="93" y="1967"/>
                  </a:lnTo>
                  <a:lnTo>
                    <a:pt x="142" y="1969"/>
                  </a:lnTo>
                  <a:lnTo>
                    <a:pt x="194" y="1967"/>
                  </a:lnTo>
                  <a:lnTo>
                    <a:pt x="244" y="1963"/>
                  </a:lnTo>
                  <a:lnTo>
                    <a:pt x="294" y="1957"/>
                  </a:lnTo>
                  <a:lnTo>
                    <a:pt x="342" y="1948"/>
                  </a:lnTo>
                  <a:lnTo>
                    <a:pt x="377" y="1940"/>
                  </a:lnTo>
                  <a:lnTo>
                    <a:pt x="377" y="1938"/>
                  </a:lnTo>
                  <a:lnTo>
                    <a:pt x="377" y="1938"/>
                  </a:lnTo>
                  <a:lnTo>
                    <a:pt x="377" y="1936"/>
                  </a:lnTo>
                  <a:lnTo>
                    <a:pt x="375" y="1934"/>
                  </a:lnTo>
                  <a:lnTo>
                    <a:pt x="375" y="1934"/>
                  </a:lnTo>
                  <a:lnTo>
                    <a:pt x="375" y="1932"/>
                  </a:lnTo>
                  <a:lnTo>
                    <a:pt x="375" y="1932"/>
                  </a:lnTo>
                  <a:lnTo>
                    <a:pt x="375" y="1930"/>
                  </a:lnTo>
                  <a:lnTo>
                    <a:pt x="340" y="1938"/>
                  </a:lnTo>
                  <a:lnTo>
                    <a:pt x="292" y="1948"/>
                  </a:lnTo>
                  <a:lnTo>
                    <a:pt x="242" y="1953"/>
                  </a:lnTo>
                  <a:lnTo>
                    <a:pt x="192" y="1957"/>
                  </a:lnTo>
                  <a:lnTo>
                    <a:pt x="142" y="1957"/>
                  </a:lnTo>
                  <a:lnTo>
                    <a:pt x="93" y="1957"/>
                  </a:lnTo>
                  <a:lnTo>
                    <a:pt x="43" y="1953"/>
                  </a:lnTo>
                  <a:lnTo>
                    <a:pt x="0" y="1948"/>
                  </a:lnTo>
                  <a:lnTo>
                    <a:pt x="0" y="1950"/>
                  </a:lnTo>
                  <a:lnTo>
                    <a:pt x="0" y="1950"/>
                  </a:lnTo>
                  <a:lnTo>
                    <a:pt x="2" y="1951"/>
                  </a:lnTo>
                  <a:lnTo>
                    <a:pt x="2" y="1953"/>
                  </a:lnTo>
                  <a:lnTo>
                    <a:pt x="2" y="1953"/>
                  </a:lnTo>
                  <a:lnTo>
                    <a:pt x="2" y="1955"/>
                  </a:lnTo>
                  <a:lnTo>
                    <a:pt x="4" y="1957"/>
                  </a:lnTo>
                  <a:lnTo>
                    <a:pt x="4" y="1959"/>
                  </a:lnTo>
                  <a:close/>
                </a:path>
              </a:pathLst>
            </a:custGeom>
            <a:solidFill>
              <a:srgbClr val="40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74"/>
            <p:cNvSpPr/>
            <p:nvPr/>
          </p:nvSpPr>
          <p:spPr>
            <a:xfrm>
              <a:off x="2158920" y="1604880"/>
              <a:ext cx="646200" cy="310968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3109680"/>
                <a:gd name="textAreaBottom" fmla="*/ 3110040 h 3109680"/>
              </a:gdLst>
              <a:ahLst/>
              <a:rect l="textAreaLeft" t="textAreaTop" r="textAreaRight" b="textAreaBottom"/>
              <a:pathLst>
                <a:path w="407" h="1959">
                  <a:moveTo>
                    <a:pt x="407" y="35"/>
                  </a:moveTo>
                  <a:lnTo>
                    <a:pt x="390" y="29"/>
                  </a:lnTo>
                  <a:lnTo>
                    <a:pt x="342" y="19"/>
                  </a:lnTo>
                  <a:lnTo>
                    <a:pt x="294" y="10"/>
                  </a:lnTo>
                  <a:lnTo>
                    <a:pt x="246" y="4"/>
                  </a:lnTo>
                  <a:lnTo>
                    <a:pt x="202" y="0"/>
                  </a:lnTo>
                  <a:lnTo>
                    <a:pt x="202" y="2"/>
                  </a:lnTo>
                  <a:lnTo>
                    <a:pt x="202" y="2"/>
                  </a:lnTo>
                  <a:lnTo>
                    <a:pt x="200" y="4"/>
                  </a:lnTo>
                  <a:lnTo>
                    <a:pt x="200" y="6"/>
                  </a:lnTo>
                  <a:lnTo>
                    <a:pt x="198" y="6"/>
                  </a:lnTo>
                  <a:lnTo>
                    <a:pt x="198" y="8"/>
                  </a:lnTo>
                  <a:lnTo>
                    <a:pt x="198" y="10"/>
                  </a:lnTo>
                  <a:lnTo>
                    <a:pt x="196" y="10"/>
                  </a:lnTo>
                  <a:lnTo>
                    <a:pt x="244" y="13"/>
                  </a:lnTo>
                  <a:lnTo>
                    <a:pt x="292" y="19"/>
                  </a:lnTo>
                  <a:lnTo>
                    <a:pt x="340" y="29"/>
                  </a:lnTo>
                  <a:lnTo>
                    <a:pt x="388" y="38"/>
                  </a:lnTo>
                  <a:lnTo>
                    <a:pt x="405" y="44"/>
                  </a:lnTo>
                  <a:lnTo>
                    <a:pt x="405" y="44"/>
                  </a:lnTo>
                  <a:lnTo>
                    <a:pt x="407" y="42"/>
                  </a:lnTo>
                  <a:lnTo>
                    <a:pt x="407" y="40"/>
                  </a:lnTo>
                  <a:lnTo>
                    <a:pt x="407" y="40"/>
                  </a:lnTo>
                  <a:lnTo>
                    <a:pt x="407" y="38"/>
                  </a:lnTo>
                  <a:lnTo>
                    <a:pt x="407" y="36"/>
                  </a:lnTo>
                  <a:lnTo>
                    <a:pt x="407" y="36"/>
                  </a:lnTo>
                  <a:lnTo>
                    <a:pt x="407" y="35"/>
                  </a:lnTo>
                  <a:close/>
                  <a:moveTo>
                    <a:pt x="4" y="1949"/>
                  </a:moveTo>
                  <a:lnTo>
                    <a:pt x="45" y="1953"/>
                  </a:lnTo>
                  <a:lnTo>
                    <a:pt x="95" y="1957"/>
                  </a:lnTo>
                  <a:lnTo>
                    <a:pt x="144" y="1959"/>
                  </a:lnTo>
                  <a:lnTo>
                    <a:pt x="196" y="1957"/>
                  </a:lnTo>
                  <a:lnTo>
                    <a:pt x="246" y="1953"/>
                  </a:lnTo>
                  <a:lnTo>
                    <a:pt x="294" y="1947"/>
                  </a:lnTo>
                  <a:lnTo>
                    <a:pt x="342" y="1940"/>
                  </a:lnTo>
                  <a:lnTo>
                    <a:pt x="377" y="1930"/>
                  </a:lnTo>
                  <a:lnTo>
                    <a:pt x="377" y="1930"/>
                  </a:lnTo>
                  <a:lnTo>
                    <a:pt x="377" y="1928"/>
                  </a:lnTo>
                  <a:lnTo>
                    <a:pt x="377" y="1928"/>
                  </a:lnTo>
                  <a:lnTo>
                    <a:pt x="377" y="1926"/>
                  </a:lnTo>
                  <a:lnTo>
                    <a:pt x="377" y="1924"/>
                  </a:lnTo>
                  <a:lnTo>
                    <a:pt x="377" y="1924"/>
                  </a:lnTo>
                  <a:lnTo>
                    <a:pt x="377" y="1923"/>
                  </a:lnTo>
                  <a:lnTo>
                    <a:pt x="377" y="1921"/>
                  </a:lnTo>
                  <a:lnTo>
                    <a:pt x="340" y="1928"/>
                  </a:lnTo>
                  <a:lnTo>
                    <a:pt x="292" y="1938"/>
                  </a:lnTo>
                  <a:lnTo>
                    <a:pt x="244" y="1944"/>
                  </a:lnTo>
                  <a:lnTo>
                    <a:pt x="194" y="1947"/>
                  </a:lnTo>
                  <a:lnTo>
                    <a:pt x="144" y="1949"/>
                  </a:lnTo>
                  <a:lnTo>
                    <a:pt x="95" y="1947"/>
                  </a:lnTo>
                  <a:lnTo>
                    <a:pt x="47" y="1944"/>
                  </a:lnTo>
                  <a:lnTo>
                    <a:pt x="0" y="1938"/>
                  </a:lnTo>
                  <a:lnTo>
                    <a:pt x="0" y="1940"/>
                  </a:lnTo>
                  <a:lnTo>
                    <a:pt x="0" y="1942"/>
                  </a:lnTo>
                  <a:lnTo>
                    <a:pt x="2" y="1942"/>
                  </a:lnTo>
                  <a:lnTo>
                    <a:pt x="2" y="1944"/>
                  </a:lnTo>
                  <a:lnTo>
                    <a:pt x="2" y="1946"/>
                  </a:lnTo>
                  <a:lnTo>
                    <a:pt x="2" y="1946"/>
                  </a:lnTo>
                  <a:lnTo>
                    <a:pt x="4" y="1947"/>
                  </a:lnTo>
                  <a:lnTo>
                    <a:pt x="4" y="1949"/>
                  </a:lnTo>
                  <a:close/>
                </a:path>
              </a:pathLst>
            </a:custGeom>
            <a:solidFill>
              <a:srgbClr val="41b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75"/>
            <p:cNvSpPr/>
            <p:nvPr/>
          </p:nvSpPr>
          <p:spPr>
            <a:xfrm>
              <a:off x="2157480" y="1614240"/>
              <a:ext cx="647640" cy="30909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3090960"/>
                <a:gd name="textAreaBottom" fmla="*/ 3091320 h 3090960"/>
              </a:gdLst>
              <a:ahLst/>
              <a:rect l="textAreaLeft" t="textAreaTop" r="textAreaRight" b="textAreaBottom"/>
              <a:pathLst>
                <a:path w="408" h="1947">
                  <a:moveTo>
                    <a:pt x="408" y="34"/>
                  </a:moveTo>
                  <a:lnTo>
                    <a:pt x="389" y="29"/>
                  </a:lnTo>
                  <a:lnTo>
                    <a:pt x="343" y="17"/>
                  </a:lnTo>
                  <a:lnTo>
                    <a:pt x="295" y="9"/>
                  </a:lnTo>
                  <a:lnTo>
                    <a:pt x="245" y="4"/>
                  </a:lnTo>
                  <a:lnTo>
                    <a:pt x="201" y="0"/>
                  </a:lnTo>
                  <a:lnTo>
                    <a:pt x="199" y="0"/>
                  </a:lnTo>
                  <a:lnTo>
                    <a:pt x="199" y="2"/>
                  </a:lnTo>
                  <a:lnTo>
                    <a:pt x="199" y="4"/>
                  </a:lnTo>
                  <a:lnTo>
                    <a:pt x="197" y="4"/>
                  </a:lnTo>
                  <a:lnTo>
                    <a:pt x="197" y="6"/>
                  </a:lnTo>
                  <a:lnTo>
                    <a:pt x="195" y="7"/>
                  </a:lnTo>
                  <a:lnTo>
                    <a:pt x="195" y="7"/>
                  </a:lnTo>
                  <a:lnTo>
                    <a:pt x="195" y="9"/>
                  </a:lnTo>
                  <a:lnTo>
                    <a:pt x="195" y="9"/>
                  </a:lnTo>
                  <a:lnTo>
                    <a:pt x="245" y="13"/>
                  </a:lnTo>
                  <a:lnTo>
                    <a:pt x="293" y="19"/>
                  </a:lnTo>
                  <a:lnTo>
                    <a:pt x="341" y="27"/>
                  </a:lnTo>
                  <a:lnTo>
                    <a:pt x="387" y="38"/>
                  </a:lnTo>
                  <a:lnTo>
                    <a:pt x="406" y="44"/>
                  </a:lnTo>
                  <a:lnTo>
                    <a:pt x="406" y="42"/>
                  </a:lnTo>
                  <a:lnTo>
                    <a:pt x="406" y="42"/>
                  </a:lnTo>
                  <a:lnTo>
                    <a:pt x="406" y="40"/>
                  </a:lnTo>
                  <a:lnTo>
                    <a:pt x="406" y="38"/>
                  </a:lnTo>
                  <a:lnTo>
                    <a:pt x="406" y="38"/>
                  </a:lnTo>
                  <a:lnTo>
                    <a:pt x="408" y="36"/>
                  </a:lnTo>
                  <a:lnTo>
                    <a:pt x="408" y="34"/>
                  </a:lnTo>
                  <a:lnTo>
                    <a:pt x="408" y="34"/>
                  </a:lnTo>
                  <a:close/>
                  <a:moveTo>
                    <a:pt x="3" y="1938"/>
                  </a:moveTo>
                  <a:lnTo>
                    <a:pt x="46" y="1943"/>
                  </a:lnTo>
                  <a:lnTo>
                    <a:pt x="96" y="1947"/>
                  </a:lnTo>
                  <a:lnTo>
                    <a:pt x="145" y="1947"/>
                  </a:lnTo>
                  <a:lnTo>
                    <a:pt x="195" y="1947"/>
                  </a:lnTo>
                  <a:lnTo>
                    <a:pt x="245" y="1943"/>
                  </a:lnTo>
                  <a:lnTo>
                    <a:pt x="295" y="1938"/>
                  </a:lnTo>
                  <a:lnTo>
                    <a:pt x="343" y="1928"/>
                  </a:lnTo>
                  <a:lnTo>
                    <a:pt x="378" y="1920"/>
                  </a:lnTo>
                  <a:lnTo>
                    <a:pt x="378" y="1918"/>
                  </a:lnTo>
                  <a:lnTo>
                    <a:pt x="378" y="1918"/>
                  </a:lnTo>
                  <a:lnTo>
                    <a:pt x="378" y="1917"/>
                  </a:lnTo>
                  <a:lnTo>
                    <a:pt x="378" y="1915"/>
                  </a:lnTo>
                  <a:lnTo>
                    <a:pt x="376" y="1915"/>
                  </a:lnTo>
                  <a:lnTo>
                    <a:pt x="376" y="1913"/>
                  </a:lnTo>
                  <a:lnTo>
                    <a:pt x="376" y="1911"/>
                  </a:lnTo>
                  <a:lnTo>
                    <a:pt x="376" y="1911"/>
                  </a:lnTo>
                  <a:lnTo>
                    <a:pt x="341" y="1918"/>
                  </a:lnTo>
                  <a:lnTo>
                    <a:pt x="293" y="1926"/>
                  </a:lnTo>
                  <a:lnTo>
                    <a:pt x="245" y="1932"/>
                  </a:lnTo>
                  <a:lnTo>
                    <a:pt x="195" y="1936"/>
                  </a:lnTo>
                  <a:lnTo>
                    <a:pt x="145" y="1938"/>
                  </a:lnTo>
                  <a:lnTo>
                    <a:pt x="96" y="1936"/>
                  </a:lnTo>
                  <a:lnTo>
                    <a:pt x="48" y="1932"/>
                  </a:lnTo>
                  <a:lnTo>
                    <a:pt x="0" y="1926"/>
                  </a:lnTo>
                  <a:lnTo>
                    <a:pt x="0" y="1928"/>
                  </a:lnTo>
                  <a:lnTo>
                    <a:pt x="1" y="1930"/>
                  </a:lnTo>
                  <a:lnTo>
                    <a:pt x="1" y="1930"/>
                  </a:lnTo>
                  <a:lnTo>
                    <a:pt x="1" y="1932"/>
                  </a:lnTo>
                  <a:lnTo>
                    <a:pt x="1" y="1934"/>
                  </a:lnTo>
                  <a:lnTo>
                    <a:pt x="1" y="1936"/>
                  </a:lnTo>
                  <a:lnTo>
                    <a:pt x="3" y="1936"/>
                  </a:lnTo>
                  <a:lnTo>
                    <a:pt x="3" y="1938"/>
                  </a:lnTo>
                  <a:close/>
                </a:path>
              </a:pathLst>
            </a:custGeom>
            <a:solidFill>
              <a:srgbClr val="42b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76"/>
            <p:cNvSpPr/>
            <p:nvPr/>
          </p:nvSpPr>
          <p:spPr>
            <a:xfrm>
              <a:off x="2154240" y="1620720"/>
              <a:ext cx="647640" cy="307800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3078000"/>
                <a:gd name="textAreaBottom" fmla="*/ 3078360 h 3078000"/>
              </a:gdLst>
              <a:ahLst/>
              <a:rect l="textAreaLeft" t="textAreaTop" r="textAreaRight" b="textAreaBottom"/>
              <a:pathLst>
                <a:path w="408" h="1939">
                  <a:moveTo>
                    <a:pt x="408" y="34"/>
                  </a:moveTo>
                  <a:lnTo>
                    <a:pt x="391" y="28"/>
                  </a:lnTo>
                  <a:lnTo>
                    <a:pt x="343" y="19"/>
                  </a:lnTo>
                  <a:lnTo>
                    <a:pt x="295" y="9"/>
                  </a:lnTo>
                  <a:lnTo>
                    <a:pt x="247" y="3"/>
                  </a:lnTo>
                  <a:lnTo>
                    <a:pt x="199" y="0"/>
                  </a:lnTo>
                  <a:lnTo>
                    <a:pt x="199" y="2"/>
                  </a:lnTo>
                  <a:lnTo>
                    <a:pt x="197" y="3"/>
                  </a:lnTo>
                  <a:lnTo>
                    <a:pt x="197" y="3"/>
                  </a:lnTo>
                  <a:lnTo>
                    <a:pt x="197" y="5"/>
                  </a:lnTo>
                  <a:lnTo>
                    <a:pt x="195" y="7"/>
                  </a:lnTo>
                  <a:lnTo>
                    <a:pt x="195" y="7"/>
                  </a:lnTo>
                  <a:lnTo>
                    <a:pt x="193" y="9"/>
                  </a:lnTo>
                  <a:lnTo>
                    <a:pt x="193" y="11"/>
                  </a:lnTo>
                  <a:lnTo>
                    <a:pt x="197" y="11"/>
                  </a:lnTo>
                  <a:lnTo>
                    <a:pt x="245" y="13"/>
                  </a:lnTo>
                  <a:lnTo>
                    <a:pt x="293" y="21"/>
                  </a:lnTo>
                  <a:lnTo>
                    <a:pt x="341" y="28"/>
                  </a:lnTo>
                  <a:lnTo>
                    <a:pt x="387" y="40"/>
                  </a:lnTo>
                  <a:lnTo>
                    <a:pt x="407" y="46"/>
                  </a:lnTo>
                  <a:lnTo>
                    <a:pt x="407" y="44"/>
                  </a:lnTo>
                  <a:lnTo>
                    <a:pt x="408" y="42"/>
                  </a:lnTo>
                  <a:lnTo>
                    <a:pt x="408" y="42"/>
                  </a:lnTo>
                  <a:lnTo>
                    <a:pt x="408" y="40"/>
                  </a:lnTo>
                  <a:lnTo>
                    <a:pt x="408" y="38"/>
                  </a:lnTo>
                  <a:lnTo>
                    <a:pt x="408" y="38"/>
                  </a:lnTo>
                  <a:lnTo>
                    <a:pt x="408" y="36"/>
                  </a:lnTo>
                  <a:lnTo>
                    <a:pt x="408" y="34"/>
                  </a:lnTo>
                  <a:close/>
                  <a:moveTo>
                    <a:pt x="3" y="1928"/>
                  </a:moveTo>
                  <a:lnTo>
                    <a:pt x="50" y="1934"/>
                  </a:lnTo>
                  <a:lnTo>
                    <a:pt x="98" y="1937"/>
                  </a:lnTo>
                  <a:lnTo>
                    <a:pt x="147" y="1939"/>
                  </a:lnTo>
                  <a:lnTo>
                    <a:pt x="197" y="1937"/>
                  </a:lnTo>
                  <a:lnTo>
                    <a:pt x="247" y="1934"/>
                  </a:lnTo>
                  <a:lnTo>
                    <a:pt x="295" y="1928"/>
                  </a:lnTo>
                  <a:lnTo>
                    <a:pt x="343" y="1918"/>
                  </a:lnTo>
                  <a:lnTo>
                    <a:pt x="380" y="1911"/>
                  </a:lnTo>
                  <a:lnTo>
                    <a:pt x="378" y="1911"/>
                  </a:lnTo>
                  <a:lnTo>
                    <a:pt x="378" y="1909"/>
                  </a:lnTo>
                  <a:lnTo>
                    <a:pt x="378" y="1907"/>
                  </a:lnTo>
                  <a:lnTo>
                    <a:pt x="378" y="1907"/>
                  </a:lnTo>
                  <a:lnTo>
                    <a:pt x="378" y="1905"/>
                  </a:lnTo>
                  <a:lnTo>
                    <a:pt x="378" y="1903"/>
                  </a:lnTo>
                  <a:lnTo>
                    <a:pt x="378" y="1903"/>
                  </a:lnTo>
                  <a:lnTo>
                    <a:pt x="378" y="1901"/>
                  </a:lnTo>
                  <a:lnTo>
                    <a:pt x="341" y="1909"/>
                  </a:lnTo>
                  <a:lnTo>
                    <a:pt x="293" y="1918"/>
                  </a:lnTo>
                  <a:lnTo>
                    <a:pt x="245" y="1924"/>
                  </a:lnTo>
                  <a:lnTo>
                    <a:pt x="197" y="1928"/>
                  </a:lnTo>
                  <a:lnTo>
                    <a:pt x="147" y="1928"/>
                  </a:lnTo>
                  <a:lnTo>
                    <a:pt x="99" y="1928"/>
                  </a:lnTo>
                  <a:lnTo>
                    <a:pt x="50" y="1924"/>
                  </a:lnTo>
                  <a:lnTo>
                    <a:pt x="2" y="1918"/>
                  </a:lnTo>
                  <a:lnTo>
                    <a:pt x="0" y="1916"/>
                  </a:lnTo>
                  <a:lnTo>
                    <a:pt x="0" y="1918"/>
                  </a:lnTo>
                  <a:lnTo>
                    <a:pt x="2" y="1920"/>
                  </a:lnTo>
                  <a:lnTo>
                    <a:pt x="2" y="1922"/>
                  </a:lnTo>
                  <a:lnTo>
                    <a:pt x="2" y="1922"/>
                  </a:lnTo>
                  <a:lnTo>
                    <a:pt x="2" y="1924"/>
                  </a:lnTo>
                  <a:lnTo>
                    <a:pt x="3" y="1926"/>
                  </a:lnTo>
                  <a:lnTo>
                    <a:pt x="3" y="1926"/>
                  </a:lnTo>
                  <a:lnTo>
                    <a:pt x="3" y="1928"/>
                  </a:lnTo>
                  <a:close/>
                </a:path>
              </a:pathLst>
            </a:custGeom>
            <a:solidFill>
              <a:srgbClr val="43b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77"/>
            <p:cNvSpPr/>
            <p:nvPr/>
          </p:nvSpPr>
          <p:spPr>
            <a:xfrm>
              <a:off x="2151000" y="1628640"/>
              <a:ext cx="650880" cy="306216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3062160"/>
                <a:gd name="textAreaBottom" fmla="*/ 3062520 h 3062160"/>
              </a:gdLst>
              <a:ahLst/>
              <a:rect l="textAreaLeft" t="textAreaTop" r="textAreaRight" b="textAreaBottom"/>
              <a:pathLst>
                <a:path w="410" h="1929">
                  <a:moveTo>
                    <a:pt x="410" y="35"/>
                  </a:moveTo>
                  <a:lnTo>
                    <a:pt x="391" y="29"/>
                  </a:lnTo>
                  <a:lnTo>
                    <a:pt x="345" y="18"/>
                  </a:lnTo>
                  <a:lnTo>
                    <a:pt x="297" y="10"/>
                  </a:lnTo>
                  <a:lnTo>
                    <a:pt x="249" y="4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197" y="2"/>
                  </a:lnTo>
                  <a:lnTo>
                    <a:pt x="197" y="2"/>
                  </a:lnTo>
                  <a:lnTo>
                    <a:pt x="195" y="4"/>
                  </a:lnTo>
                  <a:lnTo>
                    <a:pt x="195" y="6"/>
                  </a:lnTo>
                  <a:lnTo>
                    <a:pt x="194" y="6"/>
                  </a:lnTo>
                  <a:lnTo>
                    <a:pt x="194" y="8"/>
                  </a:lnTo>
                  <a:lnTo>
                    <a:pt x="194" y="8"/>
                  </a:lnTo>
                  <a:lnTo>
                    <a:pt x="192" y="10"/>
                  </a:lnTo>
                  <a:lnTo>
                    <a:pt x="199" y="10"/>
                  </a:lnTo>
                  <a:lnTo>
                    <a:pt x="247" y="14"/>
                  </a:lnTo>
                  <a:lnTo>
                    <a:pt x="295" y="20"/>
                  </a:lnTo>
                  <a:lnTo>
                    <a:pt x="343" y="29"/>
                  </a:lnTo>
                  <a:lnTo>
                    <a:pt x="389" y="39"/>
                  </a:lnTo>
                  <a:lnTo>
                    <a:pt x="409" y="44"/>
                  </a:lnTo>
                  <a:lnTo>
                    <a:pt x="409" y="44"/>
                  </a:lnTo>
                  <a:lnTo>
                    <a:pt x="409" y="43"/>
                  </a:lnTo>
                  <a:lnTo>
                    <a:pt x="409" y="41"/>
                  </a:lnTo>
                  <a:lnTo>
                    <a:pt x="409" y="41"/>
                  </a:lnTo>
                  <a:lnTo>
                    <a:pt x="409" y="39"/>
                  </a:lnTo>
                  <a:lnTo>
                    <a:pt x="410" y="37"/>
                  </a:lnTo>
                  <a:lnTo>
                    <a:pt x="410" y="37"/>
                  </a:lnTo>
                  <a:lnTo>
                    <a:pt x="410" y="35"/>
                  </a:lnTo>
                  <a:close/>
                  <a:moveTo>
                    <a:pt x="4" y="1917"/>
                  </a:moveTo>
                  <a:lnTo>
                    <a:pt x="52" y="1923"/>
                  </a:lnTo>
                  <a:lnTo>
                    <a:pt x="100" y="1927"/>
                  </a:lnTo>
                  <a:lnTo>
                    <a:pt x="149" y="1929"/>
                  </a:lnTo>
                  <a:lnTo>
                    <a:pt x="199" y="1927"/>
                  </a:lnTo>
                  <a:lnTo>
                    <a:pt x="249" y="1923"/>
                  </a:lnTo>
                  <a:lnTo>
                    <a:pt x="297" y="1917"/>
                  </a:lnTo>
                  <a:lnTo>
                    <a:pt x="345" y="1909"/>
                  </a:lnTo>
                  <a:lnTo>
                    <a:pt x="380" y="1902"/>
                  </a:lnTo>
                  <a:lnTo>
                    <a:pt x="380" y="1900"/>
                  </a:lnTo>
                  <a:lnTo>
                    <a:pt x="380" y="1898"/>
                  </a:lnTo>
                  <a:lnTo>
                    <a:pt x="380" y="1898"/>
                  </a:lnTo>
                  <a:lnTo>
                    <a:pt x="380" y="1896"/>
                  </a:lnTo>
                  <a:lnTo>
                    <a:pt x="380" y="1894"/>
                  </a:lnTo>
                  <a:lnTo>
                    <a:pt x="378" y="1894"/>
                  </a:lnTo>
                  <a:lnTo>
                    <a:pt x="378" y="1892"/>
                  </a:lnTo>
                  <a:lnTo>
                    <a:pt x="378" y="1890"/>
                  </a:lnTo>
                  <a:lnTo>
                    <a:pt x="343" y="1900"/>
                  </a:lnTo>
                  <a:lnTo>
                    <a:pt x="295" y="1908"/>
                  </a:lnTo>
                  <a:lnTo>
                    <a:pt x="247" y="1913"/>
                  </a:lnTo>
                  <a:lnTo>
                    <a:pt x="199" y="1917"/>
                  </a:lnTo>
                  <a:lnTo>
                    <a:pt x="149" y="1919"/>
                  </a:lnTo>
                  <a:lnTo>
                    <a:pt x="101" y="1917"/>
                  </a:lnTo>
                  <a:lnTo>
                    <a:pt x="52" y="1913"/>
                  </a:lnTo>
                  <a:lnTo>
                    <a:pt x="5" y="1908"/>
                  </a:lnTo>
                  <a:lnTo>
                    <a:pt x="0" y="1908"/>
                  </a:lnTo>
                  <a:lnTo>
                    <a:pt x="0" y="1908"/>
                  </a:lnTo>
                  <a:lnTo>
                    <a:pt x="2" y="1909"/>
                  </a:lnTo>
                  <a:lnTo>
                    <a:pt x="2" y="1911"/>
                  </a:lnTo>
                  <a:lnTo>
                    <a:pt x="2" y="1911"/>
                  </a:lnTo>
                  <a:lnTo>
                    <a:pt x="2" y="1913"/>
                  </a:lnTo>
                  <a:lnTo>
                    <a:pt x="4" y="1915"/>
                  </a:lnTo>
                  <a:lnTo>
                    <a:pt x="4" y="1917"/>
                  </a:lnTo>
                  <a:lnTo>
                    <a:pt x="4" y="1917"/>
                  </a:lnTo>
                  <a:close/>
                </a:path>
              </a:pathLst>
            </a:custGeom>
            <a:solidFill>
              <a:srgbClr val="44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78"/>
            <p:cNvSpPr/>
            <p:nvPr/>
          </p:nvSpPr>
          <p:spPr>
            <a:xfrm>
              <a:off x="2147760" y="1638000"/>
              <a:ext cx="652680" cy="3043440"/>
            </a:xfrm>
            <a:custGeom>
              <a:avLst/>
              <a:gdLst>
                <a:gd name="textAreaLeft" fmla="*/ 0 w 652680"/>
                <a:gd name="textAreaRight" fmla="*/ 652680 w 652680"/>
                <a:gd name="textAreaTop" fmla="*/ 0 h 3043440"/>
                <a:gd name="textAreaBottom" fmla="*/ 3043800 h 3043440"/>
              </a:gdLst>
              <a:ahLst/>
              <a:rect l="textAreaLeft" t="textAreaTop" r="textAreaRight" b="textAreaBottom"/>
              <a:pathLst>
                <a:path w="411" h="1917">
                  <a:moveTo>
                    <a:pt x="411" y="35"/>
                  </a:moveTo>
                  <a:lnTo>
                    <a:pt x="391" y="29"/>
                  </a:lnTo>
                  <a:lnTo>
                    <a:pt x="345" y="17"/>
                  </a:lnTo>
                  <a:lnTo>
                    <a:pt x="297" y="10"/>
                  </a:lnTo>
                  <a:lnTo>
                    <a:pt x="249" y="2"/>
                  </a:lnTo>
                  <a:lnTo>
                    <a:pt x="201" y="0"/>
                  </a:lnTo>
                  <a:lnTo>
                    <a:pt x="197" y="0"/>
                  </a:lnTo>
                  <a:lnTo>
                    <a:pt x="196" y="0"/>
                  </a:lnTo>
                  <a:lnTo>
                    <a:pt x="196" y="2"/>
                  </a:lnTo>
                  <a:lnTo>
                    <a:pt x="196" y="2"/>
                  </a:lnTo>
                  <a:lnTo>
                    <a:pt x="194" y="4"/>
                  </a:lnTo>
                  <a:lnTo>
                    <a:pt x="194" y="6"/>
                  </a:lnTo>
                  <a:lnTo>
                    <a:pt x="192" y="6"/>
                  </a:lnTo>
                  <a:lnTo>
                    <a:pt x="192" y="8"/>
                  </a:lnTo>
                  <a:lnTo>
                    <a:pt x="192" y="10"/>
                  </a:lnTo>
                  <a:lnTo>
                    <a:pt x="201" y="10"/>
                  </a:lnTo>
                  <a:lnTo>
                    <a:pt x="249" y="14"/>
                  </a:lnTo>
                  <a:lnTo>
                    <a:pt x="297" y="19"/>
                  </a:lnTo>
                  <a:lnTo>
                    <a:pt x="343" y="27"/>
                  </a:lnTo>
                  <a:lnTo>
                    <a:pt x="389" y="38"/>
                  </a:lnTo>
                  <a:lnTo>
                    <a:pt x="409" y="44"/>
                  </a:lnTo>
                  <a:lnTo>
                    <a:pt x="409" y="44"/>
                  </a:lnTo>
                  <a:lnTo>
                    <a:pt x="409" y="42"/>
                  </a:lnTo>
                  <a:lnTo>
                    <a:pt x="409" y="42"/>
                  </a:lnTo>
                  <a:lnTo>
                    <a:pt x="409" y="42"/>
                  </a:lnTo>
                  <a:lnTo>
                    <a:pt x="409" y="42"/>
                  </a:lnTo>
                  <a:lnTo>
                    <a:pt x="409" y="42"/>
                  </a:lnTo>
                  <a:lnTo>
                    <a:pt x="411" y="42"/>
                  </a:lnTo>
                  <a:lnTo>
                    <a:pt x="411" y="42"/>
                  </a:lnTo>
                  <a:lnTo>
                    <a:pt x="411" y="40"/>
                  </a:lnTo>
                  <a:lnTo>
                    <a:pt x="411" y="40"/>
                  </a:lnTo>
                  <a:lnTo>
                    <a:pt x="411" y="38"/>
                  </a:lnTo>
                  <a:lnTo>
                    <a:pt x="411" y="38"/>
                  </a:lnTo>
                  <a:lnTo>
                    <a:pt x="411" y="37"/>
                  </a:lnTo>
                  <a:lnTo>
                    <a:pt x="411" y="37"/>
                  </a:lnTo>
                  <a:lnTo>
                    <a:pt x="411" y="35"/>
                  </a:lnTo>
                  <a:lnTo>
                    <a:pt x="411" y="35"/>
                  </a:lnTo>
                  <a:close/>
                  <a:moveTo>
                    <a:pt x="4" y="1905"/>
                  </a:moveTo>
                  <a:lnTo>
                    <a:pt x="6" y="1907"/>
                  </a:lnTo>
                  <a:lnTo>
                    <a:pt x="54" y="1913"/>
                  </a:lnTo>
                  <a:lnTo>
                    <a:pt x="103" y="1917"/>
                  </a:lnTo>
                  <a:lnTo>
                    <a:pt x="151" y="1917"/>
                  </a:lnTo>
                  <a:lnTo>
                    <a:pt x="201" y="1917"/>
                  </a:lnTo>
                  <a:lnTo>
                    <a:pt x="249" y="1913"/>
                  </a:lnTo>
                  <a:lnTo>
                    <a:pt x="297" y="1907"/>
                  </a:lnTo>
                  <a:lnTo>
                    <a:pt x="345" y="1898"/>
                  </a:lnTo>
                  <a:lnTo>
                    <a:pt x="382" y="1890"/>
                  </a:lnTo>
                  <a:lnTo>
                    <a:pt x="382" y="1888"/>
                  </a:lnTo>
                  <a:lnTo>
                    <a:pt x="380" y="1888"/>
                  </a:lnTo>
                  <a:lnTo>
                    <a:pt x="380" y="1886"/>
                  </a:lnTo>
                  <a:lnTo>
                    <a:pt x="380" y="1884"/>
                  </a:lnTo>
                  <a:lnTo>
                    <a:pt x="380" y="1884"/>
                  </a:lnTo>
                  <a:lnTo>
                    <a:pt x="380" y="1882"/>
                  </a:lnTo>
                  <a:lnTo>
                    <a:pt x="380" y="1880"/>
                  </a:lnTo>
                  <a:lnTo>
                    <a:pt x="380" y="1880"/>
                  </a:lnTo>
                  <a:lnTo>
                    <a:pt x="343" y="1888"/>
                  </a:lnTo>
                  <a:lnTo>
                    <a:pt x="297" y="1896"/>
                  </a:lnTo>
                  <a:lnTo>
                    <a:pt x="249" y="1902"/>
                  </a:lnTo>
                  <a:lnTo>
                    <a:pt x="201" y="1905"/>
                  </a:lnTo>
                  <a:lnTo>
                    <a:pt x="151" y="1907"/>
                  </a:lnTo>
                  <a:lnTo>
                    <a:pt x="103" y="1905"/>
                  </a:lnTo>
                  <a:lnTo>
                    <a:pt x="55" y="1902"/>
                  </a:lnTo>
                  <a:lnTo>
                    <a:pt x="7" y="1896"/>
                  </a:lnTo>
                  <a:lnTo>
                    <a:pt x="0" y="1896"/>
                  </a:lnTo>
                  <a:lnTo>
                    <a:pt x="2" y="1896"/>
                  </a:lnTo>
                  <a:lnTo>
                    <a:pt x="2" y="1898"/>
                  </a:lnTo>
                  <a:lnTo>
                    <a:pt x="2" y="1900"/>
                  </a:lnTo>
                  <a:lnTo>
                    <a:pt x="2" y="1902"/>
                  </a:lnTo>
                  <a:lnTo>
                    <a:pt x="2" y="1902"/>
                  </a:lnTo>
                  <a:lnTo>
                    <a:pt x="4" y="1903"/>
                  </a:lnTo>
                  <a:lnTo>
                    <a:pt x="4" y="1905"/>
                  </a:lnTo>
                  <a:lnTo>
                    <a:pt x="4" y="1905"/>
                  </a:lnTo>
                  <a:close/>
                </a:path>
              </a:pathLst>
            </a:custGeom>
            <a:solidFill>
              <a:srgbClr val="45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79"/>
            <p:cNvSpPr/>
            <p:nvPr/>
          </p:nvSpPr>
          <p:spPr>
            <a:xfrm>
              <a:off x="2144880" y="1644480"/>
              <a:ext cx="655560" cy="30304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413" h="1909">
                  <a:moveTo>
                    <a:pt x="413" y="34"/>
                  </a:moveTo>
                  <a:lnTo>
                    <a:pt x="393" y="29"/>
                  </a:lnTo>
                  <a:lnTo>
                    <a:pt x="347" y="19"/>
                  </a:lnTo>
                  <a:lnTo>
                    <a:pt x="299" y="10"/>
                  </a:lnTo>
                  <a:lnTo>
                    <a:pt x="251" y="4"/>
                  </a:lnTo>
                  <a:lnTo>
                    <a:pt x="203" y="0"/>
                  </a:lnTo>
                  <a:lnTo>
                    <a:pt x="196" y="0"/>
                  </a:lnTo>
                  <a:lnTo>
                    <a:pt x="196" y="2"/>
                  </a:lnTo>
                  <a:lnTo>
                    <a:pt x="194" y="2"/>
                  </a:lnTo>
                  <a:lnTo>
                    <a:pt x="194" y="4"/>
                  </a:lnTo>
                  <a:lnTo>
                    <a:pt x="194" y="6"/>
                  </a:lnTo>
                  <a:lnTo>
                    <a:pt x="192" y="6"/>
                  </a:lnTo>
                  <a:lnTo>
                    <a:pt x="192" y="8"/>
                  </a:lnTo>
                  <a:lnTo>
                    <a:pt x="190" y="10"/>
                  </a:lnTo>
                  <a:lnTo>
                    <a:pt x="190" y="10"/>
                  </a:lnTo>
                  <a:lnTo>
                    <a:pt x="203" y="11"/>
                  </a:lnTo>
                  <a:lnTo>
                    <a:pt x="251" y="13"/>
                  </a:lnTo>
                  <a:lnTo>
                    <a:pt x="297" y="21"/>
                  </a:lnTo>
                  <a:lnTo>
                    <a:pt x="343" y="29"/>
                  </a:lnTo>
                  <a:lnTo>
                    <a:pt x="389" y="38"/>
                  </a:lnTo>
                  <a:lnTo>
                    <a:pt x="409" y="44"/>
                  </a:lnTo>
                  <a:lnTo>
                    <a:pt x="409" y="44"/>
                  </a:lnTo>
                  <a:lnTo>
                    <a:pt x="409" y="42"/>
                  </a:lnTo>
                  <a:lnTo>
                    <a:pt x="409" y="42"/>
                  </a:lnTo>
                  <a:lnTo>
                    <a:pt x="411" y="40"/>
                  </a:lnTo>
                  <a:lnTo>
                    <a:pt x="411" y="40"/>
                  </a:lnTo>
                  <a:lnTo>
                    <a:pt x="411" y="38"/>
                  </a:lnTo>
                  <a:lnTo>
                    <a:pt x="411" y="38"/>
                  </a:lnTo>
                  <a:lnTo>
                    <a:pt x="413" y="38"/>
                  </a:lnTo>
                  <a:lnTo>
                    <a:pt x="413" y="36"/>
                  </a:lnTo>
                  <a:lnTo>
                    <a:pt x="413" y="36"/>
                  </a:lnTo>
                  <a:lnTo>
                    <a:pt x="413" y="36"/>
                  </a:lnTo>
                  <a:lnTo>
                    <a:pt x="413" y="36"/>
                  </a:lnTo>
                  <a:lnTo>
                    <a:pt x="413" y="36"/>
                  </a:lnTo>
                  <a:lnTo>
                    <a:pt x="413" y="36"/>
                  </a:lnTo>
                  <a:lnTo>
                    <a:pt x="413" y="34"/>
                  </a:lnTo>
                  <a:lnTo>
                    <a:pt x="413" y="34"/>
                  </a:lnTo>
                  <a:close/>
                  <a:moveTo>
                    <a:pt x="4" y="1898"/>
                  </a:moveTo>
                  <a:lnTo>
                    <a:pt x="9" y="1898"/>
                  </a:lnTo>
                  <a:lnTo>
                    <a:pt x="56" y="1903"/>
                  </a:lnTo>
                  <a:lnTo>
                    <a:pt x="105" y="1907"/>
                  </a:lnTo>
                  <a:lnTo>
                    <a:pt x="153" y="1909"/>
                  </a:lnTo>
                  <a:lnTo>
                    <a:pt x="203" y="1907"/>
                  </a:lnTo>
                  <a:lnTo>
                    <a:pt x="251" y="1903"/>
                  </a:lnTo>
                  <a:lnTo>
                    <a:pt x="299" y="1898"/>
                  </a:lnTo>
                  <a:lnTo>
                    <a:pt x="347" y="1890"/>
                  </a:lnTo>
                  <a:lnTo>
                    <a:pt x="382" y="1880"/>
                  </a:lnTo>
                  <a:lnTo>
                    <a:pt x="382" y="1880"/>
                  </a:lnTo>
                  <a:lnTo>
                    <a:pt x="382" y="1878"/>
                  </a:lnTo>
                  <a:lnTo>
                    <a:pt x="382" y="1876"/>
                  </a:lnTo>
                  <a:lnTo>
                    <a:pt x="382" y="1876"/>
                  </a:lnTo>
                  <a:lnTo>
                    <a:pt x="382" y="1874"/>
                  </a:lnTo>
                  <a:lnTo>
                    <a:pt x="382" y="1873"/>
                  </a:lnTo>
                  <a:lnTo>
                    <a:pt x="380" y="1873"/>
                  </a:lnTo>
                  <a:lnTo>
                    <a:pt x="380" y="1871"/>
                  </a:lnTo>
                  <a:lnTo>
                    <a:pt x="343" y="1878"/>
                  </a:lnTo>
                  <a:lnTo>
                    <a:pt x="297" y="1888"/>
                  </a:lnTo>
                  <a:lnTo>
                    <a:pt x="251" y="1894"/>
                  </a:lnTo>
                  <a:lnTo>
                    <a:pt x="203" y="1898"/>
                  </a:lnTo>
                  <a:lnTo>
                    <a:pt x="153" y="1898"/>
                  </a:lnTo>
                  <a:lnTo>
                    <a:pt x="105" y="1898"/>
                  </a:lnTo>
                  <a:lnTo>
                    <a:pt x="57" y="1894"/>
                  </a:lnTo>
                  <a:lnTo>
                    <a:pt x="9" y="1888"/>
                  </a:lnTo>
                  <a:lnTo>
                    <a:pt x="0" y="1886"/>
                  </a:lnTo>
                  <a:lnTo>
                    <a:pt x="2" y="1888"/>
                  </a:lnTo>
                  <a:lnTo>
                    <a:pt x="2" y="1888"/>
                  </a:lnTo>
                  <a:lnTo>
                    <a:pt x="2" y="1890"/>
                  </a:lnTo>
                  <a:lnTo>
                    <a:pt x="2" y="1892"/>
                  </a:lnTo>
                  <a:lnTo>
                    <a:pt x="4" y="1892"/>
                  </a:lnTo>
                  <a:lnTo>
                    <a:pt x="4" y="1894"/>
                  </a:lnTo>
                  <a:lnTo>
                    <a:pt x="4" y="1896"/>
                  </a:lnTo>
                  <a:lnTo>
                    <a:pt x="4" y="1898"/>
                  </a:lnTo>
                  <a:close/>
                </a:path>
              </a:pathLst>
            </a:custGeom>
            <a:solidFill>
              <a:srgbClr val="46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80"/>
            <p:cNvSpPr/>
            <p:nvPr/>
          </p:nvSpPr>
          <p:spPr>
            <a:xfrm>
              <a:off x="2144880" y="1653840"/>
              <a:ext cx="652320" cy="3011760"/>
            </a:xfrm>
            <a:custGeom>
              <a:avLst/>
              <a:gdLst>
                <a:gd name="textAreaLeft" fmla="*/ 0 w 652320"/>
                <a:gd name="textAreaRight" fmla="*/ 652320 w 652320"/>
                <a:gd name="textAreaTop" fmla="*/ 0 h 3011760"/>
                <a:gd name="textAreaBottom" fmla="*/ 3012120 h 3011760"/>
              </a:gdLst>
              <a:ahLst/>
              <a:rect l="textAreaLeft" t="textAreaTop" r="textAreaRight" b="textAreaBottom"/>
              <a:pathLst>
                <a:path w="411" h="1897">
                  <a:moveTo>
                    <a:pt x="411" y="34"/>
                  </a:moveTo>
                  <a:lnTo>
                    <a:pt x="391" y="28"/>
                  </a:lnTo>
                  <a:lnTo>
                    <a:pt x="345" y="17"/>
                  </a:lnTo>
                  <a:lnTo>
                    <a:pt x="299" y="9"/>
                  </a:lnTo>
                  <a:lnTo>
                    <a:pt x="251" y="4"/>
                  </a:lnTo>
                  <a:lnTo>
                    <a:pt x="203" y="0"/>
                  </a:lnTo>
                  <a:lnTo>
                    <a:pt x="194" y="0"/>
                  </a:lnTo>
                  <a:lnTo>
                    <a:pt x="192" y="0"/>
                  </a:lnTo>
                  <a:lnTo>
                    <a:pt x="192" y="2"/>
                  </a:lnTo>
                  <a:lnTo>
                    <a:pt x="190" y="4"/>
                  </a:lnTo>
                  <a:lnTo>
                    <a:pt x="190" y="4"/>
                  </a:lnTo>
                  <a:lnTo>
                    <a:pt x="190" y="5"/>
                  </a:lnTo>
                  <a:lnTo>
                    <a:pt x="188" y="7"/>
                  </a:lnTo>
                  <a:lnTo>
                    <a:pt x="188" y="7"/>
                  </a:lnTo>
                  <a:lnTo>
                    <a:pt x="186" y="9"/>
                  </a:lnTo>
                  <a:lnTo>
                    <a:pt x="203" y="9"/>
                  </a:lnTo>
                  <a:lnTo>
                    <a:pt x="249" y="13"/>
                  </a:lnTo>
                  <a:lnTo>
                    <a:pt x="297" y="19"/>
                  </a:lnTo>
                  <a:lnTo>
                    <a:pt x="343" y="28"/>
                  </a:lnTo>
                  <a:lnTo>
                    <a:pt x="389" y="38"/>
                  </a:lnTo>
                  <a:lnTo>
                    <a:pt x="405" y="42"/>
                  </a:lnTo>
                  <a:lnTo>
                    <a:pt x="405" y="42"/>
                  </a:lnTo>
                  <a:lnTo>
                    <a:pt x="407" y="40"/>
                  </a:lnTo>
                  <a:lnTo>
                    <a:pt x="407" y="40"/>
                  </a:lnTo>
                  <a:lnTo>
                    <a:pt x="409" y="38"/>
                  </a:lnTo>
                  <a:lnTo>
                    <a:pt x="409" y="36"/>
                  </a:lnTo>
                  <a:lnTo>
                    <a:pt x="409" y="36"/>
                  </a:lnTo>
                  <a:lnTo>
                    <a:pt x="411" y="34"/>
                  </a:lnTo>
                  <a:lnTo>
                    <a:pt x="411" y="34"/>
                  </a:lnTo>
                  <a:close/>
                  <a:moveTo>
                    <a:pt x="2" y="1886"/>
                  </a:moveTo>
                  <a:lnTo>
                    <a:pt x="9" y="1886"/>
                  </a:lnTo>
                  <a:lnTo>
                    <a:pt x="57" y="1892"/>
                  </a:lnTo>
                  <a:lnTo>
                    <a:pt x="105" y="1895"/>
                  </a:lnTo>
                  <a:lnTo>
                    <a:pt x="153" y="1897"/>
                  </a:lnTo>
                  <a:lnTo>
                    <a:pt x="203" y="1895"/>
                  </a:lnTo>
                  <a:lnTo>
                    <a:pt x="251" y="1892"/>
                  </a:lnTo>
                  <a:lnTo>
                    <a:pt x="299" y="1886"/>
                  </a:lnTo>
                  <a:lnTo>
                    <a:pt x="345" y="1878"/>
                  </a:lnTo>
                  <a:lnTo>
                    <a:pt x="382" y="1870"/>
                  </a:lnTo>
                  <a:lnTo>
                    <a:pt x="382" y="1868"/>
                  </a:lnTo>
                  <a:lnTo>
                    <a:pt x="382" y="1867"/>
                  </a:lnTo>
                  <a:lnTo>
                    <a:pt x="380" y="1867"/>
                  </a:lnTo>
                  <a:lnTo>
                    <a:pt x="380" y="1865"/>
                  </a:lnTo>
                  <a:lnTo>
                    <a:pt x="380" y="1863"/>
                  </a:lnTo>
                  <a:lnTo>
                    <a:pt x="380" y="1863"/>
                  </a:lnTo>
                  <a:lnTo>
                    <a:pt x="380" y="1861"/>
                  </a:lnTo>
                  <a:lnTo>
                    <a:pt x="380" y="1859"/>
                  </a:lnTo>
                  <a:lnTo>
                    <a:pt x="343" y="1868"/>
                  </a:lnTo>
                  <a:lnTo>
                    <a:pt x="297" y="1876"/>
                  </a:lnTo>
                  <a:lnTo>
                    <a:pt x="249" y="1882"/>
                  </a:lnTo>
                  <a:lnTo>
                    <a:pt x="203" y="1886"/>
                  </a:lnTo>
                  <a:lnTo>
                    <a:pt x="153" y="1888"/>
                  </a:lnTo>
                  <a:lnTo>
                    <a:pt x="105" y="1886"/>
                  </a:lnTo>
                  <a:lnTo>
                    <a:pt x="57" y="1882"/>
                  </a:lnTo>
                  <a:lnTo>
                    <a:pt x="11" y="1876"/>
                  </a:lnTo>
                  <a:lnTo>
                    <a:pt x="0" y="1874"/>
                  </a:lnTo>
                  <a:lnTo>
                    <a:pt x="0" y="1876"/>
                  </a:lnTo>
                  <a:lnTo>
                    <a:pt x="0" y="1876"/>
                  </a:lnTo>
                  <a:lnTo>
                    <a:pt x="0" y="1878"/>
                  </a:lnTo>
                  <a:lnTo>
                    <a:pt x="0" y="1880"/>
                  </a:lnTo>
                  <a:lnTo>
                    <a:pt x="2" y="1882"/>
                  </a:lnTo>
                  <a:lnTo>
                    <a:pt x="2" y="1882"/>
                  </a:lnTo>
                  <a:lnTo>
                    <a:pt x="2" y="1884"/>
                  </a:lnTo>
                  <a:lnTo>
                    <a:pt x="2" y="1886"/>
                  </a:lnTo>
                  <a:close/>
                </a:path>
              </a:pathLst>
            </a:custGeom>
            <a:solidFill>
              <a:srgbClr val="47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81"/>
            <p:cNvSpPr/>
            <p:nvPr/>
          </p:nvSpPr>
          <p:spPr>
            <a:xfrm>
              <a:off x="2141640" y="1660320"/>
              <a:ext cx="652320" cy="2997360"/>
            </a:xfrm>
            <a:custGeom>
              <a:avLst/>
              <a:gdLst>
                <a:gd name="textAreaLeft" fmla="*/ 0 w 652320"/>
                <a:gd name="textAreaRight" fmla="*/ 652320 w 652320"/>
                <a:gd name="textAreaTop" fmla="*/ 0 h 2997360"/>
                <a:gd name="textAreaBottom" fmla="*/ 2997720 h 2997360"/>
              </a:gdLst>
              <a:ahLst/>
              <a:rect l="textAreaLeft" t="textAreaTop" r="textAreaRight" b="textAreaBottom"/>
              <a:pathLst>
                <a:path w="411" h="1888">
                  <a:moveTo>
                    <a:pt x="411" y="34"/>
                  </a:moveTo>
                  <a:lnTo>
                    <a:pt x="391" y="28"/>
                  </a:lnTo>
                  <a:lnTo>
                    <a:pt x="345" y="19"/>
                  </a:lnTo>
                  <a:lnTo>
                    <a:pt x="299" y="11"/>
                  </a:lnTo>
                  <a:lnTo>
                    <a:pt x="253" y="3"/>
                  </a:lnTo>
                  <a:lnTo>
                    <a:pt x="205" y="1"/>
                  </a:lnTo>
                  <a:lnTo>
                    <a:pt x="192" y="0"/>
                  </a:lnTo>
                  <a:lnTo>
                    <a:pt x="192" y="1"/>
                  </a:lnTo>
                  <a:lnTo>
                    <a:pt x="190" y="3"/>
                  </a:lnTo>
                  <a:lnTo>
                    <a:pt x="190" y="3"/>
                  </a:lnTo>
                  <a:lnTo>
                    <a:pt x="188" y="5"/>
                  </a:lnTo>
                  <a:lnTo>
                    <a:pt x="188" y="7"/>
                  </a:lnTo>
                  <a:lnTo>
                    <a:pt x="188" y="7"/>
                  </a:lnTo>
                  <a:lnTo>
                    <a:pt x="186" y="9"/>
                  </a:lnTo>
                  <a:lnTo>
                    <a:pt x="186" y="11"/>
                  </a:lnTo>
                  <a:lnTo>
                    <a:pt x="203" y="11"/>
                  </a:lnTo>
                  <a:lnTo>
                    <a:pt x="251" y="15"/>
                  </a:lnTo>
                  <a:lnTo>
                    <a:pt x="297" y="21"/>
                  </a:lnTo>
                  <a:lnTo>
                    <a:pt x="344" y="28"/>
                  </a:lnTo>
                  <a:lnTo>
                    <a:pt x="390" y="40"/>
                  </a:lnTo>
                  <a:lnTo>
                    <a:pt x="405" y="44"/>
                  </a:lnTo>
                  <a:lnTo>
                    <a:pt x="405" y="42"/>
                  </a:lnTo>
                  <a:lnTo>
                    <a:pt x="405" y="42"/>
                  </a:lnTo>
                  <a:lnTo>
                    <a:pt x="407" y="40"/>
                  </a:lnTo>
                  <a:lnTo>
                    <a:pt x="407" y="38"/>
                  </a:lnTo>
                  <a:lnTo>
                    <a:pt x="407" y="38"/>
                  </a:lnTo>
                  <a:lnTo>
                    <a:pt x="409" y="36"/>
                  </a:lnTo>
                  <a:lnTo>
                    <a:pt x="409" y="36"/>
                  </a:lnTo>
                  <a:lnTo>
                    <a:pt x="411" y="34"/>
                  </a:lnTo>
                  <a:close/>
                  <a:moveTo>
                    <a:pt x="2" y="1876"/>
                  </a:moveTo>
                  <a:lnTo>
                    <a:pt x="11" y="1878"/>
                  </a:lnTo>
                  <a:lnTo>
                    <a:pt x="59" y="1884"/>
                  </a:lnTo>
                  <a:lnTo>
                    <a:pt x="107" y="1888"/>
                  </a:lnTo>
                  <a:lnTo>
                    <a:pt x="155" y="1888"/>
                  </a:lnTo>
                  <a:lnTo>
                    <a:pt x="205" y="1888"/>
                  </a:lnTo>
                  <a:lnTo>
                    <a:pt x="253" y="1884"/>
                  </a:lnTo>
                  <a:lnTo>
                    <a:pt x="299" y="1878"/>
                  </a:lnTo>
                  <a:lnTo>
                    <a:pt x="345" y="1868"/>
                  </a:lnTo>
                  <a:lnTo>
                    <a:pt x="382" y="1861"/>
                  </a:lnTo>
                  <a:lnTo>
                    <a:pt x="382" y="1859"/>
                  </a:lnTo>
                  <a:lnTo>
                    <a:pt x="382" y="1859"/>
                  </a:lnTo>
                  <a:lnTo>
                    <a:pt x="382" y="1857"/>
                  </a:lnTo>
                  <a:lnTo>
                    <a:pt x="382" y="1855"/>
                  </a:lnTo>
                  <a:lnTo>
                    <a:pt x="382" y="1855"/>
                  </a:lnTo>
                  <a:lnTo>
                    <a:pt x="382" y="1853"/>
                  </a:lnTo>
                  <a:lnTo>
                    <a:pt x="382" y="1851"/>
                  </a:lnTo>
                  <a:lnTo>
                    <a:pt x="380" y="1851"/>
                  </a:lnTo>
                  <a:lnTo>
                    <a:pt x="344" y="1859"/>
                  </a:lnTo>
                  <a:lnTo>
                    <a:pt x="297" y="1866"/>
                  </a:lnTo>
                  <a:lnTo>
                    <a:pt x="251" y="1872"/>
                  </a:lnTo>
                  <a:lnTo>
                    <a:pt x="203" y="1876"/>
                  </a:lnTo>
                  <a:lnTo>
                    <a:pt x="155" y="1878"/>
                  </a:lnTo>
                  <a:lnTo>
                    <a:pt x="107" y="1876"/>
                  </a:lnTo>
                  <a:lnTo>
                    <a:pt x="61" y="1872"/>
                  </a:lnTo>
                  <a:lnTo>
                    <a:pt x="13" y="1866"/>
                  </a:lnTo>
                  <a:lnTo>
                    <a:pt x="0" y="1864"/>
                  </a:lnTo>
                  <a:lnTo>
                    <a:pt x="0" y="1866"/>
                  </a:lnTo>
                  <a:lnTo>
                    <a:pt x="0" y="1866"/>
                  </a:lnTo>
                  <a:lnTo>
                    <a:pt x="0" y="1868"/>
                  </a:lnTo>
                  <a:lnTo>
                    <a:pt x="2" y="1870"/>
                  </a:lnTo>
                  <a:lnTo>
                    <a:pt x="2" y="1872"/>
                  </a:lnTo>
                  <a:lnTo>
                    <a:pt x="2" y="1872"/>
                  </a:lnTo>
                  <a:lnTo>
                    <a:pt x="2" y="1874"/>
                  </a:lnTo>
                  <a:lnTo>
                    <a:pt x="2" y="1876"/>
                  </a:lnTo>
                  <a:close/>
                </a:path>
              </a:pathLst>
            </a:custGeom>
            <a:solidFill>
              <a:srgbClr val="48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Freeform 82"/>
            <p:cNvSpPr/>
            <p:nvPr/>
          </p:nvSpPr>
          <p:spPr>
            <a:xfrm>
              <a:off x="2138400" y="1668240"/>
              <a:ext cx="649080" cy="2982960"/>
            </a:xfrm>
            <a:custGeom>
              <a:avLst/>
              <a:gdLst>
                <a:gd name="textAreaLeft" fmla="*/ 0 w 649080"/>
                <a:gd name="textAreaRight" fmla="*/ 649080 w 649080"/>
                <a:gd name="textAreaTop" fmla="*/ 0 h 2982960"/>
                <a:gd name="textAreaBottom" fmla="*/ 2983320 h 2982960"/>
              </a:gdLst>
              <a:ahLst/>
              <a:rect l="textAreaLeft" t="textAreaTop" r="textAreaRight" b="textAreaBottom"/>
              <a:pathLst>
                <a:path w="409" h="1879">
                  <a:moveTo>
                    <a:pt x="409" y="33"/>
                  </a:moveTo>
                  <a:lnTo>
                    <a:pt x="393" y="29"/>
                  </a:lnTo>
                  <a:lnTo>
                    <a:pt x="347" y="19"/>
                  </a:lnTo>
                  <a:lnTo>
                    <a:pt x="301" y="10"/>
                  </a:lnTo>
                  <a:lnTo>
                    <a:pt x="253" y="4"/>
                  </a:lnTo>
                  <a:lnTo>
                    <a:pt x="207" y="0"/>
                  </a:lnTo>
                  <a:lnTo>
                    <a:pt x="190" y="0"/>
                  </a:lnTo>
                  <a:lnTo>
                    <a:pt x="190" y="2"/>
                  </a:lnTo>
                  <a:lnTo>
                    <a:pt x="190" y="2"/>
                  </a:lnTo>
                  <a:lnTo>
                    <a:pt x="188" y="4"/>
                  </a:lnTo>
                  <a:lnTo>
                    <a:pt x="188" y="6"/>
                  </a:lnTo>
                  <a:lnTo>
                    <a:pt x="186" y="6"/>
                  </a:lnTo>
                  <a:lnTo>
                    <a:pt x="186" y="8"/>
                  </a:lnTo>
                  <a:lnTo>
                    <a:pt x="186" y="10"/>
                  </a:lnTo>
                  <a:lnTo>
                    <a:pt x="184" y="10"/>
                  </a:lnTo>
                  <a:lnTo>
                    <a:pt x="205" y="12"/>
                  </a:lnTo>
                  <a:lnTo>
                    <a:pt x="253" y="14"/>
                  </a:lnTo>
                  <a:lnTo>
                    <a:pt x="299" y="21"/>
                  </a:lnTo>
                  <a:lnTo>
                    <a:pt x="346" y="29"/>
                  </a:lnTo>
                  <a:lnTo>
                    <a:pt x="390" y="39"/>
                  </a:lnTo>
                  <a:lnTo>
                    <a:pt x="403" y="42"/>
                  </a:lnTo>
                  <a:lnTo>
                    <a:pt x="405" y="42"/>
                  </a:lnTo>
                  <a:lnTo>
                    <a:pt x="405" y="41"/>
                  </a:lnTo>
                  <a:lnTo>
                    <a:pt x="405" y="39"/>
                  </a:lnTo>
                  <a:lnTo>
                    <a:pt x="407" y="39"/>
                  </a:lnTo>
                  <a:lnTo>
                    <a:pt x="407" y="37"/>
                  </a:lnTo>
                  <a:lnTo>
                    <a:pt x="407" y="37"/>
                  </a:lnTo>
                  <a:lnTo>
                    <a:pt x="409" y="35"/>
                  </a:lnTo>
                  <a:lnTo>
                    <a:pt x="409" y="33"/>
                  </a:lnTo>
                  <a:close/>
                  <a:moveTo>
                    <a:pt x="4" y="1865"/>
                  </a:moveTo>
                  <a:lnTo>
                    <a:pt x="15" y="1867"/>
                  </a:lnTo>
                  <a:lnTo>
                    <a:pt x="61" y="1873"/>
                  </a:lnTo>
                  <a:lnTo>
                    <a:pt x="109" y="1877"/>
                  </a:lnTo>
                  <a:lnTo>
                    <a:pt x="157" y="1879"/>
                  </a:lnTo>
                  <a:lnTo>
                    <a:pt x="207" y="1877"/>
                  </a:lnTo>
                  <a:lnTo>
                    <a:pt x="253" y="1873"/>
                  </a:lnTo>
                  <a:lnTo>
                    <a:pt x="301" y="1867"/>
                  </a:lnTo>
                  <a:lnTo>
                    <a:pt x="347" y="1859"/>
                  </a:lnTo>
                  <a:lnTo>
                    <a:pt x="384" y="1850"/>
                  </a:lnTo>
                  <a:lnTo>
                    <a:pt x="384" y="1850"/>
                  </a:lnTo>
                  <a:lnTo>
                    <a:pt x="384" y="1848"/>
                  </a:lnTo>
                  <a:lnTo>
                    <a:pt x="384" y="1846"/>
                  </a:lnTo>
                  <a:lnTo>
                    <a:pt x="382" y="1846"/>
                  </a:lnTo>
                  <a:lnTo>
                    <a:pt x="382" y="1844"/>
                  </a:lnTo>
                  <a:lnTo>
                    <a:pt x="382" y="1842"/>
                  </a:lnTo>
                  <a:lnTo>
                    <a:pt x="382" y="1842"/>
                  </a:lnTo>
                  <a:lnTo>
                    <a:pt x="382" y="1840"/>
                  </a:lnTo>
                  <a:lnTo>
                    <a:pt x="346" y="1848"/>
                  </a:lnTo>
                  <a:lnTo>
                    <a:pt x="299" y="1858"/>
                  </a:lnTo>
                  <a:lnTo>
                    <a:pt x="253" y="1863"/>
                  </a:lnTo>
                  <a:lnTo>
                    <a:pt x="205" y="1867"/>
                  </a:lnTo>
                  <a:lnTo>
                    <a:pt x="157" y="1867"/>
                  </a:lnTo>
                  <a:lnTo>
                    <a:pt x="109" y="1867"/>
                  </a:lnTo>
                  <a:lnTo>
                    <a:pt x="63" y="1863"/>
                  </a:lnTo>
                  <a:lnTo>
                    <a:pt x="17" y="1858"/>
                  </a:lnTo>
                  <a:lnTo>
                    <a:pt x="0" y="1854"/>
                  </a:lnTo>
                  <a:lnTo>
                    <a:pt x="0" y="1856"/>
                  </a:lnTo>
                  <a:lnTo>
                    <a:pt x="0" y="1858"/>
                  </a:lnTo>
                  <a:lnTo>
                    <a:pt x="0" y="1858"/>
                  </a:lnTo>
                  <a:lnTo>
                    <a:pt x="2" y="1859"/>
                  </a:lnTo>
                  <a:lnTo>
                    <a:pt x="2" y="1861"/>
                  </a:lnTo>
                  <a:lnTo>
                    <a:pt x="2" y="1861"/>
                  </a:lnTo>
                  <a:lnTo>
                    <a:pt x="2" y="1863"/>
                  </a:lnTo>
                  <a:lnTo>
                    <a:pt x="4" y="1865"/>
                  </a:lnTo>
                  <a:close/>
                </a:path>
              </a:pathLst>
            </a:custGeom>
            <a:solidFill>
              <a:srgbClr val="49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83"/>
            <p:cNvSpPr/>
            <p:nvPr/>
          </p:nvSpPr>
          <p:spPr>
            <a:xfrm>
              <a:off x="2135160" y="1677960"/>
              <a:ext cx="649440" cy="296388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2963880"/>
                <a:gd name="textAreaBottom" fmla="*/ 2964240 h 2963880"/>
              </a:gdLst>
              <a:ahLst/>
              <a:rect l="textAreaLeft" t="textAreaTop" r="textAreaRight" b="textAreaBottom"/>
              <a:pathLst>
                <a:path w="409" h="1867">
                  <a:moveTo>
                    <a:pt x="409" y="33"/>
                  </a:moveTo>
                  <a:lnTo>
                    <a:pt x="394" y="29"/>
                  </a:lnTo>
                  <a:lnTo>
                    <a:pt x="348" y="17"/>
                  </a:lnTo>
                  <a:lnTo>
                    <a:pt x="301" y="10"/>
                  </a:lnTo>
                  <a:lnTo>
                    <a:pt x="255" y="4"/>
                  </a:lnTo>
                  <a:lnTo>
                    <a:pt x="207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88" y="2"/>
                  </a:lnTo>
                  <a:lnTo>
                    <a:pt x="188" y="4"/>
                  </a:lnTo>
                  <a:lnTo>
                    <a:pt x="186" y="4"/>
                  </a:lnTo>
                  <a:lnTo>
                    <a:pt x="186" y="6"/>
                  </a:lnTo>
                  <a:lnTo>
                    <a:pt x="184" y="8"/>
                  </a:lnTo>
                  <a:lnTo>
                    <a:pt x="184" y="8"/>
                  </a:lnTo>
                  <a:lnTo>
                    <a:pt x="184" y="10"/>
                  </a:lnTo>
                  <a:lnTo>
                    <a:pt x="207" y="10"/>
                  </a:lnTo>
                  <a:lnTo>
                    <a:pt x="255" y="13"/>
                  </a:lnTo>
                  <a:lnTo>
                    <a:pt x="301" y="19"/>
                  </a:lnTo>
                  <a:lnTo>
                    <a:pt x="346" y="27"/>
                  </a:lnTo>
                  <a:lnTo>
                    <a:pt x="392" y="38"/>
                  </a:lnTo>
                  <a:lnTo>
                    <a:pt x="403" y="42"/>
                  </a:lnTo>
                  <a:lnTo>
                    <a:pt x="403" y="40"/>
                  </a:lnTo>
                  <a:lnTo>
                    <a:pt x="405" y="38"/>
                  </a:lnTo>
                  <a:lnTo>
                    <a:pt x="405" y="38"/>
                  </a:lnTo>
                  <a:lnTo>
                    <a:pt x="405" y="36"/>
                  </a:lnTo>
                  <a:lnTo>
                    <a:pt x="407" y="36"/>
                  </a:lnTo>
                  <a:lnTo>
                    <a:pt x="407" y="35"/>
                  </a:lnTo>
                  <a:lnTo>
                    <a:pt x="407" y="33"/>
                  </a:lnTo>
                  <a:lnTo>
                    <a:pt x="409" y="33"/>
                  </a:lnTo>
                  <a:close/>
                  <a:moveTo>
                    <a:pt x="4" y="1853"/>
                  </a:moveTo>
                  <a:lnTo>
                    <a:pt x="17" y="1855"/>
                  </a:lnTo>
                  <a:lnTo>
                    <a:pt x="65" y="1861"/>
                  </a:lnTo>
                  <a:lnTo>
                    <a:pt x="111" y="1865"/>
                  </a:lnTo>
                  <a:lnTo>
                    <a:pt x="159" y="1867"/>
                  </a:lnTo>
                  <a:lnTo>
                    <a:pt x="207" y="1865"/>
                  </a:lnTo>
                  <a:lnTo>
                    <a:pt x="255" y="1861"/>
                  </a:lnTo>
                  <a:lnTo>
                    <a:pt x="301" y="1855"/>
                  </a:lnTo>
                  <a:lnTo>
                    <a:pt x="348" y="1848"/>
                  </a:lnTo>
                  <a:lnTo>
                    <a:pt x="384" y="1840"/>
                  </a:lnTo>
                  <a:lnTo>
                    <a:pt x="384" y="1838"/>
                  </a:lnTo>
                  <a:lnTo>
                    <a:pt x="384" y="1836"/>
                  </a:lnTo>
                  <a:lnTo>
                    <a:pt x="384" y="1836"/>
                  </a:lnTo>
                  <a:lnTo>
                    <a:pt x="384" y="1834"/>
                  </a:lnTo>
                  <a:lnTo>
                    <a:pt x="384" y="1832"/>
                  </a:lnTo>
                  <a:lnTo>
                    <a:pt x="384" y="1832"/>
                  </a:lnTo>
                  <a:lnTo>
                    <a:pt x="384" y="1830"/>
                  </a:lnTo>
                  <a:lnTo>
                    <a:pt x="382" y="1829"/>
                  </a:lnTo>
                  <a:lnTo>
                    <a:pt x="346" y="1838"/>
                  </a:lnTo>
                  <a:lnTo>
                    <a:pt x="301" y="1846"/>
                  </a:lnTo>
                  <a:lnTo>
                    <a:pt x="255" y="1852"/>
                  </a:lnTo>
                  <a:lnTo>
                    <a:pt x="207" y="1855"/>
                  </a:lnTo>
                  <a:lnTo>
                    <a:pt x="159" y="1857"/>
                  </a:lnTo>
                  <a:lnTo>
                    <a:pt x="113" y="1855"/>
                  </a:lnTo>
                  <a:lnTo>
                    <a:pt x="65" y="1852"/>
                  </a:lnTo>
                  <a:lnTo>
                    <a:pt x="19" y="1846"/>
                  </a:lnTo>
                  <a:lnTo>
                    <a:pt x="0" y="1842"/>
                  </a:lnTo>
                  <a:lnTo>
                    <a:pt x="0" y="1844"/>
                  </a:lnTo>
                  <a:lnTo>
                    <a:pt x="0" y="1846"/>
                  </a:lnTo>
                  <a:lnTo>
                    <a:pt x="0" y="1846"/>
                  </a:lnTo>
                  <a:lnTo>
                    <a:pt x="2" y="1848"/>
                  </a:lnTo>
                  <a:lnTo>
                    <a:pt x="2" y="1850"/>
                  </a:lnTo>
                  <a:lnTo>
                    <a:pt x="2" y="1852"/>
                  </a:lnTo>
                  <a:lnTo>
                    <a:pt x="2" y="1852"/>
                  </a:lnTo>
                  <a:lnTo>
                    <a:pt x="4" y="1853"/>
                  </a:lnTo>
                  <a:close/>
                </a:path>
              </a:pathLst>
            </a:custGeom>
            <a:solidFill>
              <a:srgbClr val="4a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84"/>
            <p:cNvSpPr/>
            <p:nvPr/>
          </p:nvSpPr>
          <p:spPr>
            <a:xfrm>
              <a:off x="2131920" y="1684080"/>
              <a:ext cx="646200" cy="294804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948040"/>
                <a:gd name="textAreaBottom" fmla="*/ 2948400 h 2948040"/>
              </a:gdLst>
              <a:ahLst/>
              <a:rect l="textAreaLeft" t="textAreaTop" r="textAreaRight" b="textAreaBottom"/>
              <a:pathLst>
                <a:path w="407" h="1857">
                  <a:moveTo>
                    <a:pt x="407" y="32"/>
                  </a:moveTo>
                  <a:lnTo>
                    <a:pt x="394" y="29"/>
                  </a:lnTo>
                  <a:lnTo>
                    <a:pt x="350" y="19"/>
                  </a:lnTo>
                  <a:lnTo>
                    <a:pt x="303" y="11"/>
                  </a:lnTo>
                  <a:lnTo>
                    <a:pt x="257" y="4"/>
                  </a:lnTo>
                  <a:lnTo>
                    <a:pt x="209" y="2"/>
                  </a:lnTo>
                  <a:lnTo>
                    <a:pt x="188" y="0"/>
                  </a:lnTo>
                  <a:lnTo>
                    <a:pt x="188" y="2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6"/>
                  </a:lnTo>
                  <a:lnTo>
                    <a:pt x="184" y="8"/>
                  </a:lnTo>
                  <a:lnTo>
                    <a:pt x="184" y="8"/>
                  </a:lnTo>
                  <a:lnTo>
                    <a:pt x="184" y="9"/>
                  </a:lnTo>
                  <a:lnTo>
                    <a:pt x="183" y="11"/>
                  </a:lnTo>
                  <a:lnTo>
                    <a:pt x="209" y="11"/>
                  </a:lnTo>
                  <a:lnTo>
                    <a:pt x="255" y="15"/>
                  </a:lnTo>
                  <a:lnTo>
                    <a:pt x="302" y="21"/>
                  </a:lnTo>
                  <a:lnTo>
                    <a:pt x="348" y="29"/>
                  </a:lnTo>
                  <a:lnTo>
                    <a:pt x="392" y="38"/>
                  </a:lnTo>
                  <a:lnTo>
                    <a:pt x="401" y="42"/>
                  </a:lnTo>
                  <a:lnTo>
                    <a:pt x="403" y="40"/>
                  </a:lnTo>
                  <a:lnTo>
                    <a:pt x="403" y="40"/>
                  </a:lnTo>
                  <a:lnTo>
                    <a:pt x="405" y="38"/>
                  </a:lnTo>
                  <a:lnTo>
                    <a:pt x="405" y="38"/>
                  </a:lnTo>
                  <a:lnTo>
                    <a:pt x="405" y="36"/>
                  </a:lnTo>
                  <a:lnTo>
                    <a:pt x="407" y="34"/>
                  </a:lnTo>
                  <a:lnTo>
                    <a:pt x="407" y="34"/>
                  </a:lnTo>
                  <a:lnTo>
                    <a:pt x="407" y="32"/>
                  </a:lnTo>
                  <a:close/>
                  <a:moveTo>
                    <a:pt x="4" y="1844"/>
                  </a:moveTo>
                  <a:lnTo>
                    <a:pt x="21" y="1848"/>
                  </a:lnTo>
                  <a:lnTo>
                    <a:pt x="67" y="1853"/>
                  </a:lnTo>
                  <a:lnTo>
                    <a:pt x="113" y="1857"/>
                  </a:lnTo>
                  <a:lnTo>
                    <a:pt x="161" y="1857"/>
                  </a:lnTo>
                  <a:lnTo>
                    <a:pt x="209" y="1857"/>
                  </a:lnTo>
                  <a:lnTo>
                    <a:pt x="257" y="1853"/>
                  </a:lnTo>
                  <a:lnTo>
                    <a:pt x="303" y="1848"/>
                  </a:lnTo>
                  <a:lnTo>
                    <a:pt x="350" y="1838"/>
                  </a:lnTo>
                  <a:lnTo>
                    <a:pt x="386" y="1830"/>
                  </a:lnTo>
                  <a:lnTo>
                    <a:pt x="386" y="1828"/>
                  </a:lnTo>
                  <a:lnTo>
                    <a:pt x="386" y="1828"/>
                  </a:lnTo>
                  <a:lnTo>
                    <a:pt x="386" y="1826"/>
                  </a:lnTo>
                  <a:lnTo>
                    <a:pt x="384" y="1825"/>
                  </a:lnTo>
                  <a:lnTo>
                    <a:pt x="384" y="1825"/>
                  </a:lnTo>
                  <a:lnTo>
                    <a:pt x="384" y="1823"/>
                  </a:lnTo>
                  <a:lnTo>
                    <a:pt x="384" y="1821"/>
                  </a:lnTo>
                  <a:lnTo>
                    <a:pt x="384" y="1821"/>
                  </a:lnTo>
                  <a:lnTo>
                    <a:pt x="348" y="1828"/>
                  </a:lnTo>
                  <a:lnTo>
                    <a:pt x="302" y="1836"/>
                  </a:lnTo>
                  <a:lnTo>
                    <a:pt x="255" y="1844"/>
                  </a:lnTo>
                  <a:lnTo>
                    <a:pt x="209" y="1846"/>
                  </a:lnTo>
                  <a:lnTo>
                    <a:pt x="161" y="1848"/>
                  </a:lnTo>
                  <a:lnTo>
                    <a:pt x="115" y="1846"/>
                  </a:lnTo>
                  <a:lnTo>
                    <a:pt x="67" y="1844"/>
                  </a:lnTo>
                  <a:lnTo>
                    <a:pt x="21" y="1836"/>
                  </a:lnTo>
                  <a:lnTo>
                    <a:pt x="0" y="1832"/>
                  </a:lnTo>
                  <a:lnTo>
                    <a:pt x="0" y="1834"/>
                  </a:lnTo>
                  <a:lnTo>
                    <a:pt x="0" y="1836"/>
                  </a:lnTo>
                  <a:lnTo>
                    <a:pt x="2" y="1838"/>
                  </a:lnTo>
                  <a:lnTo>
                    <a:pt x="2" y="1838"/>
                  </a:lnTo>
                  <a:lnTo>
                    <a:pt x="2" y="1840"/>
                  </a:lnTo>
                  <a:lnTo>
                    <a:pt x="2" y="1842"/>
                  </a:lnTo>
                  <a:lnTo>
                    <a:pt x="2" y="1842"/>
                  </a:lnTo>
                  <a:lnTo>
                    <a:pt x="4" y="1844"/>
                  </a:lnTo>
                  <a:close/>
                </a:path>
              </a:pathLst>
            </a:custGeom>
            <a:solidFill>
              <a:srgbClr val="4b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85"/>
            <p:cNvSpPr/>
            <p:nvPr/>
          </p:nvSpPr>
          <p:spPr>
            <a:xfrm>
              <a:off x="2128680" y="1693800"/>
              <a:ext cx="646200" cy="293184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931840"/>
                <a:gd name="textAreaBottom" fmla="*/ 2931840 h 2931840"/>
              </a:gdLst>
              <a:ahLst/>
              <a:rect l="textAreaLeft" t="textAreaTop" r="textAreaRight" b="textAreaBottom"/>
              <a:pathLst>
                <a:path w="407" h="1847">
                  <a:moveTo>
                    <a:pt x="407" y="32"/>
                  </a:moveTo>
                  <a:lnTo>
                    <a:pt x="396" y="28"/>
                  </a:lnTo>
                  <a:lnTo>
                    <a:pt x="350" y="17"/>
                  </a:lnTo>
                  <a:lnTo>
                    <a:pt x="305" y="9"/>
                  </a:lnTo>
                  <a:lnTo>
                    <a:pt x="259" y="3"/>
                  </a:lnTo>
                  <a:lnTo>
                    <a:pt x="211" y="0"/>
                  </a:lnTo>
                  <a:lnTo>
                    <a:pt x="188" y="0"/>
                  </a:lnTo>
                  <a:lnTo>
                    <a:pt x="186" y="2"/>
                  </a:lnTo>
                  <a:lnTo>
                    <a:pt x="186" y="2"/>
                  </a:lnTo>
                  <a:lnTo>
                    <a:pt x="186" y="3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183" y="7"/>
                  </a:lnTo>
                  <a:lnTo>
                    <a:pt x="183" y="9"/>
                  </a:lnTo>
                  <a:lnTo>
                    <a:pt x="183" y="9"/>
                  </a:lnTo>
                  <a:lnTo>
                    <a:pt x="211" y="11"/>
                  </a:lnTo>
                  <a:lnTo>
                    <a:pt x="257" y="13"/>
                  </a:lnTo>
                  <a:lnTo>
                    <a:pt x="304" y="19"/>
                  </a:lnTo>
                  <a:lnTo>
                    <a:pt x="348" y="28"/>
                  </a:lnTo>
                  <a:lnTo>
                    <a:pt x="392" y="38"/>
                  </a:lnTo>
                  <a:lnTo>
                    <a:pt x="401" y="40"/>
                  </a:lnTo>
                  <a:lnTo>
                    <a:pt x="401" y="40"/>
                  </a:lnTo>
                  <a:lnTo>
                    <a:pt x="403" y="38"/>
                  </a:lnTo>
                  <a:lnTo>
                    <a:pt x="403" y="38"/>
                  </a:lnTo>
                  <a:lnTo>
                    <a:pt x="405" y="36"/>
                  </a:lnTo>
                  <a:lnTo>
                    <a:pt x="405" y="34"/>
                  </a:lnTo>
                  <a:lnTo>
                    <a:pt x="405" y="34"/>
                  </a:lnTo>
                  <a:lnTo>
                    <a:pt x="407" y="32"/>
                  </a:lnTo>
                  <a:lnTo>
                    <a:pt x="407" y="32"/>
                  </a:lnTo>
                  <a:close/>
                  <a:moveTo>
                    <a:pt x="4" y="1832"/>
                  </a:moveTo>
                  <a:lnTo>
                    <a:pt x="23" y="1836"/>
                  </a:lnTo>
                  <a:lnTo>
                    <a:pt x="69" y="1842"/>
                  </a:lnTo>
                  <a:lnTo>
                    <a:pt x="117" y="1845"/>
                  </a:lnTo>
                  <a:lnTo>
                    <a:pt x="163" y="1847"/>
                  </a:lnTo>
                  <a:lnTo>
                    <a:pt x="211" y="1845"/>
                  </a:lnTo>
                  <a:lnTo>
                    <a:pt x="259" y="1842"/>
                  </a:lnTo>
                  <a:lnTo>
                    <a:pt x="305" y="1836"/>
                  </a:lnTo>
                  <a:lnTo>
                    <a:pt x="350" y="1828"/>
                  </a:lnTo>
                  <a:lnTo>
                    <a:pt x="386" y="1819"/>
                  </a:lnTo>
                  <a:lnTo>
                    <a:pt x="386" y="1819"/>
                  </a:lnTo>
                  <a:lnTo>
                    <a:pt x="386" y="1817"/>
                  </a:lnTo>
                  <a:lnTo>
                    <a:pt x="386" y="1815"/>
                  </a:lnTo>
                  <a:lnTo>
                    <a:pt x="386" y="1815"/>
                  </a:lnTo>
                  <a:lnTo>
                    <a:pt x="386" y="1813"/>
                  </a:lnTo>
                  <a:lnTo>
                    <a:pt x="386" y="1813"/>
                  </a:lnTo>
                  <a:lnTo>
                    <a:pt x="386" y="1811"/>
                  </a:lnTo>
                  <a:lnTo>
                    <a:pt x="384" y="1809"/>
                  </a:lnTo>
                  <a:lnTo>
                    <a:pt x="348" y="1819"/>
                  </a:lnTo>
                  <a:lnTo>
                    <a:pt x="304" y="1826"/>
                  </a:lnTo>
                  <a:lnTo>
                    <a:pt x="257" y="1832"/>
                  </a:lnTo>
                  <a:lnTo>
                    <a:pt x="211" y="1836"/>
                  </a:lnTo>
                  <a:lnTo>
                    <a:pt x="163" y="1836"/>
                  </a:lnTo>
                  <a:lnTo>
                    <a:pt x="117" y="1836"/>
                  </a:lnTo>
                  <a:lnTo>
                    <a:pt x="71" y="1832"/>
                  </a:lnTo>
                  <a:lnTo>
                    <a:pt x="25" y="1826"/>
                  </a:lnTo>
                  <a:lnTo>
                    <a:pt x="0" y="1822"/>
                  </a:lnTo>
                  <a:lnTo>
                    <a:pt x="0" y="1822"/>
                  </a:lnTo>
                  <a:lnTo>
                    <a:pt x="0" y="1824"/>
                  </a:lnTo>
                  <a:lnTo>
                    <a:pt x="2" y="1826"/>
                  </a:lnTo>
                  <a:lnTo>
                    <a:pt x="2" y="1826"/>
                  </a:lnTo>
                  <a:lnTo>
                    <a:pt x="2" y="1828"/>
                  </a:lnTo>
                  <a:lnTo>
                    <a:pt x="2" y="1830"/>
                  </a:lnTo>
                  <a:lnTo>
                    <a:pt x="4" y="1832"/>
                  </a:lnTo>
                  <a:lnTo>
                    <a:pt x="4" y="1832"/>
                  </a:lnTo>
                  <a:close/>
                </a:path>
              </a:pathLst>
            </a:custGeom>
            <a:solidFill>
              <a:srgbClr val="4c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86"/>
            <p:cNvSpPr/>
            <p:nvPr/>
          </p:nvSpPr>
          <p:spPr>
            <a:xfrm>
              <a:off x="2125800" y="1701720"/>
              <a:ext cx="642960" cy="291600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2916000"/>
                <a:gd name="textAreaBottom" fmla="*/ 2916360 h 2916000"/>
              </a:gdLst>
              <a:ahLst/>
              <a:rect l="textAreaLeft" t="textAreaTop" r="textAreaRight" b="textAreaBottom"/>
              <a:pathLst>
                <a:path w="405" h="1837">
                  <a:moveTo>
                    <a:pt x="405" y="31"/>
                  </a:moveTo>
                  <a:lnTo>
                    <a:pt x="396" y="27"/>
                  </a:lnTo>
                  <a:lnTo>
                    <a:pt x="352" y="18"/>
                  </a:lnTo>
                  <a:lnTo>
                    <a:pt x="306" y="10"/>
                  </a:lnTo>
                  <a:lnTo>
                    <a:pt x="259" y="4"/>
                  </a:lnTo>
                  <a:lnTo>
                    <a:pt x="213" y="0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85" y="2"/>
                  </a:lnTo>
                  <a:lnTo>
                    <a:pt x="185" y="4"/>
                  </a:lnTo>
                  <a:lnTo>
                    <a:pt x="185" y="4"/>
                  </a:lnTo>
                  <a:lnTo>
                    <a:pt x="183" y="6"/>
                  </a:lnTo>
                  <a:lnTo>
                    <a:pt x="183" y="8"/>
                  </a:lnTo>
                  <a:lnTo>
                    <a:pt x="181" y="8"/>
                  </a:lnTo>
                  <a:lnTo>
                    <a:pt x="181" y="10"/>
                  </a:lnTo>
                  <a:lnTo>
                    <a:pt x="213" y="10"/>
                  </a:lnTo>
                  <a:lnTo>
                    <a:pt x="259" y="14"/>
                  </a:lnTo>
                  <a:lnTo>
                    <a:pt x="304" y="20"/>
                  </a:lnTo>
                  <a:lnTo>
                    <a:pt x="350" y="27"/>
                  </a:lnTo>
                  <a:lnTo>
                    <a:pt x="394" y="39"/>
                  </a:lnTo>
                  <a:lnTo>
                    <a:pt x="401" y="41"/>
                  </a:lnTo>
                  <a:lnTo>
                    <a:pt x="401" y="39"/>
                  </a:lnTo>
                  <a:lnTo>
                    <a:pt x="401" y="39"/>
                  </a:lnTo>
                  <a:lnTo>
                    <a:pt x="403" y="37"/>
                  </a:lnTo>
                  <a:lnTo>
                    <a:pt x="403" y="35"/>
                  </a:lnTo>
                  <a:lnTo>
                    <a:pt x="403" y="35"/>
                  </a:lnTo>
                  <a:lnTo>
                    <a:pt x="405" y="33"/>
                  </a:lnTo>
                  <a:lnTo>
                    <a:pt x="405" y="33"/>
                  </a:lnTo>
                  <a:lnTo>
                    <a:pt x="405" y="31"/>
                  </a:lnTo>
                  <a:close/>
                  <a:moveTo>
                    <a:pt x="4" y="1821"/>
                  </a:moveTo>
                  <a:lnTo>
                    <a:pt x="25" y="1825"/>
                  </a:lnTo>
                  <a:lnTo>
                    <a:pt x="71" y="1833"/>
                  </a:lnTo>
                  <a:lnTo>
                    <a:pt x="119" y="1835"/>
                  </a:lnTo>
                  <a:lnTo>
                    <a:pt x="165" y="1837"/>
                  </a:lnTo>
                  <a:lnTo>
                    <a:pt x="213" y="1835"/>
                  </a:lnTo>
                  <a:lnTo>
                    <a:pt x="259" y="1833"/>
                  </a:lnTo>
                  <a:lnTo>
                    <a:pt x="306" y="1825"/>
                  </a:lnTo>
                  <a:lnTo>
                    <a:pt x="352" y="1817"/>
                  </a:lnTo>
                  <a:lnTo>
                    <a:pt x="388" y="1810"/>
                  </a:lnTo>
                  <a:lnTo>
                    <a:pt x="388" y="1808"/>
                  </a:lnTo>
                  <a:lnTo>
                    <a:pt x="388" y="1808"/>
                  </a:lnTo>
                  <a:lnTo>
                    <a:pt x="388" y="1806"/>
                  </a:lnTo>
                  <a:lnTo>
                    <a:pt x="386" y="1804"/>
                  </a:lnTo>
                  <a:lnTo>
                    <a:pt x="386" y="1804"/>
                  </a:lnTo>
                  <a:lnTo>
                    <a:pt x="386" y="1802"/>
                  </a:lnTo>
                  <a:lnTo>
                    <a:pt x="386" y="1800"/>
                  </a:lnTo>
                  <a:lnTo>
                    <a:pt x="386" y="1800"/>
                  </a:lnTo>
                  <a:lnTo>
                    <a:pt x="350" y="1808"/>
                  </a:lnTo>
                  <a:lnTo>
                    <a:pt x="304" y="1815"/>
                  </a:lnTo>
                  <a:lnTo>
                    <a:pt x="259" y="1821"/>
                  </a:lnTo>
                  <a:lnTo>
                    <a:pt x="213" y="1825"/>
                  </a:lnTo>
                  <a:lnTo>
                    <a:pt x="165" y="1827"/>
                  </a:lnTo>
                  <a:lnTo>
                    <a:pt x="119" y="1825"/>
                  </a:lnTo>
                  <a:lnTo>
                    <a:pt x="73" y="1821"/>
                  </a:lnTo>
                  <a:lnTo>
                    <a:pt x="27" y="1815"/>
                  </a:lnTo>
                  <a:lnTo>
                    <a:pt x="0" y="1812"/>
                  </a:lnTo>
                  <a:lnTo>
                    <a:pt x="0" y="1812"/>
                  </a:lnTo>
                  <a:lnTo>
                    <a:pt x="2" y="1814"/>
                  </a:lnTo>
                  <a:lnTo>
                    <a:pt x="2" y="1815"/>
                  </a:lnTo>
                  <a:lnTo>
                    <a:pt x="2" y="1817"/>
                  </a:lnTo>
                  <a:lnTo>
                    <a:pt x="2" y="1817"/>
                  </a:lnTo>
                  <a:lnTo>
                    <a:pt x="2" y="1819"/>
                  </a:lnTo>
                  <a:lnTo>
                    <a:pt x="4" y="1821"/>
                  </a:lnTo>
                  <a:lnTo>
                    <a:pt x="4" y="1821"/>
                  </a:lnTo>
                  <a:close/>
                </a:path>
              </a:pathLst>
            </a:custGeom>
            <a:solidFill>
              <a:srgbClr val="4d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87"/>
            <p:cNvSpPr/>
            <p:nvPr/>
          </p:nvSpPr>
          <p:spPr>
            <a:xfrm>
              <a:off x="2122560" y="1707840"/>
              <a:ext cx="642960" cy="290052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2900520"/>
                <a:gd name="textAreaBottom" fmla="*/ 2900880 h 2900520"/>
              </a:gdLst>
              <a:ahLst/>
              <a:rect l="textAreaLeft" t="textAreaTop" r="textAreaRight" b="textAreaBottom"/>
              <a:pathLst>
                <a:path w="405" h="1827">
                  <a:moveTo>
                    <a:pt x="405" y="31"/>
                  </a:moveTo>
                  <a:lnTo>
                    <a:pt x="396" y="29"/>
                  </a:lnTo>
                  <a:lnTo>
                    <a:pt x="352" y="19"/>
                  </a:lnTo>
                  <a:lnTo>
                    <a:pt x="308" y="10"/>
                  </a:lnTo>
                  <a:lnTo>
                    <a:pt x="261" y="4"/>
                  </a:lnTo>
                  <a:lnTo>
                    <a:pt x="215" y="2"/>
                  </a:lnTo>
                  <a:lnTo>
                    <a:pt x="187" y="0"/>
                  </a:lnTo>
                  <a:lnTo>
                    <a:pt x="185" y="2"/>
                  </a:lnTo>
                  <a:lnTo>
                    <a:pt x="185" y="4"/>
                  </a:lnTo>
                  <a:lnTo>
                    <a:pt x="183" y="4"/>
                  </a:lnTo>
                  <a:lnTo>
                    <a:pt x="183" y="6"/>
                  </a:lnTo>
                  <a:lnTo>
                    <a:pt x="183" y="8"/>
                  </a:lnTo>
                  <a:lnTo>
                    <a:pt x="181" y="8"/>
                  </a:lnTo>
                  <a:lnTo>
                    <a:pt x="181" y="10"/>
                  </a:lnTo>
                  <a:lnTo>
                    <a:pt x="181" y="10"/>
                  </a:lnTo>
                  <a:lnTo>
                    <a:pt x="215" y="12"/>
                  </a:lnTo>
                  <a:lnTo>
                    <a:pt x="260" y="16"/>
                  </a:lnTo>
                  <a:lnTo>
                    <a:pt x="306" y="21"/>
                  </a:lnTo>
                  <a:lnTo>
                    <a:pt x="350" y="29"/>
                  </a:lnTo>
                  <a:lnTo>
                    <a:pt x="394" y="39"/>
                  </a:lnTo>
                  <a:lnTo>
                    <a:pt x="400" y="41"/>
                  </a:lnTo>
                  <a:lnTo>
                    <a:pt x="402" y="41"/>
                  </a:lnTo>
                  <a:lnTo>
                    <a:pt x="402" y="39"/>
                  </a:lnTo>
                  <a:lnTo>
                    <a:pt x="402" y="37"/>
                  </a:lnTo>
                  <a:lnTo>
                    <a:pt x="403" y="37"/>
                  </a:lnTo>
                  <a:lnTo>
                    <a:pt x="403" y="35"/>
                  </a:lnTo>
                  <a:lnTo>
                    <a:pt x="403" y="35"/>
                  </a:lnTo>
                  <a:lnTo>
                    <a:pt x="405" y="33"/>
                  </a:lnTo>
                  <a:lnTo>
                    <a:pt x="405" y="31"/>
                  </a:lnTo>
                  <a:close/>
                  <a:moveTo>
                    <a:pt x="4" y="1813"/>
                  </a:moveTo>
                  <a:lnTo>
                    <a:pt x="29" y="1817"/>
                  </a:lnTo>
                  <a:lnTo>
                    <a:pt x="75" y="1823"/>
                  </a:lnTo>
                  <a:lnTo>
                    <a:pt x="121" y="1827"/>
                  </a:lnTo>
                  <a:lnTo>
                    <a:pt x="167" y="1827"/>
                  </a:lnTo>
                  <a:lnTo>
                    <a:pt x="215" y="1827"/>
                  </a:lnTo>
                  <a:lnTo>
                    <a:pt x="261" y="1823"/>
                  </a:lnTo>
                  <a:lnTo>
                    <a:pt x="308" y="1817"/>
                  </a:lnTo>
                  <a:lnTo>
                    <a:pt x="352" y="1810"/>
                  </a:lnTo>
                  <a:lnTo>
                    <a:pt x="388" y="1800"/>
                  </a:lnTo>
                  <a:lnTo>
                    <a:pt x="388" y="1800"/>
                  </a:lnTo>
                  <a:lnTo>
                    <a:pt x="388" y="1798"/>
                  </a:lnTo>
                  <a:lnTo>
                    <a:pt x="388" y="1796"/>
                  </a:lnTo>
                  <a:lnTo>
                    <a:pt x="388" y="1796"/>
                  </a:lnTo>
                  <a:lnTo>
                    <a:pt x="388" y="1794"/>
                  </a:lnTo>
                  <a:lnTo>
                    <a:pt x="388" y="1792"/>
                  </a:lnTo>
                  <a:lnTo>
                    <a:pt x="388" y="1792"/>
                  </a:lnTo>
                  <a:lnTo>
                    <a:pt x="388" y="1790"/>
                  </a:lnTo>
                  <a:lnTo>
                    <a:pt x="350" y="1798"/>
                  </a:lnTo>
                  <a:lnTo>
                    <a:pt x="306" y="1808"/>
                  </a:lnTo>
                  <a:lnTo>
                    <a:pt x="260" y="1813"/>
                  </a:lnTo>
                  <a:lnTo>
                    <a:pt x="215" y="1815"/>
                  </a:lnTo>
                  <a:lnTo>
                    <a:pt x="167" y="1817"/>
                  </a:lnTo>
                  <a:lnTo>
                    <a:pt x="121" y="1815"/>
                  </a:lnTo>
                  <a:lnTo>
                    <a:pt x="75" y="1813"/>
                  </a:lnTo>
                  <a:lnTo>
                    <a:pt x="31" y="1808"/>
                  </a:lnTo>
                  <a:lnTo>
                    <a:pt x="0" y="1802"/>
                  </a:lnTo>
                  <a:lnTo>
                    <a:pt x="0" y="1802"/>
                  </a:lnTo>
                  <a:lnTo>
                    <a:pt x="2" y="1804"/>
                  </a:lnTo>
                  <a:lnTo>
                    <a:pt x="2" y="1806"/>
                  </a:lnTo>
                  <a:lnTo>
                    <a:pt x="2" y="1808"/>
                  </a:lnTo>
                  <a:lnTo>
                    <a:pt x="2" y="1808"/>
                  </a:lnTo>
                  <a:lnTo>
                    <a:pt x="4" y="1810"/>
                  </a:lnTo>
                  <a:lnTo>
                    <a:pt x="4" y="1811"/>
                  </a:lnTo>
                  <a:lnTo>
                    <a:pt x="4" y="1813"/>
                  </a:lnTo>
                  <a:close/>
                </a:path>
              </a:pathLst>
            </a:custGeom>
            <a:solidFill>
              <a:srgbClr val="4e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88"/>
            <p:cNvSpPr/>
            <p:nvPr/>
          </p:nvSpPr>
          <p:spPr>
            <a:xfrm>
              <a:off x="2120760" y="1717560"/>
              <a:ext cx="641520" cy="2884320"/>
            </a:xfrm>
            <a:custGeom>
              <a:avLst/>
              <a:gdLst>
                <a:gd name="textAreaLeft" fmla="*/ 0 w 641520"/>
                <a:gd name="textAreaRight" fmla="*/ 641520 w 6415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404" h="1817">
                  <a:moveTo>
                    <a:pt x="404" y="31"/>
                  </a:moveTo>
                  <a:lnTo>
                    <a:pt x="397" y="29"/>
                  </a:lnTo>
                  <a:lnTo>
                    <a:pt x="353" y="17"/>
                  </a:lnTo>
                  <a:lnTo>
                    <a:pt x="307" y="10"/>
                  </a:lnTo>
                  <a:lnTo>
                    <a:pt x="262" y="4"/>
                  </a:lnTo>
                  <a:lnTo>
                    <a:pt x="216" y="0"/>
                  </a:lnTo>
                  <a:lnTo>
                    <a:pt x="184" y="0"/>
                  </a:lnTo>
                  <a:lnTo>
                    <a:pt x="184" y="2"/>
                  </a:lnTo>
                  <a:lnTo>
                    <a:pt x="182" y="2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80" y="6"/>
                  </a:lnTo>
                  <a:lnTo>
                    <a:pt x="180" y="8"/>
                  </a:lnTo>
                  <a:lnTo>
                    <a:pt x="178" y="8"/>
                  </a:lnTo>
                  <a:lnTo>
                    <a:pt x="178" y="10"/>
                  </a:lnTo>
                  <a:lnTo>
                    <a:pt x="214" y="11"/>
                  </a:lnTo>
                  <a:lnTo>
                    <a:pt x="261" y="13"/>
                  </a:lnTo>
                  <a:lnTo>
                    <a:pt x="307" y="19"/>
                  </a:lnTo>
                  <a:lnTo>
                    <a:pt x="351" y="29"/>
                  </a:lnTo>
                  <a:lnTo>
                    <a:pt x="393" y="38"/>
                  </a:lnTo>
                  <a:lnTo>
                    <a:pt x="399" y="40"/>
                  </a:lnTo>
                  <a:lnTo>
                    <a:pt x="399" y="38"/>
                  </a:lnTo>
                  <a:lnTo>
                    <a:pt x="401" y="36"/>
                  </a:lnTo>
                  <a:lnTo>
                    <a:pt x="401" y="36"/>
                  </a:lnTo>
                  <a:lnTo>
                    <a:pt x="401" y="35"/>
                  </a:lnTo>
                  <a:lnTo>
                    <a:pt x="403" y="35"/>
                  </a:lnTo>
                  <a:lnTo>
                    <a:pt x="403" y="33"/>
                  </a:lnTo>
                  <a:lnTo>
                    <a:pt x="403" y="31"/>
                  </a:lnTo>
                  <a:lnTo>
                    <a:pt x="404" y="31"/>
                  </a:lnTo>
                  <a:close/>
                  <a:moveTo>
                    <a:pt x="3" y="1802"/>
                  </a:moveTo>
                  <a:lnTo>
                    <a:pt x="30" y="1805"/>
                  </a:lnTo>
                  <a:lnTo>
                    <a:pt x="76" y="1811"/>
                  </a:lnTo>
                  <a:lnTo>
                    <a:pt x="122" y="1815"/>
                  </a:lnTo>
                  <a:lnTo>
                    <a:pt x="168" y="1817"/>
                  </a:lnTo>
                  <a:lnTo>
                    <a:pt x="216" y="1815"/>
                  </a:lnTo>
                  <a:lnTo>
                    <a:pt x="262" y="1811"/>
                  </a:lnTo>
                  <a:lnTo>
                    <a:pt x="307" y="1805"/>
                  </a:lnTo>
                  <a:lnTo>
                    <a:pt x="353" y="1798"/>
                  </a:lnTo>
                  <a:lnTo>
                    <a:pt x="389" y="1790"/>
                  </a:lnTo>
                  <a:lnTo>
                    <a:pt x="389" y="1788"/>
                  </a:lnTo>
                  <a:lnTo>
                    <a:pt x="389" y="1786"/>
                  </a:lnTo>
                  <a:lnTo>
                    <a:pt x="389" y="1786"/>
                  </a:lnTo>
                  <a:lnTo>
                    <a:pt x="389" y="1784"/>
                  </a:lnTo>
                  <a:lnTo>
                    <a:pt x="387" y="1782"/>
                  </a:lnTo>
                  <a:lnTo>
                    <a:pt x="387" y="1782"/>
                  </a:lnTo>
                  <a:lnTo>
                    <a:pt x="387" y="1781"/>
                  </a:lnTo>
                  <a:lnTo>
                    <a:pt x="387" y="1779"/>
                  </a:lnTo>
                  <a:lnTo>
                    <a:pt x="351" y="1788"/>
                  </a:lnTo>
                  <a:lnTo>
                    <a:pt x="307" y="1796"/>
                  </a:lnTo>
                  <a:lnTo>
                    <a:pt x="261" y="1802"/>
                  </a:lnTo>
                  <a:lnTo>
                    <a:pt x="214" y="1805"/>
                  </a:lnTo>
                  <a:lnTo>
                    <a:pt x="168" y="1805"/>
                  </a:lnTo>
                  <a:lnTo>
                    <a:pt x="122" y="1805"/>
                  </a:lnTo>
                  <a:lnTo>
                    <a:pt x="76" y="1802"/>
                  </a:lnTo>
                  <a:lnTo>
                    <a:pt x="32" y="1796"/>
                  </a:lnTo>
                  <a:lnTo>
                    <a:pt x="0" y="1790"/>
                  </a:lnTo>
                  <a:lnTo>
                    <a:pt x="1" y="1792"/>
                  </a:lnTo>
                  <a:lnTo>
                    <a:pt x="1" y="1792"/>
                  </a:lnTo>
                  <a:lnTo>
                    <a:pt x="1" y="1794"/>
                  </a:lnTo>
                  <a:lnTo>
                    <a:pt x="1" y="1796"/>
                  </a:lnTo>
                  <a:lnTo>
                    <a:pt x="1" y="1796"/>
                  </a:lnTo>
                  <a:lnTo>
                    <a:pt x="3" y="1798"/>
                  </a:lnTo>
                  <a:lnTo>
                    <a:pt x="3" y="1800"/>
                  </a:lnTo>
                  <a:lnTo>
                    <a:pt x="3" y="1802"/>
                  </a:lnTo>
                  <a:close/>
                </a:path>
              </a:pathLst>
            </a:custGeom>
            <a:solidFill>
              <a:srgbClr val="4f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89"/>
            <p:cNvSpPr/>
            <p:nvPr/>
          </p:nvSpPr>
          <p:spPr>
            <a:xfrm>
              <a:off x="2117880" y="1723680"/>
              <a:ext cx="639720" cy="286884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2868840"/>
                <a:gd name="textAreaBottom" fmla="*/ 2869200 h 2868840"/>
              </a:gdLst>
              <a:ahLst/>
              <a:rect l="textAreaLeft" t="textAreaTop" r="textAreaRight" b="textAreaBottom"/>
              <a:pathLst>
                <a:path w="403" h="1807">
                  <a:moveTo>
                    <a:pt x="403" y="31"/>
                  </a:moveTo>
                  <a:lnTo>
                    <a:pt x="397" y="29"/>
                  </a:lnTo>
                  <a:lnTo>
                    <a:pt x="353" y="19"/>
                  </a:lnTo>
                  <a:lnTo>
                    <a:pt x="309" y="11"/>
                  </a:lnTo>
                  <a:lnTo>
                    <a:pt x="263" y="6"/>
                  </a:lnTo>
                  <a:lnTo>
                    <a:pt x="218" y="2"/>
                  </a:lnTo>
                  <a:lnTo>
                    <a:pt x="184" y="0"/>
                  </a:lnTo>
                  <a:lnTo>
                    <a:pt x="182" y="2"/>
                  </a:lnTo>
                  <a:lnTo>
                    <a:pt x="182" y="4"/>
                  </a:lnTo>
                  <a:lnTo>
                    <a:pt x="180" y="4"/>
                  </a:lnTo>
                  <a:lnTo>
                    <a:pt x="180" y="6"/>
                  </a:lnTo>
                  <a:lnTo>
                    <a:pt x="180" y="7"/>
                  </a:lnTo>
                  <a:lnTo>
                    <a:pt x="178" y="7"/>
                  </a:lnTo>
                  <a:lnTo>
                    <a:pt x="178" y="9"/>
                  </a:lnTo>
                  <a:lnTo>
                    <a:pt x="178" y="11"/>
                  </a:lnTo>
                  <a:lnTo>
                    <a:pt x="216" y="11"/>
                  </a:lnTo>
                  <a:lnTo>
                    <a:pt x="263" y="15"/>
                  </a:lnTo>
                  <a:lnTo>
                    <a:pt x="307" y="21"/>
                  </a:lnTo>
                  <a:lnTo>
                    <a:pt x="351" y="29"/>
                  </a:lnTo>
                  <a:lnTo>
                    <a:pt x="395" y="38"/>
                  </a:lnTo>
                  <a:lnTo>
                    <a:pt x="399" y="40"/>
                  </a:lnTo>
                  <a:lnTo>
                    <a:pt x="399" y="38"/>
                  </a:lnTo>
                  <a:lnTo>
                    <a:pt x="399" y="38"/>
                  </a:lnTo>
                  <a:lnTo>
                    <a:pt x="401" y="36"/>
                  </a:lnTo>
                  <a:lnTo>
                    <a:pt x="401" y="36"/>
                  </a:lnTo>
                  <a:lnTo>
                    <a:pt x="401" y="34"/>
                  </a:lnTo>
                  <a:lnTo>
                    <a:pt x="403" y="32"/>
                  </a:lnTo>
                  <a:lnTo>
                    <a:pt x="403" y="32"/>
                  </a:lnTo>
                  <a:lnTo>
                    <a:pt x="403" y="31"/>
                  </a:lnTo>
                  <a:close/>
                  <a:moveTo>
                    <a:pt x="3" y="1792"/>
                  </a:moveTo>
                  <a:lnTo>
                    <a:pt x="34" y="1798"/>
                  </a:lnTo>
                  <a:lnTo>
                    <a:pt x="78" y="1803"/>
                  </a:lnTo>
                  <a:lnTo>
                    <a:pt x="124" y="1805"/>
                  </a:lnTo>
                  <a:lnTo>
                    <a:pt x="170" y="1807"/>
                  </a:lnTo>
                  <a:lnTo>
                    <a:pt x="218" y="1805"/>
                  </a:lnTo>
                  <a:lnTo>
                    <a:pt x="263" y="1803"/>
                  </a:lnTo>
                  <a:lnTo>
                    <a:pt x="309" y="1798"/>
                  </a:lnTo>
                  <a:lnTo>
                    <a:pt x="353" y="1788"/>
                  </a:lnTo>
                  <a:lnTo>
                    <a:pt x="391" y="1780"/>
                  </a:lnTo>
                  <a:lnTo>
                    <a:pt x="389" y="1778"/>
                  </a:lnTo>
                  <a:lnTo>
                    <a:pt x="389" y="1778"/>
                  </a:lnTo>
                  <a:lnTo>
                    <a:pt x="389" y="1777"/>
                  </a:lnTo>
                  <a:lnTo>
                    <a:pt x="389" y="1775"/>
                  </a:lnTo>
                  <a:lnTo>
                    <a:pt x="389" y="1775"/>
                  </a:lnTo>
                  <a:lnTo>
                    <a:pt x="389" y="1773"/>
                  </a:lnTo>
                  <a:lnTo>
                    <a:pt x="389" y="1771"/>
                  </a:lnTo>
                  <a:lnTo>
                    <a:pt x="387" y="1771"/>
                  </a:lnTo>
                  <a:lnTo>
                    <a:pt x="351" y="1778"/>
                  </a:lnTo>
                  <a:lnTo>
                    <a:pt x="307" y="1786"/>
                  </a:lnTo>
                  <a:lnTo>
                    <a:pt x="263" y="1792"/>
                  </a:lnTo>
                  <a:lnTo>
                    <a:pt x="216" y="1796"/>
                  </a:lnTo>
                  <a:lnTo>
                    <a:pt x="170" y="1798"/>
                  </a:lnTo>
                  <a:lnTo>
                    <a:pt x="124" y="1796"/>
                  </a:lnTo>
                  <a:lnTo>
                    <a:pt x="80" y="1792"/>
                  </a:lnTo>
                  <a:lnTo>
                    <a:pt x="34" y="1786"/>
                  </a:lnTo>
                  <a:lnTo>
                    <a:pt x="0" y="1780"/>
                  </a:lnTo>
                  <a:lnTo>
                    <a:pt x="2" y="1782"/>
                  </a:lnTo>
                  <a:lnTo>
                    <a:pt x="2" y="1782"/>
                  </a:lnTo>
                  <a:lnTo>
                    <a:pt x="2" y="1784"/>
                  </a:lnTo>
                  <a:lnTo>
                    <a:pt x="2" y="1786"/>
                  </a:lnTo>
                  <a:lnTo>
                    <a:pt x="3" y="1788"/>
                  </a:lnTo>
                  <a:lnTo>
                    <a:pt x="3" y="1788"/>
                  </a:lnTo>
                  <a:lnTo>
                    <a:pt x="3" y="1790"/>
                  </a:lnTo>
                  <a:lnTo>
                    <a:pt x="3" y="1792"/>
                  </a:lnTo>
                  <a:close/>
                </a:path>
              </a:pathLst>
            </a:custGeom>
            <a:solidFill>
              <a:srgbClr val="5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90"/>
            <p:cNvSpPr/>
            <p:nvPr/>
          </p:nvSpPr>
          <p:spPr>
            <a:xfrm>
              <a:off x="2117880" y="1733400"/>
              <a:ext cx="636480" cy="284940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2849400"/>
                <a:gd name="textAreaBottom" fmla="*/ 2849760 h 2849400"/>
              </a:gdLst>
              <a:ahLst/>
              <a:rect l="textAreaLeft" t="textAreaTop" r="textAreaRight" b="textAreaBottom"/>
              <a:pathLst>
                <a:path w="401" h="1795">
                  <a:moveTo>
                    <a:pt x="401" y="30"/>
                  </a:moveTo>
                  <a:lnTo>
                    <a:pt x="395" y="28"/>
                  </a:lnTo>
                  <a:lnTo>
                    <a:pt x="353" y="19"/>
                  </a:lnTo>
                  <a:lnTo>
                    <a:pt x="309" y="9"/>
                  </a:lnTo>
                  <a:lnTo>
                    <a:pt x="263" y="3"/>
                  </a:lnTo>
                  <a:lnTo>
                    <a:pt x="216" y="1"/>
                  </a:lnTo>
                  <a:lnTo>
                    <a:pt x="180" y="0"/>
                  </a:lnTo>
                  <a:lnTo>
                    <a:pt x="180" y="1"/>
                  </a:lnTo>
                  <a:lnTo>
                    <a:pt x="178" y="1"/>
                  </a:lnTo>
                  <a:lnTo>
                    <a:pt x="178" y="3"/>
                  </a:lnTo>
                  <a:lnTo>
                    <a:pt x="178" y="5"/>
                  </a:lnTo>
                  <a:lnTo>
                    <a:pt x="176" y="5"/>
                  </a:lnTo>
                  <a:lnTo>
                    <a:pt x="176" y="7"/>
                  </a:lnTo>
                  <a:lnTo>
                    <a:pt x="174" y="9"/>
                  </a:lnTo>
                  <a:lnTo>
                    <a:pt x="174" y="9"/>
                  </a:lnTo>
                  <a:lnTo>
                    <a:pt x="216" y="11"/>
                  </a:lnTo>
                  <a:lnTo>
                    <a:pt x="263" y="15"/>
                  </a:lnTo>
                  <a:lnTo>
                    <a:pt x="307" y="21"/>
                  </a:lnTo>
                  <a:lnTo>
                    <a:pt x="351" y="28"/>
                  </a:lnTo>
                  <a:lnTo>
                    <a:pt x="393" y="38"/>
                  </a:lnTo>
                  <a:lnTo>
                    <a:pt x="395" y="38"/>
                  </a:lnTo>
                  <a:lnTo>
                    <a:pt x="397" y="38"/>
                  </a:lnTo>
                  <a:lnTo>
                    <a:pt x="397" y="36"/>
                  </a:lnTo>
                  <a:lnTo>
                    <a:pt x="397" y="36"/>
                  </a:lnTo>
                  <a:lnTo>
                    <a:pt x="399" y="34"/>
                  </a:lnTo>
                  <a:lnTo>
                    <a:pt x="399" y="32"/>
                  </a:lnTo>
                  <a:lnTo>
                    <a:pt x="399" y="32"/>
                  </a:lnTo>
                  <a:lnTo>
                    <a:pt x="401" y="30"/>
                  </a:lnTo>
                  <a:lnTo>
                    <a:pt x="401" y="30"/>
                  </a:lnTo>
                  <a:close/>
                  <a:moveTo>
                    <a:pt x="2" y="1780"/>
                  </a:moveTo>
                  <a:lnTo>
                    <a:pt x="34" y="1786"/>
                  </a:lnTo>
                  <a:lnTo>
                    <a:pt x="78" y="1792"/>
                  </a:lnTo>
                  <a:lnTo>
                    <a:pt x="124" y="1795"/>
                  </a:lnTo>
                  <a:lnTo>
                    <a:pt x="170" y="1795"/>
                  </a:lnTo>
                  <a:lnTo>
                    <a:pt x="216" y="1795"/>
                  </a:lnTo>
                  <a:lnTo>
                    <a:pt x="263" y="1792"/>
                  </a:lnTo>
                  <a:lnTo>
                    <a:pt x="309" y="1786"/>
                  </a:lnTo>
                  <a:lnTo>
                    <a:pt x="353" y="1778"/>
                  </a:lnTo>
                  <a:lnTo>
                    <a:pt x="389" y="1769"/>
                  </a:lnTo>
                  <a:lnTo>
                    <a:pt x="389" y="1769"/>
                  </a:lnTo>
                  <a:lnTo>
                    <a:pt x="389" y="1767"/>
                  </a:lnTo>
                  <a:lnTo>
                    <a:pt x="389" y="1765"/>
                  </a:lnTo>
                  <a:lnTo>
                    <a:pt x="387" y="1765"/>
                  </a:lnTo>
                  <a:lnTo>
                    <a:pt x="387" y="1763"/>
                  </a:lnTo>
                  <a:lnTo>
                    <a:pt x="387" y="1761"/>
                  </a:lnTo>
                  <a:lnTo>
                    <a:pt x="387" y="1761"/>
                  </a:lnTo>
                  <a:lnTo>
                    <a:pt x="387" y="1759"/>
                  </a:lnTo>
                  <a:lnTo>
                    <a:pt x="351" y="1769"/>
                  </a:lnTo>
                  <a:lnTo>
                    <a:pt x="307" y="1776"/>
                  </a:lnTo>
                  <a:lnTo>
                    <a:pt x="263" y="1782"/>
                  </a:lnTo>
                  <a:lnTo>
                    <a:pt x="216" y="1784"/>
                  </a:lnTo>
                  <a:lnTo>
                    <a:pt x="170" y="1786"/>
                  </a:lnTo>
                  <a:lnTo>
                    <a:pt x="126" y="1784"/>
                  </a:lnTo>
                  <a:lnTo>
                    <a:pt x="80" y="1782"/>
                  </a:lnTo>
                  <a:lnTo>
                    <a:pt x="36" y="1776"/>
                  </a:lnTo>
                  <a:lnTo>
                    <a:pt x="0" y="1769"/>
                  </a:lnTo>
                  <a:lnTo>
                    <a:pt x="0" y="1771"/>
                  </a:lnTo>
                  <a:lnTo>
                    <a:pt x="0" y="1772"/>
                  </a:lnTo>
                  <a:lnTo>
                    <a:pt x="0" y="1772"/>
                  </a:lnTo>
                  <a:lnTo>
                    <a:pt x="0" y="1774"/>
                  </a:lnTo>
                  <a:lnTo>
                    <a:pt x="2" y="1776"/>
                  </a:lnTo>
                  <a:lnTo>
                    <a:pt x="2" y="1776"/>
                  </a:lnTo>
                  <a:lnTo>
                    <a:pt x="2" y="1778"/>
                  </a:lnTo>
                  <a:lnTo>
                    <a:pt x="2" y="1780"/>
                  </a:lnTo>
                  <a:close/>
                </a:path>
              </a:pathLst>
            </a:custGeom>
            <a:solidFill>
              <a:srgbClr val="51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91"/>
            <p:cNvSpPr/>
            <p:nvPr/>
          </p:nvSpPr>
          <p:spPr>
            <a:xfrm>
              <a:off x="2114640" y="1741320"/>
              <a:ext cx="636480" cy="283680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401" h="1787">
                  <a:moveTo>
                    <a:pt x="401" y="29"/>
                  </a:moveTo>
                  <a:lnTo>
                    <a:pt x="397" y="27"/>
                  </a:lnTo>
                  <a:lnTo>
                    <a:pt x="353" y="18"/>
                  </a:lnTo>
                  <a:lnTo>
                    <a:pt x="309" y="10"/>
                  </a:lnTo>
                  <a:lnTo>
                    <a:pt x="265" y="4"/>
                  </a:lnTo>
                  <a:lnTo>
                    <a:pt x="218" y="0"/>
                  </a:lnTo>
                  <a:lnTo>
                    <a:pt x="180" y="0"/>
                  </a:lnTo>
                  <a:lnTo>
                    <a:pt x="178" y="0"/>
                  </a:lnTo>
                  <a:lnTo>
                    <a:pt x="178" y="2"/>
                  </a:lnTo>
                  <a:lnTo>
                    <a:pt x="176" y="4"/>
                  </a:lnTo>
                  <a:lnTo>
                    <a:pt x="176" y="4"/>
                  </a:lnTo>
                  <a:lnTo>
                    <a:pt x="176" y="6"/>
                  </a:lnTo>
                  <a:lnTo>
                    <a:pt x="174" y="8"/>
                  </a:lnTo>
                  <a:lnTo>
                    <a:pt x="174" y="8"/>
                  </a:lnTo>
                  <a:lnTo>
                    <a:pt x="174" y="10"/>
                  </a:lnTo>
                  <a:lnTo>
                    <a:pt x="218" y="12"/>
                  </a:lnTo>
                  <a:lnTo>
                    <a:pt x="263" y="14"/>
                  </a:lnTo>
                  <a:lnTo>
                    <a:pt x="307" y="20"/>
                  </a:lnTo>
                  <a:lnTo>
                    <a:pt x="351" y="27"/>
                  </a:lnTo>
                  <a:lnTo>
                    <a:pt x="393" y="39"/>
                  </a:lnTo>
                  <a:lnTo>
                    <a:pt x="395" y="39"/>
                  </a:lnTo>
                  <a:lnTo>
                    <a:pt x="395" y="37"/>
                  </a:lnTo>
                  <a:lnTo>
                    <a:pt x="397" y="37"/>
                  </a:lnTo>
                  <a:lnTo>
                    <a:pt x="397" y="35"/>
                  </a:lnTo>
                  <a:lnTo>
                    <a:pt x="397" y="33"/>
                  </a:lnTo>
                  <a:lnTo>
                    <a:pt x="399" y="33"/>
                  </a:lnTo>
                  <a:lnTo>
                    <a:pt x="399" y="31"/>
                  </a:lnTo>
                  <a:lnTo>
                    <a:pt x="399" y="31"/>
                  </a:lnTo>
                  <a:lnTo>
                    <a:pt x="401" y="29"/>
                  </a:lnTo>
                  <a:close/>
                  <a:moveTo>
                    <a:pt x="2" y="1769"/>
                  </a:moveTo>
                  <a:lnTo>
                    <a:pt x="36" y="1775"/>
                  </a:lnTo>
                  <a:lnTo>
                    <a:pt x="82" y="1781"/>
                  </a:lnTo>
                  <a:lnTo>
                    <a:pt x="126" y="1785"/>
                  </a:lnTo>
                  <a:lnTo>
                    <a:pt x="172" y="1787"/>
                  </a:lnTo>
                  <a:lnTo>
                    <a:pt x="218" y="1785"/>
                  </a:lnTo>
                  <a:lnTo>
                    <a:pt x="265" y="1781"/>
                  </a:lnTo>
                  <a:lnTo>
                    <a:pt x="309" y="1775"/>
                  </a:lnTo>
                  <a:lnTo>
                    <a:pt x="353" y="1767"/>
                  </a:lnTo>
                  <a:lnTo>
                    <a:pt x="389" y="1760"/>
                  </a:lnTo>
                  <a:lnTo>
                    <a:pt x="389" y="1758"/>
                  </a:lnTo>
                  <a:lnTo>
                    <a:pt x="389" y="1756"/>
                  </a:lnTo>
                  <a:lnTo>
                    <a:pt x="389" y="1756"/>
                  </a:lnTo>
                  <a:lnTo>
                    <a:pt x="389" y="1754"/>
                  </a:lnTo>
                  <a:lnTo>
                    <a:pt x="389" y="1752"/>
                  </a:lnTo>
                  <a:lnTo>
                    <a:pt x="389" y="1752"/>
                  </a:lnTo>
                  <a:lnTo>
                    <a:pt x="389" y="1750"/>
                  </a:lnTo>
                  <a:lnTo>
                    <a:pt x="387" y="1748"/>
                  </a:lnTo>
                  <a:lnTo>
                    <a:pt x="351" y="1758"/>
                  </a:lnTo>
                  <a:lnTo>
                    <a:pt x="307" y="1766"/>
                  </a:lnTo>
                  <a:lnTo>
                    <a:pt x="263" y="1771"/>
                  </a:lnTo>
                  <a:lnTo>
                    <a:pt x="218" y="1775"/>
                  </a:lnTo>
                  <a:lnTo>
                    <a:pt x="172" y="1775"/>
                  </a:lnTo>
                  <a:lnTo>
                    <a:pt x="128" y="1775"/>
                  </a:lnTo>
                  <a:lnTo>
                    <a:pt x="82" y="1771"/>
                  </a:lnTo>
                  <a:lnTo>
                    <a:pt x="38" y="1766"/>
                  </a:lnTo>
                  <a:lnTo>
                    <a:pt x="0" y="1758"/>
                  </a:lnTo>
                  <a:lnTo>
                    <a:pt x="0" y="1760"/>
                  </a:lnTo>
                  <a:lnTo>
                    <a:pt x="0" y="1762"/>
                  </a:lnTo>
                  <a:lnTo>
                    <a:pt x="0" y="1762"/>
                  </a:lnTo>
                  <a:lnTo>
                    <a:pt x="2" y="1764"/>
                  </a:lnTo>
                  <a:lnTo>
                    <a:pt x="2" y="1766"/>
                  </a:lnTo>
                  <a:lnTo>
                    <a:pt x="2" y="1767"/>
                  </a:lnTo>
                  <a:lnTo>
                    <a:pt x="2" y="1767"/>
                  </a:lnTo>
                  <a:lnTo>
                    <a:pt x="2" y="1769"/>
                  </a:lnTo>
                  <a:close/>
                </a:path>
              </a:pathLst>
            </a:custGeom>
            <a:solidFill>
              <a:srgbClr val="52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92"/>
            <p:cNvSpPr/>
            <p:nvPr/>
          </p:nvSpPr>
          <p:spPr>
            <a:xfrm>
              <a:off x="2111400" y="1747800"/>
              <a:ext cx="633240" cy="282096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2820960"/>
                <a:gd name="textAreaBottom" fmla="*/ 2820960 h 2820960"/>
              </a:gdLst>
              <a:ahLst/>
              <a:rect l="textAreaLeft" t="textAreaTop" r="textAreaRight" b="textAreaBottom"/>
              <a:pathLst>
                <a:path w="399" h="1777">
                  <a:moveTo>
                    <a:pt x="399" y="29"/>
                  </a:moveTo>
                  <a:lnTo>
                    <a:pt x="397" y="29"/>
                  </a:lnTo>
                  <a:lnTo>
                    <a:pt x="355" y="19"/>
                  </a:lnTo>
                  <a:lnTo>
                    <a:pt x="311" y="12"/>
                  </a:lnTo>
                  <a:lnTo>
                    <a:pt x="267" y="6"/>
                  </a:lnTo>
                  <a:lnTo>
                    <a:pt x="220" y="2"/>
                  </a:lnTo>
                  <a:lnTo>
                    <a:pt x="178" y="0"/>
                  </a:lnTo>
                  <a:lnTo>
                    <a:pt x="178" y="2"/>
                  </a:lnTo>
                  <a:lnTo>
                    <a:pt x="176" y="4"/>
                  </a:lnTo>
                  <a:lnTo>
                    <a:pt x="176" y="4"/>
                  </a:lnTo>
                  <a:lnTo>
                    <a:pt x="176" y="6"/>
                  </a:lnTo>
                  <a:lnTo>
                    <a:pt x="174" y="8"/>
                  </a:lnTo>
                  <a:lnTo>
                    <a:pt x="174" y="8"/>
                  </a:lnTo>
                  <a:lnTo>
                    <a:pt x="172" y="10"/>
                  </a:lnTo>
                  <a:lnTo>
                    <a:pt x="172" y="12"/>
                  </a:lnTo>
                  <a:lnTo>
                    <a:pt x="174" y="12"/>
                  </a:lnTo>
                  <a:lnTo>
                    <a:pt x="220" y="12"/>
                  </a:lnTo>
                  <a:lnTo>
                    <a:pt x="265" y="16"/>
                  </a:lnTo>
                  <a:lnTo>
                    <a:pt x="309" y="21"/>
                  </a:lnTo>
                  <a:lnTo>
                    <a:pt x="351" y="29"/>
                  </a:lnTo>
                  <a:lnTo>
                    <a:pt x="395" y="39"/>
                  </a:lnTo>
                  <a:lnTo>
                    <a:pt x="395" y="39"/>
                  </a:lnTo>
                  <a:lnTo>
                    <a:pt x="395" y="39"/>
                  </a:lnTo>
                  <a:lnTo>
                    <a:pt x="395" y="37"/>
                  </a:lnTo>
                  <a:lnTo>
                    <a:pt x="397" y="35"/>
                  </a:lnTo>
                  <a:lnTo>
                    <a:pt x="397" y="35"/>
                  </a:lnTo>
                  <a:lnTo>
                    <a:pt x="397" y="33"/>
                  </a:lnTo>
                  <a:lnTo>
                    <a:pt x="399" y="33"/>
                  </a:lnTo>
                  <a:lnTo>
                    <a:pt x="399" y="31"/>
                  </a:lnTo>
                  <a:lnTo>
                    <a:pt x="399" y="29"/>
                  </a:lnTo>
                  <a:close/>
                  <a:moveTo>
                    <a:pt x="4" y="1760"/>
                  </a:moveTo>
                  <a:lnTo>
                    <a:pt x="40" y="1767"/>
                  </a:lnTo>
                  <a:lnTo>
                    <a:pt x="84" y="1773"/>
                  </a:lnTo>
                  <a:lnTo>
                    <a:pt x="130" y="1775"/>
                  </a:lnTo>
                  <a:lnTo>
                    <a:pt x="174" y="1777"/>
                  </a:lnTo>
                  <a:lnTo>
                    <a:pt x="220" y="1775"/>
                  </a:lnTo>
                  <a:lnTo>
                    <a:pt x="267" y="1773"/>
                  </a:lnTo>
                  <a:lnTo>
                    <a:pt x="311" y="1767"/>
                  </a:lnTo>
                  <a:lnTo>
                    <a:pt x="355" y="1760"/>
                  </a:lnTo>
                  <a:lnTo>
                    <a:pt x="391" y="1750"/>
                  </a:lnTo>
                  <a:lnTo>
                    <a:pt x="391" y="1748"/>
                  </a:lnTo>
                  <a:lnTo>
                    <a:pt x="391" y="1748"/>
                  </a:lnTo>
                  <a:lnTo>
                    <a:pt x="391" y="1746"/>
                  </a:lnTo>
                  <a:lnTo>
                    <a:pt x="389" y="1744"/>
                  </a:lnTo>
                  <a:lnTo>
                    <a:pt x="389" y="1744"/>
                  </a:lnTo>
                  <a:lnTo>
                    <a:pt x="389" y="1742"/>
                  </a:lnTo>
                  <a:lnTo>
                    <a:pt x="389" y="1740"/>
                  </a:lnTo>
                  <a:lnTo>
                    <a:pt x="389" y="1740"/>
                  </a:lnTo>
                  <a:lnTo>
                    <a:pt x="351" y="1748"/>
                  </a:lnTo>
                  <a:lnTo>
                    <a:pt x="309" y="1756"/>
                  </a:lnTo>
                  <a:lnTo>
                    <a:pt x="265" y="1762"/>
                  </a:lnTo>
                  <a:lnTo>
                    <a:pt x="220" y="1765"/>
                  </a:lnTo>
                  <a:lnTo>
                    <a:pt x="174" y="1767"/>
                  </a:lnTo>
                  <a:lnTo>
                    <a:pt x="130" y="1765"/>
                  </a:lnTo>
                  <a:lnTo>
                    <a:pt x="86" y="1762"/>
                  </a:lnTo>
                  <a:lnTo>
                    <a:pt x="42" y="1756"/>
                  </a:lnTo>
                  <a:lnTo>
                    <a:pt x="0" y="1748"/>
                  </a:lnTo>
                  <a:lnTo>
                    <a:pt x="0" y="1750"/>
                  </a:lnTo>
                  <a:lnTo>
                    <a:pt x="0" y="1752"/>
                  </a:lnTo>
                  <a:lnTo>
                    <a:pt x="2" y="1754"/>
                  </a:lnTo>
                  <a:lnTo>
                    <a:pt x="2" y="1754"/>
                  </a:lnTo>
                  <a:lnTo>
                    <a:pt x="2" y="1756"/>
                  </a:lnTo>
                  <a:lnTo>
                    <a:pt x="2" y="1758"/>
                  </a:lnTo>
                  <a:lnTo>
                    <a:pt x="2" y="1758"/>
                  </a:lnTo>
                  <a:lnTo>
                    <a:pt x="4" y="1760"/>
                  </a:lnTo>
                  <a:close/>
                </a:path>
              </a:pathLst>
            </a:custGeom>
            <a:solidFill>
              <a:srgbClr val="53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93"/>
            <p:cNvSpPr/>
            <p:nvPr/>
          </p:nvSpPr>
          <p:spPr>
            <a:xfrm>
              <a:off x="2108160" y="1757160"/>
              <a:ext cx="633600" cy="2801880"/>
            </a:xfrm>
            <a:custGeom>
              <a:avLst/>
              <a:gdLst>
                <a:gd name="textAreaLeft" fmla="*/ 0 w 633600"/>
                <a:gd name="textAreaRight" fmla="*/ 633600 w 633600"/>
                <a:gd name="textAreaTop" fmla="*/ 0 h 2801880"/>
                <a:gd name="textAreaBottom" fmla="*/ 2802240 h 2801880"/>
              </a:gdLst>
              <a:ahLst/>
              <a:rect l="textAreaLeft" t="textAreaTop" r="textAreaRight" b="textAreaBottom"/>
              <a:pathLst>
                <a:path w="399" h="1765">
                  <a:moveTo>
                    <a:pt x="399" y="29"/>
                  </a:moveTo>
                  <a:lnTo>
                    <a:pt x="397" y="29"/>
                  </a:lnTo>
                  <a:lnTo>
                    <a:pt x="355" y="17"/>
                  </a:lnTo>
                  <a:lnTo>
                    <a:pt x="311" y="10"/>
                  </a:lnTo>
                  <a:lnTo>
                    <a:pt x="267" y="4"/>
                  </a:lnTo>
                  <a:lnTo>
                    <a:pt x="222" y="2"/>
                  </a:lnTo>
                  <a:lnTo>
                    <a:pt x="178" y="0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4" y="4"/>
                  </a:lnTo>
                  <a:lnTo>
                    <a:pt x="174" y="6"/>
                  </a:lnTo>
                  <a:lnTo>
                    <a:pt x="174" y="6"/>
                  </a:lnTo>
                  <a:lnTo>
                    <a:pt x="173" y="8"/>
                  </a:lnTo>
                  <a:lnTo>
                    <a:pt x="173" y="10"/>
                  </a:lnTo>
                  <a:lnTo>
                    <a:pt x="173" y="10"/>
                  </a:lnTo>
                  <a:lnTo>
                    <a:pt x="176" y="10"/>
                  </a:lnTo>
                  <a:lnTo>
                    <a:pt x="222" y="11"/>
                  </a:lnTo>
                  <a:lnTo>
                    <a:pt x="267" y="15"/>
                  </a:lnTo>
                  <a:lnTo>
                    <a:pt x="311" y="21"/>
                  </a:lnTo>
                  <a:lnTo>
                    <a:pt x="353" y="29"/>
                  </a:lnTo>
                  <a:lnTo>
                    <a:pt x="395" y="38"/>
                  </a:lnTo>
                  <a:lnTo>
                    <a:pt x="395" y="36"/>
                  </a:lnTo>
                  <a:lnTo>
                    <a:pt x="395" y="34"/>
                  </a:lnTo>
                  <a:lnTo>
                    <a:pt x="397" y="34"/>
                  </a:lnTo>
                  <a:lnTo>
                    <a:pt x="397" y="33"/>
                  </a:lnTo>
                  <a:lnTo>
                    <a:pt x="397" y="33"/>
                  </a:lnTo>
                  <a:lnTo>
                    <a:pt x="397" y="31"/>
                  </a:lnTo>
                  <a:lnTo>
                    <a:pt x="399" y="29"/>
                  </a:lnTo>
                  <a:lnTo>
                    <a:pt x="399" y="29"/>
                  </a:lnTo>
                  <a:close/>
                  <a:moveTo>
                    <a:pt x="4" y="1748"/>
                  </a:moveTo>
                  <a:lnTo>
                    <a:pt x="42" y="1756"/>
                  </a:lnTo>
                  <a:lnTo>
                    <a:pt x="86" y="1761"/>
                  </a:lnTo>
                  <a:lnTo>
                    <a:pt x="132" y="1765"/>
                  </a:lnTo>
                  <a:lnTo>
                    <a:pt x="176" y="1765"/>
                  </a:lnTo>
                  <a:lnTo>
                    <a:pt x="222" y="1765"/>
                  </a:lnTo>
                  <a:lnTo>
                    <a:pt x="267" y="1761"/>
                  </a:lnTo>
                  <a:lnTo>
                    <a:pt x="311" y="1756"/>
                  </a:lnTo>
                  <a:lnTo>
                    <a:pt x="355" y="1748"/>
                  </a:lnTo>
                  <a:lnTo>
                    <a:pt x="391" y="1738"/>
                  </a:lnTo>
                  <a:lnTo>
                    <a:pt x="391" y="1738"/>
                  </a:lnTo>
                  <a:lnTo>
                    <a:pt x="391" y="1736"/>
                  </a:lnTo>
                  <a:lnTo>
                    <a:pt x="391" y="1734"/>
                  </a:lnTo>
                  <a:lnTo>
                    <a:pt x="391" y="1734"/>
                  </a:lnTo>
                  <a:lnTo>
                    <a:pt x="391" y="1732"/>
                  </a:lnTo>
                  <a:lnTo>
                    <a:pt x="391" y="1731"/>
                  </a:lnTo>
                  <a:lnTo>
                    <a:pt x="391" y="1731"/>
                  </a:lnTo>
                  <a:lnTo>
                    <a:pt x="389" y="1729"/>
                  </a:lnTo>
                  <a:lnTo>
                    <a:pt x="353" y="1738"/>
                  </a:lnTo>
                  <a:lnTo>
                    <a:pt x="311" y="1746"/>
                  </a:lnTo>
                  <a:lnTo>
                    <a:pt x="267" y="1752"/>
                  </a:lnTo>
                  <a:lnTo>
                    <a:pt x="222" y="1754"/>
                  </a:lnTo>
                  <a:lnTo>
                    <a:pt x="176" y="1756"/>
                  </a:lnTo>
                  <a:lnTo>
                    <a:pt x="132" y="1754"/>
                  </a:lnTo>
                  <a:lnTo>
                    <a:pt x="88" y="1752"/>
                  </a:lnTo>
                  <a:lnTo>
                    <a:pt x="44" y="1746"/>
                  </a:lnTo>
                  <a:lnTo>
                    <a:pt x="2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40"/>
                  </a:lnTo>
                  <a:lnTo>
                    <a:pt x="2" y="1742"/>
                  </a:lnTo>
                  <a:lnTo>
                    <a:pt x="2" y="1742"/>
                  </a:lnTo>
                  <a:lnTo>
                    <a:pt x="2" y="1744"/>
                  </a:lnTo>
                  <a:lnTo>
                    <a:pt x="2" y="1746"/>
                  </a:lnTo>
                  <a:lnTo>
                    <a:pt x="4" y="1748"/>
                  </a:lnTo>
                  <a:lnTo>
                    <a:pt x="4" y="1748"/>
                  </a:lnTo>
                  <a:close/>
                </a:path>
              </a:pathLst>
            </a:custGeom>
            <a:solidFill>
              <a:srgbClr val="54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94"/>
            <p:cNvSpPr/>
            <p:nvPr/>
          </p:nvSpPr>
          <p:spPr>
            <a:xfrm>
              <a:off x="2104920" y="1766880"/>
              <a:ext cx="633600" cy="2786040"/>
            </a:xfrm>
            <a:custGeom>
              <a:avLst/>
              <a:gdLst>
                <a:gd name="textAreaLeft" fmla="*/ 0 w 633600"/>
                <a:gd name="textAreaRight" fmla="*/ 633600 w 633600"/>
                <a:gd name="textAreaTop" fmla="*/ 0 h 2786040"/>
                <a:gd name="textAreaBottom" fmla="*/ 2786400 h 2786040"/>
              </a:gdLst>
              <a:ahLst/>
              <a:rect l="textAreaLeft" t="textAreaTop" r="textAreaRight" b="textAreaBottom"/>
              <a:pathLst>
                <a:path w="399" h="1755">
                  <a:moveTo>
                    <a:pt x="399" y="27"/>
                  </a:moveTo>
                  <a:lnTo>
                    <a:pt x="399" y="27"/>
                  </a:lnTo>
                  <a:lnTo>
                    <a:pt x="355" y="17"/>
                  </a:lnTo>
                  <a:lnTo>
                    <a:pt x="313" y="9"/>
                  </a:lnTo>
                  <a:lnTo>
                    <a:pt x="269" y="4"/>
                  </a:lnTo>
                  <a:lnTo>
                    <a:pt x="224" y="0"/>
                  </a:lnTo>
                  <a:lnTo>
                    <a:pt x="178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75" y="2"/>
                  </a:lnTo>
                  <a:lnTo>
                    <a:pt x="175" y="4"/>
                  </a:lnTo>
                  <a:lnTo>
                    <a:pt x="175" y="4"/>
                  </a:lnTo>
                  <a:lnTo>
                    <a:pt x="173" y="5"/>
                  </a:lnTo>
                  <a:lnTo>
                    <a:pt x="173" y="7"/>
                  </a:lnTo>
                  <a:lnTo>
                    <a:pt x="173" y="7"/>
                  </a:lnTo>
                  <a:lnTo>
                    <a:pt x="171" y="9"/>
                  </a:lnTo>
                  <a:lnTo>
                    <a:pt x="178" y="9"/>
                  </a:lnTo>
                  <a:lnTo>
                    <a:pt x="224" y="11"/>
                  </a:lnTo>
                  <a:lnTo>
                    <a:pt x="269" y="13"/>
                  </a:lnTo>
                  <a:lnTo>
                    <a:pt x="311" y="19"/>
                  </a:lnTo>
                  <a:lnTo>
                    <a:pt x="353" y="27"/>
                  </a:lnTo>
                  <a:lnTo>
                    <a:pt x="393" y="36"/>
                  </a:lnTo>
                  <a:lnTo>
                    <a:pt x="395" y="34"/>
                  </a:lnTo>
                  <a:lnTo>
                    <a:pt x="395" y="34"/>
                  </a:lnTo>
                  <a:lnTo>
                    <a:pt x="395" y="32"/>
                  </a:lnTo>
                  <a:lnTo>
                    <a:pt x="397" y="32"/>
                  </a:lnTo>
                  <a:lnTo>
                    <a:pt x="397" y="30"/>
                  </a:lnTo>
                  <a:lnTo>
                    <a:pt x="397" y="28"/>
                  </a:lnTo>
                  <a:lnTo>
                    <a:pt x="399" y="28"/>
                  </a:lnTo>
                  <a:lnTo>
                    <a:pt x="399" y="27"/>
                  </a:lnTo>
                  <a:close/>
                  <a:moveTo>
                    <a:pt x="4" y="1736"/>
                  </a:moveTo>
                  <a:lnTo>
                    <a:pt x="46" y="1744"/>
                  </a:lnTo>
                  <a:lnTo>
                    <a:pt x="90" y="1750"/>
                  </a:lnTo>
                  <a:lnTo>
                    <a:pt x="134" y="1753"/>
                  </a:lnTo>
                  <a:lnTo>
                    <a:pt x="178" y="1755"/>
                  </a:lnTo>
                  <a:lnTo>
                    <a:pt x="224" y="1753"/>
                  </a:lnTo>
                  <a:lnTo>
                    <a:pt x="269" y="1750"/>
                  </a:lnTo>
                  <a:lnTo>
                    <a:pt x="313" y="1744"/>
                  </a:lnTo>
                  <a:lnTo>
                    <a:pt x="355" y="1736"/>
                  </a:lnTo>
                  <a:lnTo>
                    <a:pt x="393" y="1728"/>
                  </a:lnTo>
                  <a:lnTo>
                    <a:pt x="393" y="1726"/>
                  </a:lnTo>
                  <a:lnTo>
                    <a:pt x="393" y="1726"/>
                  </a:lnTo>
                  <a:lnTo>
                    <a:pt x="393" y="1725"/>
                  </a:lnTo>
                  <a:lnTo>
                    <a:pt x="393" y="1725"/>
                  </a:lnTo>
                  <a:lnTo>
                    <a:pt x="391" y="1725"/>
                  </a:lnTo>
                  <a:lnTo>
                    <a:pt x="391" y="1723"/>
                  </a:lnTo>
                  <a:lnTo>
                    <a:pt x="391" y="1723"/>
                  </a:lnTo>
                  <a:lnTo>
                    <a:pt x="391" y="1721"/>
                  </a:lnTo>
                  <a:lnTo>
                    <a:pt x="391" y="1721"/>
                  </a:lnTo>
                  <a:lnTo>
                    <a:pt x="391" y="1721"/>
                  </a:lnTo>
                  <a:lnTo>
                    <a:pt x="391" y="1721"/>
                  </a:lnTo>
                  <a:lnTo>
                    <a:pt x="391" y="1719"/>
                  </a:lnTo>
                  <a:lnTo>
                    <a:pt x="391" y="1719"/>
                  </a:lnTo>
                  <a:lnTo>
                    <a:pt x="391" y="1719"/>
                  </a:lnTo>
                  <a:lnTo>
                    <a:pt x="390" y="1719"/>
                  </a:lnTo>
                  <a:lnTo>
                    <a:pt x="390" y="1719"/>
                  </a:lnTo>
                  <a:lnTo>
                    <a:pt x="353" y="1726"/>
                  </a:lnTo>
                  <a:lnTo>
                    <a:pt x="311" y="1734"/>
                  </a:lnTo>
                  <a:lnTo>
                    <a:pt x="269" y="1740"/>
                  </a:lnTo>
                  <a:lnTo>
                    <a:pt x="224" y="1744"/>
                  </a:lnTo>
                  <a:lnTo>
                    <a:pt x="178" y="1744"/>
                  </a:lnTo>
                  <a:lnTo>
                    <a:pt x="134" y="1744"/>
                  </a:lnTo>
                  <a:lnTo>
                    <a:pt x="90" y="1740"/>
                  </a:lnTo>
                  <a:lnTo>
                    <a:pt x="46" y="1734"/>
                  </a:lnTo>
                  <a:lnTo>
                    <a:pt x="4" y="1726"/>
                  </a:lnTo>
                  <a:lnTo>
                    <a:pt x="0" y="1726"/>
                  </a:lnTo>
                  <a:lnTo>
                    <a:pt x="0" y="1726"/>
                  </a:lnTo>
                  <a:lnTo>
                    <a:pt x="2" y="1728"/>
                  </a:lnTo>
                  <a:lnTo>
                    <a:pt x="2" y="1730"/>
                  </a:lnTo>
                  <a:lnTo>
                    <a:pt x="2" y="1730"/>
                  </a:lnTo>
                  <a:lnTo>
                    <a:pt x="2" y="1732"/>
                  </a:lnTo>
                  <a:lnTo>
                    <a:pt x="2" y="1734"/>
                  </a:lnTo>
                  <a:lnTo>
                    <a:pt x="4" y="1736"/>
                  </a:lnTo>
                  <a:lnTo>
                    <a:pt x="4" y="1736"/>
                  </a:lnTo>
                  <a:close/>
                </a:path>
              </a:pathLst>
            </a:custGeom>
            <a:solidFill>
              <a:srgbClr val="55b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95"/>
            <p:cNvSpPr/>
            <p:nvPr/>
          </p:nvSpPr>
          <p:spPr>
            <a:xfrm>
              <a:off x="2101680" y="1773000"/>
              <a:ext cx="633600" cy="2772000"/>
            </a:xfrm>
            <a:custGeom>
              <a:avLst/>
              <a:gdLst>
                <a:gd name="textAreaLeft" fmla="*/ 0 w 633600"/>
                <a:gd name="textAreaRight" fmla="*/ 633600 w 633600"/>
                <a:gd name="textAreaTop" fmla="*/ 0 h 2772000"/>
                <a:gd name="textAreaBottom" fmla="*/ 2772360 h 2772000"/>
              </a:gdLst>
              <a:ahLst/>
              <a:rect l="textAreaLeft" t="textAreaTop" r="textAreaRight" b="textAreaBottom"/>
              <a:pathLst>
                <a:path w="399" h="1746">
                  <a:moveTo>
                    <a:pt x="399" y="28"/>
                  </a:moveTo>
                  <a:lnTo>
                    <a:pt x="357" y="19"/>
                  </a:lnTo>
                  <a:lnTo>
                    <a:pt x="315" y="11"/>
                  </a:lnTo>
                  <a:lnTo>
                    <a:pt x="271" y="5"/>
                  </a:lnTo>
                  <a:lnTo>
                    <a:pt x="226" y="1"/>
                  </a:lnTo>
                  <a:lnTo>
                    <a:pt x="180" y="0"/>
                  </a:lnTo>
                  <a:lnTo>
                    <a:pt x="177" y="0"/>
                  </a:lnTo>
                  <a:lnTo>
                    <a:pt x="175" y="1"/>
                  </a:lnTo>
                  <a:lnTo>
                    <a:pt x="175" y="3"/>
                  </a:lnTo>
                  <a:lnTo>
                    <a:pt x="175" y="3"/>
                  </a:lnTo>
                  <a:lnTo>
                    <a:pt x="173" y="5"/>
                  </a:lnTo>
                  <a:lnTo>
                    <a:pt x="173" y="7"/>
                  </a:lnTo>
                  <a:lnTo>
                    <a:pt x="171" y="9"/>
                  </a:lnTo>
                  <a:lnTo>
                    <a:pt x="171" y="9"/>
                  </a:lnTo>
                  <a:lnTo>
                    <a:pt x="171" y="11"/>
                  </a:lnTo>
                  <a:lnTo>
                    <a:pt x="180" y="11"/>
                  </a:lnTo>
                  <a:lnTo>
                    <a:pt x="225" y="11"/>
                  </a:lnTo>
                  <a:lnTo>
                    <a:pt x="269" y="15"/>
                  </a:lnTo>
                  <a:lnTo>
                    <a:pt x="313" y="21"/>
                  </a:lnTo>
                  <a:lnTo>
                    <a:pt x="355" y="28"/>
                  </a:lnTo>
                  <a:lnTo>
                    <a:pt x="393" y="38"/>
                  </a:lnTo>
                  <a:lnTo>
                    <a:pt x="393" y="36"/>
                  </a:lnTo>
                  <a:lnTo>
                    <a:pt x="395" y="34"/>
                  </a:lnTo>
                  <a:lnTo>
                    <a:pt x="395" y="34"/>
                  </a:lnTo>
                  <a:lnTo>
                    <a:pt x="395" y="32"/>
                  </a:lnTo>
                  <a:lnTo>
                    <a:pt x="397" y="30"/>
                  </a:lnTo>
                  <a:lnTo>
                    <a:pt x="397" y="30"/>
                  </a:lnTo>
                  <a:lnTo>
                    <a:pt x="397" y="28"/>
                  </a:lnTo>
                  <a:lnTo>
                    <a:pt x="399" y="28"/>
                  </a:lnTo>
                  <a:close/>
                  <a:moveTo>
                    <a:pt x="4" y="1728"/>
                  </a:moveTo>
                  <a:lnTo>
                    <a:pt x="6" y="1728"/>
                  </a:lnTo>
                  <a:lnTo>
                    <a:pt x="48" y="1736"/>
                  </a:lnTo>
                  <a:lnTo>
                    <a:pt x="92" y="1742"/>
                  </a:lnTo>
                  <a:lnTo>
                    <a:pt x="136" y="1744"/>
                  </a:lnTo>
                  <a:lnTo>
                    <a:pt x="180" y="1746"/>
                  </a:lnTo>
                  <a:lnTo>
                    <a:pt x="226" y="1744"/>
                  </a:lnTo>
                  <a:lnTo>
                    <a:pt x="271" y="1742"/>
                  </a:lnTo>
                  <a:lnTo>
                    <a:pt x="315" y="1736"/>
                  </a:lnTo>
                  <a:lnTo>
                    <a:pt x="357" y="1728"/>
                  </a:lnTo>
                  <a:lnTo>
                    <a:pt x="393" y="1719"/>
                  </a:lnTo>
                  <a:lnTo>
                    <a:pt x="393" y="1719"/>
                  </a:lnTo>
                  <a:lnTo>
                    <a:pt x="393" y="1719"/>
                  </a:lnTo>
                  <a:lnTo>
                    <a:pt x="393" y="1719"/>
                  </a:lnTo>
                  <a:lnTo>
                    <a:pt x="393" y="1719"/>
                  </a:lnTo>
                  <a:lnTo>
                    <a:pt x="393" y="1719"/>
                  </a:lnTo>
                  <a:lnTo>
                    <a:pt x="393" y="1717"/>
                  </a:lnTo>
                  <a:lnTo>
                    <a:pt x="393" y="1717"/>
                  </a:lnTo>
                  <a:lnTo>
                    <a:pt x="393" y="1717"/>
                  </a:lnTo>
                  <a:lnTo>
                    <a:pt x="393" y="1717"/>
                  </a:lnTo>
                  <a:lnTo>
                    <a:pt x="393" y="1715"/>
                  </a:lnTo>
                  <a:lnTo>
                    <a:pt x="392" y="1715"/>
                  </a:lnTo>
                  <a:lnTo>
                    <a:pt x="392" y="1713"/>
                  </a:lnTo>
                  <a:lnTo>
                    <a:pt x="392" y="1713"/>
                  </a:lnTo>
                  <a:lnTo>
                    <a:pt x="392" y="1711"/>
                  </a:lnTo>
                  <a:lnTo>
                    <a:pt x="390" y="1711"/>
                  </a:lnTo>
                  <a:lnTo>
                    <a:pt x="390" y="1709"/>
                  </a:lnTo>
                  <a:lnTo>
                    <a:pt x="355" y="1717"/>
                  </a:lnTo>
                  <a:lnTo>
                    <a:pt x="313" y="1724"/>
                  </a:lnTo>
                  <a:lnTo>
                    <a:pt x="269" y="1730"/>
                  </a:lnTo>
                  <a:lnTo>
                    <a:pt x="225" y="1734"/>
                  </a:lnTo>
                  <a:lnTo>
                    <a:pt x="180" y="1736"/>
                  </a:lnTo>
                  <a:lnTo>
                    <a:pt x="136" y="1734"/>
                  </a:lnTo>
                  <a:lnTo>
                    <a:pt x="92" y="1730"/>
                  </a:lnTo>
                  <a:lnTo>
                    <a:pt x="50" y="1724"/>
                  </a:lnTo>
                  <a:lnTo>
                    <a:pt x="8" y="1717"/>
                  </a:lnTo>
                  <a:lnTo>
                    <a:pt x="0" y="1717"/>
                  </a:lnTo>
                  <a:lnTo>
                    <a:pt x="0" y="1717"/>
                  </a:lnTo>
                  <a:lnTo>
                    <a:pt x="2" y="1719"/>
                  </a:lnTo>
                  <a:lnTo>
                    <a:pt x="2" y="1721"/>
                  </a:lnTo>
                  <a:lnTo>
                    <a:pt x="2" y="1722"/>
                  </a:lnTo>
                  <a:lnTo>
                    <a:pt x="2" y="1722"/>
                  </a:lnTo>
                  <a:lnTo>
                    <a:pt x="4" y="1724"/>
                  </a:lnTo>
                  <a:lnTo>
                    <a:pt x="4" y="1726"/>
                  </a:lnTo>
                  <a:lnTo>
                    <a:pt x="4" y="1728"/>
                  </a:lnTo>
                  <a:close/>
                </a:path>
              </a:pathLst>
            </a:custGeom>
            <a:solidFill>
              <a:srgbClr val="56b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96"/>
            <p:cNvSpPr/>
            <p:nvPr/>
          </p:nvSpPr>
          <p:spPr>
            <a:xfrm>
              <a:off x="2098800" y="1780920"/>
              <a:ext cx="630000" cy="275436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2754360"/>
                <a:gd name="textAreaBottom" fmla="*/ 2754720 h 2754360"/>
              </a:gdLst>
              <a:ahLst/>
              <a:rect l="textAreaLeft" t="textAreaTop" r="textAreaRight" b="textAreaBottom"/>
              <a:pathLst>
                <a:path w="397" h="1735">
                  <a:moveTo>
                    <a:pt x="397" y="27"/>
                  </a:moveTo>
                  <a:lnTo>
                    <a:pt x="357" y="18"/>
                  </a:lnTo>
                  <a:lnTo>
                    <a:pt x="315" y="10"/>
                  </a:lnTo>
                  <a:lnTo>
                    <a:pt x="273" y="4"/>
                  </a:lnTo>
                  <a:lnTo>
                    <a:pt x="228" y="2"/>
                  </a:lnTo>
                  <a:lnTo>
                    <a:pt x="182" y="0"/>
                  </a:lnTo>
                  <a:lnTo>
                    <a:pt x="175" y="0"/>
                  </a:lnTo>
                  <a:lnTo>
                    <a:pt x="175" y="2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1" y="8"/>
                  </a:lnTo>
                  <a:lnTo>
                    <a:pt x="171" y="8"/>
                  </a:lnTo>
                  <a:lnTo>
                    <a:pt x="171" y="10"/>
                  </a:lnTo>
                  <a:lnTo>
                    <a:pt x="169" y="12"/>
                  </a:lnTo>
                  <a:lnTo>
                    <a:pt x="182" y="10"/>
                  </a:lnTo>
                  <a:lnTo>
                    <a:pt x="227" y="12"/>
                  </a:lnTo>
                  <a:lnTo>
                    <a:pt x="271" y="16"/>
                  </a:lnTo>
                  <a:lnTo>
                    <a:pt x="313" y="21"/>
                  </a:lnTo>
                  <a:lnTo>
                    <a:pt x="355" y="27"/>
                  </a:lnTo>
                  <a:lnTo>
                    <a:pt x="394" y="37"/>
                  </a:lnTo>
                  <a:lnTo>
                    <a:pt x="394" y="35"/>
                  </a:lnTo>
                  <a:lnTo>
                    <a:pt x="394" y="35"/>
                  </a:lnTo>
                  <a:lnTo>
                    <a:pt x="395" y="33"/>
                  </a:lnTo>
                  <a:lnTo>
                    <a:pt x="395" y="33"/>
                  </a:lnTo>
                  <a:lnTo>
                    <a:pt x="395" y="31"/>
                  </a:lnTo>
                  <a:lnTo>
                    <a:pt x="397" y="29"/>
                  </a:lnTo>
                  <a:lnTo>
                    <a:pt x="397" y="29"/>
                  </a:lnTo>
                  <a:lnTo>
                    <a:pt x="397" y="27"/>
                  </a:lnTo>
                  <a:close/>
                  <a:moveTo>
                    <a:pt x="4" y="1717"/>
                  </a:moveTo>
                  <a:lnTo>
                    <a:pt x="8" y="1717"/>
                  </a:lnTo>
                  <a:lnTo>
                    <a:pt x="50" y="1725"/>
                  </a:lnTo>
                  <a:lnTo>
                    <a:pt x="94" y="1731"/>
                  </a:lnTo>
                  <a:lnTo>
                    <a:pt x="138" y="1735"/>
                  </a:lnTo>
                  <a:lnTo>
                    <a:pt x="182" y="1735"/>
                  </a:lnTo>
                  <a:lnTo>
                    <a:pt x="228" y="1735"/>
                  </a:lnTo>
                  <a:lnTo>
                    <a:pt x="273" y="1731"/>
                  </a:lnTo>
                  <a:lnTo>
                    <a:pt x="315" y="1725"/>
                  </a:lnTo>
                  <a:lnTo>
                    <a:pt x="357" y="1717"/>
                  </a:lnTo>
                  <a:lnTo>
                    <a:pt x="394" y="1710"/>
                  </a:lnTo>
                  <a:lnTo>
                    <a:pt x="394" y="1708"/>
                  </a:lnTo>
                  <a:lnTo>
                    <a:pt x="394" y="1706"/>
                  </a:lnTo>
                  <a:lnTo>
                    <a:pt x="392" y="1706"/>
                  </a:lnTo>
                  <a:lnTo>
                    <a:pt x="392" y="1704"/>
                  </a:lnTo>
                  <a:lnTo>
                    <a:pt x="392" y="1704"/>
                  </a:lnTo>
                  <a:lnTo>
                    <a:pt x="390" y="1702"/>
                  </a:lnTo>
                  <a:lnTo>
                    <a:pt x="390" y="1700"/>
                  </a:lnTo>
                  <a:lnTo>
                    <a:pt x="390" y="1700"/>
                  </a:lnTo>
                  <a:lnTo>
                    <a:pt x="355" y="1708"/>
                  </a:lnTo>
                  <a:lnTo>
                    <a:pt x="313" y="1716"/>
                  </a:lnTo>
                  <a:lnTo>
                    <a:pt x="271" y="1721"/>
                  </a:lnTo>
                  <a:lnTo>
                    <a:pt x="227" y="1723"/>
                  </a:lnTo>
                  <a:lnTo>
                    <a:pt x="182" y="1725"/>
                  </a:lnTo>
                  <a:lnTo>
                    <a:pt x="138" y="1723"/>
                  </a:lnTo>
                  <a:lnTo>
                    <a:pt x="96" y="1721"/>
                  </a:lnTo>
                  <a:lnTo>
                    <a:pt x="52" y="1716"/>
                  </a:lnTo>
                  <a:lnTo>
                    <a:pt x="10" y="1708"/>
                  </a:lnTo>
                  <a:lnTo>
                    <a:pt x="0" y="1706"/>
                  </a:lnTo>
                  <a:lnTo>
                    <a:pt x="2" y="1706"/>
                  </a:lnTo>
                  <a:lnTo>
                    <a:pt x="2" y="1708"/>
                  </a:lnTo>
                  <a:lnTo>
                    <a:pt x="2" y="1710"/>
                  </a:lnTo>
                  <a:lnTo>
                    <a:pt x="2" y="1712"/>
                  </a:lnTo>
                  <a:lnTo>
                    <a:pt x="2" y="1712"/>
                  </a:lnTo>
                  <a:lnTo>
                    <a:pt x="4" y="1714"/>
                  </a:lnTo>
                  <a:lnTo>
                    <a:pt x="4" y="1716"/>
                  </a:lnTo>
                  <a:lnTo>
                    <a:pt x="4" y="1717"/>
                  </a:lnTo>
                  <a:close/>
                </a:path>
              </a:pathLst>
            </a:custGeom>
            <a:solidFill>
              <a:srgbClr val="57b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97"/>
            <p:cNvSpPr/>
            <p:nvPr/>
          </p:nvSpPr>
          <p:spPr>
            <a:xfrm>
              <a:off x="2098800" y="1790640"/>
              <a:ext cx="627120" cy="273816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2738160"/>
                <a:gd name="textAreaBottom" fmla="*/ 2738160 h 2738160"/>
              </a:gdLst>
              <a:ahLst/>
              <a:rect l="textAreaLeft" t="textAreaTop" r="textAreaRight" b="textAreaBottom"/>
              <a:pathLst>
                <a:path w="395" h="1725">
                  <a:moveTo>
                    <a:pt x="395" y="27"/>
                  </a:moveTo>
                  <a:lnTo>
                    <a:pt x="357" y="17"/>
                  </a:lnTo>
                  <a:lnTo>
                    <a:pt x="315" y="10"/>
                  </a:lnTo>
                  <a:lnTo>
                    <a:pt x="271" y="4"/>
                  </a:lnTo>
                  <a:lnTo>
                    <a:pt x="227" y="0"/>
                  </a:lnTo>
                  <a:lnTo>
                    <a:pt x="182" y="0"/>
                  </a:lnTo>
                  <a:lnTo>
                    <a:pt x="173" y="0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4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7" y="8"/>
                  </a:lnTo>
                  <a:lnTo>
                    <a:pt x="167" y="10"/>
                  </a:lnTo>
                  <a:lnTo>
                    <a:pt x="167" y="10"/>
                  </a:lnTo>
                  <a:lnTo>
                    <a:pt x="182" y="10"/>
                  </a:lnTo>
                  <a:lnTo>
                    <a:pt x="227" y="12"/>
                  </a:lnTo>
                  <a:lnTo>
                    <a:pt x="271" y="13"/>
                  </a:lnTo>
                  <a:lnTo>
                    <a:pt x="313" y="19"/>
                  </a:lnTo>
                  <a:lnTo>
                    <a:pt x="355" y="27"/>
                  </a:lnTo>
                  <a:lnTo>
                    <a:pt x="390" y="35"/>
                  </a:lnTo>
                  <a:lnTo>
                    <a:pt x="392" y="35"/>
                  </a:lnTo>
                  <a:lnTo>
                    <a:pt x="392" y="33"/>
                  </a:lnTo>
                  <a:lnTo>
                    <a:pt x="392" y="33"/>
                  </a:lnTo>
                  <a:lnTo>
                    <a:pt x="394" y="31"/>
                  </a:lnTo>
                  <a:lnTo>
                    <a:pt x="394" y="29"/>
                  </a:lnTo>
                  <a:lnTo>
                    <a:pt x="394" y="29"/>
                  </a:lnTo>
                  <a:lnTo>
                    <a:pt x="395" y="27"/>
                  </a:lnTo>
                  <a:lnTo>
                    <a:pt x="395" y="27"/>
                  </a:lnTo>
                  <a:close/>
                  <a:moveTo>
                    <a:pt x="2" y="1706"/>
                  </a:moveTo>
                  <a:lnTo>
                    <a:pt x="10" y="1706"/>
                  </a:lnTo>
                  <a:lnTo>
                    <a:pt x="52" y="1713"/>
                  </a:lnTo>
                  <a:lnTo>
                    <a:pt x="94" y="1719"/>
                  </a:lnTo>
                  <a:lnTo>
                    <a:pt x="138" y="1723"/>
                  </a:lnTo>
                  <a:lnTo>
                    <a:pt x="182" y="1725"/>
                  </a:lnTo>
                  <a:lnTo>
                    <a:pt x="227" y="1723"/>
                  </a:lnTo>
                  <a:lnTo>
                    <a:pt x="271" y="1719"/>
                  </a:lnTo>
                  <a:lnTo>
                    <a:pt x="315" y="1713"/>
                  </a:lnTo>
                  <a:lnTo>
                    <a:pt x="357" y="1706"/>
                  </a:lnTo>
                  <a:lnTo>
                    <a:pt x="392" y="1698"/>
                  </a:lnTo>
                  <a:lnTo>
                    <a:pt x="392" y="1698"/>
                  </a:lnTo>
                  <a:lnTo>
                    <a:pt x="390" y="1696"/>
                  </a:lnTo>
                  <a:lnTo>
                    <a:pt x="390" y="1694"/>
                  </a:lnTo>
                  <a:lnTo>
                    <a:pt x="390" y="1694"/>
                  </a:lnTo>
                  <a:lnTo>
                    <a:pt x="388" y="1692"/>
                  </a:lnTo>
                  <a:lnTo>
                    <a:pt x="388" y="1692"/>
                  </a:lnTo>
                  <a:lnTo>
                    <a:pt x="388" y="1690"/>
                  </a:lnTo>
                  <a:lnTo>
                    <a:pt x="388" y="1688"/>
                  </a:lnTo>
                  <a:lnTo>
                    <a:pt x="355" y="1696"/>
                  </a:lnTo>
                  <a:lnTo>
                    <a:pt x="313" y="1704"/>
                  </a:lnTo>
                  <a:lnTo>
                    <a:pt x="271" y="1710"/>
                  </a:lnTo>
                  <a:lnTo>
                    <a:pt x="227" y="1713"/>
                  </a:lnTo>
                  <a:lnTo>
                    <a:pt x="182" y="1713"/>
                  </a:lnTo>
                  <a:lnTo>
                    <a:pt x="138" y="1713"/>
                  </a:lnTo>
                  <a:lnTo>
                    <a:pt x="96" y="1710"/>
                  </a:lnTo>
                  <a:lnTo>
                    <a:pt x="54" y="1704"/>
                  </a:lnTo>
                  <a:lnTo>
                    <a:pt x="12" y="1696"/>
                  </a:lnTo>
                  <a:lnTo>
                    <a:pt x="0" y="1694"/>
                  </a:lnTo>
                  <a:lnTo>
                    <a:pt x="0" y="1694"/>
                  </a:lnTo>
                  <a:lnTo>
                    <a:pt x="0" y="1696"/>
                  </a:lnTo>
                  <a:lnTo>
                    <a:pt x="0" y="1698"/>
                  </a:lnTo>
                  <a:lnTo>
                    <a:pt x="0" y="1700"/>
                  </a:lnTo>
                  <a:lnTo>
                    <a:pt x="2" y="1700"/>
                  </a:lnTo>
                  <a:lnTo>
                    <a:pt x="2" y="1702"/>
                  </a:lnTo>
                  <a:lnTo>
                    <a:pt x="2" y="1704"/>
                  </a:lnTo>
                  <a:lnTo>
                    <a:pt x="2" y="1706"/>
                  </a:lnTo>
                  <a:close/>
                </a:path>
              </a:pathLst>
            </a:custGeom>
            <a:solidFill>
              <a:srgbClr val="58b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98"/>
            <p:cNvSpPr/>
            <p:nvPr/>
          </p:nvSpPr>
          <p:spPr>
            <a:xfrm>
              <a:off x="2095560" y="1796760"/>
              <a:ext cx="628560" cy="272268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2722680"/>
                <a:gd name="textAreaBottom" fmla="*/ 2723040 h 2722680"/>
              </a:gdLst>
              <a:ahLst/>
              <a:rect l="textAreaLeft" t="textAreaTop" r="textAreaRight" b="textAreaBottom"/>
              <a:pathLst>
                <a:path w="396" h="1715">
                  <a:moveTo>
                    <a:pt x="396" y="27"/>
                  </a:moveTo>
                  <a:lnTo>
                    <a:pt x="357" y="17"/>
                  </a:lnTo>
                  <a:lnTo>
                    <a:pt x="315" y="11"/>
                  </a:lnTo>
                  <a:lnTo>
                    <a:pt x="273" y="6"/>
                  </a:lnTo>
                  <a:lnTo>
                    <a:pt x="229" y="2"/>
                  </a:lnTo>
                  <a:lnTo>
                    <a:pt x="184" y="0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69" y="4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7" y="8"/>
                  </a:lnTo>
                  <a:lnTo>
                    <a:pt x="167" y="9"/>
                  </a:lnTo>
                  <a:lnTo>
                    <a:pt x="167" y="9"/>
                  </a:lnTo>
                  <a:lnTo>
                    <a:pt x="165" y="11"/>
                  </a:lnTo>
                  <a:lnTo>
                    <a:pt x="184" y="11"/>
                  </a:lnTo>
                  <a:lnTo>
                    <a:pt x="229" y="11"/>
                  </a:lnTo>
                  <a:lnTo>
                    <a:pt x="271" y="15"/>
                  </a:lnTo>
                  <a:lnTo>
                    <a:pt x="315" y="21"/>
                  </a:lnTo>
                  <a:lnTo>
                    <a:pt x="355" y="29"/>
                  </a:lnTo>
                  <a:lnTo>
                    <a:pt x="390" y="36"/>
                  </a:lnTo>
                  <a:lnTo>
                    <a:pt x="390" y="34"/>
                  </a:lnTo>
                  <a:lnTo>
                    <a:pt x="392" y="34"/>
                  </a:lnTo>
                  <a:lnTo>
                    <a:pt x="392" y="32"/>
                  </a:lnTo>
                  <a:lnTo>
                    <a:pt x="392" y="31"/>
                  </a:lnTo>
                  <a:lnTo>
                    <a:pt x="394" y="31"/>
                  </a:lnTo>
                  <a:lnTo>
                    <a:pt x="394" y="29"/>
                  </a:lnTo>
                  <a:lnTo>
                    <a:pt x="394" y="29"/>
                  </a:lnTo>
                  <a:lnTo>
                    <a:pt x="396" y="27"/>
                  </a:lnTo>
                  <a:close/>
                  <a:moveTo>
                    <a:pt x="2" y="1696"/>
                  </a:moveTo>
                  <a:lnTo>
                    <a:pt x="12" y="1698"/>
                  </a:lnTo>
                  <a:lnTo>
                    <a:pt x="54" y="1706"/>
                  </a:lnTo>
                  <a:lnTo>
                    <a:pt x="98" y="1711"/>
                  </a:lnTo>
                  <a:lnTo>
                    <a:pt x="140" y="1713"/>
                  </a:lnTo>
                  <a:lnTo>
                    <a:pt x="184" y="1715"/>
                  </a:lnTo>
                  <a:lnTo>
                    <a:pt x="229" y="1713"/>
                  </a:lnTo>
                  <a:lnTo>
                    <a:pt x="273" y="1711"/>
                  </a:lnTo>
                  <a:lnTo>
                    <a:pt x="315" y="1706"/>
                  </a:lnTo>
                  <a:lnTo>
                    <a:pt x="357" y="1698"/>
                  </a:lnTo>
                  <a:lnTo>
                    <a:pt x="392" y="1690"/>
                  </a:lnTo>
                  <a:lnTo>
                    <a:pt x="390" y="1688"/>
                  </a:lnTo>
                  <a:lnTo>
                    <a:pt x="390" y="1688"/>
                  </a:lnTo>
                  <a:lnTo>
                    <a:pt x="390" y="1686"/>
                  </a:lnTo>
                  <a:lnTo>
                    <a:pt x="390" y="1684"/>
                  </a:lnTo>
                  <a:lnTo>
                    <a:pt x="388" y="1684"/>
                  </a:lnTo>
                  <a:lnTo>
                    <a:pt x="388" y="1683"/>
                  </a:lnTo>
                  <a:lnTo>
                    <a:pt x="388" y="1681"/>
                  </a:lnTo>
                  <a:lnTo>
                    <a:pt x="386" y="1681"/>
                  </a:lnTo>
                  <a:lnTo>
                    <a:pt x="355" y="1688"/>
                  </a:lnTo>
                  <a:lnTo>
                    <a:pt x="315" y="1694"/>
                  </a:lnTo>
                  <a:lnTo>
                    <a:pt x="271" y="1700"/>
                  </a:lnTo>
                  <a:lnTo>
                    <a:pt x="229" y="1704"/>
                  </a:lnTo>
                  <a:lnTo>
                    <a:pt x="184" y="1706"/>
                  </a:lnTo>
                  <a:lnTo>
                    <a:pt x="142" y="1704"/>
                  </a:lnTo>
                  <a:lnTo>
                    <a:pt x="98" y="1700"/>
                  </a:lnTo>
                  <a:lnTo>
                    <a:pt x="56" y="1694"/>
                  </a:lnTo>
                  <a:lnTo>
                    <a:pt x="14" y="1688"/>
                  </a:lnTo>
                  <a:lnTo>
                    <a:pt x="0" y="1684"/>
                  </a:lnTo>
                  <a:lnTo>
                    <a:pt x="0" y="1686"/>
                  </a:lnTo>
                  <a:lnTo>
                    <a:pt x="0" y="1686"/>
                  </a:lnTo>
                  <a:lnTo>
                    <a:pt x="0" y="1688"/>
                  </a:lnTo>
                  <a:lnTo>
                    <a:pt x="2" y="1690"/>
                  </a:lnTo>
                  <a:lnTo>
                    <a:pt x="2" y="1690"/>
                  </a:lnTo>
                  <a:lnTo>
                    <a:pt x="2" y="1692"/>
                  </a:lnTo>
                  <a:lnTo>
                    <a:pt x="2" y="1694"/>
                  </a:lnTo>
                  <a:lnTo>
                    <a:pt x="2" y="1696"/>
                  </a:lnTo>
                  <a:close/>
                </a:path>
              </a:pathLst>
            </a:custGeom>
            <a:solidFill>
              <a:srgbClr val="59b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99"/>
            <p:cNvSpPr/>
            <p:nvPr/>
          </p:nvSpPr>
          <p:spPr>
            <a:xfrm>
              <a:off x="2092320" y="1806480"/>
              <a:ext cx="625320" cy="2703600"/>
            </a:xfrm>
            <a:custGeom>
              <a:avLst/>
              <a:gdLst/>
              <a:ahLst/>
              <a:rect l="l" t="t" r="r" b="b"/>
              <a:pathLst>
                <a:path w="394" h="1703">
                  <a:moveTo>
                    <a:pt x="394" y="25"/>
                  </a:moveTo>
                  <a:lnTo>
                    <a:pt x="359" y="17"/>
                  </a:lnTo>
                  <a:lnTo>
                    <a:pt x="317" y="9"/>
                  </a:lnTo>
                  <a:lnTo>
                    <a:pt x="275" y="3"/>
                  </a:lnTo>
                  <a:lnTo>
                    <a:pt x="231" y="2"/>
                  </a:lnTo>
                  <a:lnTo>
                    <a:pt x="186" y="0"/>
                  </a:lnTo>
                  <a:lnTo>
                    <a:pt x="171" y="0"/>
                  </a:lnTo>
                  <a:lnTo>
                    <a:pt x="169" y="2"/>
                  </a:lnTo>
                  <a:lnTo>
                    <a:pt x="169" y="3"/>
                  </a:lnTo>
                  <a:lnTo>
                    <a:pt x="169" y="3"/>
                  </a:lnTo>
                  <a:lnTo>
                    <a:pt x="167" y="5"/>
                  </a:lnTo>
                  <a:lnTo>
                    <a:pt x="167" y="7"/>
                  </a:lnTo>
                  <a:lnTo>
                    <a:pt x="167" y="7"/>
                  </a:lnTo>
                  <a:lnTo>
                    <a:pt x="165" y="9"/>
                  </a:lnTo>
                  <a:lnTo>
                    <a:pt x="165" y="11"/>
                  </a:lnTo>
                  <a:lnTo>
                    <a:pt x="186" y="9"/>
                  </a:lnTo>
                  <a:lnTo>
                    <a:pt x="231" y="11"/>
                  </a:lnTo>
                  <a:lnTo>
                    <a:pt x="273" y="15"/>
                  </a:lnTo>
                  <a:lnTo>
                    <a:pt x="315" y="19"/>
                  </a:lnTo>
                  <a:lnTo>
                    <a:pt x="357" y="26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92" y="32"/>
                  </a:lnTo>
                  <a:lnTo>
                    <a:pt x="392" y="30"/>
                  </a:lnTo>
                  <a:lnTo>
                    <a:pt x="392" y="30"/>
                  </a:lnTo>
                  <a:lnTo>
                    <a:pt x="392" y="28"/>
                  </a:lnTo>
                  <a:lnTo>
                    <a:pt x="394" y="28"/>
                  </a:lnTo>
                  <a:lnTo>
                    <a:pt x="394" y="26"/>
                  </a:lnTo>
                  <a:lnTo>
                    <a:pt x="394" y="25"/>
                  </a:lnTo>
                  <a:close/>
                  <a:moveTo>
                    <a:pt x="4" y="1684"/>
                  </a:moveTo>
                  <a:lnTo>
                    <a:pt x="16" y="1686"/>
                  </a:lnTo>
                  <a:lnTo>
                    <a:pt x="58" y="1694"/>
                  </a:lnTo>
                  <a:lnTo>
                    <a:pt x="100" y="1700"/>
                  </a:lnTo>
                  <a:lnTo>
                    <a:pt x="142" y="1703"/>
                  </a:lnTo>
                  <a:lnTo>
                    <a:pt x="186" y="1703"/>
                  </a:lnTo>
                  <a:lnTo>
                    <a:pt x="231" y="1703"/>
                  </a:lnTo>
                  <a:lnTo>
                    <a:pt x="275" y="1700"/>
                  </a:lnTo>
                  <a:lnTo>
                    <a:pt x="317" y="1694"/>
                  </a:lnTo>
                  <a:lnTo>
                    <a:pt x="359" y="1686"/>
                  </a:lnTo>
                  <a:lnTo>
                    <a:pt x="392" y="1678"/>
                  </a:lnTo>
                  <a:lnTo>
                    <a:pt x="390" y="1678"/>
                  </a:lnTo>
                  <a:lnTo>
                    <a:pt x="390" y="1677"/>
                  </a:lnTo>
                  <a:lnTo>
                    <a:pt x="390" y="1675"/>
                  </a:lnTo>
                  <a:lnTo>
                    <a:pt x="388" y="1675"/>
                  </a:lnTo>
                  <a:lnTo>
                    <a:pt x="388" y="1673"/>
                  </a:lnTo>
                  <a:lnTo>
                    <a:pt x="388" y="1673"/>
                  </a:lnTo>
                  <a:lnTo>
                    <a:pt x="386" y="1671"/>
                  </a:lnTo>
                  <a:lnTo>
                    <a:pt x="386" y="1669"/>
                  </a:lnTo>
                  <a:lnTo>
                    <a:pt x="357" y="1677"/>
                  </a:lnTo>
                  <a:lnTo>
                    <a:pt x="315" y="1684"/>
                  </a:lnTo>
                  <a:lnTo>
                    <a:pt x="273" y="1690"/>
                  </a:lnTo>
                  <a:lnTo>
                    <a:pt x="231" y="1692"/>
                  </a:lnTo>
                  <a:lnTo>
                    <a:pt x="186" y="1694"/>
                  </a:lnTo>
                  <a:lnTo>
                    <a:pt x="144" y="1692"/>
                  </a:lnTo>
                  <a:lnTo>
                    <a:pt x="100" y="1690"/>
                  </a:lnTo>
                  <a:lnTo>
                    <a:pt x="60" y="1684"/>
                  </a:lnTo>
                  <a:lnTo>
                    <a:pt x="18" y="1677"/>
                  </a:lnTo>
                  <a:lnTo>
                    <a:pt x="0" y="1673"/>
                  </a:lnTo>
                  <a:lnTo>
                    <a:pt x="0" y="1675"/>
                  </a:lnTo>
                  <a:lnTo>
                    <a:pt x="0" y="1675"/>
                  </a:lnTo>
                  <a:lnTo>
                    <a:pt x="0" y="1677"/>
                  </a:lnTo>
                  <a:lnTo>
                    <a:pt x="2" y="1678"/>
                  </a:lnTo>
                  <a:lnTo>
                    <a:pt x="2" y="1680"/>
                  </a:lnTo>
                  <a:lnTo>
                    <a:pt x="2" y="1680"/>
                  </a:lnTo>
                  <a:lnTo>
                    <a:pt x="2" y="1682"/>
                  </a:lnTo>
                  <a:lnTo>
                    <a:pt x="4" y="1684"/>
                  </a:lnTo>
                  <a:close/>
                </a:path>
              </a:pathLst>
            </a:custGeom>
            <a:solidFill>
              <a:srgbClr val="5ab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100"/>
            <p:cNvSpPr/>
            <p:nvPr/>
          </p:nvSpPr>
          <p:spPr>
            <a:xfrm>
              <a:off x="2089080" y="1814400"/>
              <a:ext cx="625680" cy="2690640"/>
            </a:xfrm>
            <a:custGeom>
              <a:avLst/>
              <a:gdLst/>
              <a:ahLst/>
              <a:rect l="l" t="t" r="r" b="b"/>
              <a:pathLst>
                <a:path w="394" h="1695">
                  <a:moveTo>
                    <a:pt x="394" y="25"/>
                  </a:moveTo>
                  <a:lnTo>
                    <a:pt x="359" y="18"/>
                  </a:lnTo>
                  <a:lnTo>
                    <a:pt x="319" y="10"/>
                  </a:lnTo>
                  <a:lnTo>
                    <a:pt x="275" y="4"/>
                  </a:lnTo>
                  <a:lnTo>
                    <a:pt x="233" y="0"/>
                  </a:lnTo>
                  <a:lnTo>
                    <a:pt x="188" y="0"/>
                  </a:lnTo>
                  <a:lnTo>
                    <a:pt x="169" y="0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7" y="4"/>
                  </a:lnTo>
                  <a:lnTo>
                    <a:pt x="167" y="6"/>
                  </a:lnTo>
                  <a:lnTo>
                    <a:pt x="167" y="6"/>
                  </a:lnTo>
                  <a:lnTo>
                    <a:pt x="165" y="8"/>
                  </a:lnTo>
                  <a:lnTo>
                    <a:pt x="165" y="10"/>
                  </a:lnTo>
                  <a:lnTo>
                    <a:pt x="163" y="10"/>
                  </a:lnTo>
                  <a:lnTo>
                    <a:pt x="188" y="10"/>
                  </a:lnTo>
                  <a:lnTo>
                    <a:pt x="233" y="12"/>
                  </a:lnTo>
                  <a:lnTo>
                    <a:pt x="275" y="14"/>
                  </a:lnTo>
                  <a:lnTo>
                    <a:pt x="317" y="20"/>
                  </a:lnTo>
                  <a:lnTo>
                    <a:pt x="357" y="27"/>
                  </a:lnTo>
                  <a:lnTo>
                    <a:pt x="390" y="35"/>
                  </a:lnTo>
                  <a:lnTo>
                    <a:pt x="390" y="33"/>
                  </a:lnTo>
                  <a:lnTo>
                    <a:pt x="390" y="33"/>
                  </a:lnTo>
                  <a:lnTo>
                    <a:pt x="392" y="31"/>
                  </a:lnTo>
                  <a:lnTo>
                    <a:pt x="392" y="29"/>
                  </a:lnTo>
                  <a:lnTo>
                    <a:pt x="392" y="29"/>
                  </a:lnTo>
                  <a:lnTo>
                    <a:pt x="394" y="27"/>
                  </a:lnTo>
                  <a:lnTo>
                    <a:pt x="394" y="25"/>
                  </a:lnTo>
                  <a:lnTo>
                    <a:pt x="394" y="25"/>
                  </a:lnTo>
                  <a:close/>
                  <a:moveTo>
                    <a:pt x="4" y="1673"/>
                  </a:moveTo>
                  <a:lnTo>
                    <a:pt x="18" y="1677"/>
                  </a:lnTo>
                  <a:lnTo>
                    <a:pt x="60" y="1683"/>
                  </a:lnTo>
                  <a:lnTo>
                    <a:pt x="102" y="1689"/>
                  </a:lnTo>
                  <a:lnTo>
                    <a:pt x="146" y="1693"/>
                  </a:lnTo>
                  <a:lnTo>
                    <a:pt x="188" y="1695"/>
                  </a:lnTo>
                  <a:lnTo>
                    <a:pt x="233" y="1693"/>
                  </a:lnTo>
                  <a:lnTo>
                    <a:pt x="275" y="1689"/>
                  </a:lnTo>
                  <a:lnTo>
                    <a:pt x="319" y="1683"/>
                  </a:lnTo>
                  <a:lnTo>
                    <a:pt x="359" y="1677"/>
                  </a:lnTo>
                  <a:lnTo>
                    <a:pt x="390" y="1670"/>
                  </a:lnTo>
                  <a:lnTo>
                    <a:pt x="390" y="1668"/>
                  </a:lnTo>
                  <a:lnTo>
                    <a:pt x="390" y="1668"/>
                  </a:lnTo>
                  <a:lnTo>
                    <a:pt x="388" y="1666"/>
                  </a:lnTo>
                  <a:lnTo>
                    <a:pt x="388" y="1664"/>
                  </a:lnTo>
                  <a:lnTo>
                    <a:pt x="388" y="1664"/>
                  </a:lnTo>
                  <a:lnTo>
                    <a:pt x="386" y="1662"/>
                  </a:lnTo>
                  <a:lnTo>
                    <a:pt x="386" y="1662"/>
                  </a:lnTo>
                  <a:lnTo>
                    <a:pt x="386" y="1660"/>
                  </a:lnTo>
                  <a:lnTo>
                    <a:pt x="357" y="1666"/>
                  </a:lnTo>
                  <a:lnTo>
                    <a:pt x="317" y="1673"/>
                  </a:lnTo>
                  <a:lnTo>
                    <a:pt x="275" y="1679"/>
                  </a:lnTo>
                  <a:lnTo>
                    <a:pt x="233" y="1683"/>
                  </a:lnTo>
                  <a:lnTo>
                    <a:pt x="188" y="1683"/>
                  </a:lnTo>
                  <a:lnTo>
                    <a:pt x="146" y="1683"/>
                  </a:lnTo>
                  <a:lnTo>
                    <a:pt x="104" y="1679"/>
                  </a:lnTo>
                  <a:lnTo>
                    <a:pt x="62" y="1673"/>
                  </a:lnTo>
                  <a:lnTo>
                    <a:pt x="20" y="1666"/>
                  </a:lnTo>
                  <a:lnTo>
                    <a:pt x="0" y="1662"/>
                  </a:lnTo>
                  <a:lnTo>
                    <a:pt x="0" y="1664"/>
                  </a:lnTo>
                  <a:lnTo>
                    <a:pt x="0" y="1664"/>
                  </a:lnTo>
                  <a:lnTo>
                    <a:pt x="2" y="1666"/>
                  </a:lnTo>
                  <a:lnTo>
                    <a:pt x="2" y="1668"/>
                  </a:lnTo>
                  <a:lnTo>
                    <a:pt x="2" y="1670"/>
                  </a:lnTo>
                  <a:lnTo>
                    <a:pt x="2" y="1670"/>
                  </a:lnTo>
                  <a:lnTo>
                    <a:pt x="2" y="1672"/>
                  </a:lnTo>
                  <a:lnTo>
                    <a:pt x="4" y="1673"/>
                  </a:lnTo>
                  <a:close/>
                </a:path>
              </a:pathLst>
            </a:custGeom>
            <a:solidFill>
              <a:srgbClr val="5bb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101"/>
            <p:cNvSpPr/>
            <p:nvPr/>
          </p:nvSpPr>
          <p:spPr>
            <a:xfrm>
              <a:off x="2085840" y="1820520"/>
              <a:ext cx="625680" cy="2675160"/>
            </a:xfrm>
            <a:custGeom>
              <a:avLst/>
              <a:gdLst>
                <a:gd name="textAreaLeft" fmla="*/ 0 w 625680"/>
                <a:gd name="textAreaRight" fmla="*/ 625680 w 625680"/>
                <a:gd name="textAreaTop" fmla="*/ 0 h 2675160"/>
                <a:gd name="textAreaBottom" fmla="*/ 2675520 h 2675160"/>
              </a:gdLst>
              <a:ahLst/>
              <a:rect l="textAreaLeft" t="textAreaTop" r="textAreaRight" b="textAreaBottom"/>
              <a:pathLst>
                <a:path w="394" h="1685">
                  <a:moveTo>
                    <a:pt x="394" y="25"/>
                  </a:moveTo>
                  <a:lnTo>
                    <a:pt x="361" y="17"/>
                  </a:lnTo>
                  <a:lnTo>
                    <a:pt x="319" y="10"/>
                  </a:lnTo>
                  <a:lnTo>
                    <a:pt x="277" y="6"/>
                  </a:lnTo>
                  <a:lnTo>
                    <a:pt x="235" y="2"/>
                  </a:lnTo>
                  <a:lnTo>
                    <a:pt x="190" y="0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7" y="4"/>
                  </a:lnTo>
                  <a:lnTo>
                    <a:pt x="167" y="6"/>
                  </a:lnTo>
                  <a:lnTo>
                    <a:pt x="165" y="6"/>
                  </a:lnTo>
                  <a:lnTo>
                    <a:pt x="165" y="8"/>
                  </a:lnTo>
                  <a:lnTo>
                    <a:pt x="165" y="10"/>
                  </a:lnTo>
                  <a:lnTo>
                    <a:pt x="164" y="10"/>
                  </a:lnTo>
                  <a:lnTo>
                    <a:pt x="164" y="12"/>
                  </a:lnTo>
                  <a:lnTo>
                    <a:pt x="190" y="12"/>
                  </a:lnTo>
                  <a:lnTo>
                    <a:pt x="235" y="12"/>
                  </a:lnTo>
                  <a:lnTo>
                    <a:pt x="277" y="16"/>
                  </a:lnTo>
                  <a:lnTo>
                    <a:pt x="317" y="21"/>
                  </a:lnTo>
                  <a:lnTo>
                    <a:pt x="359" y="29"/>
                  </a:lnTo>
                  <a:lnTo>
                    <a:pt x="388" y="35"/>
                  </a:lnTo>
                  <a:lnTo>
                    <a:pt x="390" y="35"/>
                  </a:lnTo>
                  <a:lnTo>
                    <a:pt x="390" y="33"/>
                  </a:lnTo>
                  <a:lnTo>
                    <a:pt x="390" y="31"/>
                  </a:lnTo>
                  <a:lnTo>
                    <a:pt x="392" y="31"/>
                  </a:lnTo>
                  <a:lnTo>
                    <a:pt x="392" y="29"/>
                  </a:lnTo>
                  <a:lnTo>
                    <a:pt x="392" y="29"/>
                  </a:lnTo>
                  <a:lnTo>
                    <a:pt x="394" y="27"/>
                  </a:lnTo>
                  <a:lnTo>
                    <a:pt x="394" y="25"/>
                  </a:lnTo>
                  <a:close/>
                  <a:moveTo>
                    <a:pt x="4" y="1664"/>
                  </a:moveTo>
                  <a:lnTo>
                    <a:pt x="22" y="1668"/>
                  </a:lnTo>
                  <a:lnTo>
                    <a:pt x="64" y="1675"/>
                  </a:lnTo>
                  <a:lnTo>
                    <a:pt x="104" y="1681"/>
                  </a:lnTo>
                  <a:lnTo>
                    <a:pt x="148" y="1683"/>
                  </a:lnTo>
                  <a:lnTo>
                    <a:pt x="190" y="1685"/>
                  </a:lnTo>
                  <a:lnTo>
                    <a:pt x="235" y="1683"/>
                  </a:lnTo>
                  <a:lnTo>
                    <a:pt x="277" y="1681"/>
                  </a:lnTo>
                  <a:lnTo>
                    <a:pt x="319" y="1675"/>
                  </a:lnTo>
                  <a:lnTo>
                    <a:pt x="361" y="1668"/>
                  </a:lnTo>
                  <a:lnTo>
                    <a:pt x="390" y="1660"/>
                  </a:lnTo>
                  <a:lnTo>
                    <a:pt x="390" y="1660"/>
                  </a:lnTo>
                  <a:lnTo>
                    <a:pt x="388" y="1658"/>
                  </a:lnTo>
                  <a:lnTo>
                    <a:pt x="388" y="1658"/>
                  </a:lnTo>
                  <a:lnTo>
                    <a:pt x="388" y="1656"/>
                  </a:lnTo>
                  <a:lnTo>
                    <a:pt x="386" y="1654"/>
                  </a:lnTo>
                  <a:lnTo>
                    <a:pt x="386" y="1654"/>
                  </a:lnTo>
                  <a:lnTo>
                    <a:pt x="386" y="1652"/>
                  </a:lnTo>
                  <a:lnTo>
                    <a:pt x="386" y="1650"/>
                  </a:lnTo>
                  <a:lnTo>
                    <a:pt x="359" y="1658"/>
                  </a:lnTo>
                  <a:lnTo>
                    <a:pt x="317" y="1666"/>
                  </a:lnTo>
                  <a:lnTo>
                    <a:pt x="277" y="1669"/>
                  </a:lnTo>
                  <a:lnTo>
                    <a:pt x="235" y="1673"/>
                  </a:lnTo>
                  <a:lnTo>
                    <a:pt x="190" y="1673"/>
                  </a:lnTo>
                  <a:lnTo>
                    <a:pt x="148" y="1673"/>
                  </a:lnTo>
                  <a:lnTo>
                    <a:pt x="106" y="1669"/>
                  </a:lnTo>
                  <a:lnTo>
                    <a:pt x="64" y="1666"/>
                  </a:lnTo>
                  <a:lnTo>
                    <a:pt x="23" y="1658"/>
                  </a:lnTo>
                  <a:lnTo>
                    <a:pt x="0" y="1652"/>
                  </a:lnTo>
                  <a:lnTo>
                    <a:pt x="0" y="1654"/>
                  </a:lnTo>
                  <a:lnTo>
                    <a:pt x="2" y="1654"/>
                  </a:lnTo>
                  <a:lnTo>
                    <a:pt x="2" y="1656"/>
                  </a:lnTo>
                  <a:lnTo>
                    <a:pt x="2" y="1658"/>
                  </a:lnTo>
                  <a:lnTo>
                    <a:pt x="2" y="1660"/>
                  </a:lnTo>
                  <a:lnTo>
                    <a:pt x="2" y="1660"/>
                  </a:lnTo>
                  <a:lnTo>
                    <a:pt x="4" y="1662"/>
                  </a:lnTo>
                  <a:lnTo>
                    <a:pt x="4" y="1664"/>
                  </a:lnTo>
                  <a:close/>
                </a:path>
              </a:pathLst>
            </a:custGeom>
            <a:solidFill>
              <a:srgbClr val="5cb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102"/>
            <p:cNvSpPr/>
            <p:nvPr/>
          </p:nvSpPr>
          <p:spPr>
            <a:xfrm>
              <a:off x="2082960" y="1830240"/>
              <a:ext cx="625320" cy="265572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2655720"/>
                <a:gd name="textAreaBottom" fmla="*/ 2656080 h 2655720"/>
              </a:gdLst>
              <a:ahLst/>
              <a:rect l="textAreaLeft" t="textAreaTop" r="textAreaRight" b="textAreaBottom"/>
              <a:pathLst>
                <a:path w="394" h="1673">
                  <a:moveTo>
                    <a:pt x="394" y="25"/>
                  </a:moveTo>
                  <a:lnTo>
                    <a:pt x="361" y="17"/>
                  </a:lnTo>
                  <a:lnTo>
                    <a:pt x="321" y="10"/>
                  </a:lnTo>
                  <a:lnTo>
                    <a:pt x="279" y="4"/>
                  </a:lnTo>
                  <a:lnTo>
                    <a:pt x="237" y="2"/>
                  </a:lnTo>
                  <a:lnTo>
                    <a:pt x="192" y="0"/>
                  </a:lnTo>
                  <a:lnTo>
                    <a:pt x="167" y="0"/>
                  </a:lnTo>
                  <a:lnTo>
                    <a:pt x="167" y="2"/>
                  </a:lnTo>
                  <a:lnTo>
                    <a:pt x="167" y="4"/>
                  </a:lnTo>
                  <a:lnTo>
                    <a:pt x="166" y="4"/>
                  </a:lnTo>
                  <a:lnTo>
                    <a:pt x="166" y="6"/>
                  </a:lnTo>
                  <a:lnTo>
                    <a:pt x="166" y="8"/>
                  </a:lnTo>
                  <a:lnTo>
                    <a:pt x="164" y="10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92" y="10"/>
                  </a:lnTo>
                  <a:lnTo>
                    <a:pt x="235" y="11"/>
                  </a:lnTo>
                  <a:lnTo>
                    <a:pt x="277" y="15"/>
                  </a:lnTo>
                  <a:lnTo>
                    <a:pt x="319" y="19"/>
                  </a:lnTo>
                  <a:lnTo>
                    <a:pt x="359" y="27"/>
                  </a:lnTo>
                  <a:lnTo>
                    <a:pt x="388" y="35"/>
                  </a:lnTo>
                  <a:lnTo>
                    <a:pt x="390" y="33"/>
                  </a:lnTo>
                  <a:lnTo>
                    <a:pt x="390" y="31"/>
                  </a:lnTo>
                  <a:lnTo>
                    <a:pt x="390" y="31"/>
                  </a:lnTo>
                  <a:lnTo>
                    <a:pt x="390" y="29"/>
                  </a:lnTo>
                  <a:lnTo>
                    <a:pt x="392" y="29"/>
                  </a:lnTo>
                  <a:lnTo>
                    <a:pt x="392" y="27"/>
                  </a:lnTo>
                  <a:lnTo>
                    <a:pt x="392" y="25"/>
                  </a:lnTo>
                  <a:lnTo>
                    <a:pt x="394" y="25"/>
                  </a:lnTo>
                  <a:close/>
                  <a:moveTo>
                    <a:pt x="4" y="1652"/>
                  </a:moveTo>
                  <a:lnTo>
                    <a:pt x="24" y="1656"/>
                  </a:lnTo>
                  <a:lnTo>
                    <a:pt x="66" y="1663"/>
                  </a:lnTo>
                  <a:lnTo>
                    <a:pt x="108" y="1669"/>
                  </a:lnTo>
                  <a:lnTo>
                    <a:pt x="150" y="1673"/>
                  </a:lnTo>
                  <a:lnTo>
                    <a:pt x="192" y="1673"/>
                  </a:lnTo>
                  <a:lnTo>
                    <a:pt x="237" y="1673"/>
                  </a:lnTo>
                  <a:lnTo>
                    <a:pt x="279" y="1669"/>
                  </a:lnTo>
                  <a:lnTo>
                    <a:pt x="321" y="1663"/>
                  </a:lnTo>
                  <a:lnTo>
                    <a:pt x="361" y="1656"/>
                  </a:lnTo>
                  <a:lnTo>
                    <a:pt x="390" y="1650"/>
                  </a:lnTo>
                  <a:lnTo>
                    <a:pt x="388" y="1648"/>
                  </a:lnTo>
                  <a:lnTo>
                    <a:pt x="388" y="1648"/>
                  </a:lnTo>
                  <a:lnTo>
                    <a:pt x="388" y="1646"/>
                  </a:lnTo>
                  <a:lnTo>
                    <a:pt x="388" y="1644"/>
                  </a:lnTo>
                  <a:lnTo>
                    <a:pt x="386" y="1644"/>
                  </a:lnTo>
                  <a:lnTo>
                    <a:pt x="386" y="1642"/>
                  </a:lnTo>
                  <a:lnTo>
                    <a:pt x="386" y="1642"/>
                  </a:lnTo>
                  <a:lnTo>
                    <a:pt x="384" y="1640"/>
                  </a:lnTo>
                  <a:lnTo>
                    <a:pt x="359" y="1646"/>
                  </a:lnTo>
                  <a:lnTo>
                    <a:pt x="319" y="1654"/>
                  </a:lnTo>
                  <a:lnTo>
                    <a:pt x="277" y="1660"/>
                  </a:lnTo>
                  <a:lnTo>
                    <a:pt x="235" y="1662"/>
                  </a:lnTo>
                  <a:lnTo>
                    <a:pt x="192" y="1663"/>
                  </a:lnTo>
                  <a:lnTo>
                    <a:pt x="150" y="1662"/>
                  </a:lnTo>
                  <a:lnTo>
                    <a:pt x="108" y="1660"/>
                  </a:lnTo>
                  <a:lnTo>
                    <a:pt x="68" y="1654"/>
                  </a:lnTo>
                  <a:lnTo>
                    <a:pt x="27" y="1646"/>
                  </a:lnTo>
                  <a:lnTo>
                    <a:pt x="0" y="1640"/>
                  </a:lnTo>
                  <a:lnTo>
                    <a:pt x="2" y="1642"/>
                  </a:lnTo>
                  <a:lnTo>
                    <a:pt x="2" y="1642"/>
                  </a:lnTo>
                  <a:lnTo>
                    <a:pt x="2" y="1644"/>
                  </a:lnTo>
                  <a:lnTo>
                    <a:pt x="2" y="1646"/>
                  </a:lnTo>
                  <a:lnTo>
                    <a:pt x="2" y="1648"/>
                  </a:lnTo>
                  <a:lnTo>
                    <a:pt x="4" y="1648"/>
                  </a:lnTo>
                  <a:lnTo>
                    <a:pt x="4" y="1650"/>
                  </a:lnTo>
                  <a:lnTo>
                    <a:pt x="4" y="1652"/>
                  </a:lnTo>
                  <a:close/>
                </a:path>
              </a:pathLst>
            </a:custGeom>
            <a:solidFill>
              <a:srgbClr val="5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103"/>
            <p:cNvSpPr/>
            <p:nvPr/>
          </p:nvSpPr>
          <p:spPr>
            <a:xfrm>
              <a:off x="2082960" y="1839600"/>
              <a:ext cx="618840" cy="263700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2637000"/>
                <a:gd name="textAreaBottom" fmla="*/ 2637360 h 2637000"/>
              </a:gdLst>
              <a:ahLst/>
              <a:rect l="textAreaLeft" t="textAreaTop" r="textAreaRight" b="textAreaBottom"/>
              <a:pathLst>
                <a:path w="390" h="1661">
                  <a:moveTo>
                    <a:pt x="390" y="23"/>
                  </a:moveTo>
                  <a:lnTo>
                    <a:pt x="361" y="17"/>
                  </a:lnTo>
                  <a:lnTo>
                    <a:pt x="319" y="9"/>
                  </a:lnTo>
                  <a:lnTo>
                    <a:pt x="279" y="4"/>
                  </a:lnTo>
                  <a:lnTo>
                    <a:pt x="237" y="0"/>
                  </a:lnTo>
                  <a:lnTo>
                    <a:pt x="192" y="0"/>
                  </a:lnTo>
                  <a:lnTo>
                    <a:pt x="166" y="0"/>
                  </a:lnTo>
                  <a:lnTo>
                    <a:pt x="166" y="2"/>
                  </a:lnTo>
                  <a:lnTo>
                    <a:pt x="164" y="4"/>
                  </a:lnTo>
                  <a:lnTo>
                    <a:pt x="164" y="4"/>
                  </a:lnTo>
                  <a:lnTo>
                    <a:pt x="164" y="5"/>
                  </a:lnTo>
                  <a:lnTo>
                    <a:pt x="162" y="7"/>
                  </a:lnTo>
                  <a:lnTo>
                    <a:pt x="162" y="7"/>
                  </a:lnTo>
                  <a:lnTo>
                    <a:pt x="162" y="9"/>
                  </a:lnTo>
                  <a:lnTo>
                    <a:pt x="160" y="11"/>
                  </a:lnTo>
                  <a:lnTo>
                    <a:pt x="192" y="9"/>
                  </a:lnTo>
                  <a:lnTo>
                    <a:pt x="235" y="11"/>
                  </a:lnTo>
                  <a:lnTo>
                    <a:pt x="277" y="13"/>
                  </a:lnTo>
                  <a:lnTo>
                    <a:pt x="317" y="19"/>
                  </a:lnTo>
                  <a:lnTo>
                    <a:pt x="359" y="27"/>
                  </a:lnTo>
                  <a:lnTo>
                    <a:pt x="386" y="32"/>
                  </a:lnTo>
                  <a:lnTo>
                    <a:pt x="386" y="32"/>
                  </a:lnTo>
                  <a:lnTo>
                    <a:pt x="388" y="30"/>
                  </a:lnTo>
                  <a:lnTo>
                    <a:pt x="388" y="29"/>
                  </a:lnTo>
                  <a:lnTo>
                    <a:pt x="388" y="29"/>
                  </a:lnTo>
                  <a:lnTo>
                    <a:pt x="390" y="27"/>
                  </a:lnTo>
                  <a:lnTo>
                    <a:pt x="390" y="25"/>
                  </a:lnTo>
                  <a:lnTo>
                    <a:pt x="390" y="25"/>
                  </a:lnTo>
                  <a:lnTo>
                    <a:pt x="390" y="23"/>
                  </a:lnTo>
                  <a:close/>
                  <a:moveTo>
                    <a:pt x="2" y="1640"/>
                  </a:moveTo>
                  <a:lnTo>
                    <a:pt x="25" y="1646"/>
                  </a:lnTo>
                  <a:lnTo>
                    <a:pt x="66" y="1654"/>
                  </a:lnTo>
                  <a:lnTo>
                    <a:pt x="108" y="1657"/>
                  </a:lnTo>
                  <a:lnTo>
                    <a:pt x="150" y="1661"/>
                  </a:lnTo>
                  <a:lnTo>
                    <a:pt x="192" y="1661"/>
                  </a:lnTo>
                  <a:lnTo>
                    <a:pt x="237" y="1661"/>
                  </a:lnTo>
                  <a:lnTo>
                    <a:pt x="279" y="1657"/>
                  </a:lnTo>
                  <a:lnTo>
                    <a:pt x="319" y="1654"/>
                  </a:lnTo>
                  <a:lnTo>
                    <a:pt x="361" y="1646"/>
                  </a:lnTo>
                  <a:lnTo>
                    <a:pt x="388" y="1638"/>
                  </a:lnTo>
                  <a:lnTo>
                    <a:pt x="386" y="1638"/>
                  </a:lnTo>
                  <a:lnTo>
                    <a:pt x="386" y="1636"/>
                  </a:lnTo>
                  <a:lnTo>
                    <a:pt x="386" y="1636"/>
                  </a:lnTo>
                  <a:lnTo>
                    <a:pt x="384" y="1634"/>
                  </a:lnTo>
                  <a:lnTo>
                    <a:pt x="384" y="1633"/>
                  </a:lnTo>
                  <a:lnTo>
                    <a:pt x="384" y="1633"/>
                  </a:lnTo>
                  <a:lnTo>
                    <a:pt x="382" y="1631"/>
                  </a:lnTo>
                  <a:lnTo>
                    <a:pt x="382" y="1631"/>
                  </a:lnTo>
                  <a:lnTo>
                    <a:pt x="359" y="1634"/>
                  </a:lnTo>
                  <a:lnTo>
                    <a:pt x="317" y="1642"/>
                  </a:lnTo>
                  <a:lnTo>
                    <a:pt x="277" y="1648"/>
                  </a:lnTo>
                  <a:lnTo>
                    <a:pt x="235" y="1652"/>
                  </a:lnTo>
                  <a:lnTo>
                    <a:pt x="192" y="1652"/>
                  </a:lnTo>
                  <a:lnTo>
                    <a:pt x="150" y="1652"/>
                  </a:lnTo>
                  <a:lnTo>
                    <a:pt x="110" y="1648"/>
                  </a:lnTo>
                  <a:lnTo>
                    <a:pt x="68" y="1642"/>
                  </a:lnTo>
                  <a:lnTo>
                    <a:pt x="27" y="1634"/>
                  </a:lnTo>
                  <a:lnTo>
                    <a:pt x="0" y="1629"/>
                  </a:lnTo>
                  <a:lnTo>
                    <a:pt x="0" y="1631"/>
                  </a:lnTo>
                  <a:lnTo>
                    <a:pt x="0" y="1633"/>
                  </a:lnTo>
                  <a:lnTo>
                    <a:pt x="0" y="1633"/>
                  </a:lnTo>
                  <a:lnTo>
                    <a:pt x="0" y="1634"/>
                  </a:lnTo>
                  <a:lnTo>
                    <a:pt x="2" y="1636"/>
                  </a:lnTo>
                  <a:lnTo>
                    <a:pt x="2" y="1636"/>
                  </a:lnTo>
                  <a:lnTo>
                    <a:pt x="2" y="1638"/>
                  </a:lnTo>
                  <a:lnTo>
                    <a:pt x="2" y="1640"/>
                  </a:lnTo>
                  <a:close/>
                </a:path>
              </a:pathLst>
            </a:custGeom>
            <a:solidFill>
              <a:srgbClr val="5e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104"/>
            <p:cNvSpPr/>
            <p:nvPr/>
          </p:nvSpPr>
          <p:spPr>
            <a:xfrm>
              <a:off x="2081160" y="1846080"/>
              <a:ext cx="617760" cy="262404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2624040"/>
                <a:gd name="textAreaBottom" fmla="*/ 2624400 h 2624040"/>
              </a:gdLst>
              <a:ahLst/>
              <a:rect l="textAreaLeft" t="textAreaTop" r="textAreaRight" b="textAreaBottom"/>
              <a:pathLst>
                <a:path w="389" h="1653">
                  <a:moveTo>
                    <a:pt x="389" y="25"/>
                  </a:moveTo>
                  <a:lnTo>
                    <a:pt x="360" y="17"/>
                  </a:lnTo>
                  <a:lnTo>
                    <a:pt x="320" y="9"/>
                  </a:lnTo>
                  <a:lnTo>
                    <a:pt x="278" y="5"/>
                  </a:lnTo>
                  <a:lnTo>
                    <a:pt x="236" y="1"/>
                  </a:lnTo>
                  <a:lnTo>
                    <a:pt x="193" y="0"/>
                  </a:lnTo>
                  <a:lnTo>
                    <a:pt x="165" y="1"/>
                  </a:lnTo>
                  <a:lnTo>
                    <a:pt x="163" y="3"/>
                  </a:lnTo>
                  <a:lnTo>
                    <a:pt x="163" y="3"/>
                  </a:lnTo>
                  <a:lnTo>
                    <a:pt x="163" y="5"/>
                  </a:lnTo>
                  <a:lnTo>
                    <a:pt x="161" y="7"/>
                  </a:lnTo>
                  <a:lnTo>
                    <a:pt x="161" y="7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9" y="11"/>
                  </a:lnTo>
                  <a:lnTo>
                    <a:pt x="193" y="11"/>
                  </a:lnTo>
                  <a:lnTo>
                    <a:pt x="236" y="11"/>
                  </a:lnTo>
                  <a:lnTo>
                    <a:pt x="278" y="15"/>
                  </a:lnTo>
                  <a:lnTo>
                    <a:pt x="318" y="21"/>
                  </a:lnTo>
                  <a:lnTo>
                    <a:pt x="358" y="26"/>
                  </a:lnTo>
                  <a:lnTo>
                    <a:pt x="385" y="34"/>
                  </a:lnTo>
                  <a:lnTo>
                    <a:pt x="385" y="32"/>
                  </a:lnTo>
                  <a:lnTo>
                    <a:pt x="385" y="30"/>
                  </a:lnTo>
                  <a:lnTo>
                    <a:pt x="387" y="30"/>
                  </a:lnTo>
                  <a:lnTo>
                    <a:pt x="387" y="28"/>
                  </a:lnTo>
                  <a:lnTo>
                    <a:pt x="387" y="28"/>
                  </a:lnTo>
                  <a:lnTo>
                    <a:pt x="389" y="26"/>
                  </a:lnTo>
                  <a:lnTo>
                    <a:pt x="389" y="25"/>
                  </a:lnTo>
                  <a:lnTo>
                    <a:pt x="389" y="25"/>
                  </a:lnTo>
                  <a:close/>
                  <a:moveTo>
                    <a:pt x="1" y="1630"/>
                  </a:moveTo>
                  <a:lnTo>
                    <a:pt x="28" y="1636"/>
                  </a:lnTo>
                  <a:lnTo>
                    <a:pt x="69" y="1644"/>
                  </a:lnTo>
                  <a:lnTo>
                    <a:pt x="109" y="1650"/>
                  </a:lnTo>
                  <a:lnTo>
                    <a:pt x="151" y="1652"/>
                  </a:lnTo>
                  <a:lnTo>
                    <a:pt x="193" y="1653"/>
                  </a:lnTo>
                  <a:lnTo>
                    <a:pt x="236" y="1652"/>
                  </a:lnTo>
                  <a:lnTo>
                    <a:pt x="278" y="1650"/>
                  </a:lnTo>
                  <a:lnTo>
                    <a:pt x="320" y="1644"/>
                  </a:lnTo>
                  <a:lnTo>
                    <a:pt x="360" y="1636"/>
                  </a:lnTo>
                  <a:lnTo>
                    <a:pt x="385" y="1630"/>
                  </a:lnTo>
                  <a:lnTo>
                    <a:pt x="385" y="1629"/>
                  </a:lnTo>
                  <a:lnTo>
                    <a:pt x="385" y="1629"/>
                  </a:lnTo>
                  <a:lnTo>
                    <a:pt x="383" y="1627"/>
                  </a:lnTo>
                  <a:lnTo>
                    <a:pt x="383" y="1627"/>
                  </a:lnTo>
                  <a:lnTo>
                    <a:pt x="383" y="1625"/>
                  </a:lnTo>
                  <a:lnTo>
                    <a:pt x="383" y="1623"/>
                  </a:lnTo>
                  <a:lnTo>
                    <a:pt x="382" y="1623"/>
                  </a:lnTo>
                  <a:lnTo>
                    <a:pt x="382" y="1621"/>
                  </a:lnTo>
                  <a:lnTo>
                    <a:pt x="358" y="1627"/>
                  </a:lnTo>
                  <a:lnTo>
                    <a:pt x="318" y="1634"/>
                  </a:lnTo>
                  <a:lnTo>
                    <a:pt x="278" y="1638"/>
                  </a:lnTo>
                  <a:lnTo>
                    <a:pt x="236" y="1642"/>
                  </a:lnTo>
                  <a:lnTo>
                    <a:pt x="193" y="1642"/>
                  </a:lnTo>
                  <a:lnTo>
                    <a:pt x="151" y="1642"/>
                  </a:lnTo>
                  <a:lnTo>
                    <a:pt x="111" y="1638"/>
                  </a:lnTo>
                  <a:lnTo>
                    <a:pt x="71" y="1634"/>
                  </a:lnTo>
                  <a:lnTo>
                    <a:pt x="30" y="1627"/>
                  </a:lnTo>
                  <a:lnTo>
                    <a:pt x="0" y="1619"/>
                  </a:lnTo>
                  <a:lnTo>
                    <a:pt x="0" y="1621"/>
                  </a:lnTo>
                  <a:lnTo>
                    <a:pt x="0" y="1623"/>
                  </a:lnTo>
                  <a:lnTo>
                    <a:pt x="0" y="1623"/>
                  </a:lnTo>
                  <a:lnTo>
                    <a:pt x="1" y="1625"/>
                  </a:lnTo>
                  <a:lnTo>
                    <a:pt x="1" y="1627"/>
                  </a:lnTo>
                  <a:lnTo>
                    <a:pt x="1" y="1629"/>
                  </a:lnTo>
                  <a:lnTo>
                    <a:pt x="1" y="1629"/>
                  </a:lnTo>
                  <a:lnTo>
                    <a:pt x="1" y="1630"/>
                  </a:lnTo>
                  <a:close/>
                </a:path>
              </a:pathLst>
            </a:custGeom>
            <a:solidFill>
              <a:srgbClr val="5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105"/>
            <p:cNvSpPr/>
            <p:nvPr/>
          </p:nvSpPr>
          <p:spPr>
            <a:xfrm>
              <a:off x="2077920" y="1854000"/>
              <a:ext cx="617760" cy="260820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2608200"/>
                <a:gd name="textAreaBottom" fmla="*/ 2608560 h 2608200"/>
              </a:gdLst>
              <a:ahLst/>
              <a:rect l="textAreaLeft" t="textAreaTop" r="textAreaRight" b="textAreaBottom"/>
              <a:pathLst>
                <a:path w="389" h="1643">
                  <a:moveTo>
                    <a:pt x="389" y="23"/>
                  </a:moveTo>
                  <a:lnTo>
                    <a:pt x="362" y="18"/>
                  </a:lnTo>
                  <a:lnTo>
                    <a:pt x="320" y="10"/>
                  </a:lnTo>
                  <a:lnTo>
                    <a:pt x="280" y="4"/>
                  </a:lnTo>
                  <a:lnTo>
                    <a:pt x="238" y="2"/>
                  </a:lnTo>
                  <a:lnTo>
                    <a:pt x="195" y="0"/>
                  </a:lnTo>
                  <a:lnTo>
                    <a:pt x="163" y="2"/>
                  </a:lnTo>
                  <a:lnTo>
                    <a:pt x="163" y="2"/>
                  </a:lnTo>
                  <a:lnTo>
                    <a:pt x="163" y="4"/>
                  </a:lnTo>
                  <a:lnTo>
                    <a:pt x="161" y="6"/>
                  </a:lnTo>
                  <a:lnTo>
                    <a:pt x="161" y="6"/>
                  </a:lnTo>
                  <a:lnTo>
                    <a:pt x="161" y="8"/>
                  </a:lnTo>
                  <a:lnTo>
                    <a:pt x="159" y="10"/>
                  </a:lnTo>
                  <a:lnTo>
                    <a:pt x="159" y="10"/>
                  </a:lnTo>
                  <a:lnTo>
                    <a:pt x="159" y="12"/>
                  </a:lnTo>
                  <a:lnTo>
                    <a:pt x="195" y="10"/>
                  </a:lnTo>
                  <a:lnTo>
                    <a:pt x="238" y="12"/>
                  </a:lnTo>
                  <a:lnTo>
                    <a:pt x="280" y="16"/>
                  </a:lnTo>
                  <a:lnTo>
                    <a:pt x="320" y="20"/>
                  </a:lnTo>
                  <a:lnTo>
                    <a:pt x="359" y="27"/>
                  </a:lnTo>
                  <a:lnTo>
                    <a:pt x="385" y="33"/>
                  </a:lnTo>
                  <a:lnTo>
                    <a:pt x="385" y="33"/>
                  </a:lnTo>
                  <a:lnTo>
                    <a:pt x="385" y="31"/>
                  </a:lnTo>
                  <a:lnTo>
                    <a:pt x="387" y="29"/>
                  </a:lnTo>
                  <a:lnTo>
                    <a:pt x="387" y="29"/>
                  </a:lnTo>
                  <a:lnTo>
                    <a:pt x="387" y="27"/>
                  </a:lnTo>
                  <a:lnTo>
                    <a:pt x="387" y="25"/>
                  </a:lnTo>
                  <a:lnTo>
                    <a:pt x="389" y="25"/>
                  </a:lnTo>
                  <a:lnTo>
                    <a:pt x="389" y="23"/>
                  </a:lnTo>
                  <a:close/>
                  <a:moveTo>
                    <a:pt x="3" y="1620"/>
                  </a:moveTo>
                  <a:lnTo>
                    <a:pt x="30" y="1625"/>
                  </a:lnTo>
                  <a:lnTo>
                    <a:pt x="71" y="1633"/>
                  </a:lnTo>
                  <a:lnTo>
                    <a:pt x="113" y="1639"/>
                  </a:lnTo>
                  <a:lnTo>
                    <a:pt x="153" y="1643"/>
                  </a:lnTo>
                  <a:lnTo>
                    <a:pt x="195" y="1643"/>
                  </a:lnTo>
                  <a:lnTo>
                    <a:pt x="238" y="1643"/>
                  </a:lnTo>
                  <a:lnTo>
                    <a:pt x="280" y="1639"/>
                  </a:lnTo>
                  <a:lnTo>
                    <a:pt x="320" y="1633"/>
                  </a:lnTo>
                  <a:lnTo>
                    <a:pt x="362" y="1625"/>
                  </a:lnTo>
                  <a:lnTo>
                    <a:pt x="385" y="1622"/>
                  </a:lnTo>
                  <a:lnTo>
                    <a:pt x="385" y="1620"/>
                  </a:lnTo>
                  <a:lnTo>
                    <a:pt x="385" y="1618"/>
                  </a:lnTo>
                  <a:lnTo>
                    <a:pt x="384" y="1618"/>
                  </a:lnTo>
                  <a:lnTo>
                    <a:pt x="384" y="1616"/>
                  </a:lnTo>
                  <a:lnTo>
                    <a:pt x="384" y="1614"/>
                  </a:lnTo>
                  <a:lnTo>
                    <a:pt x="382" y="1614"/>
                  </a:lnTo>
                  <a:lnTo>
                    <a:pt x="382" y="1612"/>
                  </a:lnTo>
                  <a:lnTo>
                    <a:pt x="382" y="1612"/>
                  </a:lnTo>
                  <a:lnTo>
                    <a:pt x="359" y="1616"/>
                  </a:lnTo>
                  <a:lnTo>
                    <a:pt x="320" y="1624"/>
                  </a:lnTo>
                  <a:lnTo>
                    <a:pt x="280" y="1629"/>
                  </a:lnTo>
                  <a:lnTo>
                    <a:pt x="238" y="1631"/>
                  </a:lnTo>
                  <a:lnTo>
                    <a:pt x="195" y="1633"/>
                  </a:lnTo>
                  <a:lnTo>
                    <a:pt x="155" y="1631"/>
                  </a:lnTo>
                  <a:lnTo>
                    <a:pt x="113" y="1629"/>
                  </a:lnTo>
                  <a:lnTo>
                    <a:pt x="73" y="1624"/>
                  </a:lnTo>
                  <a:lnTo>
                    <a:pt x="32" y="1616"/>
                  </a:lnTo>
                  <a:lnTo>
                    <a:pt x="0" y="1608"/>
                  </a:lnTo>
                  <a:lnTo>
                    <a:pt x="0" y="1610"/>
                  </a:lnTo>
                  <a:lnTo>
                    <a:pt x="0" y="1612"/>
                  </a:lnTo>
                  <a:lnTo>
                    <a:pt x="0" y="1612"/>
                  </a:lnTo>
                  <a:lnTo>
                    <a:pt x="2" y="1614"/>
                  </a:lnTo>
                  <a:lnTo>
                    <a:pt x="2" y="1616"/>
                  </a:lnTo>
                  <a:lnTo>
                    <a:pt x="2" y="1618"/>
                  </a:lnTo>
                  <a:lnTo>
                    <a:pt x="2" y="1618"/>
                  </a:lnTo>
                  <a:lnTo>
                    <a:pt x="3" y="1620"/>
                  </a:lnTo>
                  <a:close/>
                </a:path>
              </a:pathLst>
            </a:custGeom>
            <a:solidFill>
              <a:srgbClr val="60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106"/>
            <p:cNvSpPr/>
            <p:nvPr/>
          </p:nvSpPr>
          <p:spPr>
            <a:xfrm>
              <a:off x="2075040" y="1863720"/>
              <a:ext cx="617400" cy="2589120"/>
            </a:xfrm>
            <a:custGeom>
              <a:avLst/>
              <a:gdLst>
                <a:gd name="textAreaLeft" fmla="*/ 0 w 617400"/>
                <a:gd name="textAreaRight" fmla="*/ 617400 w 617400"/>
                <a:gd name="textAreaTop" fmla="*/ 0 h 2589120"/>
                <a:gd name="textAreaBottom" fmla="*/ 2589480 h 2589120"/>
              </a:gdLst>
              <a:ahLst/>
              <a:rect l="textAreaLeft" t="textAreaTop" r="textAreaRight" b="textAreaBottom"/>
              <a:pathLst>
                <a:path w="389" h="1631">
                  <a:moveTo>
                    <a:pt x="389" y="23"/>
                  </a:moveTo>
                  <a:lnTo>
                    <a:pt x="362" y="15"/>
                  </a:lnTo>
                  <a:lnTo>
                    <a:pt x="322" y="10"/>
                  </a:lnTo>
                  <a:lnTo>
                    <a:pt x="282" y="4"/>
                  </a:lnTo>
                  <a:lnTo>
                    <a:pt x="240" y="0"/>
                  </a:lnTo>
                  <a:lnTo>
                    <a:pt x="197" y="0"/>
                  </a:lnTo>
                  <a:lnTo>
                    <a:pt x="163" y="0"/>
                  </a:lnTo>
                  <a:lnTo>
                    <a:pt x="163" y="2"/>
                  </a:lnTo>
                  <a:lnTo>
                    <a:pt x="161" y="4"/>
                  </a:lnTo>
                  <a:lnTo>
                    <a:pt x="161" y="4"/>
                  </a:lnTo>
                  <a:lnTo>
                    <a:pt x="161" y="6"/>
                  </a:lnTo>
                  <a:lnTo>
                    <a:pt x="159" y="8"/>
                  </a:lnTo>
                  <a:lnTo>
                    <a:pt x="159" y="8"/>
                  </a:lnTo>
                  <a:lnTo>
                    <a:pt x="159" y="10"/>
                  </a:lnTo>
                  <a:lnTo>
                    <a:pt x="157" y="12"/>
                  </a:lnTo>
                  <a:lnTo>
                    <a:pt x="197" y="10"/>
                  </a:lnTo>
                  <a:lnTo>
                    <a:pt x="240" y="12"/>
                  </a:lnTo>
                  <a:lnTo>
                    <a:pt x="280" y="14"/>
                  </a:lnTo>
                  <a:lnTo>
                    <a:pt x="320" y="19"/>
                  </a:lnTo>
                  <a:lnTo>
                    <a:pt x="361" y="27"/>
                  </a:lnTo>
                  <a:lnTo>
                    <a:pt x="386" y="33"/>
                  </a:lnTo>
                  <a:lnTo>
                    <a:pt x="386" y="31"/>
                  </a:lnTo>
                  <a:lnTo>
                    <a:pt x="386" y="29"/>
                  </a:lnTo>
                  <a:lnTo>
                    <a:pt x="386" y="29"/>
                  </a:lnTo>
                  <a:lnTo>
                    <a:pt x="387" y="27"/>
                  </a:lnTo>
                  <a:lnTo>
                    <a:pt x="387" y="27"/>
                  </a:lnTo>
                  <a:lnTo>
                    <a:pt x="387" y="25"/>
                  </a:lnTo>
                  <a:lnTo>
                    <a:pt x="389" y="23"/>
                  </a:lnTo>
                  <a:lnTo>
                    <a:pt x="389" y="23"/>
                  </a:lnTo>
                  <a:close/>
                  <a:moveTo>
                    <a:pt x="4" y="1608"/>
                  </a:moveTo>
                  <a:lnTo>
                    <a:pt x="34" y="1616"/>
                  </a:lnTo>
                  <a:lnTo>
                    <a:pt x="75" y="1623"/>
                  </a:lnTo>
                  <a:lnTo>
                    <a:pt x="115" y="1627"/>
                  </a:lnTo>
                  <a:lnTo>
                    <a:pt x="155" y="1631"/>
                  </a:lnTo>
                  <a:lnTo>
                    <a:pt x="197" y="1631"/>
                  </a:lnTo>
                  <a:lnTo>
                    <a:pt x="240" y="1631"/>
                  </a:lnTo>
                  <a:lnTo>
                    <a:pt x="282" y="1627"/>
                  </a:lnTo>
                  <a:lnTo>
                    <a:pt x="322" y="1623"/>
                  </a:lnTo>
                  <a:lnTo>
                    <a:pt x="362" y="1616"/>
                  </a:lnTo>
                  <a:lnTo>
                    <a:pt x="386" y="1610"/>
                  </a:lnTo>
                  <a:lnTo>
                    <a:pt x="386" y="1608"/>
                  </a:lnTo>
                  <a:lnTo>
                    <a:pt x="384" y="1608"/>
                  </a:lnTo>
                  <a:lnTo>
                    <a:pt x="384" y="1606"/>
                  </a:lnTo>
                  <a:lnTo>
                    <a:pt x="384" y="1606"/>
                  </a:lnTo>
                  <a:lnTo>
                    <a:pt x="384" y="1604"/>
                  </a:lnTo>
                  <a:lnTo>
                    <a:pt x="382" y="1602"/>
                  </a:lnTo>
                  <a:lnTo>
                    <a:pt x="382" y="1602"/>
                  </a:lnTo>
                  <a:lnTo>
                    <a:pt x="382" y="1600"/>
                  </a:lnTo>
                  <a:lnTo>
                    <a:pt x="361" y="1606"/>
                  </a:lnTo>
                  <a:lnTo>
                    <a:pt x="320" y="1612"/>
                  </a:lnTo>
                  <a:lnTo>
                    <a:pt x="280" y="1618"/>
                  </a:lnTo>
                  <a:lnTo>
                    <a:pt x="240" y="1621"/>
                  </a:lnTo>
                  <a:lnTo>
                    <a:pt x="197" y="1621"/>
                  </a:lnTo>
                  <a:lnTo>
                    <a:pt x="157" y="1621"/>
                  </a:lnTo>
                  <a:lnTo>
                    <a:pt x="115" y="1618"/>
                  </a:lnTo>
                  <a:lnTo>
                    <a:pt x="75" y="1612"/>
                  </a:lnTo>
                  <a:lnTo>
                    <a:pt x="36" y="1606"/>
                  </a:lnTo>
                  <a:lnTo>
                    <a:pt x="0" y="1596"/>
                  </a:lnTo>
                  <a:lnTo>
                    <a:pt x="0" y="1598"/>
                  </a:lnTo>
                  <a:lnTo>
                    <a:pt x="0" y="1600"/>
                  </a:lnTo>
                  <a:lnTo>
                    <a:pt x="2" y="1600"/>
                  </a:lnTo>
                  <a:lnTo>
                    <a:pt x="2" y="1602"/>
                  </a:lnTo>
                  <a:lnTo>
                    <a:pt x="2" y="1604"/>
                  </a:lnTo>
                  <a:lnTo>
                    <a:pt x="2" y="1606"/>
                  </a:lnTo>
                  <a:lnTo>
                    <a:pt x="4" y="1606"/>
                  </a:lnTo>
                  <a:lnTo>
                    <a:pt x="4" y="1608"/>
                  </a:lnTo>
                  <a:close/>
                </a:path>
              </a:pathLst>
            </a:custGeom>
            <a:solidFill>
              <a:srgbClr val="61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107"/>
            <p:cNvSpPr/>
            <p:nvPr/>
          </p:nvSpPr>
          <p:spPr>
            <a:xfrm>
              <a:off x="2071800" y="1869840"/>
              <a:ext cx="617400" cy="2576520"/>
            </a:xfrm>
            <a:custGeom>
              <a:avLst/>
              <a:gdLst>
                <a:gd name="textAreaLeft" fmla="*/ 0 w 617400"/>
                <a:gd name="textAreaRight" fmla="*/ 617400 w 617400"/>
                <a:gd name="textAreaTop" fmla="*/ 0 h 2576520"/>
                <a:gd name="textAreaBottom" fmla="*/ 2576880 h 2576520"/>
              </a:gdLst>
              <a:ahLst/>
              <a:rect l="textAreaLeft" t="textAreaTop" r="textAreaRight" b="textAreaBottom"/>
              <a:pathLst>
                <a:path w="389" h="1623">
                  <a:moveTo>
                    <a:pt x="389" y="23"/>
                  </a:moveTo>
                  <a:lnTo>
                    <a:pt x="363" y="17"/>
                  </a:lnTo>
                  <a:lnTo>
                    <a:pt x="324" y="10"/>
                  </a:lnTo>
                  <a:lnTo>
                    <a:pt x="284" y="6"/>
                  </a:lnTo>
                  <a:lnTo>
                    <a:pt x="242" y="2"/>
                  </a:lnTo>
                  <a:lnTo>
                    <a:pt x="199" y="0"/>
                  </a:lnTo>
                  <a:lnTo>
                    <a:pt x="163" y="2"/>
                  </a:lnTo>
                  <a:lnTo>
                    <a:pt x="161" y="4"/>
                  </a:lnTo>
                  <a:lnTo>
                    <a:pt x="161" y="4"/>
                  </a:lnTo>
                  <a:lnTo>
                    <a:pt x="161" y="6"/>
                  </a:lnTo>
                  <a:lnTo>
                    <a:pt x="159" y="8"/>
                  </a:lnTo>
                  <a:lnTo>
                    <a:pt x="159" y="8"/>
                  </a:lnTo>
                  <a:lnTo>
                    <a:pt x="159" y="10"/>
                  </a:lnTo>
                  <a:lnTo>
                    <a:pt x="157" y="11"/>
                  </a:lnTo>
                  <a:lnTo>
                    <a:pt x="157" y="11"/>
                  </a:lnTo>
                  <a:lnTo>
                    <a:pt x="159" y="11"/>
                  </a:lnTo>
                  <a:lnTo>
                    <a:pt x="199" y="11"/>
                  </a:lnTo>
                  <a:lnTo>
                    <a:pt x="242" y="11"/>
                  </a:lnTo>
                  <a:lnTo>
                    <a:pt x="282" y="15"/>
                  </a:lnTo>
                  <a:lnTo>
                    <a:pt x="322" y="21"/>
                  </a:lnTo>
                  <a:lnTo>
                    <a:pt x="361" y="27"/>
                  </a:lnTo>
                  <a:lnTo>
                    <a:pt x="384" y="33"/>
                  </a:lnTo>
                  <a:lnTo>
                    <a:pt x="386" y="31"/>
                  </a:lnTo>
                  <a:lnTo>
                    <a:pt x="386" y="31"/>
                  </a:lnTo>
                  <a:lnTo>
                    <a:pt x="386" y="29"/>
                  </a:lnTo>
                  <a:lnTo>
                    <a:pt x="388" y="29"/>
                  </a:lnTo>
                  <a:lnTo>
                    <a:pt x="388" y="27"/>
                  </a:lnTo>
                  <a:lnTo>
                    <a:pt x="388" y="25"/>
                  </a:lnTo>
                  <a:lnTo>
                    <a:pt x="388" y="25"/>
                  </a:lnTo>
                  <a:lnTo>
                    <a:pt x="389" y="23"/>
                  </a:lnTo>
                  <a:close/>
                  <a:moveTo>
                    <a:pt x="4" y="1598"/>
                  </a:moveTo>
                  <a:lnTo>
                    <a:pt x="36" y="1606"/>
                  </a:lnTo>
                  <a:lnTo>
                    <a:pt x="77" y="1614"/>
                  </a:lnTo>
                  <a:lnTo>
                    <a:pt x="117" y="1619"/>
                  </a:lnTo>
                  <a:lnTo>
                    <a:pt x="159" y="1621"/>
                  </a:lnTo>
                  <a:lnTo>
                    <a:pt x="199" y="1623"/>
                  </a:lnTo>
                  <a:lnTo>
                    <a:pt x="242" y="1621"/>
                  </a:lnTo>
                  <a:lnTo>
                    <a:pt x="284" y="1619"/>
                  </a:lnTo>
                  <a:lnTo>
                    <a:pt x="324" y="1614"/>
                  </a:lnTo>
                  <a:lnTo>
                    <a:pt x="363" y="1606"/>
                  </a:lnTo>
                  <a:lnTo>
                    <a:pt x="386" y="1602"/>
                  </a:lnTo>
                  <a:lnTo>
                    <a:pt x="386" y="1600"/>
                  </a:lnTo>
                  <a:lnTo>
                    <a:pt x="384" y="1598"/>
                  </a:lnTo>
                  <a:lnTo>
                    <a:pt x="384" y="1598"/>
                  </a:lnTo>
                  <a:lnTo>
                    <a:pt x="384" y="1596"/>
                  </a:lnTo>
                  <a:lnTo>
                    <a:pt x="382" y="1594"/>
                  </a:lnTo>
                  <a:lnTo>
                    <a:pt x="382" y="1594"/>
                  </a:lnTo>
                  <a:lnTo>
                    <a:pt x="382" y="1592"/>
                  </a:lnTo>
                  <a:lnTo>
                    <a:pt x="382" y="1592"/>
                  </a:lnTo>
                  <a:lnTo>
                    <a:pt x="361" y="1596"/>
                  </a:lnTo>
                  <a:lnTo>
                    <a:pt x="322" y="1604"/>
                  </a:lnTo>
                  <a:lnTo>
                    <a:pt x="282" y="1608"/>
                  </a:lnTo>
                  <a:lnTo>
                    <a:pt x="242" y="1612"/>
                  </a:lnTo>
                  <a:lnTo>
                    <a:pt x="199" y="1612"/>
                  </a:lnTo>
                  <a:lnTo>
                    <a:pt x="159" y="1612"/>
                  </a:lnTo>
                  <a:lnTo>
                    <a:pt x="119" y="1608"/>
                  </a:lnTo>
                  <a:lnTo>
                    <a:pt x="78" y="1604"/>
                  </a:lnTo>
                  <a:lnTo>
                    <a:pt x="38" y="1596"/>
                  </a:lnTo>
                  <a:lnTo>
                    <a:pt x="0" y="1587"/>
                  </a:lnTo>
                  <a:lnTo>
                    <a:pt x="0" y="1589"/>
                  </a:lnTo>
                  <a:lnTo>
                    <a:pt x="2" y="1591"/>
                  </a:lnTo>
                  <a:lnTo>
                    <a:pt x="2" y="1592"/>
                  </a:lnTo>
                  <a:lnTo>
                    <a:pt x="2" y="1592"/>
                  </a:lnTo>
                  <a:lnTo>
                    <a:pt x="2" y="1594"/>
                  </a:lnTo>
                  <a:lnTo>
                    <a:pt x="2" y="1596"/>
                  </a:lnTo>
                  <a:lnTo>
                    <a:pt x="4" y="1596"/>
                  </a:lnTo>
                  <a:lnTo>
                    <a:pt x="4" y="1598"/>
                  </a:lnTo>
                  <a:close/>
                </a:path>
              </a:pathLst>
            </a:custGeom>
            <a:solidFill>
              <a:srgbClr val="6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108"/>
            <p:cNvSpPr/>
            <p:nvPr/>
          </p:nvSpPr>
          <p:spPr>
            <a:xfrm>
              <a:off x="2068560" y="1879560"/>
              <a:ext cx="619200" cy="255744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2557440"/>
                <a:gd name="textAreaBottom" fmla="*/ 2557800 h 2557440"/>
              </a:gdLst>
              <a:ahLst/>
              <a:rect l="textAreaLeft" t="textAreaTop" r="textAreaRight" b="textAreaBottom"/>
              <a:pathLst>
                <a:path w="390" h="1611">
                  <a:moveTo>
                    <a:pt x="390" y="23"/>
                  </a:moveTo>
                  <a:lnTo>
                    <a:pt x="365" y="17"/>
                  </a:lnTo>
                  <a:lnTo>
                    <a:pt x="324" y="9"/>
                  </a:lnTo>
                  <a:lnTo>
                    <a:pt x="284" y="4"/>
                  </a:lnTo>
                  <a:lnTo>
                    <a:pt x="244" y="2"/>
                  </a:lnTo>
                  <a:lnTo>
                    <a:pt x="201" y="0"/>
                  </a:lnTo>
                  <a:lnTo>
                    <a:pt x="161" y="2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59" y="5"/>
                  </a:lnTo>
                  <a:lnTo>
                    <a:pt x="159" y="5"/>
                  </a:lnTo>
                  <a:lnTo>
                    <a:pt x="159" y="7"/>
                  </a:lnTo>
                  <a:lnTo>
                    <a:pt x="157" y="9"/>
                  </a:lnTo>
                  <a:lnTo>
                    <a:pt x="157" y="11"/>
                  </a:lnTo>
                  <a:lnTo>
                    <a:pt x="157" y="11"/>
                  </a:lnTo>
                  <a:lnTo>
                    <a:pt x="161" y="11"/>
                  </a:lnTo>
                  <a:lnTo>
                    <a:pt x="201" y="11"/>
                  </a:lnTo>
                  <a:lnTo>
                    <a:pt x="244" y="11"/>
                  </a:lnTo>
                  <a:lnTo>
                    <a:pt x="284" y="15"/>
                  </a:lnTo>
                  <a:lnTo>
                    <a:pt x="322" y="19"/>
                  </a:lnTo>
                  <a:lnTo>
                    <a:pt x="363" y="27"/>
                  </a:lnTo>
                  <a:lnTo>
                    <a:pt x="384" y="32"/>
                  </a:lnTo>
                  <a:lnTo>
                    <a:pt x="384" y="30"/>
                  </a:lnTo>
                  <a:lnTo>
                    <a:pt x="386" y="28"/>
                  </a:lnTo>
                  <a:lnTo>
                    <a:pt x="386" y="28"/>
                  </a:lnTo>
                  <a:lnTo>
                    <a:pt x="386" y="27"/>
                  </a:lnTo>
                  <a:lnTo>
                    <a:pt x="388" y="25"/>
                  </a:lnTo>
                  <a:lnTo>
                    <a:pt x="388" y="25"/>
                  </a:lnTo>
                  <a:lnTo>
                    <a:pt x="388" y="23"/>
                  </a:lnTo>
                  <a:lnTo>
                    <a:pt x="390" y="23"/>
                  </a:lnTo>
                  <a:close/>
                  <a:moveTo>
                    <a:pt x="4" y="1586"/>
                  </a:moveTo>
                  <a:lnTo>
                    <a:pt x="40" y="1596"/>
                  </a:lnTo>
                  <a:lnTo>
                    <a:pt x="79" y="1602"/>
                  </a:lnTo>
                  <a:lnTo>
                    <a:pt x="119" y="1608"/>
                  </a:lnTo>
                  <a:lnTo>
                    <a:pt x="161" y="1611"/>
                  </a:lnTo>
                  <a:lnTo>
                    <a:pt x="201" y="1611"/>
                  </a:lnTo>
                  <a:lnTo>
                    <a:pt x="244" y="1611"/>
                  </a:lnTo>
                  <a:lnTo>
                    <a:pt x="284" y="1608"/>
                  </a:lnTo>
                  <a:lnTo>
                    <a:pt x="324" y="1602"/>
                  </a:lnTo>
                  <a:lnTo>
                    <a:pt x="365" y="1596"/>
                  </a:lnTo>
                  <a:lnTo>
                    <a:pt x="386" y="1590"/>
                  </a:lnTo>
                  <a:lnTo>
                    <a:pt x="384" y="1588"/>
                  </a:lnTo>
                  <a:lnTo>
                    <a:pt x="384" y="1588"/>
                  </a:lnTo>
                  <a:lnTo>
                    <a:pt x="384" y="1586"/>
                  </a:lnTo>
                  <a:lnTo>
                    <a:pt x="384" y="1586"/>
                  </a:lnTo>
                  <a:lnTo>
                    <a:pt x="382" y="1585"/>
                  </a:lnTo>
                  <a:lnTo>
                    <a:pt x="382" y="1583"/>
                  </a:lnTo>
                  <a:lnTo>
                    <a:pt x="382" y="1583"/>
                  </a:lnTo>
                  <a:lnTo>
                    <a:pt x="380" y="1581"/>
                  </a:lnTo>
                  <a:lnTo>
                    <a:pt x="363" y="1585"/>
                  </a:lnTo>
                  <a:lnTo>
                    <a:pt x="322" y="1592"/>
                  </a:lnTo>
                  <a:lnTo>
                    <a:pt x="284" y="1598"/>
                  </a:lnTo>
                  <a:lnTo>
                    <a:pt x="244" y="1600"/>
                  </a:lnTo>
                  <a:lnTo>
                    <a:pt x="201" y="1602"/>
                  </a:lnTo>
                  <a:lnTo>
                    <a:pt x="161" y="1600"/>
                  </a:lnTo>
                  <a:lnTo>
                    <a:pt x="121" y="1598"/>
                  </a:lnTo>
                  <a:lnTo>
                    <a:pt x="80" y="1592"/>
                  </a:lnTo>
                  <a:lnTo>
                    <a:pt x="42" y="1585"/>
                  </a:lnTo>
                  <a:lnTo>
                    <a:pt x="4" y="1577"/>
                  </a:lnTo>
                  <a:lnTo>
                    <a:pt x="0" y="1575"/>
                  </a:lnTo>
                  <a:lnTo>
                    <a:pt x="2" y="1577"/>
                  </a:lnTo>
                  <a:lnTo>
                    <a:pt x="2" y="1579"/>
                  </a:lnTo>
                  <a:lnTo>
                    <a:pt x="2" y="1581"/>
                  </a:lnTo>
                  <a:lnTo>
                    <a:pt x="2" y="1581"/>
                  </a:lnTo>
                  <a:lnTo>
                    <a:pt x="2" y="1583"/>
                  </a:lnTo>
                  <a:lnTo>
                    <a:pt x="4" y="1585"/>
                  </a:lnTo>
                  <a:lnTo>
                    <a:pt x="4" y="1586"/>
                  </a:lnTo>
                  <a:lnTo>
                    <a:pt x="4" y="1586"/>
                  </a:lnTo>
                  <a:close/>
                </a:path>
              </a:pathLst>
            </a:custGeom>
            <a:solidFill>
              <a:srgbClr val="63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109"/>
            <p:cNvSpPr/>
            <p:nvPr/>
          </p:nvSpPr>
          <p:spPr>
            <a:xfrm>
              <a:off x="2068560" y="1887480"/>
              <a:ext cx="612720" cy="254160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2541600"/>
                <a:gd name="textAreaBottom" fmla="*/ 2541960 h 2541600"/>
              </a:gdLst>
              <a:ahLst/>
              <a:rect l="textAreaLeft" t="textAreaTop" r="textAreaRight" b="textAreaBottom"/>
              <a:pathLst>
                <a:path w="386" h="1601">
                  <a:moveTo>
                    <a:pt x="386" y="22"/>
                  </a:moveTo>
                  <a:lnTo>
                    <a:pt x="363" y="16"/>
                  </a:lnTo>
                  <a:lnTo>
                    <a:pt x="324" y="10"/>
                  </a:lnTo>
                  <a:lnTo>
                    <a:pt x="284" y="4"/>
                  </a:lnTo>
                  <a:lnTo>
                    <a:pt x="244" y="0"/>
                  </a:lnTo>
                  <a:lnTo>
                    <a:pt x="201" y="0"/>
                  </a:lnTo>
                  <a:lnTo>
                    <a:pt x="161" y="0"/>
                  </a:lnTo>
                  <a:lnTo>
                    <a:pt x="159" y="0"/>
                  </a:lnTo>
                  <a:lnTo>
                    <a:pt x="159" y="2"/>
                  </a:lnTo>
                  <a:lnTo>
                    <a:pt x="157" y="4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5" y="8"/>
                  </a:lnTo>
                  <a:lnTo>
                    <a:pt x="155" y="10"/>
                  </a:lnTo>
                  <a:lnTo>
                    <a:pt x="153" y="10"/>
                  </a:lnTo>
                  <a:lnTo>
                    <a:pt x="153" y="12"/>
                  </a:lnTo>
                  <a:lnTo>
                    <a:pt x="161" y="12"/>
                  </a:lnTo>
                  <a:lnTo>
                    <a:pt x="201" y="10"/>
                  </a:lnTo>
                  <a:lnTo>
                    <a:pt x="244" y="12"/>
                  </a:lnTo>
                  <a:lnTo>
                    <a:pt x="282" y="14"/>
                  </a:lnTo>
                  <a:lnTo>
                    <a:pt x="322" y="20"/>
                  </a:lnTo>
                  <a:lnTo>
                    <a:pt x="361" y="27"/>
                  </a:lnTo>
                  <a:lnTo>
                    <a:pt x="382" y="31"/>
                  </a:lnTo>
                  <a:lnTo>
                    <a:pt x="382" y="29"/>
                  </a:lnTo>
                  <a:lnTo>
                    <a:pt x="384" y="29"/>
                  </a:lnTo>
                  <a:lnTo>
                    <a:pt x="384" y="27"/>
                  </a:lnTo>
                  <a:lnTo>
                    <a:pt x="384" y="27"/>
                  </a:lnTo>
                  <a:lnTo>
                    <a:pt x="384" y="25"/>
                  </a:lnTo>
                  <a:lnTo>
                    <a:pt x="386" y="23"/>
                  </a:lnTo>
                  <a:lnTo>
                    <a:pt x="386" y="23"/>
                  </a:lnTo>
                  <a:lnTo>
                    <a:pt x="386" y="22"/>
                  </a:lnTo>
                  <a:close/>
                  <a:moveTo>
                    <a:pt x="2" y="1576"/>
                  </a:moveTo>
                  <a:lnTo>
                    <a:pt x="40" y="1585"/>
                  </a:lnTo>
                  <a:lnTo>
                    <a:pt x="80" y="1593"/>
                  </a:lnTo>
                  <a:lnTo>
                    <a:pt x="121" y="1597"/>
                  </a:lnTo>
                  <a:lnTo>
                    <a:pt x="161" y="1601"/>
                  </a:lnTo>
                  <a:lnTo>
                    <a:pt x="201" y="1601"/>
                  </a:lnTo>
                  <a:lnTo>
                    <a:pt x="244" y="1601"/>
                  </a:lnTo>
                  <a:lnTo>
                    <a:pt x="284" y="1597"/>
                  </a:lnTo>
                  <a:lnTo>
                    <a:pt x="324" y="1593"/>
                  </a:lnTo>
                  <a:lnTo>
                    <a:pt x="363" y="1585"/>
                  </a:lnTo>
                  <a:lnTo>
                    <a:pt x="384" y="1581"/>
                  </a:lnTo>
                  <a:lnTo>
                    <a:pt x="382" y="1580"/>
                  </a:lnTo>
                  <a:lnTo>
                    <a:pt x="382" y="1578"/>
                  </a:lnTo>
                  <a:lnTo>
                    <a:pt x="382" y="1578"/>
                  </a:lnTo>
                  <a:lnTo>
                    <a:pt x="380" y="1576"/>
                  </a:lnTo>
                  <a:lnTo>
                    <a:pt x="380" y="1576"/>
                  </a:lnTo>
                  <a:lnTo>
                    <a:pt x="380" y="1574"/>
                  </a:lnTo>
                  <a:lnTo>
                    <a:pt x="380" y="1572"/>
                  </a:lnTo>
                  <a:lnTo>
                    <a:pt x="378" y="1572"/>
                  </a:lnTo>
                  <a:lnTo>
                    <a:pt x="361" y="1576"/>
                  </a:lnTo>
                  <a:lnTo>
                    <a:pt x="322" y="1581"/>
                  </a:lnTo>
                  <a:lnTo>
                    <a:pt x="282" y="1587"/>
                  </a:lnTo>
                  <a:lnTo>
                    <a:pt x="244" y="1591"/>
                  </a:lnTo>
                  <a:lnTo>
                    <a:pt x="201" y="1591"/>
                  </a:lnTo>
                  <a:lnTo>
                    <a:pt x="161" y="1591"/>
                  </a:lnTo>
                  <a:lnTo>
                    <a:pt x="121" y="1587"/>
                  </a:lnTo>
                  <a:lnTo>
                    <a:pt x="82" y="1581"/>
                  </a:lnTo>
                  <a:lnTo>
                    <a:pt x="42" y="1576"/>
                  </a:lnTo>
                  <a:lnTo>
                    <a:pt x="4" y="1566"/>
                  </a:lnTo>
                  <a:lnTo>
                    <a:pt x="0" y="1564"/>
                  </a:lnTo>
                  <a:lnTo>
                    <a:pt x="0" y="1566"/>
                  </a:lnTo>
                  <a:lnTo>
                    <a:pt x="0" y="1568"/>
                  </a:lnTo>
                  <a:lnTo>
                    <a:pt x="0" y="1570"/>
                  </a:lnTo>
                  <a:lnTo>
                    <a:pt x="0" y="1570"/>
                  </a:lnTo>
                  <a:lnTo>
                    <a:pt x="2" y="1572"/>
                  </a:lnTo>
                  <a:lnTo>
                    <a:pt x="2" y="1574"/>
                  </a:lnTo>
                  <a:lnTo>
                    <a:pt x="2" y="1576"/>
                  </a:lnTo>
                  <a:lnTo>
                    <a:pt x="2" y="1576"/>
                  </a:lnTo>
                  <a:close/>
                </a:path>
              </a:pathLst>
            </a:custGeom>
            <a:solidFill>
              <a:srgbClr val="64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110"/>
            <p:cNvSpPr/>
            <p:nvPr/>
          </p:nvSpPr>
          <p:spPr>
            <a:xfrm>
              <a:off x="2065320" y="1896840"/>
              <a:ext cx="612720" cy="252576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2525760"/>
                <a:gd name="textAreaBottom" fmla="*/ 2526120 h 2525760"/>
              </a:gdLst>
              <a:ahLst/>
              <a:rect l="textAreaLeft" t="textAreaTop" r="textAreaRight" b="textAreaBottom"/>
              <a:pathLst>
                <a:path w="386" h="1591">
                  <a:moveTo>
                    <a:pt x="386" y="21"/>
                  </a:moveTo>
                  <a:lnTo>
                    <a:pt x="365" y="16"/>
                  </a:lnTo>
                  <a:lnTo>
                    <a:pt x="324" y="8"/>
                  </a:lnTo>
                  <a:lnTo>
                    <a:pt x="286" y="4"/>
                  </a:lnTo>
                  <a:lnTo>
                    <a:pt x="246" y="0"/>
                  </a:lnTo>
                  <a:lnTo>
                    <a:pt x="203" y="0"/>
                  </a:lnTo>
                  <a:lnTo>
                    <a:pt x="163" y="0"/>
                  </a:lnTo>
                  <a:lnTo>
                    <a:pt x="159" y="0"/>
                  </a:lnTo>
                  <a:lnTo>
                    <a:pt x="157" y="2"/>
                  </a:lnTo>
                  <a:lnTo>
                    <a:pt x="157" y="4"/>
                  </a:lnTo>
                  <a:lnTo>
                    <a:pt x="155" y="4"/>
                  </a:lnTo>
                  <a:lnTo>
                    <a:pt x="155" y="6"/>
                  </a:lnTo>
                  <a:lnTo>
                    <a:pt x="155" y="8"/>
                  </a:lnTo>
                  <a:lnTo>
                    <a:pt x="154" y="8"/>
                  </a:lnTo>
                  <a:lnTo>
                    <a:pt x="154" y="10"/>
                  </a:lnTo>
                  <a:lnTo>
                    <a:pt x="154" y="12"/>
                  </a:lnTo>
                  <a:lnTo>
                    <a:pt x="163" y="10"/>
                  </a:lnTo>
                  <a:lnTo>
                    <a:pt x="203" y="10"/>
                  </a:lnTo>
                  <a:lnTo>
                    <a:pt x="244" y="10"/>
                  </a:lnTo>
                  <a:lnTo>
                    <a:pt x="284" y="14"/>
                  </a:lnTo>
                  <a:lnTo>
                    <a:pt x="324" y="19"/>
                  </a:lnTo>
                  <a:lnTo>
                    <a:pt x="363" y="25"/>
                  </a:lnTo>
                  <a:lnTo>
                    <a:pt x="382" y="31"/>
                  </a:lnTo>
                  <a:lnTo>
                    <a:pt x="382" y="29"/>
                  </a:lnTo>
                  <a:lnTo>
                    <a:pt x="382" y="27"/>
                  </a:lnTo>
                  <a:lnTo>
                    <a:pt x="384" y="27"/>
                  </a:lnTo>
                  <a:lnTo>
                    <a:pt x="384" y="25"/>
                  </a:lnTo>
                  <a:lnTo>
                    <a:pt x="384" y="23"/>
                  </a:lnTo>
                  <a:lnTo>
                    <a:pt x="386" y="23"/>
                  </a:lnTo>
                  <a:lnTo>
                    <a:pt x="386" y="21"/>
                  </a:lnTo>
                  <a:lnTo>
                    <a:pt x="386" y="21"/>
                  </a:lnTo>
                  <a:close/>
                  <a:moveTo>
                    <a:pt x="2" y="1564"/>
                  </a:moveTo>
                  <a:lnTo>
                    <a:pt x="6" y="1566"/>
                  </a:lnTo>
                  <a:lnTo>
                    <a:pt x="44" y="1574"/>
                  </a:lnTo>
                  <a:lnTo>
                    <a:pt x="82" y="1581"/>
                  </a:lnTo>
                  <a:lnTo>
                    <a:pt x="123" y="1587"/>
                  </a:lnTo>
                  <a:lnTo>
                    <a:pt x="163" y="1589"/>
                  </a:lnTo>
                  <a:lnTo>
                    <a:pt x="203" y="1591"/>
                  </a:lnTo>
                  <a:lnTo>
                    <a:pt x="246" y="1589"/>
                  </a:lnTo>
                  <a:lnTo>
                    <a:pt x="286" y="1587"/>
                  </a:lnTo>
                  <a:lnTo>
                    <a:pt x="324" y="1581"/>
                  </a:lnTo>
                  <a:lnTo>
                    <a:pt x="365" y="1574"/>
                  </a:lnTo>
                  <a:lnTo>
                    <a:pt x="382" y="1570"/>
                  </a:lnTo>
                  <a:lnTo>
                    <a:pt x="382" y="1570"/>
                  </a:lnTo>
                  <a:lnTo>
                    <a:pt x="382" y="1568"/>
                  </a:lnTo>
                  <a:lnTo>
                    <a:pt x="382" y="1566"/>
                  </a:lnTo>
                  <a:lnTo>
                    <a:pt x="380" y="1566"/>
                  </a:lnTo>
                  <a:lnTo>
                    <a:pt x="380" y="1564"/>
                  </a:lnTo>
                  <a:lnTo>
                    <a:pt x="380" y="1562"/>
                  </a:lnTo>
                  <a:lnTo>
                    <a:pt x="380" y="1562"/>
                  </a:lnTo>
                  <a:lnTo>
                    <a:pt x="378" y="1560"/>
                  </a:lnTo>
                  <a:lnTo>
                    <a:pt x="363" y="1564"/>
                  </a:lnTo>
                  <a:lnTo>
                    <a:pt x="324" y="1572"/>
                  </a:lnTo>
                  <a:lnTo>
                    <a:pt x="284" y="1575"/>
                  </a:lnTo>
                  <a:lnTo>
                    <a:pt x="244" y="1579"/>
                  </a:lnTo>
                  <a:lnTo>
                    <a:pt x="203" y="1579"/>
                  </a:lnTo>
                  <a:lnTo>
                    <a:pt x="163" y="1579"/>
                  </a:lnTo>
                  <a:lnTo>
                    <a:pt x="123" y="1575"/>
                  </a:lnTo>
                  <a:lnTo>
                    <a:pt x="84" y="1572"/>
                  </a:lnTo>
                  <a:lnTo>
                    <a:pt x="46" y="1564"/>
                  </a:lnTo>
                  <a:lnTo>
                    <a:pt x="8" y="1556"/>
                  </a:lnTo>
                  <a:lnTo>
                    <a:pt x="0" y="1552"/>
                  </a:lnTo>
                  <a:lnTo>
                    <a:pt x="0" y="1554"/>
                  </a:lnTo>
                  <a:lnTo>
                    <a:pt x="0" y="1556"/>
                  </a:lnTo>
                  <a:lnTo>
                    <a:pt x="0" y="1558"/>
                  </a:lnTo>
                  <a:lnTo>
                    <a:pt x="2" y="1558"/>
                  </a:lnTo>
                  <a:lnTo>
                    <a:pt x="2" y="1560"/>
                  </a:lnTo>
                  <a:lnTo>
                    <a:pt x="2" y="1562"/>
                  </a:lnTo>
                  <a:lnTo>
                    <a:pt x="2" y="1564"/>
                  </a:lnTo>
                  <a:lnTo>
                    <a:pt x="2" y="1564"/>
                  </a:lnTo>
                  <a:close/>
                </a:path>
              </a:pathLst>
            </a:custGeom>
            <a:solidFill>
              <a:srgbClr val="65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Freeform 111"/>
            <p:cNvSpPr/>
            <p:nvPr/>
          </p:nvSpPr>
          <p:spPr>
            <a:xfrm>
              <a:off x="2062080" y="1903320"/>
              <a:ext cx="612720" cy="2509920"/>
            </a:xfrm>
            <a:custGeom>
              <a:avLst/>
              <a:gdLst/>
              <a:ahLst/>
              <a:rect l="l" t="t" r="r" b="b"/>
              <a:pathLst>
                <a:path w="386" h="1581">
                  <a:moveTo>
                    <a:pt x="386" y="21"/>
                  </a:moveTo>
                  <a:lnTo>
                    <a:pt x="365" y="17"/>
                  </a:lnTo>
                  <a:lnTo>
                    <a:pt x="326" y="10"/>
                  </a:lnTo>
                  <a:lnTo>
                    <a:pt x="286" y="4"/>
                  </a:lnTo>
                  <a:lnTo>
                    <a:pt x="248" y="2"/>
                  </a:lnTo>
                  <a:lnTo>
                    <a:pt x="205" y="0"/>
                  </a:lnTo>
                  <a:lnTo>
                    <a:pt x="165" y="2"/>
                  </a:lnTo>
                  <a:lnTo>
                    <a:pt x="157" y="2"/>
                  </a:lnTo>
                  <a:lnTo>
                    <a:pt x="157" y="4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6" y="8"/>
                  </a:lnTo>
                  <a:lnTo>
                    <a:pt x="154" y="10"/>
                  </a:lnTo>
                  <a:lnTo>
                    <a:pt x="154" y="10"/>
                  </a:lnTo>
                  <a:lnTo>
                    <a:pt x="154" y="12"/>
                  </a:lnTo>
                  <a:lnTo>
                    <a:pt x="152" y="13"/>
                  </a:lnTo>
                  <a:lnTo>
                    <a:pt x="165" y="12"/>
                  </a:lnTo>
                  <a:lnTo>
                    <a:pt x="205" y="12"/>
                  </a:lnTo>
                  <a:lnTo>
                    <a:pt x="246" y="12"/>
                  </a:lnTo>
                  <a:lnTo>
                    <a:pt x="286" y="15"/>
                  </a:lnTo>
                  <a:lnTo>
                    <a:pt x="324" y="19"/>
                  </a:lnTo>
                  <a:lnTo>
                    <a:pt x="363" y="27"/>
                  </a:lnTo>
                  <a:lnTo>
                    <a:pt x="382" y="31"/>
                  </a:lnTo>
                  <a:lnTo>
                    <a:pt x="382" y="29"/>
                  </a:lnTo>
                  <a:lnTo>
                    <a:pt x="382" y="29"/>
                  </a:lnTo>
                  <a:lnTo>
                    <a:pt x="384" y="27"/>
                  </a:lnTo>
                  <a:lnTo>
                    <a:pt x="384" y="27"/>
                  </a:lnTo>
                  <a:lnTo>
                    <a:pt x="384" y="25"/>
                  </a:lnTo>
                  <a:lnTo>
                    <a:pt x="384" y="23"/>
                  </a:lnTo>
                  <a:lnTo>
                    <a:pt x="386" y="23"/>
                  </a:lnTo>
                  <a:lnTo>
                    <a:pt x="386" y="21"/>
                  </a:lnTo>
                  <a:close/>
                  <a:moveTo>
                    <a:pt x="4" y="1554"/>
                  </a:moveTo>
                  <a:lnTo>
                    <a:pt x="8" y="1556"/>
                  </a:lnTo>
                  <a:lnTo>
                    <a:pt x="46" y="1566"/>
                  </a:lnTo>
                  <a:lnTo>
                    <a:pt x="86" y="1571"/>
                  </a:lnTo>
                  <a:lnTo>
                    <a:pt x="125" y="1577"/>
                  </a:lnTo>
                  <a:lnTo>
                    <a:pt x="165" y="1581"/>
                  </a:lnTo>
                  <a:lnTo>
                    <a:pt x="205" y="1581"/>
                  </a:lnTo>
                  <a:lnTo>
                    <a:pt x="248" y="1581"/>
                  </a:lnTo>
                  <a:lnTo>
                    <a:pt x="286" y="1577"/>
                  </a:lnTo>
                  <a:lnTo>
                    <a:pt x="326" y="1571"/>
                  </a:lnTo>
                  <a:lnTo>
                    <a:pt x="365" y="1566"/>
                  </a:lnTo>
                  <a:lnTo>
                    <a:pt x="382" y="1562"/>
                  </a:lnTo>
                  <a:lnTo>
                    <a:pt x="382" y="1560"/>
                  </a:lnTo>
                  <a:lnTo>
                    <a:pt x="382" y="1558"/>
                  </a:lnTo>
                  <a:lnTo>
                    <a:pt x="382" y="1558"/>
                  </a:lnTo>
                  <a:lnTo>
                    <a:pt x="380" y="1556"/>
                  </a:lnTo>
                  <a:lnTo>
                    <a:pt x="380" y="1556"/>
                  </a:lnTo>
                  <a:lnTo>
                    <a:pt x="380" y="1554"/>
                  </a:lnTo>
                  <a:lnTo>
                    <a:pt x="378" y="1552"/>
                  </a:lnTo>
                  <a:lnTo>
                    <a:pt x="378" y="1552"/>
                  </a:lnTo>
                  <a:lnTo>
                    <a:pt x="363" y="1554"/>
                  </a:lnTo>
                  <a:lnTo>
                    <a:pt x="324" y="1562"/>
                  </a:lnTo>
                  <a:lnTo>
                    <a:pt x="286" y="1568"/>
                  </a:lnTo>
                  <a:lnTo>
                    <a:pt x="246" y="1570"/>
                  </a:lnTo>
                  <a:lnTo>
                    <a:pt x="205" y="1571"/>
                  </a:lnTo>
                  <a:lnTo>
                    <a:pt x="165" y="1570"/>
                  </a:lnTo>
                  <a:lnTo>
                    <a:pt x="127" y="1568"/>
                  </a:lnTo>
                  <a:lnTo>
                    <a:pt x="86" y="1562"/>
                  </a:lnTo>
                  <a:lnTo>
                    <a:pt x="48" y="1554"/>
                  </a:lnTo>
                  <a:lnTo>
                    <a:pt x="12" y="1546"/>
                  </a:lnTo>
                  <a:lnTo>
                    <a:pt x="0" y="1543"/>
                  </a:lnTo>
                  <a:lnTo>
                    <a:pt x="0" y="1545"/>
                  </a:lnTo>
                  <a:lnTo>
                    <a:pt x="0" y="1546"/>
                  </a:lnTo>
                  <a:lnTo>
                    <a:pt x="2" y="1548"/>
                  </a:lnTo>
                  <a:lnTo>
                    <a:pt x="2" y="1548"/>
                  </a:lnTo>
                  <a:lnTo>
                    <a:pt x="2" y="1550"/>
                  </a:lnTo>
                  <a:lnTo>
                    <a:pt x="2" y="1552"/>
                  </a:lnTo>
                  <a:lnTo>
                    <a:pt x="2" y="1554"/>
                  </a:lnTo>
                  <a:lnTo>
                    <a:pt x="4" y="1554"/>
                  </a:lnTo>
                  <a:close/>
                </a:path>
              </a:pathLst>
            </a:custGeom>
            <a:solidFill>
              <a:srgbClr val="66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112"/>
            <p:cNvSpPr/>
            <p:nvPr/>
          </p:nvSpPr>
          <p:spPr>
            <a:xfrm>
              <a:off x="2058840" y="1912680"/>
              <a:ext cx="613080" cy="2490840"/>
            </a:xfrm>
            <a:custGeom>
              <a:avLst/>
              <a:gdLst>
                <a:gd name="textAreaLeft" fmla="*/ 0 w 613080"/>
                <a:gd name="textAreaRight" fmla="*/ 613080 w 613080"/>
                <a:gd name="textAreaTop" fmla="*/ 0 h 2490840"/>
                <a:gd name="textAreaBottom" fmla="*/ 2491200 h 2490840"/>
              </a:gdLst>
              <a:ahLst/>
              <a:rect l="textAreaLeft" t="textAreaTop" r="textAreaRight" b="textAreaBottom"/>
              <a:pathLst>
                <a:path w="386" h="1569">
                  <a:moveTo>
                    <a:pt x="386" y="21"/>
                  </a:moveTo>
                  <a:lnTo>
                    <a:pt x="367" y="15"/>
                  </a:lnTo>
                  <a:lnTo>
                    <a:pt x="328" y="9"/>
                  </a:lnTo>
                  <a:lnTo>
                    <a:pt x="288" y="4"/>
                  </a:lnTo>
                  <a:lnTo>
                    <a:pt x="248" y="0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58" y="2"/>
                  </a:lnTo>
                  <a:lnTo>
                    <a:pt x="156" y="4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4" y="7"/>
                  </a:lnTo>
                  <a:lnTo>
                    <a:pt x="154" y="7"/>
                  </a:lnTo>
                  <a:lnTo>
                    <a:pt x="154" y="9"/>
                  </a:lnTo>
                  <a:lnTo>
                    <a:pt x="152" y="11"/>
                  </a:lnTo>
                  <a:lnTo>
                    <a:pt x="152" y="11"/>
                  </a:lnTo>
                  <a:lnTo>
                    <a:pt x="169" y="11"/>
                  </a:lnTo>
                  <a:lnTo>
                    <a:pt x="207" y="9"/>
                  </a:lnTo>
                  <a:lnTo>
                    <a:pt x="248" y="11"/>
                  </a:lnTo>
                  <a:lnTo>
                    <a:pt x="288" y="13"/>
                  </a:lnTo>
                  <a:lnTo>
                    <a:pt x="326" y="19"/>
                  </a:lnTo>
                  <a:lnTo>
                    <a:pt x="365" y="25"/>
                  </a:lnTo>
                  <a:lnTo>
                    <a:pt x="382" y="29"/>
                  </a:lnTo>
                  <a:lnTo>
                    <a:pt x="382" y="29"/>
                  </a:lnTo>
                  <a:lnTo>
                    <a:pt x="382" y="27"/>
                  </a:lnTo>
                  <a:lnTo>
                    <a:pt x="384" y="27"/>
                  </a:lnTo>
                  <a:lnTo>
                    <a:pt x="384" y="25"/>
                  </a:lnTo>
                  <a:lnTo>
                    <a:pt x="384" y="23"/>
                  </a:lnTo>
                  <a:lnTo>
                    <a:pt x="384" y="23"/>
                  </a:lnTo>
                  <a:lnTo>
                    <a:pt x="386" y="21"/>
                  </a:lnTo>
                  <a:lnTo>
                    <a:pt x="386" y="21"/>
                  </a:lnTo>
                  <a:close/>
                  <a:moveTo>
                    <a:pt x="4" y="1542"/>
                  </a:moveTo>
                  <a:lnTo>
                    <a:pt x="12" y="1546"/>
                  </a:lnTo>
                  <a:lnTo>
                    <a:pt x="50" y="1554"/>
                  </a:lnTo>
                  <a:lnTo>
                    <a:pt x="88" y="1562"/>
                  </a:lnTo>
                  <a:lnTo>
                    <a:pt x="127" y="1565"/>
                  </a:lnTo>
                  <a:lnTo>
                    <a:pt x="167" y="1569"/>
                  </a:lnTo>
                  <a:lnTo>
                    <a:pt x="207" y="1569"/>
                  </a:lnTo>
                  <a:lnTo>
                    <a:pt x="248" y="1569"/>
                  </a:lnTo>
                  <a:lnTo>
                    <a:pt x="288" y="1565"/>
                  </a:lnTo>
                  <a:lnTo>
                    <a:pt x="328" y="1562"/>
                  </a:lnTo>
                  <a:lnTo>
                    <a:pt x="367" y="1554"/>
                  </a:lnTo>
                  <a:lnTo>
                    <a:pt x="382" y="1550"/>
                  </a:lnTo>
                  <a:lnTo>
                    <a:pt x="382" y="1550"/>
                  </a:lnTo>
                  <a:lnTo>
                    <a:pt x="382" y="1548"/>
                  </a:lnTo>
                  <a:lnTo>
                    <a:pt x="380" y="1546"/>
                  </a:lnTo>
                  <a:lnTo>
                    <a:pt x="380" y="1546"/>
                  </a:lnTo>
                  <a:lnTo>
                    <a:pt x="380" y="1544"/>
                  </a:lnTo>
                  <a:lnTo>
                    <a:pt x="380" y="1542"/>
                  </a:lnTo>
                  <a:lnTo>
                    <a:pt x="378" y="1542"/>
                  </a:lnTo>
                  <a:lnTo>
                    <a:pt x="378" y="1540"/>
                  </a:lnTo>
                  <a:lnTo>
                    <a:pt x="365" y="1544"/>
                  </a:lnTo>
                  <a:lnTo>
                    <a:pt x="326" y="1550"/>
                  </a:lnTo>
                  <a:lnTo>
                    <a:pt x="288" y="1556"/>
                  </a:lnTo>
                  <a:lnTo>
                    <a:pt x="248" y="1560"/>
                  </a:lnTo>
                  <a:lnTo>
                    <a:pt x="207" y="1560"/>
                  </a:lnTo>
                  <a:lnTo>
                    <a:pt x="169" y="1560"/>
                  </a:lnTo>
                  <a:lnTo>
                    <a:pt x="129" y="1556"/>
                  </a:lnTo>
                  <a:lnTo>
                    <a:pt x="90" y="1550"/>
                  </a:lnTo>
                  <a:lnTo>
                    <a:pt x="52" y="1544"/>
                  </a:lnTo>
                  <a:lnTo>
                    <a:pt x="14" y="1535"/>
                  </a:lnTo>
                  <a:lnTo>
                    <a:pt x="0" y="1531"/>
                  </a:lnTo>
                  <a:lnTo>
                    <a:pt x="0" y="1533"/>
                  </a:lnTo>
                  <a:lnTo>
                    <a:pt x="2" y="1535"/>
                  </a:lnTo>
                  <a:lnTo>
                    <a:pt x="2" y="1537"/>
                  </a:lnTo>
                  <a:lnTo>
                    <a:pt x="2" y="1537"/>
                  </a:lnTo>
                  <a:lnTo>
                    <a:pt x="2" y="1539"/>
                  </a:lnTo>
                  <a:lnTo>
                    <a:pt x="2" y="1540"/>
                  </a:lnTo>
                  <a:lnTo>
                    <a:pt x="4" y="1542"/>
                  </a:lnTo>
                  <a:lnTo>
                    <a:pt x="4" y="1542"/>
                  </a:lnTo>
                  <a:close/>
                </a:path>
              </a:pathLst>
            </a:custGeom>
            <a:solidFill>
              <a:srgbClr val="67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113"/>
            <p:cNvSpPr/>
            <p:nvPr/>
          </p:nvSpPr>
          <p:spPr>
            <a:xfrm>
              <a:off x="2055960" y="1922400"/>
              <a:ext cx="612720" cy="247464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2474640"/>
                <a:gd name="textAreaBottom" fmla="*/ 2475000 h 2474640"/>
              </a:gdLst>
              <a:ahLst/>
              <a:rect l="textAreaLeft" t="textAreaTop" r="textAreaRight" b="textAreaBottom"/>
              <a:pathLst>
                <a:path w="386" h="1559">
                  <a:moveTo>
                    <a:pt x="386" y="19"/>
                  </a:moveTo>
                  <a:lnTo>
                    <a:pt x="367" y="15"/>
                  </a:lnTo>
                  <a:lnTo>
                    <a:pt x="328" y="7"/>
                  </a:lnTo>
                  <a:lnTo>
                    <a:pt x="290" y="3"/>
                  </a:lnTo>
                  <a:lnTo>
                    <a:pt x="250" y="0"/>
                  </a:lnTo>
                  <a:lnTo>
                    <a:pt x="209" y="0"/>
                  </a:lnTo>
                  <a:lnTo>
                    <a:pt x="169" y="0"/>
                  </a:lnTo>
                  <a:lnTo>
                    <a:pt x="156" y="1"/>
                  </a:lnTo>
                  <a:lnTo>
                    <a:pt x="156" y="1"/>
                  </a:lnTo>
                  <a:lnTo>
                    <a:pt x="156" y="3"/>
                  </a:lnTo>
                  <a:lnTo>
                    <a:pt x="154" y="5"/>
                  </a:lnTo>
                  <a:lnTo>
                    <a:pt x="154" y="5"/>
                  </a:lnTo>
                  <a:lnTo>
                    <a:pt x="154" y="7"/>
                  </a:lnTo>
                  <a:lnTo>
                    <a:pt x="152" y="9"/>
                  </a:lnTo>
                  <a:lnTo>
                    <a:pt x="152" y="9"/>
                  </a:lnTo>
                  <a:lnTo>
                    <a:pt x="152" y="11"/>
                  </a:lnTo>
                  <a:lnTo>
                    <a:pt x="171" y="9"/>
                  </a:lnTo>
                  <a:lnTo>
                    <a:pt x="209" y="9"/>
                  </a:lnTo>
                  <a:lnTo>
                    <a:pt x="250" y="9"/>
                  </a:lnTo>
                  <a:lnTo>
                    <a:pt x="288" y="13"/>
                  </a:lnTo>
                  <a:lnTo>
                    <a:pt x="326" y="19"/>
                  </a:lnTo>
                  <a:lnTo>
                    <a:pt x="365" y="24"/>
                  </a:lnTo>
                  <a:lnTo>
                    <a:pt x="382" y="28"/>
                  </a:lnTo>
                  <a:lnTo>
                    <a:pt x="382" y="26"/>
                  </a:lnTo>
                  <a:lnTo>
                    <a:pt x="382" y="26"/>
                  </a:lnTo>
                  <a:lnTo>
                    <a:pt x="382" y="24"/>
                  </a:lnTo>
                  <a:lnTo>
                    <a:pt x="384" y="23"/>
                  </a:lnTo>
                  <a:lnTo>
                    <a:pt x="384" y="23"/>
                  </a:lnTo>
                  <a:lnTo>
                    <a:pt x="384" y="21"/>
                  </a:lnTo>
                  <a:lnTo>
                    <a:pt x="386" y="21"/>
                  </a:lnTo>
                  <a:lnTo>
                    <a:pt x="386" y="19"/>
                  </a:lnTo>
                  <a:close/>
                  <a:moveTo>
                    <a:pt x="4" y="1531"/>
                  </a:moveTo>
                  <a:lnTo>
                    <a:pt x="16" y="1534"/>
                  </a:lnTo>
                  <a:lnTo>
                    <a:pt x="52" y="1542"/>
                  </a:lnTo>
                  <a:lnTo>
                    <a:pt x="90" y="1550"/>
                  </a:lnTo>
                  <a:lnTo>
                    <a:pt x="131" y="1556"/>
                  </a:lnTo>
                  <a:lnTo>
                    <a:pt x="169" y="1558"/>
                  </a:lnTo>
                  <a:lnTo>
                    <a:pt x="209" y="1559"/>
                  </a:lnTo>
                  <a:lnTo>
                    <a:pt x="250" y="1558"/>
                  </a:lnTo>
                  <a:lnTo>
                    <a:pt x="290" y="1556"/>
                  </a:lnTo>
                  <a:lnTo>
                    <a:pt x="328" y="1550"/>
                  </a:lnTo>
                  <a:lnTo>
                    <a:pt x="367" y="1542"/>
                  </a:lnTo>
                  <a:lnTo>
                    <a:pt x="382" y="1540"/>
                  </a:lnTo>
                  <a:lnTo>
                    <a:pt x="382" y="1538"/>
                  </a:lnTo>
                  <a:lnTo>
                    <a:pt x="382" y="1536"/>
                  </a:lnTo>
                  <a:lnTo>
                    <a:pt x="380" y="1536"/>
                  </a:lnTo>
                  <a:lnTo>
                    <a:pt x="380" y="1534"/>
                  </a:lnTo>
                  <a:lnTo>
                    <a:pt x="380" y="1534"/>
                  </a:lnTo>
                  <a:lnTo>
                    <a:pt x="380" y="1533"/>
                  </a:lnTo>
                  <a:lnTo>
                    <a:pt x="378" y="1531"/>
                  </a:lnTo>
                  <a:lnTo>
                    <a:pt x="378" y="1531"/>
                  </a:lnTo>
                  <a:lnTo>
                    <a:pt x="365" y="1533"/>
                  </a:lnTo>
                  <a:lnTo>
                    <a:pt x="326" y="1540"/>
                  </a:lnTo>
                  <a:lnTo>
                    <a:pt x="288" y="1544"/>
                  </a:lnTo>
                  <a:lnTo>
                    <a:pt x="250" y="1548"/>
                  </a:lnTo>
                  <a:lnTo>
                    <a:pt x="209" y="1548"/>
                  </a:lnTo>
                  <a:lnTo>
                    <a:pt x="171" y="1548"/>
                  </a:lnTo>
                  <a:lnTo>
                    <a:pt x="131" y="1544"/>
                  </a:lnTo>
                  <a:lnTo>
                    <a:pt x="92" y="1540"/>
                  </a:lnTo>
                  <a:lnTo>
                    <a:pt x="54" y="1533"/>
                  </a:lnTo>
                  <a:lnTo>
                    <a:pt x="17" y="1525"/>
                  </a:lnTo>
                  <a:lnTo>
                    <a:pt x="0" y="1519"/>
                  </a:lnTo>
                  <a:lnTo>
                    <a:pt x="2" y="1521"/>
                  </a:lnTo>
                  <a:lnTo>
                    <a:pt x="2" y="1523"/>
                  </a:lnTo>
                  <a:lnTo>
                    <a:pt x="2" y="1525"/>
                  </a:lnTo>
                  <a:lnTo>
                    <a:pt x="2" y="1525"/>
                  </a:lnTo>
                  <a:lnTo>
                    <a:pt x="2" y="1527"/>
                  </a:lnTo>
                  <a:lnTo>
                    <a:pt x="4" y="1529"/>
                  </a:lnTo>
                  <a:lnTo>
                    <a:pt x="4" y="1531"/>
                  </a:lnTo>
                  <a:lnTo>
                    <a:pt x="4" y="1531"/>
                  </a:lnTo>
                  <a:close/>
                </a:path>
              </a:pathLst>
            </a:custGeom>
            <a:solidFill>
              <a:srgbClr val="68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114"/>
            <p:cNvSpPr/>
            <p:nvPr/>
          </p:nvSpPr>
          <p:spPr>
            <a:xfrm>
              <a:off x="2055960" y="1927080"/>
              <a:ext cx="609480" cy="24620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462040"/>
                <a:gd name="textAreaBottom" fmla="*/ 2462400 h 2462040"/>
              </a:gdLst>
              <a:ahLst/>
              <a:rect l="textAreaLeft" t="textAreaTop" r="textAreaRight" b="textAreaBottom"/>
              <a:pathLst>
                <a:path w="384" h="1551">
                  <a:moveTo>
                    <a:pt x="384" y="20"/>
                  </a:moveTo>
                  <a:lnTo>
                    <a:pt x="367" y="16"/>
                  </a:lnTo>
                  <a:lnTo>
                    <a:pt x="328" y="10"/>
                  </a:lnTo>
                  <a:lnTo>
                    <a:pt x="290" y="4"/>
                  </a:lnTo>
                  <a:lnTo>
                    <a:pt x="250" y="2"/>
                  </a:lnTo>
                  <a:lnTo>
                    <a:pt x="209" y="0"/>
                  </a:lnTo>
                  <a:lnTo>
                    <a:pt x="171" y="2"/>
                  </a:lnTo>
                  <a:lnTo>
                    <a:pt x="154" y="2"/>
                  </a:lnTo>
                  <a:lnTo>
                    <a:pt x="154" y="4"/>
                  </a:lnTo>
                  <a:lnTo>
                    <a:pt x="152" y="6"/>
                  </a:lnTo>
                  <a:lnTo>
                    <a:pt x="152" y="6"/>
                  </a:lnTo>
                  <a:lnTo>
                    <a:pt x="152" y="8"/>
                  </a:lnTo>
                  <a:lnTo>
                    <a:pt x="150" y="10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0" y="14"/>
                  </a:lnTo>
                  <a:lnTo>
                    <a:pt x="171" y="12"/>
                  </a:lnTo>
                  <a:lnTo>
                    <a:pt x="209" y="12"/>
                  </a:lnTo>
                  <a:lnTo>
                    <a:pt x="250" y="12"/>
                  </a:lnTo>
                  <a:lnTo>
                    <a:pt x="288" y="16"/>
                  </a:lnTo>
                  <a:lnTo>
                    <a:pt x="326" y="20"/>
                  </a:lnTo>
                  <a:lnTo>
                    <a:pt x="365" y="27"/>
                  </a:lnTo>
                  <a:lnTo>
                    <a:pt x="378" y="29"/>
                  </a:lnTo>
                  <a:lnTo>
                    <a:pt x="380" y="29"/>
                  </a:lnTo>
                  <a:lnTo>
                    <a:pt x="380" y="27"/>
                  </a:lnTo>
                  <a:lnTo>
                    <a:pt x="380" y="27"/>
                  </a:lnTo>
                  <a:lnTo>
                    <a:pt x="382" y="25"/>
                  </a:lnTo>
                  <a:lnTo>
                    <a:pt x="382" y="23"/>
                  </a:lnTo>
                  <a:lnTo>
                    <a:pt x="382" y="23"/>
                  </a:lnTo>
                  <a:lnTo>
                    <a:pt x="382" y="21"/>
                  </a:lnTo>
                  <a:lnTo>
                    <a:pt x="384" y="20"/>
                  </a:lnTo>
                  <a:close/>
                  <a:moveTo>
                    <a:pt x="2" y="1522"/>
                  </a:moveTo>
                  <a:lnTo>
                    <a:pt x="16" y="1526"/>
                  </a:lnTo>
                  <a:lnTo>
                    <a:pt x="54" y="1535"/>
                  </a:lnTo>
                  <a:lnTo>
                    <a:pt x="92" y="1541"/>
                  </a:lnTo>
                  <a:lnTo>
                    <a:pt x="131" y="1547"/>
                  </a:lnTo>
                  <a:lnTo>
                    <a:pt x="171" y="1551"/>
                  </a:lnTo>
                  <a:lnTo>
                    <a:pt x="209" y="1551"/>
                  </a:lnTo>
                  <a:lnTo>
                    <a:pt x="250" y="1551"/>
                  </a:lnTo>
                  <a:lnTo>
                    <a:pt x="290" y="1547"/>
                  </a:lnTo>
                  <a:lnTo>
                    <a:pt x="328" y="1541"/>
                  </a:lnTo>
                  <a:lnTo>
                    <a:pt x="367" y="1535"/>
                  </a:lnTo>
                  <a:lnTo>
                    <a:pt x="380" y="1531"/>
                  </a:lnTo>
                  <a:lnTo>
                    <a:pt x="380" y="1531"/>
                  </a:lnTo>
                  <a:lnTo>
                    <a:pt x="380" y="1530"/>
                  </a:lnTo>
                  <a:lnTo>
                    <a:pt x="378" y="1528"/>
                  </a:lnTo>
                  <a:lnTo>
                    <a:pt x="378" y="1528"/>
                  </a:lnTo>
                  <a:lnTo>
                    <a:pt x="378" y="1526"/>
                  </a:lnTo>
                  <a:lnTo>
                    <a:pt x="376" y="1524"/>
                  </a:lnTo>
                  <a:lnTo>
                    <a:pt x="376" y="1524"/>
                  </a:lnTo>
                  <a:lnTo>
                    <a:pt x="376" y="1522"/>
                  </a:lnTo>
                  <a:lnTo>
                    <a:pt x="365" y="1526"/>
                  </a:lnTo>
                  <a:lnTo>
                    <a:pt x="326" y="1531"/>
                  </a:lnTo>
                  <a:lnTo>
                    <a:pt x="288" y="1537"/>
                  </a:lnTo>
                  <a:lnTo>
                    <a:pt x="250" y="1539"/>
                  </a:lnTo>
                  <a:lnTo>
                    <a:pt x="209" y="1541"/>
                  </a:lnTo>
                  <a:lnTo>
                    <a:pt x="171" y="1539"/>
                  </a:lnTo>
                  <a:lnTo>
                    <a:pt x="133" y="1537"/>
                  </a:lnTo>
                  <a:lnTo>
                    <a:pt x="94" y="1531"/>
                  </a:lnTo>
                  <a:lnTo>
                    <a:pt x="56" y="1526"/>
                  </a:lnTo>
                  <a:lnTo>
                    <a:pt x="19" y="1516"/>
                  </a:lnTo>
                  <a:lnTo>
                    <a:pt x="0" y="1510"/>
                  </a:lnTo>
                  <a:lnTo>
                    <a:pt x="0" y="1512"/>
                  </a:lnTo>
                  <a:lnTo>
                    <a:pt x="0" y="1514"/>
                  </a:lnTo>
                  <a:lnTo>
                    <a:pt x="0" y="1516"/>
                  </a:lnTo>
                  <a:lnTo>
                    <a:pt x="0" y="1516"/>
                  </a:lnTo>
                  <a:lnTo>
                    <a:pt x="2" y="1518"/>
                  </a:lnTo>
                  <a:lnTo>
                    <a:pt x="2" y="1520"/>
                  </a:lnTo>
                  <a:lnTo>
                    <a:pt x="2" y="1522"/>
                  </a:lnTo>
                  <a:lnTo>
                    <a:pt x="2" y="1522"/>
                  </a:lnTo>
                  <a:close/>
                </a:path>
              </a:pathLst>
            </a:custGeom>
            <a:solidFill>
              <a:srgbClr val="69c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115"/>
            <p:cNvSpPr/>
            <p:nvPr/>
          </p:nvSpPr>
          <p:spPr>
            <a:xfrm>
              <a:off x="2052720" y="1936440"/>
              <a:ext cx="609480" cy="24433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443320"/>
                <a:gd name="textAreaBottom" fmla="*/ 2443680 h 2443320"/>
              </a:gdLst>
              <a:ahLst/>
              <a:rect l="textAreaLeft" t="textAreaTop" r="textAreaRight" b="textAreaBottom"/>
              <a:pathLst>
                <a:path w="384" h="1539">
                  <a:moveTo>
                    <a:pt x="384" y="19"/>
                  </a:moveTo>
                  <a:lnTo>
                    <a:pt x="367" y="15"/>
                  </a:lnTo>
                  <a:lnTo>
                    <a:pt x="328" y="10"/>
                  </a:lnTo>
                  <a:lnTo>
                    <a:pt x="290" y="4"/>
                  </a:lnTo>
                  <a:lnTo>
                    <a:pt x="252" y="0"/>
                  </a:lnTo>
                  <a:lnTo>
                    <a:pt x="211" y="0"/>
                  </a:lnTo>
                  <a:lnTo>
                    <a:pt x="173" y="0"/>
                  </a:lnTo>
                  <a:lnTo>
                    <a:pt x="154" y="2"/>
                  </a:lnTo>
                  <a:lnTo>
                    <a:pt x="152" y="4"/>
                  </a:lnTo>
                  <a:lnTo>
                    <a:pt x="152" y="6"/>
                  </a:lnTo>
                  <a:lnTo>
                    <a:pt x="152" y="6"/>
                  </a:lnTo>
                  <a:lnTo>
                    <a:pt x="152" y="8"/>
                  </a:lnTo>
                  <a:lnTo>
                    <a:pt x="150" y="10"/>
                  </a:lnTo>
                  <a:lnTo>
                    <a:pt x="150" y="10"/>
                  </a:lnTo>
                  <a:lnTo>
                    <a:pt x="150" y="12"/>
                  </a:lnTo>
                  <a:lnTo>
                    <a:pt x="148" y="14"/>
                  </a:lnTo>
                  <a:lnTo>
                    <a:pt x="173" y="12"/>
                  </a:lnTo>
                  <a:lnTo>
                    <a:pt x="211" y="10"/>
                  </a:lnTo>
                  <a:lnTo>
                    <a:pt x="252" y="12"/>
                  </a:lnTo>
                  <a:lnTo>
                    <a:pt x="290" y="14"/>
                  </a:lnTo>
                  <a:lnTo>
                    <a:pt x="328" y="19"/>
                  </a:lnTo>
                  <a:lnTo>
                    <a:pt x="365" y="25"/>
                  </a:lnTo>
                  <a:lnTo>
                    <a:pt x="378" y="29"/>
                  </a:lnTo>
                  <a:lnTo>
                    <a:pt x="380" y="27"/>
                  </a:lnTo>
                  <a:lnTo>
                    <a:pt x="380" y="27"/>
                  </a:lnTo>
                  <a:lnTo>
                    <a:pt x="380" y="25"/>
                  </a:lnTo>
                  <a:lnTo>
                    <a:pt x="380" y="23"/>
                  </a:lnTo>
                  <a:lnTo>
                    <a:pt x="382" y="23"/>
                  </a:lnTo>
                  <a:lnTo>
                    <a:pt x="382" y="21"/>
                  </a:lnTo>
                  <a:lnTo>
                    <a:pt x="382" y="21"/>
                  </a:lnTo>
                  <a:lnTo>
                    <a:pt x="384" y="19"/>
                  </a:lnTo>
                  <a:close/>
                  <a:moveTo>
                    <a:pt x="2" y="1510"/>
                  </a:moveTo>
                  <a:lnTo>
                    <a:pt x="19" y="1516"/>
                  </a:lnTo>
                  <a:lnTo>
                    <a:pt x="56" y="1524"/>
                  </a:lnTo>
                  <a:lnTo>
                    <a:pt x="94" y="1531"/>
                  </a:lnTo>
                  <a:lnTo>
                    <a:pt x="133" y="1535"/>
                  </a:lnTo>
                  <a:lnTo>
                    <a:pt x="173" y="1539"/>
                  </a:lnTo>
                  <a:lnTo>
                    <a:pt x="211" y="1539"/>
                  </a:lnTo>
                  <a:lnTo>
                    <a:pt x="252" y="1539"/>
                  </a:lnTo>
                  <a:lnTo>
                    <a:pt x="290" y="1535"/>
                  </a:lnTo>
                  <a:lnTo>
                    <a:pt x="328" y="1531"/>
                  </a:lnTo>
                  <a:lnTo>
                    <a:pt x="367" y="1524"/>
                  </a:lnTo>
                  <a:lnTo>
                    <a:pt x="380" y="1522"/>
                  </a:lnTo>
                  <a:lnTo>
                    <a:pt x="380" y="1520"/>
                  </a:lnTo>
                  <a:lnTo>
                    <a:pt x="378" y="1518"/>
                  </a:lnTo>
                  <a:lnTo>
                    <a:pt x="378" y="1518"/>
                  </a:lnTo>
                  <a:lnTo>
                    <a:pt x="378" y="1516"/>
                  </a:lnTo>
                  <a:lnTo>
                    <a:pt x="378" y="1516"/>
                  </a:lnTo>
                  <a:lnTo>
                    <a:pt x="376" y="1514"/>
                  </a:lnTo>
                  <a:lnTo>
                    <a:pt x="376" y="1512"/>
                  </a:lnTo>
                  <a:lnTo>
                    <a:pt x="376" y="1512"/>
                  </a:lnTo>
                  <a:lnTo>
                    <a:pt x="365" y="1514"/>
                  </a:lnTo>
                  <a:lnTo>
                    <a:pt x="328" y="1520"/>
                  </a:lnTo>
                  <a:lnTo>
                    <a:pt x="290" y="1525"/>
                  </a:lnTo>
                  <a:lnTo>
                    <a:pt x="252" y="1529"/>
                  </a:lnTo>
                  <a:lnTo>
                    <a:pt x="211" y="1529"/>
                  </a:lnTo>
                  <a:lnTo>
                    <a:pt x="173" y="1529"/>
                  </a:lnTo>
                  <a:lnTo>
                    <a:pt x="135" y="1525"/>
                  </a:lnTo>
                  <a:lnTo>
                    <a:pt x="96" y="1520"/>
                  </a:lnTo>
                  <a:lnTo>
                    <a:pt x="60" y="1514"/>
                  </a:lnTo>
                  <a:lnTo>
                    <a:pt x="21" y="1506"/>
                  </a:lnTo>
                  <a:lnTo>
                    <a:pt x="0" y="1499"/>
                  </a:lnTo>
                  <a:lnTo>
                    <a:pt x="0" y="1501"/>
                  </a:lnTo>
                  <a:lnTo>
                    <a:pt x="0" y="1502"/>
                  </a:lnTo>
                  <a:lnTo>
                    <a:pt x="2" y="1504"/>
                  </a:lnTo>
                  <a:lnTo>
                    <a:pt x="2" y="1504"/>
                  </a:lnTo>
                  <a:lnTo>
                    <a:pt x="2" y="1506"/>
                  </a:lnTo>
                  <a:lnTo>
                    <a:pt x="2" y="1508"/>
                  </a:lnTo>
                  <a:lnTo>
                    <a:pt x="2" y="1510"/>
                  </a:lnTo>
                  <a:lnTo>
                    <a:pt x="2" y="1510"/>
                  </a:lnTo>
                  <a:close/>
                </a:path>
              </a:pathLst>
            </a:custGeom>
            <a:solidFill>
              <a:srgbClr val="6ac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Freeform 116"/>
            <p:cNvSpPr/>
            <p:nvPr/>
          </p:nvSpPr>
          <p:spPr>
            <a:xfrm>
              <a:off x="2049480" y="1946160"/>
              <a:ext cx="606240" cy="242712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2427120"/>
                <a:gd name="textAreaBottom" fmla="*/ 2427480 h 2427120"/>
              </a:gdLst>
              <a:ahLst/>
              <a:rect l="textAreaLeft" t="textAreaTop" r="textAreaRight" b="textAreaBottom"/>
              <a:pathLst>
                <a:path w="382" h="1529">
                  <a:moveTo>
                    <a:pt x="382" y="17"/>
                  </a:moveTo>
                  <a:lnTo>
                    <a:pt x="369" y="15"/>
                  </a:lnTo>
                  <a:lnTo>
                    <a:pt x="330" y="8"/>
                  </a:lnTo>
                  <a:lnTo>
                    <a:pt x="292" y="4"/>
                  </a:lnTo>
                  <a:lnTo>
                    <a:pt x="254" y="0"/>
                  </a:lnTo>
                  <a:lnTo>
                    <a:pt x="213" y="0"/>
                  </a:lnTo>
                  <a:lnTo>
                    <a:pt x="175" y="0"/>
                  </a:lnTo>
                  <a:lnTo>
                    <a:pt x="154" y="2"/>
                  </a:lnTo>
                  <a:lnTo>
                    <a:pt x="152" y="4"/>
                  </a:lnTo>
                  <a:lnTo>
                    <a:pt x="152" y="4"/>
                  </a:lnTo>
                  <a:lnTo>
                    <a:pt x="152" y="6"/>
                  </a:lnTo>
                  <a:lnTo>
                    <a:pt x="150" y="8"/>
                  </a:lnTo>
                  <a:lnTo>
                    <a:pt x="150" y="8"/>
                  </a:lnTo>
                  <a:lnTo>
                    <a:pt x="150" y="9"/>
                  </a:lnTo>
                  <a:lnTo>
                    <a:pt x="148" y="11"/>
                  </a:lnTo>
                  <a:lnTo>
                    <a:pt x="148" y="13"/>
                  </a:lnTo>
                  <a:lnTo>
                    <a:pt x="175" y="9"/>
                  </a:lnTo>
                  <a:lnTo>
                    <a:pt x="213" y="9"/>
                  </a:lnTo>
                  <a:lnTo>
                    <a:pt x="254" y="9"/>
                  </a:lnTo>
                  <a:lnTo>
                    <a:pt x="292" y="13"/>
                  </a:lnTo>
                  <a:lnTo>
                    <a:pt x="329" y="17"/>
                  </a:lnTo>
                  <a:lnTo>
                    <a:pt x="367" y="25"/>
                  </a:lnTo>
                  <a:lnTo>
                    <a:pt x="378" y="27"/>
                  </a:lnTo>
                  <a:lnTo>
                    <a:pt x="380" y="27"/>
                  </a:lnTo>
                  <a:lnTo>
                    <a:pt x="380" y="25"/>
                  </a:lnTo>
                  <a:lnTo>
                    <a:pt x="380" y="25"/>
                  </a:lnTo>
                  <a:lnTo>
                    <a:pt x="380" y="23"/>
                  </a:lnTo>
                  <a:lnTo>
                    <a:pt x="382" y="21"/>
                  </a:lnTo>
                  <a:lnTo>
                    <a:pt x="382" y="21"/>
                  </a:lnTo>
                  <a:lnTo>
                    <a:pt x="382" y="19"/>
                  </a:lnTo>
                  <a:lnTo>
                    <a:pt x="382" y="17"/>
                  </a:lnTo>
                  <a:close/>
                  <a:moveTo>
                    <a:pt x="4" y="1498"/>
                  </a:moveTo>
                  <a:lnTo>
                    <a:pt x="23" y="1504"/>
                  </a:lnTo>
                  <a:lnTo>
                    <a:pt x="60" y="1514"/>
                  </a:lnTo>
                  <a:lnTo>
                    <a:pt x="98" y="1519"/>
                  </a:lnTo>
                  <a:lnTo>
                    <a:pt x="137" y="1525"/>
                  </a:lnTo>
                  <a:lnTo>
                    <a:pt x="175" y="1527"/>
                  </a:lnTo>
                  <a:lnTo>
                    <a:pt x="213" y="1529"/>
                  </a:lnTo>
                  <a:lnTo>
                    <a:pt x="254" y="1527"/>
                  </a:lnTo>
                  <a:lnTo>
                    <a:pt x="292" y="1525"/>
                  </a:lnTo>
                  <a:lnTo>
                    <a:pt x="330" y="1519"/>
                  </a:lnTo>
                  <a:lnTo>
                    <a:pt x="369" y="1514"/>
                  </a:lnTo>
                  <a:lnTo>
                    <a:pt x="380" y="1510"/>
                  </a:lnTo>
                  <a:lnTo>
                    <a:pt x="380" y="1510"/>
                  </a:lnTo>
                  <a:lnTo>
                    <a:pt x="378" y="1508"/>
                  </a:lnTo>
                  <a:lnTo>
                    <a:pt x="378" y="1506"/>
                  </a:lnTo>
                  <a:lnTo>
                    <a:pt x="378" y="1506"/>
                  </a:lnTo>
                  <a:lnTo>
                    <a:pt x="378" y="1504"/>
                  </a:lnTo>
                  <a:lnTo>
                    <a:pt x="377" y="1502"/>
                  </a:lnTo>
                  <a:lnTo>
                    <a:pt x="377" y="1502"/>
                  </a:lnTo>
                  <a:lnTo>
                    <a:pt x="377" y="1500"/>
                  </a:lnTo>
                  <a:lnTo>
                    <a:pt x="367" y="1502"/>
                  </a:lnTo>
                  <a:lnTo>
                    <a:pt x="329" y="1510"/>
                  </a:lnTo>
                  <a:lnTo>
                    <a:pt x="292" y="1514"/>
                  </a:lnTo>
                  <a:lnTo>
                    <a:pt x="254" y="1518"/>
                  </a:lnTo>
                  <a:lnTo>
                    <a:pt x="213" y="1518"/>
                  </a:lnTo>
                  <a:lnTo>
                    <a:pt x="175" y="1518"/>
                  </a:lnTo>
                  <a:lnTo>
                    <a:pt x="137" y="1514"/>
                  </a:lnTo>
                  <a:lnTo>
                    <a:pt x="98" y="1510"/>
                  </a:lnTo>
                  <a:lnTo>
                    <a:pt x="62" y="1502"/>
                  </a:lnTo>
                  <a:lnTo>
                    <a:pt x="25" y="1495"/>
                  </a:lnTo>
                  <a:lnTo>
                    <a:pt x="0" y="1487"/>
                  </a:lnTo>
                  <a:lnTo>
                    <a:pt x="0" y="1489"/>
                  </a:lnTo>
                  <a:lnTo>
                    <a:pt x="2" y="1491"/>
                  </a:lnTo>
                  <a:lnTo>
                    <a:pt x="2" y="1493"/>
                  </a:lnTo>
                  <a:lnTo>
                    <a:pt x="2" y="1493"/>
                  </a:lnTo>
                  <a:lnTo>
                    <a:pt x="2" y="1495"/>
                  </a:lnTo>
                  <a:lnTo>
                    <a:pt x="2" y="1496"/>
                  </a:lnTo>
                  <a:lnTo>
                    <a:pt x="4" y="1498"/>
                  </a:lnTo>
                  <a:lnTo>
                    <a:pt x="4" y="1498"/>
                  </a:lnTo>
                  <a:close/>
                </a:path>
              </a:pathLst>
            </a:custGeom>
            <a:solidFill>
              <a:srgbClr val="6bc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Freeform 117"/>
            <p:cNvSpPr/>
            <p:nvPr/>
          </p:nvSpPr>
          <p:spPr>
            <a:xfrm>
              <a:off x="2046240" y="1952280"/>
              <a:ext cx="606600" cy="2411640"/>
            </a:xfrm>
            <a:custGeom>
              <a:avLst/>
              <a:gdLst>
                <a:gd name="textAreaLeft" fmla="*/ 0 w 606600"/>
                <a:gd name="textAreaRight" fmla="*/ 606960 w 606600"/>
                <a:gd name="textAreaTop" fmla="*/ 0 h 2411640"/>
                <a:gd name="textAreaBottom" fmla="*/ 2412000 h 2411640"/>
              </a:gdLst>
              <a:ahLst/>
              <a:rect l="textAreaLeft" t="textAreaTop" r="textAreaRight" b="textAreaBottom"/>
              <a:pathLst>
                <a:path w="382" h="1519">
                  <a:moveTo>
                    <a:pt x="382" y="19"/>
                  </a:moveTo>
                  <a:lnTo>
                    <a:pt x="369" y="15"/>
                  </a:lnTo>
                  <a:lnTo>
                    <a:pt x="332" y="9"/>
                  </a:lnTo>
                  <a:lnTo>
                    <a:pt x="294" y="4"/>
                  </a:lnTo>
                  <a:lnTo>
                    <a:pt x="256" y="2"/>
                  </a:lnTo>
                  <a:lnTo>
                    <a:pt x="215" y="0"/>
                  </a:lnTo>
                  <a:lnTo>
                    <a:pt x="177" y="2"/>
                  </a:lnTo>
                  <a:lnTo>
                    <a:pt x="152" y="4"/>
                  </a:lnTo>
                  <a:lnTo>
                    <a:pt x="152" y="4"/>
                  </a:lnTo>
                  <a:lnTo>
                    <a:pt x="152" y="5"/>
                  </a:lnTo>
                  <a:lnTo>
                    <a:pt x="150" y="7"/>
                  </a:lnTo>
                  <a:lnTo>
                    <a:pt x="150" y="7"/>
                  </a:lnTo>
                  <a:lnTo>
                    <a:pt x="150" y="9"/>
                  </a:lnTo>
                  <a:lnTo>
                    <a:pt x="148" y="11"/>
                  </a:lnTo>
                  <a:lnTo>
                    <a:pt x="148" y="13"/>
                  </a:lnTo>
                  <a:lnTo>
                    <a:pt x="148" y="13"/>
                  </a:lnTo>
                  <a:lnTo>
                    <a:pt x="177" y="11"/>
                  </a:lnTo>
                  <a:lnTo>
                    <a:pt x="215" y="11"/>
                  </a:lnTo>
                  <a:lnTo>
                    <a:pt x="254" y="11"/>
                  </a:lnTo>
                  <a:lnTo>
                    <a:pt x="292" y="15"/>
                  </a:lnTo>
                  <a:lnTo>
                    <a:pt x="331" y="19"/>
                  </a:lnTo>
                  <a:lnTo>
                    <a:pt x="367" y="27"/>
                  </a:lnTo>
                  <a:lnTo>
                    <a:pt x="379" y="28"/>
                  </a:lnTo>
                  <a:lnTo>
                    <a:pt x="380" y="27"/>
                  </a:lnTo>
                  <a:lnTo>
                    <a:pt x="380" y="27"/>
                  </a:lnTo>
                  <a:lnTo>
                    <a:pt x="380" y="25"/>
                  </a:lnTo>
                  <a:lnTo>
                    <a:pt x="380" y="23"/>
                  </a:lnTo>
                  <a:lnTo>
                    <a:pt x="382" y="23"/>
                  </a:lnTo>
                  <a:lnTo>
                    <a:pt x="382" y="21"/>
                  </a:lnTo>
                  <a:lnTo>
                    <a:pt x="382" y="21"/>
                  </a:lnTo>
                  <a:lnTo>
                    <a:pt x="382" y="19"/>
                  </a:lnTo>
                  <a:close/>
                  <a:moveTo>
                    <a:pt x="4" y="1489"/>
                  </a:moveTo>
                  <a:lnTo>
                    <a:pt x="25" y="1496"/>
                  </a:lnTo>
                  <a:lnTo>
                    <a:pt x="64" y="1504"/>
                  </a:lnTo>
                  <a:lnTo>
                    <a:pt x="100" y="1510"/>
                  </a:lnTo>
                  <a:lnTo>
                    <a:pt x="139" y="1515"/>
                  </a:lnTo>
                  <a:lnTo>
                    <a:pt x="177" y="1519"/>
                  </a:lnTo>
                  <a:lnTo>
                    <a:pt x="215" y="1519"/>
                  </a:lnTo>
                  <a:lnTo>
                    <a:pt x="256" y="1519"/>
                  </a:lnTo>
                  <a:lnTo>
                    <a:pt x="294" y="1515"/>
                  </a:lnTo>
                  <a:lnTo>
                    <a:pt x="332" y="1510"/>
                  </a:lnTo>
                  <a:lnTo>
                    <a:pt x="369" y="1504"/>
                  </a:lnTo>
                  <a:lnTo>
                    <a:pt x="380" y="1502"/>
                  </a:lnTo>
                  <a:lnTo>
                    <a:pt x="380" y="1500"/>
                  </a:lnTo>
                  <a:lnTo>
                    <a:pt x="379" y="1498"/>
                  </a:lnTo>
                  <a:lnTo>
                    <a:pt x="379" y="1498"/>
                  </a:lnTo>
                  <a:lnTo>
                    <a:pt x="379" y="1496"/>
                  </a:lnTo>
                  <a:lnTo>
                    <a:pt x="379" y="1496"/>
                  </a:lnTo>
                  <a:lnTo>
                    <a:pt x="377" y="1494"/>
                  </a:lnTo>
                  <a:lnTo>
                    <a:pt x="377" y="1492"/>
                  </a:lnTo>
                  <a:lnTo>
                    <a:pt x="377" y="1492"/>
                  </a:lnTo>
                  <a:lnTo>
                    <a:pt x="367" y="1494"/>
                  </a:lnTo>
                  <a:lnTo>
                    <a:pt x="331" y="1500"/>
                  </a:lnTo>
                  <a:lnTo>
                    <a:pt x="292" y="1506"/>
                  </a:lnTo>
                  <a:lnTo>
                    <a:pt x="254" y="1508"/>
                  </a:lnTo>
                  <a:lnTo>
                    <a:pt x="215" y="1510"/>
                  </a:lnTo>
                  <a:lnTo>
                    <a:pt x="177" y="1508"/>
                  </a:lnTo>
                  <a:lnTo>
                    <a:pt x="139" y="1506"/>
                  </a:lnTo>
                  <a:lnTo>
                    <a:pt x="102" y="1500"/>
                  </a:lnTo>
                  <a:lnTo>
                    <a:pt x="66" y="1494"/>
                  </a:lnTo>
                  <a:lnTo>
                    <a:pt x="29" y="1485"/>
                  </a:lnTo>
                  <a:lnTo>
                    <a:pt x="0" y="1477"/>
                  </a:lnTo>
                  <a:lnTo>
                    <a:pt x="2" y="1479"/>
                  </a:lnTo>
                  <a:lnTo>
                    <a:pt x="2" y="1481"/>
                  </a:lnTo>
                  <a:lnTo>
                    <a:pt x="2" y="1483"/>
                  </a:lnTo>
                  <a:lnTo>
                    <a:pt x="2" y="1483"/>
                  </a:lnTo>
                  <a:lnTo>
                    <a:pt x="2" y="1485"/>
                  </a:lnTo>
                  <a:lnTo>
                    <a:pt x="4" y="1487"/>
                  </a:lnTo>
                  <a:lnTo>
                    <a:pt x="4" y="1489"/>
                  </a:lnTo>
                  <a:lnTo>
                    <a:pt x="4" y="1489"/>
                  </a:lnTo>
                  <a:close/>
                </a:path>
              </a:pathLst>
            </a:custGeom>
            <a:solidFill>
              <a:srgbClr val="6cc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Freeform 118"/>
            <p:cNvSpPr/>
            <p:nvPr/>
          </p:nvSpPr>
          <p:spPr>
            <a:xfrm>
              <a:off x="2046240" y="1960560"/>
              <a:ext cx="603360" cy="239544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395440"/>
                <a:gd name="textAreaBottom" fmla="*/ 2395800 h 2395440"/>
              </a:gdLst>
              <a:ahLst/>
              <a:rect l="textAreaLeft" t="textAreaTop" r="textAreaRight" b="textAreaBottom"/>
              <a:pathLst>
                <a:path w="380" h="1509">
                  <a:moveTo>
                    <a:pt x="380" y="18"/>
                  </a:moveTo>
                  <a:lnTo>
                    <a:pt x="369" y="16"/>
                  </a:lnTo>
                  <a:lnTo>
                    <a:pt x="331" y="8"/>
                  </a:lnTo>
                  <a:lnTo>
                    <a:pt x="294" y="4"/>
                  </a:lnTo>
                  <a:lnTo>
                    <a:pt x="256" y="0"/>
                  </a:lnTo>
                  <a:lnTo>
                    <a:pt x="215" y="0"/>
                  </a:lnTo>
                  <a:lnTo>
                    <a:pt x="177" y="0"/>
                  </a:lnTo>
                  <a:lnTo>
                    <a:pt x="150" y="4"/>
                  </a:lnTo>
                  <a:lnTo>
                    <a:pt x="150" y="4"/>
                  </a:lnTo>
                  <a:lnTo>
                    <a:pt x="148" y="6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6" y="10"/>
                  </a:lnTo>
                  <a:lnTo>
                    <a:pt x="146" y="12"/>
                  </a:lnTo>
                  <a:lnTo>
                    <a:pt x="146" y="12"/>
                  </a:lnTo>
                  <a:lnTo>
                    <a:pt x="144" y="14"/>
                  </a:lnTo>
                  <a:lnTo>
                    <a:pt x="177" y="12"/>
                  </a:lnTo>
                  <a:lnTo>
                    <a:pt x="215" y="10"/>
                  </a:lnTo>
                  <a:lnTo>
                    <a:pt x="254" y="12"/>
                  </a:lnTo>
                  <a:lnTo>
                    <a:pt x="292" y="14"/>
                  </a:lnTo>
                  <a:lnTo>
                    <a:pt x="329" y="20"/>
                  </a:lnTo>
                  <a:lnTo>
                    <a:pt x="365" y="25"/>
                  </a:lnTo>
                  <a:lnTo>
                    <a:pt x="377" y="27"/>
                  </a:lnTo>
                  <a:lnTo>
                    <a:pt x="377" y="27"/>
                  </a:lnTo>
                  <a:lnTo>
                    <a:pt x="379" y="25"/>
                  </a:lnTo>
                  <a:lnTo>
                    <a:pt x="379" y="25"/>
                  </a:lnTo>
                  <a:lnTo>
                    <a:pt x="379" y="23"/>
                  </a:lnTo>
                  <a:lnTo>
                    <a:pt x="380" y="22"/>
                  </a:lnTo>
                  <a:lnTo>
                    <a:pt x="380" y="22"/>
                  </a:lnTo>
                  <a:lnTo>
                    <a:pt x="380" y="20"/>
                  </a:lnTo>
                  <a:lnTo>
                    <a:pt x="380" y="18"/>
                  </a:lnTo>
                  <a:close/>
                  <a:moveTo>
                    <a:pt x="2" y="1478"/>
                  </a:moveTo>
                  <a:lnTo>
                    <a:pt x="27" y="1486"/>
                  </a:lnTo>
                  <a:lnTo>
                    <a:pt x="64" y="1493"/>
                  </a:lnTo>
                  <a:lnTo>
                    <a:pt x="100" y="1501"/>
                  </a:lnTo>
                  <a:lnTo>
                    <a:pt x="139" y="1505"/>
                  </a:lnTo>
                  <a:lnTo>
                    <a:pt x="177" y="1509"/>
                  </a:lnTo>
                  <a:lnTo>
                    <a:pt x="215" y="1509"/>
                  </a:lnTo>
                  <a:lnTo>
                    <a:pt x="256" y="1509"/>
                  </a:lnTo>
                  <a:lnTo>
                    <a:pt x="294" y="1505"/>
                  </a:lnTo>
                  <a:lnTo>
                    <a:pt x="331" y="1501"/>
                  </a:lnTo>
                  <a:lnTo>
                    <a:pt x="369" y="1493"/>
                  </a:lnTo>
                  <a:lnTo>
                    <a:pt x="379" y="1491"/>
                  </a:lnTo>
                  <a:lnTo>
                    <a:pt x="379" y="1491"/>
                  </a:lnTo>
                  <a:lnTo>
                    <a:pt x="377" y="1489"/>
                  </a:lnTo>
                  <a:lnTo>
                    <a:pt x="377" y="1487"/>
                  </a:lnTo>
                  <a:lnTo>
                    <a:pt x="377" y="1487"/>
                  </a:lnTo>
                  <a:lnTo>
                    <a:pt x="377" y="1486"/>
                  </a:lnTo>
                  <a:lnTo>
                    <a:pt x="375" y="1484"/>
                  </a:lnTo>
                  <a:lnTo>
                    <a:pt x="375" y="1484"/>
                  </a:lnTo>
                  <a:lnTo>
                    <a:pt x="375" y="1482"/>
                  </a:lnTo>
                  <a:lnTo>
                    <a:pt x="365" y="1484"/>
                  </a:lnTo>
                  <a:lnTo>
                    <a:pt x="329" y="1491"/>
                  </a:lnTo>
                  <a:lnTo>
                    <a:pt x="292" y="1495"/>
                  </a:lnTo>
                  <a:lnTo>
                    <a:pt x="254" y="1499"/>
                  </a:lnTo>
                  <a:lnTo>
                    <a:pt x="215" y="1499"/>
                  </a:lnTo>
                  <a:lnTo>
                    <a:pt x="177" y="1499"/>
                  </a:lnTo>
                  <a:lnTo>
                    <a:pt x="141" y="1495"/>
                  </a:lnTo>
                  <a:lnTo>
                    <a:pt x="102" y="1491"/>
                  </a:lnTo>
                  <a:lnTo>
                    <a:pt x="66" y="1484"/>
                  </a:lnTo>
                  <a:lnTo>
                    <a:pt x="29" y="1476"/>
                  </a:lnTo>
                  <a:lnTo>
                    <a:pt x="0" y="1466"/>
                  </a:lnTo>
                  <a:lnTo>
                    <a:pt x="0" y="1468"/>
                  </a:lnTo>
                  <a:lnTo>
                    <a:pt x="0" y="1470"/>
                  </a:lnTo>
                  <a:lnTo>
                    <a:pt x="0" y="1472"/>
                  </a:lnTo>
                  <a:lnTo>
                    <a:pt x="0" y="1472"/>
                  </a:lnTo>
                  <a:lnTo>
                    <a:pt x="2" y="1474"/>
                  </a:lnTo>
                  <a:lnTo>
                    <a:pt x="2" y="1476"/>
                  </a:lnTo>
                  <a:lnTo>
                    <a:pt x="2" y="1478"/>
                  </a:lnTo>
                  <a:lnTo>
                    <a:pt x="2" y="1478"/>
                  </a:lnTo>
                  <a:close/>
                </a:path>
              </a:pathLst>
            </a:custGeom>
            <a:solidFill>
              <a:srgbClr val="6dc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Freeform 119"/>
            <p:cNvSpPr/>
            <p:nvPr/>
          </p:nvSpPr>
          <p:spPr>
            <a:xfrm>
              <a:off x="2044800" y="1969920"/>
              <a:ext cx="603000" cy="2379600"/>
            </a:xfrm>
            <a:custGeom>
              <a:avLst/>
              <a:gdLst>
                <a:gd name="textAreaLeft" fmla="*/ 0 w 603000"/>
                <a:gd name="textAreaRight" fmla="*/ 603360 w 603000"/>
                <a:gd name="textAreaTop" fmla="*/ 0 h 2379600"/>
                <a:gd name="textAreaBottom" fmla="*/ 2379960 h 2379600"/>
              </a:gdLst>
              <a:ahLst/>
              <a:rect l="textAreaLeft" t="textAreaTop" r="textAreaRight" b="textAreaBottom"/>
              <a:pathLst>
                <a:path w="380" h="1499">
                  <a:moveTo>
                    <a:pt x="380" y="17"/>
                  </a:moveTo>
                  <a:lnTo>
                    <a:pt x="368" y="16"/>
                  </a:lnTo>
                  <a:lnTo>
                    <a:pt x="332" y="8"/>
                  </a:lnTo>
                  <a:lnTo>
                    <a:pt x="293" y="4"/>
                  </a:lnTo>
                  <a:lnTo>
                    <a:pt x="255" y="0"/>
                  </a:lnTo>
                  <a:lnTo>
                    <a:pt x="216" y="0"/>
                  </a:lnTo>
                  <a:lnTo>
                    <a:pt x="178" y="0"/>
                  </a:lnTo>
                  <a:lnTo>
                    <a:pt x="149" y="2"/>
                  </a:lnTo>
                  <a:lnTo>
                    <a:pt x="147" y="4"/>
                  </a:lnTo>
                  <a:lnTo>
                    <a:pt x="147" y="6"/>
                  </a:lnTo>
                  <a:lnTo>
                    <a:pt x="147" y="6"/>
                  </a:lnTo>
                  <a:lnTo>
                    <a:pt x="145" y="8"/>
                  </a:lnTo>
                  <a:lnTo>
                    <a:pt x="145" y="10"/>
                  </a:lnTo>
                  <a:lnTo>
                    <a:pt x="145" y="10"/>
                  </a:lnTo>
                  <a:lnTo>
                    <a:pt x="143" y="12"/>
                  </a:lnTo>
                  <a:lnTo>
                    <a:pt x="143" y="14"/>
                  </a:lnTo>
                  <a:lnTo>
                    <a:pt x="180" y="10"/>
                  </a:lnTo>
                  <a:lnTo>
                    <a:pt x="216" y="10"/>
                  </a:lnTo>
                  <a:lnTo>
                    <a:pt x="255" y="10"/>
                  </a:lnTo>
                  <a:lnTo>
                    <a:pt x="293" y="14"/>
                  </a:lnTo>
                  <a:lnTo>
                    <a:pt x="330" y="17"/>
                  </a:lnTo>
                  <a:lnTo>
                    <a:pt x="366" y="25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8" y="25"/>
                  </a:lnTo>
                  <a:lnTo>
                    <a:pt x="378" y="23"/>
                  </a:lnTo>
                  <a:lnTo>
                    <a:pt x="378" y="21"/>
                  </a:lnTo>
                  <a:lnTo>
                    <a:pt x="378" y="21"/>
                  </a:lnTo>
                  <a:lnTo>
                    <a:pt x="380" y="19"/>
                  </a:lnTo>
                  <a:lnTo>
                    <a:pt x="380" y="19"/>
                  </a:lnTo>
                  <a:lnTo>
                    <a:pt x="380" y="17"/>
                  </a:lnTo>
                  <a:close/>
                  <a:moveTo>
                    <a:pt x="1" y="1466"/>
                  </a:moveTo>
                  <a:lnTo>
                    <a:pt x="30" y="1474"/>
                  </a:lnTo>
                  <a:lnTo>
                    <a:pt x="67" y="1483"/>
                  </a:lnTo>
                  <a:lnTo>
                    <a:pt x="103" y="1489"/>
                  </a:lnTo>
                  <a:lnTo>
                    <a:pt x="140" y="1495"/>
                  </a:lnTo>
                  <a:lnTo>
                    <a:pt x="178" y="1497"/>
                  </a:lnTo>
                  <a:lnTo>
                    <a:pt x="216" y="1499"/>
                  </a:lnTo>
                  <a:lnTo>
                    <a:pt x="255" y="1497"/>
                  </a:lnTo>
                  <a:lnTo>
                    <a:pt x="293" y="1495"/>
                  </a:lnTo>
                  <a:lnTo>
                    <a:pt x="332" y="1489"/>
                  </a:lnTo>
                  <a:lnTo>
                    <a:pt x="368" y="1483"/>
                  </a:lnTo>
                  <a:lnTo>
                    <a:pt x="378" y="1481"/>
                  </a:lnTo>
                  <a:lnTo>
                    <a:pt x="378" y="1480"/>
                  </a:lnTo>
                  <a:lnTo>
                    <a:pt x="376" y="1478"/>
                  </a:lnTo>
                  <a:lnTo>
                    <a:pt x="376" y="1478"/>
                  </a:lnTo>
                  <a:lnTo>
                    <a:pt x="376" y="1476"/>
                  </a:lnTo>
                  <a:lnTo>
                    <a:pt x="376" y="1476"/>
                  </a:lnTo>
                  <a:lnTo>
                    <a:pt x="374" y="1474"/>
                  </a:lnTo>
                  <a:lnTo>
                    <a:pt x="374" y="1472"/>
                  </a:lnTo>
                  <a:lnTo>
                    <a:pt x="374" y="1472"/>
                  </a:lnTo>
                  <a:lnTo>
                    <a:pt x="366" y="1474"/>
                  </a:lnTo>
                  <a:lnTo>
                    <a:pt x="330" y="1480"/>
                  </a:lnTo>
                  <a:lnTo>
                    <a:pt x="293" y="1483"/>
                  </a:lnTo>
                  <a:lnTo>
                    <a:pt x="255" y="1487"/>
                  </a:lnTo>
                  <a:lnTo>
                    <a:pt x="216" y="1487"/>
                  </a:lnTo>
                  <a:lnTo>
                    <a:pt x="180" y="1487"/>
                  </a:lnTo>
                  <a:lnTo>
                    <a:pt x="142" y="1483"/>
                  </a:lnTo>
                  <a:lnTo>
                    <a:pt x="105" y="1480"/>
                  </a:lnTo>
                  <a:lnTo>
                    <a:pt x="69" y="1474"/>
                  </a:lnTo>
                  <a:lnTo>
                    <a:pt x="32" y="1464"/>
                  </a:lnTo>
                  <a:lnTo>
                    <a:pt x="0" y="1455"/>
                  </a:lnTo>
                  <a:lnTo>
                    <a:pt x="0" y="1457"/>
                  </a:lnTo>
                  <a:lnTo>
                    <a:pt x="0" y="1458"/>
                  </a:lnTo>
                  <a:lnTo>
                    <a:pt x="0" y="1460"/>
                  </a:lnTo>
                  <a:lnTo>
                    <a:pt x="1" y="1460"/>
                  </a:lnTo>
                  <a:lnTo>
                    <a:pt x="1" y="1462"/>
                  </a:lnTo>
                  <a:lnTo>
                    <a:pt x="1" y="1464"/>
                  </a:lnTo>
                  <a:lnTo>
                    <a:pt x="1" y="1466"/>
                  </a:lnTo>
                  <a:lnTo>
                    <a:pt x="1" y="1466"/>
                  </a:lnTo>
                  <a:close/>
                </a:path>
              </a:pathLst>
            </a:custGeom>
            <a:solidFill>
              <a:srgbClr val="6e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Freeform 120"/>
            <p:cNvSpPr/>
            <p:nvPr/>
          </p:nvSpPr>
          <p:spPr>
            <a:xfrm>
              <a:off x="2041560" y="1976400"/>
              <a:ext cx="603360" cy="236376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363760"/>
                <a:gd name="textAreaBottom" fmla="*/ 2364120 h 2363760"/>
              </a:gdLst>
              <a:ahLst/>
              <a:rect l="textAreaLeft" t="textAreaTop" r="textAreaRight" b="textAreaBottom"/>
              <a:pathLst>
                <a:path w="380" h="1489">
                  <a:moveTo>
                    <a:pt x="380" y="17"/>
                  </a:moveTo>
                  <a:lnTo>
                    <a:pt x="368" y="15"/>
                  </a:lnTo>
                  <a:lnTo>
                    <a:pt x="332" y="10"/>
                  </a:lnTo>
                  <a:lnTo>
                    <a:pt x="295" y="4"/>
                  </a:lnTo>
                  <a:lnTo>
                    <a:pt x="257" y="2"/>
                  </a:lnTo>
                  <a:lnTo>
                    <a:pt x="218" y="0"/>
                  </a:lnTo>
                  <a:lnTo>
                    <a:pt x="180" y="2"/>
                  </a:lnTo>
                  <a:lnTo>
                    <a:pt x="147" y="4"/>
                  </a:lnTo>
                  <a:lnTo>
                    <a:pt x="147" y="6"/>
                  </a:lnTo>
                  <a:lnTo>
                    <a:pt x="147" y="6"/>
                  </a:lnTo>
                  <a:lnTo>
                    <a:pt x="145" y="8"/>
                  </a:lnTo>
                  <a:lnTo>
                    <a:pt x="145" y="10"/>
                  </a:lnTo>
                  <a:lnTo>
                    <a:pt x="145" y="12"/>
                  </a:lnTo>
                  <a:lnTo>
                    <a:pt x="144" y="12"/>
                  </a:lnTo>
                  <a:lnTo>
                    <a:pt x="144" y="13"/>
                  </a:lnTo>
                  <a:lnTo>
                    <a:pt x="144" y="15"/>
                  </a:lnTo>
                  <a:lnTo>
                    <a:pt x="144" y="15"/>
                  </a:lnTo>
                  <a:lnTo>
                    <a:pt x="182" y="12"/>
                  </a:lnTo>
                  <a:lnTo>
                    <a:pt x="218" y="12"/>
                  </a:lnTo>
                  <a:lnTo>
                    <a:pt x="257" y="12"/>
                  </a:lnTo>
                  <a:lnTo>
                    <a:pt x="293" y="15"/>
                  </a:lnTo>
                  <a:lnTo>
                    <a:pt x="332" y="19"/>
                  </a:lnTo>
                  <a:lnTo>
                    <a:pt x="366" y="25"/>
                  </a:lnTo>
                  <a:lnTo>
                    <a:pt x="376" y="27"/>
                  </a:lnTo>
                  <a:lnTo>
                    <a:pt x="376" y="27"/>
                  </a:lnTo>
                  <a:lnTo>
                    <a:pt x="378" y="25"/>
                  </a:lnTo>
                  <a:lnTo>
                    <a:pt x="378" y="25"/>
                  </a:lnTo>
                  <a:lnTo>
                    <a:pt x="378" y="23"/>
                  </a:lnTo>
                  <a:lnTo>
                    <a:pt x="378" y="21"/>
                  </a:lnTo>
                  <a:lnTo>
                    <a:pt x="380" y="21"/>
                  </a:lnTo>
                  <a:lnTo>
                    <a:pt x="380" y="19"/>
                  </a:lnTo>
                  <a:lnTo>
                    <a:pt x="380" y="17"/>
                  </a:lnTo>
                  <a:close/>
                  <a:moveTo>
                    <a:pt x="3" y="1456"/>
                  </a:moveTo>
                  <a:lnTo>
                    <a:pt x="32" y="1466"/>
                  </a:lnTo>
                  <a:lnTo>
                    <a:pt x="69" y="1474"/>
                  </a:lnTo>
                  <a:lnTo>
                    <a:pt x="105" y="1481"/>
                  </a:lnTo>
                  <a:lnTo>
                    <a:pt x="144" y="1485"/>
                  </a:lnTo>
                  <a:lnTo>
                    <a:pt x="180" y="1489"/>
                  </a:lnTo>
                  <a:lnTo>
                    <a:pt x="218" y="1489"/>
                  </a:lnTo>
                  <a:lnTo>
                    <a:pt x="257" y="1489"/>
                  </a:lnTo>
                  <a:lnTo>
                    <a:pt x="295" y="1485"/>
                  </a:lnTo>
                  <a:lnTo>
                    <a:pt x="332" y="1481"/>
                  </a:lnTo>
                  <a:lnTo>
                    <a:pt x="368" y="1474"/>
                  </a:lnTo>
                  <a:lnTo>
                    <a:pt x="378" y="1472"/>
                  </a:lnTo>
                  <a:lnTo>
                    <a:pt x="378" y="1472"/>
                  </a:lnTo>
                  <a:lnTo>
                    <a:pt x="376" y="1470"/>
                  </a:lnTo>
                  <a:lnTo>
                    <a:pt x="376" y="1468"/>
                  </a:lnTo>
                  <a:lnTo>
                    <a:pt x="376" y="1468"/>
                  </a:lnTo>
                  <a:lnTo>
                    <a:pt x="376" y="1466"/>
                  </a:lnTo>
                  <a:lnTo>
                    <a:pt x="374" y="1464"/>
                  </a:lnTo>
                  <a:lnTo>
                    <a:pt x="374" y="1464"/>
                  </a:lnTo>
                  <a:lnTo>
                    <a:pt x="374" y="1462"/>
                  </a:lnTo>
                  <a:lnTo>
                    <a:pt x="366" y="1464"/>
                  </a:lnTo>
                  <a:lnTo>
                    <a:pt x="332" y="1470"/>
                  </a:lnTo>
                  <a:lnTo>
                    <a:pt x="293" y="1476"/>
                  </a:lnTo>
                  <a:lnTo>
                    <a:pt x="257" y="1477"/>
                  </a:lnTo>
                  <a:lnTo>
                    <a:pt x="218" y="1479"/>
                  </a:lnTo>
                  <a:lnTo>
                    <a:pt x="182" y="1477"/>
                  </a:lnTo>
                  <a:lnTo>
                    <a:pt x="144" y="1476"/>
                  </a:lnTo>
                  <a:lnTo>
                    <a:pt x="107" y="1470"/>
                  </a:lnTo>
                  <a:lnTo>
                    <a:pt x="71" y="1464"/>
                  </a:lnTo>
                  <a:lnTo>
                    <a:pt x="36" y="1456"/>
                  </a:lnTo>
                  <a:lnTo>
                    <a:pt x="2" y="1445"/>
                  </a:lnTo>
                  <a:lnTo>
                    <a:pt x="0" y="1445"/>
                  </a:lnTo>
                  <a:lnTo>
                    <a:pt x="0" y="1447"/>
                  </a:lnTo>
                  <a:lnTo>
                    <a:pt x="2" y="1449"/>
                  </a:lnTo>
                  <a:lnTo>
                    <a:pt x="2" y="1451"/>
                  </a:lnTo>
                  <a:lnTo>
                    <a:pt x="2" y="1451"/>
                  </a:lnTo>
                  <a:lnTo>
                    <a:pt x="2" y="1453"/>
                  </a:lnTo>
                  <a:lnTo>
                    <a:pt x="2" y="1454"/>
                  </a:lnTo>
                  <a:lnTo>
                    <a:pt x="2" y="1456"/>
                  </a:lnTo>
                  <a:lnTo>
                    <a:pt x="3" y="1456"/>
                  </a:lnTo>
                  <a:close/>
                </a:path>
              </a:pathLst>
            </a:custGeom>
            <a:solidFill>
              <a:srgbClr val="6f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Freeform 121"/>
            <p:cNvSpPr/>
            <p:nvPr/>
          </p:nvSpPr>
          <p:spPr>
            <a:xfrm>
              <a:off x="2038320" y="1985760"/>
              <a:ext cx="603360" cy="23446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344680"/>
                <a:gd name="textAreaBottom" fmla="*/ 2344680 h 2344680"/>
              </a:gdLst>
              <a:ahLst/>
              <a:rect l="textAreaLeft" t="textAreaTop" r="textAreaRight" b="textAreaBottom"/>
              <a:pathLst>
                <a:path w="380" h="1477">
                  <a:moveTo>
                    <a:pt x="380" y="17"/>
                  </a:moveTo>
                  <a:lnTo>
                    <a:pt x="370" y="15"/>
                  </a:lnTo>
                  <a:lnTo>
                    <a:pt x="334" y="7"/>
                  </a:lnTo>
                  <a:lnTo>
                    <a:pt x="297" y="4"/>
                  </a:lnTo>
                  <a:lnTo>
                    <a:pt x="259" y="0"/>
                  </a:lnTo>
                  <a:lnTo>
                    <a:pt x="220" y="0"/>
                  </a:lnTo>
                  <a:lnTo>
                    <a:pt x="184" y="0"/>
                  </a:lnTo>
                  <a:lnTo>
                    <a:pt x="147" y="4"/>
                  </a:lnTo>
                  <a:lnTo>
                    <a:pt x="147" y="6"/>
                  </a:lnTo>
                  <a:lnTo>
                    <a:pt x="146" y="6"/>
                  </a:lnTo>
                  <a:lnTo>
                    <a:pt x="146" y="7"/>
                  </a:lnTo>
                  <a:lnTo>
                    <a:pt x="146" y="9"/>
                  </a:lnTo>
                  <a:lnTo>
                    <a:pt x="146" y="9"/>
                  </a:lnTo>
                  <a:lnTo>
                    <a:pt x="144" y="11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6" y="13"/>
                  </a:lnTo>
                  <a:lnTo>
                    <a:pt x="184" y="11"/>
                  </a:lnTo>
                  <a:lnTo>
                    <a:pt x="220" y="9"/>
                  </a:lnTo>
                  <a:lnTo>
                    <a:pt x="259" y="11"/>
                  </a:lnTo>
                  <a:lnTo>
                    <a:pt x="295" y="13"/>
                  </a:lnTo>
                  <a:lnTo>
                    <a:pt x="332" y="19"/>
                  </a:lnTo>
                  <a:lnTo>
                    <a:pt x="368" y="25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8" y="25"/>
                  </a:lnTo>
                  <a:lnTo>
                    <a:pt x="378" y="23"/>
                  </a:lnTo>
                  <a:lnTo>
                    <a:pt x="378" y="21"/>
                  </a:lnTo>
                  <a:lnTo>
                    <a:pt x="378" y="21"/>
                  </a:lnTo>
                  <a:lnTo>
                    <a:pt x="380" y="19"/>
                  </a:lnTo>
                  <a:lnTo>
                    <a:pt x="380" y="19"/>
                  </a:lnTo>
                  <a:lnTo>
                    <a:pt x="380" y="17"/>
                  </a:lnTo>
                  <a:close/>
                  <a:moveTo>
                    <a:pt x="4" y="1445"/>
                  </a:moveTo>
                  <a:lnTo>
                    <a:pt x="36" y="1454"/>
                  </a:lnTo>
                  <a:lnTo>
                    <a:pt x="73" y="1464"/>
                  </a:lnTo>
                  <a:lnTo>
                    <a:pt x="109" y="1470"/>
                  </a:lnTo>
                  <a:lnTo>
                    <a:pt x="146" y="1473"/>
                  </a:lnTo>
                  <a:lnTo>
                    <a:pt x="184" y="1477"/>
                  </a:lnTo>
                  <a:lnTo>
                    <a:pt x="220" y="1477"/>
                  </a:lnTo>
                  <a:lnTo>
                    <a:pt x="259" y="1477"/>
                  </a:lnTo>
                  <a:lnTo>
                    <a:pt x="297" y="1473"/>
                  </a:lnTo>
                  <a:lnTo>
                    <a:pt x="334" y="1470"/>
                  </a:lnTo>
                  <a:lnTo>
                    <a:pt x="370" y="1464"/>
                  </a:lnTo>
                  <a:lnTo>
                    <a:pt x="378" y="1462"/>
                  </a:lnTo>
                  <a:lnTo>
                    <a:pt x="378" y="1460"/>
                  </a:lnTo>
                  <a:lnTo>
                    <a:pt x="376" y="1458"/>
                  </a:lnTo>
                  <a:lnTo>
                    <a:pt x="376" y="1458"/>
                  </a:lnTo>
                  <a:lnTo>
                    <a:pt x="376" y="1456"/>
                  </a:lnTo>
                  <a:lnTo>
                    <a:pt x="376" y="1454"/>
                  </a:lnTo>
                  <a:lnTo>
                    <a:pt x="374" y="1454"/>
                  </a:lnTo>
                  <a:lnTo>
                    <a:pt x="374" y="1452"/>
                  </a:lnTo>
                  <a:lnTo>
                    <a:pt x="374" y="1452"/>
                  </a:lnTo>
                  <a:lnTo>
                    <a:pt x="368" y="1452"/>
                  </a:lnTo>
                  <a:lnTo>
                    <a:pt x="332" y="1460"/>
                  </a:lnTo>
                  <a:lnTo>
                    <a:pt x="295" y="1464"/>
                  </a:lnTo>
                  <a:lnTo>
                    <a:pt x="259" y="1468"/>
                  </a:lnTo>
                  <a:lnTo>
                    <a:pt x="220" y="1468"/>
                  </a:lnTo>
                  <a:lnTo>
                    <a:pt x="184" y="1468"/>
                  </a:lnTo>
                  <a:lnTo>
                    <a:pt x="146" y="1464"/>
                  </a:lnTo>
                  <a:lnTo>
                    <a:pt x="109" y="1460"/>
                  </a:lnTo>
                  <a:lnTo>
                    <a:pt x="75" y="1452"/>
                  </a:lnTo>
                  <a:lnTo>
                    <a:pt x="38" y="1445"/>
                  </a:lnTo>
                  <a:lnTo>
                    <a:pt x="4" y="1435"/>
                  </a:lnTo>
                  <a:lnTo>
                    <a:pt x="0" y="1433"/>
                  </a:lnTo>
                  <a:lnTo>
                    <a:pt x="2" y="1435"/>
                  </a:lnTo>
                  <a:lnTo>
                    <a:pt x="2" y="1437"/>
                  </a:lnTo>
                  <a:lnTo>
                    <a:pt x="2" y="1439"/>
                  </a:lnTo>
                  <a:lnTo>
                    <a:pt x="2" y="1439"/>
                  </a:lnTo>
                  <a:lnTo>
                    <a:pt x="2" y="1441"/>
                  </a:lnTo>
                  <a:lnTo>
                    <a:pt x="4" y="1443"/>
                  </a:lnTo>
                  <a:lnTo>
                    <a:pt x="4" y="1445"/>
                  </a:lnTo>
                  <a:lnTo>
                    <a:pt x="4" y="1445"/>
                  </a:lnTo>
                  <a:close/>
                </a:path>
              </a:pathLst>
            </a:custGeom>
            <a:solidFill>
              <a:srgbClr val="70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Freeform 122"/>
            <p:cNvSpPr/>
            <p:nvPr/>
          </p:nvSpPr>
          <p:spPr>
            <a:xfrm>
              <a:off x="2038320" y="1995480"/>
              <a:ext cx="600120" cy="232884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2328840"/>
                <a:gd name="textAreaBottom" fmla="*/ 2328840 h 2328840"/>
              </a:gdLst>
              <a:ahLst/>
              <a:rect l="textAreaLeft" t="textAreaTop" r="textAreaRight" b="textAreaBottom"/>
              <a:pathLst>
                <a:path w="378" h="1467">
                  <a:moveTo>
                    <a:pt x="378" y="15"/>
                  </a:moveTo>
                  <a:lnTo>
                    <a:pt x="368" y="13"/>
                  </a:lnTo>
                  <a:lnTo>
                    <a:pt x="334" y="7"/>
                  </a:lnTo>
                  <a:lnTo>
                    <a:pt x="295" y="3"/>
                  </a:lnTo>
                  <a:lnTo>
                    <a:pt x="259" y="0"/>
                  </a:lnTo>
                  <a:lnTo>
                    <a:pt x="220" y="0"/>
                  </a:lnTo>
                  <a:lnTo>
                    <a:pt x="184" y="0"/>
                  </a:lnTo>
                  <a:lnTo>
                    <a:pt x="146" y="3"/>
                  </a:lnTo>
                  <a:lnTo>
                    <a:pt x="146" y="3"/>
                  </a:lnTo>
                  <a:lnTo>
                    <a:pt x="146" y="3"/>
                  </a:lnTo>
                  <a:lnTo>
                    <a:pt x="144" y="5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2" y="9"/>
                  </a:lnTo>
                  <a:lnTo>
                    <a:pt x="142" y="11"/>
                  </a:lnTo>
                  <a:lnTo>
                    <a:pt x="142" y="13"/>
                  </a:lnTo>
                  <a:lnTo>
                    <a:pt x="140" y="13"/>
                  </a:lnTo>
                  <a:lnTo>
                    <a:pt x="147" y="13"/>
                  </a:lnTo>
                  <a:lnTo>
                    <a:pt x="184" y="9"/>
                  </a:lnTo>
                  <a:lnTo>
                    <a:pt x="220" y="9"/>
                  </a:lnTo>
                  <a:lnTo>
                    <a:pt x="259" y="9"/>
                  </a:lnTo>
                  <a:lnTo>
                    <a:pt x="295" y="13"/>
                  </a:lnTo>
                  <a:lnTo>
                    <a:pt x="332" y="17"/>
                  </a:lnTo>
                  <a:lnTo>
                    <a:pt x="366" y="25"/>
                  </a:lnTo>
                  <a:lnTo>
                    <a:pt x="374" y="26"/>
                  </a:lnTo>
                  <a:lnTo>
                    <a:pt x="374" y="25"/>
                  </a:lnTo>
                  <a:lnTo>
                    <a:pt x="376" y="23"/>
                  </a:lnTo>
                  <a:lnTo>
                    <a:pt x="376" y="23"/>
                  </a:lnTo>
                  <a:lnTo>
                    <a:pt x="376" y="21"/>
                  </a:lnTo>
                  <a:lnTo>
                    <a:pt x="376" y="19"/>
                  </a:lnTo>
                  <a:lnTo>
                    <a:pt x="378" y="19"/>
                  </a:lnTo>
                  <a:lnTo>
                    <a:pt x="378" y="17"/>
                  </a:lnTo>
                  <a:lnTo>
                    <a:pt x="378" y="15"/>
                  </a:lnTo>
                  <a:close/>
                  <a:moveTo>
                    <a:pt x="2" y="1433"/>
                  </a:moveTo>
                  <a:lnTo>
                    <a:pt x="4" y="1433"/>
                  </a:lnTo>
                  <a:lnTo>
                    <a:pt x="38" y="1444"/>
                  </a:lnTo>
                  <a:lnTo>
                    <a:pt x="73" y="1452"/>
                  </a:lnTo>
                  <a:lnTo>
                    <a:pt x="109" y="1458"/>
                  </a:lnTo>
                  <a:lnTo>
                    <a:pt x="146" y="1464"/>
                  </a:lnTo>
                  <a:lnTo>
                    <a:pt x="184" y="1465"/>
                  </a:lnTo>
                  <a:lnTo>
                    <a:pt x="220" y="1467"/>
                  </a:lnTo>
                  <a:lnTo>
                    <a:pt x="259" y="1465"/>
                  </a:lnTo>
                  <a:lnTo>
                    <a:pt x="295" y="1464"/>
                  </a:lnTo>
                  <a:lnTo>
                    <a:pt x="334" y="1458"/>
                  </a:lnTo>
                  <a:lnTo>
                    <a:pt x="368" y="1452"/>
                  </a:lnTo>
                  <a:lnTo>
                    <a:pt x="376" y="1450"/>
                  </a:lnTo>
                  <a:lnTo>
                    <a:pt x="376" y="1448"/>
                  </a:lnTo>
                  <a:lnTo>
                    <a:pt x="374" y="1448"/>
                  </a:lnTo>
                  <a:lnTo>
                    <a:pt x="374" y="1446"/>
                  </a:lnTo>
                  <a:lnTo>
                    <a:pt x="374" y="1446"/>
                  </a:lnTo>
                  <a:lnTo>
                    <a:pt x="374" y="1444"/>
                  </a:lnTo>
                  <a:lnTo>
                    <a:pt x="372" y="1442"/>
                  </a:lnTo>
                  <a:lnTo>
                    <a:pt x="372" y="1442"/>
                  </a:lnTo>
                  <a:lnTo>
                    <a:pt x="372" y="1441"/>
                  </a:lnTo>
                  <a:lnTo>
                    <a:pt x="366" y="1442"/>
                  </a:lnTo>
                  <a:lnTo>
                    <a:pt x="332" y="1448"/>
                  </a:lnTo>
                  <a:lnTo>
                    <a:pt x="295" y="1452"/>
                  </a:lnTo>
                  <a:lnTo>
                    <a:pt x="259" y="1456"/>
                  </a:lnTo>
                  <a:lnTo>
                    <a:pt x="220" y="1456"/>
                  </a:lnTo>
                  <a:lnTo>
                    <a:pt x="184" y="1456"/>
                  </a:lnTo>
                  <a:lnTo>
                    <a:pt x="147" y="1452"/>
                  </a:lnTo>
                  <a:lnTo>
                    <a:pt x="111" y="1448"/>
                  </a:lnTo>
                  <a:lnTo>
                    <a:pt x="75" y="1442"/>
                  </a:lnTo>
                  <a:lnTo>
                    <a:pt x="40" y="1433"/>
                  </a:lnTo>
                  <a:lnTo>
                    <a:pt x="5" y="1423"/>
                  </a:lnTo>
                  <a:lnTo>
                    <a:pt x="0" y="1421"/>
                  </a:lnTo>
                  <a:lnTo>
                    <a:pt x="0" y="1423"/>
                  </a:lnTo>
                  <a:lnTo>
                    <a:pt x="0" y="1425"/>
                  </a:lnTo>
                  <a:lnTo>
                    <a:pt x="0" y="1425"/>
                  </a:lnTo>
                  <a:lnTo>
                    <a:pt x="0" y="1427"/>
                  </a:lnTo>
                  <a:lnTo>
                    <a:pt x="2" y="1429"/>
                  </a:lnTo>
                  <a:lnTo>
                    <a:pt x="2" y="1431"/>
                  </a:lnTo>
                  <a:lnTo>
                    <a:pt x="2" y="1433"/>
                  </a:lnTo>
                  <a:lnTo>
                    <a:pt x="2" y="1433"/>
                  </a:lnTo>
                  <a:close/>
                </a:path>
              </a:pathLst>
            </a:custGeom>
            <a:solidFill>
              <a:srgbClr val="71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Freeform 123"/>
            <p:cNvSpPr/>
            <p:nvPr/>
          </p:nvSpPr>
          <p:spPr>
            <a:xfrm>
              <a:off x="2035080" y="2000160"/>
              <a:ext cx="600120" cy="231624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2316240"/>
                <a:gd name="textAreaBottom" fmla="*/ 2316600 h 2316240"/>
              </a:gdLst>
              <a:ahLst/>
              <a:rect l="textAreaLeft" t="textAreaTop" r="textAreaRight" b="textAreaBottom"/>
              <a:pathLst>
                <a:path w="378" h="1459">
                  <a:moveTo>
                    <a:pt x="378" y="18"/>
                  </a:moveTo>
                  <a:lnTo>
                    <a:pt x="370" y="16"/>
                  </a:lnTo>
                  <a:lnTo>
                    <a:pt x="334" y="10"/>
                  </a:lnTo>
                  <a:lnTo>
                    <a:pt x="297" y="4"/>
                  </a:lnTo>
                  <a:lnTo>
                    <a:pt x="261" y="2"/>
                  </a:lnTo>
                  <a:lnTo>
                    <a:pt x="222" y="0"/>
                  </a:lnTo>
                  <a:lnTo>
                    <a:pt x="186" y="2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4" y="6"/>
                  </a:lnTo>
                  <a:lnTo>
                    <a:pt x="144" y="8"/>
                  </a:lnTo>
                  <a:lnTo>
                    <a:pt x="144" y="10"/>
                  </a:lnTo>
                  <a:lnTo>
                    <a:pt x="142" y="10"/>
                  </a:lnTo>
                  <a:lnTo>
                    <a:pt x="142" y="12"/>
                  </a:lnTo>
                  <a:lnTo>
                    <a:pt x="142" y="14"/>
                  </a:lnTo>
                  <a:lnTo>
                    <a:pt x="140" y="14"/>
                  </a:lnTo>
                  <a:lnTo>
                    <a:pt x="140" y="16"/>
                  </a:lnTo>
                  <a:lnTo>
                    <a:pt x="149" y="16"/>
                  </a:lnTo>
                  <a:lnTo>
                    <a:pt x="186" y="12"/>
                  </a:lnTo>
                  <a:lnTo>
                    <a:pt x="222" y="12"/>
                  </a:lnTo>
                  <a:lnTo>
                    <a:pt x="261" y="12"/>
                  </a:lnTo>
                  <a:lnTo>
                    <a:pt x="297" y="16"/>
                  </a:lnTo>
                  <a:lnTo>
                    <a:pt x="332" y="20"/>
                  </a:lnTo>
                  <a:lnTo>
                    <a:pt x="368" y="25"/>
                  </a:lnTo>
                  <a:lnTo>
                    <a:pt x="374" y="27"/>
                  </a:lnTo>
                  <a:lnTo>
                    <a:pt x="374" y="25"/>
                  </a:lnTo>
                  <a:lnTo>
                    <a:pt x="376" y="25"/>
                  </a:lnTo>
                  <a:lnTo>
                    <a:pt x="376" y="23"/>
                  </a:lnTo>
                  <a:lnTo>
                    <a:pt x="376" y="23"/>
                  </a:lnTo>
                  <a:lnTo>
                    <a:pt x="376" y="22"/>
                  </a:lnTo>
                  <a:lnTo>
                    <a:pt x="378" y="20"/>
                  </a:lnTo>
                  <a:lnTo>
                    <a:pt x="378" y="20"/>
                  </a:lnTo>
                  <a:lnTo>
                    <a:pt x="378" y="18"/>
                  </a:lnTo>
                  <a:close/>
                  <a:moveTo>
                    <a:pt x="2" y="1424"/>
                  </a:moveTo>
                  <a:lnTo>
                    <a:pt x="6" y="1426"/>
                  </a:lnTo>
                  <a:lnTo>
                    <a:pt x="40" y="1436"/>
                  </a:lnTo>
                  <a:lnTo>
                    <a:pt x="77" y="1443"/>
                  </a:lnTo>
                  <a:lnTo>
                    <a:pt x="111" y="1451"/>
                  </a:lnTo>
                  <a:lnTo>
                    <a:pt x="148" y="1455"/>
                  </a:lnTo>
                  <a:lnTo>
                    <a:pt x="186" y="1459"/>
                  </a:lnTo>
                  <a:lnTo>
                    <a:pt x="222" y="1459"/>
                  </a:lnTo>
                  <a:lnTo>
                    <a:pt x="261" y="1459"/>
                  </a:lnTo>
                  <a:lnTo>
                    <a:pt x="297" y="1455"/>
                  </a:lnTo>
                  <a:lnTo>
                    <a:pt x="334" y="1451"/>
                  </a:lnTo>
                  <a:lnTo>
                    <a:pt x="370" y="1443"/>
                  </a:lnTo>
                  <a:lnTo>
                    <a:pt x="376" y="1443"/>
                  </a:lnTo>
                  <a:lnTo>
                    <a:pt x="376" y="1441"/>
                  </a:lnTo>
                  <a:lnTo>
                    <a:pt x="374" y="1439"/>
                  </a:lnTo>
                  <a:lnTo>
                    <a:pt x="374" y="1439"/>
                  </a:lnTo>
                  <a:lnTo>
                    <a:pt x="374" y="1438"/>
                  </a:lnTo>
                  <a:lnTo>
                    <a:pt x="374" y="1436"/>
                  </a:lnTo>
                  <a:lnTo>
                    <a:pt x="372" y="1436"/>
                  </a:lnTo>
                  <a:lnTo>
                    <a:pt x="372" y="1434"/>
                  </a:lnTo>
                  <a:lnTo>
                    <a:pt x="372" y="1434"/>
                  </a:lnTo>
                  <a:lnTo>
                    <a:pt x="368" y="1434"/>
                  </a:lnTo>
                  <a:lnTo>
                    <a:pt x="332" y="1439"/>
                  </a:lnTo>
                  <a:lnTo>
                    <a:pt x="297" y="1445"/>
                  </a:lnTo>
                  <a:lnTo>
                    <a:pt x="261" y="1447"/>
                  </a:lnTo>
                  <a:lnTo>
                    <a:pt x="222" y="1449"/>
                  </a:lnTo>
                  <a:lnTo>
                    <a:pt x="186" y="1447"/>
                  </a:lnTo>
                  <a:lnTo>
                    <a:pt x="149" y="1445"/>
                  </a:lnTo>
                  <a:lnTo>
                    <a:pt x="113" y="1439"/>
                  </a:lnTo>
                  <a:lnTo>
                    <a:pt x="78" y="1434"/>
                  </a:lnTo>
                  <a:lnTo>
                    <a:pt x="44" y="1426"/>
                  </a:lnTo>
                  <a:lnTo>
                    <a:pt x="9" y="1416"/>
                  </a:lnTo>
                  <a:lnTo>
                    <a:pt x="0" y="1413"/>
                  </a:lnTo>
                  <a:lnTo>
                    <a:pt x="0" y="1414"/>
                  </a:lnTo>
                  <a:lnTo>
                    <a:pt x="0" y="1416"/>
                  </a:lnTo>
                  <a:lnTo>
                    <a:pt x="0" y="1416"/>
                  </a:lnTo>
                  <a:lnTo>
                    <a:pt x="2" y="1418"/>
                  </a:lnTo>
                  <a:lnTo>
                    <a:pt x="2" y="1420"/>
                  </a:lnTo>
                  <a:lnTo>
                    <a:pt x="2" y="1422"/>
                  </a:lnTo>
                  <a:lnTo>
                    <a:pt x="2" y="1422"/>
                  </a:lnTo>
                  <a:lnTo>
                    <a:pt x="2" y="1424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Freeform 124"/>
            <p:cNvSpPr/>
            <p:nvPr/>
          </p:nvSpPr>
          <p:spPr>
            <a:xfrm>
              <a:off x="2031840" y="2009520"/>
              <a:ext cx="600120" cy="229716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2297160"/>
                <a:gd name="textAreaBottom" fmla="*/ 2297520 h 2297160"/>
              </a:gdLst>
              <a:ahLst/>
              <a:rect l="textAreaLeft" t="textAreaTop" r="textAreaRight" b="textAreaBottom"/>
              <a:pathLst>
                <a:path w="378" h="1447">
                  <a:moveTo>
                    <a:pt x="378" y="17"/>
                  </a:moveTo>
                  <a:lnTo>
                    <a:pt x="370" y="16"/>
                  </a:lnTo>
                  <a:lnTo>
                    <a:pt x="336" y="8"/>
                  </a:lnTo>
                  <a:lnTo>
                    <a:pt x="299" y="4"/>
                  </a:lnTo>
                  <a:lnTo>
                    <a:pt x="263" y="0"/>
                  </a:lnTo>
                  <a:lnTo>
                    <a:pt x="224" y="0"/>
                  </a:lnTo>
                  <a:lnTo>
                    <a:pt x="188" y="0"/>
                  </a:lnTo>
                  <a:lnTo>
                    <a:pt x="151" y="4"/>
                  </a:lnTo>
                  <a:lnTo>
                    <a:pt x="144" y="4"/>
                  </a:lnTo>
                  <a:lnTo>
                    <a:pt x="144" y="6"/>
                  </a:lnTo>
                  <a:lnTo>
                    <a:pt x="144" y="8"/>
                  </a:lnTo>
                  <a:lnTo>
                    <a:pt x="142" y="8"/>
                  </a:lnTo>
                  <a:lnTo>
                    <a:pt x="142" y="10"/>
                  </a:lnTo>
                  <a:lnTo>
                    <a:pt x="142" y="12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6"/>
                  </a:lnTo>
                  <a:lnTo>
                    <a:pt x="151" y="14"/>
                  </a:lnTo>
                  <a:lnTo>
                    <a:pt x="188" y="12"/>
                  </a:lnTo>
                  <a:lnTo>
                    <a:pt x="224" y="10"/>
                  </a:lnTo>
                  <a:lnTo>
                    <a:pt x="261" y="12"/>
                  </a:lnTo>
                  <a:lnTo>
                    <a:pt x="297" y="14"/>
                  </a:lnTo>
                  <a:lnTo>
                    <a:pt x="334" y="19"/>
                  </a:lnTo>
                  <a:lnTo>
                    <a:pt x="368" y="25"/>
                  </a:lnTo>
                  <a:lnTo>
                    <a:pt x="374" y="27"/>
                  </a:lnTo>
                  <a:lnTo>
                    <a:pt x="374" y="25"/>
                  </a:lnTo>
                  <a:lnTo>
                    <a:pt x="376" y="23"/>
                  </a:lnTo>
                  <a:lnTo>
                    <a:pt x="376" y="23"/>
                  </a:lnTo>
                  <a:lnTo>
                    <a:pt x="376" y="21"/>
                  </a:lnTo>
                  <a:lnTo>
                    <a:pt x="376" y="19"/>
                  </a:lnTo>
                  <a:lnTo>
                    <a:pt x="378" y="19"/>
                  </a:lnTo>
                  <a:lnTo>
                    <a:pt x="378" y="17"/>
                  </a:lnTo>
                  <a:lnTo>
                    <a:pt x="378" y="17"/>
                  </a:lnTo>
                  <a:close/>
                  <a:moveTo>
                    <a:pt x="4" y="1412"/>
                  </a:moveTo>
                  <a:lnTo>
                    <a:pt x="9" y="1414"/>
                  </a:lnTo>
                  <a:lnTo>
                    <a:pt x="44" y="1424"/>
                  </a:lnTo>
                  <a:lnTo>
                    <a:pt x="79" y="1433"/>
                  </a:lnTo>
                  <a:lnTo>
                    <a:pt x="115" y="1439"/>
                  </a:lnTo>
                  <a:lnTo>
                    <a:pt x="151" y="1443"/>
                  </a:lnTo>
                  <a:lnTo>
                    <a:pt x="188" y="1447"/>
                  </a:lnTo>
                  <a:lnTo>
                    <a:pt x="224" y="1447"/>
                  </a:lnTo>
                  <a:lnTo>
                    <a:pt x="263" y="1447"/>
                  </a:lnTo>
                  <a:lnTo>
                    <a:pt x="299" y="1443"/>
                  </a:lnTo>
                  <a:lnTo>
                    <a:pt x="336" y="1439"/>
                  </a:lnTo>
                  <a:lnTo>
                    <a:pt x="370" y="1433"/>
                  </a:lnTo>
                  <a:lnTo>
                    <a:pt x="376" y="1432"/>
                  </a:lnTo>
                  <a:lnTo>
                    <a:pt x="376" y="1430"/>
                  </a:lnTo>
                  <a:lnTo>
                    <a:pt x="374" y="1430"/>
                  </a:lnTo>
                  <a:lnTo>
                    <a:pt x="374" y="1428"/>
                  </a:lnTo>
                  <a:lnTo>
                    <a:pt x="374" y="1428"/>
                  </a:lnTo>
                  <a:lnTo>
                    <a:pt x="374" y="1426"/>
                  </a:lnTo>
                  <a:lnTo>
                    <a:pt x="372" y="1424"/>
                  </a:lnTo>
                  <a:lnTo>
                    <a:pt x="372" y="1424"/>
                  </a:lnTo>
                  <a:lnTo>
                    <a:pt x="372" y="1422"/>
                  </a:lnTo>
                  <a:lnTo>
                    <a:pt x="368" y="1422"/>
                  </a:lnTo>
                  <a:lnTo>
                    <a:pt x="334" y="1430"/>
                  </a:lnTo>
                  <a:lnTo>
                    <a:pt x="297" y="1433"/>
                  </a:lnTo>
                  <a:lnTo>
                    <a:pt x="261" y="1435"/>
                  </a:lnTo>
                  <a:lnTo>
                    <a:pt x="224" y="1437"/>
                  </a:lnTo>
                  <a:lnTo>
                    <a:pt x="188" y="1435"/>
                  </a:lnTo>
                  <a:lnTo>
                    <a:pt x="151" y="1433"/>
                  </a:lnTo>
                  <a:lnTo>
                    <a:pt x="117" y="1430"/>
                  </a:lnTo>
                  <a:lnTo>
                    <a:pt x="80" y="1422"/>
                  </a:lnTo>
                  <a:lnTo>
                    <a:pt x="46" y="1414"/>
                  </a:lnTo>
                  <a:lnTo>
                    <a:pt x="13" y="1405"/>
                  </a:lnTo>
                  <a:lnTo>
                    <a:pt x="0" y="1401"/>
                  </a:lnTo>
                  <a:lnTo>
                    <a:pt x="0" y="1403"/>
                  </a:lnTo>
                  <a:lnTo>
                    <a:pt x="2" y="1405"/>
                  </a:lnTo>
                  <a:lnTo>
                    <a:pt x="2" y="1405"/>
                  </a:lnTo>
                  <a:lnTo>
                    <a:pt x="2" y="1407"/>
                  </a:lnTo>
                  <a:lnTo>
                    <a:pt x="2" y="1408"/>
                  </a:lnTo>
                  <a:lnTo>
                    <a:pt x="2" y="1410"/>
                  </a:lnTo>
                  <a:lnTo>
                    <a:pt x="2" y="1410"/>
                  </a:lnTo>
                  <a:lnTo>
                    <a:pt x="4" y="1412"/>
                  </a:lnTo>
                  <a:close/>
                </a:path>
              </a:pathLst>
            </a:custGeom>
            <a:solidFill>
              <a:srgbClr val="73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Freeform 125"/>
            <p:cNvSpPr/>
            <p:nvPr/>
          </p:nvSpPr>
          <p:spPr>
            <a:xfrm>
              <a:off x="2028960" y="2019240"/>
              <a:ext cx="600120" cy="228096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2280960"/>
                <a:gd name="textAreaBottom" fmla="*/ 2281320 h 2280960"/>
              </a:gdLst>
              <a:ahLst/>
              <a:rect l="textAreaLeft" t="textAreaTop" r="textAreaRight" b="textAreaBottom"/>
              <a:pathLst>
                <a:path w="378" h="1437">
                  <a:moveTo>
                    <a:pt x="378" y="15"/>
                  </a:moveTo>
                  <a:lnTo>
                    <a:pt x="372" y="13"/>
                  </a:lnTo>
                  <a:lnTo>
                    <a:pt x="336" y="8"/>
                  </a:lnTo>
                  <a:lnTo>
                    <a:pt x="301" y="4"/>
                  </a:lnTo>
                  <a:lnTo>
                    <a:pt x="265" y="0"/>
                  </a:lnTo>
                  <a:lnTo>
                    <a:pt x="226" y="0"/>
                  </a:lnTo>
                  <a:lnTo>
                    <a:pt x="190" y="0"/>
                  </a:lnTo>
                  <a:lnTo>
                    <a:pt x="153" y="4"/>
                  </a:lnTo>
                  <a:lnTo>
                    <a:pt x="144" y="4"/>
                  </a:lnTo>
                  <a:lnTo>
                    <a:pt x="144" y="6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10"/>
                  </a:lnTo>
                  <a:lnTo>
                    <a:pt x="142" y="11"/>
                  </a:lnTo>
                  <a:lnTo>
                    <a:pt x="140" y="11"/>
                  </a:lnTo>
                  <a:lnTo>
                    <a:pt x="140" y="13"/>
                  </a:lnTo>
                  <a:lnTo>
                    <a:pt x="140" y="15"/>
                  </a:lnTo>
                  <a:lnTo>
                    <a:pt x="155" y="13"/>
                  </a:lnTo>
                  <a:lnTo>
                    <a:pt x="190" y="10"/>
                  </a:lnTo>
                  <a:lnTo>
                    <a:pt x="226" y="10"/>
                  </a:lnTo>
                  <a:lnTo>
                    <a:pt x="263" y="10"/>
                  </a:lnTo>
                  <a:lnTo>
                    <a:pt x="299" y="13"/>
                  </a:lnTo>
                  <a:lnTo>
                    <a:pt x="336" y="17"/>
                  </a:lnTo>
                  <a:lnTo>
                    <a:pt x="370" y="23"/>
                  </a:lnTo>
                  <a:lnTo>
                    <a:pt x="374" y="25"/>
                  </a:lnTo>
                  <a:lnTo>
                    <a:pt x="374" y="23"/>
                  </a:lnTo>
                  <a:lnTo>
                    <a:pt x="376" y="23"/>
                  </a:lnTo>
                  <a:lnTo>
                    <a:pt x="376" y="21"/>
                  </a:lnTo>
                  <a:lnTo>
                    <a:pt x="376" y="21"/>
                  </a:lnTo>
                  <a:lnTo>
                    <a:pt x="376" y="19"/>
                  </a:lnTo>
                  <a:lnTo>
                    <a:pt x="378" y="17"/>
                  </a:lnTo>
                  <a:lnTo>
                    <a:pt x="378" y="17"/>
                  </a:lnTo>
                  <a:lnTo>
                    <a:pt x="378" y="15"/>
                  </a:lnTo>
                  <a:close/>
                  <a:moveTo>
                    <a:pt x="4" y="1401"/>
                  </a:moveTo>
                  <a:lnTo>
                    <a:pt x="13" y="1404"/>
                  </a:lnTo>
                  <a:lnTo>
                    <a:pt x="48" y="1414"/>
                  </a:lnTo>
                  <a:lnTo>
                    <a:pt x="82" y="1422"/>
                  </a:lnTo>
                  <a:lnTo>
                    <a:pt x="117" y="1427"/>
                  </a:lnTo>
                  <a:lnTo>
                    <a:pt x="153" y="1433"/>
                  </a:lnTo>
                  <a:lnTo>
                    <a:pt x="190" y="1435"/>
                  </a:lnTo>
                  <a:lnTo>
                    <a:pt x="226" y="1437"/>
                  </a:lnTo>
                  <a:lnTo>
                    <a:pt x="265" y="1435"/>
                  </a:lnTo>
                  <a:lnTo>
                    <a:pt x="301" y="1433"/>
                  </a:lnTo>
                  <a:lnTo>
                    <a:pt x="336" y="1427"/>
                  </a:lnTo>
                  <a:lnTo>
                    <a:pt x="372" y="1422"/>
                  </a:lnTo>
                  <a:lnTo>
                    <a:pt x="376" y="1422"/>
                  </a:lnTo>
                  <a:lnTo>
                    <a:pt x="376" y="1420"/>
                  </a:lnTo>
                  <a:lnTo>
                    <a:pt x="374" y="1418"/>
                  </a:lnTo>
                  <a:lnTo>
                    <a:pt x="374" y="1418"/>
                  </a:lnTo>
                  <a:lnTo>
                    <a:pt x="374" y="1416"/>
                  </a:lnTo>
                  <a:lnTo>
                    <a:pt x="374" y="1414"/>
                  </a:lnTo>
                  <a:lnTo>
                    <a:pt x="374" y="1414"/>
                  </a:lnTo>
                  <a:lnTo>
                    <a:pt x="372" y="1412"/>
                  </a:lnTo>
                  <a:lnTo>
                    <a:pt x="372" y="1410"/>
                  </a:lnTo>
                  <a:lnTo>
                    <a:pt x="370" y="1412"/>
                  </a:lnTo>
                  <a:lnTo>
                    <a:pt x="336" y="1418"/>
                  </a:lnTo>
                  <a:lnTo>
                    <a:pt x="299" y="1422"/>
                  </a:lnTo>
                  <a:lnTo>
                    <a:pt x="263" y="1426"/>
                  </a:lnTo>
                  <a:lnTo>
                    <a:pt x="226" y="1426"/>
                  </a:lnTo>
                  <a:lnTo>
                    <a:pt x="190" y="1426"/>
                  </a:lnTo>
                  <a:lnTo>
                    <a:pt x="155" y="1422"/>
                  </a:lnTo>
                  <a:lnTo>
                    <a:pt x="119" y="1418"/>
                  </a:lnTo>
                  <a:lnTo>
                    <a:pt x="84" y="1412"/>
                  </a:lnTo>
                  <a:lnTo>
                    <a:pt x="50" y="1404"/>
                  </a:lnTo>
                  <a:lnTo>
                    <a:pt x="17" y="1395"/>
                  </a:lnTo>
                  <a:lnTo>
                    <a:pt x="0" y="1389"/>
                  </a:lnTo>
                  <a:lnTo>
                    <a:pt x="2" y="1391"/>
                  </a:lnTo>
                  <a:lnTo>
                    <a:pt x="2" y="1393"/>
                  </a:lnTo>
                  <a:lnTo>
                    <a:pt x="2" y="1393"/>
                  </a:lnTo>
                  <a:lnTo>
                    <a:pt x="2" y="1395"/>
                  </a:lnTo>
                  <a:lnTo>
                    <a:pt x="2" y="1397"/>
                  </a:lnTo>
                  <a:lnTo>
                    <a:pt x="4" y="1399"/>
                  </a:lnTo>
                  <a:lnTo>
                    <a:pt x="4" y="1399"/>
                  </a:lnTo>
                  <a:lnTo>
                    <a:pt x="4" y="1401"/>
                  </a:lnTo>
                  <a:close/>
                </a:path>
              </a:pathLst>
            </a:custGeom>
            <a:solidFill>
              <a:srgbClr val="74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26"/>
            <p:cNvSpPr/>
            <p:nvPr/>
          </p:nvSpPr>
          <p:spPr>
            <a:xfrm>
              <a:off x="2028960" y="2025360"/>
              <a:ext cx="596880" cy="226548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376" h="1427">
                  <a:moveTo>
                    <a:pt x="376" y="17"/>
                  </a:moveTo>
                  <a:lnTo>
                    <a:pt x="370" y="15"/>
                  </a:lnTo>
                  <a:lnTo>
                    <a:pt x="336" y="9"/>
                  </a:lnTo>
                  <a:lnTo>
                    <a:pt x="299" y="4"/>
                  </a:lnTo>
                  <a:lnTo>
                    <a:pt x="263" y="2"/>
                  </a:lnTo>
                  <a:lnTo>
                    <a:pt x="226" y="0"/>
                  </a:lnTo>
                  <a:lnTo>
                    <a:pt x="190" y="2"/>
                  </a:lnTo>
                  <a:lnTo>
                    <a:pt x="153" y="4"/>
                  </a:lnTo>
                  <a:lnTo>
                    <a:pt x="142" y="6"/>
                  </a:lnTo>
                  <a:lnTo>
                    <a:pt x="142" y="7"/>
                  </a:lnTo>
                  <a:lnTo>
                    <a:pt x="140" y="7"/>
                  </a:lnTo>
                  <a:lnTo>
                    <a:pt x="140" y="9"/>
                  </a:lnTo>
                  <a:lnTo>
                    <a:pt x="140" y="11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8" y="15"/>
                  </a:lnTo>
                  <a:lnTo>
                    <a:pt x="136" y="17"/>
                  </a:lnTo>
                  <a:lnTo>
                    <a:pt x="155" y="15"/>
                  </a:lnTo>
                  <a:lnTo>
                    <a:pt x="190" y="11"/>
                  </a:lnTo>
                  <a:lnTo>
                    <a:pt x="226" y="11"/>
                  </a:lnTo>
                  <a:lnTo>
                    <a:pt x="263" y="11"/>
                  </a:lnTo>
                  <a:lnTo>
                    <a:pt x="299" y="15"/>
                  </a:lnTo>
                  <a:lnTo>
                    <a:pt x="334" y="19"/>
                  </a:lnTo>
                  <a:lnTo>
                    <a:pt x="368" y="25"/>
                  </a:lnTo>
                  <a:lnTo>
                    <a:pt x="372" y="27"/>
                  </a:lnTo>
                  <a:lnTo>
                    <a:pt x="372" y="25"/>
                  </a:lnTo>
                  <a:lnTo>
                    <a:pt x="374" y="23"/>
                  </a:lnTo>
                  <a:lnTo>
                    <a:pt x="374" y="23"/>
                  </a:lnTo>
                  <a:lnTo>
                    <a:pt x="374" y="21"/>
                  </a:lnTo>
                  <a:lnTo>
                    <a:pt x="374" y="19"/>
                  </a:lnTo>
                  <a:lnTo>
                    <a:pt x="376" y="19"/>
                  </a:lnTo>
                  <a:lnTo>
                    <a:pt x="376" y="17"/>
                  </a:lnTo>
                  <a:lnTo>
                    <a:pt x="376" y="17"/>
                  </a:lnTo>
                  <a:close/>
                  <a:moveTo>
                    <a:pt x="2" y="1391"/>
                  </a:moveTo>
                  <a:lnTo>
                    <a:pt x="15" y="1395"/>
                  </a:lnTo>
                  <a:lnTo>
                    <a:pt x="48" y="1404"/>
                  </a:lnTo>
                  <a:lnTo>
                    <a:pt x="82" y="1412"/>
                  </a:lnTo>
                  <a:lnTo>
                    <a:pt x="119" y="1420"/>
                  </a:lnTo>
                  <a:lnTo>
                    <a:pt x="153" y="1423"/>
                  </a:lnTo>
                  <a:lnTo>
                    <a:pt x="190" y="1425"/>
                  </a:lnTo>
                  <a:lnTo>
                    <a:pt x="226" y="1427"/>
                  </a:lnTo>
                  <a:lnTo>
                    <a:pt x="263" y="1425"/>
                  </a:lnTo>
                  <a:lnTo>
                    <a:pt x="299" y="1423"/>
                  </a:lnTo>
                  <a:lnTo>
                    <a:pt x="336" y="1420"/>
                  </a:lnTo>
                  <a:lnTo>
                    <a:pt x="370" y="1412"/>
                  </a:lnTo>
                  <a:lnTo>
                    <a:pt x="374" y="1412"/>
                  </a:lnTo>
                  <a:lnTo>
                    <a:pt x="374" y="1410"/>
                  </a:lnTo>
                  <a:lnTo>
                    <a:pt x="374" y="1410"/>
                  </a:lnTo>
                  <a:lnTo>
                    <a:pt x="372" y="1408"/>
                  </a:lnTo>
                  <a:lnTo>
                    <a:pt x="372" y="1406"/>
                  </a:lnTo>
                  <a:lnTo>
                    <a:pt x="372" y="1406"/>
                  </a:lnTo>
                  <a:lnTo>
                    <a:pt x="372" y="1404"/>
                  </a:lnTo>
                  <a:lnTo>
                    <a:pt x="370" y="1404"/>
                  </a:lnTo>
                  <a:lnTo>
                    <a:pt x="370" y="1402"/>
                  </a:lnTo>
                  <a:lnTo>
                    <a:pt x="368" y="1402"/>
                  </a:lnTo>
                  <a:lnTo>
                    <a:pt x="334" y="1408"/>
                  </a:lnTo>
                  <a:lnTo>
                    <a:pt x="299" y="1414"/>
                  </a:lnTo>
                  <a:lnTo>
                    <a:pt x="263" y="1416"/>
                  </a:lnTo>
                  <a:lnTo>
                    <a:pt x="226" y="1418"/>
                  </a:lnTo>
                  <a:lnTo>
                    <a:pt x="190" y="1416"/>
                  </a:lnTo>
                  <a:lnTo>
                    <a:pt x="155" y="1414"/>
                  </a:lnTo>
                  <a:lnTo>
                    <a:pt x="121" y="1408"/>
                  </a:lnTo>
                  <a:lnTo>
                    <a:pt x="84" y="1402"/>
                  </a:lnTo>
                  <a:lnTo>
                    <a:pt x="52" y="1395"/>
                  </a:lnTo>
                  <a:lnTo>
                    <a:pt x="17" y="1385"/>
                  </a:lnTo>
                  <a:lnTo>
                    <a:pt x="0" y="1379"/>
                  </a:lnTo>
                  <a:lnTo>
                    <a:pt x="0" y="1381"/>
                  </a:lnTo>
                  <a:lnTo>
                    <a:pt x="0" y="1381"/>
                  </a:lnTo>
                  <a:lnTo>
                    <a:pt x="0" y="1383"/>
                  </a:lnTo>
                  <a:lnTo>
                    <a:pt x="0" y="1385"/>
                  </a:lnTo>
                  <a:lnTo>
                    <a:pt x="2" y="1387"/>
                  </a:lnTo>
                  <a:lnTo>
                    <a:pt x="2" y="1389"/>
                  </a:lnTo>
                  <a:lnTo>
                    <a:pt x="2" y="1389"/>
                  </a:lnTo>
                  <a:lnTo>
                    <a:pt x="2" y="1391"/>
                  </a:lnTo>
                  <a:close/>
                </a:path>
              </a:pathLst>
            </a:custGeom>
            <a:solidFill>
              <a:srgbClr val="75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Freeform 127"/>
            <p:cNvSpPr/>
            <p:nvPr/>
          </p:nvSpPr>
          <p:spPr>
            <a:xfrm>
              <a:off x="2025720" y="2035080"/>
              <a:ext cx="596880" cy="224784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76" h="1416">
                  <a:moveTo>
                    <a:pt x="376" y="15"/>
                  </a:moveTo>
                  <a:lnTo>
                    <a:pt x="372" y="13"/>
                  </a:lnTo>
                  <a:lnTo>
                    <a:pt x="338" y="7"/>
                  </a:lnTo>
                  <a:lnTo>
                    <a:pt x="301" y="3"/>
                  </a:lnTo>
                  <a:lnTo>
                    <a:pt x="265" y="0"/>
                  </a:lnTo>
                  <a:lnTo>
                    <a:pt x="228" y="0"/>
                  </a:lnTo>
                  <a:lnTo>
                    <a:pt x="192" y="0"/>
                  </a:lnTo>
                  <a:lnTo>
                    <a:pt x="157" y="3"/>
                  </a:lnTo>
                  <a:lnTo>
                    <a:pt x="142" y="5"/>
                  </a:lnTo>
                  <a:lnTo>
                    <a:pt x="140" y="7"/>
                  </a:lnTo>
                  <a:lnTo>
                    <a:pt x="140" y="7"/>
                  </a:lnTo>
                  <a:lnTo>
                    <a:pt x="140" y="9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38" y="13"/>
                  </a:lnTo>
                  <a:lnTo>
                    <a:pt x="136" y="15"/>
                  </a:lnTo>
                  <a:lnTo>
                    <a:pt x="136" y="17"/>
                  </a:lnTo>
                  <a:lnTo>
                    <a:pt x="157" y="13"/>
                  </a:lnTo>
                  <a:lnTo>
                    <a:pt x="194" y="11"/>
                  </a:lnTo>
                  <a:lnTo>
                    <a:pt x="228" y="9"/>
                  </a:lnTo>
                  <a:lnTo>
                    <a:pt x="265" y="11"/>
                  </a:lnTo>
                  <a:lnTo>
                    <a:pt x="301" y="13"/>
                  </a:lnTo>
                  <a:lnTo>
                    <a:pt x="336" y="19"/>
                  </a:lnTo>
                  <a:lnTo>
                    <a:pt x="370" y="24"/>
                  </a:lnTo>
                  <a:lnTo>
                    <a:pt x="372" y="24"/>
                  </a:lnTo>
                  <a:lnTo>
                    <a:pt x="372" y="23"/>
                  </a:lnTo>
                  <a:lnTo>
                    <a:pt x="374" y="23"/>
                  </a:lnTo>
                  <a:lnTo>
                    <a:pt x="374" y="21"/>
                  </a:lnTo>
                  <a:lnTo>
                    <a:pt x="374" y="21"/>
                  </a:lnTo>
                  <a:lnTo>
                    <a:pt x="374" y="19"/>
                  </a:lnTo>
                  <a:lnTo>
                    <a:pt x="376" y="17"/>
                  </a:lnTo>
                  <a:lnTo>
                    <a:pt x="376" y="17"/>
                  </a:lnTo>
                  <a:lnTo>
                    <a:pt x="376" y="15"/>
                  </a:lnTo>
                  <a:close/>
                  <a:moveTo>
                    <a:pt x="2" y="1379"/>
                  </a:moveTo>
                  <a:lnTo>
                    <a:pt x="19" y="1385"/>
                  </a:lnTo>
                  <a:lnTo>
                    <a:pt x="52" y="1394"/>
                  </a:lnTo>
                  <a:lnTo>
                    <a:pt x="86" y="1402"/>
                  </a:lnTo>
                  <a:lnTo>
                    <a:pt x="121" y="1408"/>
                  </a:lnTo>
                  <a:lnTo>
                    <a:pt x="157" y="1412"/>
                  </a:lnTo>
                  <a:lnTo>
                    <a:pt x="192" y="1416"/>
                  </a:lnTo>
                  <a:lnTo>
                    <a:pt x="228" y="1416"/>
                  </a:lnTo>
                  <a:lnTo>
                    <a:pt x="265" y="1416"/>
                  </a:lnTo>
                  <a:lnTo>
                    <a:pt x="301" y="1412"/>
                  </a:lnTo>
                  <a:lnTo>
                    <a:pt x="338" y="1408"/>
                  </a:lnTo>
                  <a:lnTo>
                    <a:pt x="372" y="1402"/>
                  </a:lnTo>
                  <a:lnTo>
                    <a:pt x="374" y="1400"/>
                  </a:lnTo>
                  <a:lnTo>
                    <a:pt x="374" y="1400"/>
                  </a:lnTo>
                  <a:lnTo>
                    <a:pt x="374" y="1398"/>
                  </a:lnTo>
                  <a:lnTo>
                    <a:pt x="372" y="1398"/>
                  </a:lnTo>
                  <a:lnTo>
                    <a:pt x="372" y="1396"/>
                  </a:lnTo>
                  <a:lnTo>
                    <a:pt x="372" y="1394"/>
                  </a:lnTo>
                  <a:lnTo>
                    <a:pt x="372" y="1394"/>
                  </a:lnTo>
                  <a:lnTo>
                    <a:pt x="370" y="1392"/>
                  </a:lnTo>
                  <a:lnTo>
                    <a:pt x="370" y="1391"/>
                  </a:lnTo>
                  <a:lnTo>
                    <a:pt x="370" y="1392"/>
                  </a:lnTo>
                  <a:lnTo>
                    <a:pt x="336" y="1398"/>
                  </a:lnTo>
                  <a:lnTo>
                    <a:pt x="301" y="1402"/>
                  </a:lnTo>
                  <a:lnTo>
                    <a:pt x="265" y="1404"/>
                  </a:lnTo>
                  <a:lnTo>
                    <a:pt x="228" y="1406"/>
                  </a:lnTo>
                  <a:lnTo>
                    <a:pt x="194" y="1404"/>
                  </a:lnTo>
                  <a:lnTo>
                    <a:pt x="157" y="1402"/>
                  </a:lnTo>
                  <a:lnTo>
                    <a:pt x="123" y="1398"/>
                  </a:lnTo>
                  <a:lnTo>
                    <a:pt x="88" y="1392"/>
                  </a:lnTo>
                  <a:lnTo>
                    <a:pt x="54" y="1383"/>
                  </a:lnTo>
                  <a:lnTo>
                    <a:pt x="21" y="1375"/>
                  </a:lnTo>
                  <a:lnTo>
                    <a:pt x="0" y="1368"/>
                  </a:lnTo>
                  <a:lnTo>
                    <a:pt x="0" y="1369"/>
                  </a:lnTo>
                  <a:lnTo>
                    <a:pt x="0" y="1369"/>
                  </a:lnTo>
                  <a:lnTo>
                    <a:pt x="2" y="1371"/>
                  </a:lnTo>
                  <a:lnTo>
                    <a:pt x="2" y="1373"/>
                  </a:lnTo>
                  <a:lnTo>
                    <a:pt x="2" y="1375"/>
                  </a:lnTo>
                  <a:lnTo>
                    <a:pt x="2" y="1375"/>
                  </a:lnTo>
                  <a:lnTo>
                    <a:pt x="2" y="1377"/>
                  </a:lnTo>
                  <a:lnTo>
                    <a:pt x="2" y="1379"/>
                  </a:lnTo>
                  <a:close/>
                </a:path>
              </a:pathLst>
            </a:custGeom>
            <a:solidFill>
              <a:srgbClr val="76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Freeform 128"/>
            <p:cNvSpPr/>
            <p:nvPr/>
          </p:nvSpPr>
          <p:spPr>
            <a:xfrm>
              <a:off x="2022480" y="2043000"/>
              <a:ext cx="596880" cy="223344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2233440"/>
                <a:gd name="textAreaBottom" fmla="*/ 2233800 h 2233440"/>
              </a:gdLst>
              <a:ahLst/>
              <a:rect l="textAreaLeft" t="textAreaTop" r="textAreaRight" b="textAreaBottom"/>
              <a:pathLst>
                <a:path w="376" h="1407">
                  <a:moveTo>
                    <a:pt x="376" y="16"/>
                  </a:moveTo>
                  <a:lnTo>
                    <a:pt x="372" y="14"/>
                  </a:lnTo>
                  <a:lnTo>
                    <a:pt x="338" y="8"/>
                  </a:lnTo>
                  <a:lnTo>
                    <a:pt x="303" y="4"/>
                  </a:lnTo>
                  <a:lnTo>
                    <a:pt x="267" y="0"/>
                  </a:lnTo>
                  <a:lnTo>
                    <a:pt x="230" y="0"/>
                  </a:lnTo>
                  <a:lnTo>
                    <a:pt x="194" y="0"/>
                  </a:lnTo>
                  <a:lnTo>
                    <a:pt x="159" y="4"/>
                  </a:lnTo>
                  <a:lnTo>
                    <a:pt x="140" y="6"/>
                  </a:lnTo>
                  <a:lnTo>
                    <a:pt x="140" y="6"/>
                  </a:lnTo>
                  <a:lnTo>
                    <a:pt x="140" y="8"/>
                  </a:lnTo>
                  <a:lnTo>
                    <a:pt x="138" y="10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4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59" y="14"/>
                  </a:lnTo>
                  <a:lnTo>
                    <a:pt x="196" y="10"/>
                  </a:lnTo>
                  <a:lnTo>
                    <a:pt x="230" y="10"/>
                  </a:lnTo>
                  <a:lnTo>
                    <a:pt x="267" y="10"/>
                  </a:lnTo>
                  <a:lnTo>
                    <a:pt x="301" y="14"/>
                  </a:lnTo>
                  <a:lnTo>
                    <a:pt x="336" y="18"/>
                  </a:lnTo>
                  <a:lnTo>
                    <a:pt x="371" y="23"/>
                  </a:lnTo>
                  <a:lnTo>
                    <a:pt x="372" y="25"/>
                  </a:lnTo>
                  <a:lnTo>
                    <a:pt x="372" y="23"/>
                  </a:lnTo>
                  <a:lnTo>
                    <a:pt x="374" y="21"/>
                  </a:lnTo>
                  <a:lnTo>
                    <a:pt x="374" y="21"/>
                  </a:lnTo>
                  <a:lnTo>
                    <a:pt x="374" y="19"/>
                  </a:lnTo>
                  <a:lnTo>
                    <a:pt x="374" y="18"/>
                  </a:lnTo>
                  <a:lnTo>
                    <a:pt x="376" y="18"/>
                  </a:lnTo>
                  <a:lnTo>
                    <a:pt x="376" y="16"/>
                  </a:lnTo>
                  <a:lnTo>
                    <a:pt x="376" y="16"/>
                  </a:lnTo>
                  <a:close/>
                  <a:moveTo>
                    <a:pt x="4" y="1368"/>
                  </a:moveTo>
                  <a:lnTo>
                    <a:pt x="21" y="1374"/>
                  </a:lnTo>
                  <a:lnTo>
                    <a:pt x="56" y="1384"/>
                  </a:lnTo>
                  <a:lnTo>
                    <a:pt x="88" y="1391"/>
                  </a:lnTo>
                  <a:lnTo>
                    <a:pt x="125" y="1397"/>
                  </a:lnTo>
                  <a:lnTo>
                    <a:pt x="159" y="1403"/>
                  </a:lnTo>
                  <a:lnTo>
                    <a:pt x="194" y="1405"/>
                  </a:lnTo>
                  <a:lnTo>
                    <a:pt x="230" y="1407"/>
                  </a:lnTo>
                  <a:lnTo>
                    <a:pt x="267" y="1405"/>
                  </a:lnTo>
                  <a:lnTo>
                    <a:pt x="303" y="1403"/>
                  </a:lnTo>
                  <a:lnTo>
                    <a:pt x="338" y="1397"/>
                  </a:lnTo>
                  <a:lnTo>
                    <a:pt x="372" y="1391"/>
                  </a:lnTo>
                  <a:lnTo>
                    <a:pt x="374" y="1391"/>
                  </a:lnTo>
                  <a:lnTo>
                    <a:pt x="374" y="1389"/>
                  </a:lnTo>
                  <a:lnTo>
                    <a:pt x="374" y="1389"/>
                  </a:lnTo>
                  <a:lnTo>
                    <a:pt x="372" y="1387"/>
                  </a:lnTo>
                  <a:lnTo>
                    <a:pt x="372" y="1386"/>
                  </a:lnTo>
                  <a:lnTo>
                    <a:pt x="372" y="1386"/>
                  </a:lnTo>
                  <a:lnTo>
                    <a:pt x="372" y="1384"/>
                  </a:lnTo>
                  <a:lnTo>
                    <a:pt x="372" y="1384"/>
                  </a:lnTo>
                  <a:lnTo>
                    <a:pt x="371" y="1382"/>
                  </a:lnTo>
                  <a:lnTo>
                    <a:pt x="371" y="1382"/>
                  </a:lnTo>
                  <a:lnTo>
                    <a:pt x="336" y="1387"/>
                  </a:lnTo>
                  <a:lnTo>
                    <a:pt x="301" y="1391"/>
                  </a:lnTo>
                  <a:lnTo>
                    <a:pt x="267" y="1395"/>
                  </a:lnTo>
                  <a:lnTo>
                    <a:pt x="230" y="1395"/>
                  </a:lnTo>
                  <a:lnTo>
                    <a:pt x="196" y="1395"/>
                  </a:lnTo>
                  <a:lnTo>
                    <a:pt x="159" y="1391"/>
                  </a:lnTo>
                  <a:lnTo>
                    <a:pt x="125" y="1387"/>
                  </a:lnTo>
                  <a:lnTo>
                    <a:pt x="92" y="1382"/>
                  </a:lnTo>
                  <a:lnTo>
                    <a:pt x="58" y="1374"/>
                  </a:lnTo>
                  <a:lnTo>
                    <a:pt x="25" y="1364"/>
                  </a:lnTo>
                  <a:lnTo>
                    <a:pt x="0" y="1357"/>
                  </a:lnTo>
                  <a:lnTo>
                    <a:pt x="2" y="1359"/>
                  </a:lnTo>
                  <a:lnTo>
                    <a:pt x="2" y="1359"/>
                  </a:lnTo>
                  <a:lnTo>
                    <a:pt x="2" y="1361"/>
                  </a:lnTo>
                  <a:lnTo>
                    <a:pt x="2" y="1363"/>
                  </a:lnTo>
                  <a:lnTo>
                    <a:pt x="2" y="1364"/>
                  </a:lnTo>
                  <a:lnTo>
                    <a:pt x="2" y="1364"/>
                  </a:lnTo>
                  <a:lnTo>
                    <a:pt x="4" y="1366"/>
                  </a:lnTo>
                  <a:lnTo>
                    <a:pt x="4" y="1368"/>
                  </a:lnTo>
                  <a:close/>
                </a:path>
              </a:pathLst>
            </a:custGeom>
            <a:solidFill>
              <a:srgbClr val="77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129"/>
            <p:cNvSpPr/>
            <p:nvPr/>
          </p:nvSpPr>
          <p:spPr>
            <a:xfrm>
              <a:off x="2022480" y="2049120"/>
              <a:ext cx="593640" cy="221796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2217960"/>
                <a:gd name="textAreaBottom" fmla="*/ 2217960 h 2217960"/>
              </a:gdLst>
              <a:ahLst/>
              <a:rect l="textAreaLeft" t="textAreaTop" r="textAreaRight" b="textAreaBottom"/>
              <a:pathLst>
                <a:path w="374" h="1397">
                  <a:moveTo>
                    <a:pt x="374" y="15"/>
                  </a:moveTo>
                  <a:lnTo>
                    <a:pt x="372" y="15"/>
                  </a:lnTo>
                  <a:lnTo>
                    <a:pt x="338" y="10"/>
                  </a:lnTo>
                  <a:lnTo>
                    <a:pt x="303" y="4"/>
                  </a:lnTo>
                  <a:lnTo>
                    <a:pt x="267" y="2"/>
                  </a:lnTo>
                  <a:lnTo>
                    <a:pt x="230" y="0"/>
                  </a:lnTo>
                  <a:lnTo>
                    <a:pt x="196" y="2"/>
                  </a:lnTo>
                  <a:lnTo>
                    <a:pt x="159" y="4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38" y="1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4"/>
                  </a:lnTo>
                  <a:lnTo>
                    <a:pt x="134" y="15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61" y="15"/>
                  </a:lnTo>
                  <a:lnTo>
                    <a:pt x="196" y="12"/>
                  </a:lnTo>
                  <a:lnTo>
                    <a:pt x="230" y="12"/>
                  </a:lnTo>
                  <a:lnTo>
                    <a:pt x="267" y="12"/>
                  </a:lnTo>
                  <a:lnTo>
                    <a:pt x="301" y="15"/>
                  </a:lnTo>
                  <a:lnTo>
                    <a:pt x="336" y="19"/>
                  </a:lnTo>
                  <a:lnTo>
                    <a:pt x="371" y="25"/>
                  </a:lnTo>
                  <a:lnTo>
                    <a:pt x="371" y="25"/>
                  </a:lnTo>
                  <a:lnTo>
                    <a:pt x="371" y="25"/>
                  </a:lnTo>
                  <a:lnTo>
                    <a:pt x="372" y="23"/>
                  </a:lnTo>
                  <a:lnTo>
                    <a:pt x="372" y="21"/>
                  </a:lnTo>
                  <a:lnTo>
                    <a:pt x="372" y="21"/>
                  </a:lnTo>
                  <a:lnTo>
                    <a:pt x="372" y="19"/>
                  </a:lnTo>
                  <a:lnTo>
                    <a:pt x="374" y="17"/>
                  </a:lnTo>
                  <a:lnTo>
                    <a:pt x="374" y="17"/>
                  </a:lnTo>
                  <a:lnTo>
                    <a:pt x="374" y="15"/>
                  </a:lnTo>
                  <a:close/>
                  <a:moveTo>
                    <a:pt x="2" y="1359"/>
                  </a:moveTo>
                  <a:lnTo>
                    <a:pt x="23" y="1366"/>
                  </a:lnTo>
                  <a:lnTo>
                    <a:pt x="56" y="1374"/>
                  </a:lnTo>
                  <a:lnTo>
                    <a:pt x="90" y="1383"/>
                  </a:lnTo>
                  <a:lnTo>
                    <a:pt x="125" y="1389"/>
                  </a:lnTo>
                  <a:lnTo>
                    <a:pt x="159" y="1393"/>
                  </a:lnTo>
                  <a:lnTo>
                    <a:pt x="196" y="1395"/>
                  </a:lnTo>
                  <a:lnTo>
                    <a:pt x="230" y="1397"/>
                  </a:lnTo>
                  <a:lnTo>
                    <a:pt x="267" y="1395"/>
                  </a:lnTo>
                  <a:lnTo>
                    <a:pt x="303" y="1393"/>
                  </a:lnTo>
                  <a:lnTo>
                    <a:pt x="338" y="1389"/>
                  </a:lnTo>
                  <a:lnTo>
                    <a:pt x="372" y="1383"/>
                  </a:lnTo>
                  <a:lnTo>
                    <a:pt x="372" y="1382"/>
                  </a:lnTo>
                  <a:lnTo>
                    <a:pt x="372" y="1382"/>
                  </a:lnTo>
                  <a:lnTo>
                    <a:pt x="372" y="1380"/>
                  </a:lnTo>
                  <a:lnTo>
                    <a:pt x="372" y="1380"/>
                  </a:lnTo>
                  <a:lnTo>
                    <a:pt x="371" y="1378"/>
                  </a:lnTo>
                  <a:lnTo>
                    <a:pt x="371" y="1376"/>
                  </a:lnTo>
                  <a:lnTo>
                    <a:pt x="371" y="1376"/>
                  </a:lnTo>
                  <a:lnTo>
                    <a:pt x="371" y="1374"/>
                  </a:lnTo>
                  <a:lnTo>
                    <a:pt x="369" y="1372"/>
                  </a:lnTo>
                  <a:lnTo>
                    <a:pt x="336" y="1378"/>
                  </a:lnTo>
                  <a:lnTo>
                    <a:pt x="301" y="1383"/>
                  </a:lnTo>
                  <a:lnTo>
                    <a:pt x="267" y="1385"/>
                  </a:lnTo>
                  <a:lnTo>
                    <a:pt x="230" y="1387"/>
                  </a:lnTo>
                  <a:lnTo>
                    <a:pt x="196" y="1385"/>
                  </a:lnTo>
                  <a:lnTo>
                    <a:pt x="161" y="1383"/>
                  </a:lnTo>
                  <a:lnTo>
                    <a:pt x="127" y="1378"/>
                  </a:lnTo>
                  <a:lnTo>
                    <a:pt x="92" y="1372"/>
                  </a:lnTo>
                  <a:lnTo>
                    <a:pt x="60" y="1364"/>
                  </a:lnTo>
                  <a:lnTo>
                    <a:pt x="27" y="1355"/>
                  </a:lnTo>
                  <a:lnTo>
                    <a:pt x="0" y="1347"/>
                  </a:lnTo>
                  <a:lnTo>
                    <a:pt x="0" y="1347"/>
                  </a:lnTo>
                  <a:lnTo>
                    <a:pt x="0" y="1349"/>
                  </a:lnTo>
                  <a:lnTo>
                    <a:pt x="0" y="1351"/>
                  </a:lnTo>
                  <a:lnTo>
                    <a:pt x="0" y="1353"/>
                  </a:lnTo>
                  <a:lnTo>
                    <a:pt x="2" y="1355"/>
                  </a:lnTo>
                  <a:lnTo>
                    <a:pt x="2" y="1355"/>
                  </a:lnTo>
                  <a:lnTo>
                    <a:pt x="2" y="1357"/>
                  </a:lnTo>
                  <a:lnTo>
                    <a:pt x="2" y="1359"/>
                  </a:lnTo>
                  <a:close/>
                </a:path>
              </a:pathLst>
            </a:custGeom>
            <a:solidFill>
              <a:srgbClr val="78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130"/>
            <p:cNvSpPr/>
            <p:nvPr/>
          </p:nvSpPr>
          <p:spPr>
            <a:xfrm>
              <a:off x="2019240" y="2058840"/>
              <a:ext cx="593640" cy="219852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2198520"/>
                <a:gd name="textAreaBottom" fmla="*/ 2198520 h 2198520"/>
              </a:gdLst>
              <a:ahLst/>
              <a:rect l="textAreaLeft" t="textAreaTop" r="textAreaRight" b="textAreaBottom"/>
              <a:pathLst>
                <a:path w="374" h="1385">
                  <a:moveTo>
                    <a:pt x="374" y="15"/>
                  </a:moveTo>
                  <a:lnTo>
                    <a:pt x="373" y="13"/>
                  </a:lnTo>
                  <a:lnTo>
                    <a:pt x="338" y="8"/>
                  </a:lnTo>
                  <a:lnTo>
                    <a:pt x="303" y="4"/>
                  </a:lnTo>
                  <a:lnTo>
                    <a:pt x="269" y="0"/>
                  </a:lnTo>
                  <a:lnTo>
                    <a:pt x="232" y="0"/>
                  </a:lnTo>
                  <a:lnTo>
                    <a:pt x="198" y="0"/>
                  </a:lnTo>
                  <a:lnTo>
                    <a:pt x="161" y="4"/>
                  </a:lnTo>
                  <a:lnTo>
                    <a:pt x="138" y="6"/>
                  </a:lnTo>
                  <a:lnTo>
                    <a:pt x="138" y="8"/>
                  </a:lnTo>
                  <a:lnTo>
                    <a:pt x="136" y="9"/>
                  </a:lnTo>
                  <a:lnTo>
                    <a:pt x="136" y="11"/>
                  </a:lnTo>
                  <a:lnTo>
                    <a:pt x="136" y="11"/>
                  </a:lnTo>
                  <a:lnTo>
                    <a:pt x="135" y="13"/>
                  </a:lnTo>
                  <a:lnTo>
                    <a:pt x="135" y="15"/>
                  </a:lnTo>
                  <a:lnTo>
                    <a:pt x="135" y="15"/>
                  </a:lnTo>
                  <a:lnTo>
                    <a:pt x="135" y="17"/>
                  </a:lnTo>
                  <a:lnTo>
                    <a:pt x="163" y="13"/>
                  </a:lnTo>
                  <a:lnTo>
                    <a:pt x="198" y="11"/>
                  </a:lnTo>
                  <a:lnTo>
                    <a:pt x="232" y="9"/>
                  </a:lnTo>
                  <a:lnTo>
                    <a:pt x="269" y="11"/>
                  </a:lnTo>
                  <a:lnTo>
                    <a:pt x="303" y="13"/>
                  </a:lnTo>
                  <a:lnTo>
                    <a:pt x="336" y="17"/>
                  </a:lnTo>
                  <a:lnTo>
                    <a:pt x="371" y="25"/>
                  </a:lnTo>
                  <a:lnTo>
                    <a:pt x="371" y="25"/>
                  </a:lnTo>
                  <a:lnTo>
                    <a:pt x="373" y="23"/>
                  </a:lnTo>
                  <a:lnTo>
                    <a:pt x="373" y="21"/>
                  </a:lnTo>
                  <a:lnTo>
                    <a:pt x="373" y="21"/>
                  </a:lnTo>
                  <a:lnTo>
                    <a:pt x="373" y="19"/>
                  </a:lnTo>
                  <a:lnTo>
                    <a:pt x="373" y="19"/>
                  </a:lnTo>
                  <a:lnTo>
                    <a:pt x="374" y="17"/>
                  </a:lnTo>
                  <a:lnTo>
                    <a:pt x="374" y="15"/>
                  </a:lnTo>
                  <a:lnTo>
                    <a:pt x="374" y="15"/>
                  </a:lnTo>
                  <a:close/>
                  <a:moveTo>
                    <a:pt x="2" y="1347"/>
                  </a:moveTo>
                  <a:lnTo>
                    <a:pt x="27" y="1354"/>
                  </a:lnTo>
                  <a:lnTo>
                    <a:pt x="60" y="1364"/>
                  </a:lnTo>
                  <a:lnTo>
                    <a:pt x="94" y="1372"/>
                  </a:lnTo>
                  <a:lnTo>
                    <a:pt x="127" y="1377"/>
                  </a:lnTo>
                  <a:lnTo>
                    <a:pt x="161" y="1381"/>
                  </a:lnTo>
                  <a:lnTo>
                    <a:pt x="198" y="1385"/>
                  </a:lnTo>
                  <a:lnTo>
                    <a:pt x="232" y="1385"/>
                  </a:lnTo>
                  <a:lnTo>
                    <a:pt x="269" y="1385"/>
                  </a:lnTo>
                  <a:lnTo>
                    <a:pt x="303" y="1381"/>
                  </a:lnTo>
                  <a:lnTo>
                    <a:pt x="338" y="1377"/>
                  </a:lnTo>
                  <a:lnTo>
                    <a:pt x="373" y="1372"/>
                  </a:lnTo>
                  <a:lnTo>
                    <a:pt x="373" y="1372"/>
                  </a:lnTo>
                  <a:lnTo>
                    <a:pt x="373" y="1370"/>
                  </a:lnTo>
                  <a:lnTo>
                    <a:pt x="373" y="1370"/>
                  </a:lnTo>
                  <a:lnTo>
                    <a:pt x="373" y="1368"/>
                  </a:lnTo>
                  <a:lnTo>
                    <a:pt x="371" y="1366"/>
                  </a:lnTo>
                  <a:lnTo>
                    <a:pt x="371" y="1366"/>
                  </a:lnTo>
                  <a:lnTo>
                    <a:pt x="371" y="1364"/>
                  </a:lnTo>
                  <a:lnTo>
                    <a:pt x="371" y="1362"/>
                  </a:lnTo>
                  <a:lnTo>
                    <a:pt x="369" y="1362"/>
                  </a:lnTo>
                  <a:lnTo>
                    <a:pt x="336" y="1368"/>
                  </a:lnTo>
                  <a:lnTo>
                    <a:pt x="303" y="1372"/>
                  </a:lnTo>
                  <a:lnTo>
                    <a:pt x="269" y="1374"/>
                  </a:lnTo>
                  <a:lnTo>
                    <a:pt x="232" y="1376"/>
                  </a:lnTo>
                  <a:lnTo>
                    <a:pt x="198" y="1374"/>
                  </a:lnTo>
                  <a:lnTo>
                    <a:pt x="163" y="1372"/>
                  </a:lnTo>
                  <a:lnTo>
                    <a:pt x="129" y="1368"/>
                  </a:lnTo>
                  <a:lnTo>
                    <a:pt x="96" y="1362"/>
                  </a:lnTo>
                  <a:lnTo>
                    <a:pt x="62" y="1354"/>
                  </a:lnTo>
                  <a:lnTo>
                    <a:pt x="31" y="1345"/>
                  </a:lnTo>
                  <a:lnTo>
                    <a:pt x="0" y="1335"/>
                  </a:lnTo>
                  <a:lnTo>
                    <a:pt x="0" y="1335"/>
                  </a:lnTo>
                  <a:lnTo>
                    <a:pt x="0" y="1337"/>
                  </a:lnTo>
                  <a:lnTo>
                    <a:pt x="2" y="1339"/>
                  </a:lnTo>
                  <a:lnTo>
                    <a:pt x="2" y="1341"/>
                  </a:lnTo>
                  <a:lnTo>
                    <a:pt x="2" y="1341"/>
                  </a:lnTo>
                  <a:lnTo>
                    <a:pt x="2" y="1343"/>
                  </a:lnTo>
                  <a:lnTo>
                    <a:pt x="2" y="1345"/>
                  </a:lnTo>
                  <a:lnTo>
                    <a:pt x="2" y="1347"/>
                  </a:lnTo>
                  <a:close/>
                </a:path>
              </a:pathLst>
            </a:custGeom>
            <a:solidFill>
              <a:srgbClr val="79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Freeform 131"/>
            <p:cNvSpPr/>
            <p:nvPr/>
          </p:nvSpPr>
          <p:spPr>
            <a:xfrm>
              <a:off x="2016000" y="2068200"/>
              <a:ext cx="595440" cy="2183040"/>
            </a:xfrm>
            <a:custGeom>
              <a:avLst/>
              <a:gdLst>
                <a:gd name="textAreaLeft" fmla="*/ 0 w 595440"/>
                <a:gd name="textAreaRight" fmla="*/ 595800 w 595440"/>
                <a:gd name="textAreaTop" fmla="*/ 0 h 2183040"/>
                <a:gd name="textAreaBottom" fmla="*/ 2183400 h 2183040"/>
              </a:gdLst>
              <a:ahLst/>
              <a:rect l="textAreaLeft" t="textAreaTop" r="textAreaRight" b="textAreaBottom"/>
              <a:pathLst>
                <a:path w="375" h="1375">
                  <a:moveTo>
                    <a:pt x="375" y="13"/>
                  </a:moveTo>
                  <a:lnTo>
                    <a:pt x="375" y="13"/>
                  </a:lnTo>
                  <a:lnTo>
                    <a:pt x="340" y="7"/>
                  </a:lnTo>
                  <a:lnTo>
                    <a:pt x="305" y="3"/>
                  </a:lnTo>
                  <a:lnTo>
                    <a:pt x="271" y="0"/>
                  </a:lnTo>
                  <a:lnTo>
                    <a:pt x="234" y="0"/>
                  </a:lnTo>
                  <a:lnTo>
                    <a:pt x="200" y="0"/>
                  </a:lnTo>
                  <a:lnTo>
                    <a:pt x="165" y="3"/>
                  </a:lnTo>
                  <a:lnTo>
                    <a:pt x="138" y="5"/>
                  </a:lnTo>
                  <a:lnTo>
                    <a:pt x="137" y="7"/>
                  </a:lnTo>
                  <a:lnTo>
                    <a:pt x="137" y="9"/>
                  </a:lnTo>
                  <a:lnTo>
                    <a:pt x="137" y="9"/>
                  </a:lnTo>
                  <a:lnTo>
                    <a:pt x="137" y="11"/>
                  </a:lnTo>
                  <a:lnTo>
                    <a:pt x="135" y="13"/>
                  </a:lnTo>
                  <a:lnTo>
                    <a:pt x="135" y="15"/>
                  </a:lnTo>
                  <a:lnTo>
                    <a:pt x="135" y="15"/>
                  </a:lnTo>
                  <a:lnTo>
                    <a:pt x="133" y="17"/>
                  </a:lnTo>
                  <a:lnTo>
                    <a:pt x="165" y="13"/>
                  </a:lnTo>
                  <a:lnTo>
                    <a:pt x="200" y="9"/>
                  </a:lnTo>
                  <a:lnTo>
                    <a:pt x="234" y="9"/>
                  </a:lnTo>
                  <a:lnTo>
                    <a:pt x="269" y="9"/>
                  </a:lnTo>
                  <a:lnTo>
                    <a:pt x="304" y="13"/>
                  </a:lnTo>
                  <a:lnTo>
                    <a:pt x="338" y="17"/>
                  </a:lnTo>
                  <a:lnTo>
                    <a:pt x="371" y="23"/>
                  </a:lnTo>
                  <a:lnTo>
                    <a:pt x="373" y="23"/>
                  </a:lnTo>
                  <a:lnTo>
                    <a:pt x="373" y="21"/>
                  </a:lnTo>
                  <a:lnTo>
                    <a:pt x="373" y="19"/>
                  </a:lnTo>
                  <a:lnTo>
                    <a:pt x="373" y="19"/>
                  </a:lnTo>
                  <a:lnTo>
                    <a:pt x="375" y="17"/>
                  </a:lnTo>
                  <a:lnTo>
                    <a:pt x="375" y="15"/>
                  </a:lnTo>
                  <a:lnTo>
                    <a:pt x="375" y="15"/>
                  </a:lnTo>
                  <a:lnTo>
                    <a:pt x="375" y="13"/>
                  </a:lnTo>
                  <a:close/>
                  <a:moveTo>
                    <a:pt x="4" y="1335"/>
                  </a:moveTo>
                  <a:lnTo>
                    <a:pt x="31" y="1343"/>
                  </a:lnTo>
                  <a:lnTo>
                    <a:pt x="64" y="1352"/>
                  </a:lnTo>
                  <a:lnTo>
                    <a:pt x="96" y="1360"/>
                  </a:lnTo>
                  <a:lnTo>
                    <a:pt x="131" y="1366"/>
                  </a:lnTo>
                  <a:lnTo>
                    <a:pt x="165" y="1371"/>
                  </a:lnTo>
                  <a:lnTo>
                    <a:pt x="200" y="1373"/>
                  </a:lnTo>
                  <a:lnTo>
                    <a:pt x="234" y="1375"/>
                  </a:lnTo>
                  <a:lnTo>
                    <a:pt x="271" y="1373"/>
                  </a:lnTo>
                  <a:lnTo>
                    <a:pt x="305" y="1371"/>
                  </a:lnTo>
                  <a:lnTo>
                    <a:pt x="340" y="1366"/>
                  </a:lnTo>
                  <a:lnTo>
                    <a:pt x="373" y="1360"/>
                  </a:lnTo>
                  <a:lnTo>
                    <a:pt x="373" y="1360"/>
                  </a:lnTo>
                  <a:lnTo>
                    <a:pt x="373" y="1358"/>
                  </a:lnTo>
                  <a:lnTo>
                    <a:pt x="373" y="1356"/>
                  </a:lnTo>
                  <a:lnTo>
                    <a:pt x="371" y="1356"/>
                  </a:lnTo>
                  <a:lnTo>
                    <a:pt x="371" y="1354"/>
                  </a:lnTo>
                  <a:lnTo>
                    <a:pt x="371" y="1354"/>
                  </a:lnTo>
                  <a:lnTo>
                    <a:pt x="371" y="1352"/>
                  </a:lnTo>
                  <a:lnTo>
                    <a:pt x="371" y="1350"/>
                  </a:lnTo>
                  <a:lnTo>
                    <a:pt x="338" y="1356"/>
                  </a:lnTo>
                  <a:lnTo>
                    <a:pt x="304" y="1360"/>
                  </a:lnTo>
                  <a:lnTo>
                    <a:pt x="269" y="1364"/>
                  </a:lnTo>
                  <a:lnTo>
                    <a:pt x="234" y="1364"/>
                  </a:lnTo>
                  <a:lnTo>
                    <a:pt x="200" y="1364"/>
                  </a:lnTo>
                  <a:lnTo>
                    <a:pt x="165" y="1360"/>
                  </a:lnTo>
                  <a:lnTo>
                    <a:pt x="133" y="1356"/>
                  </a:lnTo>
                  <a:lnTo>
                    <a:pt x="98" y="1350"/>
                  </a:lnTo>
                  <a:lnTo>
                    <a:pt x="66" y="1343"/>
                  </a:lnTo>
                  <a:lnTo>
                    <a:pt x="33" y="1333"/>
                  </a:lnTo>
                  <a:lnTo>
                    <a:pt x="2" y="1324"/>
                  </a:lnTo>
                  <a:lnTo>
                    <a:pt x="0" y="1324"/>
                  </a:lnTo>
                  <a:lnTo>
                    <a:pt x="0" y="1324"/>
                  </a:lnTo>
                  <a:lnTo>
                    <a:pt x="2" y="1325"/>
                  </a:lnTo>
                  <a:lnTo>
                    <a:pt x="2" y="1327"/>
                  </a:lnTo>
                  <a:lnTo>
                    <a:pt x="2" y="1329"/>
                  </a:lnTo>
                  <a:lnTo>
                    <a:pt x="2" y="1329"/>
                  </a:lnTo>
                  <a:lnTo>
                    <a:pt x="2" y="1331"/>
                  </a:lnTo>
                  <a:lnTo>
                    <a:pt x="4" y="1333"/>
                  </a:lnTo>
                  <a:lnTo>
                    <a:pt x="4" y="1335"/>
                  </a:lnTo>
                  <a:close/>
                </a:path>
              </a:pathLst>
            </a:custGeom>
            <a:solidFill>
              <a:srgbClr val="7a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Freeform 132"/>
            <p:cNvSpPr/>
            <p:nvPr/>
          </p:nvSpPr>
          <p:spPr>
            <a:xfrm>
              <a:off x="2016000" y="2073240"/>
              <a:ext cx="592200" cy="217008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2170080"/>
                <a:gd name="textAreaBottom" fmla="*/ 2170440 h 2170080"/>
              </a:gdLst>
              <a:ahLst/>
              <a:rect l="textAreaLeft" t="textAreaTop" r="textAreaRight" b="textAreaBottom"/>
              <a:pathLst>
                <a:path w="373" h="1367">
                  <a:moveTo>
                    <a:pt x="373" y="16"/>
                  </a:moveTo>
                  <a:lnTo>
                    <a:pt x="373" y="16"/>
                  </a:lnTo>
                  <a:lnTo>
                    <a:pt x="338" y="8"/>
                  </a:lnTo>
                  <a:lnTo>
                    <a:pt x="305" y="4"/>
                  </a:lnTo>
                  <a:lnTo>
                    <a:pt x="271" y="2"/>
                  </a:lnTo>
                  <a:lnTo>
                    <a:pt x="234" y="0"/>
                  </a:lnTo>
                  <a:lnTo>
                    <a:pt x="200" y="2"/>
                  </a:lnTo>
                  <a:lnTo>
                    <a:pt x="165" y="4"/>
                  </a:lnTo>
                  <a:lnTo>
                    <a:pt x="137" y="8"/>
                  </a:lnTo>
                  <a:lnTo>
                    <a:pt x="135" y="10"/>
                  </a:lnTo>
                  <a:lnTo>
                    <a:pt x="135" y="12"/>
                  </a:lnTo>
                  <a:lnTo>
                    <a:pt x="135" y="12"/>
                  </a:lnTo>
                  <a:lnTo>
                    <a:pt x="133" y="14"/>
                  </a:lnTo>
                  <a:lnTo>
                    <a:pt x="133" y="16"/>
                  </a:lnTo>
                  <a:lnTo>
                    <a:pt x="133" y="16"/>
                  </a:lnTo>
                  <a:lnTo>
                    <a:pt x="131" y="18"/>
                  </a:lnTo>
                  <a:lnTo>
                    <a:pt x="131" y="20"/>
                  </a:lnTo>
                  <a:lnTo>
                    <a:pt x="133" y="20"/>
                  </a:lnTo>
                  <a:lnTo>
                    <a:pt x="167" y="16"/>
                  </a:lnTo>
                  <a:lnTo>
                    <a:pt x="200" y="12"/>
                  </a:lnTo>
                  <a:lnTo>
                    <a:pt x="234" y="12"/>
                  </a:lnTo>
                  <a:lnTo>
                    <a:pt x="269" y="12"/>
                  </a:lnTo>
                  <a:lnTo>
                    <a:pt x="304" y="16"/>
                  </a:lnTo>
                  <a:lnTo>
                    <a:pt x="338" y="20"/>
                  </a:lnTo>
                  <a:lnTo>
                    <a:pt x="369" y="25"/>
                  </a:lnTo>
                  <a:lnTo>
                    <a:pt x="371" y="23"/>
                  </a:lnTo>
                  <a:lnTo>
                    <a:pt x="371" y="22"/>
                  </a:lnTo>
                  <a:lnTo>
                    <a:pt x="371" y="22"/>
                  </a:lnTo>
                  <a:lnTo>
                    <a:pt x="371" y="20"/>
                  </a:lnTo>
                  <a:lnTo>
                    <a:pt x="373" y="20"/>
                  </a:lnTo>
                  <a:lnTo>
                    <a:pt x="373" y="18"/>
                  </a:lnTo>
                  <a:lnTo>
                    <a:pt x="373" y="16"/>
                  </a:lnTo>
                  <a:lnTo>
                    <a:pt x="373" y="16"/>
                  </a:lnTo>
                  <a:close/>
                  <a:moveTo>
                    <a:pt x="2" y="1326"/>
                  </a:moveTo>
                  <a:lnTo>
                    <a:pt x="33" y="1336"/>
                  </a:lnTo>
                  <a:lnTo>
                    <a:pt x="64" y="1345"/>
                  </a:lnTo>
                  <a:lnTo>
                    <a:pt x="98" y="1353"/>
                  </a:lnTo>
                  <a:lnTo>
                    <a:pt x="131" y="1359"/>
                  </a:lnTo>
                  <a:lnTo>
                    <a:pt x="165" y="1363"/>
                  </a:lnTo>
                  <a:lnTo>
                    <a:pt x="200" y="1365"/>
                  </a:lnTo>
                  <a:lnTo>
                    <a:pt x="234" y="1367"/>
                  </a:lnTo>
                  <a:lnTo>
                    <a:pt x="271" y="1365"/>
                  </a:lnTo>
                  <a:lnTo>
                    <a:pt x="305" y="1363"/>
                  </a:lnTo>
                  <a:lnTo>
                    <a:pt x="338" y="1359"/>
                  </a:lnTo>
                  <a:lnTo>
                    <a:pt x="371" y="1353"/>
                  </a:lnTo>
                  <a:lnTo>
                    <a:pt x="371" y="1351"/>
                  </a:lnTo>
                  <a:lnTo>
                    <a:pt x="371" y="1351"/>
                  </a:lnTo>
                  <a:lnTo>
                    <a:pt x="371" y="1349"/>
                  </a:lnTo>
                  <a:lnTo>
                    <a:pt x="371" y="1347"/>
                  </a:lnTo>
                  <a:lnTo>
                    <a:pt x="369" y="1347"/>
                  </a:lnTo>
                  <a:lnTo>
                    <a:pt x="369" y="1345"/>
                  </a:lnTo>
                  <a:lnTo>
                    <a:pt x="369" y="1344"/>
                  </a:lnTo>
                  <a:lnTo>
                    <a:pt x="369" y="1344"/>
                  </a:lnTo>
                  <a:lnTo>
                    <a:pt x="338" y="1349"/>
                  </a:lnTo>
                  <a:lnTo>
                    <a:pt x="304" y="1353"/>
                  </a:lnTo>
                  <a:lnTo>
                    <a:pt x="269" y="1355"/>
                  </a:lnTo>
                  <a:lnTo>
                    <a:pt x="234" y="1357"/>
                  </a:lnTo>
                  <a:lnTo>
                    <a:pt x="200" y="1355"/>
                  </a:lnTo>
                  <a:lnTo>
                    <a:pt x="167" y="1353"/>
                  </a:lnTo>
                  <a:lnTo>
                    <a:pt x="133" y="1349"/>
                  </a:lnTo>
                  <a:lnTo>
                    <a:pt x="100" y="1342"/>
                  </a:lnTo>
                  <a:lnTo>
                    <a:pt x="67" y="1336"/>
                  </a:lnTo>
                  <a:lnTo>
                    <a:pt x="35" y="1326"/>
                  </a:lnTo>
                  <a:lnTo>
                    <a:pt x="4" y="1315"/>
                  </a:lnTo>
                  <a:lnTo>
                    <a:pt x="0" y="1313"/>
                  </a:lnTo>
                  <a:lnTo>
                    <a:pt x="0" y="1315"/>
                  </a:lnTo>
                  <a:lnTo>
                    <a:pt x="0" y="1317"/>
                  </a:lnTo>
                  <a:lnTo>
                    <a:pt x="0" y="1319"/>
                  </a:lnTo>
                  <a:lnTo>
                    <a:pt x="0" y="1321"/>
                  </a:lnTo>
                  <a:lnTo>
                    <a:pt x="0" y="1321"/>
                  </a:lnTo>
                  <a:lnTo>
                    <a:pt x="2" y="1322"/>
                  </a:lnTo>
                  <a:lnTo>
                    <a:pt x="2" y="1324"/>
                  </a:lnTo>
                  <a:lnTo>
                    <a:pt x="2" y="1326"/>
                  </a:lnTo>
                  <a:close/>
                </a:path>
              </a:pathLst>
            </a:custGeom>
            <a:solidFill>
              <a:srgbClr val="7b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133"/>
            <p:cNvSpPr/>
            <p:nvPr/>
          </p:nvSpPr>
          <p:spPr>
            <a:xfrm>
              <a:off x="2013120" y="2082600"/>
              <a:ext cx="591840" cy="2151000"/>
            </a:xfrm>
            <a:custGeom>
              <a:avLst/>
              <a:gdLst>
                <a:gd name="textAreaLeft" fmla="*/ 0 w 591840"/>
                <a:gd name="textAreaRight" fmla="*/ 591840 w 591840"/>
                <a:gd name="textAreaTop" fmla="*/ 0 h 2151000"/>
                <a:gd name="textAreaBottom" fmla="*/ 2151360 h 2151000"/>
              </a:gdLst>
              <a:ahLst/>
              <a:rect l="textAreaLeft" t="textAreaTop" r="textAreaRight" b="textAreaBottom"/>
              <a:pathLst>
                <a:path w="373" h="1355">
                  <a:moveTo>
                    <a:pt x="373" y="14"/>
                  </a:moveTo>
                  <a:lnTo>
                    <a:pt x="340" y="8"/>
                  </a:lnTo>
                  <a:lnTo>
                    <a:pt x="306" y="4"/>
                  </a:lnTo>
                  <a:lnTo>
                    <a:pt x="271" y="0"/>
                  </a:lnTo>
                  <a:lnTo>
                    <a:pt x="236" y="0"/>
                  </a:lnTo>
                  <a:lnTo>
                    <a:pt x="202" y="0"/>
                  </a:lnTo>
                  <a:lnTo>
                    <a:pt x="167" y="4"/>
                  </a:lnTo>
                  <a:lnTo>
                    <a:pt x="135" y="8"/>
                  </a:lnTo>
                  <a:lnTo>
                    <a:pt x="135" y="10"/>
                  </a:lnTo>
                  <a:lnTo>
                    <a:pt x="135" y="10"/>
                  </a:lnTo>
                  <a:lnTo>
                    <a:pt x="133" y="12"/>
                  </a:lnTo>
                  <a:lnTo>
                    <a:pt x="133" y="14"/>
                  </a:lnTo>
                  <a:lnTo>
                    <a:pt x="133" y="16"/>
                  </a:lnTo>
                  <a:lnTo>
                    <a:pt x="133" y="16"/>
                  </a:lnTo>
                  <a:lnTo>
                    <a:pt x="131" y="17"/>
                  </a:lnTo>
                  <a:lnTo>
                    <a:pt x="131" y="19"/>
                  </a:lnTo>
                  <a:lnTo>
                    <a:pt x="135" y="17"/>
                  </a:lnTo>
                  <a:lnTo>
                    <a:pt x="169" y="14"/>
                  </a:lnTo>
                  <a:lnTo>
                    <a:pt x="202" y="12"/>
                  </a:lnTo>
                  <a:lnTo>
                    <a:pt x="236" y="10"/>
                  </a:lnTo>
                  <a:lnTo>
                    <a:pt x="271" y="12"/>
                  </a:lnTo>
                  <a:lnTo>
                    <a:pt x="306" y="14"/>
                  </a:lnTo>
                  <a:lnTo>
                    <a:pt x="338" y="17"/>
                  </a:lnTo>
                  <a:lnTo>
                    <a:pt x="369" y="23"/>
                  </a:lnTo>
                  <a:lnTo>
                    <a:pt x="371" y="23"/>
                  </a:lnTo>
                  <a:lnTo>
                    <a:pt x="371" y="21"/>
                  </a:lnTo>
                  <a:lnTo>
                    <a:pt x="371" y="19"/>
                  </a:lnTo>
                  <a:lnTo>
                    <a:pt x="371" y="19"/>
                  </a:lnTo>
                  <a:lnTo>
                    <a:pt x="373" y="17"/>
                  </a:lnTo>
                  <a:lnTo>
                    <a:pt x="373" y="16"/>
                  </a:lnTo>
                  <a:lnTo>
                    <a:pt x="373" y="16"/>
                  </a:lnTo>
                  <a:lnTo>
                    <a:pt x="373" y="14"/>
                  </a:lnTo>
                  <a:close/>
                  <a:moveTo>
                    <a:pt x="2" y="1315"/>
                  </a:moveTo>
                  <a:lnTo>
                    <a:pt x="4" y="1315"/>
                  </a:lnTo>
                  <a:lnTo>
                    <a:pt x="35" y="1324"/>
                  </a:lnTo>
                  <a:lnTo>
                    <a:pt x="68" y="1334"/>
                  </a:lnTo>
                  <a:lnTo>
                    <a:pt x="100" y="1341"/>
                  </a:lnTo>
                  <a:lnTo>
                    <a:pt x="135" y="1347"/>
                  </a:lnTo>
                  <a:lnTo>
                    <a:pt x="167" y="1351"/>
                  </a:lnTo>
                  <a:lnTo>
                    <a:pt x="202" y="1355"/>
                  </a:lnTo>
                  <a:lnTo>
                    <a:pt x="236" y="1355"/>
                  </a:lnTo>
                  <a:lnTo>
                    <a:pt x="271" y="1355"/>
                  </a:lnTo>
                  <a:lnTo>
                    <a:pt x="306" y="1351"/>
                  </a:lnTo>
                  <a:lnTo>
                    <a:pt x="340" y="1347"/>
                  </a:lnTo>
                  <a:lnTo>
                    <a:pt x="373" y="1341"/>
                  </a:lnTo>
                  <a:lnTo>
                    <a:pt x="371" y="1341"/>
                  </a:lnTo>
                  <a:lnTo>
                    <a:pt x="371" y="1339"/>
                  </a:lnTo>
                  <a:lnTo>
                    <a:pt x="371" y="1338"/>
                  </a:lnTo>
                  <a:lnTo>
                    <a:pt x="371" y="1338"/>
                  </a:lnTo>
                  <a:lnTo>
                    <a:pt x="371" y="1336"/>
                  </a:lnTo>
                  <a:lnTo>
                    <a:pt x="369" y="1334"/>
                  </a:lnTo>
                  <a:lnTo>
                    <a:pt x="369" y="1334"/>
                  </a:lnTo>
                  <a:lnTo>
                    <a:pt x="369" y="1332"/>
                  </a:lnTo>
                  <a:lnTo>
                    <a:pt x="338" y="1338"/>
                  </a:lnTo>
                  <a:lnTo>
                    <a:pt x="306" y="1341"/>
                  </a:lnTo>
                  <a:lnTo>
                    <a:pt x="271" y="1343"/>
                  </a:lnTo>
                  <a:lnTo>
                    <a:pt x="236" y="1345"/>
                  </a:lnTo>
                  <a:lnTo>
                    <a:pt x="202" y="1343"/>
                  </a:lnTo>
                  <a:lnTo>
                    <a:pt x="169" y="1341"/>
                  </a:lnTo>
                  <a:lnTo>
                    <a:pt x="135" y="1338"/>
                  </a:lnTo>
                  <a:lnTo>
                    <a:pt x="102" y="1332"/>
                  </a:lnTo>
                  <a:lnTo>
                    <a:pt x="69" y="1324"/>
                  </a:lnTo>
                  <a:lnTo>
                    <a:pt x="39" y="1315"/>
                  </a:lnTo>
                  <a:lnTo>
                    <a:pt x="8" y="1305"/>
                  </a:lnTo>
                  <a:lnTo>
                    <a:pt x="0" y="1301"/>
                  </a:lnTo>
                  <a:lnTo>
                    <a:pt x="0" y="1303"/>
                  </a:lnTo>
                  <a:lnTo>
                    <a:pt x="0" y="1305"/>
                  </a:lnTo>
                  <a:lnTo>
                    <a:pt x="0" y="1307"/>
                  </a:lnTo>
                  <a:lnTo>
                    <a:pt x="2" y="1307"/>
                  </a:lnTo>
                  <a:lnTo>
                    <a:pt x="2" y="1309"/>
                  </a:lnTo>
                  <a:lnTo>
                    <a:pt x="2" y="1311"/>
                  </a:lnTo>
                  <a:lnTo>
                    <a:pt x="2" y="1313"/>
                  </a:lnTo>
                  <a:lnTo>
                    <a:pt x="2" y="1315"/>
                  </a:lnTo>
                  <a:close/>
                </a:path>
              </a:pathLst>
            </a:custGeom>
            <a:solidFill>
              <a:srgbClr val="7c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134"/>
            <p:cNvSpPr/>
            <p:nvPr/>
          </p:nvSpPr>
          <p:spPr>
            <a:xfrm>
              <a:off x="2009880" y="2092320"/>
              <a:ext cx="592200" cy="213516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2135160"/>
                <a:gd name="textAreaBottom" fmla="*/ 2135520 h 2135160"/>
              </a:gdLst>
              <a:ahLst/>
              <a:rect l="textAreaLeft" t="textAreaTop" r="textAreaRight" b="textAreaBottom"/>
              <a:pathLst>
                <a:path w="373" h="1345">
                  <a:moveTo>
                    <a:pt x="373" y="13"/>
                  </a:moveTo>
                  <a:lnTo>
                    <a:pt x="342" y="8"/>
                  </a:lnTo>
                  <a:lnTo>
                    <a:pt x="308" y="4"/>
                  </a:lnTo>
                  <a:lnTo>
                    <a:pt x="273" y="0"/>
                  </a:lnTo>
                  <a:lnTo>
                    <a:pt x="238" y="0"/>
                  </a:lnTo>
                  <a:lnTo>
                    <a:pt x="204" y="0"/>
                  </a:lnTo>
                  <a:lnTo>
                    <a:pt x="171" y="4"/>
                  </a:lnTo>
                  <a:lnTo>
                    <a:pt x="137" y="8"/>
                  </a:lnTo>
                  <a:lnTo>
                    <a:pt x="135" y="8"/>
                  </a:lnTo>
                  <a:lnTo>
                    <a:pt x="135" y="10"/>
                  </a:lnTo>
                  <a:lnTo>
                    <a:pt x="135" y="10"/>
                  </a:lnTo>
                  <a:lnTo>
                    <a:pt x="133" y="11"/>
                  </a:lnTo>
                  <a:lnTo>
                    <a:pt x="133" y="13"/>
                  </a:lnTo>
                  <a:lnTo>
                    <a:pt x="133" y="15"/>
                  </a:lnTo>
                  <a:lnTo>
                    <a:pt x="131" y="15"/>
                  </a:lnTo>
                  <a:lnTo>
                    <a:pt x="131" y="17"/>
                  </a:lnTo>
                  <a:lnTo>
                    <a:pt x="131" y="19"/>
                  </a:lnTo>
                  <a:lnTo>
                    <a:pt x="139" y="17"/>
                  </a:lnTo>
                  <a:lnTo>
                    <a:pt x="171" y="13"/>
                  </a:lnTo>
                  <a:lnTo>
                    <a:pt x="206" y="11"/>
                  </a:lnTo>
                  <a:lnTo>
                    <a:pt x="238" y="10"/>
                  </a:lnTo>
                  <a:lnTo>
                    <a:pt x="273" y="11"/>
                  </a:lnTo>
                  <a:lnTo>
                    <a:pt x="308" y="13"/>
                  </a:lnTo>
                  <a:lnTo>
                    <a:pt x="340" y="17"/>
                  </a:lnTo>
                  <a:lnTo>
                    <a:pt x="371" y="23"/>
                  </a:lnTo>
                  <a:lnTo>
                    <a:pt x="371" y="21"/>
                  </a:lnTo>
                  <a:lnTo>
                    <a:pt x="371" y="21"/>
                  </a:lnTo>
                  <a:lnTo>
                    <a:pt x="371" y="19"/>
                  </a:lnTo>
                  <a:lnTo>
                    <a:pt x="371" y="17"/>
                  </a:lnTo>
                  <a:lnTo>
                    <a:pt x="373" y="17"/>
                  </a:lnTo>
                  <a:lnTo>
                    <a:pt x="373" y="15"/>
                  </a:lnTo>
                  <a:lnTo>
                    <a:pt x="373" y="13"/>
                  </a:lnTo>
                  <a:lnTo>
                    <a:pt x="373" y="13"/>
                  </a:lnTo>
                  <a:close/>
                  <a:moveTo>
                    <a:pt x="4" y="1301"/>
                  </a:moveTo>
                  <a:lnTo>
                    <a:pt x="8" y="1303"/>
                  </a:lnTo>
                  <a:lnTo>
                    <a:pt x="39" y="1314"/>
                  </a:lnTo>
                  <a:lnTo>
                    <a:pt x="71" y="1324"/>
                  </a:lnTo>
                  <a:lnTo>
                    <a:pt x="104" y="1330"/>
                  </a:lnTo>
                  <a:lnTo>
                    <a:pt x="137" y="1337"/>
                  </a:lnTo>
                  <a:lnTo>
                    <a:pt x="171" y="1341"/>
                  </a:lnTo>
                  <a:lnTo>
                    <a:pt x="204" y="1343"/>
                  </a:lnTo>
                  <a:lnTo>
                    <a:pt x="238" y="1345"/>
                  </a:lnTo>
                  <a:lnTo>
                    <a:pt x="273" y="1343"/>
                  </a:lnTo>
                  <a:lnTo>
                    <a:pt x="308" y="1341"/>
                  </a:lnTo>
                  <a:lnTo>
                    <a:pt x="342" y="1337"/>
                  </a:lnTo>
                  <a:lnTo>
                    <a:pt x="373" y="1332"/>
                  </a:lnTo>
                  <a:lnTo>
                    <a:pt x="373" y="1330"/>
                  </a:lnTo>
                  <a:lnTo>
                    <a:pt x="371" y="1328"/>
                  </a:lnTo>
                  <a:lnTo>
                    <a:pt x="371" y="1328"/>
                  </a:lnTo>
                  <a:lnTo>
                    <a:pt x="371" y="1326"/>
                  </a:lnTo>
                  <a:lnTo>
                    <a:pt x="371" y="1324"/>
                  </a:lnTo>
                  <a:lnTo>
                    <a:pt x="369" y="1324"/>
                  </a:lnTo>
                  <a:lnTo>
                    <a:pt x="369" y="1322"/>
                  </a:lnTo>
                  <a:lnTo>
                    <a:pt x="369" y="1322"/>
                  </a:lnTo>
                  <a:lnTo>
                    <a:pt x="340" y="1326"/>
                  </a:lnTo>
                  <a:lnTo>
                    <a:pt x="308" y="1330"/>
                  </a:lnTo>
                  <a:lnTo>
                    <a:pt x="273" y="1333"/>
                  </a:lnTo>
                  <a:lnTo>
                    <a:pt x="238" y="1333"/>
                  </a:lnTo>
                  <a:lnTo>
                    <a:pt x="206" y="1333"/>
                  </a:lnTo>
                  <a:lnTo>
                    <a:pt x="171" y="1330"/>
                  </a:lnTo>
                  <a:lnTo>
                    <a:pt x="139" y="1326"/>
                  </a:lnTo>
                  <a:lnTo>
                    <a:pt x="106" y="1320"/>
                  </a:lnTo>
                  <a:lnTo>
                    <a:pt x="73" y="1312"/>
                  </a:lnTo>
                  <a:lnTo>
                    <a:pt x="43" y="1305"/>
                  </a:lnTo>
                  <a:lnTo>
                    <a:pt x="12" y="1293"/>
                  </a:lnTo>
                  <a:lnTo>
                    <a:pt x="0" y="1289"/>
                  </a:lnTo>
                  <a:lnTo>
                    <a:pt x="0" y="1291"/>
                  </a:lnTo>
                  <a:lnTo>
                    <a:pt x="2" y="1293"/>
                  </a:lnTo>
                  <a:lnTo>
                    <a:pt x="2" y="1295"/>
                  </a:lnTo>
                  <a:lnTo>
                    <a:pt x="2" y="1295"/>
                  </a:lnTo>
                  <a:lnTo>
                    <a:pt x="2" y="1297"/>
                  </a:lnTo>
                  <a:lnTo>
                    <a:pt x="2" y="1299"/>
                  </a:lnTo>
                  <a:lnTo>
                    <a:pt x="2" y="1301"/>
                  </a:lnTo>
                  <a:lnTo>
                    <a:pt x="4" y="1301"/>
                  </a:lnTo>
                  <a:close/>
                </a:path>
              </a:pathLst>
            </a:custGeom>
            <a:solidFill>
              <a:srgbClr val="7d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135"/>
            <p:cNvSpPr/>
            <p:nvPr/>
          </p:nvSpPr>
          <p:spPr>
            <a:xfrm>
              <a:off x="2009880" y="2098440"/>
              <a:ext cx="588960" cy="211932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2119320"/>
                <a:gd name="textAreaBottom" fmla="*/ 2119680 h 2119320"/>
              </a:gdLst>
              <a:ahLst/>
              <a:rect l="textAreaLeft" t="textAreaTop" r="textAreaRight" b="textAreaBottom"/>
              <a:pathLst>
                <a:path w="371" h="1335">
                  <a:moveTo>
                    <a:pt x="371" y="13"/>
                  </a:moveTo>
                  <a:lnTo>
                    <a:pt x="340" y="7"/>
                  </a:lnTo>
                  <a:lnTo>
                    <a:pt x="308" y="4"/>
                  </a:lnTo>
                  <a:lnTo>
                    <a:pt x="273" y="2"/>
                  </a:lnTo>
                  <a:lnTo>
                    <a:pt x="238" y="0"/>
                  </a:lnTo>
                  <a:lnTo>
                    <a:pt x="204" y="2"/>
                  </a:lnTo>
                  <a:lnTo>
                    <a:pt x="171" y="4"/>
                  </a:lnTo>
                  <a:lnTo>
                    <a:pt x="137" y="7"/>
                  </a:lnTo>
                  <a:lnTo>
                    <a:pt x="133" y="9"/>
                  </a:lnTo>
                  <a:lnTo>
                    <a:pt x="133" y="11"/>
                  </a:lnTo>
                  <a:lnTo>
                    <a:pt x="131" y="11"/>
                  </a:lnTo>
                  <a:lnTo>
                    <a:pt x="131" y="13"/>
                  </a:lnTo>
                  <a:lnTo>
                    <a:pt x="131" y="15"/>
                  </a:lnTo>
                  <a:lnTo>
                    <a:pt x="129" y="15"/>
                  </a:lnTo>
                  <a:lnTo>
                    <a:pt x="129" y="17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39" y="19"/>
                  </a:lnTo>
                  <a:lnTo>
                    <a:pt x="171" y="15"/>
                  </a:lnTo>
                  <a:lnTo>
                    <a:pt x="206" y="11"/>
                  </a:lnTo>
                  <a:lnTo>
                    <a:pt x="238" y="11"/>
                  </a:lnTo>
                  <a:lnTo>
                    <a:pt x="273" y="11"/>
                  </a:lnTo>
                  <a:lnTo>
                    <a:pt x="306" y="15"/>
                  </a:lnTo>
                  <a:lnTo>
                    <a:pt x="338" y="19"/>
                  </a:lnTo>
                  <a:lnTo>
                    <a:pt x="369" y="23"/>
                  </a:lnTo>
                  <a:lnTo>
                    <a:pt x="369" y="23"/>
                  </a:lnTo>
                  <a:lnTo>
                    <a:pt x="369" y="21"/>
                  </a:lnTo>
                  <a:lnTo>
                    <a:pt x="369" y="19"/>
                  </a:lnTo>
                  <a:lnTo>
                    <a:pt x="371" y="19"/>
                  </a:lnTo>
                  <a:lnTo>
                    <a:pt x="371" y="17"/>
                  </a:lnTo>
                  <a:lnTo>
                    <a:pt x="371" y="17"/>
                  </a:lnTo>
                  <a:lnTo>
                    <a:pt x="371" y="15"/>
                  </a:lnTo>
                  <a:lnTo>
                    <a:pt x="371" y="13"/>
                  </a:lnTo>
                  <a:close/>
                  <a:moveTo>
                    <a:pt x="2" y="1291"/>
                  </a:moveTo>
                  <a:lnTo>
                    <a:pt x="10" y="1295"/>
                  </a:lnTo>
                  <a:lnTo>
                    <a:pt x="41" y="1305"/>
                  </a:lnTo>
                  <a:lnTo>
                    <a:pt x="71" y="1314"/>
                  </a:lnTo>
                  <a:lnTo>
                    <a:pt x="104" y="1322"/>
                  </a:lnTo>
                  <a:lnTo>
                    <a:pt x="137" y="1328"/>
                  </a:lnTo>
                  <a:lnTo>
                    <a:pt x="171" y="1331"/>
                  </a:lnTo>
                  <a:lnTo>
                    <a:pt x="204" y="1333"/>
                  </a:lnTo>
                  <a:lnTo>
                    <a:pt x="238" y="1335"/>
                  </a:lnTo>
                  <a:lnTo>
                    <a:pt x="273" y="1333"/>
                  </a:lnTo>
                  <a:lnTo>
                    <a:pt x="308" y="1331"/>
                  </a:lnTo>
                  <a:lnTo>
                    <a:pt x="340" y="1328"/>
                  </a:lnTo>
                  <a:lnTo>
                    <a:pt x="371" y="1322"/>
                  </a:lnTo>
                  <a:lnTo>
                    <a:pt x="371" y="1320"/>
                  </a:lnTo>
                  <a:lnTo>
                    <a:pt x="369" y="1320"/>
                  </a:lnTo>
                  <a:lnTo>
                    <a:pt x="369" y="1318"/>
                  </a:lnTo>
                  <a:lnTo>
                    <a:pt x="369" y="1318"/>
                  </a:lnTo>
                  <a:lnTo>
                    <a:pt x="369" y="1316"/>
                  </a:lnTo>
                  <a:lnTo>
                    <a:pt x="369" y="1314"/>
                  </a:lnTo>
                  <a:lnTo>
                    <a:pt x="367" y="1314"/>
                  </a:lnTo>
                  <a:lnTo>
                    <a:pt x="367" y="1312"/>
                  </a:lnTo>
                  <a:lnTo>
                    <a:pt x="338" y="1318"/>
                  </a:lnTo>
                  <a:lnTo>
                    <a:pt x="306" y="1322"/>
                  </a:lnTo>
                  <a:lnTo>
                    <a:pt x="273" y="1324"/>
                  </a:lnTo>
                  <a:lnTo>
                    <a:pt x="238" y="1326"/>
                  </a:lnTo>
                  <a:lnTo>
                    <a:pt x="206" y="1324"/>
                  </a:lnTo>
                  <a:lnTo>
                    <a:pt x="171" y="1322"/>
                  </a:lnTo>
                  <a:lnTo>
                    <a:pt x="139" y="1318"/>
                  </a:lnTo>
                  <a:lnTo>
                    <a:pt x="106" y="1312"/>
                  </a:lnTo>
                  <a:lnTo>
                    <a:pt x="75" y="1305"/>
                  </a:lnTo>
                  <a:lnTo>
                    <a:pt x="45" y="1295"/>
                  </a:lnTo>
                  <a:lnTo>
                    <a:pt x="14" y="1285"/>
                  </a:lnTo>
                  <a:lnTo>
                    <a:pt x="0" y="1280"/>
                  </a:lnTo>
                  <a:lnTo>
                    <a:pt x="0" y="1281"/>
                  </a:lnTo>
                  <a:lnTo>
                    <a:pt x="0" y="1283"/>
                  </a:lnTo>
                  <a:lnTo>
                    <a:pt x="0" y="1283"/>
                  </a:lnTo>
                  <a:lnTo>
                    <a:pt x="0" y="1285"/>
                  </a:lnTo>
                  <a:lnTo>
                    <a:pt x="0" y="1287"/>
                  </a:lnTo>
                  <a:lnTo>
                    <a:pt x="2" y="1289"/>
                  </a:lnTo>
                  <a:lnTo>
                    <a:pt x="2" y="1291"/>
                  </a:lnTo>
                  <a:lnTo>
                    <a:pt x="2" y="1291"/>
                  </a:lnTo>
                  <a:close/>
                </a:path>
              </a:pathLst>
            </a:custGeom>
            <a:solidFill>
              <a:srgbClr val="7e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136"/>
            <p:cNvSpPr/>
            <p:nvPr/>
          </p:nvSpPr>
          <p:spPr>
            <a:xfrm>
              <a:off x="2006640" y="2108160"/>
              <a:ext cx="592200" cy="210024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2100240"/>
                <a:gd name="textAreaBottom" fmla="*/ 2100600 h 2100240"/>
              </a:gdLst>
              <a:ahLst/>
              <a:rect l="textAreaLeft" t="textAreaTop" r="textAreaRight" b="textAreaBottom"/>
              <a:pathLst>
                <a:path w="373" h="1323">
                  <a:moveTo>
                    <a:pt x="373" y="13"/>
                  </a:moveTo>
                  <a:lnTo>
                    <a:pt x="342" y="7"/>
                  </a:lnTo>
                  <a:lnTo>
                    <a:pt x="310" y="3"/>
                  </a:lnTo>
                  <a:lnTo>
                    <a:pt x="275" y="1"/>
                  </a:lnTo>
                  <a:lnTo>
                    <a:pt x="240" y="0"/>
                  </a:lnTo>
                  <a:lnTo>
                    <a:pt x="208" y="1"/>
                  </a:lnTo>
                  <a:lnTo>
                    <a:pt x="173" y="3"/>
                  </a:lnTo>
                  <a:lnTo>
                    <a:pt x="141" y="7"/>
                  </a:lnTo>
                  <a:lnTo>
                    <a:pt x="133" y="9"/>
                  </a:lnTo>
                  <a:lnTo>
                    <a:pt x="131" y="9"/>
                  </a:lnTo>
                  <a:lnTo>
                    <a:pt x="131" y="11"/>
                  </a:lnTo>
                  <a:lnTo>
                    <a:pt x="131" y="13"/>
                  </a:lnTo>
                  <a:lnTo>
                    <a:pt x="131" y="15"/>
                  </a:lnTo>
                  <a:lnTo>
                    <a:pt x="129" y="15"/>
                  </a:lnTo>
                  <a:lnTo>
                    <a:pt x="129" y="17"/>
                  </a:lnTo>
                  <a:lnTo>
                    <a:pt x="129" y="19"/>
                  </a:lnTo>
                  <a:lnTo>
                    <a:pt x="127" y="21"/>
                  </a:lnTo>
                  <a:lnTo>
                    <a:pt x="143" y="17"/>
                  </a:lnTo>
                  <a:lnTo>
                    <a:pt x="175" y="13"/>
                  </a:lnTo>
                  <a:lnTo>
                    <a:pt x="208" y="11"/>
                  </a:lnTo>
                  <a:lnTo>
                    <a:pt x="240" y="9"/>
                  </a:lnTo>
                  <a:lnTo>
                    <a:pt x="275" y="11"/>
                  </a:lnTo>
                  <a:lnTo>
                    <a:pt x="308" y="13"/>
                  </a:lnTo>
                  <a:lnTo>
                    <a:pt x="340" y="17"/>
                  </a:lnTo>
                  <a:lnTo>
                    <a:pt x="369" y="23"/>
                  </a:lnTo>
                  <a:lnTo>
                    <a:pt x="369" y="21"/>
                  </a:lnTo>
                  <a:lnTo>
                    <a:pt x="369" y="21"/>
                  </a:lnTo>
                  <a:lnTo>
                    <a:pt x="369" y="19"/>
                  </a:lnTo>
                  <a:lnTo>
                    <a:pt x="371" y="17"/>
                  </a:lnTo>
                  <a:lnTo>
                    <a:pt x="371" y="17"/>
                  </a:lnTo>
                  <a:lnTo>
                    <a:pt x="371" y="15"/>
                  </a:lnTo>
                  <a:lnTo>
                    <a:pt x="371" y="13"/>
                  </a:lnTo>
                  <a:lnTo>
                    <a:pt x="373" y="13"/>
                  </a:lnTo>
                  <a:close/>
                  <a:moveTo>
                    <a:pt x="2" y="1279"/>
                  </a:moveTo>
                  <a:lnTo>
                    <a:pt x="14" y="1283"/>
                  </a:lnTo>
                  <a:lnTo>
                    <a:pt x="45" y="1295"/>
                  </a:lnTo>
                  <a:lnTo>
                    <a:pt x="75" y="1302"/>
                  </a:lnTo>
                  <a:lnTo>
                    <a:pt x="108" y="1310"/>
                  </a:lnTo>
                  <a:lnTo>
                    <a:pt x="141" y="1316"/>
                  </a:lnTo>
                  <a:lnTo>
                    <a:pt x="173" y="1320"/>
                  </a:lnTo>
                  <a:lnTo>
                    <a:pt x="208" y="1323"/>
                  </a:lnTo>
                  <a:lnTo>
                    <a:pt x="240" y="1323"/>
                  </a:lnTo>
                  <a:lnTo>
                    <a:pt x="275" y="1323"/>
                  </a:lnTo>
                  <a:lnTo>
                    <a:pt x="310" y="1320"/>
                  </a:lnTo>
                  <a:lnTo>
                    <a:pt x="342" y="1316"/>
                  </a:lnTo>
                  <a:lnTo>
                    <a:pt x="371" y="1312"/>
                  </a:lnTo>
                  <a:lnTo>
                    <a:pt x="371" y="1310"/>
                  </a:lnTo>
                  <a:lnTo>
                    <a:pt x="371" y="1308"/>
                  </a:lnTo>
                  <a:lnTo>
                    <a:pt x="369" y="1308"/>
                  </a:lnTo>
                  <a:lnTo>
                    <a:pt x="369" y="1306"/>
                  </a:lnTo>
                  <a:lnTo>
                    <a:pt x="369" y="1304"/>
                  </a:lnTo>
                  <a:lnTo>
                    <a:pt x="369" y="1304"/>
                  </a:lnTo>
                  <a:lnTo>
                    <a:pt x="367" y="1302"/>
                  </a:lnTo>
                  <a:lnTo>
                    <a:pt x="367" y="1300"/>
                  </a:lnTo>
                  <a:lnTo>
                    <a:pt x="340" y="1306"/>
                  </a:lnTo>
                  <a:lnTo>
                    <a:pt x="308" y="1310"/>
                  </a:lnTo>
                  <a:lnTo>
                    <a:pt x="275" y="1312"/>
                  </a:lnTo>
                  <a:lnTo>
                    <a:pt x="240" y="1314"/>
                  </a:lnTo>
                  <a:lnTo>
                    <a:pt x="208" y="1312"/>
                  </a:lnTo>
                  <a:lnTo>
                    <a:pt x="175" y="1310"/>
                  </a:lnTo>
                  <a:lnTo>
                    <a:pt x="143" y="1306"/>
                  </a:lnTo>
                  <a:lnTo>
                    <a:pt x="110" y="1300"/>
                  </a:lnTo>
                  <a:lnTo>
                    <a:pt x="77" y="1293"/>
                  </a:lnTo>
                  <a:lnTo>
                    <a:pt x="47" y="1285"/>
                  </a:lnTo>
                  <a:lnTo>
                    <a:pt x="18" y="1274"/>
                  </a:lnTo>
                  <a:lnTo>
                    <a:pt x="0" y="1268"/>
                  </a:lnTo>
                  <a:lnTo>
                    <a:pt x="0" y="1270"/>
                  </a:lnTo>
                  <a:lnTo>
                    <a:pt x="0" y="1270"/>
                  </a:lnTo>
                  <a:lnTo>
                    <a:pt x="0" y="1272"/>
                  </a:lnTo>
                  <a:lnTo>
                    <a:pt x="2" y="1274"/>
                  </a:lnTo>
                  <a:lnTo>
                    <a:pt x="2" y="1275"/>
                  </a:lnTo>
                  <a:lnTo>
                    <a:pt x="2" y="1277"/>
                  </a:lnTo>
                  <a:lnTo>
                    <a:pt x="2" y="1277"/>
                  </a:lnTo>
                  <a:lnTo>
                    <a:pt x="2" y="1279"/>
                  </a:lnTo>
                  <a:close/>
                </a:path>
              </a:pathLst>
            </a:custGeom>
            <a:solidFill>
              <a:srgbClr val="7f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Freeform 137"/>
            <p:cNvSpPr/>
            <p:nvPr/>
          </p:nvSpPr>
          <p:spPr>
            <a:xfrm>
              <a:off x="2004840" y="2116080"/>
              <a:ext cx="590760" cy="20872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2087280"/>
                <a:gd name="textAreaBottom" fmla="*/ 2087280 h 2087280"/>
              </a:gdLst>
              <a:ahLst/>
              <a:rect l="textAreaLeft" t="textAreaTop" r="textAreaRight" b="textAreaBottom"/>
              <a:pathLst>
                <a:path w="372" h="1315">
                  <a:moveTo>
                    <a:pt x="372" y="12"/>
                  </a:moveTo>
                  <a:lnTo>
                    <a:pt x="341" y="8"/>
                  </a:lnTo>
                  <a:lnTo>
                    <a:pt x="309" y="4"/>
                  </a:lnTo>
                  <a:lnTo>
                    <a:pt x="276" y="0"/>
                  </a:lnTo>
                  <a:lnTo>
                    <a:pt x="241" y="0"/>
                  </a:lnTo>
                  <a:lnTo>
                    <a:pt x="209" y="0"/>
                  </a:lnTo>
                  <a:lnTo>
                    <a:pt x="174" y="4"/>
                  </a:lnTo>
                  <a:lnTo>
                    <a:pt x="142" y="8"/>
                  </a:lnTo>
                  <a:lnTo>
                    <a:pt x="132" y="10"/>
                  </a:lnTo>
                  <a:lnTo>
                    <a:pt x="130" y="10"/>
                  </a:lnTo>
                  <a:lnTo>
                    <a:pt x="130" y="12"/>
                  </a:lnTo>
                  <a:lnTo>
                    <a:pt x="130" y="14"/>
                  </a:lnTo>
                  <a:lnTo>
                    <a:pt x="128" y="16"/>
                  </a:lnTo>
                  <a:lnTo>
                    <a:pt x="128" y="16"/>
                  </a:lnTo>
                  <a:lnTo>
                    <a:pt x="128" y="18"/>
                  </a:lnTo>
                  <a:lnTo>
                    <a:pt x="128" y="20"/>
                  </a:lnTo>
                  <a:lnTo>
                    <a:pt x="126" y="21"/>
                  </a:lnTo>
                  <a:lnTo>
                    <a:pt x="144" y="18"/>
                  </a:lnTo>
                  <a:lnTo>
                    <a:pt x="176" y="14"/>
                  </a:lnTo>
                  <a:lnTo>
                    <a:pt x="209" y="12"/>
                  </a:lnTo>
                  <a:lnTo>
                    <a:pt x="241" y="10"/>
                  </a:lnTo>
                  <a:lnTo>
                    <a:pt x="276" y="12"/>
                  </a:lnTo>
                  <a:lnTo>
                    <a:pt x="309" y="14"/>
                  </a:lnTo>
                  <a:lnTo>
                    <a:pt x="341" y="18"/>
                  </a:lnTo>
                  <a:lnTo>
                    <a:pt x="368" y="23"/>
                  </a:lnTo>
                  <a:lnTo>
                    <a:pt x="368" y="21"/>
                  </a:lnTo>
                  <a:lnTo>
                    <a:pt x="368" y="20"/>
                  </a:lnTo>
                  <a:lnTo>
                    <a:pt x="370" y="20"/>
                  </a:lnTo>
                  <a:lnTo>
                    <a:pt x="370" y="18"/>
                  </a:lnTo>
                  <a:lnTo>
                    <a:pt x="370" y="16"/>
                  </a:lnTo>
                  <a:lnTo>
                    <a:pt x="370" y="16"/>
                  </a:lnTo>
                  <a:lnTo>
                    <a:pt x="370" y="14"/>
                  </a:lnTo>
                  <a:lnTo>
                    <a:pt x="372" y="12"/>
                  </a:lnTo>
                  <a:close/>
                  <a:moveTo>
                    <a:pt x="3" y="1269"/>
                  </a:moveTo>
                  <a:lnTo>
                    <a:pt x="17" y="1274"/>
                  </a:lnTo>
                  <a:lnTo>
                    <a:pt x="48" y="1284"/>
                  </a:lnTo>
                  <a:lnTo>
                    <a:pt x="78" y="1294"/>
                  </a:lnTo>
                  <a:lnTo>
                    <a:pt x="109" y="1301"/>
                  </a:lnTo>
                  <a:lnTo>
                    <a:pt x="142" y="1307"/>
                  </a:lnTo>
                  <a:lnTo>
                    <a:pt x="174" y="1311"/>
                  </a:lnTo>
                  <a:lnTo>
                    <a:pt x="209" y="1313"/>
                  </a:lnTo>
                  <a:lnTo>
                    <a:pt x="241" y="1315"/>
                  </a:lnTo>
                  <a:lnTo>
                    <a:pt x="276" y="1313"/>
                  </a:lnTo>
                  <a:lnTo>
                    <a:pt x="309" y="1311"/>
                  </a:lnTo>
                  <a:lnTo>
                    <a:pt x="341" y="1307"/>
                  </a:lnTo>
                  <a:lnTo>
                    <a:pt x="370" y="1301"/>
                  </a:lnTo>
                  <a:lnTo>
                    <a:pt x="370" y="1299"/>
                  </a:lnTo>
                  <a:lnTo>
                    <a:pt x="370" y="1299"/>
                  </a:lnTo>
                  <a:lnTo>
                    <a:pt x="368" y="1297"/>
                  </a:lnTo>
                  <a:lnTo>
                    <a:pt x="368" y="1295"/>
                  </a:lnTo>
                  <a:lnTo>
                    <a:pt x="368" y="1295"/>
                  </a:lnTo>
                  <a:lnTo>
                    <a:pt x="368" y="1294"/>
                  </a:lnTo>
                  <a:lnTo>
                    <a:pt x="368" y="1292"/>
                  </a:lnTo>
                  <a:lnTo>
                    <a:pt x="366" y="1292"/>
                  </a:lnTo>
                  <a:lnTo>
                    <a:pt x="341" y="1295"/>
                  </a:lnTo>
                  <a:lnTo>
                    <a:pt x="309" y="1299"/>
                  </a:lnTo>
                  <a:lnTo>
                    <a:pt x="276" y="1303"/>
                  </a:lnTo>
                  <a:lnTo>
                    <a:pt x="241" y="1303"/>
                  </a:lnTo>
                  <a:lnTo>
                    <a:pt x="209" y="1303"/>
                  </a:lnTo>
                  <a:lnTo>
                    <a:pt x="176" y="1299"/>
                  </a:lnTo>
                  <a:lnTo>
                    <a:pt x="144" y="1295"/>
                  </a:lnTo>
                  <a:lnTo>
                    <a:pt x="111" y="1290"/>
                  </a:lnTo>
                  <a:lnTo>
                    <a:pt x="80" y="1284"/>
                  </a:lnTo>
                  <a:lnTo>
                    <a:pt x="49" y="1274"/>
                  </a:lnTo>
                  <a:lnTo>
                    <a:pt x="19" y="1265"/>
                  </a:lnTo>
                  <a:lnTo>
                    <a:pt x="0" y="1257"/>
                  </a:lnTo>
                  <a:lnTo>
                    <a:pt x="1" y="1259"/>
                  </a:lnTo>
                  <a:lnTo>
                    <a:pt x="1" y="1259"/>
                  </a:lnTo>
                  <a:lnTo>
                    <a:pt x="1" y="1261"/>
                  </a:lnTo>
                  <a:lnTo>
                    <a:pt x="1" y="1263"/>
                  </a:lnTo>
                  <a:lnTo>
                    <a:pt x="1" y="1265"/>
                  </a:lnTo>
                  <a:lnTo>
                    <a:pt x="1" y="1265"/>
                  </a:lnTo>
                  <a:lnTo>
                    <a:pt x="1" y="1267"/>
                  </a:lnTo>
                  <a:lnTo>
                    <a:pt x="3" y="1269"/>
                  </a:lnTo>
                  <a:close/>
                </a:path>
              </a:pathLst>
            </a:custGeom>
            <a:solidFill>
              <a:srgbClr val="8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Freeform 138"/>
            <p:cNvSpPr/>
            <p:nvPr/>
          </p:nvSpPr>
          <p:spPr>
            <a:xfrm>
              <a:off x="2004840" y="2122200"/>
              <a:ext cx="587520" cy="207180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0 h 2071800"/>
                <a:gd name="textAreaBottom" fmla="*/ 2072160 h 2071800"/>
              </a:gdLst>
              <a:ahLst/>
              <a:rect l="textAreaLeft" t="textAreaTop" r="textAreaRight" b="textAreaBottom"/>
              <a:pathLst>
                <a:path w="370" h="1305">
                  <a:moveTo>
                    <a:pt x="370" y="14"/>
                  </a:moveTo>
                  <a:lnTo>
                    <a:pt x="341" y="8"/>
                  </a:lnTo>
                  <a:lnTo>
                    <a:pt x="309" y="4"/>
                  </a:lnTo>
                  <a:lnTo>
                    <a:pt x="276" y="2"/>
                  </a:lnTo>
                  <a:lnTo>
                    <a:pt x="241" y="0"/>
                  </a:lnTo>
                  <a:lnTo>
                    <a:pt x="209" y="2"/>
                  </a:lnTo>
                  <a:lnTo>
                    <a:pt x="176" y="4"/>
                  </a:lnTo>
                  <a:lnTo>
                    <a:pt x="144" y="8"/>
                  </a:lnTo>
                  <a:lnTo>
                    <a:pt x="128" y="12"/>
                  </a:lnTo>
                  <a:lnTo>
                    <a:pt x="128" y="12"/>
                  </a:lnTo>
                  <a:lnTo>
                    <a:pt x="128" y="14"/>
                  </a:lnTo>
                  <a:lnTo>
                    <a:pt x="128" y="16"/>
                  </a:lnTo>
                  <a:lnTo>
                    <a:pt x="126" y="17"/>
                  </a:lnTo>
                  <a:lnTo>
                    <a:pt x="126" y="17"/>
                  </a:lnTo>
                  <a:lnTo>
                    <a:pt x="126" y="19"/>
                  </a:lnTo>
                  <a:lnTo>
                    <a:pt x="124" y="21"/>
                  </a:lnTo>
                  <a:lnTo>
                    <a:pt x="124" y="21"/>
                  </a:lnTo>
                  <a:lnTo>
                    <a:pt x="144" y="19"/>
                  </a:lnTo>
                  <a:lnTo>
                    <a:pt x="176" y="14"/>
                  </a:lnTo>
                  <a:lnTo>
                    <a:pt x="209" y="12"/>
                  </a:lnTo>
                  <a:lnTo>
                    <a:pt x="241" y="12"/>
                  </a:lnTo>
                  <a:lnTo>
                    <a:pt x="276" y="12"/>
                  </a:lnTo>
                  <a:lnTo>
                    <a:pt x="307" y="14"/>
                  </a:lnTo>
                  <a:lnTo>
                    <a:pt x="339" y="19"/>
                  </a:lnTo>
                  <a:lnTo>
                    <a:pt x="366" y="23"/>
                  </a:lnTo>
                  <a:lnTo>
                    <a:pt x="366" y="21"/>
                  </a:lnTo>
                  <a:lnTo>
                    <a:pt x="366" y="21"/>
                  </a:lnTo>
                  <a:lnTo>
                    <a:pt x="368" y="19"/>
                  </a:lnTo>
                  <a:lnTo>
                    <a:pt x="368" y="19"/>
                  </a:lnTo>
                  <a:lnTo>
                    <a:pt x="368" y="17"/>
                  </a:lnTo>
                  <a:lnTo>
                    <a:pt x="368" y="16"/>
                  </a:lnTo>
                  <a:lnTo>
                    <a:pt x="370" y="16"/>
                  </a:lnTo>
                  <a:lnTo>
                    <a:pt x="370" y="14"/>
                  </a:lnTo>
                  <a:close/>
                  <a:moveTo>
                    <a:pt x="1" y="1259"/>
                  </a:moveTo>
                  <a:lnTo>
                    <a:pt x="19" y="1265"/>
                  </a:lnTo>
                  <a:lnTo>
                    <a:pt x="48" y="1276"/>
                  </a:lnTo>
                  <a:lnTo>
                    <a:pt x="78" y="1284"/>
                  </a:lnTo>
                  <a:lnTo>
                    <a:pt x="111" y="1291"/>
                  </a:lnTo>
                  <a:lnTo>
                    <a:pt x="144" y="1297"/>
                  </a:lnTo>
                  <a:lnTo>
                    <a:pt x="176" y="1301"/>
                  </a:lnTo>
                  <a:lnTo>
                    <a:pt x="209" y="1303"/>
                  </a:lnTo>
                  <a:lnTo>
                    <a:pt x="241" y="1305"/>
                  </a:lnTo>
                  <a:lnTo>
                    <a:pt x="276" y="1303"/>
                  </a:lnTo>
                  <a:lnTo>
                    <a:pt x="309" y="1301"/>
                  </a:lnTo>
                  <a:lnTo>
                    <a:pt x="341" y="1297"/>
                  </a:lnTo>
                  <a:lnTo>
                    <a:pt x="368" y="1291"/>
                  </a:lnTo>
                  <a:lnTo>
                    <a:pt x="368" y="1291"/>
                  </a:lnTo>
                  <a:lnTo>
                    <a:pt x="368" y="1290"/>
                  </a:lnTo>
                  <a:lnTo>
                    <a:pt x="368" y="1288"/>
                  </a:lnTo>
                  <a:lnTo>
                    <a:pt x="366" y="1288"/>
                  </a:lnTo>
                  <a:lnTo>
                    <a:pt x="366" y="1286"/>
                  </a:lnTo>
                  <a:lnTo>
                    <a:pt x="366" y="1286"/>
                  </a:lnTo>
                  <a:lnTo>
                    <a:pt x="366" y="1284"/>
                  </a:lnTo>
                  <a:lnTo>
                    <a:pt x="366" y="1282"/>
                  </a:lnTo>
                  <a:lnTo>
                    <a:pt x="339" y="1288"/>
                  </a:lnTo>
                  <a:lnTo>
                    <a:pt x="307" y="1291"/>
                  </a:lnTo>
                  <a:lnTo>
                    <a:pt x="276" y="1293"/>
                  </a:lnTo>
                  <a:lnTo>
                    <a:pt x="241" y="1295"/>
                  </a:lnTo>
                  <a:lnTo>
                    <a:pt x="209" y="1293"/>
                  </a:lnTo>
                  <a:lnTo>
                    <a:pt x="176" y="1291"/>
                  </a:lnTo>
                  <a:lnTo>
                    <a:pt x="144" y="1288"/>
                  </a:lnTo>
                  <a:lnTo>
                    <a:pt x="113" y="1282"/>
                  </a:lnTo>
                  <a:lnTo>
                    <a:pt x="82" y="1274"/>
                  </a:lnTo>
                  <a:lnTo>
                    <a:pt x="51" y="1265"/>
                  </a:lnTo>
                  <a:lnTo>
                    <a:pt x="21" y="1255"/>
                  </a:lnTo>
                  <a:lnTo>
                    <a:pt x="0" y="1247"/>
                  </a:lnTo>
                  <a:lnTo>
                    <a:pt x="0" y="1247"/>
                  </a:lnTo>
                  <a:lnTo>
                    <a:pt x="0" y="1249"/>
                  </a:lnTo>
                  <a:lnTo>
                    <a:pt x="0" y="1251"/>
                  </a:lnTo>
                  <a:lnTo>
                    <a:pt x="0" y="1253"/>
                  </a:lnTo>
                  <a:lnTo>
                    <a:pt x="1" y="1255"/>
                  </a:lnTo>
                  <a:lnTo>
                    <a:pt x="1" y="1255"/>
                  </a:lnTo>
                  <a:lnTo>
                    <a:pt x="1" y="1257"/>
                  </a:lnTo>
                  <a:lnTo>
                    <a:pt x="1" y="1259"/>
                  </a:lnTo>
                  <a:close/>
                </a:path>
              </a:pathLst>
            </a:custGeom>
            <a:solidFill>
              <a:srgbClr val="81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39"/>
            <p:cNvSpPr/>
            <p:nvPr/>
          </p:nvSpPr>
          <p:spPr>
            <a:xfrm>
              <a:off x="2001960" y="2131920"/>
              <a:ext cx="587160" cy="205272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2052720"/>
                <a:gd name="textAreaBottom" fmla="*/ 2053080 h 2052720"/>
              </a:gdLst>
              <a:ahLst/>
              <a:rect l="textAreaLeft" t="textAreaTop" r="textAreaRight" b="textAreaBottom"/>
              <a:pathLst>
                <a:path w="370" h="1293">
                  <a:moveTo>
                    <a:pt x="370" y="13"/>
                  </a:moveTo>
                  <a:lnTo>
                    <a:pt x="343" y="8"/>
                  </a:lnTo>
                  <a:lnTo>
                    <a:pt x="311" y="4"/>
                  </a:lnTo>
                  <a:lnTo>
                    <a:pt x="278" y="2"/>
                  </a:lnTo>
                  <a:lnTo>
                    <a:pt x="243" y="0"/>
                  </a:lnTo>
                  <a:lnTo>
                    <a:pt x="211" y="2"/>
                  </a:lnTo>
                  <a:lnTo>
                    <a:pt x="178" y="4"/>
                  </a:lnTo>
                  <a:lnTo>
                    <a:pt x="146" y="8"/>
                  </a:lnTo>
                  <a:lnTo>
                    <a:pt x="128" y="11"/>
                  </a:lnTo>
                  <a:lnTo>
                    <a:pt x="128" y="11"/>
                  </a:lnTo>
                  <a:lnTo>
                    <a:pt x="128" y="13"/>
                  </a:lnTo>
                  <a:lnTo>
                    <a:pt x="126" y="15"/>
                  </a:lnTo>
                  <a:lnTo>
                    <a:pt x="126" y="15"/>
                  </a:lnTo>
                  <a:lnTo>
                    <a:pt x="126" y="17"/>
                  </a:lnTo>
                  <a:lnTo>
                    <a:pt x="126" y="19"/>
                  </a:lnTo>
                  <a:lnTo>
                    <a:pt x="124" y="21"/>
                  </a:lnTo>
                  <a:lnTo>
                    <a:pt x="124" y="21"/>
                  </a:lnTo>
                  <a:lnTo>
                    <a:pt x="147" y="17"/>
                  </a:lnTo>
                  <a:lnTo>
                    <a:pt x="178" y="13"/>
                  </a:lnTo>
                  <a:lnTo>
                    <a:pt x="211" y="11"/>
                  </a:lnTo>
                  <a:lnTo>
                    <a:pt x="243" y="10"/>
                  </a:lnTo>
                  <a:lnTo>
                    <a:pt x="276" y="11"/>
                  </a:lnTo>
                  <a:lnTo>
                    <a:pt x="309" y="13"/>
                  </a:lnTo>
                  <a:lnTo>
                    <a:pt x="341" y="17"/>
                  </a:lnTo>
                  <a:lnTo>
                    <a:pt x="366" y="23"/>
                  </a:lnTo>
                  <a:lnTo>
                    <a:pt x="366" y="21"/>
                  </a:lnTo>
                  <a:lnTo>
                    <a:pt x="368" y="19"/>
                  </a:lnTo>
                  <a:lnTo>
                    <a:pt x="368" y="19"/>
                  </a:lnTo>
                  <a:lnTo>
                    <a:pt x="368" y="17"/>
                  </a:lnTo>
                  <a:lnTo>
                    <a:pt x="368" y="15"/>
                  </a:lnTo>
                  <a:lnTo>
                    <a:pt x="368" y="15"/>
                  </a:lnTo>
                  <a:lnTo>
                    <a:pt x="370" y="13"/>
                  </a:lnTo>
                  <a:lnTo>
                    <a:pt x="370" y="13"/>
                  </a:lnTo>
                  <a:close/>
                  <a:moveTo>
                    <a:pt x="2" y="1247"/>
                  </a:moveTo>
                  <a:lnTo>
                    <a:pt x="21" y="1255"/>
                  </a:lnTo>
                  <a:lnTo>
                    <a:pt x="51" y="1264"/>
                  </a:lnTo>
                  <a:lnTo>
                    <a:pt x="82" y="1274"/>
                  </a:lnTo>
                  <a:lnTo>
                    <a:pt x="113" y="1280"/>
                  </a:lnTo>
                  <a:lnTo>
                    <a:pt x="146" y="1285"/>
                  </a:lnTo>
                  <a:lnTo>
                    <a:pt x="178" y="1289"/>
                  </a:lnTo>
                  <a:lnTo>
                    <a:pt x="211" y="1293"/>
                  </a:lnTo>
                  <a:lnTo>
                    <a:pt x="243" y="1293"/>
                  </a:lnTo>
                  <a:lnTo>
                    <a:pt x="278" y="1293"/>
                  </a:lnTo>
                  <a:lnTo>
                    <a:pt x="311" y="1289"/>
                  </a:lnTo>
                  <a:lnTo>
                    <a:pt x="343" y="1285"/>
                  </a:lnTo>
                  <a:lnTo>
                    <a:pt x="368" y="1282"/>
                  </a:lnTo>
                  <a:lnTo>
                    <a:pt x="368" y="1280"/>
                  </a:lnTo>
                  <a:lnTo>
                    <a:pt x="368" y="1280"/>
                  </a:lnTo>
                  <a:lnTo>
                    <a:pt x="368" y="1278"/>
                  </a:lnTo>
                  <a:lnTo>
                    <a:pt x="368" y="1276"/>
                  </a:lnTo>
                  <a:lnTo>
                    <a:pt x="366" y="1276"/>
                  </a:lnTo>
                  <a:lnTo>
                    <a:pt x="366" y="1274"/>
                  </a:lnTo>
                  <a:lnTo>
                    <a:pt x="366" y="1272"/>
                  </a:lnTo>
                  <a:lnTo>
                    <a:pt x="366" y="1272"/>
                  </a:lnTo>
                  <a:lnTo>
                    <a:pt x="341" y="1276"/>
                  </a:lnTo>
                  <a:lnTo>
                    <a:pt x="309" y="1280"/>
                  </a:lnTo>
                  <a:lnTo>
                    <a:pt x="276" y="1282"/>
                  </a:lnTo>
                  <a:lnTo>
                    <a:pt x="243" y="1284"/>
                  </a:lnTo>
                  <a:lnTo>
                    <a:pt x="211" y="1282"/>
                  </a:lnTo>
                  <a:lnTo>
                    <a:pt x="178" y="1280"/>
                  </a:lnTo>
                  <a:lnTo>
                    <a:pt x="147" y="1276"/>
                  </a:lnTo>
                  <a:lnTo>
                    <a:pt x="115" y="1270"/>
                  </a:lnTo>
                  <a:lnTo>
                    <a:pt x="84" y="1262"/>
                  </a:lnTo>
                  <a:lnTo>
                    <a:pt x="55" y="1255"/>
                  </a:lnTo>
                  <a:lnTo>
                    <a:pt x="25" y="1245"/>
                  </a:lnTo>
                  <a:lnTo>
                    <a:pt x="0" y="1236"/>
                  </a:lnTo>
                  <a:lnTo>
                    <a:pt x="0" y="1236"/>
                  </a:lnTo>
                  <a:lnTo>
                    <a:pt x="0" y="1237"/>
                  </a:lnTo>
                  <a:lnTo>
                    <a:pt x="2" y="1239"/>
                  </a:lnTo>
                  <a:lnTo>
                    <a:pt x="2" y="1241"/>
                  </a:lnTo>
                  <a:lnTo>
                    <a:pt x="2" y="1241"/>
                  </a:lnTo>
                  <a:lnTo>
                    <a:pt x="2" y="1243"/>
                  </a:lnTo>
                  <a:lnTo>
                    <a:pt x="2" y="1245"/>
                  </a:lnTo>
                  <a:lnTo>
                    <a:pt x="2" y="1247"/>
                  </a:lnTo>
                  <a:close/>
                </a:path>
              </a:pathLst>
            </a:custGeom>
            <a:solidFill>
              <a:srgbClr val="82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40"/>
            <p:cNvSpPr/>
            <p:nvPr/>
          </p:nvSpPr>
          <p:spPr>
            <a:xfrm>
              <a:off x="1998720" y="2141280"/>
              <a:ext cx="587160" cy="20368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2036880"/>
                <a:gd name="textAreaBottom" fmla="*/ 2037240 h 2036880"/>
              </a:gdLst>
              <a:ahLst/>
              <a:rect l="textAreaLeft" t="textAreaTop" r="textAreaRight" b="textAreaBottom"/>
              <a:pathLst>
                <a:path w="370" h="1283">
                  <a:moveTo>
                    <a:pt x="370" y="11"/>
                  </a:moveTo>
                  <a:lnTo>
                    <a:pt x="343" y="7"/>
                  </a:lnTo>
                  <a:lnTo>
                    <a:pt x="311" y="2"/>
                  </a:lnTo>
                  <a:lnTo>
                    <a:pt x="280" y="0"/>
                  </a:lnTo>
                  <a:lnTo>
                    <a:pt x="245" y="0"/>
                  </a:lnTo>
                  <a:lnTo>
                    <a:pt x="213" y="0"/>
                  </a:lnTo>
                  <a:lnTo>
                    <a:pt x="180" y="2"/>
                  </a:lnTo>
                  <a:lnTo>
                    <a:pt x="148" y="7"/>
                  </a:lnTo>
                  <a:lnTo>
                    <a:pt x="128" y="9"/>
                  </a:lnTo>
                  <a:lnTo>
                    <a:pt x="128" y="11"/>
                  </a:lnTo>
                  <a:lnTo>
                    <a:pt x="128" y="13"/>
                  </a:lnTo>
                  <a:lnTo>
                    <a:pt x="126" y="15"/>
                  </a:lnTo>
                  <a:lnTo>
                    <a:pt x="126" y="15"/>
                  </a:lnTo>
                  <a:lnTo>
                    <a:pt x="126" y="17"/>
                  </a:lnTo>
                  <a:lnTo>
                    <a:pt x="124" y="19"/>
                  </a:lnTo>
                  <a:lnTo>
                    <a:pt x="124" y="21"/>
                  </a:lnTo>
                  <a:lnTo>
                    <a:pt x="124" y="21"/>
                  </a:lnTo>
                  <a:lnTo>
                    <a:pt x="149" y="17"/>
                  </a:lnTo>
                  <a:lnTo>
                    <a:pt x="182" y="13"/>
                  </a:lnTo>
                  <a:lnTo>
                    <a:pt x="213" y="11"/>
                  </a:lnTo>
                  <a:lnTo>
                    <a:pt x="245" y="9"/>
                  </a:lnTo>
                  <a:lnTo>
                    <a:pt x="278" y="11"/>
                  </a:lnTo>
                  <a:lnTo>
                    <a:pt x="311" y="13"/>
                  </a:lnTo>
                  <a:lnTo>
                    <a:pt x="341" y="17"/>
                  </a:lnTo>
                  <a:lnTo>
                    <a:pt x="366" y="21"/>
                  </a:lnTo>
                  <a:lnTo>
                    <a:pt x="366" y="21"/>
                  </a:lnTo>
                  <a:lnTo>
                    <a:pt x="368" y="19"/>
                  </a:lnTo>
                  <a:lnTo>
                    <a:pt x="368" y="17"/>
                  </a:lnTo>
                  <a:lnTo>
                    <a:pt x="368" y="17"/>
                  </a:lnTo>
                  <a:lnTo>
                    <a:pt x="368" y="15"/>
                  </a:lnTo>
                  <a:lnTo>
                    <a:pt x="370" y="13"/>
                  </a:lnTo>
                  <a:lnTo>
                    <a:pt x="370" y="13"/>
                  </a:lnTo>
                  <a:lnTo>
                    <a:pt x="370" y="11"/>
                  </a:lnTo>
                  <a:close/>
                  <a:moveTo>
                    <a:pt x="4" y="1235"/>
                  </a:moveTo>
                  <a:lnTo>
                    <a:pt x="25" y="1243"/>
                  </a:lnTo>
                  <a:lnTo>
                    <a:pt x="55" y="1253"/>
                  </a:lnTo>
                  <a:lnTo>
                    <a:pt x="86" y="1262"/>
                  </a:lnTo>
                  <a:lnTo>
                    <a:pt x="117" y="1270"/>
                  </a:lnTo>
                  <a:lnTo>
                    <a:pt x="148" y="1276"/>
                  </a:lnTo>
                  <a:lnTo>
                    <a:pt x="180" y="1279"/>
                  </a:lnTo>
                  <a:lnTo>
                    <a:pt x="213" y="1281"/>
                  </a:lnTo>
                  <a:lnTo>
                    <a:pt x="245" y="1283"/>
                  </a:lnTo>
                  <a:lnTo>
                    <a:pt x="280" y="1281"/>
                  </a:lnTo>
                  <a:lnTo>
                    <a:pt x="311" y="1279"/>
                  </a:lnTo>
                  <a:lnTo>
                    <a:pt x="343" y="1276"/>
                  </a:lnTo>
                  <a:lnTo>
                    <a:pt x="370" y="1270"/>
                  </a:lnTo>
                  <a:lnTo>
                    <a:pt x="368" y="1270"/>
                  </a:lnTo>
                  <a:lnTo>
                    <a:pt x="368" y="1268"/>
                  </a:lnTo>
                  <a:lnTo>
                    <a:pt x="368" y="1266"/>
                  </a:lnTo>
                  <a:lnTo>
                    <a:pt x="368" y="1266"/>
                  </a:lnTo>
                  <a:lnTo>
                    <a:pt x="368" y="1264"/>
                  </a:lnTo>
                  <a:lnTo>
                    <a:pt x="366" y="1262"/>
                  </a:lnTo>
                  <a:lnTo>
                    <a:pt x="366" y="1262"/>
                  </a:lnTo>
                  <a:lnTo>
                    <a:pt x="366" y="1260"/>
                  </a:lnTo>
                  <a:lnTo>
                    <a:pt x="341" y="1264"/>
                  </a:lnTo>
                  <a:lnTo>
                    <a:pt x="311" y="1268"/>
                  </a:lnTo>
                  <a:lnTo>
                    <a:pt x="278" y="1272"/>
                  </a:lnTo>
                  <a:lnTo>
                    <a:pt x="245" y="1272"/>
                  </a:lnTo>
                  <a:lnTo>
                    <a:pt x="213" y="1272"/>
                  </a:lnTo>
                  <a:lnTo>
                    <a:pt x="182" y="1268"/>
                  </a:lnTo>
                  <a:lnTo>
                    <a:pt x="149" y="1264"/>
                  </a:lnTo>
                  <a:lnTo>
                    <a:pt x="119" y="1258"/>
                  </a:lnTo>
                  <a:lnTo>
                    <a:pt x="88" y="1253"/>
                  </a:lnTo>
                  <a:lnTo>
                    <a:pt x="59" y="1243"/>
                  </a:lnTo>
                  <a:lnTo>
                    <a:pt x="29" y="1233"/>
                  </a:lnTo>
                  <a:lnTo>
                    <a:pt x="0" y="1222"/>
                  </a:lnTo>
                  <a:lnTo>
                    <a:pt x="2" y="1224"/>
                  </a:lnTo>
                  <a:lnTo>
                    <a:pt x="2" y="1226"/>
                  </a:lnTo>
                  <a:lnTo>
                    <a:pt x="2" y="1228"/>
                  </a:lnTo>
                  <a:lnTo>
                    <a:pt x="2" y="1230"/>
                  </a:lnTo>
                  <a:lnTo>
                    <a:pt x="2" y="1230"/>
                  </a:lnTo>
                  <a:lnTo>
                    <a:pt x="2" y="1231"/>
                  </a:lnTo>
                  <a:lnTo>
                    <a:pt x="4" y="1233"/>
                  </a:lnTo>
                  <a:lnTo>
                    <a:pt x="4" y="1235"/>
                  </a:lnTo>
                  <a:close/>
                </a:path>
              </a:pathLst>
            </a:custGeom>
            <a:solidFill>
              <a:srgbClr val="83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1"/>
            <p:cNvSpPr/>
            <p:nvPr/>
          </p:nvSpPr>
          <p:spPr>
            <a:xfrm>
              <a:off x="1998720" y="2147760"/>
              <a:ext cx="584280" cy="2022480"/>
            </a:xfrm>
            <a:custGeom>
              <a:avLst/>
              <a:gdLst>
                <a:gd name="textAreaLeft" fmla="*/ 0 w 584280"/>
                <a:gd name="textAreaRight" fmla="*/ 584280 w 584280"/>
                <a:gd name="textAreaTop" fmla="*/ 0 h 2022480"/>
                <a:gd name="textAreaBottom" fmla="*/ 2022840 h 2022480"/>
              </a:gdLst>
              <a:ahLst/>
              <a:rect l="textAreaLeft" t="textAreaTop" r="textAreaRight" b="textAreaBottom"/>
              <a:pathLst>
                <a:path w="368" h="1274">
                  <a:moveTo>
                    <a:pt x="368" y="13"/>
                  </a:moveTo>
                  <a:lnTo>
                    <a:pt x="343" y="7"/>
                  </a:lnTo>
                  <a:lnTo>
                    <a:pt x="311" y="3"/>
                  </a:lnTo>
                  <a:lnTo>
                    <a:pt x="278" y="1"/>
                  </a:lnTo>
                  <a:lnTo>
                    <a:pt x="245" y="0"/>
                  </a:lnTo>
                  <a:lnTo>
                    <a:pt x="213" y="1"/>
                  </a:lnTo>
                  <a:lnTo>
                    <a:pt x="180" y="3"/>
                  </a:lnTo>
                  <a:lnTo>
                    <a:pt x="149" y="7"/>
                  </a:lnTo>
                  <a:lnTo>
                    <a:pt x="126" y="11"/>
                  </a:lnTo>
                  <a:lnTo>
                    <a:pt x="126" y="13"/>
                  </a:lnTo>
                  <a:lnTo>
                    <a:pt x="124" y="15"/>
                  </a:lnTo>
                  <a:lnTo>
                    <a:pt x="124" y="17"/>
                  </a:lnTo>
                  <a:lnTo>
                    <a:pt x="124" y="17"/>
                  </a:lnTo>
                  <a:lnTo>
                    <a:pt x="124" y="19"/>
                  </a:lnTo>
                  <a:lnTo>
                    <a:pt x="123" y="21"/>
                  </a:lnTo>
                  <a:lnTo>
                    <a:pt x="123" y="21"/>
                  </a:lnTo>
                  <a:lnTo>
                    <a:pt x="123" y="23"/>
                  </a:lnTo>
                  <a:lnTo>
                    <a:pt x="151" y="19"/>
                  </a:lnTo>
                  <a:lnTo>
                    <a:pt x="182" y="13"/>
                  </a:lnTo>
                  <a:lnTo>
                    <a:pt x="215" y="11"/>
                  </a:lnTo>
                  <a:lnTo>
                    <a:pt x="245" y="11"/>
                  </a:lnTo>
                  <a:lnTo>
                    <a:pt x="278" y="11"/>
                  </a:lnTo>
                  <a:lnTo>
                    <a:pt x="311" y="13"/>
                  </a:lnTo>
                  <a:lnTo>
                    <a:pt x="341" y="19"/>
                  </a:lnTo>
                  <a:lnTo>
                    <a:pt x="364" y="23"/>
                  </a:lnTo>
                  <a:lnTo>
                    <a:pt x="366" y="21"/>
                  </a:lnTo>
                  <a:lnTo>
                    <a:pt x="366" y="19"/>
                  </a:lnTo>
                  <a:lnTo>
                    <a:pt x="366" y="19"/>
                  </a:lnTo>
                  <a:lnTo>
                    <a:pt x="366" y="17"/>
                  </a:lnTo>
                  <a:lnTo>
                    <a:pt x="366" y="17"/>
                  </a:lnTo>
                  <a:lnTo>
                    <a:pt x="368" y="15"/>
                  </a:lnTo>
                  <a:lnTo>
                    <a:pt x="368" y="13"/>
                  </a:lnTo>
                  <a:lnTo>
                    <a:pt x="368" y="13"/>
                  </a:lnTo>
                  <a:close/>
                  <a:moveTo>
                    <a:pt x="2" y="1226"/>
                  </a:moveTo>
                  <a:lnTo>
                    <a:pt x="27" y="1235"/>
                  </a:lnTo>
                  <a:lnTo>
                    <a:pt x="57" y="1245"/>
                  </a:lnTo>
                  <a:lnTo>
                    <a:pt x="86" y="1252"/>
                  </a:lnTo>
                  <a:lnTo>
                    <a:pt x="117" y="1260"/>
                  </a:lnTo>
                  <a:lnTo>
                    <a:pt x="149" y="1266"/>
                  </a:lnTo>
                  <a:lnTo>
                    <a:pt x="180" y="1270"/>
                  </a:lnTo>
                  <a:lnTo>
                    <a:pt x="213" y="1272"/>
                  </a:lnTo>
                  <a:lnTo>
                    <a:pt x="245" y="1274"/>
                  </a:lnTo>
                  <a:lnTo>
                    <a:pt x="278" y="1272"/>
                  </a:lnTo>
                  <a:lnTo>
                    <a:pt x="311" y="1270"/>
                  </a:lnTo>
                  <a:lnTo>
                    <a:pt x="343" y="1266"/>
                  </a:lnTo>
                  <a:lnTo>
                    <a:pt x="368" y="1262"/>
                  </a:lnTo>
                  <a:lnTo>
                    <a:pt x="368" y="1260"/>
                  </a:lnTo>
                  <a:lnTo>
                    <a:pt x="366" y="1258"/>
                  </a:lnTo>
                  <a:lnTo>
                    <a:pt x="366" y="1258"/>
                  </a:lnTo>
                  <a:lnTo>
                    <a:pt x="366" y="1256"/>
                  </a:lnTo>
                  <a:lnTo>
                    <a:pt x="366" y="1256"/>
                  </a:lnTo>
                  <a:lnTo>
                    <a:pt x="366" y="1254"/>
                  </a:lnTo>
                  <a:lnTo>
                    <a:pt x="364" y="1252"/>
                  </a:lnTo>
                  <a:lnTo>
                    <a:pt x="364" y="1252"/>
                  </a:lnTo>
                  <a:lnTo>
                    <a:pt x="341" y="1256"/>
                  </a:lnTo>
                  <a:lnTo>
                    <a:pt x="311" y="1260"/>
                  </a:lnTo>
                  <a:lnTo>
                    <a:pt x="278" y="1262"/>
                  </a:lnTo>
                  <a:lnTo>
                    <a:pt x="245" y="1262"/>
                  </a:lnTo>
                  <a:lnTo>
                    <a:pt x="215" y="1262"/>
                  </a:lnTo>
                  <a:lnTo>
                    <a:pt x="182" y="1260"/>
                  </a:lnTo>
                  <a:lnTo>
                    <a:pt x="151" y="1256"/>
                  </a:lnTo>
                  <a:lnTo>
                    <a:pt x="121" y="1250"/>
                  </a:lnTo>
                  <a:lnTo>
                    <a:pt x="90" y="1243"/>
                  </a:lnTo>
                  <a:lnTo>
                    <a:pt x="59" y="1235"/>
                  </a:lnTo>
                  <a:lnTo>
                    <a:pt x="30" y="1226"/>
                  </a:lnTo>
                  <a:lnTo>
                    <a:pt x="2" y="1214"/>
                  </a:lnTo>
                  <a:lnTo>
                    <a:pt x="0" y="1212"/>
                  </a:lnTo>
                  <a:lnTo>
                    <a:pt x="0" y="1214"/>
                  </a:lnTo>
                  <a:lnTo>
                    <a:pt x="0" y="1216"/>
                  </a:lnTo>
                  <a:lnTo>
                    <a:pt x="0" y="1218"/>
                  </a:lnTo>
                  <a:lnTo>
                    <a:pt x="0" y="1218"/>
                  </a:lnTo>
                  <a:lnTo>
                    <a:pt x="2" y="1220"/>
                  </a:lnTo>
                  <a:lnTo>
                    <a:pt x="2" y="1222"/>
                  </a:lnTo>
                  <a:lnTo>
                    <a:pt x="2" y="1224"/>
                  </a:lnTo>
                  <a:lnTo>
                    <a:pt x="2" y="1226"/>
                  </a:lnTo>
                  <a:close/>
                </a:path>
              </a:pathLst>
            </a:custGeom>
            <a:solidFill>
              <a:srgbClr val="84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42"/>
            <p:cNvSpPr/>
            <p:nvPr/>
          </p:nvSpPr>
          <p:spPr>
            <a:xfrm>
              <a:off x="1995480" y="2155680"/>
              <a:ext cx="584280" cy="2004840"/>
            </a:xfrm>
            <a:custGeom>
              <a:avLst/>
              <a:gdLst>
                <a:gd name="textAreaLeft" fmla="*/ 0 w 584280"/>
                <a:gd name="textAreaRight" fmla="*/ 584280 w 584280"/>
                <a:gd name="textAreaTop" fmla="*/ 0 h 2004840"/>
                <a:gd name="textAreaBottom" fmla="*/ 2005200 h 2004840"/>
              </a:gdLst>
              <a:ahLst/>
              <a:rect l="textAreaLeft" t="textAreaTop" r="textAreaRight" b="textAreaBottom"/>
              <a:pathLst>
                <a:path w="368" h="1263">
                  <a:moveTo>
                    <a:pt x="368" y="12"/>
                  </a:moveTo>
                  <a:lnTo>
                    <a:pt x="343" y="8"/>
                  </a:lnTo>
                  <a:lnTo>
                    <a:pt x="313" y="4"/>
                  </a:lnTo>
                  <a:lnTo>
                    <a:pt x="280" y="2"/>
                  </a:lnTo>
                  <a:lnTo>
                    <a:pt x="247" y="0"/>
                  </a:lnTo>
                  <a:lnTo>
                    <a:pt x="215" y="2"/>
                  </a:lnTo>
                  <a:lnTo>
                    <a:pt x="184" y="4"/>
                  </a:lnTo>
                  <a:lnTo>
                    <a:pt x="151" y="8"/>
                  </a:lnTo>
                  <a:lnTo>
                    <a:pt x="126" y="12"/>
                  </a:lnTo>
                  <a:lnTo>
                    <a:pt x="126" y="14"/>
                  </a:lnTo>
                  <a:lnTo>
                    <a:pt x="125" y="16"/>
                  </a:lnTo>
                  <a:lnTo>
                    <a:pt x="125" y="18"/>
                  </a:lnTo>
                  <a:lnTo>
                    <a:pt x="125" y="18"/>
                  </a:lnTo>
                  <a:lnTo>
                    <a:pt x="123" y="19"/>
                  </a:lnTo>
                  <a:lnTo>
                    <a:pt x="123" y="21"/>
                  </a:lnTo>
                  <a:lnTo>
                    <a:pt x="123" y="21"/>
                  </a:lnTo>
                  <a:lnTo>
                    <a:pt x="123" y="23"/>
                  </a:lnTo>
                  <a:lnTo>
                    <a:pt x="123" y="23"/>
                  </a:lnTo>
                  <a:lnTo>
                    <a:pt x="153" y="18"/>
                  </a:lnTo>
                  <a:lnTo>
                    <a:pt x="184" y="14"/>
                  </a:lnTo>
                  <a:lnTo>
                    <a:pt x="217" y="12"/>
                  </a:lnTo>
                  <a:lnTo>
                    <a:pt x="247" y="10"/>
                  </a:lnTo>
                  <a:lnTo>
                    <a:pt x="280" y="12"/>
                  </a:lnTo>
                  <a:lnTo>
                    <a:pt x="311" y="14"/>
                  </a:lnTo>
                  <a:lnTo>
                    <a:pt x="343" y="18"/>
                  </a:lnTo>
                  <a:lnTo>
                    <a:pt x="366" y="21"/>
                  </a:lnTo>
                  <a:lnTo>
                    <a:pt x="366" y="21"/>
                  </a:lnTo>
                  <a:lnTo>
                    <a:pt x="366" y="19"/>
                  </a:lnTo>
                  <a:lnTo>
                    <a:pt x="366" y="18"/>
                  </a:lnTo>
                  <a:lnTo>
                    <a:pt x="366" y="18"/>
                  </a:lnTo>
                  <a:lnTo>
                    <a:pt x="368" y="16"/>
                  </a:lnTo>
                  <a:lnTo>
                    <a:pt x="368" y="14"/>
                  </a:lnTo>
                  <a:lnTo>
                    <a:pt x="368" y="14"/>
                  </a:lnTo>
                  <a:lnTo>
                    <a:pt x="368" y="12"/>
                  </a:lnTo>
                  <a:close/>
                  <a:moveTo>
                    <a:pt x="2" y="1213"/>
                  </a:moveTo>
                  <a:lnTo>
                    <a:pt x="31" y="1224"/>
                  </a:lnTo>
                  <a:lnTo>
                    <a:pt x="61" y="1234"/>
                  </a:lnTo>
                  <a:lnTo>
                    <a:pt x="90" y="1244"/>
                  </a:lnTo>
                  <a:lnTo>
                    <a:pt x="121" y="1249"/>
                  </a:lnTo>
                  <a:lnTo>
                    <a:pt x="151" y="1255"/>
                  </a:lnTo>
                  <a:lnTo>
                    <a:pt x="184" y="1259"/>
                  </a:lnTo>
                  <a:lnTo>
                    <a:pt x="215" y="1263"/>
                  </a:lnTo>
                  <a:lnTo>
                    <a:pt x="247" y="1263"/>
                  </a:lnTo>
                  <a:lnTo>
                    <a:pt x="280" y="1263"/>
                  </a:lnTo>
                  <a:lnTo>
                    <a:pt x="313" y="1259"/>
                  </a:lnTo>
                  <a:lnTo>
                    <a:pt x="343" y="1255"/>
                  </a:lnTo>
                  <a:lnTo>
                    <a:pt x="368" y="1251"/>
                  </a:lnTo>
                  <a:lnTo>
                    <a:pt x="368" y="1251"/>
                  </a:lnTo>
                  <a:lnTo>
                    <a:pt x="368" y="1249"/>
                  </a:lnTo>
                  <a:lnTo>
                    <a:pt x="366" y="1247"/>
                  </a:lnTo>
                  <a:lnTo>
                    <a:pt x="366" y="1247"/>
                  </a:lnTo>
                  <a:lnTo>
                    <a:pt x="366" y="1245"/>
                  </a:lnTo>
                  <a:lnTo>
                    <a:pt x="366" y="1244"/>
                  </a:lnTo>
                  <a:lnTo>
                    <a:pt x="366" y="1244"/>
                  </a:lnTo>
                  <a:lnTo>
                    <a:pt x="364" y="1242"/>
                  </a:lnTo>
                  <a:lnTo>
                    <a:pt x="343" y="1245"/>
                  </a:lnTo>
                  <a:lnTo>
                    <a:pt x="311" y="1249"/>
                  </a:lnTo>
                  <a:lnTo>
                    <a:pt x="280" y="1251"/>
                  </a:lnTo>
                  <a:lnTo>
                    <a:pt x="247" y="1253"/>
                  </a:lnTo>
                  <a:lnTo>
                    <a:pt x="217" y="1251"/>
                  </a:lnTo>
                  <a:lnTo>
                    <a:pt x="184" y="1249"/>
                  </a:lnTo>
                  <a:lnTo>
                    <a:pt x="153" y="1245"/>
                  </a:lnTo>
                  <a:lnTo>
                    <a:pt x="123" y="1240"/>
                  </a:lnTo>
                  <a:lnTo>
                    <a:pt x="92" y="1234"/>
                  </a:lnTo>
                  <a:lnTo>
                    <a:pt x="63" y="1224"/>
                  </a:lnTo>
                  <a:lnTo>
                    <a:pt x="34" y="1215"/>
                  </a:lnTo>
                  <a:lnTo>
                    <a:pt x="6" y="1203"/>
                  </a:lnTo>
                  <a:lnTo>
                    <a:pt x="0" y="1201"/>
                  </a:lnTo>
                  <a:lnTo>
                    <a:pt x="0" y="1203"/>
                  </a:lnTo>
                  <a:lnTo>
                    <a:pt x="2" y="1205"/>
                  </a:lnTo>
                  <a:lnTo>
                    <a:pt x="2" y="1205"/>
                  </a:lnTo>
                  <a:lnTo>
                    <a:pt x="2" y="1207"/>
                  </a:lnTo>
                  <a:lnTo>
                    <a:pt x="2" y="1209"/>
                  </a:lnTo>
                  <a:lnTo>
                    <a:pt x="2" y="1211"/>
                  </a:lnTo>
                  <a:lnTo>
                    <a:pt x="2" y="1213"/>
                  </a:lnTo>
                  <a:lnTo>
                    <a:pt x="2" y="1213"/>
                  </a:lnTo>
                  <a:close/>
                </a:path>
              </a:pathLst>
            </a:custGeom>
            <a:solidFill>
              <a:srgbClr val="85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43"/>
            <p:cNvSpPr/>
            <p:nvPr/>
          </p:nvSpPr>
          <p:spPr>
            <a:xfrm>
              <a:off x="1995480" y="2165040"/>
              <a:ext cx="581040" cy="198612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986120"/>
                <a:gd name="textAreaBottom" fmla="*/ 1986480 h 1986120"/>
              </a:gdLst>
              <a:ahLst/>
              <a:rect l="textAreaLeft" t="textAreaTop" r="textAreaRight" b="textAreaBottom"/>
              <a:pathLst>
                <a:path w="366" h="1251">
                  <a:moveTo>
                    <a:pt x="366" y="12"/>
                  </a:moveTo>
                  <a:lnTo>
                    <a:pt x="343" y="8"/>
                  </a:lnTo>
                  <a:lnTo>
                    <a:pt x="313" y="2"/>
                  </a:lnTo>
                  <a:lnTo>
                    <a:pt x="280" y="0"/>
                  </a:lnTo>
                  <a:lnTo>
                    <a:pt x="247" y="0"/>
                  </a:lnTo>
                  <a:lnTo>
                    <a:pt x="217" y="0"/>
                  </a:lnTo>
                  <a:lnTo>
                    <a:pt x="184" y="2"/>
                  </a:lnTo>
                  <a:lnTo>
                    <a:pt x="153" y="8"/>
                  </a:lnTo>
                  <a:lnTo>
                    <a:pt x="125" y="12"/>
                  </a:lnTo>
                  <a:lnTo>
                    <a:pt x="123" y="13"/>
                  </a:lnTo>
                  <a:lnTo>
                    <a:pt x="123" y="15"/>
                  </a:lnTo>
                  <a:lnTo>
                    <a:pt x="123" y="15"/>
                  </a:lnTo>
                  <a:lnTo>
                    <a:pt x="123" y="17"/>
                  </a:lnTo>
                  <a:lnTo>
                    <a:pt x="121" y="19"/>
                  </a:lnTo>
                  <a:lnTo>
                    <a:pt x="121" y="21"/>
                  </a:lnTo>
                  <a:lnTo>
                    <a:pt x="121" y="21"/>
                  </a:lnTo>
                  <a:lnTo>
                    <a:pt x="119" y="23"/>
                  </a:lnTo>
                  <a:lnTo>
                    <a:pt x="125" y="23"/>
                  </a:lnTo>
                  <a:lnTo>
                    <a:pt x="153" y="17"/>
                  </a:lnTo>
                  <a:lnTo>
                    <a:pt x="186" y="13"/>
                  </a:lnTo>
                  <a:lnTo>
                    <a:pt x="217" y="12"/>
                  </a:lnTo>
                  <a:lnTo>
                    <a:pt x="247" y="10"/>
                  </a:lnTo>
                  <a:lnTo>
                    <a:pt x="280" y="12"/>
                  </a:lnTo>
                  <a:lnTo>
                    <a:pt x="311" y="13"/>
                  </a:lnTo>
                  <a:lnTo>
                    <a:pt x="341" y="17"/>
                  </a:lnTo>
                  <a:lnTo>
                    <a:pt x="364" y="21"/>
                  </a:lnTo>
                  <a:lnTo>
                    <a:pt x="364" y="19"/>
                  </a:lnTo>
                  <a:lnTo>
                    <a:pt x="364" y="19"/>
                  </a:lnTo>
                  <a:lnTo>
                    <a:pt x="364" y="17"/>
                  </a:lnTo>
                  <a:lnTo>
                    <a:pt x="366" y="15"/>
                  </a:lnTo>
                  <a:lnTo>
                    <a:pt x="366" y="15"/>
                  </a:lnTo>
                  <a:lnTo>
                    <a:pt x="366" y="13"/>
                  </a:lnTo>
                  <a:lnTo>
                    <a:pt x="366" y="12"/>
                  </a:lnTo>
                  <a:lnTo>
                    <a:pt x="366" y="12"/>
                  </a:lnTo>
                  <a:close/>
                  <a:moveTo>
                    <a:pt x="2" y="1201"/>
                  </a:moveTo>
                  <a:lnTo>
                    <a:pt x="4" y="1203"/>
                  </a:lnTo>
                  <a:lnTo>
                    <a:pt x="32" y="1215"/>
                  </a:lnTo>
                  <a:lnTo>
                    <a:pt x="61" y="1224"/>
                  </a:lnTo>
                  <a:lnTo>
                    <a:pt x="92" y="1232"/>
                  </a:lnTo>
                  <a:lnTo>
                    <a:pt x="123" y="1239"/>
                  </a:lnTo>
                  <a:lnTo>
                    <a:pt x="153" y="1245"/>
                  </a:lnTo>
                  <a:lnTo>
                    <a:pt x="184" y="1249"/>
                  </a:lnTo>
                  <a:lnTo>
                    <a:pt x="217" y="1251"/>
                  </a:lnTo>
                  <a:lnTo>
                    <a:pt x="247" y="1251"/>
                  </a:lnTo>
                  <a:lnTo>
                    <a:pt x="280" y="1251"/>
                  </a:lnTo>
                  <a:lnTo>
                    <a:pt x="313" y="1249"/>
                  </a:lnTo>
                  <a:lnTo>
                    <a:pt x="343" y="1245"/>
                  </a:lnTo>
                  <a:lnTo>
                    <a:pt x="366" y="1241"/>
                  </a:lnTo>
                  <a:lnTo>
                    <a:pt x="366" y="1239"/>
                  </a:lnTo>
                  <a:lnTo>
                    <a:pt x="366" y="1238"/>
                  </a:lnTo>
                  <a:lnTo>
                    <a:pt x="366" y="1238"/>
                  </a:lnTo>
                  <a:lnTo>
                    <a:pt x="364" y="1236"/>
                  </a:lnTo>
                  <a:lnTo>
                    <a:pt x="364" y="1234"/>
                  </a:lnTo>
                  <a:lnTo>
                    <a:pt x="364" y="1234"/>
                  </a:lnTo>
                  <a:lnTo>
                    <a:pt x="364" y="1232"/>
                  </a:lnTo>
                  <a:lnTo>
                    <a:pt x="364" y="1230"/>
                  </a:lnTo>
                  <a:lnTo>
                    <a:pt x="341" y="1234"/>
                  </a:lnTo>
                  <a:lnTo>
                    <a:pt x="311" y="1238"/>
                  </a:lnTo>
                  <a:lnTo>
                    <a:pt x="280" y="1241"/>
                  </a:lnTo>
                  <a:lnTo>
                    <a:pt x="247" y="1241"/>
                  </a:lnTo>
                  <a:lnTo>
                    <a:pt x="217" y="1241"/>
                  </a:lnTo>
                  <a:lnTo>
                    <a:pt x="186" y="1238"/>
                  </a:lnTo>
                  <a:lnTo>
                    <a:pt x="153" y="1234"/>
                  </a:lnTo>
                  <a:lnTo>
                    <a:pt x="125" y="1230"/>
                  </a:lnTo>
                  <a:lnTo>
                    <a:pt x="94" y="1222"/>
                  </a:lnTo>
                  <a:lnTo>
                    <a:pt x="65" y="1215"/>
                  </a:lnTo>
                  <a:lnTo>
                    <a:pt x="36" y="1205"/>
                  </a:lnTo>
                  <a:lnTo>
                    <a:pt x="7" y="1193"/>
                  </a:lnTo>
                  <a:lnTo>
                    <a:pt x="0" y="1190"/>
                  </a:lnTo>
                  <a:lnTo>
                    <a:pt x="0" y="1192"/>
                  </a:lnTo>
                  <a:lnTo>
                    <a:pt x="0" y="1192"/>
                  </a:lnTo>
                  <a:lnTo>
                    <a:pt x="0" y="1193"/>
                  </a:lnTo>
                  <a:lnTo>
                    <a:pt x="0" y="1195"/>
                  </a:lnTo>
                  <a:lnTo>
                    <a:pt x="0" y="1197"/>
                  </a:lnTo>
                  <a:lnTo>
                    <a:pt x="2" y="1199"/>
                  </a:lnTo>
                  <a:lnTo>
                    <a:pt x="2" y="1199"/>
                  </a:lnTo>
                  <a:lnTo>
                    <a:pt x="2" y="1201"/>
                  </a:lnTo>
                  <a:close/>
                </a:path>
              </a:pathLst>
            </a:custGeom>
            <a:solidFill>
              <a:srgbClr val="86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44"/>
            <p:cNvSpPr/>
            <p:nvPr/>
          </p:nvSpPr>
          <p:spPr>
            <a:xfrm>
              <a:off x="1992240" y="2171520"/>
              <a:ext cx="584280" cy="1973160"/>
            </a:xfrm>
            <a:custGeom>
              <a:avLst/>
              <a:gdLst>
                <a:gd name="textAreaLeft" fmla="*/ 0 w 584280"/>
                <a:gd name="textAreaRight" fmla="*/ 584280 w 584280"/>
                <a:gd name="textAreaTop" fmla="*/ 0 h 1973160"/>
                <a:gd name="textAreaBottom" fmla="*/ 1973520 h 1973160"/>
              </a:gdLst>
              <a:ahLst/>
              <a:rect l="textAreaLeft" t="textAreaTop" r="textAreaRight" b="textAreaBottom"/>
              <a:pathLst>
                <a:path w="368" h="1243">
                  <a:moveTo>
                    <a:pt x="368" y="11"/>
                  </a:moveTo>
                  <a:lnTo>
                    <a:pt x="345" y="8"/>
                  </a:lnTo>
                  <a:lnTo>
                    <a:pt x="313" y="4"/>
                  </a:lnTo>
                  <a:lnTo>
                    <a:pt x="282" y="2"/>
                  </a:lnTo>
                  <a:lnTo>
                    <a:pt x="249" y="0"/>
                  </a:lnTo>
                  <a:lnTo>
                    <a:pt x="219" y="2"/>
                  </a:lnTo>
                  <a:lnTo>
                    <a:pt x="186" y="4"/>
                  </a:lnTo>
                  <a:lnTo>
                    <a:pt x="155" y="8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3" y="15"/>
                  </a:lnTo>
                  <a:lnTo>
                    <a:pt x="123" y="17"/>
                  </a:lnTo>
                  <a:lnTo>
                    <a:pt x="123" y="17"/>
                  </a:lnTo>
                  <a:lnTo>
                    <a:pt x="121" y="19"/>
                  </a:lnTo>
                  <a:lnTo>
                    <a:pt x="121" y="21"/>
                  </a:lnTo>
                  <a:lnTo>
                    <a:pt x="121" y="23"/>
                  </a:lnTo>
                  <a:lnTo>
                    <a:pt x="121" y="23"/>
                  </a:lnTo>
                  <a:lnTo>
                    <a:pt x="119" y="25"/>
                  </a:lnTo>
                  <a:lnTo>
                    <a:pt x="127" y="23"/>
                  </a:lnTo>
                  <a:lnTo>
                    <a:pt x="157" y="17"/>
                  </a:lnTo>
                  <a:lnTo>
                    <a:pt x="188" y="13"/>
                  </a:lnTo>
                  <a:lnTo>
                    <a:pt x="219" y="11"/>
                  </a:lnTo>
                  <a:lnTo>
                    <a:pt x="249" y="11"/>
                  </a:lnTo>
                  <a:lnTo>
                    <a:pt x="282" y="11"/>
                  </a:lnTo>
                  <a:lnTo>
                    <a:pt x="313" y="13"/>
                  </a:lnTo>
                  <a:lnTo>
                    <a:pt x="343" y="17"/>
                  </a:lnTo>
                  <a:lnTo>
                    <a:pt x="365" y="21"/>
                  </a:lnTo>
                  <a:lnTo>
                    <a:pt x="365" y="21"/>
                  </a:lnTo>
                  <a:lnTo>
                    <a:pt x="365" y="19"/>
                  </a:lnTo>
                  <a:lnTo>
                    <a:pt x="365" y="19"/>
                  </a:lnTo>
                  <a:lnTo>
                    <a:pt x="366" y="17"/>
                  </a:lnTo>
                  <a:lnTo>
                    <a:pt x="366" y="15"/>
                  </a:lnTo>
                  <a:lnTo>
                    <a:pt x="366" y="15"/>
                  </a:lnTo>
                  <a:lnTo>
                    <a:pt x="366" y="13"/>
                  </a:lnTo>
                  <a:lnTo>
                    <a:pt x="368" y="11"/>
                  </a:lnTo>
                  <a:close/>
                  <a:moveTo>
                    <a:pt x="2" y="1191"/>
                  </a:moveTo>
                  <a:lnTo>
                    <a:pt x="8" y="1193"/>
                  </a:lnTo>
                  <a:lnTo>
                    <a:pt x="36" y="1205"/>
                  </a:lnTo>
                  <a:lnTo>
                    <a:pt x="65" y="1214"/>
                  </a:lnTo>
                  <a:lnTo>
                    <a:pt x="94" y="1224"/>
                  </a:lnTo>
                  <a:lnTo>
                    <a:pt x="125" y="1230"/>
                  </a:lnTo>
                  <a:lnTo>
                    <a:pt x="155" y="1235"/>
                  </a:lnTo>
                  <a:lnTo>
                    <a:pt x="186" y="1239"/>
                  </a:lnTo>
                  <a:lnTo>
                    <a:pt x="219" y="1241"/>
                  </a:lnTo>
                  <a:lnTo>
                    <a:pt x="249" y="1243"/>
                  </a:lnTo>
                  <a:lnTo>
                    <a:pt x="282" y="1241"/>
                  </a:lnTo>
                  <a:lnTo>
                    <a:pt x="313" y="1239"/>
                  </a:lnTo>
                  <a:lnTo>
                    <a:pt x="345" y="1235"/>
                  </a:lnTo>
                  <a:lnTo>
                    <a:pt x="366" y="1232"/>
                  </a:lnTo>
                  <a:lnTo>
                    <a:pt x="366" y="1230"/>
                  </a:lnTo>
                  <a:lnTo>
                    <a:pt x="366" y="1230"/>
                  </a:lnTo>
                  <a:lnTo>
                    <a:pt x="366" y="1228"/>
                  </a:lnTo>
                  <a:lnTo>
                    <a:pt x="366" y="1226"/>
                  </a:lnTo>
                  <a:lnTo>
                    <a:pt x="365" y="1226"/>
                  </a:lnTo>
                  <a:lnTo>
                    <a:pt x="365" y="1224"/>
                  </a:lnTo>
                  <a:lnTo>
                    <a:pt x="365" y="1222"/>
                  </a:lnTo>
                  <a:lnTo>
                    <a:pt x="365" y="1222"/>
                  </a:lnTo>
                  <a:lnTo>
                    <a:pt x="343" y="1226"/>
                  </a:lnTo>
                  <a:lnTo>
                    <a:pt x="313" y="1230"/>
                  </a:lnTo>
                  <a:lnTo>
                    <a:pt x="282" y="1232"/>
                  </a:lnTo>
                  <a:lnTo>
                    <a:pt x="249" y="1232"/>
                  </a:lnTo>
                  <a:lnTo>
                    <a:pt x="219" y="1232"/>
                  </a:lnTo>
                  <a:lnTo>
                    <a:pt x="188" y="1230"/>
                  </a:lnTo>
                  <a:lnTo>
                    <a:pt x="157" y="1226"/>
                  </a:lnTo>
                  <a:lnTo>
                    <a:pt x="127" y="1220"/>
                  </a:lnTo>
                  <a:lnTo>
                    <a:pt x="98" y="1212"/>
                  </a:lnTo>
                  <a:lnTo>
                    <a:pt x="69" y="1205"/>
                  </a:lnTo>
                  <a:lnTo>
                    <a:pt x="40" y="1195"/>
                  </a:lnTo>
                  <a:lnTo>
                    <a:pt x="11" y="1184"/>
                  </a:lnTo>
                  <a:lnTo>
                    <a:pt x="0" y="1180"/>
                  </a:lnTo>
                  <a:lnTo>
                    <a:pt x="0" y="1180"/>
                  </a:lnTo>
                  <a:lnTo>
                    <a:pt x="0" y="1182"/>
                  </a:lnTo>
                  <a:lnTo>
                    <a:pt x="0" y="1184"/>
                  </a:lnTo>
                  <a:lnTo>
                    <a:pt x="2" y="1186"/>
                  </a:lnTo>
                  <a:lnTo>
                    <a:pt x="2" y="1188"/>
                  </a:lnTo>
                  <a:lnTo>
                    <a:pt x="2" y="1188"/>
                  </a:lnTo>
                  <a:lnTo>
                    <a:pt x="2" y="1189"/>
                  </a:lnTo>
                  <a:lnTo>
                    <a:pt x="2" y="1191"/>
                  </a:lnTo>
                  <a:close/>
                </a:path>
              </a:pathLst>
            </a:custGeom>
            <a:solidFill>
              <a:srgbClr val="87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45"/>
            <p:cNvSpPr/>
            <p:nvPr/>
          </p:nvSpPr>
          <p:spPr>
            <a:xfrm>
              <a:off x="1989000" y="2180880"/>
              <a:ext cx="584280" cy="1954440"/>
            </a:xfrm>
            <a:custGeom>
              <a:avLst/>
              <a:gdLst>
                <a:gd name="textAreaLeft" fmla="*/ 0 w 584280"/>
                <a:gd name="textAreaRight" fmla="*/ 584280 w 584280"/>
                <a:gd name="textAreaTop" fmla="*/ 0 h 1954440"/>
                <a:gd name="textAreaBottom" fmla="*/ 1954800 h 1954440"/>
              </a:gdLst>
              <a:ahLst/>
              <a:rect l="textAreaLeft" t="textAreaTop" r="textAreaRight" b="textAreaBottom"/>
              <a:pathLst>
                <a:path w="368" h="1231">
                  <a:moveTo>
                    <a:pt x="368" y="11"/>
                  </a:moveTo>
                  <a:lnTo>
                    <a:pt x="345" y="7"/>
                  </a:lnTo>
                  <a:lnTo>
                    <a:pt x="315" y="3"/>
                  </a:lnTo>
                  <a:lnTo>
                    <a:pt x="284" y="2"/>
                  </a:lnTo>
                  <a:lnTo>
                    <a:pt x="251" y="0"/>
                  </a:lnTo>
                  <a:lnTo>
                    <a:pt x="221" y="2"/>
                  </a:lnTo>
                  <a:lnTo>
                    <a:pt x="190" y="3"/>
                  </a:lnTo>
                  <a:lnTo>
                    <a:pt x="157" y="7"/>
                  </a:lnTo>
                  <a:lnTo>
                    <a:pt x="129" y="13"/>
                  </a:lnTo>
                  <a:lnTo>
                    <a:pt x="123" y="13"/>
                  </a:lnTo>
                  <a:lnTo>
                    <a:pt x="123" y="15"/>
                  </a:lnTo>
                  <a:lnTo>
                    <a:pt x="123" y="17"/>
                  </a:lnTo>
                  <a:lnTo>
                    <a:pt x="123" y="17"/>
                  </a:lnTo>
                  <a:lnTo>
                    <a:pt x="121" y="19"/>
                  </a:lnTo>
                  <a:lnTo>
                    <a:pt x="121" y="21"/>
                  </a:lnTo>
                  <a:lnTo>
                    <a:pt x="121" y="23"/>
                  </a:lnTo>
                  <a:lnTo>
                    <a:pt x="119" y="23"/>
                  </a:lnTo>
                  <a:lnTo>
                    <a:pt x="119" y="25"/>
                  </a:lnTo>
                  <a:lnTo>
                    <a:pt x="130" y="23"/>
                  </a:lnTo>
                  <a:lnTo>
                    <a:pt x="159" y="17"/>
                  </a:lnTo>
                  <a:lnTo>
                    <a:pt x="190" y="13"/>
                  </a:lnTo>
                  <a:lnTo>
                    <a:pt x="221" y="11"/>
                  </a:lnTo>
                  <a:lnTo>
                    <a:pt x="251" y="9"/>
                  </a:lnTo>
                  <a:lnTo>
                    <a:pt x="284" y="11"/>
                  </a:lnTo>
                  <a:lnTo>
                    <a:pt x="315" y="13"/>
                  </a:lnTo>
                  <a:lnTo>
                    <a:pt x="344" y="17"/>
                  </a:lnTo>
                  <a:lnTo>
                    <a:pt x="365" y="21"/>
                  </a:lnTo>
                  <a:lnTo>
                    <a:pt x="365" y="19"/>
                  </a:lnTo>
                  <a:lnTo>
                    <a:pt x="365" y="19"/>
                  </a:lnTo>
                  <a:lnTo>
                    <a:pt x="367" y="17"/>
                  </a:lnTo>
                  <a:lnTo>
                    <a:pt x="367" y="15"/>
                  </a:lnTo>
                  <a:lnTo>
                    <a:pt x="367" y="15"/>
                  </a:lnTo>
                  <a:lnTo>
                    <a:pt x="367" y="13"/>
                  </a:lnTo>
                  <a:lnTo>
                    <a:pt x="367" y="13"/>
                  </a:lnTo>
                  <a:lnTo>
                    <a:pt x="368" y="11"/>
                  </a:lnTo>
                  <a:close/>
                  <a:moveTo>
                    <a:pt x="4" y="1180"/>
                  </a:moveTo>
                  <a:lnTo>
                    <a:pt x="11" y="1183"/>
                  </a:lnTo>
                  <a:lnTo>
                    <a:pt x="40" y="1195"/>
                  </a:lnTo>
                  <a:lnTo>
                    <a:pt x="69" y="1205"/>
                  </a:lnTo>
                  <a:lnTo>
                    <a:pt x="98" y="1212"/>
                  </a:lnTo>
                  <a:lnTo>
                    <a:pt x="129" y="1220"/>
                  </a:lnTo>
                  <a:lnTo>
                    <a:pt x="157" y="1224"/>
                  </a:lnTo>
                  <a:lnTo>
                    <a:pt x="190" y="1228"/>
                  </a:lnTo>
                  <a:lnTo>
                    <a:pt x="221" y="1231"/>
                  </a:lnTo>
                  <a:lnTo>
                    <a:pt x="251" y="1231"/>
                  </a:lnTo>
                  <a:lnTo>
                    <a:pt x="284" y="1231"/>
                  </a:lnTo>
                  <a:lnTo>
                    <a:pt x="315" y="1228"/>
                  </a:lnTo>
                  <a:lnTo>
                    <a:pt x="345" y="1224"/>
                  </a:lnTo>
                  <a:lnTo>
                    <a:pt x="368" y="1220"/>
                  </a:lnTo>
                  <a:lnTo>
                    <a:pt x="367" y="1220"/>
                  </a:lnTo>
                  <a:lnTo>
                    <a:pt x="367" y="1218"/>
                  </a:lnTo>
                  <a:lnTo>
                    <a:pt x="367" y="1216"/>
                  </a:lnTo>
                  <a:lnTo>
                    <a:pt x="367" y="1216"/>
                  </a:lnTo>
                  <a:lnTo>
                    <a:pt x="367" y="1214"/>
                  </a:lnTo>
                  <a:lnTo>
                    <a:pt x="365" y="1214"/>
                  </a:lnTo>
                  <a:lnTo>
                    <a:pt x="365" y="1212"/>
                  </a:lnTo>
                  <a:lnTo>
                    <a:pt x="365" y="1210"/>
                  </a:lnTo>
                  <a:lnTo>
                    <a:pt x="344" y="1214"/>
                  </a:lnTo>
                  <a:lnTo>
                    <a:pt x="315" y="1218"/>
                  </a:lnTo>
                  <a:lnTo>
                    <a:pt x="284" y="1220"/>
                  </a:lnTo>
                  <a:lnTo>
                    <a:pt x="251" y="1222"/>
                  </a:lnTo>
                  <a:lnTo>
                    <a:pt x="221" y="1220"/>
                  </a:lnTo>
                  <a:lnTo>
                    <a:pt x="190" y="1218"/>
                  </a:lnTo>
                  <a:lnTo>
                    <a:pt x="159" y="1214"/>
                  </a:lnTo>
                  <a:lnTo>
                    <a:pt x="130" y="1208"/>
                  </a:lnTo>
                  <a:lnTo>
                    <a:pt x="100" y="1203"/>
                  </a:lnTo>
                  <a:lnTo>
                    <a:pt x="71" y="1195"/>
                  </a:lnTo>
                  <a:lnTo>
                    <a:pt x="44" y="1185"/>
                  </a:lnTo>
                  <a:lnTo>
                    <a:pt x="15" y="1174"/>
                  </a:lnTo>
                  <a:lnTo>
                    <a:pt x="0" y="1166"/>
                  </a:lnTo>
                  <a:lnTo>
                    <a:pt x="2" y="1168"/>
                  </a:lnTo>
                  <a:lnTo>
                    <a:pt x="2" y="1170"/>
                  </a:lnTo>
                  <a:lnTo>
                    <a:pt x="2" y="1172"/>
                  </a:lnTo>
                  <a:lnTo>
                    <a:pt x="2" y="1174"/>
                  </a:lnTo>
                  <a:lnTo>
                    <a:pt x="2" y="1174"/>
                  </a:lnTo>
                  <a:lnTo>
                    <a:pt x="2" y="1176"/>
                  </a:lnTo>
                  <a:lnTo>
                    <a:pt x="2" y="1178"/>
                  </a:lnTo>
                  <a:lnTo>
                    <a:pt x="4" y="1180"/>
                  </a:lnTo>
                  <a:close/>
                </a:path>
              </a:pathLst>
            </a:custGeom>
            <a:solidFill>
              <a:srgbClr val="88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46"/>
            <p:cNvSpPr/>
            <p:nvPr/>
          </p:nvSpPr>
          <p:spPr>
            <a:xfrm>
              <a:off x="1989000" y="2189160"/>
              <a:ext cx="582840" cy="1938240"/>
            </a:xfrm>
            <a:custGeom>
              <a:avLst/>
              <a:gdLst>
                <a:gd name="textAreaLeft" fmla="*/ 0 w 582840"/>
                <a:gd name="textAreaRight" fmla="*/ 583200 w 582840"/>
                <a:gd name="textAreaTop" fmla="*/ 0 h 1938240"/>
                <a:gd name="textAreaBottom" fmla="*/ 1938240 h 1938240"/>
              </a:gdLst>
              <a:ahLst/>
              <a:rect l="textAreaLeft" t="textAreaTop" r="textAreaRight" b="textAreaBottom"/>
              <a:pathLst>
                <a:path w="367" h="1221">
                  <a:moveTo>
                    <a:pt x="367" y="10"/>
                  </a:moveTo>
                  <a:lnTo>
                    <a:pt x="345" y="6"/>
                  </a:lnTo>
                  <a:lnTo>
                    <a:pt x="315" y="2"/>
                  </a:lnTo>
                  <a:lnTo>
                    <a:pt x="284" y="0"/>
                  </a:lnTo>
                  <a:lnTo>
                    <a:pt x="251" y="0"/>
                  </a:lnTo>
                  <a:lnTo>
                    <a:pt x="221" y="0"/>
                  </a:lnTo>
                  <a:lnTo>
                    <a:pt x="190" y="2"/>
                  </a:lnTo>
                  <a:lnTo>
                    <a:pt x="159" y="6"/>
                  </a:lnTo>
                  <a:lnTo>
                    <a:pt x="129" y="12"/>
                  </a:lnTo>
                  <a:lnTo>
                    <a:pt x="121" y="14"/>
                  </a:lnTo>
                  <a:lnTo>
                    <a:pt x="121" y="16"/>
                  </a:lnTo>
                  <a:lnTo>
                    <a:pt x="121" y="18"/>
                  </a:lnTo>
                  <a:lnTo>
                    <a:pt x="119" y="18"/>
                  </a:lnTo>
                  <a:lnTo>
                    <a:pt x="119" y="20"/>
                  </a:lnTo>
                  <a:lnTo>
                    <a:pt x="119" y="21"/>
                  </a:lnTo>
                  <a:lnTo>
                    <a:pt x="119" y="23"/>
                  </a:lnTo>
                  <a:lnTo>
                    <a:pt x="117" y="23"/>
                  </a:lnTo>
                  <a:lnTo>
                    <a:pt x="117" y="25"/>
                  </a:lnTo>
                  <a:lnTo>
                    <a:pt x="130" y="23"/>
                  </a:lnTo>
                  <a:lnTo>
                    <a:pt x="161" y="18"/>
                  </a:lnTo>
                  <a:lnTo>
                    <a:pt x="190" y="14"/>
                  </a:lnTo>
                  <a:lnTo>
                    <a:pt x="221" y="12"/>
                  </a:lnTo>
                  <a:lnTo>
                    <a:pt x="251" y="10"/>
                  </a:lnTo>
                  <a:lnTo>
                    <a:pt x="282" y="12"/>
                  </a:lnTo>
                  <a:lnTo>
                    <a:pt x="313" y="14"/>
                  </a:lnTo>
                  <a:lnTo>
                    <a:pt x="344" y="18"/>
                  </a:lnTo>
                  <a:lnTo>
                    <a:pt x="363" y="21"/>
                  </a:lnTo>
                  <a:lnTo>
                    <a:pt x="363" y="20"/>
                  </a:lnTo>
                  <a:lnTo>
                    <a:pt x="365" y="18"/>
                  </a:lnTo>
                  <a:lnTo>
                    <a:pt x="365" y="18"/>
                  </a:lnTo>
                  <a:lnTo>
                    <a:pt x="365" y="16"/>
                  </a:lnTo>
                  <a:lnTo>
                    <a:pt x="365" y="14"/>
                  </a:lnTo>
                  <a:lnTo>
                    <a:pt x="365" y="14"/>
                  </a:lnTo>
                  <a:lnTo>
                    <a:pt x="367" y="12"/>
                  </a:lnTo>
                  <a:lnTo>
                    <a:pt x="367" y="10"/>
                  </a:lnTo>
                  <a:close/>
                  <a:moveTo>
                    <a:pt x="2" y="1169"/>
                  </a:moveTo>
                  <a:lnTo>
                    <a:pt x="13" y="1173"/>
                  </a:lnTo>
                  <a:lnTo>
                    <a:pt x="42" y="1184"/>
                  </a:lnTo>
                  <a:lnTo>
                    <a:pt x="71" y="1194"/>
                  </a:lnTo>
                  <a:lnTo>
                    <a:pt x="100" y="1201"/>
                  </a:lnTo>
                  <a:lnTo>
                    <a:pt x="129" y="1209"/>
                  </a:lnTo>
                  <a:lnTo>
                    <a:pt x="159" y="1215"/>
                  </a:lnTo>
                  <a:lnTo>
                    <a:pt x="190" y="1219"/>
                  </a:lnTo>
                  <a:lnTo>
                    <a:pt x="221" y="1221"/>
                  </a:lnTo>
                  <a:lnTo>
                    <a:pt x="251" y="1221"/>
                  </a:lnTo>
                  <a:lnTo>
                    <a:pt x="284" y="1221"/>
                  </a:lnTo>
                  <a:lnTo>
                    <a:pt x="315" y="1219"/>
                  </a:lnTo>
                  <a:lnTo>
                    <a:pt x="345" y="1215"/>
                  </a:lnTo>
                  <a:lnTo>
                    <a:pt x="367" y="1211"/>
                  </a:lnTo>
                  <a:lnTo>
                    <a:pt x="367" y="1209"/>
                  </a:lnTo>
                  <a:lnTo>
                    <a:pt x="365" y="1209"/>
                  </a:lnTo>
                  <a:lnTo>
                    <a:pt x="365" y="1207"/>
                  </a:lnTo>
                  <a:lnTo>
                    <a:pt x="365" y="1205"/>
                  </a:lnTo>
                  <a:lnTo>
                    <a:pt x="365" y="1205"/>
                  </a:lnTo>
                  <a:lnTo>
                    <a:pt x="365" y="1203"/>
                  </a:lnTo>
                  <a:lnTo>
                    <a:pt x="363" y="1201"/>
                  </a:lnTo>
                  <a:lnTo>
                    <a:pt x="363" y="1201"/>
                  </a:lnTo>
                  <a:lnTo>
                    <a:pt x="344" y="1205"/>
                  </a:lnTo>
                  <a:lnTo>
                    <a:pt x="313" y="1209"/>
                  </a:lnTo>
                  <a:lnTo>
                    <a:pt x="282" y="1211"/>
                  </a:lnTo>
                  <a:lnTo>
                    <a:pt x="251" y="1211"/>
                  </a:lnTo>
                  <a:lnTo>
                    <a:pt x="221" y="1211"/>
                  </a:lnTo>
                  <a:lnTo>
                    <a:pt x="190" y="1209"/>
                  </a:lnTo>
                  <a:lnTo>
                    <a:pt x="161" y="1205"/>
                  </a:lnTo>
                  <a:lnTo>
                    <a:pt x="130" y="1200"/>
                  </a:lnTo>
                  <a:lnTo>
                    <a:pt x="102" y="1192"/>
                  </a:lnTo>
                  <a:lnTo>
                    <a:pt x="73" y="1184"/>
                  </a:lnTo>
                  <a:lnTo>
                    <a:pt x="46" y="1175"/>
                  </a:lnTo>
                  <a:lnTo>
                    <a:pt x="19" y="1165"/>
                  </a:lnTo>
                  <a:lnTo>
                    <a:pt x="0" y="1155"/>
                  </a:lnTo>
                  <a:lnTo>
                    <a:pt x="0" y="1157"/>
                  </a:lnTo>
                  <a:lnTo>
                    <a:pt x="0" y="1159"/>
                  </a:lnTo>
                  <a:lnTo>
                    <a:pt x="0" y="1161"/>
                  </a:lnTo>
                  <a:lnTo>
                    <a:pt x="0" y="1161"/>
                  </a:lnTo>
                  <a:lnTo>
                    <a:pt x="2" y="1163"/>
                  </a:lnTo>
                  <a:lnTo>
                    <a:pt x="2" y="1165"/>
                  </a:lnTo>
                  <a:lnTo>
                    <a:pt x="2" y="1167"/>
                  </a:lnTo>
                  <a:lnTo>
                    <a:pt x="2" y="1169"/>
                  </a:lnTo>
                  <a:close/>
                </a:path>
              </a:pathLst>
            </a:custGeom>
            <a:solidFill>
              <a:srgbClr val="89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147"/>
            <p:cNvSpPr/>
            <p:nvPr/>
          </p:nvSpPr>
          <p:spPr>
            <a:xfrm>
              <a:off x="1986120" y="2195280"/>
              <a:ext cx="582480" cy="19256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1925640"/>
                <a:gd name="textAreaBottom" fmla="*/ 1926000 h 1925640"/>
              </a:gdLst>
              <a:ahLst/>
              <a:rect l="textAreaLeft" t="textAreaTop" r="textAreaRight" b="textAreaBottom"/>
              <a:pathLst>
                <a:path w="367" h="1213">
                  <a:moveTo>
                    <a:pt x="367" y="12"/>
                  </a:moveTo>
                  <a:lnTo>
                    <a:pt x="346" y="8"/>
                  </a:lnTo>
                  <a:lnTo>
                    <a:pt x="317" y="4"/>
                  </a:lnTo>
                  <a:lnTo>
                    <a:pt x="286" y="2"/>
                  </a:lnTo>
                  <a:lnTo>
                    <a:pt x="253" y="0"/>
                  </a:lnTo>
                  <a:lnTo>
                    <a:pt x="223" y="2"/>
                  </a:lnTo>
                  <a:lnTo>
                    <a:pt x="192" y="4"/>
                  </a:lnTo>
                  <a:lnTo>
                    <a:pt x="161" y="8"/>
                  </a:lnTo>
                  <a:lnTo>
                    <a:pt x="132" y="14"/>
                  </a:lnTo>
                  <a:lnTo>
                    <a:pt x="121" y="16"/>
                  </a:lnTo>
                  <a:lnTo>
                    <a:pt x="121" y="17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9" y="21"/>
                  </a:lnTo>
                  <a:lnTo>
                    <a:pt x="119" y="23"/>
                  </a:lnTo>
                  <a:lnTo>
                    <a:pt x="117" y="25"/>
                  </a:lnTo>
                  <a:lnTo>
                    <a:pt x="117" y="25"/>
                  </a:lnTo>
                  <a:lnTo>
                    <a:pt x="117" y="27"/>
                  </a:lnTo>
                  <a:lnTo>
                    <a:pt x="134" y="23"/>
                  </a:lnTo>
                  <a:lnTo>
                    <a:pt x="163" y="17"/>
                  </a:lnTo>
                  <a:lnTo>
                    <a:pt x="194" y="14"/>
                  </a:lnTo>
                  <a:lnTo>
                    <a:pt x="223" y="12"/>
                  </a:lnTo>
                  <a:lnTo>
                    <a:pt x="253" y="12"/>
                  </a:lnTo>
                  <a:lnTo>
                    <a:pt x="284" y="12"/>
                  </a:lnTo>
                  <a:lnTo>
                    <a:pt x="315" y="14"/>
                  </a:lnTo>
                  <a:lnTo>
                    <a:pt x="346" y="17"/>
                  </a:lnTo>
                  <a:lnTo>
                    <a:pt x="363" y="21"/>
                  </a:lnTo>
                  <a:lnTo>
                    <a:pt x="365" y="21"/>
                  </a:lnTo>
                  <a:lnTo>
                    <a:pt x="365" y="19"/>
                  </a:lnTo>
                  <a:lnTo>
                    <a:pt x="365" y="17"/>
                  </a:lnTo>
                  <a:lnTo>
                    <a:pt x="365" y="17"/>
                  </a:lnTo>
                  <a:lnTo>
                    <a:pt x="365" y="16"/>
                  </a:lnTo>
                  <a:lnTo>
                    <a:pt x="367" y="14"/>
                  </a:lnTo>
                  <a:lnTo>
                    <a:pt x="367" y="14"/>
                  </a:lnTo>
                  <a:lnTo>
                    <a:pt x="367" y="12"/>
                  </a:lnTo>
                  <a:close/>
                  <a:moveTo>
                    <a:pt x="2" y="1157"/>
                  </a:moveTo>
                  <a:lnTo>
                    <a:pt x="17" y="1165"/>
                  </a:lnTo>
                  <a:lnTo>
                    <a:pt x="46" y="1176"/>
                  </a:lnTo>
                  <a:lnTo>
                    <a:pt x="73" y="1186"/>
                  </a:lnTo>
                  <a:lnTo>
                    <a:pt x="102" y="1194"/>
                  </a:lnTo>
                  <a:lnTo>
                    <a:pt x="132" y="1199"/>
                  </a:lnTo>
                  <a:lnTo>
                    <a:pt x="161" y="1205"/>
                  </a:lnTo>
                  <a:lnTo>
                    <a:pt x="192" y="1209"/>
                  </a:lnTo>
                  <a:lnTo>
                    <a:pt x="223" y="1211"/>
                  </a:lnTo>
                  <a:lnTo>
                    <a:pt x="253" y="1213"/>
                  </a:lnTo>
                  <a:lnTo>
                    <a:pt x="286" y="1211"/>
                  </a:lnTo>
                  <a:lnTo>
                    <a:pt x="317" y="1209"/>
                  </a:lnTo>
                  <a:lnTo>
                    <a:pt x="346" y="1205"/>
                  </a:lnTo>
                  <a:lnTo>
                    <a:pt x="367" y="1201"/>
                  </a:lnTo>
                  <a:lnTo>
                    <a:pt x="367" y="1201"/>
                  </a:lnTo>
                  <a:lnTo>
                    <a:pt x="367" y="1199"/>
                  </a:lnTo>
                  <a:lnTo>
                    <a:pt x="365" y="1197"/>
                  </a:lnTo>
                  <a:lnTo>
                    <a:pt x="365" y="1197"/>
                  </a:lnTo>
                  <a:lnTo>
                    <a:pt x="365" y="1196"/>
                  </a:lnTo>
                  <a:lnTo>
                    <a:pt x="365" y="1194"/>
                  </a:lnTo>
                  <a:lnTo>
                    <a:pt x="365" y="1194"/>
                  </a:lnTo>
                  <a:lnTo>
                    <a:pt x="365" y="1192"/>
                  </a:lnTo>
                  <a:lnTo>
                    <a:pt x="346" y="1196"/>
                  </a:lnTo>
                  <a:lnTo>
                    <a:pt x="315" y="1199"/>
                  </a:lnTo>
                  <a:lnTo>
                    <a:pt x="284" y="1201"/>
                  </a:lnTo>
                  <a:lnTo>
                    <a:pt x="253" y="1201"/>
                  </a:lnTo>
                  <a:lnTo>
                    <a:pt x="223" y="1201"/>
                  </a:lnTo>
                  <a:lnTo>
                    <a:pt x="194" y="1199"/>
                  </a:lnTo>
                  <a:lnTo>
                    <a:pt x="163" y="1196"/>
                  </a:lnTo>
                  <a:lnTo>
                    <a:pt x="134" y="1190"/>
                  </a:lnTo>
                  <a:lnTo>
                    <a:pt x="106" y="1184"/>
                  </a:lnTo>
                  <a:lnTo>
                    <a:pt x="77" y="1174"/>
                  </a:lnTo>
                  <a:lnTo>
                    <a:pt x="50" y="1167"/>
                  </a:lnTo>
                  <a:lnTo>
                    <a:pt x="23" y="1155"/>
                  </a:lnTo>
                  <a:lnTo>
                    <a:pt x="0" y="1146"/>
                  </a:lnTo>
                  <a:lnTo>
                    <a:pt x="0" y="1148"/>
                  </a:lnTo>
                  <a:lnTo>
                    <a:pt x="2" y="1150"/>
                  </a:lnTo>
                  <a:lnTo>
                    <a:pt x="2" y="1150"/>
                  </a:lnTo>
                  <a:lnTo>
                    <a:pt x="2" y="1151"/>
                  </a:lnTo>
                  <a:lnTo>
                    <a:pt x="2" y="1153"/>
                  </a:lnTo>
                  <a:lnTo>
                    <a:pt x="2" y="1155"/>
                  </a:lnTo>
                  <a:lnTo>
                    <a:pt x="2" y="1157"/>
                  </a:lnTo>
                  <a:lnTo>
                    <a:pt x="2" y="1157"/>
                  </a:lnTo>
                  <a:close/>
                </a:path>
              </a:pathLst>
            </a:custGeom>
            <a:solidFill>
              <a:srgbClr val="8a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148"/>
            <p:cNvSpPr/>
            <p:nvPr/>
          </p:nvSpPr>
          <p:spPr>
            <a:xfrm>
              <a:off x="1986120" y="2205000"/>
              <a:ext cx="579240" cy="190656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1906560"/>
                <a:gd name="textAreaBottom" fmla="*/ 1906920 h 1906560"/>
              </a:gdLst>
              <a:ahLst/>
              <a:rect l="textAreaLeft" t="textAreaTop" r="textAreaRight" b="textAreaBottom"/>
              <a:pathLst>
                <a:path w="365" h="1201">
                  <a:moveTo>
                    <a:pt x="365" y="11"/>
                  </a:moveTo>
                  <a:lnTo>
                    <a:pt x="346" y="8"/>
                  </a:lnTo>
                  <a:lnTo>
                    <a:pt x="315" y="4"/>
                  </a:lnTo>
                  <a:lnTo>
                    <a:pt x="284" y="2"/>
                  </a:lnTo>
                  <a:lnTo>
                    <a:pt x="253" y="0"/>
                  </a:lnTo>
                  <a:lnTo>
                    <a:pt x="223" y="2"/>
                  </a:lnTo>
                  <a:lnTo>
                    <a:pt x="192" y="4"/>
                  </a:lnTo>
                  <a:lnTo>
                    <a:pt x="163" y="8"/>
                  </a:lnTo>
                  <a:lnTo>
                    <a:pt x="132" y="13"/>
                  </a:lnTo>
                  <a:lnTo>
                    <a:pt x="119" y="15"/>
                  </a:lnTo>
                  <a:lnTo>
                    <a:pt x="119" y="17"/>
                  </a:lnTo>
                  <a:lnTo>
                    <a:pt x="117" y="19"/>
                  </a:lnTo>
                  <a:lnTo>
                    <a:pt x="117" y="19"/>
                  </a:lnTo>
                  <a:lnTo>
                    <a:pt x="117" y="21"/>
                  </a:lnTo>
                  <a:lnTo>
                    <a:pt x="117" y="23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7"/>
                  </a:lnTo>
                  <a:lnTo>
                    <a:pt x="134" y="23"/>
                  </a:lnTo>
                  <a:lnTo>
                    <a:pt x="163" y="17"/>
                  </a:lnTo>
                  <a:lnTo>
                    <a:pt x="194" y="13"/>
                  </a:lnTo>
                  <a:lnTo>
                    <a:pt x="223" y="11"/>
                  </a:lnTo>
                  <a:lnTo>
                    <a:pt x="253" y="11"/>
                  </a:lnTo>
                  <a:lnTo>
                    <a:pt x="284" y="11"/>
                  </a:lnTo>
                  <a:lnTo>
                    <a:pt x="315" y="13"/>
                  </a:lnTo>
                  <a:lnTo>
                    <a:pt x="344" y="17"/>
                  </a:lnTo>
                  <a:lnTo>
                    <a:pt x="363" y="21"/>
                  </a:lnTo>
                  <a:lnTo>
                    <a:pt x="363" y="19"/>
                  </a:lnTo>
                  <a:lnTo>
                    <a:pt x="363" y="17"/>
                  </a:lnTo>
                  <a:lnTo>
                    <a:pt x="363" y="17"/>
                  </a:lnTo>
                  <a:lnTo>
                    <a:pt x="363" y="15"/>
                  </a:lnTo>
                  <a:lnTo>
                    <a:pt x="365" y="15"/>
                  </a:lnTo>
                  <a:lnTo>
                    <a:pt x="365" y="13"/>
                  </a:lnTo>
                  <a:lnTo>
                    <a:pt x="365" y="11"/>
                  </a:lnTo>
                  <a:lnTo>
                    <a:pt x="365" y="11"/>
                  </a:lnTo>
                  <a:close/>
                  <a:moveTo>
                    <a:pt x="2" y="1145"/>
                  </a:moveTo>
                  <a:lnTo>
                    <a:pt x="21" y="1155"/>
                  </a:lnTo>
                  <a:lnTo>
                    <a:pt x="48" y="1165"/>
                  </a:lnTo>
                  <a:lnTo>
                    <a:pt x="75" y="1174"/>
                  </a:lnTo>
                  <a:lnTo>
                    <a:pt x="104" y="1182"/>
                  </a:lnTo>
                  <a:lnTo>
                    <a:pt x="132" y="1190"/>
                  </a:lnTo>
                  <a:lnTo>
                    <a:pt x="163" y="1195"/>
                  </a:lnTo>
                  <a:lnTo>
                    <a:pt x="192" y="1199"/>
                  </a:lnTo>
                  <a:lnTo>
                    <a:pt x="223" y="1201"/>
                  </a:lnTo>
                  <a:lnTo>
                    <a:pt x="253" y="1201"/>
                  </a:lnTo>
                  <a:lnTo>
                    <a:pt x="284" y="1201"/>
                  </a:lnTo>
                  <a:lnTo>
                    <a:pt x="315" y="1199"/>
                  </a:lnTo>
                  <a:lnTo>
                    <a:pt x="346" y="1195"/>
                  </a:lnTo>
                  <a:lnTo>
                    <a:pt x="365" y="1191"/>
                  </a:lnTo>
                  <a:lnTo>
                    <a:pt x="365" y="1190"/>
                  </a:lnTo>
                  <a:lnTo>
                    <a:pt x="365" y="1188"/>
                  </a:lnTo>
                  <a:lnTo>
                    <a:pt x="365" y="1188"/>
                  </a:lnTo>
                  <a:lnTo>
                    <a:pt x="365" y="1186"/>
                  </a:lnTo>
                  <a:lnTo>
                    <a:pt x="363" y="1184"/>
                  </a:lnTo>
                  <a:lnTo>
                    <a:pt x="363" y="1184"/>
                  </a:lnTo>
                  <a:lnTo>
                    <a:pt x="363" y="1182"/>
                  </a:lnTo>
                  <a:lnTo>
                    <a:pt x="363" y="1182"/>
                  </a:lnTo>
                  <a:lnTo>
                    <a:pt x="344" y="1184"/>
                  </a:lnTo>
                  <a:lnTo>
                    <a:pt x="315" y="1188"/>
                  </a:lnTo>
                  <a:lnTo>
                    <a:pt x="284" y="1190"/>
                  </a:lnTo>
                  <a:lnTo>
                    <a:pt x="253" y="1191"/>
                  </a:lnTo>
                  <a:lnTo>
                    <a:pt x="223" y="1190"/>
                  </a:lnTo>
                  <a:lnTo>
                    <a:pt x="194" y="1188"/>
                  </a:lnTo>
                  <a:lnTo>
                    <a:pt x="163" y="1184"/>
                  </a:lnTo>
                  <a:lnTo>
                    <a:pt x="134" y="1180"/>
                  </a:lnTo>
                  <a:lnTo>
                    <a:pt x="106" y="1172"/>
                  </a:lnTo>
                  <a:lnTo>
                    <a:pt x="79" y="1165"/>
                  </a:lnTo>
                  <a:lnTo>
                    <a:pt x="52" y="1155"/>
                  </a:lnTo>
                  <a:lnTo>
                    <a:pt x="25" y="1145"/>
                  </a:lnTo>
                  <a:lnTo>
                    <a:pt x="0" y="1134"/>
                  </a:lnTo>
                  <a:lnTo>
                    <a:pt x="0" y="1136"/>
                  </a:lnTo>
                  <a:lnTo>
                    <a:pt x="0" y="1136"/>
                  </a:lnTo>
                  <a:lnTo>
                    <a:pt x="0" y="1138"/>
                  </a:lnTo>
                  <a:lnTo>
                    <a:pt x="0" y="1140"/>
                  </a:lnTo>
                  <a:lnTo>
                    <a:pt x="0" y="1142"/>
                  </a:lnTo>
                  <a:lnTo>
                    <a:pt x="2" y="1144"/>
                  </a:lnTo>
                  <a:lnTo>
                    <a:pt x="2" y="1144"/>
                  </a:lnTo>
                  <a:lnTo>
                    <a:pt x="2" y="1145"/>
                  </a:lnTo>
                  <a:close/>
                </a:path>
              </a:pathLst>
            </a:cu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149"/>
            <p:cNvSpPr/>
            <p:nvPr/>
          </p:nvSpPr>
          <p:spPr>
            <a:xfrm>
              <a:off x="1982880" y="2214360"/>
              <a:ext cx="582480" cy="188748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1887480"/>
                <a:gd name="textAreaBottom" fmla="*/ 1887840 h 1887480"/>
              </a:gdLst>
              <a:ahLst/>
              <a:rect l="textAreaLeft" t="textAreaTop" r="textAreaRight" b="textAreaBottom"/>
              <a:pathLst>
                <a:path w="367" h="1189">
                  <a:moveTo>
                    <a:pt x="365" y="9"/>
                  </a:moveTo>
                  <a:lnTo>
                    <a:pt x="348" y="5"/>
                  </a:lnTo>
                  <a:lnTo>
                    <a:pt x="317" y="2"/>
                  </a:lnTo>
                  <a:lnTo>
                    <a:pt x="286" y="0"/>
                  </a:lnTo>
                  <a:lnTo>
                    <a:pt x="255" y="0"/>
                  </a:lnTo>
                  <a:lnTo>
                    <a:pt x="225" y="0"/>
                  </a:lnTo>
                  <a:lnTo>
                    <a:pt x="196" y="2"/>
                  </a:lnTo>
                  <a:lnTo>
                    <a:pt x="165" y="5"/>
                  </a:lnTo>
                  <a:lnTo>
                    <a:pt x="136" y="11"/>
                  </a:lnTo>
                  <a:lnTo>
                    <a:pt x="119" y="15"/>
                  </a:lnTo>
                  <a:lnTo>
                    <a:pt x="119" y="17"/>
                  </a:lnTo>
                  <a:lnTo>
                    <a:pt x="117" y="19"/>
                  </a:lnTo>
                  <a:lnTo>
                    <a:pt x="117" y="19"/>
                  </a:lnTo>
                  <a:lnTo>
                    <a:pt x="117" y="21"/>
                  </a:lnTo>
                  <a:lnTo>
                    <a:pt x="117" y="23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7"/>
                  </a:lnTo>
                  <a:lnTo>
                    <a:pt x="138" y="21"/>
                  </a:lnTo>
                  <a:lnTo>
                    <a:pt x="167" y="17"/>
                  </a:lnTo>
                  <a:lnTo>
                    <a:pt x="196" y="13"/>
                  </a:lnTo>
                  <a:lnTo>
                    <a:pt x="227" y="11"/>
                  </a:lnTo>
                  <a:lnTo>
                    <a:pt x="255" y="9"/>
                  </a:lnTo>
                  <a:lnTo>
                    <a:pt x="286" y="11"/>
                  </a:lnTo>
                  <a:lnTo>
                    <a:pt x="315" y="13"/>
                  </a:lnTo>
                  <a:lnTo>
                    <a:pt x="346" y="17"/>
                  </a:lnTo>
                  <a:lnTo>
                    <a:pt x="363" y="19"/>
                  </a:lnTo>
                  <a:lnTo>
                    <a:pt x="363" y="19"/>
                  </a:lnTo>
                  <a:lnTo>
                    <a:pt x="363" y="17"/>
                  </a:lnTo>
                  <a:lnTo>
                    <a:pt x="363" y="15"/>
                  </a:lnTo>
                  <a:lnTo>
                    <a:pt x="365" y="15"/>
                  </a:lnTo>
                  <a:lnTo>
                    <a:pt x="365" y="13"/>
                  </a:lnTo>
                  <a:lnTo>
                    <a:pt x="365" y="11"/>
                  </a:lnTo>
                  <a:lnTo>
                    <a:pt x="365" y="11"/>
                  </a:lnTo>
                  <a:lnTo>
                    <a:pt x="365" y="9"/>
                  </a:lnTo>
                  <a:close/>
                  <a:moveTo>
                    <a:pt x="2" y="1134"/>
                  </a:moveTo>
                  <a:lnTo>
                    <a:pt x="25" y="1143"/>
                  </a:lnTo>
                  <a:lnTo>
                    <a:pt x="52" y="1155"/>
                  </a:lnTo>
                  <a:lnTo>
                    <a:pt x="79" y="1162"/>
                  </a:lnTo>
                  <a:lnTo>
                    <a:pt x="108" y="1172"/>
                  </a:lnTo>
                  <a:lnTo>
                    <a:pt x="136" y="1178"/>
                  </a:lnTo>
                  <a:lnTo>
                    <a:pt x="165" y="1184"/>
                  </a:lnTo>
                  <a:lnTo>
                    <a:pt x="196" y="1187"/>
                  </a:lnTo>
                  <a:lnTo>
                    <a:pt x="225" y="1189"/>
                  </a:lnTo>
                  <a:lnTo>
                    <a:pt x="255" y="1189"/>
                  </a:lnTo>
                  <a:lnTo>
                    <a:pt x="286" y="1189"/>
                  </a:lnTo>
                  <a:lnTo>
                    <a:pt x="317" y="1187"/>
                  </a:lnTo>
                  <a:lnTo>
                    <a:pt x="348" y="1184"/>
                  </a:lnTo>
                  <a:lnTo>
                    <a:pt x="367" y="1180"/>
                  </a:lnTo>
                  <a:lnTo>
                    <a:pt x="365" y="1178"/>
                  </a:lnTo>
                  <a:lnTo>
                    <a:pt x="365" y="1178"/>
                  </a:lnTo>
                  <a:lnTo>
                    <a:pt x="365" y="1176"/>
                  </a:lnTo>
                  <a:lnTo>
                    <a:pt x="365" y="1176"/>
                  </a:lnTo>
                  <a:lnTo>
                    <a:pt x="365" y="1174"/>
                  </a:lnTo>
                  <a:lnTo>
                    <a:pt x="363" y="1172"/>
                  </a:lnTo>
                  <a:lnTo>
                    <a:pt x="363" y="1172"/>
                  </a:lnTo>
                  <a:lnTo>
                    <a:pt x="363" y="1170"/>
                  </a:lnTo>
                  <a:lnTo>
                    <a:pt x="346" y="1174"/>
                  </a:lnTo>
                  <a:lnTo>
                    <a:pt x="315" y="1178"/>
                  </a:lnTo>
                  <a:lnTo>
                    <a:pt x="286" y="1180"/>
                  </a:lnTo>
                  <a:lnTo>
                    <a:pt x="255" y="1180"/>
                  </a:lnTo>
                  <a:lnTo>
                    <a:pt x="227" y="1180"/>
                  </a:lnTo>
                  <a:lnTo>
                    <a:pt x="196" y="1178"/>
                  </a:lnTo>
                  <a:lnTo>
                    <a:pt x="167" y="1174"/>
                  </a:lnTo>
                  <a:lnTo>
                    <a:pt x="138" y="1168"/>
                  </a:lnTo>
                  <a:lnTo>
                    <a:pt x="110" y="1161"/>
                  </a:lnTo>
                  <a:lnTo>
                    <a:pt x="83" y="1153"/>
                  </a:lnTo>
                  <a:lnTo>
                    <a:pt x="54" y="1145"/>
                  </a:lnTo>
                  <a:lnTo>
                    <a:pt x="29" y="1134"/>
                  </a:lnTo>
                  <a:lnTo>
                    <a:pt x="2" y="1122"/>
                  </a:lnTo>
                  <a:lnTo>
                    <a:pt x="0" y="1122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2" y="1126"/>
                  </a:lnTo>
                  <a:lnTo>
                    <a:pt x="2" y="1128"/>
                  </a:lnTo>
                  <a:lnTo>
                    <a:pt x="2" y="1130"/>
                  </a:lnTo>
                  <a:lnTo>
                    <a:pt x="2" y="1130"/>
                  </a:lnTo>
                  <a:lnTo>
                    <a:pt x="2" y="1132"/>
                  </a:lnTo>
                  <a:lnTo>
                    <a:pt x="2" y="1134"/>
                  </a:lnTo>
                  <a:close/>
                </a:path>
              </a:pathLst>
            </a:custGeom>
            <a:solidFill>
              <a:srgbClr val="8c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150"/>
            <p:cNvSpPr/>
            <p:nvPr/>
          </p:nvSpPr>
          <p:spPr>
            <a:xfrm>
              <a:off x="1982880" y="2222280"/>
              <a:ext cx="579240" cy="187344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1873440"/>
                <a:gd name="textAreaBottom" fmla="*/ 1873800 h 1873440"/>
              </a:gdLst>
              <a:ahLst/>
              <a:rect l="textAreaLeft" t="textAreaTop" r="textAreaRight" b="textAreaBottom"/>
              <a:pathLst>
                <a:path w="365" h="1180">
                  <a:moveTo>
                    <a:pt x="365" y="10"/>
                  </a:moveTo>
                  <a:lnTo>
                    <a:pt x="346" y="6"/>
                  </a:lnTo>
                  <a:lnTo>
                    <a:pt x="317" y="2"/>
                  </a:lnTo>
                  <a:lnTo>
                    <a:pt x="286" y="0"/>
                  </a:lnTo>
                  <a:lnTo>
                    <a:pt x="255" y="0"/>
                  </a:lnTo>
                  <a:lnTo>
                    <a:pt x="225" y="0"/>
                  </a:lnTo>
                  <a:lnTo>
                    <a:pt x="196" y="2"/>
                  </a:lnTo>
                  <a:lnTo>
                    <a:pt x="165" y="6"/>
                  </a:lnTo>
                  <a:lnTo>
                    <a:pt x="136" y="12"/>
                  </a:lnTo>
                  <a:lnTo>
                    <a:pt x="117" y="16"/>
                  </a:lnTo>
                  <a:lnTo>
                    <a:pt x="117" y="18"/>
                  </a:lnTo>
                  <a:lnTo>
                    <a:pt x="115" y="20"/>
                  </a:lnTo>
                  <a:lnTo>
                    <a:pt x="115" y="20"/>
                  </a:lnTo>
                  <a:lnTo>
                    <a:pt x="115" y="22"/>
                  </a:lnTo>
                  <a:lnTo>
                    <a:pt x="113" y="24"/>
                  </a:lnTo>
                  <a:lnTo>
                    <a:pt x="113" y="25"/>
                  </a:lnTo>
                  <a:lnTo>
                    <a:pt x="113" y="25"/>
                  </a:lnTo>
                  <a:lnTo>
                    <a:pt x="113" y="27"/>
                  </a:lnTo>
                  <a:lnTo>
                    <a:pt x="138" y="22"/>
                  </a:lnTo>
                  <a:lnTo>
                    <a:pt x="167" y="16"/>
                  </a:lnTo>
                  <a:lnTo>
                    <a:pt x="196" y="12"/>
                  </a:lnTo>
                  <a:lnTo>
                    <a:pt x="227" y="10"/>
                  </a:lnTo>
                  <a:lnTo>
                    <a:pt x="255" y="10"/>
                  </a:lnTo>
                  <a:lnTo>
                    <a:pt x="286" y="10"/>
                  </a:lnTo>
                  <a:lnTo>
                    <a:pt x="315" y="12"/>
                  </a:lnTo>
                  <a:lnTo>
                    <a:pt x="344" y="16"/>
                  </a:lnTo>
                  <a:lnTo>
                    <a:pt x="361" y="20"/>
                  </a:lnTo>
                  <a:lnTo>
                    <a:pt x="361" y="18"/>
                  </a:lnTo>
                  <a:lnTo>
                    <a:pt x="361" y="18"/>
                  </a:lnTo>
                  <a:lnTo>
                    <a:pt x="363" y="16"/>
                  </a:lnTo>
                  <a:lnTo>
                    <a:pt x="363" y="14"/>
                  </a:lnTo>
                  <a:lnTo>
                    <a:pt x="363" y="14"/>
                  </a:lnTo>
                  <a:lnTo>
                    <a:pt x="363" y="12"/>
                  </a:lnTo>
                  <a:lnTo>
                    <a:pt x="363" y="10"/>
                  </a:lnTo>
                  <a:lnTo>
                    <a:pt x="365" y="10"/>
                  </a:lnTo>
                  <a:close/>
                  <a:moveTo>
                    <a:pt x="2" y="1123"/>
                  </a:moveTo>
                  <a:lnTo>
                    <a:pt x="27" y="1134"/>
                  </a:lnTo>
                  <a:lnTo>
                    <a:pt x="54" y="1144"/>
                  </a:lnTo>
                  <a:lnTo>
                    <a:pt x="81" y="1154"/>
                  </a:lnTo>
                  <a:lnTo>
                    <a:pt x="108" y="1161"/>
                  </a:lnTo>
                  <a:lnTo>
                    <a:pt x="136" y="1169"/>
                  </a:lnTo>
                  <a:lnTo>
                    <a:pt x="165" y="1173"/>
                  </a:lnTo>
                  <a:lnTo>
                    <a:pt x="196" y="1177"/>
                  </a:lnTo>
                  <a:lnTo>
                    <a:pt x="225" y="1179"/>
                  </a:lnTo>
                  <a:lnTo>
                    <a:pt x="255" y="1180"/>
                  </a:lnTo>
                  <a:lnTo>
                    <a:pt x="286" y="1179"/>
                  </a:lnTo>
                  <a:lnTo>
                    <a:pt x="317" y="1177"/>
                  </a:lnTo>
                  <a:lnTo>
                    <a:pt x="346" y="1173"/>
                  </a:lnTo>
                  <a:lnTo>
                    <a:pt x="365" y="1171"/>
                  </a:lnTo>
                  <a:lnTo>
                    <a:pt x="365" y="1169"/>
                  </a:lnTo>
                  <a:lnTo>
                    <a:pt x="363" y="1167"/>
                  </a:lnTo>
                  <a:lnTo>
                    <a:pt x="363" y="1167"/>
                  </a:lnTo>
                  <a:lnTo>
                    <a:pt x="363" y="1165"/>
                  </a:lnTo>
                  <a:lnTo>
                    <a:pt x="363" y="1163"/>
                  </a:lnTo>
                  <a:lnTo>
                    <a:pt x="363" y="1163"/>
                  </a:lnTo>
                  <a:lnTo>
                    <a:pt x="361" y="1161"/>
                  </a:lnTo>
                  <a:lnTo>
                    <a:pt x="361" y="1159"/>
                  </a:lnTo>
                  <a:lnTo>
                    <a:pt x="344" y="1163"/>
                  </a:lnTo>
                  <a:lnTo>
                    <a:pt x="315" y="1167"/>
                  </a:lnTo>
                  <a:lnTo>
                    <a:pt x="286" y="1169"/>
                  </a:lnTo>
                  <a:lnTo>
                    <a:pt x="255" y="1169"/>
                  </a:lnTo>
                  <a:lnTo>
                    <a:pt x="227" y="1169"/>
                  </a:lnTo>
                  <a:lnTo>
                    <a:pt x="196" y="1167"/>
                  </a:lnTo>
                  <a:lnTo>
                    <a:pt x="167" y="1163"/>
                  </a:lnTo>
                  <a:lnTo>
                    <a:pt x="138" y="1157"/>
                  </a:lnTo>
                  <a:lnTo>
                    <a:pt x="111" y="1152"/>
                  </a:lnTo>
                  <a:lnTo>
                    <a:pt x="83" y="1144"/>
                  </a:lnTo>
                  <a:lnTo>
                    <a:pt x="56" y="1134"/>
                  </a:lnTo>
                  <a:lnTo>
                    <a:pt x="31" y="1125"/>
                  </a:lnTo>
                  <a:lnTo>
                    <a:pt x="4" y="1113"/>
                  </a:lnTo>
                  <a:lnTo>
                    <a:pt x="0" y="1109"/>
                  </a:lnTo>
                  <a:lnTo>
                    <a:pt x="0" y="1111"/>
                  </a:lnTo>
                  <a:lnTo>
                    <a:pt x="0" y="1113"/>
                  </a:lnTo>
                  <a:lnTo>
                    <a:pt x="0" y="1115"/>
                  </a:lnTo>
                  <a:lnTo>
                    <a:pt x="0" y="1115"/>
                  </a:lnTo>
                  <a:lnTo>
                    <a:pt x="0" y="1117"/>
                  </a:lnTo>
                  <a:lnTo>
                    <a:pt x="0" y="1119"/>
                  </a:lnTo>
                  <a:lnTo>
                    <a:pt x="2" y="1121"/>
                  </a:lnTo>
                  <a:lnTo>
                    <a:pt x="2" y="1123"/>
                  </a:lnTo>
                  <a:close/>
                </a:path>
              </a:pathLst>
            </a:custGeom>
            <a:solidFill>
              <a:srgbClr val="8d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Freeform 151"/>
            <p:cNvSpPr/>
            <p:nvPr/>
          </p:nvSpPr>
          <p:spPr>
            <a:xfrm>
              <a:off x="1979640" y="2228760"/>
              <a:ext cx="579240" cy="185904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365" h="1171">
                  <a:moveTo>
                    <a:pt x="365" y="10"/>
                  </a:moveTo>
                  <a:lnTo>
                    <a:pt x="348" y="8"/>
                  </a:lnTo>
                  <a:lnTo>
                    <a:pt x="317" y="4"/>
                  </a:lnTo>
                  <a:lnTo>
                    <a:pt x="288" y="2"/>
                  </a:lnTo>
                  <a:lnTo>
                    <a:pt x="257" y="0"/>
                  </a:lnTo>
                  <a:lnTo>
                    <a:pt x="229" y="2"/>
                  </a:lnTo>
                  <a:lnTo>
                    <a:pt x="198" y="4"/>
                  </a:lnTo>
                  <a:lnTo>
                    <a:pt x="169" y="8"/>
                  </a:lnTo>
                  <a:lnTo>
                    <a:pt x="140" y="12"/>
                  </a:lnTo>
                  <a:lnTo>
                    <a:pt x="117" y="18"/>
                  </a:lnTo>
                  <a:lnTo>
                    <a:pt x="115" y="20"/>
                  </a:lnTo>
                  <a:lnTo>
                    <a:pt x="115" y="21"/>
                  </a:lnTo>
                  <a:lnTo>
                    <a:pt x="115" y="21"/>
                  </a:lnTo>
                  <a:lnTo>
                    <a:pt x="115" y="23"/>
                  </a:lnTo>
                  <a:lnTo>
                    <a:pt x="113" y="25"/>
                  </a:lnTo>
                  <a:lnTo>
                    <a:pt x="113" y="27"/>
                  </a:lnTo>
                  <a:lnTo>
                    <a:pt x="113" y="27"/>
                  </a:lnTo>
                  <a:lnTo>
                    <a:pt x="113" y="29"/>
                  </a:lnTo>
                  <a:lnTo>
                    <a:pt x="113" y="29"/>
                  </a:lnTo>
                  <a:lnTo>
                    <a:pt x="142" y="23"/>
                  </a:lnTo>
                  <a:lnTo>
                    <a:pt x="171" y="18"/>
                  </a:lnTo>
                  <a:lnTo>
                    <a:pt x="200" y="14"/>
                  </a:lnTo>
                  <a:lnTo>
                    <a:pt x="229" y="12"/>
                  </a:lnTo>
                  <a:lnTo>
                    <a:pt x="257" y="12"/>
                  </a:lnTo>
                  <a:lnTo>
                    <a:pt x="288" y="12"/>
                  </a:lnTo>
                  <a:lnTo>
                    <a:pt x="317" y="14"/>
                  </a:lnTo>
                  <a:lnTo>
                    <a:pt x="346" y="18"/>
                  </a:lnTo>
                  <a:lnTo>
                    <a:pt x="361" y="20"/>
                  </a:lnTo>
                  <a:lnTo>
                    <a:pt x="363" y="20"/>
                  </a:lnTo>
                  <a:lnTo>
                    <a:pt x="363" y="18"/>
                  </a:lnTo>
                  <a:lnTo>
                    <a:pt x="363" y="18"/>
                  </a:lnTo>
                  <a:lnTo>
                    <a:pt x="363" y="16"/>
                  </a:lnTo>
                  <a:lnTo>
                    <a:pt x="363" y="14"/>
                  </a:lnTo>
                  <a:lnTo>
                    <a:pt x="363" y="14"/>
                  </a:lnTo>
                  <a:lnTo>
                    <a:pt x="365" y="12"/>
                  </a:lnTo>
                  <a:lnTo>
                    <a:pt x="365" y="10"/>
                  </a:lnTo>
                  <a:close/>
                  <a:moveTo>
                    <a:pt x="2" y="1113"/>
                  </a:moveTo>
                  <a:lnTo>
                    <a:pt x="4" y="1113"/>
                  </a:lnTo>
                  <a:lnTo>
                    <a:pt x="31" y="1125"/>
                  </a:lnTo>
                  <a:lnTo>
                    <a:pt x="56" y="1136"/>
                  </a:lnTo>
                  <a:lnTo>
                    <a:pt x="85" y="1144"/>
                  </a:lnTo>
                  <a:lnTo>
                    <a:pt x="112" y="1152"/>
                  </a:lnTo>
                  <a:lnTo>
                    <a:pt x="140" y="1159"/>
                  </a:lnTo>
                  <a:lnTo>
                    <a:pt x="169" y="1165"/>
                  </a:lnTo>
                  <a:lnTo>
                    <a:pt x="198" y="1169"/>
                  </a:lnTo>
                  <a:lnTo>
                    <a:pt x="229" y="1171"/>
                  </a:lnTo>
                  <a:lnTo>
                    <a:pt x="257" y="1171"/>
                  </a:lnTo>
                  <a:lnTo>
                    <a:pt x="288" y="1171"/>
                  </a:lnTo>
                  <a:lnTo>
                    <a:pt x="317" y="1169"/>
                  </a:lnTo>
                  <a:lnTo>
                    <a:pt x="348" y="1165"/>
                  </a:lnTo>
                  <a:lnTo>
                    <a:pt x="365" y="1161"/>
                  </a:lnTo>
                  <a:lnTo>
                    <a:pt x="365" y="1159"/>
                  </a:lnTo>
                  <a:lnTo>
                    <a:pt x="365" y="1159"/>
                  </a:lnTo>
                  <a:lnTo>
                    <a:pt x="363" y="1157"/>
                  </a:lnTo>
                  <a:lnTo>
                    <a:pt x="363" y="1155"/>
                  </a:lnTo>
                  <a:lnTo>
                    <a:pt x="363" y="1155"/>
                  </a:lnTo>
                  <a:lnTo>
                    <a:pt x="363" y="1153"/>
                  </a:lnTo>
                  <a:lnTo>
                    <a:pt x="363" y="1152"/>
                  </a:lnTo>
                  <a:lnTo>
                    <a:pt x="363" y="1152"/>
                  </a:lnTo>
                  <a:lnTo>
                    <a:pt x="346" y="1153"/>
                  </a:lnTo>
                  <a:lnTo>
                    <a:pt x="317" y="1157"/>
                  </a:lnTo>
                  <a:lnTo>
                    <a:pt x="288" y="1159"/>
                  </a:lnTo>
                  <a:lnTo>
                    <a:pt x="257" y="1161"/>
                  </a:lnTo>
                  <a:lnTo>
                    <a:pt x="229" y="1159"/>
                  </a:lnTo>
                  <a:lnTo>
                    <a:pt x="200" y="1157"/>
                  </a:lnTo>
                  <a:lnTo>
                    <a:pt x="171" y="1153"/>
                  </a:lnTo>
                  <a:lnTo>
                    <a:pt x="142" y="1150"/>
                  </a:lnTo>
                  <a:lnTo>
                    <a:pt x="113" y="1142"/>
                  </a:lnTo>
                  <a:lnTo>
                    <a:pt x="87" y="1134"/>
                  </a:lnTo>
                  <a:lnTo>
                    <a:pt x="60" y="1127"/>
                  </a:lnTo>
                  <a:lnTo>
                    <a:pt x="35" y="1115"/>
                  </a:lnTo>
                  <a:lnTo>
                    <a:pt x="8" y="1104"/>
                  </a:lnTo>
                  <a:lnTo>
                    <a:pt x="0" y="1100"/>
                  </a:lnTo>
                  <a:lnTo>
                    <a:pt x="0" y="1102"/>
                  </a:lnTo>
                  <a:lnTo>
                    <a:pt x="0" y="1104"/>
                  </a:lnTo>
                  <a:lnTo>
                    <a:pt x="0" y="1104"/>
                  </a:lnTo>
                  <a:lnTo>
                    <a:pt x="2" y="1105"/>
                  </a:lnTo>
                  <a:lnTo>
                    <a:pt x="2" y="1107"/>
                  </a:lnTo>
                  <a:lnTo>
                    <a:pt x="2" y="1109"/>
                  </a:lnTo>
                  <a:lnTo>
                    <a:pt x="2" y="1111"/>
                  </a:lnTo>
                  <a:lnTo>
                    <a:pt x="2" y="1113"/>
                  </a:lnTo>
                  <a:close/>
                </a:path>
              </a:pathLst>
            </a:custGeom>
            <a:solidFill>
              <a:srgbClr val="8e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152"/>
            <p:cNvSpPr/>
            <p:nvPr/>
          </p:nvSpPr>
          <p:spPr>
            <a:xfrm>
              <a:off x="1976400" y="2238120"/>
              <a:ext cx="579600" cy="183996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1839960"/>
                <a:gd name="textAreaBottom" fmla="*/ 1840320 h 1839960"/>
              </a:gdLst>
              <a:ahLst/>
              <a:rect l="textAreaLeft" t="textAreaTop" r="textAreaRight" b="textAreaBottom"/>
              <a:pathLst>
                <a:path w="365" h="1159">
                  <a:moveTo>
                    <a:pt x="365" y="10"/>
                  </a:moveTo>
                  <a:lnTo>
                    <a:pt x="348" y="6"/>
                  </a:lnTo>
                  <a:lnTo>
                    <a:pt x="319" y="2"/>
                  </a:lnTo>
                  <a:lnTo>
                    <a:pt x="290" y="0"/>
                  </a:lnTo>
                  <a:lnTo>
                    <a:pt x="259" y="0"/>
                  </a:lnTo>
                  <a:lnTo>
                    <a:pt x="231" y="0"/>
                  </a:lnTo>
                  <a:lnTo>
                    <a:pt x="200" y="2"/>
                  </a:lnTo>
                  <a:lnTo>
                    <a:pt x="171" y="6"/>
                  </a:lnTo>
                  <a:lnTo>
                    <a:pt x="142" y="12"/>
                  </a:lnTo>
                  <a:lnTo>
                    <a:pt x="117" y="17"/>
                  </a:lnTo>
                  <a:lnTo>
                    <a:pt x="115" y="19"/>
                  </a:lnTo>
                  <a:lnTo>
                    <a:pt x="115" y="21"/>
                  </a:lnTo>
                  <a:lnTo>
                    <a:pt x="115" y="21"/>
                  </a:lnTo>
                  <a:lnTo>
                    <a:pt x="115" y="23"/>
                  </a:lnTo>
                  <a:lnTo>
                    <a:pt x="114" y="25"/>
                  </a:lnTo>
                  <a:lnTo>
                    <a:pt x="114" y="27"/>
                  </a:lnTo>
                  <a:lnTo>
                    <a:pt x="114" y="29"/>
                  </a:lnTo>
                  <a:lnTo>
                    <a:pt x="112" y="29"/>
                  </a:lnTo>
                  <a:lnTo>
                    <a:pt x="117" y="29"/>
                  </a:lnTo>
                  <a:lnTo>
                    <a:pt x="144" y="21"/>
                  </a:lnTo>
                  <a:lnTo>
                    <a:pt x="173" y="17"/>
                  </a:lnTo>
                  <a:lnTo>
                    <a:pt x="202" y="14"/>
                  </a:lnTo>
                  <a:lnTo>
                    <a:pt x="231" y="12"/>
                  </a:lnTo>
                  <a:lnTo>
                    <a:pt x="259" y="10"/>
                  </a:lnTo>
                  <a:lnTo>
                    <a:pt x="290" y="12"/>
                  </a:lnTo>
                  <a:lnTo>
                    <a:pt x="319" y="14"/>
                  </a:lnTo>
                  <a:lnTo>
                    <a:pt x="348" y="17"/>
                  </a:lnTo>
                  <a:lnTo>
                    <a:pt x="363" y="19"/>
                  </a:lnTo>
                  <a:lnTo>
                    <a:pt x="363" y="17"/>
                  </a:lnTo>
                  <a:lnTo>
                    <a:pt x="363" y="17"/>
                  </a:lnTo>
                  <a:lnTo>
                    <a:pt x="363" y="15"/>
                  </a:lnTo>
                  <a:lnTo>
                    <a:pt x="363" y="14"/>
                  </a:lnTo>
                  <a:lnTo>
                    <a:pt x="363" y="14"/>
                  </a:lnTo>
                  <a:lnTo>
                    <a:pt x="365" y="12"/>
                  </a:lnTo>
                  <a:lnTo>
                    <a:pt x="365" y="12"/>
                  </a:lnTo>
                  <a:lnTo>
                    <a:pt x="365" y="10"/>
                  </a:lnTo>
                  <a:close/>
                  <a:moveTo>
                    <a:pt x="4" y="1099"/>
                  </a:moveTo>
                  <a:lnTo>
                    <a:pt x="8" y="1103"/>
                  </a:lnTo>
                  <a:lnTo>
                    <a:pt x="35" y="1115"/>
                  </a:lnTo>
                  <a:lnTo>
                    <a:pt x="60" y="1124"/>
                  </a:lnTo>
                  <a:lnTo>
                    <a:pt x="87" y="1134"/>
                  </a:lnTo>
                  <a:lnTo>
                    <a:pt x="115" y="1142"/>
                  </a:lnTo>
                  <a:lnTo>
                    <a:pt x="142" y="1147"/>
                  </a:lnTo>
                  <a:lnTo>
                    <a:pt x="171" y="1153"/>
                  </a:lnTo>
                  <a:lnTo>
                    <a:pt x="200" y="1157"/>
                  </a:lnTo>
                  <a:lnTo>
                    <a:pt x="231" y="1159"/>
                  </a:lnTo>
                  <a:lnTo>
                    <a:pt x="259" y="1159"/>
                  </a:lnTo>
                  <a:lnTo>
                    <a:pt x="290" y="1159"/>
                  </a:lnTo>
                  <a:lnTo>
                    <a:pt x="319" y="1157"/>
                  </a:lnTo>
                  <a:lnTo>
                    <a:pt x="348" y="1153"/>
                  </a:lnTo>
                  <a:lnTo>
                    <a:pt x="365" y="1149"/>
                  </a:lnTo>
                  <a:lnTo>
                    <a:pt x="365" y="1149"/>
                  </a:lnTo>
                  <a:lnTo>
                    <a:pt x="365" y="1147"/>
                  </a:lnTo>
                  <a:lnTo>
                    <a:pt x="365" y="1146"/>
                  </a:lnTo>
                  <a:lnTo>
                    <a:pt x="365" y="1146"/>
                  </a:lnTo>
                  <a:lnTo>
                    <a:pt x="363" y="1144"/>
                  </a:lnTo>
                  <a:lnTo>
                    <a:pt x="363" y="1142"/>
                  </a:lnTo>
                  <a:lnTo>
                    <a:pt x="363" y="1142"/>
                  </a:lnTo>
                  <a:lnTo>
                    <a:pt x="363" y="1140"/>
                  </a:lnTo>
                  <a:lnTo>
                    <a:pt x="348" y="1144"/>
                  </a:lnTo>
                  <a:lnTo>
                    <a:pt x="319" y="1147"/>
                  </a:lnTo>
                  <a:lnTo>
                    <a:pt x="290" y="1149"/>
                  </a:lnTo>
                  <a:lnTo>
                    <a:pt x="259" y="1149"/>
                  </a:lnTo>
                  <a:lnTo>
                    <a:pt x="231" y="1149"/>
                  </a:lnTo>
                  <a:lnTo>
                    <a:pt x="202" y="1147"/>
                  </a:lnTo>
                  <a:lnTo>
                    <a:pt x="173" y="1144"/>
                  </a:lnTo>
                  <a:lnTo>
                    <a:pt x="144" y="1138"/>
                  </a:lnTo>
                  <a:lnTo>
                    <a:pt x="117" y="1132"/>
                  </a:lnTo>
                  <a:lnTo>
                    <a:pt x="91" y="1124"/>
                  </a:lnTo>
                  <a:lnTo>
                    <a:pt x="64" y="1115"/>
                  </a:lnTo>
                  <a:lnTo>
                    <a:pt x="39" y="1105"/>
                  </a:lnTo>
                  <a:lnTo>
                    <a:pt x="14" y="1094"/>
                  </a:lnTo>
                  <a:lnTo>
                    <a:pt x="0" y="1088"/>
                  </a:lnTo>
                  <a:lnTo>
                    <a:pt x="2" y="1088"/>
                  </a:lnTo>
                  <a:lnTo>
                    <a:pt x="2" y="1090"/>
                  </a:lnTo>
                  <a:lnTo>
                    <a:pt x="2" y="1092"/>
                  </a:lnTo>
                  <a:lnTo>
                    <a:pt x="2" y="1094"/>
                  </a:lnTo>
                  <a:lnTo>
                    <a:pt x="2" y="1096"/>
                  </a:lnTo>
                  <a:lnTo>
                    <a:pt x="2" y="1098"/>
                  </a:lnTo>
                  <a:lnTo>
                    <a:pt x="2" y="1098"/>
                  </a:lnTo>
                  <a:lnTo>
                    <a:pt x="4" y="1099"/>
                  </a:lnTo>
                  <a:close/>
                </a:path>
              </a:pathLst>
            </a:custGeom>
            <a:solidFill>
              <a:srgbClr val="8fd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153"/>
            <p:cNvSpPr/>
            <p:nvPr/>
          </p:nvSpPr>
          <p:spPr>
            <a:xfrm>
              <a:off x="1976400" y="2247840"/>
              <a:ext cx="579600" cy="182376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1823760"/>
                <a:gd name="textAreaBottom" fmla="*/ 1824120 h 1823760"/>
              </a:gdLst>
              <a:ahLst/>
              <a:rect l="textAreaLeft" t="textAreaTop" r="textAreaRight" b="textAreaBottom"/>
              <a:pathLst>
                <a:path w="365" h="1149">
                  <a:moveTo>
                    <a:pt x="363" y="8"/>
                  </a:moveTo>
                  <a:lnTo>
                    <a:pt x="348" y="6"/>
                  </a:lnTo>
                  <a:lnTo>
                    <a:pt x="319" y="2"/>
                  </a:lnTo>
                  <a:lnTo>
                    <a:pt x="290" y="0"/>
                  </a:lnTo>
                  <a:lnTo>
                    <a:pt x="259" y="0"/>
                  </a:lnTo>
                  <a:lnTo>
                    <a:pt x="231" y="0"/>
                  </a:lnTo>
                  <a:lnTo>
                    <a:pt x="202" y="2"/>
                  </a:lnTo>
                  <a:lnTo>
                    <a:pt x="173" y="6"/>
                  </a:lnTo>
                  <a:lnTo>
                    <a:pt x="144" y="11"/>
                  </a:lnTo>
                  <a:lnTo>
                    <a:pt x="115" y="17"/>
                  </a:lnTo>
                  <a:lnTo>
                    <a:pt x="115" y="17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4" y="23"/>
                  </a:lnTo>
                  <a:lnTo>
                    <a:pt x="112" y="23"/>
                  </a:lnTo>
                  <a:lnTo>
                    <a:pt x="112" y="25"/>
                  </a:lnTo>
                  <a:lnTo>
                    <a:pt x="112" y="27"/>
                  </a:lnTo>
                  <a:lnTo>
                    <a:pt x="112" y="29"/>
                  </a:lnTo>
                  <a:lnTo>
                    <a:pt x="110" y="29"/>
                  </a:lnTo>
                  <a:lnTo>
                    <a:pt x="119" y="27"/>
                  </a:lnTo>
                  <a:lnTo>
                    <a:pt x="146" y="21"/>
                  </a:lnTo>
                  <a:lnTo>
                    <a:pt x="175" y="15"/>
                  </a:lnTo>
                  <a:lnTo>
                    <a:pt x="202" y="11"/>
                  </a:lnTo>
                  <a:lnTo>
                    <a:pt x="231" y="9"/>
                  </a:lnTo>
                  <a:lnTo>
                    <a:pt x="259" y="9"/>
                  </a:lnTo>
                  <a:lnTo>
                    <a:pt x="288" y="9"/>
                  </a:lnTo>
                  <a:lnTo>
                    <a:pt x="317" y="11"/>
                  </a:lnTo>
                  <a:lnTo>
                    <a:pt x="346" y="15"/>
                  </a:lnTo>
                  <a:lnTo>
                    <a:pt x="361" y="19"/>
                  </a:lnTo>
                  <a:lnTo>
                    <a:pt x="361" y="17"/>
                  </a:lnTo>
                  <a:lnTo>
                    <a:pt x="361" y="15"/>
                  </a:lnTo>
                  <a:lnTo>
                    <a:pt x="361" y="15"/>
                  </a:lnTo>
                  <a:lnTo>
                    <a:pt x="363" y="13"/>
                  </a:lnTo>
                  <a:lnTo>
                    <a:pt x="363" y="11"/>
                  </a:lnTo>
                  <a:lnTo>
                    <a:pt x="363" y="11"/>
                  </a:lnTo>
                  <a:lnTo>
                    <a:pt x="363" y="9"/>
                  </a:lnTo>
                  <a:lnTo>
                    <a:pt x="363" y="8"/>
                  </a:lnTo>
                  <a:close/>
                  <a:moveTo>
                    <a:pt x="2" y="1088"/>
                  </a:moveTo>
                  <a:lnTo>
                    <a:pt x="10" y="1092"/>
                  </a:lnTo>
                  <a:lnTo>
                    <a:pt x="37" y="1103"/>
                  </a:lnTo>
                  <a:lnTo>
                    <a:pt x="62" y="1115"/>
                  </a:lnTo>
                  <a:lnTo>
                    <a:pt x="89" y="1122"/>
                  </a:lnTo>
                  <a:lnTo>
                    <a:pt x="115" y="1130"/>
                  </a:lnTo>
                  <a:lnTo>
                    <a:pt x="144" y="1138"/>
                  </a:lnTo>
                  <a:lnTo>
                    <a:pt x="173" y="1141"/>
                  </a:lnTo>
                  <a:lnTo>
                    <a:pt x="202" y="1145"/>
                  </a:lnTo>
                  <a:lnTo>
                    <a:pt x="231" y="1147"/>
                  </a:lnTo>
                  <a:lnTo>
                    <a:pt x="259" y="1149"/>
                  </a:lnTo>
                  <a:lnTo>
                    <a:pt x="290" y="1147"/>
                  </a:lnTo>
                  <a:lnTo>
                    <a:pt x="319" y="1145"/>
                  </a:lnTo>
                  <a:lnTo>
                    <a:pt x="348" y="1141"/>
                  </a:lnTo>
                  <a:lnTo>
                    <a:pt x="365" y="1140"/>
                  </a:lnTo>
                  <a:lnTo>
                    <a:pt x="363" y="1138"/>
                  </a:lnTo>
                  <a:lnTo>
                    <a:pt x="363" y="1136"/>
                  </a:lnTo>
                  <a:lnTo>
                    <a:pt x="363" y="1136"/>
                  </a:lnTo>
                  <a:lnTo>
                    <a:pt x="363" y="1134"/>
                  </a:lnTo>
                  <a:lnTo>
                    <a:pt x="363" y="1134"/>
                  </a:lnTo>
                  <a:lnTo>
                    <a:pt x="361" y="1132"/>
                  </a:lnTo>
                  <a:lnTo>
                    <a:pt x="361" y="1130"/>
                  </a:lnTo>
                  <a:lnTo>
                    <a:pt x="361" y="1130"/>
                  </a:lnTo>
                  <a:lnTo>
                    <a:pt x="346" y="1132"/>
                  </a:lnTo>
                  <a:lnTo>
                    <a:pt x="317" y="1136"/>
                  </a:lnTo>
                  <a:lnTo>
                    <a:pt x="288" y="1138"/>
                  </a:lnTo>
                  <a:lnTo>
                    <a:pt x="259" y="1138"/>
                  </a:lnTo>
                  <a:lnTo>
                    <a:pt x="231" y="1138"/>
                  </a:lnTo>
                  <a:lnTo>
                    <a:pt x="202" y="1136"/>
                  </a:lnTo>
                  <a:lnTo>
                    <a:pt x="175" y="1132"/>
                  </a:lnTo>
                  <a:lnTo>
                    <a:pt x="146" y="1126"/>
                  </a:lnTo>
                  <a:lnTo>
                    <a:pt x="119" y="1120"/>
                  </a:lnTo>
                  <a:lnTo>
                    <a:pt x="92" y="1113"/>
                  </a:lnTo>
                  <a:lnTo>
                    <a:pt x="66" y="1105"/>
                  </a:lnTo>
                  <a:lnTo>
                    <a:pt x="41" y="1093"/>
                  </a:lnTo>
                  <a:lnTo>
                    <a:pt x="16" y="1082"/>
                  </a:lnTo>
                  <a:lnTo>
                    <a:pt x="0" y="1074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0" y="1080"/>
                  </a:lnTo>
                  <a:lnTo>
                    <a:pt x="2" y="1082"/>
                  </a:lnTo>
                  <a:lnTo>
                    <a:pt x="2" y="1082"/>
                  </a:lnTo>
                  <a:lnTo>
                    <a:pt x="2" y="1084"/>
                  </a:lnTo>
                  <a:lnTo>
                    <a:pt x="2" y="1086"/>
                  </a:lnTo>
                  <a:lnTo>
                    <a:pt x="2" y="1088"/>
                  </a:lnTo>
                  <a:close/>
                </a:path>
              </a:pathLst>
            </a:custGeom>
            <a:solidFill>
              <a:srgbClr val="90d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154"/>
            <p:cNvSpPr/>
            <p:nvPr/>
          </p:nvSpPr>
          <p:spPr>
            <a:xfrm>
              <a:off x="1973160" y="2253960"/>
              <a:ext cx="579600" cy="18082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1808280"/>
                <a:gd name="textAreaBottom" fmla="*/ 1808640 h 1808280"/>
              </a:gdLst>
              <a:ahLst/>
              <a:rect l="textAreaLeft" t="textAreaTop" r="textAreaRight" b="textAreaBottom"/>
              <a:pathLst>
                <a:path w="365" h="1139">
                  <a:moveTo>
                    <a:pt x="365" y="9"/>
                  </a:moveTo>
                  <a:lnTo>
                    <a:pt x="350" y="7"/>
                  </a:lnTo>
                  <a:lnTo>
                    <a:pt x="321" y="4"/>
                  </a:lnTo>
                  <a:lnTo>
                    <a:pt x="292" y="2"/>
                  </a:lnTo>
                  <a:lnTo>
                    <a:pt x="261" y="0"/>
                  </a:lnTo>
                  <a:lnTo>
                    <a:pt x="233" y="2"/>
                  </a:lnTo>
                  <a:lnTo>
                    <a:pt x="204" y="4"/>
                  </a:lnTo>
                  <a:lnTo>
                    <a:pt x="175" y="7"/>
                  </a:lnTo>
                  <a:lnTo>
                    <a:pt x="146" y="11"/>
                  </a:lnTo>
                  <a:lnTo>
                    <a:pt x="119" y="19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4" y="23"/>
                  </a:lnTo>
                  <a:lnTo>
                    <a:pt x="114" y="25"/>
                  </a:lnTo>
                  <a:lnTo>
                    <a:pt x="112" y="25"/>
                  </a:lnTo>
                  <a:lnTo>
                    <a:pt x="112" y="27"/>
                  </a:lnTo>
                  <a:lnTo>
                    <a:pt x="112" y="28"/>
                  </a:lnTo>
                  <a:lnTo>
                    <a:pt x="112" y="30"/>
                  </a:lnTo>
                  <a:lnTo>
                    <a:pt x="110" y="30"/>
                  </a:lnTo>
                  <a:lnTo>
                    <a:pt x="121" y="28"/>
                  </a:lnTo>
                  <a:lnTo>
                    <a:pt x="150" y="21"/>
                  </a:lnTo>
                  <a:lnTo>
                    <a:pt x="177" y="17"/>
                  </a:lnTo>
                  <a:lnTo>
                    <a:pt x="206" y="13"/>
                  </a:lnTo>
                  <a:lnTo>
                    <a:pt x="233" y="11"/>
                  </a:lnTo>
                  <a:lnTo>
                    <a:pt x="261" y="11"/>
                  </a:lnTo>
                  <a:lnTo>
                    <a:pt x="290" y="11"/>
                  </a:lnTo>
                  <a:lnTo>
                    <a:pt x="319" y="13"/>
                  </a:lnTo>
                  <a:lnTo>
                    <a:pt x="348" y="17"/>
                  </a:lnTo>
                  <a:lnTo>
                    <a:pt x="361" y="19"/>
                  </a:lnTo>
                  <a:lnTo>
                    <a:pt x="361" y="19"/>
                  </a:lnTo>
                  <a:lnTo>
                    <a:pt x="361" y="17"/>
                  </a:lnTo>
                  <a:lnTo>
                    <a:pt x="363" y="15"/>
                  </a:lnTo>
                  <a:lnTo>
                    <a:pt x="363" y="15"/>
                  </a:lnTo>
                  <a:lnTo>
                    <a:pt x="363" y="13"/>
                  </a:lnTo>
                  <a:lnTo>
                    <a:pt x="363" y="11"/>
                  </a:lnTo>
                  <a:lnTo>
                    <a:pt x="363" y="11"/>
                  </a:lnTo>
                  <a:lnTo>
                    <a:pt x="365" y="9"/>
                  </a:lnTo>
                  <a:close/>
                  <a:moveTo>
                    <a:pt x="2" y="1078"/>
                  </a:moveTo>
                  <a:lnTo>
                    <a:pt x="16" y="1084"/>
                  </a:lnTo>
                  <a:lnTo>
                    <a:pt x="41" y="1095"/>
                  </a:lnTo>
                  <a:lnTo>
                    <a:pt x="66" y="1105"/>
                  </a:lnTo>
                  <a:lnTo>
                    <a:pt x="93" y="1114"/>
                  </a:lnTo>
                  <a:lnTo>
                    <a:pt x="119" y="1122"/>
                  </a:lnTo>
                  <a:lnTo>
                    <a:pt x="146" y="1128"/>
                  </a:lnTo>
                  <a:lnTo>
                    <a:pt x="175" y="1134"/>
                  </a:lnTo>
                  <a:lnTo>
                    <a:pt x="204" y="1137"/>
                  </a:lnTo>
                  <a:lnTo>
                    <a:pt x="233" y="1139"/>
                  </a:lnTo>
                  <a:lnTo>
                    <a:pt x="261" y="1139"/>
                  </a:lnTo>
                  <a:lnTo>
                    <a:pt x="292" y="1139"/>
                  </a:lnTo>
                  <a:lnTo>
                    <a:pt x="321" y="1137"/>
                  </a:lnTo>
                  <a:lnTo>
                    <a:pt x="350" y="1134"/>
                  </a:lnTo>
                  <a:lnTo>
                    <a:pt x="365" y="1130"/>
                  </a:lnTo>
                  <a:lnTo>
                    <a:pt x="365" y="1130"/>
                  </a:lnTo>
                  <a:lnTo>
                    <a:pt x="363" y="1128"/>
                  </a:lnTo>
                  <a:lnTo>
                    <a:pt x="363" y="1126"/>
                  </a:lnTo>
                  <a:lnTo>
                    <a:pt x="363" y="1126"/>
                  </a:lnTo>
                  <a:lnTo>
                    <a:pt x="363" y="1124"/>
                  </a:lnTo>
                  <a:lnTo>
                    <a:pt x="363" y="1122"/>
                  </a:lnTo>
                  <a:lnTo>
                    <a:pt x="363" y="1122"/>
                  </a:lnTo>
                  <a:lnTo>
                    <a:pt x="361" y="1120"/>
                  </a:lnTo>
                  <a:lnTo>
                    <a:pt x="348" y="1122"/>
                  </a:lnTo>
                  <a:lnTo>
                    <a:pt x="319" y="1126"/>
                  </a:lnTo>
                  <a:lnTo>
                    <a:pt x="290" y="1128"/>
                  </a:lnTo>
                  <a:lnTo>
                    <a:pt x="261" y="1130"/>
                  </a:lnTo>
                  <a:lnTo>
                    <a:pt x="233" y="1128"/>
                  </a:lnTo>
                  <a:lnTo>
                    <a:pt x="206" y="1126"/>
                  </a:lnTo>
                  <a:lnTo>
                    <a:pt x="177" y="1122"/>
                  </a:lnTo>
                  <a:lnTo>
                    <a:pt x="150" y="1118"/>
                  </a:lnTo>
                  <a:lnTo>
                    <a:pt x="121" y="1113"/>
                  </a:lnTo>
                  <a:lnTo>
                    <a:pt x="96" y="1105"/>
                  </a:lnTo>
                  <a:lnTo>
                    <a:pt x="69" y="1095"/>
                  </a:lnTo>
                  <a:lnTo>
                    <a:pt x="45" y="1086"/>
                  </a:lnTo>
                  <a:lnTo>
                    <a:pt x="20" y="1074"/>
                  </a:lnTo>
                  <a:lnTo>
                    <a:pt x="0" y="1065"/>
                  </a:lnTo>
                  <a:lnTo>
                    <a:pt x="2" y="1066"/>
                  </a:lnTo>
                  <a:lnTo>
                    <a:pt x="2" y="1068"/>
                  </a:lnTo>
                  <a:lnTo>
                    <a:pt x="2" y="1070"/>
                  </a:lnTo>
                  <a:lnTo>
                    <a:pt x="2" y="1070"/>
                  </a:lnTo>
                  <a:lnTo>
                    <a:pt x="2" y="1072"/>
                  </a:lnTo>
                  <a:lnTo>
                    <a:pt x="2" y="1074"/>
                  </a:lnTo>
                  <a:lnTo>
                    <a:pt x="2" y="1076"/>
                  </a:lnTo>
                  <a:lnTo>
                    <a:pt x="2" y="1078"/>
                  </a:lnTo>
                  <a:close/>
                </a:path>
              </a:pathLst>
            </a:custGeom>
            <a:solidFill>
              <a:srgbClr val="91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155"/>
            <p:cNvSpPr/>
            <p:nvPr/>
          </p:nvSpPr>
          <p:spPr>
            <a:xfrm>
              <a:off x="1973160" y="2261880"/>
              <a:ext cx="576360" cy="179244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792440"/>
                <a:gd name="textAreaBottom" fmla="*/ 1792800 h 1792440"/>
              </a:gdLst>
              <a:ahLst/>
              <a:rect l="textAreaLeft" t="textAreaTop" r="textAreaRight" b="textAreaBottom"/>
              <a:pathLst>
                <a:path w="363" h="1129">
                  <a:moveTo>
                    <a:pt x="363" y="10"/>
                  </a:moveTo>
                  <a:lnTo>
                    <a:pt x="348" y="6"/>
                  </a:lnTo>
                  <a:lnTo>
                    <a:pt x="319" y="2"/>
                  </a:lnTo>
                  <a:lnTo>
                    <a:pt x="290" y="0"/>
                  </a:lnTo>
                  <a:lnTo>
                    <a:pt x="261" y="0"/>
                  </a:lnTo>
                  <a:lnTo>
                    <a:pt x="233" y="0"/>
                  </a:lnTo>
                  <a:lnTo>
                    <a:pt x="204" y="2"/>
                  </a:lnTo>
                  <a:lnTo>
                    <a:pt x="177" y="6"/>
                  </a:lnTo>
                  <a:lnTo>
                    <a:pt x="148" y="12"/>
                  </a:lnTo>
                  <a:lnTo>
                    <a:pt x="121" y="18"/>
                  </a:lnTo>
                  <a:lnTo>
                    <a:pt x="112" y="20"/>
                  </a:lnTo>
                  <a:lnTo>
                    <a:pt x="112" y="22"/>
                  </a:lnTo>
                  <a:lnTo>
                    <a:pt x="112" y="23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10" y="27"/>
                  </a:lnTo>
                  <a:lnTo>
                    <a:pt x="110" y="29"/>
                  </a:lnTo>
                  <a:lnTo>
                    <a:pt x="110" y="31"/>
                  </a:lnTo>
                  <a:lnTo>
                    <a:pt x="108" y="33"/>
                  </a:lnTo>
                  <a:lnTo>
                    <a:pt x="123" y="27"/>
                  </a:lnTo>
                  <a:lnTo>
                    <a:pt x="150" y="22"/>
                  </a:lnTo>
                  <a:lnTo>
                    <a:pt x="177" y="18"/>
                  </a:lnTo>
                  <a:lnTo>
                    <a:pt x="206" y="14"/>
                  </a:lnTo>
                  <a:lnTo>
                    <a:pt x="233" y="12"/>
                  </a:lnTo>
                  <a:lnTo>
                    <a:pt x="261" y="10"/>
                  </a:lnTo>
                  <a:lnTo>
                    <a:pt x="290" y="12"/>
                  </a:lnTo>
                  <a:lnTo>
                    <a:pt x="319" y="14"/>
                  </a:lnTo>
                  <a:lnTo>
                    <a:pt x="346" y="18"/>
                  </a:lnTo>
                  <a:lnTo>
                    <a:pt x="359" y="20"/>
                  </a:lnTo>
                  <a:lnTo>
                    <a:pt x="361" y="18"/>
                  </a:lnTo>
                  <a:lnTo>
                    <a:pt x="361" y="18"/>
                  </a:lnTo>
                  <a:lnTo>
                    <a:pt x="361" y="16"/>
                  </a:lnTo>
                  <a:lnTo>
                    <a:pt x="361" y="14"/>
                  </a:lnTo>
                  <a:lnTo>
                    <a:pt x="361" y="14"/>
                  </a:lnTo>
                  <a:lnTo>
                    <a:pt x="361" y="12"/>
                  </a:lnTo>
                  <a:lnTo>
                    <a:pt x="363" y="10"/>
                  </a:lnTo>
                  <a:lnTo>
                    <a:pt x="363" y="10"/>
                  </a:lnTo>
                  <a:close/>
                  <a:moveTo>
                    <a:pt x="2" y="1065"/>
                  </a:moveTo>
                  <a:lnTo>
                    <a:pt x="18" y="1073"/>
                  </a:lnTo>
                  <a:lnTo>
                    <a:pt x="43" y="1084"/>
                  </a:lnTo>
                  <a:lnTo>
                    <a:pt x="68" y="1096"/>
                  </a:lnTo>
                  <a:lnTo>
                    <a:pt x="94" y="1104"/>
                  </a:lnTo>
                  <a:lnTo>
                    <a:pt x="121" y="1111"/>
                  </a:lnTo>
                  <a:lnTo>
                    <a:pt x="148" y="1117"/>
                  </a:lnTo>
                  <a:lnTo>
                    <a:pt x="177" y="1123"/>
                  </a:lnTo>
                  <a:lnTo>
                    <a:pt x="204" y="1127"/>
                  </a:lnTo>
                  <a:lnTo>
                    <a:pt x="233" y="1129"/>
                  </a:lnTo>
                  <a:lnTo>
                    <a:pt x="261" y="1129"/>
                  </a:lnTo>
                  <a:lnTo>
                    <a:pt x="290" y="1129"/>
                  </a:lnTo>
                  <a:lnTo>
                    <a:pt x="319" y="1127"/>
                  </a:lnTo>
                  <a:lnTo>
                    <a:pt x="348" y="1123"/>
                  </a:lnTo>
                  <a:lnTo>
                    <a:pt x="363" y="1121"/>
                  </a:lnTo>
                  <a:lnTo>
                    <a:pt x="363" y="1119"/>
                  </a:lnTo>
                  <a:lnTo>
                    <a:pt x="363" y="1117"/>
                  </a:lnTo>
                  <a:lnTo>
                    <a:pt x="363" y="1117"/>
                  </a:lnTo>
                  <a:lnTo>
                    <a:pt x="361" y="1115"/>
                  </a:lnTo>
                  <a:lnTo>
                    <a:pt x="361" y="1113"/>
                  </a:lnTo>
                  <a:lnTo>
                    <a:pt x="361" y="1113"/>
                  </a:lnTo>
                  <a:lnTo>
                    <a:pt x="361" y="1111"/>
                  </a:lnTo>
                  <a:lnTo>
                    <a:pt x="361" y="1109"/>
                  </a:lnTo>
                  <a:lnTo>
                    <a:pt x="346" y="1113"/>
                  </a:lnTo>
                  <a:lnTo>
                    <a:pt x="319" y="1117"/>
                  </a:lnTo>
                  <a:lnTo>
                    <a:pt x="290" y="1119"/>
                  </a:lnTo>
                  <a:lnTo>
                    <a:pt x="261" y="1119"/>
                  </a:lnTo>
                  <a:lnTo>
                    <a:pt x="233" y="1119"/>
                  </a:lnTo>
                  <a:lnTo>
                    <a:pt x="206" y="1117"/>
                  </a:lnTo>
                  <a:lnTo>
                    <a:pt x="177" y="1113"/>
                  </a:lnTo>
                  <a:lnTo>
                    <a:pt x="150" y="1108"/>
                  </a:lnTo>
                  <a:lnTo>
                    <a:pt x="123" y="1102"/>
                  </a:lnTo>
                  <a:lnTo>
                    <a:pt x="96" y="1094"/>
                  </a:lnTo>
                  <a:lnTo>
                    <a:pt x="71" y="1086"/>
                  </a:lnTo>
                  <a:lnTo>
                    <a:pt x="46" y="1075"/>
                  </a:lnTo>
                  <a:lnTo>
                    <a:pt x="21" y="1065"/>
                  </a:lnTo>
                  <a:lnTo>
                    <a:pt x="0" y="1054"/>
                  </a:lnTo>
                  <a:lnTo>
                    <a:pt x="0" y="1056"/>
                  </a:lnTo>
                  <a:lnTo>
                    <a:pt x="0" y="1056"/>
                  </a:lnTo>
                  <a:lnTo>
                    <a:pt x="0" y="1058"/>
                  </a:lnTo>
                  <a:lnTo>
                    <a:pt x="0" y="1060"/>
                  </a:lnTo>
                  <a:lnTo>
                    <a:pt x="2" y="1061"/>
                  </a:lnTo>
                  <a:lnTo>
                    <a:pt x="2" y="1063"/>
                  </a:lnTo>
                  <a:lnTo>
                    <a:pt x="2" y="1065"/>
                  </a:lnTo>
                  <a:lnTo>
                    <a:pt x="2" y="1065"/>
                  </a:lnTo>
                  <a:close/>
                </a:path>
              </a:pathLst>
            </a:custGeom>
            <a:solidFill>
              <a:srgbClr val="9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156"/>
            <p:cNvSpPr/>
            <p:nvPr/>
          </p:nvSpPr>
          <p:spPr>
            <a:xfrm>
              <a:off x="1969920" y="2271600"/>
              <a:ext cx="576360" cy="177624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776240"/>
                <a:gd name="textAreaBottom" fmla="*/ 1776600 h 1776240"/>
              </a:gdLst>
              <a:ahLst/>
              <a:rect l="textAreaLeft" t="textAreaTop" r="textAreaRight" b="textAreaBottom"/>
              <a:pathLst>
                <a:path w="363" h="1119">
                  <a:moveTo>
                    <a:pt x="363" y="8"/>
                  </a:moveTo>
                  <a:lnTo>
                    <a:pt x="350" y="6"/>
                  </a:lnTo>
                  <a:lnTo>
                    <a:pt x="321" y="2"/>
                  </a:lnTo>
                  <a:lnTo>
                    <a:pt x="292" y="0"/>
                  </a:lnTo>
                  <a:lnTo>
                    <a:pt x="263" y="0"/>
                  </a:lnTo>
                  <a:lnTo>
                    <a:pt x="235" y="0"/>
                  </a:lnTo>
                  <a:lnTo>
                    <a:pt x="208" y="2"/>
                  </a:lnTo>
                  <a:lnTo>
                    <a:pt x="179" y="6"/>
                  </a:lnTo>
                  <a:lnTo>
                    <a:pt x="152" y="10"/>
                  </a:lnTo>
                  <a:lnTo>
                    <a:pt x="123" y="17"/>
                  </a:lnTo>
                  <a:lnTo>
                    <a:pt x="112" y="19"/>
                  </a:lnTo>
                  <a:lnTo>
                    <a:pt x="112" y="21"/>
                  </a:lnTo>
                  <a:lnTo>
                    <a:pt x="112" y="23"/>
                  </a:lnTo>
                  <a:lnTo>
                    <a:pt x="112" y="25"/>
                  </a:lnTo>
                  <a:lnTo>
                    <a:pt x="110" y="27"/>
                  </a:lnTo>
                  <a:lnTo>
                    <a:pt x="110" y="27"/>
                  </a:lnTo>
                  <a:lnTo>
                    <a:pt x="110" y="29"/>
                  </a:lnTo>
                  <a:lnTo>
                    <a:pt x="108" y="31"/>
                  </a:lnTo>
                  <a:lnTo>
                    <a:pt x="108" y="33"/>
                  </a:lnTo>
                  <a:lnTo>
                    <a:pt x="127" y="27"/>
                  </a:lnTo>
                  <a:lnTo>
                    <a:pt x="154" y="21"/>
                  </a:lnTo>
                  <a:lnTo>
                    <a:pt x="181" y="16"/>
                  </a:lnTo>
                  <a:lnTo>
                    <a:pt x="208" y="12"/>
                  </a:lnTo>
                  <a:lnTo>
                    <a:pt x="237" y="10"/>
                  </a:lnTo>
                  <a:lnTo>
                    <a:pt x="263" y="10"/>
                  </a:lnTo>
                  <a:lnTo>
                    <a:pt x="292" y="10"/>
                  </a:lnTo>
                  <a:lnTo>
                    <a:pt x="321" y="12"/>
                  </a:lnTo>
                  <a:lnTo>
                    <a:pt x="348" y="16"/>
                  </a:lnTo>
                  <a:lnTo>
                    <a:pt x="361" y="17"/>
                  </a:lnTo>
                  <a:lnTo>
                    <a:pt x="361" y="17"/>
                  </a:lnTo>
                  <a:lnTo>
                    <a:pt x="361" y="16"/>
                  </a:lnTo>
                  <a:lnTo>
                    <a:pt x="361" y="14"/>
                  </a:lnTo>
                  <a:lnTo>
                    <a:pt x="361" y="14"/>
                  </a:lnTo>
                  <a:lnTo>
                    <a:pt x="363" y="12"/>
                  </a:lnTo>
                  <a:lnTo>
                    <a:pt x="363" y="12"/>
                  </a:lnTo>
                  <a:lnTo>
                    <a:pt x="363" y="10"/>
                  </a:lnTo>
                  <a:lnTo>
                    <a:pt x="363" y="8"/>
                  </a:lnTo>
                  <a:close/>
                  <a:moveTo>
                    <a:pt x="2" y="1054"/>
                  </a:moveTo>
                  <a:lnTo>
                    <a:pt x="22" y="1063"/>
                  </a:lnTo>
                  <a:lnTo>
                    <a:pt x="47" y="1075"/>
                  </a:lnTo>
                  <a:lnTo>
                    <a:pt x="71" y="1084"/>
                  </a:lnTo>
                  <a:lnTo>
                    <a:pt x="98" y="1094"/>
                  </a:lnTo>
                  <a:lnTo>
                    <a:pt x="123" y="1102"/>
                  </a:lnTo>
                  <a:lnTo>
                    <a:pt x="152" y="1107"/>
                  </a:lnTo>
                  <a:lnTo>
                    <a:pt x="179" y="1111"/>
                  </a:lnTo>
                  <a:lnTo>
                    <a:pt x="208" y="1115"/>
                  </a:lnTo>
                  <a:lnTo>
                    <a:pt x="235" y="1117"/>
                  </a:lnTo>
                  <a:lnTo>
                    <a:pt x="263" y="1119"/>
                  </a:lnTo>
                  <a:lnTo>
                    <a:pt x="292" y="1117"/>
                  </a:lnTo>
                  <a:lnTo>
                    <a:pt x="321" y="1115"/>
                  </a:lnTo>
                  <a:lnTo>
                    <a:pt x="350" y="1111"/>
                  </a:lnTo>
                  <a:lnTo>
                    <a:pt x="363" y="1109"/>
                  </a:lnTo>
                  <a:lnTo>
                    <a:pt x="363" y="1107"/>
                  </a:lnTo>
                  <a:lnTo>
                    <a:pt x="363" y="1107"/>
                  </a:lnTo>
                  <a:lnTo>
                    <a:pt x="363" y="1105"/>
                  </a:lnTo>
                  <a:lnTo>
                    <a:pt x="363" y="1103"/>
                  </a:lnTo>
                  <a:lnTo>
                    <a:pt x="363" y="1103"/>
                  </a:lnTo>
                  <a:lnTo>
                    <a:pt x="361" y="1102"/>
                  </a:lnTo>
                  <a:lnTo>
                    <a:pt x="361" y="1100"/>
                  </a:lnTo>
                  <a:lnTo>
                    <a:pt x="361" y="1100"/>
                  </a:lnTo>
                  <a:lnTo>
                    <a:pt x="348" y="1102"/>
                  </a:lnTo>
                  <a:lnTo>
                    <a:pt x="321" y="1105"/>
                  </a:lnTo>
                  <a:lnTo>
                    <a:pt x="292" y="1107"/>
                  </a:lnTo>
                  <a:lnTo>
                    <a:pt x="263" y="1107"/>
                  </a:lnTo>
                  <a:lnTo>
                    <a:pt x="237" y="1107"/>
                  </a:lnTo>
                  <a:lnTo>
                    <a:pt x="208" y="1105"/>
                  </a:lnTo>
                  <a:lnTo>
                    <a:pt x="181" y="1102"/>
                  </a:lnTo>
                  <a:lnTo>
                    <a:pt x="154" y="1098"/>
                  </a:lnTo>
                  <a:lnTo>
                    <a:pt x="127" y="1090"/>
                  </a:lnTo>
                  <a:lnTo>
                    <a:pt x="100" y="1084"/>
                  </a:lnTo>
                  <a:lnTo>
                    <a:pt x="75" y="1075"/>
                  </a:lnTo>
                  <a:lnTo>
                    <a:pt x="50" y="1065"/>
                  </a:lnTo>
                  <a:lnTo>
                    <a:pt x="25" y="1054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2" y="1042"/>
                  </a:lnTo>
                  <a:lnTo>
                    <a:pt x="2" y="1044"/>
                  </a:lnTo>
                  <a:lnTo>
                    <a:pt x="2" y="1046"/>
                  </a:lnTo>
                  <a:lnTo>
                    <a:pt x="2" y="1048"/>
                  </a:lnTo>
                  <a:lnTo>
                    <a:pt x="2" y="1050"/>
                  </a:lnTo>
                  <a:lnTo>
                    <a:pt x="2" y="1050"/>
                  </a:lnTo>
                  <a:lnTo>
                    <a:pt x="2" y="1052"/>
                  </a:lnTo>
                  <a:lnTo>
                    <a:pt x="2" y="1054"/>
                  </a:lnTo>
                  <a:close/>
                </a:path>
              </a:pathLst>
            </a:custGeom>
            <a:solidFill>
              <a:srgbClr val="93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157"/>
            <p:cNvSpPr/>
            <p:nvPr/>
          </p:nvSpPr>
          <p:spPr>
            <a:xfrm>
              <a:off x="1969920" y="2277720"/>
              <a:ext cx="576360" cy="17607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760760"/>
                <a:gd name="textAreaBottom" fmla="*/ 1761120 h 1760760"/>
              </a:gdLst>
              <a:ahLst/>
              <a:rect l="textAreaLeft" t="textAreaTop" r="textAreaRight" b="textAreaBottom"/>
              <a:pathLst>
                <a:path w="363" h="1109">
                  <a:moveTo>
                    <a:pt x="361" y="10"/>
                  </a:moveTo>
                  <a:lnTo>
                    <a:pt x="348" y="8"/>
                  </a:lnTo>
                  <a:lnTo>
                    <a:pt x="321" y="4"/>
                  </a:lnTo>
                  <a:lnTo>
                    <a:pt x="292" y="2"/>
                  </a:lnTo>
                  <a:lnTo>
                    <a:pt x="263" y="0"/>
                  </a:lnTo>
                  <a:lnTo>
                    <a:pt x="235" y="2"/>
                  </a:lnTo>
                  <a:lnTo>
                    <a:pt x="208" y="4"/>
                  </a:lnTo>
                  <a:lnTo>
                    <a:pt x="179" y="8"/>
                  </a:lnTo>
                  <a:lnTo>
                    <a:pt x="152" y="12"/>
                  </a:lnTo>
                  <a:lnTo>
                    <a:pt x="125" y="17"/>
                  </a:lnTo>
                  <a:lnTo>
                    <a:pt x="110" y="23"/>
                  </a:lnTo>
                  <a:lnTo>
                    <a:pt x="110" y="23"/>
                  </a:lnTo>
                  <a:lnTo>
                    <a:pt x="110" y="25"/>
                  </a:lnTo>
                  <a:lnTo>
                    <a:pt x="108" y="27"/>
                  </a:lnTo>
                  <a:lnTo>
                    <a:pt x="108" y="29"/>
                  </a:lnTo>
                  <a:lnTo>
                    <a:pt x="108" y="29"/>
                  </a:lnTo>
                  <a:lnTo>
                    <a:pt x="108" y="31"/>
                  </a:lnTo>
                  <a:lnTo>
                    <a:pt x="106" y="33"/>
                  </a:lnTo>
                  <a:lnTo>
                    <a:pt x="106" y="35"/>
                  </a:lnTo>
                  <a:lnTo>
                    <a:pt x="127" y="29"/>
                  </a:lnTo>
                  <a:lnTo>
                    <a:pt x="154" y="21"/>
                  </a:lnTo>
                  <a:lnTo>
                    <a:pt x="181" y="17"/>
                  </a:lnTo>
                  <a:lnTo>
                    <a:pt x="208" y="13"/>
                  </a:lnTo>
                  <a:lnTo>
                    <a:pt x="237" y="12"/>
                  </a:lnTo>
                  <a:lnTo>
                    <a:pt x="263" y="12"/>
                  </a:lnTo>
                  <a:lnTo>
                    <a:pt x="292" y="12"/>
                  </a:lnTo>
                  <a:lnTo>
                    <a:pt x="319" y="13"/>
                  </a:lnTo>
                  <a:lnTo>
                    <a:pt x="346" y="17"/>
                  </a:lnTo>
                  <a:lnTo>
                    <a:pt x="359" y="19"/>
                  </a:lnTo>
                  <a:lnTo>
                    <a:pt x="359" y="17"/>
                  </a:lnTo>
                  <a:lnTo>
                    <a:pt x="359" y="17"/>
                  </a:lnTo>
                  <a:lnTo>
                    <a:pt x="359" y="15"/>
                  </a:lnTo>
                  <a:lnTo>
                    <a:pt x="361" y="13"/>
                  </a:lnTo>
                  <a:lnTo>
                    <a:pt x="361" y="13"/>
                  </a:lnTo>
                  <a:lnTo>
                    <a:pt x="361" y="12"/>
                  </a:lnTo>
                  <a:lnTo>
                    <a:pt x="361" y="10"/>
                  </a:lnTo>
                  <a:lnTo>
                    <a:pt x="361" y="10"/>
                  </a:lnTo>
                  <a:close/>
                  <a:moveTo>
                    <a:pt x="2" y="1044"/>
                  </a:moveTo>
                  <a:lnTo>
                    <a:pt x="23" y="1055"/>
                  </a:lnTo>
                  <a:lnTo>
                    <a:pt x="48" y="1065"/>
                  </a:lnTo>
                  <a:lnTo>
                    <a:pt x="73" y="1076"/>
                  </a:lnTo>
                  <a:lnTo>
                    <a:pt x="98" y="1084"/>
                  </a:lnTo>
                  <a:lnTo>
                    <a:pt x="125" y="1092"/>
                  </a:lnTo>
                  <a:lnTo>
                    <a:pt x="152" y="1098"/>
                  </a:lnTo>
                  <a:lnTo>
                    <a:pt x="179" y="1103"/>
                  </a:lnTo>
                  <a:lnTo>
                    <a:pt x="208" y="1107"/>
                  </a:lnTo>
                  <a:lnTo>
                    <a:pt x="235" y="1109"/>
                  </a:lnTo>
                  <a:lnTo>
                    <a:pt x="263" y="1109"/>
                  </a:lnTo>
                  <a:lnTo>
                    <a:pt x="292" y="1109"/>
                  </a:lnTo>
                  <a:lnTo>
                    <a:pt x="321" y="1107"/>
                  </a:lnTo>
                  <a:lnTo>
                    <a:pt x="348" y="1103"/>
                  </a:lnTo>
                  <a:lnTo>
                    <a:pt x="363" y="1099"/>
                  </a:lnTo>
                  <a:lnTo>
                    <a:pt x="363" y="1099"/>
                  </a:lnTo>
                  <a:lnTo>
                    <a:pt x="361" y="1098"/>
                  </a:lnTo>
                  <a:lnTo>
                    <a:pt x="361" y="1096"/>
                  </a:lnTo>
                  <a:lnTo>
                    <a:pt x="361" y="1096"/>
                  </a:lnTo>
                  <a:lnTo>
                    <a:pt x="361" y="1094"/>
                  </a:lnTo>
                  <a:lnTo>
                    <a:pt x="361" y="1094"/>
                  </a:lnTo>
                  <a:lnTo>
                    <a:pt x="361" y="1092"/>
                  </a:lnTo>
                  <a:lnTo>
                    <a:pt x="359" y="1090"/>
                  </a:lnTo>
                  <a:lnTo>
                    <a:pt x="346" y="1092"/>
                  </a:lnTo>
                  <a:lnTo>
                    <a:pt x="319" y="1096"/>
                  </a:lnTo>
                  <a:lnTo>
                    <a:pt x="292" y="1098"/>
                  </a:lnTo>
                  <a:lnTo>
                    <a:pt x="263" y="1099"/>
                  </a:lnTo>
                  <a:lnTo>
                    <a:pt x="237" y="1098"/>
                  </a:lnTo>
                  <a:lnTo>
                    <a:pt x="208" y="1096"/>
                  </a:lnTo>
                  <a:lnTo>
                    <a:pt x="181" y="1092"/>
                  </a:lnTo>
                  <a:lnTo>
                    <a:pt x="154" y="1088"/>
                  </a:lnTo>
                  <a:lnTo>
                    <a:pt x="127" y="1082"/>
                  </a:lnTo>
                  <a:lnTo>
                    <a:pt x="102" y="1074"/>
                  </a:lnTo>
                  <a:lnTo>
                    <a:pt x="77" y="1065"/>
                  </a:lnTo>
                  <a:lnTo>
                    <a:pt x="52" y="1055"/>
                  </a:lnTo>
                  <a:lnTo>
                    <a:pt x="27" y="1046"/>
                  </a:lnTo>
                  <a:lnTo>
                    <a:pt x="4" y="1032"/>
                  </a:lnTo>
                  <a:lnTo>
                    <a:pt x="0" y="1030"/>
                  </a:lnTo>
                  <a:lnTo>
                    <a:pt x="0" y="1032"/>
                  </a:lnTo>
                  <a:lnTo>
                    <a:pt x="0" y="1034"/>
                  </a:lnTo>
                  <a:lnTo>
                    <a:pt x="0" y="1036"/>
                  </a:lnTo>
                  <a:lnTo>
                    <a:pt x="0" y="1038"/>
                  </a:lnTo>
                  <a:lnTo>
                    <a:pt x="2" y="1038"/>
                  </a:lnTo>
                  <a:lnTo>
                    <a:pt x="2" y="1040"/>
                  </a:lnTo>
                  <a:lnTo>
                    <a:pt x="2" y="1042"/>
                  </a:lnTo>
                  <a:lnTo>
                    <a:pt x="2" y="1044"/>
                  </a:lnTo>
                  <a:close/>
                </a:path>
              </a:pathLst>
            </a:custGeom>
            <a:solidFill>
              <a:srgbClr val="9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158"/>
            <p:cNvSpPr/>
            <p:nvPr/>
          </p:nvSpPr>
          <p:spPr>
            <a:xfrm>
              <a:off x="1968480" y="2287440"/>
              <a:ext cx="574560" cy="174132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1741320"/>
                <a:gd name="textAreaBottom" fmla="*/ 1741680 h 1741320"/>
              </a:gdLst>
              <a:ahLst/>
              <a:rect l="textAreaLeft" t="textAreaTop" r="textAreaRight" b="textAreaBottom"/>
              <a:pathLst>
                <a:path w="362" h="1097">
                  <a:moveTo>
                    <a:pt x="362" y="7"/>
                  </a:moveTo>
                  <a:lnTo>
                    <a:pt x="349" y="6"/>
                  </a:lnTo>
                  <a:lnTo>
                    <a:pt x="322" y="2"/>
                  </a:lnTo>
                  <a:lnTo>
                    <a:pt x="293" y="0"/>
                  </a:lnTo>
                  <a:lnTo>
                    <a:pt x="264" y="0"/>
                  </a:lnTo>
                  <a:lnTo>
                    <a:pt x="238" y="0"/>
                  </a:lnTo>
                  <a:lnTo>
                    <a:pt x="209" y="2"/>
                  </a:lnTo>
                  <a:lnTo>
                    <a:pt x="182" y="6"/>
                  </a:lnTo>
                  <a:lnTo>
                    <a:pt x="155" y="11"/>
                  </a:lnTo>
                  <a:lnTo>
                    <a:pt x="128" y="17"/>
                  </a:lnTo>
                  <a:lnTo>
                    <a:pt x="109" y="23"/>
                  </a:lnTo>
                  <a:lnTo>
                    <a:pt x="109" y="23"/>
                  </a:lnTo>
                  <a:lnTo>
                    <a:pt x="109" y="25"/>
                  </a:lnTo>
                  <a:lnTo>
                    <a:pt x="107" y="27"/>
                  </a:lnTo>
                  <a:lnTo>
                    <a:pt x="107" y="29"/>
                  </a:lnTo>
                  <a:lnTo>
                    <a:pt x="107" y="30"/>
                  </a:lnTo>
                  <a:lnTo>
                    <a:pt x="107" y="30"/>
                  </a:lnTo>
                  <a:lnTo>
                    <a:pt x="105" y="32"/>
                  </a:lnTo>
                  <a:lnTo>
                    <a:pt x="105" y="34"/>
                  </a:lnTo>
                  <a:lnTo>
                    <a:pt x="130" y="27"/>
                  </a:lnTo>
                  <a:lnTo>
                    <a:pt x="157" y="21"/>
                  </a:lnTo>
                  <a:lnTo>
                    <a:pt x="184" y="17"/>
                  </a:lnTo>
                  <a:lnTo>
                    <a:pt x="211" y="13"/>
                  </a:lnTo>
                  <a:lnTo>
                    <a:pt x="238" y="11"/>
                  </a:lnTo>
                  <a:lnTo>
                    <a:pt x="264" y="9"/>
                  </a:lnTo>
                  <a:lnTo>
                    <a:pt x="293" y="11"/>
                  </a:lnTo>
                  <a:lnTo>
                    <a:pt x="320" y="13"/>
                  </a:lnTo>
                  <a:lnTo>
                    <a:pt x="347" y="17"/>
                  </a:lnTo>
                  <a:lnTo>
                    <a:pt x="358" y="19"/>
                  </a:lnTo>
                  <a:lnTo>
                    <a:pt x="358" y="17"/>
                  </a:lnTo>
                  <a:lnTo>
                    <a:pt x="360" y="15"/>
                  </a:lnTo>
                  <a:lnTo>
                    <a:pt x="360" y="15"/>
                  </a:lnTo>
                  <a:lnTo>
                    <a:pt x="360" y="13"/>
                  </a:lnTo>
                  <a:lnTo>
                    <a:pt x="360" y="11"/>
                  </a:lnTo>
                  <a:lnTo>
                    <a:pt x="360" y="11"/>
                  </a:lnTo>
                  <a:lnTo>
                    <a:pt x="360" y="9"/>
                  </a:lnTo>
                  <a:lnTo>
                    <a:pt x="362" y="7"/>
                  </a:lnTo>
                  <a:close/>
                  <a:moveTo>
                    <a:pt x="1" y="1032"/>
                  </a:moveTo>
                  <a:lnTo>
                    <a:pt x="3" y="1032"/>
                  </a:lnTo>
                  <a:lnTo>
                    <a:pt x="26" y="1044"/>
                  </a:lnTo>
                  <a:lnTo>
                    <a:pt x="51" y="1055"/>
                  </a:lnTo>
                  <a:lnTo>
                    <a:pt x="76" y="1065"/>
                  </a:lnTo>
                  <a:lnTo>
                    <a:pt x="101" y="1074"/>
                  </a:lnTo>
                  <a:lnTo>
                    <a:pt x="128" y="1080"/>
                  </a:lnTo>
                  <a:lnTo>
                    <a:pt x="155" y="1088"/>
                  </a:lnTo>
                  <a:lnTo>
                    <a:pt x="182" y="1092"/>
                  </a:lnTo>
                  <a:lnTo>
                    <a:pt x="209" y="1095"/>
                  </a:lnTo>
                  <a:lnTo>
                    <a:pt x="238" y="1097"/>
                  </a:lnTo>
                  <a:lnTo>
                    <a:pt x="264" y="1097"/>
                  </a:lnTo>
                  <a:lnTo>
                    <a:pt x="293" y="1097"/>
                  </a:lnTo>
                  <a:lnTo>
                    <a:pt x="322" y="1095"/>
                  </a:lnTo>
                  <a:lnTo>
                    <a:pt x="349" y="1092"/>
                  </a:lnTo>
                  <a:lnTo>
                    <a:pt x="362" y="1090"/>
                  </a:lnTo>
                  <a:lnTo>
                    <a:pt x="362" y="1088"/>
                  </a:lnTo>
                  <a:lnTo>
                    <a:pt x="362" y="1088"/>
                  </a:lnTo>
                  <a:lnTo>
                    <a:pt x="362" y="1086"/>
                  </a:lnTo>
                  <a:lnTo>
                    <a:pt x="360" y="1084"/>
                  </a:lnTo>
                  <a:lnTo>
                    <a:pt x="360" y="1084"/>
                  </a:lnTo>
                  <a:lnTo>
                    <a:pt x="360" y="1082"/>
                  </a:lnTo>
                  <a:lnTo>
                    <a:pt x="360" y="1080"/>
                  </a:lnTo>
                  <a:lnTo>
                    <a:pt x="360" y="1080"/>
                  </a:lnTo>
                  <a:lnTo>
                    <a:pt x="347" y="1082"/>
                  </a:lnTo>
                  <a:lnTo>
                    <a:pt x="320" y="1086"/>
                  </a:lnTo>
                  <a:lnTo>
                    <a:pt x="293" y="1088"/>
                  </a:lnTo>
                  <a:lnTo>
                    <a:pt x="264" y="1088"/>
                  </a:lnTo>
                  <a:lnTo>
                    <a:pt x="238" y="1088"/>
                  </a:lnTo>
                  <a:lnTo>
                    <a:pt x="211" y="1086"/>
                  </a:lnTo>
                  <a:lnTo>
                    <a:pt x="184" y="1082"/>
                  </a:lnTo>
                  <a:lnTo>
                    <a:pt x="157" y="1076"/>
                  </a:lnTo>
                  <a:lnTo>
                    <a:pt x="130" y="1070"/>
                  </a:lnTo>
                  <a:lnTo>
                    <a:pt x="105" y="1063"/>
                  </a:lnTo>
                  <a:lnTo>
                    <a:pt x="80" y="1055"/>
                  </a:lnTo>
                  <a:lnTo>
                    <a:pt x="55" y="1045"/>
                  </a:lnTo>
                  <a:lnTo>
                    <a:pt x="32" y="1034"/>
                  </a:lnTo>
                  <a:lnTo>
                    <a:pt x="7" y="1022"/>
                  </a:lnTo>
                  <a:lnTo>
                    <a:pt x="0" y="1019"/>
                  </a:lnTo>
                  <a:lnTo>
                    <a:pt x="1" y="1021"/>
                  </a:lnTo>
                  <a:lnTo>
                    <a:pt x="1" y="1021"/>
                  </a:lnTo>
                  <a:lnTo>
                    <a:pt x="1" y="1022"/>
                  </a:lnTo>
                  <a:lnTo>
                    <a:pt x="1" y="1024"/>
                  </a:lnTo>
                  <a:lnTo>
                    <a:pt x="1" y="1026"/>
                  </a:lnTo>
                  <a:lnTo>
                    <a:pt x="1" y="1028"/>
                  </a:lnTo>
                  <a:lnTo>
                    <a:pt x="1" y="1030"/>
                  </a:lnTo>
                  <a:lnTo>
                    <a:pt x="1" y="1032"/>
                  </a:lnTo>
                  <a:close/>
                </a:path>
              </a:pathLst>
            </a:custGeom>
            <a:solidFill>
              <a:srgbClr val="95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159"/>
            <p:cNvSpPr/>
            <p:nvPr/>
          </p:nvSpPr>
          <p:spPr>
            <a:xfrm>
              <a:off x="1968480" y="2296800"/>
              <a:ext cx="571680" cy="172584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725840"/>
                <a:gd name="textAreaBottom" fmla="*/ 1726200 h 1725840"/>
              </a:gdLst>
              <a:ahLst/>
              <a:rect l="textAreaLeft" t="textAreaTop" r="textAreaRight" b="textAreaBottom"/>
              <a:pathLst>
                <a:path w="360" h="1087">
                  <a:moveTo>
                    <a:pt x="360" y="7"/>
                  </a:moveTo>
                  <a:lnTo>
                    <a:pt x="347" y="5"/>
                  </a:lnTo>
                  <a:lnTo>
                    <a:pt x="320" y="1"/>
                  </a:lnTo>
                  <a:lnTo>
                    <a:pt x="293" y="0"/>
                  </a:lnTo>
                  <a:lnTo>
                    <a:pt x="264" y="0"/>
                  </a:lnTo>
                  <a:lnTo>
                    <a:pt x="238" y="0"/>
                  </a:lnTo>
                  <a:lnTo>
                    <a:pt x="209" y="1"/>
                  </a:lnTo>
                  <a:lnTo>
                    <a:pt x="182" y="5"/>
                  </a:lnTo>
                  <a:lnTo>
                    <a:pt x="155" y="9"/>
                  </a:lnTo>
                  <a:lnTo>
                    <a:pt x="128" y="17"/>
                  </a:lnTo>
                  <a:lnTo>
                    <a:pt x="107" y="23"/>
                  </a:lnTo>
                  <a:lnTo>
                    <a:pt x="107" y="24"/>
                  </a:lnTo>
                  <a:lnTo>
                    <a:pt x="107" y="24"/>
                  </a:lnTo>
                  <a:lnTo>
                    <a:pt x="105" y="26"/>
                  </a:lnTo>
                  <a:lnTo>
                    <a:pt x="105" y="28"/>
                  </a:lnTo>
                  <a:lnTo>
                    <a:pt x="105" y="30"/>
                  </a:lnTo>
                  <a:lnTo>
                    <a:pt x="105" y="30"/>
                  </a:lnTo>
                  <a:lnTo>
                    <a:pt x="103" y="32"/>
                  </a:lnTo>
                  <a:lnTo>
                    <a:pt x="103" y="34"/>
                  </a:lnTo>
                  <a:lnTo>
                    <a:pt x="107" y="32"/>
                  </a:lnTo>
                  <a:lnTo>
                    <a:pt x="132" y="26"/>
                  </a:lnTo>
                  <a:lnTo>
                    <a:pt x="157" y="21"/>
                  </a:lnTo>
                  <a:lnTo>
                    <a:pt x="184" y="15"/>
                  </a:lnTo>
                  <a:lnTo>
                    <a:pt x="211" y="11"/>
                  </a:lnTo>
                  <a:lnTo>
                    <a:pt x="238" y="9"/>
                  </a:lnTo>
                  <a:lnTo>
                    <a:pt x="264" y="9"/>
                  </a:lnTo>
                  <a:lnTo>
                    <a:pt x="293" y="9"/>
                  </a:lnTo>
                  <a:lnTo>
                    <a:pt x="320" y="11"/>
                  </a:lnTo>
                  <a:lnTo>
                    <a:pt x="347" y="15"/>
                  </a:lnTo>
                  <a:lnTo>
                    <a:pt x="357" y="17"/>
                  </a:lnTo>
                  <a:lnTo>
                    <a:pt x="358" y="17"/>
                  </a:lnTo>
                  <a:lnTo>
                    <a:pt x="358" y="15"/>
                  </a:lnTo>
                  <a:lnTo>
                    <a:pt x="358" y="13"/>
                  </a:lnTo>
                  <a:lnTo>
                    <a:pt x="358" y="13"/>
                  </a:lnTo>
                  <a:lnTo>
                    <a:pt x="358" y="11"/>
                  </a:lnTo>
                  <a:lnTo>
                    <a:pt x="360" y="9"/>
                  </a:lnTo>
                  <a:lnTo>
                    <a:pt x="360" y="9"/>
                  </a:lnTo>
                  <a:lnTo>
                    <a:pt x="360" y="7"/>
                  </a:lnTo>
                  <a:close/>
                  <a:moveTo>
                    <a:pt x="1" y="1018"/>
                  </a:moveTo>
                  <a:lnTo>
                    <a:pt x="5" y="1020"/>
                  </a:lnTo>
                  <a:lnTo>
                    <a:pt x="28" y="1034"/>
                  </a:lnTo>
                  <a:lnTo>
                    <a:pt x="53" y="1043"/>
                  </a:lnTo>
                  <a:lnTo>
                    <a:pt x="78" y="1053"/>
                  </a:lnTo>
                  <a:lnTo>
                    <a:pt x="103" y="1062"/>
                  </a:lnTo>
                  <a:lnTo>
                    <a:pt x="128" y="1070"/>
                  </a:lnTo>
                  <a:lnTo>
                    <a:pt x="155" y="1076"/>
                  </a:lnTo>
                  <a:lnTo>
                    <a:pt x="182" y="1080"/>
                  </a:lnTo>
                  <a:lnTo>
                    <a:pt x="209" y="1084"/>
                  </a:lnTo>
                  <a:lnTo>
                    <a:pt x="238" y="1086"/>
                  </a:lnTo>
                  <a:lnTo>
                    <a:pt x="264" y="1087"/>
                  </a:lnTo>
                  <a:lnTo>
                    <a:pt x="293" y="1086"/>
                  </a:lnTo>
                  <a:lnTo>
                    <a:pt x="320" y="1084"/>
                  </a:lnTo>
                  <a:lnTo>
                    <a:pt x="347" y="1080"/>
                  </a:lnTo>
                  <a:lnTo>
                    <a:pt x="360" y="1078"/>
                  </a:lnTo>
                  <a:lnTo>
                    <a:pt x="360" y="1078"/>
                  </a:lnTo>
                  <a:lnTo>
                    <a:pt x="360" y="1076"/>
                  </a:lnTo>
                  <a:lnTo>
                    <a:pt x="360" y="1074"/>
                  </a:lnTo>
                  <a:lnTo>
                    <a:pt x="360" y="1074"/>
                  </a:lnTo>
                  <a:lnTo>
                    <a:pt x="360" y="1072"/>
                  </a:lnTo>
                  <a:lnTo>
                    <a:pt x="358" y="1070"/>
                  </a:lnTo>
                  <a:lnTo>
                    <a:pt x="358" y="1070"/>
                  </a:lnTo>
                  <a:lnTo>
                    <a:pt x="358" y="1068"/>
                  </a:lnTo>
                  <a:lnTo>
                    <a:pt x="347" y="1070"/>
                  </a:lnTo>
                  <a:lnTo>
                    <a:pt x="320" y="1074"/>
                  </a:lnTo>
                  <a:lnTo>
                    <a:pt x="293" y="1076"/>
                  </a:lnTo>
                  <a:lnTo>
                    <a:pt x="264" y="1076"/>
                  </a:lnTo>
                  <a:lnTo>
                    <a:pt x="238" y="1076"/>
                  </a:lnTo>
                  <a:lnTo>
                    <a:pt x="211" y="1074"/>
                  </a:lnTo>
                  <a:lnTo>
                    <a:pt x="184" y="1070"/>
                  </a:lnTo>
                  <a:lnTo>
                    <a:pt x="157" y="1066"/>
                  </a:lnTo>
                  <a:lnTo>
                    <a:pt x="132" y="1061"/>
                  </a:lnTo>
                  <a:lnTo>
                    <a:pt x="107" y="1053"/>
                  </a:lnTo>
                  <a:lnTo>
                    <a:pt x="82" y="1043"/>
                  </a:lnTo>
                  <a:lnTo>
                    <a:pt x="57" y="1034"/>
                  </a:lnTo>
                  <a:lnTo>
                    <a:pt x="34" y="1024"/>
                  </a:lnTo>
                  <a:lnTo>
                    <a:pt x="11" y="1013"/>
                  </a:lnTo>
                  <a:lnTo>
                    <a:pt x="0" y="1005"/>
                  </a:lnTo>
                  <a:lnTo>
                    <a:pt x="0" y="1007"/>
                  </a:lnTo>
                  <a:lnTo>
                    <a:pt x="0" y="1009"/>
                  </a:lnTo>
                  <a:lnTo>
                    <a:pt x="0" y="1011"/>
                  </a:lnTo>
                  <a:lnTo>
                    <a:pt x="0" y="1013"/>
                  </a:lnTo>
                  <a:lnTo>
                    <a:pt x="1" y="1015"/>
                  </a:lnTo>
                  <a:lnTo>
                    <a:pt x="1" y="1015"/>
                  </a:lnTo>
                  <a:lnTo>
                    <a:pt x="1" y="1016"/>
                  </a:lnTo>
                  <a:lnTo>
                    <a:pt x="1" y="1018"/>
                  </a:lnTo>
                  <a:close/>
                </a:path>
              </a:pathLst>
            </a:custGeom>
            <a:solidFill>
              <a:srgbClr val="96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160"/>
            <p:cNvSpPr/>
            <p:nvPr/>
          </p:nvSpPr>
          <p:spPr>
            <a:xfrm>
              <a:off x="1965240" y="2301840"/>
              <a:ext cx="574920" cy="171288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712880"/>
                <a:gd name="textAreaBottom" fmla="*/ 1713240 h 1712880"/>
              </a:gdLst>
              <a:ahLst/>
              <a:rect l="textAreaLeft" t="textAreaTop" r="textAreaRight" b="textAreaBottom"/>
              <a:pathLst>
                <a:path w="362" h="1079">
                  <a:moveTo>
                    <a:pt x="360" y="10"/>
                  </a:moveTo>
                  <a:lnTo>
                    <a:pt x="349" y="8"/>
                  </a:lnTo>
                  <a:lnTo>
                    <a:pt x="322" y="4"/>
                  </a:lnTo>
                  <a:lnTo>
                    <a:pt x="295" y="2"/>
                  </a:lnTo>
                  <a:lnTo>
                    <a:pt x="266" y="0"/>
                  </a:lnTo>
                  <a:lnTo>
                    <a:pt x="240" y="2"/>
                  </a:lnTo>
                  <a:lnTo>
                    <a:pt x="213" y="4"/>
                  </a:lnTo>
                  <a:lnTo>
                    <a:pt x="186" y="8"/>
                  </a:lnTo>
                  <a:lnTo>
                    <a:pt x="159" y="12"/>
                  </a:lnTo>
                  <a:lnTo>
                    <a:pt x="132" y="18"/>
                  </a:lnTo>
                  <a:lnTo>
                    <a:pt x="107" y="25"/>
                  </a:lnTo>
                  <a:lnTo>
                    <a:pt x="107" y="27"/>
                  </a:lnTo>
                  <a:lnTo>
                    <a:pt x="107" y="27"/>
                  </a:lnTo>
                  <a:lnTo>
                    <a:pt x="105" y="29"/>
                  </a:lnTo>
                  <a:lnTo>
                    <a:pt x="105" y="31"/>
                  </a:lnTo>
                  <a:lnTo>
                    <a:pt x="105" y="33"/>
                  </a:lnTo>
                  <a:lnTo>
                    <a:pt x="103" y="35"/>
                  </a:lnTo>
                  <a:lnTo>
                    <a:pt x="103" y="35"/>
                  </a:lnTo>
                  <a:lnTo>
                    <a:pt x="103" y="37"/>
                  </a:lnTo>
                  <a:lnTo>
                    <a:pt x="109" y="35"/>
                  </a:lnTo>
                  <a:lnTo>
                    <a:pt x="134" y="27"/>
                  </a:lnTo>
                  <a:lnTo>
                    <a:pt x="161" y="21"/>
                  </a:lnTo>
                  <a:lnTo>
                    <a:pt x="186" y="18"/>
                  </a:lnTo>
                  <a:lnTo>
                    <a:pt x="213" y="14"/>
                  </a:lnTo>
                  <a:lnTo>
                    <a:pt x="240" y="12"/>
                  </a:lnTo>
                  <a:lnTo>
                    <a:pt x="266" y="12"/>
                  </a:lnTo>
                  <a:lnTo>
                    <a:pt x="293" y="12"/>
                  </a:lnTo>
                  <a:lnTo>
                    <a:pt x="320" y="14"/>
                  </a:lnTo>
                  <a:lnTo>
                    <a:pt x="347" y="18"/>
                  </a:lnTo>
                  <a:lnTo>
                    <a:pt x="359" y="20"/>
                  </a:lnTo>
                  <a:lnTo>
                    <a:pt x="359" y="18"/>
                  </a:lnTo>
                  <a:lnTo>
                    <a:pt x="359" y="16"/>
                  </a:lnTo>
                  <a:lnTo>
                    <a:pt x="359" y="16"/>
                  </a:lnTo>
                  <a:lnTo>
                    <a:pt x="359" y="14"/>
                  </a:lnTo>
                  <a:lnTo>
                    <a:pt x="360" y="14"/>
                  </a:lnTo>
                  <a:lnTo>
                    <a:pt x="360" y="12"/>
                  </a:lnTo>
                  <a:lnTo>
                    <a:pt x="360" y="10"/>
                  </a:lnTo>
                  <a:lnTo>
                    <a:pt x="360" y="10"/>
                  </a:lnTo>
                  <a:close/>
                  <a:moveTo>
                    <a:pt x="2" y="1010"/>
                  </a:moveTo>
                  <a:lnTo>
                    <a:pt x="9" y="1013"/>
                  </a:lnTo>
                  <a:lnTo>
                    <a:pt x="34" y="1025"/>
                  </a:lnTo>
                  <a:lnTo>
                    <a:pt x="57" y="1036"/>
                  </a:lnTo>
                  <a:lnTo>
                    <a:pt x="82" y="1046"/>
                  </a:lnTo>
                  <a:lnTo>
                    <a:pt x="107" y="1054"/>
                  </a:lnTo>
                  <a:lnTo>
                    <a:pt x="132" y="1061"/>
                  </a:lnTo>
                  <a:lnTo>
                    <a:pt x="159" y="1067"/>
                  </a:lnTo>
                  <a:lnTo>
                    <a:pt x="186" y="1073"/>
                  </a:lnTo>
                  <a:lnTo>
                    <a:pt x="213" y="1077"/>
                  </a:lnTo>
                  <a:lnTo>
                    <a:pt x="240" y="1079"/>
                  </a:lnTo>
                  <a:lnTo>
                    <a:pt x="266" y="1079"/>
                  </a:lnTo>
                  <a:lnTo>
                    <a:pt x="295" y="1079"/>
                  </a:lnTo>
                  <a:lnTo>
                    <a:pt x="322" y="1077"/>
                  </a:lnTo>
                  <a:lnTo>
                    <a:pt x="349" y="1073"/>
                  </a:lnTo>
                  <a:lnTo>
                    <a:pt x="362" y="1071"/>
                  </a:lnTo>
                  <a:lnTo>
                    <a:pt x="362" y="1069"/>
                  </a:lnTo>
                  <a:lnTo>
                    <a:pt x="360" y="1067"/>
                  </a:lnTo>
                  <a:lnTo>
                    <a:pt x="360" y="1067"/>
                  </a:lnTo>
                  <a:lnTo>
                    <a:pt x="360" y="1065"/>
                  </a:lnTo>
                  <a:lnTo>
                    <a:pt x="360" y="1063"/>
                  </a:lnTo>
                  <a:lnTo>
                    <a:pt x="360" y="1063"/>
                  </a:lnTo>
                  <a:lnTo>
                    <a:pt x="360" y="1061"/>
                  </a:lnTo>
                  <a:lnTo>
                    <a:pt x="359" y="1059"/>
                  </a:lnTo>
                  <a:lnTo>
                    <a:pt x="347" y="1061"/>
                  </a:lnTo>
                  <a:lnTo>
                    <a:pt x="320" y="1065"/>
                  </a:lnTo>
                  <a:lnTo>
                    <a:pt x="293" y="1067"/>
                  </a:lnTo>
                  <a:lnTo>
                    <a:pt x="266" y="1069"/>
                  </a:lnTo>
                  <a:lnTo>
                    <a:pt x="240" y="1067"/>
                  </a:lnTo>
                  <a:lnTo>
                    <a:pt x="213" y="1065"/>
                  </a:lnTo>
                  <a:lnTo>
                    <a:pt x="186" y="1061"/>
                  </a:lnTo>
                  <a:lnTo>
                    <a:pt x="161" y="1058"/>
                  </a:lnTo>
                  <a:lnTo>
                    <a:pt x="134" y="1052"/>
                  </a:lnTo>
                  <a:lnTo>
                    <a:pt x="109" y="1044"/>
                  </a:lnTo>
                  <a:lnTo>
                    <a:pt x="86" y="1036"/>
                  </a:lnTo>
                  <a:lnTo>
                    <a:pt x="61" y="1027"/>
                  </a:lnTo>
                  <a:lnTo>
                    <a:pt x="38" y="1015"/>
                  </a:lnTo>
                  <a:lnTo>
                    <a:pt x="15" y="1004"/>
                  </a:lnTo>
                  <a:lnTo>
                    <a:pt x="0" y="996"/>
                  </a:lnTo>
                  <a:lnTo>
                    <a:pt x="2" y="998"/>
                  </a:lnTo>
                  <a:lnTo>
                    <a:pt x="2" y="1000"/>
                  </a:lnTo>
                  <a:lnTo>
                    <a:pt x="2" y="1002"/>
                  </a:lnTo>
                  <a:lnTo>
                    <a:pt x="2" y="1002"/>
                  </a:lnTo>
                  <a:lnTo>
                    <a:pt x="2" y="1004"/>
                  </a:lnTo>
                  <a:lnTo>
                    <a:pt x="2" y="1006"/>
                  </a:lnTo>
                  <a:lnTo>
                    <a:pt x="2" y="1008"/>
                  </a:lnTo>
                  <a:lnTo>
                    <a:pt x="2" y="1010"/>
                  </a:lnTo>
                  <a:close/>
                </a:path>
              </a:pathLst>
            </a:custGeom>
            <a:solidFill>
              <a:srgbClr val="97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161"/>
            <p:cNvSpPr/>
            <p:nvPr/>
          </p:nvSpPr>
          <p:spPr>
            <a:xfrm>
              <a:off x="1965240" y="2311200"/>
              <a:ext cx="571680" cy="169380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693800"/>
                <a:gd name="textAreaBottom" fmla="*/ 1694160 h 1693800"/>
              </a:gdLst>
              <a:ahLst/>
              <a:rect l="textAreaLeft" t="textAreaTop" r="textAreaRight" b="textAreaBottom"/>
              <a:pathLst>
                <a:path w="360" h="1067">
                  <a:moveTo>
                    <a:pt x="359" y="8"/>
                  </a:moveTo>
                  <a:lnTo>
                    <a:pt x="349" y="6"/>
                  </a:lnTo>
                  <a:lnTo>
                    <a:pt x="322" y="2"/>
                  </a:lnTo>
                  <a:lnTo>
                    <a:pt x="295" y="0"/>
                  </a:lnTo>
                  <a:lnTo>
                    <a:pt x="266" y="0"/>
                  </a:lnTo>
                  <a:lnTo>
                    <a:pt x="240" y="0"/>
                  </a:lnTo>
                  <a:lnTo>
                    <a:pt x="213" y="2"/>
                  </a:lnTo>
                  <a:lnTo>
                    <a:pt x="186" y="6"/>
                  </a:lnTo>
                  <a:lnTo>
                    <a:pt x="159" y="12"/>
                  </a:lnTo>
                  <a:lnTo>
                    <a:pt x="134" y="17"/>
                  </a:lnTo>
                  <a:lnTo>
                    <a:pt x="109" y="23"/>
                  </a:lnTo>
                  <a:lnTo>
                    <a:pt x="105" y="25"/>
                  </a:lnTo>
                  <a:lnTo>
                    <a:pt x="105" y="27"/>
                  </a:lnTo>
                  <a:lnTo>
                    <a:pt x="103" y="29"/>
                  </a:lnTo>
                  <a:lnTo>
                    <a:pt x="103" y="29"/>
                  </a:lnTo>
                  <a:lnTo>
                    <a:pt x="103" y="31"/>
                  </a:lnTo>
                  <a:lnTo>
                    <a:pt x="103" y="33"/>
                  </a:lnTo>
                  <a:lnTo>
                    <a:pt x="101" y="35"/>
                  </a:lnTo>
                  <a:lnTo>
                    <a:pt x="101" y="37"/>
                  </a:lnTo>
                  <a:lnTo>
                    <a:pt x="101" y="37"/>
                  </a:lnTo>
                  <a:lnTo>
                    <a:pt x="111" y="35"/>
                  </a:lnTo>
                  <a:lnTo>
                    <a:pt x="136" y="27"/>
                  </a:lnTo>
                  <a:lnTo>
                    <a:pt x="161" y="21"/>
                  </a:lnTo>
                  <a:lnTo>
                    <a:pt x="188" y="15"/>
                  </a:lnTo>
                  <a:lnTo>
                    <a:pt x="213" y="14"/>
                  </a:lnTo>
                  <a:lnTo>
                    <a:pt x="240" y="12"/>
                  </a:lnTo>
                  <a:lnTo>
                    <a:pt x="266" y="10"/>
                  </a:lnTo>
                  <a:lnTo>
                    <a:pt x="293" y="12"/>
                  </a:lnTo>
                  <a:lnTo>
                    <a:pt x="320" y="14"/>
                  </a:lnTo>
                  <a:lnTo>
                    <a:pt x="347" y="15"/>
                  </a:lnTo>
                  <a:lnTo>
                    <a:pt x="357" y="17"/>
                  </a:lnTo>
                  <a:lnTo>
                    <a:pt x="357" y="17"/>
                  </a:lnTo>
                  <a:lnTo>
                    <a:pt x="357" y="15"/>
                  </a:lnTo>
                  <a:lnTo>
                    <a:pt x="359" y="14"/>
                  </a:lnTo>
                  <a:lnTo>
                    <a:pt x="359" y="14"/>
                  </a:lnTo>
                  <a:lnTo>
                    <a:pt x="359" y="12"/>
                  </a:lnTo>
                  <a:lnTo>
                    <a:pt x="359" y="10"/>
                  </a:lnTo>
                  <a:lnTo>
                    <a:pt x="359" y="10"/>
                  </a:lnTo>
                  <a:lnTo>
                    <a:pt x="359" y="8"/>
                  </a:lnTo>
                  <a:close/>
                  <a:moveTo>
                    <a:pt x="2" y="996"/>
                  </a:moveTo>
                  <a:lnTo>
                    <a:pt x="13" y="1004"/>
                  </a:lnTo>
                  <a:lnTo>
                    <a:pt x="36" y="1015"/>
                  </a:lnTo>
                  <a:lnTo>
                    <a:pt x="59" y="1025"/>
                  </a:lnTo>
                  <a:lnTo>
                    <a:pt x="84" y="1034"/>
                  </a:lnTo>
                  <a:lnTo>
                    <a:pt x="109" y="1044"/>
                  </a:lnTo>
                  <a:lnTo>
                    <a:pt x="134" y="1052"/>
                  </a:lnTo>
                  <a:lnTo>
                    <a:pt x="159" y="1057"/>
                  </a:lnTo>
                  <a:lnTo>
                    <a:pt x="186" y="1061"/>
                  </a:lnTo>
                  <a:lnTo>
                    <a:pt x="213" y="1065"/>
                  </a:lnTo>
                  <a:lnTo>
                    <a:pt x="240" y="1067"/>
                  </a:lnTo>
                  <a:lnTo>
                    <a:pt x="266" y="1067"/>
                  </a:lnTo>
                  <a:lnTo>
                    <a:pt x="295" y="1067"/>
                  </a:lnTo>
                  <a:lnTo>
                    <a:pt x="322" y="1065"/>
                  </a:lnTo>
                  <a:lnTo>
                    <a:pt x="349" y="1061"/>
                  </a:lnTo>
                  <a:lnTo>
                    <a:pt x="360" y="1059"/>
                  </a:lnTo>
                  <a:lnTo>
                    <a:pt x="360" y="1057"/>
                  </a:lnTo>
                  <a:lnTo>
                    <a:pt x="360" y="1057"/>
                  </a:lnTo>
                  <a:lnTo>
                    <a:pt x="360" y="1055"/>
                  </a:lnTo>
                  <a:lnTo>
                    <a:pt x="359" y="1053"/>
                  </a:lnTo>
                  <a:lnTo>
                    <a:pt x="359" y="1053"/>
                  </a:lnTo>
                  <a:lnTo>
                    <a:pt x="359" y="1052"/>
                  </a:lnTo>
                  <a:lnTo>
                    <a:pt x="359" y="1050"/>
                  </a:lnTo>
                  <a:lnTo>
                    <a:pt x="359" y="1050"/>
                  </a:lnTo>
                  <a:lnTo>
                    <a:pt x="347" y="1052"/>
                  </a:lnTo>
                  <a:lnTo>
                    <a:pt x="320" y="1055"/>
                  </a:lnTo>
                  <a:lnTo>
                    <a:pt x="293" y="1057"/>
                  </a:lnTo>
                  <a:lnTo>
                    <a:pt x="266" y="1057"/>
                  </a:lnTo>
                  <a:lnTo>
                    <a:pt x="240" y="1057"/>
                  </a:lnTo>
                  <a:lnTo>
                    <a:pt x="213" y="1055"/>
                  </a:lnTo>
                  <a:lnTo>
                    <a:pt x="188" y="1052"/>
                  </a:lnTo>
                  <a:lnTo>
                    <a:pt x="161" y="1046"/>
                  </a:lnTo>
                  <a:lnTo>
                    <a:pt x="136" y="1040"/>
                  </a:lnTo>
                  <a:lnTo>
                    <a:pt x="111" y="1034"/>
                  </a:lnTo>
                  <a:lnTo>
                    <a:pt x="88" y="1025"/>
                  </a:lnTo>
                  <a:lnTo>
                    <a:pt x="63" y="1017"/>
                  </a:lnTo>
                  <a:lnTo>
                    <a:pt x="40" y="1006"/>
                  </a:lnTo>
                  <a:lnTo>
                    <a:pt x="17" y="994"/>
                  </a:lnTo>
                  <a:lnTo>
                    <a:pt x="0" y="984"/>
                  </a:lnTo>
                  <a:lnTo>
                    <a:pt x="0" y="986"/>
                  </a:lnTo>
                  <a:lnTo>
                    <a:pt x="0" y="986"/>
                  </a:lnTo>
                  <a:lnTo>
                    <a:pt x="0" y="988"/>
                  </a:lnTo>
                  <a:lnTo>
                    <a:pt x="0" y="990"/>
                  </a:lnTo>
                  <a:lnTo>
                    <a:pt x="2" y="992"/>
                  </a:lnTo>
                  <a:lnTo>
                    <a:pt x="2" y="994"/>
                  </a:lnTo>
                  <a:lnTo>
                    <a:pt x="2" y="996"/>
                  </a:lnTo>
                  <a:lnTo>
                    <a:pt x="2" y="996"/>
                  </a:lnTo>
                  <a:close/>
                </a:path>
              </a:pathLst>
            </a:custGeom>
            <a:solidFill>
              <a:srgbClr val="98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162"/>
            <p:cNvSpPr/>
            <p:nvPr/>
          </p:nvSpPr>
          <p:spPr>
            <a:xfrm>
              <a:off x="1965240" y="2320920"/>
              <a:ext cx="569880" cy="167796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1677960"/>
                <a:gd name="textAreaBottom" fmla="*/ 1678320 h 1677960"/>
              </a:gdLst>
              <a:ahLst/>
              <a:rect l="textAreaLeft" t="textAreaTop" r="textAreaRight" b="textAreaBottom"/>
              <a:pathLst>
                <a:path w="359" h="1057">
                  <a:moveTo>
                    <a:pt x="359" y="8"/>
                  </a:moveTo>
                  <a:lnTo>
                    <a:pt x="347" y="6"/>
                  </a:lnTo>
                  <a:lnTo>
                    <a:pt x="320" y="2"/>
                  </a:lnTo>
                  <a:lnTo>
                    <a:pt x="293" y="0"/>
                  </a:lnTo>
                  <a:lnTo>
                    <a:pt x="266" y="0"/>
                  </a:lnTo>
                  <a:lnTo>
                    <a:pt x="240" y="0"/>
                  </a:lnTo>
                  <a:lnTo>
                    <a:pt x="213" y="2"/>
                  </a:lnTo>
                  <a:lnTo>
                    <a:pt x="186" y="6"/>
                  </a:lnTo>
                  <a:lnTo>
                    <a:pt x="161" y="9"/>
                  </a:lnTo>
                  <a:lnTo>
                    <a:pt x="134" y="15"/>
                  </a:lnTo>
                  <a:lnTo>
                    <a:pt x="109" y="23"/>
                  </a:lnTo>
                  <a:lnTo>
                    <a:pt x="103" y="25"/>
                  </a:lnTo>
                  <a:lnTo>
                    <a:pt x="103" y="27"/>
                  </a:lnTo>
                  <a:lnTo>
                    <a:pt x="101" y="29"/>
                  </a:lnTo>
                  <a:lnTo>
                    <a:pt x="101" y="31"/>
                  </a:lnTo>
                  <a:lnTo>
                    <a:pt x="101" y="31"/>
                  </a:lnTo>
                  <a:lnTo>
                    <a:pt x="101" y="32"/>
                  </a:lnTo>
                  <a:lnTo>
                    <a:pt x="99" y="34"/>
                  </a:lnTo>
                  <a:lnTo>
                    <a:pt x="99" y="36"/>
                  </a:lnTo>
                  <a:lnTo>
                    <a:pt x="99" y="38"/>
                  </a:lnTo>
                  <a:lnTo>
                    <a:pt x="113" y="32"/>
                  </a:lnTo>
                  <a:lnTo>
                    <a:pt x="138" y="25"/>
                  </a:lnTo>
                  <a:lnTo>
                    <a:pt x="163" y="19"/>
                  </a:lnTo>
                  <a:lnTo>
                    <a:pt x="188" y="15"/>
                  </a:lnTo>
                  <a:lnTo>
                    <a:pt x="215" y="11"/>
                  </a:lnTo>
                  <a:lnTo>
                    <a:pt x="240" y="9"/>
                  </a:lnTo>
                  <a:lnTo>
                    <a:pt x="266" y="9"/>
                  </a:lnTo>
                  <a:lnTo>
                    <a:pt x="293" y="9"/>
                  </a:lnTo>
                  <a:lnTo>
                    <a:pt x="320" y="11"/>
                  </a:lnTo>
                  <a:lnTo>
                    <a:pt x="345" y="15"/>
                  </a:lnTo>
                  <a:lnTo>
                    <a:pt x="355" y="17"/>
                  </a:lnTo>
                  <a:lnTo>
                    <a:pt x="357" y="15"/>
                  </a:lnTo>
                  <a:lnTo>
                    <a:pt x="357" y="15"/>
                  </a:lnTo>
                  <a:lnTo>
                    <a:pt x="357" y="13"/>
                  </a:lnTo>
                  <a:lnTo>
                    <a:pt x="357" y="11"/>
                  </a:lnTo>
                  <a:lnTo>
                    <a:pt x="357" y="11"/>
                  </a:lnTo>
                  <a:lnTo>
                    <a:pt x="357" y="9"/>
                  </a:lnTo>
                  <a:lnTo>
                    <a:pt x="359" y="8"/>
                  </a:lnTo>
                  <a:lnTo>
                    <a:pt x="359" y="8"/>
                  </a:lnTo>
                  <a:close/>
                  <a:moveTo>
                    <a:pt x="0" y="984"/>
                  </a:moveTo>
                  <a:lnTo>
                    <a:pt x="15" y="992"/>
                  </a:lnTo>
                  <a:lnTo>
                    <a:pt x="38" y="1005"/>
                  </a:lnTo>
                  <a:lnTo>
                    <a:pt x="61" y="1015"/>
                  </a:lnTo>
                  <a:lnTo>
                    <a:pt x="86" y="1024"/>
                  </a:lnTo>
                  <a:lnTo>
                    <a:pt x="109" y="1032"/>
                  </a:lnTo>
                  <a:lnTo>
                    <a:pt x="134" y="1040"/>
                  </a:lnTo>
                  <a:lnTo>
                    <a:pt x="161" y="1046"/>
                  </a:lnTo>
                  <a:lnTo>
                    <a:pt x="186" y="1049"/>
                  </a:lnTo>
                  <a:lnTo>
                    <a:pt x="213" y="1053"/>
                  </a:lnTo>
                  <a:lnTo>
                    <a:pt x="240" y="1055"/>
                  </a:lnTo>
                  <a:lnTo>
                    <a:pt x="266" y="1057"/>
                  </a:lnTo>
                  <a:lnTo>
                    <a:pt x="293" y="1055"/>
                  </a:lnTo>
                  <a:lnTo>
                    <a:pt x="320" y="1053"/>
                  </a:lnTo>
                  <a:lnTo>
                    <a:pt x="347" y="1049"/>
                  </a:lnTo>
                  <a:lnTo>
                    <a:pt x="359" y="1047"/>
                  </a:lnTo>
                  <a:lnTo>
                    <a:pt x="359" y="1047"/>
                  </a:lnTo>
                  <a:lnTo>
                    <a:pt x="359" y="1046"/>
                  </a:lnTo>
                  <a:lnTo>
                    <a:pt x="359" y="1044"/>
                  </a:lnTo>
                  <a:lnTo>
                    <a:pt x="359" y="1044"/>
                  </a:lnTo>
                  <a:lnTo>
                    <a:pt x="359" y="1042"/>
                  </a:lnTo>
                  <a:lnTo>
                    <a:pt x="357" y="1042"/>
                  </a:lnTo>
                  <a:lnTo>
                    <a:pt x="357" y="1040"/>
                  </a:lnTo>
                  <a:lnTo>
                    <a:pt x="357" y="1038"/>
                  </a:lnTo>
                  <a:lnTo>
                    <a:pt x="345" y="1040"/>
                  </a:lnTo>
                  <a:lnTo>
                    <a:pt x="320" y="1044"/>
                  </a:lnTo>
                  <a:lnTo>
                    <a:pt x="293" y="1046"/>
                  </a:lnTo>
                  <a:lnTo>
                    <a:pt x="266" y="1046"/>
                  </a:lnTo>
                  <a:lnTo>
                    <a:pt x="240" y="1046"/>
                  </a:lnTo>
                  <a:lnTo>
                    <a:pt x="215" y="1044"/>
                  </a:lnTo>
                  <a:lnTo>
                    <a:pt x="188" y="1040"/>
                  </a:lnTo>
                  <a:lnTo>
                    <a:pt x="163" y="1036"/>
                  </a:lnTo>
                  <a:lnTo>
                    <a:pt x="138" y="1030"/>
                  </a:lnTo>
                  <a:lnTo>
                    <a:pt x="113" y="1023"/>
                  </a:lnTo>
                  <a:lnTo>
                    <a:pt x="88" y="1015"/>
                  </a:lnTo>
                  <a:lnTo>
                    <a:pt x="65" y="1005"/>
                  </a:lnTo>
                  <a:lnTo>
                    <a:pt x="42" y="996"/>
                  </a:lnTo>
                  <a:lnTo>
                    <a:pt x="21" y="984"/>
                  </a:lnTo>
                  <a:lnTo>
                    <a:pt x="0" y="971"/>
                  </a:lnTo>
                  <a:lnTo>
                    <a:pt x="0" y="973"/>
                  </a:lnTo>
                  <a:lnTo>
                    <a:pt x="0" y="975"/>
                  </a:lnTo>
                  <a:lnTo>
                    <a:pt x="0" y="976"/>
                  </a:lnTo>
                  <a:lnTo>
                    <a:pt x="0" y="978"/>
                  </a:lnTo>
                  <a:lnTo>
                    <a:pt x="0" y="980"/>
                  </a:lnTo>
                  <a:lnTo>
                    <a:pt x="0" y="980"/>
                  </a:lnTo>
                  <a:lnTo>
                    <a:pt x="0" y="982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99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163"/>
            <p:cNvSpPr/>
            <p:nvPr/>
          </p:nvSpPr>
          <p:spPr>
            <a:xfrm>
              <a:off x="1962000" y="2327040"/>
              <a:ext cx="573120" cy="166212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361" h="1047">
                  <a:moveTo>
                    <a:pt x="359" y="7"/>
                  </a:moveTo>
                  <a:lnTo>
                    <a:pt x="349" y="5"/>
                  </a:lnTo>
                  <a:lnTo>
                    <a:pt x="322" y="4"/>
                  </a:lnTo>
                  <a:lnTo>
                    <a:pt x="295" y="2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5" y="4"/>
                  </a:lnTo>
                  <a:lnTo>
                    <a:pt x="190" y="5"/>
                  </a:lnTo>
                  <a:lnTo>
                    <a:pt x="163" y="11"/>
                  </a:lnTo>
                  <a:lnTo>
                    <a:pt x="138" y="17"/>
                  </a:lnTo>
                  <a:lnTo>
                    <a:pt x="113" y="25"/>
                  </a:lnTo>
                  <a:lnTo>
                    <a:pt x="103" y="27"/>
                  </a:lnTo>
                  <a:lnTo>
                    <a:pt x="103" y="28"/>
                  </a:lnTo>
                  <a:lnTo>
                    <a:pt x="101" y="30"/>
                  </a:lnTo>
                  <a:lnTo>
                    <a:pt x="101" y="32"/>
                  </a:lnTo>
                  <a:lnTo>
                    <a:pt x="101" y="34"/>
                  </a:lnTo>
                  <a:lnTo>
                    <a:pt x="101" y="34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100" y="40"/>
                  </a:lnTo>
                  <a:lnTo>
                    <a:pt x="117" y="34"/>
                  </a:lnTo>
                  <a:lnTo>
                    <a:pt x="140" y="27"/>
                  </a:lnTo>
                  <a:lnTo>
                    <a:pt x="165" y="21"/>
                  </a:lnTo>
                  <a:lnTo>
                    <a:pt x="192" y="17"/>
                  </a:lnTo>
                  <a:lnTo>
                    <a:pt x="217" y="13"/>
                  </a:lnTo>
                  <a:lnTo>
                    <a:pt x="243" y="11"/>
                  </a:lnTo>
                  <a:lnTo>
                    <a:pt x="268" y="11"/>
                  </a:lnTo>
                  <a:lnTo>
                    <a:pt x="295" y="11"/>
                  </a:lnTo>
                  <a:lnTo>
                    <a:pt x="322" y="13"/>
                  </a:lnTo>
                  <a:lnTo>
                    <a:pt x="347" y="17"/>
                  </a:lnTo>
                  <a:lnTo>
                    <a:pt x="357" y="19"/>
                  </a:lnTo>
                  <a:lnTo>
                    <a:pt x="357" y="17"/>
                  </a:lnTo>
                  <a:lnTo>
                    <a:pt x="357" y="15"/>
                  </a:lnTo>
                  <a:lnTo>
                    <a:pt x="357" y="15"/>
                  </a:lnTo>
                  <a:lnTo>
                    <a:pt x="357" y="13"/>
                  </a:lnTo>
                  <a:lnTo>
                    <a:pt x="359" y="11"/>
                  </a:lnTo>
                  <a:lnTo>
                    <a:pt x="359" y="11"/>
                  </a:lnTo>
                  <a:lnTo>
                    <a:pt x="359" y="9"/>
                  </a:lnTo>
                  <a:lnTo>
                    <a:pt x="359" y="7"/>
                  </a:lnTo>
                  <a:close/>
                  <a:moveTo>
                    <a:pt x="2" y="974"/>
                  </a:moveTo>
                  <a:lnTo>
                    <a:pt x="19" y="984"/>
                  </a:lnTo>
                  <a:lnTo>
                    <a:pt x="42" y="996"/>
                  </a:lnTo>
                  <a:lnTo>
                    <a:pt x="65" y="1007"/>
                  </a:lnTo>
                  <a:lnTo>
                    <a:pt x="90" y="1015"/>
                  </a:lnTo>
                  <a:lnTo>
                    <a:pt x="113" y="1024"/>
                  </a:lnTo>
                  <a:lnTo>
                    <a:pt x="138" y="1030"/>
                  </a:lnTo>
                  <a:lnTo>
                    <a:pt x="163" y="1036"/>
                  </a:lnTo>
                  <a:lnTo>
                    <a:pt x="190" y="1042"/>
                  </a:lnTo>
                  <a:lnTo>
                    <a:pt x="215" y="1045"/>
                  </a:lnTo>
                  <a:lnTo>
                    <a:pt x="242" y="1047"/>
                  </a:lnTo>
                  <a:lnTo>
                    <a:pt x="268" y="1047"/>
                  </a:lnTo>
                  <a:lnTo>
                    <a:pt x="295" y="1047"/>
                  </a:lnTo>
                  <a:lnTo>
                    <a:pt x="322" y="1045"/>
                  </a:lnTo>
                  <a:lnTo>
                    <a:pt x="349" y="1042"/>
                  </a:lnTo>
                  <a:lnTo>
                    <a:pt x="361" y="1040"/>
                  </a:lnTo>
                  <a:lnTo>
                    <a:pt x="361" y="1038"/>
                  </a:lnTo>
                  <a:lnTo>
                    <a:pt x="359" y="1038"/>
                  </a:lnTo>
                  <a:lnTo>
                    <a:pt x="359" y="1036"/>
                  </a:lnTo>
                  <a:lnTo>
                    <a:pt x="359" y="1034"/>
                  </a:lnTo>
                  <a:lnTo>
                    <a:pt x="359" y="1034"/>
                  </a:lnTo>
                  <a:lnTo>
                    <a:pt x="359" y="1032"/>
                  </a:lnTo>
                  <a:lnTo>
                    <a:pt x="359" y="1030"/>
                  </a:lnTo>
                  <a:lnTo>
                    <a:pt x="357" y="1030"/>
                  </a:lnTo>
                  <a:lnTo>
                    <a:pt x="347" y="1032"/>
                  </a:lnTo>
                  <a:lnTo>
                    <a:pt x="322" y="1034"/>
                  </a:lnTo>
                  <a:lnTo>
                    <a:pt x="295" y="1036"/>
                  </a:lnTo>
                  <a:lnTo>
                    <a:pt x="268" y="1038"/>
                  </a:lnTo>
                  <a:lnTo>
                    <a:pt x="243" y="1036"/>
                  </a:lnTo>
                  <a:lnTo>
                    <a:pt x="217" y="1034"/>
                  </a:lnTo>
                  <a:lnTo>
                    <a:pt x="192" y="1032"/>
                  </a:lnTo>
                  <a:lnTo>
                    <a:pt x="165" y="1026"/>
                  </a:lnTo>
                  <a:lnTo>
                    <a:pt x="140" y="1020"/>
                  </a:lnTo>
                  <a:lnTo>
                    <a:pt x="117" y="1015"/>
                  </a:lnTo>
                  <a:lnTo>
                    <a:pt x="92" y="1005"/>
                  </a:lnTo>
                  <a:lnTo>
                    <a:pt x="69" y="997"/>
                  </a:lnTo>
                  <a:lnTo>
                    <a:pt x="46" y="986"/>
                  </a:lnTo>
                  <a:lnTo>
                    <a:pt x="25" y="974"/>
                  </a:lnTo>
                  <a:lnTo>
                    <a:pt x="4" y="963"/>
                  </a:lnTo>
                  <a:lnTo>
                    <a:pt x="0" y="961"/>
                  </a:lnTo>
                  <a:lnTo>
                    <a:pt x="0" y="963"/>
                  </a:lnTo>
                  <a:lnTo>
                    <a:pt x="0" y="965"/>
                  </a:lnTo>
                  <a:lnTo>
                    <a:pt x="0" y="965"/>
                  </a:lnTo>
                  <a:lnTo>
                    <a:pt x="2" y="967"/>
                  </a:lnTo>
                  <a:lnTo>
                    <a:pt x="2" y="969"/>
                  </a:lnTo>
                  <a:lnTo>
                    <a:pt x="2" y="971"/>
                  </a:lnTo>
                  <a:lnTo>
                    <a:pt x="2" y="972"/>
                  </a:lnTo>
                  <a:lnTo>
                    <a:pt x="2" y="974"/>
                  </a:lnTo>
                  <a:close/>
                </a:path>
              </a:pathLst>
            </a:custGeom>
            <a:solidFill>
              <a:srgbClr val="9a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164"/>
            <p:cNvSpPr/>
            <p:nvPr/>
          </p:nvSpPr>
          <p:spPr>
            <a:xfrm>
              <a:off x="1962000" y="2334960"/>
              <a:ext cx="570240" cy="1646280"/>
            </a:xfrm>
            <a:custGeom>
              <a:avLst/>
              <a:gdLst>
                <a:gd name="textAreaLeft" fmla="*/ 0 w 570240"/>
                <a:gd name="textAreaRight" fmla="*/ 570600 w 570240"/>
                <a:gd name="textAreaTop" fmla="*/ 0 h 1646280"/>
                <a:gd name="textAreaBottom" fmla="*/ 1646640 h 1646280"/>
              </a:gdLst>
              <a:ahLst/>
              <a:rect l="textAreaLeft" t="textAreaTop" r="textAreaRight" b="textAreaBottom"/>
              <a:pathLst>
                <a:path w="359" h="1037">
                  <a:moveTo>
                    <a:pt x="357" y="8"/>
                  </a:moveTo>
                  <a:lnTo>
                    <a:pt x="347" y="6"/>
                  </a:lnTo>
                  <a:lnTo>
                    <a:pt x="322" y="2"/>
                  </a:lnTo>
                  <a:lnTo>
                    <a:pt x="295" y="0"/>
                  </a:lnTo>
                  <a:lnTo>
                    <a:pt x="268" y="0"/>
                  </a:lnTo>
                  <a:lnTo>
                    <a:pt x="242" y="0"/>
                  </a:lnTo>
                  <a:lnTo>
                    <a:pt x="217" y="2"/>
                  </a:lnTo>
                  <a:lnTo>
                    <a:pt x="190" y="6"/>
                  </a:lnTo>
                  <a:lnTo>
                    <a:pt x="165" y="10"/>
                  </a:lnTo>
                  <a:lnTo>
                    <a:pt x="140" y="16"/>
                  </a:lnTo>
                  <a:lnTo>
                    <a:pt x="115" y="23"/>
                  </a:lnTo>
                  <a:lnTo>
                    <a:pt x="101" y="29"/>
                  </a:lnTo>
                  <a:lnTo>
                    <a:pt x="101" y="29"/>
                  </a:lnTo>
                  <a:lnTo>
                    <a:pt x="100" y="31"/>
                  </a:lnTo>
                  <a:lnTo>
                    <a:pt x="100" y="33"/>
                  </a:lnTo>
                  <a:lnTo>
                    <a:pt x="100" y="35"/>
                  </a:lnTo>
                  <a:lnTo>
                    <a:pt x="100" y="35"/>
                  </a:lnTo>
                  <a:lnTo>
                    <a:pt x="98" y="37"/>
                  </a:lnTo>
                  <a:lnTo>
                    <a:pt x="98" y="39"/>
                  </a:lnTo>
                  <a:lnTo>
                    <a:pt x="98" y="41"/>
                  </a:lnTo>
                  <a:lnTo>
                    <a:pt x="119" y="33"/>
                  </a:lnTo>
                  <a:lnTo>
                    <a:pt x="142" y="27"/>
                  </a:lnTo>
                  <a:lnTo>
                    <a:pt x="167" y="22"/>
                  </a:lnTo>
                  <a:lnTo>
                    <a:pt x="192" y="16"/>
                  </a:lnTo>
                  <a:lnTo>
                    <a:pt x="217" y="14"/>
                  </a:lnTo>
                  <a:lnTo>
                    <a:pt x="243" y="12"/>
                  </a:lnTo>
                  <a:lnTo>
                    <a:pt x="268" y="10"/>
                  </a:lnTo>
                  <a:lnTo>
                    <a:pt x="295" y="12"/>
                  </a:lnTo>
                  <a:lnTo>
                    <a:pt x="320" y="14"/>
                  </a:lnTo>
                  <a:lnTo>
                    <a:pt x="347" y="16"/>
                  </a:lnTo>
                  <a:lnTo>
                    <a:pt x="355" y="18"/>
                  </a:lnTo>
                  <a:lnTo>
                    <a:pt x="355" y="18"/>
                  </a:lnTo>
                  <a:lnTo>
                    <a:pt x="355" y="16"/>
                  </a:lnTo>
                  <a:lnTo>
                    <a:pt x="357" y="14"/>
                  </a:lnTo>
                  <a:lnTo>
                    <a:pt x="357" y="14"/>
                  </a:lnTo>
                  <a:lnTo>
                    <a:pt x="357" y="12"/>
                  </a:lnTo>
                  <a:lnTo>
                    <a:pt x="357" y="10"/>
                  </a:lnTo>
                  <a:lnTo>
                    <a:pt x="357" y="10"/>
                  </a:lnTo>
                  <a:lnTo>
                    <a:pt x="357" y="8"/>
                  </a:lnTo>
                  <a:close/>
                  <a:moveTo>
                    <a:pt x="2" y="962"/>
                  </a:moveTo>
                  <a:lnTo>
                    <a:pt x="23" y="975"/>
                  </a:lnTo>
                  <a:lnTo>
                    <a:pt x="44" y="987"/>
                  </a:lnTo>
                  <a:lnTo>
                    <a:pt x="67" y="996"/>
                  </a:lnTo>
                  <a:lnTo>
                    <a:pt x="90" y="1006"/>
                  </a:lnTo>
                  <a:lnTo>
                    <a:pt x="115" y="1014"/>
                  </a:lnTo>
                  <a:lnTo>
                    <a:pt x="140" y="1021"/>
                  </a:lnTo>
                  <a:lnTo>
                    <a:pt x="165" y="1027"/>
                  </a:lnTo>
                  <a:lnTo>
                    <a:pt x="190" y="1031"/>
                  </a:lnTo>
                  <a:lnTo>
                    <a:pt x="217" y="1035"/>
                  </a:lnTo>
                  <a:lnTo>
                    <a:pt x="242" y="1037"/>
                  </a:lnTo>
                  <a:lnTo>
                    <a:pt x="268" y="1037"/>
                  </a:lnTo>
                  <a:lnTo>
                    <a:pt x="295" y="1037"/>
                  </a:lnTo>
                  <a:lnTo>
                    <a:pt x="322" y="1035"/>
                  </a:lnTo>
                  <a:lnTo>
                    <a:pt x="347" y="1031"/>
                  </a:lnTo>
                  <a:lnTo>
                    <a:pt x="359" y="1029"/>
                  </a:lnTo>
                  <a:lnTo>
                    <a:pt x="359" y="1029"/>
                  </a:lnTo>
                  <a:lnTo>
                    <a:pt x="359" y="1027"/>
                  </a:lnTo>
                  <a:lnTo>
                    <a:pt x="359" y="1025"/>
                  </a:lnTo>
                  <a:lnTo>
                    <a:pt x="357" y="1025"/>
                  </a:lnTo>
                  <a:lnTo>
                    <a:pt x="357" y="1023"/>
                  </a:lnTo>
                  <a:lnTo>
                    <a:pt x="357" y="1021"/>
                  </a:lnTo>
                  <a:lnTo>
                    <a:pt x="357" y="1021"/>
                  </a:lnTo>
                  <a:lnTo>
                    <a:pt x="357" y="1019"/>
                  </a:lnTo>
                  <a:lnTo>
                    <a:pt x="347" y="1021"/>
                  </a:lnTo>
                  <a:lnTo>
                    <a:pt x="320" y="1025"/>
                  </a:lnTo>
                  <a:lnTo>
                    <a:pt x="295" y="1027"/>
                  </a:lnTo>
                  <a:lnTo>
                    <a:pt x="268" y="1027"/>
                  </a:lnTo>
                  <a:lnTo>
                    <a:pt x="243" y="1027"/>
                  </a:lnTo>
                  <a:lnTo>
                    <a:pt x="217" y="1025"/>
                  </a:lnTo>
                  <a:lnTo>
                    <a:pt x="192" y="1021"/>
                  </a:lnTo>
                  <a:lnTo>
                    <a:pt x="167" y="1017"/>
                  </a:lnTo>
                  <a:lnTo>
                    <a:pt x="142" y="1012"/>
                  </a:lnTo>
                  <a:lnTo>
                    <a:pt x="119" y="1004"/>
                  </a:lnTo>
                  <a:lnTo>
                    <a:pt x="94" y="996"/>
                  </a:lnTo>
                  <a:lnTo>
                    <a:pt x="71" y="987"/>
                  </a:lnTo>
                  <a:lnTo>
                    <a:pt x="50" y="977"/>
                  </a:lnTo>
                  <a:lnTo>
                    <a:pt x="27" y="966"/>
                  </a:lnTo>
                  <a:lnTo>
                    <a:pt x="5" y="954"/>
                  </a:lnTo>
                  <a:lnTo>
                    <a:pt x="0" y="948"/>
                  </a:lnTo>
                  <a:lnTo>
                    <a:pt x="0" y="950"/>
                  </a:lnTo>
                  <a:lnTo>
                    <a:pt x="0" y="952"/>
                  </a:lnTo>
                  <a:lnTo>
                    <a:pt x="0" y="954"/>
                  </a:lnTo>
                  <a:lnTo>
                    <a:pt x="0" y="956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0" y="962"/>
                  </a:lnTo>
                  <a:lnTo>
                    <a:pt x="2" y="962"/>
                  </a:lnTo>
                  <a:close/>
                </a:path>
              </a:pathLst>
            </a:custGeom>
            <a:solidFill>
              <a:srgbClr val="9b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165"/>
            <p:cNvSpPr/>
            <p:nvPr/>
          </p:nvSpPr>
          <p:spPr>
            <a:xfrm>
              <a:off x="1959120" y="2344680"/>
              <a:ext cx="569880" cy="163008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w="359" h="1027">
                  <a:moveTo>
                    <a:pt x="359" y="8"/>
                  </a:moveTo>
                  <a:lnTo>
                    <a:pt x="349" y="6"/>
                  </a:lnTo>
                  <a:lnTo>
                    <a:pt x="324" y="2"/>
                  </a:lnTo>
                  <a:lnTo>
                    <a:pt x="297" y="0"/>
                  </a:lnTo>
                  <a:lnTo>
                    <a:pt x="270" y="0"/>
                  </a:lnTo>
                  <a:lnTo>
                    <a:pt x="245" y="0"/>
                  </a:lnTo>
                  <a:lnTo>
                    <a:pt x="219" y="2"/>
                  </a:lnTo>
                  <a:lnTo>
                    <a:pt x="194" y="6"/>
                  </a:lnTo>
                  <a:lnTo>
                    <a:pt x="167" y="10"/>
                  </a:lnTo>
                  <a:lnTo>
                    <a:pt x="142" y="16"/>
                  </a:lnTo>
                  <a:lnTo>
                    <a:pt x="119" y="23"/>
                  </a:lnTo>
                  <a:lnTo>
                    <a:pt x="102" y="29"/>
                  </a:lnTo>
                  <a:lnTo>
                    <a:pt x="102" y="29"/>
                  </a:lnTo>
                  <a:lnTo>
                    <a:pt x="100" y="31"/>
                  </a:lnTo>
                  <a:lnTo>
                    <a:pt x="100" y="33"/>
                  </a:lnTo>
                  <a:lnTo>
                    <a:pt x="100" y="35"/>
                  </a:lnTo>
                  <a:lnTo>
                    <a:pt x="100" y="37"/>
                  </a:lnTo>
                  <a:lnTo>
                    <a:pt x="98" y="37"/>
                  </a:lnTo>
                  <a:lnTo>
                    <a:pt x="98" y="39"/>
                  </a:lnTo>
                  <a:lnTo>
                    <a:pt x="98" y="41"/>
                  </a:lnTo>
                  <a:lnTo>
                    <a:pt x="98" y="41"/>
                  </a:lnTo>
                  <a:lnTo>
                    <a:pt x="121" y="33"/>
                  </a:lnTo>
                  <a:lnTo>
                    <a:pt x="146" y="25"/>
                  </a:lnTo>
                  <a:lnTo>
                    <a:pt x="171" y="19"/>
                  </a:lnTo>
                  <a:lnTo>
                    <a:pt x="194" y="16"/>
                  </a:lnTo>
                  <a:lnTo>
                    <a:pt x="221" y="12"/>
                  </a:lnTo>
                  <a:lnTo>
                    <a:pt x="245" y="10"/>
                  </a:lnTo>
                  <a:lnTo>
                    <a:pt x="270" y="10"/>
                  </a:lnTo>
                  <a:lnTo>
                    <a:pt x="297" y="10"/>
                  </a:lnTo>
                  <a:lnTo>
                    <a:pt x="322" y="12"/>
                  </a:lnTo>
                  <a:lnTo>
                    <a:pt x="347" y="16"/>
                  </a:lnTo>
                  <a:lnTo>
                    <a:pt x="355" y="17"/>
                  </a:lnTo>
                  <a:lnTo>
                    <a:pt x="357" y="16"/>
                  </a:lnTo>
                  <a:lnTo>
                    <a:pt x="357" y="14"/>
                  </a:lnTo>
                  <a:lnTo>
                    <a:pt x="357" y="14"/>
                  </a:lnTo>
                  <a:lnTo>
                    <a:pt x="357" y="12"/>
                  </a:lnTo>
                  <a:lnTo>
                    <a:pt x="357" y="12"/>
                  </a:lnTo>
                  <a:lnTo>
                    <a:pt x="357" y="10"/>
                  </a:lnTo>
                  <a:lnTo>
                    <a:pt x="359" y="8"/>
                  </a:lnTo>
                  <a:lnTo>
                    <a:pt x="359" y="8"/>
                  </a:lnTo>
                  <a:close/>
                  <a:moveTo>
                    <a:pt x="2" y="950"/>
                  </a:moveTo>
                  <a:lnTo>
                    <a:pt x="6" y="952"/>
                  </a:lnTo>
                  <a:lnTo>
                    <a:pt x="27" y="963"/>
                  </a:lnTo>
                  <a:lnTo>
                    <a:pt x="48" y="975"/>
                  </a:lnTo>
                  <a:lnTo>
                    <a:pt x="71" y="986"/>
                  </a:lnTo>
                  <a:lnTo>
                    <a:pt x="94" y="994"/>
                  </a:lnTo>
                  <a:lnTo>
                    <a:pt x="119" y="1004"/>
                  </a:lnTo>
                  <a:lnTo>
                    <a:pt x="142" y="1009"/>
                  </a:lnTo>
                  <a:lnTo>
                    <a:pt x="167" y="1015"/>
                  </a:lnTo>
                  <a:lnTo>
                    <a:pt x="194" y="1021"/>
                  </a:lnTo>
                  <a:lnTo>
                    <a:pt x="219" y="1023"/>
                  </a:lnTo>
                  <a:lnTo>
                    <a:pt x="245" y="1025"/>
                  </a:lnTo>
                  <a:lnTo>
                    <a:pt x="270" y="1027"/>
                  </a:lnTo>
                  <a:lnTo>
                    <a:pt x="297" y="1025"/>
                  </a:lnTo>
                  <a:lnTo>
                    <a:pt x="324" y="1023"/>
                  </a:lnTo>
                  <a:lnTo>
                    <a:pt x="349" y="1021"/>
                  </a:lnTo>
                  <a:lnTo>
                    <a:pt x="359" y="1019"/>
                  </a:lnTo>
                  <a:lnTo>
                    <a:pt x="359" y="1017"/>
                  </a:lnTo>
                  <a:lnTo>
                    <a:pt x="359" y="1015"/>
                  </a:lnTo>
                  <a:lnTo>
                    <a:pt x="359" y="1015"/>
                  </a:lnTo>
                  <a:lnTo>
                    <a:pt x="359" y="1013"/>
                  </a:lnTo>
                  <a:lnTo>
                    <a:pt x="359" y="1011"/>
                  </a:lnTo>
                  <a:lnTo>
                    <a:pt x="357" y="1011"/>
                  </a:lnTo>
                  <a:lnTo>
                    <a:pt x="357" y="1009"/>
                  </a:lnTo>
                  <a:lnTo>
                    <a:pt x="357" y="1008"/>
                  </a:lnTo>
                  <a:lnTo>
                    <a:pt x="347" y="1009"/>
                  </a:lnTo>
                  <a:lnTo>
                    <a:pt x="322" y="1013"/>
                  </a:lnTo>
                  <a:lnTo>
                    <a:pt x="297" y="1015"/>
                  </a:lnTo>
                  <a:lnTo>
                    <a:pt x="270" y="1015"/>
                  </a:lnTo>
                  <a:lnTo>
                    <a:pt x="245" y="1015"/>
                  </a:lnTo>
                  <a:lnTo>
                    <a:pt x="221" y="1013"/>
                  </a:lnTo>
                  <a:lnTo>
                    <a:pt x="194" y="1009"/>
                  </a:lnTo>
                  <a:lnTo>
                    <a:pt x="171" y="1006"/>
                  </a:lnTo>
                  <a:lnTo>
                    <a:pt x="146" y="1000"/>
                  </a:lnTo>
                  <a:lnTo>
                    <a:pt x="121" y="994"/>
                  </a:lnTo>
                  <a:lnTo>
                    <a:pt x="98" y="985"/>
                  </a:lnTo>
                  <a:lnTo>
                    <a:pt x="75" y="977"/>
                  </a:lnTo>
                  <a:lnTo>
                    <a:pt x="54" y="965"/>
                  </a:lnTo>
                  <a:lnTo>
                    <a:pt x="30" y="956"/>
                  </a:lnTo>
                  <a:lnTo>
                    <a:pt x="9" y="942"/>
                  </a:lnTo>
                  <a:lnTo>
                    <a:pt x="0" y="937"/>
                  </a:lnTo>
                  <a:lnTo>
                    <a:pt x="0" y="938"/>
                  </a:lnTo>
                  <a:lnTo>
                    <a:pt x="0" y="940"/>
                  </a:lnTo>
                  <a:lnTo>
                    <a:pt x="2" y="942"/>
                  </a:lnTo>
                  <a:lnTo>
                    <a:pt x="2" y="942"/>
                  </a:lnTo>
                  <a:lnTo>
                    <a:pt x="2" y="944"/>
                  </a:lnTo>
                  <a:lnTo>
                    <a:pt x="2" y="946"/>
                  </a:lnTo>
                  <a:lnTo>
                    <a:pt x="2" y="948"/>
                  </a:lnTo>
                  <a:lnTo>
                    <a:pt x="2" y="950"/>
                  </a:lnTo>
                  <a:close/>
                </a:path>
              </a:pathLst>
            </a:custGeom>
            <a:solidFill>
              <a:srgbClr val="9c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166"/>
            <p:cNvSpPr/>
            <p:nvPr/>
          </p:nvSpPr>
          <p:spPr>
            <a:xfrm>
              <a:off x="1959120" y="2350800"/>
              <a:ext cx="569880" cy="161460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1614600"/>
                <a:gd name="textAreaBottom" fmla="*/ 1614960 h 1614600"/>
              </a:gdLst>
              <a:ahLst/>
              <a:rect l="textAreaLeft" t="textAreaTop" r="textAreaRight" b="textAreaBottom"/>
              <a:pathLst>
                <a:path w="359" h="1017">
                  <a:moveTo>
                    <a:pt x="357" y="8"/>
                  </a:moveTo>
                  <a:lnTo>
                    <a:pt x="349" y="6"/>
                  </a:lnTo>
                  <a:lnTo>
                    <a:pt x="322" y="4"/>
                  </a:lnTo>
                  <a:lnTo>
                    <a:pt x="297" y="2"/>
                  </a:lnTo>
                  <a:lnTo>
                    <a:pt x="270" y="0"/>
                  </a:lnTo>
                  <a:lnTo>
                    <a:pt x="245" y="2"/>
                  </a:lnTo>
                  <a:lnTo>
                    <a:pt x="219" y="4"/>
                  </a:lnTo>
                  <a:lnTo>
                    <a:pt x="194" y="6"/>
                  </a:lnTo>
                  <a:lnTo>
                    <a:pt x="169" y="12"/>
                  </a:lnTo>
                  <a:lnTo>
                    <a:pt x="144" y="17"/>
                  </a:lnTo>
                  <a:lnTo>
                    <a:pt x="121" y="23"/>
                  </a:lnTo>
                  <a:lnTo>
                    <a:pt x="100" y="31"/>
                  </a:lnTo>
                  <a:lnTo>
                    <a:pt x="100" y="33"/>
                  </a:lnTo>
                  <a:lnTo>
                    <a:pt x="98" y="33"/>
                  </a:lnTo>
                  <a:lnTo>
                    <a:pt x="98" y="35"/>
                  </a:lnTo>
                  <a:lnTo>
                    <a:pt x="98" y="37"/>
                  </a:lnTo>
                  <a:lnTo>
                    <a:pt x="98" y="38"/>
                  </a:lnTo>
                  <a:lnTo>
                    <a:pt x="96" y="40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100" y="40"/>
                  </a:lnTo>
                  <a:lnTo>
                    <a:pt x="123" y="33"/>
                  </a:lnTo>
                  <a:lnTo>
                    <a:pt x="146" y="27"/>
                  </a:lnTo>
                  <a:lnTo>
                    <a:pt x="171" y="21"/>
                  </a:lnTo>
                  <a:lnTo>
                    <a:pt x="196" y="17"/>
                  </a:lnTo>
                  <a:lnTo>
                    <a:pt x="221" y="13"/>
                  </a:lnTo>
                  <a:lnTo>
                    <a:pt x="245" y="12"/>
                  </a:lnTo>
                  <a:lnTo>
                    <a:pt x="270" y="12"/>
                  </a:lnTo>
                  <a:lnTo>
                    <a:pt x="297" y="12"/>
                  </a:lnTo>
                  <a:lnTo>
                    <a:pt x="322" y="13"/>
                  </a:lnTo>
                  <a:lnTo>
                    <a:pt x="347" y="17"/>
                  </a:lnTo>
                  <a:lnTo>
                    <a:pt x="355" y="17"/>
                  </a:lnTo>
                  <a:lnTo>
                    <a:pt x="355" y="17"/>
                  </a:lnTo>
                  <a:lnTo>
                    <a:pt x="355" y="15"/>
                  </a:lnTo>
                  <a:lnTo>
                    <a:pt x="355" y="13"/>
                  </a:lnTo>
                  <a:lnTo>
                    <a:pt x="355" y="13"/>
                  </a:lnTo>
                  <a:lnTo>
                    <a:pt x="357" y="12"/>
                  </a:lnTo>
                  <a:lnTo>
                    <a:pt x="357" y="10"/>
                  </a:lnTo>
                  <a:lnTo>
                    <a:pt x="357" y="10"/>
                  </a:lnTo>
                  <a:lnTo>
                    <a:pt x="357" y="8"/>
                  </a:lnTo>
                  <a:close/>
                  <a:moveTo>
                    <a:pt x="2" y="938"/>
                  </a:moveTo>
                  <a:lnTo>
                    <a:pt x="7" y="944"/>
                  </a:lnTo>
                  <a:lnTo>
                    <a:pt x="29" y="956"/>
                  </a:lnTo>
                  <a:lnTo>
                    <a:pt x="52" y="967"/>
                  </a:lnTo>
                  <a:lnTo>
                    <a:pt x="73" y="977"/>
                  </a:lnTo>
                  <a:lnTo>
                    <a:pt x="96" y="986"/>
                  </a:lnTo>
                  <a:lnTo>
                    <a:pt x="121" y="994"/>
                  </a:lnTo>
                  <a:lnTo>
                    <a:pt x="144" y="1002"/>
                  </a:lnTo>
                  <a:lnTo>
                    <a:pt x="169" y="1007"/>
                  </a:lnTo>
                  <a:lnTo>
                    <a:pt x="194" y="1011"/>
                  </a:lnTo>
                  <a:lnTo>
                    <a:pt x="219" y="1015"/>
                  </a:lnTo>
                  <a:lnTo>
                    <a:pt x="245" y="1017"/>
                  </a:lnTo>
                  <a:lnTo>
                    <a:pt x="270" y="1017"/>
                  </a:lnTo>
                  <a:lnTo>
                    <a:pt x="297" y="1017"/>
                  </a:lnTo>
                  <a:lnTo>
                    <a:pt x="322" y="1015"/>
                  </a:lnTo>
                  <a:lnTo>
                    <a:pt x="349" y="1011"/>
                  </a:lnTo>
                  <a:lnTo>
                    <a:pt x="359" y="1009"/>
                  </a:lnTo>
                  <a:lnTo>
                    <a:pt x="359" y="1007"/>
                  </a:lnTo>
                  <a:lnTo>
                    <a:pt x="357" y="1007"/>
                  </a:lnTo>
                  <a:lnTo>
                    <a:pt x="357" y="1005"/>
                  </a:lnTo>
                  <a:lnTo>
                    <a:pt x="357" y="1004"/>
                  </a:lnTo>
                  <a:lnTo>
                    <a:pt x="357" y="1004"/>
                  </a:lnTo>
                  <a:lnTo>
                    <a:pt x="357" y="1002"/>
                  </a:lnTo>
                  <a:lnTo>
                    <a:pt x="357" y="1000"/>
                  </a:lnTo>
                  <a:lnTo>
                    <a:pt x="357" y="1000"/>
                  </a:lnTo>
                  <a:lnTo>
                    <a:pt x="347" y="1002"/>
                  </a:lnTo>
                  <a:lnTo>
                    <a:pt x="322" y="1004"/>
                  </a:lnTo>
                  <a:lnTo>
                    <a:pt x="297" y="1005"/>
                  </a:lnTo>
                  <a:lnTo>
                    <a:pt x="270" y="1007"/>
                  </a:lnTo>
                  <a:lnTo>
                    <a:pt x="245" y="1005"/>
                  </a:lnTo>
                  <a:lnTo>
                    <a:pt x="221" y="1004"/>
                  </a:lnTo>
                  <a:lnTo>
                    <a:pt x="196" y="1002"/>
                  </a:lnTo>
                  <a:lnTo>
                    <a:pt x="171" y="996"/>
                  </a:lnTo>
                  <a:lnTo>
                    <a:pt x="146" y="990"/>
                  </a:lnTo>
                  <a:lnTo>
                    <a:pt x="123" y="984"/>
                  </a:lnTo>
                  <a:lnTo>
                    <a:pt x="100" y="977"/>
                  </a:lnTo>
                  <a:lnTo>
                    <a:pt x="77" y="967"/>
                  </a:lnTo>
                  <a:lnTo>
                    <a:pt x="55" y="957"/>
                  </a:lnTo>
                  <a:lnTo>
                    <a:pt x="34" y="946"/>
                  </a:lnTo>
                  <a:lnTo>
                    <a:pt x="13" y="934"/>
                  </a:lnTo>
                  <a:lnTo>
                    <a:pt x="0" y="927"/>
                  </a:lnTo>
                  <a:lnTo>
                    <a:pt x="0" y="927"/>
                  </a:lnTo>
                  <a:lnTo>
                    <a:pt x="0" y="929"/>
                  </a:lnTo>
                  <a:lnTo>
                    <a:pt x="0" y="931"/>
                  </a:lnTo>
                  <a:lnTo>
                    <a:pt x="0" y="933"/>
                  </a:lnTo>
                  <a:lnTo>
                    <a:pt x="0" y="934"/>
                  </a:lnTo>
                  <a:lnTo>
                    <a:pt x="0" y="936"/>
                  </a:lnTo>
                  <a:lnTo>
                    <a:pt x="2" y="938"/>
                  </a:lnTo>
                  <a:lnTo>
                    <a:pt x="2" y="938"/>
                  </a:lnTo>
                  <a:close/>
                </a:path>
              </a:pathLst>
            </a:custGeom>
            <a:solidFill>
              <a:srgbClr val="9d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167"/>
            <p:cNvSpPr/>
            <p:nvPr/>
          </p:nvSpPr>
          <p:spPr>
            <a:xfrm>
              <a:off x="1955880" y="2360520"/>
              <a:ext cx="569880" cy="159552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1595520"/>
                <a:gd name="textAreaBottom" fmla="*/ 1595880 h 1595520"/>
              </a:gdLst>
              <a:ahLst/>
              <a:rect l="textAreaLeft" t="textAreaTop" r="textAreaRight" b="textAreaBottom"/>
              <a:pathLst>
                <a:path w="359" h="1005">
                  <a:moveTo>
                    <a:pt x="357" y="7"/>
                  </a:moveTo>
                  <a:lnTo>
                    <a:pt x="349" y="6"/>
                  </a:lnTo>
                  <a:lnTo>
                    <a:pt x="324" y="2"/>
                  </a:lnTo>
                  <a:lnTo>
                    <a:pt x="299" y="0"/>
                  </a:lnTo>
                  <a:lnTo>
                    <a:pt x="272" y="0"/>
                  </a:lnTo>
                  <a:lnTo>
                    <a:pt x="247" y="0"/>
                  </a:lnTo>
                  <a:lnTo>
                    <a:pt x="223" y="2"/>
                  </a:lnTo>
                  <a:lnTo>
                    <a:pt x="196" y="6"/>
                  </a:lnTo>
                  <a:lnTo>
                    <a:pt x="173" y="9"/>
                  </a:lnTo>
                  <a:lnTo>
                    <a:pt x="148" y="15"/>
                  </a:lnTo>
                  <a:lnTo>
                    <a:pt x="123" y="23"/>
                  </a:lnTo>
                  <a:lnTo>
                    <a:pt x="100" y="31"/>
                  </a:lnTo>
                  <a:lnTo>
                    <a:pt x="100" y="31"/>
                  </a:lnTo>
                  <a:lnTo>
                    <a:pt x="100" y="32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6"/>
                  </a:lnTo>
                  <a:lnTo>
                    <a:pt x="96" y="38"/>
                  </a:lnTo>
                  <a:lnTo>
                    <a:pt x="96" y="40"/>
                  </a:lnTo>
                  <a:lnTo>
                    <a:pt x="96" y="42"/>
                  </a:lnTo>
                  <a:lnTo>
                    <a:pt x="96" y="44"/>
                  </a:lnTo>
                  <a:lnTo>
                    <a:pt x="104" y="40"/>
                  </a:lnTo>
                  <a:lnTo>
                    <a:pt x="127" y="32"/>
                  </a:lnTo>
                  <a:lnTo>
                    <a:pt x="150" y="25"/>
                  </a:lnTo>
                  <a:lnTo>
                    <a:pt x="175" y="21"/>
                  </a:lnTo>
                  <a:lnTo>
                    <a:pt x="198" y="15"/>
                  </a:lnTo>
                  <a:lnTo>
                    <a:pt x="223" y="13"/>
                  </a:lnTo>
                  <a:lnTo>
                    <a:pt x="247" y="11"/>
                  </a:lnTo>
                  <a:lnTo>
                    <a:pt x="272" y="9"/>
                  </a:lnTo>
                  <a:lnTo>
                    <a:pt x="299" y="11"/>
                  </a:lnTo>
                  <a:lnTo>
                    <a:pt x="324" y="13"/>
                  </a:lnTo>
                  <a:lnTo>
                    <a:pt x="347" y="15"/>
                  </a:lnTo>
                  <a:lnTo>
                    <a:pt x="355" y="17"/>
                  </a:lnTo>
                  <a:lnTo>
                    <a:pt x="355" y="15"/>
                  </a:lnTo>
                  <a:lnTo>
                    <a:pt x="355" y="15"/>
                  </a:lnTo>
                  <a:lnTo>
                    <a:pt x="357" y="13"/>
                  </a:lnTo>
                  <a:lnTo>
                    <a:pt x="357" y="11"/>
                  </a:lnTo>
                  <a:lnTo>
                    <a:pt x="357" y="11"/>
                  </a:lnTo>
                  <a:lnTo>
                    <a:pt x="357" y="9"/>
                  </a:lnTo>
                  <a:lnTo>
                    <a:pt x="357" y="7"/>
                  </a:lnTo>
                  <a:lnTo>
                    <a:pt x="357" y="7"/>
                  </a:lnTo>
                  <a:close/>
                  <a:moveTo>
                    <a:pt x="2" y="927"/>
                  </a:moveTo>
                  <a:lnTo>
                    <a:pt x="11" y="932"/>
                  </a:lnTo>
                  <a:lnTo>
                    <a:pt x="32" y="946"/>
                  </a:lnTo>
                  <a:lnTo>
                    <a:pt x="56" y="955"/>
                  </a:lnTo>
                  <a:lnTo>
                    <a:pt x="77" y="967"/>
                  </a:lnTo>
                  <a:lnTo>
                    <a:pt x="100" y="975"/>
                  </a:lnTo>
                  <a:lnTo>
                    <a:pt x="123" y="984"/>
                  </a:lnTo>
                  <a:lnTo>
                    <a:pt x="148" y="990"/>
                  </a:lnTo>
                  <a:lnTo>
                    <a:pt x="173" y="996"/>
                  </a:lnTo>
                  <a:lnTo>
                    <a:pt x="196" y="999"/>
                  </a:lnTo>
                  <a:lnTo>
                    <a:pt x="223" y="1003"/>
                  </a:lnTo>
                  <a:lnTo>
                    <a:pt x="247" y="1005"/>
                  </a:lnTo>
                  <a:lnTo>
                    <a:pt x="272" y="1005"/>
                  </a:lnTo>
                  <a:lnTo>
                    <a:pt x="299" y="1005"/>
                  </a:lnTo>
                  <a:lnTo>
                    <a:pt x="324" y="1003"/>
                  </a:lnTo>
                  <a:lnTo>
                    <a:pt x="349" y="999"/>
                  </a:lnTo>
                  <a:lnTo>
                    <a:pt x="359" y="998"/>
                  </a:lnTo>
                  <a:lnTo>
                    <a:pt x="359" y="998"/>
                  </a:lnTo>
                  <a:lnTo>
                    <a:pt x="359" y="996"/>
                  </a:lnTo>
                  <a:lnTo>
                    <a:pt x="359" y="994"/>
                  </a:lnTo>
                  <a:lnTo>
                    <a:pt x="359" y="994"/>
                  </a:lnTo>
                  <a:lnTo>
                    <a:pt x="357" y="992"/>
                  </a:lnTo>
                  <a:lnTo>
                    <a:pt x="357" y="990"/>
                  </a:lnTo>
                  <a:lnTo>
                    <a:pt x="357" y="990"/>
                  </a:lnTo>
                  <a:lnTo>
                    <a:pt x="357" y="988"/>
                  </a:lnTo>
                  <a:lnTo>
                    <a:pt x="347" y="990"/>
                  </a:lnTo>
                  <a:lnTo>
                    <a:pt x="324" y="994"/>
                  </a:lnTo>
                  <a:lnTo>
                    <a:pt x="299" y="996"/>
                  </a:lnTo>
                  <a:lnTo>
                    <a:pt x="272" y="996"/>
                  </a:lnTo>
                  <a:lnTo>
                    <a:pt x="247" y="996"/>
                  </a:lnTo>
                  <a:lnTo>
                    <a:pt x="223" y="994"/>
                  </a:lnTo>
                  <a:lnTo>
                    <a:pt x="198" y="990"/>
                  </a:lnTo>
                  <a:lnTo>
                    <a:pt x="175" y="986"/>
                  </a:lnTo>
                  <a:lnTo>
                    <a:pt x="150" y="980"/>
                  </a:lnTo>
                  <a:lnTo>
                    <a:pt x="127" y="973"/>
                  </a:lnTo>
                  <a:lnTo>
                    <a:pt x="104" y="965"/>
                  </a:lnTo>
                  <a:lnTo>
                    <a:pt x="80" y="957"/>
                  </a:lnTo>
                  <a:lnTo>
                    <a:pt x="59" y="948"/>
                  </a:lnTo>
                  <a:lnTo>
                    <a:pt x="38" y="936"/>
                  </a:lnTo>
                  <a:lnTo>
                    <a:pt x="17" y="925"/>
                  </a:lnTo>
                  <a:lnTo>
                    <a:pt x="0" y="913"/>
                  </a:lnTo>
                  <a:lnTo>
                    <a:pt x="0" y="915"/>
                  </a:lnTo>
                  <a:lnTo>
                    <a:pt x="2" y="917"/>
                  </a:lnTo>
                  <a:lnTo>
                    <a:pt x="2" y="919"/>
                  </a:lnTo>
                  <a:lnTo>
                    <a:pt x="2" y="921"/>
                  </a:lnTo>
                  <a:lnTo>
                    <a:pt x="2" y="921"/>
                  </a:lnTo>
                  <a:lnTo>
                    <a:pt x="2" y="923"/>
                  </a:lnTo>
                  <a:lnTo>
                    <a:pt x="2" y="925"/>
                  </a:lnTo>
                  <a:lnTo>
                    <a:pt x="2" y="927"/>
                  </a:lnTo>
                  <a:close/>
                </a:path>
              </a:pathLst>
            </a:custGeom>
            <a:solidFill>
              <a:srgbClr val="9e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168"/>
            <p:cNvSpPr/>
            <p:nvPr/>
          </p:nvSpPr>
          <p:spPr>
            <a:xfrm>
              <a:off x="1955880" y="2369880"/>
              <a:ext cx="569880" cy="157968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1579680"/>
                <a:gd name="textAreaBottom" fmla="*/ 1580040 h 1579680"/>
              </a:gdLst>
              <a:ahLst/>
              <a:rect l="textAreaLeft" t="textAreaTop" r="textAreaRight" b="textAreaBottom"/>
              <a:pathLst>
                <a:path w="359" h="995">
                  <a:moveTo>
                    <a:pt x="357" y="5"/>
                  </a:moveTo>
                  <a:lnTo>
                    <a:pt x="349" y="5"/>
                  </a:lnTo>
                  <a:lnTo>
                    <a:pt x="324" y="1"/>
                  </a:lnTo>
                  <a:lnTo>
                    <a:pt x="299" y="0"/>
                  </a:lnTo>
                  <a:lnTo>
                    <a:pt x="272" y="0"/>
                  </a:lnTo>
                  <a:lnTo>
                    <a:pt x="247" y="0"/>
                  </a:lnTo>
                  <a:lnTo>
                    <a:pt x="223" y="1"/>
                  </a:lnTo>
                  <a:lnTo>
                    <a:pt x="198" y="5"/>
                  </a:lnTo>
                  <a:lnTo>
                    <a:pt x="173" y="9"/>
                  </a:lnTo>
                  <a:lnTo>
                    <a:pt x="148" y="15"/>
                  </a:lnTo>
                  <a:lnTo>
                    <a:pt x="125" y="21"/>
                  </a:lnTo>
                  <a:lnTo>
                    <a:pt x="102" y="28"/>
                  </a:lnTo>
                  <a:lnTo>
                    <a:pt x="98" y="30"/>
                  </a:lnTo>
                  <a:lnTo>
                    <a:pt x="96" y="32"/>
                  </a:lnTo>
                  <a:lnTo>
                    <a:pt x="96" y="34"/>
                  </a:lnTo>
                  <a:lnTo>
                    <a:pt x="96" y="36"/>
                  </a:lnTo>
                  <a:lnTo>
                    <a:pt x="96" y="38"/>
                  </a:lnTo>
                  <a:lnTo>
                    <a:pt x="94" y="38"/>
                  </a:lnTo>
                  <a:lnTo>
                    <a:pt x="94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105" y="38"/>
                  </a:lnTo>
                  <a:lnTo>
                    <a:pt x="128" y="30"/>
                  </a:lnTo>
                  <a:lnTo>
                    <a:pt x="151" y="25"/>
                  </a:lnTo>
                  <a:lnTo>
                    <a:pt x="175" y="19"/>
                  </a:lnTo>
                  <a:lnTo>
                    <a:pt x="199" y="15"/>
                  </a:lnTo>
                  <a:lnTo>
                    <a:pt x="223" y="11"/>
                  </a:lnTo>
                  <a:lnTo>
                    <a:pt x="247" y="9"/>
                  </a:lnTo>
                  <a:lnTo>
                    <a:pt x="272" y="9"/>
                  </a:lnTo>
                  <a:lnTo>
                    <a:pt x="297" y="9"/>
                  </a:lnTo>
                  <a:lnTo>
                    <a:pt x="322" y="11"/>
                  </a:lnTo>
                  <a:lnTo>
                    <a:pt x="347" y="15"/>
                  </a:lnTo>
                  <a:lnTo>
                    <a:pt x="353" y="17"/>
                  </a:lnTo>
                  <a:lnTo>
                    <a:pt x="355" y="15"/>
                  </a:lnTo>
                  <a:lnTo>
                    <a:pt x="355" y="13"/>
                  </a:lnTo>
                  <a:lnTo>
                    <a:pt x="355" y="13"/>
                  </a:lnTo>
                  <a:lnTo>
                    <a:pt x="355" y="11"/>
                  </a:lnTo>
                  <a:lnTo>
                    <a:pt x="355" y="9"/>
                  </a:lnTo>
                  <a:lnTo>
                    <a:pt x="355" y="9"/>
                  </a:lnTo>
                  <a:lnTo>
                    <a:pt x="357" y="7"/>
                  </a:lnTo>
                  <a:lnTo>
                    <a:pt x="357" y="5"/>
                  </a:lnTo>
                  <a:close/>
                  <a:moveTo>
                    <a:pt x="2" y="915"/>
                  </a:moveTo>
                  <a:lnTo>
                    <a:pt x="15" y="922"/>
                  </a:lnTo>
                  <a:lnTo>
                    <a:pt x="36" y="934"/>
                  </a:lnTo>
                  <a:lnTo>
                    <a:pt x="57" y="945"/>
                  </a:lnTo>
                  <a:lnTo>
                    <a:pt x="79" y="955"/>
                  </a:lnTo>
                  <a:lnTo>
                    <a:pt x="102" y="965"/>
                  </a:lnTo>
                  <a:lnTo>
                    <a:pt x="125" y="972"/>
                  </a:lnTo>
                  <a:lnTo>
                    <a:pt x="148" y="978"/>
                  </a:lnTo>
                  <a:lnTo>
                    <a:pt x="173" y="984"/>
                  </a:lnTo>
                  <a:lnTo>
                    <a:pt x="198" y="990"/>
                  </a:lnTo>
                  <a:lnTo>
                    <a:pt x="223" y="992"/>
                  </a:lnTo>
                  <a:lnTo>
                    <a:pt x="247" y="993"/>
                  </a:lnTo>
                  <a:lnTo>
                    <a:pt x="272" y="995"/>
                  </a:lnTo>
                  <a:lnTo>
                    <a:pt x="299" y="993"/>
                  </a:lnTo>
                  <a:lnTo>
                    <a:pt x="324" y="992"/>
                  </a:lnTo>
                  <a:lnTo>
                    <a:pt x="349" y="990"/>
                  </a:lnTo>
                  <a:lnTo>
                    <a:pt x="359" y="988"/>
                  </a:lnTo>
                  <a:lnTo>
                    <a:pt x="357" y="986"/>
                  </a:lnTo>
                  <a:lnTo>
                    <a:pt x="357" y="984"/>
                  </a:lnTo>
                  <a:lnTo>
                    <a:pt x="357" y="984"/>
                  </a:lnTo>
                  <a:lnTo>
                    <a:pt x="357" y="982"/>
                  </a:lnTo>
                  <a:lnTo>
                    <a:pt x="357" y="982"/>
                  </a:lnTo>
                  <a:lnTo>
                    <a:pt x="357" y="980"/>
                  </a:lnTo>
                  <a:lnTo>
                    <a:pt x="355" y="978"/>
                  </a:lnTo>
                  <a:lnTo>
                    <a:pt x="355" y="978"/>
                  </a:lnTo>
                  <a:lnTo>
                    <a:pt x="347" y="978"/>
                  </a:lnTo>
                  <a:lnTo>
                    <a:pt x="322" y="982"/>
                  </a:lnTo>
                  <a:lnTo>
                    <a:pt x="297" y="984"/>
                  </a:lnTo>
                  <a:lnTo>
                    <a:pt x="272" y="984"/>
                  </a:lnTo>
                  <a:lnTo>
                    <a:pt x="247" y="984"/>
                  </a:lnTo>
                  <a:lnTo>
                    <a:pt x="223" y="982"/>
                  </a:lnTo>
                  <a:lnTo>
                    <a:pt x="199" y="978"/>
                  </a:lnTo>
                  <a:lnTo>
                    <a:pt x="175" y="974"/>
                  </a:lnTo>
                  <a:lnTo>
                    <a:pt x="151" y="969"/>
                  </a:lnTo>
                  <a:lnTo>
                    <a:pt x="128" y="963"/>
                  </a:lnTo>
                  <a:lnTo>
                    <a:pt x="105" y="955"/>
                  </a:lnTo>
                  <a:lnTo>
                    <a:pt x="82" y="945"/>
                  </a:lnTo>
                  <a:lnTo>
                    <a:pt x="61" y="936"/>
                  </a:lnTo>
                  <a:lnTo>
                    <a:pt x="40" y="926"/>
                  </a:lnTo>
                  <a:lnTo>
                    <a:pt x="21" y="913"/>
                  </a:lnTo>
                  <a:lnTo>
                    <a:pt x="0" y="901"/>
                  </a:lnTo>
                  <a:lnTo>
                    <a:pt x="0" y="901"/>
                  </a:lnTo>
                  <a:lnTo>
                    <a:pt x="0" y="903"/>
                  </a:lnTo>
                  <a:lnTo>
                    <a:pt x="0" y="903"/>
                  </a:lnTo>
                  <a:lnTo>
                    <a:pt x="0" y="905"/>
                  </a:lnTo>
                  <a:lnTo>
                    <a:pt x="0" y="907"/>
                  </a:lnTo>
                  <a:lnTo>
                    <a:pt x="0" y="909"/>
                  </a:lnTo>
                  <a:lnTo>
                    <a:pt x="2" y="911"/>
                  </a:lnTo>
                  <a:lnTo>
                    <a:pt x="2" y="913"/>
                  </a:lnTo>
                  <a:lnTo>
                    <a:pt x="2" y="915"/>
                  </a:lnTo>
                  <a:close/>
                </a:path>
              </a:pathLst>
            </a:custGeom>
            <a:solidFill>
              <a:srgbClr val="9f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Freeform 169"/>
            <p:cNvSpPr/>
            <p:nvPr/>
          </p:nvSpPr>
          <p:spPr>
            <a:xfrm>
              <a:off x="1955880" y="2374560"/>
              <a:ext cx="566640" cy="1567080"/>
            </a:xfrm>
            <a:custGeom>
              <a:avLst/>
              <a:gdLst>
                <a:gd name="textAreaLeft" fmla="*/ 0 w 566640"/>
                <a:gd name="textAreaRight" fmla="*/ 567000 w 566640"/>
                <a:gd name="textAreaTop" fmla="*/ 0 h 1567080"/>
                <a:gd name="textAreaBottom" fmla="*/ 1567440 h 1567080"/>
              </a:gdLst>
              <a:ahLst/>
              <a:rect l="textAreaLeft" t="textAreaTop" r="textAreaRight" b="textAreaBottom"/>
              <a:pathLst>
                <a:path w="357" h="987">
                  <a:moveTo>
                    <a:pt x="355" y="8"/>
                  </a:moveTo>
                  <a:lnTo>
                    <a:pt x="347" y="6"/>
                  </a:lnTo>
                  <a:lnTo>
                    <a:pt x="324" y="4"/>
                  </a:lnTo>
                  <a:lnTo>
                    <a:pt x="299" y="2"/>
                  </a:lnTo>
                  <a:lnTo>
                    <a:pt x="272" y="0"/>
                  </a:lnTo>
                  <a:lnTo>
                    <a:pt x="247" y="2"/>
                  </a:lnTo>
                  <a:lnTo>
                    <a:pt x="223" y="4"/>
                  </a:lnTo>
                  <a:lnTo>
                    <a:pt x="198" y="6"/>
                  </a:lnTo>
                  <a:lnTo>
                    <a:pt x="175" y="12"/>
                  </a:lnTo>
                  <a:lnTo>
                    <a:pt x="150" y="16"/>
                  </a:lnTo>
                  <a:lnTo>
                    <a:pt x="127" y="23"/>
                  </a:lnTo>
                  <a:lnTo>
                    <a:pt x="104" y="31"/>
                  </a:lnTo>
                  <a:lnTo>
                    <a:pt x="96" y="35"/>
                  </a:lnTo>
                  <a:lnTo>
                    <a:pt x="94" y="35"/>
                  </a:lnTo>
                  <a:lnTo>
                    <a:pt x="94" y="37"/>
                  </a:lnTo>
                  <a:lnTo>
                    <a:pt x="94" y="39"/>
                  </a:lnTo>
                  <a:lnTo>
                    <a:pt x="94" y="41"/>
                  </a:lnTo>
                  <a:lnTo>
                    <a:pt x="92" y="43"/>
                  </a:lnTo>
                  <a:lnTo>
                    <a:pt x="92" y="45"/>
                  </a:lnTo>
                  <a:lnTo>
                    <a:pt x="92" y="45"/>
                  </a:lnTo>
                  <a:lnTo>
                    <a:pt x="92" y="46"/>
                  </a:lnTo>
                  <a:lnTo>
                    <a:pt x="107" y="41"/>
                  </a:lnTo>
                  <a:lnTo>
                    <a:pt x="130" y="33"/>
                  </a:lnTo>
                  <a:lnTo>
                    <a:pt x="151" y="27"/>
                  </a:lnTo>
                  <a:lnTo>
                    <a:pt x="176" y="22"/>
                  </a:lnTo>
                  <a:lnTo>
                    <a:pt x="199" y="18"/>
                  </a:lnTo>
                  <a:lnTo>
                    <a:pt x="224" y="14"/>
                  </a:lnTo>
                  <a:lnTo>
                    <a:pt x="247" y="12"/>
                  </a:lnTo>
                  <a:lnTo>
                    <a:pt x="272" y="12"/>
                  </a:lnTo>
                  <a:lnTo>
                    <a:pt x="297" y="12"/>
                  </a:lnTo>
                  <a:lnTo>
                    <a:pt x="322" y="14"/>
                  </a:lnTo>
                  <a:lnTo>
                    <a:pt x="347" y="18"/>
                  </a:lnTo>
                  <a:lnTo>
                    <a:pt x="353" y="18"/>
                  </a:lnTo>
                  <a:lnTo>
                    <a:pt x="353" y="18"/>
                  </a:lnTo>
                  <a:lnTo>
                    <a:pt x="353" y="16"/>
                  </a:lnTo>
                  <a:lnTo>
                    <a:pt x="353" y="14"/>
                  </a:lnTo>
                  <a:lnTo>
                    <a:pt x="353" y="14"/>
                  </a:lnTo>
                  <a:lnTo>
                    <a:pt x="355" y="12"/>
                  </a:lnTo>
                  <a:lnTo>
                    <a:pt x="355" y="10"/>
                  </a:lnTo>
                  <a:lnTo>
                    <a:pt x="355" y="10"/>
                  </a:lnTo>
                  <a:lnTo>
                    <a:pt x="355" y="8"/>
                  </a:lnTo>
                  <a:close/>
                  <a:moveTo>
                    <a:pt x="0" y="904"/>
                  </a:moveTo>
                  <a:lnTo>
                    <a:pt x="17" y="916"/>
                  </a:lnTo>
                  <a:lnTo>
                    <a:pt x="38" y="927"/>
                  </a:lnTo>
                  <a:lnTo>
                    <a:pt x="59" y="939"/>
                  </a:lnTo>
                  <a:lnTo>
                    <a:pt x="80" y="948"/>
                  </a:lnTo>
                  <a:lnTo>
                    <a:pt x="104" y="956"/>
                  </a:lnTo>
                  <a:lnTo>
                    <a:pt x="127" y="964"/>
                  </a:lnTo>
                  <a:lnTo>
                    <a:pt x="150" y="971"/>
                  </a:lnTo>
                  <a:lnTo>
                    <a:pt x="175" y="977"/>
                  </a:lnTo>
                  <a:lnTo>
                    <a:pt x="198" y="981"/>
                  </a:lnTo>
                  <a:lnTo>
                    <a:pt x="223" y="985"/>
                  </a:lnTo>
                  <a:lnTo>
                    <a:pt x="247" y="987"/>
                  </a:lnTo>
                  <a:lnTo>
                    <a:pt x="272" y="987"/>
                  </a:lnTo>
                  <a:lnTo>
                    <a:pt x="299" y="987"/>
                  </a:lnTo>
                  <a:lnTo>
                    <a:pt x="324" y="985"/>
                  </a:lnTo>
                  <a:lnTo>
                    <a:pt x="347" y="981"/>
                  </a:lnTo>
                  <a:lnTo>
                    <a:pt x="357" y="979"/>
                  </a:lnTo>
                  <a:lnTo>
                    <a:pt x="357" y="979"/>
                  </a:lnTo>
                  <a:lnTo>
                    <a:pt x="357" y="977"/>
                  </a:lnTo>
                  <a:lnTo>
                    <a:pt x="355" y="975"/>
                  </a:lnTo>
                  <a:lnTo>
                    <a:pt x="355" y="975"/>
                  </a:lnTo>
                  <a:lnTo>
                    <a:pt x="355" y="973"/>
                  </a:lnTo>
                  <a:lnTo>
                    <a:pt x="355" y="971"/>
                  </a:lnTo>
                  <a:lnTo>
                    <a:pt x="355" y="971"/>
                  </a:lnTo>
                  <a:lnTo>
                    <a:pt x="355" y="969"/>
                  </a:lnTo>
                  <a:lnTo>
                    <a:pt x="347" y="971"/>
                  </a:lnTo>
                  <a:lnTo>
                    <a:pt x="322" y="973"/>
                  </a:lnTo>
                  <a:lnTo>
                    <a:pt x="297" y="975"/>
                  </a:lnTo>
                  <a:lnTo>
                    <a:pt x="272" y="977"/>
                  </a:lnTo>
                  <a:lnTo>
                    <a:pt x="247" y="975"/>
                  </a:lnTo>
                  <a:lnTo>
                    <a:pt x="224" y="973"/>
                  </a:lnTo>
                  <a:lnTo>
                    <a:pt x="199" y="971"/>
                  </a:lnTo>
                  <a:lnTo>
                    <a:pt x="176" y="966"/>
                  </a:lnTo>
                  <a:lnTo>
                    <a:pt x="151" y="962"/>
                  </a:lnTo>
                  <a:lnTo>
                    <a:pt x="130" y="954"/>
                  </a:lnTo>
                  <a:lnTo>
                    <a:pt x="107" y="946"/>
                  </a:lnTo>
                  <a:lnTo>
                    <a:pt x="84" y="939"/>
                  </a:lnTo>
                  <a:lnTo>
                    <a:pt x="63" y="929"/>
                  </a:lnTo>
                  <a:lnTo>
                    <a:pt x="42" y="918"/>
                  </a:lnTo>
                  <a:lnTo>
                    <a:pt x="23" y="906"/>
                  </a:lnTo>
                  <a:lnTo>
                    <a:pt x="4" y="895"/>
                  </a:lnTo>
                  <a:lnTo>
                    <a:pt x="0" y="891"/>
                  </a:lnTo>
                  <a:lnTo>
                    <a:pt x="0" y="893"/>
                  </a:lnTo>
                  <a:lnTo>
                    <a:pt x="0" y="895"/>
                  </a:lnTo>
                  <a:lnTo>
                    <a:pt x="0" y="896"/>
                  </a:lnTo>
                  <a:lnTo>
                    <a:pt x="0" y="898"/>
                  </a:lnTo>
                  <a:lnTo>
                    <a:pt x="0" y="898"/>
                  </a:lnTo>
                  <a:lnTo>
                    <a:pt x="0" y="900"/>
                  </a:lnTo>
                  <a:lnTo>
                    <a:pt x="0" y="902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a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Freeform 170"/>
            <p:cNvSpPr/>
            <p:nvPr/>
          </p:nvSpPr>
          <p:spPr>
            <a:xfrm>
              <a:off x="1952640" y="2384280"/>
              <a:ext cx="566640" cy="1547640"/>
            </a:xfrm>
            <a:custGeom>
              <a:avLst/>
              <a:gdLst>
                <a:gd name="textAreaLeft" fmla="*/ 0 w 566640"/>
                <a:gd name="textAreaRight" fmla="*/ 567000 w 566640"/>
                <a:gd name="textAreaTop" fmla="*/ 0 h 1547640"/>
                <a:gd name="textAreaBottom" fmla="*/ 1548000 h 1547640"/>
              </a:gdLst>
              <a:ahLst/>
              <a:rect l="textAreaLeft" t="textAreaTop" r="textAreaRight" b="textAreaBottom"/>
              <a:pathLst>
                <a:path w="357" h="975">
                  <a:moveTo>
                    <a:pt x="355" y="8"/>
                  </a:moveTo>
                  <a:lnTo>
                    <a:pt x="349" y="6"/>
                  </a:lnTo>
                  <a:lnTo>
                    <a:pt x="324" y="2"/>
                  </a:lnTo>
                  <a:lnTo>
                    <a:pt x="299" y="0"/>
                  </a:lnTo>
                  <a:lnTo>
                    <a:pt x="274" y="0"/>
                  </a:lnTo>
                  <a:lnTo>
                    <a:pt x="249" y="0"/>
                  </a:lnTo>
                  <a:lnTo>
                    <a:pt x="225" y="2"/>
                  </a:lnTo>
                  <a:lnTo>
                    <a:pt x="201" y="6"/>
                  </a:lnTo>
                  <a:lnTo>
                    <a:pt x="177" y="10"/>
                  </a:lnTo>
                  <a:lnTo>
                    <a:pt x="153" y="16"/>
                  </a:lnTo>
                  <a:lnTo>
                    <a:pt x="130" y="21"/>
                  </a:lnTo>
                  <a:lnTo>
                    <a:pt x="107" y="29"/>
                  </a:lnTo>
                  <a:lnTo>
                    <a:pt x="96" y="35"/>
                  </a:lnTo>
                  <a:lnTo>
                    <a:pt x="94" y="37"/>
                  </a:lnTo>
                  <a:lnTo>
                    <a:pt x="94" y="39"/>
                  </a:lnTo>
                  <a:lnTo>
                    <a:pt x="94" y="39"/>
                  </a:lnTo>
                  <a:lnTo>
                    <a:pt x="94" y="40"/>
                  </a:lnTo>
                  <a:lnTo>
                    <a:pt x="92" y="42"/>
                  </a:lnTo>
                  <a:lnTo>
                    <a:pt x="92" y="44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111" y="39"/>
                  </a:lnTo>
                  <a:lnTo>
                    <a:pt x="132" y="33"/>
                  </a:lnTo>
                  <a:lnTo>
                    <a:pt x="155" y="25"/>
                  </a:lnTo>
                  <a:lnTo>
                    <a:pt x="178" y="19"/>
                  </a:lnTo>
                  <a:lnTo>
                    <a:pt x="201" y="16"/>
                  </a:lnTo>
                  <a:lnTo>
                    <a:pt x="226" y="14"/>
                  </a:lnTo>
                  <a:lnTo>
                    <a:pt x="251" y="12"/>
                  </a:lnTo>
                  <a:lnTo>
                    <a:pt x="274" y="10"/>
                  </a:lnTo>
                  <a:lnTo>
                    <a:pt x="299" y="12"/>
                  </a:lnTo>
                  <a:lnTo>
                    <a:pt x="324" y="14"/>
                  </a:lnTo>
                  <a:lnTo>
                    <a:pt x="347" y="16"/>
                  </a:lnTo>
                  <a:lnTo>
                    <a:pt x="353" y="17"/>
                  </a:lnTo>
                  <a:lnTo>
                    <a:pt x="353" y="16"/>
                  </a:lnTo>
                  <a:lnTo>
                    <a:pt x="355" y="14"/>
                  </a:lnTo>
                  <a:lnTo>
                    <a:pt x="355" y="14"/>
                  </a:lnTo>
                  <a:lnTo>
                    <a:pt x="355" y="12"/>
                  </a:lnTo>
                  <a:lnTo>
                    <a:pt x="355" y="12"/>
                  </a:lnTo>
                  <a:lnTo>
                    <a:pt x="355" y="10"/>
                  </a:lnTo>
                  <a:lnTo>
                    <a:pt x="355" y="8"/>
                  </a:lnTo>
                  <a:lnTo>
                    <a:pt x="355" y="8"/>
                  </a:lnTo>
                  <a:close/>
                  <a:moveTo>
                    <a:pt x="2" y="892"/>
                  </a:moveTo>
                  <a:lnTo>
                    <a:pt x="2" y="892"/>
                  </a:lnTo>
                  <a:lnTo>
                    <a:pt x="23" y="904"/>
                  </a:lnTo>
                  <a:lnTo>
                    <a:pt x="42" y="917"/>
                  </a:lnTo>
                  <a:lnTo>
                    <a:pt x="63" y="927"/>
                  </a:lnTo>
                  <a:lnTo>
                    <a:pt x="84" y="936"/>
                  </a:lnTo>
                  <a:lnTo>
                    <a:pt x="107" y="946"/>
                  </a:lnTo>
                  <a:lnTo>
                    <a:pt x="130" y="954"/>
                  </a:lnTo>
                  <a:lnTo>
                    <a:pt x="153" y="960"/>
                  </a:lnTo>
                  <a:lnTo>
                    <a:pt x="177" y="965"/>
                  </a:lnTo>
                  <a:lnTo>
                    <a:pt x="201" y="969"/>
                  </a:lnTo>
                  <a:lnTo>
                    <a:pt x="225" y="973"/>
                  </a:lnTo>
                  <a:lnTo>
                    <a:pt x="249" y="975"/>
                  </a:lnTo>
                  <a:lnTo>
                    <a:pt x="274" y="975"/>
                  </a:lnTo>
                  <a:lnTo>
                    <a:pt x="299" y="975"/>
                  </a:lnTo>
                  <a:lnTo>
                    <a:pt x="324" y="973"/>
                  </a:lnTo>
                  <a:lnTo>
                    <a:pt x="349" y="969"/>
                  </a:lnTo>
                  <a:lnTo>
                    <a:pt x="357" y="969"/>
                  </a:lnTo>
                  <a:lnTo>
                    <a:pt x="357" y="967"/>
                  </a:lnTo>
                  <a:lnTo>
                    <a:pt x="357" y="965"/>
                  </a:lnTo>
                  <a:lnTo>
                    <a:pt x="357" y="965"/>
                  </a:lnTo>
                  <a:lnTo>
                    <a:pt x="357" y="963"/>
                  </a:lnTo>
                  <a:lnTo>
                    <a:pt x="357" y="961"/>
                  </a:lnTo>
                  <a:lnTo>
                    <a:pt x="355" y="961"/>
                  </a:lnTo>
                  <a:lnTo>
                    <a:pt x="355" y="960"/>
                  </a:lnTo>
                  <a:lnTo>
                    <a:pt x="355" y="958"/>
                  </a:lnTo>
                  <a:lnTo>
                    <a:pt x="347" y="960"/>
                  </a:lnTo>
                  <a:lnTo>
                    <a:pt x="324" y="963"/>
                  </a:lnTo>
                  <a:lnTo>
                    <a:pt x="299" y="965"/>
                  </a:lnTo>
                  <a:lnTo>
                    <a:pt x="274" y="965"/>
                  </a:lnTo>
                  <a:lnTo>
                    <a:pt x="251" y="965"/>
                  </a:lnTo>
                  <a:lnTo>
                    <a:pt x="226" y="963"/>
                  </a:lnTo>
                  <a:lnTo>
                    <a:pt x="201" y="960"/>
                  </a:lnTo>
                  <a:lnTo>
                    <a:pt x="178" y="956"/>
                  </a:lnTo>
                  <a:lnTo>
                    <a:pt x="155" y="950"/>
                  </a:lnTo>
                  <a:lnTo>
                    <a:pt x="132" y="944"/>
                  </a:lnTo>
                  <a:lnTo>
                    <a:pt x="111" y="936"/>
                  </a:lnTo>
                  <a:lnTo>
                    <a:pt x="90" y="927"/>
                  </a:lnTo>
                  <a:lnTo>
                    <a:pt x="67" y="917"/>
                  </a:lnTo>
                  <a:lnTo>
                    <a:pt x="48" y="908"/>
                  </a:lnTo>
                  <a:lnTo>
                    <a:pt x="27" y="896"/>
                  </a:lnTo>
                  <a:lnTo>
                    <a:pt x="8" y="883"/>
                  </a:lnTo>
                  <a:lnTo>
                    <a:pt x="0" y="879"/>
                  </a:lnTo>
                  <a:lnTo>
                    <a:pt x="0" y="879"/>
                  </a:lnTo>
                  <a:lnTo>
                    <a:pt x="0" y="881"/>
                  </a:lnTo>
                  <a:lnTo>
                    <a:pt x="0" y="883"/>
                  </a:lnTo>
                  <a:lnTo>
                    <a:pt x="2" y="885"/>
                  </a:lnTo>
                  <a:lnTo>
                    <a:pt x="2" y="887"/>
                  </a:lnTo>
                  <a:lnTo>
                    <a:pt x="2" y="889"/>
                  </a:lnTo>
                  <a:lnTo>
                    <a:pt x="2" y="890"/>
                  </a:lnTo>
                  <a:lnTo>
                    <a:pt x="2" y="892"/>
                  </a:lnTo>
                  <a:close/>
                </a:path>
              </a:pathLst>
            </a:custGeom>
            <a:solidFill>
              <a:srgbClr val="a1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171"/>
            <p:cNvSpPr/>
            <p:nvPr/>
          </p:nvSpPr>
          <p:spPr>
            <a:xfrm>
              <a:off x="1952640" y="2393640"/>
              <a:ext cx="566640" cy="1532160"/>
            </a:xfrm>
            <a:custGeom>
              <a:avLst/>
              <a:gdLst>
                <a:gd name="textAreaLeft" fmla="*/ 0 w 566640"/>
                <a:gd name="textAreaRight" fmla="*/ 567000 w 566640"/>
                <a:gd name="textAreaTop" fmla="*/ 0 h 1532160"/>
                <a:gd name="textAreaBottom" fmla="*/ 1532520 h 1532160"/>
              </a:gdLst>
              <a:ahLst/>
              <a:rect l="textAreaLeft" t="textAreaTop" r="textAreaRight" b="textAreaBottom"/>
              <a:pathLst>
                <a:path w="357" h="965">
                  <a:moveTo>
                    <a:pt x="355" y="6"/>
                  </a:moveTo>
                  <a:lnTo>
                    <a:pt x="349" y="6"/>
                  </a:lnTo>
                  <a:lnTo>
                    <a:pt x="324" y="2"/>
                  </a:lnTo>
                  <a:lnTo>
                    <a:pt x="299" y="0"/>
                  </a:lnTo>
                  <a:lnTo>
                    <a:pt x="274" y="0"/>
                  </a:lnTo>
                  <a:lnTo>
                    <a:pt x="249" y="0"/>
                  </a:lnTo>
                  <a:lnTo>
                    <a:pt x="226" y="2"/>
                  </a:lnTo>
                  <a:lnTo>
                    <a:pt x="201" y="6"/>
                  </a:lnTo>
                  <a:lnTo>
                    <a:pt x="178" y="10"/>
                  </a:lnTo>
                  <a:lnTo>
                    <a:pt x="153" y="15"/>
                  </a:lnTo>
                  <a:lnTo>
                    <a:pt x="132" y="21"/>
                  </a:lnTo>
                  <a:lnTo>
                    <a:pt x="109" y="29"/>
                  </a:lnTo>
                  <a:lnTo>
                    <a:pt x="94" y="34"/>
                  </a:lnTo>
                  <a:lnTo>
                    <a:pt x="92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0" y="42"/>
                  </a:lnTo>
                  <a:lnTo>
                    <a:pt x="90" y="44"/>
                  </a:lnTo>
                  <a:lnTo>
                    <a:pt x="90" y="46"/>
                  </a:lnTo>
                  <a:lnTo>
                    <a:pt x="90" y="48"/>
                  </a:lnTo>
                  <a:lnTo>
                    <a:pt x="92" y="46"/>
                  </a:lnTo>
                  <a:lnTo>
                    <a:pt x="113" y="38"/>
                  </a:lnTo>
                  <a:lnTo>
                    <a:pt x="134" y="31"/>
                  </a:lnTo>
                  <a:lnTo>
                    <a:pt x="157" y="25"/>
                  </a:lnTo>
                  <a:lnTo>
                    <a:pt x="180" y="19"/>
                  </a:lnTo>
                  <a:lnTo>
                    <a:pt x="203" y="15"/>
                  </a:lnTo>
                  <a:lnTo>
                    <a:pt x="226" y="11"/>
                  </a:lnTo>
                  <a:lnTo>
                    <a:pt x="251" y="10"/>
                  </a:lnTo>
                  <a:lnTo>
                    <a:pt x="274" y="10"/>
                  </a:lnTo>
                  <a:lnTo>
                    <a:pt x="299" y="10"/>
                  </a:lnTo>
                  <a:lnTo>
                    <a:pt x="322" y="11"/>
                  </a:lnTo>
                  <a:lnTo>
                    <a:pt x="347" y="15"/>
                  </a:lnTo>
                  <a:lnTo>
                    <a:pt x="353" y="15"/>
                  </a:lnTo>
                  <a:lnTo>
                    <a:pt x="353" y="15"/>
                  </a:lnTo>
                  <a:lnTo>
                    <a:pt x="353" y="13"/>
                  </a:lnTo>
                  <a:lnTo>
                    <a:pt x="353" y="11"/>
                  </a:lnTo>
                  <a:lnTo>
                    <a:pt x="353" y="11"/>
                  </a:lnTo>
                  <a:lnTo>
                    <a:pt x="353" y="10"/>
                  </a:lnTo>
                  <a:lnTo>
                    <a:pt x="355" y="8"/>
                  </a:lnTo>
                  <a:lnTo>
                    <a:pt x="355" y="8"/>
                  </a:lnTo>
                  <a:lnTo>
                    <a:pt x="355" y="6"/>
                  </a:lnTo>
                  <a:close/>
                  <a:moveTo>
                    <a:pt x="2" y="879"/>
                  </a:moveTo>
                  <a:lnTo>
                    <a:pt x="6" y="883"/>
                  </a:lnTo>
                  <a:lnTo>
                    <a:pt x="25" y="894"/>
                  </a:lnTo>
                  <a:lnTo>
                    <a:pt x="44" y="906"/>
                  </a:lnTo>
                  <a:lnTo>
                    <a:pt x="65" y="917"/>
                  </a:lnTo>
                  <a:lnTo>
                    <a:pt x="86" y="927"/>
                  </a:lnTo>
                  <a:lnTo>
                    <a:pt x="109" y="934"/>
                  </a:lnTo>
                  <a:lnTo>
                    <a:pt x="132" y="942"/>
                  </a:lnTo>
                  <a:lnTo>
                    <a:pt x="153" y="950"/>
                  </a:lnTo>
                  <a:lnTo>
                    <a:pt x="178" y="954"/>
                  </a:lnTo>
                  <a:lnTo>
                    <a:pt x="201" y="959"/>
                  </a:lnTo>
                  <a:lnTo>
                    <a:pt x="226" y="961"/>
                  </a:lnTo>
                  <a:lnTo>
                    <a:pt x="249" y="963"/>
                  </a:lnTo>
                  <a:lnTo>
                    <a:pt x="274" y="965"/>
                  </a:lnTo>
                  <a:lnTo>
                    <a:pt x="299" y="963"/>
                  </a:lnTo>
                  <a:lnTo>
                    <a:pt x="324" y="961"/>
                  </a:lnTo>
                  <a:lnTo>
                    <a:pt x="349" y="959"/>
                  </a:lnTo>
                  <a:lnTo>
                    <a:pt x="357" y="957"/>
                  </a:lnTo>
                  <a:lnTo>
                    <a:pt x="357" y="955"/>
                  </a:lnTo>
                  <a:lnTo>
                    <a:pt x="355" y="955"/>
                  </a:lnTo>
                  <a:lnTo>
                    <a:pt x="355" y="954"/>
                  </a:lnTo>
                  <a:lnTo>
                    <a:pt x="355" y="952"/>
                  </a:lnTo>
                  <a:lnTo>
                    <a:pt x="355" y="952"/>
                  </a:lnTo>
                  <a:lnTo>
                    <a:pt x="355" y="950"/>
                  </a:lnTo>
                  <a:lnTo>
                    <a:pt x="355" y="948"/>
                  </a:lnTo>
                  <a:lnTo>
                    <a:pt x="355" y="948"/>
                  </a:lnTo>
                  <a:lnTo>
                    <a:pt x="347" y="948"/>
                  </a:lnTo>
                  <a:lnTo>
                    <a:pt x="322" y="952"/>
                  </a:lnTo>
                  <a:lnTo>
                    <a:pt x="299" y="954"/>
                  </a:lnTo>
                  <a:lnTo>
                    <a:pt x="274" y="954"/>
                  </a:lnTo>
                  <a:lnTo>
                    <a:pt x="251" y="954"/>
                  </a:lnTo>
                  <a:lnTo>
                    <a:pt x="226" y="952"/>
                  </a:lnTo>
                  <a:lnTo>
                    <a:pt x="203" y="948"/>
                  </a:lnTo>
                  <a:lnTo>
                    <a:pt x="180" y="944"/>
                  </a:lnTo>
                  <a:lnTo>
                    <a:pt x="157" y="938"/>
                  </a:lnTo>
                  <a:lnTo>
                    <a:pt x="134" y="932"/>
                  </a:lnTo>
                  <a:lnTo>
                    <a:pt x="113" y="925"/>
                  </a:lnTo>
                  <a:lnTo>
                    <a:pt x="92" y="917"/>
                  </a:lnTo>
                  <a:lnTo>
                    <a:pt x="71" y="907"/>
                  </a:lnTo>
                  <a:lnTo>
                    <a:pt x="50" y="898"/>
                  </a:lnTo>
                  <a:lnTo>
                    <a:pt x="31" y="886"/>
                  </a:lnTo>
                  <a:lnTo>
                    <a:pt x="11" y="873"/>
                  </a:lnTo>
                  <a:lnTo>
                    <a:pt x="0" y="865"/>
                  </a:lnTo>
                  <a:lnTo>
                    <a:pt x="0" y="867"/>
                  </a:lnTo>
                  <a:lnTo>
                    <a:pt x="0" y="869"/>
                  </a:lnTo>
                  <a:lnTo>
                    <a:pt x="0" y="871"/>
                  </a:lnTo>
                  <a:lnTo>
                    <a:pt x="0" y="873"/>
                  </a:lnTo>
                  <a:lnTo>
                    <a:pt x="0" y="873"/>
                  </a:lnTo>
                  <a:lnTo>
                    <a:pt x="0" y="875"/>
                  </a:lnTo>
                  <a:lnTo>
                    <a:pt x="0" y="877"/>
                  </a:lnTo>
                  <a:lnTo>
                    <a:pt x="2" y="879"/>
                  </a:lnTo>
                  <a:close/>
                </a:path>
              </a:pathLst>
            </a:custGeom>
            <a:solidFill>
              <a:srgbClr val="a2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172"/>
            <p:cNvSpPr/>
            <p:nvPr/>
          </p:nvSpPr>
          <p:spPr>
            <a:xfrm>
              <a:off x="1949400" y="2400120"/>
              <a:ext cx="566640" cy="1515960"/>
            </a:xfrm>
            <a:custGeom>
              <a:avLst/>
              <a:gdLst>
                <a:gd name="textAreaLeft" fmla="*/ 0 w 566640"/>
                <a:gd name="textAreaRight" fmla="*/ 567000 w 566640"/>
                <a:gd name="textAreaTop" fmla="*/ 0 h 1515960"/>
                <a:gd name="textAreaBottom" fmla="*/ 1516320 h 1515960"/>
              </a:gdLst>
              <a:ahLst/>
              <a:rect l="textAreaLeft" t="textAreaTop" r="textAreaRight" b="textAreaBottom"/>
              <a:pathLst>
                <a:path w="357" h="955">
                  <a:moveTo>
                    <a:pt x="355" y="7"/>
                  </a:moveTo>
                  <a:lnTo>
                    <a:pt x="349" y="6"/>
                  </a:lnTo>
                  <a:lnTo>
                    <a:pt x="326" y="4"/>
                  </a:lnTo>
                  <a:lnTo>
                    <a:pt x="301" y="2"/>
                  </a:lnTo>
                  <a:lnTo>
                    <a:pt x="276" y="0"/>
                  </a:lnTo>
                  <a:lnTo>
                    <a:pt x="253" y="2"/>
                  </a:lnTo>
                  <a:lnTo>
                    <a:pt x="228" y="4"/>
                  </a:lnTo>
                  <a:lnTo>
                    <a:pt x="203" y="6"/>
                  </a:lnTo>
                  <a:lnTo>
                    <a:pt x="180" y="9"/>
                  </a:lnTo>
                  <a:lnTo>
                    <a:pt x="157" y="15"/>
                  </a:lnTo>
                  <a:lnTo>
                    <a:pt x="134" y="23"/>
                  </a:lnTo>
                  <a:lnTo>
                    <a:pt x="113" y="29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2" y="42"/>
                  </a:lnTo>
                  <a:lnTo>
                    <a:pt x="92" y="44"/>
                  </a:lnTo>
                  <a:lnTo>
                    <a:pt x="90" y="46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90" y="50"/>
                  </a:lnTo>
                  <a:lnTo>
                    <a:pt x="96" y="48"/>
                  </a:lnTo>
                  <a:lnTo>
                    <a:pt x="117" y="38"/>
                  </a:lnTo>
                  <a:lnTo>
                    <a:pt x="138" y="32"/>
                  </a:lnTo>
                  <a:lnTo>
                    <a:pt x="161" y="25"/>
                  </a:lnTo>
                  <a:lnTo>
                    <a:pt x="182" y="21"/>
                  </a:lnTo>
                  <a:lnTo>
                    <a:pt x="205" y="17"/>
                  </a:lnTo>
                  <a:lnTo>
                    <a:pt x="228" y="13"/>
                  </a:lnTo>
                  <a:lnTo>
                    <a:pt x="253" y="11"/>
                  </a:lnTo>
                  <a:lnTo>
                    <a:pt x="276" y="11"/>
                  </a:lnTo>
                  <a:lnTo>
                    <a:pt x="301" y="11"/>
                  </a:lnTo>
                  <a:lnTo>
                    <a:pt x="324" y="13"/>
                  </a:lnTo>
                  <a:lnTo>
                    <a:pt x="347" y="17"/>
                  </a:lnTo>
                  <a:lnTo>
                    <a:pt x="353" y="17"/>
                  </a:lnTo>
                  <a:lnTo>
                    <a:pt x="353" y="15"/>
                  </a:lnTo>
                  <a:lnTo>
                    <a:pt x="353" y="15"/>
                  </a:lnTo>
                  <a:lnTo>
                    <a:pt x="353" y="13"/>
                  </a:lnTo>
                  <a:lnTo>
                    <a:pt x="355" y="11"/>
                  </a:lnTo>
                  <a:lnTo>
                    <a:pt x="355" y="11"/>
                  </a:lnTo>
                  <a:lnTo>
                    <a:pt x="355" y="9"/>
                  </a:lnTo>
                  <a:lnTo>
                    <a:pt x="355" y="7"/>
                  </a:lnTo>
                  <a:lnTo>
                    <a:pt x="355" y="7"/>
                  </a:lnTo>
                  <a:close/>
                  <a:moveTo>
                    <a:pt x="2" y="869"/>
                  </a:moveTo>
                  <a:lnTo>
                    <a:pt x="10" y="873"/>
                  </a:lnTo>
                  <a:lnTo>
                    <a:pt x="29" y="886"/>
                  </a:lnTo>
                  <a:lnTo>
                    <a:pt x="50" y="898"/>
                  </a:lnTo>
                  <a:lnTo>
                    <a:pt x="69" y="907"/>
                  </a:lnTo>
                  <a:lnTo>
                    <a:pt x="92" y="917"/>
                  </a:lnTo>
                  <a:lnTo>
                    <a:pt x="113" y="926"/>
                  </a:lnTo>
                  <a:lnTo>
                    <a:pt x="134" y="934"/>
                  </a:lnTo>
                  <a:lnTo>
                    <a:pt x="157" y="940"/>
                  </a:lnTo>
                  <a:lnTo>
                    <a:pt x="180" y="946"/>
                  </a:lnTo>
                  <a:lnTo>
                    <a:pt x="203" y="950"/>
                  </a:lnTo>
                  <a:lnTo>
                    <a:pt x="228" y="953"/>
                  </a:lnTo>
                  <a:lnTo>
                    <a:pt x="253" y="955"/>
                  </a:lnTo>
                  <a:lnTo>
                    <a:pt x="276" y="955"/>
                  </a:lnTo>
                  <a:lnTo>
                    <a:pt x="301" y="955"/>
                  </a:lnTo>
                  <a:lnTo>
                    <a:pt x="326" y="953"/>
                  </a:lnTo>
                  <a:lnTo>
                    <a:pt x="349" y="950"/>
                  </a:lnTo>
                  <a:lnTo>
                    <a:pt x="357" y="948"/>
                  </a:lnTo>
                  <a:lnTo>
                    <a:pt x="357" y="948"/>
                  </a:lnTo>
                  <a:lnTo>
                    <a:pt x="357" y="946"/>
                  </a:lnTo>
                  <a:lnTo>
                    <a:pt x="357" y="944"/>
                  </a:lnTo>
                  <a:lnTo>
                    <a:pt x="357" y="944"/>
                  </a:lnTo>
                  <a:lnTo>
                    <a:pt x="355" y="942"/>
                  </a:lnTo>
                  <a:lnTo>
                    <a:pt x="355" y="940"/>
                  </a:lnTo>
                  <a:lnTo>
                    <a:pt x="355" y="940"/>
                  </a:lnTo>
                  <a:lnTo>
                    <a:pt x="355" y="938"/>
                  </a:lnTo>
                  <a:lnTo>
                    <a:pt x="347" y="940"/>
                  </a:lnTo>
                  <a:lnTo>
                    <a:pt x="324" y="942"/>
                  </a:lnTo>
                  <a:lnTo>
                    <a:pt x="301" y="944"/>
                  </a:lnTo>
                  <a:lnTo>
                    <a:pt x="276" y="946"/>
                  </a:lnTo>
                  <a:lnTo>
                    <a:pt x="253" y="944"/>
                  </a:lnTo>
                  <a:lnTo>
                    <a:pt x="228" y="942"/>
                  </a:lnTo>
                  <a:lnTo>
                    <a:pt x="205" y="940"/>
                  </a:lnTo>
                  <a:lnTo>
                    <a:pt x="182" y="936"/>
                  </a:lnTo>
                  <a:lnTo>
                    <a:pt x="161" y="930"/>
                  </a:lnTo>
                  <a:lnTo>
                    <a:pt x="138" y="925"/>
                  </a:lnTo>
                  <a:lnTo>
                    <a:pt x="117" y="917"/>
                  </a:lnTo>
                  <a:lnTo>
                    <a:pt x="96" y="907"/>
                  </a:lnTo>
                  <a:lnTo>
                    <a:pt x="75" y="900"/>
                  </a:lnTo>
                  <a:lnTo>
                    <a:pt x="54" y="888"/>
                  </a:lnTo>
                  <a:lnTo>
                    <a:pt x="35" y="877"/>
                  </a:lnTo>
                  <a:lnTo>
                    <a:pt x="15" y="865"/>
                  </a:lnTo>
                  <a:lnTo>
                    <a:pt x="0" y="854"/>
                  </a:lnTo>
                  <a:lnTo>
                    <a:pt x="2" y="855"/>
                  </a:lnTo>
                  <a:lnTo>
                    <a:pt x="2" y="857"/>
                  </a:lnTo>
                  <a:lnTo>
                    <a:pt x="2" y="859"/>
                  </a:lnTo>
                  <a:lnTo>
                    <a:pt x="2" y="861"/>
                  </a:lnTo>
                  <a:lnTo>
                    <a:pt x="2" y="863"/>
                  </a:lnTo>
                  <a:lnTo>
                    <a:pt x="2" y="865"/>
                  </a:lnTo>
                  <a:lnTo>
                    <a:pt x="2" y="867"/>
                  </a:lnTo>
                  <a:lnTo>
                    <a:pt x="2" y="869"/>
                  </a:lnTo>
                  <a:close/>
                </a:path>
              </a:pathLst>
            </a:custGeom>
            <a:solidFill>
              <a:srgbClr val="a3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Freeform 173"/>
            <p:cNvSpPr/>
            <p:nvPr/>
          </p:nvSpPr>
          <p:spPr>
            <a:xfrm>
              <a:off x="1949400" y="2409480"/>
              <a:ext cx="566640" cy="1498680"/>
            </a:xfrm>
            <a:custGeom>
              <a:avLst/>
              <a:gdLst>
                <a:gd name="textAreaLeft" fmla="*/ 0 w 566640"/>
                <a:gd name="textAreaRight" fmla="*/ 567000 w 56664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w="357" h="944">
                  <a:moveTo>
                    <a:pt x="355" y="5"/>
                  </a:moveTo>
                  <a:lnTo>
                    <a:pt x="349" y="5"/>
                  </a:lnTo>
                  <a:lnTo>
                    <a:pt x="324" y="1"/>
                  </a:lnTo>
                  <a:lnTo>
                    <a:pt x="301" y="0"/>
                  </a:lnTo>
                  <a:lnTo>
                    <a:pt x="276" y="0"/>
                  </a:lnTo>
                  <a:lnTo>
                    <a:pt x="253" y="0"/>
                  </a:lnTo>
                  <a:lnTo>
                    <a:pt x="228" y="1"/>
                  </a:lnTo>
                  <a:lnTo>
                    <a:pt x="205" y="5"/>
                  </a:lnTo>
                  <a:lnTo>
                    <a:pt x="182" y="9"/>
                  </a:lnTo>
                  <a:lnTo>
                    <a:pt x="159" y="15"/>
                  </a:lnTo>
                  <a:lnTo>
                    <a:pt x="136" y="21"/>
                  </a:lnTo>
                  <a:lnTo>
                    <a:pt x="115" y="28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90" y="40"/>
                  </a:lnTo>
                  <a:lnTo>
                    <a:pt x="90" y="40"/>
                  </a:lnTo>
                  <a:lnTo>
                    <a:pt x="90" y="42"/>
                  </a:lnTo>
                  <a:lnTo>
                    <a:pt x="90" y="44"/>
                  </a:lnTo>
                  <a:lnTo>
                    <a:pt x="88" y="46"/>
                  </a:lnTo>
                  <a:lnTo>
                    <a:pt x="88" y="47"/>
                  </a:lnTo>
                  <a:lnTo>
                    <a:pt x="88" y="49"/>
                  </a:lnTo>
                  <a:lnTo>
                    <a:pt x="88" y="51"/>
                  </a:lnTo>
                  <a:lnTo>
                    <a:pt x="98" y="46"/>
                  </a:lnTo>
                  <a:lnTo>
                    <a:pt x="119" y="38"/>
                  </a:lnTo>
                  <a:lnTo>
                    <a:pt x="140" y="30"/>
                  </a:lnTo>
                  <a:lnTo>
                    <a:pt x="161" y="24"/>
                  </a:lnTo>
                  <a:lnTo>
                    <a:pt x="184" y="19"/>
                  </a:lnTo>
                  <a:lnTo>
                    <a:pt x="207" y="15"/>
                  </a:lnTo>
                  <a:lnTo>
                    <a:pt x="230" y="13"/>
                  </a:lnTo>
                  <a:lnTo>
                    <a:pt x="253" y="11"/>
                  </a:lnTo>
                  <a:lnTo>
                    <a:pt x="276" y="9"/>
                  </a:lnTo>
                  <a:lnTo>
                    <a:pt x="301" y="11"/>
                  </a:lnTo>
                  <a:lnTo>
                    <a:pt x="324" y="13"/>
                  </a:lnTo>
                  <a:lnTo>
                    <a:pt x="347" y="15"/>
                  </a:lnTo>
                  <a:lnTo>
                    <a:pt x="351" y="17"/>
                  </a:lnTo>
                  <a:lnTo>
                    <a:pt x="353" y="15"/>
                  </a:lnTo>
                  <a:lnTo>
                    <a:pt x="353" y="13"/>
                  </a:lnTo>
                  <a:lnTo>
                    <a:pt x="353" y="13"/>
                  </a:lnTo>
                  <a:lnTo>
                    <a:pt x="353" y="11"/>
                  </a:lnTo>
                  <a:lnTo>
                    <a:pt x="353" y="9"/>
                  </a:lnTo>
                  <a:lnTo>
                    <a:pt x="353" y="9"/>
                  </a:lnTo>
                  <a:lnTo>
                    <a:pt x="353" y="7"/>
                  </a:lnTo>
                  <a:lnTo>
                    <a:pt x="355" y="5"/>
                  </a:lnTo>
                  <a:close/>
                  <a:moveTo>
                    <a:pt x="2" y="855"/>
                  </a:moveTo>
                  <a:lnTo>
                    <a:pt x="13" y="863"/>
                  </a:lnTo>
                  <a:lnTo>
                    <a:pt x="33" y="876"/>
                  </a:lnTo>
                  <a:lnTo>
                    <a:pt x="52" y="888"/>
                  </a:lnTo>
                  <a:lnTo>
                    <a:pt x="73" y="897"/>
                  </a:lnTo>
                  <a:lnTo>
                    <a:pt x="94" y="907"/>
                  </a:lnTo>
                  <a:lnTo>
                    <a:pt x="115" y="915"/>
                  </a:lnTo>
                  <a:lnTo>
                    <a:pt x="136" y="922"/>
                  </a:lnTo>
                  <a:lnTo>
                    <a:pt x="159" y="928"/>
                  </a:lnTo>
                  <a:lnTo>
                    <a:pt x="182" y="934"/>
                  </a:lnTo>
                  <a:lnTo>
                    <a:pt x="205" y="938"/>
                  </a:lnTo>
                  <a:lnTo>
                    <a:pt x="228" y="942"/>
                  </a:lnTo>
                  <a:lnTo>
                    <a:pt x="253" y="944"/>
                  </a:lnTo>
                  <a:lnTo>
                    <a:pt x="276" y="944"/>
                  </a:lnTo>
                  <a:lnTo>
                    <a:pt x="301" y="944"/>
                  </a:lnTo>
                  <a:lnTo>
                    <a:pt x="324" y="942"/>
                  </a:lnTo>
                  <a:lnTo>
                    <a:pt x="349" y="938"/>
                  </a:lnTo>
                  <a:lnTo>
                    <a:pt x="357" y="938"/>
                  </a:lnTo>
                  <a:lnTo>
                    <a:pt x="355" y="936"/>
                  </a:lnTo>
                  <a:lnTo>
                    <a:pt x="355" y="934"/>
                  </a:lnTo>
                  <a:lnTo>
                    <a:pt x="355" y="934"/>
                  </a:lnTo>
                  <a:lnTo>
                    <a:pt x="355" y="932"/>
                  </a:lnTo>
                  <a:lnTo>
                    <a:pt x="355" y="930"/>
                  </a:lnTo>
                  <a:lnTo>
                    <a:pt x="355" y="930"/>
                  </a:lnTo>
                  <a:lnTo>
                    <a:pt x="355" y="928"/>
                  </a:lnTo>
                  <a:lnTo>
                    <a:pt x="353" y="928"/>
                  </a:lnTo>
                  <a:lnTo>
                    <a:pt x="347" y="928"/>
                  </a:lnTo>
                  <a:lnTo>
                    <a:pt x="324" y="932"/>
                  </a:lnTo>
                  <a:lnTo>
                    <a:pt x="301" y="934"/>
                  </a:lnTo>
                  <a:lnTo>
                    <a:pt x="276" y="934"/>
                  </a:lnTo>
                  <a:lnTo>
                    <a:pt x="253" y="934"/>
                  </a:lnTo>
                  <a:lnTo>
                    <a:pt x="230" y="932"/>
                  </a:lnTo>
                  <a:lnTo>
                    <a:pt x="207" y="928"/>
                  </a:lnTo>
                  <a:lnTo>
                    <a:pt x="184" y="924"/>
                  </a:lnTo>
                  <a:lnTo>
                    <a:pt x="161" y="919"/>
                  </a:lnTo>
                  <a:lnTo>
                    <a:pt x="140" y="913"/>
                  </a:lnTo>
                  <a:lnTo>
                    <a:pt x="119" y="905"/>
                  </a:lnTo>
                  <a:lnTo>
                    <a:pt x="98" y="897"/>
                  </a:lnTo>
                  <a:lnTo>
                    <a:pt x="77" y="888"/>
                  </a:lnTo>
                  <a:lnTo>
                    <a:pt x="58" y="878"/>
                  </a:lnTo>
                  <a:lnTo>
                    <a:pt x="38" y="867"/>
                  </a:lnTo>
                  <a:lnTo>
                    <a:pt x="19" y="855"/>
                  </a:lnTo>
                  <a:lnTo>
                    <a:pt x="0" y="842"/>
                  </a:lnTo>
                  <a:lnTo>
                    <a:pt x="0" y="842"/>
                  </a:lnTo>
                  <a:lnTo>
                    <a:pt x="0" y="844"/>
                  </a:lnTo>
                  <a:lnTo>
                    <a:pt x="0" y="846"/>
                  </a:lnTo>
                  <a:lnTo>
                    <a:pt x="0" y="848"/>
                  </a:lnTo>
                  <a:lnTo>
                    <a:pt x="0" y="848"/>
                  </a:lnTo>
                  <a:lnTo>
                    <a:pt x="2" y="849"/>
                  </a:lnTo>
                  <a:lnTo>
                    <a:pt x="2" y="851"/>
                  </a:lnTo>
                  <a:lnTo>
                    <a:pt x="2" y="853"/>
                  </a:lnTo>
                  <a:lnTo>
                    <a:pt x="2" y="855"/>
                  </a:lnTo>
                  <a:close/>
                </a:path>
              </a:pathLst>
            </a:custGeom>
            <a:solidFill>
              <a:srgbClr val="a4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174"/>
            <p:cNvSpPr/>
            <p:nvPr/>
          </p:nvSpPr>
          <p:spPr>
            <a:xfrm>
              <a:off x="1949400" y="2417760"/>
              <a:ext cx="563760" cy="148428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w="355" h="935">
                  <a:moveTo>
                    <a:pt x="353" y="6"/>
                  </a:moveTo>
                  <a:lnTo>
                    <a:pt x="347" y="6"/>
                  </a:lnTo>
                  <a:lnTo>
                    <a:pt x="324" y="2"/>
                  </a:lnTo>
                  <a:lnTo>
                    <a:pt x="301" y="0"/>
                  </a:lnTo>
                  <a:lnTo>
                    <a:pt x="276" y="0"/>
                  </a:lnTo>
                  <a:lnTo>
                    <a:pt x="253" y="0"/>
                  </a:lnTo>
                  <a:lnTo>
                    <a:pt x="228" y="2"/>
                  </a:lnTo>
                  <a:lnTo>
                    <a:pt x="205" y="6"/>
                  </a:lnTo>
                  <a:lnTo>
                    <a:pt x="182" y="10"/>
                  </a:lnTo>
                  <a:lnTo>
                    <a:pt x="161" y="14"/>
                  </a:lnTo>
                  <a:lnTo>
                    <a:pt x="138" y="21"/>
                  </a:lnTo>
                  <a:lnTo>
                    <a:pt x="117" y="27"/>
                  </a:lnTo>
                  <a:lnTo>
                    <a:pt x="96" y="37"/>
                  </a:lnTo>
                  <a:lnTo>
                    <a:pt x="90" y="39"/>
                  </a:lnTo>
                  <a:lnTo>
                    <a:pt x="88" y="41"/>
                  </a:lnTo>
                  <a:lnTo>
                    <a:pt x="88" y="42"/>
                  </a:lnTo>
                  <a:lnTo>
                    <a:pt x="88" y="44"/>
                  </a:lnTo>
                  <a:lnTo>
                    <a:pt x="88" y="46"/>
                  </a:lnTo>
                  <a:lnTo>
                    <a:pt x="86" y="46"/>
                  </a:lnTo>
                  <a:lnTo>
                    <a:pt x="86" y="48"/>
                  </a:lnTo>
                  <a:lnTo>
                    <a:pt x="86" y="50"/>
                  </a:lnTo>
                  <a:lnTo>
                    <a:pt x="86" y="52"/>
                  </a:lnTo>
                  <a:lnTo>
                    <a:pt x="100" y="46"/>
                  </a:lnTo>
                  <a:lnTo>
                    <a:pt x="119" y="39"/>
                  </a:lnTo>
                  <a:lnTo>
                    <a:pt x="142" y="31"/>
                  </a:lnTo>
                  <a:lnTo>
                    <a:pt x="163" y="25"/>
                  </a:lnTo>
                  <a:lnTo>
                    <a:pt x="184" y="19"/>
                  </a:lnTo>
                  <a:lnTo>
                    <a:pt x="207" y="16"/>
                  </a:lnTo>
                  <a:lnTo>
                    <a:pt x="230" y="12"/>
                  </a:lnTo>
                  <a:lnTo>
                    <a:pt x="253" y="10"/>
                  </a:lnTo>
                  <a:lnTo>
                    <a:pt x="276" y="10"/>
                  </a:lnTo>
                  <a:lnTo>
                    <a:pt x="301" y="10"/>
                  </a:lnTo>
                  <a:lnTo>
                    <a:pt x="324" y="12"/>
                  </a:lnTo>
                  <a:lnTo>
                    <a:pt x="347" y="16"/>
                  </a:lnTo>
                  <a:lnTo>
                    <a:pt x="351" y="16"/>
                  </a:lnTo>
                  <a:lnTo>
                    <a:pt x="351" y="16"/>
                  </a:lnTo>
                  <a:lnTo>
                    <a:pt x="351" y="14"/>
                  </a:lnTo>
                  <a:lnTo>
                    <a:pt x="351" y="12"/>
                  </a:lnTo>
                  <a:lnTo>
                    <a:pt x="351" y="12"/>
                  </a:lnTo>
                  <a:lnTo>
                    <a:pt x="353" y="10"/>
                  </a:lnTo>
                  <a:lnTo>
                    <a:pt x="353" y="8"/>
                  </a:lnTo>
                  <a:lnTo>
                    <a:pt x="353" y="8"/>
                  </a:lnTo>
                  <a:lnTo>
                    <a:pt x="353" y="6"/>
                  </a:lnTo>
                  <a:close/>
                  <a:moveTo>
                    <a:pt x="0" y="843"/>
                  </a:moveTo>
                  <a:lnTo>
                    <a:pt x="15" y="854"/>
                  </a:lnTo>
                  <a:lnTo>
                    <a:pt x="35" y="866"/>
                  </a:lnTo>
                  <a:lnTo>
                    <a:pt x="54" y="877"/>
                  </a:lnTo>
                  <a:lnTo>
                    <a:pt x="75" y="889"/>
                  </a:lnTo>
                  <a:lnTo>
                    <a:pt x="96" y="896"/>
                  </a:lnTo>
                  <a:lnTo>
                    <a:pt x="117" y="906"/>
                  </a:lnTo>
                  <a:lnTo>
                    <a:pt x="138" y="914"/>
                  </a:lnTo>
                  <a:lnTo>
                    <a:pt x="161" y="919"/>
                  </a:lnTo>
                  <a:lnTo>
                    <a:pt x="182" y="925"/>
                  </a:lnTo>
                  <a:lnTo>
                    <a:pt x="205" y="929"/>
                  </a:lnTo>
                  <a:lnTo>
                    <a:pt x="228" y="931"/>
                  </a:lnTo>
                  <a:lnTo>
                    <a:pt x="253" y="933"/>
                  </a:lnTo>
                  <a:lnTo>
                    <a:pt x="276" y="935"/>
                  </a:lnTo>
                  <a:lnTo>
                    <a:pt x="301" y="933"/>
                  </a:lnTo>
                  <a:lnTo>
                    <a:pt x="324" y="931"/>
                  </a:lnTo>
                  <a:lnTo>
                    <a:pt x="347" y="929"/>
                  </a:lnTo>
                  <a:lnTo>
                    <a:pt x="355" y="927"/>
                  </a:lnTo>
                  <a:lnTo>
                    <a:pt x="355" y="925"/>
                  </a:lnTo>
                  <a:lnTo>
                    <a:pt x="355" y="925"/>
                  </a:lnTo>
                  <a:lnTo>
                    <a:pt x="355" y="923"/>
                  </a:lnTo>
                  <a:lnTo>
                    <a:pt x="353" y="923"/>
                  </a:lnTo>
                  <a:lnTo>
                    <a:pt x="353" y="921"/>
                  </a:lnTo>
                  <a:lnTo>
                    <a:pt x="353" y="919"/>
                  </a:lnTo>
                  <a:lnTo>
                    <a:pt x="353" y="919"/>
                  </a:lnTo>
                  <a:lnTo>
                    <a:pt x="353" y="917"/>
                  </a:lnTo>
                  <a:lnTo>
                    <a:pt x="347" y="917"/>
                  </a:lnTo>
                  <a:lnTo>
                    <a:pt x="324" y="921"/>
                  </a:lnTo>
                  <a:lnTo>
                    <a:pt x="301" y="923"/>
                  </a:lnTo>
                  <a:lnTo>
                    <a:pt x="276" y="923"/>
                  </a:lnTo>
                  <a:lnTo>
                    <a:pt x="253" y="923"/>
                  </a:lnTo>
                  <a:lnTo>
                    <a:pt x="230" y="921"/>
                  </a:lnTo>
                  <a:lnTo>
                    <a:pt x="207" y="917"/>
                  </a:lnTo>
                  <a:lnTo>
                    <a:pt x="184" y="914"/>
                  </a:lnTo>
                  <a:lnTo>
                    <a:pt x="163" y="910"/>
                  </a:lnTo>
                  <a:lnTo>
                    <a:pt x="142" y="904"/>
                  </a:lnTo>
                  <a:lnTo>
                    <a:pt x="119" y="896"/>
                  </a:lnTo>
                  <a:lnTo>
                    <a:pt x="100" y="889"/>
                  </a:lnTo>
                  <a:lnTo>
                    <a:pt x="79" y="879"/>
                  </a:lnTo>
                  <a:lnTo>
                    <a:pt x="60" y="868"/>
                  </a:lnTo>
                  <a:lnTo>
                    <a:pt x="40" y="858"/>
                  </a:lnTo>
                  <a:lnTo>
                    <a:pt x="21" y="846"/>
                  </a:lnTo>
                  <a:lnTo>
                    <a:pt x="4" y="833"/>
                  </a:lnTo>
                  <a:lnTo>
                    <a:pt x="0" y="829"/>
                  </a:lnTo>
                  <a:lnTo>
                    <a:pt x="0" y="831"/>
                  </a:lnTo>
                  <a:lnTo>
                    <a:pt x="0" y="833"/>
                  </a:lnTo>
                  <a:lnTo>
                    <a:pt x="0" y="835"/>
                  </a:lnTo>
                  <a:lnTo>
                    <a:pt x="0" y="837"/>
                  </a:lnTo>
                  <a:lnTo>
                    <a:pt x="0" y="839"/>
                  </a:lnTo>
                  <a:lnTo>
                    <a:pt x="0" y="841"/>
                  </a:lnTo>
                  <a:lnTo>
                    <a:pt x="0" y="843"/>
                  </a:lnTo>
                  <a:lnTo>
                    <a:pt x="0" y="843"/>
                  </a:lnTo>
                  <a:close/>
                </a:path>
              </a:pathLst>
            </a:custGeom>
            <a:solidFill>
              <a:srgbClr val="a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175"/>
            <p:cNvSpPr/>
            <p:nvPr/>
          </p:nvSpPr>
          <p:spPr>
            <a:xfrm>
              <a:off x="1946160" y="2423880"/>
              <a:ext cx="563760" cy="146844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1468440"/>
                <a:gd name="textAreaBottom" fmla="*/ 1468800 h 1468440"/>
              </a:gdLst>
              <a:ahLst/>
              <a:rect l="textAreaLeft" t="textAreaTop" r="textAreaRight" b="textAreaBottom"/>
              <a:pathLst>
                <a:path w="355" h="925">
                  <a:moveTo>
                    <a:pt x="353" y="8"/>
                  </a:moveTo>
                  <a:lnTo>
                    <a:pt x="349" y="6"/>
                  </a:lnTo>
                  <a:lnTo>
                    <a:pt x="326" y="4"/>
                  </a:lnTo>
                  <a:lnTo>
                    <a:pt x="303" y="2"/>
                  </a:lnTo>
                  <a:lnTo>
                    <a:pt x="278" y="0"/>
                  </a:lnTo>
                  <a:lnTo>
                    <a:pt x="255" y="2"/>
                  </a:lnTo>
                  <a:lnTo>
                    <a:pt x="232" y="4"/>
                  </a:lnTo>
                  <a:lnTo>
                    <a:pt x="209" y="6"/>
                  </a:lnTo>
                  <a:lnTo>
                    <a:pt x="186" y="10"/>
                  </a:lnTo>
                  <a:lnTo>
                    <a:pt x="163" y="15"/>
                  </a:lnTo>
                  <a:lnTo>
                    <a:pt x="142" y="21"/>
                  </a:lnTo>
                  <a:lnTo>
                    <a:pt x="121" y="29"/>
                  </a:lnTo>
                  <a:lnTo>
                    <a:pt x="100" y="37"/>
                  </a:lnTo>
                  <a:lnTo>
                    <a:pt x="90" y="42"/>
                  </a:lnTo>
                  <a:lnTo>
                    <a:pt x="88" y="42"/>
                  </a:lnTo>
                  <a:lnTo>
                    <a:pt x="88" y="44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6" y="50"/>
                  </a:lnTo>
                  <a:lnTo>
                    <a:pt x="86" y="52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104" y="46"/>
                  </a:lnTo>
                  <a:lnTo>
                    <a:pt x="123" y="38"/>
                  </a:lnTo>
                  <a:lnTo>
                    <a:pt x="144" y="31"/>
                  </a:lnTo>
                  <a:lnTo>
                    <a:pt x="167" y="25"/>
                  </a:lnTo>
                  <a:lnTo>
                    <a:pt x="188" y="21"/>
                  </a:lnTo>
                  <a:lnTo>
                    <a:pt x="209" y="15"/>
                  </a:lnTo>
                  <a:lnTo>
                    <a:pt x="232" y="14"/>
                  </a:lnTo>
                  <a:lnTo>
                    <a:pt x="255" y="12"/>
                  </a:lnTo>
                  <a:lnTo>
                    <a:pt x="278" y="12"/>
                  </a:lnTo>
                  <a:lnTo>
                    <a:pt x="301" y="12"/>
                  </a:lnTo>
                  <a:lnTo>
                    <a:pt x="324" y="14"/>
                  </a:lnTo>
                  <a:lnTo>
                    <a:pt x="348" y="15"/>
                  </a:lnTo>
                  <a:lnTo>
                    <a:pt x="351" y="17"/>
                  </a:lnTo>
                  <a:lnTo>
                    <a:pt x="351" y="15"/>
                  </a:lnTo>
                  <a:lnTo>
                    <a:pt x="353" y="15"/>
                  </a:lnTo>
                  <a:lnTo>
                    <a:pt x="353" y="14"/>
                  </a:lnTo>
                  <a:lnTo>
                    <a:pt x="353" y="12"/>
                  </a:lnTo>
                  <a:lnTo>
                    <a:pt x="353" y="12"/>
                  </a:lnTo>
                  <a:lnTo>
                    <a:pt x="353" y="10"/>
                  </a:lnTo>
                  <a:lnTo>
                    <a:pt x="353" y="8"/>
                  </a:lnTo>
                  <a:lnTo>
                    <a:pt x="353" y="8"/>
                  </a:lnTo>
                  <a:close/>
                  <a:moveTo>
                    <a:pt x="2" y="833"/>
                  </a:moveTo>
                  <a:lnTo>
                    <a:pt x="2" y="833"/>
                  </a:lnTo>
                  <a:lnTo>
                    <a:pt x="21" y="846"/>
                  </a:lnTo>
                  <a:lnTo>
                    <a:pt x="40" y="858"/>
                  </a:lnTo>
                  <a:lnTo>
                    <a:pt x="60" y="869"/>
                  </a:lnTo>
                  <a:lnTo>
                    <a:pt x="79" y="879"/>
                  </a:lnTo>
                  <a:lnTo>
                    <a:pt x="100" y="888"/>
                  </a:lnTo>
                  <a:lnTo>
                    <a:pt x="121" y="896"/>
                  </a:lnTo>
                  <a:lnTo>
                    <a:pt x="142" y="904"/>
                  </a:lnTo>
                  <a:lnTo>
                    <a:pt x="163" y="910"/>
                  </a:lnTo>
                  <a:lnTo>
                    <a:pt x="186" y="915"/>
                  </a:lnTo>
                  <a:lnTo>
                    <a:pt x="209" y="919"/>
                  </a:lnTo>
                  <a:lnTo>
                    <a:pt x="232" y="923"/>
                  </a:lnTo>
                  <a:lnTo>
                    <a:pt x="255" y="925"/>
                  </a:lnTo>
                  <a:lnTo>
                    <a:pt x="278" y="925"/>
                  </a:lnTo>
                  <a:lnTo>
                    <a:pt x="303" y="925"/>
                  </a:lnTo>
                  <a:lnTo>
                    <a:pt x="326" y="923"/>
                  </a:lnTo>
                  <a:lnTo>
                    <a:pt x="349" y="919"/>
                  </a:lnTo>
                  <a:lnTo>
                    <a:pt x="355" y="919"/>
                  </a:lnTo>
                  <a:lnTo>
                    <a:pt x="355" y="917"/>
                  </a:lnTo>
                  <a:lnTo>
                    <a:pt x="355" y="915"/>
                  </a:lnTo>
                  <a:lnTo>
                    <a:pt x="355" y="915"/>
                  </a:lnTo>
                  <a:lnTo>
                    <a:pt x="355" y="913"/>
                  </a:lnTo>
                  <a:lnTo>
                    <a:pt x="355" y="911"/>
                  </a:lnTo>
                  <a:lnTo>
                    <a:pt x="355" y="911"/>
                  </a:lnTo>
                  <a:lnTo>
                    <a:pt x="353" y="910"/>
                  </a:lnTo>
                  <a:lnTo>
                    <a:pt x="353" y="908"/>
                  </a:lnTo>
                  <a:lnTo>
                    <a:pt x="348" y="910"/>
                  </a:lnTo>
                  <a:lnTo>
                    <a:pt x="324" y="911"/>
                  </a:lnTo>
                  <a:lnTo>
                    <a:pt x="301" y="913"/>
                  </a:lnTo>
                  <a:lnTo>
                    <a:pt x="278" y="915"/>
                  </a:lnTo>
                  <a:lnTo>
                    <a:pt x="255" y="913"/>
                  </a:lnTo>
                  <a:lnTo>
                    <a:pt x="232" y="911"/>
                  </a:lnTo>
                  <a:lnTo>
                    <a:pt x="209" y="910"/>
                  </a:lnTo>
                  <a:lnTo>
                    <a:pt x="188" y="906"/>
                  </a:lnTo>
                  <a:lnTo>
                    <a:pt x="167" y="900"/>
                  </a:lnTo>
                  <a:lnTo>
                    <a:pt x="144" y="894"/>
                  </a:lnTo>
                  <a:lnTo>
                    <a:pt x="123" y="887"/>
                  </a:lnTo>
                  <a:lnTo>
                    <a:pt x="104" y="879"/>
                  </a:lnTo>
                  <a:lnTo>
                    <a:pt x="83" y="869"/>
                  </a:lnTo>
                  <a:lnTo>
                    <a:pt x="63" y="860"/>
                  </a:lnTo>
                  <a:lnTo>
                    <a:pt x="44" y="848"/>
                  </a:lnTo>
                  <a:lnTo>
                    <a:pt x="27" y="837"/>
                  </a:lnTo>
                  <a:lnTo>
                    <a:pt x="10" y="825"/>
                  </a:lnTo>
                  <a:lnTo>
                    <a:pt x="0" y="819"/>
                  </a:lnTo>
                  <a:lnTo>
                    <a:pt x="0" y="819"/>
                  </a:lnTo>
                  <a:lnTo>
                    <a:pt x="2" y="821"/>
                  </a:lnTo>
                  <a:lnTo>
                    <a:pt x="2" y="823"/>
                  </a:lnTo>
                  <a:lnTo>
                    <a:pt x="2" y="825"/>
                  </a:lnTo>
                  <a:lnTo>
                    <a:pt x="2" y="827"/>
                  </a:lnTo>
                  <a:lnTo>
                    <a:pt x="2" y="829"/>
                  </a:lnTo>
                  <a:lnTo>
                    <a:pt x="2" y="831"/>
                  </a:lnTo>
                  <a:lnTo>
                    <a:pt x="2" y="833"/>
                  </a:lnTo>
                  <a:close/>
                </a:path>
              </a:pathLst>
            </a:custGeom>
            <a:solidFill>
              <a:srgbClr val="a6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176"/>
            <p:cNvSpPr/>
            <p:nvPr/>
          </p:nvSpPr>
          <p:spPr>
            <a:xfrm>
              <a:off x="1946160" y="2433600"/>
              <a:ext cx="563760" cy="144936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355" h="913">
                  <a:moveTo>
                    <a:pt x="353" y="6"/>
                  </a:moveTo>
                  <a:lnTo>
                    <a:pt x="349" y="6"/>
                  </a:lnTo>
                  <a:lnTo>
                    <a:pt x="326" y="2"/>
                  </a:lnTo>
                  <a:lnTo>
                    <a:pt x="303" y="0"/>
                  </a:lnTo>
                  <a:lnTo>
                    <a:pt x="278" y="0"/>
                  </a:lnTo>
                  <a:lnTo>
                    <a:pt x="255" y="0"/>
                  </a:lnTo>
                  <a:lnTo>
                    <a:pt x="232" y="2"/>
                  </a:lnTo>
                  <a:lnTo>
                    <a:pt x="209" y="6"/>
                  </a:lnTo>
                  <a:lnTo>
                    <a:pt x="186" y="9"/>
                  </a:lnTo>
                  <a:lnTo>
                    <a:pt x="165" y="15"/>
                  </a:lnTo>
                  <a:lnTo>
                    <a:pt x="144" y="21"/>
                  </a:lnTo>
                  <a:lnTo>
                    <a:pt x="121" y="29"/>
                  </a:lnTo>
                  <a:lnTo>
                    <a:pt x="102" y="36"/>
                  </a:lnTo>
                  <a:lnTo>
                    <a:pt x="88" y="42"/>
                  </a:lnTo>
                  <a:lnTo>
                    <a:pt x="86" y="44"/>
                  </a:lnTo>
                  <a:lnTo>
                    <a:pt x="86" y="46"/>
                  </a:lnTo>
                  <a:lnTo>
                    <a:pt x="86" y="48"/>
                  </a:lnTo>
                  <a:lnTo>
                    <a:pt x="86" y="48"/>
                  </a:lnTo>
                  <a:lnTo>
                    <a:pt x="85" y="50"/>
                  </a:lnTo>
                  <a:lnTo>
                    <a:pt x="85" y="52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5" y="54"/>
                  </a:lnTo>
                  <a:lnTo>
                    <a:pt x="106" y="46"/>
                  </a:lnTo>
                  <a:lnTo>
                    <a:pt x="125" y="38"/>
                  </a:lnTo>
                  <a:lnTo>
                    <a:pt x="146" y="31"/>
                  </a:lnTo>
                  <a:lnTo>
                    <a:pt x="167" y="25"/>
                  </a:lnTo>
                  <a:lnTo>
                    <a:pt x="188" y="19"/>
                  </a:lnTo>
                  <a:lnTo>
                    <a:pt x="211" y="15"/>
                  </a:lnTo>
                  <a:lnTo>
                    <a:pt x="234" y="13"/>
                  </a:lnTo>
                  <a:lnTo>
                    <a:pt x="255" y="11"/>
                  </a:lnTo>
                  <a:lnTo>
                    <a:pt x="278" y="9"/>
                  </a:lnTo>
                  <a:lnTo>
                    <a:pt x="301" y="11"/>
                  </a:lnTo>
                  <a:lnTo>
                    <a:pt x="324" y="13"/>
                  </a:lnTo>
                  <a:lnTo>
                    <a:pt x="348" y="15"/>
                  </a:lnTo>
                  <a:lnTo>
                    <a:pt x="351" y="15"/>
                  </a:lnTo>
                  <a:lnTo>
                    <a:pt x="351" y="15"/>
                  </a:lnTo>
                  <a:lnTo>
                    <a:pt x="351" y="13"/>
                  </a:lnTo>
                  <a:lnTo>
                    <a:pt x="351" y="11"/>
                  </a:lnTo>
                  <a:lnTo>
                    <a:pt x="351" y="11"/>
                  </a:lnTo>
                  <a:lnTo>
                    <a:pt x="351" y="9"/>
                  </a:lnTo>
                  <a:lnTo>
                    <a:pt x="353" y="9"/>
                  </a:lnTo>
                  <a:lnTo>
                    <a:pt x="353" y="8"/>
                  </a:lnTo>
                  <a:lnTo>
                    <a:pt x="353" y="6"/>
                  </a:lnTo>
                  <a:close/>
                  <a:moveTo>
                    <a:pt x="2" y="819"/>
                  </a:moveTo>
                  <a:lnTo>
                    <a:pt x="6" y="823"/>
                  </a:lnTo>
                  <a:lnTo>
                    <a:pt x="23" y="836"/>
                  </a:lnTo>
                  <a:lnTo>
                    <a:pt x="42" y="848"/>
                  </a:lnTo>
                  <a:lnTo>
                    <a:pt x="62" y="858"/>
                  </a:lnTo>
                  <a:lnTo>
                    <a:pt x="81" y="869"/>
                  </a:lnTo>
                  <a:lnTo>
                    <a:pt x="102" y="879"/>
                  </a:lnTo>
                  <a:lnTo>
                    <a:pt x="121" y="886"/>
                  </a:lnTo>
                  <a:lnTo>
                    <a:pt x="144" y="894"/>
                  </a:lnTo>
                  <a:lnTo>
                    <a:pt x="165" y="900"/>
                  </a:lnTo>
                  <a:lnTo>
                    <a:pt x="186" y="904"/>
                  </a:lnTo>
                  <a:lnTo>
                    <a:pt x="209" y="907"/>
                  </a:lnTo>
                  <a:lnTo>
                    <a:pt x="232" y="911"/>
                  </a:lnTo>
                  <a:lnTo>
                    <a:pt x="255" y="913"/>
                  </a:lnTo>
                  <a:lnTo>
                    <a:pt x="278" y="913"/>
                  </a:lnTo>
                  <a:lnTo>
                    <a:pt x="303" y="913"/>
                  </a:lnTo>
                  <a:lnTo>
                    <a:pt x="326" y="911"/>
                  </a:lnTo>
                  <a:lnTo>
                    <a:pt x="349" y="907"/>
                  </a:lnTo>
                  <a:lnTo>
                    <a:pt x="355" y="907"/>
                  </a:lnTo>
                  <a:lnTo>
                    <a:pt x="355" y="905"/>
                  </a:lnTo>
                  <a:lnTo>
                    <a:pt x="355" y="905"/>
                  </a:lnTo>
                  <a:lnTo>
                    <a:pt x="353" y="904"/>
                  </a:lnTo>
                  <a:lnTo>
                    <a:pt x="353" y="902"/>
                  </a:lnTo>
                  <a:lnTo>
                    <a:pt x="353" y="902"/>
                  </a:lnTo>
                  <a:lnTo>
                    <a:pt x="353" y="900"/>
                  </a:lnTo>
                  <a:lnTo>
                    <a:pt x="353" y="898"/>
                  </a:lnTo>
                  <a:lnTo>
                    <a:pt x="353" y="898"/>
                  </a:lnTo>
                  <a:lnTo>
                    <a:pt x="348" y="898"/>
                  </a:lnTo>
                  <a:lnTo>
                    <a:pt x="324" y="902"/>
                  </a:lnTo>
                  <a:lnTo>
                    <a:pt x="301" y="904"/>
                  </a:lnTo>
                  <a:lnTo>
                    <a:pt x="278" y="904"/>
                  </a:lnTo>
                  <a:lnTo>
                    <a:pt x="255" y="904"/>
                  </a:lnTo>
                  <a:lnTo>
                    <a:pt x="234" y="902"/>
                  </a:lnTo>
                  <a:lnTo>
                    <a:pt x="211" y="898"/>
                  </a:lnTo>
                  <a:lnTo>
                    <a:pt x="188" y="894"/>
                  </a:lnTo>
                  <a:lnTo>
                    <a:pt x="167" y="890"/>
                  </a:lnTo>
                  <a:lnTo>
                    <a:pt x="146" y="882"/>
                  </a:lnTo>
                  <a:lnTo>
                    <a:pt x="125" y="877"/>
                  </a:lnTo>
                  <a:lnTo>
                    <a:pt x="106" y="869"/>
                  </a:lnTo>
                  <a:lnTo>
                    <a:pt x="85" y="859"/>
                  </a:lnTo>
                  <a:lnTo>
                    <a:pt x="65" y="850"/>
                  </a:lnTo>
                  <a:lnTo>
                    <a:pt x="48" y="838"/>
                  </a:lnTo>
                  <a:lnTo>
                    <a:pt x="29" y="827"/>
                  </a:lnTo>
                  <a:lnTo>
                    <a:pt x="12" y="815"/>
                  </a:lnTo>
                  <a:lnTo>
                    <a:pt x="0" y="806"/>
                  </a:lnTo>
                  <a:lnTo>
                    <a:pt x="0" y="808"/>
                  </a:lnTo>
                  <a:lnTo>
                    <a:pt x="0" y="810"/>
                  </a:lnTo>
                  <a:lnTo>
                    <a:pt x="0" y="811"/>
                  </a:lnTo>
                  <a:lnTo>
                    <a:pt x="0" y="813"/>
                  </a:lnTo>
                  <a:lnTo>
                    <a:pt x="0" y="813"/>
                  </a:lnTo>
                  <a:lnTo>
                    <a:pt x="2" y="815"/>
                  </a:lnTo>
                  <a:lnTo>
                    <a:pt x="2" y="817"/>
                  </a:lnTo>
                  <a:lnTo>
                    <a:pt x="2" y="819"/>
                  </a:lnTo>
                  <a:close/>
                </a:path>
              </a:pathLst>
            </a:custGeom>
            <a:solidFill>
              <a:srgbClr val="a7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Freeform 177"/>
            <p:cNvSpPr/>
            <p:nvPr/>
          </p:nvSpPr>
          <p:spPr>
            <a:xfrm>
              <a:off x="1946160" y="2442960"/>
              <a:ext cx="560520" cy="143352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353" h="903">
                  <a:moveTo>
                    <a:pt x="351" y="5"/>
                  </a:moveTo>
                  <a:lnTo>
                    <a:pt x="348" y="3"/>
                  </a:lnTo>
                  <a:lnTo>
                    <a:pt x="324" y="2"/>
                  </a:lnTo>
                  <a:lnTo>
                    <a:pt x="301" y="0"/>
                  </a:lnTo>
                  <a:lnTo>
                    <a:pt x="278" y="0"/>
                  </a:lnTo>
                  <a:lnTo>
                    <a:pt x="255" y="0"/>
                  </a:lnTo>
                  <a:lnTo>
                    <a:pt x="232" y="2"/>
                  </a:lnTo>
                  <a:lnTo>
                    <a:pt x="209" y="3"/>
                  </a:lnTo>
                  <a:lnTo>
                    <a:pt x="188" y="9"/>
                  </a:lnTo>
                  <a:lnTo>
                    <a:pt x="167" y="13"/>
                  </a:lnTo>
                  <a:lnTo>
                    <a:pt x="144" y="19"/>
                  </a:lnTo>
                  <a:lnTo>
                    <a:pt x="123" y="26"/>
                  </a:lnTo>
                  <a:lnTo>
                    <a:pt x="104" y="34"/>
                  </a:lnTo>
                  <a:lnTo>
                    <a:pt x="86" y="42"/>
                  </a:lnTo>
                  <a:lnTo>
                    <a:pt x="85" y="44"/>
                  </a:lnTo>
                  <a:lnTo>
                    <a:pt x="85" y="46"/>
                  </a:lnTo>
                  <a:lnTo>
                    <a:pt x="85" y="48"/>
                  </a:lnTo>
                  <a:lnTo>
                    <a:pt x="85" y="50"/>
                  </a:lnTo>
                  <a:lnTo>
                    <a:pt x="83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3" y="55"/>
                  </a:lnTo>
                  <a:lnTo>
                    <a:pt x="88" y="53"/>
                  </a:lnTo>
                  <a:lnTo>
                    <a:pt x="108" y="44"/>
                  </a:lnTo>
                  <a:lnTo>
                    <a:pt x="127" y="36"/>
                  </a:lnTo>
                  <a:lnTo>
                    <a:pt x="148" y="28"/>
                  </a:lnTo>
                  <a:lnTo>
                    <a:pt x="169" y="23"/>
                  </a:lnTo>
                  <a:lnTo>
                    <a:pt x="190" y="19"/>
                  </a:lnTo>
                  <a:lnTo>
                    <a:pt x="211" y="15"/>
                  </a:lnTo>
                  <a:lnTo>
                    <a:pt x="234" y="11"/>
                  </a:lnTo>
                  <a:lnTo>
                    <a:pt x="255" y="9"/>
                  </a:lnTo>
                  <a:lnTo>
                    <a:pt x="278" y="9"/>
                  </a:lnTo>
                  <a:lnTo>
                    <a:pt x="301" y="9"/>
                  </a:lnTo>
                  <a:lnTo>
                    <a:pt x="324" y="11"/>
                  </a:lnTo>
                  <a:lnTo>
                    <a:pt x="346" y="15"/>
                  </a:lnTo>
                  <a:lnTo>
                    <a:pt x="349" y="15"/>
                  </a:lnTo>
                  <a:lnTo>
                    <a:pt x="349" y="13"/>
                  </a:lnTo>
                  <a:lnTo>
                    <a:pt x="349" y="13"/>
                  </a:lnTo>
                  <a:lnTo>
                    <a:pt x="351" y="11"/>
                  </a:lnTo>
                  <a:lnTo>
                    <a:pt x="351" y="9"/>
                  </a:lnTo>
                  <a:lnTo>
                    <a:pt x="351" y="9"/>
                  </a:lnTo>
                  <a:lnTo>
                    <a:pt x="351" y="7"/>
                  </a:lnTo>
                  <a:lnTo>
                    <a:pt x="351" y="5"/>
                  </a:lnTo>
                  <a:lnTo>
                    <a:pt x="351" y="5"/>
                  </a:lnTo>
                  <a:close/>
                  <a:moveTo>
                    <a:pt x="0" y="807"/>
                  </a:moveTo>
                  <a:lnTo>
                    <a:pt x="10" y="813"/>
                  </a:lnTo>
                  <a:lnTo>
                    <a:pt x="27" y="825"/>
                  </a:lnTo>
                  <a:lnTo>
                    <a:pt x="44" y="836"/>
                  </a:lnTo>
                  <a:lnTo>
                    <a:pt x="63" y="848"/>
                  </a:lnTo>
                  <a:lnTo>
                    <a:pt x="83" y="857"/>
                  </a:lnTo>
                  <a:lnTo>
                    <a:pt x="104" y="867"/>
                  </a:lnTo>
                  <a:lnTo>
                    <a:pt x="123" y="875"/>
                  </a:lnTo>
                  <a:lnTo>
                    <a:pt x="144" y="882"/>
                  </a:lnTo>
                  <a:lnTo>
                    <a:pt x="167" y="888"/>
                  </a:lnTo>
                  <a:lnTo>
                    <a:pt x="188" y="894"/>
                  </a:lnTo>
                  <a:lnTo>
                    <a:pt x="209" y="898"/>
                  </a:lnTo>
                  <a:lnTo>
                    <a:pt x="232" y="899"/>
                  </a:lnTo>
                  <a:lnTo>
                    <a:pt x="255" y="901"/>
                  </a:lnTo>
                  <a:lnTo>
                    <a:pt x="278" y="903"/>
                  </a:lnTo>
                  <a:lnTo>
                    <a:pt x="301" y="901"/>
                  </a:lnTo>
                  <a:lnTo>
                    <a:pt x="324" y="899"/>
                  </a:lnTo>
                  <a:lnTo>
                    <a:pt x="348" y="898"/>
                  </a:lnTo>
                  <a:lnTo>
                    <a:pt x="353" y="896"/>
                  </a:lnTo>
                  <a:lnTo>
                    <a:pt x="353" y="896"/>
                  </a:lnTo>
                  <a:lnTo>
                    <a:pt x="353" y="894"/>
                  </a:lnTo>
                  <a:lnTo>
                    <a:pt x="353" y="892"/>
                  </a:lnTo>
                  <a:lnTo>
                    <a:pt x="353" y="892"/>
                  </a:lnTo>
                  <a:lnTo>
                    <a:pt x="353" y="890"/>
                  </a:lnTo>
                  <a:lnTo>
                    <a:pt x="351" y="888"/>
                  </a:lnTo>
                  <a:lnTo>
                    <a:pt x="351" y="888"/>
                  </a:lnTo>
                  <a:lnTo>
                    <a:pt x="351" y="886"/>
                  </a:lnTo>
                  <a:lnTo>
                    <a:pt x="346" y="888"/>
                  </a:lnTo>
                  <a:lnTo>
                    <a:pt x="324" y="890"/>
                  </a:lnTo>
                  <a:lnTo>
                    <a:pt x="301" y="892"/>
                  </a:lnTo>
                  <a:lnTo>
                    <a:pt x="278" y="892"/>
                  </a:lnTo>
                  <a:lnTo>
                    <a:pt x="255" y="892"/>
                  </a:lnTo>
                  <a:lnTo>
                    <a:pt x="234" y="890"/>
                  </a:lnTo>
                  <a:lnTo>
                    <a:pt x="211" y="888"/>
                  </a:lnTo>
                  <a:lnTo>
                    <a:pt x="190" y="884"/>
                  </a:lnTo>
                  <a:lnTo>
                    <a:pt x="169" y="878"/>
                  </a:lnTo>
                  <a:lnTo>
                    <a:pt x="148" y="873"/>
                  </a:lnTo>
                  <a:lnTo>
                    <a:pt x="127" y="865"/>
                  </a:lnTo>
                  <a:lnTo>
                    <a:pt x="108" y="857"/>
                  </a:lnTo>
                  <a:lnTo>
                    <a:pt x="88" y="850"/>
                  </a:lnTo>
                  <a:lnTo>
                    <a:pt x="69" y="838"/>
                  </a:lnTo>
                  <a:lnTo>
                    <a:pt x="50" y="828"/>
                  </a:lnTo>
                  <a:lnTo>
                    <a:pt x="33" y="817"/>
                  </a:lnTo>
                  <a:lnTo>
                    <a:pt x="15" y="804"/>
                  </a:lnTo>
                  <a:lnTo>
                    <a:pt x="0" y="792"/>
                  </a:lnTo>
                  <a:lnTo>
                    <a:pt x="0" y="794"/>
                  </a:lnTo>
                  <a:lnTo>
                    <a:pt x="0" y="796"/>
                  </a:lnTo>
                  <a:lnTo>
                    <a:pt x="0" y="798"/>
                  </a:lnTo>
                  <a:lnTo>
                    <a:pt x="0" y="800"/>
                  </a:lnTo>
                  <a:lnTo>
                    <a:pt x="0" y="802"/>
                  </a:lnTo>
                  <a:lnTo>
                    <a:pt x="0" y="804"/>
                  </a:lnTo>
                  <a:lnTo>
                    <a:pt x="0" y="805"/>
                  </a:lnTo>
                  <a:lnTo>
                    <a:pt x="0" y="807"/>
                  </a:lnTo>
                  <a:close/>
                </a:path>
              </a:pathLst>
            </a:custGeom>
            <a:solidFill>
              <a:srgbClr val="a8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Freeform 178"/>
            <p:cNvSpPr/>
            <p:nvPr/>
          </p:nvSpPr>
          <p:spPr>
            <a:xfrm>
              <a:off x="1943280" y="2447640"/>
              <a:ext cx="563400" cy="1420920"/>
            </a:xfrm>
            <a:custGeom>
              <a:avLst/>
              <a:gdLst>
                <a:gd name="textAreaLeft" fmla="*/ 0 w 563400"/>
                <a:gd name="textAreaRight" fmla="*/ 563760 w 563400"/>
                <a:gd name="textAreaTop" fmla="*/ 0 h 1420920"/>
                <a:gd name="textAreaBottom" fmla="*/ 1420920 h 1420920"/>
              </a:gdLst>
              <a:ahLst/>
              <a:rect l="textAreaLeft" t="textAreaTop" r="textAreaRight" b="textAreaBottom"/>
              <a:pathLst>
                <a:path w="355" h="895">
                  <a:moveTo>
                    <a:pt x="353" y="6"/>
                  </a:moveTo>
                  <a:lnTo>
                    <a:pt x="350" y="6"/>
                  </a:lnTo>
                  <a:lnTo>
                    <a:pt x="326" y="4"/>
                  </a:lnTo>
                  <a:lnTo>
                    <a:pt x="303" y="2"/>
                  </a:lnTo>
                  <a:lnTo>
                    <a:pt x="280" y="0"/>
                  </a:lnTo>
                  <a:lnTo>
                    <a:pt x="257" y="2"/>
                  </a:lnTo>
                  <a:lnTo>
                    <a:pt x="236" y="4"/>
                  </a:lnTo>
                  <a:lnTo>
                    <a:pt x="213" y="6"/>
                  </a:lnTo>
                  <a:lnTo>
                    <a:pt x="190" y="10"/>
                  </a:lnTo>
                  <a:lnTo>
                    <a:pt x="169" y="16"/>
                  </a:lnTo>
                  <a:lnTo>
                    <a:pt x="148" y="22"/>
                  </a:lnTo>
                  <a:lnTo>
                    <a:pt x="127" y="29"/>
                  </a:lnTo>
                  <a:lnTo>
                    <a:pt x="108" y="37"/>
                  </a:lnTo>
                  <a:lnTo>
                    <a:pt x="87" y="45"/>
                  </a:lnTo>
                  <a:lnTo>
                    <a:pt x="87" y="47"/>
                  </a:lnTo>
                  <a:lnTo>
                    <a:pt x="85" y="48"/>
                  </a:lnTo>
                  <a:lnTo>
                    <a:pt x="85" y="50"/>
                  </a:lnTo>
                  <a:lnTo>
                    <a:pt x="85" y="50"/>
                  </a:lnTo>
                  <a:lnTo>
                    <a:pt x="85" y="52"/>
                  </a:lnTo>
                  <a:lnTo>
                    <a:pt x="83" y="54"/>
                  </a:lnTo>
                  <a:lnTo>
                    <a:pt x="83" y="56"/>
                  </a:lnTo>
                  <a:lnTo>
                    <a:pt x="83" y="58"/>
                  </a:lnTo>
                  <a:lnTo>
                    <a:pt x="83" y="60"/>
                  </a:lnTo>
                  <a:lnTo>
                    <a:pt x="92" y="54"/>
                  </a:lnTo>
                  <a:lnTo>
                    <a:pt x="112" y="47"/>
                  </a:lnTo>
                  <a:lnTo>
                    <a:pt x="131" y="39"/>
                  </a:lnTo>
                  <a:lnTo>
                    <a:pt x="152" y="31"/>
                  </a:lnTo>
                  <a:lnTo>
                    <a:pt x="173" y="25"/>
                  </a:lnTo>
                  <a:lnTo>
                    <a:pt x="194" y="20"/>
                  </a:lnTo>
                  <a:lnTo>
                    <a:pt x="215" y="16"/>
                  </a:lnTo>
                  <a:lnTo>
                    <a:pt x="236" y="14"/>
                  </a:lnTo>
                  <a:lnTo>
                    <a:pt x="259" y="12"/>
                  </a:lnTo>
                  <a:lnTo>
                    <a:pt x="280" y="12"/>
                  </a:lnTo>
                  <a:lnTo>
                    <a:pt x="303" y="12"/>
                  </a:lnTo>
                  <a:lnTo>
                    <a:pt x="326" y="14"/>
                  </a:lnTo>
                  <a:lnTo>
                    <a:pt x="348" y="16"/>
                  </a:lnTo>
                  <a:lnTo>
                    <a:pt x="351" y="18"/>
                  </a:lnTo>
                  <a:lnTo>
                    <a:pt x="351" y="16"/>
                  </a:lnTo>
                  <a:lnTo>
                    <a:pt x="351" y="14"/>
                  </a:lnTo>
                  <a:lnTo>
                    <a:pt x="351" y="14"/>
                  </a:lnTo>
                  <a:lnTo>
                    <a:pt x="351" y="12"/>
                  </a:lnTo>
                  <a:lnTo>
                    <a:pt x="351" y="10"/>
                  </a:lnTo>
                  <a:lnTo>
                    <a:pt x="351" y="10"/>
                  </a:lnTo>
                  <a:lnTo>
                    <a:pt x="353" y="8"/>
                  </a:lnTo>
                  <a:lnTo>
                    <a:pt x="353" y="6"/>
                  </a:lnTo>
                  <a:close/>
                  <a:moveTo>
                    <a:pt x="2" y="797"/>
                  </a:moveTo>
                  <a:lnTo>
                    <a:pt x="14" y="806"/>
                  </a:lnTo>
                  <a:lnTo>
                    <a:pt x="31" y="818"/>
                  </a:lnTo>
                  <a:lnTo>
                    <a:pt x="50" y="829"/>
                  </a:lnTo>
                  <a:lnTo>
                    <a:pt x="67" y="841"/>
                  </a:lnTo>
                  <a:lnTo>
                    <a:pt x="87" y="850"/>
                  </a:lnTo>
                  <a:lnTo>
                    <a:pt x="108" y="860"/>
                  </a:lnTo>
                  <a:lnTo>
                    <a:pt x="127" y="868"/>
                  </a:lnTo>
                  <a:lnTo>
                    <a:pt x="148" y="873"/>
                  </a:lnTo>
                  <a:lnTo>
                    <a:pt x="169" y="881"/>
                  </a:lnTo>
                  <a:lnTo>
                    <a:pt x="190" y="885"/>
                  </a:lnTo>
                  <a:lnTo>
                    <a:pt x="213" y="889"/>
                  </a:lnTo>
                  <a:lnTo>
                    <a:pt x="236" y="893"/>
                  </a:lnTo>
                  <a:lnTo>
                    <a:pt x="257" y="895"/>
                  </a:lnTo>
                  <a:lnTo>
                    <a:pt x="280" y="895"/>
                  </a:lnTo>
                  <a:lnTo>
                    <a:pt x="303" y="895"/>
                  </a:lnTo>
                  <a:lnTo>
                    <a:pt x="326" y="893"/>
                  </a:lnTo>
                  <a:lnTo>
                    <a:pt x="350" y="889"/>
                  </a:lnTo>
                  <a:lnTo>
                    <a:pt x="355" y="889"/>
                  </a:lnTo>
                  <a:lnTo>
                    <a:pt x="355" y="887"/>
                  </a:lnTo>
                  <a:lnTo>
                    <a:pt x="353" y="885"/>
                  </a:lnTo>
                  <a:lnTo>
                    <a:pt x="353" y="885"/>
                  </a:lnTo>
                  <a:lnTo>
                    <a:pt x="353" y="883"/>
                  </a:lnTo>
                  <a:lnTo>
                    <a:pt x="353" y="881"/>
                  </a:lnTo>
                  <a:lnTo>
                    <a:pt x="353" y="881"/>
                  </a:lnTo>
                  <a:lnTo>
                    <a:pt x="353" y="879"/>
                  </a:lnTo>
                  <a:lnTo>
                    <a:pt x="353" y="877"/>
                  </a:lnTo>
                  <a:lnTo>
                    <a:pt x="348" y="879"/>
                  </a:lnTo>
                  <a:lnTo>
                    <a:pt x="326" y="881"/>
                  </a:lnTo>
                  <a:lnTo>
                    <a:pt x="303" y="883"/>
                  </a:lnTo>
                  <a:lnTo>
                    <a:pt x="280" y="885"/>
                  </a:lnTo>
                  <a:lnTo>
                    <a:pt x="259" y="883"/>
                  </a:lnTo>
                  <a:lnTo>
                    <a:pt x="236" y="881"/>
                  </a:lnTo>
                  <a:lnTo>
                    <a:pt x="215" y="879"/>
                  </a:lnTo>
                  <a:lnTo>
                    <a:pt x="194" y="875"/>
                  </a:lnTo>
                  <a:lnTo>
                    <a:pt x="173" y="870"/>
                  </a:lnTo>
                  <a:lnTo>
                    <a:pt x="152" y="864"/>
                  </a:lnTo>
                  <a:lnTo>
                    <a:pt x="131" y="858"/>
                  </a:lnTo>
                  <a:lnTo>
                    <a:pt x="112" y="850"/>
                  </a:lnTo>
                  <a:lnTo>
                    <a:pt x="92" y="841"/>
                  </a:lnTo>
                  <a:lnTo>
                    <a:pt x="73" y="831"/>
                  </a:lnTo>
                  <a:lnTo>
                    <a:pt x="54" y="822"/>
                  </a:lnTo>
                  <a:lnTo>
                    <a:pt x="37" y="810"/>
                  </a:lnTo>
                  <a:lnTo>
                    <a:pt x="19" y="797"/>
                  </a:lnTo>
                  <a:lnTo>
                    <a:pt x="4" y="785"/>
                  </a:lnTo>
                  <a:lnTo>
                    <a:pt x="0" y="781"/>
                  </a:lnTo>
                  <a:lnTo>
                    <a:pt x="0" y="783"/>
                  </a:lnTo>
                  <a:lnTo>
                    <a:pt x="2" y="785"/>
                  </a:lnTo>
                  <a:lnTo>
                    <a:pt x="2" y="787"/>
                  </a:lnTo>
                  <a:lnTo>
                    <a:pt x="2" y="789"/>
                  </a:lnTo>
                  <a:lnTo>
                    <a:pt x="2" y="791"/>
                  </a:lnTo>
                  <a:lnTo>
                    <a:pt x="2" y="793"/>
                  </a:lnTo>
                  <a:lnTo>
                    <a:pt x="2" y="795"/>
                  </a:lnTo>
                  <a:lnTo>
                    <a:pt x="2" y="797"/>
                  </a:lnTo>
                  <a:close/>
                </a:path>
              </a:pathLst>
            </a:custGeom>
            <a:solidFill>
              <a:srgbClr val="a9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Freeform 179"/>
            <p:cNvSpPr/>
            <p:nvPr/>
          </p:nvSpPr>
          <p:spPr>
            <a:xfrm>
              <a:off x="1943280" y="2457360"/>
              <a:ext cx="560160" cy="140184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353" h="883">
                  <a:moveTo>
                    <a:pt x="351" y="6"/>
                  </a:moveTo>
                  <a:lnTo>
                    <a:pt x="348" y="6"/>
                  </a:lnTo>
                  <a:lnTo>
                    <a:pt x="326" y="2"/>
                  </a:lnTo>
                  <a:lnTo>
                    <a:pt x="303" y="0"/>
                  </a:lnTo>
                  <a:lnTo>
                    <a:pt x="280" y="0"/>
                  </a:lnTo>
                  <a:lnTo>
                    <a:pt x="257" y="0"/>
                  </a:lnTo>
                  <a:lnTo>
                    <a:pt x="236" y="2"/>
                  </a:lnTo>
                  <a:lnTo>
                    <a:pt x="213" y="6"/>
                  </a:lnTo>
                  <a:lnTo>
                    <a:pt x="192" y="10"/>
                  </a:lnTo>
                  <a:lnTo>
                    <a:pt x="171" y="14"/>
                  </a:lnTo>
                  <a:lnTo>
                    <a:pt x="150" y="19"/>
                  </a:lnTo>
                  <a:lnTo>
                    <a:pt x="129" y="27"/>
                  </a:lnTo>
                  <a:lnTo>
                    <a:pt x="110" y="35"/>
                  </a:lnTo>
                  <a:lnTo>
                    <a:pt x="90" y="44"/>
                  </a:lnTo>
                  <a:lnTo>
                    <a:pt x="85" y="46"/>
                  </a:lnTo>
                  <a:lnTo>
                    <a:pt x="83" y="48"/>
                  </a:lnTo>
                  <a:lnTo>
                    <a:pt x="83" y="50"/>
                  </a:lnTo>
                  <a:lnTo>
                    <a:pt x="83" y="52"/>
                  </a:lnTo>
                  <a:lnTo>
                    <a:pt x="83" y="54"/>
                  </a:lnTo>
                  <a:lnTo>
                    <a:pt x="81" y="56"/>
                  </a:lnTo>
                  <a:lnTo>
                    <a:pt x="81" y="58"/>
                  </a:lnTo>
                  <a:lnTo>
                    <a:pt x="81" y="60"/>
                  </a:lnTo>
                  <a:lnTo>
                    <a:pt x="81" y="60"/>
                  </a:lnTo>
                  <a:lnTo>
                    <a:pt x="94" y="54"/>
                  </a:lnTo>
                  <a:lnTo>
                    <a:pt x="113" y="44"/>
                  </a:lnTo>
                  <a:lnTo>
                    <a:pt x="133" y="37"/>
                  </a:lnTo>
                  <a:lnTo>
                    <a:pt x="154" y="31"/>
                  </a:lnTo>
                  <a:lnTo>
                    <a:pt x="173" y="25"/>
                  </a:lnTo>
                  <a:lnTo>
                    <a:pt x="194" y="19"/>
                  </a:lnTo>
                  <a:lnTo>
                    <a:pt x="215" y="16"/>
                  </a:lnTo>
                  <a:lnTo>
                    <a:pt x="236" y="14"/>
                  </a:lnTo>
                  <a:lnTo>
                    <a:pt x="259" y="12"/>
                  </a:lnTo>
                  <a:lnTo>
                    <a:pt x="280" y="10"/>
                  </a:lnTo>
                  <a:lnTo>
                    <a:pt x="303" y="12"/>
                  </a:lnTo>
                  <a:lnTo>
                    <a:pt x="325" y="14"/>
                  </a:lnTo>
                  <a:lnTo>
                    <a:pt x="348" y="16"/>
                  </a:lnTo>
                  <a:lnTo>
                    <a:pt x="350" y="16"/>
                  </a:lnTo>
                  <a:lnTo>
                    <a:pt x="350" y="16"/>
                  </a:lnTo>
                  <a:lnTo>
                    <a:pt x="350" y="14"/>
                  </a:lnTo>
                  <a:lnTo>
                    <a:pt x="350" y="12"/>
                  </a:lnTo>
                  <a:lnTo>
                    <a:pt x="351" y="12"/>
                  </a:lnTo>
                  <a:lnTo>
                    <a:pt x="351" y="10"/>
                  </a:lnTo>
                  <a:lnTo>
                    <a:pt x="351" y="8"/>
                  </a:lnTo>
                  <a:lnTo>
                    <a:pt x="351" y="8"/>
                  </a:lnTo>
                  <a:lnTo>
                    <a:pt x="351" y="6"/>
                  </a:lnTo>
                  <a:close/>
                  <a:moveTo>
                    <a:pt x="2" y="783"/>
                  </a:moveTo>
                  <a:lnTo>
                    <a:pt x="17" y="795"/>
                  </a:lnTo>
                  <a:lnTo>
                    <a:pt x="35" y="808"/>
                  </a:lnTo>
                  <a:lnTo>
                    <a:pt x="52" y="819"/>
                  </a:lnTo>
                  <a:lnTo>
                    <a:pt x="71" y="829"/>
                  </a:lnTo>
                  <a:lnTo>
                    <a:pt x="90" y="841"/>
                  </a:lnTo>
                  <a:lnTo>
                    <a:pt x="110" y="848"/>
                  </a:lnTo>
                  <a:lnTo>
                    <a:pt x="129" y="856"/>
                  </a:lnTo>
                  <a:lnTo>
                    <a:pt x="150" y="864"/>
                  </a:lnTo>
                  <a:lnTo>
                    <a:pt x="171" y="869"/>
                  </a:lnTo>
                  <a:lnTo>
                    <a:pt x="192" y="875"/>
                  </a:lnTo>
                  <a:lnTo>
                    <a:pt x="213" y="879"/>
                  </a:lnTo>
                  <a:lnTo>
                    <a:pt x="236" y="881"/>
                  </a:lnTo>
                  <a:lnTo>
                    <a:pt x="257" y="883"/>
                  </a:lnTo>
                  <a:lnTo>
                    <a:pt x="280" y="883"/>
                  </a:lnTo>
                  <a:lnTo>
                    <a:pt x="303" y="883"/>
                  </a:lnTo>
                  <a:lnTo>
                    <a:pt x="326" y="881"/>
                  </a:lnTo>
                  <a:lnTo>
                    <a:pt x="348" y="879"/>
                  </a:lnTo>
                  <a:lnTo>
                    <a:pt x="353" y="877"/>
                  </a:lnTo>
                  <a:lnTo>
                    <a:pt x="353" y="875"/>
                  </a:lnTo>
                  <a:lnTo>
                    <a:pt x="353" y="875"/>
                  </a:lnTo>
                  <a:lnTo>
                    <a:pt x="353" y="873"/>
                  </a:lnTo>
                  <a:lnTo>
                    <a:pt x="353" y="871"/>
                  </a:lnTo>
                  <a:lnTo>
                    <a:pt x="353" y="871"/>
                  </a:lnTo>
                  <a:lnTo>
                    <a:pt x="351" y="869"/>
                  </a:lnTo>
                  <a:lnTo>
                    <a:pt x="351" y="867"/>
                  </a:lnTo>
                  <a:lnTo>
                    <a:pt x="351" y="867"/>
                  </a:lnTo>
                  <a:lnTo>
                    <a:pt x="348" y="867"/>
                  </a:lnTo>
                  <a:lnTo>
                    <a:pt x="325" y="871"/>
                  </a:lnTo>
                  <a:lnTo>
                    <a:pt x="303" y="873"/>
                  </a:lnTo>
                  <a:lnTo>
                    <a:pt x="280" y="873"/>
                  </a:lnTo>
                  <a:lnTo>
                    <a:pt x="259" y="873"/>
                  </a:lnTo>
                  <a:lnTo>
                    <a:pt x="236" y="871"/>
                  </a:lnTo>
                  <a:lnTo>
                    <a:pt x="215" y="867"/>
                  </a:lnTo>
                  <a:lnTo>
                    <a:pt x="194" y="864"/>
                  </a:lnTo>
                  <a:lnTo>
                    <a:pt x="173" y="860"/>
                  </a:lnTo>
                  <a:lnTo>
                    <a:pt x="154" y="854"/>
                  </a:lnTo>
                  <a:lnTo>
                    <a:pt x="133" y="846"/>
                  </a:lnTo>
                  <a:lnTo>
                    <a:pt x="113" y="839"/>
                  </a:lnTo>
                  <a:lnTo>
                    <a:pt x="94" y="831"/>
                  </a:lnTo>
                  <a:lnTo>
                    <a:pt x="75" y="821"/>
                  </a:lnTo>
                  <a:lnTo>
                    <a:pt x="58" y="810"/>
                  </a:lnTo>
                  <a:lnTo>
                    <a:pt x="40" y="798"/>
                  </a:lnTo>
                  <a:lnTo>
                    <a:pt x="23" y="787"/>
                  </a:lnTo>
                  <a:lnTo>
                    <a:pt x="6" y="775"/>
                  </a:lnTo>
                  <a:lnTo>
                    <a:pt x="0" y="770"/>
                  </a:lnTo>
                  <a:lnTo>
                    <a:pt x="0" y="772"/>
                  </a:lnTo>
                  <a:lnTo>
                    <a:pt x="0" y="773"/>
                  </a:lnTo>
                  <a:lnTo>
                    <a:pt x="0" y="773"/>
                  </a:lnTo>
                  <a:lnTo>
                    <a:pt x="0" y="775"/>
                  </a:lnTo>
                  <a:lnTo>
                    <a:pt x="0" y="777"/>
                  </a:lnTo>
                  <a:lnTo>
                    <a:pt x="2" y="779"/>
                  </a:lnTo>
                  <a:lnTo>
                    <a:pt x="2" y="781"/>
                  </a:lnTo>
                  <a:lnTo>
                    <a:pt x="2" y="783"/>
                  </a:lnTo>
                  <a:close/>
                </a:path>
              </a:pathLst>
            </a:custGeom>
            <a:solidFill>
              <a:srgbClr val="aa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Freeform 180"/>
            <p:cNvSpPr/>
            <p:nvPr/>
          </p:nvSpPr>
          <p:spPr>
            <a:xfrm>
              <a:off x="1943280" y="2466720"/>
              <a:ext cx="560160" cy="138600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1386000"/>
                <a:gd name="textAreaBottom" fmla="*/ 1386360 h 1386000"/>
              </a:gdLst>
              <a:ahLst/>
              <a:rect l="textAreaLeft" t="textAreaTop" r="textAreaRight" b="textAreaBottom"/>
              <a:pathLst>
                <a:path w="353" h="873">
                  <a:moveTo>
                    <a:pt x="351" y="6"/>
                  </a:moveTo>
                  <a:lnTo>
                    <a:pt x="348" y="4"/>
                  </a:lnTo>
                  <a:lnTo>
                    <a:pt x="326" y="2"/>
                  </a:lnTo>
                  <a:lnTo>
                    <a:pt x="303" y="0"/>
                  </a:lnTo>
                  <a:lnTo>
                    <a:pt x="280" y="0"/>
                  </a:lnTo>
                  <a:lnTo>
                    <a:pt x="259" y="0"/>
                  </a:lnTo>
                  <a:lnTo>
                    <a:pt x="236" y="2"/>
                  </a:lnTo>
                  <a:lnTo>
                    <a:pt x="215" y="4"/>
                  </a:lnTo>
                  <a:lnTo>
                    <a:pt x="194" y="8"/>
                  </a:lnTo>
                  <a:lnTo>
                    <a:pt x="173" y="13"/>
                  </a:lnTo>
                  <a:lnTo>
                    <a:pt x="152" y="19"/>
                  </a:lnTo>
                  <a:lnTo>
                    <a:pt x="131" y="27"/>
                  </a:lnTo>
                  <a:lnTo>
                    <a:pt x="112" y="35"/>
                  </a:lnTo>
                  <a:lnTo>
                    <a:pt x="92" y="42"/>
                  </a:lnTo>
                  <a:lnTo>
                    <a:pt x="83" y="48"/>
                  </a:lnTo>
                  <a:lnTo>
                    <a:pt x="81" y="50"/>
                  </a:lnTo>
                  <a:lnTo>
                    <a:pt x="81" y="52"/>
                  </a:lnTo>
                  <a:lnTo>
                    <a:pt x="81" y="54"/>
                  </a:lnTo>
                  <a:lnTo>
                    <a:pt x="81" y="54"/>
                  </a:lnTo>
                  <a:lnTo>
                    <a:pt x="79" y="56"/>
                  </a:lnTo>
                  <a:lnTo>
                    <a:pt x="79" y="58"/>
                  </a:lnTo>
                  <a:lnTo>
                    <a:pt x="79" y="59"/>
                  </a:lnTo>
                  <a:lnTo>
                    <a:pt x="79" y="61"/>
                  </a:lnTo>
                  <a:lnTo>
                    <a:pt x="96" y="52"/>
                  </a:lnTo>
                  <a:lnTo>
                    <a:pt x="115" y="44"/>
                  </a:lnTo>
                  <a:lnTo>
                    <a:pt x="135" y="36"/>
                  </a:lnTo>
                  <a:lnTo>
                    <a:pt x="154" y="29"/>
                  </a:lnTo>
                  <a:lnTo>
                    <a:pt x="175" y="23"/>
                  </a:lnTo>
                  <a:lnTo>
                    <a:pt x="196" y="19"/>
                  </a:lnTo>
                  <a:lnTo>
                    <a:pt x="217" y="15"/>
                  </a:lnTo>
                  <a:lnTo>
                    <a:pt x="238" y="11"/>
                  </a:lnTo>
                  <a:lnTo>
                    <a:pt x="259" y="10"/>
                  </a:lnTo>
                  <a:lnTo>
                    <a:pt x="280" y="10"/>
                  </a:lnTo>
                  <a:lnTo>
                    <a:pt x="303" y="10"/>
                  </a:lnTo>
                  <a:lnTo>
                    <a:pt x="325" y="11"/>
                  </a:lnTo>
                  <a:lnTo>
                    <a:pt x="346" y="15"/>
                  </a:lnTo>
                  <a:lnTo>
                    <a:pt x="348" y="15"/>
                  </a:lnTo>
                  <a:lnTo>
                    <a:pt x="350" y="13"/>
                  </a:lnTo>
                  <a:lnTo>
                    <a:pt x="350" y="13"/>
                  </a:lnTo>
                  <a:lnTo>
                    <a:pt x="350" y="11"/>
                  </a:lnTo>
                  <a:lnTo>
                    <a:pt x="350" y="10"/>
                  </a:lnTo>
                  <a:lnTo>
                    <a:pt x="350" y="10"/>
                  </a:lnTo>
                  <a:lnTo>
                    <a:pt x="350" y="8"/>
                  </a:lnTo>
                  <a:lnTo>
                    <a:pt x="350" y="6"/>
                  </a:lnTo>
                  <a:lnTo>
                    <a:pt x="351" y="6"/>
                  </a:lnTo>
                  <a:close/>
                  <a:moveTo>
                    <a:pt x="0" y="769"/>
                  </a:moveTo>
                  <a:lnTo>
                    <a:pt x="4" y="773"/>
                  </a:lnTo>
                  <a:lnTo>
                    <a:pt x="19" y="785"/>
                  </a:lnTo>
                  <a:lnTo>
                    <a:pt x="37" y="798"/>
                  </a:lnTo>
                  <a:lnTo>
                    <a:pt x="54" y="810"/>
                  </a:lnTo>
                  <a:lnTo>
                    <a:pt x="73" y="819"/>
                  </a:lnTo>
                  <a:lnTo>
                    <a:pt x="92" y="829"/>
                  </a:lnTo>
                  <a:lnTo>
                    <a:pt x="112" y="838"/>
                  </a:lnTo>
                  <a:lnTo>
                    <a:pt x="131" y="846"/>
                  </a:lnTo>
                  <a:lnTo>
                    <a:pt x="152" y="852"/>
                  </a:lnTo>
                  <a:lnTo>
                    <a:pt x="173" y="858"/>
                  </a:lnTo>
                  <a:lnTo>
                    <a:pt x="194" y="863"/>
                  </a:lnTo>
                  <a:lnTo>
                    <a:pt x="215" y="867"/>
                  </a:lnTo>
                  <a:lnTo>
                    <a:pt x="236" y="869"/>
                  </a:lnTo>
                  <a:lnTo>
                    <a:pt x="259" y="871"/>
                  </a:lnTo>
                  <a:lnTo>
                    <a:pt x="280" y="873"/>
                  </a:lnTo>
                  <a:lnTo>
                    <a:pt x="303" y="871"/>
                  </a:lnTo>
                  <a:lnTo>
                    <a:pt x="326" y="869"/>
                  </a:lnTo>
                  <a:lnTo>
                    <a:pt x="348" y="867"/>
                  </a:lnTo>
                  <a:lnTo>
                    <a:pt x="353" y="865"/>
                  </a:lnTo>
                  <a:lnTo>
                    <a:pt x="353" y="865"/>
                  </a:lnTo>
                  <a:lnTo>
                    <a:pt x="351" y="863"/>
                  </a:lnTo>
                  <a:lnTo>
                    <a:pt x="351" y="861"/>
                  </a:lnTo>
                  <a:lnTo>
                    <a:pt x="351" y="861"/>
                  </a:lnTo>
                  <a:lnTo>
                    <a:pt x="351" y="860"/>
                  </a:lnTo>
                  <a:lnTo>
                    <a:pt x="351" y="858"/>
                  </a:lnTo>
                  <a:lnTo>
                    <a:pt x="351" y="858"/>
                  </a:lnTo>
                  <a:lnTo>
                    <a:pt x="351" y="856"/>
                  </a:lnTo>
                  <a:lnTo>
                    <a:pt x="346" y="858"/>
                  </a:lnTo>
                  <a:lnTo>
                    <a:pt x="325" y="860"/>
                  </a:lnTo>
                  <a:lnTo>
                    <a:pt x="303" y="861"/>
                  </a:lnTo>
                  <a:lnTo>
                    <a:pt x="280" y="861"/>
                  </a:lnTo>
                  <a:lnTo>
                    <a:pt x="259" y="861"/>
                  </a:lnTo>
                  <a:lnTo>
                    <a:pt x="238" y="860"/>
                  </a:lnTo>
                  <a:lnTo>
                    <a:pt x="217" y="858"/>
                  </a:lnTo>
                  <a:lnTo>
                    <a:pt x="196" y="854"/>
                  </a:lnTo>
                  <a:lnTo>
                    <a:pt x="175" y="848"/>
                  </a:lnTo>
                  <a:lnTo>
                    <a:pt x="154" y="842"/>
                  </a:lnTo>
                  <a:lnTo>
                    <a:pt x="135" y="837"/>
                  </a:lnTo>
                  <a:lnTo>
                    <a:pt x="115" y="829"/>
                  </a:lnTo>
                  <a:lnTo>
                    <a:pt x="96" y="819"/>
                  </a:lnTo>
                  <a:lnTo>
                    <a:pt x="79" y="810"/>
                  </a:lnTo>
                  <a:lnTo>
                    <a:pt x="60" y="800"/>
                  </a:lnTo>
                  <a:lnTo>
                    <a:pt x="42" y="789"/>
                  </a:lnTo>
                  <a:lnTo>
                    <a:pt x="27" y="777"/>
                  </a:lnTo>
                  <a:lnTo>
                    <a:pt x="10" y="764"/>
                  </a:lnTo>
                  <a:lnTo>
                    <a:pt x="0" y="756"/>
                  </a:lnTo>
                  <a:lnTo>
                    <a:pt x="0" y="758"/>
                  </a:lnTo>
                  <a:lnTo>
                    <a:pt x="0" y="760"/>
                  </a:lnTo>
                  <a:lnTo>
                    <a:pt x="0" y="762"/>
                  </a:lnTo>
                  <a:lnTo>
                    <a:pt x="0" y="764"/>
                  </a:lnTo>
                  <a:lnTo>
                    <a:pt x="0" y="766"/>
                  </a:lnTo>
                  <a:lnTo>
                    <a:pt x="0" y="767"/>
                  </a:lnTo>
                  <a:lnTo>
                    <a:pt x="0" y="767"/>
                  </a:lnTo>
                  <a:lnTo>
                    <a:pt x="0" y="769"/>
                  </a:lnTo>
                  <a:close/>
                </a:path>
              </a:pathLst>
            </a:custGeom>
            <a:solidFill>
              <a:srgbClr val="ab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Freeform 181"/>
            <p:cNvSpPr/>
            <p:nvPr/>
          </p:nvSpPr>
          <p:spPr>
            <a:xfrm>
              <a:off x="1943280" y="2473200"/>
              <a:ext cx="556920" cy="136980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1369800"/>
                <a:gd name="textAreaBottom" fmla="*/ 1370160 h 1369800"/>
              </a:gdLst>
              <a:ahLst/>
              <a:rect l="textAreaLeft" t="textAreaTop" r="textAreaRight" b="textAreaBottom"/>
              <a:pathLst>
                <a:path w="351" h="863">
                  <a:moveTo>
                    <a:pt x="350" y="6"/>
                  </a:moveTo>
                  <a:lnTo>
                    <a:pt x="348" y="6"/>
                  </a:lnTo>
                  <a:lnTo>
                    <a:pt x="325" y="4"/>
                  </a:lnTo>
                  <a:lnTo>
                    <a:pt x="303" y="2"/>
                  </a:lnTo>
                  <a:lnTo>
                    <a:pt x="280" y="0"/>
                  </a:lnTo>
                  <a:lnTo>
                    <a:pt x="259" y="2"/>
                  </a:lnTo>
                  <a:lnTo>
                    <a:pt x="236" y="4"/>
                  </a:lnTo>
                  <a:lnTo>
                    <a:pt x="215" y="6"/>
                  </a:lnTo>
                  <a:lnTo>
                    <a:pt x="194" y="9"/>
                  </a:lnTo>
                  <a:lnTo>
                    <a:pt x="173" y="15"/>
                  </a:lnTo>
                  <a:lnTo>
                    <a:pt x="154" y="21"/>
                  </a:lnTo>
                  <a:lnTo>
                    <a:pt x="133" y="27"/>
                  </a:lnTo>
                  <a:lnTo>
                    <a:pt x="113" y="34"/>
                  </a:lnTo>
                  <a:lnTo>
                    <a:pt x="94" y="44"/>
                  </a:lnTo>
                  <a:lnTo>
                    <a:pt x="81" y="50"/>
                  </a:lnTo>
                  <a:lnTo>
                    <a:pt x="79" y="52"/>
                  </a:lnTo>
                  <a:lnTo>
                    <a:pt x="79" y="54"/>
                  </a:lnTo>
                  <a:lnTo>
                    <a:pt x="79" y="55"/>
                  </a:lnTo>
                  <a:lnTo>
                    <a:pt x="79" y="57"/>
                  </a:lnTo>
                  <a:lnTo>
                    <a:pt x="77" y="59"/>
                  </a:lnTo>
                  <a:lnTo>
                    <a:pt x="77" y="61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81" y="61"/>
                  </a:lnTo>
                  <a:lnTo>
                    <a:pt x="98" y="52"/>
                  </a:lnTo>
                  <a:lnTo>
                    <a:pt x="117" y="44"/>
                  </a:lnTo>
                  <a:lnTo>
                    <a:pt x="136" y="36"/>
                  </a:lnTo>
                  <a:lnTo>
                    <a:pt x="156" y="31"/>
                  </a:lnTo>
                  <a:lnTo>
                    <a:pt x="177" y="25"/>
                  </a:lnTo>
                  <a:lnTo>
                    <a:pt x="196" y="19"/>
                  </a:lnTo>
                  <a:lnTo>
                    <a:pt x="217" y="15"/>
                  </a:lnTo>
                  <a:lnTo>
                    <a:pt x="238" y="13"/>
                  </a:lnTo>
                  <a:lnTo>
                    <a:pt x="259" y="11"/>
                  </a:lnTo>
                  <a:lnTo>
                    <a:pt x="280" y="11"/>
                  </a:lnTo>
                  <a:lnTo>
                    <a:pt x="303" y="11"/>
                  </a:lnTo>
                  <a:lnTo>
                    <a:pt x="325" y="13"/>
                  </a:lnTo>
                  <a:lnTo>
                    <a:pt x="346" y="15"/>
                  </a:lnTo>
                  <a:lnTo>
                    <a:pt x="348" y="17"/>
                  </a:lnTo>
                  <a:lnTo>
                    <a:pt x="348" y="15"/>
                  </a:lnTo>
                  <a:lnTo>
                    <a:pt x="348" y="13"/>
                  </a:lnTo>
                  <a:lnTo>
                    <a:pt x="348" y="13"/>
                  </a:lnTo>
                  <a:lnTo>
                    <a:pt x="348" y="11"/>
                  </a:lnTo>
                  <a:lnTo>
                    <a:pt x="350" y="9"/>
                  </a:lnTo>
                  <a:lnTo>
                    <a:pt x="350" y="9"/>
                  </a:lnTo>
                  <a:lnTo>
                    <a:pt x="350" y="7"/>
                  </a:lnTo>
                  <a:lnTo>
                    <a:pt x="350" y="6"/>
                  </a:lnTo>
                  <a:close/>
                  <a:moveTo>
                    <a:pt x="0" y="760"/>
                  </a:moveTo>
                  <a:lnTo>
                    <a:pt x="6" y="765"/>
                  </a:lnTo>
                  <a:lnTo>
                    <a:pt x="23" y="777"/>
                  </a:lnTo>
                  <a:lnTo>
                    <a:pt x="40" y="788"/>
                  </a:lnTo>
                  <a:lnTo>
                    <a:pt x="58" y="800"/>
                  </a:lnTo>
                  <a:lnTo>
                    <a:pt x="75" y="811"/>
                  </a:lnTo>
                  <a:lnTo>
                    <a:pt x="94" y="821"/>
                  </a:lnTo>
                  <a:lnTo>
                    <a:pt x="113" y="829"/>
                  </a:lnTo>
                  <a:lnTo>
                    <a:pt x="133" y="836"/>
                  </a:lnTo>
                  <a:lnTo>
                    <a:pt x="154" y="844"/>
                  </a:lnTo>
                  <a:lnTo>
                    <a:pt x="173" y="850"/>
                  </a:lnTo>
                  <a:lnTo>
                    <a:pt x="194" y="854"/>
                  </a:lnTo>
                  <a:lnTo>
                    <a:pt x="215" y="857"/>
                  </a:lnTo>
                  <a:lnTo>
                    <a:pt x="236" y="861"/>
                  </a:lnTo>
                  <a:lnTo>
                    <a:pt x="259" y="863"/>
                  </a:lnTo>
                  <a:lnTo>
                    <a:pt x="280" y="863"/>
                  </a:lnTo>
                  <a:lnTo>
                    <a:pt x="303" y="863"/>
                  </a:lnTo>
                  <a:lnTo>
                    <a:pt x="325" y="861"/>
                  </a:lnTo>
                  <a:lnTo>
                    <a:pt x="348" y="857"/>
                  </a:lnTo>
                  <a:lnTo>
                    <a:pt x="351" y="857"/>
                  </a:lnTo>
                  <a:lnTo>
                    <a:pt x="351" y="856"/>
                  </a:lnTo>
                  <a:lnTo>
                    <a:pt x="351" y="854"/>
                  </a:lnTo>
                  <a:lnTo>
                    <a:pt x="351" y="854"/>
                  </a:lnTo>
                  <a:lnTo>
                    <a:pt x="351" y="852"/>
                  </a:lnTo>
                  <a:lnTo>
                    <a:pt x="350" y="852"/>
                  </a:lnTo>
                  <a:lnTo>
                    <a:pt x="350" y="850"/>
                  </a:lnTo>
                  <a:lnTo>
                    <a:pt x="350" y="848"/>
                  </a:lnTo>
                  <a:lnTo>
                    <a:pt x="350" y="848"/>
                  </a:lnTo>
                  <a:lnTo>
                    <a:pt x="346" y="848"/>
                  </a:lnTo>
                  <a:lnTo>
                    <a:pt x="325" y="850"/>
                  </a:lnTo>
                  <a:lnTo>
                    <a:pt x="303" y="852"/>
                  </a:lnTo>
                  <a:lnTo>
                    <a:pt x="280" y="852"/>
                  </a:lnTo>
                  <a:lnTo>
                    <a:pt x="259" y="852"/>
                  </a:lnTo>
                  <a:lnTo>
                    <a:pt x="238" y="850"/>
                  </a:lnTo>
                  <a:lnTo>
                    <a:pt x="217" y="848"/>
                  </a:lnTo>
                  <a:lnTo>
                    <a:pt x="196" y="844"/>
                  </a:lnTo>
                  <a:lnTo>
                    <a:pt x="177" y="840"/>
                  </a:lnTo>
                  <a:lnTo>
                    <a:pt x="156" y="834"/>
                  </a:lnTo>
                  <a:lnTo>
                    <a:pt x="136" y="827"/>
                  </a:lnTo>
                  <a:lnTo>
                    <a:pt x="117" y="819"/>
                  </a:lnTo>
                  <a:lnTo>
                    <a:pt x="98" y="811"/>
                  </a:lnTo>
                  <a:lnTo>
                    <a:pt x="81" y="802"/>
                  </a:lnTo>
                  <a:lnTo>
                    <a:pt x="64" y="792"/>
                  </a:lnTo>
                  <a:lnTo>
                    <a:pt x="46" y="781"/>
                  </a:lnTo>
                  <a:lnTo>
                    <a:pt x="29" y="769"/>
                  </a:lnTo>
                  <a:lnTo>
                    <a:pt x="14" y="756"/>
                  </a:lnTo>
                  <a:lnTo>
                    <a:pt x="0" y="744"/>
                  </a:lnTo>
                  <a:lnTo>
                    <a:pt x="0" y="746"/>
                  </a:lnTo>
                  <a:lnTo>
                    <a:pt x="0" y="748"/>
                  </a:lnTo>
                  <a:lnTo>
                    <a:pt x="0" y="750"/>
                  </a:lnTo>
                  <a:lnTo>
                    <a:pt x="0" y="752"/>
                  </a:lnTo>
                  <a:lnTo>
                    <a:pt x="0" y="754"/>
                  </a:lnTo>
                  <a:lnTo>
                    <a:pt x="0" y="756"/>
                  </a:lnTo>
                  <a:lnTo>
                    <a:pt x="0" y="758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ac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Freeform 182"/>
            <p:cNvSpPr/>
            <p:nvPr/>
          </p:nvSpPr>
          <p:spPr>
            <a:xfrm>
              <a:off x="1940040" y="2482560"/>
              <a:ext cx="560160" cy="135108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1351080"/>
                <a:gd name="textAreaBottom" fmla="*/ 1351440 h 1351080"/>
              </a:gdLst>
              <a:ahLst/>
              <a:rect l="textAreaLeft" t="textAreaTop" r="textAreaRight" b="textAreaBottom"/>
              <a:pathLst>
                <a:path w="353" h="851">
                  <a:moveTo>
                    <a:pt x="350" y="5"/>
                  </a:moveTo>
                  <a:lnTo>
                    <a:pt x="348" y="5"/>
                  </a:lnTo>
                  <a:lnTo>
                    <a:pt x="327" y="1"/>
                  </a:lnTo>
                  <a:lnTo>
                    <a:pt x="305" y="0"/>
                  </a:lnTo>
                  <a:lnTo>
                    <a:pt x="282" y="0"/>
                  </a:lnTo>
                  <a:lnTo>
                    <a:pt x="261" y="0"/>
                  </a:lnTo>
                  <a:lnTo>
                    <a:pt x="240" y="1"/>
                  </a:lnTo>
                  <a:lnTo>
                    <a:pt x="219" y="5"/>
                  </a:lnTo>
                  <a:lnTo>
                    <a:pt x="198" y="9"/>
                  </a:lnTo>
                  <a:lnTo>
                    <a:pt x="177" y="13"/>
                  </a:lnTo>
                  <a:lnTo>
                    <a:pt x="156" y="19"/>
                  </a:lnTo>
                  <a:lnTo>
                    <a:pt x="137" y="26"/>
                  </a:lnTo>
                  <a:lnTo>
                    <a:pt x="117" y="34"/>
                  </a:lnTo>
                  <a:lnTo>
                    <a:pt x="98" y="42"/>
                  </a:lnTo>
                  <a:lnTo>
                    <a:pt x="81" y="51"/>
                  </a:lnTo>
                  <a:lnTo>
                    <a:pt x="79" y="53"/>
                  </a:lnTo>
                  <a:lnTo>
                    <a:pt x="79" y="55"/>
                  </a:lnTo>
                  <a:lnTo>
                    <a:pt x="79" y="57"/>
                  </a:lnTo>
                  <a:lnTo>
                    <a:pt x="79" y="59"/>
                  </a:lnTo>
                  <a:lnTo>
                    <a:pt x="77" y="59"/>
                  </a:lnTo>
                  <a:lnTo>
                    <a:pt x="77" y="61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85" y="61"/>
                  </a:lnTo>
                  <a:lnTo>
                    <a:pt x="102" y="51"/>
                  </a:lnTo>
                  <a:lnTo>
                    <a:pt x="121" y="42"/>
                  </a:lnTo>
                  <a:lnTo>
                    <a:pt x="140" y="36"/>
                  </a:lnTo>
                  <a:lnTo>
                    <a:pt x="160" y="28"/>
                  </a:lnTo>
                  <a:lnTo>
                    <a:pt x="179" y="23"/>
                  </a:lnTo>
                  <a:lnTo>
                    <a:pt x="200" y="19"/>
                  </a:lnTo>
                  <a:lnTo>
                    <a:pt x="219" y="15"/>
                  </a:lnTo>
                  <a:lnTo>
                    <a:pt x="240" y="13"/>
                  </a:lnTo>
                  <a:lnTo>
                    <a:pt x="261" y="11"/>
                  </a:lnTo>
                  <a:lnTo>
                    <a:pt x="282" y="9"/>
                  </a:lnTo>
                  <a:lnTo>
                    <a:pt x="304" y="11"/>
                  </a:lnTo>
                  <a:lnTo>
                    <a:pt x="325" y="13"/>
                  </a:lnTo>
                  <a:lnTo>
                    <a:pt x="346" y="15"/>
                  </a:lnTo>
                  <a:lnTo>
                    <a:pt x="348" y="15"/>
                  </a:lnTo>
                  <a:lnTo>
                    <a:pt x="350" y="15"/>
                  </a:lnTo>
                  <a:lnTo>
                    <a:pt x="350" y="13"/>
                  </a:lnTo>
                  <a:lnTo>
                    <a:pt x="350" y="11"/>
                  </a:lnTo>
                  <a:lnTo>
                    <a:pt x="350" y="11"/>
                  </a:lnTo>
                  <a:lnTo>
                    <a:pt x="350" y="9"/>
                  </a:lnTo>
                  <a:lnTo>
                    <a:pt x="350" y="7"/>
                  </a:lnTo>
                  <a:lnTo>
                    <a:pt x="350" y="7"/>
                  </a:lnTo>
                  <a:lnTo>
                    <a:pt x="350" y="5"/>
                  </a:lnTo>
                  <a:close/>
                  <a:moveTo>
                    <a:pt x="2" y="746"/>
                  </a:moveTo>
                  <a:lnTo>
                    <a:pt x="12" y="754"/>
                  </a:lnTo>
                  <a:lnTo>
                    <a:pt x="29" y="767"/>
                  </a:lnTo>
                  <a:lnTo>
                    <a:pt x="44" y="779"/>
                  </a:lnTo>
                  <a:lnTo>
                    <a:pt x="62" y="790"/>
                  </a:lnTo>
                  <a:lnTo>
                    <a:pt x="81" y="800"/>
                  </a:lnTo>
                  <a:lnTo>
                    <a:pt x="98" y="809"/>
                  </a:lnTo>
                  <a:lnTo>
                    <a:pt x="117" y="819"/>
                  </a:lnTo>
                  <a:lnTo>
                    <a:pt x="137" y="827"/>
                  </a:lnTo>
                  <a:lnTo>
                    <a:pt x="156" y="832"/>
                  </a:lnTo>
                  <a:lnTo>
                    <a:pt x="177" y="838"/>
                  </a:lnTo>
                  <a:lnTo>
                    <a:pt x="198" y="844"/>
                  </a:lnTo>
                  <a:lnTo>
                    <a:pt x="219" y="848"/>
                  </a:lnTo>
                  <a:lnTo>
                    <a:pt x="240" y="850"/>
                  </a:lnTo>
                  <a:lnTo>
                    <a:pt x="261" y="851"/>
                  </a:lnTo>
                  <a:lnTo>
                    <a:pt x="282" y="851"/>
                  </a:lnTo>
                  <a:lnTo>
                    <a:pt x="305" y="851"/>
                  </a:lnTo>
                  <a:lnTo>
                    <a:pt x="327" y="850"/>
                  </a:lnTo>
                  <a:lnTo>
                    <a:pt x="348" y="848"/>
                  </a:lnTo>
                  <a:lnTo>
                    <a:pt x="353" y="846"/>
                  </a:lnTo>
                  <a:lnTo>
                    <a:pt x="352" y="846"/>
                  </a:lnTo>
                  <a:lnTo>
                    <a:pt x="352" y="844"/>
                  </a:lnTo>
                  <a:lnTo>
                    <a:pt x="352" y="842"/>
                  </a:lnTo>
                  <a:lnTo>
                    <a:pt x="352" y="842"/>
                  </a:lnTo>
                  <a:lnTo>
                    <a:pt x="352" y="840"/>
                  </a:lnTo>
                  <a:lnTo>
                    <a:pt x="352" y="838"/>
                  </a:lnTo>
                  <a:lnTo>
                    <a:pt x="352" y="838"/>
                  </a:lnTo>
                  <a:lnTo>
                    <a:pt x="352" y="836"/>
                  </a:lnTo>
                  <a:lnTo>
                    <a:pt x="346" y="836"/>
                  </a:lnTo>
                  <a:lnTo>
                    <a:pt x="325" y="840"/>
                  </a:lnTo>
                  <a:lnTo>
                    <a:pt x="304" y="842"/>
                  </a:lnTo>
                  <a:lnTo>
                    <a:pt x="282" y="842"/>
                  </a:lnTo>
                  <a:lnTo>
                    <a:pt x="261" y="842"/>
                  </a:lnTo>
                  <a:lnTo>
                    <a:pt x="240" y="840"/>
                  </a:lnTo>
                  <a:lnTo>
                    <a:pt x="219" y="836"/>
                  </a:lnTo>
                  <a:lnTo>
                    <a:pt x="200" y="832"/>
                  </a:lnTo>
                  <a:lnTo>
                    <a:pt x="179" y="828"/>
                  </a:lnTo>
                  <a:lnTo>
                    <a:pt x="160" y="823"/>
                  </a:lnTo>
                  <a:lnTo>
                    <a:pt x="140" y="817"/>
                  </a:lnTo>
                  <a:lnTo>
                    <a:pt x="121" y="809"/>
                  </a:lnTo>
                  <a:lnTo>
                    <a:pt x="102" y="800"/>
                  </a:lnTo>
                  <a:lnTo>
                    <a:pt x="85" y="792"/>
                  </a:lnTo>
                  <a:lnTo>
                    <a:pt x="67" y="780"/>
                  </a:lnTo>
                  <a:lnTo>
                    <a:pt x="50" y="771"/>
                  </a:lnTo>
                  <a:lnTo>
                    <a:pt x="19" y="746"/>
                  </a:lnTo>
                  <a:lnTo>
                    <a:pt x="0" y="731"/>
                  </a:lnTo>
                  <a:lnTo>
                    <a:pt x="0" y="733"/>
                  </a:lnTo>
                  <a:lnTo>
                    <a:pt x="0" y="734"/>
                  </a:lnTo>
                  <a:lnTo>
                    <a:pt x="0" y="736"/>
                  </a:lnTo>
                  <a:lnTo>
                    <a:pt x="0" y="738"/>
                  </a:lnTo>
                  <a:lnTo>
                    <a:pt x="2" y="740"/>
                  </a:lnTo>
                  <a:lnTo>
                    <a:pt x="2" y="742"/>
                  </a:lnTo>
                  <a:lnTo>
                    <a:pt x="2" y="744"/>
                  </a:lnTo>
                  <a:lnTo>
                    <a:pt x="2" y="746"/>
                  </a:lnTo>
                  <a:close/>
                </a:path>
              </a:pathLst>
            </a:custGeom>
            <a:solidFill>
              <a:srgbClr val="ad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Freeform 183"/>
            <p:cNvSpPr/>
            <p:nvPr/>
          </p:nvSpPr>
          <p:spPr>
            <a:xfrm>
              <a:off x="1940040" y="2490480"/>
              <a:ext cx="558720" cy="133524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352" h="841">
                  <a:moveTo>
                    <a:pt x="350" y="6"/>
                  </a:moveTo>
                  <a:lnTo>
                    <a:pt x="348" y="4"/>
                  </a:lnTo>
                  <a:lnTo>
                    <a:pt x="327" y="2"/>
                  </a:lnTo>
                  <a:lnTo>
                    <a:pt x="305" y="0"/>
                  </a:lnTo>
                  <a:lnTo>
                    <a:pt x="282" y="0"/>
                  </a:lnTo>
                  <a:lnTo>
                    <a:pt x="261" y="0"/>
                  </a:lnTo>
                  <a:lnTo>
                    <a:pt x="240" y="2"/>
                  </a:lnTo>
                  <a:lnTo>
                    <a:pt x="219" y="4"/>
                  </a:lnTo>
                  <a:lnTo>
                    <a:pt x="198" y="8"/>
                  </a:lnTo>
                  <a:lnTo>
                    <a:pt x="179" y="14"/>
                  </a:lnTo>
                  <a:lnTo>
                    <a:pt x="158" y="20"/>
                  </a:lnTo>
                  <a:lnTo>
                    <a:pt x="138" y="25"/>
                  </a:lnTo>
                  <a:lnTo>
                    <a:pt x="119" y="33"/>
                  </a:lnTo>
                  <a:lnTo>
                    <a:pt x="100" y="41"/>
                  </a:lnTo>
                  <a:lnTo>
                    <a:pt x="83" y="50"/>
                  </a:lnTo>
                  <a:lnTo>
                    <a:pt x="79" y="54"/>
                  </a:lnTo>
                  <a:lnTo>
                    <a:pt x="77" y="54"/>
                  </a:lnTo>
                  <a:lnTo>
                    <a:pt x="77" y="56"/>
                  </a:lnTo>
                  <a:lnTo>
                    <a:pt x="77" y="58"/>
                  </a:lnTo>
                  <a:lnTo>
                    <a:pt x="77" y="60"/>
                  </a:lnTo>
                  <a:lnTo>
                    <a:pt x="75" y="62"/>
                  </a:lnTo>
                  <a:lnTo>
                    <a:pt x="75" y="64"/>
                  </a:lnTo>
                  <a:lnTo>
                    <a:pt x="75" y="66"/>
                  </a:lnTo>
                  <a:lnTo>
                    <a:pt x="75" y="67"/>
                  </a:lnTo>
                  <a:lnTo>
                    <a:pt x="87" y="60"/>
                  </a:lnTo>
                  <a:lnTo>
                    <a:pt x="106" y="50"/>
                  </a:lnTo>
                  <a:lnTo>
                    <a:pt x="123" y="43"/>
                  </a:lnTo>
                  <a:lnTo>
                    <a:pt x="142" y="35"/>
                  </a:lnTo>
                  <a:lnTo>
                    <a:pt x="161" y="29"/>
                  </a:lnTo>
                  <a:lnTo>
                    <a:pt x="181" y="23"/>
                  </a:lnTo>
                  <a:lnTo>
                    <a:pt x="200" y="18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61" y="10"/>
                  </a:lnTo>
                  <a:lnTo>
                    <a:pt x="282" y="10"/>
                  </a:lnTo>
                  <a:lnTo>
                    <a:pt x="304" y="10"/>
                  </a:lnTo>
                  <a:lnTo>
                    <a:pt x="325" y="12"/>
                  </a:lnTo>
                  <a:lnTo>
                    <a:pt x="346" y="16"/>
                  </a:lnTo>
                  <a:lnTo>
                    <a:pt x="348" y="16"/>
                  </a:lnTo>
                  <a:lnTo>
                    <a:pt x="348" y="14"/>
                  </a:lnTo>
                  <a:lnTo>
                    <a:pt x="348" y="12"/>
                  </a:lnTo>
                  <a:lnTo>
                    <a:pt x="348" y="12"/>
                  </a:lnTo>
                  <a:lnTo>
                    <a:pt x="348" y="10"/>
                  </a:lnTo>
                  <a:lnTo>
                    <a:pt x="350" y="8"/>
                  </a:lnTo>
                  <a:lnTo>
                    <a:pt x="350" y="8"/>
                  </a:lnTo>
                  <a:lnTo>
                    <a:pt x="350" y="6"/>
                  </a:lnTo>
                  <a:lnTo>
                    <a:pt x="350" y="6"/>
                  </a:lnTo>
                  <a:close/>
                  <a:moveTo>
                    <a:pt x="2" y="733"/>
                  </a:moveTo>
                  <a:lnTo>
                    <a:pt x="16" y="745"/>
                  </a:lnTo>
                  <a:lnTo>
                    <a:pt x="31" y="758"/>
                  </a:lnTo>
                  <a:lnTo>
                    <a:pt x="48" y="770"/>
                  </a:lnTo>
                  <a:lnTo>
                    <a:pt x="66" y="781"/>
                  </a:lnTo>
                  <a:lnTo>
                    <a:pt x="83" y="791"/>
                  </a:lnTo>
                  <a:lnTo>
                    <a:pt x="100" y="800"/>
                  </a:lnTo>
                  <a:lnTo>
                    <a:pt x="119" y="808"/>
                  </a:lnTo>
                  <a:lnTo>
                    <a:pt x="138" y="816"/>
                  </a:lnTo>
                  <a:lnTo>
                    <a:pt x="158" y="823"/>
                  </a:lnTo>
                  <a:lnTo>
                    <a:pt x="179" y="829"/>
                  </a:lnTo>
                  <a:lnTo>
                    <a:pt x="198" y="833"/>
                  </a:lnTo>
                  <a:lnTo>
                    <a:pt x="219" y="837"/>
                  </a:lnTo>
                  <a:lnTo>
                    <a:pt x="240" y="839"/>
                  </a:lnTo>
                  <a:lnTo>
                    <a:pt x="261" y="841"/>
                  </a:lnTo>
                  <a:lnTo>
                    <a:pt x="282" y="841"/>
                  </a:lnTo>
                  <a:lnTo>
                    <a:pt x="305" y="841"/>
                  </a:lnTo>
                  <a:lnTo>
                    <a:pt x="327" y="839"/>
                  </a:lnTo>
                  <a:lnTo>
                    <a:pt x="348" y="837"/>
                  </a:lnTo>
                  <a:lnTo>
                    <a:pt x="352" y="837"/>
                  </a:lnTo>
                  <a:lnTo>
                    <a:pt x="352" y="835"/>
                  </a:lnTo>
                  <a:lnTo>
                    <a:pt x="352" y="833"/>
                  </a:lnTo>
                  <a:lnTo>
                    <a:pt x="352" y="833"/>
                  </a:lnTo>
                  <a:lnTo>
                    <a:pt x="352" y="831"/>
                  </a:lnTo>
                  <a:lnTo>
                    <a:pt x="350" y="829"/>
                  </a:lnTo>
                  <a:lnTo>
                    <a:pt x="350" y="829"/>
                  </a:lnTo>
                  <a:lnTo>
                    <a:pt x="350" y="827"/>
                  </a:lnTo>
                  <a:lnTo>
                    <a:pt x="350" y="825"/>
                  </a:lnTo>
                  <a:lnTo>
                    <a:pt x="346" y="827"/>
                  </a:lnTo>
                  <a:lnTo>
                    <a:pt x="325" y="829"/>
                  </a:lnTo>
                  <a:lnTo>
                    <a:pt x="304" y="831"/>
                  </a:lnTo>
                  <a:lnTo>
                    <a:pt x="282" y="831"/>
                  </a:lnTo>
                  <a:lnTo>
                    <a:pt x="261" y="831"/>
                  </a:lnTo>
                  <a:lnTo>
                    <a:pt x="240" y="829"/>
                  </a:lnTo>
                  <a:lnTo>
                    <a:pt x="221" y="827"/>
                  </a:lnTo>
                  <a:lnTo>
                    <a:pt x="200" y="823"/>
                  </a:lnTo>
                  <a:lnTo>
                    <a:pt x="181" y="818"/>
                  </a:lnTo>
                  <a:lnTo>
                    <a:pt x="161" y="814"/>
                  </a:lnTo>
                  <a:lnTo>
                    <a:pt x="142" y="806"/>
                  </a:lnTo>
                  <a:lnTo>
                    <a:pt x="123" y="798"/>
                  </a:lnTo>
                  <a:lnTo>
                    <a:pt x="106" y="791"/>
                  </a:lnTo>
                  <a:lnTo>
                    <a:pt x="87" y="781"/>
                  </a:lnTo>
                  <a:lnTo>
                    <a:pt x="69" y="772"/>
                  </a:lnTo>
                  <a:lnTo>
                    <a:pt x="54" y="762"/>
                  </a:lnTo>
                  <a:lnTo>
                    <a:pt x="21" y="737"/>
                  </a:lnTo>
                  <a:lnTo>
                    <a:pt x="0" y="718"/>
                  </a:lnTo>
                  <a:lnTo>
                    <a:pt x="0" y="720"/>
                  </a:lnTo>
                  <a:lnTo>
                    <a:pt x="0" y="722"/>
                  </a:lnTo>
                  <a:lnTo>
                    <a:pt x="0" y="724"/>
                  </a:lnTo>
                  <a:lnTo>
                    <a:pt x="0" y="726"/>
                  </a:lnTo>
                  <a:lnTo>
                    <a:pt x="0" y="728"/>
                  </a:lnTo>
                  <a:lnTo>
                    <a:pt x="0" y="729"/>
                  </a:lnTo>
                  <a:lnTo>
                    <a:pt x="0" y="731"/>
                  </a:lnTo>
                  <a:lnTo>
                    <a:pt x="2" y="733"/>
                  </a:lnTo>
                  <a:close/>
                </a:path>
              </a:pathLst>
            </a:custGeom>
            <a:solidFill>
              <a:srgbClr val="a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184"/>
            <p:cNvSpPr/>
            <p:nvPr/>
          </p:nvSpPr>
          <p:spPr>
            <a:xfrm>
              <a:off x="1940040" y="2496960"/>
              <a:ext cx="558720" cy="132228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322280"/>
                <a:gd name="textAreaBottom" fmla="*/ 1322640 h 1322280"/>
              </a:gdLst>
              <a:ahLst/>
              <a:rect l="textAreaLeft" t="textAreaTop" r="textAreaRight" b="textAreaBottom"/>
              <a:pathLst>
                <a:path w="352" h="833">
                  <a:moveTo>
                    <a:pt x="348" y="6"/>
                  </a:moveTo>
                  <a:lnTo>
                    <a:pt x="346" y="6"/>
                  </a:lnTo>
                  <a:lnTo>
                    <a:pt x="325" y="4"/>
                  </a:lnTo>
                  <a:lnTo>
                    <a:pt x="304" y="2"/>
                  </a:lnTo>
                  <a:lnTo>
                    <a:pt x="282" y="0"/>
                  </a:lnTo>
                  <a:lnTo>
                    <a:pt x="261" y="2"/>
                  </a:lnTo>
                  <a:lnTo>
                    <a:pt x="240" y="4"/>
                  </a:lnTo>
                  <a:lnTo>
                    <a:pt x="219" y="6"/>
                  </a:lnTo>
                  <a:lnTo>
                    <a:pt x="200" y="10"/>
                  </a:lnTo>
                  <a:lnTo>
                    <a:pt x="179" y="14"/>
                  </a:lnTo>
                  <a:lnTo>
                    <a:pt x="160" y="19"/>
                  </a:lnTo>
                  <a:lnTo>
                    <a:pt x="140" y="27"/>
                  </a:lnTo>
                  <a:lnTo>
                    <a:pt x="121" y="33"/>
                  </a:lnTo>
                  <a:lnTo>
                    <a:pt x="102" y="42"/>
                  </a:lnTo>
                  <a:lnTo>
                    <a:pt x="85" y="52"/>
                  </a:lnTo>
                  <a:lnTo>
                    <a:pt x="77" y="56"/>
                  </a:lnTo>
                  <a:lnTo>
                    <a:pt x="75" y="58"/>
                  </a:lnTo>
                  <a:lnTo>
                    <a:pt x="75" y="60"/>
                  </a:lnTo>
                  <a:lnTo>
                    <a:pt x="75" y="62"/>
                  </a:lnTo>
                  <a:lnTo>
                    <a:pt x="73" y="63"/>
                  </a:lnTo>
                  <a:lnTo>
                    <a:pt x="73" y="65"/>
                  </a:lnTo>
                  <a:lnTo>
                    <a:pt x="73" y="67"/>
                  </a:lnTo>
                  <a:lnTo>
                    <a:pt x="73" y="69"/>
                  </a:lnTo>
                  <a:lnTo>
                    <a:pt x="71" y="71"/>
                  </a:lnTo>
                  <a:lnTo>
                    <a:pt x="90" y="60"/>
                  </a:lnTo>
                  <a:lnTo>
                    <a:pt x="125" y="42"/>
                  </a:lnTo>
                  <a:lnTo>
                    <a:pt x="144" y="37"/>
                  </a:lnTo>
                  <a:lnTo>
                    <a:pt x="161" y="29"/>
                  </a:lnTo>
                  <a:lnTo>
                    <a:pt x="183" y="23"/>
                  </a:lnTo>
                  <a:lnTo>
                    <a:pt x="202" y="19"/>
                  </a:lnTo>
                  <a:lnTo>
                    <a:pt x="221" y="16"/>
                  </a:lnTo>
                  <a:lnTo>
                    <a:pt x="242" y="14"/>
                  </a:lnTo>
                  <a:lnTo>
                    <a:pt x="261" y="12"/>
                  </a:lnTo>
                  <a:lnTo>
                    <a:pt x="282" y="12"/>
                  </a:lnTo>
                  <a:lnTo>
                    <a:pt x="304" y="12"/>
                  </a:lnTo>
                  <a:lnTo>
                    <a:pt x="325" y="14"/>
                  </a:lnTo>
                  <a:lnTo>
                    <a:pt x="344" y="16"/>
                  </a:lnTo>
                  <a:lnTo>
                    <a:pt x="346" y="16"/>
                  </a:lnTo>
                  <a:lnTo>
                    <a:pt x="346" y="16"/>
                  </a:lnTo>
                  <a:lnTo>
                    <a:pt x="348" y="14"/>
                  </a:lnTo>
                  <a:lnTo>
                    <a:pt x="348" y="12"/>
                  </a:lnTo>
                  <a:lnTo>
                    <a:pt x="348" y="12"/>
                  </a:lnTo>
                  <a:lnTo>
                    <a:pt x="348" y="10"/>
                  </a:lnTo>
                  <a:lnTo>
                    <a:pt x="348" y="8"/>
                  </a:lnTo>
                  <a:lnTo>
                    <a:pt x="348" y="8"/>
                  </a:lnTo>
                  <a:lnTo>
                    <a:pt x="348" y="6"/>
                  </a:lnTo>
                  <a:close/>
                  <a:moveTo>
                    <a:pt x="0" y="722"/>
                  </a:moveTo>
                  <a:lnTo>
                    <a:pt x="19" y="737"/>
                  </a:lnTo>
                  <a:lnTo>
                    <a:pt x="50" y="762"/>
                  </a:lnTo>
                  <a:lnTo>
                    <a:pt x="67" y="771"/>
                  </a:lnTo>
                  <a:lnTo>
                    <a:pt x="85" y="783"/>
                  </a:lnTo>
                  <a:lnTo>
                    <a:pt x="102" y="791"/>
                  </a:lnTo>
                  <a:lnTo>
                    <a:pt x="121" y="800"/>
                  </a:lnTo>
                  <a:lnTo>
                    <a:pt x="140" y="808"/>
                  </a:lnTo>
                  <a:lnTo>
                    <a:pt x="160" y="814"/>
                  </a:lnTo>
                  <a:lnTo>
                    <a:pt x="179" y="819"/>
                  </a:lnTo>
                  <a:lnTo>
                    <a:pt x="200" y="823"/>
                  </a:lnTo>
                  <a:lnTo>
                    <a:pt x="219" y="827"/>
                  </a:lnTo>
                  <a:lnTo>
                    <a:pt x="240" y="831"/>
                  </a:lnTo>
                  <a:lnTo>
                    <a:pt x="261" y="833"/>
                  </a:lnTo>
                  <a:lnTo>
                    <a:pt x="282" y="833"/>
                  </a:lnTo>
                  <a:lnTo>
                    <a:pt x="304" y="833"/>
                  </a:lnTo>
                  <a:lnTo>
                    <a:pt x="325" y="831"/>
                  </a:lnTo>
                  <a:lnTo>
                    <a:pt x="346" y="827"/>
                  </a:lnTo>
                  <a:lnTo>
                    <a:pt x="352" y="827"/>
                  </a:lnTo>
                  <a:lnTo>
                    <a:pt x="350" y="825"/>
                  </a:lnTo>
                  <a:lnTo>
                    <a:pt x="350" y="825"/>
                  </a:lnTo>
                  <a:lnTo>
                    <a:pt x="350" y="823"/>
                  </a:lnTo>
                  <a:lnTo>
                    <a:pt x="350" y="821"/>
                  </a:lnTo>
                  <a:lnTo>
                    <a:pt x="350" y="821"/>
                  </a:lnTo>
                  <a:lnTo>
                    <a:pt x="350" y="819"/>
                  </a:lnTo>
                  <a:lnTo>
                    <a:pt x="350" y="818"/>
                  </a:lnTo>
                  <a:lnTo>
                    <a:pt x="350" y="818"/>
                  </a:lnTo>
                  <a:lnTo>
                    <a:pt x="344" y="818"/>
                  </a:lnTo>
                  <a:lnTo>
                    <a:pt x="325" y="819"/>
                  </a:lnTo>
                  <a:lnTo>
                    <a:pt x="304" y="821"/>
                  </a:lnTo>
                  <a:lnTo>
                    <a:pt x="282" y="821"/>
                  </a:lnTo>
                  <a:lnTo>
                    <a:pt x="261" y="821"/>
                  </a:lnTo>
                  <a:lnTo>
                    <a:pt x="242" y="819"/>
                  </a:lnTo>
                  <a:lnTo>
                    <a:pt x="221" y="818"/>
                  </a:lnTo>
                  <a:lnTo>
                    <a:pt x="202" y="814"/>
                  </a:lnTo>
                  <a:lnTo>
                    <a:pt x="183" y="810"/>
                  </a:lnTo>
                  <a:lnTo>
                    <a:pt x="161" y="804"/>
                  </a:lnTo>
                  <a:lnTo>
                    <a:pt x="144" y="798"/>
                  </a:lnTo>
                  <a:lnTo>
                    <a:pt x="125" y="791"/>
                  </a:lnTo>
                  <a:lnTo>
                    <a:pt x="90" y="773"/>
                  </a:lnTo>
                  <a:lnTo>
                    <a:pt x="56" y="752"/>
                  </a:lnTo>
                  <a:lnTo>
                    <a:pt x="25" y="729"/>
                  </a:lnTo>
                  <a:lnTo>
                    <a:pt x="0" y="706"/>
                  </a:lnTo>
                  <a:lnTo>
                    <a:pt x="0" y="708"/>
                  </a:lnTo>
                  <a:lnTo>
                    <a:pt x="0" y="710"/>
                  </a:lnTo>
                  <a:lnTo>
                    <a:pt x="0" y="712"/>
                  </a:lnTo>
                  <a:lnTo>
                    <a:pt x="0" y="714"/>
                  </a:lnTo>
                  <a:lnTo>
                    <a:pt x="0" y="716"/>
                  </a:lnTo>
                  <a:lnTo>
                    <a:pt x="0" y="718"/>
                  </a:lnTo>
                  <a:lnTo>
                    <a:pt x="0" y="720"/>
                  </a:lnTo>
                  <a:lnTo>
                    <a:pt x="0" y="722"/>
                  </a:lnTo>
                  <a:close/>
                </a:path>
              </a:pathLst>
            </a:custGeom>
            <a:solidFill>
              <a:srgbClr val="a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Freeform 185"/>
            <p:cNvSpPr/>
            <p:nvPr/>
          </p:nvSpPr>
          <p:spPr>
            <a:xfrm>
              <a:off x="1936800" y="2506320"/>
              <a:ext cx="558720" cy="13035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303560"/>
                <a:gd name="textAreaBottom" fmla="*/ 1303560 h 1303560"/>
              </a:gdLst>
              <a:ahLst/>
              <a:rect l="textAreaLeft" t="textAreaTop" r="textAreaRight" b="textAreaBottom"/>
              <a:pathLst>
                <a:path w="352" h="821">
                  <a:moveTo>
                    <a:pt x="350" y="6"/>
                  </a:moveTo>
                  <a:lnTo>
                    <a:pt x="348" y="6"/>
                  </a:lnTo>
                  <a:lnTo>
                    <a:pt x="327" y="2"/>
                  </a:lnTo>
                  <a:lnTo>
                    <a:pt x="306" y="0"/>
                  </a:lnTo>
                  <a:lnTo>
                    <a:pt x="284" y="0"/>
                  </a:lnTo>
                  <a:lnTo>
                    <a:pt x="263" y="0"/>
                  </a:lnTo>
                  <a:lnTo>
                    <a:pt x="242" y="2"/>
                  </a:lnTo>
                  <a:lnTo>
                    <a:pt x="223" y="6"/>
                  </a:lnTo>
                  <a:lnTo>
                    <a:pt x="202" y="8"/>
                  </a:lnTo>
                  <a:lnTo>
                    <a:pt x="183" y="13"/>
                  </a:lnTo>
                  <a:lnTo>
                    <a:pt x="163" y="19"/>
                  </a:lnTo>
                  <a:lnTo>
                    <a:pt x="144" y="25"/>
                  </a:lnTo>
                  <a:lnTo>
                    <a:pt x="125" y="33"/>
                  </a:lnTo>
                  <a:lnTo>
                    <a:pt x="108" y="40"/>
                  </a:lnTo>
                  <a:lnTo>
                    <a:pt x="89" y="50"/>
                  </a:lnTo>
                  <a:lnTo>
                    <a:pt x="77" y="57"/>
                  </a:lnTo>
                  <a:lnTo>
                    <a:pt x="75" y="59"/>
                  </a:lnTo>
                  <a:lnTo>
                    <a:pt x="75" y="61"/>
                  </a:lnTo>
                  <a:lnTo>
                    <a:pt x="75" y="63"/>
                  </a:lnTo>
                  <a:lnTo>
                    <a:pt x="73" y="65"/>
                  </a:lnTo>
                  <a:lnTo>
                    <a:pt x="73" y="67"/>
                  </a:lnTo>
                  <a:lnTo>
                    <a:pt x="73" y="69"/>
                  </a:lnTo>
                  <a:lnTo>
                    <a:pt x="73" y="71"/>
                  </a:lnTo>
                  <a:lnTo>
                    <a:pt x="71" y="73"/>
                  </a:lnTo>
                  <a:lnTo>
                    <a:pt x="94" y="59"/>
                  </a:lnTo>
                  <a:lnTo>
                    <a:pt x="129" y="42"/>
                  </a:lnTo>
                  <a:lnTo>
                    <a:pt x="148" y="34"/>
                  </a:lnTo>
                  <a:lnTo>
                    <a:pt x="165" y="29"/>
                  </a:lnTo>
                  <a:lnTo>
                    <a:pt x="185" y="23"/>
                  </a:lnTo>
                  <a:lnTo>
                    <a:pt x="204" y="19"/>
                  </a:lnTo>
                  <a:lnTo>
                    <a:pt x="225" y="15"/>
                  </a:lnTo>
                  <a:lnTo>
                    <a:pt x="244" y="13"/>
                  </a:lnTo>
                  <a:lnTo>
                    <a:pt x="265" y="11"/>
                  </a:lnTo>
                  <a:lnTo>
                    <a:pt x="284" y="10"/>
                  </a:lnTo>
                  <a:lnTo>
                    <a:pt x="306" y="11"/>
                  </a:lnTo>
                  <a:lnTo>
                    <a:pt x="327" y="13"/>
                  </a:lnTo>
                  <a:lnTo>
                    <a:pt x="346" y="15"/>
                  </a:lnTo>
                  <a:lnTo>
                    <a:pt x="348" y="15"/>
                  </a:lnTo>
                  <a:lnTo>
                    <a:pt x="348" y="13"/>
                  </a:lnTo>
                  <a:lnTo>
                    <a:pt x="348" y="13"/>
                  </a:lnTo>
                  <a:lnTo>
                    <a:pt x="348" y="11"/>
                  </a:lnTo>
                  <a:lnTo>
                    <a:pt x="348" y="10"/>
                  </a:lnTo>
                  <a:lnTo>
                    <a:pt x="348" y="10"/>
                  </a:lnTo>
                  <a:lnTo>
                    <a:pt x="350" y="8"/>
                  </a:lnTo>
                  <a:lnTo>
                    <a:pt x="350" y="6"/>
                  </a:lnTo>
                  <a:lnTo>
                    <a:pt x="350" y="6"/>
                  </a:lnTo>
                  <a:close/>
                  <a:moveTo>
                    <a:pt x="2" y="708"/>
                  </a:moveTo>
                  <a:lnTo>
                    <a:pt x="23" y="727"/>
                  </a:lnTo>
                  <a:lnTo>
                    <a:pt x="56" y="752"/>
                  </a:lnTo>
                  <a:lnTo>
                    <a:pt x="71" y="762"/>
                  </a:lnTo>
                  <a:lnTo>
                    <a:pt x="89" y="771"/>
                  </a:lnTo>
                  <a:lnTo>
                    <a:pt x="108" y="781"/>
                  </a:lnTo>
                  <a:lnTo>
                    <a:pt x="125" y="788"/>
                  </a:lnTo>
                  <a:lnTo>
                    <a:pt x="144" y="796"/>
                  </a:lnTo>
                  <a:lnTo>
                    <a:pt x="163" y="804"/>
                  </a:lnTo>
                  <a:lnTo>
                    <a:pt x="183" y="808"/>
                  </a:lnTo>
                  <a:lnTo>
                    <a:pt x="202" y="813"/>
                  </a:lnTo>
                  <a:lnTo>
                    <a:pt x="223" y="817"/>
                  </a:lnTo>
                  <a:lnTo>
                    <a:pt x="242" y="819"/>
                  </a:lnTo>
                  <a:lnTo>
                    <a:pt x="263" y="821"/>
                  </a:lnTo>
                  <a:lnTo>
                    <a:pt x="284" y="821"/>
                  </a:lnTo>
                  <a:lnTo>
                    <a:pt x="306" y="821"/>
                  </a:lnTo>
                  <a:lnTo>
                    <a:pt x="327" y="819"/>
                  </a:lnTo>
                  <a:lnTo>
                    <a:pt x="348" y="817"/>
                  </a:lnTo>
                  <a:lnTo>
                    <a:pt x="352" y="815"/>
                  </a:lnTo>
                  <a:lnTo>
                    <a:pt x="352" y="815"/>
                  </a:lnTo>
                  <a:lnTo>
                    <a:pt x="352" y="813"/>
                  </a:lnTo>
                  <a:lnTo>
                    <a:pt x="352" y="812"/>
                  </a:lnTo>
                  <a:lnTo>
                    <a:pt x="352" y="812"/>
                  </a:lnTo>
                  <a:lnTo>
                    <a:pt x="350" y="810"/>
                  </a:lnTo>
                  <a:lnTo>
                    <a:pt x="350" y="808"/>
                  </a:lnTo>
                  <a:lnTo>
                    <a:pt x="350" y="808"/>
                  </a:lnTo>
                  <a:lnTo>
                    <a:pt x="350" y="806"/>
                  </a:lnTo>
                  <a:lnTo>
                    <a:pt x="346" y="806"/>
                  </a:lnTo>
                  <a:lnTo>
                    <a:pt x="327" y="810"/>
                  </a:lnTo>
                  <a:lnTo>
                    <a:pt x="306" y="812"/>
                  </a:lnTo>
                  <a:lnTo>
                    <a:pt x="284" y="812"/>
                  </a:lnTo>
                  <a:lnTo>
                    <a:pt x="265" y="812"/>
                  </a:lnTo>
                  <a:lnTo>
                    <a:pt x="244" y="810"/>
                  </a:lnTo>
                  <a:lnTo>
                    <a:pt x="225" y="806"/>
                  </a:lnTo>
                  <a:lnTo>
                    <a:pt x="204" y="804"/>
                  </a:lnTo>
                  <a:lnTo>
                    <a:pt x="185" y="798"/>
                  </a:lnTo>
                  <a:lnTo>
                    <a:pt x="165" y="792"/>
                  </a:lnTo>
                  <a:lnTo>
                    <a:pt x="148" y="787"/>
                  </a:lnTo>
                  <a:lnTo>
                    <a:pt x="129" y="779"/>
                  </a:lnTo>
                  <a:lnTo>
                    <a:pt x="94" y="764"/>
                  </a:lnTo>
                  <a:lnTo>
                    <a:pt x="62" y="742"/>
                  </a:lnTo>
                  <a:lnTo>
                    <a:pt x="31" y="719"/>
                  </a:lnTo>
                  <a:lnTo>
                    <a:pt x="2" y="694"/>
                  </a:lnTo>
                  <a:lnTo>
                    <a:pt x="0" y="693"/>
                  </a:lnTo>
                  <a:lnTo>
                    <a:pt x="2" y="694"/>
                  </a:lnTo>
                  <a:lnTo>
                    <a:pt x="2" y="696"/>
                  </a:lnTo>
                  <a:lnTo>
                    <a:pt x="2" y="698"/>
                  </a:lnTo>
                  <a:lnTo>
                    <a:pt x="2" y="700"/>
                  </a:lnTo>
                  <a:lnTo>
                    <a:pt x="2" y="702"/>
                  </a:lnTo>
                  <a:lnTo>
                    <a:pt x="2" y="704"/>
                  </a:lnTo>
                  <a:lnTo>
                    <a:pt x="2" y="706"/>
                  </a:lnTo>
                  <a:lnTo>
                    <a:pt x="2" y="708"/>
                  </a:lnTo>
                  <a:close/>
                </a:path>
              </a:pathLst>
            </a:custGeom>
            <a:solidFill>
              <a:srgbClr val="b0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186"/>
            <p:cNvSpPr/>
            <p:nvPr/>
          </p:nvSpPr>
          <p:spPr>
            <a:xfrm>
              <a:off x="1936800" y="2516040"/>
              <a:ext cx="558720" cy="12841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352" h="809">
                  <a:moveTo>
                    <a:pt x="348" y="4"/>
                  </a:moveTo>
                  <a:lnTo>
                    <a:pt x="346" y="4"/>
                  </a:lnTo>
                  <a:lnTo>
                    <a:pt x="327" y="2"/>
                  </a:lnTo>
                  <a:lnTo>
                    <a:pt x="306" y="0"/>
                  </a:lnTo>
                  <a:lnTo>
                    <a:pt x="284" y="0"/>
                  </a:lnTo>
                  <a:lnTo>
                    <a:pt x="263" y="0"/>
                  </a:lnTo>
                  <a:lnTo>
                    <a:pt x="244" y="2"/>
                  </a:lnTo>
                  <a:lnTo>
                    <a:pt x="223" y="4"/>
                  </a:lnTo>
                  <a:lnTo>
                    <a:pt x="204" y="7"/>
                  </a:lnTo>
                  <a:lnTo>
                    <a:pt x="185" y="11"/>
                  </a:lnTo>
                  <a:lnTo>
                    <a:pt x="163" y="17"/>
                  </a:lnTo>
                  <a:lnTo>
                    <a:pt x="146" y="25"/>
                  </a:lnTo>
                  <a:lnTo>
                    <a:pt x="127" y="30"/>
                  </a:lnTo>
                  <a:lnTo>
                    <a:pt x="92" y="48"/>
                  </a:lnTo>
                  <a:lnTo>
                    <a:pt x="73" y="59"/>
                  </a:lnTo>
                  <a:lnTo>
                    <a:pt x="73" y="61"/>
                  </a:lnTo>
                  <a:lnTo>
                    <a:pt x="73" y="63"/>
                  </a:lnTo>
                  <a:lnTo>
                    <a:pt x="73" y="65"/>
                  </a:lnTo>
                  <a:lnTo>
                    <a:pt x="71" y="67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71"/>
                  </a:lnTo>
                  <a:lnTo>
                    <a:pt x="69" y="73"/>
                  </a:lnTo>
                  <a:lnTo>
                    <a:pt x="96" y="57"/>
                  </a:lnTo>
                  <a:lnTo>
                    <a:pt x="131" y="40"/>
                  </a:lnTo>
                  <a:lnTo>
                    <a:pt x="150" y="34"/>
                  </a:lnTo>
                  <a:lnTo>
                    <a:pt x="167" y="27"/>
                  </a:lnTo>
                  <a:lnTo>
                    <a:pt x="187" y="23"/>
                  </a:lnTo>
                  <a:lnTo>
                    <a:pt x="206" y="17"/>
                  </a:lnTo>
                  <a:lnTo>
                    <a:pt x="225" y="15"/>
                  </a:lnTo>
                  <a:lnTo>
                    <a:pt x="244" y="11"/>
                  </a:lnTo>
                  <a:lnTo>
                    <a:pt x="265" y="9"/>
                  </a:lnTo>
                  <a:lnTo>
                    <a:pt x="284" y="9"/>
                  </a:lnTo>
                  <a:lnTo>
                    <a:pt x="306" y="9"/>
                  </a:lnTo>
                  <a:lnTo>
                    <a:pt x="325" y="11"/>
                  </a:lnTo>
                  <a:lnTo>
                    <a:pt x="346" y="15"/>
                  </a:lnTo>
                  <a:lnTo>
                    <a:pt x="346" y="15"/>
                  </a:lnTo>
                  <a:lnTo>
                    <a:pt x="346" y="13"/>
                  </a:lnTo>
                  <a:lnTo>
                    <a:pt x="348" y="11"/>
                  </a:lnTo>
                  <a:lnTo>
                    <a:pt x="348" y="11"/>
                  </a:lnTo>
                  <a:lnTo>
                    <a:pt x="348" y="9"/>
                  </a:lnTo>
                  <a:lnTo>
                    <a:pt x="348" y="7"/>
                  </a:lnTo>
                  <a:lnTo>
                    <a:pt x="348" y="7"/>
                  </a:lnTo>
                  <a:lnTo>
                    <a:pt x="348" y="5"/>
                  </a:lnTo>
                  <a:lnTo>
                    <a:pt x="348" y="4"/>
                  </a:lnTo>
                  <a:close/>
                  <a:moveTo>
                    <a:pt x="2" y="694"/>
                  </a:moveTo>
                  <a:lnTo>
                    <a:pt x="27" y="717"/>
                  </a:lnTo>
                  <a:lnTo>
                    <a:pt x="58" y="740"/>
                  </a:lnTo>
                  <a:lnTo>
                    <a:pt x="92" y="761"/>
                  </a:lnTo>
                  <a:lnTo>
                    <a:pt x="127" y="779"/>
                  </a:lnTo>
                  <a:lnTo>
                    <a:pt x="146" y="786"/>
                  </a:lnTo>
                  <a:lnTo>
                    <a:pt x="163" y="792"/>
                  </a:lnTo>
                  <a:lnTo>
                    <a:pt x="185" y="798"/>
                  </a:lnTo>
                  <a:lnTo>
                    <a:pt x="204" y="802"/>
                  </a:lnTo>
                  <a:lnTo>
                    <a:pt x="223" y="806"/>
                  </a:lnTo>
                  <a:lnTo>
                    <a:pt x="244" y="807"/>
                  </a:lnTo>
                  <a:lnTo>
                    <a:pt x="263" y="809"/>
                  </a:lnTo>
                  <a:lnTo>
                    <a:pt x="284" y="809"/>
                  </a:lnTo>
                  <a:lnTo>
                    <a:pt x="306" y="809"/>
                  </a:lnTo>
                  <a:lnTo>
                    <a:pt x="327" y="807"/>
                  </a:lnTo>
                  <a:lnTo>
                    <a:pt x="346" y="806"/>
                  </a:lnTo>
                  <a:lnTo>
                    <a:pt x="352" y="806"/>
                  </a:lnTo>
                  <a:lnTo>
                    <a:pt x="350" y="804"/>
                  </a:lnTo>
                  <a:lnTo>
                    <a:pt x="350" y="802"/>
                  </a:lnTo>
                  <a:lnTo>
                    <a:pt x="350" y="802"/>
                  </a:lnTo>
                  <a:lnTo>
                    <a:pt x="350" y="800"/>
                  </a:lnTo>
                  <a:lnTo>
                    <a:pt x="350" y="798"/>
                  </a:lnTo>
                  <a:lnTo>
                    <a:pt x="350" y="798"/>
                  </a:lnTo>
                  <a:lnTo>
                    <a:pt x="350" y="796"/>
                  </a:lnTo>
                  <a:lnTo>
                    <a:pt x="350" y="794"/>
                  </a:lnTo>
                  <a:lnTo>
                    <a:pt x="346" y="796"/>
                  </a:lnTo>
                  <a:lnTo>
                    <a:pt x="325" y="798"/>
                  </a:lnTo>
                  <a:lnTo>
                    <a:pt x="306" y="800"/>
                  </a:lnTo>
                  <a:lnTo>
                    <a:pt x="284" y="800"/>
                  </a:lnTo>
                  <a:lnTo>
                    <a:pt x="265" y="800"/>
                  </a:lnTo>
                  <a:lnTo>
                    <a:pt x="244" y="798"/>
                  </a:lnTo>
                  <a:lnTo>
                    <a:pt x="225" y="796"/>
                  </a:lnTo>
                  <a:lnTo>
                    <a:pt x="206" y="792"/>
                  </a:lnTo>
                  <a:lnTo>
                    <a:pt x="187" y="788"/>
                  </a:lnTo>
                  <a:lnTo>
                    <a:pt x="167" y="782"/>
                  </a:lnTo>
                  <a:lnTo>
                    <a:pt x="150" y="777"/>
                  </a:lnTo>
                  <a:lnTo>
                    <a:pt x="131" y="769"/>
                  </a:lnTo>
                  <a:lnTo>
                    <a:pt x="96" y="752"/>
                  </a:lnTo>
                  <a:lnTo>
                    <a:pt x="64" y="733"/>
                  </a:lnTo>
                  <a:lnTo>
                    <a:pt x="33" y="710"/>
                  </a:lnTo>
                  <a:lnTo>
                    <a:pt x="6" y="685"/>
                  </a:lnTo>
                  <a:lnTo>
                    <a:pt x="0" y="679"/>
                  </a:lnTo>
                  <a:lnTo>
                    <a:pt x="0" y="681"/>
                  </a:lnTo>
                  <a:lnTo>
                    <a:pt x="0" y="683"/>
                  </a:lnTo>
                  <a:lnTo>
                    <a:pt x="0" y="685"/>
                  </a:lnTo>
                  <a:lnTo>
                    <a:pt x="0" y="687"/>
                  </a:lnTo>
                  <a:lnTo>
                    <a:pt x="2" y="688"/>
                  </a:lnTo>
                  <a:lnTo>
                    <a:pt x="2" y="690"/>
                  </a:lnTo>
                  <a:lnTo>
                    <a:pt x="2" y="692"/>
                  </a:lnTo>
                  <a:lnTo>
                    <a:pt x="2" y="694"/>
                  </a:lnTo>
                  <a:close/>
                </a:path>
              </a:pathLst>
            </a:custGeom>
            <a:solidFill>
              <a:srgbClr val="b1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Freeform 187"/>
            <p:cNvSpPr/>
            <p:nvPr/>
          </p:nvSpPr>
          <p:spPr>
            <a:xfrm>
              <a:off x="1936800" y="2522520"/>
              <a:ext cx="555480" cy="1272960"/>
            </a:xfrm>
            <a:custGeom>
              <a:avLst/>
              <a:gdLst>
                <a:gd name="textAreaLeft" fmla="*/ 0 w 555480"/>
                <a:gd name="textAreaRight" fmla="*/ 555480 w 55548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350" h="802">
                  <a:moveTo>
                    <a:pt x="348" y="5"/>
                  </a:moveTo>
                  <a:lnTo>
                    <a:pt x="346" y="5"/>
                  </a:lnTo>
                  <a:lnTo>
                    <a:pt x="327" y="3"/>
                  </a:lnTo>
                  <a:lnTo>
                    <a:pt x="306" y="1"/>
                  </a:lnTo>
                  <a:lnTo>
                    <a:pt x="284" y="0"/>
                  </a:lnTo>
                  <a:lnTo>
                    <a:pt x="265" y="1"/>
                  </a:lnTo>
                  <a:lnTo>
                    <a:pt x="244" y="3"/>
                  </a:lnTo>
                  <a:lnTo>
                    <a:pt x="225" y="5"/>
                  </a:lnTo>
                  <a:lnTo>
                    <a:pt x="204" y="9"/>
                  </a:lnTo>
                  <a:lnTo>
                    <a:pt x="185" y="13"/>
                  </a:lnTo>
                  <a:lnTo>
                    <a:pt x="165" y="19"/>
                  </a:lnTo>
                  <a:lnTo>
                    <a:pt x="148" y="24"/>
                  </a:lnTo>
                  <a:lnTo>
                    <a:pt x="129" y="32"/>
                  </a:lnTo>
                  <a:lnTo>
                    <a:pt x="94" y="49"/>
                  </a:lnTo>
                  <a:lnTo>
                    <a:pt x="71" y="63"/>
                  </a:lnTo>
                  <a:lnTo>
                    <a:pt x="71" y="65"/>
                  </a:lnTo>
                  <a:lnTo>
                    <a:pt x="71" y="65"/>
                  </a:lnTo>
                  <a:lnTo>
                    <a:pt x="71" y="67"/>
                  </a:lnTo>
                  <a:lnTo>
                    <a:pt x="69" y="69"/>
                  </a:lnTo>
                  <a:lnTo>
                    <a:pt x="69" y="71"/>
                  </a:lnTo>
                  <a:lnTo>
                    <a:pt x="69" y="72"/>
                  </a:lnTo>
                  <a:lnTo>
                    <a:pt x="69" y="74"/>
                  </a:lnTo>
                  <a:lnTo>
                    <a:pt x="69" y="76"/>
                  </a:lnTo>
                  <a:lnTo>
                    <a:pt x="98" y="57"/>
                  </a:lnTo>
                  <a:lnTo>
                    <a:pt x="133" y="42"/>
                  </a:lnTo>
                  <a:lnTo>
                    <a:pt x="169" y="28"/>
                  </a:lnTo>
                  <a:lnTo>
                    <a:pt x="206" y="19"/>
                  </a:lnTo>
                  <a:lnTo>
                    <a:pt x="225" y="15"/>
                  </a:lnTo>
                  <a:lnTo>
                    <a:pt x="246" y="13"/>
                  </a:lnTo>
                  <a:lnTo>
                    <a:pt x="265" y="11"/>
                  </a:lnTo>
                  <a:lnTo>
                    <a:pt x="284" y="11"/>
                  </a:lnTo>
                  <a:lnTo>
                    <a:pt x="306" y="11"/>
                  </a:lnTo>
                  <a:lnTo>
                    <a:pt x="325" y="13"/>
                  </a:lnTo>
                  <a:lnTo>
                    <a:pt x="344" y="15"/>
                  </a:lnTo>
                  <a:lnTo>
                    <a:pt x="346" y="15"/>
                  </a:lnTo>
                  <a:lnTo>
                    <a:pt x="346" y="15"/>
                  </a:lnTo>
                  <a:lnTo>
                    <a:pt x="346" y="13"/>
                  </a:lnTo>
                  <a:lnTo>
                    <a:pt x="346" y="11"/>
                  </a:lnTo>
                  <a:lnTo>
                    <a:pt x="346" y="11"/>
                  </a:lnTo>
                  <a:lnTo>
                    <a:pt x="346" y="9"/>
                  </a:lnTo>
                  <a:lnTo>
                    <a:pt x="348" y="7"/>
                  </a:lnTo>
                  <a:lnTo>
                    <a:pt x="348" y="7"/>
                  </a:lnTo>
                  <a:lnTo>
                    <a:pt x="348" y="5"/>
                  </a:lnTo>
                  <a:close/>
                  <a:moveTo>
                    <a:pt x="0" y="683"/>
                  </a:moveTo>
                  <a:lnTo>
                    <a:pt x="2" y="684"/>
                  </a:lnTo>
                  <a:lnTo>
                    <a:pt x="31" y="709"/>
                  </a:lnTo>
                  <a:lnTo>
                    <a:pt x="62" y="732"/>
                  </a:lnTo>
                  <a:lnTo>
                    <a:pt x="94" y="754"/>
                  </a:lnTo>
                  <a:lnTo>
                    <a:pt x="129" y="769"/>
                  </a:lnTo>
                  <a:lnTo>
                    <a:pt x="148" y="777"/>
                  </a:lnTo>
                  <a:lnTo>
                    <a:pt x="165" y="782"/>
                  </a:lnTo>
                  <a:lnTo>
                    <a:pt x="185" y="788"/>
                  </a:lnTo>
                  <a:lnTo>
                    <a:pt x="204" y="794"/>
                  </a:lnTo>
                  <a:lnTo>
                    <a:pt x="225" y="796"/>
                  </a:lnTo>
                  <a:lnTo>
                    <a:pt x="244" y="800"/>
                  </a:lnTo>
                  <a:lnTo>
                    <a:pt x="265" y="802"/>
                  </a:lnTo>
                  <a:lnTo>
                    <a:pt x="284" y="802"/>
                  </a:lnTo>
                  <a:lnTo>
                    <a:pt x="306" y="802"/>
                  </a:lnTo>
                  <a:lnTo>
                    <a:pt x="327" y="800"/>
                  </a:lnTo>
                  <a:lnTo>
                    <a:pt x="346" y="796"/>
                  </a:lnTo>
                  <a:lnTo>
                    <a:pt x="350" y="796"/>
                  </a:lnTo>
                  <a:lnTo>
                    <a:pt x="350" y="794"/>
                  </a:lnTo>
                  <a:lnTo>
                    <a:pt x="350" y="794"/>
                  </a:lnTo>
                  <a:lnTo>
                    <a:pt x="350" y="792"/>
                  </a:lnTo>
                  <a:lnTo>
                    <a:pt x="350" y="790"/>
                  </a:lnTo>
                  <a:lnTo>
                    <a:pt x="348" y="790"/>
                  </a:lnTo>
                  <a:lnTo>
                    <a:pt x="348" y="788"/>
                  </a:lnTo>
                  <a:lnTo>
                    <a:pt x="348" y="786"/>
                  </a:lnTo>
                  <a:lnTo>
                    <a:pt x="348" y="786"/>
                  </a:lnTo>
                  <a:lnTo>
                    <a:pt x="344" y="786"/>
                  </a:lnTo>
                  <a:lnTo>
                    <a:pt x="325" y="788"/>
                  </a:lnTo>
                  <a:lnTo>
                    <a:pt x="306" y="790"/>
                  </a:lnTo>
                  <a:lnTo>
                    <a:pt x="284" y="790"/>
                  </a:lnTo>
                  <a:lnTo>
                    <a:pt x="265" y="790"/>
                  </a:lnTo>
                  <a:lnTo>
                    <a:pt x="246" y="788"/>
                  </a:lnTo>
                  <a:lnTo>
                    <a:pt x="225" y="786"/>
                  </a:lnTo>
                  <a:lnTo>
                    <a:pt x="206" y="782"/>
                  </a:lnTo>
                  <a:lnTo>
                    <a:pt x="169" y="773"/>
                  </a:lnTo>
                  <a:lnTo>
                    <a:pt x="133" y="759"/>
                  </a:lnTo>
                  <a:lnTo>
                    <a:pt x="98" y="744"/>
                  </a:lnTo>
                  <a:lnTo>
                    <a:pt x="68" y="725"/>
                  </a:lnTo>
                  <a:lnTo>
                    <a:pt x="37" y="702"/>
                  </a:lnTo>
                  <a:lnTo>
                    <a:pt x="10" y="677"/>
                  </a:lnTo>
                  <a:lnTo>
                    <a:pt x="0" y="667"/>
                  </a:lnTo>
                  <a:lnTo>
                    <a:pt x="0" y="669"/>
                  </a:lnTo>
                  <a:lnTo>
                    <a:pt x="0" y="671"/>
                  </a:lnTo>
                  <a:lnTo>
                    <a:pt x="0" y="673"/>
                  </a:lnTo>
                  <a:lnTo>
                    <a:pt x="0" y="675"/>
                  </a:lnTo>
                  <a:lnTo>
                    <a:pt x="0" y="677"/>
                  </a:lnTo>
                  <a:lnTo>
                    <a:pt x="0" y="679"/>
                  </a:lnTo>
                  <a:lnTo>
                    <a:pt x="0" y="681"/>
                  </a:lnTo>
                  <a:lnTo>
                    <a:pt x="0" y="683"/>
                  </a:lnTo>
                  <a:close/>
                </a:path>
              </a:pathLst>
            </a:custGeom>
            <a:solidFill>
              <a:srgbClr val="b2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Freeform 188"/>
            <p:cNvSpPr/>
            <p:nvPr/>
          </p:nvSpPr>
          <p:spPr>
            <a:xfrm>
              <a:off x="1936800" y="2530440"/>
              <a:ext cx="555480" cy="1255680"/>
            </a:xfrm>
            <a:custGeom>
              <a:avLst/>
              <a:gdLst>
                <a:gd name="textAreaLeft" fmla="*/ 0 w 555480"/>
                <a:gd name="textAreaRight" fmla="*/ 555480 w 555480"/>
                <a:gd name="textAreaTop" fmla="*/ 0 h 1255680"/>
                <a:gd name="textAreaBottom" fmla="*/ 1256040 h 1255680"/>
              </a:gdLst>
              <a:ahLst/>
              <a:rect l="textAreaLeft" t="textAreaTop" r="textAreaRight" b="textAreaBottom"/>
              <a:pathLst>
                <a:path w="350" h="791">
                  <a:moveTo>
                    <a:pt x="346" y="6"/>
                  </a:moveTo>
                  <a:lnTo>
                    <a:pt x="346" y="6"/>
                  </a:lnTo>
                  <a:lnTo>
                    <a:pt x="325" y="2"/>
                  </a:lnTo>
                  <a:lnTo>
                    <a:pt x="306" y="0"/>
                  </a:lnTo>
                  <a:lnTo>
                    <a:pt x="284" y="0"/>
                  </a:lnTo>
                  <a:lnTo>
                    <a:pt x="265" y="0"/>
                  </a:lnTo>
                  <a:lnTo>
                    <a:pt x="244" y="2"/>
                  </a:lnTo>
                  <a:lnTo>
                    <a:pt x="225" y="6"/>
                  </a:lnTo>
                  <a:lnTo>
                    <a:pt x="206" y="8"/>
                  </a:lnTo>
                  <a:lnTo>
                    <a:pt x="187" y="14"/>
                  </a:lnTo>
                  <a:lnTo>
                    <a:pt x="167" y="18"/>
                  </a:lnTo>
                  <a:lnTo>
                    <a:pt x="150" y="25"/>
                  </a:lnTo>
                  <a:lnTo>
                    <a:pt x="131" y="31"/>
                  </a:lnTo>
                  <a:lnTo>
                    <a:pt x="96" y="48"/>
                  </a:lnTo>
                  <a:lnTo>
                    <a:pt x="69" y="64"/>
                  </a:lnTo>
                  <a:lnTo>
                    <a:pt x="69" y="66"/>
                  </a:lnTo>
                  <a:lnTo>
                    <a:pt x="69" y="67"/>
                  </a:lnTo>
                  <a:lnTo>
                    <a:pt x="69" y="69"/>
                  </a:lnTo>
                  <a:lnTo>
                    <a:pt x="68" y="71"/>
                  </a:lnTo>
                  <a:lnTo>
                    <a:pt x="68" y="73"/>
                  </a:lnTo>
                  <a:lnTo>
                    <a:pt x="68" y="75"/>
                  </a:lnTo>
                  <a:lnTo>
                    <a:pt x="68" y="77"/>
                  </a:lnTo>
                  <a:lnTo>
                    <a:pt x="66" y="79"/>
                  </a:lnTo>
                  <a:lnTo>
                    <a:pt x="69" y="77"/>
                  </a:lnTo>
                  <a:lnTo>
                    <a:pt x="102" y="58"/>
                  </a:lnTo>
                  <a:lnTo>
                    <a:pt x="135" y="41"/>
                  </a:lnTo>
                  <a:lnTo>
                    <a:pt x="171" y="29"/>
                  </a:lnTo>
                  <a:lnTo>
                    <a:pt x="208" y="19"/>
                  </a:lnTo>
                  <a:lnTo>
                    <a:pt x="227" y="16"/>
                  </a:lnTo>
                  <a:lnTo>
                    <a:pt x="246" y="14"/>
                  </a:lnTo>
                  <a:lnTo>
                    <a:pt x="265" y="12"/>
                  </a:lnTo>
                  <a:lnTo>
                    <a:pt x="284" y="12"/>
                  </a:lnTo>
                  <a:lnTo>
                    <a:pt x="306" y="12"/>
                  </a:lnTo>
                  <a:lnTo>
                    <a:pt x="325" y="14"/>
                  </a:lnTo>
                  <a:lnTo>
                    <a:pt x="344" y="16"/>
                  </a:lnTo>
                  <a:lnTo>
                    <a:pt x="344" y="16"/>
                  </a:lnTo>
                  <a:lnTo>
                    <a:pt x="344" y="14"/>
                  </a:lnTo>
                  <a:lnTo>
                    <a:pt x="346" y="14"/>
                  </a:lnTo>
                  <a:lnTo>
                    <a:pt x="346" y="12"/>
                  </a:lnTo>
                  <a:lnTo>
                    <a:pt x="346" y="10"/>
                  </a:lnTo>
                  <a:lnTo>
                    <a:pt x="346" y="10"/>
                  </a:lnTo>
                  <a:lnTo>
                    <a:pt x="346" y="8"/>
                  </a:lnTo>
                  <a:lnTo>
                    <a:pt x="346" y="6"/>
                  </a:lnTo>
                  <a:lnTo>
                    <a:pt x="346" y="6"/>
                  </a:lnTo>
                  <a:close/>
                  <a:moveTo>
                    <a:pt x="0" y="670"/>
                  </a:moveTo>
                  <a:lnTo>
                    <a:pt x="6" y="676"/>
                  </a:lnTo>
                  <a:lnTo>
                    <a:pt x="33" y="701"/>
                  </a:lnTo>
                  <a:lnTo>
                    <a:pt x="64" y="724"/>
                  </a:lnTo>
                  <a:lnTo>
                    <a:pt x="96" y="743"/>
                  </a:lnTo>
                  <a:lnTo>
                    <a:pt x="131" y="760"/>
                  </a:lnTo>
                  <a:lnTo>
                    <a:pt x="150" y="768"/>
                  </a:lnTo>
                  <a:lnTo>
                    <a:pt x="167" y="773"/>
                  </a:lnTo>
                  <a:lnTo>
                    <a:pt x="187" y="779"/>
                  </a:lnTo>
                  <a:lnTo>
                    <a:pt x="206" y="783"/>
                  </a:lnTo>
                  <a:lnTo>
                    <a:pt x="225" y="787"/>
                  </a:lnTo>
                  <a:lnTo>
                    <a:pt x="244" y="789"/>
                  </a:lnTo>
                  <a:lnTo>
                    <a:pt x="265" y="791"/>
                  </a:lnTo>
                  <a:lnTo>
                    <a:pt x="284" y="791"/>
                  </a:lnTo>
                  <a:lnTo>
                    <a:pt x="306" y="791"/>
                  </a:lnTo>
                  <a:lnTo>
                    <a:pt x="325" y="789"/>
                  </a:lnTo>
                  <a:lnTo>
                    <a:pt x="346" y="787"/>
                  </a:lnTo>
                  <a:lnTo>
                    <a:pt x="350" y="785"/>
                  </a:lnTo>
                  <a:lnTo>
                    <a:pt x="348" y="785"/>
                  </a:lnTo>
                  <a:lnTo>
                    <a:pt x="348" y="783"/>
                  </a:lnTo>
                  <a:lnTo>
                    <a:pt x="348" y="781"/>
                  </a:lnTo>
                  <a:lnTo>
                    <a:pt x="348" y="781"/>
                  </a:lnTo>
                  <a:lnTo>
                    <a:pt x="348" y="779"/>
                  </a:lnTo>
                  <a:lnTo>
                    <a:pt x="348" y="777"/>
                  </a:lnTo>
                  <a:lnTo>
                    <a:pt x="348" y="777"/>
                  </a:lnTo>
                  <a:lnTo>
                    <a:pt x="348" y="775"/>
                  </a:lnTo>
                  <a:lnTo>
                    <a:pt x="344" y="775"/>
                  </a:lnTo>
                  <a:lnTo>
                    <a:pt x="325" y="779"/>
                  </a:lnTo>
                  <a:lnTo>
                    <a:pt x="306" y="781"/>
                  </a:lnTo>
                  <a:lnTo>
                    <a:pt x="284" y="781"/>
                  </a:lnTo>
                  <a:lnTo>
                    <a:pt x="265" y="781"/>
                  </a:lnTo>
                  <a:lnTo>
                    <a:pt x="246" y="779"/>
                  </a:lnTo>
                  <a:lnTo>
                    <a:pt x="227" y="775"/>
                  </a:lnTo>
                  <a:lnTo>
                    <a:pt x="208" y="773"/>
                  </a:lnTo>
                  <a:lnTo>
                    <a:pt x="171" y="764"/>
                  </a:lnTo>
                  <a:lnTo>
                    <a:pt x="135" y="750"/>
                  </a:lnTo>
                  <a:lnTo>
                    <a:pt x="102" y="735"/>
                  </a:lnTo>
                  <a:lnTo>
                    <a:pt x="69" y="716"/>
                  </a:lnTo>
                  <a:lnTo>
                    <a:pt x="41" y="693"/>
                  </a:lnTo>
                  <a:lnTo>
                    <a:pt x="12" y="668"/>
                  </a:lnTo>
                  <a:lnTo>
                    <a:pt x="0" y="655"/>
                  </a:lnTo>
                  <a:lnTo>
                    <a:pt x="0" y="656"/>
                  </a:lnTo>
                  <a:lnTo>
                    <a:pt x="0" y="658"/>
                  </a:lnTo>
                  <a:lnTo>
                    <a:pt x="0" y="660"/>
                  </a:lnTo>
                  <a:lnTo>
                    <a:pt x="0" y="662"/>
                  </a:lnTo>
                  <a:lnTo>
                    <a:pt x="0" y="664"/>
                  </a:lnTo>
                  <a:lnTo>
                    <a:pt x="0" y="666"/>
                  </a:lnTo>
                  <a:lnTo>
                    <a:pt x="0" y="668"/>
                  </a:lnTo>
                  <a:lnTo>
                    <a:pt x="0" y="670"/>
                  </a:lnTo>
                  <a:close/>
                </a:path>
              </a:pathLst>
            </a:custGeom>
            <a:solidFill>
              <a:srgbClr val="b3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Freeform 189"/>
            <p:cNvSpPr/>
            <p:nvPr/>
          </p:nvSpPr>
          <p:spPr>
            <a:xfrm>
              <a:off x="1936800" y="2539800"/>
              <a:ext cx="552240" cy="1236600"/>
            </a:xfrm>
            <a:custGeom>
              <a:avLst/>
              <a:gdLst>
                <a:gd name="textAreaLeft" fmla="*/ 0 w 552240"/>
                <a:gd name="textAreaRight" fmla="*/ 552240 w 55224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348" h="779">
                  <a:moveTo>
                    <a:pt x="346" y="4"/>
                  </a:moveTo>
                  <a:lnTo>
                    <a:pt x="344" y="4"/>
                  </a:lnTo>
                  <a:lnTo>
                    <a:pt x="325" y="2"/>
                  </a:lnTo>
                  <a:lnTo>
                    <a:pt x="306" y="0"/>
                  </a:lnTo>
                  <a:lnTo>
                    <a:pt x="284" y="0"/>
                  </a:lnTo>
                  <a:lnTo>
                    <a:pt x="265" y="0"/>
                  </a:lnTo>
                  <a:lnTo>
                    <a:pt x="246" y="2"/>
                  </a:lnTo>
                  <a:lnTo>
                    <a:pt x="225" y="4"/>
                  </a:lnTo>
                  <a:lnTo>
                    <a:pt x="206" y="8"/>
                  </a:lnTo>
                  <a:lnTo>
                    <a:pt x="169" y="17"/>
                  </a:lnTo>
                  <a:lnTo>
                    <a:pt x="133" y="31"/>
                  </a:lnTo>
                  <a:lnTo>
                    <a:pt x="98" y="46"/>
                  </a:lnTo>
                  <a:lnTo>
                    <a:pt x="69" y="65"/>
                  </a:lnTo>
                  <a:lnTo>
                    <a:pt x="68" y="67"/>
                  </a:lnTo>
                  <a:lnTo>
                    <a:pt x="68" y="69"/>
                  </a:lnTo>
                  <a:lnTo>
                    <a:pt x="68" y="71"/>
                  </a:lnTo>
                  <a:lnTo>
                    <a:pt x="66" y="73"/>
                  </a:lnTo>
                  <a:lnTo>
                    <a:pt x="66" y="75"/>
                  </a:lnTo>
                  <a:lnTo>
                    <a:pt x="66" y="77"/>
                  </a:lnTo>
                  <a:lnTo>
                    <a:pt x="66" y="79"/>
                  </a:lnTo>
                  <a:lnTo>
                    <a:pt x="64" y="81"/>
                  </a:lnTo>
                  <a:lnTo>
                    <a:pt x="73" y="75"/>
                  </a:lnTo>
                  <a:lnTo>
                    <a:pt x="104" y="56"/>
                  </a:lnTo>
                  <a:lnTo>
                    <a:pt x="137" y="40"/>
                  </a:lnTo>
                  <a:lnTo>
                    <a:pt x="171" y="27"/>
                  </a:lnTo>
                  <a:lnTo>
                    <a:pt x="208" y="17"/>
                  </a:lnTo>
                  <a:lnTo>
                    <a:pt x="227" y="13"/>
                  </a:lnTo>
                  <a:lnTo>
                    <a:pt x="246" y="12"/>
                  </a:lnTo>
                  <a:lnTo>
                    <a:pt x="265" y="10"/>
                  </a:lnTo>
                  <a:lnTo>
                    <a:pt x="284" y="10"/>
                  </a:lnTo>
                  <a:lnTo>
                    <a:pt x="306" y="10"/>
                  </a:lnTo>
                  <a:lnTo>
                    <a:pt x="325" y="12"/>
                  </a:lnTo>
                  <a:lnTo>
                    <a:pt x="342" y="13"/>
                  </a:lnTo>
                  <a:lnTo>
                    <a:pt x="344" y="15"/>
                  </a:lnTo>
                  <a:lnTo>
                    <a:pt x="344" y="13"/>
                  </a:lnTo>
                  <a:lnTo>
                    <a:pt x="344" y="12"/>
                  </a:lnTo>
                  <a:lnTo>
                    <a:pt x="344" y="12"/>
                  </a:lnTo>
                  <a:lnTo>
                    <a:pt x="344" y="10"/>
                  </a:lnTo>
                  <a:lnTo>
                    <a:pt x="344" y="8"/>
                  </a:lnTo>
                  <a:lnTo>
                    <a:pt x="346" y="8"/>
                  </a:lnTo>
                  <a:lnTo>
                    <a:pt x="346" y="6"/>
                  </a:lnTo>
                  <a:lnTo>
                    <a:pt x="346" y="4"/>
                  </a:lnTo>
                  <a:close/>
                  <a:moveTo>
                    <a:pt x="0" y="656"/>
                  </a:moveTo>
                  <a:lnTo>
                    <a:pt x="10" y="666"/>
                  </a:lnTo>
                  <a:lnTo>
                    <a:pt x="37" y="691"/>
                  </a:lnTo>
                  <a:lnTo>
                    <a:pt x="68" y="714"/>
                  </a:lnTo>
                  <a:lnTo>
                    <a:pt x="98" y="733"/>
                  </a:lnTo>
                  <a:lnTo>
                    <a:pt x="133" y="748"/>
                  </a:lnTo>
                  <a:lnTo>
                    <a:pt x="169" y="762"/>
                  </a:lnTo>
                  <a:lnTo>
                    <a:pt x="206" y="771"/>
                  </a:lnTo>
                  <a:lnTo>
                    <a:pt x="225" y="775"/>
                  </a:lnTo>
                  <a:lnTo>
                    <a:pt x="246" y="777"/>
                  </a:lnTo>
                  <a:lnTo>
                    <a:pt x="265" y="779"/>
                  </a:lnTo>
                  <a:lnTo>
                    <a:pt x="284" y="779"/>
                  </a:lnTo>
                  <a:lnTo>
                    <a:pt x="306" y="779"/>
                  </a:lnTo>
                  <a:lnTo>
                    <a:pt x="325" y="777"/>
                  </a:lnTo>
                  <a:lnTo>
                    <a:pt x="344" y="775"/>
                  </a:lnTo>
                  <a:lnTo>
                    <a:pt x="348" y="775"/>
                  </a:lnTo>
                  <a:lnTo>
                    <a:pt x="348" y="773"/>
                  </a:lnTo>
                  <a:lnTo>
                    <a:pt x="348" y="771"/>
                  </a:lnTo>
                  <a:lnTo>
                    <a:pt x="348" y="771"/>
                  </a:lnTo>
                  <a:lnTo>
                    <a:pt x="348" y="769"/>
                  </a:lnTo>
                  <a:lnTo>
                    <a:pt x="346" y="767"/>
                  </a:lnTo>
                  <a:lnTo>
                    <a:pt x="346" y="767"/>
                  </a:lnTo>
                  <a:lnTo>
                    <a:pt x="346" y="766"/>
                  </a:lnTo>
                  <a:lnTo>
                    <a:pt x="346" y="766"/>
                  </a:lnTo>
                  <a:lnTo>
                    <a:pt x="342" y="766"/>
                  </a:lnTo>
                  <a:lnTo>
                    <a:pt x="325" y="767"/>
                  </a:lnTo>
                  <a:lnTo>
                    <a:pt x="306" y="769"/>
                  </a:lnTo>
                  <a:lnTo>
                    <a:pt x="284" y="769"/>
                  </a:lnTo>
                  <a:lnTo>
                    <a:pt x="265" y="769"/>
                  </a:lnTo>
                  <a:lnTo>
                    <a:pt x="246" y="767"/>
                  </a:lnTo>
                  <a:lnTo>
                    <a:pt x="227" y="766"/>
                  </a:lnTo>
                  <a:lnTo>
                    <a:pt x="208" y="762"/>
                  </a:lnTo>
                  <a:lnTo>
                    <a:pt x="171" y="752"/>
                  </a:lnTo>
                  <a:lnTo>
                    <a:pt x="137" y="741"/>
                  </a:lnTo>
                  <a:lnTo>
                    <a:pt x="104" y="723"/>
                  </a:lnTo>
                  <a:lnTo>
                    <a:pt x="73" y="704"/>
                  </a:lnTo>
                  <a:lnTo>
                    <a:pt x="43" y="683"/>
                  </a:lnTo>
                  <a:lnTo>
                    <a:pt x="16" y="658"/>
                  </a:lnTo>
                  <a:lnTo>
                    <a:pt x="0" y="639"/>
                  </a:lnTo>
                  <a:lnTo>
                    <a:pt x="0" y="643"/>
                  </a:lnTo>
                  <a:lnTo>
                    <a:pt x="0" y="645"/>
                  </a:lnTo>
                  <a:lnTo>
                    <a:pt x="0" y="647"/>
                  </a:lnTo>
                  <a:lnTo>
                    <a:pt x="0" y="649"/>
                  </a:lnTo>
                  <a:lnTo>
                    <a:pt x="0" y="650"/>
                  </a:lnTo>
                  <a:lnTo>
                    <a:pt x="0" y="652"/>
                  </a:lnTo>
                  <a:lnTo>
                    <a:pt x="0" y="654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b4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Freeform 190"/>
            <p:cNvSpPr/>
            <p:nvPr/>
          </p:nvSpPr>
          <p:spPr>
            <a:xfrm>
              <a:off x="1933560" y="2549520"/>
              <a:ext cx="555480" cy="1220760"/>
            </a:xfrm>
            <a:custGeom>
              <a:avLst/>
              <a:gdLst/>
              <a:ahLst/>
              <a:rect l="l" t="t" r="r" b="b"/>
              <a:pathLst>
                <a:path w="350" h="769">
                  <a:moveTo>
                    <a:pt x="346" y="4"/>
                  </a:moveTo>
                  <a:lnTo>
                    <a:pt x="346" y="4"/>
                  </a:lnTo>
                  <a:lnTo>
                    <a:pt x="327" y="2"/>
                  </a:lnTo>
                  <a:lnTo>
                    <a:pt x="308" y="0"/>
                  </a:lnTo>
                  <a:lnTo>
                    <a:pt x="286" y="0"/>
                  </a:lnTo>
                  <a:lnTo>
                    <a:pt x="267" y="0"/>
                  </a:lnTo>
                  <a:lnTo>
                    <a:pt x="248" y="2"/>
                  </a:lnTo>
                  <a:lnTo>
                    <a:pt x="229" y="4"/>
                  </a:lnTo>
                  <a:lnTo>
                    <a:pt x="210" y="7"/>
                  </a:lnTo>
                  <a:lnTo>
                    <a:pt x="173" y="17"/>
                  </a:lnTo>
                  <a:lnTo>
                    <a:pt x="137" y="29"/>
                  </a:lnTo>
                  <a:lnTo>
                    <a:pt x="104" y="46"/>
                  </a:lnTo>
                  <a:lnTo>
                    <a:pt x="71" y="65"/>
                  </a:lnTo>
                  <a:lnTo>
                    <a:pt x="68" y="67"/>
                  </a:lnTo>
                  <a:lnTo>
                    <a:pt x="68" y="69"/>
                  </a:lnTo>
                  <a:lnTo>
                    <a:pt x="68" y="71"/>
                  </a:lnTo>
                  <a:lnTo>
                    <a:pt x="68" y="73"/>
                  </a:lnTo>
                  <a:lnTo>
                    <a:pt x="66" y="75"/>
                  </a:lnTo>
                  <a:lnTo>
                    <a:pt x="66" y="77"/>
                  </a:lnTo>
                  <a:lnTo>
                    <a:pt x="66" y="78"/>
                  </a:lnTo>
                  <a:lnTo>
                    <a:pt x="66" y="80"/>
                  </a:lnTo>
                  <a:lnTo>
                    <a:pt x="64" y="82"/>
                  </a:lnTo>
                  <a:lnTo>
                    <a:pt x="77" y="73"/>
                  </a:lnTo>
                  <a:lnTo>
                    <a:pt x="108" y="54"/>
                  </a:lnTo>
                  <a:lnTo>
                    <a:pt x="141" y="38"/>
                  </a:lnTo>
                  <a:lnTo>
                    <a:pt x="175" y="27"/>
                  </a:lnTo>
                  <a:lnTo>
                    <a:pt x="212" y="17"/>
                  </a:lnTo>
                  <a:lnTo>
                    <a:pt x="248" y="11"/>
                  </a:lnTo>
                  <a:lnTo>
                    <a:pt x="286" y="9"/>
                  </a:lnTo>
                  <a:lnTo>
                    <a:pt x="325" y="11"/>
                  </a:lnTo>
                  <a:lnTo>
                    <a:pt x="344" y="13"/>
                  </a:lnTo>
                  <a:lnTo>
                    <a:pt x="346" y="13"/>
                  </a:lnTo>
                  <a:lnTo>
                    <a:pt x="346" y="11"/>
                  </a:lnTo>
                  <a:lnTo>
                    <a:pt x="346" y="9"/>
                  </a:lnTo>
                  <a:lnTo>
                    <a:pt x="346" y="9"/>
                  </a:lnTo>
                  <a:lnTo>
                    <a:pt x="346" y="7"/>
                  </a:lnTo>
                  <a:lnTo>
                    <a:pt x="346" y="6"/>
                  </a:lnTo>
                  <a:lnTo>
                    <a:pt x="346" y="6"/>
                  </a:lnTo>
                  <a:lnTo>
                    <a:pt x="346" y="4"/>
                  </a:lnTo>
                  <a:close/>
                  <a:moveTo>
                    <a:pt x="2" y="643"/>
                  </a:moveTo>
                  <a:lnTo>
                    <a:pt x="14" y="656"/>
                  </a:lnTo>
                  <a:lnTo>
                    <a:pt x="43" y="681"/>
                  </a:lnTo>
                  <a:lnTo>
                    <a:pt x="71" y="704"/>
                  </a:lnTo>
                  <a:lnTo>
                    <a:pt x="104" y="723"/>
                  </a:lnTo>
                  <a:lnTo>
                    <a:pt x="137" y="738"/>
                  </a:lnTo>
                  <a:lnTo>
                    <a:pt x="173" y="752"/>
                  </a:lnTo>
                  <a:lnTo>
                    <a:pt x="210" y="761"/>
                  </a:lnTo>
                  <a:lnTo>
                    <a:pt x="229" y="763"/>
                  </a:lnTo>
                  <a:lnTo>
                    <a:pt x="248" y="767"/>
                  </a:lnTo>
                  <a:lnTo>
                    <a:pt x="267" y="769"/>
                  </a:lnTo>
                  <a:lnTo>
                    <a:pt x="286" y="769"/>
                  </a:lnTo>
                  <a:lnTo>
                    <a:pt x="308" y="769"/>
                  </a:lnTo>
                  <a:lnTo>
                    <a:pt x="327" y="767"/>
                  </a:lnTo>
                  <a:lnTo>
                    <a:pt x="346" y="763"/>
                  </a:lnTo>
                  <a:lnTo>
                    <a:pt x="350" y="763"/>
                  </a:lnTo>
                  <a:lnTo>
                    <a:pt x="348" y="761"/>
                  </a:lnTo>
                  <a:lnTo>
                    <a:pt x="348" y="761"/>
                  </a:lnTo>
                  <a:lnTo>
                    <a:pt x="348" y="760"/>
                  </a:lnTo>
                  <a:lnTo>
                    <a:pt x="348" y="758"/>
                  </a:lnTo>
                  <a:lnTo>
                    <a:pt x="348" y="758"/>
                  </a:lnTo>
                  <a:lnTo>
                    <a:pt x="348" y="756"/>
                  </a:lnTo>
                  <a:lnTo>
                    <a:pt x="348" y="754"/>
                  </a:lnTo>
                  <a:lnTo>
                    <a:pt x="348" y="754"/>
                  </a:lnTo>
                  <a:lnTo>
                    <a:pt x="325" y="756"/>
                  </a:lnTo>
                  <a:lnTo>
                    <a:pt x="286" y="758"/>
                  </a:lnTo>
                  <a:lnTo>
                    <a:pt x="248" y="756"/>
                  </a:lnTo>
                  <a:lnTo>
                    <a:pt x="212" y="750"/>
                  </a:lnTo>
                  <a:lnTo>
                    <a:pt x="175" y="742"/>
                  </a:lnTo>
                  <a:lnTo>
                    <a:pt x="141" y="729"/>
                  </a:lnTo>
                  <a:lnTo>
                    <a:pt x="108" y="714"/>
                  </a:lnTo>
                  <a:lnTo>
                    <a:pt x="77" y="694"/>
                  </a:lnTo>
                  <a:lnTo>
                    <a:pt x="48" y="673"/>
                  </a:lnTo>
                  <a:lnTo>
                    <a:pt x="22" y="648"/>
                  </a:lnTo>
                  <a:lnTo>
                    <a:pt x="0" y="625"/>
                  </a:lnTo>
                  <a:lnTo>
                    <a:pt x="0" y="627"/>
                  </a:lnTo>
                  <a:lnTo>
                    <a:pt x="2" y="629"/>
                  </a:lnTo>
                  <a:lnTo>
                    <a:pt x="2" y="631"/>
                  </a:lnTo>
                  <a:lnTo>
                    <a:pt x="2" y="633"/>
                  </a:lnTo>
                  <a:lnTo>
                    <a:pt x="2" y="637"/>
                  </a:lnTo>
                  <a:lnTo>
                    <a:pt x="2" y="639"/>
                  </a:lnTo>
                  <a:lnTo>
                    <a:pt x="2" y="641"/>
                  </a:lnTo>
                  <a:lnTo>
                    <a:pt x="2" y="643"/>
                  </a:lnTo>
                  <a:close/>
                </a:path>
              </a:pathLst>
            </a:custGeom>
            <a:solidFill>
              <a:srgbClr val="b5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Freeform 191"/>
            <p:cNvSpPr/>
            <p:nvPr/>
          </p:nvSpPr>
          <p:spPr>
            <a:xfrm>
              <a:off x="1933560" y="2555640"/>
              <a:ext cx="552600" cy="1204920"/>
            </a:xfrm>
            <a:custGeom>
              <a:avLst/>
              <a:gdLst>
                <a:gd name="textAreaLeft" fmla="*/ 0 w 552600"/>
                <a:gd name="textAreaRight" fmla="*/ 552960 w 55260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348" h="759">
                  <a:moveTo>
                    <a:pt x="346" y="5"/>
                  </a:moveTo>
                  <a:lnTo>
                    <a:pt x="344" y="3"/>
                  </a:lnTo>
                  <a:lnTo>
                    <a:pt x="327" y="2"/>
                  </a:lnTo>
                  <a:lnTo>
                    <a:pt x="308" y="0"/>
                  </a:lnTo>
                  <a:lnTo>
                    <a:pt x="286" y="0"/>
                  </a:lnTo>
                  <a:lnTo>
                    <a:pt x="267" y="0"/>
                  </a:lnTo>
                  <a:lnTo>
                    <a:pt x="248" y="2"/>
                  </a:lnTo>
                  <a:lnTo>
                    <a:pt x="229" y="3"/>
                  </a:lnTo>
                  <a:lnTo>
                    <a:pt x="210" y="7"/>
                  </a:lnTo>
                  <a:lnTo>
                    <a:pt x="173" y="17"/>
                  </a:lnTo>
                  <a:lnTo>
                    <a:pt x="139" y="30"/>
                  </a:lnTo>
                  <a:lnTo>
                    <a:pt x="106" y="46"/>
                  </a:lnTo>
                  <a:lnTo>
                    <a:pt x="75" y="65"/>
                  </a:lnTo>
                  <a:lnTo>
                    <a:pt x="66" y="71"/>
                  </a:lnTo>
                  <a:lnTo>
                    <a:pt x="66" y="73"/>
                  </a:lnTo>
                  <a:lnTo>
                    <a:pt x="66" y="74"/>
                  </a:lnTo>
                  <a:lnTo>
                    <a:pt x="66" y="76"/>
                  </a:lnTo>
                  <a:lnTo>
                    <a:pt x="64" y="78"/>
                  </a:lnTo>
                  <a:lnTo>
                    <a:pt x="64" y="80"/>
                  </a:lnTo>
                  <a:lnTo>
                    <a:pt x="64" y="82"/>
                  </a:lnTo>
                  <a:lnTo>
                    <a:pt x="64" y="84"/>
                  </a:lnTo>
                  <a:lnTo>
                    <a:pt x="62" y="86"/>
                  </a:lnTo>
                  <a:lnTo>
                    <a:pt x="81" y="73"/>
                  </a:lnTo>
                  <a:lnTo>
                    <a:pt x="112" y="55"/>
                  </a:lnTo>
                  <a:lnTo>
                    <a:pt x="142" y="40"/>
                  </a:lnTo>
                  <a:lnTo>
                    <a:pt x="177" y="26"/>
                  </a:lnTo>
                  <a:lnTo>
                    <a:pt x="213" y="17"/>
                  </a:lnTo>
                  <a:lnTo>
                    <a:pt x="250" y="13"/>
                  </a:lnTo>
                  <a:lnTo>
                    <a:pt x="286" y="11"/>
                  </a:lnTo>
                  <a:lnTo>
                    <a:pt x="325" y="13"/>
                  </a:lnTo>
                  <a:lnTo>
                    <a:pt x="344" y="15"/>
                  </a:lnTo>
                  <a:lnTo>
                    <a:pt x="344" y="13"/>
                  </a:lnTo>
                  <a:lnTo>
                    <a:pt x="344" y="13"/>
                  </a:lnTo>
                  <a:lnTo>
                    <a:pt x="344" y="11"/>
                  </a:lnTo>
                  <a:lnTo>
                    <a:pt x="344" y="9"/>
                  </a:lnTo>
                  <a:lnTo>
                    <a:pt x="346" y="9"/>
                  </a:lnTo>
                  <a:lnTo>
                    <a:pt x="346" y="7"/>
                  </a:lnTo>
                  <a:lnTo>
                    <a:pt x="346" y="5"/>
                  </a:lnTo>
                  <a:lnTo>
                    <a:pt x="346" y="5"/>
                  </a:lnTo>
                  <a:close/>
                  <a:moveTo>
                    <a:pt x="2" y="629"/>
                  </a:moveTo>
                  <a:lnTo>
                    <a:pt x="18" y="648"/>
                  </a:lnTo>
                  <a:lnTo>
                    <a:pt x="45" y="673"/>
                  </a:lnTo>
                  <a:lnTo>
                    <a:pt x="75" y="694"/>
                  </a:lnTo>
                  <a:lnTo>
                    <a:pt x="106" y="713"/>
                  </a:lnTo>
                  <a:lnTo>
                    <a:pt x="139" y="731"/>
                  </a:lnTo>
                  <a:lnTo>
                    <a:pt x="173" y="742"/>
                  </a:lnTo>
                  <a:lnTo>
                    <a:pt x="210" y="752"/>
                  </a:lnTo>
                  <a:lnTo>
                    <a:pt x="229" y="756"/>
                  </a:lnTo>
                  <a:lnTo>
                    <a:pt x="248" y="757"/>
                  </a:lnTo>
                  <a:lnTo>
                    <a:pt x="267" y="759"/>
                  </a:lnTo>
                  <a:lnTo>
                    <a:pt x="286" y="759"/>
                  </a:lnTo>
                  <a:lnTo>
                    <a:pt x="308" y="759"/>
                  </a:lnTo>
                  <a:lnTo>
                    <a:pt x="327" y="757"/>
                  </a:lnTo>
                  <a:lnTo>
                    <a:pt x="344" y="756"/>
                  </a:lnTo>
                  <a:lnTo>
                    <a:pt x="348" y="756"/>
                  </a:lnTo>
                  <a:lnTo>
                    <a:pt x="348" y="754"/>
                  </a:lnTo>
                  <a:lnTo>
                    <a:pt x="348" y="752"/>
                  </a:lnTo>
                  <a:lnTo>
                    <a:pt x="348" y="750"/>
                  </a:lnTo>
                  <a:lnTo>
                    <a:pt x="348" y="750"/>
                  </a:lnTo>
                  <a:lnTo>
                    <a:pt x="348" y="748"/>
                  </a:lnTo>
                  <a:lnTo>
                    <a:pt x="346" y="746"/>
                  </a:lnTo>
                  <a:lnTo>
                    <a:pt x="346" y="746"/>
                  </a:lnTo>
                  <a:lnTo>
                    <a:pt x="346" y="744"/>
                  </a:lnTo>
                  <a:lnTo>
                    <a:pt x="325" y="748"/>
                  </a:lnTo>
                  <a:lnTo>
                    <a:pt x="286" y="750"/>
                  </a:lnTo>
                  <a:lnTo>
                    <a:pt x="250" y="748"/>
                  </a:lnTo>
                  <a:lnTo>
                    <a:pt x="213" y="742"/>
                  </a:lnTo>
                  <a:lnTo>
                    <a:pt x="177" y="733"/>
                  </a:lnTo>
                  <a:lnTo>
                    <a:pt x="142" y="721"/>
                  </a:lnTo>
                  <a:lnTo>
                    <a:pt x="112" y="704"/>
                  </a:lnTo>
                  <a:lnTo>
                    <a:pt x="81" y="687"/>
                  </a:lnTo>
                  <a:lnTo>
                    <a:pt x="52" y="665"/>
                  </a:lnTo>
                  <a:lnTo>
                    <a:pt x="25" y="640"/>
                  </a:lnTo>
                  <a:lnTo>
                    <a:pt x="2" y="616"/>
                  </a:lnTo>
                  <a:lnTo>
                    <a:pt x="0" y="614"/>
                  </a:lnTo>
                  <a:lnTo>
                    <a:pt x="0" y="616"/>
                  </a:lnTo>
                  <a:lnTo>
                    <a:pt x="0" y="617"/>
                  </a:lnTo>
                  <a:lnTo>
                    <a:pt x="0" y="619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2" y="625"/>
                  </a:lnTo>
                  <a:lnTo>
                    <a:pt x="2" y="627"/>
                  </a:lnTo>
                  <a:lnTo>
                    <a:pt x="2" y="629"/>
                  </a:lnTo>
                  <a:close/>
                </a:path>
              </a:pathLst>
            </a:custGeom>
            <a:solidFill>
              <a:srgbClr val="b6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Freeform 192"/>
            <p:cNvSpPr/>
            <p:nvPr/>
          </p:nvSpPr>
          <p:spPr>
            <a:xfrm>
              <a:off x="1933560" y="2563560"/>
              <a:ext cx="552600" cy="1189080"/>
            </a:xfrm>
            <a:custGeom>
              <a:avLst/>
              <a:gdLst>
                <a:gd name="textAreaLeft" fmla="*/ 0 w 552600"/>
                <a:gd name="textAreaRight" fmla="*/ 552960 w 552600"/>
                <a:gd name="textAreaTop" fmla="*/ 0 h 1189080"/>
                <a:gd name="textAreaBottom" fmla="*/ 1189080 h 1189080"/>
              </a:gdLst>
              <a:ahLst/>
              <a:rect l="textAreaLeft" t="textAreaTop" r="textAreaRight" b="textAreaBottom"/>
              <a:pathLst>
                <a:path w="348" h="749">
                  <a:moveTo>
                    <a:pt x="344" y="4"/>
                  </a:moveTo>
                  <a:lnTo>
                    <a:pt x="325" y="2"/>
                  </a:lnTo>
                  <a:lnTo>
                    <a:pt x="286" y="0"/>
                  </a:lnTo>
                  <a:lnTo>
                    <a:pt x="248" y="2"/>
                  </a:lnTo>
                  <a:lnTo>
                    <a:pt x="212" y="8"/>
                  </a:lnTo>
                  <a:lnTo>
                    <a:pt x="175" y="18"/>
                  </a:lnTo>
                  <a:lnTo>
                    <a:pt x="141" y="29"/>
                  </a:lnTo>
                  <a:lnTo>
                    <a:pt x="108" y="45"/>
                  </a:lnTo>
                  <a:lnTo>
                    <a:pt x="77" y="64"/>
                  </a:lnTo>
                  <a:lnTo>
                    <a:pt x="64" y="73"/>
                  </a:lnTo>
                  <a:lnTo>
                    <a:pt x="64" y="75"/>
                  </a:lnTo>
                  <a:lnTo>
                    <a:pt x="64" y="77"/>
                  </a:lnTo>
                  <a:lnTo>
                    <a:pt x="64" y="79"/>
                  </a:lnTo>
                  <a:lnTo>
                    <a:pt x="62" y="81"/>
                  </a:lnTo>
                  <a:lnTo>
                    <a:pt x="62" y="83"/>
                  </a:lnTo>
                  <a:lnTo>
                    <a:pt x="62" y="85"/>
                  </a:lnTo>
                  <a:lnTo>
                    <a:pt x="62" y="87"/>
                  </a:lnTo>
                  <a:lnTo>
                    <a:pt x="60" y="91"/>
                  </a:lnTo>
                  <a:lnTo>
                    <a:pt x="83" y="73"/>
                  </a:lnTo>
                  <a:lnTo>
                    <a:pt x="114" y="54"/>
                  </a:lnTo>
                  <a:lnTo>
                    <a:pt x="144" y="39"/>
                  </a:lnTo>
                  <a:lnTo>
                    <a:pt x="179" y="27"/>
                  </a:lnTo>
                  <a:lnTo>
                    <a:pt x="213" y="18"/>
                  </a:lnTo>
                  <a:lnTo>
                    <a:pt x="250" y="12"/>
                  </a:lnTo>
                  <a:lnTo>
                    <a:pt x="286" y="10"/>
                  </a:lnTo>
                  <a:lnTo>
                    <a:pt x="325" y="12"/>
                  </a:lnTo>
                  <a:lnTo>
                    <a:pt x="342" y="16"/>
                  </a:lnTo>
                  <a:lnTo>
                    <a:pt x="344" y="14"/>
                  </a:lnTo>
                  <a:lnTo>
                    <a:pt x="344" y="12"/>
                  </a:lnTo>
                  <a:lnTo>
                    <a:pt x="344" y="12"/>
                  </a:lnTo>
                  <a:lnTo>
                    <a:pt x="344" y="10"/>
                  </a:lnTo>
                  <a:lnTo>
                    <a:pt x="344" y="8"/>
                  </a:lnTo>
                  <a:lnTo>
                    <a:pt x="344" y="8"/>
                  </a:lnTo>
                  <a:lnTo>
                    <a:pt x="344" y="6"/>
                  </a:lnTo>
                  <a:lnTo>
                    <a:pt x="344" y="4"/>
                  </a:lnTo>
                  <a:close/>
                  <a:moveTo>
                    <a:pt x="0" y="616"/>
                  </a:moveTo>
                  <a:lnTo>
                    <a:pt x="22" y="639"/>
                  </a:lnTo>
                  <a:lnTo>
                    <a:pt x="48" y="664"/>
                  </a:lnTo>
                  <a:lnTo>
                    <a:pt x="77" y="685"/>
                  </a:lnTo>
                  <a:lnTo>
                    <a:pt x="108" y="705"/>
                  </a:lnTo>
                  <a:lnTo>
                    <a:pt x="141" y="720"/>
                  </a:lnTo>
                  <a:lnTo>
                    <a:pt x="175" y="733"/>
                  </a:lnTo>
                  <a:lnTo>
                    <a:pt x="212" y="741"/>
                  </a:lnTo>
                  <a:lnTo>
                    <a:pt x="248" y="747"/>
                  </a:lnTo>
                  <a:lnTo>
                    <a:pt x="286" y="749"/>
                  </a:lnTo>
                  <a:lnTo>
                    <a:pt x="325" y="747"/>
                  </a:lnTo>
                  <a:lnTo>
                    <a:pt x="348" y="745"/>
                  </a:lnTo>
                  <a:lnTo>
                    <a:pt x="348" y="743"/>
                  </a:lnTo>
                  <a:lnTo>
                    <a:pt x="346" y="741"/>
                  </a:lnTo>
                  <a:lnTo>
                    <a:pt x="346" y="741"/>
                  </a:lnTo>
                  <a:lnTo>
                    <a:pt x="346" y="739"/>
                  </a:lnTo>
                  <a:lnTo>
                    <a:pt x="346" y="737"/>
                  </a:lnTo>
                  <a:lnTo>
                    <a:pt x="346" y="737"/>
                  </a:lnTo>
                  <a:lnTo>
                    <a:pt x="346" y="735"/>
                  </a:lnTo>
                  <a:lnTo>
                    <a:pt x="346" y="733"/>
                  </a:lnTo>
                  <a:lnTo>
                    <a:pt x="325" y="737"/>
                  </a:lnTo>
                  <a:lnTo>
                    <a:pt x="286" y="739"/>
                  </a:lnTo>
                  <a:lnTo>
                    <a:pt x="250" y="737"/>
                  </a:lnTo>
                  <a:lnTo>
                    <a:pt x="213" y="731"/>
                  </a:lnTo>
                  <a:lnTo>
                    <a:pt x="179" y="724"/>
                  </a:lnTo>
                  <a:lnTo>
                    <a:pt x="144" y="710"/>
                  </a:lnTo>
                  <a:lnTo>
                    <a:pt x="114" y="695"/>
                  </a:lnTo>
                  <a:lnTo>
                    <a:pt x="83" y="678"/>
                  </a:lnTo>
                  <a:lnTo>
                    <a:pt x="56" y="657"/>
                  </a:lnTo>
                  <a:lnTo>
                    <a:pt x="29" y="632"/>
                  </a:lnTo>
                  <a:lnTo>
                    <a:pt x="6" y="607"/>
                  </a:lnTo>
                  <a:lnTo>
                    <a:pt x="0" y="599"/>
                  </a:lnTo>
                  <a:lnTo>
                    <a:pt x="0" y="603"/>
                  </a:lnTo>
                  <a:lnTo>
                    <a:pt x="0" y="605"/>
                  </a:lnTo>
                  <a:lnTo>
                    <a:pt x="0" y="607"/>
                  </a:lnTo>
                  <a:lnTo>
                    <a:pt x="0" y="609"/>
                  </a:lnTo>
                  <a:lnTo>
                    <a:pt x="0" y="611"/>
                  </a:lnTo>
                  <a:lnTo>
                    <a:pt x="0" y="612"/>
                  </a:lnTo>
                  <a:lnTo>
                    <a:pt x="0" y="614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b7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Freeform 193"/>
            <p:cNvSpPr/>
            <p:nvPr/>
          </p:nvSpPr>
          <p:spPr>
            <a:xfrm>
              <a:off x="1933560" y="2573280"/>
              <a:ext cx="549360" cy="117288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172880"/>
                <a:gd name="textAreaBottom" fmla="*/ 1173240 h 1172880"/>
              </a:gdLst>
              <a:ahLst/>
              <a:rect l="textAreaLeft" t="textAreaTop" r="textAreaRight" b="textAreaBottom"/>
              <a:pathLst>
                <a:path w="346" h="739">
                  <a:moveTo>
                    <a:pt x="344" y="4"/>
                  </a:moveTo>
                  <a:lnTo>
                    <a:pt x="325" y="2"/>
                  </a:lnTo>
                  <a:lnTo>
                    <a:pt x="286" y="0"/>
                  </a:lnTo>
                  <a:lnTo>
                    <a:pt x="250" y="2"/>
                  </a:lnTo>
                  <a:lnTo>
                    <a:pt x="213" y="6"/>
                  </a:lnTo>
                  <a:lnTo>
                    <a:pt x="177" y="15"/>
                  </a:lnTo>
                  <a:lnTo>
                    <a:pt x="142" y="29"/>
                  </a:lnTo>
                  <a:lnTo>
                    <a:pt x="112" y="44"/>
                  </a:lnTo>
                  <a:lnTo>
                    <a:pt x="81" y="62"/>
                  </a:lnTo>
                  <a:lnTo>
                    <a:pt x="62" y="75"/>
                  </a:lnTo>
                  <a:lnTo>
                    <a:pt x="62" y="77"/>
                  </a:lnTo>
                  <a:lnTo>
                    <a:pt x="62" y="79"/>
                  </a:lnTo>
                  <a:lnTo>
                    <a:pt x="62" y="81"/>
                  </a:lnTo>
                  <a:lnTo>
                    <a:pt x="60" y="85"/>
                  </a:lnTo>
                  <a:lnTo>
                    <a:pt x="60" y="86"/>
                  </a:lnTo>
                  <a:lnTo>
                    <a:pt x="60" y="88"/>
                  </a:lnTo>
                  <a:lnTo>
                    <a:pt x="60" y="90"/>
                  </a:lnTo>
                  <a:lnTo>
                    <a:pt x="58" y="92"/>
                  </a:lnTo>
                  <a:lnTo>
                    <a:pt x="87" y="71"/>
                  </a:lnTo>
                  <a:lnTo>
                    <a:pt x="116" y="52"/>
                  </a:lnTo>
                  <a:lnTo>
                    <a:pt x="146" y="39"/>
                  </a:lnTo>
                  <a:lnTo>
                    <a:pt x="181" y="25"/>
                  </a:lnTo>
                  <a:lnTo>
                    <a:pt x="215" y="17"/>
                  </a:lnTo>
                  <a:lnTo>
                    <a:pt x="250" y="12"/>
                  </a:lnTo>
                  <a:lnTo>
                    <a:pt x="286" y="10"/>
                  </a:lnTo>
                  <a:lnTo>
                    <a:pt x="323" y="12"/>
                  </a:lnTo>
                  <a:lnTo>
                    <a:pt x="342" y="14"/>
                  </a:lnTo>
                  <a:lnTo>
                    <a:pt x="342" y="14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10"/>
                  </a:lnTo>
                  <a:lnTo>
                    <a:pt x="344" y="8"/>
                  </a:lnTo>
                  <a:lnTo>
                    <a:pt x="344" y="6"/>
                  </a:lnTo>
                  <a:lnTo>
                    <a:pt x="344" y="6"/>
                  </a:lnTo>
                  <a:lnTo>
                    <a:pt x="344" y="4"/>
                  </a:lnTo>
                  <a:close/>
                  <a:moveTo>
                    <a:pt x="0" y="603"/>
                  </a:moveTo>
                  <a:lnTo>
                    <a:pt x="2" y="605"/>
                  </a:lnTo>
                  <a:lnTo>
                    <a:pt x="25" y="629"/>
                  </a:lnTo>
                  <a:lnTo>
                    <a:pt x="52" y="654"/>
                  </a:lnTo>
                  <a:lnTo>
                    <a:pt x="81" y="676"/>
                  </a:lnTo>
                  <a:lnTo>
                    <a:pt x="112" y="693"/>
                  </a:lnTo>
                  <a:lnTo>
                    <a:pt x="142" y="710"/>
                  </a:lnTo>
                  <a:lnTo>
                    <a:pt x="177" y="722"/>
                  </a:lnTo>
                  <a:lnTo>
                    <a:pt x="213" y="731"/>
                  </a:lnTo>
                  <a:lnTo>
                    <a:pt x="250" y="737"/>
                  </a:lnTo>
                  <a:lnTo>
                    <a:pt x="286" y="739"/>
                  </a:lnTo>
                  <a:lnTo>
                    <a:pt x="325" y="737"/>
                  </a:lnTo>
                  <a:lnTo>
                    <a:pt x="346" y="733"/>
                  </a:lnTo>
                  <a:lnTo>
                    <a:pt x="346" y="731"/>
                  </a:lnTo>
                  <a:lnTo>
                    <a:pt x="346" y="731"/>
                  </a:lnTo>
                  <a:lnTo>
                    <a:pt x="346" y="729"/>
                  </a:lnTo>
                  <a:lnTo>
                    <a:pt x="346" y="727"/>
                  </a:lnTo>
                  <a:lnTo>
                    <a:pt x="346" y="727"/>
                  </a:lnTo>
                  <a:lnTo>
                    <a:pt x="346" y="725"/>
                  </a:lnTo>
                  <a:lnTo>
                    <a:pt x="344" y="723"/>
                  </a:lnTo>
                  <a:lnTo>
                    <a:pt x="344" y="723"/>
                  </a:lnTo>
                  <a:lnTo>
                    <a:pt x="323" y="725"/>
                  </a:lnTo>
                  <a:lnTo>
                    <a:pt x="286" y="727"/>
                  </a:lnTo>
                  <a:lnTo>
                    <a:pt x="250" y="725"/>
                  </a:lnTo>
                  <a:lnTo>
                    <a:pt x="215" y="722"/>
                  </a:lnTo>
                  <a:lnTo>
                    <a:pt x="181" y="712"/>
                  </a:lnTo>
                  <a:lnTo>
                    <a:pt x="146" y="700"/>
                  </a:lnTo>
                  <a:lnTo>
                    <a:pt x="116" y="685"/>
                  </a:lnTo>
                  <a:lnTo>
                    <a:pt x="87" y="666"/>
                  </a:lnTo>
                  <a:lnTo>
                    <a:pt x="58" y="647"/>
                  </a:lnTo>
                  <a:lnTo>
                    <a:pt x="33" y="624"/>
                  </a:lnTo>
                  <a:lnTo>
                    <a:pt x="10" y="597"/>
                  </a:lnTo>
                  <a:lnTo>
                    <a:pt x="0" y="585"/>
                  </a:lnTo>
                  <a:lnTo>
                    <a:pt x="0" y="587"/>
                  </a:lnTo>
                  <a:lnTo>
                    <a:pt x="0" y="589"/>
                  </a:lnTo>
                  <a:lnTo>
                    <a:pt x="0" y="591"/>
                  </a:lnTo>
                  <a:lnTo>
                    <a:pt x="0" y="593"/>
                  </a:lnTo>
                  <a:lnTo>
                    <a:pt x="0" y="597"/>
                  </a:lnTo>
                  <a:lnTo>
                    <a:pt x="0" y="599"/>
                  </a:lnTo>
                  <a:lnTo>
                    <a:pt x="0" y="601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b8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Freeform 194"/>
            <p:cNvSpPr/>
            <p:nvPr/>
          </p:nvSpPr>
          <p:spPr>
            <a:xfrm>
              <a:off x="1933560" y="2579400"/>
              <a:ext cx="549360" cy="115740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157400"/>
                <a:gd name="textAreaBottom" fmla="*/ 1157760 h 1157400"/>
              </a:gdLst>
              <a:ahLst/>
              <a:rect l="textAreaLeft" t="textAreaTop" r="textAreaRight" b="textAreaBottom"/>
              <a:pathLst>
                <a:path w="346" h="729">
                  <a:moveTo>
                    <a:pt x="342" y="6"/>
                  </a:moveTo>
                  <a:lnTo>
                    <a:pt x="325" y="2"/>
                  </a:lnTo>
                  <a:lnTo>
                    <a:pt x="286" y="0"/>
                  </a:lnTo>
                  <a:lnTo>
                    <a:pt x="250" y="2"/>
                  </a:lnTo>
                  <a:lnTo>
                    <a:pt x="213" y="8"/>
                  </a:lnTo>
                  <a:lnTo>
                    <a:pt x="179" y="17"/>
                  </a:lnTo>
                  <a:lnTo>
                    <a:pt x="144" y="29"/>
                  </a:lnTo>
                  <a:lnTo>
                    <a:pt x="114" y="44"/>
                  </a:lnTo>
                  <a:lnTo>
                    <a:pt x="83" y="63"/>
                  </a:lnTo>
                  <a:lnTo>
                    <a:pt x="60" y="81"/>
                  </a:lnTo>
                  <a:lnTo>
                    <a:pt x="60" y="82"/>
                  </a:lnTo>
                  <a:lnTo>
                    <a:pt x="60" y="84"/>
                  </a:lnTo>
                  <a:lnTo>
                    <a:pt x="60" y="86"/>
                  </a:lnTo>
                  <a:lnTo>
                    <a:pt x="58" y="88"/>
                  </a:lnTo>
                  <a:lnTo>
                    <a:pt x="58" y="90"/>
                  </a:lnTo>
                  <a:lnTo>
                    <a:pt x="58" y="92"/>
                  </a:lnTo>
                  <a:lnTo>
                    <a:pt x="56" y="94"/>
                  </a:lnTo>
                  <a:lnTo>
                    <a:pt x="56" y="96"/>
                  </a:lnTo>
                  <a:lnTo>
                    <a:pt x="62" y="92"/>
                  </a:lnTo>
                  <a:lnTo>
                    <a:pt x="89" y="71"/>
                  </a:lnTo>
                  <a:lnTo>
                    <a:pt x="118" y="54"/>
                  </a:lnTo>
                  <a:lnTo>
                    <a:pt x="148" y="38"/>
                  </a:lnTo>
                  <a:lnTo>
                    <a:pt x="181" y="27"/>
                  </a:lnTo>
                  <a:lnTo>
                    <a:pt x="215" y="17"/>
                  </a:lnTo>
                  <a:lnTo>
                    <a:pt x="250" y="13"/>
                  </a:lnTo>
                  <a:lnTo>
                    <a:pt x="286" y="11"/>
                  </a:lnTo>
                  <a:lnTo>
                    <a:pt x="323" y="13"/>
                  </a:lnTo>
                  <a:lnTo>
                    <a:pt x="342" y="15"/>
                  </a:lnTo>
                  <a:lnTo>
                    <a:pt x="342" y="13"/>
                  </a:lnTo>
                  <a:lnTo>
                    <a:pt x="342" y="13"/>
                  </a:lnTo>
                  <a:lnTo>
                    <a:pt x="342" y="11"/>
                  </a:lnTo>
                  <a:lnTo>
                    <a:pt x="342" y="10"/>
                  </a:lnTo>
                  <a:lnTo>
                    <a:pt x="342" y="10"/>
                  </a:lnTo>
                  <a:lnTo>
                    <a:pt x="342" y="8"/>
                  </a:lnTo>
                  <a:lnTo>
                    <a:pt x="342" y="6"/>
                  </a:lnTo>
                  <a:lnTo>
                    <a:pt x="342" y="6"/>
                  </a:lnTo>
                  <a:close/>
                  <a:moveTo>
                    <a:pt x="0" y="589"/>
                  </a:moveTo>
                  <a:lnTo>
                    <a:pt x="6" y="597"/>
                  </a:lnTo>
                  <a:lnTo>
                    <a:pt x="29" y="622"/>
                  </a:lnTo>
                  <a:lnTo>
                    <a:pt x="56" y="647"/>
                  </a:lnTo>
                  <a:lnTo>
                    <a:pt x="83" y="668"/>
                  </a:lnTo>
                  <a:lnTo>
                    <a:pt x="114" y="685"/>
                  </a:lnTo>
                  <a:lnTo>
                    <a:pt x="144" y="700"/>
                  </a:lnTo>
                  <a:lnTo>
                    <a:pt x="179" y="714"/>
                  </a:lnTo>
                  <a:lnTo>
                    <a:pt x="213" y="721"/>
                  </a:lnTo>
                  <a:lnTo>
                    <a:pt x="250" y="727"/>
                  </a:lnTo>
                  <a:lnTo>
                    <a:pt x="286" y="729"/>
                  </a:lnTo>
                  <a:lnTo>
                    <a:pt x="325" y="727"/>
                  </a:lnTo>
                  <a:lnTo>
                    <a:pt x="346" y="723"/>
                  </a:lnTo>
                  <a:lnTo>
                    <a:pt x="346" y="723"/>
                  </a:lnTo>
                  <a:lnTo>
                    <a:pt x="346" y="721"/>
                  </a:lnTo>
                  <a:lnTo>
                    <a:pt x="344" y="719"/>
                  </a:lnTo>
                  <a:lnTo>
                    <a:pt x="344" y="719"/>
                  </a:lnTo>
                  <a:lnTo>
                    <a:pt x="344" y="718"/>
                  </a:lnTo>
                  <a:lnTo>
                    <a:pt x="344" y="716"/>
                  </a:lnTo>
                  <a:lnTo>
                    <a:pt x="344" y="716"/>
                  </a:lnTo>
                  <a:lnTo>
                    <a:pt x="344" y="714"/>
                  </a:lnTo>
                  <a:lnTo>
                    <a:pt x="323" y="718"/>
                  </a:lnTo>
                  <a:lnTo>
                    <a:pt x="286" y="719"/>
                  </a:lnTo>
                  <a:lnTo>
                    <a:pt x="250" y="718"/>
                  </a:lnTo>
                  <a:lnTo>
                    <a:pt x="215" y="712"/>
                  </a:lnTo>
                  <a:lnTo>
                    <a:pt x="181" y="702"/>
                  </a:lnTo>
                  <a:lnTo>
                    <a:pt x="148" y="691"/>
                  </a:lnTo>
                  <a:lnTo>
                    <a:pt x="118" y="675"/>
                  </a:lnTo>
                  <a:lnTo>
                    <a:pt x="89" y="658"/>
                  </a:lnTo>
                  <a:lnTo>
                    <a:pt x="62" y="639"/>
                  </a:lnTo>
                  <a:lnTo>
                    <a:pt x="37" y="616"/>
                  </a:lnTo>
                  <a:lnTo>
                    <a:pt x="14" y="591"/>
                  </a:lnTo>
                  <a:lnTo>
                    <a:pt x="0" y="572"/>
                  </a:lnTo>
                  <a:lnTo>
                    <a:pt x="0" y="574"/>
                  </a:lnTo>
                  <a:lnTo>
                    <a:pt x="0" y="576"/>
                  </a:lnTo>
                  <a:lnTo>
                    <a:pt x="0" y="579"/>
                  </a:lnTo>
                  <a:lnTo>
                    <a:pt x="0" y="581"/>
                  </a:lnTo>
                  <a:lnTo>
                    <a:pt x="0" y="583"/>
                  </a:lnTo>
                  <a:lnTo>
                    <a:pt x="0" y="585"/>
                  </a:lnTo>
                  <a:lnTo>
                    <a:pt x="0" y="587"/>
                  </a:lnTo>
                  <a:lnTo>
                    <a:pt x="0" y="589"/>
                  </a:lnTo>
                  <a:close/>
                </a:path>
              </a:pathLst>
            </a:custGeom>
            <a:solidFill>
              <a:srgbClr val="b9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Freeform 195"/>
            <p:cNvSpPr/>
            <p:nvPr/>
          </p:nvSpPr>
          <p:spPr>
            <a:xfrm>
              <a:off x="1933560" y="2589120"/>
              <a:ext cx="546120" cy="113832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138320"/>
                <a:gd name="textAreaBottom" fmla="*/ 1138680 h 1138320"/>
              </a:gdLst>
              <a:ahLst/>
              <a:rect l="textAreaLeft" t="textAreaTop" r="textAreaRight" b="textAreaBottom"/>
              <a:pathLst>
                <a:path w="344" h="717">
                  <a:moveTo>
                    <a:pt x="342" y="4"/>
                  </a:moveTo>
                  <a:lnTo>
                    <a:pt x="323" y="2"/>
                  </a:lnTo>
                  <a:lnTo>
                    <a:pt x="286" y="0"/>
                  </a:lnTo>
                  <a:lnTo>
                    <a:pt x="250" y="2"/>
                  </a:lnTo>
                  <a:lnTo>
                    <a:pt x="215" y="7"/>
                  </a:lnTo>
                  <a:lnTo>
                    <a:pt x="181" y="15"/>
                  </a:lnTo>
                  <a:lnTo>
                    <a:pt x="146" y="29"/>
                  </a:lnTo>
                  <a:lnTo>
                    <a:pt x="116" y="42"/>
                  </a:lnTo>
                  <a:lnTo>
                    <a:pt x="87" y="61"/>
                  </a:lnTo>
                  <a:lnTo>
                    <a:pt x="58" y="82"/>
                  </a:lnTo>
                  <a:lnTo>
                    <a:pt x="58" y="84"/>
                  </a:lnTo>
                  <a:lnTo>
                    <a:pt x="58" y="86"/>
                  </a:lnTo>
                  <a:lnTo>
                    <a:pt x="56" y="88"/>
                  </a:lnTo>
                  <a:lnTo>
                    <a:pt x="56" y="90"/>
                  </a:lnTo>
                  <a:lnTo>
                    <a:pt x="56" y="92"/>
                  </a:lnTo>
                  <a:lnTo>
                    <a:pt x="56" y="96"/>
                  </a:lnTo>
                  <a:lnTo>
                    <a:pt x="54" y="98"/>
                  </a:lnTo>
                  <a:lnTo>
                    <a:pt x="54" y="99"/>
                  </a:lnTo>
                  <a:lnTo>
                    <a:pt x="66" y="90"/>
                  </a:lnTo>
                  <a:lnTo>
                    <a:pt x="93" y="69"/>
                  </a:lnTo>
                  <a:lnTo>
                    <a:pt x="121" y="52"/>
                  </a:lnTo>
                  <a:lnTo>
                    <a:pt x="152" y="38"/>
                  </a:lnTo>
                  <a:lnTo>
                    <a:pt x="183" y="25"/>
                  </a:lnTo>
                  <a:lnTo>
                    <a:pt x="217" y="17"/>
                  </a:lnTo>
                  <a:lnTo>
                    <a:pt x="252" y="11"/>
                  </a:lnTo>
                  <a:lnTo>
                    <a:pt x="286" y="9"/>
                  </a:lnTo>
                  <a:lnTo>
                    <a:pt x="323" y="11"/>
                  </a:lnTo>
                  <a:lnTo>
                    <a:pt x="340" y="15"/>
                  </a:lnTo>
                  <a:lnTo>
                    <a:pt x="340" y="13"/>
                  </a:lnTo>
                  <a:lnTo>
                    <a:pt x="340" y="11"/>
                  </a:lnTo>
                  <a:lnTo>
                    <a:pt x="340" y="11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2" y="7"/>
                  </a:lnTo>
                  <a:lnTo>
                    <a:pt x="342" y="5"/>
                  </a:lnTo>
                  <a:lnTo>
                    <a:pt x="342" y="4"/>
                  </a:lnTo>
                  <a:close/>
                  <a:moveTo>
                    <a:pt x="0" y="575"/>
                  </a:moveTo>
                  <a:lnTo>
                    <a:pt x="10" y="587"/>
                  </a:lnTo>
                  <a:lnTo>
                    <a:pt x="33" y="614"/>
                  </a:lnTo>
                  <a:lnTo>
                    <a:pt x="58" y="637"/>
                  </a:lnTo>
                  <a:lnTo>
                    <a:pt x="87" y="656"/>
                  </a:lnTo>
                  <a:lnTo>
                    <a:pt x="116" y="675"/>
                  </a:lnTo>
                  <a:lnTo>
                    <a:pt x="146" y="690"/>
                  </a:lnTo>
                  <a:lnTo>
                    <a:pt x="181" y="702"/>
                  </a:lnTo>
                  <a:lnTo>
                    <a:pt x="215" y="712"/>
                  </a:lnTo>
                  <a:lnTo>
                    <a:pt x="250" y="715"/>
                  </a:lnTo>
                  <a:lnTo>
                    <a:pt x="286" y="717"/>
                  </a:lnTo>
                  <a:lnTo>
                    <a:pt x="323" y="715"/>
                  </a:lnTo>
                  <a:lnTo>
                    <a:pt x="344" y="713"/>
                  </a:lnTo>
                  <a:lnTo>
                    <a:pt x="344" y="712"/>
                  </a:lnTo>
                  <a:lnTo>
                    <a:pt x="344" y="710"/>
                  </a:lnTo>
                  <a:lnTo>
                    <a:pt x="344" y="710"/>
                  </a:lnTo>
                  <a:lnTo>
                    <a:pt x="344" y="708"/>
                  </a:lnTo>
                  <a:lnTo>
                    <a:pt x="344" y="706"/>
                  </a:lnTo>
                  <a:lnTo>
                    <a:pt x="344" y="706"/>
                  </a:lnTo>
                  <a:lnTo>
                    <a:pt x="344" y="704"/>
                  </a:lnTo>
                  <a:lnTo>
                    <a:pt x="342" y="702"/>
                  </a:lnTo>
                  <a:lnTo>
                    <a:pt x="323" y="706"/>
                  </a:lnTo>
                  <a:lnTo>
                    <a:pt x="286" y="708"/>
                  </a:lnTo>
                  <a:lnTo>
                    <a:pt x="252" y="706"/>
                  </a:lnTo>
                  <a:lnTo>
                    <a:pt x="217" y="700"/>
                  </a:lnTo>
                  <a:lnTo>
                    <a:pt x="183" y="692"/>
                  </a:lnTo>
                  <a:lnTo>
                    <a:pt x="152" y="681"/>
                  </a:lnTo>
                  <a:lnTo>
                    <a:pt x="121" y="666"/>
                  </a:lnTo>
                  <a:lnTo>
                    <a:pt x="93" y="648"/>
                  </a:lnTo>
                  <a:lnTo>
                    <a:pt x="66" y="629"/>
                  </a:lnTo>
                  <a:lnTo>
                    <a:pt x="41" y="606"/>
                  </a:lnTo>
                  <a:lnTo>
                    <a:pt x="18" y="581"/>
                  </a:lnTo>
                  <a:lnTo>
                    <a:pt x="0" y="558"/>
                  </a:lnTo>
                  <a:lnTo>
                    <a:pt x="0" y="560"/>
                  </a:lnTo>
                  <a:lnTo>
                    <a:pt x="0" y="562"/>
                  </a:lnTo>
                  <a:lnTo>
                    <a:pt x="0" y="564"/>
                  </a:lnTo>
                  <a:lnTo>
                    <a:pt x="0" y="566"/>
                  </a:lnTo>
                  <a:lnTo>
                    <a:pt x="0" y="568"/>
                  </a:lnTo>
                  <a:lnTo>
                    <a:pt x="0" y="570"/>
                  </a:lnTo>
                  <a:lnTo>
                    <a:pt x="0" y="573"/>
                  </a:lnTo>
                  <a:lnTo>
                    <a:pt x="0" y="575"/>
                  </a:lnTo>
                  <a:close/>
                </a:path>
              </a:pathLst>
            </a:custGeom>
            <a:solidFill>
              <a:srgbClr val="ba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196"/>
            <p:cNvSpPr/>
            <p:nvPr/>
          </p:nvSpPr>
          <p:spPr>
            <a:xfrm>
              <a:off x="1933560" y="2597040"/>
              <a:ext cx="546120" cy="112392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344" h="708">
                  <a:moveTo>
                    <a:pt x="342" y="4"/>
                  </a:moveTo>
                  <a:lnTo>
                    <a:pt x="323" y="2"/>
                  </a:lnTo>
                  <a:lnTo>
                    <a:pt x="286" y="0"/>
                  </a:lnTo>
                  <a:lnTo>
                    <a:pt x="250" y="2"/>
                  </a:lnTo>
                  <a:lnTo>
                    <a:pt x="215" y="6"/>
                  </a:lnTo>
                  <a:lnTo>
                    <a:pt x="181" y="16"/>
                  </a:lnTo>
                  <a:lnTo>
                    <a:pt x="148" y="27"/>
                  </a:lnTo>
                  <a:lnTo>
                    <a:pt x="118" y="43"/>
                  </a:lnTo>
                  <a:lnTo>
                    <a:pt x="89" y="60"/>
                  </a:lnTo>
                  <a:lnTo>
                    <a:pt x="62" y="81"/>
                  </a:lnTo>
                  <a:lnTo>
                    <a:pt x="56" y="85"/>
                  </a:lnTo>
                  <a:lnTo>
                    <a:pt x="56" y="87"/>
                  </a:lnTo>
                  <a:lnTo>
                    <a:pt x="56" y="91"/>
                  </a:lnTo>
                  <a:lnTo>
                    <a:pt x="54" y="93"/>
                  </a:lnTo>
                  <a:lnTo>
                    <a:pt x="54" y="94"/>
                  </a:lnTo>
                  <a:lnTo>
                    <a:pt x="54" y="96"/>
                  </a:lnTo>
                  <a:lnTo>
                    <a:pt x="54" y="98"/>
                  </a:lnTo>
                  <a:lnTo>
                    <a:pt x="52" y="100"/>
                  </a:lnTo>
                  <a:lnTo>
                    <a:pt x="52" y="102"/>
                  </a:lnTo>
                  <a:lnTo>
                    <a:pt x="68" y="89"/>
                  </a:lnTo>
                  <a:lnTo>
                    <a:pt x="94" y="70"/>
                  </a:lnTo>
                  <a:lnTo>
                    <a:pt x="123" y="52"/>
                  </a:lnTo>
                  <a:lnTo>
                    <a:pt x="154" y="37"/>
                  </a:lnTo>
                  <a:lnTo>
                    <a:pt x="185" y="25"/>
                  </a:lnTo>
                  <a:lnTo>
                    <a:pt x="217" y="18"/>
                  </a:lnTo>
                  <a:lnTo>
                    <a:pt x="252" y="12"/>
                  </a:lnTo>
                  <a:lnTo>
                    <a:pt x="286" y="10"/>
                  </a:lnTo>
                  <a:lnTo>
                    <a:pt x="323" y="12"/>
                  </a:lnTo>
                  <a:lnTo>
                    <a:pt x="340" y="14"/>
                  </a:lnTo>
                  <a:lnTo>
                    <a:pt x="340" y="14"/>
                  </a:lnTo>
                  <a:lnTo>
                    <a:pt x="340" y="12"/>
                  </a:lnTo>
                  <a:lnTo>
                    <a:pt x="340" y="10"/>
                  </a:lnTo>
                  <a:lnTo>
                    <a:pt x="340" y="10"/>
                  </a:lnTo>
                  <a:lnTo>
                    <a:pt x="340" y="8"/>
                  </a:lnTo>
                  <a:lnTo>
                    <a:pt x="340" y="6"/>
                  </a:lnTo>
                  <a:lnTo>
                    <a:pt x="340" y="6"/>
                  </a:lnTo>
                  <a:lnTo>
                    <a:pt x="342" y="4"/>
                  </a:lnTo>
                  <a:close/>
                  <a:moveTo>
                    <a:pt x="0" y="561"/>
                  </a:moveTo>
                  <a:lnTo>
                    <a:pt x="14" y="580"/>
                  </a:lnTo>
                  <a:lnTo>
                    <a:pt x="37" y="605"/>
                  </a:lnTo>
                  <a:lnTo>
                    <a:pt x="62" y="628"/>
                  </a:lnTo>
                  <a:lnTo>
                    <a:pt x="89" y="647"/>
                  </a:lnTo>
                  <a:lnTo>
                    <a:pt x="118" y="664"/>
                  </a:lnTo>
                  <a:lnTo>
                    <a:pt x="148" y="680"/>
                  </a:lnTo>
                  <a:lnTo>
                    <a:pt x="181" y="691"/>
                  </a:lnTo>
                  <a:lnTo>
                    <a:pt x="215" y="701"/>
                  </a:lnTo>
                  <a:lnTo>
                    <a:pt x="250" y="707"/>
                  </a:lnTo>
                  <a:lnTo>
                    <a:pt x="286" y="708"/>
                  </a:lnTo>
                  <a:lnTo>
                    <a:pt x="323" y="707"/>
                  </a:lnTo>
                  <a:lnTo>
                    <a:pt x="344" y="703"/>
                  </a:lnTo>
                  <a:lnTo>
                    <a:pt x="344" y="701"/>
                  </a:lnTo>
                  <a:lnTo>
                    <a:pt x="344" y="701"/>
                  </a:lnTo>
                  <a:lnTo>
                    <a:pt x="344" y="699"/>
                  </a:lnTo>
                  <a:lnTo>
                    <a:pt x="342" y="699"/>
                  </a:lnTo>
                  <a:lnTo>
                    <a:pt x="342" y="697"/>
                  </a:lnTo>
                  <a:lnTo>
                    <a:pt x="342" y="695"/>
                  </a:lnTo>
                  <a:lnTo>
                    <a:pt x="342" y="695"/>
                  </a:lnTo>
                  <a:lnTo>
                    <a:pt x="342" y="693"/>
                  </a:lnTo>
                  <a:lnTo>
                    <a:pt x="323" y="695"/>
                  </a:lnTo>
                  <a:lnTo>
                    <a:pt x="286" y="697"/>
                  </a:lnTo>
                  <a:lnTo>
                    <a:pt x="252" y="695"/>
                  </a:lnTo>
                  <a:lnTo>
                    <a:pt x="217" y="691"/>
                  </a:lnTo>
                  <a:lnTo>
                    <a:pt x="185" y="682"/>
                  </a:lnTo>
                  <a:lnTo>
                    <a:pt x="154" y="670"/>
                  </a:lnTo>
                  <a:lnTo>
                    <a:pt x="123" y="657"/>
                  </a:lnTo>
                  <a:lnTo>
                    <a:pt x="94" y="639"/>
                  </a:lnTo>
                  <a:lnTo>
                    <a:pt x="68" y="618"/>
                  </a:lnTo>
                  <a:lnTo>
                    <a:pt x="45" y="597"/>
                  </a:lnTo>
                  <a:lnTo>
                    <a:pt x="22" y="572"/>
                  </a:lnTo>
                  <a:lnTo>
                    <a:pt x="2" y="545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0" y="547"/>
                  </a:lnTo>
                  <a:lnTo>
                    <a:pt x="0" y="549"/>
                  </a:lnTo>
                  <a:lnTo>
                    <a:pt x="0" y="551"/>
                  </a:lnTo>
                  <a:lnTo>
                    <a:pt x="0" y="555"/>
                  </a:lnTo>
                  <a:lnTo>
                    <a:pt x="0" y="557"/>
                  </a:lnTo>
                  <a:lnTo>
                    <a:pt x="0" y="559"/>
                  </a:lnTo>
                  <a:lnTo>
                    <a:pt x="0" y="561"/>
                  </a:lnTo>
                  <a:close/>
                </a:path>
              </a:pathLst>
            </a:custGeom>
            <a:solidFill>
              <a:srgbClr val="bb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197"/>
            <p:cNvSpPr/>
            <p:nvPr/>
          </p:nvSpPr>
          <p:spPr>
            <a:xfrm>
              <a:off x="1933560" y="2603160"/>
              <a:ext cx="542880" cy="110988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342" h="699">
                  <a:moveTo>
                    <a:pt x="340" y="6"/>
                  </a:moveTo>
                  <a:lnTo>
                    <a:pt x="323" y="2"/>
                  </a:lnTo>
                  <a:lnTo>
                    <a:pt x="286" y="0"/>
                  </a:lnTo>
                  <a:lnTo>
                    <a:pt x="252" y="2"/>
                  </a:lnTo>
                  <a:lnTo>
                    <a:pt x="217" y="8"/>
                  </a:lnTo>
                  <a:lnTo>
                    <a:pt x="183" y="16"/>
                  </a:lnTo>
                  <a:lnTo>
                    <a:pt x="152" y="29"/>
                  </a:lnTo>
                  <a:lnTo>
                    <a:pt x="121" y="43"/>
                  </a:lnTo>
                  <a:lnTo>
                    <a:pt x="93" y="60"/>
                  </a:lnTo>
                  <a:lnTo>
                    <a:pt x="66" y="81"/>
                  </a:lnTo>
                  <a:lnTo>
                    <a:pt x="54" y="90"/>
                  </a:lnTo>
                  <a:lnTo>
                    <a:pt x="54" y="92"/>
                  </a:lnTo>
                  <a:lnTo>
                    <a:pt x="54" y="94"/>
                  </a:lnTo>
                  <a:lnTo>
                    <a:pt x="52" y="96"/>
                  </a:lnTo>
                  <a:lnTo>
                    <a:pt x="52" y="98"/>
                  </a:lnTo>
                  <a:lnTo>
                    <a:pt x="52" y="102"/>
                  </a:lnTo>
                  <a:lnTo>
                    <a:pt x="52" y="104"/>
                  </a:lnTo>
                  <a:lnTo>
                    <a:pt x="50" y="106"/>
                  </a:lnTo>
                  <a:lnTo>
                    <a:pt x="50" y="108"/>
                  </a:lnTo>
                  <a:lnTo>
                    <a:pt x="71" y="89"/>
                  </a:lnTo>
                  <a:lnTo>
                    <a:pt x="98" y="69"/>
                  </a:lnTo>
                  <a:lnTo>
                    <a:pt x="125" y="52"/>
                  </a:lnTo>
                  <a:lnTo>
                    <a:pt x="156" y="37"/>
                  </a:lnTo>
                  <a:lnTo>
                    <a:pt x="187" y="27"/>
                  </a:lnTo>
                  <a:lnTo>
                    <a:pt x="219" y="18"/>
                  </a:lnTo>
                  <a:lnTo>
                    <a:pt x="252" y="14"/>
                  </a:lnTo>
                  <a:lnTo>
                    <a:pt x="286" y="12"/>
                  </a:lnTo>
                  <a:lnTo>
                    <a:pt x="321" y="14"/>
                  </a:lnTo>
                  <a:lnTo>
                    <a:pt x="338" y="16"/>
                  </a:lnTo>
                  <a:lnTo>
                    <a:pt x="338" y="14"/>
                  </a:lnTo>
                  <a:lnTo>
                    <a:pt x="340" y="14"/>
                  </a:lnTo>
                  <a:lnTo>
                    <a:pt x="340" y="12"/>
                  </a:lnTo>
                  <a:lnTo>
                    <a:pt x="340" y="10"/>
                  </a:lnTo>
                  <a:lnTo>
                    <a:pt x="340" y="10"/>
                  </a:lnTo>
                  <a:lnTo>
                    <a:pt x="340" y="8"/>
                  </a:lnTo>
                  <a:lnTo>
                    <a:pt x="340" y="6"/>
                  </a:lnTo>
                  <a:lnTo>
                    <a:pt x="340" y="6"/>
                  </a:lnTo>
                  <a:close/>
                  <a:moveTo>
                    <a:pt x="0" y="549"/>
                  </a:moveTo>
                  <a:lnTo>
                    <a:pt x="18" y="572"/>
                  </a:lnTo>
                  <a:lnTo>
                    <a:pt x="41" y="597"/>
                  </a:lnTo>
                  <a:lnTo>
                    <a:pt x="66" y="620"/>
                  </a:lnTo>
                  <a:lnTo>
                    <a:pt x="93" y="639"/>
                  </a:lnTo>
                  <a:lnTo>
                    <a:pt x="121" y="657"/>
                  </a:lnTo>
                  <a:lnTo>
                    <a:pt x="152" y="672"/>
                  </a:lnTo>
                  <a:lnTo>
                    <a:pt x="183" y="683"/>
                  </a:lnTo>
                  <a:lnTo>
                    <a:pt x="217" y="691"/>
                  </a:lnTo>
                  <a:lnTo>
                    <a:pt x="252" y="697"/>
                  </a:lnTo>
                  <a:lnTo>
                    <a:pt x="286" y="699"/>
                  </a:lnTo>
                  <a:lnTo>
                    <a:pt x="323" y="697"/>
                  </a:lnTo>
                  <a:lnTo>
                    <a:pt x="342" y="693"/>
                  </a:lnTo>
                  <a:lnTo>
                    <a:pt x="342" y="693"/>
                  </a:lnTo>
                  <a:lnTo>
                    <a:pt x="342" y="691"/>
                  </a:lnTo>
                  <a:lnTo>
                    <a:pt x="342" y="691"/>
                  </a:lnTo>
                  <a:lnTo>
                    <a:pt x="342" y="689"/>
                  </a:lnTo>
                  <a:lnTo>
                    <a:pt x="342" y="687"/>
                  </a:lnTo>
                  <a:lnTo>
                    <a:pt x="342" y="687"/>
                  </a:lnTo>
                  <a:lnTo>
                    <a:pt x="342" y="685"/>
                  </a:lnTo>
                  <a:lnTo>
                    <a:pt x="342" y="683"/>
                  </a:lnTo>
                  <a:lnTo>
                    <a:pt x="321" y="687"/>
                  </a:lnTo>
                  <a:lnTo>
                    <a:pt x="286" y="689"/>
                  </a:lnTo>
                  <a:lnTo>
                    <a:pt x="252" y="687"/>
                  </a:lnTo>
                  <a:lnTo>
                    <a:pt x="219" y="681"/>
                  </a:lnTo>
                  <a:lnTo>
                    <a:pt x="187" y="674"/>
                  </a:lnTo>
                  <a:lnTo>
                    <a:pt x="156" y="662"/>
                  </a:lnTo>
                  <a:lnTo>
                    <a:pt x="125" y="647"/>
                  </a:lnTo>
                  <a:lnTo>
                    <a:pt x="98" y="632"/>
                  </a:lnTo>
                  <a:lnTo>
                    <a:pt x="71" y="610"/>
                  </a:lnTo>
                  <a:lnTo>
                    <a:pt x="48" y="589"/>
                  </a:lnTo>
                  <a:lnTo>
                    <a:pt x="25" y="564"/>
                  </a:lnTo>
                  <a:lnTo>
                    <a:pt x="6" y="539"/>
                  </a:lnTo>
                  <a:lnTo>
                    <a:pt x="0" y="528"/>
                  </a:lnTo>
                  <a:lnTo>
                    <a:pt x="0" y="532"/>
                  </a:lnTo>
                  <a:lnTo>
                    <a:pt x="0" y="534"/>
                  </a:lnTo>
                  <a:lnTo>
                    <a:pt x="0" y="536"/>
                  </a:lnTo>
                  <a:lnTo>
                    <a:pt x="0" y="538"/>
                  </a:lnTo>
                  <a:lnTo>
                    <a:pt x="0" y="541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bce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Freeform 198"/>
            <p:cNvSpPr/>
            <p:nvPr/>
          </p:nvSpPr>
          <p:spPr>
            <a:xfrm>
              <a:off x="1933560" y="2612880"/>
              <a:ext cx="542880" cy="10904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1090440"/>
                <a:gd name="textAreaBottom" fmla="*/ 1090800 h 1090440"/>
              </a:gdLst>
              <a:ahLst/>
              <a:rect l="textAreaLeft" t="textAreaTop" r="textAreaRight" b="textAreaBottom"/>
              <a:pathLst>
                <a:path w="342" h="687">
                  <a:moveTo>
                    <a:pt x="340" y="4"/>
                  </a:moveTo>
                  <a:lnTo>
                    <a:pt x="323" y="2"/>
                  </a:lnTo>
                  <a:lnTo>
                    <a:pt x="286" y="0"/>
                  </a:lnTo>
                  <a:lnTo>
                    <a:pt x="252" y="2"/>
                  </a:lnTo>
                  <a:lnTo>
                    <a:pt x="217" y="8"/>
                  </a:lnTo>
                  <a:lnTo>
                    <a:pt x="185" y="15"/>
                  </a:lnTo>
                  <a:lnTo>
                    <a:pt x="154" y="27"/>
                  </a:lnTo>
                  <a:lnTo>
                    <a:pt x="123" y="42"/>
                  </a:lnTo>
                  <a:lnTo>
                    <a:pt x="94" y="60"/>
                  </a:lnTo>
                  <a:lnTo>
                    <a:pt x="68" y="79"/>
                  </a:lnTo>
                  <a:lnTo>
                    <a:pt x="52" y="92"/>
                  </a:lnTo>
                  <a:lnTo>
                    <a:pt x="52" y="96"/>
                  </a:lnTo>
                  <a:lnTo>
                    <a:pt x="50" y="98"/>
                  </a:lnTo>
                  <a:lnTo>
                    <a:pt x="50" y="100"/>
                  </a:lnTo>
                  <a:lnTo>
                    <a:pt x="50" y="102"/>
                  </a:lnTo>
                  <a:lnTo>
                    <a:pt x="50" y="104"/>
                  </a:lnTo>
                  <a:lnTo>
                    <a:pt x="48" y="108"/>
                  </a:lnTo>
                  <a:lnTo>
                    <a:pt x="48" y="109"/>
                  </a:lnTo>
                  <a:lnTo>
                    <a:pt x="48" y="111"/>
                  </a:lnTo>
                  <a:lnTo>
                    <a:pt x="50" y="108"/>
                  </a:lnTo>
                  <a:lnTo>
                    <a:pt x="75" y="86"/>
                  </a:lnTo>
                  <a:lnTo>
                    <a:pt x="100" y="67"/>
                  </a:lnTo>
                  <a:lnTo>
                    <a:pt x="127" y="50"/>
                  </a:lnTo>
                  <a:lnTo>
                    <a:pt x="158" y="37"/>
                  </a:lnTo>
                  <a:lnTo>
                    <a:pt x="189" y="25"/>
                  </a:lnTo>
                  <a:lnTo>
                    <a:pt x="219" y="17"/>
                  </a:lnTo>
                  <a:lnTo>
                    <a:pt x="254" y="12"/>
                  </a:lnTo>
                  <a:lnTo>
                    <a:pt x="286" y="10"/>
                  </a:lnTo>
                  <a:lnTo>
                    <a:pt x="321" y="12"/>
                  </a:lnTo>
                  <a:lnTo>
                    <a:pt x="338" y="15"/>
                  </a:lnTo>
                  <a:lnTo>
                    <a:pt x="338" y="14"/>
                  </a:lnTo>
                  <a:lnTo>
                    <a:pt x="338" y="12"/>
                  </a:lnTo>
                  <a:lnTo>
                    <a:pt x="338" y="12"/>
                  </a:lnTo>
                  <a:lnTo>
                    <a:pt x="338" y="10"/>
                  </a:lnTo>
                  <a:lnTo>
                    <a:pt x="338" y="8"/>
                  </a:lnTo>
                  <a:lnTo>
                    <a:pt x="340" y="8"/>
                  </a:lnTo>
                  <a:lnTo>
                    <a:pt x="340" y="6"/>
                  </a:lnTo>
                  <a:lnTo>
                    <a:pt x="340" y="4"/>
                  </a:lnTo>
                  <a:close/>
                  <a:moveTo>
                    <a:pt x="0" y="533"/>
                  </a:moveTo>
                  <a:lnTo>
                    <a:pt x="2" y="535"/>
                  </a:lnTo>
                  <a:lnTo>
                    <a:pt x="22" y="562"/>
                  </a:lnTo>
                  <a:lnTo>
                    <a:pt x="45" y="587"/>
                  </a:lnTo>
                  <a:lnTo>
                    <a:pt x="68" y="608"/>
                  </a:lnTo>
                  <a:lnTo>
                    <a:pt x="94" y="629"/>
                  </a:lnTo>
                  <a:lnTo>
                    <a:pt x="123" y="647"/>
                  </a:lnTo>
                  <a:lnTo>
                    <a:pt x="154" y="660"/>
                  </a:lnTo>
                  <a:lnTo>
                    <a:pt x="185" y="672"/>
                  </a:lnTo>
                  <a:lnTo>
                    <a:pt x="217" y="681"/>
                  </a:lnTo>
                  <a:lnTo>
                    <a:pt x="252" y="685"/>
                  </a:lnTo>
                  <a:lnTo>
                    <a:pt x="286" y="687"/>
                  </a:lnTo>
                  <a:lnTo>
                    <a:pt x="323" y="685"/>
                  </a:lnTo>
                  <a:lnTo>
                    <a:pt x="342" y="683"/>
                  </a:lnTo>
                  <a:lnTo>
                    <a:pt x="342" y="681"/>
                  </a:lnTo>
                  <a:lnTo>
                    <a:pt x="342" y="681"/>
                  </a:lnTo>
                  <a:lnTo>
                    <a:pt x="342" y="679"/>
                  </a:lnTo>
                  <a:lnTo>
                    <a:pt x="342" y="677"/>
                  </a:lnTo>
                  <a:lnTo>
                    <a:pt x="340" y="677"/>
                  </a:lnTo>
                  <a:lnTo>
                    <a:pt x="340" y="675"/>
                  </a:lnTo>
                  <a:lnTo>
                    <a:pt x="340" y="674"/>
                  </a:lnTo>
                  <a:lnTo>
                    <a:pt x="340" y="674"/>
                  </a:lnTo>
                  <a:lnTo>
                    <a:pt x="321" y="675"/>
                  </a:lnTo>
                  <a:lnTo>
                    <a:pt x="286" y="677"/>
                  </a:lnTo>
                  <a:lnTo>
                    <a:pt x="254" y="675"/>
                  </a:lnTo>
                  <a:lnTo>
                    <a:pt x="219" y="670"/>
                  </a:lnTo>
                  <a:lnTo>
                    <a:pt x="189" y="662"/>
                  </a:lnTo>
                  <a:lnTo>
                    <a:pt x="158" y="651"/>
                  </a:lnTo>
                  <a:lnTo>
                    <a:pt x="127" y="637"/>
                  </a:lnTo>
                  <a:lnTo>
                    <a:pt x="100" y="620"/>
                  </a:lnTo>
                  <a:lnTo>
                    <a:pt x="75" y="601"/>
                  </a:lnTo>
                  <a:lnTo>
                    <a:pt x="50" y="580"/>
                  </a:lnTo>
                  <a:lnTo>
                    <a:pt x="29" y="556"/>
                  </a:lnTo>
                  <a:lnTo>
                    <a:pt x="10" y="530"/>
                  </a:lnTo>
                  <a:lnTo>
                    <a:pt x="0" y="512"/>
                  </a:lnTo>
                  <a:lnTo>
                    <a:pt x="0" y="516"/>
                  </a:lnTo>
                  <a:lnTo>
                    <a:pt x="0" y="518"/>
                  </a:lnTo>
                  <a:lnTo>
                    <a:pt x="0" y="520"/>
                  </a:lnTo>
                  <a:lnTo>
                    <a:pt x="0" y="522"/>
                  </a:lnTo>
                  <a:lnTo>
                    <a:pt x="0" y="526"/>
                  </a:lnTo>
                  <a:lnTo>
                    <a:pt x="0" y="528"/>
                  </a:lnTo>
                  <a:lnTo>
                    <a:pt x="0" y="530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bde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Freeform 199"/>
            <p:cNvSpPr/>
            <p:nvPr/>
          </p:nvSpPr>
          <p:spPr>
            <a:xfrm>
              <a:off x="1933560" y="2622240"/>
              <a:ext cx="542880" cy="10749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1074960"/>
                <a:gd name="textAreaBottom" fmla="*/ 1075320 h 1074960"/>
              </a:gdLst>
              <a:ahLst/>
              <a:rect l="textAreaLeft" t="textAreaTop" r="textAreaRight" b="textAreaBottom"/>
              <a:pathLst>
                <a:path w="342" h="677">
                  <a:moveTo>
                    <a:pt x="338" y="4"/>
                  </a:moveTo>
                  <a:lnTo>
                    <a:pt x="321" y="2"/>
                  </a:lnTo>
                  <a:lnTo>
                    <a:pt x="286" y="0"/>
                  </a:lnTo>
                  <a:lnTo>
                    <a:pt x="252" y="2"/>
                  </a:lnTo>
                  <a:lnTo>
                    <a:pt x="219" y="6"/>
                  </a:lnTo>
                  <a:lnTo>
                    <a:pt x="187" y="15"/>
                  </a:lnTo>
                  <a:lnTo>
                    <a:pt x="156" y="25"/>
                  </a:lnTo>
                  <a:lnTo>
                    <a:pt x="125" y="40"/>
                  </a:lnTo>
                  <a:lnTo>
                    <a:pt x="98" y="57"/>
                  </a:lnTo>
                  <a:lnTo>
                    <a:pt x="71" y="77"/>
                  </a:lnTo>
                  <a:lnTo>
                    <a:pt x="50" y="96"/>
                  </a:lnTo>
                  <a:lnTo>
                    <a:pt x="50" y="98"/>
                  </a:lnTo>
                  <a:lnTo>
                    <a:pt x="48" y="102"/>
                  </a:lnTo>
                  <a:lnTo>
                    <a:pt x="48" y="103"/>
                  </a:lnTo>
                  <a:lnTo>
                    <a:pt x="48" y="105"/>
                  </a:lnTo>
                  <a:lnTo>
                    <a:pt x="48" y="107"/>
                  </a:lnTo>
                  <a:lnTo>
                    <a:pt x="46" y="111"/>
                  </a:lnTo>
                  <a:lnTo>
                    <a:pt x="46" y="113"/>
                  </a:lnTo>
                  <a:lnTo>
                    <a:pt x="46" y="115"/>
                  </a:lnTo>
                  <a:lnTo>
                    <a:pt x="54" y="105"/>
                  </a:lnTo>
                  <a:lnTo>
                    <a:pt x="77" y="84"/>
                  </a:lnTo>
                  <a:lnTo>
                    <a:pt x="104" y="65"/>
                  </a:lnTo>
                  <a:lnTo>
                    <a:pt x="131" y="50"/>
                  </a:lnTo>
                  <a:lnTo>
                    <a:pt x="160" y="34"/>
                  </a:lnTo>
                  <a:lnTo>
                    <a:pt x="189" y="25"/>
                  </a:lnTo>
                  <a:lnTo>
                    <a:pt x="221" y="15"/>
                  </a:lnTo>
                  <a:lnTo>
                    <a:pt x="254" y="11"/>
                  </a:lnTo>
                  <a:lnTo>
                    <a:pt x="286" y="9"/>
                  </a:lnTo>
                  <a:lnTo>
                    <a:pt x="321" y="11"/>
                  </a:lnTo>
                  <a:lnTo>
                    <a:pt x="336" y="13"/>
                  </a:lnTo>
                  <a:lnTo>
                    <a:pt x="338" y="11"/>
                  </a:lnTo>
                  <a:lnTo>
                    <a:pt x="338" y="11"/>
                  </a:lnTo>
                  <a:lnTo>
                    <a:pt x="338" y="9"/>
                  </a:lnTo>
                  <a:lnTo>
                    <a:pt x="338" y="9"/>
                  </a:lnTo>
                  <a:lnTo>
                    <a:pt x="338" y="8"/>
                  </a:lnTo>
                  <a:lnTo>
                    <a:pt x="338" y="6"/>
                  </a:lnTo>
                  <a:lnTo>
                    <a:pt x="338" y="6"/>
                  </a:lnTo>
                  <a:lnTo>
                    <a:pt x="338" y="4"/>
                  </a:lnTo>
                  <a:close/>
                  <a:moveTo>
                    <a:pt x="0" y="516"/>
                  </a:moveTo>
                  <a:lnTo>
                    <a:pt x="6" y="527"/>
                  </a:lnTo>
                  <a:lnTo>
                    <a:pt x="25" y="552"/>
                  </a:lnTo>
                  <a:lnTo>
                    <a:pt x="48" y="577"/>
                  </a:lnTo>
                  <a:lnTo>
                    <a:pt x="71" y="598"/>
                  </a:lnTo>
                  <a:lnTo>
                    <a:pt x="98" y="620"/>
                  </a:lnTo>
                  <a:lnTo>
                    <a:pt x="125" y="635"/>
                  </a:lnTo>
                  <a:lnTo>
                    <a:pt x="156" y="650"/>
                  </a:lnTo>
                  <a:lnTo>
                    <a:pt x="187" y="662"/>
                  </a:lnTo>
                  <a:lnTo>
                    <a:pt x="219" y="669"/>
                  </a:lnTo>
                  <a:lnTo>
                    <a:pt x="252" y="675"/>
                  </a:lnTo>
                  <a:lnTo>
                    <a:pt x="286" y="677"/>
                  </a:lnTo>
                  <a:lnTo>
                    <a:pt x="321" y="675"/>
                  </a:lnTo>
                  <a:lnTo>
                    <a:pt x="342" y="671"/>
                  </a:lnTo>
                  <a:lnTo>
                    <a:pt x="340" y="671"/>
                  </a:lnTo>
                  <a:lnTo>
                    <a:pt x="340" y="669"/>
                  </a:lnTo>
                  <a:lnTo>
                    <a:pt x="340" y="668"/>
                  </a:lnTo>
                  <a:lnTo>
                    <a:pt x="340" y="668"/>
                  </a:lnTo>
                  <a:lnTo>
                    <a:pt x="340" y="666"/>
                  </a:lnTo>
                  <a:lnTo>
                    <a:pt x="340" y="664"/>
                  </a:lnTo>
                  <a:lnTo>
                    <a:pt x="340" y="664"/>
                  </a:lnTo>
                  <a:lnTo>
                    <a:pt x="340" y="662"/>
                  </a:lnTo>
                  <a:lnTo>
                    <a:pt x="321" y="664"/>
                  </a:lnTo>
                  <a:lnTo>
                    <a:pt x="286" y="666"/>
                  </a:lnTo>
                  <a:lnTo>
                    <a:pt x="254" y="664"/>
                  </a:lnTo>
                  <a:lnTo>
                    <a:pt x="221" y="660"/>
                  </a:lnTo>
                  <a:lnTo>
                    <a:pt x="189" y="652"/>
                  </a:lnTo>
                  <a:lnTo>
                    <a:pt x="160" y="641"/>
                  </a:lnTo>
                  <a:lnTo>
                    <a:pt x="131" y="627"/>
                  </a:lnTo>
                  <a:lnTo>
                    <a:pt x="104" y="610"/>
                  </a:lnTo>
                  <a:lnTo>
                    <a:pt x="77" y="591"/>
                  </a:lnTo>
                  <a:lnTo>
                    <a:pt x="54" y="570"/>
                  </a:lnTo>
                  <a:lnTo>
                    <a:pt x="33" y="547"/>
                  </a:lnTo>
                  <a:lnTo>
                    <a:pt x="14" y="522"/>
                  </a:lnTo>
                  <a:lnTo>
                    <a:pt x="0" y="497"/>
                  </a:lnTo>
                  <a:lnTo>
                    <a:pt x="0" y="499"/>
                  </a:lnTo>
                  <a:lnTo>
                    <a:pt x="0" y="503"/>
                  </a:lnTo>
                  <a:lnTo>
                    <a:pt x="0" y="504"/>
                  </a:lnTo>
                  <a:lnTo>
                    <a:pt x="0" y="506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0" y="514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be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200"/>
            <p:cNvSpPr/>
            <p:nvPr/>
          </p:nvSpPr>
          <p:spPr>
            <a:xfrm>
              <a:off x="1933560" y="2628720"/>
              <a:ext cx="539640" cy="105876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1058760"/>
                <a:gd name="textAreaBottom" fmla="*/ 1059120 h 1058760"/>
              </a:gdLst>
              <a:ahLst/>
              <a:rect l="textAreaLeft" t="textAreaTop" r="textAreaRight" b="textAreaBottom"/>
              <a:pathLst>
                <a:path w="340" h="667">
                  <a:moveTo>
                    <a:pt x="338" y="5"/>
                  </a:moveTo>
                  <a:lnTo>
                    <a:pt x="321" y="2"/>
                  </a:lnTo>
                  <a:lnTo>
                    <a:pt x="286" y="0"/>
                  </a:lnTo>
                  <a:lnTo>
                    <a:pt x="254" y="2"/>
                  </a:lnTo>
                  <a:lnTo>
                    <a:pt x="219" y="7"/>
                  </a:lnTo>
                  <a:lnTo>
                    <a:pt x="189" y="15"/>
                  </a:lnTo>
                  <a:lnTo>
                    <a:pt x="158" y="27"/>
                  </a:lnTo>
                  <a:lnTo>
                    <a:pt x="127" y="40"/>
                  </a:lnTo>
                  <a:lnTo>
                    <a:pt x="100" y="57"/>
                  </a:lnTo>
                  <a:lnTo>
                    <a:pt x="75" y="76"/>
                  </a:lnTo>
                  <a:lnTo>
                    <a:pt x="50" y="98"/>
                  </a:lnTo>
                  <a:lnTo>
                    <a:pt x="48" y="101"/>
                  </a:lnTo>
                  <a:lnTo>
                    <a:pt x="48" y="103"/>
                  </a:lnTo>
                  <a:lnTo>
                    <a:pt x="46" y="107"/>
                  </a:lnTo>
                  <a:lnTo>
                    <a:pt x="46" y="109"/>
                  </a:lnTo>
                  <a:lnTo>
                    <a:pt x="46" y="111"/>
                  </a:lnTo>
                  <a:lnTo>
                    <a:pt x="45" y="113"/>
                  </a:lnTo>
                  <a:lnTo>
                    <a:pt x="45" y="117"/>
                  </a:lnTo>
                  <a:lnTo>
                    <a:pt x="45" y="119"/>
                  </a:lnTo>
                  <a:lnTo>
                    <a:pt x="43" y="121"/>
                  </a:lnTo>
                  <a:lnTo>
                    <a:pt x="58" y="105"/>
                  </a:lnTo>
                  <a:lnTo>
                    <a:pt x="81" y="84"/>
                  </a:lnTo>
                  <a:lnTo>
                    <a:pt x="106" y="65"/>
                  </a:lnTo>
                  <a:lnTo>
                    <a:pt x="133" y="50"/>
                  </a:lnTo>
                  <a:lnTo>
                    <a:pt x="162" y="36"/>
                  </a:lnTo>
                  <a:lnTo>
                    <a:pt x="190" y="25"/>
                  </a:lnTo>
                  <a:lnTo>
                    <a:pt x="221" y="17"/>
                  </a:lnTo>
                  <a:lnTo>
                    <a:pt x="254" y="11"/>
                  </a:lnTo>
                  <a:lnTo>
                    <a:pt x="286" y="11"/>
                  </a:lnTo>
                  <a:lnTo>
                    <a:pt x="321" y="11"/>
                  </a:lnTo>
                  <a:lnTo>
                    <a:pt x="336" y="15"/>
                  </a:lnTo>
                  <a:lnTo>
                    <a:pt x="336" y="13"/>
                  </a:lnTo>
                  <a:lnTo>
                    <a:pt x="336" y="11"/>
                  </a:lnTo>
                  <a:lnTo>
                    <a:pt x="336" y="11"/>
                  </a:lnTo>
                  <a:lnTo>
                    <a:pt x="336" y="9"/>
                  </a:lnTo>
                  <a:lnTo>
                    <a:pt x="338" y="7"/>
                  </a:lnTo>
                  <a:lnTo>
                    <a:pt x="338" y="7"/>
                  </a:lnTo>
                  <a:lnTo>
                    <a:pt x="338" y="5"/>
                  </a:lnTo>
                  <a:lnTo>
                    <a:pt x="338" y="5"/>
                  </a:lnTo>
                  <a:close/>
                  <a:moveTo>
                    <a:pt x="0" y="502"/>
                  </a:moveTo>
                  <a:lnTo>
                    <a:pt x="10" y="520"/>
                  </a:lnTo>
                  <a:lnTo>
                    <a:pt x="29" y="546"/>
                  </a:lnTo>
                  <a:lnTo>
                    <a:pt x="50" y="570"/>
                  </a:lnTo>
                  <a:lnTo>
                    <a:pt x="75" y="591"/>
                  </a:lnTo>
                  <a:lnTo>
                    <a:pt x="100" y="610"/>
                  </a:lnTo>
                  <a:lnTo>
                    <a:pt x="127" y="627"/>
                  </a:lnTo>
                  <a:lnTo>
                    <a:pt x="158" y="641"/>
                  </a:lnTo>
                  <a:lnTo>
                    <a:pt x="189" y="652"/>
                  </a:lnTo>
                  <a:lnTo>
                    <a:pt x="219" y="660"/>
                  </a:lnTo>
                  <a:lnTo>
                    <a:pt x="254" y="665"/>
                  </a:lnTo>
                  <a:lnTo>
                    <a:pt x="286" y="667"/>
                  </a:lnTo>
                  <a:lnTo>
                    <a:pt x="321" y="665"/>
                  </a:lnTo>
                  <a:lnTo>
                    <a:pt x="340" y="664"/>
                  </a:lnTo>
                  <a:lnTo>
                    <a:pt x="340" y="662"/>
                  </a:lnTo>
                  <a:lnTo>
                    <a:pt x="340" y="660"/>
                  </a:lnTo>
                  <a:lnTo>
                    <a:pt x="340" y="660"/>
                  </a:lnTo>
                  <a:lnTo>
                    <a:pt x="340" y="658"/>
                  </a:lnTo>
                  <a:lnTo>
                    <a:pt x="340" y="656"/>
                  </a:lnTo>
                  <a:lnTo>
                    <a:pt x="340" y="656"/>
                  </a:lnTo>
                  <a:lnTo>
                    <a:pt x="338" y="654"/>
                  </a:lnTo>
                  <a:lnTo>
                    <a:pt x="338" y="652"/>
                  </a:lnTo>
                  <a:lnTo>
                    <a:pt x="321" y="656"/>
                  </a:lnTo>
                  <a:lnTo>
                    <a:pt x="286" y="658"/>
                  </a:lnTo>
                  <a:lnTo>
                    <a:pt x="254" y="656"/>
                  </a:lnTo>
                  <a:lnTo>
                    <a:pt x="221" y="650"/>
                  </a:lnTo>
                  <a:lnTo>
                    <a:pt x="190" y="642"/>
                  </a:lnTo>
                  <a:lnTo>
                    <a:pt x="162" y="631"/>
                  </a:lnTo>
                  <a:lnTo>
                    <a:pt x="133" y="617"/>
                  </a:lnTo>
                  <a:lnTo>
                    <a:pt x="106" y="602"/>
                  </a:lnTo>
                  <a:lnTo>
                    <a:pt x="81" y="583"/>
                  </a:lnTo>
                  <a:lnTo>
                    <a:pt x="58" y="562"/>
                  </a:lnTo>
                  <a:lnTo>
                    <a:pt x="37" y="539"/>
                  </a:lnTo>
                  <a:lnTo>
                    <a:pt x="20" y="514"/>
                  </a:lnTo>
                  <a:lnTo>
                    <a:pt x="2" y="487"/>
                  </a:lnTo>
                  <a:lnTo>
                    <a:pt x="0" y="481"/>
                  </a:lnTo>
                  <a:lnTo>
                    <a:pt x="0" y="485"/>
                  </a:lnTo>
                  <a:lnTo>
                    <a:pt x="0" y="487"/>
                  </a:lnTo>
                  <a:lnTo>
                    <a:pt x="0" y="489"/>
                  </a:lnTo>
                  <a:lnTo>
                    <a:pt x="0" y="493"/>
                  </a:lnTo>
                  <a:lnTo>
                    <a:pt x="0" y="495"/>
                  </a:lnTo>
                  <a:lnTo>
                    <a:pt x="0" y="499"/>
                  </a:lnTo>
                  <a:lnTo>
                    <a:pt x="0" y="500"/>
                  </a:lnTo>
                  <a:lnTo>
                    <a:pt x="0" y="502"/>
                  </a:lnTo>
                  <a:close/>
                </a:path>
              </a:pathLst>
            </a:custGeom>
            <a:solidFill>
              <a:srgbClr val="b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Freeform 201"/>
            <p:cNvSpPr/>
            <p:nvPr/>
          </p:nvSpPr>
          <p:spPr>
            <a:xfrm>
              <a:off x="1933560" y="2636640"/>
              <a:ext cx="539640" cy="104292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340" h="657">
                  <a:moveTo>
                    <a:pt x="336" y="4"/>
                  </a:moveTo>
                  <a:lnTo>
                    <a:pt x="321" y="2"/>
                  </a:lnTo>
                  <a:lnTo>
                    <a:pt x="286" y="0"/>
                  </a:lnTo>
                  <a:lnTo>
                    <a:pt x="254" y="2"/>
                  </a:lnTo>
                  <a:lnTo>
                    <a:pt x="221" y="6"/>
                  </a:lnTo>
                  <a:lnTo>
                    <a:pt x="189" y="16"/>
                  </a:lnTo>
                  <a:lnTo>
                    <a:pt x="160" y="25"/>
                  </a:lnTo>
                  <a:lnTo>
                    <a:pt x="131" y="41"/>
                  </a:lnTo>
                  <a:lnTo>
                    <a:pt x="104" y="56"/>
                  </a:lnTo>
                  <a:lnTo>
                    <a:pt x="77" y="75"/>
                  </a:lnTo>
                  <a:lnTo>
                    <a:pt x="54" y="96"/>
                  </a:lnTo>
                  <a:lnTo>
                    <a:pt x="46" y="106"/>
                  </a:lnTo>
                  <a:lnTo>
                    <a:pt x="45" y="110"/>
                  </a:lnTo>
                  <a:lnTo>
                    <a:pt x="45" y="112"/>
                  </a:lnTo>
                  <a:lnTo>
                    <a:pt x="45" y="114"/>
                  </a:lnTo>
                  <a:lnTo>
                    <a:pt x="43" y="116"/>
                  </a:lnTo>
                  <a:lnTo>
                    <a:pt x="43" y="119"/>
                  </a:lnTo>
                  <a:lnTo>
                    <a:pt x="43" y="121"/>
                  </a:lnTo>
                  <a:lnTo>
                    <a:pt x="43" y="123"/>
                  </a:lnTo>
                  <a:lnTo>
                    <a:pt x="41" y="127"/>
                  </a:lnTo>
                  <a:lnTo>
                    <a:pt x="41" y="127"/>
                  </a:lnTo>
                  <a:lnTo>
                    <a:pt x="62" y="104"/>
                  </a:lnTo>
                  <a:lnTo>
                    <a:pt x="85" y="83"/>
                  </a:lnTo>
                  <a:lnTo>
                    <a:pt x="110" y="66"/>
                  </a:lnTo>
                  <a:lnTo>
                    <a:pt x="135" y="48"/>
                  </a:lnTo>
                  <a:lnTo>
                    <a:pt x="164" y="35"/>
                  </a:lnTo>
                  <a:lnTo>
                    <a:pt x="192" y="25"/>
                  </a:lnTo>
                  <a:lnTo>
                    <a:pt x="223" y="18"/>
                  </a:lnTo>
                  <a:lnTo>
                    <a:pt x="254" y="12"/>
                  </a:lnTo>
                  <a:lnTo>
                    <a:pt x="286" y="10"/>
                  </a:lnTo>
                  <a:lnTo>
                    <a:pt x="319" y="12"/>
                  </a:lnTo>
                  <a:lnTo>
                    <a:pt x="336" y="14"/>
                  </a:lnTo>
                  <a:lnTo>
                    <a:pt x="336" y="14"/>
                  </a:lnTo>
                  <a:lnTo>
                    <a:pt x="336" y="12"/>
                  </a:lnTo>
                  <a:lnTo>
                    <a:pt x="336" y="10"/>
                  </a:lnTo>
                  <a:lnTo>
                    <a:pt x="336" y="10"/>
                  </a:lnTo>
                  <a:lnTo>
                    <a:pt x="336" y="8"/>
                  </a:lnTo>
                  <a:lnTo>
                    <a:pt x="336" y="6"/>
                  </a:lnTo>
                  <a:lnTo>
                    <a:pt x="336" y="6"/>
                  </a:lnTo>
                  <a:lnTo>
                    <a:pt x="336" y="4"/>
                  </a:lnTo>
                  <a:close/>
                  <a:moveTo>
                    <a:pt x="0" y="488"/>
                  </a:moveTo>
                  <a:lnTo>
                    <a:pt x="14" y="513"/>
                  </a:lnTo>
                  <a:lnTo>
                    <a:pt x="33" y="538"/>
                  </a:lnTo>
                  <a:lnTo>
                    <a:pt x="54" y="561"/>
                  </a:lnTo>
                  <a:lnTo>
                    <a:pt x="77" y="582"/>
                  </a:lnTo>
                  <a:lnTo>
                    <a:pt x="104" y="601"/>
                  </a:lnTo>
                  <a:lnTo>
                    <a:pt x="131" y="618"/>
                  </a:lnTo>
                  <a:lnTo>
                    <a:pt x="160" y="632"/>
                  </a:lnTo>
                  <a:lnTo>
                    <a:pt x="189" y="643"/>
                  </a:lnTo>
                  <a:lnTo>
                    <a:pt x="221" y="651"/>
                  </a:lnTo>
                  <a:lnTo>
                    <a:pt x="254" y="655"/>
                  </a:lnTo>
                  <a:lnTo>
                    <a:pt x="286" y="657"/>
                  </a:lnTo>
                  <a:lnTo>
                    <a:pt x="321" y="655"/>
                  </a:lnTo>
                  <a:lnTo>
                    <a:pt x="340" y="653"/>
                  </a:lnTo>
                  <a:lnTo>
                    <a:pt x="340" y="651"/>
                  </a:lnTo>
                  <a:lnTo>
                    <a:pt x="340" y="651"/>
                  </a:lnTo>
                  <a:lnTo>
                    <a:pt x="338" y="649"/>
                  </a:lnTo>
                  <a:lnTo>
                    <a:pt x="338" y="647"/>
                  </a:lnTo>
                  <a:lnTo>
                    <a:pt x="338" y="647"/>
                  </a:lnTo>
                  <a:lnTo>
                    <a:pt x="338" y="645"/>
                  </a:lnTo>
                  <a:lnTo>
                    <a:pt x="338" y="643"/>
                  </a:lnTo>
                  <a:lnTo>
                    <a:pt x="338" y="643"/>
                  </a:lnTo>
                  <a:lnTo>
                    <a:pt x="319" y="645"/>
                  </a:lnTo>
                  <a:lnTo>
                    <a:pt x="286" y="647"/>
                  </a:lnTo>
                  <a:lnTo>
                    <a:pt x="254" y="645"/>
                  </a:lnTo>
                  <a:lnTo>
                    <a:pt x="223" y="641"/>
                  </a:lnTo>
                  <a:lnTo>
                    <a:pt x="192" y="634"/>
                  </a:lnTo>
                  <a:lnTo>
                    <a:pt x="164" y="622"/>
                  </a:lnTo>
                  <a:lnTo>
                    <a:pt x="135" y="609"/>
                  </a:lnTo>
                  <a:lnTo>
                    <a:pt x="110" y="593"/>
                  </a:lnTo>
                  <a:lnTo>
                    <a:pt x="85" y="574"/>
                  </a:lnTo>
                  <a:lnTo>
                    <a:pt x="62" y="553"/>
                  </a:lnTo>
                  <a:lnTo>
                    <a:pt x="41" y="532"/>
                  </a:lnTo>
                  <a:lnTo>
                    <a:pt x="23" y="507"/>
                  </a:lnTo>
                  <a:lnTo>
                    <a:pt x="8" y="480"/>
                  </a:lnTo>
                  <a:lnTo>
                    <a:pt x="0" y="465"/>
                  </a:lnTo>
                  <a:lnTo>
                    <a:pt x="0" y="469"/>
                  </a:lnTo>
                  <a:lnTo>
                    <a:pt x="0" y="470"/>
                  </a:lnTo>
                  <a:lnTo>
                    <a:pt x="0" y="474"/>
                  </a:lnTo>
                  <a:lnTo>
                    <a:pt x="0" y="476"/>
                  </a:lnTo>
                  <a:lnTo>
                    <a:pt x="0" y="480"/>
                  </a:lnTo>
                  <a:lnTo>
                    <a:pt x="0" y="482"/>
                  </a:lnTo>
                  <a:lnTo>
                    <a:pt x="0" y="486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c0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202"/>
            <p:cNvSpPr/>
            <p:nvPr/>
          </p:nvSpPr>
          <p:spPr>
            <a:xfrm>
              <a:off x="1933560" y="2646360"/>
              <a:ext cx="536760" cy="1027080"/>
            </a:xfrm>
            <a:custGeom>
              <a:avLst/>
              <a:gdLst>
                <a:gd name="textAreaLeft" fmla="*/ 0 w 536760"/>
                <a:gd name="textAreaRight" fmla="*/ 537120 w 53676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38" h="647">
                  <a:moveTo>
                    <a:pt x="336" y="4"/>
                  </a:moveTo>
                  <a:lnTo>
                    <a:pt x="321" y="0"/>
                  </a:lnTo>
                  <a:lnTo>
                    <a:pt x="286" y="0"/>
                  </a:lnTo>
                  <a:lnTo>
                    <a:pt x="254" y="0"/>
                  </a:lnTo>
                  <a:lnTo>
                    <a:pt x="221" y="6"/>
                  </a:lnTo>
                  <a:lnTo>
                    <a:pt x="190" y="14"/>
                  </a:lnTo>
                  <a:lnTo>
                    <a:pt x="162" y="25"/>
                  </a:lnTo>
                  <a:lnTo>
                    <a:pt x="133" y="39"/>
                  </a:lnTo>
                  <a:lnTo>
                    <a:pt x="106" y="54"/>
                  </a:lnTo>
                  <a:lnTo>
                    <a:pt x="81" y="73"/>
                  </a:lnTo>
                  <a:lnTo>
                    <a:pt x="58" y="94"/>
                  </a:lnTo>
                  <a:lnTo>
                    <a:pt x="43" y="110"/>
                  </a:lnTo>
                  <a:lnTo>
                    <a:pt x="43" y="113"/>
                  </a:lnTo>
                  <a:lnTo>
                    <a:pt x="43" y="115"/>
                  </a:lnTo>
                  <a:lnTo>
                    <a:pt x="43" y="119"/>
                  </a:lnTo>
                  <a:lnTo>
                    <a:pt x="41" y="121"/>
                  </a:lnTo>
                  <a:lnTo>
                    <a:pt x="41" y="125"/>
                  </a:lnTo>
                  <a:lnTo>
                    <a:pt x="41" y="127"/>
                  </a:lnTo>
                  <a:lnTo>
                    <a:pt x="39" y="129"/>
                  </a:lnTo>
                  <a:lnTo>
                    <a:pt x="39" y="133"/>
                  </a:lnTo>
                  <a:lnTo>
                    <a:pt x="45" y="123"/>
                  </a:lnTo>
                  <a:lnTo>
                    <a:pt x="66" y="102"/>
                  </a:lnTo>
                  <a:lnTo>
                    <a:pt x="89" y="81"/>
                  </a:lnTo>
                  <a:lnTo>
                    <a:pt x="112" y="63"/>
                  </a:lnTo>
                  <a:lnTo>
                    <a:pt x="139" y="48"/>
                  </a:lnTo>
                  <a:lnTo>
                    <a:pt x="165" y="35"/>
                  </a:lnTo>
                  <a:lnTo>
                    <a:pt x="194" y="23"/>
                  </a:lnTo>
                  <a:lnTo>
                    <a:pt x="223" y="16"/>
                  </a:lnTo>
                  <a:lnTo>
                    <a:pt x="256" y="12"/>
                  </a:lnTo>
                  <a:lnTo>
                    <a:pt x="286" y="10"/>
                  </a:lnTo>
                  <a:lnTo>
                    <a:pt x="319" y="12"/>
                  </a:lnTo>
                  <a:lnTo>
                    <a:pt x="334" y="14"/>
                  </a:lnTo>
                  <a:lnTo>
                    <a:pt x="334" y="12"/>
                  </a:lnTo>
                  <a:lnTo>
                    <a:pt x="336" y="12"/>
                  </a:lnTo>
                  <a:lnTo>
                    <a:pt x="336" y="10"/>
                  </a:lnTo>
                  <a:lnTo>
                    <a:pt x="336" y="8"/>
                  </a:lnTo>
                  <a:lnTo>
                    <a:pt x="336" y="8"/>
                  </a:lnTo>
                  <a:lnTo>
                    <a:pt x="336" y="6"/>
                  </a:lnTo>
                  <a:lnTo>
                    <a:pt x="336" y="4"/>
                  </a:lnTo>
                  <a:lnTo>
                    <a:pt x="336" y="4"/>
                  </a:lnTo>
                  <a:close/>
                  <a:moveTo>
                    <a:pt x="0" y="470"/>
                  </a:moveTo>
                  <a:lnTo>
                    <a:pt x="2" y="476"/>
                  </a:lnTo>
                  <a:lnTo>
                    <a:pt x="20" y="503"/>
                  </a:lnTo>
                  <a:lnTo>
                    <a:pt x="37" y="528"/>
                  </a:lnTo>
                  <a:lnTo>
                    <a:pt x="58" y="551"/>
                  </a:lnTo>
                  <a:lnTo>
                    <a:pt x="81" y="572"/>
                  </a:lnTo>
                  <a:lnTo>
                    <a:pt x="106" y="591"/>
                  </a:lnTo>
                  <a:lnTo>
                    <a:pt x="133" y="606"/>
                  </a:lnTo>
                  <a:lnTo>
                    <a:pt x="162" y="620"/>
                  </a:lnTo>
                  <a:lnTo>
                    <a:pt x="190" y="631"/>
                  </a:lnTo>
                  <a:lnTo>
                    <a:pt x="221" y="639"/>
                  </a:lnTo>
                  <a:lnTo>
                    <a:pt x="254" y="645"/>
                  </a:lnTo>
                  <a:lnTo>
                    <a:pt x="286" y="647"/>
                  </a:lnTo>
                  <a:lnTo>
                    <a:pt x="321" y="645"/>
                  </a:lnTo>
                  <a:lnTo>
                    <a:pt x="338" y="641"/>
                  </a:lnTo>
                  <a:lnTo>
                    <a:pt x="338" y="641"/>
                  </a:lnTo>
                  <a:lnTo>
                    <a:pt x="338" y="639"/>
                  </a:lnTo>
                  <a:lnTo>
                    <a:pt x="338" y="637"/>
                  </a:lnTo>
                  <a:lnTo>
                    <a:pt x="338" y="637"/>
                  </a:lnTo>
                  <a:lnTo>
                    <a:pt x="338" y="635"/>
                  </a:lnTo>
                  <a:lnTo>
                    <a:pt x="338" y="633"/>
                  </a:lnTo>
                  <a:lnTo>
                    <a:pt x="338" y="633"/>
                  </a:lnTo>
                  <a:lnTo>
                    <a:pt x="338" y="631"/>
                  </a:lnTo>
                  <a:lnTo>
                    <a:pt x="319" y="633"/>
                  </a:lnTo>
                  <a:lnTo>
                    <a:pt x="286" y="635"/>
                  </a:lnTo>
                  <a:lnTo>
                    <a:pt x="256" y="633"/>
                  </a:lnTo>
                  <a:lnTo>
                    <a:pt x="223" y="630"/>
                  </a:lnTo>
                  <a:lnTo>
                    <a:pt x="194" y="622"/>
                  </a:lnTo>
                  <a:lnTo>
                    <a:pt x="165" y="610"/>
                  </a:lnTo>
                  <a:lnTo>
                    <a:pt x="139" y="599"/>
                  </a:lnTo>
                  <a:lnTo>
                    <a:pt x="112" y="582"/>
                  </a:lnTo>
                  <a:lnTo>
                    <a:pt x="89" y="564"/>
                  </a:lnTo>
                  <a:lnTo>
                    <a:pt x="66" y="545"/>
                  </a:lnTo>
                  <a:lnTo>
                    <a:pt x="45" y="522"/>
                  </a:lnTo>
                  <a:lnTo>
                    <a:pt x="27" y="497"/>
                  </a:lnTo>
                  <a:lnTo>
                    <a:pt x="12" y="472"/>
                  </a:lnTo>
                  <a:lnTo>
                    <a:pt x="0" y="447"/>
                  </a:lnTo>
                  <a:lnTo>
                    <a:pt x="0" y="451"/>
                  </a:lnTo>
                  <a:lnTo>
                    <a:pt x="0" y="453"/>
                  </a:lnTo>
                  <a:lnTo>
                    <a:pt x="0" y="457"/>
                  </a:lnTo>
                  <a:lnTo>
                    <a:pt x="0" y="459"/>
                  </a:lnTo>
                  <a:lnTo>
                    <a:pt x="0" y="463"/>
                  </a:lnTo>
                  <a:lnTo>
                    <a:pt x="0" y="464"/>
                  </a:lnTo>
                  <a:lnTo>
                    <a:pt x="0" y="468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c1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203"/>
            <p:cNvSpPr/>
            <p:nvPr/>
          </p:nvSpPr>
          <p:spPr>
            <a:xfrm>
              <a:off x="1933560" y="2652480"/>
              <a:ext cx="536760" cy="1011240"/>
            </a:xfrm>
            <a:custGeom>
              <a:avLst/>
              <a:gdLst>
                <a:gd name="textAreaLeft" fmla="*/ 0 w 536760"/>
                <a:gd name="textAreaRight" fmla="*/ 537120 w 53676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338" h="637">
                  <a:moveTo>
                    <a:pt x="336" y="4"/>
                  </a:moveTo>
                  <a:lnTo>
                    <a:pt x="319" y="2"/>
                  </a:lnTo>
                  <a:lnTo>
                    <a:pt x="286" y="0"/>
                  </a:lnTo>
                  <a:lnTo>
                    <a:pt x="254" y="2"/>
                  </a:lnTo>
                  <a:lnTo>
                    <a:pt x="223" y="8"/>
                  </a:lnTo>
                  <a:lnTo>
                    <a:pt x="192" y="15"/>
                  </a:lnTo>
                  <a:lnTo>
                    <a:pt x="164" y="25"/>
                  </a:lnTo>
                  <a:lnTo>
                    <a:pt x="135" y="38"/>
                  </a:lnTo>
                  <a:lnTo>
                    <a:pt x="110" y="56"/>
                  </a:lnTo>
                  <a:lnTo>
                    <a:pt x="85" y="73"/>
                  </a:lnTo>
                  <a:lnTo>
                    <a:pt x="62" y="94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1" y="119"/>
                  </a:lnTo>
                  <a:lnTo>
                    <a:pt x="41" y="123"/>
                  </a:lnTo>
                  <a:lnTo>
                    <a:pt x="39" y="125"/>
                  </a:lnTo>
                  <a:lnTo>
                    <a:pt x="39" y="129"/>
                  </a:lnTo>
                  <a:lnTo>
                    <a:pt x="39" y="130"/>
                  </a:lnTo>
                  <a:lnTo>
                    <a:pt x="37" y="134"/>
                  </a:lnTo>
                  <a:lnTo>
                    <a:pt x="37" y="138"/>
                  </a:lnTo>
                  <a:lnTo>
                    <a:pt x="37" y="140"/>
                  </a:lnTo>
                  <a:lnTo>
                    <a:pt x="50" y="123"/>
                  </a:lnTo>
                  <a:lnTo>
                    <a:pt x="70" y="102"/>
                  </a:lnTo>
                  <a:lnTo>
                    <a:pt x="91" y="81"/>
                  </a:lnTo>
                  <a:lnTo>
                    <a:pt x="116" y="63"/>
                  </a:lnTo>
                  <a:lnTo>
                    <a:pt x="141" y="48"/>
                  </a:lnTo>
                  <a:lnTo>
                    <a:pt x="167" y="35"/>
                  </a:lnTo>
                  <a:lnTo>
                    <a:pt x="196" y="25"/>
                  </a:lnTo>
                  <a:lnTo>
                    <a:pt x="225" y="17"/>
                  </a:lnTo>
                  <a:lnTo>
                    <a:pt x="256" y="12"/>
                  </a:lnTo>
                  <a:lnTo>
                    <a:pt x="286" y="12"/>
                  </a:lnTo>
                  <a:lnTo>
                    <a:pt x="319" y="12"/>
                  </a:lnTo>
                  <a:lnTo>
                    <a:pt x="334" y="15"/>
                  </a:lnTo>
                  <a:lnTo>
                    <a:pt x="334" y="13"/>
                  </a:lnTo>
                  <a:lnTo>
                    <a:pt x="334" y="12"/>
                  </a:lnTo>
                  <a:lnTo>
                    <a:pt x="334" y="12"/>
                  </a:lnTo>
                  <a:lnTo>
                    <a:pt x="334" y="10"/>
                  </a:lnTo>
                  <a:lnTo>
                    <a:pt x="334" y="8"/>
                  </a:lnTo>
                  <a:lnTo>
                    <a:pt x="336" y="8"/>
                  </a:lnTo>
                  <a:lnTo>
                    <a:pt x="336" y="6"/>
                  </a:lnTo>
                  <a:lnTo>
                    <a:pt x="336" y="4"/>
                  </a:lnTo>
                  <a:close/>
                  <a:moveTo>
                    <a:pt x="0" y="455"/>
                  </a:moveTo>
                  <a:lnTo>
                    <a:pt x="8" y="470"/>
                  </a:lnTo>
                  <a:lnTo>
                    <a:pt x="23" y="497"/>
                  </a:lnTo>
                  <a:lnTo>
                    <a:pt x="41" y="522"/>
                  </a:lnTo>
                  <a:lnTo>
                    <a:pt x="62" y="543"/>
                  </a:lnTo>
                  <a:lnTo>
                    <a:pt x="85" y="564"/>
                  </a:lnTo>
                  <a:lnTo>
                    <a:pt x="110" y="583"/>
                  </a:lnTo>
                  <a:lnTo>
                    <a:pt x="135" y="599"/>
                  </a:lnTo>
                  <a:lnTo>
                    <a:pt x="164" y="612"/>
                  </a:lnTo>
                  <a:lnTo>
                    <a:pt x="192" y="624"/>
                  </a:lnTo>
                  <a:lnTo>
                    <a:pt x="223" y="631"/>
                  </a:lnTo>
                  <a:lnTo>
                    <a:pt x="254" y="635"/>
                  </a:lnTo>
                  <a:lnTo>
                    <a:pt x="286" y="637"/>
                  </a:lnTo>
                  <a:lnTo>
                    <a:pt x="319" y="635"/>
                  </a:lnTo>
                  <a:lnTo>
                    <a:pt x="338" y="633"/>
                  </a:lnTo>
                  <a:lnTo>
                    <a:pt x="338" y="631"/>
                  </a:lnTo>
                  <a:lnTo>
                    <a:pt x="338" y="629"/>
                  </a:lnTo>
                  <a:lnTo>
                    <a:pt x="338" y="629"/>
                  </a:lnTo>
                  <a:lnTo>
                    <a:pt x="338" y="627"/>
                  </a:lnTo>
                  <a:lnTo>
                    <a:pt x="336" y="626"/>
                  </a:lnTo>
                  <a:lnTo>
                    <a:pt x="336" y="626"/>
                  </a:lnTo>
                  <a:lnTo>
                    <a:pt x="336" y="624"/>
                  </a:lnTo>
                  <a:lnTo>
                    <a:pt x="336" y="622"/>
                  </a:lnTo>
                  <a:lnTo>
                    <a:pt x="319" y="626"/>
                  </a:lnTo>
                  <a:lnTo>
                    <a:pt x="286" y="627"/>
                  </a:lnTo>
                  <a:lnTo>
                    <a:pt x="256" y="626"/>
                  </a:lnTo>
                  <a:lnTo>
                    <a:pt x="225" y="620"/>
                  </a:lnTo>
                  <a:lnTo>
                    <a:pt x="196" y="612"/>
                  </a:lnTo>
                  <a:lnTo>
                    <a:pt x="167" y="602"/>
                  </a:lnTo>
                  <a:lnTo>
                    <a:pt x="141" y="589"/>
                  </a:lnTo>
                  <a:lnTo>
                    <a:pt x="116" y="574"/>
                  </a:lnTo>
                  <a:lnTo>
                    <a:pt x="91" y="556"/>
                  </a:lnTo>
                  <a:lnTo>
                    <a:pt x="70" y="537"/>
                  </a:lnTo>
                  <a:lnTo>
                    <a:pt x="50" y="514"/>
                  </a:lnTo>
                  <a:lnTo>
                    <a:pt x="31" y="491"/>
                  </a:lnTo>
                  <a:lnTo>
                    <a:pt x="16" y="466"/>
                  </a:lnTo>
                  <a:lnTo>
                    <a:pt x="2" y="439"/>
                  </a:lnTo>
                  <a:lnTo>
                    <a:pt x="0" y="430"/>
                  </a:lnTo>
                  <a:lnTo>
                    <a:pt x="0" y="434"/>
                  </a:lnTo>
                  <a:lnTo>
                    <a:pt x="0" y="437"/>
                  </a:lnTo>
                  <a:lnTo>
                    <a:pt x="0" y="439"/>
                  </a:lnTo>
                  <a:lnTo>
                    <a:pt x="0" y="443"/>
                  </a:lnTo>
                  <a:lnTo>
                    <a:pt x="0" y="445"/>
                  </a:lnTo>
                  <a:lnTo>
                    <a:pt x="0" y="449"/>
                  </a:lnTo>
                  <a:lnTo>
                    <a:pt x="0" y="453"/>
                  </a:lnTo>
                  <a:lnTo>
                    <a:pt x="0" y="455"/>
                  </a:lnTo>
                  <a:close/>
                </a:path>
              </a:pathLst>
            </a:custGeom>
            <a:solidFill>
              <a:srgbClr val="c2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Freeform 204"/>
            <p:cNvSpPr/>
            <p:nvPr/>
          </p:nvSpPr>
          <p:spPr>
            <a:xfrm>
              <a:off x="1933560" y="2662200"/>
              <a:ext cx="536760" cy="992160"/>
            </a:xfrm>
            <a:custGeom>
              <a:avLst/>
              <a:gdLst>
                <a:gd name="textAreaLeft" fmla="*/ 0 w 536760"/>
                <a:gd name="textAreaRight" fmla="*/ 537120 w 53676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338" h="625">
                  <a:moveTo>
                    <a:pt x="334" y="4"/>
                  </a:moveTo>
                  <a:lnTo>
                    <a:pt x="319" y="2"/>
                  </a:lnTo>
                  <a:lnTo>
                    <a:pt x="286" y="0"/>
                  </a:lnTo>
                  <a:lnTo>
                    <a:pt x="256" y="2"/>
                  </a:lnTo>
                  <a:lnTo>
                    <a:pt x="223" y="6"/>
                  </a:lnTo>
                  <a:lnTo>
                    <a:pt x="194" y="13"/>
                  </a:lnTo>
                  <a:lnTo>
                    <a:pt x="165" y="25"/>
                  </a:lnTo>
                  <a:lnTo>
                    <a:pt x="139" y="38"/>
                  </a:lnTo>
                  <a:lnTo>
                    <a:pt x="112" y="53"/>
                  </a:lnTo>
                  <a:lnTo>
                    <a:pt x="89" y="71"/>
                  </a:lnTo>
                  <a:lnTo>
                    <a:pt x="66" y="92"/>
                  </a:lnTo>
                  <a:lnTo>
                    <a:pt x="45" y="113"/>
                  </a:lnTo>
                  <a:lnTo>
                    <a:pt x="39" y="123"/>
                  </a:lnTo>
                  <a:lnTo>
                    <a:pt x="39" y="126"/>
                  </a:lnTo>
                  <a:lnTo>
                    <a:pt x="37" y="128"/>
                  </a:lnTo>
                  <a:lnTo>
                    <a:pt x="37" y="132"/>
                  </a:lnTo>
                  <a:lnTo>
                    <a:pt x="37" y="134"/>
                  </a:lnTo>
                  <a:lnTo>
                    <a:pt x="35" y="138"/>
                  </a:lnTo>
                  <a:lnTo>
                    <a:pt x="35" y="142"/>
                  </a:lnTo>
                  <a:lnTo>
                    <a:pt x="35" y="144"/>
                  </a:lnTo>
                  <a:lnTo>
                    <a:pt x="33" y="148"/>
                  </a:lnTo>
                  <a:lnTo>
                    <a:pt x="35" y="144"/>
                  </a:lnTo>
                  <a:lnTo>
                    <a:pt x="54" y="121"/>
                  </a:lnTo>
                  <a:lnTo>
                    <a:pt x="73" y="100"/>
                  </a:lnTo>
                  <a:lnTo>
                    <a:pt x="94" y="78"/>
                  </a:lnTo>
                  <a:lnTo>
                    <a:pt x="118" y="61"/>
                  </a:lnTo>
                  <a:lnTo>
                    <a:pt x="142" y="46"/>
                  </a:lnTo>
                  <a:lnTo>
                    <a:pt x="169" y="34"/>
                  </a:lnTo>
                  <a:lnTo>
                    <a:pt x="196" y="23"/>
                  </a:lnTo>
                  <a:lnTo>
                    <a:pt x="227" y="17"/>
                  </a:lnTo>
                  <a:lnTo>
                    <a:pt x="256" y="11"/>
                  </a:lnTo>
                  <a:lnTo>
                    <a:pt x="286" y="9"/>
                  </a:lnTo>
                  <a:lnTo>
                    <a:pt x="317" y="11"/>
                  </a:lnTo>
                  <a:lnTo>
                    <a:pt x="334" y="13"/>
                  </a:lnTo>
                  <a:lnTo>
                    <a:pt x="334" y="13"/>
                  </a:lnTo>
                  <a:lnTo>
                    <a:pt x="334" y="11"/>
                  </a:lnTo>
                  <a:lnTo>
                    <a:pt x="334" y="9"/>
                  </a:lnTo>
                  <a:lnTo>
                    <a:pt x="334" y="9"/>
                  </a:lnTo>
                  <a:lnTo>
                    <a:pt x="334" y="7"/>
                  </a:lnTo>
                  <a:lnTo>
                    <a:pt x="334" y="6"/>
                  </a:lnTo>
                  <a:lnTo>
                    <a:pt x="334" y="6"/>
                  </a:lnTo>
                  <a:lnTo>
                    <a:pt x="334" y="4"/>
                  </a:lnTo>
                  <a:close/>
                  <a:moveTo>
                    <a:pt x="0" y="437"/>
                  </a:moveTo>
                  <a:lnTo>
                    <a:pt x="12" y="462"/>
                  </a:lnTo>
                  <a:lnTo>
                    <a:pt x="27" y="487"/>
                  </a:lnTo>
                  <a:lnTo>
                    <a:pt x="45" y="512"/>
                  </a:lnTo>
                  <a:lnTo>
                    <a:pt x="66" y="535"/>
                  </a:lnTo>
                  <a:lnTo>
                    <a:pt x="89" y="554"/>
                  </a:lnTo>
                  <a:lnTo>
                    <a:pt x="112" y="572"/>
                  </a:lnTo>
                  <a:lnTo>
                    <a:pt x="139" y="589"/>
                  </a:lnTo>
                  <a:lnTo>
                    <a:pt x="165" y="600"/>
                  </a:lnTo>
                  <a:lnTo>
                    <a:pt x="194" y="612"/>
                  </a:lnTo>
                  <a:lnTo>
                    <a:pt x="223" y="620"/>
                  </a:lnTo>
                  <a:lnTo>
                    <a:pt x="256" y="623"/>
                  </a:lnTo>
                  <a:lnTo>
                    <a:pt x="286" y="625"/>
                  </a:lnTo>
                  <a:lnTo>
                    <a:pt x="319" y="623"/>
                  </a:lnTo>
                  <a:lnTo>
                    <a:pt x="338" y="621"/>
                  </a:lnTo>
                  <a:lnTo>
                    <a:pt x="336" y="620"/>
                  </a:lnTo>
                  <a:lnTo>
                    <a:pt x="336" y="620"/>
                  </a:lnTo>
                  <a:lnTo>
                    <a:pt x="336" y="618"/>
                  </a:lnTo>
                  <a:lnTo>
                    <a:pt x="336" y="616"/>
                  </a:lnTo>
                  <a:lnTo>
                    <a:pt x="336" y="616"/>
                  </a:lnTo>
                  <a:lnTo>
                    <a:pt x="336" y="614"/>
                  </a:lnTo>
                  <a:lnTo>
                    <a:pt x="336" y="612"/>
                  </a:lnTo>
                  <a:lnTo>
                    <a:pt x="336" y="612"/>
                  </a:lnTo>
                  <a:lnTo>
                    <a:pt x="317" y="614"/>
                  </a:lnTo>
                  <a:lnTo>
                    <a:pt x="286" y="616"/>
                  </a:lnTo>
                  <a:lnTo>
                    <a:pt x="256" y="614"/>
                  </a:lnTo>
                  <a:lnTo>
                    <a:pt x="227" y="610"/>
                  </a:lnTo>
                  <a:lnTo>
                    <a:pt x="196" y="602"/>
                  </a:lnTo>
                  <a:lnTo>
                    <a:pt x="169" y="593"/>
                  </a:lnTo>
                  <a:lnTo>
                    <a:pt x="142" y="579"/>
                  </a:lnTo>
                  <a:lnTo>
                    <a:pt x="118" y="564"/>
                  </a:lnTo>
                  <a:lnTo>
                    <a:pt x="94" y="547"/>
                  </a:lnTo>
                  <a:lnTo>
                    <a:pt x="73" y="527"/>
                  </a:lnTo>
                  <a:lnTo>
                    <a:pt x="54" y="506"/>
                  </a:lnTo>
                  <a:lnTo>
                    <a:pt x="35" y="481"/>
                  </a:lnTo>
                  <a:lnTo>
                    <a:pt x="22" y="456"/>
                  </a:lnTo>
                  <a:lnTo>
                    <a:pt x="8" y="431"/>
                  </a:lnTo>
                  <a:lnTo>
                    <a:pt x="0" y="410"/>
                  </a:lnTo>
                  <a:lnTo>
                    <a:pt x="0" y="414"/>
                  </a:lnTo>
                  <a:lnTo>
                    <a:pt x="0" y="418"/>
                  </a:lnTo>
                  <a:lnTo>
                    <a:pt x="0" y="420"/>
                  </a:lnTo>
                  <a:lnTo>
                    <a:pt x="0" y="424"/>
                  </a:lnTo>
                  <a:lnTo>
                    <a:pt x="0" y="428"/>
                  </a:lnTo>
                  <a:lnTo>
                    <a:pt x="0" y="431"/>
                  </a:lnTo>
                  <a:lnTo>
                    <a:pt x="0" y="433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c3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Freeform 205"/>
            <p:cNvSpPr/>
            <p:nvPr/>
          </p:nvSpPr>
          <p:spPr>
            <a:xfrm>
              <a:off x="1933560" y="2671560"/>
              <a:ext cx="533520" cy="9763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336" h="615">
                  <a:moveTo>
                    <a:pt x="334" y="3"/>
                  </a:moveTo>
                  <a:lnTo>
                    <a:pt x="319" y="0"/>
                  </a:lnTo>
                  <a:lnTo>
                    <a:pt x="286" y="0"/>
                  </a:lnTo>
                  <a:lnTo>
                    <a:pt x="256" y="0"/>
                  </a:lnTo>
                  <a:lnTo>
                    <a:pt x="225" y="5"/>
                  </a:lnTo>
                  <a:lnTo>
                    <a:pt x="196" y="13"/>
                  </a:lnTo>
                  <a:lnTo>
                    <a:pt x="167" y="23"/>
                  </a:lnTo>
                  <a:lnTo>
                    <a:pt x="141" y="36"/>
                  </a:lnTo>
                  <a:lnTo>
                    <a:pt x="116" y="51"/>
                  </a:lnTo>
                  <a:lnTo>
                    <a:pt x="91" y="69"/>
                  </a:lnTo>
                  <a:lnTo>
                    <a:pt x="70" y="90"/>
                  </a:lnTo>
                  <a:lnTo>
                    <a:pt x="50" y="111"/>
                  </a:lnTo>
                  <a:lnTo>
                    <a:pt x="37" y="128"/>
                  </a:lnTo>
                  <a:lnTo>
                    <a:pt x="35" y="132"/>
                  </a:lnTo>
                  <a:lnTo>
                    <a:pt x="35" y="136"/>
                  </a:lnTo>
                  <a:lnTo>
                    <a:pt x="35" y="140"/>
                  </a:lnTo>
                  <a:lnTo>
                    <a:pt x="33" y="142"/>
                  </a:lnTo>
                  <a:lnTo>
                    <a:pt x="33" y="145"/>
                  </a:lnTo>
                  <a:lnTo>
                    <a:pt x="33" y="149"/>
                  </a:lnTo>
                  <a:lnTo>
                    <a:pt x="31" y="153"/>
                  </a:lnTo>
                  <a:lnTo>
                    <a:pt x="31" y="155"/>
                  </a:lnTo>
                  <a:lnTo>
                    <a:pt x="41" y="140"/>
                  </a:lnTo>
                  <a:lnTo>
                    <a:pt x="58" y="117"/>
                  </a:lnTo>
                  <a:lnTo>
                    <a:pt x="77" y="95"/>
                  </a:lnTo>
                  <a:lnTo>
                    <a:pt x="98" y="76"/>
                  </a:lnTo>
                  <a:lnTo>
                    <a:pt x="121" y="59"/>
                  </a:lnTo>
                  <a:lnTo>
                    <a:pt x="144" y="46"/>
                  </a:lnTo>
                  <a:lnTo>
                    <a:pt x="171" y="32"/>
                  </a:lnTo>
                  <a:lnTo>
                    <a:pt x="198" y="23"/>
                  </a:lnTo>
                  <a:lnTo>
                    <a:pt x="227" y="15"/>
                  </a:lnTo>
                  <a:lnTo>
                    <a:pt x="256" y="11"/>
                  </a:lnTo>
                  <a:lnTo>
                    <a:pt x="286" y="9"/>
                  </a:lnTo>
                  <a:lnTo>
                    <a:pt x="317" y="11"/>
                  </a:lnTo>
                  <a:lnTo>
                    <a:pt x="332" y="13"/>
                  </a:lnTo>
                  <a:lnTo>
                    <a:pt x="332" y="11"/>
                  </a:lnTo>
                  <a:lnTo>
                    <a:pt x="332" y="11"/>
                  </a:lnTo>
                  <a:lnTo>
                    <a:pt x="332" y="9"/>
                  </a:lnTo>
                  <a:lnTo>
                    <a:pt x="334" y="7"/>
                  </a:lnTo>
                  <a:lnTo>
                    <a:pt x="334" y="7"/>
                  </a:lnTo>
                  <a:lnTo>
                    <a:pt x="334" y="5"/>
                  </a:lnTo>
                  <a:lnTo>
                    <a:pt x="334" y="3"/>
                  </a:lnTo>
                  <a:lnTo>
                    <a:pt x="334" y="3"/>
                  </a:lnTo>
                  <a:close/>
                  <a:moveTo>
                    <a:pt x="0" y="418"/>
                  </a:moveTo>
                  <a:lnTo>
                    <a:pt x="2" y="427"/>
                  </a:lnTo>
                  <a:lnTo>
                    <a:pt x="16" y="454"/>
                  </a:lnTo>
                  <a:lnTo>
                    <a:pt x="31" y="479"/>
                  </a:lnTo>
                  <a:lnTo>
                    <a:pt x="50" y="502"/>
                  </a:lnTo>
                  <a:lnTo>
                    <a:pt x="70" y="525"/>
                  </a:lnTo>
                  <a:lnTo>
                    <a:pt x="91" y="544"/>
                  </a:lnTo>
                  <a:lnTo>
                    <a:pt x="116" y="562"/>
                  </a:lnTo>
                  <a:lnTo>
                    <a:pt x="141" y="577"/>
                  </a:lnTo>
                  <a:lnTo>
                    <a:pt x="167" y="590"/>
                  </a:lnTo>
                  <a:lnTo>
                    <a:pt x="196" y="600"/>
                  </a:lnTo>
                  <a:lnTo>
                    <a:pt x="225" y="608"/>
                  </a:lnTo>
                  <a:lnTo>
                    <a:pt x="256" y="614"/>
                  </a:lnTo>
                  <a:lnTo>
                    <a:pt x="286" y="615"/>
                  </a:lnTo>
                  <a:lnTo>
                    <a:pt x="319" y="614"/>
                  </a:lnTo>
                  <a:lnTo>
                    <a:pt x="336" y="610"/>
                  </a:lnTo>
                  <a:lnTo>
                    <a:pt x="336" y="610"/>
                  </a:lnTo>
                  <a:lnTo>
                    <a:pt x="336" y="608"/>
                  </a:lnTo>
                  <a:lnTo>
                    <a:pt x="336" y="606"/>
                  </a:lnTo>
                  <a:lnTo>
                    <a:pt x="336" y="606"/>
                  </a:lnTo>
                  <a:lnTo>
                    <a:pt x="336" y="604"/>
                  </a:lnTo>
                  <a:lnTo>
                    <a:pt x="336" y="602"/>
                  </a:lnTo>
                  <a:lnTo>
                    <a:pt x="336" y="602"/>
                  </a:lnTo>
                  <a:lnTo>
                    <a:pt x="334" y="600"/>
                  </a:lnTo>
                  <a:lnTo>
                    <a:pt x="317" y="602"/>
                  </a:lnTo>
                  <a:lnTo>
                    <a:pt x="286" y="604"/>
                  </a:lnTo>
                  <a:lnTo>
                    <a:pt x="256" y="602"/>
                  </a:lnTo>
                  <a:lnTo>
                    <a:pt x="227" y="598"/>
                  </a:lnTo>
                  <a:lnTo>
                    <a:pt x="198" y="590"/>
                  </a:lnTo>
                  <a:lnTo>
                    <a:pt x="171" y="581"/>
                  </a:lnTo>
                  <a:lnTo>
                    <a:pt x="144" y="569"/>
                  </a:lnTo>
                  <a:lnTo>
                    <a:pt x="121" y="554"/>
                  </a:lnTo>
                  <a:lnTo>
                    <a:pt x="98" y="537"/>
                  </a:lnTo>
                  <a:lnTo>
                    <a:pt x="77" y="518"/>
                  </a:lnTo>
                  <a:lnTo>
                    <a:pt x="58" y="496"/>
                  </a:lnTo>
                  <a:lnTo>
                    <a:pt x="41" y="473"/>
                  </a:lnTo>
                  <a:lnTo>
                    <a:pt x="25" y="448"/>
                  </a:lnTo>
                  <a:lnTo>
                    <a:pt x="12" y="424"/>
                  </a:lnTo>
                  <a:lnTo>
                    <a:pt x="2" y="395"/>
                  </a:lnTo>
                  <a:lnTo>
                    <a:pt x="0" y="389"/>
                  </a:lnTo>
                  <a:lnTo>
                    <a:pt x="0" y="393"/>
                  </a:lnTo>
                  <a:lnTo>
                    <a:pt x="0" y="397"/>
                  </a:lnTo>
                  <a:lnTo>
                    <a:pt x="0" y="401"/>
                  </a:lnTo>
                  <a:lnTo>
                    <a:pt x="0" y="404"/>
                  </a:lnTo>
                  <a:lnTo>
                    <a:pt x="0" y="408"/>
                  </a:lnTo>
                  <a:lnTo>
                    <a:pt x="0" y="410"/>
                  </a:lnTo>
                  <a:lnTo>
                    <a:pt x="0" y="414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c4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Freeform 206"/>
            <p:cNvSpPr/>
            <p:nvPr/>
          </p:nvSpPr>
          <p:spPr>
            <a:xfrm>
              <a:off x="1933560" y="2676240"/>
              <a:ext cx="533520" cy="9637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963720"/>
                <a:gd name="textAreaBottom" fmla="*/ 963720 h 963720"/>
              </a:gdLst>
              <a:ahLst/>
              <a:rect l="textAreaLeft" t="textAreaTop" r="textAreaRight" b="textAreaBottom"/>
              <a:pathLst>
                <a:path w="336" h="607">
                  <a:moveTo>
                    <a:pt x="334" y="4"/>
                  </a:moveTo>
                  <a:lnTo>
                    <a:pt x="317" y="2"/>
                  </a:lnTo>
                  <a:lnTo>
                    <a:pt x="286" y="0"/>
                  </a:lnTo>
                  <a:lnTo>
                    <a:pt x="256" y="2"/>
                  </a:lnTo>
                  <a:lnTo>
                    <a:pt x="227" y="8"/>
                  </a:lnTo>
                  <a:lnTo>
                    <a:pt x="196" y="14"/>
                  </a:lnTo>
                  <a:lnTo>
                    <a:pt x="169" y="25"/>
                  </a:lnTo>
                  <a:lnTo>
                    <a:pt x="142" y="37"/>
                  </a:lnTo>
                  <a:lnTo>
                    <a:pt x="118" y="52"/>
                  </a:lnTo>
                  <a:lnTo>
                    <a:pt x="94" y="69"/>
                  </a:lnTo>
                  <a:lnTo>
                    <a:pt x="73" y="91"/>
                  </a:lnTo>
                  <a:lnTo>
                    <a:pt x="54" y="112"/>
                  </a:lnTo>
                  <a:lnTo>
                    <a:pt x="35" y="135"/>
                  </a:lnTo>
                  <a:lnTo>
                    <a:pt x="33" y="139"/>
                  </a:lnTo>
                  <a:lnTo>
                    <a:pt x="33" y="142"/>
                  </a:lnTo>
                  <a:lnTo>
                    <a:pt x="33" y="146"/>
                  </a:lnTo>
                  <a:lnTo>
                    <a:pt x="31" y="150"/>
                  </a:lnTo>
                  <a:lnTo>
                    <a:pt x="31" y="154"/>
                  </a:lnTo>
                  <a:lnTo>
                    <a:pt x="29" y="158"/>
                  </a:lnTo>
                  <a:lnTo>
                    <a:pt x="29" y="162"/>
                  </a:lnTo>
                  <a:lnTo>
                    <a:pt x="29" y="165"/>
                  </a:lnTo>
                  <a:lnTo>
                    <a:pt x="27" y="169"/>
                  </a:lnTo>
                  <a:lnTo>
                    <a:pt x="29" y="163"/>
                  </a:lnTo>
                  <a:lnTo>
                    <a:pt x="45" y="140"/>
                  </a:lnTo>
                  <a:lnTo>
                    <a:pt x="62" y="117"/>
                  </a:lnTo>
                  <a:lnTo>
                    <a:pt x="81" y="96"/>
                  </a:lnTo>
                  <a:lnTo>
                    <a:pt x="100" y="77"/>
                  </a:lnTo>
                  <a:lnTo>
                    <a:pt x="123" y="62"/>
                  </a:lnTo>
                  <a:lnTo>
                    <a:pt x="148" y="46"/>
                  </a:lnTo>
                  <a:lnTo>
                    <a:pt x="173" y="35"/>
                  </a:lnTo>
                  <a:lnTo>
                    <a:pt x="200" y="25"/>
                  </a:lnTo>
                  <a:lnTo>
                    <a:pt x="229" y="18"/>
                  </a:lnTo>
                  <a:lnTo>
                    <a:pt x="258" y="12"/>
                  </a:lnTo>
                  <a:lnTo>
                    <a:pt x="286" y="12"/>
                  </a:lnTo>
                  <a:lnTo>
                    <a:pt x="317" y="12"/>
                  </a:lnTo>
                  <a:lnTo>
                    <a:pt x="332" y="16"/>
                  </a:lnTo>
                  <a:lnTo>
                    <a:pt x="332" y="14"/>
                  </a:lnTo>
                  <a:lnTo>
                    <a:pt x="332" y="12"/>
                  </a:lnTo>
                  <a:lnTo>
                    <a:pt x="332" y="12"/>
                  </a:lnTo>
                  <a:lnTo>
                    <a:pt x="332" y="10"/>
                  </a:lnTo>
                  <a:lnTo>
                    <a:pt x="332" y="8"/>
                  </a:lnTo>
                  <a:lnTo>
                    <a:pt x="332" y="8"/>
                  </a:lnTo>
                  <a:lnTo>
                    <a:pt x="332" y="6"/>
                  </a:lnTo>
                  <a:lnTo>
                    <a:pt x="334" y="4"/>
                  </a:lnTo>
                  <a:close/>
                  <a:moveTo>
                    <a:pt x="0" y="401"/>
                  </a:moveTo>
                  <a:lnTo>
                    <a:pt x="8" y="422"/>
                  </a:lnTo>
                  <a:lnTo>
                    <a:pt x="22" y="447"/>
                  </a:lnTo>
                  <a:lnTo>
                    <a:pt x="35" y="472"/>
                  </a:lnTo>
                  <a:lnTo>
                    <a:pt x="54" y="497"/>
                  </a:lnTo>
                  <a:lnTo>
                    <a:pt x="73" y="518"/>
                  </a:lnTo>
                  <a:lnTo>
                    <a:pt x="94" y="538"/>
                  </a:lnTo>
                  <a:lnTo>
                    <a:pt x="118" y="555"/>
                  </a:lnTo>
                  <a:lnTo>
                    <a:pt x="142" y="570"/>
                  </a:lnTo>
                  <a:lnTo>
                    <a:pt x="169" y="584"/>
                  </a:lnTo>
                  <a:lnTo>
                    <a:pt x="196" y="593"/>
                  </a:lnTo>
                  <a:lnTo>
                    <a:pt x="227" y="601"/>
                  </a:lnTo>
                  <a:lnTo>
                    <a:pt x="256" y="605"/>
                  </a:lnTo>
                  <a:lnTo>
                    <a:pt x="286" y="607"/>
                  </a:lnTo>
                  <a:lnTo>
                    <a:pt x="317" y="605"/>
                  </a:lnTo>
                  <a:lnTo>
                    <a:pt x="336" y="603"/>
                  </a:lnTo>
                  <a:lnTo>
                    <a:pt x="336" y="601"/>
                  </a:lnTo>
                  <a:lnTo>
                    <a:pt x="336" y="599"/>
                  </a:lnTo>
                  <a:lnTo>
                    <a:pt x="336" y="599"/>
                  </a:lnTo>
                  <a:lnTo>
                    <a:pt x="334" y="597"/>
                  </a:lnTo>
                  <a:lnTo>
                    <a:pt x="334" y="595"/>
                  </a:lnTo>
                  <a:lnTo>
                    <a:pt x="334" y="595"/>
                  </a:lnTo>
                  <a:lnTo>
                    <a:pt x="334" y="593"/>
                  </a:lnTo>
                  <a:lnTo>
                    <a:pt x="334" y="591"/>
                  </a:lnTo>
                  <a:lnTo>
                    <a:pt x="317" y="595"/>
                  </a:lnTo>
                  <a:lnTo>
                    <a:pt x="286" y="597"/>
                  </a:lnTo>
                  <a:lnTo>
                    <a:pt x="258" y="595"/>
                  </a:lnTo>
                  <a:lnTo>
                    <a:pt x="229" y="591"/>
                  </a:lnTo>
                  <a:lnTo>
                    <a:pt x="200" y="584"/>
                  </a:lnTo>
                  <a:lnTo>
                    <a:pt x="173" y="574"/>
                  </a:lnTo>
                  <a:lnTo>
                    <a:pt x="148" y="561"/>
                  </a:lnTo>
                  <a:lnTo>
                    <a:pt x="123" y="547"/>
                  </a:lnTo>
                  <a:lnTo>
                    <a:pt x="100" y="530"/>
                  </a:lnTo>
                  <a:lnTo>
                    <a:pt x="81" y="511"/>
                  </a:lnTo>
                  <a:lnTo>
                    <a:pt x="62" y="490"/>
                  </a:lnTo>
                  <a:lnTo>
                    <a:pt x="45" y="467"/>
                  </a:lnTo>
                  <a:lnTo>
                    <a:pt x="29" y="444"/>
                  </a:lnTo>
                  <a:lnTo>
                    <a:pt x="18" y="417"/>
                  </a:lnTo>
                  <a:lnTo>
                    <a:pt x="8" y="390"/>
                  </a:lnTo>
                  <a:lnTo>
                    <a:pt x="2" y="369"/>
                  </a:lnTo>
                  <a:lnTo>
                    <a:pt x="2" y="373"/>
                  </a:lnTo>
                  <a:lnTo>
                    <a:pt x="2" y="376"/>
                  </a:lnTo>
                  <a:lnTo>
                    <a:pt x="0" y="380"/>
                  </a:lnTo>
                  <a:lnTo>
                    <a:pt x="0" y="384"/>
                  </a:lnTo>
                  <a:lnTo>
                    <a:pt x="0" y="390"/>
                  </a:lnTo>
                  <a:lnTo>
                    <a:pt x="0" y="394"/>
                  </a:lnTo>
                  <a:lnTo>
                    <a:pt x="0" y="398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c5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207"/>
            <p:cNvSpPr/>
            <p:nvPr/>
          </p:nvSpPr>
          <p:spPr>
            <a:xfrm>
              <a:off x="1933560" y="2685960"/>
              <a:ext cx="530280" cy="94464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944640"/>
                <a:gd name="textAreaBottom" fmla="*/ 945000 h 944640"/>
              </a:gdLst>
              <a:ahLst/>
              <a:rect l="textAreaLeft" t="textAreaTop" r="textAreaRight" b="textAreaBottom"/>
              <a:pathLst>
                <a:path w="334" h="595">
                  <a:moveTo>
                    <a:pt x="332" y="4"/>
                  </a:moveTo>
                  <a:lnTo>
                    <a:pt x="317" y="2"/>
                  </a:lnTo>
                  <a:lnTo>
                    <a:pt x="286" y="0"/>
                  </a:lnTo>
                  <a:lnTo>
                    <a:pt x="256" y="2"/>
                  </a:lnTo>
                  <a:lnTo>
                    <a:pt x="227" y="6"/>
                  </a:lnTo>
                  <a:lnTo>
                    <a:pt x="198" y="14"/>
                  </a:lnTo>
                  <a:lnTo>
                    <a:pt x="171" y="23"/>
                  </a:lnTo>
                  <a:lnTo>
                    <a:pt x="144" y="37"/>
                  </a:lnTo>
                  <a:lnTo>
                    <a:pt x="121" y="50"/>
                  </a:lnTo>
                  <a:lnTo>
                    <a:pt x="98" y="67"/>
                  </a:lnTo>
                  <a:lnTo>
                    <a:pt x="77" y="86"/>
                  </a:lnTo>
                  <a:lnTo>
                    <a:pt x="58" y="108"/>
                  </a:lnTo>
                  <a:lnTo>
                    <a:pt x="41" y="131"/>
                  </a:lnTo>
                  <a:lnTo>
                    <a:pt x="31" y="146"/>
                  </a:lnTo>
                  <a:lnTo>
                    <a:pt x="29" y="152"/>
                  </a:lnTo>
                  <a:lnTo>
                    <a:pt x="29" y="156"/>
                  </a:lnTo>
                  <a:lnTo>
                    <a:pt x="27" y="159"/>
                  </a:lnTo>
                  <a:lnTo>
                    <a:pt x="27" y="165"/>
                  </a:lnTo>
                  <a:lnTo>
                    <a:pt x="27" y="169"/>
                  </a:lnTo>
                  <a:lnTo>
                    <a:pt x="25" y="173"/>
                  </a:lnTo>
                  <a:lnTo>
                    <a:pt x="25" y="179"/>
                  </a:lnTo>
                  <a:lnTo>
                    <a:pt x="23" y="182"/>
                  </a:lnTo>
                  <a:lnTo>
                    <a:pt x="35" y="161"/>
                  </a:lnTo>
                  <a:lnTo>
                    <a:pt x="48" y="136"/>
                  </a:lnTo>
                  <a:lnTo>
                    <a:pt x="66" y="115"/>
                  </a:lnTo>
                  <a:lnTo>
                    <a:pt x="83" y="94"/>
                  </a:lnTo>
                  <a:lnTo>
                    <a:pt x="104" y="77"/>
                  </a:lnTo>
                  <a:lnTo>
                    <a:pt x="127" y="60"/>
                  </a:lnTo>
                  <a:lnTo>
                    <a:pt x="150" y="44"/>
                  </a:lnTo>
                  <a:lnTo>
                    <a:pt x="175" y="33"/>
                  </a:lnTo>
                  <a:lnTo>
                    <a:pt x="202" y="23"/>
                  </a:lnTo>
                  <a:lnTo>
                    <a:pt x="229" y="15"/>
                  </a:lnTo>
                  <a:lnTo>
                    <a:pt x="258" y="12"/>
                  </a:lnTo>
                  <a:lnTo>
                    <a:pt x="286" y="10"/>
                  </a:lnTo>
                  <a:lnTo>
                    <a:pt x="317" y="12"/>
                  </a:lnTo>
                  <a:lnTo>
                    <a:pt x="332" y="14"/>
                  </a:lnTo>
                  <a:lnTo>
                    <a:pt x="332" y="14"/>
                  </a:lnTo>
                  <a:lnTo>
                    <a:pt x="332" y="12"/>
                  </a:lnTo>
                  <a:lnTo>
                    <a:pt x="332" y="10"/>
                  </a:lnTo>
                  <a:lnTo>
                    <a:pt x="332" y="10"/>
                  </a:lnTo>
                  <a:lnTo>
                    <a:pt x="332" y="8"/>
                  </a:lnTo>
                  <a:lnTo>
                    <a:pt x="332" y="6"/>
                  </a:lnTo>
                  <a:lnTo>
                    <a:pt x="332" y="6"/>
                  </a:lnTo>
                  <a:lnTo>
                    <a:pt x="332" y="4"/>
                  </a:lnTo>
                  <a:close/>
                  <a:moveTo>
                    <a:pt x="0" y="380"/>
                  </a:moveTo>
                  <a:lnTo>
                    <a:pt x="2" y="386"/>
                  </a:lnTo>
                  <a:lnTo>
                    <a:pt x="12" y="415"/>
                  </a:lnTo>
                  <a:lnTo>
                    <a:pt x="25" y="439"/>
                  </a:lnTo>
                  <a:lnTo>
                    <a:pt x="41" y="464"/>
                  </a:lnTo>
                  <a:lnTo>
                    <a:pt x="58" y="487"/>
                  </a:lnTo>
                  <a:lnTo>
                    <a:pt x="77" y="509"/>
                  </a:lnTo>
                  <a:lnTo>
                    <a:pt x="98" y="528"/>
                  </a:lnTo>
                  <a:lnTo>
                    <a:pt x="121" y="545"/>
                  </a:lnTo>
                  <a:lnTo>
                    <a:pt x="144" y="560"/>
                  </a:lnTo>
                  <a:lnTo>
                    <a:pt x="171" y="572"/>
                  </a:lnTo>
                  <a:lnTo>
                    <a:pt x="198" y="581"/>
                  </a:lnTo>
                  <a:lnTo>
                    <a:pt x="227" y="589"/>
                  </a:lnTo>
                  <a:lnTo>
                    <a:pt x="256" y="593"/>
                  </a:lnTo>
                  <a:lnTo>
                    <a:pt x="286" y="595"/>
                  </a:lnTo>
                  <a:lnTo>
                    <a:pt x="317" y="593"/>
                  </a:lnTo>
                  <a:lnTo>
                    <a:pt x="334" y="591"/>
                  </a:lnTo>
                  <a:lnTo>
                    <a:pt x="334" y="589"/>
                  </a:lnTo>
                  <a:lnTo>
                    <a:pt x="334" y="589"/>
                  </a:lnTo>
                  <a:lnTo>
                    <a:pt x="334" y="587"/>
                  </a:lnTo>
                  <a:lnTo>
                    <a:pt x="334" y="585"/>
                  </a:lnTo>
                  <a:lnTo>
                    <a:pt x="334" y="585"/>
                  </a:lnTo>
                  <a:lnTo>
                    <a:pt x="334" y="583"/>
                  </a:lnTo>
                  <a:lnTo>
                    <a:pt x="334" y="581"/>
                  </a:lnTo>
                  <a:lnTo>
                    <a:pt x="334" y="581"/>
                  </a:lnTo>
                  <a:lnTo>
                    <a:pt x="317" y="583"/>
                  </a:lnTo>
                  <a:lnTo>
                    <a:pt x="286" y="585"/>
                  </a:lnTo>
                  <a:lnTo>
                    <a:pt x="258" y="583"/>
                  </a:lnTo>
                  <a:lnTo>
                    <a:pt x="229" y="580"/>
                  </a:lnTo>
                  <a:lnTo>
                    <a:pt x="202" y="572"/>
                  </a:lnTo>
                  <a:lnTo>
                    <a:pt x="175" y="562"/>
                  </a:lnTo>
                  <a:lnTo>
                    <a:pt x="150" y="551"/>
                  </a:lnTo>
                  <a:lnTo>
                    <a:pt x="127" y="535"/>
                  </a:lnTo>
                  <a:lnTo>
                    <a:pt x="104" y="520"/>
                  </a:lnTo>
                  <a:lnTo>
                    <a:pt x="83" y="501"/>
                  </a:lnTo>
                  <a:lnTo>
                    <a:pt x="66" y="480"/>
                  </a:lnTo>
                  <a:lnTo>
                    <a:pt x="48" y="459"/>
                  </a:lnTo>
                  <a:lnTo>
                    <a:pt x="35" y="436"/>
                  </a:lnTo>
                  <a:lnTo>
                    <a:pt x="22" y="409"/>
                  </a:lnTo>
                  <a:lnTo>
                    <a:pt x="12" y="384"/>
                  </a:lnTo>
                  <a:lnTo>
                    <a:pt x="6" y="355"/>
                  </a:lnTo>
                  <a:lnTo>
                    <a:pt x="2" y="340"/>
                  </a:lnTo>
                  <a:lnTo>
                    <a:pt x="2" y="344"/>
                  </a:lnTo>
                  <a:lnTo>
                    <a:pt x="2" y="349"/>
                  </a:lnTo>
                  <a:lnTo>
                    <a:pt x="2" y="355"/>
                  </a:lnTo>
                  <a:lnTo>
                    <a:pt x="2" y="359"/>
                  </a:lnTo>
                  <a:lnTo>
                    <a:pt x="2" y="365"/>
                  </a:lnTo>
                  <a:lnTo>
                    <a:pt x="2" y="370"/>
                  </a:lnTo>
                  <a:lnTo>
                    <a:pt x="0" y="374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c6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208"/>
            <p:cNvSpPr/>
            <p:nvPr/>
          </p:nvSpPr>
          <p:spPr>
            <a:xfrm>
              <a:off x="1936800" y="2695320"/>
              <a:ext cx="527040" cy="92880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928800"/>
                <a:gd name="textAreaBottom" fmla="*/ 929160 h 928800"/>
              </a:gdLst>
              <a:ahLst/>
              <a:rect l="textAreaLeft" t="textAreaTop" r="textAreaRight" b="textAreaBottom"/>
              <a:pathLst>
                <a:path w="332" h="585">
                  <a:moveTo>
                    <a:pt x="330" y="4"/>
                  </a:moveTo>
                  <a:lnTo>
                    <a:pt x="315" y="0"/>
                  </a:lnTo>
                  <a:lnTo>
                    <a:pt x="284" y="0"/>
                  </a:lnTo>
                  <a:lnTo>
                    <a:pt x="256" y="0"/>
                  </a:lnTo>
                  <a:lnTo>
                    <a:pt x="227" y="6"/>
                  </a:lnTo>
                  <a:lnTo>
                    <a:pt x="198" y="13"/>
                  </a:lnTo>
                  <a:lnTo>
                    <a:pt x="171" y="23"/>
                  </a:lnTo>
                  <a:lnTo>
                    <a:pt x="146" y="34"/>
                  </a:lnTo>
                  <a:lnTo>
                    <a:pt x="121" y="50"/>
                  </a:lnTo>
                  <a:lnTo>
                    <a:pt x="98" y="65"/>
                  </a:lnTo>
                  <a:lnTo>
                    <a:pt x="79" y="84"/>
                  </a:lnTo>
                  <a:lnTo>
                    <a:pt x="60" y="105"/>
                  </a:lnTo>
                  <a:lnTo>
                    <a:pt x="43" y="128"/>
                  </a:lnTo>
                  <a:lnTo>
                    <a:pt x="27" y="151"/>
                  </a:lnTo>
                  <a:lnTo>
                    <a:pt x="25" y="157"/>
                  </a:lnTo>
                  <a:lnTo>
                    <a:pt x="25" y="163"/>
                  </a:lnTo>
                  <a:lnTo>
                    <a:pt x="23" y="169"/>
                  </a:lnTo>
                  <a:lnTo>
                    <a:pt x="21" y="174"/>
                  </a:lnTo>
                  <a:lnTo>
                    <a:pt x="21" y="180"/>
                  </a:lnTo>
                  <a:lnTo>
                    <a:pt x="20" y="186"/>
                  </a:lnTo>
                  <a:lnTo>
                    <a:pt x="20" y="192"/>
                  </a:lnTo>
                  <a:lnTo>
                    <a:pt x="18" y="198"/>
                  </a:lnTo>
                  <a:lnTo>
                    <a:pt x="18" y="203"/>
                  </a:lnTo>
                  <a:lnTo>
                    <a:pt x="25" y="182"/>
                  </a:lnTo>
                  <a:lnTo>
                    <a:pt x="37" y="157"/>
                  </a:lnTo>
                  <a:lnTo>
                    <a:pt x="50" y="134"/>
                  </a:lnTo>
                  <a:lnTo>
                    <a:pt x="68" y="113"/>
                  </a:lnTo>
                  <a:lnTo>
                    <a:pt x="85" y="92"/>
                  </a:lnTo>
                  <a:lnTo>
                    <a:pt x="106" y="75"/>
                  </a:lnTo>
                  <a:lnTo>
                    <a:pt x="127" y="57"/>
                  </a:lnTo>
                  <a:lnTo>
                    <a:pt x="150" y="44"/>
                  </a:lnTo>
                  <a:lnTo>
                    <a:pt x="175" y="32"/>
                  </a:lnTo>
                  <a:lnTo>
                    <a:pt x="202" y="23"/>
                  </a:lnTo>
                  <a:lnTo>
                    <a:pt x="229" y="15"/>
                  </a:lnTo>
                  <a:lnTo>
                    <a:pt x="256" y="11"/>
                  </a:lnTo>
                  <a:lnTo>
                    <a:pt x="284" y="9"/>
                  </a:lnTo>
                  <a:lnTo>
                    <a:pt x="313" y="11"/>
                  </a:lnTo>
                  <a:lnTo>
                    <a:pt x="329" y="13"/>
                  </a:lnTo>
                  <a:lnTo>
                    <a:pt x="329" y="11"/>
                  </a:lnTo>
                  <a:lnTo>
                    <a:pt x="329" y="11"/>
                  </a:lnTo>
                  <a:lnTo>
                    <a:pt x="329" y="9"/>
                  </a:lnTo>
                  <a:lnTo>
                    <a:pt x="330" y="8"/>
                  </a:lnTo>
                  <a:lnTo>
                    <a:pt x="330" y="8"/>
                  </a:lnTo>
                  <a:lnTo>
                    <a:pt x="330" y="6"/>
                  </a:lnTo>
                  <a:lnTo>
                    <a:pt x="330" y="4"/>
                  </a:lnTo>
                  <a:lnTo>
                    <a:pt x="330" y="4"/>
                  </a:lnTo>
                  <a:close/>
                  <a:moveTo>
                    <a:pt x="0" y="357"/>
                  </a:moveTo>
                  <a:lnTo>
                    <a:pt x="6" y="378"/>
                  </a:lnTo>
                  <a:lnTo>
                    <a:pt x="16" y="405"/>
                  </a:lnTo>
                  <a:lnTo>
                    <a:pt x="27" y="432"/>
                  </a:lnTo>
                  <a:lnTo>
                    <a:pt x="43" y="455"/>
                  </a:lnTo>
                  <a:lnTo>
                    <a:pt x="60" y="478"/>
                  </a:lnTo>
                  <a:lnTo>
                    <a:pt x="79" y="499"/>
                  </a:lnTo>
                  <a:lnTo>
                    <a:pt x="98" y="518"/>
                  </a:lnTo>
                  <a:lnTo>
                    <a:pt x="121" y="535"/>
                  </a:lnTo>
                  <a:lnTo>
                    <a:pt x="146" y="549"/>
                  </a:lnTo>
                  <a:lnTo>
                    <a:pt x="171" y="562"/>
                  </a:lnTo>
                  <a:lnTo>
                    <a:pt x="198" y="572"/>
                  </a:lnTo>
                  <a:lnTo>
                    <a:pt x="227" y="579"/>
                  </a:lnTo>
                  <a:lnTo>
                    <a:pt x="256" y="583"/>
                  </a:lnTo>
                  <a:lnTo>
                    <a:pt x="284" y="585"/>
                  </a:lnTo>
                  <a:lnTo>
                    <a:pt x="315" y="583"/>
                  </a:lnTo>
                  <a:lnTo>
                    <a:pt x="332" y="579"/>
                  </a:lnTo>
                  <a:lnTo>
                    <a:pt x="332" y="579"/>
                  </a:lnTo>
                  <a:lnTo>
                    <a:pt x="332" y="577"/>
                  </a:lnTo>
                  <a:lnTo>
                    <a:pt x="332" y="575"/>
                  </a:lnTo>
                  <a:lnTo>
                    <a:pt x="332" y="575"/>
                  </a:lnTo>
                  <a:lnTo>
                    <a:pt x="332" y="574"/>
                  </a:lnTo>
                  <a:lnTo>
                    <a:pt x="332" y="572"/>
                  </a:lnTo>
                  <a:lnTo>
                    <a:pt x="330" y="572"/>
                  </a:lnTo>
                  <a:lnTo>
                    <a:pt x="330" y="570"/>
                  </a:lnTo>
                  <a:lnTo>
                    <a:pt x="313" y="574"/>
                  </a:lnTo>
                  <a:lnTo>
                    <a:pt x="284" y="574"/>
                  </a:lnTo>
                  <a:lnTo>
                    <a:pt x="256" y="574"/>
                  </a:lnTo>
                  <a:lnTo>
                    <a:pt x="229" y="568"/>
                  </a:lnTo>
                  <a:lnTo>
                    <a:pt x="202" y="562"/>
                  </a:lnTo>
                  <a:lnTo>
                    <a:pt x="175" y="552"/>
                  </a:lnTo>
                  <a:lnTo>
                    <a:pt x="150" y="541"/>
                  </a:lnTo>
                  <a:lnTo>
                    <a:pt x="127" y="526"/>
                  </a:lnTo>
                  <a:lnTo>
                    <a:pt x="106" y="510"/>
                  </a:lnTo>
                  <a:lnTo>
                    <a:pt x="85" y="491"/>
                  </a:lnTo>
                  <a:lnTo>
                    <a:pt x="68" y="472"/>
                  </a:lnTo>
                  <a:lnTo>
                    <a:pt x="50" y="449"/>
                  </a:lnTo>
                  <a:lnTo>
                    <a:pt x="37" y="426"/>
                  </a:lnTo>
                  <a:lnTo>
                    <a:pt x="25" y="401"/>
                  </a:lnTo>
                  <a:lnTo>
                    <a:pt x="16" y="376"/>
                  </a:lnTo>
                  <a:lnTo>
                    <a:pt x="8" y="349"/>
                  </a:lnTo>
                  <a:lnTo>
                    <a:pt x="4" y="320"/>
                  </a:lnTo>
                  <a:lnTo>
                    <a:pt x="2" y="299"/>
                  </a:lnTo>
                  <a:lnTo>
                    <a:pt x="2" y="307"/>
                  </a:lnTo>
                  <a:lnTo>
                    <a:pt x="2" y="313"/>
                  </a:lnTo>
                  <a:lnTo>
                    <a:pt x="2" y="320"/>
                  </a:lnTo>
                  <a:lnTo>
                    <a:pt x="0" y="328"/>
                  </a:lnTo>
                  <a:lnTo>
                    <a:pt x="0" y="336"/>
                  </a:lnTo>
                  <a:lnTo>
                    <a:pt x="0" y="341"/>
                  </a:lnTo>
                  <a:lnTo>
                    <a:pt x="0" y="349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c7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Freeform 210"/>
          <p:cNvSpPr/>
          <p:nvPr/>
        </p:nvSpPr>
        <p:spPr>
          <a:xfrm>
            <a:off x="1936800" y="2701800"/>
            <a:ext cx="527040" cy="912960"/>
          </a:xfrm>
          <a:custGeom>
            <a:avLst/>
            <a:gdLst>
              <a:gd name="textAreaLeft" fmla="*/ 0 w 527040"/>
              <a:gd name="textAreaRight" fmla="*/ 527400 w 52704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332" h="575">
                <a:moveTo>
                  <a:pt x="330" y="4"/>
                </a:moveTo>
                <a:lnTo>
                  <a:pt x="315" y="2"/>
                </a:lnTo>
                <a:lnTo>
                  <a:pt x="284" y="0"/>
                </a:lnTo>
                <a:lnTo>
                  <a:pt x="256" y="2"/>
                </a:lnTo>
                <a:lnTo>
                  <a:pt x="227" y="5"/>
                </a:lnTo>
                <a:lnTo>
                  <a:pt x="200" y="13"/>
                </a:lnTo>
                <a:lnTo>
                  <a:pt x="173" y="23"/>
                </a:lnTo>
                <a:lnTo>
                  <a:pt x="148" y="34"/>
                </a:lnTo>
                <a:lnTo>
                  <a:pt x="125" y="50"/>
                </a:lnTo>
                <a:lnTo>
                  <a:pt x="102" y="67"/>
                </a:lnTo>
                <a:lnTo>
                  <a:pt x="81" y="84"/>
                </a:lnTo>
                <a:lnTo>
                  <a:pt x="64" y="105"/>
                </a:lnTo>
                <a:lnTo>
                  <a:pt x="46" y="126"/>
                </a:lnTo>
                <a:lnTo>
                  <a:pt x="33" y="151"/>
                </a:lnTo>
                <a:lnTo>
                  <a:pt x="21" y="172"/>
                </a:lnTo>
                <a:lnTo>
                  <a:pt x="20" y="186"/>
                </a:lnTo>
                <a:lnTo>
                  <a:pt x="18" y="199"/>
                </a:lnTo>
                <a:lnTo>
                  <a:pt x="16" y="213"/>
                </a:lnTo>
                <a:lnTo>
                  <a:pt x="12" y="226"/>
                </a:lnTo>
                <a:lnTo>
                  <a:pt x="10" y="240"/>
                </a:lnTo>
                <a:lnTo>
                  <a:pt x="8" y="253"/>
                </a:lnTo>
                <a:lnTo>
                  <a:pt x="6" y="264"/>
                </a:lnTo>
                <a:lnTo>
                  <a:pt x="4" y="278"/>
                </a:lnTo>
                <a:lnTo>
                  <a:pt x="4" y="286"/>
                </a:lnTo>
                <a:lnTo>
                  <a:pt x="4" y="291"/>
                </a:lnTo>
                <a:lnTo>
                  <a:pt x="2" y="297"/>
                </a:lnTo>
                <a:lnTo>
                  <a:pt x="2" y="305"/>
                </a:lnTo>
                <a:lnTo>
                  <a:pt x="2" y="311"/>
                </a:lnTo>
                <a:lnTo>
                  <a:pt x="2" y="316"/>
                </a:lnTo>
                <a:lnTo>
                  <a:pt x="0" y="322"/>
                </a:lnTo>
                <a:lnTo>
                  <a:pt x="0" y="330"/>
                </a:lnTo>
                <a:lnTo>
                  <a:pt x="4" y="345"/>
                </a:lnTo>
                <a:lnTo>
                  <a:pt x="10" y="374"/>
                </a:lnTo>
                <a:lnTo>
                  <a:pt x="20" y="399"/>
                </a:lnTo>
                <a:lnTo>
                  <a:pt x="33" y="426"/>
                </a:lnTo>
                <a:lnTo>
                  <a:pt x="46" y="449"/>
                </a:lnTo>
                <a:lnTo>
                  <a:pt x="64" y="470"/>
                </a:lnTo>
                <a:lnTo>
                  <a:pt x="81" y="491"/>
                </a:lnTo>
                <a:lnTo>
                  <a:pt x="102" y="510"/>
                </a:lnTo>
                <a:lnTo>
                  <a:pt x="125" y="525"/>
                </a:lnTo>
                <a:lnTo>
                  <a:pt x="148" y="541"/>
                </a:lnTo>
                <a:lnTo>
                  <a:pt x="173" y="552"/>
                </a:lnTo>
                <a:lnTo>
                  <a:pt x="200" y="562"/>
                </a:lnTo>
                <a:lnTo>
                  <a:pt x="227" y="570"/>
                </a:lnTo>
                <a:lnTo>
                  <a:pt x="256" y="573"/>
                </a:lnTo>
                <a:lnTo>
                  <a:pt x="284" y="575"/>
                </a:lnTo>
                <a:lnTo>
                  <a:pt x="315" y="573"/>
                </a:lnTo>
                <a:lnTo>
                  <a:pt x="332" y="571"/>
                </a:lnTo>
                <a:lnTo>
                  <a:pt x="332" y="570"/>
                </a:lnTo>
                <a:lnTo>
                  <a:pt x="332" y="568"/>
                </a:lnTo>
                <a:lnTo>
                  <a:pt x="330" y="568"/>
                </a:lnTo>
                <a:lnTo>
                  <a:pt x="330" y="566"/>
                </a:lnTo>
                <a:lnTo>
                  <a:pt x="330" y="564"/>
                </a:lnTo>
                <a:lnTo>
                  <a:pt x="330" y="564"/>
                </a:lnTo>
                <a:lnTo>
                  <a:pt x="330" y="562"/>
                </a:lnTo>
                <a:lnTo>
                  <a:pt x="330" y="560"/>
                </a:lnTo>
                <a:lnTo>
                  <a:pt x="313" y="564"/>
                </a:lnTo>
                <a:lnTo>
                  <a:pt x="284" y="566"/>
                </a:lnTo>
                <a:lnTo>
                  <a:pt x="258" y="564"/>
                </a:lnTo>
                <a:lnTo>
                  <a:pt x="229" y="560"/>
                </a:lnTo>
                <a:lnTo>
                  <a:pt x="202" y="552"/>
                </a:lnTo>
                <a:lnTo>
                  <a:pt x="177" y="543"/>
                </a:lnTo>
                <a:lnTo>
                  <a:pt x="152" y="531"/>
                </a:lnTo>
                <a:lnTo>
                  <a:pt x="131" y="518"/>
                </a:lnTo>
                <a:lnTo>
                  <a:pt x="108" y="502"/>
                </a:lnTo>
                <a:lnTo>
                  <a:pt x="89" y="483"/>
                </a:lnTo>
                <a:lnTo>
                  <a:pt x="71" y="464"/>
                </a:lnTo>
                <a:lnTo>
                  <a:pt x="56" y="443"/>
                </a:lnTo>
                <a:lnTo>
                  <a:pt x="41" y="420"/>
                </a:lnTo>
                <a:lnTo>
                  <a:pt x="29" y="395"/>
                </a:lnTo>
                <a:lnTo>
                  <a:pt x="20" y="370"/>
                </a:lnTo>
                <a:lnTo>
                  <a:pt x="14" y="343"/>
                </a:lnTo>
                <a:lnTo>
                  <a:pt x="10" y="316"/>
                </a:lnTo>
                <a:lnTo>
                  <a:pt x="8" y="288"/>
                </a:lnTo>
                <a:lnTo>
                  <a:pt x="10" y="259"/>
                </a:lnTo>
                <a:lnTo>
                  <a:pt x="14" y="232"/>
                </a:lnTo>
                <a:lnTo>
                  <a:pt x="20" y="205"/>
                </a:lnTo>
                <a:lnTo>
                  <a:pt x="29" y="180"/>
                </a:lnTo>
                <a:lnTo>
                  <a:pt x="41" y="155"/>
                </a:lnTo>
                <a:lnTo>
                  <a:pt x="56" y="132"/>
                </a:lnTo>
                <a:lnTo>
                  <a:pt x="71" y="111"/>
                </a:lnTo>
                <a:lnTo>
                  <a:pt x="89" y="92"/>
                </a:lnTo>
                <a:lnTo>
                  <a:pt x="108" y="75"/>
                </a:lnTo>
                <a:lnTo>
                  <a:pt x="131" y="57"/>
                </a:lnTo>
                <a:lnTo>
                  <a:pt x="152" y="44"/>
                </a:lnTo>
                <a:lnTo>
                  <a:pt x="177" y="32"/>
                </a:lnTo>
                <a:lnTo>
                  <a:pt x="202" y="23"/>
                </a:lnTo>
                <a:lnTo>
                  <a:pt x="229" y="17"/>
                </a:lnTo>
                <a:lnTo>
                  <a:pt x="258" y="11"/>
                </a:lnTo>
                <a:lnTo>
                  <a:pt x="284" y="11"/>
                </a:lnTo>
                <a:lnTo>
                  <a:pt x="313" y="11"/>
                </a:lnTo>
                <a:lnTo>
                  <a:pt x="329" y="15"/>
                </a:lnTo>
                <a:lnTo>
                  <a:pt x="329" y="13"/>
                </a:lnTo>
                <a:lnTo>
                  <a:pt x="329" y="11"/>
                </a:lnTo>
                <a:lnTo>
                  <a:pt x="329" y="11"/>
                </a:lnTo>
                <a:lnTo>
                  <a:pt x="329" y="9"/>
                </a:lnTo>
                <a:lnTo>
                  <a:pt x="329" y="7"/>
                </a:lnTo>
                <a:lnTo>
                  <a:pt x="329" y="7"/>
                </a:lnTo>
                <a:lnTo>
                  <a:pt x="329" y="5"/>
                </a:lnTo>
                <a:lnTo>
                  <a:pt x="330" y="4"/>
                </a:lnTo>
                <a:close/>
              </a:path>
            </a:pathLst>
          </a:custGeom>
          <a:solidFill>
            <a:srgbClr val="c8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211"/>
          <p:cNvSpPr/>
          <p:nvPr/>
        </p:nvSpPr>
        <p:spPr>
          <a:xfrm>
            <a:off x="1940040" y="2709720"/>
            <a:ext cx="520560" cy="897120"/>
          </a:xfrm>
          <a:custGeom>
            <a:avLst/>
            <a:gdLst>
              <a:gd name="textAreaLeft" fmla="*/ 0 w 520560"/>
              <a:gd name="textAreaRight" fmla="*/ 520560 w 52056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328" h="565">
                <a:moveTo>
                  <a:pt x="327" y="4"/>
                </a:moveTo>
                <a:lnTo>
                  <a:pt x="311" y="2"/>
                </a:lnTo>
                <a:lnTo>
                  <a:pt x="282" y="0"/>
                </a:lnTo>
                <a:lnTo>
                  <a:pt x="254" y="2"/>
                </a:lnTo>
                <a:lnTo>
                  <a:pt x="227" y="6"/>
                </a:lnTo>
                <a:lnTo>
                  <a:pt x="200" y="14"/>
                </a:lnTo>
                <a:lnTo>
                  <a:pt x="173" y="23"/>
                </a:lnTo>
                <a:lnTo>
                  <a:pt x="148" y="35"/>
                </a:lnTo>
                <a:lnTo>
                  <a:pt x="125" y="48"/>
                </a:lnTo>
                <a:lnTo>
                  <a:pt x="104" y="66"/>
                </a:lnTo>
                <a:lnTo>
                  <a:pt x="83" y="83"/>
                </a:lnTo>
                <a:lnTo>
                  <a:pt x="66" y="104"/>
                </a:lnTo>
                <a:lnTo>
                  <a:pt x="48" y="125"/>
                </a:lnTo>
                <a:lnTo>
                  <a:pt x="35" y="148"/>
                </a:lnTo>
                <a:lnTo>
                  <a:pt x="23" y="173"/>
                </a:lnTo>
                <a:lnTo>
                  <a:pt x="16" y="194"/>
                </a:lnTo>
                <a:lnTo>
                  <a:pt x="14" y="204"/>
                </a:lnTo>
                <a:lnTo>
                  <a:pt x="12" y="213"/>
                </a:lnTo>
                <a:lnTo>
                  <a:pt x="10" y="225"/>
                </a:lnTo>
                <a:lnTo>
                  <a:pt x="8" y="235"/>
                </a:lnTo>
                <a:lnTo>
                  <a:pt x="6" y="244"/>
                </a:lnTo>
                <a:lnTo>
                  <a:pt x="6" y="254"/>
                </a:lnTo>
                <a:lnTo>
                  <a:pt x="4" y="263"/>
                </a:lnTo>
                <a:lnTo>
                  <a:pt x="2" y="273"/>
                </a:lnTo>
                <a:lnTo>
                  <a:pt x="2" y="275"/>
                </a:lnTo>
                <a:lnTo>
                  <a:pt x="2" y="277"/>
                </a:lnTo>
                <a:lnTo>
                  <a:pt x="2" y="281"/>
                </a:lnTo>
                <a:lnTo>
                  <a:pt x="2" y="283"/>
                </a:lnTo>
                <a:lnTo>
                  <a:pt x="2" y="284"/>
                </a:lnTo>
                <a:lnTo>
                  <a:pt x="2" y="286"/>
                </a:lnTo>
                <a:lnTo>
                  <a:pt x="0" y="288"/>
                </a:lnTo>
                <a:lnTo>
                  <a:pt x="0" y="290"/>
                </a:lnTo>
                <a:lnTo>
                  <a:pt x="2" y="311"/>
                </a:lnTo>
                <a:lnTo>
                  <a:pt x="6" y="340"/>
                </a:lnTo>
                <a:lnTo>
                  <a:pt x="14" y="367"/>
                </a:lnTo>
                <a:lnTo>
                  <a:pt x="23" y="392"/>
                </a:lnTo>
                <a:lnTo>
                  <a:pt x="35" y="417"/>
                </a:lnTo>
                <a:lnTo>
                  <a:pt x="48" y="440"/>
                </a:lnTo>
                <a:lnTo>
                  <a:pt x="66" y="463"/>
                </a:lnTo>
                <a:lnTo>
                  <a:pt x="83" y="482"/>
                </a:lnTo>
                <a:lnTo>
                  <a:pt x="104" y="501"/>
                </a:lnTo>
                <a:lnTo>
                  <a:pt x="125" y="517"/>
                </a:lnTo>
                <a:lnTo>
                  <a:pt x="148" y="532"/>
                </a:lnTo>
                <a:lnTo>
                  <a:pt x="173" y="543"/>
                </a:lnTo>
                <a:lnTo>
                  <a:pt x="200" y="553"/>
                </a:lnTo>
                <a:lnTo>
                  <a:pt x="227" y="559"/>
                </a:lnTo>
                <a:lnTo>
                  <a:pt x="254" y="565"/>
                </a:lnTo>
                <a:lnTo>
                  <a:pt x="282" y="565"/>
                </a:lnTo>
                <a:lnTo>
                  <a:pt x="311" y="565"/>
                </a:lnTo>
                <a:lnTo>
                  <a:pt x="328" y="561"/>
                </a:lnTo>
                <a:lnTo>
                  <a:pt x="328" y="559"/>
                </a:lnTo>
                <a:lnTo>
                  <a:pt x="328" y="559"/>
                </a:lnTo>
                <a:lnTo>
                  <a:pt x="328" y="557"/>
                </a:lnTo>
                <a:lnTo>
                  <a:pt x="328" y="555"/>
                </a:lnTo>
                <a:lnTo>
                  <a:pt x="328" y="555"/>
                </a:lnTo>
                <a:lnTo>
                  <a:pt x="328" y="553"/>
                </a:lnTo>
                <a:lnTo>
                  <a:pt x="328" y="551"/>
                </a:lnTo>
                <a:lnTo>
                  <a:pt x="328" y="551"/>
                </a:lnTo>
                <a:lnTo>
                  <a:pt x="311" y="553"/>
                </a:lnTo>
                <a:lnTo>
                  <a:pt x="282" y="555"/>
                </a:lnTo>
                <a:lnTo>
                  <a:pt x="256" y="553"/>
                </a:lnTo>
                <a:lnTo>
                  <a:pt x="229" y="549"/>
                </a:lnTo>
                <a:lnTo>
                  <a:pt x="202" y="543"/>
                </a:lnTo>
                <a:lnTo>
                  <a:pt x="177" y="534"/>
                </a:lnTo>
                <a:lnTo>
                  <a:pt x="154" y="522"/>
                </a:lnTo>
                <a:lnTo>
                  <a:pt x="131" y="509"/>
                </a:lnTo>
                <a:lnTo>
                  <a:pt x="110" y="494"/>
                </a:lnTo>
                <a:lnTo>
                  <a:pt x="90" y="474"/>
                </a:lnTo>
                <a:lnTo>
                  <a:pt x="73" y="455"/>
                </a:lnTo>
                <a:lnTo>
                  <a:pt x="58" y="434"/>
                </a:lnTo>
                <a:lnTo>
                  <a:pt x="44" y="413"/>
                </a:lnTo>
                <a:lnTo>
                  <a:pt x="33" y="388"/>
                </a:lnTo>
                <a:lnTo>
                  <a:pt x="23" y="363"/>
                </a:lnTo>
                <a:lnTo>
                  <a:pt x="16" y="338"/>
                </a:lnTo>
                <a:lnTo>
                  <a:pt x="12" y="311"/>
                </a:lnTo>
                <a:lnTo>
                  <a:pt x="12" y="283"/>
                </a:lnTo>
                <a:lnTo>
                  <a:pt x="12" y="256"/>
                </a:lnTo>
                <a:lnTo>
                  <a:pt x="16" y="229"/>
                </a:lnTo>
                <a:lnTo>
                  <a:pt x="23" y="202"/>
                </a:lnTo>
                <a:lnTo>
                  <a:pt x="33" y="177"/>
                </a:lnTo>
                <a:lnTo>
                  <a:pt x="44" y="154"/>
                </a:lnTo>
                <a:lnTo>
                  <a:pt x="58" y="131"/>
                </a:lnTo>
                <a:lnTo>
                  <a:pt x="73" y="110"/>
                </a:lnTo>
                <a:lnTo>
                  <a:pt x="90" y="91"/>
                </a:lnTo>
                <a:lnTo>
                  <a:pt x="110" y="73"/>
                </a:lnTo>
                <a:lnTo>
                  <a:pt x="131" y="58"/>
                </a:lnTo>
                <a:lnTo>
                  <a:pt x="154" y="43"/>
                </a:lnTo>
                <a:lnTo>
                  <a:pt x="177" y="33"/>
                </a:lnTo>
                <a:lnTo>
                  <a:pt x="202" y="23"/>
                </a:lnTo>
                <a:lnTo>
                  <a:pt x="229" y="16"/>
                </a:lnTo>
                <a:lnTo>
                  <a:pt x="256" y="12"/>
                </a:lnTo>
                <a:lnTo>
                  <a:pt x="282" y="10"/>
                </a:lnTo>
                <a:lnTo>
                  <a:pt x="311" y="12"/>
                </a:lnTo>
                <a:lnTo>
                  <a:pt x="325" y="14"/>
                </a:lnTo>
                <a:lnTo>
                  <a:pt x="327" y="14"/>
                </a:lnTo>
                <a:lnTo>
                  <a:pt x="327" y="12"/>
                </a:lnTo>
                <a:lnTo>
                  <a:pt x="327" y="10"/>
                </a:lnTo>
                <a:lnTo>
                  <a:pt x="327" y="10"/>
                </a:lnTo>
                <a:lnTo>
                  <a:pt x="327" y="8"/>
                </a:lnTo>
                <a:lnTo>
                  <a:pt x="327" y="6"/>
                </a:lnTo>
                <a:lnTo>
                  <a:pt x="327" y="6"/>
                </a:lnTo>
                <a:lnTo>
                  <a:pt x="327" y="4"/>
                </a:lnTo>
                <a:close/>
              </a:path>
            </a:pathLst>
          </a:custGeom>
          <a:solidFill>
            <a:srgbClr val="c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Freeform 212"/>
          <p:cNvSpPr/>
          <p:nvPr/>
        </p:nvSpPr>
        <p:spPr>
          <a:xfrm>
            <a:off x="1949400" y="2719440"/>
            <a:ext cx="511200" cy="880920"/>
          </a:xfrm>
          <a:custGeom>
            <a:avLst/>
            <a:gdLst>
              <a:gd name="textAreaLeft" fmla="*/ 0 w 511200"/>
              <a:gd name="textAreaRight" fmla="*/ 511200 w 51120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w="322" h="555">
                <a:moveTo>
                  <a:pt x="321" y="4"/>
                </a:moveTo>
                <a:lnTo>
                  <a:pt x="305" y="0"/>
                </a:lnTo>
                <a:lnTo>
                  <a:pt x="276" y="0"/>
                </a:lnTo>
                <a:lnTo>
                  <a:pt x="250" y="0"/>
                </a:lnTo>
                <a:lnTo>
                  <a:pt x="221" y="6"/>
                </a:lnTo>
                <a:lnTo>
                  <a:pt x="194" y="12"/>
                </a:lnTo>
                <a:lnTo>
                  <a:pt x="169" y="21"/>
                </a:lnTo>
                <a:lnTo>
                  <a:pt x="144" y="33"/>
                </a:lnTo>
                <a:lnTo>
                  <a:pt x="123" y="46"/>
                </a:lnTo>
                <a:lnTo>
                  <a:pt x="100" y="64"/>
                </a:lnTo>
                <a:lnTo>
                  <a:pt x="81" y="81"/>
                </a:lnTo>
                <a:lnTo>
                  <a:pt x="63" y="100"/>
                </a:lnTo>
                <a:lnTo>
                  <a:pt x="48" y="121"/>
                </a:lnTo>
                <a:lnTo>
                  <a:pt x="33" y="144"/>
                </a:lnTo>
                <a:lnTo>
                  <a:pt x="21" y="169"/>
                </a:lnTo>
                <a:lnTo>
                  <a:pt x="12" y="194"/>
                </a:lnTo>
                <a:lnTo>
                  <a:pt x="6" y="221"/>
                </a:lnTo>
                <a:lnTo>
                  <a:pt x="2" y="248"/>
                </a:lnTo>
                <a:lnTo>
                  <a:pt x="0" y="277"/>
                </a:lnTo>
                <a:lnTo>
                  <a:pt x="2" y="305"/>
                </a:lnTo>
                <a:lnTo>
                  <a:pt x="6" y="332"/>
                </a:lnTo>
                <a:lnTo>
                  <a:pt x="12" y="359"/>
                </a:lnTo>
                <a:lnTo>
                  <a:pt x="21" y="384"/>
                </a:lnTo>
                <a:lnTo>
                  <a:pt x="33" y="409"/>
                </a:lnTo>
                <a:lnTo>
                  <a:pt x="48" y="432"/>
                </a:lnTo>
                <a:lnTo>
                  <a:pt x="63" y="453"/>
                </a:lnTo>
                <a:lnTo>
                  <a:pt x="81" y="472"/>
                </a:lnTo>
                <a:lnTo>
                  <a:pt x="100" y="491"/>
                </a:lnTo>
                <a:lnTo>
                  <a:pt x="123" y="507"/>
                </a:lnTo>
                <a:lnTo>
                  <a:pt x="144" y="520"/>
                </a:lnTo>
                <a:lnTo>
                  <a:pt x="169" y="532"/>
                </a:lnTo>
                <a:lnTo>
                  <a:pt x="194" y="541"/>
                </a:lnTo>
                <a:lnTo>
                  <a:pt x="221" y="549"/>
                </a:lnTo>
                <a:lnTo>
                  <a:pt x="250" y="553"/>
                </a:lnTo>
                <a:lnTo>
                  <a:pt x="276" y="555"/>
                </a:lnTo>
                <a:lnTo>
                  <a:pt x="305" y="553"/>
                </a:lnTo>
                <a:lnTo>
                  <a:pt x="322" y="549"/>
                </a:lnTo>
                <a:lnTo>
                  <a:pt x="322" y="549"/>
                </a:lnTo>
                <a:lnTo>
                  <a:pt x="322" y="547"/>
                </a:lnTo>
                <a:lnTo>
                  <a:pt x="322" y="545"/>
                </a:lnTo>
                <a:lnTo>
                  <a:pt x="322" y="545"/>
                </a:lnTo>
                <a:lnTo>
                  <a:pt x="322" y="543"/>
                </a:lnTo>
                <a:lnTo>
                  <a:pt x="322" y="543"/>
                </a:lnTo>
                <a:lnTo>
                  <a:pt x="321" y="541"/>
                </a:lnTo>
                <a:lnTo>
                  <a:pt x="321" y="539"/>
                </a:lnTo>
                <a:lnTo>
                  <a:pt x="305" y="543"/>
                </a:lnTo>
                <a:lnTo>
                  <a:pt x="276" y="543"/>
                </a:lnTo>
                <a:lnTo>
                  <a:pt x="250" y="543"/>
                </a:lnTo>
                <a:lnTo>
                  <a:pt x="223" y="537"/>
                </a:lnTo>
                <a:lnTo>
                  <a:pt x="198" y="532"/>
                </a:lnTo>
                <a:lnTo>
                  <a:pt x="173" y="522"/>
                </a:lnTo>
                <a:lnTo>
                  <a:pt x="150" y="511"/>
                </a:lnTo>
                <a:lnTo>
                  <a:pt x="129" y="497"/>
                </a:lnTo>
                <a:lnTo>
                  <a:pt x="108" y="482"/>
                </a:lnTo>
                <a:lnTo>
                  <a:pt x="88" y="465"/>
                </a:lnTo>
                <a:lnTo>
                  <a:pt x="71" y="447"/>
                </a:lnTo>
                <a:lnTo>
                  <a:pt x="56" y="426"/>
                </a:lnTo>
                <a:lnTo>
                  <a:pt x="42" y="403"/>
                </a:lnTo>
                <a:lnTo>
                  <a:pt x="31" y="380"/>
                </a:lnTo>
                <a:lnTo>
                  <a:pt x="23" y="357"/>
                </a:lnTo>
                <a:lnTo>
                  <a:pt x="15" y="330"/>
                </a:lnTo>
                <a:lnTo>
                  <a:pt x="12" y="303"/>
                </a:lnTo>
                <a:lnTo>
                  <a:pt x="10" y="277"/>
                </a:lnTo>
                <a:lnTo>
                  <a:pt x="12" y="250"/>
                </a:lnTo>
                <a:lnTo>
                  <a:pt x="15" y="223"/>
                </a:lnTo>
                <a:lnTo>
                  <a:pt x="23" y="198"/>
                </a:lnTo>
                <a:lnTo>
                  <a:pt x="31" y="173"/>
                </a:lnTo>
                <a:lnTo>
                  <a:pt x="42" y="150"/>
                </a:lnTo>
                <a:lnTo>
                  <a:pt x="56" y="127"/>
                </a:lnTo>
                <a:lnTo>
                  <a:pt x="71" y="108"/>
                </a:lnTo>
                <a:lnTo>
                  <a:pt x="88" y="88"/>
                </a:lnTo>
                <a:lnTo>
                  <a:pt x="108" y="71"/>
                </a:lnTo>
                <a:lnTo>
                  <a:pt x="129" y="56"/>
                </a:lnTo>
                <a:lnTo>
                  <a:pt x="150" y="42"/>
                </a:lnTo>
                <a:lnTo>
                  <a:pt x="173" y="31"/>
                </a:lnTo>
                <a:lnTo>
                  <a:pt x="198" y="21"/>
                </a:lnTo>
                <a:lnTo>
                  <a:pt x="223" y="16"/>
                </a:lnTo>
                <a:lnTo>
                  <a:pt x="250" y="12"/>
                </a:lnTo>
                <a:lnTo>
                  <a:pt x="276" y="10"/>
                </a:lnTo>
                <a:lnTo>
                  <a:pt x="305" y="12"/>
                </a:lnTo>
                <a:lnTo>
                  <a:pt x="319" y="14"/>
                </a:lnTo>
                <a:lnTo>
                  <a:pt x="319" y="12"/>
                </a:lnTo>
                <a:lnTo>
                  <a:pt x="319" y="12"/>
                </a:lnTo>
                <a:lnTo>
                  <a:pt x="319" y="10"/>
                </a:lnTo>
                <a:lnTo>
                  <a:pt x="319" y="8"/>
                </a:lnTo>
                <a:lnTo>
                  <a:pt x="321" y="8"/>
                </a:lnTo>
                <a:lnTo>
                  <a:pt x="321" y="6"/>
                </a:lnTo>
                <a:lnTo>
                  <a:pt x="321" y="4"/>
                </a:lnTo>
                <a:lnTo>
                  <a:pt x="321" y="4"/>
                </a:lnTo>
                <a:close/>
              </a:path>
            </a:pathLst>
          </a:custGeom>
          <a:solidFill>
            <a:srgbClr val="ca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Freeform 213"/>
          <p:cNvSpPr/>
          <p:nvPr/>
        </p:nvSpPr>
        <p:spPr>
          <a:xfrm>
            <a:off x="1959120" y="2725560"/>
            <a:ext cx="501480" cy="865440"/>
          </a:xfrm>
          <a:custGeom>
            <a:avLst/>
            <a:gdLst>
              <a:gd name="textAreaLeft" fmla="*/ 0 w 501480"/>
              <a:gd name="textAreaRight" fmla="*/ 501840 w 50148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316" h="545">
                <a:moveTo>
                  <a:pt x="313" y="4"/>
                </a:moveTo>
                <a:lnTo>
                  <a:pt x="299" y="2"/>
                </a:lnTo>
                <a:lnTo>
                  <a:pt x="270" y="0"/>
                </a:lnTo>
                <a:lnTo>
                  <a:pt x="244" y="2"/>
                </a:lnTo>
                <a:lnTo>
                  <a:pt x="217" y="6"/>
                </a:lnTo>
                <a:lnTo>
                  <a:pt x="190" y="13"/>
                </a:lnTo>
                <a:lnTo>
                  <a:pt x="165" y="23"/>
                </a:lnTo>
                <a:lnTo>
                  <a:pt x="142" y="33"/>
                </a:lnTo>
                <a:lnTo>
                  <a:pt x="119" y="48"/>
                </a:lnTo>
                <a:lnTo>
                  <a:pt x="98" y="63"/>
                </a:lnTo>
                <a:lnTo>
                  <a:pt x="78" y="81"/>
                </a:lnTo>
                <a:lnTo>
                  <a:pt x="61" y="100"/>
                </a:lnTo>
                <a:lnTo>
                  <a:pt x="46" y="121"/>
                </a:lnTo>
                <a:lnTo>
                  <a:pt x="32" y="144"/>
                </a:lnTo>
                <a:lnTo>
                  <a:pt x="21" y="167"/>
                </a:lnTo>
                <a:lnTo>
                  <a:pt x="11" y="192"/>
                </a:lnTo>
                <a:lnTo>
                  <a:pt x="4" y="219"/>
                </a:lnTo>
                <a:lnTo>
                  <a:pt x="0" y="246"/>
                </a:lnTo>
                <a:lnTo>
                  <a:pt x="0" y="273"/>
                </a:lnTo>
                <a:lnTo>
                  <a:pt x="0" y="301"/>
                </a:lnTo>
                <a:lnTo>
                  <a:pt x="4" y="328"/>
                </a:lnTo>
                <a:lnTo>
                  <a:pt x="11" y="353"/>
                </a:lnTo>
                <a:lnTo>
                  <a:pt x="21" y="378"/>
                </a:lnTo>
                <a:lnTo>
                  <a:pt x="32" y="403"/>
                </a:lnTo>
                <a:lnTo>
                  <a:pt x="46" y="424"/>
                </a:lnTo>
                <a:lnTo>
                  <a:pt x="61" y="445"/>
                </a:lnTo>
                <a:lnTo>
                  <a:pt x="78" y="464"/>
                </a:lnTo>
                <a:lnTo>
                  <a:pt x="98" y="484"/>
                </a:lnTo>
                <a:lnTo>
                  <a:pt x="119" y="499"/>
                </a:lnTo>
                <a:lnTo>
                  <a:pt x="142" y="512"/>
                </a:lnTo>
                <a:lnTo>
                  <a:pt x="165" y="524"/>
                </a:lnTo>
                <a:lnTo>
                  <a:pt x="190" y="533"/>
                </a:lnTo>
                <a:lnTo>
                  <a:pt x="217" y="539"/>
                </a:lnTo>
                <a:lnTo>
                  <a:pt x="244" y="543"/>
                </a:lnTo>
                <a:lnTo>
                  <a:pt x="270" y="545"/>
                </a:lnTo>
                <a:lnTo>
                  <a:pt x="299" y="543"/>
                </a:lnTo>
                <a:lnTo>
                  <a:pt x="316" y="541"/>
                </a:lnTo>
                <a:lnTo>
                  <a:pt x="316" y="539"/>
                </a:lnTo>
                <a:lnTo>
                  <a:pt x="316" y="539"/>
                </a:lnTo>
                <a:lnTo>
                  <a:pt x="315" y="537"/>
                </a:lnTo>
                <a:lnTo>
                  <a:pt x="315" y="535"/>
                </a:lnTo>
                <a:lnTo>
                  <a:pt x="315" y="535"/>
                </a:lnTo>
                <a:lnTo>
                  <a:pt x="315" y="533"/>
                </a:lnTo>
                <a:lnTo>
                  <a:pt x="315" y="532"/>
                </a:lnTo>
                <a:lnTo>
                  <a:pt x="315" y="532"/>
                </a:lnTo>
                <a:lnTo>
                  <a:pt x="297" y="533"/>
                </a:lnTo>
                <a:lnTo>
                  <a:pt x="270" y="535"/>
                </a:lnTo>
                <a:lnTo>
                  <a:pt x="244" y="533"/>
                </a:lnTo>
                <a:lnTo>
                  <a:pt x="219" y="530"/>
                </a:lnTo>
                <a:lnTo>
                  <a:pt x="194" y="522"/>
                </a:lnTo>
                <a:lnTo>
                  <a:pt x="169" y="514"/>
                </a:lnTo>
                <a:lnTo>
                  <a:pt x="146" y="503"/>
                </a:lnTo>
                <a:lnTo>
                  <a:pt x="125" y="489"/>
                </a:lnTo>
                <a:lnTo>
                  <a:pt x="105" y="474"/>
                </a:lnTo>
                <a:lnTo>
                  <a:pt x="86" y="459"/>
                </a:lnTo>
                <a:lnTo>
                  <a:pt x="69" y="439"/>
                </a:lnTo>
                <a:lnTo>
                  <a:pt x="54" y="418"/>
                </a:lnTo>
                <a:lnTo>
                  <a:pt x="40" y="397"/>
                </a:lnTo>
                <a:lnTo>
                  <a:pt x="30" y="374"/>
                </a:lnTo>
                <a:lnTo>
                  <a:pt x="21" y="351"/>
                </a:lnTo>
                <a:lnTo>
                  <a:pt x="15" y="326"/>
                </a:lnTo>
                <a:lnTo>
                  <a:pt x="11" y="299"/>
                </a:lnTo>
                <a:lnTo>
                  <a:pt x="9" y="273"/>
                </a:lnTo>
                <a:lnTo>
                  <a:pt x="11" y="246"/>
                </a:lnTo>
                <a:lnTo>
                  <a:pt x="15" y="221"/>
                </a:lnTo>
                <a:lnTo>
                  <a:pt x="21" y="196"/>
                </a:lnTo>
                <a:lnTo>
                  <a:pt x="30" y="171"/>
                </a:lnTo>
                <a:lnTo>
                  <a:pt x="40" y="148"/>
                </a:lnTo>
                <a:lnTo>
                  <a:pt x="54" y="127"/>
                </a:lnTo>
                <a:lnTo>
                  <a:pt x="69" y="106"/>
                </a:lnTo>
                <a:lnTo>
                  <a:pt x="86" y="88"/>
                </a:lnTo>
                <a:lnTo>
                  <a:pt x="105" y="71"/>
                </a:lnTo>
                <a:lnTo>
                  <a:pt x="125" y="56"/>
                </a:lnTo>
                <a:lnTo>
                  <a:pt x="146" y="42"/>
                </a:lnTo>
                <a:lnTo>
                  <a:pt x="169" y="31"/>
                </a:lnTo>
                <a:lnTo>
                  <a:pt x="194" y="23"/>
                </a:lnTo>
                <a:lnTo>
                  <a:pt x="219" y="15"/>
                </a:lnTo>
                <a:lnTo>
                  <a:pt x="244" y="12"/>
                </a:lnTo>
                <a:lnTo>
                  <a:pt x="270" y="12"/>
                </a:lnTo>
                <a:lnTo>
                  <a:pt x="297" y="12"/>
                </a:lnTo>
                <a:lnTo>
                  <a:pt x="313" y="15"/>
                </a:lnTo>
                <a:lnTo>
                  <a:pt x="313" y="13"/>
                </a:lnTo>
                <a:lnTo>
                  <a:pt x="313" y="12"/>
                </a:lnTo>
                <a:lnTo>
                  <a:pt x="313" y="12"/>
                </a:lnTo>
                <a:lnTo>
                  <a:pt x="313" y="10"/>
                </a:lnTo>
                <a:lnTo>
                  <a:pt x="313" y="8"/>
                </a:lnTo>
                <a:lnTo>
                  <a:pt x="313" y="8"/>
                </a:lnTo>
                <a:lnTo>
                  <a:pt x="313" y="6"/>
                </a:lnTo>
                <a:lnTo>
                  <a:pt x="313" y="4"/>
                </a:lnTo>
                <a:close/>
              </a:path>
            </a:pathLst>
          </a:custGeom>
          <a:solidFill>
            <a:srgbClr val="cb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reeform 214"/>
          <p:cNvSpPr/>
          <p:nvPr/>
        </p:nvSpPr>
        <p:spPr>
          <a:xfrm>
            <a:off x="1965240" y="2735280"/>
            <a:ext cx="493920" cy="846000"/>
          </a:xfrm>
          <a:custGeom>
            <a:avLst/>
            <a:gdLst>
              <a:gd name="textAreaLeft" fmla="*/ 0 w 493920"/>
              <a:gd name="textAreaRight" fmla="*/ 494280 w 49392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311" h="533">
                <a:moveTo>
                  <a:pt x="309" y="4"/>
                </a:moveTo>
                <a:lnTo>
                  <a:pt x="295" y="2"/>
                </a:lnTo>
                <a:lnTo>
                  <a:pt x="266" y="0"/>
                </a:lnTo>
                <a:lnTo>
                  <a:pt x="240" y="2"/>
                </a:lnTo>
                <a:lnTo>
                  <a:pt x="213" y="6"/>
                </a:lnTo>
                <a:lnTo>
                  <a:pt x="188" y="11"/>
                </a:lnTo>
                <a:lnTo>
                  <a:pt x="163" y="21"/>
                </a:lnTo>
                <a:lnTo>
                  <a:pt x="140" y="32"/>
                </a:lnTo>
                <a:lnTo>
                  <a:pt x="119" y="46"/>
                </a:lnTo>
                <a:lnTo>
                  <a:pt x="98" y="61"/>
                </a:lnTo>
                <a:lnTo>
                  <a:pt x="78" y="78"/>
                </a:lnTo>
                <a:lnTo>
                  <a:pt x="61" y="98"/>
                </a:lnTo>
                <a:lnTo>
                  <a:pt x="46" y="117"/>
                </a:lnTo>
                <a:lnTo>
                  <a:pt x="32" y="140"/>
                </a:lnTo>
                <a:lnTo>
                  <a:pt x="21" y="163"/>
                </a:lnTo>
                <a:lnTo>
                  <a:pt x="13" y="188"/>
                </a:lnTo>
                <a:lnTo>
                  <a:pt x="5" y="213"/>
                </a:lnTo>
                <a:lnTo>
                  <a:pt x="2" y="240"/>
                </a:lnTo>
                <a:lnTo>
                  <a:pt x="0" y="267"/>
                </a:lnTo>
                <a:lnTo>
                  <a:pt x="2" y="293"/>
                </a:lnTo>
                <a:lnTo>
                  <a:pt x="5" y="320"/>
                </a:lnTo>
                <a:lnTo>
                  <a:pt x="13" y="347"/>
                </a:lnTo>
                <a:lnTo>
                  <a:pt x="21" y="370"/>
                </a:lnTo>
                <a:lnTo>
                  <a:pt x="32" y="393"/>
                </a:lnTo>
                <a:lnTo>
                  <a:pt x="46" y="416"/>
                </a:lnTo>
                <a:lnTo>
                  <a:pt x="61" y="437"/>
                </a:lnTo>
                <a:lnTo>
                  <a:pt x="78" y="455"/>
                </a:lnTo>
                <a:lnTo>
                  <a:pt x="98" y="472"/>
                </a:lnTo>
                <a:lnTo>
                  <a:pt x="119" y="487"/>
                </a:lnTo>
                <a:lnTo>
                  <a:pt x="140" y="501"/>
                </a:lnTo>
                <a:lnTo>
                  <a:pt x="163" y="512"/>
                </a:lnTo>
                <a:lnTo>
                  <a:pt x="188" y="522"/>
                </a:lnTo>
                <a:lnTo>
                  <a:pt x="213" y="527"/>
                </a:lnTo>
                <a:lnTo>
                  <a:pt x="240" y="533"/>
                </a:lnTo>
                <a:lnTo>
                  <a:pt x="266" y="533"/>
                </a:lnTo>
                <a:lnTo>
                  <a:pt x="295" y="533"/>
                </a:lnTo>
                <a:lnTo>
                  <a:pt x="311" y="529"/>
                </a:lnTo>
                <a:lnTo>
                  <a:pt x="311" y="529"/>
                </a:lnTo>
                <a:lnTo>
                  <a:pt x="311" y="527"/>
                </a:lnTo>
                <a:lnTo>
                  <a:pt x="311" y="526"/>
                </a:lnTo>
                <a:lnTo>
                  <a:pt x="311" y="526"/>
                </a:lnTo>
                <a:lnTo>
                  <a:pt x="311" y="524"/>
                </a:lnTo>
                <a:lnTo>
                  <a:pt x="311" y="522"/>
                </a:lnTo>
                <a:lnTo>
                  <a:pt x="311" y="522"/>
                </a:lnTo>
                <a:lnTo>
                  <a:pt x="311" y="520"/>
                </a:lnTo>
                <a:lnTo>
                  <a:pt x="293" y="522"/>
                </a:lnTo>
                <a:lnTo>
                  <a:pt x="266" y="524"/>
                </a:lnTo>
                <a:lnTo>
                  <a:pt x="241" y="522"/>
                </a:lnTo>
                <a:lnTo>
                  <a:pt x="215" y="518"/>
                </a:lnTo>
                <a:lnTo>
                  <a:pt x="192" y="512"/>
                </a:lnTo>
                <a:lnTo>
                  <a:pt x="167" y="503"/>
                </a:lnTo>
                <a:lnTo>
                  <a:pt x="145" y="493"/>
                </a:lnTo>
                <a:lnTo>
                  <a:pt x="124" y="479"/>
                </a:lnTo>
                <a:lnTo>
                  <a:pt x="103" y="464"/>
                </a:lnTo>
                <a:lnTo>
                  <a:pt x="86" y="449"/>
                </a:lnTo>
                <a:lnTo>
                  <a:pt x="69" y="430"/>
                </a:lnTo>
                <a:lnTo>
                  <a:pt x="53" y="410"/>
                </a:lnTo>
                <a:lnTo>
                  <a:pt x="42" y="389"/>
                </a:lnTo>
                <a:lnTo>
                  <a:pt x="30" y="366"/>
                </a:lnTo>
                <a:lnTo>
                  <a:pt x="23" y="343"/>
                </a:lnTo>
                <a:lnTo>
                  <a:pt x="15" y="318"/>
                </a:lnTo>
                <a:lnTo>
                  <a:pt x="11" y="293"/>
                </a:lnTo>
                <a:lnTo>
                  <a:pt x="11" y="267"/>
                </a:lnTo>
                <a:lnTo>
                  <a:pt x="11" y="240"/>
                </a:lnTo>
                <a:lnTo>
                  <a:pt x="15" y="215"/>
                </a:lnTo>
                <a:lnTo>
                  <a:pt x="23" y="190"/>
                </a:lnTo>
                <a:lnTo>
                  <a:pt x="30" y="167"/>
                </a:lnTo>
                <a:lnTo>
                  <a:pt x="42" y="144"/>
                </a:lnTo>
                <a:lnTo>
                  <a:pt x="53" y="123"/>
                </a:lnTo>
                <a:lnTo>
                  <a:pt x="69" y="103"/>
                </a:lnTo>
                <a:lnTo>
                  <a:pt x="86" y="86"/>
                </a:lnTo>
                <a:lnTo>
                  <a:pt x="103" y="69"/>
                </a:lnTo>
                <a:lnTo>
                  <a:pt x="124" y="54"/>
                </a:lnTo>
                <a:lnTo>
                  <a:pt x="145" y="42"/>
                </a:lnTo>
                <a:lnTo>
                  <a:pt x="167" y="31"/>
                </a:lnTo>
                <a:lnTo>
                  <a:pt x="192" y="21"/>
                </a:lnTo>
                <a:lnTo>
                  <a:pt x="215" y="15"/>
                </a:lnTo>
                <a:lnTo>
                  <a:pt x="241" y="11"/>
                </a:lnTo>
                <a:lnTo>
                  <a:pt x="266" y="9"/>
                </a:lnTo>
                <a:lnTo>
                  <a:pt x="293" y="11"/>
                </a:lnTo>
                <a:lnTo>
                  <a:pt x="309" y="13"/>
                </a:lnTo>
                <a:lnTo>
                  <a:pt x="309" y="13"/>
                </a:lnTo>
                <a:lnTo>
                  <a:pt x="309" y="11"/>
                </a:lnTo>
                <a:lnTo>
                  <a:pt x="309" y="9"/>
                </a:lnTo>
                <a:lnTo>
                  <a:pt x="309" y="9"/>
                </a:lnTo>
                <a:lnTo>
                  <a:pt x="309" y="7"/>
                </a:lnTo>
                <a:lnTo>
                  <a:pt x="309" y="6"/>
                </a:lnTo>
                <a:lnTo>
                  <a:pt x="309" y="6"/>
                </a:lnTo>
                <a:lnTo>
                  <a:pt x="309" y="4"/>
                </a:lnTo>
                <a:close/>
              </a:path>
            </a:pathLst>
          </a:custGeom>
          <a:solidFill>
            <a:srgbClr val="cc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Freeform 215"/>
          <p:cNvSpPr/>
          <p:nvPr/>
        </p:nvSpPr>
        <p:spPr>
          <a:xfrm>
            <a:off x="1973160" y="2744640"/>
            <a:ext cx="486000" cy="830520"/>
          </a:xfrm>
          <a:custGeom>
            <a:avLst/>
            <a:gdLst>
              <a:gd name="textAreaLeft" fmla="*/ 0 w 486000"/>
              <a:gd name="textAreaRight" fmla="*/ 486360 w 486000"/>
              <a:gd name="textAreaTop" fmla="*/ 0 h 830520"/>
              <a:gd name="textAreaBottom" fmla="*/ 830880 h 830520"/>
            </a:gdLst>
            <a:ahLst/>
            <a:rect l="textAreaLeft" t="textAreaTop" r="textAreaRight" b="textAreaBottom"/>
            <a:pathLst>
              <a:path w="306" h="523">
                <a:moveTo>
                  <a:pt x="304" y="3"/>
                </a:moveTo>
                <a:lnTo>
                  <a:pt x="288" y="0"/>
                </a:lnTo>
                <a:lnTo>
                  <a:pt x="261" y="0"/>
                </a:lnTo>
                <a:lnTo>
                  <a:pt x="235" y="0"/>
                </a:lnTo>
                <a:lnTo>
                  <a:pt x="210" y="3"/>
                </a:lnTo>
                <a:lnTo>
                  <a:pt x="185" y="11"/>
                </a:lnTo>
                <a:lnTo>
                  <a:pt x="160" y="19"/>
                </a:lnTo>
                <a:lnTo>
                  <a:pt x="137" y="30"/>
                </a:lnTo>
                <a:lnTo>
                  <a:pt x="116" y="44"/>
                </a:lnTo>
                <a:lnTo>
                  <a:pt x="96" y="59"/>
                </a:lnTo>
                <a:lnTo>
                  <a:pt x="77" y="76"/>
                </a:lnTo>
                <a:lnTo>
                  <a:pt x="60" y="94"/>
                </a:lnTo>
                <a:lnTo>
                  <a:pt x="45" y="115"/>
                </a:lnTo>
                <a:lnTo>
                  <a:pt x="31" y="136"/>
                </a:lnTo>
                <a:lnTo>
                  <a:pt x="21" y="159"/>
                </a:lnTo>
                <a:lnTo>
                  <a:pt x="12" y="184"/>
                </a:lnTo>
                <a:lnTo>
                  <a:pt x="6" y="209"/>
                </a:lnTo>
                <a:lnTo>
                  <a:pt x="2" y="234"/>
                </a:lnTo>
                <a:lnTo>
                  <a:pt x="0" y="261"/>
                </a:lnTo>
                <a:lnTo>
                  <a:pt x="2" y="287"/>
                </a:lnTo>
                <a:lnTo>
                  <a:pt x="6" y="314"/>
                </a:lnTo>
                <a:lnTo>
                  <a:pt x="12" y="339"/>
                </a:lnTo>
                <a:lnTo>
                  <a:pt x="21" y="362"/>
                </a:lnTo>
                <a:lnTo>
                  <a:pt x="31" y="385"/>
                </a:lnTo>
                <a:lnTo>
                  <a:pt x="45" y="406"/>
                </a:lnTo>
                <a:lnTo>
                  <a:pt x="60" y="427"/>
                </a:lnTo>
                <a:lnTo>
                  <a:pt x="77" y="447"/>
                </a:lnTo>
                <a:lnTo>
                  <a:pt x="96" y="462"/>
                </a:lnTo>
                <a:lnTo>
                  <a:pt x="116" y="477"/>
                </a:lnTo>
                <a:lnTo>
                  <a:pt x="137" y="491"/>
                </a:lnTo>
                <a:lnTo>
                  <a:pt x="160" y="502"/>
                </a:lnTo>
                <a:lnTo>
                  <a:pt x="185" y="510"/>
                </a:lnTo>
                <a:lnTo>
                  <a:pt x="210" y="518"/>
                </a:lnTo>
                <a:lnTo>
                  <a:pt x="235" y="521"/>
                </a:lnTo>
                <a:lnTo>
                  <a:pt x="261" y="523"/>
                </a:lnTo>
                <a:lnTo>
                  <a:pt x="288" y="521"/>
                </a:lnTo>
                <a:lnTo>
                  <a:pt x="306" y="520"/>
                </a:lnTo>
                <a:lnTo>
                  <a:pt x="306" y="518"/>
                </a:lnTo>
                <a:lnTo>
                  <a:pt x="306" y="516"/>
                </a:lnTo>
                <a:lnTo>
                  <a:pt x="306" y="516"/>
                </a:lnTo>
                <a:lnTo>
                  <a:pt x="306" y="514"/>
                </a:lnTo>
                <a:lnTo>
                  <a:pt x="306" y="512"/>
                </a:lnTo>
                <a:lnTo>
                  <a:pt x="306" y="512"/>
                </a:lnTo>
                <a:lnTo>
                  <a:pt x="306" y="510"/>
                </a:lnTo>
                <a:lnTo>
                  <a:pt x="304" y="508"/>
                </a:lnTo>
                <a:lnTo>
                  <a:pt x="288" y="512"/>
                </a:lnTo>
                <a:lnTo>
                  <a:pt x="261" y="512"/>
                </a:lnTo>
                <a:lnTo>
                  <a:pt x="236" y="512"/>
                </a:lnTo>
                <a:lnTo>
                  <a:pt x="212" y="508"/>
                </a:lnTo>
                <a:lnTo>
                  <a:pt x="187" y="500"/>
                </a:lnTo>
                <a:lnTo>
                  <a:pt x="164" y="493"/>
                </a:lnTo>
                <a:lnTo>
                  <a:pt x="142" y="481"/>
                </a:lnTo>
                <a:lnTo>
                  <a:pt x="121" y="470"/>
                </a:lnTo>
                <a:lnTo>
                  <a:pt x="102" y="454"/>
                </a:lnTo>
                <a:lnTo>
                  <a:pt x="85" y="439"/>
                </a:lnTo>
                <a:lnTo>
                  <a:pt x="68" y="422"/>
                </a:lnTo>
                <a:lnTo>
                  <a:pt x="54" y="401"/>
                </a:lnTo>
                <a:lnTo>
                  <a:pt x="41" y="381"/>
                </a:lnTo>
                <a:lnTo>
                  <a:pt x="31" y="358"/>
                </a:lnTo>
                <a:lnTo>
                  <a:pt x="21" y="335"/>
                </a:lnTo>
                <a:lnTo>
                  <a:pt x="16" y="312"/>
                </a:lnTo>
                <a:lnTo>
                  <a:pt x="12" y="287"/>
                </a:lnTo>
                <a:lnTo>
                  <a:pt x="10" y="261"/>
                </a:lnTo>
                <a:lnTo>
                  <a:pt x="12" y="236"/>
                </a:lnTo>
                <a:lnTo>
                  <a:pt x="16" y="211"/>
                </a:lnTo>
                <a:lnTo>
                  <a:pt x="21" y="186"/>
                </a:lnTo>
                <a:lnTo>
                  <a:pt x="31" y="163"/>
                </a:lnTo>
                <a:lnTo>
                  <a:pt x="41" y="142"/>
                </a:lnTo>
                <a:lnTo>
                  <a:pt x="54" y="120"/>
                </a:lnTo>
                <a:lnTo>
                  <a:pt x="68" y="101"/>
                </a:lnTo>
                <a:lnTo>
                  <a:pt x="85" y="82"/>
                </a:lnTo>
                <a:lnTo>
                  <a:pt x="102" y="67"/>
                </a:lnTo>
                <a:lnTo>
                  <a:pt x="121" y="51"/>
                </a:lnTo>
                <a:lnTo>
                  <a:pt x="142" y="40"/>
                </a:lnTo>
                <a:lnTo>
                  <a:pt x="164" y="28"/>
                </a:lnTo>
                <a:lnTo>
                  <a:pt x="187" y="21"/>
                </a:lnTo>
                <a:lnTo>
                  <a:pt x="212" y="15"/>
                </a:lnTo>
                <a:lnTo>
                  <a:pt x="236" y="11"/>
                </a:lnTo>
                <a:lnTo>
                  <a:pt x="261" y="9"/>
                </a:lnTo>
                <a:lnTo>
                  <a:pt x="288" y="11"/>
                </a:lnTo>
                <a:lnTo>
                  <a:pt x="302" y="13"/>
                </a:lnTo>
                <a:lnTo>
                  <a:pt x="302" y="11"/>
                </a:lnTo>
                <a:lnTo>
                  <a:pt x="302" y="11"/>
                </a:lnTo>
                <a:lnTo>
                  <a:pt x="302" y="9"/>
                </a:lnTo>
                <a:lnTo>
                  <a:pt x="304" y="7"/>
                </a:lnTo>
                <a:lnTo>
                  <a:pt x="304" y="7"/>
                </a:lnTo>
                <a:lnTo>
                  <a:pt x="304" y="5"/>
                </a:lnTo>
                <a:lnTo>
                  <a:pt x="304" y="3"/>
                </a:lnTo>
                <a:lnTo>
                  <a:pt x="304" y="3"/>
                </a:lnTo>
                <a:close/>
              </a:path>
            </a:pathLst>
          </a:cu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Freeform 216"/>
          <p:cNvSpPr/>
          <p:nvPr/>
        </p:nvSpPr>
        <p:spPr>
          <a:xfrm>
            <a:off x="1982880" y="2749680"/>
            <a:ext cx="476280" cy="817560"/>
          </a:xfrm>
          <a:custGeom>
            <a:avLst/>
            <a:gdLst>
              <a:gd name="textAreaLeft" fmla="*/ 0 w 476280"/>
              <a:gd name="textAreaRight" fmla="*/ 476640 w 47628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300" h="515">
                <a:moveTo>
                  <a:pt x="298" y="4"/>
                </a:moveTo>
                <a:lnTo>
                  <a:pt x="282" y="2"/>
                </a:lnTo>
                <a:lnTo>
                  <a:pt x="255" y="0"/>
                </a:lnTo>
                <a:lnTo>
                  <a:pt x="230" y="2"/>
                </a:lnTo>
                <a:lnTo>
                  <a:pt x="204" y="6"/>
                </a:lnTo>
                <a:lnTo>
                  <a:pt x="181" y="12"/>
                </a:lnTo>
                <a:lnTo>
                  <a:pt x="156" y="22"/>
                </a:lnTo>
                <a:lnTo>
                  <a:pt x="134" y="33"/>
                </a:lnTo>
                <a:lnTo>
                  <a:pt x="113" y="45"/>
                </a:lnTo>
                <a:lnTo>
                  <a:pt x="92" y="60"/>
                </a:lnTo>
                <a:lnTo>
                  <a:pt x="75" y="77"/>
                </a:lnTo>
                <a:lnTo>
                  <a:pt x="58" y="94"/>
                </a:lnTo>
                <a:lnTo>
                  <a:pt x="42" y="114"/>
                </a:lnTo>
                <a:lnTo>
                  <a:pt x="31" y="135"/>
                </a:lnTo>
                <a:lnTo>
                  <a:pt x="19" y="158"/>
                </a:lnTo>
                <a:lnTo>
                  <a:pt x="12" y="181"/>
                </a:lnTo>
                <a:lnTo>
                  <a:pt x="4" y="206"/>
                </a:lnTo>
                <a:lnTo>
                  <a:pt x="0" y="231"/>
                </a:lnTo>
                <a:lnTo>
                  <a:pt x="0" y="258"/>
                </a:lnTo>
                <a:lnTo>
                  <a:pt x="0" y="284"/>
                </a:lnTo>
                <a:lnTo>
                  <a:pt x="4" y="309"/>
                </a:lnTo>
                <a:lnTo>
                  <a:pt x="12" y="334"/>
                </a:lnTo>
                <a:lnTo>
                  <a:pt x="19" y="357"/>
                </a:lnTo>
                <a:lnTo>
                  <a:pt x="31" y="380"/>
                </a:lnTo>
                <a:lnTo>
                  <a:pt x="42" y="401"/>
                </a:lnTo>
                <a:lnTo>
                  <a:pt x="58" y="421"/>
                </a:lnTo>
                <a:lnTo>
                  <a:pt x="75" y="440"/>
                </a:lnTo>
                <a:lnTo>
                  <a:pt x="92" y="455"/>
                </a:lnTo>
                <a:lnTo>
                  <a:pt x="113" y="470"/>
                </a:lnTo>
                <a:lnTo>
                  <a:pt x="134" y="484"/>
                </a:lnTo>
                <a:lnTo>
                  <a:pt x="156" y="494"/>
                </a:lnTo>
                <a:lnTo>
                  <a:pt x="181" y="503"/>
                </a:lnTo>
                <a:lnTo>
                  <a:pt x="204" y="509"/>
                </a:lnTo>
                <a:lnTo>
                  <a:pt x="230" y="513"/>
                </a:lnTo>
                <a:lnTo>
                  <a:pt x="255" y="515"/>
                </a:lnTo>
                <a:lnTo>
                  <a:pt x="282" y="513"/>
                </a:lnTo>
                <a:lnTo>
                  <a:pt x="300" y="511"/>
                </a:lnTo>
                <a:lnTo>
                  <a:pt x="300" y="509"/>
                </a:lnTo>
                <a:lnTo>
                  <a:pt x="300" y="509"/>
                </a:lnTo>
                <a:lnTo>
                  <a:pt x="300" y="507"/>
                </a:lnTo>
                <a:lnTo>
                  <a:pt x="298" y="505"/>
                </a:lnTo>
                <a:lnTo>
                  <a:pt x="298" y="505"/>
                </a:lnTo>
                <a:lnTo>
                  <a:pt x="298" y="503"/>
                </a:lnTo>
                <a:lnTo>
                  <a:pt x="298" y="501"/>
                </a:lnTo>
                <a:lnTo>
                  <a:pt x="298" y="501"/>
                </a:lnTo>
                <a:lnTo>
                  <a:pt x="280" y="503"/>
                </a:lnTo>
                <a:lnTo>
                  <a:pt x="255" y="505"/>
                </a:lnTo>
                <a:lnTo>
                  <a:pt x="230" y="503"/>
                </a:lnTo>
                <a:lnTo>
                  <a:pt x="206" y="499"/>
                </a:lnTo>
                <a:lnTo>
                  <a:pt x="182" y="494"/>
                </a:lnTo>
                <a:lnTo>
                  <a:pt x="159" y="484"/>
                </a:lnTo>
                <a:lnTo>
                  <a:pt x="138" y="474"/>
                </a:lnTo>
                <a:lnTo>
                  <a:pt x="119" y="463"/>
                </a:lnTo>
                <a:lnTo>
                  <a:pt x="100" y="447"/>
                </a:lnTo>
                <a:lnTo>
                  <a:pt x="83" y="432"/>
                </a:lnTo>
                <a:lnTo>
                  <a:pt x="65" y="415"/>
                </a:lnTo>
                <a:lnTo>
                  <a:pt x="52" y="396"/>
                </a:lnTo>
                <a:lnTo>
                  <a:pt x="39" y="375"/>
                </a:lnTo>
                <a:lnTo>
                  <a:pt x="29" y="353"/>
                </a:lnTo>
                <a:lnTo>
                  <a:pt x="21" y="330"/>
                </a:lnTo>
                <a:lnTo>
                  <a:pt x="15" y="307"/>
                </a:lnTo>
                <a:lnTo>
                  <a:pt x="12" y="282"/>
                </a:lnTo>
                <a:lnTo>
                  <a:pt x="10" y="258"/>
                </a:lnTo>
                <a:lnTo>
                  <a:pt x="12" y="233"/>
                </a:lnTo>
                <a:lnTo>
                  <a:pt x="15" y="208"/>
                </a:lnTo>
                <a:lnTo>
                  <a:pt x="21" y="185"/>
                </a:lnTo>
                <a:lnTo>
                  <a:pt x="29" y="162"/>
                </a:lnTo>
                <a:lnTo>
                  <a:pt x="39" y="140"/>
                </a:lnTo>
                <a:lnTo>
                  <a:pt x="52" y="119"/>
                </a:lnTo>
                <a:lnTo>
                  <a:pt x="65" y="100"/>
                </a:lnTo>
                <a:lnTo>
                  <a:pt x="83" y="83"/>
                </a:lnTo>
                <a:lnTo>
                  <a:pt x="100" y="68"/>
                </a:lnTo>
                <a:lnTo>
                  <a:pt x="119" y="54"/>
                </a:lnTo>
                <a:lnTo>
                  <a:pt x="138" y="41"/>
                </a:lnTo>
                <a:lnTo>
                  <a:pt x="159" y="31"/>
                </a:lnTo>
                <a:lnTo>
                  <a:pt x="182" y="23"/>
                </a:lnTo>
                <a:lnTo>
                  <a:pt x="206" y="16"/>
                </a:lnTo>
                <a:lnTo>
                  <a:pt x="230" y="12"/>
                </a:lnTo>
                <a:lnTo>
                  <a:pt x="255" y="12"/>
                </a:lnTo>
                <a:lnTo>
                  <a:pt x="280" y="12"/>
                </a:lnTo>
                <a:lnTo>
                  <a:pt x="296" y="16"/>
                </a:lnTo>
                <a:lnTo>
                  <a:pt x="296" y="14"/>
                </a:lnTo>
                <a:lnTo>
                  <a:pt x="296" y="12"/>
                </a:lnTo>
                <a:lnTo>
                  <a:pt x="296" y="12"/>
                </a:lnTo>
                <a:lnTo>
                  <a:pt x="296" y="10"/>
                </a:lnTo>
                <a:lnTo>
                  <a:pt x="296" y="8"/>
                </a:lnTo>
                <a:lnTo>
                  <a:pt x="296" y="8"/>
                </a:lnTo>
                <a:lnTo>
                  <a:pt x="296" y="6"/>
                </a:lnTo>
                <a:lnTo>
                  <a:pt x="298" y="4"/>
                </a:lnTo>
                <a:close/>
              </a:path>
            </a:pathLst>
          </a:custGeom>
          <a:solidFill>
            <a:srgbClr val="ce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Freeform 217"/>
          <p:cNvSpPr/>
          <p:nvPr/>
        </p:nvSpPr>
        <p:spPr>
          <a:xfrm>
            <a:off x="1989000" y="2759040"/>
            <a:ext cx="466920" cy="798480"/>
          </a:xfrm>
          <a:custGeom>
            <a:avLst/>
            <a:gdLst>
              <a:gd name="textAreaLeft" fmla="*/ 0 w 466920"/>
              <a:gd name="textAreaRight" fmla="*/ 467280 w 46692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294" h="503">
                <a:moveTo>
                  <a:pt x="292" y="4"/>
                </a:moveTo>
                <a:lnTo>
                  <a:pt x="278" y="2"/>
                </a:lnTo>
                <a:lnTo>
                  <a:pt x="251" y="0"/>
                </a:lnTo>
                <a:lnTo>
                  <a:pt x="226" y="2"/>
                </a:lnTo>
                <a:lnTo>
                  <a:pt x="202" y="6"/>
                </a:lnTo>
                <a:lnTo>
                  <a:pt x="177" y="12"/>
                </a:lnTo>
                <a:lnTo>
                  <a:pt x="154" y="19"/>
                </a:lnTo>
                <a:lnTo>
                  <a:pt x="132" y="31"/>
                </a:lnTo>
                <a:lnTo>
                  <a:pt x="111" y="42"/>
                </a:lnTo>
                <a:lnTo>
                  <a:pt x="92" y="58"/>
                </a:lnTo>
                <a:lnTo>
                  <a:pt x="75" y="73"/>
                </a:lnTo>
                <a:lnTo>
                  <a:pt x="58" y="92"/>
                </a:lnTo>
                <a:lnTo>
                  <a:pt x="44" y="111"/>
                </a:lnTo>
                <a:lnTo>
                  <a:pt x="31" y="133"/>
                </a:lnTo>
                <a:lnTo>
                  <a:pt x="21" y="154"/>
                </a:lnTo>
                <a:lnTo>
                  <a:pt x="11" y="177"/>
                </a:lnTo>
                <a:lnTo>
                  <a:pt x="6" y="202"/>
                </a:lnTo>
                <a:lnTo>
                  <a:pt x="2" y="227"/>
                </a:lnTo>
                <a:lnTo>
                  <a:pt x="0" y="252"/>
                </a:lnTo>
                <a:lnTo>
                  <a:pt x="2" y="278"/>
                </a:lnTo>
                <a:lnTo>
                  <a:pt x="6" y="303"/>
                </a:lnTo>
                <a:lnTo>
                  <a:pt x="11" y="326"/>
                </a:lnTo>
                <a:lnTo>
                  <a:pt x="21" y="349"/>
                </a:lnTo>
                <a:lnTo>
                  <a:pt x="31" y="372"/>
                </a:lnTo>
                <a:lnTo>
                  <a:pt x="44" y="392"/>
                </a:lnTo>
                <a:lnTo>
                  <a:pt x="58" y="413"/>
                </a:lnTo>
                <a:lnTo>
                  <a:pt x="75" y="430"/>
                </a:lnTo>
                <a:lnTo>
                  <a:pt x="92" y="445"/>
                </a:lnTo>
                <a:lnTo>
                  <a:pt x="111" y="461"/>
                </a:lnTo>
                <a:lnTo>
                  <a:pt x="132" y="472"/>
                </a:lnTo>
                <a:lnTo>
                  <a:pt x="154" y="484"/>
                </a:lnTo>
                <a:lnTo>
                  <a:pt x="177" y="491"/>
                </a:lnTo>
                <a:lnTo>
                  <a:pt x="202" y="499"/>
                </a:lnTo>
                <a:lnTo>
                  <a:pt x="226" y="503"/>
                </a:lnTo>
                <a:lnTo>
                  <a:pt x="251" y="503"/>
                </a:lnTo>
                <a:lnTo>
                  <a:pt x="278" y="503"/>
                </a:lnTo>
                <a:lnTo>
                  <a:pt x="294" y="499"/>
                </a:lnTo>
                <a:lnTo>
                  <a:pt x="294" y="499"/>
                </a:lnTo>
                <a:lnTo>
                  <a:pt x="294" y="497"/>
                </a:lnTo>
                <a:lnTo>
                  <a:pt x="294" y="495"/>
                </a:lnTo>
                <a:lnTo>
                  <a:pt x="294" y="495"/>
                </a:lnTo>
                <a:lnTo>
                  <a:pt x="294" y="493"/>
                </a:lnTo>
                <a:lnTo>
                  <a:pt x="294" y="491"/>
                </a:lnTo>
                <a:lnTo>
                  <a:pt x="294" y="491"/>
                </a:lnTo>
                <a:lnTo>
                  <a:pt x="294" y="489"/>
                </a:lnTo>
                <a:lnTo>
                  <a:pt x="276" y="491"/>
                </a:lnTo>
                <a:lnTo>
                  <a:pt x="251" y="493"/>
                </a:lnTo>
                <a:lnTo>
                  <a:pt x="226" y="491"/>
                </a:lnTo>
                <a:lnTo>
                  <a:pt x="203" y="488"/>
                </a:lnTo>
                <a:lnTo>
                  <a:pt x="180" y="482"/>
                </a:lnTo>
                <a:lnTo>
                  <a:pt x="157" y="474"/>
                </a:lnTo>
                <a:lnTo>
                  <a:pt x="136" y="464"/>
                </a:lnTo>
                <a:lnTo>
                  <a:pt x="117" y="451"/>
                </a:lnTo>
                <a:lnTo>
                  <a:pt x="98" y="438"/>
                </a:lnTo>
                <a:lnTo>
                  <a:pt x="81" y="422"/>
                </a:lnTo>
                <a:lnTo>
                  <a:pt x="65" y="405"/>
                </a:lnTo>
                <a:lnTo>
                  <a:pt x="52" y="386"/>
                </a:lnTo>
                <a:lnTo>
                  <a:pt x="40" y="367"/>
                </a:lnTo>
                <a:lnTo>
                  <a:pt x="31" y="346"/>
                </a:lnTo>
                <a:lnTo>
                  <a:pt x="21" y="324"/>
                </a:lnTo>
                <a:lnTo>
                  <a:pt x="15" y="299"/>
                </a:lnTo>
                <a:lnTo>
                  <a:pt x="11" y="276"/>
                </a:lnTo>
                <a:lnTo>
                  <a:pt x="11" y="252"/>
                </a:lnTo>
                <a:lnTo>
                  <a:pt x="11" y="227"/>
                </a:lnTo>
                <a:lnTo>
                  <a:pt x="15" y="204"/>
                </a:lnTo>
                <a:lnTo>
                  <a:pt x="21" y="181"/>
                </a:lnTo>
                <a:lnTo>
                  <a:pt x="31" y="158"/>
                </a:lnTo>
                <a:lnTo>
                  <a:pt x="40" y="136"/>
                </a:lnTo>
                <a:lnTo>
                  <a:pt x="52" y="117"/>
                </a:lnTo>
                <a:lnTo>
                  <a:pt x="65" y="98"/>
                </a:lnTo>
                <a:lnTo>
                  <a:pt x="81" y="81"/>
                </a:lnTo>
                <a:lnTo>
                  <a:pt x="98" y="65"/>
                </a:lnTo>
                <a:lnTo>
                  <a:pt x="117" y="52"/>
                </a:lnTo>
                <a:lnTo>
                  <a:pt x="136" y="40"/>
                </a:lnTo>
                <a:lnTo>
                  <a:pt x="157" y="29"/>
                </a:lnTo>
                <a:lnTo>
                  <a:pt x="180" y="21"/>
                </a:lnTo>
                <a:lnTo>
                  <a:pt x="203" y="16"/>
                </a:lnTo>
                <a:lnTo>
                  <a:pt x="226" y="12"/>
                </a:lnTo>
                <a:lnTo>
                  <a:pt x="251" y="10"/>
                </a:lnTo>
                <a:lnTo>
                  <a:pt x="276" y="12"/>
                </a:lnTo>
                <a:lnTo>
                  <a:pt x="292" y="14"/>
                </a:lnTo>
                <a:lnTo>
                  <a:pt x="292" y="14"/>
                </a:lnTo>
                <a:lnTo>
                  <a:pt x="292" y="12"/>
                </a:lnTo>
                <a:lnTo>
                  <a:pt x="292" y="10"/>
                </a:lnTo>
                <a:lnTo>
                  <a:pt x="292" y="10"/>
                </a:lnTo>
                <a:lnTo>
                  <a:pt x="292" y="8"/>
                </a:lnTo>
                <a:lnTo>
                  <a:pt x="292" y="6"/>
                </a:lnTo>
                <a:lnTo>
                  <a:pt x="292" y="6"/>
                </a:lnTo>
                <a:lnTo>
                  <a:pt x="292" y="4"/>
                </a:lnTo>
                <a:close/>
              </a:path>
            </a:pathLst>
          </a:custGeom>
          <a:solidFill>
            <a:srgbClr val="cf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Freeform 218"/>
          <p:cNvSpPr/>
          <p:nvPr/>
        </p:nvSpPr>
        <p:spPr>
          <a:xfrm>
            <a:off x="1998720" y="2768760"/>
            <a:ext cx="457200" cy="78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88" h="493">
                <a:moveTo>
                  <a:pt x="286" y="4"/>
                </a:moveTo>
                <a:lnTo>
                  <a:pt x="270" y="0"/>
                </a:lnTo>
                <a:lnTo>
                  <a:pt x="245" y="0"/>
                </a:lnTo>
                <a:lnTo>
                  <a:pt x="220" y="0"/>
                </a:lnTo>
                <a:lnTo>
                  <a:pt x="196" y="4"/>
                </a:lnTo>
                <a:lnTo>
                  <a:pt x="172" y="11"/>
                </a:lnTo>
                <a:lnTo>
                  <a:pt x="149" y="19"/>
                </a:lnTo>
                <a:lnTo>
                  <a:pt x="128" y="29"/>
                </a:lnTo>
                <a:lnTo>
                  <a:pt x="109" y="42"/>
                </a:lnTo>
                <a:lnTo>
                  <a:pt x="90" y="56"/>
                </a:lnTo>
                <a:lnTo>
                  <a:pt x="73" y="71"/>
                </a:lnTo>
                <a:lnTo>
                  <a:pt x="55" y="88"/>
                </a:lnTo>
                <a:lnTo>
                  <a:pt x="42" y="107"/>
                </a:lnTo>
                <a:lnTo>
                  <a:pt x="29" y="128"/>
                </a:lnTo>
                <a:lnTo>
                  <a:pt x="19" y="150"/>
                </a:lnTo>
                <a:lnTo>
                  <a:pt x="11" y="173"/>
                </a:lnTo>
                <a:lnTo>
                  <a:pt x="5" y="196"/>
                </a:lnTo>
                <a:lnTo>
                  <a:pt x="2" y="221"/>
                </a:lnTo>
                <a:lnTo>
                  <a:pt x="0" y="246"/>
                </a:lnTo>
                <a:lnTo>
                  <a:pt x="2" y="270"/>
                </a:lnTo>
                <a:lnTo>
                  <a:pt x="5" y="295"/>
                </a:lnTo>
                <a:lnTo>
                  <a:pt x="11" y="318"/>
                </a:lnTo>
                <a:lnTo>
                  <a:pt x="19" y="341"/>
                </a:lnTo>
                <a:lnTo>
                  <a:pt x="29" y="363"/>
                </a:lnTo>
                <a:lnTo>
                  <a:pt x="42" y="384"/>
                </a:lnTo>
                <a:lnTo>
                  <a:pt x="55" y="403"/>
                </a:lnTo>
                <a:lnTo>
                  <a:pt x="73" y="420"/>
                </a:lnTo>
                <a:lnTo>
                  <a:pt x="90" y="435"/>
                </a:lnTo>
                <a:lnTo>
                  <a:pt x="109" y="451"/>
                </a:lnTo>
                <a:lnTo>
                  <a:pt x="128" y="462"/>
                </a:lnTo>
                <a:lnTo>
                  <a:pt x="149" y="472"/>
                </a:lnTo>
                <a:lnTo>
                  <a:pt x="172" y="482"/>
                </a:lnTo>
                <a:lnTo>
                  <a:pt x="196" y="487"/>
                </a:lnTo>
                <a:lnTo>
                  <a:pt x="220" y="491"/>
                </a:lnTo>
                <a:lnTo>
                  <a:pt x="245" y="493"/>
                </a:lnTo>
                <a:lnTo>
                  <a:pt x="270" y="491"/>
                </a:lnTo>
                <a:lnTo>
                  <a:pt x="288" y="489"/>
                </a:lnTo>
                <a:lnTo>
                  <a:pt x="288" y="487"/>
                </a:lnTo>
                <a:lnTo>
                  <a:pt x="288" y="485"/>
                </a:lnTo>
                <a:lnTo>
                  <a:pt x="288" y="485"/>
                </a:lnTo>
                <a:lnTo>
                  <a:pt x="288" y="483"/>
                </a:lnTo>
                <a:lnTo>
                  <a:pt x="288" y="482"/>
                </a:lnTo>
                <a:lnTo>
                  <a:pt x="288" y="482"/>
                </a:lnTo>
                <a:lnTo>
                  <a:pt x="288" y="480"/>
                </a:lnTo>
                <a:lnTo>
                  <a:pt x="288" y="478"/>
                </a:lnTo>
                <a:lnTo>
                  <a:pt x="270" y="482"/>
                </a:lnTo>
                <a:lnTo>
                  <a:pt x="245" y="482"/>
                </a:lnTo>
                <a:lnTo>
                  <a:pt x="222" y="482"/>
                </a:lnTo>
                <a:lnTo>
                  <a:pt x="199" y="478"/>
                </a:lnTo>
                <a:lnTo>
                  <a:pt x="176" y="472"/>
                </a:lnTo>
                <a:lnTo>
                  <a:pt x="153" y="464"/>
                </a:lnTo>
                <a:lnTo>
                  <a:pt x="134" y="453"/>
                </a:lnTo>
                <a:lnTo>
                  <a:pt x="115" y="441"/>
                </a:lnTo>
                <a:lnTo>
                  <a:pt x="96" y="428"/>
                </a:lnTo>
                <a:lnTo>
                  <a:pt x="78" y="412"/>
                </a:lnTo>
                <a:lnTo>
                  <a:pt x="63" y="395"/>
                </a:lnTo>
                <a:lnTo>
                  <a:pt x="50" y="378"/>
                </a:lnTo>
                <a:lnTo>
                  <a:pt x="38" y="359"/>
                </a:lnTo>
                <a:lnTo>
                  <a:pt x="29" y="338"/>
                </a:lnTo>
                <a:lnTo>
                  <a:pt x="21" y="317"/>
                </a:lnTo>
                <a:lnTo>
                  <a:pt x="15" y="293"/>
                </a:lnTo>
                <a:lnTo>
                  <a:pt x="11" y="270"/>
                </a:lnTo>
                <a:lnTo>
                  <a:pt x="9" y="246"/>
                </a:lnTo>
                <a:lnTo>
                  <a:pt x="11" y="222"/>
                </a:lnTo>
                <a:lnTo>
                  <a:pt x="15" y="198"/>
                </a:lnTo>
                <a:lnTo>
                  <a:pt x="21" y="176"/>
                </a:lnTo>
                <a:lnTo>
                  <a:pt x="29" y="153"/>
                </a:lnTo>
                <a:lnTo>
                  <a:pt x="38" y="132"/>
                </a:lnTo>
                <a:lnTo>
                  <a:pt x="50" y="113"/>
                </a:lnTo>
                <a:lnTo>
                  <a:pt x="63" y="96"/>
                </a:lnTo>
                <a:lnTo>
                  <a:pt x="78" y="79"/>
                </a:lnTo>
                <a:lnTo>
                  <a:pt x="96" y="63"/>
                </a:lnTo>
                <a:lnTo>
                  <a:pt x="115" y="50"/>
                </a:lnTo>
                <a:lnTo>
                  <a:pt x="134" y="38"/>
                </a:lnTo>
                <a:lnTo>
                  <a:pt x="153" y="29"/>
                </a:lnTo>
                <a:lnTo>
                  <a:pt x="176" y="21"/>
                </a:lnTo>
                <a:lnTo>
                  <a:pt x="199" y="15"/>
                </a:lnTo>
                <a:lnTo>
                  <a:pt x="222" y="11"/>
                </a:lnTo>
                <a:lnTo>
                  <a:pt x="245" y="10"/>
                </a:lnTo>
                <a:lnTo>
                  <a:pt x="270" y="11"/>
                </a:lnTo>
                <a:lnTo>
                  <a:pt x="284" y="13"/>
                </a:lnTo>
                <a:lnTo>
                  <a:pt x="284" y="11"/>
                </a:lnTo>
                <a:lnTo>
                  <a:pt x="286" y="11"/>
                </a:lnTo>
                <a:lnTo>
                  <a:pt x="286" y="10"/>
                </a:lnTo>
                <a:lnTo>
                  <a:pt x="286" y="8"/>
                </a:lnTo>
                <a:lnTo>
                  <a:pt x="286" y="8"/>
                </a:lnTo>
                <a:lnTo>
                  <a:pt x="286" y="6"/>
                </a:lnTo>
                <a:lnTo>
                  <a:pt x="286" y="4"/>
                </a:lnTo>
                <a:lnTo>
                  <a:pt x="286" y="4"/>
                </a:lnTo>
                <a:close/>
              </a:path>
            </a:pathLst>
          </a:custGeom>
          <a:solidFill>
            <a:srgbClr val="d0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Freeform 219"/>
          <p:cNvSpPr/>
          <p:nvPr/>
        </p:nvSpPr>
        <p:spPr>
          <a:xfrm>
            <a:off x="2006640" y="2774880"/>
            <a:ext cx="449280" cy="766800"/>
          </a:xfrm>
          <a:custGeom>
            <a:avLst/>
            <a:gdLst>
              <a:gd name="textAreaLeft" fmla="*/ 0 w 449280"/>
              <a:gd name="textAreaRight" fmla="*/ 449640 w 44928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283" h="483">
                <a:moveTo>
                  <a:pt x="281" y="4"/>
                </a:moveTo>
                <a:lnTo>
                  <a:pt x="265" y="2"/>
                </a:lnTo>
                <a:lnTo>
                  <a:pt x="240" y="0"/>
                </a:lnTo>
                <a:lnTo>
                  <a:pt x="215" y="2"/>
                </a:lnTo>
                <a:lnTo>
                  <a:pt x="192" y="6"/>
                </a:lnTo>
                <a:lnTo>
                  <a:pt x="169" y="11"/>
                </a:lnTo>
                <a:lnTo>
                  <a:pt x="146" y="19"/>
                </a:lnTo>
                <a:lnTo>
                  <a:pt x="125" y="30"/>
                </a:lnTo>
                <a:lnTo>
                  <a:pt x="106" y="42"/>
                </a:lnTo>
                <a:lnTo>
                  <a:pt x="87" y="55"/>
                </a:lnTo>
                <a:lnTo>
                  <a:pt x="70" y="71"/>
                </a:lnTo>
                <a:lnTo>
                  <a:pt x="54" y="88"/>
                </a:lnTo>
                <a:lnTo>
                  <a:pt x="41" y="107"/>
                </a:lnTo>
                <a:lnTo>
                  <a:pt x="29" y="126"/>
                </a:lnTo>
                <a:lnTo>
                  <a:pt x="20" y="148"/>
                </a:lnTo>
                <a:lnTo>
                  <a:pt x="10" y="171"/>
                </a:lnTo>
                <a:lnTo>
                  <a:pt x="4" y="194"/>
                </a:lnTo>
                <a:lnTo>
                  <a:pt x="0" y="217"/>
                </a:lnTo>
                <a:lnTo>
                  <a:pt x="0" y="242"/>
                </a:lnTo>
                <a:lnTo>
                  <a:pt x="0" y="266"/>
                </a:lnTo>
                <a:lnTo>
                  <a:pt x="4" y="289"/>
                </a:lnTo>
                <a:lnTo>
                  <a:pt x="10" y="314"/>
                </a:lnTo>
                <a:lnTo>
                  <a:pt x="20" y="336"/>
                </a:lnTo>
                <a:lnTo>
                  <a:pt x="29" y="357"/>
                </a:lnTo>
                <a:lnTo>
                  <a:pt x="41" y="376"/>
                </a:lnTo>
                <a:lnTo>
                  <a:pt x="54" y="395"/>
                </a:lnTo>
                <a:lnTo>
                  <a:pt x="70" y="412"/>
                </a:lnTo>
                <a:lnTo>
                  <a:pt x="87" y="428"/>
                </a:lnTo>
                <a:lnTo>
                  <a:pt x="106" y="441"/>
                </a:lnTo>
                <a:lnTo>
                  <a:pt x="125" y="454"/>
                </a:lnTo>
                <a:lnTo>
                  <a:pt x="146" y="464"/>
                </a:lnTo>
                <a:lnTo>
                  <a:pt x="169" y="472"/>
                </a:lnTo>
                <a:lnTo>
                  <a:pt x="192" y="478"/>
                </a:lnTo>
                <a:lnTo>
                  <a:pt x="215" y="481"/>
                </a:lnTo>
                <a:lnTo>
                  <a:pt x="240" y="483"/>
                </a:lnTo>
                <a:lnTo>
                  <a:pt x="265" y="481"/>
                </a:lnTo>
                <a:lnTo>
                  <a:pt x="283" y="479"/>
                </a:lnTo>
                <a:lnTo>
                  <a:pt x="283" y="478"/>
                </a:lnTo>
                <a:lnTo>
                  <a:pt x="283" y="478"/>
                </a:lnTo>
                <a:lnTo>
                  <a:pt x="283" y="476"/>
                </a:lnTo>
                <a:lnTo>
                  <a:pt x="283" y="474"/>
                </a:lnTo>
                <a:lnTo>
                  <a:pt x="281" y="474"/>
                </a:lnTo>
                <a:lnTo>
                  <a:pt x="281" y="472"/>
                </a:lnTo>
                <a:lnTo>
                  <a:pt x="281" y="470"/>
                </a:lnTo>
                <a:lnTo>
                  <a:pt x="281" y="470"/>
                </a:lnTo>
                <a:lnTo>
                  <a:pt x="265" y="472"/>
                </a:lnTo>
                <a:lnTo>
                  <a:pt x="240" y="474"/>
                </a:lnTo>
                <a:lnTo>
                  <a:pt x="217" y="472"/>
                </a:lnTo>
                <a:lnTo>
                  <a:pt x="194" y="468"/>
                </a:lnTo>
                <a:lnTo>
                  <a:pt x="173" y="462"/>
                </a:lnTo>
                <a:lnTo>
                  <a:pt x="150" y="454"/>
                </a:lnTo>
                <a:lnTo>
                  <a:pt x="131" y="445"/>
                </a:lnTo>
                <a:lnTo>
                  <a:pt x="112" y="433"/>
                </a:lnTo>
                <a:lnTo>
                  <a:pt x="95" y="420"/>
                </a:lnTo>
                <a:lnTo>
                  <a:pt x="77" y="405"/>
                </a:lnTo>
                <a:lnTo>
                  <a:pt x="62" y="389"/>
                </a:lnTo>
                <a:lnTo>
                  <a:pt x="50" y="370"/>
                </a:lnTo>
                <a:lnTo>
                  <a:pt x="37" y="353"/>
                </a:lnTo>
                <a:lnTo>
                  <a:pt x="27" y="332"/>
                </a:lnTo>
                <a:lnTo>
                  <a:pt x="20" y="311"/>
                </a:lnTo>
                <a:lnTo>
                  <a:pt x="14" y="288"/>
                </a:lnTo>
                <a:lnTo>
                  <a:pt x="12" y="265"/>
                </a:lnTo>
                <a:lnTo>
                  <a:pt x="10" y="242"/>
                </a:lnTo>
                <a:lnTo>
                  <a:pt x="12" y="218"/>
                </a:lnTo>
                <a:lnTo>
                  <a:pt x="14" y="195"/>
                </a:lnTo>
                <a:lnTo>
                  <a:pt x="20" y="172"/>
                </a:lnTo>
                <a:lnTo>
                  <a:pt x="27" y="151"/>
                </a:lnTo>
                <a:lnTo>
                  <a:pt x="37" y="132"/>
                </a:lnTo>
                <a:lnTo>
                  <a:pt x="50" y="113"/>
                </a:lnTo>
                <a:lnTo>
                  <a:pt x="62" y="96"/>
                </a:lnTo>
                <a:lnTo>
                  <a:pt x="77" y="78"/>
                </a:lnTo>
                <a:lnTo>
                  <a:pt x="95" y="63"/>
                </a:lnTo>
                <a:lnTo>
                  <a:pt x="112" y="50"/>
                </a:lnTo>
                <a:lnTo>
                  <a:pt x="131" y="38"/>
                </a:lnTo>
                <a:lnTo>
                  <a:pt x="150" y="29"/>
                </a:lnTo>
                <a:lnTo>
                  <a:pt x="173" y="21"/>
                </a:lnTo>
                <a:lnTo>
                  <a:pt x="194" y="15"/>
                </a:lnTo>
                <a:lnTo>
                  <a:pt x="217" y="11"/>
                </a:lnTo>
                <a:lnTo>
                  <a:pt x="240" y="11"/>
                </a:lnTo>
                <a:lnTo>
                  <a:pt x="265" y="11"/>
                </a:lnTo>
                <a:lnTo>
                  <a:pt x="279" y="15"/>
                </a:lnTo>
                <a:lnTo>
                  <a:pt x="279" y="13"/>
                </a:lnTo>
                <a:lnTo>
                  <a:pt x="279" y="11"/>
                </a:lnTo>
                <a:lnTo>
                  <a:pt x="279" y="11"/>
                </a:lnTo>
                <a:lnTo>
                  <a:pt x="279" y="9"/>
                </a:lnTo>
                <a:lnTo>
                  <a:pt x="279" y="7"/>
                </a:lnTo>
                <a:lnTo>
                  <a:pt x="281" y="7"/>
                </a:lnTo>
                <a:lnTo>
                  <a:pt x="281" y="6"/>
                </a:lnTo>
                <a:lnTo>
                  <a:pt x="281" y="4"/>
                </a:lnTo>
                <a:close/>
              </a:path>
            </a:pathLst>
          </a:custGeom>
          <a:solidFill>
            <a:srgbClr val="d1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Freeform 220"/>
          <p:cNvSpPr/>
          <p:nvPr/>
        </p:nvSpPr>
        <p:spPr>
          <a:xfrm>
            <a:off x="2013120" y="2784600"/>
            <a:ext cx="442800" cy="749160"/>
          </a:xfrm>
          <a:custGeom>
            <a:avLst/>
            <a:gdLst>
              <a:gd name="textAreaLeft" fmla="*/ 0 w 442800"/>
              <a:gd name="textAreaRight" fmla="*/ 443160 w 44280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79" h="472">
                <a:moveTo>
                  <a:pt x="275" y="3"/>
                </a:moveTo>
                <a:lnTo>
                  <a:pt x="261" y="1"/>
                </a:lnTo>
                <a:lnTo>
                  <a:pt x="236" y="0"/>
                </a:lnTo>
                <a:lnTo>
                  <a:pt x="213" y="1"/>
                </a:lnTo>
                <a:lnTo>
                  <a:pt x="190" y="5"/>
                </a:lnTo>
                <a:lnTo>
                  <a:pt x="167" y="11"/>
                </a:lnTo>
                <a:lnTo>
                  <a:pt x="144" y="19"/>
                </a:lnTo>
                <a:lnTo>
                  <a:pt x="125" y="28"/>
                </a:lnTo>
                <a:lnTo>
                  <a:pt x="106" y="40"/>
                </a:lnTo>
                <a:lnTo>
                  <a:pt x="87" y="53"/>
                </a:lnTo>
                <a:lnTo>
                  <a:pt x="69" y="69"/>
                </a:lnTo>
                <a:lnTo>
                  <a:pt x="54" y="86"/>
                </a:lnTo>
                <a:lnTo>
                  <a:pt x="41" y="103"/>
                </a:lnTo>
                <a:lnTo>
                  <a:pt x="29" y="122"/>
                </a:lnTo>
                <a:lnTo>
                  <a:pt x="20" y="143"/>
                </a:lnTo>
                <a:lnTo>
                  <a:pt x="12" y="166"/>
                </a:lnTo>
                <a:lnTo>
                  <a:pt x="6" y="188"/>
                </a:lnTo>
                <a:lnTo>
                  <a:pt x="2" y="212"/>
                </a:lnTo>
                <a:lnTo>
                  <a:pt x="0" y="236"/>
                </a:lnTo>
                <a:lnTo>
                  <a:pt x="2" y="260"/>
                </a:lnTo>
                <a:lnTo>
                  <a:pt x="6" y="283"/>
                </a:lnTo>
                <a:lnTo>
                  <a:pt x="12" y="307"/>
                </a:lnTo>
                <a:lnTo>
                  <a:pt x="20" y="328"/>
                </a:lnTo>
                <a:lnTo>
                  <a:pt x="29" y="349"/>
                </a:lnTo>
                <a:lnTo>
                  <a:pt x="41" y="368"/>
                </a:lnTo>
                <a:lnTo>
                  <a:pt x="54" y="385"/>
                </a:lnTo>
                <a:lnTo>
                  <a:pt x="69" y="402"/>
                </a:lnTo>
                <a:lnTo>
                  <a:pt x="87" y="418"/>
                </a:lnTo>
                <a:lnTo>
                  <a:pt x="106" y="431"/>
                </a:lnTo>
                <a:lnTo>
                  <a:pt x="125" y="443"/>
                </a:lnTo>
                <a:lnTo>
                  <a:pt x="144" y="454"/>
                </a:lnTo>
                <a:lnTo>
                  <a:pt x="167" y="462"/>
                </a:lnTo>
                <a:lnTo>
                  <a:pt x="190" y="468"/>
                </a:lnTo>
                <a:lnTo>
                  <a:pt x="213" y="472"/>
                </a:lnTo>
                <a:lnTo>
                  <a:pt x="236" y="472"/>
                </a:lnTo>
                <a:lnTo>
                  <a:pt x="261" y="472"/>
                </a:lnTo>
                <a:lnTo>
                  <a:pt x="279" y="468"/>
                </a:lnTo>
                <a:lnTo>
                  <a:pt x="277" y="468"/>
                </a:lnTo>
                <a:lnTo>
                  <a:pt x="277" y="466"/>
                </a:lnTo>
                <a:lnTo>
                  <a:pt x="277" y="464"/>
                </a:lnTo>
                <a:lnTo>
                  <a:pt x="277" y="464"/>
                </a:lnTo>
                <a:lnTo>
                  <a:pt x="277" y="462"/>
                </a:lnTo>
                <a:lnTo>
                  <a:pt x="277" y="460"/>
                </a:lnTo>
                <a:lnTo>
                  <a:pt x="277" y="460"/>
                </a:lnTo>
                <a:lnTo>
                  <a:pt x="277" y="458"/>
                </a:lnTo>
                <a:lnTo>
                  <a:pt x="259" y="460"/>
                </a:lnTo>
                <a:lnTo>
                  <a:pt x="236" y="462"/>
                </a:lnTo>
                <a:lnTo>
                  <a:pt x="213" y="460"/>
                </a:lnTo>
                <a:lnTo>
                  <a:pt x="192" y="456"/>
                </a:lnTo>
                <a:lnTo>
                  <a:pt x="169" y="452"/>
                </a:lnTo>
                <a:lnTo>
                  <a:pt x="150" y="445"/>
                </a:lnTo>
                <a:lnTo>
                  <a:pt x="129" y="435"/>
                </a:lnTo>
                <a:lnTo>
                  <a:pt x="112" y="424"/>
                </a:lnTo>
                <a:lnTo>
                  <a:pt x="92" y="410"/>
                </a:lnTo>
                <a:lnTo>
                  <a:pt x="77" y="395"/>
                </a:lnTo>
                <a:lnTo>
                  <a:pt x="64" y="379"/>
                </a:lnTo>
                <a:lnTo>
                  <a:pt x="50" y="362"/>
                </a:lnTo>
                <a:lnTo>
                  <a:pt x="39" y="343"/>
                </a:lnTo>
                <a:lnTo>
                  <a:pt x="29" y="324"/>
                </a:lnTo>
                <a:lnTo>
                  <a:pt x="21" y="303"/>
                </a:lnTo>
                <a:lnTo>
                  <a:pt x="16" y="282"/>
                </a:lnTo>
                <a:lnTo>
                  <a:pt x="12" y="259"/>
                </a:lnTo>
                <a:lnTo>
                  <a:pt x="12" y="236"/>
                </a:lnTo>
                <a:lnTo>
                  <a:pt x="12" y="212"/>
                </a:lnTo>
                <a:lnTo>
                  <a:pt x="16" y="189"/>
                </a:lnTo>
                <a:lnTo>
                  <a:pt x="21" y="168"/>
                </a:lnTo>
                <a:lnTo>
                  <a:pt x="29" y="147"/>
                </a:lnTo>
                <a:lnTo>
                  <a:pt x="39" y="128"/>
                </a:lnTo>
                <a:lnTo>
                  <a:pt x="50" y="109"/>
                </a:lnTo>
                <a:lnTo>
                  <a:pt x="64" y="92"/>
                </a:lnTo>
                <a:lnTo>
                  <a:pt x="77" y="76"/>
                </a:lnTo>
                <a:lnTo>
                  <a:pt x="92" y="61"/>
                </a:lnTo>
                <a:lnTo>
                  <a:pt x="112" y="49"/>
                </a:lnTo>
                <a:lnTo>
                  <a:pt x="129" y="38"/>
                </a:lnTo>
                <a:lnTo>
                  <a:pt x="150" y="28"/>
                </a:lnTo>
                <a:lnTo>
                  <a:pt x="169" y="21"/>
                </a:lnTo>
                <a:lnTo>
                  <a:pt x="192" y="15"/>
                </a:lnTo>
                <a:lnTo>
                  <a:pt x="213" y="11"/>
                </a:lnTo>
                <a:lnTo>
                  <a:pt x="236" y="9"/>
                </a:lnTo>
                <a:lnTo>
                  <a:pt x="259" y="11"/>
                </a:lnTo>
                <a:lnTo>
                  <a:pt x="275" y="13"/>
                </a:lnTo>
                <a:lnTo>
                  <a:pt x="275" y="13"/>
                </a:lnTo>
                <a:lnTo>
                  <a:pt x="275" y="11"/>
                </a:lnTo>
                <a:lnTo>
                  <a:pt x="275" y="9"/>
                </a:lnTo>
                <a:lnTo>
                  <a:pt x="275" y="9"/>
                </a:lnTo>
                <a:lnTo>
                  <a:pt x="275" y="7"/>
                </a:lnTo>
                <a:lnTo>
                  <a:pt x="275" y="5"/>
                </a:lnTo>
                <a:lnTo>
                  <a:pt x="275" y="5"/>
                </a:lnTo>
                <a:lnTo>
                  <a:pt x="275" y="3"/>
                </a:lnTo>
                <a:close/>
              </a:path>
            </a:pathLst>
          </a:custGeom>
          <a:solidFill>
            <a:srgbClr val="d2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Freeform 221"/>
          <p:cNvSpPr/>
          <p:nvPr/>
        </p:nvSpPr>
        <p:spPr>
          <a:xfrm>
            <a:off x="2022480" y="2792520"/>
            <a:ext cx="430200" cy="734760"/>
          </a:xfrm>
          <a:custGeom>
            <a:avLst/>
            <a:gdLst>
              <a:gd name="textAreaLeft" fmla="*/ 0 w 430200"/>
              <a:gd name="textAreaRight" fmla="*/ 430560 w 430200"/>
              <a:gd name="textAreaTop" fmla="*/ 0 h 734760"/>
              <a:gd name="textAreaBottom" fmla="*/ 735120 h 734760"/>
            </a:gdLst>
            <a:ahLst/>
            <a:rect l="textAreaLeft" t="textAreaTop" r="textAreaRight" b="textAreaBottom"/>
            <a:pathLst>
              <a:path w="271" h="463">
                <a:moveTo>
                  <a:pt x="269" y="4"/>
                </a:moveTo>
                <a:lnTo>
                  <a:pt x="255" y="0"/>
                </a:lnTo>
                <a:lnTo>
                  <a:pt x="230" y="0"/>
                </a:lnTo>
                <a:lnTo>
                  <a:pt x="207" y="0"/>
                </a:lnTo>
                <a:lnTo>
                  <a:pt x="184" y="4"/>
                </a:lnTo>
                <a:lnTo>
                  <a:pt x="163" y="10"/>
                </a:lnTo>
                <a:lnTo>
                  <a:pt x="140" y="18"/>
                </a:lnTo>
                <a:lnTo>
                  <a:pt x="121" y="27"/>
                </a:lnTo>
                <a:lnTo>
                  <a:pt x="102" y="39"/>
                </a:lnTo>
                <a:lnTo>
                  <a:pt x="85" y="52"/>
                </a:lnTo>
                <a:lnTo>
                  <a:pt x="67" y="67"/>
                </a:lnTo>
                <a:lnTo>
                  <a:pt x="52" y="85"/>
                </a:lnTo>
                <a:lnTo>
                  <a:pt x="40" y="102"/>
                </a:lnTo>
                <a:lnTo>
                  <a:pt x="27" y="121"/>
                </a:lnTo>
                <a:lnTo>
                  <a:pt x="17" y="140"/>
                </a:lnTo>
                <a:lnTo>
                  <a:pt x="10" y="161"/>
                </a:lnTo>
                <a:lnTo>
                  <a:pt x="4" y="184"/>
                </a:lnTo>
                <a:lnTo>
                  <a:pt x="2" y="207"/>
                </a:lnTo>
                <a:lnTo>
                  <a:pt x="0" y="231"/>
                </a:lnTo>
                <a:lnTo>
                  <a:pt x="2" y="254"/>
                </a:lnTo>
                <a:lnTo>
                  <a:pt x="4" y="277"/>
                </a:lnTo>
                <a:lnTo>
                  <a:pt x="10" y="300"/>
                </a:lnTo>
                <a:lnTo>
                  <a:pt x="17" y="321"/>
                </a:lnTo>
                <a:lnTo>
                  <a:pt x="27" y="342"/>
                </a:lnTo>
                <a:lnTo>
                  <a:pt x="40" y="359"/>
                </a:lnTo>
                <a:lnTo>
                  <a:pt x="52" y="378"/>
                </a:lnTo>
                <a:lnTo>
                  <a:pt x="67" y="394"/>
                </a:lnTo>
                <a:lnTo>
                  <a:pt x="85" y="409"/>
                </a:lnTo>
                <a:lnTo>
                  <a:pt x="102" y="422"/>
                </a:lnTo>
                <a:lnTo>
                  <a:pt x="121" y="434"/>
                </a:lnTo>
                <a:lnTo>
                  <a:pt x="140" y="443"/>
                </a:lnTo>
                <a:lnTo>
                  <a:pt x="163" y="451"/>
                </a:lnTo>
                <a:lnTo>
                  <a:pt x="184" y="457"/>
                </a:lnTo>
                <a:lnTo>
                  <a:pt x="207" y="461"/>
                </a:lnTo>
                <a:lnTo>
                  <a:pt x="230" y="463"/>
                </a:lnTo>
                <a:lnTo>
                  <a:pt x="255" y="461"/>
                </a:lnTo>
                <a:lnTo>
                  <a:pt x="271" y="459"/>
                </a:lnTo>
                <a:lnTo>
                  <a:pt x="271" y="457"/>
                </a:lnTo>
                <a:lnTo>
                  <a:pt x="271" y="455"/>
                </a:lnTo>
                <a:lnTo>
                  <a:pt x="271" y="455"/>
                </a:lnTo>
                <a:lnTo>
                  <a:pt x="271" y="453"/>
                </a:lnTo>
                <a:lnTo>
                  <a:pt x="271" y="451"/>
                </a:lnTo>
                <a:lnTo>
                  <a:pt x="271" y="451"/>
                </a:lnTo>
                <a:lnTo>
                  <a:pt x="271" y="449"/>
                </a:lnTo>
                <a:lnTo>
                  <a:pt x="271" y="447"/>
                </a:lnTo>
                <a:lnTo>
                  <a:pt x="253" y="451"/>
                </a:lnTo>
                <a:lnTo>
                  <a:pt x="230" y="451"/>
                </a:lnTo>
                <a:lnTo>
                  <a:pt x="209" y="451"/>
                </a:lnTo>
                <a:lnTo>
                  <a:pt x="186" y="447"/>
                </a:lnTo>
                <a:lnTo>
                  <a:pt x="165" y="442"/>
                </a:lnTo>
                <a:lnTo>
                  <a:pt x="146" y="434"/>
                </a:lnTo>
                <a:lnTo>
                  <a:pt x="127" y="424"/>
                </a:lnTo>
                <a:lnTo>
                  <a:pt x="108" y="415"/>
                </a:lnTo>
                <a:lnTo>
                  <a:pt x="90" y="401"/>
                </a:lnTo>
                <a:lnTo>
                  <a:pt x="75" y="386"/>
                </a:lnTo>
                <a:lnTo>
                  <a:pt x="62" y="371"/>
                </a:lnTo>
                <a:lnTo>
                  <a:pt x="48" y="353"/>
                </a:lnTo>
                <a:lnTo>
                  <a:pt x="37" y="336"/>
                </a:lnTo>
                <a:lnTo>
                  <a:pt x="27" y="317"/>
                </a:lnTo>
                <a:lnTo>
                  <a:pt x="19" y="296"/>
                </a:lnTo>
                <a:lnTo>
                  <a:pt x="15" y="275"/>
                </a:lnTo>
                <a:lnTo>
                  <a:pt x="12" y="254"/>
                </a:lnTo>
                <a:lnTo>
                  <a:pt x="10" y="231"/>
                </a:lnTo>
                <a:lnTo>
                  <a:pt x="12" y="207"/>
                </a:lnTo>
                <a:lnTo>
                  <a:pt x="15" y="186"/>
                </a:lnTo>
                <a:lnTo>
                  <a:pt x="19" y="165"/>
                </a:lnTo>
                <a:lnTo>
                  <a:pt x="27" y="144"/>
                </a:lnTo>
                <a:lnTo>
                  <a:pt x="37" y="125"/>
                </a:lnTo>
                <a:lnTo>
                  <a:pt x="48" y="108"/>
                </a:lnTo>
                <a:lnTo>
                  <a:pt x="62" y="90"/>
                </a:lnTo>
                <a:lnTo>
                  <a:pt x="75" y="75"/>
                </a:lnTo>
                <a:lnTo>
                  <a:pt x="90" y="60"/>
                </a:lnTo>
                <a:lnTo>
                  <a:pt x="108" y="48"/>
                </a:lnTo>
                <a:lnTo>
                  <a:pt x="127" y="37"/>
                </a:lnTo>
                <a:lnTo>
                  <a:pt x="146" y="27"/>
                </a:lnTo>
                <a:lnTo>
                  <a:pt x="165" y="19"/>
                </a:lnTo>
                <a:lnTo>
                  <a:pt x="186" y="14"/>
                </a:lnTo>
                <a:lnTo>
                  <a:pt x="209" y="12"/>
                </a:lnTo>
                <a:lnTo>
                  <a:pt x="230" y="10"/>
                </a:lnTo>
                <a:lnTo>
                  <a:pt x="253" y="12"/>
                </a:lnTo>
                <a:lnTo>
                  <a:pt x="269" y="14"/>
                </a:lnTo>
                <a:lnTo>
                  <a:pt x="269" y="12"/>
                </a:lnTo>
                <a:lnTo>
                  <a:pt x="269" y="12"/>
                </a:lnTo>
                <a:lnTo>
                  <a:pt x="269" y="10"/>
                </a:lnTo>
                <a:lnTo>
                  <a:pt x="269" y="8"/>
                </a:lnTo>
                <a:lnTo>
                  <a:pt x="269" y="8"/>
                </a:lnTo>
                <a:lnTo>
                  <a:pt x="269" y="6"/>
                </a:lnTo>
                <a:lnTo>
                  <a:pt x="269" y="4"/>
                </a:lnTo>
                <a:lnTo>
                  <a:pt x="269" y="4"/>
                </a:lnTo>
                <a:close/>
              </a:path>
            </a:pathLst>
          </a:custGeom>
          <a:solidFill>
            <a:srgbClr val="d3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reeform 222"/>
          <p:cNvSpPr/>
          <p:nvPr/>
        </p:nvSpPr>
        <p:spPr>
          <a:xfrm>
            <a:off x="2031840" y="2798640"/>
            <a:ext cx="420840" cy="719280"/>
          </a:xfrm>
          <a:custGeom>
            <a:avLst/>
            <a:gdLst>
              <a:gd name="textAreaLeft" fmla="*/ 0 w 420840"/>
              <a:gd name="textAreaRight" fmla="*/ 421200 w 4208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65" h="453">
                <a:moveTo>
                  <a:pt x="263" y="4"/>
                </a:moveTo>
                <a:lnTo>
                  <a:pt x="247" y="2"/>
                </a:lnTo>
                <a:lnTo>
                  <a:pt x="224" y="0"/>
                </a:lnTo>
                <a:lnTo>
                  <a:pt x="201" y="2"/>
                </a:lnTo>
                <a:lnTo>
                  <a:pt x="180" y="6"/>
                </a:lnTo>
                <a:lnTo>
                  <a:pt x="157" y="12"/>
                </a:lnTo>
                <a:lnTo>
                  <a:pt x="138" y="19"/>
                </a:lnTo>
                <a:lnTo>
                  <a:pt x="117" y="29"/>
                </a:lnTo>
                <a:lnTo>
                  <a:pt x="100" y="40"/>
                </a:lnTo>
                <a:lnTo>
                  <a:pt x="80" y="52"/>
                </a:lnTo>
                <a:lnTo>
                  <a:pt x="65" y="67"/>
                </a:lnTo>
                <a:lnTo>
                  <a:pt x="52" y="83"/>
                </a:lnTo>
                <a:lnTo>
                  <a:pt x="38" y="100"/>
                </a:lnTo>
                <a:lnTo>
                  <a:pt x="27" y="119"/>
                </a:lnTo>
                <a:lnTo>
                  <a:pt x="17" y="138"/>
                </a:lnTo>
                <a:lnTo>
                  <a:pt x="9" y="159"/>
                </a:lnTo>
                <a:lnTo>
                  <a:pt x="4" y="180"/>
                </a:lnTo>
                <a:lnTo>
                  <a:pt x="0" y="203"/>
                </a:lnTo>
                <a:lnTo>
                  <a:pt x="0" y="227"/>
                </a:lnTo>
                <a:lnTo>
                  <a:pt x="0" y="250"/>
                </a:lnTo>
                <a:lnTo>
                  <a:pt x="4" y="273"/>
                </a:lnTo>
                <a:lnTo>
                  <a:pt x="9" y="294"/>
                </a:lnTo>
                <a:lnTo>
                  <a:pt x="17" y="315"/>
                </a:lnTo>
                <a:lnTo>
                  <a:pt x="27" y="334"/>
                </a:lnTo>
                <a:lnTo>
                  <a:pt x="38" y="353"/>
                </a:lnTo>
                <a:lnTo>
                  <a:pt x="52" y="370"/>
                </a:lnTo>
                <a:lnTo>
                  <a:pt x="65" y="386"/>
                </a:lnTo>
                <a:lnTo>
                  <a:pt x="80" y="401"/>
                </a:lnTo>
                <a:lnTo>
                  <a:pt x="100" y="415"/>
                </a:lnTo>
                <a:lnTo>
                  <a:pt x="117" y="426"/>
                </a:lnTo>
                <a:lnTo>
                  <a:pt x="138" y="436"/>
                </a:lnTo>
                <a:lnTo>
                  <a:pt x="157" y="443"/>
                </a:lnTo>
                <a:lnTo>
                  <a:pt x="180" y="447"/>
                </a:lnTo>
                <a:lnTo>
                  <a:pt x="201" y="451"/>
                </a:lnTo>
                <a:lnTo>
                  <a:pt x="224" y="453"/>
                </a:lnTo>
                <a:lnTo>
                  <a:pt x="247" y="451"/>
                </a:lnTo>
                <a:lnTo>
                  <a:pt x="265" y="449"/>
                </a:lnTo>
                <a:lnTo>
                  <a:pt x="265" y="447"/>
                </a:lnTo>
                <a:lnTo>
                  <a:pt x="265" y="447"/>
                </a:lnTo>
                <a:lnTo>
                  <a:pt x="265" y="445"/>
                </a:lnTo>
                <a:lnTo>
                  <a:pt x="265" y="443"/>
                </a:lnTo>
                <a:lnTo>
                  <a:pt x="265" y="443"/>
                </a:lnTo>
                <a:lnTo>
                  <a:pt x="265" y="441"/>
                </a:lnTo>
                <a:lnTo>
                  <a:pt x="263" y="439"/>
                </a:lnTo>
                <a:lnTo>
                  <a:pt x="263" y="439"/>
                </a:lnTo>
                <a:lnTo>
                  <a:pt x="247" y="441"/>
                </a:lnTo>
                <a:lnTo>
                  <a:pt x="224" y="441"/>
                </a:lnTo>
                <a:lnTo>
                  <a:pt x="203" y="441"/>
                </a:lnTo>
                <a:lnTo>
                  <a:pt x="182" y="438"/>
                </a:lnTo>
                <a:lnTo>
                  <a:pt x="161" y="432"/>
                </a:lnTo>
                <a:lnTo>
                  <a:pt x="142" y="426"/>
                </a:lnTo>
                <a:lnTo>
                  <a:pt x="123" y="416"/>
                </a:lnTo>
                <a:lnTo>
                  <a:pt x="105" y="405"/>
                </a:lnTo>
                <a:lnTo>
                  <a:pt x="88" y="393"/>
                </a:lnTo>
                <a:lnTo>
                  <a:pt x="73" y="380"/>
                </a:lnTo>
                <a:lnTo>
                  <a:pt x="59" y="365"/>
                </a:lnTo>
                <a:lnTo>
                  <a:pt x="46" y="347"/>
                </a:lnTo>
                <a:lnTo>
                  <a:pt x="36" y="330"/>
                </a:lnTo>
                <a:lnTo>
                  <a:pt x="27" y="311"/>
                </a:lnTo>
                <a:lnTo>
                  <a:pt x="19" y="292"/>
                </a:lnTo>
                <a:lnTo>
                  <a:pt x="13" y="271"/>
                </a:lnTo>
                <a:lnTo>
                  <a:pt x="11" y="250"/>
                </a:lnTo>
                <a:lnTo>
                  <a:pt x="9" y="227"/>
                </a:lnTo>
                <a:lnTo>
                  <a:pt x="11" y="205"/>
                </a:lnTo>
                <a:lnTo>
                  <a:pt x="13" y="184"/>
                </a:lnTo>
                <a:lnTo>
                  <a:pt x="19" y="163"/>
                </a:lnTo>
                <a:lnTo>
                  <a:pt x="27" y="142"/>
                </a:lnTo>
                <a:lnTo>
                  <a:pt x="36" y="125"/>
                </a:lnTo>
                <a:lnTo>
                  <a:pt x="46" y="106"/>
                </a:lnTo>
                <a:lnTo>
                  <a:pt x="59" y="90"/>
                </a:lnTo>
                <a:lnTo>
                  <a:pt x="73" y="75"/>
                </a:lnTo>
                <a:lnTo>
                  <a:pt x="88" y="60"/>
                </a:lnTo>
                <a:lnTo>
                  <a:pt x="105" y="48"/>
                </a:lnTo>
                <a:lnTo>
                  <a:pt x="123" y="37"/>
                </a:lnTo>
                <a:lnTo>
                  <a:pt x="142" y="29"/>
                </a:lnTo>
                <a:lnTo>
                  <a:pt x="161" y="21"/>
                </a:lnTo>
                <a:lnTo>
                  <a:pt x="182" y="15"/>
                </a:lnTo>
                <a:lnTo>
                  <a:pt x="203" y="12"/>
                </a:lnTo>
                <a:lnTo>
                  <a:pt x="224" y="12"/>
                </a:lnTo>
                <a:lnTo>
                  <a:pt x="247" y="12"/>
                </a:lnTo>
                <a:lnTo>
                  <a:pt x="261" y="15"/>
                </a:lnTo>
                <a:lnTo>
                  <a:pt x="261" y="14"/>
                </a:lnTo>
                <a:lnTo>
                  <a:pt x="261" y="12"/>
                </a:lnTo>
                <a:lnTo>
                  <a:pt x="263" y="12"/>
                </a:lnTo>
                <a:lnTo>
                  <a:pt x="263" y="10"/>
                </a:lnTo>
                <a:lnTo>
                  <a:pt x="263" y="8"/>
                </a:lnTo>
                <a:lnTo>
                  <a:pt x="263" y="8"/>
                </a:lnTo>
                <a:lnTo>
                  <a:pt x="263" y="6"/>
                </a:lnTo>
                <a:lnTo>
                  <a:pt x="263" y="4"/>
                </a:lnTo>
                <a:close/>
              </a:path>
            </a:pathLst>
          </a:custGeom>
          <a:solidFill>
            <a:srgbClr val="d4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Freeform 223"/>
          <p:cNvSpPr/>
          <p:nvPr/>
        </p:nvSpPr>
        <p:spPr>
          <a:xfrm>
            <a:off x="2038320" y="2808360"/>
            <a:ext cx="414360" cy="699840"/>
          </a:xfrm>
          <a:custGeom>
            <a:avLst/>
            <a:gdLst>
              <a:gd name="textAreaLeft" fmla="*/ 0 w 414360"/>
              <a:gd name="textAreaRight" fmla="*/ 414720 w 414360"/>
              <a:gd name="textAreaTop" fmla="*/ 0 h 699840"/>
              <a:gd name="textAreaBottom" fmla="*/ 700200 h 699840"/>
            </a:gdLst>
            <a:ahLst/>
            <a:rect l="textAreaLeft" t="textAreaTop" r="textAreaRight" b="textAreaBottom"/>
            <a:pathLst>
              <a:path w="261" h="441">
                <a:moveTo>
                  <a:pt x="259" y="4"/>
                </a:moveTo>
                <a:lnTo>
                  <a:pt x="243" y="2"/>
                </a:lnTo>
                <a:lnTo>
                  <a:pt x="220" y="0"/>
                </a:lnTo>
                <a:lnTo>
                  <a:pt x="199" y="2"/>
                </a:lnTo>
                <a:lnTo>
                  <a:pt x="176" y="4"/>
                </a:lnTo>
                <a:lnTo>
                  <a:pt x="155" y="9"/>
                </a:lnTo>
                <a:lnTo>
                  <a:pt x="136" y="17"/>
                </a:lnTo>
                <a:lnTo>
                  <a:pt x="117" y="27"/>
                </a:lnTo>
                <a:lnTo>
                  <a:pt x="98" y="38"/>
                </a:lnTo>
                <a:lnTo>
                  <a:pt x="80" y="50"/>
                </a:lnTo>
                <a:lnTo>
                  <a:pt x="65" y="65"/>
                </a:lnTo>
                <a:lnTo>
                  <a:pt x="52" y="80"/>
                </a:lnTo>
                <a:lnTo>
                  <a:pt x="38" y="98"/>
                </a:lnTo>
                <a:lnTo>
                  <a:pt x="27" y="115"/>
                </a:lnTo>
                <a:lnTo>
                  <a:pt x="17" y="134"/>
                </a:lnTo>
                <a:lnTo>
                  <a:pt x="9" y="155"/>
                </a:lnTo>
                <a:lnTo>
                  <a:pt x="5" y="176"/>
                </a:lnTo>
                <a:lnTo>
                  <a:pt x="2" y="197"/>
                </a:lnTo>
                <a:lnTo>
                  <a:pt x="0" y="221"/>
                </a:lnTo>
                <a:lnTo>
                  <a:pt x="2" y="244"/>
                </a:lnTo>
                <a:lnTo>
                  <a:pt x="5" y="265"/>
                </a:lnTo>
                <a:lnTo>
                  <a:pt x="9" y="286"/>
                </a:lnTo>
                <a:lnTo>
                  <a:pt x="17" y="307"/>
                </a:lnTo>
                <a:lnTo>
                  <a:pt x="27" y="326"/>
                </a:lnTo>
                <a:lnTo>
                  <a:pt x="38" y="343"/>
                </a:lnTo>
                <a:lnTo>
                  <a:pt x="52" y="361"/>
                </a:lnTo>
                <a:lnTo>
                  <a:pt x="65" y="376"/>
                </a:lnTo>
                <a:lnTo>
                  <a:pt x="80" y="391"/>
                </a:lnTo>
                <a:lnTo>
                  <a:pt x="98" y="405"/>
                </a:lnTo>
                <a:lnTo>
                  <a:pt x="117" y="414"/>
                </a:lnTo>
                <a:lnTo>
                  <a:pt x="136" y="424"/>
                </a:lnTo>
                <a:lnTo>
                  <a:pt x="155" y="432"/>
                </a:lnTo>
                <a:lnTo>
                  <a:pt x="176" y="437"/>
                </a:lnTo>
                <a:lnTo>
                  <a:pt x="199" y="441"/>
                </a:lnTo>
                <a:lnTo>
                  <a:pt x="220" y="441"/>
                </a:lnTo>
                <a:lnTo>
                  <a:pt x="243" y="441"/>
                </a:lnTo>
                <a:lnTo>
                  <a:pt x="261" y="437"/>
                </a:lnTo>
                <a:lnTo>
                  <a:pt x="261" y="437"/>
                </a:lnTo>
                <a:lnTo>
                  <a:pt x="261" y="435"/>
                </a:lnTo>
                <a:lnTo>
                  <a:pt x="259" y="433"/>
                </a:lnTo>
                <a:lnTo>
                  <a:pt x="259" y="433"/>
                </a:lnTo>
                <a:lnTo>
                  <a:pt x="259" y="432"/>
                </a:lnTo>
                <a:lnTo>
                  <a:pt x="259" y="430"/>
                </a:lnTo>
                <a:lnTo>
                  <a:pt x="259" y="430"/>
                </a:lnTo>
                <a:lnTo>
                  <a:pt x="259" y="428"/>
                </a:lnTo>
                <a:lnTo>
                  <a:pt x="243" y="430"/>
                </a:lnTo>
                <a:lnTo>
                  <a:pt x="220" y="432"/>
                </a:lnTo>
                <a:lnTo>
                  <a:pt x="199" y="430"/>
                </a:lnTo>
                <a:lnTo>
                  <a:pt x="178" y="428"/>
                </a:lnTo>
                <a:lnTo>
                  <a:pt x="159" y="422"/>
                </a:lnTo>
                <a:lnTo>
                  <a:pt x="140" y="414"/>
                </a:lnTo>
                <a:lnTo>
                  <a:pt x="121" y="407"/>
                </a:lnTo>
                <a:lnTo>
                  <a:pt x="103" y="395"/>
                </a:lnTo>
                <a:lnTo>
                  <a:pt x="88" y="384"/>
                </a:lnTo>
                <a:lnTo>
                  <a:pt x="73" y="370"/>
                </a:lnTo>
                <a:lnTo>
                  <a:pt x="59" y="355"/>
                </a:lnTo>
                <a:lnTo>
                  <a:pt x="46" y="338"/>
                </a:lnTo>
                <a:lnTo>
                  <a:pt x="36" y="320"/>
                </a:lnTo>
                <a:lnTo>
                  <a:pt x="27" y="303"/>
                </a:lnTo>
                <a:lnTo>
                  <a:pt x="21" y="284"/>
                </a:lnTo>
                <a:lnTo>
                  <a:pt x="15" y="263"/>
                </a:lnTo>
                <a:lnTo>
                  <a:pt x="11" y="242"/>
                </a:lnTo>
                <a:lnTo>
                  <a:pt x="11" y="221"/>
                </a:lnTo>
                <a:lnTo>
                  <a:pt x="11" y="199"/>
                </a:lnTo>
                <a:lnTo>
                  <a:pt x="15" y="178"/>
                </a:lnTo>
                <a:lnTo>
                  <a:pt x="21" y="159"/>
                </a:lnTo>
                <a:lnTo>
                  <a:pt x="27" y="138"/>
                </a:lnTo>
                <a:lnTo>
                  <a:pt x="36" y="121"/>
                </a:lnTo>
                <a:lnTo>
                  <a:pt x="46" y="103"/>
                </a:lnTo>
                <a:lnTo>
                  <a:pt x="59" y="86"/>
                </a:lnTo>
                <a:lnTo>
                  <a:pt x="73" y="73"/>
                </a:lnTo>
                <a:lnTo>
                  <a:pt x="88" y="59"/>
                </a:lnTo>
                <a:lnTo>
                  <a:pt x="103" y="46"/>
                </a:lnTo>
                <a:lnTo>
                  <a:pt x="121" y="36"/>
                </a:lnTo>
                <a:lnTo>
                  <a:pt x="140" y="27"/>
                </a:lnTo>
                <a:lnTo>
                  <a:pt x="159" y="19"/>
                </a:lnTo>
                <a:lnTo>
                  <a:pt x="178" y="15"/>
                </a:lnTo>
                <a:lnTo>
                  <a:pt x="199" y="11"/>
                </a:lnTo>
                <a:lnTo>
                  <a:pt x="220" y="9"/>
                </a:lnTo>
                <a:lnTo>
                  <a:pt x="243" y="11"/>
                </a:lnTo>
                <a:lnTo>
                  <a:pt x="257" y="13"/>
                </a:lnTo>
                <a:lnTo>
                  <a:pt x="257" y="13"/>
                </a:lnTo>
                <a:lnTo>
                  <a:pt x="257" y="11"/>
                </a:lnTo>
                <a:lnTo>
                  <a:pt x="257" y="9"/>
                </a:lnTo>
                <a:lnTo>
                  <a:pt x="257" y="9"/>
                </a:lnTo>
                <a:lnTo>
                  <a:pt x="257" y="8"/>
                </a:lnTo>
                <a:lnTo>
                  <a:pt x="257" y="6"/>
                </a:lnTo>
                <a:lnTo>
                  <a:pt x="259" y="6"/>
                </a:lnTo>
                <a:lnTo>
                  <a:pt x="259" y="4"/>
                </a:lnTo>
                <a:close/>
              </a:path>
            </a:pathLst>
          </a:cu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Freeform 224"/>
          <p:cNvSpPr/>
          <p:nvPr/>
        </p:nvSpPr>
        <p:spPr>
          <a:xfrm>
            <a:off x="2046240" y="2817720"/>
            <a:ext cx="403200" cy="681120"/>
          </a:xfrm>
          <a:custGeom>
            <a:avLst/>
            <a:gdLst>
              <a:gd name="textAreaLeft" fmla="*/ 0 w 403200"/>
              <a:gd name="textAreaRight" fmla="*/ 403560 w 40320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254" h="429">
                <a:moveTo>
                  <a:pt x="252" y="3"/>
                </a:moveTo>
                <a:lnTo>
                  <a:pt x="238" y="0"/>
                </a:lnTo>
                <a:lnTo>
                  <a:pt x="215" y="0"/>
                </a:lnTo>
                <a:lnTo>
                  <a:pt x="194" y="0"/>
                </a:lnTo>
                <a:lnTo>
                  <a:pt x="173" y="3"/>
                </a:lnTo>
                <a:lnTo>
                  <a:pt x="152" y="9"/>
                </a:lnTo>
                <a:lnTo>
                  <a:pt x="133" y="17"/>
                </a:lnTo>
                <a:lnTo>
                  <a:pt x="114" y="25"/>
                </a:lnTo>
                <a:lnTo>
                  <a:pt x="96" y="36"/>
                </a:lnTo>
                <a:lnTo>
                  <a:pt x="79" y="48"/>
                </a:lnTo>
                <a:lnTo>
                  <a:pt x="64" y="63"/>
                </a:lnTo>
                <a:lnTo>
                  <a:pt x="50" y="78"/>
                </a:lnTo>
                <a:lnTo>
                  <a:pt x="37" y="94"/>
                </a:lnTo>
                <a:lnTo>
                  <a:pt x="27" y="113"/>
                </a:lnTo>
                <a:lnTo>
                  <a:pt x="18" y="130"/>
                </a:lnTo>
                <a:lnTo>
                  <a:pt x="10" y="151"/>
                </a:lnTo>
                <a:lnTo>
                  <a:pt x="4" y="172"/>
                </a:lnTo>
                <a:lnTo>
                  <a:pt x="2" y="193"/>
                </a:lnTo>
                <a:lnTo>
                  <a:pt x="0" y="215"/>
                </a:lnTo>
                <a:lnTo>
                  <a:pt x="2" y="238"/>
                </a:lnTo>
                <a:lnTo>
                  <a:pt x="4" y="259"/>
                </a:lnTo>
                <a:lnTo>
                  <a:pt x="10" y="280"/>
                </a:lnTo>
                <a:lnTo>
                  <a:pt x="18" y="299"/>
                </a:lnTo>
                <a:lnTo>
                  <a:pt x="27" y="318"/>
                </a:lnTo>
                <a:lnTo>
                  <a:pt x="37" y="335"/>
                </a:lnTo>
                <a:lnTo>
                  <a:pt x="50" y="353"/>
                </a:lnTo>
                <a:lnTo>
                  <a:pt x="64" y="368"/>
                </a:lnTo>
                <a:lnTo>
                  <a:pt x="79" y="381"/>
                </a:lnTo>
                <a:lnTo>
                  <a:pt x="96" y="393"/>
                </a:lnTo>
                <a:lnTo>
                  <a:pt x="114" y="404"/>
                </a:lnTo>
                <a:lnTo>
                  <a:pt x="133" y="414"/>
                </a:lnTo>
                <a:lnTo>
                  <a:pt x="152" y="420"/>
                </a:lnTo>
                <a:lnTo>
                  <a:pt x="173" y="426"/>
                </a:lnTo>
                <a:lnTo>
                  <a:pt x="194" y="429"/>
                </a:lnTo>
                <a:lnTo>
                  <a:pt x="215" y="429"/>
                </a:lnTo>
                <a:lnTo>
                  <a:pt x="238" y="429"/>
                </a:lnTo>
                <a:lnTo>
                  <a:pt x="254" y="427"/>
                </a:lnTo>
                <a:lnTo>
                  <a:pt x="254" y="426"/>
                </a:lnTo>
                <a:lnTo>
                  <a:pt x="254" y="424"/>
                </a:lnTo>
                <a:lnTo>
                  <a:pt x="254" y="424"/>
                </a:lnTo>
                <a:lnTo>
                  <a:pt x="254" y="422"/>
                </a:lnTo>
                <a:lnTo>
                  <a:pt x="254" y="420"/>
                </a:lnTo>
                <a:lnTo>
                  <a:pt x="254" y="420"/>
                </a:lnTo>
                <a:lnTo>
                  <a:pt x="254" y="418"/>
                </a:lnTo>
                <a:lnTo>
                  <a:pt x="254" y="416"/>
                </a:lnTo>
                <a:lnTo>
                  <a:pt x="237" y="420"/>
                </a:lnTo>
                <a:lnTo>
                  <a:pt x="215" y="420"/>
                </a:lnTo>
                <a:lnTo>
                  <a:pt x="194" y="420"/>
                </a:lnTo>
                <a:lnTo>
                  <a:pt x="175" y="416"/>
                </a:lnTo>
                <a:lnTo>
                  <a:pt x="156" y="410"/>
                </a:lnTo>
                <a:lnTo>
                  <a:pt x="137" y="404"/>
                </a:lnTo>
                <a:lnTo>
                  <a:pt x="118" y="395"/>
                </a:lnTo>
                <a:lnTo>
                  <a:pt x="102" y="385"/>
                </a:lnTo>
                <a:lnTo>
                  <a:pt x="85" y="374"/>
                </a:lnTo>
                <a:lnTo>
                  <a:pt x="71" y="360"/>
                </a:lnTo>
                <a:lnTo>
                  <a:pt x="58" y="345"/>
                </a:lnTo>
                <a:lnTo>
                  <a:pt x="47" y="330"/>
                </a:lnTo>
                <a:lnTo>
                  <a:pt x="35" y="312"/>
                </a:lnTo>
                <a:lnTo>
                  <a:pt x="27" y="295"/>
                </a:lnTo>
                <a:lnTo>
                  <a:pt x="20" y="276"/>
                </a:lnTo>
                <a:lnTo>
                  <a:pt x="16" y="257"/>
                </a:lnTo>
                <a:lnTo>
                  <a:pt x="12" y="236"/>
                </a:lnTo>
                <a:lnTo>
                  <a:pt x="10" y="215"/>
                </a:lnTo>
                <a:lnTo>
                  <a:pt x="12" y="193"/>
                </a:lnTo>
                <a:lnTo>
                  <a:pt x="16" y="174"/>
                </a:lnTo>
                <a:lnTo>
                  <a:pt x="20" y="153"/>
                </a:lnTo>
                <a:lnTo>
                  <a:pt x="27" y="134"/>
                </a:lnTo>
                <a:lnTo>
                  <a:pt x="35" y="117"/>
                </a:lnTo>
                <a:lnTo>
                  <a:pt x="47" y="99"/>
                </a:lnTo>
                <a:lnTo>
                  <a:pt x="58" y="84"/>
                </a:lnTo>
                <a:lnTo>
                  <a:pt x="71" y="69"/>
                </a:lnTo>
                <a:lnTo>
                  <a:pt x="85" y="57"/>
                </a:lnTo>
                <a:lnTo>
                  <a:pt x="102" y="44"/>
                </a:lnTo>
                <a:lnTo>
                  <a:pt x="118" y="34"/>
                </a:lnTo>
                <a:lnTo>
                  <a:pt x="137" y="26"/>
                </a:lnTo>
                <a:lnTo>
                  <a:pt x="156" y="19"/>
                </a:lnTo>
                <a:lnTo>
                  <a:pt x="175" y="13"/>
                </a:lnTo>
                <a:lnTo>
                  <a:pt x="194" y="11"/>
                </a:lnTo>
                <a:lnTo>
                  <a:pt x="215" y="9"/>
                </a:lnTo>
                <a:lnTo>
                  <a:pt x="237" y="11"/>
                </a:lnTo>
                <a:lnTo>
                  <a:pt x="252" y="13"/>
                </a:lnTo>
                <a:lnTo>
                  <a:pt x="252" y="11"/>
                </a:lnTo>
                <a:lnTo>
                  <a:pt x="252" y="11"/>
                </a:lnTo>
                <a:lnTo>
                  <a:pt x="252" y="9"/>
                </a:lnTo>
                <a:lnTo>
                  <a:pt x="252" y="7"/>
                </a:lnTo>
                <a:lnTo>
                  <a:pt x="252" y="7"/>
                </a:lnTo>
                <a:lnTo>
                  <a:pt x="252" y="5"/>
                </a:lnTo>
                <a:lnTo>
                  <a:pt x="252" y="3"/>
                </a:lnTo>
                <a:lnTo>
                  <a:pt x="252" y="3"/>
                </a:lnTo>
                <a:close/>
              </a:path>
            </a:pathLst>
          </a:custGeom>
          <a:solidFill>
            <a:srgbClr val="d6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Freeform 225"/>
          <p:cNvSpPr/>
          <p:nvPr/>
        </p:nvSpPr>
        <p:spPr>
          <a:xfrm>
            <a:off x="2055960" y="2822400"/>
            <a:ext cx="393480" cy="671760"/>
          </a:xfrm>
          <a:custGeom>
            <a:avLst/>
            <a:gdLst>
              <a:gd name="textAreaLeft" fmla="*/ 0 w 393480"/>
              <a:gd name="textAreaRight" fmla="*/ 393840 w 393480"/>
              <a:gd name="textAreaTop" fmla="*/ 0 h 671760"/>
              <a:gd name="textAreaBottom" fmla="*/ 672120 h 671760"/>
            </a:gdLst>
            <a:ahLst/>
            <a:rect l="textAreaLeft" t="textAreaTop" r="textAreaRight" b="textAreaBottom"/>
            <a:pathLst>
              <a:path w="248" h="423">
                <a:moveTo>
                  <a:pt x="246" y="4"/>
                </a:moveTo>
                <a:lnTo>
                  <a:pt x="232" y="2"/>
                </a:lnTo>
                <a:lnTo>
                  <a:pt x="209" y="0"/>
                </a:lnTo>
                <a:lnTo>
                  <a:pt x="188" y="2"/>
                </a:lnTo>
                <a:lnTo>
                  <a:pt x="167" y="6"/>
                </a:lnTo>
                <a:lnTo>
                  <a:pt x="148" y="10"/>
                </a:lnTo>
                <a:lnTo>
                  <a:pt x="129" y="18"/>
                </a:lnTo>
                <a:lnTo>
                  <a:pt x="110" y="27"/>
                </a:lnTo>
                <a:lnTo>
                  <a:pt x="92" y="37"/>
                </a:lnTo>
                <a:lnTo>
                  <a:pt x="77" y="50"/>
                </a:lnTo>
                <a:lnTo>
                  <a:pt x="62" y="64"/>
                </a:lnTo>
                <a:lnTo>
                  <a:pt x="48" y="77"/>
                </a:lnTo>
                <a:lnTo>
                  <a:pt x="35" y="94"/>
                </a:lnTo>
                <a:lnTo>
                  <a:pt x="25" y="112"/>
                </a:lnTo>
                <a:lnTo>
                  <a:pt x="16" y="129"/>
                </a:lnTo>
                <a:lnTo>
                  <a:pt x="10" y="150"/>
                </a:lnTo>
                <a:lnTo>
                  <a:pt x="4" y="169"/>
                </a:lnTo>
                <a:lnTo>
                  <a:pt x="0" y="190"/>
                </a:lnTo>
                <a:lnTo>
                  <a:pt x="0" y="212"/>
                </a:lnTo>
                <a:lnTo>
                  <a:pt x="0" y="233"/>
                </a:lnTo>
                <a:lnTo>
                  <a:pt x="4" y="254"/>
                </a:lnTo>
                <a:lnTo>
                  <a:pt x="10" y="275"/>
                </a:lnTo>
                <a:lnTo>
                  <a:pt x="16" y="294"/>
                </a:lnTo>
                <a:lnTo>
                  <a:pt x="25" y="311"/>
                </a:lnTo>
                <a:lnTo>
                  <a:pt x="35" y="329"/>
                </a:lnTo>
                <a:lnTo>
                  <a:pt x="48" y="346"/>
                </a:lnTo>
                <a:lnTo>
                  <a:pt x="62" y="361"/>
                </a:lnTo>
                <a:lnTo>
                  <a:pt x="77" y="375"/>
                </a:lnTo>
                <a:lnTo>
                  <a:pt x="92" y="386"/>
                </a:lnTo>
                <a:lnTo>
                  <a:pt x="110" y="398"/>
                </a:lnTo>
                <a:lnTo>
                  <a:pt x="129" y="405"/>
                </a:lnTo>
                <a:lnTo>
                  <a:pt x="148" y="413"/>
                </a:lnTo>
                <a:lnTo>
                  <a:pt x="167" y="419"/>
                </a:lnTo>
                <a:lnTo>
                  <a:pt x="188" y="421"/>
                </a:lnTo>
                <a:lnTo>
                  <a:pt x="209" y="423"/>
                </a:lnTo>
                <a:lnTo>
                  <a:pt x="232" y="421"/>
                </a:lnTo>
                <a:lnTo>
                  <a:pt x="248" y="419"/>
                </a:lnTo>
                <a:lnTo>
                  <a:pt x="248" y="417"/>
                </a:lnTo>
                <a:lnTo>
                  <a:pt x="248" y="417"/>
                </a:lnTo>
                <a:lnTo>
                  <a:pt x="248" y="415"/>
                </a:lnTo>
                <a:lnTo>
                  <a:pt x="248" y="413"/>
                </a:lnTo>
                <a:lnTo>
                  <a:pt x="248" y="413"/>
                </a:lnTo>
                <a:lnTo>
                  <a:pt x="248" y="411"/>
                </a:lnTo>
                <a:lnTo>
                  <a:pt x="248" y="409"/>
                </a:lnTo>
                <a:lnTo>
                  <a:pt x="248" y="409"/>
                </a:lnTo>
                <a:lnTo>
                  <a:pt x="231" y="411"/>
                </a:lnTo>
                <a:lnTo>
                  <a:pt x="209" y="411"/>
                </a:lnTo>
                <a:lnTo>
                  <a:pt x="190" y="411"/>
                </a:lnTo>
                <a:lnTo>
                  <a:pt x="169" y="407"/>
                </a:lnTo>
                <a:lnTo>
                  <a:pt x="150" y="403"/>
                </a:lnTo>
                <a:lnTo>
                  <a:pt x="133" y="396"/>
                </a:lnTo>
                <a:lnTo>
                  <a:pt x="115" y="388"/>
                </a:lnTo>
                <a:lnTo>
                  <a:pt x="98" y="378"/>
                </a:lnTo>
                <a:lnTo>
                  <a:pt x="83" y="367"/>
                </a:lnTo>
                <a:lnTo>
                  <a:pt x="69" y="353"/>
                </a:lnTo>
                <a:lnTo>
                  <a:pt x="56" y="340"/>
                </a:lnTo>
                <a:lnTo>
                  <a:pt x="44" y="323"/>
                </a:lnTo>
                <a:lnTo>
                  <a:pt x="35" y="307"/>
                </a:lnTo>
                <a:lnTo>
                  <a:pt x="25" y="290"/>
                </a:lnTo>
                <a:lnTo>
                  <a:pt x="19" y="271"/>
                </a:lnTo>
                <a:lnTo>
                  <a:pt x="14" y="252"/>
                </a:lnTo>
                <a:lnTo>
                  <a:pt x="12" y="233"/>
                </a:lnTo>
                <a:lnTo>
                  <a:pt x="10" y="212"/>
                </a:lnTo>
                <a:lnTo>
                  <a:pt x="12" y="190"/>
                </a:lnTo>
                <a:lnTo>
                  <a:pt x="14" y="171"/>
                </a:lnTo>
                <a:lnTo>
                  <a:pt x="19" y="152"/>
                </a:lnTo>
                <a:lnTo>
                  <a:pt x="25" y="135"/>
                </a:lnTo>
                <a:lnTo>
                  <a:pt x="35" y="116"/>
                </a:lnTo>
                <a:lnTo>
                  <a:pt x="44" y="100"/>
                </a:lnTo>
                <a:lnTo>
                  <a:pt x="56" y="85"/>
                </a:lnTo>
                <a:lnTo>
                  <a:pt x="69" y="70"/>
                </a:lnTo>
                <a:lnTo>
                  <a:pt x="83" y="58"/>
                </a:lnTo>
                <a:lnTo>
                  <a:pt x="98" y="47"/>
                </a:lnTo>
                <a:lnTo>
                  <a:pt x="115" y="35"/>
                </a:lnTo>
                <a:lnTo>
                  <a:pt x="133" y="27"/>
                </a:lnTo>
                <a:lnTo>
                  <a:pt x="150" y="22"/>
                </a:lnTo>
                <a:lnTo>
                  <a:pt x="169" y="16"/>
                </a:lnTo>
                <a:lnTo>
                  <a:pt x="190" y="12"/>
                </a:lnTo>
                <a:lnTo>
                  <a:pt x="209" y="12"/>
                </a:lnTo>
                <a:lnTo>
                  <a:pt x="231" y="12"/>
                </a:lnTo>
                <a:lnTo>
                  <a:pt x="246" y="16"/>
                </a:lnTo>
                <a:lnTo>
                  <a:pt x="246" y="14"/>
                </a:lnTo>
                <a:lnTo>
                  <a:pt x="246" y="12"/>
                </a:lnTo>
                <a:lnTo>
                  <a:pt x="246" y="12"/>
                </a:lnTo>
                <a:lnTo>
                  <a:pt x="246" y="10"/>
                </a:lnTo>
                <a:lnTo>
                  <a:pt x="246" y="8"/>
                </a:lnTo>
                <a:lnTo>
                  <a:pt x="246" y="8"/>
                </a:lnTo>
                <a:lnTo>
                  <a:pt x="246" y="6"/>
                </a:lnTo>
                <a:lnTo>
                  <a:pt x="246" y="4"/>
                </a:lnTo>
                <a:close/>
              </a:path>
            </a:pathLst>
          </a:custGeom>
          <a:solidFill>
            <a:srgbClr val="d7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226"/>
          <p:cNvSpPr/>
          <p:nvPr/>
        </p:nvSpPr>
        <p:spPr>
          <a:xfrm>
            <a:off x="2062080" y="2832120"/>
            <a:ext cx="387360" cy="652320"/>
          </a:xfrm>
          <a:custGeom>
            <a:avLst/>
            <a:gdLst>
              <a:gd name="textAreaLeft" fmla="*/ 0 w 387360"/>
              <a:gd name="textAreaRight" fmla="*/ 387720 w 387360"/>
              <a:gd name="textAreaTop" fmla="*/ 0 h 652320"/>
              <a:gd name="textAreaBottom" fmla="*/ 652320 h 652320"/>
            </a:gdLst>
            <a:ahLst/>
            <a:rect l="textAreaLeft" t="textAreaTop" r="textAreaRight" b="textAreaBottom"/>
            <a:pathLst>
              <a:path w="244" h="411">
                <a:moveTo>
                  <a:pt x="242" y="4"/>
                </a:moveTo>
                <a:lnTo>
                  <a:pt x="227" y="2"/>
                </a:lnTo>
                <a:lnTo>
                  <a:pt x="205" y="0"/>
                </a:lnTo>
                <a:lnTo>
                  <a:pt x="184" y="2"/>
                </a:lnTo>
                <a:lnTo>
                  <a:pt x="165" y="4"/>
                </a:lnTo>
                <a:lnTo>
                  <a:pt x="146" y="10"/>
                </a:lnTo>
                <a:lnTo>
                  <a:pt x="127" y="17"/>
                </a:lnTo>
                <a:lnTo>
                  <a:pt x="108" y="25"/>
                </a:lnTo>
                <a:lnTo>
                  <a:pt x="92" y="35"/>
                </a:lnTo>
                <a:lnTo>
                  <a:pt x="75" y="48"/>
                </a:lnTo>
                <a:lnTo>
                  <a:pt x="61" y="60"/>
                </a:lnTo>
                <a:lnTo>
                  <a:pt x="48" y="75"/>
                </a:lnTo>
                <a:lnTo>
                  <a:pt x="37" y="90"/>
                </a:lnTo>
                <a:lnTo>
                  <a:pt x="25" y="108"/>
                </a:lnTo>
                <a:lnTo>
                  <a:pt x="17" y="125"/>
                </a:lnTo>
                <a:lnTo>
                  <a:pt x="10" y="144"/>
                </a:lnTo>
                <a:lnTo>
                  <a:pt x="6" y="165"/>
                </a:lnTo>
                <a:lnTo>
                  <a:pt x="2" y="184"/>
                </a:lnTo>
                <a:lnTo>
                  <a:pt x="0" y="206"/>
                </a:lnTo>
                <a:lnTo>
                  <a:pt x="2" y="227"/>
                </a:lnTo>
                <a:lnTo>
                  <a:pt x="6" y="248"/>
                </a:lnTo>
                <a:lnTo>
                  <a:pt x="10" y="267"/>
                </a:lnTo>
                <a:lnTo>
                  <a:pt x="17" y="286"/>
                </a:lnTo>
                <a:lnTo>
                  <a:pt x="25" y="303"/>
                </a:lnTo>
                <a:lnTo>
                  <a:pt x="37" y="321"/>
                </a:lnTo>
                <a:lnTo>
                  <a:pt x="48" y="336"/>
                </a:lnTo>
                <a:lnTo>
                  <a:pt x="61" y="351"/>
                </a:lnTo>
                <a:lnTo>
                  <a:pt x="75" y="365"/>
                </a:lnTo>
                <a:lnTo>
                  <a:pt x="92" y="376"/>
                </a:lnTo>
                <a:lnTo>
                  <a:pt x="108" y="386"/>
                </a:lnTo>
                <a:lnTo>
                  <a:pt x="127" y="395"/>
                </a:lnTo>
                <a:lnTo>
                  <a:pt x="146" y="401"/>
                </a:lnTo>
                <a:lnTo>
                  <a:pt x="165" y="407"/>
                </a:lnTo>
                <a:lnTo>
                  <a:pt x="184" y="411"/>
                </a:lnTo>
                <a:lnTo>
                  <a:pt x="205" y="411"/>
                </a:lnTo>
                <a:lnTo>
                  <a:pt x="227" y="411"/>
                </a:lnTo>
                <a:lnTo>
                  <a:pt x="244" y="407"/>
                </a:lnTo>
                <a:lnTo>
                  <a:pt x="244" y="407"/>
                </a:lnTo>
                <a:lnTo>
                  <a:pt x="244" y="405"/>
                </a:lnTo>
                <a:lnTo>
                  <a:pt x="244" y="403"/>
                </a:lnTo>
                <a:lnTo>
                  <a:pt x="244" y="403"/>
                </a:lnTo>
                <a:lnTo>
                  <a:pt x="244" y="401"/>
                </a:lnTo>
                <a:lnTo>
                  <a:pt x="242" y="399"/>
                </a:lnTo>
                <a:lnTo>
                  <a:pt x="242" y="399"/>
                </a:lnTo>
                <a:lnTo>
                  <a:pt x="242" y="397"/>
                </a:lnTo>
                <a:lnTo>
                  <a:pt x="227" y="399"/>
                </a:lnTo>
                <a:lnTo>
                  <a:pt x="205" y="401"/>
                </a:lnTo>
                <a:lnTo>
                  <a:pt x="186" y="399"/>
                </a:lnTo>
                <a:lnTo>
                  <a:pt x="167" y="397"/>
                </a:lnTo>
                <a:lnTo>
                  <a:pt x="148" y="392"/>
                </a:lnTo>
                <a:lnTo>
                  <a:pt x="131" y="386"/>
                </a:lnTo>
                <a:lnTo>
                  <a:pt x="113" y="378"/>
                </a:lnTo>
                <a:lnTo>
                  <a:pt x="98" y="367"/>
                </a:lnTo>
                <a:lnTo>
                  <a:pt x="83" y="357"/>
                </a:lnTo>
                <a:lnTo>
                  <a:pt x="67" y="344"/>
                </a:lnTo>
                <a:lnTo>
                  <a:pt x="56" y="330"/>
                </a:lnTo>
                <a:lnTo>
                  <a:pt x="44" y="315"/>
                </a:lnTo>
                <a:lnTo>
                  <a:pt x="35" y="300"/>
                </a:lnTo>
                <a:lnTo>
                  <a:pt x="27" y="282"/>
                </a:lnTo>
                <a:lnTo>
                  <a:pt x="19" y="263"/>
                </a:lnTo>
                <a:lnTo>
                  <a:pt x="15" y="246"/>
                </a:lnTo>
                <a:lnTo>
                  <a:pt x="12" y="227"/>
                </a:lnTo>
                <a:lnTo>
                  <a:pt x="12" y="206"/>
                </a:lnTo>
                <a:lnTo>
                  <a:pt x="12" y="186"/>
                </a:lnTo>
                <a:lnTo>
                  <a:pt x="15" y="167"/>
                </a:lnTo>
                <a:lnTo>
                  <a:pt x="19" y="148"/>
                </a:lnTo>
                <a:lnTo>
                  <a:pt x="27" y="131"/>
                </a:lnTo>
                <a:lnTo>
                  <a:pt x="35" y="113"/>
                </a:lnTo>
                <a:lnTo>
                  <a:pt x="44" y="96"/>
                </a:lnTo>
                <a:lnTo>
                  <a:pt x="56" y="81"/>
                </a:lnTo>
                <a:lnTo>
                  <a:pt x="67" y="67"/>
                </a:lnTo>
                <a:lnTo>
                  <a:pt x="83" y="56"/>
                </a:lnTo>
                <a:lnTo>
                  <a:pt x="98" y="44"/>
                </a:lnTo>
                <a:lnTo>
                  <a:pt x="113" y="35"/>
                </a:lnTo>
                <a:lnTo>
                  <a:pt x="131" y="25"/>
                </a:lnTo>
                <a:lnTo>
                  <a:pt x="148" y="19"/>
                </a:lnTo>
                <a:lnTo>
                  <a:pt x="167" y="16"/>
                </a:lnTo>
                <a:lnTo>
                  <a:pt x="186" y="12"/>
                </a:lnTo>
                <a:lnTo>
                  <a:pt x="205" y="10"/>
                </a:lnTo>
                <a:lnTo>
                  <a:pt x="227" y="12"/>
                </a:lnTo>
                <a:lnTo>
                  <a:pt x="240" y="14"/>
                </a:lnTo>
                <a:lnTo>
                  <a:pt x="240" y="14"/>
                </a:lnTo>
                <a:lnTo>
                  <a:pt x="240" y="12"/>
                </a:lnTo>
                <a:lnTo>
                  <a:pt x="242" y="10"/>
                </a:lnTo>
                <a:lnTo>
                  <a:pt x="242" y="10"/>
                </a:lnTo>
                <a:lnTo>
                  <a:pt x="242" y="8"/>
                </a:lnTo>
                <a:lnTo>
                  <a:pt x="242" y="6"/>
                </a:lnTo>
                <a:lnTo>
                  <a:pt x="242" y="6"/>
                </a:lnTo>
                <a:lnTo>
                  <a:pt x="242" y="4"/>
                </a:lnTo>
                <a:close/>
              </a:path>
            </a:pathLst>
          </a:custGeom>
          <a:solidFill>
            <a:srgbClr val="d8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Freeform 227"/>
          <p:cNvSpPr/>
          <p:nvPr/>
        </p:nvSpPr>
        <p:spPr>
          <a:xfrm>
            <a:off x="2071800" y="2841480"/>
            <a:ext cx="377640" cy="633600"/>
          </a:xfrm>
          <a:custGeom>
            <a:avLst/>
            <a:gdLst>
              <a:gd name="textAreaLeft" fmla="*/ 0 w 377640"/>
              <a:gd name="textAreaRight" fmla="*/ 378000 w 377640"/>
              <a:gd name="textAreaTop" fmla="*/ 0 h 633600"/>
              <a:gd name="textAreaBottom" fmla="*/ 633600 h 633600"/>
            </a:gdLst>
            <a:ahLst/>
            <a:rect l="textAreaLeft" t="textAreaTop" r="textAreaRight" b="textAreaBottom"/>
            <a:pathLst>
              <a:path w="238" h="399">
                <a:moveTo>
                  <a:pt x="236" y="4"/>
                </a:moveTo>
                <a:lnTo>
                  <a:pt x="221" y="0"/>
                </a:lnTo>
                <a:lnTo>
                  <a:pt x="199" y="0"/>
                </a:lnTo>
                <a:lnTo>
                  <a:pt x="180" y="0"/>
                </a:lnTo>
                <a:lnTo>
                  <a:pt x="159" y="4"/>
                </a:lnTo>
                <a:lnTo>
                  <a:pt x="140" y="10"/>
                </a:lnTo>
                <a:lnTo>
                  <a:pt x="123" y="15"/>
                </a:lnTo>
                <a:lnTo>
                  <a:pt x="105" y="23"/>
                </a:lnTo>
                <a:lnTo>
                  <a:pt x="88" y="35"/>
                </a:lnTo>
                <a:lnTo>
                  <a:pt x="73" y="46"/>
                </a:lnTo>
                <a:lnTo>
                  <a:pt x="59" y="58"/>
                </a:lnTo>
                <a:lnTo>
                  <a:pt x="46" y="73"/>
                </a:lnTo>
                <a:lnTo>
                  <a:pt x="34" y="88"/>
                </a:lnTo>
                <a:lnTo>
                  <a:pt x="25" y="104"/>
                </a:lnTo>
                <a:lnTo>
                  <a:pt x="15" y="123"/>
                </a:lnTo>
                <a:lnTo>
                  <a:pt x="9" y="140"/>
                </a:lnTo>
                <a:lnTo>
                  <a:pt x="4" y="159"/>
                </a:lnTo>
                <a:lnTo>
                  <a:pt x="2" y="178"/>
                </a:lnTo>
                <a:lnTo>
                  <a:pt x="0" y="200"/>
                </a:lnTo>
                <a:lnTo>
                  <a:pt x="2" y="221"/>
                </a:lnTo>
                <a:lnTo>
                  <a:pt x="4" y="240"/>
                </a:lnTo>
                <a:lnTo>
                  <a:pt x="9" y="259"/>
                </a:lnTo>
                <a:lnTo>
                  <a:pt x="15" y="278"/>
                </a:lnTo>
                <a:lnTo>
                  <a:pt x="25" y="295"/>
                </a:lnTo>
                <a:lnTo>
                  <a:pt x="34" y="311"/>
                </a:lnTo>
                <a:lnTo>
                  <a:pt x="46" y="328"/>
                </a:lnTo>
                <a:lnTo>
                  <a:pt x="59" y="341"/>
                </a:lnTo>
                <a:lnTo>
                  <a:pt x="73" y="355"/>
                </a:lnTo>
                <a:lnTo>
                  <a:pt x="88" y="366"/>
                </a:lnTo>
                <a:lnTo>
                  <a:pt x="105" y="376"/>
                </a:lnTo>
                <a:lnTo>
                  <a:pt x="123" y="384"/>
                </a:lnTo>
                <a:lnTo>
                  <a:pt x="140" y="391"/>
                </a:lnTo>
                <a:lnTo>
                  <a:pt x="159" y="395"/>
                </a:lnTo>
                <a:lnTo>
                  <a:pt x="180" y="399"/>
                </a:lnTo>
                <a:lnTo>
                  <a:pt x="199" y="399"/>
                </a:lnTo>
                <a:lnTo>
                  <a:pt x="221" y="399"/>
                </a:lnTo>
                <a:lnTo>
                  <a:pt x="238" y="397"/>
                </a:lnTo>
                <a:lnTo>
                  <a:pt x="238" y="395"/>
                </a:lnTo>
                <a:lnTo>
                  <a:pt x="238" y="393"/>
                </a:lnTo>
                <a:lnTo>
                  <a:pt x="236" y="393"/>
                </a:lnTo>
                <a:lnTo>
                  <a:pt x="236" y="391"/>
                </a:lnTo>
                <a:lnTo>
                  <a:pt x="236" y="389"/>
                </a:lnTo>
                <a:lnTo>
                  <a:pt x="236" y="389"/>
                </a:lnTo>
                <a:lnTo>
                  <a:pt x="236" y="388"/>
                </a:lnTo>
                <a:lnTo>
                  <a:pt x="236" y="386"/>
                </a:lnTo>
                <a:lnTo>
                  <a:pt x="219" y="389"/>
                </a:lnTo>
                <a:lnTo>
                  <a:pt x="199" y="389"/>
                </a:lnTo>
                <a:lnTo>
                  <a:pt x="180" y="389"/>
                </a:lnTo>
                <a:lnTo>
                  <a:pt x="161" y="386"/>
                </a:lnTo>
                <a:lnTo>
                  <a:pt x="144" y="382"/>
                </a:lnTo>
                <a:lnTo>
                  <a:pt x="126" y="374"/>
                </a:lnTo>
                <a:lnTo>
                  <a:pt x="109" y="366"/>
                </a:lnTo>
                <a:lnTo>
                  <a:pt x="94" y="357"/>
                </a:lnTo>
                <a:lnTo>
                  <a:pt x="78" y="347"/>
                </a:lnTo>
                <a:lnTo>
                  <a:pt x="65" y="334"/>
                </a:lnTo>
                <a:lnTo>
                  <a:pt x="54" y="320"/>
                </a:lnTo>
                <a:lnTo>
                  <a:pt x="42" y="305"/>
                </a:lnTo>
                <a:lnTo>
                  <a:pt x="32" y="290"/>
                </a:lnTo>
                <a:lnTo>
                  <a:pt x="25" y="274"/>
                </a:lnTo>
                <a:lnTo>
                  <a:pt x="19" y="257"/>
                </a:lnTo>
                <a:lnTo>
                  <a:pt x="13" y="238"/>
                </a:lnTo>
                <a:lnTo>
                  <a:pt x="11" y="219"/>
                </a:lnTo>
                <a:lnTo>
                  <a:pt x="9" y="200"/>
                </a:lnTo>
                <a:lnTo>
                  <a:pt x="11" y="180"/>
                </a:lnTo>
                <a:lnTo>
                  <a:pt x="13" y="161"/>
                </a:lnTo>
                <a:lnTo>
                  <a:pt x="19" y="144"/>
                </a:lnTo>
                <a:lnTo>
                  <a:pt x="25" y="127"/>
                </a:lnTo>
                <a:lnTo>
                  <a:pt x="32" y="109"/>
                </a:lnTo>
                <a:lnTo>
                  <a:pt x="42" y="94"/>
                </a:lnTo>
                <a:lnTo>
                  <a:pt x="54" y="79"/>
                </a:lnTo>
                <a:lnTo>
                  <a:pt x="65" y="65"/>
                </a:lnTo>
                <a:lnTo>
                  <a:pt x="78" y="54"/>
                </a:lnTo>
                <a:lnTo>
                  <a:pt x="94" y="42"/>
                </a:lnTo>
                <a:lnTo>
                  <a:pt x="109" y="33"/>
                </a:lnTo>
                <a:lnTo>
                  <a:pt x="126" y="25"/>
                </a:lnTo>
                <a:lnTo>
                  <a:pt x="144" y="19"/>
                </a:lnTo>
                <a:lnTo>
                  <a:pt x="161" y="13"/>
                </a:lnTo>
                <a:lnTo>
                  <a:pt x="180" y="11"/>
                </a:lnTo>
                <a:lnTo>
                  <a:pt x="199" y="10"/>
                </a:lnTo>
                <a:lnTo>
                  <a:pt x="219" y="11"/>
                </a:lnTo>
                <a:lnTo>
                  <a:pt x="234" y="13"/>
                </a:lnTo>
                <a:lnTo>
                  <a:pt x="234" y="11"/>
                </a:lnTo>
                <a:lnTo>
                  <a:pt x="234" y="11"/>
                </a:lnTo>
                <a:lnTo>
                  <a:pt x="234" y="10"/>
                </a:lnTo>
                <a:lnTo>
                  <a:pt x="234" y="8"/>
                </a:lnTo>
                <a:lnTo>
                  <a:pt x="234" y="8"/>
                </a:lnTo>
                <a:lnTo>
                  <a:pt x="234" y="6"/>
                </a:lnTo>
                <a:lnTo>
                  <a:pt x="236" y="4"/>
                </a:lnTo>
                <a:lnTo>
                  <a:pt x="236" y="4"/>
                </a:lnTo>
                <a:close/>
              </a:path>
            </a:pathLst>
          </a:custGeom>
          <a:solidFill>
            <a:srgbClr val="d9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reeform 228"/>
          <p:cNvSpPr/>
          <p:nvPr/>
        </p:nvSpPr>
        <p:spPr>
          <a:xfrm>
            <a:off x="2081160" y="2847960"/>
            <a:ext cx="365040" cy="620640"/>
          </a:xfrm>
          <a:custGeom>
            <a:avLst/>
            <a:gdLst>
              <a:gd name="textAreaLeft" fmla="*/ 0 w 365040"/>
              <a:gd name="textAreaRight" fmla="*/ 365040 w 365040"/>
              <a:gd name="textAreaTop" fmla="*/ 0 h 620640"/>
              <a:gd name="textAreaBottom" fmla="*/ 621000 h 620640"/>
            </a:gdLst>
            <a:ahLst/>
            <a:rect l="textAreaLeft" t="textAreaTop" r="textAreaRight" b="textAreaBottom"/>
            <a:pathLst>
              <a:path w="230" h="391">
                <a:moveTo>
                  <a:pt x="228" y="4"/>
                </a:moveTo>
                <a:lnTo>
                  <a:pt x="215" y="2"/>
                </a:lnTo>
                <a:lnTo>
                  <a:pt x="193" y="0"/>
                </a:lnTo>
                <a:lnTo>
                  <a:pt x="174" y="2"/>
                </a:lnTo>
                <a:lnTo>
                  <a:pt x="155" y="6"/>
                </a:lnTo>
                <a:lnTo>
                  <a:pt x="136" y="9"/>
                </a:lnTo>
                <a:lnTo>
                  <a:pt x="119" y="15"/>
                </a:lnTo>
                <a:lnTo>
                  <a:pt x="101" y="25"/>
                </a:lnTo>
                <a:lnTo>
                  <a:pt x="86" y="34"/>
                </a:lnTo>
                <a:lnTo>
                  <a:pt x="71" y="46"/>
                </a:lnTo>
                <a:lnTo>
                  <a:pt x="55" y="57"/>
                </a:lnTo>
                <a:lnTo>
                  <a:pt x="44" y="71"/>
                </a:lnTo>
                <a:lnTo>
                  <a:pt x="32" y="86"/>
                </a:lnTo>
                <a:lnTo>
                  <a:pt x="23" y="103"/>
                </a:lnTo>
                <a:lnTo>
                  <a:pt x="15" y="121"/>
                </a:lnTo>
                <a:lnTo>
                  <a:pt x="7" y="138"/>
                </a:lnTo>
                <a:lnTo>
                  <a:pt x="3" y="157"/>
                </a:lnTo>
                <a:lnTo>
                  <a:pt x="0" y="176"/>
                </a:lnTo>
                <a:lnTo>
                  <a:pt x="0" y="196"/>
                </a:lnTo>
                <a:lnTo>
                  <a:pt x="0" y="217"/>
                </a:lnTo>
                <a:lnTo>
                  <a:pt x="3" y="236"/>
                </a:lnTo>
                <a:lnTo>
                  <a:pt x="7" y="253"/>
                </a:lnTo>
                <a:lnTo>
                  <a:pt x="15" y="272"/>
                </a:lnTo>
                <a:lnTo>
                  <a:pt x="23" y="290"/>
                </a:lnTo>
                <a:lnTo>
                  <a:pt x="32" y="305"/>
                </a:lnTo>
                <a:lnTo>
                  <a:pt x="44" y="320"/>
                </a:lnTo>
                <a:lnTo>
                  <a:pt x="55" y="334"/>
                </a:lnTo>
                <a:lnTo>
                  <a:pt x="71" y="347"/>
                </a:lnTo>
                <a:lnTo>
                  <a:pt x="86" y="357"/>
                </a:lnTo>
                <a:lnTo>
                  <a:pt x="101" y="368"/>
                </a:lnTo>
                <a:lnTo>
                  <a:pt x="119" y="376"/>
                </a:lnTo>
                <a:lnTo>
                  <a:pt x="136" y="382"/>
                </a:lnTo>
                <a:lnTo>
                  <a:pt x="155" y="387"/>
                </a:lnTo>
                <a:lnTo>
                  <a:pt x="174" y="389"/>
                </a:lnTo>
                <a:lnTo>
                  <a:pt x="193" y="391"/>
                </a:lnTo>
                <a:lnTo>
                  <a:pt x="215" y="389"/>
                </a:lnTo>
                <a:lnTo>
                  <a:pt x="230" y="387"/>
                </a:lnTo>
                <a:lnTo>
                  <a:pt x="230" y="385"/>
                </a:lnTo>
                <a:lnTo>
                  <a:pt x="230" y="385"/>
                </a:lnTo>
                <a:lnTo>
                  <a:pt x="230" y="384"/>
                </a:lnTo>
                <a:lnTo>
                  <a:pt x="230" y="382"/>
                </a:lnTo>
                <a:lnTo>
                  <a:pt x="230" y="382"/>
                </a:lnTo>
                <a:lnTo>
                  <a:pt x="230" y="380"/>
                </a:lnTo>
                <a:lnTo>
                  <a:pt x="230" y="378"/>
                </a:lnTo>
                <a:lnTo>
                  <a:pt x="230" y="378"/>
                </a:lnTo>
                <a:lnTo>
                  <a:pt x="213" y="380"/>
                </a:lnTo>
                <a:lnTo>
                  <a:pt x="193" y="380"/>
                </a:lnTo>
                <a:lnTo>
                  <a:pt x="174" y="380"/>
                </a:lnTo>
                <a:lnTo>
                  <a:pt x="157" y="376"/>
                </a:lnTo>
                <a:lnTo>
                  <a:pt x="140" y="372"/>
                </a:lnTo>
                <a:lnTo>
                  <a:pt x="122" y="366"/>
                </a:lnTo>
                <a:lnTo>
                  <a:pt x="105" y="359"/>
                </a:lnTo>
                <a:lnTo>
                  <a:pt x="90" y="349"/>
                </a:lnTo>
                <a:lnTo>
                  <a:pt x="76" y="337"/>
                </a:lnTo>
                <a:lnTo>
                  <a:pt x="63" y="326"/>
                </a:lnTo>
                <a:lnTo>
                  <a:pt x="51" y="313"/>
                </a:lnTo>
                <a:lnTo>
                  <a:pt x="40" y="299"/>
                </a:lnTo>
                <a:lnTo>
                  <a:pt x="32" y="284"/>
                </a:lnTo>
                <a:lnTo>
                  <a:pt x="25" y="268"/>
                </a:lnTo>
                <a:lnTo>
                  <a:pt x="17" y="251"/>
                </a:lnTo>
                <a:lnTo>
                  <a:pt x="13" y="234"/>
                </a:lnTo>
                <a:lnTo>
                  <a:pt x="11" y="215"/>
                </a:lnTo>
                <a:lnTo>
                  <a:pt x="9" y="196"/>
                </a:lnTo>
                <a:lnTo>
                  <a:pt x="11" y="176"/>
                </a:lnTo>
                <a:lnTo>
                  <a:pt x="13" y="159"/>
                </a:lnTo>
                <a:lnTo>
                  <a:pt x="17" y="142"/>
                </a:lnTo>
                <a:lnTo>
                  <a:pt x="25" y="125"/>
                </a:lnTo>
                <a:lnTo>
                  <a:pt x="32" y="107"/>
                </a:lnTo>
                <a:lnTo>
                  <a:pt x="40" y="92"/>
                </a:lnTo>
                <a:lnTo>
                  <a:pt x="51" y="78"/>
                </a:lnTo>
                <a:lnTo>
                  <a:pt x="63" y="65"/>
                </a:lnTo>
                <a:lnTo>
                  <a:pt x="76" y="54"/>
                </a:lnTo>
                <a:lnTo>
                  <a:pt x="90" y="42"/>
                </a:lnTo>
                <a:lnTo>
                  <a:pt x="105" y="32"/>
                </a:lnTo>
                <a:lnTo>
                  <a:pt x="122" y="25"/>
                </a:lnTo>
                <a:lnTo>
                  <a:pt x="140" y="19"/>
                </a:lnTo>
                <a:lnTo>
                  <a:pt x="157" y="15"/>
                </a:lnTo>
                <a:lnTo>
                  <a:pt x="174" y="11"/>
                </a:lnTo>
                <a:lnTo>
                  <a:pt x="193" y="11"/>
                </a:lnTo>
                <a:lnTo>
                  <a:pt x="213" y="11"/>
                </a:lnTo>
                <a:lnTo>
                  <a:pt x="228" y="15"/>
                </a:lnTo>
                <a:lnTo>
                  <a:pt x="228" y="13"/>
                </a:lnTo>
                <a:lnTo>
                  <a:pt x="228" y="11"/>
                </a:lnTo>
                <a:lnTo>
                  <a:pt x="228" y="11"/>
                </a:lnTo>
                <a:lnTo>
                  <a:pt x="228" y="9"/>
                </a:lnTo>
                <a:lnTo>
                  <a:pt x="228" y="7"/>
                </a:lnTo>
                <a:lnTo>
                  <a:pt x="228" y="7"/>
                </a:lnTo>
                <a:lnTo>
                  <a:pt x="228" y="6"/>
                </a:lnTo>
                <a:lnTo>
                  <a:pt x="228" y="4"/>
                </a:lnTo>
                <a:close/>
              </a:path>
            </a:pathLst>
          </a:custGeom>
          <a:solidFill>
            <a:srgbClr val="da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Freeform 229"/>
          <p:cNvSpPr/>
          <p:nvPr/>
        </p:nvSpPr>
        <p:spPr>
          <a:xfrm>
            <a:off x="2085840" y="2857680"/>
            <a:ext cx="360360" cy="601560"/>
          </a:xfrm>
          <a:custGeom>
            <a:avLst/>
            <a:gdLst>
              <a:gd name="textAreaLeft" fmla="*/ 0 w 360360"/>
              <a:gd name="textAreaRight" fmla="*/ 360720 w 36036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227" h="379">
                <a:moveTo>
                  <a:pt x="225" y="3"/>
                </a:moveTo>
                <a:lnTo>
                  <a:pt x="210" y="1"/>
                </a:lnTo>
                <a:lnTo>
                  <a:pt x="190" y="0"/>
                </a:lnTo>
                <a:lnTo>
                  <a:pt x="171" y="1"/>
                </a:lnTo>
                <a:lnTo>
                  <a:pt x="152" y="3"/>
                </a:lnTo>
                <a:lnTo>
                  <a:pt x="135" y="9"/>
                </a:lnTo>
                <a:lnTo>
                  <a:pt x="117" y="15"/>
                </a:lnTo>
                <a:lnTo>
                  <a:pt x="100" y="23"/>
                </a:lnTo>
                <a:lnTo>
                  <a:pt x="85" y="32"/>
                </a:lnTo>
                <a:lnTo>
                  <a:pt x="69" y="44"/>
                </a:lnTo>
                <a:lnTo>
                  <a:pt x="56" y="55"/>
                </a:lnTo>
                <a:lnTo>
                  <a:pt x="45" y="69"/>
                </a:lnTo>
                <a:lnTo>
                  <a:pt x="33" y="84"/>
                </a:lnTo>
                <a:lnTo>
                  <a:pt x="23" y="99"/>
                </a:lnTo>
                <a:lnTo>
                  <a:pt x="16" y="117"/>
                </a:lnTo>
                <a:lnTo>
                  <a:pt x="10" y="134"/>
                </a:lnTo>
                <a:lnTo>
                  <a:pt x="4" y="151"/>
                </a:lnTo>
                <a:lnTo>
                  <a:pt x="2" y="170"/>
                </a:lnTo>
                <a:lnTo>
                  <a:pt x="0" y="190"/>
                </a:lnTo>
                <a:lnTo>
                  <a:pt x="2" y="209"/>
                </a:lnTo>
                <a:lnTo>
                  <a:pt x="4" y="228"/>
                </a:lnTo>
                <a:lnTo>
                  <a:pt x="10" y="247"/>
                </a:lnTo>
                <a:lnTo>
                  <a:pt x="16" y="264"/>
                </a:lnTo>
                <a:lnTo>
                  <a:pt x="23" y="280"/>
                </a:lnTo>
                <a:lnTo>
                  <a:pt x="33" y="295"/>
                </a:lnTo>
                <a:lnTo>
                  <a:pt x="45" y="310"/>
                </a:lnTo>
                <a:lnTo>
                  <a:pt x="56" y="324"/>
                </a:lnTo>
                <a:lnTo>
                  <a:pt x="69" y="337"/>
                </a:lnTo>
                <a:lnTo>
                  <a:pt x="85" y="347"/>
                </a:lnTo>
                <a:lnTo>
                  <a:pt x="100" y="356"/>
                </a:lnTo>
                <a:lnTo>
                  <a:pt x="117" y="364"/>
                </a:lnTo>
                <a:lnTo>
                  <a:pt x="135" y="372"/>
                </a:lnTo>
                <a:lnTo>
                  <a:pt x="152" y="376"/>
                </a:lnTo>
                <a:lnTo>
                  <a:pt x="171" y="379"/>
                </a:lnTo>
                <a:lnTo>
                  <a:pt x="190" y="379"/>
                </a:lnTo>
                <a:lnTo>
                  <a:pt x="210" y="379"/>
                </a:lnTo>
                <a:lnTo>
                  <a:pt x="227" y="376"/>
                </a:lnTo>
                <a:lnTo>
                  <a:pt x="227" y="376"/>
                </a:lnTo>
                <a:lnTo>
                  <a:pt x="227" y="374"/>
                </a:lnTo>
                <a:lnTo>
                  <a:pt x="227" y="372"/>
                </a:lnTo>
                <a:lnTo>
                  <a:pt x="227" y="372"/>
                </a:lnTo>
                <a:lnTo>
                  <a:pt x="227" y="370"/>
                </a:lnTo>
                <a:lnTo>
                  <a:pt x="227" y="368"/>
                </a:lnTo>
                <a:lnTo>
                  <a:pt x="227" y="368"/>
                </a:lnTo>
                <a:lnTo>
                  <a:pt x="227" y="366"/>
                </a:lnTo>
                <a:lnTo>
                  <a:pt x="210" y="368"/>
                </a:lnTo>
                <a:lnTo>
                  <a:pt x="190" y="370"/>
                </a:lnTo>
                <a:lnTo>
                  <a:pt x="173" y="368"/>
                </a:lnTo>
                <a:lnTo>
                  <a:pt x="154" y="366"/>
                </a:lnTo>
                <a:lnTo>
                  <a:pt x="137" y="362"/>
                </a:lnTo>
                <a:lnTo>
                  <a:pt x="121" y="355"/>
                </a:lnTo>
                <a:lnTo>
                  <a:pt x="106" y="347"/>
                </a:lnTo>
                <a:lnTo>
                  <a:pt x="91" y="339"/>
                </a:lnTo>
                <a:lnTo>
                  <a:pt x="77" y="328"/>
                </a:lnTo>
                <a:lnTo>
                  <a:pt x="64" y="316"/>
                </a:lnTo>
                <a:lnTo>
                  <a:pt x="52" y="305"/>
                </a:lnTo>
                <a:lnTo>
                  <a:pt x="43" y="289"/>
                </a:lnTo>
                <a:lnTo>
                  <a:pt x="33" y="276"/>
                </a:lnTo>
                <a:lnTo>
                  <a:pt x="25" y="261"/>
                </a:lnTo>
                <a:lnTo>
                  <a:pt x="20" y="243"/>
                </a:lnTo>
                <a:lnTo>
                  <a:pt x="16" y="226"/>
                </a:lnTo>
                <a:lnTo>
                  <a:pt x="12" y="209"/>
                </a:lnTo>
                <a:lnTo>
                  <a:pt x="12" y="190"/>
                </a:lnTo>
                <a:lnTo>
                  <a:pt x="12" y="172"/>
                </a:lnTo>
                <a:lnTo>
                  <a:pt x="16" y="153"/>
                </a:lnTo>
                <a:lnTo>
                  <a:pt x="20" y="136"/>
                </a:lnTo>
                <a:lnTo>
                  <a:pt x="25" y="120"/>
                </a:lnTo>
                <a:lnTo>
                  <a:pt x="33" y="105"/>
                </a:lnTo>
                <a:lnTo>
                  <a:pt x="43" y="90"/>
                </a:lnTo>
                <a:lnTo>
                  <a:pt x="52" y="76"/>
                </a:lnTo>
                <a:lnTo>
                  <a:pt x="64" y="63"/>
                </a:lnTo>
                <a:lnTo>
                  <a:pt x="77" y="51"/>
                </a:lnTo>
                <a:lnTo>
                  <a:pt x="91" y="42"/>
                </a:lnTo>
                <a:lnTo>
                  <a:pt x="106" y="32"/>
                </a:lnTo>
                <a:lnTo>
                  <a:pt x="121" y="25"/>
                </a:lnTo>
                <a:lnTo>
                  <a:pt x="137" y="19"/>
                </a:lnTo>
                <a:lnTo>
                  <a:pt x="154" y="13"/>
                </a:lnTo>
                <a:lnTo>
                  <a:pt x="173" y="11"/>
                </a:lnTo>
                <a:lnTo>
                  <a:pt x="190" y="11"/>
                </a:lnTo>
                <a:lnTo>
                  <a:pt x="210" y="11"/>
                </a:lnTo>
                <a:lnTo>
                  <a:pt x="225" y="13"/>
                </a:lnTo>
                <a:lnTo>
                  <a:pt x="225" y="13"/>
                </a:lnTo>
                <a:lnTo>
                  <a:pt x="225" y="11"/>
                </a:lnTo>
                <a:lnTo>
                  <a:pt x="225" y="9"/>
                </a:lnTo>
                <a:lnTo>
                  <a:pt x="225" y="9"/>
                </a:lnTo>
                <a:lnTo>
                  <a:pt x="225" y="7"/>
                </a:lnTo>
                <a:lnTo>
                  <a:pt x="225" y="5"/>
                </a:lnTo>
                <a:lnTo>
                  <a:pt x="225" y="5"/>
                </a:lnTo>
                <a:lnTo>
                  <a:pt x="225" y="3"/>
                </a:lnTo>
                <a:close/>
              </a:path>
            </a:pathLst>
          </a:custGeom>
          <a:solidFill>
            <a:srgbClr val="db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reeform 230"/>
          <p:cNvSpPr/>
          <p:nvPr/>
        </p:nvSpPr>
        <p:spPr>
          <a:xfrm>
            <a:off x="2095560" y="2865600"/>
            <a:ext cx="350640" cy="585720"/>
          </a:xfrm>
          <a:custGeom>
            <a:avLst/>
            <a:gdLst>
              <a:gd name="textAreaLeft" fmla="*/ 0 w 350640"/>
              <a:gd name="textAreaRight" fmla="*/ 351000 w 350640"/>
              <a:gd name="textAreaTop" fmla="*/ 0 h 585720"/>
              <a:gd name="textAreaBottom" fmla="*/ 585720 h 585720"/>
            </a:gdLst>
            <a:ahLst/>
            <a:rect l="textAreaLeft" t="textAreaTop" r="textAreaRight" b="textAreaBottom"/>
            <a:pathLst>
              <a:path w="221" h="369">
                <a:moveTo>
                  <a:pt x="219" y="4"/>
                </a:moveTo>
                <a:lnTo>
                  <a:pt x="204" y="0"/>
                </a:lnTo>
                <a:lnTo>
                  <a:pt x="184" y="0"/>
                </a:lnTo>
                <a:lnTo>
                  <a:pt x="165" y="0"/>
                </a:lnTo>
                <a:lnTo>
                  <a:pt x="148" y="4"/>
                </a:lnTo>
                <a:lnTo>
                  <a:pt x="131" y="8"/>
                </a:lnTo>
                <a:lnTo>
                  <a:pt x="113" y="14"/>
                </a:lnTo>
                <a:lnTo>
                  <a:pt x="96" y="21"/>
                </a:lnTo>
                <a:lnTo>
                  <a:pt x="81" y="31"/>
                </a:lnTo>
                <a:lnTo>
                  <a:pt x="67" y="43"/>
                </a:lnTo>
                <a:lnTo>
                  <a:pt x="54" y="54"/>
                </a:lnTo>
                <a:lnTo>
                  <a:pt x="42" y="67"/>
                </a:lnTo>
                <a:lnTo>
                  <a:pt x="31" y="81"/>
                </a:lnTo>
                <a:lnTo>
                  <a:pt x="23" y="96"/>
                </a:lnTo>
                <a:lnTo>
                  <a:pt x="16" y="114"/>
                </a:lnTo>
                <a:lnTo>
                  <a:pt x="8" y="131"/>
                </a:lnTo>
                <a:lnTo>
                  <a:pt x="4" y="148"/>
                </a:lnTo>
                <a:lnTo>
                  <a:pt x="2" y="165"/>
                </a:lnTo>
                <a:lnTo>
                  <a:pt x="0" y="185"/>
                </a:lnTo>
                <a:lnTo>
                  <a:pt x="2" y="204"/>
                </a:lnTo>
                <a:lnTo>
                  <a:pt x="4" y="223"/>
                </a:lnTo>
                <a:lnTo>
                  <a:pt x="8" y="240"/>
                </a:lnTo>
                <a:lnTo>
                  <a:pt x="16" y="257"/>
                </a:lnTo>
                <a:lnTo>
                  <a:pt x="23" y="273"/>
                </a:lnTo>
                <a:lnTo>
                  <a:pt x="31" y="288"/>
                </a:lnTo>
                <a:lnTo>
                  <a:pt x="42" y="302"/>
                </a:lnTo>
                <a:lnTo>
                  <a:pt x="54" y="315"/>
                </a:lnTo>
                <a:lnTo>
                  <a:pt x="67" y="326"/>
                </a:lnTo>
                <a:lnTo>
                  <a:pt x="81" y="338"/>
                </a:lnTo>
                <a:lnTo>
                  <a:pt x="96" y="348"/>
                </a:lnTo>
                <a:lnTo>
                  <a:pt x="113" y="355"/>
                </a:lnTo>
                <a:lnTo>
                  <a:pt x="131" y="361"/>
                </a:lnTo>
                <a:lnTo>
                  <a:pt x="148" y="365"/>
                </a:lnTo>
                <a:lnTo>
                  <a:pt x="165" y="369"/>
                </a:lnTo>
                <a:lnTo>
                  <a:pt x="184" y="369"/>
                </a:lnTo>
                <a:lnTo>
                  <a:pt x="204" y="369"/>
                </a:lnTo>
                <a:lnTo>
                  <a:pt x="221" y="367"/>
                </a:lnTo>
                <a:lnTo>
                  <a:pt x="221" y="365"/>
                </a:lnTo>
                <a:lnTo>
                  <a:pt x="221" y="363"/>
                </a:lnTo>
                <a:lnTo>
                  <a:pt x="221" y="363"/>
                </a:lnTo>
                <a:lnTo>
                  <a:pt x="221" y="361"/>
                </a:lnTo>
                <a:lnTo>
                  <a:pt x="221" y="359"/>
                </a:lnTo>
                <a:lnTo>
                  <a:pt x="221" y="359"/>
                </a:lnTo>
                <a:lnTo>
                  <a:pt x="221" y="357"/>
                </a:lnTo>
                <a:lnTo>
                  <a:pt x="219" y="355"/>
                </a:lnTo>
                <a:lnTo>
                  <a:pt x="204" y="359"/>
                </a:lnTo>
                <a:lnTo>
                  <a:pt x="184" y="359"/>
                </a:lnTo>
                <a:lnTo>
                  <a:pt x="167" y="359"/>
                </a:lnTo>
                <a:lnTo>
                  <a:pt x="150" y="355"/>
                </a:lnTo>
                <a:lnTo>
                  <a:pt x="133" y="351"/>
                </a:lnTo>
                <a:lnTo>
                  <a:pt x="117" y="346"/>
                </a:lnTo>
                <a:lnTo>
                  <a:pt x="102" y="338"/>
                </a:lnTo>
                <a:lnTo>
                  <a:pt x="87" y="330"/>
                </a:lnTo>
                <a:lnTo>
                  <a:pt x="73" y="319"/>
                </a:lnTo>
                <a:lnTo>
                  <a:pt x="62" y="307"/>
                </a:lnTo>
                <a:lnTo>
                  <a:pt x="50" y="296"/>
                </a:lnTo>
                <a:lnTo>
                  <a:pt x="40" y="282"/>
                </a:lnTo>
                <a:lnTo>
                  <a:pt x="31" y="267"/>
                </a:lnTo>
                <a:lnTo>
                  <a:pt x="25" y="254"/>
                </a:lnTo>
                <a:lnTo>
                  <a:pt x="17" y="236"/>
                </a:lnTo>
                <a:lnTo>
                  <a:pt x="14" y="219"/>
                </a:lnTo>
                <a:lnTo>
                  <a:pt x="12" y="202"/>
                </a:lnTo>
                <a:lnTo>
                  <a:pt x="10" y="185"/>
                </a:lnTo>
                <a:lnTo>
                  <a:pt x="12" y="167"/>
                </a:lnTo>
                <a:lnTo>
                  <a:pt x="14" y="150"/>
                </a:lnTo>
                <a:lnTo>
                  <a:pt x="17" y="133"/>
                </a:lnTo>
                <a:lnTo>
                  <a:pt x="25" y="117"/>
                </a:lnTo>
                <a:lnTo>
                  <a:pt x="31" y="102"/>
                </a:lnTo>
                <a:lnTo>
                  <a:pt x="40" y="87"/>
                </a:lnTo>
                <a:lnTo>
                  <a:pt x="50" y="73"/>
                </a:lnTo>
                <a:lnTo>
                  <a:pt x="62" y="62"/>
                </a:lnTo>
                <a:lnTo>
                  <a:pt x="73" y="50"/>
                </a:lnTo>
                <a:lnTo>
                  <a:pt x="87" y="41"/>
                </a:lnTo>
                <a:lnTo>
                  <a:pt x="102" y="31"/>
                </a:lnTo>
                <a:lnTo>
                  <a:pt x="117" y="23"/>
                </a:lnTo>
                <a:lnTo>
                  <a:pt x="133" y="18"/>
                </a:lnTo>
                <a:lnTo>
                  <a:pt x="150" y="14"/>
                </a:lnTo>
                <a:lnTo>
                  <a:pt x="167" y="12"/>
                </a:lnTo>
                <a:lnTo>
                  <a:pt x="184" y="10"/>
                </a:lnTo>
                <a:lnTo>
                  <a:pt x="204" y="12"/>
                </a:lnTo>
                <a:lnTo>
                  <a:pt x="219" y="14"/>
                </a:lnTo>
                <a:lnTo>
                  <a:pt x="219" y="12"/>
                </a:lnTo>
                <a:lnTo>
                  <a:pt x="219" y="12"/>
                </a:lnTo>
                <a:lnTo>
                  <a:pt x="219" y="10"/>
                </a:lnTo>
                <a:lnTo>
                  <a:pt x="219" y="8"/>
                </a:lnTo>
                <a:lnTo>
                  <a:pt x="219" y="8"/>
                </a:lnTo>
                <a:lnTo>
                  <a:pt x="219" y="6"/>
                </a:lnTo>
                <a:lnTo>
                  <a:pt x="219" y="4"/>
                </a:lnTo>
                <a:lnTo>
                  <a:pt x="219" y="4"/>
                </a:lnTo>
                <a:close/>
              </a:path>
            </a:pathLst>
          </a:custGeom>
          <a:solidFill>
            <a:srgbClr val="dc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Freeform 231"/>
          <p:cNvSpPr/>
          <p:nvPr/>
        </p:nvSpPr>
        <p:spPr>
          <a:xfrm>
            <a:off x="2104920" y="2874960"/>
            <a:ext cx="341280" cy="569880"/>
          </a:xfrm>
          <a:custGeom>
            <a:avLst/>
            <a:gdLst>
              <a:gd name="textAreaLeft" fmla="*/ 0 w 341280"/>
              <a:gd name="textAreaRight" fmla="*/ 341640 w 34128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215" h="359">
                <a:moveTo>
                  <a:pt x="213" y="2"/>
                </a:moveTo>
                <a:lnTo>
                  <a:pt x="198" y="0"/>
                </a:lnTo>
                <a:lnTo>
                  <a:pt x="178" y="0"/>
                </a:lnTo>
                <a:lnTo>
                  <a:pt x="161" y="0"/>
                </a:lnTo>
                <a:lnTo>
                  <a:pt x="142" y="2"/>
                </a:lnTo>
                <a:lnTo>
                  <a:pt x="125" y="8"/>
                </a:lnTo>
                <a:lnTo>
                  <a:pt x="109" y="14"/>
                </a:lnTo>
                <a:lnTo>
                  <a:pt x="94" y="21"/>
                </a:lnTo>
                <a:lnTo>
                  <a:pt x="79" y="31"/>
                </a:lnTo>
                <a:lnTo>
                  <a:pt x="65" y="40"/>
                </a:lnTo>
                <a:lnTo>
                  <a:pt x="52" y="52"/>
                </a:lnTo>
                <a:lnTo>
                  <a:pt x="40" y="65"/>
                </a:lnTo>
                <a:lnTo>
                  <a:pt x="31" y="79"/>
                </a:lnTo>
                <a:lnTo>
                  <a:pt x="21" y="94"/>
                </a:lnTo>
                <a:lnTo>
                  <a:pt x="13" y="109"/>
                </a:lnTo>
                <a:lnTo>
                  <a:pt x="8" y="125"/>
                </a:lnTo>
                <a:lnTo>
                  <a:pt x="4" y="142"/>
                </a:lnTo>
                <a:lnTo>
                  <a:pt x="0" y="161"/>
                </a:lnTo>
                <a:lnTo>
                  <a:pt x="0" y="179"/>
                </a:lnTo>
                <a:lnTo>
                  <a:pt x="0" y="198"/>
                </a:lnTo>
                <a:lnTo>
                  <a:pt x="4" y="215"/>
                </a:lnTo>
                <a:lnTo>
                  <a:pt x="8" y="232"/>
                </a:lnTo>
                <a:lnTo>
                  <a:pt x="13" y="250"/>
                </a:lnTo>
                <a:lnTo>
                  <a:pt x="21" y="265"/>
                </a:lnTo>
                <a:lnTo>
                  <a:pt x="31" y="278"/>
                </a:lnTo>
                <a:lnTo>
                  <a:pt x="40" y="294"/>
                </a:lnTo>
                <a:lnTo>
                  <a:pt x="52" y="305"/>
                </a:lnTo>
                <a:lnTo>
                  <a:pt x="65" y="317"/>
                </a:lnTo>
                <a:lnTo>
                  <a:pt x="79" y="328"/>
                </a:lnTo>
                <a:lnTo>
                  <a:pt x="94" y="336"/>
                </a:lnTo>
                <a:lnTo>
                  <a:pt x="109" y="344"/>
                </a:lnTo>
                <a:lnTo>
                  <a:pt x="125" y="351"/>
                </a:lnTo>
                <a:lnTo>
                  <a:pt x="142" y="355"/>
                </a:lnTo>
                <a:lnTo>
                  <a:pt x="161" y="357"/>
                </a:lnTo>
                <a:lnTo>
                  <a:pt x="178" y="359"/>
                </a:lnTo>
                <a:lnTo>
                  <a:pt x="198" y="357"/>
                </a:lnTo>
                <a:lnTo>
                  <a:pt x="215" y="355"/>
                </a:lnTo>
                <a:lnTo>
                  <a:pt x="215" y="353"/>
                </a:lnTo>
                <a:lnTo>
                  <a:pt x="215" y="353"/>
                </a:lnTo>
                <a:lnTo>
                  <a:pt x="215" y="351"/>
                </a:lnTo>
                <a:lnTo>
                  <a:pt x="213" y="349"/>
                </a:lnTo>
                <a:lnTo>
                  <a:pt x="213" y="349"/>
                </a:lnTo>
                <a:lnTo>
                  <a:pt x="213" y="347"/>
                </a:lnTo>
                <a:lnTo>
                  <a:pt x="213" y="345"/>
                </a:lnTo>
                <a:lnTo>
                  <a:pt x="213" y="345"/>
                </a:lnTo>
                <a:lnTo>
                  <a:pt x="213" y="345"/>
                </a:lnTo>
                <a:lnTo>
                  <a:pt x="196" y="347"/>
                </a:lnTo>
                <a:lnTo>
                  <a:pt x="178" y="347"/>
                </a:lnTo>
                <a:lnTo>
                  <a:pt x="161" y="347"/>
                </a:lnTo>
                <a:lnTo>
                  <a:pt x="146" y="345"/>
                </a:lnTo>
                <a:lnTo>
                  <a:pt x="129" y="340"/>
                </a:lnTo>
                <a:lnTo>
                  <a:pt x="113" y="334"/>
                </a:lnTo>
                <a:lnTo>
                  <a:pt x="98" y="328"/>
                </a:lnTo>
                <a:lnTo>
                  <a:pt x="84" y="319"/>
                </a:lnTo>
                <a:lnTo>
                  <a:pt x="71" y="309"/>
                </a:lnTo>
                <a:lnTo>
                  <a:pt x="59" y="299"/>
                </a:lnTo>
                <a:lnTo>
                  <a:pt x="48" y="286"/>
                </a:lnTo>
                <a:lnTo>
                  <a:pt x="38" y="273"/>
                </a:lnTo>
                <a:lnTo>
                  <a:pt x="31" y="259"/>
                </a:lnTo>
                <a:lnTo>
                  <a:pt x="23" y="246"/>
                </a:lnTo>
                <a:lnTo>
                  <a:pt x="17" y="228"/>
                </a:lnTo>
                <a:lnTo>
                  <a:pt x="13" y="213"/>
                </a:lnTo>
                <a:lnTo>
                  <a:pt x="11" y="196"/>
                </a:lnTo>
                <a:lnTo>
                  <a:pt x="10" y="179"/>
                </a:lnTo>
                <a:lnTo>
                  <a:pt x="11" y="161"/>
                </a:lnTo>
                <a:lnTo>
                  <a:pt x="13" y="144"/>
                </a:lnTo>
                <a:lnTo>
                  <a:pt x="17" y="129"/>
                </a:lnTo>
                <a:lnTo>
                  <a:pt x="23" y="113"/>
                </a:lnTo>
                <a:lnTo>
                  <a:pt x="31" y="98"/>
                </a:lnTo>
                <a:lnTo>
                  <a:pt x="38" y="85"/>
                </a:lnTo>
                <a:lnTo>
                  <a:pt x="48" y="71"/>
                </a:lnTo>
                <a:lnTo>
                  <a:pt x="59" y="60"/>
                </a:lnTo>
                <a:lnTo>
                  <a:pt x="71" y="48"/>
                </a:lnTo>
                <a:lnTo>
                  <a:pt x="84" y="38"/>
                </a:lnTo>
                <a:lnTo>
                  <a:pt x="98" y="31"/>
                </a:lnTo>
                <a:lnTo>
                  <a:pt x="113" y="23"/>
                </a:lnTo>
                <a:lnTo>
                  <a:pt x="129" y="17"/>
                </a:lnTo>
                <a:lnTo>
                  <a:pt x="146" y="14"/>
                </a:lnTo>
                <a:lnTo>
                  <a:pt x="161" y="10"/>
                </a:lnTo>
                <a:lnTo>
                  <a:pt x="178" y="10"/>
                </a:lnTo>
                <a:lnTo>
                  <a:pt x="196" y="10"/>
                </a:lnTo>
                <a:lnTo>
                  <a:pt x="211" y="14"/>
                </a:lnTo>
                <a:lnTo>
                  <a:pt x="211" y="12"/>
                </a:lnTo>
                <a:lnTo>
                  <a:pt x="211" y="10"/>
                </a:lnTo>
                <a:lnTo>
                  <a:pt x="211" y="10"/>
                </a:lnTo>
                <a:lnTo>
                  <a:pt x="213" y="8"/>
                </a:lnTo>
                <a:lnTo>
                  <a:pt x="213" y="6"/>
                </a:lnTo>
                <a:lnTo>
                  <a:pt x="213" y="6"/>
                </a:lnTo>
                <a:lnTo>
                  <a:pt x="213" y="4"/>
                </a:lnTo>
                <a:lnTo>
                  <a:pt x="213" y="2"/>
                </a:lnTo>
                <a:close/>
              </a:path>
            </a:pathLst>
          </a:custGeom>
          <a:solidFill>
            <a:srgbClr val="dd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Freeform 232"/>
          <p:cNvSpPr/>
          <p:nvPr/>
        </p:nvSpPr>
        <p:spPr>
          <a:xfrm>
            <a:off x="2111400" y="2881440"/>
            <a:ext cx="331920" cy="554040"/>
          </a:xfrm>
          <a:custGeom>
            <a:avLst/>
            <a:gdLst>
              <a:gd name="textAreaLeft" fmla="*/ 0 w 331920"/>
              <a:gd name="textAreaRight" fmla="*/ 332280 w 33192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209" h="349">
                <a:moveTo>
                  <a:pt x="209" y="4"/>
                </a:moveTo>
                <a:lnTo>
                  <a:pt x="194" y="2"/>
                </a:lnTo>
                <a:lnTo>
                  <a:pt x="174" y="0"/>
                </a:lnTo>
                <a:lnTo>
                  <a:pt x="157" y="2"/>
                </a:lnTo>
                <a:lnTo>
                  <a:pt x="140" y="4"/>
                </a:lnTo>
                <a:lnTo>
                  <a:pt x="123" y="8"/>
                </a:lnTo>
                <a:lnTo>
                  <a:pt x="107" y="13"/>
                </a:lnTo>
                <a:lnTo>
                  <a:pt x="92" y="21"/>
                </a:lnTo>
                <a:lnTo>
                  <a:pt x="77" y="31"/>
                </a:lnTo>
                <a:lnTo>
                  <a:pt x="63" y="40"/>
                </a:lnTo>
                <a:lnTo>
                  <a:pt x="52" y="52"/>
                </a:lnTo>
                <a:lnTo>
                  <a:pt x="40" y="63"/>
                </a:lnTo>
                <a:lnTo>
                  <a:pt x="30" y="77"/>
                </a:lnTo>
                <a:lnTo>
                  <a:pt x="21" y="92"/>
                </a:lnTo>
                <a:lnTo>
                  <a:pt x="15" y="107"/>
                </a:lnTo>
                <a:lnTo>
                  <a:pt x="7" y="123"/>
                </a:lnTo>
                <a:lnTo>
                  <a:pt x="4" y="140"/>
                </a:lnTo>
                <a:lnTo>
                  <a:pt x="2" y="157"/>
                </a:lnTo>
                <a:lnTo>
                  <a:pt x="0" y="175"/>
                </a:lnTo>
                <a:lnTo>
                  <a:pt x="2" y="192"/>
                </a:lnTo>
                <a:lnTo>
                  <a:pt x="4" y="209"/>
                </a:lnTo>
                <a:lnTo>
                  <a:pt x="7" y="226"/>
                </a:lnTo>
                <a:lnTo>
                  <a:pt x="15" y="244"/>
                </a:lnTo>
                <a:lnTo>
                  <a:pt x="21" y="257"/>
                </a:lnTo>
                <a:lnTo>
                  <a:pt x="30" y="272"/>
                </a:lnTo>
                <a:lnTo>
                  <a:pt x="40" y="286"/>
                </a:lnTo>
                <a:lnTo>
                  <a:pt x="52" y="297"/>
                </a:lnTo>
                <a:lnTo>
                  <a:pt x="63" y="309"/>
                </a:lnTo>
                <a:lnTo>
                  <a:pt x="77" y="320"/>
                </a:lnTo>
                <a:lnTo>
                  <a:pt x="92" y="328"/>
                </a:lnTo>
                <a:lnTo>
                  <a:pt x="107" y="336"/>
                </a:lnTo>
                <a:lnTo>
                  <a:pt x="123" y="341"/>
                </a:lnTo>
                <a:lnTo>
                  <a:pt x="140" y="345"/>
                </a:lnTo>
                <a:lnTo>
                  <a:pt x="157" y="349"/>
                </a:lnTo>
                <a:lnTo>
                  <a:pt x="174" y="349"/>
                </a:lnTo>
                <a:lnTo>
                  <a:pt x="194" y="349"/>
                </a:lnTo>
                <a:lnTo>
                  <a:pt x="209" y="345"/>
                </a:lnTo>
                <a:lnTo>
                  <a:pt x="209" y="345"/>
                </a:lnTo>
                <a:lnTo>
                  <a:pt x="209" y="343"/>
                </a:lnTo>
                <a:lnTo>
                  <a:pt x="209" y="341"/>
                </a:lnTo>
                <a:lnTo>
                  <a:pt x="209" y="341"/>
                </a:lnTo>
                <a:lnTo>
                  <a:pt x="209" y="340"/>
                </a:lnTo>
                <a:lnTo>
                  <a:pt x="209" y="338"/>
                </a:lnTo>
                <a:lnTo>
                  <a:pt x="209" y="338"/>
                </a:lnTo>
                <a:lnTo>
                  <a:pt x="209" y="336"/>
                </a:lnTo>
                <a:lnTo>
                  <a:pt x="209" y="336"/>
                </a:lnTo>
                <a:lnTo>
                  <a:pt x="192" y="338"/>
                </a:lnTo>
                <a:lnTo>
                  <a:pt x="174" y="340"/>
                </a:lnTo>
                <a:lnTo>
                  <a:pt x="159" y="338"/>
                </a:lnTo>
                <a:lnTo>
                  <a:pt x="142" y="336"/>
                </a:lnTo>
                <a:lnTo>
                  <a:pt x="126" y="332"/>
                </a:lnTo>
                <a:lnTo>
                  <a:pt x="111" y="326"/>
                </a:lnTo>
                <a:lnTo>
                  <a:pt x="98" y="318"/>
                </a:lnTo>
                <a:lnTo>
                  <a:pt x="82" y="311"/>
                </a:lnTo>
                <a:lnTo>
                  <a:pt x="71" y="301"/>
                </a:lnTo>
                <a:lnTo>
                  <a:pt x="59" y="292"/>
                </a:lnTo>
                <a:lnTo>
                  <a:pt x="48" y="280"/>
                </a:lnTo>
                <a:lnTo>
                  <a:pt x="38" y="267"/>
                </a:lnTo>
                <a:lnTo>
                  <a:pt x="30" y="253"/>
                </a:lnTo>
                <a:lnTo>
                  <a:pt x="23" y="238"/>
                </a:lnTo>
                <a:lnTo>
                  <a:pt x="19" y="224"/>
                </a:lnTo>
                <a:lnTo>
                  <a:pt x="13" y="207"/>
                </a:lnTo>
                <a:lnTo>
                  <a:pt x="11" y="192"/>
                </a:lnTo>
                <a:lnTo>
                  <a:pt x="11" y="175"/>
                </a:lnTo>
                <a:lnTo>
                  <a:pt x="11" y="157"/>
                </a:lnTo>
                <a:lnTo>
                  <a:pt x="13" y="142"/>
                </a:lnTo>
                <a:lnTo>
                  <a:pt x="19" y="127"/>
                </a:lnTo>
                <a:lnTo>
                  <a:pt x="23" y="111"/>
                </a:lnTo>
                <a:lnTo>
                  <a:pt x="30" y="96"/>
                </a:lnTo>
                <a:lnTo>
                  <a:pt x="38" y="82"/>
                </a:lnTo>
                <a:lnTo>
                  <a:pt x="48" y="71"/>
                </a:lnTo>
                <a:lnTo>
                  <a:pt x="59" y="59"/>
                </a:lnTo>
                <a:lnTo>
                  <a:pt x="71" y="48"/>
                </a:lnTo>
                <a:lnTo>
                  <a:pt x="82" y="38"/>
                </a:lnTo>
                <a:lnTo>
                  <a:pt x="98" y="31"/>
                </a:lnTo>
                <a:lnTo>
                  <a:pt x="111" y="23"/>
                </a:lnTo>
                <a:lnTo>
                  <a:pt x="126" y="17"/>
                </a:lnTo>
                <a:lnTo>
                  <a:pt x="142" y="13"/>
                </a:lnTo>
                <a:lnTo>
                  <a:pt x="159" y="11"/>
                </a:lnTo>
                <a:lnTo>
                  <a:pt x="174" y="11"/>
                </a:lnTo>
                <a:lnTo>
                  <a:pt x="192" y="11"/>
                </a:lnTo>
                <a:lnTo>
                  <a:pt x="207" y="13"/>
                </a:lnTo>
                <a:lnTo>
                  <a:pt x="207" y="13"/>
                </a:lnTo>
                <a:lnTo>
                  <a:pt x="207" y="11"/>
                </a:lnTo>
                <a:lnTo>
                  <a:pt x="207" y="10"/>
                </a:lnTo>
                <a:lnTo>
                  <a:pt x="207" y="10"/>
                </a:lnTo>
                <a:lnTo>
                  <a:pt x="207" y="8"/>
                </a:lnTo>
                <a:lnTo>
                  <a:pt x="207" y="6"/>
                </a:lnTo>
                <a:lnTo>
                  <a:pt x="207" y="6"/>
                </a:lnTo>
                <a:lnTo>
                  <a:pt x="209" y="4"/>
                </a:lnTo>
                <a:close/>
              </a:path>
            </a:pathLst>
          </a:custGeom>
          <a:solidFill>
            <a:srgbClr val="de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Freeform 233"/>
          <p:cNvSpPr/>
          <p:nvPr/>
        </p:nvSpPr>
        <p:spPr>
          <a:xfrm>
            <a:off x="2120760" y="2890800"/>
            <a:ext cx="322560" cy="534960"/>
          </a:xfrm>
          <a:custGeom>
            <a:avLst/>
            <a:gdLst>
              <a:gd name="textAreaLeft" fmla="*/ 0 w 322560"/>
              <a:gd name="textAreaRight" fmla="*/ 322920 w 32256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203" h="337">
                <a:moveTo>
                  <a:pt x="201" y="4"/>
                </a:moveTo>
                <a:lnTo>
                  <a:pt x="186" y="0"/>
                </a:lnTo>
                <a:lnTo>
                  <a:pt x="168" y="0"/>
                </a:lnTo>
                <a:lnTo>
                  <a:pt x="151" y="0"/>
                </a:lnTo>
                <a:lnTo>
                  <a:pt x="136" y="4"/>
                </a:lnTo>
                <a:lnTo>
                  <a:pt x="119" y="7"/>
                </a:lnTo>
                <a:lnTo>
                  <a:pt x="103" y="13"/>
                </a:lnTo>
                <a:lnTo>
                  <a:pt x="88" y="21"/>
                </a:lnTo>
                <a:lnTo>
                  <a:pt x="74" y="28"/>
                </a:lnTo>
                <a:lnTo>
                  <a:pt x="61" y="38"/>
                </a:lnTo>
                <a:lnTo>
                  <a:pt x="49" y="50"/>
                </a:lnTo>
                <a:lnTo>
                  <a:pt x="38" y="61"/>
                </a:lnTo>
                <a:lnTo>
                  <a:pt x="28" y="75"/>
                </a:lnTo>
                <a:lnTo>
                  <a:pt x="21" y="88"/>
                </a:lnTo>
                <a:lnTo>
                  <a:pt x="13" y="103"/>
                </a:lnTo>
                <a:lnTo>
                  <a:pt x="7" y="119"/>
                </a:lnTo>
                <a:lnTo>
                  <a:pt x="3" y="134"/>
                </a:lnTo>
                <a:lnTo>
                  <a:pt x="1" y="151"/>
                </a:lnTo>
                <a:lnTo>
                  <a:pt x="0" y="169"/>
                </a:lnTo>
                <a:lnTo>
                  <a:pt x="1" y="186"/>
                </a:lnTo>
                <a:lnTo>
                  <a:pt x="3" y="203"/>
                </a:lnTo>
                <a:lnTo>
                  <a:pt x="7" y="218"/>
                </a:lnTo>
                <a:lnTo>
                  <a:pt x="13" y="236"/>
                </a:lnTo>
                <a:lnTo>
                  <a:pt x="21" y="249"/>
                </a:lnTo>
                <a:lnTo>
                  <a:pt x="28" y="263"/>
                </a:lnTo>
                <a:lnTo>
                  <a:pt x="38" y="276"/>
                </a:lnTo>
                <a:lnTo>
                  <a:pt x="49" y="289"/>
                </a:lnTo>
                <a:lnTo>
                  <a:pt x="61" y="299"/>
                </a:lnTo>
                <a:lnTo>
                  <a:pt x="74" y="309"/>
                </a:lnTo>
                <a:lnTo>
                  <a:pt x="88" y="318"/>
                </a:lnTo>
                <a:lnTo>
                  <a:pt x="103" y="324"/>
                </a:lnTo>
                <a:lnTo>
                  <a:pt x="119" y="330"/>
                </a:lnTo>
                <a:lnTo>
                  <a:pt x="136" y="335"/>
                </a:lnTo>
                <a:lnTo>
                  <a:pt x="151" y="337"/>
                </a:lnTo>
                <a:lnTo>
                  <a:pt x="168" y="337"/>
                </a:lnTo>
                <a:lnTo>
                  <a:pt x="186" y="337"/>
                </a:lnTo>
                <a:lnTo>
                  <a:pt x="203" y="335"/>
                </a:lnTo>
                <a:lnTo>
                  <a:pt x="203" y="335"/>
                </a:lnTo>
                <a:lnTo>
                  <a:pt x="203" y="334"/>
                </a:lnTo>
                <a:lnTo>
                  <a:pt x="203" y="332"/>
                </a:lnTo>
                <a:lnTo>
                  <a:pt x="203" y="332"/>
                </a:lnTo>
                <a:lnTo>
                  <a:pt x="203" y="330"/>
                </a:lnTo>
                <a:lnTo>
                  <a:pt x="203" y="328"/>
                </a:lnTo>
                <a:lnTo>
                  <a:pt x="203" y="328"/>
                </a:lnTo>
                <a:lnTo>
                  <a:pt x="203" y="326"/>
                </a:lnTo>
                <a:lnTo>
                  <a:pt x="203" y="324"/>
                </a:lnTo>
                <a:lnTo>
                  <a:pt x="201" y="324"/>
                </a:lnTo>
                <a:lnTo>
                  <a:pt x="186" y="328"/>
                </a:lnTo>
                <a:lnTo>
                  <a:pt x="168" y="328"/>
                </a:lnTo>
                <a:lnTo>
                  <a:pt x="153" y="328"/>
                </a:lnTo>
                <a:lnTo>
                  <a:pt x="138" y="324"/>
                </a:lnTo>
                <a:lnTo>
                  <a:pt x="122" y="320"/>
                </a:lnTo>
                <a:lnTo>
                  <a:pt x="107" y="316"/>
                </a:lnTo>
                <a:lnTo>
                  <a:pt x="94" y="309"/>
                </a:lnTo>
                <a:lnTo>
                  <a:pt x="80" y="301"/>
                </a:lnTo>
                <a:lnTo>
                  <a:pt x="69" y="291"/>
                </a:lnTo>
                <a:lnTo>
                  <a:pt x="57" y="282"/>
                </a:lnTo>
                <a:lnTo>
                  <a:pt x="46" y="270"/>
                </a:lnTo>
                <a:lnTo>
                  <a:pt x="38" y="259"/>
                </a:lnTo>
                <a:lnTo>
                  <a:pt x="28" y="245"/>
                </a:lnTo>
                <a:lnTo>
                  <a:pt x="23" y="230"/>
                </a:lnTo>
                <a:lnTo>
                  <a:pt x="17" y="216"/>
                </a:lnTo>
                <a:lnTo>
                  <a:pt x="13" y="201"/>
                </a:lnTo>
                <a:lnTo>
                  <a:pt x="11" y="186"/>
                </a:lnTo>
                <a:lnTo>
                  <a:pt x="9" y="169"/>
                </a:lnTo>
                <a:lnTo>
                  <a:pt x="11" y="153"/>
                </a:lnTo>
                <a:lnTo>
                  <a:pt x="13" y="136"/>
                </a:lnTo>
                <a:lnTo>
                  <a:pt x="17" y="121"/>
                </a:lnTo>
                <a:lnTo>
                  <a:pt x="23" y="107"/>
                </a:lnTo>
                <a:lnTo>
                  <a:pt x="28" y="94"/>
                </a:lnTo>
                <a:lnTo>
                  <a:pt x="38" y="80"/>
                </a:lnTo>
                <a:lnTo>
                  <a:pt x="46" y="67"/>
                </a:lnTo>
                <a:lnTo>
                  <a:pt x="57" y="57"/>
                </a:lnTo>
                <a:lnTo>
                  <a:pt x="69" y="46"/>
                </a:lnTo>
                <a:lnTo>
                  <a:pt x="80" y="36"/>
                </a:lnTo>
                <a:lnTo>
                  <a:pt x="94" y="28"/>
                </a:lnTo>
                <a:lnTo>
                  <a:pt x="107" y="23"/>
                </a:lnTo>
                <a:lnTo>
                  <a:pt x="122" y="17"/>
                </a:lnTo>
                <a:lnTo>
                  <a:pt x="138" y="13"/>
                </a:lnTo>
                <a:lnTo>
                  <a:pt x="153" y="11"/>
                </a:lnTo>
                <a:lnTo>
                  <a:pt x="168" y="9"/>
                </a:lnTo>
                <a:lnTo>
                  <a:pt x="186" y="11"/>
                </a:lnTo>
                <a:lnTo>
                  <a:pt x="201" y="13"/>
                </a:lnTo>
                <a:lnTo>
                  <a:pt x="201" y="11"/>
                </a:lnTo>
                <a:lnTo>
                  <a:pt x="201" y="11"/>
                </a:lnTo>
                <a:lnTo>
                  <a:pt x="201" y="9"/>
                </a:lnTo>
                <a:lnTo>
                  <a:pt x="201" y="7"/>
                </a:lnTo>
                <a:lnTo>
                  <a:pt x="201" y="7"/>
                </a:lnTo>
                <a:lnTo>
                  <a:pt x="201" y="5"/>
                </a:lnTo>
                <a:lnTo>
                  <a:pt x="201" y="4"/>
                </a:lnTo>
                <a:lnTo>
                  <a:pt x="201" y="4"/>
                </a:lnTo>
                <a:close/>
              </a:path>
            </a:pathLst>
          </a:custGeom>
          <a:solidFill>
            <a:srgbClr val="df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234"/>
          <p:cNvSpPr/>
          <p:nvPr/>
        </p:nvSpPr>
        <p:spPr>
          <a:xfrm>
            <a:off x="2128680" y="2898720"/>
            <a:ext cx="314640" cy="522360"/>
          </a:xfrm>
          <a:custGeom>
            <a:avLst/>
            <a:gdLst>
              <a:gd name="textAreaLeft" fmla="*/ 0 w 314640"/>
              <a:gd name="textAreaRight" fmla="*/ 315000 w 31464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198" h="329">
                <a:moveTo>
                  <a:pt x="196" y="2"/>
                </a:moveTo>
                <a:lnTo>
                  <a:pt x="181" y="0"/>
                </a:lnTo>
                <a:lnTo>
                  <a:pt x="163" y="0"/>
                </a:lnTo>
                <a:lnTo>
                  <a:pt x="148" y="0"/>
                </a:lnTo>
                <a:lnTo>
                  <a:pt x="131" y="2"/>
                </a:lnTo>
                <a:lnTo>
                  <a:pt x="115" y="6"/>
                </a:lnTo>
                <a:lnTo>
                  <a:pt x="100" y="12"/>
                </a:lnTo>
                <a:lnTo>
                  <a:pt x="87" y="20"/>
                </a:lnTo>
                <a:lnTo>
                  <a:pt x="71" y="27"/>
                </a:lnTo>
                <a:lnTo>
                  <a:pt x="60" y="37"/>
                </a:lnTo>
                <a:lnTo>
                  <a:pt x="48" y="48"/>
                </a:lnTo>
                <a:lnTo>
                  <a:pt x="37" y="60"/>
                </a:lnTo>
                <a:lnTo>
                  <a:pt x="27" y="71"/>
                </a:lnTo>
                <a:lnTo>
                  <a:pt x="19" y="85"/>
                </a:lnTo>
                <a:lnTo>
                  <a:pt x="12" y="100"/>
                </a:lnTo>
                <a:lnTo>
                  <a:pt x="8" y="116"/>
                </a:lnTo>
                <a:lnTo>
                  <a:pt x="2" y="131"/>
                </a:lnTo>
                <a:lnTo>
                  <a:pt x="0" y="146"/>
                </a:lnTo>
                <a:lnTo>
                  <a:pt x="0" y="164"/>
                </a:lnTo>
                <a:lnTo>
                  <a:pt x="0" y="181"/>
                </a:lnTo>
                <a:lnTo>
                  <a:pt x="2" y="196"/>
                </a:lnTo>
                <a:lnTo>
                  <a:pt x="8" y="213"/>
                </a:lnTo>
                <a:lnTo>
                  <a:pt x="12" y="227"/>
                </a:lnTo>
                <a:lnTo>
                  <a:pt x="19" y="242"/>
                </a:lnTo>
                <a:lnTo>
                  <a:pt x="27" y="256"/>
                </a:lnTo>
                <a:lnTo>
                  <a:pt x="37" y="269"/>
                </a:lnTo>
                <a:lnTo>
                  <a:pt x="48" y="281"/>
                </a:lnTo>
                <a:lnTo>
                  <a:pt x="60" y="290"/>
                </a:lnTo>
                <a:lnTo>
                  <a:pt x="71" y="300"/>
                </a:lnTo>
                <a:lnTo>
                  <a:pt x="87" y="307"/>
                </a:lnTo>
                <a:lnTo>
                  <a:pt x="100" y="315"/>
                </a:lnTo>
                <a:lnTo>
                  <a:pt x="115" y="321"/>
                </a:lnTo>
                <a:lnTo>
                  <a:pt x="131" y="325"/>
                </a:lnTo>
                <a:lnTo>
                  <a:pt x="148" y="327"/>
                </a:lnTo>
                <a:lnTo>
                  <a:pt x="163" y="329"/>
                </a:lnTo>
                <a:lnTo>
                  <a:pt x="181" y="327"/>
                </a:lnTo>
                <a:lnTo>
                  <a:pt x="198" y="325"/>
                </a:lnTo>
                <a:lnTo>
                  <a:pt x="198" y="325"/>
                </a:lnTo>
                <a:lnTo>
                  <a:pt x="198" y="323"/>
                </a:lnTo>
                <a:lnTo>
                  <a:pt x="198" y="323"/>
                </a:lnTo>
                <a:lnTo>
                  <a:pt x="198" y="321"/>
                </a:lnTo>
                <a:lnTo>
                  <a:pt x="198" y="319"/>
                </a:lnTo>
                <a:lnTo>
                  <a:pt x="198" y="319"/>
                </a:lnTo>
                <a:lnTo>
                  <a:pt x="198" y="317"/>
                </a:lnTo>
                <a:lnTo>
                  <a:pt x="198" y="315"/>
                </a:lnTo>
                <a:lnTo>
                  <a:pt x="198" y="313"/>
                </a:lnTo>
                <a:lnTo>
                  <a:pt x="194" y="315"/>
                </a:lnTo>
                <a:lnTo>
                  <a:pt x="181" y="317"/>
                </a:lnTo>
                <a:lnTo>
                  <a:pt x="163" y="317"/>
                </a:lnTo>
                <a:lnTo>
                  <a:pt x="148" y="317"/>
                </a:lnTo>
                <a:lnTo>
                  <a:pt x="133" y="315"/>
                </a:lnTo>
                <a:lnTo>
                  <a:pt x="117" y="311"/>
                </a:lnTo>
                <a:lnTo>
                  <a:pt x="104" y="305"/>
                </a:lnTo>
                <a:lnTo>
                  <a:pt x="90" y="300"/>
                </a:lnTo>
                <a:lnTo>
                  <a:pt x="77" y="292"/>
                </a:lnTo>
                <a:lnTo>
                  <a:pt x="66" y="282"/>
                </a:lnTo>
                <a:lnTo>
                  <a:pt x="56" y="273"/>
                </a:lnTo>
                <a:lnTo>
                  <a:pt x="44" y="261"/>
                </a:lnTo>
                <a:lnTo>
                  <a:pt x="37" y="250"/>
                </a:lnTo>
                <a:lnTo>
                  <a:pt x="29" y="236"/>
                </a:lnTo>
                <a:lnTo>
                  <a:pt x="21" y="223"/>
                </a:lnTo>
                <a:lnTo>
                  <a:pt x="18" y="210"/>
                </a:lnTo>
                <a:lnTo>
                  <a:pt x="14" y="194"/>
                </a:lnTo>
                <a:lnTo>
                  <a:pt x="12" y="179"/>
                </a:lnTo>
                <a:lnTo>
                  <a:pt x="10" y="164"/>
                </a:lnTo>
                <a:lnTo>
                  <a:pt x="12" y="148"/>
                </a:lnTo>
                <a:lnTo>
                  <a:pt x="14" y="133"/>
                </a:lnTo>
                <a:lnTo>
                  <a:pt x="18" y="117"/>
                </a:lnTo>
                <a:lnTo>
                  <a:pt x="21" y="104"/>
                </a:lnTo>
                <a:lnTo>
                  <a:pt x="29" y="91"/>
                </a:lnTo>
                <a:lnTo>
                  <a:pt x="37" y="77"/>
                </a:lnTo>
                <a:lnTo>
                  <a:pt x="44" y="66"/>
                </a:lnTo>
                <a:lnTo>
                  <a:pt x="56" y="54"/>
                </a:lnTo>
                <a:lnTo>
                  <a:pt x="66" y="45"/>
                </a:lnTo>
                <a:lnTo>
                  <a:pt x="77" y="37"/>
                </a:lnTo>
                <a:lnTo>
                  <a:pt x="90" y="29"/>
                </a:lnTo>
                <a:lnTo>
                  <a:pt x="104" y="22"/>
                </a:lnTo>
                <a:lnTo>
                  <a:pt x="117" y="18"/>
                </a:lnTo>
                <a:lnTo>
                  <a:pt x="133" y="14"/>
                </a:lnTo>
                <a:lnTo>
                  <a:pt x="148" y="10"/>
                </a:lnTo>
                <a:lnTo>
                  <a:pt x="163" y="10"/>
                </a:lnTo>
                <a:lnTo>
                  <a:pt x="181" y="10"/>
                </a:lnTo>
                <a:lnTo>
                  <a:pt x="194" y="14"/>
                </a:lnTo>
                <a:lnTo>
                  <a:pt x="196" y="14"/>
                </a:lnTo>
                <a:lnTo>
                  <a:pt x="196" y="12"/>
                </a:lnTo>
                <a:lnTo>
                  <a:pt x="196" y="10"/>
                </a:lnTo>
                <a:lnTo>
                  <a:pt x="196" y="10"/>
                </a:lnTo>
                <a:lnTo>
                  <a:pt x="196" y="8"/>
                </a:lnTo>
                <a:lnTo>
                  <a:pt x="196" y="6"/>
                </a:lnTo>
                <a:lnTo>
                  <a:pt x="196" y="6"/>
                </a:lnTo>
                <a:lnTo>
                  <a:pt x="196" y="4"/>
                </a:lnTo>
                <a:lnTo>
                  <a:pt x="196" y="2"/>
                </a:lnTo>
                <a:close/>
              </a:path>
            </a:pathLst>
          </a:custGeom>
          <a:solidFill>
            <a:srgbClr val="e0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Freeform 235"/>
          <p:cNvSpPr/>
          <p:nvPr/>
        </p:nvSpPr>
        <p:spPr>
          <a:xfrm>
            <a:off x="2135160" y="2905200"/>
            <a:ext cx="308160" cy="506160"/>
          </a:xfrm>
          <a:custGeom>
            <a:avLst/>
            <a:gdLst>
              <a:gd name="textAreaLeft" fmla="*/ 0 w 308160"/>
              <a:gd name="textAreaRight" fmla="*/ 308520 w 30816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w="194" h="319">
                <a:moveTo>
                  <a:pt x="192" y="4"/>
                </a:moveTo>
                <a:lnTo>
                  <a:pt x="177" y="2"/>
                </a:lnTo>
                <a:lnTo>
                  <a:pt x="159" y="0"/>
                </a:lnTo>
                <a:lnTo>
                  <a:pt x="144" y="2"/>
                </a:lnTo>
                <a:lnTo>
                  <a:pt x="129" y="4"/>
                </a:lnTo>
                <a:lnTo>
                  <a:pt x="113" y="8"/>
                </a:lnTo>
                <a:lnTo>
                  <a:pt x="98" y="14"/>
                </a:lnTo>
                <a:lnTo>
                  <a:pt x="85" y="19"/>
                </a:lnTo>
                <a:lnTo>
                  <a:pt x="71" y="27"/>
                </a:lnTo>
                <a:lnTo>
                  <a:pt x="60" y="37"/>
                </a:lnTo>
                <a:lnTo>
                  <a:pt x="48" y="48"/>
                </a:lnTo>
                <a:lnTo>
                  <a:pt x="37" y="58"/>
                </a:lnTo>
                <a:lnTo>
                  <a:pt x="29" y="71"/>
                </a:lnTo>
                <a:lnTo>
                  <a:pt x="19" y="85"/>
                </a:lnTo>
                <a:lnTo>
                  <a:pt x="14" y="98"/>
                </a:lnTo>
                <a:lnTo>
                  <a:pt x="8" y="112"/>
                </a:lnTo>
                <a:lnTo>
                  <a:pt x="4" y="127"/>
                </a:lnTo>
                <a:lnTo>
                  <a:pt x="2" y="144"/>
                </a:lnTo>
                <a:lnTo>
                  <a:pt x="0" y="160"/>
                </a:lnTo>
                <a:lnTo>
                  <a:pt x="2" y="177"/>
                </a:lnTo>
                <a:lnTo>
                  <a:pt x="4" y="192"/>
                </a:lnTo>
                <a:lnTo>
                  <a:pt x="8" y="207"/>
                </a:lnTo>
                <a:lnTo>
                  <a:pt x="14" y="221"/>
                </a:lnTo>
                <a:lnTo>
                  <a:pt x="19" y="236"/>
                </a:lnTo>
                <a:lnTo>
                  <a:pt x="29" y="250"/>
                </a:lnTo>
                <a:lnTo>
                  <a:pt x="37" y="261"/>
                </a:lnTo>
                <a:lnTo>
                  <a:pt x="48" y="273"/>
                </a:lnTo>
                <a:lnTo>
                  <a:pt x="60" y="282"/>
                </a:lnTo>
                <a:lnTo>
                  <a:pt x="71" y="292"/>
                </a:lnTo>
                <a:lnTo>
                  <a:pt x="85" y="300"/>
                </a:lnTo>
                <a:lnTo>
                  <a:pt x="98" y="307"/>
                </a:lnTo>
                <a:lnTo>
                  <a:pt x="113" y="311"/>
                </a:lnTo>
                <a:lnTo>
                  <a:pt x="129" y="315"/>
                </a:lnTo>
                <a:lnTo>
                  <a:pt x="144" y="319"/>
                </a:lnTo>
                <a:lnTo>
                  <a:pt x="159" y="319"/>
                </a:lnTo>
                <a:lnTo>
                  <a:pt x="177" y="319"/>
                </a:lnTo>
                <a:lnTo>
                  <a:pt x="192" y="315"/>
                </a:lnTo>
                <a:lnTo>
                  <a:pt x="194" y="315"/>
                </a:lnTo>
                <a:lnTo>
                  <a:pt x="194" y="315"/>
                </a:lnTo>
                <a:lnTo>
                  <a:pt x="194" y="313"/>
                </a:lnTo>
                <a:lnTo>
                  <a:pt x="194" y="311"/>
                </a:lnTo>
                <a:lnTo>
                  <a:pt x="194" y="309"/>
                </a:lnTo>
                <a:lnTo>
                  <a:pt x="194" y="309"/>
                </a:lnTo>
                <a:lnTo>
                  <a:pt x="194" y="307"/>
                </a:lnTo>
                <a:lnTo>
                  <a:pt x="192" y="305"/>
                </a:lnTo>
                <a:lnTo>
                  <a:pt x="192" y="305"/>
                </a:lnTo>
                <a:lnTo>
                  <a:pt x="190" y="305"/>
                </a:lnTo>
                <a:lnTo>
                  <a:pt x="175" y="307"/>
                </a:lnTo>
                <a:lnTo>
                  <a:pt x="159" y="309"/>
                </a:lnTo>
                <a:lnTo>
                  <a:pt x="144" y="307"/>
                </a:lnTo>
                <a:lnTo>
                  <a:pt x="131" y="305"/>
                </a:lnTo>
                <a:lnTo>
                  <a:pt x="115" y="301"/>
                </a:lnTo>
                <a:lnTo>
                  <a:pt x="102" y="298"/>
                </a:lnTo>
                <a:lnTo>
                  <a:pt x="88" y="290"/>
                </a:lnTo>
                <a:lnTo>
                  <a:pt x="77" y="282"/>
                </a:lnTo>
                <a:lnTo>
                  <a:pt x="65" y="275"/>
                </a:lnTo>
                <a:lnTo>
                  <a:pt x="54" y="265"/>
                </a:lnTo>
                <a:lnTo>
                  <a:pt x="44" y="254"/>
                </a:lnTo>
                <a:lnTo>
                  <a:pt x="37" y="244"/>
                </a:lnTo>
                <a:lnTo>
                  <a:pt x="29" y="231"/>
                </a:lnTo>
                <a:lnTo>
                  <a:pt x="23" y="217"/>
                </a:lnTo>
                <a:lnTo>
                  <a:pt x="17" y="204"/>
                </a:lnTo>
                <a:lnTo>
                  <a:pt x="14" y="190"/>
                </a:lnTo>
                <a:lnTo>
                  <a:pt x="12" y="175"/>
                </a:lnTo>
                <a:lnTo>
                  <a:pt x="12" y="160"/>
                </a:lnTo>
                <a:lnTo>
                  <a:pt x="12" y="144"/>
                </a:lnTo>
                <a:lnTo>
                  <a:pt x="14" y="131"/>
                </a:lnTo>
                <a:lnTo>
                  <a:pt x="17" y="115"/>
                </a:lnTo>
                <a:lnTo>
                  <a:pt x="23" y="102"/>
                </a:lnTo>
                <a:lnTo>
                  <a:pt x="29" y="89"/>
                </a:lnTo>
                <a:lnTo>
                  <a:pt x="37" y="77"/>
                </a:lnTo>
                <a:lnTo>
                  <a:pt x="44" y="66"/>
                </a:lnTo>
                <a:lnTo>
                  <a:pt x="54" y="54"/>
                </a:lnTo>
                <a:lnTo>
                  <a:pt x="65" y="44"/>
                </a:lnTo>
                <a:lnTo>
                  <a:pt x="77" y="37"/>
                </a:lnTo>
                <a:lnTo>
                  <a:pt x="88" y="29"/>
                </a:lnTo>
                <a:lnTo>
                  <a:pt x="102" y="23"/>
                </a:lnTo>
                <a:lnTo>
                  <a:pt x="115" y="18"/>
                </a:lnTo>
                <a:lnTo>
                  <a:pt x="131" y="14"/>
                </a:lnTo>
                <a:lnTo>
                  <a:pt x="144" y="12"/>
                </a:lnTo>
                <a:lnTo>
                  <a:pt x="159" y="12"/>
                </a:lnTo>
                <a:lnTo>
                  <a:pt x="175" y="12"/>
                </a:lnTo>
                <a:lnTo>
                  <a:pt x="190" y="14"/>
                </a:lnTo>
                <a:lnTo>
                  <a:pt x="192" y="14"/>
                </a:lnTo>
                <a:lnTo>
                  <a:pt x="192" y="14"/>
                </a:lnTo>
                <a:lnTo>
                  <a:pt x="192" y="12"/>
                </a:lnTo>
                <a:lnTo>
                  <a:pt x="192" y="10"/>
                </a:lnTo>
                <a:lnTo>
                  <a:pt x="192" y="10"/>
                </a:lnTo>
                <a:lnTo>
                  <a:pt x="192" y="8"/>
                </a:lnTo>
                <a:lnTo>
                  <a:pt x="192" y="6"/>
                </a:lnTo>
                <a:lnTo>
                  <a:pt x="192" y="6"/>
                </a:lnTo>
                <a:lnTo>
                  <a:pt x="192" y="4"/>
                </a:lnTo>
                <a:close/>
              </a:path>
            </a:pathLst>
          </a:custGeom>
          <a:solidFill>
            <a:srgbClr val="e1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Freeform 236"/>
          <p:cNvSpPr/>
          <p:nvPr/>
        </p:nvSpPr>
        <p:spPr>
          <a:xfrm>
            <a:off x="2144880" y="2914560"/>
            <a:ext cx="298440" cy="487440"/>
          </a:xfrm>
          <a:custGeom>
            <a:avLst/>
            <a:gdLst>
              <a:gd name="textAreaLeft" fmla="*/ 0 w 298440"/>
              <a:gd name="textAreaRight" fmla="*/ 298800 w 29844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188" h="307">
                <a:moveTo>
                  <a:pt x="186" y="4"/>
                </a:moveTo>
                <a:lnTo>
                  <a:pt x="184" y="4"/>
                </a:lnTo>
                <a:lnTo>
                  <a:pt x="171" y="0"/>
                </a:lnTo>
                <a:lnTo>
                  <a:pt x="153" y="0"/>
                </a:lnTo>
                <a:lnTo>
                  <a:pt x="138" y="0"/>
                </a:lnTo>
                <a:lnTo>
                  <a:pt x="123" y="4"/>
                </a:lnTo>
                <a:lnTo>
                  <a:pt x="107" y="8"/>
                </a:lnTo>
                <a:lnTo>
                  <a:pt x="94" y="12"/>
                </a:lnTo>
                <a:lnTo>
                  <a:pt x="80" y="19"/>
                </a:lnTo>
                <a:lnTo>
                  <a:pt x="67" y="27"/>
                </a:lnTo>
                <a:lnTo>
                  <a:pt x="56" y="35"/>
                </a:lnTo>
                <a:lnTo>
                  <a:pt x="46" y="44"/>
                </a:lnTo>
                <a:lnTo>
                  <a:pt x="34" y="56"/>
                </a:lnTo>
                <a:lnTo>
                  <a:pt x="27" y="67"/>
                </a:lnTo>
                <a:lnTo>
                  <a:pt x="19" y="81"/>
                </a:lnTo>
                <a:lnTo>
                  <a:pt x="11" y="94"/>
                </a:lnTo>
                <a:lnTo>
                  <a:pt x="8" y="107"/>
                </a:lnTo>
                <a:lnTo>
                  <a:pt x="4" y="123"/>
                </a:lnTo>
                <a:lnTo>
                  <a:pt x="2" y="138"/>
                </a:lnTo>
                <a:lnTo>
                  <a:pt x="0" y="154"/>
                </a:lnTo>
                <a:lnTo>
                  <a:pt x="2" y="169"/>
                </a:lnTo>
                <a:lnTo>
                  <a:pt x="4" y="184"/>
                </a:lnTo>
                <a:lnTo>
                  <a:pt x="8" y="200"/>
                </a:lnTo>
                <a:lnTo>
                  <a:pt x="11" y="213"/>
                </a:lnTo>
                <a:lnTo>
                  <a:pt x="19" y="226"/>
                </a:lnTo>
                <a:lnTo>
                  <a:pt x="27" y="240"/>
                </a:lnTo>
                <a:lnTo>
                  <a:pt x="34" y="251"/>
                </a:lnTo>
                <a:lnTo>
                  <a:pt x="46" y="263"/>
                </a:lnTo>
                <a:lnTo>
                  <a:pt x="56" y="272"/>
                </a:lnTo>
                <a:lnTo>
                  <a:pt x="67" y="282"/>
                </a:lnTo>
                <a:lnTo>
                  <a:pt x="80" y="290"/>
                </a:lnTo>
                <a:lnTo>
                  <a:pt x="94" y="295"/>
                </a:lnTo>
                <a:lnTo>
                  <a:pt x="107" y="301"/>
                </a:lnTo>
                <a:lnTo>
                  <a:pt x="123" y="305"/>
                </a:lnTo>
                <a:lnTo>
                  <a:pt x="138" y="307"/>
                </a:lnTo>
                <a:lnTo>
                  <a:pt x="153" y="307"/>
                </a:lnTo>
                <a:lnTo>
                  <a:pt x="171" y="307"/>
                </a:lnTo>
                <a:lnTo>
                  <a:pt x="184" y="305"/>
                </a:lnTo>
                <a:lnTo>
                  <a:pt x="188" y="303"/>
                </a:lnTo>
                <a:lnTo>
                  <a:pt x="188" y="303"/>
                </a:lnTo>
                <a:lnTo>
                  <a:pt x="188" y="301"/>
                </a:lnTo>
                <a:lnTo>
                  <a:pt x="186" y="299"/>
                </a:lnTo>
                <a:lnTo>
                  <a:pt x="186" y="299"/>
                </a:lnTo>
                <a:lnTo>
                  <a:pt x="186" y="297"/>
                </a:lnTo>
                <a:lnTo>
                  <a:pt x="186" y="295"/>
                </a:lnTo>
                <a:lnTo>
                  <a:pt x="186" y="295"/>
                </a:lnTo>
                <a:lnTo>
                  <a:pt x="186" y="294"/>
                </a:lnTo>
                <a:lnTo>
                  <a:pt x="182" y="295"/>
                </a:lnTo>
                <a:lnTo>
                  <a:pt x="169" y="297"/>
                </a:lnTo>
                <a:lnTo>
                  <a:pt x="153" y="297"/>
                </a:lnTo>
                <a:lnTo>
                  <a:pt x="140" y="297"/>
                </a:lnTo>
                <a:lnTo>
                  <a:pt x="125" y="295"/>
                </a:lnTo>
                <a:lnTo>
                  <a:pt x="111" y="292"/>
                </a:lnTo>
                <a:lnTo>
                  <a:pt x="98" y="286"/>
                </a:lnTo>
                <a:lnTo>
                  <a:pt x="86" y="280"/>
                </a:lnTo>
                <a:lnTo>
                  <a:pt x="73" y="272"/>
                </a:lnTo>
                <a:lnTo>
                  <a:pt x="63" y="265"/>
                </a:lnTo>
                <a:lnTo>
                  <a:pt x="52" y="255"/>
                </a:lnTo>
                <a:lnTo>
                  <a:pt x="44" y="246"/>
                </a:lnTo>
                <a:lnTo>
                  <a:pt x="34" y="234"/>
                </a:lnTo>
                <a:lnTo>
                  <a:pt x="27" y="223"/>
                </a:lnTo>
                <a:lnTo>
                  <a:pt x="21" y="209"/>
                </a:lnTo>
                <a:lnTo>
                  <a:pt x="17" y="196"/>
                </a:lnTo>
                <a:lnTo>
                  <a:pt x="13" y="182"/>
                </a:lnTo>
                <a:lnTo>
                  <a:pt x="11" y="169"/>
                </a:lnTo>
                <a:lnTo>
                  <a:pt x="9" y="154"/>
                </a:lnTo>
                <a:lnTo>
                  <a:pt x="11" y="138"/>
                </a:lnTo>
                <a:lnTo>
                  <a:pt x="13" y="125"/>
                </a:lnTo>
                <a:lnTo>
                  <a:pt x="17" y="111"/>
                </a:lnTo>
                <a:lnTo>
                  <a:pt x="21" y="98"/>
                </a:lnTo>
                <a:lnTo>
                  <a:pt x="27" y="84"/>
                </a:lnTo>
                <a:lnTo>
                  <a:pt x="34" y="73"/>
                </a:lnTo>
                <a:lnTo>
                  <a:pt x="44" y="63"/>
                </a:lnTo>
                <a:lnTo>
                  <a:pt x="52" y="52"/>
                </a:lnTo>
                <a:lnTo>
                  <a:pt x="63" y="42"/>
                </a:lnTo>
                <a:lnTo>
                  <a:pt x="73" y="35"/>
                </a:lnTo>
                <a:lnTo>
                  <a:pt x="86" y="27"/>
                </a:lnTo>
                <a:lnTo>
                  <a:pt x="98" y="21"/>
                </a:lnTo>
                <a:lnTo>
                  <a:pt x="111" y="17"/>
                </a:lnTo>
                <a:lnTo>
                  <a:pt x="125" y="13"/>
                </a:lnTo>
                <a:lnTo>
                  <a:pt x="140" y="12"/>
                </a:lnTo>
                <a:lnTo>
                  <a:pt x="153" y="10"/>
                </a:lnTo>
                <a:lnTo>
                  <a:pt x="169" y="12"/>
                </a:lnTo>
                <a:lnTo>
                  <a:pt x="182" y="13"/>
                </a:lnTo>
                <a:lnTo>
                  <a:pt x="184" y="13"/>
                </a:lnTo>
                <a:lnTo>
                  <a:pt x="184" y="12"/>
                </a:lnTo>
                <a:lnTo>
                  <a:pt x="186" y="12"/>
                </a:lnTo>
                <a:lnTo>
                  <a:pt x="186" y="10"/>
                </a:lnTo>
                <a:lnTo>
                  <a:pt x="186" y="8"/>
                </a:lnTo>
                <a:lnTo>
                  <a:pt x="186" y="8"/>
                </a:lnTo>
                <a:lnTo>
                  <a:pt x="186" y="6"/>
                </a:lnTo>
                <a:lnTo>
                  <a:pt x="186" y="4"/>
                </a:lnTo>
                <a:lnTo>
                  <a:pt x="186" y="4"/>
                </a:lnTo>
                <a:close/>
              </a:path>
            </a:pathLst>
          </a:custGeom>
          <a:solidFill>
            <a:srgbClr val="e2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reeform 237"/>
          <p:cNvSpPr/>
          <p:nvPr/>
        </p:nvSpPr>
        <p:spPr>
          <a:xfrm>
            <a:off x="2154240" y="2924280"/>
            <a:ext cx="285840" cy="471240"/>
          </a:xfrm>
          <a:custGeom>
            <a:avLst/>
            <a:gdLst>
              <a:gd name="textAreaLeft" fmla="*/ 0 w 285840"/>
              <a:gd name="textAreaRight" fmla="*/ 286200 w 28584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180" h="297">
                <a:moveTo>
                  <a:pt x="180" y="2"/>
                </a:moveTo>
                <a:lnTo>
                  <a:pt x="178" y="2"/>
                </a:lnTo>
                <a:lnTo>
                  <a:pt x="163" y="0"/>
                </a:lnTo>
                <a:lnTo>
                  <a:pt x="147" y="0"/>
                </a:lnTo>
                <a:lnTo>
                  <a:pt x="132" y="0"/>
                </a:lnTo>
                <a:lnTo>
                  <a:pt x="119" y="2"/>
                </a:lnTo>
                <a:lnTo>
                  <a:pt x="103" y="6"/>
                </a:lnTo>
                <a:lnTo>
                  <a:pt x="90" y="11"/>
                </a:lnTo>
                <a:lnTo>
                  <a:pt x="76" y="17"/>
                </a:lnTo>
                <a:lnTo>
                  <a:pt x="65" y="25"/>
                </a:lnTo>
                <a:lnTo>
                  <a:pt x="53" y="32"/>
                </a:lnTo>
                <a:lnTo>
                  <a:pt x="42" y="42"/>
                </a:lnTo>
                <a:lnTo>
                  <a:pt x="32" y="54"/>
                </a:lnTo>
                <a:lnTo>
                  <a:pt x="25" y="65"/>
                </a:lnTo>
                <a:lnTo>
                  <a:pt x="17" y="77"/>
                </a:lnTo>
                <a:lnTo>
                  <a:pt x="11" y="90"/>
                </a:lnTo>
                <a:lnTo>
                  <a:pt x="5" y="103"/>
                </a:lnTo>
                <a:lnTo>
                  <a:pt x="2" y="119"/>
                </a:lnTo>
                <a:lnTo>
                  <a:pt x="0" y="132"/>
                </a:lnTo>
                <a:lnTo>
                  <a:pt x="0" y="148"/>
                </a:lnTo>
                <a:lnTo>
                  <a:pt x="0" y="163"/>
                </a:lnTo>
                <a:lnTo>
                  <a:pt x="2" y="178"/>
                </a:lnTo>
                <a:lnTo>
                  <a:pt x="5" y="192"/>
                </a:lnTo>
                <a:lnTo>
                  <a:pt x="11" y="205"/>
                </a:lnTo>
                <a:lnTo>
                  <a:pt x="17" y="219"/>
                </a:lnTo>
                <a:lnTo>
                  <a:pt x="25" y="232"/>
                </a:lnTo>
                <a:lnTo>
                  <a:pt x="32" y="242"/>
                </a:lnTo>
                <a:lnTo>
                  <a:pt x="42" y="253"/>
                </a:lnTo>
                <a:lnTo>
                  <a:pt x="53" y="263"/>
                </a:lnTo>
                <a:lnTo>
                  <a:pt x="65" y="270"/>
                </a:lnTo>
                <a:lnTo>
                  <a:pt x="76" y="278"/>
                </a:lnTo>
                <a:lnTo>
                  <a:pt x="90" y="286"/>
                </a:lnTo>
                <a:lnTo>
                  <a:pt x="103" y="289"/>
                </a:lnTo>
                <a:lnTo>
                  <a:pt x="119" y="293"/>
                </a:lnTo>
                <a:lnTo>
                  <a:pt x="132" y="295"/>
                </a:lnTo>
                <a:lnTo>
                  <a:pt x="147" y="297"/>
                </a:lnTo>
                <a:lnTo>
                  <a:pt x="163" y="295"/>
                </a:lnTo>
                <a:lnTo>
                  <a:pt x="178" y="293"/>
                </a:lnTo>
                <a:lnTo>
                  <a:pt x="180" y="293"/>
                </a:lnTo>
                <a:lnTo>
                  <a:pt x="180" y="291"/>
                </a:lnTo>
                <a:lnTo>
                  <a:pt x="180" y="289"/>
                </a:lnTo>
                <a:lnTo>
                  <a:pt x="180" y="289"/>
                </a:lnTo>
                <a:lnTo>
                  <a:pt x="180" y="288"/>
                </a:lnTo>
                <a:lnTo>
                  <a:pt x="180" y="286"/>
                </a:lnTo>
                <a:lnTo>
                  <a:pt x="180" y="286"/>
                </a:lnTo>
                <a:lnTo>
                  <a:pt x="180" y="284"/>
                </a:lnTo>
                <a:lnTo>
                  <a:pt x="180" y="282"/>
                </a:lnTo>
                <a:lnTo>
                  <a:pt x="176" y="284"/>
                </a:lnTo>
                <a:lnTo>
                  <a:pt x="163" y="286"/>
                </a:lnTo>
                <a:lnTo>
                  <a:pt x="147" y="286"/>
                </a:lnTo>
                <a:lnTo>
                  <a:pt x="134" y="286"/>
                </a:lnTo>
                <a:lnTo>
                  <a:pt x="121" y="284"/>
                </a:lnTo>
                <a:lnTo>
                  <a:pt x="107" y="280"/>
                </a:lnTo>
                <a:lnTo>
                  <a:pt x="94" y="276"/>
                </a:lnTo>
                <a:lnTo>
                  <a:pt x="82" y="270"/>
                </a:lnTo>
                <a:lnTo>
                  <a:pt x="71" y="263"/>
                </a:lnTo>
                <a:lnTo>
                  <a:pt x="59" y="255"/>
                </a:lnTo>
                <a:lnTo>
                  <a:pt x="50" y="245"/>
                </a:lnTo>
                <a:lnTo>
                  <a:pt x="42" y="236"/>
                </a:lnTo>
                <a:lnTo>
                  <a:pt x="32" y="226"/>
                </a:lnTo>
                <a:lnTo>
                  <a:pt x="26" y="215"/>
                </a:lnTo>
                <a:lnTo>
                  <a:pt x="21" y="201"/>
                </a:lnTo>
                <a:lnTo>
                  <a:pt x="15" y="190"/>
                </a:lnTo>
                <a:lnTo>
                  <a:pt x="13" y="176"/>
                </a:lnTo>
                <a:lnTo>
                  <a:pt x="9" y="163"/>
                </a:lnTo>
                <a:lnTo>
                  <a:pt x="9" y="148"/>
                </a:lnTo>
                <a:lnTo>
                  <a:pt x="9" y="134"/>
                </a:lnTo>
                <a:lnTo>
                  <a:pt x="13" y="121"/>
                </a:lnTo>
                <a:lnTo>
                  <a:pt x="15" y="107"/>
                </a:lnTo>
                <a:lnTo>
                  <a:pt x="21" y="94"/>
                </a:lnTo>
                <a:lnTo>
                  <a:pt x="26" y="82"/>
                </a:lnTo>
                <a:lnTo>
                  <a:pt x="32" y="71"/>
                </a:lnTo>
                <a:lnTo>
                  <a:pt x="42" y="59"/>
                </a:lnTo>
                <a:lnTo>
                  <a:pt x="50" y="50"/>
                </a:lnTo>
                <a:lnTo>
                  <a:pt x="59" y="40"/>
                </a:lnTo>
                <a:lnTo>
                  <a:pt x="71" y="32"/>
                </a:lnTo>
                <a:lnTo>
                  <a:pt x="82" y="27"/>
                </a:lnTo>
                <a:lnTo>
                  <a:pt x="94" y="21"/>
                </a:lnTo>
                <a:lnTo>
                  <a:pt x="107" y="15"/>
                </a:lnTo>
                <a:lnTo>
                  <a:pt x="121" y="11"/>
                </a:lnTo>
                <a:lnTo>
                  <a:pt x="134" y="9"/>
                </a:lnTo>
                <a:lnTo>
                  <a:pt x="147" y="9"/>
                </a:lnTo>
                <a:lnTo>
                  <a:pt x="163" y="9"/>
                </a:lnTo>
                <a:lnTo>
                  <a:pt x="176" y="11"/>
                </a:lnTo>
                <a:lnTo>
                  <a:pt x="178" y="13"/>
                </a:lnTo>
                <a:lnTo>
                  <a:pt x="178" y="11"/>
                </a:lnTo>
                <a:lnTo>
                  <a:pt x="178" y="9"/>
                </a:lnTo>
                <a:lnTo>
                  <a:pt x="178" y="9"/>
                </a:lnTo>
                <a:lnTo>
                  <a:pt x="178" y="7"/>
                </a:lnTo>
                <a:lnTo>
                  <a:pt x="180" y="6"/>
                </a:lnTo>
                <a:lnTo>
                  <a:pt x="180" y="6"/>
                </a:lnTo>
                <a:lnTo>
                  <a:pt x="180" y="4"/>
                </a:lnTo>
                <a:lnTo>
                  <a:pt x="180" y="2"/>
                </a:lnTo>
                <a:close/>
              </a:path>
            </a:pathLst>
          </a:custGeom>
          <a:solidFill>
            <a:srgbClr val="e3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reeform 238"/>
          <p:cNvSpPr/>
          <p:nvPr/>
        </p:nvSpPr>
        <p:spPr>
          <a:xfrm>
            <a:off x="2158920" y="2930400"/>
            <a:ext cx="281160" cy="455760"/>
          </a:xfrm>
          <a:custGeom>
            <a:avLst/>
            <a:gdLst>
              <a:gd name="textAreaLeft" fmla="*/ 0 w 281160"/>
              <a:gd name="textAreaRight" fmla="*/ 281520 w 2811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177" h="287">
                <a:moveTo>
                  <a:pt x="175" y="3"/>
                </a:moveTo>
                <a:lnTo>
                  <a:pt x="173" y="3"/>
                </a:lnTo>
                <a:lnTo>
                  <a:pt x="160" y="2"/>
                </a:lnTo>
                <a:lnTo>
                  <a:pt x="144" y="0"/>
                </a:lnTo>
                <a:lnTo>
                  <a:pt x="131" y="2"/>
                </a:lnTo>
                <a:lnTo>
                  <a:pt x="116" y="3"/>
                </a:lnTo>
                <a:lnTo>
                  <a:pt x="102" y="7"/>
                </a:lnTo>
                <a:lnTo>
                  <a:pt x="89" y="11"/>
                </a:lnTo>
                <a:lnTo>
                  <a:pt x="77" y="17"/>
                </a:lnTo>
                <a:lnTo>
                  <a:pt x="64" y="25"/>
                </a:lnTo>
                <a:lnTo>
                  <a:pt x="54" y="32"/>
                </a:lnTo>
                <a:lnTo>
                  <a:pt x="43" y="42"/>
                </a:lnTo>
                <a:lnTo>
                  <a:pt x="35" y="53"/>
                </a:lnTo>
                <a:lnTo>
                  <a:pt x="25" y="63"/>
                </a:lnTo>
                <a:lnTo>
                  <a:pt x="18" y="74"/>
                </a:lnTo>
                <a:lnTo>
                  <a:pt x="12" y="88"/>
                </a:lnTo>
                <a:lnTo>
                  <a:pt x="8" y="101"/>
                </a:lnTo>
                <a:lnTo>
                  <a:pt x="4" y="115"/>
                </a:lnTo>
                <a:lnTo>
                  <a:pt x="2" y="128"/>
                </a:lnTo>
                <a:lnTo>
                  <a:pt x="0" y="144"/>
                </a:lnTo>
                <a:lnTo>
                  <a:pt x="2" y="159"/>
                </a:lnTo>
                <a:lnTo>
                  <a:pt x="4" y="172"/>
                </a:lnTo>
                <a:lnTo>
                  <a:pt x="8" y="186"/>
                </a:lnTo>
                <a:lnTo>
                  <a:pt x="12" y="199"/>
                </a:lnTo>
                <a:lnTo>
                  <a:pt x="18" y="213"/>
                </a:lnTo>
                <a:lnTo>
                  <a:pt x="25" y="224"/>
                </a:lnTo>
                <a:lnTo>
                  <a:pt x="35" y="236"/>
                </a:lnTo>
                <a:lnTo>
                  <a:pt x="43" y="245"/>
                </a:lnTo>
                <a:lnTo>
                  <a:pt x="54" y="255"/>
                </a:lnTo>
                <a:lnTo>
                  <a:pt x="64" y="262"/>
                </a:lnTo>
                <a:lnTo>
                  <a:pt x="77" y="270"/>
                </a:lnTo>
                <a:lnTo>
                  <a:pt x="89" y="276"/>
                </a:lnTo>
                <a:lnTo>
                  <a:pt x="102" y="282"/>
                </a:lnTo>
                <a:lnTo>
                  <a:pt x="116" y="285"/>
                </a:lnTo>
                <a:lnTo>
                  <a:pt x="131" y="287"/>
                </a:lnTo>
                <a:lnTo>
                  <a:pt x="144" y="287"/>
                </a:lnTo>
                <a:lnTo>
                  <a:pt x="160" y="287"/>
                </a:lnTo>
                <a:lnTo>
                  <a:pt x="173" y="285"/>
                </a:lnTo>
                <a:lnTo>
                  <a:pt x="177" y="284"/>
                </a:lnTo>
                <a:lnTo>
                  <a:pt x="177" y="282"/>
                </a:lnTo>
                <a:lnTo>
                  <a:pt x="177" y="282"/>
                </a:lnTo>
                <a:lnTo>
                  <a:pt x="177" y="280"/>
                </a:lnTo>
                <a:lnTo>
                  <a:pt x="177" y="278"/>
                </a:lnTo>
                <a:lnTo>
                  <a:pt x="177" y="278"/>
                </a:lnTo>
                <a:lnTo>
                  <a:pt x="177" y="276"/>
                </a:lnTo>
                <a:lnTo>
                  <a:pt x="177" y="274"/>
                </a:lnTo>
                <a:lnTo>
                  <a:pt x="177" y="274"/>
                </a:lnTo>
                <a:lnTo>
                  <a:pt x="171" y="274"/>
                </a:lnTo>
                <a:lnTo>
                  <a:pt x="158" y="276"/>
                </a:lnTo>
                <a:lnTo>
                  <a:pt x="144" y="278"/>
                </a:lnTo>
                <a:lnTo>
                  <a:pt x="131" y="276"/>
                </a:lnTo>
                <a:lnTo>
                  <a:pt x="118" y="274"/>
                </a:lnTo>
                <a:lnTo>
                  <a:pt x="106" y="272"/>
                </a:lnTo>
                <a:lnTo>
                  <a:pt x="93" y="266"/>
                </a:lnTo>
                <a:lnTo>
                  <a:pt x="81" y="261"/>
                </a:lnTo>
                <a:lnTo>
                  <a:pt x="70" y="255"/>
                </a:lnTo>
                <a:lnTo>
                  <a:pt x="60" y="247"/>
                </a:lnTo>
                <a:lnTo>
                  <a:pt x="50" y="238"/>
                </a:lnTo>
                <a:lnTo>
                  <a:pt x="43" y="228"/>
                </a:lnTo>
                <a:lnTo>
                  <a:pt x="35" y="218"/>
                </a:lnTo>
                <a:lnTo>
                  <a:pt x="27" y="207"/>
                </a:lnTo>
                <a:lnTo>
                  <a:pt x="22" y="195"/>
                </a:lnTo>
                <a:lnTo>
                  <a:pt x="18" y="184"/>
                </a:lnTo>
                <a:lnTo>
                  <a:pt x="14" y="170"/>
                </a:lnTo>
                <a:lnTo>
                  <a:pt x="12" y="157"/>
                </a:lnTo>
                <a:lnTo>
                  <a:pt x="12" y="144"/>
                </a:lnTo>
                <a:lnTo>
                  <a:pt x="12" y="130"/>
                </a:lnTo>
                <a:lnTo>
                  <a:pt x="14" y="117"/>
                </a:lnTo>
                <a:lnTo>
                  <a:pt x="18" y="103"/>
                </a:lnTo>
                <a:lnTo>
                  <a:pt x="22" y="92"/>
                </a:lnTo>
                <a:lnTo>
                  <a:pt x="27" y="80"/>
                </a:lnTo>
                <a:lnTo>
                  <a:pt x="35" y="69"/>
                </a:lnTo>
                <a:lnTo>
                  <a:pt x="43" y="59"/>
                </a:lnTo>
                <a:lnTo>
                  <a:pt x="50" y="50"/>
                </a:lnTo>
                <a:lnTo>
                  <a:pt x="60" y="40"/>
                </a:lnTo>
                <a:lnTo>
                  <a:pt x="70" y="32"/>
                </a:lnTo>
                <a:lnTo>
                  <a:pt x="81" y="26"/>
                </a:lnTo>
                <a:lnTo>
                  <a:pt x="93" y="21"/>
                </a:lnTo>
                <a:lnTo>
                  <a:pt x="106" y="17"/>
                </a:lnTo>
                <a:lnTo>
                  <a:pt x="118" y="13"/>
                </a:lnTo>
                <a:lnTo>
                  <a:pt x="131" y="11"/>
                </a:lnTo>
                <a:lnTo>
                  <a:pt x="144" y="11"/>
                </a:lnTo>
                <a:lnTo>
                  <a:pt x="158" y="11"/>
                </a:lnTo>
                <a:lnTo>
                  <a:pt x="171" y="13"/>
                </a:lnTo>
                <a:lnTo>
                  <a:pt x="175" y="13"/>
                </a:lnTo>
                <a:lnTo>
                  <a:pt x="175" y="13"/>
                </a:lnTo>
                <a:lnTo>
                  <a:pt x="175" y="11"/>
                </a:lnTo>
                <a:lnTo>
                  <a:pt x="175" y="9"/>
                </a:lnTo>
                <a:lnTo>
                  <a:pt x="175" y="9"/>
                </a:lnTo>
                <a:lnTo>
                  <a:pt x="175" y="7"/>
                </a:lnTo>
                <a:lnTo>
                  <a:pt x="175" y="5"/>
                </a:lnTo>
                <a:lnTo>
                  <a:pt x="175" y="5"/>
                </a:lnTo>
                <a:lnTo>
                  <a:pt x="175" y="3"/>
                </a:lnTo>
                <a:close/>
              </a:path>
            </a:pathLst>
          </a:custGeom>
          <a:solidFill>
            <a:srgbClr val="e4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Freeform 239"/>
          <p:cNvSpPr/>
          <p:nvPr/>
        </p:nvSpPr>
        <p:spPr>
          <a:xfrm>
            <a:off x="2168640" y="2938320"/>
            <a:ext cx="271440" cy="439920"/>
          </a:xfrm>
          <a:custGeom>
            <a:avLst/>
            <a:gdLst>
              <a:gd name="textAreaLeft" fmla="*/ 0 w 271440"/>
              <a:gd name="textAreaRight" fmla="*/ 271800 w 27144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171" h="277">
                <a:moveTo>
                  <a:pt x="169" y="4"/>
                </a:moveTo>
                <a:lnTo>
                  <a:pt x="167" y="2"/>
                </a:lnTo>
                <a:lnTo>
                  <a:pt x="154" y="0"/>
                </a:lnTo>
                <a:lnTo>
                  <a:pt x="138" y="0"/>
                </a:lnTo>
                <a:lnTo>
                  <a:pt x="125" y="0"/>
                </a:lnTo>
                <a:lnTo>
                  <a:pt x="112" y="2"/>
                </a:lnTo>
                <a:lnTo>
                  <a:pt x="98" y="6"/>
                </a:lnTo>
                <a:lnTo>
                  <a:pt x="85" y="12"/>
                </a:lnTo>
                <a:lnTo>
                  <a:pt x="73" y="18"/>
                </a:lnTo>
                <a:lnTo>
                  <a:pt x="62" y="23"/>
                </a:lnTo>
                <a:lnTo>
                  <a:pt x="50" y="31"/>
                </a:lnTo>
                <a:lnTo>
                  <a:pt x="41" y="41"/>
                </a:lnTo>
                <a:lnTo>
                  <a:pt x="33" y="50"/>
                </a:lnTo>
                <a:lnTo>
                  <a:pt x="23" y="62"/>
                </a:lnTo>
                <a:lnTo>
                  <a:pt x="17" y="73"/>
                </a:lnTo>
                <a:lnTo>
                  <a:pt x="12" y="85"/>
                </a:lnTo>
                <a:lnTo>
                  <a:pt x="6" y="98"/>
                </a:lnTo>
                <a:lnTo>
                  <a:pt x="4" y="112"/>
                </a:lnTo>
                <a:lnTo>
                  <a:pt x="0" y="125"/>
                </a:lnTo>
                <a:lnTo>
                  <a:pt x="0" y="139"/>
                </a:lnTo>
                <a:lnTo>
                  <a:pt x="0" y="154"/>
                </a:lnTo>
                <a:lnTo>
                  <a:pt x="4" y="167"/>
                </a:lnTo>
                <a:lnTo>
                  <a:pt x="6" y="181"/>
                </a:lnTo>
                <a:lnTo>
                  <a:pt x="12" y="192"/>
                </a:lnTo>
                <a:lnTo>
                  <a:pt x="17" y="206"/>
                </a:lnTo>
                <a:lnTo>
                  <a:pt x="23" y="217"/>
                </a:lnTo>
                <a:lnTo>
                  <a:pt x="33" y="227"/>
                </a:lnTo>
                <a:lnTo>
                  <a:pt x="41" y="236"/>
                </a:lnTo>
                <a:lnTo>
                  <a:pt x="50" y="246"/>
                </a:lnTo>
                <a:lnTo>
                  <a:pt x="62" y="254"/>
                </a:lnTo>
                <a:lnTo>
                  <a:pt x="73" y="261"/>
                </a:lnTo>
                <a:lnTo>
                  <a:pt x="85" y="267"/>
                </a:lnTo>
                <a:lnTo>
                  <a:pt x="98" y="271"/>
                </a:lnTo>
                <a:lnTo>
                  <a:pt x="112" y="275"/>
                </a:lnTo>
                <a:lnTo>
                  <a:pt x="125" y="277"/>
                </a:lnTo>
                <a:lnTo>
                  <a:pt x="138" y="277"/>
                </a:lnTo>
                <a:lnTo>
                  <a:pt x="154" y="277"/>
                </a:lnTo>
                <a:lnTo>
                  <a:pt x="167" y="275"/>
                </a:lnTo>
                <a:lnTo>
                  <a:pt x="171" y="273"/>
                </a:lnTo>
                <a:lnTo>
                  <a:pt x="171" y="273"/>
                </a:lnTo>
                <a:lnTo>
                  <a:pt x="171" y="271"/>
                </a:lnTo>
                <a:lnTo>
                  <a:pt x="171" y="269"/>
                </a:lnTo>
                <a:lnTo>
                  <a:pt x="171" y="269"/>
                </a:lnTo>
                <a:lnTo>
                  <a:pt x="171" y="267"/>
                </a:lnTo>
                <a:lnTo>
                  <a:pt x="171" y="265"/>
                </a:lnTo>
                <a:lnTo>
                  <a:pt x="171" y="265"/>
                </a:lnTo>
                <a:lnTo>
                  <a:pt x="171" y="263"/>
                </a:lnTo>
                <a:lnTo>
                  <a:pt x="165" y="265"/>
                </a:lnTo>
                <a:lnTo>
                  <a:pt x="152" y="267"/>
                </a:lnTo>
                <a:lnTo>
                  <a:pt x="138" y="267"/>
                </a:lnTo>
                <a:lnTo>
                  <a:pt x="125" y="267"/>
                </a:lnTo>
                <a:lnTo>
                  <a:pt x="113" y="265"/>
                </a:lnTo>
                <a:lnTo>
                  <a:pt x="100" y="261"/>
                </a:lnTo>
                <a:lnTo>
                  <a:pt x="89" y="257"/>
                </a:lnTo>
                <a:lnTo>
                  <a:pt x="77" y="252"/>
                </a:lnTo>
                <a:lnTo>
                  <a:pt x="67" y="246"/>
                </a:lnTo>
                <a:lnTo>
                  <a:pt x="58" y="238"/>
                </a:lnTo>
                <a:lnTo>
                  <a:pt x="48" y="229"/>
                </a:lnTo>
                <a:lnTo>
                  <a:pt x="41" y="221"/>
                </a:lnTo>
                <a:lnTo>
                  <a:pt x="33" y="211"/>
                </a:lnTo>
                <a:lnTo>
                  <a:pt x="27" y="200"/>
                </a:lnTo>
                <a:lnTo>
                  <a:pt x="21" y="188"/>
                </a:lnTo>
                <a:lnTo>
                  <a:pt x="16" y="177"/>
                </a:lnTo>
                <a:lnTo>
                  <a:pt x="14" y="165"/>
                </a:lnTo>
                <a:lnTo>
                  <a:pt x="12" y="152"/>
                </a:lnTo>
                <a:lnTo>
                  <a:pt x="10" y="139"/>
                </a:lnTo>
                <a:lnTo>
                  <a:pt x="12" y="125"/>
                </a:lnTo>
                <a:lnTo>
                  <a:pt x="14" y="114"/>
                </a:lnTo>
                <a:lnTo>
                  <a:pt x="16" y="100"/>
                </a:lnTo>
                <a:lnTo>
                  <a:pt x="21" y="89"/>
                </a:lnTo>
                <a:lnTo>
                  <a:pt x="27" y="77"/>
                </a:lnTo>
                <a:lnTo>
                  <a:pt x="33" y="68"/>
                </a:lnTo>
                <a:lnTo>
                  <a:pt x="41" y="58"/>
                </a:lnTo>
                <a:lnTo>
                  <a:pt x="48" y="48"/>
                </a:lnTo>
                <a:lnTo>
                  <a:pt x="58" y="41"/>
                </a:lnTo>
                <a:lnTo>
                  <a:pt x="67" y="33"/>
                </a:lnTo>
                <a:lnTo>
                  <a:pt x="77" y="25"/>
                </a:lnTo>
                <a:lnTo>
                  <a:pt x="89" y="21"/>
                </a:lnTo>
                <a:lnTo>
                  <a:pt x="100" y="16"/>
                </a:lnTo>
                <a:lnTo>
                  <a:pt x="113" y="14"/>
                </a:lnTo>
                <a:lnTo>
                  <a:pt x="125" y="12"/>
                </a:lnTo>
                <a:lnTo>
                  <a:pt x="138" y="10"/>
                </a:lnTo>
                <a:lnTo>
                  <a:pt x="152" y="12"/>
                </a:lnTo>
                <a:lnTo>
                  <a:pt x="165" y="14"/>
                </a:lnTo>
                <a:lnTo>
                  <a:pt x="169" y="14"/>
                </a:lnTo>
                <a:lnTo>
                  <a:pt x="169" y="14"/>
                </a:lnTo>
                <a:lnTo>
                  <a:pt x="169" y="12"/>
                </a:lnTo>
                <a:lnTo>
                  <a:pt x="169" y="10"/>
                </a:lnTo>
                <a:lnTo>
                  <a:pt x="169" y="8"/>
                </a:lnTo>
                <a:lnTo>
                  <a:pt x="169" y="8"/>
                </a:lnTo>
                <a:lnTo>
                  <a:pt x="169" y="6"/>
                </a:lnTo>
                <a:lnTo>
                  <a:pt x="169" y="4"/>
                </a:lnTo>
                <a:lnTo>
                  <a:pt x="169" y="4"/>
                </a:lnTo>
                <a:close/>
              </a:path>
            </a:pathLst>
          </a:custGeom>
          <a:solidFill>
            <a:srgbClr val="e5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Freeform 240"/>
          <p:cNvSpPr/>
          <p:nvPr/>
        </p:nvSpPr>
        <p:spPr>
          <a:xfrm>
            <a:off x="2178000" y="2948040"/>
            <a:ext cx="262080" cy="423720"/>
          </a:xfrm>
          <a:custGeom>
            <a:avLst/>
            <a:gdLst>
              <a:gd name="textAreaLeft" fmla="*/ 0 w 262080"/>
              <a:gd name="textAreaRight" fmla="*/ 262440 w 26208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165" h="267">
                <a:moveTo>
                  <a:pt x="163" y="2"/>
                </a:moveTo>
                <a:lnTo>
                  <a:pt x="159" y="2"/>
                </a:lnTo>
                <a:lnTo>
                  <a:pt x="146" y="0"/>
                </a:lnTo>
                <a:lnTo>
                  <a:pt x="132" y="0"/>
                </a:lnTo>
                <a:lnTo>
                  <a:pt x="119" y="0"/>
                </a:lnTo>
                <a:lnTo>
                  <a:pt x="106" y="2"/>
                </a:lnTo>
                <a:lnTo>
                  <a:pt x="94" y="6"/>
                </a:lnTo>
                <a:lnTo>
                  <a:pt x="81" y="10"/>
                </a:lnTo>
                <a:lnTo>
                  <a:pt x="69" y="15"/>
                </a:lnTo>
                <a:lnTo>
                  <a:pt x="58" y="21"/>
                </a:lnTo>
                <a:lnTo>
                  <a:pt x="48" y="29"/>
                </a:lnTo>
                <a:lnTo>
                  <a:pt x="38" y="39"/>
                </a:lnTo>
                <a:lnTo>
                  <a:pt x="31" y="48"/>
                </a:lnTo>
                <a:lnTo>
                  <a:pt x="23" y="58"/>
                </a:lnTo>
                <a:lnTo>
                  <a:pt x="15" y="69"/>
                </a:lnTo>
                <a:lnTo>
                  <a:pt x="10" y="81"/>
                </a:lnTo>
                <a:lnTo>
                  <a:pt x="6" y="92"/>
                </a:lnTo>
                <a:lnTo>
                  <a:pt x="2" y="106"/>
                </a:lnTo>
                <a:lnTo>
                  <a:pt x="0" y="119"/>
                </a:lnTo>
                <a:lnTo>
                  <a:pt x="0" y="133"/>
                </a:lnTo>
                <a:lnTo>
                  <a:pt x="0" y="146"/>
                </a:lnTo>
                <a:lnTo>
                  <a:pt x="2" y="159"/>
                </a:lnTo>
                <a:lnTo>
                  <a:pt x="6" y="173"/>
                </a:lnTo>
                <a:lnTo>
                  <a:pt x="10" y="184"/>
                </a:lnTo>
                <a:lnTo>
                  <a:pt x="15" y="196"/>
                </a:lnTo>
                <a:lnTo>
                  <a:pt x="23" y="207"/>
                </a:lnTo>
                <a:lnTo>
                  <a:pt x="31" y="217"/>
                </a:lnTo>
                <a:lnTo>
                  <a:pt x="38" y="227"/>
                </a:lnTo>
                <a:lnTo>
                  <a:pt x="48" y="236"/>
                </a:lnTo>
                <a:lnTo>
                  <a:pt x="58" y="244"/>
                </a:lnTo>
                <a:lnTo>
                  <a:pt x="69" y="250"/>
                </a:lnTo>
                <a:lnTo>
                  <a:pt x="81" y="255"/>
                </a:lnTo>
                <a:lnTo>
                  <a:pt x="94" y="261"/>
                </a:lnTo>
                <a:lnTo>
                  <a:pt x="106" y="263"/>
                </a:lnTo>
                <a:lnTo>
                  <a:pt x="119" y="265"/>
                </a:lnTo>
                <a:lnTo>
                  <a:pt x="132" y="267"/>
                </a:lnTo>
                <a:lnTo>
                  <a:pt x="146" y="265"/>
                </a:lnTo>
                <a:lnTo>
                  <a:pt x="159" y="263"/>
                </a:lnTo>
                <a:lnTo>
                  <a:pt x="165" y="263"/>
                </a:lnTo>
                <a:lnTo>
                  <a:pt x="165" y="261"/>
                </a:lnTo>
                <a:lnTo>
                  <a:pt x="165" y="259"/>
                </a:lnTo>
                <a:lnTo>
                  <a:pt x="165" y="259"/>
                </a:lnTo>
                <a:lnTo>
                  <a:pt x="165" y="257"/>
                </a:lnTo>
                <a:lnTo>
                  <a:pt x="165" y="255"/>
                </a:lnTo>
                <a:lnTo>
                  <a:pt x="165" y="255"/>
                </a:lnTo>
                <a:lnTo>
                  <a:pt x="165" y="253"/>
                </a:lnTo>
                <a:lnTo>
                  <a:pt x="165" y="251"/>
                </a:lnTo>
                <a:lnTo>
                  <a:pt x="157" y="253"/>
                </a:lnTo>
                <a:lnTo>
                  <a:pt x="146" y="255"/>
                </a:lnTo>
                <a:lnTo>
                  <a:pt x="132" y="255"/>
                </a:lnTo>
                <a:lnTo>
                  <a:pt x="121" y="255"/>
                </a:lnTo>
                <a:lnTo>
                  <a:pt x="107" y="253"/>
                </a:lnTo>
                <a:lnTo>
                  <a:pt x="96" y="250"/>
                </a:lnTo>
                <a:lnTo>
                  <a:pt x="84" y="246"/>
                </a:lnTo>
                <a:lnTo>
                  <a:pt x="75" y="242"/>
                </a:lnTo>
                <a:lnTo>
                  <a:pt x="63" y="234"/>
                </a:lnTo>
                <a:lnTo>
                  <a:pt x="54" y="228"/>
                </a:lnTo>
                <a:lnTo>
                  <a:pt x="46" y="221"/>
                </a:lnTo>
                <a:lnTo>
                  <a:pt x="38" y="211"/>
                </a:lnTo>
                <a:lnTo>
                  <a:pt x="31" y="202"/>
                </a:lnTo>
                <a:lnTo>
                  <a:pt x="25" y="192"/>
                </a:lnTo>
                <a:lnTo>
                  <a:pt x="19" y="180"/>
                </a:lnTo>
                <a:lnTo>
                  <a:pt x="15" y="169"/>
                </a:lnTo>
                <a:lnTo>
                  <a:pt x="11" y="157"/>
                </a:lnTo>
                <a:lnTo>
                  <a:pt x="10" y="146"/>
                </a:lnTo>
                <a:lnTo>
                  <a:pt x="10" y="133"/>
                </a:lnTo>
                <a:lnTo>
                  <a:pt x="10" y="121"/>
                </a:lnTo>
                <a:lnTo>
                  <a:pt x="11" y="108"/>
                </a:lnTo>
                <a:lnTo>
                  <a:pt x="15" y="96"/>
                </a:lnTo>
                <a:lnTo>
                  <a:pt x="19" y="85"/>
                </a:lnTo>
                <a:lnTo>
                  <a:pt x="25" y="75"/>
                </a:lnTo>
                <a:lnTo>
                  <a:pt x="31" y="63"/>
                </a:lnTo>
                <a:lnTo>
                  <a:pt x="38" y="54"/>
                </a:lnTo>
                <a:lnTo>
                  <a:pt x="46" y="46"/>
                </a:lnTo>
                <a:lnTo>
                  <a:pt x="54" y="39"/>
                </a:lnTo>
                <a:lnTo>
                  <a:pt x="63" y="31"/>
                </a:lnTo>
                <a:lnTo>
                  <a:pt x="75" y="25"/>
                </a:lnTo>
                <a:lnTo>
                  <a:pt x="84" y="19"/>
                </a:lnTo>
                <a:lnTo>
                  <a:pt x="96" y="15"/>
                </a:lnTo>
                <a:lnTo>
                  <a:pt x="107" y="12"/>
                </a:lnTo>
                <a:lnTo>
                  <a:pt x="121" y="10"/>
                </a:lnTo>
                <a:lnTo>
                  <a:pt x="132" y="10"/>
                </a:lnTo>
                <a:lnTo>
                  <a:pt x="146" y="10"/>
                </a:lnTo>
                <a:lnTo>
                  <a:pt x="157" y="12"/>
                </a:lnTo>
                <a:lnTo>
                  <a:pt x="163" y="14"/>
                </a:lnTo>
                <a:lnTo>
                  <a:pt x="163" y="12"/>
                </a:lnTo>
                <a:lnTo>
                  <a:pt x="163" y="12"/>
                </a:lnTo>
                <a:lnTo>
                  <a:pt x="163" y="10"/>
                </a:lnTo>
                <a:lnTo>
                  <a:pt x="163" y="8"/>
                </a:lnTo>
                <a:lnTo>
                  <a:pt x="163" y="8"/>
                </a:lnTo>
                <a:lnTo>
                  <a:pt x="163" y="6"/>
                </a:lnTo>
                <a:lnTo>
                  <a:pt x="163" y="4"/>
                </a:lnTo>
                <a:lnTo>
                  <a:pt x="163" y="2"/>
                </a:lnTo>
                <a:close/>
              </a:path>
            </a:pathLst>
          </a:custGeom>
          <a:solidFill>
            <a:srgbClr val="e6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reeform 241"/>
          <p:cNvSpPr/>
          <p:nvPr/>
        </p:nvSpPr>
        <p:spPr>
          <a:xfrm>
            <a:off x="2184480" y="2954160"/>
            <a:ext cx="255600" cy="408240"/>
          </a:xfrm>
          <a:custGeom>
            <a:avLst/>
            <a:gdLst>
              <a:gd name="textAreaLeft" fmla="*/ 0 w 255600"/>
              <a:gd name="textAreaRight" fmla="*/ 255600 w 255600"/>
              <a:gd name="textAreaTop" fmla="*/ 0 h 408240"/>
              <a:gd name="textAreaBottom" fmla="*/ 408600 h 408240"/>
            </a:gdLst>
            <a:ahLst/>
            <a:rect l="textAreaLeft" t="textAreaTop" r="textAreaRight" b="textAreaBottom"/>
            <a:pathLst>
              <a:path w="161" h="257">
                <a:moveTo>
                  <a:pt x="159" y="4"/>
                </a:moveTo>
                <a:lnTo>
                  <a:pt x="155" y="4"/>
                </a:lnTo>
                <a:lnTo>
                  <a:pt x="142" y="2"/>
                </a:lnTo>
                <a:lnTo>
                  <a:pt x="128" y="0"/>
                </a:lnTo>
                <a:lnTo>
                  <a:pt x="115" y="2"/>
                </a:lnTo>
                <a:lnTo>
                  <a:pt x="103" y="4"/>
                </a:lnTo>
                <a:lnTo>
                  <a:pt x="90" y="6"/>
                </a:lnTo>
                <a:lnTo>
                  <a:pt x="79" y="11"/>
                </a:lnTo>
                <a:lnTo>
                  <a:pt x="67" y="15"/>
                </a:lnTo>
                <a:lnTo>
                  <a:pt x="57" y="23"/>
                </a:lnTo>
                <a:lnTo>
                  <a:pt x="48" y="31"/>
                </a:lnTo>
                <a:lnTo>
                  <a:pt x="38" y="38"/>
                </a:lnTo>
                <a:lnTo>
                  <a:pt x="31" y="48"/>
                </a:lnTo>
                <a:lnTo>
                  <a:pt x="23" y="58"/>
                </a:lnTo>
                <a:lnTo>
                  <a:pt x="17" y="67"/>
                </a:lnTo>
                <a:lnTo>
                  <a:pt x="11" y="79"/>
                </a:lnTo>
                <a:lnTo>
                  <a:pt x="6" y="90"/>
                </a:lnTo>
                <a:lnTo>
                  <a:pt x="4" y="104"/>
                </a:lnTo>
                <a:lnTo>
                  <a:pt x="2" y="115"/>
                </a:lnTo>
                <a:lnTo>
                  <a:pt x="0" y="129"/>
                </a:lnTo>
                <a:lnTo>
                  <a:pt x="2" y="142"/>
                </a:lnTo>
                <a:lnTo>
                  <a:pt x="4" y="155"/>
                </a:lnTo>
                <a:lnTo>
                  <a:pt x="6" y="167"/>
                </a:lnTo>
                <a:lnTo>
                  <a:pt x="11" y="178"/>
                </a:lnTo>
                <a:lnTo>
                  <a:pt x="17" y="190"/>
                </a:lnTo>
                <a:lnTo>
                  <a:pt x="23" y="201"/>
                </a:lnTo>
                <a:lnTo>
                  <a:pt x="31" y="211"/>
                </a:lnTo>
                <a:lnTo>
                  <a:pt x="38" y="219"/>
                </a:lnTo>
                <a:lnTo>
                  <a:pt x="48" y="228"/>
                </a:lnTo>
                <a:lnTo>
                  <a:pt x="57" y="236"/>
                </a:lnTo>
                <a:lnTo>
                  <a:pt x="67" y="242"/>
                </a:lnTo>
                <a:lnTo>
                  <a:pt x="79" y="247"/>
                </a:lnTo>
                <a:lnTo>
                  <a:pt x="90" y="251"/>
                </a:lnTo>
                <a:lnTo>
                  <a:pt x="103" y="255"/>
                </a:lnTo>
                <a:lnTo>
                  <a:pt x="115" y="257"/>
                </a:lnTo>
                <a:lnTo>
                  <a:pt x="128" y="257"/>
                </a:lnTo>
                <a:lnTo>
                  <a:pt x="142" y="257"/>
                </a:lnTo>
                <a:lnTo>
                  <a:pt x="155" y="255"/>
                </a:lnTo>
                <a:lnTo>
                  <a:pt x="161" y="253"/>
                </a:lnTo>
                <a:lnTo>
                  <a:pt x="161" y="251"/>
                </a:lnTo>
                <a:lnTo>
                  <a:pt x="161" y="251"/>
                </a:lnTo>
                <a:lnTo>
                  <a:pt x="161" y="249"/>
                </a:lnTo>
                <a:lnTo>
                  <a:pt x="161" y="247"/>
                </a:lnTo>
                <a:lnTo>
                  <a:pt x="161" y="247"/>
                </a:lnTo>
                <a:lnTo>
                  <a:pt x="159" y="246"/>
                </a:lnTo>
                <a:lnTo>
                  <a:pt x="159" y="244"/>
                </a:lnTo>
                <a:lnTo>
                  <a:pt x="159" y="242"/>
                </a:lnTo>
                <a:lnTo>
                  <a:pt x="153" y="244"/>
                </a:lnTo>
                <a:lnTo>
                  <a:pt x="142" y="246"/>
                </a:lnTo>
                <a:lnTo>
                  <a:pt x="128" y="247"/>
                </a:lnTo>
                <a:lnTo>
                  <a:pt x="117" y="246"/>
                </a:lnTo>
                <a:lnTo>
                  <a:pt x="105" y="244"/>
                </a:lnTo>
                <a:lnTo>
                  <a:pt x="94" y="242"/>
                </a:lnTo>
                <a:lnTo>
                  <a:pt x="82" y="238"/>
                </a:lnTo>
                <a:lnTo>
                  <a:pt x="73" y="232"/>
                </a:lnTo>
                <a:lnTo>
                  <a:pt x="63" y="226"/>
                </a:lnTo>
                <a:lnTo>
                  <a:pt x="54" y="221"/>
                </a:lnTo>
                <a:lnTo>
                  <a:pt x="46" y="213"/>
                </a:lnTo>
                <a:lnTo>
                  <a:pt x="38" y="203"/>
                </a:lnTo>
                <a:lnTo>
                  <a:pt x="31" y="196"/>
                </a:lnTo>
                <a:lnTo>
                  <a:pt x="25" y="184"/>
                </a:lnTo>
                <a:lnTo>
                  <a:pt x="21" y="175"/>
                </a:lnTo>
                <a:lnTo>
                  <a:pt x="17" y="163"/>
                </a:lnTo>
                <a:lnTo>
                  <a:pt x="13" y="153"/>
                </a:lnTo>
                <a:lnTo>
                  <a:pt x="11" y="140"/>
                </a:lnTo>
                <a:lnTo>
                  <a:pt x="11" y="129"/>
                </a:lnTo>
                <a:lnTo>
                  <a:pt x="11" y="117"/>
                </a:lnTo>
                <a:lnTo>
                  <a:pt x="13" y="105"/>
                </a:lnTo>
                <a:lnTo>
                  <a:pt x="17" y="94"/>
                </a:lnTo>
                <a:lnTo>
                  <a:pt x="21" y="82"/>
                </a:lnTo>
                <a:lnTo>
                  <a:pt x="25" y="73"/>
                </a:lnTo>
                <a:lnTo>
                  <a:pt x="31" y="63"/>
                </a:lnTo>
                <a:lnTo>
                  <a:pt x="38" y="54"/>
                </a:lnTo>
                <a:lnTo>
                  <a:pt x="46" y="46"/>
                </a:lnTo>
                <a:lnTo>
                  <a:pt x="54" y="38"/>
                </a:lnTo>
                <a:lnTo>
                  <a:pt x="63" y="31"/>
                </a:lnTo>
                <a:lnTo>
                  <a:pt x="73" y="25"/>
                </a:lnTo>
                <a:lnTo>
                  <a:pt x="82" y="19"/>
                </a:lnTo>
                <a:lnTo>
                  <a:pt x="94" y="15"/>
                </a:lnTo>
                <a:lnTo>
                  <a:pt x="105" y="13"/>
                </a:lnTo>
                <a:lnTo>
                  <a:pt x="117" y="11"/>
                </a:lnTo>
                <a:lnTo>
                  <a:pt x="128" y="11"/>
                </a:lnTo>
                <a:lnTo>
                  <a:pt x="142" y="11"/>
                </a:lnTo>
                <a:lnTo>
                  <a:pt x="153" y="13"/>
                </a:lnTo>
                <a:lnTo>
                  <a:pt x="159" y="15"/>
                </a:lnTo>
                <a:lnTo>
                  <a:pt x="159" y="13"/>
                </a:lnTo>
                <a:lnTo>
                  <a:pt x="159" y="11"/>
                </a:lnTo>
                <a:lnTo>
                  <a:pt x="159" y="11"/>
                </a:lnTo>
                <a:lnTo>
                  <a:pt x="159" y="10"/>
                </a:lnTo>
                <a:lnTo>
                  <a:pt x="159" y="8"/>
                </a:lnTo>
                <a:lnTo>
                  <a:pt x="159" y="8"/>
                </a:lnTo>
                <a:lnTo>
                  <a:pt x="159" y="6"/>
                </a:lnTo>
                <a:lnTo>
                  <a:pt x="159" y="4"/>
                </a:lnTo>
                <a:close/>
              </a:path>
            </a:pathLst>
          </a:custGeom>
          <a:solidFill>
            <a:srgbClr val="e7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Freeform 242"/>
          <p:cNvSpPr/>
          <p:nvPr/>
        </p:nvSpPr>
        <p:spPr>
          <a:xfrm>
            <a:off x="2193840" y="2963880"/>
            <a:ext cx="246240" cy="388800"/>
          </a:xfrm>
          <a:custGeom>
            <a:avLst/>
            <a:gdLst>
              <a:gd name="textAreaLeft" fmla="*/ 0 w 246240"/>
              <a:gd name="textAreaRight" fmla="*/ 246240 w 2462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55" h="245">
                <a:moveTo>
                  <a:pt x="153" y="4"/>
                </a:moveTo>
                <a:lnTo>
                  <a:pt x="147" y="2"/>
                </a:lnTo>
                <a:lnTo>
                  <a:pt x="136" y="0"/>
                </a:lnTo>
                <a:lnTo>
                  <a:pt x="122" y="0"/>
                </a:lnTo>
                <a:lnTo>
                  <a:pt x="111" y="0"/>
                </a:lnTo>
                <a:lnTo>
                  <a:pt x="97" y="2"/>
                </a:lnTo>
                <a:lnTo>
                  <a:pt x="86" y="5"/>
                </a:lnTo>
                <a:lnTo>
                  <a:pt x="74" y="9"/>
                </a:lnTo>
                <a:lnTo>
                  <a:pt x="65" y="15"/>
                </a:lnTo>
                <a:lnTo>
                  <a:pt x="53" y="21"/>
                </a:lnTo>
                <a:lnTo>
                  <a:pt x="44" y="29"/>
                </a:lnTo>
                <a:lnTo>
                  <a:pt x="36" y="36"/>
                </a:lnTo>
                <a:lnTo>
                  <a:pt x="28" y="44"/>
                </a:lnTo>
                <a:lnTo>
                  <a:pt x="21" y="53"/>
                </a:lnTo>
                <a:lnTo>
                  <a:pt x="15" y="65"/>
                </a:lnTo>
                <a:lnTo>
                  <a:pt x="9" y="75"/>
                </a:lnTo>
                <a:lnTo>
                  <a:pt x="5" y="86"/>
                </a:lnTo>
                <a:lnTo>
                  <a:pt x="1" y="98"/>
                </a:lnTo>
                <a:lnTo>
                  <a:pt x="0" y="111"/>
                </a:lnTo>
                <a:lnTo>
                  <a:pt x="0" y="123"/>
                </a:lnTo>
                <a:lnTo>
                  <a:pt x="0" y="136"/>
                </a:lnTo>
                <a:lnTo>
                  <a:pt x="1" y="147"/>
                </a:lnTo>
                <a:lnTo>
                  <a:pt x="5" y="159"/>
                </a:lnTo>
                <a:lnTo>
                  <a:pt x="9" y="170"/>
                </a:lnTo>
                <a:lnTo>
                  <a:pt x="15" y="182"/>
                </a:lnTo>
                <a:lnTo>
                  <a:pt x="21" y="192"/>
                </a:lnTo>
                <a:lnTo>
                  <a:pt x="28" y="201"/>
                </a:lnTo>
                <a:lnTo>
                  <a:pt x="36" y="211"/>
                </a:lnTo>
                <a:lnTo>
                  <a:pt x="44" y="218"/>
                </a:lnTo>
                <a:lnTo>
                  <a:pt x="53" y="224"/>
                </a:lnTo>
                <a:lnTo>
                  <a:pt x="65" y="232"/>
                </a:lnTo>
                <a:lnTo>
                  <a:pt x="74" y="236"/>
                </a:lnTo>
                <a:lnTo>
                  <a:pt x="86" y="240"/>
                </a:lnTo>
                <a:lnTo>
                  <a:pt x="97" y="243"/>
                </a:lnTo>
                <a:lnTo>
                  <a:pt x="111" y="245"/>
                </a:lnTo>
                <a:lnTo>
                  <a:pt x="122" y="245"/>
                </a:lnTo>
                <a:lnTo>
                  <a:pt x="136" y="245"/>
                </a:lnTo>
                <a:lnTo>
                  <a:pt x="147" y="243"/>
                </a:lnTo>
                <a:lnTo>
                  <a:pt x="155" y="241"/>
                </a:lnTo>
                <a:lnTo>
                  <a:pt x="155" y="241"/>
                </a:lnTo>
                <a:lnTo>
                  <a:pt x="153" y="240"/>
                </a:lnTo>
                <a:lnTo>
                  <a:pt x="153" y="238"/>
                </a:lnTo>
                <a:lnTo>
                  <a:pt x="153" y="236"/>
                </a:lnTo>
                <a:lnTo>
                  <a:pt x="153" y="236"/>
                </a:lnTo>
                <a:lnTo>
                  <a:pt x="153" y="234"/>
                </a:lnTo>
                <a:lnTo>
                  <a:pt x="153" y="232"/>
                </a:lnTo>
                <a:lnTo>
                  <a:pt x="153" y="232"/>
                </a:lnTo>
                <a:lnTo>
                  <a:pt x="145" y="234"/>
                </a:lnTo>
                <a:lnTo>
                  <a:pt x="134" y="236"/>
                </a:lnTo>
                <a:lnTo>
                  <a:pt x="122" y="236"/>
                </a:lnTo>
                <a:lnTo>
                  <a:pt x="111" y="236"/>
                </a:lnTo>
                <a:lnTo>
                  <a:pt x="99" y="234"/>
                </a:lnTo>
                <a:lnTo>
                  <a:pt x="90" y="230"/>
                </a:lnTo>
                <a:lnTo>
                  <a:pt x="78" y="226"/>
                </a:lnTo>
                <a:lnTo>
                  <a:pt x="69" y="222"/>
                </a:lnTo>
                <a:lnTo>
                  <a:pt x="59" y="217"/>
                </a:lnTo>
                <a:lnTo>
                  <a:pt x="51" y="211"/>
                </a:lnTo>
                <a:lnTo>
                  <a:pt x="44" y="203"/>
                </a:lnTo>
                <a:lnTo>
                  <a:pt x="36" y="195"/>
                </a:lnTo>
                <a:lnTo>
                  <a:pt x="30" y="186"/>
                </a:lnTo>
                <a:lnTo>
                  <a:pt x="25" y="176"/>
                </a:lnTo>
                <a:lnTo>
                  <a:pt x="19" y="167"/>
                </a:lnTo>
                <a:lnTo>
                  <a:pt x="15" y="157"/>
                </a:lnTo>
                <a:lnTo>
                  <a:pt x="13" y="146"/>
                </a:lnTo>
                <a:lnTo>
                  <a:pt x="11" y="134"/>
                </a:lnTo>
                <a:lnTo>
                  <a:pt x="9" y="123"/>
                </a:lnTo>
                <a:lnTo>
                  <a:pt x="11" y="111"/>
                </a:lnTo>
                <a:lnTo>
                  <a:pt x="13" y="99"/>
                </a:lnTo>
                <a:lnTo>
                  <a:pt x="15" y="90"/>
                </a:lnTo>
                <a:lnTo>
                  <a:pt x="19" y="78"/>
                </a:lnTo>
                <a:lnTo>
                  <a:pt x="25" y="69"/>
                </a:lnTo>
                <a:lnTo>
                  <a:pt x="30" y="59"/>
                </a:lnTo>
                <a:lnTo>
                  <a:pt x="36" y="52"/>
                </a:lnTo>
                <a:lnTo>
                  <a:pt x="44" y="44"/>
                </a:lnTo>
                <a:lnTo>
                  <a:pt x="51" y="36"/>
                </a:lnTo>
                <a:lnTo>
                  <a:pt x="59" y="29"/>
                </a:lnTo>
                <a:lnTo>
                  <a:pt x="69" y="23"/>
                </a:lnTo>
                <a:lnTo>
                  <a:pt x="78" y="19"/>
                </a:lnTo>
                <a:lnTo>
                  <a:pt x="90" y="15"/>
                </a:lnTo>
                <a:lnTo>
                  <a:pt x="99" y="11"/>
                </a:lnTo>
                <a:lnTo>
                  <a:pt x="111" y="11"/>
                </a:lnTo>
                <a:lnTo>
                  <a:pt x="122" y="9"/>
                </a:lnTo>
                <a:lnTo>
                  <a:pt x="134" y="11"/>
                </a:lnTo>
                <a:lnTo>
                  <a:pt x="145" y="11"/>
                </a:lnTo>
                <a:lnTo>
                  <a:pt x="153" y="13"/>
                </a:lnTo>
                <a:lnTo>
                  <a:pt x="153" y="13"/>
                </a:lnTo>
                <a:lnTo>
                  <a:pt x="153" y="11"/>
                </a:lnTo>
                <a:lnTo>
                  <a:pt x="153" y="9"/>
                </a:lnTo>
                <a:lnTo>
                  <a:pt x="153" y="9"/>
                </a:lnTo>
                <a:lnTo>
                  <a:pt x="153" y="7"/>
                </a:lnTo>
                <a:lnTo>
                  <a:pt x="153" y="5"/>
                </a:lnTo>
                <a:lnTo>
                  <a:pt x="153" y="5"/>
                </a:lnTo>
                <a:lnTo>
                  <a:pt x="153" y="4"/>
                </a:lnTo>
                <a:close/>
              </a:path>
            </a:pathLst>
          </a:custGeom>
          <a:solidFill>
            <a:srgbClr val="e8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Freeform 243"/>
          <p:cNvSpPr/>
          <p:nvPr/>
        </p:nvSpPr>
        <p:spPr>
          <a:xfrm>
            <a:off x="2201760" y="2971800"/>
            <a:ext cx="235080" cy="374760"/>
          </a:xfrm>
          <a:custGeom>
            <a:avLst/>
            <a:gdLst>
              <a:gd name="textAreaLeft" fmla="*/ 0 w 235080"/>
              <a:gd name="textAreaRight" fmla="*/ 235440 w 23508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48" h="236">
                <a:moveTo>
                  <a:pt x="148" y="4"/>
                </a:moveTo>
                <a:lnTo>
                  <a:pt x="142" y="2"/>
                </a:lnTo>
                <a:lnTo>
                  <a:pt x="131" y="0"/>
                </a:lnTo>
                <a:lnTo>
                  <a:pt x="117" y="0"/>
                </a:lnTo>
                <a:lnTo>
                  <a:pt x="106" y="0"/>
                </a:lnTo>
                <a:lnTo>
                  <a:pt x="94" y="2"/>
                </a:lnTo>
                <a:lnTo>
                  <a:pt x="83" y="4"/>
                </a:lnTo>
                <a:lnTo>
                  <a:pt x="71" y="8"/>
                </a:lnTo>
                <a:lnTo>
                  <a:pt x="62" y="14"/>
                </a:lnTo>
                <a:lnTo>
                  <a:pt x="52" y="20"/>
                </a:lnTo>
                <a:lnTo>
                  <a:pt x="43" y="27"/>
                </a:lnTo>
                <a:lnTo>
                  <a:pt x="35" y="35"/>
                </a:lnTo>
                <a:lnTo>
                  <a:pt x="27" y="43"/>
                </a:lnTo>
                <a:lnTo>
                  <a:pt x="20" y="52"/>
                </a:lnTo>
                <a:lnTo>
                  <a:pt x="14" y="62"/>
                </a:lnTo>
                <a:lnTo>
                  <a:pt x="10" y="71"/>
                </a:lnTo>
                <a:lnTo>
                  <a:pt x="6" y="83"/>
                </a:lnTo>
                <a:lnTo>
                  <a:pt x="2" y="94"/>
                </a:lnTo>
                <a:lnTo>
                  <a:pt x="0" y="106"/>
                </a:lnTo>
                <a:lnTo>
                  <a:pt x="0" y="118"/>
                </a:lnTo>
                <a:lnTo>
                  <a:pt x="0" y="129"/>
                </a:lnTo>
                <a:lnTo>
                  <a:pt x="2" y="142"/>
                </a:lnTo>
                <a:lnTo>
                  <a:pt x="6" y="152"/>
                </a:lnTo>
                <a:lnTo>
                  <a:pt x="10" y="164"/>
                </a:lnTo>
                <a:lnTo>
                  <a:pt x="14" y="173"/>
                </a:lnTo>
                <a:lnTo>
                  <a:pt x="20" y="185"/>
                </a:lnTo>
                <a:lnTo>
                  <a:pt x="27" y="192"/>
                </a:lnTo>
                <a:lnTo>
                  <a:pt x="35" y="202"/>
                </a:lnTo>
                <a:lnTo>
                  <a:pt x="43" y="210"/>
                </a:lnTo>
                <a:lnTo>
                  <a:pt x="52" y="215"/>
                </a:lnTo>
                <a:lnTo>
                  <a:pt x="62" y="221"/>
                </a:lnTo>
                <a:lnTo>
                  <a:pt x="71" y="227"/>
                </a:lnTo>
                <a:lnTo>
                  <a:pt x="83" y="231"/>
                </a:lnTo>
                <a:lnTo>
                  <a:pt x="94" y="233"/>
                </a:lnTo>
                <a:lnTo>
                  <a:pt x="106" y="235"/>
                </a:lnTo>
                <a:lnTo>
                  <a:pt x="117" y="236"/>
                </a:lnTo>
                <a:lnTo>
                  <a:pt x="131" y="235"/>
                </a:lnTo>
                <a:lnTo>
                  <a:pt x="142" y="233"/>
                </a:lnTo>
                <a:lnTo>
                  <a:pt x="148" y="231"/>
                </a:lnTo>
                <a:lnTo>
                  <a:pt x="148" y="231"/>
                </a:lnTo>
                <a:lnTo>
                  <a:pt x="148" y="229"/>
                </a:lnTo>
                <a:lnTo>
                  <a:pt x="148" y="227"/>
                </a:lnTo>
                <a:lnTo>
                  <a:pt x="148" y="227"/>
                </a:lnTo>
                <a:lnTo>
                  <a:pt x="148" y="225"/>
                </a:lnTo>
                <a:lnTo>
                  <a:pt x="148" y="223"/>
                </a:lnTo>
                <a:lnTo>
                  <a:pt x="148" y="223"/>
                </a:lnTo>
                <a:lnTo>
                  <a:pt x="148" y="221"/>
                </a:lnTo>
                <a:lnTo>
                  <a:pt x="140" y="223"/>
                </a:lnTo>
                <a:lnTo>
                  <a:pt x="129" y="225"/>
                </a:lnTo>
                <a:lnTo>
                  <a:pt x="117" y="225"/>
                </a:lnTo>
                <a:lnTo>
                  <a:pt x="108" y="225"/>
                </a:lnTo>
                <a:lnTo>
                  <a:pt x="96" y="223"/>
                </a:lnTo>
                <a:lnTo>
                  <a:pt x="87" y="221"/>
                </a:lnTo>
                <a:lnTo>
                  <a:pt x="75" y="217"/>
                </a:lnTo>
                <a:lnTo>
                  <a:pt x="68" y="213"/>
                </a:lnTo>
                <a:lnTo>
                  <a:pt x="58" y="208"/>
                </a:lnTo>
                <a:lnTo>
                  <a:pt x="50" y="200"/>
                </a:lnTo>
                <a:lnTo>
                  <a:pt x="43" y="194"/>
                </a:lnTo>
                <a:lnTo>
                  <a:pt x="35" y="187"/>
                </a:lnTo>
                <a:lnTo>
                  <a:pt x="29" y="179"/>
                </a:lnTo>
                <a:lnTo>
                  <a:pt x="23" y="169"/>
                </a:lnTo>
                <a:lnTo>
                  <a:pt x="20" y="160"/>
                </a:lnTo>
                <a:lnTo>
                  <a:pt x="16" y="150"/>
                </a:lnTo>
                <a:lnTo>
                  <a:pt x="12" y="139"/>
                </a:lnTo>
                <a:lnTo>
                  <a:pt x="10" y="129"/>
                </a:lnTo>
                <a:lnTo>
                  <a:pt x="10" y="118"/>
                </a:lnTo>
                <a:lnTo>
                  <a:pt x="10" y="106"/>
                </a:lnTo>
                <a:lnTo>
                  <a:pt x="12" y="96"/>
                </a:lnTo>
                <a:lnTo>
                  <a:pt x="16" y="85"/>
                </a:lnTo>
                <a:lnTo>
                  <a:pt x="20" y="75"/>
                </a:lnTo>
                <a:lnTo>
                  <a:pt x="23" y="66"/>
                </a:lnTo>
                <a:lnTo>
                  <a:pt x="29" y="58"/>
                </a:lnTo>
                <a:lnTo>
                  <a:pt x="35" y="48"/>
                </a:lnTo>
                <a:lnTo>
                  <a:pt x="43" y="41"/>
                </a:lnTo>
                <a:lnTo>
                  <a:pt x="50" y="35"/>
                </a:lnTo>
                <a:lnTo>
                  <a:pt x="58" y="29"/>
                </a:lnTo>
                <a:lnTo>
                  <a:pt x="68" y="24"/>
                </a:lnTo>
                <a:lnTo>
                  <a:pt x="75" y="18"/>
                </a:lnTo>
                <a:lnTo>
                  <a:pt x="87" y="14"/>
                </a:lnTo>
                <a:lnTo>
                  <a:pt x="96" y="12"/>
                </a:lnTo>
                <a:lnTo>
                  <a:pt x="108" y="10"/>
                </a:lnTo>
                <a:lnTo>
                  <a:pt x="117" y="10"/>
                </a:lnTo>
                <a:lnTo>
                  <a:pt x="129" y="10"/>
                </a:lnTo>
                <a:lnTo>
                  <a:pt x="140" y="12"/>
                </a:lnTo>
                <a:lnTo>
                  <a:pt x="146" y="14"/>
                </a:lnTo>
                <a:lnTo>
                  <a:pt x="148" y="12"/>
                </a:lnTo>
                <a:lnTo>
                  <a:pt x="148" y="12"/>
                </a:lnTo>
                <a:lnTo>
                  <a:pt x="148" y="10"/>
                </a:lnTo>
                <a:lnTo>
                  <a:pt x="148" y="8"/>
                </a:lnTo>
                <a:lnTo>
                  <a:pt x="148" y="8"/>
                </a:lnTo>
                <a:lnTo>
                  <a:pt x="148" y="6"/>
                </a:lnTo>
                <a:lnTo>
                  <a:pt x="148" y="4"/>
                </a:lnTo>
                <a:lnTo>
                  <a:pt x="148" y="4"/>
                </a:lnTo>
                <a:close/>
              </a:path>
            </a:pathLst>
          </a:custGeom>
          <a:solidFill>
            <a:srgbClr val="e9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Freeform 244"/>
          <p:cNvSpPr/>
          <p:nvPr/>
        </p:nvSpPr>
        <p:spPr>
          <a:xfrm>
            <a:off x="2208240" y="2978280"/>
            <a:ext cx="228600" cy="360360"/>
          </a:xfrm>
          <a:custGeom>
            <a:avLst/>
            <a:gdLst>
              <a:gd name="textAreaLeft" fmla="*/ 0 w 228600"/>
              <a:gd name="textAreaRight" fmla="*/ 228960 w 228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44" h="227">
                <a:moveTo>
                  <a:pt x="144" y="4"/>
                </a:moveTo>
                <a:lnTo>
                  <a:pt x="136" y="2"/>
                </a:lnTo>
                <a:lnTo>
                  <a:pt x="125" y="2"/>
                </a:lnTo>
                <a:lnTo>
                  <a:pt x="113" y="0"/>
                </a:lnTo>
                <a:lnTo>
                  <a:pt x="102" y="2"/>
                </a:lnTo>
                <a:lnTo>
                  <a:pt x="90" y="2"/>
                </a:lnTo>
                <a:lnTo>
                  <a:pt x="81" y="6"/>
                </a:lnTo>
                <a:lnTo>
                  <a:pt x="69" y="10"/>
                </a:lnTo>
                <a:lnTo>
                  <a:pt x="60" y="14"/>
                </a:lnTo>
                <a:lnTo>
                  <a:pt x="50" y="20"/>
                </a:lnTo>
                <a:lnTo>
                  <a:pt x="42" y="27"/>
                </a:lnTo>
                <a:lnTo>
                  <a:pt x="35" y="35"/>
                </a:lnTo>
                <a:lnTo>
                  <a:pt x="27" y="43"/>
                </a:lnTo>
                <a:lnTo>
                  <a:pt x="21" y="50"/>
                </a:lnTo>
                <a:lnTo>
                  <a:pt x="16" y="60"/>
                </a:lnTo>
                <a:lnTo>
                  <a:pt x="10" y="69"/>
                </a:lnTo>
                <a:lnTo>
                  <a:pt x="6" y="81"/>
                </a:lnTo>
                <a:lnTo>
                  <a:pt x="4" y="90"/>
                </a:lnTo>
                <a:lnTo>
                  <a:pt x="2" y="102"/>
                </a:lnTo>
                <a:lnTo>
                  <a:pt x="0" y="114"/>
                </a:lnTo>
                <a:lnTo>
                  <a:pt x="2" y="125"/>
                </a:lnTo>
                <a:lnTo>
                  <a:pt x="4" y="137"/>
                </a:lnTo>
                <a:lnTo>
                  <a:pt x="6" y="148"/>
                </a:lnTo>
                <a:lnTo>
                  <a:pt x="10" y="158"/>
                </a:lnTo>
                <a:lnTo>
                  <a:pt x="16" y="167"/>
                </a:lnTo>
                <a:lnTo>
                  <a:pt x="21" y="177"/>
                </a:lnTo>
                <a:lnTo>
                  <a:pt x="27" y="186"/>
                </a:lnTo>
                <a:lnTo>
                  <a:pt x="35" y="194"/>
                </a:lnTo>
                <a:lnTo>
                  <a:pt x="42" y="202"/>
                </a:lnTo>
                <a:lnTo>
                  <a:pt x="50" y="208"/>
                </a:lnTo>
                <a:lnTo>
                  <a:pt x="60" y="213"/>
                </a:lnTo>
                <a:lnTo>
                  <a:pt x="69" y="217"/>
                </a:lnTo>
                <a:lnTo>
                  <a:pt x="81" y="221"/>
                </a:lnTo>
                <a:lnTo>
                  <a:pt x="90" y="225"/>
                </a:lnTo>
                <a:lnTo>
                  <a:pt x="102" y="227"/>
                </a:lnTo>
                <a:lnTo>
                  <a:pt x="113" y="227"/>
                </a:lnTo>
                <a:lnTo>
                  <a:pt x="125" y="227"/>
                </a:lnTo>
                <a:lnTo>
                  <a:pt x="136" y="225"/>
                </a:lnTo>
                <a:lnTo>
                  <a:pt x="144" y="223"/>
                </a:lnTo>
                <a:lnTo>
                  <a:pt x="144" y="221"/>
                </a:lnTo>
                <a:lnTo>
                  <a:pt x="144" y="219"/>
                </a:lnTo>
                <a:lnTo>
                  <a:pt x="144" y="219"/>
                </a:lnTo>
                <a:lnTo>
                  <a:pt x="144" y="217"/>
                </a:lnTo>
                <a:lnTo>
                  <a:pt x="144" y="215"/>
                </a:lnTo>
                <a:lnTo>
                  <a:pt x="144" y="215"/>
                </a:lnTo>
                <a:lnTo>
                  <a:pt x="144" y="213"/>
                </a:lnTo>
                <a:lnTo>
                  <a:pt x="144" y="211"/>
                </a:lnTo>
                <a:lnTo>
                  <a:pt x="135" y="215"/>
                </a:lnTo>
                <a:lnTo>
                  <a:pt x="125" y="215"/>
                </a:lnTo>
                <a:lnTo>
                  <a:pt x="113" y="217"/>
                </a:lnTo>
                <a:lnTo>
                  <a:pt x="104" y="215"/>
                </a:lnTo>
                <a:lnTo>
                  <a:pt x="94" y="215"/>
                </a:lnTo>
                <a:lnTo>
                  <a:pt x="83" y="211"/>
                </a:lnTo>
                <a:lnTo>
                  <a:pt x="75" y="208"/>
                </a:lnTo>
                <a:lnTo>
                  <a:pt x="56" y="200"/>
                </a:lnTo>
                <a:lnTo>
                  <a:pt x="42" y="186"/>
                </a:lnTo>
                <a:lnTo>
                  <a:pt x="29" y="171"/>
                </a:lnTo>
                <a:lnTo>
                  <a:pt x="19" y="154"/>
                </a:lnTo>
                <a:lnTo>
                  <a:pt x="16" y="144"/>
                </a:lnTo>
                <a:lnTo>
                  <a:pt x="14" y="135"/>
                </a:lnTo>
                <a:lnTo>
                  <a:pt x="12" y="125"/>
                </a:lnTo>
                <a:lnTo>
                  <a:pt x="12" y="114"/>
                </a:lnTo>
                <a:lnTo>
                  <a:pt x="12" y="104"/>
                </a:lnTo>
                <a:lnTo>
                  <a:pt x="14" y="92"/>
                </a:lnTo>
                <a:lnTo>
                  <a:pt x="16" y="83"/>
                </a:lnTo>
                <a:lnTo>
                  <a:pt x="19" y="73"/>
                </a:lnTo>
                <a:lnTo>
                  <a:pt x="29" y="56"/>
                </a:lnTo>
                <a:lnTo>
                  <a:pt x="42" y="41"/>
                </a:lnTo>
                <a:lnTo>
                  <a:pt x="56" y="29"/>
                </a:lnTo>
                <a:lnTo>
                  <a:pt x="75" y="20"/>
                </a:lnTo>
                <a:lnTo>
                  <a:pt x="83" y="16"/>
                </a:lnTo>
                <a:lnTo>
                  <a:pt x="94" y="14"/>
                </a:lnTo>
                <a:lnTo>
                  <a:pt x="104" y="12"/>
                </a:lnTo>
                <a:lnTo>
                  <a:pt x="113" y="12"/>
                </a:lnTo>
                <a:lnTo>
                  <a:pt x="125" y="12"/>
                </a:lnTo>
                <a:lnTo>
                  <a:pt x="135" y="14"/>
                </a:lnTo>
                <a:lnTo>
                  <a:pt x="142" y="16"/>
                </a:lnTo>
                <a:lnTo>
                  <a:pt x="142" y="14"/>
                </a:lnTo>
                <a:lnTo>
                  <a:pt x="142" y="12"/>
                </a:lnTo>
                <a:lnTo>
                  <a:pt x="142" y="12"/>
                </a:lnTo>
                <a:lnTo>
                  <a:pt x="142" y="10"/>
                </a:lnTo>
                <a:lnTo>
                  <a:pt x="144" y="8"/>
                </a:lnTo>
                <a:lnTo>
                  <a:pt x="144" y="8"/>
                </a:lnTo>
                <a:lnTo>
                  <a:pt x="144" y="6"/>
                </a:lnTo>
                <a:lnTo>
                  <a:pt x="144" y="4"/>
                </a:lnTo>
                <a:close/>
              </a:path>
            </a:pathLst>
          </a:custGeom>
          <a:solidFill>
            <a:srgbClr val="ea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Freeform 245"/>
          <p:cNvSpPr/>
          <p:nvPr/>
        </p:nvSpPr>
        <p:spPr>
          <a:xfrm>
            <a:off x="2217600" y="2987640"/>
            <a:ext cx="219240" cy="341280"/>
          </a:xfrm>
          <a:custGeom>
            <a:avLst/>
            <a:gdLst>
              <a:gd name="textAreaLeft" fmla="*/ 0 w 219240"/>
              <a:gd name="textAreaRight" fmla="*/ 219600 w 21924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38" h="215">
                <a:moveTo>
                  <a:pt x="136" y="4"/>
                </a:moveTo>
                <a:lnTo>
                  <a:pt x="130" y="2"/>
                </a:lnTo>
                <a:lnTo>
                  <a:pt x="119" y="0"/>
                </a:lnTo>
                <a:lnTo>
                  <a:pt x="107" y="0"/>
                </a:lnTo>
                <a:lnTo>
                  <a:pt x="98" y="0"/>
                </a:lnTo>
                <a:lnTo>
                  <a:pt x="86" y="2"/>
                </a:lnTo>
                <a:lnTo>
                  <a:pt x="77" y="4"/>
                </a:lnTo>
                <a:lnTo>
                  <a:pt x="65" y="8"/>
                </a:lnTo>
                <a:lnTo>
                  <a:pt x="58" y="14"/>
                </a:lnTo>
                <a:lnTo>
                  <a:pt x="48" y="19"/>
                </a:lnTo>
                <a:lnTo>
                  <a:pt x="40" y="25"/>
                </a:lnTo>
                <a:lnTo>
                  <a:pt x="33" y="31"/>
                </a:lnTo>
                <a:lnTo>
                  <a:pt x="25" y="38"/>
                </a:lnTo>
                <a:lnTo>
                  <a:pt x="19" y="48"/>
                </a:lnTo>
                <a:lnTo>
                  <a:pt x="13" y="56"/>
                </a:lnTo>
                <a:lnTo>
                  <a:pt x="10" y="65"/>
                </a:lnTo>
                <a:lnTo>
                  <a:pt x="6" y="75"/>
                </a:lnTo>
                <a:lnTo>
                  <a:pt x="2" y="86"/>
                </a:lnTo>
                <a:lnTo>
                  <a:pt x="0" y="96"/>
                </a:lnTo>
                <a:lnTo>
                  <a:pt x="0" y="108"/>
                </a:lnTo>
                <a:lnTo>
                  <a:pt x="0" y="119"/>
                </a:lnTo>
                <a:lnTo>
                  <a:pt x="2" y="129"/>
                </a:lnTo>
                <a:lnTo>
                  <a:pt x="6" y="140"/>
                </a:lnTo>
                <a:lnTo>
                  <a:pt x="10" y="150"/>
                </a:lnTo>
                <a:lnTo>
                  <a:pt x="13" y="159"/>
                </a:lnTo>
                <a:lnTo>
                  <a:pt x="19" y="169"/>
                </a:lnTo>
                <a:lnTo>
                  <a:pt x="25" y="177"/>
                </a:lnTo>
                <a:lnTo>
                  <a:pt x="33" y="184"/>
                </a:lnTo>
                <a:lnTo>
                  <a:pt x="40" y="190"/>
                </a:lnTo>
                <a:lnTo>
                  <a:pt x="48" y="198"/>
                </a:lnTo>
                <a:lnTo>
                  <a:pt x="58" y="203"/>
                </a:lnTo>
                <a:lnTo>
                  <a:pt x="65" y="207"/>
                </a:lnTo>
                <a:lnTo>
                  <a:pt x="77" y="211"/>
                </a:lnTo>
                <a:lnTo>
                  <a:pt x="86" y="213"/>
                </a:lnTo>
                <a:lnTo>
                  <a:pt x="98" y="215"/>
                </a:lnTo>
                <a:lnTo>
                  <a:pt x="107" y="215"/>
                </a:lnTo>
                <a:lnTo>
                  <a:pt x="119" y="215"/>
                </a:lnTo>
                <a:lnTo>
                  <a:pt x="130" y="213"/>
                </a:lnTo>
                <a:lnTo>
                  <a:pt x="138" y="211"/>
                </a:lnTo>
                <a:lnTo>
                  <a:pt x="138" y="209"/>
                </a:lnTo>
                <a:lnTo>
                  <a:pt x="138" y="209"/>
                </a:lnTo>
                <a:lnTo>
                  <a:pt x="138" y="207"/>
                </a:lnTo>
                <a:lnTo>
                  <a:pt x="138" y="205"/>
                </a:lnTo>
                <a:lnTo>
                  <a:pt x="138" y="205"/>
                </a:lnTo>
                <a:lnTo>
                  <a:pt x="138" y="203"/>
                </a:lnTo>
                <a:lnTo>
                  <a:pt x="138" y="202"/>
                </a:lnTo>
                <a:lnTo>
                  <a:pt x="138" y="202"/>
                </a:lnTo>
                <a:lnTo>
                  <a:pt x="136" y="202"/>
                </a:lnTo>
                <a:lnTo>
                  <a:pt x="129" y="203"/>
                </a:lnTo>
                <a:lnTo>
                  <a:pt x="119" y="205"/>
                </a:lnTo>
                <a:lnTo>
                  <a:pt x="107" y="205"/>
                </a:lnTo>
                <a:lnTo>
                  <a:pt x="98" y="205"/>
                </a:lnTo>
                <a:lnTo>
                  <a:pt x="88" y="203"/>
                </a:lnTo>
                <a:lnTo>
                  <a:pt x="79" y="202"/>
                </a:lnTo>
                <a:lnTo>
                  <a:pt x="71" y="198"/>
                </a:lnTo>
                <a:lnTo>
                  <a:pt x="54" y="188"/>
                </a:lnTo>
                <a:lnTo>
                  <a:pt x="38" y="177"/>
                </a:lnTo>
                <a:lnTo>
                  <a:pt x="27" y="163"/>
                </a:lnTo>
                <a:lnTo>
                  <a:pt x="19" y="146"/>
                </a:lnTo>
                <a:lnTo>
                  <a:pt x="15" y="136"/>
                </a:lnTo>
                <a:lnTo>
                  <a:pt x="13" y="127"/>
                </a:lnTo>
                <a:lnTo>
                  <a:pt x="11" y="117"/>
                </a:lnTo>
                <a:lnTo>
                  <a:pt x="11" y="108"/>
                </a:lnTo>
                <a:lnTo>
                  <a:pt x="11" y="98"/>
                </a:lnTo>
                <a:lnTo>
                  <a:pt x="13" y="88"/>
                </a:lnTo>
                <a:lnTo>
                  <a:pt x="15" y="79"/>
                </a:lnTo>
                <a:lnTo>
                  <a:pt x="19" y="69"/>
                </a:lnTo>
                <a:lnTo>
                  <a:pt x="27" y="54"/>
                </a:lnTo>
                <a:lnTo>
                  <a:pt x="38" y="38"/>
                </a:lnTo>
                <a:lnTo>
                  <a:pt x="54" y="27"/>
                </a:lnTo>
                <a:lnTo>
                  <a:pt x="71" y="17"/>
                </a:lnTo>
                <a:lnTo>
                  <a:pt x="79" y="15"/>
                </a:lnTo>
                <a:lnTo>
                  <a:pt x="88" y="12"/>
                </a:lnTo>
                <a:lnTo>
                  <a:pt x="98" y="12"/>
                </a:lnTo>
                <a:lnTo>
                  <a:pt x="107" y="10"/>
                </a:lnTo>
                <a:lnTo>
                  <a:pt x="119" y="12"/>
                </a:lnTo>
                <a:lnTo>
                  <a:pt x="129" y="12"/>
                </a:lnTo>
                <a:lnTo>
                  <a:pt x="136" y="15"/>
                </a:lnTo>
                <a:lnTo>
                  <a:pt x="136" y="14"/>
                </a:lnTo>
                <a:lnTo>
                  <a:pt x="136" y="12"/>
                </a:lnTo>
                <a:lnTo>
                  <a:pt x="136" y="12"/>
                </a:lnTo>
                <a:lnTo>
                  <a:pt x="136" y="10"/>
                </a:lnTo>
                <a:lnTo>
                  <a:pt x="136" y="8"/>
                </a:lnTo>
                <a:lnTo>
                  <a:pt x="136" y="6"/>
                </a:lnTo>
                <a:lnTo>
                  <a:pt x="136" y="6"/>
                </a:lnTo>
                <a:lnTo>
                  <a:pt x="136" y="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reeform 246"/>
          <p:cNvSpPr/>
          <p:nvPr/>
        </p:nvSpPr>
        <p:spPr>
          <a:xfrm>
            <a:off x="2227320" y="2997360"/>
            <a:ext cx="209520" cy="325440"/>
          </a:xfrm>
          <a:custGeom>
            <a:avLst/>
            <a:gdLst>
              <a:gd name="textAreaLeft" fmla="*/ 0 w 209520"/>
              <a:gd name="textAreaRight" fmla="*/ 209880 w 20952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132" h="205">
                <a:moveTo>
                  <a:pt x="130" y="4"/>
                </a:moveTo>
                <a:lnTo>
                  <a:pt x="123" y="2"/>
                </a:lnTo>
                <a:lnTo>
                  <a:pt x="113" y="0"/>
                </a:lnTo>
                <a:lnTo>
                  <a:pt x="101" y="0"/>
                </a:lnTo>
                <a:lnTo>
                  <a:pt x="92" y="0"/>
                </a:lnTo>
                <a:lnTo>
                  <a:pt x="82" y="2"/>
                </a:lnTo>
                <a:lnTo>
                  <a:pt x="71" y="4"/>
                </a:lnTo>
                <a:lnTo>
                  <a:pt x="63" y="8"/>
                </a:lnTo>
                <a:lnTo>
                  <a:pt x="44" y="17"/>
                </a:lnTo>
                <a:lnTo>
                  <a:pt x="30" y="29"/>
                </a:lnTo>
                <a:lnTo>
                  <a:pt x="17" y="44"/>
                </a:lnTo>
                <a:lnTo>
                  <a:pt x="7" y="61"/>
                </a:lnTo>
                <a:lnTo>
                  <a:pt x="4" y="71"/>
                </a:lnTo>
                <a:lnTo>
                  <a:pt x="2" y="80"/>
                </a:lnTo>
                <a:lnTo>
                  <a:pt x="0" y="92"/>
                </a:lnTo>
                <a:lnTo>
                  <a:pt x="0" y="102"/>
                </a:lnTo>
                <a:lnTo>
                  <a:pt x="0" y="113"/>
                </a:lnTo>
                <a:lnTo>
                  <a:pt x="2" y="123"/>
                </a:lnTo>
                <a:lnTo>
                  <a:pt x="4" y="132"/>
                </a:lnTo>
                <a:lnTo>
                  <a:pt x="7" y="142"/>
                </a:lnTo>
                <a:lnTo>
                  <a:pt x="17" y="159"/>
                </a:lnTo>
                <a:lnTo>
                  <a:pt x="30" y="174"/>
                </a:lnTo>
                <a:lnTo>
                  <a:pt x="44" y="188"/>
                </a:lnTo>
                <a:lnTo>
                  <a:pt x="63" y="196"/>
                </a:lnTo>
                <a:lnTo>
                  <a:pt x="71" y="199"/>
                </a:lnTo>
                <a:lnTo>
                  <a:pt x="82" y="203"/>
                </a:lnTo>
                <a:lnTo>
                  <a:pt x="92" y="203"/>
                </a:lnTo>
                <a:lnTo>
                  <a:pt x="101" y="205"/>
                </a:lnTo>
                <a:lnTo>
                  <a:pt x="113" y="203"/>
                </a:lnTo>
                <a:lnTo>
                  <a:pt x="123" y="203"/>
                </a:lnTo>
                <a:lnTo>
                  <a:pt x="132" y="199"/>
                </a:lnTo>
                <a:lnTo>
                  <a:pt x="132" y="199"/>
                </a:lnTo>
                <a:lnTo>
                  <a:pt x="132" y="197"/>
                </a:lnTo>
                <a:lnTo>
                  <a:pt x="132" y="196"/>
                </a:lnTo>
                <a:lnTo>
                  <a:pt x="132" y="194"/>
                </a:lnTo>
                <a:lnTo>
                  <a:pt x="132" y="194"/>
                </a:lnTo>
                <a:lnTo>
                  <a:pt x="132" y="192"/>
                </a:lnTo>
                <a:lnTo>
                  <a:pt x="132" y="190"/>
                </a:lnTo>
                <a:lnTo>
                  <a:pt x="132" y="190"/>
                </a:lnTo>
                <a:lnTo>
                  <a:pt x="121" y="192"/>
                </a:lnTo>
                <a:lnTo>
                  <a:pt x="101" y="194"/>
                </a:lnTo>
                <a:lnTo>
                  <a:pt x="84" y="192"/>
                </a:lnTo>
                <a:lnTo>
                  <a:pt x="67" y="188"/>
                </a:lnTo>
                <a:lnTo>
                  <a:pt x="50" y="178"/>
                </a:lnTo>
                <a:lnTo>
                  <a:pt x="36" y="167"/>
                </a:lnTo>
                <a:lnTo>
                  <a:pt x="25" y="153"/>
                </a:lnTo>
                <a:lnTo>
                  <a:pt x="17" y="138"/>
                </a:lnTo>
                <a:lnTo>
                  <a:pt x="11" y="121"/>
                </a:lnTo>
                <a:lnTo>
                  <a:pt x="9" y="102"/>
                </a:lnTo>
                <a:lnTo>
                  <a:pt x="11" y="82"/>
                </a:lnTo>
                <a:lnTo>
                  <a:pt x="17" y="65"/>
                </a:lnTo>
                <a:lnTo>
                  <a:pt x="25" y="50"/>
                </a:lnTo>
                <a:lnTo>
                  <a:pt x="36" y="36"/>
                </a:lnTo>
                <a:lnTo>
                  <a:pt x="50" y="25"/>
                </a:lnTo>
                <a:lnTo>
                  <a:pt x="67" y="17"/>
                </a:lnTo>
                <a:lnTo>
                  <a:pt x="84" y="11"/>
                </a:lnTo>
                <a:lnTo>
                  <a:pt x="101" y="9"/>
                </a:lnTo>
                <a:lnTo>
                  <a:pt x="121" y="11"/>
                </a:lnTo>
                <a:lnTo>
                  <a:pt x="130" y="15"/>
                </a:lnTo>
                <a:lnTo>
                  <a:pt x="130" y="13"/>
                </a:lnTo>
                <a:lnTo>
                  <a:pt x="130" y="11"/>
                </a:lnTo>
                <a:lnTo>
                  <a:pt x="130" y="9"/>
                </a:lnTo>
                <a:lnTo>
                  <a:pt x="130" y="9"/>
                </a:lnTo>
                <a:lnTo>
                  <a:pt x="130" y="8"/>
                </a:lnTo>
                <a:lnTo>
                  <a:pt x="130" y="6"/>
                </a:lnTo>
                <a:lnTo>
                  <a:pt x="130" y="6"/>
                </a:lnTo>
                <a:lnTo>
                  <a:pt x="130" y="4"/>
                </a:lnTo>
                <a:close/>
              </a:path>
            </a:pathLst>
          </a:custGeom>
          <a:solidFill>
            <a:srgbClr val="ec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Freeform 247"/>
          <p:cNvSpPr/>
          <p:nvPr/>
        </p:nvSpPr>
        <p:spPr>
          <a:xfrm>
            <a:off x="2235240" y="3003480"/>
            <a:ext cx="201600" cy="309600"/>
          </a:xfrm>
          <a:custGeom>
            <a:avLst/>
            <a:gdLst>
              <a:gd name="textAreaLeft" fmla="*/ 0 w 201600"/>
              <a:gd name="textAreaRight" fmla="*/ 201960 w 20160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127" h="195">
                <a:moveTo>
                  <a:pt x="125" y="5"/>
                </a:moveTo>
                <a:lnTo>
                  <a:pt x="118" y="2"/>
                </a:lnTo>
                <a:lnTo>
                  <a:pt x="108" y="2"/>
                </a:lnTo>
                <a:lnTo>
                  <a:pt x="96" y="0"/>
                </a:lnTo>
                <a:lnTo>
                  <a:pt x="87" y="2"/>
                </a:lnTo>
                <a:lnTo>
                  <a:pt x="77" y="2"/>
                </a:lnTo>
                <a:lnTo>
                  <a:pt x="68" y="5"/>
                </a:lnTo>
                <a:lnTo>
                  <a:pt x="60" y="7"/>
                </a:lnTo>
                <a:lnTo>
                  <a:pt x="43" y="17"/>
                </a:lnTo>
                <a:lnTo>
                  <a:pt x="27" y="28"/>
                </a:lnTo>
                <a:lnTo>
                  <a:pt x="16" y="44"/>
                </a:lnTo>
                <a:lnTo>
                  <a:pt x="8" y="59"/>
                </a:lnTo>
                <a:lnTo>
                  <a:pt x="4" y="69"/>
                </a:lnTo>
                <a:lnTo>
                  <a:pt x="2" y="78"/>
                </a:lnTo>
                <a:lnTo>
                  <a:pt x="0" y="88"/>
                </a:lnTo>
                <a:lnTo>
                  <a:pt x="0" y="98"/>
                </a:lnTo>
                <a:lnTo>
                  <a:pt x="0" y="107"/>
                </a:lnTo>
                <a:lnTo>
                  <a:pt x="2" y="117"/>
                </a:lnTo>
                <a:lnTo>
                  <a:pt x="4" y="126"/>
                </a:lnTo>
                <a:lnTo>
                  <a:pt x="8" y="136"/>
                </a:lnTo>
                <a:lnTo>
                  <a:pt x="16" y="153"/>
                </a:lnTo>
                <a:lnTo>
                  <a:pt x="27" y="167"/>
                </a:lnTo>
                <a:lnTo>
                  <a:pt x="43" y="178"/>
                </a:lnTo>
                <a:lnTo>
                  <a:pt x="60" y="188"/>
                </a:lnTo>
                <a:lnTo>
                  <a:pt x="68" y="192"/>
                </a:lnTo>
                <a:lnTo>
                  <a:pt x="77" y="193"/>
                </a:lnTo>
                <a:lnTo>
                  <a:pt x="87" y="195"/>
                </a:lnTo>
                <a:lnTo>
                  <a:pt x="96" y="195"/>
                </a:lnTo>
                <a:lnTo>
                  <a:pt x="108" y="195"/>
                </a:lnTo>
                <a:lnTo>
                  <a:pt x="118" y="193"/>
                </a:lnTo>
                <a:lnTo>
                  <a:pt x="125" y="192"/>
                </a:lnTo>
                <a:lnTo>
                  <a:pt x="127" y="192"/>
                </a:lnTo>
                <a:lnTo>
                  <a:pt x="127" y="190"/>
                </a:lnTo>
                <a:lnTo>
                  <a:pt x="127" y="188"/>
                </a:lnTo>
                <a:lnTo>
                  <a:pt x="127" y="186"/>
                </a:lnTo>
                <a:lnTo>
                  <a:pt x="127" y="186"/>
                </a:lnTo>
                <a:lnTo>
                  <a:pt x="127" y="184"/>
                </a:lnTo>
                <a:lnTo>
                  <a:pt x="127" y="182"/>
                </a:lnTo>
                <a:lnTo>
                  <a:pt x="127" y="182"/>
                </a:lnTo>
                <a:lnTo>
                  <a:pt x="127" y="180"/>
                </a:lnTo>
                <a:lnTo>
                  <a:pt x="114" y="184"/>
                </a:lnTo>
                <a:lnTo>
                  <a:pt x="96" y="186"/>
                </a:lnTo>
                <a:lnTo>
                  <a:pt x="79" y="184"/>
                </a:lnTo>
                <a:lnTo>
                  <a:pt x="64" y="178"/>
                </a:lnTo>
                <a:lnTo>
                  <a:pt x="48" y="170"/>
                </a:lnTo>
                <a:lnTo>
                  <a:pt x="35" y="159"/>
                </a:lnTo>
                <a:lnTo>
                  <a:pt x="25" y="147"/>
                </a:lnTo>
                <a:lnTo>
                  <a:pt x="16" y="132"/>
                </a:lnTo>
                <a:lnTo>
                  <a:pt x="12" y="115"/>
                </a:lnTo>
                <a:lnTo>
                  <a:pt x="10" y="98"/>
                </a:lnTo>
                <a:lnTo>
                  <a:pt x="12" y="80"/>
                </a:lnTo>
                <a:lnTo>
                  <a:pt x="16" y="63"/>
                </a:lnTo>
                <a:lnTo>
                  <a:pt x="25" y="50"/>
                </a:lnTo>
                <a:lnTo>
                  <a:pt x="35" y="36"/>
                </a:lnTo>
                <a:lnTo>
                  <a:pt x="48" y="25"/>
                </a:lnTo>
                <a:lnTo>
                  <a:pt x="64" y="17"/>
                </a:lnTo>
                <a:lnTo>
                  <a:pt x="79" y="13"/>
                </a:lnTo>
                <a:lnTo>
                  <a:pt x="96" y="11"/>
                </a:lnTo>
                <a:lnTo>
                  <a:pt x="114" y="13"/>
                </a:lnTo>
                <a:lnTo>
                  <a:pt x="125" y="15"/>
                </a:lnTo>
                <a:lnTo>
                  <a:pt x="125" y="15"/>
                </a:lnTo>
                <a:lnTo>
                  <a:pt x="125" y="13"/>
                </a:lnTo>
                <a:lnTo>
                  <a:pt x="125" y="11"/>
                </a:lnTo>
                <a:lnTo>
                  <a:pt x="125" y="9"/>
                </a:lnTo>
                <a:lnTo>
                  <a:pt x="125" y="9"/>
                </a:lnTo>
                <a:lnTo>
                  <a:pt x="125" y="7"/>
                </a:lnTo>
                <a:lnTo>
                  <a:pt x="125" y="5"/>
                </a:lnTo>
                <a:lnTo>
                  <a:pt x="125" y="5"/>
                </a:lnTo>
                <a:close/>
              </a:path>
            </a:pathLst>
          </a:custGeom>
          <a:solidFill>
            <a:srgbClr val="ed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Freeform 248"/>
          <p:cNvSpPr/>
          <p:nvPr/>
        </p:nvSpPr>
        <p:spPr>
          <a:xfrm>
            <a:off x="2241720" y="3011400"/>
            <a:ext cx="195120" cy="293760"/>
          </a:xfrm>
          <a:custGeom>
            <a:avLst/>
            <a:gdLst>
              <a:gd name="textAreaLeft" fmla="*/ 0 w 195120"/>
              <a:gd name="textAreaRight" fmla="*/ 195480 w 19512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23" h="185">
                <a:moveTo>
                  <a:pt x="121" y="6"/>
                </a:moveTo>
                <a:lnTo>
                  <a:pt x="112" y="2"/>
                </a:lnTo>
                <a:lnTo>
                  <a:pt x="92" y="0"/>
                </a:lnTo>
                <a:lnTo>
                  <a:pt x="75" y="2"/>
                </a:lnTo>
                <a:lnTo>
                  <a:pt x="58" y="8"/>
                </a:lnTo>
                <a:lnTo>
                  <a:pt x="41" y="16"/>
                </a:lnTo>
                <a:lnTo>
                  <a:pt x="27" y="27"/>
                </a:lnTo>
                <a:lnTo>
                  <a:pt x="16" y="41"/>
                </a:lnTo>
                <a:lnTo>
                  <a:pt x="8" y="56"/>
                </a:lnTo>
                <a:lnTo>
                  <a:pt x="2" y="73"/>
                </a:lnTo>
                <a:lnTo>
                  <a:pt x="0" y="93"/>
                </a:lnTo>
                <a:lnTo>
                  <a:pt x="2" y="112"/>
                </a:lnTo>
                <a:lnTo>
                  <a:pt x="8" y="129"/>
                </a:lnTo>
                <a:lnTo>
                  <a:pt x="16" y="144"/>
                </a:lnTo>
                <a:lnTo>
                  <a:pt x="27" y="158"/>
                </a:lnTo>
                <a:lnTo>
                  <a:pt x="41" y="169"/>
                </a:lnTo>
                <a:lnTo>
                  <a:pt x="58" y="179"/>
                </a:lnTo>
                <a:lnTo>
                  <a:pt x="75" y="183"/>
                </a:lnTo>
                <a:lnTo>
                  <a:pt x="92" y="185"/>
                </a:lnTo>
                <a:lnTo>
                  <a:pt x="112" y="183"/>
                </a:lnTo>
                <a:lnTo>
                  <a:pt x="123" y="181"/>
                </a:lnTo>
                <a:lnTo>
                  <a:pt x="123" y="179"/>
                </a:lnTo>
                <a:lnTo>
                  <a:pt x="123" y="177"/>
                </a:lnTo>
                <a:lnTo>
                  <a:pt x="123" y="175"/>
                </a:lnTo>
                <a:lnTo>
                  <a:pt x="123" y="175"/>
                </a:lnTo>
                <a:lnTo>
                  <a:pt x="123" y="173"/>
                </a:lnTo>
                <a:lnTo>
                  <a:pt x="121" y="171"/>
                </a:lnTo>
                <a:lnTo>
                  <a:pt x="121" y="171"/>
                </a:lnTo>
                <a:lnTo>
                  <a:pt x="121" y="169"/>
                </a:lnTo>
                <a:lnTo>
                  <a:pt x="110" y="173"/>
                </a:lnTo>
                <a:lnTo>
                  <a:pt x="92" y="175"/>
                </a:lnTo>
                <a:lnTo>
                  <a:pt x="77" y="173"/>
                </a:lnTo>
                <a:lnTo>
                  <a:pt x="62" y="169"/>
                </a:lnTo>
                <a:lnTo>
                  <a:pt x="46" y="162"/>
                </a:lnTo>
                <a:lnTo>
                  <a:pt x="35" y="150"/>
                </a:lnTo>
                <a:lnTo>
                  <a:pt x="25" y="139"/>
                </a:lnTo>
                <a:lnTo>
                  <a:pt x="18" y="125"/>
                </a:lnTo>
                <a:lnTo>
                  <a:pt x="12" y="110"/>
                </a:lnTo>
                <a:lnTo>
                  <a:pt x="12" y="93"/>
                </a:lnTo>
                <a:lnTo>
                  <a:pt x="12" y="77"/>
                </a:lnTo>
                <a:lnTo>
                  <a:pt x="18" y="60"/>
                </a:lnTo>
                <a:lnTo>
                  <a:pt x="25" y="46"/>
                </a:lnTo>
                <a:lnTo>
                  <a:pt x="35" y="35"/>
                </a:lnTo>
                <a:lnTo>
                  <a:pt x="46" y="25"/>
                </a:lnTo>
                <a:lnTo>
                  <a:pt x="62" y="18"/>
                </a:lnTo>
                <a:lnTo>
                  <a:pt x="77" y="12"/>
                </a:lnTo>
                <a:lnTo>
                  <a:pt x="92" y="10"/>
                </a:lnTo>
                <a:lnTo>
                  <a:pt x="110" y="12"/>
                </a:lnTo>
                <a:lnTo>
                  <a:pt x="121" y="16"/>
                </a:lnTo>
                <a:lnTo>
                  <a:pt x="121" y="14"/>
                </a:lnTo>
                <a:lnTo>
                  <a:pt x="121" y="14"/>
                </a:lnTo>
                <a:lnTo>
                  <a:pt x="121" y="12"/>
                </a:lnTo>
                <a:lnTo>
                  <a:pt x="121" y="10"/>
                </a:lnTo>
                <a:lnTo>
                  <a:pt x="121" y="10"/>
                </a:lnTo>
                <a:lnTo>
                  <a:pt x="121" y="8"/>
                </a:lnTo>
                <a:lnTo>
                  <a:pt x="121" y="6"/>
                </a:lnTo>
                <a:lnTo>
                  <a:pt x="121" y="6"/>
                </a:lnTo>
                <a:close/>
              </a:path>
            </a:pathLst>
          </a:custGeom>
          <a:solidFill>
            <a:srgbClr val="ee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Freeform 249"/>
          <p:cNvSpPr/>
          <p:nvPr/>
        </p:nvSpPr>
        <p:spPr>
          <a:xfrm>
            <a:off x="2251080" y="3021120"/>
            <a:ext cx="185760" cy="277560"/>
          </a:xfrm>
          <a:custGeom>
            <a:avLst/>
            <a:gdLst>
              <a:gd name="textAreaLeft" fmla="*/ 0 w 185760"/>
              <a:gd name="textAreaRight" fmla="*/ 186120 w 185760"/>
              <a:gd name="textAreaTop" fmla="*/ 0 h 277560"/>
              <a:gd name="textAreaBottom" fmla="*/ 277560 h 277560"/>
            </a:gdLst>
            <a:ahLst/>
            <a:rect l="textAreaLeft" t="textAreaTop" r="textAreaRight" b="textAreaBottom"/>
            <a:pathLst>
              <a:path w="117" h="175">
                <a:moveTo>
                  <a:pt x="115" y="4"/>
                </a:moveTo>
                <a:lnTo>
                  <a:pt x="104" y="2"/>
                </a:lnTo>
                <a:lnTo>
                  <a:pt x="86" y="0"/>
                </a:lnTo>
                <a:lnTo>
                  <a:pt x="69" y="2"/>
                </a:lnTo>
                <a:lnTo>
                  <a:pt x="54" y="6"/>
                </a:lnTo>
                <a:lnTo>
                  <a:pt x="38" y="14"/>
                </a:lnTo>
                <a:lnTo>
                  <a:pt x="25" y="25"/>
                </a:lnTo>
                <a:lnTo>
                  <a:pt x="15" y="39"/>
                </a:lnTo>
                <a:lnTo>
                  <a:pt x="6" y="52"/>
                </a:lnTo>
                <a:lnTo>
                  <a:pt x="2" y="69"/>
                </a:lnTo>
                <a:lnTo>
                  <a:pt x="0" y="87"/>
                </a:lnTo>
                <a:lnTo>
                  <a:pt x="2" y="104"/>
                </a:lnTo>
                <a:lnTo>
                  <a:pt x="6" y="121"/>
                </a:lnTo>
                <a:lnTo>
                  <a:pt x="15" y="136"/>
                </a:lnTo>
                <a:lnTo>
                  <a:pt x="25" y="148"/>
                </a:lnTo>
                <a:lnTo>
                  <a:pt x="38" y="159"/>
                </a:lnTo>
                <a:lnTo>
                  <a:pt x="54" y="167"/>
                </a:lnTo>
                <a:lnTo>
                  <a:pt x="69" y="173"/>
                </a:lnTo>
                <a:lnTo>
                  <a:pt x="86" y="175"/>
                </a:lnTo>
                <a:lnTo>
                  <a:pt x="104" y="173"/>
                </a:lnTo>
                <a:lnTo>
                  <a:pt x="117" y="169"/>
                </a:lnTo>
                <a:lnTo>
                  <a:pt x="117" y="167"/>
                </a:lnTo>
                <a:lnTo>
                  <a:pt x="115" y="165"/>
                </a:lnTo>
                <a:lnTo>
                  <a:pt x="115" y="165"/>
                </a:lnTo>
                <a:lnTo>
                  <a:pt x="115" y="163"/>
                </a:lnTo>
                <a:lnTo>
                  <a:pt x="115" y="161"/>
                </a:lnTo>
                <a:lnTo>
                  <a:pt x="115" y="161"/>
                </a:lnTo>
                <a:lnTo>
                  <a:pt x="115" y="159"/>
                </a:lnTo>
                <a:lnTo>
                  <a:pt x="115" y="158"/>
                </a:lnTo>
                <a:lnTo>
                  <a:pt x="102" y="161"/>
                </a:lnTo>
                <a:lnTo>
                  <a:pt x="86" y="163"/>
                </a:lnTo>
                <a:lnTo>
                  <a:pt x="71" y="161"/>
                </a:lnTo>
                <a:lnTo>
                  <a:pt x="58" y="158"/>
                </a:lnTo>
                <a:lnTo>
                  <a:pt x="44" y="150"/>
                </a:lnTo>
                <a:lnTo>
                  <a:pt x="33" y="142"/>
                </a:lnTo>
                <a:lnTo>
                  <a:pt x="23" y="131"/>
                </a:lnTo>
                <a:lnTo>
                  <a:pt x="15" y="117"/>
                </a:lnTo>
                <a:lnTo>
                  <a:pt x="12" y="102"/>
                </a:lnTo>
                <a:lnTo>
                  <a:pt x="10" y="87"/>
                </a:lnTo>
                <a:lnTo>
                  <a:pt x="12" y="71"/>
                </a:lnTo>
                <a:lnTo>
                  <a:pt x="15" y="58"/>
                </a:lnTo>
                <a:lnTo>
                  <a:pt x="23" y="44"/>
                </a:lnTo>
                <a:lnTo>
                  <a:pt x="33" y="33"/>
                </a:lnTo>
                <a:lnTo>
                  <a:pt x="44" y="23"/>
                </a:lnTo>
                <a:lnTo>
                  <a:pt x="58" y="16"/>
                </a:lnTo>
                <a:lnTo>
                  <a:pt x="71" y="12"/>
                </a:lnTo>
                <a:lnTo>
                  <a:pt x="86" y="10"/>
                </a:lnTo>
                <a:lnTo>
                  <a:pt x="102" y="12"/>
                </a:lnTo>
                <a:lnTo>
                  <a:pt x="115" y="16"/>
                </a:lnTo>
                <a:lnTo>
                  <a:pt x="115" y="14"/>
                </a:lnTo>
                <a:lnTo>
                  <a:pt x="115" y="12"/>
                </a:lnTo>
                <a:lnTo>
                  <a:pt x="115" y="12"/>
                </a:lnTo>
                <a:lnTo>
                  <a:pt x="115" y="10"/>
                </a:lnTo>
                <a:lnTo>
                  <a:pt x="115" y="8"/>
                </a:lnTo>
                <a:lnTo>
                  <a:pt x="115" y="8"/>
                </a:lnTo>
                <a:lnTo>
                  <a:pt x="115" y="6"/>
                </a:lnTo>
                <a:lnTo>
                  <a:pt x="115" y="4"/>
                </a:lnTo>
                <a:close/>
              </a:path>
            </a:pathLst>
          </a:custGeom>
          <a:solidFill>
            <a:srgbClr val="ef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reeform 250"/>
          <p:cNvSpPr/>
          <p:nvPr/>
        </p:nvSpPr>
        <p:spPr>
          <a:xfrm>
            <a:off x="2260440" y="3027240"/>
            <a:ext cx="173160" cy="262080"/>
          </a:xfrm>
          <a:custGeom>
            <a:avLst/>
            <a:gdLst>
              <a:gd name="textAreaLeft" fmla="*/ 0 w 173160"/>
              <a:gd name="textAreaRight" fmla="*/ 173160 w 173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09" h="165">
                <a:moveTo>
                  <a:pt x="109" y="6"/>
                </a:moveTo>
                <a:lnTo>
                  <a:pt x="98" y="2"/>
                </a:lnTo>
                <a:lnTo>
                  <a:pt x="80" y="0"/>
                </a:lnTo>
                <a:lnTo>
                  <a:pt x="65" y="2"/>
                </a:lnTo>
                <a:lnTo>
                  <a:pt x="50" y="8"/>
                </a:lnTo>
                <a:lnTo>
                  <a:pt x="34" y="15"/>
                </a:lnTo>
                <a:lnTo>
                  <a:pt x="23" y="25"/>
                </a:lnTo>
                <a:lnTo>
                  <a:pt x="13" y="36"/>
                </a:lnTo>
                <a:lnTo>
                  <a:pt x="6" y="50"/>
                </a:lnTo>
                <a:lnTo>
                  <a:pt x="0" y="67"/>
                </a:lnTo>
                <a:lnTo>
                  <a:pt x="0" y="83"/>
                </a:lnTo>
                <a:lnTo>
                  <a:pt x="0" y="100"/>
                </a:lnTo>
                <a:lnTo>
                  <a:pt x="6" y="115"/>
                </a:lnTo>
                <a:lnTo>
                  <a:pt x="13" y="129"/>
                </a:lnTo>
                <a:lnTo>
                  <a:pt x="23" y="140"/>
                </a:lnTo>
                <a:lnTo>
                  <a:pt x="34" y="152"/>
                </a:lnTo>
                <a:lnTo>
                  <a:pt x="50" y="159"/>
                </a:lnTo>
                <a:lnTo>
                  <a:pt x="65" y="163"/>
                </a:lnTo>
                <a:lnTo>
                  <a:pt x="80" y="165"/>
                </a:lnTo>
                <a:lnTo>
                  <a:pt x="98" y="163"/>
                </a:lnTo>
                <a:lnTo>
                  <a:pt x="109" y="159"/>
                </a:lnTo>
                <a:lnTo>
                  <a:pt x="109" y="157"/>
                </a:lnTo>
                <a:lnTo>
                  <a:pt x="109" y="157"/>
                </a:lnTo>
                <a:lnTo>
                  <a:pt x="109" y="155"/>
                </a:lnTo>
                <a:lnTo>
                  <a:pt x="109" y="154"/>
                </a:lnTo>
                <a:lnTo>
                  <a:pt x="109" y="154"/>
                </a:lnTo>
                <a:lnTo>
                  <a:pt x="109" y="152"/>
                </a:lnTo>
                <a:lnTo>
                  <a:pt x="109" y="150"/>
                </a:lnTo>
                <a:lnTo>
                  <a:pt x="109" y="148"/>
                </a:lnTo>
                <a:lnTo>
                  <a:pt x="109" y="150"/>
                </a:lnTo>
                <a:lnTo>
                  <a:pt x="96" y="154"/>
                </a:lnTo>
                <a:lnTo>
                  <a:pt x="80" y="155"/>
                </a:lnTo>
                <a:lnTo>
                  <a:pt x="67" y="154"/>
                </a:lnTo>
                <a:lnTo>
                  <a:pt x="54" y="150"/>
                </a:lnTo>
                <a:lnTo>
                  <a:pt x="40" y="142"/>
                </a:lnTo>
                <a:lnTo>
                  <a:pt x="31" y="134"/>
                </a:lnTo>
                <a:lnTo>
                  <a:pt x="21" y="123"/>
                </a:lnTo>
                <a:lnTo>
                  <a:pt x="15" y="111"/>
                </a:lnTo>
                <a:lnTo>
                  <a:pt x="11" y="98"/>
                </a:lnTo>
                <a:lnTo>
                  <a:pt x="9" y="83"/>
                </a:lnTo>
                <a:lnTo>
                  <a:pt x="11" y="69"/>
                </a:lnTo>
                <a:lnTo>
                  <a:pt x="15" y="56"/>
                </a:lnTo>
                <a:lnTo>
                  <a:pt x="21" y="42"/>
                </a:lnTo>
                <a:lnTo>
                  <a:pt x="31" y="33"/>
                </a:lnTo>
                <a:lnTo>
                  <a:pt x="40" y="23"/>
                </a:lnTo>
                <a:lnTo>
                  <a:pt x="54" y="17"/>
                </a:lnTo>
                <a:lnTo>
                  <a:pt x="67" y="12"/>
                </a:lnTo>
                <a:lnTo>
                  <a:pt x="80" y="12"/>
                </a:lnTo>
                <a:lnTo>
                  <a:pt x="96" y="12"/>
                </a:lnTo>
                <a:lnTo>
                  <a:pt x="109" y="17"/>
                </a:lnTo>
                <a:lnTo>
                  <a:pt x="109" y="15"/>
                </a:lnTo>
                <a:lnTo>
                  <a:pt x="109" y="13"/>
                </a:lnTo>
                <a:lnTo>
                  <a:pt x="109" y="13"/>
                </a:lnTo>
                <a:lnTo>
                  <a:pt x="109" y="12"/>
                </a:lnTo>
                <a:lnTo>
                  <a:pt x="109" y="10"/>
                </a:lnTo>
                <a:lnTo>
                  <a:pt x="109" y="8"/>
                </a:lnTo>
                <a:lnTo>
                  <a:pt x="109" y="8"/>
                </a:lnTo>
                <a:lnTo>
                  <a:pt x="109" y="6"/>
                </a:lnTo>
                <a:close/>
              </a:path>
            </a:pathLst>
          </a:custGeom>
          <a:solidFill>
            <a:srgbClr val="f0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Freeform 251"/>
          <p:cNvSpPr/>
          <p:nvPr/>
        </p:nvSpPr>
        <p:spPr>
          <a:xfrm>
            <a:off x="2266920" y="3036960"/>
            <a:ext cx="166680" cy="242640"/>
          </a:xfrm>
          <a:custGeom>
            <a:avLst/>
            <a:gdLst>
              <a:gd name="textAreaLeft" fmla="*/ 0 w 166680"/>
              <a:gd name="textAreaRight" fmla="*/ 167040 w 166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05" h="153">
                <a:moveTo>
                  <a:pt x="105" y="6"/>
                </a:moveTo>
                <a:lnTo>
                  <a:pt x="92" y="2"/>
                </a:lnTo>
                <a:lnTo>
                  <a:pt x="76" y="0"/>
                </a:lnTo>
                <a:lnTo>
                  <a:pt x="61" y="2"/>
                </a:lnTo>
                <a:lnTo>
                  <a:pt x="48" y="6"/>
                </a:lnTo>
                <a:lnTo>
                  <a:pt x="34" y="13"/>
                </a:lnTo>
                <a:lnTo>
                  <a:pt x="23" y="23"/>
                </a:lnTo>
                <a:lnTo>
                  <a:pt x="13" y="34"/>
                </a:lnTo>
                <a:lnTo>
                  <a:pt x="5" y="48"/>
                </a:lnTo>
                <a:lnTo>
                  <a:pt x="2" y="61"/>
                </a:lnTo>
                <a:lnTo>
                  <a:pt x="0" y="77"/>
                </a:lnTo>
                <a:lnTo>
                  <a:pt x="2" y="92"/>
                </a:lnTo>
                <a:lnTo>
                  <a:pt x="5" y="107"/>
                </a:lnTo>
                <a:lnTo>
                  <a:pt x="13" y="121"/>
                </a:lnTo>
                <a:lnTo>
                  <a:pt x="23" y="132"/>
                </a:lnTo>
                <a:lnTo>
                  <a:pt x="34" y="140"/>
                </a:lnTo>
                <a:lnTo>
                  <a:pt x="48" y="148"/>
                </a:lnTo>
                <a:lnTo>
                  <a:pt x="61" y="151"/>
                </a:lnTo>
                <a:lnTo>
                  <a:pt x="76" y="153"/>
                </a:lnTo>
                <a:lnTo>
                  <a:pt x="92" y="151"/>
                </a:lnTo>
                <a:lnTo>
                  <a:pt x="105" y="148"/>
                </a:lnTo>
                <a:lnTo>
                  <a:pt x="105" y="148"/>
                </a:lnTo>
                <a:lnTo>
                  <a:pt x="105" y="146"/>
                </a:lnTo>
                <a:lnTo>
                  <a:pt x="105" y="144"/>
                </a:lnTo>
                <a:lnTo>
                  <a:pt x="105" y="142"/>
                </a:lnTo>
                <a:lnTo>
                  <a:pt x="105" y="142"/>
                </a:lnTo>
                <a:lnTo>
                  <a:pt x="105" y="140"/>
                </a:lnTo>
                <a:lnTo>
                  <a:pt x="105" y="138"/>
                </a:lnTo>
                <a:lnTo>
                  <a:pt x="105" y="136"/>
                </a:lnTo>
                <a:lnTo>
                  <a:pt x="103" y="138"/>
                </a:lnTo>
                <a:lnTo>
                  <a:pt x="90" y="142"/>
                </a:lnTo>
                <a:lnTo>
                  <a:pt x="76" y="144"/>
                </a:lnTo>
                <a:lnTo>
                  <a:pt x="63" y="142"/>
                </a:lnTo>
                <a:lnTo>
                  <a:pt x="51" y="138"/>
                </a:lnTo>
                <a:lnTo>
                  <a:pt x="40" y="132"/>
                </a:lnTo>
                <a:lnTo>
                  <a:pt x="30" y="124"/>
                </a:lnTo>
                <a:lnTo>
                  <a:pt x="21" y="115"/>
                </a:lnTo>
                <a:lnTo>
                  <a:pt x="15" y="103"/>
                </a:lnTo>
                <a:lnTo>
                  <a:pt x="11" y="90"/>
                </a:lnTo>
                <a:lnTo>
                  <a:pt x="11" y="77"/>
                </a:lnTo>
                <a:lnTo>
                  <a:pt x="11" y="63"/>
                </a:lnTo>
                <a:lnTo>
                  <a:pt x="15" y="52"/>
                </a:lnTo>
                <a:lnTo>
                  <a:pt x="21" y="40"/>
                </a:lnTo>
                <a:lnTo>
                  <a:pt x="30" y="30"/>
                </a:lnTo>
                <a:lnTo>
                  <a:pt x="40" y="21"/>
                </a:lnTo>
                <a:lnTo>
                  <a:pt x="51" y="15"/>
                </a:lnTo>
                <a:lnTo>
                  <a:pt x="63" y="11"/>
                </a:lnTo>
                <a:lnTo>
                  <a:pt x="76" y="9"/>
                </a:lnTo>
                <a:lnTo>
                  <a:pt x="90" y="11"/>
                </a:lnTo>
                <a:lnTo>
                  <a:pt x="103" y="15"/>
                </a:lnTo>
                <a:lnTo>
                  <a:pt x="105" y="17"/>
                </a:lnTo>
                <a:lnTo>
                  <a:pt x="105" y="15"/>
                </a:lnTo>
                <a:lnTo>
                  <a:pt x="105" y="13"/>
                </a:lnTo>
                <a:lnTo>
                  <a:pt x="105" y="11"/>
                </a:lnTo>
                <a:lnTo>
                  <a:pt x="105" y="11"/>
                </a:lnTo>
                <a:lnTo>
                  <a:pt x="105" y="9"/>
                </a:lnTo>
                <a:lnTo>
                  <a:pt x="105" y="7"/>
                </a:lnTo>
                <a:lnTo>
                  <a:pt x="105" y="7"/>
                </a:lnTo>
                <a:lnTo>
                  <a:pt x="105" y="6"/>
                </a:lnTo>
                <a:close/>
              </a:path>
            </a:pathLst>
          </a:custGeom>
          <a:solidFill>
            <a:srgbClr val="f1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reeform 252"/>
          <p:cNvSpPr/>
          <p:nvPr/>
        </p:nvSpPr>
        <p:spPr>
          <a:xfrm>
            <a:off x="2274840" y="3046320"/>
            <a:ext cx="158760" cy="227160"/>
          </a:xfrm>
          <a:custGeom>
            <a:avLst/>
            <a:gdLst>
              <a:gd name="textAreaLeft" fmla="*/ 0 w 158760"/>
              <a:gd name="textAreaRight" fmla="*/ 159120 w 158760"/>
              <a:gd name="textAreaTop" fmla="*/ 0 h 227160"/>
              <a:gd name="textAreaBottom" fmla="*/ 227160 h 227160"/>
            </a:gdLst>
            <a:ahLst/>
            <a:rect l="textAreaLeft" t="textAreaTop" r="textAreaRight" b="textAreaBottom"/>
            <a:pathLst>
              <a:path w="100" h="143">
                <a:moveTo>
                  <a:pt x="100" y="5"/>
                </a:moveTo>
                <a:lnTo>
                  <a:pt x="87" y="0"/>
                </a:lnTo>
                <a:lnTo>
                  <a:pt x="71" y="0"/>
                </a:lnTo>
                <a:lnTo>
                  <a:pt x="58" y="0"/>
                </a:lnTo>
                <a:lnTo>
                  <a:pt x="45" y="5"/>
                </a:lnTo>
                <a:lnTo>
                  <a:pt x="31" y="11"/>
                </a:lnTo>
                <a:lnTo>
                  <a:pt x="22" y="21"/>
                </a:lnTo>
                <a:lnTo>
                  <a:pt x="12" y="30"/>
                </a:lnTo>
                <a:lnTo>
                  <a:pt x="6" y="44"/>
                </a:lnTo>
                <a:lnTo>
                  <a:pt x="2" y="57"/>
                </a:lnTo>
                <a:lnTo>
                  <a:pt x="0" y="71"/>
                </a:lnTo>
                <a:lnTo>
                  <a:pt x="2" y="86"/>
                </a:lnTo>
                <a:lnTo>
                  <a:pt x="6" y="99"/>
                </a:lnTo>
                <a:lnTo>
                  <a:pt x="12" y="111"/>
                </a:lnTo>
                <a:lnTo>
                  <a:pt x="22" y="122"/>
                </a:lnTo>
                <a:lnTo>
                  <a:pt x="31" y="130"/>
                </a:lnTo>
                <a:lnTo>
                  <a:pt x="45" y="138"/>
                </a:lnTo>
                <a:lnTo>
                  <a:pt x="58" y="142"/>
                </a:lnTo>
                <a:lnTo>
                  <a:pt x="71" y="143"/>
                </a:lnTo>
                <a:lnTo>
                  <a:pt x="87" y="142"/>
                </a:lnTo>
                <a:lnTo>
                  <a:pt x="100" y="138"/>
                </a:lnTo>
                <a:lnTo>
                  <a:pt x="100" y="136"/>
                </a:lnTo>
                <a:lnTo>
                  <a:pt x="100" y="136"/>
                </a:lnTo>
                <a:lnTo>
                  <a:pt x="100" y="134"/>
                </a:lnTo>
                <a:lnTo>
                  <a:pt x="100" y="132"/>
                </a:lnTo>
                <a:lnTo>
                  <a:pt x="100" y="130"/>
                </a:lnTo>
                <a:lnTo>
                  <a:pt x="100" y="130"/>
                </a:lnTo>
                <a:lnTo>
                  <a:pt x="100" y="128"/>
                </a:lnTo>
                <a:lnTo>
                  <a:pt x="100" y="126"/>
                </a:lnTo>
                <a:lnTo>
                  <a:pt x="100" y="126"/>
                </a:lnTo>
                <a:lnTo>
                  <a:pt x="96" y="128"/>
                </a:lnTo>
                <a:lnTo>
                  <a:pt x="85" y="132"/>
                </a:lnTo>
                <a:lnTo>
                  <a:pt x="71" y="132"/>
                </a:lnTo>
                <a:lnTo>
                  <a:pt x="60" y="132"/>
                </a:lnTo>
                <a:lnTo>
                  <a:pt x="48" y="128"/>
                </a:lnTo>
                <a:lnTo>
                  <a:pt x="37" y="122"/>
                </a:lnTo>
                <a:lnTo>
                  <a:pt x="29" y="115"/>
                </a:lnTo>
                <a:lnTo>
                  <a:pt x="22" y="105"/>
                </a:lnTo>
                <a:lnTo>
                  <a:pt x="16" y="95"/>
                </a:lnTo>
                <a:lnTo>
                  <a:pt x="12" y="84"/>
                </a:lnTo>
                <a:lnTo>
                  <a:pt x="10" y="71"/>
                </a:lnTo>
                <a:lnTo>
                  <a:pt x="12" y="59"/>
                </a:lnTo>
                <a:lnTo>
                  <a:pt x="16" y="47"/>
                </a:lnTo>
                <a:lnTo>
                  <a:pt x="22" y="36"/>
                </a:lnTo>
                <a:lnTo>
                  <a:pt x="29" y="26"/>
                </a:lnTo>
                <a:lnTo>
                  <a:pt x="37" y="21"/>
                </a:lnTo>
                <a:lnTo>
                  <a:pt x="48" y="15"/>
                </a:lnTo>
                <a:lnTo>
                  <a:pt x="60" y="11"/>
                </a:lnTo>
                <a:lnTo>
                  <a:pt x="71" y="9"/>
                </a:lnTo>
                <a:lnTo>
                  <a:pt x="85" y="11"/>
                </a:lnTo>
                <a:lnTo>
                  <a:pt x="96" y="15"/>
                </a:lnTo>
                <a:lnTo>
                  <a:pt x="100" y="17"/>
                </a:lnTo>
                <a:lnTo>
                  <a:pt x="100" y="15"/>
                </a:lnTo>
                <a:lnTo>
                  <a:pt x="100" y="13"/>
                </a:lnTo>
                <a:lnTo>
                  <a:pt x="100" y="11"/>
                </a:lnTo>
                <a:lnTo>
                  <a:pt x="100" y="11"/>
                </a:lnTo>
                <a:lnTo>
                  <a:pt x="100" y="9"/>
                </a:lnTo>
                <a:lnTo>
                  <a:pt x="100" y="7"/>
                </a:lnTo>
                <a:lnTo>
                  <a:pt x="100" y="5"/>
                </a:lnTo>
                <a:lnTo>
                  <a:pt x="100" y="5"/>
                </a:lnTo>
                <a:close/>
              </a:path>
            </a:pathLst>
          </a:custGeom>
          <a:solidFill>
            <a:srgbClr val="f2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Freeform 253"/>
          <p:cNvSpPr/>
          <p:nvPr/>
        </p:nvSpPr>
        <p:spPr>
          <a:xfrm>
            <a:off x="2284560" y="3051000"/>
            <a:ext cx="149040" cy="214560"/>
          </a:xfrm>
          <a:custGeom>
            <a:avLst/>
            <a:gdLst>
              <a:gd name="textAreaLeft" fmla="*/ 0 w 149040"/>
              <a:gd name="textAreaRight" fmla="*/ 149400 w 1490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94" h="135">
                <a:moveTo>
                  <a:pt x="94" y="8"/>
                </a:moveTo>
                <a:lnTo>
                  <a:pt x="92" y="6"/>
                </a:lnTo>
                <a:lnTo>
                  <a:pt x="79" y="2"/>
                </a:lnTo>
                <a:lnTo>
                  <a:pt x="65" y="0"/>
                </a:lnTo>
                <a:lnTo>
                  <a:pt x="52" y="2"/>
                </a:lnTo>
                <a:lnTo>
                  <a:pt x="40" y="6"/>
                </a:lnTo>
                <a:lnTo>
                  <a:pt x="29" y="12"/>
                </a:lnTo>
                <a:lnTo>
                  <a:pt x="19" y="21"/>
                </a:lnTo>
                <a:lnTo>
                  <a:pt x="10" y="31"/>
                </a:lnTo>
                <a:lnTo>
                  <a:pt x="4" y="43"/>
                </a:lnTo>
                <a:lnTo>
                  <a:pt x="0" y="54"/>
                </a:lnTo>
                <a:lnTo>
                  <a:pt x="0" y="68"/>
                </a:lnTo>
                <a:lnTo>
                  <a:pt x="0" y="81"/>
                </a:lnTo>
                <a:lnTo>
                  <a:pt x="4" y="94"/>
                </a:lnTo>
                <a:lnTo>
                  <a:pt x="10" y="106"/>
                </a:lnTo>
                <a:lnTo>
                  <a:pt x="19" y="115"/>
                </a:lnTo>
                <a:lnTo>
                  <a:pt x="29" y="123"/>
                </a:lnTo>
                <a:lnTo>
                  <a:pt x="40" y="129"/>
                </a:lnTo>
                <a:lnTo>
                  <a:pt x="52" y="133"/>
                </a:lnTo>
                <a:lnTo>
                  <a:pt x="65" y="135"/>
                </a:lnTo>
                <a:lnTo>
                  <a:pt x="79" y="133"/>
                </a:lnTo>
                <a:lnTo>
                  <a:pt x="92" y="129"/>
                </a:lnTo>
                <a:lnTo>
                  <a:pt x="94" y="127"/>
                </a:lnTo>
                <a:lnTo>
                  <a:pt x="94" y="127"/>
                </a:lnTo>
                <a:lnTo>
                  <a:pt x="94" y="125"/>
                </a:lnTo>
                <a:lnTo>
                  <a:pt x="94" y="123"/>
                </a:lnTo>
                <a:lnTo>
                  <a:pt x="94" y="123"/>
                </a:lnTo>
                <a:lnTo>
                  <a:pt x="94" y="121"/>
                </a:lnTo>
                <a:lnTo>
                  <a:pt x="94" y="119"/>
                </a:lnTo>
                <a:lnTo>
                  <a:pt x="94" y="117"/>
                </a:lnTo>
                <a:lnTo>
                  <a:pt x="94" y="117"/>
                </a:lnTo>
                <a:lnTo>
                  <a:pt x="88" y="119"/>
                </a:lnTo>
                <a:lnTo>
                  <a:pt x="77" y="123"/>
                </a:lnTo>
                <a:lnTo>
                  <a:pt x="65" y="125"/>
                </a:lnTo>
                <a:lnTo>
                  <a:pt x="54" y="123"/>
                </a:lnTo>
                <a:lnTo>
                  <a:pt x="44" y="119"/>
                </a:lnTo>
                <a:lnTo>
                  <a:pt x="35" y="115"/>
                </a:lnTo>
                <a:lnTo>
                  <a:pt x="27" y="108"/>
                </a:lnTo>
                <a:lnTo>
                  <a:pt x="19" y="100"/>
                </a:lnTo>
                <a:lnTo>
                  <a:pt x="14" y="91"/>
                </a:lnTo>
                <a:lnTo>
                  <a:pt x="12" y="79"/>
                </a:lnTo>
                <a:lnTo>
                  <a:pt x="10" y="68"/>
                </a:lnTo>
                <a:lnTo>
                  <a:pt x="12" y="56"/>
                </a:lnTo>
                <a:lnTo>
                  <a:pt x="14" y="46"/>
                </a:lnTo>
                <a:lnTo>
                  <a:pt x="19" y="37"/>
                </a:lnTo>
                <a:lnTo>
                  <a:pt x="27" y="27"/>
                </a:lnTo>
                <a:lnTo>
                  <a:pt x="35" y="21"/>
                </a:lnTo>
                <a:lnTo>
                  <a:pt x="44" y="16"/>
                </a:lnTo>
                <a:lnTo>
                  <a:pt x="54" y="12"/>
                </a:lnTo>
                <a:lnTo>
                  <a:pt x="65" y="12"/>
                </a:lnTo>
                <a:lnTo>
                  <a:pt x="77" y="12"/>
                </a:lnTo>
                <a:lnTo>
                  <a:pt x="88" y="16"/>
                </a:lnTo>
                <a:lnTo>
                  <a:pt x="94" y="20"/>
                </a:lnTo>
                <a:lnTo>
                  <a:pt x="94" y="18"/>
                </a:lnTo>
                <a:lnTo>
                  <a:pt x="94" y="16"/>
                </a:lnTo>
                <a:lnTo>
                  <a:pt x="94" y="14"/>
                </a:lnTo>
                <a:lnTo>
                  <a:pt x="94" y="14"/>
                </a:lnTo>
                <a:lnTo>
                  <a:pt x="94" y="12"/>
                </a:lnTo>
                <a:lnTo>
                  <a:pt x="94" y="10"/>
                </a:lnTo>
                <a:lnTo>
                  <a:pt x="94" y="8"/>
                </a:lnTo>
                <a:lnTo>
                  <a:pt x="94" y="8"/>
                </a:lnTo>
                <a:close/>
              </a:path>
            </a:pathLst>
          </a:custGeom>
          <a:solidFill>
            <a:srgbClr val="f3f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Freeform 254"/>
          <p:cNvSpPr/>
          <p:nvPr/>
        </p:nvSpPr>
        <p:spPr>
          <a:xfrm>
            <a:off x="2290680" y="3060720"/>
            <a:ext cx="142920" cy="195120"/>
          </a:xfrm>
          <a:custGeom>
            <a:avLst/>
            <a:gdLst>
              <a:gd name="textAreaLeft" fmla="*/ 0 w 142920"/>
              <a:gd name="textAreaRight" fmla="*/ 143280 w 14292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0" h="123">
                <a:moveTo>
                  <a:pt x="90" y="8"/>
                </a:moveTo>
                <a:lnTo>
                  <a:pt x="86" y="6"/>
                </a:lnTo>
                <a:lnTo>
                  <a:pt x="75" y="2"/>
                </a:lnTo>
                <a:lnTo>
                  <a:pt x="61" y="0"/>
                </a:lnTo>
                <a:lnTo>
                  <a:pt x="50" y="2"/>
                </a:lnTo>
                <a:lnTo>
                  <a:pt x="38" y="6"/>
                </a:lnTo>
                <a:lnTo>
                  <a:pt x="27" y="12"/>
                </a:lnTo>
                <a:lnTo>
                  <a:pt x="19" y="17"/>
                </a:lnTo>
                <a:lnTo>
                  <a:pt x="12" y="27"/>
                </a:lnTo>
                <a:lnTo>
                  <a:pt x="6" y="38"/>
                </a:lnTo>
                <a:lnTo>
                  <a:pt x="2" y="50"/>
                </a:lnTo>
                <a:lnTo>
                  <a:pt x="0" y="62"/>
                </a:lnTo>
                <a:lnTo>
                  <a:pt x="2" y="75"/>
                </a:lnTo>
                <a:lnTo>
                  <a:pt x="6" y="86"/>
                </a:lnTo>
                <a:lnTo>
                  <a:pt x="12" y="96"/>
                </a:lnTo>
                <a:lnTo>
                  <a:pt x="19" y="106"/>
                </a:lnTo>
                <a:lnTo>
                  <a:pt x="27" y="113"/>
                </a:lnTo>
                <a:lnTo>
                  <a:pt x="38" y="119"/>
                </a:lnTo>
                <a:lnTo>
                  <a:pt x="50" y="123"/>
                </a:lnTo>
                <a:lnTo>
                  <a:pt x="61" y="123"/>
                </a:lnTo>
                <a:lnTo>
                  <a:pt x="75" y="123"/>
                </a:lnTo>
                <a:lnTo>
                  <a:pt x="86" y="119"/>
                </a:lnTo>
                <a:lnTo>
                  <a:pt x="90" y="117"/>
                </a:lnTo>
                <a:lnTo>
                  <a:pt x="90" y="115"/>
                </a:lnTo>
                <a:lnTo>
                  <a:pt x="90" y="113"/>
                </a:lnTo>
                <a:lnTo>
                  <a:pt x="90" y="111"/>
                </a:lnTo>
                <a:lnTo>
                  <a:pt x="90" y="111"/>
                </a:lnTo>
                <a:lnTo>
                  <a:pt x="90" y="109"/>
                </a:lnTo>
                <a:lnTo>
                  <a:pt x="90" y="108"/>
                </a:lnTo>
                <a:lnTo>
                  <a:pt x="90" y="106"/>
                </a:lnTo>
                <a:lnTo>
                  <a:pt x="90" y="106"/>
                </a:lnTo>
                <a:lnTo>
                  <a:pt x="83" y="109"/>
                </a:lnTo>
                <a:lnTo>
                  <a:pt x="73" y="111"/>
                </a:lnTo>
                <a:lnTo>
                  <a:pt x="61" y="113"/>
                </a:lnTo>
                <a:lnTo>
                  <a:pt x="52" y="111"/>
                </a:lnTo>
                <a:lnTo>
                  <a:pt x="42" y="109"/>
                </a:lnTo>
                <a:lnTo>
                  <a:pt x="33" y="104"/>
                </a:lnTo>
                <a:lnTo>
                  <a:pt x="25" y="98"/>
                </a:lnTo>
                <a:lnTo>
                  <a:pt x="19" y="90"/>
                </a:lnTo>
                <a:lnTo>
                  <a:pt x="15" y="83"/>
                </a:lnTo>
                <a:lnTo>
                  <a:pt x="12" y="73"/>
                </a:lnTo>
                <a:lnTo>
                  <a:pt x="12" y="62"/>
                </a:lnTo>
                <a:lnTo>
                  <a:pt x="12" y="52"/>
                </a:lnTo>
                <a:lnTo>
                  <a:pt x="15" y="42"/>
                </a:lnTo>
                <a:lnTo>
                  <a:pt x="19" y="33"/>
                </a:lnTo>
                <a:lnTo>
                  <a:pt x="25" y="25"/>
                </a:lnTo>
                <a:lnTo>
                  <a:pt x="33" y="19"/>
                </a:lnTo>
                <a:lnTo>
                  <a:pt x="42" y="14"/>
                </a:lnTo>
                <a:lnTo>
                  <a:pt x="52" y="12"/>
                </a:lnTo>
                <a:lnTo>
                  <a:pt x="61" y="10"/>
                </a:lnTo>
                <a:lnTo>
                  <a:pt x="73" y="12"/>
                </a:lnTo>
                <a:lnTo>
                  <a:pt x="83" y="14"/>
                </a:lnTo>
                <a:lnTo>
                  <a:pt x="90" y="19"/>
                </a:lnTo>
                <a:lnTo>
                  <a:pt x="90" y="17"/>
                </a:lnTo>
                <a:lnTo>
                  <a:pt x="90" y="15"/>
                </a:lnTo>
                <a:lnTo>
                  <a:pt x="90" y="14"/>
                </a:lnTo>
                <a:lnTo>
                  <a:pt x="90" y="14"/>
                </a:lnTo>
                <a:lnTo>
                  <a:pt x="90" y="12"/>
                </a:lnTo>
                <a:lnTo>
                  <a:pt x="90" y="10"/>
                </a:lnTo>
                <a:lnTo>
                  <a:pt x="90" y="8"/>
                </a:lnTo>
                <a:lnTo>
                  <a:pt x="90" y="8"/>
                </a:lnTo>
                <a:close/>
              </a:path>
            </a:pathLst>
          </a:custGeom>
          <a:solidFill>
            <a:srgbClr val="f4f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255"/>
          <p:cNvSpPr/>
          <p:nvPr/>
        </p:nvSpPr>
        <p:spPr>
          <a:xfrm>
            <a:off x="2300400" y="3070080"/>
            <a:ext cx="133200" cy="179640"/>
          </a:xfrm>
          <a:custGeom>
            <a:avLst/>
            <a:gdLst>
              <a:gd name="textAreaLeft" fmla="*/ 0 w 133200"/>
              <a:gd name="textAreaRight" fmla="*/ 133560 w 13320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84" h="113">
                <a:moveTo>
                  <a:pt x="84" y="8"/>
                </a:moveTo>
                <a:lnTo>
                  <a:pt x="78" y="4"/>
                </a:lnTo>
                <a:lnTo>
                  <a:pt x="67" y="0"/>
                </a:lnTo>
                <a:lnTo>
                  <a:pt x="55" y="0"/>
                </a:lnTo>
                <a:lnTo>
                  <a:pt x="44" y="0"/>
                </a:lnTo>
                <a:lnTo>
                  <a:pt x="34" y="4"/>
                </a:lnTo>
                <a:lnTo>
                  <a:pt x="25" y="9"/>
                </a:lnTo>
                <a:lnTo>
                  <a:pt x="17" y="15"/>
                </a:lnTo>
                <a:lnTo>
                  <a:pt x="9" y="25"/>
                </a:lnTo>
                <a:lnTo>
                  <a:pt x="4" y="34"/>
                </a:lnTo>
                <a:lnTo>
                  <a:pt x="2" y="44"/>
                </a:lnTo>
                <a:lnTo>
                  <a:pt x="0" y="56"/>
                </a:lnTo>
                <a:lnTo>
                  <a:pt x="2" y="67"/>
                </a:lnTo>
                <a:lnTo>
                  <a:pt x="4" y="79"/>
                </a:lnTo>
                <a:lnTo>
                  <a:pt x="9" y="88"/>
                </a:lnTo>
                <a:lnTo>
                  <a:pt x="17" y="96"/>
                </a:lnTo>
                <a:lnTo>
                  <a:pt x="25" y="103"/>
                </a:lnTo>
                <a:lnTo>
                  <a:pt x="34" y="107"/>
                </a:lnTo>
                <a:lnTo>
                  <a:pt x="44" y="111"/>
                </a:lnTo>
                <a:lnTo>
                  <a:pt x="55" y="113"/>
                </a:lnTo>
                <a:lnTo>
                  <a:pt x="67" y="111"/>
                </a:lnTo>
                <a:lnTo>
                  <a:pt x="78" y="107"/>
                </a:lnTo>
                <a:lnTo>
                  <a:pt x="84" y="105"/>
                </a:lnTo>
                <a:lnTo>
                  <a:pt x="84" y="103"/>
                </a:lnTo>
                <a:lnTo>
                  <a:pt x="84" y="102"/>
                </a:lnTo>
                <a:lnTo>
                  <a:pt x="84" y="100"/>
                </a:lnTo>
                <a:lnTo>
                  <a:pt x="84" y="98"/>
                </a:lnTo>
                <a:lnTo>
                  <a:pt x="84" y="98"/>
                </a:lnTo>
                <a:lnTo>
                  <a:pt x="84" y="96"/>
                </a:lnTo>
                <a:lnTo>
                  <a:pt x="84" y="94"/>
                </a:lnTo>
                <a:lnTo>
                  <a:pt x="84" y="92"/>
                </a:lnTo>
                <a:lnTo>
                  <a:pt x="82" y="94"/>
                </a:lnTo>
                <a:lnTo>
                  <a:pt x="75" y="98"/>
                </a:lnTo>
                <a:lnTo>
                  <a:pt x="65" y="102"/>
                </a:lnTo>
                <a:lnTo>
                  <a:pt x="55" y="102"/>
                </a:lnTo>
                <a:lnTo>
                  <a:pt x="46" y="102"/>
                </a:lnTo>
                <a:lnTo>
                  <a:pt x="38" y="98"/>
                </a:lnTo>
                <a:lnTo>
                  <a:pt x="30" y="94"/>
                </a:lnTo>
                <a:lnTo>
                  <a:pt x="23" y="88"/>
                </a:lnTo>
                <a:lnTo>
                  <a:pt x="17" y="82"/>
                </a:lnTo>
                <a:lnTo>
                  <a:pt x="13" y="75"/>
                </a:lnTo>
                <a:lnTo>
                  <a:pt x="11" y="65"/>
                </a:lnTo>
                <a:lnTo>
                  <a:pt x="9" y="56"/>
                </a:lnTo>
                <a:lnTo>
                  <a:pt x="11" y="46"/>
                </a:lnTo>
                <a:lnTo>
                  <a:pt x="13" y="38"/>
                </a:lnTo>
                <a:lnTo>
                  <a:pt x="17" y="31"/>
                </a:lnTo>
                <a:lnTo>
                  <a:pt x="23" y="23"/>
                </a:lnTo>
                <a:lnTo>
                  <a:pt x="30" y="17"/>
                </a:lnTo>
                <a:lnTo>
                  <a:pt x="38" y="13"/>
                </a:lnTo>
                <a:lnTo>
                  <a:pt x="46" y="11"/>
                </a:lnTo>
                <a:lnTo>
                  <a:pt x="55" y="9"/>
                </a:lnTo>
                <a:lnTo>
                  <a:pt x="65" y="11"/>
                </a:lnTo>
                <a:lnTo>
                  <a:pt x="75" y="13"/>
                </a:lnTo>
                <a:lnTo>
                  <a:pt x="82" y="17"/>
                </a:lnTo>
                <a:lnTo>
                  <a:pt x="84" y="19"/>
                </a:lnTo>
                <a:lnTo>
                  <a:pt x="84" y="17"/>
                </a:lnTo>
                <a:lnTo>
                  <a:pt x="84" y="15"/>
                </a:lnTo>
                <a:lnTo>
                  <a:pt x="84" y="15"/>
                </a:lnTo>
                <a:lnTo>
                  <a:pt x="84" y="13"/>
                </a:lnTo>
                <a:lnTo>
                  <a:pt x="84" y="11"/>
                </a:lnTo>
                <a:lnTo>
                  <a:pt x="84" y="9"/>
                </a:lnTo>
                <a:lnTo>
                  <a:pt x="84" y="8"/>
                </a:lnTo>
                <a:lnTo>
                  <a:pt x="84" y="8"/>
                </a:lnTo>
                <a:close/>
              </a:path>
            </a:pathLst>
          </a:custGeom>
          <a:solidFill>
            <a:srgbClr val="f5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reeform 256"/>
          <p:cNvSpPr/>
          <p:nvPr/>
        </p:nvSpPr>
        <p:spPr>
          <a:xfrm>
            <a:off x="2309760" y="3076560"/>
            <a:ext cx="123840" cy="163440"/>
          </a:xfrm>
          <a:custGeom>
            <a:avLst/>
            <a:gdLst>
              <a:gd name="textAreaLeft" fmla="*/ 0 w 123840"/>
              <a:gd name="textAreaRight" fmla="*/ 124200 w 123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78" h="103">
                <a:moveTo>
                  <a:pt x="78" y="9"/>
                </a:moveTo>
                <a:lnTo>
                  <a:pt x="71" y="4"/>
                </a:lnTo>
                <a:lnTo>
                  <a:pt x="61" y="2"/>
                </a:lnTo>
                <a:lnTo>
                  <a:pt x="49" y="0"/>
                </a:lnTo>
                <a:lnTo>
                  <a:pt x="40" y="2"/>
                </a:lnTo>
                <a:lnTo>
                  <a:pt x="30" y="4"/>
                </a:lnTo>
                <a:lnTo>
                  <a:pt x="21" y="9"/>
                </a:lnTo>
                <a:lnTo>
                  <a:pt x="13" y="15"/>
                </a:lnTo>
                <a:lnTo>
                  <a:pt x="7" y="23"/>
                </a:lnTo>
                <a:lnTo>
                  <a:pt x="3" y="32"/>
                </a:lnTo>
                <a:lnTo>
                  <a:pt x="0" y="42"/>
                </a:lnTo>
                <a:lnTo>
                  <a:pt x="0" y="52"/>
                </a:lnTo>
                <a:lnTo>
                  <a:pt x="0" y="63"/>
                </a:lnTo>
                <a:lnTo>
                  <a:pt x="3" y="73"/>
                </a:lnTo>
                <a:lnTo>
                  <a:pt x="7" y="80"/>
                </a:lnTo>
                <a:lnTo>
                  <a:pt x="13" y="88"/>
                </a:lnTo>
                <a:lnTo>
                  <a:pt x="21" y="94"/>
                </a:lnTo>
                <a:lnTo>
                  <a:pt x="30" y="99"/>
                </a:lnTo>
                <a:lnTo>
                  <a:pt x="40" y="101"/>
                </a:lnTo>
                <a:lnTo>
                  <a:pt x="49" y="103"/>
                </a:lnTo>
                <a:lnTo>
                  <a:pt x="61" y="101"/>
                </a:lnTo>
                <a:lnTo>
                  <a:pt x="71" y="99"/>
                </a:lnTo>
                <a:lnTo>
                  <a:pt x="78" y="96"/>
                </a:lnTo>
                <a:lnTo>
                  <a:pt x="78" y="94"/>
                </a:lnTo>
                <a:lnTo>
                  <a:pt x="78" y="92"/>
                </a:lnTo>
                <a:lnTo>
                  <a:pt x="78" y="90"/>
                </a:lnTo>
                <a:lnTo>
                  <a:pt x="78" y="88"/>
                </a:lnTo>
                <a:lnTo>
                  <a:pt x="78" y="86"/>
                </a:lnTo>
                <a:lnTo>
                  <a:pt x="78" y="86"/>
                </a:lnTo>
                <a:lnTo>
                  <a:pt x="78" y="84"/>
                </a:lnTo>
                <a:lnTo>
                  <a:pt x="78" y="82"/>
                </a:lnTo>
                <a:lnTo>
                  <a:pt x="72" y="86"/>
                </a:lnTo>
                <a:lnTo>
                  <a:pt x="67" y="90"/>
                </a:lnTo>
                <a:lnTo>
                  <a:pt x="59" y="92"/>
                </a:lnTo>
                <a:lnTo>
                  <a:pt x="49" y="94"/>
                </a:lnTo>
                <a:lnTo>
                  <a:pt x="42" y="92"/>
                </a:lnTo>
                <a:lnTo>
                  <a:pt x="34" y="90"/>
                </a:lnTo>
                <a:lnTo>
                  <a:pt x="26" y="86"/>
                </a:lnTo>
                <a:lnTo>
                  <a:pt x="21" y="80"/>
                </a:lnTo>
                <a:lnTo>
                  <a:pt x="17" y="75"/>
                </a:lnTo>
                <a:lnTo>
                  <a:pt x="13" y="67"/>
                </a:lnTo>
                <a:lnTo>
                  <a:pt x="9" y="59"/>
                </a:lnTo>
                <a:lnTo>
                  <a:pt x="9" y="52"/>
                </a:lnTo>
                <a:lnTo>
                  <a:pt x="9" y="44"/>
                </a:lnTo>
                <a:lnTo>
                  <a:pt x="13" y="36"/>
                </a:lnTo>
                <a:lnTo>
                  <a:pt x="17" y="28"/>
                </a:lnTo>
                <a:lnTo>
                  <a:pt x="21" y="23"/>
                </a:lnTo>
                <a:lnTo>
                  <a:pt x="26" y="17"/>
                </a:lnTo>
                <a:lnTo>
                  <a:pt x="34" y="13"/>
                </a:lnTo>
                <a:lnTo>
                  <a:pt x="42" y="11"/>
                </a:lnTo>
                <a:lnTo>
                  <a:pt x="49" y="11"/>
                </a:lnTo>
                <a:lnTo>
                  <a:pt x="59" y="11"/>
                </a:lnTo>
                <a:lnTo>
                  <a:pt x="67" y="13"/>
                </a:lnTo>
                <a:lnTo>
                  <a:pt x="72" y="17"/>
                </a:lnTo>
                <a:lnTo>
                  <a:pt x="78" y="21"/>
                </a:lnTo>
                <a:lnTo>
                  <a:pt x="78" y="19"/>
                </a:lnTo>
                <a:lnTo>
                  <a:pt x="78" y="19"/>
                </a:lnTo>
                <a:lnTo>
                  <a:pt x="78" y="17"/>
                </a:lnTo>
                <a:lnTo>
                  <a:pt x="78" y="15"/>
                </a:lnTo>
                <a:lnTo>
                  <a:pt x="78" y="13"/>
                </a:lnTo>
                <a:lnTo>
                  <a:pt x="78" y="11"/>
                </a:lnTo>
                <a:lnTo>
                  <a:pt x="78" y="9"/>
                </a:lnTo>
                <a:lnTo>
                  <a:pt x="78" y="9"/>
                </a:lnTo>
                <a:close/>
              </a:path>
            </a:pathLst>
          </a:custGeom>
          <a:solidFill>
            <a:srgbClr val="f6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Freeform 257"/>
          <p:cNvSpPr/>
          <p:nvPr/>
        </p:nvSpPr>
        <p:spPr>
          <a:xfrm>
            <a:off x="2314440" y="3084480"/>
            <a:ext cx="119160" cy="147600"/>
          </a:xfrm>
          <a:custGeom>
            <a:avLst/>
            <a:gdLst>
              <a:gd name="textAreaLeft" fmla="*/ 0 w 119160"/>
              <a:gd name="textAreaRight" fmla="*/ 119520 w 11916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75" h="93">
                <a:moveTo>
                  <a:pt x="75" y="10"/>
                </a:moveTo>
                <a:lnTo>
                  <a:pt x="73" y="8"/>
                </a:lnTo>
                <a:lnTo>
                  <a:pt x="66" y="4"/>
                </a:lnTo>
                <a:lnTo>
                  <a:pt x="56" y="2"/>
                </a:lnTo>
                <a:lnTo>
                  <a:pt x="46" y="0"/>
                </a:lnTo>
                <a:lnTo>
                  <a:pt x="37" y="2"/>
                </a:lnTo>
                <a:lnTo>
                  <a:pt x="29" y="4"/>
                </a:lnTo>
                <a:lnTo>
                  <a:pt x="21" y="8"/>
                </a:lnTo>
                <a:lnTo>
                  <a:pt x="14" y="14"/>
                </a:lnTo>
                <a:lnTo>
                  <a:pt x="8" y="22"/>
                </a:lnTo>
                <a:lnTo>
                  <a:pt x="4" y="29"/>
                </a:lnTo>
                <a:lnTo>
                  <a:pt x="2" y="37"/>
                </a:lnTo>
                <a:lnTo>
                  <a:pt x="0" y="47"/>
                </a:lnTo>
                <a:lnTo>
                  <a:pt x="2" y="56"/>
                </a:lnTo>
                <a:lnTo>
                  <a:pt x="4" y="66"/>
                </a:lnTo>
                <a:lnTo>
                  <a:pt x="8" y="73"/>
                </a:lnTo>
                <a:lnTo>
                  <a:pt x="14" y="79"/>
                </a:lnTo>
                <a:lnTo>
                  <a:pt x="21" y="85"/>
                </a:lnTo>
                <a:lnTo>
                  <a:pt x="29" y="89"/>
                </a:lnTo>
                <a:lnTo>
                  <a:pt x="37" y="93"/>
                </a:lnTo>
                <a:lnTo>
                  <a:pt x="46" y="93"/>
                </a:lnTo>
                <a:lnTo>
                  <a:pt x="56" y="93"/>
                </a:lnTo>
                <a:lnTo>
                  <a:pt x="66" y="89"/>
                </a:lnTo>
                <a:lnTo>
                  <a:pt x="73" y="85"/>
                </a:lnTo>
                <a:lnTo>
                  <a:pt x="75" y="83"/>
                </a:lnTo>
                <a:lnTo>
                  <a:pt x="75" y="81"/>
                </a:lnTo>
                <a:lnTo>
                  <a:pt x="75" y="79"/>
                </a:lnTo>
                <a:lnTo>
                  <a:pt x="75" y="79"/>
                </a:lnTo>
                <a:lnTo>
                  <a:pt x="75" y="77"/>
                </a:lnTo>
                <a:lnTo>
                  <a:pt x="75" y="75"/>
                </a:lnTo>
                <a:lnTo>
                  <a:pt x="75" y="73"/>
                </a:lnTo>
                <a:lnTo>
                  <a:pt x="75" y="71"/>
                </a:lnTo>
                <a:lnTo>
                  <a:pt x="75" y="70"/>
                </a:lnTo>
                <a:lnTo>
                  <a:pt x="73" y="71"/>
                </a:lnTo>
                <a:lnTo>
                  <a:pt x="68" y="77"/>
                </a:lnTo>
                <a:lnTo>
                  <a:pt x="62" y="79"/>
                </a:lnTo>
                <a:lnTo>
                  <a:pt x="54" y="81"/>
                </a:lnTo>
                <a:lnTo>
                  <a:pt x="46" y="83"/>
                </a:lnTo>
                <a:lnTo>
                  <a:pt x="41" y="81"/>
                </a:lnTo>
                <a:lnTo>
                  <a:pt x="33" y="79"/>
                </a:lnTo>
                <a:lnTo>
                  <a:pt x="27" y="77"/>
                </a:lnTo>
                <a:lnTo>
                  <a:pt x="21" y="71"/>
                </a:lnTo>
                <a:lnTo>
                  <a:pt x="18" y="68"/>
                </a:lnTo>
                <a:lnTo>
                  <a:pt x="14" y="60"/>
                </a:lnTo>
                <a:lnTo>
                  <a:pt x="12" y="54"/>
                </a:lnTo>
                <a:lnTo>
                  <a:pt x="12" y="47"/>
                </a:lnTo>
                <a:lnTo>
                  <a:pt x="12" y="39"/>
                </a:lnTo>
                <a:lnTo>
                  <a:pt x="14" y="33"/>
                </a:lnTo>
                <a:lnTo>
                  <a:pt x="18" y="27"/>
                </a:lnTo>
                <a:lnTo>
                  <a:pt x="21" y="22"/>
                </a:lnTo>
                <a:lnTo>
                  <a:pt x="27" y="18"/>
                </a:lnTo>
                <a:lnTo>
                  <a:pt x="33" y="14"/>
                </a:lnTo>
                <a:lnTo>
                  <a:pt x="41" y="12"/>
                </a:lnTo>
                <a:lnTo>
                  <a:pt x="46" y="10"/>
                </a:lnTo>
                <a:lnTo>
                  <a:pt x="54" y="12"/>
                </a:lnTo>
                <a:lnTo>
                  <a:pt x="62" y="14"/>
                </a:lnTo>
                <a:lnTo>
                  <a:pt x="68" y="18"/>
                </a:lnTo>
                <a:lnTo>
                  <a:pt x="73" y="22"/>
                </a:lnTo>
                <a:lnTo>
                  <a:pt x="75" y="23"/>
                </a:lnTo>
                <a:lnTo>
                  <a:pt x="75" y="22"/>
                </a:lnTo>
                <a:lnTo>
                  <a:pt x="75" y="20"/>
                </a:lnTo>
                <a:lnTo>
                  <a:pt x="75" y="18"/>
                </a:lnTo>
                <a:lnTo>
                  <a:pt x="75" y="16"/>
                </a:lnTo>
                <a:lnTo>
                  <a:pt x="75" y="16"/>
                </a:lnTo>
                <a:lnTo>
                  <a:pt x="75" y="14"/>
                </a:lnTo>
                <a:lnTo>
                  <a:pt x="75" y="12"/>
                </a:lnTo>
                <a:lnTo>
                  <a:pt x="75" y="10"/>
                </a:lnTo>
                <a:close/>
              </a:path>
            </a:pathLst>
          </a:custGeom>
          <a:solidFill>
            <a:srgbClr val="f7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reeform 258"/>
          <p:cNvSpPr/>
          <p:nvPr/>
        </p:nvSpPr>
        <p:spPr>
          <a:xfrm>
            <a:off x="2324160" y="3094200"/>
            <a:ext cx="109440" cy="131760"/>
          </a:xfrm>
          <a:custGeom>
            <a:avLst/>
            <a:gdLst>
              <a:gd name="textAreaLeft" fmla="*/ 0 w 109440"/>
              <a:gd name="textAreaRight" fmla="*/ 109800 w 109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69" h="83">
                <a:moveTo>
                  <a:pt x="69" y="10"/>
                </a:moveTo>
                <a:lnTo>
                  <a:pt x="63" y="6"/>
                </a:lnTo>
                <a:lnTo>
                  <a:pt x="58" y="2"/>
                </a:lnTo>
                <a:lnTo>
                  <a:pt x="50" y="0"/>
                </a:lnTo>
                <a:lnTo>
                  <a:pt x="40" y="0"/>
                </a:lnTo>
                <a:lnTo>
                  <a:pt x="33" y="0"/>
                </a:lnTo>
                <a:lnTo>
                  <a:pt x="25" y="2"/>
                </a:lnTo>
                <a:lnTo>
                  <a:pt x="17" y="6"/>
                </a:lnTo>
                <a:lnTo>
                  <a:pt x="12" y="12"/>
                </a:lnTo>
                <a:lnTo>
                  <a:pt x="8" y="17"/>
                </a:lnTo>
                <a:lnTo>
                  <a:pt x="4" y="25"/>
                </a:lnTo>
                <a:lnTo>
                  <a:pt x="0" y="33"/>
                </a:lnTo>
                <a:lnTo>
                  <a:pt x="0" y="41"/>
                </a:lnTo>
                <a:lnTo>
                  <a:pt x="0" y="48"/>
                </a:lnTo>
                <a:lnTo>
                  <a:pt x="4" y="56"/>
                </a:lnTo>
                <a:lnTo>
                  <a:pt x="8" y="64"/>
                </a:lnTo>
                <a:lnTo>
                  <a:pt x="12" y="69"/>
                </a:lnTo>
                <a:lnTo>
                  <a:pt x="17" y="75"/>
                </a:lnTo>
                <a:lnTo>
                  <a:pt x="25" y="79"/>
                </a:lnTo>
                <a:lnTo>
                  <a:pt x="33" y="81"/>
                </a:lnTo>
                <a:lnTo>
                  <a:pt x="40" y="83"/>
                </a:lnTo>
                <a:lnTo>
                  <a:pt x="50" y="81"/>
                </a:lnTo>
                <a:lnTo>
                  <a:pt x="58" y="79"/>
                </a:lnTo>
                <a:lnTo>
                  <a:pt x="63" y="75"/>
                </a:lnTo>
                <a:lnTo>
                  <a:pt x="69" y="71"/>
                </a:lnTo>
                <a:lnTo>
                  <a:pt x="69" y="69"/>
                </a:lnTo>
                <a:lnTo>
                  <a:pt x="69" y="67"/>
                </a:lnTo>
                <a:lnTo>
                  <a:pt x="69" y="65"/>
                </a:lnTo>
                <a:lnTo>
                  <a:pt x="69" y="64"/>
                </a:lnTo>
                <a:lnTo>
                  <a:pt x="69" y="62"/>
                </a:lnTo>
                <a:lnTo>
                  <a:pt x="69" y="58"/>
                </a:lnTo>
                <a:lnTo>
                  <a:pt x="69" y="56"/>
                </a:lnTo>
                <a:lnTo>
                  <a:pt x="69" y="54"/>
                </a:lnTo>
                <a:lnTo>
                  <a:pt x="67" y="58"/>
                </a:lnTo>
                <a:lnTo>
                  <a:pt x="63" y="62"/>
                </a:lnTo>
                <a:lnTo>
                  <a:pt x="58" y="65"/>
                </a:lnTo>
                <a:lnTo>
                  <a:pt x="54" y="69"/>
                </a:lnTo>
                <a:lnTo>
                  <a:pt x="48" y="71"/>
                </a:lnTo>
                <a:lnTo>
                  <a:pt x="40" y="71"/>
                </a:lnTo>
                <a:lnTo>
                  <a:pt x="35" y="71"/>
                </a:lnTo>
                <a:lnTo>
                  <a:pt x="29" y="69"/>
                </a:lnTo>
                <a:lnTo>
                  <a:pt x="23" y="65"/>
                </a:lnTo>
                <a:lnTo>
                  <a:pt x="19" y="62"/>
                </a:lnTo>
                <a:lnTo>
                  <a:pt x="15" y="58"/>
                </a:lnTo>
                <a:lnTo>
                  <a:pt x="14" y="52"/>
                </a:lnTo>
                <a:lnTo>
                  <a:pt x="12" y="46"/>
                </a:lnTo>
                <a:lnTo>
                  <a:pt x="10" y="41"/>
                </a:lnTo>
                <a:lnTo>
                  <a:pt x="12" y="35"/>
                </a:lnTo>
                <a:lnTo>
                  <a:pt x="14" y="29"/>
                </a:lnTo>
                <a:lnTo>
                  <a:pt x="15" y="23"/>
                </a:lnTo>
                <a:lnTo>
                  <a:pt x="19" y="19"/>
                </a:lnTo>
                <a:lnTo>
                  <a:pt x="23" y="16"/>
                </a:lnTo>
                <a:lnTo>
                  <a:pt x="29" y="12"/>
                </a:lnTo>
                <a:lnTo>
                  <a:pt x="35" y="10"/>
                </a:lnTo>
                <a:lnTo>
                  <a:pt x="40" y="10"/>
                </a:lnTo>
                <a:lnTo>
                  <a:pt x="48" y="10"/>
                </a:lnTo>
                <a:lnTo>
                  <a:pt x="54" y="12"/>
                </a:lnTo>
                <a:lnTo>
                  <a:pt x="58" y="16"/>
                </a:lnTo>
                <a:lnTo>
                  <a:pt x="63" y="19"/>
                </a:lnTo>
                <a:lnTo>
                  <a:pt x="67" y="23"/>
                </a:lnTo>
                <a:lnTo>
                  <a:pt x="67" y="27"/>
                </a:lnTo>
                <a:lnTo>
                  <a:pt x="67" y="25"/>
                </a:lnTo>
                <a:lnTo>
                  <a:pt x="69" y="23"/>
                </a:lnTo>
                <a:lnTo>
                  <a:pt x="69" y="21"/>
                </a:lnTo>
                <a:lnTo>
                  <a:pt x="69" y="19"/>
                </a:lnTo>
                <a:lnTo>
                  <a:pt x="69" y="16"/>
                </a:lnTo>
                <a:lnTo>
                  <a:pt x="69" y="14"/>
                </a:lnTo>
                <a:lnTo>
                  <a:pt x="69" y="12"/>
                </a:lnTo>
                <a:lnTo>
                  <a:pt x="69" y="10"/>
                </a:lnTo>
                <a:close/>
              </a:path>
            </a:pathLst>
          </a:cu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Freeform 259"/>
          <p:cNvSpPr/>
          <p:nvPr/>
        </p:nvSpPr>
        <p:spPr>
          <a:xfrm>
            <a:off x="2333520" y="3100320"/>
            <a:ext cx="100080" cy="115920"/>
          </a:xfrm>
          <a:custGeom>
            <a:avLst/>
            <a:gdLst>
              <a:gd name="textAreaLeft" fmla="*/ 0 w 100080"/>
              <a:gd name="textAreaRight" fmla="*/ 100440 w 1000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63" h="73">
                <a:moveTo>
                  <a:pt x="63" y="13"/>
                </a:moveTo>
                <a:lnTo>
                  <a:pt x="61" y="12"/>
                </a:lnTo>
                <a:lnTo>
                  <a:pt x="56" y="8"/>
                </a:lnTo>
                <a:lnTo>
                  <a:pt x="50" y="4"/>
                </a:lnTo>
                <a:lnTo>
                  <a:pt x="42" y="2"/>
                </a:lnTo>
                <a:lnTo>
                  <a:pt x="34" y="0"/>
                </a:lnTo>
                <a:lnTo>
                  <a:pt x="29" y="2"/>
                </a:lnTo>
                <a:lnTo>
                  <a:pt x="21" y="4"/>
                </a:lnTo>
                <a:lnTo>
                  <a:pt x="15" y="8"/>
                </a:lnTo>
                <a:lnTo>
                  <a:pt x="9" y="12"/>
                </a:lnTo>
                <a:lnTo>
                  <a:pt x="6" y="17"/>
                </a:lnTo>
                <a:lnTo>
                  <a:pt x="2" y="23"/>
                </a:lnTo>
                <a:lnTo>
                  <a:pt x="0" y="29"/>
                </a:lnTo>
                <a:lnTo>
                  <a:pt x="0" y="37"/>
                </a:lnTo>
                <a:lnTo>
                  <a:pt x="0" y="44"/>
                </a:lnTo>
                <a:lnTo>
                  <a:pt x="2" y="50"/>
                </a:lnTo>
                <a:lnTo>
                  <a:pt x="6" y="58"/>
                </a:lnTo>
                <a:lnTo>
                  <a:pt x="9" y="61"/>
                </a:lnTo>
                <a:lnTo>
                  <a:pt x="15" y="67"/>
                </a:lnTo>
                <a:lnTo>
                  <a:pt x="21" y="69"/>
                </a:lnTo>
                <a:lnTo>
                  <a:pt x="29" y="71"/>
                </a:lnTo>
                <a:lnTo>
                  <a:pt x="34" y="73"/>
                </a:lnTo>
                <a:lnTo>
                  <a:pt x="42" y="71"/>
                </a:lnTo>
                <a:lnTo>
                  <a:pt x="50" y="69"/>
                </a:lnTo>
                <a:lnTo>
                  <a:pt x="56" y="67"/>
                </a:lnTo>
                <a:lnTo>
                  <a:pt x="61" y="61"/>
                </a:lnTo>
                <a:lnTo>
                  <a:pt x="63" y="60"/>
                </a:lnTo>
                <a:lnTo>
                  <a:pt x="63" y="58"/>
                </a:lnTo>
                <a:lnTo>
                  <a:pt x="63" y="54"/>
                </a:lnTo>
                <a:lnTo>
                  <a:pt x="63" y="52"/>
                </a:lnTo>
                <a:lnTo>
                  <a:pt x="63" y="48"/>
                </a:lnTo>
                <a:lnTo>
                  <a:pt x="63" y="46"/>
                </a:lnTo>
                <a:lnTo>
                  <a:pt x="63" y="42"/>
                </a:lnTo>
                <a:lnTo>
                  <a:pt x="63" y="40"/>
                </a:lnTo>
                <a:lnTo>
                  <a:pt x="63" y="37"/>
                </a:lnTo>
                <a:lnTo>
                  <a:pt x="61" y="37"/>
                </a:lnTo>
                <a:lnTo>
                  <a:pt x="59" y="31"/>
                </a:lnTo>
                <a:lnTo>
                  <a:pt x="59" y="27"/>
                </a:lnTo>
                <a:lnTo>
                  <a:pt x="56" y="23"/>
                </a:lnTo>
                <a:lnTo>
                  <a:pt x="54" y="19"/>
                </a:lnTo>
                <a:lnTo>
                  <a:pt x="50" y="15"/>
                </a:lnTo>
                <a:lnTo>
                  <a:pt x="46" y="13"/>
                </a:lnTo>
                <a:lnTo>
                  <a:pt x="40" y="12"/>
                </a:lnTo>
                <a:lnTo>
                  <a:pt x="34" y="12"/>
                </a:lnTo>
                <a:lnTo>
                  <a:pt x="31" y="12"/>
                </a:lnTo>
                <a:lnTo>
                  <a:pt x="25" y="13"/>
                </a:lnTo>
                <a:lnTo>
                  <a:pt x="21" y="15"/>
                </a:lnTo>
                <a:lnTo>
                  <a:pt x="17" y="19"/>
                </a:lnTo>
                <a:lnTo>
                  <a:pt x="13" y="23"/>
                </a:lnTo>
                <a:lnTo>
                  <a:pt x="11" y="27"/>
                </a:lnTo>
                <a:lnTo>
                  <a:pt x="9" y="31"/>
                </a:lnTo>
                <a:lnTo>
                  <a:pt x="9" y="37"/>
                </a:lnTo>
                <a:lnTo>
                  <a:pt x="9" y="42"/>
                </a:lnTo>
                <a:lnTo>
                  <a:pt x="11" y="46"/>
                </a:lnTo>
                <a:lnTo>
                  <a:pt x="13" y="52"/>
                </a:lnTo>
                <a:lnTo>
                  <a:pt x="17" y="56"/>
                </a:lnTo>
                <a:lnTo>
                  <a:pt x="21" y="58"/>
                </a:lnTo>
                <a:lnTo>
                  <a:pt x="25" y="60"/>
                </a:lnTo>
                <a:lnTo>
                  <a:pt x="31" y="61"/>
                </a:lnTo>
                <a:lnTo>
                  <a:pt x="34" y="63"/>
                </a:lnTo>
                <a:lnTo>
                  <a:pt x="40" y="61"/>
                </a:lnTo>
                <a:lnTo>
                  <a:pt x="46" y="60"/>
                </a:lnTo>
                <a:lnTo>
                  <a:pt x="50" y="58"/>
                </a:lnTo>
                <a:lnTo>
                  <a:pt x="54" y="56"/>
                </a:lnTo>
                <a:lnTo>
                  <a:pt x="56" y="52"/>
                </a:lnTo>
                <a:lnTo>
                  <a:pt x="59" y="46"/>
                </a:lnTo>
                <a:lnTo>
                  <a:pt x="59" y="42"/>
                </a:lnTo>
                <a:lnTo>
                  <a:pt x="61" y="37"/>
                </a:lnTo>
                <a:lnTo>
                  <a:pt x="63" y="37"/>
                </a:lnTo>
                <a:lnTo>
                  <a:pt x="63" y="35"/>
                </a:lnTo>
                <a:lnTo>
                  <a:pt x="63" y="31"/>
                </a:lnTo>
                <a:lnTo>
                  <a:pt x="63" y="29"/>
                </a:lnTo>
                <a:lnTo>
                  <a:pt x="63" y="25"/>
                </a:lnTo>
                <a:lnTo>
                  <a:pt x="63" y="23"/>
                </a:lnTo>
                <a:lnTo>
                  <a:pt x="63" y="19"/>
                </a:lnTo>
                <a:lnTo>
                  <a:pt x="63" y="17"/>
                </a:lnTo>
                <a:lnTo>
                  <a:pt x="63" y="13"/>
                </a:lnTo>
                <a:close/>
              </a:path>
            </a:pathLst>
          </a:custGeom>
          <a:solidFill>
            <a:srgbClr val="f9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Freeform 260"/>
          <p:cNvSpPr/>
          <p:nvPr/>
        </p:nvSpPr>
        <p:spPr>
          <a:xfrm>
            <a:off x="2340000" y="3110040"/>
            <a:ext cx="93600" cy="96840"/>
          </a:xfrm>
          <a:custGeom>
            <a:avLst/>
            <a:gdLst>
              <a:gd name="textAreaLeft" fmla="*/ 0 w 93600"/>
              <a:gd name="textAreaRight" fmla="*/ 93960 w 93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59" h="61">
                <a:moveTo>
                  <a:pt x="57" y="17"/>
                </a:moveTo>
                <a:lnTo>
                  <a:pt x="57" y="13"/>
                </a:lnTo>
                <a:lnTo>
                  <a:pt x="53" y="9"/>
                </a:lnTo>
                <a:lnTo>
                  <a:pt x="48" y="6"/>
                </a:lnTo>
                <a:lnTo>
                  <a:pt x="44" y="2"/>
                </a:lnTo>
                <a:lnTo>
                  <a:pt x="38" y="0"/>
                </a:lnTo>
                <a:lnTo>
                  <a:pt x="30" y="0"/>
                </a:lnTo>
                <a:lnTo>
                  <a:pt x="25" y="0"/>
                </a:lnTo>
                <a:lnTo>
                  <a:pt x="19" y="2"/>
                </a:lnTo>
                <a:lnTo>
                  <a:pt x="13" y="6"/>
                </a:lnTo>
                <a:lnTo>
                  <a:pt x="9" y="9"/>
                </a:lnTo>
                <a:lnTo>
                  <a:pt x="5" y="13"/>
                </a:lnTo>
                <a:lnTo>
                  <a:pt x="4" y="19"/>
                </a:lnTo>
                <a:lnTo>
                  <a:pt x="2" y="25"/>
                </a:lnTo>
                <a:lnTo>
                  <a:pt x="0" y="31"/>
                </a:lnTo>
                <a:lnTo>
                  <a:pt x="2" y="36"/>
                </a:lnTo>
                <a:lnTo>
                  <a:pt x="4" y="42"/>
                </a:lnTo>
                <a:lnTo>
                  <a:pt x="5" y="48"/>
                </a:lnTo>
                <a:lnTo>
                  <a:pt x="9" y="52"/>
                </a:lnTo>
                <a:lnTo>
                  <a:pt x="13" y="55"/>
                </a:lnTo>
                <a:lnTo>
                  <a:pt x="19" y="59"/>
                </a:lnTo>
                <a:lnTo>
                  <a:pt x="25" y="61"/>
                </a:lnTo>
                <a:lnTo>
                  <a:pt x="30" y="61"/>
                </a:lnTo>
                <a:lnTo>
                  <a:pt x="38" y="61"/>
                </a:lnTo>
                <a:lnTo>
                  <a:pt x="44" y="59"/>
                </a:lnTo>
                <a:lnTo>
                  <a:pt x="48" y="55"/>
                </a:lnTo>
                <a:lnTo>
                  <a:pt x="53" y="52"/>
                </a:lnTo>
                <a:lnTo>
                  <a:pt x="57" y="48"/>
                </a:lnTo>
                <a:lnTo>
                  <a:pt x="59" y="44"/>
                </a:lnTo>
                <a:lnTo>
                  <a:pt x="59" y="42"/>
                </a:lnTo>
                <a:lnTo>
                  <a:pt x="59" y="42"/>
                </a:lnTo>
                <a:lnTo>
                  <a:pt x="59" y="40"/>
                </a:lnTo>
                <a:lnTo>
                  <a:pt x="59" y="38"/>
                </a:lnTo>
                <a:lnTo>
                  <a:pt x="59" y="36"/>
                </a:lnTo>
                <a:lnTo>
                  <a:pt x="59" y="34"/>
                </a:lnTo>
                <a:lnTo>
                  <a:pt x="59" y="32"/>
                </a:lnTo>
                <a:lnTo>
                  <a:pt x="59" y="31"/>
                </a:lnTo>
                <a:lnTo>
                  <a:pt x="52" y="31"/>
                </a:lnTo>
                <a:lnTo>
                  <a:pt x="52" y="27"/>
                </a:lnTo>
                <a:lnTo>
                  <a:pt x="50" y="23"/>
                </a:lnTo>
                <a:lnTo>
                  <a:pt x="48" y="19"/>
                </a:lnTo>
                <a:lnTo>
                  <a:pt x="46" y="17"/>
                </a:lnTo>
                <a:lnTo>
                  <a:pt x="42" y="13"/>
                </a:lnTo>
                <a:lnTo>
                  <a:pt x="38" y="11"/>
                </a:lnTo>
                <a:lnTo>
                  <a:pt x="34" y="11"/>
                </a:lnTo>
                <a:lnTo>
                  <a:pt x="30" y="9"/>
                </a:lnTo>
                <a:lnTo>
                  <a:pt x="27" y="11"/>
                </a:lnTo>
                <a:lnTo>
                  <a:pt x="23" y="11"/>
                </a:lnTo>
                <a:lnTo>
                  <a:pt x="19" y="13"/>
                </a:lnTo>
                <a:lnTo>
                  <a:pt x="17" y="17"/>
                </a:lnTo>
                <a:lnTo>
                  <a:pt x="13" y="19"/>
                </a:lnTo>
                <a:lnTo>
                  <a:pt x="11" y="23"/>
                </a:lnTo>
                <a:lnTo>
                  <a:pt x="11" y="27"/>
                </a:lnTo>
                <a:lnTo>
                  <a:pt x="11" y="31"/>
                </a:lnTo>
                <a:lnTo>
                  <a:pt x="11" y="34"/>
                </a:lnTo>
                <a:lnTo>
                  <a:pt x="11" y="38"/>
                </a:lnTo>
                <a:lnTo>
                  <a:pt x="13" y="42"/>
                </a:lnTo>
                <a:lnTo>
                  <a:pt x="17" y="46"/>
                </a:lnTo>
                <a:lnTo>
                  <a:pt x="19" y="48"/>
                </a:lnTo>
                <a:lnTo>
                  <a:pt x="23" y="50"/>
                </a:lnTo>
                <a:lnTo>
                  <a:pt x="27" y="52"/>
                </a:lnTo>
                <a:lnTo>
                  <a:pt x="30" y="52"/>
                </a:lnTo>
                <a:lnTo>
                  <a:pt x="34" y="52"/>
                </a:lnTo>
                <a:lnTo>
                  <a:pt x="38" y="50"/>
                </a:lnTo>
                <a:lnTo>
                  <a:pt x="42" y="48"/>
                </a:lnTo>
                <a:lnTo>
                  <a:pt x="46" y="46"/>
                </a:lnTo>
                <a:lnTo>
                  <a:pt x="48" y="42"/>
                </a:lnTo>
                <a:lnTo>
                  <a:pt x="50" y="38"/>
                </a:lnTo>
                <a:lnTo>
                  <a:pt x="52" y="34"/>
                </a:lnTo>
                <a:lnTo>
                  <a:pt x="52" y="31"/>
                </a:lnTo>
                <a:lnTo>
                  <a:pt x="59" y="31"/>
                </a:lnTo>
                <a:lnTo>
                  <a:pt x="59" y="29"/>
                </a:lnTo>
                <a:lnTo>
                  <a:pt x="59" y="27"/>
                </a:lnTo>
                <a:lnTo>
                  <a:pt x="59" y="25"/>
                </a:lnTo>
                <a:lnTo>
                  <a:pt x="59" y="23"/>
                </a:lnTo>
                <a:lnTo>
                  <a:pt x="59" y="23"/>
                </a:lnTo>
                <a:lnTo>
                  <a:pt x="57" y="21"/>
                </a:lnTo>
                <a:lnTo>
                  <a:pt x="57" y="19"/>
                </a:lnTo>
                <a:lnTo>
                  <a:pt x="57" y="17"/>
                </a:lnTo>
                <a:close/>
              </a:path>
            </a:pathLst>
          </a:custGeom>
          <a:solidFill>
            <a:srgbClr val="faf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Freeform 261"/>
          <p:cNvSpPr/>
          <p:nvPr/>
        </p:nvSpPr>
        <p:spPr>
          <a:xfrm>
            <a:off x="2347920" y="3119400"/>
            <a:ext cx="82440" cy="81000"/>
          </a:xfrm>
          <a:custGeom>
            <a:avLst/>
            <a:gdLst>
              <a:gd name="textAreaLeft" fmla="*/ 0 w 82440"/>
              <a:gd name="textAreaRight" fmla="*/ 82800 w 8244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52" h="51">
                <a:moveTo>
                  <a:pt x="52" y="25"/>
                </a:moveTo>
                <a:lnTo>
                  <a:pt x="50" y="19"/>
                </a:lnTo>
                <a:lnTo>
                  <a:pt x="50" y="15"/>
                </a:lnTo>
                <a:lnTo>
                  <a:pt x="47" y="11"/>
                </a:lnTo>
                <a:lnTo>
                  <a:pt x="45" y="7"/>
                </a:lnTo>
                <a:lnTo>
                  <a:pt x="41" y="3"/>
                </a:lnTo>
                <a:lnTo>
                  <a:pt x="37" y="1"/>
                </a:lnTo>
                <a:lnTo>
                  <a:pt x="31" y="0"/>
                </a:lnTo>
                <a:lnTo>
                  <a:pt x="25" y="0"/>
                </a:lnTo>
                <a:lnTo>
                  <a:pt x="22" y="0"/>
                </a:lnTo>
                <a:lnTo>
                  <a:pt x="16" y="1"/>
                </a:lnTo>
                <a:lnTo>
                  <a:pt x="12" y="3"/>
                </a:lnTo>
                <a:lnTo>
                  <a:pt x="8" y="7"/>
                </a:lnTo>
                <a:lnTo>
                  <a:pt x="4" y="11"/>
                </a:lnTo>
                <a:lnTo>
                  <a:pt x="2" y="15"/>
                </a:lnTo>
                <a:lnTo>
                  <a:pt x="0" y="19"/>
                </a:lnTo>
                <a:lnTo>
                  <a:pt x="0" y="25"/>
                </a:lnTo>
                <a:lnTo>
                  <a:pt x="0" y="30"/>
                </a:lnTo>
                <a:lnTo>
                  <a:pt x="2" y="34"/>
                </a:lnTo>
                <a:lnTo>
                  <a:pt x="4" y="40"/>
                </a:lnTo>
                <a:lnTo>
                  <a:pt x="8" y="44"/>
                </a:lnTo>
                <a:lnTo>
                  <a:pt x="12" y="46"/>
                </a:lnTo>
                <a:lnTo>
                  <a:pt x="16" y="48"/>
                </a:lnTo>
                <a:lnTo>
                  <a:pt x="22" y="49"/>
                </a:lnTo>
                <a:lnTo>
                  <a:pt x="25" y="51"/>
                </a:lnTo>
                <a:lnTo>
                  <a:pt x="31" y="49"/>
                </a:lnTo>
                <a:lnTo>
                  <a:pt x="37" y="48"/>
                </a:lnTo>
                <a:lnTo>
                  <a:pt x="41" y="46"/>
                </a:lnTo>
                <a:lnTo>
                  <a:pt x="45" y="44"/>
                </a:lnTo>
                <a:lnTo>
                  <a:pt x="47" y="40"/>
                </a:lnTo>
                <a:lnTo>
                  <a:pt x="50" y="34"/>
                </a:lnTo>
                <a:lnTo>
                  <a:pt x="50" y="30"/>
                </a:lnTo>
                <a:lnTo>
                  <a:pt x="52" y="25"/>
                </a:lnTo>
                <a:lnTo>
                  <a:pt x="41" y="25"/>
                </a:lnTo>
                <a:lnTo>
                  <a:pt x="41" y="23"/>
                </a:lnTo>
                <a:lnTo>
                  <a:pt x="41" y="19"/>
                </a:lnTo>
                <a:lnTo>
                  <a:pt x="39" y="17"/>
                </a:lnTo>
                <a:lnTo>
                  <a:pt x="37" y="13"/>
                </a:lnTo>
                <a:lnTo>
                  <a:pt x="35" y="11"/>
                </a:lnTo>
                <a:lnTo>
                  <a:pt x="31" y="11"/>
                </a:lnTo>
                <a:lnTo>
                  <a:pt x="29" y="9"/>
                </a:lnTo>
                <a:lnTo>
                  <a:pt x="25" y="9"/>
                </a:lnTo>
                <a:lnTo>
                  <a:pt x="23" y="9"/>
                </a:lnTo>
                <a:lnTo>
                  <a:pt x="20" y="11"/>
                </a:lnTo>
                <a:lnTo>
                  <a:pt x="18" y="11"/>
                </a:lnTo>
                <a:lnTo>
                  <a:pt x="16" y="13"/>
                </a:lnTo>
                <a:lnTo>
                  <a:pt x="14" y="17"/>
                </a:lnTo>
                <a:lnTo>
                  <a:pt x="12" y="19"/>
                </a:lnTo>
                <a:lnTo>
                  <a:pt x="10" y="23"/>
                </a:lnTo>
                <a:lnTo>
                  <a:pt x="10" y="25"/>
                </a:lnTo>
                <a:lnTo>
                  <a:pt x="10" y="28"/>
                </a:lnTo>
                <a:lnTo>
                  <a:pt x="12" y="30"/>
                </a:lnTo>
                <a:lnTo>
                  <a:pt x="14" y="34"/>
                </a:lnTo>
                <a:lnTo>
                  <a:pt x="16" y="36"/>
                </a:lnTo>
                <a:lnTo>
                  <a:pt x="18" y="38"/>
                </a:lnTo>
                <a:lnTo>
                  <a:pt x="20" y="40"/>
                </a:lnTo>
                <a:lnTo>
                  <a:pt x="23" y="40"/>
                </a:lnTo>
                <a:lnTo>
                  <a:pt x="25" y="40"/>
                </a:lnTo>
                <a:lnTo>
                  <a:pt x="29" y="40"/>
                </a:lnTo>
                <a:lnTo>
                  <a:pt x="31" y="40"/>
                </a:lnTo>
                <a:lnTo>
                  <a:pt x="35" y="38"/>
                </a:lnTo>
                <a:lnTo>
                  <a:pt x="37" y="36"/>
                </a:lnTo>
                <a:lnTo>
                  <a:pt x="39" y="34"/>
                </a:lnTo>
                <a:lnTo>
                  <a:pt x="41" y="30"/>
                </a:lnTo>
                <a:lnTo>
                  <a:pt x="41" y="28"/>
                </a:lnTo>
                <a:lnTo>
                  <a:pt x="41" y="25"/>
                </a:lnTo>
                <a:lnTo>
                  <a:pt x="52" y="25"/>
                </a:lnTo>
                <a:close/>
              </a:path>
            </a:pathLst>
          </a:custGeom>
          <a:solidFill>
            <a:srgbClr val="fbf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Freeform 262"/>
          <p:cNvSpPr/>
          <p:nvPr/>
        </p:nvSpPr>
        <p:spPr>
          <a:xfrm>
            <a:off x="2357280" y="3124080"/>
            <a:ext cx="65160" cy="68400"/>
          </a:xfrm>
          <a:custGeom>
            <a:avLst/>
            <a:gdLst>
              <a:gd name="textAreaLeft" fmla="*/ 0 w 65160"/>
              <a:gd name="textAreaRight" fmla="*/ 65520 w 651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41" h="43">
                <a:moveTo>
                  <a:pt x="41" y="22"/>
                </a:moveTo>
                <a:lnTo>
                  <a:pt x="41" y="18"/>
                </a:lnTo>
                <a:lnTo>
                  <a:pt x="39" y="14"/>
                </a:lnTo>
                <a:lnTo>
                  <a:pt x="37" y="10"/>
                </a:lnTo>
                <a:lnTo>
                  <a:pt x="35" y="8"/>
                </a:lnTo>
                <a:lnTo>
                  <a:pt x="31" y="4"/>
                </a:lnTo>
                <a:lnTo>
                  <a:pt x="27" y="2"/>
                </a:lnTo>
                <a:lnTo>
                  <a:pt x="23" y="2"/>
                </a:lnTo>
                <a:lnTo>
                  <a:pt x="19" y="0"/>
                </a:lnTo>
                <a:lnTo>
                  <a:pt x="16" y="2"/>
                </a:lnTo>
                <a:lnTo>
                  <a:pt x="12" y="2"/>
                </a:lnTo>
                <a:lnTo>
                  <a:pt x="8" y="4"/>
                </a:lnTo>
                <a:lnTo>
                  <a:pt x="6" y="8"/>
                </a:lnTo>
                <a:lnTo>
                  <a:pt x="2" y="10"/>
                </a:lnTo>
                <a:lnTo>
                  <a:pt x="0" y="14"/>
                </a:lnTo>
                <a:lnTo>
                  <a:pt x="0" y="18"/>
                </a:lnTo>
                <a:lnTo>
                  <a:pt x="0" y="22"/>
                </a:lnTo>
                <a:lnTo>
                  <a:pt x="0" y="25"/>
                </a:lnTo>
                <a:lnTo>
                  <a:pt x="0" y="29"/>
                </a:lnTo>
                <a:lnTo>
                  <a:pt x="2" y="33"/>
                </a:lnTo>
                <a:lnTo>
                  <a:pt x="6" y="37"/>
                </a:lnTo>
                <a:lnTo>
                  <a:pt x="8" y="39"/>
                </a:lnTo>
                <a:lnTo>
                  <a:pt x="12" y="41"/>
                </a:lnTo>
                <a:lnTo>
                  <a:pt x="16" y="43"/>
                </a:lnTo>
                <a:lnTo>
                  <a:pt x="19" y="43"/>
                </a:lnTo>
                <a:lnTo>
                  <a:pt x="23" y="43"/>
                </a:lnTo>
                <a:lnTo>
                  <a:pt x="27" y="41"/>
                </a:lnTo>
                <a:lnTo>
                  <a:pt x="31" y="39"/>
                </a:lnTo>
                <a:lnTo>
                  <a:pt x="35" y="37"/>
                </a:lnTo>
                <a:lnTo>
                  <a:pt x="37" y="33"/>
                </a:lnTo>
                <a:lnTo>
                  <a:pt x="39" y="29"/>
                </a:lnTo>
                <a:lnTo>
                  <a:pt x="41" y="25"/>
                </a:lnTo>
                <a:lnTo>
                  <a:pt x="41" y="22"/>
                </a:lnTo>
                <a:lnTo>
                  <a:pt x="31" y="22"/>
                </a:lnTo>
                <a:lnTo>
                  <a:pt x="31" y="20"/>
                </a:lnTo>
                <a:lnTo>
                  <a:pt x="29" y="18"/>
                </a:lnTo>
                <a:lnTo>
                  <a:pt x="29" y="16"/>
                </a:lnTo>
                <a:lnTo>
                  <a:pt x="27" y="14"/>
                </a:lnTo>
                <a:lnTo>
                  <a:pt x="25" y="14"/>
                </a:lnTo>
                <a:lnTo>
                  <a:pt x="23" y="12"/>
                </a:lnTo>
                <a:lnTo>
                  <a:pt x="21" y="12"/>
                </a:lnTo>
                <a:lnTo>
                  <a:pt x="19" y="12"/>
                </a:lnTo>
                <a:lnTo>
                  <a:pt x="17" y="12"/>
                </a:lnTo>
                <a:lnTo>
                  <a:pt x="16" y="12"/>
                </a:lnTo>
                <a:lnTo>
                  <a:pt x="14" y="14"/>
                </a:lnTo>
                <a:lnTo>
                  <a:pt x="14" y="14"/>
                </a:lnTo>
                <a:lnTo>
                  <a:pt x="12" y="16"/>
                </a:lnTo>
                <a:lnTo>
                  <a:pt x="10" y="18"/>
                </a:lnTo>
                <a:lnTo>
                  <a:pt x="10" y="20"/>
                </a:lnTo>
                <a:lnTo>
                  <a:pt x="10" y="22"/>
                </a:lnTo>
                <a:lnTo>
                  <a:pt x="10" y="23"/>
                </a:lnTo>
                <a:lnTo>
                  <a:pt x="10" y="25"/>
                </a:lnTo>
                <a:lnTo>
                  <a:pt x="12" y="27"/>
                </a:lnTo>
                <a:lnTo>
                  <a:pt x="14" y="29"/>
                </a:lnTo>
                <a:lnTo>
                  <a:pt x="14" y="31"/>
                </a:lnTo>
                <a:lnTo>
                  <a:pt x="16" y="31"/>
                </a:lnTo>
                <a:lnTo>
                  <a:pt x="17" y="31"/>
                </a:lnTo>
                <a:lnTo>
                  <a:pt x="19" y="31"/>
                </a:lnTo>
                <a:lnTo>
                  <a:pt x="21" y="31"/>
                </a:lnTo>
                <a:lnTo>
                  <a:pt x="23" y="31"/>
                </a:lnTo>
                <a:lnTo>
                  <a:pt x="25" y="31"/>
                </a:lnTo>
                <a:lnTo>
                  <a:pt x="27" y="29"/>
                </a:lnTo>
                <a:lnTo>
                  <a:pt x="29" y="27"/>
                </a:lnTo>
                <a:lnTo>
                  <a:pt x="29" y="25"/>
                </a:lnTo>
                <a:lnTo>
                  <a:pt x="31" y="23"/>
                </a:lnTo>
                <a:lnTo>
                  <a:pt x="31" y="22"/>
                </a:lnTo>
                <a:lnTo>
                  <a:pt x="41" y="22"/>
                </a:lnTo>
                <a:close/>
              </a:path>
            </a:pathLst>
          </a:custGeom>
          <a:solidFill>
            <a:srgbClr val="fcf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reeform 263"/>
          <p:cNvSpPr/>
          <p:nvPr/>
        </p:nvSpPr>
        <p:spPr>
          <a:xfrm>
            <a:off x="2363760" y="3133800"/>
            <a:ext cx="49320" cy="48960"/>
          </a:xfrm>
          <a:custGeom>
            <a:avLst/>
            <a:gdLst>
              <a:gd name="textAreaLeft" fmla="*/ 0 w 49320"/>
              <a:gd name="textAreaRight" fmla="*/ 49680 w 49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1" h="31">
                <a:moveTo>
                  <a:pt x="31" y="16"/>
                </a:moveTo>
                <a:lnTo>
                  <a:pt x="31" y="14"/>
                </a:lnTo>
                <a:lnTo>
                  <a:pt x="31" y="10"/>
                </a:lnTo>
                <a:lnTo>
                  <a:pt x="29" y="8"/>
                </a:lnTo>
                <a:lnTo>
                  <a:pt x="27" y="4"/>
                </a:lnTo>
                <a:lnTo>
                  <a:pt x="25" y="2"/>
                </a:lnTo>
                <a:lnTo>
                  <a:pt x="21" y="2"/>
                </a:lnTo>
                <a:lnTo>
                  <a:pt x="19" y="0"/>
                </a:lnTo>
                <a:lnTo>
                  <a:pt x="15" y="0"/>
                </a:lnTo>
                <a:lnTo>
                  <a:pt x="13" y="0"/>
                </a:lnTo>
                <a:lnTo>
                  <a:pt x="10" y="2"/>
                </a:lnTo>
                <a:lnTo>
                  <a:pt x="8" y="2"/>
                </a:lnTo>
                <a:lnTo>
                  <a:pt x="6" y="4"/>
                </a:lnTo>
                <a:lnTo>
                  <a:pt x="4" y="8"/>
                </a:lnTo>
                <a:lnTo>
                  <a:pt x="2" y="10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2" y="21"/>
                </a:lnTo>
                <a:lnTo>
                  <a:pt x="4" y="25"/>
                </a:lnTo>
                <a:lnTo>
                  <a:pt x="6" y="27"/>
                </a:lnTo>
                <a:lnTo>
                  <a:pt x="8" y="29"/>
                </a:lnTo>
                <a:lnTo>
                  <a:pt x="10" y="31"/>
                </a:lnTo>
                <a:lnTo>
                  <a:pt x="13" y="31"/>
                </a:lnTo>
                <a:lnTo>
                  <a:pt x="15" y="31"/>
                </a:lnTo>
                <a:lnTo>
                  <a:pt x="19" y="31"/>
                </a:lnTo>
                <a:lnTo>
                  <a:pt x="21" y="31"/>
                </a:lnTo>
                <a:lnTo>
                  <a:pt x="25" y="29"/>
                </a:lnTo>
                <a:lnTo>
                  <a:pt x="27" y="27"/>
                </a:lnTo>
                <a:lnTo>
                  <a:pt x="29" y="25"/>
                </a:lnTo>
                <a:lnTo>
                  <a:pt x="31" y="21"/>
                </a:lnTo>
                <a:lnTo>
                  <a:pt x="31" y="19"/>
                </a:lnTo>
                <a:lnTo>
                  <a:pt x="31" y="16"/>
                </a:lnTo>
                <a:lnTo>
                  <a:pt x="21" y="16"/>
                </a:lnTo>
                <a:lnTo>
                  <a:pt x="21" y="16"/>
                </a:lnTo>
                <a:lnTo>
                  <a:pt x="21" y="14"/>
                </a:lnTo>
                <a:lnTo>
                  <a:pt x="21" y="14"/>
                </a:lnTo>
                <a:lnTo>
                  <a:pt x="19" y="12"/>
                </a:lnTo>
                <a:lnTo>
                  <a:pt x="19" y="12"/>
                </a:lnTo>
                <a:lnTo>
                  <a:pt x="17" y="12"/>
                </a:lnTo>
                <a:lnTo>
                  <a:pt x="17" y="12"/>
                </a:lnTo>
                <a:lnTo>
                  <a:pt x="15" y="10"/>
                </a:lnTo>
                <a:lnTo>
                  <a:pt x="15" y="12"/>
                </a:lnTo>
                <a:lnTo>
                  <a:pt x="13" y="12"/>
                </a:lnTo>
                <a:lnTo>
                  <a:pt x="13" y="12"/>
                </a:lnTo>
                <a:lnTo>
                  <a:pt x="12" y="12"/>
                </a:lnTo>
                <a:lnTo>
                  <a:pt x="12" y="14"/>
                </a:lnTo>
                <a:lnTo>
                  <a:pt x="12" y="14"/>
                </a:lnTo>
                <a:lnTo>
                  <a:pt x="12" y="16"/>
                </a:lnTo>
                <a:lnTo>
                  <a:pt x="12" y="16"/>
                </a:lnTo>
                <a:lnTo>
                  <a:pt x="12" y="17"/>
                </a:lnTo>
                <a:lnTo>
                  <a:pt x="12" y="17"/>
                </a:lnTo>
                <a:lnTo>
                  <a:pt x="12" y="19"/>
                </a:lnTo>
                <a:lnTo>
                  <a:pt x="12" y="19"/>
                </a:lnTo>
                <a:lnTo>
                  <a:pt x="13" y="19"/>
                </a:lnTo>
                <a:lnTo>
                  <a:pt x="13" y="21"/>
                </a:lnTo>
                <a:lnTo>
                  <a:pt x="15" y="21"/>
                </a:lnTo>
                <a:lnTo>
                  <a:pt x="15" y="21"/>
                </a:lnTo>
                <a:lnTo>
                  <a:pt x="17" y="21"/>
                </a:lnTo>
                <a:lnTo>
                  <a:pt x="17" y="21"/>
                </a:lnTo>
                <a:lnTo>
                  <a:pt x="19" y="19"/>
                </a:lnTo>
                <a:lnTo>
                  <a:pt x="19" y="19"/>
                </a:lnTo>
                <a:lnTo>
                  <a:pt x="21" y="19"/>
                </a:lnTo>
                <a:lnTo>
                  <a:pt x="21" y="17"/>
                </a:lnTo>
                <a:lnTo>
                  <a:pt x="21" y="17"/>
                </a:lnTo>
                <a:lnTo>
                  <a:pt x="21" y="16"/>
                </a:lnTo>
                <a:lnTo>
                  <a:pt x="31" y="16"/>
                </a:lnTo>
                <a:close/>
              </a:path>
            </a:pathLst>
          </a:custGeom>
          <a:solidFill>
            <a:srgbClr val="fdf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Freeform 266"/>
          <p:cNvSpPr/>
          <p:nvPr/>
        </p:nvSpPr>
        <p:spPr>
          <a:xfrm>
            <a:off x="2793960" y="1136520"/>
            <a:ext cx="112680" cy="571680"/>
          </a:xfrm>
          <a:custGeom>
            <a:avLst/>
            <a:gdLst>
              <a:gd name="textAreaLeft" fmla="*/ 0 w 112680"/>
              <a:gd name="textAreaRight" fmla="*/ 113040 w 11268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71" h="360">
                <a:moveTo>
                  <a:pt x="5" y="360"/>
                </a:moveTo>
                <a:lnTo>
                  <a:pt x="7" y="358"/>
                </a:lnTo>
                <a:lnTo>
                  <a:pt x="15" y="314"/>
                </a:lnTo>
                <a:lnTo>
                  <a:pt x="23" y="268"/>
                </a:lnTo>
                <a:lnTo>
                  <a:pt x="30" y="224"/>
                </a:lnTo>
                <a:lnTo>
                  <a:pt x="38" y="180"/>
                </a:lnTo>
                <a:lnTo>
                  <a:pt x="46" y="134"/>
                </a:lnTo>
                <a:lnTo>
                  <a:pt x="55" y="90"/>
                </a:lnTo>
                <a:lnTo>
                  <a:pt x="63" y="46"/>
                </a:lnTo>
                <a:lnTo>
                  <a:pt x="71" y="1"/>
                </a:lnTo>
                <a:lnTo>
                  <a:pt x="63" y="0"/>
                </a:lnTo>
                <a:lnTo>
                  <a:pt x="55" y="44"/>
                </a:lnTo>
                <a:lnTo>
                  <a:pt x="48" y="88"/>
                </a:lnTo>
                <a:lnTo>
                  <a:pt x="38" y="134"/>
                </a:lnTo>
                <a:lnTo>
                  <a:pt x="30" y="178"/>
                </a:lnTo>
                <a:lnTo>
                  <a:pt x="23" y="222"/>
                </a:lnTo>
                <a:lnTo>
                  <a:pt x="15" y="268"/>
                </a:lnTo>
                <a:lnTo>
                  <a:pt x="7" y="312"/>
                </a:lnTo>
                <a:lnTo>
                  <a:pt x="0" y="356"/>
                </a:lnTo>
                <a:lnTo>
                  <a:pt x="0" y="354"/>
                </a:lnTo>
                <a:lnTo>
                  <a:pt x="5" y="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Freeform 267"/>
          <p:cNvSpPr/>
          <p:nvPr/>
        </p:nvSpPr>
        <p:spPr>
          <a:xfrm>
            <a:off x="2424240" y="1698480"/>
            <a:ext cx="377640" cy="2803680"/>
          </a:xfrm>
          <a:custGeom>
            <a:avLst/>
            <a:gdLst>
              <a:gd name="textAreaLeft" fmla="*/ 0 w 377640"/>
              <a:gd name="textAreaRight" fmla="*/ 378000 w 377640"/>
              <a:gd name="textAreaTop" fmla="*/ 0 h 2803680"/>
              <a:gd name="textAreaBottom" fmla="*/ 2804040 h 2803680"/>
            </a:gdLst>
            <a:ahLst/>
            <a:rect l="textAreaLeft" t="textAreaTop" r="textAreaRight" b="textAreaBottom"/>
            <a:pathLst>
              <a:path w="238" h="1766">
                <a:moveTo>
                  <a:pt x="194" y="1764"/>
                </a:moveTo>
                <a:lnTo>
                  <a:pt x="194" y="1762"/>
                </a:lnTo>
                <a:lnTo>
                  <a:pt x="177" y="1727"/>
                </a:lnTo>
                <a:lnTo>
                  <a:pt x="158" y="1689"/>
                </a:lnTo>
                <a:lnTo>
                  <a:pt x="141" y="1649"/>
                </a:lnTo>
                <a:lnTo>
                  <a:pt x="125" y="1606"/>
                </a:lnTo>
                <a:lnTo>
                  <a:pt x="110" y="1562"/>
                </a:lnTo>
                <a:lnTo>
                  <a:pt x="94" y="1514"/>
                </a:lnTo>
                <a:lnTo>
                  <a:pt x="81" y="1466"/>
                </a:lnTo>
                <a:lnTo>
                  <a:pt x="68" y="1416"/>
                </a:lnTo>
                <a:lnTo>
                  <a:pt x="56" y="1365"/>
                </a:lnTo>
                <a:lnTo>
                  <a:pt x="47" y="1311"/>
                </a:lnTo>
                <a:lnTo>
                  <a:pt x="37" y="1255"/>
                </a:lnTo>
                <a:lnTo>
                  <a:pt x="29" y="1200"/>
                </a:lnTo>
                <a:lnTo>
                  <a:pt x="22" y="1142"/>
                </a:lnTo>
                <a:lnTo>
                  <a:pt x="16" y="1085"/>
                </a:lnTo>
                <a:lnTo>
                  <a:pt x="12" y="1025"/>
                </a:lnTo>
                <a:lnTo>
                  <a:pt x="10" y="964"/>
                </a:lnTo>
                <a:lnTo>
                  <a:pt x="10" y="904"/>
                </a:lnTo>
                <a:lnTo>
                  <a:pt x="10" y="843"/>
                </a:lnTo>
                <a:lnTo>
                  <a:pt x="12" y="781"/>
                </a:lnTo>
                <a:lnTo>
                  <a:pt x="18" y="720"/>
                </a:lnTo>
                <a:lnTo>
                  <a:pt x="23" y="659"/>
                </a:lnTo>
                <a:lnTo>
                  <a:pt x="33" y="595"/>
                </a:lnTo>
                <a:lnTo>
                  <a:pt x="43" y="534"/>
                </a:lnTo>
                <a:lnTo>
                  <a:pt x="54" y="472"/>
                </a:lnTo>
                <a:lnTo>
                  <a:pt x="70" y="411"/>
                </a:lnTo>
                <a:lnTo>
                  <a:pt x="87" y="352"/>
                </a:lnTo>
                <a:lnTo>
                  <a:pt x="106" y="292"/>
                </a:lnTo>
                <a:lnTo>
                  <a:pt x="127" y="233"/>
                </a:lnTo>
                <a:lnTo>
                  <a:pt x="152" y="173"/>
                </a:lnTo>
                <a:lnTo>
                  <a:pt x="179" y="118"/>
                </a:lnTo>
                <a:lnTo>
                  <a:pt x="208" y="60"/>
                </a:lnTo>
                <a:lnTo>
                  <a:pt x="238" y="6"/>
                </a:lnTo>
                <a:lnTo>
                  <a:pt x="233" y="0"/>
                </a:lnTo>
                <a:lnTo>
                  <a:pt x="200" y="56"/>
                </a:lnTo>
                <a:lnTo>
                  <a:pt x="171" y="114"/>
                </a:lnTo>
                <a:lnTo>
                  <a:pt x="144" y="171"/>
                </a:lnTo>
                <a:lnTo>
                  <a:pt x="119" y="229"/>
                </a:lnTo>
                <a:lnTo>
                  <a:pt x="98" y="288"/>
                </a:lnTo>
                <a:lnTo>
                  <a:pt x="79" y="350"/>
                </a:lnTo>
                <a:lnTo>
                  <a:pt x="62" y="409"/>
                </a:lnTo>
                <a:lnTo>
                  <a:pt x="47" y="471"/>
                </a:lnTo>
                <a:lnTo>
                  <a:pt x="35" y="532"/>
                </a:lnTo>
                <a:lnTo>
                  <a:pt x="23" y="595"/>
                </a:lnTo>
                <a:lnTo>
                  <a:pt x="16" y="657"/>
                </a:lnTo>
                <a:lnTo>
                  <a:pt x="10" y="718"/>
                </a:lnTo>
                <a:lnTo>
                  <a:pt x="4" y="781"/>
                </a:lnTo>
                <a:lnTo>
                  <a:pt x="2" y="843"/>
                </a:lnTo>
                <a:lnTo>
                  <a:pt x="0" y="904"/>
                </a:lnTo>
                <a:lnTo>
                  <a:pt x="2" y="966"/>
                </a:lnTo>
                <a:lnTo>
                  <a:pt x="4" y="1025"/>
                </a:lnTo>
                <a:lnTo>
                  <a:pt x="8" y="1085"/>
                </a:lnTo>
                <a:lnTo>
                  <a:pt x="14" y="1142"/>
                </a:lnTo>
                <a:lnTo>
                  <a:pt x="20" y="1200"/>
                </a:lnTo>
                <a:lnTo>
                  <a:pt x="29" y="1257"/>
                </a:lnTo>
                <a:lnTo>
                  <a:pt x="39" y="1311"/>
                </a:lnTo>
                <a:lnTo>
                  <a:pt x="48" y="1365"/>
                </a:lnTo>
                <a:lnTo>
                  <a:pt x="60" y="1418"/>
                </a:lnTo>
                <a:lnTo>
                  <a:pt x="73" y="1468"/>
                </a:lnTo>
                <a:lnTo>
                  <a:pt x="87" y="1516"/>
                </a:lnTo>
                <a:lnTo>
                  <a:pt x="102" y="1564"/>
                </a:lnTo>
                <a:lnTo>
                  <a:pt x="118" y="1608"/>
                </a:lnTo>
                <a:lnTo>
                  <a:pt x="135" y="1652"/>
                </a:lnTo>
                <a:lnTo>
                  <a:pt x="152" y="1693"/>
                </a:lnTo>
                <a:lnTo>
                  <a:pt x="169" y="1731"/>
                </a:lnTo>
                <a:lnTo>
                  <a:pt x="187" y="1766"/>
                </a:lnTo>
                <a:lnTo>
                  <a:pt x="194" y="17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Freeform 268"/>
          <p:cNvSpPr/>
          <p:nvPr/>
        </p:nvSpPr>
        <p:spPr>
          <a:xfrm>
            <a:off x="2720880" y="4498920"/>
            <a:ext cx="127080" cy="687600"/>
          </a:xfrm>
          <a:custGeom>
            <a:avLst/>
            <a:gdLst>
              <a:gd name="textAreaLeft" fmla="*/ 0 w 127080"/>
              <a:gd name="textAreaRight" fmla="*/ 127440 w 127080"/>
              <a:gd name="textAreaTop" fmla="*/ 0 h 687600"/>
              <a:gd name="textAreaBottom" fmla="*/ 687960 h 687600"/>
            </a:gdLst>
            <a:ahLst/>
            <a:rect l="textAreaLeft" t="textAreaTop" r="textAreaRight" b="textAreaBottom"/>
            <a:pathLst>
              <a:path w="80" h="433">
                <a:moveTo>
                  <a:pt x="76" y="433"/>
                </a:moveTo>
                <a:lnTo>
                  <a:pt x="80" y="430"/>
                </a:lnTo>
                <a:lnTo>
                  <a:pt x="69" y="374"/>
                </a:lnTo>
                <a:lnTo>
                  <a:pt x="61" y="320"/>
                </a:lnTo>
                <a:lnTo>
                  <a:pt x="51" y="266"/>
                </a:lnTo>
                <a:lnTo>
                  <a:pt x="44" y="215"/>
                </a:lnTo>
                <a:lnTo>
                  <a:pt x="36" y="161"/>
                </a:lnTo>
                <a:lnTo>
                  <a:pt x="28" y="109"/>
                </a:lnTo>
                <a:lnTo>
                  <a:pt x="19" y="55"/>
                </a:lnTo>
                <a:lnTo>
                  <a:pt x="7" y="0"/>
                </a:lnTo>
                <a:lnTo>
                  <a:pt x="0" y="2"/>
                </a:lnTo>
                <a:lnTo>
                  <a:pt x="11" y="55"/>
                </a:lnTo>
                <a:lnTo>
                  <a:pt x="21" y="109"/>
                </a:lnTo>
                <a:lnTo>
                  <a:pt x="28" y="163"/>
                </a:lnTo>
                <a:lnTo>
                  <a:pt x="36" y="215"/>
                </a:lnTo>
                <a:lnTo>
                  <a:pt x="44" y="268"/>
                </a:lnTo>
                <a:lnTo>
                  <a:pt x="51" y="322"/>
                </a:lnTo>
                <a:lnTo>
                  <a:pt x="61" y="376"/>
                </a:lnTo>
                <a:lnTo>
                  <a:pt x="73" y="431"/>
                </a:lnTo>
                <a:lnTo>
                  <a:pt x="76" y="426"/>
                </a:lnTo>
                <a:lnTo>
                  <a:pt x="76" y="433"/>
                </a:lnTo>
                <a:lnTo>
                  <a:pt x="80" y="433"/>
                </a:lnTo>
                <a:lnTo>
                  <a:pt x="80" y="430"/>
                </a:lnTo>
                <a:lnTo>
                  <a:pt x="76" y="4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Freeform 269"/>
          <p:cNvSpPr/>
          <p:nvPr/>
        </p:nvSpPr>
        <p:spPr>
          <a:xfrm>
            <a:off x="2320920" y="5175360"/>
            <a:ext cx="520560" cy="11160"/>
          </a:xfrm>
          <a:custGeom>
            <a:avLst/>
            <a:gdLst>
              <a:gd name="textAreaLeft" fmla="*/ 0 w 520560"/>
              <a:gd name="textAreaRight" fmla="*/ 520560 w 5205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28" h="7">
                <a:moveTo>
                  <a:pt x="0" y="5"/>
                </a:moveTo>
                <a:lnTo>
                  <a:pt x="4" y="7"/>
                </a:lnTo>
                <a:lnTo>
                  <a:pt x="46" y="7"/>
                </a:lnTo>
                <a:lnTo>
                  <a:pt x="88" y="7"/>
                </a:lnTo>
                <a:lnTo>
                  <a:pt x="127" y="7"/>
                </a:lnTo>
                <a:lnTo>
                  <a:pt x="167" y="7"/>
                </a:lnTo>
                <a:lnTo>
                  <a:pt x="206" y="7"/>
                </a:lnTo>
                <a:lnTo>
                  <a:pt x="246" y="7"/>
                </a:lnTo>
                <a:lnTo>
                  <a:pt x="286" y="7"/>
                </a:lnTo>
                <a:lnTo>
                  <a:pt x="328" y="7"/>
                </a:lnTo>
                <a:lnTo>
                  <a:pt x="328" y="0"/>
                </a:lnTo>
                <a:lnTo>
                  <a:pt x="286" y="0"/>
                </a:lnTo>
                <a:lnTo>
                  <a:pt x="246" y="0"/>
                </a:lnTo>
                <a:lnTo>
                  <a:pt x="206" y="0"/>
                </a:lnTo>
                <a:lnTo>
                  <a:pt x="167" y="0"/>
                </a:lnTo>
                <a:lnTo>
                  <a:pt x="127" y="0"/>
                </a:lnTo>
                <a:lnTo>
                  <a:pt x="88" y="0"/>
                </a:lnTo>
                <a:lnTo>
                  <a:pt x="46" y="0"/>
                </a:lnTo>
                <a:lnTo>
                  <a:pt x="4" y="0"/>
                </a:lnTo>
                <a:lnTo>
                  <a:pt x="8" y="2"/>
                </a:lnTo>
                <a:lnTo>
                  <a:pt x="0" y="5"/>
                </a:lnTo>
                <a:lnTo>
                  <a:pt x="2" y="7"/>
                </a:lnTo>
                <a:lnTo>
                  <a:pt x="4" y="7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Freeform 270"/>
          <p:cNvSpPr/>
          <p:nvPr/>
        </p:nvSpPr>
        <p:spPr>
          <a:xfrm>
            <a:off x="1928880" y="3143160"/>
            <a:ext cx="404640" cy="2040120"/>
          </a:xfrm>
          <a:custGeom>
            <a:avLst/>
            <a:gdLst>
              <a:gd name="textAreaLeft" fmla="*/ 0 w 404640"/>
              <a:gd name="textAreaRight" fmla="*/ 405000 w 404640"/>
              <a:gd name="textAreaTop" fmla="*/ 0 h 2040120"/>
              <a:gd name="textAreaBottom" fmla="*/ 2040480 h 2040120"/>
            </a:gdLst>
            <a:ahLst/>
            <a:rect l="textAreaLeft" t="textAreaTop" r="textAreaRight" b="textAreaBottom"/>
            <a:pathLst>
              <a:path w="255" h="1285">
                <a:moveTo>
                  <a:pt x="5" y="0"/>
                </a:moveTo>
                <a:lnTo>
                  <a:pt x="2" y="50"/>
                </a:lnTo>
                <a:lnTo>
                  <a:pt x="0" y="98"/>
                </a:lnTo>
                <a:lnTo>
                  <a:pt x="0" y="146"/>
                </a:lnTo>
                <a:lnTo>
                  <a:pt x="0" y="192"/>
                </a:lnTo>
                <a:lnTo>
                  <a:pt x="2" y="284"/>
                </a:lnTo>
                <a:lnTo>
                  <a:pt x="9" y="372"/>
                </a:lnTo>
                <a:lnTo>
                  <a:pt x="19" y="457"/>
                </a:lnTo>
                <a:lnTo>
                  <a:pt x="30" y="541"/>
                </a:lnTo>
                <a:lnTo>
                  <a:pt x="46" y="622"/>
                </a:lnTo>
                <a:lnTo>
                  <a:pt x="65" y="700"/>
                </a:lnTo>
                <a:lnTo>
                  <a:pt x="84" y="777"/>
                </a:lnTo>
                <a:lnTo>
                  <a:pt x="105" y="854"/>
                </a:lnTo>
                <a:lnTo>
                  <a:pt x="128" y="927"/>
                </a:lnTo>
                <a:lnTo>
                  <a:pt x="151" y="1001"/>
                </a:lnTo>
                <a:lnTo>
                  <a:pt x="199" y="1143"/>
                </a:lnTo>
                <a:lnTo>
                  <a:pt x="247" y="1285"/>
                </a:lnTo>
                <a:lnTo>
                  <a:pt x="255" y="1282"/>
                </a:lnTo>
                <a:lnTo>
                  <a:pt x="207" y="1142"/>
                </a:lnTo>
                <a:lnTo>
                  <a:pt x="159" y="998"/>
                </a:lnTo>
                <a:lnTo>
                  <a:pt x="136" y="925"/>
                </a:lnTo>
                <a:lnTo>
                  <a:pt x="113" y="852"/>
                </a:lnTo>
                <a:lnTo>
                  <a:pt x="92" y="775"/>
                </a:lnTo>
                <a:lnTo>
                  <a:pt x="73" y="698"/>
                </a:lnTo>
                <a:lnTo>
                  <a:pt x="55" y="620"/>
                </a:lnTo>
                <a:lnTo>
                  <a:pt x="40" y="539"/>
                </a:lnTo>
                <a:lnTo>
                  <a:pt x="26" y="457"/>
                </a:lnTo>
                <a:lnTo>
                  <a:pt x="17" y="370"/>
                </a:lnTo>
                <a:lnTo>
                  <a:pt x="9" y="282"/>
                </a:lnTo>
                <a:lnTo>
                  <a:pt x="7" y="192"/>
                </a:lnTo>
                <a:lnTo>
                  <a:pt x="7" y="146"/>
                </a:lnTo>
                <a:lnTo>
                  <a:pt x="7" y="98"/>
                </a:lnTo>
                <a:lnTo>
                  <a:pt x="9" y="50"/>
                </a:lnTo>
                <a:lnTo>
                  <a:pt x="13" y="0"/>
                </a:lnTo>
                <a:lnTo>
                  <a:pt x="13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Freeform 271"/>
          <p:cNvSpPr/>
          <p:nvPr/>
        </p:nvSpPr>
        <p:spPr>
          <a:xfrm>
            <a:off x="1936800" y="1133640"/>
            <a:ext cx="969840" cy="2012760"/>
          </a:xfrm>
          <a:custGeom>
            <a:avLst/>
            <a:gdLst>
              <a:gd name="textAreaLeft" fmla="*/ 0 w 969840"/>
              <a:gd name="textAreaRight" fmla="*/ 970200 w 969840"/>
              <a:gd name="textAreaTop" fmla="*/ 0 h 2012760"/>
              <a:gd name="textAreaBottom" fmla="*/ 2013120 h 2012760"/>
            </a:gdLst>
            <a:ahLst/>
            <a:rect l="textAreaLeft" t="textAreaTop" r="textAreaRight" b="textAreaBottom"/>
            <a:pathLst>
              <a:path w="611" h="1268">
                <a:moveTo>
                  <a:pt x="611" y="3"/>
                </a:moveTo>
                <a:lnTo>
                  <a:pt x="605" y="0"/>
                </a:lnTo>
                <a:lnTo>
                  <a:pt x="572" y="25"/>
                </a:lnTo>
                <a:lnTo>
                  <a:pt x="542" y="51"/>
                </a:lnTo>
                <a:lnTo>
                  <a:pt x="511" y="80"/>
                </a:lnTo>
                <a:lnTo>
                  <a:pt x="482" y="111"/>
                </a:lnTo>
                <a:lnTo>
                  <a:pt x="453" y="142"/>
                </a:lnTo>
                <a:lnTo>
                  <a:pt x="426" y="174"/>
                </a:lnTo>
                <a:lnTo>
                  <a:pt x="400" y="209"/>
                </a:lnTo>
                <a:lnTo>
                  <a:pt x="375" y="243"/>
                </a:lnTo>
                <a:lnTo>
                  <a:pt x="350" y="280"/>
                </a:lnTo>
                <a:lnTo>
                  <a:pt x="325" y="318"/>
                </a:lnTo>
                <a:lnTo>
                  <a:pt x="302" y="356"/>
                </a:lnTo>
                <a:lnTo>
                  <a:pt x="279" y="395"/>
                </a:lnTo>
                <a:lnTo>
                  <a:pt x="258" y="435"/>
                </a:lnTo>
                <a:lnTo>
                  <a:pt x="236" y="477"/>
                </a:lnTo>
                <a:lnTo>
                  <a:pt x="217" y="518"/>
                </a:lnTo>
                <a:lnTo>
                  <a:pt x="198" y="560"/>
                </a:lnTo>
                <a:lnTo>
                  <a:pt x="163" y="646"/>
                </a:lnTo>
                <a:lnTo>
                  <a:pt x="131" y="734"/>
                </a:lnTo>
                <a:lnTo>
                  <a:pt x="100" y="823"/>
                </a:lnTo>
                <a:lnTo>
                  <a:pt x="75" y="913"/>
                </a:lnTo>
                <a:lnTo>
                  <a:pt x="52" y="1003"/>
                </a:lnTo>
                <a:lnTo>
                  <a:pt x="31" y="1091"/>
                </a:lnTo>
                <a:lnTo>
                  <a:pt x="14" y="1180"/>
                </a:lnTo>
                <a:lnTo>
                  <a:pt x="0" y="1266"/>
                </a:lnTo>
                <a:lnTo>
                  <a:pt x="8" y="1268"/>
                </a:lnTo>
                <a:lnTo>
                  <a:pt x="21" y="1182"/>
                </a:lnTo>
                <a:lnTo>
                  <a:pt x="39" y="1093"/>
                </a:lnTo>
                <a:lnTo>
                  <a:pt x="60" y="1005"/>
                </a:lnTo>
                <a:lnTo>
                  <a:pt x="83" y="915"/>
                </a:lnTo>
                <a:lnTo>
                  <a:pt x="108" y="827"/>
                </a:lnTo>
                <a:lnTo>
                  <a:pt x="139" y="736"/>
                </a:lnTo>
                <a:lnTo>
                  <a:pt x="169" y="650"/>
                </a:lnTo>
                <a:lnTo>
                  <a:pt x="206" y="564"/>
                </a:lnTo>
                <a:lnTo>
                  <a:pt x="225" y="521"/>
                </a:lnTo>
                <a:lnTo>
                  <a:pt x="244" y="479"/>
                </a:lnTo>
                <a:lnTo>
                  <a:pt x="265" y="439"/>
                </a:lnTo>
                <a:lnTo>
                  <a:pt x="286" y="399"/>
                </a:lnTo>
                <a:lnTo>
                  <a:pt x="309" y="360"/>
                </a:lnTo>
                <a:lnTo>
                  <a:pt x="332" y="322"/>
                </a:lnTo>
                <a:lnTo>
                  <a:pt x="355" y="285"/>
                </a:lnTo>
                <a:lnTo>
                  <a:pt x="380" y="249"/>
                </a:lnTo>
                <a:lnTo>
                  <a:pt x="405" y="214"/>
                </a:lnTo>
                <a:lnTo>
                  <a:pt x="432" y="180"/>
                </a:lnTo>
                <a:lnTo>
                  <a:pt x="459" y="147"/>
                </a:lnTo>
                <a:lnTo>
                  <a:pt x="488" y="117"/>
                </a:lnTo>
                <a:lnTo>
                  <a:pt x="517" y="86"/>
                </a:lnTo>
                <a:lnTo>
                  <a:pt x="547" y="57"/>
                </a:lnTo>
                <a:lnTo>
                  <a:pt x="578" y="30"/>
                </a:lnTo>
                <a:lnTo>
                  <a:pt x="609" y="5"/>
                </a:lnTo>
                <a:lnTo>
                  <a:pt x="603" y="2"/>
                </a:lnTo>
                <a:lnTo>
                  <a:pt x="611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272"/>
          <p:cNvSpPr/>
          <p:nvPr/>
        </p:nvSpPr>
        <p:spPr>
          <a:xfrm>
            <a:off x="7093080" y="5238720"/>
            <a:ext cx="46080" cy="15840"/>
          </a:xfrm>
          <a:custGeom>
            <a:avLst/>
            <a:gdLst>
              <a:gd name="textAreaLeft" fmla="*/ 0 w 46080"/>
              <a:gd name="textAreaRight" fmla="*/ 46440 w 46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9" h="10">
                <a:moveTo>
                  <a:pt x="29" y="10"/>
                </a:moveTo>
                <a:lnTo>
                  <a:pt x="29" y="10"/>
                </a:lnTo>
                <a:lnTo>
                  <a:pt x="25" y="0"/>
                </a:lnTo>
                <a:lnTo>
                  <a:pt x="0" y="10"/>
                </a:lnTo>
                <a:lnTo>
                  <a:pt x="29" y="1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reeform 273"/>
          <p:cNvSpPr/>
          <p:nvPr/>
        </p:nvSpPr>
        <p:spPr>
          <a:xfrm>
            <a:off x="7068960" y="5232240"/>
            <a:ext cx="66960" cy="22320"/>
          </a:xfrm>
          <a:custGeom>
            <a:avLst/>
            <a:gdLst>
              <a:gd name="textAreaLeft" fmla="*/ 0 w 66960"/>
              <a:gd name="textAreaRight" fmla="*/ 67320 w 669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42" h="14">
                <a:moveTo>
                  <a:pt x="30" y="14"/>
                </a:moveTo>
                <a:lnTo>
                  <a:pt x="42" y="10"/>
                </a:lnTo>
                <a:lnTo>
                  <a:pt x="38" y="0"/>
                </a:lnTo>
                <a:lnTo>
                  <a:pt x="5" y="12"/>
                </a:lnTo>
                <a:lnTo>
                  <a:pt x="0" y="14"/>
                </a:lnTo>
                <a:lnTo>
                  <a:pt x="30" y="14"/>
                </a:lnTo>
                <a:close/>
              </a:path>
            </a:pathLst>
          </a:custGeom>
          <a:solidFill>
            <a:srgbClr val="01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Freeform 274"/>
          <p:cNvSpPr/>
          <p:nvPr/>
        </p:nvSpPr>
        <p:spPr>
          <a:xfrm>
            <a:off x="7040520" y="5222880"/>
            <a:ext cx="92160" cy="31680"/>
          </a:xfrm>
          <a:custGeom>
            <a:avLst/>
            <a:gdLst>
              <a:gd name="textAreaLeft" fmla="*/ 0 w 92160"/>
              <a:gd name="textAreaRight" fmla="*/ 92520 w 92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8" h="20">
                <a:moveTo>
                  <a:pt x="33" y="20"/>
                </a:moveTo>
                <a:lnTo>
                  <a:pt x="58" y="10"/>
                </a:lnTo>
                <a:lnTo>
                  <a:pt x="52" y="0"/>
                </a:lnTo>
                <a:lnTo>
                  <a:pt x="21" y="12"/>
                </a:lnTo>
                <a:lnTo>
                  <a:pt x="0" y="20"/>
                </a:lnTo>
                <a:lnTo>
                  <a:pt x="33" y="20"/>
                </a:lnTo>
                <a:close/>
              </a:path>
            </a:pathLst>
          </a:custGeom>
          <a:solidFill>
            <a:srgbClr val="02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Freeform 275"/>
          <p:cNvSpPr/>
          <p:nvPr/>
        </p:nvSpPr>
        <p:spPr>
          <a:xfrm>
            <a:off x="7016760" y="1230480"/>
            <a:ext cx="112680" cy="4024080"/>
          </a:xfrm>
          <a:custGeom>
            <a:avLst/>
            <a:gdLst>
              <a:gd name="textAreaLeft" fmla="*/ 0 w 112680"/>
              <a:gd name="textAreaRight" fmla="*/ 113040 w 112680"/>
              <a:gd name="textAreaTop" fmla="*/ 0 h 4024080"/>
              <a:gd name="textAreaBottom" fmla="*/ 4024440 h 4024080"/>
            </a:gdLst>
            <a:ahLst/>
            <a:rect l="textAreaLeft" t="textAreaTop" r="textAreaRight" b="textAreaBottom"/>
            <a:pathLst>
              <a:path w="71" h="2535">
                <a:moveTo>
                  <a:pt x="33" y="2535"/>
                </a:moveTo>
                <a:lnTo>
                  <a:pt x="38" y="2533"/>
                </a:lnTo>
                <a:lnTo>
                  <a:pt x="71" y="2521"/>
                </a:lnTo>
                <a:lnTo>
                  <a:pt x="65" y="2512"/>
                </a:lnTo>
                <a:lnTo>
                  <a:pt x="34" y="2523"/>
                </a:lnTo>
                <a:lnTo>
                  <a:pt x="0" y="2535"/>
                </a:lnTo>
                <a:lnTo>
                  <a:pt x="33" y="2535"/>
                </a:lnTo>
                <a:close/>
                <a:moveTo>
                  <a:pt x="11" y="6"/>
                </a:moveTo>
                <a:lnTo>
                  <a:pt x="0" y="0"/>
                </a:lnTo>
                <a:lnTo>
                  <a:pt x="13" y="0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1" y="6"/>
                </a:lnTo>
                <a:close/>
              </a:path>
            </a:pathLst>
          </a:custGeom>
          <a:solidFill>
            <a:srgbClr val="039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Freeform 276"/>
          <p:cNvSpPr/>
          <p:nvPr/>
        </p:nvSpPr>
        <p:spPr>
          <a:xfrm>
            <a:off x="6989760" y="1230480"/>
            <a:ext cx="133200" cy="4024080"/>
          </a:xfrm>
          <a:custGeom>
            <a:avLst/>
            <a:gdLst>
              <a:gd name="textAreaLeft" fmla="*/ 0 w 133200"/>
              <a:gd name="textAreaRight" fmla="*/ 133560 w 133200"/>
              <a:gd name="textAreaTop" fmla="*/ 0 h 4024080"/>
              <a:gd name="textAreaBottom" fmla="*/ 4024440 h 4024080"/>
            </a:gdLst>
            <a:ahLst/>
            <a:rect l="textAreaLeft" t="textAreaTop" r="textAreaRight" b="textAreaBottom"/>
            <a:pathLst>
              <a:path w="84" h="2535">
                <a:moveTo>
                  <a:pt x="32" y="2535"/>
                </a:moveTo>
                <a:lnTo>
                  <a:pt x="53" y="2527"/>
                </a:lnTo>
                <a:lnTo>
                  <a:pt x="84" y="2515"/>
                </a:lnTo>
                <a:lnTo>
                  <a:pt x="80" y="2506"/>
                </a:lnTo>
                <a:lnTo>
                  <a:pt x="50" y="2517"/>
                </a:lnTo>
                <a:lnTo>
                  <a:pt x="0" y="2535"/>
                </a:lnTo>
                <a:lnTo>
                  <a:pt x="32" y="2535"/>
                </a:lnTo>
                <a:close/>
                <a:moveTo>
                  <a:pt x="28" y="10"/>
                </a:moveTo>
                <a:lnTo>
                  <a:pt x="0" y="0"/>
                </a:lnTo>
                <a:lnTo>
                  <a:pt x="30" y="0"/>
                </a:lnTo>
                <a:lnTo>
                  <a:pt x="30" y="2"/>
                </a:lnTo>
                <a:lnTo>
                  <a:pt x="30" y="4"/>
                </a:lnTo>
                <a:lnTo>
                  <a:pt x="30" y="4"/>
                </a:lnTo>
                <a:lnTo>
                  <a:pt x="28" y="6"/>
                </a:lnTo>
                <a:lnTo>
                  <a:pt x="28" y="6"/>
                </a:lnTo>
                <a:lnTo>
                  <a:pt x="28" y="8"/>
                </a:lnTo>
                <a:lnTo>
                  <a:pt x="28" y="10"/>
                </a:lnTo>
                <a:lnTo>
                  <a:pt x="28" y="10"/>
                </a:lnTo>
                <a:close/>
              </a:path>
            </a:pathLst>
          </a:custGeom>
          <a:solidFill>
            <a:srgbClr val="049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277"/>
          <p:cNvSpPr/>
          <p:nvPr/>
        </p:nvSpPr>
        <p:spPr>
          <a:xfrm>
            <a:off x="6961320" y="1230480"/>
            <a:ext cx="158760" cy="4024080"/>
          </a:xfrm>
          <a:custGeom>
            <a:avLst/>
            <a:gdLst>
              <a:gd name="textAreaLeft" fmla="*/ 0 w 158760"/>
              <a:gd name="textAreaRight" fmla="*/ 159120 w 158760"/>
              <a:gd name="textAreaTop" fmla="*/ 0 h 4024080"/>
              <a:gd name="textAreaBottom" fmla="*/ 4024440 h 4024080"/>
            </a:gdLst>
            <a:ahLst/>
            <a:rect l="textAreaLeft" t="textAreaTop" r="textAreaRight" b="textAreaBottom"/>
            <a:pathLst>
              <a:path w="100" h="2535">
                <a:moveTo>
                  <a:pt x="46" y="6"/>
                </a:moveTo>
                <a:lnTo>
                  <a:pt x="35" y="0"/>
                </a:lnTo>
                <a:lnTo>
                  <a:pt x="0" y="0"/>
                </a:lnTo>
                <a:lnTo>
                  <a:pt x="4" y="2"/>
                </a:lnTo>
                <a:lnTo>
                  <a:pt x="44" y="15"/>
                </a:lnTo>
                <a:lnTo>
                  <a:pt x="44" y="13"/>
                </a:lnTo>
                <a:lnTo>
                  <a:pt x="44" y="13"/>
                </a:lnTo>
                <a:lnTo>
                  <a:pt x="44" y="12"/>
                </a:lnTo>
                <a:lnTo>
                  <a:pt x="46" y="10"/>
                </a:lnTo>
                <a:lnTo>
                  <a:pt x="46" y="10"/>
                </a:lnTo>
                <a:lnTo>
                  <a:pt x="46" y="8"/>
                </a:lnTo>
                <a:lnTo>
                  <a:pt x="46" y="6"/>
                </a:lnTo>
                <a:lnTo>
                  <a:pt x="46" y="6"/>
                </a:lnTo>
                <a:close/>
                <a:moveTo>
                  <a:pt x="35" y="2535"/>
                </a:moveTo>
                <a:lnTo>
                  <a:pt x="69" y="2523"/>
                </a:lnTo>
                <a:lnTo>
                  <a:pt x="100" y="2512"/>
                </a:lnTo>
                <a:lnTo>
                  <a:pt x="96" y="2502"/>
                </a:lnTo>
                <a:lnTo>
                  <a:pt x="68" y="2513"/>
                </a:lnTo>
                <a:lnTo>
                  <a:pt x="4" y="2533"/>
                </a:lnTo>
                <a:lnTo>
                  <a:pt x="0" y="2535"/>
                </a:lnTo>
                <a:lnTo>
                  <a:pt x="35" y="2535"/>
                </a:lnTo>
                <a:close/>
              </a:path>
            </a:pathLst>
          </a:custGeom>
          <a:solidFill>
            <a:srgbClr val="05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reeform 278"/>
          <p:cNvSpPr/>
          <p:nvPr/>
        </p:nvSpPr>
        <p:spPr>
          <a:xfrm>
            <a:off x="6931080" y="1230480"/>
            <a:ext cx="185760" cy="4024080"/>
          </a:xfrm>
          <a:custGeom>
            <a:avLst/>
            <a:gdLst>
              <a:gd name="textAreaLeft" fmla="*/ 0 w 185760"/>
              <a:gd name="textAreaRight" fmla="*/ 186120 w 185760"/>
              <a:gd name="textAreaTop" fmla="*/ 0 h 4024080"/>
              <a:gd name="textAreaBottom" fmla="*/ 4024440 h 4024080"/>
            </a:gdLst>
            <a:ahLst/>
            <a:rect l="textAreaLeft" t="textAreaTop" r="textAreaRight" b="textAreaBottom"/>
            <a:pathLst>
              <a:path w="117" h="2535">
                <a:moveTo>
                  <a:pt x="65" y="10"/>
                </a:moveTo>
                <a:lnTo>
                  <a:pt x="37" y="0"/>
                </a:lnTo>
                <a:lnTo>
                  <a:pt x="0" y="0"/>
                </a:lnTo>
                <a:lnTo>
                  <a:pt x="23" y="8"/>
                </a:lnTo>
                <a:lnTo>
                  <a:pt x="62" y="21"/>
                </a:lnTo>
                <a:lnTo>
                  <a:pt x="62" y="19"/>
                </a:lnTo>
                <a:lnTo>
                  <a:pt x="62" y="17"/>
                </a:lnTo>
                <a:lnTo>
                  <a:pt x="63" y="17"/>
                </a:lnTo>
                <a:lnTo>
                  <a:pt x="63" y="15"/>
                </a:lnTo>
                <a:lnTo>
                  <a:pt x="63" y="13"/>
                </a:lnTo>
                <a:lnTo>
                  <a:pt x="63" y="13"/>
                </a:lnTo>
                <a:lnTo>
                  <a:pt x="63" y="12"/>
                </a:lnTo>
                <a:lnTo>
                  <a:pt x="65" y="10"/>
                </a:lnTo>
                <a:close/>
                <a:moveTo>
                  <a:pt x="37" y="2535"/>
                </a:moveTo>
                <a:lnTo>
                  <a:pt x="87" y="2517"/>
                </a:lnTo>
                <a:lnTo>
                  <a:pt x="117" y="2506"/>
                </a:lnTo>
                <a:lnTo>
                  <a:pt x="111" y="2496"/>
                </a:lnTo>
                <a:lnTo>
                  <a:pt x="85" y="2508"/>
                </a:lnTo>
                <a:lnTo>
                  <a:pt x="23" y="2529"/>
                </a:lnTo>
                <a:lnTo>
                  <a:pt x="0" y="2535"/>
                </a:lnTo>
                <a:lnTo>
                  <a:pt x="37" y="2535"/>
                </a:lnTo>
                <a:close/>
              </a:path>
            </a:pathLst>
          </a:custGeom>
          <a:solidFill>
            <a:srgbClr val="06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Freeform 279"/>
          <p:cNvSpPr/>
          <p:nvPr/>
        </p:nvSpPr>
        <p:spPr>
          <a:xfrm>
            <a:off x="6900840" y="1230480"/>
            <a:ext cx="212760" cy="4024080"/>
          </a:xfrm>
          <a:custGeom>
            <a:avLst/>
            <a:gdLst>
              <a:gd name="textAreaLeft" fmla="*/ 0 w 212760"/>
              <a:gd name="textAreaRight" fmla="*/ 213120 w 212760"/>
              <a:gd name="textAreaTop" fmla="*/ 0 h 4024080"/>
              <a:gd name="textAreaBottom" fmla="*/ 4024440 h 4024080"/>
            </a:gdLst>
            <a:ahLst/>
            <a:rect l="textAreaLeft" t="textAreaTop" r="textAreaRight" b="textAreaBottom"/>
            <a:pathLst>
              <a:path w="134" h="2535">
                <a:moveTo>
                  <a:pt x="82" y="15"/>
                </a:moveTo>
                <a:lnTo>
                  <a:pt x="42" y="2"/>
                </a:lnTo>
                <a:lnTo>
                  <a:pt x="38" y="0"/>
                </a:lnTo>
                <a:lnTo>
                  <a:pt x="0" y="0"/>
                </a:lnTo>
                <a:lnTo>
                  <a:pt x="40" y="12"/>
                </a:lnTo>
                <a:lnTo>
                  <a:pt x="79" y="25"/>
                </a:lnTo>
                <a:lnTo>
                  <a:pt x="79" y="25"/>
                </a:lnTo>
                <a:lnTo>
                  <a:pt x="79" y="23"/>
                </a:lnTo>
                <a:lnTo>
                  <a:pt x="81" y="21"/>
                </a:lnTo>
                <a:lnTo>
                  <a:pt x="81" y="21"/>
                </a:lnTo>
                <a:lnTo>
                  <a:pt x="81" y="19"/>
                </a:lnTo>
                <a:lnTo>
                  <a:pt x="81" y="17"/>
                </a:lnTo>
                <a:lnTo>
                  <a:pt x="82" y="17"/>
                </a:lnTo>
                <a:lnTo>
                  <a:pt x="82" y="15"/>
                </a:lnTo>
                <a:close/>
                <a:moveTo>
                  <a:pt x="38" y="2535"/>
                </a:moveTo>
                <a:lnTo>
                  <a:pt x="42" y="2533"/>
                </a:lnTo>
                <a:lnTo>
                  <a:pt x="106" y="2513"/>
                </a:lnTo>
                <a:lnTo>
                  <a:pt x="134" y="2502"/>
                </a:lnTo>
                <a:lnTo>
                  <a:pt x="129" y="2492"/>
                </a:lnTo>
                <a:lnTo>
                  <a:pt x="102" y="2502"/>
                </a:lnTo>
                <a:lnTo>
                  <a:pt x="40" y="2523"/>
                </a:lnTo>
                <a:lnTo>
                  <a:pt x="0" y="2535"/>
                </a:lnTo>
                <a:lnTo>
                  <a:pt x="38" y="2535"/>
                </a:lnTo>
                <a:close/>
              </a:path>
            </a:pathLst>
          </a:custGeom>
          <a:solidFill>
            <a:srgbClr val="07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Freeform 280"/>
          <p:cNvSpPr/>
          <p:nvPr/>
        </p:nvSpPr>
        <p:spPr>
          <a:xfrm>
            <a:off x="6867360" y="1230480"/>
            <a:ext cx="239760" cy="4024080"/>
          </a:xfrm>
          <a:custGeom>
            <a:avLst/>
            <a:gdLst>
              <a:gd name="textAreaLeft" fmla="*/ 0 w 239760"/>
              <a:gd name="textAreaRight" fmla="*/ 240120 w 239760"/>
              <a:gd name="textAreaTop" fmla="*/ 0 h 4024080"/>
              <a:gd name="textAreaBottom" fmla="*/ 4024440 h 4024080"/>
            </a:gdLst>
            <a:ahLst/>
            <a:rect l="textAreaLeft" t="textAreaTop" r="textAreaRight" b="textAreaBottom"/>
            <a:pathLst>
              <a:path w="151" h="2535">
                <a:moveTo>
                  <a:pt x="102" y="21"/>
                </a:moveTo>
                <a:lnTo>
                  <a:pt x="63" y="8"/>
                </a:lnTo>
                <a:lnTo>
                  <a:pt x="40" y="0"/>
                </a:lnTo>
                <a:lnTo>
                  <a:pt x="0" y="0"/>
                </a:lnTo>
                <a:lnTo>
                  <a:pt x="59" y="17"/>
                </a:lnTo>
                <a:lnTo>
                  <a:pt x="98" y="31"/>
                </a:lnTo>
                <a:lnTo>
                  <a:pt x="98" y="29"/>
                </a:lnTo>
                <a:lnTo>
                  <a:pt x="100" y="29"/>
                </a:lnTo>
                <a:lnTo>
                  <a:pt x="100" y="27"/>
                </a:lnTo>
                <a:lnTo>
                  <a:pt x="100" y="25"/>
                </a:lnTo>
                <a:lnTo>
                  <a:pt x="100" y="25"/>
                </a:lnTo>
                <a:lnTo>
                  <a:pt x="100" y="23"/>
                </a:lnTo>
                <a:lnTo>
                  <a:pt x="102" y="21"/>
                </a:lnTo>
                <a:lnTo>
                  <a:pt x="102" y="21"/>
                </a:lnTo>
                <a:close/>
                <a:moveTo>
                  <a:pt x="40" y="2535"/>
                </a:moveTo>
                <a:lnTo>
                  <a:pt x="63" y="2529"/>
                </a:lnTo>
                <a:lnTo>
                  <a:pt x="125" y="2508"/>
                </a:lnTo>
                <a:lnTo>
                  <a:pt x="151" y="2496"/>
                </a:lnTo>
                <a:lnTo>
                  <a:pt x="148" y="2487"/>
                </a:lnTo>
                <a:lnTo>
                  <a:pt x="121" y="2498"/>
                </a:lnTo>
                <a:lnTo>
                  <a:pt x="59" y="2517"/>
                </a:lnTo>
                <a:lnTo>
                  <a:pt x="0" y="2535"/>
                </a:lnTo>
                <a:lnTo>
                  <a:pt x="40" y="2535"/>
                </a:lnTo>
                <a:close/>
              </a:path>
            </a:pathLst>
          </a:custGeom>
          <a:solidFill>
            <a:srgbClr val="08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Freeform 281"/>
          <p:cNvSpPr/>
          <p:nvPr/>
        </p:nvSpPr>
        <p:spPr>
          <a:xfrm>
            <a:off x="6834240" y="1230480"/>
            <a:ext cx="271440" cy="4024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024080"/>
              <a:gd name="textAreaBottom" fmla="*/ 4024440 h 4024080"/>
            </a:gdLst>
            <a:ahLst/>
            <a:rect l="textAreaLeft" t="textAreaTop" r="textAreaRight" b="textAreaBottom"/>
            <a:pathLst>
              <a:path w="171" h="2535">
                <a:moveTo>
                  <a:pt x="121" y="25"/>
                </a:moveTo>
                <a:lnTo>
                  <a:pt x="82" y="12"/>
                </a:lnTo>
                <a:lnTo>
                  <a:pt x="42" y="0"/>
                </a:lnTo>
                <a:lnTo>
                  <a:pt x="0" y="0"/>
                </a:lnTo>
                <a:lnTo>
                  <a:pt x="17" y="6"/>
                </a:lnTo>
                <a:lnTo>
                  <a:pt x="78" y="23"/>
                </a:lnTo>
                <a:lnTo>
                  <a:pt x="117" y="35"/>
                </a:lnTo>
                <a:lnTo>
                  <a:pt x="117" y="35"/>
                </a:lnTo>
                <a:lnTo>
                  <a:pt x="119" y="33"/>
                </a:lnTo>
                <a:lnTo>
                  <a:pt x="119" y="31"/>
                </a:lnTo>
                <a:lnTo>
                  <a:pt x="119" y="31"/>
                </a:lnTo>
                <a:lnTo>
                  <a:pt x="119" y="29"/>
                </a:lnTo>
                <a:lnTo>
                  <a:pt x="121" y="29"/>
                </a:lnTo>
                <a:lnTo>
                  <a:pt x="121" y="27"/>
                </a:lnTo>
                <a:lnTo>
                  <a:pt x="121" y="25"/>
                </a:lnTo>
                <a:close/>
                <a:moveTo>
                  <a:pt x="42" y="2535"/>
                </a:moveTo>
                <a:lnTo>
                  <a:pt x="82" y="2523"/>
                </a:lnTo>
                <a:lnTo>
                  <a:pt x="144" y="2502"/>
                </a:lnTo>
                <a:lnTo>
                  <a:pt x="171" y="2492"/>
                </a:lnTo>
                <a:lnTo>
                  <a:pt x="167" y="2483"/>
                </a:lnTo>
                <a:lnTo>
                  <a:pt x="140" y="2492"/>
                </a:lnTo>
                <a:lnTo>
                  <a:pt x="78" y="2513"/>
                </a:lnTo>
                <a:lnTo>
                  <a:pt x="17" y="2531"/>
                </a:lnTo>
                <a:lnTo>
                  <a:pt x="0" y="2535"/>
                </a:lnTo>
                <a:lnTo>
                  <a:pt x="42" y="2535"/>
                </a:lnTo>
                <a:close/>
              </a:path>
            </a:pathLst>
          </a:custGeom>
          <a:solidFill>
            <a:srgbClr val="09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Freeform 282"/>
          <p:cNvSpPr/>
          <p:nvPr/>
        </p:nvSpPr>
        <p:spPr>
          <a:xfrm>
            <a:off x="6794640" y="1230480"/>
            <a:ext cx="307800" cy="4024080"/>
          </a:xfrm>
          <a:custGeom>
            <a:avLst/>
            <a:gdLst>
              <a:gd name="textAreaLeft" fmla="*/ 0 w 307800"/>
              <a:gd name="textAreaRight" fmla="*/ 308160 w 307800"/>
              <a:gd name="textAreaTop" fmla="*/ 0 h 4024080"/>
              <a:gd name="textAreaBottom" fmla="*/ 4024440 h 4024080"/>
            </a:gdLst>
            <a:ahLst/>
            <a:rect l="textAreaLeft" t="textAreaTop" r="textAreaRight" b="textAreaBottom"/>
            <a:pathLst>
              <a:path w="194" h="2535">
                <a:moveTo>
                  <a:pt x="144" y="31"/>
                </a:moveTo>
                <a:lnTo>
                  <a:pt x="105" y="17"/>
                </a:lnTo>
                <a:lnTo>
                  <a:pt x="46" y="0"/>
                </a:lnTo>
                <a:lnTo>
                  <a:pt x="0" y="0"/>
                </a:lnTo>
                <a:lnTo>
                  <a:pt x="40" y="10"/>
                </a:lnTo>
                <a:lnTo>
                  <a:pt x="101" y="27"/>
                </a:lnTo>
                <a:lnTo>
                  <a:pt x="140" y="40"/>
                </a:lnTo>
                <a:lnTo>
                  <a:pt x="140" y="38"/>
                </a:lnTo>
                <a:lnTo>
                  <a:pt x="142" y="38"/>
                </a:lnTo>
                <a:lnTo>
                  <a:pt x="142" y="36"/>
                </a:lnTo>
                <a:lnTo>
                  <a:pt x="142" y="35"/>
                </a:lnTo>
                <a:lnTo>
                  <a:pt x="142" y="35"/>
                </a:lnTo>
                <a:lnTo>
                  <a:pt x="144" y="33"/>
                </a:lnTo>
                <a:lnTo>
                  <a:pt x="144" y="33"/>
                </a:lnTo>
                <a:lnTo>
                  <a:pt x="144" y="31"/>
                </a:lnTo>
                <a:close/>
                <a:moveTo>
                  <a:pt x="46" y="2535"/>
                </a:moveTo>
                <a:lnTo>
                  <a:pt x="105" y="2517"/>
                </a:lnTo>
                <a:lnTo>
                  <a:pt x="167" y="2498"/>
                </a:lnTo>
                <a:lnTo>
                  <a:pt x="194" y="2487"/>
                </a:lnTo>
                <a:lnTo>
                  <a:pt x="190" y="2477"/>
                </a:lnTo>
                <a:lnTo>
                  <a:pt x="163" y="2489"/>
                </a:lnTo>
                <a:lnTo>
                  <a:pt x="101" y="2508"/>
                </a:lnTo>
                <a:lnTo>
                  <a:pt x="40" y="2525"/>
                </a:lnTo>
                <a:lnTo>
                  <a:pt x="0" y="2535"/>
                </a:lnTo>
                <a:lnTo>
                  <a:pt x="46" y="2535"/>
                </a:lnTo>
                <a:close/>
              </a:path>
            </a:pathLst>
          </a:custGeom>
          <a:solidFill>
            <a:srgbClr val="0a9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Freeform 283"/>
          <p:cNvSpPr/>
          <p:nvPr/>
        </p:nvSpPr>
        <p:spPr>
          <a:xfrm>
            <a:off x="5907240" y="1230480"/>
            <a:ext cx="1191960" cy="4024080"/>
          </a:xfrm>
          <a:custGeom>
            <a:avLst/>
            <a:gdLst>
              <a:gd name="textAreaLeft" fmla="*/ 0 w 1191960"/>
              <a:gd name="textAreaRight" fmla="*/ 1192320 w 1191960"/>
              <a:gd name="textAreaTop" fmla="*/ 0 h 4024080"/>
              <a:gd name="textAreaBottom" fmla="*/ 4024440 h 4024080"/>
            </a:gdLst>
            <a:ahLst/>
            <a:rect l="textAreaLeft" t="textAreaTop" r="textAreaRight" b="textAreaBottom"/>
            <a:pathLst>
              <a:path w="751" h="2535">
                <a:moveTo>
                  <a:pt x="701" y="35"/>
                </a:moveTo>
                <a:lnTo>
                  <a:pt x="662" y="23"/>
                </a:lnTo>
                <a:lnTo>
                  <a:pt x="601" y="6"/>
                </a:lnTo>
                <a:lnTo>
                  <a:pt x="584" y="0"/>
                </a:lnTo>
                <a:lnTo>
                  <a:pt x="536" y="0"/>
                </a:lnTo>
                <a:lnTo>
                  <a:pt x="597" y="15"/>
                </a:lnTo>
                <a:lnTo>
                  <a:pt x="659" y="33"/>
                </a:lnTo>
                <a:lnTo>
                  <a:pt x="697" y="46"/>
                </a:lnTo>
                <a:lnTo>
                  <a:pt x="697" y="44"/>
                </a:lnTo>
                <a:lnTo>
                  <a:pt x="699" y="42"/>
                </a:lnTo>
                <a:lnTo>
                  <a:pt x="699" y="42"/>
                </a:lnTo>
                <a:lnTo>
                  <a:pt x="699" y="40"/>
                </a:lnTo>
                <a:lnTo>
                  <a:pt x="699" y="38"/>
                </a:lnTo>
                <a:lnTo>
                  <a:pt x="701" y="38"/>
                </a:lnTo>
                <a:lnTo>
                  <a:pt x="701" y="36"/>
                </a:lnTo>
                <a:lnTo>
                  <a:pt x="701" y="35"/>
                </a:lnTo>
                <a:close/>
                <a:moveTo>
                  <a:pt x="584" y="2535"/>
                </a:moveTo>
                <a:lnTo>
                  <a:pt x="601" y="2531"/>
                </a:lnTo>
                <a:lnTo>
                  <a:pt x="662" y="2513"/>
                </a:lnTo>
                <a:lnTo>
                  <a:pt x="724" y="2492"/>
                </a:lnTo>
                <a:lnTo>
                  <a:pt x="751" y="2483"/>
                </a:lnTo>
                <a:lnTo>
                  <a:pt x="745" y="2473"/>
                </a:lnTo>
                <a:lnTo>
                  <a:pt x="720" y="2483"/>
                </a:lnTo>
                <a:lnTo>
                  <a:pt x="659" y="2504"/>
                </a:lnTo>
                <a:lnTo>
                  <a:pt x="597" y="2521"/>
                </a:lnTo>
                <a:lnTo>
                  <a:pt x="536" y="2535"/>
                </a:lnTo>
                <a:lnTo>
                  <a:pt x="584" y="2535"/>
                </a:lnTo>
                <a:close/>
                <a:moveTo>
                  <a:pt x="0" y="2531"/>
                </a:moveTo>
                <a:lnTo>
                  <a:pt x="14" y="2535"/>
                </a:lnTo>
                <a:lnTo>
                  <a:pt x="0" y="2535"/>
                </a:lnTo>
                <a:lnTo>
                  <a:pt x="0" y="2535"/>
                </a:lnTo>
                <a:lnTo>
                  <a:pt x="0" y="2535"/>
                </a:lnTo>
                <a:lnTo>
                  <a:pt x="0" y="2533"/>
                </a:lnTo>
                <a:lnTo>
                  <a:pt x="0" y="2533"/>
                </a:lnTo>
                <a:lnTo>
                  <a:pt x="0" y="2533"/>
                </a:lnTo>
                <a:lnTo>
                  <a:pt x="0" y="2533"/>
                </a:lnTo>
                <a:lnTo>
                  <a:pt x="0" y="2533"/>
                </a:lnTo>
                <a:lnTo>
                  <a:pt x="0" y="2531"/>
                </a:lnTo>
                <a:close/>
              </a:path>
            </a:pathLst>
          </a:custGeom>
          <a:solidFill>
            <a:srgbClr val="0b9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Freeform 284"/>
          <p:cNvSpPr/>
          <p:nvPr/>
        </p:nvSpPr>
        <p:spPr>
          <a:xfrm>
            <a:off x="5904000" y="1230480"/>
            <a:ext cx="1191960" cy="4024080"/>
          </a:xfrm>
          <a:custGeom>
            <a:avLst/>
            <a:gdLst>
              <a:gd name="textAreaLeft" fmla="*/ 0 w 1191960"/>
              <a:gd name="textAreaRight" fmla="*/ 1192320 w 1191960"/>
              <a:gd name="textAreaTop" fmla="*/ 0 h 4024080"/>
              <a:gd name="textAreaBottom" fmla="*/ 4024440 h 4024080"/>
            </a:gdLst>
            <a:ahLst/>
            <a:rect l="textAreaLeft" t="textAreaTop" r="textAreaRight" b="textAreaBottom"/>
            <a:pathLst>
              <a:path w="751" h="2535">
                <a:moveTo>
                  <a:pt x="701" y="40"/>
                </a:moveTo>
                <a:lnTo>
                  <a:pt x="662" y="27"/>
                </a:lnTo>
                <a:lnTo>
                  <a:pt x="601" y="10"/>
                </a:lnTo>
                <a:lnTo>
                  <a:pt x="561" y="0"/>
                </a:lnTo>
                <a:lnTo>
                  <a:pt x="507" y="0"/>
                </a:lnTo>
                <a:lnTo>
                  <a:pt x="536" y="6"/>
                </a:lnTo>
                <a:lnTo>
                  <a:pt x="599" y="21"/>
                </a:lnTo>
                <a:lnTo>
                  <a:pt x="661" y="38"/>
                </a:lnTo>
                <a:lnTo>
                  <a:pt x="697" y="50"/>
                </a:lnTo>
                <a:lnTo>
                  <a:pt x="697" y="50"/>
                </a:lnTo>
                <a:lnTo>
                  <a:pt x="699" y="48"/>
                </a:lnTo>
                <a:lnTo>
                  <a:pt x="699" y="46"/>
                </a:lnTo>
                <a:lnTo>
                  <a:pt x="699" y="46"/>
                </a:lnTo>
                <a:lnTo>
                  <a:pt x="699" y="44"/>
                </a:lnTo>
                <a:lnTo>
                  <a:pt x="701" y="42"/>
                </a:lnTo>
                <a:lnTo>
                  <a:pt x="701" y="42"/>
                </a:lnTo>
                <a:lnTo>
                  <a:pt x="701" y="40"/>
                </a:lnTo>
                <a:close/>
                <a:moveTo>
                  <a:pt x="561" y="2535"/>
                </a:moveTo>
                <a:lnTo>
                  <a:pt x="601" y="2525"/>
                </a:lnTo>
                <a:lnTo>
                  <a:pt x="662" y="2508"/>
                </a:lnTo>
                <a:lnTo>
                  <a:pt x="724" y="2489"/>
                </a:lnTo>
                <a:lnTo>
                  <a:pt x="751" y="2477"/>
                </a:lnTo>
                <a:lnTo>
                  <a:pt x="745" y="2467"/>
                </a:lnTo>
                <a:lnTo>
                  <a:pt x="720" y="2477"/>
                </a:lnTo>
                <a:lnTo>
                  <a:pt x="661" y="2498"/>
                </a:lnTo>
                <a:lnTo>
                  <a:pt x="599" y="2515"/>
                </a:lnTo>
                <a:lnTo>
                  <a:pt x="536" y="2529"/>
                </a:lnTo>
                <a:lnTo>
                  <a:pt x="507" y="2535"/>
                </a:lnTo>
                <a:lnTo>
                  <a:pt x="561" y="2535"/>
                </a:lnTo>
                <a:close/>
                <a:moveTo>
                  <a:pt x="0" y="2525"/>
                </a:moveTo>
                <a:lnTo>
                  <a:pt x="18" y="2529"/>
                </a:lnTo>
                <a:lnTo>
                  <a:pt x="46" y="2535"/>
                </a:lnTo>
                <a:lnTo>
                  <a:pt x="2" y="2535"/>
                </a:lnTo>
                <a:lnTo>
                  <a:pt x="2" y="2535"/>
                </a:lnTo>
                <a:lnTo>
                  <a:pt x="2" y="2533"/>
                </a:lnTo>
                <a:lnTo>
                  <a:pt x="2" y="2531"/>
                </a:lnTo>
                <a:lnTo>
                  <a:pt x="2" y="2531"/>
                </a:lnTo>
                <a:lnTo>
                  <a:pt x="2" y="2529"/>
                </a:lnTo>
                <a:lnTo>
                  <a:pt x="2" y="2529"/>
                </a:lnTo>
                <a:lnTo>
                  <a:pt x="2" y="2527"/>
                </a:lnTo>
                <a:lnTo>
                  <a:pt x="0" y="2525"/>
                </a:lnTo>
                <a:close/>
              </a:path>
            </a:pathLst>
          </a:custGeom>
          <a:solidFill>
            <a:srgbClr val="0c9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reeform 285"/>
          <p:cNvSpPr/>
          <p:nvPr/>
        </p:nvSpPr>
        <p:spPr>
          <a:xfrm>
            <a:off x="5904000" y="1230480"/>
            <a:ext cx="1185840" cy="40240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4024080"/>
              <a:gd name="textAreaBottom" fmla="*/ 4024440 h 4024080"/>
            </a:gdLst>
            <a:ahLst/>
            <a:rect l="textAreaLeft" t="textAreaTop" r="textAreaRight" b="textAreaBottom"/>
            <a:pathLst>
              <a:path w="747" h="2535">
                <a:moveTo>
                  <a:pt x="699" y="46"/>
                </a:moveTo>
                <a:lnTo>
                  <a:pt x="661" y="33"/>
                </a:lnTo>
                <a:lnTo>
                  <a:pt x="599" y="15"/>
                </a:lnTo>
                <a:lnTo>
                  <a:pt x="538" y="0"/>
                </a:lnTo>
                <a:lnTo>
                  <a:pt x="476" y="0"/>
                </a:lnTo>
                <a:lnTo>
                  <a:pt x="536" y="12"/>
                </a:lnTo>
                <a:lnTo>
                  <a:pt x="597" y="25"/>
                </a:lnTo>
                <a:lnTo>
                  <a:pt x="659" y="42"/>
                </a:lnTo>
                <a:lnTo>
                  <a:pt x="695" y="56"/>
                </a:lnTo>
                <a:lnTo>
                  <a:pt x="695" y="54"/>
                </a:lnTo>
                <a:lnTo>
                  <a:pt x="695" y="52"/>
                </a:lnTo>
                <a:lnTo>
                  <a:pt x="697" y="52"/>
                </a:lnTo>
                <a:lnTo>
                  <a:pt x="697" y="50"/>
                </a:lnTo>
                <a:lnTo>
                  <a:pt x="697" y="50"/>
                </a:lnTo>
                <a:lnTo>
                  <a:pt x="699" y="48"/>
                </a:lnTo>
                <a:lnTo>
                  <a:pt x="699" y="46"/>
                </a:lnTo>
                <a:lnTo>
                  <a:pt x="699" y="46"/>
                </a:lnTo>
                <a:close/>
                <a:moveTo>
                  <a:pt x="2" y="2531"/>
                </a:moveTo>
                <a:lnTo>
                  <a:pt x="16" y="2535"/>
                </a:lnTo>
                <a:lnTo>
                  <a:pt x="77" y="2535"/>
                </a:lnTo>
                <a:lnTo>
                  <a:pt x="18" y="2525"/>
                </a:lnTo>
                <a:lnTo>
                  <a:pt x="0" y="2521"/>
                </a:lnTo>
                <a:lnTo>
                  <a:pt x="0" y="2521"/>
                </a:lnTo>
                <a:lnTo>
                  <a:pt x="0" y="2523"/>
                </a:lnTo>
                <a:lnTo>
                  <a:pt x="0" y="2525"/>
                </a:lnTo>
                <a:lnTo>
                  <a:pt x="0" y="2525"/>
                </a:lnTo>
                <a:lnTo>
                  <a:pt x="2" y="2527"/>
                </a:lnTo>
                <a:lnTo>
                  <a:pt x="2" y="2529"/>
                </a:lnTo>
                <a:lnTo>
                  <a:pt x="2" y="2531"/>
                </a:lnTo>
                <a:lnTo>
                  <a:pt x="2" y="2531"/>
                </a:lnTo>
                <a:close/>
                <a:moveTo>
                  <a:pt x="538" y="2535"/>
                </a:moveTo>
                <a:lnTo>
                  <a:pt x="599" y="2521"/>
                </a:lnTo>
                <a:lnTo>
                  <a:pt x="661" y="2504"/>
                </a:lnTo>
                <a:lnTo>
                  <a:pt x="722" y="2483"/>
                </a:lnTo>
                <a:lnTo>
                  <a:pt x="747" y="2473"/>
                </a:lnTo>
                <a:lnTo>
                  <a:pt x="743" y="2464"/>
                </a:lnTo>
                <a:lnTo>
                  <a:pt x="718" y="2473"/>
                </a:lnTo>
                <a:lnTo>
                  <a:pt x="659" y="2492"/>
                </a:lnTo>
                <a:lnTo>
                  <a:pt x="597" y="2510"/>
                </a:lnTo>
                <a:lnTo>
                  <a:pt x="536" y="2525"/>
                </a:lnTo>
                <a:lnTo>
                  <a:pt x="476" y="2535"/>
                </a:lnTo>
                <a:lnTo>
                  <a:pt x="538" y="2535"/>
                </a:lnTo>
                <a:close/>
              </a:path>
            </a:pathLst>
          </a:custGeom>
          <a:solidFill>
            <a:srgbClr val="0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Freeform 286"/>
          <p:cNvSpPr/>
          <p:nvPr/>
        </p:nvSpPr>
        <p:spPr>
          <a:xfrm>
            <a:off x="5900760" y="1230480"/>
            <a:ext cx="1185840" cy="40240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4024080"/>
              <a:gd name="textAreaBottom" fmla="*/ 4024440 h 4024080"/>
            </a:gdLst>
            <a:ahLst/>
            <a:rect l="textAreaLeft" t="textAreaTop" r="textAreaRight" b="textAreaBottom"/>
            <a:pathLst>
              <a:path w="747" h="2535">
                <a:moveTo>
                  <a:pt x="699" y="50"/>
                </a:moveTo>
                <a:lnTo>
                  <a:pt x="663" y="38"/>
                </a:lnTo>
                <a:lnTo>
                  <a:pt x="601" y="21"/>
                </a:lnTo>
                <a:lnTo>
                  <a:pt x="538" y="6"/>
                </a:lnTo>
                <a:lnTo>
                  <a:pt x="509" y="0"/>
                </a:lnTo>
                <a:lnTo>
                  <a:pt x="438" y="0"/>
                </a:lnTo>
                <a:lnTo>
                  <a:pt x="473" y="6"/>
                </a:lnTo>
                <a:lnTo>
                  <a:pt x="536" y="17"/>
                </a:lnTo>
                <a:lnTo>
                  <a:pt x="597" y="31"/>
                </a:lnTo>
                <a:lnTo>
                  <a:pt x="659" y="48"/>
                </a:lnTo>
                <a:lnTo>
                  <a:pt x="695" y="59"/>
                </a:lnTo>
                <a:lnTo>
                  <a:pt x="695" y="59"/>
                </a:lnTo>
                <a:lnTo>
                  <a:pt x="695" y="58"/>
                </a:lnTo>
                <a:lnTo>
                  <a:pt x="697" y="56"/>
                </a:lnTo>
                <a:lnTo>
                  <a:pt x="697" y="56"/>
                </a:lnTo>
                <a:lnTo>
                  <a:pt x="697" y="54"/>
                </a:lnTo>
                <a:lnTo>
                  <a:pt x="697" y="52"/>
                </a:lnTo>
                <a:lnTo>
                  <a:pt x="699" y="52"/>
                </a:lnTo>
                <a:lnTo>
                  <a:pt x="699" y="50"/>
                </a:lnTo>
                <a:close/>
                <a:moveTo>
                  <a:pt x="2" y="2525"/>
                </a:moveTo>
                <a:lnTo>
                  <a:pt x="20" y="2529"/>
                </a:lnTo>
                <a:lnTo>
                  <a:pt x="48" y="2535"/>
                </a:lnTo>
                <a:lnTo>
                  <a:pt x="119" y="2535"/>
                </a:lnTo>
                <a:lnTo>
                  <a:pt x="85" y="2531"/>
                </a:lnTo>
                <a:lnTo>
                  <a:pt x="22" y="2519"/>
                </a:lnTo>
                <a:lnTo>
                  <a:pt x="0" y="2515"/>
                </a:lnTo>
                <a:lnTo>
                  <a:pt x="2" y="2515"/>
                </a:lnTo>
                <a:lnTo>
                  <a:pt x="2" y="2517"/>
                </a:lnTo>
                <a:lnTo>
                  <a:pt x="2" y="2519"/>
                </a:lnTo>
                <a:lnTo>
                  <a:pt x="2" y="2521"/>
                </a:lnTo>
                <a:lnTo>
                  <a:pt x="2" y="2521"/>
                </a:lnTo>
                <a:lnTo>
                  <a:pt x="2" y="2523"/>
                </a:lnTo>
                <a:lnTo>
                  <a:pt x="2" y="2525"/>
                </a:lnTo>
                <a:lnTo>
                  <a:pt x="2" y="2525"/>
                </a:lnTo>
                <a:close/>
                <a:moveTo>
                  <a:pt x="509" y="2535"/>
                </a:moveTo>
                <a:lnTo>
                  <a:pt x="538" y="2529"/>
                </a:lnTo>
                <a:lnTo>
                  <a:pt x="601" y="2515"/>
                </a:lnTo>
                <a:lnTo>
                  <a:pt x="663" y="2498"/>
                </a:lnTo>
                <a:lnTo>
                  <a:pt x="722" y="2477"/>
                </a:lnTo>
                <a:lnTo>
                  <a:pt x="747" y="2467"/>
                </a:lnTo>
                <a:lnTo>
                  <a:pt x="743" y="2458"/>
                </a:lnTo>
                <a:lnTo>
                  <a:pt x="718" y="2467"/>
                </a:lnTo>
                <a:lnTo>
                  <a:pt x="659" y="2489"/>
                </a:lnTo>
                <a:lnTo>
                  <a:pt x="597" y="2506"/>
                </a:lnTo>
                <a:lnTo>
                  <a:pt x="536" y="2519"/>
                </a:lnTo>
                <a:lnTo>
                  <a:pt x="473" y="2531"/>
                </a:lnTo>
                <a:lnTo>
                  <a:pt x="438" y="2535"/>
                </a:lnTo>
                <a:lnTo>
                  <a:pt x="509" y="2535"/>
                </a:lnTo>
                <a:close/>
              </a:path>
            </a:pathLst>
          </a:custGeom>
          <a:solidFill>
            <a:srgbClr val="0e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reeform 287"/>
          <p:cNvSpPr/>
          <p:nvPr/>
        </p:nvSpPr>
        <p:spPr>
          <a:xfrm>
            <a:off x="5900760" y="1230480"/>
            <a:ext cx="1182600" cy="4024080"/>
          </a:xfrm>
          <a:custGeom>
            <a:avLst/>
            <a:gdLst>
              <a:gd name="textAreaLeft" fmla="*/ 0 w 1182600"/>
              <a:gd name="textAreaRight" fmla="*/ 1182960 w 1182600"/>
              <a:gd name="textAreaTop" fmla="*/ 0 h 4024080"/>
              <a:gd name="textAreaBottom" fmla="*/ 4024440 h 4024080"/>
            </a:gdLst>
            <a:ahLst/>
            <a:rect l="textAreaLeft" t="textAreaTop" r="textAreaRight" b="textAreaBottom"/>
            <a:pathLst>
              <a:path w="745" h="2535">
                <a:moveTo>
                  <a:pt x="697" y="56"/>
                </a:moveTo>
                <a:lnTo>
                  <a:pt x="661" y="42"/>
                </a:lnTo>
                <a:lnTo>
                  <a:pt x="599" y="25"/>
                </a:lnTo>
                <a:lnTo>
                  <a:pt x="538" y="12"/>
                </a:lnTo>
                <a:lnTo>
                  <a:pt x="478" y="0"/>
                </a:lnTo>
                <a:lnTo>
                  <a:pt x="388" y="0"/>
                </a:lnTo>
                <a:lnTo>
                  <a:pt x="409" y="2"/>
                </a:lnTo>
                <a:lnTo>
                  <a:pt x="473" y="10"/>
                </a:lnTo>
                <a:lnTo>
                  <a:pt x="536" y="21"/>
                </a:lnTo>
                <a:lnTo>
                  <a:pt x="597" y="36"/>
                </a:lnTo>
                <a:lnTo>
                  <a:pt x="657" y="54"/>
                </a:lnTo>
                <a:lnTo>
                  <a:pt x="693" y="65"/>
                </a:lnTo>
                <a:lnTo>
                  <a:pt x="693" y="63"/>
                </a:lnTo>
                <a:lnTo>
                  <a:pt x="693" y="63"/>
                </a:lnTo>
                <a:lnTo>
                  <a:pt x="695" y="61"/>
                </a:lnTo>
                <a:lnTo>
                  <a:pt x="695" y="59"/>
                </a:lnTo>
                <a:lnTo>
                  <a:pt x="695" y="59"/>
                </a:lnTo>
                <a:lnTo>
                  <a:pt x="695" y="58"/>
                </a:lnTo>
                <a:lnTo>
                  <a:pt x="697" y="56"/>
                </a:lnTo>
                <a:lnTo>
                  <a:pt x="697" y="56"/>
                </a:lnTo>
                <a:close/>
                <a:moveTo>
                  <a:pt x="2" y="2521"/>
                </a:moveTo>
                <a:lnTo>
                  <a:pt x="20" y="2525"/>
                </a:lnTo>
                <a:lnTo>
                  <a:pt x="79" y="2535"/>
                </a:lnTo>
                <a:lnTo>
                  <a:pt x="169" y="2535"/>
                </a:lnTo>
                <a:lnTo>
                  <a:pt x="148" y="2533"/>
                </a:lnTo>
                <a:lnTo>
                  <a:pt x="85" y="2525"/>
                </a:lnTo>
                <a:lnTo>
                  <a:pt x="23" y="2513"/>
                </a:lnTo>
                <a:lnTo>
                  <a:pt x="0" y="2510"/>
                </a:lnTo>
                <a:lnTo>
                  <a:pt x="0" y="2510"/>
                </a:lnTo>
                <a:lnTo>
                  <a:pt x="0" y="2512"/>
                </a:lnTo>
                <a:lnTo>
                  <a:pt x="0" y="2513"/>
                </a:lnTo>
                <a:lnTo>
                  <a:pt x="0" y="2515"/>
                </a:lnTo>
                <a:lnTo>
                  <a:pt x="2" y="2515"/>
                </a:lnTo>
                <a:lnTo>
                  <a:pt x="2" y="2517"/>
                </a:lnTo>
                <a:lnTo>
                  <a:pt x="2" y="2519"/>
                </a:lnTo>
                <a:lnTo>
                  <a:pt x="2" y="2521"/>
                </a:lnTo>
                <a:close/>
                <a:moveTo>
                  <a:pt x="478" y="2535"/>
                </a:moveTo>
                <a:lnTo>
                  <a:pt x="538" y="2525"/>
                </a:lnTo>
                <a:lnTo>
                  <a:pt x="599" y="2510"/>
                </a:lnTo>
                <a:lnTo>
                  <a:pt x="661" y="2492"/>
                </a:lnTo>
                <a:lnTo>
                  <a:pt x="720" y="2473"/>
                </a:lnTo>
                <a:lnTo>
                  <a:pt x="745" y="2464"/>
                </a:lnTo>
                <a:lnTo>
                  <a:pt x="741" y="2454"/>
                </a:lnTo>
                <a:lnTo>
                  <a:pt x="716" y="2464"/>
                </a:lnTo>
                <a:lnTo>
                  <a:pt x="657" y="2483"/>
                </a:lnTo>
                <a:lnTo>
                  <a:pt x="597" y="2500"/>
                </a:lnTo>
                <a:lnTo>
                  <a:pt x="536" y="2513"/>
                </a:lnTo>
                <a:lnTo>
                  <a:pt x="473" y="2525"/>
                </a:lnTo>
                <a:lnTo>
                  <a:pt x="409" y="2533"/>
                </a:lnTo>
                <a:lnTo>
                  <a:pt x="388" y="2535"/>
                </a:lnTo>
                <a:lnTo>
                  <a:pt x="478" y="2535"/>
                </a:lnTo>
                <a:close/>
              </a:path>
            </a:pathLst>
          </a:custGeom>
          <a:solidFill>
            <a:srgbClr val="0f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Freeform 288"/>
          <p:cNvSpPr/>
          <p:nvPr/>
        </p:nvSpPr>
        <p:spPr>
          <a:xfrm>
            <a:off x="5897520" y="1230480"/>
            <a:ext cx="1182600" cy="4024080"/>
          </a:xfrm>
          <a:custGeom>
            <a:avLst/>
            <a:gdLst>
              <a:gd name="textAreaLeft" fmla="*/ 0 w 1182600"/>
              <a:gd name="textAreaRight" fmla="*/ 1182960 w 1182600"/>
              <a:gd name="textAreaTop" fmla="*/ 0 h 4024080"/>
              <a:gd name="textAreaBottom" fmla="*/ 4024440 h 4024080"/>
            </a:gdLst>
            <a:ahLst/>
            <a:rect l="textAreaLeft" t="textAreaTop" r="textAreaRight" b="textAreaBottom"/>
            <a:pathLst>
              <a:path w="745" h="2535">
                <a:moveTo>
                  <a:pt x="697" y="59"/>
                </a:moveTo>
                <a:lnTo>
                  <a:pt x="661" y="48"/>
                </a:lnTo>
                <a:lnTo>
                  <a:pt x="599" y="31"/>
                </a:lnTo>
                <a:lnTo>
                  <a:pt x="538" y="17"/>
                </a:lnTo>
                <a:lnTo>
                  <a:pt x="475" y="6"/>
                </a:lnTo>
                <a:lnTo>
                  <a:pt x="440" y="0"/>
                </a:lnTo>
                <a:lnTo>
                  <a:pt x="311" y="0"/>
                </a:lnTo>
                <a:lnTo>
                  <a:pt x="311" y="0"/>
                </a:lnTo>
                <a:lnTo>
                  <a:pt x="311" y="2"/>
                </a:lnTo>
                <a:lnTo>
                  <a:pt x="311" y="2"/>
                </a:lnTo>
                <a:lnTo>
                  <a:pt x="311" y="2"/>
                </a:lnTo>
                <a:lnTo>
                  <a:pt x="311" y="2"/>
                </a:lnTo>
                <a:lnTo>
                  <a:pt x="311" y="2"/>
                </a:lnTo>
                <a:lnTo>
                  <a:pt x="311" y="2"/>
                </a:lnTo>
                <a:lnTo>
                  <a:pt x="311" y="2"/>
                </a:lnTo>
                <a:lnTo>
                  <a:pt x="346" y="2"/>
                </a:lnTo>
                <a:lnTo>
                  <a:pt x="411" y="8"/>
                </a:lnTo>
                <a:lnTo>
                  <a:pt x="475" y="15"/>
                </a:lnTo>
                <a:lnTo>
                  <a:pt x="536" y="27"/>
                </a:lnTo>
                <a:lnTo>
                  <a:pt x="597" y="40"/>
                </a:lnTo>
                <a:lnTo>
                  <a:pt x="657" y="58"/>
                </a:lnTo>
                <a:lnTo>
                  <a:pt x="693" y="69"/>
                </a:lnTo>
                <a:lnTo>
                  <a:pt x="693" y="69"/>
                </a:lnTo>
                <a:lnTo>
                  <a:pt x="693" y="67"/>
                </a:lnTo>
                <a:lnTo>
                  <a:pt x="693" y="65"/>
                </a:lnTo>
                <a:lnTo>
                  <a:pt x="695" y="65"/>
                </a:lnTo>
                <a:lnTo>
                  <a:pt x="695" y="63"/>
                </a:lnTo>
                <a:lnTo>
                  <a:pt x="695" y="63"/>
                </a:lnTo>
                <a:lnTo>
                  <a:pt x="697" y="61"/>
                </a:lnTo>
                <a:lnTo>
                  <a:pt x="697" y="59"/>
                </a:lnTo>
                <a:close/>
                <a:moveTo>
                  <a:pt x="2" y="2515"/>
                </a:moveTo>
                <a:lnTo>
                  <a:pt x="24" y="2519"/>
                </a:lnTo>
                <a:lnTo>
                  <a:pt x="87" y="2531"/>
                </a:lnTo>
                <a:lnTo>
                  <a:pt x="121" y="2535"/>
                </a:lnTo>
                <a:lnTo>
                  <a:pt x="440" y="2535"/>
                </a:lnTo>
                <a:lnTo>
                  <a:pt x="475" y="2531"/>
                </a:lnTo>
                <a:lnTo>
                  <a:pt x="538" y="2519"/>
                </a:lnTo>
                <a:lnTo>
                  <a:pt x="599" y="2506"/>
                </a:lnTo>
                <a:lnTo>
                  <a:pt x="661" y="2489"/>
                </a:lnTo>
                <a:lnTo>
                  <a:pt x="720" y="2467"/>
                </a:lnTo>
                <a:lnTo>
                  <a:pt x="745" y="2458"/>
                </a:lnTo>
                <a:lnTo>
                  <a:pt x="739" y="2448"/>
                </a:lnTo>
                <a:lnTo>
                  <a:pt x="716" y="2458"/>
                </a:lnTo>
                <a:lnTo>
                  <a:pt x="657" y="2477"/>
                </a:lnTo>
                <a:lnTo>
                  <a:pt x="597" y="2494"/>
                </a:lnTo>
                <a:lnTo>
                  <a:pt x="536" y="2510"/>
                </a:lnTo>
                <a:lnTo>
                  <a:pt x="475" y="2519"/>
                </a:lnTo>
                <a:lnTo>
                  <a:pt x="411" y="2529"/>
                </a:lnTo>
                <a:lnTo>
                  <a:pt x="346" y="2533"/>
                </a:lnTo>
                <a:lnTo>
                  <a:pt x="281" y="2535"/>
                </a:lnTo>
                <a:lnTo>
                  <a:pt x="215" y="2533"/>
                </a:lnTo>
                <a:lnTo>
                  <a:pt x="152" y="2529"/>
                </a:lnTo>
                <a:lnTo>
                  <a:pt x="89" y="2519"/>
                </a:lnTo>
                <a:lnTo>
                  <a:pt x="25" y="2510"/>
                </a:lnTo>
                <a:lnTo>
                  <a:pt x="0" y="2504"/>
                </a:lnTo>
                <a:lnTo>
                  <a:pt x="0" y="2504"/>
                </a:lnTo>
                <a:lnTo>
                  <a:pt x="2" y="2506"/>
                </a:lnTo>
                <a:lnTo>
                  <a:pt x="2" y="2508"/>
                </a:lnTo>
                <a:lnTo>
                  <a:pt x="2" y="2510"/>
                </a:lnTo>
                <a:lnTo>
                  <a:pt x="2" y="2510"/>
                </a:lnTo>
                <a:lnTo>
                  <a:pt x="2" y="2512"/>
                </a:lnTo>
                <a:lnTo>
                  <a:pt x="2" y="2513"/>
                </a:lnTo>
                <a:lnTo>
                  <a:pt x="2" y="2515"/>
                </a:lnTo>
                <a:close/>
              </a:path>
            </a:pathLst>
          </a:custGeom>
          <a:solidFill>
            <a:srgbClr val="10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Freeform 289"/>
          <p:cNvSpPr/>
          <p:nvPr/>
        </p:nvSpPr>
        <p:spPr>
          <a:xfrm>
            <a:off x="5897520" y="1230480"/>
            <a:ext cx="1179720" cy="4024080"/>
          </a:xfrm>
          <a:custGeom>
            <a:avLst/>
            <a:gdLst>
              <a:gd name="textAreaLeft" fmla="*/ 0 w 1179720"/>
              <a:gd name="textAreaRight" fmla="*/ 1179720 w 1179720"/>
              <a:gd name="textAreaTop" fmla="*/ 0 h 4024080"/>
              <a:gd name="textAreaBottom" fmla="*/ 4024440 h 4024080"/>
            </a:gdLst>
            <a:ahLst/>
            <a:rect l="textAreaLeft" t="textAreaTop" r="textAreaRight" b="textAreaBottom"/>
            <a:pathLst>
              <a:path w="743" h="2535">
                <a:moveTo>
                  <a:pt x="695" y="65"/>
                </a:moveTo>
                <a:lnTo>
                  <a:pt x="659" y="54"/>
                </a:lnTo>
                <a:lnTo>
                  <a:pt x="599" y="36"/>
                </a:lnTo>
                <a:lnTo>
                  <a:pt x="538" y="21"/>
                </a:lnTo>
                <a:lnTo>
                  <a:pt x="475" y="10"/>
                </a:lnTo>
                <a:lnTo>
                  <a:pt x="411" y="2"/>
                </a:lnTo>
                <a:lnTo>
                  <a:pt x="390" y="0"/>
                </a:lnTo>
                <a:lnTo>
                  <a:pt x="311" y="0"/>
                </a:lnTo>
                <a:lnTo>
                  <a:pt x="311" y="2"/>
                </a:lnTo>
                <a:lnTo>
                  <a:pt x="311" y="2"/>
                </a:lnTo>
                <a:lnTo>
                  <a:pt x="309" y="4"/>
                </a:lnTo>
                <a:lnTo>
                  <a:pt x="309" y="4"/>
                </a:lnTo>
                <a:lnTo>
                  <a:pt x="309" y="4"/>
                </a:lnTo>
                <a:lnTo>
                  <a:pt x="309" y="6"/>
                </a:lnTo>
                <a:lnTo>
                  <a:pt x="309" y="6"/>
                </a:lnTo>
                <a:lnTo>
                  <a:pt x="308" y="8"/>
                </a:lnTo>
                <a:lnTo>
                  <a:pt x="346" y="8"/>
                </a:lnTo>
                <a:lnTo>
                  <a:pt x="409" y="13"/>
                </a:lnTo>
                <a:lnTo>
                  <a:pt x="473" y="21"/>
                </a:lnTo>
                <a:lnTo>
                  <a:pt x="536" y="33"/>
                </a:lnTo>
                <a:lnTo>
                  <a:pt x="595" y="46"/>
                </a:lnTo>
                <a:lnTo>
                  <a:pt x="657" y="63"/>
                </a:lnTo>
                <a:lnTo>
                  <a:pt x="690" y="75"/>
                </a:lnTo>
                <a:lnTo>
                  <a:pt x="691" y="73"/>
                </a:lnTo>
                <a:lnTo>
                  <a:pt x="691" y="73"/>
                </a:lnTo>
                <a:lnTo>
                  <a:pt x="691" y="71"/>
                </a:lnTo>
                <a:lnTo>
                  <a:pt x="693" y="69"/>
                </a:lnTo>
                <a:lnTo>
                  <a:pt x="693" y="69"/>
                </a:lnTo>
                <a:lnTo>
                  <a:pt x="693" y="67"/>
                </a:lnTo>
                <a:lnTo>
                  <a:pt x="693" y="67"/>
                </a:lnTo>
                <a:lnTo>
                  <a:pt x="695" y="65"/>
                </a:lnTo>
                <a:close/>
                <a:moveTo>
                  <a:pt x="2" y="2510"/>
                </a:moveTo>
                <a:lnTo>
                  <a:pt x="25" y="2513"/>
                </a:lnTo>
                <a:lnTo>
                  <a:pt x="87" y="2525"/>
                </a:lnTo>
                <a:lnTo>
                  <a:pt x="150" y="2533"/>
                </a:lnTo>
                <a:lnTo>
                  <a:pt x="171" y="2535"/>
                </a:lnTo>
                <a:lnTo>
                  <a:pt x="390" y="2535"/>
                </a:lnTo>
                <a:lnTo>
                  <a:pt x="411" y="2533"/>
                </a:lnTo>
                <a:lnTo>
                  <a:pt x="475" y="2525"/>
                </a:lnTo>
                <a:lnTo>
                  <a:pt x="538" y="2513"/>
                </a:lnTo>
                <a:lnTo>
                  <a:pt x="599" y="2500"/>
                </a:lnTo>
                <a:lnTo>
                  <a:pt x="659" y="2483"/>
                </a:lnTo>
                <a:lnTo>
                  <a:pt x="718" y="2464"/>
                </a:lnTo>
                <a:lnTo>
                  <a:pt x="743" y="2454"/>
                </a:lnTo>
                <a:lnTo>
                  <a:pt x="738" y="2444"/>
                </a:lnTo>
                <a:lnTo>
                  <a:pt x="714" y="2452"/>
                </a:lnTo>
                <a:lnTo>
                  <a:pt x="657" y="2473"/>
                </a:lnTo>
                <a:lnTo>
                  <a:pt x="595" y="2489"/>
                </a:lnTo>
                <a:lnTo>
                  <a:pt x="536" y="2504"/>
                </a:lnTo>
                <a:lnTo>
                  <a:pt x="473" y="2515"/>
                </a:lnTo>
                <a:lnTo>
                  <a:pt x="409" y="2523"/>
                </a:lnTo>
                <a:lnTo>
                  <a:pt x="346" y="2527"/>
                </a:lnTo>
                <a:lnTo>
                  <a:pt x="281" y="2529"/>
                </a:lnTo>
                <a:lnTo>
                  <a:pt x="215" y="2527"/>
                </a:lnTo>
                <a:lnTo>
                  <a:pt x="152" y="2523"/>
                </a:lnTo>
                <a:lnTo>
                  <a:pt x="89" y="2515"/>
                </a:lnTo>
                <a:lnTo>
                  <a:pt x="27" y="2504"/>
                </a:lnTo>
                <a:lnTo>
                  <a:pt x="0" y="2498"/>
                </a:lnTo>
                <a:lnTo>
                  <a:pt x="0" y="2498"/>
                </a:lnTo>
                <a:lnTo>
                  <a:pt x="0" y="2500"/>
                </a:lnTo>
                <a:lnTo>
                  <a:pt x="0" y="2502"/>
                </a:lnTo>
                <a:lnTo>
                  <a:pt x="0" y="2504"/>
                </a:lnTo>
                <a:lnTo>
                  <a:pt x="0" y="2504"/>
                </a:lnTo>
                <a:lnTo>
                  <a:pt x="2" y="2506"/>
                </a:lnTo>
                <a:lnTo>
                  <a:pt x="2" y="2508"/>
                </a:lnTo>
                <a:lnTo>
                  <a:pt x="2" y="2510"/>
                </a:lnTo>
                <a:close/>
              </a:path>
            </a:pathLst>
          </a:custGeom>
          <a:solidFill>
            <a:srgbClr val="11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Freeform 290"/>
          <p:cNvSpPr/>
          <p:nvPr/>
        </p:nvSpPr>
        <p:spPr>
          <a:xfrm>
            <a:off x="5896080" y="1233360"/>
            <a:ext cx="1174680" cy="402120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4021200"/>
              <a:gd name="textAreaBottom" fmla="*/ 4021560 h 4021200"/>
            </a:gdLst>
            <a:ahLst/>
            <a:rect l="textAreaLeft" t="textAreaTop" r="textAreaRight" b="textAreaBottom"/>
            <a:pathLst>
              <a:path w="740" h="2533">
                <a:moveTo>
                  <a:pt x="694" y="67"/>
                </a:moveTo>
                <a:lnTo>
                  <a:pt x="658" y="56"/>
                </a:lnTo>
                <a:lnTo>
                  <a:pt x="598" y="38"/>
                </a:lnTo>
                <a:lnTo>
                  <a:pt x="537" y="25"/>
                </a:lnTo>
                <a:lnTo>
                  <a:pt x="476" y="13"/>
                </a:lnTo>
                <a:lnTo>
                  <a:pt x="412" y="6"/>
                </a:lnTo>
                <a:lnTo>
                  <a:pt x="347" y="0"/>
                </a:lnTo>
                <a:lnTo>
                  <a:pt x="312" y="0"/>
                </a:lnTo>
                <a:lnTo>
                  <a:pt x="310" y="2"/>
                </a:lnTo>
                <a:lnTo>
                  <a:pt x="310" y="2"/>
                </a:lnTo>
                <a:lnTo>
                  <a:pt x="310" y="4"/>
                </a:lnTo>
                <a:lnTo>
                  <a:pt x="309" y="6"/>
                </a:lnTo>
                <a:lnTo>
                  <a:pt x="309" y="6"/>
                </a:lnTo>
                <a:lnTo>
                  <a:pt x="309" y="8"/>
                </a:lnTo>
                <a:lnTo>
                  <a:pt x="307" y="10"/>
                </a:lnTo>
                <a:lnTo>
                  <a:pt x="307" y="10"/>
                </a:lnTo>
                <a:lnTo>
                  <a:pt x="347" y="11"/>
                </a:lnTo>
                <a:lnTo>
                  <a:pt x="410" y="15"/>
                </a:lnTo>
                <a:lnTo>
                  <a:pt x="474" y="25"/>
                </a:lnTo>
                <a:lnTo>
                  <a:pt x="535" y="34"/>
                </a:lnTo>
                <a:lnTo>
                  <a:pt x="596" y="50"/>
                </a:lnTo>
                <a:lnTo>
                  <a:pt x="656" y="67"/>
                </a:lnTo>
                <a:lnTo>
                  <a:pt x="689" y="77"/>
                </a:lnTo>
                <a:lnTo>
                  <a:pt x="691" y="77"/>
                </a:lnTo>
                <a:lnTo>
                  <a:pt x="691" y="75"/>
                </a:lnTo>
                <a:lnTo>
                  <a:pt x="691" y="75"/>
                </a:lnTo>
                <a:lnTo>
                  <a:pt x="691" y="73"/>
                </a:lnTo>
                <a:lnTo>
                  <a:pt x="692" y="71"/>
                </a:lnTo>
                <a:lnTo>
                  <a:pt x="692" y="71"/>
                </a:lnTo>
                <a:lnTo>
                  <a:pt x="692" y="69"/>
                </a:lnTo>
                <a:lnTo>
                  <a:pt x="694" y="67"/>
                </a:lnTo>
                <a:close/>
                <a:moveTo>
                  <a:pt x="1" y="2502"/>
                </a:moveTo>
                <a:lnTo>
                  <a:pt x="26" y="2508"/>
                </a:lnTo>
                <a:lnTo>
                  <a:pt x="90" y="2517"/>
                </a:lnTo>
                <a:lnTo>
                  <a:pt x="153" y="2527"/>
                </a:lnTo>
                <a:lnTo>
                  <a:pt x="216" y="2531"/>
                </a:lnTo>
                <a:lnTo>
                  <a:pt x="282" y="2533"/>
                </a:lnTo>
                <a:lnTo>
                  <a:pt x="347" y="2531"/>
                </a:lnTo>
                <a:lnTo>
                  <a:pt x="412" y="2527"/>
                </a:lnTo>
                <a:lnTo>
                  <a:pt x="476" y="2517"/>
                </a:lnTo>
                <a:lnTo>
                  <a:pt x="537" y="2508"/>
                </a:lnTo>
                <a:lnTo>
                  <a:pt x="598" y="2492"/>
                </a:lnTo>
                <a:lnTo>
                  <a:pt x="658" y="2475"/>
                </a:lnTo>
                <a:lnTo>
                  <a:pt x="717" y="2456"/>
                </a:lnTo>
                <a:lnTo>
                  <a:pt x="740" y="2446"/>
                </a:lnTo>
                <a:lnTo>
                  <a:pt x="737" y="2437"/>
                </a:lnTo>
                <a:lnTo>
                  <a:pt x="714" y="2446"/>
                </a:lnTo>
                <a:lnTo>
                  <a:pt x="656" y="2465"/>
                </a:lnTo>
                <a:lnTo>
                  <a:pt x="596" y="2483"/>
                </a:lnTo>
                <a:lnTo>
                  <a:pt x="535" y="2496"/>
                </a:lnTo>
                <a:lnTo>
                  <a:pt x="474" y="2508"/>
                </a:lnTo>
                <a:lnTo>
                  <a:pt x="410" y="2515"/>
                </a:lnTo>
                <a:lnTo>
                  <a:pt x="347" y="2521"/>
                </a:lnTo>
                <a:lnTo>
                  <a:pt x="282" y="2521"/>
                </a:lnTo>
                <a:lnTo>
                  <a:pt x="216" y="2521"/>
                </a:lnTo>
                <a:lnTo>
                  <a:pt x="153" y="2515"/>
                </a:lnTo>
                <a:lnTo>
                  <a:pt x="90" y="2508"/>
                </a:lnTo>
                <a:lnTo>
                  <a:pt x="28" y="2496"/>
                </a:lnTo>
                <a:lnTo>
                  <a:pt x="0" y="2490"/>
                </a:lnTo>
                <a:lnTo>
                  <a:pt x="0" y="2490"/>
                </a:lnTo>
                <a:lnTo>
                  <a:pt x="1" y="2492"/>
                </a:lnTo>
                <a:lnTo>
                  <a:pt x="1" y="2494"/>
                </a:lnTo>
                <a:lnTo>
                  <a:pt x="1" y="2496"/>
                </a:lnTo>
                <a:lnTo>
                  <a:pt x="1" y="2496"/>
                </a:lnTo>
                <a:lnTo>
                  <a:pt x="1" y="2498"/>
                </a:lnTo>
                <a:lnTo>
                  <a:pt x="1" y="2500"/>
                </a:lnTo>
                <a:lnTo>
                  <a:pt x="1" y="2502"/>
                </a:lnTo>
                <a:close/>
              </a:path>
            </a:pathLst>
          </a:custGeom>
          <a:solidFill>
            <a:srgbClr val="12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Freeform 291"/>
          <p:cNvSpPr/>
          <p:nvPr/>
        </p:nvSpPr>
        <p:spPr>
          <a:xfrm>
            <a:off x="5896080" y="1243080"/>
            <a:ext cx="1172880" cy="4002120"/>
          </a:xfrm>
          <a:custGeom>
            <a:avLst/>
            <a:gdLst>
              <a:gd name="textAreaLeft" fmla="*/ 0 w 1172880"/>
              <a:gd name="textAreaRight" fmla="*/ 1173240 w 1172880"/>
              <a:gd name="textAreaTop" fmla="*/ 0 h 4002120"/>
              <a:gd name="textAreaBottom" fmla="*/ 4002480 h 4002120"/>
            </a:gdLst>
            <a:ahLst/>
            <a:rect l="textAreaLeft" t="textAreaTop" r="textAreaRight" b="textAreaBottom"/>
            <a:pathLst>
              <a:path w="739" h="2521">
                <a:moveTo>
                  <a:pt x="691" y="67"/>
                </a:moveTo>
                <a:lnTo>
                  <a:pt x="658" y="55"/>
                </a:lnTo>
                <a:lnTo>
                  <a:pt x="596" y="38"/>
                </a:lnTo>
                <a:lnTo>
                  <a:pt x="537" y="25"/>
                </a:lnTo>
                <a:lnTo>
                  <a:pt x="474" y="13"/>
                </a:lnTo>
                <a:lnTo>
                  <a:pt x="410" y="5"/>
                </a:lnTo>
                <a:lnTo>
                  <a:pt x="347" y="0"/>
                </a:lnTo>
                <a:lnTo>
                  <a:pt x="309" y="0"/>
                </a:lnTo>
                <a:lnTo>
                  <a:pt x="309" y="0"/>
                </a:lnTo>
                <a:lnTo>
                  <a:pt x="309" y="2"/>
                </a:lnTo>
                <a:lnTo>
                  <a:pt x="307" y="4"/>
                </a:lnTo>
                <a:lnTo>
                  <a:pt x="307" y="4"/>
                </a:lnTo>
                <a:lnTo>
                  <a:pt x="307" y="5"/>
                </a:lnTo>
                <a:lnTo>
                  <a:pt x="307" y="7"/>
                </a:lnTo>
                <a:lnTo>
                  <a:pt x="305" y="7"/>
                </a:lnTo>
                <a:lnTo>
                  <a:pt x="305" y="9"/>
                </a:lnTo>
                <a:lnTo>
                  <a:pt x="347" y="11"/>
                </a:lnTo>
                <a:lnTo>
                  <a:pt x="410" y="15"/>
                </a:lnTo>
                <a:lnTo>
                  <a:pt x="472" y="23"/>
                </a:lnTo>
                <a:lnTo>
                  <a:pt x="533" y="34"/>
                </a:lnTo>
                <a:lnTo>
                  <a:pt x="595" y="48"/>
                </a:lnTo>
                <a:lnTo>
                  <a:pt x="654" y="65"/>
                </a:lnTo>
                <a:lnTo>
                  <a:pt x="687" y="76"/>
                </a:lnTo>
                <a:lnTo>
                  <a:pt x="687" y="74"/>
                </a:lnTo>
                <a:lnTo>
                  <a:pt x="689" y="74"/>
                </a:lnTo>
                <a:lnTo>
                  <a:pt x="689" y="73"/>
                </a:lnTo>
                <a:lnTo>
                  <a:pt x="689" y="71"/>
                </a:lnTo>
                <a:lnTo>
                  <a:pt x="691" y="71"/>
                </a:lnTo>
                <a:lnTo>
                  <a:pt x="691" y="69"/>
                </a:lnTo>
                <a:lnTo>
                  <a:pt x="691" y="69"/>
                </a:lnTo>
                <a:lnTo>
                  <a:pt x="691" y="67"/>
                </a:lnTo>
                <a:close/>
                <a:moveTo>
                  <a:pt x="1" y="2490"/>
                </a:moveTo>
                <a:lnTo>
                  <a:pt x="28" y="2496"/>
                </a:lnTo>
                <a:lnTo>
                  <a:pt x="90" y="2507"/>
                </a:lnTo>
                <a:lnTo>
                  <a:pt x="153" y="2515"/>
                </a:lnTo>
                <a:lnTo>
                  <a:pt x="216" y="2519"/>
                </a:lnTo>
                <a:lnTo>
                  <a:pt x="282" y="2521"/>
                </a:lnTo>
                <a:lnTo>
                  <a:pt x="347" y="2519"/>
                </a:lnTo>
                <a:lnTo>
                  <a:pt x="410" y="2515"/>
                </a:lnTo>
                <a:lnTo>
                  <a:pt x="474" y="2507"/>
                </a:lnTo>
                <a:lnTo>
                  <a:pt x="537" y="2496"/>
                </a:lnTo>
                <a:lnTo>
                  <a:pt x="596" y="2481"/>
                </a:lnTo>
                <a:lnTo>
                  <a:pt x="658" y="2465"/>
                </a:lnTo>
                <a:lnTo>
                  <a:pt x="715" y="2444"/>
                </a:lnTo>
                <a:lnTo>
                  <a:pt x="739" y="2436"/>
                </a:lnTo>
                <a:lnTo>
                  <a:pt x="735" y="2427"/>
                </a:lnTo>
                <a:lnTo>
                  <a:pt x="712" y="2434"/>
                </a:lnTo>
                <a:lnTo>
                  <a:pt x="654" y="2454"/>
                </a:lnTo>
                <a:lnTo>
                  <a:pt x="595" y="2471"/>
                </a:lnTo>
                <a:lnTo>
                  <a:pt x="533" y="2484"/>
                </a:lnTo>
                <a:lnTo>
                  <a:pt x="472" y="2496"/>
                </a:lnTo>
                <a:lnTo>
                  <a:pt x="410" y="2504"/>
                </a:lnTo>
                <a:lnTo>
                  <a:pt x="347" y="2509"/>
                </a:lnTo>
                <a:lnTo>
                  <a:pt x="282" y="2511"/>
                </a:lnTo>
                <a:lnTo>
                  <a:pt x="218" y="2509"/>
                </a:lnTo>
                <a:lnTo>
                  <a:pt x="153" y="2504"/>
                </a:lnTo>
                <a:lnTo>
                  <a:pt x="92" y="2496"/>
                </a:lnTo>
                <a:lnTo>
                  <a:pt x="30" y="2484"/>
                </a:lnTo>
                <a:lnTo>
                  <a:pt x="0" y="2479"/>
                </a:lnTo>
                <a:lnTo>
                  <a:pt x="0" y="2479"/>
                </a:lnTo>
                <a:lnTo>
                  <a:pt x="0" y="2481"/>
                </a:lnTo>
                <a:lnTo>
                  <a:pt x="0" y="2482"/>
                </a:lnTo>
                <a:lnTo>
                  <a:pt x="0" y="2484"/>
                </a:lnTo>
                <a:lnTo>
                  <a:pt x="0" y="2484"/>
                </a:lnTo>
                <a:lnTo>
                  <a:pt x="1" y="2486"/>
                </a:lnTo>
                <a:lnTo>
                  <a:pt x="1" y="2488"/>
                </a:lnTo>
                <a:lnTo>
                  <a:pt x="1" y="2490"/>
                </a:lnTo>
                <a:close/>
              </a:path>
            </a:pathLst>
          </a:custGeom>
          <a:solidFill>
            <a:srgbClr val="13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reeform 292"/>
          <p:cNvSpPr/>
          <p:nvPr/>
        </p:nvSpPr>
        <p:spPr>
          <a:xfrm>
            <a:off x="5892840" y="1249200"/>
            <a:ext cx="1173240" cy="398628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3986280"/>
              <a:gd name="textAreaBottom" fmla="*/ 3986640 h 3986280"/>
            </a:gdLst>
            <a:ahLst/>
            <a:rect l="textAreaLeft" t="textAreaTop" r="textAreaRight" b="textAreaBottom"/>
            <a:pathLst>
              <a:path w="739" h="2511">
                <a:moveTo>
                  <a:pt x="691" y="67"/>
                </a:moveTo>
                <a:lnTo>
                  <a:pt x="658" y="57"/>
                </a:lnTo>
                <a:lnTo>
                  <a:pt x="598" y="40"/>
                </a:lnTo>
                <a:lnTo>
                  <a:pt x="537" y="24"/>
                </a:lnTo>
                <a:lnTo>
                  <a:pt x="476" y="15"/>
                </a:lnTo>
                <a:lnTo>
                  <a:pt x="412" y="5"/>
                </a:lnTo>
                <a:lnTo>
                  <a:pt x="349" y="1"/>
                </a:lnTo>
                <a:lnTo>
                  <a:pt x="309" y="0"/>
                </a:lnTo>
                <a:lnTo>
                  <a:pt x="309" y="1"/>
                </a:lnTo>
                <a:lnTo>
                  <a:pt x="309" y="3"/>
                </a:lnTo>
                <a:lnTo>
                  <a:pt x="307" y="3"/>
                </a:lnTo>
                <a:lnTo>
                  <a:pt x="307" y="5"/>
                </a:lnTo>
                <a:lnTo>
                  <a:pt x="307" y="7"/>
                </a:lnTo>
                <a:lnTo>
                  <a:pt x="305" y="9"/>
                </a:lnTo>
                <a:lnTo>
                  <a:pt x="305" y="9"/>
                </a:lnTo>
                <a:lnTo>
                  <a:pt x="305" y="11"/>
                </a:lnTo>
                <a:lnTo>
                  <a:pt x="347" y="13"/>
                </a:lnTo>
                <a:lnTo>
                  <a:pt x="410" y="17"/>
                </a:lnTo>
                <a:lnTo>
                  <a:pt x="474" y="24"/>
                </a:lnTo>
                <a:lnTo>
                  <a:pt x="535" y="36"/>
                </a:lnTo>
                <a:lnTo>
                  <a:pt x="595" y="49"/>
                </a:lnTo>
                <a:lnTo>
                  <a:pt x="654" y="67"/>
                </a:lnTo>
                <a:lnTo>
                  <a:pt x="687" y="78"/>
                </a:lnTo>
                <a:lnTo>
                  <a:pt x="687" y="76"/>
                </a:lnTo>
                <a:lnTo>
                  <a:pt x="689" y="74"/>
                </a:lnTo>
                <a:lnTo>
                  <a:pt x="689" y="74"/>
                </a:lnTo>
                <a:lnTo>
                  <a:pt x="689" y="72"/>
                </a:lnTo>
                <a:lnTo>
                  <a:pt x="689" y="70"/>
                </a:lnTo>
                <a:lnTo>
                  <a:pt x="691" y="70"/>
                </a:lnTo>
                <a:lnTo>
                  <a:pt x="691" y="69"/>
                </a:lnTo>
                <a:lnTo>
                  <a:pt x="691" y="67"/>
                </a:lnTo>
                <a:close/>
                <a:moveTo>
                  <a:pt x="2" y="2480"/>
                </a:moveTo>
                <a:lnTo>
                  <a:pt x="30" y="2486"/>
                </a:lnTo>
                <a:lnTo>
                  <a:pt x="92" y="2498"/>
                </a:lnTo>
                <a:lnTo>
                  <a:pt x="155" y="2505"/>
                </a:lnTo>
                <a:lnTo>
                  <a:pt x="218" y="2511"/>
                </a:lnTo>
                <a:lnTo>
                  <a:pt x="284" y="2511"/>
                </a:lnTo>
                <a:lnTo>
                  <a:pt x="349" y="2511"/>
                </a:lnTo>
                <a:lnTo>
                  <a:pt x="412" y="2505"/>
                </a:lnTo>
                <a:lnTo>
                  <a:pt x="476" y="2498"/>
                </a:lnTo>
                <a:lnTo>
                  <a:pt x="537" y="2486"/>
                </a:lnTo>
                <a:lnTo>
                  <a:pt x="598" y="2473"/>
                </a:lnTo>
                <a:lnTo>
                  <a:pt x="658" y="2455"/>
                </a:lnTo>
                <a:lnTo>
                  <a:pt x="716" y="2436"/>
                </a:lnTo>
                <a:lnTo>
                  <a:pt x="739" y="2427"/>
                </a:lnTo>
                <a:lnTo>
                  <a:pt x="733" y="2417"/>
                </a:lnTo>
                <a:lnTo>
                  <a:pt x="712" y="2425"/>
                </a:lnTo>
                <a:lnTo>
                  <a:pt x="654" y="2446"/>
                </a:lnTo>
                <a:lnTo>
                  <a:pt x="595" y="2461"/>
                </a:lnTo>
                <a:lnTo>
                  <a:pt x="535" y="2477"/>
                </a:lnTo>
                <a:lnTo>
                  <a:pt x="474" y="2486"/>
                </a:lnTo>
                <a:lnTo>
                  <a:pt x="410" y="2496"/>
                </a:lnTo>
                <a:lnTo>
                  <a:pt x="347" y="2500"/>
                </a:lnTo>
                <a:lnTo>
                  <a:pt x="284" y="2501"/>
                </a:lnTo>
                <a:lnTo>
                  <a:pt x="220" y="2500"/>
                </a:lnTo>
                <a:lnTo>
                  <a:pt x="157" y="2496"/>
                </a:lnTo>
                <a:lnTo>
                  <a:pt x="94" y="2486"/>
                </a:lnTo>
                <a:lnTo>
                  <a:pt x="32" y="2477"/>
                </a:lnTo>
                <a:lnTo>
                  <a:pt x="0" y="2469"/>
                </a:lnTo>
                <a:lnTo>
                  <a:pt x="0" y="2469"/>
                </a:lnTo>
                <a:lnTo>
                  <a:pt x="2" y="2471"/>
                </a:lnTo>
                <a:lnTo>
                  <a:pt x="2" y="2473"/>
                </a:lnTo>
                <a:lnTo>
                  <a:pt x="2" y="2475"/>
                </a:lnTo>
                <a:lnTo>
                  <a:pt x="2" y="2475"/>
                </a:lnTo>
                <a:lnTo>
                  <a:pt x="2" y="2477"/>
                </a:lnTo>
                <a:lnTo>
                  <a:pt x="2" y="2478"/>
                </a:lnTo>
                <a:lnTo>
                  <a:pt x="2" y="2480"/>
                </a:lnTo>
                <a:close/>
              </a:path>
            </a:pathLst>
          </a:custGeom>
          <a:solidFill>
            <a:srgbClr val="14a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reeform 293"/>
          <p:cNvSpPr/>
          <p:nvPr/>
        </p:nvSpPr>
        <p:spPr>
          <a:xfrm>
            <a:off x="5892840" y="1257480"/>
            <a:ext cx="1170000" cy="397188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3971880"/>
              <a:gd name="textAreaBottom" fmla="*/ 3972240 h 3971880"/>
            </a:gdLst>
            <a:ahLst/>
            <a:rect l="textAreaLeft" t="textAreaTop" r="textAreaRight" b="textAreaBottom"/>
            <a:pathLst>
              <a:path w="737" h="2502">
                <a:moveTo>
                  <a:pt x="689" y="67"/>
                </a:moveTo>
                <a:lnTo>
                  <a:pt x="656" y="56"/>
                </a:lnTo>
                <a:lnTo>
                  <a:pt x="597" y="39"/>
                </a:lnTo>
                <a:lnTo>
                  <a:pt x="535" y="25"/>
                </a:lnTo>
                <a:lnTo>
                  <a:pt x="474" y="14"/>
                </a:lnTo>
                <a:lnTo>
                  <a:pt x="412" y="6"/>
                </a:lnTo>
                <a:lnTo>
                  <a:pt x="349" y="2"/>
                </a:lnTo>
                <a:lnTo>
                  <a:pt x="307" y="0"/>
                </a:lnTo>
                <a:lnTo>
                  <a:pt x="307" y="2"/>
                </a:lnTo>
                <a:lnTo>
                  <a:pt x="305" y="4"/>
                </a:lnTo>
                <a:lnTo>
                  <a:pt x="305" y="4"/>
                </a:lnTo>
                <a:lnTo>
                  <a:pt x="305" y="6"/>
                </a:lnTo>
                <a:lnTo>
                  <a:pt x="303" y="8"/>
                </a:lnTo>
                <a:lnTo>
                  <a:pt x="303" y="8"/>
                </a:lnTo>
                <a:lnTo>
                  <a:pt x="303" y="10"/>
                </a:lnTo>
                <a:lnTo>
                  <a:pt x="301" y="12"/>
                </a:lnTo>
                <a:lnTo>
                  <a:pt x="347" y="12"/>
                </a:lnTo>
                <a:lnTo>
                  <a:pt x="410" y="18"/>
                </a:lnTo>
                <a:lnTo>
                  <a:pt x="472" y="25"/>
                </a:lnTo>
                <a:lnTo>
                  <a:pt x="533" y="37"/>
                </a:lnTo>
                <a:lnTo>
                  <a:pt x="595" y="50"/>
                </a:lnTo>
                <a:lnTo>
                  <a:pt x="652" y="65"/>
                </a:lnTo>
                <a:lnTo>
                  <a:pt x="685" y="77"/>
                </a:lnTo>
                <a:lnTo>
                  <a:pt x="685" y="75"/>
                </a:lnTo>
                <a:lnTo>
                  <a:pt x="685" y="75"/>
                </a:lnTo>
                <a:lnTo>
                  <a:pt x="687" y="73"/>
                </a:lnTo>
                <a:lnTo>
                  <a:pt x="687" y="73"/>
                </a:lnTo>
                <a:lnTo>
                  <a:pt x="687" y="71"/>
                </a:lnTo>
                <a:lnTo>
                  <a:pt x="689" y="69"/>
                </a:lnTo>
                <a:lnTo>
                  <a:pt x="689" y="69"/>
                </a:lnTo>
                <a:lnTo>
                  <a:pt x="689" y="67"/>
                </a:lnTo>
                <a:close/>
                <a:moveTo>
                  <a:pt x="2" y="2470"/>
                </a:moveTo>
                <a:lnTo>
                  <a:pt x="32" y="2475"/>
                </a:lnTo>
                <a:lnTo>
                  <a:pt x="94" y="2487"/>
                </a:lnTo>
                <a:lnTo>
                  <a:pt x="155" y="2495"/>
                </a:lnTo>
                <a:lnTo>
                  <a:pt x="220" y="2500"/>
                </a:lnTo>
                <a:lnTo>
                  <a:pt x="284" y="2502"/>
                </a:lnTo>
                <a:lnTo>
                  <a:pt x="349" y="2500"/>
                </a:lnTo>
                <a:lnTo>
                  <a:pt x="412" y="2495"/>
                </a:lnTo>
                <a:lnTo>
                  <a:pt x="474" y="2487"/>
                </a:lnTo>
                <a:lnTo>
                  <a:pt x="535" y="2475"/>
                </a:lnTo>
                <a:lnTo>
                  <a:pt x="597" y="2462"/>
                </a:lnTo>
                <a:lnTo>
                  <a:pt x="656" y="2445"/>
                </a:lnTo>
                <a:lnTo>
                  <a:pt x="714" y="2425"/>
                </a:lnTo>
                <a:lnTo>
                  <a:pt x="737" y="2418"/>
                </a:lnTo>
                <a:lnTo>
                  <a:pt x="731" y="2408"/>
                </a:lnTo>
                <a:lnTo>
                  <a:pt x="710" y="2416"/>
                </a:lnTo>
                <a:lnTo>
                  <a:pt x="652" y="2435"/>
                </a:lnTo>
                <a:lnTo>
                  <a:pt x="595" y="2452"/>
                </a:lnTo>
                <a:lnTo>
                  <a:pt x="533" y="2466"/>
                </a:lnTo>
                <a:lnTo>
                  <a:pt x="472" y="2477"/>
                </a:lnTo>
                <a:lnTo>
                  <a:pt x="410" y="2485"/>
                </a:lnTo>
                <a:lnTo>
                  <a:pt x="347" y="2489"/>
                </a:lnTo>
                <a:lnTo>
                  <a:pt x="284" y="2491"/>
                </a:lnTo>
                <a:lnTo>
                  <a:pt x="220" y="2489"/>
                </a:lnTo>
                <a:lnTo>
                  <a:pt x="157" y="2485"/>
                </a:lnTo>
                <a:lnTo>
                  <a:pt x="96" y="2477"/>
                </a:lnTo>
                <a:lnTo>
                  <a:pt x="34" y="2466"/>
                </a:lnTo>
                <a:lnTo>
                  <a:pt x="0" y="2458"/>
                </a:lnTo>
                <a:lnTo>
                  <a:pt x="0" y="2460"/>
                </a:lnTo>
                <a:lnTo>
                  <a:pt x="0" y="2460"/>
                </a:lnTo>
                <a:lnTo>
                  <a:pt x="0" y="2462"/>
                </a:lnTo>
                <a:lnTo>
                  <a:pt x="0" y="2464"/>
                </a:lnTo>
                <a:lnTo>
                  <a:pt x="0" y="2464"/>
                </a:lnTo>
                <a:lnTo>
                  <a:pt x="2" y="2466"/>
                </a:lnTo>
                <a:lnTo>
                  <a:pt x="2" y="2468"/>
                </a:lnTo>
                <a:lnTo>
                  <a:pt x="2" y="2470"/>
                </a:lnTo>
                <a:close/>
              </a:path>
            </a:pathLst>
          </a:custGeom>
          <a:solidFill>
            <a:srgbClr val="15a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Freeform 294"/>
          <p:cNvSpPr/>
          <p:nvPr/>
        </p:nvSpPr>
        <p:spPr>
          <a:xfrm>
            <a:off x="5889600" y="1266840"/>
            <a:ext cx="1166760" cy="3952800"/>
          </a:xfrm>
          <a:custGeom>
            <a:avLst/>
            <a:gdLst>
              <a:gd name="textAreaLeft" fmla="*/ 0 w 1166760"/>
              <a:gd name="textAreaRight" fmla="*/ 1167120 w 1166760"/>
              <a:gd name="textAreaTop" fmla="*/ 0 h 3952800"/>
              <a:gd name="textAreaBottom" fmla="*/ 3952800 h 3952800"/>
            </a:gdLst>
            <a:ahLst/>
            <a:rect l="textAreaLeft" t="textAreaTop" r="textAreaRight" b="textAreaBottom"/>
            <a:pathLst>
              <a:path w="735" h="2490">
                <a:moveTo>
                  <a:pt x="689" y="67"/>
                </a:moveTo>
                <a:lnTo>
                  <a:pt x="656" y="56"/>
                </a:lnTo>
                <a:lnTo>
                  <a:pt x="597" y="38"/>
                </a:lnTo>
                <a:lnTo>
                  <a:pt x="537" y="25"/>
                </a:lnTo>
                <a:lnTo>
                  <a:pt x="476" y="13"/>
                </a:lnTo>
                <a:lnTo>
                  <a:pt x="412" y="6"/>
                </a:lnTo>
                <a:lnTo>
                  <a:pt x="349" y="0"/>
                </a:lnTo>
                <a:lnTo>
                  <a:pt x="307" y="0"/>
                </a:lnTo>
                <a:lnTo>
                  <a:pt x="305" y="2"/>
                </a:lnTo>
                <a:lnTo>
                  <a:pt x="305" y="2"/>
                </a:lnTo>
                <a:lnTo>
                  <a:pt x="305" y="4"/>
                </a:lnTo>
                <a:lnTo>
                  <a:pt x="303" y="6"/>
                </a:lnTo>
                <a:lnTo>
                  <a:pt x="303" y="6"/>
                </a:lnTo>
                <a:lnTo>
                  <a:pt x="303" y="8"/>
                </a:lnTo>
                <a:lnTo>
                  <a:pt x="301" y="10"/>
                </a:lnTo>
                <a:lnTo>
                  <a:pt x="301" y="10"/>
                </a:lnTo>
                <a:lnTo>
                  <a:pt x="349" y="12"/>
                </a:lnTo>
                <a:lnTo>
                  <a:pt x="412" y="17"/>
                </a:lnTo>
                <a:lnTo>
                  <a:pt x="474" y="25"/>
                </a:lnTo>
                <a:lnTo>
                  <a:pt x="535" y="35"/>
                </a:lnTo>
                <a:lnTo>
                  <a:pt x="595" y="48"/>
                </a:lnTo>
                <a:lnTo>
                  <a:pt x="652" y="65"/>
                </a:lnTo>
                <a:lnTo>
                  <a:pt x="683" y="77"/>
                </a:lnTo>
                <a:lnTo>
                  <a:pt x="685" y="75"/>
                </a:lnTo>
                <a:lnTo>
                  <a:pt x="685" y="73"/>
                </a:lnTo>
                <a:lnTo>
                  <a:pt x="685" y="73"/>
                </a:lnTo>
                <a:lnTo>
                  <a:pt x="687" y="71"/>
                </a:lnTo>
                <a:lnTo>
                  <a:pt x="687" y="69"/>
                </a:lnTo>
                <a:lnTo>
                  <a:pt x="687" y="69"/>
                </a:lnTo>
                <a:lnTo>
                  <a:pt x="689" y="67"/>
                </a:lnTo>
                <a:lnTo>
                  <a:pt x="689" y="67"/>
                </a:lnTo>
                <a:close/>
                <a:moveTo>
                  <a:pt x="2" y="2458"/>
                </a:moveTo>
                <a:lnTo>
                  <a:pt x="34" y="2466"/>
                </a:lnTo>
                <a:lnTo>
                  <a:pt x="96" y="2475"/>
                </a:lnTo>
                <a:lnTo>
                  <a:pt x="159" y="2485"/>
                </a:lnTo>
                <a:lnTo>
                  <a:pt x="222" y="2489"/>
                </a:lnTo>
                <a:lnTo>
                  <a:pt x="286" y="2490"/>
                </a:lnTo>
                <a:lnTo>
                  <a:pt x="349" y="2489"/>
                </a:lnTo>
                <a:lnTo>
                  <a:pt x="412" y="2485"/>
                </a:lnTo>
                <a:lnTo>
                  <a:pt x="476" y="2475"/>
                </a:lnTo>
                <a:lnTo>
                  <a:pt x="537" y="2466"/>
                </a:lnTo>
                <a:lnTo>
                  <a:pt x="597" y="2450"/>
                </a:lnTo>
                <a:lnTo>
                  <a:pt x="656" y="2435"/>
                </a:lnTo>
                <a:lnTo>
                  <a:pt x="714" y="2414"/>
                </a:lnTo>
                <a:lnTo>
                  <a:pt x="735" y="2406"/>
                </a:lnTo>
                <a:lnTo>
                  <a:pt x="731" y="2396"/>
                </a:lnTo>
                <a:lnTo>
                  <a:pt x="710" y="2404"/>
                </a:lnTo>
                <a:lnTo>
                  <a:pt x="652" y="2423"/>
                </a:lnTo>
                <a:lnTo>
                  <a:pt x="595" y="2441"/>
                </a:lnTo>
                <a:lnTo>
                  <a:pt x="535" y="2454"/>
                </a:lnTo>
                <a:lnTo>
                  <a:pt x="474" y="2466"/>
                </a:lnTo>
                <a:lnTo>
                  <a:pt x="412" y="2473"/>
                </a:lnTo>
                <a:lnTo>
                  <a:pt x="349" y="2477"/>
                </a:lnTo>
                <a:lnTo>
                  <a:pt x="286" y="2479"/>
                </a:lnTo>
                <a:lnTo>
                  <a:pt x="222" y="2477"/>
                </a:lnTo>
                <a:lnTo>
                  <a:pt x="159" y="2473"/>
                </a:lnTo>
                <a:lnTo>
                  <a:pt x="98" y="2466"/>
                </a:lnTo>
                <a:lnTo>
                  <a:pt x="36" y="2454"/>
                </a:lnTo>
                <a:lnTo>
                  <a:pt x="0" y="2446"/>
                </a:lnTo>
                <a:lnTo>
                  <a:pt x="0" y="2448"/>
                </a:lnTo>
                <a:lnTo>
                  <a:pt x="2" y="2448"/>
                </a:lnTo>
                <a:lnTo>
                  <a:pt x="2" y="2450"/>
                </a:lnTo>
                <a:lnTo>
                  <a:pt x="2" y="2452"/>
                </a:lnTo>
                <a:lnTo>
                  <a:pt x="2" y="2454"/>
                </a:lnTo>
                <a:lnTo>
                  <a:pt x="2" y="2454"/>
                </a:lnTo>
                <a:lnTo>
                  <a:pt x="2" y="2456"/>
                </a:lnTo>
                <a:lnTo>
                  <a:pt x="2" y="2458"/>
                </a:lnTo>
                <a:close/>
              </a:path>
            </a:pathLst>
          </a:custGeom>
          <a:solidFill>
            <a:srgbClr val="16a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Freeform 295"/>
          <p:cNvSpPr/>
          <p:nvPr/>
        </p:nvSpPr>
        <p:spPr>
          <a:xfrm>
            <a:off x="5889600" y="1276200"/>
            <a:ext cx="1163520" cy="393552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3935520"/>
              <a:gd name="textAreaBottom" fmla="*/ 3935880 h 3935520"/>
            </a:gdLst>
            <a:ahLst/>
            <a:rect l="textAreaLeft" t="textAreaTop" r="textAreaRight" b="textAreaBottom"/>
            <a:pathLst>
              <a:path w="733" h="2479">
                <a:moveTo>
                  <a:pt x="687" y="65"/>
                </a:moveTo>
                <a:lnTo>
                  <a:pt x="654" y="53"/>
                </a:lnTo>
                <a:lnTo>
                  <a:pt x="597" y="38"/>
                </a:lnTo>
                <a:lnTo>
                  <a:pt x="535" y="25"/>
                </a:lnTo>
                <a:lnTo>
                  <a:pt x="474" y="13"/>
                </a:lnTo>
                <a:lnTo>
                  <a:pt x="412" y="6"/>
                </a:lnTo>
                <a:lnTo>
                  <a:pt x="349" y="0"/>
                </a:lnTo>
                <a:lnTo>
                  <a:pt x="303" y="0"/>
                </a:lnTo>
                <a:lnTo>
                  <a:pt x="303" y="0"/>
                </a:lnTo>
                <a:lnTo>
                  <a:pt x="303" y="2"/>
                </a:lnTo>
                <a:lnTo>
                  <a:pt x="301" y="4"/>
                </a:lnTo>
                <a:lnTo>
                  <a:pt x="301" y="4"/>
                </a:lnTo>
                <a:lnTo>
                  <a:pt x="301" y="6"/>
                </a:lnTo>
                <a:lnTo>
                  <a:pt x="299" y="7"/>
                </a:lnTo>
                <a:lnTo>
                  <a:pt x="299" y="7"/>
                </a:lnTo>
                <a:lnTo>
                  <a:pt x="299" y="9"/>
                </a:lnTo>
                <a:lnTo>
                  <a:pt x="349" y="11"/>
                </a:lnTo>
                <a:lnTo>
                  <a:pt x="412" y="15"/>
                </a:lnTo>
                <a:lnTo>
                  <a:pt x="474" y="23"/>
                </a:lnTo>
                <a:lnTo>
                  <a:pt x="533" y="34"/>
                </a:lnTo>
                <a:lnTo>
                  <a:pt x="593" y="48"/>
                </a:lnTo>
                <a:lnTo>
                  <a:pt x="652" y="65"/>
                </a:lnTo>
                <a:lnTo>
                  <a:pt x="681" y="75"/>
                </a:lnTo>
                <a:lnTo>
                  <a:pt x="683" y="73"/>
                </a:lnTo>
                <a:lnTo>
                  <a:pt x="683" y="73"/>
                </a:lnTo>
                <a:lnTo>
                  <a:pt x="683" y="71"/>
                </a:lnTo>
                <a:lnTo>
                  <a:pt x="683" y="71"/>
                </a:lnTo>
                <a:lnTo>
                  <a:pt x="685" y="69"/>
                </a:lnTo>
                <a:lnTo>
                  <a:pt x="685" y="67"/>
                </a:lnTo>
                <a:lnTo>
                  <a:pt x="685" y="67"/>
                </a:lnTo>
                <a:lnTo>
                  <a:pt x="687" y="65"/>
                </a:lnTo>
                <a:close/>
                <a:moveTo>
                  <a:pt x="2" y="2446"/>
                </a:moveTo>
                <a:lnTo>
                  <a:pt x="36" y="2454"/>
                </a:lnTo>
                <a:lnTo>
                  <a:pt x="98" y="2465"/>
                </a:lnTo>
                <a:lnTo>
                  <a:pt x="159" y="2473"/>
                </a:lnTo>
                <a:lnTo>
                  <a:pt x="222" y="2477"/>
                </a:lnTo>
                <a:lnTo>
                  <a:pt x="286" y="2479"/>
                </a:lnTo>
                <a:lnTo>
                  <a:pt x="349" y="2477"/>
                </a:lnTo>
                <a:lnTo>
                  <a:pt x="412" y="2473"/>
                </a:lnTo>
                <a:lnTo>
                  <a:pt x="474" y="2465"/>
                </a:lnTo>
                <a:lnTo>
                  <a:pt x="535" y="2454"/>
                </a:lnTo>
                <a:lnTo>
                  <a:pt x="597" y="2440"/>
                </a:lnTo>
                <a:lnTo>
                  <a:pt x="654" y="2423"/>
                </a:lnTo>
                <a:lnTo>
                  <a:pt x="712" y="2404"/>
                </a:lnTo>
                <a:lnTo>
                  <a:pt x="733" y="2396"/>
                </a:lnTo>
                <a:lnTo>
                  <a:pt x="729" y="2387"/>
                </a:lnTo>
                <a:lnTo>
                  <a:pt x="708" y="2394"/>
                </a:lnTo>
                <a:lnTo>
                  <a:pt x="652" y="2413"/>
                </a:lnTo>
                <a:lnTo>
                  <a:pt x="593" y="2429"/>
                </a:lnTo>
                <a:lnTo>
                  <a:pt x="533" y="2444"/>
                </a:lnTo>
                <a:lnTo>
                  <a:pt x="474" y="2454"/>
                </a:lnTo>
                <a:lnTo>
                  <a:pt x="412" y="2461"/>
                </a:lnTo>
                <a:lnTo>
                  <a:pt x="349" y="2467"/>
                </a:lnTo>
                <a:lnTo>
                  <a:pt x="286" y="2469"/>
                </a:lnTo>
                <a:lnTo>
                  <a:pt x="222" y="2467"/>
                </a:lnTo>
                <a:lnTo>
                  <a:pt x="161" y="2461"/>
                </a:lnTo>
                <a:lnTo>
                  <a:pt x="100" y="2454"/>
                </a:lnTo>
                <a:lnTo>
                  <a:pt x="38" y="2444"/>
                </a:lnTo>
                <a:lnTo>
                  <a:pt x="0" y="2435"/>
                </a:lnTo>
                <a:lnTo>
                  <a:pt x="0" y="2436"/>
                </a:lnTo>
                <a:lnTo>
                  <a:pt x="0" y="2436"/>
                </a:lnTo>
                <a:lnTo>
                  <a:pt x="0" y="2438"/>
                </a:lnTo>
                <a:lnTo>
                  <a:pt x="0" y="2440"/>
                </a:lnTo>
                <a:lnTo>
                  <a:pt x="0" y="2442"/>
                </a:lnTo>
                <a:lnTo>
                  <a:pt x="2" y="2442"/>
                </a:lnTo>
                <a:lnTo>
                  <a:pt x="2" y="2444"/>
                </a:lnTo>
                <a:lnTo>
                  <a:pt x="2" y="2446"/>
                </a:lnTo>
                <a:close/>
              </a:path>
            </a:pathLst>
          </a:custGeom>
          <a:solidFill>
            <a:srgbClr val="17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Freeform 296"/>
          <p:cNvSpPr/>
          <p:nvPr/>
        </p:nvSpPr>
        <p:spPr>
          <a:xfrm>
            <a:off x="5886360" y="1282680"/>
            <a:ext cx="1163880" cy="3919680"/>
          </a:xfrm>
          <a:custGeom>
            <a:avLst/>
            <a:gdLst>
              <a:gd name="textAreaLeft" fmla="*/ 0 w 1163880"/>
              <a:gd name="textAreaRight" fmla="*/ 1164240 w 1163880"/>
              <a:gd name="textAreaTop" fmla="*/ 0 h 3919680"/>
              <a:gd name="textAreaBottom" fmla="*/ 3920040 h 3919680"/>
            </a:gdLst>
            <a:ahLst/>
            <a:rect l="textAreaLeft" t="textAreaTop" r="textAreaRight" b="textAreaBottom"/>
            <a:pathLst>
              <a:path w="733" h="2469">
                <a:moveTo>
                  <a:pt x="685" y="67"/>
                </a:moveTo>
                <a:lnTo>
                  <a:pt x="654" y="55"/>
                </a:lnTo>
                <a:lnTo>
                  <a:pt x="597" y="38"/>
                </a:lnTo>
                <a:lnTo>
                  <a:pt x="537" y="25"/>
                </a:lnTo>
                <a:lnTo>
                  <a:pt x="476" y="15"/>
                </a:lnTo>
                <a:lnTo>
                  <a:pt x="414" y="7"/>
                </a:lnTo>
                <a:lnTo>
                  <a:pt x="351" y="2"/>
                </a:lnTo>
                <a:lnTo>
                  <a:pt x="303" y="0"/>
                </a:lnTo>
                <a:lnTo>
                  <a:pt x="303" y="2"/>
                </a:lnTo>
                <a:lnTo>
                  <a:pt x="301" y="3"/>
                </a:lnTo>
                <a:lnTo>
                  <a:pt x="301" y="3"/>
                </a:lnTo>
                <a:lnTo>
                  <a:pt x="301" y="5"/>
                </a:lnTo>
                <a:lnTo>
                  <a:pt x="299" y="7"/>
                </a:lnTo>
                <a:lnTo>
                  <a:pt x="299" y="9"/>
                </a:lnTo>
                <a:lnTo>
                  <a:pt x="299" y="9"/>
                </a:lnTo>
                <a:lnTo>
                  <a:pt x="299" y="11"/>
                </a:lnTo>
                <a:lnTo>
                  <a:pt x="351" y="13"/>
                </a:lnTo>
                <a:lnTo>
                  <a:pt x="412" y="17"/>
                </a:lnTo>
                <a:lnTo>
                  <a:pt x="474" y="25"/>
                </a:lnTo>
                <a:lnTo>
                  <a:pt x="535" y="36"/>
                </a:lnTo>
                <a:lnTo>
                  <a:pt x="593" y="49"/>
                </a:lnTo>
                <a:lnTo>
                  <a:pt x="652" y="65"/>
                </a:lnTo>
                <a:lnTo>
                  <a:pt x="681" y="76"/>
                </a:lnTo>
                <a:lnTo>
                  <a:pt x="681" y="74"/>
                </a:lnTo>
                <a:lnTo>
                  <a:pt x="683" y="73"/>
                </a:lnTo>
                <a:lnTo>
                  <a:pt x="683" y="73"/>
                </a:lnTo>
                <a:lnTo>
                  <a:pt x="683" y="71"/>
                </a:lnTo>
                <a:lnTo>
                  <a:pt x="685" y="69"/>
                </a:lnTo>
                <a:lnTo>
                  <a:pt x="685" y="69"/>
                </a:lnTo>
                <a:lnTo>
                  <a:pt x="685" y="67"/>
                </a:lnTo>
                <a:lnTo>
                  <a:pt x="685" y="67"/>
                </a:lnTo>
                <a:close/>
                <a:moveTo>
                  <a:pt x="2" y="2436"/>
                </a:moveTo>
                <a:lnTo>
                  <a:pt x="38" y="2444"/>
                </a:lnTo>
                <a:lnTo>
                  <a:pt x="100" y="2456"/>
                </a:lnTo>
                <a:lnTo>
                  <a:pt x="161" y="2463"/>
                </a:lnTo>
                <a:lnTo>
                  <a:pt x="224" y="2467"/>
                </a:lnTo>
                <a:lnTo>
                  <a:pt x="288" y="2469"/>
                </a:lnTo>
                <a:lnTo>
                  <a:pt x="351" y="2467"/>
                </a:lnTo>
                <a:lnTo>
                  <a:pt x="414" y="2463"/>
                </a:lnTo>
                <a:lnTo>
                  <a:pt x="476" y="2456"/>
                </a:lnTo>
                <a:lnTo>
                  <a:pt x="537" y="2444"/>
                </a:lnTo>
                <a:lnTo>
                  <a:pt x="597" y="2431"/>
                </a:lnTo>
                <a:lnTo>
                  <a:pt x="654" y="2413"/>
                </a:lnTo>
                <a:lnTo>
                  <a:pt x="712" y="2394"/>
                </a:lnTo>
                <a:lnTo>
                  <a:pt x="733" y="2386"/>
                </a:lnTo>
                <a:lnTo>
                  <a:pt x="729" y="2377"/>
                </a:lnTo>
                <a:lnTo>
                  <a:pt x="708" y="2385"/>
                </a:lnTo>
                <a:lnTo>
                  <a:pt x="652" y="2404"/>
                </a:lnTo>
                <a:lnTo>
                  <a:pt x="593" y="2421"/>
                </a:lnTo>
                <a:lnTo>
                  <a:pt x="535" y="2434"/>
                </a:lnTo>
                <a:lnTo>
                  <a:pt x="474" y="2444"/>
                </a:lnTo>
                <a:lnTo>
                  <a:pt x="412" y="2452"/>
                </a:lnTo>
                <a:lnTo>
                  <a:pt x="351" y="2457"/>
                </a:lnTo>
                <a:lnTo>
                  <a:pt x="288" y="2459"/>
                </a:lnTo>
                <a:lnTo>
                  <a:pt x="224" y="2457"/>
                </a:lnTo>
                <a:lnTo>
                  <a:pt x="163" y="2452"/>
                </a:lnTo>
                <a:lnTo>
                  <a:pt x="102" y="2444"/>
                </a:lnTo>
                <a:lnTo>
                  <a:pt x="42" y="2434"/>
                </a:lnTo>
                <a:lnTo>
                  <a:pt x="0" y="2425"/>
                </a:lnTo>
                <a:lnTo>
                  <a:pt x="0" y="2427"/>
                </a:lnTo>
                <a:lnTo>
                  <a:pt x="0" y="2427"/>
                </a:lnTo>
                <a:lnTo>
                  <a:pt x="2" y="2429"/>
                </a:lnTo>
                <a:lnTo>
                  <a:pt x="2" y="2431"/>
                </a:lnTo>
                <a:lnTo>
                  <a:pt x="2" y="2432"/>
                </a:lnTo>
                <a:lnTo>
                  <a:pt x="2" y="2432"/>
                </a:lnTo>
                <a:lnTo>
                  <a:pt x="2" y="2434"/>
                </a:lnTo>
                <a:lnTo>
                  <a:pt x="2" y="2436"/>
                </a:lnTo>
                <a:close/>
              </a:path>
            </a:pathLst>
          </a:custGeom>
          <a:solidFill>
            <a:srgbClr val="18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reeform 297"/>
          <p:cNvSpPr/>
          <p:nvPr/>
        </p:nvSpPr>
        <p:spPr>
          <a:xfrm>
            <a:off x="5886360" y="1290600"/>
            <a:ext cx="1160640" cy="390528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3905280"/>
              <a:gd name="textAreaBottom" fmla="*/ 3905640 h 3905280"/>
            </a:gdLst>
            <a:ahLst/>
            <a:rect l="textAreaLeft" t="textAreaTop" r="textAreaRight" b="textAreaBottom"/>
            <a:pathLst>
              <a:path w="731" h="2460">
                <a:moveTo>
                  <a:pt x="683" y="66"/>
                </a:moveTo>
                <a:lnTo>
                  <a:pt x="654" y="56"/>
                </a:lnTo>
                <a:lnTo>
                  <a:pt x="595" y="39"/>
                </a:lnTo>
                <a:lnTo>
                  <a:pt x="535" y="25"/>
                </a:lnTo>
                <a:lnTo>
                  <a:pt x="476" y="14"/>
                </a:lnTo>
                <a:lnTo>
                  <a:pt x="414" y="6"/>
                </a:lnTo>
                <a:lnTo>
                  <a:pt x="351" y="2"/>
                </a:lnTo>
                <a:lnTo>
                  <a:pt x="301" y="0"/>
                </a:lnTo>
                <a:lnTo>
                  <a:pt x="299" y="2"/>
                </a:lnTo>
                <a:lnTo>
                  <a:pt x="299" y="4"/>
                </a:lnTo>
                <a:lnTo>
                  <a:pt x="299" y="4"/>
                </a:lnTo>
                <a:lnTo>
                  <a:pt x="299" y="6"/>
                </a:lnTo>
                <a:lnTo>
                  <a:pt x="297" y="8"/>
                </a:lnTo>
                <a:lnTo>
                  <a:pt x="297" y="8"/>
                </a:lnTo>
                <a:lnTo>
                  <a:pt x="297" y="10"/>
                </a:lnTo>
                <a:lnTo>
                  <a:pt x="295" y="12"/>
                </a:lnTo>
                <a:lnTo>
                  <a:pt x="351" y="12"/>
                </a:lnTo>
                <a:lnTo>
                  <a:pt x="412" y="18"/>
                </a:lnTo>
                <a:lnTo>
                  <a:pt x="474" y="25"/>
                </a:lnTo>
                <a:lnTo>
                  <a:pt x="533" y="35"/>
                </a:lnTo>
                <a:lnTo>
                  <a:pt x="593" y="50"/>
                </a:lnTo>
                <a:lnTo>
                  <a:pt x="650" y="66"/>
                </a:lnTo>
                <a:lnTo>
                  <a:pt x="679" y="75"/>
                </a:lnTo>
                <a:lnTo>
                  <a:pt x="679" y="73"/>
                </a:lnTo>
                <a:lnTo>
                  <a:pt x="679" y="73"/>
                </a:lnTo>
                <a:lnTo>
                  <a:pt x="681" y="71"/>
                </a:lnTo>
                <a:lnTo>
                  <a:pt x="681" y="71"/>
                </a:lnTo>
                <a:lnTo>
                  <a:pt x="681" y="69"/>
                </a:lnTo>
                <a:lnTo>
                  <a:pt x="683" y="68"/>
                </a:lnTo>
                <a:lnTo>
                  <a:pt x="683" y="68"/>
                </a:lnTo>
                <a:lnTo>
                  <a:pt x="683" y="66"/>
                </a:lnTo>
                <a:close/>
                <a:moveTo>
                  <a:pt x="2" y="2426"/>
                </a:moveTo>
                <a:lnTo>
                  <a:pt x="40" y="2435"/>
                </a:lnTo>
                <a:lnTo>
                  <a:pt x="102" y="2445"/>
                </a:lnTo>
                <a:lnTo>
                  <a:pt x="163" y="2452"/>
                </a:lnTo>
                <a:lnTo>
                  <a:pt x="224" y="2458"/>
                </a:lnTo>
                <a:lnTo>
                  <a:pt x="288" y="2460"/>
                </a:lnTo>
                <a:lnTo>
                  <a:pt x="351" y="2458"/>
                </a:lnTo>
                <a:lnTo>
                  <a:pt x="414" y="2452"/>
                </a:lnTo>
                <a:lnTo>
                  <a:pt x="476" y="2445"/>
                </a:lnTo>
                <a:lnTo>
                  <a:pt x="535" y="2435"/>
                </a:lnTo>
                <a:lnTo>
                  <a:pt x="595" y="2420"/>
                </a:lnTo>
                <a:lnTo>
                  <a:pt x="654" y="2404"/>
                </a:lnTo>
                <a:lnTo>
                  <a:pt x="710" y="2385"/>
                </a:lnTo>
                <a:lnTo>
                  <a:pt x="731" y="2378"/>
                </a:lnTo>
                <a:lnTo>
                  <a:pt x="725" y="2366"/>
                </a:lnTo>
                <a:lnTo>
                  <a:pt x="706" y="2374"/>
                </a:lnTo>
                <a:lnTo>
                  <a:pt x="650" y="2393"/>
                </a:lnTo>
                <a:lnTo>
                  <a:pt x="593" y="2410"/>
                </a:lnTo>
                <a:lnTo>
                  <a:pt x="533" y="2424"/>
                </a:lnTo>
                <a:lnTo>
                  <a:pt x="474" y="2435"/>
                </a:lnTo>
                <a:lnTo>
                  <a:pt x="412" y="2443"/>
                </a:lnTo>
                <a:lnTo>
                  <a:pt x="351" y="2447"/>
                </a:lnTo>
                <a:lnTo>
                  <a:pt x="288" y="2449"/>
                </a:lnTo>
                <a:lnTo>
                  <a:pt x="224" y="2447"/>
                </a:lnTo>
                <a:lnTo>
                  <a:pt x="163" y="2443"/>
                </a:lnTo>
                <a:lnTo>
                  <a:pt x="102" y="2435"/>
                </a:lnTo>
                <a:lnTo>
                  <a:pt x="42" y="2424"/>
                </a:lnTo>
                <a:lnTo>
                  <a:pt x="0" y="2414"/>
                </a:lnTo>
                <a:lnTo>
                  <a:pt x="0" y="2416"/>
                </a:lnTo>
                <a:lnTo>
                  <a:pt x="0" y="2416"/>
                </a:lnTo>
                <a:lnTo>
                  <a:pt x="0" y="2418"/>
                </a:lnTo>
                <a:lnTo>
                  <a:pt x="0" y="2420"/>
                </a:lnTo>
                <a:lnTo>
                  <a:pt x="0" y="2422"/>
                </a:lnTo>
                <a:lnTo>
                  <a:pt x="2" y="2422"/>
                </a:lnTo>
                <a:lnTo>
                  <a:pt x="2" y="2424"/>
                </a:lnTo>
                <a:lnTo>
                  <a:pt x="2" y="2426"/>
                </a:lnTo>
                <a:close/>
              </a:path>
            </a:pathLst>
          </a:custGeom>
          <a:solidFill>
            <a:srgbClr val="19a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Freeform 298"/>
          <p:cNvSpPr/>
          <p:nvPr/>
        </p:nvSpPr>
        <p:spPr>
          <a:xfrm>
            <a:off x="5883120" y="1300320"/>
            <a:ext cx="1160640" cy="388620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3886200"/>
              <a:gd name="textAreaBottom" fmla="*/ 3886560 h 3886200"/>
            </a:gdLst>
            <a:ahLst/>
            <a:rect l="textAreaLeft" t="textAreaTop" r="textAreaRight" b="textAreaBottom"/>
            <a:pathLst>
              <a:path w="731" h="2448">
                <a:moveTo>
                  <a:pt x="683" y="65"/>
                </a:moveTo>
                <a:lnTo>
                  <a:pt x="654" y="54"/>
                </a:lnTo>
                <a:lnTo>
                  <a:pt x="595" y="38"/>
                </a:lnTo>
                <a:lnTo>
                  <a:pt x="537" y="25"/>
                </a:lnTo>
                <a:lnTo>
                  <a:pt x="476" y="14"/>
                </a:lnTo>
                <a:lnTo>
                  <a:pt x="414" y="6"/>
                </a:lnTo>
                <a:lnTo>
                  <a:pt x="353" y="2"/>
                </a:lnTo>
                <a:lnTo>
                  <a:pt x="301" y="0"/>
                </a:lnTo>
                <a:lnTo>
                  <a:pt x="299" y="2"/>
                </a:lnTo>
                <a:lnTo>
                  <a:pt x="299" y="2"/>
                </a:lnTo>
                <a:lnTo>
                  <a:pt x="299" y="4"/>
                </a:lnTo>
                <a:lnTo>
                  <a:pt x="297" y="6"/>
                </a:lnTo>
                <a:lnTo>
                  <a:pt x="297" y="6"/>
                </a:lnTo>
                <a:lnTo>
                  <a:pt x="297" y="8"/>
                </a:lnTo>
                <a:lnTo>
                  <a:pt x="295" y="10"/>
                </a:lnTo>
                <a:lnTo>
                  <a:pt x="295" y="10"/>
                </a:lnTo>
                <a:lnTo>
                  <a:pt x="353" y="12"/>
                </a:lnTo>
                <a:lnTo>
                  <a:pt x="414" y="17"/>
                </a:lnTo>
                <a:lnTo>
                  <a:pt x="474" y="25"/>
                </a:lnTo>
                <a:lnTo>
                  <a:pt x="535" y="35"/>
                </a:lnTo>
                <a:lnTo>
                  <a:pt x="593" y="48"/>
                </a:lnTo>
                <a:lnTo>
                  <a:pt x="651" y="65"/>
                </a:lnTo>
                <a:lnTo>
                  <a:pt x="679" y="75"/>
                </a:lnTo>
                <a:lnTo>
                  <a:pt x="679" y="73"/>
                </a:lnTo>
                <a:lnTo>
                  <a:pt x="679" y="71"/>
                </a:lnTo>
                <a:lnTo>
                  <a:pt x="679" y="71"/>
                </a:lnTo>
                <a:lnTo>
                  <a:pt x="681" y="69"/>
                </a:lnTo>
                <a:lnTo>
                  <a:pt x="681" y="67"/>
                </a:lnTo>
                <a:lnTo>
                  <a:pt x="681" y="67"/>
                </a:lnTo>
                <a:lnTo>
                  <a:pt x="683" y="65"/>
                </a:lnTo>
                <a:lnTo>
                  <a:pt x="683" y="65"/>
                </a:lnTo>
                <a:close/>
                <a:moveTo>
                  <a:pt x="2" y="2414"/>
                </a:moveTo>
                <a:lnTo>
                  <a:pt x="44" y="2423"/>
                </a:lnTo>
                <a:lnTo>
                  <a:pt x="104" y="2433"/>
                </a:lnTo>
                <a:lnTo>
                  <a:pt x="165" y="2441"/>
                </a:lnTo>
                <a:lnTo>
                  <a:pt x="226" y="2446"/>
                </a:lnTo>
                <a:lnTo>
                  <a:pt x="290" y="2448"/>
                </a:lnTo>
                <a:lnTo>
                  <a:pt x="353" y="2446"/>
                </a:lnTo>
                <a:lnTo>
                  <a:pt x="414" y="2441"/>
                </a:lnTo>
                <a:lnTo>
                  <a:pt x="476" y="2433"/>
                </a:lnTo>
                <a:lnTo>
                  <a:pt x="537" y="2423"/>
                </a:lnTo>
                <a:lnTo>
                  <a:pt x="595" y="2410"/>
                </a:lnTo>
                <a:lnTo>
                  <a:pt x="654" y="2393"/>
                </a:lnTo>
                <a:lnTo>
                  <a:pt x="710" y="2374"/>
                </a:lnTo>
                <a:lnTo>
                  <a:pt x="731" y="2366"/>
                </a:lnTo>
                <a:lnTo>
                  <a:pt x="725" y="2356"/>
                </a:lnTo>
                <a:lnTo>
                  <a:pt x="706" y="2364"/>
                </a:lnTo>
                <a:lnTo>
                  <a:pt x="651" y="2383"/>
                </a:lnTo>
                <a:lnTo>
                  <a:pt x="593" y="2398"/>
                </a:lnTo>
                <a:lnTo>
                  <a:pt x="535" y="2412"/>
                </a:lnTo>
                <a:lnTo>
                  <a:pt x="474" y="2423"/>
                </a:lnTo>
                <a:lnTo>
                  <a:pt x="414" y="2431"/>
                </a:lnTo>
                <a:lnTo>
                  <a:pt x="353" y="2435"/>
                </a:lnTo>
                <a:lnTo>
                  <a:pt x="290" y="2437"/>
                </a:lnTo>
                <a:lnTo>
                  <a:pt x="228" y="2435"/>
                </a:lnTo>
                <a:lnTo>
                  <a:pt x="165" y="2431"/>
                </a:lnTo>
                <a:lnTo>
                  <a:pt x="105" y="2423"/>
                </a:lnTo>
                <a:lnTo>
                  <a:pt x="46" y="2412"/>
                </a:lnTo>
                <a:lnTo>
                  <a:pt x="0" y="2402"/>
                </a:lnTo>
                <a:lnTo>
                  <a:pt x="0" y="2404"/>
                </a:lnTo>
                <a:lnTo>
                  <a:pt x="0" y="2404"/>
                </a:lnTo>
                <a:lnTo>
                  <a:pt x="2" y="2406"/>
                </a:lnTo>
                <a:lnTo>
                  <a:pt x="2" y="2408"/>
                </a:lnTo>
                <a:lnTo>
                  <a:pt x="2" y="2410"/>
                </a:lnTo>
                <a:lnTo>
                  <a:pt x="2" y="2410"/>
                </a:lnTo>
                <a:lnTo>
                  <a:pt x="2" y="2412"/>
                </a:lnTo>
                <a:lnTo>
                  <a:pt x="2" y="2414"/>
                </a:lnTo>
                <a:close/>
              </a:path>
            </a:pathLst>
          </a:custGeom>
          <a:solidFill>
            <a:srgbClr val="1aa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Freeform 299"/>
          <p:cNvSpPr/>
          <p:nvPr/>
        </p:nvSpPr>
        <p:spPr>
          <a:xfrm>
            <a:off x="5883120" y="1309680"/>
            <a:ext cx="1154160" cy="3868920"/>
          </a:xfrm>
          <a:custGeom>
            <a:avLst/>
            <a:gdLst>
              <a:gd name="textAreaLeft" fmla="*/ 0 w 1154160"/>
              <a:gd name="textAreaRight" fmla="*/ 1154520 w 1154160"/>
              <a:gd name="textAreaTop" fmla="*/ 0 h 3868920"/>
              <a:gd name="textAreaBottom" fmla="*/ 3869280 h 3868920"/>
            </a:gdLst>
            <a:ahLst/>
            <a:rect l="textAreaLeft" t="textAreaTop" r="textAreaRight" b="textAreaBottom"/>
            <a:pathLst>
              <a:path w="727" h="2437">
                <a:moveTo>
                  <a:pt x="681" y="63"/>
                </a:moveTo>
                <a:lnTo>
                  <a:pt x="652" y="54"/>
                </a:lnTo>
                <a:lnTo>
                  <a:pt x="595" y="38"/>
                </a:lnTo>
                <a:lnTo>
                  <a:pt x="535" y="23"/>
                </a:lnTo>
                <a:lnTo>
                  <a:pt x="476" y="13"/>
                </a:lnTo>
                <a:lnTo>
                  <a:pt x="414" y="6"/>
                </a:lnTo>
                <a:lnTo>
                  <a:pt x="353" y="0"/>
                </a:lnTo>
                <a:lnTo>
                  <a:pt x="297" y="0"/>
                </a:lnTo>
                <a:lnTo>
                  <a:pt x="297" y="0"/>
                </a:lnTo>
                <a:lnTo>
                  <a:pt x="297" y="2"/>
                </a:lnTo>
                <a:lnTo>
                  <a:pt x="295" y="4"/>
                </a:lnTo>
                <a:lnTo>
                  <a:pt x="295" y="4"/>
                </a:lnTo>
                <a:lnTo>
                  <a:pt x="295" y="6"/>
                </a:lnTo>
                <a:lnTo>
                  <a:pt x="294" y="8"/>
                </a:lnTo>
                <a:lnTo>
                  <a:pt x="294" y="8"/>
                </a:lnTo>
                <a:lnTo>
                  <a:pt x="294" y="9"/>
                </a:lnTo>
                <a:lnTo>
                  <a:pt x="351" y="11"/>
                </a:lnTo>
                <a:lnTo>
                  <a:pt x="413" y="15"/>
                </a:lnTo>
                <a:lnTo>
                  <a:pt x="474" y="23"/>
                </a:lnTo>
                <a:lnTo>
                  <a:pt x="533" y="34"/>
                </a:lnTo>
                <a:lnTo>
                  <a:pt x="591" y="48"/>
                </a:lnTo>
                <a:lnTo>
                  <a:pt x="649" y="63"/>
                </a:lnTo>
                <a:lnTo>
                  <a:pt x="675" y="73"/>
                </a:lnTo>
                <a:lnTo>
                  <a:pt x="677" y="71"/>
                </a:lnTo>
                <a:lnTo>
                  <a:pt x="677" y="71"/>
                </a:lnTo>
                <a:lnTo>
                  <a:pt x="677" y="69"/>
                </a:lnTo>
                <a:lnTo>
                  <a:pt x="679" y="69"/>
                </a:lnTo>
                <a:lnTo>
                  <a:pt x="679" y="67"/>
                </a:lnTo>
                <a:lnTo>
                  <a:pt x="679" y="65"/>
                </a:lnTo>
                <a:lnTo>
                  <a:pt x="679" y="65"/>
                </a:lnTo>
                <a:lnTo>
                  <a:pt x="681" y="63"/>
                </a:lnTo>
                <a:close/>
                <a:moveTo>
                  <a:pt x="2" y="2402"/>
                </a:moveTo>
                <a:lnTo>
                  <a:pt x="44" y="2412"/>
                </a:lnTo>
                <a:lnTo>
                  <a:pt x="104" y="2423"/>
                </a:lnTo>
                <a:lnTo>
                  <a:pt x="165" y="2431"/>
                </a:lnTo>
                <a:lnTo>
                  <a:pt x="226" y="2435"/>
                </a:lnTo>
                <a:lnTo>
                  <a:pt x="290" y="2437"/>
                </a:lnTo>
                <a:lnTo>
                  <a:pt x="353" y="2435"/>
                </a:lnTo>
                <a:lnTo>
                  <a:pt x="414" y="2431"/>
                </a:lnTo>
                <a:lnTo>
                  <a:pt x="476" y="2423"/>
                </a:lnTo>
                <a:lnTo>
                  <a:pt x="535" y="2412"/>
                </a:lnTo>
                <a:lnTo>
                  <a:pt x="595" y="2398"/>
                </a:lnTo>
                <a:lnTo>
                  <a:pt x="652" y="2381"/>
                </a:lnTo>
                <a:lnTo>
                  <a:pt x="708" y="2362"/>
                </a:lnTo>
                <a:lnTo>
                  <a:pt x="727" y="2354"/>
                </a:lnTo>
                <a:lnTo>
                  <a:pt x="723" y="2345"/>
                </a:lnTo>
                <a:lnTo>
                  <a:pt x="706" y="2352"/>
                </a:lnTo>
                <a:lnTo>
                  <a:pt x="649" y="2371"/>
                </a:lnTo>
                <a:lnTo>
                  <a:pt x="591" y="2389"/>
                </a:lnTo>
                <a:lnTo>
                  <a:pt x="533" y="2402"/>
                </a:lnTo>
                <a:lnTo>
                  <a:pt x="474" y="2412"/>
                </a:lnTo>
                <a:lnTo>
                  <a:pt x="413" y="2419"/>
                </a:lnTo>
                <a:lnTo>
                  <a:pt x="351" y="2425"/>
                </a:lnTo>
                <a:lnTo>
                  <a:pt x="290" y="2425"/>
                </a:lnTo>
                <a:lnTo>
                  <a:pt x="228" y="2425"/>
                </a:lnTo>
                <a:lnTo>
                  <a:pt x="167" y="2419"/>
                </a:lnTo>
                <a:lnTo>
                  <a:pt x="105" y="2412"/>
                </a:lnTo>
                <a:lnTo>
                  <a:pt x="46" y="2402"/>
                </a:lnTo>
                <a:lnTo>
                  <a:pt x="0" y="2391"/>
                </a:lnTo>
                <a:lnTo>
                  <a:pt x="0" y="2392"/>
                </a:lnTo>
                <a:lnTo>
                  <a:pt x="0" y="2392"/>
                </a:lnTo>
                <a:lnTo>
                  <a:pt x="0" y="2394"/>
                </a:lnTo>
                <a:lnTo>
                  <a:pt x="0" y="2396"/>
                </a:lnTo>
                <a:lnTo>
                  <a:pt x="0" y="2398"/>
                </a:lnTo>
                <a:lnTo>
                  <a:pt x="0" y="2398"/>
                </a:lnTo>
                <a:lnTo>
                  <a:pt x="2" y="2400"/>
                </a:lnTo>
                <a:lnTo>
                  <a:pt x="2" y="2402"/>
                </a:lnTo>
                <a:close/>
              </a:path>
            </a:pathLst>
          </a:custGeom>
          <a:solidFill>
            <a:srgbClr val="1ba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Freeform 300"/>
          <p:cNvSpPr/>
          <p:nvPr/>
        </p:nvSpPr>
        <p:spPr>
          <a:xfrm>
            <a:off x="5880240" y="1316160"/>
            <a:ext cx="1153800" cy="3852720"/>
          </a:xfrm>
          <a:custGeom>
            <a:avLst/>
            <a:gdLst>
              <a:gd name="textAreaLeft" fmla="*/ 0 w 1153800"/>
              <a:gd name="textAreaRight" fmla="*/ 1154160 w 1153800"/>
              <a:gd name="textAreaTop" fmla="*/ 0 h 3852720"/>
              <a:gd name="textAreaBottom" fmla="*/ 3852720 h 3852720"/>
            </a:gdLst>
            <a:ahLst/>
            <a:rect l="textAreaLeft" t="textAreaTop" r="textAreaRight" b="textAreaBottom"/>
            <a:pathLst>
              <a:path w="727" h="2427">
                <a:moveTo>
                  <a:pt x="681" y="65"/>
                </a:moveTo>
                <a:lnTo>
                  <a:pt x="653" y="55"/>
                </a:lnTo>
                <a:lnTo>
                  <a:pt x="595" y="38"/>
                </a:lnTo>
                <a:lnTo>
                  <a:pt x="537" y="25"/>
                </a:lnTo>
                <a:lnTo>
                  <a:pt x="476" y="15"/>
                </a:lnTo>
                <a:lnTo>
                  <a:pt x="416" y="7"/>
                </a:lnTo>
                <a:lnTo>
                  <a:pt x="355" y="2"/>
                </a:lnTo>
                <a:lnTo>
                  <a:pt x="297" y="0"/>
                </a:lnTo>
                <a:lnTo>
                  <a:pt x="297" y="2"/>
                </a:lnTo>
                <a:lnTo>
                  <a:pt x="296" y="4"/>
                </a:lnTo>
                <a:lnTo>
                  <a:pt x="296" y="4"/>
                </a:lnTo>
                <a:lnTo>
                  <a:pt x="296" y="5"/>
                </a:lnTo>
                <a:lnTo>
                  <a:pt x="294" y="7"/>
                </a:lnTo>
                <a:lnTo>
                  <a:pt x="294" y="7"/>
                </a:lnTo>
                <a:lnTo>
                  <a:pt x="294" y="9"/>
                </a:lnTo>
                <a:lnTo>
                  <a:pt x="292" y="11"/>
                </a:lnTo>
                <a:lnTo>
                  <a:pt x="353" y="13"/>
                </a:lnTo>
                <a:lnTo>
                  <a:pt x="415" y="17"/>
                </a:lnTo>
                <a:lnTo>
                  <a:pt x="476" y="25"/>
                </a:lnTo>
                <a:lnTo>
                  <a:pt x="534" y="36"/>
                </a:lnTo>
                <a:lnTo>
                  <a:pt x="593" y="50"/>
                </a:lnTo>
                <a:lnTo>
                  <a:pt x="649" y="65"/>
                </a:lnTo>
                <a:lnTo>
                  <a:pt x="676" y="75"/>
                </a:lnTo>
                <a:lnTo>
                  <a:pt x="676" y="73"/>
                </a:lnTo>
                <a:lnTo>
                  <a:pt x="677" y="71"/>
                </a:lnTo>
                <a:lnTo>
                  <a:pt x="677" y="71"/>
                </a:lnTo>
                <a:lnTo>
                  <a:pt x="677" y="69"/>
                </a:lnTo>
                <a:lnTo>
                  <a:pt x="679" y="67"/>
                </a:lnTo>
                <a:lnTo>
                  <a:pt x="679" y="67"/>
                </a:lnTo>
                <a:lnTo>
                  <a:pt x="679" y="65"/>
                </a:lnTo>
                <a:lnTo>
                  <a:pt x="681" y="65"/>
                </a:lnTo>
                <a:close/>
                <a:moveTo>
                  <a:pt x="2" y="2392"/>
                </a:moveTo>
                <a:lnTo>
                  <a:pt x="48" y="2402"/>
                </a:lnTo>
                <a:lnTo>
                  <a:pt x="107" y="2413"/>
                </a:lnTo>
                <a:lnTo>
                  <a:pt x="167" y="2421"/>
                </a:lnTo>
                <a:lnTo>
                  <a:pt x="230" y="2425"/>
                </a:lnTo>
                <a:lnTo>
                  <a:pt x="292" y="2427"/>
                </a:lnTo>
                <a:lnTo>
                  <a:pt x="355" y="2425"/>
                </a:lnTo>
                <a:lnTo>
                  <a:pt x="416" y="2421"/>
                </a:lnTo>
                <a:lnTo>
                  <a:pt x="476" y="2413"/>
                </a:lnTo>
                <a:lnTo>
                  <a:pt x="537" y="2402"/>
                </a:lnTo>
                <a:lnTo>
                  <a:pt x="595" y="2388"/>
                </a:lnTo>
                <a:lnTo>
                  <a:pt x="653" y="2373"/>
                </a:lnTo>
                <a:lnTo>
                  <a:pt x="708" y="2354"/>
                </a:lnTo>
                <a:lnTo>
                  <a:pt x="727" y="2346"/>
                </a:lnTo>
                <a:lnTo>
                  <a:pt x="724" y="2337"/>
                </a:lnTo>
                <a:lnTo>
                  <a:pt x="706" y="2344"/>
                </a:lnTo>
                <a:lnTo>
                  <a:pt x="649" y="2362"/>
                </a:lnTo>
                <a:lnTo>
                  <a:pt x="593" y="2379"/>
                </a:lnTo>
                <a:lnTo>
                  <a:pt x="534" y="2392"/>
                </a:lnTo>
                <a:lnTo>
                  <a:pt x="476" y="2402"/>
                </a:lnTo>
                <a:lnTo>
                  <a:pt x="415" y="2410"/>
                </a:lnTo>
                <a:lnTo>
                  <a:pt x="353" y="2415"/>
                </a:lnTo>
                <a:lnTo>
                  <a:pt x="292" y="2417"/>
                </a:lnTo>
                <a:lnTo>
                  <a:pt x="230" y="2415"/>
                </a:lnTo>
                <a:lnTo>
                  <a:pt x="169" y="2410"/>
                </a:lnTo>
                <a:lnTo>
                  <a:pt x="109" y="2402"/>
                </a:lnTo>
                <a:lnTo>
                  <a:pt x="50" y="2392"/>
                </a:lnTo>
                <a:lnTo>
                  <a:pt x="0" y="2381"/>
                </a:lnTo>
                <a:lnTo>
                  <a:pt x="0" y="2383"/>
                </a:lnTo>
                <a:lnTo>
                  <a:pt x="0" y="2385"/>
                </a:lnTo>
                <a:lnTo>
                  <a:pt x="2" y="2385"/>
                </a:lnTo>
                <a:lnTo>
                  <a:pt x="2" y="2387"/>
                </a:lnTo>
                <a:lnTo>
                  <a:pt x="2" y="2388"/>
                </a:lnTo>
                <a:lnTo>
                  <a:pt x="2" y="2388"/>
                </a:lnTo>
                <a:lnTo>
                  <a:pt x="2" y="2390"/>
                </a:lnTo>
                <a:lnTo>
                  <a:pt x="2" y="2392"/>
                </a:lnTo>
                <a:close/>
              </a:path>
            </a:pathLst>
          </a:custGeom>
          <a:solidFill>
            <a:srgbClr val="1ca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Freeform 301"/>
          <p:cNvSpPr/>
          <p:nvPr/>
        </p:nvSpPr>
        <p:spPr>
          <a:xfrm>
            <a:off x="5880240" y="1324080"/>
            <a:ext cx="1150920" cy="383544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835440"/>
              <a:gd name="textAreaBottom" fmla="*/ 3835800 h 3835440"/>
            </a:gdLst>
            <a:ahLst/>
            <a:rect l="textAreaLeft" t="textAreaTop" r="textAreaRight" b="textAreaBottom"/>
            <a:pathLst>
              <a:path w="725" h="2416">
                <a:moveTo>
                  <a:pt x="677" y="64"/>
                </a:moveTo>
                <a:lnTo>
                  <a:pt x="651" y="54"/>
                </a:lnTo>
                <a:lnTo>
                  <a:pt x="593" y="39"/>
                </a:lnTo>
                <a:lnTo>
                  <a:pt x="535" y="25"/>
                </a:lnTo>
                <a:lnTo>
                  <a:pt x="476" y="14"/>
                </a:lnTo>
                <a:lnTo>
                  <a:pt x="415" y="6"/>
                </a:lnTo>
                <a:lnTo>
                  <a:pt x="353" y="2"/>
                </a:lnTo>
                <a:lnTo>
                  <a:pt x="296" y="0"/>
                </a:lnTo>
                <a:lnTo>
                  <a:pt x="294" y="2"/>
                </a:lnTo>
                <a:lnTo>
                  <a:pt x="294" y="2"/>
                </a:lnTo>
                <a:lnTo>
                  <a:pt x="294" y="4"/>
                </a:lnTo>
                <a:lnTo>
                  <a:pt x="292" y="6"/>
                </a:lnTo>
                <a:lnTo>
                  <a:pt x="292" y="8"/>
                </a:lnTo>
                <a:lnTo>
                  <a:pt x="292" y="8"/>
                </a:lnTo>
                <a:lnTo>
                  <a:pt x="292" y="10"/>
                </a:lnTo>
                <a:lnTo>
                  <a:pt x="290" y="12"/>
                </a:lnTo>
                <a:lnTo>
                  <a:pt x="292" y="12"/>
                </a:lnTo>
                <a:lnTo>
                  <a:pt x="353" y="12"/>
                </a:lnTo>
                <a:lnTo>
                  <a:pt x="415" y="18"/>
                </a:lnTo>
                <a:lnTo>
                  <a:pt x="474" y="25"/>
                </a:lnTo>
                <a:lnTo>
                  <a:pt x="534" y="35"/>
                </a:lnTo>
                <a:lnTo>
                  <a:pt x="591" y="48"/>
                </a:lnTo>
                <a:lnTo>
                  <a:pt x="649" y="66"/>
                </a:lnTo>
                <a:lnTo>
                  <a:pt x="674" y="73"/>
                </a:lnTo>
                <a:lnTo>
                  <a:pt x="674" y="71"/>
                </a:lnTo>
                <a:lnTo>
                  <a:pt x="674" y="71"/>
                </a:lnTo>
                <a:lnTo>
                  <a:pt x="676" y="70"/>
                </a:lnTo>
                <a:lnTo>
                  <a:pt x="676" y="70"/>
                </a:lnTo>
                <a:lnTo>
                  <a:pt x="676" y="68"/>
                </a:lnTo>
                <a:lnTo>
                  <a:pt x="677" y="66"/>
                </a:lnTo>
                <a:lnTo>
                  <a:pt x="677" y="66"/>
                </a:lnTo>
                <a:lnTo>
                  <a:pt x="677" y="64"/>
                </a:lnTo>
                <a:close/>
                <a:moveTo>
                  <a:pt x="2" y="2382"/>
                </a:moveTo>
                <a:lnTo>
                  <a:pt x="48" y="2393"/>
                </a:lnTo>
                <a:lnTo>
                  <a:pt x="107" y="2403"/>
                </a:lnTo>
                <a:lnTo>
                  <a:pt x="169" y="2410"/>
                </a:lnTo>
                <a:lnTo>
                  <a:pt x="230" y="2416"/>
                </a:lnTo>
                <a:lnTo>
                  <a:pt x="292" y="2416"/>
                </a:lnTo>
                <a:lnTo>
                  <a:pt x="353" y="2416"/>
                </a:lnTo>
                <a:lnTo>
                  <a:pt x="415" y="2410"/>
                </a:lnTo>
                <a:lnTo>
                  <a:pt x="476" y="2403"/>
                </a:lnTo>
                <a:lnTo>
                  <a:pt x="535" y="2393"/>
                </a:lnTo>
                <a:lnTo>
                  <a:pt x="593" y="2380"/>
                </a:lnTo>
                <a:lnTo>
                  <a:pt x="651" y="2362"/>
                </a:lnTo>
                <a:lnTo>
                  <a:pt x="708" y="2343"/>
                </a:lnTo>
                <a:lnTo>
                  <a:pt x="725" y="2336"/>
                </a:lnTo>
                <a:lnTo>
                  <a:pt x="722" y="2326"/>
                </a:lnTo>
                <a:lnTo>
                  <a:pt x="704" y="2334"/>
                </a:lnTo>
                <a:lnTo>
                  <a:pt x="649" y="2353"/>
                </a:lnTo>
                <a:lnTo>
                  <a:pt x="591" y="2368"/>
                </a:lnTo>
                <a:lnTo>
                  <a:pt x="534" y="2382"/>
                </a:lnTo>
                <a:lnTo>
                  <a:pt x="474" y="2393"/>
                </a:lnTo>
                <a:lnTo>
                  <a:pt x="415" y="2401"/>
                </a:lnTo>
                <a:lnTo>
                  <a:pt x="353" y="2405"/>
                </a:lnTo>
                <a:lnTo>
                  <a:pt x="292" y="2406"/>
                </a:lnTo>
                <a:lnTo>
                  <a:pt x="230" y="2405"/>
                </a:lnTo>
                <a:lnTo>
                  <a:pt x="169" y="2401"/>
                </a:lnTo>
                <a:lnTo>
                  <a:pt x="109" y="2393"/>
                </a:lnTo>
                <a:lnTo>
                  <a:pt x="50" y="2382"/>
                </a:lnTo>
                <a:lnTo>
                  <a:pt x="0" y="2370"/>
                </a:lnTo>
                <a:lnTo>
                  <a:pt x="0" y="2372"/>
                </a:lnTo>
                <a:lnTo>
                  <a:pt x="0" y="2374"/>
                </a:lnTo>
                <a:lnTo>
                  <a:pt x="0" y="2374"/>
                </a:lnTo>
                <a:lnTo>
                  <a:pt x="0" y="2376"/>
                </a:lnTo>
                <a:lnTo>
                  <a:pt x="0" y="2378"/>
                </a:lnTo>
                <a:lnTo>
                  <a:pt x="0" y="2380"/>
                </a:lnTo>
                <a:lnTo>
                  <a:pt x="2" y="2380"/>
                </a:lnTo>
                <a:lnTo>
                  <a:pt x="2" y="2382"/>
                </a:lnTo>
                <a:close/>
              </a:path>
            </a:pathLst>
          </a:custGeom>
          <a:solidFill>
            <a:srgbClr val="1da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reeform 302"/>
          <p:cNvSpPr/>
          <p:nvPr/>
        </p:nvSpPr>
        <p:spPr>
          <a:xfrm>
            <a:off x="5877000" y="1333440"/>
            <a:ext cx="1152360" cy="381960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3819600"/>
              <a:gd name="textAreaBottom" fmla="*/ 3819960 h 3819600"/>
            </a:gdLst>
            <a:ahLst/>
            <a:rect l="textAreaLeft" t="textAreaTop" r="textAreaRight" b="textAreaBottom"/>
            <a:pathLst>
              <a:path w="726" h="2406">
                <a:moveTo>
                  <a:pt x="678" y="64"/>
                </a:moveTo>
                <a:lnTo>
                  <a:pt x="651" y="54"/>
                </a:lnTo>
                <a:lnTo>
                  <a:pt x="595" y="39"/>
                </a:lnTo>
                <a:lnTo>
                  <a:pt x="536" y="25"/>
                </a:lnTo>
                <a:lnTo>
                  <a:pt x="478" y="14"/>
                </a:lnTo>
                <a:lnTo>
                  <a:pt x="417" y="6"/>
                </a:lnTo>
                <a:lnTo>
                  <a:pt x="355" y="2"/>
                </a:lnTo>
                <a:lnTo>
                  <a:pt x="294" y="0"/>
                </a:lnTo>
                <a:lnTo>
                  <a:pt x="294" y="2"/>
                </a:lnTo>
                <a:lnTo>
                  <a:pt x="294" y="2"/>
                </a:lnTo>
                <a:lnTo>
                  <a:pt x="294" y="4"/>
                </a:lnTo>
                <a:lnTo>
                  <a:pt x="292" y="6"/>
                </a:lnTo>
                <a:lnTo>
                  <a:pt x="292" y="6"/>
                </a:lnTo>
                <a:lnTo>
                  <a:pt x="292" y="8"/>
                </a:lnTo>
                <a:lnTo>
                  <a:pt x="290" y="10"/>
                </a:lnTo>
                <a:lnTo>
                  <a:pt x="290" y="10"/>
                </a:lnTo>
                <a:lnTo>
                  <a:pt x="294" y="10"/>
                </a:lnTo>
                <a:lnTo>
                  <a:pt x="355" y="12"/>
                </a:lnTo>
                <a:lnTo>
                  <a:pt x="417" y="17"/>
                </a:lnTo>
                <a:lnTo>
                  <a:pt x="476" y="25"/>
                </a:lnTo>
                <a:lnTo>
                  <a:pt x="534" y="35"/>
                </a:lnTo>
                <a:lnTo>
                  <a:pt x="591" y="48"/>
                </a:lnTo>
                <a:lnTo>
                  <a:pt x="649" y="64"/>
                </a:lnTo>
                <a:lnTo>
                  <a:pt x="672" y="73"/>
                </a:lnTo>
                <a:lnTo>
                  <a:pt x="674" y="71"/>
                </a:lnTo>
                <a:lnTo>
                  <a:pt x="674" y="69"/>
                </a:lnTo>
                <a:lnTo>
                  <a:pt x="674" y="69"/>
                </a:lnTo>
                <a:lnTo>
                  <a:pt x="676" y="67"/>
                </a:lnTo>
                <a:lnTo>
                  <a:pt x="676" y="65"/>
                </a:lnTo>
                <a:lnTo>
                  <a:pt x="676" y="65"/>
                </a:lnTo>
                <a:lnTo>
                  <a:pt x="678" y="64"/>
                </a:lnTo>
                <a:lnTo>
                  <a:pt x="678" y="64"/>
                </a:lnTo>
                <a:close/>
                <a:moveTo>
                  <a:pt x="2" y="2370"/>
                </a:moveTo>
                <a:lnTo>
                  <a:pt x="52" y="2381"/>
                </a:lnTo>
                <a:lnTo>
                  <a:pt x="111" y="2391"/>
                </a:lnTo>
                <a:lnTo>
                  <a:pt x="171" y="2399"/>
                </a:lnTo>
                <a:lnTo>
                  <a:pt x="232" y="2404"/>
                </a:lnTo>
                <a:lnTo>
                  <a:pt x="294" y="2406"/>
                </a:lnTo>
                <a:lnTo>
                  <a:pt x="355" y="2404"/>
                </a:lnTo>
                <a:lnTo>
                  <a:pt x="417" y="2399"/>
                </a:lnTo>
                <a:lnTo>
                  <a:pt x="478" y="2391"/>
                </a:lnTo>
                <a:lnTo>
                  <a:pt x="536" y="2381"/>
                </a:lnTo>
                <a:lnTo>
                  <a:pt x="595" y="2368"/>
                </a:lnTo>
                <a:lnTo>
                  <a:pt x="651" y="2351"/>
                </a:lnTo>
                <a:lnTo>
                  <a:pt x="708" y="2333"/>
                </a:lnTo>
                <a:lnTo>
                  <a:pt x="726" y="2326"/>
                </a:lnTo>
                <a:lnTo>
                  <a:pt x="720" y="2316"/>
                </a:lnTo>
                <a:lnTo>
                  <a:pt x="704" y="2322"/>
                </a:lnTo>
                <a:lnTo>
                  <a:pt x="649" y="2341"/>
                </a:lnTo>
                <a:lnTo>
                  <a:pt x="591" y="2358"/>
                </a:lnTo>
                <a:lnTo>
                  <a:pt x="534" y="2370"/>
                </a:lnTo>
                <a:lnTo>
                  <a:pt x="476" y="2381"/>
                </a:lnTo>
                <a:lnTo>
                  <a:pt x="417" y="2389"/>
                </a:lnTo>
                <a:lnTo>
                  <a:pt x="355" y="2393"/>
                </a:lnTo>
                <a:lnTo>
                  <a:pt x="294" y="2395"/>
                </a:lnTo>
                <a:lnTo>
                  <a:pt x="232" y="2393"/>
                </a:lnTo>
                <a:lnTo>
                  <a:pt x="173" y="2389"/>
                </a:lnTo>
                <a:lnTo>
                  <a:pt x="111" y="2381"/>
                </a:lnTo>
                <a:lnTo>
                  <a:pt x="54" y="2370"/>
                </a:lnTo>
                <a:lnTo>
                  <a:pt x="0" y="2358"/>
                </a:lnTo>
                <a:lnTo>
                  <a:pt x="0" y="2360"/>
                </a:lnTo>
                <a:lnTo>
                  <a:pt x="0" y="2362"/>
                </a:lnTo>
                <a:lnTo>
                  <a:pt x="2" y="2362"/>
                </a:lnTo>
                <a:lnTo>
                  <a:pt x="2" y="2364"/>
                </a:lnTo>
                <a:lnTo>
                  <a:pt x="2" y="2366"/>
                </a:lnTo>
                <a:lnTo>
                  <a:pt x="2" y="2368"/>
                </a:lnTo>
                <a:lnTo>
                  <a:pt x="2" y="2368"/>
                </a:lnTo>
                <a:lnTo>
                  <a:pt x="2" y="2370"/>
                </a:lnTo>
                <a:close/>
              </a:path>
            </a:pathLst>
          </a:custGeom>
          <a:solidFill>
            <a:srgbClr val="1ea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Freeform 303"/>
          <p:cNvSpPr/>
          <p:nvPr/>
        </p:nvSpPr>
        <p:spPr>
          <a:xfrm>
            <a:off x="5877000" y="1343160"/>
            <a:ext cx="1149120" cy="3800520"/>
          </a:xfrm>
          <a:custGeom>
            <a:avLst/>
            <a:gdLst>
              <a:gd name="textAreaLeft" fmla="*/ 0 w 1149120"/>
              <a:gd name="textAreaRight" fmla="*/ 1149480 w 1149120"/>
              <a:gd name="textAreaTop" fmla="*/ 0 h 3800520"/>
              <a:gd name="textAreaBottom" fmla="*/ 3800880 h 3800520"/>
            </a:gdLst>
            <a:ahLst/>
            <a:rect l="textAreaLeft" t="textAreaTop" r="textAreaRight" b="textAreaBottom"/>
            <a:pathLst>
              <a:path w="724" h="2394">
                <a:moveTo>
                  <a:pt x="676" y="61"/>
                </a:moveTo>
                <a:lnTo>
                  <a:pt x="651" y="54"/>
                </a:lnTo>
                <a:lnTo>
                  <a:pt x="593" y="36"/>
                </a:lnTo>
                <a:lnTo>
                  <a:pt x="536" y="23"/>
                </a:lnTo>
                <a:lnTo>
                  <a:pt x="476" y="13"/>
                </a:lnTo>
                <a:lnTo>
                  <a:pt x="417" y="6"/>
                </a:lnTo>
                <a:lnTo>
                  <a:pt x="355" y="0"/>
                </a:lnTo>
                <a:lnTo>
                  <a:pt x="294" y="0"/>
                </a:lnTo>
                <a:lnTo>
                  <a:pt x="292" y="0"/>
                </a:lnTo>
                <a:lnTo>
                  <a:pt x="292" y="0"/>
                </a:lnTo>
                <a:lnTo>
                  <a:pt x="292" y="2"/>
                </a:lnTo>
                <a:lnTo>
                  <a:pt x="290" y="4"/>
                </a:lnTo>
                <a:lnTo>
                  <a:pt x="290" y="4"/>
                </a:lnTo>
                <a:lnTo>
                  <a:pt x="290" y="6"/>
                </a:lnTo>
                <a:lnTo>
                  <a:pt x="288" y="8"/>
                </a:lnTo>
                <a:lnTo>
                  <a:pt x="288" y="10"/>
                </a:lnTo>
                <a:lnTo>
                  <a:pt x="288" y="10"/>
                </a:lnTo>
                <a:lnTo>
                  <a:pt x="294" y="10"/>
                </a:lnTo>
                <a:lnTo>
                  <a:pt x="355" y="11"/>
                </a:lnTo>
                <a:lnTo>
                  <a:pt x="415" y="15"/>
                </a:lnTo>
                <a:lnTo>
                  <a:pt x="474" y="23"/>
                </a:lnTo>
                <a:lnTo>
                  <a:pt x="534" y="35"/>
                </a:lnTo>
                <a:lnTo>
                  <a:pt x="591" y="48"/>
                </a:lnTo>
                <a:lnTo>
                  <a:pt x="647" y="63"/>
                </a:lnTo>
                <a:lnTo>
                  <a:pt x="670" y="71"/>
                </a:lnTo>
                <a:lnTo>
                  <a:pt x="670" y="69"/>
                </a:lnTo>
                <a:lnTo>
                  <a:pt x="672" y="69"/>
                </a:lnTo>
                <a:lnTo>
                  <a:pt x="672" y="67"/>
                </a:lnTo>
                <a:lnTo>
                  <a:pt x="672" y="67"/>
                </a:lnTo>
                <a:lnTo>
                  <a:pt x="674" y="65"/>
                </a:lnTo>
                <a:lnTo>
                  <a:pt x="674" y="63"/>
                </a:lnTo>
                <a:lnTo>
                  <a:pt x="674" y="63"/>
                </a:lnTo>
                <a:lnTo>
                  <a:pt x="676" y="61"/>
                </a:lnTo>
                <a:close/>
                <a:moveTo>
                  <a:pt x="2" y="2358"/>
                </a:moveTo>
                <a:lnTo>
                  <a:pt x="52" y="2370"/>
                </a:lnTo>
                <a:lnTo>
                  <a:pt x="111" y="2381"/>
                </a:lnTo>
                <a:lnTo>
                  <a:pt x="171" y="2389"/>
                </a:lnTo>
                <a:lnTo>
                  <a:pt x="232" y="2393"/>
                </a:lnTo>
                <a:lnTo>
                  <a:pt x="294" y="2394"/>
                </a:lnTo>
                <a:lnTo>
                  <a:pt x="355" y="2393"/>
                </a:lnTo>
                <a:lnTo>
                  <a:pt x="417" y="2389"/>
                </a:lnTo>
                <a:lnTo>
                  <a:pt x="476" y="2381"/>
                </a:lnTo>
                <a:lnTo>
                  <a:pt x="536" y="2370"/>
                </a:lnTo>
                <a:lnTo>
                  <a:pt x="593" y="2356"/>
                </a:lnTo>
                <a:lnTo>
                  <a:pt x="651" y="2341"/>
                </a:lnTo>
                <a:lnTo>
                  <a:pt x="706" y="2322"/>
                </a:lnTo>
                <a:lnTo>
                  <a:pt x="724" y="2314"/>
                </a:lnTo>
                <a:lnTo>
                  <a:pt x="718" y="2304"/>
                </a:lnTo>
                <a:lnTo>
                  <a:pt x="703" y="2312"/>
                </a:lnTo>
                <a:lnTo>
                  <a:pt x="647" y="2331"/>
                </a:lnTo>
                <a:lnTo>
                  <a:pt x="591" y="2347"/>
                </a:lnTo>
                <a:lnTo>
                  <a:pt x="534" y="2360"/>
                </a:lnTo>
                <a:lnTo>
                  <a:pt x="474" y="2370"/>
                </a:lnTo>
                <a:lnTo>
                  <a:pt x="415" y="2377"/>
                </a:lnTo>
                <a:lnTo>
                  <a:pt x="355" y="2383"/>
                </a:lnTo>
                <a:lnTo>
                  <a:pt x="294" y="2383"/>
                </a:lnTo>
                <a:lnTo>
                  <a:pt x="232" y="2383"/>
                </a:lnTo>
                <a:lnTo>
                  <a:pt x="173" y="2377"/>
                </a:lnTo>
                <a:lnTo>
                  <a:pt x="113" y="2370"/>
                </a:lnTo>
                <a:lnTo>
                  <a:pt x="54" y="2360"/>
                </a:lnTo>
                <a:lnTo>
                  <a:pt x="0" y="2347"/>
                </a:lnTo>
                <a:lnTo>
                  <a:pt x="0" y="2348"/>
                </a:lnTo>
                <a:lnTo>
                  <a:pt x="0" y="2350"/>
                </a:lnTo>
                <a:lnTo>
                  <a:pt x="0" y="2350"/>
                </a:lnTo>
                <a:lnTo>
                  <a:pt x="0" y="2352"/>
                </a:lnTo>
                <a:lnTo>
                  <a:pt x="0" y="2354"/>
                </a:lnTo>
                <a:lnTo>
                  <a:pt x="0" y="2356"/>
                </a:lnTo>
                <a:lnTo>
                  <a:pt x="2" y="2356"/>
                </a:lnTo>
                <a:lnTo>
                  <a:pt x="2" y="2358"/>
                </a:lnTo>
                <a:close/>
              </a:path>
            </a:pathLst>
          </a:custGeom>
          <a:solidFill>
            <a:srgbClr val="1fa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Freeform 304"/>
          <p:cNvSpPr/>
          <p:nvPr/>
        </p:nvSpPr>
        <p:spPr>
          <a:xfrm>
            <a:off x="5873760" y="1349280"/>
            <a:ext cx="1146240" cy="3786120"/>
          </a:xfrm>
          <a:custGeom>
            <a:avLst/>
            <a:gdLst>
              <a:gd name="textAreaLeft" fmla="*/ 0 w 1146240"/>
              <a:gd name="textAreaRight" fmla="*/ 1146600 w 1146240"/>
              <a:gd name="textAreaTop" fmla="*/ 0 h 3786120"/>
              <a:gd name="textAreaBottom" fmla="*/ 3786480 h 3786120"/>
            </a:gdLst>
            <a:ahLst/>
            <a:rect l="textAreaLeft" t="textAreaTop" r="textAreaRight" b="textAreaBottom"/>
            <a:pathLst>
              <a:path w="722" h="2385">
                <a:moveTo>
                  <a:pt x="674" y="63"/>
                </a:moveTo>
                <a:lnTo>
                  <a:pt x="651" y="54"/>
                </a:lnTo>
                <a:lnTo>
                  <a:pt x="593" y="38"/>
                </a:lnTo>
                <a:lnTo>
                  <a:pt x="536" y="25"/>
                </a:lnTo>
                <a:lnTo>
                  <a:pt x="478" y="15"/>
                </a:lnTo>
                <a:lnTo>
                  <a:pt x="419" y="7"/>
                </a:lnTo>
                <a:lnTo>
                  <a:pt x="357" y="2"/>
                </a:lnTo>
                <a:lnTo>
                  <a:pt x="296" y="0"/>
                </a:lnTo>
                <a:lnTo>
                  <a:pt x="292" y="0"/>
                </a:lnTo>
                <a:lnTo>
                  <a:pt x="292" y="2"/>
                </a:lnTo>
                <a:lnTo>
                  <a:pt x="290" y="4"/>
                </a:lnTo>
                <a:lnTo>
                  <a:pt x="290" y="6"/>
                </a:lnTo>
                <a:lnTo>
                  <a:pt x="290" y="6"/>
                </a:lnTo>
                <a:lnTo>
                  <a:pt x="288" y="7"/>
                </a:lnTo>
                <a:lnTo>
                  <a:pt x="288" y="9"/>
                </a:lnTo>
                <a:lnTo>
                  <a:pt x="288" y="9"/>
                </a:lnTo>
                <a:lnTo>
                  <a:pt x="286" y="11"/>
                </a:lnTo>
                <a:lnTo>
                  <a:pt x="296" y="11"/>
                </a:lnTo>
                <a:lnTo>
                  <a:pt x="357" y="13"/>
                </a:lnTo>
                <a:lnTo>
                  <a:pt x="417" y="17"/>
                </a:lnTo>
                <a:lnTo>
                  <a:pt x="476" y="25"/>
                </a:lnTo>
                <a:lnTo>
                  <a:pt x="534" y="34"/>
                </a:lnTo>
                <a:lnTo>
                  <a:pt x="591" y="48"/>
                </a:lnTo>
                <a:lnTo>
                  <a:pt x="647" y="65"/>
                </a:lnTo>
                <a:lnTo>
                  <a:pt x="670" y="73"/>
                </a:lnTo>
                <a:lnTo>
                  <a:pt x="670" y="71"/>
                </a:lnTo>
                <a:lnTo>
                  <a:pt x="670" y="69"/>
                </a:lnTo>
                <a:lnTo>
                  <a:pt x="672" y="69"/>
                </a:lnTo>
                <a:lnTo>
                  <a:pt x="672" y="67"/>
                </a:lnTo>
                <a:lnTo>
                  <a:pt x="672" y="65"/>
                </a:lnTo>
                <a:lnTo>
                  <a:pt x="674" y="65"/>
                </a:lnTo>
                <a:lnTo>
                  <a:pt x="674" y="63"/>
                </a:lnTo>
                <a:lnTo>
                  <a:pt x="674" y="63"/>
                </a:lnTo>
                <a:close/>
                <a:moveTo>
                  <a:pt x="2" y="2348"/>
                </a:moveTo>
                <a:lnTo>
                  <a:pt x="56" y="2360"/>
                </a:lnTo>
                <a:lnTo>
                  <a:pt x="113" y="2371"/>
                </a:lnTo>
                <a:lnTo>
                  <a:pt x="175" y="2379"/>
                </a:lnTo>
                <a:lnTo>
                  <a:pt x="234" y="2383"/>
                </a:lnTo>
                <a:lnTo>
                  <a:pt x="296" y="2385"/>
                </a:lnTo>
                <a:lnTo>
                  <a:pt x="357" y="2383"/>
                </a:lnTo>
                <a:lnTo>
                  <a:pt x="419" y="2379"/>
                </a:lnTo>
                <a:lnTo>
                  <a:pt x="478" y="2371"/>
                </a:lnTo>
                <a:lnTo>
                  <a:pt x="536" y="2360"/>
                </a:lnTo>
                <a:lnTo>
                  <a:pt x="593" y="2348"/>
                </a:lnTo>
                <a:lnTo>
                  <a:pt x="651" y="2331"/>
                </a:lnTo>
                <a:lnTo>
                  <a:pt x="706" y="2312"/>
                </a:lnTo>
                <a:lnTo>
                  <a:pt x="722" y="2306"/>
                </a:lnTo>
                <a:lnTo>
                  <a:pt x="718" y="2296"/>
                </a:lnTo>
                <a:lnTo>
                  <a:pt x="703" y="2302"/>
                </a:lnTo>
                <a:lnTo>
                  <a:pt x="647" y="2321"/>
                </a:lnTo>
                <a:lnTo>
                  <a:pt x="591" y="2337"/>
                </a:lnTo>
                <a:lnTo>
                  <a:pt x="534" y="2350"/>
                </a:lnTo>
                <a:lnTo>
                  <a:pt x="476" y="2360"/>
                </a:lnTo>
                <a:lnTo>
                  <a:pt x="417" y="2367"/>
                </a:lnTo>
                <a:lnTo>
                  <a:pt x="357" y="2373"/>
                </a:lnTo>
                <a:lnTo>
                  <a:pt x="296" y="2375"/>
                </a:lnTo>
                <a:lnTo>
                  <a:pt x="234" y="2373"/>
                </a:lnTo>
                <a:lnTo>
                  <a:pt x="175" y="2367"/>
                </a:lnTo>
                <a:lnTo>
                  <a:pt x="115" y="2360"/>
                </a:lnTo>
                <a:lnTo>
                  <a:pt x="58" y="2350"/>
                </a:lnTo>
                <a:lnTo>
                  <a:pt x="0" y="2337"/>
                </a:lnTo>
                <a:lnTo>
                  <a:pt x="0" y="2337"/>
                </a:lnTo>
                <a:lnTo>
                  <a:pt x="0" y="2339"/>
                </a:lnTo>
                <a:lnTo>
                  <a:pt x="0" y="2341"/>
                </a:lnTo>
                <a:lnTo>
                  <a:pt x="2" y="2341"/>
                </a:lnTo>
                <a:lnTo>
                  <a:pt x="2" y="2343"/>
                </a:lnTo>
                <a:lnTo>
                  <a:pt x="2" y="2344"/>
                </a:lnTo>
                <a:lnTo>
                  <a:pt x="2" y="2346"/>
                </a:lnTo>
                <a:lnTo>
                  <a:pt x="2" y="2346"/>
                </a:lnTo>
                <a:lnTo>
                  <a:pt x="2" y="2348"/>
                </a:lnTo>
                <a:close/>
              </a:path>
            </a:pathLst>
          </a:custGeom>
          <a:solidFill>
            <a:srgbClr val="20a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305"/>
          <p:cNvSpPr/>
          <p:nvPr/>
        </p:nvSpPr>
        <p:spPr>
          <a:xfrm>
            <a:off x="5873760" y="1359000"/>
            <a:ext cx="1143000" cy="37670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767040"/>
              <a:gd name="textAreaBottom" fmla="*/ 3767400 h 3767040"/>
            </a:gdLst>
            <a:ahLst/>
            <a:rect l="textAreaLeft" t="textAreaTop" r="textAreaRight" b="textAreaBottom"/>
            <a:pathLst>
              <a:path w="720" h="2373">
                <a:moveTo>
                  <a:pt x="672" y="61"/>
                </a:moveTo>
                <a:lnTo>
                  <a:pt x="649" y="53"/>
                </a:lnTo>
                <a:lnTo>
                  <a:pt x="593" y="38"/>
                </a:lnTo>
                <a:lnTo>
                  <a:pt x="536" y="25"/>
                </a:lnTo>
                <a:lnTo>
                  <a:pt x="476" y="13"/>
                </a:lnTo>
                <a:lnTo>
                  <a:pt x="417" y="5"/>
                </a:lnTo>
                <a:lnTo>
                  <a:pt x="357" y="1"/>
                </a:lnTo>
                <a:lnTo>
                  <a:pt x="296" y="0"/>
                </a:lnTo>
                <a:lnTo>
                  <a:pt x="290" y="0"/>
                </a:lnTo>
                <a:lnTo>
                  <a:pt x="288" y="1"/>
                </a:lnTo>
                <a:lnTo>
                  <a:pt x="288" y="3"/>
                </a:lnTo>
                <a:lnTo>
                  <a:pt x="288" y="3"/>
                </a:lnTo>
                <a:lnTo>
                  <a:pt x="286" y="5"/>
                </a:lnTo>
                <a:lnTo>
                  <a:pt x="286" y="7"/>
                </a:lnTo>
                <a:lnTo>
                  <a:pt x="286" y="7"/>
                </a:lnTo>
                <a:lnTo>
                  <a:pt x="284" y="9"/>
                </a:lnTo>
                <a:lnTo>
                  <a:pt x="284" y="11"/>
                </a:lnTo>
                <a:lnTo>
                  <a:pt x="296" y="11"/>
                </a:lnTo>
                <a:lnTo>
                  <a:pt x="357" y="13"/>
                </a:lnTo>
                <a:lnTo>
                  <a:pt x="417" y="17"/>
                </a:lnTo>
                <a:lnTo>
                  <a:pt x="474" y="25"/>
                </a:lnTo>
                <a:lnTo>
                  <a:pt x="534" y="34"/>
                </a:lnTo>
                <a:lnTo>
                  <a:pt x="589" y="48"/>
                </a:lnTo>
                <a:lnTo>
                  <a:pt x="645" y="63"/>
                </a:lnTo>
                <a:lnTo>
                  <a:pt x="668" y="71"/>
                </a:lnTo>
                <a:lnTo>
                  <a:pt x="668" y="69"/>
                </a:lnTo>
                <a:lnTo>
                  <a:pt x="668" y="69"/>
                </a:lnTo>
                <a:lnTo>
                  <a:pt x="670" y="67"/>
                </a:lnTo>
                <a:lnTo>
                  <a:pt x="670" y="67"/>
                </a:lnTo>
                <a:lnTo>
                  <a:pt x="670" y="65"/>
                </a:lnTo>
                <a:lnTo>
                  <a:pt x="670" y="63"/>
                </a:lnTo>
                <a:lnTo>
                  <a:pt x="672" y="63"/>
                </a:lnTo>
                <a:lnTo>
                  <a:pt x="672" y="61"/>
                </a:lnTo>
                <a:close/>
                <a:moveTo>
                  <a:pt x="2" y="2337"/>
                </a:moveTo>
                <a:lnTo>
                  <a:pt x="56" y="2350"/>
                </a:lnTo>
                <a:lnTo>
                  <a:pt x="115" y="2360"/>
                </a:lnTo>
                <a:lnTo>
                  <a:pt x="175" y="2367"/>
                </a:lnTo>
                <a:lnTo>
                  <a:pt x="234" y="2373"/>
                </a:lnTo>
                <a:lnTo>
                  <a:pt x="296" y="2373"/>
                </a:lnTo>
                <a:lnTo>
                  <a:pt x="357" y="2373"/>
                </a:lnTo>
                <a:lnTo>
                  <a:pt x="417" y="2367"/>
                </a:lnTo>
                <a:lnTo>
                  <a:pt x="476" y="2360"/>
                </a:lnTo>
                <a:lnTo>
                  <a:pt x="536" y="2350"/>
                </a:lnTo>
                <a:lnTo>
                  <a:pt x="593" y="2337"/>
                </a:lnTo>
                <a:lnTo>
                  <a:pt x="649" y="2321"/>
                </a:lnTo>
                <a:lnTo>
                  <a:pt x="705" y="2302"/>
                </a:lnTo>
                <a:lnTo>
                  <a:pt x="720" y="2294"/>
                </a:lnTo>
                <a:lnTo>
                  <a:pt x="716" y="2285"/>
                </a:lnTo>
                <a:lnTo>
                  <a:pt x="701" y="2292"/>
                </a:lnTo>
                <a:lnTo>
                  <a:pt x="645" y="2310"/>
                </a:lnTo>
                <a:lnTo>
                  <a:pt x="589" y="2327"/>
                </a:lnTo>
                <a:lnTo>
                  <a:pt x="534" y="2338"/>
                </a:lnTo>
                <a:lnTo>
                  <a:pt x="474" y="2350"/>
                </a:lnTo>
                <a:lnTo>
                  <a:pt x="417" y="2358"/>
                </a:lnTo>
                <a:lnTo>
                  <a:pt x="357" y="2361"/>
                </a:lnTo>
                <a:lnTo>
                  <a:pt x="296" y="2363"/>
                </a:lnTo>
                <a:lnTo>
                  <a:pt x="236" y="2361"/>
                </a:lnTo>
                <a:lnTo>
                  <a:pt x="175" y="2358"/>
                </a:lnTo>
                <a:lnTo>
                  <a:pt x="117" y="2350"/>
                </a:lnTo>
                <a:lnTo>
                  <a:pt x="60" y="2338"/>
                </a:lnTo>
                <a:lnTo>
                  <a:pt x="2" y="2327"/>
                </a:lnTo>
                <a:lnTo>
                  <a:pt x="0" y="2325"/>
                </a:lnTo>
                <a:lnTo>
                  <a:pt x="0" y="2327"/>
                </a:lnTo>
                <a:lnTo>
                  <a:pt x="0" y="2329"/>
                </a:lnTo>
                <a:lnTo>
                  <a:pt x="0" y="2329"/>
                </a:lnTo>
                <a:lnTo>
                  <a:pt x="0" y="2331"/>
                </a:lnTo>
                <a:lnTo>
                  <a:pt x="0" y="2333"/>
                </a:lnTo>
                <a:lnTo>
                  <a:pt x="0" y="2335"/>
                </a:lnTo>
                <a:lnTo>
                  <a:pt x="2" y="2335"/>
                </a:lnTo>
                <a:lnTo>
                  <a:pt x="2" y="2337"/>
                </a:lnTo>
                <a:close/>
              </a:path>
            </a:pathLst>
          </a:custGeom>
          <a:solidFill>
            <a:srgbClr val="21a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Freeform 306"/>
          <p:cNvSpPr/>
          <p:nvPr/>
        </p:nvSpPr>
        <p:spPr>
          <a:xfrm>
            <a:off x="5870520" y="1366920"/>
            <a:ext cx="1143000" cy="37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752640"/>
              <a:gd name="textAreaBottom" fmla="*/ 3753000 h 3752640"/>
            </a:gdLst>
            <a:ahLst/>
            <a:rect l="textAreaLeft" t="textAreaTop" r="textAreaRight" b="textAreaBottom"/>
            <a:pathLst>
              <a:path w="720" h="2364">
                <a:moveTo>
                  <a:pt x="672" y="62"/>
                </a:moveTo>
                <a:lnTo>
                  <a:pt x="649" y="54"/>
                </a:lnTo>
                <a:lnTo>
                  <a:pt x="593" y="37"/>
                </a:lnTo>
                <a:lnTo>
                  <a:pt x="536" y="23"/>
                </a:lnTo>
                <a:lnTo>
                  <a:pt x="478" y="14"/>
                </a:lnTo>
                <a:lnTo>
                  <a:pt x="419" y="6"/>
                </a:lnTo>
                <a:lnTo>
                  <a:pt x="359" y="2"/>
                </a:lnTo>
                <a:lnTo>
                  <a:pt x="298" y="0"/>
                </a:lnTo>
                <a:lnTo>
                  <a:pt x="288" y="0"/>
                </a:lnTo>
                <a:lnTo>
                  <a:pt x="288" y="2"/>
                </a:lnTo>
                <a:lnTo>
                  <a:pt x="288" y="2"/>
                </a:lnTo>
                <a:lnTo>
                  <a:pt x="286" y="4"/>
                </a:lnTo>
                <a:lnTo>
                  <a:pt x="286" y="6"/>
                </a:lnTo>
                <a:lnTo>
                  <a:pt x="286" y="8"/>
                </a:lnTo>
                <a:lnTo>
                  <a:pt x="284" y="8"/>
                </a:lnTo>
                <a:lnTo>
                  <a:pt x="284" y="10"/>
                </a:lnTo>
                <a:lnTo>
                  <a:pt x="284" y="12"/>
                </a:lnTo>
                <a:lnTo>
                  <a:pt x="298" y="10"/>
                </a:lnTo>
                <a:lnTo>
                  <a:pt x="357" y="12"/>
                </a:lnTo>
                <a:lnTo>
                  <a:pt x="417" y="18"/>
                </a:lnTo>
                <a:lnTo>
                  <a:pt x="476" y="25"/>
                </a:lnTo>
                <a:lnTo>
                  <a:pt x="534" y="35"/>
                </a:lnTo>
                <a:lnTo>
                  <a:pt x="591" y="48"/>
                </a:lnTo>
                <a:lnTo>
                  <a:pt x="647" y="64"/>
                </a:lnTo>
                <a:lnTo>
                  <a:pt x="666" y="71"/>
                </a:lnTo>
                <a:lnTo>
                  <a:pt x="668" y="69"/>
                </a:lnTo>
                <a:lnTo>
                  <a:pt x="668" y="67"/>
                </a:lnTo>
                <a:lnTo>
                  <a:pt x="668" y="67"/>
                </a:lnTo>
                <a:lnTo>
                  <a:pt x="670" y="66"/>
                </a:lnTo>
                <a:lnTo>
                  <a:pt x="670" y="64"/>
                </a:lnTo>
                <a:lnTo>
                  <a:pt x="670" y="64"/>
                </a:lnTo>
                <a:lnTo>
                  <a:pt x="672" y="62"/>
                </a:lnTo>
                <a:lnTo>
                  <a:pt x="672" y="62"/>
                </a:lnTo>
                <a:close/>
                <a:moveTo>
                  <a:pt x="2" y="2326"/>
                </a:moveTo>
                <a:lnTo>
                  <a:pt x="2" y="2326"/>
                </a:lnTo>
                <a:lnTo>
                  <a:pt x="60" y="2339"/>
                </a:lnTo>
                <a:lnTo>
                  <a:pt x="117" y="2349"/>
                </a:lnTo>
                <a:lnTo>
                  <a:pt x="177" y="2356"/>
                </a:lnTo>
                <a:lnTo>
                  <a:pt x="236" y="2362"/>
                </a:lnTo>
                <a:lnTo>
                  <a:pt x="298" y="2364"/>
                </a:lnTo>
                <a:lnTo>
                  <a:pt x="359" y="2362"/>
                </a:lnTo>
                <a:lnTo>
                  <a:pt x="419" y="2356"/>
                </a:lnTo>
                <a:lnTo>
                  <a:pt x="478" y="2349"/>
                </a:lnTo>
                <a:lnTo>
                  <a:pt x="536" y="2339"/>
                </a:lnTo>
                <a:lnTo>
                  <a:pt x="593" y="2326"/>
                </a:lnTo>
                <a:lnTo>
                  <a:pt x="649" y="2310"/>
                </a:lnTo>
                <a:lnTo>
                  <a:pt x="705" y="2291"/>
                </a:lnTo>
                <a:lnTo>
                  <a:pt x="720" y="2285"/>
                </a:lnTo>
                <a:lnTo>
                  <a:pt x="716" y="2276"/>
                </a:lnTo>
                <a:lnTo>
                  <a:pt x="701" y="2282"/>
                </a:lnTo>
                <a:lnTo>
                  <a:pt x="647" y="2301"/>
                </a:lnTo>
                <a:lnTo>
                  <a:pt x="591" y="2316"/>
                </a:lnTo>
                <a:lnTo>
                  <a:pt x="534" y="2330"/>
                </a:lnTo>
                <a:lnTo>
                  <a:pt x="476" y="2339"/>
                </a:lnTo>
                <a:lnTo>
                  <a:pt x="417" y="2347"/>
                </a:lnTo>
                <a:lnTo>
                  <a:pt x="357" y="2351"/>
                </a:lnTo>
                <a:lnTo>
                  <a:pt x="298" y="2353"/>
                </a:lnTo>
                <a:lnTo>
                  <a:pt x="238" y="2351"/>
                </a:lnTo>
                <a:lnTo>
                  <a:pt x="179" y="2347"/>
                </a:lnTo>
                <a:lnTo>
                  <a:pt x="119" y="2339"/>
                </a:lnTo>
                <a:lnTo>
                  <a:pt x="62" y="2330"/>
                </a:lnTo>
                <a:lnTo>
                  <a:pt x="6" y="2316"/>
                </a:lnTo>
                <a:lnTo>
                  <a:pt x="0" y="2314"/>
                </a:lnTo>
                <a:lnTo>
                  <a:pt x="0" y="2316"/>
                </a:lnTo>
                <a:lnTo>
                  <a:pt x="0" y="2318"/>
                </a:lnTo>
                <a:lnTo>
                  <a:pt x="2" y="2318"/>
                </a:lnTo>
                <a:lnTo>
                  <a:pt x="2" y="2320"/>
                </a:lnTo>
                <a:lnTo>
                  <a:pt x="2" y="2322"/>
                </a:lnTo>
                <a:lnTo>
                  <a:pt x="2" y="2324"/>
                </a:lnTo>
                <a:lnTo>
                  <a:pt x="2" y="2324"/>
                </a:lnTo>
                <a:lnTo>
                  <a:pt x="2" y="2326"/>
                </a:lnTo>
                <a:close/>
              </a:path>
            </a:pathLst>
          </a:custGeom>
          <a:solidFill>
            <a:srgbClr val="22a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Freeform 307"/>
          <p:cNvSpPr/>
          <p:nvPr/>
        </p:nvSpPr>
        <p:spPr>
          <a:xfrm>
            <a:off x="5870520" y="1376280"/>
            <a:ext cx="1139760" cy="3733920"/>
          </a:xfrm>
          <a:custGeom>
            <a:avLst/>
            <a:gdLst>
              <a:gd name="textAreaLeft" fmla="*/ 0 w 1139760"/>
              <a:gd name="textAreaRight" fmla="*/ 1139760 w 1139760"/>
              <a:gd name="textAreaTop" fmla="*/ 0 h 3733920"/>
              <a:gd name="textAreaBottom" fmla="*/ 3734280 h 3733920"/>
            </a:gdLst>
            <a:ahLst/>
            <a:rect l="textAreaLeft" t="textAreaTop" r="textAreaRight" b="textAreaBottom"/>
            <a:pathLst>
              <a:path w="718" h="2352">
                <a:moveTo>
                  <a:pt x="670" y="60"/>
                </a:moveTo>
                <a:lnTo>
                  <a:pt x="647" y="52"/>
                </a:lnTo>
                <a:lnTo>
                  <a:pt x="591" y="37"/>
                </a:lnTo>
                <a:lnTo>
                  <a:pt x="536" y="23"/>
                </a:lnTo>
                <a:lnTo>
                  <a:pt x="476" y="14"/>
                </a:lnTo>
                <a:lnTo>
                  <a:pt x="419" y="6"/>
                </a:lnTo>
                <a:lnTo>
                  <a:pt x="359" y="2"/>
                </a:lnTo>
                <a:lnTo>
                  <a:pt x="298" y="0"/>
                </a:lnTo>
                <a:lnTo>
                  <a:pt x="286" y="0"/>
                </a:lnTo>
                <a:lnTo>
                  <a:pt x="286" y="2"/>
                </a:lnTo>
                <a:lnTo>
                  <a:pt x="284" y="2"/>
                </a:lnTo>
                <a:lnTo>
                  <a:pt x="284" y="4"/>
                </a:lnTo>
                <a:lnTo>
                  <a:pt x="284" y="6"/>
                </a:lnTo>
                <a:lnTo>
                  <a:pt x="282" y="6"/>
                </a:lnTo>
                <a:lnTo>
                  <a:pt x="282" y="8"/>
                </a:lnTo>
                <a:lnTo>
                  <a:pt x="282" y="10"/>
                </a:lnTo>
                <a:lnTo>
                  <a:pt x="282" y="10"/>
                </a:lnTo>
                <a:lnTo>
                  <a:pt x="298" y="10"/>
                </a:lnTo>
                <a:lnTo>
                  <a:pt x="357" y="12"/>
                </a:lnTo>
                <a:lnTo>
                  <a:pt x="417" y="15"/>
                </a:lnTo>
                <a:lnTo>
                  <a:pt x="476" y="23"/>
                </a:lnTo>
                <a:lnTo>
                  <a:pt x="532" y="35"/>
                </a:lnTo>
                <a:lnTo>
                  <a:pt x="589" y="46"/>
                </a:lnTo>
                <a:lnTo>
                  <a:pt x="645" y="63"/>
                </a:lnTo>
                <a:lnTo>
                  <a:pt x="664" y="69"/>
                </a:lnTo>
                <a:lnTo>
                  <a:pt x="664" y="67"/>
                </a:lnTo>
                <a:lnTo>
                  <a:pt x="666" y="67"/>
                </a:lnTo>
                <a:lnTo>
                  <a:pt x="666" y="65"/>
                </a:lnTo>
                <a:lnTo>
                  <a:pt x="666" y="65"/>
                </a:lnTo>
                <a:lnTo>
                  <a:pt x="668" y="63"/>
                </a:lnTo>
                <a:lnTo>
                  <a:pt x="668" y="61"/>
                </a:lnTo>
                <a:lnTo>
                  <a:pt x="668" y="61"/>
                </a:lnTo>
                <a:lnTo>
                  <a:pt x="670" y="60"/>
                </a:lnTo>
                <a:close/>
                <a:moveTo>
                  <a:pt x="2" y="2314"/>
                </a:moveTo>
                <a:lnTo>
                  <a:pt x="4" y="2316"/>
                </a:lnTo>
                <a:lnTo>
                  <a:pt x="62" y="2327"/>
                </a:lnTo>
                <a:lnTo>
                  <a:pt x="119" y="2339"/>
                </a:lnTo>
                <a:lnTo>
                  <a:pt x="177" y="2347"/>
                </a:lnTo>
                <a:lnTo>
                  <a:pt x="238" y="2350"/>
                </a:lnTo>
                <a:lnTo>
                  <a:pt x="298" y="2352"/>
                </a:lnTo>
                <a:lnTo>
                  <a:pt x="359" y="2350"/>
                </a:lnTo>
                <a:lnTo>
                  <a:pt x="419" y="2347"/>
                </a:lnTo>
                <a:lnTo>
                  <a:pt x="476" y="2339"/>
                </a:lnTo>
                <a:lnTo>
                  <a:pt x="536" y="2327"/>
                </a:lnTo>
                <a:lnTo>
                  <a:pt x="591" y="2316"/>
                </a:lnTo>
                <a:lnTo>
                  <a:pt x="647" y="2299"/>
                </a:lnTo>
                <a:lnTo>
                  <a:pt x="703" y="2281"/>
                </a:lnTo>
                <a:lnTo>
                  <a:pt x="718" y="2274"/>
                </a:lnTo>
                <a:lnTo>
                  <a:pt x="712" y="2264"/>
                </a:lnTo>
                <a:lnTo>
                  <a:pt x="699" y="2270"/>
                </a:lnTo>
                <a:lnTo>
                  <a:pt x="645" y="2289"/>
                </a:lnTo>
                <a:lnTo>
                  <a:pt x="589" y="2304"/>
                </a:lnTo>
                <a:lnTo>
                  <a:pt x="532" y="2318"/>
                </a:lnTo>
                <a:lnTo>
                  <a:pt x="476" y="2327"/>
                </a:lnTo>
                <a:lnTo>
                  <a:pt x="417" y="2335"/>
                </a:lnTo>
                <a:lnTo>
                  <a:pt x="357" y="2339"/>
                </a:lnTo>
                <a:lnTo>
                  <a:pt x="298" y="2341"/>
                </a:lnTo>
                <a:lnTo>
                  <a:pt x="238" y="2339"/>
                </a:lnTo>
                <a:lnTo>
                  <a:pt x="179" y="2335"/>
                </a:lnTo>
                <a:lnTo>
                  <a:pt x="121" y="2327"/>
                </a:lnTo>
                <a:lnTo>
                  <a:pt x="64" y="2318"/>
                </a:lnTo>
                <a:lnTo>
                  <a:pt x="6" y="2304"/>
                </a:lnTo>
                <a:lnTo>
                  <a:pt x="0" y="2303"/>
                </a:lnTo>
                <a:lnTo>
                  <a:pt x="0" y="2304"/>
                </a:lnTo>
                <a:lnTo>
                  <a:pt x="0" y="2306"/>
                </a:lnTo>
                <a:lnTo>
                  <a:pt x="0" y="2306"/>
                </a:lnTo>
                <a:lnTo>
                  <a:pt x="0" y="2308"/>
                </a:lnTo>
                <a:lnTo>
                  <a:pt x="0" y="2310"/>
                </a:lnTo>
                <a:lnTo>
                  <a:pt x="0" y="2312"/>
                </a:lnTo>
                <a:lnTo>
                  <a:pt x="2" y="2312"/>
                </a:lnTo>
                <a:lnTo>
                  <a:pt x="2" y="2314"/>
                </a:lnTo>
                <a:close/>
              </a:path>
            </a:pathLst>
          </a:custGeom>
          <a:solidFill>
            <a:srgbClr val="23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Freeform 308"/>
          <p:cNvSpPr/>
          <p:nvPr/>
        </p:nvSpPr>
        <p:spPr>
          <a:xfrm>
            <a:off x="5867280" y="1382760"/>
            <a:ext cx="1140120" cy="3719520"/>
          </a:xfrm>
          <a:custGeom>
            <a:avLst/>
            <a:gdLst>
              <a:gd name="textAreaLeft" fmla="*/ 0 w 1140120"/>
              <a:gd name="textAreaRight" fmla="*/ 1140480 w 1140120"/>
              <a:gd name="textAreaTop" fmla="*/ 0 h 3719520"/>
              <a:gd name="textAreaBottom" fmla="*/ 3719880 h 3719520"/>
            </a:gdLst>
            <a:ahLst/>
            <a:rect l="textAreaLeft" t="textAreaTop" r="textAreaRight" b="textAreaBottom"/>
            <a:pathLst>
              <a:path w="718" h="2343">
                <a:moveTo>
                  <a:pt x="668" y="61"/>
                </a:moveTo>
                <a:lnTo>
                  <a:pt x="649" y="54"/>
                </a:lnTo>
                <a:lnTo>
                  <a:pt x="593" y="38"/>
                </a:lnTo>
                <a:lnTo>
                  <a:pt x="536" y="25"/>
                </a:lnTo>
                <a:lnTo>
                  <a:pt x="478" y="15"/>
                </a:lnTo>
                <a:lnTo>
                  <a:pt x="419" y="8"/>
                </a:lnTo>
                <a:lnTo>
                  <a:pt x="359" y="2"/>
                </a:lnTo>
                <a:lnTo>
                  <a:pt x="300" y="0"/>
                </a:lnTo>
                <a:lnTo>
                  <a:pt x="286" y="2"/>
                </a:lnTo>
                <a:lnTo>
                  <a:pt x="284" y="2"/>
                </a:lnTo>
                <a:lnTo>
                  <a:pt x="284" y="4"/>
                </a:lnTo>
                <a:lnTo>
                  <a:pt x="284" y="6"/>
                </a:lnTo>
                <a:lnTo>
                  <a:pt x="284" y="6"/>
                </a:lnTo>
                <a:lnTo>
                  <a:pt x="282" y="8"/>
                </a:lnTo>
                <a:lnTo>
                  <a:pt x="282" y="10"/>
                </a:lnTo>
                <a:lnTo>
                  <a:pt x="282" y="11"/>
                </a:lnTo>
                <a:lnTo>
                  <a:pt x="281" y="11"/>
                </a:lnTo>
                <a:lnTo>
                  <a:pt x="300" y="11"/>
                </a:lnTo>
                <a:lnTo>
                  <a:pt x="359" y="13"/>
                </a:lnTo>
                <a:lnTo>
                  <a:pt x="419" y="17"/>
                </a:lnTo>
                <a:lnTo>
                  <a:pt x="476" y="25"/>
                </a:lnTo>
                <a:lnTo>
                  <a:pt x="534" y="34"/>
                </a:lnTo>
                <a:lnTo>
                  <a:pt x="590" y="48"/>
                </a:lnTo>
                <a:lnTo>
                  <a:pt x="645" y="63"/>
                </a:lnTo>
                <a:lnTo>
                  <a:pt x="664" y="71"/>
                </a:lnTo>
                <a:lnTo>
                  <a:pt x="664" y="69"/>
                </a:lnTo>
                <a:lnTo>
                  <a:pt x="664" y="67"/>
                </a:lnTo>
                <a:lnTo>
                  <a:pt x="666" y="67"/>
                </a:lnTo>
                <a:lnTo>
                  <a:pt x="666" y="65"/>
                </a:lnTo>
                <a:lnTo>
                  <a:pt x="666" y="63"/>
                </a:lnTo>
                <a:lnTo>
                  <a:pt x="668" y="63"/>
                </a:lnTo>
                <a:lnTo>
                  <a:pt x="668" y="61"/>
                </a:lnTo>
                <a:lnTo>
                  <a:pt x="668" y="61"/>
                </a:lnTo>
                <a:close/>
                <a:moveTo>
                  <a:pt x="2" y="2304"/>
                </a:moveTo>
                <a:lnTo>
                  <a:pt x="8" y="2306"/>
                </a:lnTo>
                <a:lnTo>
                  <a:pt x="64" y="2320"/>
                </a:lnTo>
                <a:lnTo>
                  <a:pt x="121" y="2329"/>
                </a:lnTo>
                <a:lnTo>
                  <a:pt x="181" y="2337"/>
                </a:lnTo>
                <a:lnTo>
                  <a:pt x="240" y="2341"/>
                </a:lnTo>
                <a:lnTo>
                  <a:pt x="300" y="2343"/>
                </a:lnTo>
                <a:lnTo>
                  <a:pt x="359" y="2341"/>
                </a:lnTo>
                <a:lnTo>
                  <a:pt x="419" y="2337"/>
                </a:lnTo>
                <a:lnTo>
                  <a:pt x="478" y="2329"/>
                </a:lnTo>
                <a:lnTo>
                  <a:pt x="536" y="2320"/>
                </a:lnTo>
                <a:lnTo>
                  <a:pt x="593" y="2306"/>
                </a:lnTo>
                <a:lnTo>
                  <a:pt x="649" y="2291"/>
                </a:lnTo>
                <a:lnTo>
                  <a:pt x="703" y="2272"/>
                </a:lnTo>
                <a:lnTo>
                  <a:pt x="718" y="2266"/>
                </a:lnTo>
                <a:lnTo>
                  <a:pt x="712" y="2256"/>
                </a:lnTo>
                <a:lnTo>
                  <a:pt x="699" y="2262"/>
                </a:lnTo>
                <a:lnTo>
                  <a:pt x="645" y="2279"/>
                </a:lnTo>
                <a:lnTo>
                  <a:pt x="590" y="2295"/>
                </a:lnTo>
                <a:lnTo>
                  <a:pt x="534" y="2308"/>
                </a:lnTo>
                <a:lnTo>
                  <a:pt x="476" y="2320"/>
                </a:lnTo>
                <a:lnTo>
                  <a:pt x="419" y="2325"/>
                </a:lnTo>
                <a:lnTo>
                  <a:pt x="359" y="2331"/>
                </a:lnTo>
                <a:lnTo>
                  <a:pt x="300" y="2331"/>
                </a:lnTo>
                <a:lnTo>
                  <a:pt x="240" y="2331"/>
                </a:lnTo>
                <a:lnTo>
                  <a:pt x="181" y="2325"/>
                </a:lnTo>
                <a:lnTo>
                  <a:pt x="123" y="2320"/>
                </a:lnTo>
                <a:lnTo>
                  <a:pt x="66" y="2308"/>
                </a:lnTo>
                <a:lnTo>
                  <a:pt x="10" y="2295"/>
                </a:lnTo>
                <a:lnTo>
                  <a:pt x="0" y="2293"/>
                </a:lnTo>
                <a:lnTo>
                  <a:pt x="0" y="2295"/>
                </a:lnTo>
                <a:lnTo>
                  <a:pt x="0" y="2297"/>
                </a:lnTo>
                <a:lnTo>
                  <a:pt x="2" y="2297"/>
                </a:lnTo>
                <a:lnTo>
                  <a:pt x="2" y="2299"/>
                </a:lnTo>
                <a:lnTo>
                  <a:pt x="2" y="2300"/>
                </a:lnTo>
                <a:lnTo>
                  <a:pt x="2" y="2302"/>
                </a:lnTo>
                <a:lnTo>
                  <a:pt x="2" y="2302"/>
                </a:lnTo>
                <a:lnTo>
                  <a:pt x="2" y="2304"/>
                </a:lnTo>
                <a:close/>
              </a:path>
            </a:pathLst>
          </a:custGeom>
          <a:solidFill>
            <a:srgbClr val="24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Freeform 309"/>
          <p:cNvSpPr/>
          <p:nvPr/>
        </p:nvSpPr>
        <p:spPr>
          <a:xfrm>
            <a:off x="5867280" y="1392120"/>
            <a:ext cx="1133640" cy="3700440"/>
          </a:xfrm>
          <a:custGeom>
            <a:avLst/>
            <a:gdLst>
              <a:gd name="textAreaLeft" fmla="*/ 0 w 1133640"/>
              <a:gd name="textAreaRight" fmla="*/ 1134000 w 1133640"/>
              <a:gd name="textAreaTop" fmla="*/ 0 h 3700440"/>
              <a:gd name="textAreaBottom" fmla="*/ 3700440 h 3700440"/>
            </a:gdLst>
            <a:ahLst/>
            <a:rect l="textAreaLeft" t="textAreaTop" r="textAreaRight" b="textAreaBottom"/>
            <a:pathLst>
              <a:path w="714" h="2331">
                <a:moveTo>
                  <a:pt x="666" y="59"/>
                </a:moveTo>
                <a:lnTo>
                  <a:pt x="647" y="53"/>
                </a:lnTo>
                <a:lnTo>
                  <a:pt x="591" y="36"/>
                </a:lnTo>
                <a:lnTo>
                  <a:pt x="534" y="25"/>
                </a:lnTo>
                <a:lnTo>
                  <a:pt x="478" y="13"/>
                </a:lnTo>
                <a:lnTo>
                  <a:pt x="419" y="5"/>
                </a:lnTo>
                <a:lnTo>
                  <a:pt x="359" y="2"/>
                </a:lnTo>
                <a:lnTo>
                  <a:pt x="300" y="0"/>
                </a:lnTo>
                <a:lnTo>
                  <a:pt x="284" y="0"/>
                </a:lnTo>
                <a:lnTo>
                  <a:pt x="282" y="2"/>
                </a:lnTo>
                <a:lnTo>
                  <a:pt x="282" y="4"/>
                </a:lnTo>
                <a:lnTo>
                  <a:pt x="282" y="5"/>
                </a:lnTo>
                <a:lnTo>
                  <a:pt x="281" y="5"/>
                </a:lnTo>
                <a:lnTo>
                  <a:pt x="281" y="7"/>
                </a:lnTo>
                <a:lnTo>
                  <a:pt x="281" y="9"/>
                </a:lnTo>
                <a:lnTo>
                  <a:pt x="279" y="9"/>
                </a:lnTo>
                <a:lnTo>
                  <a:pt x="279" y="11"/>
                </a:lnTo>
                <a:lnTo>
                  <a:pt x="300" y="11"/>
                </a:lnTo>
                <a:lnTo>
                  <a:pt x="359" y="13"/>
                </a:lnTo>
                <a:lnTo>
                  <a:pt x="419" y="17"/>
                </a:lnTo>
                <a:lnTo>
                  <a:pt x="476" y="25"/>
                </a:lnTo>
                <a:lnTo>
                  <a:pt x="532" y="34"/>
                </a:lnTo>
                <a:lnTo>
                  <a:pt x="588" y="48"/>
                </a:lnTo>
                <a:lnTo>
                  <a:pt x="643" y="63"/>
                </a:lnTo>
                <a:lnTo>
                  <a:pt x="661" y="69"/>
                </a:lnTo>
                <a:lnTo>
                  <a:pt x="662" y="67"/>
                </a:lnTo>
                <a:lnTo>
                  <a:pt x="662" y="67"/>
                </a:lnTo>
                <a:lnTo>
                  <a:pt x="662" y="65"/>
                </a:lnTo>
                <a:lnTo>
                  <a:pt x="664" y="65"/>
                </a:lnTo>
                <a:lnTo>
                  <a:pt x="664" y="63"/>
                </a:lnTo>
                <a:lnTo>
                  <a:pt x="664" y="61"/>
                </a:lnTo>
                <a:lnTo>
                  <a:pt x="666" y="61"/>
                </a:lnTo>
                <a:lnTo>
                  <a:pt x="666" y="59"/>
                </a:lnTo>
                <a:close/>
                <a:moveTo>
                  <a:pt x="2" y="2293"/>
                </a:moveTo>
                <a:lnTo>
                  <a:pt x="8" y="2294"/>
                </a:lnTo>
                <a:lnTo>
                  <a:pt x="66" y="2308"/>
                </a:lnTo>
                <a:lnTo>
                  <a:pt x="123" y="2317"/>
                </a:lnTo>
                <a:lnTo>
                  <a:pt x="181" y="2325"/>
                </a:lnTo>
                <a:lnTo>
                  <a:pt x="240" y="2329"/>
                </a:lnTo>
                <a:lnTo>
                  <a:pt x="300" y="2331"/>
                </a:lnTo>
                <a:lnTo>
                  <a:pt x="359" y="2329"/>
                </a:lnTo>
                <a:lnTo>
                  <a:pt x="419" y="2325"/>
                </a:lnTo>
                <a:lnTo>
                  <a:pt x="478" y="2317"/>
                </a:lnTo>
                <a:lnTo>
                  <a:pt x="534" y="2308"/>
                </a:lnTo>
                <a:lnTo>
                  <a:pt x="591" y="2294"/>
                </a:lnTo>
                <a:lnTo>
                  <a:pt x="647" y="2279"/>
                </a:lnTo>
                <a:lnTo>
                  <a:pt x="701" y="2260"/>
                </a:lnTo>
                <a:lnTo>
                  <a:pt x="714" y="2254"/>
                </a:lnTo>
                <a:lnTo>
                  <a:pt x="710" y="2245"/>
                </a:lnTo>
                <a:lnTo>
                  <a:pt x="697" y="2250"/>
                </a:lnTo>
                <a:lnTo>
                  <a:pt x="643" y="2269"/>
                </a:lnTo>
                <a:lnTo>
                  <a:pt x="588" y="2285"/>
                </a:lnTo>
                <a:lnTo>
                  <a:pt x="532" y="2296"/>
                </a:lnTo>
                <a:lnTo>
                  <a:pt x="476" y="2308"/>
                </a:lnTo>
                <a:lnTo>
                  <a:pt x="419" y="2316"/>
                </a:lnTo>
                <a:lnTo>
                  <a:pt x="359" y="2319"/>
                </a:lnTo>
                <a:lnTo>
                  <a:pt x="300" y="2321"/>
                </a:lnTo>
                <a:lnTo>
                  <a:pt x="240" y="2319"/>
                </a:lnTo>
                <a:lnTo>
                  <a:pt x="183" y="2316"/>
                </a:lnTo>
                <a:lnTo>
                  <a:pt x="123" y="2308"/>
                </a:lnTo>
                <a:lnTo>
                  <a:pt x="67" y="2296"/>
                </a:lnTo>
                <a:lnTo>
                  <a:pt x="12" y="2285"/>
                </a:lnTo>
                <a:lnTo>
                  <a:pt x="0" y="2281"/>
                </a:lnTo>
                <a:lnTo>
                  <a:pt x="0" y="2283"/>
                </a:lnTo>
                <a:lnTo>
                  <a:pt x="0" y="2285"/>
                </a:lnTo>
                <a:lnTo>
                  <a:pt x="0" y="2285"/>
                </a:lnTo>
                <a:lnTo>
                  <a:pt x="0" y="2287"/>
                </a:lnTo>
                <a:lnTo>
                  <a:pt x="0" y="2289"/>
                </a:lnTo>
                <a:lnTo>
                  <a:pt x="0" y="2291"/>
                </a:lnTo>
                <a:lnTo>
                  <a:pt x="2" y="2291"/>
                </a:lnTo>
                <a:lnTo>
                  <a:pt x="2" y="2293"/>
                </a:lnTo>
                <a:close/>
              </a:path>
            </a:pathLst>
          </a:custGeom>
          <a:solidFill>
            <a:srgbClr val="25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Freeform 310"/>
          <p:cNvSpPr/>
          <p:nvPr/>
        </p:nvSpPr>
        <p:spPr>
          <a:xfrm>
            <a:off x="5864400" y="1400040"/>
            <a:ext cx="1133280" cy="3683160"/>
          </a:xfrm>
          <a:custGeom>
            <a:avLst/>
            <a:gdLst>
              <a:gd name="textAreaLeft" fmla="*/ 0 w 1133280"/>
              <a:gd name="textAreaRight" fmla="*/ 1133640 w 1133280"/>
              <a:gd name="textAreaTop" fmla="*/ 0 h 3683160"/>
              <a:gd name="textAreaBottom" fmla="*/ 3683520 h 3683160"/>
            </a:gdLst>
            <a:ahLst/>
            <a:rect l="textAreaLeft" t="textAreaTop" r="textAreaRight" b="textAreaBottom"/>
            <a:pathLst>
              <a:path w="714" h="2320">
                <a:moveTo>
                  <a:pt x="666" y="60"/>
                </a:moveTo>
                <a:lnTo>
                  <a:pt x="647" y="52"/>
                </a:lnTo>
                <a:lnTo>
                  <a:pt x="592" y="37"/>
                </a:lnTo>
                <a:lnTo>
                  <a:pt x="536" y="23"/>
                </a:lnTo>
                <a:lnTo>
                  <a:pt x="478" y="14"/>
                </a:lnTo>
                <a:lnTo>
                  <a:pt x="421" y="6"/>
                </a:lnTo>
                <a:lnTo>
                  <a:pt x="361" y="2"/>
                </a:lnTo>
                <a:lnTo>
                  <a:pt x="302" y="0"/>
                </a:lnTo>
                <a:lnTo>
                  <a:pt x="283" y="0"/>
                </a:lnTo>
                <a:lnTo>
                  <a:pt x="283" y="2"/>
                </a:lnTo>
                <a:lnTo>
                  <a:pt x="283" y="4"/>
                </a:lnTo>
                <a:lnTo>
                  <a:pt x="281" y="4"/>
                </a:lnTo>
                <a:lnTo>
                  <a:pt x="281" y="6"/>
                </a:lnTo>
                <a:lnTo>
                  <a:pt x="281" y="8"/>
                </a:lnTo>
                <a:lnTo>
                  <a:pt x="279" y="8"/>
                </a:lnTo>
                <a:lnTo>
                  <a:pt x="279" y="10"/>
                </a:lnTo>
                <a:lnTo>
                  <a:pt x="279" y="12"/>
                </a:lnTo>
                <a:lnTo>
                  <a:pt x="302" y="12"/>
                </a:lnTo>
                <a:lnTo>
                  <a:pt x="361" y="12"/>
                </a:lnTo>
                <a:lnTo>
                  <a:pt x="419" y="18"/>
                </a:lnTo>
                <a:lnTo>
                  <a:pt x="476" y="23"/>
                </a:lnTo>
                <a:lnTo>
                  <a:pt x="534" y="35"/>
                </a:lnTo>
                <a:lnTo>
                  <a:pt x="590" y="46"/>
                </a:lnTo>
                <a:lnTo>
                  <a:pt x="643" y="64"/>
                </a:lnTo>
                <a:lnTo>
                  <a:pt x="661" y="68"/>
                </a:lnTo>
                <a:lnTo>
                  <a:pt x="661" y="68"/>
                </a:lnTo>
                <a:lnTo>
                  <a:pt x="663" y="66"/>
                </a:lnTo>
                <a:lnTo>
                  <a:pt x="663" y="66"/>
                </a:lnTo>
                <a:lnTo>
                  <a:pt x="663" y="64"/>
                </a:lnTo>
                <a:lnTo>
                  <a:pt x="664" y="62"/>
                </a:lnTo>
                <a:lnTo>
                  <a:pt x="664" y="62"/>
                </a:lnTo>
                <a:lnTo>
                  <a:pt x="664" y="60"/>
                </a:lnTo>
                <a:lnTo>
                  <a:pt x="666" y="60"/>
                </a:lnTo>
                <a:close/>
                <a:moveTo>
                  <a:pt x="2" y="2282"/>
                </a:moveTo>
                <a:lnTo>
                  <a:pt x="12" y="2284"/>
                </a:lnTo>
                <a:lnTo>
                  <a:pt x="68" y="2297"/>
                </a:lnTo>
                <a:lnTo>
                  <a:pt x="125" y="2309"/>
                </a:lnTo>
                <a:lnTo>
                  <a:pt x="183" y="2314"/>
                </a:lnTo>
                <a:lnTo>
                  <a:pt x="242" y="2320"/>
                </a:lnTo>
                <a:lnTo>
                  <a:pt x="302" y="2320"/>
                </a:lnTo>
                <a:lnTo>
                  <a:pt x="361" y="2320"/>
                </a:lnTo>
                <a:lnTo>
                  <a:pt x="421" y="2314"/>
                </a:lnTo>
                <a:lnTo>
                  <a:pt x="478" y="2309"/>
                </a:lnTo>
                <a:lnTo>
                  <a:pt x="536" y="2297"/>
                </a:lnTo>
                <a:lnTo>
                  <a:pt x="592" y="2284"/>
                </a:lnTo>
                <a:lnTo>
                  <a:pt x="647" y="2268"/>
                </a:lnTo>
                <a:lnTo>
                  <a:pt x="701" y="2251"/>
                </a:lnTo>
                <a:lnTo>
                  <a:pt x="714" y="2245"/>
                </a:lnTo>
                <a:lnTo>
                  <a:pt x="711" y="2236"/>
                </a:lnTo>
                <a:lnTo>
                  <a:pt x="697" y="2241"/>
                </a:lnTo>
                <a:lnTo>
                  <a:pt x="643" y="2259"/>
                </a:lnTo>
                <a:lnTo>
                  <a:pt x="590" y="2274"/>
                </a:lnTo>
                <a:lnTo>
                  <a:pt x="534" y="2288"/>
                </a:lnTo>
                <a:lnTo>
                  <a:pt x="476" y="2297"/>
                </a:lnTo>
                <a:lnTo>
                  <a:pt x="419" y="2305"/>
                </a:lnTo>
                <a:lnTo>
                  <a:pt x="361" y="2309"/>
                </a:lnTo>
                <a:lnTo>
                  <a:pt x="302" y="2311"/>
                </a:lnTo>
                <a:lnTo>
                  <a:pt x="242" y="2309"/>
                </a:lnTo>
                <a:lnTo>
                  <a:pt x="185" y="2305"/>
                </a:lnTo>
                <a:lnTo>
                  <a:pt x="127" y="2297"/>
                </a:lnTo>
                <a:lnTo>
                  <a:pt x="69" y="2288"/>
                </a:lnTo>
                <a:lnTo>
                  <a:pt x="14" y="2274"/>
                </a:lnTo>
                <a:lnTo>
                  <a:pt x="0" y="2270"/>
                </a:lnTo>
                <a:lnTo>
                  <a:pt x="0" y="2272"/>
                </a:lnTo>
                <a:lnTo>
                  <a:pt x="0" y="2274"/>
                </a:lnTo>
                <a:lnTo>
                  <a:pt x="0" y="2274"/>
                </a:lnTo>
                <a:lnTo>
                  <a:pt x="2" y="2276"/>
                </a:lnTo>
                <a:lnTo>
                  <a:pt x="2" y="2278"/>
                </a:lnTo>
                <a:lnTo>
                  <a:pt x="2" y="2280"/>
                </a:lnTo>
                <a:lnTo>
                  <a:pt x="2" y="2280"/>
                </a:lnTo>
                <a:lnTo>
                  <a:pt x="2" y="2282"/>
                </a:lnTo>
                <a:close/>
              </a:path>
            </a:pathLst>
          </a:custGeom>
          <a:solidFill>
            <a:srgbClr val="26a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Freeform 311"/>
          <p:cNvSpPr/>
          <p:nvPr/>
        </p:nvSpPr>
        <p:spPr>
          <a:xfrm>
            <a:off x="5864400" y="1409760"/>
            <a:ext cx="1130040" cy="3666960"/>
          </a:xfrm>
          <a:custGeom>
            <a:avLst/>
            <a:gdLst>
              <a:gd name="textAreaLeft" fmla="*/ 0 w 1130040"/>
              <a:gd name="textAreaRight" fmla="*/ 1130400 w 1130040"/>
              <a:gd name="textAreaTop" fmla="*/ 0 h 3666960"/>
              <a:gd name="textAreaBottom" fmla="*/ 3667320 h 3666960"/>
            </a:gdLst>
            <a:ahLst/>
            <a:rect l="textAreaLeft" t="textAreaTop" r="textAreaRight" b="textAreaBottom"/>
            <a:pathLst>
              <a:path w="712" h="2310">
                <a:moveTo>
                  <a:pt x="663" y="58"/>
                </a:moveTo>
                <a:lnTo>
                  <a:pt x="645" y="52"/>
                </a:lnTo>
                <a:lnTo>
                  <a:pt x="590" y="37"/>
                </a:lnTo>
                <a:lnTo>
                  <a:pt x="534" y="23"/>
                </a:lnTo>
                <a:lnTo>
                  <a:pt x="478" y="14"/>
                </a:lnTo>
                <a:lnTo>
                  <a:pt x="421" y="6"/>
                </a:lnTo>
                <a:lnTo>
                  <a:pt x="361" y="2"/>
                </a:lnTo>
                <a:lnTo>
                  <a:pt x="302" y="0"/>
                </a:lnTo>
                <a:lnTo>
                  <a:pt x="281" y="0"/>
                </a:lnTo>
                <a:lnTo>
                  <a:pt x="281" y="2"/>
                </a:lnTo>
                <a:lnTo>
                  <a:pt x="279" y="2"/>
                </a:lnTo>
                <a:lnTo>
                  <a:pt x="279" y="4"/>
                </a:lnTo>
                <a:lnTo>
                  <a:pt x="279" y="6"/>
                </a:lnTo>
                <a:lnTo>
                  <a:pt x="277" y="8"/>
                </a:lnTo>
                <a:lnTo>
                  <a:pt x="277" y="8"/>
                </a:lnTo>
                <a:lnTo>
                  <a:pt x="277" y="10"/>
                </a:lnTo>
                <a:lnTo>
                  <a:pt x="277" y="12"/>
                </a:lnTo>
                <a:lnTo>
                  <a:pt x="302" y="10"/>
                </a:lnTo>
                <a:lnTo>
                  <a:pt x="361" y="12"/>
                </a:lnTo>
                <a:lnTo>
                  <a:pt x="419" y="16"/>
                </a:lnTo>
                <a:lnTo>
                  <a:pt x="476" y="23"/>
                </a:lnTo>
                <a:lnTo>
                  <a:pt x="532" y="33"/>
                </a:lnTo>
                <a:lnTo>
                  <a:pt x="588" y="46"/>
                </a:lnTo>
                <a:lnTo>
                  <a:pt x="641" y="62"/>
                </a:lnTo>
                <a:lnTo>
                  <a:pt x="659" y="67"/>
                </a:lnTo>
                <a:lnTo>
                  <a:pt x="659" y="65"/>
                </a:lnTo>
                <a:lnTo>
                  <a:pt x="659" y="65"/>
                </a:lnTo>
                <a:lnTo>
                  <a:pt x="661" y="64"/>
                </a:lnTo>
                <a:lnTo>
                  <a:pt x="661" y="64"/>
                </a:lnTo>
                <a:lnTo>
                  <a:pt x="661" y="62"/>
                </a:lnTo>
                <a:lnTo>
                  <a:pt x="663" y="60"/>
                </a:lnTo>
                <a:lnTo>
                  <a:pt x="663" y="60"/>
                </a:lnTo>
                <a:lnTo>
                  <a:pt x="663" y="58"/>
                </a:lnTo>
                <a:close/>
                <a:moveTo>
                  <a:pt x="2" y="2270"/>
                </a:moveTo>
                <a:lnTo>
                  <a:pt x="14" y="2274"/>
                </a:lnTo>
                <a:lnTo>
                  <a:pt x="69" y="2285"/>
                </a:lnTo>
                <a:lnTo>
                  <a:pt x="125" y="2297"/>
                </a:lnTo>
                <a:lnTo>
                  <a:pt x="185" y="2305"/>
                </a:lnTo>
                <a:lnTo>
                  <a:pt x="242" y="2308"/>
                </a:lnTo>
                <a:lnTo>
                  <a:pt x="302" y="2310"/>
                </a:lnTo>
                <a:lnTo>
                  <a:pt x="361" y="2308"/>
                </a:lnTo>
                <a:lnTo>
                  <a:pt x="421" y="2305"/>
                </a:lnTo>
                <a:lnTo>
                  <a:pt x="478" y="2297"/>
                </a:lnTo>
                <a:lnTo>
                  <a:pt x="534" y="2285"/>
                </a:lnTo>
                <a:lnTo>
                  <a:pt x="590" y="2274"/>
                </a:lnTo>
                <a:lnTo>
                  <a:pt x="645" y="2258"/>
                </a:lnTo>
                <a:lnTo>
                  <a:pt x="699" y="2239"/>
                </a:lnTo>
                <a:lnTo>
                  <a:pt x="712" y="2234"/>
                </a:lnTo>
                <a:lnTo>
                  <a:pt x="707" y="2224"/>
                </a:lnTo>
                <a:lnTo>
                  <a:pt x="695" y="2230"/>
                </a:lnTo>
                <a:lnTo>
                  <a:pt x="641" y="2247"/>
                </a:lnTo>
                <a:lnTo>
                  <a:pt x="588" y="2262"/>
                </a:lnTo>
                <a:lnTo>
                  <a:pt x="532" y="2276"/>
                </a:lnTo>
                <a:lnTo>
                  <a:pt x="476" y="2285"/>
                </a:lnTo>
                <a:lnTo>
                  <a:pt x="419" y="2293"/>
                </a:lnTo>
                <a:lnTo>
                  <a:pt x="361" y="2297"/>
                </a:lnTo>
                <a:lnTo>
                  <a:pt x="302" y="2299"/>
                </a:lnTo>
                <a:lnTo>
                  <a:pt x="242" y="2297"/>
                </a:lnTo>
                <a:lnTo>
                  <a:pt x="185" y="2293"/>
                </a:lnTo>
                <a:lnTo>
                  <a:pt x="127" y="2285"/>
                </a:lnTo>
                <a:lnTo>
                  <a:pt x="71" y="2276"/>
                </a:lnTo>
                <a:lnTo>
                  <a:pt x="16" y="2262"/>
                </a:lnTo>
                <a:lnTo>
                  <a:pt x="0" y="2258"/>
                </a:lnTo>
                <a:lnTo>
                  <a:pt x="0" y="2260"/>
                </a:lnTo>
                <a:lnTo>
                  <a:pt x="0" y="2260"/>
                </a:lnTo>
                <a:lnTo>
                  <a:pt x="0" y="2262"/>
                </a:lnTo>
                <a:lnTo>
                  <a:pt x="0" y="2264"/>
                </a:lnTo>
                <a:lnTo>
                  <a:pt x="0" y="2266"/>
                </a:lnTo>
                <a:lnTo>
                  <a:pt x="0" y="2268"/>
                </a:lnTo>
                <a:lnTo>
                  <a:pt x="0" y="2268"/>
                </a:lnTo>
                <a:lnTo>
                  <a:pt x="2" y="2270"/>
                </a:lnTo>
                <a:close/>
              </a:path>
            </a:pathLst>
          </a:custGeom>
          <a:solidFill>
            <a:srgbClr val="27a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reeform 312"/>
          <p:cNvSpPr/>
          <p:nvPr/>
        </p:nvSpPr>
        <p:spPr>
          <a:xfrm>
            <a:off x="5861160" y="1419120"/>
            <a:ext cx="1131840" cy="3649680"/>
          </a:xfrm>
          <a:custGeom>
            <a:avLst/>
            <a:gdLst>
              <a:gd name="textAreaLeft" fmla="*/ 0 w 1131840"/>
              <a:gd name="textAreaRight" fmla="*/ 1132200 w 1131840"/>
              <a:gd name="textAreaTop" fmla="*/ 0 h 3649680"/>
              <a:gd name="textAreaBottom" fmla="*/ 3650040 h 3649680"/>
            </a:gdLst>
            <a:ahLst/>
            <a:rect l="textAreaLeft" t="textAreaTop" r="textAreaRight" b="textAreaBottom"/>
            <a:pathLst>
              <a:path w="713" h="2299">
                <a:moveTo>
                  <a:pt x="663" y="56"/>
                </a:moveTo>
                <a:lnTo>
                  <a:pt x="645" y="52"/>
                </a:lnTo>
                <a:lnTo>
                  <a:pt x="592" y="34"/>
                </a:lnTo>
                <a:lnTo>
                  <a:pt x="536" y="23"/>
                </a:lnTo>
                <a:lnTo>
                  <a:pt x="478" y="11"/>
                </a:lnTo>
                <a:lnTo>
                  <a:pt x="421" y="6"/>
                </a:lnTo>
                <a:lnTo>
                  <a:pt x="363" y="0"/>
                </a:lnTo>
                <a:lnTo>
                  <a:pt x="304" y="0"/>
                </a:lnTo>
                <a:lnTo>
                  <a:pt x="281" y="0"/>
                </a:lnTo>
                <a:lnTo>
                  <a:pt x="279" y="2"/>
                </a:lnTo>
                <a:lnTo>
                  <a:pt x="279" y="2"/>
                </a:lnTo>
                <a:lnTo>
                  <a:pt x="279" y="4"/>
                </a:lnTo>
                <a:lnTo>
                  <a:pt x="277" y="6"/>
                </a:lnTo>
                <a:lnTo>
                  <a:pt x="277" y="6"/>
                </a:lnTo>
                <a:lnTo>
                  <a:pt x="277" y="8"/>
                </a:lnTo>
                <a:lnTo>
                  <a:pt x="277" y="10"/>
                </a:lnTo>
                <a:lnTo>
                  <a:pt x="275" y="11"/>
                </a:lnTo>
                <a:lnTo>
                  <a:pt x="304" y="10"/>
                </a:lnTo>
                <a:lnTo>
                  <a:pt x="363" y="11"/>
                </a:lnTo>
                <a:lnTo>
                  <a:pt x="421" y="15"/>
                </a:lnTo>
                <a:lnTo>
                  <a:pt x="476" y="23"/>
                </a:lnTo>
                <a:lnTo>
                  <a:pt x="534" y="33"/>
                </a:lnTo>
                <a:lnTo>
                  <a:pt x="588" y="46"/>
                </a:lnTo>
                <a:lnTo>
                  <a:pt x="643" y="61"/>
                </a:lnTo>
                <a:lnTo>
                  <a:pt x="657" y="65"/>
                </a:lnTo>
                <a:lnTo>
                  <a:pt x="659" y="65"/>
                </a:lnTo>
                <a:lnTo>
                  <a:pt x="659" y="63"/>
                </a:lnTo>
                <a:lnTo>
                  <a:pt x="659" y="63"/>
                </a:lnTo>
                <a:lnTo>
                  <a:pt x="661" y="61"/>
                </a:lnTo>
                <a:lnTo>
                  <a:pt x="661" y="59"/>
                </a:lnTo>
                <a:lnTo>
                  <a:pt x="661" y="59"/>
                </a:lnTo>
                <a:lnTo>
                  <a:pt x="663" y="58"/>
                </a:lnTo>
                <a:lnTo>
                  <a:pt x="663" y="56"/>
                </a:lnTo>
                <a:close/>
                <a:moveTo>
                  <a:pt x="2" y="2258"/>
                </a:moveTo>
                <a:lnTo>
                  <a:pt x="16" y="2262"/>
                </a:lnTo>
                <a:lnTo>
                  <a:pt x="71" y="2276"/>
                </a:lnTo>
                <a:lnTo>
                  <a:pt x="129" y="2285"/>
                </a:lnTo>
                <a:lnTo>
                  <a:pt x="187" y="2293"/>
                </a:lnTo>
                <a:lnTo>
                  <a:pt x="244" y="2297"/>
                </a:lnTo>
                <a:lnTo>
                  <a:pt x="304" y="2299"/>
                </a:lnTo>
                <a:lnTo>
                  <a:pt x="363" y="2297"/>
                </a:lnTo>
                <a:lnTo>
                  <a:pt x="421" y="2293"/>
                </a:lnTo>
                <a:lnTo>
                  <a:pt x="478" y="2285"/>
                </a:lnTo>
                <a:lnTo>
                  <a:pt x="536" y="2276"/>
                </a:lnTo>
                <a:lnTo>
                  <a:pt x="592" y="2262"/>
                </a:lnTo>
                <a:lnTo>
                  <a:pt x="645" y="2247"/>
                </a:lnTo>
                <a:lnTo>
                  <a:pt x="699" y="2229"/>
                </a:lnTo>
                <a:lnTo>
                  <a:pt x="713" y="2224"/>
                </a:lnTo>
                <a:lnTo>
                  <a:pt x="707" y="2214"/>
                </a:lnTo>
                <a:lnTo>
                  <a:pt x="695" y="2218"/>
                </a:lnTo>
                <a:lnTo>
                  <a:pt x="643" y="2237"/>
                </a:lnTo>
                <a:lnTo>
                  <a:pt x="588" y="2252"/>
                </a:lnTo>
                <a:lnTo>
                  <a:pt x="534" y="2264"/>
                </a:lnTo>
                <a:lnTo>
                  <a:pt x="476" y="2276"/>
                </a:lnTo>
                <a:lnTo>
                  <a:pt x="421" y="2281"/>
                </a:lnTo>
                <a:lnTo>
                  <a:pt x="363" y="2287"/>
                </a:lnTo>
                <a:lnTo>
                  <a:pt x="304" y="2287"/>
                </a:lnTo>
                <a:lnTo>
                  <a:pt x="246" y="2287"/>
                </a:lnTo>
                <a:lnTo>
                  <a:pt x="187" y="2281"/>
                </a:lnTo>
                <a:lnTo>
                  <a:pt x="131" y="2276"/>
                </a:lnTo>
                <a:lnTo>
                  <a:pt x="73" y="2264"/>
                </a:lnTo>
                <a:lnTo>
                  <a:pt x="20" y="2252"/>
                </a:lnTo>
                <a:lnTo>
                  <a:pt x="0" y="2247"/>
                </a:lnTo>
                <a:lnTo>
                  <a:pt x="0" y="2249"/>
                </a:lnTo>
                <a:lnTo>
                  <a:pt x="0" y="2249"/>
                </a:lnTo>
                <a:lnTo>
                  <a:pt x="0" y="2251"/>
                </a:lnTo>
                <a:lnTo>
                  <a:pt x="2" y="2252"/>
                </a:lnTo>
                <a:lnTo>
                  <a:pt x="2" y="2254"/>
                </a:lnTo>
                <a:lnTo>
                  <a:pt x="2" y="2254"/>
                </a:lnTo>
                <a:lnTo>
                  <a:pt x="2" y="2256"/>
                </a:lnTo>
                <a:lnTo>
                  <a:pt x="2" y="2258"/>
                </a:lnTo>
                <a:close/>
              </a:path>
            </a:pathLst>
          </a:custGeom>
          <a:solidFill>
            <a:srgbClr val="28a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Freeform 313"/>
          <p:cNvSpPr/>
          <p:nvPr/>
        </p:nvSpPr>
        <p:spPr>
          <a:xfrm>
            <a:off x="5861160" y="1425600"/>
            <a:ext cx="1125360" cy="363384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3633840"/>
              <a:gd name="textAreaBottom" fmla="*/ 3634200 h 3633840"/>
            </a:gdLst>
            <a:ahLst/>
            <a:rect l="textAreaLeft" t="textAreaTop" r="textAreaRight" b="textAreaBottom"/>
            <a:pathLst>
              <a:path w="709" h="2289">
                <a:moveTo>
                  <a:pt x="661" y="57"/>
                </a:moveTo>
                <a:lnTo>
                  <a:pt x="643" y="52"/>
                </a:lnTo>
                <a:lnTo>
                  <a:pt x="590" y="36"/>
                </a:lnTo>
                <a:lnTo>
                  <a:pt x="534" y="23"/>
                </a:lnTo>
                <a:lnTo>
                  <a:pt x="478" y="13"/>
                </a:lnTo>
                <a:lnTo>
                  <a:pt x="421" y="6"/>
                </a:lnTo>
                <a:lnTo>
                  <a:pt x="363" y="2"/>
                </a:lnTo>
                <a:lnTo>
                  <a:pt x="304" y="0"/>
                </a:lnTo>
                <a:lnTo>
                  <a:pt x="279" y="2"/>
                </a:lnTo>
                <a:lnTo>
                  <a:pt x="277" y="2"/>
                </a:lnTo>
                <a:lnTo>
                  <a:pt x="277" y="4"/>
                </a:lnTo>
                <a:lnTo>
                  <a:pt x="277" y="6"/>
                </a:lnTo>
                <a:lnTo>
                  <a:pt x="275" y="7"/>
                </a:lnTo>
                <a:lnTo>
                  <a:pt x="275" y="7"/>
                </a:lnTo>
                <a:lnTo>
                  <a:pt x="275" y="9"/>
                </a:lnTo>
                <a:lnTo>
                  <a:pt x="273" y="11"/>
                </a:lnTo>
                <a:lnTo>
                  <a:pt x="273" y="11"/>
                </a:lnTo>
                <a:lnTo>
                  <a:pt x="304" y="11"/>
                </a:lnTo>
                <a:lnTo>
                  <a:pt x="361" y="13"/>
                </a:lnTo>
                <a:lnTo>
                  <a:pt x="419" y="17"/>
                </a:lnTo>
                <a:lnTo>
                  <a:pt x="476" y="25"/>
                </a:lnTo>
                <a:lnTo>
                  <a:pt x="532" y="34"/>
                </a:lnTo>
                <a:lnTo>
                  <a:pt x="588" y="48"/>
                </a:lnTo>
                <a:lnTo>
                  <a:pt x="642" y="61"/>
                </a:lnTo>
                <a:lnTo>
                  <a:pt x="655" y="67"/>
                </a:lnTo>
                <a:lnTo>
                  <a:pt x="655" y="65"/>
                </a:lnTo>
                <a:lnTo>
                  <a:pt x="657" y="65"/>
                </a:lnTo>
                <a:lnTo>
                  <a:pt x="657" y="63"/>
                </a:lnTo>
                <a:lnTo>
                  <a:pt x="657" y="61"/>
                </a:lnTo>
                <a:lnTo>
                  <a:pt x="659" y="61"/>
                </a:lnTo>
                <a:lnTo>
                  <a:pt x="659" y="59"/>
                </a:lnTo>
                <a:lnTo>
                  <a:pt x="659" y="59"/>
                </a:lnTo>
                <a:lnTo>
                  <a:pt x="661" y="57"/>
                </a:lnTo>
                <a:close/>
                <a:moveTo>
                  <a:pt x="2" y="2248"/>
                </a:moveTo>
                <a:lnTo>
                  <a:pt x="18" y="2252"/>
                </a:lnTo>
                <a:lnTo>
                  <a:pt x="73" y="2266"/>
                </a:lnTo>
                <a:lnTo>
                  <a:pt x="129" y="2275"/>
                </a:lnTo>
                <a:lnTo>
                  <a:pt x="187" y="2283"/>
                </a:lnTo>
                <a:lnTo>
                  <a:pt x="244" y="2287"/>
                </a:lnTo>
                <a:lnTo>
                  <a:pt x="304" y="2289"/>
                </a:lnTo>
                <a:lnTo>
                  <a:pt x="363" y="2287"/>
                </a:lnTo>
                <a:lnTo>
                  <a:pt x="421" y="2283"/>
                </a:lnTo>
                <a:lnTo>
                  <a:pt x="478" y="2275"/>
                </a:lnTo>
                <a:lnTo>
                  <a:pt x="534" y="2266"/>
                </a:lnTo>
                <a:lnTo>
                  <a:pt x="590" y="2252"/>
                </a:lnTo>
                <a:lnTo>
                  <a:pt x="643" y="2237"/>
                </a:lnTo>
                <a:lnTo>
                  <a:pt x="697" y="2220"/>
                </a:lnTo>
                <a:lnTo>
                  <a:pt x="709" y="2214"/>
                </a:lnTo>
                <a:lnTo>
                  <a:pt x="705" y="2204"/>
                </a:lnTo>
                <a:lnTo>
                  <a:pt x="693" y="2210"/>
                </a:lnTo>
                <a:lnTo>
                  <a:pt x="642" y="2227"/>
                </a:lnTo>
                <a:lnTo>
                  <a:pt x="588" y="2243"/>
                </a:lnTo>
                <a:lnTo>
                  <a:pt x="532" y="2256"/>
                </a:lnTo>
                <a:lnTo>
                  <a:pt x="476" y="2266"/>
                </a:lnTo>
                <a:lnTo>
                  <a:pt x="419" y="2273"/>
                </a:lnTo>
                <a:lnTo>
                  <a:pt x="361" y="2277"/>
                </a:lnTo>
                <a:lnTo>
                  <a:pt x="304" y="2279"/>
                </a:lnTo>
                <a:lnTo>
                  <a:pt x="246" y="2277"/>
                </a:lnTo>
                <a:lnTo>
                  <a:pt x="189" y="2273"/>
                </a:lnTo>
                <a:lnTo>
                  <a:pt x="131" y="2266"/>
                </a:lnTo>
                <a:lnTo>
                  <a:pt x="75" y="2256"/>
                </a:lnTo>
                <a:lnTo>
                  <a:pt x="20" y="2243"/>
                </a:lnTo>
                <a:lnTo>
                  <a:pt x="0" y="2237"/>
                </a:lnTo>
                <a:lnTo>
                  <a:pt x="0" y="2239"/>
                </a:lnTo>
                <a:lnTo>
                  <a:pt x="0" y="2239"/>
                </a:lnTo>
                <a:lnTo>
                  <a:pt x="0" y="2241"/>
                </a:lnTo>
                <a:lnTo>
                  <a:pt x="0" y="2243"/>
                </a:lnTo>
                <a:lnTo>
                  <a:pt x="0" y="2245"/>
                </a:lnTo>
                <a:lnTo>
                  <a:pt x="0" y="2245"/>
                </a:lnTo>
                <a:lnTo>
                  <a:pt x="0" y="2247"/>
                </a:lnTo>
                <a:lnTo>
                  <a:pt x="2" y="2248"/>
                </a:lnTo>
                <a:close/>
              </a:path>
            </a:pathLst>
          </a:custGeom>
          <a:solidFill>
            <a:srgbClr val="29a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Freeform 314"/>
          <p:cNvSpPr/>
          <p:nvPr/>
        </p:nvSpPr>
        <p:spPr>
          <a:xfrm>
            <a:off x="5859360" y="1434960"/>
            <a:ext cx="1123920" cy="3614760"/>
          </a:xfrm>
          <a:custGeom>
            <a:avLst/>
            <a:gdLst>
              <a:gd name="textAreaLeft" fmla="*/ 0 w 1123920"/>
              <a:gd name="textAreaRight" fmla="*/ 1124280 w 1123920"/>
              <a:gd name="textAreaTop" fmla="*/ 0 h 3614760"/>
              <a:gd name="textAreaBottom" fmla="*/ 3615120 h 3614760"/>
            </a:gdLst>
            <a:ahLst/>
            <a:rect l="textAreaLeft" t="textAreaTop" r="textAreaRight" b="textAreaBottom"/>
            <a:pathLst>
              <a:path w="708" h="2277">
                <a:moveTo>
                  <a:pt x="658" y="55"/>
                </a:moveTo>
                <a:lnTo>
                  <a:pt x="644" y="51"/>
                </a:lnTo>
                <a:lnTo>
                  <a:pt x="589" y="36"/>
                </a:lnTo>
                <a:lnTo>
                  <a:pt x="535" y="23"/>
                </a:lnTo>
                <a:lnTo>
                  <a:pt x="477" y="13"/>
                </a:lnTo>
                <a:lnTo>
                  <a:pt x="422" y="5"/>
                </a:lnTo>
                <a:lnTo>
                  <a:pt x="364" y="1"/>
                </a:lnTo>
                <a:lnTo>
                  <a:pt x="305" y="0"/>
                </a:lnTo>
                <a:lnTo>
                  <a:pt x="276" y="1"/>
                </a:lnTo>
                <a:lnTo>
                  <a:pt x="276" y="1"/>
                </a:lnTo>
                <a:lnTo>
                  <a:pt x="276" y="3"/>
                </a:lnTo>
                <a:lnTo>
                  <a:pt x="274" y="5"/>
                </a:lnTo>
                <a:lnTo>
                  <a:pt x="274" y="5"/>
                </a:lnTo>
                <a:lnTo>
                  <a:pt x="274" y="7"/>
                </a:lnTo>
                <a:lnTo>
                  <a:pt x="272" y="9"/>
                </a:lnTo>
                <a:lnTo>
                  <a:pt x="272" y="9"/>
                </a:lnTo>
                <a:lnTo>
                  <a:pt x="272" y="11"/>
                </a:lnTo>
                <a:lnTo>
                  <a:pt x="305" y="11"/>
                </a:lnTo>
                <a:lnTo>
                  <a:pt x="362" y="11"/>
                </a:lnTo>
                <a:lnTo>
                  <a:pt x="420" y="17"/>
                </a:lnTo>
                <a:lnTo>
                  <a:pt x="477" y="23"/>
                </a:lnTo>
                <a:lnTo>
                  <a:pt x="533" y="34"/>
                </a:lnTo>
                <a:lnTo>
                  <a:pt x="587" y="46"/>
                </a:lnTo>
                <a:lnTo>
                  <a:pt x="641" y="61"/>
                </a:lnTo>
                <a:lnTo>
                  <a:pt x="654" y="65"/>
                </a:lnTo>
                <a:lnTo>
                  <a:pt x="654" y="65"/>
                </a:lnTo>
                <a:lnTo>
                  <a:pt x="654" y="63"/>
                </a:lnTo>
                <a:lnTo>
                  <a:pt x="656" y="63"/>
                </a:lnTo>
                <a:lnTo>
                  <a:pt x="656" y="61"/>
                </a:lnTo>
                <a:lnTo>
                  <a:pt x="656" y="59"/>
                </a:lnTo>
                <a:lnTo>
                  <a:pt x="658" y="59"/>
                </a:lnTo>
                <a:lnTo>
                  <a:pt x="658" y="57"/>
                </a:lnTo>
                <a:lnTo>
                  <a:pt x="658" y="55"/>
                </a:lnTo>
                <a:close/>
                <a:moveTo>
                  <a:pt x="1" y="2237"/>
                </a:moveTo>
                <a:lnTo>
                  <a:pt x="21" y="2242"/>
                </a:lnTo>
                <a:lnTo>
                  <a:pt x="74" y="2254"/>
                </a:lnTo>
                <a:lnTo>
                  <a:pt x="132" y="2266"/>
                </a:lnTo>
                <a:lnTo>
                  <a:pt x="188" y="2271"/>
                </a:lnTo>
                <a:lnTo>
                  <a:pt x="247" y="2277"/>
                </a:lnTo>
                <a:lnTo>
                  <a:pt x="305" y="2277"/>
                </a:lnTo>
                <a:lnTo>
                  <a:pt x="364" y="2277"/>
                </a:lnTo>
                <a:lnTo>
                  <a:pt x="422" y="2271"/>
                </a:lnTo>
                <a:lnTo>
                  <a:pt x="477" y="2266"/>
                </a:lnTo>
                <a:lnTo>
                  <a:pt x="535" y="2254"/>
                </a:lnTo>
                <a:lnTo>
                  <a:pt x="589" y="2242"/>
                </a:lnTo>
                <a:lnTo>
                  <a:pt x="644" y="2227"/>
                </a:lnTo>
                <a:lnTo>
                  <a:pt x="696" y="2208"/>
                </a:lnTo>
                <a:lnTo>
                  <a:pt x="708" y="2204"/>
                </a:lnTo>
                <a:lnTo>
                  <a:pt x="704" y="2195"/>
                </a:lnTo>
                <a:lnTo>
                  <a:pt x="692" y="2198"/>
                </a:lnTo>
                <a:lnTo>
                  <a:pt x="641" y="2216"/>
                </a:lnTo>
                <a:lnTo>
                  <a:pt x="587" y="2231"/>
                </a:lnTo>
                <a:lnTo>
                  <a:pt x="533" y="2244"/>
                </a:lnTo>
                <a:lnTo>
                  <a:pt x="477" y="2254"/>
                </a:lnTo>
                <a:lnTo>
                  <a:pt x="420" y="2262"/>
                </a:lnTo>
                <a:lnTo>
                  <a:pt x="362" y="2266"/>
                </a:lnTo>
                <a:lnTo>
                  <a:pt x="305" y="2267"/>
                </a:lnTo>
                <a:lnTo>
                  <a:pt x="247" y="2266"/>
                </a:lnTo>
                <a:lnTo>
                  <a:pt x="190" y="2262"/>
                </a:lnTo>
                <a:lnTo>
                  <a:pt x="134" y="2254"/>
                </a:lnTo>
                <a:lnTo>
                  <a:pt x="78" y="2244"/>
                </a:lnTo>
                <a:lnTo>
                  <a:pt x="23" y="2231"/>
                </a:lnTo>
                <a:lnTo>
                  <a:pt x="0" y="2225"/>
                </a:lnTo>
                <a:lnTo>
                  <a:pt x="0" y="2227"/>
                </a:lnTo>
                <a:lnTo>
                  <a:pt x="0" y="2227"/>
                </a:lnTo>
                <a:lnTo>
                  <a:pt x="0" y="2229"/>
                </a:lnTo>
                <a:lnTo>
                  <a:pt x="1" y="2231"/>
                </a:lnTo>
                <a:lnTo>
                  <a:pt x="1" y="2233"/>
                </a:lnTo>
                <a:lnTo>
                  <a:pt x="1" y="2233"/>
                </a:lnTo>
                <a:lnTo>
                  <a:pt x="1" y="2235"/>
                </a:lnTo>
                <a:lnTo>
                  <a:pt x="1" y="2237"/>
                </a:lnTo>
                <a:close/>
              </a:path>
            </a:pathLst>
          </a:custGeom>
          <a:solidFill>
            <a:srgbClr val="2aa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Freeform 315"/>
          <p:cNvSpPr/>
          <p:nvPr/>
        </p:nvSpPr>
        <p:spPr>
          <a:xfrm>
            <a:off x="5859360" y="1442880"/>
            <a:ext cx="1121040" cy="360072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3600720"/>
              <a:gd name="textAreaBottom" fmla="*/ 3601080 h 3600720"/>
            </a:gdLst>
            <a:ahLst/>
            <a:rect l="textAreaLeft" t="textAreaTop" r="textAreaRight" b="textAreaBottom"/>
            <a:pathLst>
              <a:path w="706" h="2268">
                <a:moveTo>
                  <a:pt x="656" y="56"/>
                </a:moveTo>
                <a:lnTo>
                  <a:pt x="643" y="50"/>
                </a:lnTo>
                <a:lnTo>
                  <a:pt x="589" y="37"/>
                </a:lnTo>
                <a:lnTo>
                  <a:pt x="533" y="23"/>
                </a:lnTo>
                <a:lnTo>
                  <a:pt x="477" y="14"/>
                </a:lnTo>
                <a:lnTo>
                  <a:pt x="420" y="6"/>
                </a:lnTo>
                <a:lnTo>
                  <a:pt x="362" y="2"/>
                </a:lnTo>
                <a:lnTo>
                  <a:pt x="305" y="0"/>
                </a:lnTo>
                <a:lnTo>
                  <a:pt x="274" y="0"/>
                </a:lnTo>
                <a:lnTo>
                  <a:pt x="274" y="2"/>
                </a:lnTo>
                <a:lnTo>
                  <a:pt x="272" y="4"/>
                </a:lnTo>
                <a:lnTo>
                  <a:pt x="272" y="4"/>
                </a:lnTo>
                <a:lnTo>
                  <a:pt x="272" y="6"/>
                </a:lnTo>
                <a:lnTo>
                  <a:pt x="270" y="8"/>
                </a:lnTo>
                <a:lnTo>
                  <a:pt x="270" y="10"/>
                </a:lnTo>
                <a:lnTo>
                  <a:pt x="270" y="10"/>
                </a:lnTo>
                <a:lnTo>
                  <a:pt x="268" y="12"/>
                </a:lnTo>
                <a:lnTo>
                  <a:pt x="305" y="10"/>
                </a:lnTo>
                <a:lnTo>
                  <a:pt x="362" y="12"/>
                </a:lnTo>
                <a:lnTo>
                  <a:pt x="420" y="16"/>
                </a:lnTo>
                <a:lnTo>
                  <a:pt x="476" y="23"/>
                </a:lnTo>
                <a:lnTo>
                  <a:pt x="531" y="33"/>
                </a:lnTo>
                <a:lnTo>
                  <a:pt x="585" y="46"/>
                </a:lnTo>
                <a:lnTo>
                  <a:pt x="639" y="62"/>
                </a:lnTo>
                <a:lnTo>
                  <a:pt x="650" y="66"/>
                </a:lnTo>
                <a:lnTo>
                  <a:pt x="652" y="64"/>
                </a:lnTo>
                <a:lnTo>
                  <a:pt x="652" y="64"/>
                </a:lnTo>
                <a:lnTo>
                  <a:pt x="652" y="62"/>
                </a:lnTo>
                <a:lnTo>
                  <a:pt x="654" y="60"/>
                </a:lnTo>
                <a:lnTo>
                  <a:pt x="654" y="60"/>
                </a:lnTo>
                <a:lnTo>
                  <a:pt x="654" y="58"/>
                </a:lnTo>
                <a:lnTo>
                  <a:pt x="656" y="58"/>
                </a:lnTo>
                <a:lnTo>
                  <a:pt x="656" y="56"/>
                </a:lnTo>
                <a:close/>
                <a:moveTo>
                  <a:pt x="1" y="2226"/>
                </a:moveTo>
                <a:lnTo>
                  <a:pt x="21" y="2232"/>
                </a:lnTo>
                <a:lnTo>
                  <a:pt x="76" y="2245"/>
                </a:lnTo>
                <a:lnTo>
                  <a:pt x="132" y="2255"/>
                </a:lnTo>
                <a:lnTo>
                  <a:pt x="190" y="2262"/>
                </a:lnTo>
                <a:lnTo>
                  <a:pt x="247" y="2266"/>
                </a:lnTo>
                <a:lnTo>
                  <a:pt x="305" y="2268"/>
                </a:lnTo>
                <a:lnTo>
                  <a:pt x="362" y="2266"/>
                </a:lnTo>
                <a:lnTo>
                  <a:pt x="420" y="2262"/>
                </a:lnTo>
                <a:lnTo>
                  <a:pt x="477" y="2255"/>
                </a:lnTo>
                <a:lnTo>
                  <a:pt x="533" y="2245"/>
                </a:lnTo>
                <a:lnTo>
                  <a:pt x="589" y="2232"/>
                </a:lnTo>
                <a:lnTo>
                  <a:pt x="643" y="2216"/>
                </a:lnTo>
                <a:lnTo>
                  <a:pt x="694" y="2199"/>
                </a:lnTo>
                <a:lnTo>
                  <a:pt x="706" y="2193"/>
                </a:lnTo>
                <a:lnTo>
                  <a:pt x="702" y="2184"/>
                </a:lnTo>
                <a:lnTo>
                  <a:pt x="690" y="2190"/>
                </a:lnTo>
                <a:lnTo>
                  <a:pt x="639" y="2207"/>
                </a:lnTo>
                <a:lnTo>
                  <a:pt x="585" y="2222"/>
                </a:lnTo>
                <a:lnTo>
                  <a:pt x="531" y="2234"/>
                </a:lnTo>
                <a:lnTo>
                  <a:pt x="476" y="2243"/>
                </a:lnTo>
                <a:lnTo>
                  <a:pt x="420" y="2251"/>
                </a:lnTo>
                <a:lnTo>
                  <a:pt x="362" y="2255"/>
                </a:lnTo>
                <a:lnTo>
                  <a:pt x="305" y="2257"/>
                </a:lnTo>
                <a:lnTo>
                  <a:pt x="247" y="2255"/>
                </a:lnTo>
                <a:lnTo>
                  <a:pt x="190" y="2251"/>
                </a:lnTo>
                <a:lnTo>
                  <a:pt x="134" y="2243"/>
                </a:lnTo>
                <a:lnTo>
                  <a:pt x="78" y="2234"/>
                </a:lnTo>
                <a:lnTo>
                  <a:pt x="24" y="2222"/>
                </a:lnTo>
                <a:lnTo>
                  <a:pt x="0" y="2214"/>
                </a:lnTo>
                <a:lnTo>
                  <a:pt x="0" y="2216"/>
                </a:lnTo>
                <a:lnTo>
                  <a:pt x="0" y="2216"/>
                </a:lnTo>
                <a:lnTo>
                  <a:pt x="0" y="2218"/>
                </a:lnTo>
                <a:lnTo>
                  <a:pt x="0" y="2220"/>
                </a:lnTo>
                <a:lnTo>
                  <a:pt x="0" y="2222"/>
                </a:lnTo>
                <a:lnTo>
                  <a:pt x="0" y="2222"/>
                </a:lnTo>
                <a:lnTo>
                  <a:pt x="0" y="2224"/>
                </a:lnTo>
                <a:lnTo>
                  <a:pt x="1" y="2226"/>
                </a:lnTo>
                <a:close/>
              </a:path>
            </a:pathLst>
          </a:custGeom>
          <a:solidFill>
            <a:srgbClr val="2ba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Freeform 316"/>
          <p:cNvSpPr/>
          <p:nvPr/>
        </p:nvSpPr>
        <p:spPr>
          <a:xfrm>
            <a:off x="5856120" y="1452600"/>
            <a:ext cx="1121040" cy="358128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706" h="2256">
                <a:moveTo>
                  <a:pt x="656" y="54"/>
                </a:moveTo>
                <a:lnTo>
                  <a:pt x="643" y="50"/>
                </a:lnTo>
                <a:lnTo>
                  <a:pt x="589" y="35"/>
                </a:lnTo>
                <a:lnTo>
                  <a:pt x="535" y="23"/>
                </a:lnTo>
                <a:lnTo>
                  <a:pt x="479" y="12"/>
                </a:lnTo>
                <a:lnTo>
                  <a:pt x="422" y="6"/>
                </a:lnTo>
                <a:lnTo>
                  <a:pt x="364" y="0"/>
                </a:lnTo>
                <a:lnTo>
                  <a:pt x="307" y="0"/>
                </a:lnTo>
                <a:lnTo>
                  <a:pt x="274" y="0"/>
                </a:lnTo>
                <a:lnTo>
                  <a:pt x="272" y="2"/>
                </a:lnTo>
                <a:lnTo>
                  <a:pt x="272" y="4"/>
                </a:lnTo>
                <a:lnTo>
                  <a:pt x="272" y="4"/>
                </a:lnTo>
                <a:lnTo>
                  <a:pt x="270" y="6"/>
                </a:lnTo>
                <a:lnTo>
                  <a:pt x="270" y="8"/>
                </a:lnTo>
                <a:lnTo>
                  <a:pt x="270" y="8"/>
                </a:lnTo>
                <a:lnTo>
                  <a:pt x="270" y="10"/>
                </a:lnTo>
                <a:lnTo>
                  <a:pt x="268" y="12"/>
                </a:lnTo>
                <a:lnTo>
                  <a:pt x="307" y="10"/>
                </a:lnTo>
                <a:lnTo>
                  <a:pt x="364" y="12"/>
                </a:lnTo>
                <a:lnTo>
                  <a:pt x="422" y="15"/>
                </a:lnTo>
                <a:lnTo>
                  <a:pt x="478" y="23"/>
                </a:lnTo>
                <a:lnTo>
                  <a:pt x="531" y="33"/>
                </a:lnTo>
                <a:lnTo>
                  <a:pt x="587" y="46"/>
                </a:lnTo>
                <a:lnTo>
                  <a:pt x="639" y="60"/>
                </a:lnTo>
                <a:lnTo>
                  <a:pt x="650" y="63"/>
                </a:lnTo>
                <a:lnTo>
                  <a:pt x="650" y="63"/>
                </a:lnTo>
                <a:lnTo>
                  <a:pt x="652" y="61"/>
                </a:lnTo>
                <a:lnTo>
                  <a:pt x="652" y="61"/>
                </a:lnTo>
                <a:lnTo>
                  <a:pt x="652" y="60"/>
                </a:lnTo>
                <a:lnTo>
                  <a:pt x="654" y="58"/>
                </a:lnTo>
                <a:lnTo>
                  <a:pt x="654" y="58"/>
                </a:lnTo>
                <a:lnTo>
                  <a:pt x="654" y="56"/>
                </a:lnTo>
                <a:lnTo>
                  <a:pt x="656" y="54"/>
                </a:lnTo>
                <a:close/>
                <a:moveTo>
                  <a:pt x="2" y="2214"/>
                </a:moveTo>
                <a:lnTo>
                  <a:pt x="25" y="2220"/>
                </a:lnTo>
                <a:lnTo>
                  <a:pt x="80" y="2233"/>
                </a:lnTo>
                <a:lnTo>
                  <a:pt x="136" y="2243"/>
                </a:lnTo>
                <a:lnTo>
                  <a:pt x="192" y="2251"/>
                </a:lnTo>
                <a:lnTo>
                  <a:pt x="249" y="2255"/>
                </a:lnTo>
                <a:lnTo>
                  <a:pt x="307" y="2256"/>
                </a:lnTo>
                <a:lnTo>
                  <a:pt x="364" y="2255"/>
                </a:lnTo>
                <a:lnTo>
                  <a:pt x="422" y="2251"/>
                </a:lnTo>
                <a:lnTo>
                  <a:pt x="479" y="2243"/>
                </a:lnTo>
                <a:lnTo>
                  <a:pt x="535" y="2233"/>
                </a:lnTo>
                <a:lnTo>
                  <a:pt x="589" y="2220"/>
                </a:lnTo>
                <a:lnTo>
                  <a:pt x="643" y="2205"/>
                </a:lnTo>
                <a:lnTo>
                  <a:pt x="694" y="2187"/>
                </a:lnTo>
                <a:lnTo>
                  <a:pt x="706" y="2184"/>
                </a:lnTo>
                <a:lnTo>
                  <a:pt x="700" y="2174"/>
                </a:lnTo>
                <a:lnTo>
                  <a:pt x="691" y="2178"/>
                </a:lnTo>
                <a:lnTo>
                  <a:pt x="639" y="2195"/>
                </a:lnTo>
                <a:lnTo>
                  <a:pt x="587" y="2210"/>
                </a:lnTo>
                <a:lnTo>
                  <a:pt x="531" y="2222"/>
                </a:lnTo>
                <a:lnTo>
                  <a:pt x="478" y="2233"/>
                </a:lnTo>
                <a:lnTo>
                  <a:pt x="422" y="2239"/>
                </a:lnTo>
                <a:lnTo>
                  <a:pt x="364" y="2245"/>
                </a:lnTo>
                <a:lnTo>
                  <a:pt x="307" y="2245"/>
                </a:lnTo>
                <a:lnTo>
                  <a:pt x="249" y="2245"/>
                </a:lnTo>
                <a:lnTo>
                  <a:pt x="193" y="2239"/>
                </a:lnTo>
                <a:lnTo>
                  <a:pt x="136" y="2233"/>
                </a:lnTo>
                <a:lnTo>
                  <a:pt x="82" y="2222"/>
                </a:lnTo>
                <a:lnTo>
                  <a:pt x="28" y="2210"/>
                </a:lnTo>
                <a:lnTo>
                  <a:pt x="0" y="2203"/>
                </a:lnTo>
                <a:lnTo>
                  <a:pt x="0" y="2205"/>
                </a:lnTo>
                <a:lnTo>
                  <a:pt x="0" y="2205"/>
                </a:lnTo>
                <a:lnTo>
                  <a:pt x="0" y="2207"/>
                </a:lnTo>
                <a:lnTo>
                  <a:pt x="2" y="2208"/>
                </a:lnTo>
                <a:lnTo>
                  <a:pt x="2" y="2210"/>
                </a:lnTo>
                <a:lnTo>
                  <a:pt x="2" y="2210"/>
                </a:lnTo>
                <a:lnTo>
                  <a:pt x="2" y="2212"/>
                </a:lnTo>
                <a:lnTo>
                  <a:pt x="2" y="2214"/>
                </a:lnTo>
                <a:close/>
              </a:path>
            </a:pathLst>
          </a:custGeom>
          <a:solidFill>
            <a:srgbClr val="2ca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Freeform 317"/>
          <p:cNvSpPr/>
          <p:nvPr/>
        </p:nvSpPr>
        <p:spPr>
          <a:xfrm>
            <a:off x="5856120" y="1459080"/>
            <a:ext cx="1117800" cy="3566880"/>
          </a:xfrm>
          <a:custGeom>
            <a:avLst/>
            <a:gdLst>
              <a:gd name="textAreaLeft" fmla="*/ 0 w 1117800"/>
              <a:gd name="textAreaRight" fmla="*/ 1118160 w 1117800"/>
              <a:gd name="textAreaTop" fmla="*/ 0 h 3566880"/>
              <a:gd name="textAreaBottom" fmla="*/ 3567240 h 3566880"/>
            </a:gdLst>
            <a:ahLst/>
            <a:rect l="textAreaLeft" t="textAreaTop" r="textAreaRight" b="textAreaBottom"/>
            <a:pathLst>
              <a:path w="704" h="2247">
                <a:moveTo>
                  <a:pt x="652" y="56"/>
                </a:moveTo>
                <a:lnTo>
                  <a:pt x="641" y="52"/>
                </a:lnTo>
                <a:lnTo>
                  <a:pt x="587" y="36"/>
                </a:lnTo>
                <a:lnTo>
                  <a:pt x="533" y="23"/>
                </a:lnTo>
                <a:lnTo>
                  <a:pt x="478" y="13"/>
                </a:lnTo>
                <a:lnTo>
                  <a:pt x="422" y="6"/>
                </a:lnTo>
                <a:lnTo>
                  <a:pt x="364" y="2"/>
                </a:lnTo>
                <a:lnTo>
                  <a:pt x="307" y="0"/>
                </a:lnTo>
                <a:lnTo>
                  <a:pt x="270" y="2"/>
                </a:lnTo>
                <a:lnTo>
                  <a:pt x="270" y="4"/>
                </a:lnTo>
                <a:lnTo>
                  <a:pt x="270" y="4"/>
                </a:lnTo>
                <a:lnTo>
                  <a:pt x="270" y="6"/>
                </a:lnTo>
                <a:lnTo>
                  <a:pt x="268" y="8"/>
                </a:lnTo>
                <a:lnTo>
                  <a:pt x="268" y="8"/>
                </a:lnTo>
                <a:lnTo>
                  <a:pt x="268" y="9"/>
                </a:lnTo>
                <a:lnTo>
                  <a:pt x="266" y="11"/>
                </a:lnTo>
                <a:lnTo>
                  <a:pt x="266" y="13"/>
                </a:lnTo>
                <a:lnTo>
                  <a:pt x="307" y="11"/>
                </a:lnTo>
                <a:lnTo>
                  <a:pt x="364" y="13"/>
                </a:lnTo>
                <a:lnTo>
                  <a:pt x="420" y="17"/>
                </a:lnTo>
                <a:lnTo>
                  <a:pt x="476" y="25"/>
                </a:lnTo>
                <a:lnTo>
                  <a:pt x="531" y="34"/>
                </a:lnTo>
                <a:lnTo>
                  <a:pt x="585" y="46"/>
                </a:lnTo>
                <a:lnTo>
                  <a:pt x="637" y="61"/>
                </a:lnTo>
                <a:lnTo>
                  <a:pt x="648" y="65"/>
                </a:lnTo>
                <a:lnTo>
                  <a:pt x="648" y="63"/>
                </a:lnTo>
                <a:lnTo>
                  <a:pt x="648" y="63"/>
                </a:lnTo>
                <a:lnTo>
                  <a:pt x="650" y="61"/>
                </a:lnTo>
                <a:lnTo>
                  <a:pt x="650" y="59"/>
                </a:lnTo>
                <a:lnTo>
                  <a:pt x="650" y="59"/>
                </a:lnTo>
                <a:lnTo>
                  <a:pt x="652" y="57"/>
                </a:lnTo>
                <a:lnTo>
                  <a:pt x="652" y="57"/>
                </a:lnTo>
                <a:lnTo>
                  <a:pt x="652" y="56"/>
                </a:lnTo>
                <a:close/>
                <a:moveTo>
                  <a:pt x="2" y="2204"/>
                </a:moveTo>
                <a:lnTo>
                  <a:pt x="26" y="2212"/>
                </a:lnTo>
                <a:lnTo>
                  <a:pt x="80" y="2224"/>
                </a:lnTo>
                <a:lnTo>
                  <a:pt x="136" y="2233"/>
                </a:lnTo>
                <a:lnTo>
                  <a:pt x="192" y="2241"/>
                </a:lnTo>
                <a:lnTo>
                  <a:pt x="249" y="2245"/>
                </a:lnTo>
                <a:lnTo>
                  <a:pt x="307" y="2247"/>
                </a:lnTo>
                <a:lnTo>
                  <a:pt x="364" y="2245"/>
                </a:lnTo>
                <a:lnTo>
                  <a:pt x="422" y="2241"/>
                </a:lnTo>
                <a:lnTo>
                  <a:pt x="478" y="2233"/>
                </a:lnTo>
                <a:lnTo>
                  <a:pt x="533" y="2224"/>
                </a:lnTo>
                <a:lnTo>
                  <a:pt x="587" y="2212"/>
                </a:lnTo>
                <a:lnTo>
                  <a:pt x="641" y="2197"/>
                </a:lnTo>
                <a:lnTo>
                  <a:pt x="692" y="2180"/>
                </a:lnTo>
                <a:lnTo>
                  <a:pt x="704" y="2174"/>
                </a:lnTo>
                <a:lnTo>
                  <a:pt x="698" y="2164"/>
                </a:lnTo>
                <a:lnTo>
                  <a:pt x="689" y="2168"/>
                </a:lnTo>
                <a:lnTo>
                  <a:pt x="637" y="2185"/>
                </a:lnTo>
                <a:lnTo>
                  <a:pt x="585" y="2201"/>
                </a:lnTo>
                <a:lnTo>
                  <a:pt x="531" y="2214"/>
                </a:lnTo>
                <a:lnTo>
                  <a:pt x="476" y="2224"/>
                </a:lnTo>
                <a:lnTo>
                  <a:pt x="420" y="2231"/>
                </a:lnTo>
                <a:lnTo>
                  <a:pt x="364" y="2235"/>
                </a:lnTo>
                <a:lnTo>
                  <a:pt x="307" y="2237"/>
                </a:lnTo>
                <a:lnTo>
                  <a:pt x="249" y="2235"/>
                </a:lnTo>
                <a:lnTo>
                  <a:pt x="193" y="2231"/>
                </a:lnTo>
                <a:lnTo>
                  <a:pt x="138" y="2224"/>
                </a:lnTo>
                <a:lnTo>
                  <a:pt x="82" y="2214"/>
                </a:lnTo>
                <a:lnTo>
                  <a:pt x="28" y="2201"/>
                </a:lnTo>
                <a:lnTo>
                  <a:pt x="0" y="2193"/>
                </a:lnTo>
                <a:lnTo>
                  <a:pt x="0" y="2195"/>
                </a:lnTo>
                <a:lnTo>
                  <a:pt x="0" y="2195"/>
                </a:lnTo>
                <a:lnTo>
                  <a:pt x="0" y="2197"/>
                </a:lnTo>
                <a:lnTo>
                  <a:pt x="0" y="2199"/>
                </a:lnTo>
                <a:lnTo>
                  <a:pt x="0" y="2201"/>
                </a:lnTo>
                <a:lnTo>
                  <a:pt x="0" y="2201"/>
                </a:lnTo>
                <a:lnTo>
                  <a:pt x="0" y="2203"/>
                </a:lnTo>
                <a:lnTo>
                  <a:pt x="2" y="2204"/>
                </a:lnTo>
                <a:close/>
              </a:path>
            </a:pathLst>
          </a:custGeom>
          <a:solidFill>
            <a:srgbClr val="2da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Freeform 318"/>
          <p:cNvSpPr/>
          <p:nvPr/>
        </p:nvSpPr>
        <p:spPr>
          <a:xfrm>
            <a:off x="5853240" y="1468440"/>
            <a:ext cx="1114200" cy="354816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3548160"/>
              <a:gd name="textAreaBottom" fmla="*/ 3548520 h 3548160"/>
            </a:gdLst>
            <a:ahLst/>
            <a:rect l="textAreaLeft" t="textAreaTop" r="textAreaRight" b="textAreaBottom"/>
            <a:pathLst>
              <a:path w="702" h="2235">
                <a:moveTo>
                  <a:pt x="652" y="53"/>
                </a:moveTo>
                <a:lnTo>
                  <a:pt x="641" y="50"/>
                </a:lnTo>
                <a:lnTo>
                  <a:pt x="589" y="36"/>
                </a:lnTo>
                <a:lnTo>
                  <a:pt x="533" y="23"/>
                </a:lnTo>
                <a:lnTo>
                  <a:pt x="480" y="13"/>
                </a:lnTo>
                <a:lnTo>
                  <a:pt x="424" y="5"/>
                </a:lnTo>
                <a:lnTo>
                  <a:pt x="366" y="2"/>
                </a:lnTo>
                <a:lnTo>
                  <a:pt x="309" y="0"/>
                </a:lnTo>
                <a:lnTo>
                  <a:pt x="270" y="2"/>
                </a:lnTo>
                <a:lnTo>
                  <a:pt x="270" y="2"/>
                </a:lnTo>
                <a:lnTo>
                  <a:pt x="270" y="3"/>
                </a:lnTo>
                <a:lnTo>
                  <a:pt x="268" y="5"/>
                </a:lnTo>
                <a:lnTo>
                  <a:pt x="268" y="7"/>
                </a:lnTo>
                <a:lnTo>
                  <a:pt x="268" y="7"/>
                </a:lnTo>
                <a:lnTo>
                  <a:pt x="266" y="9"/>
                </a:lnTo>
                <a:lnTo>
                  <a:pt x="266" y="11"/>
                </a:lnTo>
                <a:lnTo>
                  <a:pt x="266" y="11"/>
                </a:lnTo>
                <a:lnTo>
                  <a:pt x="309" y="11"/>
                </a:lnTo>
                <a:lnTo>
                  <a:pt x="366" y="13"/>
                </a:lnTo>
                <a:lnTo>
                  <a:pt x="422" y="17"/>
                </a:lnTo>
                <a:lnTo>
                  <a:pt x="478" y="23"/>
                </a:lnTo>
                <a:lnTo>
                  <a:pt x="531" y="32"/>
                </a:lnTo>
                <a:lnTo>
                  <a:pt x="585" y="46"/>
                </a:lnTo>
                <a:lnTo>
                  <a:pt x="639" y="61"/>
                </a:lnTo>
                <a:lnTo>
                  <a:pt x="647" y="63"/>
                </a:lnTo>
                <a:lnTo>
                  <a:pt x="648" y="63"/>
                </a:lnTo>
                <a:lnTo>
                  <a:pt x="648" y="61"/>
                </a:lnTo>
                <a:lnTo>
                  <a:pt x="648" y="59"/>
                </a:lnTo>
                <a:lnTo>
                  <a:pt x="650" y="59"/>
                </a:lnTo>
                <a:lnTo>
                  <a:pt x="650" y="57"/>
                </a:lnTo>
                <a:lnTo>
                  <a:pt x="650" y="57"/>
                </a:lnTo>
                <a:lnTo>
                  <a:pt x="652" y="55"/>
                </a:lnTo>
                <a:lnTo>
                  <a:pt x="652" y="53"/>
                </a:lnTo>
                <a:close/>
                <a:moveTo>
                  <a:pt x="2" y="2193"/>
                </a:moveTo>
                <a:lnTo>
                  <a:pt x="30" y="2200"/>
                </a:lnTo>
                <a:lnTo>
                  <a:pt x="84" y="2212"/>
                </a:lnTo>
                <a:lnTo>
                  <a:pt x="138" y="2223"/>
                </a:lnTo>
                <a:lnTo>
                  <a:pt x="195" y="2229"/>
                </a:lnTo>
                <a:lnTo>
                  <a:pt x="251" y="2235"/>
                </a:lnTo>
                <a:lnTo>
                  <a:pt x="309" y="2235"/>
                </a:lnTo>
                <a:lnTo>
                  <a:pt x="366" y="2235"/>
                </a:lnTo>
                <a:lnTo>
                  <a:pt x="424" y="2229"/>
                </a:lnTo>
                <a:lnTo>
                  <a:pt x="480" y="2223"/>
                </a:lnTo>
                <a:lnTo>
                  <a:pt x="533" y="2212"/>
                </a:lnTo>
                <a:lnTo>
                  <a:pt x="589" y="2200"/>
                </a:lnTo>
                <a:lnTo>
                  <a:pt x="641" y="2185"/>
                </a:lnTo>
                <a:lnTo>
                  <a:pt x="693" y="2168"/>
                </a:lnTo>
                <a:lnTo>
                  <a:pt x="702" y="2164"/>
                </a:lnTo>
                <a:lnTo>
                  <a:pt x="698" y="2154"/>
                </a:lnTo>
                <a:lnTo>
                  <a:pt x="689" y="2158"/>
                </a:lnTo>
                <a:lnTo>
                  <a:pt x="639" y="2175"/>
                </a:lnTo>
                <a:lnTo>
                  <a:pt x="585" y="2191"/>
                </a:lnTo>
                <a:lnTo>
                  <a:pt x="531" y="2202"/>
                </a:lnTo>
                <a:lnTo>
                  <a:pt x="478" y="2212"/>
                </a:lnTo>
                <a:lnTo>
                  <a:pt x="422" y="2220"/>
                </a:lnTo>
                <a:lnTo>
                  <a:pt x="366" y="2223"/>
                </a:lnTo>
                <a:lnTo>
                  <a:pt x="309" y="2225"/>
                </a:lnTo>
                <a:lnTo>
                  <a:pt x="251" y="2223"/>
                </a:lnTo>
                <a:lnTo>
                  <a:pt x="195" y="2220"/>
                </a:lnTo>
                <a:lnTo>
                  <a:pt x="140" y="2212"/>
                </a:lnTo>
                <a:lnTo>
                  <a:pt x="86" y="2202"/>
                </a:lnTo>
                <a:lnTo>
                  <a:pt x="32" y="2191"/>
                </a:lnTo>
                <a:lnTo>
                  <a:pt x="0" y="2181"/>
                </a:lnTo>
                <a:lnTo>
                  <a:pt x="0" y="2183"/>
                </a:lnTo>
                <a:lnTo>
                  <a:pt x="0" y="2183"/>
                </a:lnTo>
                <a:lnTo>
                  <a:pt x="0" y="2185"/>
                </a:lnTo>
                <a:lnTo>
                  <a:pt x="2" y="2187"/>
                </a:lnTo>
                <a:lnTo>
                  <a:pt x="2" y="2189"/>
                </a:lnTo>
                <a:lnTo>
                  <a:pt x="2" y="2189"/>
                </a:lnTo>
                <a:lnTo>
                  <a:pt x="2" y="2191"/>
                </a:lnTo>
                <a:lnTo>
                  <a:pt x="2" y="2193"/>
                </a:lnTo>
                <a:close/>
              </a:path>
            </a:pathLst>
          </a:custGeom>
          <a:solidFill>
            <a:srgbClr val="2ea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reeform 319"/>
          <p:cNvSpPr/>
          <p:nvPr/>
        </p:nvSpPr>
        <p:spPr>
          <a:xfrm>
            <a:off x="5853240" y="1476360"/>
            <a:ext cx="1110960" cy="3533760"/>
          </a:xfrm>
          <a:custGeom>
            <a:avLst/>
            <a:gdLst>
              <a:gd name="textAreaLeft" fmla="*/ 0 w 1110960"/>
              <a:gd name="textAreaRight" fmla="*/ 1111320 w 111096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700" h="2226">
                <a:moveTo>
                  <a:pt x="650" y="54"/>
                </a:moveTo>
                <a:lnTo>
                  <a:pt x="639" y="50"/>
                </a:lnTo>
                <a:lnTo>
                  <a:pt x="587" y="35"/>
                </a:lnTo>
                <a:lnTo>
                  <a:pt x="533" y="23"/>
                </a:lnTo>
                <a:lnTo>
                  <a:pt x="478" y="14"/>
                </a:lnTo>
                <a:lnTo>
                  <a:pt x="422" y="6"/>
                </a:lnTo>
                <a:lnTo>
                  <a:pt x="366" y="2"/>
                </a:lnTo>
                <a:lnTo>
                  <a:pt x="309" y="0"/>
                </a:lnTo>
                <a:lnTo>
                  <a:pt x="268" y="2"/>
                </a:lnTo>
                <a:lnTo>
                  <a:pt x="268" y="2"/>
                </a:lnTo>
                <a:lnTo>
                  <a:pt x="266" y="4"/>
                </a:lnTo>
                <a:lnTo>
                  <a:pt x="266" y="6"/>
                </a:lnTo>
                <a:lnTo>
                  <a:pt x="266" y="6"/>
                </a:lnTo>
                <a:lnTo>
                  <a:pt x="265" y="8"/>
                </a:lnTo>
                <a:lnTo>
                  <a:pt x="265" y="10"/>
                </a:lnTo>
                <a:lnTo>
                  <a:pt x="265" y="10"/>
                </a:lnTo>
                <a:lnTo>
                  <a:pt x="265" y="12"/>
                </a:lnTo>
                <a:lnTo>
                  <a:pt x="309" y="12"/>
                </a:lnTo>
                <a:lnTo>
                  <a:pt x="366" y="12"/>
                </a:lnTo>
                <a:lnTo>
                  <a:pt x="422" y="18"/>
                </a:lnTo>
                <a:lnTo>
                  <a:pt x="478" y="23"/>
                </a:lnTo>
                <a:lnTo>
                  <a:pt x="531" y="33"/>
                </a:lnTo>
                <a:lnTo>
                  <a:pt x="585" y="46"/>
                </a:lnTo>
                <a:lnTo>
                  <a:pt x="637" y="60"/>
                </a:lnTo>
                <a:lnTo>
                  <a:pt x="645" y="64"/>
                </a:lnTo>
                <a:lnTo>
                  <a:pt x="645" y="62"/>
                </a:lnTo>
                <a:lnTo>
                  <a:pt x="647" y="62"/>
                </a:lnTo>
                <a:lnTo>
                  <a:pt x="647" y="60"/>
                </a:lnTo>
                <a:lnTo>
                  <a:pt x="647" y="58"/>
                </a:lnTo>
                <a:lnTo>
                  <a:pt x="648" y="58"/>
                </a:lnTo>
                <a:lnTo>
                  <a:pt x="648" y="56"/>
                </a:lnTo>
                <a:lnTo>
                  <a:pt x="648" y="54"/>
                </a:lnTo>
                <a:lnTo>
                  <a:pt x="650" y="54"/>
                </a:lnTo>
                <a:close/>
                <a:moveTo>
                  <a:pt x="2" y="2182"/>
                </a:moveTo>
                <a:lnTo>
                  <a:pt x="30" y="2190"/>
                </a:lnTo>
                <a:lnTo>
                  <a:pt x="84" y="2203"/>
                </a:lnTo>
                <a:lnTo>
                  <a:pt x="140" y="2213"/>
                </a:lnTo>
                <a:lnTo>
                  <a:pt x="195" y="2220"/>
                </a:lnTo>
                <a:lnTo>
                  <a:pt x="251" y="2224"/>
                </a:lnTo>
                <a:lnTo>
                  <a:pt x="309" y="2226"/>
                </a:lnTo>
                <a:lnTo>
                  <a:pt x="366" y="2224"/>
                </a:lnTo>
                <a:lnTo>
                  <a:pt x="422" y="2220"/>
                </a:lnTo>
                <a:lnTo>
                  <a:pt x="478" y="2213"/>
                </a:lnTo>
                <a:lnTo>
                  <a:pt x="533" y="2203"/>
                </a:lnTo>
                <a:lnTo>
                  <a:pt x="587" y="2190"/>
                </a:lnTo>
                <a:lnTo>
                  <a:pt x="639" y="2174"/>
                </a:lnTo>
                <a:lnTo>
                  <a:pt x="691" y="2157"/>
                </a:lnTo>
                <a:lnTo>
                  <a:pt x="700" y="2153"/>
                </a:lnTo>
                <a:lnTo>
                  <a:pt x="696" y="2144"/>
                </a:lnTo>
                <a:lnTo>
                  <a:pt x="687" y="2147"/>
                </a:lnTo>
                <a:lnTo>
                  <a:pt x="637" y="2165"/>
                </a:lnTo>
                <a:lnTo>
                  <a:pt x="585" y="2180"/>
                </a:lnTo>
                <a:lnTo>
                  <a:pt x="531" y="2192"/>
                </a:lnTo>
                <a:lnTo>
                  <a:pt x="478" y="2201"/>
                </a:lnTo>
                <a:lnTo>
                  <a:pt x="422" y="2209"/>
                </a:lnTo>
                <a:lnTo>
                  <a:pt x="366" y="2213"/>
                </a:lnTo>
                <a:lnTo>
                  <a:pt x="309" y="2215"/>
                </a:lnTo>
                <a:lnTo>
                  <a:pt x="253" y="2213"/>
                </a:lnTo>
                <a:lnTo>
                  <a:pt x="195" y="2209"/>
                </a:lnTo>
                <a:lnTo>
                  <a:pt x="142" y="2201"/>
                </a:lnTo>
                <a:lnTo>
                  <a:pt x="86" y="2192"/>
                </a:lnTo>
                <a:lnTo>
                  <a:pt x="34" y="2180"/>
                </a:lnTo>
                <a:lnTo>
                  <a:pt x="0" y="2170"/>
                </a:lnTo>
                <a:lnTo>
                  <a:pt x="0" y="2172"/>
                </a:lnTo>
                <a:lnTo>
                  <a:pt x="0" y="2172"/>
                </a:lnTo>
                <a:lnTo>
                  <a:pt x="0" y="2174"/>
                </a:lnTo>
                <a:lnTo>
                  <a:pt x="0" y="2176"/>
                </a:lnTo>
                <a:lnTo>
                  <a:pt x="0" y="2178"/>
                </a:lnTo>
                <a:lnTo>
                  <a:pt x="0" y="2178"/>
                </a:lnTo>
                <a:lnTo>
                  <a:pt x="0" y="2180"/>
                </a:lnTo>
                <a:lnTo>
                  <a:pt x="2" y="2182"/>
                </a:lnTo>
                <a:close/>
              </a:path>
            </a:pathLst>
          </a:custGeom>
          <a:solidFill>
            <a:srgbClr val="2fa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Freeform 320"/>
          <p:cNvSpPr/>
          <p:nvPr/>
        </p:nvSpPr>
        <p:spPr>
          <a:xfrm>
            <a:off x="5850000" y="1486080"/>
            <a:ext cx="1111320" cy="3514680"/>
          </a:xfrm>
          <a:custGeom>
            <a:avLst/>
            <a:gdLst>
              <a:gd name="textAreaLeft" fmla="*/ 0 w 1111320"/>
              <a:gd name="textAreaRight" fmla="*/ 1111320 w 1111320"/>
              <a:gd name="textAreaTop" fmla="*/ 0 h 3514680"/>
              <a:gd name="textAreaBottom" fmla="*/ 3515040 h 3514680"/>
            </a:gdLst>
            <a:ahLst/>
            <a:rect l="textAreaLeft" t="textAreaTop" r="textAreaRight" b="textAreaBottom"/>
            <a:pathLst>
              <a:path w="700" h="2214">
                <a:moveTo>
                  <a:pt x="649" y="52"/>
                </a:moveTo>
                <a:lnTo>
                  <a:pt x="641" y="50"/>
                </a:lnTo>
                <a:lnTo>
                  <a:pt x="587" y="35"/>
                </a:lnTo>
                <a:lnTo>
                  <a:pt x="533" y="23"/>
                </a:lnTo>
                <a:lnTo>
                  <a:pt x="480" y="12"/>
                </a:lnTo>
                <a:lnTo>
                  <a:pt x="424" y="6"/>
                </a:lnTo>
                <a:lnTo>
                  <a:pt x="368" y="2"/>
                </a:lnTo>
                <a:lnTo>
                  <a:pt x="311" y="0"/>
                </a:lnTo>
                <a:lnTo>
                  <a:pt x="268" y="0"/>
                </a:lnTo>
                <a:lnTo>
                  <a:pt x="267" y="2"/>
                </a:lnTo>
                <a:lnTo>
                  <a:pt x="267" y="4"/>
                </a:lnTo>
                <a:lnTo>
                  <a:pt x="267" y="4"/>
                </a:lnTo>
                <a:lnTo>
                  <a:pt x="267" y="6"/>
                </a:lnTo>
                <a:lnTo>
                  <a:pt x="265" y="8"/>
                </a:lnTo>
                <a:lnTo>
                  <a:pt x="265" y="10"/>
                </a:lnTo>
                <a:lnTo>
                  <a:pt x="265" y="10"/>
                </a:lnTo>
                <a:lnTo>
                  <a:pt x="263" y="12"/>
                </a:lnTo>
                <a:lnTo>
                  <a:pt x="311" y="10"/>
                </a:lnTo>
                <a:lnTo>
                  <a:pt x="366" y="12"/>
                </a:lnTo>
                <a:lnTo>
                  <a:pt x="422" y="16"/>
                </a:lnTo>
                <a:lnTo>
                  <a:pt x="478" y="23"/>
                </a:lnTo>
                <a:lnTo>
                  <a:pt x="531" y="33"/>
                </a:lnTo>
                <a:lnTo>
                  <a:pt x="585" y="44"/>
                </a:lnTo>
                <a:lnTo>
                  <a:pt x="637" y="60"/>
                </a:lnTo>
                <a:lnTo>
                  <a:pt x="645" y="62"/>
                </a:lnTo>
                <a:lnTo>
                  <a:pt x="645" y="62"/>
                </a:lnTo>
                <a:lnTo>
                  <a:pt x="645" y="60"/>
                </a:lnTo>
                <a:lnTo>
                  <a:pt x="647" y="58"/>
                </a:lnTo>
                <a:lnTo>
                  <a:pt x="647" y="58"/>
                </a:lnTo>
                <a:lnTo>
                  <a:pt x="647" y="56"/>
                </a:lnTo>
                <a:lnTo>
                  <a:pt x="649" y="56"/>
                </a:lnTo>
                <a:lnTo>
                  <a:pt x="649" y="54"/>
                </a:lnTo>
                <a:lnTo>
                  <a:pt x="649" y="52"/>
                </a:lnTo>
                <a:close/>
                <a:moveTo>
                  <a:pt x="2" y="2170"/>
                </a:moveTo>
                <a:lnTo>
                  <a:pt x="34" y="2180"/>
                </a:lnTo>
                <a:lnTo>
                  <a:pt x="88" y="2191"/>
                </a:lnTo>
                <a:lnTo>
                  <a:pt x="142" y="2201"/>
                </a:lnTo>
                <a:lnTo>
                  <a:pt x="197" y="2209"/>
                </a:lnTo>
                <a:lnTo>
                  <a:pt x="253" y="2212"/>
                </a:lnTo>
                <a:lnTo>
                  <a:pt x="311" y="2214"/>
                </a:lnTo>
                <a:lnTo>
                  <a:pt x="368" y="2212"/>
                </a:lnTo>
                <a:lnTo>
                  <a:pt x="424" y="2209"/>
                </a:lnTo>
                <a:lnTo>
                  <a:pt x="480" y="2201"/>
                </a:lnTo>
                <a:lnTo>
                  <a:pt x="533" y="2191"/>
                </a:lnTo>
                <a:lnTo>
                  <a:pt x="587" y="2180"/>
                </a:lnTo>
                <a:lnTo>
                  <a:pt x="641" y="2164"/>
                </a:lnTo>
                <a:lnTo>
                  <a:pt x="691" y="2147"/>
                </a:lnTo>
                <a:lnTo>
                  <a:pt x="700" y="2143"/>
                </a:lnTo>
                <a:lnTo>
                  <a:pt x="696" y="2134"/>
                </a:lnTo>
                <a:lnTo>
                  <a:pt x="689" y="2138"/>
                </a:lnTo>
                <a:lnTo>
                  <a:pt x="637" y="2153"/>
                </a:lnTo>
                <a:lnTo>
                  <a:pt x="585" y="2168"/>
                </a:lnTo>
                <a:lnTo>
                  <a:pt x="531" y="2182"/>
                </a:lnTo>
                <a:lnTo>
                  <a:pt x="478" y="2191"/>
                </a:lnTo>
                <a:lnTo>
                  <a:pt x="422" y="2197"/>
                </a:lnTo>
                <a:lnTo>
                  <a:pt x="366" y="2201"/>
                </a:lnTo>
                <a:lnTo>
                  <a:pt x="311" y="2203"/>
                </a:lnTo>
                <a:lnTo>
                  <a:pt x="255" y="2201"/>
                </a:lnTo>
                <a:lnTo>
                  <a:pt x="199" y="2197"/>
                </a:lnTo>
                <a:lnTo>
                  <a:pt x="144" y="2191"/>
                </a:lnTo>
                <a:lnTo>
                  <a:pt x="90" y="2182"/>
                </a:lnTo>
                <a:lnTo>
                  <a:pt x="36" y="2168"/>
                </a:lnTo>
                <a:lnTo>
                  <a:pt x="0" y="2159"/>
                </a:lnTo>
                <a:lnTo>
                  <a:pt x="0" y="2159"/>
                </a:lnTo>
                <a:lnTo>
                  <a:pt x="0" y="2161"/>
                </a:lnTo>
                <a:lnTo>
                  <a:pt x="0" y="2163"/>
                </a:lnTo>
                <a:lnTo>
                  <a:pt x="2" y="2164"/>
                </a:lnTo>
                <a:lnTo>
                  <a:pt x="2" y="2166"/>
                </a:lnTo>
                <a:lnTo>
                  <a:pt x="2" y="2166"/>
                </a:lnTo>
                <a:lnTo>
                  <a:pt x="2" y="2168"/>
                </a:lnTo>
                <a:lnTo>
                  <a:pt x="2" y="2170"/>
                </a:lnTo>
                <a:close/>
              </a:path>
            </a:pathLst>
          </a:custGeom>
          <a:solidFill>
            <a:srgbClr val="30a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reeform 321"/>
          <p:cNvSpPr/>
          <p:nvPr/>
        </p:nvSpPr>
        <p:spPr>
          <a:xfrm>
            <a:off x="5850000" y="1495440"/>
            <a:ext cx="1108080" cy="3497400"/>
          </a:xfrm>
          <a:custGeom>
            <a:avLst/>
            <a:gdLst>
              <a:gd name="textAreaLeft" fmla="*/ 0 w 1108080"/>
              <a:gd name="textAreaRight" fmla="*/ 1108440 w 1108080"/>
              <a:gd name="textAreaTop" fmla="*/ 0 h 3497400"/>
              <a:gd name="textAreaBottom" fmla="*/ 3497760 h 3497400"/>
            </a:gdLst>
            <a:ahLst/>
            <a:rect l="textAreaLeft" t="textAreaTop" r="textAreaRight" b="textAreaBottom"/>
            <a:pathLst>
              <a:path w="698" h="2203">
                <a:moveTo>
                  <a:pt x="647" y="52"/>
                </a:moveTo>
                <a:lnTo>
                  <a:pt x="639" y="48"/>
                </a:lnTo>
                <a:lnTo>
                  <a:pt x="587" y="34"/>
                </a:lnTo>
                <a:lnTo>
                  <a:pt x="533" y="21"/>
                </a:lnTo>
                <a:lnTo>
                  <a:pt x="480" y="11"/>
                </a:lnTo>
                <a:lnTo>
                  <a:pt x="424" y="6"/>
                </a:lnTo>
                <a:lnTo>
                  <a:pt x="368" y="0"/>
                </a:lnTo>
                <a:lnTo>
                  <a:pt x="311" y="0"/>
                </a:lnTo>
                <a:lnTo>
                  <a:pt x="267" y="0"/>
                </a:lnTo>
                <a:lnTo>
                  <a:pt x="265" y="2"/>
                </a:lnTo>
                <a:lnTo>
                  <a:pt x="265" y="4"/>
                </a:lnTo>
                <a:lnTo>
                  <a:pt x="265" y="4"/>
                </a:lnTo>
                <a:lnTo>
                  <a:pt x="263" y="6"/>
                </a:lnTo>
                <a:lnTo>
                  <a:pt x="263" y="8"/>
                </a:lnTo>
                <a:lnTo>
                  <a:pt x="263" y="8"/>
                </a:lnTo>
                <a:lnTo>
                  <a:pt x="261" y="10"/>
                </a:lnTo>
                <a:lnTo>
                  <a:pt x="261" y="11"/>
                </a:lnTo>
                <a:lnTo>
                  <a:pt x="311" y="10"/>
                </a:lnTo>
                <a:lnTo>
                  <a:pt x="366" y="11"/>
                </a:lnTo>
                <a:lnTo>
                  <a:pt x="422" y="15"/>
                </a:lnTo>
                <a:lnTo>
                  <a:pt x="478" y="23"/>
                </a:lnTo>
                <a:lnTo>
                  <a:pt x="531" y="33"/>
                </a:lnTo>
                <a:lnTo>
                  <a:pt x="583" y="44"/>
                </a:lnTo>
                <a:lnTo>
                  <a:pt x="635" y="59"/>
                </a:lnTo>
                <a:lnTo>
                  <a:pt x="641" y="61"/>
                </a:lnTo>
                <a:lnTo>
                  <a:pt x="643" y="59"/>
                </a:lnTo>
                <a:lnTo>
                  <a:pt x="643" y="59"/>
                </a:lnTo>
                <a:lnTo>
                  <a:pt x="643" y="57"/>
                </a:lnTo>
                <a:lnTo>
                  <a:pt x="645" y="56"/>
                </a:lnTo>
                <a:lnTo>
                  <a:pt x="645" y="56"/>
                </a:lnTo>
                <a:lnTo>
                  <a:pt x="645" y="54"/>
                </a:lnTo>
                <a:lnTo>
                  <a:pt x="647" y="52"/>
                </a:lnTo>
                <a:lnTo>
                  <a:pt x="647" y="52"/>
                </a:lnTo>
                <a:close/>
                <a:moveTo>
                  <a:pt x="2" y="2158"/>
                </a:moveTo>
                <a:lnTo>
                  <a:pt x="36" y="2168"/>
                </a:lnTo>
                <a:lnTo>
                  <a:pt x="88" y="2180"/>
                </a:lnTo>
                <a:lnTo>
                  <a:pt x="144" y="2189"/>
                </a:lnTo>
                <a:lnTo>
                  <a:pt x="197" y="2197"/>
                </a:lnTo>
                <a:lnTo>
                  <a:pt x="255" y="2201"/>
                </a:lnTo>
                <a:lnTo>
                  <a:pt x="311" y="2203"/>
                </a:lnTo>
                <a:lnTo>
                  <a:pt x="368" y="2201"/>
                </a:lnTo>
                <a:lnTo>
                  <a:pt x="424" y="2197"/>
                </a:lnTo>
                <a:lnTo>
                  <a:pt x="480" y="2189"/>
                </a:lnTo>
                <a:lnTo>
                  <a:pt x="533" y="2180"/>
                </a:lnTo>
                <a:lnTo>
                  <a:pt x="587" y="2168"/>
                </a:lnTo>
                <a:lnTo>
                  <a:pt x="639" y="2153"/>
                </a:lnTo>
                <a:lnTo>
                  <a:pt x="689" y="2135"/>
                </a:lnTo>
                <a:lnTo>
                  <a:pt x="698" y="2132"/>
                </a:lnTo>
                <a:lnTo>
                  <a:pt x="693" y="2122"/>
                </a:lnTo>
                <a:lnTo>
                  <a:pt x="687" y="2126"/>
                </a:lnTo>
                <a:lnTo>
                  <a:pt x="635" y="2143"/>
                </a:lnTo>
                <a:lnTo>
                  <a:pt x="583" y="2158"/>
                </a:lnTo>
                <a:lnTo>
                  <a:pt x="531" y="2170"/>
                </a:lnTo>
                <a:lnTo>
                  <a:pt x="478" y="2180"/>
                </a:lnTo>
                <a:lnTo>
                  <a:pt x="422" y="2185"/>
                </a:lnTo>
                <a:lnTo>
                  <a:pt x="366" y="2191"/>
                </a:lnTo>
                <a:lnTo>
                  <a:pt x="311" y="2191"/>
                </a:lnTo>
                <a:lnTo>
                  <a:pt x="255" y="2191"/>
                </a:lnTo>
                <a:lnTo>
                  <a:pt x="199" y="2185"/>
                </a:lnTo>
                <a:lnTo>
                  <a:pt x="146" y="2180"/>
                </a:lnTo>
                <a:lnTo>
                  <a:pt x="92" y="2170"/>
                </a:lnTo>
                <a:lnTo>
                  <a:pt x="38" y="2158"/>
                </a:lnTo>
                <a:lnTo>
                  <a:pt x="0" y="2147"/>
                </a:lnTo>
                <a:lnTo>
                  <a:pt x="0" y="2147"/>
                </a:lnTo>
                <a:lnTo>
                  <a:pt x="0" y="2149"/>
                </a:lnTo>
                <a:lnTo>
                  <a:pt x="0" y="2151"/>
                </a:lnTo>
                <a:lnTo>
                  <a:pt x="0" y="2153"/>
                </a:lnTo>
                <a:lnTo>
                  <a:pt x="0" y="2153"/>
                </a:lnTo>
                <a:lnTo>
                  <a:pt x="0" y="2155"/>
                </a:lnTo>
                <a:lnTo>
                  <a:pt x="0" y="2157"/>
                </a:lnTo>
                <a:lnTo>
                  <a:pt x="2" y="2158"/>
                </a:lnTo>
                <a:close/>
              </a:path>
            </a:pathLst>
          </a:custGeom>
          <a:solidFill>
            <a:srgbClr val="31a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Freeform 322"/>
          <p:cNvSpPr/>
          <p:nvPr/>
        </p:nvSpPr>
        <p:spPr>
          <a:xfrm>
            <a:off x="5846760" y="1501920"/>
            <a:ext cx="1108080" cy="3481200"/>
          </a:xfrm>
          <a:custGeom>
            <a:avLst/>
            <a:gdLst>
              <a:gd name="textAreaLeft" fmla="*/ 0 w 1108080"/>
              <a:gd name="textAreaRight" fmla="*/ 1108440 w 1108080"/>
              <a:gd name="textAreaTop" fmla="*/ 0 h 3481200"/>
              <a:gd name="textAreaBottom" fmla="*/ 3481560 h 3481200"/>
            </a:gdLst>
            <a:ahLst/>
            <a:rect l="textAreaLeft" t="textAreaTop" r="textAreaRight" b="textAreaBottom"/>
            <a:pathLst>
              <a:path w="698" h="2193">
                <a:moveTo>
                  <a:pt x="647" y="52"/>
                </a:moveTo>
                <a:lnTo>
                  <a:pt x="639" y="50"/>
                </a:lnTo>
                <a:lnTo>
                  <a:pt x="587" y="34"/>
                </a:lnTo>
                <a:lnTo>
                  <a:pt x="533" y="23"/>
                </a:lnTo>
                <a:lnTo>
                  <a:pt x="480" y="13"/>
                </a:lnTo>
                <a:lnTo>
                  <a:pt x="424" y="6"/>
                </a:lnTo>
                <a:lnTo>
                  <a:pt x="368" y="2"/>
                </a:lnTo>
                <a:lnTo>
                  <a:pt x="313" y="0"/>
                </a:lnTo>
                <a:lnTo>
                  <a:pt x="265" y="2"/>
                </a:lnTo>
                <a:lnTo>
                  <a:pt x="265" y="4"/>
                </a:lnTo>
                <a:lnTo>
                  <a:pt x="265" y="4"/>
                </a:lnTo>
                <a:lnTo>
                  <a:pt x="263" y="6"/>
                </a:lnTo>
                <a:lnTo>
                  <a:pt x="263" y="7"/>
                </a:lnTo>
                <a:lnTo>
                  <a:pt x="263" y="7"/>
                </a:lnTo>
                <a:lnTo>
                  <a:pt x="261" y="9"/>
                </a:lnTo>
                <a:lnTo>
                  <a:pt x="261" y="11"/>
                </a:lnTo>
                <a:lnTo>
                  <a:pt x="261" y="13"/>
                </a:lnTo>
                <a:lnTo>
                  <a:pt x="313" y="11"/>
                </a:lnTo>
                <a:lnTo>
                  <a:pt x="368" y="13"/>
                </a:lnTo>
                <a:lnTo>
                  <a:pt x="424" y="17"/>
                </a:lnTo>
                <a:lnTo>
                  <a:pt x="478" y="23"/>
                </a:lnTo>
                <a:lnTo>
                  <a:pt x="532" y="32"/>
                </a:lnTo>
                <a:lnTo>
                  <a:pt x="583" y="46"/>
                </a:lnTo>
                <a:lnTo>
                  <a:pt x="635" y="59"/>
                </a:lnTo>
                <a:lnTo>
                  <a:pt x="641" y="61"/>
                </a:lnTo>
                <a:lnTo>
                  <a:pt x="641" y="61"/>
                </a:lnTo>
                <a:lnTo>
                  <a:pt x="643" y="59"/>
                </a:lnTo>
                <a:lnTo>
                  <a:pt x="643" y="57"/>
                </a:lnTo>
                <a:lnTo>
                  <a:pt x="643" y="57"/>
                </a:lnTo>
                <a:lnTo>
                  <a:pt x="645" y="55"/>
                </a:lnTo>
                <a:lnTo>
                  <a:pt x="645" y="55"/>
                </a:lnTo>
                <a:lnTo>
                  <a:pt x="645" y="53"/>
                </a:lnTo>
                <a:lnTo>
                  <a:pt x="647" y="52"/>
                </a:lnTo>
                <a:close/>
                <a:moveTo>
                  <a:pt x="2" y="2149"/>
                </a:moveTo>
                <a:lnTo>
                  <a:pt x="38" y="2158"/>
                </a:lnTo>
                <a:lnTo>
                  <a:pt x="92" y="2172"/>
                </a:lnTo>
                <a:lnTo>
                  <a:pt x="146" y="2181"/>
                </a:lnTo>
                <a:lnTo>
                  <a:pt x="201" y="2187"/>
                </a:lnTo>
                <a:lnTo>
                  <a:pt x="257" y="2191"/>
                </a:lnTo>
                <a:lnTo>
                  <a:pt x="313" y="2193"/>
                </a:lnTo>
                <a:lnTo>
                  <a:pt x="368" y="2191"/>
                </a:lnTo>
                <a:lnTo>
                  <a:pt x="424" y="2187"/>
                </a:lnTo>
                <a:lnTo>
                  <a:pt x="480" y="2181"/>
                </a:lnTo>
                <a:lnTo>
                  <a:pt x="533" y="2172"/>
                </a:lnTo>
                <a:lnTo>
                  <a:pt x="587" y="2158"/>
                </a:lnTo>
                <a:lnTo>
                  <a:pt x="639" y="2143"/>
                </a:lnTo>
                <a:lnTo>
                  <a:pt x="691" y="2128"/>
                </a:lnTo>
                <a:lnTo>
                  <a:pt x="698" y="2124"/>
                </a:lnTo>
                <a:lnTo>
                  <a:pt x="693" y="2114"/>
                </a:lnTo>
                <a:lnTo>
                  <a:pt x="687" y="2116"/>
                </a:lnTo>
                <a:lnTo>
                  <a:pt x="635" y="2133"/>
                </a:lnTo>
                <a:lnTo>
                  <a:pt x="583" y="2149"/>
                </a:lnTo>
                <a:lnTo>
                  <a:pt x="532" y="2160"/>
                </a:lnTo>
                <a:lnTo>
                  <a:pt x="478" y="2170"/>
                </a:lnTo>
                <a:lnTo>
                  <a:pt x="424" y="2177"/>
                </a:lnTo>
                <a:lnTo>
                  <a:pt x="368" y="2181"/>
                </a:lnTo>
                <a:lnTo>
                  <a:pt x="313" y="2183"/>
                </a:lnTo>
                <a:lnTo>
                  <a:pt x="257" y="2181"/>
                </a:lnTo>
                <a:lnTo>
                  <a:pt x="201" y="2177"/>
                </a:lnTo>
                <a:lnTo>
                  <a:pt x="148" y="2170"/>
                </a:lnTo>
                <a:lnTo>
                  <a:pt x="94" y="2160"/>
                </a:lnTo>
                <a:lnTo>
                  <a:pt x="42" y="2149"/>
                </a:lnTo>
                <a:lnTo>
                  <a:pt x="0" y="2137"/>
                </a:lnTo>
                <a:lnTo>
                  <a:pt x="0" y="2137"/>
                </a:lnTo>
                <a:lnTo>
                  <a:pt x="0" y="2139"/>
                </a:lnTo>
                <a:lnTo>
                  <a:pt x="0" y="2141"/>
                </a:lnTo>
                <a:lnTo>
                  <a:pt x="2" y="2143"/>
                </a:lnTo>
                <a:lnTo>
                  <a:pt x="2" y="2143"/>
                </a:lnTo>
                <a:lnTo>
                  <a:pt x="2" y="2145"/>
                </a:lnTo>
                <a:lnTo>
                  <a:pt x="2" y="2147"/>
                </a:lnTo>
                <a:lnTo>
                  <a:pt x="2" y="2149"/>
                </a:lnTo>
                <a:close/>
              </a:path>
            </a:pathLst>
          </a:custGeom>
          <a:solidFill>
            <a:srgbClr val="32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Freeform 323"/>
          <p:cNvSpPr/>
          <p:nvPr/>
        </p:nvSpPr>
        <p:spPr>
          <a:xfrm>
            <a:off x="5846760" y="1511280"/>
            <a:ext cx="1103400" cy="3462480"/>
          </a:xfrm>
          <a:custGeom>
            <a:avLst/>
            <a:gdLst>
              <a:gd name="textAreaLeft" fmla="*/ 0 w 1103400"/>
              <a:gd name="textAreaRight" fmla="*/ 1103400 w 1103400"/>
              <a:gd name="textAreaTop" fmla="*/ 0 h 3462480"/>
              <a:gd name="textAreaBottom" fmla="*/ 3462840 h 3462480"/>
            </a:gdLst>
            <a:ahLst/>
            <a:rect l="textAreaLeft" t="textAreaTop" r="textAreaRight" b="textAreaBottom"/>
            <a:pathLst>
              <a:path w="695" h="2181">
                <a:moveTo>
                  <a:pt x="643" y="51"/>
                </a:moveTo>
                <a:lnTo>
                  <a:pt x="637" y="49"/>
                </a:lnTo>
                <a:lnTo>
                  <a:pt x="585" y="34"/>
                </a:lnTo>
                <a:lnTo>
                  <a:pt x="533" y="23"/>
                </a:lnTo>
                <a:lnTo>
                  <a:pt x="480" y="13"/>
                </a:lnTo>
                <a:lnTo>
                  <a:pt x="424" y="5"/>
                </a:lnTo>
                <a:lnTo>
                  <a:pt x="368" y="1"/>
                </a:lnTo>
                <a:lnTo>
                  <a:pt x="313" y="0"/>
                </a:lnTo>
                <a:lnTo>
                  <a:pt x="263" y="1"/>
                </a:lnTo>
                <a:lnTo>
                  <a:pt x="263" y="1"/>
                </a:lnTo>
                <a:lnTo>
                  <a:pt x="261" y="3"/>
                </a:lnTo>
                <a:lnTo>
                  <a:pt x="261" y="5"/>
                </a:lnTo>
                <a:lnTo>
                  <a:pt x="261" y="7"/>
                </a:lnTo>
                <a:lnTo>
                  <a:pt x="261" y="7"/>
                </a:lnTo>
                <a:lnTo>
                  <a:pt x="259" y="9"/>
                </a:lnTo>
                <a:lnTo>
                  <a:pt x="259" y="11"/>
                </a:lnTo>
                <a:lnTo>
                  <a:pt x="259" y="11"/>
                </a:lnTo>
                <a:lnTo>
                  <a:pt x="313" y="11"/>
                </a:lnTo>
                <a:lnTo>
                  <a:pt x="368" y="11"/>
                </a:lnTo>
                <a:lnTo>
                  <a:pt x="424" y="17"/>
                </a:lnTo>
                <a:lnTo>
                  <a:pt x="478" y="23"/>
                </a:lnTo>
                <a:lnTo>
                  <a:pt x="532" y="32"/>
                </a:lnTo>
                <a:lnTo>
                  <a:pt x="583" y="44"/>
                </a:lnTo>
                <a:lnTo>
                  <a:pt x="633" y="59"/>
                </a:lnTo>
                <a:lnTo>
                  <a:pt x="639" y="61"/>
                </a:lnTo>
                <a:lnTo>
                  <a:pt x="639" y="59"/>
                </a:lnTo>
                <a:lnTo>
                  <a:pt x="639" y="57"/>
                </a:lnTo>
                <a:lnTo>
                  <a:pt x="641" y="57"/>
                </a:lnTo>
                <a:lnTo>
                  <a:pt x="641" y="55"/>
                </a:lnTo>
                <a:lnTo>
                  <a:pt x="641" y="55"/>
                </a:lnTo>
                <a:lnTo>
                  <a:pt x="643" y="53"/>
                </a:lnTo>
                <a:lnTo>
                  <a:pt x="643" y="51"/>
                </a:lnTo>
                <a:lnTo>
                  <a:pt x="643" y="51"/>
                </a:lnTo>
                <a:close/>
                <a:moveTo>
                  <a:pt x="2" y="2137"/>
                </a:moveTo>
                <a:lnTo>
                  <a:pt x="40" y="2148"/>
                </a:lnTo>
                <a:lnTo>
                  <a:pt x="94" y="2160"/>
                </a:lnTo>
                <a:lnTo>
                  <a:pt x="148" y="2170"/>
                </a:lnTo>
                <a:lnTo>
                  <a:pt x="201" y="2175"/>
                </a:lnTo>
                <a:lnTo>
                  <a:pt x="257" y="2181"/>
                </a:lnTo>
                <a:lnTo>
                  <a:pt x="313" y="2181"/>
                </a:lnTo>
                <a:lnTo>
                  <a:pt x="368" y="2181"/>
                </a:lnTo>
                <a:lnTo>
                  <a:pt x="424" y="2175"/>
                </a:lnTo>
                <a:lnTo>
                  <a:pt x="480" y="2170"/>
                </a:lnTo>
                <a:lnTo>
                  <a:pt x="533" y="2160"/>
                </a:lnTo>
                <a:lnTo>
                  <a:pt x="585" y="2148"/>
                </a:lnTo>
                <a:lnTo>
                  <a:pt x="637" y="2133"/>
                </a:lnTo>
                <a:lnTo>
                  <a:pt x="689" y="2116"/>
                </a:lnTo>
                <a:lnTo>
                  <a:pt x="695" y="2112"/>
                </a:lnTo>
                <a:lnTo>
                  <a:pt x="691" y="2102"/>
                </a:lnTo>
                <a:lnTo>
                  <a:pt x="685" y="2106"/>
                </a:lnTo>
                <a:lnTo>
                  <a:pt x="633" y="2123"/>
                </a:lnTo>
                <a:lnTo>
                  <a:pt x="583" y="2137"/>
                </a:lnTo>
                <a:lnTo>
                  <a:pt x="532" y="2148"/>
                </a:lnTo>
                <a:lnTo>
                  <a:pt x="478" y="2158"/>
                </a:lnTo>
                <a:lnTo>
                  <a:pt x="424" y="2166"/>
                </a:lnTo>
                <a:lnTo>
                  <a:pt x="368" y="2170"/>
                </a:lnTo>
                <a:lnTo>
                  <a:pt x="313" y="2171"/>
                </a:lnTo>
                <a:lnTo>
                  <a:pt x="257" y="2170"/>
                </a:lnTo>
                <a:lnTo>
                  <a:pt x="203" y="2166"/>
                </a:lnTo>
                <a:lnTo>
                  <a:pt x="148" y="2158"/>
                </a:lnTo>
                <a:lnTo>
                  <a:pt x="96" y="2148"/>
                </a:lnTo>
                <a:lnTo>
                  <a:pt x="42" y="2137"/>
                </a:lnTo>
                <a:lnTo>
                  <a:pt x="0" y="2125"/>
                </a:lnTo>
                <a:lnTo>
                  <a:pt x="0" y="2125"/>
                </a:lnTo>
                <a:lnTo>
                  <a:pt x="0" y="2127"/>
                </a:lnTo>
                <a:lnTo>
                  <a:pt x="0" y="2129"/>
                </a:lnTo>
                <a:lnTo>
                  <a:pt x="0" y="2131"/>
                </a:lnTo>
                <a:lnTo>
                  <a:pt x="0" y="2131"/>
                </a:lnTo>
                <a:lnTo>
                  <a:pt x="0" y="2133"/>
                </a:lnTo>
                <a:lnTo>
                  <a:pt x="0" y="2135"/>
                </a:lnTo>
                <a:lnTo>
                  <a:pt x="2" y="2137"/>
                </a:lnTo>
                <a:close/>
              </a:path>
            </a:pathLst>
          </a:custGeom>
          <a:solidFill>
            <a:srgbClr val="33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Freeform 324"/>
          <p:cNvSpPr/>
          <p:nvPr/>
        </p:nvSpPr>
        <p:spPr>
          <a:xfrm>
            <a:off x="5843520" y="1519200"/>
            <a:ext cx="1103400" cy="3448080"/>
          </a:xfrm>
          <a:custGeom>
            <a:avLst/>
            <a:gdLst>
              <a:gd name="textAreaLeft" fmla="*/ 0 w 1103400"/>
              <a:gd name="textAreaRight" fmla="*/ 1103400 w 1103400"/>
              <a:gd name="textAreaTop" fmla="*/ 0 h 3448080"/>
              <a:gd name="textAreaBottom" fmla="*/ 3448440 h 3448080"/>
            </a:gdLst>
            <a:ahLst/>
            <a:rect l="textAreaLeft" t="textAreaTop" r="textAreaRight" b="textAreaBottom"/>
            <a:pathLst>
              <a:path w="695" h="2172">
                <a:moveTo>
                  <a:pt x="643" y="50"/>
                </a:moveTo>
                <a:lnTo>
                  <a:pt x="637" y="48"/>
                </a:lnTo>
                <a:lnTo>
                  <a:pt x="585" y="35"/>
                </a:lnTo>
                <a:lnTo>
                  <a:pt x="534" y="21"/>
                </a:lnTo>
                <a:lnTo>
                  <a:pt x="480" y="12"/>
                </a:lnTo>
                <a:lnTo>
                  <a:pt x="426" y="6"/>
                </a:lnTo>
                <a:lnTo>
                  <a:pt x="370" y="2"/>
                </a:lnTo>
                <a:lnTo>
                  <a:pt x="315" y="0"/>
                </a:lnTo>
                <a:lnTo>
                  <a:pt x="263" y="2"/>
                </a:lnTo>
                <a:lnTo>
                  <a:pt x="263" y="2"/>
                </a:lnTo>
                <a:lnTo>
                  <a:pt x="261" y="4"/>
                </a:lnTo>
                <a:lnTo>
                  <a:pt x="261" y="6"/>
                </a:lnTo>
                <a:lnTo>
                  <a:pt x="261" y="6"/>
                </a:lnTo>
                <a:lnTo>
                  <a:pt x="259" y="8"/>
                </a:lnTo>
                <a:lnTo>
                  <a:pt x="259" y="10"/>
                </a:lnTo>
                <a:lnTo>
                  <a:pt x="259" y="12"/>
                </a:lnTo>
                <a:lnTo>
                  <a:pt x="257" y="12"/>
                </a:lnTo>
                <a:lnTo>
                  <a:pt x="259" y="12"/>
                </a:lnTo>
                <a:lnTo>
                  <a:pt x="315" y="10"/>
                </a:lnTo>
                <a:lnTo>
                  <a:pt x="370" y="12"/>
                </a:lnTo>
                <a:lnTo>
                  <a:pt x="424" y="16"/>
                </a:lnTo>
                <a:lnTo>
                  <a:pt x="478" y="23"/>
                </a:lnTo>
                <a:lnTo>
                  <a:pt x="532" y="33"/>
                </a:lnTo>
                <a:lnTo>
                  <a:pt x="583" y="44"/>
                </a:lnTo>
                <a:lnTo>
                  <a:pt x="635" y="60"/>
                </a:lnTo>
                <a:lnTo>
                  <a:pt x="637" y="60"/>
                </a:lnTo>
                <a:lnTo>
                  <a:pt x="639" y="60"/>
                </a:lnTo>
                <a:lnTo>
                  <a:pt x="639" y="58"/>
                </a:lnTo>
                <a:lnTo>
                  <a:pt x="639" y="56"/>
                </a:lnTo>
                <a:lnTo>
                  <a:pt x="641" y="56"/>
                </a:lnTo>
                <a:lnTo>
                  <a:pt x="641" y="54"/>
                </a:lnTo>
                <a:lnTo>
                  <a:pt x="641" y="54"/>
                </a:lnTo>
                <a:lnTo>
                  <a:pt x="643" y="52"/>
                </a:lnTo>
                <a:lnTo>
                  <a:pt x="643" y="50"/>
                </a:lnTo>
                <a:close/>
                <a:moveTo>
                  <a:pt x="2" y="2126"/>
                </a:moveTo>
                <a:lnTo>
                  <a:pt x="44" y="2138"/>
                </a:lnTo>
                <a:lnTo>
                  <a:pt x="96" y="2149"/>
                </a:lnTo>
                <a:lnTo>
                  <a:pt x="150" y="2159"/>
                </a:lnTo>
                <a:lnTo>
                  <a:pt x="203" y="2166"/>
                </a:lnTo>
                <a:lnTo>
                  <a:pt x="259" y="2170"/>
                </a:lnTo>
                <a:lnTo>
                  <a:pt x="315" y="2172"/>
                </a:lnTo>
                <a:lnTo>
                  <a:pt x="370" y="2170"/>
                </a:lnTo>
                <a:lnTo>
                  <a:pt x="426" y="2166"/>
                </a:lnTo>
                <a:lnTo>
                  <a:pt x="480" y="2159"/>
                </a:lnTo>
                <a:lnTo>
                  <a:pt x="534" y="2149"/>
                </a:lnTo>
                <a:lnTo>
                  <a:pt x="585" y="2138"/>
                </a:lnTo>
                <a:lnTo>
                  <a:pt x="637" y="2122"/>
                </a:lnTo>
                <a:lnTo>
                  <a:pt x="689" y="2105"/>
                </a:lnTo>
                <a:lnTo>
                  <a:pt x="695" y="2103"/>
                </a:lnTo>
                <a:lnTo>
                  <a:pt x="691" y="2094"/>
                </a:lnTo>
                <a:lnTo>
                  <a:pt x="685" y="2095"/>
                </a:lnTo>
                <a:lnTo>
                  <a:pt x="635" y="2113"/>
                </a:lnTo>
                <a:lnTo>
                  <a:pt x="583" y="2126"/>
                </a:lnTo>
                <a:lnTo>
                  <a:pt x="532" y="2140"/>
                </a:lnTo>
                <a:lnTo>
                  <a:pt x="478" y="2149"/>
                </a:lnTo>
                <a:lnTo>
                  <a:pt x="424" y="2155"/>
                </a:lnTo>
                <a:lnTo>
                  <a:pt x="370" y="2159"/>
                </a:lnTo>
                <a:lnTo>
                  <a:pt x="315" y="2161"/>
                </a:lnTo>
                <a:lnTo>
                  <a:pt x="259" y="2159"/>
                </a:lnTo>
                <a:lnTo>
                  <a:pt x="205" y="2155"/>
                </a:lnTo>
                <a:lnTo>
                  <a:pt x="152" y="2149"/>
                </a:lnTo>
                <a:lnTo>
                  <a:pt x="98" y="2140"/>
                </a:lnTo>
                <a:lnTo>
                  <a:pt x="46" y="2126"/>
                </a:lnTo>
                <a:lnTo>
                  <a:pt x="0" y="2115"/>
                </a:lnTo>
                <a:lnTo>
                  <a:pt x="0" y="2115"/>
                </a:lnTo>
                <a:lnTo>
                  <a:pt x="0" y="2117"/>
                </a:lnTo>
                <a:lnTo>
                  <a:pt x="0" y="2118"/>
                </a:lnTo>
                <a:lnTo>
                  <a:pt x="2" y="2120"/>
                </a:lnTo>
                <a:lnTo>
                  <a:pt x="2" y="2120"/>
                </a:lnTo>
                <a:lnTo>
                  <a:pt x="2" y="2122"/>
                </a:lnTo>
                <a:lnTo>
                  <a:pt x="2" y="2124"/>
                </a:lnTo>
                <a:lnTo>
                  <a:pt x="2" y="2126"/>
                </a:lnTo>
                <a:close/>
              </a:path>
            </a:pathLst>
          </a:custGeom>
          <a:solidFill>
            <a:srgbClr val="34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Freeform 325"/>
          <p:cNvSpPr/>
          <p:nvPr/>
        </p:nvSpPr>
        <p:spPr>
          <a:xfrm>
            <a:off x="5843520" y="1528920"/>
            <a:ext cx="1100160" cy="342900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693" h="2160">
                <a:moveTo>
                  <a:pt x="641" y="50"/>
                </a:moveTo>
                <a:lnTo>
                  <a:pt x="635" y="48"/>
                </a:lnTo>
                <a:lnTo>
                  <a:pt x="585" y="33"/>
                </a:lnTo>
                <a:lnTo>
                  <a:pt x="534" y="21"/>
                </a:lnTo>
                <a:lnTo>
                  <a:pt x="480" y="12"/>
                </a:lnTo>
                <a:lnTo>
                  <a:pt x="426" y="6"/>
                </a:lnTo>
                <a:lnTo>
                  <a:pt x="370" y="0"/>
                </a:lnTo>
                <a:lnTo>
                  <a:pt x="315" y="0"/>
                </a:lnTo>
                <a:lnTo>
                  <a:pt x="261" y="0"/>
                </a:lnTo>
                <a:lnTo>
                  <a:pt x="259" y="2"/>
                </a:lnTo>
                <a:lnTo>
                  <a:pt x="259" y="4"/>
                </a:lnTo>
                <a:lnTo>
                  <a:pt x="259" y="6"/>
                </a:lnTo>
                <a:lnTo>
                  <a:pt x="257" y="6"/>
                </a:lnTo>
                <a:lnTo>
                  <a:pt x="257" y="8"/>
                </a:lnTo>
                <a:lnTo>
                  <a:pt x="257" y="10"/>
                </a:lnTo>
                <a:lnTo>
                  <a:pt x="255" y="10"/>
                </a:lnTo>
                <a:lnTo>
                  <a:pt x="255" y="12"/>
                </a:lnTo>
                <a:lnTo>
                  <a:pt x="259" y="12"/>
                </a:lnTo>
                <a:lnTo>
                  <a:pt x="315" y="10"/>
                </a:lnTo>
                <a:lnTo>
                  <a:pt x="370" y="12"/>
                </a:lnTo>
                <a:lnTo>
                  <a:pt x="424" y="15"/>
                </a:lnTo>
                <a:lnTo>
                  <a:pt x="478" y="23"/>
                </a:lnTo>
                <a:lnTo>
                  <a:pt x="530" y="33"/>
                </a:lnTo>
                <a:lnTo>
                  <a:pt x="581" y="44"/>
                </a:lnTo>
                <a:lnTo>
                  <a:pt x="633" y="58"/>
                </a:lnTo>
                <a:lnTo>
                  <a:pt x="635" y="60"/>
                </a:lnTo>
                <a:lnTo>
                  <a:pt x="635" y="58"/>
                </a:lnTo>
                <a:lnTo>
                  <a:pt x="637" y="56"/>
                </a:lnTo>
                <a:lnTo>
                  <a:pt x="637" y="56"/>
                </a:lnTo>
                <a:lnTo>
                  <a:pt x="637" y="54"/>
                </a:lnTo>
                <a:lnTo>
                  <a:pt x="639" y="54"/>
                </a:lnTo>
                <a:lnTo>
                  <a:pt x="639" y="52"/>
                </a:lnTo>
                <a:lnTo>
                  <a:pt x="639" y="50"/>
                </a:lnTo>
                <a:lnTo>
                  <a:pt x="641" y="50"/>
                </a:lnTo>
                <a:close/>
                <a:moveTo>
                  <a:pt x="2" y="2114"/>
                </a:moveTo>
                <a:lnTo>
                  <a:pt x="44" y="2126"/>
                </a:lnTo>
                <a:lnTo>
                  <a:pt x="98" y="2137"/>
                </a:lnTo>
                <a:lnTo>
                  <a:pt x="150" y="2147"/>
                </a:lnTo>
                <a:lnTo>
                  <a:pt x="205" y="2155"/>
                </a:lnTo>
                <a:lnTo>
                  <a:pt x="259" y="2159"/>
                </a:lnTo>
                <a:lnTo>
                  <a:pt x="315" y="2160"/>
                </a:lnTo>
                <a:lnTo>
                  <a:pt x="370" y="2159"/>
                </a:lnTo>
                <a:lnTo>
                  <a:pt x="426" y="2155"/>
                </a:lnTo>
                <a:lnTo>
                  <a:pt x="480" y="2147"/>
                </a:lnTo>
                <a:lnTo>
                  <a:pt x="534" y="2137"/>
                </a:lnTo>
                <a:lnTo>
                  <a:pt x="585" y="2126"/>
                </a:lnTo>
                <a:lnTo>
                  <a:pt x="635" y="2112"/>
                </a:lnTo>
                <a:lnTo>
                  <a:pt x="687" y="2095"/>
                </a:lnTo>
                <a:lnTo>
                  <a:pt x="693" y="2091"/>
                </a:lnTo>
                <a:lnTo>
                  <a:pt x="689" y="2082"/>
                </a:lnTo>
                <a:lnTo>
                  <a:pt x="683" y="2084"/>
                </a:lnTo>
                <a:lnTo>
                  <a:pt x="633" y="2101"/>
                </a:lnTo>
                <a:lnTo>
                  <a:pt x="581" y="2116"/>
                </a:lnTo>
                <a:lnTo>
                  <a:pt x="530" y="2128"/>
                </a:lnTo>
                <a:lnTo>
                  <a:pt x="478" y="2137"/>
                </a:lnTo>
                <a:lnTo>
                  <a:pt x="424" y="2143"/>
                </a:lnTo>
                <a:lnTo>
                  <a:pt x="370" y="2149"/>
                </a:lnTo>
                <a:lnTo>
                  <a:pt x="315" y="2149"/>
                </a:lnTo>
                <a:lnTo>
                  <a:pt x="259" y="2149"/>
                </a:lnTo>
                <a:lnTo>
                  <a:pt x="205" y="2143"/>
                </a:lnTo>
                <a:lnTo>
                  <a:pt x="152" y="2137"/>
                </a:lnTo>
                <a:lnTo>
                  <a:pt x="100" y="2128"/>
                </a:lnTo>
                <a:lnTo>
                  <a:pt x="48" y="2116"/>
                </a:lnTo>
                <a:lnTo>
                  <a:pt x="0" y="2103"/>
                </a:lnTo>
                <a:lnTo>
                  <a:pt x="0" y="2103"/>
                </a:lnTo>
                <a:lnTo>
                  <a:pt x="0" y="2105"/>
                </a:lnTo>
                <a:lnTo>
                  <a:pt x="0" y="2107"/>
                </a:lnTo>
                <a:lnTo>
                  <a:pt x="0" y="2109"/>
                </a:lnTo>
                <a:lnTo>
                  <a:pt x="0" y="2109"/>
                </a:lnTo>
                <a:lnTo>
                  <a:pt x="0" y="2111"/>
                </a:lnTo>
                <a:lnTo>
                  <a:pt x="0" y="2112"/>
                </a:lnTo>
                <a:lnTo>
                  <a:pt x="2" y="2114"/>
                </a:lnTo>
                <a:close/>
              </a:path>
            </a:pathLst>
          </a:custGeom>
          <a:solidFill>
            <a:srgbClr val="35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Freeform 326"/>
          <p:cNvSpPr/>
          <p:nvPr/>
        </p:nvSpPr>
        <p:spPr>
          <a:xfrm>
            <a:off x="5840280" y="1535040"/>
            <a:ext cx="1100160" cy="341496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414960"/>
              <a:gd name="textAreaBottom" fmla="*/ 3415320 h 3414960"/>
            </a:gdLst>
            <a:ahLst/>
            <a:rect l="textAreaLeft" t="textAreaTop" r="textAreaRight" b="textAreaBottom"/>
            <a:pathLst>
              <a:path w="693" h="2151">
                <a:moveTo>
                  <a:pt x="639" y="50"/>
                </a:moveTo>
                <a:lnTo>
                  <a:pt x="637" y="50"/>
                </a:lnTo>
                <a:lnTo>
                  <a:pt x="585" y="34"/>
                </a:lnTo>
                <a:lnTo>
                  <a:pt x="534" y="23"/>
                </a:lnTo>
                <a:lnTo>
                  <a:pt x="480" y="13"/>
                </a:lnTo>
                <a:lnTo>
                  <a:pt x="426" y="6"/>
                </a:lnTo>
                <a:lnTo>
                  <a:pt x="372" y="2"/>
                </a:lnTo>
                <a:lnTo>
                  <a:pt x="317" y="0"/>
                </a:lnTo>
                <a:lnTo>
                  <a:pt x="261" y="2"/>
                </a:lnTo>
                <a:lnTo>
                  <a:pt x="259" y="2"/>
                </a:lnTo>
                <a:lnTo>
                  <a:pt x="259" y="4"/>
                </a:lnTo>
                <a:lnTo>
                  <a:pt x="259" y="6"/>
                </a:lnTo>
                <a:lnTo>
                  <a:pt x="257" y="6"/>
                </a:lnTo>
                <a:lnTo>
                  <a:pt x="257" y="8"/>
                </a:lnTo>
                <a:lnTo>
                  <a:pt x="257" y="9"/>
                </a:lnTo>
                <a:lnTo>
                  <a:pt x="257" y="11"/>
                </a:lnTo>
                <a:lnTo>
                  <a:pt x="255" y="11"/>
                </a:lnTo>
                <a:lnTo>
                  <a:pt x="255" y="13"/>
                </a:lnTo>
                <a:lnTo>
                  <a:pt x="263" y="13"/>
                </a:lnTo>
                <a:lnTo>
                  <a:pt x="317" y="11"/>
                </a:lnTo>
                <a:lnTo>
                  <a:pt x="372" y="13"/>
                </a:lnTo>
                <a:lnTo>
                  <a:pt x="426" y="17"/>
                </a:lnTo>
                <a:lnTo>
                  <a:pt x="480" y="23"/>
                </a:lnTo>
                <a:lnTo>
                  <a:pt x="532" y="32"/>
                </a:lnTo>
                <a:lnTo>
                  <a:pt x="583" y="44"/>
                </a:lnTo>
                <a:lnTo>
                  <a:pt x="633" y="59"/>
                </a:lnTo>
                <a:lnTo>
                  <a:pt x="635" y="59"/>
                </a:lnTo>
                <a:lnTo>
                  <a:pt x="635" y="59"/>
                </a:lnTo>
                <a:lnTo>
                  <a:pt x="635" y="57"/>
                </a:lnTo>
                <a:lnTo>
                  <a:pt x="637" y="56"/>
                </a:lnTo>
                <a:lnTo>
                  <a:pt x="637" y="56"/>
                </a:lnTo>
                <a:lnTo>
                  <a:pt x="637" y="54"/>
                </a:lnTo>
                <a:lnTo>
                  <a:pt x="639" y="52"/>
                </a:lnTo>
                <a:lnTo>
                  <a:pt x="639" y="52"/>
                </a:lnTo>
                <a:lnTo>
                  <a:pt x="639" y="50"/>
                </a:lnTo>
                <a:close/>
                <a:moveTo>
                  <a:pt x="2" y="2105"/>
                </a:moveTo>
                <a:lnTo>
                  <a:pt x="48" y="2116"/>
                </a:lnTo>
                <a:lnTo>
                  <a:pt x="100" y="2130"/>
                </a:lnTo>
                <a:lnTo>
                  <a:pt x="154" y="2139"/>
                </a:lnTo>
                <a:lnTo>
                  <a:pt x="207" y="2145"/>
                </a:lnTo>
                <a:lnTo>
                  <a:pt x="261" y="2149"/>
                </a:lnTo>
                <a:lnTo>
                  <a:pt x="317" y="2151"/>
                </a:lnTo>
                <a:lnTo>
                  <a:pt x="372" y="2149"/>
                </a:lnTo>
                <a:lnTo>
                  <a:pt x="426" y="2145"/>
                </a:lnTo>
                <a:lnTo>
                  <a:pt x="480" y="2139"/>
                </a:lnTo>
                <a:lnTo>
                  <a:pt x="534" y="2130"/>
                </a:lnTo>
                <a:lnTo>
                  <a:pt x="585" y="2116"/>
                </a:lnTo>
                <a:lnTo>
                  <a:pt x="637" y="2103"/>
                </a:lnTo>
                <a:lnTo>
                  <a:pt x="687" y="2085"/>
                </a:lnTo>
                <a:lnTo>
                  <a:pt x="693" y="2084"/>
                </a:lnTo>
                <a:lnTo>
                  <a:pt x="687" y="2074"/>
                </a:lnTo>
                <a:lnTo>
                  <a:pt x="683" y="2076"/>
                </a:lnTo>
                <a:lnTo>
                  <a:pt x="633" y="2093"/>
                </a:lnTo>
                <a:lnTo>
                  <a:pt x="583" y="2107"/>
                </a:lnTo>
                <a:lnTo>
                  <a:pt x="532" y="2118"/>
                </a:lnTo>
                <a:lnTo>
                  <a:pt x="480" y="2128"/>
                </a:lnTo>
                <a:lnTo>
                  <a:pt x="426" y="2135"/>
                </a:lnTo>
                <a:lnTo>
                  <a:pt x="372" y="2139"/>
                </a:lnTo>
                <a:lnTo>
                  <a:pt x="317" y="2141"/>
                </a:lnTo>
                <a:lnTo>
                  <a:pt x="263" y="2139"/>
                </a:lnTo>
                <a:lnTo>
                  <a:pt x="207" y="2135"/>
                </a:lnTo>
                <a:lnTo>
                  <a:pt x="155" y="2128"/>
                </a:lnTo>
                <a:lnTo>
                  <a:pt x="102" y="2118"/>
                </a:lnTo>
                <a:lnTo>
                  <a:pt x="50" y="2107"/>
                </a:lnTo>
                <a:lnTo>
                  <a:pt x="0" y="2093"/>
                </a:lnTo>
                <a:lnTo>
                  <a:pt x="0" y="2093"/>
                </a:lnTo>
                <a:lnTo>
                  <a:pt x="0" y="2093"/>
                </a:lnTo>
                <a:lnTo>
                  <a:pt x="0" y="2095"/>
                </a:lnTo>
                <a:lnTo>
                  <a:pt x="0" y="2097"/>
                </a:lnTo>
                <a:lnTo>
                  <a:pt x="2" y="2099"/>
                </a:lnTo>
                <a:lnTo>
                  <a:pt x="2" y="2099"/>
                </a:lnTo>
                <a:lnTo>
                  <a:pt x="2" y="2101"/>
                </a:lnTo>
                <a:lnTo>
                  <a:pt x="2" y="2103"/>
                </a:lnTo>
                <a:lnTo>
                  <a:pt x="2" y="2105"/>
                </a:lnTo>
                <a:close/>
              </a:path>
            </a:pathLst>
          </a:custGeom>
          <a:solidFill>
            <a:srgbClr val="36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Freeform 327"/>
          <p:cNvSpPr/>
          <p:nvPr/>
        </p:nvSpPr>
        <p:spPr>
          <a:xfrm>
            <a:off x="5840280" y="1544760"/>
            <a:ext cx="1096920" cy="339552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3395520"/>
              <a:gd name="textAreaBottom" fmla="*/ 3395880 h 3395520"/>
            </a:gdLst>
            <a:ahLst/>
            <a:rect l="textAreaLeft" t="textAreaTop" r="textAreaRight" b="textAreaBottom"/>
            <a:pathLst>
              <a:path w="691" h="2139">
                <a:moveTo>
                  <a:pt x="637" y="50"/>
                </a:moveTo>
                <a:lnTo>
                  <a:pt x="635" y="48"/>
                </a:lnTo>
                <a:lnTo>
                  <a:pt x="583" y="34"/>
                </a:lnTo>
                <a:lnTo>
                  <a:pt x="532" y="23"/>
                </a:lnTo>
                <a:lnTo>
                  <a:pt x="480" y="13"/>
                </a:lnTo>
                <a:lnTo>
                  <a:pt x="426" y="5"/>
                </a:lnTo>
                <a:lnTo>
                  <a:pt x="372" y="2"/>
                </a:lnTo>
                <a:lnTo>
                  <a:pt x="317" y="0"/>
                </a:lnTo>
                <a:lnTo>
                  <a:pt x="261" y="2"/>
                </a:lnTo>
                <a:lnTo>
                  <a:pt x="257" y="2"/>
                </a:lnTo>
                <a:lnTo>
                  <a:pt x="257" y="3"/>
                </a:lnTo>
                <a:lnTo>
                  <a:pt x="257" y="5"/>
                </a:lnTo>
                <a:lnTo>
                  <a:pt x="255" y="5"/>
                </a:lnTo>
                <a:lnTo>
                  <a:pt x="255" y="7"/>
                </a:lnTo>
                <a:lnTo>
                  <a:pt x="255" y="9"/>
                </a:lnTo>
                <a:lnTo>
                  <a:pt x="253" y="9"/>
                </a:lnTo>
                <a:lnTo>
                  <a:pt x="253" y="11"/>
                </a:lnTo>
                <a:lnTo>
                  <a:pt x="253" y="13"/>
                </a:lnTo>
                <a:lnTo>
                  <a:pt x="263" y="11"/>
                </a:lnTo>
                <a:lnTo>
                  <a:pt x="317" y="11"/>
                </a:lnTo>
                <a:lnTo>
                  <a:pt x="370" y="11"/>
                </a:lnTo>
                <a:lnTo>
                  <a:pt x="426" y="17"/>
                </a:lnTo>
                <a:lnTo>
                  <a:pt x="478" y="23"/>
                </a:lnTo>
                <a:lnTo>
                  <a:pt x="530" y="32"/>
                </a:lnTo>
                <a:lnTo>
                  <a:pt x="582" y="44"/>
                </a:lnTo>
                <a:lnTo>
                  <a:pt x="631" y="59"/>
                </a:lnTo>
                <a:lnTo>
                  <a:pt x="633" y="59"/>
                </a:lnTo>
                <a:lnTo>
                  <a:pt x="633" y="57"/>
                </a:lnTo>
                <a:lnTo>
                  <a:pt x="633" y="55"/>
                </a:lnTo>
                <a:lnTo>
                  <a:pt x="633" y="55"/>
                </a:lnTo>
                <a:lnTo>
                  <a:pt x="635" y="53"/>
                </a:lnTo>
                <a:lnTo>
                  <a:pt x="635" y="53"/>
                </a:lnTo>
                <a:lnTo>
                  <a:pt x="635" y="51"/>
                </a:lnTo>
                <a:lnTo>
                  <a:pt x="637" y="50"/>
                </a:lnTo>
                <a:lnTo>
                  <a:pt x="637" y="50"/>
                </a:lnTo>
                <a:close/>
                <a:moveTo>
                  <a:pt x="2" y="2093"/>
                </a:moveTo>
                <a:lnTo>
                  <a:pt x="50" y="2106"/>
                </a:lnTo>
                <a:lnTo>
                  <a:pt x="102" y="2118"/>
                </a:lnTo>
                <a:lnTo>
                  <a:pt x="154" y="2127"/>
                </a:lnTo>
                <a:lnTo>
                  <a:pt x="207" y="2133"/>
                </a:lnTo>
                <a:lnTo>
                  <a:pt x="261" y="2139"/>
                </a:lnTo>
                <a:lnTo>
                  <a:pt x="317" y="2139"/>
                </a:lnTo>
                <a:lnTo>
                  <a:pt x="372" y="2139"/>
                </a:lnTo>
                <a:lnTo>
                  <a:pt x="426" y="2133"/>
                </a:lnTo>
                <a:lnTo>
                  <a:pt x="480" y="2127"/>
                </a:lnTo>
                <a:lnTo>
                  <a:pt x="532" y="2118"/>
                </a:lnTo>
                <a:lnTo>
                  <a:pt x="583" y="2106"/>
                </a:lnTo>
                <a:lnTo>
                  <a:pt x="635" y="2091"/>
                </a:lnTo>
                <a:lnTo>
                  <a:pt x="685" y="2074"/>
                </a:lnTo>
                <a:lnTo>
                  <a:pt x="691" y="2072"/>
                </a:lnTo>
                <a:lnTo>
                  <a:pt x="685" y="2062"/>
                </a:lnTo>
                <a:lnTo>
                  <a:pt x="681" y="2064"/>
                </a:lnTo>
                <a:lnTo>
                  <a:pt x="631" y="2081"/>
                </a:lnTo>
                <a:lnTo>
                  <a:pt x="582" y="2095"/>
                </a:lnTo>
                <a:lnTo>
                  <a:pt x="530" y="2108"/>
                </a:lnTo>
                <a:lnTo>
                  <a:pt x="478" y="2116"/>
                </a:lnTo>
                <a:lnTo>
                  <a:pt x="426" y="2124"/>
                </a:lnTo>
                <a:lnTo>
                  <a:pt x="370" y="2127"/>
                </a:lnTo>
                <a:lnTo>
                  <a:pt x="317" y="2129"/>
                </a:lnTo>
                <a:lnTo>
                  <a:pt x="263" y="2127"/>
                </a:lnTo>
                <a:lnTo>
                  <a:pt x="209" y="2124"/>
                </a:lnTo>
                <a:lnTo>
                  <a:pt x="155" y="2116"/>
                </a:lnTo>
                <a:lnTo>
                  <a:pt x="104" y="2108"/>
                </a:lnTo>
                <a:lnTo>
                  <a:pt x="52" y="2095"/>
                </a:lnTo>
                <a:lnTo>
                  <a:pt x="2" y="2081"/>
                </a:lnTo>
                <a:lnTo>
                  <a:pt x="0" y="2079"/>
                </a:lnTo>
                <a:lnTo>
                  <a:pt x="0" y="2081"/>
                </a:lnTo>
                <a:lnTo>
                  <a:pt x="0" y="2083"/>
                </a:lnTo>
                <a:lnTo>
                  <a:pt x="0" y="2085"/>
                </a:lnTo>
                <a:lnTo>
                  <a:pt x="0" y="2087"/>
                </a:lnTo>
                <a:lnTo>
                  <a:pt x="0" y="2087"/>
                </a:lnTo>
                <a:lnTo>
                  <a:pt x="0" y="2089"/>
                </a:lnTo>
                <a:lnTo>
                  <a:pt x="0" y="2091"/>
                </a:lnTo>
                <a:lnTo>
                  <a:pt x="2" y="2093"/>
                </a:lnTo>
                <a:close/>
              </a:path>
            </a:pathLst>
          </a:custGeom>
          <a:solidFill>
            <a:srgbClr val="3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Freeform 328"/>
          <p:cNvSpPr/>
          <p:nvPr/>
        </p:nvSpPr>
        <p:spPr>
          <a:xfrm>
            <a:off x="5837400" y="1552680"/>
            <a:ext cx="1093680" cy="3381120"/>
          </a:xfrm>
          <a:custGeom>
            <a:avLst/>
            <a:gdLst>
              <a:gd name="textAreaLeft" fmla="*/ 0 w 1093680"/>
              <a:gd name="textAreaRight" fmla="*/ 1094040 w 1093680"/>
              <a:gd name="textAreaTop" fmla="*/ 0 h 3381120"/>
              <a:gd name="textAreaBottom" fmla="*/ 3381480 h 3381120"/>
            </a:gdLst>
            <a:ahLst/>
            <a:rect l="textAreaLeft" t="textAreaTop" r="textAreaRight" b="textAreaBottom"/>
            <a:pathLst>
              <a:path w="689" h="2130">
                <a:moveTo>
                  <a:pt x="637" y="48"/>
                </a:moveTo>
                <a:lnTo>
                  <a:pt x="635" y="48"/>
                </a:lnTo>
                <a:lnTo>
                  <a:pt x="585" y="33"/>
                </a:lnTo>
                <a:lnTo>
                  <a:pt x="534" y="21"/>
                </a:lnTo>
                <a:lnTo>
                  <a:pt x="482" y="12"/>
                </a:lnTo>
                <a:lnTo>
                  <a:pt x="428" y="6"/>
                </a:lnTo>
                <a:lnTo>
                  <a:pt x="374" y="2"/>
                </a:lnTo>
                <a:lnTo>
                  <a:pt x="319" y="0"/>
                </a:lnTo>
                <a:lnTo>
                  <a:pt x="265" y="2"/>
                </a:lnTo>
                <a:lnTo>
                  <a:pt x="257" y="2"/>
                </a:lnTo>
                <a:lnTo>
                  <a:pt x="257" y="4"/>
                </a:lnTo>
                <a:lnTo>
                  <a:pt x="255" y="4"/>
                </a:lnTo>
                <a:lnTo>
                  <a:pt x="255" y="6"/>
                </a:lnTo>
                <a:lnTo>
                  <a:pt x="255" y="8"/>
                </a:lnTo>
                <a:lnTo>
                  <a:pt x="253" y="10"/>
                </a:lnTo>
                <a:lnTo>
                  <a:pt x="253" y="10"/>
                </a:lnTo>
                <a:lnTo>
                  <a:pt x="253" y="12"/>
                </a:lnTo>
                <a:lnTo>
                  <a:pt x="252" y="14"/>
                </a:lnTo>
                <a:lnTo>
                  <a:pt x="265" y="12"/>
                </a:lnTo>
                <a:lnTo>
                  <a:pt x="319" y="12"/>
                </a:lnTo>
                <a:lnTo>
                  <a:pt x="372" y="12"/>
                </a:lnTo>
                <a:lnTo>
                  <a:pt x="426" y="16"/>
                </a:lnTo>
                <a:lnTo>
                  <a:pt x="480" y="23"/>
                </a:lnTo>
                <a:lnTo>
                  <a:pt x="532" y="33"/>
                </a:lnTo>
                <a:lnTo>
                  <a:pt x="582" y="45"/>
                </a:lnTo>
                <a:lnTo>
                  <a:pt x="632" y="58"/>
                </a:lnTo>
                <a:lnTo>
                  <a:pt x="633" y="58"/>
                </a:lnTo>
                <a:lnTo>
                  <a:pt x="633" y="56"/>
                </a:lnTo>
                <a:lnTo>
                  <a:pt x="633" y="54"/>
                </a:lnTo>
                <a:lnTo>
                  <a:pt x="635" y="54"/>
                </a:lnTo>
                <a:lnTo>
                  <a:pt x="635" y="52"/>
                </a:lnTo>
                <a:lnTo>
                  <a:pt x="635" y="50"/>
                </a:lnTo>
                <a:lnTo>
                  <a:pt x="635" y="50"/>
                </a:lnTo>
                <a:lnTo>
                  <a:pt x="637" y="48"/>
                </a:lnTo>
                <a:close/>
                <a:moveTo>
                  <a:pt x="2" y="2082"/>
                </a:moveTo>
                <a:lnTo>
                  <a:pt x="2" y="2082"/>
                </a:lnTo>
                <a:lnTo>
                  <a:pt x="52" y="2096"/>
                </a:lnTo>
                <a:lnTo>
                  <a:pt x="104" y="2107"/>
                </a:lnTo>
                <a:lnTo>
                  <a:pt x="157" y="2117"/>
                </a:lnTo>
                <a:lnTo>
                  <a:pt x="209" y="2124"/>
                </a:lnTo>
                <a:lnTo>
                  <a:pt x="265" y="2128"/>
                </a:lnTo>
                <a:lnTo>
                  <a:pt x="319" y="2130"/>
                </a:lnTo>
                <a:lnTo>
                  <a:pt x="374" y="2128"/>
                </a:lnTo>
                <a:lnTo>
                  <a:pt x="428" y="2124"/>
                </a:lnTo>
                <a:lnTo>
                  <a:pt x="482" y="2117"/>
                </a:lnTo>
                <a:lnTo>
                  <a:pt x="534" y="2107"/>
                </a:lnTo>
                <a:lnTo>
                  <a:pt x="585" y="2096"/>
                </a:lnTo>
                <a:lnTo>
                  <a:pt x="635" y="2082"/>
                </a:lnTo>
                <a:lnTo>
                  <a:pt x="685" y="2065"/>
                </a:lnTo>
                <a:lnTo>
                  <a:pt x="689" y="2063"/>
                </a:lnTo>
                <a:lnTo>
                  <a:pt x="685" y="2053"/>
                </a:lnTo>
                <a:lnTo>
                  <a:pt x="681" y="2055"/>
                </a:lnTo>
                <a:lnTo>
                  <a:pt x="632" y="2071"/>
                </a:lnTo>
                <a:lnTo>
                  <a:pt x="582" y="2086"/>
                </a:lnTo>
                <a:lnTo>
                  <a:pt x="532" y="2097"/>
                </a:lnTo>
                <a:lnTo>
                  <a:pt x="480" y="2107"/>
                </a:lnTo>
                <a:lnTo>
                  <a:pt x="426" y="2113"/>
                </a:lnTo>
                <a:lnTo>
                  <a:pt x="372" y="2117"/>
                </a:lnTo>
                <a:lnTo>
                  <a:pt x="319" y="2119"/>
                </a:lnTo>
                <a:lnTo>
                  <a:pt x="265" y="2117"/>
                </a:lnTo>
                <a:lnTo>
                  <a:pt x="211" y="2113"/>
                </a:lnTo>
                <a:lnTo>
                  <a:pt x="157" y="2107"/>
                </a:lnTo>
                <a:lnTo>
                  <a:pt x="106" y="2097"/>
                </a:lnTo>
                <a:lnTo>
                  <a:pt x="56" y="2086"/>
                </a:lnTo>
                <a:lnTo>
                  <a:pt x="6" y="2071"/>
                </a:lnTo>
                <a:lnTo>
                  <a:pt x="0" y="2069"/>
                </a:lnTo>
                <a:lnTo>
                  <a:pt x="0" y="2071"/>
                </a:lnTo>
                <a:lnTo>
                  <a:pt x="0" y="2073"/>
                </a:lnTo>
                <a:lnTo>
                  <a:pt x="0" y="2074"/>
                </a:lnTo>
                <a:lnTo>
                  <a:pt x="2" y="2074"/>
                </a:lnTo>
                <a:lnTo>
                  <a:pt x="2" y="2076"/>
                </a:lnTo>
                <a:lnTo>
                  <a:pt x="2" y="2078"/>
                </a:lnTo>
                <a:lnTo>
                  <a:pt x="2" y="2080"/>
                </a:lnTo>
                <a:lnTo>
                  <a:pt x="2" y="2082"/>
                </a:lnTo>
                <a:close/>
              </a:path>
            </a:pathLst>
          </a:custGeom>
          <a:solidFill>
            <a:srgbClr val="38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Freeform 329"/>
          <p:cNvSpPr/>
          <p:nvPr/>
        </p:nvSpPr>
        <p:spPr>
          <a:xfrm>
            <a:off x="5837400" y="1562040"/>
            <a:ext cx="1090440" cy="3362400"/>
          </a:xfrm>
          <a:custGeom>
            <a:avLst/>
            <a:gdLst>
              <a:gd name="textAreaLeft" fmla="*/ 0 w 1090440"/>
              <a:gd name="textAreaRight" fmla="*/ 1090800 w 1090440"/>
              <a:gd name="textAreaTop" fmla="*/ 0 h 3362400"/>
              <a:gd name="textAreaBottom" fmla="*/ 3362760 h 3362400"/>
            </a:gdLst>
            <a:ahLst/>
            <a:rect l="textAreaLeft" t="textAreaTop" r="textAreaRight" b="textAreaBottom"/>
            <a:pathLst>
              <a:path w="687" h="2118">
                <a:moveTo>
                  <a:pt x="635" y="48"/>
                </a:moveTo>
                <a:lnTo>
                  <a:pt x="633" y="48"/>
                </a:lnTo>
                <a:lnTo>
                  <a:pt x="584" y="33"/>
                </a:lnTo>
                <a:lnTo>
                  <a:pt x="532" y="21"/>
                </a:lnTo>
                <a:lnTo>
                  <a:pt x="480" y="12"/>
                </a:lnTo>
                <a:lnTo>
                  <a:pt x="428" y="6"/>
                </a:lnTo>
                <a:lnTo>
                  <a:pt x="372" y="0"/>
                </a:lnTo>
                <a:lnTo>
                  <a:pt x="319" y="0"/>
                </a:lnTo>
                <a:lnTo>
                  <a:pt x="265" y="0"/>
                </a:lnTo>
                <a:lnTo>
                  <a:pt x="255" y="2"/>
                </a:lnTo>
                <a:lnTo>
                  <a:pt x="253" y="4"/>
                </a:lnTo>
                <a:lnTo>
                  <a:pt x="253" y="4"/>
                </a:lnTo>
                <a:lnTo>
                  <a:pt x="253" y="6"/>
                </a:lnTo>
                <a:lnTo>
                  <a:pt x="252" y="8"/>
                </a:lnTo>
                <a:lnTo>
                  <a:pt x="252" y="8"/>
                </a:lnTo>
                <a:lnTo>
                  <a:pt x="252" y="10"/>
                </a:lnTo>
                <a:lnTo>
                  <a:pt x="252" y="12"/>
                </a:lnTo>
                <a:lnTo>
                  <a:pt x="250" y="14"/>
                </a:lnTo>
                <a:lnTo>
                  <a:pt x="265" y="12"/>
                </a:lnTo>
                <a:lnTo>
                  <a:pt x="319" y="10"/>
                </a:lnTo>
                <a:lnTo>
                  <a:pt x="372" y="12"/>
                </a:lnTo>
                <a:lnTo>
                  <a:pt x="426" y="15"/>
                </a:lnTo>
                <a:lnTo>
                  <a:pt x="478" y="23"/>
                </a:lnTo>
                <a:lnTo>
                  <a:pt x="530" y="31"/>
                </a:lnTo>
                <a:lnTo>
                  <a:pt x="582" y="42"/>
                </a:lnTo>
                <a:lnTo>
                  <a:pt x="630" y="58"/>
                </a:lnTo>
                <a:lnTo>
                  <a:pt x="630" y="56"/>
                </a:lnTo>
                <a:lnTo>
                  <a:pt x="632" y="54"/>
                </a:lnTo>
                <a:lnTo>
                  <a:pt x="632" y="54"/>
                </a:lnTo>
                <a:lnTo>
                  <a:pt x="632" y="52"/>
                </a:lnTo>
                <a:lnTo>
                  <a:pt x="633" y="52"/>
                </a:lnTo>
                <a:lnTo>
                  <a:pt x="633" y="50"/>
                </a:lnTo>
                <a:lnTo>
                  <a:pt x="633" y="48"/>
                </a:lnTo>
                <a:lnTo>
                  <a:pt x="635" y="48"/>
                </a:lnTo>
                <a:close/>
                <a:moveTo>
                  <a:pt x="2" y="2068"/>
                </a:moveTo>
                <a:lnTo>
                  <a:pt x="4" y="2070"/>
                </a:lnTo>
                <a:lnTo>
                  <a:pt x="54" y="2084"/>
                </a:lnTo>
                <a:lnTo>
                  <a:pt x="106" y="2097"/>
                </a:lnTo>
                <a:lnTo>
                  <a:pt x="157" y="2105"/>
                </a:lnTo>
                <a:lnTo>
                  <a:pt x="211" y="2113"/>
                </a:lnTo>
                <a:lnTo>
                  <a:pt x="265" y="2116"/>
                </a:lnTo>
                <a:lnTo>
                  <a:pt x="319" y="2118"/>
                </a:lnTo>
                <a:lnTo>
                  <a:pt x="372" y="2116"/>
                </a:lnTo>
                <a:lnTo>
                  <a:pt x="428" y="2113"/>
                </a:lnTo>
                <a:lnTo>
                  <a:pt x="480" y="2105"/>
                </a:lnTo>
                <a:lnTo>
                  <a:pt x="532" y="2097"/>
                </a:lnTo>
                <a:lnTo>
                  <a:pt x="584" y="2084"/>
                </a:lnTo>
                <a:lnTo>
                  <a:pt x="633" y="2070"/>
                </a:lnTo>
                <a:lnTo>
                  <a:pt x="683" y="2053"/>
                </a:lnTo>
                <a:lnTo>
                  <a:pt x="687" y="2051"/>
                </a:lnTo>
                <a:lnTo>
                  <a:pt x="683" y="2042"/>
                </a:lnTo>
                <a:lnTo>
                  <a:pt x="680" y="2044"/>
                </a:lnTo>
                <a:lnTo>
                  <a:pt x="632" y="2061"/>
                </a:lnTo>
                <a:lnTo>
                  <a:pt x="582" y="2074"/>
                </a:lnTo>
                <a:lnTo>
                  <a:pt x="530" y="2086"/>
                </a:lnTo>
                <a:lnTo>
                  <a:pt x="478" y="2095"/>
                </a:lnTo>
                <a:lnTo>
                  <a:pt x="426" y="2101"/>
                </a:lnTo>
                <a:lnTo>
                  <a:pt x="372" y="2107"/>
                </a:lnTo>
                <a:lnTo>
                  <a:pt x="319" y="2107"/>
                </a:lnTo>
                <a:lnTo>
                  <a:pt x="265" y="2107"/>
                </a:lnTo>
                <a:lnTo>
                  <a:pt x="211" y="2101"/>
                </a:lnTo>
                <a:lnTo>
                  <a:pt x="159" y="2095"/>
                </a:lnTo>
                <a:lnTo>
                  <a:pt x="108" y="2086"/>
                </a:lnTo>
                <a:lnTo>
                  <a:pt x="58" y="2074"/>
                </a:lnTo>
                <a:lnTo>
                  <a:pt x="8" y="2061"/>
                </a:lnTo>
                <a:lnTo>
                  <a:pt x="0" y="2057"/>
                </a:lnTo>
                <a:lnTo>
                  <a:pt x="0" y="2059"/>
                </a:lnTo>
                <a:lnTo>
                  <a:pt x="0" y="2061"/>
                </a:lnTo>
                <a:lnTo>
                  <a:pt x="0" y="2063"/>
                </a:lnTo>
                <a:lnTo>
                  <a:pt x="0" y="2063"/>
                </a:lnTo>
                <a:lnTo>
                  <a:pt x="0" y="2065"/>
                </a:lnTo>
                <a:lnTo>
                  <a:pt x="0" y="2067"/>
                </a:lnTo>
                <a:lnTo>
                  <a:pt x="0" y="2068"/>
                </a:lnTo>
                <a:lnTo>
                  <a:pt x="2" y="2068"/>
                </a:lnTo>
                <a:close/>
              </a:path>
            </a:pathLst>
          </a:custGeom>
          <a:solidFill>
            <a:srgbClr val="39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Freeform 330"/>
          <p:cNvSpPr/>
          <p:nvPr/>
        </p:nvSpPr>
        <p:spPr>
          <a:xfrm>
            <a:off x="5834160" y="1571760"/>
            <a:ext cx="1090440" cy="3344760"/>
          </a:xfrm>
          <a:custGeom>
            <a:avLst/>
            <a:gdLst>
              <a:gd name="textAreaLeft" fmla="*/ 0 w 1090440"/>
              <a:gd name="textAreaRight" fmla="*/ 1090800 w 1090440"/>
              <a:gd name="textAreaTop" fmla="*/ 0 h 3344760"/>
              <a:gd name="textAreaBottom" fmla="*/ 3345120 h 3344760"/>
            </a:gdLst>
            <a:ahLst/>
            <a:rect l="textAreaLeft" t="textAreaTop" r="textAreaRight" b="textAreaBottom"/>
            <a:pathLst>
              <a:path w="687" h="2107">
                <a:moveTo>
                  <a:pt x="634" y="46"/>
                </a:moveTo>
                <a:lnTo>
                  <a:pt x="584" y="33"/>
                </a:lnTo>
                <a:lnTo>
                  <a:pt x="534" y="21"/>
                </a:lnTo>
                <a:lnTo>
                  <a:pt x="482" y="11"/>
                </a:lnTo>
                <a:lnTo>
                  <a:pt x="428" y="4"/>
                </a:lnTo>
                <a:lnTo>
                  <a:pt x="374" y="0"/>
                </a:lnTo>
                <a:lnTo>
                  <a:pt x="321" y="0"/>
                </a:lnTo>
                <a:lnTo>
                  <a:pt x="267" y="0"/>
                </a:lnTo>
                <a:lnTo>
                  <a:pt x="254" y="2"/>
                </a:lnTo>
                <a:lnTo>
                  <a:pt x="254" y="2"/>
                </a:lnTo>
                <a:lnTo>
                  <a:pt x="254" y="4"/>
                </a:lnTo>
                <a:lnTo>
                  <a:pt x="254" y="6"/>
                </a:lnTo>
                <a:lnTo>
                  <a:pt x="252" y="8"/>
                </a:lnTo>
                <a:lnTo>
                  <a:pt x="252" y="8"/>
                </a:lnTo>
                <a:lnTo>
                  <a:pt x="252" y="9"/>
                </a:lnTo>
                <a:lnTo>
                  <a:pt x="250" y="11"/>
                </a:lnTo>
                <a:lnTo>
                  <a:pt x="250" y="11"/>
                </a:lnTo>
                <a:lnTo>
                  <a:pt x="267" y="11"/>
                </a:lnTo>
                <a:lnTo>
                  <a:pt x="321" y="9"/>
                </a:lnTo>
                <a:lnTo>
                  <a:pt x="374" y="11"/>
                </a:lnTo>
                <a:lnTo>
                  <a:pt x="428" y="15"/>
                </a:lnTo>
                <a:lnTo>
                  <a:pt x="480" y="21"/>
                </a:lnTo>
                <a:lnTo>
                  <a:pt x="532" y="31"/>
                </a:lnTo>
                <a:lnTo>
                  <a:pt x="582" y="42"/>
                </a:lnTo>
                <a:lnTo>
                  <a:pt x="630" y="56"/>
                </a:lnTo>
                <a:lnTo>
                  <a:pt x="630" y="56"/>
                </a:lnTo>
                <a:lnTo>
                  <a:pt x="630" y="54"/>
                </a:lnTo>
                <a:lnTo>
                  <a:pt x="632" y="52"/>
                </a:lnTo>
                <a:lnTo>
                  <a:pt x="632" y="52"/>
                </a:lnTo>
                <a:lnTo>
                  <a:pt x="632" y="50"/>
                </a:lnTo>
                <a:lnTo>
                  <a:pt x="634" y="48"/>
                </a:lnTo>
                <a:lnTo>
                  <a:pt x="634" y="48"/>
                </a:lnTo>
                <a:lnTo>
                  <a:pt x="634" y="46"/>
                </a:lnTo>
                <a:close/>
                <a:moveTo>
                  <a:pt x="2" y="2057"/>
                </a:moveTo>
                <a:lnTo>
                  <a:pt x="8" y="2059"/>
                </a:lnTo>
                <a:lnTo>
                  <a:pt x="58" y="2074"/>
                </a:lnTo>
                <a:lnTo>
                  <a:pt x="108" y="2085"/>
                </a:lnTo>
                <a:lnTo>
                  <a:pt x="159" y="2095"/>
                </a:lnTo>
                <a:lnTo>
                  <a:pt x="213" y="2101"/>
                </a:lnTo>
                <a:lnTo>
                  <a:pt x="267" y="2105"/>
                </a:lnTo>
                <a:lnTo>
                  <a:pt x="321" y="2107"/>
                </a:lnTo>
                <a:lnTo>
                  <a:pt x="374" y="2105"/>
                </a:lnTo>
                <a:lnTo>
                  <a:pt x="428" y="2101"/>
                </a:lnTo>
                <a:lnTo>
                  <a:pt x="482" y="2095"/>
                </a:lnTo>
                <a:lnTo>
                  <a:pt x="534" y="2085"/>
                </a:lnTo>
                <a:lnTo>
                  <a:pt x="584" y="2074"/>
                </a:lnTo>
                <a:lnTo>
                  <a:pt x="634" y="2059"/>
                </a:lnTo>
                <a:lnTo>
                  <a:pt x="683" y="2043"/>
                </a:lnTo>
                <a:lnTo>
                  <a:pt x="687" y="2041"/>
                </a:lnTo>
                <a:lnTo>
                  <a:pt x="682" y="2032"/>
                </a:lnTo>
                <a:lnTo>
                  <a:pt x="680" y="2032"/>
                </a:lnTo>
                <a:lnTo>
                  <a:pt x="632" y="2049"/>
                </a:lnTo>
                <a:lnTo>
                  <a:pt x="582" y="2062"/>
                </a:lnTo>
                <a:lnTo>
                  <a:pt x="532" y="2074"/>
                </a:lnTo>
                <a:lnTo>
                  <a:pt x="480" y="2084"/>
                </a:lnTo>
                <a:lnTo>
                  <a:pt x="428" y="2091"/>
                </a:lnTo>
                <a:lnTo>
                  <a:pt x="374" y="2095"/>
                </a:lnTo>
                <a:lnTo>
                  <a:pt x="321" y="2095"/>
                </a:lnTo>
                <a:lnTo>
                  <a:pt x="267" y="2095"/>
                </a:lnTo>
                <a:lnTo>
                  <a:pt x="215" y="2091"/>
                </a:lnTo>
                <a:lnTo>
                  <a:pt x="161" y="2084"/>
                </a:lnTo>
                <a:lnTo>
                  <a:pt x="111" y="2074"/>
                </a:lnTo>
                <a:lnTo>
                  <a:pt x="60" y="2062"/>
                </a:lnTo>
                <a:lnTo>
                  <a:pt x="10" y="2049"/>
                </a:lnTo>
                <a:lnTo>
                  <a:pt x="0" y="2045"/>
                </a:lnTo>
                <a:lnTo>
                  <a:pt x="0" y="2047"/>
                </a:lnTo>
                <a:lnTo>
                  <a:pt x="0" y="2049"/>
                </a:lnTo>
                <a:lnTo>
                  <a:pt x="2" y="2051"/>
                </a:lnTo>
                <a:lnTo>
                  <a:pt x="2" y="2051"/>
                </a:lnTo>
                <a:lnTo>
                  <a:pt x="2" y="2053"/>
                </a:lnTo>
                <a:lnTo>
                  <a:pt x="2" y="2055"/>
                </a:lnTo>
                <a:lnTo>
                  <a:pt x="2" y="2057"/>
                </a:lnTo>
                <a:lnTo>
                  <a:pt x="2" y="2057"/>
                </a:lnTo>
                <a:close/>
              </a:path>
            </a:pathLst>
          </a:custGeom>
          <a:solidFill>
            <a:srgbClr val="3a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Freeform 331"/>
          <p:cNvSpPr/>
          <p:nvPr/>
        </p:nvSpPr>
        <p:spPr>
          <a:xfrm>
            <a:off x="5834160" y="1577880"/>
            <a:ext cx="1087200" cy="3328920"/>
          </a:xfrm>
          <a:custGeom>
            <a:avLst/>
            <a:gdLst>
              <a:gd name="textAreaLeft" fmla="*/ 0 w 1087200"/>
              <a:gd name="textAreaRight" fmla="*/ 1087560 w 1087200"/>
              <a:gd name="textAreaTop" fmla="*/ 0 h 3328920"/>
              <a:gd name="textAreaBottom" fmla="*/ 3329280 h 3328920"/>
            </a:gdLst>
            <a:ahLst/>
            <a:rect l="textAreaLeft" t="textAreaTop" r="textAreaRight" b="textAreaBottom"/>
            <a:pathLst>
              <a:path w="685" h="2097">
                <a:moveTo>
                  <a:pt x="632" y="48"/>
                </a:moveTo>
                <a:lnTo>
                  <a:pt x="584" y="32"/>
                </a:lnTo>
                <a:lnTo>
                  <a:pt x="532" y="21"/>
                </a:lnTo>
                <a:lnTo>
                  <a:pt x="480" y="13"/>
                </a:lnTo>
                <a:lnTo>
                  <a:pt x="428" y="5"/>
                </a:lnTo>
                <a:lnTo>
                  <a:pt x="374" y="2"/>
                </a:lnTo>
                <a:lnTo>
                  <a:pt x="321" y="0"/>
                </a:lnTo>
                <a:lnTo>
                  <a:pt x="267" y="2"/>
                </a:lnTo>
                <a:lnTo>
                  <a:pt x="252" y="4"/>
                </a:lnTo>
                <a:lnTo>
                  <a:pt x="252" y="4"/>
                </a:lnTo>
                <a:lnTo>
                  <a:pt x="252" y="5"/>
                </a:lnTo>
                <a:lnTo>
                  <a:pt x="250" y="7"/>
                </a:lnTo>
                <a:lnTo>
                  <a:pt x="250" y="7"/>
                </a:lnTo>
                <a:lnTo>
                  <a:pt x="250" y="9"/>
                </a:lnTo>
                <a:lnTo>
                  <a:pt x="248" y="11"/>
                </a:lnTo>
                <a:lnTo>
                  <a:pt x="248" y="13"/>
                </a:lnTo>
                <a:lnTo>
                  <a:pt x="248" y="13"/>
                </a:lnTo>
                <a:lnTo>
                  <a:pt x="267" y="13"/>
                </a:lnTo>
                <a:lnTo>
                  <a:pt x="321" y="11"/>
                </a:lnTo>
                <a:lnTo>
                  <a:pt x="374" y="13"/>
                </a:lnTo>
                <a:lnTo>
                  <a:pt x="426" y="17"/>
                </a:lnTo>
                <a:lnTo>
                  <a:pt x="478" y="23"/>
                </a:lnTo>
                <a:lnTo>
                  <a:pt x="530" y="32"/>
                </a:lnTo>
                <a:lnTo>
                  <a:pt x="580" y="44"/>
                </a:lnTo>
                <a:lnTo>
                  <a:pt x="626" y="57"/>
                </a:lnTo>
                <a:lnTo>
                  <a:pt x="628" y="55"/>
                </a:lnTo>
                <a:lnTo>
                  <a:pt x="628" y="55"/>
                </a:lnTo>
                <a:lnTo>
                  <a:pt x="628" y="53"/>
                </a:lnTo>
                <a:lnTo>
                  <a:pt x="630" y="52"/>
                </a:lnTo>
                <a:lnTo>
                  <a:pt x="630" y="52"/>
                </a:lnTo>
                <a:lnTo>
                  <a:pt x="630" y="50"/>
                </a:lnTo>
                <a:lnTo>
                  <a:pt x="632" y="48"/>
                </a:lnTo>
                <a:lnTo>
                  <a:pt x="632" y="48"/>
                </a:lnTo>
                <a:close/>
                <a:moveTo>
                  <a:pt x="2" y="2047"/>
                </a:moveTo>
                <a:lnTo>
                  <a:pt x="10" y="2051"/>
                </a:lnTo>
                <a:lnTo>
                  <a:pt x="60" y="2064"/>
                </a:lnTo>
                <a:lnTo>
                  <a:pt x="110" y="2076"/>
                </a:lnTo>
                <a:lnTo>
                  <a:pt x="161" y="2085"/>
                </a:lnTo>
                <a:lnTo>
                  <a:pt x="213" y="2091"/>
                </a:lnTo>
                <a:lnTo>
                  <a:pt x="267" y="2097"/>
                </a:lnTo>
                <a:lnTo>
                  <a:pt x="321" y="2097"/>
                </a:lnTo>
                <a:lnTo>
                  <a:pt x="374" y="2097"/>
                </a:lnTo>
                <a:lnTo>
                  <a:pt x="428" y="2091"/>
                </a:lnTo>
                <a:lnTo>
                  <a:pt x="480" y="2085"/>
                </a:lnTo>
                <a:lnTo>
                  <a:pt x="532" y="2076"/>
                </a:lnTo>
                <a:lnTo>
                  <a:pt x="584" y="2064"/>
                </a:lnTo>
                <a:lnTo>
                  <a:pt x="634" y="2051"/>
                </a:lnTo>
                <a:lnTo>
                  <a:pt x="682" y="2034"/>
                </a:lnTo>
                <a:lnTo>
                  <a:pt x="685" y="2032"/>
                </a:lnTo>
                <a:lnTo>
                  <a:pt x="680" y="2022"/>
                </a:lnTo>
                <a:lnTo>
                  <a:pt x="678" y="2024"/>
                </a:lnTo>
                <a:lnTo>
                  <a:pt x="630" y="2039"/>
                </a:lnTo>
                <a:lnTo>
                  <a:pt x="580" y="2055"/>
                </a:lnTo>
                <a:lnTo>
                  <a:pt x="530" y="2066"/>
                </a:lnTo>
                <a:lnTo>
                  <a:pt x="478" y="2074"/>
                </a:lnTo>
                <a:lnTo>
                  <a:pt x="426" y="2081"/>
                </a:lnTo>
                <a:lnTo>
                  <a:pt x="374" y="2085"/>
                </a:lnTo>
                <a:lnTo>
                  <a:pt x="321" y="2087"/>
                </a:lnTo>
                <a:lnTo>
                  <a:pt x="267" y="2085"/>
                </a:lnTo>
                <a:lnTo>
                  <a:pt x="215" y="2081"/>
                </a:lnTo>
                <a:lnTo>
                  <a:pt x="163" y="2074"/>
                </a:lnTo>
                <a:lnTo>
                  <a:pt x="111" y="2066"/>
                </a:lnTo>
                <a:lnTo>
                  <a:pt x="62" y="2055"/>
                </a:lnTo>
                <a:lnTo>
                  <a:pt x="12" y="2039"/>
                </a:lnTo>
                <a:lnTo>
                  <a:pt x="0" y="2035"/>
                </a:lnTo>
                <a:lnTo>
                  <a:pt x="0" y="2037"/>
                </a:lnTo>
                <a:lnTo>
                  <a:pt x="0" y="2039"/>
                </a:lnTo>
                <a:lnTo>
                  <a:pt x="0" y="2039"/>
                </a:lnTo>
                <a:lnTo>
                  <a:pt x="0" y="2041"/>
                </a:lnTo>
                <a:lnTo>
                  <a:pt x="0" y="2043"/>
                </a:lnTo>
                <a:lnTo>
                  <a:pt x="0" y="2045"/>
                </a:lnTo>
                <a:lnTo>
                  <a:pt x="2" y="2047"/>
                </a:lnTo>
                <a:lnTo>
                  <a:pt x="2" y="2047"/>
                </a:lnTo>
                <a:close/>
              </a:path>
            </a:pathLst>
          </a:custGeom>
          <a:solidFill>
            <a:srgbClr val="3b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Freeform 332"/>
          <p:cNvSpPr/>
          <p:nvPr/>
        </p:nvSpPr>
        <p:spPr>
          <a:xfrm>
            <a:off x="5830920" y="1585800"/>
            <a:ext cx="1085760" cy="331164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3311640"/>
              <a:gd name="textAreaBottom" fmla="*/ 3312000 h 3311640"/>
            </a:gdLst>
            <a:ahLst/>
            <a:rect l="textAreaLeft" t="textAreaTop" r="textAreaRight" b="textAreaBottom"/>
            <a:pathLst>
              <a:path w="684" h="2086">
                <a:moveTo>
                  <a:pt x="632" y="47"/>
                </a:moveTo>
                <a:lnTo>
                  <a:pt x="584" y="33"/>
                </a:lnTo>
                <a:lnTo>
                  <a:pt x="534" y="22"/>
                </a:lnTo>
                <a:lnTo>
                  <a:pt x="482" y="12"/>
                </a:lnTo>
                <a:lnTo>
                  <a:pt x="430" y="6"/>
                </a:lnTo>
                <a:lnTo>
                  <a:pt x="376" y="2"/>
                </a:lnTo>
                <a:lnTo>
                  <a:pt x="323" y="0"/>
                </a:lnTo>
                <a:lnTo>
                  <a:pt x="269" y="2"/>
                </a:lnTo>
                <a:lnTo>
                  <a:pt x="252" y="2"/>
                </a:lnTo>
                <a:lnTo>
                  <a:pt x="252" y="4"/>
                </a:lnTo>
                <a:lnTo>
                  <a:pt x="250" y="6"/>
                </a:lnTo>
                <a:lnTo>
                  <a:pt x="250" y="8"/>
                </a:lnTo>
                <a:lnTo>
                  <a:pt x="250" y="8"/>
                </a:lnTo>
                <a:lnTo>
                  <a:pt x="248" y="10"/>
                </a:lnTo>
                <a:lnTo>
                  <a:pt x="248" y="12"/>
                </a:lnTo>
                <a:lnTo>
                  <a:pt x="248" y="12"/>
                </a:lnTo>
                <a:lnTo>
                  <a:pt x="248" y="14"/>
                </a:lnTo>
                <a:lnTo>
                  <a:pt x="269" y="12"/>
                </a:lnTo>
                <a:lnTo>
                  <a:pt x="323" y="12"/>
                </a:lnTo>
                <a:lnTo>
                  <a:pt x="376" y="12"/>
                </a:lnTo>
                <a:lnTo>
                  <a:pt x="428" y="16"/>
                </a:lnTo>
                <a:lnTo>
                  <a:pt x="480" y="24"/>
                </a:lnTo>
                <a:lnTo>
                  <a:pt x="532" y="33"/>
                </a:lnTo>
                <a:lnTo>
                  <a:pt x="582" y="45"/>
                </a:lnTo>
                <a:lnTo>
                  <a:pt x="626" y="56"/>
                </a:lnTo>
                <a:lnTo>
                  <a:pt x="628" y="56"/>
                </a:lnTo>
                <a:lnTo>
                  <a:pt x="628" y="54"/>
                </a:lnTo>
                <a:lnTo>
                  <a:pt x="628" y="52"/>
                </a:lnTo>
                <a:lnTo>
                  <a:pt x="628" y="52"/>
                </a:lnTo>
                <a:lnTo>
                  <a:pt x="630" y="50"/>
                </a:lnTo>
                <a:lnTo>
                  <a:pt x="630" y="50"/>
                </a:lnTo>
                <a:lnTo>
                  <a:pt x="630" y="48"/>
                </a:lnTo>
                <a:lnTo>
                  <a:pt x="632" y="47"/>
                </a:lnTo>
                <a:close/>
                <a:moveTo>
                  <a:pt x="2" y="2036"/>
                </a:moveTo>
                <a:lnTo>
                  <a:pt x="12" y="2040"/>
                </a:lnTo>
                <a:lnTo>
                  <a:pt x="62" y="2053"/>
                </a:lnTo>
                <a:lnTo>
                  <a:pt x="113" y="2065"/>
                </a:lnTo>
                <a:lnTo>
                  <a:pt x="163" y="2075"/>
                </a:lnTo>
                <a:lnTo>
                  <a:pt x="217" y="2082"/>
                </a:lnTo>
                <a:lnTo>
                  <a:pt x="269" y="2086"/>
                </a:lnTo>
                <a:lnTo>
                  <a:pt x="323" y="2086"/>
                </a:lnTo>
                <a:lnTo>
                  <a:pt x="376" y="2086"/>
                </a:lnTo>
                <a:lnTo>
                  <a:pt x="430" y="2082"/>
                </a:lnTo>
                <a:lnTo>
                  <a:pt x="482" y="2075"/>
                </a:lnTo>
                <a:lnTo>
                  <a:pt x="534" y="2065"/>
                </a:lnTo>
                <a:lnTo>
                  <a:pt x="584" y="2053"/>
                </a:lnTo>
                <a:lnTo>
                  <a:pt x="634" y="2040"/>
                </a:lnTo>
                <a:lnTo>
                  <a:pt x="682" y="2023"/>
                </a:lnTo>
                <a:lnTo>
                  <a:pt x="684" y="2023"/>
                </a:lnTo>
                <a:lnTo>
                  <a:pt x="680" y="2013"/>
                </a:lnTo>
                <a:lnTo>
                  <a:pt x="678" y="2013"/>
                </a:lnTo>
                <a:lnTo>
                  <a:pt x="630" y="2030"/>
                </a:lnTo>
                <a:lnTo>
                  <a:pt x="582" y="2044"/>
                </a:lnTo>
                <a:lnTo>
                  <a:pt x="532" y="2055"/>
                </a:lnTo>
                <a:lnTo>
                  <a:pt x="480" y="2065"/>
                </a:lnTo>
                <a:lnTo>
                  <a:pt x="428" y="2071"/>
                </a:lnTo>
                <a:lnTo>
                  <a:pt x="376" y="2075"/>
                </a:lnTo>
                <a:lnTo>
                  <a:pt x="323" y="2076"/>
                </a:lnTo>
                <a:lnTo>
                  <a:pt x="269" y="2075"/>
                </a:lnTo>
                <a:lnTo>
                  <a:pt x="217" y="2071"/>
                </a:lnTo>
                <a:lnTo>
                  <a:pt x="165" y="2065"/>
                </a:lnTo>
                <a:lnTo>
                  <a:pt x="115" y="2055"/>
                </a:lnTo>
                <a:lnTo>
                  <a:pt x="66" y="2044"/>
                </a:lnTo>
                <a:lnTo>
                  <a:pt x="16" y="2030"/>
                </a:lnTo>
                <a:lnTo>
                  <a:pt x="0" y="2025"/>
                </a:lnTo>
                <a:lnTo>
                  <a:pt x="0" y="2027"/>
                </a:lnTo>
                <a:lnTo>
                  <a:pt x="0" y="2029"/>
                </a:lnTo>
                <a:lnTo>
                  <a:pt x="2" y="2029"/>
                </a:lnTo>
                <a:lnTo>
                  <a:pt x="2" y="2030"/>
                </a:lnTo>
                <a:lnTo>
                  <a:pt x="2" y="2032"/>
                </a:lnTo>
                <a:lnTo>
                  <a:pt x="2" y="2034"/>
                </a:lnTo>
                <a:lnTo>
                  <a:pt x="2" y="2034"/>
                </a:lnTo>
                <a:lnTo>
                  <a:pt x="2" y="2036"/>
                </a:lnTo>
                <a:close/>
              </a:path>
            </a:pathLst>
          </a:custGeom>
          <a:solidFill>
            <a:srgbClr val="3cb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Freeform 333"/>
          <p:cNvSpPr/>
          <p:nvPr/>
        </p:nvSpPr>
        <p:spPr>
          <a:xfrm>
            <a:off x="5830920" y="1595520"/>
            <a:ext cx="1082520" cy="3295440"/>
          </a:xfrm>
          <a:custGeom>
            <a:avLst/>
            <a:gdLst>
              <a:gd name="textAreaLeft" fmla="*/ 0 w 1082520"/>
              <a:gd name="textAreaRight" fmla="*/ 1082520 w 1082520"/>
              <a:gd name="textAreaTop" fmla="*/ 0 h 3295440"/>
              <a:gd name="textAreaBottom" fmla="*/ 3295800 h 3295440"/>
            </a:gdLst>
            <a:ahLst/>
            <a:rect l="textAreaLeft" t="textAreaTop" r="textAreaRight" b="textAreaBottom"/>
            <a:pathLst>
              <a:path w="682" h="2076">
                <a:moveTo>
                  <a:pt x="628" y="46"/>
                </a:moveTo>
                <a:lnTo>
                  <a:pt x="582" y="33"/>
                </a:lnTo>
                <a:lnTo>
                  <a:pt x="532" y="21"/>
                </a:lnTo>
                <a:lnTo>
                  <a:pt x="480" y="12"/>
                </a:lnTo>
                <a:lnTo>
                  <a:pt x="428" y="6"/>
                </a:lnTo>
                <a:lnTo>
                  <a:pt x="376" y="2"/>
                </a:lnTo>
                <a:lnTo>
                  <a:pt x="323" y="0"/>
                </a:lnTo>
                <a:lnTo>
                  <a:pt x="269" y="2"/>
                </a:lnTo>
                <a:lnTo>
                  <a:pt x="250" y="2"/>
                </a:lnTo>
                <a:lnTo>
                  <a:pt x="248" y="4"/>
                </a:lnTo>
                <a:lnTo>
                  <a:pt x="248" y="6"/>
                </a:lnTo>
                <a:lnTo>
                  <a:pt x="248" y="6"/>
                </a:lnTo>
                <a:lnTo>
                  <a:pt x="248" y="8"/>
                </a:lnTo>
                <a:lnTo>
                  <a:pt x="246" y="10"/>
                </a:lnTo>
                <a:lnTo>
                  <a:pt x="246" y="12"/>
                </a:lnTo>
                <a:lnTo>
                  <a:pt x="246" y="12"/>
                </a:lnTo>
                <a:lnTo>
                  <a:pt x="244" y="14"/>
                </a:lnTo>
                <a:lnTo>
                  <a:pt x="271" y="12"/>
                </a:lnTo>
                <a:lnTo>
                  <a:pt x="323" y="10"/>
                </a:lnTo>
                <a:lnTo>
                  <a:pt x="376" y="12"/>
                </a:lnTo>
                <a:lnTo>
                  <a:pt x="428" y="16"/>
                </a:lnTo>
                <a:lnTo>
                  <a:pt x="480" y="23"/>
                </a:lnTo>
                <a:lnTo>
                  <a:pt x="530" y="31"/>
                </a:lnTo>
                <a:lnTo>
                  <a:pt x="580" y="42"/>
                </a:lnTo>
                <a:lnTo>
                  <a:pt x="624" y="56"/>
                </a:lnTo>
                <a:lnTo>
                  <a:pt x="624" y="54"/>
                </a:lnTo>
                <a:lnTo>
                  <a:pt x="626" y="54"/>
                </a:lnTo>
                <a:lnTo>
                  <a:pt x="626" y="52"/>
                </a:lnTo>
                <a:lnTo>
                  <a:pt x="626" y="50"/>
                </a:lnTo>
                <a:lnTo>
                  <a:pt x="626" y="50"/>
                </a:lnTo>
                <a:lnTo>
                  <a:pt x="628" y="48"/>
                </a:lnTo>
                <a:lnTo>
                  <a:pt x="628" y="46"/>
                </a:lnTo>
                <a:lnTo>
                  <a:pt x="628" y="46"/>
                </a:lnTo>
                <a:close/>
                <a:moveTo>
                  <a:pt x="2" y="2024"/>
                </a:moveTo>
                <a:lnTo>
                  <a:pt x="14" y="2028"/>
                </a:lnTo>
                <a:lnTo>
                  <a:pt x="64" y="2044"/>
                </a:lnTo>
                <a:lnTo>
                  <a:pt x="113" y="2055"/>
                </a:lnTo>
                <a:lnTo>
                  <a:pt x="165" y="2063"/>
                </a:lnTo>
                <a:lnTo>
                  <a:pt x="217" y="2070"/>
                </a:lnTo>
                <a:lnTo>
                  <a:pt x="269" y="2074"/>
                </a:lnTo>
                <a:lnTo>
                  <a:pt x="323" y="2076"/>
                </a:lnTo>
                <a:lnTo>
                  <a:pt x="376" y="2074"/>
                </a:lnTo>
                <a:lnTo>
                  <a:pt x="428" y="2070"/>
                </a:lnTo>
                <a:lnTo>
                  <a:pt x="480" y="2063"/>
                </a:lnTo>
                <a:lnTo>
                  <a:pt x="532" y="2055"/>
                </a:lnTo>
                <a:lnTo>
                  <a:pt x="582" y="2044"/>
                </a:lnTo>
                <a:lnTo>
                  <a:pt x="632" y="2028"/>
                </a:lnTo>
                <a:lnTo>
                  <a:pt x="680" y="2013"/>
                </a:lnTo>
                <a:lnTo>
                  <a:pt x="682" y="2011"/>
                </a:lnTo>
                <a:lnTo>
                  <a:pt x="678" y="2001"/>
                </a:lnTo>
                <a:lnTo>
                  <a:pt x="676" y="2003"/>
                </a:lnTo>
                <a:lnTo>
                  <a:pt x="628" y="2019"/>
                </a:lnTo>
                <a:lnTo>
                  <a:pt x="580" y="2032"/>
                </a:lnTo>
                <a:lnTo>
                  <a:pt x="530" y="2044"/>
                </a:lnTo>
                <a:lnTo>
                  <a:pt x="480" y="2053"/>
                </a:lnTo>
                <a:lnTo>
                  <a:pt x="428" y="2059"/>
                </a:lnTo>
                <a:lnTo>
                  <a:pt x="376" y="2063"/>
                </a:lnTo>
                <a:lnTo>
                  <a:pt x="323" y="2065"/>
                </a:lnTo>
                <a:lnTo>
                  <a:pt x="271" y="2063"/>
                </a:lnTo>
                <a:lnTo>
                  <a:pt x="217" y="2059"/>
                </a:lnTo>
                <a:lnTo>
                  <a:pt x="167" y="2053"/>
                </a:lnTo>
                <a:lnTo>
                  <a:pt x="115" y="2044"/>
                </a:lnTo>
                <a:lnTo>
                  <a:pt x="66" y="2032"/>
                </a:lnTo>
                <a:lnTo>
                  <a:pt x="18" y="2019"/>
                </a:lnTo>
                <a:lnTo>
                  <a:pt x="0" y="2013"/>
                </a:lnTo>
                <a:lnTo>
                  <a:pt x="0" y="2015"/>
                </a:lnTo>
                <a:lnTo>
                  <a:pt x="0" y="2015"/>
                </a:lnTo>
                <a:lnTo>
                  <a:pt x="0" y="2017"/>
                </a:lnTo>
                <a:lnTo>
                  <a:pt x="0" y="2019"/>
                </a:lnTo>
                <a:lnTo>
                  <a:pt x="0" y="2021"/>
                </a:lnTo>
                <a:lnTo>
                  <a:pt x="0" y="2023"/>
                </a:lnTo>
                <a:lnTo>
                  <a:pt x="2" y="2023"/>
                </a:lnTo>
                <a:lnTo>
                  <a:pt x="2" y="2024"/>
                </a:lnTo>
                <a:close/>
              </a:path>
            </a:pathLst>
          </a:custGeom>
          <a:solidFill>
            <a:srgbClr val="3db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Freeform 334"/>
          <p:cNvSpPr/>
          <p:nvPr/>
        </p:nvSpPr>
        <p:spPr>
          <a:xfrm>
            <a:off x="5827680" y="1604880"/>
            <a:ext cx="1082880" cy="3276720"/>
          </a:xfrm>
          <a:custGeom>
            <a:avLst/>
            <a:gdLst>
              <a:gd name="textAreaLeft" fmla="*/ 0 w 1082880"/>
              <a:gd name="textAreaRight" fmla="*/ 1083240 w 1082880"/>
              <a:gd name="textAreaTop" fmla="*/ 0 h 3276720"/>
              <a:gd name="textAreaBottom" fmla="*/ 3277080 h 3276720"/>
            </a:gdLst>
            <a:ahLst/>
            <a:rect l="textAreaLeft" t="textAreaTop" r="textAreaRight" b="textAreaBottom"/>
            <a:pathLst>
              <a:path w="682" h="2064">
                <a:moveTo>
                  <a:pt x="628" y="44"/>
                </a:moveTo>
                <a:lnTo>
                  <a:pt x="584" y="33"/>
                </a:lnTo>
                <a:lnTo>
                  <a:pt x="534" y="21"/>
                </a:lnTo>
                <a:lnTo>
                  <a:pt x="482" y="12"/>
                </a:lnTo>
                <a:lnTo>
                  <a:pt x="430" y="4"/>
                </a:lnTo>
                <a:lnTo>
                  <a:pt x="378" y="0"/>
                </a:lnTo>
                <a:lnTo>
                  <a:pt x="325" y="0"/>
                </a:lnTo>
                <a:lnTo>
                  <a:pt x="271" y="0"/>
                </a:lnTo>
                <a:lnTo>
                  <a:pt x="250" y="2"/>
                </a:lnTo>
                <a:lnTo>
                  <a:pt x="248" y="4"/>
                </a:lnTo>
                <a:lnTo>
                  <a:pt x="248" y="6"/>
                </a:lnTo>
                <a:lnTo>
                  <a:pt x="248" y="6"/>
                </a:lnTo>
                <a:lnTo>
                  <a:pt x="246" y="8"/>
                </a:lnTo>
                <a:lnTo>
                  <a:pt x="246" y="10"/>
                </a:lnTo>
                <a:lnTo>
                  <a:pt x="246" y="12"/>
                </a:lnTo>
                <a:lnTo>
                  <a:pt x="244" y="12"/>
                </a:lnTo>
                <a:lnTo>
                  <a:pt x="244" y="13"/>
                </a:lnTo>
                <a:lnTo>
                  <a:pt x="273" y="12"/>
                </a:lnTo>
                <a:lnTo>
                  <a:pt x="325" y="10"/>
                </a:lnTo>
                <a:lnTo>
                  <a:pt x="377" y="12"/>
                </a:lnTo>
                <a:lnTo>
                  <a:pt x="430" y="15"/>
                </a:lnTo>
                <a:lnTo>
                  <a:pt x="480" y="21"/>
                </a:lnTo>
                <a:lnTo>
                  <a:pt x="530" y="31"/>
                </a:lnTo>
                <a:lnTo>
                  <a:pt x="580" y="42"/>
                </a:lnTo>
                <a:lnTo>
                  <a:pt x="624" y="54"/>
                </a:lnTo>
                <a:lnTo>
                  <a:pt x="624" y="54"/>
                </a:lnTo>
                <a:lnTo>
                  <a:pt x="624" y="52"/>
                </a:lnTo>
                <a:lnTo>
                  <a:pt x="626" y="50"/>
                </a:lnTo>
                <a:lnTo>
                  <a:pt x="626" y="50"/>
                </a:lnTo>
                <a:lnTo>
                  <a:pt x="626" y="48"/>
                </a:lnTo>
                <a:lnTo>
                  <a:pt x="628" y="48"/>
                </a:lnTo>
                <a:lnTo>
                  <a:pt x="628" y="46"/>
                </a:lnTo>
                <a:lnTo>
                  <a:pt x="628" y="44"/>
                </a:lnTo>
                <a:close/>
                <a:moveTo>
                  <a:pt x="2" y="2013"/>
                </a:moveTo>
                <a:lnTo>
                  <a:pt x="18" y="2018"/>
                </a:lnTo>
                <a:lnTo>
                  <a:pt x="68" y="2032"/>
                </a:lnTo>
                <a:lnTo>
                  <a:pt x="117" y="2043"/>
                </a:lnTo>
                <a:lnTo>
                  <a:pt x="167" y="2053"/>
                </a:lnTo>
                <a:lnTo>
                  <a:pt x="219" y="2059"/>
                </a:lnTo>
                <a:lnTo>
                  <a:pt x="271" y="2063"/>
                </a:lnTo>
                <a:lnTo>
                  <a:pt x="325" y="2064"/>
                </a:lnTo>
                <a:lnTo>
                  <a:pt x="378" y="2063"/>
                </a:lnTo>
                <a:lnTo>
                  <a:pt x="430" y="2059"/>
                </a:lnTo>
                <a:lnTo>
                  <a:pt x="482" y="2053"/>
                </a:lnTo>
                <a:lnTo>
                  <a:pt x="534" y="2043"/>
                </a:lnTo>
                <a:lnTo>
                  <a:pt x="584" y="2032"/>
                </a:lnTo>
                <a:lnTo>
                  <a:pt x="632" y="2018"/>
                </a:lnTo>
                <a:lnTo>
                  <a:pt x="680" y="2001"/>
                </a:lnTo>
                <a:lnTo>
                  <a:pt x="682" y="2001"/>
                </a:lnTo>
                <a:lnTo>
                  <a:pt x="678" y="1992"/>
                </a:lnTo>
                <a:lnTo>
                  <a:pt x="678" y="1992"/>
                </a:lnTo>
                <a:lnTo>
                  <a:pt x="678" y="1992"/>
                </a:lnTo>
                <a:lnTo>
                  <a:pt x="678" y="1992"/>
                </a:lnTo>
                <a:lnTo>
                  <a:pt x="678" y="1992"/>
                </a:lnTo>
                <a:lnTo>
                  <a:pt x="678" y="1992"/>
                </a:lnTo>
                <a:lnTo>
                  <a:pt x="678" y="1992"/>
                </a:lnTo>
                <a:lnTo>
                  <a:pt x="678" y="1992"/>
                </a:lnTo>
                <a:lnTo>
                  <a:pt x="676" y="1992"/>
                </a:lnTo>
                <a:lnTo>
                  <a:pt x="676" y="1992"/>
                </a:lnTo>
                <a:lnTo>
                  <a:pt x="628" y="2007"/>
                </a:lnTo>
                <a:lnTo>
                  <a:pt x="580" y="2022"/>
                </a:lnTo>
                <a:lnTo>
                  <a:pt x="530" y="2034"/>
                </a:lnTo>
                <a:lnTo>
                  <a:pt x="480" y="2041"/>
                </a:lnTo>
                <a:lnTo>
                  <a:pt x="430" y="2049"/>
                </a:lnTo>
                <a:lnTo>
                  <a:pt x="377" y="2053"/>
                </a:lnTo>
                <a:lnTo>
                  <a:pt x="325" y="2053"/>
                </a:lnTo>
                <a:lnTo>
                  <a:pt x="273" y="2053"/>
                </a:lnTo>
                <a:lnTo>
                  <a:pt x="221" y="2049"/>
                </a:lnTo>
                <a:lnTo>
                  <a:pt x="169" y="2041"/>
                </a:lnTo>
                <a:lnTo>
                  <a:pt x="119" y="2034"/>
                </a:lnTo>
                <a:lnTo>
                  <a:pt x="69" y="2022"/>
                </a:lnTo>
                <a:lnTo>
                  <a:pt x="21" y="2007"/>
                </a:lnTo>
                <a:lnTo>
                  <a:pt x="0" y="2001"/>
                </a:lnTo>
                <a:lnTo>
                  <a:pt x="0" y="2003"/>
                </a:lnTo>
                <a:lnTo>
                  <a:pt x="0" y="2003"/>
                </a:lnTo>
                <a:lnTo>
                  <a:pt x="2" y="2005"/>
                </a:lnTo>
                <a:lnTo>
                  <a:pt x="2" y="2007"/>
                </a:lnTo>
                <a:lnTo>
                  <a:pt x="2" y="2009"/>
                </a:lnTo>
                <a:lnTo>
                  <a:pt x="2" y="2009"/>
                </a:lnTo>
                <a:lnTo>
                  <a:pt x="2" y="2011"/>
                </a:lnTo>
                <a:lnTo>
                  <a:pt x="2" y="2013"/>
                </a:lnTo>
                <a:close/>
              </a:path>
            </a:pathLst>
          </a:custGeom>
          <a:solidFill>
            <a:srgbClr val="3eb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Freeform 335"/>
          <p:cNvSpPr/>
          <p:nvPr/>
        </p:nvSpPr>
        <p:spPr>
          <a:xfrm>
            <a:off x="5827680" y="1611360"/>
            <a:ext cx="1079640" cy="326232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3262320"/>
              <a:gd name="textAreaBottom" fmla="*/ 3262680 h 3262320"/>
            </a:gdLst>
            <a:ahLst/>
            <a:rect l="textAreaLeft" t="textAreaTop" r="textAreaRight" b="textAreaBottom"/>
            <a:pathLst>
              <a:path w="680" h="2055">
                <a:moveTo>
                  <a:pt x="626" y="46"/>
                </a:moveTo>
                <a:lnTo>
                  <a:pt x="582" y="32"/>
                </a:lnTo>
                <a:lnTo>
                  <a:pt x="532" y="21"/>
                </a:lnTo>
                <a:lnTo>
                  <a:pt x="482" y="13"/>
                </a:lnTo>
                <a:lnTo>
                  <a:pt x="430" y="6"/>
                </a:lnTo>
                <a:lnTo>
                  <a:pt x="378" y="2"/>
                </a:lnTo>
                <a:lnTo>
                  <a:pt x="325" y="0"/>
                </a:lnTo>
                <a:lnTo>
                  <a:pt x="273" y="2"/>
                </a:lnTo>
                <a:lnTo>
                  <a:pt x="246" y="4"/>
                </a:lnTo>
                <a:lnTo>
                  <a:pt x="246" y="6"/>
                </a:lnTo>
                <a:lnTo>
                  <a:pt x="246" y="8"/>
                </a:lnTo>
                <a:lnTo>
                  <a:pt x="244" y="8"/>
                </a:lnTo>
                <a:lnTo>
                  <a:pt x="244" y="9"/>
                </a:lnTo>
                <a:lnTo>
                  <a:pt x="244" y="11"/>
                </a:lnTo>
                <a:lnTo>
                  <a:pt x="244" y="11"/>
                </a:lnTo>
                <a:lnTo>
                  <a:pt x="242" y="13"/>
                </a:lnTo>
                <a:lnTo>
                  <a:pt x="242" y="15"/>
                </a:lnTo>
                <a:lnTo>
                  <a:pt x="273" y="13"/>
                </a:lnTo>
                <a:lnTo>
                  <a:pt x="325" y="11"/>
                </a:lnTo>
                <a:lnTo>
                  <a:pt x="377" y="13"/>
                </a:lnTo>
                <a:lnTo>
                  <a:pt x="428" y="17"/>
                </a:lnTo>
                <a:lnTo>
                  <a:pt x="480" y="23"/>
                </a:lnTo>
                <a:lnTo>
                  <a:pt x="530" y="32"/>
                </a:lnTo>
                <a:lnTo>
                  <a:pt x="578" y="44"/>
                </a:lnTo>
                <a:lnTo>
                  <a:pt x="622" y="55"/>
                </a:lnTo>
                <a:lnTo>
                  <a:pt x="622" y="54"/>
                </a:lnTo>
                <a:lnTo>
                  <a:pt x="622" y="54"/>
                </a:lnTo>
                <a:lnTo>
                  <a:pt x="622" y="52"/>
                </a:lnTo>
                <a:lnTo>
                  <a:pt x="624" y="50"/>
                </a:lnTo>
                <a:lnTo>
                  <a:pt x="624" y="50"/>
                </a:lnTo>
                <a:lnTo>
                  <a:pt x="624" y="48"/>
                </a:lnTo>
                <a:lnTo>
                  <a:pt x="626" y="46"/>
                </a:lnTo>
                <a:lnTo>
                  <a:pt x="626" y="46"/>
                </a:lnTo>
                <a:close/>
                <a:moveTo>
                  <a:pt x="2" y="2003"/>
                </a:moveTo>
                <a:lnTo>
                  <a:pt x="20" y="2009"/>
                </a:lnTo>
                <a:lnTo>
                  <a:pt x="68" y="2022"/>
                </a:lnTo>
                <a:lnTo>
                  <a:pt x="117" y="2034"/>
                </a:lnTo>
                <a:lnTo>
                  <a:pt x="169" y="2043"/>
                </a:lnTo>
                <a:lnTo>
                  <a:pt x="219" y="2049"/>
                </a:lnTo>
                <a:lnTo>
                  <a:pt x="273" y="2053"/>
                </a:lnTo>
                <a:lnTo>
                  <a:pt x="325" y="2055"/>
                </a:lnTo>
                <a:lnTo>
                  <a:pt x="378" y="2053"/>
                </a:lnTo>
                <a:lnTo>
                  <a:pt x="430" y="2049"/>
                </a:lnTo>
                <a:lnTo>
                  <a:pt x="482" y="2043"/>
                </a:lnTo>
                <a:lnTo>
                  <a:pt x="532" y="2034"/>
                </a:lnTo>
                <a:lnTo>
                  <a:pt x="582" y="2022"/>
                </a:lnTo>
                <a:lnTo>
                  <a:pt x="630" y="2009"/>
                </a:lnTo>
                <a:lnTo>
                  <a:pt x="678" y="1993"/>
                </a:lnTo>
                <a:lnTo>
                  <a:pt x="680" y="1991"/>
                </a:lnTo>
                <a:lnTo>
                  <a:pt x="678" y="1988"/>
                </a:lnTo>
                <a:lnTo>
                  <a:pt x="676" y="1988"/>
                </a:lnTo>
                <a:lnTo>
                  <a:pt x="676" y="1988"/>
                </a:lnTo>
                <a:lnTo>
                  <a:pt x="676" y="1986"/>
                </a:lnTo>
                <a:lnTo>
                  <a:pt x="674" y="1986"/>
                </a:lnTo>
                <a:lnTo>
                  <a:pt x="674" y="1986"/>
                </a:lnTo>
                <a:lnTo>
                  <a:pt x="674" y="1984"/>
                </a:lnTo>
                <a:lnTo>
                  <a:pt x="672" y="1984"/>
                </a:lnTo>
                <a:lnTo>
                  <a:pt x="672" y="1984"/>
                </a:lnTo>
                <a:lnTo>
                  <a:pt x="628" y="1999"/>
                </a:lnTo>
                <a:lnTo>
                  <a:pt x="578" y="2013"/>
                </a:lnTo>
                <a:lnTo>
                  <a:pt x="530" y="2024"/>
                </a:lnTo>
                <a:lnTo>
                  <a:pt x="480" y="2032"/>
                </a:lnTo>
                <a:lnTo>
                  <a:pt x="428" y="2039"/>
                </a:lnTo>
                <a:lnTo>
                  <a:pt x="377" y="2043"/>
                </a:lnTo>
                <a:lnTo>
                  <a:pt x="325" y="2045"/>
                </a:lnTo>
                <a:lnTo>
                  <a:pt x="273" y="2043"/>
                </a:lnTo>
                <a:lnTo>
                  <a:pt x="221" y="2039"/>
                </a:lnTo>
                <a:lnTo>
                  <a:pt x="169" y="2032"/>
                </a:lnTo>
                <a:lnTo>
                  <a:pt x="119" y="2024"/>
                </a:lnTo>
                <a:lnTo>
                  <a:pt x="71" y="2013"/>
                </a:lnTo>
                <a:lnTo>
                  <a:pt x="23" y="1999"/>
                </a:lnTo>
                <a:lnTo>
                  <a:pt x="0" y="1991"/>
                </a:lnTo>
                <a:lnTo>
                  <a:pt x="0" y="1993"/>
                </a:lnTo>
                <a:lnTo>
                  <a:pt x="0" y="1993"/>
                </a:lnTo>
                <a:lnTo>
                  <a:pt x="0" y="1995"/>
                </a:lnTo>
                <a:lnTo>
                  <a:pt x="0" y="1997"/>
                </a:lnTo>
                <a:lnTo>
                  <a:pt x="0" y="1999"/>
                </a:lnTo>
                <a:lnTo>
                  <a:pt x="0" y="1999"/>
                </a:lnTo>
                <a:lnTo>
                  <a:pt x="2" y="2001"/>
                </a:lnTo>
                <a:lnTo>
                  <a:pt x="2" y="2003"/>
                </a:lnTo>
                <a:close/>
              </a:path>
            </a:pathLst>
          </a:custGeom>
          <a:solidFill>
            <a:srgbClr val="3f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Freeform 336"/>
          <p:cNvSpPr/>
          <p:nvPr/>
        </p:nvSpPr>
        <p:spPr>
          <a:xfrm>
            <a:off x="5824440" y="1620720"/>
            <a:ext cx="1076400" cy="324324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3243240"/>
              <a:gd name="textAreaBottom" fmla="*/ 3243600 h 3243240"/>
            </a:gdLst>
            <a:ahLst/>
            <a:rect l="textAreaLeft" t="textAreaTop" r="textAreaRight" b="textAreaBottom"/>
            <a:pathLst>
              <a:path w="678" h="2043">
                <a:moveTo>
                  <a:pt x="626" y="44"/>
                </a:moveTo>
                <a:lnTo>
                  <a:pt x="582" y="32"/>
                </a:lnTo>
                <a:lnTo>
                  <a:pt x="532" y="21"/>
                </a:lnTo>
                <a:lnTo>
                  <a:pt x="482" y="11"/>
                </a:lnTo>
                <a:lnTo>
                  <a:pt x="432" y="5"/>
                </a:lnTo>
                <a:lnTo>
                  <a:pt x="379" y="2"/>
                </a:lnTo>
                <a:lnTo>
                  <a:pt x="327" y="0"/>
                </a:lnTo>
                <a:lnTo>
                  <a:pt x="275" y="2"/>
                </a:lnTo>
                <a:lnTo>
                  <a:pt x="246" y="3"/>
                </a:lnTo>
                <a:lnTo>
                  <a:pt x="246" y="5"/>
                </a:lnTo>
                <a:lnTo>
                  <a:pt x="246" y="5"/>
                </a:lnTo>
                <a:lnTo>
                  <a:pt x="244" y="7"/>
                </a:lnTo>
                <a:lnTo>
                  <a:pt x="244" y="9"/>
                </a:lnTo>
                <a:lnTo>
                  <a:pt x="244" y="11"/>
                </a:lnTo>
                <a:lnTo>
                  <a:pt x="242" y="11"/>
                </a:lnTo>
                <a:lnTo>
                  <a:pt x="242" y="13"/>
                </a:lnTo>
                <a:lnTo>
                  <a:pt x="242" y="15"/>
                </a:lnTo>
                <a:lnTo>
                  <a:pt x="275" y="11"/>
                </a:lnTo>
                <a:lnTo>
                  <a:pt x="327" y="11"/>
                </a:lnTo>
                <a:lnTo>
                  <a:pt x="379" y="11"/>
                </a:lnTo>
                <a:lnTo>
                  <a:pt x="430" y="15"/>
                </a:lnTo>
                <a:lnTo>
                  <a:pt x="480" y="23"/>
                </a:lnTo>
                <a:lnTo>
                  <a:pt x="530" y="30"/>
                </a:lnTo>
                <a:lnTo>
                  <a:pt x="580" y="42"/>
                </a:lnTo>
                <a:lnTo>
                  <a:pt x="620" y="53"/>
                </a:lnTo>
                <a:lnTo>
                  <a:pt x="622" y="53"/>
                </a:lnTo>
                <a:lnTo>
                  <a:pt x="622" y="51"/>
                </a:lnTo>
                <a:lnTo>
                  <a:pt x="622" y="51"/>
                </a:lnTo>
                <a:lnTo>
                  <a:pt x="624" y="49"/>
                </a:lnTo>
                <a:lnTo>
                  <a:pt x="624" y="48"/>
                </a:lnTo>
                <a:lnTo>
                  <a:pt x="624" y="48"/>
                </a:lnTo>
                <a:lnTo>
                  <a:pt x="624" y="46"/>
                </a:lnTo>
                <a:lnTo>
                  <a:pt x="626" y="44"/>
                </a:lnTo>
                <a:close/>
                <a:moveTo>
                  <a:pt x="2" y="1991"/>
                </a:moveTo>
                <a:lnTo>
                  <a:pt x="23" y="1997"/>
                </a:lnTo>
                <a:lnTo>
                  <a:pt x="71" y="2012"/>
                </a:lnTo>
                <a:lnTo>
                  <a:pt x="121" y="2024"/>
                </a:lnTo>
                <a:lnTo>
                  <a:pt x="171" y="2031"/>
                </a:lnTo>
                <a:lnTo>
                  <a:pt x="223" y="2039"/>
                </a:lnTo>
                <a:lnTo>
                  <a:pt x="275" y="2043"/>
                </a:lnTo>
                <a:lnTo>
                  <a:pt x="327" y="2043"/>
                </a:lnTo>
                <a:lnTo>
                  <a:pt x="379" y="2043"/>
                </a:lnTo>
                <a:lnTo>
                  <a:pt x="432" y="2039"/>
                </a:lnTo>
                <a:lnTo>
                  <a:pt x="482" y="2031"/>
                </a:lnTo>
                <a:lnTo>
                  <a:pt x="532" y="2024"/>
                </a:lnTo>
                <a:lnTo>
                  <a:pt x="582" y="2012"/>
                </a:lnTo>
                <a:lnTo>
                  <a:pt x="630" y="1997"/>
                </a:lnTo>
                <a:lnTo>
                  <a:pt x="678" y="1982"/>
                </a:lnTo>
                <a:lnTo>
                  <a:pt x="678" y="1982"/>
                </a:lnTo>
                <a:lnTo>
                  <a:pt x="678" y="1980"/>
                </a:lnTo>
                <a:lnTo>
                  <a:pt x="676" y="1980"/>
                </a:lnTo>
                <a:lnTo>
                  <a:pt x="676" y="1978"/>
                </a:lnTo>
                <a:lnTo>
                  <a:pt x="674" y="1978"/>
                </a:lnTo>
                <a:lnTo>
                  <a:pt x="672" y="1976"/>
                </a:lnTo>
                <a:lnTo>
                  <a:pt x="672" y="1976"/>
                </a:lnTo>
                <a:lnTo>
                  <a:pt x="670" y="1974"/>
                </a:lnTo>
                <a:lnTo>
                  <a:pt x="668" y="1974"/>
                </a:lnTo>
                <a:lnTo>
                  <a:pt x="628" y="1987"/>
                </a:lnTo>
                <a:lnTo>
                  <a:pt x="580" y="2001"/>
                </a:lnTo>
                <a:lnTo>
                  <a:pt x="530" y="2012"/>
                </a:lnTo>
                <a:lnTo>
                  <a:pt x="480" y="2022"/>
                </a:lnTo>
                <a:lnTo>
                  <a:pt x="430" y="2028"/>
                </a:lnTo>
                <a:lnTo>
                  <a:pt x="379" y="2031"/>
                </a:lnTo>
                <a:lnTo>
                  <a:pt x="327" y="2033"/>
                </a:lnTo>
                <a:lnTo>
                  <a:pt x="275" y="2031"/>
                </a:lnTo>
                <a:lnTo>
                  <a:pt x="223" y="2028"/>
                </a:lnTo>
                <a:lnTo>
                  <a:pt x="173" y="2022"/>
                </a:lnTo>
                <a:lnTo>
                  <a:pt x="123" y="2012"/>
                </a:lnTo>
                <a:lnTo>
                  <a:pt x="73" y="2001"/>
                </a:lnTo>
                <a:lnTo>
                  <a:pt x="25" y="1987"/>
                </a:lnTo>
                <a:lnTo>
                  <a:pt x="0" y="1980"/>
                </a:lnTo>
                <a:lnTo>
                  <a:pt x="0" y="1980"/>
                </a:lnTo>
                <a:lnTo>
                  <a:pt x="0" y="1982"/>
                </a:lnTo>
                <a:lnTo>
                  <a:pt x="2" y="1983"/>
                </a:lnTo>
                <a:lnTo>
                  <a:pt x="2" y="1985"/>
                </a:lnTo>
                <a:lnTo>
                  <a:pt x="2" y="1987"/>
                </a:lnTo>
                <a:lnTo>
                  <a:pt x="2" y="1987"/>
                </a:lnTo>
                <a:lnTo>
                  <a:pt x="2" y="1989"/>
                </a:lnTo>
                <a:lnTo>
                  <a:pt x="2" y="1991"/>
                </a:lnTo>
                <a:close/>
              </a:path>
            </a:pathLst>
          </a:custGeom>
          <a:solidFill>
            <a:srgbClr val="4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Freeform 337"/>
          <p:cNvSpPr/>
          <p:nvPr/>
        </p:nvSpPr>
        <p:spPr>
          <a:xfrm>
            <a:off x="5824440" y="1628640"/>
            <a:ext cx="1069920" cy="322920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3229200"/>
              <a:gd name="textAreaBottom" fmla="*/ 3229560 h 3229200"/>
            </a:gdLst>
            <a:ahLst/>
            <a:rect l="textAreaLeft" t="textAreaTop" r="textAreaRight" b="textAreaBottom"/>
            <a:pathLst>
              <a:path w="674" h="2034">
                <a:moveTo>
                  <a:pt x="624" y="44"/>
                </a:moveTo>
                <a:lnTo>
                  <a:pt x="580" y="33"/>
                </a:lnTo>
                <a:lnTo>
                  <a:pt x="532" y="21"/>
                </a:lnTo>
                <a:lnTo>
                  <a:pt x="482" y="12"/>
                </a:lnTo>
                <a:lnTo>
                  <a:pt x="430" y="6"/>
                </a:lnTo>
                <a:lnTo>
                  <a:pt x="379" y="2"/>
                </a:lnTo>
                <a:lnTo>
                  <a:pt x="327" y="0"/>
                </a:lnTo>
                <a:lnTo>
                  <a:pt x="275" y="2"/>
                </a:lnTo>
                <a:lnTo>
                  <a:pt x="244" y="4"/>
                </a:lnTo>
                <a:lnTo>
                  <a:pt x="244" y="6"/>
                </a:lnTo>
                <a:lnTo>
                  <a:pt x="242" y="6"/>
                </a:lnTo>
                <a:lnTo>
                  <a:pt x="242" y="8"/>
                </a:lnTo>
                <a:lnTo>
                  <a:pt x="242" y="10"/>
                </a:lnTo>
                <a:lnTo>
                  <a:pt x="240" y="10"/>
                </a:lnTo>
                <a:lnTo>
                  <a:pt x="240" y="12"/>
                </a:lnTo>
                <a:lnTo>
                  <a:pt x="240" y="14"/>
                </a:lnTo>
                <a:lnTo>
                  <a:pt x="240" y="16"/>
                </a:lnTo>
                <a:lnTo>
                  <a:pt x="275" y="12"/>
                </a:lnTo>
                <a:lnTo>
                  <a:pt x="327" y="10"/>
                </a:lnTo>
                <a:lnTo>
                  <a:pt x="379" y="12"/>
                </a:lnTo>
                <a:lnTo>
                  <a:pt x="430" y="16"/>
                </a:lnTo>
                <a:lnTo>
                  <a:pt x="480" y="23"/>
                </a:lnTo>
                <a:lnTo>
                  <a:pt x="530" y="31"/>
                </a:lnTo>
                <a:lnTo>
                  <a:pt x="578" y="43"/>
                </a:lnTo>
                <a:lnTo>
                  <a:pt x="618" y="54"/>
                </a:lnTo>
                <a:lnTo>
                  <a:pt x="620" y="52"/>
                </a:lnTo>
                <a:lnTo>
                  <a:pt x="620" y="52"/>
                </a:lnTo>
                <a:lnTo>
                  <a:pt x="620" y="50"/>
                </a:lnTo>
                <a:lnTo>
                  <a:pt x="620" y="50"/>
                </a:lnTo>
                <a:lnTo>
                  <a:pt x="622" y="48"/>
                </a:lnTo>
                <a:lnTo>
                  <a:pt x="622" y="46"/>
                </a:lnTo>
                <a:lnTo>
                  <a:pt x="622" y="46"/>
                </a:lnTo>
                <a:lnTo>
                  <a:pt x="624" y="44"/>
                </a:lnTo>
                <a:close/>
                <a:moveTo>
                  <a:pt x="2" y="1980"/>
                </a:moveTo>
                <a:lnTo>
                  <a:pt x="25" y="1988"/>
                </a:lnTo>
                <a:lnTo>
                  <a:pt x="73" y="2002"/>
                </a:lnTo>
                <a:lnTo>
                  <a:pt x="121" y="2013"/>
                </a:lnTo>
                <a:lnTo>
                  <a:pt x="171" y="2021"/>
                </a:lnTo>
                <a:lnTo>
                  <a:pt x="223" y="2028"/>
                </a:lnTo>
                <a:lnTo>
                  <a:pt x="275" y="2032"/>
                </a:lnTo>
                <a:lnTo>
                  <a:pt x="327" y="2034"/>
                </a:lnTo>
                <a:lnTo>
                  <a:pt x="379" y="2032"/>
                </a:lnTo>
                <a:lnTo>
                  <a:pt x="430" y="2028"/>
                </a:lnTo>
                <a:lnTo>
                  <a:pt x="482" y="2021"/>
                </a:lnTo>
                <a:lnTo>
                  <a:pt x="532" y="2013"/>
                </a:lnTo>
                <a:lnTo>
                  <a:pt x="580" y="2002"/>
                </a:lnTo>
                <a:lnTo>
                  <a:pt x="630" y="1988"/>
                </a:lnTo>
                <a:lnTo>
                  <a:pt x="674" y="1973"/>
                </a:lnTo>
                <a:lnTo>
                  <a:pt x="672" y="1971"/>
                </a:lnTo>
                <a:lnTo>
                  <a:pt x="672" y="1971"/>
                </a:lnTo>
                <a:lnTo>
                  <a:pt x="670" y="1969"/>
                </a:lnTo>
                <a:lnTo>
                  <a:pt x="668" y="1969"/>
                </a:lnTo>
                <a:lnTo>
                  <a:pt x="668" y="1967"/>
                </a:lnTo>
                <a:lnTo>
                  <a:pt x="666" y="1967"/>
                </a:lnTo>
                <a:lnTo>
                  <a:pt x="666" y="1965"/>
                </a:lnTo>
                <a:lnTo>
                  <a:pt x="665" y="1965"/>
                </a:lnTo>
                <a:lnTo>
                  <a:pt x="626" y="1977"/>
                </a:lnTo>
                <a:lnTo>
                  <a:pt x="578" y="1992"/>
                </a:lnTo>
                <a:lnTo>
                  <a:pt x="530" y="2002"/>
                </a:lnTo>
                <a:lnTo>
                  <a:pt x="480" y="2011"/>
                </a:lnTo>
                <a:lnTo>
                  <a:pt x="430" y="2017"/>
                </a:lnTo>
                <a:lnTo>
                  <a:pt x="379" y="2021"/>
                </a:lnTo>
                <a:lnTo>
                  <a:pt x="327" y="2023"/>
                </a:lnTo>
                <a:lnTo>
                  <a:pt x="275" y="2021"/>
                </a:lnTo>
                <a:lnTo>
                  <a:pt x="223" y="2017"/>
                </a:lnTo>
                <a:lnTo>
                  <a:pt x="173" y="2011"/>
                </a:lnTo>
                <a:lnTo>
                  <a:pt x="123" y="2002"/>
                </a:lnTo>
                <a:lnTo>
                  <a:pt x="75" y="1992"/>
                </a:lnTo>
                <a:lnTo>
                  <a:pt x="27" y="1977"/>
                </a:lnTo>
                <a:lnTo>
                  <a:pt x="0" y="1969"/>
                </a:lnTo>
                <a:lnTo>
                  <a:pt x="0" y="1969"/>
                </a:lnTo>
                <a:lnTo>
                  <a:pt x="0" y="1971"/>
                </a:lnTo>
                <a:lnTo>
                  <a:pt x="0" y="1973"/>
                </a:lnTo>
                <a:lnTo>
                  <a:pt x="0" y="1975"/>
                </a:lnTo>
                <a:lnTo>
                  <a:pt x="0" y="1975"/>
                </a:lnTo>
                <a:lnTo>
                  <a:pt x="0" y="1977"/>
                </a:lnTo>
                <a:lnTo>
                  <a:pt x="2" y="1978"/>
                </a:lnTo>
                <a:lnTo>
                  <a:pt x="2" y="1980"/>
                </a:lnTo>
                <a:close/>
              </a:path>
            </a:pathLst>
          </a:custGeom>
          <a:solidFill>
            <a:srgbClr val="41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Freeform 338"/>
          <p:cNvSpPr/>
          <p:nvPr/>
        </p:nvSpPr>
        <p:spPr>
          <a:xfrm>
            <a:off x="5821200" y="1638360"/>
            <a:ext cx="1063800" cy="3209760"/>
          </a:xfrm>
          <a:custGeom>
            <a:avLst/>
            <a:gdLst>
              <a:gd name="textAreaLeft" fmla="*/ 0 w 1063800"/>
              <a:gd name="textAreaRight" fmla="*/ 1064160 w 1063800"/>
              <a:gd name="textAreaTop" fmla="*/ 0 h 3209760"/>
              <a:gd name="textAreaBottom" fmla="*/ 3210120 h 3209760"/>
            </a:gdLst>
            <a:ahLst/>
            <a:rect l="textAreaLeft" t="textAreaTop" r="textAreaRight" b="textAreaBottom"/>
            <a:pathLst>
              <a:path w="670" h="2022">
                <a:moveTo>
                  <a:pt x="622" y="42"/>
                </a:moveTo>
                <a:lnTo>
                  <a:pt x="582" y="31"/>
                </a:lnTo>
                <a:lnTo>
                  <a:pt x="532" y="19"/>
                </a:lnTo>
                <a:lnTo>
                  <a:pt x="482" y="12"/>
                </a:lnTo>
                <a:lnTo>
                  <a:pt x="432" y="4"/>
                </a:lnTo>
                <a:lnTo>
                  <a:pt x="381" y="0"/>
                </a:lnTo>
                <a:lnTo>
                  <a:pt x="329" y="0"/>
                </a:lnTo>
                <a:lnTo>
                  <a:pt x="277" y="0"/>
                </a:lnTo>
                <a:lnTo>
                  <a:pt x="244" y="4"/>
                </a:lnTo>
                <a:lnTo>
                  <a:pt x="242" y="4"/>
                </a:lnTo>
                <a:lnTo>
                  <a:pt x="242" y="6"/>
                </a:lnTo>
                <a:lnTo>
                  <a:pt x="242" y="8"/>
                </a:lnTo>
                <a:lnTo>
                  <a:pt x="242" y="10"/>
                </a:lnTo>
                <a:lnTo>
                  <a:pt x="240" y="10"/>
                </a:lnTo>
                <a:lnTo>
                  <a:pt x="240" y="12"/>
                </a:lnTo>
                <a:lnTo>
                  <a:pt x="240" y="14"/>
                </a:lnTo>
                <a:lnTo>
                  <a:pt x="238" y="14"/>
                </a:lnTo>
                <a:lnTo>
                  <a:pt x="277" y="12"/>
                </a:lnTo>
                <a:lnTo>
                  <a:pt x="329" y="10"/>
                </a:lnTo>
                <a:lnTo>
                  <a:pt x="381" y="12"/>
                </a:lnTo>
                <a:lnTo>
                  <a:pt x="430" y="15"/>
                </a:lnTo>
                <a:lnTo>
                  <a:pt x="480" y="21"/>
                </a:lnTo>
                <a:lnTo>
                  <a:pt x="530" y="31"/>
                </a:lnTo>
                <a:lnTo>
                  <a:pt x="578" y="42"/>
                </a:lnTo>
                <a:lnTo>
                  <a:pt x="619" y="54"/>
                </a:lnTo>
                <a:lnTo>
                  <a:pt x="620" y="52"/>
                </a:lnTo>
                <a:lnTo>
                  <a:pt x="620" y="50"/>
                </a:lnTo>
                <a:lnTo>
                  <a:pt x="620" y="50"/>
                </a:lnTo>
                <a:lnTo>
                  <a:pt x="620" y="48"/>
                </a:lnTo>
                <a:lnTo>
                  <a:pt x="622" y="46"/>
                </a:lnTo>
                <a:lnTo>
                  <a:pt x="622" y="46"/>
                </a:lnTo>
                <a:lnTo>
                  <a:pt x="622" y="44"/>
                </a:lnTo>
                <a:lnTo>
                  <a:pt x="622" y="42"/>
                </a:lnTo>
                <a:close/>
                <a:moveTo>
                  <a:pt x="2" y="1969"/>
                </a:moveTo>
                <a:lnTo>
                  <a:pt x="27" y="1976"/>
                </a:lnTo>
                <a:lnTo>
                  <a:pt x="75" y="1990"/>
                </a:lnTo>
                <a:lnTo>
                  <a:pt x="125" y="2001"/>
                </a:lnTo>
                <a:lnTo>
                  <a:pt x="175" y="2011"/>
                </a:lnTo>
                <a:lnTo>
                  <a:pt x="225" y="2017"/>
                </a:lnTo>
                <a:lnTo>
                  <a:pt x="277" y="2020"/>
                </a:lnTo>
                <a:lnTo>
                  <a:pt x="329" y="2022"/>
                </a:lnTo>
                <a:lnTo>
                  <a:pt x="381" y="2020"/>
                </a:lnTo>
                <a:lnTo>
                  <a:pt x="432" y="2017"/>
                </a:lnTo>
                <a:lnTo>
                  <a:pt x="482" y="2011"/>
                </a:lnTo>
                <a:lnTo>
                  <a:pt x="532" y="2001"/>
                </a:lnTo>
                <a:lnTo>
                  <a:pt x="582" y="1990"/>
                </a:lnTo>
                <a:lnTo>
                  <a:pt x="630" y="1976"/>
                </a:lnTo>
                <a:lnTo>
                  <a:pt x="670" y="1963"/>
                </a:lnTo>
                <a:lnTo>
                  <a:pt x="670" y="1961"/>
                </a:lnTo>
                <a:lnTo>
                  <a:pt x="668" y="1961"/>
                </a:lnTo>
                <a:lnTo>
                  <a:pt x="668" y="1959"/>
                </a:lnTo>
                <a:lnTo>
                  <a:pt x="667" y="1959"/>
                </a:lnTo>
                <a:lnTo>
                  <a:pt x="665" y="1957"/>
                </a:lnTo>
                <a:lnTo>
                  <a:pt x="665" y="1957"/>
                </a:lnTo>
                <a:lnTo>
                  <a:pt x="663" y="1955"/>
                </a:lnTo>
                <a:lnTo>
                  <a:pt x="661" y="1955"/>
                </a:lnTo>
                <a:lnTo>
                  <a:pt x="626" y="1967"/>
                </a:lnTo>
                <a:lnTo>
                  <a:pt x="578" y="1980"/>
                </a:lnTo>
                <a:lnTo>
                  <a:pt x="530" y="1992"/>
                </a:lnTo>
                <a:lnTo>
                  <a:pt x="480" y="1999"/>
                </a:lnTo>
                <a:lnTo>
                  <a:pt x="430" y="2007"/>
                </a:lnTo>
                <a:lnTo>
                  <a:pt x="381" y="2011"/>
                </a:lnTo>
                <a:lnTo>
                  <a:pt x="329" y="2011"/>
                </a:lnTo>
                <a:lnTo>
                  <a:pt x="277" y="2011"/>
                </a:lnTo>
                <a:lnTo>
                  <a:pt x="227" y="2007"/>
                </a:lnTo>
                <a:lnTo>
                  <a:pt x="177" y="1999"/>
                </a:lnTo>
                <a:lnTo>
                  <a:pt x="127" y="1992"/>
                </a:lnTo>
                <a:lnTo>
                  <a:pt x="79" y="1980"/>
                </a:lnTo>
                <a:lnTo>
                  <a:pt x="31" y="1967"/>
                </a:lnTo>
                <a:lnTo>
                  <a:pt x="0" y="1955"/>
                </a:lnTo>
                <a:lnTo>
                  <a:pt x="0" y="1957"/>
                </a:lnTo>
                <a:lnTo>
                  <a:pt x="2" y="1959"/>
                </a:lnTo>
                <a:lnTo>
                  <a:pt x="2" y="1961"/>
                </a:lnTo>
                <a:lnTo>
                  <a:pt x="2" y="1963"/>
                </a:lnTo>
                <a:lnTo>
                  <a:pt x="2" y="1963"/>
                </a:lnTo>
                <a:lnTo>
                  <a:pt x="2" y="1965"/>
                </a:lnTo>
                <a:lnTo>
                  <a:pt x="2" y="1967"/>
                </a:lnTo>
                <a:lnTo>
                  <a:pt x="2" y="1969"/>
                </a:lnTo>
                <a:close/>
              </a:path>
            </a:pathLst>
          </a:custGeom>
          <a:solidFill>
            <a:srgbClr val="42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Freeform 339"/>
          <p:cNvSpPr/>
          <p:nvPr/>
        </p:nvSpPr>
        <p:spPr>
          <a:xfrm>
            <a:off x="5821200" y="1644480"/>
            <a:ext cx="1059120" cy="3195720"/>
          </a:xfrm>
          <a:custGeom>
            <a:avLst/>
            <a:gdLst>
              <a:gd name="textAreaLeft" fmla="*/ 0 w 1059120"/>
              <a:gd name="textAreaRight" fmla="*/ 1059480 w 1059120"/>
              <a:gd name="textAreaTop" fmla="*/ 0 h 3195720"/>
              <a:gd name="textAreaBottom" fmla="*/ 3196080 h 3195720"/>
            </a:gdLst>
            <a:ahLst/>
            <a:rect l="textAreaLeft" t="textAreaTop" r="textAreaRight" b="textAreaBottom"/>
            <a:pathLst>
              <a:path w="667" h="2013">
                <a:moveTo>
                  <a:pt x="620" y="44"/>
                </a:moveTo>
                <a:lnTo>
                  <a:pt x="580" y="33"/>
                </a:lnTo>
                <a:lnTo>
                  <a:pt x="532" y="21"/>
                </a:lnTo>
                <a:lnTo>
                  <a:pt x="482" y="13"/>
                </a:lnTo>
                <a:lnTo>
                  <a:pt x="432" y="6"/>
                </a:lnTo>
                <a:lnTo>
                  <a:pt x="381" y="2"/>
                </a:lnTo>
                <a:lnTo>
                  <a:pt x="329" y="0"/>
                </a:lnTo>
                <a:lnTo>
                  <a:pt x="277" y="2"/>
                </a:lnTo>
                <a:lnTo>
                  <a:pt x="242" y="6"/>
                </a:lnTo>
                <a:lnTo>
                  <a:pt x="240" y="6"/>
                </a:lnTo>
                <a:lnTo>
                  <a:pt x="240" y="8"/>
                </a:lnTo>
                <a:lnTo>
                  <a:pt x="240" y="10"/>
                </a:lnTo>
                <a:lnTo>
                  <a:pt x="238" y="10"/>
                </a:lnTo>
                <a:lnTo>
                  <a:pt x="238" y="11"/>
                </a:lnTo>
                <a:lnTo>
                  <a:pt x="238" y="13"/>
                </a:lnTo>
                <a:lnTo>
                  <a:pt x="237" y="15"/>
                </a:lnTo>
                <a:lnTo>
                  <a:pt x="237" y="15"/>
                </a:lnTo>
                <a:lnTo>
                  <a:pt x="277" y="13"/>
                </a:lnTo>
                <a:lnTo>
                  <a:pt x="329" y="11"/>
                </a:lnTo>
                <a:lnTo>
                  <a:pt x="381" y="13"/>
                </a:lnTo>
                <a:lnTo>
                  <a:pt x="430" y="17"/>
                </a:lnTo>
                <a:lnTo>
                  <a:pt x="480" y="23"/>
                </a:lnTo>
                <a:lnTo>
                  <a:pt x="530" y="33"/>
                </a:lnTo>
                <a:lnTo>
                  <a:pt x="578" y="42"/>
                </a:lnTo>
                <a:lnTo>
                  <a:pt x="617" y="54"/>
                </a:lnTo>
                <a:lnTo>
                  <a:pt x="617" y="54"/>
                </a:lnTo>
                <a:lnTo>
                  <a:pt x="619" y="52"/>
                </a:lnTo>
                <a:lnTo>
                  <a:pt x="619" y="50"/>
                </a:lnTo>
                <a:lnTo>
                  <a:pt x="619" y="50"/>
                </a:lnTo>
                <a:lnTo>
                  <a:pt x="620" y="48"/>
                </a:lnTo>
                <a:lnTo>
                  <a:pt x="620" y="46"/>
                </a:lnTo>
                <a:lnTo>
                  <a:pt x="620" y="46"/>
                </a:lnTo>
                <a:lnTo>
                  <a:pt x="620" y="44"/>
                </a:lnTo>
                <a:close/>
                <a:moveTo>
                  <a:pt x="2" y="1959"/>
                </a:moveTo>
                <a:lnTo>
                  <a:pt x="29" y="1967"/>
                </a:lnTo>
                <a:lnTo>
                  <a:pt x="77" y="1982"/>
                </a:lnTo>
                <a:lnTo>
                  <a:pt x="125" y="1992"/>
                </a:lnTo>
                <a:lnTo>
                  <a:pt x="175" y="2001"/>
                </a:lnTo>
                <a:lnTo>
                  <a:pt x="225" y="2007"/>
                </a:lnTo>
                <a:lnTo>
                  <a:pt x="277" y="2011"/>
                </a:lnTo>
                <a:lnTo>
                  <a:pt x="329" y="2013"/>
                </a:lnTo>
                <a:lnTo>
                  <a:pt x="381" y="2011"/>
                </a:lnTo>
                <a:lnTo>
                  <a:pt x="432" y="2007"/>
                </a:lnTo>
                <a:lnTo>
                  <a:pt x="482" y="2001"/>
                </a:lnTo>
                <a:lnTo>
                  <a:pt x="532" y="1992"/>
                </a:lnTo>
                <a:lnTo>
                  <a:pt x="580" y="1982"/>
                </a:lnTo>
                <a:lnTo>
                  <a:pt x="628" y="1967"/>
                </a:lnTo>
                <a:lnTo>
                  <a:pt x="667" y="1955"/>
                </a:lnTo>
                <a:lnTo>
                  <a:pt x="665" y="1953"/>
                </a:lnTo>
                <a:lnTo>
                  <a:pt x="665" y="1953"/>
                </a:lnTo>
                <a:lnTo>
                  <a:pt x="663" y="1951"/>
                </a:lnTo>
                <a:lnTo>
                  <a:pt x="661" y="1951"/>
                </a:lnTo>
                <a:lnTo>
                  <a:pt x="661" y="1949"/>
                </a:lnTo>
                <a:lnTo>
                  <a:pt x="659" y="1949"/>
                </a:lnTo>
                <a:lnTo>
                  <a:pt x="659" y="1947"/>
                </a:lnTo>
                <a:lnTo>
                  <a:pt x="657" y="1947"/>
                </a:lnTo>
                <a:lnTo>
                  <a:pt x="624" y="1957"/>
                </a:lnTo>
                <a:lnTo>
                  <a:pt x="578" y="1970"/>
                </a:lnTo>
                <a:lnTo>
                  <a:pt x="530" y="1982"/>
                </a:lnTo>
                <a:lnTo>
                  <a:pt x="480" y="1992"/>
                </a:lnTo>
                <a:lnTo>
                  <a:pt x="430" y="1997"/>
                </a:lnTo>
                <a:lnTo>
                  <a:pt x="381" y="2001"/>
                </a:lnTo>
                <a:lnTo>
                  <a:pt x="329" y="2001"/>
                </a:lnTo>
                <a:lnTo>
                  <a:pt x="277" y="2001"/>
                </a:lnTo>
                <a:lnTo>
                  <a:pt x="227" y="1997"/>
                </a:lnTo>
                <a:lnTo>
                  <a:pt x="177" y="1992"/>
                </a:lnTo>
                <a:lnTo>
                  <a:pt x="129" y="1982"/>
                </a:lnTo>
                <a:lnTo>
                  <a:pt x="79" y="1970"/>
                </a:lnTo>
                <a:lnTo>
                  <a:pt x="33" y="1957"/>
                </a:lnTo>
                <a:lnTo>
                  <a:pt x="0" y="1945"/>
                </a:lnTo>
                <a:lnTo>
                  <a:pt x="0" y="1947"/>
                </a:lnTo>
                <a:lnTo>
                  <a:pt x="0" y="1949"/>
                </a:lnTo>
                <a:lnTo>
                  <a:pt x="0" y="1951"/>
                </a:lnTo>
                <a:lnTo>
                  <a:pt x="0" y="1951"/>
                </a:lnTo>
                <a:lnTo>
                  <a:pt x="0" y="1953"/>
                </a:lnTo>
                <a:lnTo>
                  <a:pt x="2" y="1955"/>
                </a:lnTo>
                <a:lnTo>
                  <a:pt x="2" y="1957"/>
                </a:lnTo>
                <a:lnTo>
                  <a:pt x="2" y="1959"/>
                </a:lnTo>
                <a:close/>
              </a:path>
            </a:pathLst>
          </a:custGeom>
          <a:solidFill>
            <a:srgbClr val="43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Freeform 340"/>
          <p:cNvSpPr/>
          <p:nvPr/>
        </p:nvSpPr>
        <p:spPr>
          <a:xfrm>
            <a:off x="5819760" y="1654200"/>
            <a:ext cx="1050840" cy="317664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3176640"/>
              <a:gd name="textAreaBottom" fmla="*/ 3177000 h 3176640"/>
            </a:gdLst>
            <a:ahLst/>
            <a:rect l="textAreaLeft" t="textAreaTop" r="textAreaRight" b="textAreaBottom"/>
            <a:pathLst>
              <a:path w="662" h="2001">
                <a:moveTo>
                  <a:pt x="620" y="44"/>
                </a:moveTo>
                <a:lnTo>
                  <a:pt x="579" y="32"/>
                </a:lnTo>
                <a:lnTo>
                  <a:pt x="531" y="21"/>
                </a:lnTo>
                <a:lnTo>
                  <a:pt x="481" y="11"/>
                </a:lnTo>
                <a:lnTo>
                  <a:pt x="431" y="5"/>
                </a:lnTo>
                <a:lnTo>
                  <a:pt x="382" y="2"/>
                </a:lnTo>
                <a:lnTo>
                  <a:pt x="330" y="0"/>
                </a:lnTo>
                <a:lnTo>
                  <a:pt x="278" y="2"/>
                </a:lnTo>
                <a:lnTo>
                  <a:pt x="239" y="4"/>
                </a:lnTo>
                <a:lnTo>
                  <a:pt x="239" y="5"/>
                </a:lnTo>
                <a:lnTo>
                  <a:pt x="239" y="7"/>
                </a:lnTo>
                <a:lnTo>
                  <a:pt x="238" y="9"/>
                </a:lnTo>
                <a:lnTo>
                  <a:pt x="238" y="9"/>
                </a:lnTo>
                <a:lnTo>
                  <a:pt x="238" y="11"/>
                </a:lnTo>
                <a:lnTo>
                  <a:pt x="238" y="13"/>
                </a:lnTo>
                <a:lnTo>
                  <a:pt x="236" y="13"/>
                </a:lnTo>
                <a:lnTo>
                  <a:pt x="236" y="15"/>
                </a:lnTo>
                <a:lnTo>
                  <a:pt x="280" y="11"/>
                </a:lnTo>
                <a:lnTo>
                  <a:pt x="330" y="11"/>
                </a:lnTo>
                <a:lnTo>
                  <a:pt x="382" y="11"/>
                </a:lnTo>
                <a:lnTo>
                  <a:pt x="431" y="15"/>
                </a:lnTo>
                <a:lnTo>
                  <a:pt x="481" y="23"/>
                </a:lnTo>
                <a:lnTo>
                  <a:pt x="529" y="30"/>
                </a:lnTo>
                <a:lnTo>
                  <a:pt x="577" y="42"/>
                </a:lnTo>
                <a:lnTo>
                  <a:pt x="616" y="53"/>
                </a:lnTo>
                <a:lnTo>
                  <a:pt x="618" y="51"/>
                </a:lnTo>
                <a:lnTo>
                  <a:pt x="618" y="51"/>
                </a:lnTo>
                <a:lnTo>
                  <a:pt x="618" y="50"/>
                </a:lnTo>
                <a:lnTo>
                  <a:pt x="618" y="48"/>
                </a:lnTo>
                <a:lnTo>
                  <a:pt x="618" y="48"/>
                </a:lnTo>
                <a:lnTo>
                  <a:pt x="620" y="46"/>
                </a:lnTo>
                <a:lnTo>
                  <a:pt x="620" y="44"/>
                </a:lnTo>
                <a:lnTo>
                  <a:pt x="620" y="44"/>
                </a:lnTo>
                <a:close/>
                <a:moveTo>
                  <a:pt x="1" y="1945"/>
                </a:moveTo>
                <a:lnTo>
                  <a:pt x="32" y="1957"/>
                </a:lnTo>
                <a:lnTo>
                  <a:pt x="80" y="1970"/>
                </a:lnTo>
                <a:lnTo>
                  <a:pt x="128" y="1982"/>
                </a:lnTo>
                <a:lnTo>
                  <a:pt x="178" y="1989"/>
                </a:lnTo>
                <a:lnTo>
                  <a:pt x="228" y="1997"/>
                </a:lnTo>
                <a:lnTo>
                  <a:pt x="278" y="2001"/>
                </a:lnTo>
                <a:lnTo>
                  <a:pt x="330" y="2001"/>
                </a:lnTo>
                <a:lnTo>
                  <a:pt x="382" y="2001"/>
                </a:lnTo>
                <a:lnTo>
                  <a:pt x="431" y="1997"/>
                </a:lnTo>
                <a:lnTo>
                  <a:pt x="481" y="1989"/>
                </a:lnTo>
                <a:lnTo>
                  <a:pt x="531" y="1982"/>
                </a:lnTo>
                <a:lnTo>
                  <a:pt x="579" y="1970"/>
                </a:lnTo>
                <a:lnTo>
                  <a:pt x="627" y="1957"/>
                </a:lnTo>
                <a:lnTo>
                  <a:pt x="662" y="1945"/>
                </a:lnTo>
                <a:lnTo>
                  <a:pt x="662" y="1943"/>
                </a:lnTo>
                <a:lnTo>
                  <a:pt x="660" y="1943"/>
                </a:lnTo>
                <a:lnTo>
                  <a:pt x="660" y="1941"/>
                </a:lnTo>
                <a:lnTo>
                  <a:pt x="658" y="1941"/>
                </a:lnTo>
                <a:lnTo>
                  <a:pt x="656" y="1939"/>
                </a:lnTo>
                <a:lnTo>
                  <a:pt x="656" y="1938"/>
                </a:lnTo>
                <a:lnTo>
                  <a:pt x="654" y="1938"/>
                </a:lnTo>
                <a:lnTo>
                  <a:pt x="654" y="1936"/>
                </a:lnTo>
                <a:lnTo>
                  <a:pt x="623" y="1947"/>
                </a:lnTo>
                <a:lnTo>
                  <a:pt x="577" y="1959"/>
                </a:lnTo>
                <a:lnTo>
                  <a:pt x="529" y="1970"/>
                </a:lnTo>
                <a:lnTo>
                  <a:pt x="481" y="1980"/>
                </a:lnTo>
                <a:lnTo>
                  <a:pt x="431" y="1986"/>
                </a:lnTo>
                <a:lnTo>
                  <a:pt x="382" y="1989"/>
                </a:lnTo>
                <a:lnTo>
                  <a:pt x="330" y="1991"/>
                </a:lnTo>
                <a:lnTo>
                  <a:pt x="280" y="1989"/>
                </a:lnTo>
                <a:lnTo>
                  <a:pt x="228" y="1986"/>
                </a:lnTo>
                <a:lnTo>
                  <a:pt x="180" y="1980"/>
                </a:lnTo>
                <a:lnTo>
                  <a:pt x="130" y="1970"/>
                </a:lnTo>
                <a:lnTo>
                  <a:pt x="82" y="1959"/>
                </a:lnTo>
                <a:lnTo>
                  <a:pt x="36" y="1947"/>
                </a:lnTo>
                <a:lnTo>
                  <a:pt x="0" y="1934"/>
                </a:lnTo>
                <a:lnTo>
                  <a:pt x="0" y="1936"/>
                </a:lnTo>
                <a:lnTo>
                  <a:pt x="1" y="1938"/>
                </a:lnTo>
                <a:lnTo>
                  <a:pt x="1" y="1939"/>
                </a:lnTo>
                <a:lnTo>
                  <a:pt x="1" y="1939"/>
                </a:lnTo>
                <a:lnTo>
                  <a:pt x="1" y="1941"/>
                </a:lnTo>
                <a:lnTo>
                  <a:pt x="1" y="1943"/>
                </a:lnTo>
                <a:lnTo>
                  <a:pt x="1" y="1945"/>
                </a:lnTo>
                <a:lnTo>
                  <a:pt x="1" y="1945"/>
                </a:lnTo>
                <a:close/>
              </a:path>
            </a:pathLst>
          </a:custGeom>
          <a:solidFill>
            <a:srgbClr val="44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Freeform 341"/>
          <p:cNvSpPr/>
          <p:nvPr/>
        </p:nvSpPr>
        <p:spPr>
          <a:xfrm>
            <a:off x="5819760" y="1662120"/>
            <a:ext cx="1044720" cy="315900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658" h="1990">
                <a:moveTo>
                  <a:pt x="618" y="43"/>
                </a:moveTo>
                <a:lnTo>
                  <a:pt x="579" y="31"/>
                </a:lnTo>
                <a:lnTo>
                  <a:pt x="531" y="22"/>
                </a:lnTo>
                <a:lnTo>
                  <a:pt x="481" y="12"/>
                </a:lnTo>
                <a:lnTo>
                  <a:pt x="431" y="6"/>
                </a:lnTo>
                <a:lnTo>
                  <a:pt x="382" y="2"/>
                </a:lnTo>
                <a:lnTo>
                  <a:pt x="330" y="0"/>
                </a:lnTo>
                <a:lnTo>
                  <a:pt x="278" y="2"/>
                </a:lnTo>
                <a:lnTo>
                  <a:pt x="238" y="4"/>
                </a:lnTo>
                <a:lnTo>
                  <a:pt x="238" y="6"/>
                </a:lnTo>
                <a:lnTo>
                  <a:pt x="238" y="8"/>
                </a:lnTo>
                <a:lnTo>
                  <a:pt x="236" y="8"/>
                </a:lnTo>
                <a:lnTo>
                  <a:pt x="236" y="10"/>
                </a:lnTo>
                <a:lnTo>
                  <a:pt x="236" y="12"/>
                </a:lnTo>
                <a:lnTo>
                  <a:pt x="234" y="14"/>
                </a:lnTo>
                <a:lnTo>
                  <a:pt x="234" y="14"/>
                </a:lnTo>
                <a:lnTo>
                  <a:pt x="234" y="16"/>
                </a:lnTo>
                <a:lnTo>
                  <a:pt x="280" y="12"/>
                </a:lnTo>
                <a:lnTo>
                  <a:pt x="330" y="12"/>
                </a:lnTo>
                <a:lnTo>
                  <a:pt x="380" y="12"/>
                </a:lnTo>
                <a:lnTo>
                  <a:pt x="431" y="16"/>
                </a:lnTo>
                <a:lnTo>
                  <a:pt x="479" y="22"/>
                </a:lnTo>
                <a:lnTo>
                  <a:pt x="527" y="31"/>
                </a:lnTo>
                <a:lnTo>
                  <a:pt x="575" y="43"/>
                </a:lnTo>
                <a:lnTo>
                  <a:pt x="614" y="52"/>
                </a:lnTo>
                <a:lnTo>
                  <a:pt x="616" y="52"/>
                </a:lnTo>
                <a:lnTo>
                  <a:pt x="616" y="50"/>
                </a:lnTo>
                <a:lnTo>
                  <a:pt x="616" y="50"/>
                </a:lnTo>
                <a:lnTo>
                  <a:pt x="616" y="48"/>
                </a:lnTo>
                <a:lnTo>
                  <a:pt x="616" y="46"/>
                </a:lnTo>
                <a:lnTo>
                  <a:pt x="618" y="46"/>
                </a:lnTo>
                <a:lnTo>
                  <a:pt x="618" y="45"/>
                </a:lnTo>
                <a:lnTo>
                  <a:pt x="618" y="43"/>
                </a:lnTo>
                <a:close/>
                <a:moveTo>
                  <a:pt x="1" y="1934"/>
                </a:moveTo>
                <a:lnTo>
                  <a:pt x="34" y="1946"/>
                </a:lnTo>
                <a:lnTo>
                  <a:pt x="80" y="1959"/>
                </a:lnTo>
                <a:lnTo>
                  <a:pt x="130" y="1971"/>
                </a:lnTo>
                <a:lnTo>
                  <a:pt x="178" y="1981"/>
                </a:lnTo>
                <a:lnTo>
                  <a:pt x="228" y="1986"/>
                </a:lnTo>
                <a:lnTo>
                  <a:pt x="278" y="1990"/>
                </a:lnTo>
                <a:lnTo>
                  <a:pt x="330" y="1990"/>
                </a:lnTo>
                <a:lnTo>
                  <a:pt x="382" y="1990"/>
                </a:lnTo>
                <a:lnTo>
                  <a:pt x="431" y="1986"/>
                </a:lnTo>
                <a:lnTo>
                  <a:pt x="481" y="1981"/>
                </a:lnTo>
                <a:lnTo>
                  <a:pt x="531" y="1971"/>
                </a:lnTo>
                <a:lnTo>
                  <a:pt x="579" y="1959"/>
                </a:lnTo>
                <a:lnTo>
                  <a:pt x="625" y="1946"/>
                </a:lnTo>
                <a:lnTo>
                  <a:pt x="658" y="1936"/>
                </a:lnTo>
                <a:lnTo>
                  <a:pt x="656" y="1934"/>
                </a:lnTo>
                <a:lnTo>
                  <a:pt x="656" y="1933"/>
                </a:lnTo>
                <a:lnTo>
                  <a:pt x="654" y="1933"/>
                </a:lnTo>
                <a:lnTo>
                  <a:pt x="654" y="1931"/>
                </a:lnTo>
                <a:lnTo>
                  <a:pt x="652" y="1931"/>
                </a:lnTo>
                <a:lnTo>
                  <a:pt x="650" y="1929"/>
                </a:lnTo>
                <a:lnTo>
                  <a:pt x="650" y="1929"/>
                </a:lnTo>
                <a:lnTo>
                  <a:pt x="648" y="1927"/>
                </a:lnTo>
                <a:lnTo>
                  <a:pt x="623" y="1936"/>
                </a:lnTo>
                <a:lnTo>
                  <a:pt x="575" y="1950"/>
                </a:lnTo>
                <a:lnTo>
                  <a:pt x="527" y="1961"/>
                </a:lnTo>
                <a:lnTo>
                  <a:pt x="479" y="1969"/>
                </a:lnTo>
                <a:lnTo>
                  <a:pt x="431" y="1975"/>
                </a:lnTo>
                <a:lnTo>
                  <a:pt x="380" y="1979"/>
                </a:lnTo>
                <a:lnTo>
                  <a:pt x="330" y="1981"/>
                </a:lnTo>
                <a:lnTo>
                  <a:pt x="280" y="1979"/>
                </a:lnTo>
                <a:lnTo>
                  <a:pt x="230" y="1975"/>
                </a:lnTo>
                <a:lnTo>
                  <a:pt x="180" y="1969"/>
                </a:lnTo>
                <a:lnTo>
                  <a:pt x="132" y="1961"/>
                </a:lnTo>
                <a:lnTo>
                  <a:pt x="84" y="1950"/>
                </a:lnTo>
                <a:lnTo>
                  <a:pt x="38" y="1936"/>
                </a:lnTo>
                <a:lnTo>
                  <a:pt x="0" y="1923"/>
                </a:lnTo>
                <a:lnTo>
                  <a:pt x="0" y="1925"/>
                </a:lnTo>
                <a:lnTo>
                  <a:pt x="0" y="1927"/>
                </a:lnTo>
                <a:lnTo>
                  <a:pt x="0" y="1929"/>
                </a:lnTo>
                <a:lnTo>
                  <a:pt x="0" y="1929"/>
                </a:lnTo>
                <a:lnTo>
                  <a:pt x="0" y="1931"/>
                </a:lnTo>
                <a:lnTo>
                  <a:pt x="1" y="1933"/>
                </a:lnTo>
                <a:lnTo>
                  <a:pt x="1" y="1934"/>
                </a:lnTo>
                <a:lnTo>
                  <a:pt x="1" y="1934"/>
                </a:lnTo>
                <a:close/>
              </a:path>
            </a:pathLst>
          </a:custGeom>
          <a:solidFill>
            <a:srgbClr val="45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Freeform 342"/>
          <p:cNvSpPr/>
          <p:nvPr/>
        </p:nvSpPr>
        <p:spPr>
          <a:xfrm>
            <a:off x="5816520" y="1671480"/>
            <a:ext cx="1041480" cy="3143520"/>
          </a:xfrm>
          <a:custGeom>
            <a:avLst/>
            <a:gdLst>
              <a:gd name="textAreaLeft" fmla="*/ 0 w 1041480"/>
              <a:gd name="textAreaRight" fmla="*/ 1041480 w 1041480"/>
              <a:gd name="textAreaTop" fmla="*/ 0 h 3143520"/>
              <a:gd name="textAreaBottom" fmla="*/ 3143880 h 3143520"/>
            </a:gdLst>
            <a:ahLst/>
            <a:rect l="textAreaLeft" t="textAreaTop" r="textAreaRight" b="textAreaBottom"/>
            <a:pathLst>
              <a:path w="656" h="1980">
                <a:moveTo>
                  <a:pt x="618" y="42"/>
                </a:moveTo>
                <a:lnTo>
                  <a:pt x="579" y="31"/>
                </a:lnTo>
                <a:lnTo>
                  <a:pt x="531" y="19"/>
                </a:lnTo>
                <a:lnTo>
                  <a:pt x="483" y="12"/>
                </a:lnTo>
                <a:lnTo>
                  <a:pt x="433" y="4"/>
                </a:lnTo>
                <a:lnTo>
                  <a:pt x="384" y="0"/>
                </a:lnTo>
                <a:lnTo>
                  <a:pt x="332" y="0"/>
                </a:lnTo>
                <a:lnTo>
                  <a:pt x="282" y="0"/>
                </a:lnTo>
                <a:lnTo>
                  <a:pt x="238" y="4"/>
                </a:lnTo>
                <a:lnTo>
                  <a:pt x="238" y="6"/>
                </a:lnTo>
                <a:lnTo>
                  <a:pt x="236" y="8"/>
                </a:lnTo>
                <a:lnTo>
                  <a:pt x="236" y="8"/>
                </a:lnTo>
                <a:lnTo>
                  <a:pt x="236" y="10"/>
                </a:lnTo>
                <a:lnTo>
                  <a:pt x="234" y="12"/>
                </a:lnTo>
                <a:lnTo>
                  <a:pt x="234" y="14"/>
                </a:lnTo>
                <a:lnTo>
                  <a:pt x="234" y="14"/>
                </a:lnTo>
                <a:lnTo>
                  <a:pt x="234" y="16"/>
                </a:lnTo>
                <a:lnTo>
                  <a:pt x="282" y="12"/>
                </a:lnTo>
                <a:lnTo>
                  <a:pt x="332" y="10"/>
                </a:lnTo>
                <a:lnTo>
                  <a:pt x="382" y="12"/>
                </a:lnTo>
                <a:lnTo>
                  <a:pt x="432" y="16"/>
                </a:lnTo>
                <a:lnTo>
                  <a:pt x="481" y="21"/>
                </a:lnTo>
                <a:lnTo>
                  <a:pt x="529" y="31"/>
                </a:lnTo>
                <a:lnTo>
                  <a:pt x="577" y="40"/>
                </a:lnTo>
                <a:lnTo>
                  <a:pt x="616" y="52"/>
                </a:lnTo>
                <a:lnTo>
                  <a:pt x="616" y="50"/>
                </a:lnTo>
                <a:lnTo>
                  <a:pt x="616" y="50"/>
                </a:lnTo>
                <a:lnTo>
                  <a:pt x="616" y="48"/>
                </a:lnTo>
                <a:lnTo>
                  <a:pt x="616" y="48"/>
                </a:lnTo>
                <a:lnTo>
                  <a:pt x="618" y="46"/>
                </a:lnTo>
                <a:lnTo>
                  <a:pt x="618" y="44"/>
                </a:lnTo>
                <a:lnTo>
                  <a:pt x="618" y="44"/>
                </a:lnTo>
                <a:lnTo>
                  <a:pt x="618" y="42"/>
                </a:lnTo>
                <a:close/>
                <a:moveTo>
                  <a:pt x="2" y="1923"/>
                </a:moveTo>
                <a:lnTo>
                  <a:pt x="38" y="1936"/>
                </a:lnTo>
                <a:lnTo>
                  <a:pt x="84" y="1948"/>
                </a:lnTo>
                <a:lnTo>
                  <a:pt x="132" y="1959"/>
                </a:lnTo>
                <a:lnTo>
                  <a:pt x="182" y="1969"/>
                </a:lnTo>
                <a:lnTo>
                  <a:pt x="230" y="1975"/>
                </a:lnTo>
                <a:lnTo>
                  <a:pt x="282" y="1978"/>
                </a:lnTo>
                <a:lnTo>
                  <a:pt x="332" y="1980"/>
                </a:lnTo>
                <a:lnTo>
                  <a:pt x="384" y="1978"/>
                </a:lnTo>
                <a:lnTo>
                  <a:pt x="433" y="1975"/>
                </a:lnTo>
                <a:lnTo>
                  <a:pt x="483" y="1969"/>
                </a:lnTo>
                <a:lnTo>
                  <a:pt x="531" y="1959"/>
                </a:lnTo>
                <a:lnTo>
                  <a:pt x="579" y="1948"/>
                </a:lnTo>
                <a:lnTo>
                  <a:pt x="625" y="1936"/>
                </a:lnTo>
                <a:lnTo>
                  <a:pt x="656" y="1925"/>
                </a:lnTo>
                <a:lnTo>
                  <a:pt x="654" y="1925"/>
                </a:lnTo>
                <a:lnTo>
                  <a:pt x="652" y="1923"/>
                </a:lnTo>
                <a:lnTo>
                  <a:pt x="652" y="1923"/>
                </a:lnTo>
                <a:lnTo>
                  <a:pt x="650" y="1921"/>
                </a:lnTo>
                <a:lnTo>
                  <a:pt x="648" y="1921"/>
                </a:lnTo>
                <a:lnTo>
                  <a:pt x="648" y="1919"/>
                </a:lnTo>
                <a:lnTo>
                  <a:pt x="646" y="1919"/>
                </a:lnTo>
                <a:lnTo>
                  <a:pt x="646" y="1917"/>
                </a:lnTo>
                <a:lnTo>
                  <a:pt x="623" y="1925"/>
                </a:lnTo>
                <a:lnTo>
                  <a:pt x="577" y="1938"/>
                </a:lnTo>
                <a:lnTo>
                  <a:pt x="529" y="1950"/>
                </a:lnTo>
                <a:lnTo>
                  <a:pt x="481" y="1957"/>
                </a:lnTo>
                <a:lnTo>
                  <a:pt x="432" y="1965"/>
                </a:lnTo>
                <a:lnTo>
                  <a:pt x="382" y="1969"/>
                </a:lnTo>
                <a:lnTo>
                  <a:pt x="332" y="1969"/>
                </a:lnTo>
                <a:lnTo>
                  <a:pt x="282" y="1969"/>
                </a:lnTo>
                <a:lnTo>
                  <a:pt x="232" y="1965"/>
                </a:lnTo>
                <a:lnTo>
                  <a:pt x="182" y="1957"/>
                </a:lnTo>
                <a:lnTo>
                  <a:pt x="134" y="1950"/>
                </a:lnTo>
                <a:lnTo>
                  <a:pt x="88" y="1938"/>
                </a:lnTo>
                <a:lnTo>
                  <a:pt x="40" y="1925"/>
                </a:lnTo>
                <a:lnTo>
                  <a:pt x="0" y="1911"/>
                </a:lnTo>
                <a:lnTo>
                  <a:pt x="2" y="1913"/>
                </a:lnTo>
                <a:lnTo>
                  <a:pt x="2" y="1915"/>
                </a:lnTo>
                <a:lnTo>
                  <a:pt x="2" y="1915"/>
                </a:lnTo>
                <a:lnTo>
                  <a:pt x="2" y="1917"/>
                </a:lnTo>
                <a:lnTo>
                  <a:pt x="2" y="1919"/>
                </a:lnTo>
                <a:lnTo>
                  <a:pt x="2" y="1921"/>
                </a:lnTo>
                <a:lnTo>
                  <a:pt x="2" y="1923"/>
                </a:lnTo>
                <a:lnTo>
                  <a:pt x="2" y="1923"/>
                </a:lnTo>
                <a:close/>
              </a:path>
            </a:pathLst>
          </a:custGeom>
          <a:solidFill>
            <a:srgbClr val="46b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Freeform 343"/>
          <p:cNvSpPr/>
          <p:nvPr/>
        </p:nvSpPr>
        <p:spPr>
          <a:xfrm>
            <a:off x="5816520" y="1681200"/>
            <a:ext cx="1032120" cy="3125880"/>
          </a:xfrm>
          <a:custGeom>
            <a:avLst/>
            <a:gdLst>
              <a:gd name="textAreaLeft" fmla="*/ 0 w 1032120"/>
              <a:gd name="textAreaRight" fmla="*/ 1032480 w 1032120"/>
              <a:gd name="textAreaTop" fmla="*/ 0 h 3125880"/>
              <a:gd name="textAreaBottom" fmla="*/ 3126240 h 3125880"/>
            </a:gdLst>
            <a:ahLst/>
            <a:rect l="textAreaLeft" t="textAreaTop" r="textAreaRight" b="textAreaBottom"/>
            <a:pathLst>
              <a:path w="650" h="1969">
                <a:moveTo>
                  <a:pt x="616" y="40"/>
                </a:moveTo>
                <a:lnTo>
                  <a:pt x="577" y="31"/>
                </a:lnTo>
                <a:lnTo>
                  <a:pt x="529" y="19"/>
                </a:lnTo>
                <a:lnTo>
                  <a:pt x="481" y="10"/>
                </a:lnTo>
                <a:lnTo>
                  <a:pt x="433" y="4"/>
                </a:lnTo>
                <a:lnTo>
                  <a:pt x="382" y="0"/>
                </a:lnTo>
                <a:lnTo>
                  <a:pt x="332" y="0"/>
                </a:lnTo>
                <a:lnTo>
                  <a:pt x="282" y="0"/>
                </a:lnTo>
                <a:lnTo>
                  <a:pt x="236" y="4"/>
                </a:lnTo>
                <a:lnTo>
                  <a:pt x="234" y="6"/>
                </a:lnTo>
                <a:lnTo>
                  <a:pt x="234" y="8"/>
                </a:lnTo>
                <a:lnTo>
                  <a:pt x="234" y="8"/>
                </a:lnTo>
                <a:lnTo>
                  <a:pt x="234" y="10"/>
                </a:lnTo>
                <a:lnTo>
                  <a:pt x="232" y="11"/>
                </a:lnTo>
                <a:lnTo>
                  <a:pt x="232" y="11"/>
                </a:lnTo>
                <a:lnTo>
                  <a:pt x="232" y="13"/>
                </a:lnTo>
                <a:lnTo>
                  <a:pt x="230" y="15"/>
                </a:lnTo>
                <a:lnTo>
                  <a:pt x="232" y="15"/>
                </a:lnTo>
                <a:lnTo>
                  <a:pt x="282" y="11"/>
                </a:lnTo>
                <a:lnTo>
                  <a:pt x="332" y="10"/>
                </a:lnTo>
                <a:lnTo>
                  <a:pt x="382" y="11"/>
                </a:lnTo>
                <a:lnTo>
                  <a:pt x="432" y="15"/>
                </a:lnTo>
                <a:lnTo>
                  <a:pt x="479" y="21"/>
                </a:lnTo>
                <a:lnTo>
                  <a:pt x="527" y="29"/>
                </a:lnTo>
                <a:lnTo>
                  <a:pt x="575" y="40"/>
                </a:lnTo>
                <a:lnTo>
                  <a:pt x="614" y="52"/>
                </a:lnTo>
                <a:lnTo>
                  <a:pt x="614" y="50"/>
                </a:lnTo>
                <a:lnTo>
                  <a:pt x="614" y="50"/>
                </a:lnTo>
                <a:lnTo>
                  <a:pt x="614" y="48"/>
                </a:lnTo>
                <a:lnTo>
                  <a:pt x="616" y="46"/>
                </a:lnTo>
                <a:lnTo>
                  <a:pt x="616" y="46"/>
                </a:lnTo>
                <a:lnTo>
                  <a:pt x="616" y="44"/>
                </a:lnTo>
                <a:lnTo>
                  <a:pt x="616" y="42"/>
                </a:lnTo>
                <a:lnTo>
                  <a:pt x="616" y="40"/>
                </a:lnTo>
                <a:close/>
                <a:moveTo>
                  <a:pt x="2" y="1911"/>
                </a:moveTo>
                <a:lnTo>
                  <a:pt x="40" y="1924"/>
                </a:lnTo>
                <a:lnTo>
                  <a:pt x="86" y="1938"/>
                </a:lnTo>
                <a:lnTo>
                  <a:pt x="134" y="1949"/>
                </a:lnTo>
                <a:lnTo>
                  <a:pt x="182" y="1957"/>
                </a:lnTo>
                <a:lnTo>
                  <a:pt x="232" y="1963"/>
                </a:lnTo>
                <a:lnTo>
                  <a:pt x="282" y="1967"/>
                </a:lnTo>
                <a:lnTo>
                  <a:pt x="332" y="1969"/>
                </a:lnTo>
                <a:lnTo>
                  <a:pt x="382" y="1967"/>
                </a:lnTo>
                <a:lnTo>
                  <a:pt x="433" y="1963"/>
                </a:lnTo>
                <a:lnTo>
                  <a:pt x="481" y="1957"/>
                </a:lnTo>
                <a:lnTo>
                  <a:pt x="529" y="1949"/>
                </a:lnTo>
                <a:lnTo>
                  <a:pt x="577" y="1938"/>
                </a:lnTo>
                <a:lnTo>
                  <a:pt x="625" y="1924"/>
                </a:lnTo>
                <a:lnTo>
                  <a:pt x="650" y="1915"/>
                </a:lnTo>
                <a:lnTo>
                  <a:pt x="648" y="1915"/>
                </a:lnTo>
                <a:lnTo>
                  <a:pt x="648" y="1913"/>
                </a:lnTo>
                <a:lnTo>
                  <a:pt x="646" y="1913"/>
                </a:lnTo>
                <a:lnTo>
                  <a:pt x="646" y="1911"/>
                </a:lnTo>
                <a:lnTo>
                  <a:pt x="645" y="1911"/>
                </a:lnTo>
                <a:lnTo>
                  <a:pt x="643" y="1909"/>
                </a:lnTo>
                <a:lnTo>
                  <a:pt x="643" y="1909"/>
                </a:lnTo>
                <a:lnTo>
                  <a:pt x="641" y="1907"/>
                </a:lnTo>
                <a:lnTo>
                  <a:pt x="622" y="1915"/>
                </a:lnTo>
                <a:lnTo>
                  <a:pt x="575" y="1926"/>
                </a:lnTo>
                <a:lnTo>
                  <a:pt x="527" y="1938"/>
                </a:lnTo>
                <a:lnTo>
                  <a:pt x="479" y="1947"/>
                </a:lnTo>
                <a:lnTo>
                  <a:pt x="432" y="1953"/>
                </a:lnTo>
                <a:lnTo>
                  <a:pt x="382" y="1957"/>
                </a:lnTo>
                <a:lnTo>
                  <a:pt x="332" y="1957"/>
                </a:lnTo>
                <a:lnTo>
                  <a:pt x="282" y="1957"/>
                </a:lnTo>
                <a:lnTo>
                  <a:pt x="232" y="1953"/>
                </a:lnTo>
                <a:lnTo>
                  <a:pt x="184" y="1947"/>
                </a:lnTo>
                <a:lnTo>
                  <a:pt x="136" y="1938"/>
                </a:lnTo>
                <a:lnTo>
                  <a:pt x="88" y="1926"/>
                </a:lnTo>
                <a:lnTo>
                  <a:pt x="42" y="1915"/>
                </a:lnTo>
                <a:lnTo>
                  <a:pt x="0" y="1899"/>
                </a:lnTo>
                <a:lnTo>
                  <a:pt x="0" y="1901"/>
                </a:lnTo>
                <a:lnTo>
                  <a:pt x="0" y="1903"/>
                </a:lnTo>
                <a:lnTo>
                  <a:pt x="0" y="1903"/>
                </a:lnTo>
                <a:lnTo>
                  <a:pt x="0" y="1905"/>
                </a:lnTo>
                <a:lnTo>
                  <a:pt x="2" y="1907"/>
                </a:lnTo>
                <a:lnTo>
                  <a:pt x="2" y="1909"/>
                </a:lnTo>
                <a:lnTo>
                  <a:pt x="2" y="1909"/>
                </a:lnTo>
                <a:lnTo>
                  <a:pt x="2" y="1911"/>
                </a:lnTo>
                <a:close/>
              </a:path>
            </a:pathLst>
          </a:custGeom>
          <a:solidFill>
            <a:srgbClr val="47b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Freeform 344"/>
          <p:cNvSpPr/>
          <p:nvPr/>
        </p:nvSpPr>
        <p:spPr>
          <a:xfrm>
            <a:off x="5816520" y="1687680"/>
            <a:ext cx="1025640" cy="310968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3109680"/>
              <a:gd name="textAreaBottom" fmla="*/ 3110040 h 3109680"/>
            </a:gdLst>
            <a:ahLst/>
            <a:rect l="textAreaLeft" t="textAreaTop" r="textAreaRight" b="textAreaBottom"/>
            <a:pathLst>
              <a:path w="646" h="1959">
                <a:moveTo>
                  <a:pt x="616" y="42"/>
                </a:moveTo>
                <a:lnTo>
                  <a:pt x="577" y="30"/>
                </a:lnTo>
                <a:lnTo>
                  <a:pt x="529" y="21"/>
                </a:lnTo>
                <a:lnTo>
                  <a:pt x="481" y="11"/>
                </a:lnTo>
                <a:lnTo>
                  <a:pt x="432" y="6"/>
                </a:lnTo>
                <a:lnTo>
                  <a:pt x="382" y="2"/>
                </a:lnTo>
                <a:lnTo>
                  <a:pt x="332" y="0"/>
                </a:lnTo>
                <a:lnTo>
                  <a:pt x="282" y="2"/>
                </a:lnTo>
                <a:lnTo>
                  <a:pt x="234" y="6"/>
                </a:lnTo>
                <a:lnTo>
                  <a:pt x="232" y="7"/>
                </a:lnTo>
                <a:lnTo>
                  <a:pt x="232" y="7"/>
                </a:lnTo>
                <a:lnTo>
                  <a:pt x="232" y="9"/>
                </a:lnTo>
                <a:lnTo>
                  <a:pt x="230" y="11"/>
                </a:lnTo>
                <a:lnTo>
                  <a:pt x="230" y="13"/>
                </a:lnTo>
                <a:lnTo>
                  <a:pt x="230" y="13"/>
                </a:lnTo>
                <a:lnTo>
                  <a:pt x="228" y="15"/>
                </a:lnTo>
                <a:lnTo>
                  <a:pt x="228" y="17"/>
                </a:lnTo>
                <a:lnTo>
                  <a:pt x="232" y="17"/>
                </a:lnTo>
                <a:lnTo>
                  <a:pt x="282" y="13"/>
                </a:lnTo>
                <a:lnTo>
                  <a:pt x="332" y="11"/>
                </a:lnTo>
                <a:lnTo>
                  <a:pt x="382" y="13"/>
                </a:lnTo>
                <a:lnTo>
                  <a:pt x="432" y="17"/>
                </a:lnTo>
                <a:lnTo>
                  <a:pt x="479" y="23"/>
                </a:lnTo>
                <a:lnTo>
                  <a:pt x="527" y="30"/>
                </a:lnTo>
                <a:lnTo>
                  <a:pt x="574" y="42"/>
                </a:lnTo>
                <a:lnTo>
                  <a:pt x="612" y="52"/>
                </a:lnTo>
                <a:lnTo>
                  <a:pt x="612" y="52"/>
                </a:lnTo>
                <a:lnTo>
                  <a:pt x="612" y="52"/>
                </a:lnTo>
                <a:lnTo>
                  <a:pt x="612" y="52"/>
                </a:lnTo>
                <a:lnTo>
                  <a:pt x="612" y="52"/>
                </a:lnTo>
                <a:lnTo>
                  <a:pt x="612" y="52"/>
                </a:lnTo>
                <a:lnTo>
                  <a:pt x="612" y="52"/>
                </a:lnTo>
                <a:lnTo>
                  <a:pt x="612" y="52"/>
                </a:lnTo>
                <a:lnTo>
                  <a:pt x="614" y="52"/>
                </a:lnTo>
                <a:lnTo>
                  <a:pt x="614" y="50"/>
                </a:lnTo>
                <a:lnTo>
                  <a:pt x="614" y="50"/>
                </a:lnTo>
                <a:lnTo>
                  <a:pt x="614" y="48"/>
                </a:lnTo>
                <a:lnTo>
                  <a:pt x="614" y="46"/>
                </a:lnTo>
                <a:lnTo>
                  <a:pt x="614" y="46"/>
                </a:lnTo>
                <a:lnTo>
                  <a:pt x="614" y="44"/>
                </a:lnTo>
                <a:lnTo>
                  <a:pt x="614" y="44"/>
                </a:lnTo>
                <a:lnTo>
                  <a:pt x="616" y="42"/>
                </a:lnTo>
                <a:close/>
                <a:moveTo>
                  <a:pt x="0" y="1901"/>
                </a:moveTo>
                <a:lnTo>
                  <a:pt x="40" y="1915"/>
                </a:lnTo>
                <a:lnTo>
                  <a:pt x="88" y="1928"/>
                </a:lnTo>
                <a:lnTo>
                  <a:pt x="134" y="1940"/>
                </a:lnTo>
                <a:lnTo>
                  <a:pt x="182" y="1947"/>
                </a:lnTo>
                <a:lnTo>
                  <a:pt x="232" y="1955"/>
                </a:lnTo>
                <a:lnTo>
                  <a:pt x="282" y="1959"/>
                </a:lnTo>
                <a:lnTo>
                  <a:pt x="332" y="1959"/>
                </a:lnTo>
                <a:lnTo>
                  <a:pt x="382" y="1959"/>
                </a:lnTo>
                <a:lnTo>
                  <a:pt x="432" y="1955"/>
                </a:lnTo>
                <a:lnTo>
                  <a:pt x="481" y="1947"/>
                </a:lnTo>
                <a:lnTo>
                  <a:pt x="529" y="1940"/>
                </a:lnTo>
                <a:lnTo>
                  <a:pt x="577" y="1928"/>
                </a:lnTo>
                <a:lnTo>
                  <a:pt x="623" y="1915"/>
                </a:lnTo>
                <a:lnTo>
                  <a:pt x="646" y="1907"/>
                </a:lnTo>
                <a:lnTo>
                  <a:pt x="645" y="1907"/>
                </a:lnTo>
                <a:lnTo>
                  <a:pt x="643" y="1905"/>
                </a:lnTo>
                <a:lnTo>
                  <a:pt x="643" y="1905"/>
                </a:lnTo>
                <a:lnTo>
                  <a:pt x="641" y="1903"/>
                </a:lnTo>
                <a:lnTo>
                  <a:pt x="641" y="1903"/>
                </a:lnTo>
                <a:lnTo>
                  <a:pt x="639" y="1901"/>
                </a:lnTo>
                <a:lnTo>
                  <a:pt x="637" y="1899"/>
                </a:lnTo>
                <a:lnTo>
                  <a:pt x="637" y="1899"/>
                </a:lnTo>
                <a:lnTo>
                  <a:pt x="620" y="1905"/>
                </a:lnTo>
                <a:lnTo>
                  <a:pt x="574" y="1918"/>
                </a:lnTo>
                <a:lnTo>
                  <a:pt x="527" y="1928"/>
                </a:lnTo>
                <a:lnTo>
                  <a:pt x="479" y="1938"/>
                </a:lnTo>
                <a:lnTo>
                  <a:pt x="432" y="1943"/>
                </a:lnTo>
                <a:lnTo>
                  <a:pt x="382" y="1947"/>
                </a:lnTo>
                <a:lnTo>
                  <a:pt x="332" y="1949"/>
                </a:lnTo>
                <a:lnTo>
                  <a:pt x="282" y="1947"/>
                </a:lnTo>
                <a:lnTo>
                  <a:pt x="232" y="1943"/>
                </a:lnTo>
                <a:lnTo>
                  <a:pt x="184" y="1938"/>
                </a:lnTo>
                <a:lnTo>
                  <a:pt x="136" y="1928"/>
                </a:lnTo>
                <a:lnTo>
                  <a:pt x="90" y="1918"/>
                </a:lnTo>
                <a:lnTo>
                  <a:pt x="44" y="1905"/>
                </a:lnTo>
                <a:lnTo>
                  <a:pt x="0" y="1890"/>
                </a:lnTo>
                <a:lnTo>
                  <a:pt x="0" y="1890"/>
                </a:lnTo>
                <a:lnTo>
                  <a:pt x="0" y="1892"/>
                </a:lnTo>
                <a:lnTo>
                  <a:pt x="0" y="1894"/>
                </a:lnTo>
                <a:lnTo>
                  <a:pt x="0" y="1894"/>
                </a:lnTo>
                <a:lnTo>
                  <a:pt x="0" y="1895"/>
                </a:lnTo>
                <a:lnTo>
                  <a:pt x="0" y="1897"/>
                </a:lnTo>
                <a:lnTo>
                  <a:pt x="0" y="1899"/>
                </a:lnTo>
                <a:lnTo>
                  <a:pt x="0" y="1899"/>
                </a:lnTo>
                <a:lnTo>
                  <a:pt x="0" y="1901"/>
                </a:lnTo>
                <a:close/>
              </a:path>
            </a:pathLst>
          </a:custGeom>
          <a:solidFill>
            <a:srgbClr val="48b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Freeform 345"/>
          <p:cNvSpPr/>
          <p:nvPr/>
        </p:nvSpPr>
        <p:spPr>
          <a:xfrm>
            <a:off x="5813280" y="1697040"/>
            <a:ext cx="1020960" cy="3090960"/>
          </a:xfrm>
          <a:custGeom>
            <a:avLst/>
            <a:gdLst>
              <a:gd name="textAreaLeft" fmla="*/ 0 w 1020960"/>
              <a:gd name="textAreaRight" fmla="*/ 1021320 w 1020960"/>
              <a:gd name="textAreaTop" fmla="*/ 0 h 3090960"/>
              <a:gd name="textAreaBottom" fmla="*/ 3091320 h 3090960"/>
            </a:gdLst>
            <a:ahLst/>
            <a:rect l="textAreaLeft" t="textAreaTop" r="textAreaRight" b="textAreaBottom"/>
            <a:pathLst>
              <a:path w="643" h="1947">
                <a:moveTo>
                  <a:pt x="616" y="42"/>
                </a:moveTo>
                <a:lnTo>
                  <a:pt x="577" y="30"/>
                </a:lnTo>
                <a:lnTo>
                  <a:pt x="529" y="19"/>
                </a:lnTo>
                <a:lnTo>
                  <a:pt x="481" y="11"/>
                </a:lnTo>
                <a:lnTo>
                  <a:pt x="434" y="5"/>
                </a:lnTo>
                <a:lnTo>
                  <a:pt x="384" y="1"/>
                </a:lnTo>
                <a:lnTo>
                  <a:pt x="334" y="0"/>
                </a:lnTo>
                <a:lnTo>
                  <a:pt x="284" y="1"/>
                </a:lnTo>
                <a:lnTo>
                  <a:pt x="234" y="5"/>
                </a:lnTo>
                <a:lnTo>
                  <a:pt x="232" y="5"/>
                </a:lnTo>
                <a:lnTo>
                  <a:pt x="232" y="7"/>
                </a:lnTo>
                <a:lnTo>
                  <a:pt x="232" y="7"/>
                </a:lnTo>
                <a:lnTo>
                  <a:pt x="230" y="9"/>
                </a:lnTo>
                <a:lnTo>
                  <a:pt x="230" y="11"/>
                </a:lnTo>
                <a:lnTo>
                  <a:pt x="230" y="13"/>
                </a:lnTo>
                <a:lnTo>
                  <a:pt x="230" y="13"/>
                </a:lnTo>
                <a:lnTo>
                  <a:pt x="228" y="15"/>
                </a:lnTo>
                <a:lnTo>
                  <a:pt x="228" y="17"/>
                </a:lnTo>
                <a:lnTo>
                  <a:pt x="236" y="15"/>
                </a:lnTo>
                <a:lnTo>
                  <a:pt x="284" y="11"/>
                </a:lnTo>
                <a:lnTo>
                  <a:pt x="334" y="11"/>
                </a:lnTo>
                <a:lnTo>
                  <a:pt x="384" y="11"/>
                </a:lnTo>
                <a:lnTo>
                  <a:pt x="432" y="15"/>
                </a:lnTo>
                <a:lnTo>
                  <a:pt x="481" y="21"/>
                </a:lnTo>
                <a:lnTo>
                  <a:pt x="528" y="30"/>
                </a:lnTo>
                <a:lnTo>
                  <a:pt x="576" y="40"/>
                </a:lnTo>
                <a:lnTo>
                  <a:pt x="610" y="51"/>
                </a:lnTo>
                <a:lnTo>
                  <a:pt x="610" y="49"/>
                </a:lnTo>
                <a:lnTo>
                  <a:pt x="610" y="49"/>
                </a:lnTo>
                <a:lnTo>
                  <a:pt x="612" y="48"/>
                </a:lnTo>
                <a:lnTo>
                  <a:pt x="612" y="48"/>
                </a:lnTo>
                <a:lnTo>
                  <a:pt x="612" y="48"/>
                </a:lnTo>
                <a:lnTo>
                  <a:pt x="614" y="46"/>
                </a:lnTo>
                <a:lnTo>
                  <a:pt x="614" y="46"/>
                </a:lnTo>
                <a:lnTo>
                  <a:pt x="616" y="46"/>
                </a:lnTo>
                <a:lnTo>
                  <a:pt x="616" y="44"/>
                </a:lnTo>
                <a:lnTo>
                  <a:pt x="616" y="44"/>
                </a:lnTo>
                <a:lnTo>
                  <a:pt x="616" y="44"/>
                </a:lnTo>
                <a:lnTo>
                  <a:pt x="616" y="44"/>
                </a:lnTo>
                <a:lnTo>
                  <a:pt x="616" y="42"/>
                </a:lnTo>
                <a:lnTo>
                  <a:pt x="616" y="42"/>
                </a:lnTo>
                <a:lnTo>
                  <a:pt x="616" y="42"/>
                </a:lnTo>
                <a:lnTo>
                  <a:pt x="616" y="42"/>
                </a:lnTo>
                <a:close/>
                <a:moveTo>
                  <a:pt x="2" y="1889"/>
                </a:moveTo>
                <a:lnTo>
                  <a:pt x="44" y="1905"/>
                </a:lnTo>
                <a:lnTo>
                  <a:pt x="90" y="1916"/>
                </a:lnTo>
                <a:lnTo>
                  <a:pt x="138" y="1928"/>
                </a:lnTo>
                <a:lnTo>
                  <a:pt x="186" y="1937"/>
                </a:lnTo>
                <a:lnTo>
                  <a:pt x="234" y="1943"/>
                </a:lnTo>
                <a:lnTo>
                  <a:pt x="284" y="1947"/>
                </a:lnTo>
                <a:lnTo>
                  <a:pt x="334" y="1947"/>
                </a:lnTo>
                <a:lnTo>
                  <a:pt x="384" y="1947"/>
                </a:lnTo>
                <a:lnTo>
                  <a:pt x="434" y="1943"/>
                </a:lnTo>
                <a:lnTo>
                  <a:pt x="481" y="1937"/>
                </a:lnTo>
                <a:lnTo>
                  <a:pt x="529" y="1928"/>
                </a:lnTo>
                <a:lnTo>
                  <a:pt x="577" y="1916"/>
                </a:lnTo>
                <a:lnTo>
                  <a:pt x="624" y="1905"/>
                </a:lnTo>
                <a:lnTo>
                  <a:pt x="643" y="1897"/>
                </a:lnTo>
                <a:lnTo>
                  <a:pt x="643" y="1897"/>
                </a:lnTo>
                <a:lnTo>
                  <a:pt x="641" y="1895"/>
                </a:lnTo>
                <a:lnTo>
                  <a:pt x="641" y="1893"/>
                </a:lnTo>
                <a:lnTo>
                  <a:pt x="639" y="1893"/>
                </a:lnTo>
                <a:lnTo>
                  <a:pt x="637" y="1891"/>
                </a:lnTo>
                <a:lnTo>
                  <a:pt x="637" y="1891"/>
                </a:lnTo>
                <a:lnTo>
                  <a:pt x="635" y="1889"/>
                </a:lnTo>
                <a:lnTo>
                  <a:pt x="635" y="1889"/>
                </a:lnTo>
                <a:lnTo>
                  <a:pt x="620" y="1893"/>
                </a:lnTo>
                <a:lnTo>
                  <a:pt x="576" y="1907"/>
                </a:lnTo>
                <a:lnTo>
                  <a:pt x="528" y="1918"/>
                </a:lnTo>
                <a:lnTo>
                  <a:pt x="481" y="1926"/>
                </a:lnTo>
                <a:lnTo>
                  <a:pt x="432" y="1932"/>
                </a:lnTo>
                <a:lnTo>
                  <a:pt x="384" y="1935"/>
                </a:lnTo>
                <a:lnTo>
                  <a:pt x="334" y="1937"/>
                </a:lnTo>
                <a:lnTo>
                  <a:pt x="284" y="1935"/>
                </a:lnTo>
                <a:lnTo>
                  <a:pt x="236" y="1932"/>
                </a:lnTo>
                <a:lnTo>
                  <a:pt x="188" y="1926"/>
                </a:lnTo>
                <a:lnTo>
                  <a:pt x="140" y="1918"/>
                </a:lnTo>
                <a:lnTo>
                  <a:pt x="94" y="1907"/>
                </a:lnTo>
                <a:lnTo>
                  <a:pt x="48" y="1893"/>
                </a:lnTo>
                <a:lnTo>
                  <a:pt x="2" y="1878"/>
                </a:lnTo>
                <a:lnTo>
                  <a:pt x="0" y="1878"/>
                </a:lnTo>
                <a:lnTo>
                  <a:pt x="0" y="1880"/>
                </a:lnTo>
                <a:lnTo>
                  <a:pt x="0" y="1880"/>
                </a:lnTo>
                <a:lnTo>
                  <a:pt x="0" y="1882"/>
                </a:lnTo>
                <a:lnTo>
                  <a:pt x="0" y="1884"/>
                </a:lnTo>
                <a:lnTo>
                  <a:pt x="2" y="1886"/>
                </a:lnTo>
                <a:lnTo>
                  <a:pt x="2" y="1886"/>
                </a:lnTo>
                <a:lnTo>
                  <a:pt x="2" y="1888"/>
                </a:lnTo>
                <a:lnTo>
                  <a:pt x="2" y="1889"/>
                </a:lnTo>
                <a:close/>
              </a:path>
            </a:pathLst>
          </a:custGeom>
          <a:solidFill>
            <a:srgbClr val="49b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Freeform 346"/>
          <p:cNvSpPr/>
          <p:nvPr/>
        </p:nvSpPr>
        <p:spPr>
          <a:xfrm>
            <a:off x="5813280" y="1704960"/>
            <a:ext cx="1014480" cy="30765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3076560"/>
              <a:gd name="textAreaBottom" fmla="*/ 3076920 h 3076560"/>
            </a:gdLst>
            <a:ahLst/>
            <a:rect l="textAreaLeft" t="textAreaTop" r="textAreaRight" b="textAreaBottom"/>
            <a:pathLst>
              <a:path w="639" h="1938">
                <a:moveTo>
                  <a:pt x="614" y="41"/>
                </a:moveTo>
                <a:lnTo>
                  <a:pt x="576" y="31"/>
                </a:lnTo>
                <a:lnTo>
                  <a:pt x="529" y="19"/>
                </a:lnTo>
                <a:lnTo>
                  <a:pt x="481" y="12"/>
                </a:lnTo>
                <a:lnTo>
                  <a:pt x="434" y="6"/>
                </a:lnTo>
                <a:lnTo>
                  <a:pt x="384" y="2"/>
                </a:lnTo>
                <a:lnTo>
                  <a:pt x="334" y="0"/>
                </a:lnTo>
                <a:lnTo>
                  <a:pt x="284" y="2"/>
                </a:lnTo>
                <a:lnTo>
                  <a:pt x="234" y="6"/>
                </a:lnTo>
                <a:lnTo>
                  <a:pt x="230" y="6"/>
                </a:lnTo>
                <a:lnTo>
                  <a:pt x="230" y="8"/>
                </a:lnTo>
                <a:lnTo>
                  <a:pt x="230" y="8"/>
                </a:lnTo>
                <a:lnTo>
                  <a:pt x="228" y="10"/>
                </a:lnTo>
                <a:lnTo>
                  <a:pt x="228" y="12"/>
                </a:lnTo>
                <a:lnTo>
                  <a:pt x="228" y="12"/>
                </a:lnTo>
                <a:lnTo>
                  <a:pt x="226" y="14"/>
                </a:lnTo>
                <a:lnTo>
                  <a:pt x="226" y="16"/>
                </a:lnTo>
                <a:lnTo>
                  <a:pt x="226" y="18"/>
                </a:lnTo>
                <a:lnTo>
                  <a:pt x="236" y="16"/>
                </a:lnTo>
                <a:lnTo>
                  <a:pt x="284" y="12"/>
                </a:lnTo>
                <a:lnTo>
                  <a:pt x="334" y="10"/>
                </a:lnTo>
                <a:lnTo>
                  <a:pt x="384" y="12"/>
                </a:lnTo>
                <a:lnTo>
                  <a:pt x="432" y="16"/>
                </a:lnTo>
                <a:lnTo>
                  <a:pt x="480" y="21"/>
                </a:lnTo>
                <a:lnTo>
                  <a:pt x="528" y="31"/>
                </a:lnTo>
                <a:lnTo>
                  <a:pt x="574" y="41"/>
                </a:lnTo>
                <a:lnTo>
                  <a:pt x="604" y="50"/>
                </a:lnTo>
                <a:lnTo>
                  <a:pt x="606" y="48"/>
                </a:lnTo>
                <a:lnTo>
                  <a:pt x="606" y="48"/>
                </a:lnTo>
                <a:lnTo>
                  <a:pt x="608" y="46"/>
                </a:lnTo>
                <a:lnTo>
                  <a:pt x="610" y="46"/>
                </a:lnTo>
                <a:lnTo>
                  <a:pt x="610" y="44"/>
                </a:lnTo>
                <a:lnTo>
                  <a:pt x="612" y="43"/>
                </a:lnTo>
                <a:lnTo>
                  <a:pt x="612" y="43"/>
                </a:lnTo>
                <a:lnTo>
                  <a:pt x="614" y="41"/>
                </a:lnTo>
                <a:close/>
                <a:moveTo>
                  <a:pt x="2" y="1879"/>
                </a:moveTo>
                <a:lnTo>
                  <a:pt x="2" y="1879"/>
                </a:lnTo>
                <a:lnTo>
                  <a:pt x="46" y="1894"/>
                </a:lnTo>
                <a:lnTo>
                  <a:pt x="92" y="1907"/>
                </a:lnTo>
                <a:lnTo>
                  <a:pt x="138" y="1917"/>
                </a:lnTo>
                <a:lnTo>
                  <a:pt x="186" y="1927"/>
                </a:lnTo>
                <a:lnTo>
                  <a:pt x="234" y="1932"/>
                </a:lnTo>
                <a:lnTo>
                  <a:pt x="284" y="1936"/>
                </a:lnTo>
                <a:lnTo>
                  <a:pt x="334" y="1938"/>
                </a:lnTo>
                <a:lnTo>
                  <a:pt x="384" y="1936"/>
                </a:lnTo>
                <a:lnTo>
                  <a:pt x="434" y="1932"/>
                </a:lnTo>
                <a:lnTo>
                  <a:pt x="481" y="1927"/>
                </a:lnTo>
                <a:lnTo>
                  <a:pt x="529" y="1917"/>
                </a:lnTo>
                <a:lnTo>
                  <a:pt x="576" y="1907"/>
                </a:lnTo>
                <a:lnTo>
                  <a:pt x="622" y="1894"/>
                </a:lnTo>
                <a:lnTo>
                  <a:pt x="639" y="1888"/>
                </a:lnTo>
                <a:lnTo>
                  <a:pt x="637" y="1886"/>
                </a:lnTo>
                <a:lnTo>
                  <a:pt x="637" y="1886"/>
                </a:lnTo>
                <a:lnTo>
                  <a:pt x="635" y="1884"/>
                </a:lnTo>
                <a:lnTo>
                  <a:pt x="635" y="1884"/>
                </a:lnTo>
                <a:lnTo>
                  <a:pt x="633" y="1883"/>
                </a:lnTo>
                <a:lnTo>
                  <a:pt x="631" y="1883"/>
                </a:lnTo>
                <a:lnTo>
                  <a:pt x="631" y="1881"/>
                </a:lnTo>
                <a:lnTo>
                  <a:pt x="629" y="1881"/>
                </a:lnTo>
                <a:lnTo>
                  <a:pt x="620" y="1884"/>
                </a:lnTo>
                <a:lnTo>
                  <a:pt x="574" y="1896"/>
                </a:lnTo>
                <a:lnTo>
                  <a:pt x="528" y="1907"/>
                </a:lnTo>
                <a:lnTo>
                  <a:pt x="480" y="1915"/>
                </a:lnTo>
                <a:lnTo>
                  <a:pt x="432" y="1921"/>
                </a:lnTo>
                <a:lnTo>
                  <a:pt x="384" y="1925"/>
                </a:lnTo>
                <a:lnTo>
                  <a:pt x="334" y="1927"/>
                </a:lnTo>
                <a:lnTo>
                  <a:pt x="284" y="1925"/>
                </a:lnTo>
                <a:lnTo>
                  <a:pt x="236" y="1921"/>
                </a:lnTo>
                <a:lnTo>
                  <a:pt x="188" y="1915"/>
                </a:lnTo>
                <a:lnTo>
                  <a:pt x="140" y="1907"/>
                </a:lnTo>
                <a:lnTo>
                  <a:pt x="94" y="1896"/>
                </a:lnTo>
                <a:lnTo>
                  <a:pt x="50" y="1884"/>
                </a:lnTo>
                <a:lnTo>
                  <a:pt x="4" y="1869"/>
                </a:lnTo>
                <a:lnTo>
                  <a:pt x="0" y="1867"/>
                </a:lnTo>
                <a:lnTo>
                  <a:pt x="0" y="1867"/>
                </a:lnTo>
                <a:lnTo>
                  <a:pt x="0" y="1869"/>
                </a:lnTo>
                <a:lnTo>
                  <a:pt x="0" y="1871"/>
                </a:lnTo>
                <a:lnTo>
                  <a:pt x="0" y="1873"/>
                </a:lnTo>
                <a:lnTo>
                  <a:pt x="0" y="1875"/>
                </a:lnTo>
                <a:lnTo>
                  <a:pt x="0" y="1875"/>
                </a:lnTo>
                <a:lnTo>
                  <a:pt x="0" y="1877"/>
                </a:lnTo>
                <a:lnTo>
                  <a:pt x="2" y="1879"/>
                </a:lnTo>
                <a:close/>
              </a:path>
            </a:pathLst>
          </a:custGeom>
          <a:solidFill>
            <a:srgbClr val="4ab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Freeform 347"/>
          <p:cNvSpPr/>
          <p:nvPr/>
        </p:nvSpPr>
        <p:spPr>
          <a:xfrm>
            <a:off x="5810400" y="1714680"/>
            <a:ext cx="1011240" cy="305748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3057480"/>
              <a:gd name="textAreaBottom" fmla="*/ 3057840 h 3057480"/>
            </a:gdLst>
            <a:ahLst/>
            <a:rect l="textAreaLeft" t="textAreaTop" r="textAreaRight" b="textAreaBottom"/>
            <a:pathLst>
              <a:path w="637" h="1926">
                <a:moveTo>
                  <a:pt x="612" y="40"/>
                </a:moveTo>
                <a:lnTo>
                  <a:pt x="578" y="29"/>
                </a:lnTo>
                <a:lnTo>
                  <a:pt x="530" y="19"/>
                </a:lnTo>
                <a:lnTo>
                  <a:pt x="483" y="10"/>
                </a:lnTo>
                <a:lnTo>
                  <a:pt x="434" y="4"/>
                </a:lnTo>
                <a:lnTo>
                  <a:pt x="386" y="0"/>
                </a:lnTo>
                <a:lnTo>
                  <a:pt x="336" y="0"/>
                </a:lnTo>
                <a:lnTo>
                  <a:pt x="286" y="0"/>
                </a:lnTo>
                <a:lnTo>
                  <a:pt x="238" y="4"/>
                </a:lnTo>
                <a:lnTo>
                  <a:pt x="230" y="6"/>
                </a:lnTo>
                <a:lnTo>
                  <a:pt x="230" y="6"/>
                </a:lnTo>
                <a:lnTo>
                  <a:pt x="228" y="8"/>
                </a:lnTo>
                <a:lnTo>
                  <a:pt x="228" y="10"/>
                </a:lnTo>
                <a:lnTo>
                  <a:pt x="228" y="12"/>
                </a:lnTo>
                <a:lnTo>
                  <a:pt x="226" y="12"/>
                </a:lnTo>
                <a:lnTo>
                  <a:pt x="226" y="13"/>
                </a:lnTo>
                <a:lnTo>
                  <a:pt x="226" y="15"/>
                </a:lnTo>
                <a:lnTo>
                  <a:pt x="226" y="17"/>
                </a:lnTo>
                <a:lnTo>
                  <a:pt x="238" y="15"/>
                </a:lnTo>
                <a:lnTo>
                  <a:pt x="288" y="12"/>
                </a:lnTo>
                <a:lnTo>
                  <a:pt x="336" y="10"/>
                </a:lnTo>
                <a:lnTo>
                  <a:pt x="386" y="12"/>
                </a:lnTo>
                <a:lnTo>
                  <a:pt x="434" y="15"/>
                </a:lnTo>
                <a:lnTo>
                  <a:pt x="482" y="21"/>
                </a:lnTo>
                <a:lnTo>
                  <a:pt x="528" y="29"/>
                </a:lnTo>
                <a:lnTo>
                  <a:pt x="574" y="40"/>
                </a:lnTo>
                <a:lnTo>
                  <a:pt x="602" y="48"/>
                </a:lnTo>
                <a:lnTo>
                  <a:pt x="604" y="48"/>
                </a:lnTo>
                <a:lnTo>
                  <a:pt x="604" y="46"/>
                </a:lnTo>
                <a:lnTo>
                  <a:pt x="606" y="44"/>
                </a:lnTo>
                <a:lnTo>
                  <a:pt x="606" y="44"/>
                </a:lnTo>
                <a:lnTo>
                  <a:pt x="608" y="42"/>
                </a:lnTo>
                <a:lnTo>
                  <a:pt x="608" y="42"/>
                </a:lnTo>
                <a:lnTo>
                  <a:pt x="610" y="40"/>
                </a:lnTo>
                <a:lnTo>
                  <a:pt x="612" y="40"/>
                </a:lnTo>
                <a:close/>
                <a:moveTo>
                  <a:pt x="2" y="1867"/>
                </a:moveTo>
                <a:lnTo>
                  <a:pt x="4" y="1867"/>
                </a:lnTo>
                <a:lnTo>
                  <a:pt x="50" y="1882"/>
                </a:lnTo>
                <a:lnTo>
                  <a:pt x="96" y="1896"/>
                </a:lnTo>
                <a:lnTo>
                  <a:pt x="142" y="1907"/>
                </a:lnTo>
                <a:lnTo>
                  <a:pt x="190" y="1915"/>
                </a:lnTo>
                <a:lnTo>
                  <a:pt x="238" y="1921"/>
                </a:lnTo>
                <a:lnTo>
                  <a:pt x="286" y="1924"/>
                </a:lnTo>
                <a:lnTo>
                  <a:pt x="336" y="1926"/>
                </a:lnTo>
                <a:lnTo>
                  <a:pt x="386" y="1924"/>
                </a:lnTo>
                <a:lnTo>
                  <a:pt x="434" y="1921"/>
                </a:lnTo>
                <a:lnTo>
                  <a:pt x="483" y="1915"/>
                </a:lnTo>
                <a:lnTo>
                  <a:pt x="530" y="1907"/>
                </a:lnTo>
                <a:lnTo>
                  <a:pt x="578" y="1896"/>
                </a:lnTo>
                <a:lnTo>
                  <a:pt x="622" y="1882"/>
                </a:lnTo>
                <a:lnTo>
                  <a:pt x="637" y="1878"/>
                </a:lnTo>
                <a:lnTo>
                  <a:pt x="635" y="1877"/>
                </a:lnTo>
                <a:lnTo>
                  <a:pt x="633" y="1877"/>
                </a:lnTo>
                <a:lnTo>
                  <a:pt x="633" y="1875"/>
                </a:lnTo>
                <a:lnTo>
                  <a:pt x="631" y="1875"/>
                </a:lnTo>
                <a:lnTo>
                  <a:pt x="631" y="1873"/>
                </a:lnTo>
                <a:lnTo>
                  <a:pt x="629" y="1873"/>
                </a:lnTo>
                <a:lnTo>
                  <a:pt x="629" y="1871"/>
                </a:lnTo>
                <a:lnTo>
                  <a:pt x="627" y="1871"/>
                </a:lnTo>
                <a:lnTo>
                  <a:pt x="620" y="1873"/>
                </a:lnTo>
                <a:lnTo>
                  <a:pt x="574" y="1886"/>
                </a:lnTo>
                <a:lnTo>
                  <a:pt x="528" y="1896"/>
                </a:lnTo>
                <a:lnTo>
                  <a:pt x="482" y="1905"/>
                </a:lnTo>
                <a:lnTo>
                  <a:pt x="434" y="1911"/>
                </a:lnTo>
                <a:lnTo>
                  <a:pt x="386" y="1915"/>
                </a:lnTo>
                <a:lnTo>
                  <a:pt x="336" y="1915"/>
                </a:lnTo>
                <a:lnTo>
                  <a:pt x="288" y="1915"/>
                </a:lnTo>
                <a:lnTo>
                  <a:pt x="238" y="1911"/>
                </a:lnTo>
                <a:lnTo>
                  <a:pt x="190" y="1905"/>
                </a:lnTo>
                <a:lnTo>
                  <a:pt x="144" y="1896"/>
                </a:lnTo>
                <a:lnTo>
                  <a:pt x="98" y="1886"/>
                </a:lnTo>
                <a:lnTo>
                  <a:pt x="52" y="1873"/>
                </a:lnTo>
                <a:lnTo>
                  <a:pt x="7" y="1857"/>
                </a:lnTo>
                <a:lnTo>
                  <a:pt x="0" y="1854"/>
                </a:lnTo>
                <a:lnTo>
                  <a:pt x="0" y="1855"/>
                </a:lnTo>
                <a:lnTo>
                  <a:pt x="0" y="1857"/>
                </a:lnTo>
                <a:lnTo>
                  <a:pt x="0" y="1859"/>
                </a:lnTo>
                <a:lnTo>
                  <a:pt x="2" y="1861"/>
                </a:lnTo>
                <a:lnTo>
                  <a:pt x="2" y="1861"/>
                </a:lnTo>
                <a:lnTo>
                  <a:pt x="2" y="1863"/>
                </a:lnTo>
                <a:lnTo>
                  <a:pt x="2" y="1865"/>
                </a:lnTo>
                <a:lnTo>
                  <a:pt x="2" y="1867"/>
                </a:lnTo>
                <a:close/>
              </a:path>
            </a:pathLst>
          </a:custGeom>
          <a:solidFill>
            <a:srgbClr val="4b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Freeform 348"/>
          <p:cNvSpPr/>
          <p:nvPr/>
        </p:nvSpPr>
        <p:spPr>
          <a:xfrm>
            <a:off x="5810400" y="1720800"/>
            <a:ext cx="1001520" cy="3043440"/>
          </a:xfrm>
          <a:custGeom>
            <a:avLst/>
            <a:gdLst>
              <a:gd name="textAreaLeft" fmla="*/ 0 w 1001520"/>
              <a:gd name="textAreaRight" fmla="*/ 1001880 w 1001520"/>
              <a:gd name="textAreaTop" fmla="*/ 0 h 3043440"/>
              <a:gd name="textAreaBottom" fmla="*/ 3043800 h 3043440"/>
            </a:gdLst>
            <a:ahLst/>
            <a:rect l="textAreaLeft" t="textAreaTop" r="textAreaRight" b="textAreaBottom"/>
            <a:pathLst>
              <a:path w="631" h="1917">
                <a:moveTo>
                  <a:pt x="606" y="40"/>
                </a:moveTo>
                <a:lnTo>
                  <a:pt x="576" y="31"/>
                </a:lnTo>
                <a:lnTo>
                  <a:pt x="530" y="21"/>
                </a:lnTo>
                <a:lnTo>
                  <a:pt x="482" y="11"/>
                </a:lnTo>
                <a:lnTo>
                  <a:pt x="434" y="6"/>
                </a:lnTo>
                <a:lnTo>
                  <a:pt x="386" y="2"/>
                </a:lnTo>
                <a:lnTo>
                  <a:pt x="336" y="0"/>
                </a:lnTo>
                <a:lnTo>
                  <a:pt x="286" y="2"/>
                </a:lnTo>
                <a:lnTo>
                  <a:pt x="238" y="6"/>
                </a:lnTo>
                <a:lnTo>
                  <a:pt x="228" y="8"/>
                </a:lnTo>
                <a:lnTo>
                  <a:pt x="226" y="8"/>
                </a:lnTo>
                <a:lnTo>
                  <a:pt x="226" y="9"/>
                </a:lnTo>
                <a:lnTo>
                  <a:pt x="226" y="11"/>
                </a:lnTo>
                <a:lnTo>
                  <a:pt x="226" y="13"/>
                </a:lnTo>
                <a:lnTo>
                  <a:pt x="224" y="13"/>
                </a:lnTo>
                <a:lnTo>
                  <a:pt x="224" y="15"/>
                </a:lnTo>
                <a:lnTo>
                  <a:pt x="224" y="17"/>
                </a:lnTo>
                <a:lnTo>
                  <a:pt x="222" y="19"/>
                </a:lnTo>
                <a:lnTo>
                  <a:pt x="240" y="17"/>
                </a:lnTo>
                <a:lnTo>
                  <a:pt x="288" y="13"/>
                </a:lnTo>
                <a:lnTo>
                  <a:pt x="336" y="11"/>
                </a:lnTo>
                <a:lnTo>
                  <a:pt x="384" y="13"/>
                </a:lnTo>
                <a:lnTo>
                  <a:pt x="434" y="17"/>
                </a:lnTo>
                <a:lnTo>
                  <a:pt x="480" y="23"/>
                </a:lnTo>
                <a:lnTo>
                  <a:pt x="528" y="31"/>
                </a:lnTo>
                <a:lnTo>
                  <a:pt x="572" y="42"/>
                </a:lnTo>
                <a:lnTo>
                  <a:pt x="599" y="48"/>
                </a:lnTo>
                <a:lnTo>
                  <a:pt x="599" y="48"/>
                </a:lnTo>
                <a:lnTo>
                  <a:pt x="601" y="46"/>
                </a:lnTo>
                <a:lnTo>
                  <a:pt x="601" y="46"/>
                </a:lnTo>
                <a:lnTo>
                  <a:pt x="602" y="44"/>
                </a:lnTo>
                <a:lnTo>
                  <a:pt x="604" y="44"/>
                </a:lnTo>
                <a:lnTo>
                  <a:pt x="604" y="42"/>
                </a:lnTo>
                <a:lnTo>
                  <a:pt x="606" y="40"/>
                </a:lnTo>
                <a:lnTo>
                  <a:pt x="606" y="40"/>
                </a:lnTo>
                <a:close/>
                <a:moveTo>
                  <a:pt x="2" y="1857"/>
                </a:moveTo>
                <a:lnTo>
                  <a:pt x="6" y="1859"/>
                </a:lnTo>
                <a:lnTo>
                  <a:pt x="52" y="1874"/>
                </a:lnTo>
                <a:lnTo>
                  <a:pt x="96" y="1886"/>
                </a:lnTo>
                <a:lnTo>
                  <a:pt x="142" y="1897"/>
                </a:lnTo>
                <a:lnTo>
                  <a:pt x="190" y="1905"/>
                </a:lnTo>
                <a:lnTo>
                  <a:pt x="238" y="1911"/>
                </a:lnTo>
                <a:lnTo>
                  <a:pt x="286" y="1915"/>
                </a:lnTo>
                <a:lnTo>
                  <a:pt x="336" y="1917"/>
                </a:lnTo>
                <a:lnTo>
                  <a:pt x="386" y="1915"/>
                </a:lnTo>
                <a:lnTo>
                  <a:pt x="434" y="1911"/>
                </a:lnTo>
                <a:lnTo>
                  <a:pt x="482" y="1905"/>
                </a:lnTo>
                <a:lnTo>
                  <a:pt x="530" y="1897"/>
                </a:lnTo>
                <a:lnTo>
                  <a:pt x="576" y="1886"/>
                </a:lnTo>
                <a:lnTo>
                  <a:pt x="622" y="1874"/>
                </a:lnTo>
                <a:lnTo>
                  <a:pt x="631" y="1871"/>
                </a:lnTo>
                <a:lnTo>
                  <a:pt x="631" y="1869"/>
                </a:lnTo>
                <a:lnTo>
                  <a:pt x="629" y="1869"/>
                </a:lnTo>
                <a:lnTo>
                  <a:pt x="629" y="1867"/>
                </a:lnTo>
                <a:lnTo>
                  <a:pt x="627" y="1867"/>
                </a:lnTo>
                <a:lnTo>
                  <a:pt x="626" y="1865"/>
                </a:lnTo>
                <a:lnTo>
                  <a:pt x="626" y="1863"/>
                </a:lnTo>
                <a:lnTo>
                  <a:pt x="624" y="1863"/>
                </a:lnTo>
                <a:lnTo>
                  <a:pt x="624" y="1861"/>
                </a:lnTo>
                <a:lnTo>
                  <a:pt x="618" y="1863"/>
                </a:lnTo>
                <a:lnTo>
                  <a:pt x="572" y="1876"/>
                </a:lnTo>
                <a:lnTo>
                  <a:pt x="528" y="1886"/>
                </a:lnTo>
                <a:lnTo>
                  <a:pt x="480" y="1896"/>
                </a:lnTo>
                <a:lnTo>
                  <a:pt x="434" y="1901"/>
                </a:lnTo>
                <a:lnTo>
                  <a:pt x="384" y="1905"/>
                </a:lnTo>
                <a:lnTo>
                  <a:pt x="336" y="1907"/>
                </a:lnTo>
                <a:lnTo>
                  <a:pt x="288" y="1905"/>
                </a:lnTo>
                <a:lnTo>
                  <a:pt x="240" y="1901"/>
                </a:lnTo>
                <a:lnTo>
                  <a:pt x="192" y="1896"/>
                </a:lnTo>
                <a:lnTo>
                  <a:pt x="146" y="1886"/>
                </a:lnTo>
                <a:lnTo>
                  <a:pt x="100" y="1876"/>
                </a:lnTo>
                <a:lnTo>
                  <a:pt x="54" y="1863"/>
                </a:lnTo>
                <a:lnTo>
                  <a:pt x="9" y="1850"/>
                </a:lnTo>
                <a:lnTo>
                  <a:pt x="0" y="1844"/>
                </a:lnTo>
                <a:lnTo>
                  <a:pt x="0" y="1846"/>
                </a:lnTo>
                <a:lnTo>
                  <a:pt x="0" y="1848"/>
                </a:lnTo>
                <a:lnTo>
                  <a:pt x="0" y="1850"/>
                </a:lnTo>
                <a:lnTo>
                  <a:pt x="0" y="1850"/>
                </a:lnTo>
                <a:lnTo>
                  <a:pt x="0" y="1851"/>
                </a:lnTo>
                <a:lnTo>
                  <a:pt x="0" y="1853"/>
                </a:lnTo>
                <a:lnTo>
                  <a:pt x="0" y="1855"/>
                </a:lnTo>
                <a:lnTo>
                  <a:pt x="2" y="1857"/>
                </a:lnTo>
                <a:close/>
              </a:path>
            </a:pathLst>
          </a:custGeom>
          <a:solidFill>
            <a:srgbClr val="4c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Freeform 349"/>
          <p:cNvSpPr/>
          <p:nvPr/>
        </p:nvSpPr>
        <p:spPr>
          <a:xfrm>
            <a:off x="5807160" y="1730520"/>
            <a:ext cx="998280" cy="3024000"/>
          </a:xfrm>
          <a:custGeom>
            <a:avLst/>
            <a:gdLst>
              <a:gd name="textAreaLeft" fmla="*/ 0 w 998280"/>
              <a:gd name="textAreaRight" fmla="*/ 998640 w 998280"/>
              <a:gd name="textAreaTop" fmla="*/ 0 h 3024000"/>
              <a:gd name="textAreaBottom" fmla="*/ 3024360 h 3024000"/>
            </a:gdLst>
            <a:ahLst/>
            <a:rect l="textAreaLeft" t="textAreaTop" r="textAreaRight" b="textAreaBottom"/>
            <a:pathLst>
              <a:path w="629" h="1905">
                <a:moveTo>
                  <a:pt x="604" y="38"/>
                </a:moveTo>
                <a:lnTo>
                  <a:pt x="576" y="30"/>
                </a:lnTo>
                <a:lnTo>
                  <a:pt x="530" y="19"/>
                </a:lnTo>
                <a:lnTo>
                  <a:pt x="484" y="11"/>
                </a:lnTo>
                <a:lnTo>
                  <a:pt x="436" y="5"/>
                </a:lnTo>
                <a:lnTo>
                  <a:pt x="388" y="2"/>
                </a:lnTo>
                <a:lnTo>
                  <a:pt x="338" y="0"/>
                </a:lnTo>
                <a:lnTo>
                  <a:pt x="290" y="2"/>
                </a:lnTo>
                <a:lnTo>
                  <a:pt x="240" y="5"/>
                </a:lnTo>
                <a:lnTo>
                  <a:pt x="228" y="7"/>
                </a:lnTo>
                <a:lnTo>
                  <a:pt x="226" y="7"/>
                </a:lnTo>
                <a:lnTo>
                  <a:pt x="226" y="9"/>
                </a:lnTo>
                <a:lnTo>
                  <a:pt x="226" y="11"/>
                </a:lnTo>
                <a:lnTo>
                  <a:pt x="224" y="13"/>
                </a:lnTo>
                <a:lnTo>
                  <a:pt x="224" y="13"/>
                </a:lnTo>
                <a:lnTo>
                  <a:pt x="224" y="15"/>
                </a:lnTo>
                <a:lnTo>
                  <a:pt x="223" y="17"/>
                </a:lnTo>
                <a:lnTo>
                  <a:pt x="223" y="19"/>
                </a:lnTo>
                <a:lnTo>
                  <a:pt x="242" y="15"/>
                </a:lnTo>
                <a:lnTo>
                  <a:pt x="290" y="11"/>
                </a:lnTo>
                <a:lnTo>
                  <a:pt x="338" y="11"/>
                </a:lnTo>
                <a:lnTo>
                  <a:pt x="386" y="11"/>
                </a:lnTo>
                <a:lnTo>
                  <a:pt x="434" y="15"/>
                </a:lnTo>
                <a:lnTo>
                  <a:pt x="482" y="21"/>
                </a:lnTo>
                <a:lnTo>
                  <a:pt x="528" y="30"/>
                </a:lnTo>
                <a:lnTo>
                  <a:pt x="574" y="40"/>
                </a:lnTo>
                <a:lnTo>
                  <a:pt x="597" y="48"/>
                </a:lnTo>
                <a:lnTo>
                  <a:pt x="597" y="46"/>
                </a:lnTo>
                <a:lnTo>
                  <a:pt x="599" y="44"/>
                </a:lnTo>
                <a:lnTo>
                  <a:pt x="599" y="44"/>
                </a:lnTo>
                <a:lnTo>
                  <a:pt x="601" y="42"/>
                </a:lnTo>
                <a:lnTo>
                  <a:pt x="601" y="42"/>
                </a:lnTo>
                <a:lnTo>
                  <a:pt x="603" y="40"/>
                </a:lnTo>
                <a:lnTo>
                  <a:pt x="603" y="40"/>
                </a:lnTo>
                <a:lnTo>
                  <a:pt x="604" y="38"/>
                </a:lnTo>
                <a:close/>
                <a:moveTo>
                  <a:pt x="2" y="1844"/>
                </a:moveTo>
                <a:lnTo>
                  <a:pt x="9" y="1847"/>
                </a:lnTo>
                <a:lnTo>
                  <a:pt x="54" y="1863"/>
                </a:lnTo>
                <a:lnTo>
                  <a:pt x="100" y="1876"/>
                </a:lnTo>
                <a:lnTo>
                  <a:pt x="146" y="1886"/>
                </a:lnTo>
                <a:lnTo>
                  <a:pt x="192" y="1895"/>
                </a:lnTo>
                <a:lnTo>
                  <a:pt x="240" y="1901"/>
                </a:lnTo>
                <a:lnTo>
                  <a:pt x="290" y="1905"/>
                </a:lnTo>
                <a:lnTo>
                  <a:pt x="338" y="1905"/>
                </a:lnTo>
                <a:lnTo>
                  <a:pt x="388" y="1905"/>
                </a:lnTo>
                <a:lnTo>
                  <a:pt x="436" y="1901"/>
                </a:lnTo>
                <a:lnTo>
                  <a:pt x="484" y="1895"/>
                </a:lnTo>
                <a:lnTo>
                  <a:pt x="530" y="1886"/>
                </a:lnTo>
                <a:lnTo>
                  <a:pt x="576" y="1876"/>
                </a:lnTo>
                <a:lnTo>
                  <a:pt x="622" y="1863"/>
                </a:lnTo>
                <a:lnTo>
                  <a:pt x="629" y="1861"/>
                </a:lnTo>
                <a:lnTo>
                  <a:pt x="628" y="1859"/>
                </a:lnTo>
                <a:lnTo>
                  <a:pt x="628" y="1857"/>
                </a:lnTo>
                <a:lnTo>
                  <a:pt x="626" y="1857"/>
                </a:lnTo>
                <a:lnTo>
                  <a:pt x="626" y="1855"/>
                </a:lnTo>
                <a:lnTo>
                  <a:pt x="624" y="1855"/>
                </a:lnTo>
                <a:lnTo>
                  <a:pt x="624" y="1853"/>
                </a:lnTo>
                <a:lnTo>
                  <a:pt x="622" y="1853"/>
                </a:lnTo>
                <a:lnTo>
                  <a:pt x="620" y="1851"/>
                </a:lnTo>
                <a:lnTo>
                  <a:pt x="618" y="1853"/>
                </a:lnTo>
                <a:lnTo>
                  <a:pt x="574" y="1865"/>
                </a:lnTo>
                <a:lnTo>
                  <a:pt x="528" y="1876"/>
                </a:lnTo>
                <a:lnTo>
                  <a:pt x="482" y="1884"/>
                </a:lnTo>
                <a:lnTo>
                  <a:pt x="434" y="1890"/>
                </a:lnTo>
                <a:lnTo>
                  <a:pt x="386" y="1893"/>
                </a:lnTo>
                <a:lnTo>
                  <a:pt x="338" y="1895"/>
                </a:lnTo>
                <a:lnTo>
                  <a:pt x="290" y="1893"/>
                </a:lnTo>
                <a:lnTo>
                  <a:pt x="242" y="1890"/>
                </a:lnTo>
                <a:lnTo>
                  <a:pt x="194" y="1884"/>
                </a:lnTo>
                <a:lnTo>
                  <a:pt x="148" y="1876"/>
                </a:lnTo>
                <a:lnTo>
                  <a:pt x="102" y="1865"/>
                </a:lnTo>
                <a:lnTo>
                  <a:pt x="57" y="1853"/>
                </a:lnTo>
                <a:lnTo>
                  <a:pt x="13" y="1838"/>
                </a:lnTo>
                <a:lnTo>
                  <a:pt x="0" y="1832"/>
                </a:lnTo>
                <a:lnTo>
                  <a:pt x="0" y="1834"/>
                </a:lnTo>
                <a:lnTo>
                  <a:pt x="0" y="1836"/>
                </a:lnTo>
                <a:lnTo>
                  <a:pt x="2" y="1838"/>
                </a:lnTo>
                <a:lnTo>
                  <a:pt x="2" y="1838"/>
                </a:lnTo>
                <a:lnTo>
                  <a:pt x="2" y="1840"/>
                </a:lnTo>
                <a:lnTo>
                  <a:pt x="2" y="1842"/>
                </a:lnTo>
                <a:lnTo>
                  <a:pt x="2" y="1844"/>
                </a:lnTo>
                <a:lnTo>
                  <a:pt x="2" y="1844"/>
                </a:lnTo>
                <a:close/>
              </a:path>
            </a:pathLst>
          </a:custGeom>
          <a:solidFill>
            <a:srgbClr val="4d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Freeform 350"/>
          <p:cNvSpPr/>
          <p:nvPr/>
        </p:nvSpPr>
        <p:spPr>
          <a:xfrm>
            <a:off x="5807160" y="1738440"/>
            <a:ext cx="993600" cy="3009600"/>
          </a:xfrm>
          <a:custGeom>
            <a:avLst/>
            <a:gdLst>
              <a:gd name="textAreaLeft" fmla="*/ 0 w 993600"/>
              <a:gd name="textAreaRight" fmla="*/ 993960 w 993600"/>
              <a:gd name="textAreaTop" fmla="*/ 0 h 3009600"/>
              <a:gd name="textAreaBottom" fmla="*/ 3009960 h 3009600"/>
            </a:gdLst>
            <a:ahLst/>
            <a:rect l="textAreaLeft" t="textAreaTop" r="textAreaRight" b="textAreaBottom"/>
            <a:pathLst>
              <a:path w="626" h="1896">
                <a:moveTo>
                  <a:pt x="601" y="37"/>
                </a:moveTo>
                <a:lnTo>
                  <a:pt x="574" y="31"/>
                </a:lnTo>
                <a:lnTo>
                  <a:pt x="530" y="20"/>
                </a:lnTo>
                <a:lnTo>
                  <a:pt x="482" y="12"/>
                </a:lnTo>
                <a:lnTo>
                  <a:pt x="436" y="6"/>
                </a:lnTo>
                <a:lnTo>
                  <a:pt x="386" y="2"/>
                </a:lnTo>
                <a:lnTo>
                  <a:pt x="338" y="0"/>
                </a:lnTo>
                <a:lnTo>
                  <a:pt x="290" y="2"/>
                </a:lnTo>
                <a:lnTo>
                  <a:pt x="242" y="6"/>
                </a:lnTo>
                <a:lnTo>
                  <a:pt x="224" y="8"/>
                </a:lnTo>
                <a:lnTo>
                  <a:pt x="224" y="8"/>
                </a:lnTo>
                <a:lnTo>
                  <a:pt x="224" y="10"/>
                </a:lnTo>
                <a:lnTo>
                  <a:pt x="223" y="12"/>
                </a:lnTo>
                <a:lnTo>
                  <a:pt x="223" y="14"/>
                </a:lnTo>
                <a:lnTo>
                  <a:pt x="223" y="14"/>
                </a:lnTo>
                <a:lnTo>
                  <a:pt x="223" y="16"/>
                </a:lnTo>
                <a:lnTo>
                  <a:pt x="221" y="18"/>
                </a:lnTo>
                <a:lnTo>
                  <a:pt x="221" y="18"/>
                </a:lnTo>
                <a:lnTo>
                  <a:pt x="242" y="16"/>
                </a:lnTo>
                <a:lnTo>
                  <a:pt x="290" y="12"/>
                </a:lnTo>
                <a:lnTo>
                  <a:pt x="338" y="12"/>
                </a:lnTo>
                <a:lnTo>
                  <a:pt x="386" y="12"/>
                </a:lnTo>
                <a:lnTo>
                  <a:pt x="434" y="16"/>
                </a:lnTo>
                <a:lnTo>
                  <a:pt x="480" y="22"/>
                </a:lnTo>
                <a:lnTo>
                  <a:pt x="526" y="29"/>
                </a:lnTo>
                <a:lnTo>
                  <a:pt x="572" y="41"/>
                </a:lnTo>
                <a:lnTo>
                  <a:pt x="591" y="46"/>
                </a:lnTo>
                <a:lnTo>
                  <a:pt x="593" y="45"/>
                </a:lnTo>
                <a:lnTo>
                  <a:pt x="593" y="45"/>
                </a:lnTo>
                <a:lnTo>
                  <a:pt x="595" y="43"/>
                </a:lnTo>
                <a:lnTo>
                  <a:pt x="597" y="43"/>
                </a:lnTo>
                <a:lnTo>
                  <a:pt x="597" y="41"/>
                </a:lnTo>
                <a:lnTo>
                  <a:pt x="599" y="39"/>
                </a:lnTo>
                <a:lnTo>
                  <a:pt x="599" y="39"/>
                </a:lnTo>
                <a:lnTo>
                  <a:pt x="601" y="37"/>
                </a:lnTo>
                <a:close/>
                <a:moveTo>
                  <a:pt x="2" y="1833"/>
                </a:moveTo>
                <a:lnTo>
                  <a:pt x="11" y="1839"/>
                </a:lnTo>
                <a:lnTo>
                  <a:pt x="56" y="1852"/>
                </a:lnTo>
                <a:lnTo>
                  <a:pt x="102" y="1865"/>
                </a:lnTo>
                <a:lnTo>
                  <a:pt x="148" y="1875"/>
                </a:lnTo>
                <a:lnTo>
                  <a:pt x="194" y="1885"/>
                </a:lnTo>
                <a:lnTo>
                  <a:pt x="242" y="1890"/>
                </a:lnTo>
                <a:lnTo>
                  <a:pt x="290" y="1894"/>
                </a:lnTo>
                <a:lnTo>
                  <a:pt x="338" y="1896"/>
                </a:lnTo>
                <a:lnTo>
                  <a:pt x="386" y="1894"/>
                </a:lnTo>
                <a:lnTo>
                  <a:pt x="436" y="1890"/>
                </a:lnTo>
                <a:lnTo>
                  <a:pt x="482" y="1885"/>
                </a:lnTo>
                <a:lnTo>
                  <a:pt x="530" y="1875"/>
                </a:lnTo>
                <a:lnTo>
                  <a:pt x="574" y="1865"/>
                </a:lnTo>
                <a:lnTo>
                  <a:pt x="620" y="1852"/>
                </a:lnTo>
                <a:lnTo>
                  <a:pt x="626" y="1850"/>
                </a:lnTo>
                <a:lnTo>
                  <a:pt x="624" y="1850"/>
                </a:lnTo>
                <a:lnTo>
                  <a:pt x="624" y="1848"/>
                </a:lnTo>
                <a:lnTo>
                  <a:pt x="622" y="1848"/>
                </a:lnTo>
                <a:lnTo>
                  <a:pt x="620" y="1846"/>
                </a:lnTo>
                <a:lnTo>
                  <a:pt x="620" y="1846"/>
                </a:lnTo>
                <a:lnTo>
                  <a:pt x="618" y="1844"/>
                </a:lnTo>
                <a:lnTo>
                  <a:pt x="618" y="1844"/>
                </a:lnTo>
                <a:lnTo>
                  <a:pt x="616" y="1842"/>
                </a:lnTo>
                <a:lnTo>
                  <a:pt x="572" y="1856"/>
                </a:lnTo>
                <a:lnTo>
                  <a:pt x="526" y="1865"/>
                </a:lnTo>
                <a:lnTo>
                  <a:pt x="480" y="1873"/>
                </a:lnTo>
                <a:lnTo>
                  <a:pt x="434" y="1879"/>
                </a:lnTo>
                <a:lnTo>
                  <a:pt x="386" y="1883"/>
                </a:lnTo>
                <a:lnTo>
                  <a:pt x="338" y="1885"/>
                </a:lnTo>
                <a:lnTo>
                  <a:pt x="290" y="1883"/>
                </a:lnTo>
                <a:lnTo>
                  <a:pt x="242" y="1879"/>
                </a:lnTo>
                <a:lnTo>
                  <a:pt x="196" y="1873"/>
                </a:lnTo>
                <a:lnTo>
                  <a:pt x="150" y="1865"/>
                </a:lnTo>
                <a:lnTo>
                  <a:pt x="104" y="1856"/>
                </a:lnTo>
                <a:lnTo>
                  <a:pt x="59" y="1842"/>
                </a:lnTo>
                <a:lnTo>
                  <a:pt x="15" y="1827"/>
                </a:lnTo>
                <a:lnTo>
                  <a:pt x="0" y="1821"/>
                </a:lnTo>
                <a:lnTo>
                  <a:pt x="0" y="1823"/>
                </a:lnTo>
                <a:lnTo>
                  <a:pt x="0" y="1825"/>
                </a:lnTo>
                <a:lnTo>
                  <a:pt x="0" y="1825"/>
                </a:lnTo>
                <a:lnTo>
                  <a:pt x="0" y="1827"/>
                </a:lnTo>
                <a:lnTo>
                  <a:pt x="0" y="1829"/>
                </a:lnTo>
                <a:lnTo>
                  <a:pt x="0" y="1831"/>
                </a:lnTo>
                <a:lnTo>
                  <a:pt x="2" y="1833"/>
                </a:lnTo>
                <a:lnTo>
                  <a:pt x="2" y="1833"/>
                </a:lnTo>
                <a:close/>
              </a:path>
            </a:pathLst>
          </a:custGeom>
          <a:solidFill>
            <a:srgbClr val="4e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Freeform 351"/>
          <p:cNvSpPr/>
          <p:nvPr/>
        </p:nvSpPr>
        <p:spPr>
          <a:xfrm>
            <a:off x="5803920" y="1747800"/>
            <a:ext cx="987480" cy="2990880"/>
          </a:xfrm>
          <a:custGeom>
            <a:avLst/>
            <a:gdLst>
              <a:gd name="textAreaLeft" fmla="*/ 0 w 987480"/>
              <a:gd name="textAreaRight" fmla="*/ 987840 w 987480"/>
              <a:gd name="textAreaTop" fmla="*/ 0 h 2990880"/>
              <a:gd name="textAreaBottom" fmla="*/ 2991240 h 2990880"/>
            </a:gdLst>
            <a:ahLst/>
            <a:rect l="textAreaLeft" t="textAreaTop" r="textAreaRight" b="textAreaBottom"/>
            <a:pathLst>
              <a:path w="622" h="1884">
                <a:moveTo>
                  <a:pt x="599" y="37"/>
                </a:moveTo>
                <a:lnTo>
                  <a:pt x="576" y="29"/>
                </a:lnTo>
                <a:lnTo>
                  <a:pt x="530" y="19"/>
                </a:lnTo>
                <a:lnTo>
                  <a:pt x="484" y="10"/>
                </a:lnTo>
                <a:lnTo>
                  <a:pt x="436" y="4"/>
                </a:lnTo>
                <a:lnTo>
                  <a:pt x="388" y="0"/>
                </a:lnTo>
                <a:lnTo>
                  <a:pt x="340" y="0"/>
                </a:lnTo>
                <a:lnTo>
                  <a:pt x="292" y="0"/>
                </a:lnTo>
                <a:lnTo>
                  <a:pt x="244" y="4"/>
                </a:lnTo>
                <a:lnTo>
                  <a:pt x="225" y="8"/>
                </a:lnTo>
                <a:lnTo>
                  <a:pt x="225" y="8"/>
                </a:lnTo>
                <a:lnTo>
                  <a:pt x="225" y="10"/>
                </a:lnTo>
                <a:lnTo>
                  <a:pt x="223" y="12"/>
                </a:lnTo>
                <a:lnTo>
                  <a:pt x="223" y="12"/>
                </a:lnTo>
                <a:lnTo>
                  <a:pt x="223" y="14"/>
                </a:lnTo>
                <a:lnTo>
                  <a:pt x="221" y="16"/>
                </a:lnTo>
                <a:lnTo>
                  <a:pt x="221" y="17"/>
                </a:lnTo>
                <a:lnTo>
                  <a:pt x="221" y="17"/>
                </a:lnTo>
                <a:lnTo>
                  <a:pt x="244" y="16"/>
                </a:lnTo>
                <a:lnTo>
                  <a:pt x="292" y="12"/>
                </a:lnTo>
                <a:lnTo>
                  <a:pt x="340" y="10"/>
                </a:lnTo>
                <a:lnTo>
                  <a:pt x="388" y="12"/>
                </a:lnTo>
                <a:lnTo>
                  <a:pt x="436" y="16"/>
                </a:lnTo>
                <a:lnTo>
                  <a:pt x="482" y="21"/>
                </a:lnTo>
                <a:lnTo>
                  <a:pt x="528" y="29"/>
                </a:lnTo>
                <a:lnTo>
                  <a:pt x="572" y="40"/>
                </a:lnTo>
                <a:lnTo>
                  <a:pt x="589" y="44"/>
                </a:lnTo>
                <a:lnTo>
                  <a:pt x="591" y="44"/>
                </a:lnTo>
                <a:lnTo>
                  <a:pt x="591" y="42"/>
                </a:lnTo>
                <a:lnTo>
                  <a:pt x="593" y="40"/>
                </a:lnTo>
                <a:lnTo>
                  <a:pt x="593" y="40"/>
                </a:lnTo>
                <a:lnTo>
                  <a:pt x="595" y="39"/>
                </a:lnTo>
                <a:lnTo>
                  <a:pt x="595" y="39"/>
                </a:lnTo>
                <a:lnTo>
                  <a:pt x="597" y="37"/>
                </a:lnTo>
                <a:lnTo>
                  <a:pt x="599" y="37"/>
                </a:lnTo>
                <a:close/>
                <a:moveTo>
                  <a:pt x="2" y="1821"/>
                </a:moveTo>
                <a:lnTo>
                  <a:pt x="15" y="1827"/>
                </a:lnTo>
                <a:lnTo>
                  <a:pt x="59" y="1842"/>
                </a:lnTo>
                <a:lnTo>
                  <a:pt x="104" y="1854"/>
                </a:lnTo>
                <a:lnTo>
                  <a:pt x="150" y="1865"/>
                </a:lnTo>
                <a:lnTo>
                  <a:pt x="196" y="1873"/>
                </a:lnTo>
                <a:lnTo>
                  <a:pt x="244" y="1879"/>
                </a:lnTo>
                <a:lnTo>
                  <a:pt x="292" y="1882"/>
                </a:lnTo>
                <a:lnTo>
                  <a:pt x="340" y="1884"/>
                </a:lnTo>
                <a:lnTo>
                  <a:pt x="388" y="1882"/>
                </a:lnTo>
                <a:lnTo>
                  <a:pt x="436" y="1879"/>
                </a:lnTo>
                <a:lnTo>
                  <a:pt x="484" y="1873"/>
                </a:lnTo>
                <a:lnTo>
                  <a:pt x="530" y="1865"/>
                </a:lnTo>
                <a:lnTo>
                  <a:pt x="576" y="1854"/>
                </a:lnTo>
                <a:lnTo>
                  <a:pt x="620" y="1842"/>
                </a:lnTo>
                <a:lnTo>
                  <a:pt x="622" y="1840"/>
                </a:lnTo>
                <a:lnTo>
                  <a:pt x="622" y="1840"/>
                </a:lnTo>
                <a:lnTo>
                  <a:pt x="620" y="1838"/>
                </a:lnTo>
                <a:lnTo>
                  <a:pt x="620" y="1838"/>
                </a:lnTo>
                <a:lnTo>
                  <a:pt x="618" y="1836"/>
                </a:lnTo>
                <a:lnTo>
                  <a:pt x="618" y="1834"/>
                </a:lnTo>
                <a:lnTo>
                  <a:pt x="616" y="1834"/>
                </a:lnTo>
                <a:lnTo>
                  <a:pt x="614" y="1833"/>
                </a:lnTo>
                <a:lnTo>
                  <a:pt x="614" y="1833"/>
                </a:lnTo>
                <a:lnTo>
                  <a:pt x="572" y="1844"/>
                </a:lnTo>
                <a:lnTo>
                  <a:pt x="528" y="1854"/>
                </a:lnTo>
                <a:lnTo>
                  <a:pt x="482" y="1863"/>
                </a:lnTo>
                <a:lnTo>
                  <a:pt x="436" y="1869"/>
                </a:lnTo>
                <a:lnTo>
                  <a:pt x="388" y="1873"/>
                </a:lnTo>
                <a:lnTo>
                  <a:pt x="340" y="1873"/>
                </a:lnTo>
                <a:lnTo>
                  <a:pt x="292" y="1873"/>
                </a:lnTo>
                <a:lnTo>
                  <a:pt x="244" y="1869"/>
                </a:lnTo>
                <a:lnTo>
                  <a:pt x="198" y="1863"/>
                </a:lnTo>
                <a:lnTo>
                  <a:pt x="152" y="1854"/>
                </a:lnTo>
                <a:lnTo>
                  <a:pt x="107" y="1844"/>
                </a:lnTo>
                <a:lnTo>
                  <a:pt x="63" y="1831"/>
                </a:lnTo>
                <a:lnTo>
                  <a:pt x="19" y="1817"/>
                </a:lnTo>
                <a:lnTo>
                  <a:pt x="0" y="1809"/>
                </a:lnTo>
                <a:lnTo>
                  <a:pt x="0" y="1811"/>
                </a:lnTo>
                <a:lnTo>
                  <a:pt x="2" y="1811"/>
                </a:lnTo>
                <a:lnTo>
                  <a:pt x="2" y="1813"/>
                </a:lnTo>
                <a:lnTo>
                  <a:pt x="2" y="1815"/>
                </a:lnTo>
                <a:lnTo>
                  <a:pt x="2" y="1817"/>
                </a:lnTo>
                <a:lnTo>
                  <a:pt x="2" y="1819"/>
                </a:lnTo>
                <a:lnTo>
                  <a:pt x="2" y="1819"/>
                </a:lnTo>
                <a:lnTo>
                  <a:pt x="2" y="1821"/>
                </a:lnTo>
                <a:close/>
              </a:path>
            </a:pathLst>
          </a:custGeom>
          <a:solidFill>
            <a:srgbClr val="4f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Freeform 352"/>
          <p:cNvSpPr/>
          <p:nvPr/>
        </p:nvSpPr>
        <p:spPr>
          <a:xfrm>
            <a:off x="5803920" y="1757520"/>
            <a:ext cx="981000" cy="2973240"/>
          </a:xfrm>
          <a:custGeom>
            <a:avLst/>
            <a:gdLst>
              <a:gd name="textAreaLeft" fmla="*/ 0 w 981000"/>
              <a:gd name="textAreaRight" fmla="*/ 981360 w 981000"/>
              <a:gd name="textAreaTop" fmla="*/ 0 h 2973240"/>
              <a:gd name="textAreaBottom" fmla="*/ 2973600 h 2973240"/>
            </a:gdLst>
            <a:ahLst/>
            <a:rect l="textAreaLeft" t="textAreaTop" r="textAreaRight" b="textAreaBottom"/>
            <a:pathLst>
              <a:path w="618" h="1873">
                <a:moveTo>
                  <a:pt x="593" y="34"/>
                </a:moveTo>
                <a:lnTo>
                  <a:pt x="574" y="29"/>
                </a:lnTo>
                <a:lnTo>
                  <a:pt x="528" y="17"/>
                </a:lnTo>
                <a:lnTo>
                  <a:pt x="482" y="10"/>
                </a:lnTo>
                <a:lnTo>
                  <a:pt x="436" y="4"/>
                </a:lnTo>
                <a:lnTo>
                  <a:pt x="388" y="0"/>
                </a:lnTo>
                <a:lnTo>
                  <a:pt x="340" y="0"/>
                </a:lnTo>
                <a:lnTo>
                  <a:pt x="292" y="0"/>
                </a:lnTo>
                <a:lnTo>
                  <a:pt x="244" y="4"/>
                </a:lnTo>
                <a:lnTo>
                  <a:pt x="223" y="6"/>
                </a:lnTo>
                <a:lnTo>
                  <a:pt x="223" y="8"/>
                </a:lnTo>
                <a:lnTo>
                  <a:pt x="221" y="10"/>
                </a:lnTo>
                <a:lnTo>
                  <a:pt x="221" y="11"/>
                </a:lnTo>
                <a:lnTo>
                  <a:pt x="221" y="11"/>
                </a:lnTo>
                <a:lnTo>
                  <a:pt x="221" y="13"/>
                </a:lnTo>
                <a:lnTo>
                  <a:pt x="219" y="15"/>
                </a:lnTo>
                <a:lnTo>
                  <a:pt x="219" y="17"/>
                </a:lnTo>
                <a:lnTo>
                  <a:pt x="219" y="17"/>
                </a:lnTo>
                <a:lnTo>
                  <a:pt x="246" y="15"/>
                </a:lnTo>
                <a:lnTo>
                  <a:pt x="292" y="11"/>
                </a:lnTo>
                <a:lnTo>
                  <a:pt x="340" y="10"/>
                </a:lnTo>
                <a:lnTo>
                  <a:pt x="388" y="11"/>
                </a:lnTo>
                <a:lnTo>
                  <a:pt x="434" y="15"/>
                </a:lnTo>
                <a:lnTo>
                  <a:pt x="482" y="21"/>
                </a:lnTo>
                <a:lnTo>
                  <a:pt x="526" y="29"/>
                </a:lnTo>
                <a:lnTo>
                  <a:pt x="572" y="38"/>
                </a:lnTo>
                <a:lnTo>
                  <a:pt x="585" y="42"/>
                </a:lnTo>
                <a:lnTo>
                  <a:pt x="587" y="42"/>
                </a:lnTo>
                <a:lnTo>
                  <a:pt x="587" y="40"/>
                </a:lnTo>
                <a:lnTo>
                  <a:pt x="589" y="40"/>
                </a:lnTo>
                <a:lnTo>
                  <a:pt x="589" y="38"/>
                </a:lnTo>
                <a:lnTo>
                  <a:pt x="591" y="38"/>
                </a:lnTo>
                <a:lnTo>
                  <a:pt x="591" y="36"/>
                </a:lnTo>
                <a:lnTo>
                  <a:pt x="593" y="34"/>
                </a:lnTo>
                <a:lnTo>
                  <a:pt x="593" y="34"/>
                </a:lnTo>
                <a:close/>
                <a:moveTo>
                  <a:pt x="2" y="1809"/>
                </a:moveTo>
                <a:lnTo>
                  <a:pt x="17" y="1815"/>
                </a:lnTo>
                <a:lnTo>
                  <a:pt x="61" y="1830"/>
                </a:lnTo>
                <a:lnTo>
                  <a:pt x="106" y="1844"/>
                </a:lnTo>
                <a:lnTo>
                  <a:pt x="152" y="1853"/>
                </a:lnTo>
                <a:lnTo>
                  <a:pt x="198" y="1861"/>
                </a:lnTo>
                <a:lnTo>
                  <a:pt x="244" y="1867"/>
                </a:lnTo>
                <a:lnTo>
                  <a:pt x="292" y="1871"/>
                </a:lnTo>
                <a:lnTo>
                  <a:pt x="340" y="1873"/>
                </a:lnTo>
                <a:lnTo>
                  <a:pt x="388" y="1871"/>
                </a:lnTo>
                <a:lnTo>
                  <a:pt x="436" y="1867"/>
                </a:lnTo>
                <a:lnTo>
                  <a:pt x="482" y="1861"/>
                </a:lnTo>
                <a:lnTo>
                  <a:pt x="528" y="1853"/>
                </a:lnTo>
                <a:lnTo>
                  <a:pt x="574" y="1844"/>
                </a:lnTo>
                <a:lnTo>
                  <a:pt x="618" y="1830"/>
                </a:lnTo>
                <a:lnTo>
                  <a:pt x="618" y="1828"/>
                </a:lnTo>
                <a:lnTo>
                  <a:pt x="616" y="1828"/>
                </a:lnTo>
                <a:lnTo>
                  <a:pt x="614" y="1827"/>
                </a:lnTo>
                <a:lnTo>
                  <a:pt x="614" y="1827"/>
                </a:lnTo>
                <a:lnTo>
                  <a:pt x="612" y="1825"/>
                </a:lnTo>
                <a:lnTo>
                  <a:pt x="612" y="1825"/>
                </a:lnTo>
                <a:lnTo>
                  <a:pt x="610" y="1823"/>
                </a:lnTo>
                <a:lnTo>
                  <a:pt x="610" y="1823"/>
                </a:lnTo>
                <a:lnTo>
                  <a:pt x="572" y="1832"/>
                </a:lnTo>
                <a:lnTo>
                  <a:pt x="526" y="1844"/>
                </a:lnTo>
                <a:lnTo>
                  <a:pt x="482" y="1851"/>
                </a:lnTo>
                <a:lnTo>
                  <a:pt x="434" y="1857"/>
                </a:lnTo>
                <a:lnTo>
                  <a:pt x="388" y="1861"/>
                </a:lnTo>
                <a:lnTo>
                  <a:pt x="340" y="1861"/>
                </a:lnTo>
                <a:lnTo>
                  <a:pt x="292" y="1861"/>
                </a:lnTo>
                <a:lnTo>
                  <a:pt x="246" y="1857"/>
                </a:lnTo>
                <a:lnTo>
                  <a:pt x="200" y="1851"/>
                </a:lnTo>
                <a:lnTo>
                  <a:pt x="154" y="1844"/>
                </a:lnTo>
                <a:lnTo>
                  <a:pt x="107" y="1832"/>
                </a:lnTo>
                <a:lnTo>
                  <a:pt x="65" y="1821"/>
                </a:lnTo>
                <a:lnTo>
                  <a:pt x="21" y="1805"/>
                </a:lnTo>
                <a:lnTo>
                  <a:pt x="0" y="1798"/>
                </a:lnTo>
                <a:lnTo>
                  <a:pt x="0" y="1798"/>
                </a:lnTo>
                <a:lnTo>
                  <a:pt x="0" y="1800"/>
                </a:lnTo>
                <a:lnTo>
                  <a:pt x="0" y="1802"/>
                </a:lnTo>
                <a:lnTo>
                  <a:pt x="0" y="1803"/>
                </a:lnTo>
                <a:lnTo>
                  <a:pt x="0" y="1805"/>
                </a:lnTo>
                <a:lnTo>
                  <a:pt x="2" y="1805"/>
                </a:lnTo>
                <a:lnTo>
                  <a:pt x="2" y="1807"/>
                </a:lnTo>
                <a:lnTo>
                  <a:pt x="2" y="1809"/>
                </a:lnTo>
                <a:close/>
              </a:path>
            </a:pathLst>
          </a:custGeom>
          <a:solidFill>
            <a:srgbClr val="50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Freeform 353"/>
          <p:cNvSpPr/>
          <p:nvPr/>
        </p:nvSpPr>
        <p:spPr>
          <a:xfrm>
            <a:off x="5800680" y="1763640"/>
            <a:ext cx="978120" cy="2957760"/>
          </a:xfrm>
          <a:custGeom>
            <a:avLst/>
            <a:gdLst>
              <a:gd name="textAreaLeft" fmla="*/ 0 w 978120"/>
              <a:gd name="textAreaRight" fmla="*/ 978480 w 978120"/>
              <a:gd name="textAreaTop" fmla="*/ 0 h 2957760"/>
              <a:gd name="textAreaBottom" fmla="*/ 2958120 h 2957760"/>
            </a:gdLst>
            <a:ahLst/>
            <a:rect l="textAreaLeft" t="textAreaTop" r="textAreaRight" b="textAreaBottom"/>
            <a:pathLst>
              <a:path w="616" h="1863">
                <a:moveTo>
                  <a:pt x="591" y="34"/>
                </a:moveTo>
                <a:lnTo>
                  <a:pt x="574" y="30"/>
                </a:lnTo>
                <a:lnTo>
                  <a:pt x="530" y="19"/>
                </a:lnTo>
                <a:lnTo>
                  <a:pt x="484" y="11"/>
                </a:lnTo>
                <a:lnTo>
                  <a:pt x="438" y="6"/>
                </a:lnTo>
                <a:lnTo>
                  <a:pt x="390" y="2"/>
                </a:lnTo>
                <a:lnTo>
                  <a:pt x="342" y="0"/>
                </a:lnTo>
                <a:lnTo>
                  <a:pt x="294" y="2"/>
                </a:lnTo>
                <a:lnTo>
                  <a:pt x="246" y="6"/>
                </a:lnTo>
                <a:lnTo>
                  <a:pt x="223" y="7"/>
                </a:lnTo>
                <a:lnTo>
                  <a:pt x="223" y="9"/>
                </a:lnTo>
                <a:lnTo>
                  <a:pt x="221" y="11"/>
                </a:lnTo>
                <a:lnTo>
                  <a:pt x="221" y="13"/>
                </a:lnTo>
                <a:lnTo>
                  <a:pt x="221" y="13"/>
                </a:lnTo>
                <a:lnTo>
                  <a:pt x="219" y="15"/>
                </a:lnTo>
                <a:lnTo>
                  <a:pt x="219" y="17"/>
                </a:lnTo>
                <a:lnTo>
                  <a:pt x="219" y="19"/>
                </a:lnTo>
                <a:lnTo>
                  <a:pt x="217" y="19"/>
                </a:lnTo>
                <a:lnTo>
                  <a:pt x="248" y="15"/>
                </a:lnTo>
                <a:lnTo>
                  <a:pt x="294" y="11"/>
                </a:lnTo>
                <a:lnTo>
                  <a:pt x="342" y="11"/>
                </a:lnTo>
                <a:lnTo>
                  <a:pt x="390" y="11"/>
                </a:lnTo>
                <a:lnTo>
                  <a:pt x="436" y="15"/>
                </a:lnTo>
                <a:lnTo>
                  <a:pt x="482" y="21"/>
                </a:lnTo>
                <a:lnTo>
                  <a:pt x="528" y="30"/>
                </a:lnTo>
                <a:lnTo>
                  <a:pt x="572" y="40"/>
                </a:lnTo>
                <a:lnTo>
                  <a:pt x="584" y="44"/>
                </a:lnTo>
                <a:lnTo>
                  <a:pt x="584" y="42"/>
                </a:lnTo>
                <a:lnTo>
                  <a:pt x="585" y="42"/>
                </a:lnTo>
                <a:lnTo>
                  <a:pt x="587" y="40"/>
                </a:lnTo>
                <a:lnTo>
                  <a:pt x="587" y="38"/>
                </a:lnTo>
                <a:lnTo>
                  <a:pt x="589" y="38"/>
                </a:lnTo>
                <a:lnTo>
                  <a:pt x="589" y="36"/>
                </a:lnTo>
                <a:lnTo>
                  <a:pt x="591" y="36"/>
                </a:lnTo>
                <a:lnTo>
                  <a:pt x="591" y="34"/>
                </a:lnTo>
                <a:close/>
                <a:moveTo>
                  <a:pt x="2" y="1799"/>
                </a:moveTo>
                <a:lnTo>
                  <a:pt x="21" y="1807"/>
                </a:lnTo>
                <a:lnTo>
                  <a:pt x="65" y="1821"/>
                </a:lnTo>
                <a:lnTo>
                  <a:pt x="109" y="1834"/>
                </a:lnTo>
                <a:lnTo>
                  <a:pt x="154" y="1844"/>
                </a:lnTo>
                <a:lnTo>
                  <a:pt x="200" y="1853"/>
                </a:lnTo>
                <a:lnTo>
                  <a:pt x="246" y="1859"/>
                </a:lnTo>
                <a:lnTo>
                  <a:pt x="294" y="1863"/>
                </a:lnTo>
                <a:lnTo>
                  <a:pt x="342" y="1863"/>
                </a:lnTo>
                <a:lnTo>
                  <a:pt x="390" y="1863"/>
                </a:lnTo>
                <a:lnTo>
                  <a:pt x="438" y="1859"/>
                </a:lnTo>
                <a:lnTo>
                  <a:pt x="484" y="1853"/>
                </a:lnTo>
                <a:lnTo>
                  <a:pt x="530" y="1844"/>
                </a:lnTo>
                <a:lnTo>
                  <a:pt x="574" y="1834"/>
                </a:lnTo>
                <a:lnTo>
                  <a:pt x="616" y="1823"/>
                </a:lnTo>
                <a:lnTo>
                  <a:pt x="614" y="1821"/>
                </a:lnTo>
                <a:lnTo>
                  <a:pt x="614" y="1821"/>
                </a:lnTo>
                <a:lnTo>
                  <a:pt x="612" y="1819"/>
                </a:lnTo>
                <a:lnTo>
                  <a:pt x="612" y="1819"/>
                </a:lnTo>
                <a:lnTo>
                  <a:pt x="610" y="1817"/>
                </a:lnTo>
                <a:lnTo>
                  <a:pt x="610" y="1815"/>
                </a:lnTo>
                <a:lnTo>
                  <a:pt x="608" y="1815"/>
                </a:lnTo>
                <a:lnTo>
                  <a:pt x="607" y="1813"/>
                </a:lnTo>
                <a:lnTo>
                  <a:pt x="572" y="1824"/>
                </a:lnTo>
                <a:lnTo>
                  <a:pt x="528" y="1834"/>
                </a:lnTo>
                <a:lnTo>
                  <a:pt x="482" y="1842"/>
                </a:lnTo>
                <a:lnTo>
                  <a:pt x="436" y="1847"/>
                </a:lnTo>
                <a:lnTo>
                  <a:pt x="390" y="1851"/>
                </a:lnTo>
                <a:lnTo>
                  <a:pt x="342" y="1853"/>
                </a:lnTo>
                <a:lnTo>
                  <a:pt x="294" y="1851"/>
                </a:lnTo>
                <a:lnTo>
                  <a:pt x="248" y="1847"/>
                </a:lnTo>
                <a:lnTo>
                  <a:pt x="202" y="1842"/>
                </a:lnTo>
                <a:lnTo>
                  <a:pt x="156" y="1834"/>
                </a:lnTo>
                <a:lnTo>
                  <a:pt x="111" y="1824"/>
                </a:lnTo>
                <a:lnTo>
                  <a:pt x="67" y="1811"/>
                </a:lnTo>
                <a:lnTo>
                  <a:pt x="25" y="1798"/>
                </a:lnTo>
                <a:lnTo>
                  <a:pt x="0" y="1788"/>
                </a:lnTo>
                <a:lnTo>
                  <a:pt x="0" y="1788"/>
                </a:lnTo>
                <a:lnTo>
                  <a:pt x="2" y="1790"/>
                </a:lnTo>
                <a:lnTo>
                  <a:pt x="2" y="1792"/>
                </a:lnTo>
                <a:lnTo>
                  <a:pt x="2" y="1794"/>
                </a:lnTo>
                <a:lnTo>
                  <a:pt x="2" y="1794"/>
                </a:lnTo>
                <a:lnTo>
                  <a:pt x="2" y="1796"/>
                </a:lnTo>
                <a:lnTo>
                  <a:pt x="2" y="1798"/>
                </a:lnTo>
                <a:lnTo>
                  <a:pt x="2" y="1799"/>
                </a:lnTo>
                <a:close/>
              </a:path>
            </a:pathLst>
          </a:custGeom>
          <a:solidFill>
            <a:srgbClr val="51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Freeform 354"/>
          <p:cNvSpPr/>
          <p:nvPr/>
        </p:nvSpPr>
        <p:spPr>
          <a:xfrm>
            <a:off x="5800680" y="1773360"/>
            <a:ext cx="971640" cy="2938320"/>
          </a:xfrm>
          <a:custGeom>
            <a:avLst/>
            <a:gdLst>
              <a:gd name="textAreaLeft" fmla="*/ 0 w 971640"/>
              <a:gd name="textAreaRight" fmla="*/ 972000 w 971640"/>
              <a:gd name="textAreaTop" fmla="*/ 0 h 2938320"/>
              <a:gd name="textAreaBottom" fmla="*/ 2938680 h 2938320"/>
            </a:gdLst>
            <a:ahLst/>
            <a:rect l="textAreaLeft" t="textAreaTop" r="textAreaRight" b="textAreaBottom"/>
            <a:pathLst>
              <a:path w="612" h="1851">
                <a:moveTo>
                  <a:pt x="587" y="32"/>
                </a:moveTo>
                <a:lnTo>
                  <a:pt x="574" y="28"/>
                </a:lnTo>
                <a:lnTo>
                  <a:pt x="528" y="19"/>
                </a:lnTo>
                <a:lnTo>
                  <a:pt x="484" y="11"/>
                </a:lnTo>
                <a:lnTo>
                  <a:pt x="436" y="5"/>
                </a:lnTo>
                <a:lnTo>
                  <a:pt x="390" y="1"/>
                </a:lnTo>
                <a:lnTo>
                  <a:pt x="342" y="0"/>
                </a:lnTo>
                <a:lnTo>
                  <a:pt x="294" y="1"/>
                </a:lnTo>
                <a:lnTo>
                  <a:pt x="248" y="5"/>
                </a:lnTo>
                <a:lnTo>
                  <a:pt x="221" y="7"/>
                </a:lnTo>
                <a:lnTo>
                  <a:pt x="219" y="9"/>
                </a:lnTo>
                <a:lnTo>
                  <a:pt x="219" y="11"/>
                </a:lnTo>
                <a:lnTo>
                  <a:pt x="219" y="13"/>
                </a:lnTo>
                <a:lnTo>
                  <a:pt x="217" y="13"/>
                </a:lnTo>
                <a:lnTo>
                  <a:pt x="217" y="15"/>
                </a:lnTo>
                <a:lnTo>
                  <a:pt x="217" y="17"/>
                </a:lnTo>
                <a:lnTo>
                  <a:pt x="217" y="19"/>
                </a:lnTo>
                <a:lnTo>
                  <a:pt x="215" y="19"/>
                </a:lnTo>
                <a:lnTo>
                  <a:pt x="248" y="15"/>
                </a:lnTo>
                <a:lnTo>
                  <a:pt x="296" y="11"/>
                </a:lnTo>
                <a:lnTo>
                  <a:pt x="342" y="11"/>
                </a:lnTo>
                <a:lnTo>
                  <a:pt x="390" y="11"/>
                </a:lnTo>
                <a:lnTo>
                  <a:pt x="436" y="15"/>
                </a:lnTo>
                <a:lnTo>
                  <a:pt x="482" y="21"/>
                </a:lnTo>
                <a:lnTo>
                  <a:pt x="526" y="28"/>
                </a:lnTo>
                <a:lnTo>
                  <a:pt x="570" y="40"/>
                </a:lnTo>
                <a:lnTo>
                  <a:pt x="580" y="42"/>
                </a:lnTo>
                <a:lnTo>
                  <a:pt x="580" y="40"/>
                </a:lnTo>
                <a:lnTo>
                  <a:pt x="582" y="40"/>
                </a:lnTo>
                <a:lnTo>
                  <a:pt x="582" y="38"/>
                </a:lnTo>
                <a:lnTo>
                  <a:pt x="584" y="38"/>
                </a:lnTo>
                <a:lnTo>
                  <a:pt x="584" y="36"/>
                </a:lnTo>
                <a:lnTo>
                  <a:pt x="585" y="36"/>
                </a:lnTo>
                <a:lnTo>
                  <a:pt x="587" y="34"/>
                </a:lnTo>
                <a:lnTo>
                  <a:pt x="587" y="32"/>
                </a:lnTo>
                <a:close/>
                <a:moveTo>
                  <a:pt x="2" y="1788"/>
                </a:moveTo>
                <a:lnTo>
                  <a:pt x="23" y="1795"/>
                </a:lnTo>
                <a:lnTo>
                  <a:pt x="67" y="1811"/>
                </a:lnTo>
                <a:lnTo>
                  <a:pt x="109" y="1822"/>
                </a:lnTo>
                <a:lnTo>
                  <a:pt x="156" y="1834"/>
                </a:lnTo>
                <a:lnTo>
                  <a:pt x="202" y="1841"/>
                </a:lnTo>
                <a:lnTo>
                  <a:pt x="248" y="1847"/>
                </a:lnTo>
                <a:lnTo>
                  <a:pt x="294" y="1851"/>
                </a:lnTo>
                <a:lnTo>
                  <a:pt x="342" y="1851"/>
                </a:lnTo>
                <a:lnTo>
                  <a:pt x="390" y="1851"/>
                </a:lnTo>
                <a:lnTo>
                  <a:pt x="436" y="1847"/>
                </a:lnTo>
                <a:lnTo>
                  <a:pt x="484" y="1841"/>
                </a:lnTo>
                <a:lnTo>
                  <a:pt x="528" y="1834"/>
                </a:lnTo>
                <a:lnTo>
                  <a:pt x="574" y="1822"/>
                </a:lnTo>
                <a:lnTo>
                  <a:pt x="612" y="1813"/>
                </a:lnTo>
                <a:lnTo>
                  <a:pt x="610" y="1811"/>
                </a:lnTo>
                <a:lnTo>
                  <a:pt x="610" y="1809"/>
                </a:lnTo>
                <a:lnTo>
                  <a:pt x="608" y="1809"/>
                </a:lnTo>
                <a:lnTo>
                  <a:pt x="607" y="1807"/>
                </a:lnTo>
                <a:lnTo>
                  <a:pt x="607" y="1807"/>
                </a:lnTo>
                <a:lnTo>
                  <a:pt x="605" y="1805"/>
                </a:lnTo>
                <a:lnTo>
                  <a:pt x="605" y="1805"/>
                </a:lnTo>
                <a:lnTo>
                  <a:pt x="603" y="1803"/>
                </a:lnTo>
                <a:lnTo>
                  <a:pt x="570" y="1813"/>
                </a:lnTo>
                <a:lnTo>
                  <a:pt x="526" y="1822"/>
                </a:lnTo>
                <a:lnTo>
                  <a:pt x="482" y="1830"/>
                </a:lnTo>
                <a:lnTo>
                  <a:pt x="436" y="1836"/>
                </a:lnTo>
                <a:lnTo>
                  <a:pt x="390" y="1840"/>
                </a:lnTo>
                <a:lnTo>
                  <a:pt x="342" y="1841"/>
                </a:lnTo>
                <a:lnTo>
                  <a:pt x="296" y="1840"/>
                </a:lnTo>
                <a:lnTo>
                  <a:pt x="248" y="1836"/>
                </a:lnTo>
                <a:lnTo>
                  <a:pt x="202" y="1830"/>
                </a:lnTo>
                <a:lnTo>
                  <a:pt x="157" y="1822"/>
                </a:lnTo>
                <a:lnTo>
                  <a:pt x="113" y="1813"/>
                </a:lnTo>
                <a:lnTo>
                  <a:pt x="69" y="1799"/>
                </a:lnTo>
                <a:lnTo>
                  <a:pt x="27" y="1786"/>
                </a:lnTo>
                <a:lnTo>
                  <a:pt x="0" y="1774"/>
                </a:lnTo>
                <a:lnTo>
                  <a:pt x="0" y="1776"/>
                </a:lnTo>
                <a:lnTo>
                  <a:pt x="0" y="1778"/>
                </a:lnTo>
                <a:lnTo>
                  <a:pt x="0" y="1780"/>
                </a:lnTo>
                <a:lnTo>
                  <a:pt x="0" y="1782"/>
                </a:lnTo>
                <a:lnTo>
                  <a:pt x="0" y="1782"/>
                </a:lnTo>
                <a:lnTo>
                  <a:pt x="2" y="1784"/>
                </a:lnTo>
                <a:lnTo>
                  <a:pt x="2" y="1786"/>
                </a:lnTo>
                <a:lnTo>
                  <a:pt x="2" y="1788"/>
                </a:lnTo>
                <a:close/>
              </a:path>
            </a:pathLst>
          </a:custGeom>
          <a:solidFill>
            <a:srgbClr val="52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Freeform 355"/>
          <p:cNvSpPr/>
          <p:nvPr/>
        </p:nvSpPr>
        <p:spPr>
          <a:xfrm>
            <a:off x="5800680" y="1781280"/>
            <a:ext cx="963720" cy="2923920"/>
          </a:xfrm>
          <a:custGeom>
            <a:avLst/>
            <a:gdLst>
              <a:gd name="textAreaLeft" fmla="*/ 0 w 963720"/>
              <a:gd name="textAreaRight" fmla="*/ 963720 w 963720"/>
              <a:gd name="textAreaTop" fmla="*/ 0 h 2923920"/>
              <a:gd name="textAreaBottom" fmla="*/ 2924280 h 2923920"/>
            </a:gdLst>
            <a:ahLst/>
            <a:rect l="textAreaLeft" t="textAreaTop" r="textAreaRight" b="textAreaBottom"/>
            <a:pathLst>
              <a:path w="607" h="1842">
                <a:moveTo>
                  <a:pt x="584" y="33"/>
                </a:moveTo>
                <a:lnTo>
                  <a:pt x="572" y="29"/>
                </a:lnTo>
                <a:lnTo>
                  <a:pt x="528" y="19"/>
                </a:lnTo>
                <a:lnTo>
                  <a:pt x="482" y="10"/>
                </a:lnTo>
                <a:lnTo>
                  <a:pt x="436" y="4"/>
                </a:lnTo>
                <a:lnTo>
                  <a:pt x="390" y="0"/>
                </a:lnTo>
                <a:lnTo>
                  <a:pt x="342" y="0"/>
                </a:lnTo>
                <a:lnTo>
                  <a:pt x="294" y="0"/>
                </a:lnTo>
                <a:lnTo>
                  <a:pt x="248" y="4"/>
                </a:lnTo>
                <a:lnTo>
                  <a:pt x="217" y="8"/>
                </a:lnTo>
                <a:lnTo>
                  <a:pt x="217" y="10"/>
                </a:lnTo>
                <a:lnTo>
                  <a:pt x="217" y="12"/>
                </a:lnTo>
                <a:lnTo>
                  <a:pt x="217" y="14"/>
                </a:lnTo>
                <a:lnTo>
                  <a:pt x="215" y="14"/>
                </a:lnTo>
                <a:lnTo>
                  <a:pt x="215" y="16"/>
                </a:lnTo>
                <a:lnTo>
                  <a:pt x="215" y="18"/>
                </a:lnTo>
                <a:lnTo>
                  <a:pt x="213" y="18"/>
                </a:lnTo>
                <a:lnTo>
                  <a:pt x="213" y="19"/>
                </a:lnTo>
                <a:lnTo>
                  <a:pt x="250" y="16"/>
                </a:lnTo>
                <a:lnTo>
                  <a:pt x="296" y="12"/>
                </a:lnTo>
                <a:lnTo>
                  <a:pt x="342" y="10"/>
                </a:lnTo>
                <a:lnTo>
                  <a:pt x="388" y="12"/>
                </a:lnTo>
                <a:lnTo>
                  <a:pt x="436" y="16"/>
                </a:lnTo>
                <a:lnTo>
                  <a:pt x="480" y="21"/>
                </a:lnTo>
                <a:lnTo>
                  <a:pt x="526" y="29"/>
                </a:lnTo>
                <a:lnTo>
                  <a:pt x="570" y="39"/>
                </a:lnTo>
                <a:lnTo>
                  <a:pt x="576" y="41"/>
                </a:lnTo>
                <a:lnTo>
                  <a:pt x="576" y="41"/>
                </a:lnTo>
                <a:lnTo>
                  <a:pt x="578" y="39"/>
                </a:lnTo>
                <a:lnTo>
                  <a:pt x="578" y="39"/>
                </a:lnTo>
                <a:lnTo>
                  <a:pt x="580" y="37"/>
                </a:lnTo>
                <a:lnTo>
                  <a:pt x="580" y="35"/>
                </a:lnTo>
                <a:lnTo>
                  <a:pt x="582" y="35"/>
                </a:lnTo>
                <a:lnTo>
                  <a:pt x="582" y="33"/>
                </a:lnTo>
                <a:lnTo>
                  <a:pt x="584" y="33"/>
                </a:lnTo>
                <a:close/>
                <a:moveTo>
                  <a:pt x="0" y="1777"/>
                </a:moveTo>
                <a:lnTo>
                  <a:pt x="25" y="1787"/>
                </a:lnTo>
                <a:lnTo>
                  <a:pt x="67" y="1800"/>
                </a:lnTo>
                <a:lnTo>
                  <a:pt x="111" y="1813"/>
                </a:lnTo>
                <a:lnTo>
                  <a:pt x="156" y="1823"/>
                </a:lnTo>
                <a:lnTo>
                  <a:pt x="202" y="1831"/>
                </a:lnTo>
                <a:lnTo>
                  <a:pt x="248" y="1836"/>
                </a:lnTo>
                <a:lnTo>
                  <a:pt x="294" y="1840"/>
                </a:lnTo>
                <a:lnTo>
                  <a:pt x="342" y="1842"/>
                </a:lnTo>
                <a:lnTo>
                  <a:pt x="390" y="1840"/>
                </a:lnTo>
                <a:lnTo>
                  <a:pt x="436" y="1836"/>
                </a:lnTo>
                <a:lnTo>
                  <a:pt x="482" y="1831"/>
                </a:lnTo>
                <a:lnTo>
                  <a:pt x="528" y="1823"/>
                </a:lnTo>
                <a:lnTo>
                  <a:pt x="572" y="1813"/>
                </a:lnTo>
                <a:lnTo>
                  <a:pt x="607" y="1802"/>
                </a:lnTo>
                <a:lnTo>
                  <a:pt x="607" y="1802"/>
                </a:lnTo>
                <a:lnTo>
                  <a:pt x="605" y="1800"/>
                </a:lnTo>
                <a:lnTo>
                  <a:pt x="605" y="1800"/>
                </a:lnTo>
                <a:lnTo>
                  <a:pt x="603" y="1798"/>
                </a:lnTo>
                <a:lnTo>
                  <a:pt x="603" y="1796"/>
                </a:lnTo>
                <a:lnTo>
                  <a:pt x="601" y="1796"/>
                </a:lnTo>
                <a:lnTo>
                  <a:pt x="601" y="1794"/>
                </a:lnTo>
                <a:lnTo>
                  <a:pt x="599" y="1794"/>
                </a:lnTo>
                <a:lnTo>
                  <a:pt x="570" y="1802"/>
                </a:lnTo>
                <a:lnTo>
                  <a:pt x="526" y="1812"/>
                </a:lnTo>
                <a:lnTo>
                  <a:pt x="480" y="1821"/>
                </a:lnTo>
                <a:lnTo>
                  <a:pt x="436" y="1827"/>
                </a:lnTo>
                <a:lnTo>
                  <a:pt x="388" y="1829"/>
                </a:lnTo>
                <a:lnTo>
                  <a:pt x="342" y="1831"/>
                </a:lnTo>
                <a:lnTo>
                  <a:pt x="296" y="1829"/>
                </a:lnTo>
                <a:lnTo>
                  <a:pt x="250" y="1827"/>
                </a:lnTo>
                <a:lnTo>
                  <a:pt x="204" y="1821"/>
                </a:lnTo>
                <a:lnTo>
                  <a:pt x="159" y="1812"/>
                </a:lnTo>
                <a:lnTo>
                  <a:pt x="115" y="1802"/>
                </a:lnTo>
                <a:lnTo>
                  <a:pt x="71" y="1790"/>
                </a:lnTo>
                <a:lnTo>
                  <a:pt x="29" y="1775"/>
                </a:lnTo>
                <a:lnTo>
                  <a:pt x="0" y="1764"/>
                </a:lnTo>
                <a:lnTo>
                  <a:pt x="0" y="1765"/>
                </a:lnTo>
                <a:lnTo>
                  <a:pt x="0" y="1767"/>
                </a:lnTo>
                <a:lnTo>
                  <a:pt x="0" y="1769"/>
                </a:lnTo>
                <a:lnTo>
                  <a:pt x="0" y="1769"/>
                </a:lnTo>
                <a:lnTo>
                  <a:pt x="0" y="1771"/>
                </a:lnTo>
                <a:lnTo>
                  <a:pt x="0" y="1773"/>
                </a:lnTo>
                <a:lnTo>
                  <a:pt x="0" y="1775"/>
                </a:lnTo>
                <a:lnTo>
                  <a:pt x="0" y="1777"/>
                </a:lnTo>
                <a:close/>
              </a:path>
            </a:pathLst>
          </a:custGeom>
          <a:solidFill>
            <a:srgbClr val="53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Freeform 356"/>
          <p:cNvSpPr/>
          <p:nvPr/>
        </p:nvSpPr>
        <p:spPr>
          <a:xfrm>
            <a:off x="5797440" y="1790640"/>
            <a:ext cx="960480" cy="2905200"/>
          </a:xfrm>
          <a:custGeom>
            <a:avLst/>
            <a:gdLst>
              <a:gd name="textAreaLeft" fmla="*/ 0 w 960480"/>
              <a:gd name="textAreaRight" fmla="*/ 960840 w 960480"/>
              <a:gd name="textAreaTop" fmla="*/ 0 h 2905200"/>
              <a:gd name="textAreaBottom" fmla="*/ 2905200 h 2905200"/>
            </a:gdLst>
            <a:ahLst/>
            <a:rect l="textAreaLeft" t="textAreaTop" r="textAreaRight" b="textAreaBottom"/>
            <a:pathLst>
              <a:path w="605" h="1830">
                <a:moveTo>
                  <a:pt x="582" y="31"/>
                </a:moveTo>
                <a:lnTo>
                  <a:pt x="572" y="29"/>
                </a:lnTo>
                <a:lnTo>
                  <a:pt x="528" y="17"/>
                </a:lnTo>
                <a:lnTo>
                  <a:pt x="484" y="10"/>
                </a:lnTo>
                <a:lnTo>
                  <a:pt x="438" y="4"/>
                </a:lnTo>
                <a:lnTo>
                  <a:pt x="392" y="0"/>
                </a:lnTo>
                <a:lnTo>
                  <a:pt x="344" y="0"/>
                </a:lnTo>
                <a:lnTo>
                  <a:pt x="298" y="0"/>
                </a:lnTo>
                <a:lnTo>
                  <a:pt x="250" y="4"/>
                </a:lnTo>
                <a:lnTo>
                  <a:pt x="217" y="8"/>
                </a:lnTo>
                <a:lnTo>
                  <a:pt x="217" y="10"/>
                </a:lnTo>
                <a:lnTo>
                  <a:pt x="217" y="12"/>
                </a:lnTo>
                <a:lnTo>
                  <a:pt x="215" y="12"/>
                </a:lnTo>
                <a:lnTo>
                  <a:pt x="215" y="13"/>
                </a:lnTo>
                <a:lnTo>
                  <a:pt x="215" y="15"/>
                </a:lnTo>
                <a:lnTo>
                  <a:pt x="215" y="17"/>
                </a:lnTo>
                <a:lnTo>
                  <a:pt x="213" y="17"/>
                </a:lnTo>
                <a:lnTo>
                  <a:pt x="213" y="19"/>
                </a:lnTo>
                <a:lnTo>
                  <a:pt x="252" y="15"/>
                </a:lnTo>
                <a:lnTo>
                  <a:pt x="298" y="12"/>
                </a:lnTo>
                <a:lnTo>
                  <a:pt x="344" y="10"/>
                </a:lnTo>
                <a:lnTo>
                  <a:pt x="390" y="12"/>
                </a:lnTo>
                <a:lnTo>
                  <a:pt x="436" y="15"/>
                </a:lnTo>
                <a:lnTo>
                  <a:pt x="482" y="21"/>
                </a:lnTo>
                <a:lnTo>
                  <a:pt x="526" y="29"/>
                </a:lnTo>
                <a:lnTo>
                  <a:pt x="570" y="38"/>
                </a:lnTo>
                <a:lnTo>
                  <a:pt x="574" y="40"/>
                </a:lnTo>
                <a:lnTo>
                  <a:pt x="574" y="38"/>
                </a:lnTo>
                <a:lnTo>
                  <a:pt x="576" y="36"/>
                </a:lnTo>
                <a:lnTo>
                  <a:pt x="576" y="36"/>
                </a:lnTo>
                <a:lnTo>
                  <a:pt x="578" y="35"/>
                </a:lnTo>
                <a:lnTo>
                  <a:pt x="578" y="35"/>
                </a:lnTo>
                <a:lnTo>
                  <a:pt x="580" y="33"/>
                </a:lnTo>
                <a:lnTo>
                  <a:pt x="580" y="33"/>
                </a:lnTo>
                <a:lnTo>
                  <a:pt x="582" y="31"/>
                </a:lnTo>
                <a:close/>
                <a:moveTo>
                  <a:pt x="2" y="1763"/>
                </a:moveTo>
                <a:lnTo>
                  <a:pt x="29" y="1775"/>
                </a:lnTo>
                <a:lnTo>
                  <a:pt x="71" y="1788"/>
                </a:lnTo>
                <a:lnTo>
                  <a:pt x="115" y="1802"/>
                </a:lnTo>
                <a:lnTo>
                  <a:pt x="159" y="1811"/>
                </a:lnTo>
                <a:lnTo>
                  <a:pt x="204" y="1819"/>
                </a:lnTo>
                <a:lnTo>
                  <a:pt x="250" y="1825"/>
                </a:lnTo>
                <a:lnTo>
                  <a:pt x="298" y="1829"/>
                </a:lnTo>
                <a:lnTo>
                  <a:pt x="344" y="1830"/>
                </a:lnTo>
                <a:lnTo>
                  <a:pt x="392" y="1829"/>
                </a:lnTo>
                <a:lnTo>
                  <a:pt x="438" y="1825"/>
                </a:lnTo>
                <a:lnTo>
                  <a:pt x="484" y="1819"/>
                </a:lnTo>
                <a:lnTo>
                  <a:pt x="528" y="1811"/>
                </a:lnTo>
                <a:lnTo>
                  <a:pt x="572" y="1802"/>
                </a:lnTo>
                <a:lnTo>
                  <a:pt x="605" y="1792"/>
                </a:lnTo>
                <a:lnTo>
                  <a:pt x="605" y="1792"/>
                </a:lnTo>
                <a:lnTo>
                  <a:pt x="603" y="1790"/>
                </a:lnTo>
                <a:lnTo>
                  <a:pt x="603" y="1788"/>
                </a:lnTo>
                <a:lnTo>
                  <a:pt x="601" y="1788"/>
                </a:lnTo>
                <a:lnTo>
                  <a:pt x="599" y="1786"/>
                </a:lnTo>
                <a:lnTo>
                  <a:pt x="599" y="1786"/>
                </a:lnTo>
                <a:lnTo>
                  <a:pt x="597" y="1784"/>
                </a:lnTo>
                <a:lnTo>
                  <a:pt x="597" y="1784"/>
                </a:lnTo>
                <a:lnTo>
                  <a:pt x="570" y="1790"/>
                </a:lnTo>
                <a:lnTo>
                  <a:pt x="526" y="1802"/>
                </a:lnTo>
                <a:lnTo>
                  <a:pt x="482" y="1809"/>
                </a:lnTo>
                <a:lnTo>
                  <a:pt x="436" y="1815"/>
                </a:lnTo>
                <a:lnTo>
                  <a:pt x="390" y="1819"/>
                </a:lnTo>
                <a:lnTo>
                  <a:pt x="344" y="1819"/>
                </a:lnTo>
                <a:lnTo>
                  <a:pt x="298" y="1819"/>
                </a:lnTo>
                <a:lnTo>
                  <a:pt x="252" y="1815"/>
                </a:lnTo>
                <a:lnTo>
                  <a:pt x="206" y="1809"/>
                </a:lnTo>
                <a:lnTo>
                  <a:pt x="161" y="1802"/>
                </a:lnTo>
                <a:lnTo>
                  <a:pt x="117" y="1790"/>
                </a:lnTo>
                <a:lnTo>
                  <a:pt x="75" y="1779"/>
                </a:lnTo>
                <a:lnTo>
                  <a:pt x="33" y="1765"/>
                </a:lnTo>
                <a:lnTo>
                  <a:pt x="0" y="1752"/>
                </a:lnTo>
                <a:lnTo>
                  <a:pt x="0" y="1754"/>
                </a:lnTo>
                <a:lnTo>
                  <a:pt x="0" y="1756"/>
                </a:lnTo>
                <a:lnTo>
                  <a:pt x="0" y="1756"/>
                </a:lnTo>
                <a:lnTo>
                  <a:pt x="2" y="1758"/>
                </a:lnTo>
                <a:lnTo>
                  <a:pt x="2" y="1759"/>
                </a:lnTo>
                <a:lnTo>
                  <a:pt x="2" y="1761"/>
                </a:lnTo>
                <a:lnTo>
                  <a:pt x="2" y="1763"/>
                </a:lnTo>
                <a:lnTo>
                  <a:pt x="2" y="1763"/>
                </a:lnTo>
                <a:close/>
              </a:path>
            </a:pathLst>
          </a:custGeom>
          <a:solidFill>
            <a:srgbClr val="54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Freeform 357"/>
          <p:cNvSpPr/>
          <p:nvPr/>
        </p:nvSpPr>
        <p:spPr>
          <a:xfrm>
            <a:off x="5797440" y="1797120"/>
            <a:ext cx="954360" cy="2890800"/>
          </a:xfrm>
          <a:custGeom>
            <a:avLst/>
            <a:gdLst>
              <a:gd name="textAreaLeft" fmla="*/ 0 w 954360"/>
              <a:gd name="textAreaRight" fmla="*/ 954720 w 954360"/>
              <a:gd name="textAreaTop" fmla="*/ 0 h 2890800"/>
              <a:gd name="textAreaBottom" fmla="*/ 2891160 h 2890800"/>
            </a:gdLst>
            <a:ahLst/>
            <a:rect l="textAreaLeft" t="textAreaTop" r="textAreaRight" b="textAreaBottom"/>
            <a:pathLst>
              <a:path w="601" h="1821">
                <a:moveTo>
                  <a:pt x="578" y="31"/>
                </a:moveTo>
                <a:lnTo>
                  <a:pt x="572" y="29"/>
                </a:lnTo>
                <a:lnTo>
                  <a:pt x="528" y="19"/>
                </a:lnTo>
                <a:lnTo>
                  <a:pt x="482" y="11"/>
                </a:lnTo>
                <a:lnTo>
                  <a:pt x="438" y="6"/>
                </a:lnTo>
                <a:lnTo>
                  <a:pt x="390" y="2"/>
                </a:lnTo>
                <a:lnTo>
                  <a:pt x="344" y="0"/>
                </a:lnTo>
                <a:lnTo>
                  <a:pt x="298" y="2"/>
                </a:lnTo>
                <a:lnTo>
                  <a:pt x="252" y="6"/>
                </a:lnTo>
                <a:lnTo>
                  <a:pt x="215" y="9"/>
                </a:lnTo>
                <a:lnTo>
                  <a:pt x="215" y="11"/>
                </a:lnTo>
                <a:lnTo>
                  <a:pt x="215" y="13"/>
                </a:lnTo>
                <a:lnTo>
                  <a:pt x="213" y="13"/>
                </a:lnTo>
                <a:lnTo>
                  <a:pt x="213" y="15"/>
                </a:lnTo>
                <a:lnTo>
                  <a:pt x="213" y="17"/>
                </a:lnTo>
                <a:lnTo>
                  <a:pt x="211" y="19"/>
                </a:lnTo>
                <a:lnTo>
                  <a:pt x="211" y="19"/>
                </a:lnTo>
                <a:lnTo>
                  <a:pt x="211" y="21"/>
                </a:lnTo>
                <a:lnTo>
                  <a:pt x="252" y="15"/>
                </a:lnTo>
                <a:lnTo>
                  <a:pt x="298" y="13"/>
                </a:lnTo>
                <a:lnTo>
                  <a:pt x="344" y="11"/>
                </a:lnTo>
                <a:lnTo>
                  <a:pt x="390" y="13"/>
                </a:lnTo>
                <a:lnTo>
                  <a:pt x="436" y="15"/>
                </a:lnTo>
                <a:lnTo>
                  <a:pt x="480" y="21"/>
                </a:lnTo>
                <a:lnTo>
                  <a:pt x="526" y="29"/>
                </a:lnTo>
                <a:lnTo>
                  <a:pt x="568" y="40"/>
                </a:lnTo>
                <a:lnTo>
                  <a:pt x="570" y="40"/>
                </a:lnTo>
                <a:lnTo>
                  <a:pt x="570" y="38"/>
                </a:lnTo>
                <a:lnTo>
                  <a:pt x="572" y="38"/>
                </a:lnTo>
                <a:lnTo>
                  <a:pt x="572" y="36"/>
                </a:lnTo>
                <a:lnTo>
                  <a:pt x="574" y="36"/>
                </a:lnTo>
                <a:lnTo>
                  <a:pt x="574" y="34"/>
                </a:lnTo>
                <a:lnTo>
                  <a:pt x="576" y="32"/>
                </a:lnTo>
                <a:lnTo>
                  <a:pt x="576" y="32"/>
                </a:lnTo>
                <a:lnTo>
                  <a:pt x="578" y="31"/>
                </a:lnTo>
                <a:close/>
                <a:moveTo>
                  <a:pt x="2" y="1754"/>
                </a:moveTo>
                <a:lnTo>
                  <a:pt x="31" y="1765"/>
                </a:lnTo>
                <a:lnTo>
                  <a:pt x="73" y="1780"/>
                </a:lnTo>
                <a:lnTo>
                  <a:pt x="117" y="1792"/>
                </a:lnTo>
                <a:lnTo>
                  <a:pt x="161" y="1802"/>
                </a:lnTo>
                <a:lnTo>
                  <a:pt x="206" y="1811"/>
                </a:lnTo>
                <a:lnTo>
                  <a:pt x="252" y="1817"/>
                </a:lnTo>
                <a:lnTo>
                  <a:pt x="298" y="1819"/>
                </a:lnTo>
                <a:lnTo>
                  <a:pt x="344" y="1821"/>
                </a:lnTo>
                <a:lnTo>
                  <a:pt x="390" y="1819"/>
                </a:lnTo>
                <a:lnTo>
                  <a:pt x="438" y="1817"/>
                </a:lnTo>
                <a:lnTo>
                  <a:pt x="482" y="1811"/>
                </a:lnTo>
                <a:lnTo>
                  <a:pt x="528" y="1802"/>
                </a:lnTo>
                <a:lnTo>
                  <a:pt x="572" y="1792"/>
                </a:lnTo>
                <a:lnTo>
                  <a:pt x="601" y="1784"/>
                </a:lnTo>
                <a:lnTo>
                  <a:pt x="599" y="1782"/>
                </a:lnTo>
                <a:lnTo>
                  <a:pt x="599" y="1782"/>
                </a:lnTo>
                <a:lnTo>
                  <a:pt x="597" y="1780"/>
                </a:lnTo>
                <a:lnTo>
                  <a:pt x="597" y="1780"/>
                </a:lnTo>
                <a:lnTo>
                  <a:pt x="595" y="1778"/>
                </a:lnTo>
                <a:lnTo>
                  <a:pt x="595" y="1777"/>
                </a:lnTo>
                <a:lnTo>
                  <a:pt x="593" y="1777"/>
                </a:lnTo>
                <a:lnTo>
                  <a:pt x="593" y="1775"/>
                </a:lnTo>
                <a:lnTo>
                  <a:pt x="568" y="1782"/>
                </a:lnTo>
                <a:lnTo>
                  <a:pt x="526" y="1792"/>
                </a:lnTo>
                <a:lnTo>
                  <a:pt x="480" y="1800"/>
                </a:lnTo>
                <a:lnTo>
                  <a:pt x="436" y="1805"/>
                </a:lnTo>
                <a:lnTo>
                  <a:pt x="390" y="1809"/>
                </a:lnTo>
                <a:lnTo>
                  <a:pt x="344" y="1811"/>
                </a:lnTo>
                <a:lnTo>
                  <a:pt x="298" y="1809"/>
                </a:lnTo>
                <a:lnTo>
                  <a:pt x="252" y="1805"/>
                </a:lnTo>
                <a:lnTo>
                  <a:pt x="207" y="1800"/>
                </a:lnTo>
                <a:lnTo>
                  <a:pt x="163" y="1792"/>
                </a:lnTo>
                <a:lnTo>
                  <a:pt x="119" y="1782"/>
                </a:lnTo>
                <a:lnTo>
                  <a:pt x="77" y="1769"/>
                </a:lnTo>
                <a:lnTo>
                  <a:pt x="35" y="1755"/>
                </a:lnTo>
                <a:lnTo>
                  <a:pt x="0" y="1742"/>
                </a:lnTo>
                <a:lnTo>
                  <a:pt x="0" y="1744"/>
                </a:lnTo>
                <a:lnTo>
                  <a:pt x="0" y="1744"/>
                </a:lnTo>
                <a:lnTo>
                  <a:pt x="0" y="1746"/>
                </a:lnTo>
                <a:lnTo>
                  <a:pt x="0" y="1748"/>
                </a:lnTo>
                <a:lnTo>
                  <a:pt x="0" y="1750"/>
                </a:lnTo>
                <a:lnTo>
                  <a:pt x="0" y="1752"/>
                </a:lnTo>
                <a:lnTo>
                  <a:pt x="0" y="1752"/>
                </a:lnTo>
                <a:lnTo>
                  <a:pt x="2" y="1754"/>
                </a:lnTo>
                <a:close/>
              </a:path>
            </a:pathLst>
          </a:custGeom>
          <a:solidFill>
            <a:srgbClr val="55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Freeform 358"/>
          <p:cNvSpPr/>
          <p:nvPr/>
        </p:nvSpPr>
        <p:spPr>
          <a:xfrm>
            <a:off x="5794200" y="1806480"/>
            <a:ext cx="951120" cy="2871720"/>
          </a:xfrm>
          <a:custGeom>
            <a:avLst/>
            <a:gdLst>
              <a:gd name="textAreaLeft" fmla="*/ 0 w 951120"/>
              <a:gd name="textAreaRight" fmla="*/ 951480 w 951120"/>
              <a:gd name="textAreaTop" fmla="*/ 0 h 2871720"/>
              <a:gd name="textAreaBottom" fmla="*/ 2871720 h 2871720"/>
            </a:gdLst>
            <a:ahLst/>
            <a:rect l="textAreaLeft" t="textAreaTop" r="textAreaRight" b="textAreaBottom"/>
            <a:pathLst>
              <a:path w="599" h="1809">
                <a:moveTo>
                  <a:pt x="576" y="30"/>
                </a:moveTo>
                <a:lnTo>
                  <a:pt x="572" y="28"/>
                </a:lnTo>
                <a:lnTo>
                  <a:pt x="528" y="19"/>
                </a:lnTo>
                <a:lnTo>
                  <a:pt x="484" y="11"/>
                </a:lnTo>
                <a:lnTo>
                  <a:pt x="438" y="5"/>
                </a:lnTo>
                <a:lnTo>
                  <a:pt x="392" y="2"/>
                </a:lnTo>
                <a:lnTo>
                  <a:pt x="346" y="0"/>
                </a:lnTo>
                <a:lnTo>
                  <a:pt x="300" y="2"/>
                </a:lnTo>
                <a:lnTo>
                  <a:pt x="254" y="5"/>
                </a:lnTo>
                <a:lnTo>
                  <a:pt x="215" y="9"/>
                </a:lnTo>
                <a:lnTo>
                  <a:pt x="215" y="11"/>
                </a:lnTo>
                <a:lnTo>
                  <a:pt x="213" y="13"/>
                </a:lnTo>
                <a:lnTo>
                  <a:pt x="213" y="13"/>
                </a:lnTo>
                <a:lnTo>
                  <a:pt x="213" y="15"/>
                </a:lnTo>
                <a:lnTo>
                  <a:pt x="213" y="17"/>
                </a:lnTo>
                <a:lnTo>
                  <a:pt x="211" y="19"/>
                </a:lnTo>
                <a:lnTo>
                  <a:pt x="211" y="19"/>
                </a:lnTo>
                <a:lnTo>
                  <a:pt x="211" y="21"/>
                </a:lnTo>
                <a:lnTo>
                  <a:pt x="254" y="15"/>
                </a:lnTo>
                <a:lnTo>
                  <a:pt x="300" y="11"/>
                </a:lnTo>
                <a:lnTo>
                  <a:pt x="346" y="11"/>
                </a:lnTo>
                <a:lnTo>
                  <a:pt x="392" y="11"/>
                </a:lnTo>
                <a:lnTo>
                  <a:pt x="438" y="15"/>
                </a:lnTo>
                <a:lnTo>
                  <a:pt x="482" y="21"/>
                </a:lnTo>
                <a:lnTo>
                  <a:pt x="526" y="28"/>
                </a:lnTo>
                <a:lnTo>
                  <a:pt x="566" y="38"/>
                </a:lnTo>
                <a:lnTo>
                  <a:pt x="568" y="38"/>
                </a:lnTo>
                <a:lnTo>
                  <a:pt x="570" y="36"/>
                </a:lnTo>
                <a:lnTo>
                  <a:pt x="570" y="34"/>
                </a:lnTo>
                <a:lnTo>
                  <a:pt x="572" y="34"/>
                </a:lnTo>
                <a:lnTo>
                  <a:pt x="572" y="32"/>
                </a:lnTo>
                <a:lnTo>
                  <a:pt x="574" y="32"/>
                </a:lnTo>
                <a:lnTo>
                  <a:pt x="574" y="30"/>
                </a:lnTo>
                <a:lnTo>
                  <a:pt x="576" y="30"/>
                </a:lnTo>
                <a:close/>
                <a:moveTo>
                  <a:pt x="2" y="1742"/>
                </a:moveTo>
                <a:lnTo>
                  <a:pt x="35" y="1755"/>
                </a:lnTo>
                <a:lnTo>
                  <a:pt x="77" y="1769"/>
                </a:lnTo>
                <a:lnTo>
                  <a:pt x="119" y="1780"/>
                </a:lnTo>
                <a:lnTo>
                  <a:pt x="163" y="1792"/>
                </a:lnTo>
                <a:lnTo>
                  <a:pt x="208" y="1799"/>
                </a:lnTo>
                <a:lnTo>
                  <a:pt x="254" y="1805"/>
                </a:lnTo>
                <a:lnTo>
                  <a:pt x="300" y="1809"/>
                </a:lnTo>
                <a:lnTo>
                  <a:pt x="346" y="1809"/>
                </a:lnTo>
                <a:lnTo>
                  <a:pt x="392" y="1809"/>
                </a:lnTo>
                <a:lnTo>
                  <a:pt x="438" y="1805"/>
                </a:lnTo>
                <a:lnTo>
                  <a:pt x="484" y="1799"/>
                </a:lnTo>
                <a:lnTo>
                  <a:pt x="528" y="1792"/>
                </a:lnTo>
                <a:lnTo>
                  <a:pt x="572" y="1780"/>
                </a:lnTo>
                <a:lnTo>
                  <a:pt x="599" y="1774"/>
                </a:lnTo>
                <a:lnTo>
                  <a:pt x="597" y="1772"/>
                </a:lnTo>
                <a:lnTo>
                  <a:pt x="597" y="1771"/>
                </a:lnTo>
                <a:lnTo>
                  <a:pt x="595" y="1771"/>
                </a:lnTo>
                <a:lnTo>
                  <a:pt x="595" y="1769"/>
                </a:lnTo>
                <a:lnTo>
                  <a:pt x="593" y="1769"/>
                </a:lnTo>
                <a:lnTo>
                  <a:pt x="593" y="1767"/>
                </a:lnTo>
                <a:lnTo>
                  <a:pt x="591" y="1767"/>
                </a:lnTo>
                <a:lnTo>
                  <a:pt x="591" y="1765"/>
                </a:lnTo>
                <a:lnTo>
                  <a:pt x="570" y="1771"/>
                </a:lnTo>
                <a:lnTo>
                  <a:pt x="526" y="1780"/>
                </a:lnTo>
                <a:lnTo>
                  <a:pt x="482" y="1788"/>
                </a:lnTo>
                <a:lnTo>
                  <a:pt x="438" y="1794"/>
                </a:lnTo>
                <a:lnTo>
                  <a:pt x="392" y="1797"/>
                </a:lnTo>
                <a:lnTo>
                  <a:pt x="346" y="1799"/>
                </a:lnTo>
                <a:lnTo>
                  <a:pt x="300" y="1797"/>
                </a:lnTo>
                <a:lnTo>
                  <a:pt x="254" y="1794"/>
                </a:lnTo>
                <a:lnTo>
                  <a:pt x="209" y="1788"/>
                </a:lnTo>
                <a:lnTo>
                  <a:pt x="165" y="1780"/>
                </a:lnTo>
                <a:lnTo>
                  <a:pt x="123" y="1771"/>
                </a:lnTo>
                <a:lnTo>
                  <a:pt x="81" y="1759"/>
                </a:lnTo>
                <a:lnTo>
                  <a:pt x="39" y="1746"/>
                </a:lnTo>
                <a:lnTo>
                  <a:pt x="0" y="1730"/>
                </a:lnTo>
                <a:lnTo>
                  <a:pt x="0" y="1732"/>
                </a:lnTo>
                <a:lnTo>
                  <a:pt x="0" y="1732"/>
                </a:lnTo>
                <a:lnTo>
                  <a:pt x="2" y="1734"/>
                </a:lnTo>
                <a:lnTo>
                  <a:pt x="2" y="1736"/>
                </a:lnTo>
                <a:lnTo>
                  <a:pt x="2" y="1738"/>
                </a:lnTo>
                <a:lnTo>
                  <a:pt x="2" y="1738"/>
                </a:lnTo>
                <a:lnTo>
                  <a:pt x="2" y="1740"/>
                </a:lnTo>
                <a:lnTo>
                  <a:pt x="2" y="1742"/>
                </a:lnTo>
                <a:close/>
              </a:path>
            </a:pathLst>
          </a:custGeom>
          <a:solidFill>
            <a:srgbClr val="5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Freeform 359"/>
          <p:cNvSpPr/>
          <p:nvPr/>
        </p:nvSpPr>
        <p:spPr>
          <a:xfrm>
            <a:off x="5794200" y="1814400"/>
            <a:ext cx="944640" cy="2857680"/>
          </a:xfrm>
          <a:custGeom>
            <a:avLst/>
            <a:gdLst>
              <a:gd name="textAreaLeft" fmla="*/ 0 w 944640"/>
              <a:gd name="textAreaRight" fmla="*/ 945000 w 944640"/>
              <a:gd name="textAreaTop" fmla="*/ 0 h 2857680"/>
              <a:gd name="textAreaBottom" fmla="*/ 2858040 h 2857680"/>
            </a:gdLst>
            <a:ahLst/>
            <a:rect l="textAreaLeft" t="textAreaTop" r="textAreaRight" b="textAreaBottom"/>
            <a:pathLst>
              <a:path w="595" h="1800">
                <a:moveTo>
                  <a:pt x="572" y="29"/>
                </a:moveTo>
                <a:lnTo>
                  <a:pt x="570" y="29"/>
                </a:lnTo>
                <a:lnTo>
                  <a:pt x="528" y="18"/>
                </a:lnTo>
                <a:lnTo>
                  <a:pt x="482" y="10"/>
                </a:lnTo>
                <a:lnTo>
                  <a:pt x="438" y="4"/>
                </a:lnTo>
                <a:lnTo>
                  <a:pt x="392" y="2"/>
                </a:lnTo>
                <a:lnTo>
                  <a:pt x="346" y="0"/>
                </a:lnTo>
                <a:lnTo>
                  <a:pt x="300" y="2"/>
                </a:lnTo>
                <a:lnTo>
                  <a:pt x="254" y="4"/>
                </a:lnTo>
                <a:lnTo>
                  <a:pt x="213" y="10"/>
                </a:lnTo>
                <a:lnTo>
                  <a:pt x="213" y="12"/>
                </a:lnTo>
                <a:lnTo>
                  <a:pt x="211" y="14"/>
                </a:lnTo>
                <a:lnTo>
                  <a:pt x="211" y="14"/>
                </a:lnTo>
                <a:lnTo>
                  <a:pt x="211" y="16"/>
                </a:lnTo>
                <a:lnTo>
                  <a:pt x="209" y="18"/>
                </a:lnTo>
                <a:lnTo>
                  <a:pt x="209" y="20"/>
                </a:lnTo>
                <a:lnTo>
                  <a:pt x="209" y="20"/>
                </a:lnTo>
                <a:lnTo>
                  <a:pt x="209" y="21"/>
                </a:lnTo>
                <a:lnTo>
                  <a:pt x="211" y="21"/>
                </a:lnTo>
                <a:lnTo>
                  <a:pt x="255" y="16"/>
                </a:lnTo>
                <a:lnTo>
                  <a:pt x="300" y="12"/>
                </a:lnTo>
                <a:lnTo>
                  <a:pt x="346" y="12"/>
                </a:lnTo>
                <a:lnTo>
                  <a:pt x="392" y="12"/>
                </a:lnTo>
                <a:lnTo>
                  <a:pt x="436" y="16"/>
                </a:lnTo>
                <a:lnTo>
                  <a:pt x="482" y="21"/>
                </a:lnTo>
                <a:lnTo>
                  <a:pt x="524" y="29"/>
                </a:lnTo>
                <a:lnTo>
                  <a:pt x="563" y="39"/>
                </a:lnTo>
                <a:lnTo>
                  <a:pt x="565" y="37"/>
                </a:lnTo>
                <a:lnTo>
                  <a:pt x="565" y="35"/>
                </a:lnTo>
                <a:lnTo>
                  <a:pt x="566" y="35"/>
                </a:lnTo>
                <a:lnTo>
                  <a:pt x="566" y="33"/>
                </a:lnTo>
                <a:lnTo>
                  <a:pt x="568" y="33"/>
                </a:lnTo>
                <a:lnTo>
                  <a:pt x="570" y="31"/>
                </a:lnTo>
                <a:lnTo>
                  <a:pt x="570" y="29"/>
                </a:lnTo>
                <a:lnTo>
                  <a:pt x="572" y="29"/>
                </a:lnTo>
                <a:close/>
                <a:moveTo>
                  <a:pt x="2" y="1731"/>
                </a:moveTo>
                <a:lnTo>
                  <a:pt x="37" y="1744"/>
                </a:lnTo>
                <a:lnTo>
                  <a:pt x="79" y="1758"/>
                </a:lnTo>
                <a:lnTo>
                  <a:pt x="121" y="1771"/>
                </a:lnTo>
                <a:lnTo>
                  <a:pt x="165" y="1781"/>
                </a:lnTo>
                <a:lnTo>
                  <a:pt x="209" y="1789"/>
                </a:lnTo>
                <a:lnTo>
                  <a:pt x="254" y="1794"/>
                </a:lnTo>
                <a:lnTo>
                  <a:pt x="300" y="1798"/>
                </a:lnTo>
                <a:lnTo>
                  <a:pt x="346" y="1800"/>
                </a:lnTo>
                <a:lnTo>
                  <a:pt x="392" y="1798"/>
                </a:lnTo>
                <a:lnTo>
                  <a:pt x="438" y="1794"/>
                </a:lnTo>
                <a:lnTo>
                  <a:pt x="482" y="1789"/>
                </a:lnTo>
                <a:lnTo>
                  <a:pt x="528" y="1781"/>
                </a:lnTo>
                <a:lnTo>
                  <a:pt x="570" y="1771"/>
                </a:lnTo>
                <a:lnTo>
                  <a:pt x="595" y="1764"/>
                </a:lnTo>
                <a:lnTo>
                  <a:pt x="593" y="1764"/>
                </a:lnTo>
                <a:lnTo>
                  <a:pt x="593" y="1762"/>
                </a:lnTo>
                <a:lnTo>
                  <a:pt x="591" y="1762"/>
                </a:lnTo>
                <a:lnTo>
                  <a:pt x="591" y="1760"/>
                </a:lnTo>
                <a:lnTo>
                  <a:pt x="589" y="1758"/>
                </a:lnTo>
                <a:lnTo>
                  <a:pt x="588" y="1758"/>
                </a:lnTo>
                <a:lnTo>
                  <a:pt x="588" y="1756"/>
                </a:lnTo>
                <a:lnTo>
                  <a:pt x="586" y="1756"/>
                </a:lnTo>
                <a:lnTo>
                  <a:pt x="568" y="1760"/>
                </a:lnTo>
                <a:lnTo>
                  <a:pt x="524" y="1771"/>
                </a:lnTo>
                <a:lnTo>
                  <a:pt x="482" y="1779"/>
                </a:lnTo>
                <a:lnTo>
                  <a:pt x="436" y="1785"/>
                </a:lnTo>
                <a:lnTo>
                  <a:pt x="392" y="1787"/>
                </a:lnTo>
                <a:lnTo>
                  <a:pt x="346" y="1789"/>
                </a:lnTo>
                <a:lnTo>
                  <a:pt x="300" y="1787"/>
                </a:lnTo>
                <a:lnTo>
                  <a:pt x="255" y="1785"/>
                </a:lnTo>
                <a:lnTo>
                  <a:pt x="211" y="1779"/>
                </a:lnTo>
                <a:lnTo>
                  <a:pt x="167" y="1771"/>
                </a:lnTo>
                <a:lnTo>
                  <a:pt x="123" y="1760"/>
                </a:lnTo>
                <a:lnTo>
                  <a:pt x="81" y="1748"/>
                </a:lnTo>
                <a:lnTo>
                  <a:pt x="41" y="1735"/>
                </a:lnTo>
                <a:lnTo>
                  <a:pt x="0" y="1720"/>
                </a:lnTo>
                <a:lnTo>
                  <a:pt x="0" y="1720"/>
                </a:lnTo>
                <a:lnTo>
                  <a:pt x="0" y="1720"/>
                </a:lnTo>
                <a:lnTo>
                  <a:pt x="0" y="1721"/>
                </a:lnTo>
                <a:lnTo>
                  <a:pt x="0" y="1723"/>
                </a:lnTo>
                <a:lnTo>
                  <a:pt x="0" y="1725"/>
                </a:lnTo>
                <a:lnTo>
                  <a:pt x="0" y="1727"/>
                </a:lnTo>
                <a:lnTo>
                  <a:pt x="0" y="1727"/>
                </a:lnTo>
                <a:lnTo>
                  <a:pt x="2" y="1729"/>
                </a:lnTo>
                <a:lnTo>
                  <a:pt x="2" y="1731"/>
                </a:lnTo>
                <a:close/>
              </a:path>
            </a:pathLst>
          </a:custGeom>
          <a:solidFill>
            <a:srgbClr val="57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Freeform 360"/>
          <p:cNvSpPr/>
          <p:nvPr/>
        </p:nvSpPr>
        <p:spPr>
          <a:xfrm>
            <a:off x="5791320" y="1824120"/>
            <a:ext cx="941400" cy="2838240"/>
          </a:xfrm>
          <a:custGeom>
            <a:avLst/>
            <a:gdLst>
              <a:gd name="textAreaLeft" fmla="*/ 0 w 941400"/>
              <a:gd name="textAreaRight" fmla="*/ 941760 w 941400"/>
              <a:gd name="textAreaTop" fmla="*/ 0 h 2838240"/>
              <a:gd name="textAreaBottom" fmla="*/ 2838600 h 2838240"/>
            </a:gdLst>
            <a:ahLst/>
            <a:rect l="textAreaLeft" t="textAreaTop" r="textAreaRight" b="textAreaBottom"/>
            <a:pathLst>
              <a:path w="593" h="1788">
                <a:moveTo>
                  <a:pt x="568" y="27"/>
                </a:moveTo>
                <a:lnTo>
                  <a:pt x="528" y="17"/>
                </a:lnTo>
                <a:lnTo>
                  <a:pt x="484" y="10"/>
                </a:lnTo>
                <a:lnTo>
                  <a:pt x="440" y="4"/>
                </a:lnTo>
                <a:lnTo>
                  <a:pt x="394" y="0"/>
                </a:lnTo>
                <a:lnTo>
                  <a:pt x="348" y="0"/>
                </a:lnTo>
                <a:lnTo>
                  <a:pt x="302" y="0"/>
                </a:lnTo>
                <a:lnTo>
                  <a:pt x="256" y="4"/>
                </a:lnTo>
                <a:lnTo>
                  <a:pt x="213" y="10"/>
                </a:lnTo>
                <a:lnTo>
                  <a:pt x="211" y="12"/>
                </a:lnTo>
                <a:lnTo>
                  <a:pt x="211" y="14"/>
                </a:lnTo>
                <a:lnTo>
                  <a:pt x="211" y="14"/>
                </a:lnTo>
                <a:lnTo>
                  <a:pt x="211" y="15"/>
                </a:lnTo>
                <a:lnTo>
                  <a:pt x="210" y="17"/>
                </a:lnTo>
                <a:lnTo>
                  <a:pt x="210" y="19"/>
                </a:lnTo>
                <a:lnTo>
                  <a:pt x="210" y="19"/>
                </a:lnTo>
                <a:lnTo>
                  <a:pt x="208" y="21"/>
                </a:lnTo>
                <a:lnTo>
                  <a:pt x="213" y="21"/>
                </a:lnTo>
                <a:lnTo>
                  <a:pt x="257" y="15"/>
                </a:lnTo>
                <a:lnTo>
                  <a:pt x="302" y="12"/>
                </a:lnTo>
                <a:lnTo>
                  <a:pt x="348" y="10"/>
                </a:lnTo>
                <a:lnTo>
                  <a:pt x="394" y="12"/>
                </a:lnTo>
                <a:lnTo>
                  <a:pt x="438" y="15"/>
                </a:lnTo>
                <a:lnTo>
                  <a:pt x="482" y="21"/>
                </a:lnTo>
                <a:lnTo>
                  <a:pt x="526" y="29"/>
                </a:lnTo>
                <a:lnTo>
                  <a:pt x="561" y="37"/>
                </a:lnTo>
                <a:lnTo>
                  <a:pt x="563" y="35"/>
                </a:lnTo>
                <a:lnTo>
                  <a:pt x="563" y="35"/>
                </a:lnTo>
                <a:lnTo>
                  <a:pt x="565" y="33"/>
                </a:lnTo>
                <a:lnTo>
                  <a:pt x="565" y="33"/>
                </a:lnTo>
                <a:lnTo>
                  <a:pt x="567" y="31"/>
                </a:lnTo>
                <a:lnTo>
                  <a:pt x="567" y="29"/>
                </a:lnTo>
                <a:lnTo>
                  <a:pt x="568" y="29"/>
                </a:lnTo>
                <a:lnTo>
                  <a:pt x="568" y="27"/>
                </a:lnTo>
                <a:close/>
                <a:moveTo>
                  <a:pt x="2" y="1719"/>
                </a:moveTo>
                <a:lnTo>
                  <a:pt x="41" y="1735"/>
                </a:lnTo>
                <a:lnTo>
                  <a:pt x="83" y="1748"/>
                </a:lnTo>
                <a:lnTo>
                  <a:pt x="125" y="1760"/>
                </a:lnTo>
                <a:lnTo>
                  <a:pt x="167" y="1769"/>
                </a:lnTo>
                <a:lnTo>
                  <a:pt x="211" y="1777"/>
                </a:lnTo>
                <a:lnTo>
                  <a:pt x="256" y="1783"/>
                </a:lnTo>
                <a:lnTo>
                  <a:pt x="302" y="1786"/>
                </a:lnTo>
                <a:lnTo>
                  <a:pt x="348" y="1788"/>
                </a:lnTo>
                <a:lnTo>
                  <a:pt x="394" y="1786"/>
                </a:lnTo>
                <a:lnTo>
                  <a:pt x="440" y="1783"/>
                </a:lnTo>
                <a:lnTo>
                  <a:pt x="484" y="1777"/>
                </a:lnTo>
                <a:lnTo>
                  <a:pt x="528" y="1769"/>
                </a:lnTo>
                <a:lnTo>
                  <a:pt x="572" y="1760"/>
                </a:lnTo>
                <a:lnTo>
                  <a:pt x="593" y="1754"/>
                </a:lnTo>
                <a:lnTo>
                  <a:pt x="591" y="1752"/>
                </a:lnTo>
                <a:lnTo>
                  <a:pt x="590" y="1752"/>
                </a:lnTo>
                <a:lnTo>
                  <a:pt x="590" y="1750"/>
                </a:lnTo>
                <a:lnTo>
                  <a:pt x="588" y="1750"/>
                </a:lnTo>
                <a:lnTo>
                  <a:pt x="588" y="1748"/>
                </a:lnTo>
                <a:lnTo>
                  <a:pt x="586" y="1748"/>
                </a:lnTo>
                <a:lnTo>
                  <a:pt x="586" y="1746"/>
                </a:lnTo>
                <a:lnTo>
                  <a:pt x="584" y="1744"/>
                </a:lnTo>
                <a:lnTo>
                  <a:pt x="568" y="1750"/>
                </a:lnTo>
                <a:lnTo>
                  <a:pt x="526" y="1760"/>
                </a:lnTo>
                <a:lnTo>
                  <a:pt x="482" y="1767"/>
                </a:lnTo>
                <a:lnTo>
                  <a:pt x="438" y="1773"/>
                </a:lnTo>
                <a:lnTo>
                  <a:pt x="394" y="1777"/>
                </a:lnTo>
                <a:lnTo>
                  <a:pt x="348" y="1777"/>
                </a:lnTo>
                <a:lnTo>
                  <a:pt x="302" y="1777"/>
                </a:lnTo>
                <a:lnTo>
                  <a:pt x="257" y="1773"/>
                </a:lnTo>
                <a:lnTo>
                  <a:pt x="213" y="1767"/>
                </a:lnTo>
                <a:lnTo>
                  <a:pt x="169" y="1760"/>
                </a:lnTo>
                <a:lnTo>
                  <a:pt x="127" y="1750"/>
                </a:lnTo>
                <a:lnTo>
                  <a:pt x="85" y="1738"/>
                </a:lnTo>
                <a:lnTo>
                  <a:pt x="44" y="1723"/>
                </a:lnTo>
                <a:lnTo>
                  <a:pt x="4" y="1708"/>
                </a:lnTo>
                <a:lnTo>
                  <a:pt x="0" y="1706"/>
                </a:lnTo>
                <a:lnTo>
                  <a:pt x="0" y="1708"/>
                </a:lnTo>
                <a:lnTo>
                  <a:pt x="2" y="1710"/>
                </a:lnTo>
                <a:lnTo>
                  <a:pt x="2" y="1712"/>
                </a:lnTo>
                <a:lnTo>
                  <a:pt x="2" y="1714"/>
                </a:lnTo>
                <a:lnTo>
                  <a:pt x="2" y="1714"/>
                </a:lnTo>
                <a:lnTo>
                  <a:pt x="2" y="1715"/>
                </a:lnTo>
                <a:lnTo>
                  <a:pt x="2" y="1717"/>
                </a:lnTo>
                <a:lnTo>
                  <a:pt x="2" y="1719"/>
                </a:lnTo>
                <a:close/>
              </a:path>
            </a:pathLst>
          </a:custGeom>
          <a:solidFill>
            <a:srgbClr val="58b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Freeform 361"/>
          <p:cNvSpPr/>
          <p:nvPr/>
        </p:nvSpPr>
        <p:spPr>
          <a:xfrm>
            <a:off x="5791320" y="1833480"/>
            <a:ext cx="933480" cy="2820960"/>
          </a:xfrm>
          <a:custGeom>
            <a:avLst/>
            <a:gdLst>
              <a:gd name="textAreaLeft" fmla="*/ 0 w 933480"/>
              <a:gd name="textAreaRight" fmla="*/ 933840 w 933480"/>
              <a:gd name="textAreaTop" fmla="*/ 0 h 2820960"/>
              <a:gd name="textAreaBottom" fmla="*/ 2820960 h 2820960"/>
            </a:gdLst>
            <a:ahLst/>
            <a:rect l="textAreaLeft" t="textAreaTop" r="textAreaRight" b="textAreaBottom"/>
            <a:pathLst>
              <a:path w="588" h="1777">
                <a:moveTo>
                  <a:pt x="565" y="27"/>
                </a:moveTo>
                <a:lnTo>
                  <a:pt x="526" y="17"/>
                </a:lnTo>
                <a:lnTo>
                  <a:pt x="484" y="9"/>
                </a:lnTo>
                <a:lnTo>
                  <a:pt x="438" y="4"/>
                </a:lnTo>
                <a:lnTo>
                  <a:pt x="394" y="0"/>
                </a:lnTo>
                <a:lnTo>
                  <a:pt x="348" y="0"/>
                </a:lnTo>
                <a:lnTo>
                  <a:pt x="302" y="0"/>
                </a:lnTo>
                <a:lnTo>
                  <a:pt x="257" y="4"/>
                </a:lnTo>
                <a:lnTo>
                  <a:pt x="213" y="9"/>
                </a:lnTo>
                <a:lnTo>
                  <a:pt x="211" y="9"/>
                </a:lnTo>
                <a:lnTo>
                  <a:pt x="210" y="11"/>
                </a:lnTo>
                <a:lnTo>
                  <a:pt x="210" y="13"/>
                </a:lnTo>
                <a:lnTo>
                  <a:pt x="210" y="13"/>
                </a:lnTo>
                <a:lnTo>
                  <a:pt x="208" y="15"/>
                </a:lnTo>
                <a:lnTo>
                  <a:pt x="208" y="17"/>
                </a:lnTo>
                <a:lnTo>
                  <a:pt x="208" y="19"/>
                </a:lnTo>
                <a:lnTo>
                  <a:pt x="206" y="19"/>
                </a:lnTo>
                <a:lnTo>
                  <a:pt x="206" y="21"/>
                </a:lnTo>
                <a:lnTo>
                  <a:pt x="213" y="19"/>
                </a:lnTo>
                <a:lnTo>
                  <a:pt x="257" y="13"/>
                </a:lnTo>
                <a:lnTo>
                  <a:pt x="304" y="11"/>
                </a:lnTo>
                <a:lnTo>
                  <a:pt x="348" y="9"/>
                </a:lnTo>
                <a:lnTo>
                  <a:pt x="394" y="11"/>
                </a:lnTo>
                <a:lnTo>
                  <a:pt x="438" y="13"/>
                </a:lnTo>
                <a:lnTo>
                  <a:pt x="482" y="19"/>
                </a:lnTo>
                <a:lnTo>
                  <a:pt x="524" y="27"/>
                </a:lnTo>
                <a:lnTo>
                  <a:pt x="557" y="34"/>
                </a:lnTo>
                <a:lnTo>
                  <a:pt x="559" y="34"/>
                </a:lnTo>
                <a:lnTo>
                  <a:pt x="559" y="33"/>
                </a:lnTo>
                <a:lnTo>
                  <a:pt x="561" y="31"/>
                </a:lnTo>
                <a:lnTo>
                  <a:pt x="561" y="31"/>
                </a:lnTo>
                <a:lnTo>
                  <a:pt x="563" y="29"/>
                </a:lnTo>
                <a:lnTo>
                  <a:pt x="563" y="29"/>
                </a:lnTo>
                <a:lnTo>
                  <a:pt x="565" y="27"/>
                </a:lnTo>
                <a:lnTo>
                  <a:pt x="565" y="27"/>
                </a:lnTo>
                <a:close/>
                <a:moveTo>
                  <a:pt x="2" y="1708"/>
                </a:moveTo>
                <a:lnTo>
                  <a:pt x="2" y="1708"/>
                </a:lnTo>
                <a:lnTo>
                  <a:pt x="43" y="1723"/>
                </a:lnTo>
                <a:lnTo>
                  <a:pt x="83" y="1736"/>
                </a:lnTo>
                <a:lnTo>
                  <a:pt x="125" y="1748"/>
                </a:lnTo>
                <a:lnTo>
                  <a:pt x="169" y="1759"/>
                </a:lnTo>
                <a:lnTo>
                  <a:pt x="213" y="1767"/>
                </a:lnTo>
                <a:lnTo>
                  <a:pt x="257" y="1773"/>
                </a:lnTo>
                <a:lnTo>
                  <a:pt x="302" y="1775"/>
                </a:lnTo>
                <a:lnTo>
                  <a:pt x="348" y="1777"/>
                </a:lnTo>
                <a:lnTo>
                  <a:pt x="394" y="1775"/>
                </a:lnTo>
                <a:lnTo>
                  <a:pt x="438" y="1773"/>
                </a:lnTo>
                <a:lnTo>
                  <a:pt x="484" y="1767"/>
                </a:lnTo>
                <a:lnTo>
                  <a:pt x="526" y="1759"/>
                </a:lnTo>
                <a:lnTo>
                  <a:pt x="570" y="1748"/>
                </a:lnTo>
                <a:lnTo>
                  <a:pt x="588" y="1744"/>
                </a:lnTo>
                <a:lnTo>
                  <a:pt x="588" y="1742"/>
                </a:lnTo>
                <a:lnTo>
                  <a:pt x="586" y="1742"/>
                </a:lnTo>
                <a:lnTo>
                  <a:pt x="586" y="1740"/>
                </a:lnTo>
                <a:lnTo>
                  <a:pt x="584" y="1738"/>
                </a:lnTo>
                <a:lnTo>
                  <a:pt x="584" y="1738"/>
                </a:lnTo>
                <a:lnTo>
                  <a:pt x="582" y="1736"/>
                </a:lnTo>
                <a:lnTo>
                  <a:pt x="582" y="1736"/>
                </a:lnTo>
                <a:lnTo>
                  <a:pt x="580" y="1734"/>
                </a:lnTo>
                <a:lnTo>
                  <a:pt x="567" y="1738"/>
                </a:lnTo>
                <a:lnTo>
                  <a:pt x="524" y="1748"/>
                </a:lnTo>
                <a:lnTo>
                  <a:pt x="482" y="1755"/>
                </a:lnTo>
                <a:lnTo>
                  <a:pt x="438" y="1761"/>
                </a:lnTo>
                <a:lnTo>
                  <a:pt x="394" y="1765"/>
                </a:lnTo>
                <a:lnTo>
                  <a:pt x="348" y="1765"/>
                </a:lnTo>
                <a:lnTo>
                  <a:pt x="304" y="1765"/>
                </a:lnTo>
                <a:lnTo>
                  <a:pt x="257" y="1761"/>
                </a:lnTo>
                <a:lnTo>
                  <a:pt x="213" y="1755"/>
                </a:lnTo>
                <a:lnTo>
                  <a:pt x="171" y="1748"/>
                </a:lnTo>
                <a:lnTo>
                  <a:pt x="129" y="1738"/>
                </a:lnTo>
                <a:lnTo>
                  <a:pt x="87" y="1727"/>
                </a:lnTo>
                <a:lnTo>
                  <a:pt x="46" y="1713"/>
                </a:lnTo>
                <a:lnTo>
                  <a:pt x="6" y="1696"/>
                </a:lnTo>
                <a:lnTo>
                  <a:pt x="0" y="1694"/>
                </a:lnTo>
                <a:lnTo>
                  <a:pt x="0" y="1696"/>
                </a:lnTo>
                <a:lnTo>
                  <a:pt x="0" y="1698"/>
                </a:lnTo>
                <a:lnTo>
                  <a:pt x="0" y="1700"/>
                </a:lnTo>
                <a:lnTo>
                  <a:pt x="0" y="1700"/>
                </a:lnTo>
                <a:lnTo>
                  <a:pt x="0" y="1702"/>
                </a:lnTo>
                <a:lnTo>
                  <a:pt x="2" y="1704"/>
                </a:lnTo>
                <a:lnTo>
                  <a:pt x="2" y="1706"/>
                </a:lnTo>
                <a:lnTo>
                  <a:pt x="2" y="1708"/>
                </a:lnTo>
                <a:close/>
              </a:path>
            </a:pathLst>
          </a:custGeom>
          <a:solidFill>
            <a:srgbClr val="59b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Freeform 362"/>
          <p:cNvSpPr/>
          <p:nvPr/>
        </p:nvSpPr>
        <p:spPr>
          <a:xfrm>
            <a:off x="5791320" y="1839960"/>
            <a:ext cx="927000" cy="2805120"/>
          </a:xfrm>
          <a:custGeom>
            <a:avLst/>
            <a:gdLst>
              <a:gd name="textAreaLeft" fmla="*/ 0 w 927000"/>
              <a:gd name="textAreaRight" fmla="*/ 927360 w 9270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584" h="1767">
                <a:moveTo>
                  <a:pt x="561" y="27"/>
                </a:moveTo>
                <a:lnTo>
                  <a:pt x="526" y="19"/>
                </a:lnTo>
                <a:lnTo>
                  <a:pt x="482" y="11"/>
                </a:lnTo>
                <a:lnTo>
                  <a:pt x="438" y="5"/>
                </a:lnTo>
                <a:lnTo>
                  <a:pt x="394" y="2"/>
                </a:lnTo>
                <a:lnTo>
                  <a:pt x="348" y="0"/>
                </a:lnTo>
                <a:lnTo>
                  <a:pt x="302" y="2"/>
                </a:lnTo>
                <a:lnTo>
                  <a:pt x="257" y="5"/>
                </a:lnTo>
                <a:lnTo>
                  <a:pt x="213" y="11"/>
                </a:lnTo>
                <a:lnTo>
                  <a:pt x="208" y="11"/>
                </a:lnTo>
                <a:lnTo>
                  <a:pt x="208" y="13"/>
                </a:lnTo>
                <a:lnTo>
                  <a:pt x="208" y="15"/>
                </a:lnTo>
                <a:lnTo>
                  <a:pt x="206" y="15"/>
                </a:lnTo>
                <a:lnTo>
                  <a:pt x="206" y="17"/>
                </a:lnTo>
                <a:lnTo>
                  <a:pt x="206" y="19"/>
                </a:lnTo>
                <a:lnTo>
                  <a:pt x="206" y="21"/>
                </a:lnTo>
                <a:lnTo>
                  <a:pt x="204" y="21"/>
                </a:lnTo>
                <a:lnTo>
                  <a:pt x="204" y="23"/>
                </a:lnTo>
                <a:lnTo>
                  <a:pt x="215" y="21"/>
                </a:lnTo>
                <a:lnTo>
                  <a:pt x="259" y="15"/>
                </a:lnTo>
                <a:lnTo>
                  <a:pt x="304" y="11"/>
                </a:lnTo>
                <a:lnTo>
                  <a:pt x="348" y="11"/>
                </a:lnTo>
                <a:lnTo>
                  <a:pt x="392" y="11"/>
                </a:lnTo>
                <a:lnTo>
                  <a:pt x="438" y="15"/>
                </a:lnTo>
                <a:lnTo>
                  <a:pt x="480" y="21"/>
                </a:lnTo>
                <a:lnTo>
                  <a:pt x="524" y="29"/>
                </a:lnTo>
                <a:lnTo>
                  <a:pt x="553" y="36"/>
                </a:lnTo>
                <a:lnTo>
                  <a:pt x="555" y="34"/>
                </a:lnTo>
                <a:lnTo>
                  <a:pt x="555" y="32"/>
                </a:lnTo>
                <a:lnTo>
                  <a:pt x="557" y="32"/>
                </a:lnTo>
                <a:lnTo>
                  <a:pt x="557" y="30"/>
                </a:lnTo>
                <a:lnTo>
                  <a:pt x="559" y="30"/>
                </a:lnTo>
                <a:lnTo>
                  <a:pt x="559" y="29"/>
                </a:lnTo>
                <a:lnTo>
                  <a:pt x="561" y="27"/>
                </a:lnTo>
                <a:lnTo>
                  <a:pt x="561" y="27"/>
                </a:lnTo>
                <a:close/>
                <a:moveTo>
                  <a:pt x="0" y="1696"/>
                </a:moveTo>
                <a:lnTo>
                  <a:pt x="4" y="1698"/>
                </a:lnTo>
                <a:lnTo>
                  <a:pt x="44" y="1713"/>
                </a:lnTo>
                <a:lnTo>
                  <a:pt x="85" y="1728"/>
                </a:lnTo>
                <a:lnTo>
                  <a:pt x="127" y="1740"/>
                </a:lnTo>
                <a:lnTo>
                  <a:pt x="169" y="1750"/>
                </a:lnTo>
                <a:lnTo>
                  <a:pt x="213" y="1757"/>
                </a:lnTo>
                <a:lnTo>
                  <a:pt x="257" y="1763"/>
                </a:lnTo>
                <a:lnTo>
                  <a:pt x="302" y="1767"/>
                </a:lnTo>
                <a:lnTo>
                  <a:pt x="348" y="1767"/>
                </a:lnTo>
                <a:lnTo>
                  <a:pt x="394" y="1767"/>
                </a:lnTo>
                <a:lnTo>
                  <a:pt x="438" y="1763"/>
                </a:lnTo>
                <a:lnTo>
                  <a:pt x="482" y="1757"/>
                </a:lnTo>
                <a:lnTo>
                  <a:pt x="526" y="1750"/>
                </a:lnTo>
                <a:lnTo>
                  <a:pt x="568" y="1740"/>
                </a:lnTo>
                <a:lnTo>
                  <a:pt x="584" y="1734"/>
                </a:lnTo>
                <a:lnTo>
                  <a:pt x="584" y="1734"/>
                </a:lnTo>
                <a:lnTo>
                  <a:pt x="582" y="1732"/>
                </a:lnTo>
                <a:lnTo>
                  <a:pt x="582" y="1732"/>
                </a:lnTo>
                <a:lnTo>
                  <a:pt x="580" y="1730"/>
                </a:lnTo>
                <a:lnTo>
                  <a:pt x="580" y="1730"/>
                </a:lnTo>
                <a:lnTo>
                  <a:pt x="578" y="1728"/>
                </a:lnTo>
                <a:lnTo>
                  <a:pt x="578" y="1727"/>
                </a:lnTo>
                <a:lnTo>
                  <a:pt x="576" y="1727"/>
                </a:lnTo>
                <a:lnTo>
                  <a:pt x="567" y="1728"/>
                </a:lnTo>
                <a:lnTo>
                  <a:pt x="524" y="1738"/>
                </a:lnTo>
                <a:lnTo>
                  <a:pt x="480" y="1746"/>
                </a:lnTo>
                <a:lnTo>
                  <a:pt x="438" y="1751"/>
                </a:lnTo>
                <a:lnTo>
                  <a:pt x="392" y="1755"/>
                </a:lnTo>
                <a:lnTo>
                  <a:pt x="348" y="1757"/>
                </a:lnTo>
                <a:lnTo>
                  <a:pt x="304" y="1755"/>
                </a:lnTo>
                <a:lnTo>
                  <a:pt x="259" y="1751"/>
                </a:lnTo>
                <a:lnTo>
                  <a:pt x="215" y="1746"/>
                </a:lnTo>
                <a:lnTo>
                  <a:pt x="171" y="1738"/>
                </a:lnTo>
                <a:lnTo>
                  <a:pt x="129" y="1728"/>
                </a:lnTo>
                <a:lnTo>
                  <a:pt x="89" y="1717"/>
                </a:lnTo>
                <a:lnTo>
                  <a:pt x="48" y="1704"/>
                </a:lnTo>
                <a:lnTo>
                  <a:pt x="8" y="1688"/>
                </a:lnTo>
                <a:lnTo>
                  <a:pt x="0" y="1684"/>
                </a:lnTo>
                <a:lnTo>
                  <a:pt x="0" y="1686"/>
                </a:lnTo>
                <a:lnTo>
                  <a:pt x="0" y="1686"/>
                </a:lnTo>
                <a:lnTo>
                  <a:pt x="0" y="1688"/>
                </a:lnTo>
                <a:lnTo>
                  <a:pt x="0" y="1690"/>
                </a:lnTo>
                <a:lnTo>
                  <a:pt x="0" y="1692"/>
                </a:lnTo>
                <a:lnTo>
                  <a:pt x="0" y="1694"/>
                </a:lnTo>
                <a:lnTo>
                  <a:pt x="0" y="1696"/>
                </a:lnTo>
                <a:lnTo>
                  <a:pt x="0" y="1696"/>
                </a:lnTo>
                <a:close/>
              </a:path>
            </a:pathLst>
          </a:custGeom>
          <a:solidFill>
            <a:srgbClr val="5a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Freeform 363"/>
          <p:cNvSpPr/>
          <p:nvPr/>
        </p:nvSpPr>
        <p:spPr>
          <a:xfrm>
            <a:off x="5788080" y="1847880"/>
            <a:ext cx="923760" cy="2787480"/>
          </a:xfrm>
          <a:custGeom>
            <a:avLst/>
            <a:gdLst>
              <a:gd name="textAreaLeft" fmla="*/ 0 w 923760"/>
              <a:gd name="textAreaRight" fmla="*/ 924120 w 923760"/>
              <a:gd name="textAreaTop" fmla="*/ 0 h 2787480"/>
              <a:gd name="textAreaBottom" fmla="*/ 2787840 h 2787480"/>
            </a:gdLst>
            <a:ahLst/>
            <a:rect l="textAreaLeft" t="textAreaTop" r="textAreaRight" b="textAreaBottom"/>
            <a:pathLst>
              <a:path w="582" h="1756">
                <a:moveTo>
                  <a:pt x="559" y="25"/>
                </a:moveTo>
                <a:lnTo>
                  <a:pt x="526" y="18"/>
                </a:lnTo>
                <a:lnTo>
                  <a:pt x="484" y="10"/>
                </a:lnTo>
                <a:lnTo>
                  <a:pt x="440" y="4"/>
                </a:lnTo>
                <a:lnTo>
                  <a:pt x="396" y="2"/>
                </a:lnTo>
                <a:lnTo>
                  <a:pt x="350" y="0"/>
                </a:lnTo>
                <a:lnTo>
                  <a:pt x="306" y="2"/>
                </a:lnTo>
                <a:lnTo>
                  <a:pt x="259" y="4"/>
                </a:lnTo>
                <a:lnTo>
                  <a:pt x="215" y="10"/>
                </a:lnTo>
                <a:lnTo>
                  <a:pt x="208" y="12"/>
                </a:lnTo>
                <a:lnTo>
                  <a:pt x="208" y="14"/>
                </a:lnTo>
                <a:lnTo>
                  <a:pt x="208" y="16"/>
                </a:lnTo>
                <a:lnTo>
                  <a:pt x="206" y="16"/>
                </a:lnTo>
                <a:lnTo>
                  <a:pt x="206" y="18"/>
                </a:lnTo>
                <a:lnTo>
                  <a:pt x="206" y="20"/>
                </a:lnTo>
                <a:lnTo>
                  <a:pt x="204" y="22"/>
                </a:lnTo>
                <a:lnTo>
                  <a:pt x="204" y="22"/>
                </a:lnTo>
                <a:lnTo>
                  <a:pt x="204" y="24"/>
                </a:lnTo>
                <a:lnTo>
                  <a:pt x="217" y="22"/>
                </a:lnTo>
                <a:lnTo>
                  <a:pt x="261" y="16"/>
                </a:lnTo>
                <a:lnTo>
                  <a:pt x="306" y="12"/>
                </a:lnTo>
                <a:lnTo>
                  <a:pt x="350" y="12"/>
                </a:lnTo>
                <a:lnTo>
                  <a:pt x="394" y="12"/>
                </a:lnTo>
                <a:lnTo>
                  <a:pt x="438" y="16"/>
                </a:lnTo>
                <a:lnTo>
                  <a:pt x="482" y="22"/>
                </a:lnTo>
                <a:lnTo>
                  <a:pt x="524" y="29"/>
                </a:lnTo>
                <a:lnTo>
                  <a:pt x="551" y="35"/>
                </a:lnTo>
                <a:lnTo>
                  <a:pt x="553" y="33"/>
                </a:lnTo>
                <a:lnTo>
                  <a:pt x="553" y="33"/>
                </a:lnTo>
                <a:lnTo>
                  <a:pt x="555" y="31"/>
                </a:lnTo>
                <a:lnTo>
                  <a:pt x="555" y="31"/>
                </a:lnTo>
                <a:lnTo>
                  <a:pt x="557" y="29"/>
                </a:lnTo>
                <a:lnTo>
                  <a:pt x="557" y="27"/>
                </a:lnTo>
                <a:lnTo>
                  <a:pt x="559" y="27"/>
                </a:lnTo>
                <a:lnTo>
                  <a:pt x="559" y="25"/>
                </a:lnTo>
                <a:close/>
                <a:moveTo>
                  <a:pt x="2" y="1685"/>
                </a:moveTo>
                <a:lnTo>
                  <a:pt x="8" y="1687"/>
                </a:lnTo>
                <a:lnTo>
                  <a:pt x="48" y="1704"/>
                </a:lnTo>
                <a:lnTo>
                  <a:pt x="89" y="1718"/>
                </a:lnTo>
                <a:lnTo>
                  <a:pt x="131" y="1729"/>
                </a:lnTo>
                <a:lnTo>
                  <a:pt x="173" y="1739"/>
                </a:lnTo>
                <a:lnTo>
                  <a:pt x="215" y="1746"/>
                </a:lnTo>
                <a:lnTo>
                  <a:pt x="259" y="1752"/>
                </a:lnTo>
                <a:lnTo>
                  <a:pt x="306" y="1756"/>
                </a:lnTo>
                <a:lnTo>
                  <a:pt x="350" y="1756"/>
                </a:lnTo>
                <a:lnTo>
                  <a:pt x="396" y="1756"/>
                </a:lnTo>
                <a:lnTo>
                  <a:pt x="440" y="1752"/>
                </a:lnTo>
                <a:lnTo>
                  <a:pt x="484" y="1746"/>
                </a:lnTo>
                <a:lnTo>
                  <a:pt x="526" y="1739"/>
                </a:lnTo>
                <a:lnTo>
                  <a:pt x="569" y="1729"/>
                </a:lnTo>
                <a:lnTo>
                  <a:pt x="582" y="1725"/>
                </a:lnTo>
                <a:lnTo>
                  <a:pt x="582" y="1725"/>
                </a:lnTo>
                <a:lnTo>
                  <a:pt x="580" y="1723"/>
                </a:lnTo>
                <a:lnTo>
                  <a:pt x="580" y="1722"/>
                </a:lnTo>
                <a:lnTo>
                  <a:pt x="578" y="1722"/>
                </a:lnTo>
                <a:lnTo>
                  <a:pt x="578" y="1720"/>
                </a:lnTo>
                <a:lnTo>
                  <a:pt x="576" y="1720"/>
                </a:lnTo>
                <a:lnTo>
                  <a:pt x="576" y="1718"/>
                </a:lnTo>
                <a:lnTo>
                  <a:pt x="574" y="1718"/>
                </a:lnTo>
                <a:lnTo>
                  <a:pt x="567" y="1720"/>
                </a:lnTo>
                <a:lnTo>
                  <a:pt x="524" y="1729"/>
                </a:lnTo>
                <a:lnTo>
                  <a:pt x="482" y="1737"/>
                </a:lnTo>
                <a:lnTo>
                  <a:pt x="438" y="1743"/>
                </a:lnTo>
                <a:lnTo>
                  <a:pt x="394" y="1745"/>
                </a:lnTo>
                <a:lnTo>
                  <a:pt x="350" y="1746"/>
                </a:lnTo>
                <a:lnTo>
                  <a:pt x="306" y="1745"/>
                </a:lnTo>
                <a:lnTo>
                  <a:pt x="261" y="1743"/>
                </a:lnTo>
                <a:lnTo>
                  <a:pt x="217" y="1737"/>
                </a:lnTo>
                <a:lnTo>
                  <a:pt x="175" y="1729"/>
                </a:lnTo>
                <a:lnTo>
                  <a:pt x="133" y="1720"/>
                </a:lnTo>
                <a:lnTo>
                  <a:pt x="93" y="1708"/>
                </a:lnTo>
                <a:lnTo>
                  <a:pt x="52" y="1693"/>
                </a:lnTo>
                <a:lnTo>
                  <a:pt x="12" y="1677"/>
                </a:lnTo>
                <a:lnTo>
                  <a:pt x="0" y="1674"/>
                </a:lnTo>
                <a:lnTo>
                  <a:pt x="0" y="1674"/>
                </a:lnTo>
                <a:lnTo>
                  <a:pt x="0" y="1675"/>
                </a:lnTo>
                <a:lnTo>
                  <a:pt x="0" y="1677"/>
                </a:lnTo>
                <a:lnTo>
                  <a:pt x="2" y="1679"/>
                </a:lnTo>
                <a:lnTo>
                  <a:pt x="2" y="1681"/>
                </a:lnTo>
                <a:lnTo>
                  <a:pt x="2" y="1681"/>
                </a:lnTo>
                <a:lnTo>
                  <a:pt x="2" y="1683"/>
                </a:lnTo>
                <a:lnTo>
                  <a:pt x="2" y="1685"/>
                </a:lnTo>
                <a:close/>
              </a:path>
            </a:pathLst>
          </a:custGeom>
          <a:solidFill>
            <a:srgbClr val="5b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Freeform 364"/>
          <p:cNvSpPr/>
          <p:nvPr/>
        </p:nvSpPr>
        <p:spPr>
          <a:xfrm>
            <a:off x="5788080" y="1857240"/>
            <a:ext cx="917640" cy="2772000"/>
          </a:xfrm>
          <a:custGeom>
            <a:avLst/>
            <a:gdLst>
              <a:gd name="textAreaLeft" fmla="*/ 0 w 917640"/>
              <a:gd name="textAreaRight" fmla="*/ 918000 w 917640"/>
              <a:gd name="textAreaTop" fmla="*/ 0 h 2772000"/>
              <a:gd name="textAreaBottom" fmla="*/ 2772360 h 2772000"/>
            </a:gdLst>
            <a:ahLst/>
            <a:rect l="textAreaLeft" t="textAreaTop" r="textAreaRight" b="textAreaBottom"/>
            <a:pathLst>
              <a:path w="578" h="1746">
                <a:moveTo>
                  <a:pt x="555" y="25"/>
                </a:moveTo>
                <a:lnTo>
                  <a:pt x="526" y="18"/>
                </a:lnTo>
                <a:lnTo>
                  <a:pt x="482" y="10"/>
                </a:lnTo>
                <a:lnTo>
                  <a:pt x="440" y="4"/>
                </a:lnTo>
                <a:lnTo>
                  <a:pt x="394" y="0"/>
                </a:lnTo>
                <a:lnTo>
                  <a:pt x="350" y="0"/>
                </a:lnTo>
                <a:lnTo>
                  <a:pt x="306" y="0"/>
                </a:lnTo>
                <a:lnTo>
                  <a:pt x="261" y="4"/>
                </a:lnTo>
                <a:lnTo>
                  <a:pt x="217" y="10"/>
                </a:lnTo>
                <a:lnTo>
                  <a:pt x="206" y="12"/>
                </a:lnTo>
                <a:lnTo>
                  <a:pt x="206" y="14"/>
                </a:lnTo>
                <a:lnTo>
                  <a:pt x="204" y="16"/>
                </a:lnTo>
                <a:lnTo>
                  <a:pt x="204" y="16"/>
                </a:lnTo>
                <a:lnTo>
                  <a:pt x="204" y="18"/>
                </a:lnTo>
                <a:lnTo>
                  <a:pt x="204" y="19"/>
                </a:lnTo>
                <a:lnTo>
                  <a:pt x="202" y="21"/>
                </a:lnTo>
                <a:lnTo>
                  <a:pt x="202" y="21"/>
                </a:lnTo>
                <a:lnTo>
                  <a:pt x="202" y="23"/>
                </a:lnTo>
                <a:lnTo>
                  <a:pt x="219" y="21"/>
                </a:lnTo>
                <a:lnTo>
                  <a:pt x="261" y="16"/>
                </a:lnTo>
                <a:lnTo>
                  <a:pt x="306" y="12"/>
                </a:lnTo>
                <a:lnTo>
                  <a:pt x="350" y="10"/>
                </a:lnTo>
                <a:lnTo>
                  <a:pt x="394" y="12"/>
                </a:lnTo>
                <a:lnTo>
                  <a:pt x="438" y="16"/>
                </a:lnTo>
                <a:lnTo>
                  <a:pt x="480" y="21"/>
                </a:lnTo>
                <a:lnTo>
                  <a:pt x="524" y="29"/>
                </a:lnTo>
                <a:lnTo>
                  <a:pt x="547" y="33"/>
                </a:lnTo>
                <a:lnTo>
                  <a:pt x="549" y="33"/>
                </a:lnTo>
                <a:lnTo>
                  <a:pt x="549" y="31"/>
                </a:lnTo>
                <a:lnTo>
                  <a:pt x="551" y="31"/>
                </a:lnTo>
                <a:lnTo>
                  <a:pt x="551" y="29"/>
                </a:lnTo>
                <a:lnTo>
                  <a:pt x="553" y="27"/>
                </a:lnTo>
                <a:lnTo>
                  <a:pt x="553" y="27"/>
                </a:lnTo>
                <a:lnTo>
                  <a:pt x="555" y="25"/>
                </a:lnTo>
                <a:lnTo>
                  <a:pt x="555" y="25"/>
                </a:lnTo>
                <a:close/>
                <a:moveTo>
                  <a:pt x="2" y="1673"/>
                </a:moveTo>
                <a:lnTo>
                  <a:pt x="10" y="1677"/>
                </a:lnTo>
                <a:lnTo>
                  <a:pt x="50" y="1693"/>
                </a:lnTo>
                <a:lnTo>
                  <a:pt x="91" y="1706"/>
                </a:lnTo>
                <a:lnTo>
                  <a:pt x="131" y="1717"/>
                </a:lnTo>
                <a:lnTo>
                  <a:pt x="173" y="1727"/>
                </a:lnTo>
                <a:lnTo>
                  <a:pt x="217" y="1735"/>
                </a:lnTo>
                <a:lnTo>
                  <a:pt x="261" y="1740"/>
                </a:lnTo>
                <a:lnTo>
                  <a:pt x="306" y="1744"/>
                </a:lnTo>
                <a:lnTo>
                  <a:pt x="350" y="1746"/>
                </a:lnTo>
                <a:lnTo>
                  <a:pt x="394" y="1744"/>
                </a:lnTo>
                <a:lnTo>
                  <a:pt x="440" y="1740"/>
                </a:lnTo>
                <a:lnTo>
                  <a:pt x="482" y="1735"/>
                </a:lnTo>
                <a:lnTo>
                  <a:pt x="526" y="1727"/>
                </a:lnTo>
                <a:lnTo>
                  <a:pt x="569" y="1717"/>
                </a:lnTo>
                <a:lnTo>
                  <a:pt x="578" y="1716"/>
                </a:lnTo>
                <a:lnTo>
                  <a:pt x="578" y="1714"/>
                </a:lnTo>
                <a:lnTo>
                  <a:pt x="576" y="1714"/>
                </a:lnTo>
                <a:lnTo>
                  <a:pt x="576" y="1712"/>
                </a:lnTo>
                <a:lnTo>
                  <a:pt x="574" y="1712"/>
                </a:lnTo>
                <a:lnTo>
                  <a:pt x="574" y="1710"/>
                </a:lnTo>
                <a:lnTo>
                  <a:pt x="572" y="1708"/>
                </a:lnTo>
                <a:lnTo>
                  <a:pt x="572" y="1708"/>
                </a:lnTo>
                <a:lnTo>
                  <a:pt x="570" y="1706"/>
                </a:lnTo>
                <a:lnTo>
                  <a:pt x="565" y="1708"/>
                </a:lnTo>
                <a:lnTo>
                  <a:pt x="524" y="1717"/>
                </a:lnTo>
                <a:lnTo>
                  <a:pt x="480" y="1725"/>
                </a:lnTo>
                <a:lnTo>
                  <a:pt x="438" y="1731"/>
                </a:lnTo>
                <a:lnTo>
                  <a:pt x="394" y="1735"/>
                </a:lnTo>
                <a:lnTo>
                  <a:pt x="350" y="1735"/>
                </a:lnTo>
                <a:lnTo>
                  <a:pt x="306" y="1735"/>
                </a:lnTo>
                <a:lnTo>
                  <a:pt x="261" y="1731"/>
                </a:lnTo>
                <a:lnTo>
                  <a:pt x="219" y="1725"/>
                </a:lnTo>
                <a:lnTo>
                  <a:pt x="177" y="1717"/>
                </a:lnTo>
                <a:lnTo>
                  <a:pt x="135" y="1708"/>
                </a:lnTo>
                <a:lnTo>
                  <a:pt x="93" y="1696"/>
                </a:lnTo>
                <a:lnTo>
                  <a:pt x="54" y="1683"/>
                </a:lnTo>
                <a:lnTo>
                  <a:pt x="14" y="1668"/>
                </a:lnTo>
                <a:lnTo>
                  <a:pt x="0" y="1660"/>
                </a:lnTo>
                <a:lnTo>
                  <a:pt x="0" y="1662"/>
                </a:lnTo>
                <a:lnTo>
                  <a:pt x="0" y="1664"/>
                </a:lnTo>
                <a:lnTo>
                  <a:pt x="0" y="1666"/>
                </a:lnTo>
                <a:lnTo>
                  <a:pt x="0" y="1668"/>
                </a:lnTo>
                <a:lnTo>
                  <a:pt x="0" y="1668"/>
                </a:lnTo>
                <a:lnTo>
                  <a:pt x="0" y="1669"/>
                </a:lnTo>
                <a:lnTo>
                  <a:pt x="0" y="1671"/>
                </a:lnTo>
                <a:lnTo>
                  <a:pt x="2" y="1673"/>
                </a:lnTo>
                <a:close/>
              </a:path>
            </a:pathLst>
          </a:custGeom>
          <a:solidFill>
            <a:srgbClr val="5c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Freeform 365"/>
          <p:cNvSpPr/>
          <p:nvPr/>
        </p:nvSpPr>
        <p:spPr>
          <a:xfrm>
            <a:off x="5784840" y="1866960"/>
            <a:ext cx="914400" cy="2752560"/>
          </a:xfrm>
          <a:custGeom>
            <a:avLst/>
            <a:gdLst>
              <a:gd name="textAreaLeft" fmla="*/ 0 w 914400"/>
              <a:gd name="textAreaRight" fmla="*/ 914760 w 914400"/>
              <a:gd name="textAreaTop" fmla="*/ 0 h 2752560"/>
              <a:gd name="textAreaBottom" fmla="*/ 2752920 h 2752560"/>
            </a:gdLst>
            <a:ahLst/>
            <a:rect l="textAreaLeft" t="textAreaTop" r="textAreaRight" b="textAreaBottom"/>
            <a:pathLst>
              <a:path w="576" h="1734">
                <a:moveTo>
                  <a:pt x="553" y="23"/>
                </a:moveTo>
                <a:lnTo>
                  <a:pt x="526" y="17"/>
                </a:lnTo>
                <a:lnTo>
                  <a:pt x="484" y="10"/>
                </a:lnTo>
                <a:lnTo>
                  <a:pt x="440" y="4"/>
                </a:lnTo>
                <a:lnTo>
                  <a:pt x="396" y="0"/>
                </a:lnTo>
                <a:lnTo>
                  <a:pt x="352" y="0"/>
                </a:lnTo>
                <a:lnTo>
                  <a:pt x="308" y="0"/>
                </a:lnTo>
                <a:lnTo>
                  <a:pt x="263" y="4"/>
                </a:lnTo>
                <a:lnTo>
                  <a:pt x="219" y="10"/>
                </a:lnTo>
                <a:lnTo>
                  <a:pt x="206" y="12"/>
                </a:lnTo>
                <a:lnTo>
                  <a:pt x="206" y="13"/>
                </a:lnTo>
                <a:lnTo>
                  <a:pt x="204" y="15"/>
                </a:lnTo>
                <a:lnTo>
                  <a:pt x="204" y="15"/>
                </a:lnTo>
                <a:lnTo>
                  <a:pt x="204" y="17"/>
                </a:lnTo>
                <a:lnTo>
                  <a:pt x="202" y="19"/>
                </a:lnTo>
                <a:lnTo>
                  <a:pt x="202" y="21"/>
                </a:lnTo>
                <a:lnTo>
                  <a:pt x="202" y="21"/>
                </a:lnTo>
                <a:lnTo>
                  <a:pt x="202" y="23"/>
                </a:lnTo>
                <a:lnTo>
                  <a:pt x="221" y="19"/>
                </a:lnTo>
                <a:lnTo>
                  <a:pt x="263" y="13"/>
                </a:lnTo>
                <a:lnTo>
                  <a:pt x="308" y="12"/>
                </a:lnTo>
                <a:lnTo>
                  <a:pt x="352" y="10"/>
                </a:lnTo>
                <a:lnTo>
                  <a:pt x="396" y="12"/>
                </a:lnTo>
                <a:lnTo>
                  <a:pt x="440" y="13"/>
                </a:lnTo>
                <a:lnTo>
                  <a:pt x="482" y="19"/>
                </a:lnTo>
                <a:lnTo>
                  <a:pt x="524" y="27"/>
                </a:lnTo>
                <a:lnTo>
                  <a:pt x="546" y="33"/>
                </a:lnTo>
                <a:lnTo>
                  <a:pt x="547" y="31"/>
                </a:lnTo>
                <a:lnTo>
                  <a:pt x="547" y="31"/>
                </a:lnTo>
                <a:lnTo>
                  <a:pt x="549" y="29"/>
                </a:lnTo>
                <a:lnTo>
                  <a:pt x="549" y="27"/>
                </a:lnTo>
                <a:lnTo>
                  <a:pt x="551" y="27"/>
                </a:lnTo>
                <a:lnTo>
                  <a:pt x="551" y="25"/>
                </a:lnTo>
                <a:lnTo>
                  <a:pt x="553" y="25"/>
                </a:lnTo>
                <a:lnTo>
                  <a:pt x="553" y="23"/>
                </a:lnTo>
                <a:close/>
                <a:moveTo>
                  <a:pt x="2" y="1662"/>
                </a:moveTo>
                <a:lnTo>
                  <a:pt x="14" y="1665"/>
                </a:lnTo>
                <a:lnTo>
                  <a:pt x="54" y="1681"/>
                </a:lnTo>
                <a:lnTo>
                  <a:pt x="95" y="1696"/>
                </a:lnTo>
                <a:lnTo>
                  <a:pt x="135" y="1708"/>
                </a:lnTo>
                <a:lnTo>
                  <a:pt x="177" y="1717"/>
                </a:lnTo>
                <a:lnTo>
                  <a:pt x="219" y="1725"/>
                </a:lnTo>
                <a:lnTo>
                  <a:pt x="263" y="1731"/>
                </a:lnTo>
                <a:lnTo>
                  <a:pt x="308" y="1733"/>
                </a:lnTo>
                <a:lnTo>
                  <a:pt x="352" y="1734"/>
                </a:lnTo>
                <a:lnTo>
                  <a:pt x="396" y="1733"/>
                </a:lnTo>
                <a:lnTo>
                  <a:pt x="440" y="1731"/>
                </a:lnTo>
                <a:lnTo>
                  <a:pt x="484" y="1725"/>
                </a:lnTo>
                <a:lnTo>
                  <a:pt x="526" y="1717"/>
                </a:lnTo>
                <a:lnTo>
                  <a:pt x="569" y="1708"/>
                </a:lnTo>
                <a:lnTo>
                  <a:pt x="576" y="1706"/>
                </a:lnTo>
                <a:lnTo>
                  <a:pt x="576" y="1704"/>
                </a:lnTo>
                <a:lnTo>
                  <a:pt x="574" y="1702"/>
                </a:lnTo>
                <a:lnTo>
                  <a:pt x="574" y="1702"/>
                </a:lnTo>
                <a:lnTo>
                  <a:pt x="572" y="1700"/>
                </a:lnTo>
                <a:lnTo>
                  <a:pt x="572" y="1700"/>
                </a:lnTo>
                <a:lnTo>
                  <a:pt x="571" y="1698"/>
                </a:lnTo>
                <a:lnTo>
                  <a:pt x="571" y="1696"/>
                </a:lnTo>
                <a:lnTo>
                  <a:pt x="569" y="1696"/>
                </a:lnTo>
                <a:lnTo>
                  <a:pt x="567" y="1696"/>
                </a:lnTo>
                <a:lnTo>
                  <a:pt x="524" y="1706"/>
                </a:lnTo>
                <a:lnTo>
                  <a:pt x="482" y="1713"/>
                </a:lnTo>
                <a:lnTo>
                  <a:pt x="440" y="1719"/>
                </a:lnTo>
                <a:lnTo>
                  <a:pt x="396" y="1723"/>
                </a:lnTo>
                <a:lnTo>
                  <a:pt x="352" y="1723"/>
                </a:lnTo>
                <a:lnTo>
                  <a:pt x="308" y="1723"/>
                </a:lnTo>
                <a:lnTo>
                  <a:pt x="263" y="1719"/>
                </a:lnTo>
                <a:lnTo>
                  <a:pt x="221" y="1713"/>
                </a:lnTo>
                <a:lnTo>
                  <a:pt x="179" y="1706"/>
                </a:lnTo>
                <a:lnTo>
                  <a:pt x="139" y="1696"/>
                </a:lnTo>
                <a:lnTo>
                  <a:pt x="96" y="1685"/>
                </a:lnTo>
                <a:lnTo>
                  <a:pt x="58" y="1671"/>
                </a:lnTo>
                <a:lnTo>
                  <a:pt x="18" y="1656"/>
                </a:lnTo>
                <a:lnTo>
                  <a:pt x="0" y="1648"/>
                </a:lnTo>
                <a:lnTo>
                  <a:pt x="0" y="1650"/>
                </a:lnTo>
                <a:lnTo>
                  <a:pt x="0" y="1652"/>
                </a:lnTo>
                <a:lnTo>
                  <a:pt x="2" y="1654"/>
                </a:lnTo>
                <a:lnTo>
                  <a:pt x="2" y="1654"/>
                </a:lnTo>
                <a:lnTo>
                  <a:pt x="2" y="1656"/>
                </a:lnTo>
                <a:lnTo>
                  <a:pt x="2" y="1658"/>
                </a:lnTo>
                <a:lnTo>
                  <a:pt x="2" y="1660"/>
                </a:lnTo>
                <a:lnTo>
                  <a:pt x="2" y="1662"/>
                </a:lnTo>
                <a:close/>
              </a:path>
            </a:pathLst>
          </a:custGeom>
          <a:solidFill>
            <a:srgbClr val="5db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Freeform 366"/>
          <p:cNvSpPr/>
          <p:nvPr/>
        </p:nvSpPr>
        <p:spPr>
          <a:xfrm>
            <a:off x="5784840" y="1873080"/>
            <a:ext cx="907920" cy="2738520"/>
          </a:xfrm>
          <a:custGeom>
            <a:avLst/>
            <a:gdLst>
              <a:gd name="textAreaLeft" fmla="*/ 0 w 907920"/>
              <a:gd name="textAreaRight" fmla="*/ 908280 w 907920"/>
              <a:gd name="textAreaTop" fmla="*/ 0 h 2738520"/>
              <a:gd name="textAreaBottom" fmla="*/ 2738880 h 2738520"/>
            </a:gdLst>
            <a:ahLst/>
            <a:rect l="textAreaLeft" t="textAreaTop" r="textAreaRight" b="textAreaBottom"/>
            <a:pathLst>
              <a:path w="572" h="1725">
                <a:moveTo>
                  <a:pt x="549" y="23"/>
                </a:moveTo>
                <a:lnTo>
                  <a:pt x="526" y="19"/>
                </a:lnTo>
                <a:lnTo>
                  <a:pt x="482" y="11"/>
                </a:lnTo>
                <a:lnTo>
                  <a:pt x="440" y="6"/>
                </a:lnTo>
                <a:lnTo>
                  <a:pt x="396" y="2"/>
                </a:lnTo>
                <a:lnTo>
                  <a:pt x="352" y="0"/>
                </a:lnTo>
                <a:lnTo>
                  <a:pt x="308" y="2"/>
                </a:lnTo>
                <a:lnTo>
                  <a:pt x="263" y="6"/>
                </a:lnTo>
                <a:lnTo>
                  <a:pt x="221" y="11"/>
                </a:lnTo>
                <a:lnTo>
                  <a:pt x="204" y="13"/>
                </a:lnTo>
                <a:lnTo>
                  <a:pt x="202" y="15"/>
                </a:lnTo>
                <a:lnTo>
                  <a:pt x="202" y="17"/>
                </a:lnTo>
                <a:lnTo>
                  <a:pt x="202" y="17"/>
                </a:lnTo>
                <a:lnTo>
                  <a:pt x="202" y="19"/>
                </a:lnTo>
                <a:lnTo>
                  <a:pt x="200" y="21"/>
                </a:lnTo>
                <a:lnTo>
                  <a:pt x="200" y="23"/>
                </a:lnTo>
                <a:lnTo>
                  <a:pt x="200" y="23"/>
                </a:lnTo>
                <a:lnTo>
                  <a:pt x="198" y="25"/>
                </a:lnTo>
                <a:lnTo>
                  <a:pt x="223" y="21"/>
                </a:lnTo>
                <a:lnTo>
                  <a:pt x="265" y="15"/>
                </a:lnTo>
                <a:lnTo>
                  <a:pt x="308" y="13"/>
                </a:lnTo>
                <a:lnTo>
                  <a:pt x="352" y="11"/>
                </a:lnTo>
                <a:lnTo>
                  <a:pt x="396" y="13"/>
                </a:lnTo>
                <a:lnTo>
                  <a:pt x="438" y="15"/>
                </a:lnTo>
                <a:lnTo>
                  <a:pt x="482" y="21"/>
                </a:lnTo>
                <a:lnTo>
                  <a:pt x="524" y="29"/>
                </a:lnTo>
                <a:lnTo>
                  <a:pt x="542" y="32"/>
                </a:lnTo>
                <a:lnTo>
                  <a:pt x="544" y="32"/>
                </a:lnTo>
                <a:lnTo>
                  <a:pt x="544" y="31"/>
                </a:lnTo>
                <a:lnTo>
                  <a:pt x="546" y="29"/>
                </a:lnTo>
                <a:lnTo>
                  <a:pt x="546" y="29"/>
                </a:lnTo>
                <a:lnTo>
                  <a:pt x="547" y="27"/>
                </a:lnTo>
                <a:lnTo>
                  <a:pt x="547" y="27"/>
                </a:lnTo>
                <a:lnTo>
                  <a:pt x="549" y="25"/>
                </a:lnTo>
                <a:lnTo>
                  <a:pt x="549" y="23"/>
                </a:lnTo>
                <a:close/>
                <a:moveTo>
                  <a:pt x="2" y="1650"/>
                </a:moveTo>
                <a:lnTo>
                  <a:pt x="16" y="1658"/>
                </a:lnTo>
                <a:lnTo>
                  <a:pt x="56" y="1673"/>
                </a:lnTo>
                <a:lnTo>
                  <a:pt x="95" y="1686"/>
                </a:lnTo>
                <a:lnTo>
                  <a:pt x="137" y="1698"/>
                </a:lnTo>
                <a:lnTo>
                  <a:pt x="179" y="1707"/>
                </a:lnTo>
                <a:lnTo>
                  <a:pt x="221" y="1715"/>
                </a:lnTo>
                <a:lnTo>
                  <a:pt x="263" y="1721"/>
                </a:lnTo>
                <a:lnTo>
                  <a:pt x="308" y="1725"/>
                </a:lnTo>
                <a:lnTo>
                  <a:pt x="352" y="1725"/>
                </a:lnTo>
                <a:lnTo>
                  <a:pt x="396" y="1725"/>
                </a:lnTo>
                <a:lnTo>
                  <a:pt x="440" y="1721"/>
                </a:lnTo>
                <a:lnTo>
                  <a:pt x="482" y="1715"/>
                </a:lnTo>
                <a:lnTo>
                  <a:pt x="526" y="1707"/>
                </a:lnTo>
                <a:lnTo>
                  <a:pt x="567" y="1698"/>
                </a:lnTo>
                <a:lnTo>
                  <a:pt x="572" y="1696"/>
                </a:lnTo>
                <a:lnTo>
                  <a:pt x="572" y="1696"/>
                </a:lnTo>
                <a:lnTo>
                  <a:pt x="571" y="1694"/>
                </a:lnTo>
                <a:lnTo>
                  <a:pt x="571" y="1692"/>
                </a:lnTo>
                <a:lnTo>
                  <a:pt x="569" y="1692"/>
                </a:lnTo>
                <a:lnTo>
                  <a:pt x="569" y="1690"/>
                </a:lnTo>
                <a:lnTo>
                  <a:pt x="567" y="1690"/>
                </a:lnTo>
                <a:lnTo>
                  <a:pt x="567" y="1688"/>
                </a:lnTo>
                <a:lnTo>
                  <a:pt x="565" y="1688"/>
                </a:lnTo>
                <a:lnTo>
                  <a:pt x="565" y="1688"/>
                </a:lnTo>
                <a:lnTo>
                  <a:pt x="524" y="1698"/>
                </a:lnTo>
                <a:lnTo>
                  <a:pt x="482" y="1704"/>
                </a:lnTo>
                <a:lnTo>
                  <a:pt x="438" y="1709"/>
                </a:lnTo>
                <a:lnTo>
                  <a:pt x="396" y="1713"/>
                </a:lnTo>
                <a:lnTo>
                  <a:pt x="352" y="1715"/>
                </a:lnTo>
                <a:lnTo>
                  <a:pt x="308" y="1713"/>
                </a:lnTo>
                <a:lnTo>
                  <a:pt x="265" y="1709"/>
                </a:lnTo>
                <a:lnTo>
                  <a:pt x="223" y="1704"/>
                </a:lnTo>
                <a:lnTo>
                  <a:pt x="181" y="1698"/>
                </a:lnTo>
                <a:lnTo>
                  <a:pt x="139" y="1688"/>
                </a:lnTo>
                <a:lnTo>
                  <a:pt x="98" y="1677"/>
                </a:lnTo>
                <a:lnTo>
                  <a:pt x="60" y="1663"/>
                </a:lnTo>
                <a:lnTo>
                  <a:pt x="20" y="1648"/>
                </a:lnTo>
                <a:lnTo>
                  <a:pt x="0" y="1638"/>
                </a:lnTo>
                <a:lnTo>
                  <a:pt x="0" y="1640"/>
                </a:lnTo>
                <a:lnTo>
                  <a:pt x="0" y="1642"/>
                </a:lnTo>
                <a:lnTo>
                  <a:pt x="0" y="1642"/>
                </a:lnTo>
                <a:lnTo>
                  <a:pt x="0" y="1644"/>
                </a:lnTo>
                <a:lnTo>
                  <a:pt x="0" y="1646"/>
                </a:lnTo>
                <a:lnTo>
                  <a:pt x="0" y="1648"/>
                </a:lnTo>
                <a:lnTo>
                  <a:pt x="2" y="1650"/>
                </a:lnTo>
                <a:lnTo>
                  <a:pt x="2" y="1650"/>
                </a:lnTo>
                <a:close/>
              </a:path>
            </a:pathLst>
          </a:custGeom>
          <a:solidFill>
            <a:srgbClr val="5eb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Freeform 367"/>
          <p:cNvSpPr/>
          <p:nvPr/>
        </p:nvSpPr>
        <p:spPr>
          <a:xfrm>
            <a:off x="5783400" y="1882800"/>
            <a:ext cx="904680" cy="2719440"/>
          </a:xfrm>
          <a:custGeom>
            <a:avLst/>
            <a:gdLst>
              <a:gd name="textAreaLeft" fmla="*/ 0 w 904680"/>
              <a:gd name="textAreaRight" fmla="*/ 905040 w 904680"/>
              <a:gd name="textAreaTop" fmla="*/ 0 h 2719440"/>
              <a:gd name="textAreaBottom" fmla="*/ 2719800 h 2719440"/>
            </a:gdLst>
            <a:ahLst/>
            <a:rect l="textAreaLeft" t="textAreaTop" r="textAreaRight" b="textAreaBottom"/>
            <a:pathLst>
              <a:path w="570" h="1713">
                <a:moveTo>
                  <a:pt x="547" y="23"/>
                </a:moveTo>
                <a:lnTo>
                  <a:pt x="525" y="17"/>
                </a:lnTo>
                <a:lnTo>
                  <a:pt x="483" y="9"/>
                </a:lnTo>
                <a:lnTo>
                  <a:pt x="441" y="3"/>
                </a:lnTo>
                <a:lnTo>
                  <a:pt x="397" y="2"/>
                </a:lnTo>
                <a:lnTo>
                  <a:pt x="353" y="0"/>
                </a:lnTo>
                <a:lnTo>
                  <a:pt x="309" y="2"/>
                </a:lnTo>
                <a:lnTo>
                  <a:pt x="264" y="3"/>
                </a:lnTo>
                <a:lnTo>
                  <a:pt x="222" y="9"/>
                </a:lnTo>
                <a:lnTo>
                  <a:pt x="203" y="13"/>
                </a:lnTo>
                <a:lnTo>
                  <a:pt x="201" y="15"/>
                </a:lnTo>
                <a:lnTo>
                  <a:pt x="201" y="17"/>
                </a:lnTo>
                <a:lnTo>
                  <a:pt x="201" y="17"/>
                </a:lnTo>
                <a:lnTo>
                  <a:pt x="199" y="19"/>
                </a:lnTo>
                <a:lnTo>
                  <a:pt x="199" y="21"/>
                </a:lnTo>
                <a:lnTo>
                  <a:pt x="199" y="23"/>
                </a:lnTo>
                <a:lnTo>
                  <a:pt x="199" y="23"/>
                </a:lnTo>
                <a:lnTo>
                  <a:pt x="197" y="25"/>
                </a:lnTo>
                <a:lnTo>
                  <a:pt x="224" y="21"/>
                </a:lnTo>
                <a:lnTo>
                  <a:pt x="266" y="15"/>
                </a:lnTo>
                <a:lnTo>
                  <a:pt x="309" y="11"/>
                </a:lnTo>
                <a:lnTo>
                  <a:pt x="353" y="11"/>
                </a:lnTo>
                <a:lnTo>
                  <a:pt x="397" y="11"/>
                </a:lnTo>
                <a:lnTo>
                  <a:pt x="439" y="15"/>
                </a:lnTo>
                <a:lnTo>
                  <a:pt x="481" y="21"/>
                </a:lnTo>
                <a:lnTo>
                  <a:pt x="524" y="28"/>
                </a:lnTo>
                <a:lnTo>
                  <a:pt x="539" y="32"/>
                </a:lnTo>
                <a:lnTo>
                  <a:pt x="541" y="30"/>
                </a:lnTo>
                <a:lnTo>
                  <a:pt x="541" y="28"/>
                </a:lnTo>
                <a:lnTo>
                  <a:pt x="543" y="28"/>
                </a:lnTo>
                <a:lnTo>
                  <a:pt x="543" y="26"/>
                </a:lnTo>
                <a:lnTo>
                  <a:pt x="545" y="26"/>
                </a:lnTo>
                <a:lnTo>
                  <a:pt x="545" y="25"/>
                </a:lnTo>
                <a:lnTo>
                  <a:pt x="547" y="23"/>
                </a:lnTo>
                <a:lnTo>
                  <a:pt x="547" y="23"/>
                </a:lnTo>
                <a:close/>
                <a:moveTo>
                  <a:pt x="1" y="1638"/>
                </a:moveTo>
                <a:lnTo>
                  <a:pt x="19" y="1646"/>
                </a:lnTo>
                <a:lnTo>
                  <a:pt x="59" y="1661"/>
                </a:lnTo>
                <a:lnTo>
                  <a:pt x="97" y="1675"/>
                </a:lnTo>
                <a:lnTo>
                  <a:pt x="140" y="1686"/>
                </a:lnTo>
                <a:lnTo>
                  <a:pt x="180" y="1696"/>
                </a:lnTo>
                <a:lnTo>
                  <a:pt x="222" y="1703"/>
                </a:lnTo>
                <a:lnTo>
                  <a:pt x="264" y="1709"/>
                </a:lnTo>
                <a:lnTo>
                  <a:pt x="309" y="1713"/>
                </a:lnTo>
                <a:lnTo>
                  <a:pt x="353" y="1713"/>
                </a:lnTo>
                <a:lnTo>
                  <a:pt x="397" y="1713"/>
                </a:lnTo>
                <a:lnTo>
                  <a:pt x="441" y="1709"/>
                </a:lnTo>
                <a:lnTo>
                  <a:pt x="483" y="1703"/>
                </a:lnTo>
                <a:lnTo>
                  <a:pt x="525" y="1696"/>
                </a:lnTo>
                <a:lnTo>
                  <a:pt x="568" y="1686"/>
                </a:lnTo>
                <a:lnTo>
                  <a:pt x="570" y="1686"/>
                </a:lnTo>
                <a:lnTo>
                  <a:pt x="570" y="1684"/>
                </a:lnTo>
                <a:lnTo>
                  <a:pt x="568" y="1684"/>
                </a:lnTo>
                <a:lnTo>
                  <a:pt x="568" y="1682"/>
                </a:lnTo>
                <a:lnTo>
                  <a:pt x="566" y="1682"/>
                </a:lnTo>
                <a:lnTo>
                  <a:pt x="566" y="1680"/>
                </a:lnTo>
                <a:lnTo>
                  <a:pt x="564" y="1678"/>
                </a:lnTo>
                <a:lnTo>
                  <a:pt x="564" y="1678"/>
                </a:lnTo>
                <a:lnTo>
                  <a:pt x="562" y="1677"/>
                </a:lnTo>
                <a:lnTo>
                  <a:pt x="524" y="1686"/>
                </a:lnTo>
                <a:lnTo>
                  <a:pt x="481" y="1694"/>
                </a:lnTo>
                <a:lnTo>
                  <a:pt x="439" y="1700"/>
                </a:lnTo>
                <a:lnTo>
                  <a:pt x="397" y="1701"/>
                </a:lnTo>
                <a:lnTo>
                  <a:pt x="353" y="1703"/>
                </a:lnTo>
                <a:lnTo>
                  <a:pt x="309" y="1701"/>
                </a:lnTo>
                <a:lnTo>
                  <a:pt x="266" y="1700"/>
                </a:lnTo>
                <a:lnTo>
                  <a:pt x="224" y="1694"/>
                </a:lnTo>
                <a:lnTo>
                  <a:pt x="182" y="1686"/>
                </a:lnTo>
                <a:lnTo>
                  <a:pt x="142" y="1677"/>
                </a:lnTo>
                <a:lnTo>
                  <a:pt x="101" y="1665"/>
                </a:lnTo>
                <a:lnTo>
                  <a:pt x="61" y="1652"/>
                </a:lnTo>
                <a:lnTo>
                  <a:pt x="23" y="1636"/>
                </a:lnTo>
                <a:lnTo>
                  <a:pt x="0" y="1627"/>
                </a:lnTo>
                <a:lnTo>
                  <a:pt x="1" y="1629"/>
                </a:lnTo>
                <a:lnTo>
                  <a:pt x="1" y="1629"/>
                </a:lnTo>
                <a:lnTo>
                  <a:pt x="1" y="1630"/>
                </a:lnTo>
                <a:lnTo>
                  <a:pt x="1" y="1632"/>
                </a:lnTo>
                <a:lnTo>
                  <a:pt x="1" y="1634"/>
                </a:lnTo>
                <a:lnTo>
                  <a:pt x="1" y="1636"/>
                </a:lnTo>
                <a:lnTo>
                  <a:pt x="1" y="1636"/>
                </a:lnTo>
                <a:lnTo>
                  <a:pt x="1" y="1638"/>
                </a:lnTo>
                <a:close/>
              </a:path>
            </a:pathLst>
          </a:custGeom>
          <a:solidFill>
            <a:srgbClr val="5f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Freeform 368"/>
          <p:cNvSpPr/>
          <p:nvPr/>
        </p:nvSpPr>
        <p:spPr>
          <a:xfrm>
            <a:off x="5783400" y="1890720"/>
            <a:ext cx="898560" cy="2705040"/>
          </a:xfrm>
          <a:custGeom>
            <a:avLst/>
            <a:gdLst>
              <a:gd name="textAreaLeft" fmla="*/ 0 w 898560"/>
              <a:gd name="textAreaRight" fmla="*/ 898920 w 898560"/>
              <a:gd name="textAreaTop" fmla="*/ 0 h 2705040"/>
              <a:gd name="textAreaBottom" fmla="*/ 2705400 h 2705040"/>
            </a:gdLst>
            <a:ahLst/>
            <a:rect l="textAreaLeft" t="textAreaTop" r="textAreaRight" b="textAreaBottom"/>
            <a:pathLst>
              <a:path w="566" h="1704">
                <a:moveTo>
                  <a:pt x="543" y="21"/>
                </a:moveTo>
                <a:lnTo>
                  <a:pt x="525" y="18"/>
                </a:lnTo>
                <a:lnTo>
                  <a:pt x="483" y="10"/>
                </a:lnTo>
                <a:lnTo>
                  <a:pt x="439" y="4"/>
                </a:lnTo>
                <a:lnTo>
                  <a:pt x="397" y="2"/>
                </a:lnTo>
                <a:lnTo>
                  <a:pt x="353" y="0"/>
                </a:lnTo>
                <a:lnTo>
                  <a:pt x="309" y="2"/>
                </a:lnTo>
                <a:lnTo>
                  <a:pt x="266" y="4"/>
                </a:lnTo>
                <a:lnTo>
                  <a:pt x="224" y="10"/>
                </a:lnTo>
                <a:lnTo>
                  <a:pt x="199" y="14"/>
                </a:lnTo>
                <a:lnTo>
                  <a:pt x="199" y="16"/>
                </a:lnTo>
                <a:lnTo>
                  <a:pt x="199" y="18"/>
                </a:lnTo>
                <a:lnTo>
                  <a:pt x="199" y="18"/>
                </a:lnTo>
                <a:lnTo>
                  <a:pt x="197" y="20"/>
                </a:lnTo>
                <a:lnTo>
                  <a:pt x="197" y="21"/>
                </a:lnTo>
                <a:lnTo>
                  <a:pt x="197" y="23"/>
                </a:lnTo>
                <a:lnTo>
                  <a:pt x="195" y="25"/>
                </a:lnTo>
                <a:lnTo>
                  <a:pt x="195" y="25"/>
                </a:lnTo>
                <a:lnTo>
                  <a:pt x="224" y="21"/>
                </a:lnTo>
                <a:lnTo>
                  <a:pt x="266" y="16"/>
                </a:lnTo>
                <a:lnTo>
                  <a:pt x="310" y="12"/>
                </a:lnTo>
                <a:lnTo>
                  <a:pt x="353" y="10"/>
                </a:lnTo>
                <a:lnTo>
                  <a:pt x="397" y="12"/>
                </a:lnTo>
                <a:lnTo>
                  <a:pt x="439" y="16"/>
                </a:lnTo>
                <a:lnTo>
                  <a:pt x="481" y="21"/>
                </a:lnTo>
                <a:lnTo>
                  <a:pt x="522" y="27"/>
                </a:lnTo>
                <a:lnTo>
                  <a:pt x="535" y="31"/>
                </a:lnTo>
                <a:lnTo>
                  <a:pt x="537" y="29"/>
                </a:lnTo>
                <a:lnTo>
                  <a:pt x="537" y="29"/>
                </a:lnTo>
                <a:lnTo>
                  <a:pt x="539" y="27"/>
                </a:lnTo>
                <a:lnTo>
                  <a:pt x="539" y="27"/>
                </a:lnTo>
                <a:lnTo>
                  <a:pt x="541" y="25"/>
                </a:lnTo>
                <a:lnTo>
                  <a:pt x="541" y="23"/>
                </a:lnTo>
                <a:lnTo>
                  <a:pt x="543" y="23"/>
                </a:lnTo>
                <a:lnTo>
                  <a:pt x="543" y="21"/>
                </a:lnTo>
                <a:close/>
                <a:moveTo>
                  <a:pt x="1" y="1627"/>
                </a:moveTo>
                <a:lnTo>
                  <a:pt x="21" y="1637"/>
                </a:lnTo>
                <a:lnTo>
                  <a:pt x="61" y="1652"/>
                </a:lnTo>
                <a:lnTo>
                  <a:pt x="99" y="1666"/>
                </a:lnTo>
                <a:lnTo>
                  <a:pt x="140" y="1677"/>
                </a:lnTo>
                <a:lnTo>
                  <a:pt x="182" y="1687"/>
                </a:lnTo>
                <a:lnTo>
                  <a:pt x="224" y="1693"/>
                </a:lnTo>
                <a:lnTo>
                  <a:pt x="266" y="1698"/>
                </a:lnTo>
                <a:lnTo>
                  <a:pt x="309" y="1702"/>
                </a:lnTo>
                <a:lnTo>
                  <a:pt x="353" y="1704"/>
                </a:lnTo>
                <a:lnTo>
                  <a:pt x="397" y="1702"/>
                </a:lnTo>
                <a:lnTo>
                  <a:pt x="439" y="1698"/>
                </a:lnTo>
                <a:lnTo>
                  <a:pt x="483" y="1693"/>
                </a:lnTo>
                <a:lnTo>
                  <a:pt x="525" y="1687"/>
                </a:lnTo>
                <a:lnTo>
                  <a:pt x="566" y="1677"/>
                </a:lnTo>
                <a:lnTo>
                  <a:pt x="566" y="1677"/>
                </a:lnTo>
                <a:lnTo>
                  <a:pt x="566" y="1675"/>
                </a:lnTo>
                <a:lnTo>
                  <a:pt x="564" y="1673"/>
                </a:lnTo>
                <a:lnTo>
                  <a:pt x="564" y="1673"/>
                </a:lnTo>
                <a:lnTo>
                  <a:pt x="562" y="1672"/>
                </a:lnTo>
                <a:lnTo>
                  <a:pt x="562" y="1672"/>
                </a:lnTo>
                <a:lnTo>
                  <a:pt x="560" y="1670"/>
                </a:lnTo>
                <a:lnTo>
                  <a:pt x="560" y="1668"/>
                </a:lnTo>
                <a:lnTo>
                  <a:pt x="558" y="1668"/>
                </a:lnTo>
                <a:lnTo>
                  <a:pt x="522" y="1675"/>
                </a:lnTo>
                <a:lnTo>
                  <a:pt x="481" y="1683"/>
                </a:lnTo>
                <a:lnTo>
                  <a:pt x="439" y="1689"/>
                </a:lnTo>
                <a:lnTo>
                  <a:pt x="397" y="1691"/>
                </a:lnTo>
                <a:lnTo>
                  <a:pt x="353" y="1693"/>
                </a:lnTo>
                <a:lnTo>
                  <a:pt x="310" y="1691"/>
                </a:lnTo>
                <a:lnTo>
                  <a:pt x="266" y="1689"/>
                </a:lnTo>
                <a:lnTo>
                  <a:pt x="224" y="1683"/>
                </a:lnTo>
                <a:lnTo>
                  <a:pt x="184" y="1675"/>
                </a:lnTo>
                <a:lnTo>
                  <a:pt x="143" y="1666"/>
                </a:lnTo>
                <a:lnTo>
                  <a:pt x="103" y="1654"/>
                </a:lnTo>
                <a:lnTo>
                  <a:pt x="63" y="1641"/>
                </a:lnTo>
                <a:lnTo>
                  <a:pt x="26" y="1627"/>
                </a:lnTo>
                <a:lnTo>
                  <a:pt x="0" y="1614"/>
                </a:lnTo>
                <a:lnTo>
                  <a:pt x="0" y="1616"/>
                </a:lnTo>
                <a:lnTo>
                  <a:pt x="0" y="1618"/>
                </a:lnTo>
                <a:lnTo>
                  <a:pt x="0" y="1620"/>
                </a:lnTo>
                <a:lnTo>
                  <a:pt x="0" y="1622"/>
                </a:lnTo>
                <a:lnTo>
                  <a:pt x="1" y="1624"/>
                </a:lnTo>
                <a:lnTo>
                  <a:pt x="1" y="1624"/>
                </a:lnTo>
                <a:lnTo>
                  <a:pt x="1" y="1625"/>
                </a:lnTo>
                <a:lnTo>
                  <a:pt x="1" y="1627"/>
                </a:lnTo>
                <a:close/>
              </a:path>
            </a:pathLst>
          </a:custGeom>
          <a:solidFill>
            <a:srgbClr val="60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Freeform 369"/>
          <p:cNvSpPr/>
          <p:nvPr/>
        </p:nvSpPr>
        <p:spPr>
          <a:xfrm>
            <a:off x="5783400" y="1900080"/>
            <a:ext cx="892080" cy="2686320"/>
          </a:xfrm>
          <a:custGeom>
            <a:avLst/>
            <a:gdLst>
              <a:gd name="textAreaLeft" fmla="*/ 0 w 892080"/>
              <a:gd name="textAreaRight" fmla="*/ 892440 w 892080"/>
              <a:gd name="textAreaTop" fmla="*/ 0 h 2686320"/>
              <a:gd name="textAreaBottom" fmla="*/ 2686680 h 2686320"/>
            </a:gdLst>
            <a:ahLst/>
            <a:rect l="textAreaLeft" t="textAreaTop" r="textAreaRight" b="textAreaBottom"/>
            <a:pathLst>
              <a:path w="562" h="1692">
                <a:moveTo>
                  <a:pt x="539" y="21"/>
                </a:moveTo>
                <a:lnTo>
                  <a:pt x="524" y="17"/>
                </a:lnTo>
                <a:lnTo>
                  <a:pt x="481" y="10"/>
                </a:lnTo>
                <a:lnTo>
                  <a:pt x="439" y="4"/>
                </a:lnTo>
                <a:lnTo>
                  <a:pt x="397" y="0"/>
                </a:lnTo>
                <a:lnTo>
                  <a:pt x="353" y="0"/>
                </a:lnTo>
                <a:lnTo>
                  <a:pt x="309" y="0"/>
                </a:lnTo>
                <a:lnTo>
                  <a:pt x="266" y="4"/>
                </a:lnTo>
                <a:lnTo>
                  <a:pt x="224" y="10"/>
                </a:lnTo>
                <a:lnTo>
                  <a:pt x="197" y="14"/>
                </a:lnTo>
                <a:lnTo>
                  <a:pt x="197" y="15"/>
                </a:lnTo>
                <a:lnTo>
                  <a:pt x="197" y="17"/>
                </a:lnTo>
                <a:lnTo>
                  <a:pt x="195" y="19"/>
                </a:lnTo>
                <a:lnTo>
                  <a:pt x="195" y="19"/>
                </a:lnTo>
                <a:lnTo>
                  <a:pt x="195" y="21"/>
                </a:lnTo>
                <a:lnTo>
                  <a:pt x="195" y="23"/>
                </a:lnTo>
                <a:lnTo>
                  <a:pt x="193" y="25"/>
                </a:lnTo>
                <a:lnTo>
                  <a:pt x="193" y="25"/>
                </a:lnTo>
                <a:lnTo>
                  <a:pt x="226" y="19"/>
                </a:lnTo>
                <a:lnTo>
                  <a:pt x="268" y="14"/>
                </a:lnTo>
                <a:lnTo>
                  <a:pt x="310" y="12"/>
                </a:lnTo>
                <a:lnTo>
                  <a:pt x="353" y="10"/>
                </a:lnTo>
                <a:lnTo>
                  <a:pt x="395" y="12"/>
                </a:lnTo>
                <a:lnTo>
                  <a:pt x="439" y="14"/>
                </a:lnTo>
                <a:lnTo>
                  <a:pt x="479" y="19"/>
                </a:lnTo>
                <a:lnTo>
                  <a:pt x="522" y="27"/>
                </a:lnTo>
                <a:lnTo>
                  <a:pt x="531" y="29"/>
                </a:lnTo>
                <a:lnTo>
                  <a:pt x="533" y="29"/>
                </a:lnTo>
                <a:lnTo>
                  <a:pt x="533" y="27"/>
                </a:lnTo>
                <a:lnTo>
                  <a:pt x="535" y="27"/>
                </a:lnTo>
                <a:lnTo>
                  <a:pt x="535" y="25"/>
                </a:lnTo>
                <a:lnTo>
                  <a:pt x="537" y="23"/>
                </a:lnTo>
                <a:lnTo>
                  <a:pt x="537" y="23"/>
                </a:lnTo>
                <a:lnTo>
                  <a:pt x="539" y="21"/>
                </a:lnTo>
                <a:lnTo>
                  <a:pt x="539" y="21"/>
                </a:lnTo>
                <a:close/>
                <a:moveTo>
                  <a:pt x="0" y="1616"/>
                </a:moveTo>
                <a:lnTo>
                  <a:pt x="23" y="1625"/>
                </a:lnTo>
                <a:lnTo>
                  <a:pt x="61" y="1641"/>
                </a:lnTo>
                <a:lnTo>
                  <a:pt x="101" y="1654"/>
                </a:lnTo>
                <a:lnTo>
                  <a:pt x="142" y="1666"/>
                </a:lnTo>
                <a:lnTo>
                  <a:pt x="182" y="1675"/>
                </a:lnTo>
                <a:lnTo>
                  <a:pt x="224" y="1683"/>
                </a:lnTo>
                <a:lnTo>
                  <a:pt x="266" y="1689"/>
                </a:lnTo>
                <a:lnTo>
                  <a:pt x="309" y="1690"/>
                </a:lnTo>
                <a:lnTo>
                  <a:pt x="353" y="1692"/>
                </a:lnTo>
                <a:lnTo>
                  <a:pt x="397" y="1690"/>
                </a:lnTo>
                <a:lnTo>
                  <a:pt x="439" y="1689"/>
                </a:lnTo>
                <a:lnTo>
                  <a:pt x="481" y="1683"/>
                </a:lnTo>
                <a:lnTo>
                  <a:pt x="524" y="1675"/>
                </a:lnTo>
                <a:lnTo>
                  <a:pt x="562" y="1666"/>
                </a:lnTo>
                <a:lnTo>
                  <a:pt x="562" y="1666"/>
                </a:lnTo>
                <a:lnTo>
                  <a:pt x="560" y="1664"/>
                </a:lnTo>
                <a:lnTo>
                  <a:pt x="560" y="1662"/>
                </a:lnTo>
                <a:lnTo>
                  <a:pt x="558" y="1662"/>
                </a:lnTo>
                <a:lnTo>
                  <a:pt x="558" y="1660"/>
                </a:lnTo>
                <a:lnTo>
                  <a:pt x="556" y="1660"/>
                </a:lnTo>
                <a:lnTo>
                  <a:pt x="556" y="1658"/>
                </a:lnTo>
                <a:lnTo>
                  <a:pt x="554" y="1656"/>
                </a:lnTo>
                <a:lnTo>
                  <a:pt x="522" y="1664"/>
                </a:lnTo>
                <a:lnTo>
                  <a:pt x="479" y="1671"/>
                </a:lnTo>
                <a:lnTo>
                  <a:pt x="439" y="1677"/>
                </a:lnTo>
                <a:lnTo>
                  <a:pt x="395" y="1681"/>
                </a:lnTo>
                <a:lnTo>
                  <a:pt x="353" y="1681"/>
                </a:lnTo>
                <a:lnTo>
                  <a:pt x="310" y="1681"/>
                </a:lnTo>
                <a:lnTo>
                  <a:pt x="268" y="1677"/>
                </a:lnTo>
                <a:lnTo>
                  <a:pt x="226" y="1671"/>
                </a:lnTo>
                <a:lnTo>
                  <a:pt x="184" y="1664"/>
                </a:lnTo>
                <a:lnTo>
                  <a:pt x="143" y="1656"/>
                </a:lnTo>
                <a:lnTo>
                  <a:pt x="105" y="1644"/>
                </a:lnTo>
                <a:lnTo>
                  <a:pt x="65" y="1631"/>
                </a:lnTo>
                <a:lnTo>
                  <a:pt x="28" y="1616"/>
                </a:lnTo>
                <a:lnTo>
                  <a:pt x="0" y="1602"/>
                </a:lnTo>
                <a:lnTo>
                  <a:pt x="0" y="1604"/>
                </a:lnTo>
                <a:lnTo>
                  <a:pt x="0" y="1606"/>
                </a:lnTo>
                <a:lnTo>
                  <a:pt x="0" y="1608"/>
                </a:lnTo>
                <a:lnTo>
                  <a:pt x="0" y="1608"/>
                </a:lnTo>
                <a:lnTo>
                  <a:pt x="0" y="1610"/>
                </a:lnTo>
                <a:lnTo>
                  <a:pt x="0" y="1612"/>
                </a:lnTo>
                <a:lnTo>
                  <a:pt x="0" y="1614"/>
                </a:lnTo>
                <a:lnTo>
                  <a:pt x="0" y="1616"/>
                </a:lnTo>
                <a:close/>
              </a:path>
            </a:pathLst>
          </a:custGeom>
          <a:solidFill>
            <a:srgbClr val="61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Freeform 370"/>
          <p:cNvSpPr/>
          <p:nvPr/>
        </p:nvSpPr>
        <p:spPr>
          <a:xfrm>
            <a:off x="5780160" y="1906560"/>
            <a:ext cx="888840" cy="2671920"/>
          </a:xfrm>
          <a:custGeom>
            <a:avLst/>
            <a:gdLst>
              <a:gd name="textAreaLeft" fmla="*/ 0 w 888840"/>
              <a:gd name="textAreaRight" fmla="*/ 889200 w 888840"/>
              <a:gd name="textAreaTop" fmla="*/ 0 h 2671920"/>
              <a:gd name="textAreaBottom" fmla="*/ 2672280 h 2671920"/>
            </a:gdLst>
            <a:ahLst/>
            <a:rect l="textAreaLeft" t="textAreaTop" r="textAreaRight" b="textAreaBottom"/>
            <a:pathLst>
              <a:path w="560" h="1683">
                <a:moveTo>
                  <a:pt x="537" y="21"/>
                </a:moveTo>
                <a:lnTo>
                  <a:pt x="524" y="17"/>
                </a:lnTo>
                <a:lnTo>
                  <a:pt x="483" y="11"/>
                </a:lnTo>
                <a:lnTo>
                  <a:pt x="441" y="6"/>
                </a:lnTo>
                <a:lnTo>
                  <a:pt x="399" y="2"/>
                </a:lnTo>
                <a:lnTo>
                  <a:pt x="355" y="0"/>
                </a:lnTo>
                <a:lnTo>
                  <a:pt x="312" y="2"/>
                </a:lnTo>
                <a:lnTo>
                  <a:pt x="268" y="6"/>
                </a:lnTo>
                <a:lnTo>
                  <a:pt x="226" y="11"/>
                </a:lnTo>
                <a:lnTo>
                  <a:pt x="197" y="15"/>
                </a:lnTo>
                <a:lnTo>
                  <a:pt x="197" y="17"/>
                </a:lnTo>
                <a:lnTo>
                  <a:pt x="197" y="19"/>
                </a:lnTo>
                <a:lnTo>
                  <a:pt x="195" y="21"/>
                </a:lnTo>
                <a:lnTo>
                  <a:pt x="195" y="21"/>
                </a:lnTo>
                <a:lnTo>
                  <a:pt x="195" y="23"/>
                </a:lnTo>
                <a:lnTo>
                  <a:pt x="193" y="25"/>
                </a:lnTo>
                <a:lnTo>
                  <a:pt x="193" y="27"/>
                </a:lnTo>
                <a:lnTo>
                  <a:pt x="193" y="27"/>
                </a:lnTo>
                <a:lnTo>
                  <a:pt x="228" y="21"/>
                </a:lnTo>
                <a:lnTo>
                  <a:pt x="270" y="15"/>
                </a:lnTo>
                <a:lnTo>
                  <a:pt x="312" y="13"/>
                </a:lnTo>
                <a:lnTo>
                  <a:pt x="355" y="11"/>
                </a:lnTo>
                <a:lnTo>
                  <a:pt x="397" y="13"/>
                </a:lnTo>
                <a:lnTo>
                  <a:pt x="439" y="15"/>
                </a:lnTo>
                <a:lnTo>
                  <a:pt x="481" y="21"/>
                </a:lnTo>
                <a:lnTo>
                  <a:pt x="522" y="29"/>
                </a:lnTo>
                <a:lnTo>
                  <a:pt x="531" y="31"/>
                </a:lnTo>
                <a:lnTo>
                  <a:pt x="531" y="29"/>
                </a:lnTo>
                <a:lnTo>
                  <a:pt x="531" y="29"/>
                </a:lnTo>
                <a:lnTo>
                  <a:pt x="533" y="27"/>
                </a:lnTo>
                <a:lnTo>
                  <a:pt x="533" y="25"/>
                </a:lnTo>
                <a:lnTo>
                  <a:pt x="535" y="25"/>
                </a:lnTo>
                <a:lnTo>
                  <a:pt x="535" y="23"/>
                </a:lnTo>
                <a:lnTo>
                  <a:pt x="537" y="23"/>
                </a:lnTo>
                <a:lnTo>
                  <a:pt x="537" y="21"/>
                </a:lnTo>
                <a:close/>
                <a:moveTo>
                  <a:pt x="2" y="1604"/>
                </a:moveTo>
                <a:lnTo>
                  <a:pt x="28" y="1617"/>
                </a:lnTo>
                <a:lnTo>
                  <a:pt x="65" y="1631"/>
                </a:lnTo>
                <a:lnTo>
                  <a:pt x="105" y="1644"/>
                </a:lnTo>
                <a:lnTo>
                  <a:pt x="145" y="1656"/>
                </a:lnTo>
                <a:lnTo>
                  <a:pt x="186" y="1665"/>
                </a:lnTo>
                <a:lnTo>
                  <a:pt x="226" y="1673"/>
                </a:lnTo>
                <a:lnTo>
                  <a:pt x="268" y="1679"/>
                </a:lnTo>
                <a:lnTo>
                  <a:pt x="312" y="1681"/>
                </a:lnTo>
                <a:lnTo>
                  <a:pt x="355" y="1683"/>
                </a:lnTo>
                <a:lnTo>
                  <a:pt x="399" y="1681"/>
                </a:lnTo>
                <a:lnTo>
                  <a:pt x="441" y="1679"/>
                </a:lnTo>
                <a:lnTo>
                  <a:pt x="483" y="1673"/>
                </a:lnTo>
                <a:lnTo>
                  <a:pt x="524" y="1665"/>
                </a:lnTo>
                <a:lnTo>
                  <a:pt x="560" y="1658"/>
                </a:lnTo>
                <a:lnTo>
                  <a:pt x="560" y="1656"/>
                </a:lnTo>
                <a:lnTo>
                  <a:pt x="558" y="1656"/>
                </a:lnTo>
                <a:lnTo>
                  <a:pt x="558" y="1654"/>
                </a:lnTo>
                <a:lnTo>
                  <a:pt x="556" y="1652"/>
                </a:lnTo>
                <a:lnTo>
                  <a:pt x="556" y="1652"/>
                </a:lnTo>
                <a:lnTo>
                  <a:pt x="554" y="1650"/>
                </a:lnTo>
                <a:lnTo>
                  <a:pt x="554" y="1650"/>
                </a:lnTo>
                <a:lnTo>
                  <a:pt x="552" y="1648"/>
                </a:lnTo>
                <a:lnTo>
                  <a:pt x="522" y="1656"/>
                </a:lnTo>
                <a:lnTo>
                  <a:pt x="481" y="1663"/>
                </a:lnTo>
                <a:lnTo>
                  <a:pt x="439" y="1667"/>
                </a:lnTo>
                <a:lnTo>
                  <a:pt x="397" y="1671"/>
                </a:lnTo>
                <a:lnTo>
                  <a:pt x="355" y="1671"/>
                </a:lnTo>
                <a:lnTo>
                  <a:pt x="312" y="1671"/>
                </a:lnTo>
                <a:lnTo>
                  <a:pt x="270" y="1667"/>
                </a:lnTo>
                <a:lnTo>
                  <a:pt x="228" y="1663"/>
                </a:lnTo>
                <a:lnTo>
                  <a:pt x="188" y="1656"/>
                </a:lnTo>
                <a:lnTo>
                  <a:pt x="147" y="1646"/>
                </a:lnTo>
                <a:lnTo>
                  <a:pt x="107" y="1635"/>
                </a:lnTo>
                <a:lnTo>
                  <a:pt x="69" y="1621"/>
                </a:lnTo>
                <a:lnTo>
                  <a:pt x="32" y="1606"/>
                </a:lnTo>
                <a:lnTo>
                  <a:pt x="0" y="1592"/>
                </a:lnTo>
                <a:lnTo>
                  <a:pt x="0" y="1594"/>
                </a:lnTo>
                <a:lnTo>
                  <a:pt x="0" y="1596"/>
                </a:lnTo>
                <a:lnTo>
                  <a:pt x="2" y="1596"/>
                </a:lnTo>
                <a:lnTo>
                  <a:pt x="2" y="1598"/>
                </a:lnTo>
                <a:lnTo>
                  <a:pt x="2" y="1600"/>
                </a:lnTo>
                <a:lnTo>
                  <a:pt x="2" y="1602"/>
                </a:lnTo>
                <a:lnTo>
                  <a:pt x="2" y="1604"/>
                </a:lnTo>
                <a:lnTo>
                  <a:pt x="2" y="1604"/>
                </a:lnTo>
                <a:close/>
              </a:path>
            </a:pathLst>
          </a:custGeom>
          <a:solidFill>
            <a:srgbClr val="62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Freeform 371"/>
          <p:cNvSpPr/>
          <p:nvPr/>
        </p:nvSpPr>
        <p:spPr>
          <a:xfrm>
            <a:off x="5780160" y="1916280"/>
            <a:ext cx="882720" cy="2652480"/>
          </a:xfrm>
          <a:custGeom>
            <a:avLst/>
            <a:gdLst>
              <a:gd name="textAreaLeft" fmla="*/ 0 w 882720"/>
              <a:gd name="textAreaRight" fmla="*/ 883080 w 882720"/>
              <a:gd name="textAreaTop" fmla="*/ 0 h 2652480"/>
              <a:gd name="textAreaBottom" fmla="*/ 2652480 h 2652480"/>
            </a:gdLst>
            <a:ahLst/>
            <a:rect l="textAreaLeft" t="textAreaTop" r="textAreaRight" b="textAreaBottom"/>
            <a:pathLst>
              <a:path w="556" h="1671">
                <a:moveTo>
                  <a:pt x="533" y="19"/>
                </a:moveTo>
                <a:lnTo>
                  <a:pt x="524" y="17"/>
                </a:lnTo>
                <a:lnTo>
                  <a:pt x="481" y="9"/>
                </a:lnTo>
                <a:lnTo>
                  <a:pt x="441" y="4"/>
                </a:lnTo>
                <a:lnTo>
                  <a:pt x="397" y="2"/>
                </a:lnTo>
                <a:lnTo>
                  <a:pt x="355" y="0"/>
                </a:lnTo>
                <a:lnTo>
                  <a:pt x="312" y="2"/>
                </a:lnTo>
                <a:lnTo>
                  <a:pt x="270" y="4"/>
                </a:lnTo>
                <a:lnTo>
                  <a:pt x="228" y="9"/>
                </a:lnTo>
                <a:lnTo>
                  <a:pt x="195" y="15"/>
                </a:lnTo>
                <a:lnTo>
                  <a:pt x="195" y="17"/>
                </a:lnTo>
                <a:lnTo>
                  <a:pt x="193" y="19"/>
                </a:lnTo>
                <a:lnTo>
                  <a:pt x="193" y="21"/>
                </a:lnTo>
                <a:lnTo>
                  <a:pt x="193" y="21"/>
                </a:lnTo>
                <a:lnTo>
                  <a:pt x="193" y="23"/>
                </a:lnTo>
                <a:lnTo>
                  <a:pt x="192" y="25"/>
                </a:lnTo>
                <a:lnTo>
                  <a:pt x="192" y="27"/>
                </a:lnTo>
                <a:lnTo>
                  <a:pt x="192" y="27"/>
                </a:lnTo>
                <a:lnTo>
                  <a:pt x="230" y="21"/>
                </a:lnTo>
                <a:lnTo>
                  <a:pt x="270" y="15"/>
                </a:lnTo>
                <a:lnTo>
                  <a:pt x="312" y="11"/>
                </a:lnTo>
                <a:lnTo>
                  <a:pt x="355" y="11"/>
                </a:lnTo>
                <a:lnTo>
                  <a:pt x="397" y="11"/>
                </a:lnTo>
                <a:lnTo>
                  <a:pt x="439" y="15"/>
                </a:lnTo>
                <a:lnTo>
                  <a:pt x="481" y="21"/>
                </a:lnTo>
                <a:lnTo>
                  <a:pt x="522" y="28"/>
                </a:lnTo>
                <a:lnTo>
                  <a:pt x="527" y="28"/>
                </a:lnTo>
                <a:lnTo>
                  <a:pt x="527" y="28"/>
                </a:lnTo>
                <a:lnTo>
                  <a:pt x="529" y="27"/>
                </a:lnTo>
                <a:lnTo>
                  <a:pt x="529" y="25"/>
                </a:lnTo>
                <a:lnTo>
                  <a:pt x="529" y="25"/>
                </a:lnTo>
                <a:lnTo>
                  <a:pt x="531" y="23"/>
                </a:lnTo>
                <a:lnTo>
                  <a:pt x="531" y="23"/>
                </a:lnTo>
                <a:lnTo>
                  <a:pt x="533" y="21"/>
                </a:lnTo>
                <a:lnTo>
                  <a:pt x="533" y="19"/>
                </a:lnTo>
                <a:close/>
                <a:moveTo>
                  <a:pt x="2" y="1592"/>
                </a:moveTo>
                <a:lnTo>
                  <a:pt x="30" y="1606"/>
                </a:lnTo>
                <a:lnTo>
                  <a:pt x="67" y="1621"/>
                </a:lnTo>
                <a:lnTo>
                  <a:pt x="107" y="1634"/>
                </a:lnTo>
                <a:lnTo>
                  <a:pt x="145" y="1646"/>
                </a:lnTo>
                <a:lnTo>
                  <a:pt x="186" y="1654"/>
                </a:lnTo>
                <a:lnTo>
                  <a:pt x="228" y="1661"/>
                </a:lnTo>
                <a:lnTo>
                  <a:pt x="270" y="1667"/>
                </a:lnTo>
                <a:lnTo>
                  <a:pt x="312" y="1671"/>
                </a:lnTo>
                <a:lnTo>
                  <a:pt x="355" y="1671"/>
                </a:lnTo>
                <a:lnTo>
                  <a:pt x="397" y="1671"/>
                </a:lnTo>
                <a:lnTo>
                  <a:pt x="441" y="1667"/>
                </a:lnTo>
                <a:lnTo>
                  <a:pt x="481" y="1661"/>
                </a:lnTo>
                <a:lnTo>
                  <a:pt x="524" y="1654"/>
                </a:lnTo>
                <a:lnTo>
                  <a:pt x="556" y="1646"/>
                </a:lnTo>
                <a:lnTo>
                  <a:pt x="556" y="1646"/>
                </a:lnTo>
                <a:lnTo>
                  <a:pt x="554" y="1644"/>
                </a:lnTo>
                <a:lnTo>
                  <a:pt x="554" y="1644"/>
                </a:lnTo>
                <a:lnTo>
                  <a:pt x="552" y="1642"/>
                </a:lnTo>
                <a:lnTo>
                  <a:pt x="552" y="1640"/>
                </a:lnTo>
                <a:lnTo>
                  <a:pt x="550" y="1640"/>
                </a:lnTo>
                <a:lnTo>
                  <a:pt x="550" y="1638"/>
                </a:lnTo>
                <a:lnTo>
                  <a:pt x="549" y="1638"/>
                </a:lnTo>
                <a:lnTo>
                  <a:pt x="522" y="1644"/>
                </a:lnTo>
                <a:lnTo>
                  <a:pt x="481" y="1652"/>
                </a:lnTo>
                <a:lnTo>
                  <a:pt x="439" y="1656"/>
                </a:lnTo>
                <a:lnTo>
                  <a:pt x="397" y="1659"/>
                </a:lnTo>
                <a:lnTo>
                  <a:pt x="355" y="1661"/>
                </a:lnTo>
                <a:lnTo>
                  <a:pt x="312" y="1659"/>
                </a:lnTo>
                <a:lnTo>
                  <a:pt x="270" y="1656"/>
                </a:lnTo>
                <a:lnTo>
                  <a:pt x="230" y="1652"/>
                </a:lnTo>
                <a:lnTo>
                  <a:pt x="188" y="1644"/>
                </a:lnTo>
                <a:lnTo>
                  <a:pt x="149" y="1634"/>
                </a:lnTo>
                <a:lnTo>
                  <a:pt x="109" y="1623"/>
                </a:lnTo>
                <a:lnTo>
                  <a:pt x="71" y="1611"/>
                </a:lnTo>
                <a:lnTo>
                  <a:pt x="34" y="1596"/>
                </a:lnTo>
                <a:lnTo>
                  <a:pt x="0" y="1581"/>
                </a:lnTo>
                <a:lnTo>
                  <a:pt x="0" y="1583"/>
                </a:lnTo>
                <a:lnTo>
                  <a:pt x="0" y="1583"/>
                </a:lnTo>
                <a:lnTo>
                  <a:pt x="0" y="1585"/>
                </a:lnTo>
                <a:lnTo>
                  <a:pt x="0" y="1586"/>
                </a:lnTo>
                <a:lnTo>
                  <a:pt x="0" y="1588"/>
                </a:lnTo>
                <a:lnTo>
                  <a:pt x="0" y="1590"/>
                </a:lnTo>
                <a:lnTo>
                  <a:pt x="2" y="1590"/>
                </a:lnTo>
                <a:lnTo>
                  <a:pt x="2" y="1592"/>
                </a:lnTo>
                <a:close/>
              </a:path>
            </a:pathLst>
          </a:custGeom>
          <a:solidFill>
            <a:srgbClr val="63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Freeform 372"/>
          <p:cNvSpPr/>
          <p:nvPr/>
        </p:nvSpPr>
        <p:spPr>
          <a:xfrm>
            <a:off x="5776920" y="1924200"/>
            <a:ext cx="879480" cy="2635200"/>
          </a:xfrm>
          <a:custGeom>
            <a:avLst/>
            <a:gdLst>
              <a:gd name="textAreaLeft" fmla="*/ 0 w 879480"/>
              <a:gd name="textAreaRight" fmla="*/ 879840 w 87948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554" h="1660">
                <a:moveTo>
                  <a:pt x="533" y="20"/>
                </a:moveTo>
                <a:lnTo>
                  <a:pt x="524" y="18"/>
                </a:lnTo>
                <a:lnTo>
                  <a:pt x="483" y="10"/>
                </a:lnTo>
                <a:lnTo>
                  <a:pt x="441" y="4"/>
                </a:lnTo>
                <a:lnTo>
                  <a:pt x="399" y="2"/>
                </a:lnTo>
                <a:lnTo>
                  <a:pt x="357" y="0"/>
                </a:lnTo>
                <a:lnTo>
                  <a:pt x="314" y="2"/>
                </a:lnTo>
                <a:lnTo>
                  <a:pt x="272" y="4"/>
                </a:lnTo>
                <a:lnTo>
                  <a:pt x="230" y="10"/>
                </a:lnTo>
                <a:lnTo>
                  <a:pt x="195" y="16"/>
                </a:lnTo>
                <a:lnTo>
                  <a:pt x="195" y="18"/>
                </a:lnTo>
                <a:lnTo>
                  <a:pt x="194" y="20"/>
                </a:lnTo>
                <a:lnTo>
                  <a:pt x="194" y="22"/>
                </a:lnTo>
                <a:lnTo>
                  <a:pt x="194" y="22"/>
                </a:lnTo>
                <a:lnTo>
                  <a:pt x="192" y="23"/>
                </a:lnTo>
                <a:lnTo>
                  <a:pt x="192" y="25"/>
                </a:lnTo>
                <a:lnTo>
                  <a:pt x="192" y="27"/>
                </a:lnTo>
                <a:lnTo>
                  <a:pt x="192" y="27"/>
                </a:lnTo>
                <a:lnTo>
                  <a:pt x="192" y="27"/>
                </a:lnTo>
                <a:lnTo>
                  <a:pt x="232" y="20"/>
                </a:lnTo>
                <a:lnTo>
                  <a:pt x="272" y="16"/>
                </a:lnTo>
                <a:lnTo>
                  <a:pt x="314" y="12"/>
                </a:lnTo>
                <a:lnTo>
                  <a:pt x="357" y="12"/>
                </a:lnTo>
                <a:lnTo>
                  <a:pt x="399" y="12"/>
                </a:lnTo>
                <a:lnTo>
                  <a:pt x="441" y="16"/>
                </a:lnTo>
                <a:lnTo>
                  <a:pt x="481" y="20"/>
                </a:lnTo>
                <a:lnTo>
                  <a:pt x="522" y="27"/>
                </a:lnTo>
                <a:lnTo>
                  <a:pt x="526" y="29"/>
                </a:lnTo>
                <a:lnTo>
                  <a:pt x="526" y="27"/>
                </a:lnTo>
                <a:lnTo>
                  <a:pt x="528" y="25"/>
                </a:lnTo>
                <a:lnTo>
                  <a:pt x="528" y="25"/>
                </a:lnTo>
                <a:lnTo>
                  <a:pt x="529" y="23"/>
                </a:lnTo>
                <a:lnTo>
                  <a:pt x="529" y="23"/>
                </a:lnTo>
                <a:lnTo>
                  <a:pt x="531" y="22"/>
                </a:lnTo>
                <a:lnTo>
                  <a:pt x="531" y="20"/>
                </a:lnTo>
                <a:lnTo>
                  <a:pt x="533" y="20"/>
                </a:lnTo>
                <a:close/>
                <a:moveTo>
                  <a:pt x="2" y="1581"/>
                </a:moveTo>
                <a:lnTo>
                  <a:pt x="34" y="1595"/>
                </a:lnTo>
                <a:lnTo>
                  <a:pt x="71" y="1610"/>
                </a:lnTo>
                <a:lnTo>
                  <a:pt x="109" y="1624"/>
                </a:lnTo>
                <a:lnTo>
                  <a:pt x="149" y="1635"/>
                </a:lnTo>
                <a:lnTo>
                  <a:pt x="190" y="1645"/>
                </a:lnTo>
                <a:lnTo>
                  <a:pt x="230" y="1652"/>
                </a:lnTo>
                <a:lnTo>
                  <a:pt x="272" y="1656"/>
                </a:lnTo>
                <a:lnTo>
                  <a:pt x="314" y="1660"/>
                </a:lnTo>
                <a:lnTo>
                  <a:pt x="357" y="1660"/>
                </a:lnTo>
                <a:lnTo>
                  <a:pt x="399" y="1660"/>
                </a:lnTo>
                <a:lnTo>
                  <a:pt x="441" y="1656"/>
                </a:lnTo>
                <a:lnTo>
                  <a:pt x="483" y="1652"/>
                </a:lnTo>
                <a:lnTo>
                  <a:pt x="524" y="1645"/>
                </a:lnTo>
                <a:lnTo>
                  <a:pt x="554" y="1637"/>
                </a:lnTo>
                <a:lnTo>
                  <a:pt x="554" y="1635"/>
                </a:lnTo>
                <a:lnTo>
                  <a:pt x="552" y="1635"/>
                </a:lnTo>
                <a:lnTo>
                  <a:pt x="552" y="1633"/>
                </a:lnTo>
                <a:lnTo>
                  <a:pt x="551" y="1633"/>
                </a:lnTo>
                <a:lnTo>
                  <a:pt x="551" y="1631"/>
                </a:lnTo>
                <a:lnTo>
                  <a:pt x="549" y="1629"/>
                </a:lnTo>
                <a:lnTo>
                  <a:pt x="549" y="1629"/>
                </a:lnTo>
                <a:lnTo>
                  <a:pt x="547" y="1627"/>
                </a:lnTo>
                <a:lnTo>
                  <a:pt x="522" y="1633"/>
                </a:lnTo>
                <a:lnTo>
                  <a:pt x="481" y="1641"/>
                </a:lnTo>
                <a:lnTo>
                  <a:pt x="441" y="1647"/>
                </a:lnTo>
                <a:lnTo>
                  <a:pt x="399" y="1649"/>
                </a:lnTo>
                <a:lnTo>
                  <a:pt x="357" y="1651"/>
                </a:lnTo>
                <a:lnTo>
                  <a:pt x="314" y="1649"/>
                </a:lnTo>
                <a:lnTo>
                  <a:pt x="272" y="1647"/>
                </a:lnTo>
                <a:lnTo>
                  <a:pt x="232" y="1641"/>
                </a:lnTo>
                <a:lnTo>
                  <a:pt x="192" y="1633"/>
                </a:lnTo>
                <a:lnTo>
                  <a:pt x="151" y="1624"/>
                </a:lnTo>
                <a:lnTo>
                  <a:pt x="113" y="1614"/>
                </a:lnTo>
                <a:lnTo>
                  <a:pt x="75" y="1601"/>
                </a:lnTo>
                <a:lnTo>
                  <a:pt x="38" y="1585"/>
                </a:lnTo>
                <a:lnTo>
                  <a:pt x="2" y="1570"/>
                </a:lnTo>
                <a:lnTo>
                  <a:pt x="0" y="1570"/>
                </a:lnTo>
                <a:lnTo>
                  <a:pt x="2" y="1570"/>
                </a:lnTo>
                <a:lnTo>
                  <a:pt x="2" y="1572"/>
                </a:lnTo>
                <a:lnTo>
                  <a:pt x="2" y="1574"/>
                </a:lnTo>
                <a:lnTo>
                  <a:pt x="2" y="1576"/>
                </a:lnTo>
                <a:lnTo>
                  <a:pt x="2" y="1578"/>
                </a:lnTo>
                <a:lnTo>
                  <a:pt x="2" y="1578"/>
                </a:lnTo>
                <a:lnTo>
                  <a:pt x="2" y="1580"/>
                </a:lnTo>
                <a:lnTo>
                  <a:pt x="2" y="1581"/>
                </a:lnTo>
                <a:close/>
              </a:path>
            </a:pathLst>
          </a:custGeom>
          <a:solidFill>
            <a:srgbClr val="64c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Freeform 373"/>
          <p:cNvSpPr/>
          <p:nvPr/>
        </p:nvSpPr>
        <p:spPr>
          <a:xfrm>
            <a:off x="5776920" y="1933560"/>
            <a:ext cx="874800" cy="2619360"/>
          </a:xfrm>
          <a:custGeom>
            <a:avLst/>
            <a:gdLst>
              <a:gd name="textAreaLeft" fmla="*/ 0 w 874800"/>
              <a:gd name="textAreaRight" fmla="*/ 875160 w 874800"/>
              <a:gd name="textAreaTop" fmla="*/ 0 h 2619360"/>
              <a:gd name="textAreaBottom" fmla="*/ 2619720 h 2619360"/>
            </a:gdLst>
            <a:ahLst/>
            <a:rect l="textAreaLeft" t="textAreaTop" r="textAreaRight" b="textAreaBottom"/>
            <a:pathLst>
              <a:path w="551" h="1650">
                <a:moveTo>
                  <a:pt x="529" y="17"/>
                </a:moveTo>
                <a:lnTo>
                  <a:pt x="524" y="17"/>
                </a:lnTo>
                <a:lnTo>
                  <a:pt x="483" y="10"/>
                </a:lnTo>
                <a:lnTo>
                  <a:pt x="441" y="4"/>
                </a:lnTo>
                <a:lnTo>
                  <a:pt x="399" y="0"/>
                </a:lnTo>
                <a:lnTo>
                  <a:pt x="357" y="0"/>
                </a:lnTo>
                <a:lnTo>
                  <a:pt x="314" y="0"/>
                </a:lnTo>
                <a:lnTo>
                  <a:pt x="272" y="4"/>
                </a:lnTo>
                <a:lnTo>
                  <a:pt x="232" y="10"/>
                </a:lnTo>
                <a:lnTo>
                  <a:pt x="194" y="16"/>
                </a:lnTo>
                <a:lnTo>
                  <a:pt x="192" y="17"/>
                </a:lnTo>
                <a:lnTo>
                  <a:pt x="192" y="19"/>
                </a:lnTo>
                <a:lnTo>
                  <a:pt x="192" y="21"/>
                </a:lnTo>
                <a:lnTo>
                  <a:pt x="192" y="21"/>
                </a:lnTo>
                <a:lnTo>
                  <a:pt x="190" y="23"/>
                </a:lnTo>
                <a:lnTo>
                  <a:pt x="190" y="25"/>
                </a:lnTo>
                <a:lnTo>
                  <a:pt x="190" y="27"/>
                </a:lnTo>
                <a:lnTo>
                  <a:pt x="188" y="27"/>
                </a:lnTo>
                <a:lnTo>
                  <a:pt x="194" y="27"/>
                </a:lnTo>
                <a:lnTo>
                  <a:pt x="232" y="19"/>
                </a:lnTo>
                <a:lnTo>
                  <a:pt x="274" y="16"/>
                </a:lnTo>
                <a:lnTo>
                  <a:pt x="314" y="12"/>
                </a:lnTo>
                <a:lnTo>
                  <a:pt x="357" y="10"/>
                </a:lnTo>
                <a:lnTo>
                  <a:pt x="399" y="12"/>
                </a:lnTo>
                <a:lnTo>
                  <a:pt x="439" y="16"/>
                </a:lnTo>
                <a:lnTo>
                  <a:pt x="481" y="19"/>
                </a:lnTo>
                <a:lnTo>
                  <a:pt x="522" y="27"/>
                </a:lnTo>
                <a:lnTo>
                  <a:pt x="522" y="27"/>
                </a:lnTo>
                <a:lnTo>
                  <a:pt x="522" y="25"/>
                </a:lnTo>
                <a:lnTo>
                  <a:pt x="524" y="25"/>
                </a:lnTo>
                <a:lnTo>
                  <a:pt x="524" y="23"/>
                </a:lnTo>
                <a:lnTo>
                  <a:pt x="526" y="23"/>
                </a:lnTo>
                <a:lnTo>
                  <a:pt x="526" y="21"/>
                </a:lnTo>
                <a:lnTo>
                  <a:pt x="528" y="19"/>
                </a:lnTo>
                <a:lnTo>
                  <a:pt x="528" y="19"/>
                </a:lnTo>
                <a:lnTo>
                  <a:pt x="529" y="17"/>
                </a:lnTo>
                <a:close/>
                <a:moveTo>
                  <a:pt x="2" y="1570"/>
                </a:moveTo>
                <a:lnTo>
                  <a:pt x="36" y="1585"/>
                </a:lnTo>
                <a:lnTo>
                  <a:pt x="73" y="1600"/>
                </a:lnTo>
                <a:lnTo>
                  <a:pt x="111" y="1612"/>
                </a:lnTo>
                <a:lnTo>
                  <a:pt x="151" y="1623"/>
                </a:lnTo>
                <a:lnTo>
                  <a:pt x="190" y="1633"/>
                </a:lnTo>
                <a:lnTo>
                  <a:pt x="232" y="1641"/>
                </a:lnTo>
                <a:lnTo>
                  <a:pt x="272" y="1645"/>
                </a:lnTo>
                <a:lnTo>
                  <a:pt x="314" y="1648"/>
                </a:lnTo>
                <a:lnTo>
                  <a:pt x="357" y="1650"/>
                </a:lnTo>
                <a:lnTo>
                  <a:pt x="399" y="1648"/>
                </a:lnTo>
                <a:lnTo>
                  <a:pt x="441" y="1645"/>
                </a:lnTo>
                <a:lnTo>
                  <a:pt x="483" y="1641"/>
                </a:lnTo>
                <a:lnTo>
                  <a:pt x="524" y="1633"/>
                </a:lnTo>
                <a:lnTo>
                  <a:pt x="551" y="1627"/>
                </a:lnTo>
                <a:lnTo>
                  <a:pt x="551" y="1625"/>
                </a:lnTo>
                <a:lnTo>
                  <a:pt x="549" y="1623"/>
                </a:lnTo>
                <a:lnTo>
                  <a:pt x="549" y="1623"/>
                </a:lnTo>
                <a:lnTo>
                  <a:pt x="547" y="1621"/>
                </a:lnTo>
                <a:lnTo>
                  <a:pt x="547" y="1621"/>
                </a:lnTo>
                <a:lnTo>
                  <a:pt x="545" y="1620"/>
                </a:lnTo>
                <a:lnTo>
                  <a:pt x="545" y="1618"/>
                </a:lnTo>
                <a:lnTo>
                  <a:pt x="543" y="1618"/>
                </a:lnTo>
                <a:lnTo>
                  <a:pt x="522" y="1623"/>
                </a:lnTo>
                <a:lnTo>
                  <a:pt x="481" y="1629"/>
                </a:lnTo>
                <a:lnTo>
                  <a:pt x="439" y="1635"/>
                </a:lnTo>
                <a:lnTo>
                  <a:pt x="399" y="1639"/>
                </a:lnTo>
                <a:lnTo>
                  <a:pt x="357" y="1639"/>
                </a:lnTo>
                <a:lnTo>
                  <a:pt x="314" y="1639"/>
                </a:lnTo>
                <a:lnTo>
                  <a:pt x="274" y="1635"/>
                </a:lnTo>
                <a:lnTo>
                  <a:pt x="232" y="1629"/>
                </a:lnTo>
                <a:lnTo>
                  <a:pt x="194" y="1623"/>
                </a:lnTo>
                <a:lnTo>
                  <a:pt x="153" y="1614"/>
                </a:lnTo>
                <a:lnTo>
                  <a:pt x="115" y="1602"/>
                </a:lnTo>
                <a:lnTo>
                  <a:pt x="76" y="1589"/>
                </a:lnTo>
                <a:lnTo>
                  <a:pt x="40" y="1575"/>
                </a:lnTo>
                <a:lnTo>
                  <a:pt x="4" y="1558"/>
                </a:lnTo>
                <a:lnTo>
                  <a:pt x="0" y="1556"/>
                </a:lnTo>
                <a:lnTo>
                  <a:pt x="0" y="1558"/>
                </a:lnTo>
                <a:lnTo>
                  <a:pt x="0" y="1560"/>
                </a:lnTo>
                <a:lnTo>
                  <a:pt x="0" y="1562"/>
                </a:lnTo>
                <a:lnTo>
                  <a:pt x="0" y="1564"/>
                </a:lnTo>
                <a:lnTo>
                  <a:pt x="2" y="1564"/>
                </a:lnTo>
                <a:lnTo>
                  <a:pt x="2" y="1566"/>
                </a:lnTo>
                <a:lnTo>
                  <a:pt x="2" y="1568"/>
                </a:lnTo>
                <a:lnTo>
                  <a:pt x="2" y="1570"/>
                </a:lnTo>
                <a:close/>
              </a:path>
            </a:pathLst>
          </a:custGeom>
          <a:solidFill>
            <a:srgbClr val="65c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Freeform 374"/>
          <p:cNvSpPr/>
          <p:nvPr/>
        </p:nvSpPr>
        <p:spPr>
          <a:xfrm>
            <a:off x="5776920" y="1943280"/>
            <a:ext cx="868320" cy="2601720"/>
          </a:xfrm>
          <a:custGeom>
            <a:avLst/>
            <a:gdLst>
              <a:gd name="textAreaLeft" fmla="*/ 0 w 868320"/>
              <a:gd name="textAreaRight" fmla="*/ 868680 w 868320"/>
              <a:gd name="textAreaTop" fmla="*/ 0 h 2601720"/>
              <a:gd name="textAreaBottom" fmla="*/ 2602080 h 2601720"/>
            </a:gdLst>
            <a:ahLst/>
            <a:rect l="textAreaLeft" t="textAreaTop" r="textAreaRight" b="textAreaBottom"/>
            <a:pathLst>
              <a:path w="547" h="1639">
                <a:moveTo>
                  <a:pt x="526" y="17"/>
                </a:moveTo>
                <a:lnTo>
                  <a:pt x="522" y="15"/>
                </a:lnTo>
                <a:lnTo>
                  <a:pt x="481" y="8"/>
                </a:lnTo>
                <a:lnTo>
                  <a:pt x="441" y="4"/>
                </a:lnTo>
                <a:lnTo>
                  <a:pt x="399" y="0"/>
                </a:lnTo>
                <a:lnTo>
                  <a:pt x="357" y="0"/>
                </a:lnTo>
                <a:lnTo>
                  <a:pt x="314" y="0"/>
                </a:lnTo>
                <a:lnTo>
                  <a:pt x="272" y="4"/>
                </a:lnTo>
                <a:lnTo>
                  <a:pt x="232" y="8"/>
                </a:lnTo>
                <a:lnTo>
                  <a:pt x="192" y="15"/>
                </a:lnTo>
                <a:lnTo>
                  <a:pt x="192" y="15"/>
                </a:lnTo>
                <a:lnTo>
                  <a:pt x="190" y="17"/>
                </a:lnTo>
                <a:lnTo>
                  <a:pt x="190" y="19"/>
                </a:lnTo>
                <a:lnTo>
                  <a:pt x="190" y="21"/>
                </a:lnTo>
                <a:lnTo>
                  <a:pt x="188" y="21"/>
                </a:lnTo>
                <a:lnTo>
                  <a:pt x="188" y="23"/>
                </a:lnTo>
                <a:lnTo>
                  <a:pt x="188" y="25"/>
                </a:lnTo>
                <a:lnTo>
                  <a:pt x="188" y="27"/>
                </a:lnTo>
                <a:lnTo>
                  <a:pt x="186" y="29"/>
                </a:lnTo>
                <a:lnTo>
                  <a:pt x="194" y="27"/>
                </a:lnTo>
                <a:lnTo>
                  <a:pt x="234" y="19"/>
                </a:lnTo>
                <a:lnTo>
                  <a:pt x="274" y="13"/>
                </a:lnTo>
                <a:lnTo>
                  <a:pt x="314" y="11"/>
                </a:lnTo>
                <a:lnTo>
                  <a:pt x="357" y="10"/>
                </a:lnTo>
                <a:lnTo>
                  <a:pt x="399" y="11"/>
                </a:lnTo>
                <a:lnTo>
                  <a:pt x="439" y="13"/>
                </a:lnTo>
                <a:lnTo>
                  <a:pt x="480" y="19"/>
                </a:lnTo>
                <a:lnTo>
                  <a:pt x="518" y="25"/>
                </a:lnTo>
                <a:lnTo>
                  <a:pt x="518" y="25"/>
                </a:lnTo>
                <a:lnTo>
                  <a:pt x="520" y="23"/>
                </a:lnTo>
                <a:lnTo>
                  <a:pt x="520" y="23"/>
                </a:lnTo>
                <a:lnTo>
                  <a:pt x="522" y="21"/>
                </a:lnTo>
                <a:lnTo>
                  <a:pt x="522" y="19"/>
                </a:lnTo>
                <a:lnTo>
                  <a:pt x="524" y="19"/>
                </a:lnTo>
                <a:lnTo>
                  <a:pt x="524" y="17"/>
                </a:lnTo>
                <a:lnTo>
                  <a:pt x="526" y="17"/>
                </a:lnTo>
                <a:close/>
                <a:moveTo>
                  <a:pt x="0" y="1558"/>
                </a:moveTo>
                <a:lnTo>
                  <a:pt x="2" y="1558"/>
                </a:lnTo>
                <a:lnTo>
                  <a:pt x="38" y="1573"/>
                </a:lnTo>
                <a:lnTo>
                  <a:pt x="75" y="1589"/>
                </a:lnTo>
                <a:lnTo>
                  <a:pt x="113" y="1602"/>
                </a:lnTo>
                <a:lnTo>
                  <a:pt x="151" y="1612"/>
                </a:lnTo>
                <a:lnTo>
                  <a:pt x="192" y="1621"/>
                </a:lnTo>
                <a:lnTo>
                  <a:pt x="232" y="1629"/>
                </a:lnTo>
                <a:lnTo>
                  <a:pt x="272" y="1635"/>
                </a:lnTo>
                <a:lnTo>
                  <a:pt x="314" y="1637"/>
                </a:lnTo>
                <a:lnTo>
                  <a:pt x="357" y="1639"/>
                </a:lnTo>
                <a:lnTo>
                  <a:pt x="399" y="1637"/>
                </a:lnTo>
                <a:lnTo>
                  <a:pt x="441" y="1635"/>
                </a:lnTo>
                <a:lnTo>
                  <a:pt x="481" y="1629"/>
                </a:lnTo>
                <a:lnTo>
                  <a:pt x="522" y="1621"/>
                </a:lnTo>
                <a:lnTo>
                  <a:pt x="547" y="1615"/>
                </a:lnTo>
                <a:lnTo>
                  <a:pt x="547" y="1615"/>
                </a:lnTo>
                <a:lnTo>
                  <a:pt x="545" y="1614"/>
                </a:lnTo>
                <a:lnTo>
                  <a:pt x="545" y="1612"/>
                </a:lnTo>
                <a:lnTo>
                  <a:pt x="543" y="1612"/>
                </a:lnTo>
                <a:lnTo>
                  <a:pt x="543" y="1610"/>
                </a:lnTo>
                <a:lnTo>
                  <a:pt x="541" y="1610"/>
                </a:lnTo>
                <a:lnTo>
                  <a:pt x="541" y="1608"/>
                </a:lnTo>
                <a:lnTo>
                  <a:pt x="539" y="1606"/>
                </a:lnTo>
                <a:lnTo>
                  <a:pt x="520" y="1612"/>
                </a:lnTo>
                <a:lnTo>
                  <a:pt x="480" y="1619"/>
                </a:lnTo>
                <a:lnTo>
                  <a:pt x="439" y="1623"/>
                </a:lnTo>
                <a:lnTo>
                  <a:pt x="399" y="1627"/>
                </a:lnTo>
                <a:lnTo>
                  <a:pt x="357" y="1627"/>
                </a:lnTo>
                <a:lnTo>
                  <a:pt x="314" y="1627"/>
                </a:lnTo>
                <a:lnTo>
                  <a:pt x="274" y="1623"/>
                </a:lnTo>
                <a:lnTo>
                  <a:pt x="234" y="1619"/>
                </a:lnTo>
                <a:lnTo>
                  <a:pt x="194" y="1612"/>
                </a:lnTo>
                <a:lnTo>
                  <a:pt x="155" y="1602"/>
                </a:lnTo>
                <a:lnTo>
                  <a:pt x="117" y="1591"/>
                </a:lnTo>
                <a:lnTo>
                  <a:pt x="78" y="1579"/>
                </a:lnTo>
                <a:lnTo>
                  <a:pt x="42" y="1564"/>
                </a:lnTo>
                <a:lnTo>
                  <a:pt x="5" y="1548"/>
                </a:lnTo>
                <a:lnTo>
                  <a:pt x="0" y="1545"/>
                </a:lnTo>
                <a:lnTo>
                  <a:pt x="0" y="1546"/>
                </a:lnTo>
                <a:lnTo>
                  <a:pt x="0" y="1548"/>
                </a:lnTo>
                <a:lnTo>
                  <a:pt x="0" y="1548"/>
                </a:lnTo>
                <a:lnTo>
                  <a:pt x="0" y="1550"/>
                </a:lnTo>
                <a:lnTo>
                  <a:pt x="0" y="1552"/>
                </a:lnTo>
                <a:lnTo>
                  <a:pt x="0" y="1554"/>
                </a:lnTo>
                <a:lnTo>
                  <a:pt x="0" y="1556"/>
                </a:lnTo>
                <a:lnTo>
                  <a:pt x="0" y="1558"/>
                </a:lnTo>
                <a:close/>
              </a:path>
            </a:pathLst>
          </a:custGeom>
          <a:solidFill>
            <a:srgbClr val="66c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Freeform 375"/>
          <p:cNvSpPr/>
          <p:nvPr/>
        </p:nvSpPr>
        <p:spPr>
          <a:xfrm>
            <a:off x="5773680" y="1949400"/>
            <a:ext cx="865080" cy="2586240"/>
          </a:xfrm>
          <a:custGeom>
            <a:avLst/>
            <a:gdLst>
              <a:gd name="textAreaLeft" fmla="*/ 0 w 865080"/>
              <a:gd name="textAreaRight" fmla="*/ 865440 w 865080"/>
              <a:gd name="textAreaTop" fmla="*/ 0 h 2586240"/>
              <a:gd name="textAreaBottom" fmla="*/ 2586600 h 2586240"/>
            </a:gdLst>
            <a:ahLst/>
            <a:rect l="textAreaLeft" t="textAreaTop" r="textAreaRight" b="textAreaBottom"/>
            <a:pathLst>
              <a:path w="545" h="1629">
                <a:moveTo>
                  <a:pt x="524" y="17"/>
                </a:moveTo>
                <a:lnTo>
                  <a:pt x="524" y="17"/>
                </a:lnTo>
                <a:lnTo>
                  <a:pt x="483" y="9"/>
                </a:lnTo>
                <a:lnTo>
                  <a:pt x="441" y="6"/>
                </a:lnTo>
                <a:lnTo>
                  <a:pt x="401" y="2"/>
                </a:lnTo>
                <a:lnTo>
                  <a:pt x="359" y="0"/>
                </a:lnTo>
                <a:lnTo>
                  <a:pt x="316" y="2"/>
                </a:lnTo>
                <a:lnTo>
                  <a:pt x="276" y="6"/>
                </a:lnTo>
                <a:lnTo>
                  <a:pt x="234" y="9"/>
                </a:lnTo>
                <a:lnTo>
                  <a:pt x="196" y="17"/>
                </a:lnTo>
                <a:lnTo>
                  <a:pt x="190" y="17"/>
                </a:lnTo>
                <a:lnTo>
                  <a:pt x="190" y="19"/>
                </a:lnTo>
                <a:lnTo>
                  <a:pt x="190" y="21"/>
                </a:lnTo>
                <a:lnTo>
                  <a:pt x="190" y="23"/>
                </a:lnTo>
                <a:lnTo>
                  <a:pt x="188" y="25"/>
                </a:lnTo>
                <a:lnTo>
                  <a:pt x="188" y="25"/>
                </a:lnTo>
                <a:lnTo>
                  <a:pt x="188" y="27"/>
                </a:lnTo>
                <a:lnTo>
                  <a:pt x="186" y="29"/>
                </a:lnTo>
                <a:lnTo>
                  <a:pt x="186" y="30"/>
                </a:lnTo>
                <a:lnTo>
                  <a:pt x="197" y="27"/>
                </a:lnTo>
                <a:lnTo>
                  <a:pt x="236" y="21"/>
                </a:lnTo>
                <a:lnTo>
                  <a:pt x="276" y="15"/>
                </a:lnTo>
                <a:lnTo>
                  <a:pt x="318" y="11"/>
                </a:lnTo>
                <a:lnTo>
                  <a:pt x="359" y="11"/>
                </a:lnTo>
                <a:lnTo>
                  <a:pt x="401" y="11"/>
                </a:lnTo>
                <a:lnTo>
                  <a:pt x="441" y="15"/>
                </a:lnTo>
                <a:lnTo>
                  <a:pt x="482" y="21"/>
                </a:lnTo>
                <a:lnTo>
                  <a:pt x="516" y="27"/>
                </a:lnTo>
                <a:lnTo>
                  <a:pt x="518" y="25"/>
                </a:lnTo>
                <a:lnTo>
                  <a:pt x="518" y="25"/>
                </a:lnTo>
                <a:lnTo>
                  <a:pt x="520" y="23"/>
                </a:lnTo>
                <a:lnTo>
                  <a:pt x="520" y="23"/>
                </a:lnTo>
                <a:lnTo>
                  <a:pt x="520" y="21"/>
                </a:lnTo>
                <a:lnTo>
                  <a:pt x="522" y="19"/>
                </a:lnTo>
                <a:lnTo>
                  <a:pt x="522" y="19"/>
                </a:lnTo>
                <a:lnTo>
                  <a:pt x="524" y="17"/>
                </a:lnTo>
                <a:close/>
                <a:moveTo>
                  <a:pt x="2" y="1546"/>
                </a:moveTo>
                <a:lnTo>
                  <a:pt x="6" y="1548"/>
                </a:lnTo>
                <a:lnTo>
                  <a:pt x="42" y="1565"/>
                </a:lnTo>
                <a:lnTo>
                  <a:pt x="78" y="1579"/>
                </a:lnTo>
                <a:lnTo>
                  <a:pt x="117" y="1592"/>
                </a:lnTo>
                <a:lnTo>
                  <a:pt x="155" y="1604"/>
                </a:lnTo>
                <a:lnTo>
                  <a:pt x="196" y="1613"/>
                </a:lnTo>
                <a:lnTo>
                  <a:pt x="234" y="1619"/>
                </a:lnTo>
                <a:lnTo>
                  <a:pt x="276" y="1625"/>
                </a:lnTo>
                <a:lnTo>
                  <a:pt x="316" y="1629"/>
                </a:lnTo>
                <a:lnTo>
                  <a:pt x="359" y="1629"/>
                </a:lnTo>
                <a:lnTo>
                  <a:pt x="401" y="1629"/>
                </a:lnTo>
                <a:lnTo>
                  <a:pt x="441" y="1625"/>
                </a:lnTo>
                <a:lnTo>
                  <a:pt x="483" y="1619"/>
                </a:lnTo>
                <a:lnTo>
                  <a:pt x="524" y="1613"/>
                </a:lnTo>
                <a:lnTo>
                  <a:pt x="545" y="1608"/>
                </a:lnTo>
                <a:lnTo>
                  <a:pt x="545" y="1606"/>
                </a:lnTo>
                <a:lnTo>
                  <a:pt x="543" y="1606"/>
                </a:lnTo>
                <a:lnTo>
                  <a:pt x="543" y="1604"/>
                </a:lnTo>
                <a:lnTo>
                  <a:pt x="541" y="1602"/>
                </a:lnTo>
                <a:lnTo>
                  <a:pt x="541" y="1602"/>
                </a:lnTo>
                <a:lnTo>
                  <a:pt x="539" y="1600"/>
                </a:lnTo>
                <a:lnTo>
                  <a:pt x="539" y="1600"/>
                </a:lnTo>
                <a:lnTo>
                  <a:pt x="537" y="1598"/>
                </a:lnTo>
                <a:lnTo>
                  <a:pt x="520" y="1602"/>
                </a:lnTo>
                <a:lnTo>
                  <a:pt x="482" y="1610"/>
                </a:lnTo>
                <a:lnTo>
                  <a:pt x="441" y="1613"/>
                </a:lnTo>
                <a:lnTo>
                  <a:pt x="401" y="1617"/>
                </a:lnTo>
                <a:lnTo>
                  <a:pt x="359" y="1619"/>
                </a:lnTo>
                <a:lnTo>
                  <a:pt x="318" y="1617"/>
                </a:lnTo>
                <a:lnTo>
                  <a:pt x="276" y="1613"/>
                </a:lnTo>
                <a:lnTo>
                  <a:pt x="236" y="1610"/>
                </a:lnTo>
                <a:lnTo>
                  <a:pt x="197" y="1602"/>
                </a:lnTo>
                <a:lnTo>
                  <a:pt x="157" y="1592"/>
                </a:lnTo>
                <a:lnTo>
                  <a:pt x="121" y="1583"/>
                </a:lnTo>
                <a:lnTo>
                  <a:pt x="82" y="1569"/>
                </a:lnTo>
                <a:lnTo>
                  <a:pt x="46" y="1556"/>
                </a:lnTo>
                <a:lnTo>
                  <a:pt x="11" y="1539"/>
                </a:lnTo>
                <a:lnTo>
                  <a:pt x="0" y="1535"/>
                </a:lnTo>
                <a:lnTo>
                  <a:pt x="0" y="1535"/>
                </a:lnTo>
                <a:lnTo>
                  <a:pt x="0" y="1537"/>
                </a:lnTo>
                <a:lnTo>
                  <a:pt x="2" y="1539"/>
                </a:lnTo>
                <a:lnTo>
                  <a:pt x="2" y="1541"/>
                </a:lnTo>
                <a:lnTo>
                  <a:pt x="2" y="1542"/>
                </a:lnTo>
                <a:lnTo>
                  <a:pt x="2" y="1544"/>
                </a:lnTo>
                <a:lnTo>
                  <a:pt x="2" y="1544"/>
                </a:lnTo>
                <a:lnTo>
                  <a:pt x="2" y="1546"/>
                </a:lnTo>
                <a:close/>
              </a:path>
            </a:pathLst>
          </a:custGeom>
          <a:solidFill>
            <a:srgbClr val="67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376"/>
          <p:cNvSpPr/>
          <p:nvPr/>
        </p:nvSpPr>
        <p:spPr>
          <a:xfrm>
            <a:off x="5773680" y="1959120"/>
            <a:ext cx="858960" cy="2566800"/>
          </a:xfrm>
          <a:custGeom>
            <a:avLst/>
            <a:gdLst>
              <a:gd name="textAreaLeft" fmla="*/ 0 w 858960"/>
              <a:gd name="textAreaRight" fmla="*/ 859320 w 858960"/>
              <a:gd name="textAreaTop" fmla="*/ 0 h 2566800"/>
              <a:gd name="textAreaBottom" fmla="*/ 2566800 h 2566800"/>
            </a:gdLst>
            <a:ahLst/>
            <a:rect l="textAreaLeft" t="textAreaTop" r="textAreaRight" b="textAreaBottom"/>
            <a:pathLst>
              <a:path w="541" h="1617">
                <a:moveTo>
                  <a:pt x="520" y="15"/>
                </a:moveTo>
                <a:lnTo>
                  <a:pt x="482" y="9"/>
                </a:lnTo>
                <a:lnTo>
                  <a:pt x="441" y="3"/>
                </a:lnTo>
                <a:lnTo>
                  <a:pt x="401" y="1"/>
                </a:lnTo>
                <a:lnTo>
                  <a:pt x="359" y="0"/>
                </a:lnTo>
                <a:lnTo>
                  <a:pt x="316" y="1"/>
                </a:lnTo>
                <a:lnTo>
                  <a:pt x="276" y="3"/>
                </a:lnTo>
                <a:lnTo>
                  <a:pt x="236" y="9"/>
                </a:lnTo>
                <a:lnTo>
                  <a:pt x="196" y="17"/>
                </a:lnTo>
                <a:lnTo>
                  <a:pt x="188" y="19"/>
                </a:lnTo>
                <a:lnTo>
                  <a:pt x="188" y="19"/>
                </a:lnTo>
                <a:lnTo>
                  <a:pt x="188" y="21"/>
                </a:lnTo>
                <a:lnTo>
                  <a:pt x="186" y="23"/>
                </a:lnTo>
                <a:lnTo>
                  <a:pt x="186" y="24"/>
                </a:lnTo>
                <a:lnTo>
                  <a:pt x="186" y="24"/>
                </a:lnTo>
                <a:lnTo>
                  <a:pt x="186" y="26"/>
                </a:lnTo>
                <a:lnTo>
                  <a:pt x="184" y="28"/>
                </a:lnTo>
                <a:lnTo>
                  <a:pt x="184" y="30"/>
                </a:lnTo>
                <a:lnTo>
                  <a:pt x="197" y="26"/>
                </a:lnTo>
                <a:lnTo>
                  <a:pt x="238" y="19"/>
                </a:lnTo>
                <a:lnTo>
                  <a:pt x="278" y="15"/>
                </a:lnTo>
                <a:lnTo>
                  <a:pt x="318" y="11"/>
                </a:lnTo>
                <a:lnTo>
                  <a:pt x="359" y="11"/>
                </a:lnTo>
                <a:lnTo>
                  <a:pt x="399" y="11"/>
                </a:lnTo>
                <a:lnTo>
                  <a:pt x="441" y="15"/>
                </a:lnTo>
                <a:lnTo>
                  <a:pt x="480" y="19"/>
                </a:lnTo>
                <a:lnTo>
                  <a:pt x="512" y="24"/>
                </a:lnTo>
                <a:lnTo>
                  <a:pt x="514" y="24"/>
                </a:lnTo>
                <a:lnTo>
                  <a:pt x="514" y="23"/>
                </a:lnTo>
                <a:lnTo>
                  <a:pt x="516" y="23"/>
                </a:lnTo>
                <a:lnTo>
                  <a:pt x="516" y="21"/>
                </a:lnTo>
                <a:lnTo>
                  <a:pt x="518" y="19"/>
                </a:lnTo>
                <a:lnTo>
                  <a:pt x="518" y="19"/>
                </a:lnTo>
                <a:lnTo>
                  <a:pt x="518" y="17"/>
                </a:lnTo>
                <a:lnTo>
                  <a:pt x="520" y="15"/>
                </a:lnTo>
                <a:close/>
                <a:moveTo>
                  <a:pt x="2" y="1535"/>
                </a:moveTo>
                <a:lnTo>
                  <a:pt x="7" y="1538"/>
                </a:lnTo>
                <a:lnTo>
                  <a:pt x="44" y="1554"/>
                </a:lnTo>
                <a:lnTo>
                  <a:pt x="80" y="1569"/>
                </a:lnTo>
                <a:lnTo>
                  <a:pt x="119" y="1581"/>
                </a:lnTo>
                <a:lnTo>
                  <a:pt x="157" y="1592"/>
                </a:lnTo>
                <a:lnTo>
                  <a:pt x="196" y="1602"/>
                </a:lnTo>
                <a:lnTo>
                  <a:pt x="236" y="1609"/>
                </a:lnTo>
                <a:lnTo>
                  <a:pt x="276" y="1613"/>
                </a:lnTo>
                <a:lnTo>
                  <a:pt x="316" y="1617"/>
                </a:lnTo>
                <a:lnTo>
                  <a:pt x="359" y="1617"/>
                </a:lnTo>
                <a:lnTo>
                  <a:pt x="401" y="1617"/>
                </a:lnTo>
                <a:lnTo>
                  <a:pt x="441" y="1613"/>
                </a:lnTo>
                <a:lnTo>
                  <a:pt x="482" y="1609"/>
                </a:lnTo>
                <a:lnTo>
                  <a:pt x="522" y="1602"/>
                </a:lnTo>
                <a:lnTo>
                  <a:pt x="541" y="1596"/>
                </a:lnTo>
                <a:lnTo>
                  <a:pt x="541" y="1596"/>
                </a:lnTo>
                <a:lnTo>
                  <a:pt x="539" y="1594"/>
                </a:lnTo>
                <a:lnTo>
                  <a:pt x="539" y="1594"/>
                </a:lnTo>
                <a:lnTo>
                  <a:pt x="537" y="1592"/>
                </a:lnTo>
                <a:lnTo>
                  <a:pt x="537" y="1590"/>
                </a:lnTo>
                <a:lnTo>
                  <a:pt x="537" y="1590"/>
                </a:lnTo>
                <a:lnTo>
                  <a:pt x="535" y="1588"/>
                </a:lnTo>
                <a:lnTo>
                  <a:pt x="535" y="1588"/>
                </a:lnTo>
                <a:lnTo>
                  <a:pt x="520" y="1590"/>
                </a:lnTo>
                <a:lnTo>
                  <a:pt x="480" y="1598"/>
                </a:lnTo>
                <a:lnTo>
                  <a:pt x="441" y="1604"/>
                </a:lnTo>
                <a:lnTo>
                  <a:pt x="399" y="1605"/>
                </a:lnTo>
                <a:lnTo>
                  <a:pt x="359" y="1607"/>
                </a:lnTo>
                <a:lnTo>
                  <a:pt x="318" y="1605"/>
                </a:lnTo>
                <a:lnTo>
                  <a:pt x="278" y="1604"/>
                </a:lnTo>
                <a:lnTo>
                  <a:pt x="238" y="1598"/>
                </a:lnTo>
                <a:lnTo>
                  <a:pt x="197" y="1590"/>
                </a:lnTo>
                <a:lnTo>
                  <a:pt x="159" y="1582"/>
                </a:lnTo>
                <a:lnTo>
                  <a:pt x="121" y="1571"/>
                </a:lnTo>
                <a:lnTo>
                  <a:pt x="84" y="1559"/>
                </a:lnTo>
                <a:lnTo>
                  <a:pt x="48" y="1544"/>
                </a:lnTo>
                <a:lnTo>
                  <a:pt x="13" y="1529"/>
                </a:lnTo>
                <a:lnTo>
                  <a:pt x="0" y="1521"/>
                </a:lnTo>
                <a:lnTo>
                  <a:pt x="0" y="1523"/>
                </a:lnTo>
                <a:lnTo>
                  <a:pt x="0" y="1525"/>
                </a:lnTo>
                <a:lnTo>
                  <a:pt x="0" y="1527"/>
                </a:lnTo>
                <a:lnTo>
                  <a:pt x="0" y="1529"/>
                </a:lnTo>
                <a:lnTo>
                  <a:pt x="0" y="1529"/>
                </a:lnTo>
                <a:lnTo>
                  <a:pt x="0" y="1531"/>
                </a:lnTo>
                <a:lnTo>
                  <a:pt x="2" y="1533"/>
                </a:lnTo>
                <a:lnTo>
                  <a:pt x="2" y="1535"/>
                </a:lnTo>
                <a:close/>
              </a:path>
            </a:pathLst>
          </a:custGeom>
          <a:solidFill>
            <a:srgbClr val="68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Freeform 377"/>
          <p:cNvSpPr/>
          <p:nvPr/>
        </p:nvSpPr>
        <p:spPr>
          <a:xfrm>
            <a:off x="5773680" y="1967040"/>
            <a:ext cx="852480" cy="2552400"/>
          </a:xfrm>
          <a:custGeom>
            <a:avLst/>
            <a:gdLst>
              <a:gd name="textAreaLeft" fmla="*/ 0 w 852480"/>
              <a:gd name="textAreaRight" fmla="*/ 852840 w 852480"/>
              <a:gd name="textAreaTop" fmla="*/ 0 h 2552400"/>
              <a:gd name="textAreaBottom" fmla="*/ 2552760 h 2552400"/>
            </a:gdLst>
            <a:ahLst/>
            <a:rect l="textAreaLeft" t="textAreaTop" r="textAreaRight" b="textAreaBottom"/>
            <a:pathLst>
              <a:path w="537" h="1608">
                <a:moveTo>
                  <a:pt x="516" y="16"/>
                </a:moveTo>
                <a:lnTo>
                  <a:pt x="482" y="10"/>
                </a:lnTo>
                <a:lnTo>
                  <a:pt x="441" y="4"/>
                </a:lnTo>
                <a:lnTo>
                  <a:pt x="401" y="0"/>
                </a:lnTo>
                <a:lnTo>
                  <a:pt x="359" y="0"/>
                </a:lnTo>
                <a:lnTo>
                  <a:pt x="318" y="0"/>
                </a:lnTo>
                <a:lnTo>
                  <a:pt x="276" y="4"/>
                </a:lnTo>
                <a:lnTo>
                  <a:pt x="236" y="10"/>
                </a:lnTo>
                <a:lnTo>
                  <a:pt x="197" y="16"/>
                </a:lnTo>
                <a:lnTo>
                  <a:pt x="186" y="19"/>
                </a:lnTo>
                <a:lnTo>
                  <a:pt x="186" y="19"/>
                </a:lnTo>
                <a:lnTo>
                  <a:pt x="186" y="21"/>
                </a:lnTo>
                <a:lnTo>
                  <a:pt x="184" y="23"/>
                </a:lnTo>
                <a:lnTo>
                  <a:pt x="184" y="25"/>
                </a:lnTo>
                <a:lnTo>
                  <a:pt x="184" y="27"/>
                </a:lnTo>
                <a:lnTo>
                  <a:pt x="182" y="27"/>
                </a:lnTo>
                <a:lnTo>
                  <a:pt x="182" y="29"/>
                </a:lnTo>
                <a:lnTo>
                  <a:pt x="182" y="31"/>
                </a:lnTo>
                <a:lnTo>
                  <a:pt x="199" y="27"/>
                </a:lnTo>
                <a:lnTo>
                  <a:pt x="238" y="19"/>
                </a:lnTo>
                <a:lnTo>
                  <a:pt x="278" y="16"/>
                </a:lnTo>
                <a:lnTo>
                  <a:pt x="318" y="12"/>
                </a:lnTo>
                <a:lnTo>
                  <a:pt x="359" y="10"/>
                </a:lnTo>
                <a:lnTo>
                  <a:pt x="399" y="12"/>
                </a:lnTo>
                <a:lnTo>
                  <a:pt x="439" y="16"/>
                </a:lnTo>
                <a:lnTo>
                  <a:pt x="480" y="19"/>
                </a:lnTo>
                <a:lnTo>
                  <a:pt x="508" y="25"/>
                </a:lnTo>
                <a:lnTo>
                  <a:pt x="510" y="23"/>
                </a:lnTo>
                <a:lnTo>
                  <a:pt x="510" y="23"/>
                </a:lnTo>
                <a:lnTo>
                  <a:pt x="512" y="21"/>
                </a:lnTo>
                <a:lnTo>
                  <a:pt x="512" y="19"/>
                </a:lnTo>
                <a:lnTo>
                  <a:pt x="514" y="19"/>
                </a:lnTo>
                <a:lnTo>
                  <a:pt x="514" y="18"/>
                </a:lnTo>
                <a:lnTo>
                  <a:pt x="516" y="18"/>
                </a:lnTo>
                <a:lnTo>
                  <a:pt x="516" y="16"/>
                </a:lnTo>
                <a:close/>
                <a:moveTo>
                  <a:pt x="0" y="1524"/>
                </a:moveTo>
                <a:lnTo>
                  <a:pt x="11" y="1528"/>
                </a:lnTo>
                <a:lnTo>
                  <a:pt x="46" y="1545"/>
                </a:lnTo>
                <a:lnTo>
                  <a:pt x="82" y="1558"/>
                </a:lnTo>
                <a:lnTo>
                  <a:pt x="121" y="1572"/>
                </a:lnTo>
                <a:lnTo>
                  <a:pt x="157" y="1581"/>
                </a:lnTo>
                <a:lnTo>
                  <a:pt x="197" y="1591"/>
                </a:lnTo>
                <a:lnTo>
                  <a:pt x="236" y="1599"/>
                </a:lnTo>
                <a:lnTo>
                  <a:pt x="276" y="1602"/>
                </a:lnTo>
                <a:lnTo>
                  <a:pt x="318" y="1606"/>
                </a:lnTo>
                <a:lnTo>
                  <a:pt x="359" y="1608"/>
                </a:lnTo>
                <a:lnTo>
                  <a:pt x="401" y="1606"/>
                </a:lnTo>
                <a:lnTo>
                  <a:pt x="441" y="1602"/>
                </a:lnTo>
                <a:lnTo>
                  <a:pt x="482" y="1599"/>
                </a:lnTo>
                <a:lnTo>
                  <a:pt x="520" y="1591"/>
                </a:lnTo>
                <a:lnTo>
                  <a:pt x="537" y="1587"/>
                </a:lnTo>
                <a:lnTo>
                  <a:pt x="537" y="1585"/>
                </a:lnTo>
                <a:lnTo>
                  <a:pt x="537" y="1585"/>
                </a:lnTo>
                <a:lnTo>
                  <a:pt x="535" y="1583"/>
                </a:lnTo>
                <a:lnTo>
                  <a:pt x="535" y="1583"/>
                </a:lnTo>
                <a:lnTo>
                  <a:pt x="533" y="1581"/>
                </a:lnTo>
                <a:lnTo>
                  <a:pt x="533" y="1579"/>
                </a:lnTo>
                <a:lnTo>
                  <a:pt x="531" y="1579"/>
                </a:lnTo>
                <a:lnTo>
                  <a:pt x="531" y="1577"/>
                </a:lnTo>
                <a:lnTo>
                  <a:pt x="518" y="1581"/>
                </a:lnTo>
                <a:lnTo>
                  <a:pt x="480" y="1587"/>
                </a:lnTo>
                <a:lnTo>
                  <a:pt x="439" y="1593"/>
                </a:lnTo>
                <a:lnTo>
                  <a:pt x="399" y="1597"/>
                </a:lnTo>
                <a:lnTo>
                  <a:pt x="359" y="1597"/>
                </a:lnTo>
                <a:lnTo>
                  <a:pt x="318" y="1597"/>
                </a:lnTo>
                <a:lnTo>
                  <a:pt x="278" y="1593"/>
                </a:lnTo>
                <a:lnTo>
                  <a:pt x="238" y="1587"/>
                </a:lnTo>
                <a:lnTo>
                  <a:pt x="199" y="1581"/>
                </a:lnTo>
                <a:lnTo>
                  <a:pt x="161" y="1572"/>
                </a:lnTo>
                <a:lnTo>
                  <a:pt x="123" y="1560"/>
                </a:lnTo>
                <a:lnTo>
                  <a:pt x="86" y="1549"/>
                </a:lnTo>
                <a:lnTo>
                  <a:pt x="50" y="1535"/>
                </a:lnTo>
                <a:lnTo>
                  <a:pt x="15" y="1518"/>
                </a:lnTo>
                <a:lnTo>
                  <a:pt x="0" y="1510"/>
                </a:lnTo>
                <a:lnTo>
                  <a:pt x="0" y="1512"/>
                </a:lnTo>
                <a:lnTo>
                  <a:pt x="0" y="1514"/>
                </a:lnTo>
                <a:lnTo>
                  <a:pt x="0" y="1514"/>
                </a:lnTo>
                <a:lnTo>
                  <a:pt x="0" y="1516"/>
                </a:lnTo>
                <a:lnTo>
                  <a:pt x="0" y="1518"/>
                </a:lnTo>
                <a:lnTo>
                  <a:pt x="0" y="1520"/>
                </a:lnTo>
                <a:lnTo>
                  <a:pt x="0" y="1522"/>
                </a:lnTo>
                <a:lnTo>
                  <a:pt x="0" y="1524"/>
                </a:lnTo>
                <a:close/>
              </a:path>
            </a:pathLst>
          </a:custGeom>
          <a:solidFill>
            <a:srgbClr val="69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Freeform 378"/>
          <p:cNvSpPr/>
          <p:nvPr/>
        </p:nvSpPr>
        <p:spPr>
          <a:xfrm>
            <a:off x="5770440" y="1976400"/>
            <a:ext cx="852480" cy="2533680"/>
          </a:xfrm>
          <a:custGeom>
            <a:avLst/>
            <a:gdLst>
              <a:gd name="textAreaLeft" fmla="*/ 0 w 852480"/>
              <a:gd name="textAreaRight" fmla="*/ 852840 w 852480"/>
              <a:gd name="textAreaTop" fmla="*/ 0 h 2533680"/>
              <a:gd name="textAreaBottom" fmla="*/ 2534040 h 2533680"/>
            </a:gdLst>
            <a:ahLst/>
            <a:rect l="textAreaLeft" t="textAreaTop" r="textAreaRight" b="textAreaBottom"/>
            <a:pathLst>
              <a:path w="537" h="1596">
                <a:moveTo>
                  <a:pt x="514" y="13"/>
                </a:moveTo>
                <a:lnTo>
                  <a:pt x="482" y="8"/>
                </a:lnTo>
                <a:lnTo>
                  <a:pt x="443" y="4"/>
                </a:lnTo>
                <a:lnTo>
                  <a:pt x="401" y="0"/>
                </a:lnTo>
                <a:lnTo>
                  <a:pt x="361" y="0"/>
                </a:lnTo>
                <a:lnTo>
                  <a:pt x="320" y="0"/>
                </a:lnTo>
                <a:lnTo>
                  <a:pt x="280" y="4"/>
                </a:lnTo>
                <a:lnTo>
                  <a:pt x="240" y="8"/>
                </a:lnTo>
                <a:lnTo>
                  <a:pt x="199" y="15"/>
                </a:lnTo>
                <a:lnTo>
                  <a:pt x="186" y="19"/>
                </a:lnTo>
                <a:lnTo>
                  <a:pt x="186" y="21"/>
                </a:lnTo>
                <a:lnTo>
                  <a:pt x="184" y="21"/>
                </a:lnTo>
                <a:lnTo>
                  <a:pt x="184" y="23"/>
                </a:lnTo>
                <a:lnTo>
                  <a:pt x="184" y="25"/>
                </a:lnTo>
                <a:lnTo>
                  <a:pt x="184" y="27"/>
                </a:lnTo>
                <a:lnTo>
                  <a:pt x="182" y="27"/>
                </a:lnTo>
                <a:lnTo>
                  <a:pt x="182" y="29"/>
                </a:lnTo>
                <a:lnTo>
                  <a:pt x="182" y="31"/>
                </a:lnTo>
                <a:lnTo>
                  <a:pt x="201" y="27"/>
                </a:lnTo>
                <a:lnTo>
                  <a:pt x="242" y="19"/>
                </a:lnTo>
                <a:lnTo>
                  <a:pt x="280" y="13"/>
                </a:lnTo>
                <a:lnTo>
                  <a:pt x="320" y="12"/>
                </a:lnTo>
                <a:lnTo>
                  <a:pt x="361" y="10"/>
                </a:lnTo>
                <a:lnTo>
                  <a:pt x="401" y="12"/>
                </a:lnTo>
                <a:lnTo>
                  <a:pt x="441" y="13"/>
                </a:lnTo>
                <a:lnTo>
                  <a:pt x="482" y="19"/>
                </a:lnTo>
                <a:lnTo>
                  <a:pt x="508" y="23"/>
                </a:lnTo>
                <a:lnTo>
                  <a:pt x="508" y="23"/>
                </a:lnTo>
                <a:lnTo>
                  <a:pt x="510" y="21"/>
                </a:lnTo>
                <a:lnTo>
                  <a:pt x="510" y="21"/>
                </a:lnTo>
                <a:lnTo>
                  <a:pt x="510" y="19"/>
                </a:lnTo>
                <a:lnTo>
                  <a:pt x="512" y="17"/>
                </a:lnTo>
                <a:lnTo>
                  <a:pt x="512" y="17"/>
                </a:lnTo>
                <a:lnTo>
                  <a:pt x="514" y="15"/>
                </a:lnTo>
                <a:lnTo>
                  <a:pt x="514" y="13"/>
                </a:lnTo>
                <a:close/>
                <a:moveTo>
                  <a:pt x="2" y="1510"/>
                </a:moveTo>
                <a:lnTo>
                  <a:pt x="15" y="1518"/>
                </a:lnTo>
                <a:lnTo>
                  <a:pt x="50" y="1533"/>
                </a:lnTo>
                <a:lnTo>
                  <a:pt x="86" y="1548"/>
                </a:lnTo>
                <a:lnTo>
                  <a:pt x="123" y="1560"/>
                </a:lnTo>
                <a:lnTo>
                  <a:pt x="161" y="1571"/>
                </a:lnTo>
                <a:lnTo>
                  <a:pt x="199" y="1579"/>
                </a:lnTo>
                <a:lnTo>
                  <a:pt x="240" y="1587"/>
                </a:lnTo>
                <a:lnTo>
                  <a:pt x="280" y="1593"/>
                </a:lnTo>
                <a:lnTo>
                  <a:pt x="320" y="1594"/>
                </a:lnTo>
                <a:lnTo>
                  <a:pt x="361" y="1596"/>
                </a:lnTo>
                <a:lnTo>
                  <a:pt x="401" y="1594"/>
                </a:lnTo>
                <a:lnTo>
                  <a:pt x="443" y="1593"/>
                </a:lnTo>
                <a:lnTo>
                  <a:pt x="482" y="1587"/>
                </a:lnTo>
                <a:lnTo>
                  <a:pt x="522" y="1579"/>
                </a:lnTo>
                <a:lnTo>
                  <a:pt x="537" y="1577"/>
                </a:lnTo>
                <a:lnTo>
                  <a:pt x="535" y="1575"/>
                </a:lnTo>
                <a:lnTo>
                  <a:pt x="535" y="1573"/>
                </a:lnTo>
                <a:lnTo>
                  <a:pt x="533" y="1573"/>
                </a:lnTo>
                <a:lnTo>
                  <a:pt x="533" y="1571"/>
                </a:lnTo>
                <a:lnTo>
                  <a:pt x="532" y="1571"/>
                </a:lnTo>
                <a:lnTo>
                  <a:pt x="532" y="1570"/>
                </a:lnTo>
                <a:lnTo>
                  <a:pt x="530" y="1568"/>
                </a:lnTo>
                <a:lnTo>
                  <a:pt x="530" y="1568"/>
                </a:lnTo>
                <a:lnTo>
                  <a:pt x="520" y="1570"/>
                </a:lnTo>
                <a:lnTo>
                  <a:pt x="482" y="1577"/>
                </a:lnTo>
                <a:lnTo>
                  <a:pt x="441" y="1581"/>
                </a:lnTo>
                <a:lnTo>
                  <a:pt x="401" y="1585"/>
                </a:lnTo>
                <a:lnTo>
                  <a:pt x="361" y="1585"/>
                </a:lnTo>
                <a:lnTo>
                  <a:pt x="320" y="1585"/>
                </a:lnTo>
                <a:lnTo>
                  <a:pt x="280" y="1581"/>
                </a:lnTo>
                <a:lnTo>
                  <a:pt x="242" y="1577"/>
                </a:lnTo>
                <a:lnTo>
                  <a:pt x="201" y="1570"/>
                </a:lnTo>
                <a:lnTo>
                  <a:pt x="165" y="1560"/>
                </a:lnTo>
                <a:lnTo>
                  <a:pt x="127" y="1550"/>
                </a:lnTo>
                <a:lnTo>
                  <a:pt x="90" y="1537"/>
                </a:lnTo>
                <a:lnTo>
                  <a:pt x="54" y="1524"/>
                </a:lnTo>
                <a:lnTo>
                  <a:pt x="19" y="1508"/>
                </a:lnTo>
                <a:lnTo>
                  <a:pt x="0" y="1499"/>
                </a:lnTo>
                <a:lnTo>
                  <a:pt x="0" y="1500"/>
                </a:lnTo>
                <a:lnTo>
                  <a:pt x="0" y="1500"/>
                </a:lnTo>
                <a:lnTo>
                  <a:pt x="0" y="1502"/>
                </a:lnTo>
                <a:lnTo>
                  <a:pt x="2" y="1504"/>
                </a:lnTo>
                <a:lnTo>
                  <a:pt x="2" y="1506"/>
                </a:lnTo>
                <a:lnTo>
                  <a:pt x="2" y="1508"/>
                </a:lnTo>
                <a:lnTo>
                  <a:pt x="2" y="1508"/>
                </a:lnTo>
                <a:lnTo>
                  <a:pt x="2" y="1510"/>
                </a:lnTo>
                <a:close/>
              </a:path>
            </a:pathLst>
          </a:custGeom>
          <a:solidFill>
            <a:srgbClr val="6a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Freeform 379"/>
          <p:cNvSpPr/>
          <p:nvPr/>
        </p:nvSpPr>
        <p:spPr>
          <a:xfrm>
            <a:off x="5770440" y="1982880"/>
            <a:ext cx="846360" cy="2519280"/>
          </a:xfrm>
          <a:custGeom>
            <a:avLst/>
            <a:gdLst>
              <a:gd name="textAreaLeft" fmla="*/ 0 w 846360"/>
              <a:gd name="textAreaRight" fmla="*/ 846720 w 846360"/>
              <a:gd name="textAreaTop" fmla="*/ 0 h 2519280"/>
              <a:gd name="textAreaBottom" fmla="*/ 2519280 h 2519280"/>
            </a:gdLst>
            <a:ahLst/>
            <a:rect l="textAreaLeft" t="textAreaTop" r="textAreaRight" b="textAreaBottom"/>
            <a:pathLst>
              <a:path w="533" h="1587">
                <a:moveTo>
                  <a:pt x="510" y="15"/>
                </a:moveTo>
                <a:lnTo>
                  <a:pt x="482" y="9"/>
                </a:lnTo>
                <a:lnTo>
                  <a:pt x="441" y="6"/>
                </a:lnTo>
                <a:lnTo>
                  <a:pt x="401" y="2"/>
                </a:lnTo>
                <a:lnTo>
                  <a:pt x="361" y="0"/>
                </a:lnTo>
                <a:lnTo>
                  <a:pt x="320" y="2"/>
                </a:lnTo>
                <a:lnTo>
                  <a:pt x="280" y="6"/>
                </a:lnTo>
                <a:lnTo>
                  <a:pt x="240" y="9"/>
                </a:lnTo>
                <a:lnTo>
                  <a:pt x="201" y="17"/>
                </a:lnTo>
                <a:lnTo>
                  <a:pt x="184" y="21"/>
                </a:lnTo>
                <a:lnTo>
                  <a:pt x="184" y="23"/>
                </a:lnTo>
                <a:lnTo>
                  <a:pt x="182" y="23"/>
                </a:lnTo>
                <a:lnTo>
                  <a:pt x="182" y="25"/>
                </a:lnTo>
                <a:lnTo>
                  <a:pt x="182" y="27"/>
                </a:lnTo>
                <a:lnTo>
                  <a:pt x="180" y="29"/>
                </a:lnTo>
                <a:lnTo>
                  <a:pt x="180" y="31"/>
                </a:lnTo>
                <a:lnTo>
                  <a:pt x="180" y="31"/>
                </a:lnTo>
                <a:lnTo>
                  <a:pt x="180" y="33"/>
                </a:lnTo>
                <a:lnTo>
                  <a:pt x="203" y="27"/>
                </a:lnTo>
                <a:lnTo>
                  <a:pt x="242" y="21"/>
                </a:lnTo>
                <a:lnTo>
                  <a:pt x="280" y="15"/>
                </a:lnTo>
                <a:lnTo>
                  <a:pt x="320" y="13"/>
                </a:lnTo>
                <a:lnTo>
                  <a:pt x="361" y="11"/>
                </a:lnTo>
                <a:lnTo>
                  <a:pt x="401" y="13"/>
                </a:lnTo>
                <a:lnTo>
                  <a:pt x="441" y="15"/>
                </a:lnTo>
                <a:lnTo>
                  <a:pt x="480" y="21"/>
                </a:lnTo>
                <a:lnTo>
                  <a:pt x="505" y="25"/>
                </a:lnTo>
                <a:lnTo>
                  <a:pt x="505" y="23"/>
                </a:lnTo>
                <a:lnTo>
                  <a:pt x="507" y="23"/>
                </a:lnTo>
                <a:lnTo>
                  <a:pt x="507" y="21"/>
                </a:lnTo>
                <a:lnTo>
                  <a:pt x="508" y="19"/>
                </a:lnTo>
                <a:lnTo>
                  <a:pt x="508" y="19"/>
                </a:lnTo>
                <a:lnTo>
                  <a:pt x="510" y="17"/>
                </a:lnTo>
                <a:lnTo>
                  <a:pt x="510" y="17"/>
                </a:lnTo>
                <a:lnTo>
                  <a:pt x="510" y="15"/>
                </a:lnTo>
                <a:close/>
                <a:moveTo>
                  <a:pt x="2" y="1500"/>
                </a:moveTo>
                <a:lnTo>
                  <a:pt x="17" y="1508"/>
                </a:lnTo>
                <a:lnTo>
                  <a:pt x="52" y="1525"/>
                </a:lnTo>
                <a:lnTo>
                  <a:pt x="88" y="1539"/>
                </a:lnTo>
                <a:lnTo>
                  <a:pt x="125" y="1550"/>
                </a:lnTo>
                <a:lnTo>
                  <a:pt x="163" y="1562"/>
                </a:lnTo>
                <a:lnTo>
                  <a:pt x="201" y="1571"/>
                </a:lnTo>
                <a:lnTo>
                  <a:pt x="240" y="1577"/>
                </a:lnTo>
                <a:lnTo>
                  <a:pt x="280" y="1583"/>
                </a:lnTo>
                <a:lnTo>
                  <a:pt x="320" y="1587"/>
                </a:lnTo>
                <a:lnTo>
                  <a:pt x="361" y="1587"/>
                </a:lnTo>
                <a:lnTo>
                  <a:pt x="401" y="1587"/>
                </a:lnTo>
                <a:lnTo>
                  <a:pt x="441" y="1583"/>
                </a:lnTo>
                <a:lnTo>
                  <a:pt x="482" y="1577"/>
                </a:lnTo>
                <a:lnTo>
                  <a:pt x="520" y="1571"/>
                </a:lnTo>
                <a:lnTo>
                  <a:pt x="533" y="1567"/>
                </a:lnTo>
                <a:lnTo>
                  <a:pt x="532" y="1567"/>
                </a:lnTo>
                <a:lnTo>
                  <a:pt x="532" y="1566"/>
                </a:lnTo>
                <a:lnTo>
                  <a:pt x="530" y="1564"/>
                </a:lnTo>
                <a:lnTo>
                  <a:pt x="530" y="1564"/>
                </a:lnTo>
                <a:lnTo>
                  <a:pt x="528" y="1562"/>
                </a:lnTo>
                <a:lnTo>
                  <a:pt x="528" y="1562"/>
                </a:lnTo>
                <a:lnTo>
                  <a:pt x="528" y="1560"/>
                </a:lnTo>
                <a:lnTo>
                  <a:pt x="526" y="1558"/>
                </a:lnTo>
                <a:lnTo>
                  <a:pt x="518" y="1560"/>
                </a:lnTo>
                <a:lnTo>
                  <a:pt x="480" y="1567"/>
                </a:lnTo>
                <a:lnTo>
                  <a:pt x="441" y="1571"/>
                </a:lnTo>
                <a:lnTo>
                  <a:pt x="401" y="1575"/>
                </a:lnTo>
                <a:lnTo>
                  <a:pt x="361" y="1577"/>
                </a:lnTo>
                <a:lnTo>
                  <a:pt x="320" y="1575"/>
                </a:lnTo>
                <a:lnTo>
                  <a:pt x="280" y="1571"/>
                </a:lnTo>
                <a:lnTo>
                  <a:pt x="242" y="1567"/>
                </a:lnTo>
                <a:lnTo>
                  <a:pt x="203" y="1560"/>
                </a:lnTo>
                <a:lnTo>
                  <a:pt x="165" y="1552"/>
                </a:lnTo>
                <a:lnTo>
                  <a:pt x="128" y="1541"/>
                </a:lnTo>
                <a:lnTo>
                  <a:pt x="92" y="1529"/>
                </a:lnTo>
                <a:lnTo>
                  <a:pt x="56" y="1514"/>
                </a:lnTo>
                <a:lnTo>
                  <a:pt x="21" y="1498"/>
                </a:lnTo>
                <a:lnTo>
                  <a:pt x="0" y="1487"/>
                </a:lnTo>
                <a:lnTo>
                  <a:pt x="0" y="1489"/>
                </a:lnTo>
                <a:lnTo>
                  <a:pt x="0" y="1491"/>
                </a:lnTo>
                <a:lnTo>
                  <a:pt x="0" y="1493"/>
                </a:lnTo>
                <a:lnTo>
                  <a:pt x="0" y="1495"/>
                </a:lnTo>
                <a:lnTo>
                  <a:pt x="0" y="1496"/>
                </a:lnTo>
                <a:lnTo>
                  <a:pt x="0" y="1496"/>
                </a:lnTo>
                <a:lnTo>
                  <a:pt x="0" y="1498"/>
                </a:lnTo>
                <a:lnTo>
                  <a:pt x="2" y="1500"/>
                </a:lnTo>
                <a:close/>
              </a:path>
            </a:pathLst>
          </a:custGeom>
          <a:solidFill>
            <a:srgbClr val="6b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Freeform 380"/>
          <p:cNvSpPr/>
          <p:nvPr/>
        </p:nvSpPr>
        <p:spPr>
          <a:xfrm>
            <a:off x="5767560" y="1992240"/>
            <a:ext cx="844200" cy="2500560"/>
          </a:xfrm>
          <a:custGeom>
            <a:avLst/>
            <a:gdLst>
              <a:gd name="textAreaLeft" fmla="*/ 0 w 844200"/>
              <a:gd name="textAreaRight" fmla="*/ 844560 w 844200"/>
              <a:gd name="textAreaTop" fmla="*/ 0 h 2500560"/>
              <a:gd name="textAreaBottom" fmla="*/ 2500920 h 2500560"/>
            </a:gdLst>
            <a:ahLst/>
            <a:rect l="textAreaLeft" t="textAreaTop" r="textAreaRight" b="textAreaBottom"/>
            <a:pathLst>
              <a:path w="532" h="1575">
                <a:moveTo>
                  <a:pt x="510" y="13"/>
                </a:moveTo>
                <a:lnTo>
                  <a:pt x="484" y="9"/>
                </a:lnTo>
                <a:lnTo>
                  <a:pt x="443" y="3"/>
                </a:lnTo>
                <a:lnTo>
                  <a:pt x="403" y="2"/>
                </a:lnTo>
                <a:lnTo>
                  <a:pt x="363" y="0"/>
                </a:lnTo>
                <a:lnTo>
                  <a:pt x="322" y="2"/>
                </a:lnTo>
                <a:lnTo>
                  <a:pt x="282" y="3"/>
                </a:lnTo>
                <a:lnTo>
                  <a:pt x="244" y="9"/>
                </a:lnTo>
                <a:lnTo>
                  <a:pt x="203" y="17"/>
                </a:lnTo>
                <a:lnTo>
                  <a:pt x="184" y="21"/>
                </a:lnTo>
                <a:lnTo>
                  <a:pt x="182" y="23"/>
                </a:lnTo>
                <a:lnTo>
                  <a:pt x="182" y="25"/>
                </a:lnTo>
                <a:lnTo>
                  <a:pt x="182" y="25"/>
                </a:lnTo>
                <a:lnTo>
                  <a:pt x="182" y="27"/>
                </a:lnTo>
                <a:lnTo>
                  <a:pt x="180" y="28"/>
                </a:lnTo>
                <a:lnTo>
                  <a:pt x="180" y="30"/>
                </a:lnTo>
                <a:lnTo>
                  <a:pt x="180" y="30"/>
                </a:lnTo>
                <a:lnTo>
                  <a:pt x="180" y="32"/>
                </a:lnTo>
                <a:lnTo>
                  <a:pt x="205" y="27"/>
                </a:lnTo>
                <a:lnTo>
                  <a:pt x="244" y="19"/>
                </a:lnTo>
                <a:lnTo>
                  <a:pt x="284" y="15"/>
                </a:lnTo>
                <a:lnTo>
                  <a:pt x="322" y="11"/>
                </a:lnTo>
                <a:lnTo>
                  <a:pt x="363" y="11"/>
                </a:lnTo>
                <a:lnTo>
                  <a:pt x="403" y="11"/>
                </a:lnTo>
                <a:lnTo>
                  <a:pt x="441" y="15"/>
                </a:lnTo>
                <a:lnTo>
                  <a:pt x="482" y="19"/>
                </a:lnTo>
                <a:lnTo>
                  <a:pt x="503" y="23"/>
                </a:lnTo>
                <a:lnTo>
                  <a:pt x="503" y="23"/>
                </a:lnTo>
                <a:lnTo>
                  <a:pt x="505" y="21"/>
                </a:lnTo>
                <a:lnTo>
                  <a:pt x="505" y="21"/>
                </a:lnTo>
                <a:lnTo>
                  <a:pt x="507" y="19"/>
                </a:lnTo>
                <a:lnTo>
                  <a:pt x="507" y="17"/>
                </a:lnTo>
                <a:lnTo>
                  <a:pt x="509" y="17"/>
                </a:lnTo>
                <a:lnTo>
                  <a:pt x="509" y="15"/>
                </a:lnTo>
                <a:lnTo>
                  <a:pt x="510" y="13"/>
                </a:lnTo>
                <a:close/>
                <a:moveTo>
                  <a:pt x="2" y="1489"/>
                </a:moveTo>
                <a:lnTo>
                  <a:pt x="21" y="1498"/>
                </a:lnTo>
                <a:lnTo>
                  <a:pt x="56" y="1514"/>
                </a:lnTo>
                <a:lnTo>
                  <a:pt x="92" y="1527"/>
                </a:lnTo>
                <a:lnTo>
                  <a:pt x="129" y="1540"/>
                </a:lnTo>
                <a:lnTo>
                  <a:pt x="167" y="1550"/>
                </a:lnTo>
                <a:lnTo>
                  <a:pt x="203" y="1560"/>
                </a:lnTo>
                <a:lnTo>
                  <a:pt x="244" y="1567"/>
                </a:lnTo>
                <a:lnTo>
                  <a:pt x="282" y="1571"/>
                </a:lnTo>
                <a:lnTo>
                  <a:pt x="322" y="1575"/>
                </a:lnTo>
                <a:lnTo>
                  <a:pt x="363" y="1575"/>
                </a:lnTo>
                <a:lnTo>
                  <a:pt x="403" y="1575"/>
                </a:lnTo>
                <a:lnTo>
                  <a:pt x="443" y="1571"/>
                </a:lnTo>
                <a:lnTo>
                  <a:pt x="484" y="1567"/>
                </a:lnTo>
                <a:lnTo>
                  <a:pt x="522" y="1560"/>
                </a:lnTo>
                <a:lnTo>
                  <a:pt x="532" y="1558"/>
                </a:lnTo>
                <a:lnTo>
                  <a:pt x="532" y="1556"/>
                </a:lnTo>
                <a:lnTo>
                  <a:pt x="530" y="1556"/>
                </a:lnTo>
                <a:lnTo>
                  <a:pt x="530" y="1554"/>
                </a:lnTo>
                <a:lnTo>
                  <a:pt x="528" y="1552"/>
                </a:lnTo>
                <a:lnTo>
                  <a:pt x="528" y="1552"/>
                </a:lnTo>
                <a:lnTo>
                  <a:pt x="526" y="1550"/>
                </a:lnTo>
                <a:lnTo>
                  <a:pt x="526" y="1550"/>
                </a:lnTo>
                <a:lnTo>
                  <a:pt x="524" y="1548"/>
                </a:lnTo>
                <a:lnTo>
                  <a:pt x="520" y="1550"/>
                </a:lnTo>
                <a:lnTo>
                  <a:pt x="482" y="1556"/>
                </a:lnTo>
                <a:lnTo>
                  <a:pt x="441" y="1561"/>
                </a:lnTo>
                <a:lnTo>
                  <a:pt x="403" y="1563"/>
                </a:lnTo>
                <a:lnTo>
                  <a:pt x="363" y="1565"/>
                </a:lnTo>
                <a:lnTo>
                  <a:pt x="322" y="1563"/>
                </a:lnTo>
                <a:lnTo>
                  <a:pt x="284" y="1561"/>
                </a:lnTo>
                <a:lnTo>
                  <a:pt x="244" y="1556"/>
                </a:lnTo>
                <a:lnTo>
                  <a:pt x="205" y="1550"/>
                </a:lnTo>
                <a:lnTo>
                  <a:pt x="169" y="1540"/>
                </a:lnTo>
                <a:lnTo>
                  <a:pt x="132" y="1531"/>
                </a:lnTo>
                <a:lnTo>
                  <a:pt x="96" y="1517"/>
                </a:lnTo>
                <a:lnTo>
                  <a:pt x="59" y="1504"/>
                </a:lnTo>
                <a:lnTo>
                  <a:pt x="27" y="1489"/>
                </a:lnTo>
                <a:lnTo>
                  <a:pt x="0" y="1475"/>
                </a:lnTo>
                <a:lnTo>
                  <a:pt x="2" y="1477"/>
                </a:lnTo>
                <a:lnTo>
                  <a:pt x="2" y="1479"/>
                </a:lnTo>
                <a:lnTo>
                  <a:pt x="2" y="1481"/>
                </a:lnTo>
                <a:lnTo>
                  <a:pt x="2" y="1481"/>
                </a:lnTo>
                <a:lnTo>
                  <a:pt x="2" y="1483"/>
                </a:lnTo>
                <a:lnTo>
                  <a:pt x="2" y="1485"/>
                </a:lnTo>
                <a:lnTo>
                  <a:pt x="2" y="1487"/>
                </a:lnTo>
                <a:lnTo>
                  <a:pt x="2" y="1489"/>
                </a:lnTo>
                <a:close/>
              </a:path>
            </a:pathLst>
          </a:custGeom>
          <a:solidFill>
            <a:srgbClr val="6c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Freeform 381"/>
          <p:cNvSpPr/>
          <p:nvPr/>
        </p:nvSpPr>
        <p:spPr>
          <a:xfrm>
            <a:off x="5767560" y="2000160"/>
            <a:ext cx="838080" cy="2486160"/>
          </a:xfrm>
          <a:custGeom>
            <a:avLst/>
            <a:gdLst>
              <a:gd name="textAreaLeft" fmla="*/ 0 w 838080"/>
              <a:gd name="textAreaRight" fmla="*/ 838440 w 83808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528" h="1566">
                <a:moveTo>
                  <a:pt x="507" y="14"/>
                </a:moveTo>
                <a:lnTo>
                  <a:pt x="482" y="10"/>
                </a:lnTo>
                <a:lnTo>
                  <a:pt x="443" y="4"/>
                </a:lnTo>
                <a:lnTo>
                  <a:pt x="403" y="2"/>
                </a:lnTo>
                <a:lnTo>
                  <a:pt x="363" y="0"/>
                </a:lnTo>
                <a:lnTo>
                  <a:pt x="322" y="2"/>
                </a:lnTo>
                <a:lnTo>
                  <a:pt x="282" y="4"/>
                </a:lnTo>
                <a:lnTo>
                  <a:pt x="244" y="10"/>
                </a:lnTo>
                <a:lnTo>
                  <a:pt x="205" y="16"/>
                </a:lnTo>
                <a:lnTo>
                  <a:pt x="182" y="22"/>
                </a:lnTo>
                <a:lnTo>
                  <a:pt x="180" y="23"/>
                </a:lnTo>
                <a:lnTo>
                  <a:pt x="180" y="25"/>
                </a:lnTo>
                <a:lnTo>
                  <a:pt x="180" y="25"/>
                </a:lnTo>
                <a:lnTo>
                  <a:pt x="180" y="27"/>
                </a:lnTo>
                <a:lnTo>
                  <a:pt x="178" y="29"/>
                </a:lnTo>
                <a:lnTo>
                  <a:pt x="178" y="31"/>
                </a:lnTo>
                <a:lnTo>
                  <a:pt x="178" y="33"/>
                </a:lnTo>
                <a:lnTo>
                  <a:pt x="177" y="33"/>
                </a:lnTo>
                <a:lnTo>
                  <a:pt x="207" y="27"/>
                </a:lnTo>
                <a:lnTo>
                  <a:pt x="246" y="20"/>
                </a:lnTo>
                <a:lnTo>
                  <a:pt x="284" y="16"/>
                </a:lnTo>
                <a:lnTo>
                  <a:pt x="322" y="12"/>
                </a:lnTo>
                <a:lnTo>
                  <a:pt x="363" y="12"/>
                </a:lnTo>
                <a:lnTo>
                  <a:pt x="403" y="12"/>
                </a:lnTo>
                <a:lnTo>
                  <a:pt x="441" y="16"/>
                </a:lnTo>
                <a:lnTo>
                  <a:pt x="480" y="20"/>
                </a:lnTo>
                <a:lnTo>
                  <a:pt x="499" y="23"/>
                </a:lnTo>
                <a:lnTo>
                  <a:pt x="501" y="22"/>
                </a:lnTo>
                <a:lnTo>
                  <a:pt x="501" y="22"/>
                </a:lnTo>
                <a:lnTo>
                  <a:pt x="503" y="20"/>
                </a:lnTo>
                <a:lnTo>
                  <a:pt x="503" y="18"/>
                </a:lnTo>
                <a:lnTo>
                  <a:pt x="503" y="18"/>
                </a:lnTo>
                <a:lnTo>
                  <a:pt x="505" y="16"/>
                </a:lnTo>
                <a:lnTo>
                  <a:pt x="505" y="16"/>
                </a:lnTo>
                <a:lnTo>
                  <a:pt x="507" y="14"/>
                </a:lnTo>
                <a:close/>
                <a:moveTo>
                  <a:pt x="2" y="1476"/>
                </a:moveTo>
                <a:lnTo>
                  <a:pt x="23" y="1487"/>
                </a:lnTo>
                <a:lnTo>
                  <a:pt x="58" y="1503"/>
                </a:lnTo>
                <a:lnTo>
                  <a:pt x="94" y="1518"/>
                </a:lnTo>
                <a:lnTo>
                  <a:pt x="130" y="1530"/>
                </a:lnTo>
                <a:lnTo>
                  <a:pt x="167" y="1541"/>
                </a:lnTo>
                <a:lnTo>
                  <a:pt x="205" y="1549"/>
                </a:lnTo>
                <a:lnTo>
                  <a:pt x="244" y="1556"/>
                </a:lnTo>
                <a:lnTo>
                  <a:pt x="282" y="1560"/>
                </a:lnTo>
                <a:lnTo>
                  <a:pt x="322" y="1564"/>
                </a:lnTo>
                <a:lnTo>
                  <a:pt x="363" y="1566"/>
                </a:lnTo>
                <a:lnTo>
                  <a:pt x="403" y="1564"/>
                </a:lnTo>
                <a:lnTo>
                  <a:pt x="443" y="1560"/>
                </a:lnTo>
                <a:lnTo>
                  <a:pt x="482" y="1556"/>
                </a:lnTo>
                <a:lnTo>
                  <a:pt x="520" y="1549"/>
                </a:lnTo>
                <a:lnTo>
                  <a:pt x="528" y="1547"/>
                </a:lnTo>
                <a:lnTo>
                  <a:pt x="528" y="1547"/>
                </a:lnTo>
                <a:lnTo>
                  <a:pt x="526" y="1545"/>
                </a:lnTo>
                <a:lnTo>
                  <a:pt x="526" y="1545"/>
                </a:lnTo>
                <a:lnTo>
                  <a:pt x="524" y="1543"/>
                </a:lnTo>
                <a:lnTo>
                  <a:pt x="524" y="1541"/>
                </a:lnTo>
                <a:lnTo>
                  <a:pt x="522" y="1541"/>
                </a:lnTo>
                <a:lnTo>
                  <a:pt x="522" y="1539"/>
                </a:lnTo>
                <a:lnTo>
                  <a:pt x="522" y="1537"/>
                </a:lnTo>
                <a:lnTo>
                  <a:pt x="518" y="1539"/>
                </a:lnTo>
                <a:lnTo>
                  <a:pt x="480" y="1545"/>
                </a:lnTo>
                <a:lnTo>
                  <a:pt x="441" y="1551"/>
                </a:lnTo>
                <a:lnTo>
                  <a:pt x="403" y="1553"/>
                </a:lnTo>
                <a:lnTo>
                  <a:pt x="363" y="1555"/>
                </a:lnTo>
                <a:lnTo>
                  <a:pt x="322" y="1553"/>
                </a:lnTo>
                <a:lnTo>
                  <a:pt x="284" y="1551"/>
                </a:lnTo>
                <a:lnTo>
                  <a:pt x="246" y="1545"/>
                </a:lnTo>
                <a:lnTo>
                  <a:pt x="207" y="1539"/>
                </a:lnTo>
                <a:lnTo>
                  <a:pt x="171" y="1530"/>
                </a:lnTo>
                <a:lnTo>
                  <a:pt x="134" y="1520"/>
                </a:lnTo>
                <a:lnTo>
                  <a:pt x="98" y="1509"/>
                </a:lnTo>
                <a:lnTo>
                  <a:pt x="63" y="1493"/>
                </a:lnTo>
                <a:lnTo>
                  <a:pt x="29" y="1478"/>
                </a:lnTo>
                <a:lnTo>
                  <a:pt x="0" y="1464"/>
                </a:lnTo>
                <a:lnTo>
                  <a:pt x="0" y="1466"/>
                </a:lnTo>
                <a:lnTo>
                  <a:pt x="0" y="1466"/>
                </a:lnTo>
                <a:lnTo>
                  <a:pt x="0" y="1468"/>
                </a:lnTo>
                <a:lnTo>
                  <a:pt x="0" y="1470"/>
                </a:lnTo>
                <a:lnTo>
                  <a:pt x="2" y="1472"/>
                </a:lnTo>
                <a:lnTo>
                  <a:pt x="2" y="1474"/>
                </a:lnTo>
                <a:lnTo>
                  <a:pt x="2" y="1476"/>
                </a:lnTo>
                <a:lnTo>
                  <a:pt x="2" y="1476"/>
                </a:lnTo>
                <a:close/>
              </a:path>
            </a:pathLst>
          </a:custGeom>
          <a:solidFill>
            <a:srgbClr val="6d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Freeform 382"/>
          <p:cNvSpPr/>
          <p:nvPr/>
        </p:nvSpPr>
        <p:spPr>
          <a:xfrm>
            <a:off x="5767560" y="2009880"/>
            <a:ext cx="831600" cy="2466720"/>
          </a:xfrm>
          <a:custGeom>
            <a:avLst/>
            <a:gdLst>
              <a:gd name="textAreaLeft" fmla="*/ 0 w 831600"/>
              <a:gd name="textAreaRight" fmla="*/ 831960 w 831600"/>
              <a:gd name="textAreaTop" fmla="*/ 0 h 2466720"/>
              <a:gd name="textAreaBottom" fmla="*/ 2467080 h 2466720"/>
            </a:gdLst>
            <a:ahLst/>
            <a:rect l="textAreaLeft" t="textAreaTop" r="textAreaRight" b="textAreaBottom"/>
            <a:pathLst>
              <a:path w="524" h="1554">
                <a:moveTo>
                  <a:pt x="503" y="12"/>
                </a:moveTo>
                <a:lnTo>
                  <a:pt x="482" y="8"/>
                </a:lnTo>
                <a:lnTo>
                  <a:pt x="441" y="4"/>
                </a:lnTo>
                <a:lnTo>
                  <a:pt x="403" y="0"/>
                </a:lnTo>
                <a:lnTo>
                  <a:pt x="363" y="0"/>
                </a:lnTo>
                <a:lnTo>
                  <a:pt x="322" y="0"/>
                </a:lnTo>
                <a:lnTo>
                  <a:pt x="284" y="4"/>
                </a:lnTo>
                <a:lnTo>
                  <a:pt x="244" y="8"/>
                </a:lnTo>
                <a:lnTo>
                  <a:pt x="205" y="16"/>
                </a:lnTo>
                <a:lnTo>
                  <a:pt x="180" y="21"/>
                </a:lnTo>
                <a:lnTo>
                  <a:pt x="178" y="23"/>
                </a:lnTo>
                <a:lnTo>
                  <a:pt x="178" y="25"/>
                </a:lnTo>
                <a:lnTo>
                  <a:pt x="178" y="27"/>
                </a:lnTo>
                <a:lnTo>
                  <a:pt x="177" y="27"/>
                </a:lnTo>
                <a:lnTo>
                  <a:pt x="177" y="29"/>
                </a:lnTo>
                <a:lnTo>
                  <a:pt x="177" y="31"/>
                </a:lnTo>
                <a:lnTo>
                  <a:pt x="177" y="33"/>
                </a:lnTo>
                <a:lnTo>
                  <a:pt x="175" y="33"/>
                </a:lnTo>
                <a:lnTo>
                  <a:pt x="209" y="25"/>
                </a:lnTo>
                <a:lnTo>
                  <a:pt x="246" y="19"/>
                </a:lnTo>
                <a:lnTo>
                  <a:pt x="284" y="14"/>
                </a:lnTo>
                <a:lnTo>
                  <a:pt x="324" y="12"/>
                </a:lnTo>
                <a:lnTo>
                  <a:pt x="363" y="10"/>
                </a:lnTo>
                <a:lnTo>
                  <a:pt x="403" y="12"/>
                </a:lnTo>
                <a:lnTo>
                  <a:pt x="441" y="14"/>
                </a:lnTo>
                <a:lnTo>
                  <a:pt x="480" y="19"/>
                </a:lnTo>
                <a:lnTo>
                  <a:pt x="497" y="21"/>
                </a:lnTo>
                <a:lnTo>
                  <a:pt x="497" y="21"/>
                </a:lnTo>
                <a:lnTo>
                  <a:pt x="497" y="19"/>
                </a:lnTo>
                <a:lnTo>
                  <a:pt x="499" y="19"/>
                </a:lnTo>
                <a:lnTo>
                  <a:pt x="499" y="17"/>
                </a:lnTo>
                <a:lnTo>
                  <a:pt x="501" y="16"/>
                </a:lnTo>
                <a:lnTo>
                  <a:pt x="501" y="16"/>
                </a:lnTo>
                <a:lnTo>
                  <a:pt x="503" y="14"/>
                </a:lnTo>
                <a:lnTo>
                  <a:pt x="503" y="12"/>
                </a:lnTo>
                <a:close/>
                <a:moveTo>
                  <a:pt x="0" y="1464"/>
                </a:moveTo>
                <a:lnTo>
                  <a:pt x="27" y="1478"/>
                </a:lnTo>
                <a:lnTo>
                  <a:pt x="59" y="1493"/>
                </a:lnTo>
                <a:lnTo>
                  <a:pt x="96" y="1506"/>
                </a:lnTo>
                <a:lnTo>
                  <a:pt x="132" y="1520"/>
                </a:lnTo>
                <a:lnTo>
                  <a:pt x="169" y="1529"/>
                </a:lnTo>
                <a:lnTo>
                  <a:pt x="205" y="1539"/>
                </a:lnTo>
                <a:lnTo>
                  <a:pt x="244" y="1545"/>
                </a:lnTo>
                <a:lnTo>
                  <a:pt x="284" y="1550"/>
                </a:lnTo>
                <a:lnTo>
                  <a:pt x="322" y="1552"/>
                </a:lnTo>
                <a:lnTo>
                  <a:pt x="363" y="1554"/>
                </a:lnTo>
                <a:lnTo>
                  <a:pt x="403" y="1552"/>
                </a:lnTo>
                <a:lnTo>
                  <a:pt x="441" y="1550"/>
                </a:lnTo>
                <a:lnTo>
                  <a:pt x="482" y="1545"/>
                </a:lnTo>
                <a:lnTo>
                  <a:pt x="520" y="1539"/>
                </a:lnTo>
                <a:lnTo>
                  <a:pt x="524" y="1537"/>
                </a:lnTo>
                <a:lnTo>
                  <a:pt x="524" y="1535"/>
                </a:lnTo>
                <a:lnTo>
                  <a:pt x="522" y="1535"/>
                </a:lnTo>
                <a:lnTo>
                  <a:pt x="522" y="1533"/>
                </a:lnTo>
                <a:lnTo>
                  <a:pt x="522" y="1531"/>
                </a:lnTo>
                <a:lnTo>
                  <a:pt x="520" y="1531"/>
                </a:lnTo>
                <a:lnTo>
                  <a:pt x="520" y="1529"/>
                </a:lnTo>
                <a:lnTo>
                  <a:pt x="518" y="1529"/>
                </a:lnTo>
                <a:lnTo>
                  <a:pt x="518" y="1527"/>
                </a:lnTo>
                <a:lnTo>
                  <a:pt x="518" y="1527"/>
                </a:lnTo>
                <a:lnTo>
                  <a:pt x="480" y="1535"/>
                </a:lnTo>
                <a:lnTo>
                  <a:pt x="441" y="1539"/>
                </a:lnTo>
                <a:lnTo>
                  <a:pt x="403" y="1543"/>
                </a:lnTo>
                <a:lnTo>
                  <a:pt x="363" y="1543"/>
                </a:lnTo>
                <a:lnTo>
                  <a:pt x="324" y="1543"/>
                </a:lnTo>
                <a:lnTo>
                  <a:pt x="284" y="1539"/>
                </a:lnTo>
                <a:lnTo>
                  <a:pt x="246" y="1535"/>
                </a:lnTo>
                <a:lnTo>
                  <a:pt x="209" y="1527"/>
                </a:lnTo>
                <a:lnTo>
                  <a:pt x="171" y="1520"/>
                </a:lnTo>
                <a:lnTo>
                  <a:pt x="134" y="1508"/>
                </a:lnTo>
                <a:lnTo>
                  <a:pt x="100" y="1497"/>
                </a:lnTo>
                <a:lnTo>
                  <a:pt x="65" y="1483"/>
                </a:lnTo>
                <a:lnTo>
                  <a:pt x="31" y="1468"/>
                </a:lnTo>
                <a:lnTo>
                  <a:pt x="0" y="1453"/>
                </a:lnTo>
                <a:lnTo>
                  <a:pt x="0" y="1453"/>
                </a:lnTo>
                <a:lnTo>
                  <a:pt x="0" y="1455"/>
                </a:lnTo>
                <a:lnTo>
                  <a:pt x="0" y="1456"/>
                </a:lnTo>
                <a:lnTo>
                  <a:pt x="0" y="1458"/>
                </a:lnTo>
                <a:lnTo>
                  <a:pt x="0" y="1460"/>
                </a:lnTo>
                <a:lnTo>
                  <a:pt x="0" y="1460"/>
                </a:lnTo>
                <a:lnTo>
                  <a:pt x="0" y="1462"/>
                </a:lnTo>
                <a:lnTo>
                  <a:pt x="0" y="1464"/>
                </a:lnTo>
                <a:close/>
              </a:path>
            </a:pathLst>
          </a:custGeom>
          <a:solidFill>
            <a:srgbClr val="6e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Freeform 383"/>
          <p:cNvSpPr/>
          <p:nvPr/>
        </p:nvSpPr>
        <p:spPr>
          <a:xfrm>
            <a:off x="5764320" y="2019240"/>
            <a:ext cx="831600" cy="2449440"/>
          </a:xfrm>
          <a:custGeom>
            <a:avLst/>
            <a:gdLst>
              <a:gd name="textAreaLeft" fmla="*/ 0 w 831600"/>
              <a:gd name="textAreaRight" fmla="*/ 831960 w 831600"/>
              <a:gd name="textAreaTop" fmla="*/ 0 h 2449440"/>
              <a:gd name="textAreaBottom" fmla="*/ 2449800 h 2449440"/>
            </a:gdLst>
            <a:ahLst/>
            <a:rect l="textAreaLeft" t="textAreaTop" r="textAreaRight" b="textAreaBottom"/>
            <a:pathLst>
              <a:path w="524" h="1543">
                <a:moveTo>
                  <a:pt x="501" y="11"/>
                </a:moveTo>
                <a:lnTo>
                  <a:pt x="482" y="8"/>
                </a:lnTo>
                <a:lnTo>
                  <a:pt x="443" y="4"/>
                </a:lnTo>
                <a:lnTo>
                  <a:pt x="405" y="0"/>
                </a:lnTo>
                <a:lnTo>
                  <a:pt x="365" y="0"/>
                </a:lnTo>
                <a:lnTo>
                  <a:pt x="324" y="0"/>
                </a:lnTo>
                <a:lnTo>
                  <a:pt x="286" y="4"/>
                </a:lnTo>
                <a:lnTo>
                  <a:pt x="248" y="8"/>
                </a:lnTo>
                <a:lnTo>
                  <a:pt x="209" y="15"/>
                </a:lnTo>
                <a:lnTo>
                  <a:pt x="179" y="21"/>
                </a:lnTo>
                <a:lnTo>
                  <a:pt x="179" y="23"/>
                </a:lnTo>
                <a:lnTo>
                  <a:pt x="179" y="25"/>
                </a:lnTo>
                <a:lnTo>
                  <a:pt x="179" y="27"/>
                </a:lnTo>
                <a:lnTo>
                  <a:pt x="177" y="27"/>
                </a:lnTo>
                <a:lnTo>
                  <a:pt x="177" y="29"/>
                </a:lnTo>
                <a:lnTo>
                  <a:pt x="177" y="31"/>
                </a:lnTo>
                <a:lnTo>
                  <a:pt x="175" y="33"/>
                </a:lnTo>
                <a:lnTo>
                  <a:pt x="175" y="34"/>
                </a:lnTo>
                <a:lnTo>
                  <a:pt x="211" y="25"/>
                </a:lnTo>
                <a:lnTo>
                  <a:pt x="250" y="19"/>
                </a:lnTo>
                <a:lnTo>
                  <a:pt x="288" y="13"/>
                </a:lnTo>
                <a:lnTo>
                  <a:pt x="326" y="11"/>
                </a:lnTo>
                <a:lnTo>
                  <a:pt x="365" y="10"/>
                </a:lnTo>
                <a:lnTo>
                  <a:pt x="403" y="11"/>
                </a:lnTo>
                <a:lnTo>
                  <a:pt x="443" y="13"/>
                </a:lnTo>
                <a:lnTo>
                  <a:pt x="480" y="19"/>
                </a:lnTo>
                <a:lnTo>
                  <a:pt x="495" y="21"/>
                </a:lnTo>
                <a:lnTo>
                  <a:pt x="495" y="19"/>
                </a:lnTo>
                <a:lnTo>
                  <a:pt x="497" y="19"/>
                </a:lnTo>
                <a:lnTo>
                  <a:pt x="497" y="17"/>
                </a:lnTo>
                <a:lnTo>
                  <a:pt x="499" y="15"/>
                </a:lnTo>
                <a:lnTo>
                  <a:pt x="499" y="15"/>
                </a:lnTo>
                <a:lnTo>
                  <a:pt x="499" y="13"/>
                </a:lnTo>
                <a:lnTo>
                  <a:pt x="501" y="13"/>
                </a:lnTo>
                <a:lnTo>
                  <a:pt x="501" y="11"/>
                </a:lnTo>
                <a:close/>
                <a:moveTo>
                  <a:pt x="2" y="1452"/>
                </a:moveTo>
                <a:lnTo>
                  <a:pt x="31" y="1466"/>
                </a:lnTo>
                <a:lnTo>
                  <a:pt x="65" y="1481"/>
                </a:lnTo>
                <a:lnTo>
                  <a:pt x="100" y="1497"/>
                </a:lnTo>
                <a:lnTo>
                  <a:pt x="136" y="1508"/>
                </a:lnTo>
                <a:lnTo>
                  <a:pt x="173" y="1518"/>
                </a:lnTo>
                <a:lnTo>
                  <a:pt x="209" y="1527"/>
                </a:lnTo>
                <a:lnTo>
                  <a:pt x="248" y="1533"/>
                </a:lnTo>
                <a:lnTo>
                  <a:pt x="286" y="1539"/>
                </a:lnTo>
                <a:lnTo>
                  <a:pt x="324" y="1541"/>
                </a:lnTo>
                <a:lnTo>
                  <a:pt x="365" y="1543"/>
                </a:lnTo>
                <a:lnTo>
                  <a:pt x="405" y="1541"/>
                </a:lnTo>
                <a:lnTo>
                  <a:pt x="443" y="1539"/>
                </a:lnTo>
                <a:lnTo>
                  <a:pt x="482" y="1533"/>
                </a:lnTo>
                <a:lnTo>
                  <a:pt x="520" y="1527"/>
                </a:lnTo>
                <a:lnTo>
                  <a:pt x="524" y="1525"/>
                </a:lnTo>
                <a:lnTo>
                  <a:pt x="522" y="1525"/>
                </a:lnTo>
                <a:lnTo>
                  <a:pt x="522" y="1523"/>
                </a:lnTo>
                <a:lnTo>
                  <a:pt x="520" y="1523"/>
                </a:lnTo>
                <a:lnTo>
                  <a:pt x="520" y="1521"/>
                </a:lnTo>
                <a:lnTo>
                  <a:pt x="518" y="1520"/>
                </a:lnTo>
                <a:lnTo>
                  <a:pt x="518" y="1520"/>
                </a:lnTo>
                <a:lnTo>
                  <a:pt x="516" y="1518"/>
                </a:lnTo>
                <a:lnTo>
                  <a:pt x="516" y="1518"/>
                </a:lnTo>
                <a:lnTo>
                  <a:pt x="480" y="1523"/>
                </a:lnTo>
                <a:lnTo>
                  <a:pt x="443" y="1527"/>
                </a:lnTo>
                <a:lnTo>
                  <a:pt x="403" y="1531"/>
                </a:lnTo>
                <a:lnTo>
                  <a:pt x="365" y="1531"/>
                </a:lnTo>
                <a:lnTo>
                  <a:pt x="326" y="1531"/>
                </a:lnTo>
                <a:lnTo>
                  <a:pt x="288" y="1527"/>
                </a:lnTo>
                <a:lnTo>
                  <a:pt x="250" y="1523"/>
                </a:lnTo>
                <a:lnTo>
                  <a:pt x="211" y="1516"/>
                </a:lnTo>
                <a:lnTo>
                  <a:pt x="175" y="1508"/>
                </a:lnTo>
                <a:lnTo>
                  <a:pt x="138" y="1498"/>
                </a:lnTo>
                <a:lnTo>
                  <a:pt x="104" y="1485"/>
                </a:lnTo>
                <a:lnTo>
                  <a:pt x="69" y="1472"/>
                </a:lnTo>
                <a:lnTo>
                  <a:pt x="35" y="1456"/>
                </a:lnTo>
                <a:lnTo>
                  <a:pt x="2" y="1441"/>
                </a:lnTo>
                <a:lnTo>
                  <a:pt x="0" y="1439"/>
                </a:lnTo>
                <a:lnTo>
                  <a:pt x="0" y="1441"/>
                </a:lnTo>
                <a:lnTo>
                  <a:pt x="2" y="1443"/>
                </a:lnTo>
                <a:lnTo>
                  <a:pt x="2" y="1445"/>
                </a:lnTo>
                <a:lnTo>
                  <a:pt x="2" y="1445"/>
                </a:lnTo>
                <a:lnTo>
                  <a:pt x="2" y="1447"/>
                </a:lnTo>
                <a:lnTo>
                  <a:pt x="2" y="1449"/>
                </a:lnTo>
                <a:lnTo>
                  <a:pt x="2" y="1450"/>
                </a:lnTo>
                <a:lnTo>
                  <a:pt x="2" y="1452"/>
                </a:lnTo>
                <a:close/>
              </a:path>
            </a:pathLst>
          </a:custGeom>
          <a:solidFill>
            <a:srgbClr val="6f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Freeform 384"/>
          <p:cNvSpPr/>
          <p:nvPr/>
        </p:nvSpPr>
        <p:spPr>
          <a:xfrm>
            <a:off x="5764320" y="2025720"/>
            <a:ext cx="825480" cy="2433600"/>
          </a:xfrm>
          <a:custGeom>
            <a:avLst/>
            <a:gdLst>
              <a:gd name="textAreaLeft" fmla="*/ 0 w 825480"/>
              <a:gd name="textAreaRight" fmla="*/ 825840 w 825480"/>
              <a:gd name="textAreaTop" fmla="*/ 0 h 2433600"/>
              <a:gd name="textAreaBottom" fmla="*/ 2433600 h 2433600"/>
            </a:gdLst>
            <a:ahLst/>
            <a:rect l="textAreaLeft" t="textAreaTop" r="textAreaRight" b="textAreaBottom"/>
            <a:pathLst>
              <a:path w="520" h="1533">
                <a:moveTo>
                  <a:pt x="499" y="11"/>
                </a:moveTo>
                <a:lnTo>
                  <a:pt x="482" y="9"/>
                </a:lnTo>
                <a:lnTo>
                  <a:pt x="443" y="4"/>
                </a:lnTo>
                <a:lnTo>
                  <a:pt x="405" y="2"/>
                </a:lnTo>
                <a:lnTo>
                  <a:pt x="365" y="0"/>
                </a:lnTo>
                <a:lnTo>
                  <a:pt x="326" y="2"/>
                </a:lnTo>
                <a:lnTo>
                  <a:pt x="286" y="4"/>
                </a:lnTo>
                <a:lnTo>
                  <a:pt x="248" y="9"/>
                </a:lnTo>
                <a:lnTo>
                  <a:pt x="211" y="15"/>
                </a:lnTo>
                <a:lnTo>
                  <a:pt x="177" y="23"/>
                </a:lnTo>
                <a:lnTo>
                  <a:pt x="177" y="25"/>
                </a:lnTo>
                <a:lnTo>
                  <a:pt x="177" y="27"/>
                </a:lnTo>
                <a:lnTo>
                  <a:pt x="175" y="29"/>
                </a:lnTo>
                <a:lnTo>
                  <a:pt x="175" y="30"/>
                </a:lnTo>
                <a:lnTo>
                  <a:pt x="175" y="30"/>
                </a:lnTo>
                <a:lnTo>
                  <a:pt x="175" y="32"/>
                </a:lnTo>
                <a:lnTo>
                  <a:pt x="173" y="34"/>
                </a:lnTo>
                <a:lnTo>
                  <a:pt x="173" y="36"/>
                </a:lnTo>
                <a:lnTo>
                  <a:pt x="177" y="34"/>
                </a:lnTo>
                <a:lnTo>
                  <a:pt x="213" y="27"/>
                </a:lnTo>
                <a:lnTo>
                  <a:pt x="250" y="19"/>
                </a:lnTo>
                <a:lnTo>
                  <a:pt x="288" y="15"/>
                </a:lnTo>
                <a:lnTo>
                  <a:pt x="326" y="11"/>
                </a:lnTo>
                <a:lnTo>
                  <a:pt x="365" y="11"/>
                </a:lnTo>
                <a:lnTo>
                  <a:pt x="403" y="11"/>
                </a:lnTo>
                <a:lnTo>
                  <a:pt x="441" y="15"/>
                </a:lnTo>
                <a:lnTo>
                  <a:pt x="480" y="19"/>
                </a:lnTo>
                <a:lnTo>
                  <a:pt x="491" y="21"/>
                </a:lnTo>
                <a:lnTo>
                  <a:pt x="491" y="21"/>
                </a:lnTo>
                <a:lnTo>
                  <a:pt x="493" y="19"/>
                </a:lnTo>
                <a:lnTo>
                  <a:pt x="493" y="19"/>
                </a:lnTo>
                <a:lnTo>
                  <a:pt x="495" y="17"/>
                </a:lnTo>
                <a:lnTo>
                  <a:pt x="495" y="15"/>
                </a:lnTo>
                <a:lnTo>
                  <a:pt x="497" y="15"/>
                </a:lnTo>
                <a:lnTo>
                  <a:pt x="497" y="13"/>
                </a:lnTo>
                <a:lnTo>
                  <a:pt x="499" y="11"/>
                </a:lnTo>
                <a:close/>
                <a:moveTo>
                  <a:pt x="2" y="1443"/>
                </a:moveTo>
                <a:lnTo>
                  <a:pt x="33" y="1458"/>
                </a:lnTo>
                <a:lnTo>
                  <a:pt x="67" y="1473"/>
                </a:lnTo>
                <a:lnTo>
                  <a:pt x="102" y="1487"/>
                </a:lnTo>
                <a:lnTo>
                  <a:pt x="136" y="1498"/>
                </a:lnTo>
                <a:lnTo>
                  <a:pt x="173" y="1510"/>
                </a:lnTo>
                <a:lnTo>
                  <a:pt x="211" y="1517"/>
                </a:lnTo>
                <a:lnTo>
                  <a:pt x="248" y="1525"/>
                </a:lnTo>
                <a:lnTo>
                  <a:pt x="286" y="1529"/>
                </a:lnTo>
                <a:lnTo>
                  <a:pt x="326" y="1533"/>
                </a:lnTo>
                <a:lnTo>
                  <a:pt x="365" y="1533"/>
                </a:lnTo>
                <a:lnTo>
                  <a:pt x="405" y="1533"/>
                </a:lnTo>
                <a:lnTo>
                  <a:pt x="443" y="1529"/>
                </a:lnTo>
                <a:lnTo>
                  <a:pt x="482" y="1525"/>
                </a:lnTo>
                <a:lnTo>
                  <a:pt x="520" y="1517"/>
                </a:lnTo>
                <a:lnTo>
                  <a:pt x="520" y="1517"/>
                </a:lnTo>
                <a:lnTo>
                  <a:pt x="518" y="1516"/>
                </a:lnTo>
                <a:lnTo>
                  <a:pt x="518" y="1516"/>
                </a:lnTo>
                <a:lnTo>
                  <a:pt x="516" y="1514"/>
                </a:lnTo>
                <a:lnTo>
                  <a:pt x="516" y="1514"/>
                </a:lnTo>
                <a:lnTo>
                  <a:pt x="516" y="1512"/>
                </a:lnTo>
                <a:lnTo>
                  <a:pt x="514" y="1510"/>
                </a:lnTo>
                <a:lnTo>
                  <a:pt x="514" y="1510"/>
                </a:lnTo>
                <a:lnTo>
                  <a:pt x="512" y="1508"/>
                </a:lnTo>
                <a:lnTo>
                  <a:pt x="480" y="1514"/>
                </a:lnTo>
                <a:lnTo>
                  <a:pt x="441" y="1519"/>
                </a:lnTo>
                <a:lnTo>
                  <a:pt x="403" y="1521"/>
                </a:lnTo>
                <a:lnTo>
                  <a:pt x="365" y="1523"/>
                </a:lnTo>
                <a:lnTo>
                  <a:pt x="326" y="1521"/>
                </a:lnTo>
                <a:lnTo>
                  <a:pt x="288" y="1519"/>
                </a:lnTo>
                <a:lnTo>
                  <a:pt x="250" y="1514"/>
                </a:lnTo>
                <a:lnTo>
                  <a:pt x="213" y="1508"/>
                </a:lnTo>
                <a:lnTo>
                  <a:pt x="177" y="1498"/>
                </a:lnTo>
                <a:lnTo>
                  <a:pt x="140" y="1489"/>
                </a:lnTo>
                <a:lnTo>
                  <a:pt x="106" y="1477"/>
                </a:lnTo>
                <a:lnTo>
                  <a:pt x="71" y="1464"/>
                </a:lnTo>
                <a:lnTo>
                  <a:pt x="36" y="1448"/>
                </a:lnTo>
                <a:lnTo>
                  <a:pt x="4" y="1431"/>
                </a:lnTo>
                <a:lnTo>
                  <a:pt x="0" y="1429"/>
                </a:lnTo>
                <a:lnTo>
                  <a:pt x="0" y="1431"/>
                </a:lnTo>
                <a:lnTo>
                  <a:pt x="0" y="1431"/>
                </a:lnTo>
                <a:lnTo>
                  <a:pt x="0" y="1433"/>
                </a:lnTo>
                <a:lnTo>
                  <a:pt x="0" y="1435"/>
                </a:lnTo>
                <a:lnTo>
                  <a:pt x="0" y="1437"/>
                </a:lnTo>
                <a:lnTo>
                  <a:pt x="2" y="1439"/>
                </a:lnTo>
                <a:lnTo>
                  <a:pt x="2" y="1441"/>
                </a:lnTo>
                <a:lnTo>
                  <a:pt x="2" y="1443"/>
                </a:lnTo>
                <a:close/>
              </a:path>
            </a:pathLst>
          </a:custGeom>
          <a:solidFill>
            <a:srgbClr val="70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Freeform 385"/>
          <p:cNvSpPr/>
          <p:nvPr/>
        </p:nvSpPr>
        <p:spPr>
          <a:xfrm>
            <a:off x="5764320" y="2035080"/>
            <a:ext cx="819000" cy="2414520"/>
          </a:xfrm>
          <a:custGeom>
            <a:avLst/>
            <a:gdLst>
              <a:gd name="textAreaLeft" fmla="*/ 0 w 819000"/>
              <a:gd name="textAreaRight" fmla="*/ 819360 w 819000"/>
              <a:gd name="textAreaTop" fmla="*/ 0 h 2414520"/>
              <a:gd name="textAreaBottom" fmla="*/ 2414880 h 2414520"/>
            </a:gdLst>
            <a:ahLst/>
            <a:rect l="textAreaLeft" t="textAreaTop" r="textAreaRight" b="textAreaBottom"/>
            <a:pathLst>
              <a:path w="516" h="1521">
                <a:moveTo>
                  <a:pt x="495" y="11"/>
                </a:moveTo>
                <a:lnTo>
                  <a:pt x="480" y="9"/>
                </a:lnTo>
                <a:lnTo>
                  <a:pt x="443" y="3"/>
                </a:lnTo>
                <a:lnTo>
                  <a:pt x="403" y="1"/>
                </a:lnTo>
                <a:lnTo>
                  <a:pt x="365" y="0"/>
                </a:lnTo>
                <a:lnTo>
                  <a:pt x="326" y="1"/>
                </a:lnTo>
                <a:lnTo>
                  <a:pt x="288" y="3"/>
                </a:lnTo>
                <a:lnTo>
                  <a:pt x="250" y="9"/>
                </a:lnTo>
                <a:lnTo>
                  <a:pt x="211" y="15"/>
                </a:lnTo>
                <a:lnTo>
                  <a:pt x="175" y="24"/>
                </a:lnTo>
                <a:lnTo>
                  <a:pt x="175" y="24"/>
                </a:lnTo>
                <a:lnTo>
                  <a:pt x="175" y="26"/>
                </a:lnTo>
                <a:lnTo>
                  <a:pt x="173" y="28"/>
                </a:lnTo>
                <a:lnTo>
                  <a:pt x="173" y="30"/>
                </a:lnTo>
                <a:lnTo>
                  <a:pt x="173" y="32"/>
                </a:lnTo>
                <a:lnTo>
                  <a:pt x="171" y="32"/>
                </a:lnTo>
                <a:lnTo>
                  <a:pt x="171" y="34"/>
                </a:lnTo>
                <a:lnTo>
                  <a:pt x="171" y="36"/>
                </a:lnTo>
                <a:lnTo>
                  <a:pt x="177" y="34"/>
                </a:lnTo>
                <a:lnTo>
                  <a:pt x="213" y="26"/>
                </a:lnTo>
                <a:lnTo>
                  <a:pt x="251" y="19"/>
                </a:lnTo>
                <a:lnTo>
                  <a:pt x="288" y="15"/>
                </a:lnTo>
                <a:lnTo>
                  <a:pt x="326" y="11"/>
                </a:lnTo>
                <a:lnTo>
                  <a:pt x="365" y="11"/>
                </a:lnTo>
                <a:lnTo>
                  <a:pt x="403" y="11"/>
                </a:lnTo>
                <a:lnTo>
                  <a:pt x="441" y="15"/>
                </a:lnTo>
                <a:lnTo>
                  <a:pt x="480" y="19"/>
                </a:lnTo>
                <a:lnTo>
                  <a:pt x="488" y="21"/>
                </a:lnTo>
                <a:lnTo>
                  <a:pt x="489" y="19"/>
                </a:lnTo>
                <a:lnTo>
                  <a:pt x="489" y="19"/>
                </a:lnTo>
                <a:lnTo>
                  <a:pt x="491" y="17"/>
                </a:lnTo>
                <a:lnTo>
                  <a:pt x="491" y="15"/>
                </a:lnTo>
                <a:lnTo>
                  <a:pt x="491" y="15"/>
                </a:lnTo>
                <a:lnTo>
                  <a:pt x="493" y="13"/>
                </a:lnTo>
                <a:lnTo>
                  <a:pt x="493" y="13"/>
                </a:lnTo>
                <a:lnTo>
                  <a:pt x="495" y="11"/>
                </a:lnTo>
                <a:close/>
                <a:moveTo>
                  <a:pt x="0" y="1429"/>
                </a:moveTo>
                <a:lnTo>
                  <a:pt x="2" y="1431"/>
                </a:lnTo>
                <a:lnTo>
                  <a:pt x="35" y="1446"/>
                </a:lnTo>
                <a:lnTo>
                  <a:pt x="69" y="1462"/>
                </a:lnTo>
                <a:lnTo>
                  <a:pt x="104" y="1475"/>
                </a:lnTo>
                <a:lnTo>
                  <a:pt x="138" y="1488"/>
                </a:lnTo>
                <a:lnTo>
                  <a:pt x="175" y="1498"/>
                </a:lnTo>
                <a:lnTo>
                  <a:pt x="211" y="1506"/>
                </a:lnTo>
                <a:lnTo>
                  <a:pt x="250" y="1513"/>
                </a:lnTo>
                <a:lnTo>
                  <a:pt x="288" y="1517"/>
                </a:lnTo>
                <a:lnTo>
                  <a:pt x="326" y="1521"/>
                </a:lnTo>
                <a:lnTo>
                  <a:pt x="365" y="1521"/>
                </a:lnTo>
                <a:lnTo>
                  <a:pt x="403" y="1521"/>
                </a:lnTo>
                <a:lnTo>
                  <a:pt x="443" y="1517"/>
                </a:lnTo>
                <a:lnTo>
                  <a:pt x="480" y="1513"/>
                </a:lnTo>
                <a:lnTo>
                  <a:pt x="516" y="1508"/>
                </a:lnTo>
                <a:lnTo>
                  <a:pt x="516" y="1506"/>
                </a:lnTo>
                <a:lnTo>
                  <a:pt x="514" y="1504"/>
                </a:lnTo>
                <a:lnTo>
                  <a:pt x="514" y="1504"/>
                </a:lnTo>
                <a:lnTo>
                  <a:pt x="512" y="1502"/>
                </a:lnTo>
                <a:lnTo>
                  <a:pt x="512" y="1500"/>
                </a:lnTo>
                <a:lnTo>
                  <a:pt x="511" y="1500"/>
                </a:lnTo>
                <a:lnTo>
                  <a:pt x="511" y="1498"/>
                </a:lnTo>
                <a:lnTo>
                  <a:pt x="509" y="1498"/>
                </a:lnTo>
                <a:lnTo>
                  <a:pt x="480" y="1502"/>
                </a:lnTo>
                <a:lnTo>
                  <a:pt x="441" y="1508"/>
                </a:lnTo>
                <a:lnTo>
                  <a:pt x="403" y="1510"/>
                </a:lnTo>
                <a:lnTo>
                  <a:pt x="365" y="1511"/>
                </a:lnTo>
                <a:lnTo>
                  <a:pt x="326" y="1510"/>
                </a:lnTo>
                <a:lnTo>
                  <a:pt x="288" y="1508"/>
                </a:lnTo>
                <a:lnTo>
                  <a:pt x="251" y="1502"/>
                </a:lnTo>
                <a:lnTo>
                  <a:pt x="213" y="1496"/>
                </a:lnTo>
                <a:lnTo>
                  <a:pt x="177" y="1488"/>
                </a:lnTo>
                <a:lnTo>
                  <a:pt x="142" y="1477"/>
                </a:lnTo>
                <a:lnTo>
                  <a:pt x="108" y="1465"/>
                </a:lnTo>
                <a:lnTo>
                  <a:pt x="73" y="1452"/>
                </a:lnTo>
                <a:lnTo>
                  <a:pt x="40" y="1437"/>
                </a:lnTo>
                <a:lnTo>
                  <a:pt x="8" y="1421"/>
                </a:lnTo>
                <a:lnTo>
                  <a:pt x="0" y="1416"/>
                </a:lnTo>
                <a:lnTo>
                  <a:pt x="0" y="1417"/>
                </a:lnTo>
                <a:lnTo>
                  <a:pt x="0" y="1419"/>
                </a:lnTo>
                <a:lnTo>
                  <a:pt x="0" y="1421"/>
                </a:lnTo>
                <a:lnTo>
                  <a:pt x="0" y="1423"/>
                </a:lnTo>
                <a:lnTo>
                  <a:pt x="0" y="1425"/>
                </a:lnTo>
                <a:lnTo>
                  <a:pt x="0" y="1425"/>
                </a:lnTo>
                <a:lnTo>
                  <a:pt x="0" y="1427"/>
                </a:lnTo>
                <a:lnTo>
                  <a:pt x="0" y="1429"/>
                </a:lnTo>
                <a:close/>
              </a:path>
            </a:pathLst>
          </a:custGeom>
          <a:solidFill>
            <a:srgbClr val="71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Freeform 386"/>
          <p:cNvSpPr/>
          <p:nvPr/>
        </p:nvSpPr>
        <p:spPr>
          <a:xfrm>
            <a:off x="5761080" y="2043000"/>
            <a:ext cx="815760" cy="2400480"/>
          </a:xfrm>
          <a:custGeom>
            <a:avLst/>
            <a:gdLst>
              <a:gd name="textAreaLeft" fmla="*/ 0 w 815760"/>
              <a:gd name="textAreaRight" fmla="*/ 816120 w 815760"/>
              <a:gd name="textAreaTop" fmla="*/ 0 h 2400480"/>
              <a:gd name="textAreaBottom" fmla="*/ 2400840 h 2400480"/>
            </a:gdLst>
            <a:ahLst/>
            <a:rect l="textAreaLeft" t="textAreaTop" r="textAreaRight" b="textAreaBottom"/>
            <a:pathLst>
              <a:path w="514" h="1512">
                <a:moveTo>
                  <a:pt x="493" y="10"/>
                </a:moveTo>
                <a:lnTo>
                  <a:pt x="482" y="8"/>
                </a:lnTo>
                <a:lnTo>
                  <a:pt x="443" y="4"/>
                </a:lnTo>
                <a:lnTo>
                  <a:pt x="405" y="0"/>
                </a:lnTo>
                <a:lnTo>
                  <a:pt x="367" y="0"/>
                </a:lnTo>
                <a:lnTo>
                  <a:pt x="328" y="0"/>
                </a:lnTo>
                <a:lnTo>
                  <a:pt x="290" y="4"/>
                </a:lnTo>
                <a:lnTo>
                  <a:pt x="252" y="8"/>
                </a:lnTo>
                <a:lnTo>
                  <a:pt x="215" y="16"/>
                </a:lnTo>
                <a:lnTo>
                  <a:pt x="179" y="23"/>
                </a:lnTo>
                <a:lnTo>
                  <a:pt x="175" y="25"/>
                </a:lnTo>
                <a:lnTo>
                  <a:pt x="175" y="27"/>
                </a:lnTo>
                <a:lnTo>
                  <a:pt x="173" y="27"/>
                </a:lnTo>
                <a:lnTo>
                  <a:pt x="173" y="29"/>
                </a:lnTo>
                <a:lnTo>
                  <a:pt x="173" y="31"/>
                </a:lnTo>
                <a:lnTo>
                  <a:pt x="173" y="33"/>
                </a:lnTo>
                <a:lnTo>
                  <a:pt x="171" y="35"/>
                </a:lnTo>
                <a:lnTo>
                  <a:pt x="171" y="35"/>
                </a:lnTo>
                <a:lnTo>
                  <a:pt x="171" y="37"/>
                </a:lnTo>
                <a:lnTo>
                  <a:pt x="181" y="35"/>
                </a:lnTo>
                <a:lnTo>
                  <a:pt x="217" y="25"/>
                </a:lnTo>
                <a:lnTo>
                  <a:pt x="253" y="19"/>
                </a:lnTo>
                <a:lnTo>
                  <a:pt x="290" y="14"/>
                </a:lnTo>
                <a:lnTo>
                  <a:pt x="328" y="12"/>
                </a:lnTo>
                <a:lnTo>
                  <a:pt x="367" y="10"/>
                </a:lnTo>
                <a:lnTo>
                  <a:pt x="405" y="12"/>
                </a:lnTo>
                <a:lnTo>
                  <a:pt x="443" y="14"/>
                </a:lnTo>
                <a:lnTo>
                  <a:pt x="480" y="19"/>
                </a:lnTo>
                <a:lnTo>
                  <a:pt x="488" y="19"/>
                </a:lnTo>
                <a:lnTo>
                  <a:pt x="488" y="19"/>
                </a:lnTo>
                <a:lnTo>
                  <a:pt x="488" y="18"/>
                </a:lnTo>
                <a:lnTo>
                  <a:pt x="490" y="18"/>
                </a:lnTo>
                <a:lnTo>
                  <a:pt x="490" y="16"/>
                </a:lnTo>
                <a:lnTo>
                  <a:pt x="491" y="14"/>
                </a:lnTo>
                <a:lnTo>
                  <a:pt x="491" y="14"/>
                </a:lnTo>
                <a:lnTo>
                  <a:pt x="493" y="12"/>
                </a:lnTo>
                <a:lnTo>
                  <a:pt x="493" y="10"/>
                </a:lnTo>
                <a:close/>
                <a:moveTo>
                  <a:pt x="2" y="1418"/>
                </a:moveTo>
                <a:lnTo>
                  <a:pt x="6" y="1420"/>
                </a:lnTo>
                <a:lnTo>
                  <a:pt x="38" y="1437"/>
                </a:lnTo>
                <a:lnTo>
                  <a:pt x="73" y="1453"/>
                </a:lnTo>
                <a:lnTo>
                  <a:pt x="108" y="1466"/>
                </a:lnTo>
                <a:lnTo>
                  <a:pt x="142" y="1478"/>
                </a:lnTo>
                <a:lnTo>
                  <a:pt x="179" y="1487"/>
                </a:lnTo>
                <a:lnTo>
                  <a:pt x="215" y="1497"/>
                </a:lnTo>
                <a:lnTo>
                  <a:pt x="252" y="1503"/>
                </a:lnTo>
                <a:lnTo>
                  <a:pt x="290" y="1508"/>
                </a:lnTo>
                <a:lnTo>
                  <a:pt x="328" y="1510"/>
                </a:lnTo>
                <a:lnTo>
                  <a:pt x="367" y="1512"/>
                </a:lnTo>
                <a:lnTo>
                  <a:pt x="405" y="1510"/>
                </a:lnTo>
                <a:lnTo>
                  <a:pt x="443" y="1508"/>
                </a:lnTo>
                <a:lnTo>
                  <a:pt x="482" y="1503"/>
                </a:lnTo>
                <a:lnTo>
                  <a:pt x="514" y="1497"/>
                </a:lnTo>
                <a:lnTo>
                  <a:pt x="514" y="1495"/>
                </a:lnTo>
                <a:lnTo>
                  <a:pt x="513" y="1495"/>
                </a:lnTo>
                <a:lnTo>
                  <a:pt x="513" y="1493"/>
                </a:lnTo>
                <a:lnTo>
                  <a:pt x="511" y="1493"/>
                </a:lnTo>
                <a:lnTo>
                  <a:pt x="511" y="1491"/>
                </a:lnTo>
                <a:lnTo>
                  <a:pt x="511" y="1489"/>
                </a:lnTo>
                <a:lnTo>
                  <a:pt x="509" y="1489"/>
                </a:lnTo>
                <a:lnTo>
                  <a:pt x="509" y="1487"/>
                </a:lnTo>
                <a:lnTo>
                  <a:pt x="480" y="1493"/>
                </a:lnTo>
                <a:lnTo>
                  <a:pt x="443" y="1497"/>
                </a:lnTo>
                <a:lnTo>
                  <a:pt x="405" y="1501"/>
                </a:lnTo>
                <a:lnTo>
                  <a:pt x="367" y="1501"/>
                </a:lnTo>
                <a:lnTo>
                  <a:pt x="328" y="1501"/>
                </a:lnTo>
                <a:lnTo>
                  <a:pt x="290" y="1497"/>
                </a:lnTo>
                <a:lnTo>
                  <a:pt x="253" y="1493"/>
                </a:lnTo>
                <a:lnTo>
                  <a:pt x="217" y="1485"/>
                </a:lnTo>
                <a:lnTo>
                  <a:pt x="181" y="1478"/>
                </a:lnTo>
                <a:lnTo>
                  <a:pt x="146" y="1468"/>
                </a:lnTo>
                <a:lnTo>
                  <a:pt x="111" y="1457"/>
                </a:lnTo>
                <a:lnTo>
                  <a:pt x="77" y="1443"/>
                </a:lnTo>
                <a:lnTo>
                  <a:pt x="44" y="1428"/>
                </a:lnTo>
                <a:lnTo>
                  <a:pt x="12" y="1411"/>
                </a:lnTo>
                <a:lnTo>
                  <a:pt x="0" y="1405"/>
                </a:lnTo>
                <a:lnTo>
                  <a:pt x="0" y="1407"/>
                </a:lnTo>
                <a:lnTo>
                  <a:pt x="2" y="1409"/>
                </a:lnTo>
                <a:lnTo>
                  <a:pt x="2" y="1411"/>
                </a:lnTo>
                <a:lnTo>
                  <a:pt x="2" y="1411"/>
                </a:lnTo>
                <a:lnTo>
                  <a:pt x="2" y="1412"/>
                </a:lnTo>
                <a:lnTo>
                  <a:pt x="2" y="1414"/>
                </a:lnTo>
                <a:lnTo>
                  <a:pt x="2" y="1416"/>
                </a:lnTo>
                <a:lnTo>
                  <a:pt x="2" y="1418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Freeform 387"/>
          <p:cNvSpPr/>
          <p:nvPr/>
        </p:nvSpPr>
        <p:spPr>
          <a:xfrm>
            <a:off x="5761080" y="2052720"/>
            <a:ext cx="811080" cy="2381040"/>
          </a:xfrm>
          <a:custGeom>
            <a:avLst/>
            <a:gdLst>
              <a:gd name="textAreaLeft" fmla="*/ 0 w 811080"/>
              <a:gd name="textAreaRight" fmla="*/ 811440 w 811080"/>
              <a:gd name="textAreaTop" fmla="*/ 0 h 2381040"/>
              <a:gd name="textAreaBottom" fmla="*/ 2381400 h 2381040"/>
            </a:gdLst>
            <a:ahLst/>
            <a:rect l="textAreaLeft" t="textAreaTop" r="textAreaRight" b="textAreaBottom"/>
            <a:pathLst>
              <a:path w="511" h="1500">
                <a:moveTo>
                  <a:pt x="490" y="10"/>
                </a:moveTo>
                <a:lnTo>
                  <a:pt x="482" y="8"/>
                </a:lnTo>
                <a:lnTo>
                  <a:pt x="443" y="4"/>
                </a:lnTo>
                <a:lnTo>
                  <a:pt x="405" y="0"/>
                </a:lnTo>
                <a:lnTo>
                  <a:pt x="367" y="0"/>
                </a:lnTo>
                <a:lnTo>
                  <a:pt x="328" y="0"/>
                </a:lnTo>
                <a:lnTo>
                  <a:pt x="290" y="4"/>
                </a:lnTo>
                <a:lnTo>
                  <a:pt x="253" y="8"/>
                </a:lnTo>
                <a:lnTo>
                  <a:pt x="215" y="15"/>
                </a:lnTo>
                <a:lnTo>
                  <a:pt x="179" y="23"/>
                </a:lnTo>
                <a:lnTo>
                  <a:pt x="173" y="25"/>
                </a:lnTo>
                <a:lnTo>
                  <a:pt x="173" y="27"/>
                </a:lnTo>
                <a:lnTo>
                  <a:pt x="171" y="29"/>
                </a:lnTo>
                <a:lnTo>
                  <a:pt x="171" y="29"/>
                </a:lnTo>
                <a:lnTo>
                  <a:pt x="171" y="31"/>
                </a:lnTo>
                <a:lnTo>
                  <a:pt x="171" y="33"/>
                </a:lnTo>
                <a:lnTo>
                  <a:pt x="169" y="35"/>
                </a:lnTo>
                <a:lnTo>
                  <a:pt x="169" y="36"/>
                </a:lnTo>
                <a:lnTo>
                  <a:pt x="169" y="36"/>
                </a:lnTo>
                <a:lnTo>
                  <a:pt x="182" y="33"/>
                </a:lnTo>
                <a:lnTo>
                  <a:pt x="217" y="25"/>
                </a:lnTo>
                <a:lnTo>
                  <a:pt x="253" y="19"/>
                </a:lnTo>
                <a:lnTo>
                  <a:pt x="292" y="13"/>
                </a:lnTo>
                <a:lnTo>
                  <a:pt x="328" y="12"/>
                </a:lnTo>
                <a:lnTo>
                  <a:pt x="367" y="10"/>
                </a:lnTo>
                <a:lnTo>
                  <a:pt x="405" y="12"/>
                </a:lnTo>
                <a:lnTo>
                  <a:pt x="442" y="13"/>
                </a:lnTo>
                <a:lnTo>
                  <a:pt x="480" y="19"/>
                </a:lnTo>
                <a:lnTo>
                  <a:pt x="484" y="19"/>
                </a:lnTo>
                <a:lnTo>
                  <a:pt x="484" y="17"/>
                </a:lnTo>
                <a:lnTo>
                  <a:pt x="486" y="17"/>
                </a:lnTo>
                <a:lnTo>
                  <a:pt x="486" y="15"/>
                </a:lnTo>
                <a:lnTo>
                  <a:pt x="488" y="13"/>
                </a:lnTo>
                <a:lnTo>
                  <a:pt x="488" y="13"/>
                </a:lnTo>
                <a:lnTo>
                  <a:pt x="488" y="12"/>
                </a:lnTo>
                <a:lnTo>
                  <a:pt x="490" y="12"/>
                </a:lnTo>
                <a:lnTo>
                  <a:pt x="490" y="10"/>
                </a:lnTo>
                <a:close/>
                <a:moveTo>
                  <a:pt x="2" y="1405"/>
                </a:moveTo>
                <a:lnTo>
                  <a:pt x="10" y="1410"/>
                </a:lnTo>
                <a:lnTo>
                  <a:pt x="42" y="1426"/>
                </a:lnTo>
                <a:lnTo>
                  <a:pt x="75" y="1441"/>
                </a:lnTo>
                <a:lnTo>
                  <a:pt x="110" y="1454"/>
                </a:lnTo>
                <a:lnTo>
                  <a:pt x="144" y="1466"/>
                </a:lnTo>
                <a:lnTo>
                  <a:pt x="179" y="1477"/>
                </a:lnTo>
                <a:lnTo>
                  <a:pt x="215" y="1485"/>
                </a:lnTo>
                <a:lnTo>
                  <a:pt x="253" y="1491"/>
                </a:lnTo>
                <a:lnTo>
                  <a:pt x="290" y="1497"/>
                </a:lnTo>
                <a:lnTo>
                  <a:pt x="328" y="1499"/>
                </a:lnTo>
                <a:lnTo>
                  <a:pt x="367" y="1500"/>
                </a:lnTo>
                <a:lnTo>
                  <a:pt x="405" y="1499"/>
                </a:lnTo>
                <a:lnTo>
                  <a:pt x="443" y="1497"/>
                </a:lnTo>
                <a:lnTo>
                  <a:pt x="482" y="1491"/>
                </a:lnTo>
                <a:lnTo>
                  <a:pt x="511" y="1487"/>
                </a:lnTo>
                <a:lnTo>
                  <a:pt x="511" y="1485"/>
                </a:lnTo>
                <a:lnTo>
                  <a:pt x="511" y="1483"/>
                </a:lnTo>
                <a:lnTo>
                  <a:pt x="509" y="1483"/>
                </a:lnTo>
                <a:lnTo>
                  <a:pt x="509" y="1481"/>
                </a:lnTo>
                <a:lnTo>
                  <a:pt x="507" y="1479"/>
                </a:lnTo>
                <a:lnTo>
                  <a:pt x="507" y="1479"/>
                </a:lnTo>
                <a:lnTo>
                  <a:pt x="505" y="1477"/>
                </a:lnTo>
                <a:lnTo>
                  <a:pt x="505" y="1477"/>
                </a:lnTo>
                <a:lnTo>
                  <a:pt x="480" y="1481"/>
                </a:lnTo>
                <a:lnTo>
                  <a:pt x="442" y="1485"/>
                </a:lnTo>
                <a:lnTo>
                  <a:pt x="405" y="1489"/>
                </a:lnTo>
                <a:lnTo>
                  <a:pt x="367" y="1489"/>
                </a:lnTo>
                <a:lnTo>
                  <a:pt x="328" y="1489"/>
                </a:lnTo>
                <a:lnTo>
                  <a:pt x="292" y="1485"/>
                </a:lnTo>
                <a:lnTo>
                  <a:pt x="253" y="1481"/>
                </a:lnTo>
                <a:lnTo>
                  <a:pt x="217" y="1476"/>
                </a:lnTo>
                <a:lnTo>
                  <a:pt x="182" y="1466"/>
                </a:lnTo>
                <a:lnTo>
                  <a:pt x="146" y="1456"/>
                </a:lnTo>
                <a:lnTo>
                  <a:pt x="113" y="1445"/>
                </a:lnTo>
                <a:lnTo>
                  <a:pt x="79" y="1431"/>
                </a:lnTo>
                <a:lnTo>
                  <a:pt x="46" y="1416"/>
                </a:lnTo>
                <a:lnTo>
                  <a:pt x="14" y="1401"/>
                </a:lnTo>
                <a:lnTo>
                  <a:pt x="0" y="1393"/>
                </a:lnTo>
                <a:lnTo>
                  <a:pt x="0" y="1393"/>
                </a:lnTo>
                <a:lnTo>
                  <a:pt x="0" y="1395"/>
                </a:lnTo>
                <a:lnTo>
                  <a:pt x="0" y="1397"/>
                </a:lnTo>
                <a:lnTo>
                  <a:pt x="0" y="1399"/>
                </a:lnTo>
                <a:lnTo>
                  <a:pt x="0" y="1401"/>
                </a:lnTo>
                <a:lnTo>
                  <a:pt x="2" y="1403"/>
                </a:lnTo>
                <a:lnTo>
                  <a:pt x="2" y="1405"/>
                </a:lnTo>
                <a:lnTo>
                  <a:pt x="2" y="1405"/>
                </a:lnTo>
                <a:close/>
              </a:path>
            </a:pathLst>
          </a:custGeom>
          <a:solidFill>
            <a:srgbClr val="73c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Freeform 388"/>
          <p:cNvSpPr/>
          <p:nvPr/>
        </p:nvSpPr>
        <p:spPr>
          <a:xfrm>
            <a:off x="5761080" y="2058840"/>
            <a:ext cx="807840" cy="2367000"/>
          </a:xfrm>
          <a:custGeom>
            <a:avLst/>
            <a:gdLst>
              <a:gd name="textAreaLeft" fmla="*/ 0 w 807840"/>
              <a:gd name="textAreaRight" fmla="*/ 808200 w 807840"/>
              <a:gd name="textAreaTop" fmla="*/ 0 h 2367000"/>
              <a:gd name="textAreaBottom" fmla="*/ 2367000 h 2367000"/>
            </a:gdLst>
            <a:ahLst/>
            <a:rect l="textAreaLeft" t="textAreaTop" r="textAreaRight" b="textAreaBottom"/>
            <a:pathLst>
              <a:path w="509" h="1491">
                <a:moveTo>
                  <a:pt x="488" y="9"/>
                </a:moveTo>
                <a:lnTo>
                  <a:pt x="480" y="9"/>
                </a:lnTo>
                <a:lnTo>
                  <a:pt x="443" y="4"/>
                </a:lnTo>
                <a:lnTo>
                  <a:pt x="405" y="2"/>
                </a:lnTo>
                <a:lnTo>
                  <a:pt x="367" y="0"/>
                </a:lnTo>
                <a:lnTo>
                  <a:pt x="328" y="2"/>
                </a:lnTo>
                <a:lnTo>
                  <a:pt x="290" y="4"/>
                </a:lnTo>
                <a:lnTo>
                  <a:pt x="253" y="9"/>
                </a:lnTo>
                <a:lnTo>
                  <a:pt x="217" y="15"/>
                </a:lnTo>
                <a:lnTo>
                  <a:pt x="181" y="25"/>
                </a:lnTo>
                <a:lnTo>
                  <a:pt x="171" y="27"/>
                </a:lnTo>
                <a:lnTo>
                  <a:pt x="171" y="29"/>
                </a:lnTo>
                <a:lnTo>
                  <a:pt x="169" y="31"/>
                </a:lnTo>
                <a:lnTo>
                  <a:pt x="169" y="32"/>
                </a:lnTo>
                <a:lnTo>
                  <a:pt x="169" y="32"/>
                </a:lnTo>
                <a:lnTo>
                  <a:pt x="167" y="34"/>
                </a:lnTo>
                <a:lnTo>
                  <a:pt x="167" y="36"/>
                </a:lnTo>
                <a:lnTo>
                  <a:pt x="167" y="38"/>
                </a:lnTo>
                <a:lnTo>
                  <a:pt x="167" y="40"/>
                </a:lnTo>
                <a:lnTo>
                  <a:pt x="182" y="34"/>
                </a:lnTo>
                <a:lnTo>
                  <a:pt x="219" y="27"/>
                </a:lnTo>
                <a:lnTo>
                  <a:pt x="255" y="19"/>
                </a:lnTo>
                <a:lnTo>
                  <a:pt x="292" y="15"/>
                </a:lnTo>
                <a:lnTo>
                  <a:pt x="328" y="11"/>
                </a:lnTo>
                <a:lnTo>
                  <a:pt x="367" y="11"/>
                </a:lnTo>
                <a:lnTo>
                  <a:pt x="405" y="11"/>
                </a:lnTo>
                <a:lnTo>
                  <a:pt x="442" y="15"/>
                </a:lnTo>
                <a:lnTo>
                  <a:pt x="478" y="19"/>
                </a:lnTo>
                <a:lnTo>
                  <a:pt x="480" y="21"/>
                </a:lnTo>
                <a:lnTo>
                  <a:pt x="482" y="19"/>
                </a:lnTo>
                <a:lnTo>
                  <a:pt x="482" y="17"/>
                </a:lnTo>
                <a:lnTo>
                  <a:pt x="484" y="17"/>
                </a:lnTo>
                <a:lnTo>
                  <a:pt x="484" y="15"/>
                </a:lnTo>
                <a:lnTo>
                  <a:pt x="484" y="13"/>
                </a:lnTo>
                <a:lnTo>
                  <a:pt x="486" y="13"/>
                </a:lnTo>
                <a:lnTo>
                  <a:pt x="486" y="11"/>
                </a:lnTo>
                <a:lnTo>
                  <a:pt x="488" y="9"/>
                </a:lnTo>
                <a:close/>
                <a:moveTo>
                  <a:pt x="0" y="1395"/>
                </a:moveTo>
                <a:lnTo>
                  <a:pt x="12" y="1401"/>
                </a:lnTo>
                <a:lnTo>
                  <a:pt x="44" y="1418"/>
                </a:lnTo>
                <a:lnTo>
                  <a:pt x="77" y="1433"/>
                </a:lnTo>
                <a:lnTo>
                  <a:pt x="111" y="1447"/>
                </a:lnTo>
                <a:lnTo>
                  <a:pt x="146" y="1458"/>
                </a:lnTo>
                <a:lnTo>
                  <a:pt x="181" y="1468"/>
                </a:lnTo>
                <a:lnTo>
                  <a:pt x="217" y="1475"/>
                </a:lnTo>
                <a:lnTo>
                  <a:pt x="253" y="1483"/>
                </a:lnTo>
                <a:lnTo>
                  <a:pt x="290" y="1487"/>
                </a:lnTo>
                <a:lnTo>
                  <a:pt x="328" y="1491"/>
                </a:lnTo>
                <a:lnTo>
                  <a:pt x="367" y="1491"/>
                </a:lnTo>
                <a:lnTo>
                  <a:pt x="405" y="1491"/>
                </a:lnTo>
                <a:lnTo>
                  <a:pt x="443" y="1487"/>
                </a:lnTo>
                <a:lnTo>
                  <a:pt x="480" y="1483"/>
                </a:lnTo>
                <a:lnTo>
                  <a:pt x="509" y="1477"/>
                </a:lnTo>
                <a:lnTo>
                  <a:pt x="507" y="1475"/>
                </a:lnTo>
                <a:lnTo>
                  <a:pt x="507" y="1475"/>
                </a:lnTo>
                <a:lnTo>
                  <a:pt x="505" y="1473"/>
                </a:lnTo>
                <a:lnTo>
                  <a:pt x="505" y="1473"/>
                </a:lnTo>
                <a:lnTo>
                  <a:pt x="505" y="1472"/>
                </a:lnTo>
                <a:lnTo>
                  <a:pt x="503" y="1470"/>
                </a:lnTo>
                <a:lnTo>
                  <a:pt x="503" y="1470"/>
                </a:lnTo>
                <a:lnTo>
                  <a:pt x="501" y="1468"/>
                </a:lnTo>
                <a:lnTo>
                  <a:pt x="478" y="1472"/>
                </a:lnTo>
                <a:lnTo>
                  <a:pt x="442" y="1477"/>
                </a:lnTo>
                <a:lnTo>
                  <a:pt x="405" y="1479"/>
                </a:lnTo>
                <a:lnTo>
                  <a:pt x="367" y="1481"/>
                </a:lnTo>
                <a:lnTo>
                  <a:pt x="328" y="1479"/>
                </a:lnTo>
                <a:lnTo>
                  <a:pt x="292" y="1477"/>
                </a:lnTo>
                <a:lnTo>
                  <a:pt x="255" y="1472"/>
                </a:lnTo>
                <a:lnTo>
                  <a:pt x="219" y="1466"/>
                </a:lnTo>
                <a:lnTo>
                  <a:pt x="182" y="1458"/>
                </a:lnTo>
                <a:lnTo>
                  <a:pt x="148" y="1447"/>
                </a:lnTo>
                <a:lnTo>
                  <a:pt x="115" y="1435"/>
                </a:lnTo>
                <a:lnTo>
                  <a:pt x="81" y="1422"/>
                </a:lnTo>
                <a:lnTo>
                  <a:pt x="48" y="1408"/>
                </a:lnTo>
                <a:lnTo>
                  <a:pt x="17" y="1391"/>
                </a:lnTo>
                <a:lnTo>
                  <a:pt x="0" y="1381"/>
                </a:lnTo>
                <a:lnTo>
                  <a:pt x="0" y="1383"/>
                </a:lnTo>
                <a:lnTo>
                  <a:pt x="0" y="1385"/>
                </a:lnTo>
                <a:lnTo>
                  <a:pt x="0" y="1387"/>
                </a:lnTo>
                <a:lnTo>
                  <a:pt x="0" y="1389"/>
                </a:lnTo>
                <a:lnTo>
                  <a:pt x="0" y="1389"/>
                </a:lnTo>
                <a:lnTo>
                  <a:pt x="0" y="1391"/>
                </a:lnTo>
                <a:lnTo>
                  <a:pt x="0" y="1393"/>
                </a:lnTo>
                <a:lnTo>
                  <a:pt x="0" y="1395"/>
                </a:lnTo>
                <a:close/>
              </a:path>
            </a:pathLst>
          </a:custGeom>
          <a:solidFill>
            <a:srgbClr val="74c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Freeform 389"/>
          <p:cNvSpPr/>
          <p:nvPr/>
        </p:nvSpPr>
        <p:spPr>
          <a:xfrm>
            <a:off x="5757840" y="2068560"/>
            <a:ext cx="804960" cy="2347920"/>
          </a:xfrm>
          <a:custGeom>
            <a:avLst/>
            <a:gdLst>
              <a:gd name="textAreaLeft" fmla="*/ 0 w 804960"/>
              <a:gd name="textAreaRight" fmla="*/ 805320 w 804960"/>
              <a:gd name="textAreaTop" fmla="*/ 0 h 2347920"/>
              <a:gd name="textAreaBottom" fmla="*/ 2347920 h 2347920"/>
            </a:gdLst>
            <a:ahLst/>
            <a:rect l="textAreaLeft" t="textAreaTop" r="textAreaRight" b="textAreaBottom"/>
            <a:pathLst>
              <a:path w="507" h="1479">
                <a:moveTo>
                  <a:pt x="486" y="9"/>
                </a:moveTo>
                <a:lnTo>
                  <a:pt x="482" y="9"/>
                </a:lnTo>
                <a:lnTo>
                  <a:pt x="444" y="3"/>
                </a:lnTo>
                <a:lnTo>
                  <a:pt x="407" y="2"/>
                </a:lnTo>
                <a:lnTo>
                  <a:pt x="369" y="0"/>
                </a:lnTo>
                <a:lnTo>
                  <a:pt x="330" y="2"/>
                </a:lnTo>
                <a:lnTo>
                  <a:pt x="294" y="3"/>
                </a:lnTo>
                <a:lnTo>
                  <a:pt x="255" y="9"/>
                </a:lnTo>
                <a:lnTo>
                  <a:pt x="219" y="15"/>
                </a:lnTo>
                <a:lnTo>
                  <a:pt x="184" y="23"/>
                </a:lnTo>
                <a:lnTo>
                  <a:pt x="171" y="26"/>
                </a:lnTo>
                <a:lnTo>
                  <a:pt x="169" y="28"/>
                </a:lnTo>
                <a:lnTo>
                  <a:pt x="169" y="30"/>
                </a:lnTo>
                <a:lnTo>
                  <a:pt x="169" y="32"/>
                </a:lnTo>
                <a:lnTo>
                  <a:pt x="169" y="34"/>
                </a:lnTo>
                <a:lnTo>
                  <a:pt x="167" y="34"/>
                </a:lnTo>
                <a:lnTo>
                  <a:pt x="167" y="36"/>
                </a:lnTo>
                <a:lnTo>
                  <a:pt x="167" y="38"/>
                </a:lnTo>
                <a:lnTo>
                  <a:pt x="167" y="40"/>
                </a:lnTo>
                <a:lnTo>
                  <a:pt x="186" y="34"/>
                </a:lnTo>
                <a:lnTo>
                  <a:pt x="223" y="25"/>
                </a:lnTo>
                <a:lnTo>
                  <a:pt x="257" y="19"/>
                </a:lnTo>
                <a:lnTo>
                  <a:pt x="294" y="15"/>
                </a:lnTo>
                <a:lnTo>
                  <a:pt x="332" y="11"/>
                </a:lnTo>
                <a:lnTo>
                  <a:pt x="369" y="11"/>
                </a:lnTo>
                <a:lnTo>
                  <a:pt x="407" y="11"/>
                </a:lnTo>
                <a:lnTo>
                  <a:pt x="444" y="15"/>
                </a:lnTo>
                <a:lnTo>
                  <a:pt x="480" y="19"/>
                </a:lnTo>
                <a:lnTo>
                  <a:pt x="480" y="17"/>
                </a:lnTo>
                <a:lnTo>
                  <a:pt x="482" y="17"/>
                </a:lnTo>
                <a:lnTo>
                  <a:pt x="482" y="15"/>
                </a:lnTo>
                <a:lnTo>
                  <a:pt x="482" y="15"/>
                </a:lnTo>
                <a:lnTo>
                  <a:pt x="484" y="13"/>
                </a:lnTo>
                <a:lnTo>
                  <a:pt x="484" y="11"/>
                </a:lnTo>
                <a:lnTo>
                  <a:pt x="486" y="11"/>
                </a:lnTo>
                <a:lnTo>
                  <a:pt x="486" y="9"/>
                </a:lnTo>
                <a:close/>
                <a:moveTo>
                  <a:pt x="2" y="1383"/>
                </a:moveTo>
                <a:lnTo>
                  <a:pt x="16" y="1391"/>
                </a:lnTo>
                <a:lnTo>
                  <a:pt x="48" y="1406"/>
                </a:lnTo>
                <a:lnTo>
                  <a:pt x="81" y="1421"/>
                </a:lnTo>
                <a:lnTo>
                  <a:pt x="115" y="1435"/>
                </a:lnTo>
                <a:lnTo>
                  <a:pt x="148" y="1446"/>
                </a:lnTo>
                <a:lnTo>
                  <a:pt x="184" y="1456"/>
                </a:lnTo>
                <a:lnTo>
                  <a:pt x="219" y="1466"/>
                </a:lnTo>
                <a:lnTo>
                  <a:pt x="255" y="1471"/>
                </a:lnTo>
                <a:lnTo>
                  <a:pt x="294" y="1475"/>
                </a:lnTo>
                <a:lnTo>
                  <a:pt x="330" y="1479"/>
                </a:lnTo>
                <a:lnTo>
                  <a:pt x="369" y="1479"/>
                </a:lnTo>
                <a:lnTo>
                  <a:pt x="407" y="1479"/>
                </a:lnTo>
                <a:lnTo>
                  <a:pt x="444" y="1475"/>
                </a:lnTo>
                <a:lnTo>
                  <a:pt x="482" y="1471"/>
                </a:lnTo>
                <a:lnTo>
                  <a:pt x="507" y="1467"/>
                </a:lnTo>
                <a:lnTo>
                  <a:pt x="507" y="1466"/>
                </a:lnTo>
                <a:lnTo>
                  <a:pt x="505" y="1464"/>
                </a:lnTo>
                <a:lnTo>
                  <a:pt x="505" y="1464"/>
                </a:lnTo>
                <a:lnTo>
                  <a:pt x="503" y="1462"/>
                </a:lnTo>
                <a:lnTo>
                  <a:pt x="503" y="1460"/>
                </a:lnTo>
                <a:lnTo>
                  <a:pt x="501" y="1460"/>
                </a:lnTo>
                <a:lnTo>
                  <a:pt x="501" y="1458"/>
                </a:lnTo>
                <a:lnTo>
                  <a:pt x="501" y="1458"/>
                </a:lnTo>
                <a:lnTo>
                  <a:pt x="480" y="1460"/>
                </a:lnTo>
                <a:lnTo>
                  <a:pt x="444" y="1466"/>
                </a:lnTo>
                <a:lnTo>
                  <a:pt x="407" y="1467"/>
                </a:lnTo>
                <a:lnTo>
                  <a:pt x="369" y="1469"/>
                </a:lnTo>
                <a:lnTo>
                  <a:pt x="332" y="1467"/>
                </a:lnTo>
                <a:lnTo>
                  <a:pt x="294" y="1466"/>
                </a:lnTo>
                <a:lnTo>
                  <a:pt x="257" y="1460"/>
                </a:lnTo>
                <a:lnTo>
                  <a:pt x="223" y="1454"/>
                </a:lnTo>
                <a:lnTo>
                  <a:pt x="186" y="1446"/>
                </a:lnTo>
                <a:lnTo>
                  <a:pt x="152" y="1437"/>
                </a:lnTo>
                <a:lnTo>
                  <a:pt x="117" y="1425"/>
                </a:lnTo>
                <a:lnTo>
                  <a:pt x="85" y="1412"/>
                </a:lnTo>
                <a:lnTo>
                  <a:pt x="52" y="1396"/>
                </a:lnTo>
                <a:lnTo>
                  <a:pt x="21" y="1381"/>
                </a:lnTo>
                <a:lnTo>
                  <a:pt x="0" y="1370"/>
                </a:lnTo>
                <a:lnTo>
                  <a:pt x="0" y="1371"/>
                </a:lnTo>
                <a:lnTo>
                  <a:pt x="2" y="1373"/>
                </a:lnTo>
                <a:lnTo>
                  <a:pt x="2" y="1373"/>
                </a:lnTo>
                <a:lnTo>
                  <a:pt x="2" y="1375"/>
                </a:lnTo>
                <a:lnTo>
                  <a:pt x="2" y="1377"/>
                </a:lnTo>
                <a:lnTo>
                  <a:pt x="2" y="1379"/>
                </a:lnTo>
                <a:lnTo>
                  <a:pt x="2" y="1381"/>
                </a:lnTo>
                <a:lnTo>
                  <a:pt x="2" y="1383"/>
                </a:lnTo>
                <a:close/>
              </a:path>
            </a:pathLst>
          </a:custGeom>
          <a:solidFill>
            <a:srgbClr val="75c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Freeform 390"/>
          <p:cNvSpPr/>
          <p:nvPr/>
        </p:nvSpPr>
        <p:spPr>
          <a:xfrm>
            <a:off x="5757840" y="2076480"/>
            <a:ext cx="798480" cy="2333520"/>
          </a:xfrm>
          <a:custGeom>
            <a:avLst/>
            <a:gdLst>
              <a:gd name="textAreaLeft" fmla="*/ 0 w 798480"/>
              <a:gd name="textAreaRight" fmla="*/ 798840 w 798480"/>
              <a:gd name="textAreaTop" fmla="*/ 0 h 2333520"/>
              <a:gd name="textAreaBottom" fmla="*/ 2333880 h 2333520"/>
            </a:gdLst>
            <a:ahLst/>
            <a:rect l="textAreaLeft" t="textAreaTop" r="textAreaRight" b="textAreaBottom"/>
            <a:pathLst>
              <a:path w="503" h="1470">
                <a:moveTo>
                  <a:pt x="482" y="10"/>
                </a:moveTo>
                <a:lnTo>
                  <a:pt x="480" y="8"/>
                </a:lnTo>
                <a:lnTo>
                  <a:pt x="444" y="4"/>
                </a:lnTo>
                <a:lnTo>
                  <a:pt x="407" y="0"/>
                </a:lnTo>
                <a:lnTo>
                  <a:pt x="369" y="0"/>
                </a:lnTo>
                <a:lnTo>
                  <a:pt x="330" y="0"/>
                </a:lnTo>
                <a:lnTo>
                  <a:pt x="294" y="4"/>
                </a:lnTo>
                <a:lnTo>
                  <a:pt x="257" y="8"/>
                </a:lnTo>
                <a:lnTo>
                  <a:pt x="221" y="16"/>
                </a:lnTo>
                <a:lnTo>
                  <a:pt x="184" y="23"/>
                </a:lnTo>
                <a:lnTo>
                  <a:pt x="169" y="29"/>
                </a:lnTo>
                <a:lnTo>
                  <a:pt x="167" y="29"/>
                </a:lnTo>
                <a:lnTo>
                  <a:pt x="167" y="31"/>
                </a:lnTo>
                <a:lnTo>
                  <a:pt x="167" y="33"/>
                </a:lnTo>
                <a:lnTo>
                  <a:pt x="167" y="35"/>
                </a:lnTo>
                <a:lnTo>
                  <a:pt x="165" y="37"/>
                </a:lnTo>
                <a:lnTo>
                  <a:pt x="165" y="37"/>
                </a:lnTo>
                <a:lnTo>
                  <a:pt x="165" y="39"/>
                </a:lnTo>
                <a:lnTo>
                  <a:pt x="163" y="41"/>
                </a:lnTo>
                <a:lnTo>
                  <a:pt x="188" y="33"/>
                </a:lnTo>
                <a:lnTo>
                  <a:pt x="223" y="25"/>
                </a:lnTo>
                <a:lnTo>
                  <a:pt x="259" y="20"/>
                </a:lnTo>
                <a:lnTo>
                  <a:pt x="296" y="14"/>
                </a:lnTo>
                <a:lnTo>
                  <a:pt x="332" y="12"/>
                </a:lnTo>
                <a:lnTo>
                  <a:pt x="369" y="10"/>
                </a:lnTo>
                <a:lnTo>
                  <a:pt x="405" y="12"/>
                </a:lnTo>
                <a:lnTo>
                  <a:pt x="444" y="14"/>
                </a:lnTo>
                <a:lnTo>
                  <a:pt x="476" y="20"/>
                </a:lnTo>
                <a:lnTo>
                  <a:pt x="476" y="18"/>
                </a:lnTo>
                <a:lnTo>
                  <a:pt x="478" y="16"/>
                </a:lnTo>
                <a:lnTo>
                  <a:pt x="478" y="16"/>
                </a:lnTo>
                <a:lnTo>
                  <a:pt x="480" y="14"/>
                </a:lnTo>
                <a:lnTo>
                  <a:pt x="480" y="12"/>
                </a:lnTo>
                <a:lnTo>
                  <a:pt x="482" y="12"/>
                </a:lnTo>
                <a:lnTo>
                  <a:pt x="482" y="10"/>
                </a:lnTo>
                <a:lnTo>
                  <a:pt x="482" y="10"/>
                </a:lnTo>
                <a:close/>
                <a:moveTo>
                  <a:pt x="2" y="1370"/>
                </a:moveTo>
                <a:lnTo>
                  <a:pt x="19" y="1380"/>
                </a:lnTo>
                <a:lnTo>
                  <a:pt x="50" y="1397"/>
                </a:lnTo>
                <a:lnTo>
                  <a:pt x="83" y="1411"/>
                </a:lnTo>
                <a:lnTo>
                  <a:pt x="117" y="1424"/>
                </a:lnTo>
                <a:lnTo>
                  <a:pt x="150" y="1436"/>
                </a:lnTo>
                <a:lnTo>
                  <a:pt x="184" y="1447"/>
                </a:lnTo>
                <a:lnTo>
                  <a:pt x="221" y="1455"/>
                </a:lnTo>
                <a:lnTo>
                  <a:pt x="257" y="1461"/>
                </a:lnTo>
                <a:lnTo>
                  <a:pt x="294" y="1466"/>
                </a:lnTo>
                <a:lnTo>
                  <a:pt x="330" y="1468"/>
                </a:lnTo>
                <a:lnTo>
                  <a:pt x="369" y="1470"/>
                </a:lnTo>
                <a:lnTo>
                  <a:pt x="407" y="1468"/>
                </a:lnTo>
                <a:lnTo>
                  <a:pt x="444" y="1466"/>
                </a:lnTo>
                <a:lnTo>
                  <a:pt x="480" y="1461"/>
                </a:lnTo>
                <a:lnTo>
                  <a:pt x="503" y="1457"/>
                </a:lnTo>
                <a:lnTo>
                  <a:pt x="503" y="1455"/>
                </a:lnTo>
                <a:lnTo>
                  <a:pt x="501" y="1455"/>
                </a:lnTo>
                <a:lnTo>
                  <a:pt x="501" y="1453"/>
                </a:lnTo>
                <a:lnTo>
                  <a:pt x="501" y="1453"/>
                </a:lnTo>
                <a:lnTo>
                  <a:pt x="499" y="1451"/>
                </a:lnTo>
                <a:lnTo>
                  <a:pt x="499" y="1449"/>
                </a:lnTo>
                <a:lnTo>
                  <a:pt x="497" y="1449"/>
                </a:lnTo>
                <a:lnTo>
                  <a:pt x="497" y="1447"/>
                </a:lnTo>
                <a:lnTo>
                  <a:pt x="480" y="1451"/>
                </a:lnTo>
                <a:lnTo>
                  <a:pt x="444" y="1455"/>
                </a:lnTo>
                <a:lnTo>
                  <a:pt x="405" y="1459"/>
                </a:lnTo>
                <a:lnTo>
                  <a:pt x="369" y="1459"/>
                </a:lnTo>
                <a:lnTo>
                  <a:pt x="332" y="1459"/>
                </a:lnTo>
                <a:lnTo>
                  <a:pt x="296" y="1455"/>
                </a:lnTo>
                <a:lnTo>
                  <a:pt x="259" y="1451"/>
                </a:lnTo>
                <a:lnTo>
                  <a:pt x="223" y="1443"/>
                </a:lnTo>
                <a:lnTo>
                  <a:pt x="188" y="1436"/>
                </a:lnTo>
                <a:lnTo>
                  <a:pt x="154" y="1426"/>
                </a:lnTo>
                <a:lnTo>
                  <a:pt x="119" y="1414"/>
                </a:lnTo>
                <a:lnTo>
                  <a:pt x="87" y="1401"/>
                </a:lnTo>
                <a:lnTo>
                  <a:pt x="56" y="1388"/>
                </a:lnTo>
                <a:lnTo>
                  <a:pt x="23" y="1370"/>
                </a:lnTo>
                <a:lnTo>
                  <a:pt x="0" y="1357"/>
                </a:lnTo>
                <a:lnTo>
                  <a:pt x="0" y="1359"/>
                </a:lnTo>
                <a:lnTo>
                  <a:pt x="0" y="1361"/>
                </a:lnTo>
                <a:lnTo>
                  <a:pt x="0" y="1363"/>
                </a:lnTo>
                <a:lnTo>
                  <a:pt x="0" y="1365"/>
                </a:lnTo>
                <a:lnTo>
                  <a:pt x="0" y="1366"/>
                </a:lnTo>
                <a:lnTo>
                  <a:pt x="2" y="1368"/>
                </a:lnTo>
                <a:lnTo>
                  <a:pt x="2" y="1368"/>
                </a:lnTo>
                <a:lnTo>
                  <a:pt x="2" y="1370"/>
                </a:lnTo>
                <a:close/>
              </a:path>
            </a:pathLst>
          </a:custGeom>
          <a:solidFill>
            <a:srgbClr val="76c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Freeform 391"/>
          <p:cNvSpPr/>
          <p:nvPr/>
        </p:nvSpPr>
        <p:spPr>
          <a:xfrm>
            <a:off x="5757840" y="2085840"/>
            <a:ext cx="795240" cy="2314800"/>
          </a:xfrm>
          <a:custGeom>
            <a:avLst/>
            <a:gdLst>
              <a:gd name="textAreaLeft" fmla="*/ 0 w 795240"/>
              <a:gd name="textAreaRight" fmla="*/ 795600 w 795240"/>
              <a:gd name="textAreaTop" fmla="*/ 0 h 2314800"/>
              <a:gd name="textAreaBottom" fmla="*/ 2315160 h 2314800"/>
            </a:gdLst>
            <a:ahLst/>
            <a:rect l="textAreaLeft" t="textAreaTop" r="textAreaRight" b="textAreaBottom"/>
            <a:pathLst>
              <a:path w="501" h="1458">
                <a:moveTo>
                  <a:pt x="480" y="8"/>
                </a:moveTo>
                <a:lnTo>
                  <a:pt x="444" y="4"/>
                </a:lnTo>
                <a:lnTo>
                  <a:pt x="407" y="0"/>
                </a:lnTo>
                <a:lnTo>
                  <a:pt x="369" y="0"/>
                </a:lnTo>
                <a:lnTo>
                  <a:pt x="332" y="0"/>
                </a:lnTo>
                <a:lnTo>
                  <a:pt x="294" y="4"/>
                </a:lnTo>
                <a:lnTo>
                  <a:pt x="257" y="8"/>
                </a:lnTo>
                <a:lnTo>
                  <a:pt x="223" y="14"/>
                </a:lnTo>
                <a:lnTo>
                  <a:pt x="186" y="23"/>
                </a:lnTo>
                <a:lnTo>
                  <a:pt x="167" y="29"/>
                </a:lnTo>
                <a:lnTo>
                  <a:pt x="165" y="31"/>
                </a:lnTo>
                <a:lnTo>
                  <a:pt x="165" y="31"/>
                </a:lnTo>
                <a:lnTo>
                  <a:pt x="165" y="33"/>
                </a:lnTo>
                <a:lnTo>
                  <a:pt x="163" y="35"/>
                </a:lnTo>
                <a:lnTo>
                  <a:pt x="163" y="37"/>
                </a:lnTo>
                <a:lnTo>
                  <a:pt x="163" y="39"/>
                </a:lnTo>
                <a:lnTo>
                  <a:pt x="163" y="39"/>
                </a:lnTo>
                <a:lnTo>
                  <a:pt x="161" y="40"/>
                </a:lnTo>
                <a:lnTo>
                  <a:pt x="190" y="33"/>
                </a:lnTo>
                <a:lnTo>
                  <a:pt x="225" y="25"/>
                </a:lnTo>
                <a:lnTo>
                  <a:pt x="259" y="19"/>
                </a:lnTo>
                <a:lnTo>
                  <a:pt x="296" y="14"/>
                </a:lnTo>
                <a:lnTo>
                  <a:pt x="332" y="12"/>
                </a:lnTo>
                <a:lnTo>
                  <a:pt x="369" y="10"/>
                </a:lnTo>
                <a:lnTo>
                  <a:pt x="405" y="12"/>
                </a:lnTo>
                <a:lnTo>
                  <a:pt x="442" y="14"/>
                </a:lnTo>
                <a:lnTo>
                  <a:pt x="472" y="17"/>
                </a:lnTo>
                <a:lnTo>
                  <a:pt x="474" y="17"/>
                </a:lnTo>
                <a:lnTo>
                  <a:pt x="474" y="15"/>
                </a:lnTo>
                <a:lnTo>
                  <a:pt x="476" y="14"/>
                </a:lnTo>
                <a:lnTo>
                  <a:pt x="476" y="14"/>
                </a:lnTo>
                <a:lnTo>
                  <a:pt x="476" y="12"/>
                </a:lnTo>
                <a:lnTo>
                  <a:pt x="478" y="10"/>
                </a:lnTo>
                <a:lnTo>
                  <a:pt x="478" y="10"/>
                </a:lnTo>
                <a:lnTo>
                  <a:pt x="480" y="8"/>
                </a:lnTo>
                <a:close/>
                <a:moveTo>
                  <a:pt x="0" y="1359"/>
                </a:moveTo>
                <a:lnTo>
                  <a:pt x="21" y="1370"/>
                </a:lnTo>
                <a:lnTo>
                  <a:pt x="52" y="1385"/>
                </a:lnTo>
                <a:lnTo>
                  <a:pt x="85" y="1401"/>
                </a:lnTo>
                <a:lnTo>
                  <a:pt x="117" y="1414"/>
                </a:lnTo>
                <a:lnTo>
                  <a:pt x="152" y="1426"/>
                </a:lnTo>
                <a:lnTo>
                  <a:pt x="186" y="1435"/>
                </a:lnTo>
                <a:lnTo>
                  <a:pt x="223" y="1443"/>
                </a:lnTo>
                <a:lnTo>
                  <a:pt x="257" y="1449"/>
                </a:lnTo>
                <a:lnTo>
                  <a:pt x="294" y="1455"/>
                </a:lnTo>
                <a:lnTo>
                  <a:pt x="332" y="1456"/>
                </a:lnTo>
                <a:lnTo>
                  <a:pt x="369" y="1458"/>
                </a:lnTo>
                <a:lnTo>
                  <a:pt x="407" y="1456"/>
                </a:lnTo>
                <a:lnTo>
                  <a:pt x="444" y="1455"/>
                </a:lnTo>
                <a:lnTo>
                  <a:pt x="480" y="1449"/>
                </a:lnTo>
                <a:lnTo>
                  <a:pt x="501" y="1447"/>
                </a:lnTo>
                <a:lnTo>
                  <a:pt x="499" y="1445"/>
                </a:lnTo>
                <a:lnTo>
                  <a:pt x="499" y="1443"/>
                </a:lnTo>
                <a:lnTo>
                  <a:pt x="497" y="1443"/>
                </a:lnTo>
                <a:lnTo>
                  <a:pt x="497" y="1441"/>
                </a:lnTo>
                <a:lnTo>
                  <a:pt x="497" y="1439"/>
                </a:lnTo>
                <a:lnTo>
                  <a:pt x="495" y="1439"/>
                </a:lnTo>
                <a:lnTo>
                  <a:pt x="495" y="1437"/>
                </a:lnTo>
                <a:lnTo>
                  <a:pt x="493" y="1435"/>
                </a:lnTo>
                <a:lnTo>
                  <a:pt x="478" y="1439"/>
                </a:lnTo>
                <a:lnTo>
                  <a:pt x="442" y="1443"/>
                </a:lnTo>
                <a:lnTo>
                  <a:pt x="405" y="1447"/>
                </a:lnTo>
                <a:lnTo>
                  <a:pt x="369" y="1447"/>
                </a:lnTo>
                <a:lnTo>
                  <a:pt x="332" y="1447"/>
                </a:lnTo>
                <a:lnTo>
                  <a:pt x="296" y="1443"/>
                </a:lnTo>
                <a:lnTo>
                  <a:pt x="259" y="1439"/>
                </a:lnTo>
                <a:lnTo>
                  <a:pt x="225" y="1433"/>
                </a:lnTo>
                <a:lnTo>
                  <a:pt x="190" y="1424"/>
                </a:lnTo>
                <a:lnTo>
                  <a:pt x="156" y="1414"/>
                </a:lnTo>
                <a:lnTo>
                  <a:pt x="121" y="1405"/>
                </a:lnTo>
                <a:lnTo>
                  <a:pt x="88" y="1391"/>
                </a:lnTo>
                <a:lnTo>
                  <a:pt x="58" y="1376"/>
                </a:lnTo>
                <a:lnTo>
                  <a:pt x="27" y="1360"/>
                </a:lnTo>
                <a:lnTo>
                  <a:pt x="0" y="1345"/>
                </a:lnTo>
                <a:lnTo>
                  <a:pt x="0" y="1347"/>
                </a:lnTo>
                <a:lnTo>
                  <a:pt x="0" y="1349"/>
                </a:lnTo>
                <a:lnTo>
                  <a:pt x="0" y="1351"/>
                </a:lnTo>
                <a:lnTo>
                  <a:pt x="0" y="1351"/>
                </a:lnTo>
                <a:lnTo>
                  <a:pt x="0" y="1353"/>
                </a:lnTo>
                <a:lnTo>
                  <a:pt x="0" y="1355"/>
                </a:lnTo>
                <a:lnTo>
                  <a:pt x="0" y="1357"/>
                </a:lnTo>
                <a:lnTo>
                  <a:pt x="0" y="1359"/>
                </a:lnTo>
                <a:close/>
              </a:path>
            </a:pathLst>
          </a:custGeom>
          <a:solidFill>
            <a:srgbClr val="77c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Freeform 392"/>
          <p:cNvSpPr/>
          <p:nvPr/>
        </p:nvSpPr>
        <p:spPr>
          <a:xfrm>
            <a:off x="5754600" y="2095560"/>
            <a:ext cx="792360" cy="2297160"/>
          </a:xfrm>
          <a:custGeom>
            <a:avLst/>
            <a:gdLst>
              <a:gd name="textAreaLeft" fmla="*/ 0 w 792360"/>
              <a:gd name="textAreaRight" fmla="*/ 792720 w 792360"/>
              <a:gd name="textAreaTop" fmla="*/ 0 h 2297160"/>
              <a:gd name="textAreaBottom" fmla="*/ 2297520 h 2297160"/>
            </a:gdLst>
            <a:ahLst/>
            <a:rect l="textAreaLeft" t="textAreaTop" r="textAreaRight" b="textAreaBottom"/>
            <a:pathLst>
              <a:path w="499" h="1447">
                <a:moveTo>
                  <a:pt x="478" y="8"/>
                </a:moveTo>
                <a:lnTo>
                  <a:pt x="446" y="2"/>
                </a:lnTo>
                <a:lnTo>
                  <a:pt x="407" y="0"/>
                </a:lnTo>
                <a:lnTo>
                  <a:pt x="371" y="0"/>
                </a:lnTo>
                <a:lnTo>
                  <a:pt x="334" y="0"/>
                </a:lnTo>
                <a:lnTo>
                  <a:pt x="298" y="2"/>
                </a:lnTo>
                <a:lnTo>
                  <a:pt x="261" y="8"/>
                </a:lnTo>
                <a:lnTo>
                  <a:pt x="225" y="13"/>
                </a:lnTo>
                <a:lnTo>
                  <a:pt x="190" y="21"/>
                </a:lnTo>
                <a:lnTo>
                  <a:pt x="165" y="29"/>
                </a:lnTo>
                <a:lnTo>
                  <a:pt x="165" y="31"/>
                </a:lnTo>
                <a:lnTo>
                  <a:pt x="165" y="33"/>
                </a:lnTo>
                <a:lnTo>
                  <a:pt x="165" y="33"/>
                </a:lnTo>
                <a:lnTo>
                  <a:pt x="163" y="34"/>
                </a:lnTo>
                <a:lnTo>
                  <a:pt x="163" y="36"/>
                </a:lnTo>
                <a:lnTo>
                  <a:pt x="163" y="38"/>
                </a:lnTo>
                <a:lnTo>
                  <a:pt x="161" y="40"/>
                </a:lnTo>
                <a:lnTo>
                  <a:pt x="161" y="40"/>
                </a:lnTo>
                <a:lnTo>
                  <a:pt x="192" y="33"/>
                </a:lnTo>
                <a:lnTo>
                  <a:pt x="227" y="25"/>
                </a:lnTo>
                <a:lnTo>
                  <a:pt x="261" y="17"/>
                </a:lnTo>
                <a:lnTo>
                  <a:pt x="298" y="13"/>
                </a:lnTo>
                <a:lnTo>
                  <a:pt x="334" y="11"/>
                </a:lnTo>
                <a:lnTo>
                  <a:pt x="371" y="9"/>
                </a:lnTo>
                <a:lnTo>
                  <a:pt x="407" y="11"/>
                </a:lnTo>
                <a:lnTo>
                  <a:pt x="444" y="13"/>
                </a:lnTo>
                <a:lnTo>
                  <a:pt x="472" y="17"/>
                </a:lnTo>
                <a:lnTo>
                  <a:pt x="472" y="15"/>
                </a:lnTo>
                <a:lnTo>
                  <a:pt x="474" y="15"/>
                </a:lnTo>
                <a:lnTo>
                  <a:pt x="474" y="13"/>
                </a:lnTo>
                <a:lnTo>
                  <a:pt x="474" y="11"/>
                </a:lnTo>
                <a:lnTo>
                  <a:pt x="476" y="11"/>
                </a:lnTo>
                <a:lnTo>
                  <a:pt x="476" y="9"/>
                </a:lnTo>
                <a:lnTo>
                  <a:pt x="478" y="8"/>
                </a:lnTo>
                <a:lnTo>
                  <a:pt x="478" y="8"/>
                </a:lnTo>
                <a:close/>
                <a:moveTo>
                  <a:pt x="2" y="1345"/>
                </a:moveTo>
                <a:lnTo>
                  <a:pt x="25" y="1358"/>
                </a:lnTo>
                <a:lnTo>
                  <a:pt x="58" y="1376"/>
                </a:lnTo>
                <a:lnTo>
                  <a:pt x="89" y="1389"/>
                </a:lnTo>
                <a:lnTo>
                  <a:pt x="121" y="1402"/>
                </a:lnTo>
                <a:lnTo>
                  <a:pt x="156" y="1414"/>
                </a:lnTo>
                <a:lnTo>
                  <a:pt x="190" y="1424"/>
                </a:lnTo>
                <a:lnTo>
                  <a:pt x="225" y="1431"/>
                </a:lnTo>
                <a:lnTo>
                  <a:pt x="261" y="1439"/>
                </a:lnTo>
                <a:lnTo>
                  <a:pt x="298" y="1443"/>
                </a:lnTo>
                <a:lnTo>
                  <a:pt x="334" y="1447"/>
                </a:lnTo>
                <a:lnTo>
                  <a:pt x="371" y="1447"/>
                </a:lnTo>
                <a:lnTo>
                  <a:pt x="407" y="1447"/>
                </a:lnTo>
                <a:lnTo>
                  <a:pt x="446" y="1443"/>
                </a:lnTo>
                <a:lnTo>
                  <a:pt x="482" y="1439"/>
                </a:lnTo>
                <a:lnTo>
                  <a:pt x="499" y="1435"/>
                </a:lnTo>
                <a:lnTo>
                  <a:pt x="499" y="1433"/>
                </a:lnTo>
                <a:lnTo>
                  <a:pt x="497" y="1433"/>
                </a:lnTo>
                <a:lnTo>
                  <a:pt x="497" y="1431"/>
                </a:lnTo>
                <a:lnTo>
                  <a:pt x="495" y="1429"/>
                </a:lnTo>
                <a:lnTo>
                  <a:pt x="495" y="1429"/>
                </a:lnTo>
                <a:lnTo>
                  <a:pt x="494" y="1427"/>
                </a:lnTo>
                <a:lnTo>
                  <a:pt x="494" y="1427"/>
                </a:lnTo>
                <a:lnTo>
                  <a:pt x="494" y="1425"/>
                </a:lnTo>
                <a:lnTo>
                  <a:pt x="480" y="1427"/>
                </a:lnTo>
                <a:lnTo>
                  <a:pt x="444" y="1433"/>
                </a:lnTo>
                <a:lnTo>
                  <a:pt x="407" y="1435"/>
                </a:lnTo>
                <a:lnTo>
                  <a:pt x="371" y="1435"/>
                </a:lnTo>
                <a:lnTo>
                  <a:pt x="334" y="1435"/>
                </a:lnTo>
                <a:lnTo>
                  <a:pt x="298" y="1433"/>
                </a:lnTo>
                <a:lnTo>
                  <a:pt x="261" y="1427"/>
                </a:lnTo>
                <a:lnTo>
                  <a:pt x="227" y="1422"/>
                </a:lnTo>
                <a:lnTo>
                  <a:pt x="192" y="1414"/>
                </a:lnTo>
                <a:lnTo>
                  <a:pt x="160" y="1404"/>
                </a:lnTo>
                <a:lnTo>
                  <a:pt x="125" y="1393"/>
                </a:lnTo>
                <a:lnTo>
                  <a:pt x="92" y="1379"/>
                </a:lnTo>
                <a:lnTo>
                  <a:pt x="62" y="1366"/>
                </a:lnTo>
                <a:lnTo>
                  <a:pt x="31" y="1351"/>
                </a:lnTo>
                <a:lnTo>
                  <a:pt x="0" y="1333"/>
                </a:lnTo>
                <a:lnTo>
                  <a:pt x="2" y="1335"/>
                </a:lnTo>
                <a:lnTo>
                  <a:pt x="2" y="1335"/>
                </a:lnTo>
                <a:lnTo>
                  <a:pt x="2" y="1337"/>
                </a:lnTo>
                <a:lnTo>
                  <a:pt x="2" y="1339"/>
                </a:lnTo>
                <a:lnTo>
                  <a:pt x="2" y="1341"/>
                </a:lnTo>
                <a:lnTo>
                  <a:pt x="2" y="1343"/>
                </a:lnTo>
                <a:lnTo>
                  <a:pt x="2" y="1345"/>
                </a:lnTo>
                <a:lnTo>
                  <a:pt x="2" y="1345"/>
                </a:lnTo>
                <a:close/>
              </a:path>
            </a:pathLst>
          </a:custGeom>
          <a:solidFill>
            <a:srgbClr val="78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Freeform 393"/>
          <p:cNvSpPr/>
          <p:nvPr/>
        </p:nvSpPr>
        <p:spPr>
          <a:xfrm>
            <a:off x="5754600" y="2101680"/>
            <a:ext cx="785880" cy="2281320"/>
          </a:xfrm>
          <a:custGeom>
            <a:avLst/>
            <a:gdLst>
              <a:gd name="textAreaLeft" fmla="*/ 0 w 785880"/>
              <a:gd name="textAreaRight" fmla="*/ 786240 w 785880"/>
              <a:gd name="textAreaTop" fmla="*/ 0 h 2281320"/>
              <a:gd name="textAreaBottom" fmla="*/ 2281680 h 2281320"/>
            </a:gdLst>
            <a:ahLst/>
            <a:rect l="textAreaLeft" t="textAreaTop" r="textAreaRight" b="textAreaBottom"/>
            <a:pathLst>
              <a:path w="495" h="1437">
                <a:moveTo>
                  <a:pt x="474" y="7"/>
                </a:moveTo>
                <a:lnTo>
                  <a:pt x="444" y="4"/>
                </a:lnTo>
                <a:lnTo>
                  <a:pt x="407" y="2"/>
                </a:lnTo>
                <a:lnTo>
                  <a:pt x="371" y="0"/>
                </a:lnTo>
                <a:lnTo>
                  <a:pt x="334" y="2"/>
                </a:lnTo>
                <a:lnTo>
                  <a:pt x="298" y="4"/>
                </a:lnTo>
                <a:lnTo>
                  <a:pt x="261" y="9"/>
                </a:lnTo>
                <a:lnTo>
                  <a:pt x="227" y="15"/>
                </a:lnTo>
                <a:lnTo>
                  <a:pt x="192" y="23"/>
                </a:lnTo>
                <a:lnTo>
                  <a:pt x="163" y="30"/>
                </a:lnTo>
                <a:lnTo>
                  <a:pt x="163" y="32"/>
                </a:lnTo>
                <a:lnTo>
                  <a:pt x="163" y="34"/>
                </a:lnTo>
                <a:lnTo>
                  <a:pt x="161" y="36"/>
                </a:lnTo>
                <a:lnTo>
                  <a:pt x="161" y="36"/>
                </a:lnTo>
                <a:lnTo>
                  <a:pt x="161" y="38"/>
                </a:lnTo>
                <a:lnTo>
                  <a:pt x="161" y="40"/>
                </a:lnTo>
                <a:lnTo>
                  <a:pt x="160" y="42"/>
                </a:lnTo>
                <a:lnTo>
                  <a:pt x="160" y="42"/>
                </a:lnTo>
                <a:lnTo>
                  <a:pt x="160" y="42"/>
                </a:lnTo>
                <a:lnTo>
                  <a:pt x="194" y="32"/>
                </a:lnTo>
                <a:lnTo>
                  <a:pt x="229" y="25"/>
                </a:lnTo>
                <a:lnTo>
                  <a:pt x="263" y="19"/>
                </a:lnTo>
                <a:lnTo>
                  <a:pt x="298" y="15"/>
                </a:lnTo>
                <a:lnTo>
                  <a:pt x="334" y="11"/>
                </a:lnTo>
                <a:lnTo>
                  <a:pt x="371" y="11"/>
                </a:lnTo>
                <a:lnTo>
                  <a:pt x="407" y="11"/>
                </a:lnTo>
                <a:lnTo>
                  <a:pt x="444" y="15"/>
                </a:lnTo>
                <a:lnTo>
                  <a:pt x="469" y="17"/>
                </a:lnTo>
                <a:lnTo>
                  <a:pt x="471" y="17"/>
                </a:lnTo>
                <a:lnTo>
                  <a:pt x="471" y="15"/>
                </a:lnTo>
                <a:lnTo>
                  <a:pt x="471" y="13"/>
                </a:lnTo>
                <a:lnTo>
                  <a:pt x="472" y="13"/>
                </a:lnTo>
                <a:lnTo>
                  <a:pt x="472" y="11"/>
                </a:lnTo>
                <a:lnTo>
                  <a:pt x="474" y="11"/>
                </a:lnTo>
                <a:lnTo>
                  <a:pt x="474" y="9"/>
                </a:lnTo>
                <a:lnTo>
                  <a:pt x="474" y="7"/>
                </a:lnTo>
                <a:close/>
                <a:moveTo>
                  <a:pt x="2" y="1335"/>
                </a:moveTo>
                <a:lnTo>
                  <a:pt x="29" y="1350"/>
                </a:lnTo>
                <a:lnTo>
                  <a:pt x="60" y="1366"/>
                </a:lnTo>
                <a:lnTo>
                  <a:pt x="90" y="1381"/>
                </a:lnTo>
                <a:lnTo>
                  <a:pt x="123" y="1395"/>
                </a:lnTo>
                <a:lnTo>
                  <a:pt x="158" y="1404"/>
                </a:lnTo>
                <a:lnTo>
                  <a:pt x="192" y="1414"/>
                </a:lnTo>
                <a:lnTo>
                  <a:pt x="227" y="1423"/>
                </a:lnTo>
                <a:lnTo>
                  <a:pt x="261" y="1429"/>
                </a:lnTo>
                <a:lnTo>
                  <a:pt x="298" y="1433"/>
                </a:lnTo>
                <a:lnTo>
                  <a:pt x="334" y="1437"/>
                </a:lnTo>
                <a:lnTo>
                  <a:pt x="371" y="1437"/>
                </a:lnTo>
                <a:lnTo>
                  <a:pt x="407" y="1437"/>
                </a:lnTo>
                <a:lnTo>
                  <a:pt x="444" y="1433"/>
                </a:lnTo>
                <a:lnTo>
                  <a:pt x="480" y="1429"/>
                </a:lnTo>
                <a:lnTo>
                  <a:pt x="495" y="1425"/>
                </a:lnTo>
                <a:lnTo>
                  <a:pt x="495" y="1425"/>
                </a:lnTo>
                <a:lnTo>
                  <a:pt x="494" y="1423"/>
                </a:lnTo>
                <a:lnTo>
                  <a:pt x="494" y="1423"/>
                </a:lnTo>
                <a:lnTo>
                  <a:pt x="494" y="1421"/>
                </a:lnTo>
                <a:lnTo>
                  <a:pt x="492" y="1420"/>
                </a:lnTo>
                <a:lnTo>
                  <a:pt x="492" y="1420"/>
                </a:lnTo>
                <a:lnTo>
                  <a:pt x="490" y="1418"/>
                </a:lnTo>
                <a:lnTo>
                  <a:pt x="490" y="1416"/>
                </a:lnTo>
                <a:lnTo>
                  <a:pt x="478" y="1418"/>
                </a:lnTo>
                <a:lnTo>
                  <a:pt x="444" y="1423"/>
                </a:lnTo>
                <a:lnTo>
                  <a:pt x="407" y="1425"/>
                </a:lnTo>
                <a:lnTo>
                  <a:pt x="371" y="1427"/>
                </a:lnTo>
                <a:lnTo>
                  <a:pt x="334" y="1425"/>
                </a:lnTo>
                <a:lnTo>
                  <a:pt x="298" y="1423"/>
                </a:lnTo>
                <a:lnTo>
                  <a:pt x="263" y="1418"/>
                </a:lnTo>
                <a:lnTo>
                  <a:pt x="229" y="1412"/>
                </a:lnTo>
                <a:lnTo>
                  <a:pt x="194" y="1404"/>
                </a:lnTo>
                <a:lnTo>
                  <a:pt x="160" y="1395"/>
                </a:lnTo>
                <a:lnTo>
                  <a:pt x="127" y="1383"/>
                </a:lnTo>
                <a:lnTo>
                  <a:pt x="96" y="1372"/>
                </a:lnTo>
                <a:lnTo>
                  <a:pt x="64" y="1356"/>
                </a:lnTo>
                <a:lnTo>
                  <a:pt x="33" y="1341"/>
                </a:lnTo>
                <a:lnTo>
                  <a:pt x="4" y="1324"/>
                </a:lnTo>
                <a:lnTo>
                  <a:pt x="0" y="1322"/>
                </a:lnTo>
                <a:lnTo>
                  <a:pt x="0" y="1324"/>
                </a:lnTo>
                <a:lnTo>
                  <a:pt x="0" y="1326"/>
                </a:lnTo>
                <a:lnTo>
                  <a:pt x="0" y="1327"/>
                </a:lnTo>
                <a:lnTo>
                  <a:pt x="0" y="1329"/>
                </a:lnTo>
                <a:lnTo>
                  <a:pt x="2" y="1329"/>
                </a:lnTo>
                <a:lnTo>
                  <a:pt x="2" y="1331"/>
                </a:lnTo>
                <a:lnTo>
                  <a:pt x="2" y="1333"/>
                </a:lnTo>
                <a:lnTo>
                  <a:pt x="2" y="1335"/>
                </a:lnTo>
                <a:close/>
              </a:path>
            </a:pathLst>
          </a:custGeom>
          <a:solidFill>
            <a:srgbClr val="79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Freeform 394"/>
          <p:cNvSpPr/>
          <p:nvPr/>
        </p:nvSpPr>
        <p:spPr>
          <a:xfrm>
            <a:off x="5754600" y="2109960"/>
            <a:ext cx="784440" cy="2263680"/>
          </a:xfrm>
          <a:custGeom>
            <a:avLst/>
            <a:gdLst>
              <a:gd name="textAreaLeft" fmla="*/ 0 w 784440"/>
              <a:gd name="textAreaRight" fmla="*/ 784800 w 784440"/>
              <a:gd name="textAreaTop" fmla="*/ 0 h 2263680"/>
              <a:gd name="textAreaBottom" fmla="*/ 2264040 h 2263680"/>
            </a:gdLst>
            <a:ahLst/>
            <a:rect l="textAreaLeft" t="textAreaTop" r="textAreaRight" b="textAreaBottom"/>
            <a:pathLst>
              <a:path w="494" h="1426">
                <a:moveTo>
                  <a:pt x="472" y="8"/>
                </a:moveTo>
                <a:lnTo>
                  <a:pt x="444" y="4"/>
                </a:lnTo>
                <a:lnTo>
                  <a:pt x="407" y="2"/>
                </a:lnTo>
                <a:lnTo>
                  <a:pt x="371" y="0"/>
                </a:lnTo>
                <a:lnTo>
                  <a:pt x="334" y="2"/>
                </a:lnTo>
                <a:lnTo>
                  <a:pt x="298" y="4"/>
                </a:lnTo>
                <a:lnTo>
                  <a:pt x="261" y="8"/>
                </a:lnTo>
                <a:lnTo>
                  <a:pt x="227" y="16"/>
                </a:lnTo>
                <a:lnTo>
                  <a:pt x="192" y="24"/>
                </a:lnTo>
                <a:lnTo>
                  <a:pt x="161" y="31"/>
                </a:lnTo>
                <a:lnTo>
                  <a:pt x="161" y="33"/>
                </a:lnTo>
                <a:lnTo>
                  <a:pt x="161" y="35"/>
                </a:lnTo>
                <a:lnTo>
                  <a:pt x="160" y="37"/>
                </a:lnTo>
                <a:lnTo>
                  <a:pt x="160" y="39"/>
                </a:lnTo>
                <a:lnTo>
                  <a:pt x="160" y="39"/>
                </a:lnTo>
                <a:lnTo>
                  <a:pt x="160" y="41"/>
                </a:lnTo>
                <a:lnTo>
                  <a:pt x="158" y="43"/>
                </a:lnTo>
                <a:lnTo>
                  <a:pt x="158" y="45"/>
                </a:lnTo>
                <a:lnTo>
                  <a:pt x="161" y="43"/>
                </a:lnTo>
                <a:lnTo>
                  <a:pt x="196" y="33"/>
                </a:lnTo>
                <a:lnTo>
                  <a:pt x="229" y="25"/>
                </a:lnTo>
                <a:lnTo>
                  <a:pt x="263" y="20"/>
                </a:lnTo>
                <a:lnTo>
                  <a:pt x="300" y="14"/>
                </a:lnTo>
                <a:lnTo>
                  <a:pt x="334" y="12"/>
                </a:lnTo>
                <a:lnTo>
                  <a:pt x="371" y="12"/>
                </a:lnTo>
                <a:lnTo>
                  <a:pt x="407" y="12"/>
                </a:lnTo>
                <a:lnTo>
                  <a:pt x="444" y="14"/>
                </a:lnTo>
                <a:lnTo>
                  <a:pt x="467" y="18"/>
                </a:lnTo>
                <a:lnTo>
                  <a:pt x="467" y="16"/>
                </a:lnTo>
                <a:lnTo>
                  <a:pt x="467" y="16"/>
                </a:lnTo>
                <a:lnTo>
                  <a:pt x="469" y="14"/>
                </a:lnTo>
                <a:lnTo>
                  <a:pt x="469" y="12"/>
                </a:lnTo>
                <a:lnTo>
                  <a:pt x="471" y="12"/>
                </a:lnTo>
                <a:lnTo>
                  <a:pt x="471" y="10"/>
                </a:lnTo>
                <a:lnTo>
                  <a:pt x="471" y="8"/>
                </a:lnTo>
                <a:lnTo>
                  <a:pt x="472" y="8"/>
                </a:lnTo>
                <a:close/>
                <a:moveTo>
                  <a:pt x="0" y="1324"/>
                </a:moveTo>
                <a:lnTo>
                  <a:pt x="31" y="1342"/>
                </a:lnTo>
                <a:lnTo>
                  <a:pt x="62" y="1357"/>
                </a:lnTo>
                <a:lnTo>
                  <a:pt x="92" y="1370"/>
                </a:lnTo>
                <a:lnTo>
                  <a:pt x="125" y="1384"/>
                </a:lnTo>
                <a:lnTo>
                  <a:pt x="160" y="1395"/>
                </a:lnTo>
                <a:lnTo>
                  <a:pt x="192" y="1405"/>
                </a:lnTo>
                <a:lnTo>
                  <a:pt x="227" y="1413"/>
                </a:lnTo>
                <a:lnTo>
                  <a:pt x="261" y="1418"/>
                </a:lnTo>
                <a:lnTo>
                  <a:pt x="298" y="1424"/>
                </a:lnTo>
                <a:lnTo>
                  <a:pt x="334" y="1426"/>
                </a:lnTo>
                <a:lnTo>
                  <a:pt x="371" y="1426"/>
                </a:lnTo>
                <a:lnTo>
                  <a:pt x="407" y="1426"/>
                </a:lnTo>
                <a:lnTo>
                  <a:pt x="444" y="1424"/>
                </a:lnTo>
                <a:lnTo>
                  <a:pt x="480" y="1418"/>
                </a:lnTo>
                <a:lnTo>
                  <a:pt x="494" y="1416"/>
                </a:lnTo>
                <a:lnTo>
                  <a:pt x="492" y="1415"/>
                </a:lnTo>
                <a:lnTo>
                  <a:pt x="492" y="1415"/>
                </a:lnTo>
                <a:lnTo>
                  <a:pt x="490" y="1413"/>
                </a:lnTo>
                <a:lnTo>
                  <a:pt x="490" y="1411"/>
                </a:lnTo>
                <a:lnTo>
                  <a:pt x="490" y="1411"/>
                </a:lnTo>
                <a:lnTo>
                  <a:pt x="488" y="1409"/>
                </a:lnTo>
                <a:lnTo>
                  <a:pt x="488" y="1409"/>
                </a:lnTo>
                <a:lnTo>
                  <a:pt x="486" y="1407"/>
                </a:lnTo>
                <a:lnTo>
                  <a:pt x="478" y="1409"/>
                </a:lnTo>
                <a:lnTo>
                  <a:pt x="444" y="1413"/>
                </a:lnTo>
                <a:lnTo>
                  <a:pt x="407" y="1415"/>
                </a:lnTo>
                <a:lnTo>
                  <a:pt x="371" y="1416"/>
                </a:lnTo>
                <a:lnTo>
                  <a:pt x="334" y="1415"/>
                </a:lnTo>
                <a:lnTo>
                  <a:pt x="300" y="1413"/>
                </a:lnTo>
                <a:lnTo>
                  <a:pt x="263" y="1409"/>
                </a:lnTo>
                <a:lnTo>
                  <a:pt x="229" y="1401"/>
                </a:lnTo>
                <a:lnTo>
                  <a:pt x="196" y="1393"/>
                </a:lnTo>
                <a:lnTo>
                  <a:pt x="161" y="1384"/>
                </a:lnTo>
                <a:lnTo>
                  <a:pt x="129" y="1374"/>
                </a:lnTo>
                <a:lnTo>
                  <a:pt x="98" y="1361"/>
                </a:lnTo>
                <a:lnTo>
                  <a:pt x="66" y="1347"/>
                </a:lnTo>
                <a:lnTo>
                  <a:pt x="37" y="1332"/>
                </a:lnTo>
                <a:lnTo>
                  <a:pt x="6" y="1315"/>
                </a:lnTo>
                <a:lnTo>
                  <a:pt x="0" y="1311"/>
                </a:lnTo>
                <a:lnTo>
                  <a:pt x="0" y="1313"/>
                </a:lnTo>
                <a:lnTo>
                  <a:pt x="0" y="1313"/>
                </a:lnTo>
                <a:lnTo>
                  <a:pt x="0" y="1315"/>
                </a:lnTo>
                <a:lnTo>
                  <a:pt x="0" y="1317"/>
                </a:lnTo>
                <a:lnTo>
                  <a:pt x="0" y="1319"/>
                </a:lnTo>
                <a:lnTo>
                  <a:pt x="0" y="1321"/>
                </a:lnTo>
                <a:lnTo>
                  <a:pt x="0" y="1322"/>
                </a:lnTo>
                <a:lnTo>
                  <a:pt x="0" y="1324"/>
                </a:lnTo>
                <a:close/>
              </a:path>
            </a:pathLst>
          </a:custGeom>
          <a:solidFill>
            <a:srgbClr val="7a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Freeform 395"/>
          <p:cNvSpPr/>
          <p:nvPr/>
        </p:nvSpPr>
        <p:spPr>
          <a:xfrm>
            <a:off x="5754600" y="2119320"/>
            <a:ext cx="777960" cy="2247840"/>
          </a:xfrm>
          <a:custGeom>
            <a:avLst/>
            <a:gdLst>
              <a:gd name="textAreaLeft" fmla="*/ 0 w 777960"/>
              <a:gd name="textAreaRight" fmla="*/ 778320 w 77796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490" h="1416">
                <a:moveTo>
                  <a:pt x="469" y="6"/>
                </a:moveTo>
                <a:lnTo>
                  <a:pt x="444" y="4"/>
                </a:lnTo>
                <a:lnTo>
                  <a:pt x="407" y="0"/>
                </a:lnTo>
                <a:lnTo>
                  <a:pt x="371" y="0"/>
                </a:lnTo>
                <a:lnTo>
                  <a:pt x="334" y="0"/>
                </a:lnTo>
                <a:lnTo>
                  <a:pt x="298" y="4"/>
                </a:lnTo>
                <a:lnTo>
                  <a:pt x="263" y="8"/>
                </a:lnTo>
                <a:lnTo>
                  <a:pt x="229" y="14"/>
                </a:lnTo>
                <a:lnTo>
                  <a:pt x="194" y="21"/>
                </a:lnTo>
                <a:lnTo>
                  <a:pt x="160" y="31"/>
                </a:lnTo>
                <a:lnTo>
                  <a:pt x="160" y="31"/>
                </a:lnTo>
                <a:lnTo>
                  <a:pt x="160" y="33"/>
                </a:lnTo>
                <a:lnTo>
                  <a:pt x="160" y="35"/>
                </a:lnTo>
                <a:lnTo>
                  <a:pt x="158" y="37"/>
                </a:lnTo>
                <a:lnTo>
                  <a:pt x="158" y="39"/>
                </a:lnTo>
                <a:lnTo>
                  <a:pt x="158" y="41"/>
                </a:lnTo>
                <a:lnTo>
                  <a:pt x="158" y="41"/>
                </a:lnTo>
                <a:lnTo>
                  <a:pt x="156" y="42"/>
                </a:lnTo>
                <a:lnTo>
                  <a:pt x="156" y="44"/>
                </a:lnTo>
                <a:lnTo>
                  <a:pt x="163" y="42"/>
                </a:lnTo>
                <a:lnTo>
                  <a:pt x="196" y="33"/>
                </a:lnTo>
                <a:lnTo>
                  <a:pt x="231" y="25"/>
                </a:lnTo>
                <a:lnTo>
                  <a:pt x="265" y="19"/>
                </a:lnTo>
                <a:lnTo>
                  <a:pt x="300" y="14"/>
                </a:lnTo>
                <a:lnTo>
                  <a:pt x="334" y="12"/>
                </a:lnTo>
                <a:lnTo>
                  <a:pt x="371" y="10"/>
                </a:lnTo>
                <a:lnTo>
                  <a:pt x="407" y="12"/>
                </a:lnTo>
                <a:lnTo>
                  <a:pt x="442" y="14"/>
                </a:lnTo>
                <a:lnTo>
                  <a:pt x="463" y="18"/>
                </a:lnTo>
                <a:lnTo>
                  <a:pt x="463" y="16"/>
                </a:lnTo>
                <a:lnTo>
                  <a:pt x="465" y="14"/>
                </a:lnTo>
                <a:lnTo>
                  <a:pt x="465" y="14"/>
                </a:lnTo>
                <a:lnTo>
                  <a:pt x="467" y="12"/>
                </a:lnTo>
                <a:lnTo>
                  <a:pt x="467" y="10"/>
                </a:lnTo>
                <a:lnTo>
                  <a:pt x="467" y="10"/>
                </a:lnTo>
                <a:lnTo>
                  <a:pt x="469" y="8"/>
                </a:lnTo>
                <a:lnTo>
                  <a:pt x="469" y="6"/>
                </a:lnTo>
                <a:close/>
                <a:moveTo>
                  <a:pt x="0" y="1311"/>
                </a:moveTo>
                <a:lnTo>
                  <a:pt x="4" y="1313"/>
                </a:lnTo>
                <a:lnTo>
                  <a:pt x="33" y="1330"/>
                </a:lnTo>
                <a:lnTo>
                  <a:pt x="64" y="1345"/>
                </a:lnTo>
                <a:lnTo>
                  <a:pt x="96" y="1361"/>
                </a:lnTo>
                <a:lnTo>
                  <a:pt x="127" y="1372"/>
                </a:lnTo>
                <a:lnTo>
                  <a:pt x="160" y="1384"/>
                </a:lnTo>
                <a:lnTo>
                  <a:pt x="194" y="1393"/>
                </a:lnTo>
                <a:lnTo>
                  <a:pt x="229" y="1401"/>
                </a:lnTo>
                <a:lnTo>
                  <a:pt x="263" y="1407"/>
                </a:lnTo>
                <a:lnTo>
                  <a:pt x="298" y="1412"/>
                </a:lnTo>
                <a:lnTo>
                  <a:pt x="334" y="1414"/>
                </a:lnTo>
                <a:lnTo>
                  <a:pt x="371" y="1416"/>
                </a:lnTo>
                <a:lnTo>
                  <a:pt x="407" y="1414"/>
                </a:lnTo>
                <a:lnTo>
                  <a:pt x="444" y="1412"/>
                </a:lnTo>
                <a:lnTo>
                  <a:pt x="478" y="1407"/>
                </a:lnTo>
                <a:lnTo>
                  <a:pt x="490" y="1405"/>
                </a:lnTo>
                <a:lnTo>
                  <a:pt x="490" y="1405"/>
                </a:lnTo>
                <a:lnTo>
                  <a:pt x="488" y="1403"/>
                </a:lnTo>
                <a:lnTo>
                  <a:pt x="488" y="1403"/>
                </a:lnTo>
                <a:lnTo>
                  <a:pt x="486" y="1401"/>
                </a:lnTo>
                <a:lnTo>
                  <a:pt x="486" y="1399"/>
                </a:lnTo>
                <a:lnTo>
                  <a:pt x="486" y="1399"/>
                </a:lnTo>
                <a:lnTo>
                  <a:pt x="484" y="1397"/>
                </a:lnTo>
                <a:lnTo>
                  <a:pt x="484" y="1395"/>
                </a:lnTo>
                <a:lnTo>
                  <a:pt x="476" y="1397"/>
                </a:lnTo>
                <a:lnTo>
                  <a:pt x="442" y="1401"/>
                </a:lnTo>
                <a:lnTo>
                  <a:pt x="407" y="1405"/>
                </a:lnTo>
                <a:lnTo>
                  <a:pt x="371" y="1405"/>
                </a:lnTo>
                <a:lnTo>
                  <a:pt x="334" y="1405"/>
                </a:lnTo>
                <a:lnTo>
                  <a:pt x="300" y="1401"/>
                </a:lnTo>
                <a:lnTo>
                  <a:pt x="265" y="1397"/>
                </a:lnTo>
                <a:lnTo>
                  <a:pt x="231" y="1391"/>
                </a:lnTo>
                <a:lnTo>
                  <a:pt x="196" y="1384"/>
                </a:lnTo>
                <a:lnTo>
                  <a:pt x="163" y="1374"/>
                </a:lnTo>
                <a:lnTo>
                  <a:pt x="131" y="1363"/>
                </a:lnTo>
                <a:lnTo>
                  <a:pt x="100" y="1351"/>
                </a:lnTo>
                <a:lnTo>
                  <a:pt x="69" y="1336"/>
                </a:lnTo>
                <a:lnTo>
                  <a:pt x="39" y="1320"/>
                </a:lnTo>
                <a:lnTo>
                  <a:pt x="10" y="1305"/>
                </a:lnTo>
                <a:lnTo>
                  <a:pt x="0" y="1297"/>
                </a:lnTo>
                <a:lnTo>
                  <a:pt x="0" y="1299"/>
                </a:lnTo>
                <a:lnTo>
                  <a:pt x="0" y="1301"/>
                </a:lnTo>
                <a:lnTo>
                  <a:pt x="0" y="1303"/>
                </a:lnTo>
                <a:lnTo>
                  <a:pt x="0" y="1305"/>
                </a:lnTo>
                <a:lnTo>
                  <a:pt x="0" y="1307"/>
                </a:lnTo>
                <a:lnTo>
                  <a:pt x="0" y="1307"/>
                </a:lnTo>
                <a:lnTo>
                  <a:pt x="0" y="1309"/>
                </a:lnTo>
                <a:lnTo>
                  <a:pt x="0" y="1311"/>
                </a:lnTo>
                <a:close/>
              </a:path>
            </a:pathLst>
          </a:custGeom>
          <a:solidFill>
            <a:srgbClr val="7bc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Freeform 396"/>
          <p:cNvSpPr/>
          <p:nvPr/>
        </p:nvSpPr>
        <p:spPr>
          <a:xfrm>
            <a:off x="5751360" y="2128680"/>
            <a:ext cx="774720" cy="2229120"/>
          </a:xfrm>
          <a:custGeom>
            <a:avLst/>
            <a:gdLst>
              <a:gd name="textAreaLeft" fmla="*/ 0 w 774720"/>
              <a:gd name="textAreaRight" fmla="*/ 775080 w 774720"/>
              <a:gd name="textAreaTop" fmla="*/ 0 h 2229120"/>
              <a:gd name="textAreaBottom" fmla="*/ 2229480 h 2229120"/>
            </a:gdLst>
            <a:ahLst/>
            <a:rect l="textAreaLeft" t="textAreaTop" r="textAreaRight" b="textAreaBottom"/>
            <a:pathLst>
              <a:path w="488" h="1404">
                <a:moveTo>
                  <a:pt x="469" y="6"/>
                </a:moveTo>
                <a:lnTo>
                  <a:pt x="446" y="2"/>
                </a:lnTo>
                <a:lnTo>
                  <a:pt x="409" y="0"/>
                </a:lnTo>
                <a:lnTo>
                  <a:pt x="373" y="0"/>
                </a:lnTo>
                <a:lnTo>
                  <a:pt x="336" y="0"/>
                </a:lnTo>
                <a:lnTo>
                  <a:pt x="302" y="2"/>
                </a:lnTo>
                <a:lnTo>
                  <a:pt x="265" y="8"/>
                </a:lnTo>
                <a:lnTo>
                  <a:pt x="231" y="13"/>
                </a:lnTo>
                <a:lnTo>
                  <a:pt x="198" y="21"/>
                </a:lnTo>
                <a:lnTo>
                  <a:pt x="163" y="31"/>
                </a:lnTo>
                <a:lnTo>
                  <a:pt x="160" y="33"/>
                </a:lnTo>
                <a:lnTo>
                  <a:pt x="160" y="35"/>
                </a:lnTo>
                <a:lnTo>
                  <a:pt x="160" y="35"/>
                </a:lnTo>
                <a:lnTo>
                  <a:pt x="158" y="36"/>
                </a:lnTo>
                <a:lnTo>
                  <a:pt x="158" y="38"/>
                </a:lnTo>
                <a:lnTo>
                  <a:pt x="158" y="40"/>
                </a:lnTo>
                <a:lnTo>
                  <a:pt x="156" y="42"/>
                </a:lnTo>
                <a:lnTo>
                  <a:pt x="156" y="44"/>
                </a:lnTo>
                <a:lnTo>
                  <a:pt x="156" y="44"/>
                </a:lnTo>
                <a:lnTo>
                  <a:pt x="167" y="40"/>
                </a:lnTo>
                <a:lnTo>
                  <a:pt x="200" y="33"/>
                </a:lnTo>
                <a:lnTo>
                  <a:pt x="233" y="23"/>
                </a:lnTo>
                <a:lnTo>
                  <a:pt x="267" y="17"/>
                </a:lnTo>
                <a:lnTo>
                  <a:pt x="302" y="13"/>
                </a:lnTo>
                <a:lnTo>
                  <a:pt x="338" y="12"/>
                </a:lnTo>
                <a:lnTo>
                  <a:pt x="373" y="10"/>
                </a:lnTo>
                <a:lnTo>
                  <a:pt x="409" y="12"/>
                </a:lnTo>
                <a:lnTo>
                  <a:pt x="444" y="13"/>
                </a:lnTo>
                <a:lnTo>
                  <a:pt x="461" y="15"/>
                </a:lnTo>
                <a:lnTo>
                  <a:pt x="463" y="15"/>
                </a:lnTo>
                <a:lnTo>
                  <a:pt x="463" y="13"/>
                </a:lnTo>
                <a:lnTo>
                  <a:pt x="465" y="12"/>
                </a:lnTo>
                <a:lnTo>
                  <a:pt x="465" y="12"/>
                </a:lnTo>
                <a:lnTo>
                  <a:pt x="465" y="10"/>
                </a:lnTo>
                <a:lnTo>
                  <a:pt x="467" y="8"/>
                </a:lnTo>
                <a:lnTo>
                  <a:pt x="467" y="8"/>
                </a:lnTo>
                <a:lnTo>
                  <a:pt x="469" y="6"/>
                </a:lnTo>
                <a:close/>
                <a:moveTo>
                  <a:pt x="2" y="1299"/>
                </a:moveTo>
                <a:lnTo>
                  <a:pt x="8" y="1303"/>
                </a:lnTo>
                <a:lnTo>
                  <a:pt x="39" y="1320"/>
                </a:lnTo>
                <a:lnTo>
                  <a:pt x="68" y="1335"/>
                </a:lnTo>
                <a:lnTo>
                  <a:pt x="100" y="1349"/>
                </a:lnTo>
                <a:lnTo>
                  <a:pt x="131" y="1362"/>
                </a:lnTo>
                <a:lnTo>
                  <a:pt x="163" y="1372"/>
                </a:lnTo>
                <a:lnTo>
                  <a:pt x="198" y="1381"/>
                </a:lnTo>
                <a:lnTo>
                  <a:pt x="231" y="1389"/>
                </a:lnTo>
                <a:lnTo>
                  <a:pt x="265" y="1397"/>
                </a:lnTo>
                <a:lnTo>
                  <a:pt x="302" y="1401"/>
                </a:lnTo>
                <a:lnTo>
                  <a:pt x="336" y="1403"/>
                </a:lnTo>
                <a:lnTo>
                  <a:pt x="373" y="1404"/>
                </a:lnTo>
                <a:lnTo>
                  <a:pt x="409" y="1403"/>
                </a:lnTo>
                <a:lnTo>
                  <a:pt x="446" y="1401"/>
                </a:lnTo>
                <a:lnTo>
                  <a:pt x="480" y="1397"/>
                </a:lnTo>
                <a:lnTo>
                  <a:pt x="488" y="1395"/>
                </a:lnTo>
                <a:lnTo>
                  <a:pt x="488" y="1393"/>
                </a:lnTo>
                <a:lnTo>
                  <a:pt x="488" y="1393"/>
                </a:lnTo>
                <a:lnTo>
                  <a:pt x="486" y="1391"/>
                </a:lnTo>
                <a:lnTo>
                  <a:pt x="486" y="1389"/>
                </a:lnTo>
                <a:lnTo>
                  <a:pt x="484" y="1389"/>
                </a:lnTo>
                <a:lnTo>
                  <a:pt x="484" y="1387"/>
                </a:lnTo>
                <a:lnTo>
                  <a:pt x="484" y="1385"/>
                </a:lnTo>
                <a:lnTo>
                  <a:pt x="482" y="1385"/>
                </a:lnTo>
                <a:lnTo>
                  <a:pt x="478" y="1385"/>
                </a:lnTo>
                <a:lnTo>
                  <a:pt x="444" y="1391"/>
                </a:lnTo>
                <a:lnTo>
                  <a:pt x="409" y="1393"/>
                </a:lnTo>
                <a:lnTo>
                  <a:pt x="373" y="1393"/>
                </a:lnTo>
                <a:lnTo>
                  <a:pt x="338" y="1393"/>
                </a:lnTo>
                <a:lnTo>
                  <a:pt x="302" y="1391"/>
                </a:lnTo>
                <a:lnTo>
                  <a:pt x="267" y="1385"/>
                </a:lnTo>
                <a:lnTo>
                  <a:pt x="233" y="1380"/>
                </a:lnTo>
                <a:lnTo>
                  <a:pt x="200" y="1372"/>
                </a:lnTo>
                <a:lnTo>
                  <a:pt x="167" y="1362"/>
                </a:lnTo>
                <a:lnTo>
                  <a:pt x="135" y="1351"/>
                </a:lnTo>
                <a:lnTo>
                  <a:pt x="104" y="1339"/>
                </a:lnTo>
                <a:lnTo>
                  <a:pt x="73" y="1326"/>
                </a:lnTo>
                <a:lnTo>
                  <a:pt x="43" y="1310"/>
                </a:lnTo>
                <a:lnTo>
                  <a:pt x="14" y="1293"/>
                </a:lnTo>
                <a:lnTo>
                  <a:pt x="0" y="1286"/>
                </a:lnTo>
                <a:lnTo>
                  <a:pt x="0" y="1287"/>
                </a:lnTo>
                <a:lnTo>
                  <a:pt x="0" y="1287"/>
                </a:lnTo>
                <a:lnTo>
                  <a:pt x="0" y="1289"/>
                </a:lnTo>
                <a:lnTo>
                  <a:pt x="2" y="1291"/>
                </a:lnTo>
                <a:lnTo>
                  <a:pt x="2" y="1293"/>
                </a:lnTo>
                <a:lnTo>
                  <a:pt x="2" y="1295"/>
                </a:lnTo>
                <a:lnTo>
                  <a:pt x="2" y="1297"/>
                </a:lnTo>
                <a:lnTo>
                  <a:pt x="2" y="1299"/>
                </a:lnTo>
                <a:close/>
              </a:path>
            </a:pathLst>
          </a:custGeom>
          <a:solidFill>
            <a:srgbClr val="7cc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reeform 397"/>
          <p:cNvSpPr/>
          <p:nvPr/>
        </p:nvSpPr>
        <p:spPr>
          <a:xfrm>
            <a:off x="5751360" y="2135160"/>
            <a:ext cx="771840" cy="2214720"/>
          </a:xfrm>
          <a:custGeom>
            <a:avLst/>
            <a:gdLst>
              <a:gd name="textAreaLeft" fmla="*/ 0 w 771840"/>
              <a:gd name="textAreaRight" fmla="*/ 772200 w 771840"/>
              <a:gd name="textAreaTop" fmla="*/ 0 h 2214720"/>
              <a:gd name="textAreaBottom" fmla="*/ 2215080 h 2214720"/>
            </a:gdLst>
            <a:ahLst/>
            <a:rect l="textAreaLeft" t="textAreaTop" r="textAreaRight" b="textAreaBottom"/>
            <a:pathLst>
              <a:path w="486" h="1395">
                <a:moveTo>
                  <a:pt x="465" y="8"/>
                </a:moveTo>
                <a:lnTo>
                  <a:pt x="444" y="4"/>
                </a:lnTo>
                <a:lnTo>
                  <a:pt x="409" y="2"/>
                </a:lnTo>
                <a:lnTo>
                  <a:pt x="373" y="0"/>
                </a:lnTo>
                <a:lnTo>
                  <a:pt x="336" y="2"/>
                </a:lnTo>
                <a:lnTo>
                  <a:pt x="302" y="4"/>
                </a:lnTo>
                <a:lnTo>
                  <a:pt x="267" y="9"/>
                </a:lnTo>
                <a:lnTo>
                  <a:pt x="233" y="15"/>
                </a:lnTo>
                <a:lnTo>
                  <a:pt x="198" y="23"/>
                </a:lnTo>
                <a:lnTo>
                  <a:pt x="165" y="32"/>
                </a:lnTo>
                <a:lnTo>
                  <a:pt x="158" y="34"/>
                </a:lnTo>
                <a:lnTo>
                  <a:pt x="158" y="36"/>
                </a:lnTo>
                <a:lnTo>
                  <a:pt x="156" y="38"/>
                </a:lnTo>
                <a:lnTo>
                  <a:pt x="156" y="40"/>
                </a:lnTo>
                <a:lnTo>
                  <a:pt x="156" y="40"/>
                </a:lnTo>
                <a:lnTo>
                  <a:pt x="156" y="42"/>
                </a:lnTo>
                <a:lnTo>
                  <a:pt x="154" y="44"/>
                </a:lnTo>
                <a:lnTo>
                  <a:pt x="154" y="46"/>
                </a:lnTo>
                <a:lnTo>
                  <a:pt x="154" y="48"/>
                </a:lnTo>
                <a:lnTo>
                  <a:pt x="169" y="42"/>
                </a:lnTo>
                <a:lnTo>
                  <a:pt x="202" y="32"/>
                </a:lnTo>
                <a:lnTo>
                  <a:pt x="235" y="25"/>
                </a:lnTo>
                <a:lnTo>
                  <a:pt x="269" y="19"/>
                </a:lnTo>
                <a:lnTo>
                  <a:pt x="304" y="15"/>
                </a:lnTo>
                <a:lnTo>
                  <a:pt x="338" y="11"/>
                </a:lnTo>
                <a:lnTo>
                  <a:pt x="373" y="11"/>
                </a:lnTo>
                <a:lnTo>
                  <a:pt x="407" y="11"/>
                </a:lnTo>
                <a:lnTo>
                  <a:pt x="444" y="15"/>
                </a:lnTo>
                <a:lnTo>
                  <a:pt x="459" y="17"/>
                </a:lnTo>
                <a:lnTo>
                  <a:pt x="459" y="15"/>
                </a:lnTo>
                <a:lnTo>
                  <a:pt x="461" y="15"/>
                </a:lnTo>
                <a:lnTo>
                  <a:pt x="461" y="13"/>
                </a:lnTo>
                <a:lnTo>
                  <a:pt x="461" y="11"/>
                </a:lnTo>
                <a:lnTo>
                  <a:pt x="463" y="11"/>
                </a:lnTo>
                <a:lnTo>
                  <a:pt x="463" y="9"/>
                </a:lnTo>
                <a:lnTo>
                  <a:pt x="465" y="8"/>
                </a:lnTo>
                <a:lnTo>
                  <a:pt x="465" y="8"/>
                </a:lnTo>
                <a:close/>
                <a:moveTo>
                  <a:pt x="2" y="1287"/>
                </a:moveTo>
                <a:lnTo>
                  <a:pt x="12" y="1295"/>
                </a:lnTo>
                <a:lnTo>
                  <a:pt x="41" y="1310"/>
                </a:lnTo>
                <a:lnTo>
                  <a:pt x="71" y="1326"/>
                </a:lnTo>
                <a:lnTo>
                  <a:pt x="102" y="1341"/>
                </a:lnTo>
                <a:lnTo>
                  <a:pt x="133" y="1353"/>
                </a:lnTo>
                <a:lnTo>
                  <a:pt x="165" y="1364"/>
                </a:lnTo>
                <a:lnTo>
                  <a:pt x="198" y="1374"/>
                </a:lnTo>
                <a:lnTo>
                  <a:pt x="233" y="1381"/>
                </a:lnTo>
                <a:lnTo>
                  <a:pt x="267" y="1387"/>
                </a:lnTo>
                <a:lnTo>
                  <a:pt x="302" y="1391"/>
                </a:lnTo>
                <a:lnTo>
                  <a:pt x="336" y="1395"/>
                </a:lnTo>
                <a:lnTo>
                  <a:pt x="373" y="1395"/>
                </a:lnTo>
                <a:lnTo>
                  <a:pt x="409" y="1395"/>
                </a:lnTo>
                <a:lnTo>
                  <a:pt x="444" y="1391"/>
                </a:lnTo>
                <a:lnTo>
                  <a:pt x="478" y="1387"/>
                </a:lnTo>
                <a:lnTo>
                  <a:pt x="486" y="1385"/>
                </a:lnTo>
                <a:lnTo>
                  <a:pt x="484" y="1385"/>
                </a:lnTo>
                <a:lnTo>
                  <a:pt x="484" y="1383"/>
                </a:lnTo>
                <a:lnTo>
                  <a:pt x="484" y="1381"/>
                </a:lnTo>
                <a:lnTo>
                  <a:pt x="482" y="1381"/>
                </a:lnTo>
                <a:lnTo>
                  <a:pt x="482" y="1379"/>
                </a:lnTo>
                <a:lnTo>
                  <a:pt x="480" y="1379"/>
                </a:lnTo>
                <a:lnTo>
                  <a:pt x="480" y="1377"/>
                </a:lnTo>
                <a:lnTo>
                  <a:pt x="480" y="1376"/>
                </a:lnTo>
                <a:lnTo>
                  <a:pt x="478" y="1376"/>
                </a:lnTo>
                <a:lnTo>
                  <a:pt x="444" y="1381"/>
                </a:lnTo>
                <a:lnTo>
                  <a:pt x="407" y="1383"/>
                </a:lnTo>
                <a:lnTo>
                  <a:pt x="373" y="1385"/>
                </a:lnTo>
                <a:lnTo>
                  <a:pt x="338" y="1383"/>
                </a:lnTo>
                <a:lnTo>
                  <a:pt x="304" y="1381"/>
                </a:lnTo>
                <a:lnTo>
                  <a:pt x="269" y="1376"/>
                </a:lnTo>
                <a:lnTo>
                  <a:pt x="235" y="1370"/>
                </a:lnTo>
                <a:lnTo>
                  <a:pt x="202" y="1362"/>
                </a:lnTo>
                <a:lnTo>
                  <a:pt x="169" y="1354"/>
                </a:lnTo>
                <a:lnTo>
                  <a:pt x="137" y="1343"/>
                </a:lnTo>
                <a:lnTo>
                  <a:pt x="106" y="1329"/>
                </a:lnTo>
                <a:lnTo>
                  <a:pt x="75" y="1316"/>
                </a:lnTo>
                <a:lnTo>
                  <a:pt x="46" y="1301"/>
                </a:lnTo>
                <a:lnTo>
                  <a:pt x="18" y="1285"/>
                </a:lnTo>
                <a:lnTo>
                  <a:pt x="0" y="1274"/>
                </a:lnTo>
                <a:lnTo>
                  <a:pt x="0" y="1276"/>
                </a:lnTo>
                <a:lnTo>
                  <a:pt x="0" y="1278"/>
                </a:lnTo>
                <a:lnTo>
                  <a:pt x="0" y="1280"/>
                </a:lnTo>
                <a:lnTo>
                  <a:pt x="0" y="1282"/>
                </a:lnTo>
                <a:lnTo>
                  <a:pt x="0" y="1283"/>
                </a:lnTo>
                <a:lnTo>
                  <a:pt x="0" y="1283"/>
                </a:lnTo>
                <a:lnTo>
                  <a:pt x="0" y="1285"/>
                </a:lnTo>
                <a:lnTo>
                  <a:pt x="2" y="1287"/>
                </a:lnTo>
                <a:close/>
              </a:path>
            </a:pathLst>
          </a:custGeom>
          <a:solidFill>
            <a:srgbClr val="7d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reeform 398"/>
          <p:cNvSpPr/>
          <p:nvPr/>
        </p:nvSpPr>
        <p:spPr>
          <a:xfrm>
            <a:off x="5751360" y="2144880"/>
            <a:ext cx="765360" cy="2195280"/>
          </a:xfrm>
          <a:custGeom>
            <a:avLst/>
            <a:gdLst>
              <a:gd name="textAreaLeft" fmla="*/ 0 w 765360"/>
              <a:gd name="textAreaRight" fmla="*/ 765720 w 765360"/>
              <a:gd name="textAreaTop" fmla="*/ 0 h 2195280"/>
              <a:gd name="textAreaBottom" fmla="*/ 2195640 h 2195280"/>
            </a:gdLst>
            <a:ahLst/>
            <a:rect l="textAreaLeft" t="textAreaTop" r="textAreaRight" b="textAreaBottom"/>
            <a:pathLst>
              <a:path w="482" h="1383">
                <a:moveTo>
                  <a:pt x="461" y="5"/>
                </a:moveTo>
                <a:lnTo>
                  <a:pt x="444" y="3"/>
                </a:lnTo>
                <a:lnTo>
                  <a:pt x="409" y="2"/>
                </a:lnTo>
                <a:lnTo>
                  <a:pt x="373" y="0"/>
                </a:lnTo>
                <a:lnTo>
                  <a:pt x="338" y="2"/>
                </a:lnTo>
                <a:lnTo>
                  <a:pt x="302" y="3"/>
                </a:lnTo>
                <a:lnTo>
                  <a:pt x="267" y="7"/>
                </a:lnTo>
                <a:lnTo>
                  <a:pt x="233" y="13"/>
                </a:lnTo>
                <a:lnTo>
                  <a:pt x="200" y="23"/>
                </a:lnTo>
                <a:lnTo>
                  <a:pt x="167" y="30"/>
                </a:lnTo>
                <a:lnTo>
                  <a:pt x="156" y="34"/>
                </a:lnTo>
                <a:lnTo>
                  <a:pt x="156" y="36"/>
                </a:lnTo>
                <a:lnTo>
                  <a:pt x="154" y="38"/>
                </a:lnTo>
                <a:lnTo>
                  <a:pt x="154" y="40"/>
                </a:lnTo>
                <a:lnTo>
                  <a:pt x="154" y="42"/>
                </a:lnTo>
                <a:lnTo>
                  <a:pt x="152" y="44"/>
                </a:lnTo>
                <a:lnTo>
                  <a:pt x="152" y="44"/>
                </a:lnTo>
                <a:lnTo>
                  <a:pt x="152" y="46"/>
                </a:lnTo>
                <a:lnTo>
                  <a:pt x="152" y="48"/>
                </a:lnTo>
                <a:lnTo>
                  <a:pt x="171" y="42"/>
                </a:lnTo>
                <a:lnTo>
                  <a:pt x="202" y="32"/>
                </a:lnTo>
                <a:lnTo>
                  <a:pt x="236" y="25"/>
                </a:lnTo>
                <a:lnTo>
                  <a:pt x="269" y="19"/>
                </a:lnTo>
                <a:lnTo>
                  <a:pt x="304" y="15"/>
                </a:lnTo>
                <a:lnTo>
                  <a:pt x="338" y="11"/>
                </a:lnTo>
                <a:lnTo>
                  <a:pt x="373" y="11"/>
                </a:lnTo>
                <a:lnTo>
                  <a:pt x="407" y="11"/>
                </a:lnTo>
                <a:lnTo>
                  <a:pt x="442" y="15"/>
                </a:lnTo>
                <a:lnTo>
                  <a:pt x="455" y="15"/>
                </a:lnTo>
                <a:lnTo>
                  <a:pt x="457" y="15"/>
                </a:lnTo>
                <a:lnTo>
                  <a:pt x="457" y="13"/>
                </a:lnTo>
                <a:lnTo>
                  <a:pt x="457" y="11"/>
                </a:lnTo>
                <a:lnTo>
                  <a:pt x="459" y="11"/>
                </a:lnTo>
                <a:lnTo>
                  <a:pt x="459" y="9"/>
                </a:lnTo>
                <a:lnTo>
                  <a:pt x="461" y="9"/>
                </a:lnTo>
                <a:lnTo>
                  <a:pt x="461" y="7"/>
                </a:lnTo>
                <a:lnTo>
                  <a:pt x="461" y="5"/>
                </a:lnTo>
                <a:close/>
                <a:moveTo>
                  <a:pt x="0" y="1276"/>
                </a:moveTo>
                <a:lnTo>
                  <a:pt x="14" y="1283"/>
                </a:lnTo>
                <a:lnTo>
                  <a:pt x="43" y="1300"/>
                </a:lnTo>
                <a:lnTo>
                  <a:pt x="73" y="1316"/>
                </a:lnTo>
                <a:lnTo>
                  <a:pt x="104" y="1329"/>
                </a:lnTo>
                <a:lnTo>
                  <a:pt x="135" y="1341"/>
                </a:lnTo>
                <a:lnTo>
                  <a:pt x="167" y="1352"/>
                </a:lnTo>
                <a:lnTo>
                  <a:pt x="200" y="1362"/>
                </a:lnTo>
                <a:lnTo>
                  <a:pt x="233" y="1370"/>
                </a:lnTo>
                <a:lnTo>
                  <a:pt x="267" y="1375"/>
                </a:lnTo>
                <a:lnTo>
                  <a:pt x="302" y="1381"/>
                </a:lnTo>
                <a:lnTo>
                  <a:pt x="338" y="1383"/>
                </a:lnTo>
                <a:lnTo>
                  <a:pt x="373" y="1383"/>
                </a:lnTo>
                <a:lnTo>
                  <a:pt x="409" y="1383"/>
                </a:lnTo>
                <a:lnTo>
                  <a:pt x="444" y="1381"/>
                </a:lnTo>
                <a:lnTo>
                  <a:pt x="478" y="1375"/>
                </a:lnTo>
                <a:lnTo>
                  <a:pt x="482" y="1375"/>
                </a:lnTo>
                <a:lnTo>
                  <a:pt x="482" y="1373"/>
                </a:lnTo>
                <a:lnTo>
                  <a:pt x="480" y="1373"/>
                </a:lnTo>
                <a:lnTo>
                  <a:pt x="480" y="1371"/>
                </a:lnTo>
                <a:lnTo>
                  <a:pt x="480" y="1370"/>
                </a:lnTo>
                <a:lnTo>
                  <a:pt x="478" y="1370"/>
                </a:lnTo>
                <a:lnTo>
                  <a:pt x="478" y="1368"/>
                </a:lnTo>
                <a:lnTo>
                  <a:pt x="476" y="1366"/>
                </a:lnTo>
                <a:lnTo>
                  <a:pt x="476" y="1366"/>
                </a:lnTo>
                <a:lnTo>
                  <a:pt x="442" y="1370"/>
                </a:lnTo>
                <a:lnTo>
                  <a:pt x="407" y="1371"/>
                </a:lnTo>
                <a:lnTo>
                  <a:pt x="373" y="1373"/>
                </a:lnTo>
                <a:lnTo>
                  <a:pt x="338" y="1371"/>
                </a:lnTo>
                <a:lnTo>
                  <a:pt x="304" y="1370"/>
                </a:lnTo>
                <a:lnTo>
                  <a:pt x="269" y="1366"/>
                </a:lnTo>
                <a:lnTo>
                  <a:pt x="236" y="1360"/>
                </a:lnTo>
                <a:lnTo>
                  <a:pt x="202" y="1352"/>
                </a:lnTo>
                <a:lnTo>
                  <a:pt x="171" y="1343"/>
                </a:lnTo>
                <a:lnTo>
                  <a:pt x="139" y="1331"/>
                </a:lnTo>
                <a:lnTo>
                  <a:pt x="108" y="1320"/>
                </a:lnTo>
                <a:lnTo>
                  <a:pt x="77" y="1306"/>
                </a:lnTo>
                <a:lnTo>
                  <a:pt x="48" y="1291"/>
                </a:lnTo>
                <a:lnTo>
                  <a:pt x="20" y="1274"/>
                </a:lnTo>
                <a:lnTo>
                  <a:pt x="0" y="1262"/>
                </a:lnTo>
                <a:lnTo>
                  <a:pt x="0" y="1264"/>
                </a:lnTo>
                <a:lnTo>
                  <a:pt x="0" y="1266"/>
                </a:lnTo>
                <a:lnTo>
                  <a:pt x="0" y="1266"/>
                </a:lnTo>
                <a:lnTo>
                  <a:pt x="0" y="1268"/>
                </a:lnTo>
                <a:lnTo>
                  <a:pt x="0" y="1270"/>
                </a:lnTo>
                <a:lnTo>
                  <a:pt x="0" y="1272"/>
                </a:lnTo>
                <a:lnTo>
                  <a:pt x="0" y="1274"/>
                </a:lnTo>
                <a:lnTo>
                  <a:pt x="0" y="1276"/>
                </a:lnTo>
                <a:close/>
              </a:path>
            </a:pathLst>
          </a:custGeom>
          <a:solidFill>
            <a:srgbClr val="7e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Freeform 399"/>
          <p:cNvSpPr/>
          <p:nvPr/>
        </p:nvSpPr>
        <p:spPr>
          <a:xfrm>
            <a:off x="5748480" y="2152800"/>
            <a:ext cx="765000" cy="2181240"/>
          </a:xfrm>
          <a:custGeom>
            <a:avLst/>
            <a:gdLst>
              <a:gd name="textAreaLeft" fmla="*/ 0 w 765000"/>
              <a:gd name="textAreaRight" fmla="*/ 765360 w 76500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482" h="1374">
                <a:moveTo>
                  <a:pt x="461" y="6"/>
                </a:moveTo>
                <a:lnTo>
                  <a:pt x="446" y="4"/>
                </a:lnTo>
                <a:lnTo>
                  <a:pt x="409" y="0"/>
                </a:lnTo>
                <a:lnTo>
                  <a:pt x="375" y="0"/>
                </a:lnTo>
                <a:lnTo>
                  <a:pt x="340" y="0"/>
                </a:lnTo>
                <a:lnTo>
                  <a:pt x="306" y="4"/>
                </a:lnTo>
                <a:lnTo>
                  <a:pt x="271" y="8"/>
                </a:lnTo>
                <a:lnTo>
                  <a:pt x="237" y="14"/>
                </a:lnTo>
                <a:lnTo>
                  <a:pt x="204" y="21"/>
                </a:lnTo>
                <a:lnTo>
                  <a:pt x="171" y="31"/>
                </a:lnTo>
                <a:lnTo>
                  <a:pt x="156" y="37"/>
                </a:lnTo>
                <a:lnTo>
                  <a:pt x="154" y="39"/>
                </a:lnTo>
                <a:lnTo>
                  <a:pt x="154" y="39"/>
                </a:lnTo>
                <a:lnTo>
                  <a:pt x="154" y="41"/>
                </a:lnTo>
                <a:lnTo>
                  <a:pt x="154" y="43"/>
                </a:lnTo>
                <a:lnTo>
                  <a:pt x="152" y="44"/>
                </a:lnTo>
                <a:lnTo>
                  <a:pt x="152" y="46"/>
                </a:lnTo>
                <a:lnTo>
                  <a:pt x="152" y="46"/>
                </a:lnTo>
                <a:lnTo>
                  <a:pt x="152" y="48"/>
                </a:lnTo>
                <a:lnTo>
                  <a:pt x="173" y="41"/>
                </a:lnTo>
                <a:lnTo>
                  <a:pt x="206" y="33"/>
                </a:lnTo>
                <a:lnTo>
                  <a:pt x="238" y="25"/>
                </a:lnTo>
                <a:lnTo>
                  <a:pt x="271" y="20"/>
                </a:lnTo>
                <a:lnTo>
                  <a:pt x="306" y="14"/>
                </a:lnTo>
                <a:lnTo>
                  <a:pt x="340" y="12"/>
                </a:lnTo>
                <a:lnTo>
                  <a:pt x="375" y="10"/>
                </a:lnTo>
                <a:lnTo>
                  <a:pt x="409" y="12"/>
                </a:lnTo>
                <a:lnTo>
                  <a:pt x="444" y="14"/>
                </a:lnTo>
                <a:lnTo>
                  <a:pt x="455" y="16"/>
                </a:lnTo>
                <a:lnTo>
                  <a:pt x="455" y="14"/>
                </a:lnTo>
                <a:lnTo>
                  <a:pt x="457" y="14"/>
                </a:lnTo>
                <a:lnTo>
                  <a:pt x="457" y="12"/>
                </a:lnTo>
                <a:lnTo>
                  <a:pt x="457" y="10"/>
                </a:lnTo>
                <a:lnTo>
                  <a:pt x="459" y="10"/>
                </a:lnTo>
                <a:lnTo>
                  <a:pt x="459" y="8"/>
                </a:lnTo>
                <a:lnTo>
                  <a:pt x="459" y="6"/>
                </a:lnTo>
                <a:lnTo>
                  <a:pt x="461" y="6"/>
                </a:lnTo>
                <a:close/>
                <a:moveTo>
                  <a:pt x="2" y="1263"/>
                </a:moveTo>
                <a:lnTo>
                  <a:pt x="20" y="1274"/>
                </a:lnTo>
                <a:lnTo>
                  <a:pt x="48" y="1290"/>
                </a:lnTo>
                <a:lnTo>
                  <a:pt x="77" y="1305"/>
                </a:lnTo>
                <a:lnTo>
                  <a:pt x="108" y="1318"/>
                </a:lnTo>
                <a:lnTo>
                  <a:pt x="139" y="1332"/>
                </a:lnTo>
                <a:lnTo>
                  <a:pt x="171" y="1343"/>
                </a:lnTo>
                <a:lnTo>
                  <a:pt x="204" y="1351"/>
                </a:lnTo>
                <a:lnTo>
                  <a:pt x="237" y="1359"/>
                </a:lnTo>
                <a:lnTo>
                  <a:pt x="271" y="1365"/>
                </a:lnTo>
                <a:lnTo>
                  <a:pt x="306" y="1370"/>
                </a:lnTo>
                <a:lnTo>
                  <a:pt x="340" y="1372"/>
                </a:lnTo>
                <a:lnTo>
                  <a:pt x="375" y="1374"/>
                </a:lnTo>
                <a:lnTo>
                  <a:pt x="409" y="1372"/>
                </a:lnTo>
                <a:lnTo>
                  <a:pt x="446" y="1370"/>
                </a:lnTo>
                <a:lnTo>
                  <a:pt x="480" y="1365"/>
                </a:lnTo>
                <a:lnTo>
                  <a:pt x="482" y="1365"/>
                </a:lnTo>
                <a:lnTo>
                  <a:pt x="480" y="1365"/>
                </a:lnTo>
                <a:lnTo>
                  <a:pt x="480" y="1363"/>
                </a:lnTo>
                <a:lnTo>
                  <a:pt x="478" y="1361"/>
                </a:lnTo>
                <a:lnTo>
                  <a:pt x="478" y="1361"/>
                </a:lnTo>
                <a:lnTo>
                  <a:pt x="478" y="1359"/>
                </a:lnTo>
                <a:lnTo>
                  <a:pt x="476" y="1357"/>
                </a:lnTo>
                <a:lnTo>
                  <a:pt x="476" y="1357"/>
                </a:lnTo>
                <a:lnTo>
                  <a:pt x="476" y="1355"/>
                </a:lnTo>
                <a:lnTo>
                  <a:pt x="444" y="1359"/>
                </a:lnTo>
                <a:lnTo>
                  <a:pt x="409" y="1363"/>
                </a:lnTo>
                <a:lnTo>
                  <a:pt x="375" y="1363"/>
                </a:lnTo>
                <a:lnTo>
                  <a:pt x="340" y="1363"/>
                </a:lnTo>
                <a:lnTo>
                  <a:pt x="306" y="1359"/>
                </a:lnTo>
                <a:lnTo>
                  <a:pt x="271" y="1355"/>
                </a:lnTo>
                <a:lnTo>
                  <a:pt x="238" y="1349"/>
                </a:lnTo>
                <a:lnTo>
                  <a:pt x="206" y="1342"/>
                </a:lnTo>
                <a:lnTo>
                  <a:pt x="173" y="1332"/>
                </a:lnTo>
                <a:lnTo>
                  <a:pt x="142" y="1322"/>
                </a:lnTo>
                <a:lnTo>
                  <a:pt x="112" y="1309"/>
                </a:lnTo>
                <a:lnTo>
                  <a:pt x="81" y="1295"/>
                </a:lnTo>
                <a:lnTo>
                  <a:pt x="52" y="1282"/>
                </a:lnTo>
                <a:lnTo>
                  <a:pt x="23" y="1265"/>
                </a:lnTo>
                <a:lnTo>
                  <a:pt x="0" y="1249"/>
                </a:lnTo>
                <a:lnTo>
                  <a:pt x="0" y="1251"/>
                </a:lnTo>
                <a:lnTo>
                  <a:pt x="2" y="1253"/>
                </a:lnTo>
                <a:lnTo>
                  <a:pt x="2" y="1255"/>
                </a:lnTo>
                <a:lnTo>
                  <a:pt x="2" y="1257"/>
                </a:lnTo>
                <a:lnTo>
                  <a:pt x="2" y="1259"/>
                </a:lnTo>
                <a:lnTo>
                  <a:pt x="2" y="1261"/>
                </a:lnTo>
                <a:lnTo>
                  <a:pt x="2" y="1261"/>
                </a:lnTo>
                <a:lnTo>
                  <a:pt x="2" y="1263"/>
                </a:lnTo>
                <a:close/>
              </a:path>
            </a:pathLst>
          </a:custGeom>
          <a:solidFill>
            <a:srgbClr val="7f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reeform 400"/>
          <p:cNvSpPr/>
          <p:nvPr/>
        </p:nvSpPr>
        <p:spPr>
          <a:xfrm>
            <a:off x="5748480" y="2162160"/>
            <a:ext cx="758520" cy="2162160"/>
          </a:xfrm>
          <a:custGeom>
            <a:avLst/>
            <a:gdLst>
              <a:gd name="textAreaLeft" fmla="*/ 0 w 758520"/>
              <a:gd name="textAreaRight" fmla="*/ 758880 w 758520"/>
              <a:gd name="textAreaTop" fmla="*/ 0 h 2162160"/>
              <a:gd name="textAreaBottom" fmla="*/ 2162520 h 2162160"/>
            </a:gdLst>
            <a:ahLst/>
            <a:rect l="textAreaLeft" t="textAreaTop" r="textAreaRight" b="textAreaBottom"/>
            <a:pathLst>
              <a:path w="478" h="1362">
                <a:moveTo>
                  <a:pt x="457" y="4"/>
                </a:moveTo>
                <a:lnTo>
                  <a:pt x="444" y="4"/>
                </a:lnTo>
                <a:lnTo>
                  <a:pt x="409" y="0"/>
                </a:lnTo>
                <a:lnTo>
                  <a:pt x="375" y="0"/>
                </a:lnTo>
                <a:lnTo>
                  <a:pt x="340" y="0"/>
                </a:lnTo>
                <a:lnTo>
                  <a:pt x="306" y="4"/>
                </a:lnTo>
                <a:lnTo>
                  <a:pt x="271" y="8"/>
                </a:lnTo>
                <a:lnTo>
                  <a:pt x="238" y="14"/>
                </a:lnTo>
                <a:lnTo>
                  <a:pt x="204" y="21"/>
                </a:lnTo>
                <a:lnTo>
                  <a:pt x="173" y="31"/>
                </a:lnTo>
                <a:lnTo>
                  <a:pt x="154" y="37"/>
                </a:lnTo>
                <a:lnTo>
                  <a:pt x="152" y="38"/>
                </a:lnTo>
                <a:lnTo>
                  <a:pt x="152" y="40"/>
                </a:lnTo>
                <a:lnTo>
                  <a:pt x="152" y="40"/>
                </a:lnTo>
                <a:lnTo>
                  <a:pt x="152" y="42"/>
                </a:lnTo>
                <a:lnTo>
                  <a:pt x="150" y="44"/>
                </a:lnTo>
                <a:lnTo>
                  <a:pt x="150" y="46"/>
                </a:lnTo>
                <a:lnTo>
                  <a:pt x="150" y="48"/>
                </a:lnTo>
                <a:lnTo>
                  <a:pt x="150" y="50"/>
                </a:lnTo>
                <a:lnTo>
                  <a:pt x="175" y="40"/>
                </a:lnTo>
                <a:lnTo>
                  <a:pt x="208" y="31"/>
                </a:lnTo>
                <a:lnTo>
                  <a:pt x="240" y="23"/>
                </a:lnTo>
                <a:lnTo>
                  <a:pt x="273" y="17"/>
                </a:lnTo>
                <a:lnTo>
                  <a:pt x="306" y="14"/>
                </a:lnTo>
                <a:lnTo>
                  <a:pt x="340" y="12"/>
                </a:lnTo>
                <a:lnTo>
                  <a:pt x="375" y="10"/>
                </a:lnTo>
                <a:lnTo>
                  <a:pt x="409" y="12"/>
                </a:lnTo>
                <a:lnTo>
                  <a:pt x="444" y="14"/>
                </a:lnTo>
                <a:lnTo>
                  <a:pt x="451" y="15"/>
                </a:lnTo>
                <a:lnTo>
                  <a:pt x="453" y="14"/>
                </a:lnTo>
                <a:lnTo>
                  <a:pt x="453" y="12"/>
                </a:lnTo>
                <a:lnTo>
                  <a:pt x="453" y="12"/>
                </a:lnTo>
                <a:lnTo>
                  <a:pt x="455" y="10"/>
                </a:lnTo>
                <a:lnTo>
                  <a:pt x="455" y="8"/>
                </a:lnTo>
                <a:lnTo>
                  <a:pt x="457" y="8"/>
                </a:lnTo>
                <a:lnTo>
                  <a:pt x="457" y="6"/>
                </a:lnTo>
                <a:lnTo>
                  <a:pt x="457" y="4"/>
                </a:lnTo>
                <a:close/>
                <a:moveTo>
                  <a:pt x="2" y="1251"/>
                </a:moveTo>
                <a:lnTo>
                  <a:pt x="22" y="1263"/>
                </a:lnTo>
                <a:lnTo>
                  <a:pt x="50" y="1280"/>
                </a:lnTo>
                <a:lnTo>
                  <a:pt x="79" y="1295"/>
                </a:lnTo>
                <a:lnTo>
                  <a:pt x="110" y="1309"/>
                </a:lnTo>
                <a:lnTo>
                  <a:pt x="141" y="1320"/>
                </a:lnTo>
                <a:lnTo>
                  <a:pt x="173" y="1332"/>
                </a:lnTo>
                <a:lnTo>
                  <a:pt x="204" y="1341"/>
                </a:lnTo>
                <a:lnTo>
                  <a:pt x="238" y="1349"/>
                </a:lnTo>
                <a:lnTo>
                  <a:pt x="271" y="1355"/>
                </a:lnTo>
                <a:lnTo>
                  <a:pt x="306" y="1359"/>
                </a:lnTo>
                <a:lnTo>
                  <a:pt x="340" y="1360"/>
                </a:lnTo>
                <a:lnTo>
                  <a:pt x="375" y="1362"/>
                </a:lnTo>
                <a:lnTo>
                  <a:pt x="409" y="1360"/>
                </a:lnTo>
                <a:lnTo>
                  <a:pt x="444" y="1359"/>
                </a:lnTo>
                <a:lnTo>
                  <a:pt x="478" y="1355"/>
                </a:lnTo>
                <a:lnTo>
                  <a:pt x="478" y="1353"/>
                </a:lnTo>
                <a:lnTo>
                  <a:pt x="476" y="1351"/>
                </a:lnTo>
                <a:lnTo>
                  <a:pt x="476" y="1351"/>
                </a:lnTo>
                <a:lnTo>
                  <a:pt x="476" y="1349"/>
                </a:lnTo>
                <a:lnTo>
                  <a:pt x="475" y="1347"/>
                </a:lnTo>
                <a:lnTo>
                  <a:pt x="475" y="1347"/>
                </a:lnTo>
                <a:lnTo>
                  <a:pt x="473" y="1345"/>
                </a:lnTo>
                <a:lnTo>
                  <a:pt x="473" y="1345"/>
                </a:lnTo>
                <a:lnTo>
                  <a:pt x="444" y="1347"/>
                </a:lnTo>
                <a:lnTo>
                  <a:pt x="409" y="1351"/>
                </a:lnTo>
                <a:lnTo>
                  <a:pt x="375" y="1351"/>
                </a:lnTo>
                <a:lnTo>
                  <a:pt x="340" y="1351"/>
                </a:lnTo>
                <a:lnTo>
                  <a:pt x="306" y="1347"/>
                </a:lnTo>
                <a:lnTo>
                  <a:pt x="273" y="1343"/>
                </a:lnTo>
                <a:lnTo>
                  <a:pt x="240" y="1337"/>
                </a:lnTo>
                <a:lnTo>
                  <a:pt x="208" y="1330"/>
                </a:lnTo>
                <a:lnTo>
                  <a:pt x="175" y="1322"/>
                </a:lnTo>
                <a:lnTo>
                  <a:pt x="144" y="1311"/>
                </a:lnTo>
                <a:lnTo>
                  <a:pt x="114" y="1299"/>
                </a:lnTo>
                <a:lnTo>
                  <a:pt x="85" y="1286"/>
                </a:lnTo>
                <a:lnTo>
                  <a:pt x="56" y="1270"/>
                </a:lnTo>
                <a:lnTo>
                  <a:pt x="27" y="1255"/>
                </a:lnTo>
                <a:lnTo>
                  <a:pt x="0" y="1238"/>
                </a:lnTo>
                <a:lnTo>
                  <a:pt x="0" y="1240"/>
                </a:lnTo>
                <a:lnTo>
                  <a:pt x="0" y="1241"/>
                </a:lnTo>
                <a:lnTo>
                  <a:pt x="0" y="1241"/>
                </a:lnTo>
                <a:lnTo>
                  <a:pt x="0" y="1243"/>
                </a:lnTo>
                <a:lnTo>
                  <a:pt x="0" y="1245"/>
                </a:lnTo>
                <a:lnTo>
                  <a:pt x="2" y="1247"/>
                </a:lnTo>
                <a:lnTo>
                  <a:pt x="2" y="1249"/>
                </a:lnTo>
                <a:lnTo>
                  <a:pt x="2" y="1251"/>
                </a:lnTo>
                <a:close/>
              </a:path>
            </a:pathLst>
          </a:custGeom>
          <a:solidFill>
            <a:srgbClr val="8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Freeform 401"/>
          <p:cNvSpPr/>
          <p:nvPr/>
        </p:nvSpPr>
        <p:spPr>
          <a:xfrm>
            <a:off x="5748480" y="2168640"/>
            <a:ext cx="755640" cy="2147760"/>
          </a:xfrm>
          <a:custGeom>
            <a:avLst/>
            <a:gdLst>
              <a:gd name="textAreaLeft" fmla="*/ 0 w 755640"/>
              <a:gd name="textAreaRight" fmla="*/ 756000 w 755640"/>
              <a:gd name="textAreaTop" fmla="*/ 0 h 2147760"/>
              <a:gd name="textAreaBottom" fmla="*/ 2148120 h 2147760"/>
            </a:gdLst>
            <a:ahLst/>
            <a:rect l="textAreaLeft" t="textAreaTop" r="textAreaRight" b="textAreaBottom"/>
            <a:pathLst>
              <a:path w="476" h="1353">
                <a:moveTo>
                  <a:pt x="455" y="6"/>
                </a:moveTo>
                <a:lnTo>
                  <a:pt x="444" y="4"/>
                </a:lnTo>
                <a:lnTo>
                  <a:pt x="409" y="2"/>
                </a:lnTo>
                <a:lnTo>
                  <a:pt x="375" y="0"/>
                </a:lnTo>
                <a:lnTo>
                  <a:pt x="340" y="2"/>
                </a:lnTo>
                <a:lnTo>
                  <a:pt x="306" y="4"/>
                </a:lnTo>
                <a:lnTo>
                  <a:pt x="271" y="10"/>
                </a:lnTo>
                <a:lnTo>
                  <a:pt x="238" y="15"/>
                </a:lnTo>
                <a:lnTo>
                  <a:pt x="206" y="23"/>
                </a:lnTo>
                <a:lnTo>
                  <a:pt x="173" y="31"/>
                </a:lnTo>
                <a:lnTo>
                  <a:pt x="152" y="38"/>
                </a:lnTo>
                <a:lnTo>
                  <a:pt x="150" y="40"/>
                </a:lnTo>
                <a:lnTo>
                  <a:pt x="150" y="42"/>
                </a:lnTo>
                <a:lnTo>
                  <a:pt x="150" y="44"/>
                </a:lnTo>
                <a:lnTo>
                  <a:pt x="150" y="46"/>
                </a:lnTo>
                <a:lnTo>
                  <a:pt x="148" y="46"/>
                </a:lnTo>
                <a:lnTo>
                  <a:pt x="148" y="48"/>
                </a:lnTo>
                <a:lnTo>
                  <a:pt x="148" y="50"/>
                </a:lnTo>
                <a:lnTo>
                  <a:pt x="146" y="52"/>
                </a:lnTo>
                <a:lnTo>
                  <a:pt x="177" y="42"/>
                </a:lnTo>
                <a:lnTo>
                  <a:pt x="208" y="33"/>
                </a:lnTo>
                <a:lnTo>
                  <a:pt x="240" y="25"/>
                </a:lnTo>
                <a:lnTo>
                  <a:pt x="273" y="19"/>
                </a:lnTo>
                <a:lnTo>
                  <a:pt x="308" y="15"/>
                </a:lnTo>
                <a:lnTo>
                  <a:pt x="340" y="11"/>
                </a:lnTo>
                <a:lnTo>
                  <a:pt x="375" y="11"/>
                </a:lnTo>
                <a:lnTo>
                  <a:pt x="409" y="11"/>
                </a:lnTo>
                <a:lnTo>
                  <a:pt x="444" y="15"/>
                </a:lnTo>
                <a:lnTo>
                  <a:pt x="450" y="15"/>
                </a:lnTo>
                <a:lnTo>
                  <a:pt x="450" y="15"/>
                </a:lnTo>
                <a:lnTo>
                  <a:pt x="451" y="13"/>
                </a:lnTo>
                <a:lnTo>
                  <a:pt x="451" y="11"/>
                </a:lnTo>
                <a:lnTo>
                  <a:pt x="451" y="11"/>
                </a:lnTo>
                <a:lnTo>
                  <a:pt x="453" y="10"/>
                </a:lnTo>
                <a:lnTo>
                  <a:pt x="453" y="8"/>
                </a:lnTo>
                <a:lnTo>
                  <a:pt x="453" y="8"/>
                </a:lnTo>
                <a:lnTo>
                  <a:pt x="455" y="6"/>
                </a:lnTo>
                <a:close/>
                <a:moveTo>
                  <a:pt x="0" y="1239"/>
                </a:moveTo>
                <a:lnTo>
                  <a:pt x="23" y="1255"/>
                </a:lnTo>
                <a:lnTo>
                  <a:pt x="52" y="1272"/>
                </a:lnTo>
                <a:lnTo>
                  <a:pt x="81" y="1285"/>
                </a:lnTo>
                <a:lnTo>
                  <a:pt x="112" y="1299"/>
                </a:lnTo>
                <a:lnTo>
                  <a:pt x="142" y="1312"/>
                </a:lnTo>
                <a:lnTo>
                  <a:pt x="173" y="1322"/>
                </a:lnTo>
                <a:lnTo>
                  <a:pt x="206" y="1332"/>
                </a:lnTo>
                <a:lnTo>
                  <a:pt x="238" y="1339"/>
                </a:lnTo>
                <a:lnTo>
                  <a:pt x="271" y="1345"/>
                </a:lnTo>
                <a:lnTo>
                  <a:pt x="306" y="1349"/>
                </a:lnTo>
                <a:lnTo>
                  <a:pt x="340" y="1353"/>
                </a:lnTo>
                <a:lnTo>
                  <a:pt x="375" y="1353"/>
                </a:lnTo>
                <a:lnTo>
                  <a:pt x="409" y="1353"/>
                </a:lnTo>
                <a:lnTo>
                  <a:pt x="444" y="1349"/>
                </a:lnTo>
                <a:lnTo>
                  <a:pt x="476" y="1345"/>
                </a:lnTo>
                <a:lnTo>
                  <a:pt x="475" y="1343"/>
                </a:lnTo>
                <a:lnTo>
                  <a:pt x="475" y="1343"/>
                </a:lnTo>
                <a:lnTo>
                  <a:pt x="473" y="1341"/>
                </a:lnTo>
                <a:lnTo>
                  <a:pt x="473" y="1341"/>
                </a:lnTo>
                <a:lnTo>
                  <a:pt x="473" y="1339"/>
                </a:lnTo>
                <a:lnTo>
                  <a:pt x="471" y="1337"/>
                </a:lnTo>
                <a:lnTo>
                  <a:pt x="471" y="1337"/>
                </a:lnTo>
                <a:lnTo>
                  <a:pt x="469" y="1335"/>
                </a:lnTo>
                <a:lnTo>
                  <a:pt x="444" y="1339"/>
                </a:lnTo>
                <a:lnTo>
                  <a:pt x="409" y="1341"/>
                </a:lnTo>
                <a:lnTo>
                  <a:pt x="375" y="1341"/>
                </a:lnTo>
                <a:lnTo>
                  <a:pt x="340" y="1341"/>
                </a:lnTo>
                <a:lnTo>
                  <a:pt x="308" y="1339"/>
                </a:lnTo>
                <a:lnTo>
                  <a:pt x="273" y="1335"/>
                </a:lnTo>
                <a:lnTo>
                  <a:pt x="240" y="1328"/>
                </a:lnTo>
                <a:lnTo>
                  <a:pt x="208" y="1322"/>
                </a:lnTo>
                <a:lnTo>
                  <a:pt x="177" y="1312"/>
                </a:lnTo>
                <a:lnTo>
                  <a:pt x="146" y="1301"/>
                </a:lnTo>
                <a:lnTo>
                  <a:pt x="116" y="1289"/>
                </a:lnTo>
                <a:lnTo>
                  <a:pt x="87" y="1276"/>
                </a:lnTo>
                <a:lnTo>
                  <a:pt x="58" y="1262"/>
                </a:lnTo>
                <a:lnTo>
                  <a:pt x="29" y="1245"/>
                </a:lnTo>
                <a:lnTo>
                  <a:pt x="2" y="1228"/>
                </a:lnTo>
                <a:lnTo>
                  <a:pt x="0" y="1226"/>
                </a:lnTo>
                <a:lnTo>
                  <a:pt x="0" y="1228"/>
                </a:lnTo>
                <a:lnTo>
                  <a:pt x="0" y="1230"/>
                </a:lnTo>
                <a:lnTo>
                  <a:pt x="0" y="1232"/>
                </a:lnTo>
                <a:lnTo>
                  <a:pt x="0" y="1234"/>
                </a:lnTo>
                <a:lnTo>
                  <a:pt x="0" y="1236"/>
                </a:lnTo>
                <a:lnTo>
                  <a:pt x="0" y="1237"/>
                </a:lnTo>
                <a:lnTo>
                  <a:pt x="0" y="1237"/>
                </a:lnTo>
                <a:lnTo>
                  <a:pt x="0" y="1239"/>
                </a:lnTo>
                <a:close/>
              </a:path>
            </a:pathLst>
          </a:custGeom>
          <a:solidFill>
            <a:srgbClr val="81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Freeform 402"/>
          <p:cNvSpPr/>
          <p:nvPr/>
        </p:nvSpPr>
        <p:spPr>
          <a:xfrm>
            <a:off x="5748480" y="2178000"/>
            <a:ext cx="750600" cy="2129040"/>
          </a:xfrm>
          <a:custGeom>
            <a:avLst/>
            <a:gdLst>
              <a:gd name="textAreaLeft" fmla="*/ 0 w 750600"/>
              <a:gd name="textAreaRight" fmla="*/ 750960 w 750600"/>
              <a:gd name="textAreaTop" fmla="*/ 0 h 2129040"/>
              <a:gd name="textAreaBottom" fmla="*/ 2129400 h 2129040"/>
            </a:gdLst>
            <a:ahLst/>
            <a:rect l="textAreaLeft" t="textAreaTop" r="textAreaRight" b="textAreaBottom"/>
            <a:pathLst>
              <a:path w="473" h="1341">
                <a:moveTo>
                  <a:pt x="451" y="5"/>
                </a:moveTo>
                <a:lnTo>
                  <a:pt x="444" y="4"/>
                </a:lnTo>
                <a:lnTo>
                  <a:pt x="409" y="2"/>
                </a:lnTo>
                <a:lnTo>
                  <a:pt x="375" y="0"/>
                </a:lnTo>
                <a:lnTo>
                  <a:pt x="340" y="2"/>
                </a:lnTo>
                <a:lnTo>
                  <a:pt x="306" y="4"/>
                </a:lnTo>
                <a:lnTo>
                  <a:pt x="273" y="7"/>
                </a:lnTo>
                <a:lnTo>
                  <a:pt x="240" y="13"/>
                </a:lnTo>
                <a:lnTo>
                  <a:pt x="208" y="21"/>
                </a:lnTo>
                <a:lnTo>
                  <a:pt x="175" y="30"/>
                </a:lnTo>
                <a:lnTo>
                  <a:pt x="150" y="40"/>
                </a:lnTo>
                <a:lnTo>
                  <a:pt x="148" y="40"/>
                </a:lnTo>
                <a:lnTo>
                  <a:pt x="148" y="42"/>
                </a:lnTo>
                <a:lnTo>
                  <a:pt x="148" y="44"/>
                </a:lnTo>
                <a:lnTo>
                  <a:pt x="146" y="46"/>
                </a:lnTo>
                <a:lnTo>
                  <a:pt x="146" y="48"/>
                </a:lnTo>
                <a:lnTo>
                  <a:pt x="146" y="50"/>
                </a:lnTo>
                <a:lnTo>
                  <a:pt x="146" y="50"/>
                </a:lnTo>
                <a:lnTo>
                  <a:pt x="144" y="52"/>
                </a:lnTo>
                <a:lnTo>
                  <a:pt x="148" y="52"/>
                </a:lnTo>
                <a:lnTo>
                  <a:pt x="179" y="40"/>
                </a:lnTo>
                <a:lnTo>
                  <a:pt x="210" y="32"/>
                </a:lnTo>
                <a:lnTo>
                  <a:pt x="242" y="25"/>
                </a:lnTo>
                <a:lnTo>
                  <a:pt x="275" y="19"/>
                </a:lnTo>
                <a:lnTo>
                  <a:pt x="308" y="15"/>
                </a:lnTo>
                <a:lnTo>
                  <a:pt x="340" y="11"/>
                </a:lnTo>
                <a:lnTo>
                  <a:pt x="375" y="11"/>
                </a:lnTo>
                <a:lnTo>
                  <a:pt x="409" y="11"/>
                </a:lnTo>
                <a:lnTo>
                  <a:pt x="442" y="15"/>
                </a:lnTo>
                <a:lnTo>
                  <a:pt x="446" y="15"/>
                </a:lnTo>
                <a:lnTo>
                  <a:pt x="448" y="13"/>
                </a:lnTo>
                <a:lnTo>
                  <a:pt x="448" y="13"/>
                </a:lnTo>
                <a:lnTo>
                  <a:pt x="448" y="11"/>
                </a:lnTo>
                <a:lnTo>
                  <a:pt x="450" y="9"/>
                </a:lnTo>
                <a:lnTo>
                  <a:pt x="450" y="9"/>
                </a:lnTo>
                <a:lnTo>
                  <a:pt x="451" y="7"/>
                </a:lnTo>
                <a:lnTo>
                  <a:pt x="451" y="5"/>
                </a:lnTo>
                <a:lnTo>
                  <a:pt x="451" y="5"/>
                </a:lnTo>
                <a:close/>
                <a:moveTo>
                  <a:pt x="0" y="1228"/>
                </a:moveTo>
                <a:lnTo>
                  <a:pt x="27" y="1245"/>
                </a:lnTo>
                <a:lnTo>
                  <a:pt x="56" y="1260"/>
                </a:lnTo>
                <a:lnTo>
                  <a:pt x="85" y="1276"/>
                </a:lnTo>
                <a:lnTo>
                  <a:pt x="114" y="1289"/>
                </a:lnTo>
                <a:lnTo>
                  <a:pt x="144" y="1301"/>
                </a:lnTo>
                <a:lnTo>
                  <a:pt x="175" y="1312"/>
                </a:lnTo>
                <a:lnTo>
                  <a:pt x="208" y="1320"/>
                </a:lnTo>
                <a:lnTo>
                  <a:pt x="240" y="1327"/>
                </a:lnTo>
                <a:lnTo>
                  <a:pt x="273" y="1333"/>
                </a:lnTo>
                <a:lnTo>
                  <a:pt x="306" y="1337"/>
                </a:lnTo>
                <a:lnTo>
                  <a:pt x="340" y="1341"/>
                </a:lnTo>
                <a:lnTo>
                  <a:pt x="375" y="1341"/>
                </a:lnTo>
                <a:lnTo>
                  <a:pt x="409" y="1341"/>
                </a:lnTo>
                <a:lnTo>
                  <a:pt x="444" y="1337"/>
                </a:lnTo>
                <a:lnTo>
                  <a:pt x="473" y="1335"/>
                </a:lnTo>
                <a:lnTo>
                  <a:pt x="473" y="1333"/>
                </a:lnTo>
                <a:lnTo>
                  <a:pt x="471" y="1331"/>
                </a:lnTo>
                <a:lnTo>
                  <a:pt x="471" y="1331"/>
                </a:lnTo>
                <a:lnTo>
                  <a:pt x="469" y="1329"/>
                </a:lnTo>
                <a:lnTo>
                  <a:pt x="469" y="1327"/>
                </a:lnTo>
                <a:lnTo>
                  <a:pt x="469" y="1327"/>
                </a:lnTo>
                <a:lnTo>
                  <a:pt x="467" y="1326"/>
                </a:lnTo>
                <a:lnTo>
                  <a:pt x="467" y="1324"/>
                </a:lnTo>
                <a:lnTo>
                  <a:pt x="442" y="1327"/>
                </a:lnTo>
                <a:lnTo>
                  <a:pt x="409" y="1329"/>
                </a:lnTo>
                <a:lnTo>
                  <a:pt x="375" y="1331"/>
                </a:lnTo>
                <a:lnTo>
                  <a:pt x="340" y="1329"/>
                </a:lnTo>
                <a:lnTo>
                  <a:pt x="308" y="1327"/>
                </a:lnTo>
                <a:lnTo>
                  <a:pt x="275" y="1324"/>
                </a:lnTo>
                <a:lnTo>
                  <a:pt x="242" y="1318"/>
                </a:lnTo>
                <a:lnTo>
                  <a:pt x="210" y="1310"/>
                </a:lnTo>
                <a:lnTo>
                  <a:pt x="179" y="1301"/>
                </a:lnTo>
                <a:lnTo>
                  <a:pt x="148" y="1291"/>
                </a:lnTo>
                <a:lnTo>
                  <a:pt x="118" y="1279"/>
                </a:lnTo>
                <a:lnTo>
                  <a:pt x="89" y="1266"/>
                </a:lnTo>
                <a:lnTo>
                  <a:pt x="60" y="1251"/>
                </a:lnTo>
                <a:lnTo>
                  <a:pt x="33" y="1235"/>
                </a:lnTo>
                <a:lnTo>
                  <a:pt x="6" y="1218"/>
                </a:lnTo>
                <a:lnTo>
                  <a:pt x="0" y="1214"/>
                </a:lnTo>
                <a:lnTo>
                  <a:pt x="0" y="1216"/>
                </a:lnTo>
                <a:lnTo>
                  <a:pt x="0" y="1216"/>
                </a:lnTo>
                <a:lnTo>
                  <a:pt x="0" y="1218"/>
                </a:lnTo>
                <a:lnTo>
                  <a:pt x="0" y="1220"/>
                </a:lnTo>
                <a:lnTo>
                  <a:pt x="0" y="1222"/>
                </a:lnTo>
                <a:lnTo>
                  <a:pt x="0" y="1224"/>
                </a:lnTo>
                <a:lnTo>
                  <a:pt x="0" y="1226"/>
                </a:lnTo>
                <a:lnTo>
                  <a:pt x="0" y="1228"/>
                </a:lnTo>
                <a:close/>
              </a:path>
            </a:pathLst>
          </a:custGeom>
          <a:solidFill>
            <a:srgbClr val="82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Freeform 403"/>
          <p:cNvSpPr/>
          <p:nvPr/>
        </p:nvSpPr>
        <p:spPr>
          <a:xfrm>
            <a:off x="5746680" y="2185920"/>
            <a:ext cx="746280" cy="2114640"/>
          </a:xfrm>
          <a:custGeom>
            <a:avLst/>
            <a:gdLst>
              <a:gd name="textAreaLeft" fmla="*/ 0 w 746280"/>
              <a:gd name="textAreaRight" fmla="*/ 746640 w 746280"/>
              <a:gd name="textAreaTop" fmla="*/ 0 h 2114640"/>
              <a:gd name="textAreaBottom" fmla="*/ 2115000 h 2114640"/>
            </a:gdLst>
            <a:ahLst/>
            <a:rect l="textAreaLeft" t="textAreaTop" r="textAreaRight" b="textAreaBottom"/>
            <a:pathLst>
              <a:path w="470" h="1332">
                <a:moveTo>
                  <a:pt x="451" y="4"/>
                </a:moveTo>
                <a:lnTo>
                  <a:pt x="445" y="4"/>
                </a:lnTo>
                <a:lnTo>
                  <a:pt x="410" y="0"/>
                </a:lnTo>
                <a:lnTo>
                  <a:pt x="376" y="0"/>
                </a:lnTo>
                <a:lnTo>
                  <a:pt x="341" y="0"/>
                </a:lnTo>
                <a:lnTo>
                  <a:pt x="309" y="4"/>
                </a:lnTo>
                <a:lnTo>
                  <a:pt x="274" y="8"/>
                </a:lnTo>
                <a:lnTo>
                  <a:pt x="241" y="14"/>
                </a:lnTo>
                <a:lnTo>
                  <a:pt x="209" y="22"/>
                </a:lnTo>
                <a:lnTo>
                  <a:pt x="178" y="31"/>
                </a:lnTo>
                <a:lnTo>
                  <a:pt x="147" y="41"/>
                </a:lnTo>
                <a:lnTo>
                  <a:pt x="147" y="43"/>
                </a:lnTo>
                <a:lnTo>
                  <a:pt x="147" y="45"/>
                </a:lnTo>
                <a:lnTo>
                  <a:pt x="147" y="45"/>
                </a:lnTo>
                <a:lnTo>
                  <a:pt x="145" y="47"/>
                </a:lnTo>
                <a:lnTo>
                  <a:pt x="145" y="48"/>
                </a:lnTo>
                <a:lnTo>
                  <a:pt x="145" y="50"/>
                </a:lnTo>
                <a:lnTo>
                  <a:pt x="145" y="52"/>
                </a:lnTo>
                <a:lnTo>
                  <a:pt x="143" y="54"/>
                </a:lnTo>
                <a:lnTo>
                  <a:pt x="151" y="50"/>
                </a:lnTo>
                <a:lnTo>
                  <a:pt x="182" y="41"/>
                </a:lnTo>
                <a:lnTo>
                  <a:pt x="213" y="31"/>
                </a:lnTo>
                <a:lnTo>
                  <a:pt x="243" y="23"/>
                </a:lnTo>
                <a:lnTo>
                  <a:pt x="276" y="18"/>
                </a:lnTo>
                <a:lnTo>
                  <a:pt x="309" y="14"/>
                </a:lnTo>
                <a:lnTo>
                  <a:pt x="343" y="12"/>
                </a:lnTo>
                <a:lnTo>
                  <a:pt x="376" y="12"/>
                </a:lnTo>
                <a:lnTo>
                  <a:pt x="410" y="12"/>
                </a:lnTo>
                <a:lnTo>
                  <a:pt x="443" y="14"/>
                </a:lnTo>
                <a:lnTo>
                  <a:pt x="445" y="14"/>
                </a:lnTo>
                <a:lnTo>
                  <a:pt x="445" y="14"/>
                </a:lnTo>
                <a:lnTo>
                  <a:pt x="447" y="12"/>
                </a:lnTo>
                <a:lnTo>
                  <a:pt x="447" y="10"/>
                </a:lnTo>
                <a:lnTo>
                  <a:pt x="447" y="10"/>
                </a:lnTo>
                <a:lnTo>
                  <a:pt x="449" y="8"/>
                </a:lnTo>
                <a:lnTo>
                  <a:pt x="449" y="8"/>
                </a:lnTo>
                <a:lnTo>
                  <a:pt x="449" y="6"/>
                </a:lnTo>
                <a:lnTo>
                  <a:pt x="451" y="4"/>
                </a:lnTo>
                <a:close/>
                <a:moveTo>
                  <a:pt x="1" y="1215"/>
                </a:moveTo>
                <a:lnTo>
                  <a:pt x="3" y="1217"/>
                </a:lnTo>
                <a:lnTo>
                  <a:pt x="30" y="1234"/>
                </a:lnTo>
                <a:lnTo>
                  <a:pt x="59" y="1251"/>
                </a:lnTo>
                <a:lnTo>
                  <a:pt x="88" y="1265"/>
                </a:lnTo>
                <a:lnTo>
                  <a:pt x="117" y="1278"/>
                </a:lnTo>
                <a:lnTo>
                  <a:pt x="147" y="1290"/>
                </a:lnTo>
                <a:lnTo>
                  <a:pt x="178" y="1301"/>
                </a:lnTo>
                <a:lnTo>
                  <a:pt x="209" y="1311"/>
                </a:lnTo>
                <a:lnTo>
                  <a:pt x="241" y="1317"/>
                </a:lnTo>
                <a:lnTo>
                  <a:pt x="274" y="1324"/>
                </a:lnTo>
                <a:lnTo>
                  <a:pt x="309" y="1328"/>
                </a:lnTo>
                <a:lnTo>
                  <a:pt x="341" y="1330"/>
                </a:lnTo>
                <a:lnTo>
                  <a:pt x="376" y="1332"/>
                </a:lnTo>
                <a:lnTo>
                  <a:pt x="410" y="1330"/>
                </a:lnTo>
                <a:lnTo>
                  <a:pt x="445" y="1328"/>
                </a:lnTo>
                <a:lnTo>
                  <a:pt x="470" y="1324"/>
                </a:lnTo>
                <a:lnTo>
                  <a:pt x="470" y="1322"/>
                </a:lnTo>
                <a:lnTo>
                  <a:pt x="470" y="1322"/>
                </a:lnTo>
                <a:lnTo>
                  <a:pt x="468" y="1321"/>
                </a:lnTo>
                <a:lnTo>
                  <a:pt x="468" y="1319"/>
                </a:lnTo>
                <a:lnTo>
                  <a:pt x="468" y="1319"/>
                </a:lnTo>
                <a:lnTo>
                  <a:pt x="466" y="1317"/>
                </a:lnTo>
                <a:lnTo>
                  <a:pt x="466" y="1315"/>
                </a:lnTo>
                <a:lnTo>
                  <a:pt x="464" y="1315"/>
                </a:lnTo>
                <a:lnTo>
                  <a:pt x="443" y="1317"/>
                </a:lnTo>
                <a:lnTo>
                  <a:pt x="410" y="1321"/>
                </a:lnTo>
                <a:lnTo>
                  <a:pt x="376" y="1321"/>
                </a:lnTo>
                <a:lnTo>
                  <a:pt x="343" y="1321"/>
                </a:lnTo>
                <a:lnTo>
                  <a:pt x="309" y="1317"/>
                </a:lnTo>
                <a:lnTo>
                  <a:pt x="276" y="1313"/>
                </a:lnTo>
                <a:lnTo>
                  <a:pt x="243" y="1307"/>
                </a:lnTo>
                <a:lnTo>
                  <a:pt x="213" y="1299"/>
                </a:lnTo>
                <a:lnTo>
                  <a:pt x="182" y="1292"/>
                </a:lnTo>
                <a:lnTo>
                  <a:pt x="151" y="1280"/>
                </a:lnTo>
                <a:lnTo>
                  <a:pt x="120" y="1269"/>
                </a:lnTo>
                <a:lnTo>
                  <a:pt x="92" y="1255"/>
                </a:lnTo>
                <a:lnTo>
                  <a:pt x="63" y="1242"/>
                </a:lnTo>
                <a:lnTo>
                  <a:pt x="36" y="1226"/>
                </a:lnTo>
                <a:lnTo>
                  <a:pt x="9" y="1209"/>
                </a:lnTo>
                <a:lnTo>
                  <a:pt x="0" y="1202"/>
                </a:lnTo>
                <a:lnTo>
                  <a:pt x="0" y="1203"/>
                </a:lnTo>
                <a:lnTo>
                  <a:pt x="0" y="1205"/>
                </a:lnTo>
                <a:lnTo>
                  <a:pt x="1" y="1207"/>
                </a:lnTo>
                <a:lnTo>
                  <a:pt x="1" y="1209"/>
                </a:lnTo>
                <a:lnTo>
                  <a:pt x="1" y="1211"/>
                </a:lnTo>
                <a:lnTo>
                  <a:pt x="1" y="1211"/>
                </a:lnTo>
                <a:lnTo>
                  <a:pt x="1" y="1213"/>
                </a:lnTo>
                <a:lnTo>
                  <a:pt x="1" y="1215"/>
                </a:lnTo>
                <a:close/>
              </a:path>
            </a:pathLst>
          </a:custGeom>
          <a:solidFill>
            <a:srgbClr val="83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Freeform 404"/>
          <p:cNvSpPr/>
          <p:nvPr/>
        </p:nvSpPr>
        <p:spPr>
          <a:xfrm>
            <a:off x="5746680" y="2195640"/>
            <a:ext cx="743040" cy="2095200"/>
          </a:xfrm>
          <a:custGeom>
            <a:avLst/>
            <a:gdLst>
              <a:gd name="textAreaLeft" fmla="*/ 0 w 743040"/>
              <a:gd name="textAreaRight" fmla="*/ 743400 w 743040"/>
              <a:gd name="textAreaTop" fmla="*/ 0 h 2095200"/>
              <a:gd name="textAreaBottom" fmla="*/ 2095560 h 2095200"/>
            </a:gdLst>
            <a:ahLst/>
            <a:rect l="textAreaLeft" t="textAreaTop" r="textAreaRight" b="textAreaBottom"/>
            <a:pathLst>
              <a:path w="468" h="1320">
                <a:moveTo>
                  <a:pt x="447" y="4"/>
                </a:moveTo>
                <a:lnTo>
                  <a:pt x="443" y="4"/>
                </a:lnTo>
                <a:lnTo>
                  <a:pt x="410" y="0"/>
                </a:lnTo>
                <a:lnTo>
                  <a:pt x="376" y="0"/>
                </a:lnTo>
                <a:lnTo>
                  <a:pt x="341" y="0"/>
                </a:lnTo>
                <a:lnTo>
                  <a:pt x="309" y="4"/>
                </a:lnTo>
                <a:lnTo>
                  <a:pt x="276" y="8"/>
                </a:lnTo>
                <a:lnTo>
                  <a:pt x="243" y="14"/>
                </a:lnTo>
                <a:lnTo>
                  <a:pt x="211" y="21"/>
                </a:lnTo>
                <a:lnTo>
                  <a:pt x="180" y="29"/>
                </a:lnTo>
                <a:lnTo>
                  <a:pt x="149" y="41"/>
                </a:lnTo>
                <a:lnTo>
                  <a:pt x="145" y="41"/>
                </a:lnTo>
                <a:lnTo>
                  <a:pt x="145" y="42"/>
                </a:lnTo>
                <a:lnTo>
                  <a:pt x="145" y="44"/>
                </a:lnTo>
                <a:lnTo>
                  <a:pt x="145" y="46"/>
                </a:lnTo>
                <a:lnTo>
                  <a:pt x="143" y="48"/>
                </a:lnTo>
                <a:lnTo>
                  <a:pt x="143" y="50"/>
                </a:lnTo>
                <a:lnTo>
                  <a:pt x="143" y="50"/>
                </a:lnTo>
                <a:lnTo>
                  <a:pt x="142" y="52"/>
                </a:lnTo>
                <a:lnTo>
                  <a:pt x="142" y="54"/>
                </a:lnTo>
                <a:lnTo>
                  <a:pt x="153" y="50"/>
                </a:lnTo>
                <a:lnTo>
                  <a:pt x="182" y="41"/>
                </a:lnTo>
                <a:lnTo>
                  <a:pt x="214" y="31"/>
                </a:lnTo>
                <a:lnTo>
                  <a:pt x="245" y="23"/>
                </a:lnTo>
                <a:lnTo>
                  <a:pt x="278" y="17"/>
                </a:lnTo>
                <a:lnTo>
                  <a:pt x="309" y="14"/>
                </a:lnTo>
                <a:lnTo>
                  <a:pt x="343" y="12"/>
                </a:lnTo>
                <a:lnTo>
                  <a:pt x="376" y="10"/>
                </a:lnTo>
                <a:lnTo>
                  <a:pt x="408" y="12"/>
                </a:lnTo>
                <a:lnTo>
                  <a:pt x="441" y="14"/>
                </a:lnTo>
                <a:lnTo>
                  <a:pt x="443" y="12"/>
                </a:lnTo>
                <a:lnTo>
                  <a:pt x="443" y="12"/>
                </a:lnTo>
                <a:lnTo>
                  <a:pt x="445" y="10"/>
                </a:lnTo>
                <a:lnTo>
                  <a:pt x="445" y="8"/>
                </a:lnTo>
                <a:lnTo>
                  <a:pt x="445" y="8"/>
                </a:lnTo>
                <a:lnTo>
                  <a:pt x="447" y="6"/>
                </a:lnTo>
                <a:lnTo>
                  <a:pt x="447" y="4"/>
                </a:lnTo>
                <a:lnTo>
                  <a:pt x="447" y="4"/>
                </a:lnTo>
                <a:close/>
                <a:moveTo>
                  <a:pt x="1" y="1203"/>
                </a:moveTo>
                <a:lnTo>
                  <a:pt x="7" y="1207"/>
                </a:lnTo>
                <a:lnTo>
                  <a:pt x="34" y="1224"/>
                </a:lnTo>
                <a:lnTo>
                  <a:pt x="61" y="1240"/>
                </a:lnTo>
                <a:lnTo>
                  <a:pt x="90" y="1255"/>
                </a:lnTo>
                <a:lnTo>
                  <a:pt x="119" y="1268"/>
                </a:lnTo>
                <a:lnTo>
                  <a:pt x="149" y="1280"/>
                </a:lnTo>
                <a:lnTo>
                  <a:pt x="180" y="1290"/>
                </a:lnTo>
                <a:lnTo>
                  <a:pt x="211" y="1299"/>
                </a:lnTo>
                <a:lnTo>
                  <a:pt x="243" y="1307"/>
                </a:lnTo>
                <a:lnTo>
                  <a:pt x="276" y="1313"/>
                </a:lnTo>
                <a:lnTo>
                  <a:pt x="309" y="1316"/>
                </a:lnTo>
                <a:lnTo>
                  <a:pt x="341" y="1318"/>
                </a:lnTo>
                <a:lnTo>
                  <a:pt x="376" y="1320"/>
                </a:lnTo>
                <a:lnTo>
                  <a:pt x="410" y="1318"/>
                </a:lnTo>
                <a:lnTo>
                  <a:pt x="443" y="1316"/>
                </a:lnTo>
                <a:lnTo>
                  <a:pt x="468" y="1313"/>
                </a:lnTo>
                <a:lnTo>
                  <a:pt x="468" y="1313"/>
                </a:lnTo>
                <a:lnTo>
                  <a:pt x="466" y="1311"/>
                </a:lnTo>
                <a:lnTo>
                  <a:pt x="466" y="1309"/>
                </a:lnTo>
                <a:lnTo>
                  <a:pt x="464" y="1309"/>
                </a:lnTo>
                <a:lnTo>
                  <a:pt x="464" y="1307"/>
                </a:lnTo>
                <a:lnTo>
                  <a:pt x="464" y="1305"/>
                </a:lnTo>
                <a:lnTo>
                  <a:pt x="462" y="1305"/>
                </a:lnTo>
                <a:lnTo>
                  <a:pt x="462" y="1303"/>
                </a:lnTo>
                <a:lnTo>
                  <a:pt x="443" y="1305"/>
                </a:lnTo>
                <a:lnTo>
                  <a:pt x="408" y="1309"/>
                </a:lnTo>
                <a:lnTo>
                  <a:pt x="376" y="1309"/>
                </a:lnTo>
                <a:lnTo>
                  <a:pt x="343" y="1309"/>
                </a:lnTo>
                <a:lnTo>
                  <a:pt x="309" y="1305"/>
                </a:lnTo>
                <a:lnTo>
                  <a:pt x="278" y="1301"/>
                </a:lnTo>
                <a:lnTo>
                  <a:pt x="245" y="1295"/>
                </a:lnTo>
                <a:lnTo>
                  <a:pt x="214" y="1290"/>
                </a:lnTo>
                <a:lnTo>
                  <a:pt x="182" y="1280"/>
                </a:lnTo>
                <a:lnTo>
                  <a:pt x="153" y="1270"/>
                </a:lnTo>
                <a:lnTo>
                  <a:pt x="122" y="1259"/>
                </a:lnTo>
                <a:lnTo>
                  <a:pt x="94" y="1245"/>
                </a:lnTo>
                <a:lnTo>
                  <a:pt x="67" y="1230"/>
                </a:lnTo>
                <a:lnTo>
                  <a:pt x="40" y="1215"/>
                </a:lnTo>
                <a:lnTo>
                  <a:pt x="13" y="1197"/>
                </a:lnTo>
                <a:lnTo>
                  <a:pt x="0" y="1190"/>
                </a:lnTo>
                <a:lnTo>
                  <a:pt x="0" y="1190"/>
                </a:lnTo>
                <a:lnTo>
                  <a:pt x="0" y="1192"/>
                </a:lnTo>
                <a:lnTo>
                  <a:pt x="0" y="1194"/>
                </a:lnTo>
                <a:lnTo>
                  <a:pt x="0" y="1196"/>
                </a:lnTo>
                <a:lnTo>
                  <a:pt x="0" y="1197"/>
                </a:lnTo>
                <a:lnTo>
                  <a:pt x="0" y="1199"/>
                </a:lnTo>
                <a:lnTo>
                  <a:pt x="1" y="1201"/>
                </a:lnTo>
                <a:lnTo>
                  <a:pt x="1" y="1203"/>
                </a:lnTo>
                <a:close/>
              </a:path>
            </a:pathLst>
          </a:custGeom>
          <a:solidFill>
            <a:srgbClr val="84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Freeform 405"/>
          <p:cNvSpPr/>
          <p:nvPr/>
        </p:nvSpPr>
        <p:spPr>
          <a:xfrm>
            <a:off x="5746680" y="2205000"/>
            <a:ext cx="736560" cy="2077920"/>
          </a:xfrm>
          <a:custGeom>
            <a:avLst/>
            <a:gdLst>
              <a:gd name="textAreaLeft" fmla="*/ 0 w 736560"/>
              <a:gd name="textAreaRight" fmla="*/ 736920 w 736560"/>
              <a:gd name="textAreaTop" fmla="*/ 0 h 2077920"/>
              <a:gd name="textAreaBottom" fmla="*/ 2078280 h 2077920"/>
            </a:gdLst>
            <a:ahLst/>
            <a:rect l="textAreaLeft" t="textAreaTop" r="textAreaRight" b="textAreaBottom"/>
            <a:pathLst>
              <a:path w="464" h="1309">
                <a:moveTo>
                  <a:pt x="445" y="2"/>
                </a:moveTo>
                <a:lnTo>
                  <a:pt x="443" y="2"/>
                </a:lnTo>
                <a:lnTo>
                  <a:pt x="410" y="0"/>
                </a:lnTo>
                <a:lnTo>
                  <a:pt x="376" y="0"/>
                </a:lnTo>
                <a:lnTo>
                  <a:pt x="343" y="0"/>
                </a:lnTo>
                <a:lnTo>
                  <a:pt x="309" y="2"/>
                </a:lnTo>
                <a:lnTo>
                  <a:pt x="276" y="6"/>
                </a:lnTo>
                <a:lnTo>
                  <a:pt x="243" y="11"/>
                </a:lnTo>
                <a:lnTo>
                  <a:pt x="213" y="19"/>
                </a:lnTo>
                <a:lnTo>
                  <a:pt x="182" y="29"/>
                </a:lnTo>
                <a:lnTo>
                  <a:pt x="151" y="38"/>
                </a:lnTo>
                <a:lnTo>
                  <a:pt x="143" y="42"/>
                </a:lnTo>
                <a:lnTo>
                  <a:pt x="143" y="44"/>
                </a:lnTo>
                <a:lnTo>
                  <a:pt x="143" y="44"/>
                </a:lnTo>
                <a:lnTo>
                  <a:pt x="142" y="46"/>
                </a:lnTo>
                <a:lnTo>
                  <a:pt x="142" y="48"/>
                </a:lnTo>
                <a:lnTo>
                  <a:pt x="142" y="50"/>
                </a:lnTo>
                <a:lnTo>
                  <a:pt x="142" y="52"/>
                </a:lnTo>
                <a:lnTo>
                  <a:pt x="140" y="54"/>
                </a:lnTo>
                <a:lnTo>
                  <a:pt x="140" y="54"/>
                </a:lnTo>
                <a:lnTo>
                  <a:pt x="155" y="48"/>
                </a:lnTo>
                <a:lnTo>
                  <a:pt x="184" y="38"/>
                </a:lnTo>
                <a:lnTo>
                  <a:pt x="214" y="31"/>
                </a:lnTo>
                <a:lnTo>
                  <a:pt x="245" y="23"/>
                </a:lnTo>
                <a:lnTo>
                  <a:pt x="278" y="17"/>
                </a:lnTo>
                <a:lnTo>
                  <a:pt x="310" y="13"/>
                </a:lnTo>
                <a:lnTo>
                  <a:pt x="343" y="11"/>
                </a:lnTo>
                <a:lnTo>
                  <a:pt x="376" y="10"/>
                </a:lnTo>
                <a:lnTo>
                  <a:pt x="408" y="11"/>
                </a:lnTo>
                <a:lnTo>
                  <a:pt x="439" y="13"/>
                </a:lnTo>
                <a:lnTo>
                  <a:pt x="439" y="11"/>
                </a:lnTo>
                <a:lnTo>
                  <a:pt x="441" y="10"/>
                </a:lnTo>
                <a:lnTo>
                  <a:pt x="441" y="10"/>
                </a:lnTo>
                <a:lnTo>
                  <a:pt x="441" y="8"/>
                </a:lnTo>
                <a:lnTo>
                  <a:pt x="443" y="6"/>
                </a:lnTo>
                <a:lnTo>
                  <a:pt x="443" y="6"/>
                </a:lnTo>
                <a:lnTo>
                  <a:pt x="445" y="4"/>
                </a:lnTo>
                <a:lnTo>
                  <a:pt x="445" y="2"/>
                </a:lnTo>
                <a:close/>
                <a:moveTo>
                  <a:pt x="0" y="1190"/>
                </a:moveTo>
                <a:lnTo>
                  <a:pt x="9" y="1197"/>
                </a:lnTo>
                <a:lnTo>
                  <a:pt x="36" y="1214"/>
                </a:lnTo>
                <a:lnTo>
                  <a:pt x="63" y="1230"/>
                </a:lnTo>
                <a:lnTo>
                  <a:pt x="92" y="1243"/>
                </a:lnTo>
                <a:lnTo>
                  <a:pt x="120" y="1257"/>
                </a:lnTo>
                <a:lnTo>
                  <a:pt x="151" y="1268"/>
                </a:lnTo>
                <a:lnTo>
                  <a:pt x="182" y="1280"/>
                </a:lnTo>
                <a:lnTo>
                  <a:pt x="213" y="1287"/>
                </a:lnTo>
                <a:lnTo>
                  <a:pt x="243" y="1295"/>
                </a:lnTo>
                <a:lnTo>
                  <a:pt x="276" y="1301"/>
                </a:lnTo>
                <a:lnTo>
                  <a:pt x="309" y="1305"/>
                </a:lnTo>
                <a:lnTo>
                  <a:pt x="343" y="1309"/>
                </a:lnTo>
                <a:lnTo>
                  <a:pt x="376" y="1309"/>
                </a:lnTo>
                <a:lnTo>
                  <a:pt x="410" y="1309"/>
                </a:lnTo>
                <a:lnTo>
                  <a:pt x="443" y="1305"/>
                </a:lnTo>
                <a:lnTo>
                  <a:pt x="464" y="1303"/>
                </a:lnTo>
                <a:lnTo>
                  <a:pt x="464" y="1301"/>
                </a:lnTo>
                <a:lnTo>
                  <a:pt x="464" y="1299"/>
                </a:lnTo>
                <a:lnTo>
                  <a:pt x="462" y="1299"/>
                </a:lnTo>
                <a:lnTo>
                  <a:pt x="462" y="1297"/>
                </a:lnTo>
                <a:lnTo>
                  <a:pt x="462" y="1295"/>
                </a:lnTo>
                <a:lnTo>
                  <a:pt x="460" y="1295"/>
                </a:lnTo>
                <a:lnTo>
                  <a:pt x="460" y="1293"/>
                </a:lnTo>
                <a:lnTo>
                  <a:pt x="458" y="1293"/>
                </a:lnTo>
                <a:lnTo>
                  <a:pt x="441" y="1295"/>
                </a:lnTo>
                <a:lnTo>
                  <a:pt x="408" y="1297"/>
                </a:lnTo>
                <a:lnTo>
                  <a:pt x="376" y="1297"/>
                </a:lnTo>
                <a:lnTo>
                  <a:pt x="343" y="1297"/>
                </a:lnTo>
                <a:lnTo>
                  <a:pt x="310" y="1295"/>
                </a:lnTo>
                <a:lnTo>
                  <a:pt x="278" y="1291"/>
                </a:lnTo>
                <a:lnTo>
                  <a:pt x="245" y="1285"/>
                </a:lnTo>
                <a:lnTo>
                  <a:pt x="214" y="1278"/>
                </a:lnTo>
                <a:lnTo>
                  <a:pt x="184" y="1268"/>
                </a:lnTo>
                <a:lnTo>
                  <a:pt x="155" y="1259"/>
                </a:lnTo>
                <a:lnTo>
                  <a:pt x="124" y="1247"/>
                </a:lnTo>
                <a:lnTo>
                  <a:pt x="97" y="1234"/>
                </a:lnTo>
                <a:lnTo>
                  <a:pt x="69" y="1220"/>
                </a:lnTo>
                <a:lnTo>
                  <a:pt x="42" y="1205"/>
                </a:lnTo>
                <a:lnTo>
                  <a:pt x="15" y="1188"/>
                </a:lnTo>
                <a:lnTo>
                  <a:pt x="0" y="1176"/>
                </a:lnTo>
                <a:lnTo>
                  <a:pt x="0" y="1178"/>
                </a:lnTo>
                <a:lnTo>
                  <a:pt x="0" y="1180"/>
                </a:lnTo>
                <a:lnTo>
                  <a:pt x="0" y="1182"/>
                </a:lnTo>
                <a:lnTo>
                  <a:pt x="0" y="1184"/>
                </a:lnTo>
                <a:lnTo>
                  <a:pt x="0" y="1184"/>
                </a:lnTo>
                <a:lnTo>
                  <a:pt x="0" y="1186"/>
                </a:lnTo>
                <a:lnTo>
                  <a:pt x="0" y="1188"/>
                </a:lnTo>
                <a:lnTo>
                  <a:pt x="0" y="1190"/>
                </a:lnTo>
                <a:close/>
              </a:path>
            </a:pathLst>
          </a:custGeom>
          <a:solidFill>
            <a:srgbClr val="85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Freeform 406"/>
          <p:cNvSpPr/>
          <p:nvPr/>
        </p:nvSpPr>
        <p:spPr>
          <a:xfrm>
            <a:off x="5746680" y="2211480"/>
            <a:ext cx="733320" cy="2062080"/>
          </a:xfrm>
          <a:custGeom>
            <a:avLst/>
            <a:gdLst>
              <a:gd name="textAreaLeft" fmla="*/ 0 w 733320"/>
              <a:gd name="textAreaRight" fmla="*/ 733680 w 73332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462" h="1299">
                <a:moveTo>
                  <a:pt x="441" y="4"/>
                </a:moveTo>
                <a:lnTo>
                  <a:pt x="408" y="2"/>
                </a:lnTo>
                <a:lnTo>
                  <a:pt x="376" y="0"/>
                </a:lnTo>
                <a:lnTo>
                  <a:pt x="343" y="2"/>
                </a:lnTo>
                <a:lnTo>
                  <a:pt x="309" y="4"/>
                </a:lnTo>
                <a:lnTo>
                  <a:pt x="278" y="7"/>
                </a:lnTo>
                <a:lnTo>
                  <a:pt x="245" y="13"/>
                </a:lnTo>
                <a:lnTo>
                  <a:pt x="214" y="21"/>
                </a:lnTo>
                <a:lnTo>
                  <a:pt x="182" y="31"/>
                </a:lnTo>
                <a:lnTo>
                  <a:pt x="153" y="40"/>
                </a:lnTo>
                <a:lnTo>
                  <a:pt x="142" y="44"/>
                </a:lnTo>
                <a:lnTo>
                  <a:pt x="142" y="46"/>
                </a:lnTo>
                <a:lnTo>
                  <a:pt x="142" y="48"/>
                </a:lnTo>
                <a:lnTo>
                  <a:pt x="140" y="50"/>
                </a:lnTo>
                <a:lnTo>
                  <a:pt x="140" y="50"/>
                </a:lnTo>
                <a:lnTo>
                  <a:pt x="140" y="52"/>
                </a:lnTo>
                <a:lnTo>
                  <a:pt x="140" y="54"/>
                </a:lnTo>
                <a:lnTo>
                  <a:pt x="138" y="55"/>
                </a:lnTo>
                <a:lnTo>
                  <a:pt x="138" y="57"/>
                </a:lnTo>
                <a:lnTo>
                  <a:pt x="157" y="50"/>
                </a:lnTo>
                <a:lnTo>
                  <a:pt x="186" y="40"/>
                </a:lnTo>
                <a:lnTo>
                  <a:pt x="216" y="31"/>
                </a:lnTo>
                <a:lnTo>
                  <a:pt x="247" y="25"/>
                </a:lnTo>
                <a:lnTo>
                  <a:pt x="278" y="19"/>
                </a:lnTo>
                <a:lnTo>
                  <a:pt x="310" y="15"/>
                </a:lnTo>
                <a:lnTo>
                  <a:pt x="343" y="11"/>
                </a:lnTo>
                <a:lnTo>
                  <a:pt x="376" y="11"/>
                </a:lnTo>
                <a:lnTo>
                  <a:pt x="408" y="11"/>
                </a:lnTo>
                <a:lnTo>
                  <a:pt x="437" y="13"/>
                </a:lnTo>
                <a:lnTo>
                  <a:pt x="437" y="13"/>
                </a:lnTo>
                <a:lnTo>
                  <a:pt x="437" y="11"/>
                </a:lnTo>
                <a:lnTo>
                  <a:pt x="439" y="9"/>
                </a:lnTo>
                <a:lnTo>
                  <a:pt x="439" y="9"/>
                </a:lnTo>
                <a:lnTo>
                  <a:pt x="439" y="7"/>
                </a:lnTo>
                <a:lnTo>
                  <a:pt x="441" y="6"/>
                </a:lnTo>
                <a:lnTo>
                  <a:pt x="441" y="6"/>
                </a:lnTo>
                <a:lnTo>
                  <a:pt x="441" y="4"/>
                </a:lnTo>
                <a:close/>
                <a:moveTo>
                  <a:pt x="0" y="1180"/>
                </a:moveTo>
                <a:lnTo>
                  <a:pt x="13" y="1187"/>
                </a:lnTo>
                <a:lnTo>
                  <a:pt x="40" y="1205"/>
                </a:lnTo>
                <a:lnTo>
                  <a:pt x="67" y="1220"/>
                </a:lnTo>
                <a:lnTo>
                  <a:pt x="94" y="1235"/>
                </a:lnTo>
                <a:lnTo>
                  <a:pt x="122" y="1249"/>
                </a:lnTo>
                <a:lnTo>
                  <a:pt x="153" y="1260"/>
                </a:lnTo>
                <a:lnTo>
                  <a:pt x="182" y="1270"/>
                </a:lnTo>
                <a:lnTo>
                  <a:pt x="214" y="1280"/>
                </a:lnTo>
                <a:lnTo>
                  <a:pt x="245" y="1285"/>
                </a:lnTo>
                <a:lnTo>
                  <a:pt x="278" y="1291"/>
                </a:lnTo>
                <a:lnTo>
                  <a:pt x="309" y="1295"/>
                </a:lnTo>
                <a:lnTo>
                  <a:pt x="343" y="1299"/>
                </a:lnTo>
                <a:lnTo>
                  <a:pt x="376" y="1299"/>
                </a:lnTo>
                <a:lnTo>
                  <a:pt x="408" y="1299"/>
                </a:lnTo>
                <a:lnTo>
                  <a:pt x="443" y="1295"/>
                </a:lnTo>
                <a:lnTo>
                  <a:pt x="462" y="1293"/>
                </a:lnTo>
                <a:lnTo>
                  <a:pt x="462" y="1291"/>
                </a:lnTo>
                <a:lnTo>
                  <a:pt x="460" y="1291"/>
                </a:lnTo>
                <a:lnTo>
                  <a:pt x="460" y="1289"/>
                </a:lnTo>
                <a:lnTo>
                  <a:pt x="458" y="1289"/>
                </a:lnTo>
                <a:lnTo>
                  <a:pt x="458" y="1287"/>
                </a:lnTo>
                <a:lnTo>
                  <a:pt x="458" y="1285"/>
                </a:lnTo>
                <a:lnTo>
                  <a:pt x="456" y="1285"/>
                </a:lnTo>
                <a:lnTo>
                  <a:pt x="456" y="1283"/>
                </a:lnTo>
                <a:lnTo>
                  <a:pt x="441" y="1285"/>
                </a:lnTo>
                <a:lnTo>
                  <a:pt x="408" y="1287"/>
                </a:lnTo>
                <a:lnTo>
                  <a:pt x="376" y="1289"/>
                </a:lnTo>
                <a:lnTo>
                  <a:pt x="343" y="1287"/>
                </a:lnTo>
                <a:lnTo>
                  <a:pt x="310" y="1285"/>
                </a:lnTo>
                <a:lnTo>
                  <a:pt x="278" y="1281"/>
                </a:lnTo>
                <a:lnTo>
                  <a:pt x="247" y="1276"/>
                </a:lnTo>
                <a:lnTo>
                  <a:pt x="216" y="1268"/>
                </a:lnTo>
                <a:lnTo>
                  <a:pt x="186" y="1260"/>
                </a:lnTo>
                <a:lnTo>
                  <a:pt x="157" y="1249"/>
                </a:lnTo>
                <a:lnTo>
                  <a:pt x="128" y="1237"/>
                </a:lnTo>
                <a:lnTo>
                  <a:pt x="99" y="1226"/>
                </a:lnTo>
                <a:lnTo>
                  <a:pt x="71" y="1210"/>
                </a:lnTo>
                <a:lnTo>
                  <a:pt x="46" y="1195"/>
                </a:lnTo>
                <a:lnTo>
                  <a:pt x="19" y="1180"/>
                </a:lnTo>
                <a:lnTo>
                  <a:pt x="0" y="1164"/>
                </a:lnTo>
                <a:lnTo>
                  <a:pt x="0" y="1166"/>
                </a:lnTo>
                <a:lnTo>
                  <a:pt x="0" y="1168"/>
                </a:lnTo>
                <a:lnTo>
                  <a:pt x="0" y="1170"/>
                </a:lnTo>
                <a:lnTo>
                  <a:pt x="0" y="1172"/>
                </a:lnTo>
                <a:lnTo>
                  <a:pt x="0" y="1174"/>
                </a:lnTo>
                <a:lnTo>
                  <a:pt x="0" y="1176"/>
                </a:lnTo>
                <a:lnTo>
                  <a:pt x="0" y="1178"/>
                </a:lnTo>
                <a:lnTo>
                  <a:pt x="0" y="1180"/>
                </a:lnTo>
                <a:close/>
              </a:path>
            </a:pathLst>
          </a:custGeom>
          <a:solidFill>
            <a:srgbClr val="86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Freeform 407"/>
          <p:cNvSpPr/>
          <p:nvPr/>
        </p:nvSpPr>
        <p:spPr>
          <a:xfrm>
            <a:off x="5743440" y="2220840"/>
            <a:ext cx="730440" cy="2043360"/>
          </a:xfrm>
          <a:custGeom>
            <a:avLst/>
            <a:gdLst/>
            <a:ahLst/>
            <a:rect l="l" t="t" r="r" b="b"/>
            <a:pathLst>
              <a:path w="460" h="1287">
                <a:moveTo>
                  <a:pt x="441" y="3"/>
                </a:moveTo>
                <a:lnTo>
                  <a:pt x="410" y="1"/>
                </a:lnTo>
                <a:lnTo>
                  <a:pt x="378" y="0"/>
                </a:lnTo>
                <a:lnTo>
                  <a:pt x="345" y="1"/>
                </a:lnTo>
                <a:lnTo>
                  <a:pt x="312" y="3"/>
                </a:lnTo>
                <a:lnTo>
                  <a:pt x="280" y="7"/>
                </a:lnTo>
                <a:lnTo>
                  <a:pt x="247" y="13"/>
                </a:lnTo>
                <a:lnTo>
                  <a:pt x="216" y="21"/>
                </a:lnTo>
                <a:lnTo>
                  <a:pt x="186" y="28"/>
                </a:lnTo>
                <a:lnTo>
                  <a:pt x="157" y="38"/>
                </a:lnTo>
                <a:lnTo>
                  <a:pt x="142" y="44"/>
                </a:lnTo>
                <a:lnTo>
                  <a:pt x="142" y="46"/>
                </a:lnTo>
                <a:lnTo>
                  <a:pt x="142" y="48"/>
                </a:lnTo>
                <a:lnTo>
                  <a:pt x="140" y="49"/>
                </a:lnTo>
                <a:lnTo>
                  <a:pt x="140" y="51"/>
                </a:lnTo>
                <a:lnTo>
                  <a:pt x="140" y="53"/>
                </a:lnTo>
                <a:lnTo>
                  <a:pt x="140" y="55"/>
                </a:lnTo>
                <a:lnTo>
                  <a:pt x="138" y="55"/>
                </a:lnTo>
                <a:lnTo>
                  <a:pt x="138" y="57"/>
                </a:lnTo>
                <a:lnTo>
                  <a:pt x="161" y="49"/>
                </a:lnTo>
                <a:lnTo>
                  <a:pt x="190" y="40"/>
                </a:lnTo>
                <a:lnTo>
                  <a:pt x="220" y="30"/>
                </a:lnTo>
                <a:lnTo>
                  <a:pt x="251" y="23"/>
                </a:lnTo>
                <a:lnTo>
                  <a:pt x="282" y="17"/>
                </a:lnTo>
                <a:lnTo>
                  <a:pt x="312" y="13"/>
                </a:lnTo>
                <a:lnTo>
                  <a:pt x="345" y="11"/>
                </a:lnTo>
                <a:lnTo>
                  <a:pt x="378" y="11"/>
                </a:lnTo>
                <a:lnTo>
                  <a:pt x="410" y="11"/>
                </a:lnTo>
                <a:lnTo>
                  <a:pt x="435" y="13"/>
                </a:lnTo>
                <a:lnTo>
                  <a:pt x="437" y="11"/>
                </a:lnTo>
                <a:lnTo>
                  <a:pt x="437" y="11"/>
                </a:lnTo>
                <a:lnTo>
                  <a:pt x="437" y="9"/>
                </a:lnTo>
                <a:lnTo>
                  <a:pt x="439" y="7"/>
                </a:lnTo>
                <a:lnTo>
                  <a:pt x="439" y="7"/>
                </a:lnTo>
                <a:lnTo>
                  <a:pt x="439" y="5"/>
                </a:lnTo>
                <a:lnTo>
                  <a:pt x="441" y="3"/>
                </a:lnTo>
                <a:lnTo>
                  <a:pt x="441" y="3"/>
                </a:lnTo>
                <a:close/>
                <a:moveTo>
                  <a:pt x="2" y="1166"/>
                </a:moveTo>
                <a:lnTo>
                  <a:pt x="17" y="1178"/>
                </a:lnTo>
                <a:lnTo>
                  <a:pt x="44" y="1195"/>
                </a:lnTo>
                <a:lnTo>
                  <a:pt x="71" y="1210"/>
                </a:lnTo>
                <a:lnTo>
                  <a:pt x="99" y="1224"/>
                </a:lnTo>
                <a:lnTo>
                  <a:pt x="126" y="1237"/>
                </a:lnTo>
                <a:lnTo>
                  <a:pt x="157" y="1249"/>
                </a:lnTo>
                <a:lnTo>
                  <a:pt x="186" y="1258"/>
                </a:lnTo>
                <a:lnTo>
                  <a:pt x="216" y="1268"/>
                </a:lnTo>
                <a:lnTo>
                  <a:pt x="247" y="1275"/>
                </a:lnTo>
                <a:lnTo>
                  <a:pt x="280" y="1281"/>
                </a:lnTo>
                <a:lnTo>
                  <a:pt x="312" y="1285"/>
                </a:lnTo>
                <a:lnTo>
                  <a:pt x="345" y="1287"/>
                </a:lnTo>
                <a:lnTo>
                  <a:pt x="378" y="1287"/>
                </a:lnTo>
                <a:lnTo>
                  <a:pt x="410" y="1287"/>
                </a:lnTo>
                <a:lnTo>
                  <a:pt x="443" y="1285"/>
                </a:lnTo>
                <a:lnTo>
                  <a:pt x="460" y="1283"/>
                </a:lnTo>
                <a:lnTo>
                  <a:pt x="460" y="1281"/>
                </a:lnTo>
                <a:lnTo>
                  <a:pt x="460" y="1279"/>
                </a:lnTo>
                <a:lnTo>
                  <a:pt x="458" y="1279"/>
                </a:lnTo>
                <a:lnTo>
                  <a:pt x="458" y="1277"/>
                </a:lnTo>
                <a:lnTo>
                  <a:pt x="458" y="1275"/>
                </a:lnTo>
                <a:lnTo>
                  <a:pt x="456" y="1275"/>
                </a:lnTo>
                <a:lnTo>
                  <a:pt x="456" y="1274"/>
                </a:lnTo>
                <a:lnTo>
                  <a:pt x="456" y="1272"/>
                </a:lnTo>
                <a:lnTo>
                  <a:pt x="443" y="1274"/>
                </a:lnTo>
                <a:lnTo>
                  <a:pt x="410" y="1275"/>
                </a:lnTo>
                <a:lnTo>
                  <a:pt x="378" y="1277"/>
                </a:lnTo>
                <a:lnTo>
                  <a:pt x="345" y="1275"/>
                </a:lnTo>
                <a:lnTo>
                  <a:pt x="312" y="1274"/>
                </a:lnTo>
                <a:lnTo>
                  <a:pt x="282" y="1270"/>
                </a:lnTo>
                <a:lnTo>
                  <a:pt x="251" y="1264"/>
                </a:lnTo>
                <a:lnTo>
                  <a:pt x="220" y="1256"/>
                </a:lnTo>
                <a:lnTo>
                  <a:pt x="190" y="1249"/>
                </a:lnTo>
                <a:lnTo>
                  <a:pt x="161" y="1239"/>
                </a:lnTo>
                <a:lnTo>
                  <a:pt x="132" y="1228"/>
                </a:lnTo>
                <a:lnTo>
                  <a:pt x="103" y="1214"/>
                </a:lnTo>
                <a:lnTo>
                  <a:pt x="76" y="1201"/>
                </a:lnTo>
                <a:lnTo>
                  <a:pt x="49" y="1185"/>
                </a:lnTo>
                <a:lnTo>
                  <a:pt x="25" y="1168"/>
                </a:lnTo>
                <a:lnTo>
                  <a:pt x="0" y="1153"/>
                </a:lnTo>
                <a:lnTo>
                  <a:pt x="0" y="1155"/>
                </a:lnTo>
                <a:lnTo>
                  <a:pt x="2" y="1157"/>
                </a:lnTo>
                <a:lnTo>
                  <a:pt x="2" y="1158"/>
                </a:lnTo>
                <a:lnTo>
                  <a:pt x="2" y="1158"/>
                </a:lnTo>
                <a:lnTo>
                  <a:pt x="2" y="1160"/>
                </a:lnTo>
                <a:lnTo>
                  <a:pt x="2" y="1162"/>
                </a:lnTo>
                <a:lnTo>
                  <a:pt x="2" y="1164"/>
                </a:lnTo>
                <a:lnTo>
                  <a:pt x="2" y="1166"/>
                </a:lnTo>
                <a:close/>
              </a:path>
            </a:pathLst>
          </a:custGeom>
          <a:solidFill>
            <a:srgbClr val="87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Freeform 408"/>
          <p:cNvSpPr/>
          <p:nvPr/>
        </p:nvSpPr>
        <p:spPr>
          <a:xfrm>
            <a:off x="5743440" y="2228760"/>
            <a:ext cx="727200" cy="2028960"/>
          </a:xfrm>
          <a:custGeom>
            <a:avLst/>
            <a:gdLst>
              <a:gd name="textAreaLeft" fmla="*/ 0 w 727200"/>
              <a:gd name="textAreaRight" fmla="*/ 727560 w 727200"/>
              <a:gd name="textAreaTop" fmla="*/ 0 h 2028960"/>
              <a:gd name="textAreaBottom" fmla="*/ 2029320 h 2028960"/>
            </a:gdLst>
            <a:ahLst/>
            <a:rect l="textAreaLeft" t="textAreaTop" r="textAreaRight" b="textAreaBottom"/>
            <a:pathLst>
              <a:path w="458" h="1278">
                <a:moveTo>
                  <a:pt x="439" y="2"/>
                </a:moveTo>
                <a:lnTo>
                  <a:pt x="410" y="0"/>
                </a:lnTo>
                <a:lnTo>
                  <a:pt x="378" y="0"/>
                </a:lnTo>
                <a:lnTo>
                  <a:pt x="345" y="0"/>
                </a:lnTo>
                <a:lnTo>
                  <a:pt x="312" y="4"/>
                </a:lnTo>
                <a:lnTo>
                  <a:pt x="280" y="8"/>
                </a:lnTo>
                <a:lnTo>
                  <a:pt x="249" y="14"/>
                </a:lnTo>
                <a:lnTo>
                  <a:pt x="218" y="20"/>
                </a:lnTo>
                <a:lnTo>
                  <a:pt x="188" y="29"/>
                </a:lnTo>
                <a:lnTo>
                  <a:pt x="159" y="39"/>
                </a:lnTo>
                <a:lnTo>
                  <a:pt x="140" y="46"/>
                </a:lnTo>
                <a:lnTo>
                  <a:pt x="140" y="48"/>
                </a:lnTo>
                <a:lnTo>
                  <a:pt x="140" y="50"/>
                </a:lnTo>
                <a:lnTo>
                  <a:pt x="138" y="50"/>
                </a:lnTo>
                <a:lnTo>
                  <a:pt x="138" y="52"/>
                </a:lnTo>
                <a:lnTo>
                  <a:pt x="138" y="54"/>
                </a:lnTo>
                <a:lnTo>
                  <a:pt x="136" y="56"/>
                </a:lnTo>
                <a:lnTo>
                  <a:pt x="136" y="58"/>
                </a:lnTo>
                <a:lnTo>
                  <a:pt x="136" y="60"/>
                </a:lnTo>
                <a:lnTo>
                  <a:pt x="163" y="48"/>
                </a:lnTo>
                <a:lnTo>
                  <a:pt x="192" y="39"/>
                </a:lnTo>
                <a:lnTo>
                  <a:pt x="220" y="31"/>
                </a:lnTo>
                <a:lnTo>
                  <a:pt x="251" y="23"/>
                </a:lnTo>
                <a:lnTo>
                  <a:pt x="282" y="18"/>
                </a:lnTo>
                <a:lnTo>
                  <a:pt x="314" y="14"/>
                </a:lnTo>
                <a:lnTo>
                  <a:pt x="345" y="12"/>
                </a:lnTo>
                <a:lnTo>
                  <a:pt x="378" y="10"/>
                </a:lnTo>
                <a:lnTo>
                  <a:pt x="410" y="12"/>
                </a:lnTo>
                <a:lnTo>
                  <a:pt x="433" y="14"/>
                </a:lnTo>
                <a:lnTo>
                  <a:pt x="433" y="12"/>
                </a:lnTo>
                <a:lnTo>
                  <a:pt x="433" y="10"/>
                </a:lnTo>
                <a:lnTo>
                  <a:pt x="435" y="10"/>
                </a:lnTo>
                <a:lnTo>
                  <a:pt x="435" y="8"/>
                </a:lnTo>
                <a:lnTo>
                  <a:pt x="437" y="6"/>
                </a:lnTo>
                <a:lnTo>
                  <a:pt x="437" y="6"/>
                </a:lnTo>
                <a:lnTo>
                  <a:pt x="437" y="4"/>
                </a:lnTo>
                <a:lnTo>
                  <a:pt x="439" y="2"/>
                </a:lnTo>
                <a:close/>
                <a:moveTo>
                  <a:pt x="2" y="1153"/>
                </a:moveTo>
                <a:lnTo>
                  <a:pt x="21" y="1169"/>
                </a:lnTo>
                <a:lnTo>
                  <a:pt x="48" y="1184"/>
                </a:lnTo>
                <a:lnTo>
                  <a:pt x="73" y="1199"/>
                </a:lnTo>
                <a:lnTo>
                  <a:pt x="101" y="1215"/>
                </a:lnTo>
                <a:lnTo>
                  <a:pt x="130" y="1226"/>
                </a:lnTo>
                <a:lnTo>
                  <a:pt x="159" y="1238"/>
                </a:lnTo>
                <a:lnTo>
                  <a:pt x="188" y="1249"/>
                </a:lnTo>
                <a:lnTo>
                  <a:pt x="218" y="1257"/>
                </a:lnTo>
                <a:lnTo>
                  <a:pt x="249" y="1265"/>
                </a:lnTo>
                <a:lnTo>
                  <a:pt x="280" y="1270"/>
                </a:lnTo>
                <a:lnTo>
                  <a:pt x="312" y="1274"/>
                </a:lnTo>
                <a:lnTo>
                  <a:pt x="345" y="1276"/>
                </a:lnTo>
                <a:lnTo>
                  <a:pt x="378" y="1278"/>
                </a:lnTo>
                <a:lnTo>
                  <a:pt x="410" y="1276"/>
                </a:lnTo>
                <a:lnTo>
                  <a:pt x="443" y="1274"/>
                </a:lnTo>
                <a:lnTo>
                  <a:pt x="458" y="1272"/>
                </a:lnTo>
                <a:lnTo>
                  <a:pt x="458" y="1270"/>
                </a:lnTo>
                <a:lnTo>
                  <a:pt x="456" y="1270"/>
                </a:lnTo>
                <a:lnTo>
                  <a:pt x="456" y="1269"/>
                </a:lnTo>
                <a:lnTo>
                  <a:pt x="456" y="1267"/>
                </a:lnTo>
                <a:lnTo>
                  <a:pt x="454" y="1267"/>
                </a:lnTo>
                <a:lnTo>
                  <a:pt x="454" y="1265"/>
                </a:lnTo>
                <a:lnTo>
                  <a:pt x="453" y="1263"/>
                </a:lnTo>
                <a:lnTo>
                  <a:pt x="453" y="1263"/>
                </a:lnTo>
                <a:lnTo>
                  <a:pt x="443" y="1263"/>
                </a:lnTo>
                <a:lnTo>
                  <a:pt x="410" y="1267"/>
                </a:lnTo>
                <a:lnTo>
                  <a:pt x="378" y="1267"/>
                </a:lnTo>
                <a:lnTo>
                  <a:pt x="345" y="1267"/>
                </a:lnTo>
                <a:lnTo>
                  <a:pt x="314" y="1263"/>
                </a:lnTo>
                <a:lnTo>
                  <a:pt x="282" y="1259"/>
                </a:lnTo>
                <a:lnTo>
                  <a:pt x="251" y="1253"/>
                </a:lnTo>
                <a:lnTo>
                  <a:pt x="220" y="1247"/>
                </a:lnTo>
                <a:lnTo>
                  <a:pt x="192" y="1238"/>
                </a:lnTo>
                <a:lnTo>
                  <a:pt x="163" y="1228"/>
                </a:lnTo>
                <a:lnTo>
                  <a:pt x="134" y="1217"/>
                </a:lnTo>
                <a:lnTo>
                  <a:pt x="105" y="1205"/>
                </a:lnTo>
                <a:lnTo>
                  <a:pt x="78" y="1192"/>
                </a:lnTo>
                <a:lnTo>
                  <a:pt x="51" y="1176"/>
                </a:lnTo>
                <a:lnTo>
                  <a:pt x="26" y="1159"/>
                </a:lnTo>
                <a:lnTo>
                  <a:pt x="2" y="1142"/>
                </a:lnTo>
                <a:lnTo>
                  <a:pt x="0" y="1140"/>
                </a:lnTo>
                <a:lnTo>
                  <a:pt x="0" y="1142"/>
                </a:lnTo>
                <a:lnTo>
                  <a:pt x="0" y="1144"/>
                </a:lnTo>
                <a:lnTo>
                  <a:pt x="0" y="1146"/>
                </a:lnTo>
                <a:lnTo>
                  <a:pt x="0" y="1148"/>
                </a:lnTo>
                <a:lnTo>
                  <a:pt x="0" y="1150"/>
                </a:lnTo>
                <a:lnTo>
                  <a:pt x="2" y="1152"/>
                </a:lnTo>
                <a:lnTo>
                  <a:pt x="2" y="1152"/>
                </a:lnTo>
                <a:lnTo>
                  <a:pt x="2" y="1153"/>
                </a:lnTo>
                <a:close/>
              </a:path>
            </a:pathLst>
          </a:custGeom>
          <a:solidFill>
            <a:srgbClr val="88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reeform 409"/>
          <p:cNvSpPr/>
          <p:nvPr/>
        </p:nvSpPr>
        <p:spPr>
          <a:xfrm>
            <a:off x="5743440" y="2238480"/>
            <a:ext cx="723960" cy="2009520"/>
          </a:xfrm>
          <a:custGeom>
            <a:avLst/>
            <a:gdLst>
              <a:gd name="textAreaLeft" fmla="*/ 0 w 723960"/>
              <a:gd name="textAreaRight" fmla="*/ 724320 w 723960"/>
              <a:gd name="textAreaTop" fmla="*/ 0 h 2009520"/>
              <a:gd name="textAreaBottom" fmla="*/ 2009520 h 2009520"/>
            </a:gdLst>
            <a:ahLst/>
            <a:rect l="textAreaLeft" t="textAreaTop" r="textAreaRight" b="textAreaBottom"/>
            <a:pathLst>
              <a:path w="456" h="1266">
                <a:moveTo>
                  <a:pt x="435" y="2"/>
                </a:moveTo>
                <a:lnTo>
                  <a:pt x="410" y="0"/>
                </a:lnTo>
                <a:lnTo>
                  <a:pt x="378" y="0"/>
                </a:lnTo>
                <a:lnTo>
                  <a:pt x="345" y="0"/>
                </a:lnTo>
                <a:lnTo>
                  <a:pt x="312" y="2"/>
                </a:lnTo>
                <a:lnTo>
                  <a:pt x="282" y="6"/>
                </a:lnTo>
                <a:lnTo>
                  <a:pt x="251" y="12"/>
                </a:lnTo>
                <a:lnTo>
                  <a:pt x="220" y="19"/>
                </a:lnTo>
                <a:lnTo>
                  <a:pt x="190" y="29"/>
                </a:lnTo>
                <a:lnTo>
                  <a:pt x="161" y="38"/>
                </a:lnTo>
                <a:lnTo>
                  <a:pt x="138" y="46"/>
                </a:lnTo>
                <a:lnTo>
                  <a:pt x="138" y="48"/>
                </a:lnTo>
                <a:lnTo>
                  <a:pt x="136" y="50"/>
                </a:lnTo>
                <a:lnTo>
                  <a:pt x="136" y="52"/>
                </a:lnTo>
                <a:lnTo>
                  <a:pt x="136" y="54"/>
                </a:lnTo>
                <a:lnTo>
                  <a:pt x="136" y="56"/>
                </a:lnTo>
                <a:lnTo>
                  <a:pt x="134" y="56"/>
                </a:lnTo>
                <a:lnTo>
                  <a:pt x="134" y="58"/>
                </a:lnTo>
                <a:lnTo>
                  <a:pt x="134" y="60"/>
                </a:lnTo>
                <a:lnTo>
                  <a:pt x="136" y="60"/>
                </a:lnTo>
                <a:lnTo>
                  <a:pt x="165" y="48"/>
                </a:lnTo>
                <a:lnTo>
                  <a:pt x="193" y="38"/>
                </a:lnTo>
                <a:lnTo>
                  <a:pt x="222" y="29"/>
                </a:lnTo>
                <a:lnTo>
                  <a:pt x="253" y="23"/>
                </a:lnTo>
                <a:lnTo>
                  <a:pt x="284" y="17"/>
                </a:lnTo>
                <a:lnTo>
                  <a:pt x="314" y="14"/>
                </a:lnTo>
                <a:lnTo>
                  <a:pt x="345" y="12"/>
                </a:lnTo>
                <a:lnTo>
                  <a:pt x="378" y="10"/>
                </a:lnTo>
                <a:lnTo>
                  <a:pt x="410" y="12"/>
                </a:lnTo>
                <a:lnTo>
                  <a:pt x="430" y="12"/>
                </a:lnTo>
                <a:lnTo>
                  <a:pt x="431" y="12"/>
                </a:lnTo>
                <a:lnTo>
                  <a:pt x="431" y="10"/>
                </a:lnTo>
                <a:lnTo>
                  <a:pt x="431" y="8"/>
                </a:lnTo>
                <a:lnTo>
                  <a:pt x="433" y="8"/>
                </a:lnTo>
                <a:lnTo>
                  <a:pt x="433" y="6"/>
                </a:lnTo>
                <a:lnTo>
                  <a:pt x="433" y="4"/>
                </a:lnTo>
                <a:lnTo>
                  <a:pt x="435" y="4"/>
                </a:lnTo>
                <a:lnTo>
                  <a:pt x="435" y="2"/>
                </a:lnTo>
                <a:close/>
                <a:moveTo>
                  <a:pt x="0" y="1142"/>
                </a:moveTo>
                <a:lnTo>
                  <a:pt x="25" y="1157"/>
                </a:lnTo>
                <a:lnTo>
                  <a:pt x="49" y="1174"/>
                </a:lnTo>
                <a:lnTo>
                  <a:pt x="76" y="1190"/>
                </a:lnTo>
                <a:lnTo>
                  <a:pt x="103" y="1203"/>
                </a:lnTo>
                <a:lnTo>
                  <a:pt x="132" y="1217"/>
                </a:lnTo>
                <a:lnTo>
                  <a:pt x="161" y="1228"/>
                </a:lnTo>
                <a:lnTo>
                  <a:pt x="190" y="1238"/>
                </a:lnTo>
                <a:lnTo>
                  <a:pt x="220" y="1245"/>
                </a:lnTo>
                <a:lnTo>
                  <a:pt x="251" y="1253"/>
                </a:lnTo>
                <a:lnTo>
                  <a:pt x="282" y="1259"/>
                </a:lnTo>
                <a:lnTo>
                  <a:pt x="312" y="1263"/>
                </a:lnTo>
                <a:lnTo>
                  <a:pt x="345" y="1264"/>
                </a:lnTo>
                <a:lnTo>
                  <a:pt x="378" y="1266"/>
                </a:lnTo>
                <a:lnTo>
                  <a:pt x="410" y="1264"/>
                </a:lnTo>
                <a:lnTo>
                  <a:pt x="443" y="1263"/>
                </a:lnTo>
                <a:lnTo>
                  <a:pt x="456" y="1261"/>
                </a:lnTo>
                <a:lnTo>
                  <a:pt x="454" y="1261"/>
                </a:lnTo>
                <a:lnTo>
                  <a:pt x="454" y="1259"/>
                </a:lnTo>
                <a:lnTo>
                  <a:pt x="453" y="1257"/>
                </a:lnTo>
                <a:lnTo>
                  <a:pt x="453" y="1257"/>
                </a:lnTo>
                <a:lnTo>
                  <a:pt x="453" y="1255"/>
                </a:lnTo>
                <a:lnTo>
                  <a:pt x="451" y="1253"/>
                </a:lnTo>
                <a:lnTo>
                  <a:pt x="451" y="1253"/>
                </a:lnTo>
                <a:lnTo>
                  <a:pt x="451" y="1251"/>
                </a:lnTo>
                <a:lnTo>
                  <a:pt x="441" y="1253"/>
                </a:lnTo>
                <a:lnTo>
                  <a:pt x="410" y="1255"/>
                </a:lnTo>
                <a:lnTo>
                  <a:pt x="378" y="1255"/>
                </a:lnTo>
                <a:lnTo>
                  <a:pt x="345" y="1255"/>
                </a:lnTo>
                <a:lnTo>
                  <a:pt x="314" y="1253"/>
                </a:lnTo>
                <a:lnTo>
                  <a:pt x="284" y="1249"/>
                </a:lnTo>
                <a:lnTo>
                  <a:pt x="253" y="1243"/>
                </a:lnTo>
                <a:lnTo>
                  <a:pt x="222" y="1236"/>
                </a:lnTo>
                <a:lnTo>
                  <a:pt x="193" y="1228"/>
                </a:lnTo>
                <a:lnTo>
                  <a:pt x="165" y="1218"/>
                </a:lnTo>
                <a:lnTo>
                  <a:pt x="136" y="1207"/>
                </a:lnTo>
                <a:lnTo>
                  <a:pt x="107" y="1193"/>
                </a:lnTo>
                <a:lnTo>
                  <a:pt x="80" y="1180"/>
                </a:lnTo>
                <a:lnTo>
                  <a:pt x="55" y="1165"/>
                </a:lnTo>
                <a:lnTo>
                  <a:pt x="30" y="1149"/>
                </a:lnTo>
                <a:lnTo>
                  <a:pt x="5" y="1132"/>
                </a:lnTo>
                <a:lnTo>
                  <a:pt x="0" y="1126"/>
                </a:lnTo>
                <a:lnTo>
                  <a:pt x="0" y="1128"/>
                </a:lnTo>
                <a:lnTo>
                  <a:pt x="0" y="1130"/>
                </a:lnTo>
                <a:lnTo>
                  <a:pt x="0" y="1132"/>
                </a:lnTo>
                <a:lnTo>
                  <a:pt x="0" y="1134"/>
                </a:lnTo>
                <a:lnTo>
                  <a:pt x="0" y="1136"/>
                </a:lnTo>
                <a:lnTo>
                  <a:pt x="0" y="1138"/>
                </a:lnTo>
                <a:lnTo>
                  <a:pt x="0" y="1140"/>
                </a:lnTo>
                <a:lnTo>
                  <a:pt x="0" y="1142"/>
                </a:lnTo>
                <a:close/>
              </a:path>
            </a:pathLst>
          </a:custGeom>
          <a:solidFill>
            <a:srgbClr val="89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Freeform 411"/>
          <p:cNvSpPr/>
          <p:nvPr/>
        </p:nvSpPr>
        <p:spPr>
          <a:xfrm>
            <a:off x="5743440" y="2244600"/>
            <a:ext cx="719280" cy="1995480"/>
          </a:xfrm>
          <a:custGeom>
            <a:avLst/>
            <a:gdLst>
              <a:gd name="textAreaLeft" fmla="*/ 0 w 719280"/>
              <a:gd name="textAreaRight" fmla="*/ 719640 w 719280"/>
              <a:gd name="textAreaTop" fmla="*/ 0 h 1995480"/>
              <a:gd name="textAreaBottom" fmla="*/ 1995840 h 1995480"/>
            </a:gdLst>
            <a:ahLst/>
            <a:rect l="textAreaLeft" t="textAreaTop" r="textAreaRight" b="textAreaBottom"/>
            <a:pathLst>
              <a:path w="453" h="1257">
                <a:moveTo>
                  <a:pt x="433" y="4"/>
                </a:moveTo>
                <a:lnTo>
                  <a:pt x="410" y="2"/>
                </a:lnTo>
                <a:lnTo>
                  <a:pt x="378" y="0"/>
                </a:lnTo>
                <a:lnTo>
                  <a:pt x="345" y="2"/>
                </a:lnTo>
                <a:lnTo>
                  <a:pt x="314" y="4"/>
                </a:lnTo>
                <a:lnTo>
                  <a:pt x="282" y="8"/>
                </a:lnTo>
                <a:lnTo>
                  <a:pt x="251" y="13"/>
                </a:lnTo>
                <a:lnTo>
                  <a:pt x="220" y="21"/>
                </a:lnTo>
                <a:lnTo>
                  <a:pt x="192" y="29"/>
                </a:lnTo>
                <a:lnTo>
                  <a:pt x="163" y="38"/>
                </a:lnTo>
                <a:lnTo>
                  <a:pt x="136" y="50"/>
                </a:lnTo>
                <a:lnTo>
                  <a:pt x="136" y="52"/>
                </a:lnTo>
                <a:lnTo>
                  <a:pt x="134" y="52"/>
                </a:lnTo>
                <a:lnTo>
                  <a:pt x="134" y="54"/>
                </a:lnTo>
                <a:lnTo>
                  <a:pt x="134" y="56"/>
                </a:lnTo>
                <a:lnTo>
                  <a:pt x="134" y="57"/>
                </a:lnTo>
                <a:lnTo>
                  <a:pt x="132" y="59"/>
                </a:lnTo>
                <a:lnTo>
                  <a:pt x="132" y="61"/>
                </a:lnTo>
                <a:lnTo>
                  <a:pt x="132" y="63"/>
                </a:lnTo>
                <a:lnTo>
                  <a:pt x="138" y="59"/>
                </a:lnTo>
                <a:lnTo>
                  <a:pt x="165" y="50"/>
                </a:lnTo>
                <a:lnTo>
                  <a:pt x="193" y="38"/>
                </a:lnTo>
                <a:lnTo>
                  <a:pt x="224" y="31"/>
                </a:lnTo>
                <a:lnTo>
                  <a:pt x="253" y="25"/>
                </a:lnTo>
                <a:lnTo>
                  <a:pt x="284" y="19"/>
                </a:lnTo>
                <a:lnTo>
                  <a:pt x="314" y="15"/>
                </a:lnTo>
                <a:lnTo>
                  <a:pt x="347" y="11"/>
                </a:lnTo>
                <a:lnTo>
                  <a:pt x="378" y="11"/>
                </a:lnTo>
                <a:lnTo>
                  <a:pt x="410" y="11"/>
                </a:lnTo>
                <a:lnTo>
                  <a:pt x="428" y="13"/>
                </a:lnTo>
                <a:lnTo>
                  <a:pt x="428" y="11"/>
                </a:lnTo>
                <a:lnTo>
                  <a:pt x="430" y="11"/>
                </a:lnTo>
                <a:lnTo>
                  <a:pt x="430" y="10"/>
                </a:lnTo>
                <a:lnTo>
                  <a:pt x="430" y="8"/>
                </a:lnTo>
                <a:lnTo>
                  <a:pt x="431" y="8"/>
                </a:lnTo>
                <a:lnTo>
                  <a:pt x="431" y="6"/>
                </a:lnTo>
                <a:lnTo>
                  <a:pt x="431" y="4"/>
                </a:lnTo>
                <a:lnTo>
                  <a:pt x="433" y="4"/>
                </a:lnTo>
                <a:close/>
                <a:moveTo>
                  <a:pt x="0" y="1130"/>
                </a:moveTo>
                <a:lnTo>
                  <a:pt x="2" y="1132"/>
                </a:lnTo>
                <a:lnTo>
                  <a:pt x="26" y="1149"/>
                </a:lnTo>
                <a:lnTo>
                  <a:pt x="51" y="1166"/>
                </a:lnTo>
                <a:lnTo>
                  <a:pt x="78" y="1182"/>
                </a:lnTo>
                <a:lnTo>
                  <a:pt x="105" y="1195"/>
                </a:lnTo>
                <a:lnTo>
                  <a:pt x="134" y="1207"/>
                </a:lnTo>
                <a:lnTo>
                  <a:pt x="163" y="1218"/>
                </a:lnTo>
                <a:lnTo>
                  <a:pt x="192" y="1228"/>
                </a:lnTo>
                <a:lnTo>
                  <a:pt x="220" y="1237"/>
                </a:lnTo>
                <a:lnTo>
                  <a:pt x="251" y="1243"/>
                </a:lnTo>
                <a:lnTo>
                  <a:pt x="282" y="1249"/>
                </a:lnTo>
                <a:lnTo>
                  <a:pt x="314" y="1253"/>
                </a:lnTo>
                <a:lnTo>
                  <a:pt x="345" y="1257"/>
                </a:lnTo>
                <a:lnTo>
                  <a:pt x="378" y="1257"/>
                </a:lnTo>
                <a:lnTo>
                  <a:pt x="410" y="1257"/>
                </a:lnTo>
                <a:lnTo>
                  <a:pt x="443" y="1253"/>
                </a:lnTo>
                <a:lnTo>
                  <a:pt x="453" y="1253"/>
                </a:lnTo>
                <a:lnTo>
                  <a:pt x="453" y="1251"/>
                </a:lnTo>
                <a:lnTo>
                  <a:pt x="451" y="1249"/>
                </a:lnTo>
                <a:lnTo>
                  <a:pt x="451" y="1249"/>
                </a:lnTo>
                <a:lnTo>
                  <a:pt x="451" y="1247"/>
                </a:lnTo>
                <a:lnTo>
                  <a:pt x="449" y="1245"/>
                </a:lnTo>
                <a:lnTo>
                  <a:pt x="449" y="1245"/>
                </a:lnTo>
                <a:lnTo>
                  <a:pt x="449" y="1243"/>
                </a:lnTo>
                <a:lnTo>
                  <a:pt x="447" y="1241"/>
                </a:lnTo>
                <a:lnTo>
                  <a:pt x="441" y="1243"/>
                </a:lnTo>
                <a:lnTo>
                  <a:pt x="410" y="1245"/>
                </a:lnTo>
                <a:lnTo>
                  <a:pt x="378" y="1247"/>
                </a:lnTo>
                <a:lnTo>
                  <a:pt x="347" y="1245"/>
                </a:lnTo>
                <a:lnTo>
                  <a:pt x="314" y="1243"/>
                </a:lnTo>
                <a:lnTo>
                  <a:pt x="284" y="1239"/>
                </a:lnTo>
                <a:lnTo>
                  <a:pt x="253" y="1234"/>
                </a:lnTo>
                <a:lnTo>
                  <a:pt x="224" y="1226"/>
                </a:lnTo>
                <a:lnTo>
                  <a:pt x="193" y="1218"/>
                </a:lnTo>
                <a:lnTo>
                  <a:pt x="165" y="1209"/>
                </a:lnTo>
                <a:lnTo>
                  <a:pt x="138" y="1197"/>
                </a:lnTo>
                <a:lnTo>
                  <a:pt x="111" y="1186"/>
                </a:lnTo>
                <a:lnTo>
                  <a:pt x="84" y="1172"/>
                </a:lnTo>
                <a:lnTo>
                  <a:pt x="57" y="1157"/>
                </a:lnTo>
                <a:lnTo>
                  <a:pt x="32" y="1142"/>
                </a:lnTo>
                <a:lnTo>
                  <a:pt x="9" y="1124"/>
                </a:lnTo>
                <a:lnTo>
                  <a:pt x="0" y="1117"/>
                </a:lnTo>
                <a:lnTo>
                  <a:pt x="0" y="1119"/>
                </a:lnTo>
                <a:lnTo>
                  <a:pt x="0" y="1120"/>
                </a:lnTo>
                <a:lnTo>
                  <a:pt x="0" y="1122"/>
                </a:lnTo>
                <a:lnTo>
                  <a:pt x="0" y="1122"/>
                </a:lnTo>
                <a:lnTo>
                  <a:pt x="0" y="1124"/>
                </a:lnTo>
                <a:lnTo>
                  <a:pt x="0" y="1126"/>
                </a:lnTo>
                <a:lnTo>
                  <a:pt x="0" y="1128"/>
                </a:lnTo>
                <a:lnTo>
                  <a:pt x="0" y="1130"/>
                </a:lnTo>
                <a:close/>
              </a:path>
            </a:pathLst>
          </a:custGeom>
          <a:solidFill>
            <a:srgbClr val="8a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Freeform 412"/>
          <p:cNvSpPr/>
          <p:nvPr/>
        </p:nvSpPr>
        <p:spPr>
          <a:xfrm>
            <a:off x="5743440" y="2254320"/>
            <a:ext cx="716040" cy="1976400"/>
          </a:xfrm>
          <a:custGeom>
            <a:avLst/>
            <a:gdLst>
              <a:gd name="textAreaLeft" fmla="*/ 0 w 716040"/>
              <a:gd name="textAreaRight" fmla="*/ 716040 w 716040"/>
              <a:gd name="textAreaTop" fmla="*/ 0 h 1976400"/>
              <a:gd name="textAreaBottom" fmla="*/ 1976760 h 1976400"/>
            </a:gdLst>
            <a:ahLst/>
            <a:rect l="textAreaLeft" t="textAreaTop" r="textAreaRight" b="textAreaBottom"/>
            <a:pathLst>
              <a:path w="451" h="1245">
                <a:moveTo>
                  <a:pt x="430" y="2"/>
                </a:moveTo>
                <a:lnTo>
                  <a:pt x="410" y="2"/>
                </a:lnTo>
                <a:lnTo>
                  <a:pt x="378" y="0"/>
                </a:lnTo>
                <a:lnTo>
                  <a:pt x="345" y="2"/>
                </a:lnTo>
                <a:lnTo>
                  <a:pt x="314" y="4"/>
                </a:lnTo>
                <a:lnTo>
                  <a:pt x="284" y="7"/>
                </a:lnTo>
                <a:lnTo>
                  <a:pt x="253" y="13"/>
                </a:lnTo>
                <a:lnTo>
                  <a:pt x="222" y="19"/>
                </a:lnTo>
                <a:lnTo>
                  <a:pt x="193" y="28"/>
                </a:lnTo>
                <a:lnTo>
                  <a:pt x="165" y="38"/>
                </a:lnTo>
                <a:lnTo>
                  <a:pt x="136" y="50"/>
                </a:lnTo>
                <a:lnTo>
                  <a:pt x="134" y="50"/>
                </a:lnTo>
                <a:lnTo>
                  <a:pt x="134" y="51"/>
                </a:lnTo>
                <a:lnTo>
                  <a:pt x="132" y="53"/>
                </a:lnTo>
                <a:lnTo>
                  <a:pt x="132" y="55"/>
                </a:lnTo>
                <a:lnTo>
                  <a:pt x="132" y="57"/>
                </a:lnTo>
                <a:lnTo>
                  <a:pt x="132" y="59"/>
                </a:lnTo>
                <a:lnTo>
                  <a:pt x="130" y="59"/>
                </a:lnTo>
                <a:lnTo>
                  <a:pt x="130" y="61"/>
                </a:lnTo>
                <a:lnTo>
                  <a:pt x="130" y="63"/>
                </a:lnTo>
                <a:lnTo>
                  <a:pt x="140" y="59"/>
                </a:lnTo>
                <a:lnTo>
                  <a:pt x="167" y="48"/>
                </a:lnTo>
                <a:lnTo>
                  <a:pt x="195" y="38"/>
                </a:lnTo>
                <a:lnTo>
                  <a:pt x="224" y="30"/>
                </a:lnTo>
                <a:lnTo>
                  <a:pt x="255" y="23"/>
                </a:lnTo>
                <a:lnTo>
                  <a:pt x="286" y="17"/>
                </a:lnTo>
                <a:lnTo>
                  <a:pt x="314" y="13"/>
                </a:lnTo>
                <a:lnTo>
                  <a:pt x="347" y="11"/>
                </a:lnTo>
                <a:lnTo>
                  <a:pt x="378" y="11"/>
                </a:lnTo>
                <a:lnTo>
                  <a:pt x="408" y="11"/>
                </a:lnTo>
                <a:lnTo>
                  <a:pt x="426" y="13"/>
                </a:lnTo>
                <a:lnTo>
                  <a:pt x="426" y="11"/>
                </a:lnTo>
                <a:lnTo>
                  <a:pt x="426" y="9"/>
                </a:lnTo>
                <a:lnTo>
                  <a:pt x="428" y="9"/>
                </a:lnTo>
                <a:lnTo>
                  <a:pt x="428" y="7"/>
                </a:lnTo>
                <a:lnTo>
                  <a:pt x="428" y="5"/>
                </a:lnTo>
                <a:lnTo>
                  <a:pt x="430" y="5"/>
                </a:lnTo>
                <a:lnTo>
                  <a:pt x="430" y="4"/>
                </a:lnTo>
                <a:lnTo>
                  <a:pt x="430" y="2"/>
                </a:lnTo>
                <a:close/>
                <a:moveTo>
                  <a:pt x="0" y="1116"/>
                </a:moveTo>
                <a:lnTo>
                  <a:pt x="5" y="1122"/>
                </a:lnTo>
                <a:lnTo>
                  <a:pt x="30" y="1139"/>
                </a:lnTo>
                <a:lnTo>
                  <a:pt x="55" y="1155"/>
                </a:lnTo>
                <a:lnTo>
                  <a:pt x="80" y="1170"/>
                </a:lnTo>
                <a:lnTo>
                  <a:pt x="107" y="1183"/>
                </a:lnTo>
                <a:lnTo>
                  <a:pt x="136" y="1197"/>
                </a:lnTo>
                <a:lnTo>
                  <a:pt x="165" y="1208"/>
                </a:lnTo>
                <a:lnTo>
                  <a:pt x="193" y="1218"/>
                </a:lnTo>
                <a:lnTo>
                  <a:pt x="222" y="1226"/>
                </a:lnTo>
                <a:lnTo>
                  <a:pt x="253" y="1233"/>
                </a:lnTo>
                <a:lnTo>
                  <a:pt x="284" y="1239"/>
                </a:lnTo>
                <a:lnTo>
                  <a:pt x="314" y="1243"/>
                </a:lnTo>
                <a:lnTo>
                  <a:pt x="345" y="1245"/>
                </a:lnTo>
                <a:lnTo>
                  <a:pt x="378" y="1245"/>
                </a:lnTo>
                <a:lnTo>
                  <a:pt x="410" y="1245"/>
                </a:lnTo>
                <a:lnTo>
                  <a:pt x="441" y="1243"/>
                </a:lnTo>
                <a:lnTo>
                  <a:pt x="451" y="1241"/>
                </a:lnTo>
                <a:lnTo>
                  <a:pt x="449" y="1239"/>
                </a:lnTo>
                <a:lnTo>
                  <a:pt x="449" y="1239"/>
                </a:lnTo>
                <a:lnTo>
                  <a:pt x="449" y="1237"/>
                </a:lnTo>
                <a:lnTo>
                  <a:pt x="447" y="1235"/>
                </a:lnTo>
                <a:lnTo>
                  <a:pt x="447" y="1235"/>
                </a:lnTo>
                <a:lnTo>
                  <a:pt x="447" y="1233"/>
                </a:lnTo>
                <a:lnTo>
                  <a:pt x="445" y="1231"/>
                </a:lnTo>
                <a:lnTo>
                  <a:pt x="445" y="1231"/>
                </a:lnTo>
                <a:lnTo>
                  <a:pt x="441" y="1231"/>
                </a:lnTo>
                <a:lnTo>
                  <a:pt x="408" y="1233"/>
                </a:lnTo>
                <a:lnTo>
                  <a:pt x="378" y="1235"/>
                </a:lnTo>
                <a:lnTo>
                  <a:pt x="347" y="1233"/>
                </a:lnTo>
                <a:lnTo>
                  <a:pt x="314" y="1231"/>
                </a:lnTo>
                <a:lnTo>
                  <a:pt x="286" y="1228"/>
                </a:lnTo>
                <a:lnTo>
                  <a:pt x="255" y="1222"/>
                </a:lnTo>
                <a:lnTo>
                  <a:pt x="224" y="1216"/>
                </a:lnTo>
                <a:lnTo>
                  <a:pt x="195" y="1207"/>
                </a:lnTo>
                <a:lnTo>
                  <a:pt x="167" y="1197"/>
                </a:lnTo>
                <a:lnTo>
                  <a:pt x="140" y="1187"/>
                </a:lnTo>
                <a:lnTo>
                  <a:pt x="113" y="1174"/>
                </a:lnTo>
                <a:lnTo>
                  <a:pt x="86" y="1160"/>
                </a:lnTo>
                <a:lnTo>
                  <a:pt x="61" y="1147"/>
                </a:lnTo>
                <a:lnTo>
                  <a:pt x="36" y="1130"/>
                </a:lnTo>
                <a:lnTo>
                  <a:pt x="11" y="1113"/>
                </a:lnTo>
                <a:lnTo>
                  <a:pt x="0" y="1103"/>
                </a:lnTo>
                <a:lnTo>
                  <a:pt x="0" y="1105"/>
                </a:lnTo>
                <a:lnTo>
                  <a:pt x="0" y="1107"/>
                </a:lnTo>
                <a:lnTo>
                  <a:pt x="0" y="1109"/>
                </a:lnTo>
                <a:lnTo>
                  <a:pt x="0" y="1111"/>
                </a:lnTo>
                <a:lnTo>
                  <a:pt x="0" y="1113"/>
                </a:lnTo>
                <a:lnTo>
                  <a:pt x="0" y="1114"/>
                </a:lnTo>
                <a:lnTo>
                  <a:pt x="0" y="1116"/>
                </a:lnTo>
                <a:lnTo>
                  <a:pt x="0" y="1116"/>
                </a:lnTo>
                <a:close/>
              </a:path>
            </a:pathLst>
          </a:custGeom>
          <a:solidFill>
            <a:srgbClr val="8b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Freeform 413"/>
          <p:cNvSpPr/>
          <p:nvPr/>
        </p:nvSpPr>
        <p:spPr>
          <a:xfrm>
            <a:off x="5740560" y="2262240"/>
            <a:ext cx="712800" cy="1962000"/>
          </a:xfrm>
          <a:custGeom>
            <a:avLst/>
            <a:gdLst>
              <a:gd name="textAreaLeft" fmla="*/ 0 w 712800"/>
              <a:gd name="textAreaRight" fmla="*/ 713160 w 71280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449" h="1236">
                <a:moveTo>
                  <a:pt x="430" y="2"/>
                </a:moveTo>
                <a:lnTo>
                  <a:pt x="412" y="0"/>
                </a:lnTo>
                <a:lnTo>
                  <a:pt x="380" y="0"/>
                </a:lnTo>
                <a:lnTo>
                  <a:pt x="349" y="0"/>
                </a:lnTo>
                <a:lnTo>
                  <a:pt x="316" y="4"/>
                </a:lnTo>
                <a:lnTo>
                  <a:pt x="286" y="8"/>
                </a:lnTo>
                <a:lnTo>
                  <a:pt x="255" y="14"/>
                </a:lnTo>
                <a:lnTo>
                  <a:pt x="226" y="20"/>
                </a:lnTo>
                <a:lnTo>
                  <a:pt x="195" y="27"/>
                </a:lnTo>
                <a:lnTo>
                  <a:pt x="167" y="39"/>
                </a:lnTo>
                <a:lnTo>
                  <a:pt x="140" y="48"/>
                </a:lnTo>
                <a:lnTo>
                  <a:pt x="134" y="52"/>
                </a:lnTo>
                <a:lnTo>
                  <a:pt x="134" y="54"/>
                </a:lnTo>
                <a:lnTo>
                  <a:pt x="132" y="54"/>
                </a:lnTo>
                <a:lnTo>
                  <a:pt x="132" y="56"/>
                </a:lnTo>
                <a:lnTo>
                  <a:pt x="132" y="58"/>
                </a:lnTo>
                <a:lnTo>
                  <a:pt x="130" y="60"/>
                </a:lnTo>
                <a:lnTo>
                  <a:pt x="130" y="62"/>
                </a:lnTo>
                <a:lnTo>
                  <a:pt x="130" y="64"/>
                </a:lnTo>
                <a:lnTo>
                  <a:pt x="130" y="66"/>
                </a:lnTo>
                <a:lnTo>
                  <a:pt x="144" y="58"/>
                </a:lnTo>
                <a:lnTo>
                  <a:pt x="170" y="48"/>
                </a:lnTo>
                <a:lnTo>
                  <a:pt x="199" y="39"/>
                </a:lnTo>
                <a:lnTo>
                  <a:pt x="228" y="29"/>
                </a:lnTo>
                <a:lnTo>
                  <a:pt x="257" y="23"/>
                </a:lnTo>
                <a:lnTo>
                  <a:pt x="288" y="18"/>
                </a:lnTo>
                <a:lnTo>
                  <a:pt x="318" y="14"/>
                </a:lnTo>
                <a:lnTo>
                  <a:pt x="349" y="12"/>
                </a:lnTo>
                <a:lnTo>
                  <a:pt x="380" y="12"/>
                </a:lnTo>
                <a:lnTo>
                  <a:pt x="410" y="12"/>
                </a:lnTo>
                <a:lnTo>
                  <a:pt x="424" y="12"/>
                </a:lnTo>
                <a:lnTo>
                  <a:pt x="426" y="12"/>
                </a:lnTo>
                <a:lnTo>
                  <a:pt x="426" y="10"/>
                </a:lnTo>
                <a:lnTo>
                  <a:pt x="426" y="8"/>
                </a:lnTo>
                <a:lnTo>
                  <a:pt x="428" y="8"/>
                </a:lnTo>
                <a:lnTo>
                  <a:pt x="428" y="6"/>
                </a:lnTo>
                <a:lnTo>
                  <a:pt x="428" y="4"/>
                </a:lnTo>
                <a:lnTo>
                  <a:pt x="430" y="4"/>
                </a:lnTo>
                <a:lnTo>
                  <a:pt x="430" y="2"/>
                </a:lnTo>
                <a:close/>
                <a:moveTo>
                  <a:pt x="2" y="1106"/>
                </a:moveTo>
                <a:lnTo>
                  <a:pt x="11" y="1113"/>
                </a:lnTo>
                <a:lnTo>
                  <a:pt x="34" y="1131"/>
                </a:lnTo>
                <a:lnTo>
                  <a:pt x="59" y="1146"/>
                </a:lnTo>
                <a:lnTo>
                  <a:pt x="86" y="1161"/>
                </a:lnTo>
                <a:lnTo>
                  <a:pt x="113" y="1175"/>
                </a:lnTo>
                <a:lnTo>
                  <a:pt x="140" y="1186"/>
                </a:lnTo>
                <a:lnTo>
                  <a:pt x="167" y="1198"/>
                </a:lnTo>
                <a:lnTo>
                  <a:pt x="195" y="1207"/>
                </a:lnTo>
                <a:lnTo>
                  <a:pt x="226" y="1215"/>
                </a:lnTo>
                <a:lnTo>
                  <a:pt x="255" y="1223"/>
                </a:lnTo>
                <a:lnTo>
                  <a:pt x="286" y="1228"/>
                </a:lnTo>
                <a:lnTo>
                  <a:pt x="316" y="1232"/>
                </a:lnTo>
                <a:lnTo>
                  <a:pt x="349" y="1234"/>
                </a:lnTo>
                <a:lnTo>
                  <a:pt x="380" y="1236"/>
                </a:lnTo>
                <a:lnTo>
                  <a:pt x="412" y="1234"/>
                </a:lnTo>
                <a:lnTo>
                  <a:pt x="443" y="1232"/>
                </a:lnTo>
                <a:lnTo>
                  <a:pt x="449" y="1230"/>
                </a:lnTo>
                <a:lnTo>
                  <a:pt x="449" y="1230"/>
                </a:lnTo>
                <a:lnTo>
                  <a:pt x="449" y="1228"/>
                </a:lnTo>
                <a:lnTo>
                  <a:pt x="447" y="1226"/>
                </a:lnTo>
                <a:lnTo>
                  <a:pt x="447" y="1226"/>
                </a:lnTo>
                <a:lnTo>
                  <a:pt x="447" y="1225"/>
                </a:lnTo>
                <a:lnTo>
                  <a:pt x="445" y="1225"/>
                </a:lnTo>
                <a:lnTo>
                  <a:pt x="445" y="1223"/>
                </a:lnTo>
                <a:lnTo>
                  <a:pt x="445" y="1221"/>
                </a:lnTo>
                <a:lnTo>
                  <a:pt x="441" y="1221"/>
                </a:lnTo>
                <a:lnTo>
                  <a:pt x="410" y="1225"/>
                </a:lnTo>
                <a:lnTo>
                  <a:pt x="380" y="1225"/>
                </a:lnTo>
                <a:lnTo>
                  <a:pt x="349" y="1225"/>
                </a:lnTo>
                <a:lnTo>
                  <a:pt x="318" y="1221"/>
                </a:lnTo>
                <a:lnTo>
                  <a:pt x="288" y="1217"/>
                </a:lnTo>
                <a:lnTo>
                  <a:pt x="257" y="1213"/>
                </a:lnTo>
                <a:lnTo>
                  <a:pt x="228" y="1205"/>
                </a:lnTo>
                <a:lnTo>
                  <a:pt x="199" y="1198"/>
                </a:lnTo>
                <a:lnTo>
                  <a:pt x="170" y="1188"/>
                </a:lnTo>
                <a:lnTo>
                  <a:pt x="144" y="1177"/>
                </a:lnTo>
                <a:lnTo>
                  <a:pt x="117" y="1165"/>
                </a:lnTo>
                <a:lnTo>
                  <a:pt x="90" y="1152"/>
                </a:lnTo>
                <a:lnTo>
                  <a:pt x="65" y="1136"/>
                </a:lnTo>
                <a:lnTo>
                  <a:pt x="40" y="1121"/>
                </a:lnTo>
                <a:lnTo>
                  <a:pt x="17" y="1104"/>
                </a:lnTo>
                <a:lnTo>
                  <a:pt x="0" y="1090"/>
                </a:lnTo>
                <a:lnTo>
                  <a:pt x="0" y="1092"/>
                </a:lnTo>
                <a:lnTo>
                  <a:pt x="0" y="1094"/>
                </a:lnTo>
                <a:lnTo>
                  <a:pt x="0" y="1096"/>
                </a:lnTo>
                <a:lnTo>
                  <a:pt x="2" y="1098"/>
                </a:lnTo>
                <a:lnTo>
                  <a:pt x="2" y="1100"/>
                </a:lnTo>
                <a:lnTo>
                  <a:pt x="2" y="1102"/>
                </a:lnTo>
                <a:lnTo>
                  <a:pt x="2" y="1104"/>
                </a:lnTo>
                <a:lnTo>
                  <a:pt x="2" y="1106"/>
                </a:lnTo>
                <a:close/>
              </a:path>
            </a:pathLst>
          </a:custGeom>
          <a:solidFill>
            <a:srgbClr val="8c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Freeform 414"/>
          <p:cNvSpPr/>
          <p:nvPr/>
        </p:nvSpPr>
        <p:spPr>
          <a:xfrm>
            <a:off x="5740560" y="2271600"/>
            <a:ext cx="709560" cy="1943280"/>
          </a:xfrm>
          <a:custGeom>
            <a:avLst/>
            <a:gdLst>
              <a:gd name="textAreaLeft" fmla="*/ 0 w 709560"/>
              <a:gd name="textAreaRight" fmla="*/ 709920 w 70956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447" h="1224">
                <a:moveTo>
                  <a:pt x="428" y="2"/>
                </a:moveTo>
                <a:lnTo>
                  <a:pt x="410" y="0"/>
                </a:lnTo>
                <a:lnTo>
                  <a:pt x="380" y="0"/>
                </a:lnTo>
                <a:lnTo>
                  <a:pt x="349" y="0"/>
                </a:lnTo>
                <a:lnTo>
                  <a:pt x="316" y="2"/>
                </a:lnTo>
                <a:lnTo>
                  <a:pt x="288" y="6"/>
                </a:lnTo>
                <a:lnTo>
                  <a:pt x="257" y="12"/>
                </a:lnTo>
                <a:lnTo>
                  <a:pt x="226" y="19"/>
                </a:lnTo>
                <a:lnTo>
                  <a:pt x="197" y="27"/>
                </a:lnTo>
                <a:lnTo>
                  <a:pt x="169" y="37"/>
                </a:lnTo>
                <a:lnTo>
                  <a:pt x="142" y="48"/>
                </a:lnTo>
                <a:lnTo>
                  <a:pt x="132" y="52"/>
                </a:lnTo>
                <a:lnTo>
                  <a:pt x="130" y="54"/>
                </a:lnTo>
                <a:lnTo>
                  <a:pt x="130" y="56"/>
                </a:lnTo>
                <a:lnTo>
                  <a:pt x="130" y="58"/>
                </a:lnTo>
                <a:lnTo>
                  <a:pt x="130" y="60"/>
                </a:lnTo>
                <a:lnTo>
                  <a:pt x="128" y="62"/>
                </a:lnTo>
                <a:lnTo>
                  <a:pt x="128" y="62"/>
                </a:lnTo>
                <a:lnTo>
                  <a:pt x="128" y="63"/>
                </a:lnTo>
                <a:lnTo>
                  <a:pt x="128" y="65"/>
                </a:lnTo>
                <a:lnTo>
                  <a:pt x="146" y="58"/>
                </a:lnTo>
                <a:lnTo>
                  <a:pt x="172" y="46"/>
                </a:lnTo>
                <a:lnTo>
                  <a:pt x="201" y="37"/>
                </a:lnTo>
                <a:lnTo>
                  <a:pt x="230" y="29"/>
                </a:lnTo>
                <a:lnTo>
                  <a:pt x="259" y="23"/>
                </a:lnTo>
                <a:lnTo>
                  <a:pt x="288" y="17"/>
                </a:lnTo>
                <a:lnTo>
                  <a:pt x="318" y="14"/>
                </a:lnTo>
                <a:lnTo>
                  <a:pt x="349" y="12"/>
                </a:lnTo>
                <a:lnTo>
                  <a:pt x="380" y="10"/>
                </a:lnTo>
                <a:lnTo>
                  <a:pt x="410" y="12"/>
                </a:lnTo>
                <a:lnTo>
                  <a:pt x="422" y="12"/>
                </a:lnTo>
                <a:lnTo>
                  <a:pt x="422" y="10"/>
                </a:lnTo>
                <a:lnTo>
                  <a:pt x="424" y="10"/>
                </a:lnTo>
                <a:lnTo>
                  <a:pt x="424" y="8"/>
                </a:lnTo>
                <a:lnTo>
                  <a:pt x="424" y="6"/>
                </a:lnTo>
                <a:lnTo>
                  <a:pt x="426" y="6"/>
                </a:lnTo>
                <a:lnTo>
                  <a:pt x="426" y="4"/>
                </a:lnTo>
                <a:lnTo>
                  <a:pt x="426" y="2"/>
                </a:lnTo>
                <a:lnTo>
                  <a:pt x="428" y="2"/>
                </a:lnTo>
                <a:close/>
                <a:moveTo>
                  <a:pt x="2" y="1092"/>
                </a:moveTo>
                <a:lnTo>
                  <a:pt x="13" y="1102"/>
                </a:lnTo>
                <a:lnTo>
                  <a:pt x="38" y="1119"/>
                </a:lnTo>
                <a:lnTo>
                  <a:pt x="63" y="1136"/>
                </a:lnTo>
                <a:lnTo>
                  <a:pt x="88" y="1149"/>
                </a:lnTo>
                <a:lnTo>
                  <a:pt x="115" y="1163"/>
                </a:lnTo>
                <a:lnTo>
                  <a:pt x="142" y="1176"/>
                </a:lnTo>
                <a:lnTo>
                  <a:pt x="169" y="1186"/>
                </a:lnTo>
                <a:lnTo>
                  <a:pt x="197" y="1196"/>
                </a:lnTo>
                <a:lnTo>
                  <a:pt x="226" y="1205"/>
                </a:lnTo>
                <a:lnTo>
                  <a:pt x="257" y="1211"/>
                </a:lnTo>
                <a:lnTo>
                  <a:pt x="288" y="1217"/>
                </a:lnTo>
                <a:lnTo>
                  <a:pt x="316" y="1220"/>
                </a:lnTo>
                <a:lnTo>
                  <a:pt x="349" y="1222"/>
                </a:lnTo>
                <a:lnTo>
                  <a:pt x="380" y="1224"/>
                </a:lnTo>
                <a:lnTo>
                  <a:pt x="410" y="1222"/>
                </a:lnTo>
                <a:lnTo>
                  <a:pt x="443" y="1220"/>
                </a:lnTo>
                <a:lnTo>
                  <a:pt x="447" y="1220"/>
                </a:lnTo>
                <a:lnTo>
                  <a:pt x="447" y="1219"/>
                </a:lnTo>
                <a:lnTo>
                  <a:pt x="445" y="1219"/>
                </a:lnTo>
                <a:lnTo>
                  <a:pt x="445" y="1217"/>
                </a:lnTo>
                <a:lnTo>
                  <a:pt x="445" y="1215"/>
                </a:lnTo>
                <a:lnTo>
                  <a:pt x="443" y="1215"/>
                </a:lnTo>
                <a:lnTo>
                  <a:pt x="443" y="1213"/>
                </a:lnTo>
                <a:lnTo>
                  <a:pt x="441" y="1211"/>
                </a:lnTo>
                <a:lnTo>
                  <a:pt x="441" y="1211"/>
                </a:lnTo>
                <a:lnTo>
                  <a:pt x="441" y="1211"/>
                </a:lnTo>
                <a:lnTo>
                  <a:pt x="410" y="1213"/>
                </a:lnTo>
                <a:lnTo>
                  <a:pt x="380" y="1213"/>
                </a:lnTo>
                <a:lnTo>
                  <a:pt x="349" y="1213"/>
                </a:lnTo>
                <a:lnTo>
                  <a:pt x="318" y="1211"/>
                </a:lnTo>
                <a:lnTo>
                  <a:pt x="288" y="1207"/>
                </a:lnTo>
                <a:lnTo>
                  <a:pt x="259" y="1201"/>
                </a:lnTo>
                <a:lnTo>
                  <a:pt x="230" y="1194"/>
                </a:lnTo>
                <a:lnTo>
                  <a:pt x="201" y="1186"/>
                </a:lnTo>
                <a:lnTo>
                  <a:pt x="172" y="1176"/>
                </a:lnTo>
                <a:lnTo>
                  <a:pt x="146" y="1167"/>
                </a:lnTo>
                <a:lnTo>
                  <a:pt x="119" y="1153"/>
                </a:lnTo>
                <a:lnTo>
                  <a:pt x="94" y="1140"/>
                </a:lnTo>
                <a:lnTo>
                  <a:pt x="69" y="1126"/>
                </a:lnTo>
                <a:lnTo>
                  <a:pt x="44" y="1111"/>
                </a:lnTo>
                <a:lnTo>
                  <a:pt x="21" y="1094"/>
                </a:lnTo>
                <a:lnTo>
                  <a:pt x="0" y="1078"/>
                </a:lnTo>
                <a:lnTo>
                  <a:pt x="0" y="1080"/>
                </a:lnTo>
                <a:lnTo>
                  <a:pt x="0" y="1082"/>
                </a:lnTo>
                <a:lnTo>
                  <a:pt x="0" y="1084"/>
                </a:lnTo>
                <a:lnTo>
                  <a:pt x="0" y="1084"/>
                </a:lnTo>
                <a:lnTo>
                  <a:pt x="0" y="1086"/>
                </a:lnTo>
                <a:lnTo>
                  <a:pt x="0" y="1088"/>
                </a:lnTo>
                <a:lnTo>
                  <a:pt x="2" y="1090"/>
                </a:lnTo>
                <a:lnTo>
                  <a:pt x="2" y="1092"/>
                </a:lnTo>
                <a:close/>
              </a:path>
            </a:pathLst>
          </a:custGeom>
          <a:solidFill>
            <a:srgbClr val="8d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Freeform 415"/>
          <p:cNvSpPr/>
          <p:nvPr/>
        </p:nvSpPr>
        <p:spPr>
          <a:xfrm>
            <a:off x="5740560" y="2281320"/>
            <a:ext cx="706320" cy="1925640"/>
          </a:xfrm>
          <a:custGeom>
            <a:avLst/>
            <a:gdLst>
              <a:gd name="textAreaLeft" fmla="*/ 0 w 706320"/>
              <a:gd name="textAreaRight" fmla="*/ 706320 w 706320"/>
              <a:gd name="textAreaTop" fmla="*/ 0 h 1925640"/>
              <a:gd name="textAreaBottom" fmla="*/ 1926000 h 1925640"/>
            </a:gdLst>
            <a:ahLst/>
            <a:rect l="textAreaLeft" t="textAreaTop" r="textAreaRight" b="textAreaBottom"/>
            <a:pathLst>
              <a:path w="445" h="1213">
                <a:moveTo>
                  <a:pt x="424" y="0"/>
                </a:moveTo>
                <a:lnTo>
                  <a:pt x="410" y="0"/>
                </a:lnTo>
                <a:lnTo>
                  <a:pt x="380" y="0"/>
                </a:lnTo>
                <a:lnTo>
                  <a:pt x="349" y="0"/>
                </a:lnTo>
                <a:lnTo>
                  <a:pt x="318" y="2"/>
                </a:lnTo>
                <a:lnTo>
                  <a:pt x="288" y="6"/>
                </a:lnTo>
                <a:lnTo>
                  <a:pt x="257" y="11"/>
                </a:lnTo>
                <a:lnTo>
                  <a:pt x="228" y="17"/>
                </a:lnTo>
                <a:lnTo>
                  <a:pt x="199" y="27"/>
                </a:lnTo>
                <a:lnTo>
                  <a:pt x="170" y="36"/>
                </a:lnTo>
                <a:lnTo>
                  <a:pt x="144" y="46"/>
                </a:lnTo>
                <a:lnTo>
                  <a:pt x="130" y="54"/>
                </a:lnTo>
                <a:lnTo>
                  <a:pt x="128" y="56"/>
                </a:lnTo>
                <a:lnTo>
                  <a:pt x="128" y="56"/>
                </a:lnTo>
                <a:lnTo>
                  <a:pt x="128" y="57"/>
                </a:lnTo>
                <a:lnTo>
                  <a:pt x="128" y="59"/>
                </a:lnTo>
                <a:lnTo>
                  <a:pt x="126" y="61"/>
                </a:lnTo>
                <a:lnTo>
                  <a:pt x="126" y="63"/>
                </a:lnTo>
                <a:lnTo>
                  <a:pt x="126" y="65"/>
                </a:lnTo>
                <a:lnTo>
                  <a:pt x="126" y="67"/>
                </a:lnTo>
                <a:lnTo>
                  <a:pt x="147" y="56"/>
                </a:lnTo>
                <a:lnTo>
                  <a:pt x="174" y="46"/>
                </a:lnTo>
                <a:lnTo>
                  <a:pt x="203" y="36"/>
                </a:lnTo>
                <a:lnTo>
                  <a:pt x="230" y="29"/>
                </a:lnTo>
                <a:lnTo>
                  <a:pt x="259" y="21"/>
                </a:lnTo>
                <a:lnTo>
                  <a:pt x="289" y="17"/>
                </a:lnTo>
                <a:lnTo>
                  <a:pt x="318" y="13"/>
                </a:lnTo>
                <a:lnTo>
                  <a:pt x="349" y="10"/>
                </a:lnTo>
                <a:lnTo>
                  <a:pt x="380" y="10"/>
                </a:lnTo>
                <a:lnTo>
                  <a:pt x="410" y="10"/>
                </a:lnTo>
                <a:lnTo>
                  <a:pt x="420" y="11"/>
                </a:lnTo>
                <a:lnTo>
                  <a:pt x="420" y="10"/>
                </a:lnTo>
                <a:lnTo>
                  <a:pt x="420" y="8"/>
                </a:lnTo>
                <a:lnTo>
                  <a:pt x="422" y="8"/>
                </a:lnTo>
                <a:lnTo>
                  <a:pt x="422" y="6"/>
                </a:lnTo>
                <a:lnTo>
                  <a:pt x="422" y="4"/>
                </a:lnTo>
                <a:lnTo>
                  <a:pt x="424" y="4"/>
                </a:lnTo>
                <a:lnTo>
                  <a:pt x="424" y="2"/>
                </a:lnTo>
                <a:lnTo>
                  <a:pt x="424" y="0"/>
                </a:lnTo>
                <a:close/>
                <a:moveTo>
                  <a:pt x="0" y="1078"/>
                </a:moveTo>
                <a:lnTo>
                  <a:pt x="17" y="1092"/>
                </a:lnTo>
                <a:lnTo>
                  <a:pt x="40" y="1109"/>
                </a:lnTo>
                <a:lnTo>
                  <a:pt x="65" y="1124"/>
                </a:lnTo>
                <a:lnTo>
                  <a:pt x="90" y="1140"/>
                </a:lnTo>
                <a:lnTo>
                  <a:pt x="117" y="1153"/>
                </a:lnTo>
                <a:lnTo>
                  <a:pt x="144" y="1165"/>
                </a:lnTo>
                <a:lnTo>
                  <a:pt x="170" y="1176"/>
                </a:lnTo>
                <a:lnTo>
                  <a:pt x="199" y="1186"/>
                </a:lnTo>
                <a:lnTo>
                  <a:pt x="228" y="1193"/>
                </a:lnTo>
                <a:lnTo>
                  <a:pt x="257" y="1201"/>
                </a:lnTo>
                <a:lnTo>
                  <a:pt x="288" y="1205"/>
                </a:lnTo>
                <a:lnTo>
                  <a:pt x="318" y="1209"/>
                </a:lnTo>
                <a:lnTo>
                  <a:pt x="349" y="1213"/>
                </a:lnTo>
                <a:lnTo>
                  <a:pt x="380" y="1213"/>
                </a:lnTo>
                <a:lnTo>
                  <a:pt x="410" y="1213"/>
                </a:lnTo>
                <a:lnTo>
                  <a:pt x="441" y="1209"/>
                </a:lnTo>
                <a:lnTo>
                  <a:pt x="445" y="1209"/>
                </a:lnTo>
                <a:lnTo>
                  <a:pt x="443" y="1209"/>
                </a:lnTo>
                <a:lnTo>
                  <a:pt x="443" y="1207"/>
                </a:lnTo>
                <a:lnTo>
                  <a:pt x="441" y="1205"/>
                </a:lnTo>
                <a:lnTo>
                  <a:pt x="441" y="1205"/>
                </a:lnTo>
                <a:lnTo>
                  <a:pt x="441" y="1203"/>
                </a:lnTo>
                <a:lnTo>
                  <a:pt x="439" y="1201"/>
                </a:lnTo>
                <a:lnTo>
                  <a:pt x="439" y="1201"/>
                </a:lnTo>
                <a:lnTo>
                  <a:pt x="439" y="1199"/>
                </a:lnTo>
                <a:lnTo>
                  <a:pt x="410" y="1201"/>
                </a:lnTo>
                <a:lnTo>
                  <a:pt x="380" y="1201"/>
                </a:lnTo>
                <a:lnTo>
                  <a:pt x="349" y="1201"/>
                </a:lnTo>
                <a:lnTo>
                  <a:pt x="318" y="1199"/>
                </a:lnTo>
                <a:lnTo>
                  <a:pt x="289" y="1195"/>
                </a:lnTo>
                <a:lnTo>
                  <a:pt x="259" y="1190"/>
                </a:lnTo>
                <a:lnTo>
                  <a:pt x="230" y="1184"/>
                </a:lnTo>
                <a:lnTo>
                  <a:pt x="203" y="1174"/>
                </a:lnTo>
                <a:lnTo>
                  <a:pt x="174" y="1166"/>
                </a:lnTo>
                <a:lnTo>
                  <a:pt x="147" y="1155"/>
                </a:lnTo>
                <a:lnTo>
                  <a:pt x="121" y="1143"/>
                </a:lnTo>
                <a:lnTo>
                  <a:pt x="96" y="1130"/>
                </a:lnTo>
                <a:lnTo>
                  <a:pt x="71" y="1115"/>
                </a:lnTo>
                <a:lnTo>
                  <a:pt x="46" y="1099"/>
                </a:lnTo>
                <a:lnTo>
                  <a:pt x="23" y="1084"/>
                </a:lnTo>
                <a:lnTo>
                  <a:pt x="2" y="1065"/>
                </a:lnTo>
                <a:lnTo>
                  <a:pt x="0" y="1065"/>
                </a:lnTo>
                <a:lnTo>
                  <a:pt x="0" y="1067"/>
                </a:lnTo>
                <a:lnTo>
                  <a:pt x="0" y="1069"/>
                </a:lnTo>
                <a:lnTo>
                  <a:pt x="0" y="1071"/>
                </a:lnTo>
                <a:lnTo>
                  <a:pt x="0" y="1072"/>
                </a:lnTo>
                <a:lnTo>
                  <a:pt x="0" y="1074"/>
                </a:lnTo>
                <a:lnTo>
                  <a:pt x="0" y="1076"/>
                </a:lnTo>
                <a:lnTo>
                  <a:pt x="0" y="1076"/>
                </a:lnTo>
                <a:lnTo>
                  <a:pt x="0" y="1078"/>
                </a:lnTo>
                <a:close/>
              </a:path>
            </a:pathLst>
          </a:custGeom>
          <a:solidFill>
            <a:srgbClr val="8e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Freeform 416"/>
          <p:cNvSpPr/>
          <p:nvPr/>
        </p:nvSpPr>
        <p:spPr>
          <a:xfrm>
            <a:off x="5740560" y="2287440"/>
            <a:ext cx="699840" cy="1909800"/>
          </a:xfrm>
          <a:custGeom>
            <a:avLst/>
            <a:gdLst>
              <a:gd name="textAreaLeft" fmla="*/ 0 w 699840"/>
              <a:gd name="textAreaRight" fmla="*/ 700200 w 69984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w="441" h="1203">
                <a:moveTo>
                  <a:pt x="422" y="2"/>
                </a:moveTo>
                <a:lnTo>
                  <a:pt x="410" y="2"/>
                </a:lnTo>
                <a:lnTo>
                  <a:pt x="380" y="0"/>
                </a:lnTo>
                <a:lnTo>
                  <a:pt x="349" y="2"/>
                </a:lnTo>
                <a:lnTo>
                  <a:pt x="318" y="4"/>
                </a:lnTo>
                <a:lnTo>
                  <a:pt x="288" y="7"/>
                </a:lnTo>
                <a:lnTo>
                  <a:pt x="259" y="13"/>
                </a:lnTo>
                <a:lnTo>
                  <a:pt x="230" y="19"/>
                </a:lnTo>
                <a:lnTo>
                  <a:pt x="201" y="27"/>
                </a:lnTo>
                <a:lnTo>
                  <a:pt x="172" y="36"/>
                </a:lnTo>
                <a:lnTo>
                  <a:pt x="146" y="48"/>
                </a:lnTo>
                <a:lnTo>
                  <a:pt x="128" y="55"/>
                </a:lnTo>
                <a:lnTo>
                  <a:pt x="126" y="57"/>
                </a:lnTo>
                <a:lnTo>
                  <a:pt x="126" y="59"/>
                </a:lnTo>
                <a:lnTo>
                  <a:pt x="126" y="61"/>
                </a:lnTo>
                <a:lnTo>
                  <a:pt x="126" y="63"/>
                </a:lnTo>
                <a:lnTo>
                  <a:pt x="124" y="65"/>
                </a:lnTo>
                <a:lnTo>
                  <a:pt x="124" y="67"/>
                </a:lnTo>
                <a:lnTo>
                  <a:pt x="124" y="67"/>
                </a:lnTo>
                <a:lnTo>
                  <a:pt x="124" y="69"/>
                </a:lnTo>
                <a:lnTo>
                  <a:pt x="124" y="69"/>
                </a:lnTo>
                <a:lnTo>
                  <a:pt x="149" y="57"/>
                </a:lnTo>
                <a:lnTo>
                  <a:pt x="176" y="48"/>
                </a:lnTo>
                <a:lnTo>
                  <a:pt x="205" y="38"/>
                </a:lnTo>
                <a:lnTo>
                  <a:pt x="232" y="30"/>
                </a:lnTo>
                <a:lnTo>
                  <a:pt x="261" y="23"/>
                </a:lnTo>
                <a:lnTo>
                  <a:pt x="289" y="17"/>
                </a:lnTo>
                <a:lnTo>
                  <a:pt x="320" y="13"/>
                </a:lnTo>
                <a:lnTo>
                  <a:pt x="349" y="11"/>
                </a:lnTo>
                <a:lnTo>
                  <a:pt x="380" y="11"/>
                </a:lnTo>
                <a:lnTo>
                  <a:pt x="410" y="11"/>
                </a:lnTo>
                <a:lnTo>
                  <a:pt x="416" y="13"/>
                </a:lnTo>
                <a:lnTo>
                  <a:pt x="418" y="11"/>
                </a:lnTo>
                <a:lnTo>
                  <a:pt x="418" y="9"/>
                </a:lnTo>
                <a:lnTo>
                  <a:pt x="418" y="7"/>
                </a:lnTo>
                <a:lnTo>
                  <a:pt x="420" y="7"/>
                </a:lnTo>
                <a:lnTo>
                  <a:pt x="420" y="6"/>
                </a:lnTo>
                <a:lnTo>
                  <a:pt x="420" y="4"/>
                </a:lnTo>
                <a:lnTo>
                  <a:pt x="422" y="4"/>
                </a:lnTo>
                <a:lnTo>
                  <a:pt x="422" y="2"/>
                </a:lnTo>
                <a:close/>
                <a:moveTo>
                  <a:pt x="0" y="1068"/>
                </a:moveTo>
                <a:lnTo>
                  <a:pt x="21" y="1084"/>
                </a:lnTo>
                <a:lnTo>
                  <a:pt x="44" y="1101"/>
                </a:lnTo>
                <a:lnTo>
                  <a:pt x="69" y="1116"/>
                </a:lnTo>
                <a:lnTo>
                  <a:pt x="94" y="1130"/>
                </a:lnTo>
                <a:lnTo>
                  <a:pt x="119" y="1143"/>
                </a:lnTo>
                <a:lnTo>
                  <a:pt x="146" y="1157"/>
                </a:lnTo>
                <a:lnTo>
                  <a:pt x="172" y="1166"/>
                </a:lnTo>
                <a:lnTo>
                  <a:pt x="201" y="1176"/>
                </a:lnTo>
                <a:lnTo>
                  <a:pt x="230" y="1184"/>
                </a:lnTo>
                <a:lnTo>
                  <a:pt x="259" y="1191"/>
                </a:lnTo>
                <a:lnTo>
                  <a:pt x="288" y="1197"/>
                </a:lnTo>
                <a:lnTo>
                  <a:pt x="318" y="1201"/>
                </a:lnTo>
                <a:lnTo>
                  <a:pt x="349" y="1203"/>
                </a:lnTo>
                <a:lnTo>
                  <a:pt x="380" y="1203"/>
                </a:lnTo>
                <a:lnTo>
                  <a:pt x="410" y="1203"/>
                </a:lnTo>
                <a:lnTo>
                  <a:pt x="441" y="1201"/>
                </a:lnTo>
                <a:lnTo>
                  <a:pt x="441" y="1201"/>
                </a:lnTo>
                <a:lnTo>
                  <a:pt x="441" y="1199"/>
                </a:lnTo>
                <a:lnTo>
                  <a:pt x="439" y="1197"/>
                </a:lnTo>
                <a:lnTo>
                  <a:pt x="439" y="1197"/>
                </a:lnTo>
                <a:lnTo>
                  <a:pt x="439" y="1195"/>
                </a:lnTo>
                <a:lnTo>
                  <a:pt x="437" y="1193"/>
                </a:lnTo>
                <a:lnTo>
                  <a:pt x="437" y="1193"/>
                </a:lnTo>
                <a:lnTo>
                  <a:pt x="437" y="1191"/>
                </a:lnTo>
                <a:lnTo>
                  <a:pt x="435" y="1189"/>
                </a:lnTo>
                <a:lnTo>
                  <a:pt x="410" y="1191"/>
                </a:lnTo>
                <a:lnTo>
                  <a:pt x="380" y="1193"/>
                </a:lnTo>
                <a:lnTo>
                  <a:pt x="349" y="1191"/>
                </a:lnTo>
                <a:lnTo>
                  <a:pt x="320" y="1189"/>
                </a:lnTo>
                <a:lnTo>
                  <a:pt x="289" y="1186"/>
                </a:lnTo>
                <a:lnTo>
                  <a:pt x="261" y="1180"/>
                </a:lnTo>
                <a:lnTo>
                  <a:pt x="232" y="1174"/>
                </a:lnTo>
                <a:lnTo>
                  <a:pt x="205" y="1166"/>
                </a:lnTo>
                <a:lnTo>
                  <a:pt x="176" y="1157"/>
                </a:lnTo>
                <a:lnTo>
                  <a:pt x="149" y="1145"/>
                </a:lnTo>
                <a:lnTo>
                  <a:pt x="124" y="1134"/>
                </a:lnTo>
                <a:lnTo>
                  <a:pt x="98" y="1120"/>
                </a:lnTo>
                <a:lnTo>
                  <a:pt x="73" y="1107"/>
                </a:lnTo>
                <a:lnTo>
                  <a:pt x="50" y="1092"/>
                </a:lnTo>
                <a:lnTo>
                  <a:pt x="27" y="1074"/>
                </a:lnTo>
                <a:lnTo>
                  <a:pt x="4" y="1057"/>
                </a:lnTo>
                <a:lnTo>
                  <a:pt x="0" y="1053"/>
                </a:lnTo>
                <a:lnTo>
                  <a:pt x="0" y="1055"/>
                </a:lnTo>
                <a:lnTo>
                  <a:pt x="0" y="1057"/>
                </a:lnTo>
                <a:lnTo>
                  <a:pt x="0" y="1059"/>
                </a:lnTo>
                <a:lnTo>
                  <a:pt x="0" y="1061"/>
                </a:lnTo>
                <a:lnTo>
                  <a:pt x="0" y="1063"/>
                </a:lnTo>
                <a:lnTo>
                  <a:pt x="0" y="1065"/>
                </a:lnTo>
                <a:lnTo>
                  <a:pt x="0" y="1067"/>
                </a:lnTo>
                <a:lnTo>
                  <a:pt x="0" y="1068"/>
                </a:lnTo>
                <a:close/>
              </a:path>
            </a:pathLst>
          </a:custGeom>
          <a:solidFill>
            <a:srgbClr val="8fd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Freeform 417"/>
          <p:cNvSpPr/>
          <p:nvPr/>
        </p:nvSpPr>
        <p:spPr>
          <a:xfrm>
            <a:off x="5740560" y="2297160"/>
            <a:ext cx="696600" cy="1890720"/>
          </a:xfrm>
          <a:custGeom>
            <a:avLst/>
            <a:gdLst>
              <a:gd name="textAreaLeft" fmla="*/ 0 w 696600"/>
              <a:gd name="textAreaRight" fmla="*/ 696960 w 696600"/>
              <a:gd name="textAreaTop" fmla="*/ 0 h 1890720"/>
              <a:gd name="textAreaBottom" fmla="*/ 1891080 h 1890720"/>
            </a:gdLst>
            <a:ahLst/>
            <a:rect l="textAreaLeft" t="textAreaTop" r="textAreaRight" b="textAreaBottom"/>
            <a:pathLst>
              <a:path w="439" h="1191">
                <a:moveTo>
                  <a:pt x="420" y="1"/>
                </a:moveTo>
                <a:lnTo>
                  <a:pt x="410" y="0"/>
                </a:lnTo>
                <a:lnTo>
                  <a:pt x="380" y="0"/>
                </a:lnTo>
                <a:lnTo>
                  <a:pt x="349" y="0"/>
                </a:lnTo>
                <a:lnTo>
                  <a:pt x="318" y="3"/>
                </a:lnTo>
                <a:lnTo>
                  <a:pt x="289" y="7"/>
                </a:lnTo>
                <a:lnTo>
                  <a:pt x="259" y="11"/>
                </a:lnTo>
                <a:lnTo>
                  <a:pt x="230" y="19"/>
                </a:lnTo>
                <a:lnTo>
                  <a:pt x="203" y="26"/>
                </a:lnTo>
                <a:lnTo>
                  <a:pt x="174" y="36"/>
                </a:lnTo>
                <a:lnTo>
                  <a:pt x="147" y="46"/>
                </a:lnTo>
                <a:lnTo>
                  <a:pt x="126" y="57"/>
                </a:lnTo>
                <a:lnTo>
                  <a:pt x="124" y="59"/>
                </a:lnTo>
                <a:lnTo>
                  <a:pt x="124" y="61"/>
                </a:lnTo>
                <a:lnTo>
                  <a:pt x="124" y="61"/>
                </a:lnTo>
                <a:lnTo>
                  <a:pt x="123" y="63"/>
                </a:lnTo>
                <a:lnTo>
                  <a:pt x="123" y="65"/>
                </a:lnTo>
                <a:lnTo>
                  <a:pt x="123" y="67"/>
                </a:lnTo>
                <a:lnTo>
                  <a:pt x="123" y="69"/>
                </a:lnTo>
                <a:lnTo>
                  <a:pt x="121" y="71"/>
                </a:lnTo>
                <a:lnTo>
                  <a:pt x="126" y="69"/>
                </a:lnTo>
                <a:lnTo>
                  <a:pt x="151" y="57"/>
                </a:lnTo>
                <a:lnTo>
                  <a:pt x="178" y="46"/>
                </a:lnTo>
                <a:lnTo>
                  <a:pt x="205" y="36"/>
                </a:lnTo>
                <a:lnTo>
                  <a:pt x="234" y="28"/>
                </a:lnTo>
                <a:lnTo>
                  <a:pt x="263" y="23"/>
                </a:lnTo>
                <a:lnTo>
                  <a:pt x="291" y="17"/>
                </a:lnTo>
                <a:lnTo>
                  <a:pt x="320" y="13"/>
                </a:lnTo>
                <a:lnTo>
                  <a:pt x="349" y="11"/>
                </a:lnTo>
                <a:lnTo>
                  <a:pt x="380" y="11"/>
                </a:lnTo>
                <a:lnTo>
                  <a:pt x="410" y="11"/>
                </a:lnTo>
                <a:lnTo>
                  <a:pt x="414" y="11"/>
                </a:lnTo>
                <a:lnTo>
                  <a:pt x="414" y="11"/>
                </a:lnTo>
                <a:lnTo>
                  <a:pt x="416" y="9"/>
                </a:lnTo>
                <a:lnTo>
                  <a:pt x="416" y="7"/>
                </a:lnTo>
                <a:lnTo>
                  <a:pt x="416" y="7"/>
                </a:lnTo>
                <a:lnTo>
                  <a:pt x="418" y="5"/>
                </a:lnTo>
                <a:lnTo>
                  <a:pt x="418" y="3"/>
                </a:lnTo>
                <a:lnTo>
                  <a:pt x="418" y="1"/>
                </a:lnTo>
                <a:lnTo>
                  <a:pt x="420" y="1"/>
                </a:lnTo>
                <a:close/>
                <a:moveTo>
                  <a:pt x="0" y="1055"/>
                </a:moveTo>
                <a:lnTo>
                  <a:pt x="2" y="1055"/>
                </a:lnTo>
                <a:lnTo>
                  <a:pt x="23" y="1074"/>
                </a:lnTo>
                <a:lnTo>
                  <a:pt x="46" y="1089"/>
                </a:lnTo>
                <a:lnTo>
                  <a:pt x="71" y="1105"/>
                </a:lnTo>
                <a:lnTo>
                  <a:pt x="96" y="1120"/>
                </a:lnTo>
                <a:lnTo>
                  <a:pt x="121" y="1133"/>
                </a:lnTo>
                <a:lnTo>
                  <a:pt x="147" y="1145"/>
                </a:lnTo>
                <a:lnTo>
                  <a:pt x="174" y="1156"/>
                </a:lnTo>
                <a:lnTo>
                  <a:pt x="203" y="1164"/>
                </a:lnTo>
                <a:lnTo>
                  <a:pt x="230" y="1174"/>
                </a:lnTo>
                <a:lnTo>
                  <a:pt x="259" y="1180"/>
                </a:lnTo>
                <a:lnTo>
                  <a:pt x="289" y="1185"/>
                </a:lnTo>
                <a:lnTo>
                  <a:pt x="318" y="1189"/>
                </a:lnTo>
                <a:lnTo>
                  <a:pt x="349" y="1191"/>
                </a:lnTo>
                <a:lnTo>
                  <a:pt x="380" y="1191"/>
                </a:lnTo>
                <a:lnTo>
                  <a:pt x="410" y="1191"/>
                </a:lnTo>
                <a:lnTo>
                  <a:pt x="439" y="1189"/>
                </a:lnTo>
                <a:lnTo>
                  <a:pt x="437" y="1187"/>
                </a:lnTo>
                <a:lnTo>
                  <a:pt x="437" y="1187"/>
                </a:lnTo>
                <a:lnTo>
                  <a:pt x="437" y="1185"/>
                </a:lnTo>
                <a:lnTo>
                  <a:pt x="435" y="1183"/>
                </a:lnTo>
                <a:lnTo>
                  <a:pt x="435" y="1183"/>
                </a:lnTo>
                <a:lnTo>
                  <a:pt x="435" y="1181"/>
                </a:lnTo>
                <a:lnTo>
                  <a:pt x="433" y="1180"/>
                </a:lnTo>
                <a:lnTo>
                  <a:pt x="433" y="1180"/>
                </a:lnTo>
                <a:lnTo>
                  <a:pt x="410" y="1180"/>
                </a:lnTo>
                <a:lnTo>
                  <a:pt x="380" y="1181"/>
                </a:lnTo>
                <a:lnTo>
                  <a:pt x="349" y="1180"/>
                </a:lnTo>
                <a:lnTo>
                  <a:pt x="320" y="1178"/>
                </a:lnTo>
                <a:lnTo>
                  <a:pt x="291" y="1174"/>
                </a:lnTo>
                <a:lnTo>
                  <a:pt x="263" y="1170"/>
                </a:lnTo>
                <a:lnTo>
                  <a:pt x="234" y="1162"/>
                </a:lnTo>
                <a:lnTo>
                  <a:pt x="205" y="1155"/>
                </a:lnTo>
                <a:lnTo>
                  <a:pt x="178" y="1145"/>
                </a:lnTo>
                <a:lnTo>
                  <a:pt x="151" y="1135"/>
                </a:lnTo>
                <a:lnTo>
                  <a:pt x="126" y="1124"/>
                </a:lnTo>
                <a:lnTo>
                  <a:pt x="101" y="1110"/>
                </a:lnTo>
                <a:lnTo>
                  <a:pt x="76" y="1097"/>
                </a:lnTo>
                <a:lnTo>
                  <a:pt x="53" y="1082"/>
                </a:lnTo>
                <a:lnTo>
                  <a:pt x="30" y="1064"/>
                </a:lnTo>
                <a:lnTo>
                  <a:pt x="7" y="1047"/>
                </a:lnTo>
                <a:lnTo>
                  <a:pt x="0" y="1039"/>
                </a:lnTo>
                <a:lnTo>
                  <a:pt x="0" y="1041"/>
                </a:lnTo>
                <a:lnTo>
                  <a:pt x="0" y="1043"/>
                </a:lnTo>
                <a:lnTo>
                  <a:pt x="0" y="1045"/>
                </a:lnTo>
                <a:lnTo>
                  <a:pt x="0" y="1047"/>
                </a:lnTo>
                <a:lnTo>
                  <a:pt x="0" y="1049"/>
                </a:lnTo>
                <a:lnTo>
                  <a:pt x="0" y="1051"/>
                </a:lnTo>
                <a:lnTo>
                  <a:pt x="0" y="1053"/>
                </a:lnTo>
                <a:lnTo>
                  <a:pt x="0" y="1055"/>
                </a:lnTo>
                <a:close/>
              </a:path>
            </a:pathLst>
          </a:custGeom>
          <a:solidFill>
            <a:srgbClr val="90d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Freeform 418"/>
          <p:cNvSpPr/>
          <p:nvPr/>
        </p:nvSpPr>
        <p:spPr>
          <a:xfrm>
            <a:off x="5737320" y="2305080"/>
            <a:ext cx="693720" cy="1876320"/>
          </a:xfrm>
          <a:custGeom>
            <a:avLst/>
            <a:gdLst>
              <a:gd name="textAreaLeft" fmla="*/ 0 w 693720"/>
              <a:gd name="textAreaRight" fmla="*/ 694080 w 693720"/>
              <a:gd name="textAreaTop" fmla="*/ 0 h 1876320"/>
              <a:gd name="textAreaBottom" fmla="*/ 1876680 h 1876320"/>
            </a:gdLst>
            <a:ahLst/>
            <a:rect l="textAreaLeft" t="textAreaTop" r="textAreaRight" b="textAreaBottom"/>
            <a:pathLst>
              <a:path w="437" h="1182">
                <a:moveTo>
                  <a:pt x="418" y="2"/>
                </a:moveTo>
                <a:lnTo>
                  <a:pt x="412" y="0"/>
                </a:lnTo>
                <a:lnTo>
                  <a:pt x="382" y="0"/>
                </a:lnTo>
                <a:lnTo>
                  <a:pt x="351" y="0"/>
                </a:lnTo>
                <a:lnTo>
                  <a:pt x="322" y="2"/>
                </a:lnTo>
                <a:lnTo>
                  <a:pt x="291" y="6"/>
                </a:lnTo>
                <a:lnTo>
                  <a:pt x="263" y="12"/>
                </a:lnTo>
                <a:lnTo>
                  <a:pt x="234" y="19"/>
                </a:lnTo>
                <a:lnTo>
                  <a:pt x="207" y="27"/>
                </a:lnTo>
                <a:lnTo>
                  <a:pt x="178" y="37"/>
                </a:lnTo>
                <a:lnTo>
                  <a:pt x="151" y="46"/>
                </a:lnTo>
                <a:lnTo>
                  <a:pt x="126" y="58"/>
                </a:lnTo>
                <a:lnTo>
                  <a:pt x="126" y="58"/>
                </a:lnTo>
                <a:lnTo>
                  <a:pt x="125" y="60"/>
                </a:lnTo>
                <a:lnTo>
                  <a:pt x="125" y="62"/>
                </a:lnTo>
                <a:lnTo>
                  <a:pt x="125" y="64"/>
                </a:lnTo>
                <a:lnTo>
                  <a:pt x="123" y="66"/>
                </a:lnTo>
                <a:lnTo>
                  <a:pt x="123" y="67"/>
                </a:lnTo>
                <a:lnTo>
                  <a:pt x="123" y="69"/>
                </a:lnTo>
                <a:lnTo>
                  <a:pt x="123" y="71"/>
                </a:lnTo>
                <a:lnTo>
                  <a:pt x="121" y="73"/>
                </a:lnTo>
                <a:lnTo>
                  <a:pt x="130" y="67"/>
                </a:lnTo>
                <a:lnTo>
                  <a:pt x="155" y="56"/>
                </a:lnTo>
                <a:lnTo>
                  <a:pt x="182" y="46"/>
                </a:lnTo>
                <a:lnTo>
                  <a:pt x="209" y="37"/>
                </a:lnTo>
                <a:lnTo>
                  <a:pt x="238" y="29"/>
                </a:lnTo>
                <a:lnTo>
                  <a:pt x="265" y="23"/>
                </a:lnTo>
                <a:lnTo>
                  <a:pt x="293" y="18"/>
                </a:lnTo>
                <a:lnTo>
                  <a:pt x="322" y="14"/>
                </a:lnTo>
                <a:lnTo>
                  <a:pt x="353" y="12"/>
                </a:lnTo>
                <a:lnTo>
                  <a:pt x="382" y="10"/>
                </a:lnTo>
                <a:lnTo>
                  <a:pt x="412" y="12"/>
                </a:lnTo>
                <a:lnTo>
                  <a:pt x="414" y="12"/>
                </a:lnTo>
                <a:lnTo>
                  <a:pt x="414" y="10"/>
                </a:lnTo>
                <a:lnTo>
                  <a:pt x="414" y="10"/>
                </a:lnTo>
                <a:lnTo>
                  <a:pt x="416" y="8"/>
                </a:lnTo>
                <a:lnTo>
                  <a:pt x="416" y="6"/>
                </a:lnTo>
                <a:lnTo>
                  <a:pt x="416" y="6"/>
                </a:lnTo>
                <a:lnTo>
                  <a:pt x="418" y="4"/>
                </a:lnTo>
                <a:lnTo>
                  <a:pt x="418" y="2"/>
                </a:lnTo>
                <a:lnTo>
                  <a:pt x="418" y="2"/>
                </a:lnTo>
                <a:close/>
                <a:moveTo>
                  <a:pt x="2" y="1042"/>
                </a:moveTo>
                <a:lnTo>
                  <a:pt x="6" y="1046"/>
                </a:lnTo>
                <a:lnTo>
                  <a:pt x="29" y="1063"/>
                </a:lnTo>
                <a:lnTo>
                  <a:pt x="52" y="1081"/>
                </a:lnTo>
                <a:lnTo>
                  <a:pt x="75" y="1096"/>
                </a:lnTo>
                <a:lnTo>
                  <a:pt x="100" y="1111"/>
                </a:lnTo>
                <a:lnTo>
                  <a:pt x="126" y="1123"/>
                </a:lnTo>
                <a:lnTo>
                  <a:pt x="151" y="1134"/>
                </a:lnTo>
                <a:lnTo>
                  <a:pt x="178" y="1146"/>
                </a:lnTo>
                <a:lnTo>
                  <a:pt x="207" y="1155"/>
                </a:lnTo>
                <a:lnTo>
                  <a:pt x="234" y="1163"/>
                </a:lnTo>
                <a:lnTo>
                  <a:pt x="263" y="1169"/>
                </a:lnTo>
                <a:lnTo>
                  <a:pt x="291" y="1175"/>
                </a:lnTo>
                <a:lnTo>
                  <a:pt x="322" y="1178"/>
                </a:lnTo>
                <a:lnTo>
                  <a:pt x="351" y="1180"/>
                </a:lnTo>
                <a:lnTo>
                  <a:pt x="382" y="1182"/>
                </a:lnTo>
                <a:lnTo>
                  <a:pt x="412" y="1180"/>
                </a:lnTo>
                <a:lnTo>
                  <a:pt x="437" y="1178"/>
                </a:lnTo>
                <a:lnTo>
                  <a:pt x="437" y="1178"/>
                </a:lnTo>
                <a:lnTo>
                  <a:pt x="437" y="1176"/>
                </a:lnTo>
                <a:lnTo>
                  <a:pt x="435" y="1175"/>
                </a:lnTo>
                <a:lnTo>
                  <a:pt x="435" y="1175"/>
                </a:lnTo>
                <a:lnTo>
                  <a:pt x="435" y="1173"/>
                </a:lnTo>
                <a:lnTo>
                  <a:pt x="434" y="1171"/>
                </a:lnTo>
                <a:lnTo>
                  <a:pt x="434" y="1171"/>
                </a:lnTo>
                <a:lnTo>
                  <a:pt x="434" y="1169"/>
                </a:lnTo>
                <a:lnTo>
                  <a:pt x="412" y="1171"/>
                </a:lnTo>
                <a:lnTo>
                  <a:pt x="382" y="1171"/>
                </a:lnTo>
                <a:lnTo>
                  <a:pt x="353" y="1171"/>
                </a:lnTo>
                <a:lnTo>
                  <a:pt x="322" y="1169"/>
                </a:lnTo>
                <a:lnTo>
                  <a:pt x="293" y="1165"/>
                </a:lnTo>
                <a:lnTo>
                  <a:pt x="265" y="1159"/>
                </a:lnTo>
                <a:lnTo>
                  <a:pt x="238" y="1153"/>
                </a:lnTo>
                <a:lnTo>
                  <a:pt x="209" y="1146"/>
                </a:lnTo>
                <a:lnTo>
                  <a:pt x="182" y="1136"/>
                </a:lnTo>
                <a:lnTo>
                  <a:pt x="155" y="1125"/>
                </a:lnTo>
                <a:lnTo>
                  <a:pt x="130" y="1113"/>
                </a:lnTo>
                <a:lnTo>
                  <a:pt x="105" y="1102"/>
                </a:lnTo>
                <a:lnTo>
                  <a:pt x="80" y="1086"/>
                </a:lnTo>
                <a:lnTo>
                  <a:pt x="57" y="1071"/>
                </a:lnTo>
                <a:lnTo>
                  <a:pt x="34" y="1056"/>
                </a:lnTo>
                <a:lnTo>
                  <a:pt x="13" y="1038"/>
                </a:lnTo>
                <a:lnTo>
                  <a:pt x="0" y="1029"/>
                </a:lnTo>
                <a:lnTo>
                  <a:pt x="2" y="1031"/>
                </a:lnTo>
                <a:lnTo>
                  <a:pt x="2" y="1031"/>
                </a:lnTo>
                <a:lnTo>
                  <a:pt x="2" y="1033"/>
                </a:lnTo>
                <a:lnTo>
                  <a:pt x="2" y="1034"/>
                </a:lnTo>
                <a:lnTo>
                  <a:pt x="2" y="1036"/>
                </a:lnTo>
                <a:lnTo>
                  <a:pt x="2" y="1038"/>
                </a:lnTo>
                <a:lnTo>
                  <a:pt x="2" y="1040"/>
                </a:lnTo>
                <a:lnTo>
                  <a:pt x="2" y="1042"/>
                </a:lnTo>
                <a:close/>
              </a:path>
            </a:pathLst>
          </a:custGeom>
          <a:solidFill>
            <a:srgbClr val="91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Freeform 419"/>
          <p:cNvSpPr/>
          <p:nvPr/>
        </p:nvSpPr>
        <p:spPr>
          <a:xfrm>
            <a:off x="5737320" y="2314440"/>
            <a:ext cx="690480" cy="1857600"/>
          </a:xfrm>
          <a:custGeom>
            <a:avLst/>
            <a:gdLst>
              <a:gd name="textAreaLeft" fmla="*/ 0 w 690480"/>
              <a:gd name="textAreaRight" fmla="*/ 690840 w 690480"/>
              <a:gd name="textAreaTop" fmla="*/ 0 h 1857600"/>
              <a:gd name="textAreaBottom" fmla="*/ 1857960 h 1857600"/>
            </a:gdLst>
            <a:ahLst/>
            <a:rect l="textAreaLeft" t="textAreaTop" r="textAreaRight" b="textAreaBottom"/>
            <a:pathLst>
              <a:path w="435" h="1170">
                <a:moveTo>
                  <a:pt x="416" y="0"/>
                </a:moveTo>
                <a:lnTo>
                  <a:pt x="412" y="0"/>
                </a:lnTo>
                <a:lnTo>
                  <a:pt x="382" y="0"/>
                </a:lnTo>
                <a:lnTo>
                  <a:pt x="351" y="0"/>
                </a:lnTo>
                <a:lnTo>
                  <a:pt x="322" y="2"/>
                </a:lnTo>
                <a:lnTo>
                  <a:pt x="293" y="6"/>
                </a:lnTo>
                <a:lnTo>
                  <a:pt x="265" y="12"/>
                </a:lnTo>
                <a:lnTo>
                  <a:pt x="236" y="17"/>
                </a:lnTo>
                <a:lnTo>
                  <a:pt x="207" y="25"/>
                </a:lnTo>
                <a:lnTo>
                  <a:pt x="180" y="35"/>
                </a:lnTo>
                <a:lnTo>
                  <a:pt x="153" y="46"/>
                </a:lnTo>
                <a:lnTo>
                  <a:pt x="128" y="58"/>
                </a:lnTo>
                <a:lnTo>
                  <a:pt x="123" y="60"/>
                </a:lnTo>
                <a:lnTo>
                  <a:pt x="123" y="61"/>
                </a:lnTo>
                <a:lnTo>
                  <a:pt x="123" y="63"/>
                </a:lnTo>
                <a:lnTo>
                  <a:pt x="123" y="65"/>
                </a:lnTo>
                <a:lnTo>
                  <a:pt x="121" y="67"/>
                </a:lnTo>
                <a:lnTo>
                  <a:pt x="121" y="69"/>
                </a:lnTo>
                <a:lnTo>
                  <a:pt x="121" y="69"/>
                </a:lnTo>
                <a:lnTo>
                  <a:pt x="121" y="71"/>
                </a:lnTo>
                <a:lnTo>
                  <a:pt x="119" y="73"/>
                </a:lnTo>
                <a:lnTo>
                  <a:pt x="132" y="67"/>
                </a:lnTo>
                <a:lnTo>
                  <a:pt x="159" y="56"/>
                </a:lnTo>
                <a:lnTo>
                  <a:pt x="184" y="44"/>
                </a:lnTo>
                <a:lnTo>
                  <a:pt x="211" y="36"/>
                </a:lnTo>
                <a:lnTo>
                  <a:pt x="238" y="29"/>
                </a:lnTo>
                <a:lnTo>
                  <a:pt x="267" y="21"/>
                </a:lnTo>
                <a:lnTo>
                  <a:pt x="293" y="17"/>
                </a:lnTo>
                <a:lnTo>
                  <a:pt x="322" y="13"/>
                </a:lnTo>
                <a:lnTo>
                  <a:pt x="353" y="12"/>
                </a:lnTo>
                <a:lnTo>
                  <a:pt x="382" y="10"/>
                </a:lnTo>
                <a:lnTo>
                  <a:pt x="410" y="12"/>
                </a:lnTo>
                <a:lnTo>
                  <a:pt x="412" y="12"/>
                </a:lnTo>
                <a:lnTo>
                  <a:pt x="412" y="10"/>
                </a:lnTo>
                <a:lnTo>
                  <a:pt x="412" y="8"/>
                </a:lnTo>
                <a:lnTo>
                  <a:pt x="412" y="8"/>
                </a:lnTo>
                <a:lnTo>
                  <a:pt x="414" y="6"/>
                </a:lnTo>
                <a:lnTo>
                  <a:pt x="414" y="4"/>
                </a:lnTo>
                <a:lnTo>
                  <a:pt x="414" y="4"/>
                </a:lnTo>
                <a:lnTo>
                  <a:pt x="416" y="2"/>
                </a:lnTo>
                <a:lnTo>
                  <a:pt x="416" y="0"/>
                </a:lnTo>
                <a:close/>
                <a:moveTo>
                  <a:pt x="2" y="1028"/>
                </a:moveTo>
                <a:lnTo>
                  <a:pt x="9" y="1036"/>
                </a:lnTo>
                <a:lnTo>
                  <a:pt x="32" y="1053"/>
                </a:lnTo>
                <a:lnTo>
                  <a:pt x="55" y="1071"/>
                </a:lnTo>
                <a:lnTo>
                  <a:pt x="78" y="1086"/>
                </a:lnTo>
                <a:lnTo>
                  <a:pt x="103" y="1099"/>
                </a:lnTo>
                <a:lnTo>
                  <a:pt x="128" y="1113"/>
                </a:lnTo>
                <a:lnTo>
                  <a:pt x="153" y="1124"/>
                </a:lnTo>
                <a:lnTo>
                  <a:pt x="180" y="1134"/>
                </a:lnTo>
                <a:lnTo>
                  <a:pt x="207" y="1144"/>
                </a:lnTo>
                <a:lnTo>
                  <a:pt x="236" y="1151"/>
                </a:lnTo>
                <a:lnTo>
                  <a:pt x="265" y="1159"/>
                </a:lnTo>
                <a:lnTo>
                  <a:pt x="293" y="1163"/>
                </a:lnTo>
                <a:lnTo>
                  <a:pt x="322" y="1167"/>
                </a:lnTo>
                <a:lnTo>
                  <a:pt x="351" y="1169"/>
                </a:lnTo>
                <a:lnTo>
                  <a:pt x="382" y="1170"/>
                </a:lnTo>
                <a:lnTo>
                  <a:pt x="412" y="1169"/>
                </a:lnTo>
                <a:lnTo>
                  <a:pt x="435" y="1169"/>
                </a:lnTo>
                <a:lnTo>
                  <a:pt x="435" y="1167"/>
                </a:lnTo>
                <a:lnTo>
                  <a:pt x="434" y="1165"/>
                </a:lnTo>
                <a:lnTo>
                  <a:pt x="434" y="1165"/>
                </a:lnTo>
                <a:lnTo>
                  <a:pt x="434" y="1163"/>
                </a:lnTo>
                <a:lnTo>
                  <a:pt x="432" y="1161"/>
                </a:lnTo>
                <a:lnTo>
                  <a:pt x="432" y="1161"/>
                </a:lnTo>
                <a:lnTo>
                  <a:pt x="432" y="1159"/>
                </a:lnTo>
                <a:lnTo>
                  <a:pt x="430" y="1157"/>
                </a:lnTo>
                <a:lnTo>
                  <a:pt x="410" y="1159"/>
                </a:lnTo>
                <a:lnTo>
                  <a:pt x="382" y="1159"/>
                </a:lnTo>
                <a:lnTo>
                  <a:pt x="353" y="1159"/>
                </a:lnTo>
                <a:lnTo>
                  <a:pt x="322" y="1157"/>
                </a:lnTo>
                <a:lnTo>
                  <a:pt x="293" y="1153"/>
                </a:lnTo>
                <a:lnTo>
                  <a:pt x="267" y="1147"/>
                </a:lnTo>
                <a:lnTo>
                  <a:pt x="238" y="1142"/>
                </a:lnTo>
                <a:lnTo>
                  <a:pt x="211" y="1134"/>
                </a:lnTo>
                <a:lnTo>
                  <a:pt x="184" y="1124"/>
                </a:lnTo>
                <a:lnTo>
                  <a:pt x="159" y="1115"/>
                </a:lnTo>
                <a:lnTo>
                  <a:pt x="132" y="1103"/>
                </a:lnTo>
                <a:lnTo>
                  <a:pt x="107" y="1090"/>
                </a:lnTo>
                <a:lnTo>
                  <a:pt x="84" y="1076"/>
                </a:lnTo>
                <a:lnTo>
                  <a:pt x="61" y="1061"/>
                </a:lnTo>
                <a:lnTo>
                  <a:pt x="38" y="1046"/>
                </a:lnTo>
                <a:lnTo>
                  <a:pt x="17" y="1028"/>
                </a:lnTo>
                <a:lnTo>
                  <a:pt x="0" y="1015"/>
                </a:lnTo>
                <a:lnTo>
                  <a:pt x="0" y="1017"/>
                </a:lnTo>
                <a:lnTo>
                  <a:pt x="0" y="1019"/>
                </a:lnTo>
                <a:lnTo>
                  <a:pt x="0" y="1021"/>
                </a:lnTo>
                <a:lnTo>
                  <a:pt x="0" y="1023"/>
                </a:lnTo>
                <a:lnTo>
                  <a:pt x="2" y="1025"/>
                </a:lnTo>
                <a:lnTo>
                  <a:pt x="2" y="1025"/>
                </a:lnTo>
                <a:lnTo>
                  <a:pt x="2" y="1027"/>
                </a:lnTo>
                <a:lnTo>
                  <a:pt x="2" y="1028"/>
                </a:lnTo>
                <a:close/>
              </a:path>
            </a:pathLst>
          </a:custGeom>
          <a:solidFill>
            <a:srgbClr val="92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Freeform 420"/>
          <p:cNvSpPr/>
          <p:nvPr/>
        </p:nvSpPr>
        <p:spPr>
          <a:xfrm>
            <a:off x="5737320" y="2320920"/>
            <a:ext cx="689040" cy="1843200"/>
          </a:xfrm>
          <a:custGeom>
            <a:avLst/>
            <a:gdLst>
              <a:gd name="textAreaLeft" fmla="*/ 0 w 689040"/>
              <a:gd name="textAreaRight" fmla="*/ 689400 w 689040"/>
              <a:gd name="textAreaTop" fmla="*/ 0 h 1843200"/>
              <a:gd name="textAreaBottom" fmla="*/ 1843560 h 1843200"/>
            </a:gdLst>
            <a:ahLst/>
            <a:rect l="textAreaLeft" t="textAreaTop" r="textAreaRight" b="textAreaBottom"/>
            <a:pathLst>
              <a:path w="434" h="1161">
                <a:moveTo>
                  <a:pt x="414" y="2"/>
                </a:moveTo>
                <a:lnTo>
                  <a:pt x="412" y="2"/>
                </a:lnTo>
                <a:lnTo>
                  <a:pt x="382" y="0"/>
                </a:lnTo>
                <a:lnTo>
                  <a:pt x="353" y="2"/>
                </a:lnTo>
                <a:lnTo>
                  <a:pt x="322" y="4"/>
                </a:lnTo>
                <a:lnTo>
                  <a:pt x="293" y="8"/>
                </a:lnTo>
                <a:lnTo>
                  <a:pt x="265" y="13"/>
                </a:lnTo>
                <a:lnTo>
                  <a:pt x="238" y="19"/>
                </a:lnTo>
                <a:lnTo>
                  <a:pt x="209" y="27"/>
                </a:lnTo>
                <a:lnTo>
                  <a:pt x="182" y="36"/>
                </a:lnTo>
                <a:lnTo>
                  <a:pt x="155" y="46"/>
                </a:lnTo>
                <a:lnTo>
                  <a:pt x="130" y="57"/>
                </a:lnTo>
                <a:lnTo>
                  <a:pt x="121" y="63"/>
                </a:lnTo>
                <a:lnTo>
                  <a:pt x="121" y="65"/>
                </a:lnTo>
                <a:lnTo>
                  <a:pt x="121" y="65"/>
                </a:lnTo>
                <a:lnTo>
                  <a:pt x="121" y="67"/>
                </a:lnTo>
                <a:lnTo>
                  <a:pt x="119" y="69"/>
                </a:lnTo>
                <a:lnTo>
                  <a:pt x="119" y="71"/>
                </a:lnTo>
                <a:lnTo>
                  <a:pt x="119" y="73"/>
                </a:lnTo>
                <a:lnTo>
                  <a:pt x="117" y="75"/>
                </a:lnTo>
                <a:lnTo>
                  <a:pt x="117" y="77"/>
                </a:lnTo>
                <a:lnTo>
                  <a:pt x="134" y="67"/>
                </a:lnTo>
                <a:lnTo>
                  <a:pt x="161" y="56"/>
                </a:lnTo>
                <a:lnTo>
                  <a:pt x="186" y="46"/>
                </a:lnTo>
                <a:lnTo>
                  <a:pt x="213" y="36"/>
                </a:lnTo>
                <a:lnTo>
                  <a:pt x="240" y="29"/>
                </a:lnTo>
                <a:lnTo>
                  <a:pt x="267" y="23"/>
                </a:lnTo>
                <a:lnTo>
                  <a:pt x="295" y="17"/>
                </a:lnTo>
                <a:lnTo>
                  <a:pt x="324" y="13"/>
                </a:lnTo>
                <a:lnTo>
                  <a:pt x="353" y="11"/>
                </a:lnTo>
                <a:lnTo>
                  <a:pt x="382" y="11"/>
                </a:lnTo>
                <a:lnTo>
                  <a:pt x="409" y="11"/>
                </a:lnTo>
                <a:lnTo>
                  <a:pt x="410" y="11"/>
                </a:lnTo>
                <a:lnTo>
                  <a:pt x="410" y="9"/>
                </a:lnTo>
                <a:lnTo>
                  <a:pt x="410" y="8"/>
                </a:lnTo>
                <a:lnTo>
                  <a:pt x="412" y="8"/>
                </a:lnTo>
                <a:lnTo>
                  <a:pt x="412" y="6"/>
                </a:lnTo>
                <a:lnTo>
                  <a:pt x="412" y="4"/>
                </a:lnTo>
                <a:lnTo>
                  <a:pt x="412" y="4"/>
                </a:lnTo>
                <a:lnTo>
                  <a:pt x="414" y="2"/>
                </a:lnTo>
                <a:close/>
                <a:moveTo>
                  <a:pt x="0" y="1019"/>
                </a:moveTo>
                <a:lnTo>
                  <a:pt x="13" y="1028"/>
                </a:lnTo>
                <a:lnTo>
                  <a:pt x="34" y="1046"/>
                </a:lnTo>
                <a:lnTo>
                  <a:pt x="57" y="1061"/>
                </a:lnTo>
                <a:lnTo>
                  <a:pt x="80" y="1076"/>
                </a:lnTo>
                <a:lnTo>
                  <a:pt x="105" y="1092"/>
                </a:lnTo>
                <a:lnTo>
                  <a:pt x="130" y="1103"/>
                </a:lnTo>
                <a:lnTo>
                  <a:pt x="155" y="1115"/>
                </a:lnTo>
                <a:lnTo>
                  <a:pt x="182" y="1126"/>
                </a:lnTo>
                <a:lnTo>
                  <a:pt x="209" y="1136"/>
                </a:lnTo>
                <a:lnTo>
                  <a:pt x="238" y="1143"/>
                </a:lnTo>
                <a:lnTo>
                  <a:pt x="265" y="1149"/>
                </a:lnTo>
                <a:lnTo>
                  <a:pt x="293" y="1155"/>
                </a:lnTo>
                <a:lnTo>
                  <a:pt x="322" y="1159"/>
                </a:lnTo>
                <a:lnTo>
                  <a:pt x="353" y="1161"/>
                </a:lnTo>
                <a:lnTo>
                  <a:pt x="382" y="1161"/>
                </a:lnTo>
                <a:lnTo>
                  <a:pt x="412" y="1161"/>
                </a:lnTo>
                <a:lnTo>
                  <a:pt x="434" y="1159"/>
                </a:lnTo>
                <a:lnTo>
                  <a:pt x="432" y="1157"/>
                </a:lnTo>
                <a:lnTo>
                  <a:pt x="432" y="1157"/>
                </a:lnTo>
                <a:lnTo>
                  <a:pt x="432" y="1155"/>
                </a:lnTo>
                <a:lnTo>
                  <a:pt x="430" y="1153"/>
                </a:lnTo>
                <a:lnTo>
                  <a:pt x="430" y="1153"/>
                </a:lnTo>
                <a:lnTo>
                  <a:pt x="430" y="1151"/>
                </a:lnTo>
                <a:lnTo>
                  <a:pt x="428" y="1149"/>
                </a:lnTo>
                <a:lnTo>
                  <a:pt x="428" y="1149"/>
                </a:lnTo>
                <a:lnTo>
                  <a:pt x="410" y="1149"/>
                </a:lnTo>
                <a:lnTo>
                  <a:pt x="382" y="1151"/>
                </a:lnTo>
                <a:lnTo>
                  <a:pt x="353" y="1149"/>
                </a:lnTo>
                <a:lnTo>
                  <a:pt x="324" y="1147"/>
                </a:lnTo>
                <a:lnTo>
                  <a:pt x="295" y="1143"/>
                </a:lnTo>
                <a:lnTo>
                  <a:pt x="267" y="1140"/>
                </a:lnTo>
                <a:lnTo>
                  <a:pt x="240" y="1132"/>
                </a:lnTo>
                <a:lnTo>
                  <a:pt x="213" y="1124"/>
                </a:lnTo>
                <a:lnTo>
                  <a:pt x="186" y="1117"/>
                </a:lnTo>
                <a:lnTo>
                  <a:pt x="161" y="1105"/>
                </a:lnTo>
                <a:lnTo>
                  <a:pt x="134" y="1094"/>
                </a:lnTo>
                <a:lnTo>
                  <a:pt x="111" y="1082"/>
                </a:lnTo>
                <a:lnTo>
                  <a:pt x="86" y="1069"/>
                </a:lnTo>
                <a:lnTo>
                  <a:pt x="63" y="1053"/>
                </a:lnTo>
                <a:lnTo>
                  <a:pt x="42" y="1038"/>
                </a:lnTo>
                <a:lnTo>
                  <a:pt x="19" y="1021"/>
                </a:lnTo>
                <a:lnTo>
                  <a:pt x="0" y="1003"/>
                </a:lnTo>
                <a:lnTo>
                  <a:pt x="0" y="1005"/>
                </a:lnTo>
                <a:lnTo>
                  <a:pt x="0" y="1007"/>
                </a:lnTo>
                <a:lnTo>
                  <a:pt x="0" y="1009"/>
                </a:lnTo>
                <a:lnTo>
                  <a:pt x="0" y="1011"/>
                </a:lnTo>
                <a:lnTo>
                  <a:pt x="0" y="1013"/>
                </a:lnTo>
                <a:lnTo>
                  <a:pt x="0" y="1015"/>
                </a:lnTo>
                <a:lnTo>
                  <a:pt x="0" y="1017"/>
                </a:lnTo>
                <a:lnTo>
                  <a:pt x="0" y="1019"/>
                </a:lnTo>
                <a:close/>
              </a:path>
            </a:pathLst>
          </a:custGeom>
          <a:solidFill>
            <a:srgbClr val="93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Freeform 421"/>
          <p:cNvSpPr/>
          <p:nvPr/>
        </p:nvSpPr>
        <p:spPr>
          <a:xfrm>
            <a:off x="5737320" y="2330280"/>
            <a:ext cx="682560" cy="1824120"/>
          </a:xfrm>
          <a:custGeom>
            <a:avLst/>
            <a:gdLst>
              <a:gd name="textAreaLeft" fmla="*/ 0 w 682560"/>
              <a:gd name="textAreaRight" fmla="*/ 682920 w 682560"/>
              <a:gd name="textAreaTop" fmla="*/ 0 h 1824120"/>
              <a:gd name="textAreaBottom" fmla="*/ 1824480 h 1824120"/>
            </a:gdLst>
            <a:ahLst/>
            <a:rect l="textAreaLeft" t="textAreaTop" r="textAreaRight" b="textAreaBottom"/>
            <a:pathLst>
              <a:path w="430" h="1149">
                <a:moveTo>
                  <a:pt x="412" y="2"/>
                </a:moveTo>
                <a:lnTo>
                  <a:pt x="410" y="2"/>
                </a:lnTo>
                <a:lnTo>
                  <a:pt x="382" y="0"/>
                </a:lnTo>
                <a:lnTo>
                  <a:pt x="353" y="2"/>
                </a:lnTo>
                <a:lnTo>
                  <a:pt x="322" y="3"/>
                </a:lnTo>
                <a:lnTo>
                  <a:pt x="293" y="7"/>
                </a:lnTo>
                <a:lnTo>
                  <a:pt x="267" y="11"/>
                </a:lnTo>
                <a:lnTo>
                  <a:pt x="238" y="19"/>
                </a:lnTo>
                <a:lnTo>
                  <a:pt x="211" y="26"/>
                </a:lnTo>
                <a:lnTo>
                  <a:pt x="184" y="34"/>
                </a:lnTo>
                <a:lnTo>
                  <a:pt x="159" y="46"/>
                </a:lnTo>
                <a:lnTo>
                  <a:pt x="132" y="57"/>
                </a:lnTo>
                <a:lnTo>
                  <a:pt x="119" y="63"/>
                </a:lnTo>
                <a:lnTo>
                  <a:pt x="119" y="65"/>
                </a:lnTo>
                <a:lnTo>
                  <a:pt x="119" y="67"/>
                </a:lnTo>
                <a:lnTo>
                  <a:pt x="117" y="69"/>
                </a:lnTo>
                <a:lnTo>
                  <a:pt x="117" y="71"/>
                </a:lnTo>
                <a:lnTo>
                  <a:pt x="117" y="73"/>
                </a:lnTo>
                <a:lnTo>
                  <a:pt x="117" y="74"/>
                </a:lnTo>
                <a:lnTo>
                  <a:pt x="115" y="76"/>
                </a:lnTo>
                <a:lnTo>
                  <a:pt x="115" y="78"/>
                </a:lnTo>
                <a:lnTo>
                  <a:pt x="138" y="67"/>
                </a:lnTo>
                <a:lnTo>
                  <a:pt x="163" y="55"/>
                </a:lnTo>
                <a:lnTo>
                  <a:pt x="188" y="46"/>
                </a:lnTo>
                <a:lnTo>
                  <a:pt x="215" y="36"/>
                </a:lnTo>
                <a:lnTo>
                  <a:pt x="242" y="28"/>
                </a:lnTo>
                <a:lnTo>
                  <a:pt x="268" y="23"/>
                </a:lnTo>
                <a:lnTo>
                  <a:pt x="295" y="17"/>
                </a:lnTo>
                <a:lnTo>
                  <a:pt x="324" y="13"/>
                </a:lnTo>
                <a:lnTo>
                  <a:pt x="353" y="11"/>
                </a:lnTo>
                <a:lnTo>
                  <a:pt x="382" y="11"/>
                </a:lnTo>
                <a:lnTo>
                  <a:pt x="407" y="11"/>
                </a:lnTo>
                <a:lnTo>
                  <a:pt x="407" y="9"/>
                </a:lnTo>
                <a:lnTo>
                  <a:pt x="409" y="9"/>
                </a:lnTo>
                <a:lnTo>
                  <a:pt x="409" y="7"/>
                </a:lnTo>
                <a:lnTo>
                  <a:pt x="409" y="5"/>
                </a:lnTo>
                <a:lnTo>
                  <a:pt x="410" y="5"/>
                </a:lnTo>
                <a:lnTo>
                  <a:pt x="410" y="3"/>
                </a:lnTo>
                <a:lnTo>
                  <a:pt x="410" y="2"/>
                </a:lnTo>
                <a:lnTo>
                  <a:pt x="412" y="2"/>
                </a:lnTo>
                <a:close/>
                <a:moveTo>
                  <a:pt x="0" y="1005"/>
                </a:moveTo>
                <a:lnTo>
                  <a:pt x="17" y="1018"/>
                </a:lnTo>
                <a:lnTo>
                  <a:pt x="38" y="1036"/>
                </a:lnTo>
                <a:lnTo>
                  <a:pt x="61" y="1051"/>
                </a:lnTo>
                <a:lnTo>
                  <a:pt x="84" y="1066"/>
                </a:lnTo>
                <a:lnTo>
                  <a:pt x="107" y="1080"/>
                </a:lnTo>
                <a:lnTo>
                  <a:pt x="132" y="1093"/>
                </a:lnTo>
                <a:lnTo>
                  <a:pt x="159" y="1105"/>
                </a:lnTo>
                <a:lnTo>
                  <a:pt x="184" y="1114"/>
                </a:lnTo>
                <a:lnTo>
                  <a:pt x="211" y="1124"/>
                </a:lnTo>
                <a:lnTo>
                  <a:pt x="238" y="1132"/>
                </a:lnTo>
                <a:lnTo>
                  <a:pt x="267" y="1137"/>
                </a:lnTo>
                <a:lnTo>
                  <a:pt x="293" y="1143"/>
                </a:lnTo>
                <a:lnTo>
                  <a:pt x="322" y="1147"/>
                </a:lnTo>
                <a:lnTo>
                  <a:pt x="353" y="1149"/>
                </a:lnTo>
                <a:lnTo>
                  <a:pt x="382" y="1149"/>
                </a:lnTo>
                <a:lnTo>
                  <a:pt x="410" y="1149"/>
                </a:lnTo>
                <a:lnTo>
                  <a:pt x="430" y="1147"/>
                </a:lnTo>
                <a:lnTo>
                  <a:pt x="430" y="1147"/>
                </a:lnTo>
                <a:lnTo>
                  <a:pt x="430" y="1145"/>
                </a:lnTo>
                <a:lnTo>
                  <a:pt x="428" y="1143"/>
                </a:lnTo>
                <a:lnTo>
                  <a:pt x="428" y="1143"/>
                </a:lnTo>
                <a:lnTo>
                  <a:pt x="428" y="1141"/>
                </a:lnTo>
                <a:lnTo>
                  <a:pt x="426" y="1139"/>
                </a:lnTo>
                <a:lnTo>
                  <a:pt x="426" y="1139"/>
                </a:lnTo>
                <a:lnTo>
                  <a:pt x="426" y="1137"/>
                </a:lnTo>
                <a:lnTo>
                  <a:pt x="410" y="1137"/>
                </a:lnTo>
                <a:lnTo>
                  <a:pt x="382" y="1139"/>
                </a:lnTo>
                <a:lnTo>
                  <a:pt x="353" y="1137"/>
                </a:lnTo>
                <a:lnTo>
                  <a:pt x="324" y="1135"/>
                </a:lnTo>
                <a:lnTo>
                  <a:pt x="295" y="1132"/>
                </a:lnTo>
                <a:lnTo>
                  <a:pt x="268" y="1128"/>
                </a:lnTo>
                <a:lnTo>
                  <a:pt x="242" y="1122"/>
                </a:lnTo>
                <a:lnTo>
                  <a:pt x="215" y="1114"/>
                </a:lnTo>
                <a:lnTo>
                  <a:pt x="188" y="1105"/>
                </a:lnTo>
                <a:lnTo>
                  <a:pt x="163" y="1095"/>
                </a:lnTo>
                <a:lnTo>
                  <a:pt x="138" y="1084"/>
                </a:lnTo>
                <a:lnTo>
                  <a:pt x="113" y="1070"/>
                </a:lnTo>
                <a:lnTo>
                  <a:pt x="90" y="1057"/>
                </a:lnTo>
                <a:lnTo>
                  <a:pt x="67" y="1043"/>
                </a:lnTo>
                <a:lnTo>
                  <a:pt x="44" y="1026"/>
                </a:lnTo>
                <a:lnTo>
                  <a:pt x="23" y="1011"/>
                </a:lnTo>
                <a:lnTo>
                  <a:pt x="2" y="992"/>
                </a:lnTo>
                <a:lnTo>
                  <a:pt x="0" y="990"/>
                </a:lnTo>
                <a:lnTo>
                  <a:pt x="0" y="992"/>
                </a:lnTo>
                <a:lnTo>
                  <a:pt x="0" y="994"/>
                </a:lnTo>
                <a:lnTo>
                  <a:pt x="0" y="995"/>
                </a:lnTo>
                <a:lnTo>
                  <a:pt x="0" y="997"/>
                </a:lnTo>
                <a:lnTo>
                  <a:pt x="0" y="999"/>
                </a:lnTo>
                <a:lnTo>
                  <a:pt x="0" y="1001"/>
                </a:lnTo>
                <a:lnTo>
                  <a:pt x="0" y="1003"/>
                </a:lnTo>
                <a:lnTo>
                  <a:pt x="0" y="1005"/>
                </a:lnTo>
                <a:close/>
              </a:path>
            </a:pathLst>
          </a:custGeom>
          <a:solidFill>
            <a:srgbClr val="94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Freeform 422"/>
          <p:cNvSpPr/>
          <p:nvPr/>
        </p:nvSpPr>
        <p:spPr>
          <a:xfrm>
            <a:off x="5737320" y="2338560"/>
            <a:ext cx="679320" cy="1809720"/>
          </a:xfrm>
          <a:custGeom>
            <a:avLst/>
            <a:gdLst>
              <a:gd name="textAreaLeft" fmla="*/ 0 w 679320"/>
              <a:gd name="textAreaRight" fmla="*/ 679320 w 679320"/>
              <a:gd name="textAreaTop" fmla="*/ 0 h 1809720"/>
              <a:gd name="textAreaBottom" fmla="*/ 1810080 h 1809720"/>
            </a:gdLst>
            <a:ahLst/>
            <a:rect l="textAreaLeft" t="textAreaTop" r="textAreaRight" b="textAreaBottom"/>
            <a:pathLst>
              <a:path w="428" h="1140">
                <a:moveTo>
                  <a:pt x="409" y="0"/>
                </a:moveTo>
                <a:lnTo>
                  <a:pt x="382" y="0"/>
                </a:lnTo>
                <a:lnTo>
                  <a:pt x="353" y="0"/>
                </a:lnTo>
                <a:lnTo>
                  <a:pt x="324" y="2"/>
                </a:lnTo>
                <a:lnTo>
                  <a:pt x="295" y="6"/>
                </a:lnTo>
                <a:lnTo>
                  <a:pt x="267" y="12"/>
                </a:lnTo>
                <a:lnTo>
                  <a:pt x="240" y="18"/>
                </a:lnTo>
                <a:lnTo>
                  <a:pt x="213" y="25"/>
                </a:lnTo>
                <a:lnTo>
                  <a:pt x="186" y="35"/>
                </a:lnTo>
                <a:lnTo>
                  <a:pt x="161" y="45"/>
                </a:lnTo>
                <a:lnTo>
                  <a:pt x="134" y="56"/>
                </a:lnTo>
                <a:lnTo>
                  <a:pt x="117" y="66"/>
                </a:lnTo>
                <a:lnTo>
                  <a:pt x="117" y="68"/>
                </a:lnTo>
                <a:lnTo>
                  <a:pt x="117" y="69"/>
                </a:lnTo>
                <a:lnTo>
                  <a:pt x="115" y="71"/>
                </a:lnTo>
                <a:lnTo>
                  <a:pt x="115" y="73"/>
                </a:lnTo>
                <a:lnTo>
                  <a:pt x="115" y="75"/>
                </a:lnTo>
                <a:lnTo>
                  <a:pt x="115" y="75"/>
                </a:lnTo>
                <a:lnTo>
                  <a:pt x="113" y="77"/>
                </a:lnTo>
                <a:lnTo>
                  <a:pt x="113" y="79"/>
                </a:lnTo>
                <a:lnTo>
                  <a:pt x="115" y="79"/>
                </a:lnTo>
                <a:lnTo>
                  <a:pt x="140" y="66"/>
                </a:lnTo>
                <a:lnTo>
                  <a:pt x="165" y="54"/>
                </a:lnTo>
                <a:lnTo>
                  <a:pt x="190" y="45"/>
                </a:lnTo>
                <a:lnTo>
                  <a:pt x="215" y="37"/>
                </a:lnTo>
                <a:lnTo>
                  <a:pt x="242" y="29"/>
                </a:lnTo>
                <a:lnTo>
                  <a:pt x="268" y="21"/>
                </a:lnTo>
                <a:lnTo>
                  <a:pt x="297" y="18"/>
                </a:lnTo>
                <a:lnTo>
                  <a:pt x="324" y="14"/>
                </a:lnTo>
                <a:lnTo>
                  <a:pt x="353" y="12"/>
                </a:lnTo>
                <a:lnTo>
                  <a:pt x="382" y="10"/>
                </a:lnTo>
                <a:lnTo>
                  <a:pt x="405" y="12"/>
                </a:lnTo>
                <a:lnTo>
                  <a:pt x="405" y="10"/>
                </a:lnTo>
                <a:lnTo>
                  <a:pt x="405" y="8"/>
                </a:lnTo>
                <a:lnTo>
                  <a:pt x="407" y="8"/>
                </a:lnTo>
                <a:lnTo>
                  <a:pt x="407" y="6"/>
                </a:lnTo>
                <a:lnTo>
                  <a:pt x="407" y="4"/>
                </a:lnTo>
                <a:lnTo>
                  <a:pt x="409" y="4"/>
                </a:lnTo>
                <a:lnTo>
                  <a:pt x="409" y="2"/>
                </a:lnTo>
                <a:lnTo>
                  <a:pt x="409" y="0"/>
                </a:lnTo>
                <a:close/>
                <a:moveTo>
                  <a:pt x="0" y="992"/>
                </a:moveTo>
                <a:lnTo>
                  <a:pt x="19" y="1010"/>
                </a:lnTo>
                <a:lnTo>
                  <a:pt x="42" y="1027"/>
                </a:lnTo>
                <a:lnTo>
                  <a:pt x="63" y="1042"/>
                </a:lnTo>
                <a:lnTo>
                  <a:pt x="86" y="1058"/>
                </a:lnTo>
                <a:lnTo>
                  <a:pt x="111" y="1071"/>
                </a:lnTo>
                <a:lnTo>
                  <a:pt x="134" y="1083"/>
                </a:lnTo>
                <a:lnTo>
                  <a:pt x="161" y="1094"/>
                </a:lnTo>
                <a:lnTo>
                  <a:pt x="186" y="1106"/>
                </a:lnTo>
                <a:lnTo>
                  <a:pt x="213" y="1113"/>
                </a:lnTo>
                <a:lnTo>
                  <a:pt x="240" y="1121"/>
                </a:lnTo>
                <a:lnTo>
                  <a:pt x="267" y="1129"/>
                </a:lnTo>
                <a:lnTo>
                  <a:pt x="295" y="1132"/>
                </a:lnTo>
                <a:lnTo>
                  <a:pt x="324" y="1136"/>
                </a:lnTo>
                <a:lnTo>
                  <a:pt x="353" y="1138"/>
                </a:lnTo>
                <a:lnTo>
                  <a:pt x="382" y="1140"/>
                </a:lnTo>
                <a:lnTo>
                  <a:pt x="410" y="1138"/>
                </a:lnTo>
                <a:lnTo>
                  <a:pt x="428" y="1138"/>
                </a:lnTo>
                <a:lnTo>
                  <a:pt x="428" y="1136"/>
                </a:lnTo>
                <a:lnTo>
                  <a:pt x="426" y="1134"/>
                </a:lnTo>
                <a:lnTo>
                  <a:pt x="426" y="1134"/>
                </a:lnTo>
                <a:lnTo>
                  <a:pt x="426" y="1132"/>
                </a:lnTo>
                <a:lnTo>
                  <a:pt x="426" y="1130"/>
                </a:lnTo>
                <a:lnTo>
                  <a:pt x="424" y="1129"/>
                </a:lnTo>
                <a:lnTo>
                  <a:pt x="424" y="1129"/>
                </a:lnTo>
                <a:lnTo>
                  <a:pt x="424" y="1127"/>
                </a:lnTo>
                <a:lnTo>
                  <a:pt x="410" y="1129"/>
                </a:lnTo>
                <a:lnTo>
                  <a:pt x="382" y="1129"/>
                </a:lnTo>
                <a:lnTo>
                  <a:pt x="353" y="1129"/>
                </a:lnTo>
                <a:lnTo>
                  <a:pt x="324" y="1127"/>
                </a:lnTo>
                <a:lnTo>
                  <a:pt x="297" y="1123"/>
                </a:lnTo>
                <a:lnTo>
                  <a:pt x="268" y="1117"/>
                </a:lnTo>
                <a:lnTo>
                  <a:pt x="242" y="1111"/>
                </a:lnTo>
                <a:lnTo>
                  <a:pt x="215" y="1104"/>
                </a:lnTo>
                <a:lnTo>
                  <a:pt x="190" y="1094"/>
                </a:lnTo>
                <a:lnTo>
                  <a:pt x="165" y="1084"/>
                </a:lnTo>
                <a:lnTo>
                  <a:pt x="140" y="1073"/>
                </a:lnTo>
                <a:lnTo>
                  <a:pt x="115" y="1061"/>
                </a:lnTo>
                <a:lnTo>
                  <a:pt x="92" y="1048"/>
                </a:lnTo>
                <a:lnTo>
                  <a:pt x="69" y="1033"/>
                </a:lnTo>
                <a:lnTo>
                  <a:pt x="48" y="1017"/>
                </a:lnTo>
                <a:lnTo>
                  <a:pt x="27" y="1002"/>
                </a:lnTo>
                <a:lnTo>
                  <a:pt x="6" y="983"/>
                </a:lnTo>
                <a:lnTo>
                  <a:pt x="0" y="977"/>
                </a:lnTo>
                <a:lnTo>
                  <a:pt x="0" y="979"/>
                </a:lnTo>
                <a:lnTo>
                  <a:pt x="0" y="981"/>
                </a:lnTo>
                <a:lnTo>
                  <a:pt x="0" y="983"/>
                </a:lnTo>
                <a:lnTo>
                  <a:pt x="0" y="985"/>
                </a:lnTo>
                <a:lnTo>
                  <a:pt x="0" y="987"/>
                </a:lnTo>
                <a:lnTo>
                  <a:pt x="0" y="989"/>
                </a:lnTo>
                <a:lnTo>
                  <a:pt x="0" y="990"/>
                </a:lnTo>
                <a:lnTo>
                  <a:pt x="0" y="992"/>
                </a:lnTo>
                <a:close/>
              </a:path>
            </a:pathLst>
          </a:custGeom>
          <a:solidFill>
            <a:srgbClr val="95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Freeform 423"/>
          <p:cNvSpPr/>
          <p:nvPr/>
        </p:nvSpPr>
        <p:spPr>
          <a:xfrm>
            <a:off x="5737320" y="2347920"/>
            <a:ext cx="676080" cy="1790640"/>
          </a:xfrm>
          <a:custGeom>
            <a:avLst/>
            <a:gdLst>
              <a:gd name="textAreaLeft" fmla="*/ 0 w 676080"/>
              <a:gd name="textAreaRight" fmla="*/ 676440 w 676080"/>
              <a:gd name="textAreaTop" fmla="*/ 0 h 1790640"/>
              <a:gd name="textAreaBottom" fmla="*/ 1791000 h 1790640"/>
            </a:gdLst>
            <a:ahLst/>
            <a:rect l="textAreaLeft" t="textAreaTop" r="textAreaRight" b="textAreaBottom"/>
            <a:pathLst>
              <a:path w="426" h="1128">
                <a:moveTo>
                  <a:pt x="407" y="0"/>
                </a:moveTo>
                <a:lnTo>
                  <a:pt x="382" y="0"/>
                </a:lnTo>
                <a:lnTo>
                  <a:pt x="353" y="0"/>
                </a:lnTo>
                <a:lnTo>
                  <a:pt x="324" y="2"/>
                </a:lnTo>
                <a:lnTo>
                  <a:pt x="295" y="6"/>
                </a:lnTo>
                <a:lnTo>
                  <a:pt x="268" y="12"/>
                </a:lnTo>
                <a:lnTo>
                  <a:pt x="242" y="17"/>
                </a:lnTo>
                <a:lnTo>
                  <a:pt x="215" y="25"/>
                </a:lnTo>
                <a:lnTo>
                  <a:pt x="188" y="35"/>
                </a:lnTo>
                <a:lnTo>
                  <a:pt x="163" y="44"/>
                </a:lnTo>
                <a:lnTo>
                  <a:pt x="138" y="56"/>
                </a:lnTo>
                <a:lnTo>
                  <a:pt x="115" y="67"/>
                </a:lnTo>
                <a:lnTo>
                  <a:pt x="115" y="69"/>
                </a:lnTo>
                <a:lnTo>
                  <a:pt x="115" y="69"/>
                </a:lnTo>
                <a:lnTo>
                  <a:pt x="113" y="71"/>
                </a:lnTo>
                <a:lnTo>
                  <a:pt x="113" y="73"/>
                </a:lnTo>
                <a:lnTo>
                  <a:pt x="113" y="75"/>
                </a:lnTo>
                <a:lnTo>
                  <a:pt x="113" y="77"/>
                </a:lnTo>
                <a:lnTo>
                  <a:pt x="111" y="79"/>
                </a:lnTo>
                <a:lnTo>
                  <a:pt x="111" y="81"/>
                </a:lnTo>
                <a:lnTo>
                  <a:pt x="119" y="77"/>
                </a:lnTo>
                <a:lnTo>
                  <a:pt x="142" y="65"/>
                </a:lnTo>
                <a:lnTo>
                  <a:pt x="167" y="54"/>
                </a:lnTo>
                <a:lnTo>
                  <a:pt x="192" y="44"/>
                </a:lnTo>
                <a:lnTo>
                  <a:pt x="217" y="35"/>
                </a:lnTo>
                <a:lnTo>
                  <a:pt x="244" y="27"/>
                </a:lnTo>
                <a:lnTo>
                  <a:pt x="270" y="21"/>
                </a:lnTo>
                <a:lnTo>
                  <a:pt x="297" y="17"/>
                </a:lnTo>
                <a:lnTo>
                  <a:pt x="326" y="14"/>
                </a:lnTo>
                <a:lnTo>
                  <a:pt x="353" y="12"/>
                </a:lnTo>
                <a:lnTo>
                  <a:pt x="382" y="10"/>
                </a:lnTo>
                <a:lnTo>
                  <a:pt x="403" y="12"/>
                </a:lnTo>
                <a:lnTo>
                  <a:pt x="403" y="10"/>
                </a:lnTo>
                <a:lnTo>
                  <a:pt x="403" y="8"/>
                </a:lnTo>
                <a:lnTo>
                  <a:pt x="403" y="6"/>
                </a:lnTo>
                <a:lnTo>
                  <a:pt x="405" y="6"/>
                </a:lnTo>
                <a:lnTo>
                  <a:pt x="405" y="4"/>
                </a:lnTo>
                <a:lnTo>
                  <a:pt x="405" y="2"/>
                </a:lnTo>
                <a:lnTo>
                  <a:pt x="407" y="2"/>
                </a:lnTo>
                <a:lnTo>
                  <a:pt x="407" y="0"/>
                </a:lnTo>
                <a:close/>
                <a:moveTo>
                  <a:pt x="0" y="979"/>
                </a:moveTo>
                <a:lnTo>
                  <a:pt x="2" y="981"/>
                </a:lnTo>
                <a:lnTo>
                  <a:pt x="23" y="1000"/>
                </a:lnTo>
                <a:lnTo>
                  <a:pt x="44" y="1015"/>
                </a:lnTo>
                <a:lnTo>
                  <a:pt x="67" y="1032"/>
                </a:lnTo>
                <a:lnTo>
                  <a:pt x="90" y="1046"/>
                </a:lnTo>
                <a:lnTo>
                  <a:pt x="113" y="1059"/>
                </a:lnTo>
                <a:lnTo>
                  <a:pt x="138" y="1073"/>
                </a:lnTo>
                <a:lnTo>
                  <a:pt x="163" y="1084"/>
                </a:lnTo>
                <a:lnTo>
                  <a:pt x="188" y="1094"/>
                </a:lnTo>
                <a:lnTo>
                  <a:pt x="215" y="1103"/>
                </a:lnTo>
                <a:lnTo>
                  <a:pt x="242" y="1111"/>
                </a:lnTo>
                <a:lnTo>
                  <a:pt x="268" y="1117"/>
                </a:lnTo>
                <a:lnTo>
                  <a:pt x="295" y="1121"/>
                </a:lnTo>
                <a:lnTo>
                  <a:pt x="324" y="1124"/>
                </a:lnTo>
                <a:lnTo>
                  <a:pt x="353" y="1126"/>
                </a:lnTo>
                <a:lnTo>
                  <a:pt x="382" y="1128"/>
                </a:lnTo>
                <a:lnTo>
                  <a:pt x="410" y="1126"/>
                </a:lnTo>
                <a:lnTo>
                  <a:pt x="426" y="1126"/>
                </a:lnTo>
                <a:lnTo>
                  <a:pt x="426" y="1124"/>
                </a:lnTo>
                <a:lnTo>
                  <a:pt x="424" y="1123"/>
                </a:lnTo>
                <a:lnTo>
                  <a:pt x="424" y="1123"/>
                </a:lnTo>
                <a:lnTo>
                  <a:pt x="424" y="1121"/>
                </a:lnTo>
                <a:lnTo>
                  <a:pt x="422" y="1119"/>
                </a:lnTo>
                <a:lnTo>
                  <a:pt x="422" y="1119"/>
                </a:lnTo>
                <a:lnTo>
                  <a:pt x="422" y="1117"/>
                </a:lnTo>
                <a:lnTo>
                  <a:pt x="420" y="1115"/>
                </a:lnTo>
                <a:lnTo>
                  <a:pt x="410" y="1117"/>
                </a:lnTo>
                <a:lnTo>
                  <a:pt x="382" y="1117"/>
                </a:lnTo>
                <a:lnTo>
                  <a:pt x="353" y="1117"/>
                </a:lnTo>
                <a:lnTo>
                  <a:pt x="326" y="1115"/>
                </a:lnTo>
                <a:lnTo>
                  <a:pt x="297" y="1111"/>
                </a:lnTo>
                <a:lnTo>
                  <a:pt x="270" y="1105"/>
                </a:lnTo>
                <a:lnTo>
                  <a:pt x="244" y="1100"/>
                </a:lnTo>
                <a:lnTo>
                  <a:pt x="217" y="1092"/>
                </a:lnTo>
                <a:lnTo>
                  <a:pt x="192" y="1084"/>
                </a:lnTo>
                <a:lnTo>
                  <a:pt x="167" y="1075"/>
                </a:lnTo>
                <a:lnTo>
                  <a:pt x="142" y="1063"/>
                </a:lnTo>
                <a:lnTo>
                  <a:pt x="119" y="1050"/>
                </a:lnTo>
                <a:lnTo>
                  <a:pt x="96" y="1036"/>
                </a:lnTo>
                <a:lnTo>
                  <a:pt x="73" y="1023"/>
                </a:lnTo>
                <a:lnTo>
                  <a:pt x="52" y="1007"/>
                </a:lnTo>
                <a:lnTo>
                  <a:pt x="30" y="990"/>
                </a:lnTo>
                <a:lnTo>
                  <a:pt x="9" y="973"/>
                </a:lnTo>
                <a:lnTo>
                  <a:pt x="0" y="963"/>
                </a:lnTo>
                <a:lnTo>
                  <a:pt x="0" y="965"/>
                </a:lnTo>
                <a:lnTo>
                  <a:pt x="0" y="967"/>
                </a:lnTo>
                <a:lnTo>
                  <a:pt x="0" y="969"/>
                </a:lnTo>
                <a:lnTo>
                  <a:pt x="0" y="971"/>
                </a:lnTo>
                <a:lnTo>
                  <a:pt x="0" y="973"/>
                </a:lnTo>
                <a:lnTo>
                  <a:pt x="0" y="975"/>
                </a:lnTo>
                <a:lnTo>
                  <a:pt x="0" y="977"/>
                </a:lnTo>
                <a:lnTo>
                  <a:pt x="0" y="979"/>
                </a:lnTo>
                <a:close/>
              </a:path>
            </a:pathLst>
          </a:custGeom>
          <a:solidFill>
            <a:srgbClr val="96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Freeform 424"/>
          <p:cNvSpPr/>
          <p:nvPr/>
        </p:nvSpPr>
        <p:spPr>
          <a:xfrm>
            <a:off x="5737320" y="2354400"/>
            <a:ext cx="672840" cy="1776240"/>
          </a:xfrm>
          <a:custGeom>
            <a:avLst/>
            <a:gdLst>
              <a:gd name="textAreaLeft" fmla="*/ 0 w 672840"/>
              <a:gd name="textAreaRight" fmla="*/ 672840 w 672840"/>
              <a:gd name="textAreaTop" fmla="*/ 0 h 1776240"/>
              <a:gd name="textAreaBottom" fmla="*/ 1776600 h 1776240"/>
            </a:gdLst>
            <a:ahLst/>
            <a:rect l="textAreaLeft" t="textAreaTop" r="textAreaRight" b="textAreaBottom"/>
            <a:pathLst>
              <a:path w="424" h="1119">
                <a:moveTo>
                  <a:pt x="405" y="2"/>
                </a:moveTo>
                <a:lnTo>
                  <a:pt x="382" y="0"/>
                </a:lnTo>
                <a:lnTo>
                  <a:pt x="353" y="2"/>
                </a:lnTo>
                <a:lnTo>
                  <a:pt x="324" y="4"/>
                </a:lnTo>
                <a:lnTo>
                  <a:pt x="297" y="8"/>
                </a:lnTo>
                <a:lnTo>
                  <a:pt x="268" y="11"/>
                </a:lnTo>
                <a:lnTo>
                  <a:pt x="242" y="19"/>
                </a:lnTo>
                <a:lnTo>
                  <a:pt x="215" y="27"/>
                </a:lnTo>
                <a:lnTo>
                  <a:pt x="190" y="35"/>
                </a:lnTo>
                <a:lnTo>
                  <a:pt x="165" y="44"/>
                </a:lnTo>
                <a:lnTo>
                  <a:pt x="140" y="56"/>
                </a:lnTo>
                <a:lnTo>
                  <a:pt x="115" y="69"/>
                </a:lnTo>
                <a:lnTo>
                  <a:pt x="113" y="69"/>
                </a:lnTo>
                <a:lnTo>
                  <a:pt x="113" y="71"/>
                </a:lnTo>
                <a:lnTo>
                  <a:pt x="113" y="73"/>
                </a:lnTo>
                <a:lnTo>
                  <a:pt x="111" y="75"/>
                </a:lnTo>
                <a:lnTo>
                  <a:pt x="111" y="77"/>
                </a:lnTo>
                <a:lnTo>
                  <a:pt x="111" y="79"/>
                </a:lnTo>
                <a:lnTo>
                  <a:pt x="111" y="81"/>
                </a:lnTo>
                <a:lnTo>
                  <a:pt x="109" y="82"/>
                </a:lnTo>
                <a:lnTo>
                  <a:pt x="109" y="84"/>
                </a:lnTo>
                <a:lnTo>
                  <a:pt x="121" y="79"/>
                </a:lnTo>
                <a:lnTo>
                  <a:pt x="144" y="65"/>
                </a:lnTo>
                <a:lnTo>
                  <a:pt x="169" y="54"/>
                </a:lnTo>
                <a:lnTo>
                  <a:pt x="194" y="44"/>
                </a:lnTo>
                <a:lnTo>
                  <a:pt x="219" y="36"/>
                </a:lnTo>
                <a:lnTo>
                  <a:pt x="245" y="29"/>
                </a:lnTo>
                <a:lnTo>
                  <a:pt x="272" y="23"/>
                </a:lnTo>
                <a:lnTo>
                  <a:pt x="299" y="17"/>
                </a:lnTo>
                <a:lnTo>
                  <a:pt x="326" y="15"/>
                </a:lnTo>
                <a:lnTo>
                  <a:pt x="353" y="11"/>
                </a:lnTo>
                <a:lnTo>
                  <a:pt x="382" y="11"/>
                </a:lnTo>
                <a:lnTo>
                  <a:pt x="399" y="11"/>
                </a:lnTo>
                <a:lnTo>
                  <a:pt x="401" y="11"/>
                </a:lnTo>
                <a:lnTo>
                  <a:pt x="401" y="10"/>
                </a:lnTo>
                <a:lnTo>
                  <a:pt x="401" y="8"/>
                </a:lnTo>
                <a:lnTo>
                  <a:pt x="403" y="8"/>
                </a:lnTo>
                <a:lnTo>
                  <a:pt x="403" y="6"/>
                </a:lnTo>
                <a:lnTo>
                  <a:pt x="403" y="4"/>
                </a:lnTo>
                <a:lnTo>
                  <a:pt x="403" y="2"/>
                </a:lnTo>
                <a:lnTo>
                  <a:pt x="405" y="2"/>
                </a:lnTo>
                <a:close/>
                <a:moveTo>
                  <a:pt x="0" y="967"/>
                </a:moveTo>
                <a:lnTo>
                  <a:pt x="6" y="973"/>
                </a:lnTo>
                <a:lnTo>
                  <a:pt x="27" y="992"/>
                </a:lnTo>
                <a:lnTo>
                  <a:pt x="48" y="1007"/>
                </a:lnTo>
                <a:lnTo>
                  <a:pt x="69" y="1023"/>
                </a:lnTo>
                <a:lnTo>
                  <a:pt x="92" y="1038"/>
                </a:lnTo>
                <a:lnTo>
                  <a:pt x="115" y="1051"/>
                </a:lnTo>
                <a:lnTo>
                  <a:pt x="140" y="1063"/>
                </a:lnTo>
                <a:lnTo>
                  <a:pt x="165" y="1074"/>
                </a:lnTo>
                <a:lnTo>
                  <a:pt x="190" y="1084"/>
                </a:lnTo>
                <a:lnTo>
                  <a:pt x="215" y="1094"/>
                </a:lnTo>
                <a:lnTo>
                  <a:pt x="242" y="1101"/>
                </a:lnTo>
                <a:lnTo>
                  <a:pt x="268" y="1107"/>
                </a:lnTo>
                <a:lnTo>
                  <a:pt x="297" y="1113"/>
                </a:lnTo>
                <a:lnTo>
                  <a:pt x="324" y="1117"/>
                </a:lnTo>
                <a:lnTo>
                  <a:pt x="353" y="1119"/>
                </a:lnTo>
                <a:lnTo>
                  <a:pt x="382" y="1119"/>
                </a:lnTo>
                <a:lnTo>
                  <a:pt x="410" y="1119"/>
                </a:lnTo>
                <a:lnTo>
                  <a:pt x="424" y="1117"/>
                </a:lnTo>
                <a:lnTo>
                  <a:pt x="422" y="1115"/>
                </a:lnTo>
                <a:lnTo>
                  <a:pt x="422" y="1115"/>
                </a:lnTo>
                <a:lnTo>
                  <a:pt x="422" y="1113"/>
                </a:lnTo>
                <a:lnTo>
                  <a:pt x="420" y="1111"/>
                </a:lnTo>
                <a:lnTo>
                  <a:pt x="420" y="1111"/>
                </a:lnTo>
                <a:lnTo>
                  <a:pt x="420" y="1109"/>
                </a:lnTo>
                <a:lnTo>
                  <a:pt x="418" y="1107"/>
                </a:lnTo>
                <a:lnTo>
                  <a:pt x="418" y="1107"/>
                </a:lnTo>
                <a:lnTo>
                  <a:pt x="410" y="1107"/>
                </a:lnTo>
                <a:lnTo>
                  <a:pt x="382" y="1107"/>
                </a:lnTo>
                <a:lnTo>
                  <a:pt x="353" y="1107"/>
                </a:lnTo>
                <a:lnTo>
                  <a:pt x="326" y="1105"/>
                </a:lnTo>
                <a:lnTo>
                  <a:pt x="299" y="1101"/>
                </a:lnTo>
                <a:lnTo>
                  <a:pt x="272" y="1097"/>
                </a:lnTo>
                <a:lnTo>
                  <a:pt x="245" y="1090"/>
                </a:lnTo>
                <a:lnTo>
                  <a:pt x="219" y="1084"/>
                </a:lnTo>
                <a:lnTo>
                  <a:pt x="194" y="1074"/>
                </a:lnTo>
                <a:lnTo>
                  <a:pt x="169" y="1065"/>
                </a:lnTo>
                <a:lnTo>
                  <a:pt x="144" y="1053"/>
                </a:lnTo>
                <a:lnTo>
                  <a:pt x="121" y="1042"/>
                </a:lnTo>
                <a:lnTo>
                  <a:pt x="98" y="1028"/>
                </a:lnTo>
                <a:lnTo>
                  <a:pt x="75" y="1015"/>
                </a:lnTo>
                <a:lnTo>
                  <a:pt x="53" y="1000"/>
                </a:lnTo>
                <a:lnTo>
                  <a:pt x="32" y="982"/>
                </a:lnTo>
                <a:lnTo>
                  <a:pt x="13" y="965"/>
                </a:lnTo>
                <a:lnTo>
                  <a:pt x="0" y="952"/>
                </a:lnTo>
                <a:lnTo>
                  <a:pt x="0" y="954"/>
                </a:lnTo>
                <a:lnTo>
                  <a:pt x="0" y="955"/>
                </a:lnTo>
                <a:lnTo>
                  <a:pt x="0" y="957"/>
                </a:lnTo>
                <a:lnTo>
                  <a:pt x="0" y="959"/>
                </a:lnTo>
                <a:lnTo>
                  <a:pt x="0" y="961"/>
                </a:lnTo>
                <a:lnTo>
                  <a:pt x="0" y="963"/>
                </a:lnTo>
                <a:lnTo>
                  <a:pt x="0" y="965"/>
                </a:lnTo>
                <a:lnTo>
                  <a:pt x="0" y="967"/>
                </a:lnTo>
                <a:close/>
              </a:path>
            </a:pathLst>
          </a:custGeom>
          <a:solidFill>
            <a:srgbClr val="97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Freeform 425"/>
          <p:cNvSpPr/>
          <p:nvPr/>
        </p:nvSpPr>
        <p:spPr>
          <a:xfrm>
            <a:off x="5737320" y="2363760"/>
            <a:ext cx="666720" cy="1757520"/>
          </a:xfrm>
          <a:custGeom>
            <a:avLst/>
            <a:gdLst>
              <a:gd name="textAreaLeft" fmla="*/ 0 w 666720"/>
              <a:gd name="textAreaRight" fmla="*/ 667080 w 666720"/>
              <a:gd name="textAreaTop" fmla="*/ 0 h 1757520"/>
              <a:gd name="textAreaBottom" fmla="*/ 1757880 h 1757520"/>
            </a:gdLst>
            <a:ahLst/>
            <a:rect l="textAreaLeft" t="textAreaTop" r="textAreaRight" b="textAreaBottom"/>
            <a:pathLst>
              <a:path w="420" h="1107">
                <a:moveTo>
                  <a:pt x="403" y="2"/>
                </a:moveTo>
                <a:lnTo>
                  <a:pt x="382" y="0"/>
                </a:lnTo>
                <a:lnTo>
                  <a:pt x="353" y="2"/>
                </a:lnTo>
                <a:lnTo>
                  <a:pt x="326" y="4"/>
                </a:lnTo>
                <a:lnTo>
                  <a:pt x="297" y="7"/>
                </a:lnTo>
                <a:lnTo>
                  <a:pt x="270" y="11"/>
                </a:lnTo>
                <a:lnTo>
                  <a:pt x="244" y="17"/>
                </a:lnTo>
                <a:lnTo>
                  <a:pt x="217" y="25"/>
                </a:lnTo>
                <a:lnTo>
                  <a:pt x="192" y="34"/>
                </a:lnTo>
                <a:lnTo>
                  <a:pt x="167" y="44"/>
                </a:lnTo>
                <a:lnTo>
                  <a:pt x="142" y="55"/>
                </a:lnTo>
                <a:lnTo>
                  <a:pt x="119" y="67"/>
                </a:lnTo>
                <a:lnTo>
                  <a:pt x="111" y="71"/>
                </a:lnTo>
                <a:lnTo>
                  <a:pt x="111" y="73"/>
                </a:lnTo>
                <a:lnTo>
                  <a:pt x="111" y="75"/>
                </a:lnTo>
                <a:lnTo>
                  <a:pt x="109" y="76"/>
                </a:lnTo>
                <a:lnTo>
                  <a:pt x="109" y="78"/>
                </a:lnTo>
                <a:lnTo>
                  <a:pt x="109" y="80"/>
                </a:lnTo>
                <a:lnTo>
                  <a:pt x="107" y="82"/>
                </a:lnTo>
                <a:lnTo>
                  <a:pt x="107" y="84"/>
                </a:lnTo>
                <a:lnTo>
                  <a:pt x="107" y="86"/>
                </a:lnTo>
                <a:lnTo>
                  <a:pt x="123" y="76"/>
                </a:lnTo>
                <a:lnTo>
                  <a:pt x="146" y="65"/>
                </a:lnTo>
                <a:lnTo>
                  <a:pt x="171" y="53"/>
                </a:lnTo>
                <a:lnTo>
                  <a:pt x="196" y="44"/>
                </a:lnTo>
                <a:lnTo>
                  <a:pt x="220" y="36"/>
                </a:lnTo>
                <a:lnTo>
                  <a:pt x="245" y="29"/>
                </a:lnTo>
                <a:lnTo>
                  <a:pt x="272" y="23"/>
                </a:lnTo>
                <a:lnTo>
                  <a:pt x="299" y="17"/>
                </a:lnTo>
                <a:lnTo>
                  <a:pt x="326" y="13"/>
                </a:lnTo>
                <a:lnTo>
                  <a:pt x="355" y="11"/>
                </a:lnTo>
                <a:lnTo>
                  <a:pt x="382" y="11"/>
                </a:lnTo>
                <a:lnTo>
                  <a:pt x="397" y="11"/>
                </a:lnTo>
                <a:lnTo>
                  <a:pt x="397" y="9"/>
                </a:lnTo>
                <a:lnTo>
                  <a:pt x="399" y="9"/>
                </a:lnTo>
                <a:lnTo>
                  <a:pt x="399" y="7"/>
                </a:lnTo>
                <a:lnTo>
                  <a:pt x="399" y="5"/>
                </a:lnTo>
                <a:lnTo>
                  <a:pt x="401" y="5"/>
                </a:lnTo>
                <a:lnTo>
                  <a:pt x="401" y="4"/>
                </a:lnTo>
                <a:lnTo>
                  <a:pt x="401" y="2"/>
                </a:lnTo>
                <a:lnTo>
                  <a:pt x="403" y="2"/>
                </a:lnTo>
                <a:close/>
                <a:moveTo>
                  <a:pt x="0" y="953"/>
                </a:moveTo>
                <a:lnTo>
                  <a:pt x="9" y="963"/>
                </a:lnTo>
                <a:lnTo>
                  <a:pt x="30" y="980"/>
                </a:lnTo>
                <a:lnTo>
                  <a:pt x="52" y="997"/>
                </a:lnTo>
                <a:lnTo>
                  <a:pt x="73" y="1013"/>
                </a:lnTo>
                <a:lnTo>
                  <a:pt x="96" y="1026"/>
                </a:lnTo>
                <a:lnTo>
                  <a:pt x="119" y="1040"/>
                </a:lnTo>
                <a:lnTo>
                  <a:pt x="142" y="1053"/>
                </a:lnTo>
                <a:lnTo>
                  <a:pt x="167" y="1065"/>
                </a:lnTo>
                <a:lnTo>
                  <a:pt x="192" y="1074"/>
                </a:lnTo>
                <a:lnTo>
                  <a:pt x="217" y="1082"/>
                </a:lnTo>
                <a:lnTo>
                  <a:pt x="244" y="1090"/>
                </a:lnTo>
                <a:lnTo>
                  <a:pt x="270" y="1095"/>
                </a:lnTo>
                <a:lnTo>
                  <a:pt x="297" y="1101"/>
                </a:lnTo>
                <a:lnTo>
                  <a:pt x="326" y="1105"/>
                </a:lnTo>
                <a:lnTo>
                  <a:pt x="353" y="1107"/>
                </a:lnTo>
                <a:lnTo>
                  <a:pt x="382" y="1107"/>
                </a:lnTo>
                <a:lnTo>
                  <a:pt x="410" y="1107"/>
                </a:lnTo>
                <a:lnTo>
                  <a:pt x="420" y="1105"/>
                </a:lnTo>
                <a:lnTo>
                  <a:pt x="420" y="1105"/>
                </a:lnTo>
                <a:lnTo>
                  <a:pt x="420" y="1103"/>
                </a:lnTo>
                <a:lnTo>
                  <a:pt x="418" y="1101"/>
                </a:lnTo>
                <a:lnTo>
                  <a:pt x="418" y="1101"/>
                </a:lnTo>
                <a:lnTo>
                  <a:pt x="418" y="1099"/>
                </a:lnTo>
                <a:lnTo>
                  <a:pt x="416" y="1097"/>
                </a:lnTo>
                <a:lnTo>
                  <a:pt x="416" y="1097"/>
                </a:lnTo>
                <a:lnTo>
                  <a:pt x="416" y="1095"/>
                </a:lnTo>
                <a:lnTo>
                  <a:pt x="410" y="1095"/>
                </a:lnTo>
                <a:lnTo>
                  <a:pt x="382" y="1097"/>
                </a:lnTo>
                <a:lnTo>
                  <a:pt x="355" y="1095"/>
                </a:lnTo>
                <a:lnTo>
                  <a:pt x="326" y="1093"/>
                </a:lnTo>
                <a:lnTo>
                  <a:pt x="299" y="1090"/>
                </a:lnTo>
                <a:lnTo>
                  <a:pt x="272" y="1086"/>
                </a:lnTo>
                <a:lnTo>
                  <a:pt x="245" y="1080"/>
                </a:lnTo>
                <a:lnTo>
                  <a:pt x="220" y="1072"/>
                </a:lnTo>
                <a:lnTo>
                  <a:pt x="196" y="1065"/>
                </a:lnTo>
                <a:lnTo>
                  <a:pt x="171" y="1053"/>
                </a:lnTo>
                <a:lnTo>
                  <a:pt x="146" y="1044"/>
                </a:lnTo>
                <a:lnTo>
                  <a:pt x="123" y="1032"/>
                </a:lnTo>
                <a:lnTo>
                  <a:pt x="100" y="1019"/>
                </a:lnTo>
                <a:lnTo>
                  <a:pt x="78" y="1003"/>
                </a:lnTo>
                <a:lnTo>
                  <a:pt x="57" y="988"/>
                </a:lnTo>
                <a:lnTo>
                  <a:pt x="36" y="973"/>
                </a:lnTo>
                <a:lnTo>
                  <a:pt x="17" y="955"/>
                </a:lnTo>
                <a:lnTo>
                  <a:pt x="0" y="938"/>
                </a:lnTo>
                <a:lnTo>
                  <a:pt x="0" y="940"/>
                </a:lnTo>
                <a:lnTo>
                  <a:pt x="0" y="942"/>
                </a:lnTo>
                <a:lnTo>
                  <a:pt x="0" y="944"/>
                </a:lnTo>
                <a:lnTo>
                  <a:pt x="0" y="946"/>
                </a:lnTo>
                <a:lnTo>
                  <a:pt x="0" y="948"/>
                </a:lnTo>
                <a:lnTo>
                  <a:pt x="0" y="949"/>
                </a:lnTo>
                <a:lnTo>
                  <a:pt x="0" y="951"/>
                </a:lnTo>
                <a:lnTo>
                  <a:pt x="0" y="953"/>
                </a:lnTo>
                <a:close/>
              </a:path>
            </a:pathLst>
          </a:custGeom>
          <a:solidFill>
            <a:srgbClr val="98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Freeform 426"/>
          <p:cNvSpPr/>
          <p:nvPr/>
        </p:nvSpPr>
        <p:spPr>
          <a:xfrm>
            <a:off x="5737320" y="2371680"/>
            <a:ext cx="663480" cy="1739880"/>
          </a:xfrm>
          <a:custGeom>
            <a:avLst/>
            <a:gdLst>
              <a:gd name="textAreaLeft" fmla="*/ 0 w 663480"/>
              <a:gd name="textAreaRight" fmla="*/ 663840 w 663480"/>
              <a:gd name="textAreaTop" fmla="*/ 0 h 1739880"/>
              <a:gd name="textAreaBottom" fmla="*/ 1740240 h 1739880"/>
            </a:gdLst>
            <a:ahLst/>
            <a:rect l="textAreaLeft" t="textAreaTop" r="textAreaRight" b="textAreaBottom"/>
            <a:pathLst>
              <a:path w="418" h="1096">
                <a:moveTo>
                  <a:pt x="399" y="0"/>
                </a:moveTo>
                <a:lnTo>
                  <a:pt x="382" y="0"/>
                </a:lnTo>
                <a:lnTo>
                  <a:pt x="353" y="0"/>
                </a:lnTo>
                <a:lnTo>
                  <a:pt x="326" y="4"/>
                </a:lnTo>
                <a:lnTo>
                  <a:pt x="299" y="6"/>
                </a:lnTo>
                <a:lnTo>
                  <a:pt x="272" y="12"/>
                </a:lnTo>
                <a:lnTo>
                  <a:pt x="245" y="18"/>
                </a:lnTo>
                <a:lnTo>
                  <a:pt x="219" y="25"/>
                </a:lnTo>
                <a:lnTo>
                  <a:pt x="194" y="33"/>
                </a:lnTo>
                <a:lnTo>
                  <a:pt x="169" y="43"/>
                </a:lnTo>
                <a:lnTo>
                  <a:pt x="144" y="54"/>
                </a:lnTo>
                <a:lnTo>
                  <a:pt x="121" y="68"/>
                </a:lnTo>
                <a:lnTo>
                  <a:pt x="109" y="73"/>
                </a:lnTo>
                <a:lnTo>
                  <a:pt x="109" y="75"/>
                </a:lnTo>
                <a:lnTo>
                  <a:pt x="107" y="77"/>
                </a:lnTo>
                <a:lnTo>
                  <a:pt x="107" y="79"/>
                </a:lnTo>
                <a:lnTo>
                  <a:pt x="107" y="81"/>
                </a:lnTo>
                <a:lnTo>
                  <a:pt x="107" y="83"/>
                </a:lnTo>
                <a:lnTo>
                  <a:pt x="105" y="85"/>
                </a:lnTo>
                <a:lnTo>
                  <a:pt x="105" y="87"/>
                </a:lnTo>
                <a:lnTo>
                  <a:pt x="105" y="89"/>
                </a:lnTo>
                <a:lnTo>
                  <a:pt x="126" y="75"/>
                </a:lnTo>
                <a:lnTo>
                  <a:pt x="149" y="64"/>
                </a:lnTo>
                <a:lnTo>
                  <a:pt x="172" y="54"/>
                </a:lnTo>
                <a:lnTo>
                  <a:pt x="197" y="45"/>
                </a:lnTo>
                <a:lnTo>
                  <a:pt x="222" y="35"/>
                </a:lnTo>
                <a:lnTo>
                  <a:pt x="247" y="27"/>
                </a:lnTo>
                <a:lnTo>
                  <a:pt x="274" y="22"/>
                </a:lnTo>
                <a:lnTo>
                  <a:pt x="299" y="18"/>
                </a:lnTo>
                <a:lnTo>
                  <a:pt x="326" y="14"/>
                </a:lnTo>
                <a:lnTo>
                  <a:pt x="355" y="12"/>
                </a:lnTo>
                <a:lnTo>
                  <a:pt x="382" y="12"/>
                </a:lnTo>
                <a:lnTo>
                  <a:pt x="395" y="12"/>
                </a:lnTo>
                <a:lnTo>
                  <a:pt x="395" y="10"/>
                </a:lnTo>
                <a:lnTo>
                  <a:pt x="397" y="8"/>
                </a:lnTo>
                <a:lnTo>
                  <a:pt x="397" y="8"/>
                </a:lnTo>
                <a:lnTo>
                  <a:pt x="397" y="6"/>
                </a:lnTo>
                <a:lnTo>
                  <a:pt x="397" y="4"/>
                </a:lnTo>
                <a:lnTo>
                  <a:pt x="399" y="4"/>
                </a:lnTo>
                <a:lnTo>
                  <a:pt x="399" y="2"/>
                </a:lnTo>
                <a:lnTo>
                  <a:pt x="399" y="0"/>
                </a:lnTo>
                <a:close/>
                <a:moveTo>
                  <a:pt x="0" y="941"/>
                </a:moveTo>
                <a:lnTo>
                  <a:pt x="13" y="954"/>
                </a:lnTo>
                <a:lnTo>
                  <a:pt x="32" y="971"/>
                </a:lnTo>
                <a:lnTo>
                  <a:pt x="53" y="989"/>
                </a:lnTo>
                <a:lnTo>
                  <a:pt x="75" y="1004"/>
                </a:lnTo>
                <a:lnTo>
                  <a:pt x="98" y="1017"/>
                </a:lnTo>
                <a:lnTo>
                  <a:pt x="121" y="1031"/>
                </a:lnTo>
                <a:lnTo>
                  <a:pt x="144" y="1042"/>
                </a:lnTo>
                <a:lnTo>
                  <a:pt x="169" y="1054"/>
                </a:lnTo>
                <a:lnTo>
                  <a:pt x="194" y="1063"/>
                </a:lnTo>
                <a:lnTo>
                  <a:pt x="219" y="1073"/>
                </a:lnTo>
                <a:lnTo>
                  <a:pt x="245" y="1079"/>
                </a:lnTo>
                <a:lnTo>
                  <a:pt x="272" y="1086"/>
                </a:lnTo>
                <a:lnTo>
                  <a:pt x="299" y="1090"/>
                </a:lnTo>
                <a:lnTo>
                  <a:pt x="326" y="1094"/>
                </a:lnTo>
                <a:lnTo>
                  <a:pt x="353" y="1096"/>
                </a:lnTo>
                <a:lnTo>
                  <a:pt x="382" y="1096"/>
                </a:lnTo>
                <a:lnTo>
                  <a:pt x="410" y="1096"/>
                </a:lnTo>
                <a:lnTo>
                  <a:pt x="418" y="1096"/>
                </a:lnTo>
                <a:lnTo>
                  <a:pt x="418" y="1094"/>
                </a:lnTo>
                <a:lnTo>
                  <a:pt x="416" y="1092"/>
                </a:lnTo>
                <a:lnTo>
                  <a:pt x="416" y="1092"/>
                </a:lnTo>
                <a:lnTo>
                  <a:pt x="416" y="1090"/>
                </a:lnTo>
                <a:lnTo>
                  <a:pt x="416" y="1088"/>
                </a:lnTo>
                <a:lnTo>
                  <a:pt x="414" y="1088"/>
                </a:lnTo>
                <a:lnTo>
                  <a:pt x="414" y="1086"/>
                </a:lnTo>
                <a:lnTo>
                  <a:pt x="414" y="1085"/>
                </a:lnTo>
                <a:lnTo>
                  <a:pt x="409" y="1086"/>
                </a:lnTo>
                <a:lnTo>
                  <a:pt x="382" y="1086"/>
                </a:lnTo>
                <a:lnTo>
                  <a:pt x="355" y="1086"/>
                </a:lnTo>
                <a:lnTo>
                  <a:pt x="326" y="1083"/>
                </a:lnTo>
                <a:lnTo>
                  <a:pt x="299" y="1081"/>
                </a:lnTo>
                <a:lnTo>
                  <a:pt x="274" y="1075"/>
                </a:lnTo>
                <a:lnTo>
                  <a:pt x="247" y="1069"/>
                </a:lnTo>
                <a:lnTo>
                  <a:pt x="222" y="1062"/>
                </a:lnTo>
                <a:lnTo>
                  <a:pt x="197" y="1054"/>
                </a:lnTo>
                <a:lnTo>
                  <a:pt x="172" y="1044"/>
                </a:lnTo>
                <a:lnTo>
                  <a:pt x="149" y="1033"/>
                </a:lnTo>
                <a:lnTo>
                  <a:pt x="126" y="1021"/>
                </a:lnTo>
                <a:lnTo>
                  <a:pt x="103" y="1008"/>
                </a:lnTo>
                <a:lnTo>
                  <a:pt x="80" y="994"/>
                </a:lnTo>
                <a:lnTo>
                  <a:pt x="59" y="979"/>
                </a:lnTo>
                <a:lnTo>
                  <a:pt x="40" y="964"/>
                </a:lnTo>
                <a:lnTo>
                  <a:pt x="21" y="946"/>
                </a:lnTo>
                <a:lnTo>
                  <a:pt x="2" y="929"/>
                </a:lnTo>
                <a:lnTo>
                  <a:pt x="0" y="925"/>
                </a:lnTo>
                <a:lnTo>
                  <a:pt x="0" y="927"/>
                </a:lnTo>
                <a:lnTo>
                  <a:pt x="0" y="929"/>
                </a:lnTo>
                <a:lnTo>
                  <a:pt x="0" y="931"/>
                </a:lnTo>
                <a:lnTo>
                  <a:pt x="0" y="933"/>
                </a:lnTo>
                <a:lnTo>
                  <a:pt x="0" y="935"/>
                </a:lnTo>
                <a:lnTo>
                  <a:pt x="0" y="937"/>
                </a:lnTo>
                <a:lnTo>
                  <a:pt x="0" y="939"/>
                </a:lnTo>
                <a:lnTo>
                  <a:pt x="0" y="941"/>
                </a:lnTo>
                <a:close/>
              </a:path>
            </a:pathLst>
          </a:custGeom>
          <a:solidFill>
            <a:srgbClr val="99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Freeform 427"/>
          <p:cNvSpPr/>
          <p:nvPr/>
        </p:nvSpPr>
        <p:spPr>
          <a:xfrm>
            <a:off x="5734080" y="2381400"/>
            <a:ext cx="663480" cy="1724040"/>
          </a:xfrm>
          <a:custGeom>
            <a:avLst/>
            <a:gdLst>
              <a:gd name="textAreaLeft" fmla="*/ 0 w 663480"/>
              <a:gd name="textAreaRight" fmla="*/ 663840 w 663480"/>
              <a:gd name="textAreaTop" fmla="*/ 0 h 1724040"/>
              <a:gd name="textAreaBottom" fmla="*/ 1724400 h 1724040"/>
            </a:gdLst>
            <a:ahLst/>
            <a:rect l="textAreaLeft" t="textAreaTop" r="textAreaRight" b="textAreaBottom"/>
            <a:pathLst>
              <a:path w="418" h="1086">
                <a:moveTo>
                  <a:pt x="399" y="0"/>
                </a:moveTo>
                <a:lnTo>
                  <a:pt x="384" y="0"/>
                </a:lnTo>
                <a:lnTo>
                  <a:pt x="357" y="0"/>
                </a:lnTo>
                <a:lnTo>
                  <a:pt x="328" y="2"/>
                </a:lnTo>
                <a:lnTo>
                  <a:pt x="301" y="6"/>
                </a:lnTo>
                <a:lnTo>
                  <a:pt x="274" y="12"/>
                </a:lnTo>
                <a:lnTo>
                  <a:pt x="247" y="18"/>
                </a:lnTo>
                <a:lnTo>
                  <a:pt x="222" y="25"/>
                </a:lnTo>
                <a:lnTo>
                  <a:pt x="198" y="33"/>
                </a:lnTo>
                <a:lnTo>
                  <a:pt x="173" y="42"/>
                </a:lnTo>
                <a:lnTo>
                  <a:pt x="148" y="54"/>
                </a:lnTo>
                <a:lnTo>
                  <a:pt x="125" y="65"/>
                </a:lnTo>
                <a:lnTo>
                  <a:pt x="109" y="75"/>
                </a:lnTo>
                <a:lnTo>
                  <a:pt x="109" y="77"/>
                </a:lnTo>
                <a:lnTo>
                  <a:pt x="107" y="79"/>
                </a:lnTo>
                <a:lnTo>
                  <a:pt x="107" y="81"/>
                </a:lnTo>
                <a:lnTo>
                  <a:pt x="107" y="83"/>
                </a:lnTo>
                <a:lnTo>
                  <a:pt x="107" y="85"/>
                </a:lnTo>
                <a:lnTo>
                  <a:pt x="105" y="87"/>
                </a:lnTo>
                <a:lnTo>
                  <a:pt x="105" y="87"/>
                </a:lnTo>
                <a:lnTo>
                  <a:pt x="105" y="89"/>
                </a:lnTo>
                <a:lnTo>
                  <a:pt x="107" y="89"/>
                </a:lnTo>
                <a:lnTo>
                  <a:pt x="130" y="75"/>
                </a:lnTo>
                <a:lnTo>
                  <a:pt x="153" y="64"/>
                </a:lnTo>
                <a:lnTo>
                  <a:pt x="176" y="52"/>
                </a:lnTo>
                <a:lnTo>
                  <a:pt x="201" y="42"/>
                </a:lnTo>
                <a:lnTo>
                  <a:pt x="226" y="35"/>
                </a:lnTo>
                <a:lnTo>
                  <a:pt x="251" y="27"/>
                </a:lnTo>
                <a:lnTo>
                  <a:pt x="276" y="21"/>
                </a:lnTo>
                <a:lnTo>
                  <a:pt x="303" y="18"/>
                </a:lnTo>
                <a:lnTo>
                  <a:pt x="330" y="14"/>
                </a:lnTo>
                <a:lnTo>
                  <a:pt x="357" y="12"/>
                </a:lnTo>
                <a:lnTo>
                  <a:pt x="384" y="10"/>
                </a:lnTo>
                <a:lnTo>
                  <a:pt x="395" y="12"/>
                </a:lnTo>
                <a:lnTo>
                  <a:pt x="395" y="10"/>
                </a:lnTo>
                <a:lnTo>
                  <a:pt x="395" y="8"/>
                </a:lnTo>
                <a:lnTo>
                  <a:pt x="397" y="6"/>
                </a:lnTo>
                <a:lnTo>
                  <a:pt x="397" y="6"/>
                </a:lnTo>
                <a:lnTo>
                  <a:pt x="397" y="4"/>
                </a:lnTo>
                <a:lnTo>
                  <a:pt x="399" y="2"/>
                </a:lnTo>
                <a:lnTo>
                  <a:pt x="399" y="2"/>
                </a:lnTo>
                <a:lnTo>
                  <a:pt x="399" y="0"/>
                </a:lnTo>
                <a:close/>
                <a:moveTo>
                  <a:pt x="2" y="927"/>
                </a:moveTo>
                <a:lnTo>
                  <a:pt x="19" y="944"/>
                </a:lnTo>
                <a:lnTo>
                  <a:pt x="38" y="962"/>
                </a:lnTo>
                <a:lnTo>
                  <a:pt x="59" y="977"/>
                </a:lnTo>
                <a:lnTo>
                  <a:pt x="80" y="992"/>
                </a:lnTo>
                <a:lnTo>
                  <a:pt x="102" y="1008"/>
                </a:lnTo>
                <a:lnTo>
                  <a:pt x="125" y="1021"/>
                </a:lnTo>
                <a:lnTo>
                  <a:pt x="148" y="1033"/>
                </a:lnTo>
                <a:lnTo>
                  <a:pt x="173" y="1042"/>
                </a:lnTo>
                <a:lnTo>
                  <a:pt x="198" y="1054"/>
                </a:lnTo>
                <a:lnTo>
                  <a:pt x="222" y="1061"/>
                </a:lnTo>
                <a:lnTo>
                  <a:pt x="247" y="1069"/>
                </a:lnTo>
                <a:lnTo>
                  <a:pt x="274" y="1075"/>
                </a:lnTo>
                <a:lnTo>
                  <a:pt x="301" y="1079"/>
                </a:lnTo>
                <a:lnTo>
                  <a:pt x="328" y="1082"/>
                </a:lnTo>
                <a:lnTo>
                  <a:pt x="357" y="1084"/>
                </a:lnTo>
                <a:lnTo>
                  <a:pt x="384" y="1086"/>
                </a:lnTo>
                <a:lnTo>
                  <a:pt x="412" y="1084"/>
                </a:lnTo>
                <a:lnTo>
                  <a:pt x="418" y="1084"/>
                </a:lnTo>
                <a:lnTo>
                  <a:pt x="416" y="1082"/>
                </a:lnTo>
                <a:lnTo>
                  <a:pt x="416" y="1082"/>
                </a:lnTo>
                <a:lnTo>
                  <a:pt x="416" y="1080"/>
                </a:lnTo>
                <a:lnTo>
                  <a:pt x="416" y="1079"/>
                </a:lnTo>
                <a:lnTo>
                  <a:pt x="414" y="1079"/>
                </a:lnTo>
                <a:lnTo>
                  <a:pt x="414" y="1077"/>
                </a:lnTo>
                <a:lnTo>
                  <a:pt x="414" y="1075"/>
                </a:lnTo>
                <a:lnTo>
                  <a:pt x="412" y="1075"/>
                </a:lnTo>
                <a:lnTo>
                  <a:pt x="411" y="1075"/>
                </a:lnTo>
                <a:lnTo>
                  <a:pt x="384" y="1075"/>
                </a:lnTo>
                <a:lnTo>
                  <a:pt x="357" y="1075"/>
                </a:lnTo>
                <a:lnTo>
                  <a:pt x="330" y="1073"/>
                </a:lnTo>
                <a:lnTo>
                  <a:pt x="303" y="1069"/>
                </a:lnTo>
                <a:lnTo>
                  <a:pt x="276" y="1065"/>
                </a:lnTo>
                <a:lnTo>
                  <a:pt x="251" y="1057"/>
                </a:lnTo>
                <a:lnTo>
                  <a:pt x="226" y="1052"/>
                </a:lnTo>
                <a:lnTo>
                  <a:pt x="201" y="1042"/>
                </a:lnTo>
                <a:lnTo>
                  <a:pt x="176" y="1033"/>
                </a:lnTo>
                <a:lnTo>
                  <a:pt x="153" y="1023"/>
                </a:lnTo>
                <a:lnTo>
                  <a:pt x="130" y="1011"/>
                </a:lnTo>
                <a:lnTo>
                  <a:pt x="107" y="998"/>
                </a:lnTo>
                <a:lnTo>
                  <a:pt x="86" y="985"/>
                </a:lnTo>
                <a:lnTo>
                  <a:pt x="65" y="969"/>
                </a:lnTo>
                <a:lnTo>
                  <a:pt x="46" y="954"/>
                </a:lnTo>
                <a:lnTo>
                  <a:pt x="27" y="937"/>
                </a:lnTo>
                <a:lnTo>
                  <a:pt x="8" y="919"/>
                </a:lnTo>
                <a:lnTo>
                  <a:pt x="0" y="912"/>
                </a:lnTo>
                <a:lnTo>
                  <a:pt x="0" y="914"/>
                </a:lnTo>
                <a:lnTo>
                  <a:pt x="0" y="915"/>
                </a:lnTo>
                <a:lnTo>
                  <a:pt x="0" y="917"/>
                </a:lnTo>
                <a:lnTo>
                  <a:pt x="0" y="919"/>
                </a:lnTo>
                <a:lnTo>
                  <a:pt x="2" y="921"/>
                </a:lnTo>
                <a:lnTo>
                  <a:pt x="2" y="923"/>
                </a:lnTo>
                <a:lnTo>
                  <a:pt x="2" y="925"/>
                </a:lnTo>
                <a:lnTo>
                  <a:pt x="2" y="927"/>
                </a:lnTo>
                <a:close/>
              </a:path>
            </a:pathLst>
          </a:custGeom>
          <a:solidFill>
            <a:srgbClr val="9a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Freeform 428"/>
          <p:cNvSpPr/>
          <p:nvPr/>
        </p:nvSpPr>
        <p:spPr>
          <a:xfrm>
            <a:off x="5734080" y="2390760"/>
            <a:ext cx="660240" cy="1704960"/>
          </a:xfrm>
          <a:custGeom>
            <a:avLst/>
            <a:gdLst>
              <a:gd name="textAreaLeft" fmla="*/ 0 w 660240"/>
              <a:gd name="textAreaRight" fmla="*/ 660600 w 660240"/>
              <a:gd name="textAreaTop" fmla="*/ 0 h 1704960"/>
              <a:gd name="textAreaBottom" fmla="*/ 1705320 h 1704960"/>
            </a:gdLst>
            <a:ahLst/>
            <a:rect l="textAreaLeft" t="textAreaTop" r="textAreaRight" b="textAreaBottom"/>
            <a:pathLst>
              <a:path w="416" h="1074">
                <a:moveTo>
                  <a:pt x="397" y="0"/>
                </a:moveTo>
                <a:lnTo>
                  <a:pt x="384" y="0"/>
                </a:lnTo>
                <a:lnTo>
                  <a:pt x="357" y="0"/>
                </a:lnTo>
                <a:lnTo>
                  <a:pt x="328" y="2"/>
                </a:lnTo>
                <a:lnTo>
                  <a:pt x="301" y="6"/>
                </a:lnTo>
                <a:lnTo>
                  <a:pt x="276" y="10"/>
                </a:lnTo>
                <a:lnTo>
                  <a:pt x="249" y="15"/>
                </a:lnTo>
                <a:lnTo>
                  <a:pt x="224" y="23"/>
                </a:lnTo>
                <a:lnTo>
                  <a:pt x="199" y="33"/>
                </a:lnTo>
                <a:lnTo>
                  <a:pt x="174" y="42"/>
                </a:lnTo>
                <a:lnTo>
                  <a:pt x="151" y="52"/>
                </a:lnTo>
                <a:lnTo>
                  <a:pt x="128" y="63"/>
                </a:lnTo>
                <a:lnTo>
                  <a:pt x="107" y="77"/>
                </a:lnTo>
                <a:lnTo>
                  <a:pt x="107" y="79"/>
                </a:lnTo>
                <a:lnTo>
                  <a:pt x="105" y="81"/>
                </a:lnTo>
                <a:lnTo>
                  <a:pt x="105" y="83"/>
                </a:lnTo>
                <a:lnTo>
                  <a:pt x="105" y="83"/>
                </a:lnTo>
                <a:lnTo>
                  <a:pt x="105" y="84"/>
                </a:lnTo>
                <a:lnTo>
                  <a:pt x="103" y="86"/>
                </a:lnTo>
                <a:lnTo>
                  <a:pt x="103" y="88"/>
                </a:lnTo>
                <a:lnTo>
                  <a:pt x="103" y="90"/>
                </a:lnTo>
                <a:lnTo>
                  <a:pt x="111" y="86"/>
                </a:lnTo>
                <a:lnTo>
                  <a:pt x="132" y="73"/>
                </a:lnTo>
                <a:lnTo>
                  <a:pt x="155" y="61"/>
                </a:lnTo>
                <a:lnTo>
                  <a:pt x="178" y="52"/>
                </a:lnTo>
                <a:lnTo>
                  <a:pt x="203" y="42"/>
                </a:lnTo>
                <a:lnTo>
                  <a:pt x="226" y="33"/>
                </a:lnTo>
                <a:lnTo>
                  <a:pt x="251" y="27"/>
                </a:lnTo>
                <a:lnTo>
                  <a:pt x="278" y="21"/>
                </a:lnTo>
                <a:lnTo>
                  <a:pt x="303" y="15"/>
                </a:lnTo>
                <a:lnTo>
                  <a:pt x="330" y="13"/>
                </a:lnTo>
                <a:lnTo>
                  <a:pt x="357" y="10"/>
                </a:lnTo>
                <a:lnTo>
                  <a:pt x="384" y="10"/>
                </a:lnTo>
                <a:lnTo>
                  <a:pt x="393" y="10"/>
                </a:lnTo>
                <a:lnTo>
                  <a:pt x="393" y="10"/>
                </a:lnTo>
                <a:lnTo>
                  <a:pt x="393" y="8"/>
                </a:lnTo>
                <a:lnTo>
                  <a:pt x="395" y="6"/>
                </a:lnTo>
                <a:lnTo>
                  <a:pt x="395" y="6"/>
                </a:lnTo>
                <a:lnTo>
                  <a:pt x="395" y="4"/>
                </a:lnTo>
                <a:lnTo>
                  <a:pt x="395" y="2"/>
                </a:lnTo>
                <a:lnTo>
                  <a:pt x="397" y="0"/>
                </a:lnTo>
                <a:lnTo>
                  <a:pt x="397" y="0"/>
                </a:lnTo>
                <a:close/>
                <a:moveTo>
                  <a:pt x="2" y="913"/>
                </a:moveTo>
                <a:lnTo>
                  <a:pt x="4" y="917"/>
                </a:lnTo>
                <a:lnTo>
                  <a:pt x="23" y="934"/>
                </a:lnTo>
                <a:lnTo>
                  <a:pt x="42" y="952"/>
                </a:lnTo>
                <a:lnTo>
                  <a:pt x="61" y="967"/>
                </a:lnTo>
                <a:lnTo>
                  <a:pt x="82" y="982"/>
                </a:lnTo>
                <a:lnTo>
                  <a:pt x="105" y="996"/>
                </a:lnTo>
                <a:lnTo>
                  <a:pt x="128" y="1009"/>
                </a:lnTo>
                <a:lnTo>
                  <a:pt x="151" y="1021"/>
                </a:lnTo>
                <a:lnTo>
                  <a:pt x="174" y="1032"/>
                </a:lnTo>
                <a:lnTo>
                  <a:pt x="199" y="1042"/>
                </a:lnTo>
                <a:lnTo>
                  <a:pt x="224" y="1050"/>
                </a:lnTo>
                <a:lnTo>
                  <a:pt x="249" y="1057"/>
                </a:lnTo>
                <a:lnTo>
                  <a:pt x="276" y="1063"/>
                </a:lnTo>
                <a:lnTo>
                  <a:pt x="301" y="1069"/>
                </a:lnTo>
                <a:lnTo>
                  <a:pt x="328" y="1071"/>
                </a:lnTo>
                <a:lnTo>
                  <a:pt x="357" y="1074"/>
                </a:lnTo>
                <a:lnTo>
                  <a:pt x="384" y="1074"/>
                </a:lnTo>
                <a:lnTo>
                  <a:pt x="411" y="1074"/>
                </a:lnTo>
                <a:lnTo>
                  <a:pt x="416" y="1073"/>
                </a:lnTo>
                <a:lnTo>
                  <a:pt x="414" y="1073"/>
                </a:lnTo>
                <a:lnTo>
                  <a:pt x="414" y="1071"/>
                </a:lnTo>
                <a:lnTo>
                  <a:pt x="414" y="1069"/>
                </a:lnTo>
                <a:lnTo>
                  <a:pt x="412" y="1069"/>
                </a:lnTo>
                <a:lnTo>
                  <a:pt x="412" y="1067"/>
                </a:lnTo>
                <a:lnTo>
                  <a:pt x="412" y="1065"/>
                </a:lnTo>
                <a:lnTo>
                  <a:pt x="412" y="1065"/>
                </a:lnTo>
                <a:lnTo>
                  <a:pt x="411" y="1063"/>
                </a:lnTo>
                <a:lnTo>
                  <a:pt x="411" y="1063"/>
                </a:lnTo>
                <a:lnTo>
                  <a:pt x="384" y="1063"/>
                </a:lnTo>
                <a:lnTo>
                  <a:pt x="357" y="1063"/>
                </a:lnTo>
                <a:lnTo>
                  <a:pt x="330" y="1061"/>
                </a:lnTo>
                <a:lnTo>
                  <a:pt x="303" y="1057"/>
                </a:lnTo>
                <a:lnTo>
                  <a:pt x="278" y="1053"/>
                </a:lnTo>
                <a:lnTo>
                  <a:pt x="251" y="1048"/>
                </a:lnTo>
                <a:lnTo>
                  <a:pt x="226" y="1040"/>
                </a:lnTo>
                <a:lnTo>
                  <a:pt x="203" y="1032"/>
                </a:lnTo>
                <a:lnTo>
                  <a:pt x="178" y="1023"/>
                </a:lnTo>
                <a:lnTo>
                  <a:pt x="155" y="1011"/>
                </a:lnTo>
                <a:lnTo>
                  <a:pt x="132" y="1000"/>
                </a:lnTo>
                <a:lnTo>
                  <a:pt x="111" y="988"/>
                </a:lnTo>
                <a:lnTo>
                  <a:pt x="90" y="973"/>
                </a:lnTo>
                <a:lnTo>
                  <a:pt x="69" y="959"/>
                </a:lnTo>
                <a:lnTo>
                  <a:pt x="48" y="944"/>
                </a:lnTo>
                <a:lnTo>
                  <a:pt x="29" y="927"/>
                </a:lnTo>
                <a:lnTo>
                  <a:pt x="11" y="909"/>
                </a:lnTo>
                <a:lnTo>
                  <a:pt x="0" y="898"/>
                </a:lnTo>
                <a:lnTo>
                  <a:pt x="0" y="900"/>
                </a:lnTo>
                <a:lnTo>
                  <a:pt x="0" y="902"/>
                </a:lnTo>
                <a:lnTo>
                  <a:pt x="0" y="904"/>
                </a:lnTo>
                <a:lnTo>
                  <a:pt x="0" y="906"/>
                </a:lnTo>
                <a:lnTo>
                  <a:pt x="0" y="908"/>
                </a:lnTo>
                <a:lnTo>
                  <a:pt x="0" y="909"/>
                </a:lnTo>
                <a:lnTo>
                  <a:pt x="0" y="911"/>
                </a:lnTo>
                <a:lnTo>
                  <a:pt x="2" y="913"/>
                </a:lnTo>
                <a:close/>
              </a:path>
            </a:pathLst>
          </a:custGeom>
          <a:solidFill>
            <a:srgbClr val="9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Freeform 429"/>
          <p:cNvSpPr/>
          <p:nvPr/>
        </p:nvSpPr>
        <p:spPr>
          <a:xfrm>
            <a:off x="5734080" y="2397240"/>
            <a:ext cx="654120" cy="1690560"/>
          </a:xfrm>
          <a:custGeom>
            <a:avLst/>
            <a:gdLst>
              <a:gd name="textAreaLeft" fmla="*/ 0 w 654120"/>
              <a:gd name="textAreaRight" fmla="*/ 654120 w 654120"/>
              <a:gd name="textAreaTop" fmla="*/ 0 h 1690560"/>
              <a:gd name="textAreaBottom" fmla="*/ 1690920 h 1690560"/>
            </a:gdLst>
            <a:ahLst/>
            <a:rect l="textAreaLeft" t="textAreaTop" r="textAreaRight" b="textAreaBottom"/>
            <a:pathLst>
              <a:path w="412" h="1065">
                <a:moveTo>
                  <a:pt x="395" y="2"/>
                </a:moveTo>
                <a:lnTo>
                  <a:pt x="384" y="0"/>
                </a:lnTo>
                <a:lnTo>
                  <a:pt x="357" y="2"/>
                </a:lnTo>
                <a:lnTo>
                  <a:pt x="330" y="4"/>
                </a:lnTo>
                <a:lnTo>
                  <a:pt x="303" y="8"/>
                </a:lnTo>
                <a:lnTo>
                  <a:pt x="276" y="11"/>
                </a:lnTo>
                <a:lnTo>
                  <a:pt x="251" y="17"/>
                </a:lnTo>
                <a:lnTo>
                  <a:pt x="226" y="25"/>
                </a:lnTo>
                <a:lnTo>
                  <a:pt x="201" y="32"/>
                </a:lnTo>
                <a:lnTo>
                  <a:pt x="176" y="42"/>
                </a:lnTo>
                <a:lnTo>
                  <a:pt x="153" y="54"/>
                </a:lnTo>
                <a:lnTo>
                  <a:pt x="130" y="65"/>
                </a:lnTo>
                <a:lnTo>
                  <a:pt x="107" y="79"/>
                </a:lnTo>
                <a:lnTo>
                  <a:pt x="105" y="79"/>
                </a:lnTo>
                <a:lnTo>
                  <a:pt x="105" y="80"/>
                </a:lnTo>
                <a:lnTo>
                  <a:pt x="103" y="82"/>
                </a:lnTo>
                <a:lnTo>
                  <a:pt x="103" y="84"/>
                </a:lnTo>
                <a:lnTo>
                  <a:pt x="103" y="86"/>
                </a:lnTo>
                <a:lnTo>
                  <a:pt x="103" y="88"/>
                </a:lnTo>
                <a:lnTo>
                  <a:pt x="102" y="90"/>
                </a:lnTo>
                <a:lnTo>
                  <a:pt x="102" y="92"/>
                </a:lnTo>
                <a:lnTo>
                  <a:pt x="102" y="94"/>
                </a:lnTo>
                <a:lnTo>
                  <a:pt x="113" y="86"/>
                </a:lnTo>
                <a:lnTo>
                  <a:pt x="136" y="75"/>
                </a:lnTo>
                <a:lnTo>
                  <a:pt x="157" y="63"/>
                </a:lnTo>
                <a:lnTo>
                  <a:pt x="180" y="52"/>
                </a:lnTo>
                <a:lnTo>
                  <a:pt x="205" y="42"/>
                </a:lnTo>
                <a:lnTo>
                  <a:pt x="228" y="34"/>
                </a:lnTo>
                <a:lnTo>
                  <a:pt x="253" y="27"/>
                </a:lnTo>
                <a:lnTo>
                  <a:pt x="278" y="21"/>
                </a:lnTo>
                <a:lnTo>
                  <a:pt x="305" y="17"/>
                </a:lnTo>
                <a:lnTo>
                  <a:pt x="330" y="13"/>
                </a:lnTo>
                <a:lnTo>
                  <a:pt x="357" y="11"/>
                </a:lnTo>
                <a:lnTo>
                  <a:pt x="384" y="11"/>
                </a:lnTo>
                <a:lnTo>
                  <a:pt x="391" y="11"/>
                </a:lnTo>
                <a:lnTo>
                  <a:pt x="391" y="9"/>
                </a:lnTo>
                <a:lnTo>
                  <a:pt x="391" y="9"/>
                </a:lnTo>
                <a:lnTo>
                  <a:pt x="391" y="8"/>
                </a:lnTo>
                <a:lnTo>
                  <a:pt x="393" y="6"/>
                </a:lnTo>
                <a:lnTo>
                  <a:pt x="393" y="6"/>
                </a:lnTo>
                <a:lnTo>
                  <a:pt x="393" y="4"/>
                </a:lnTo>
                <a:lnTo>
                  <a:pt x="395" y="2"/>
                </a:lnTo>
                <a:lnTo>
                  <a:pt x="395" y="2"/>
                </a:lnTo>
                <a:close/>
                <a:moveTo>
                  <a:pt x="0" y="902"/>
                </a:moveTo>
                <a:lnTo>
                  <a:pt x="8" y="909"/>
                </a:lnTo>
                <a:lnTo>
                  <a:pt x="27" y="927"/>
                </a:lnTo>
                <a:lnTo>
                  <a:pt x="46" y="944"/>
                </a:lnTo>
                <a:lnTo>
                  <a:pt x="65" y="959"/>
                </a:lnTo>
                <a:lnTo>
                  <a:pt x="86" y="975"/>
                </a:lnTo>
                <a:lnTo>
                  <a:pt x="107" y="988"/>
                </a:lnTo>
                <a:lnTo>
                  <a:pt x="130" y="1001"/>
                </a:lnTo>
                <a:lnTo>
                  <a:pt x="153" y="1013"/>
                </a:lnTo>
                <a:lnTo>
                  <a:pt x="176" y="1023"/>
                </a:lnTo>
                <a:lnTo>
                  <a:pt x="201" y="1032"/>
                </a:lnTo>
                <a:lnTo>
                  <a:pt x="226" y="1042"/>
                </a:lnTo>
                <a:lnTo>
                  <a:pt x="251" y="1047"/>
                </a:lnTo>
                <a:lnTo>
                  <a:pt x="276" y="1055"/>
                </a:lnTo>
                <a:lnTo>
                  <a:pt x="303" y="1059"/>
                </a:lnTo>
                <a:lnTo>
                  <a:pt x="330" y="1063"/>
                </a:lnTo>
                <a:lnTo>
                  <a:pt x="357" y="1065"/>
                </a:lnTo>
                <a:lnTo>
                  <a:pt x="384" y="1065"/>
                </a:lnTo>
                <a:lnTo>
                  <a:pt x="411" y="1065"/>
                </a:lnTo>
                <a:lnTo>
                  <a:pt x="412" y="1065"/>
                </a:lnTo>
                <a:lnTo>
                  <a:pt x="412" y="1063"/>
                </a:lnTo>
                <a:lnTo>
                  <a:pt x="412" y="1061"/>
                </a:lnTo>
                <a:lnTo>
                  <a:pt x="412" y="1061"/>
                </a:lnTo>
                <a:lnTo>
                  <a:pt x="411" y="1059"/>
                </a:lnTo>
                <a:lnTo>
                  <a:pt x="411" y="1057"/>
                </a:lnTo>
                <a:lnTo>
                  <a:pt x="411" y="1057"/>
                </a:lnTo>
                <a:lnTo>
                  <a:pt x="409" y="1055"/>
                </a:lnTo>
                <a:lnTo>
                  <a:pt x="409" y="1053"/>
                </a:lnTo>
                <a:lnTo>
                  <a:pt x="384" y="1055"/>
                </a:lnTo>
                <a:lnTo>
                  <a:pt x="357" y="1053"/>
                </a:lnTo>
                <a:lnTo>
                  <a:pt x="330" y="1051"/>
                </a:lnTo>
                <a:lnTo>
                  <a:pt x="305" y="1047"/>
                </a:lnTo>
                <a:lnTo>
                  <a:pt x="278" y="1044"/>
                </a:lnTo>
                <a:lnTo>
                  <a:pt x="253" y="1038"/>
                </a:lnTo>
                <a:lnTo>
                  <a:pt x="228" y="1030"/>
                </a:lnTo>
                <a:lnTo>
                  <a:pt x="205" y="1023"/>
                </a:lnTo>
                <a:lnTo>
                  <a:pt x="180" y="1013"/>
                </a:lnTo>
                <a:lnTo>
                  <a:pt x="157" y="1003"/>
                </a:lnTo>
                <a:lnTo>
                  <a:pt x="136" y="992"/>
                </a:lnTo>
                <a:lnTo>
                  <a:pt x="113" y="978"/>
                </a:lnTo>
                <a:lnTo>
                  <a:pt x="92" y="965"/>
                </a:lnTo>
                <a:lnTo>
                  <a:pt x="71" y="952"/>
                </a:lnTo>
                <a:lnTo>
                  <a:pt x="52" y="936"/>
                </a:lnTo>
                <a:lnTo>
                  <a:pt x="32" y="919"/>
                </a:lnTo>
                <a:lnTo>
                  <a:pt x="15" y="902"/>
                </a:lnTo>
                <a:lnTo>
                  <a:pt x="0" y="886"/>
                </a:lnTo>
                <a:lnTo>
                  <a:pt x="0" y="888"/>
                </a:lnTo>
                <a:lnTo>
                  <a:pt x="0" y="890"/>
                </a:lnTo>
                <a:lnTo>
                  <a:pt x="0" y="892"/>
                </a:lnTo>
                <a:lnTo>
                  <a:pt x="0" y="894"/>
                </a:lnTo>
                <a:lnTo>
                  <a:pt x="0" y="896"/>
                </a:lnTo>
                <a:lnTo>
                  <a:pt x="0" y="898"/>
                </a:lnTo>
                <a:lnTo>
                  <a:pt x="0" y="900"/>
                </a:lnTo>
                <a:lnTo>
                  <a:pt x="0" y="902"/>
                </a:lnTo>
                <a:close/>
              </a:path>
            </a:pathLst>
          </a:custGeom>
          <a:solidFill>
            <a:srgbClr val="9c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Freeform 430"/>
          <p:cNvSpPr/>
          <p:nvPr/>
        </p:nvSpPr>
        <p:spPr>
          <a:xfrm>
            <a:off x="5734080" y="2406600"/>
            <a:ext cx="652320" cy="1671840"/>
          </a:xfrm>
          <a:custGeom>
            <a:avLst/>
            <a:gdLst>
              <a:gd name="textAreaLeft" fmla="*/ 0 w 652320"/>
              <a:gd name="textAreaRight" fmla="*/ 652320 w 652320"/>
              <a:gd name="textAreaTop" fmla="*/ 0 h 1671840"/>
              <a:gd name="textAreaBottom" fmla="*/ 1672200 h 1671840"/>
            </a:gdLst>
            <a:ahLst/>
            <a:rect l="textAreaLeft" t="textAreaTop" r="textAreaRight" b="textAreaBottom"/>
            <a:pathLst>
              <a:path w="411" h="1053">
                <a:moveTo>
                  <a:pt x="393" y="0"/>
                </a:moveTo>
                <a:lnTo>
                  <a:pt x="384" y="0"/>
                </a:lnTo>
                <a:lnTo>
                  <a:pt x="357" y="0"/>
                </a:lnTo>
                <a:lnTo>
                  <a:pt x="330" y="3"/>
                </a:lnTo>
                <a:lnTo>
                  <a:pt x="303" y="5"/>
                </a:lnTo>
                <a:lnTo>
                  <a:pt x="278" y="11"/>
                </a:lnTo>
                <a:lnTo>
                  <a:pt x="251" y="17"/>
                </a:lnTo>
                <a:lnTo>
                  <a:pt x="226" y="23"/>
                </a:lnTo>
                <a:lnTo>
                  <a:pt x="203" y="32"/>
                </a:lnTo>
                <a:lnTo>
                  <a:pt x="178" y="42"/>
                </a:lnTo>
                <a:lnTo>
                  <a:pt x="155" y="51"/>
                </a:lnTo>
                <a:lnTo>
                  <a:pt x="132" y="63"/>
                </a:lnTo>
                <a:lnTo>
                  <a:pt x="111" y="76"/>
                </a:lnTo>
                <a:lnTo>
                  <a:pt x="103" y="80"/>
                </a:lnTo>
                <a:lnTo>
                  <a:pt x="103" y="82"/>
                </a:lnTo>
                <a:lnTo>
                  <a:pt x="102" y="84"/>
                </a:lnTo>
                <a:lnTo>
                  <a:pt x="102" y="86"/>
                </a:lnTo>
                <a:lnTo>
                  <a:pt x="102" y="88"/>
                </a:lnTo>
                <a:lnTo>
                  <a:pt x="100" y="90"/>
                </a:lnTo>
                <a:lnTo>
                  <a:pt x="100" y="92"/>
                </a:lnTo>
                <a:lnTo>
                  <a:pt x="100" y="94"/>
                </a:lnTo>
                <a:lnTo>
                  <a:pt x="100" y="96"/>
                </a:lnTo>
                <a:lnTo>
                  <a:pt x="117" y="86"/>
                </a:lnTo>
                <a:lnTo>
                  <a:pt x="138" y="73"/>
                </a:lnTo>
                <a:lnTo>
                  <a:pt x="159" y="61"/>
                </a:lnTo>
                <a:lnTo>
                  <a:pt x="182" y="51"/>
                </a:lnTo>
                <a:lnTo>
                  <a:pt x="207" y="42"/>
                </a:lnTo>
                <a:lnTo>
                  <a:pt x="230" y="34"/>
                </a:lnTo>
                <a:lnTo>
                  <a:pt x="255" y="26"/>
                </a:lnTo>
                <a:lnTo>
                  <a:pt x="280" y="21"/>
                </a:lnTo>
                <a:lnTo>
                  <a:pt x="305" y="17"/>
                </a:lnTo>
                <a:lnTo>
                  <a:pt x="332" y="13"/>
                </a:lnTo>
                <a:lnTo>
                  <a:pt x="357" y="11"/>
                </a:lnTo>
                <a:lnTo>
                  <a:pt x="384" y="11"/>
                </a:lnTo>
                <a:lnTo>
                  <a:pt x="388" y="11"/>
                </a:lnTo>
                <a:lnTo>
                  <a:pt x="389" y="9"/>
                </a:lnTo>
                <a:lnTo>
                  <a:pt x="389" y="7"/>
                </a:lnTo>
                <a:lnTo>
                  <a:pt x="389" y="7"/>
                </a:lnTo>
                <a:lnTo>
                  <a:pt x="391" y="5"/>
                </a:lnTo>
                <a:lnTo>
                  <a:pt x="391" y="3"/>
                </a:lnTo>
                <a:lnTo>
                  <a:pt x="391" y="3"/>
                </a:lnTo>
                <a:lnTo>
                  <a:pt x="391" y="2"/>
                </a:lnTo>
                <a:lnTo>
                  <a:pt x="393" y="0"/>
                </a:lnTo>
                <a:close/>
                <a:moveTo>
                  <a:pt x="0" y="888"/>
                </a:moveTo>
                <a:lnTo>
                  <a:pt x="11" y="899"/>
                </a:lnTo>
                <a:lnTo>
                  <a:pt x="29" y="917"/>
                </a:lnTo>
                <a:lnTo>
                  <a:pt x="48" y="934"/>
                </a:lnTo>
                <a:lnTo>
                  <a:pt x="69" y="949"/>
                </a:lnTo>
                <a:lnTo>
                  <a:pt x="90" y="963"/>
                </a:lnTo>
                <a:lnTo>
                  <a:pt x="111" y="978"/>
                </a:lnTo>
                <a:lnTo>
                  <a:pt x="132" y="990"/>
                </a:lnTo>
                <a:lnTo>
                  <a:pt x="155" y="1001"/>
                </a:lnTo>
                <a:lnTo>
                  <a:pt x="178" y="1013"/>
                </a:lnTo>
                <a:lnTo>
                  <a:pt x="203" y="1022"/>
                </a:lnTo>
                <a:lnTo>
                  <a:pt x="226" y="1030"/>
                </a:lnTo>
                <a:lnTo>
                  <a:pt x="251" y="1038"/>
                </a:lnTo>
                <a:lnTo>
                  <a:pt x="278" y="1043"/>
                </a:lnTo>
                <a:lnTo>
                  <a:pt x="303" y="1047"/>
                </a:lnTo>
                <a:lnTo>
                  <a:pt x="330" y="1051"/>
                </a:lnTo>
                <a:lnTo>
                  <a:pt x="357" y="1053"/>
                </a:lnTo>
                <a:lnTo>
                  <a:pt x="384" y="1053"/>
                </a:lnTo>
                <a:lnTo>
                  <a:pt x="411" y="1053"/>
                </a:lnTo>
                <a:lnTo>
                  <a:pt x="411" y="1053"/>
                </a:lnTo>
                <a:lnTo>
                  <a:pt x="411" y="1051"/>
                </a:lnTo>
                <a:lnTo>
                  <a:pt x="411" y="1051"/>
                </a:lnTo>
                <a:lnTo>
                  <a:pt x="409" y="1049"/>
                </a:lnTo>
                <a:lnTo>
                  <a:pt x="409" y="1047"/>
                </a:lnTo>
                <a:lnTo>
                  <a:pt x="409" y="1047"/>
                </a:lnTo>
                <a:lnTo>
                  <a:pt x="407" y="1045"/>
                </a:lnTo>
                <a:lnTo>
                  <a:pt x="407" y="1043"/>
                </a:lnTo>
                <a:lnTo>
                  <a:pt x="407" y="1043"/>
                </a:lnTo>
                <a:lnTo>
                  <a:pt x="384" y="1043"/>
                </a:lnTo>
                <a:lnTo>
                  <a:pt x="357" y="1041"/>
                </a:lnTo>
                <a:lnTo>
                  <a:pt x="332" y="1040"/>
                </a:lnTo>
                <a:lnTo>
                  <a:pt x="305" y="1038"/>
                </a:lnTo>
                <a:lnTo>
                  <a:pt x="280" y="1032"/>
                </a:lnTo>
                <a:lnTo>
                  <a:pt x="255" y="1026"/>
                </a:lnTo>
                <a:lnTo>
                  <a:pt x="230" y="1020"/>
                </a:lnTo>
                <a:lnTo>
                  <a:pt x="207" y="1013"/>
                </a:lnTo>
                <a:lnTo>
                  <a:pt x="182" y="1003"/>
                </a:lnTo>
                <a:lnTo>
                  <a:pt x="159" y="992"/>
                </a:lnTo>
                <a:lnTo>
                  <a:pt x="138" y="980"/>
                </a:lnTo>
                <a:lnTo>
                  <a:pt x="117" y="969"/>
                </a:lnTo>
                <a:lnTo>
                  <a:pt x="96" y="955"/>
                </a:lnTo>
                <a:lnTo>
                  <a:pt x="75" y="940"/>
                </a:lnTo>
                <a:lnTo>
                  <a:pt x="55" y="924"/>
                </a:lnTo>
                <a:lnTo>
                  <a:pt x="36" y="909"/>
                </a:lnTo>
                <a:lnTo>
                  <a:pt x="19" y="892"/>
                </a:lnTo>
                <a:lnTo>
                  <a:pt x="2" y="875"/>
                </a:lnTo>
                <a:lnTo>
                  <a:pt x="0" y="873"/>
                </a:lnTo>
                <a:lnTo>
                  <a:pt x="0" y="875"/>
                </a:lnTo>
                <a:lnTo>
                  <a:pt x="0" y="876"/>
                </a:lnTo>
                <a:lnTo>
                  <a:pt x="0" y="878"/>
                </a:lnTo>
                <a:lnTo>
                  <a:pt x="0" y="880"/>
                </a:lnTo>
                <a:lnTo>
                  <a:pt x="0" y="882"/>
                </a:lnTo>
                <a:lnTo>
                  <a:pt x="0" y="884"/>
                </a:lnTo>
                <a:lnTo>
                  <a:pt x="0" y="886"/>
                </a:lnTo>
                <a:lnTo>
                  <a:pt x="0" y="888"/>
                </a:lnTo>
                <a:close/>
              </a:path>
            </a:pathLst>
          </a:custGeom>
          <a:solidFill>
            <a:srgbClr val="9d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Freeform 431"/>
          <p:cNvSpPr/>
          <p:nvPr/>
        </p:nvSpPr>
        <p:spPr>
          <a:xfrm>
            <a:off x="5734080" y="2414520"/>
            <a:ext cx="649080" cy="1657440"/>
          </a:xfrm>
          <a:custGeom>
            <a:avLst/>
            <a:gdLst>
              <a:gd name="textAreaLeft" fmla="*/ 0 w 649080"/>
              <a:gd name="textAreaRight" fmla="*/ 649080 w 64908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409" h="1044">
                <a:moveTo>
                  <a:pt x="391" y="0"/>
                </a:moveTo>
                <a:lnTo>
                  <a:pt x="384" y="0"/>
                </a:lnTo>
                <a:lnTo>
                  <a:pt x="357" y="0"/>
                </a:lnTo>
                <a:lnTo>
                  <a:pt x="330" y="2"/>
                </a:lnTo>
                <a:lnTo>
                  <a:pt x="305" y="6"/>
                </a:lnTo>
                <a:lnTo>
                  <a:pt x="278" y="10"/>
                </a:lnTo>
                <a:lnTo>
                  <a:pt x="253" y="16"/>
                </a:lnTo>
                <a:lnTo>
                  <a:pt x="228" y="23"/>
                </a:lnTo>
                <a:lnTo>
                  <a:pt x="205" y="31"/>
                </a:lnTo>
                <a:lnTo>
                  <a:pt x="180" y="41"/>
                </a:lnTo>
                <a:lnTo>
                  <a:pt x="157" y="52"/>
                </a:lnTo>
                <a:lnTo>
                  <a:pt x="136" y="64"/>
                </a:lnTo>
                <a:lnTo>
                  <a:pt x="113" y="75"/>
                </a:lnTo>
                <a:lnTo>
                  <a:pt x="102" y="83"/>
                </a:lnTo>
                <a:lnTo>
                  <a:pt x="100" y="85"/>
                </a:lnTo>
                <a:lnTo>
                  <a:pt x="100" y="87"/>
                </a:lnTo>
                <a:lnTo>
                  <a:pt x="100" y="89"/>
                </a:lnTo>
                <a:lnTo>
                  <a:pt x="100" y="91"/>
                </a:lnTo>
                <a:lnTo>
                  <a:pt x="98" y="92"/>
                </a:lnTo>
                <a:lnTo>
                  <a:pt x="98" y="94"/>
                </a:lnTo>
                <a:lnTo>
                  <a:pt x="98" y="96"/>
                </a:lnTo>
                <a:lnTo>
                  <a:pt x="98" y="98"/>
                </a:lnTo>
                <a:lnTo>
                  <a:pt x="98" y="98"/>
                </a:lnTo>
                <a:lnTo>
                  <a:pt x="119" y="85"/>
                </a:lnTo>
                <a:lnTo>
                  <a:pt x="140" y="73"/>
                </a:lnTo>
                <a:lnTo>
                  <a:pt x="163" y="62"/>
                </a:lnTo>
                <a:lnTo>
                  <a:pt x="184" y="50"/>
                </a:lnTo>
                <a:lnTo>
                  <a:pt x="209" y="43"/>
                </a:lnTo>
                <a:lnTo>
                  <a:pt x="232" y="33"/>
                </a:lnTo>
                <a:lnTo>
                  <a:pt x="257" y="27"/>
                </a:lnTo>
                <a:lnTo>
                  <a:pt x="280" y="21"/>
                </a:lnTo>
                <a:lnTo>
                  <a:pt x="307" y="18"/>
                </a:lnTo>
                <a:lnTo>
                  <a:pt x="332" y="14"/>
                </a:lnTo>
                <a:lnTo>
                  <a:pt x="357" y="12"/>
                </a:lnTo>
                <a:lnTo>
                  <a:pt x="384" y="10"/>
                </a:lnTo>
                <a:lnTo>
                  <a:pt x="386" y="10"/>
                </a:lnTo>
                <a:lnTo>
                  <a:pt x="388" y="10"/>
                </a:lnTo>
                <a:lnTo>
                  <a:pt x="388" y="8"/>
                </a:lnTo>
                <a:lnTo>
                  <a:pt x="388" y="6"/>
                </a:lnTo>
                <a:lnTo>
                  <a:pt x="388" y="6"/>
                </a:lnTo>
                <a:lnTo>
                  <a:pt x="389" y="4"/>
                </a:lnTo>
                <a:lnTo>
                  <a:pt x="389" y="2"/>
                </a:lnTo>
                <a:lnTo>
                  <a:pt x="389" y="2"/>
                </a:lnTo>
                <a:lnTo>
                  <a:pt x="391" y="0"/>
                </a:lnTo>
                <a:close/>
                <a:moveTo>
                  <a:pt x="0" y="875"/>
                </a:moveTo>
                <a:lnTo>
                  <a:pt x="15" y="891"/>
                </a:lnTo>
                <a:lnTo>
                  <a:pt x="32" y="908"/>
                </a:lnTo>
                <a:lnTo>
                  <a:pt x="52" y="925"/>
                </a:lnTo>
                <a:lnTo>
                  <a:pt x="71" y="941"/>
                </a:lnTo>
                <a:lnTo>
                  <a:pt x="92" y="954"/>
                </a:lnTo>
                <a:lnTo>
                  <a:pt x="113" y="967"/>
                </a:lnTo>
                <a:lnTo>
                  <a:pt x="136" y="981"/>
                </a:lnTo>
                <a:lnTo>
                  <a:pt x="157" y="992"/>
                </a:lnTo>
                <a:lnTo>
                  <a:pt x="180" y="1002"/>
                </a:lnTo>
                <a:lnTo>
                  <a:pt x="205" y="1012"/>
                </a:lnTo>
                <a:lnTo>
                  <a:pt x="228" y="1019"/>
                </a:lnTo>
                <a:lnTo>
                  <a:pt x="253" y="1027"/>
                </a:lnTo>
                <a:lnTo>
                  <a:pt x="278" y="1033"/>
                </a:lnTo>
                <a:lnTo>
                  <a:pt x="305" y="1036"/>
                </a:lnTo>
                <a:lnTo>
                  <a:pt x="330" y="1040"/>
                </a:lnTo>
                <a:lnTo>
                  <a:pt x="357" y="1042"/>
                </a:lnTo>
                <a:lnTo>
                  <a:pt x="384" y="1044"/>
                </a:lnTo>
                <a:lnTo>
                  <a:pt x="409" y="1042"/>
                </a:lnTo>
                <a:lnTo>
                  <a:pt x="409" y="1042"/>
                </a:lnTo>
                <a:lnTo>
                  <a:pt x="407" y="1040"/>
                </a:lnTo>
                <a:lnTo>
                  <a:pt x="407" y="1038"/>
                </a:lnTo>
                <a:lnTo>
                  <a:pt x="407" y="1038"/>
                </a:lnTo>
                <a:lnTo>
                  <a:pt x="407" y="1036"/>
                </a:lnTo>
                <a:lnTo>
                  <a:pt x="405" y="1035"/>
                </a:lnTo>
                <a:lnTo>
                  <a:pt x="405" y="1033"/>
                </a:lnTo>
                <a:lnTo>
                  <a:pt x="405" y="1033"/>
                </a:lnTo>
                <a:lnTo>
                  <a:pt x="384" y="1033"/>
                </a:lnTo>
                <a:lnTo>
                  <a:pt x="357" y="1033"/>
                </a:lnTo>
                <a:lnTo>
                  <a:pt x="332" y="1031"/>
                </a:lnTo>
                <a:lnTo>
                  <a:pt x="307" y="1027"/>
                </a:lnTo>
                <a:lnTo>
                  <a:pt x="280" y="1023"/>
                </a:lnTo>
                <a:lnTo>
                  <a:pt x="257" y="1017"/>
                </a:lnTo>
                <a:lnTo>
                  <a:pt x="232" y="1010"/>
                </a:lnTo>
                <a:lnTo>
                  <a:pt x="209" y="1002"/>
                </a:lnTo>
                <a:lnTo>
                  <a:pt x="184" y="992"/>
                </a:lnTo>
                <a:lnTo>
                  <a:pt x="163" y="983"/>
                </a:lnTo>
                <a:lnTo>
                  <a:pt x="140" y="971"/>
                </a:lnTo>
                <a:lnTo>
                  <a:pt x="119" y="960"/>
                </a:lnTo>
                <a:lnTo>
                  <a:pt x="98" y="946"/>
                </a:lnTo>
                <a:lnTo>
                  <a:pt x="79" y="931"/>
                </a:lnTo>
                <a:lnTo>
                  <a:pt x="59" y="916"/>
                </a:lnTo>
                <a:lnTo>
                  <a:pt x="40" y="900"/>
                </a:lnTo>
                <a:lnTo>
                  <a:pt x="23" y="883"/>
                </a:lnTo>
                <a:lnTo>
                  <a:pt x="6" y="866"/>
                </a:lnTo>
                <a:lnTo>
                  <a:pt x="0" y="860"/>
                </a:lnTo>
                <a:lnTo>
                  <a:pt x="0" y="862"/>
                </a:lnTo>
                <a:lnTo>
                  <a:pt x="0" y="864"/>
                </a:lnTo>
                <a:lnTo>
                  <a:pt x="0" y="866"/>
                </a:lnTo>
                <a:lnTo>
                  <a:pt x="0" y="868"/>
                </a:lnTo>
                <a:lnTo>
                  <a:pt x="0" y="870"/>
                </a:lnTo>
                <a:lnTo>
                  <a:pt x="0" y="871"/>
                </a:lnTo>
                <a:lnTo>
                  <a:pt x="0" y="873"/>
                </a:lnTo>
                <a:lnTo>
                  <a:pt x="0" y="875"/>
                </a:lnTo>
                <a:close/>
              </a:path>
            </a:pathLst>
          </a:custGeom>
          <a:solidFill>
            <a:srgbClr val="9e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Freeform 432"/>
          <p:cNvSpPr/>
          <p:nvPr/>
        </p:nvSpPr>
        <p:spPr>
          <a:xfrm>
            <a:off x="5734080" y="2424240"/>
            <a:ext cx="646200" cy="1638000"/>
          </a:xfrm>
          <a:custGeom>
            <a:avLst/>
            <a:gdLst>
              <a:gd name="textAreaLeft" fmla="*/ 0 w 646200"/>
              <a:gd name="textAreaRight" fmla="*/ 646560 w 646200"/>
              <a:gd name="textAreaTop" fmla="*/ 0 h 1638000"/>
              <a:gd name="textAreaBottom" fmla="*/ 1638360 h 1638000"/>
            </a:gdLst>
            <a:ahLst/>
            <a:rect l="textAreaLeft" t="textAreaTop" r="textAreaRight" b="textAreaBottom"/>
            <a:pathLst>
              <a:path w="407" h="1032">
                <a:moveTo>
                  <a:pt x="388" y="0"/>
                </a:moveTo>
                <a:lnTo>
                  <a:pt x="384" y="0"/>
                </a:lnTo>
                <a:lnTo>
                  <a:pt x="357" y="0"/>
                </a:lnTo>
                <a:lnTo>
                  <a:pt x="332" y="2"/>
                </a:lnTo>
                <a:lnTo>
                  <a:pt x="305" y="6"/>
                </a:lnTo>
                <a:lnTo>
                  <a:pt x="280" y="10"/>
                </a:lnTo>
                <a:lnTo>
                  <a:pt x="255" y="15"/>
                </a:lnTo>
                <a:lnTo>
                  <a:pt x="230" y="23"/>
                </a:lnTo>
                <a:lnTo>
                  <a:pt x="207" y="31"/>
                </a:lnTo>
                <a:lnTo>
                  <a:pt x="182" y="40"/>
                </a:lnTo>
                <a:lnTo>
                  <a:pt x="159" y="50"/>
                </a:lnTo>
                <a:lnTo>
                  <a:pt x="138" y="62"/>
                </a:lnTo>
                <a:lnTo>
                  <a:pt x="117" y="75"/>
                </a:lnTo>
                <a:lnTo>
                  <a:pt x="100" y="85"/>
                </a:lnTo>
                <a:lnTo>
                  <a:pt x="98" y="86"/>
                </a:lnTo>
                <a:lnTo>
                  <a:pt x="98" y="88"/>
                </a:lnTo>
                <a:lnTo>
                  <a:pt x="98" y="90"/>
                </a:lnTo>
                <a:lnTo>
                  <a:pt x="98" y="92"/>
                </a:lnTo>
                <a:lnTo>
                  <a:pt x="96" y="94"/>
                </a:lnTo>
                <a:lnTo>
                  <a:pt x="96" y="98"/>
                </a:lnTo>
                <a:lnTo>
                  <a:pt x="96" y="100"/>
                </a:lnTo>
                <a:lnTo>
                  <a:pt x="96" y="102"/>
                </a:lnTo>
                <a:lnTo>
                  <a:pt x="102" y="96"/>
                </a:lnTo>
                <a:lnTo>
                  <a:pt x="121" y="83"/>
                </a:lnTo>
                <a:lnTo>
                  <a:pt x="144" y="71"/>
                </a:lnTo>
                <a:lnTo>
                  <a:pt x="165" y="60"/>
                </a:lnTo>
                <a:lnTo>
                  <a:pt x="188" y="50"/>
                </a:lnTo>
                <a:lnTo>
                  <a:pt x="211" y="40"/>
                </a:lnTo>
                <a:lnTo>
                  <a:pt x="234" y="33"/>
                </a:lnTo>
                <a:lnTo>
                  <a:pt x="257" y="27"/>
                </a:lnTo>
                <a:lnTo>
                  <a:pt x="282" y="21"/>
                </a:lnTo>
                <a:lnTo>
                  <a:pt x="307" y="15"/>
                </a:lnTo>
                <a:lnTo>
                  <a:pt x="332" y="14"/>
                </a:lnTo>
                <a:lnTo>
                  <a:pt x="359" y="12"/>
                </a:lnTo>
                <a:lnTo>
                  <a:pt x="384" y="10"/>
                </a:lnTo>
                <a:lnTo>
                  <a:pt x="384" y="10"/>
                </a:lnTo>
                <a:lnTo>
                  <a:pt x="386" y="10"/>
                </a:lnTo>
                <a:lnTo>
                  <a:pt x="386" y="8"/>
                </a:lnTo>
                <a:lnTo>
                  <a:pt x="386" y="6"/>
                </a:lnTo>
                <a:lnTo>
                  <a:pt x="386" y="4"/>
                </a:lnTo>
                <a:lnTo>
                  <a:pt x="388" y="4"/>
                </a:lnTo>
                <a:lnTo>
                  <a:pt x="388" y="2"/>
                </a:lnTo>
                <a:lnTo>
                  <a:pt x="388" y="0"/>
                </a:lnTo>
                <a:lnTo>
                  <a:pt x="388" y="0"/>
                </a:lnTo>
                <a:close/>
                <a:moveTo>
                  <a:pt x="0" y="862"/>
                </a:moveTo>
                <a:lnTo>
                  <a:pt x="2" y="864"/>
                </a:lnTo>
                <a:lnTo>
                  <a:pt x="19" y="881"/>
                </a:lnTo>
                <a:lnTo>
                  <a:pt x="36" y="898"/>
                </a:lnTo>
                <a:lnTo>
                  <a:pt x="55" y="913"/>
                </a:lnTo>
                <a:lnTo>
                  <a:pt x="75" y="929"/>
                </a:lnTo>
                <a:lnTo>
                  <a:pt x="96" y="944"/>
                </a:lnTo>
                <a:lnTo>
                  <a:pt x="117" y="958"/>
                </a:lnTo>
                <a:lnTo>
                  <a:pt x="138" y="969"/>
                </a:lnTo>
                <a:lnTo>
                  <a:pt x="159" y="981"/>
                </a:lnTo>
                <a:lnTo>
                  <a:pt x="182" y="992"/>
                </a:lnTo>
                <a:lnTo>
                  <a:pt x="207" y="1002"/>
                </a:lnTo>
                <a:lnTo>
                  <a:pt x="230" y="1009"/>
                </a:lnTo>
                <a:lnTo>
                  <a:pt x="255" y="1015"/>
                </a:lnTo>
                <a:lnTo>
                  <a:pt x="280" y="1021"/>
                </a:lnTo>
                <a:lnTo>
                  <a:pt x="305" y="1027"/>
                </a:lnTo>
                <a:lnTo>
                  <a:pt x="332" y="1029"/>
                </a:lnTo>
                <a:lnTo>
                  <a:pt x="357" y="1030"/>
                </a:lnTo>
                <a:lnTo>
                  <a:pt x="384" y="1032"/>
                </a:lnTo>
                <a:lnTo>
                  <a:pt x="407" y="1032"/>
                </a:lnTo>
                <a:lnTo>
                  <a:pt x="407" y="1030"/>
                </a:lnTo>
                <a:lnTo>
                  <a:pt x="405" y="1029"/>
                </a:lnTo>
                <a:lnTo>
                  <a:pt x="405" y="1027"/>
                </a:lnTo>
                <a:lnTo>
                  <a:pt x="405" y="1027"/>
                </a:lnTo>
                <a:lnTo>
                  <a:pt x="403" y="1025"/>
                </a:lnTo>
                <a:lnTo>
                  <a:pt x="403" y="1023"/>
                </a:lnTo>
                <a:lnTo>
                  <a:pt x="403" y="1023"/>
                </a:lnTo>
                <a:lnTo>
                  <a:pt x="403" y="1021"/>
                </a:lnTo>
                <a:lnTo>
                  <a:pt x="384" y="1021"/>
                </a:lnTo>
                <a:lnTo>
                  <a:pt x="359" y="1021"/>
                </a:lnTo>
                <a:lnTo>
                  <a:pt x="332" y="1019"/>
                </a:lnTo>
                <a:lnTo>
                  <a:pt x="307" y="1015"/>
                </a:lnTo>
                <a:lnTo>
                  <a:pt x="282" y="1011"/>
                </a:lnTo>
                <a:lnTo>
                  <a:pt x="257" y="1006"/>
                </a:lnTo>
                <a:lnTo>
                  <a:pt x="234" y="998"/>
                </a:lnTo>
                <a:lnTo>
                  <a:pt x="211" y="990"/>
                </a:lnTo>
                <a:lnTo>
                  <a:pt x="188" y="982"/>
                </a:lnTo>
                <a:lnTo>
                  <a:pt x="165" y="971"/>
                </a:lnTo>
                <a:lnTo>
                  <a:pt x="144" y="959"/>
                </a:lnTo>
                <a:lnTo>
                  <a:pt x="121" y="948"/>
                </a:lnTo>
                <a:lnTo>
                  <a:pt x="102" y="935"/>
                </a:lnTo>
                <a:lnTo>
                  <a:pt x="80" y="921"/>
                </a:lnTo>
                <a:lnTo>
                  <a:pt x="63" y="906"/>
                </a:lnTo>
                <a:lnTo>
                  <a:pt x="44" y="890"/>
                </a:lnTo>
                <a:lnTo>
                  <a:pt x="27" y="873"/>
                </a:lnTo>
                <a:lnTo>
                  <a:pt x="9" y="856"/>
                </a:lnTo>
                <a:lnTo>
                  <a:pt x="0" y="844"/>
                </a:lnTo>
                <a:lnTo>
                  <a:pt x="0" y="846"/>
                </a:lnTo>
                <a:lnTo>
                  <a:pt x="0" y="848"/>
                </a:lnTo>
                <a:lnTo>
                  <a:pt x="0" y="850"/>
                </a:lnTo>
                <a:lnTo>
                  <a:pt x="0" y="854"/>
                </a:lnTo>
                <a:lnTo>
                  <a:pt x="0" y="856"/>
                </a:lnTo>
                <a:lnTo>
                  <a:pt x="0" y="858"/>
                </a:lnTo>
                <a:lnTo>
                  <a:pt x="0" y="860"/>
                </a:lnTo>
                <a:lnTo>
                  <a:pt x="0" y="862"/>
                </a:lnTo>
                <a:close/>
              </a:path>
            </a:pathLst>
          </a:custGeom>
          <a:solidFill>
            <a:srgbClr val="9f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Freeform 433"/>
          <p:cNvSpPr/>
          <p:nvPr/>
        </p:nvSpPr>
        <p:spPr>
          <a:xfrm>
            <a:off x="5734080" y="2430360"/>
            <a:ext cx="642960" cy="1623960"/>
          </a:xfrm>
          <a:custGeom>
            <a:avLst/>
            <a:gdLst>
              <a:gd name="textAreaLeft" fmla="*/ 0 w 642960"/>
              <a:gd name="textAreaRight" fmla="*/ 643320 w 642960"/>
              <a:gd name="textAreaTop" fmla="*/ 0 h 1623960"/>
              <a:gd name="textAreaBottom" fmla="*/ 1624320 h 1623960"/>
            </a:gdLst>
            <a:ahLst/>
            <a:rect l="textAreaLeft" t="textAreaTop" r="textAreaRight" b="textAreaBottom"/>
            <a:pathLst>
              <a:path w="405" h="1023">
                <a:moveTo>
                  <a:pt x="386" y="0"/>
                </a:moveTo>
                <a:lnTo>
                  <a:pt x="384" y="0"/>
                </a:lnTo>
                <a:lnTo>
                  <a:pt x="357" y="2"/>
                </a:lnTo>
                <a:lnTo>
                  <a:pt x="332" y="4"/>
                </a:lnTo>
                <a:lnTo>
                  <a:pt x="307" y="8"/>
                </a:lnTo>
                <a:lnTo>
                  <a:pt x="280" y="11"/>
                </a:lnTo>
                <a:lnTo>
                  <a:pt x="257" y="17"/>
                </a:lnTo>
                <a:lnTo>
                  <a:pt x="232" y="23"/>
                </a:lnTo>
                <a:lnTo>
                  <a:pt x="209" y="33"/>
                </a:lnTo>
                <a:lnTo>
                  <a:pt x="184" y="40"/>
                </a:lnTo>
                <a:lnTo>
                  <a:pt x="163" y="52"/>
                </a:lnTo>
                <a:lnTo>
                  <a:pt x="140" y="63"/>
                </a:lnTo>
                <a:lnTo>
                  <a:pt x="119" y="75"/>
                </a:lnTo>
                <a:lnTo>
                  <a:pt x="98" y="88"/>
                </a:lnTo>
                <a:lnTo>
                  <a:pt x="98" y="88"/>
                </a:lnTo>
                <a:lnTo>
                  <a:pt x="96" y="90"/>
                </a:lnTo>
                <a:lnTo>
                  <a:pt x="96" y="92"/>
                </a:lnTo>
                <a:lnTo>
                  <a:pt x="96" y="96"/>
                </a:lnTo>
                <a:lnTo>
                  <a:pt x="96" y="98"/>
                </a:lnTo>
                <a:lnTo>
                  <a:pt x="94" y="100"/>
                </a:lnTo>
                <a:lnTo>
                  <a:pt x="94" y="102"/>
                </a:lnTo>
                <a:lnTo>
                  <a:pt x="94" y="104"/>
                </a:lnTo>
                <a:lnTo>
                  <a:pt x="92" y="105"/>
                </a:lnTo>
                <a:lnTo>
                  <a:pt x="103" y="98"/>
                </a:lnTo>
                <a:lnTo>
                  <a:pt x="125" y="84"/>
                </a:lnTo>
                <a:lnTo>
                  <a:pt x="146" y="71"/>
                </a:lnTo>
                <a:lnTo>
                  <a:pt x="167" y="61"/>
                </a:lnTo>
                <a:lnTo>
                  <a:pt x="190" y="52"/>
                </a:lnTo>
                <a:lnTo>
                  <a:pt x="211" y="42"/>
                </a:lnTo>
                <a:lnTo>
                  <a:pt x="236" y="34"/>
                </a:lnTo>
                <a:lnTo>
                  <a:pt x="259" y="27"/>
                </a:lnTo>
                <a:lnTo>
                  <a:pt x="284" y="21"/>
                </a:lnTo>
                <a:lnTo>
                  <a:pt x="307" y="17"/>
                </a:lnTo>
                <a:lnTo>
                  <a:pt x="332" y="13"/>
                </a:lnTo>
                <a:lnTo>
                  <a:pt x="359" y="11"/>
                </a:lnTo>
                <a:lnTo>
                  <a:pt x="382" y="11"/>
                </a:lnTo>
                <a:lnTo>
                  <a:pt x="382" y="10"/>
                </a:lnTo>
                <a:lnTo>
                  <a:pt x="384" y="10"/>
                </a:lnTo>
                <a:lnTo>
                  <a:pt x="384" y="8"/>
                </a:lnTo>
                <a:lnTo>
                  <a:pt x="384" y="6"/>
                </a:lnTo>
                <a:lnTo>
                  <a:pt x="386" y="6"/>
                </a:lnTo>
                <a:lnTo>
                  <a:pt x="386" y="4"/>
                </a:lnTo>
                <a:lnTo>
                  <a:pt x="386" y="2"/>
                </a:lnTo>
                <a:lnTo>
                  <a:pt x="386" y="0"/>
                </a:lnTo>
                <a:close/>
                <a:moveTo>
                  <a:pt x="0" y="850"/>
                </a:moveTo>
                <a:lnTo>
                  <a:pt x="6" y="856"/>
                </a:lnTo>
                <a:lnTo>
                  <a:pt x="23" y="873"/>
                </a:lnTo>
                <a:lnTo>
                  <a:pt x="40" y="890"/>
                </a:lnTo>
                <a:lnTo>
                  <a:pt x="59" y="906"/>
                </a:lnTo>
                <a:lnTo>
                  <a:pt x="79" y="921"/>
                </a:lnTo>
                <a:lnTo>
                  <a:pt x="98" y="936"/>
                </a:lnTo>
                <a:lnTo>
                  <a:pt x="119" y="950"/>
                </a:lnTo>
                <a:lnTo>
                  <a:pt x="140" y="961"/>
                </a:lnTo>
                <a:lnTo>
                  <a:pt x="163" y="973"/>
                </a:lnTo>
                <a:lnTo>
                  <a:pt x="184" y="982"/>
                </a:lnTo>
                <a:lnTo>
                  <a:pt x="209" y="992"/>
                </a:lnTo>
                <a:lnTo>
                  <a:pt x="232" y="1000"/>
                </a:lnTo>
                <a:lnTo>
                  <a:pt x="257" y="1007"/>
                </a:lnTo>
                <a:lnTo>
                  <a:pt x="280" y="1013"/>
                </a:lnTo>
                <a:lnTo>
                  <a:pt x="307" y="1017"/>
                </a:lnTo>
                <a:lnTo>
                  <a:pt x="332" y="1021"/>
                </a:lnTo>
                <a:lnTo>
                  <a:pt x="357" y="1023"/>
                </a:lnTo>
                <a:lnTo>
                  <a:pt x="384" y="1023"/>
                </a:lnTo>
                <a:lnTo>
                  <a:pt x="405" y="1023"/>
                </a:lnTo>
                <a:lnTo>
                  <a:pt x="403" y="1021"/>
                </a:lnTo>
                <a:lnTo>
                  <a:pt x="403" y="1019"/>
                </a:lnTo>
                <a:lnTo>
                  <a:pt x="403" y="1019"/>
                </a:lnTo>
                <a:lnTo>
                  <a:pt x="403" y="1017"/>
                </a:lnTo>
                <a:lnTo>
                  <a:pt x="401" y="1015"/>
                </a:lnTo>
                <a:lnTo>
                  <a:pt x="401" y="1015"/>
                </a:lnTo>
                <a:lnTo>
                  <a:pt x="401" y="1013"/>
                </a:lnTo>
                <a:lnTo>
                  <a:pt x="399" y="1011"/>
                </a:lnTo>
                <a:lnTo>
                  <a:pt x="384" y="1013"/>
                </a:lnTo>
                <a:lnTo>
                  <a:pt x="359" y="1011"/>
                </a:lnTo>
                <a:lnTo>
                  <a:pt x="332" y="1009"/>
                </a:lnTo>
                <a:lnTo>
                  <a:pt x="307" y="1007"/>
                </a:lnTo>
                <a:lnTo>
                  <a:pt x="284" y="1002"/>
                </a:lnTo>
                <a:lnTo>
                  <a:pt x="259" y="996"/>
                </a:lnTo>
                <a:lnTo>
                  <a:pt x="236" y="990"/>
                </a:lnTo>
                <a:lnTo>
                  <a:pt x="211" y="982"/>
                </a:lnTo>
                <a:lnTo>
                  <a:pt x="190" y="973"/>
                </a:lnTo>
                <a:lnTo>
                  <a:pt x="167" y="963"/>
                </a:lnTo>
                <a:lnTo>
                  <a:pt x="146" y="952"/>
                </a:lnTo>
                <a:lnTo>
                  <a:pt x="125" y="940"/>
                </a:lnTo>
                <a:lnTo>
                  <a:pt x="103" y="927"/>
                </a:lnTo>
                <a:lnTo>
                  <a:pt x="84" y="913"/>
                </a:lnTo>
                <a:lnTo>
                  <a:pt x="65" y="898"/>
                </a:lnTo>
                <a:lnTo>
                  <a:pt x="48" y="883"/>
                </a:lnTo>
                <a:lnTo>
                  <a:pt x="31" y="865"/>
                </a:lnTo>
                <a:lnTo>
                  <a:pt x="13" y="848"/>
                </a:lnTo>
                <a:lnTo>
                  <a:pt x="0" y="833"/>
                </a:lnTo>
                <a:lnTo>
                  <a:pt x="0" y="835"/>
                </a:lnTo>
                <a:lnTo>
                  <a:pt x="0" y="836"/>
                </a:lnTo>
                <a:lnTo>
                  <a:pt x="0" y="838"/>
                </a:lnTo>
                <a:lnTo>
                  <a:pt x="0" y="840"/>
                </a:lnTo>
                <a:lnTo>
                  <a:pt x="0" y="842"/>
                </a:lnTo>
                <a:lnTo>
                  <a:pt x="0" y="844"/>
                </a:lnTo>
                <a:lnTo>
                  <a:pt x="0" y="846"/>
                </a:lnTo>
                <a:lnTo>
                  <a:pt x="0" y="850"/>
                </a:lnTo>
                <a:close/>
              </a:path>
            </a:pathLst>
          </a:custGeom>
          <a:solidFill>
            <a:srgbClr val="a0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Freeform 434"/>
          <p:cNvSpPr/>
          <p:nvPr/>
        </p:nvSpPr>
        <p:spPr>
          <a:xfrm>
            <a:off x="5734080" y="2440080"/>
            <a:ext cx="639720" cy="1604880"/>
          </a:xfrm>
          <a:custGeom>
            <a:avLst/>
            <a:gdLst>
              <a:gd name="textAreaLeft" fmla="*/ 0 w 639720"/>
              <a:gd name="textAreaRight" fmla="*/ 640080 w 63972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403" h="1011">
                <a:moveTo>
                  <a:pt x="384" y="0"/>
                </a:moveTo>
                <a:lnTo>
                  <a:pt x="384" y="0"/>
                </a:lnTo>
                <a:lnTo>
                  <a:pt x="359" y="2"/>
                </a:lnTo>
                <a:lnTo>
                  <a:pt x="332" y="4"/>
                </a:lnTo>
                <a:lnTo>
                  <a:pt x="307" y="5"/>
                </a:lnTo>
                <a:lnTo>
                  <a:pt x="282" y="11"/>
                </a:lnTo>
                <a:lnTo>
                  <a:pt x="257" y="17"/>
                </a:lnTo>
                <a:lnTo>
                  <a:pt x="234" y="23"/>
                </a:lnTo>
                <a:lnTo>
                  <a:pt x="211" y="30"/>
                </a:lnTo>
                <a:lnTo>
                  <a:pt x="188" y="40"/>
                </a:lnTo>
                <a:lnTo>
                  <a:pt x="165" y="50"/>
                </a:lnTo>
                <a:lnTo>
                  <a:pt x="144" y="61"/>
                </a:lnTo>
                <a:lnTo>
                  <a:pt x="121" y="73"/>
                </a:lnTo>
                <a:lnTo>
                  <a:pt x="102" y="86"/>
                </a:lnTo>
                <a:lnTo>
                  <a:pt x="96" y="92"/>
                </a:lnTo>
                <a:lnTo>
                  <a:pt x="94" y="94"/>
                </a:lnTo>
                <a:lnTo>
                  <a:pt x="94" y="96"/>
                </a:lnTo>
                <a:lnTo>
                  <a:pt x="94" y="98"/>
                </a:lnTo>
                <a:lnTo>
                  <a:pt x="92" y="99"/>
                </a:lnTo>
                <a:lnTo>
                  <a:pt x="92" y="101"/>
                </a:lnTo>
                <a:lnTo>
                  <a:pt x="92" y="103"/>
                </a:lnTo>
                <a:lnTo>
                  <a:pt x="92" y="105"/>
                </a:lnTo>
                <a:lnTo>
                  <a:pt x="90" y="107"/>
                </a:lnTo>
                <a:lnTo>
                  <a:pt x="107" y="96"/>
                </a:lnTo>
                <a:lnTo>
                  <a:pt x="127" y="82"/>
                </a:lnTo>
                <a:lnTo>
                  <a:pt x="148" y="71"/>
                </a:lnTo>
                <a:lnTo>
                  <a:pt x="169" y="59"/>
                </a:lnTo>
                <a:lnTo>
                  <a:pt x="192" y="50"/>
                </a:lnTo>
                <a:lnTo>
                  <a:pt x="213" y="40"/>
                </a:lnTo>
                <a:lnTo>
                  <a:pt x="236" y="32"/>
                </a:lnTo>
                <a:lnTo>
                  <a:pt x="261" y="27"/>
                </a:lnTo>
                <a:lnTo>
                  <a:pt x="284" y="21"/>
                </a:lnTo>
                <a:lnTo>
                  <a:pt x="309" y="17"/>
                </a:lnTo>
                <a:lnTo>
                  <a:pt x="334" y="13"/>
                </a:lnTo>
                <a:lnTo>
                  <a:pt x="359" y="11"/>
                </a:lnTo>
                <a:lnTo>
                  <a:pt x="380" y="11"/>
                </a:lnTo>
                <a:lnTo>
                  <a:pt x="380" y="9"/>
                </a:lnTo>
                <a:lnTo>
                  <a:pt x="382" y="7"/>
                </a:lnTo>
                <a:lnTo>
                  <a:pt x="382" y="7"/>
                </a:lnTo>
                <a:lnTo>
                  <a:pt x="382" y="5"/>
                </a:lnTo>
                <a:lnTo>
                  <a:pt x="382" y="4"/>
                </a:lnTo>
                <a:lnTo>
                  <a:pt x="384" y="4"/>
                </a:lnTo>
                <a:lnTo>
                  <a:pt x="384" y="2"/>
                </a:lnTo>
                <a:lnTo>
                  <a:pt x="384" y="0"/>
                </a:lnTo>
                <a:close/>
                <a:moveTo>
                  <a:pt x="0" y="834"/>
                </a:moveTo>
                <a:lnTo>
                  <a:pt x="9" y="846"/>
                </a:lnTo>
                <a:lnTo>
                  <a:pt x="27" y="863"/>
                </a:lnTo>
                <a:lnTo>
                  <a:pt x="44" y="880"/>
                </a:lnTo>
                <a:lnTo>
                  <a:pt x="63" y="896"/>
                </a:lnTo>
                <a:lnTo>
                  <a:pt x="80" y="911"/>
                </a:lnTo>
                <a:lnTo>
                  <a:pt x="102" y="925"/>
                </a:lnTo>
                <a:lnTo>
                  <a:pt x="121" y="938"/>
                </a:lnTo>
                <a:lnTo>
                  <a:pt x="144" y="949"/>
                </a:lnTo>
                <a:lnTo>
                  <a:pt x="165" y="961"/>
                </a:lnTo>
                <a:lnTo>
                  <a:pt x="188" y="972"/>
                </a:lnTo>
                <a:lnTo>
                  <a:pt x="211" y="980"/>
                </a:lnTo>
                <a:lnTo>
                  <a:pt x="234" y="988"/>
                </a:lnTo>
                <a:lnTo>
                  <a:pt x="257" y="996"/>
                </a:lnTo>
                <a:lnTo>
                  <a:pt x="282" y="1001"/>
                </a:lnTo>
                <a:lnTo>
                  <a:pt x="307" y="1005"/>
                </a:lnTo>
                <a:lnTo>
                  <a:pt x="332" y="1009"/>
                </a:lnTo>
                <a:lnTo>
                  <a:pt x="359" y="1011"/>
                </a:lnTo>
                <a:lnTo>
                  <a:pt x="384" y="1011"/>
                </a:lnTo>
                <a:lnTo>
                  <a:pt x="403" y="1011"/>
                </a:lnTo>
                <a:lnTo>
                  <a:pt x="401" y="1009"/>
                </a:lnTo>
                <a:lnTo>
                  <a:pt x="401" y="1009"/>
                </a:lnTo>
                <a:lnTo>
                  <a:pt x="401" y="1007"/>
                </a:lnTo>
                <a:lnTo>
                  <a:pt x="399" y="1005"/>
                </a:lnTo>
                <a:lnTo>
                  <a:pt x="399" y="1005"/>
                </a:lnTo>
                <a:lnTo>
                  <a:pt x="399" y="1003"/>
                </a:lnTo>
                <a:lnTo>
                  <a:pt x="399" y="1001"/>
                </a:lnTo>
                <a:lnTo>
                  <a:pt x="397" y="1001"/>
                </a:lnTo>
                <a:lnTo>
                  <a:pt x="384" y="1001"/>
                </a:lnTo>
                <a:lnTo>
                  <a:pt x="359" y="999"/>
                </a:lnTo>
                <a:lnTo>
                  <a:pt x="334" y="997"/>
                </a:lnTo>
                <a:lnTo>
                  <a:pt x="309" y="996"/>
                </a:lnTo>
                <a:lnTo>
                  <a:pt x="284" y="990"/>
                </a:lnTo>
                <a:lnTo>
                  <a:pt x="261" y="986"/>
                </a:lnTo>
                <a:lnTo>
                  <a:pt x="236" y="978"/>
                </a:lnTo>
                <a:lnTo>
                  <a:pt x="213" y="971"/>
                </a:lnTo>
                <a:lnTo>
                  <a:pt x="192" y="961"/>
                </a:lnTo>
                <a:lnTo>
                  <a:pt x="169" y="951"/>
                </a:lnTo>
                <a:lnTo>
                  <a:pt x="148" y="942"/>
                </a:lnTo>
                <a:lnTo>
                  <a:pt x="127" y="928"/>
                </a:lnTo>
                <a:lnTo>
                  <a:pt x="107" y="917"/>
                </a:lnTo>
                <a:lnTo>
                  <a:pt x="88" y="901"/>
                </a:lnTo>
                <a:lnTo>
                  <a:pt x="69" y="888"/>
                </a:lnTo>
                <a:lnTo>
                  <a:pt x="52" y="873"/>
                </a:lnTo>
                <a:lnTo>
                  <a:pt x="34" y="855"/>
                </a:lnTo>
                <a:lnTo>
                  <a:pt x="17" y="838"/>
                </a:lnTo>
                <a:lnTo>
                  <a:pt x="2" y="821"/>
                </a:lnTo>
                <a:lnTo>
                  <a:pt x="0" y="819"/>
                </a:lnTo>
                <a:lnTo>
                  <a:pt x="0" y="821"/>
                </a:lnTo>
                <a:lnTo>
                  <a:pt x="0" y="823"/>
                </a:lnTo>
                <a:lnTo>
                  <a:pt x="0" y="825"/>
                </a:lnTo>
                <a:lnTo>
                  <a:pt x="0" y="827"/>
                </a:lnTo>
                <a:lnTo>
                  <a:pt x="0" y="829"/>
                </a:lnTo>
                <a:lnTo>
                  <a:pt x="0" y="830"/>
                </a:lnTo>
                <a:lnTo>
                  <a:pt x="0" y="832"/>
                </a:lnTo>
                <a:lnTo>
                  <a:pt x="0" y="834"/>
                </a:lnTo>
                <a:close/>
              </a:path>
            </a:pathLst>
          </a:custGeom>
          <a:solidFill>
            <a:srgbClr val="a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Freeform 435"/>
          <p:cNvSpPr/>
          <p:nvPr/>
        </p:nvSpPr>
        <p:spPr>
          <a:xfrm>
            <a:off x="5734080" y="2448000"/>
            <a:ext cx="633240" cy="1590480"/>
          </a:xfrm>
          <a:custGeom>
            <a:avLst/>
            <a:gdLst>
              <a:gd name="textAreaLeft" fmla="*/ 0 w 633240"/>
              <a:gd name="textAreaRight" fmla="*/ 633600 w 633240"/>
              <a:gd name="textAreaTop" fmla="*/ 0 h 1590480"/>
              <a:gd name="textAreaBottom" fmla="*/ 1590840 h 1590480"/>
            </a:gdLst>
            <a:ahLst/>
            <a:rect l="textAreaLeft" t="textAreaTop" r="textAreaRight" b="textAreaBottom"/>
            <a:pathLst>
              <a:path w="399" h="1002">
                <a:moveTo>
                  <a:pt x="382" y="0"/>
                </a:moveTo>
                <a:lnTo>
                  <a:pt x="359" y="0"/>
                </a:lnTo>
                <a:lnTo>
                  <a:pt x="332" y="2"/>
                </a:lnTo>
                <a:lnTo>
                  <a:pt x="307" y="6"/>
                </a:lnTo>
                <a:lnTo>
                  <a:pt x="284" y="10"/>
                </a:lnTo>
                <a:lnTo>
                  <a:pt x="259" y="16"/>
                </a:lnTo>
                <a:lnTo>
                  <a:pt x="236" y="23"/>
                </a:lnTo>
                <a:lnTo>
                  <a:pt x="211" y="31"/>
                </a:lnTo>
                <a:lnTo>
                  <a:pt x="190" y="41"/>
                </a:lnTo>
                <a:lnTo>
                  <a:pt x="167" y="50"/>
                </a:lnTo>
                <a:lnTo>
                  <a:pt x="146" y="60"/>
                </a:lnTo>
                <a:lnTo>
                  <a:pt x="125" y="73"/>
                </a:lnTo>
                <a:lnTo>
                  <a:pt x="103" y="87"/>
                </a:lnTo>
                <a:lnTo>
                  <a:pt x="92" y="94"/>
                </a:lnTo>
                <a:lnTo>
                  <a:pt x="92" y="96"/>
                </a:lnTo>
                <a:lnTo>
                  <a:pt x="92" y="98"/>
                </a:lnTo>
                <a:lnTo>
                  <a:pt x="92" y="100"/>
                </a:lnTo>
                <a:lnTo>
                  <a:pt x="90" y="102"/>
                </a:lnTo>
                <a:lnTo>
                  <a:pt x="90" y="104"/>
                </a:lnTo>
                <a:lnTo>
                  <a:pt x="90" y="106"/>
                </a:lnTo>
                <a:lnTo>
                  <a:pt x="90" y="108"/>
                </a:lnTo>
                <a:lnTo>
                  <a:pt x="88" y="110"/>
                </a:lnTo>
                <a:lnTo>
                  <a:pt x="90" y="108"/>
                </a:lnTo>
                <a:lnTo>
                  <a:pt x="109" y="94"/>
                </a:lnTo>
                <a:lnTo>
                  <a:pt x="130" y="83"/>
                </a:lnTo>
                <a:lnTo>
                  <a:pt x="150" y="70"/>
                </a:lnTo>
                <a:lnTo>
                  <a:pt x="171" y="60"/>
                </a:lnTo>
                <a:lnTo>
                  <a:pt x="194" y="50"/>
                </a:lnTo>
                <a:lnTo>
                  <a:pt x="215" y="41"/>
                </a:lnTo>
                <a:lnTo>
                  <a:pt x="238" y="33"/>
                </a:lnTo>
                <a:lnTo>
                  <a:pt x="261" y="27"/>
                </a:lnTo>
                <a:lnTo>
                  <a:pt x="286" y="22"/>
                </a:lnTo>
                <a:lnTo>
                  <a:pt x="309" y="16"/>
                </a:lnTo>
                <a:lnTo>
                  <a:pt x="334" y="14"/>
                </a:lnTo>
                <a:lnTo>
                  <a:pt x="359" y="12"/>
                </a:lnTo>
                <a:lnTo>
                  <a:pt x="378" y="12"/>
                </a:lnTo>
                <a:lnTo>
                  <a:pt x="378" y="10"/>
                </a:lnTo>
                <a:lnTo>
                  <a:pt x="380" y="8"/>
                </a:lnTo>
                <a:lnTo>
                  <a:pt x="380" y="8"/>
                </a:lnTo>
                <a:lnTo>
                  <a:pt x="380" y="6"/>
                </a:lnTo>
                <a:lnTo>
                  <a:pt x="380" y="4"/>
                </a:lnTo>
                <a:lnTo>
                  <a:pt x="382" y="2"/>
                </a:lnTo>
                <a:lnTo>
                  <a:pt x="382" y="2"/>
                </a:lnTo>
                <a:lnTo>
                  <a:pt x="382" y="0"/>
                </a:lnTo>
                <a:close/>
                <a:moveTo>
                  <a:pt x="0" y="822"/>
                </a:moveTo>
                <a:lnTo>
                  <a:pt x="13" y="837"/>
                </a:lnTo>
                <a:lnTo>
                  <a:pt x="31" y="854"/>
                </a:lnTo>
                <a:lnTo>
                  <a:pt x="48" y="872"/>
                </a:lnTo>
                <a:lnTo>
                  <a:pt x="65" y="887"/>
                </a:lnTo>
                <a:lnTo>
                  <a:pt x="84" y="902"/>
                </a:lnTo>
                <a:lnTo>
                  <a:pt x="103" y="916"/>
                </a:lnTo>
                <a:lnTo>
                  <a:pt x="125" y="929"/>
                </a:lnTo>
                <a:lnTo>
                  <a:pt x="146" y="941"/>
                </a:lnTo>
                <a:lnTo>
                  <a:pt x="167" y="952"/>
                </a:lnTo>
                <a:lnTo>
                  <a:pt x="190" y="962"/>
                </a:lnTo>
                <a:lnTo>
                  <a:pt x="211" y="971"/>
                </a:lnTo>
                <a:lnTo>
                  <a:pt x="236" y="979"/>
                </a:lnTo>
                <a:lnTo>
                  <a:pt x="259" y="985"/>
                </a:lnTo>
                <a:lnTo>
                  <a:pt x="284" y="991"/>
                </a:lnTo>
                <a:lnTo>
                  <a:pt x="307" y="996"/>
                </a:lnTo>
                <a:lnTo>
                  <a:pt x="332" y="998"/>
                </a:lnTo>
                <a:lnTo>
                  <a:pt x="359" y="1000"/>
                </a:lnTo>
                <a:lnTo>
                  <a:pt x="384" y="1002"/>
                </a:lnTo>
                <a:lnTo>
                  <a:pt x="399" y="1000"/>
                </a:lnTo>
                <a:lnTo>
                  <a:pt x="399" y="1000"/>
                </a:lnTo>
                <a:lnTo>
                  <a:pt x="399" y="998"/>
                </a:lnTo>
                <a:lnTo>
                  <a:pt x="399" y="996"/>
                </a:lnTo>
                <a:lnTo>
                  <a:pt x="397" y="996"/>
                </a:lnTo>
                <a:lnTo>
                  <a:pt x="397" y="994"/>
                </a:lnTo>
                <a:lnTo>
                  <a:pt x="397" y="992"/>
                </a:lnTo>
                <a:lnTo>
                  <a:pt x="395" y="991"/>
                </a:lnTo>
                <a:lnTo>
                  <a:pt x="395" y="991"/>
                </a:lnTo>
                <a:lnTo>
                  <a:pt x="384" y="991"/>
                </a:lnTo>
                <a:lnTo>
                  <a:pt x="359" y="991"/>
                </a:lnTo>
                <a:lnTo>
                  <a:pt x="334" y="989"/>
                </a:lnTo>
                <a:lnTo>
                  <a:pt x="309" y="985"/>
                </a:lnTo>
                <a:lnTo>
                  <a:pt x="286" y="981"/>
                </a:lnTo>
                <a:lnTo>
                  <a:pt x="261" y="975"/>
                </a:lnTo>
                <a:lnTo>
                  <a:pt x="238" y="967"/>
                </a:lnTo>
                <a:lnTo>
                  <a:pt x="215" y="960"/>
                </a:lnTo>
                <a:lnTo>
                  <a:pt x="194" y="952"/>
                </a:lnTo>
                <a:lnTo>
                  <a:pt x="171" y="943"/>
                </a:lnTo>
                <a:lnTo>
                  <a:pt x="150" y="931"/>
                </a:lnTo>
                <a:lnTo>
                  <a:pt x="130" y="920"/>
                </a:lnTo>
                <a:lnTo>
                  <a:pt x="109" y="906"/>
                </a:lnTo>
                <a:lnTo>
                  <a:pt x="90" y="893"/>
                </a:lnTo>
                <a:lnTo>
                  <a:pt x="73" y="879"/>
                </a:lnTo>
                <a:lnTo>
                  <a:pt x="55" y="864"/>
                </a:lnTo>
                <a:lnTo>
                  <a:pt x="38" y="847"/>
                </a:lnTo>
                <a:lnTo>
                  <a:pt x="21" y="829"/>
                </a:lnTo>
                <a:lnTo>
                  <a:pt x="6" y="812"/>
                </a:lnTo>
                <a:lnTo>
                  <a:pt x="0" y="804"/>
                </a:lnTo>
                <a:lnTo>
                  <a:pt x="0" y="806"/>
                </a:lnTo>
                <a:lnTo>
                  <a:pt x="0" y="808"/>
                </a:lnTo>
                <a:lnTo>
                  <a:pt x="0" y="810"/>
                </a:lnTo>
                <a:lnTo>
                  <a:pt x="0" y="814"/>
                </a:lnTo>
                <a:lnTo>
                  <a:pt x="0" y="816"/>
                </a:lnTo>
                <a:lnTo>
                  <a:pt x="0" y="818"/>
                </a:lnTo>
                <a:lnTo>
                  <a:pt x="0" y="820"/>
                </a:lnTo>
                <a:lnTo>
                  <a:pt x="0" y="822"/>
                </a:lnTo>
                <a:close/>
              </a:path>
            </a:pathLst>
          </a:custGeom>
          <a:solidFill>
            <a:srgbClr val="a2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Freeform 436"/>
          <p:cNvSpPr/>
          <p:nvPr/>
        </p:nvSpPr>
        <p:spPr>
          <a:xfrm>
            <a:off x="5734080" y="2457360"/>
            <a:ext cx="630360" cy="1571760"/>
          </a:xfrm>
          <a:custGeom>
            <a:avLst/>
            <a:gdLst>
              <a:gd name="textAreaLeft" fmla="*/ 0 w 630360"/>
              <a:gd name="textAreaRight" fmla="*/ 630360 w 630360"/>
              <a:gd name="textAreaTop" fmla="*/ 0 h 1571760"/>
              <a:gd name="textAreaBottom" fmla="*/ 1572120 h 1571760"/>
            </a:gdLst>
            <a:ahLst/>
            <a:rect l="textAreaLeft" t="textAreaTop" r="textAreaRight" b="textAreaBottom"/>
            <a:pathLst>
              <a:path w="397" h="990">
                <a:moveTo>
                  <a:pt x="380" y="0"/>
                </a:moveTo>
                <a:lnTo>
                  <a:pt x="359" y="0"/>
                </a:lnTo>
                <a:lnTo>
                  <a:pt x="334" y="2"/>
                </a:lnTo>
                <a:lnTo>
                  <a:pt x="309" y="6"/>
                </a:lnTo>
                <a:lnTo>
                  <a:pt x="284" y="10"/>
                </a:lnTo>
                <a:lnTo>
                  <a:pt x="261" y="16"/>
                </a:lnTo>
                <a:lnTo>
                  <a:pt x="236" y="21"/>
                </a:lnTo>
                <a:lnTo>
                  <a:pt x="213" y="29"/>
                </a:lnTo>
                <a:lnTo>
                  <a:pt x="192" y="39"/>
                </a:lnTo>
                <a:lnTo>
                  <a:pt x="169" y="48"/>
                </a:lnTo>
                <a:lnTo>
                  <a:pt x="148" y="60"/>
                </a:lnTo>
                <a:lnTo>
                  <a:pt x="127" y="71"/>
                </a:lnTo>
                <a:lnTo>
                  <a:pt x="107" y="85"/>
                </a:lnTo>
                <a:lnTo>
                  <a:pt x="90" y="96"/>
                </a:lnTo>
                <a:lnTo>
                  <a:pt x="90" y="98"/>
                </a:lnTo>
                <a:lnTo>
                  <a:pt x="90" y="100"/>
                </a:lnTo>
                <a:lnTo>
                  <a:pt x="90" y="102"/>
                </a:lnTo>
                <a:lnTo>
                  <a:pt x="88" y="104"/>
                </a:lnTo>
                <a:lnTo>
                  <a:pt x="88" y="106"/>
                </a:lnTo>
                <a:lnTo>
                  <a:pt x="88" y="108"/>
                </a:lnTo>
                <a:lnTo>
                  <a:pt x="86" y="110"/>
                </a:lnTo>
                <a:lnTo>
                  <a:pt x="86" y="113"/>
                </a:lnTo>
                <a:lnTo>
                  <a:pt x="94" y="106"/>
                </a:lnTo>
                <a:lnTo>
                  <a:pt x="113" y="92"/>
                </a:lnTo>
                <a:lnTo>
                  <a:pt x="132" y="81"/>
                </a:lnTo>
                <a:lnTo>
                  <a:pt x="153" y="69"/>
                </a:lnTo>
                <a:lnTo>
                  <a:pt x="174" y="58"/>
                </a:lnTo>
                <a:lnTo>
                  <a:pt x="196" y="48"/>
                </a:lnTo>
                <a:lnTo>
                  <a:pt x="217" y="41"/>
                </a:lnTo>
                <a:lnTo>
                  <a:pt x="240" y="33"/>
                </a:lnTo>
                <a:lnTo>
                  <a:pt x="263" y="25"/>
                </a:lnTo>
                <a:lnTo>
                  <a:pt x="286" y="19"/>
                </a:lnTo>
                <a:lnTo>
                  <a:pt x="311" y="16"/>
                </a:lnTo>
                <a:lnTo>
                  <a:pt x="334" y="14"/>
                </a:lnTo>
                <a:lnTo>
                  <a:pt x="359" y="12"/>
                </a:lnTo>
                <a:lnTo>
                  <a:pt x="376" y="10"/>
                </a:lnTo>
                <a:lnTo>
                  <a:pt x="376" y="10"/>
                </a:lnTo>
                <a:lnTo>
                  <a:pt x="378" y="8"/>
                </a:lnTo>
                <a:lnTo>
                  <a:pt x="378" y="6"/>
                </a:lnTo>
                <a:lnTo>
                  <a:pt x="378" y="6"/>
                </a:lnTo>
                <a:lnTo>
                  <a:pt x="378" y="4"/>
                </a:lnTo>
                <a:lnTo>
                  <a:pt x="380" y="2"/>
                </a:lnTo>
                <a:lnTo>
                  <a:pt x="380" y="2"/>
                </a:lnTo>
                <a:lnTo>
                  <a:pt x="380" y="0"/>
                </a:lnTo>
                <a:close/>
                <a:moveTo>
                  <a:pt x="0" y="808"/>
                </a:moveTo>
                <a:lnTo>
                  <a:pt x="2" y="810"/>
                </a:lnTo>
                <a:lnTo>
                  <a:pt x="17" y="827"/>
                </a:lnTo>
                <a:lnTo>
                  <a:pt x="34" y="844"/>
                </a:lnTo>
                <a:lnTo>
                  <a:pt x="52" y="862"/>
                </a:lnTo>
                <a:lnTo>
                  <a:pt x="69" y="877"/>
                </a:lnTo>
                <a:lnTo>
                  <a:pt x="88" y="890"/>
                </a:lnTo>
                <a:lnTo>
                  <a:pt x="107" y="906"/>
                </a:lnTo>
                <a:lnTo>
                  <a:pt x="127" y="917"/>
                </a:lnTo>
                <a:lnTo>
                  <a:pt x="148" y="931"/>
                </a:lnTo>
                <a:lnTo>
                  <a:pt x="169" y="940"/>
                </a:lnTo>
                <a:lnTo>
                  <a:pt x="192" y="950"/>
                </a:lnTo>
                <a:lnTo>
                  <a:pt x="213" y="960"/>
                </a:lnTo>
                <a:lnTo>
                  <a:pt x="236" y="967"/>
                </a:lnTo>
                <a:lnTo>
                  <a:pt x="261" y="975"/>
                </a:lnTo>
                <a:lnTo>
                  <a:pt x="284" y="979"/>
                </a:lnTo>
                <a:lnTo>
                  <a:pt x="309" y="985"/>
                </a:lnTo>
                <a:lnTo>
                  <a:pt x="334" y="986"/>
                </a:lnTo>
                <a:lnTo>
                  <a:pt x="359" y="988"/>
                </a:lnTo>
                <a:lnTo>
                  <a:pt x="384" y="990"/>
                </a:lnTo>
                <a:lnTo>
                  <a:pt x="397" y="990"/>
                </a:lnTo>
                <a:lnTo>
                  <a:pt x="397" y="988"/>
                </a:lnTo>
                <a:lnTo>
                  <a:pt x="397" y="986"/>
                </a:lnTo>
                <a:lnTo>
                  <a:pt x="395" y="985"/>
                </a:lnTo>
                <a:lnTo>
                  <a:pt x="395" y="985"/>
                </a:lnTo>
                <a:lnTo>
                  <a:pt x="395" y="983"/>
                </a:lnTo>
                <a:lnTo>
                  <a:pt x="395" y="981"/>
                </a:lnTo>
                <a:lnTo>
                  <a:pt x="393" y="981"/>
                </a:lnTo>
                <a:lnTo>
                  <a:pt x="393" y="979"/>
                </a:lnTo>
                <a:lnTo>
                  <a:pt x="384" y="979"/>
                </a:lnTo>
                <a:lnTo>
                  <a:pt x="359" y="979"/>
                </a:lnTo>
                <a:lnTo>
                  <a:pt x="334" y="977"/>
                </a:lnTo>
                <a:lnTo>
                  <a:pt x="311" y="973"/>
                </a:lnTo>
                <a:lnTo>
                  <a:pt x="286" y="969"/>
                </a:lnTo>
                <a:lnTo>
                  <a:pt x="263" y="963"/>
                </a:lnTo>
                <a:lnTo>
                  <a:pt x="240" y="958"/>
                </a:lnTo>
                <a:lnTo>
                  <a:pt x="217" y="950"/>
                </a:lnTo>
                <a:lnTo>
                  <a:pt x="196" y="940"/>
                </a:lnTo>
                <a:lnTo>
                  <a:pt x="174" y="931"/>
                </a:lnTo>
                <a:lnTo>
                  <a:pt x="153" y="921"/>
                </a:lnTo>
                <a:lnTo>
                  <a:pt x="132" y="910"/>
                </a:lnTo>
                <a:lnTo>
                  <a:pt x="113" y="896"/>
                </a:lnTo>
                <a:lnTo>
                  <a:pt x="94" y="883"/>
                </a:lnTo>
                <a:lnTo>
                  <a:pt x="77" y="869"/>
                </a:lnTo>
                <a:lnTo>
                  <a:pt x="57" y="854"/>
                </a:lnTo>
                <a:lnTo>
                  <a:pt x="42" y="837"/>
                </a:lnTo>
                <a:lnTo>
                  <a:pt x="25" y="819"/>
                </a:lnTo>
                <a:lnTo>
                  <a:pt x="9" y="802"/>
                </a:lnTo>
                <a:lnTo>
                  <a:pt x="0" y="791"/>
                </a:lnTo>
                <a:lnTo>
                  <a:pt x="0" y="793"/>
                </a:lnTo>
                <a:lnTo>
                  <a:pt x="0" y="795"/>
                </a:lnTo>
                <a:lnTo>
                  <a:pt x="0" y="796"/>
                </a:lnTo>
                <a:lnTo>
                  <a:pt x="0" y="798"/>
                </a:lnTo>
                <a:lnTo>
                  <a:pt x="0" y="800"/>
                </a:lnTo>
                <a:lnTo>
                  <a:pt x="0" y="802"/>
                </a:lnTo>
                <a:lnTo>
                  <a:pt x="0" y="806"/>
                </a:lnTo>
                <a:lnTo>
                  <a:pt x="0" y="808"/>
                </a:lnTo>
                <a:close/>
              </a:path>
            </a:pathLst>
          </a:custGeom>
          <a:solidFill>
            <a:srgbClr val="a3d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Freeform 437"/>
          <p:cNvSpPr/>
          <p:nvPr/>
        </p:nvSpPr>
        <p:spPr>
          <a:xfrm>
            <a:off x="5734080" y="2467080"/>
            <a:ext cx="627120" cy="1554120"/>
          </a:xfrm>
          <a:custGeom>
            <a:avLst/>
            <a:gdLst>
              <a:gd name="textAreaLeft" fmla="*/ 0 w 627120"/>
              <a:gd name="textAreaRight" fmla="*/ 627480 w 62712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395" h="979">
                <a:moveTo>
                  <a:pt x="378" y="0"/>
                </a:moveTo>
                <a:lnTo>
                  <a:pt x="359" y="0"/>
                </a:lnTo>
                <a:lnTo>
                  <a:pt x="334" y="2"/>
                </a:lnTo>
                <a:lnTo>
                  <a:pt x="309" y="4"/>
                </a:lnTo>
                <a:lnTo>
                  <a:pt x="286" y="10"/>
                </a:lnTo>
                <a:lnTo>
                  <a:pt x="261" y="15"/>
                </a:lnTo>
                <a:lnTo>
                  <a:pt x="238" y="21"/>
                </a:lnTo>
                <a:lnTo>
                  <a:pt x="215" y="29"/>
                </a:lnTo>
                <a:lnTo>
                  <a:pt x="194" y="38"/>
                </a:lnTo>
                <a:lnTo>
                  <a:pt x="171" y="48"/>
                </a:lnTo>
                <a:lnTo>
                  <a:pt x="150" y="58"/>
                </a:lnTo>
                <a:lnTo>
                  <a:pt x="130" y="71"/>
                </a:lnTo>
                <a:lnTo>
                  <a:pt x="109" y="82"/>
                </a:lnTo>
                <a:lnTo>
                  <a:pt x="90" y="96"/>
                </a:lnTo>
                <a:lnTo>
                  <a:pt x="88" y="98"/>
                </a:lnTo>
                <a:lnTo>
                  <a:pt x="88" y="100"/>
                </a:lnTo>
                <a:lnTo>
                  <a:pt x="88" y="102"/>
                </a:lnTo>
                <a:lnTo>
                  <a:pt x="86" y="104"/>
                </a:lnTo>
                <a:lnTo>
                  <a:pt x="86" y="107"/>
                </a:lnTo>
                <a:lnTo>
                  <a:pt x="86" y="109"/>
                </a:lnTo>
                <a:lnTo>
                  <a:pt x="86" y="111"/>
                </a:lnTo>
                <a:lnTo>
                  <a:pt x="84" y="113"/>
                </a:lnTo>
                <a:lnTo>
                  <a:pt x="84" y="115"/>
                </a:lnTo>
                <a:lnTo>
                  <a:pt x="98" y="106"/>
                </a:lnTo>
                <a:lnTo>
                  <a:pt x="117" y="92"/>
                </a:lnTo>
                <a:lnTo>
                  <a:pt x="136" y="79"/>
                </a:lnTo>
                <a:lnTo>
                  <a:pt x="155" y="67"/>
                </a:lnTo>
                <a:lnTo>
                  <a:pt x="176" y="58"/>
                </a:lnTo>
                <a:lnTo>
                  <a:pt x="198" y="48"/>
                </a:lnTo>
                <a:lnTo>
                  <a:pt x="219" y="38"/>
                </a:lnTo>
                <a:lnTo>
                  <a:pt x="242" y="31"/>
                </a:lnTo>
                <a:lnTo>
                  <a:pt x="265" y="25"/>
                </a:lnTo>
                <a:lnTo>
                  <a:pt x="288" y="19"/>
                </a:lnTo>
                <a:lnTo>
                  <a:pt x="311" y="15"/>
                </a:lnTo>
                <a:lnTo>
                  <a:pt x="336" y="11"/>
                </a:lnTo>
                <a:lnTo>
                  <a:pt x="359" y="10"/>
                </a:lnTo>
                <a:lnTo>
                  <a:pt x="374" y="10"/>
                </a:lnTo>
                <a:lnTo>
                  <a:pt x="374" y="10"/>
                </a:lnTo>
                <a:lnTo>
                  <a:pt x="374" y="8"/>
                </a:lnTo>
                <a:lnTo>
                  <a:pt x="376" y="6"/>
                </a:lnTo>
                <a:lnTo>
                  <a:pt x="376" y="4"/>
                </a:lnTo>
                <a:lnTo>
                  <a:pt x="376" y="4"/>
                </a:lnTo>
                <a:lnTo>
                  <a:pt x="376" y="2"/>
                </a:lnTo>
                <a:lnTo>
                  <a:pt x="378" y="0"/>
                </a:lnTo>
                <a:lnTo>
                  <a:pt x="378" y="0"/>
                </a:lnTo>
                <a:close/>
                <a:moveTo>
                  <a:pt x="0" y="792"/>
                </a:moveTo>
                <a:lnTo>
                  <a:pt x="6" y="800"/>
                </a:lnTo>
                <a:lnTo>
                  <a:pt x="21" y="817"/>
                </a:lnTo>
                <a:lnTo>
                  <a:pt x="38" y="835"/>
                </a:lnTo>
                <a:lnTo>
                  <a:pt x="55" y="852"/>
                </a:lnTo>
                <a:lnTo>
                  <a:pt x="73" y="867"/>
                </a:lnTo>
                <a:lnTo>
                  <a:pt x="90" y="881"/>
                </a:lnTo>
                <a:lnTo>
                  <a:pt x="109" y="894"/>
                </a:lnTo>
                <a:lnTo>
                  <a:pt x="130" y="908"/>
                </a:lnTo>
                <a:lnTo>
                  <a:pt x="150" y="919"/>
                </a:lnTo>
                <a:lnTo>
                  <a:pt x="171" y="931"/>
                </a:lnTo>
                <a:lnTo>
                  <a:pt x="194" y="940"/>
                </a:lnTo>
                <a:lnTo>
                  <a:pt x="215" y="948"/>
                </a:lnTo>
                <a:lnTo>
                  <a:pt x="238" y="955"/>
                </a:lnTo>
                <a:lnTo>
                  <a:pt x="261" y="963"/>
                </a:lnTo>
                <a:lnTo>
                  <a:pt x="286" y="969"/>
                </a:lnTo>
                <a:lnTo>
                  <a:pt x="309" y="973"/>
                </a:lnTo>
                <a:lnTo>
                  <a:pt x="334" y="977"/>
                </a:lnTo>
                <a:lnTo>
                  <a:pt x="359" y="979"/>
                </a:lnTo>
                <a:lnTo>
                  <a:pt x="384" y="979"/>
                </a:lnTo>
                <a:lnTo>
                  <a:pt x="395" y="979"/>
                </a:lnTo>
                <a:lnTo>
                  <a:pt x="395" y="977"/>
                </a:lnTo>
                <a:lnTo>
                  <a:pt x="395" y="975"/>
                </a:lnTo>
                <a:lnTo>
                  <a:pt x="393" y="975"/>
                </a:lnTo>
                <a:lnTo>
                  <a:pt x="393" y="973"/>
                </a:lnTo>
                <a:lnTo>
                  <a:pt x="393" y="971"/>
                </a:lnTo>
                <a:lnTo>
                  <a:pt x="391" y="971"/>
                </a:lnTo>
                <a:lnTo>
                  <a:pt x="391" y="969"/>
                </a:lnTo>
                <a:lnTo>
                  <a:pt x="391" y="967"/>
                </a:lnTo>
                <a:lnTo>
                  <a:pt x="384" y="967"/>
                </a:lnTo>
                <a:lnTo>
                  <a:pt x="359" y="967"/>
                </a:lnTo>
                <a:lnTo>
                  <a:pt x="336" y="965"/>
                </a:lnTo>
                <a:lnTo>
                  <a:pt x="311" y="963"/>
                </a:lnTo>
                <a:lnTo>
                  <a:pt x="288" y="957"/>
                </a:lnTo>
                <a:lnTo>
                  <a:pt x="265" y="954"/>
                </a:lnTo>
                <a:lnTo>
                  <a:pt x="242" y="946"/>
                </a:lnTo>
                <a:lnTo>
                  <a:pt x="219" y="938"/>
                </a:lnTo>
                <a:lnTo>
                  <a:pt x="198" y="931"/>
                </a:lnTo>
                <a:lnTo>
                  <a:pt x="176" y="921"/>
                </a:lnTo>
                <a:lnTo>
                  <a:pt x="155" y="909"/>
                </a:lnTo>
                <a:lnTo>
                  <a:pt x="136" y="898"/>
                </a:lnTo>
                <a:lnTo>
                  <a:pt x="117" y="886"/>
                </a:lnTo>
                <a:lnTo>
                  <a:pt x="98" y="873"/>
                </a:lnTo>
                <a:lnTo>
                  <a:pt x="79" y="858"/>
                </a:lnTo>
                <a:lnTo>
                  <a:pt x="61" y="844"/>
                </a:lnTo>
                <a:lnTo>
                  <a:pt x="46" y="827"/>
                </a:lnTo>
                <a:lnTo>
                  <a:pt x="29" y="812"/>
                </a:lnTo>
                <a:lnTo>
                  <a:pt x="13" y="794"/>
                </a:lnTo>
                <a:lnTo>
                  <a:pt x="0" y="775"/>
                </a:lnTo>
                <a:lnTo>
                  <a:pt x="0" y="777"/>
                </a:lnTo>
                <a:lnTo>
                  <a:pt x="0" y="779"/>
                </a:lnTo>
                <a:lnTo>
                  <a:pt x="0" y="783"/>
                </a:lnTo>
                <a:lnTo>
                  <a:pt x="0" y="785"/>
                </a:lnTo>
                <a:lnTo>
                  <a:pt x="0" y="787"/>
                </a:lnTo>
                <a:lnTo>
                  <a:pt x="0" y="789"/>
                </a:lnTo>
                <a:lnTo>
                  <a:pt x="0" y="790"/>
                </a:lnTo>
                <a:lnTo>
                  <a:pt x="0" y="792"/>
                </a:lnTo>
                <a:close/>
              </a:path>
            </a:pathLst>
          </a:custGeom>
          <a:solidFill>
            <a:srgbClr val="a4d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Freeform 438"/>
          <p:cNvSpPr/>
          <p:nvPr/>
        </p:nvSpPr>
        <p:spPr>
          <a:xfrm>
            <a:off x="5734080" y="2473200"/>
            <a:ext cx="623880" cy="1538280"/>
          </a:xfrm>
          <a:custGeom>
            <a:avLst/>
            <a:gdLst>
              <a:gd name="textAreaLeft" fmla="*/ 0 w 623880"/>
              <a:gd name="textAreaRight" fmla="*/ 624240 w 62388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w="393" h="969">
                <a:moveTo>
                  <a:pt x="376" y="0"/>
                </a:moveTo>
                <a:lnTo>
                  <a:pt x="359" y="2"/>
                </a:lnTo>
                <a:lnTo>
                  <a:pt x="334" y="4"/>
                </a:lnTo>
                <a:lnTo>
                  <a:pt x="311" y="6"/>
                </a:lnTo>
                <a:lnTo>
                  <a:pt x="286" y="9"/>
                </a:lnTo>
                <a:lnTo>
                  <a:pt x="263" y="15"/>
                </a:lnTo>
                <a:lnTo>
                  <a:pt x="240" y="23"/>
                </a:lnTo>
                <a:lnTo>
                  <a:pt x="217" y="31"/>
                </a:lnTo>
                <a:lnTo>
                  <a:pt x="196" y="38"/>
                </a:lnTo>
                <a:lnTo>
                  <a:pt x="174" y="48"/>
                </a:lnTo>
                <a:lnTo>
                  <a:pt x="153" y="59"/>
                </a:lnTo>
                <a:lnTo>
                  <a:pt x="132" y="71"/>
                </a:lnTo>
                <a:lnTo>
                  <a:pt x="113" y="82"/>
                </a:lnTo>
                <a:lnTo>
                  <a:pt x="94" y="96"/>
                </a:lnTo>
                <a:lnTo>
                  <a:pt x="86" y="103"/>
                </a:lnTo>
                <a:lnTo>
                  <a:pt x="86" y="105"/>
                </a:lnTo>
                <a:lnTo>
                  <a:pt x="86" y="107"/>
                </a:lnTo>
                <a:lnTo>
                  <a:pt x="84" y="109"/>
                </a:lnTo>
                <a:lnTo>
                  <a:pt x="84" y="111"/>
                </a:lnTo>
                <a:lnTo>
                  <a:pt x="84" y="113"/>
                </a:lnTo>
                <a:lnTo>
                  <a:pt x="84" y="115"/>
                </a:lnTo>
                <a:lnTo>
                  <a:pt x="82" y="117"/>
                </a:lnTo>
                <a:lnTo>
                  <a:pt x="82" y="119"/>
                </a:lnTo>
                <a:lnTo>
                  <a:pt x="100" y="105"/>
                </a:lnTo>
                <a:lnTo>
                  <a:pt x="119" y="92"/>
                </a:lnTo>
                <a:lnTo>
                  <a:pt x="138" y="80"/>
                </a:lnTo>
                <a:lnTo>
                  <a:pt x="157" y="69"/>
                </a:lnTo>
                <a:lnTo>
                  <a:pt x="178" y="57"/>
                </a:lnTo>
                <a:lnTo>
                  <a:pt x="199" y="48"/>
                </a:lnTo>
                <a:lnTo>
                  <a:pt x="221" y="40"/>
                </a:lnTo>
                <a:lnTo>
                  <a:pt x="244" y="32"/>
                </a:lnTo>
                <a:lnTo>
                  <a:pt x="265" y="27"/>
                </a:lnTo>
                <a:lnTo>
                  <a:pt x="288" y="21"/>
                </a:lnTo>
                <a:lnTo>
                  <a:pt x="311" y="17"/>
                </a:lnTo>
                <a:lnTo>
                  <a:pt x="336" y="13"/>
                </a:lnTo>
                <a:lnTo>
                  <a:pt x="359" y="11"/>
                </a:lnTo>
                <a:lnTo>
                  <a:pt x="372" y="11"/>
                </a:lnTo>
                <a:lnTo>
                  <a:pt x="372" y="9"/>
                </a:lnTo>
                <a:lnTo>
                  <a:pt x="372" y="9"/>
                </a:lnTo>
                <a:lnTo>
                  <a:pt x="374" y="7"/>
                </a:lnTo>
                <a:lnTo>
                  <a:pt x="374" y="6"/>
                </a:lnTo>
                <a:lnTo>
                  <a:pt x="374" y="6"/>
                </a:lnTo>
                <a:lnTo>
                  <a:pt x="374" y="4"/>
                </a:lnTo>
                <a:lnTo>
                  <a:pt x="376" y="2"/>
                </a:lnTo>
                <a:lnTo>
                  <a:pt x="376" y="0"/>
                </a:lnTo>
                <a:close/>
                <a:moveTo>
                  <a:pt x="0" y="781"/>
                </a:moveTo>
                <a:lnTo>
                  <a:pt x="9" y="792"/>
                </a:lnTo>
                <a:lnTo>
                  <a:pt x="25" y="809"/>
                </a:lnTo>
                <a:lnTo>
                  <a:pt x="42" y="827"/>
                </a:lnTo>
                <a:lnTo>
                  <a:pt x="57" y="844"/>
                </a:lnTo>
                <a:lnTo>
                  <a:pt x="77" y="859"/>
                </a:lnTo>
                <a:lnTo>
                  <a:pt x="94" y="873"/>
                </a:lnTo>
                <a:lnTo>
                  <a:pt x="113" y="886"/>
                </a:lnTo>
                <a:lnTo>
                  <a:pt x="132" y="900"/>
                </a:lnTo>
                <a:lnTo>
                  <a:pt x="153" y="911"/>
                </a:lnTo>
                <a:lnTo>
                  <a:pt x="174" y="921"/>
                </a:lnTo>
                <a:lnTo>
                  <a:pt x="196" y="930"/>
                </a:lnTo>
                <a:lnTo>
                  <a:pt x="217" y="940"/>
                </a:lnTo>
                <a:lnTo>
                  <a:pt x="240" y="948"/>
                </a:lnTo>
                <a:lnTo>
                  <a:pt x="263" y="953"/>
                </a:lnTo>
                <a:lnTo>
                  <a:pt x="286" y="959"/>
                </a:lnTo>
                <a:lnTo>
                  <a:pt x="311" y="963"/>
                </a:lnTo>
                <a:lnTo>
                  <a:pt x="334" y="967"/>
                </a:lnTo>
                <a:lnTo>
                  <a:pt x="359" y="969"/>
                </a:lnTo>
                <a:lnTo>
                  <a:pt x="384" y="969"/>
                </a:lnTo>
                <a:lnTo>
                  <a:pt x="393" y="969"/>
                </a:lnTo>
                <a:lnTo>
                  <a:pt x="393" y="967"/>
                </a:lnTo>
                <a:lnTo>
                  <a:pt x="391" y="967"/>
                </a:lnTo>
                <a:lnTo>
                  <a:pt x="391" y="965"/>
                </a:lnTo>
                <a:lnTo>
                  <a:pt x="391" y="963"/>
                </a:lnTo>
                <a:lnTo>
                  <a:pt x="391" y="963"/>
                </a:lnTo>
                <a:lnTo>
                  <a:pt x="389" y="961"/>
                </a:lnTo>
                <a:lnTo>
                  <a:pt x="389" y="959"/>
                </a:lnTo>
                <a:lnTo>
                  <a:pt x="389" y="959"/>
                </a:lnTo>
                <a:lnTo>
                  <a:pt x="384" y="959"/>
                </a:lnTo>
                <a:lnTo>
                  <a:pt x="359" y="957"/>
                </a:lnTo>
                <a:lnTo>
                  <a:pt x="336" y="955"/>
                </a:lnTo>
                <a:lnTo>
                  <a:pt x="311" y="953"/>
                </a:lnTo>
                <a:lnTo>
                  <a:pt x="288" y="950"/>
                </a:lnTo>
                <a:lnTo>
                  <a:pt x="265" y="944"/>
                </a:lnTo>
                <a:lnTo>
                  <a:pt x="244" y="938"/>
                </a:lnTo>
                <a:lnTo>
                  <a:pt x="221" y="930"/>
                </a:lnTo>
                <a:lnTo>
                  <a:pt x="199" y="921"/>
                </a:lnTo>
                <a:lnTo>
                  <a:pt x="178" y="911"/>
                </a:lnTo>
                <a:lnTo>
                  <a:pt x="157" y="902"/>
                </a:lnTo>
                <a:lnTo>
                  <a:pt x="138" y="890"/>
                </a:lnTo>
                <a:lnTo>
                  <a:pt x="119" y="877"/>
                </a:lnTo>
                <a:lnTo>
                  <a:pt x="100" y="865"/>
                </a:lnTo>
                <a:lnTo>
                  <a:pt x="82" y="850"/>
                </a:lnTo>
                <a:lnTo>
                  <a:pt x="65" y="836"/>
                </a:lnTo>
                <a:lnTo>
                  <a:pt x="50" y="819"/>
                </a:lnTo>
                <a:lnTo>
                  <a:pt x="32" y="804"/>
                </a:lnTo>
                <a:lnTo>
                  <a:pt x="19" y="786"/>
                </a:lnTo>
                <a:lnTo>
                  <a:pt x="4" y="767"/>
                </a:lnTo>
                <a:lnTo>
                  <a:pt x="0" y="763"/>
                </a:lnTo>
                <a:lnTo>
                  <a:pt x="0" y="765"/>
                </a:lnTo>
                <a:lnTo>
                  <a:pt x="0" y="767"/>
                </a:lnTo>
                <a:lnTo>
                  <a:pt x="0" y="769"/>
                </a:lnTo>
                <a:lnTo>
                  <a:pt x="0" y="771"/>
                </a:lnTo>
                <a:lnTo>
                  <a:pt x="0" y="773"/>
                </a:lnTo>
                <a:lnTo>
                  <a:pt x="0" y="775"/>
                </a:lnTo>
                <a:lnTo>
                  <a:pt x="0" y="779"/>
                </a:lnTo>
                <a:lnTo>
                  <a:pt x="0" y="781"/>
                </a:lnTo>
                <a:close/>
              </a:path>
            </a:pathLst>
          </a:custGeom>
          <a:solidFill>
            <a:srgbClr val="a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Freeform 439"/>
          <p:cNvSpPr/>
          <p:nvPr/>
        </p:nvSpPr>
        <p:spPr>
          <a:xfrm>
            <a:off x="5734080" y="2482920"/>
            <a:ext cx="620640" cy="1519200"/>
          </a:xfrm>
          <a:custGeom>
            <a:avLst/>
            <a:gdLst>
              <a:gd name="textAreaLeft" fmla="*/ 0 w 620640"/>
              <a:gd name="textAreaRight" fmla="*/ 621000 w 620640"/>
              <a:gd name="textAreaTop" fmla="*/ 0 h 1519200"/>
              <a:gd name="textAreaBottom" fmla="*/ 1519560 h 1519200"/>
            </a:gdLst>
            <a:ahLst/>
            <a:rect l="textAreaLeft" t="textAreaTop" r="textAreaRight" b="textAreaBottom"/>
            <a:pathLst>
              <a:path w="391" h="957">
                <a:moveTo>
                  <a:pt x="374" y="0"/>
                </a:moveTo>
                <a:lnTo>
                  <a:pt x="359" y="0"/>
                </a:lnTo>
                <a:lnTo>
                  <a:pt x="336" y="1"/>
                </a:lnTo>
                <a:lnTo>
                  <a:pt x="311" y="5"/>
                </a:lnTo>
                <a:lnTo>
                  <a:pt x="288" y="9"/>
                </a:lnTo>
                <a:lnTo>
                  <a:pt x="265" y="15"/>
                </a:lnTo>
                <a:lnTo>
                  <a:pt x="242" y="21"/>
                </a:lnTo>
                <a:lnTo>
                  <a:pt x="219" y="28"/>
                </a:lnTo>
                <a:lnTo>
                  <a:pt x="198" y="38"/>
                </a:lnTo>
                <a:lnTo>
                  <a:pt x="176" y="48"/>
                </a:lnTo>
                <a:lnTo>
                  <a:pt x="155" y="57"/>
                </a:lnTo>
                <a:lnTo>
                  <a:pt x="136" y="69"/>
                </a:lnTo>
                <a:lnTo>
                  <a:pt x="117" y="82"/>
                </a:lnTo>
                <a:lnTo>
                  <a:pt x="98" y="96"/>
                </a:lnTo>
                <a:lnTo>
                  <a:pt x="84" y="105"/>
                </a:lnTo>
                <a:lnTo>
                  <a:pt x="84" y="107"/>
                </a:lnTo>
                <a:lnTo>
                  <a:pt x="84" y="109"/>
                </a:lnTo>
                <a:lnTo>
                  <a:pt x="82" y="111"/>
                </a:lnTo>
                <a:lnTo>
                  <a:pt x="82" y="113"/>
                </a:lnTo>
                <a:lnTo>
                  <a:pt x="82" y="117"/>
                </a:lnTo>
                <a:lnTo>
                  <a:pt x="82" y="119"/>
                </a:lnTo>
                <a:lnTo>
                  <a:pt x="80" y="120"/>
                </a:lnTo>
                <a:lnTo>
                  <a:pt x="80" y="122"/>
                </a:lnTo>
                <a:lnTo>
                  <a:pt x="86" y="117"/>
                </a:lnTo>
                <a:lnTo>
                  <a:pt x="103" y="103"/>
                </a:lnTo>
                <a:lnTo>
                  <a:pt x="123" y="90"/>
                </a:lnTo>
                <a:lnTo>
                  <a:pt x="142" y="78"/>
                </a:lnTo>
                <a:lnTo>
                  <a:pt x="161" y="67"/>
                </a:lnTo>
                <a:lnTo>
                  <a:pt x="180" y="57"/>
                </a:lnTo>
                <a:lnTo>
                  <a:pt x="201" y="48"/>
                </a:lnTo>
                <a:lnTo>
                  <a:pt x="222" y="38"/>
                </a:lnTo>
                <a:lnTo>
                  <a:pt x="246" y="32"/>
                </a:lnTo>
                <a:lnTo>
                  <a:pt x="267" y="25"/>
                </a:lnTo>
                <a:lnTo>
                  <a:pt x="290" y="21"/>
                </a:lnTo>
                <a:lnTo>
                  <a:pt x="313" y="15"/>
                </a:lnTo>
                <a:lnTo>
                  <a:pt x="336" y="13"/>
                </a:lnTo>
                <a:lnTo>
                  <a:pt x="361" y="11"/>
                </a:lnTo>
                <a:lnTo>
                  <a:pt x="370" y="11"/>
                </a:lnTo>
                <a:lnTo>
                  <a:pt x="370" y="9"/>
                </a:lnTo>
                <a:lnTo>
                  <a:pt x="370" y="7"/>
                </a:lnTo>
                <a:lnTo>
                  <a:pt x="372" y="7"/>
                </a:lnTo>
                <a:lnTo>
                  <a:pt x="372" y="5"/>
                </a:lnTo>
                <a:lnTo>
                  <a:pt x="372" y="3"/>
                </a:lnTo>
                <a:lnTo>
                  <a:pt x="372" y="3"/>
                </a:lnTo>
                <a:lnTo>
                  <a:pt x="374" y="1"/>
                </a:lnTo>
                <a:lnTo>
                  <a:pt x="374" y="0"/>
                </a:lnTo>
                <a:close/>
                <a:moveTo>
                  <a:pt x="0" y="765"/>
                </a:moveTo>
                <a:lnTo>
                  <a:pt x="13" y="784"/>
                </a:lnTo>
                <a:lnTo>
                  <a:pt x="29" y="802"/>
                </a:lnTo>
                <a:lnTo>
                  <a:pt x="46" y="817"/>
                </a:lnTo>
                <a:lnTo>
                  <a:pt x="61" y="834"/>
                </a:lnTo>
                <a:lnTo>
                  <a:pt x="79" y="848"/>
                </a:lnTo>
                <a:lnTo>
                  <a:pt x="98" y="863"/>
                </a:lnTo>
                <a:lnTo>
                  <a:pt x="117" y="876"/>
                </a:lnTo>
                <a:lnTo>
                  <a:pt x="136" y="888"/>
                </a:lnTo>
                <a:lnTo>
                  <a:pt x="155" y="899"/>
                </a:lnTo>
                <a:lnTo>
                  <a:pt x="176" y="911"/>
                </a:lnTo>
                <a:lnTo>
                  <a:pt x="198" y="921"/>
                </a:lnTo>
                <a:lnTo>
                  <a:pt x="219" y="928"/>
                </a:lnTo>
                <a:lnTo>
                  <a:pt x="242" y="936"/>
                </a:lnTo>
                <a:lnTo>
                  <a:pt x="265" y="944"/>
                </a:lnTo>
                <a:lnTo>
                  <a:pt x="288" y="947"/>
                </a:lnTo>
                <a:lnTo>
                  <a:pt x="311" y="953"/>
                </a:lnTo>
                <a:lnTo>
                  <a:pt x="336" y="955"/>
                </a:lnTo>
                <a:lnTo>
                  <a:pt x="359" y="957"/>
                </a:lnTo>
                <a:lnTo>
                  <a:pt x="384" y="957"/>
                </a:lnTo>
                <a:lnTo>
                  <a:pt x="391" y="957"/>
                </a:lnTo>
                <a:lnTo>
                  <a:pt x="391" y="957"/>
                </a:lnTo>
                <a:lnTo>
                  <a:pt x="389" y="955"/>
                </a:lnTo>
                <a:lnTo>
                  <a:pt x="389" y="953"/>
                </a:lnTo>
                <a:lnTo>
                  <a:pt x="389" y="953"/>
                </a:lnTo>
                <a:lnTo>
                  <a:pt x="389" y="951"/>
                </a:lnTo>
                <a:lnTo>
                  <a:pt x="388" y="949"/>
                </a:lnTo>
                <a:lnTo>
                  <a:pt x="388" y="949"/>
                </a:lnTo>
                <a:lnTo>
                  <a:pt x="388" y="947"/>
                </a:lnTo>
                <a:lnTo>
                  <a:pt x="384" y="947"/>
                </a:lnTo>
                <a:lnTo>
                  <a:pt x="361" y="947"/>
                </a:lnTo>
                <a:lnTo>
                  <a:pt x="336" y="945"/>
                </a:lnTo>
                <a:lnTo>
                  <a:pt x="313" y="942"/>
                </a:lnTo>
                <a:lnTo>
                  <a:pt x="290" y="938"/>
                </a:lnTo>
                <a:lnTo>
                  <a:pt x="267" y="932"/>
                </a:lnTo>
                <a:lnTo>
                  <a:pt x="246" y="926"/>
                </a:lnTo>
                <a:lnTo>
                  <a:pt x="222" y="919"/>
                </a:lnTo>
                <a:lnTo>
                  <a:pt x="201" y="911"/>
                </a:lnTo>
                <a:lnTo>
                  <a:pt x="180" y="901"/>
                </a:lnTo>
                <a:lnTo>
                  <a:pt x="161" y="890"/>
                </a:lnTo>
                <a:lnTo>
                  <a:pt x="142" y="880"/>
                </a:lnTo>
                <a:lnTo>
                  <a:pt x="123" y="867"/>
                </a:lnTo>
                <a:lnTo>
                  <a:pt x="103" y="853"/>
                </a:lnTo>
                <a:lnTo>
                  <a:pt x="86" y="840"/>
                </a:lnTo>
                <a:lnTo>
                  <a:pt x="69" y="825"/>
                </a:lnTo>
                <a:lnTo>
                  <a:pt x="54" y="809"/>
                </a:lnTo>
                <a:lnTo>
                  <a:pt x="36" y="794"/>
                </a:lnTo>
                <a:lnTo>
                  <a:pt x="23" y="777"/>
                </a:lnTo>
                <a:lnTo>
                  <a:pt x="9" y="759"/>
                </a:lnTo>
                <a:lnTo>
                  <a:pt x="0" y="748"/>
                </a:lnTo>
                <a:lnTo>
                  <a:pt x="0" y="750"/>
                </a:lnTo>
                <a:lnTo>
                  <a:pt x="0" y="752"/>
                </a:lnTo>
                <a:lnTo>
                  <a:pt x="0" y="754"/>
                </a:lnTo>
                <a:lnTo>
                  <a:pt x="0" y="757"/>
                </a:lnTo>
                <a:lnTo>
                  <a:pt x="0" y="759"/>
                </a:lnTo>
                <a:lnTo>
                  <a:pt x="0" y="761"/>
                </a:lnTo>
                <a:lnTo>
                  <a:pt x="0" y="763"/>
                </a:lnTo>
                <a:lnTo>
                  <a:pt x="0" y="765"/>
                </a:lnTo>
                <a:close/>
              </a:path>
            </a:pathLst>
          </a:custGeom>
          <a:solidFill>
            <a:srgbClr val="a6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Freeform 440"/>
          <p:cNvSpPr/>
          <p:nvPr/>
        </p:nvSpPr>
        <p:spPr>
          <a:xfrm>
            <a:off x="5734080" y="2490840"/>
            <a:ext cx="617400" cy="1504800"/>
          </a:xfrm>
          <a:custGeom>
            <a:avLst/>
            <a:gdLst>
              <a:gd name="textAreaLeft" fmla="*/ 0 w 617400"/>
              <a:gd name="textAreaRight" fmla="*/ 617400 w 617400"/>
              <a:gd name="textAreaTop" fmla="*/ 0 h 1504800"/>
              <a:gd name="textAreaBottom" fmla="*/ 1505160 h 1504800"/>
            </a:gdLst>
            <a:ahLst/>
            <a:rect l="textAreaLeft" t="textAreaTop" r="textAreaRight" b="textAreaBottom"/>
            <a:pathLst>
              <a:path w="389" h="948">
                <a:moveTo>
                  <a:pt x="372" y="0"/>
                </a:moveTo>
                <a:lnTo>
                  <a:pt x="359" y="0"/>
                </a:lnTo>
                <a:lnTo>
                  <a:pt x="336" y="2"/>
                </a:lnTo>
                <a:lnTo>
                  <a:pt x="311" y="6"/>
                </a:lnTo>
                <a:lnTo>
                  <a:pt x="288" y="10"/>
                </a:lnTo>
                <a:lnTo>
                  <a:pt x="265" y="16"/>
                </a:lnTo>
                <a:lnTo>
                  <a:pt x="244" y="21"/>
                </a:lnTo>
                <a:lnTo>
                  <a:pt x="221" y="29"/>
                </a:lnTo>
                <a:lnTo>
                  <a:pt x="199" y="37"/>
                </a:lnTo>
                <a:lnTo>
                  <a:pt x="178" y="46"/>
                </a:lnTo>
                <a:lnTo>
                  <a:pt x="157" y="58"/>
                </a:lnTo>
                <a:lnTo>
                  <a:pt x="138" y="69"/>
                </a:lnTo>
                <a:lnTo>
                  <a:pt x="119" y="81"/>
                </a:lnTo>
                <a:lnTo>
                  <a:pt x="100" y="94"/>
                </a:lnTo>
                <a:lnTo>
                  <a:pt x="82" y="108"/>
                </a:lnTo>
                <a:lnTo>
                  <a:pt x="82" y="110"/>
                </a:lnTo>
                <a:lnTo>
                  <a:pt x="82" y="114"/>
                </a:lnTo>
                <a:lnTo>
                  <a:pt x="80" y="115"/>
                </a:lnTo>
                <a:lnTo>
                  <a:pt x="80" y="117"/>
                </a:lnTo>
                <a:lnTo>
                  <a:pt x="80" y="119"/>
                </a:lnTo>
                <a:lnTo>
                  <a:pt x="79" y="121"/>
                </a:lnTo>
                <a:lnTo>
                  <a:pt x="79" y="123"/>
                </a:lnTo>
                <a:lnTo>
                  <a:pt x="79" y="127"/>
                </a:lnTo>
                <a:lnTo>
                  <a:pt x="90" y="117"/>
                </a:lnTo>
                <a:lnTo>
                  <a:pt x="107" y="102"/>
                </a:lnTo>
                <a:lnTo>
                  <a:pt x="125" y="91"/>
                </a:lnTo>
                <a:lnTo>
                  <a:pt x="144" y="77"/>
                </a:lnTo>
                <a:lnTo>
                  <a:pt x="163" y="67"/>
                </a:lnTo>
                <a:lnTo>
                  <a:pt x="182" y="56"/>
                </a:lnTo>
                <a:lnTo>
                  <a:pt x="203" y="46"/>
                </a:lnTo>
                <a:lnTo>
                  <a:pt x="224" y="39"/>
                </a:lnTo>
                <a:lnTo>
                  <a:pt x="246" y="31"/>
                </a:lnTo>
                <a:lnTo>
                  <a:pt x="269" y="25"/>
                </a:lnTo>
                <a:lnTo>
                  <a:pt x="290" y="20"/>
                </a:lnTo>
                <a:lnTo>
                  <a:pt x="313" y="16"/>
                </a:lnTo>
                <a:lnTo>
                  <a:pt x="336" y="14"/>
                </a:lnTo>
                <a:lnTo>
                  <a:pt x="361" y="12"/>
                </a:lnTo>
                <a:lnTo>
                  <a:pt x="368" y="12"/>
                </a:lnTo>
                <a:lnTo>
                  <a:pt x="368" y="10"/>
                </a:lnTo>
                <a:lnTo>
                  <a:pt x="368" y="8"/>
                </a:lnTo>
                <a:lnTo>
                  <a:pt x="370" y="8"/>
                </a:lnTo>
                <a:lnTo>
                  <a:pt x="370" y="6"/>
                </a:lnTo>
                <a:lnTo>
                  <a:pt x="370" y="4"/>
                </a:lnTo>
                <a:lnTo>
                  <a:pt x="370" y="2"/>
                </a:lnTo>
                <a:lnTo>
                  <a:pt x="372" y="2"/>
                </a:lnTo>
                <a:lnTo>
                  <a:pt x="372" y="0"/>
                </a:lnTo>
                <a:close/>
                <a:moveTo>
                  <a:pt x="0" y="752"/>
                </a:moveTo>
                <a:lnTo>
                  <a:pt x="4" y="756"/>
                </a:lnTo>
                <a:lnTo>
                  <a:pt x="19" y="775"/>
                </a:lnTo>
                <a:lnTo>
                  <a:pt x="32" y="793"/>
                </a:lnTo>
                <a:lnTo>
                  <a:pt x="50" y="808"/>
                </a:lnTo>
                <a:lnTo>
                  <a:pt x="65" y="825"/>
                </a:lnTo>
                <a:lnTo>
                  <a:pt x="82" y="839"/>
                </a:lnTo>
                <a:lnTo>
                  <a:pt x="100" y="854"/>
                </a:lnTo>
                <a:lnTo>
                  <a:pt x="119" y="866"/>
                </a:lnTo>
                <a:lnTo>
                  <a:pt x="138" y="879"/>
                </a:lnTo>
                <a:lnTo>
                  <a:pt x="157" y="891"/>
                </a:lnTo>
                <a:lnTo>
                  <a:pt x="178" y="900"/>
                </a:lnTo>
                <a:lnTo>
                  <a:pt x="199" y="910"/>
                </a:lnTo>
                <a:lnTo>
                  <a:pt x="221" y="919"/>
                </a:lnTo>
                <a:lnTo>
                  <a:pt x="244" y="927"/>
                </a:lnTo>
                <a:lnTo>
                  <a:pt x="265" y="933"/>
                </a:lnTo>
                <a:lnTo>
                  <a:pt x="288" y="939"/>
                </a:lnTo>
                <a:lnTo>
                  <a:pt x="311" y="942"/>
                </a:lnTo>
                <a:lnTo>
                  <a:pt x="336" y="944"/>
                </a:lnTo>
                <a:lnTo>
                  <a:pt x="359" y="946"/>
                </a:lnTo>
                <a:lnTo>
                  <a:pt x="384" y="948"/>
                </a:lnTo>
                <a:lnTo>
                  <a:pt x="389" y="948"/>
                </a:lnTo>
                <a:lnTo>
                  <a:pt x="389" y="946"/>
                </a:lnTo>
                <a:lnTo>
                  <a:pt x="388" y="944"/>
                </a:lnTo>
                <a:lnTo>
                  <a:pt x="388" y="944"/>
                </a:lnTo>
                <a:lnTo>
                  <a:pt x="388" y="942"/>
                </a:lnTo>
                <a:lnTo>
                  <a:pt x="388" y="940"/>
                </a:lnTo>
                <a:lnTo>
                  <a:pt x="386" y="939"/>
                </a:lnTo>
                <a:lnTo>
                  <a:pt x="386" y="939"/>
                </a:lnTo>
                <a:lnTo>
                  <a:pt x="386" y="937"/>
                </a:lnTo>
                <a:lnTo>
                  <a:pt x="384" y="937"/>
                </a:lnTo>
                <a:lnTo>
                  <a:pt x="361" y="937"/>
                </a:lnTo>
                <a:lnTo>
                  <a:pt x="336" y="935"/>
                </a:lnTo>
                <a:lnTo>
                  <a:pt x="313" y="931"/>
                </a:lnTo>
                <a:lnTo>
                  <a:pt x="290" y="927"/>
                </a:lnTo>
                <a:lnTo>
                  <a:pt x="269" y="921"/>
                </a:lnTo>
                <a:lnTo>
                  <a:pt x="246" y="916"/>
                </a:lnTo>
                <a:lnTo>
                  <a:pt x="224" y="908"/>
                </a:lnTo>
                <a:lnTo>
                  <a:pt x="203" y="900"/>
                </a:lnTo>
                <a:lnTo>
                  <a:pt x="182" y="891"/>
                </a:lnTo>
                <a:lnTo>
                  <a:pt x="163" y="881"/>
                </a:lnTo>
                <a:lnTo>
                  <a:pt x="144" y="869"/>
                </a:lnTo>
                <a:lnTo>
                  <a:pt x="125" y="858"/>
                </a:lnTo>
                <a:lnTo>
                  <a:pt x="107" y="845"/>
                </a:lnTo>
                <a:lnTo>
                  <a:pt x="90" y="831"/>
                </a:lnTo>
                <a:lnTo>
                  <a:pt x="73" y="816"/>
                </a:lnTo>
                <a:lnTo>
                  <a:pt x="55" y="800"/>
                </a:lnTo>
                <a:lnTo>
                  <a:pt x="40" y="785"/>
                </a:lnTo>
                <a:lnTo>
                  <a:pt x="27" y="768"/>
                </a:lnTo>
                <a:lnTo>
                  <a:pt x="13" y="751"/>
                </a:lnTo>
                <a:lnTo>
                  <a:pt x="0" y="733"/>
                </a:lnTo>
                <a:lnTo>
                  <a:pt x="0" y="735"/>
                </a:lnTo>
                <a:lnTo>
                  <a:pt x="0" y="739"/>
                </a:lnTo>
                <a:lnTo>
                  <a:pt x="0" y="741"/>
                </a:lnTo>
                <a:lnTo>
                  <a:pt x="0" y="743"/>
                </a:lnTo>
                <a:lnTo>
                  <a:pt x="0" y="745"/>
                </a:lnTo>
                <a:lnTo>
                  <a:pt x="0" y="747"/>
                </a:lnTo>
                <a:lnTo>
                  <a:pt x="0" y="749"/>
                </a:lnTo>
                <a:lnTo>
                  <a:pt x="0" y="752"/>
                </a:lnTo>
                <a:close/>
              </a:path>
            </a:pathLst>
          </a:custGeom>
          <a:solidFill>
            <a:srgbClr val="a7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Freeform 441"/>
          <p:cNvSpPr/>
          <p:nvPr/>
        </p:nvSpPr>
        <p:spPr>
          <a:xfrm>
            <a:off x="5734080" y="2500200"/>
            <a:ext cx="615960" cy="1486080"/>
          </a:xfrm>
          <a:custGeom>
            <a:avLst/>
            <a:gdLst>
              <a:gd name="textAreaLeft" fmla="*/ 0 w 615960"/>
              <a:gd name="textAreaRight" fmla="*/ 616320 w 61596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388" h="936">
                <a:moveTo>
                  <a:pt x="370" y="0"/>
                </a:moveTo>
                <a:lnTo>
                  <a:pt x="361" y="0"/>
                </a:lnTo>
                <a:lnTo>
                  <a:pt x="336" y="2"/>
                </a:lnTo>
                <a:lnTo>
                  <a:pt x="313" y="4"/>
                </a:lnTo>
                <a:lnTo>
                  <a:pt x="290" y="10"/>
                </a:lnTo>
                <a:lnTo>
                  <a:pt x="267" y="14"/>
                </a:lnTo>
                <a:lnTo>
                  <a:pt x="246" y="21"/>
                </a:lnTo>
                <a:lnTo>
                  <a:pt x="222" y="27"/>
                </a:lnTo>
                <a:lnTo>
                  <a:pt x="201" y="37"/>
                </a:lnTo>
                <a:lnTo>
                  <a:pt x="180" y="46"/>
                </a:lnTo>
                <a:lnTo>
                  <a:pt x="161" y="56"/>
                </a:lnTo>
                <a:lnTo>
                  <a:pt x="142" y="67"/>
                </a:lnTo>
                <a:lnTo>
                  <a:pt x="123" y="79"/>
                </a:lnTo>
                <a:lnTo>
                  <a:pt x="103" y="92"/>
                </a:lnTo>
                <a:lnTo>
                  <a:pt x="86" y="106"/>
                </a:lnTo>
                <a:lnTo>
                  <a:pt x="80" y="111"/>
                </a:lnTo>
                <a:lnTo>
                  <a:pt x="80" y="113"/>
                </a:lnTo>
                <a:lnTo>
                  <a:pt x="79" y="115"/>
                </a:lnTo>
                <a:lnTo>
                  <a:pt x="79" y="117"/>
                </a:lnTo>
                <a:lnTo>
                  <a:pt x="79" y="121"/>
                </a:lnTo>
                <a:lnTo>
                  <a:pt x="79" y="123"/>
                </a:lnTo>
                <a:lnTo>
                  <a:pt x="77" y="125"/>
                </a:lnTo>
                <a:lnTo>
                  <a:pt x="77" y="127"/>
                </a:lnTo>
                <a:lnTo>
                  <a:pt x="77" y="129"/>
                </a:lnTo>
                <a:lnTo>
                  <a:pt x="92" y="115"/>
                </a:lnTo>
                <a:lnTo>
                  <a:pt x="109" y="102"/>
                </a:lnTo>
                <a:lnTo>
                  <a:pt x="128" y="88"/>
                </a:lnTo>
                <a:lnTo>
                  <a:pt x="146" y="77"/>
                </a:lnTo>
                <a:lnTo>
                  <a:pt x="165" y="65"/>
                </a:lnTo>
                <a:lnTo>
                  <a:pt x="186" y="56"/>
                </a:lnTo>
                <a:lnTo>
                  <a:pt x="205" y="46"/>
                </a:lnTo>
                <a:lnTo>
                  <a:pt x="226" y="38"/>
                </a:lnTo>
                <a:lnTo>
                  <a:pt x="247" y="31"/>
                </a:lnTo>
                <a:lnTo>
                  <a:pt x="269" y="25"/>
                </a:lnTo>
                <a:lnTo>
                  <a:pt x="292" y="19"/>
                </a:lnTo>
                <a:lnTo>
                  <a:pt x="315" y="15"/>
                </a:lnTo>
                <a:lnTo>
                  <a:pt x="338" y="12"/>
                </a:lnTo>
                <a:lnTo>
                  <a:pt x="361" y="12"/>
                </a:lnTo>
                <a:lnTo>
                  <a:pt x="366" y="10"/>
                </a:lnTo>
                <a:lnTo>
                  <a:pt x="366" y="10"/>
                </a:lnTo>
                <a:lnTo>
                  <a:pt x="366" y="8"/>
                </a:lnTo>
                <a:lnTo>
                  <a:pt x="368" y="6"/>
                </a:lnTo>
                <a:lnTo>
                  <a:pt x="368" y="6"/>
                </a:lnTo>
                <a:lnTo>
                  <a:pt x="368" y="4"/>
                </a:lnTo>
                <a:lnTo>
                  <a:pt x="368" y="2"/>
                </a:lnTo>
                <a:lnTo>
                  <a:pt x="370" y="2"/>
                </a:lnTo>
                <a:lnTo>
                  <a:pt x="370" y="0"/>
                </a:lnTo>
                <a:close/>
                <a:moveTo>
                  <a:pt x="0" y="737"/>
                </a:moveTo>
                <a:lnTo>
                  <a:pt x="9" y="748"/>
                </a:lnTo>
                <a:lnTo>
                  <a:pt x="23" y="766"/>
                </a:lnTo>
                <a:lnTo>
                  <a:pt x="36" y="783"/>
                </a:lnTo>
                <a:lnTo>
                  <a:pt x="54" y="798"/>
                </a:lnTo>
                <a:lnTo>
                  <a:pt x="69" y="814"/>
                </a:lnTo>
                <a:lnTo>
                  <a:pt x="86" y="829"/>
                </a:lnTo>
                <a:lnTo>
                  <a:pt x="103" y="842"/>
                </a:lnTo>
                <a:lnTo>
                  <a:pt x="123" y="856"/>
                </a:lnTo>
                <a:lnTo>
                  <a:pt x="142" y="869"/>
                </a:lnTo>
                <a:lnTo>
                  <a:pt x="161" y="879"/>
                </a:lnTo>
                <a:lnTo>
                  <a:pt x="180" y="890"/>
                </a:lnTo>
                <a:lnTo>
                  <a:pt x="201" y="900"/>
                </a:lnTo>
                <a:lnTo>
                  <a:pt x="222" y="908"/>
                </a:lnTo>
                <a:lnTo>
                  <a:pt x="246" y="915"/>
                </a:lnTo>
                <a:lnTo>
                  <a:pt x="267" y="921"/>
                </a:lnTo>
                <a:lnTo>
                  <a:pt x="290" y="927"/>
                </a:lnTo>
                <a:lnTo>
                  <a:pt x="313" y="931"/>
                </a:lnTo>
                <a:lnTo>
                  <a:pt x="336" y="934"/>
                </a:lnTo>
                <a:lnTo>
                  <a:pt x="361" y="936"/>
                </a:lnTo>
                <a:lnTo>
                  <a:pt x="384" y="936"/>
                </a:lnTo>
                <a:lnTo>
                  <a:pt x="388" y="936"/>
                </a:lnTo>
                <a:lnTo>
                  <a:pt x="388" y="934"/>
                </a:lnTo>
                <a:lnTo>
                  <a:pt x="386" y="933"/>
                </a:lnTo>
                <a:lnTo>
                  <a:pt x="386" y="933"/>
                </a:lnTo>
                <a:lnTo>
                  <a:pt x="386" y="931"/>
                </a:lnTo>
                <a:lnTo>
                  <a:pt x="384" y="929"/>
                </a:lnTo>
                <a:lnTo>
                  <a:pt x="384" y="929"/>
                </a:lnTo>
                <a:lnTo>
                  <a:pt x="384" y="927"/>
                </a:lnTo>
                <a:lnTo>
                  <a:pt x="384" y="925"/>
                </a:lnTo>
                <a:lnTo>
                  <a:pt x="361" y="925"/>
                </a:lnTo>
                <a:lnTo>
                  <a:pt x="338" y="923"/>
                </a:lnTo>
                <a:lnTo>
                  <a:pt x="315" y="921"/>
                </a:lnTo>
                <a:lnTo>
                  <a:pt x="292" y="915"/>
                </a:lnTo>
                <a:lnTo>
                  <a:pt x="269" y="911"/>
                </a:lnTo>
                <a:lnTo>
                  <a:pt x="247" y="906"/>
                </a:lnTo>
                <a:lnTo>
                  <a:pt x="226" y="898"/>
                </a:lnTo>
                <a:lnTo>
                  <a:pt x="205" y="890"/>
                </a:lnTo>
                <a:lnTo>
                  <a:pt x="186" y="881"/>
                </a:lnTo>
                <a:lnTo>
                  <a:pt x="165" y="871"/>
                </a:lnTo>
                <a:lnTo>
                  <a:pt x="146" y="860"/>
                </a:lnTo>
                <a:lnTo>
                  <a:pt x="128" y="848"/>
                </a:lnTo>
                <a:lnTo>
                  <a:pt x="109" y="835"/>
                </a:lnTo>
                <a:lnTo>
                  <a:pt x="92" y="821"/>
                </a:lnTo>
                <a:lnTo>
                  <a:pt x="77" y="806"/>
                </a:lnTo>
                <a:lnTo>
                  <a:pt x="59" y="791"/>
                </a:lnTo>
                <a:lnTo>
                  <a:pt x="46" y="775"/>
                </a:lnTo>
                <a:lnTo>
                  <a:pt x="31" y="760"/>
                </a:lnTo>
                <a:lnTo>
                  <a:pt x="17" y="741"/>
                </a:lnTo>
                <a:lnTo>
                  <a:pt x="4" y="723"/>
                </a:lnTo>
                <a:lnTo>
                  <a:pt x="0" y="718"/>
                </a:lnTo>
                <a:lnTo>
                  <a:pt x="0" y="720"/>
                </a:lnTo>
                <a:lnTo>
                  <a:pt x="0" y="723"/>
                </a:lnTo>
                <a:lnTo>
                  <a:pt x="0" y="725"/>
                </a:lnTo>
                <a:lnTo>
                  <a:pt x="0" y="727"/>
                </a:lnTo>
                <a:lnTo>
                  <a:pt x="0" y="729"/>
                </a:lnTo>
                <a:lnTo>
                  <a:pt x="0" y="731"/>
                </a:lnTo>
                <a:lnTo>
                  <a:pt x="0" y="735"/>
                </a:lnTo>
                <a:lnTo>
                  <a:pt x="0" y="737"/>
                </a:lnTo>
                <a:close/>
              </a:path>
            </a:pathLst>
          </a:custGeom>
          <a:solidFill>
            <a:srgbClr val="a8d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Freeform 442"/>
          <p:cNvSpPr/>
          <p:nvPr/>
        </p:nvSpPr>
        <p:spPr>
          <a:xfrm>
            <a:off x="5734080" y="2509920"/>
            <a:ext cx="612720" cy="1468440"/>
          </a:xfrm>
          <a:custGeom>
            <a:avLst/>
            <a:gdLst>
              <a:gd name="textAreaLeft" fmla="*/ 0 w 612720"/>
              <a:gd name="textAreaRight" fmla="*/ 612720 w 6127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386" h="925">
                <a:moveTo>
                  <a:pt x="368" y="0"/>
                </a:moveTo>
                <a:lnTo>
                  <a:pt x="361" y="0"/>
                </a:lnTo>
                <a:lnTo>
                  <a:pt x="336" y="2"/>
                </a:lnTo>
                <a:lnTo>
                  <a:pt x="313" y="4"/>
                </a:lnTo>
                <a:lnTo>
                  <a:pt x="290" y="8"/>
                </a:lnTo>
                <a:lnTo>
                  <a:pt x="269" y="13"/>
                </a:lnTo>
                <a:lnTo>
                  <a:pt x="246" y="19"/>
                </a:lnTo>
                <a:lnTo>
                  <a:pt x="224" y="27"/>
                </a:lnTo>
                <a:lnTo>
                  <a:pt x="203" y="34"/>
                </a:lnTo>
                <a:lnTo>
                  <a:pt x="182" y="44"/>
                </a:lnTo>
                <a:lnTo>
                  <a:pt x="163" y="55"/>
                </a:lnTo>
                <a:lnTo>
                  <a:pt x="144" y="65"/>
                </a:lnTo>
                <a:lnTo>
                  <a:pt x="125" y="79"/>
                </a:lnTo>
                <a:lnTo>
                  <a:pt x="107" y="90"/>
                </a:lnTo>
                <a:lnTo>
                  <a:pt x="90" y="105"/>
                </a:lnTo>
                <a:lnTo>
                  <a:pt x="79" y="115"/>
                </a:lnTo>
                <a:lnTo>
                  <a:pt x="79" y="117"/>
                </a:lnTo>
                <a:lnTo>
                  <a:pt x="77" y="119"/>
                </a:lnTo>
                <a:lnTo>
                  <a:pt x="77" y="121"/>
                </a:lnTo>
                <a:lnTo>
                  <a:pt x="77" y="123"/>
                </a:lnTo>
                <a:lnTo>
                  <a:pt x="75" y="125"/>
                </a:lnTo>
                <a:lnTo>
                  <a:pt x="75" y="128"/>
                </a:lnTo>
                <a:lnTo>
                  <a:pt x="75" y="130"/>
                </a:lnTo>
                <a:lnTo>
                  <a:pt x="75" y="132"/>
                </a:lnTo>
                <a:lnTo>
                  <a:pt x="80" y="126"/>
                </a:lnTo>
                <a:lnTo>
                  <a:pt x="96" y="113"/>
                </a:lnTo>
                <a:lnTo>
                  <a:pt x="113" y="100"/>
                </a:lnTo>
                <a:lnTo>
                  <a:pt x="130" y="86"/>
                </a:lnTo>
                <a:lnTo>
                  <a:pt x="150" y="75"/>
                </a:lnTo>
                <a:lnTo>
                  <a:pt x="169" y="63"/>
                </a:lnTo>
                <a:lnTo>
                  <a:pt x="188" y="54"/>
                </a:lnTo>
                <a:lnTo>
                  <a:pt x="207" y="46"/>
                </a:lnTo>
                <a:lnTo>
                  <a:pt x="228" y="36"/>
                </a:lnTo>
                <a:lnTo>
                  <a:pt x="249" y="31"/>
                </a:lnTo>
                <a:lnTo>
                  <a:pt x="270" y="23"/>
                </a:lnTo>
                <a:lnTo>
                  <a:pt x="293" y="19"/>
                </a:lnTo>
                <a:lnTo>
                  <a:pt x="315" y="15"/>
                </a:lnTo>
                <a:lnTo>
                  <a:pt x="338" y="11"/>
                </a:lnTo>
                <a:lnTo>
                  <a:pt x="361" y="9"/>
                </a:lnTo>
                <a:lnTo>
                  <a:pt x="365" y="9"/>
                </a:lnTo>
                <a:lnTo>
                  <a:pt x="365" y="9"/>
                </a:lnTo>
                <a:lnTo>
                  <a:pt x="366" y="8"/>
                </a:lnTo>
                <a:lnTo>
                  <a:pt x="366" y="6"/>
                </a:lnTo>
                <a:lnTo>
                  <a:pt x="366" y="4"/>
                </a:lnTo>
                <a:lnTo>
                  <a:pt x="366" y="4"/>
                </a:lnTo>
                <a:lnTo>
                  <a:pt x="366" y="2"/>
                </a:lnTo>
                <a:lnTo>
                  <a:pt x="368" y="0"/>
                </a:lnTo>
                <a:lnTo>
                  <a:pt x="368" y="0"/>
                </a:lnTo>
                <a:close/>
                <a:moveTo>
                  <a:pt x="0" y="721"/>
                </a:moveTo>
                <a:lnTo>
                  <a:pt x="13" y="739"/>
                </a:lnTo>
                <a:lnTo>
                  <a:pt x="27" y="756"/>
                </a:lnTo>
                <a:lnTo>
                  <a:pt x="40" y="773"/>
                </a:lnTo>
                <a:lnTo>
                  <a:pt x="55" y="788"/>
                </a:lnTo>
                <a:lnTo>
                  <a:pt x="73" y="804"/>
                </a:lnTo>
                <a:lnTo>
                  <a:pt x="90" y="819"/>
                </a:lnTo>
                <a:lnTo>
                  <a:pt x="107" y="833"/>
                </a:lnTo>
                <a:lnTo>
                  <a:pt x="125" y="846"/>
                </a:lnTo>
                <a:lnTo>
                  <a:pt x="144" y="857"/>
                </a:lnTo>
                <a:lnTo>
                  <a:pt x="163" y="869"/>
                </a:lnTo>
                <a:lnTo>
                  <a:pt x="182" y="879"/>
                </a:lnTo>
                <a:lnTo>
                  <a:pt x="203" y="888"/>
                </a:lnTo>
                <a:lnTo>
                  <a:pt x="224" y="896"/>
                </a:lnTo>
                <a:lnTo>
                  <a:pt x="246" y="904"/>
                </a:lnTo>
                <a:lnTo>
                  <a:pt x="269" y="909"/>
                </a:lnTo>
                <a:lnTo>
                  <a:pt x="290" y="915"/>
                </a:lnTo>
                <a:lnTo>
                  <a:pt x="313" y="919"/>
                </a:lnTo>
                <a:lnTo>
                  <a:pt x="336" y="923"/>
                </a:lnTo>
                <a:lnTo>
                  <a:pt x="361" y="925"/>
                </a:lnTo>
                <a:lnTo>
                  <a:pt x="384" y="925"/>
                </a:lnTo>
                <a:lnTo>
                  <a:pt x="386" y="925"/>
                </a:lnTo>
                <a:lnTo>
                  <a:pt x="384" y="923"/>
                </a:lnTo>
                <a:lnTo>
                  <a:pt x="384" y="923"/>
                </a:lnTo>
                <a:lnTo>
                  <a:pt x="384" y="921"/>
                </a:lnTo>
                <a:lnTo>
                  <a:pt x="384" y="919"/>
                </a:lnTo>
                <a:lnTo>
                  <a:pt x="382" y="919"/>
                </a:lnTo>
                <a:lnTo>
                  <a:pt x="382" y="917"/>
                </a:lnTo>
                <a:lnTo>
                  <a:pt x="382" y="915"/>
                </a:lnTo>
                <a:lnTo>
                  <a:pt x="382" y="915"/>
                </a:lnTo>
                <a:lnTo>
                  <a:pt x="361" y="913"/>
                </a:lnTo>
                <a:lnTo>
                  <a:pt x="338" y="911"/>
                </a:lnTo>
                <a:lnTo>
                  <a:pt x="315" y="909"/>
                </a:lnTo>
                <a:lnTo>
                  <a:pt x="293" y="905"/>
                </a:lnTo>
                <a:lnTo>
                  <a:pt x="270" y="900"/>
                </a:lnTo>
                <a:lnTo>
                  <a:pt x="249" y="894"/>
                </a:lnTo>
                <a:lnTo>
                  <a:pt x="228" y="886"/>
                </a:lnTo>
                <a:lnTo>
                  <a:pt x="207" y="879"/>
                </a:lnTo>
                <a:lnTo>
                  <a:pt x="188" y="869"/>
                </a:lnTo>
                <a:lnTo>
                  <a:pt x="169" y="859"/>
                </a:lnTo>
                <a:lnTo>
                  <a:pt x="150" y="848"/>
                </a:lnTo>
                <a:lnTo>
                  <a:pt x="130" y="836"/>
                </a:lnTo>
                <a:lnTo>
                  <a:pt x="113" y="825"/>
                </a:lnTo>
                <a:lnTo>
                  <a:pt x="96" y="811"/>
                </a:lnTo>
                <a:lnTo>
                  <a:pt x="80" y="796"/>
                </a:lnTo>
                <a:lnTo>
                  <a:pt x="63" y="781"/>
                </a:lnTo>
                <a:lnTo>
                  <a:pt x="50" y="765"/>
                </a:lnTo>
                <a:lnTo>
                  <a:pt x="34" y="750"/>
                </a:lnTo>
                <a:lnTo>
                  <a:pt x="21" y="733"/>
                </a:lnTo>
                <a:lnTo>
                  <a:pt x="9" y="716"/>
                </a:lnTo>
                <a:lnTo>
                  <a:pt x="2" y="702"/>
                </a:lnTo>
                <a:lnTo>
                  <a:pt x="2" y="706"/>
                </a:lnTo>
                <a:lnTo>
                  <a:pt x="2" y="708"/>
                </a:lnTo>
                <a:lnTo>
                  <a:pt x="0" y="710"/>
                </a:lnTo>
                <a:lnTo>
                  <a:pt x="0" y="712"/>
                </a:lnTo>
                <a:lnTo>
                  <a:pt x="0" y="714"/>
                </a:lnTo>
                <a:lnTo>
                  <a:pt x="0" y="717"/>
                </a:lnTo>
                <a:lnTo>
                  <a:pt x="0" y="719"/>
                </a:lnTo>
                <a:lnTo>
                  <a:pt x="0" y="721"/>
                </a:lnTo>
                <a:close/>
              </a:path>
            </a:pathLst>
          </a:custGeom>
          <a:solidFill>
            <a:srgbClr val="a9d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Freeform 443"/>
          <p:cNvSpPr/>
          <p:nvPr/>
        </p:nvSpPr>
        <p:spPr>
          <a:xfrm>
            <a:off x="5734080" y="2516040"/>
            <a:ext cx="609480" cy="1452600"/>
          </a:xfrm>
          <a:custGeom>
            <a:avLst/>
            <a:gdLst>
              <a:gd name="textAreaLeft" fmla="*/ 0 w 609480"/>
              <a:gd name="textAreaRight" fmla="*/ 609840 w 609480"/>
              <a:gd name="textAreaTop" fmla="*/ 0 h 1452600"/>
              <a:gd name="textAreaBottom" fmla="*/ 1452960 h 1452600"/>
            </a:gdLst>
            <a:ahLst/>
            <a:rect l="textAreaLeft" t="textAreaTop" r="textAreaRight" b="textAreaBottom"/>
            <a:pathLst>
              <a:path w="384" h="915">
                <a:moveTo>
                  <a:pt x="366" y="0"/>
                </a:moveTo>
                <a:lnTo>
                  <a:pt x="361" y="2"/>
                </a:lnTo>
                <a:lnTo>
                  <a:pt x="338" y="2"/>
                </a:lnTo>
                <a:lnTo>
                  <a:pt x="315" y="5"/>
                </a:lnTo>
                <a:lnTo>
                  <a:pt x="292" y="9"/>
                </a:lnTo>
                <a:lnTo>
                  <a:pt x="269" y="15"/>
                </a:lnTo>
                <a:lnTo>
                  <a:pt x="247" y="21"/>
                </a:lnTo>
                <a:lnTo>
                  <a:pt x="226" y="28"/>
                </a:lnTo>
                <a:lnTo>
                  <a:pt x="205" y="36"/>
                </a:lnTo>
                <a:lnTo>
                  <a:pt x="186" y="46"/>
                </a:lnTo>
                <a:lnTo>
                  <a:pt x="165" y="55"/>
                </a:lnTo>
                <a:lnTo>
                  <a:pt x="146" y="67"/>
                </a:lnTo>
                <a:lnTo>
                  <a:pt x="128" y="78"/>
                </a:lnTo>
                <a:lnTo>
                  <a:pt x="109" y="92"/>
                </a:lnTo>
                <a:lnTo>
                  <a:pt x="92" y="105"/>
                </a:lnTo>
                <a:lnTo>
                  <a:pt x="77" y="119"/>
                </a:lnTo>
                <a:lnTo>
                  <a:pt x="77" y="121"/>
                </a:lnTo>
                <a:lnTo>
                  <a:pt x="75" y="124"/>
                </a:lnTo>
                <a:lnTo>
                  <a:pt x="75" y="126"/>
                </a:lnTo>
                <a:lnTo>
                  <a:pt x="75" y="128"/>
                </a:lnTo>
                <a:lnTo>
                  <a:pt x="73" y="130"/>
                </a:lnTo>
                <a:lnTo>
                  <a:pt x="73" y="132"/>
                </a:lnTo>
                <a:lnTo>
                  <a:pt x="73" y="136"/>
                </a:lnTo>
                <a:lnTo>
                  <a:pt x="73" y="138"/>
                </a:lnTo>
                <a:lnTo>
                  <a:pt x="82" y="126"/>
                </a:lnTo>
                <a:lnTo>
                  <a:pt x="100" y="113"/>
                </a:lnTo>
                <a:lnTo>
                  <a:pt x="117" y="99"/>
                </a:lnTo>
                <a:lnTo>
                  <a:pt x="134" y="88"/>
                </a:lnTo>
                <a:lnTo>
                  <a:pt x="151" y="75"/>
                </a:lnTo>
                <a:lnTo>
                  <a:pt x="171" y="65"/>
                </a:lnTo>
                <a:lnTo>
                  <a:pt x="190" y="55"/>
                </a:lnTo>
                <a:lnTo>
                  <a:pt x="209" y="46"/>
                </a:lnTo>
                <a:lnTo>
                  <a:pt x="230" y="38"/>
                </a:lnTo>
                <a:lnTo>
                  <a:pt x="251" y="30"/>
                </a:lnTo>
                <a:lnTo>
                  <a:pt x="272" y="25"/>
                </a:lnTo>
                <a:lnTo>
                  <a:pt x="293" y="19"/>
                </a:lnTo>
                <a:lnTo>
                  <a:pt x="317" y="15"/>
                </a:lnTo>
                <a:lnTo>
                  <a:pt x="338" y="13"/>
                </a:lnTo>
                <a:lnTo>
                  <a:pt x="361" y="11"/>
                </a:lnTo>
                <a:lnTo>
                  <a:pt x="363" y="11"/>
                </a:lnTo>
                <a:lnTo>
                  <a:pt x="363" y="9"/>
                </a:lnTo>
                <a:lnTo>
                  <a:pt x="365" y="9"/>
                </a:lnTo>
                <a:lnTo>
                  <a:pt x="365" y="7"/>
                </a:lnTo>
                <a:lnTo>
                  <a:pt x="365" y="5"/>
                </a:lnTo>
                <a:lnTo>
                  <a:pt x="365" y="5"/>
                </a:lnTo>
                <a:lnTo>
                  <a:pt x="365" y="4"/>
                </a:lnTo>
                <a:lnTo>
                  <a:pt x="366" y="2"/>
                </a:lnTo>
                <a:lnTo>
                  <a:pt x="366" y="0"/>
                </a:lnTo>
                <a:close/>
                <a:moveTo>
                  <a:pt x="0" y="708"/>
                </a:moveTo>
                <a:lnTo>
                  <a:pt x="4" y="713"/>
                </a:lnTo>
                <a:lnTo>
                  <a:pt x="17" y="731"/>
                </a:lnTo>
                <a:lnTo>
                  <a:pt x="31" y="750"/>
                </a:lnTo>
                <a:lnTo>
                  <a:pt x="46" y="765"/>
                </a:lnTo>
                <a:lnTo>
                  <a:pt x="59" y="781"/>
                </a:lnTo>
                <a:lnTo>
                  <a:pt x="77" y="796"/>
                </a:lnTo>
                <a:lnTo>
                  <a:pt x="92" y="811"/>
                </a:lnTo>
                <a:lnTo>
                  <a:pt x="109" y="825"/>
                </a:lnTo>
                <a:lnTo>
                  <a:pt x="128" y="838"/>
                </a:lnTo>
                <a:lnTo>
                  <a:pt x="146" y="850"/>
                </a:lnTo>
                <a:lnTo>
                  <a:pt x="165" y="861"/>
                </a:lnTo>
                <a:lnTo>
                  <a:pt x="186" y="871"/>
                </a:lnTo>
                <a:lnTo>
                  <a:pt x="205" y="880"/>
                </a:lnTo>
                <a:lnTo>
                  <a:pt x="226" y="888"/>
                </a:lnTo>
                <a:lnTo>
                  <a:pt x="247" y="896"/>
                </a:lnTo>
                <a:lnTo>
                  <a:pt x="269" y="901"/>
                </a:lnTo>
                <a:lnTo>
                  <a:pt x="292" y="905"/>
                </a:lnTo>
                <a:lnTo>
                  <a:pt x="315" y="911"/>
                </a:lnTo>
                <a:lnTo>
                  <a:pt x="338" y="913"/>
                </a:lnTo>
                <a:lnTo>
                  <a:pt x="361" y="915"/>
                </a:lnTo>
                <a:lnTo>
                  <a:pt x="384" y="915"/>
                </a:lnTo>
                <a:lnTo>
                  <a:pt x="382" y="915"/>
                </a:lnTo>
                <a:lnTo>
                  <a:pt x="382" y="913"/>
                </a:lnTo>
                <a:lnTo>
                  <a:pt x="382" y="911"/>
                </a:lnTo>
                <a:lnTo>
                  <a:pt x="382" y="911"/>
                </a:lnTo>
                <a:lnTo>
                  <a:pt x="380" y="909"/>
                </a:lnTo>
                <a:lnTo>
                  <a:pt x="380" y="907"/>
                </a:lnTo>
                <a:lnTo>
                  <a:pt x="380" y="905"/>
                </a:lnTo>
                <a:lnTo>
                  <a:pt x="380" y="905"/>
                </a:lnTo>
                <a:lnTo>
                  <a:pt x="361" y="903"/>
                </a:lnTo>
                <a:lnTo>
                  <a:pt x="338" y="903"/>
                </a:lnTo>
                <a:lnTo>
                  <a:pt x="317" y="900"/>
                </a:lnTo>
                <a:lnTo>
                  <a:pt x="293" y="896"/>
                </a:lnTo>
                <a:lnTo>
                  <a:pt x="272" y="890"/>
                </a:lnTo>
                <a:lnTo>
                  <a:pt x="251" y="884"/>
                </a:lnTo>
                <a:lnTo>
                  <a:pt x="230" y="878"/>
                </a:lnTo>
                <a:lnTo>
                  <a:pt x="209" y="869"/>
                </a:lnTo>
                <a:lnTo>
                  <a:pt x="190" y="861"/>
                </a:lnTo>
                <a:lnTo>
                  <a:pt x="171" y="852"/>
                </a:lnTo>
                <a:lnTo>
                  <a:pt x="151" y="840"/>
                </a:lnTo>
                <a:lnTo>
                  <a:pt x="134" y="829"/>
                </a:lnTo>
                <a:lnTo>
                  <a:pt x="117" y="815"/>
                </a:lnTo>
                <a:lnTo>
                  <a:pt x="100" y="804"/>
                </a:lnTo>
                <a:lnTo>
                  <a:pt x="82" y="788"/>
                </a:lnTo>
                <a:lnTo>
                  <a:pt x="67" y="775"/>
                </a:lnTo>
                <a:lnTo>
                  <a:pt x="54" y="758"/>
                </a:lnTo>
                <a:lnTo>
                  <a:pt x="38" y="742"/>
                </a:lnTo>
                <a:lnTo>
                  <a:pt x="25" y="725"/>
                </a:lnTo>
                <a:lnTo>
                  <a:pt x="13" y="708"/>
                </a:lnTo>
                <a:lnTo>
                  <a:pt x="2" y="690"/>
                </a:lnTo>
                <a:lnTo>
                  <a:pt x="2" y="688"/>
                </a:lnTo>
                <a:lnTo>
                  <a:pt x="2" y="692"/>
                </a:lnTo>
                <a:lnTo>
                  <a:pt x="2" y="694"/>
                </a:lnTo>
                <a:lnTo>
                  <a:pt x="2" y="696"/>
                </a:lnTo>
                <a:lnTo>
                  <a:pt x="2" y="698"/>
                </a:lnTo>
                <a:lnTo>
                  <a:pt x="2" y="702"/>
                </a:lnTo>
                <a:lnTo>
                  <a:pt x="2" y="704"/>
                </a:lnTo>
                <a:lnTo>
                  <a:pt x="0" y="706"/>
                </a:lnTo>
                <a:lnTo>
                  <a:pt x="0" y="708"/>
                </a:lnTo>
                <a:close/>
              </a:path>
            </a:pathLst>
          </a:custGeom>
          <a:solidFill>
            <a:srgbClr val="aa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Freeform 444"/>
          <p:cNvSpPr/>
          <p:nvPr/>
        </p:nvSpPr>
        <p:spPr>
          <a:xfrm>
            <a:off x="5737320" y="2523960"/>
            <a:ext cx="603000" cy="1438560"/>
          </a:xfrm>
          <a:custGeom>
            <a:avLst/>
            <a:gdLst>
              <a:gd name="textAreaLeft" fmla="*/ 0 w 603000"/>
              <a:gd name="textAreaRight" fmla="*/ 603360 w 603000"/>
              <a:gd name="textAreaTop" fmla="*/ 0 h 1438560"/>
              <a:gd name="textAreaBottom" fmla="*/ 1438920 h 1438560"/>
            </a:gdLst>
            <a:ahLst/>
            <a:rect l="textAreaLeft" t="textAreaTop" r="textAreaRight" b="textAreaBottom"/>
            <a:pathLst>
              <a:path w="380" h="906">
                <a:moveTo>
                  <a:pt x="363" y="0"/>
                </a:moveTo>
                <a:lnTo>
                  <a:pt x="359" y="0"/>
                </a:lnTo>
                <a:lnTo>
                  <a:pt x="336" y="2"/>
                </a:lnTo>
                <a:lnTo>
                  <a:pt x="313" y="6"/>
                </a:lnTo>
                <a:lnTo>
                  <a:pt x="291" y="10"/>
                </a:lnTo>
                <a:lnTo>
                  <a:pt x="268" y="14"/>
                </a:lnTo>
                <a:lnTo>
                  <a:pt x="247" y="22"/>
                </a:lnTo>
                <a:lnTo>
                  <a:pt x="226" y="27"/>
                </a:lnTo>
                <a:lnTo>
                  <a:pt x="205" y="37"/>
                </a:lnTo>
                <a:lnTo>
                  <a:pt x="186" y="45"/>
                </a:lnTo>
                <a:lnTo>
                  <a:pt x="167" y="54"/>
                </a:lnTo>
                <a:lnTo>
                  <a:pt x="148" y="66"/>
                </a:lnTo>
                <a:lnTo>
                  <a:pt x="128" y="77"/>
                </a:lnTo>
                <a:lnTo>
                  <a:pt x="111" y="91"/>
                </a:lnTo>
                <a:lnTo>
                  <a:pt x="94" y="104"/>
                </a:lnTo>
                <a:lnTo>
                  <a:pt x="78" y="117"/>
                </a:lnTo>
                <a:lnTo>
                  <a:pt x="73" y="123"/>
                </a:lnTo>
                <a:lnTo>
                  <a:pt x="71" y="125"/>
                </a:lnTo>
                <a:lnTo>
                  <a:pt x="71" y="127"/>
                </a:lnTo>
                <a:lnTo>
                  <a:pt x="71" y="131"/>
                </a:lnTo>
                <a:lnTo>
                  <a:pt x="71" y="133"/>
                </a:lnTo>
                <a:lnTo>
                  <a:pt x="69" y="135"/>
                </a:lnTo>
                <a:lnTo>
                  <a:pt x="69" y="137"/>
                </a:lnTo>
                <a:lnTo>
                  <a:pt x="69" y="140"/>
                </a:lnTo>
                <a:lnTo>
                  <a:pt x="67" y="142"/>
                </a:lnTo>
                <a:lnTo>
                  <a:pt x="69" y="140"/>
                </a:lnTo>
                <a:lnTo>
                  <a:pt x="84" y="125"/>
                </a:lnTo>
                <a:lnTo>
                  <a:pt x="101" y="112"/>
                </a:lnTo>
                <a:lnTo>
                  <a:pt x="117" y="98"/>
                </a:lnTo>
                <a:lnTo>
                  <a:pt x="134" y="87"/>
                </a:lnTo>
                <a:lnTo>
                  <a:pt x="153" y="75"/>
                </a:lnTo>
                <a:lnTo>
                  <a:pt x="171" y="64"/>
                </a:lnTo>
                <a:lnTo>
                  <a:pt x="190" y="54"/>
                </a:lnTo>
                <a:lnTo>
                  <a:pt x="209" y="46"/>
                </a:lnTo>
                <a:lnTo>
                  <a:pt x="230" y="37"/>
                </a:lnTo>
                <a:lnTo>
                  <a:pt x="251" y="31"/>
                </a:lnTo>
                <a:lnTo>
                  <a:pt x="272" y="25"/>
                </a:lnTo>
                <a:lnTo>
                  <a:pt x="293" y="20"/>
                </a:lnTo>
                <a:lnTo>
                  <a:pt x="315" y="16"/>
                </a:lnTo>
                <a:lnTo>
                  <a:pt x="338" y="14"/>
                </a:lnTo>
                <a:lnTo>
                  <a:pt x="359" y="12"/>
                </a:lnTo>
                <a:lnTo>
                  <a:pt x="359" y="10"/>
                </a:lnTo>
                <a:lnTo>
                  <a:pt x="361" y="8"/>
                </a:lnTo>
                <a:lnTo>
                  <a:pt x="361" y="8"/>
                </a:lnTo>
                <a:lnTo>
                  <a:pt x="361" y="6"/>
                </a:lnTo>
                <a:lnTo>
                  <a:pt x="361" y="4"/>
                </a:lnTo>
                <a:lnTo>
                  <a:pt x="363" y="4"/>
                </a:lnTo>
                <a:lnTo>
                  <a:pt x="363" y="2"/>
                </a:lnTo>
                <a:lnTo>
                  <a:pt x="363" y="0"/>
                </a:lnTo>
                <a:close/>
                <a:moveTo>
                  <a:pt x="0" y="693"/>
                </a:moveTo>
                <a:lnTo>
                  <a:pt x="7" y="707"/>
                </a:lnTo>
                <a:lnTo>
                  <a:pt x="19" y="724"/>
                </a:lnTo>
                <a:lnTo>
                  <a:pt x="32" y="741"/>
                </a:lnTo>
                <a:lnTo>
                  <a:pt x="48" y="756"/>
                </a:lnTo>
                <a:lnTo>
                  <a:pt x="61" y="772"/>
                </a:lnTo>
                <a:lnTo>
                  <a:pt x="78" y="787"/>
                </a:lnTo>
                <a:lnTo>
                  <a:pt x="94" y="802"/>
                </a:lnTo>
                <a:lnTo>
                  <a:pt x="111" y="816"/>
                </a:lnTo>
                <a:lnTo>
                  <a:pt x="128" y="827"/>
                </a:lnTo>
                <a:lnTo>
                  <a:pt x="148" y="839"/>
                </a:lnTo>
                <a:lnTo>
                  <a:pt x="167" y="850"/>
                </a:lnTo>
                <a:lnTo>
                  <a:pt x="186" y="860"/>
                </a:lnTo>
                <a:lnTo>
                  <a:pt x="205" y="870"/>
                </a:lnTo>
                <a:lnTo>
                  <a:pt x="226" y="877"/>
                </a:lnTo>
                <a:lnTo>
                  <a:pt x="247" y="885"/>
                </a:lnTo>
                <a:lnTo>
                  <a:pt x="268" y="891"/>
                </a:lnTo>
                <a:lnTo>
                  <a:pt x="291" y="896"/>
                </a:lnTo>
                <a:lnTo>
                  <a:pt x="313" y="900"/>
                </a:lnTo>
                <a:lnTo>
                  <a:pt x="336" y="902"/>
                </a:lnTo>
                <a:lnTo>
                  <a:pt x="359" y="904"/>
                </a:lnTo>
                <a:lnTo>
                  <a:pt x="380" y="906"/>
                </a:lnTo>
                <a:lnTo>
                  <a:pt x="378" y="904"/>
                </a:lnTo>
                <a:lnTo>
                  <a:pt x="378" y="902"/>
                </a:lnTo>
                <a:lnTo>
                  <a:pt x="378" y="900"/>
                </a:lnTo>
                <a:lnTo>
                  <a:pt x="378" y="900"/>
                </a:lnTo>
                <a:lnTo>
                  <a:pt x="376" y="898"/>
                </a:lnTo>
                <a:lnTo>
                  <a:pt x="376" y="896"/>
                </a:lnTo>
                <a:lnTo>
                  <a:pt x="376" y="896"/>
                </a:lnTo>
                <a:lnTo>
                  <a:pt x="376" y="895"/>
                </a:lnTo>
                <a:lnTo>
                  <a:pt x="359" y="895"/>
                </a:lnTo>
                <a:lnTo>
                  <a:pt x="338" y="893"/>
                </a:lnTo>
                <a:lnTo>
                  <a:pt x="315" y="889"/>
                </a:lnTo>
                <a:lnTo>
                  <a:pt x="293" y="885"/>
                </a:lnTo>
                <a:lnTo>
                  <a:pt x="272" y="881"/>
                </a:lnTo>
                <a:lnTo>
                  <a:pt x="251" y="875"/>
                </a:lnTo>
                <a:lnTo>
                  <a:pt x="230" y="868"/>
                </a:lnTo>
                <a:lnTo>
                  <a:pt x="209" y="860"/>
                </a:lnTo>
                <a:lnTo>
                  <a:pt x="190" y="850"/>
                </a:lnTo>
                <a:lnTo>
                  <a:pt x="171" y="841"/>
                </a:lnTo>
                <a:lnTo>
                  <a:pt x="153" y="831"/>
                </a:lnTo>
                <a:lnTo>
                  <a:pt x="134" y="820"/>
                </a:lnTo>
                <a:lnTo>
                  <a:pt x="117" y="806"/>
                </a:lnTo>
                <a:lnTo>
                  <a:pt x="101" y="793"/>
                </a:lnTo>
                <a:lnTo>
                  <a:pt x="84" y="779"/>
                </a:lnTo>
                <a:lnTo>
                  <a:pt x="69" y="766"/>
                </a:lnTo>
                <a:lnTo>
                  <a:pt x="55" y="751"/>
                </a:lnTo>
                <a:lnTo>
                  <a:pt x="40" y="733"/>
                </a:lnTo>
                <a:lnTo>
                  <a:pt x="29" y="718"/>
                </a:lnTo>
                <a:lnTo>
                  <a:pt x="15" y="699"/>
                </a:lnTo>
                <a:lnTo>
                  <a:pt x="4" y="682"/>
                </a:lnTo>
                <a:lnTo>
                  <a:pt x="0" y="674"/>
                </a:lnTo>
                <a:lnTo>
                  <a:pt x="0" y="676"/>
                </a:lnTo>
                <a:lnTo>
                  <a:pt x="0" y="680"/>
                </a:lnTo>
                <a:lnTo>
                  <a:pt x="0" y="682"/>
                </a:lnTo>
                <a:lnTo>
                  <a:pt x="0" y="683"/>
                </a:lnTo>
                <a:lnTo>
                  <a:pt x="0" y="685"/>
                </a:lnTo>
                <a:lnTo>
                  <a:pt x="0" y="689"/>
                </a:lnTo>
                <a:lnTo>
                  <a:pt x="0" y="691"/>
                </a:lnTo>
                <a:lnTo>
                  <a:pt x="0" y="693"/>
                </a:lnTo>
                <a:close/>
              </a:path>
            </a:pathLst>
          </a:custGeom>
          <a:solidFill>
            <a:srgbClr val="ab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Freeform 445"/>
          <p:cNvSpPr/>
          <p:nvPr/>
        </p:nvSpPr>
        <p:spPr>
          <a:xfrm>
            <a:off x="5737320" y="2533680"/>
            <a:ext cx="600120" cy="1419120"/>
          </a:xfrm>
          <a:custGeom>
            <a:avLst/>
            <a:gdLst>
              <a:gd name="textAreaLeft" fmla="*/ 0 w 600120"/>
              <a:gd name="textAreaRight" fmla="*/ 600480 w 600120"/>
              <a:gd name="textAreaTop" fmla="*/ 0 h 1419120"/>
              <a:gd name="textAreaBottom" fmla="*/ 1419480 h 1419120"/>
            </a:gdLst>
            <a:ahLst/>
            <a:rect l="textAreaLeft" t="textAreaTop" r="textAreaRight" b="textAreaBottom"/>
            <a:pathLst>
              <a:path w="378" h="894">
                <a:moveTo>
                  <a:pt x="361" y="0"/>
                </a:moveTo>
                <a:lnTo>
                  <a:pt x="359" y="0"/>
                </a:lnTo>
                <a:lnTo>
                  <a:pt x="336" y="2"/>
                </a:lnTo>
                <a:lnTo>
                  <a:pt x="315" y="4"/>
                </a:lnTo>
                <a:lnTo>
                  <a:pt x="291" y="8"/>
                </a:lnTo>
                <a:lnTo>
                  <a:pt x="270" y="14"/>
                </a:lnTo>
                <a:lnTo>
                  <a:pt x="249" y="19"/>
                </a:lnTo>
                <a:lnTo>
                  <a:pt x="228" y="27"/>
                </a:lnTo>
                <a:lnTo>
                  <a:pt x="207" y="35"/>
                </a:lnTo>
                <a:lnTo>
                  <a:pt x="188" y="44"/>
                </a:lnTo>
                <a:lnTo>
                  <a:pt x="169" y="54"/>
                </a:lnTo>
                <a:lnTo>
                  <a:pt x="149" y="64"/>
                </a:lnTo>
                <a:lnTo>
                  <a:pt x="132" y="77"/>
                </a:lnTo>
                <a:lnTo>
                  <a:pt x="115" y="88"/>
                </a:lnTo>
                <a:lnTo>
                  <a:pt x="98" y="102"/>
                </a:lnTo>
                <a:lnTo>
                  <a:pt x="80" y="115"/>
                </a:lnTo>
                <a:lnTo>
                  <a:pt x="71" y="127"/>
                </a:lnTo>
                <a:lnTo>
                  <a:pt x="69" y="129"/>
                </a:lnTo>
                <a:lnTo>
                  <a:pt x="69" y="131"/>
                </a:lnTo>
                <a:lnTo>
                  <a:pt x="69" y="134"/>
                </a:lnTo>
                <a:lnTo>
                  <a:pt x="67" y="136"/>
                </a:lnTo>
                <a:lnTo>
                  <a:pt x="67" y="138"/>
                </a:lnTo>
                <a:lnTo>
                  <a:pt x="67" y="142"/>
                </a:lnTo>
                <a:lnTo>
                  <a:pt x="67" y="144"/>
                </a:lnTo>
                <a:lnTo>
                  <a:pt x="65" y="146"/>
                </a:lnTo>
                <a:lnTo>
                  <a:pt x="73" y="138"/>
                </a:lnTo>
                <a:lnTo>
                  <a:pt x="88" y="123"/>
                </a:lnTo>
                <a:lnTo>
                  <a:pt x="103" y="110"/>
                </a:lnTo>
                <a:lnTo>
                  <a:pt x="121" y="96"/>
                </a:lnTo>
                <a:lnTo>
                  <a:pt x="138" y="85"/>
                </a:lnTo>
                <a:lnTo>
                  <a:pt x="155" y="73"/>
                </a:lnTo>
                <a:lnTo>
                  <a:pt x="174" y="64"/>
                </a:lnTo>
                <a:lnTo>
                  <a:pt x="192" y="54"/>
                </a:lnTo>
                <a:lnTo>
                  <a:pt x="213" y="44"/>
                </a:lnTo>
                <a:lnTo>
                  <a:pt x="232" y="37"/>
                </a:lnTo>
                <a:lnTo>
                  <a:pt x="251" y="31"/>
                </a:lnTo>
                <a:lnTo>
                  <a:pt x="272" y="23"/>
                </a:lnTo>
                <a:lnTo>
                  <a:pt x="293" y="19"/>
                </a:lnTo>
                <a:lnTo>
                  <a:pt x="315" y="16"/>
                </a:lnTo>
                <a:lnTo>
                  <a:pt x="338" y="12"/>
                </a:lnTo>
                <a:lnTo>
                  <a:pt x="357" y="12"/>
                </a:lnTo>
                <a:lnTo>
                  <a:pt x="357" y="10"/>
                </a:lnTo>
                <a:lnTo>
                  <a:pt x="359" y="8"/>
                </a:lnTo>
                <a:lnTo>
                  <a:pt x="359" y="8"/>
                </a:lnTo>
                <a:lnTo>
                  <a:pt x="359" y="6"/>
                </a:lnTo>
                <a:lnTo>
                  <a:pt x="359" y="4"/>
                </a:lnTo>
                <a:lnTo>
                  <a:pt x="361" y="2"/>
                </a:lnTo>
                <a:lnTo>
                  <a:pt x="361" y="2"/>
                </a:lnTo>
                <a:lnTo>
                  <a:pt x="361" y="0"/>
                </a:lnTo>
                <a:close/>
                <a:moveTo>
                  <a:pt x="0" y="677"/>
                </a:moveTo>
                <a:lnTo>
                  <a:pt x="0" y="679"/>
                </a:lnTo>
                <a:lnTo>
                  <a:pt x="11" y="697"/>
                </a:lnTo>
                <a:lnTo>
                  <a:pt x="23" y="714"/>
                </a:lnTo>
                <a:lnTo>
                  <a:pt x="36" y="731"/>
                </a:lnTo>
                <a:lnTo>
                  <a:pt x="52" y="747"/>
                </a:lnTo>
                <a:lnTo>
                  <a:pt x="65" y="764"/>
                </a:lnTo>
                <a:lnTo>
                  <a:pt x="80" y="777"/>
                </a:lnTo>
                <a:lnTo>
                  <a:pt x="98" y="793"/>
                </a:lnTo>
                <a:lnTo>
                  <a:pt x="115" y="804"/>
                </a:lnTo>
                <a:lnTo>
                  <a:pt x="132" y="818"/>
                </a:lnTo>
                <a:lnTo>
                  <a:pt x="149" y="829"/>
                </a:lnTo>
                <a:lnTo>
                  <a:pt x="169" y="841"/>
                </a:lnTo>
                <a:lnTo>
                  <a:pt x="188" y="850"/>
                </a:lnTo>
                <a:lnTo>
                  <a:pt x="207" y="858"/>
                </a:lnTo>
                <a:lnTo>
                  <a:pt x="228" y="867"/>
                </a:lnTo>
                <a:lnTo>
                  <a:pt x="249" y="873"/>
                </a:lnTo>
                <a:lnTo>
                  <a:pt x="270" y="879"/>
                </a:lnTo>
                <a:lnTo>
                  <a:pt x="291" y="885"/>
                </a:lnTo>
                <a:lnTo>
                  <a:pt x="315" y="889"/>
                </a:lnTo>
                <a:lnTo>
                  <a:pt x="336" y="892"/>
                </a:lnTo>
                <a:lnTo>
                  <a:pt x="359" y="892"/>
                </a:lnTo>
                <a:lnTo>
                  <a:pt x="378" y="894"/>
                </a:lnTo>
                <a:lnTo>
                  <a:pt x="376" y="892"/>
                </a:lnTo>
                <a:lnTo>
                  <a:pt x="376" y="890"/>
                </a:lnTo>
                <a:lnTo>
                  <a:pt x="376" y="890"/>
                </a:lnTo>
                <a:lnTo>
                  <a:pt x="376" y="889"/>
                </a:lnTo>
                <a:lnTo>
                  <a:pt x="374" y="887"/>
                </a:lnTo>
                <a:lnTo>
                  <a:pt x="374" y="887"/>
                </a:lnTo>
                <a:lnTo>
                  <a:pt x="374" y="885"/>
                </a:lnTo>
                <a:lnTo>
                  <a:pt x="374" y="883"/>
                </a:lnTo>
                <a:lnTo>
                  <a:pt x="359" y="883"/>
                </a:lnTo>
                <a:lnTo>
                  <a:pt x="338" y="881"/>
                </a:lnTo>
                <a:lnTo>
                  <a:pt x="315" y="879"/>
                </a:lnTo>
                <a:lnTo>
                  <a:pt x="293" y="875"/>
                </a:lnTo>
                <a:lnTo>
                  <a:pt x="272" y="869"/>
                </a:lnTo>
                <a:lnTo>
                  <a:pt x="251" y="864"/>
                </a:lnTo>
                <a:lnTo>
                  <a:pt x="232" y="856"/>
                </a:lnTo>
                <a:lnTo>
                  <a:pt x="213" y="848"/>
                </a:lnTo>
                <a:lnTo>
                  <a:pt x="192" y="841"/>
                </a:lnTo>
                <a:lnTo>
                  <a:pt x="174" y="831"/>
                </a:lnTo>
                <a:lnTo>
                  <a:pt x="155" y="819"/>
                </a:lnTo>
                <a:lnTo>
                  <a:pt x="138" y="808"/>
                </a:lnTo>
                <a:lnTo>
                  <a:pt x="121" y="796"/>
                </a:lnTo>
                <a:lnTo>
                  <a:pt x="103" y="783"/>
                </a:lnTo>
                <a:lnTo>
                  <a:pt x="88" y="770"/>
                </a:lnTo>
                <a:lnTo>
                  <a:pt x="73" y="756"/>
                </a:lnTo>
                <a:lnTo>
                  <a:pt x="59" y="741"/>
                </a:lnTo>
                <a:lnTo>
                  <a:pt x="46" y="724"/>
                </a:lnTo>
                <a:lnTo>
                  <a:pt x="32" y="708"/>
                </a:lnTo>
                <a:lnTo>
                  <a:pt x="21" y="691"/>
                </a:lnTo>
                <a:lnTo>
                  <a:pt x="9" y="674"/>
                </a:lnTo>
                <a:lnTo>
                  <a:pt x="0" y="658"/>
                </a:lnTo>
                <a:lnTo>
                  <a:pt x="0" y="660"/>
                </a:lnTo>
                <a:lnTo>
                  <a:pt x="0" y="662"/>
                </a:lnTo>
                <a:lnTo>
                  <a:pt x="0" y="666"/>
                </a:lnTo>
                <a:lnTo>
                  <a:pt x="0" y="668"/>
                </a:lnTo>
                <a:lnTo>
                  <a:pt x="0" y="670"/>
                </a:lnTo>
                <a:lnTo>
                  <a:pt x="0" y="674"/>
                </a:lnTo>
                <a:lnTo>
                  <a:pt x="0" y="676"/>
                </a:lnTo>
                <a:lnTo>
                  <a:pt x="0" y="677"/>
                </a:lnTo>
                <a:close/>
              </a:path>
            </a:pathLst>
          </a:custGeom>
          <a:solidFill>
            <a:srgbClr val="ac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446"/>
          <p:cNvSpPr/>
          <p:nvPr/>
        </p:nvSpPr>
        <p:spPr>
          <a:xfrm>
            <a:off x="5737320" y="2543040"/>
            <a:ext cx="596880" cy="1401840"/>
          </a:xfrm>
          <a:custGeom>
            <a:avLst/>
            <a:gdLst>
              <a:gd name="textAreaLeft" fmla="*/ 0 w 596880"/>
              <a:gd name="textAreaRight" fmla="*/ 597240 w 596880"/>
              <a:gd name="textAreaTop" fmla="*/ 0 h 1401840"/>
              <a:gd name="textAreaBottom" fmla="*/ 1402200 h 1401840"/>
            </a:gdLst>
            <a:ahLst/>
            <a:rect l="textAreaLeft" t="textAreaTop" r="textAreaRight" b="textAreaBottom"/>
            <a:pathLst>
              <a:path w="376" h="883">
                <a:moveTo>
                  <a:pt x="359" y="0"/>
                </a:moveTo>
                <a:lnTo>
                  <a:pt x="338" y="2"/>
                </a:lnTo>
                <a:lnTo>
                  <a:pt x="315" y="4"/>
                </a:lnTo>
                <a:lnTo>
                  <a:pt x="293" y="8"/>
                </a:lnTo>
                <a:lnTo>
                  <a:pt x="272" y="13"/>
                </a:lnTo>
                <a:lnTo>
                  <a:pt x="251" y="19"/>
                </a:lnTo>
                <a:lnTo>
                  <a:pt x="230" y="25"/>
                </a:lnTo>
                <a:lnTo>
                  <a:pt x="209" y="34"/>
                </a:lnTo>
                <a:lnTo>
                  <a:pt x="190" y="42"/>
                </a:lnTo>
                <a:lnTo>
                  <a:pt x="171" y="52"/>
                </a:lnTo>
                <a:lnTo>
                  <a:pt x="153" y="63"/>
                </a:lnTo>
                <a:lnTo>
                  <a:pt x="134" y="75"/>
                </a:lnTo>
                <a:lnTo>
                  <a:pt x="117" y="86"/>
                </a:lnTo>
                <a:lnTo>
                  <a:pt x="101" y="100"/>
                </a:lnTo>
                <a:lnTo>
                  <a:pt x="84" y="113"/>
                </a:lnTo>
                <a:lnTo>
                  <a:pt x="69" y="128"/>
                </a:lnTo>
                <a:lnTo>
                  <a:pt x="67" y="130"/>
                </a:lnTo>
                <a:lnTo>
                  <a:pt x="67" y="132"/>
                </a:lnTo>
                <a:lnTo>
                  <a:pt x="67" y="136"/>
                </a:lnTo>
                <a:lnTo>
                  <a:pt x="67" y="138"/>
                </a:lnTo>
                <a:lnTo>
                  <a:pt x="65" y="140"/>
                </a:lnTo>
                <a:lnTo>
                  <a:pt x="65" y="142"/>
                </a:lnTo>
                <a:lnTo>
                  <a:pt x="65" y="146"/>
                </a:lnTo>
                <a:lnTo>
                  <a:pt x="63" y="148"/>
                </a:lnTo>
                <a:lnTo>
                  <a:pt x="63" y="150"/>
                </a:lnTo>
                <a:lnTo>
                  <a:pt x="77" y="136"/>
                </a:lnTo>
                <a:lnTo>
                  <a:pt x="92" y="121"/>
                </a:lnTo>
                <a:lnTo>
                  <a:pt x="107" y="107"/>
                </a:lnTo>
                <a:lnTo>
                  <a:pt x="125" y="96"/>
                </a:lnTo>
                <a:lnTo>
                  <a:pt x="140" y="82"/>
                </a:lnTo>
                <a:lnTo>
                  <a:pt x="159" y="73"/>
                </a:lnTo>
                <a:lnTo>
                  <a:pt x="176" y="61"/>
                </a:lnTo>
                <a:lnTo>
                  <a:pt x="196" y="52"/>
                </a:lnTo>
                <a:lnTo>
                  <a:pt x="215" y="44"/>
                </a:lnTo>
                <a:lnTo>
                  <a:pt x="234" y="36"/>
                </a:lnTo>
                <a:lnTo>
                  <a:pt x="253" y="29"/>
                </a:lnTo>
                <a:lnTo>
                  <a:pt x="274" y="23"/>
                </a:lnTo>
                <a:lnTo>
                  <a:pt x="295" y="19"/>
                </a:lnTo>
                <a:lnTo>
                  <a:pt x="316" y="15"/>
                </a:lnTo>
                <a:lnTo>
                  <a:pt x="338" y="11"/>
                </a:lnTo>
                <a:lnTo>
                  <a:pt x="355" y="11"/>
                </a:lnTo>
                <a:lnTo>
                  <a:pt x="357" y="10"/>
                </a:lnTo>
                <a:lnTo>
                  <a:pt x="357" y="8"/>
                </a:lnTo>
                <a:lnTo>
                  <a:pt x="357" y="6"/>
                </a:lnTo>
                <a:lnTo>
                  <a:pt x="357" y="6"/>
                </a:lnTo>
                <a:lnTo>
                  <a:pt x="357" y="4"/>
                </a:lnTo>
                <a:lnTo>
                  <a:pt x="359" y="2"/>
                </a:lnTo>
                <a:lnTo>
                  <a:pt x="359" y="2"/>
                </a:lnTo>
                <a:lnTo>
                  <a:pt x="359" y="0"/>
                </a:lnTo>
                <a:close/>
                <a:moveTo>
                  <a:pt x="0" y="662"/>
                </a:moveTo>
                <a:lnTo>
                  <a:pt x="4" y="670"/>
                </a:lnTo>
                <a:lnTo>
                  <a:pt x="15" y="687"/>
                </a:lnTo>
                <a:lnTo>
                  <a:pt x="29" y="706"/>
                </a:lnTo>
                <a:lnTo>
                  <a:pt x="40" y="721"/>
                </a:lnTo>
                <a:lnTo>
                  <a:pt x="55" y="739"/>
                </a:lnTo>
                <a:lnTo>
                  <a:pt x="69" y="754"/>
                </a:lnTo>
                <a:lnTo>
                  <a:pt x="84" y="767"/>
                </a:lnTo>
                <a:lnTo>
                  <a:pt x="101" y="781"/>
                </a:lnTo>
                <a:lnTo>
                  <a:pt x="117" y="794"/>
                </a:lnTo>
                <a:lnTo>
                  <a:pt x="134" y="808"/>
                </a:lnTo>
                <a:lnTo>
                  <a:pt x="153" y="819"/>
                </a:lnTo>
                <a:lnTo>
                  <a:pt x="171" y="829"/>
                </a:lnTo>
                <a:lnTo>
                  <a:pt x="190" y="838"/>
                </a:lnTo>
                <a:lnTo>
                  <a:pt x="209" y="848"/>
                </a:lnTo>
                <a:lnTo>
                  <a:pt x="230" y="856"/>
                </a:lnTo>
                <a:lnTo>
                  <a:pt x="251" y="863"/>
                </a:lnTo>
                <a:lnTo>
                  <a:pt x="272" y="869"/>
                </a:lnTo>
                <a:lnTo>
                  <a:pt x="293" y="873"/>
                </a:lnTo>
                <a:lnTo>
                  <a:pt x="315" y="877"/>
                </a:lnTo>
                <a:lnTo>
                  <a:pt x="338" y="881"/>
                </a:lnTo>
                <a:lnTo>
                  <a:pt x="359" y="883"/>
                </a:lnTo>
                <a:lnTo>
                  <a:pt x="376" y="883"/>
                </a:lnTo>
                <a:lnTo>
                  <a:pt x="374" y="881"/>
                </a:lnTo>
                <a:lnTo>
                  <a:pt x="374" y="881"/>
                </a:lnTo>
                <a:lnTo>
                  <a:pt x="374" y="879"/>
                </a:lnTo>
                <a:lnTo>
                  <a:pt x="374" y="877"/>
                </a:lnTo>
                <a:lnTo>
                  <a:pt x="372" y="875"/>
                </a:lnTo>
                <a:lnTo>
                  <a:pt x="372" y="875"/>
                </a:lnTo>
                <a:lnTo>
                  <a:pt x="372" y="873"/>
                </a:lnTo>
                <a:lnTo>
                  <a:pt x="372" y="871"/>
                </a:lnTo>
                <a:lnTo>
                  <a:pt x="361" y="871"/>
                </a:lnTo>
                <a:lnTo>
                  <a:pt x="338" y="869"/>
                </a:lnTo>
                <a:lnTo>
                  <a:pt x="316" y="867"/>
                </a:lnTo>
                <a:lnTo>
                  <a:pt x="295" y="863"/>
                </a:lnTo>
                <a:lnTo>
                  <a:pt x="274" y="858"/>
                </a:lnTo>
                <a:lnTo>
                  <a:pt x="253" y="852"/>
                </a:lnTo>
                <a:lnTo>
                  <a:pt x="234" y="846"/>
                </a:lnTo>
                <a:lnTo>
                  <a:pt x="215" y="838"/>
                </a:lnTo>
                <a:lnTo>
                  <a:pt x="196" y="829"/>
                </a:lnTo>
                <a:lnTo>
                  <a:pt x="176" y="819"/>
                </a:lnTo>
                <a:lnTo>
                  <a:pt x="159" y="810"/>
                </a:lnTo>
                <a:lnTo>
                  <a:pt x="140" y="798"/>
                </a:lnTo>
                <a:lnTo>
                  <a:pt x="125" y="787"/>
                </a:lnTo>
                <a:lnTo>
                  <a:pt x="107" y="773"/>
                </a:lnTo>
                <a:lnTo>
                  <a:pt x="92" y="760"/>
                </a:lnTo>
                <a:lnTo>
                  <a:pt x="77" y="746"/>
                </a:lnTo>
                <a:lnTo>
                  <a:pt x="63" y="731"/>
                </a:lnTo>
                <a:lnTo>
                  <a:pt x="50" y="716"/>
                </a:lnTo>
                <a:lnTo>
                  <a:pt x="36" y="698"/>
                </a:lnTo>
                <a:lnTo>
                  <a:pt x="25" y="681"/>
                </a:lnTo>
                <a:lnTo>
                  <a:pt x="13" y="664"/>
                </a:lnTo>
                <a:lnTo>
                  <a:pt x="4" y="647"/>
                </a:lnTo>
                <a:lnTo>
                  <a:pt x="0" y="641"/>
                </a:lnTo>
                <a:lnTo>
                  <a:pt x="0" y="645"/>
                </a:lnTo>
                <a:lnTo>
                  <a:pt x="0" y="647"/>
                </a:lnTo>
                <a:lnTo>
                  <a:pt x="0" y="648"/>
                </a:lnTo>
                <a:lnTo>
                  <a:pt x="0" y="652"/>
                </a:lnTo>
                <a:lnTo>
                  <a:pt x="0" y="654"/>
                </a:lnTo>
                <a:lnTo>
                  <a:pt x="0" y="656"/>
                </a:lnTo>
                <a:lnTo>
                  <a:pt x="0" y="660"/>
                </a:lnTo>
                <a:lnTo>
                  <a:pt x="0" y="662"/>
                </a:lnTo>
                <a:close/>
              </a:path>
            </a:pathLst>
          </a:custGeom>
          <a:solidFill>
            <a:srgbClr val="a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Freeform 447"/>
          <p:cNvSpPr/>
          <p:nvPr/>
        </p:nvSpPr>
        <p:spPr>
          <a:xfrm>
            <a:off x="5737320" y="2552760"/>
            <a:ext cx="593640" cy="1382760"/>
          </a:xfrm>
          <a:custGeom>
            <a:avLst/>
            <a:gdLst>
              <a:gd name="textAreaLeft" fmla="*/ 0 w 593640"/>
              <a:gd name="textAreaRight" fmla="*/ 594000 w 59364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374" h="871">
                <a:moveTo>
                  <a:pt x="357" y="0"/>
                </a:moveTo>
                <a:lnTo>
                  <a:pt x="338" y="0"/>
                </a:lnTo>
                <a:lnTo>
                  <a:pt x="315" y="4"/>
                </a:lnTo>
                <a:lnTo>
                  <a:pt x="293" y="7"/>
                </a:lnTo>
                <a:lnTo>
                  <a:pt x="272" y="11"/>
                </a:lnTo>
                <a:lnTo>
                  <a:pt x="251" y="19"/>
                </a:lnTo>
                <a:lnTo>
                  <a:pt x="232" y="25"/>
                </a:lnTo>
                <a:lnTo>
                  <a:pt x="213" y="32"/>
                </a:lnTo>
                <a:lnTo>
                  <a:pt x="192" y="42"/>
                </a:lnTo>
                <a:lnTo>
                  <a:pt x="174" y="52"/>
                </a:lnTo>
                <a:lnTo>
                  <a:pt x="155" y="61"/>
                </a:lnTo>
                <a:lnTo>
                  <a:pt x="138" y="73"/>
                </a:lnTo>
                <a:lnTo>
                  <a:pt x="121" y="84"/>
                </a:lnTo>
                <a:lnTo>
                  <a:pt x="103" y="98"/>
                </a:lnTo>
                <a:lnTo>
                  <a:pt x="88" y="111"/>
                </a:lnTo>
                <a:lnTo>
                  <a:pt x="73" y="126"/>
                </a:lnTo>
                <a:lnTo>
                  <a:pt x="65" y="134"/>
                </a:lnTo>
                <a:lnTo>
                  <a:pt x="65" y="136"/>
                </a:lnTo>
                <a:lnTo>
                  <a:pt x="65" y="140"/>
                </a:lnTo>
                <a:lnTo>
                  <a:pt x="63" y="142"/>
                </a:lnTo>
                <a:lnTo>
                  <a:pt x="63" y="146"/>
                </a:lnTo>
                <a:lnTo>
                  <a:pt x="63" y="147"/>
                </a:lnTo>
                <a:lnTo>
                  <a:pt x="63" y="149"/>
                </a:lnTo>
                <a:lnTo>
                  <a:pt x="61" y="153"/>
                </a:lnTo>
                <a:lnTo>
                  <a:pt x="61" y="155"/>
                </a:lnTo>
                <a:lnTo>
                  <a:pt x="67" y="149"/>
                </a:lnTo>
                <a:lnTo>
                  <a:pt x="80" y="134"/>
                </a:lnTo>
                <a:lnTo>
                  <a:pt x="96" y="119"/>
                </a:lnTo>
                <a:lnTo>
                  <a:pt x="111" y="107"/>
                </a:lnTo>
                <a:lnTo>
                  <a:pt x="126" y="94"/>
                </a:lnTo>
                <a:lnTo>
                  <a:pt x="144" y="82"/>
                </a:lnTo>
                <a:lnTo>
                  <a:pt x="161" y="71"/>
                </a:lnTo>
                <a:lnTo>
                  <a:pt x="178" y="61"/>
                </a:lnTo>
                <a:lnTo>
                  <a:pt x="197" y="52"/>
                </a:lnTo>
                <a:lnTo>
                  <a:pt x="217" y="42"/>
                </a:lnTo>
                <a:lnTo>
                  <a:pt x="236" y="34"/>
                </a:lnTo>
                <a:lnTo>
                  <a:pt x="255" y="28"/>
                </a:lnTo>
                <a:lnTo>
                  <a:pt x="276" y="23"/>
                </a:lnTo>
                <a:lnTo>
                  <a:pt x="295" y="17"/>
                </a:lnTo>
                <a:lnTo>
                  <a:pt x="316" y="13"/>
                </a:lnTo>
                <a:lnTo>
                  <a:pt x="338" y="11"/>
                </a:lnTo>
                <a:lnTo>
                  <a:pt x="353" y="9"/>
                </a:lnTo>
                <a:lnTo>
                  <a:pt x="355" y="9"/>
                </a:lnTo>
                <a:lnTo>
                  <a:pt x="355" y="7"/>
                </a:lnTo>
                <a:lnTo>
                  <a:pt x="355" y="5"/>
                </a:lnTo>
                <a:lnTo>
                  <a:pt x="355" y="5"/>
                </a:lnTo>
                <a:lnTo>
                  <a:pt x="357" y="4"/>
                </a:lnTo>
                <a:lnTo>
                  <a:pt x="357" y="2"/>
                </a:lnTo>
                <a:lnTo>
                  <a:pt x="357" y="0"/>
                </a:lnTo>
                <a:lnTo>
                  <a:pt x="357" y="0"/>
                </a:lnTo>
                <a:close/>
                <a:moveTo>
                  <a:pt x="0" y="646"/>
                </a:moveTo>
                <a:lnTo>
                  <a:pt x="9" y="662"/>
                </a:lnTo>
                <a:lnTo>
                  <a:pt x="21" y="679"/>
                </a:lnTo>
                <a:lnTo>
                  <a:pt x="32" y="696"/>
                </a:lnTo>
                <a:lnTo>
                  <a:pt x="46" y="712"/>
                </a:lnTo>
                <a:lnTo>
                  <a:pt x="59" y="729"/>
                </a:lnTo>
                <a:lnTo>
                  <a:pt x="73" y="744"/>
                </a:lnTo>
                <a:lnTo>
                  <a:pt x="88" y="758"/>
                </a:lnTo>
                <a:lnTo>
                  <a:pt x="103" y="771"/>
                </a:lnTo>
                <a:lnTo>
                  <a:pt x="121" y="784"/>
                </a:lnTo>
                <a:lnTo>
                  <a:pt x="138" y="796"/>
                </a:lnTo>
                <a:lnTo>
                  <a:pt x="155" y="807"/>
                </a:lnTo>
                <a:lnTo>
                  <a:pt x="174" y="819"/>
                </a:lnTo>
                <a:lnTo>
                  <a:pt x="192" y="829"/>
                </a:lnTo>
                <a:lnTo>
                  <a:pt x="213" y="836"/>
                </a:lnTo>
                <a:lnTo>
                  <a:pt x="232" y="844"/>
                </a:lnTo>
                <a:lnTo>
                  <a:pt x="251" y="852"/>
                </a:lnTo>
                <a:lnTo>
                  <a:pt x="272" y="857"/>
                </a:lnTo>
                <a:lnTo>
                  <a:pt x="293" y="863"/>
                </a:lnTo>
                <a:lnTo>
                  <a:pt x="315" y="867"/>
                </a:lnTo>
                <a:lnTo>
                  <a:pt x="338" y="869"/>
                </a:lnTo>
                <a:lnTo>
                  <a:pt x="359" y="871"/>
                </a:lnTo>
                <a:lnTo>
                  <a:pt x="374" y="871"/>
                </a:lnTo>
                <a:lnTo>
                  <a:pt x="372" y="869"/>
                </a:lnTo>
                <a:lnTo>
                  <a:pt x="372" y="869"/>
                </a:lnTo>
                <a:lnTo>
                  <a:pt x="372" y="867"/>
                </a:lnTo>
                <a:lnTo>
                  <a:pt x="372" y="865"/>
                </a:lnTo>
                <a:lnTo>
                  <a:pt x="370" y="865"/>
                </a:lnTo>
                <a:lnTo>
                  <a:pt x="370" y="863"/>
                </a:lnTo>
                <a:lnTo>
                  <a:pt x="370" y="861"/>
                </a:lnTo>
                <a:lnTo>
                  <a:pt x="370" y="861"/>
                </a:lnTo>
                <a:lnTo>
                  <a:pt x="361" y="859"/>
                </a:lnTo>
                <a:lnTo>
                  <a:pt x="338" y="859"/>
                </a:lnTo>
                <a:lnTo>
                  <a:pt x="316" y="855"/>
                </a:lnTo>
                <a:lnTo>
                  <a:pt x="295" y="852"/>
                </a:lnTo>
                <a:lnTo>
                  <a:pt x="276" y="848"/>
                </a:lnTo>
                <a:lnTo>
                  <a:pt x="255" y="842"/>
                </a:lnTo>
                <a:lnTo>
                  <a:pt x="236" y="834"/>
                </a:lnTo>
                <a:lnTo>
                  <a:pt x="217" y="827"/>
                </a:lnTo>
                <a:lnTo>
                  <a:pt x="197" y="819"/>
                </a:lnTo>
                <a:lnTo>
                  <a:pt x="178" y="809"/>
                </a:lnTo>
                <a:lnTo>
                  <a:pt x="161" y="800"/>
                </a:lnTo>
                <a:lnTo>
                  <a:pt x="144" y="788"/>
                </a:lnTo>
                <a:lnTo>
                  <a:pt x="126" y="777"/>
                </a:lnTo>
                <a:lnTo>
                  <a:pt x="111" y="763"/>
                </a:lnTo>
                <a:lnTo>
                  <a:pt x="96" y="750"/>
                </a:lnTo>
                <a:lnTo>
                  <a:pt x="80" y="736"/>
                </a:lnTo>
                <a:lnTo>
                  <a:pt x="67" y="721"/>
                </a:lnTo>
                <a:lnTo>
                  <a:pt x="53" y="706"/>
                </a:lnTo>
                <a:lnTo>
                  <a:pt x="40" y="690"/>
                </a:lnTo>
                <a:lnTo>
                  <a:pt x="29" y="673"/>
                </a:lnTo>
                <a:lnTo>
                  <a:pt x="17" y="656"/>
                </a:lnTo>
                <a:lnTo>
                  <a:pt x="7" y="639"/>
                </a:lnTo>
                <a:lnTo>
                  <a:pt x="0" y="625"/>
                </a:lnTo>
                <a:lnTo>
                  <a:pt x="0" y="627"/>
                </a:lnTo>
                <a:lnTo>
                  <a:pt x="0" y="629"/>
                </a:lnTo>
                <a:lnTo>
                  <a:pt x="0" y="633"/>
                </a:lnTo>
                <a:lnTo>
                  <a:pt x="0" y="635"/>
                </a:lnTo>
                <a:lnTo>
                  <a:pt x="0" y="639"/>
                </a:lnTo>
                <a:lnTo>
                  <a:pt x="0" y="641"/>
                </a:lnTo>
                <a:lnTo>
                  <a:pt x="0" y="642"/>
                </a:lnTo>
                <a:lnTo>
                  <a:pt x="0" y="646"/>
                </a:lnTo>
                <a:close/>
              </a:path>
            </a:pathLst>
          </a:custGeom>
          <a:solidFill>
            <a:srgbClr val="ae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Freeform 448"/>
          <p:cNvSpPr/>
          <p:nvPr/>
        </p:nvSpPr>
        <p:spPr>
          <a:xfrm>
            <a:off x="5737320" y="2560680"/>
            <a:ext cx="590400" cy="1365120"/>
          </a:xfrm>
          <a:custGeom>
            <a:avLst/>
            <a:gdLst>
              <a:gd name="textAreaLeft" fmla="*/ 0 w 590400"/>
              <a:gd name="textAreaRight" fmla="*/ 590760 w 590400"/>
              <a:gd name="textAreaTop" fmla="*/ 0 h 1365120"/>
              <a:gd name="textAreaBottom" fmla="*/ 1365120 h 1365120"/>
            </a:gdLst>
            <a:ahLst/>
            <a:rect l="textAreaLeft" t="textAreaTop" r="textAreaRight" b="textAreaBottom"/>
            <a:pathLst>
              <a:path w="372" h="860">
                <a:moveTo>
                  <a:pt x="355" y="0"/>
                </a:moveTo>
                <a:lnTo>
                  <a:pt x="338" y="0"/>
                </a:lnTo>
                <a:lnTo>
                  <a:pt x="316" y="4"/>
                </a:lnTo>
                <a:lnTo>
                  <a:pt x="295" y="8"/>
                </a:lnTo>
                <a:lnTo>
                  <a:pt x="274" y="12"/>
                </a:lnTo>
                <a:lnTo>
                  <a:pt x="253" y="18"/>
                </a:lnTo>
                <a:lnTo>
                  <a:pt x="234" y="25"/>
                </a:lnTo>
                <a:lnTo>
                  <a:pt x="215" y="33"/>
                </a:lnTo>
                <a:lnTo>
                  <a:pt x="196" y="41"/>
                </a:lnTo>
                <a:lnTo>
                  <a:pt x="176" y="50"/>
                </a:lnTo>
                <a:lnTo>
                  <a:pt x="159" y="62"/>
                </a:lnTo>
                <a:lnTo>
                  <a:pt x="140" y="71"/>
                </a:lnTo>
                <a:lnTo>
                  <a:pt x="125" y="85"/>
                </a:lnTo>
                <a:lnTo>
                  <a:pt x="107" y="96"/>
                </a:lnTo>
                <a:lnTo>
                  <a:pt x="92" y="110"/>
                </a:lnTo>
                <a:lnTo>
                  <a:pt x="77" y="125"/>
                </a:lnTo>
                <a:lnTo>
                  <a:pt x="63" y="139"/>
                </a:lnTo>
                <a:lnTo>
                  <a:pt x="63" y="142"/>
                </a:lnTo>
                <a:lnTo>
                  <a:pt x="63" y="144"/>
                </a:lnTo>
                <a:lnTo>
                  <a:pt x="61" y="148"/>
                </a:lnTo>
                <a:lnTo>
                  <a:pt x="61" y="150"/>
                </a:lnTo>
                <a:lnTo>
                  <a:pt x="61" y="152"/>
                </a:lnTo>
                <a:lnTo>
                  <a:pt x="59" y="156"/>
                </a:lnTo>
                <a:lnTo>
                  <a:pt x="59" y="158"/>
                </a:lnTo>
                <a:lnTo>
                  <a:pt x="59" y="162"/>
                </a:lnTo>
                <a:lnTo>
                  <a:pt x="71" y="146"/>
                </a:lnTo>
                <a:lnTo>
                  <a:pt x="84" y="133"/>
                </a:lnTo>
                <a:lnTo>
                  <a:pt x="100" y="119"/>
                </a:lnTo>
                <a:lnTo>
                  <a:pt x="115" y="106"/>
                </a:lnTo>
                <a:lnTo>
                  <a:pt x="130" y="93"/>
                </a:lnTo>
                <a:lnTo>
                  <a:pt x="148" y="81"/>
                </a:lnTo>
                <a:lnTo>
                  <a:pt x="163" y="70"/>
                </a:lnTo>
                <a:lnTo>
                  <a:pt x="182" y="60"/>
                </a:lnTo>
                <a:lnTo>
                  <a:pt x="199" y="50"/>
                </a:lnTo>
                <a:lnTo>
                  <a:pt x="219" y="43"/>
                </a:lnTo>
                <a:lnTo>
                  <a:pt x="238" y="35"/>
                </a:lnTo>
                <a:lnTo>
                  <a:pt x="257" y="27"/>
                </a:lnTo>
                <a:lnTo>
                  <a:pt x="276" y="23"/>
                </a:lnTo>
                <a:lnTo>
                  <a:pt x="297" y="18"/>
                </a:lnTo>
                <a:lnTo>
                  <a:pt x="318" y="14"/>
                </a:lnTo>
                <a:lnTo>
                  <a:pt x="339" y="12"/>
                </a:lnTo>
                <a:lnTo>
                  <a:pt x="353" y="10"/>
                </a:lnTo>
                <a:lnTo>
                  <a:pt x="353" y="10"/>
                </a:lnTo>
                <a:lnTo>
                  <a:pt x="353" y="8"/>
                </a:lnTo>
                <a:lnTo>
                  <a:pt x="353" y="6"/>
                </a:lnTo>
                <a:lnTo>
                  <a:pt x="353" y="4"/>
                </a:lnTo>
                <a:lnTo>
                  <a:pt x="355" y="4"/>
                </a:lnTo>
                <a:lnTo>
                  <a:pt x="355" y="2"/>
                </a:lnTo>
                <a:lnTo>
                  <a:pt x="355" y="0"/>
                </a:lnTo>
                <a:lnTo>
                  <a:pt x="355" y="0"/>
                </a:lnTo>
                <a:close/>
                <a:moveTo>
                  <a:pt x="0" y="630"/>
                </a:moveTo>
                <a:lnTo>
                  <a:pt x="4" y="636"/>
                </a:lnTo>
                <a:lnTo>
                  <a:pt x="13" y="653"/>
                </a:lnTo>
                <a:lnTo>
                  <a:pt x="25" y="670"/>
                </a:lnTo>
                <a:lnTo>
                  <a:pt x="36" y="687"/>
                </a:lnTo>
                <a:lnTo>
                  <a:pt x="50" y="705"/>
                </a:lnTo>
                <a:lnTo>
                  <a:pt x="63" y="720"/>
                </a:lnTo>
                <a:lnTo>
                  <a:pt x="77" y="735"/>
                </a:lnTo>
                <a:lnTo>
                  <a:pt x="92" y="749"/>
                </a:lnTo>
                <a:lnTo>
                  <a:pt x="107" y="762"/>
                </a:lnTo>
                <a:lnTo>
                  <a:pt x="125" y="776"/>
                </a:lnTo>
                <a:lnTo>
                  <a:pt x="140" y="787"/>
                </a:lnTo>
                <a:lnTo>
                  <a:pt x="159" y="799"/>
                </a:lnTo>
                <a:lnTo>
                  <a:pt x="176" y="808"/>
                </a:lnTo>
                <a:lnTo>
                  <a:pt x="196" y="818"/>
                </a:lnTo>
                <a:lnTo>
                  <a:pt x="215" y="827"/>
                </a:lnTo>
                <a:lnTo>
                  <a:pt x="234" y="835"/>
                </a:lnTo>
                <a:lnTo>
                  <a:pt x="253" y="841"/>
                </a:lnTo>
                <a:lnTo>
                  <a:pt x="274" y="847"/>
                </a:lnTo>
                <a:lnTo>
                  <a:pt x="295" y="852"/>
                </a:lnTo>
                <a:lnTo>
                  <a:pt x="316" y="856"/>
                </a:lnTo>
                <a:lnTo>
                  <a:pt x="338" y="858"/>
                </a:lnTo>
                <a:lnTo>
                  <a:pt x="361" y="860"/>
                </a:lnTo>
                <a:lnTo>
                  <a:pt x="372" y="860"/>
                </a:lnTo>
                <a:lnTo>
                  <a:pt x="370" y="860"/>
                </a:lnTo>
                <a:lnTo>
                  <a:pt x="370" y="858"/>
                </a:lnTo>
                <a:lnTo>
                  <a:pt x="370" y="856"/>
                </a:lnTo>
                <a:lnTo>
                  <a:pt x="370" y="856"/>
                </a:lnTo>
                <a:lnTo>
                  <a:pt x="368" y="854"/>
                </a:lnTo>
                <a:lnTo>
                  <a:pt x="368" y="852"/>
                </a:lnTo>
                <a:lnTo>
                  <a:pt x="368" y="850"/>
                </a:lnTo>
                <a:lnTo>
                  <a:pt x="368" y="850"/>
                </a:lnTo>
                <a:lnTo>
                  <a:pt x="361" y="850"/>
                </a:lnTo>
                <a:lnTo>
                  <a:pt x="339" y="849"/>
                </a:lnTo>
                <a:lnTo>
                  <a:pt x="318" y="845"/>
                </a:lnTo>
                <a:lnTo>
                  <a:pt x="297" y="841"/>
                </a:lnTo>
                <a:lnTo>
                  <a:pt x="276" y="837"/>
                </a:lnTo>
                <a:lnTo>
                  <a:pt x="257" y="831"/>
                </a:lnTo>
                <a:lnTo>
                  <a:pt x="238" y="825"/>
                </a:lnTo>
                <a:lnTo>
                  <a:pt x="219" y="818"/>
                </a:lnTo>
                <a:lnTo>
                  <a:pt x="199" y="808"/>
                </a:lnTo>
                <a:lnTo>
                  <a:pt x="182" y="799"/>
                </a:lnTo>
                <a:lnTo>
                  <a:pt x="163" y="789"/>
                </a:lnTo>
                <a:lnTo>
                  <a:pt x="148" y="778"/>
                </a:lnTo>
                <a:lnTo>
                  <a:pt x="130" y="766"/>
                </a:lnTo>
                <a:lnTo>
                  <a:pt x="115" y="754"/>
                </a:lnTo>
                <a:lnTo>
                  <a:pt x="100" y="741"/>
                </a:lnTo>
                <a:lnTo>
                  <a:pt x="84" y="728"/>
                </a:lnTo>
                <a:lnTo>
                  <a:pt x="71" y="712"/>
                </a:lnTo>
                <a:lnTo>
                  <a:pt x="57" y="697"/>
                </a:lnTo>
                <a:lnTo>
                  <a:pt x="46" y="682"/>
                </a:lnTo>
                <a:lnTo>
                  <a:pt x="32" y="664"/>
                </a:lnTo>
                <a:lnTo>
                  <a:pt x="23" y="647"/>
                </a:lnTo>
                <a:lnTo>
                  <a:pt x="11" y="630"/>
                </a:lnTo>
                <a:lnTo>
                  <a:pt x="4" y="613"/>
                </a:lnTo>
                <a:lnTo>
                  <a:pt x="2" y="609"/>
                </a:lnTo>
                <a:lnTo>
                  <a:pt x="2" y="611"/>
                </a:lnTo>
                <a:lnTo>
                  <a:pt x="2" y="614"/>
                </a:lnTo>
                <a:lnTo>
                  <a:pt x="2" y="616"/>
                </a:lnTo>
                <a:lnTo>
                  <a:pt x="0" y="620"/>
                </a:lnTo>
                <a:lnTo>
                  <a:pt x="0" y="622"/>
                </a:lnTo>
                <a:lnTo>
                  <a:pt x="0" y="624"/>
                </a:lnTo>
                <a:lnTo>
                  <a:pt x="0" y="628"/>
                </a:lnTo>
                <a:lnTo>
                  <a:pt x="0" y="630"/>
                </a:lnTo>
                <a:close/>
              </a:path>
            </a:pathLst>
          </a:custGeom>
          <a:solidFill>
            <a:srgbClr val="af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Freeform 449"/>
          <p:cNvSpPr/>
          <p:nvPr/>
        </p:nvSpPr>
        <p:spPr>
          <a:xfrm>
            <a:off x="5737320" y="2567160"/>
            <a:ext cx="587160" cy="1352520"/>
          </a:xfrm>
          <a:custGeom>
            <a:avLst/>
            <a:gdLst>
              <a:gd name="textAreaLeft" fmla="*/ 0 w 587160"/>
              <a:gd name="textAreaRight" fmla="*/ 587520 w 587160"/>
              <a:gd name="textAreaTop" fmla="*/ 0 h 1352520"/>
              <a:gd name="textAreaBottom" fmla="*/ 1352880 h 1352520"/>
            </a:gdLst>
            <a:ahLst/>
            <a:rect l="textAreaLeft" t="textAreaTop" r="textAreaRight" b="textAreaBottom"/>
            <a:pathLst>
              <a:path w="370" h="852">
                <a:moveTo>
                  <a:pt x="353" y="0"/>
                </a:moveTo>
                <a:lnTo>
                  <a:pt x="338" y="2"/>
                </a:lnTo>
                <a:lnTo>
                  <a:pt x="316" y="4"/>
                </a:lnTo>
                <a:lnTo>
                  <a:pt x="295" y="8"/>
                </a:lnTo>
                <a:lnTo>
                  <a:pt x="276" y="14"/>
                </a:lnTo>
                <a:lnTo>
                  <a:pt x="255" y="19"/>
                </a:lnTo>
                <a:lnTo>
                  <a:pt x="236" y="25"/>
                </a:lnTo>
                <a:lnTo>
                  <a:pt x="217" y="33"/>
                </a:lnTo>
                <a:lnTo>
                  <a:pt x="197" y="43"/>
                </a:lnTo>
                <a:lnTo>
                  <a:pt x="178" y="52"/>
                </a:lnTo>
                <a:lnTo>
                  <a:pt x="161" y="62"/>
                </a:lnTo>
                <a:lnTo>
                  <a:pt x="144" y="73"/>
                </a:lnTo>
                <a:lnTo>
                  <a:pt x="126" y="85"/>
                </a:lnTo>
                <a:lnTo>
                  <a:pt x="111" y="98"/>
                </a:lnTo>
                <a:lnTo>
                  <a:pt x="96" y="110"/>
                </a:lnTo>
                <a:lnTo>
                  <a:pt x="80" y="125"/>
                </a:lnTo>
                <a:lnTo>
                  <a:pt x="67" y="140"/>
                </a:lnTo>
                <a:lnTo>
                  <a:pt x="61" y="146"/>
                </a:lnTo>
                <a:lnTo>
                  <a:pt x="61" y="148"/>
                </a:lnTo>
                <a:lnTo>
                  <a:pt x="59" y="152"/>
                </a:lnTo>
                <a:lnTo>
                  <a:pt x="59" y="154"/>
                </a:lnTo>
                <a:lnTo>
                  <a:pt x="59" y="158"/>
                </a:lnTo>
                <a:lnTo>
                  <a:pt x="57" y="160"/>
                </a:lnTo>
                <a:lnTo>
                  <a:pt x="57" y="163"/>
                </a:lnTo>
                <a:lnTo>
                  <a:pt x="57" y="165"/>
                </a:lnTo>
                <a:lnTo>
                  <a:pt x="55" y="169"/>
                </a:lnTo>
                <a:lnTo>
                  <a:pt x="61" y="161"/>
                </a:lnTo>
                <a:lnTo>
                  <a:pt x="88" y="133"/>
                </a:lnTo>
                <a:lnTo>
                  <a:pt x="117" y="106"/>
                </a:lnTo>
                <a:lnTo>
                  <a:pt x="149" y="81"/>
                </a:lnTo>
                <a:lnTo>
                  <a:pt x="167" y="71"/>
                </a:lnTo>
                <a:lnTo>
                  <a:pt x="184" y="62"/>
                </a:lnTo>
                <a:lnTo>
                  <a:pt x="201" y="52"/>
                </a:lnTo>
                <a:lnTo>
                  <a:pt x="220" y="43"/>
                </a:lnTo>
                <a:lnTo>
                  <a:pt x="240" y="37"/>
                </a:lnTo>
                <a:lnTo>
                  <a:pt x="259" y="29"/>
                </a:lnTo>
                <a:lnTo>
                  <a:pt x="278" y="23"/>
                </a:lnTo>
                <a:lnTo>
                  <a:pt x="297" y="19"/>
                </a:lnTo>
                <a:lnTo>
                  <a:pt x="318" y="16"/>
                </a:lnTo>
                <a:lnTo>
                  <a:pt x="339" y="14"/>
                </a:lnTo>
                <a:lnTo>
                  <a:pt x="351" y="12"/>
                </a:lnTo>
                <a:lnTo>
                  <a:pt x="351" y="10"/>
                </a:lnTo>
                <a:lnTo>
                  <a:pt x="351" y="10"/>
                </a:lnTo>
                <a:lnTo>
                  <a:pt x="351" y="8"/>
                </a:lnTo>
                <a:lnTo>
                  <a:pt x="353" y="6"/>
                </a:lnTo>
                <a:lnTo>
                  <a:pt x="353" y="6"/>
                </a:lnTo>
                <a:lnTo>
                  <a:pt x="353" y="4"/>
                </a:lnTo>
                <a:lnTo>
                  <a:pt x="353" y="2"/>
                </a:lnTo>
                <a:lnTo>
                  <a:pt x="353" y="0"/>
                </a:lnTo>
                <a:close/>
                <a:moveTo>
                  <a:pt x="0" y="616"/>
                </a:moveTo>
                <a:lnTo>
                  <a:pt x="7" y="630"/>
                </a:lnTo>
                <a:lnTo>
                  <a:pt x="17" y="647"/>
                </a:lnTo>
                <a:lnTo>
                  <a:pt x="29" y="664"/>
                </a:lnTo>
                <a:lnTo>
                  <a:pt x="40" y="681"/>
                </a:lnTo>
                <a:lnTo>
                  <a:pt x="53" y="697"/>
                </a:lnTo>
                <a:lnTo>
                  <a:pt x="67" y="712"/>
                </a:lnTo>
                <a:lnTo>
                  <a:pt x="80" y="727"/>
                </a:lnTo>
                <a:lnTo>
                  <a:pt x="96" y="741"/>
                </a:lnTo>
                <a:lnTo>
                  <a:pt x="111" y="754"/>
                </a:lnTo>
                <a:lnTo>
                  <a:pt x="126" y="768"/>
                </a:lnTo>
                <a:lnTo>
                  <a:pt x="144" y="779"/>
                </a:lnTo>
                <a:lnTo>
                  <a:pt x="161" y="791"/>
                </a:lnTo>
                <a:lnTo>
                  <a:pt x="178" y="800"/>
                </a:lnTo>
                <a:lnTo>
                  <a:pt x="197" y="810"/>
                </a:lnTo>
                <a:lnTo>
                  <a:pt x="217" y="818"/>
                </a:lnTo>
                <a:lnTo>
                  <a:pt x="236" y="825"/>
                </a:lnTo>
                <a:lnTo>
                  <a:pt x="255" y="833"/>
                </a:lnTo>
                <a:lnTo>
                  <a:pt x="276" y="839"/>
                </a:lnTo>
                <a:lnTo>
                  <a:pt x="295" y="843"/>
                </a:lnTo>
                <a:lnTo>
                  <a:pt x="316" y="846"/>
                </a:lnTo>
                <a:lnTo>
                  <a:pt x="338" y="850"/>
                </a:lnTo>
                <a:lnTo>
                  <a:pt x="361" y="850"/>
                </a:lnTo>
                <a:lnTo>
                  <a:pt x="370" y="852"/>
                </a:lnTo>
                <a:lnTo>
                  <a:pt x="368" y="850"/>
                </a:lnTo>
                <a:lnTo>
                  <a:pt x="368" y="848"/>
                </a:lnTo>
                <a:lnTo>
                  <a:pt x="368" y="846"/>
                </a:lnTo>
                <a:lnTo>
                  <a:pt x="368" y="846"/>
                </a:lnTo>
                <a:lnTo>
                  <a:pt x="366" y="845"/>
                </a:lnTo>
                <a:lnTo>
                  <a:pt x="366" y="843"/>
                </a:lnTo>
                <a:lnTo>
                  <a:pt x="366" y="843"/>
                </a:lnTo>
                <a:lnTo>
                  <a:pt x="366" y="841"/>
                </a:lnTo>
                <a:lnTo>
                  <a:pt x="361" y="841"/>
                </a:lnTo>
                <a:lnTo>
                  <a:pt x="339" y="839"/>
                </a:lnTo>
                <a:lnTo>
                  <a:pt x="318" y="837"/>
                </a:lnTo>
                <a:lnTo>
                  <a:pt x="297" y="833"/>
                </a:lnTo>
                <a:lnTo>
                  <a:pt x="278" y="827"/>
                </a:lnTo>
                <a:lnTo>
                  <a:pt x="259" y="821"/>
                </a:lnTo>
                <a:lnTo>
                  <a:pt x="240" y="816"/>
                </a:lnTo>
                <a:lnTo>
                  <a:pt x="220" y="808"/>
                </a:lnTo>
                <a:lnTo>
                  <a:pt x="201" y="800"/>
                </a:lnTo>
                <a:lnTo>
                  <a:pt x="184" y="791"/>
                </a:lnTo>
                <a:lnTo>
                  <a:pt x="167" y="781"/>
                </a:lnTo>
                <a:lnTo>
                  <a:pt x="149" y="770"/>
                </a:lnTo>
                <a:lnTo>
                  <a:pt x="117" y="747"/>
                </a:lnTo>
                <a:lnTo>
                  <a:pt x="88" y="720"/>
                </a:lnTo>
                <a:lnTo>
                  <a:pt x="61" y="689"/>
                </a:lnTo>
                <a:lnTo>
                  <a:pt x="38" y="658"/>
                </a:lnTo>
                <a:lnTo>
                  <a:pt x="27" y="641"/>
                </a:lnTo>
                <a:lnTo>
                  <a:pt x="17" y="624"/>
                </a:lnTo>
                <a:lnTo>
                  <a:pt x="7" y="607"/>
                </a:lnTo>
                <a:lnTo>
                  <a:pt x="2" y="593"/>
                </a:lnTo>
                <a:lnTo>
                  <a:pt x="2" y="595"/>
                </a:lnTo>
                <a:lnTo>
                  <a:pt x="2" y="599"/>
                </a:lnTo>
                <a:lnTo>
                  <a:pt x="2" y="601"/>
                </a:lnTo>
                <a:lnTo>
                  <a:pt x="2" y="605"/>
                </a:lnTo>
                <a:lnTo>
                  <a:pt x="2" y="607"/>
                </a:lnTo>
                <a:lnTo>
                  <a:pt x="2" y="610"/>
                </a:lnTo>
                <a:lnTo>
                  <a:pt x="2" y="612"/>
                </a:lnTo>
                <a:lnTo>
                  <a:pt x="0" y="616"/>
                </a:lnTo>
                <a:close/>
              </a:path>
            </a:pathLst>
          </a:custGeom>
          <a:solidFill>
            <a:srgbClr val="b0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Freeform 450"/>
          <p:cNvSpPr/>
          <p:nvPr/>
        </p:nvSpPr>
        <p:spPr>
          <a:xfrm>
            <a:off x="5740560" y="2576520"/>
            <a:ext cx="581040" cy="1333440"/>
          </a:xfrm>
          <a:custGeom>
            <a:avLst/>
            <a:gdLst>
              <a:gd name="textAreaLeft" fmla="*/ 0 w 581040"/>
              <a:gd name="textAreaRight" fmla="*/ 581400 w 581040"/>
              <a:gd name="textAreaTop" fmla="*/ 0 h 1333440"/>
              <a:gd name="textAreaBottom" fmla="*/ 1333800 h 1333440"/>
            </a:gdLst>
            <a:ahLst/>
            <a:rect l="textAreaLeft" t="textAreaTop" r="textAreaRight" b="textAreaBottom"/>
            <a:pathLst>
              <a:path w="366" h="840">
                <a:moveTo>
                  <a:pt x="351" y="0"/>
                </a:moveTo>
                <a:lnTo>
                  <a:pt x="337" y="2"/>
                </a:lnTo>
                <a:lnTo>
                  <a:pt x="316" y="4"/>
                </a:lnTo>
                <a:lnTo>
                  <a:pt x="295" y="8"/>
                </a:lnTo>
                <a:lnTo>
                  <a:pt x="274" y="13"/>
                </a:lnTo>
                <a:lnTo>
                  <a:pt x="255" y="17"/>
                </a:lnTo>
                <a:lnTo>
                  <a:pt x="236" y="25"/>
                </a:lnTo>
                <a:lnTo>
                  <a:pt x="217" y="33"/>
                </a:lnTo>
                <a:lnTo>
                  <a:pt x="197" y="40"/>
                </a:lnTo>
                <a:lnTo>
                  <a:pt x="180" y="50"/>
                </a:lnTo>
                <a:lnTo>
                  <a:pt x="161" y="60"/>
                </a:lnTo>
                <a:lnTo>
                  <a:pt x="146" y="71"/>
                </a:lnTo>
                <a:lnTo>
                  <a:pt x="128" y="83"/>
                </a:lnTo>
                <a:lnTo>
                  <a:pt x="113" y="96"/>
                </a:lnTo>
                <a:lnTo>
                  <a:pt x="98" y="109"/>
                </a:lnTo>
                <a:lnTo>
                  <a:pt x="82" y="123"/>
                </a:lnTo>
                <a:lnTo>
                  <a:pt x="69" y="136"/>
                </a:lnTo>
                <a:lnTo>
                  <a:pt x="57" y="152"/>
                </a:lnTo>
                <a:lnTo>
                  <a:pt x="55" y="154"/>
                </a:lnTo>
                <a:lnTo>
                  <a:pt x="55" y="157"/>
                </a:lnTo>
                <a:lnTo>
                  <a:pt x="55" y="159"/>
                </a:lnTo>
                <a:lnTo>
                  <a:pt x="53" y="163"/>
                </a:lnTo>
                <a:lnTo>
                  <a:pt x="53" y="165"/>
                </a:lnTo>
                <a:lnTo>
                  <a:pt x="53" y="169"/>
                </a:lnTo>
                <a:lnTo>
                  <a:pt x="51" y="173"/>
                </a:lnTo>
                <a:lnTo>
                  <a:pt x="51" y="175"/>
                </a:lnTo>
                <a:lnTo>
                  <a:pt x="63" y="159"/>
                </a:lnTo>
                <a:lnTo>
                  <a:pt x="90" y="131"/>
                </a:lnTo>
                <a:lnTo>
                  <a:pt x="119" y="104"/>
                </a:lnTo>
                <a:lnTo>
                  <a:pt x="151" y="81"/>
                </a:lnTo>
                <a:lnTo>
                  <a:pt x="167" y="69"/>
                </a:lnTo>
                <a:lnTo>
                  <a:pt x="184" y="60"/>
                </a:lnTo>
                <a:lnTo>
                  <a:pt x="203" y="50"/>
                </a:lnTo>
                <a:lnTo>
                  <a:pt x="220" y="42"/>
                </a:lnTo>
                <a:lnTo>
                  <a:pt x="240" y="35"/>
                </a:lnTo>
                <a:lnTo>
                  <a:pt x="259" y="29"/>
                </a:lnTo>
                <a:lnTo>
                  <a:pt x="278" y="23"/>
                </a:lnTo>
                <a:lnTo>
                  <a:pt x="297" y="19"/>
                </a:lnTo>
                <a:lnTo>
                  <a:pt x="318" y="15"/>
                </a:lnTo>
                <a:lnTo>
                  <a:pt x="337" y="12"/>
                </a:lnTo>
                <a:lnTo>
                  <a:pt x="347" y="12"/>
                </a:lnTo>
                <a:lnTo>
                  <a:pt x="347" y="10"/>
                </a:lnTo>
                <a:lnTo>
                  <a:pt x="347" y="10"/>
                </a:lnTo>
                <a:lnTo>
                  <a:pt x="347" y="8"/>
                </a:lnTo>
                <a:lnTo>
                  <a:pt x="349" y="6"/>
                </a:lnTo>
                <a:lnTo>
                  <a:pt x="349" y="4"/>
                </a:lnTo>
                <a:lnTo>
                  <a:pt x="349" y="4"/>
                </a:lnTo>
                <a:lnTo>
                  <a:pt x="349" y="2"/>
                </a:lnTo>
                <a:lnTo>
                  <a:pt x="351" y="0"/>
                </a:lnTo>
                <a:close/>
                <a:moveTo>
                  <a:pt x="0" y="599"/>
                </a:moveTo>
                <a:lnTo>
                  <a:pt x="2" y="603"/>
                </a:lnTo>
                <a:lnTo>
                  <a:pt x="9" y="620"/>
                </a:lnTo>
                <a:lnTo>
                  <a:pt x="21" y="637"/>
                </a:lnTo>
                <a:lnTo>
                  <a:pt x="30" y="654"/>
                </a:lnTo>
                <a:lnTo>
                  <a:pt x="44" y="672"/>
                </a:lnTo>
                <a:lnTo>
                  <a:pt x="55" y="687"/>
                </a:lnTo>
                <a:lnTo>
                  <a:pt x="69" y="702"/>
                </a:lnTo>
                <a:lnTo>
                  <a:pt x="82" y="718"/>
                </a:lnTo>
                <a:lnTo>
                  <a:pt x="98" y="731"/>
                </a:lnTo>
                <a:lnTo>
                  <a:pt x="113" y="744"/>
                </a:lnTo>
                <a:lnTo>
                  <a:pt x="128" y="756"/>
                </a:lnTo>
                <a:lnTo>
                  <a:pt x="146" y="768"/>
                </a:lnTo>
                <a:lnTo>
                  <a:pt x="161" y="779"/>
                </a:lnTo>
                <a:lnTo>
                  <a:pt x="180" y="789"/>
                </a:lnTo>
                <a:lnTo>
                  <a:pt x="197" y="798"/>
                </a:lnTo>
                <a:lnTo>
                  <a:pt x="217" y="808"/>
                </a:lnTo>
                <a:lnTo>
                  <a:pt x="236" y="815"/>
                </a:lnTo>
                <a:lnTo>
                  <a:pt x="255" y="821"/>
                </a:lnTo>
                <a:lnTo>
                  <a:pt x="274" y="827"/>
                </a:lnTo>
                <a:lnTo>
                  <a:pt x="295" y="831"/>
                </a:lnTo>
                <a:lnTo>
                  <a:pt x="316" y="835"/>
                </a:lnTo>
                <a:lnTo>
                  <a:pt x="337" y="839"/>
                </a:lnTo>
                <a:lnTo>
                  <a:pt x="359" y="840"/>
                </a:lnTo>
                <a:lnTo>
                  <a:pt x="366" y="840"/>
                </a:lnTo>
                <a:lnTo>
                  <a:pt x="364" y="839"/>
                </a:lnTo>
                <a:lnTo>
                  <a:pt x="364" y="837"/>
                </a:lnTo>
                <a:lnTo>
                  <a:pt x="364" y="837"/>
                </a:lnTo>
                <a:lnTo>
                  <a:pt x="364" y="835"/>
                </a:lnTo>
                <a:lnTo>
                  <a:pt x="362" y="833"/>
                </a:lnTo>
                <a:lnTo>
                  <a:pt x="362" y="833"/>
                </a:lnTo>
                <a:lnTo>
                  <a:pt x="362" y="831"/>
                </a:lnTo>
                <a:lnTo>
                  <a:pt x="362" y="829"/>
                </a:lnTo>
                <a:lnTo>
                  <a:pt x="359" y="829"/>
                </a:lnTo>
                <a:lnTo>
                  <a:pt x="337" y="827"/>
                </a:lnTo>
                <a:lnTo>
                  <a:pt x="318" y="825"/>
                </a:lnTo>
                <a:lnTo>
                  <a:pt x="297" y="821"/>
                </a:lnTo>
                <a:lnTo>
                  <a:pt x="278" y="817"/>
                </a:lnTo>
                <a:lnTo>
                  <a:pt x="259" y="812"/>
                </a:lnTo>
                <a:lnTo>
                  <a:pt x="240" y="804"/>
                </a:lnTo>
                <a:lnTo>
                  <a:pt x="220" y="798"/>
                </a:lnTo>
                <a:lnTo>
                  <a:pt x="203" y="789"/>
                </a:lnTo>
                <a:lnTo>
                  <a:pt x="184" y="781"/>
                </a:lnTo>
                <a:lnTo>
                  <a:pt x="167" y="769"/>
                </a:lnTo>
                <a:lnTo>
                  <a:pt x="151" y="760"/>
                </a:lnTo>
                <a:lnTo>
                  <a:pt x="119" y="737"/>
                </a:lnTo>
                <a:lnTo>
                  <a:pt x="90" y="710"/>
                </a:lnTo>
                <a:lnTo>
                  <a:pt x="63" y="681"/>
                </a:lnTo>
                <a:lnTo>
                  <a:pt x="40" y="649"/>
                </a:lnTo>
                <a:lnTo>
                  <a:pt x="28" y="633"/>
                </a:lnTo>
                <a:lnTo>
                  <a:pt x="19" y="616"/>
                </a:lnTo>
                <a:lnTo>
                  <a:pt x="11" y="597"/>
                </a:lnTo>
                <a:lnTo>
                  <a:pt x="2" y="579"/>
                </a:lnTo>
                <a:lnTo>
                  <a:pt x="0" y="574"/>
                </a:lnTo>
                <a:lnTo>
                  <a:pt x="0" y="578"/>
                </a:lnTo>
                <a:lnTo>
                  <a:pt x="0" y="581"/>
                </a:lnTo>
                <a:lnTo>
                  <a:pt x="0" y="583"/>
                </a:lnTo>
                <a:lnTo>
                  <a:pt x="0" y="587"/>
                </a:lnTo>
                <a:lnTo>
                  <a:pt x="0" y="589"/>
                </a:lnTo>
                <a:lnTo>
                  <a:pt x="0" y="593"/>
                </a:lnTo>
                <a:lnTo>
                  <a:pt x="0" y="595"/>
                </a:lnTo>
                <a:lnTo>
                  <a:pt x="0" y="599"/>
                </a:lnTo>
                <a:close/>
              </a:path>
            </a:pathLst>
          </a:custGeom>
          <a:solidFill>
            <a:srgbClr val="b1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Freeform 451"/>
          <p:cNvSpPr/>
          <p:nvPr/>
        </p:nvSpPr>
        <p:spPr>
          <a:xfrm>
            <a:off x="5740560" y="2585880"/>
            <a:ext cx="577800" cy="1316160"/>
          </a:xfrm>
          <a:custGeom>
            <a:avLst/>
            <a:gdLst>
              <a:gd name="textAreaLeft" fmla="*/ 0 w 577800"/>
              <a:gd name="textAreaRight" fmla="*/ 578160 w 577800"/>
              <a:gd name="textAreaTop" fmla="*/ 0 h 1316160"/>
              <a:gd name="textAreaBottom" fmla="*/ 1316520 h 1316160"/>
            </a:gdLst>
            <a:ahLst/>
            <a:rect l="textAreaLeft" t="textAreaTop" r="textAreaRight" b="textAreaBottom"/>
            <a:pathLst>
              <a:path w="364" h="829">
                <a:moveTo>
                  <a:pt x="349" y="0"/>
                </a:moveTo>
                <a:lnTo>
                  <a:pt x="337" y="2"/>
                </a:lnTo>
                <a:lnTo>
                  <a:pt x="316" y="4"/>
                </a:lnTo>
                <a:lnTo>
                  <a:pt x="295" y="7"/>
                </a:lnTo>
                <a:lnTo>
                  <a:pt x="276" y="11"/>
                </a:lnTo>
                <a:lnTo>
                  <a:pt x="257" y="17"/>
                </a:lnTo>
                <a:lnTo>
                  <a:pt x="238" y="25"/>
                </a:lnTo>
                <a:lnTo>
                  <a:pt x="218" y="31"/>
                </a:lnTo>
                <a:lnTo>
                  <a:pt x="199" y="40"/>
                </a:lnTo>
                <a:lnTo>
                  <a:pt x="182" y="50"/>
                </a:lnTo>
                <a:lnTo>
                  <a:pt x="165" y="59"/>
                </a:lnTo>
                <a:lnTo>
                  <a:pt x="147" y="69"/>
                </a:lnTo>
                <a:lnTo>
                  <a:pt x="115" y="94"/>
                </a:lnTo>
                <a:lnTo>
                  <a:pt x="86" y="121"/>
                </a:lnTo>
                <a:lnTo>
                  <a:pt x="59" y="149"/>
                </a:lnTo>
                <a:lnTo>
                  <a:pt x="53" y="157"/>
                </a:lnTo>
                <a:lnTo>
                  <a:pt x="53" y="159"/>
                </a:lnTo>
                <a:lnTo>
                  <a:pt x="53" y="163"/>
                </a:lnTo>
                <a:lnTo>
                  <a:pt x="51" y="167"/>
                </a:lnTo>
                <a:lnTo>
                  <a:pt x="51" y="169"/>
                </a:lnTo>
                <a:lnTo>
                  <a:pt x="51" y="172"/>
                </a:lnTo>
                <a:lnTo>
                  <a:pt x="51" y="174"/>
                </a:lnTo>
                <a:lnTo>
                  <a:pt x="50" y="178"/>
                </a:lnTo>
                <a:lnTo>
                  <a:pt x="50" y="180"/>
                </a:lnTo>
                <a:lnTo>
                  <a:pt x="67" y="157"/>
                </a:lnTo>
                <a:lnTo>
                  <a:pt x="94" y="128"/>
                </a:lnTo>
                <a:lnTo>
                  <a:pt x="123" y="101"/>
                </a:lnTo>
                <a:lnTo>
                  <a:pt x="153" y="78"/>
                </a:lnTo>
                <a:lnTo>
                  <a:pt x="188" y="57"/>
                </a:lnTo>
                <a:lnTo>
                  <a:pt x="222" y="42"/>
                </a:lnTo>
                <a:lnTo>
                  <a:pt x="242" y="34"/>
                </a:lnTo>
                <a:lnTo>
                  <a:pt x="259" y="27"/>
                </a:lnTo>
                <a:lnTo>
                  <a:pt x="278" y="23"/>
                </a:lnTo>
                <a:lnTo>
                  <a:pt x="299" y="17"/>
                </a:lnTo>
                <a:lnTo>
                  <a:pt x="318" y="13"/>
                </a:lnTo>
                <a:lnTo>
                  <a:pt x="339" y="11"/>
                </a:lnTo>
                <a:lnTo>
                  <a:pt x="345" y="11"/>
                </a:lnTo>
                <a:lnTo>
                  <a:pt x="345" y="9"/>
                </a:lnTo>
                <a:lnTo>
                  <a:pt x="345" y="7"/>
                </a:lnTo>
                <a:lnTo>
                  <a:pt x="347" y="7"/>
                </a:lnTo>
                <a:lnTo>
                  <a:pt x="347" y="6"/>
                </a:lnTo>
                <a:lnTo>
                  <a:pt x="347" y="4"/>
                </a:lnTo>
                <a:lnTo>
                  <a:pt x="347" y="4"/>
                </a:lnTo>
                <a:lnTo>
                  <a:pt x="347" y="2"/>
                </a:lnTo>
                <a:lnTo>
                  <a:pt x="349" y="0"/>
                </a:lnTo>
                <a:close/>
                <a:moveTo>
                  <a:pt x="0" y="581"/>
                </a:moveTo>
                <a:lnTo>
                  <a:pt x="5" y="595"/>
                </a:lnTo>
                <a:lnTo>
                  <a:pt x="15" y="612"/>
                </a:lnTo>
                <a:lnTo>
                  <a:pt x="25" y="629"/>
                </a:lnTo>
                <a:lnTo>
                  <a:pt x="36" y="646"/>
                </a:lnTo>
                <a:lnTo>
                  <a:pt x="59" y="677"/>
                </a:lnTo>
                <a:lnTo>
                  <a:pt x="86" y="708"/>
                </a:lnTo>
                <a:lnTo>
                  <a:pt x="115" y="735"/>
                </a:lnTo>
                <a:lnTo>
                  <a:pt x="147" y="758"/>
                </a:lnTo>
                <a:lnTo>
                  <a:pt x="165" y="769"/>
                </a:lnTo>
                <a:lnTo>
                  <a:pt x="182" y="779"/>
                </a:lnTo>
                <a:lnTo>
                  <a:pt x="199" y="788"/>
                </a:lnTo>
                <a:lnTo>
                  <a:pt x="218" y="796"/>
                </a:lnTo>
                <a:lnTo>
                  <a:pt x="238" y="804"/>
                </a:lnTo>
                <a:lnTo>
                  <a:pt x="257" y="809"/>
                </a:lnTo>
                <a:lnTo>
                  <a:pt x="276" y="815"/>
                </a:lnTo>
                <a:lnTo>
                  <a:pt x="295" y="821"/>
                </a:lnTo>
                <a:lnTo>
                  <a:pt x="316" y="825"/>
                </a:lnTo>
                <a:lnTo>
                  <a:pt x="337" y="827"/>
                </a:lnTo>
                <a:lnTo>
                  <a:pt x="359" y="829"/>
                </a:lnTo>
                <a:lnTo>
                  <a:pt x="364" y="829"/>
                </a:lnTo>
                <a:lnTo>
                  <a:pt x="364" y="827"/>
                </a:lnTo>
                <a:lnTo>
                  <a:pt x="362" y="827"/>
                </a:lnTo>
                <a:lnTo>
                  <a:pt x="362" y="825"/>
                </a:lnTo>
                <a:lnTo>
                  <a:pt x="362" y="823"/>
                </a:lnTo>
                <a:lnTo>
                  <a:pt x="362" y="821"/>
                </a:lnTo>
                <a:lnTo>
                  <a:pt x="361" y="821"/>
                </a:lnTo>
                <a:lnTo>
                  <a:pt x="361" y="819"/>
                </a:lnTo>
                <a:lnTo>
                  <a:pt x="361" y="817"/>
                </a:lnTo>
                <a:lnTo>
                  <a:pt x="359" y="817"/>
                </a:lnTo>
                <a:lnTo>
                  <a:pt x="339" y="815"/>
                </a:lnTo>
                <a:lnTo>
                  <a:pt x="318" y="813"/>
                </a:lnTo>
                <a:lnTo>
                  <a:pt x="299" y="809"/>
                </a:lnTo>
                <a:lnTo>
                  <a:pt x="278" y="806"/>
                </a:lnTo>
                <a:lnTo>
                  <a:pt x="259" y="800"/>
                </a:lnTo>
                <a:lnTo>
                  <a:pt x="242" y="794"/>
                </a:lnTo>
                <a:lnTo>
                  <a:pt x="222" y="786"/>
                </a:lnTo>
                <a:lnTo>
                  <a:pt x="188" y="769"/>
                </a:lnTo>
                <a:lnTo>
                  <a:pt x="153" y="750"/>
                </a:lnTo>
                <a:lnTo>
                  <a:pt x="123" y="725"/>
                </a:lnTo>
                <a:lnTo>
                  <a:pt x="94" y="700"/>
                </a:lnTo>
                <a:lnTo>
                  <a:pt x="67" y="671"/>
                </a:lnTo>
                <a:lnTo>
                  <a:pt x="44" y="641"/>
                </a:lnTo>
                <a:lnTo>
                  <a:pt x="25" y="606"/>
                </a:lnTo>
                <a:lnTo>
                  <a:pt x="7" y="572"/>
                </a:lnTo>
                <a:lnTo>
                  <a:pt x="2" y="556"/>
                </a:lnTo>
                <a:lnTo>
                  <a:pt x="2" y="558"/>
                </a:lnTo>
                <a:lnTo>
                  <a:pt x="2" y="562"/>
                </a:lnTo>
                <a:lnTo>
                  <a:pt x="0" y="566"/>
                </a:lnTo>
                <a:lnTo>
                  <a:pt x="0" y="568"/>
                </a:lnTo>
                <a:lnTo>
                  <a:pt x="0" y="572"/>
                </a:lnTo>
                <a:lnTo>
                  <a:pt x="0" y="575"/>
                </a:lnTo>
                <a:lnTo>
                  <a:pt x="0" y="577"/>
                </a:lnTo>
                <a:lnTo>
                  <a:pt x="0" y="581"/>
                </a:lnTo>
                <a:close/>
              </a:path>
            </a:pathLst>
          </a:custGeom>
          <a:solidFill>
            <a:srgbClr val="b2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Freeform 452"/>
          <p:cNvSpPr/>
          <p:nvPr/>
        </p:nvSpPr>
        <p:spPr>
          <a:xfrm>
            <a:off x="5740560" y="2595600"/>
            <a:ext cx="574560" cy="1297080"/>
          </a:xfrm>
          <a:custGeom>
            <a:avLst/>
            <a:gdLst>
              <a:gd name="textAreaLeft" fmla="*/ 0 w 574560"/>
              <a:gd name="textAreaRight" fmla="*/ 574920 w 5745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362" h="817">
                <a:moveTo>
                  <a:pt x="347" y="0"/>
                </a:moveTo>
                <a:lnTo>
                  <a:pt x="337" y="0"/>
                </a:lnTo>
                <a:lnTo>
                  <a:pt x="318" y="3"/>
                </a:lnTo>
                <a:lnTo>
                  <a:pt x="297" y="7"/>
                </a:lnTo>
                <a:lnTo>
                  <a:pt x="278" y="11"/>
                </a:lnTo>
                <a:lnTo>
                  <a:pt x="259" y="17"/>
                </a:lnTo>
                <a:lnTo>
                  <a:pt x="240" y="23"/>
                </a:lnTo>
                <a:lnTo>
                  <a:pt x="220" y="30"/>
                </a:lnTo>
                <a:lnTo>
                  <a:pt x="203" y="38"/>
                </a:lnTo>
                <a:lnTo>
                  <a:pt x="184" y="48"/>
                </a:lnTo>
                <a:lnTo>
                  <a:pt x="167" y="57"/>
                </a:lnTo>
                <a:lnTo>
                  <a:pt x="151" y="69"/>
                </a:lnTo>
                <a:lnTo>
                  <a:pt x="119" y="92"/>
                </a:lnTo>
                <a:lnTo>
                  <a:pt x="90" y="119"/>
                </a:lnTo>
                <a:lnTo>
                  <a:pt x="63" y="147"/>
                </a:lnTo>
                <a:lnTo>
                  <a:pt x="51" y="163"/>
                </a:lnTo>
                <a:lnTo>
                  <a:pt x="51" y="166"/>
                </a:lnTo>
                <a:lnTo>
                  <a:pt x="51" y="168"/>
                </a:lnTo>
                <a:lnTo>
                  <a:pt x="50" y="172"/>
                </a:lnTo>
                <a:lnTo>
                  <a:pt x="50" y="176"/>
                </a:lnTo>
                <a:lnTo>
                  <a:pt x="50" y="178"/>
                </a:lnTo>
                <a:lnTo>
                  <a:pt x="48" y="182"/>
                </a:lnTo>
                <a:lnTo>
                  <a:pt x="48" y="184"/>
                </a:lnTo>
                <a:lnTo>
                  <a:pt x="48" y="188"/>
                </a:lnTo>
                <a:lnTo>
                  <a:pt x="50" y="184"/>
                </a:lnTo>
                <a:lnTo>
                  <a:pt x="73" y="153"/>
                </a:lnTo>
                <a:lnTo>
                  <a:pt x="98" y="126"/>
                </a:lnTo>
                <a:lnTo>
                  <a:pt x="126" y="99"/>
                </a:lnTo>
                <a:lnTo>
                  <a:pt x="157" y="76"/>
                </a:lnTo>
                <a:lnTo>
                  <a:pt x="190" y="57"/>
                </a:lnTo>
                <a:lnTo>
                  <a:pt x="224" y="40"/>
                </a:lnTo>
                <a:lnTo>
                  <a:pt x="243" y="32"/>
                </a:lnTo>
                <a:lnTo>
                  <a:pt x="261" y="26"/>
                </a:lnTo>
                <a:lnTo>
                  <a:pt x="280" y="21"/>
                </a:lnTo>
                <a:lnTo>
                  <a:pt x="299" y="17"/>
                </a:lnTo>
                <a:lnTo>
                  <a:pt x="318" y="13"/>
                </a:lnTo>
                <a:lnTo>
                  <a:pt x="339" y="11"/>
                </a:lnTo>
                <a:lnTo>
                  <a:pt x="343" y="11"/>
                </a:lnTo>
                <a:lnTo>
                  <a:pt x="343" y="9"/>
                </a:lnTo>
                <a:lnTo>
                  <a:pt x="343" y="7"/>
                </a:lnTo>
                <a:lnTo>
                  <a:pt x="345" y="5"/>
                </a:lnTo>
                <a:lnTo>
                  <a:pt x="345" y="5"/>
                </a:lnTo>
                <a:lnTo>
                  <a:pt x="345" y="3"/>
                </a:lnTo>
                <a:lnTo>
                  <a:pt x="345" y="1"/>
                </a:lnTo>
                <a:lnTo>
                  <a:pt x="347" y="1"/>
                </a:lnTo>
                <a:lnTo>
                  <a:pt x="347" y="0"/>
                </a:lnTo>
                <a:close/>
                <a:moveTo>
                  <a:pt x="0" y="562"/>
                </a:moveTo>
                <a:lnTo>
                  <a:pt x="2" y="567"/>
                </a:lnTo>
                <a:lnTo>
                  <a:pt x="11" y="585"/>
                </a:lnTo>
                <a:lnTo>
                  <a:pt x="19" y="604"/>
                </a:lnTo>
                <a:lnTo>
                  <a:pt x="28" y="621"/>
                </a:lnTo>
                <a:lnTo>
                  <a:pt x="40" y="637"/>
                </a:lnTo>
                <a:lnTo>
                  <a:pt x="63" y="669"/>
                </a:lnTo>
                <a:lnTo>
                  <a:pt x="90" y="698"/>
                </a:lnTo>
                <a:lnTo>
                  <a:pt x="119" y="725"/>
                </a:lnTo>
                <a:lnTo>
                  <a:pt x="151" y="748"/>
                </a:lnTo>
                <a:lnTo>
                  <a:pt x="167" y="757"/>
                </a:lnTo>
                <a:lnTo>
                  <a:pt x="184" y="769"/>
                </a:lnTo>
                <a:lnTo>
                  <a:pt x="203" y="777"/>
                </a:lnTo>
                <a:lnTo>
                  <a:pt x="220" y="786"/>
                </a:lnTo>
                <a:lnTo>
                  <a:pt x="240" y="792"/>
                </a:lnTo>
                <a:lnTo>
                  <a:pt x="259" y="800"/>
                </a:lnTo>
                <a:lnTo>
                  <a:pt x="278" y="805"/>
                </a:lnTo>
                <a:lnTo>
                  <a:pt x="297" y="809"/>
                </a:lnTo>
                <a:lnTo>
                  <a:pt x="318" y="813"/>
                </a:lnTo>
                <a:lnTo>
                  <a:pt x="337" y="815"/>
                </a:lnTo>
                <a:lnTo>
                  <a:pt x="359" y="817"/>
                </a:lnTo>
                <a:lnTo>
                  <a:pt x="362" y="817"/>
                </a:lnTo>
                <a:lnTo>
                  <a:pt x="362" y="815"/>
                </a:lnTo>
                <a:lnTo>
                  <a:pt x="361" y="815"/>
                </a:lnTo>
                <a:lnTo>
                  <a:pt x="361" y="813"/>
                </a:lnTo>
                <a:lnTo>
                  <a:pt x="361" y="811"/>
                </a:lnTo>
                <a:lnTo>
                  <a:pt x="361" y="811"/>
                </a:lnTo>
                <a:lnTo>
                  <a:pt x="359" y="809"/>
                </a:lnTo>
                <a:lnTo>
                  <a:pt x="359" y="807"/>
                </a:lnTo>
                <a:lnTo>
                  <a:pt x="359" y="807"/>
                </a:lnTo>
                <a:lnTo>
                  <a:pt x="339" y="805"/>
                </a:lnTo>
                <a:lnTo>
                  <a:pt x="318" y="802"/>
                </a:lnTo>
                <a:lnTo>
                  <a:pt x="299" y="800"/>
                </a:lnTo>
                <a:lnTo>
                  <a:pt x="280" y="794"/>
                </a:lnTo>
                <a:lnTo>
                  <a:pt x="261" y="788"/>
                </a:lnTo>
                <a:lnTo>
                  <a:pt x="243" y="782"/>
                </a:lnTo>
                <a:lnTo>
                  <a:pt x="224" y="775"/>
                </a:lnTo>
                <a:lnTo>
                  <a:pt x="190" y="759"/>
                </a:lnTo>
                <a:lnTo>
                  <a:pt x="157" y="738"/>
                </a:lnTo>
                <a:lnTo>
                  <a:pt x="126" y="715"/>
                </a:lnTo>
                <a:lnTo>
                  <a:pt x="98" y="690"/>
                </a:lnTo>
                <a:lnTo>
                  <a:pt x="73" y="662"/>
                </a:lnTo>
                <a:lnTo>
                  <a:pt x="50" y="631"/>
                </a:lnTo>
                <a:lnTo>
                  <a:pt x="28" y="598"/>
                </a:lnTo>
                <a:lnTo>
                  <a:pt x="11" y="564"/>
                </a:lnTo>
                <a:lnTo>
                  <a:pt x="5" y="544"/>
                </a:lnTo>
                <a:lnTo>
                  <a:pt x="2" y="537"/>
                </a:lnTo>
                <a:lnTo>
                  <a:pt x="2" y="541"/>
                </a:lnTo>
                <a:lnTo>
                  <a:pt x="2" y="543"/>
                </a:lnTo>
                <a:lnTo>
                  <a:pt x="2" y="546"/>
                </a:lnTo>
                <a:lnTo>
                  <a:pt x="2" y="550"/>
                </a:lnTo>
                <a:lnTo>
                  <a:pt x="2" y="552"/>
                </a:lnTo>
                <a:lnTo>
                  <a:pt x="2" y="556"/>
                </a:lnTo>
                <a:lnTo>
                  <a:pt x="0" y="560"/>
                </a:lnTo>
                <a:lnTo>
                  <a:pt x="0" y="562"/>
                </a:lnTo>
                <a:close/>
              </a:path>
            </a:pathLst>
          </a:custGeom>
          <a:solidFill>
            <a:srgbClr val="b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Freeform 453"/>
          <p:cNvSpPr/>
          <p:nvPr/>
        </p:nvSpPr>
        <p:spPr>
          <a:xfrm>
            <a:off x="5743440" y="2603520"/>
            <a:ext cx="569880" cy="1279440"/>
          </a:xfrm>
          <a:custGeom>
            <a:avLst/>
            <a:gdLst>
              <a:gd name="textAreaLeft" fmla="*/ 0 w 569880"/>
              <a:gd name="textAreaRight" fmla="*/ 570240 w 569880"/>
              <a:gd name="textAreaTop" fmla="*/ 0 h 1279440"/>
              <a:gd name="textAreaBottom" fmla="*/ 1279440 h 1279440"/>
            </a:gdLst>
            <a:ahLst/>
            <a:rect l="textAreaLeft" t="textAreaTop" r="textAreaRight" b="textAreaBottom"/>
            <a:pathLst>
              <a:path w="359" h="806">
                <a:moveTo>
                  <a:pt x="343" y="0"/>
                </a:moveTo>
                <a:lnTo>
                  <a:pt x="337" y="0"/>
                </a:lnTo>
                <a:lnTo>
                  <a:pt x="316" y="2"/>
                </a:lnTo>
                <a:lnTo>
                  <a:pt x="297" y="6"/>
                </a:lnTo>
                <a:lnTo>
                  <a:pt x="276" y="12"/>
                </a:lnTo>
                <a:lnTo>
                  <a:pt x="257" y="16"/>
                </a:lnTo>
                <a:lnTo>
                  <a:pt x="240" y="23"/>
                </a:lnTo>
                <a:lnTo>
                  <a:pt x="220" y="31"/>
                </a:lnTo>
                <a:lnTo>
                  <a:pt x="186" y="46"/>
                </a:lnTo>
                <a:lnTo>
                  <a:pt x="151" y="67"/>
                </a:lnTo>
                <a:lnTo>
                  <a:pt x="121" y="90"/>
                </a:lnTo>
                <a:lnTo>
                  <a:pt x="92" y="117"/>
                </a:lnTo>
                <a:lnTo>
                  <a:pt x="65" y="146"/>
                </a:lnTo>
                <a:lnTo>
                  <a:pt x="48" y="169"/>
                </a:lnTo>
                <a:lnTo>
                  <a:pt x="48" y="173"/>
                </a:lnTo>
                <a:lnTo>
                  <a:pt x="46" y="177"/>
                </a:lnTo>
                <a:lnTo>
                  <a:pt x="46" y="181"/>
                </a:lnTo>
                <a:lnTo>
                  <a:pt x="46" y="185"/>
                </a:lnTo>
                <a:lnTo>
                  <a:pt x="44" y="186"/>
                </a:lnTo>
                <a:lnTo>
                  <a:pt x="44" y="190"/>
                </a:lnTo>
                <a:lnTo>
                  <a:pt x="42" y="194"/>
                </a:lnTo>
                <a:lnTo>
                  <a:pt x="42" y="198"/>
                </a:lnTo>
                <a:lnTo>
                  <a:pt x="51" y="183"/>
                </a:lnTo>
                <a:lnTo>
                  <a:pt x="74" y="152"/>
                </a:lnTo>
                <a:lnTo>
                  <a:pt x="99" y="125"/>
                </a:lnTo>
                <a:lnTo>
                  <a:pt x="128" y="98"/>
                </a:lnTo>
                <a:lnTo>
                  <a:pt x="157" y="77"/>
                </a:lnTo>
                <a:lnTo>
                  <a:pt x="190" y="56"/>
                </a:lnTo>
                <a:lnTo>
                  <a:pt x="224" y="41"/>
                </a:lnTo>
                <a:lnTo>
                  <a:pt x="243" y="33"/>
                </a:lnTo>
                <a:lnTo>
                  <a:pt x="261" y="27"/>
                </a:lnTo>
                <a:lnTo>
                  <a:pt x="280" y="21"/>
                </a:lnTo>
                <a:lnTo>
                  <a:pt x="299" y="18"/>
                </a:lnTo>
                <a:lnTo>
                  <a:pt x="318" y="14"/>
                </a:lnTo>
                <a:lnTo>
                  <a:pt x="337" y="12"/>
                </a:lnTo>
                <a:lnTo>
                  <a:pt x="339" y="10"/>
                </a:lnTo>
                <a:lnTo>
                  <a:pt x="339" y="10"/>
                </a:lnTo>
                <a:lnTo>
                  <a:pt x="341" y="8"/>
                </a:lnTo>
                <a:lnTo>
                  <a:pt x="341" y="6"/>
                </a:lnTo>
                <a:lnTo>
                  <a:pt x="341" y="6"/>
                </a:lnTo>
                <a:lnTo>
                  <a:pt x="341" y="4"/>
                </a:lnTo>
                <a:lnTo>
                  <a:pt x="343" y="2"/>
                </a:lnTo>
                <a:lnTo>
                  <a:pt x="343" y="0"/>
                </a:lnTo>
                <a:lnTo>
                  <a:pt x="343" y="0"/>
                </a:lnTo>
                <a:close/>
                <a:moveTo>
                  <a:pt x="0" y="545"/>
                </a:moveTo>
                <a:lnTo>
                  <a:pt x="5" y="561"/>
                </a:lnTo>
                <a:lnTo>
                  <a:pt x="23" y="595"/>
                </a:lnTo>
                <a:lnTo>
                  <a:pt x="42" y="630"/>
                </a:lnTo>
                <a:lnTo>
                  <a:pt x="65" y="660"/>
                </a:lnTo>
                <a:lnTo>
                  <a:pt x="92" y="689"/>
                </a:lnTo>
                <a:lnTo>
                  <a:pt x="121" y="714"/>
                </a:lnTo>
                <a:lnTo>
                  <a:pt x="151" y="739"/>
                </a:lnTo>
                <a:lnTo>
                  <a:pt x="186" y="758"/>
                </a:lnTo>
                <a:lnTo>
                  <a:pt x="220" y="775"/>
                </a:lnTo>
                <a:lnTo>
                  <a:pt x="240" y="783"/>
                </a:lnTo>
                <a:lnTo>
                  <a:pt x="257" y="789"/>
                </a:lnTo>
                <a:lnTo>
                  <a:pt x="276" y="795"/>
                </a:lnTo>
                <a:lnTo>
                  <a:pt x="297" y="798"/>
                </a:lnTo>
                <a:lnTo>
                  <a:pt x="316" y="802"/>
                </a:lnTo>
                <a:lnTo>
                  <a:pt x="337" y="804"/>
                </a:lnTo>
                <a:lnTo>
                  <a:pt x="357" y="806"/>
                </a:lnTo>
                <a:lnTo>
                  <a:pt x="359" y="806"/>
                </a:lnTo>
                <a:lnTo>
                  <a:pt x="359" y="806"/>
                </a:lnTo>
                <a:lnTo>
                  <a:pt x="357" y="804"/>
                </a:lnTo>
                <a:lnTo>
                  <a:pt x="357" y="802"/>
                </a:lnTo>
                <a:lnTo>
                  <a:pt x="357" y="800"/>
                </a:lnTo>
                <a:lnTo>
                  <a:pt x="357" y="800"/>
                </a:lnTo>
                <a:lnTo>
                  <a:pt x="355" y="798"/>
                </a:lnTo>
                <a:lnTo>
                  <a:pt x="355" y="797"/>
                </a:lnTo>
                <a:lnTo>
                  <a:pt x="355" y="797"/>
                </a:lnTo>
                <a:lnTo>
                  <a:pt x="337" y="795"/>
                </a:lnTo>
                <a:lnTo>
                  <a:pt x="318" y="793"/>
                </a:lnTo>
                <a:lnTo>
                  <a:pt x="299" y="789"/>
                </a:lnTo>
                <a:lnTo>
                  <a:pt x="280" y="785"/>
                </a:lnTo>
                <a:lnTo>
                  <a:pt x="261" y="779"/>
                </a:lnTo>
                <a:lnTo>
                  <a:pt x="243" y="774"/>
                </a:lnTo>
                <a:lnTo>
                  <a:pt x="224" y="766"/>
                </a:lnTo>
                <a:lnTo>
                  <a:pt x="190" y="749"/>
                </a:lnTo>
                <a:lnTo>
                  <a:pt x="157" y="729"/>
                </a:lnTo>
                <a:lnTo>
                  <a:pt x="128" y="706"/>
                </a:lnTo>
                <a:lnTo>
                  <a:pt x="99" y="681"/>
                </a:lnTo>
                <a:lnTo>
                  <a:pt x="74" y="653"/>
                </a:lnTo>
                <a:lnTo>
                  <a:pt x="51" y="624"/>
                </a:lnTo>
                <a:lnTo>
                  <a:pt x="32" y="591"/>
                </a:lnTo>
                <a:lnTo>
                  <a:pt x="15" y="557"/>
                </a:lnTo>
                <a:lnTo>
                  <a:pt x="7" y="538"/>
                </a:lnTo>
                <a:lnTo>
                  <a:pt x="2" y="520"/>
                </a:lnTo>
                <a:lnTo>
                  <a:pt x="2" y="516"/>
                </a:lnTo>
                <a:lnTo>
                  <a:pt x="2" y="520"/>
                </a:lnTo>
                <a:lnTo>
                  <a:pt x="0" y="524"/>
                </a:lnTo>
                <a:lnTo>
                  <a:pt x="0" y="528"/>
                </a:lnTo>
                <a:lnTo>
                  <a:pt x="0" y="532"/>
                </a:lnTo>
                <a:lnTo>
                  <a:pt x="0" y="534"/>
                </a:lnTo>
                <a:lnTo>
                  <a:pt x="0" y="538"/>
                </a:lnTo>
                <a:lnTo>
                  <a:pt x="0" y="541"/>
                </a:lnTo>
                <a:lnTo>
                  <a:pt x="0" y="545"/>
                </a:lnTo>
                <a:close/>
              </a:path>
            </a:pathLst>
          </a:custGeom>
          <a:solidFill>
            <a:srgbClr val="b4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Freeform 454"/>
          <p:cNvSpPr/>
          <p:nvPr/>
        </p:nvSpPr>
        <p:spPr>
          <a:xfrm>
            <a:off x="5743440" y="2612880"/>
            <a:ext cx="567000" cy="1263960"/>
          </a:xfrm>
          <a:custGeom>
            <a:avLst/>
            <a:gdLst>
              <a:gd name="textAreaLeft" fmla="*/ 0 w 567000"/>
              <a:gd name="textAreaRight" fmla="*/ 567360 w 567000"/>
              <a:gd name="textAreaTop" fmla="*/ 0 h 1263960"/>
              <a:gd name="textAreaBottom" fmla="*/ 1264320 h 1263960"/>
            </a:gdLst>
            <a:ahLst/>
            <a:rect l="textAreaLeft" t="textAreaTop" r="textAreaRight" b="textAreaBottom"/>
            <a:pathLst>
              <a:path w="357" h="796">
                <a:moveTo>
                  <a:pt x="341" y="0"/>
                </a:moveTo>
                <a:lnTo>
                  <a:pt x="337" y="0"/>
                </a:lnTo>
                <a:lnTo>
                  <a:pt x="316" y="2"/>
                </a:lnTo>
                <a:lnTo>
                  <a:pt x="297" y="6"/>
                </a:lnTo>
                <a:lnTo>
                  <a:pt x="278" y="10"/>
                </a:lnTo>
                <a:lnTo>
                  <a:pt x="259" y="15"/>
                </a:lnTo>
                <a:lnTo>
                  <a:pt x="241" y="21"/>
                </a:lnTo>
                <a:lnTo>
                  <a:pt x="222" y="29"/>
                </a:lnTo>
                <a:lnTo>
                  <a:pt x="188" y="46"/>
                </a:lnTo>
                <a:lnTo>
                  <a:pt x="155" y="65"/>
                </a:lnTo>
                <a:lnTo>
                  <a:pt x="124" y="88"/>
                </a:lnTo>
                <a:lnTo>
                  <a:pt x="96" y="115"/>
                </a:lnTo>
                <a:lnTo>
                  <a:pt x="71" y="142"/>
                </a:lnTo>
                <a:lnTo>
                  <a:pt x="48" y="173"/>
                </a:lnTo>
                <a:lnTo>
                  <a:pt x="46" y="177"/>
                </a:lnTo>
                <a:lnTo>
                  <a:pt x="44" y="180"/>
                </a:lnTo>
                <a:lnTo>
                  <a:pt x="44" y="184"/>
                </a:lnTo>
                <a:lnTo>
                  <a:pt x="44" y="188"/>
                </a:lnTo>
                <a:lnTo>
                  <a:pt x="42" y="192"/>
                </a:lnTo>
                <a:lnTo>
                  <a:pt x="42" y="196"/>
                </a:lnTo>
                <a:lnTo>
                  <a:pt x="40" y="200"/>
                </a:lnTo>
                <a:lnTo>
                  <a:pt x="40" y="203"/>
                </a:lnTo>
                <a:lnTo>
                  <a:pt x="40" y="207"/>
                </a:lnTo>
                <a:lnTo>
                  <a:pt x="55" y="180"/>
                </a:lnTo>
                <a:lnTo>
                  <a:pt x="78" y="150"/>
                </a:lnTo>
                <a:lnTo>
                  <a:pt x="103" y="123"/>
                </a:lnTo>
                <a:lnTo>
                  <a:pt x="130" y="98"/>
                </a:lnTo>
                <a:lnTo>
                  <a:pt x="161" y="75"/>
                </a:lnTo>
                <a:lnTo>
                  <a:pt x="193" y="56"/>
                </a:lnTo>
                <a:lnTo>
                  <a:pt x="226" y="38"/>
                </a:lnTo>
                <a:lnTo>
                  <a:pt x="263" y="25"/>
                </a:lnTo>
                <a:lnTo>
                  <a:pt x="299" y="15"/>
                </a:lnTo>
                <a:lnTo>
                  <a:pt x="318" y="14"/>
                </a:lnTo>
                <a:lnTo>
                  <a:pt x="337" y="10"/>
                </a:lnTo>
                <a:lnTo>
                  <a:pt x="337" y="10"/>
                </a:lnTo>
                <a:lnTo>
                  <a:pt x="339" y="10"/>
                </a:lnTo>
                <a:lnTo>
                  <a:pt x="339" y="8"/>
                </a:lnTo>
                <a:lnTo>
                  <a:pt x="339" y="6"/>
                </a:lnTo>
                <a:lnTo>
                  <a:pt x="339" y="4"/>
                </a:lnTo>
                <a:lnTo>
                  <a:pt x="339" y="4"/>
                </a:lnTo>
                <a:lnTo>
                  <a:pt x="341" y="2"/>
                </a:lnTo>
                <a:lnTo>
                  <a:pt x="341" y="0"/>
                </a:lnTo>
                <a:lnTo>
                  <a:pt x="341" y="0"/>
                </a:lnTo>
                <a:close/>
                <a:moveTo>
                  <a:pt x="0" y="526"/>
                </a:moveTo>
                <a:lnTo>
                  <a:pt x="3" y="533"/>
                </a:lnTo>
                <a:lnTo>
                  <a:pt x="9" y="553"/>
                </a:lnTo>
                <a:lnTo>
                  <a:pt x="26" y="587"/>
                </a:lnTo>
                <a:lnTo>
                  <a:pt x="48" y="620"/>
                </a:lnTo>
                <a:lnTo>
                  <a:pt x="71" y="651"/>
                </a:lnTo>
                <a:lnTo>
                  <a:pt x="96" y="679"/>
                </a:lnTo>
                <a:lnTo>
                  <a:pt x="124" y="704"/>
                </a:lnTo>
                <a:lnTo>
                  <a:pt x="155" y="727"/>
                </a:lnTo>
                <a:lnTo>
                  <a:pt x="188" y="748"/>
                </a:lnTo>
                <a:lnTo>
                  <a:pt x="222" y="764"/>
                </a:lnTo>
                <a:lnTo>
                  <a:pt x="241" y="771"/>
                </a:lnTo>
                <a:lnTo>
                  <a:pt x="259" y="777"/>
                </a:lnTo>
                <a:lnTo>
                  <a:pt x="278" y="783"/>
                </a:lnTo>
                <a:lnTo>
                  <a:pt x="297" y="789"/>
                </a:lnTo>
                <a:lnTo>
                  <a:pt x="316" y="791"/>
                </a:lnTo>
                <a:lnTo>
                  <a:pt x="337" y="794"/>
                </a:lnTo>
                <a:lnTo>
                  <a:pt x="357" y="796"/>
                </a:lnTo>
                <a:lnTo>
                  <a:pt x="357" y="794"/>
                </a:lnTo>
                <a:lnTo>
                  <a:pt x="357" y="792"/>
                </a:lnTo>
                <a:lnTo>
                  <a:pt x="355" y="791"/>
                </a:lnTo>
                <a:lnTo>
                  <a:pt x="355" y="791"/>
                </a:lnTo>
                <a:lnTo>
                  <a:pt x="355" y="789"/>
                </a:lnTo>
                <a:lnTo>
                  <a:pt x="355" y="787"/>
                </a:lnTo>
                <a:lnTo>
                  <a:pt x="353" y="787"/>
                </a:lnTo>
                <a:lnTo>
                  <a:pt x="353" y="785"/>
                </a:lnTo>
                <a:lnTo>
                  <a:pt x="337" y="783"/>
                </a:lnTo>
                <a:lnTo>
                  <a:pt x="318" y="781"/>
                </a:lnTo>
                <a:lnTo>
                  <a:pt x="299" y="777"/>
                </a:lnTo>
                <a:lnTo>
                  <a:pt x="263" y="768"/>
                </a:lnTo>
                <a:lnTo>
                  <a:pt x="226" y="754"/>
                </a:lnTo>
                <a:lnTo>
                  <a:pt x="193" y="739"/>
                </a:lnTo>
                <a:lnTo>
                  <a:pt x="161" y="720"/>
                </a:lnTo>
                <a:lnTo>
                  <a:pt x="130" y="697"/>
                </a:lnTo>
                <a:lnTo>
                  <a:pt x="103" y="672"/>
                </a:lnTo>
                <a:lnTo>
                  <a:pt x="78" y="645"/>
                </a:lnTo>
                <a:lnTo>
                  <a:pt x="55" y="614"/>
                </a:lnTo>
                <a:lnTo>
                  <a:pt x="36" y="581"/>
                </a:lnTo>
                <a:lnTo>
                  <a:pt x="21" y="549"/>
                </a:lnTo>
                <a:lnTo>
                  <a:pt x="7" y="512"/>
                </a:lnTo>
                <a:lnTo>
                  <a:pt x="2" y="495"/>
                </a:lnTo>
                <a:lnTo>
                  <a:pt x="2" y="499"/>
                </a:lnTo>
                <a:lnTo>
                  <a:pt x="2" y="503"/>
                </a:lnTo>
                <a:lnTo>
                  <a:pt x="2" y="507"/>
                </a:lnTo>
                <a:lnTo>
                  <a:pt x="2" y="510"/>
                </a:lnTo>
                <a:lnTo>
                  <a:pt x="2" y="514"/>
                </a:lnTo>
                <a:lnTo>
                  <a:pt x="0" y="518"/>
                </a:lnTo>
                <a:lnTo>
                  <a:pt x="0" y="522"/>
                </a:lnTo>
                <a:lnTo>
                  <a:pt x="0" y="526"/>
                </a:lnTo>
                <a:close/>
              </a:path>
            </a:pathLst>
          </a:custGeom>
          <a:solidFill>
            <a:srgbClr val="b5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Freeform 455"/>
          <p:cNvSpPr/>
          <p:nvPr/>
        </p:nvSpPr>
        <p:spPr>
          <a:xfrm>
            <a:off x="5746680" y="2619360"/>
            <a:ext cx="560520" cy="1249200"/>
          </a:xfrm>
          <a:custGeom>
            <a:avLst/>
            <a:gdLst>
              <a:gd name="textAreaLeft" fmla="*/ 0 w 560520"/>
              <a:gd name="textAreaRight" fmla="*/ 560880 w 560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w="353" h="787">
                <a:moveTo>
                  <a:pt x="337" y="0"/>
                </a:moveTo>
                <a:lnTo>
                  <a:pt x="335" y="2"/>
                </a:lnTo>
                <a:lnTo>
                  <a:pt x="316" y="4"/>
                </a:lnTo>
                <a:lnTo>
                  <a:pt x="297" y="8"/>
                </a:lnTo>
                <a:lnTo>
                  <a:pt x="278" y="11"/>
                </a:lnTo>
                <a:lnTo>
                  <a:pt x="259" y="17"/>
                </a:lnTo>
                <a:lnTo>
                  <a:pt x="241" y="23"/>
                </a:lnTo>
                <a:lnTo>
                  <a:pt x="222" y="31"/>
                </a:lnTo>
                <a:lnTo>
                  <a:pt x="188" y="46"/>
                </a:lnTo>
                <a:lnTo>
                  <a:pt x="155" y="67"/>
                </a:lnTo>
                <a:lnTo>
                  <a:pt x="126" y="88"/>
                </a:lnTo>
                <a:lnTo>
                  <a:pt x="97" y="115"/>
                </a:lnTo>
                <a:lnTo>
                  <a:pt x="72" y="142"/>
                </a:lnTo>
                <a:lnTo>
                  <a:pt x="49" y="173"/>
                </a:lnTo>
                <a:lnTo>
                  <a:pt x="40" y="188"/>
                </a:lnTo>
                <a:lnTo>
                  <a:pt x="40" y="192"/>
                </a:lnTo>
                <a:lnTo>
                  <a:pt x="38" y="196"/>
                </a:lnTo>
                <a:lnTo>
                  <a:pt x="38" y="199"/>
                </a:lnTo>
                <a:lnTo>
                  <a:pt x="38" y="203"/>
                </a:lnTo>
                <a:lnTo>
                  <a:pt x="36" y="207"/>
                </a:lnTo>
                <a:lnTo>
                  <a:pt x="36" y="211"/>
                </a:lnTo>
                <a:lnTo>
                  <a:pt x="36" y="215"/>
                </a:lnTo>
                <a:lnTo>
                  <a:pt x="34" y="219"/>
                </a:lnTo>
                <a:lnTo>
                  <a:pt x="40" y="211"/>
                </a:lnTo>
                <a:lnTo>
                  <a:pt x="59" y="178"/>
                </a:lnTo>
                <a:lnTo>
                  <a:pt x="80" y="150"/>
                </a:lnTo>
                <a:lnTo>
                  <a:pt x="105" y="123"/>
                </a:lnTo>
                <a:lnTo>
                  <a:pt x="132" y="98"/>
                </a:lnTo>
                <a:lnTo>
                  <a:pt x="161" y="75"/>
                </a:lnTo>
                <a:lnTo>
                  <a:pt x="193" y="56"/>
                </a:lnTo>
                <a:lnTo>
                  <a:pt x="226" y="40"/>
                </a:lnTo>
                <a:lnTo>
                  <a:pt x="262" y="27"/>
                </a:lnTo>
                <a:lnTo>
                  <a:pt x="299" y="17"/>
                </a:lnTo>
                <a:lnTo>
                  <a:pt x="318" y="13"/>
                </a:lnTo>
                <a:lnTo>
                  <a:pt x="335" y="11"/>
                </a:lnTo>
                <a:lnTo>
                  <a:pt x="335" y="10"/>
                </a:lnTo>
                <a:lnTo>
                  <a:pt x="335" y="10"/>
                </a:lnTo>
                <a:lnTo>
                  <a:pt x="335" y="8"/>
                </a:lnTo>
                <a:lnTo>
                  <a:pt x="335" y="6"/>
                </a:lnTo>
                <a:lnTo>
                  <a:pt x="337" y="6"/>
                </a:lnTo>
                <a:lnTo>
                  <a:pt x="337" y="4"/>
                </a:lnTo>
                <a:lnTo>
                  <a:pt x="337" y="2"/>
                </a:lnTo>
                <a:lnTo>
                  <a:pt x="337" y="0"/>
                </a:lnTo>
                <a:close/>
                <a:moveTo>
                  <a:pt x="0" y="506"/>
                </a:moveTo>
                <a:lnTo>
                  <a:pt x="0" y="510"/>
                </a:lnTo>
                <a:lnTo>
                  <a:pt x="5" y="528"/>
                </a:lnTo>
                <a:lnTo>
                  <a:pt x="13" y="547"/>
                </a:lnTo>
                <a:lnTo>
                  <a:pt x="30" y="581"/>
                </a:lnTo>
                <a:lnTo>
                  <a:pt x="49" y="614"/>
                </a:lnTo>
                <a:lnTo>
                  <a:pt x="72" y="643"/>
                </a:lnTo>
                <a:lnTo>
                  <a:pt x="97" y="671"/>
                </a:lnTo>
                <a:lnTo>
                  <a:pt x="126" y="696"/>
                </a:lnTo>
                <a:lnTo>
                  <a:pt x="155" y="719"/>
                </a:lnTo>
                <a:lnTo>
                  <a:pt x="188" y="739"/>
                </a:lnTo>
                <a:lnTo>
                  <a:pt x="222" y="756"/>
                </a:lnTo>
                <a:lnTo>
                  <a:pt x="241" y="764"/>
                </a:lnTo>
                <a:lnTo>
                  <a:pt x="259" y="769"/>
                </a:lnTo>
                <a:lnTo>
                  <a:pt x="278" y="775"/>
                </a:lnTo>
                <a:lnTo>
                  <a:pt x="297" y="779"/>
                </a:lnTo>
                <a:lnTo>
                  <a:pt x="316" y="783"/>
                </a:lnTo>
                <a:lnTo>
                  <a:pt x="335" y="785"/>
                </a:lnTo>
                <a:lnTo>
                  <a:pt x="353" y="787"/>
                </a:lnTo>
                <a:lnTo>
                  <a:pt x="353" y="785"/>
                </a:lnTo>
                <a:lnTo>
                  <a:pt x="353" y="783"/>
                </a:lnTo>
                <a:lnTo>
                  <a:pt x="351" y="783"/>
                </a:lnTo>
                <a:lnTo>
                  <a:pt x="351" y="781"/>
                </a:lnTo>
                <a:lnTo>
                  <a:pt x="351" y="779"/>
                </a:lnTo>
                <a:lnTo>
                  <a:pt x="351" y="777"/>
                </a:lnTo>
                <a:lnTo>
                  <a:pt x="349" y="777"/>
                </a:lnTo>
                <a:lnTo>
                  <a:pt x="349" y="775"/>
                </a:lnTo>
                <a:lnTo>
                  <a:pt x="337" y="773"/>
                </a:lnTo>
                <a:lnTo>
                  <a:pt x="318" y="771"/>
                </a:lnTo>
                <a:lnTo>
                  <a:pt x="299" y="767"/>
                </a:lnTo>
                <a:lnTo>
                  <a:pt x="262" y="760"/>
                </a:lnTo>
                <a:lnTo>
                  <a:pt x="226" y="746"/>
                </a:lnTo>
                <a:lnTo>
                  <a:pt x="193" y="729"/>
                </a:lnTo>
                <a:lnTo>
                  <a:pt x="161" y="710"/>
                </a:lnTo>
                <a:lnTo>
                  <a:pt x="132" y="689"/>
                </a:lnTo>
                <a:lnTo>
                  <a:pt x="105" y="664"/>
                </a:lnTo>
                <a:lnTo>
                  <a:pt x="80" y="637"/>
                </a:lnTo>
                <a:lnTo>
                  <a:pt x="59" y="606"/>
                </a:lnTo>
                <a:lnTo>
                  <a:pt x="40" y="576"/>
                </a:lnTo>
                <a:lnTo>
                  <a:pt x="23" y="541"/>
                </a:lnTo>
                <a:lnTo>
                  <a:pt x="9" y="506"/>
                </a:lnTo>
                <a:lnTo>
                  <a:pt x="1" y="474"/>
                </a:lnTo>
                <a:lnTo>
                  <a:pt x="1" y="478"/>
                </a:lnTo>
                <a:lnTo>
                  <a:pt x="1" y="481"/>
                </a:lnTo>
                <a:lnTo>
                  <a:pt x="0" y="487"/>
                </a:lnTo>
                <a:lnTo>
                  <a:pt x="0" y="491"/>
                </a:lnTo>
                <a:lnTo>
                  <a:pt x="0" y="495"/>
                </a:lnTo>
                <a:lnTo>
                  <a:pt x="0" y="499"/>
                </a:lnTo>
                <a:lnTo>
                  <a:pt x="0" y="503"/>
                </a:lnTo>
                <a:lnTo>
                  <a:pt x="0" y="506"/>
                </a:lnTo>
                <a:close/>
              </a:path>
            </a:pathLst>
          </a:custGeom>
          <a:solidFill>
            <a:srgbClr val="b6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Freeform 456"/>
          <p:cNvSpPr/>
          <p:nvPr/>
        </p:nvSpPr>
        <p:spPr>
          <a:xfrm>
            <a:off x="5746680" y="2629080"/>
            <a:ext cx="557280" cy="1230120"/>
          </a:xfrm>
          <a:custGeom>
            <a:avLst/>
            <a:gdLst>
              <a:gd name="textAreaLeft" fmla="*/ 0 w 557280"/>
              <a:gd name="textAreaRight" fmla="*/ 557640 w 557280"/>
              <a:gd name="textAreaTop" fmla="*/ 0 h 1230120"/>
              <a:gd name="textAreaBottom" fmla="*/ 1230480 h 1230120"/>
            </a:gdLst>
            <a:ahLst/>
            <a:rect l="textAreaLeft" t="textAreaTop" r="textAreaRight" b="textAreaBottom"/>
            <a:pathLst>
              <a:path w="351" h="775">
                <a:moveTo>
                  <a:pt x="335" y="0"/>
                </a:moveTo>
                <a:lnTo>
                  <a:pt x="335" y="0"/>
                </a:lnTo>
                <a:lnTo>
                  <a:pt x="316" y="4"/>
                </a:lnTo>
                <a:lnTo>
                  <a:pt x="297" y="5"/>
                </a:lnTo>
                <a:lnTo>
                  <a:pt x="261" y="15"/>
                </a:lnTo>
                <a:lnTo>
                  <a:pt x="224" y="28"/>
                </a:lnTo>
                <a:lnTo>
                  <a:pt x="191" y="46"/>
                </a:lnTo>
                <a:lnTo>
                  <a:pt x="159" y="65"/>
                </a:lnTo>
                <a:lnTo>
                  <a:pt x="128" y="88"/>
                </a:lnTo>
                <a:lnTo>
                  <a:pt x="101" y="113"/>
                </a:lnTo>
                <a:lnTo>
                  <a:pt x="76" y="140"/>
                </a:lnTo>
                <a:lnTo>
                  <a:pt x="53" y="170"/>
                </a:lnTo>
                <a:lnTo>
                  <a:pt x="38" y="197"/>
                </a:lnTo>
                <a:lnTo>
                  <a:pt x="36" y="201"/>
                </a:lnTo>
                <a:lnTo>
                  <a:pt x="36" y="205"/>
                </a:lnTo>
                <a:lnTo>
                  <a:pt x="34" y="211"/>
                </a:lnTo>
                <a:lnTo>
                  <a:pt x="34" y="215"/>
                </a:lnTo>
                <a:lnTo>
                  <a:pt x="34" y="218"/>
                </a:lnTo>
                <a:lnTo>
                  <a:pt x="32" y="224"/>
                </a:lnTo>
                <a:lnTo>
                  <a:pt x="32" y="228"/>
                </a:lnTo>
                <a:lnTo>
                  <a:pt x="30" y="234"/>
                </a:lnTo>
                <a:lnTo>
                  <a:pt x="44" y="207"/>
                </a:lnTo>
                <a:lnTo>
                  <a:pt x="63" y="176"/>
                </a:lnTo>
                <a:lnTo>
                  <a:pt x="84" y="145"/>
                </a:lnTo>
                <a:lnTo>
                  <a:pt x="109" y="119"/>
                </a:lnTo>
                <a:lnTo>
                  <a:pt x="136" y="96"/>
                </a:lnTo>
                <a:lnTo>
                  <a:pt x="165" y="73"/>
                </a:lnTo>
                <a:lnTo>
                  <a:pt x="195" y="55"/>
                </a:lnTo>
                <a:lnTo>
                  <a:pt x="228" y="38"/>
                </a:lnTo>
                <a:lnTo>
                  <a:pt x="264" y="27"/>
                </a:lnTo>
                <a:lnTo>
                  <a:pt x="299" y="17"/>
                </a:lnTo>
                <a:lnTo>
                  <a:pt x="318" y="13"/>
                </a:lnTo>
                <a:lnTo>
                  <a:pt x="333" y="11"/>
                </a:lnTo>
                <a:lnTo>
                  <a:pt x="333" y="9"/>
                </a:lnTo>
                <a:lnTo>
                  <a:pt x="333" y="9"/>
                </a:lnTo>
                <a:lnTo>
                  <a:pt x="333" y="7"/>
                </a:lnTo>
                <a:lnTo>
                  <a:pt x="335" y="5"/>
                </a:lnTo>
                <a:lnTo>
                  <a:pt x="335" y="4"/>
                </a:lnTo>
                <a:lnTo>
                  <a:pt x="335" y="4"/>
                </a:lnTo>
                <a:lnTo>
                  <a:pt x="335" y="2"/>
                </a:lnTo>
                <a:lnTo>
                  <a:pt x="335" y="0"/>
                </a:lnTo>
                <a:close/>
                <a:moveTo>
                  <a:pt x="0" y="485"/>
                </a:moveTo>
                <a:lnTo>
                  <a:pt x="5" y="502"/>
                </a:lnTo>
                <a:lnTo>
                  <a:pt x="19" y="539"/>
                </a:lnTo>
                <a:lnTo>
                  <a:pt x="34" y="571"/>
                </a:lnTo>
                <a:lnTo>
                  <a:pt x="53" y="604"/>
                </a:lnTo>
                <a:lnTo>
                  <a:pt x="76" y="635"/>
                </a:lnTo>
                <a:lnTo>
                  <a:pt x="101" y="662"/>
                </a:lnTo>
                <a:lnTo>
                  <a:pt x="128" y="687"/>
                </a:lnTo>
                <a:lnTo>
                  <a:pt x="159" y="710"/>
                </a:lnTo>
                <a:lnTo>
                  <a:pt x="191" y="729"/>
                </a:lnTo>
                <a:lnTo>
                  <a:pt x="224" y="744"/>
                </a:lnTo>
                <a:lnTo>
                  <a:pt x="261" y="758"/>
                </a:lnTo>
                <a:lnTo>
                  <a:pt x="297" y="767"/>
                </a:lnTo>
                <a:lnTo>
                  <a:pt x="316" y="771"/>
                </a:lnTo>
                <a:lnTo>
                  <a:pt x="335" y="773"/>
                </a:lnTo>
                <a:lnTo>
                  <a:pt x="351" y="775"/>
                </a:lnTo>
                <a:lnTo>
                  <a:pt x="351" y="773"/>
                </a:lnTo>
                <a:lnTo>
                  <a:pt x="351" y="771"/>
                </a:lnTo>
                <a:lnTo>
                  <a:pt x="349" y="771"/>
                </a:lnTo>
                <a:lnTo>
                  <a:pt x="349" y="769"/>
                </a:lnTo>
                <a:lnTo>
                  <a:pt x="349" y="767"/>
                </a:lnTo>
                <a:lnTo>
                  <a:pt x="349" y="767"/>
                </a:lnTo>
                <a:lnTo>
                  <a:pt x="349" y="765"/>
                </a:lnTo>
                <a:lnTo>
                  <a:pt x="347" y="763"/>
                </a:lnTo>
                <a:lnTo>
                  <a:pt x="337" y="763"/>
                </a:lnTo>
                <a:lnTo>
                  <a:pt x="318" y="759"/>
                </a:lnTo>
                <a:lnTo>
                  <a:pt x="299" y="758"/>
                </a:lnTo>
                <a:lnTo>
                  <a:pt x="264" y="748"/>
                </a:lnTo>
                <a:lnTo>
                  <a:pt x="228" y="735"/>
                </a:lnTo>
                <a:lnTo>
                  <a:pt x="195" y="719"/>
                </a:lnTo>
                <a:lnTo>
                  <a:pt x="165" y="700"/>
                </a:lnTo>
                <a:lnTo>
                  <a:pt x="136" y="679"/>
                </a:lnTo>
                <a:lnTo>
                  <a:pt x="109" y="654"/>
                </a:lnTo>
                <a:lnTo>
                  <a:pt x="84" y="627"/>
                </a:lnTo>
                <a:lnTo>
                  <a:pt x="63" y="598"/>
                </a:lnTo>
                <a:lnTo>
                  <a:pt x="44" y="568"/>
                </a:lnTo>
                <a:lnTo>
                  <a:pt x="28" y="533"/>
                </a:lnTo>
                <a:lnTo>
                  <a:pt x="15" y="499"/>
                </a:lnTo>
                <a:lnTo>
                  <a:pt x="5" y="462"/>
                </a:lnTo>
                <a:lnTo>
                  <a:pt x="3" y="449"/>
                </a:lnTo>
                <a:lnTo>
                  <a:pt x="3" y="452"/>
                </a:lnTo>
                <a:lnTo>
                  <a:pt x="1" y="458"/>
                </a:lnTo>
                <a:lnTo>
                  <a:pt x="1" y="462"/>
                </a:lnTo>
                <a:lnTo>
                  <a:pt x="1" y="466"/>
                </a:lnTo>
                <a:lnTo>
                  <a:pt x="1" y="472"/>
                </a:lnTo>
                <a:lnTo>
                  <a:pt x="1" y="475"/>
                </a:lnTo>
                <a:lnTo>
                  <a:pt x="1" y="479"/>
                </a:lnTo>
                <a:lnTo>
                  <a:pt x="0" y="485"/>
                </a:lnTo>
                <a:close/>
              </a:path>
            </a:pathLst>
          </a:custGeom>
          <a:solidFill>
            <a:srgbClr val="b7e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Freeform 457"/>
          <p:cNvSpPr/>
          <p:nvPr/>
        </p:nvSpPr>
        <p:spPr>
          <a:xfrm>
            <a:off x="5748480" y="2637000"/>
            <a:ext cx="552240" cy="1212840"/>
          </a:xfrm>
          <a:custGeom>
            <a:avLst/>
            <a:gdLst>
              <a:gd name="textAreaLeft" fmla="*/ 0 w 552240"/>
              <a:gd name="textAreaRight" fmla="*/ 552240 w 55224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348" h="764">
                <a:moveTo>
                  <a:pt x="334" y="0"/>
                </a:moveTo>
                <a:lnTo>
                  <a:pt x="317" y="2"/>
                </a:lnTo>
                <a:lnTo>
                  <a:pt x="298" y="6"/>
                </a:lnTo>
                <a:lnTo>
                  <a:pt x="261" y="16"/>
                </a:lnTo>
                <a:lnTo>
                  <a:pt x="225" y="29"/>
                </a:lnTo>
                <a:lnTo>
                  <a:pt x="192" y="45"/>
                </a:lnTo>
                <a:lnTo>
                  <a:pt x="160" y="64"/>
                </a:lnTo>
                <a:lnTo>
                  <a:pt x="131" y="87"/>
                </a:lnTo>
                <a:lnTo>
                  <a:pt x="104" y="112"/>
                </a:lnTo>
                <a:lnTo>
                  <a:pt x="79" y="139"/>
                </a:lnTo>
                <a:lnTo>
                  <a:pt x="58" y="167"/>
                </a:lnTo>
                <a:lnTo>
                  <a:pt x="39" y="200"/>
                </a:lnTo>
                <a:lnTo>
                  <a:pt x="33" y="208"/>
                </a:lnTo>
                <a:lnTo>
                  <a:pt x="33" y="213"/>
                </a:lnTo>
                <a:lnTo>
                  <a:pt x="31" y="219"/>
                </a:lnTo>
                <a:lnTo>
                  <a:pt x="31" y="225"/>
                </a:lnTo>
                <a:lnTo>
                  <a:pt x="29" y="231"/>
                </a:lnTo>
                <a:lnTo>
                  <a:pt x="29" y="236"/>
                </a:lnTo>
                <a:lnTo>
                  <a:pt x="27" y="240"/>
                </a:lnTo>
                <a:lnTo>
                  <a:pt x="27" y="246"/>
                </a:lnTo>
                <a:lnTo>
                  <a:pt x="25" y="252"/>
                </a:lnTo>
                <a:lnTo>
                  <a:pt x="31" y="236"/>
                </a:lnTo>
                <a:lnTo>
                  <a:pt x="46" y="204"/>
                </a:lnTo>
                <a:lnTo>
                  <a:pt x="66" y="173"/>
                </a:lnTo>
                <a:lnTo>
                  <a:pt x="87" y="144"/>
                </a:lnTo>
                <a:lnTo>
                  <a:pt x="112" y="117"/>
                </a:lnTo>
                <a:lnTo>
                  <a:pt x="139" y="94"/>
                </a:lnTo>
                <a:lnTo>
                  <a:pt x="167" y="73"/>
                </a:lnTo>
                <a:lnTo>
                  <a:pt x="198" y="54"/>
                </a:lnTo>
                <a:lnTo>
                  <a:pt x="231" y="39"/>
                </a:lnTo>
                <a:lnTo>
                  <a:pt x="263" y="25"/>
                </a:lnTo>
                <a:lnTo>
                  <a:pt x="300" y="18"/>
                </a:lnTo>
                <a:lnTo>
                  <a:pt x="331" y="12"/>
                </a:lnTo>
                <a:lnTo>
                  <a:pt x="331" y="10"/>
                </a:lnTo>
                <a:lnTo>
                  <a:pt x="331" y="10"/>
                </a:lnTo>
                <a:lnTo>
                  <a:pt x="332" y="8"/>
                </a:lnTo>
                <a:lnTo>
                  <a:pt x="332" y="6"/>
                </a:lnTo>
                <a:lnTo>
                  <a:pt x="332" y="4"/>
                </a:lnTo>
                <a:lnTo>
                  <a:pt x="332" y="4"/>
                </a:lnTo>
                <a:lnTo>
                  <a:pt x="332" y="2"/>
                </a:lnTo>
                <a:lnTo>
                  <a:pt x="334" y="0"/>
                </a:lnTo>
                <a:close/>
                <a:moveTo>
                  <a:pt x="0" y="463"/>
                </a:moveTo>
                <a:lnTo>
                  <a:pt x="8" y="495"/>
                </a:lnTo>
                <a:lnTo>
                  <a:pt x="22" y="530"/>
                </a:lnTo>
                <a:lnTo>
                  <a:pt x="39" y="565"/>
                </a:lnTo>
                <a:lnTo>
                  <a:pt x="58" y="595"/>
                </a:lnTo>
                <a:lnTo>
                  <a:pt x="79" y="626"/>
                </a:lnTo>
                <a:lnTo>
                  <a:pt x="104" y="653"/>
                </a:lnTo>
                <a:lnTo>
                  <a:pt x="131" y="678"/>
                </a:lnTo>
                <a:lnTo>
                  <a:pt x="160" y="699"/>
                </a:lnTo>
                <a:lnTo>
                  <a:pt x="192" y="718"/>
                </a:lnTo>
                <a:lnTo>
                  <a:pt x="225" y="735"/>
                </a:lnTo>
                <a:lnTo>
                  <a:pt x="261" y="749"/>
                </a:lnTo>
                <a:lnTo>
                  <a:pt x="298" y="756"/>
                </a:lnTo>
                <a:lnTo>
                  <a:pt x="317" y="760"/>
                </a:lnTo>
                <a:lnTo>
                  <a:pt x="336" y="762"/>
                </a:lnTo>
                <a:lnTo>
                  <a:pt x="348" y="764"/>
                </a:lnTo>
                <a:lnTo>
                  <a:pt x="348" y="762"/>
                </a:lnTo>
                <a:lnTo>
                  <a:pt x="348" y="762"/>
                </a:lnTo>
                <a:lnTo>
                  <a:pt x="348" y="760"/>
                </a:lnTo>
                <a:lnTo>
                  <a:pt x="346" y="758"/>
                </a:lnTo>
                <a:lnTo>
                  <a:pt x="346" y="756"/>
                </a:lnTo>
                <a:lnTo>
                  <a:pt x="346" y="756"/>
                </a:lnTo>
                <a:lnTo>
                  <a:pt x="346" y="754"/>
                </a:lnTo>
                <a:lnTo>
                  <a:pt x="346" y="753"/>
                </a:lnTo>
                <a:lnTo>
                  <a:pt x="336" y="753"/>
                </a:lnTo>
                <a:lnTo>
                  <a:pt x="300" y="747"/>
                </a:lnTo>
                <a:lnTo>
                  <a:pt x="263" y="737"/>
                </a:lnTo>
                <a:lnTo>
                  <a:pt x="231" y="726"/>
                </a:lnTo>
                <a:lnTo>
                  <a:pt x="198" y="708"/>
                </a:lnTo>
                <a:lnTo>
                  <a:pt x="167" y="691"/>
                </a:lnTo>
                <a:lnTo>
                  <a:pt x="139" y="670"/>
                </a:lnTo>
                <a:lnTo>
                  <a:pt x="112" y="645"/>
                </a:lnTo>
                <a:lnTo>
                  <a:pt x="87" y="618"/>
                </a:lnTo>
                <a:lnTo>
                  <a:pt x="66" y="589"/>
                </a:lnTo>
                <a:lnTo>
                  <a:pt x="46" y="559"/>
                </a:lnTo>
                <a:lnTo>
                  <a:pt x="31" y="526"/>
                </a:lnTo>
                <a:lnTo>
                  <a:pt x="20" y="492"/>
                </a:lnTo>
                <a:lnTo>
                  <a:pt x="10" y="457"/>
                </a:lnTo>
                <a:lnTo>
                  <a:pt x="4" y="421"/>
                </a:lnTo>
                <a:lnTo>
                  <a:pt x="4" y="426"/>
                </a:lnTo>
                <a:lnTo>
                  <a:pt x="2" y="430"/>
                </a:lnTo>
                <a:lnTo>
                  <a:pt x="2" y="436"/>
                </a:lnTo>
                <a:lnTo>
                  <a:pt x="2" y="442"/>
                </a:lnTo>
                <a:lnTo>
                  <a:pt x="2" y="447"/>
                </a:lnTo>
                <a:lnTo>
                  <a:pt x="0" y="453"/>
                </a:lnTo>
                <a:lnTo>
                  <a:pt x="0" y="457"/>
                </a:lnTo>
                <a:lnTo>
                  <a:pt x="0" y="463"/>
                </a:lnTo>
                <a:close/>
              </a:path>
            </a:pathLst>
          </a:custGeom>
          <a:solidFill>
            <a:srgbClr val="b8e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Freeform 458"/>
          <p:cNvSpPr/>
          <p:nvPr/>
        </p:nvSpPr>
        <p:spPr>
          <a:xfrm>
            <a:off x="5751360" y="2646360"/>
            <a:ext cx="546120" cy="1193760"/>
          </a:xfrm>
          <a:custGeom>
            <a:avLst/>
            <a:gdLst>
              <a:gd name="textAreaLeft" fmla="*/ 0 w 546120"/>
              <a:gd name="textAreaRight" fmla="*/ 546480 w 546120"/>
              <a:gd name="textAreaTop" fmla="*/ 0 h 1193760"/>
              <a:gd name="textAreaBottom" fmla="*/ 1194120 h 1193760"/>
            </a:gdLst>
            <a:ahLst/>
            <a:rect l="textAreaLeft" t="textAreaTop" r="textAreaRight" b="textAreaBottom"/>
            <a:pathLst>
              <a:path w="344" h="752">
                <a:moveTo>
                  <a:pt x="330" y="0"/>
                </a:moveTo>
                <a:lnTo>
                  <a:pt x="315" y="2"/>
                </a:lnTo>
                <a:lnTo>
                  <a:pt x="296" y="6"/>
                </a:lnTo>
                <a:lnTo>
                  <a:pt x="261" y="16"/>
                </a:lnTo>
                <a:lnTo>
                  <a:pt x="225" y="27"/>
                </a:lnTo>
                <a:lnTo>
                  <a:pt x="192" y="44"/>
                </a:lnTo>
                <a:lnTo>
                  <a:pt x="162" y="62"/>
                </a:lnTo>
                <a:lnTo>
                  <a:pt x="133" y="85"/>
                </a:lnTo>
                <a:lnTo>
                  <a:pt x="106" y="108"/>
                </a:lnTo>
                <a:lnTo>
                  <a:pt x="81" y="134"/>
                </a:lnTo>
                <a:lnTo>
                  <a:pt x="60" y="165"/>
                </a:lnTo>
                <a:lnTo>
                  <a:pt x="41" y="196"/>
                </a:lnTo>
                <a:lnTo>
                  <a:pt x="27" y="223"/>
                </a:lnTo>
                <a:lnTo>
                  <a:pt x="27" y="229"/>
                </a:lnTo>
                <a:lnTo>
                  <a:pt x="25" y="236"/>
                </a:lnTo>
                <a:lnTo>
                  <a:pt x="25" y="244"/>
                </a:lnTo>
                <a:lnTo>
                  <a:pt x="23" y="250"/>
                </a:lnTo>
                <a:lnTo>
                  <a:pt x="21" y="257"/>
                </a:lnTo>
                <a:lnTo>
                  <a:pt x="21" y="265"/>
                </a:lnTo>
                <a:lnTo>
                  <a:pt x="20" y="271"/>
                </a:lnTo>
                <a:lnTo>
                  <a:pt x="20" y="278"/>
                </a:lnTo>
                <a:lnTo>
                  <a:pt x="21" y="267"/>
                </a:lnTo>
                <a:lnTo>
                  <a:pt x="35" y="232"/>
                </a:lnTo>
                <a:lnTo>
                  <a:pt x="50" y="202"/>
                </a:lnTo>
                <a:lnTo>
                  <a:pt x="68" y="171"/>
                </a:lnTo>
                <a:lnTo>
                  <a:pt x="89" y="142"/>
                </a:lnTo>
                <a:lnTo>
                  <a:pt x="114" y="115"/>
                </a:lnTo>
                <a:lnTo>
                  <a:pt x="139" y="92"/>
                </a:lnTo>
                <a:lnTo>
                  <a:pt x="167" y="71"/>
                </a:lnTo>
                <a:lnTo>
                  <a:pt x="198" y="52"/>
                </a:lnTo>
                <a:lnTo>
                  <a:pt x="231" y="37"/>
                </a:lnTo>
                <a:lnTo>
                  <a:pt x="263" y="25"/>
                </a:lnTo>
                <a:lnTo>
                  <a:pt x="300" y="16"/>
                </a:lnTo>
                <a:lnTo>
                  <a:pt x="327" y="12"/>
                </a:lnTo>
                <a:lnTo>
                  <a:pt x="327" y="10"/>
                </a:lnTo>
                <a:lnTo>
                  <a:pt x="329" y="10"/>
                </a:lnTo>
                <a:lnTo>
                  <a:pt x="329" y="8"/>
                </a:lnTo>
                <a:lnTo>
                  <a:pt x="329" y="6"/>
                </a:lnTo>
                <a:lnTo>
                  <a:pt x="329" y="4"/>
                </a:lnTo>
                <a:lnTo>
                  <a:pt x="329" y="4"/>
                </a:lnTo>
                <a:lnTo>
                  <a:pt x="330" y="2"/>
                </a:lnTo>
                <a:lnTo>
                  <a:pt x="330" y="0"/>
                </a:lnTo>
                <a:close/>
                <a:moveTo>
                  <a:pt x="0" y="438"/>
                </a:moveTo>
                <a:lnTo>
                  <a:pt x="2" y="451"/>
                </a:lnTo>
                <a:lnTo>
                  <a:pt x="12" y="488"/>
                </a:lnTo>
                <a:lnTo>
                  <a:pt x="25" y="522"/>
                </a:lnTo>
                <a:lnTo>
                  <a:pt x="41" y="557"/>
                </a:lnTo>
                <a:lnTo>
                  <a:pt x="60" y="587"/>
                </a:lnTo>
                <a:lnTo>
                  <a:pt x="81" y="616"/>
                </a:lnTo>
                <a:lnTo>
                  <a:pt x="106" y="643"/>
                </a:lnTo>
                <a:lnTo>
                  <a:pt x="133" y="668"/>
                </a:lnTo>
                <a:lnTo>
                  <a:pt x="162" y="689"/>
                </a:lnTo>
                <a:lnTo>
                  <a:pt x="192" y="708"/>
                </a:lnTo>
                <a:lnTo>
                  <a:pt x="225" y="724"/>
                </a:lnTo>
                <a:lnTo>
                  <a:pt x="261" y="737"/>
                </a:lnTo>
                <a:lnTo>
                  <a:pt x="296" y="747"/>
                </a:lnTo>
                <a:lnTo>
                  <a:pt x="315" y="748"/>
                </a:lnTo>
                <a:lnTo>
                  <a:pt x="334" y="752"/>
                </a:lnTo>
                <a:lnTo>
                  <a:pt x="344" y="752"/>
                </a:lnTo>
                <a:lnTo>
                  <a:pt x="344" y="750"/>
                </a:lnTo>
                <a:lnTo>
                  <a:pt x="344" y="750"/>
                </a:lnTo>
                <a:lnTo>
                  <a:pt x="344" y="748"/>
                </a:lnTo>
                <a:lnTo>
                  <a:pt x="344" y="747"/>
                </a:lnTo>
                <a:lnTo>
                  <a:pt x="342" y="747"/>
                </a:lnTo>
                <a:lnTo>
                  <a:pt x="342" y="745"/>
                </a:lnTo>
                <a:lnTo>
                  <a:pt x="342" y="743"/>
                </a:lnTo>
                <a:lnTo>
                  <a:pt x="342" y="741"/>
                </a:lnTo>
                <a:lnTo>
                  <a:pt x="336" y="741"/>
                </a:lnTo>
                <a:lnTo>
                  <a:pt x="300" y="735"/>
                </a:lnTo>
                <a:lnTo>
                  <a:pt x="263" y="727"/>
                </a:lnTo>
                <a:lnTo>
                  <a:pt x="231" y="714"/>
                </a:lnTo>
                <a:lnTo>
                  <a:pt x="198" y="699"/>
                </a:lnTo>
                <a:lnTo>
                  <a:pt x="167" y="679"/>
                </a:lnTo>
                <a:lnTo>
                  <a:pt x="139" y="658"/>
                </a:lnTo>
                <a:lnTo>
                  <a:pt x="114" y="635"/>
                </a:lnTo>
                <a:lnTo>
                  <a:pt x="89" y="610"/>
                </a:lnTo>
                <a:lnTo>
                  <a:pt x="68" y="582"/>
                </a:lnTo>
                <a:lnTo>
                  <a:pt x="50" y="551"/>
                </a:lnTo>
                <a:lnTo>
                  <a:pt x="35" y="518"/>
                </a:lnTo>
                <a:lnTo>
                  <a:pt x="21" y="486"/>
                </a:lnTo>
                <a:lnTo>
                  <a:pt x="14" y="449"/>
                </a:lnTo>
                <a:lnTo>
                  <a:pt x="8" y="413"/>
                </a:lnTo>
                <a:lnTo>
                  <a:pt x="6" y="380"/>
                </a:lnTo>
                <a:lnTo>
                  <a:pt x="4" y="388"/>
                </a:lnTo>
                <a:lnTo>
                  <a:pt x="4" y="395"/>
                </a:lnTo>
                <a:lnTo>
                  <a:pt x="4" y="401"/>
                </a:lnTo>
                <a:lnTo>
                  <a:pt x="2" y="409"/>
                </a:lnTo>
                <a:lnTo>
                  <a:pt x="2" y="417"/>
                </a:lnTo>
                <a:lnTo>
                  <a:pt x="2" y="424"/>
                </a:lnTo>
                <a:lnTo>
                  <a:pt x="0" y="430"/>
                </a:lnTo>
                <a:lnTo>
                  <a:pt x="0" y="438"/>
                </a:lnTo>
                <a:close/>
              </a:path>
            </a:pathLst>
          </a:custGeom>
          <a:solidFill>
            <a:srgbClr val="b9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Freeform 459"/>
          <p:cNvSpPr/>
          <p:nvPr/>
        </p:nvSpPr>
        <p:spPr>
          <a:xfrm>
            <a:off x="5754600" y="2655720"/>
            <a:ext cx="542880" cy="1176480"/>
          </a:xfrm>
          <a:custGeom>
            <a:avLst/>
            <a:gdLst>
              <a:gd name="textAreaLeft" fmla="*/ 0 w 542880"/>
              <a:gd name="textAreaRight" fmla="*/ 543240 w 542880"/>
              <a:gd name="textAreaTop" fmla="*/ 0 h 1176480"/>
              <a:gd name="textAreaBottom" fmla="*/ 1176840 h 1176480"/>
            </a:gdLst>
            <a:ahLst/>
            <a:rect l="textAreaLeft" t="textAreaTop" r="textAreaRight" b="textAreaBottom"/>
            <a:pathLst>
              <a:path w="342" h="741">
                <a:moveTo>
                  <a:pt x="327" y="0"/>
                </a:moveTo>
                <a:lnTo>
                  <a:pt x="296" y="6"/>
                </a:lnTo>
                <a:lnTo>
                  <a:pt x="259" y="13"/>
                </a:lnTo>
                <a:lnTo>
                  <a:pt x="227" y="27"/>
                </a:lnTo>
                <a:lnTo>
                  <a:pt x="194" y="42"/>
                </a:lnTo>
                <a:lnTo>
                  <a:pt x="163" y="61"/>
                </a:lnTo>
                <a:lnTo>
                  <a:pt x="135" y="82"/>
                </a:lnTo>
                <a:lnTo>
                  <a:pt x="108" y="105"/>
                </a:lnTo>
                <a:lnTo>
                  <a:pt x="83" y="132"/>
                </a:lnTo>
                <a:lnTo>
                  <a:pt x="62" y="161"/>
                </a:lnTo>
                <a:lnTo>
                  <a:pt x="42" y="192"/>
                </a:lnTo>
                <a:lnTo>
                  <a:pt x="27" y="224"/>
                </a:lnTo>
                <a:lnTo>
                  <a:pt x="21" y="240"/>
                </a:lnTo>
                <a:lnTo>
                  <a:pt x="19" y="261"/>
                </a:lnTo>
                <a:lnTo>
                  <a:pt x="16" y="282"/>
                </a:lnTo>
                <a:lnTo>
                  <a:pt x="12" y="303"/>
                </a:lnTo>
                <a:lnTo>
                  <a:pt x="10" y="324"/>
                </a:lnTo>
                <a:lnTo>
                  <a:pt x="8" y="345"/>
                </a:lnTo>
                <a:lnTo>
                  <a:pt x="4" y="366"/>
                </a:lnTo>
                <a:lnTo>
                  <a:pt x="2" y="388"/>
                </a:lnTo>
                <a:lnTo>
                  <a:pt x="0" y="409"/>
                </a:lnTo>
                <a:lnTo>
                  <a:pt x="6" y="445"/>
                </a:lnTo>
                <a:lnTo>
                  <a:pt x="16" y="480"/>
                </a:lnTo>
                <a:lnTo>
                  <a:pt x="27" y="514"/>
                </a:lnTo>
                <a:lnTo>
                  <a:pt x="42" y="547"/>
                </a:lnTo>
                <a:lnTo>
                  <a:pt x="62" y="577"/>
                </a:lnTo>
                <a:lnTo>
                  <a:pt x="83" y="606"/>
                </a:lnTo>
                <a:lnTo>
                  <a:pt x="108" y="633"/>
                </a:lnTo>
                <a:lnTo>
                  <a:pt x="135" y="658"/>
                </a:lnTo>
                <a:lnTo>
                  <a:pt x="163" y="679"/>
                </a:lnTo>
                <a:lnTo>
                  <a:pt x="194" y="696"/>
                </a:lnTo>
                <a:lnTo>
                  <a:pt x="227" y="714"/>
                </a:lnTo>
                <a:lnTo>
                  <a:pt x="259" y="725"/>
                </a:lnTo>
                <a:lnTo>
                  <a:pt x="296" y="735"/>
                </a:lnTo>
                <a:lnTo>
                  <a:pt x="332" y="741"/>
                </a:lnTo>
                <a:lnTo>
                  <a:pt x="342" y="741"/>
                </a:lnTo>
                <a:lnTo>
                  <a:pt x="340" y="739"/>
                </a:lnTo>
                <a:lnTo>
                  <a:pt x="340" y="739"/>
                </a:lnTo>
                <a:lnTo>
                  <a:pt x="340" y="737"/>
                </a:lnTo>
                <a:lnTo>
                  <a:pt x="340" y="735"/>
                </a:lnTo>
                <a:lnTo>
                  <a:pt x="338" y="735"/>
                </a:lnTo>
                <a:lnTo>
                  <a:pt x="338" y="733"/>
                </a:lnTo>
                <a:lnTo>
                  <a:pt x="338" y="731"/>
                </a:lnTo>
                <a:lnTo>
                  <a:pt x="338" y="731"/>
                </a:lnTo>
                <a:lnTo>
                  <a:pt x="334" y="729"/>
                </a:lnTo>
                <a:lnTo>
                  <a:pt x="298" y="725"/>
                </a:lnTo>
                <a:lnTo>
                  <a:pt x="263" y="716"/>
                </a:lnTo>
                <a:lnTo>
                  <a:pt x="231" y="704"/>
                </a:lnTo>
                <a:lnTo>
                  <a:pt x="198" y="689"/>
                </a:lnTo>
                <a:lnTo>
                  <a:pt x="169" y="670"/>
                </a:lnTo>
                <a:lnTo>
                  <a:pt x="140" y="648"/>
                </a:lnTo>
                <a:lnTo>
                  <a:pt x="115" y="625"/>
                </a:lnTo>
                <a:lnTo>
                  <a:pt x="92" y="600"/>
                </a:lnTo>
                <a:lnTo>
                  <a:pt x="71" y="572"/>
                </a:lnTo>
                <a:lnTo>
                  <a:pt x="52" y="543"/>
                </a:lnTo>
                <a:lnTo>
                  <a:pt x="37" y="510"/>
                </a:lnTo>
                <a:lnTo>
                  <a:pt x="25" y="478"/>
                </a:lnTo>
                <a:lnTo>
                  <a:pt x="16" y="443"/>
                </a:lnTo>
                <a:lnTo>
                  <a:pt x="10" y="407"/>
                </a:lnTo>
                <a:lnTo>
                  <a:pt x="10" y="370"/>
                </a:lnTo>
                <a:lnTo>
                  <a:pt x="10" y="332"/>
                </a:lnTo>
                <a:lnTo>
                  <a:pt x="16" y="297"/>
                </a:lnTo>
                <a:lnTo>
                  <a:pt x="25" y="263"/>
                </a:lnTo>
                <a:lnTo>
                  <a:pt x="37" y="228"/>
                </a:lnTo>
                <a:lnTo>
                  <a:pt x="52" y="198"/>
                </a:lnTo>
                <a:lnTo>
                  <a:pt x="71" y="167"/>
                </a:lnTo>
                <a:lnTo>
                  <a:pt x="92" y="140"/>
                </a:lnTo>
                <a:lnTo>
                  <a:pt x="115" y="113"/>
                </a:lnTo>
                <a:lnTo>
                  <a:pt x="140" y="90"/>
                </a:lnTo>
                <a:lnTo>
                  <a:pt x="169" y="69"/>
                </a:lnTo>
                <a:lnTo>
                  <a:pt x="198" y="52"/>
                </a:lnTo>
                <a:lnTo>
                  <a:pt x="231" y="36"/>
                </a:lnTo>
                <a:lnTo>
                  <a:pt x="263" y="25"/>
                </a:lnTo>
                <a:lnTo>
                  <a:pt x="298" y="15"/>
                </a:lnTo>
                <a:lnTo>
                  <a:pt x="325" y="11"/>
                </a:lnTo>
                <a:lnTo>
                  <a:pt x="325" y="10"/>
                </a:lnTo>
                <a:lnTo>
                  <a:pt x="325" y="8"/>
                </a:lnTo>
                <a:lnTo>
                  <a:pt x="325" y="8"/>
                </a:lnTo>
                <a:lnTo>
                  <a:pt x="325" y="6"/>
                </a:lnTo>
                <a:lnTo>
                  <a:pt x="325" y="4"/>
                </a:lnTo>
                <a:lnTo>
                  <a:pt x="327" y="4"/>
                </a:lnTo>
                <a:lnTo>
                  <a:pt x="327" y="2"/>
                </a:lnTo>
                <a:lnTo>
                  <a:pt x="327" y="0"/>
                </a:lnTo>
                <a:close/>
              </a:path>
            </a:pathLst>
          </a:custGeom>
          <a:solidFill>
            <a:srgbClr val="ba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Freeform 460"/>
          <p:cNvSpPr/>
          <p:nvPr/>
        </p:nvSpPr>
        <p:spPr>
          <a:xfrm>
            <a:off x="5761080" y="2665440"/>
            <a:ext cx="533520" cy="1157400"/>
          </a:xfrm>
          <a:custGeom>
            <a:avLst/>
            <a:gdLst>
              <a:gd name="textAreaLeft" fmla="*/ 0 w 533520"/>
              <a:gd name="textAreaRight" fmla="*/ 533880 w 53352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336" h="729">
                <a:moveTo>
                  <a:pt x="321" y="0"/>
                </a:moveTo>
                <a:lnTo>
                  <a:pt x="294" y="4"/>
                </a:lnTo>
                <a:lnTo>
                  <a:pt x="257" y="13"/>
                </a:lnTo>
                <a:lnTo>
                  <a:pt x="225" y="25"/>
                </a:lnTo>
                <a:lnTo>
                  <a:pt x="192" y="40"/>
                </a:lnTo>
                <a:lnTo>
                  <a:pt x="161" y="59"/>
                </a:lnTo>
                <a:lnTo>
                  <a:pt x="133" y="80"/>
                </a:lnTo>
                <a:lnTo>
                  <a:pt x="108" y="103"/>
                </a:lnTo>
                <a:lnTo>
                  <a:pt x="83" y="130"/>
                </a:lnTo>
                <a:lnTo>
                  <a:pt x="62" y="159"/>
                </a:lnTo>
                <a:lnTo>
                  <a:pt x="44" y="190"/>
                </a:lnTo>
                <a:lnTo>
                  <a:pt x="29" y="220"/>
                </a:lnTo>
                <a:lnTo>
                  <a:pt x="15" y="255"/>
                </a:lnTo>
                <a:lnTo>
                  <a:pt x="14" y="266"/>
                </a:lnTo>
                <a:lnTo>
                  <a:pt x="12" y="280"/>
                </a:lnTo>
                <a:lnTo>
                  <a:pt x="10" y="291"/>
                </a:lnTo>
                <a:lnTo>
                  <a:pt x="8" y="305"/>
                </a:lnTo>
                <a:lnTo>
                  <a:pt x="6" y="318"/>
                </a:lnTo>
                <a:lnTo>
                  <a:pt x="4" y="330"/>
                </a:lnTo>
                <a:lnTo>
                  <a:pt x="2" y="343"/>
                </a:lnTo>
                <a:lnTo>
                  <a:pt x="2" y="357"/>
                </a:lnTo>
                <a:lnTo>
                  <a:pt x="0" y="368"/>
                </a:lnTo>
                <a:lnTo>
                  <a:pt x="2" y="401"/>
                </a:lnTo>
                <a:lnTo>
                  <a:pt x="8" y="437"/>
                </a:lnTo>
                <a:lnTo>
                  <a:pt x="15" y="474"/>
                </a:lnTo>
                <a:lnTo>
                  <a:pt x="29" y="506"/>
                </a:lnTo>
                <a:lnTo>
                  <a:pt x="44" y="539"/>
                </a:lnTo>
                <a:lnTo>
                  <a:pt x="62" y="570"/>
                </a:lnTo>
                <a:lnTo>
                  <a:pt x="83" y="598"/>
                </a:lnTo>
                <a:lnTo>
                  <a:pt x="108" y="623"/>
                </a:lnTo>
                <a:lnTo>
                  <a:pt x="133" y="646"/>
                </a:lnTo>
                <a:lnTo>
                  <a:pt x="161" y="667"/>
                </a:lnTo>
                <a:lnTo>
                  <a:pt x="192" y="687"/>
                </a:lnTo>
                <a:lnTo>
                  <a:pt x="225" y="702"/>
                </a:lnTo>
                <a:lnTo>
                  <a:pt x="257" y="715"/>
                </a:lnTo>
                <a:lnTo>
                  <a:pt x="294" y="723"/>
                </a:lnTo>
                <a:lnTo>
                  <a:pt x="330" y="729"/>
                </a:lnTo>
                <a:lnTo>
                  <a:pt x="336" y="729"/>
                </a:lnTo>
                <a:lnTo>
                  <a:pt x="334" y="729"/>
                </a:lnTo>
                <a:lnTo>
                  <a:pt x="334" y="727"/>
                </a:lnTo>
                <a:lnTo>
                  <a:pt x="334" y="725"/>
                </a:lnTo>
                <a:lnTo>
                  <a:pt x="334" y="725"/>
                </a:lnTo>
                <a:lnTo>
                  <a:pt x="334" y="723"/>
                </a:lnTo>
                <a:lnTo>
                  <a:pt x="332" y="721"/>
                </a:lnTo>
                <a:lnTo>
                  <a:pt x="332" y="719"/>
                </a:lnTo>
                <a:lnTo>
                  <a:pt x="332" y="719"/>
                </a:lnTo>
                <a:lnTo>
                  <a:pt x="330" y="719"/>
                </a:lnTo>
                <a:lnTo>
                  <a:pt x="296" y="713"/>
                </a:lnTo>
                <a:lnTo>
                  <a:pt x="261" y="704"/>
                </a:lnTo>
                <a:lnTo>
                  <a:pt x="229" y="692"/>
                </a:lnTo>
                <a:lnTo>
                  <a:pt x="198" y="677"/>
                </a:lnTo>
                <a:lnTo>
                  <a:pt x="167" y="660"/>
                </a:lnTo>
                <a:lnTo>
                  <a:pt x="140" y="639"/>
                </a:lnTo>
                <a:lnTo>
                  <a:pt x="115" y="616"/>
                </a:lnTo>
                <a:lnTo>
                  <a:pt x="92" y="591"/>
                </a:lnTo>
                <a:lnTo>
                  <a:pt x="71" y="564"/>
                </a:lnTo>
                <a:lnTo>
                  <a:pt x="54" y="533"/>
                </a:lnTo>
                <a:lnTo>
                  <a:pt x="38" y="502"/>
                </a:lnTo>
                <a:lnTo>
                  <a:pt x="27" y="470"/>
                </a:lnTo>
                <a:lnTo>
                  <a:pt x="17" y="435"/>
                </a:lnTo>
                <a:lnTo>
                  <a:pt x="12" y="401"/>
                </a:lnTo>
                <a:lnTo>
                  <a:pt x="10" y="364"/>
                </a:lnTo>
                <a:lnTo>
                  <a:pt x="12" y="328"/>
                </a:lnTo>
                <a:lnTo>
                  <a:pt x="17" y="291"/>
                </a:lnTo>
                <a:lnTo>
                  <a:pt x="27" y="257"/>
                </a:lnTo>
                <a:lnTo>
                  <a:pt x="38" y="224"/>
                </a:lnTo>
                <a:lnTo>
                  <a:pt x="54" y="193"/>
                </a:lnTo>
                <a:lnTo>
                  <a:pt x="71" y="165"/>
                </a:lnTo>
                <a:lnTo>
                  <a:pt x="92" y="138"/>
                </a:lnTo>
                <a:lnTo>
                  <a:pt x="115" y="111"/>
                </a:lnTo>
                <a:lnTo>
                  <a:pt x="140" y="88"/>
                </a:lnTo>
                <a:lnTo>
                  <a:pt x="167" y="69"/>
                </a:lnTo>
                <a:lnTo>
                  <a:pt x="198" y="50"/>
                </a:lnTo>
                <a:lnTo>
                  <a:pt x="229" y="36"/>
                </a:lnTo>
                <a:lnTo>
                  <a:pt x="261" y="23"/>
                </a:lnTo>
                <a:lnTo>
                  <a:pt x="296" y="15"/>
                </a:lnTo>
                <a:lnTo>
                  <a:pt x="319" y="11"/>
                </a:lnTo>
                <a:lnTo>
                  <a:pt x="319" y="9"/>
                </a:lnTo>
                <a:lnTo>
                  <a:pt x="319" y="7"/>
                </a:lnTo>
                <a:lnTo>
                  <a:pt x="319" y="7"/>
                </a:lnTo>
                <a:lnTo>
                  <a:pt x="321" y="5"/>
                </a:lnTo>
                <a:lnTo>
                  <a:pt x="321" y="4"/>
                </a:lnTo>
                <a:lnTo>
                  <a:pt x="321" y="2"/>
                </a:lnTo>
                <a:lnTo>
                  <a:pt x="321" y="2"/>
                </a:lnTo>
                <a:lnTo>
                  <a:pt x="321" y="0"/>
                </a:lnTo>
                <a:close/>
              </a:path>
            </a:pathLst>
          </a:custGeom>
          <a:solidFill>
            <a:srgbClr val="bb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Freeform 461"/>
          <p:cNvSpPr/>
          <p:nvPr/>
        </p:nvSpPr>
        <p:spPr>
          <a:xfrm>
            <a:off x="5770440" y="2673360"/>
            <a:ext cx="520920" cy="1143000"/>
          </a:xfrm>
          <a:custGeom>
            <a:avLst/>
            <a:gdLst>
              <a:gd name="textAreaLeft" fmla="*/ 0 w 520920"/>
              <a:gd name="textAreaRight" fmla="*/ 521280 w 5209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328" h="720">
                <a:moveTo>
                  <a:pt x="315" y="0"/>
                </a:moveTo>
                <a:lnTo>
                  <a:pt x="288" y="4"/>
                </a:lnTo>
                <a:lnTo>
                  <a:pt x="253" y="14"/>
                </a:lnTo>
                <a:lnTo>
                  <a:pt x="221" y="25"/>
                </a:lnTo>
                <a:lnTo>
                  <a:pt x="188" y="41"/>
                </a:lnTo>
                <a:lnTo>
                  <a:pt x="159" y="58"/>
                </a:lnTo>
                <a:lnTo>
                  <a:pt x="130" y="79"/>
                </a:lnTo>
                <a:lnTo>
                  <a:pt x="105" y="102"/>
                </a:lnTo>
                <a:lnTo>
                  <a:pt x="82" y="129"/>
                </a:lnTo>
                <a:lnTo>
                  <a:pt x="61" y="156"/>
                </a:lnTo>
                <a:lnTo>
                  <a:pt x="42" y="187"/>
                </a:lnTo>
                <a:lnTo>
                  <a:pt x="27" y="217"/>
                </a:lnTo>
                <a:lnTo>
                  <a:pt x="15" y="252"/>
                </a:lnTo>
                <a:lnTo>
                  <a:pt x="6" y="286"/>
                </a:lnTo>
                <a:lnTo>
                  <a:pt x="0" y="321"/>
                </a:lnTo>
                <a:lnTo>
                  <a:pt x="0" y="359"/>
                </a:lnTo>
                <a:lnTo>
                  <a:pt x="0" y="396"/>
                </a:lnTo>
                <a:lnTo>
                  <a:pt x="6" y="432"/>
                </a:lnTo>
                <a:lnTo>
                  <a:pt x="15" y="467"/>
                </a:lnTo>
                <a:lnTo>
                  <a:pt x="27" y="499"/>
                </a:lnTo>
                <a:lnTo>
                  <a:pt x="42" y="532"/>
                </a:lnTo>
                <a:lnTo>
                  <a:pt x="61" y="561"/>
                </a:lnTo>
                <a:lnTo>
                  <a:pt x="82" y="589"/>
                </a:lnTo>
                <a:lnTo>
                  <a:pt x="105" y="614"/>
                </a:lnTo>
                <a:lnTo>
                  <a:pt x="130" y="637"/>
                </a:lnTo>
                <a:lnTo>
                  <a:pt x="159" y="659"/>
                </a:lnTo>
                <a:lnTo>
                  <a:pt x="188" y="678"/>
                </a:lnTo>
                <a:lnTo>
                  <a:pt x="221" y="693"/>
                </a:lnTo>
                <a:lnTo>
                  <a:pt x="253" y="705"/>
                </a:lnTo>
                <a:lnTo>
                  <a:pt x="288" y="714"/>
                </a:lnTo>
                <a:lnTo>
                  <a:pt x="324" y="718"/>
                </a:lnTo>
                <a:lnTo>
                  <a:pt x="328" y="720"/>
                </a:lnTo>
                <a:lnTo>
                  <a:pt x="328" y="718"/>
                </a:lnTo>
                <a:lnTo>
                  <a:pt x="326" y="716"/>
                </a:lnTo>
                <a:lnTo>
                  <a:pt x="326" y="714"/>
                </a:lnTo>
                <a:lnTo>
                  <a:pt x="326" y="714"/>
                </a:lnTo>
                <a:lnTo>
                  <a:pt x="326" y="712"/>
                </a:lnTo>
                <a:lnTo>
                  <a:pt x="326" y="710"/>
                </a:lnTo>
                <a:lnTo>
                  <a:pt x="324" y="710"/>
                </a:lnTo>
                <a:lnTo>
                  <a:pt x="324" y="708"/>
                </a:lnTo>
                <a:lnTo>
                  <a:pt x="290" y="703"/>
                </a:lnTo>
                <a:lnTo>
                  <a:pt x="257" y="695"/>
                </a:lnTo>
                <a:lnTo>
                  <a:pt x="224" y="682"/>
                </a:lnTo>
                <a:lnTo>
                  <a:pt x="194" y="668"/>
                </a:lnTo>
                <a:lnTo>
                  <a:pt x="165" y="651"/>
                </a:lnTo>
                <a:lnTo>
                  <a:pt x="138" y="630"/>
                </a:lnTo>
                <a:lnTo>
                  <a:pt x="113" y="607"/>
                </a:lnTo>
                <a:lnTo>
                  <a:pt x="90" y="582"/>
                </a:lnTo>
                <a:lnTo>
                  <a:pt x="69" y="555"/>
                </a:lnTo>
                <a:lnTo>
                  <a:pt x="52" y="526"/>
                </a:lnTo>
                <a:lnTo>
                  <a:pt x="36" y="495"/>
                </a:lnTo>
                <a:lnTo>
                  <a:pt x="25" y="463"/>
                </a:lnTo>
                <a:lnTo>
                  <a:pt x="17" y="430"/>
                </a:lnTo>
                <a:lnTo>
                  <a:pt x="11" y="394"/>
                </a:lnTo>
                <a:lnTo>
                  <a:pt x="9" y="359"/>
                </a:lnTo>
                <a:lnTo>
                  <a:pt x="11" y="323"/>
                </a:lnTo>
                <a:lnTo>
                  <a:pt x="17" y="288"/>
                </a:lnTo>
                <a:lnTo>
                  <a:pt x="25" y="254"/>
                </a:lnTo>
                <a:lnTo>
                  <a:pt x="36" y="221"/>
                </a:lnTo>
                <a:lnTo>
                  <a:pt x="52" y="190"/>
                </a:lnTo>
                <a:lnTo>
                  <a:pt x="69" y="162"/>
                </a:lnTo>
                <a:lnTo>
                  <a:pt x="90" y="135"/>
                </a:lnTo>
                <a:lnTo>
                  <a:pt x="113" y="110"/>
                </a:lnTo>
                <a:lnTo>
                  <a:pt x="138" y="87"/>
                </a:lnTo>
                <a:lnTo>
                  <a:pt x="165" y="68"/>
                </a:lnTo>
                <a:lnTo>
                  <a:pt x="194" y="50"/>
                </a:lnTo>
                <a:lnTo>
                  <a:pt x="224" y="35"/>
                </a:lnTo>
                <a:lnTo>
                  <a:pt x="257" y="23"/>
                </a:lnTo>
                <a:lnTo>
                  <a:pt x="290" y="14"/>
                </a:lnTo>
                <a:lnTo>
                  <a:pt x="311" y="12"/>
                </a:lnTo>
                <a:lnTo>
                  <a:pt x="311" y="10"/>
                </a:lnTo>
                <a:lnTo>
                  <a:pt x="311" y="8"/>
                </a:lnTo>
                <a:lnTo>
                  <a:pt x="313" y="8"/>
                </a:lnTo>
                <a:lnTo>
                  <a:pt x="313" y="6"/>
                </a:lnTo>
                <a:lnTo>
                  <a:pt x="313" y="4"/>
                </a:lnTo>
                <a:lnTo>
                  <a:pt x="313" y="2"/>
                </a:lnTo>
                <a:lnTo>
                  <a:pt x="313" y="2"/>
                </a:lnTo>
                <a:lnTo>
                  <a:pt x="315" y="0"/>
                </a:lnTo>
                <a:close/>
              </a:path>
            </a:pathLst>
          </a:custGeom>
          <a:solidFill>
            <a:srgbClr val="bce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Freeform 462"/>
          <p:cNvSpPr/>
          <p:nvPr/>
        </p:nvSpPr>
        <p:spPr>
          <a:xfrm>
            <a:off x="5776920" y="2682720"/>
            <a:ext cx="511200" cy="1124280"/>
          </a:xfrm>
          <a:custGeom>
            <a:avLst/>
            <a:gdLst>
              <a:gd name="textAreaLeft" fmla="*/ 0 w 511200"/>
              <a:gd name="textAreaRight" fmla="*/ 511200 w 511200"/>
              <a:gd name="textAreaTop" fmla="*/ 0 h 1124280"/>
              <a:gd name="textAreaBottom" fmla="*/ 1124640 h 1124280"/>
            </a:gdLst>
            <a:ahLst/>
            <a:rect l="textAreaLeft" t="textAreaTop" r="textAreaRight" b="textAreaBottom"/>
            <a:pathLst>
              <a:path w="322" h="708">
                <a:moveTo>
                  <a:pt x="309" y="0"/>
                </a:moveTo>
                <a:lnTo>
                  <a:pt x="286" y="4"/>
                </a:lnTo>
                <a:lnTo>
                  <a:pt x="251" y="12"/>
                </a:lnTo>
                <a:lnTo>
                  <a:pt x="219" y="25"/>
                </a:lnTo>
                <a:lnTo>
                  <a:pt x="188" y="39"/>
                </a:lnTo>
                <a:lnTo>
                  <a:pt x="157" y="58"/>
                </a:lnTo>
                <a:lnTo>
                  <a:pt x="130" y="77"/>
                </a:lnTo>
                <a:lnTo>
                  <a:pt x="105" y="100"/>
                </a:lnTo>
                <a:lnTo>
                  <a:pt x="82" y="127"/>
                </a:lnTo>
                <a:lnTo>
                  <a:pt x="61" y="154"/>
                </a:lnTo>
                <a:lnTo>
                  <a:pt x="44" y="182"/>
                </a:lnTo>
                <a:lnTo>
                  <a:pt x="28" y="213"/>
                </a:lnTo>
                <a:lnTo>
                  <a:pt x="17" y="246"/>
                </a:lnTo>
                <a:lnTo>
                  <a:pt x="7" y="280"/>
                </a:lnTo>
                <a:lnTo>
                  <a:pt x="2" y="317"/>
                </a:lnTo>
                <a:lnTo>
                  <a:pt x="0" y="353"/>
                </a:lnTo>
                <a:lnTo>
                  <a:pt x="2" y="390"/>
                </a:lnTo>
                <a:lnTo>
                  <a:pt x="7" y="424"/>
                </a:lnTo>
                <a:lnTo>
                  <a:pt x="17" y="459"/>
                </a:lnTo>
                <a:lnTo>
                  <a:pt x="28" y="491"/>
                </a:lnTo>
                <a:lnTo>
                  <a:pt x="44" y="522"/>
                </a:lnTo>
                <a:lnTo>
                  <a:pt x="61" y="553"/>
                </a:lnTo>
                <a:lnTo>
                  <a:pt x="82" y="580"/>
                </a:lnTo>
                <a:lnTo>
                  <a:pt x="105" y="605"/>
                </a:lnTo>
                <a:lnTo>
                  <a:pt x="130" y="628"/>
                </a:lnTo>
                <a:lnTo>
                  <a:pt x="157" y="649"/>
                </a:lnTo>
                <a:lnTo>
                  <a:pt x="188" y="666"/>
                </a:lnTo>
                <a:lnTo>
                  <a:pt x="219" y="681"/>
                </a:lnTo>
                <a:lnTo>
                  <a:pt x="251" y="693"/>
                </a:lnTo>
                <a:lnTo>
                  <a:pt x="286" y="702"/>
                </a:lnTo>
                <a:lnTo>
                  <a:pt x="320" y="708"/>
                </a:lnTo>
                <a:lnTo>
                  <a:pt x="322" y="708"/>
                </a:lnTo>
                <a:lnTo>
                  <a:pt x="322" y="706"/>
                </a:lnTo>
                <a:lnTo>
                  <a:pt x="322" y="704"/>
                </a:lnTo>
                <a:lnTo>
                  <a:pt x="320" y="704"/>
                </a:lnTo>
                <a:lnTo>
                  <a:pt x="320" y="702"/>
                </a:lnTo>
                <a:lnTo>
                  <a:pt x="320" y="701"/>
                </a:lnTo>
                <a:lnTo>
                  <a:pt x="320" y="699"/>
                </a:lnTo>
                <a:lnTo>
                  <a:pt x="320" y="699"/>
                </a:lnTo>
                <a:lnTo>
                  <a:pt x="318" y="697"/>
                </a:lnTo>
                <a:lnTo>
                  <a:pt x="288" y="691"/>
                </a:lnTo>
                <a:lnTo>
                  <a:pt x="253" y="683"/>
                </a:lnTo>
                <a:lnTo>
                  <a:pt x="222" y="672"/>
                </a:lnTo>
                <a:lnTo>
                  <a:pt x="192" y="656"/>
                </a:lnTo>
                <a:lnTo>
                  <a:pt x="163" y="639"/>
                </a:lnTo>
                <a:lnTo>
                  <a:pt x="136" y="620"/>
                </a:lnTo>
                <a:lnTo>
                  <a:pt x="113" y="597"/>
                </a:lnTo>
                <a:lnTo>
                  <a:pt x="90" y="572"/>
                </a:lnTo>
                <a:lnTo>
                  <a:pt x="71" y="547"/>
                </a:lnTo>
                <a:lnTo>
                  <a:pt x="53" y="518"/>
                </a:lnTo>
                <a:lnTo>
                  <a:pt x="38" y="488"/>
                </a:lnTo>
                <a:lnTo>
                  <a:pt x="27" y="455"/>
                </a:lnTo>
                <a:lnTo>
                  <a:pt x="17" y="422"/>
                </a:lnTo>
                <a:lnTo>
                  <a:pt x="13" y="388"/>
                </a:lnTo>
                <a:lnTo>
                  <a:pt x="11" y="353"/>
                </a:lnTo>
                <a:lnTo>
                  <a:pt x="13" y="317"/>
                </a:lnTo>
                <a:lnTo>
                  <a:pt x="17" y="282"/>
                </a:lnTo>
                <a:lnTo>
                  <a:pt x="27" y="250"/>
                </a:lnTo>
                <a:lnTo>
                  <a:pt x="38" y="219"/>
                </a:lnTo>
                <a:lnTo>
                  <a:pt x="53" y="188"/>
                </a:lnTo>
                <a:lnTo>
                  <a:pt x="71" y="159"/>
                </a:lnTo>
                <a:lnTo>
                  <a:pt x="90" y="133"/>
                </a:lnTo>
                <a:lnTo>
                  <a:pt x="113" y="108"/>
                </a:lnTo>
                <a:lnTo>
                  <a:pt x="136" y="87"/>
                </a:lnTo>
                <a:lnTo>
                  <a:pt x="163" y="65"/>
                </a:lnTo>
                <a:lnTo>
                  <a:pt x="192" y="48"/>
                </a:lnTo>
                <a:lnTo>
                  <a:pt x="222" y="35"/>
                </a:lnTo>
                <a:lnTo>
                  <a:pt x="253" y="23"/>
                </a:lnTo>
                <a:lnTo>
                  <a:pt x="288" y="14"/>
                </a:lnTo>
                <a:lnTo>
                  <a:pt x="305" y="12"/>
                </a:lnTo>
                <a:lnTo>
                  <a:pt x="307" y="10"/>
                </a:lnTo>
                <a:lnTo>
                  <a:pt x="307" y="8"/>
                </a:lnTo>
                <a:lnTo>
                  <a:pt x="307" y="6"/>
                </a:lnTo>
                <a:lnTo>
                  <a:pt x="307" y="6"/>
                </a:lnTo>
                <a:lnTo>
                  <a:pt x="307" y="4"/>
                </a:lnTo>
                <a:lnTo>
                  <a:pt x="307" y="2"/>
                </a:lnTo>
                <a:lnTo>
                  <a:pt x="309" y="2"/>
                </a:lnTo>
                <a:lnTo>
                  <a:pt x="309" y="0"/>
                </a:lnTo>
                <a:close/>
              </a:path>
            </a:pathLst>
          </a:custGeom>
          <a:solidFill>
            <a:srgbClr val="bde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Freeform 463"/>
          <p:cNvSpPr/>
          <p:nvPr/>
        </p:nvSpPr>
        <p:spPr>
          <a:xfrm>
            <a:off x="5784840" y="2692440"/>
            <a:ext cx="500040" cy="1104840"/>
          </a:xfrm>
          <a:custGeom>
            <a:avLst/>
            <a:gdLst>
              <a:gd name="textAreaLeft" fmla="*/ 0 w 500040"/>
              <a:gd name="textAreaRight" fmla="*/ 500400 w 50004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315" h="696">
                <a:moveTo>
                  <a:pt x="302" y="0"/>
                </a:moveTo>
                <a:lnTo>
                  <a:pt x="281" y="2"/>
                </a:lnTo>
                <a:lnTo>
                  <a:pt x="248" y="11"/>
                </a:lnTo>
                <a:lnTo>
                  <a:pt x="215" y="23"/>
                </a:lnTo>
                <a:lnTo>
                  <a:pt x="185" y="38"/>
                </a:lnTo>
                <a:lnTo>
                  <a:pt x="156" y="56"/>
                </a:lnTo>
                <a:lnTo>
                  <a:pt x="129" y="75"/>
                </a:lnTo>
                <a:lnTo>
                  <a:pt x="104" y="98"/>
                </a:lnTo>
                <a:lnTo>
                  <a:pt x="81" y="123"/>
                </a:lnTo>
                <a:lnTo>
                  <a:pt x="60" y="150"/>
                </a:lnTo>
                <a:lnTo>
                  <a:pt x="43" y="178"/>
                </a:lnTo>
                <a:lnTo>
                  <a:pt x="27" y="209"/>
                </a:lnTo>
                <a:lnTo>
                  <a:pt x="16" y="242"/>
                </a:lnTo>
                <a:lnTo>
                  <a:pt x="8" y="276"/>
                </a:lnTo>
                <a:lnTo>
                  <a:pt x="2" y="311"/>
                </a:lnTo>
                <a:lnTo>
                  <a:pt x="0" y="347"/>
                </a:lnTo>
                <a:lnTo>
                  <a:pt x="2" y="382"/>
                </a:lnTo>
                <a:lnTo>
                  <a:pt x="8" y="418"/>
                </a:lnTo>
                <a:lnTo>
                  <a:pt x="16" y="451"/>
                </a:lnTo>
                <a:lnTo>
                  <a:pt x="27" y="483"/>
                </a:lnTo>
                <a:lnTo>
                  <a:pt x="43" y="514"/>
                </a:lnTo>
                <a:lnTo>
                  <a:pt x="60" y="543"/>
                </a:lnTo>
                <a:lnTo>
                  <a:pt x="81" y="570"/>
                </a:lnTo>
                <a:lnTo>
                  <a:pt x="104" y="595"/>
                </a:lnTo>
                <a:lnTo>
                  <a:pt x="129" y="618"/>
                </a:lnTo>
                <a:lnTo>
                  <a:pt x="156" y="639"/>
                </a:lnTo>
                <a:lnTo>
                  <a:pt x="185" y="656"/>
                </a:lnTo>
                <a:lnTo>
                  <a:pt x="215" y="670"/>
                </a:lnTo>
                <a:lnTo>
                  <a:pt x="248" y="683"/>
                </a:lnTo>
                <a:lnTo>
                  <a:pt x="281" y="691"/>
                </a:lnTo>
                <a:lnTo>
                  <a:pt x="315" y="696"/>
                </a:lnTo>
                <a:lnTo>
                  <a:pt x="315" y="695"/>
                </a:lnTo>
                <a:lnTo>
                  <a:pt x="315" y="693"/>
                </a:lnTo>
                <a:lnTo>
                  <a:pt x="315" y="693"/>
                </a:lnTo>
                <a:lnTo>
                  <a:pt x="313" y="691"/>
                </a:lnTo>
                <a:lnTo>
                  <a:pt x="313" y="689"/>
                </a:lnTo>
                <a:lnTo>
                  <a:pt x="313" y="687"/>
                </a:lnTo>
                <a:lnTo>
                  <a:pt x="313" y="687"/>
                </a:lnTo>
                <a:lnTo>
                  <a:pt x="313" y="685"/>
                </a:lnTo>
                <a:lnTo>
                  <a:pt x="283" y="681"/>
                </a:lnTo>
                <a:lnTo>
                  <a:pt x="250" y="671"/>
                </a:lnTo>
                <a:lnTo>
                  <a:pt x="219" y="660"/>
                </a:lnTo>
                <a:lnTo>
                  <a:pt x="189" y="647"/>
                </a:lnTo>
                <a:lnTo>
                  <a:pt x="162" y="629"/>
                </a:lnTo>
                <a:lnTo>
                  <a:pt x="135" y="610"/>
                </a:lnTo>
                <a:lnTo>
                  <a:pt x="112" y="587"/>
                </a:lnTo>
                <a:lnTo>
                  <a:pt x="89" y="564"/>
                </a:lnTo>
                <a:lnTo>
                  <a:pt x="70" y="537"/>
                </a:lnTo>
                <a:lnTo>
                  <a:pt x="52" y="508"/>
                </a:lnTo>
                <a:lnTo>
                  <a:pt x="39" y="480"/>
                </a:lnTo>
                <a:lnTo>
                  <a:pt x="27" y="449"/>
                </a:lnTo>
                <a:lnTo>
                  <a:pt x="18" y="416"/>
                </a:lnTo>
                <a:lnTo>
                  <a:pt x="14" y="382"/>
                </a:lnTo>
                <a:lnTo>
                  <a:pt x="12" y="347"/>
                </a:lnTo>
                <a:lnTo>
                  <a:pt x="14" y="313"/>
                </a:lnTo>
                <a:lnTo>
                  <a:pt x="18" y="278"/>
                </a:lnTo>
                <a:lnTo>
                  <a:pt x="27" y="246"/>
                </a:lnTo>
                <a:lnTo>
                  <a:pt x="39" y="215"/>
                </a:lnTo>
                <a:lnTo>
                  <a:pt x="52" y="184"/>
                </a:lnTo>
                <a:lnTo>
                  <a:pt x="70" y="157"/>
                </a:lnTo>
                <a:lnTo>
                  <a:pt x="89" y="130"/>
                </a:lnTo>
                <a:lnTo>
                  <a:pt x="112" y="105"/>
                </a:lnTo>
                <a:lnTo>
                  <a:pt x="135" y="84"/>
                </a:lnTo>
                <a:lnTo>
                  <a:pt x="162" y="65"/>
                </a:lnTo>
                <a:lnTo>
                  <a:pt x="189" y="48"/>
                </a:lnTo>
                <a:lnTo>
                  <a:pt x="219" y="33"/>
                </a:lnTo>
                <a:lnTo>
                  <a:pt x="250" y="21"/>
                </a:lnTo>
                <a:lnTo>
                  <a:pt x="283" y="13"/>
                </a:lnTo>
                <a:lnTo>
                  <a:pt x="300" y="11"/>
                </a:lnTo>
                <a:lnTo>
                  <a:pt x="300" y="10"/>
                </a:lnTo>
                <a:lnTo>
                  <a:pt x="300" y="8"/>
                </a:lnTo>
                <a:lnTo>
                  <a:pt x="300" y="6"/>
                </a:lnTo>
                <a:lnTo>
                  <a:pt x="300" y="6"/>
                </a:lnTo>
                <a:lnTo>
                  <a:pt x="302" y="4"/>
                </a:lnTo>
                <a:lnTo>
                  <a:pt x="302" y="2"/>
                </a:lnTo>
                <a:lnTo>
                  <a:pt x="302" y="0"/>
                </a:lnTo>
                <a:lnTo>
                  <a:pt x="302" y="0"/>
                </a:lnTo>
                <a:close/>
              </a:path>
            </a:pathLst>
          </a:custGeom>
          <a:solidFill>
            <a:srgbClr val="be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Freeform 464"/>
          <p:cNvSpPr/>
          <p:nvPr/>
        </p:nvSpPr>
        <p:spPr>
          <a:xfrm>
            <a:off x="5794200" y="2701800"/>
            <a:ext cx="487440" cy="1087560"/>
          </a:xfrm>
          <a:custGeom>
            <a:avLst/>
            <a:gdLst>
              <a:gd name="textAreaLeft" fmla="*/ 0 w 487440"/>
              <a:gd name="textAreaRight" fmla="*/ 487800 w 48744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307" h="685">
                <a:moveTo>
                  <a:pt x="294" y="0"/>
                </a:moveTo>
                <a:lnTo>
                  <a:pt x="277" y="2"/>
                </a:lnTo>
                <a:lnTo>
                  <a:pt x="242" y="11"/>
                </a:lnTo>
                <a:lnTo>
                  <a:pt x="211" y="23"/>
                </a:lnTo>
                <a:lnTo>
                  <a:pt x="181" y="36"/>
                </a:lnTo>
                <a:lnTo>
                  <a:pt x="152" y="53"/>
                </a:lnTo>
                <a:lnTo>
                  <a:pt x="125" y="75"/>
                </a:lnTo>
                <a:lnTo>
                  <a:pt x="102" y="96"/>
                </a:lnTo>
                <a:lnTo>
                  <a:pt x="79" y="121"/>
                </a:lnTo>
                <a:lnTo>
                  <a:pt x="60" y="147"/>
                </a:lnTo>
                <a:lnTo>
                  <a:pt x="42" y="176"/>
                </a:lnTo>
                <a:lnTo>
                  <a:pt x="27" y="207"/>
                </a:lnTo>
                <a:lnTo>
                  <a:pt x="16" y="238"/>
                </a:lnTo>
                <a:lnTo>
                  <a:pt x="6" y="270"/>
                </a:lnTo>
                <a:lnTo>
                  <a:pt x="2" y="305"/>
                </a:lnTo>
                <a:lnTo>
                  <a:pt x="0" y="341"/>
                </a:lnTo>
                <a:lnTo>
                  <a:pt x="2" y="376"/>
                </a:lnTo>
                <a:lnTo>
                  <a:pt x="6" y="410"/>
                </a:lnTo>
                <a:lnTo>
                  <a:pt x="16" y="443"/>
                </a:lnTo>
                <a:lnTo>
                  <a:pt x="27" y="476"/>
                </a:lnTo>
                <a:lnTo>
                  <a:pt x="42" y="506"/>
                </a:lnTo>
                <a:lnTo>
                  <a:pt x="60" y="535"/>
                </a:lnTo>
                <a:lnTo>
                  <a:pt x="79" y="560"/>
                </a:lnTo>
                <a:lnTo>
                  <a:pt x="102" y="585"/>
                </a:lnTo>
                <a:lnTo>
                  <a:pt x="125" y="608"/>
                </a:lnTo>
                <a:lnTo>
                  <a:pt x="152" y="627"/>
                </a:lnTo>
                <a:lnTo>
                  <a:pt x="181" y="644"/>
                </a:lnTo>
                <a:lnTo>
                  <a:pt x="211" y="660"/>
                </a:lnTo>
                <a:lnTo>
                  <a:pt x="242" y="671"/>
                </a:lnTo>
                <a:lnTo>
                  <a:pt x="277" y="679"/>
                </a:lnTo>
                <a:lnTo>
                  <a:pt x="307" y="685"/>
                </a:lnTo>
                <a:lnTo>
                  <a:pt x="307" y="683"/>
                </a:lnTo>
                <a:lnTo>
                  <a:pt x="307" y="681"/>
                </a:lnTo>
                <a:lnTo>
                  <a:pt x="307" y="681"/>
                </a:lnTo>
                <a:lnTo>
                  <a:pt x="307" y="679"/>
                </a:lnTo>
                <a:lnTo>
                  <a:pt x="305" y="677"/>
                </a:lnTo>
                <a:lnTo>
                  <a:pt x="305" y="677"/>
                </a:lnTo>
                <a:lnTo>
                  <a:pt x="305" y="675"/>
                </a:lnTo>
                <a:lnTo>
                  <a:pt x="305" y="673"/>
                </a:lnTo>
                <a:lnTo>
                  <a:pt x="279" y="669"/>
                </a:lnTo>
                <a:lnTo>
                  <a:pt x="246" y="662"/>
                </a:lnTo>
                <a:lnTo>
                  <a:pt x="215" y="650"/>
                </a:lnTo>
                <a:lnTo>
                  <a:pt x="186" y="635"/>
                </a:lnTo>
                <a:lnTo>
                  <a:pt x="158" y="619"/>
                </a:lnTo>
                <a:lnTo>
                  <a:pt x="133" y="600"/>
                </a:lnTo>
                <a:lnTo>
                  <a:pt x="110" y="577"/>
                </a:lnTo>
                <a:lnTo>
                  <a:pt x="87" y="554"/>
                </a:lnTo>
                <a:lnTo>
                  <a:pt x="67" y="527"/>
                </a:lnTo>
                <a:lnTo>
                  <a:pt x="50" y="500"/>
                </a:lnTo>
                <a:lnTo>
                  <a:pt x="37" y="472"/>
                </a:lnTo>
                <a:lnTo>
                  <a:pt x="25" y="441"/>
                </a:lnTo>
                <a:lnTo>
                  <a:pt x="17" y="408"/>
                </a:lnTo>
                <a:lnTo>
                  <a:pt x="12" y="376"/>
                </a:lnTo>
                <a:lnTo>
                  <a:pt x="10" y="341"/>
                </a:lnTo>
                <a:lnTo>
                  <a:pt x="12" y="307"/>
                </a:lnTo>
                <a:lnTo>
                  <a:pt x="17" y="274"/>
                </a:lnTo>
                <a:lnTo>
                  <a:pt x="25" y="241"/>
                </a:lnTo>
                <a:lnTo>
                  <a:pt x="37" y="211"/>
                </a:lnTo>
                <a:lnTo>
                  <a:pt x="50" y="180"/>
                </a:lnTo>
                <a:lnTo>
                  <a:pt x="67" y="153"/>
                </a:lnTo>
                <a:lnTo>
                  <a:pt x="87" y="128"/>
                </a:lnTo>
                <a:lnTo>
                  <a:pt x="110" y="103"/>
                </a:lnTo>
                <a:lnTo>
                  <a:pt x="133" y="82"/>
                </a:lnTo>
                <a:lnTo>
                  <a:pt x="158" y="63"/>
                </a:lnTo>
                <a:lnTo>
                  <a:pt x="186" y="46"/>
                </a:lnTo>
                <a:lnTo>
                  <a:pt x="215" y="32"/>
                </a:lnTo>
                <a:lnTo>
                  <a:pt x="246" y="21"/>
                </a:lnTo>
                <a:lnTo>
                  <a:pt x="279" y="13"/>
                </a:lnTo>
                <a:lnTo>
                  <a:pt x="292" y="9"/>
                </a:lnTo>
                <a:lnTo>
                  <a:pt x="292" y="9"/>
                </a:lnTo>
                <a:lnTo>
                  <a:pt x="292" y="7"/>
                </a:lnTo>
                <a:lnTo>
                  <a:pt x="292" y="5"/>
                </a:lnTo>
                <a:lnTo>
                  <a:pt x="294" y="5"/>
                </a:lnTo>
                <a:lnTo>
                  <a:pt x="294" y="4"/>
                </a:lnTo>
                <a:lnTo>
                  <a:pt x="294" y="2"/>
                </a:lnTo>
                <a:lnTo>
                  <a:pt x="294" y="0"/>
                </a:lnTo>
                <a:lnTo>
                  <a:pt x="294" y="0"/>
                </a:lnTo>
                <a:close/>
              </a:path>
            </a:pathLst>
          </a:custGeom>
          <a:solidFill>
            <a:srgbClr val="b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Freeform 465"/>
          <p:cNvSpPr/>
          <p:nvPr/>
        </p:nvSpPr>
        <p:spPr>
          <a:xfrm>
            <a:off x="5803920" y="2709720"/>
            <a:ext cx="477720" cy="1070280"/>
          </a:xfrm>
          <a:custGeom>
            <a:avLst/>
            <a:gdLst>
              <a:gd name="textAreaLeft" fmla="*/ 0 w 477720"/>
              <a:gd name="textAreaRight" fmla="*/ 477720 w 477720"/>
              <a:gd name="textAreaTop" fmla="*/ 0 h 1070280"/>
              <a:gd name="textAreaBottom" fmla="*/ 1070640 h 1070280"/>
            </a:gdLst>
            <a:ahLst/>
            <a:rect l="textAreaLeft" t="textAreaTop" r="textAreaRight" b="textAreaBottom"/>
            <a:pathLst>
              <a:path w="301" h="674">
                <a:moveTo>
                  <a:pt x="288" y="0"/>
                </a:moveTo>
                <a:lnTo>
                  <a:pt x="271" y="2"/>
                </a:lnTo>
                <a:lnTo>
                  <a:pt x="238" y="10"/>
                </a:lnTo>
                <a:lnTo>
                  <a:pt x="207" y="22"/>
                </a:lnTo>
                <a:lnTo>
                  <a:pt x="177" y="37"/>
                </a:lnTo>
                <a:lnTo>
                  <a:pt x="150" y="54"/>
                </a:lnTo>
                <a:lnTo>
                  <a:pt x="123" y="73"/>
                </a:lnTo>
                <a:lnTo>
                  <a:pt x="100" y="94"/>
                </a:lnTo>
                <a:lnTo>
                  <a:pt x="77" y="119"/>
                </a:lnTo>
                <a:lnTo>
                  <a:pt x="58" y="146"/>
                </a:lnTo>
                <a:lnTo>
                  <a:pt x="40" y="173"/>
                </a:lnTo>
                <a:lnTo>
                  <a:pt x="27" y="204"/>
                </a:lnTo>
                <a:lnTo>
                  <a:pt x="15" y="235"/>
                </a:lnTo>
                <a:lnTo>
                  <a:pt x="6" y="267"/>
                </a:lnTo>
                <a:lnTo>
                  <a:pt x="2" y="302"/>
                </a:lnTo>
                <a:lnTo>
                  <a:pt x="0" y="336"/>
                </a:lnTo>
                <a:lnTo>
                  <a:pt x="2" y="371"/>
                </a:lnTo>
                <a:lnTo>
                  <a:pt x="6" y="405"/>
                </a:lnTo>
                <a:lnTo>
                  <a:pt x="15" y="438"/>
                </a:lnTo>
                <a:lnTo>
                  <a:pt x="27" y="469"/>
                </a:lnTo>
                <a:lnTo>
                  <a:pt x="40" y="497"/>
                </a:lnTo>
                <a:lnTo>
                  <a:pt x="58" y="526"/>
                </a:lnTo>
                <a:lnTo>
                  <a:pt x="77" y="553"/>
                </a:lnTo>
                <a:lnTo>
                  <a:pt x="100" y="576"/>
                </a:lnTo>
                <a:lnTo>
                  <a:pt x="123" y="599"/>
                </a:lnTo>
                <a:lnTo>
                  <a:pt x="150" y="618"/>
                </a:lnTo>
                <a:lnTo>
                  <a:pt x="177" y="636"/>
                </a:lnTo>
                <a:lnTo>
                  <a:pt x="207" y="649"/>
                </a:lnTo>
                <a:lnTo>
                  <a:pt x="238" y="660"/>
                </a:lnTo>
                <a:lnTo>
                  <a:pt x="271" y="670"/>
                </a:lnTo>
                <a:lnTo>
                  <a:pt x="301" y="674"/>
                </a:lnTo>
                <a:lnTo>
                  <a:pt x="299" y="672"/>
                </a:lnTo>
                <a:lnTo>
                  <a:pt x="299" y="672"/>
                </a:lnTo>
                <a:lnTo>
                  <a:pt x="299" y="670"/>
                </a:lnTo>
                <a:lnTo>
                  <a:pt x="299" y="668"/>
                </a:lnTo>
                <a:lnTo>
                  <a:pt x="299" y="666"/>
                </a:lnTo>
                <a:lnTo>
                  <a:pt x="297" y="666"/>
                </a:lnTo>
                <a:lnTo>
                  <a:pt x="297" y="664"/>
                </a:lnTo>
                <a:lnTo>
                  <a:pt x="297" y="662"/>
                </a:lnTo>
                <a:lnTo>
                  <a:pt x="273" y="659"/>
                </a:lnTo>
                <a:lnTo>
                  <a:pt x="242" y="651"/>
                </a:lnTo>
                <a:lnTo>
                  <a:pt x="211" y="639"/>
                </a:lnTo>
                <a:lnTo>
                  <a:pt x="182" y="626"/>
                </a:lnTo>
                <a:lnTo>
                  <a:pt x="155" y="609"/>
                </a:lnTo>
                <a:lnTo>
                  <a:pt x="130" y="590"/>
                </a:lnTo>
                <a:lnTo>
                  <a:pt x="107" y="568"/>
                </a:lnTo>
                <a:lnTo>
                  <a:pt x="84" y="545"/>
                </a:lnTo>
                <a:lnTo>
                  <a:pt x="67" y="520"/>
                </a:lnTo>
                <a:lnTo>
                  <a:pt x="50" y="494"/>
                </a:lnTo>
                <a:lnTo>
                  <a:pt x="36" y="465"/>
                </a:lnTo>
                <a:lnTo>
                  <a:pt x="25" y="434"/>
                </a:lnTo>
                <a:lnTo>
                  <a:pt x="17" y="401"/>
                </a:lnTo>
                <a:lnTo>
                  <a:pt x="11" y="369"/>
                </a:lnTo>
                <a:lnTo>
                  <a:pt x="10" y="336"/>
                </a:lnTo>
                <a:lnTo>
                  <a:pt x="11" y="302"/>
                </a:lnTo>
                <a:lnTo>
                  <a:pt x="17" y="269"/>
                </a:lnTo>
                <a:lnTo>
                  <a:pt x="25" y="238"/>
                </a:lnTo>
                <a:lnTo>
                  <a:pt x="36" y="208"/>
                </a:lnTo>
                <a:lnTo>
                  <a:pt x="50" y="179"/>
                </a:lnTo>
                <a:lnTo>
                  <a:pt x="67" y="152"/>
                </a:lnTo>
                <a:lnTo>
                  <a:pt x="84" y="125"/>
                </a:lnTo>
                <a:lnTo>
                  <a:pt x="107" y="102"/>
                </a:lnTo>
                <a:lnTo>
                  <a:pt x="130" y="81"/>
                </a:lnTo>
                <a:lnTo>
                  <a:pt x="155" y="62"/>
                </a:lnTo>
                <a:lnTo>
                  <a:pt x="182" y="47"/>
                </a:lnTo>
                <a:lnTo>
                  <a:pt x="211" y="31"/>
                </a:lnTo>
                <a:lnTo>
                  <a:pt x="242" y="22"/>
                </a:lnTo>
                <a:lnTo>
                  <a:pt x="273" y="12"/>
                </a:lnTo>
                <a:lnTo>
                  <a:pt x="284" y="10"/>
                </a:lnTo>
                <a:lnTo>
                  <a:pt x="284" y="10"/>
                </a:lnTo>
                <a:lnTo>
                  <a:pt x="286" y="8"/>
                </a:lnTo>
                <a:lnTo>
                  <a:pt x="286" y="6"/>
                </a:lnTo>
                <a:lnTo>
                  <a:pt x="286" y="4"/>
                </a:lnTo>
                <a:lnTo>
                  <a:pt x="286" y="4"/>
                </a:lnTo>
                <a:lnTo>
                  <a:pt x="286" y="2"/>
                </a:lnTo>
                <a:lnTo>
                  <a:pt x="288" y="0"/>
                </a:lnTo>
                <a:lnTo>
                  <a:pt x="288" y="0"/>
                </a:lnTo>
                <a:close/>
              </a:path>
            </a:pathLst>
          </a:custGeom>
          <a:solidFill>
            <a:srgbClr val="c0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Freeform 466"/>
          <p:cNvSpPr/>
          <p:nvPr/>
        </p:nvSpPr>
        <p:spPr>
          <a:xfrm>
            <a:off x="5810400" y="2716200"/>
            <a:ext cx="468000" cy="1054080"/>
          </a:xfrm>
          <a:custGeom>
            <a:avLst/>
            <a:gdLst>
              <a:gd name="textAreaLeft" fmla="*/ 0 w 468000"/>
              <a:gd name="textAreaRight" fmla="*/ 468360 w 468000"/>
              <a:gd name="textAreaTop" fmla="*/ 0 h 1054080"/>
              <a:gd name="textAreaBottom" fmla="*/ 1054080 h 1054080"/>
            </a:gdLst>
            <a:ahLst/>
            <a:rect l="textAreaLeft" t="textAreaTop" r="textAreaRight" b="textAreaBottom"/>
            <a:pathLst>
              <a:path w="295" h="664">
                <a:moveTo>
                  <a:pt x="282" y="0"/>
                </a:moveTo>
                <a:lnTo>
                  <a:pt x="269" y="4"/>
                </a:lnTo>
                <a:lnTo>
                  <a:pt x="236" y="12"/>
                </a:lnTo>
                <a:lnTo>
                  <a:pt x="205" y="23"/>
                </a:lnTo>
                <a:lnTo>
                  <a:pt x="176" y="37"/>
                </a:lnTo>
                <a:lnTo>
                  <a:pt x="148" y="54"/>
                </a:lnTo>
                <a:lnTo>
                  <a:pt x="123" y="73"/>
                </a:lnTo>
                <a:lnTo>
                  <a:pt x="100" y="94"/>
                </a:lnTo>
                <a:lnTo>
                  <a:pt x="77" y="119"/>
                </a:lnTo>
                <a:lnTo>
                  <a:pt x="57" y="144"/>
                </a:lnTo>
                <a:lnTo>
                  <a:pt x="40" y="171"/>
                </a:lnTo>
                <a:lnTo>
                  <a:pt x="27" y="202"/>
                </a:lnTo>
                <a:lnTo>
                  <a:pt x="15" y="232"/>
                </a:lnTo>
                <a:lnTo>
                  <a:pt x="7" y="265"/>
                </a:lnTo>
                <a:lnTo>
                  <a:pt x="2" y="298"/>
                </a:lnTo>
                <a:lnTo>
                  <a:pt x="0" y="332"/>
                </a:lnTo>
                <a:lnTo>
                  <a:pt x="2" y="367"/>
                </a:lnTo>
                <a:lnTo>
                  <a:pt x="7" y="399"/>
                </a:lnTo>
                <a:lnTo>
                  <a:pt x="15" y="432"/>
                </a:lnTo>
                <a:lnTo>
                  <a:pt x="27" y="463"/>
                </a:lnTo>
                <a:lnTo>
                  <a:pt x="40" y="491"/>
                </a:lnTo>
                <a:lnTo>
                  <a:pt x="57" y="518"/>
                </a:lnTo>
                <a:lnTo>
                  <a:pt x="77" y="545"/>
                </a:lnTo>
                <a:lnTo>
                  <a:pt x="100" y="568"/>
                </a:lnTo>
                <a:lnTo>
                  <a:pt x="123" y="591"/>
                </a:lnTo>
                <a:lnTo>
                  <a:pt x="148" y="610"/>
                </a:lnTo>
                <a:lnTo>
                  <a:pt x="176" y="626"/>
                </a:lnTo>
                <a:lnTo>
                  <a:pt x="205" y="641"/>
                </a:lnTo>
                <a:lnTo>
                  <a:pt x="236" y="653"/>
                </a:lnTo>
                <a:lnTo>
                  <a:pt x="269" y="660"/>
                </a:lnTo>
                <a:lnTo>
                  <a:pt x="295" y="664"/>
                </a:lnTo>
                <a:lnTo>
                  <a:pt x="295" y="662"/>
                </a:lnTo>
                <a:lnTo>
                  <a:pt x="293" y="662"/>
                </a:lnTo>
                <a:lnTo>
                  <a:pt x="293" y="660"/>
                </a:lnTo>
                <a:lnTo>
                  <a:pt x="293" y="658"/>
                </a:lnTo>
                <a:lnTo>
                  <a:pt x="293" y="656"/>
                </a:lnTo>
                <a:lnTo>
                  <a:pt x="293" y="656"/>
                </a:lnTo>
                <a:lnTo>
                  <a:pt x="292" y="655"/>
                </a:lnTo>
                <a:lnTo>
                  <a:pt x="292" y="653"/>
                </a:lnTo>
                <a:lnTo>
                  <a:pt x="270" y="651"/>
                </a:lnTo>
                <a:lnTo>
                  <a:pt x="240" y="641"/>
                </a:lnTo>
                <a:lnTo>
                  <a:pt x="209" y="632"/>
                </a:lnTo>
                <a:lnTo>
                  <a:pt x="180" y="618"/>
                </a:lnTo>
                <a:lnTo>
                  <a:pt x="155" y="601"/>
                </a:lnTo>
                <a:lnTo>
                  <a:pt x="128" y="582"/>
                </a:lnTo>
                <a:lnTo>
                  <a:pt x="105" y="561"/>
                </a:lnTo>
                <a:lnTo>
                  <a:pt x="86" y="538"/>
                </a:lnTo>
                <a:lnTo>
                  <a:pt x="67" y="513"/>
                </a:lnTo>
                <a:lnTo>
                  <a:pt x="50" y="486"/>
                </a:lnTo>
                <a:lnTo>
                  <a:pt x="36" y="459"/>
                </a:lnTo>
                <a:lnTo>
                  <a:pt x="27" y="428"/>
                </a:lnTo>
                <a:lnTo>
                  <a:pt x="17" y="397"/>
                </a:lnTo>
                <a:lnTo>
                  <a:pt x="13" y="365"/>
                </a:lnTo>
                <a:lnTo>
                  <a:pt x="11" y="332"/>
                </a:lnTo>
                <a:lnTo>
                  <a:pt x="13" y="298"/>
                </a:lnTo>
                <a:lnTo>
                  <a:pt x="17" y="267"/>
                </a:lnTo>
                <a:lnTo>
                  <a:pt x="27" y="234"/>
                </a:lnTo>
                <a:lnTo>
                  <a:pt x="36" y="206"/>
                </a:lnTo>
                <a:lnTo>
                  <a:pt x="50" y="177"/>
                </a:lnTo>
                <a:lnTo>
                  <a:pt x="67" y="150"/>
                </a:lnTo>
                <a:lnTo>
                  <a:pt x="86" y="125"/>
                </a:lnTo>
                <a:lnTo>
                  <a:pt x="105" y="102"/>
                </a:lnTo>
                <a:lnTo>
                  <a:pt x="128" y="81"/>
                </a:lnTo>
                <a:lnTo>
                  <a:pt x="155" y="62"/>
                </a:lnTo>
                <a:lnTo>
                  <a:pt x="180" y="46"/>
                </a:lnTo>
                <a:lnTo>
                  <a:pt x="209" y="33"/>
                </a:lnTo>
                <a:lnTo>
                  <a:pt x="240" y="21"/>
                </a:lnTo>
                <a:lnTo>
                  <a:pt x="270" y="14"/>
                </a:lnTo>
                <a:lnTo>
                  <a:pt x="280" y="12"/>
                </a:lnTo>
                <a:lnTo>
                  <a:pt x="280" y="12"/>
                </a:lnTo>
                <a:lnTo>
                  <a:pt x="280" y="10"/>
                </a:lnTo>
                <a:lnTo>
                  <a:pt x="280" y="8"/>
                </a:lnTo>
                <a:lnTo>
                  <a:pt x="280" y="6"/>
                </a:lnTo>
                <a:lnTo>
                  <a:pt x="280" y="6"/>
                </a:lnTo>
                <a:lnTo>
                  <a:pt x="282" y="4"/>
                </a:lnTo>
                <a:lnTo>
                  <a:pt x="282" y="2"/>
                </a:lnTo>
                <a:lnTo>
                  <a:pt x="282" y="0"/>
                </a:lnTo>
                <a:close/>
              </a:path>
            </a:pathLst>
          </a:custGeom>
          <a:solidFill>
            <a:srgbClr val="c1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Freeform 467"/>
          <p:cNvSpPr/>
          <p:nvPr/>
        </p:nvSpPr>
        <p:spPr>
          <a:xfrm>
            <a:off x="5819760" y="2725560"/>
            <a:ext cx="455760" cy="1035360"/>
          </a:xfrm>
          <a:custGeom>
            <a:avLst/>
            <a:gdLst>
              <a:gd name="textAreaLeft" fmla="*/ 0 w 455760"/>
              <a:gd name="textAreaRight" fmla="*/ 456120 w 455760"/>
              <a:gd name="textAreaTop" fmla="*/ 0 h 1035360"/>
              <a:gd name="textAreaBottom" fmla="*/ 1035720 h 1035360"/>
            </a:gdLst>
            <a:ahLst/>
            <a:rect l="textAreaLeft" t="textAreaTop" r="textAreaRight" b="textAreaBottom"/>
            <a:pathLst>
              <a:path w="287" h="652">
                <a:moveTo>
                  <a:pt x="274" y="0"/>
                </a:moveTo>
                <a:lnTo>
                  <a:pt x="263" y="2"/>
                </a:lnTo>
                <a:lnTo>
                  <a:pt x="232" y="12"/>
                </a:lnTo>
                <a:lnTo>
                  <a:pt x="201" y="21"/>
                </a:lnTo>
                <a:lnTo>
                  <a:pt x="172" y="37"/>
                </a:lnTo>
                <a:lnTo>
                  <a:pt x="145" y="52"/>
                </a:lnTo>
                <a:lnTo>
                  <a:pt x="120" y="71"/>
                </a:lnTo>
                <a:lnTo>
                  <a:pt x="97" y="92"/>
                </a:lnTo>
                <a:lnTo>
                  <a:pt x="74" y="115"/>
                </a:lnTo>
                <a:lnTo>
                  <a:pt x="57" y="142"/>
                </a:lnTo>
                <a:lnTo>
                  <a:pt x="40" y="169"/>
                </a:lnTo>
                <a:lnTo>
                  <a:pt x="26" y="198"/>
                </a:lnTo>
                <a:lnTo>
                  <a:pt x="15" y="228"/>
                </a:lnTo>
                <a:lnTo>
                  <a:pt x="7" y="259"/>
                </a:lnTo>
                <a:lnTo>
                  <a:pt x="1" y="292"/>
                </a:lnTo>
                <a:lnTo>
                  <a:pt x="0" y="326"/>
                </a:lnTo>
                <a:lnTo>
                  <a:pt x="1" y="359"/>
                </a:lnTo>
                <a:lnTo>
                  <a:pt x="7" y="391"/>
                </a:lnTo>
                <a:lnTo>
                  <a:pt x="15" y="424"/>
                </a:lnTo>
                <a:lnTo>
                  <a:pt x="26" y="455"/>
                </a:lnTo>
                <a:lnTo>
                  <a:pt x="40" y="484"/>
                </a:lnTo>
                <a:lnTo>
                  <a:pt x="57" y="510"/>
                </a:lnTo>
                <a:lnTo>
                  <a:pt x="74" y="535"/>
                </a:lnTo>
                <a:lnTo>
                  <a:pt x="97" y="558"/>
                </a:lnTo>
                <a:lnTo>
                  <a:pt x="120" y="580"/>
                </a:lnTo>
                <a:lnTo>
                  <a:pt x="145" y="599"/>
                </a:lnTo>
                <a:lnTo>
                  <a:pt x="172" y="616"/>
                </a:lnTo>
                <a:lnTo>
                  <a:pt x="201" y="629"/>
                </a:lnTo>
                <a:lnTo>
                  <a:pt x="232" y="641"/>
                </a:lnTo>
                <a:lnTo>
                  <a:pt x="263" y="649"/>
                </a:lnTo>
                <a:lnTo>
                  <a:pt x="287" y="652"/>
                </a:lnTo>
                <a:lnTo>
                  <a:pt x="287" y="650"/>
                </a:lnTo>
                <a:lnTo>
                  <a:pt x="287" y="650"/>
                </a:lnTo>
                <a:lnTo>
                  <a:pt x="286" y="649"/>
                </a:lnTo>
                <a:lnTo>
                  <a:pt x="286" y="647"/>
                </a:lnTo>
                <a:lnTo>
                  <a:pt x="286" y="647"/>
                </a:lnTo>
                <a:lnTo>
                  <a:pt x="286" y="645"/>
                </a:lnTo>
                <a:lnTo>
                  <a:pt x="286" y="643"/>
                </a:lnTo>
                <a:lnTo>
                  <a:pt x="286" y="641"/>
                </a:lnTo>
                <a:lnTo>
                  <a:pt x="266" y="639"/>
                </a:lnTo>
                <a:lnTo>
                  <a:pt x="236" y="631"/>
                </a:lnTo>
                <a:lnTo>
                  <a:pt x="205" y="620"/>
                </a:lnTo>
                <a:lnTo>
                  <a:pt x="178" y="606"/>
                </a:lnTo>
                <a:lnTo>
                  <a:pt x="151" y="591"/>
                </a:lnTo>
                <a:lnTo>
                  <a:pt x="126" y="572"/>
                </a:lnTo>
                <a:lnTo>
                  <a:pt x="103" y="551"/>
                </a:lnTo>
                <a:lnTo>
                  <a:pt x="84" y="530"/>
                </a:lnTo>
                <a:lnTo>
                  <a:pt x="65" y="505"/>
                </a:lnTo>
                <a:lnTo>
                  <a:pt x="49" y="478"/>
                </a:lnTo>
                <a:lnTo>
                  <a:pt x="36" y="451"/>
                </a:lnTo>
                <a:lnTo>
                  <a:pt x="25" y="420"/>
                </a:lnTo>
                <a:lnTo>
                  <a:pt x="17" y="390"/>
                </a:lnTo>
                <a:lnTo>
                  <a:pt x="13" y="359"/>
                </a:lnTo>
                <a:lnTo>
                  <a:pt x="11" y="326"/>
                </a:lnTo>
                <a:lnTo>
                  <a:pt x="13" y="294"/>
                </a:lnTo>
                <a:lnTo>
                  <a:pt x="17" y="261"/>
                </a:lnTo>
                <a:lnTo>
                  <a:pt x="25" y="230"/>
                </a:lnTo>
                <a:lnTo>
                  <a:pt x="36" y="202"/>
                </a:lnTo>
                <a:lnTo>
                  <a:pt x="49" y="173"/>
                </a:lnTo>
                <a:lnTo>
                  <a:pt x="65" y="148"/>
                </a:lnTo>
                <a:lnTo>
                  <a:pt x="84" y="123"/>
                </a:lnTo>
                <a:lnTo>
                  <a:pt x="103" y="100"/>
                </a:lnTo>
                <a:lnTo>
                  <a:pt x="126" y="79"/>
                </a:lnTo>
                <a:lnTo>
                  <a:pt x="151" y="61"/>
                </a:lnTo>
                <a:lnTo>
                  <a:pt x="178" y="44"/>
                </a:lnTo>
                <a:lnTo>
                  <a:pt x="205" y="31"/>
                </a:lnTo>
                <a:lnTo>
                  <a:pt x="236" y="21"/>
                </a:lnTo>
                <a:lnTo>
                  <a:pt x="266" y="13"/>
                </a:lnTo>
                <a:lnTo>
                  <a:pt x="272" y="12"/>
                </a:lnTo>
                <a:lnTo>
                  <a:pt x="272" y="10"/>
                </a:lnTo>
                <a:lnTo>
                  <a:pt x="272" y="10"/>
                </a:lnTo>
                <a:lnTo>
                  <a:pt x="274" y="8"/>
                </a:lnTo>
                <a:lnTo>
                  <a:pt x="274" y="6"/>
                </a:lnTo>
                <a:lnTo>
                  <a:pt x="274" y="6"/>
                </a:lnTo>
                <a:lnTo>
                  <a:pt x="274" y="4"/>
                </a:lnTo>
                <a:lnTo>
                  <a:pt x="274" y="2"/>
                </a:lnTo>
                <a:lnTo>
                  <a:pt x="274" y="0"/>
                </a:lnTo>
                <a:close/>
              </a:path>
            </a:pathLst>
          </a:custGeom>
          <a:solidFill>
            <a:srgbClr val="c2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Freeform 468"/>
          <p:cNvSpPr/>
          <p:nvPr/>
        </p:nvSpPr>
        <p:spPr>
          <a:xfrm>
            <a:off x="5827680" y="2735280"/>
            <a:ext cx="446040" cy="1017720"/>
          </a:xfrm>
          <a:custGeom>
            <a:avLst/>
            <a:gdLst>
              <a:gd name="textAreaLeft" fmla="*/ 0 w 446040"/>
              <a:gd name="textAreaRight" fmla="*/ 446400 w 446040"/>
              <a:gd name="textAreaTop" fmla="*/ 0 h 1017720"/>
              <a:gd name="textAreaBottom" fmla="*/ 1018080 h 1017720"/>
            </a:gdLst>
            <a:ahLst/>
            <a:rect l="textAreaLeft" t="textAreaTop" r="textAreaRight" b="textAreaBottom"/>
            <a:pathLst>
              <a:path w="281" h="641">
                <a:moveTo>
                  <a:pt x="269" y="0"/>
                </a:moveTo>
                <a:lnTo>
                  <a:pt x="259" y="2"/>
                </a:lnTo>
                <a:lnTo>
                  <a:pt x="229" y="9"/>
                </a:lnTo>
                <a:lnTo>
                  <a:pt x="198" y="21"/>
                </a:lnTo>
                <a:lnTo>
                  <a:pt x="169" y="34"/>
                </a:lnTo>
                <a:lnTo>
                  <a:pt x="144" y="50"/>
                </a:lnTo>
                <a:lnTo>
                  <a:pt x="117" y="69"/>
                </a:lnTo>
                <a:lnTo>
                  <a:pt x="94" y="90"/>
                </a:lnTo>
                <a:lnTo>
                  <a:pt x="75" y="113"/>
                </a:lnTo>
                <a:lnTo>
                  <a:pt x="56" y="138"/>
                </a:lnTo>
                <a:lnTo>
                  <a:pt x="39" y="165"/>
                </a:lnTo>
                <a:lnTo>
                  <a:pt x="25" y="194"/>
                </a:lnTo>
                <a:lnTo>
                  <a:pt x="16" y="222"/>
                </a:lnTo>
                <a:lnTo>
                  <a:pt x="6" y="255"/>
                </a:lnTo>
                <a:lnTo>
                  <a:pt x="2" y="286"/>
                </a:lnTo>
                <a:lnTo>
                  <a:pt x="0" y="320"/>
                </a:lnTo>
                <a:lnTo>
                  <a:pt x="2" y="353"/>
                </a:lnTo>
                <a:lnTo>
                  <a:pt x="6" y="385"/>
                </a:lnTo>
                <a:lnTo>
                  <a:pt x="16" y="416"/>
                </a:lnTo>
                <a:lnTo>
                  <a:pt x="25" y="447"/>
                </a:lnTo>
                <a:lnTo>
                  <a:pt x="39" y="474"/>
                </a:lnTo>
                <a:lnTo>
                  <a:pt x="56" y="501"/>
                </a:lnTo>
                <a:lnTo>
                  <a:pt x="75" y="526"/>
                </a:lnTo>
                <a:lnTo>
                  <a:pt x="94" y="549"/>
                </a:lnTo>
                <a:lnTo>
                  <a:pt x="117" y="570"/>
                </a:lnTo>
                <a:lnTo>
                  <a:pt x="144" y="589"/>
                </a:lnTo>
                <a:lnTo>
                  <a:pt x="169" y="606"/>
                </a:lnTo>
                <a:lnTo>
                  <a:pt x="198" y="620"/>
                </a:lnTo>
                <a:lnTo>
                  <a:pt x="229" y="629"/>
                </a:lnTo>
                <a:lnTo>
                  <a:pt x="259" y="639"/>
                </a:lnTo>
                <a:lnTo>
                  <a:pt x="281" y="641"/>
                </a:lnTo>
                <a:lnTo>
                  <a:pt x="281" y="641"/>
                </a:lnTo>
                <a:lnTo>
                  <a:pt x="281" y="639"/>
                </a:lnTo>
                <a:lnTo>
                  <a:pt x="281" y="637"/>
                </a:lnTo>
                <a:lnTo>
                  <a:pt x="281" y="635"/>
                </a:lnTo>
                <a:lnTo>
                  <a:pt x="279" y="635"/>
                </a:lnTo>
                <a:lnTo>
                  <a:pt x="279" y="633"/>
                </a:lnTo>
                <a:lnTo>
                  <a:pt x="279" y="631"/>
                </a:lnTo>
                <a:lnTo>
                  <a:pt x="279" y="629"/>
                </a:lnTo>
                <a:lnTo>
                  <a:pt x="261" y="627"/>
                </a:lnTo>
                <a:lnTo>
                  <a:pt x="231" y="620"/>
                </a:lnTo>
                <a:lnTo>
                  <a:pt x="202" y="610"/>
                </a:lnTo>
                <a:lnTo>
                  <a:pt x="175" y="597"/>
                </a:lnTo>
                <a:lnTo>
                  <a:pt x="150" y="579"/>
                </a:lnTo>
                <a:lnTo>
                  <a:pt x="125" y="562"/>
                </a:lnTo>
                <a:lnTo>
                  <a:pt x="102" y="541"/>
                </a:lnTo>
                <a:lnTo>
                  <a:pt x="83" y="520"/>
                </a:lnTo>
                <a:lnTo>
                  <a:pt x="64" y="495"/>
                </a:lnTo>
                <a:lnTo>
                  <a:pt x="48" y="470"/>
                </a:lnTo>
                <a:lnTo>
                  <a:pt x="35" y="441"/>
                </a:lnTo>
                <a:lnTo>
                  <a:pt x="25" y="412"/>
                </a:lnTo>
                <a:lnTo>
                  <a:pt x="18" y="384"/>
                </a:lnTo>
                <a:lnTo>
                  <a:pt x="12" y="351"/>
                </a:lnTo>
                <a:lnTo>
                  <a:pt x="10" y="320"/>
                </a:lnTo>
                <a:lnTo>
                  <a:pt x="12" y="288"/>
                </a:lnTo>
                <a:lnTo>
                  <a:pt x="18" y="257"/>
                </a:lnTo>
                <a:lnTo>
                  <a:pt x="25" y="226"/>
                </a:lnTo>
                <a:lnTo>
                  <a:pt x="35" y="197"/>
                </a:lnTo>
                <a:lnTo>
                  <a:pt x="48" y="171"/>
                </a:lnTo>
                <a:lnTo>
                  <a:pt x="64" y="144"/>
                </a:lnTo>
                <a:lnTo>
                  <a:pt x="83" y="121"/>
                </a:lnTo>
                <a:lnTo>
                  <a:pt x="102" y="98"/>
                </a:lnTo>
                <a:lnTo>
                  <a:pt x="125" y="77"/>
                </a:lnTo>
                <a:lnTo>
                  <a:pt x="150" y="59"/>
                </a:lnTo>
                <a:lnTo>
                  <a:pt x="175" y="44"/>
                </a:lnTo>
                <a:lnTo>
                  <a:pt x="202" y="31"/>
                </a:lnTo>
                <a:lnTo>
                  <a:pt x="231" y="19"/>
                </a:lnTo>
                <a:lnTo>
                  <a:pt x="261" y="11"/>
                </a:lnTo>
                <a:lnTo>
                  <a:pt x="265" y="11"/>
                </a:lnTo>
                <a:lnTo>
                  <a:pt x="267" y="9"/>
                </a:lnTo>
                <a:lnTo>
                  <a:pt x="267" y="9"/>
                </a:lnTo>
                <a:lnTo>
                  <a:pt x="267" y="7"/>
                </a:lnTo>
                <a:lnTo>
                  <a:pt x="267" y="6"/>
                </a:lnTo>
                <a:lnTo>
                  <a:pt x="267" y="4"/>
                </a:lnTo>
                <a:lnTo>
                  <a:pt x="267" y="4"/>
                </a:lnTo>
                <a:lnTo>
                  <a:pt x="269" y="2"/>
                </a:lnTo>
                <a:lnTo>
                  <a:pt x="269" y="0"/>
                </a:lnTo>
                <a:close/>
              </a:path>
            </a:pathLst>
          </a:custGeom>
          <a:solidFill>
            <a:srgbClr val="c3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Freeform 469"/>
          <p:cNvSpPr/>
          <p:nvPr/>
        </p:nvSpPr>
        <p:spPr>
          <a:xfrm>
            <a:off x="5837400" y="2744640"/>
            <a:ext cx="436320" cy="998640"/>
          </a:xfrm>
          <a:custGeom>
            <a:avLst/>
            <a:gdLst>
              <a:gd name="textAreaLeft" fmla="*/ 0 w 436320"/>
              <a:gd name="textAreaRight" fmla="*/ 436680 w 43632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275" h="629">
                <a:moveTo>
                  <a:pt x="261" y="0"/>
                </a:moveTo>
                <a:lnTo>
                  <a:pt x="255" y="1"/>
                </a:lnTo>
                <a:lnTo>
                  <a:pt x="225" y="9"/>
                </a:lnTo>
                <a:lnTo>
                  <a:pt x="194" y="19"/>
                </a:lnTo>
                <a:lnTo>
                  <a:pt x="167" y="32"/>
                </a:lnTo>
                <a:lnTo>
                  <a:pt x="140" y="49"/>
                </a:lnTo>
                <a:lnTo>
                  <a:pt x="115" y="67"/>
                </a:lnTo>
                <a:lnTo>
                  <a:pt x="92" y="88"/>
                </a:lnTo>
                <a:lnTo>
                  <a:pt x="73" y="111"/>
                </a:lnTo>
                <a:lnTo>
                  <a:pt x="54" y="136"/>
                </a:lnTo>
                <a:lnTo>
                  <a:pt x="38" y="161"/>
                </a:lnTo>
                <a:lnTo>
                  <a:pt x="25" y="190"/>
                </a:lnTo>
                <a:lnTo>
                  <a:pt x="14" y="218"/>
                </a:lnTo>
                <a:lnTo>
                  <a:pt x="6" y="249"/>
                </a:lnTo>
                <a:lnTo>
                  <a:pt x="2" y="282"/>
                </a:lnTo>
                <a:lnTo>
                  <a:pt x="0" y="314"/>
                </a:lnTo>
                <a:lnTo>
                  <a:pt x="2" y="347"/>
                </a:lnTo>
                <a:lnTo>
                  <a:pt x="6" y="378"/>
                </a:lnTo>
                <a:lnTo>
                  <a:pt x="14" y="408"/>
                </a:lnTo>
                <a:lnTo>
                  <a:pt x="25" y="439"/>
                </a:lnTo>
                <a:lnTo>
                  <a:pt x="38" y="466"/>
                </a:lnTo>
                <a:lnTo>
                  <a:pt x="54" y="493"/>
                </a:lnTo>
                <a:lnTo>
                  <a:pt x="73" y="518"/>
                </a:lnTo>
                <a:lnTo>
                  <a:pt x="92" y="539"/>
                </a:lnTo>
                <a:lnTo>
                  <a:pt x="115" y="560"/>
                </a:lnTo>
                <a:lnTo>
                  <a:pt x="140" y="579"/>
                </a:lnTo>
                <a:lnTo>
                  <a:pt x="167" y="594"/>
                </a:lnTo>
                <a:lnTo>
                  <a:pt x="194" y="608"/>
                </a:lnTo>
                <a:lnTo>
                  <a:pt x="225" y="619"/>
                </a:lnTo>
                <a:lnTo>
                  <a:pt x="255" y="627"/>
                </a:lnTo>
                <a:lnTo>
                  <a:pt x="275" y="629"/>
                </a:lnTo>
                <a:lnTo>
                  <a:pt x="273" y="629"/>
                </a:lnTo>
                <a:lnTo>
                  <a:pt x="273" y="627"/>
                </a:lnTo>
                <a:lnTo>
                  <a:pt x="273" y="625"/>
                </a:lnTo>
                <a:lnTo>
                  <a:pt x="273" y="623"/>
                </a:lnTo>
                <a:lnTo>
                  <a:pt x="273" y="623"/>
                </a:lnTo>
                <a:lnTo>
                  <a:pt x="271" y="621"/>
                </a:lnTo>
                <a:lnTo>
                  <a:pt x="271" y="619"/>
                </a:lnTo>
                <a:lnTo>
                  <a:pt x="271" y="619"/>
                </a:lnTo>
                <a:lnTo>
                  <a:pt x="257" y="615"/>
                </a:lnTo>
                <a:lnTo>
                  <a:pt x="227" y="608"/>
                </a:lnTo>
                <a:lnTo>
                  <a:pt x="198" y="598"/>
                </a:lnTo>
                <a:lnTo>
                  <a:pt x="171" y="585"/>
                </a:lnTo>
                <a:lnTo>
                  <a:pt x="146" y="569"/>
                </a:lnTo>
                <a:lnTo>
                  <a:pt x="123" y="552"/>
                </a:lnTo>
                <a:lnTo>
                  <a:pt x="100" y="533"/>
                </a:lnTo>
                <a:lnTo>
                  <a:pt x="81" y="510"/>
                </a:lnTo>
                <a:lnTo>
                  <a:pt x="63" y="487"/>
                </a:lnTo>
                <a:lnTo>
                  <a:pt x="48" y="460"/>
                </a:lnTo>
                <a:lnTo>
                  <a:pt x="35" y="433"/>
                </a:lnTo>
                <a:lnTo>
                  <a:pt x="23" y="406"/>
                </a:lnTo>
                <a:lnTo>
                  <a:pt x="17" y="376"/>
                </a:lnTo>
                <a:lnTo>
                  <a:pt x="12" y="345"/>
                </a:lnTo>
                <a:lnTo>
                  <a:pt x="10" y="314"/>
                </a:lnTo>
                <a:lnTo>
                  <a:pt x="12" y="282"/>
                </a:lnTo>
                <a:lnTo>
                  <a:pt x="17" y="251"/>
                </a:lnTo>
                <a:lnTo>
                  <a:pt x="23" y="222"/>
                </a:lnTo>
                <a:lnTo>
                  <a:pt x="35" y="193"/>
                </a:lnTo>
                <a:lnTo>
                  <a:pt x="48" y="167"/>
                </a:lnTo>
                <a:lnTo>
                  <a:pt x="63" y="142"/>
                </a:lnTo>
                <a:lnTo>
                  <a:pt x="81" y="117"/>
                </a:lnTo>
                <a:lnTo>
                  <a:pt x="100" y="96"/>
                </a:lnTo>
                <a:lnTo>
                  <a:pt x="123" y="76"/>
                </a:lnTo>
                <a:lnTo>
                  <a:pt x="146" y="57"/>
                </a:lnTo>
                <a:lnTo>
                  <a:pt x="171" y="42"/>
                </a:lnTo>
                <a:lnTo>
                  <a:pt x="198" y="30"/>
                </a:lnTo>
                <a:lnTo>
                  <a:pt x="227" y="19"/>
                </a:lnTo>
                <a:lnTo>
                  <a:pt x="257" y="11"/>
                </a:lnTo>
                <a:lnTo>
                  <a:pt x="259" y="11"/>
                </a:lnTo>
                <a:lnTo>
                  <a:pt x="259" y="9"/>
                </a:lnTo>
                <a:lnTo>
                  <a:pt x="259" y="9"/>
                </a:lnTo>
                <a:lnTo>
                  <a:pt x="259" y="7"/>
                </a:lnTo>
                <a:lnTo>
                  <a:pt x="259" y="5"/>
                </a:lnTo>
                <a:lnTo>
                  <a:pt x="261" y="3"/>
                </a:lnTo>
                <a:lnTo>
                  <a:pt x="261" y="3"/>
                </a:lnTo>
                <a:lnTo>
                  <a:pt x="261" y="1"/>
                </a:lnTo>
                <a:lnTo>
                  <a:pt x="261" y="0"/>
                </a:lnTo>
                <a:close/>
              </a:path>
            </a:pathLst>
          </a:custGeom>
          <a:solidFill>
            <a:srgbClr val="c4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Freeform 470"/>
          <p:cNvSpPr/>
          <p:nvPr/>
        </p:nvSpPr>
        <p:spPr>
          <a:xfrm>
            <a:off x="5843520" y="2752560"/>
            <a:ext cx="426960" cy="981360"/>
          </a:xfrm>
          <a:custGeom>
            <a:avLst/>
            <a:gdLst>
              <a:gd name="textAreaLeft" fmla="*/ 0 w 426960"/>
              <a:gd name="textAreaRight" fmla="*/ 427320 w 426960"/>
              <a:gd name="textAreaTop" fmla="*/ 0 h 981360"/>
              <a:gd name="textAreaBottom" fmla="*/ 981360 h 981360"/>
            </a:gdLst>
            <a:ahLst/>
            <a:rect l="textAreaLeft" t="textAreaTop" r="textAreaRight" b="textAreaBottom"/>
            <a:pathLst>
              <a:path w="269" h="618">
                <a:moveTo>
                  <a:pt x="255" y="0"/>
                </a:moveTo>
                <a:lnTo>
                  <a:pt x="251" y="0"/>
                </a:lnTo>
                <a:lnTo>
                  <a:pt x="221" y="8"/>
                </a:lnTo>
                <a:lnTo>
                  <a:pt x="192" y="20"/>
                </a:lnTo>
                <a:lnTo>
                  <a:pt x="165" y="33"/>
                </a:lnTo>
                <a:lnTo>
                  <a:pt x="140" y="48"/>
                </a:lnTo>
                <a:lnTo>
                  <a:pt x="115" y="66"/>
                </a:lnTo>
                <a:lnTo>
                  <a:pt x="92" y="87"/>
                </a:lnTo>
                <a:lnTo>
                  <a:pt x="73" y="110"/>
                </a:lnTo>
                <a:lnTo>
                  <a:pt x="54" y="133"/>
                </a:lnTo>
                <a:lnTo>
                  <a:pt x="38" y="160"/>
                </a:lnTo>
                <a:lnTo>
                  <a:pt x="25" y="186"/>
                </a:lnTo>
                <a:lnTo>
                  <a:pt x="15" y="215"/>
                </a:lnTo>
                <a:lnTo>
                  <a:pt x="8" y="246"/>
                </a:lnTo>
                <a:lnTo>
                  <a:pt x="2" y="277"/>
                </a:lnTo>
                <a:lnTo>
                  <a:pt x="0" y="309"/>
                </a:lnTo>
                <a:lnTo>
                  <a:pt x="2" y="340"/>
                </a:lnTo>
                <a:lnTo>
                  <a:pt x="8" y="373"/>
                </a:lnTo>
                <a:lnTo>
                  <a:pt x="15" y="401"/>
                </a:lnTo>
                <a:lnTo>
                  <a:pt x="25" y="430"/>
                </a:lnTo>
                <a:lnTo>
                  <a:pt x="38" y="459"/>
                </a:lnTo>
                <a:lnTo>
                  <a:pt x="54" y="484"/>
                </a:lnTo>
                <a:lnTo>
                  <a:pt x="73" y="509"/>
                </a:lnTo>
                <a:lnTo>
                  <a:pt x="92" y="530"/>
                </a:lnTo>
                <a:lnTo>
                  <a:pt x="115" y="551"/>
                </a:lnTo>
                <a:lnTo>
                  <a:pt x="140" y="568"/>
                </a:lnTo>
                <a:lnTo>
                  <a:pt x="165" y="586"/>
                </a:lnTo>
                <a:lnTo>
                  <a:pt x="192" y="599"/>
                </a:lnTo>
                <a:lnTo>
                  <a:pt x="221" y="609"/>
                </a:lnTo>
                <a:lnTo>
                  <a:pt x="251" y="616"/>
                </a:lnTo>
                <a:lnTo>
                  <a:pt x="269" y="618"/>
                </a:lnTo>
                <a:lnTo>
                  <a:pt x="269" y="618"/>
                </a:lnTo>
                <a:lnTo>
                  <a:pt x="267" y="616"/>
                </a:lnTo>
                <a:lnTo>
                  <a:pt x="267" y="614"/>
                </a:lnTo>
                <a:lnTo>
                  <a:pt x="267" y="614"/>
                </a:lnTo>
                <a:lnTo>
                  <a:pt x="267" y="612"/>
                </a:lnTo>
                <a:lnTo>
                  <a:pt x="267" y="610"/>
                </a:lnTo>
                <a:lnTo>
                  <a:pt x="267" y="609"/>
                </a:lnTo>
                <a:lnTo>
                  <a:pt x="265" y="609"/>
                </a:lnTo>
                <a:lnTo>
                  <a:pt x="253" y="607"/>
                </a:lnTo>
                <a:lnTo>
                  <a:pt x="224" y="599"/>
                </a:lnTo>
                <a:lnTo>
                  <a:pt x="198" y="587"/>
                </a:lnTo>
                <a:lnTo>
                  <a:pt x="171" y="576"/>
                </a:lnTo>
                <a:lnTo>
                  <a:pt x="146" y="561"/>
                </a:lnTo>
                <a:lnTo>
                  <a:pt x="123" y="543"/>
                </a:lnTo>
                <a:lnTo>
                  <a:pt x="100" y="524"/>
                </a:lnTo>
                <a:lnTo>
                  <a:pt x="81" y="501"/>
                </a:lnTo>
                <a:lnTo>
                  <a:pt x="63" y="478"/>
                </a:lnTo>
                <a:lnTo>
                  <a:pt x="48" y="453"/>
                </a:lnTo>
                <a:lnTo>
                  <a:pt x="34" y="426"/>
                </a:lnTo>
                <a:lnTo>
                  <a:pt x="25" y="399"/>
                </a:lnTo>
                <a:lnTo>
                  <a:pt x="17" y="371"/>
                </a:lnTo>
                <a:lnTo>
                  <a:pt x="13" y="340"/>
                </a:lnTo>
                <a:lnTo>
                  <a:pt x="11" y="309"/>
                </a:lnTo>
                <a:lnTo>
                  <a:pt x="13" y="279"/>
                </a:lnTo>
                <a:lnTo>
                  <a:pt x="17" y="248"/>
                </a:lnTo>
                <a:lnTo>
                  <a:pt x="25" y="219"/>
                </a:lnTo>
                <a:lnTo>
                  <a:pt x="34" y="190"/>
                </a:lnTo>
                <a:lnTo>
                  <a:pt x="48" y="163"/>
                </a:lnTo>
                <a:lnTo>
                  <a:pt x="63" y="138"/>
                </a:lnTo>
                <a:lnTo>
                  <a:pt x="81" y="115"/>
                </a:lnTo>
                <a:lnTo>
                  <a:pt x="100" y="94"/>
                </a:lnTo>
                <a:lnTo>
                  <a:pt x="123" y="75"/>
                </a:lnTo>
                <a:lnTo>
                  <a:pt x="146" y="58"/>
                </a:lnTo>
                <a:lnTo>
                  <a:pt x="171" y="43"/>
                </a:lnTo>
                <a:lnTo>
                  <a:pt x="198" y="29"/>
                </a:lnTo>
                <a:lnTo>
                  <a:pt x="224" y="20"/>
                </a:lnTo>
                <a:lnTo>
                  <a:pt x="253" y="12"/>
                </a:lnTo>
                <a:lnTo>
                  <a:pt x="253" y="10"/>
                </a:lnTo>
                <a:lnTo>
                  <a:pt x="253" y="8"/>
                </a:lnTo>
                <a:lnTo>
                  <a:pt x="255" y="8"/>
                </a:lnTo>
                <a:lnTo>
                  <a:pt x="255" y="6"/>
                </a:lnTo>
                <a:lnTo>
                  <a:pt x="255" y="4"/>
                </a:lnTo>
                <a:lnTo>
                  <a:pt x="255" y="4"/>
                </a:lnTo>
                <a:lnTo>
                  <a:pt x="255" y="2"/>
                </a:lnTo>
                <a:lnTo>
                  <a:pt x="255" y="0"/>
                </a:lnTo>
                <a:close/>
              </a:path>
            </a:pathLst>
          </a:custGeom>
          <a:solidFill>
            <a:srgbClr val="c5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Freeform 471"/>
          <p:cNvSpPr/>
          <p:nvPr/>
        </p:nvSpPr>
        <p:spPr>
          <a:xfrm>
            <a:off x="5853240" y="2762280"/>
            <a:ext cx="414360" cy="965160"/>
          </a:xfrm>
          <a:custGeom>
            <a:avLst/>
            <a:gdLst>
              <a:gd name="textAreaLeft" fmla="*/ 0 w 414360"/>
              <a:gd name="textAreaRight" fmla="*/ 414720 w 41436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61" h="608">
                <a:moveTo>
                  <a:pt x="249" y="0"/>
                </a:moveTo>
                <a:lnTo>
                  <a:pt x="247" y="0"/>
                </a:lnTo>
                <a:lnTo>
                  <a:pt x="217" y="8"/>
                </a:lnTo>
                <a:lnTo>
                  <a:pt x="188" y="19"/>
                </a:lnTo>
                <a:lnTo>
                  <a:pt x="161" y="31"/>
                </a:lnTo>
                <a:lnTo>
                  <a:pt x="136" y="46"/>
                </a:lnTo>
                <a:lnTo>
                  <a:pt x="113" y="65"/>
                </a:lnTo>
                <a:lnTo>
                  <a:pt x="90" y="85"/>
                </a:lnTo>
                <a:lnTo>
                  <a:pt x="71" y="106"/>
                </a:lnTo>
                <a:lnTo>
                  <a:pt x="53" y="131"/>
                </a:lnTo>
                <a:lnTo>
                  <a:pt x="38" y="156"/>
                </a:lnTo>
                <a:lnTo>
                  <a:pt x="25" y="182"/>
                </a:lnTo>
                <a:lnTo>
                  <a:pt x="13" y="211"/>
                </a:lnTo>
                <a:lnTo>
                  <a:pt x="7" y="240"/>
                </a:lnTo>
                <a:lnTo>
                  <a:pt x="2" y="271"/>
                </a:lnTo>
                <a:lnTo>
                  <a:pt x="0" y="303"/>
                </a:lnTo>
                <a:lnTo>
                  <a:pt x="2" y="334"/>
                </a:lnTo>
                <a:lnTo>
                  <a:pt x="7" y="365"/>
                </a:lnTo>
                <a:lnTo>
                  <a:pt x="13" y="395"/>
                </a:lnTo>
                <a:lnTo>
                  <a:pt x="25" y="422"/>
                </a:lnTo>
                <a:lnTo>
                  <a:pt x="38" y="449"/>
                </a:lnTo>
                <a:lnTo>
                  <a:pt x="53" y="476"/>
                </a:lnTo>
                <a:lnTo>
                  <a:pt x="71" y="499"/>
                </a:lnTo>
                <a:lnTo>
                  <a:pt x="90" y="522"/>
                </a:lnTo>
                <a:lnTo>
                  <a:pt x="113" y="541"/>
                </a:lnTo>
                <a:lnTo>
                  <a:pt x="136" y="558"/>
                </a:lnTo>
                <a:lnTo>
                  <a:pt x="161" y="574"/>
                </a:lnTo>
                <a:lnTo>
                  <a:pt x="188" y="587"/>
                </a:lnTo>
                <a:lnTo>
                  <a:pt x="217" y="597"/>
                </a:lnTo>
                <a:lnTo>
                  <a:pt x="247" y="604"/>
                </a:lnTo>
                <a:lnTo>
                  <a:pt x="261" y="608"/>
                </a:lnTo>
                <a:lnTo>
                  <a:pt x="261" y="606"/>
                </a:lnTo>
                <a:lnTo>
                  <a:pt x="261" y="604"/>
                </a:lnTo>
                <a:lnTo>
                  <a:pt x="261" y="603"/>
                </a:lnTo>
                <a:lnTo>
                  <a:pt x="259" y="603"/>
                </a:lnTo>
                <a:lnTo>
                  <a:pt x="259" y="601"/>
                </a:lnTo>
                <a:lnTo>
                  <a:pt x="259" y="599"/>
                </a:lnTo>
                <a:lnTo>
                  <a:pt x="259" y="597"/>
                </a:lnTo>
                <a:lnTo>
                  <a:pt x="259" y="597"/>
                </a:lnTo>
                <a:lnTo>
                  <a:pt x="249" y="595"/>
                </a:lnTo>
                <a:lnTo>
                  <a:pt x="220" y="587"/>
                </a:lnTo>
                <a:lnTo>
                  <a:pt x="194" y="578"/>
                </a:lnTo>
                <a:lnTo>
                  <a:pt x="167" y="564"/>
                </a:lnTo>
                <a:lnTo>
                  <a:pt x="142" y="551"/>
                </a:lnTo>
                <a:lnTo>
                  <a:pt x="119" y="533"/>
                </a:lnTo>
                <a:lnTo>
                  <a:pt x="98" y="514"/>
                </a:lnTo>
                <a:lnTo>
                  <a:pt x="78" y="493"/>
                </a:lnTo>
                <a:lnTo>
                  <a:pt x="61" y="470"/>
                </a:lnTo>
                <a:lnTo>
                  <a:pt x="48" y="445"/>
                </a:lnTo>
                <a:lnTo>
                  <a:pt x="34" y="418"/>
                </a:lnTo>
                <a:lnTo>
                  <a:pt x="25" y="391"/>
                </a:lnTo>
                <a:lnTo>
                  <a:pt x="17" y="363"/>
                </a:lnTo>
                <a:lnTo>
                  <a:pt x="13" y="334"/>
                </a:lnTo>
                <a:lnTo>
                  <a:pt x="11" y="303"/>
                </a:lnTo>
                <a:lnTo>
                  <a:pt x="13" y="273"/>
                </a:lnTo>
                <a:lnTo>
                  <a:pt x="17" y="242"/>
                </a:lnTo>
                <a:lnTo>
                  <a:pt x="25" y="215"/>
                </a:lnTo>
                <a:lnTo>
                  <a:pt x="34" y="186"/>
                </a:lnTo>
                <a:lnTo>
                  <a:pt x="48" y="161"/>
                </a:lnTo>
                <a:lnTo>
                  <a:pt x="61" y="136"/>
                </a:lnTo>
                <a:lnTo>
                  <a:pt x="78" y="113"/>
                </a:lnTo>
                <a:lnTo>
                  <a:pt x="98" y="92"/>
                </a:lnTo>
                <a:lnTo>
                  <a:pt x="119" y="73"/>
                </a:lnTo>
                <a:lnTo>
                  <a:pt x="142" y="56"/>
                </a:lnTo>
                <a:lnTo>
                  <a:pt x="167" y="40"/>
                </a:lnTo>
                <a:lnTo>
                  <a:pt x="194" y="29"/>
                </a:lnTo>
                <a:lnTo>
                  <a:pt x="220" y="17"/>
                </a:lnTo>
                <a:lnTo>
                  <a:pt x="247" y="12"/>
                </a:lnTo>
                <a:lnTo>
                  <a:pt x="247" y="10"/>
                </a:lnTo>
                <a:lnTo>
                  <a:pt x="247" y="8"/>
                </a:lnTo>
                <a:lnTo>
                  <a:pt x="247" y="8"/>
                </a:lnTo>
                <a:lnTo>
                  <a:pt x="247" y="6"/>
                </a:lnTo>
                <a:lnTo>
                  <a:pt x="247" y="4"/>
                </a:lnTo>
                <a:lnTo>
                  <a:pt x="247" y="2"/>
                </a:lnTo>
                <a:lnTo>
                  <a:pt x="249" y="2"/>
                </a:lnTo>
                <a:lnTo>
                  <a:pt x="249" y="0"/>
                </a:lnTo>
                <a:close/>
              </a:path>
            </a:pathLst>
          </a:custGeom>
          <a:solidFill>
            <a:srgbClr val="c6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Freeform 472"/>
          <p:cNvSpPr/>
          <p:nvPr/>
        </p:nvSpPr>
        <p:spPr>
          <a:xfrm>
            <a:off x="5861160" y="2771640"/>
            <a:ext cx="403200" cy="947880"/>
          </a:xfrm>
          <a:custGeom>
            <a:avLst/>
            <a:gdLst>
              <a:gd name="textAreaLeft" fmla="*/ 0 w 403200"/>
              <a:gd name="textAreaRight" fmla="*/ 403560 w 40320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254" h="597">
                <a:moveTo>
                  <a:pt x="242" y="0"/>
                </a:moveTo>
                <a:lnTo>
                  <a:pt x="213" y="8"/>
                </a:lnTo>
                <a:lnTo>
                  <a:pt x="187" y="17"/>
                </a:lnTo>
                <a:lnTo>
                  <a:pt x="160" y="31"/>
                </a:lnTo>
                <a:lnTo>
                  <a:pt x="135" y="46"/>
                </a:lnTo>
                <a:lnTo>
                  <a:pt x="112" y="63"/>
                </a:lnTo>
                <a:lnTo>
                  <a:pt x="89" y="82"/>
                </a:lnTo>
                <a:lnTo>
                  <a:pt x="70" y="103"/>
                </a:lnTo>
                <a:lnTo>
                  <a:pt x="52" y="126"/>
                </a:lnTo>
                <a:lnTo>
                  <a:pt x="37" y="151"/>
                </a:lnTo>
                <a:lnTo>
                  <a:pt x="23" y="178"/>
                </a:lnTo>
                <a:lnTo>
                  <a:pt x="14" y="207"/>
                </a:lnTo>
                <a:lnTo>
                  <a:pt x="6" y="236"/>
                </a:lnTo>
                <a:lnTo>
                  <a:pt x="2" y="267"/>
                </a:lnTo>
                <a:lnTo>
                  <a:pt x="0" y="297"/>
                </a:lnTo>
                <a:lnTo>
                  <a:pt x="2" y="328"/>
                </a:lnTo>
                <a:lnTo>
                  <a:pt x="6" y="359"/>
                </a:lnTo>
                <a:lnTo>
                  <a:pt x="14" y="387"/>
                </a:lnTo>
                <a:lnTo>
                  <a:pt x="23" y="414"/>
                </a:lnTo>
                <a:lnTo>
                  <a:pt x="37" y="441"/>
                </a:lnTo>
                <a:lnTo>
                  <a:pt x="52" y="466"/>
                </a:lnTo>
                <a:lnTo>
                  <a:pt x="70" y="489"/>
                </a:lnTo>
                <a:lnTo>
                  <a:pt x="89" y="512"/>
                </a:lnTo>
                <a:lnTo>
                  <a:pt x="112" y="531"/>
                </a:lnTo>
                <a:lnTo>
                  <a:pt x="135" y="549"/>
                </a:lnTo>
                <a:lnTo>
                  <a:pt x="160" y="564"/>
                </a:lnTo>
                <a:lnTo>
                  <a:pt x="187" y="575"/>
                </a:lnTo>
                <a:lnTo>
                  <a:pt x="213" y="587"/>
                </a:lnTo>
                <a:lnTo>
                  <a:pt x="242" y="595"/>
                </a:lnTo>
                <a:lnTo>
                  <a:pt x="254" y="597"/>
                </a:lnTo>
                <a:lnTo>
                  <a:pt x="254" y="595"/>
                </a:lnTo>
                <a:lnTo>
                  <a:pt x="254" y="593"/>
                </a:lnTo>
                <a:lnTo>
                  <a:pt x="254" y="591"/>
                </a:lnTo>
                <a:lnTo>
                  <a:pt x="254" y="591"/>
                </a:lnTo>
                <a:lnTo>
                  <a:pt x="252" y="589"/>
                </a:lnTo>
                <a:lnTo>
                  <a:pt x="252" y="587"/>
                </a:lnTo>
                <a:lnTo>
                  <a:pt x="252" y="587"/>
                </a:lnTo>
                <a:lnTo>
                  <a:pt x="252" y="585"/>
                </a:lnTo>
                <a:lnTo>
                  <a:pt x="244" y="583"/>
                </a:lnTo>
                <a:lnTo>
                  <a:pt x="217" y="575"/>
                </a:lnTo>
                <a:lnTo>
                  <a:pt x="190" y="566"/>
                </a:lnTo>
                <a:lnTo>
                  <a:pt x="164" y="554"/>
                </a:lnTo>
                <a:lnTo>
                  <a:pt x="141" y="539"/>
                </a:lnTo>
                <a:lnTo>
                  <a:pt x="118" y="522"/>
                </a:lnTo>
                <a:lnTo>
                  <a:pt x="96" y="504"/>
                </a:lnTo>
                <a:lnTo>
                  <a:pt x="77" y="483"/>
                </a:lnTo>
                <a:lnTo>
                  <a:pt x="62" y="460"/>
                </a:lnTo>
                <a:lnTo>
                  <a:pt x="47" y="435"/>
                </a:lnTo>
                <a:lnTo>
                  <a:pt x="35" y="410"/>
                </a:lnTo>
                <a:lnTo>
                  <a:pt x="23" y="384"/>
                </a:lnTo>
                <a:lnTo>
                  <a:pt x="18" y="357"/>
                </a:lnTo>
                <a:lnTo>
                  <a:pt x="12" y="326"/>
                </a:lnTo>
                <a:lnTo>
                  <a:pt x="12" y="297"/>
                </a:lnTo>
                <a:lnTo>
                  <a:pt x="12" y="267"/>
                </a:lnTo>
                <a:lnTo>
                  <a:pt x="18" y="238"/>
                </a:lnTo>
                <a:lnTo>
                  <a:pt x="23" y="209"/>
                </a:lnTo>
                <a:lnTo>
                  <a:pt x="35" y="182"/>
                </a:lnTo>
                <a:lnTo>
                  <a:pt x="47" y="157"/>
                </a:lnTo>
                <a:lnTo>
                  <a:pt x="62" y="132"/>
                </a:lnTo>
                <a:lnTo>
                  <a:pt x="77" y="111"/>
                </a:lnTo>
                <a:lnTo>
                  <a:pt x="96" y="90"/>
                </a:lnTo>
                <a:lnTo>
                  <a:pt x="118" y="71"/>
                </a:lnTo>
                <a:lnTo>
                  <a:pt x="141" y="54"/>
                </a:lnTo>
                <a:lnTo>
                  <a:pt x="164" y="40"/>
                </a:lnTo>
                <a:lnTo>
                  <a:pt x="190" y="27"/>
                </a:lnTo>
                <a:lnTo>
                  <a:pt x="217" y="17"/>
                </a:lnTo>
                <a:lnTo>
                  <a:pt x="240" y="11"/>
                </a:lnTo>
                <a:lnTo>
                  <a:pt x="240" y="9"/>
                </a:lnTo>
                <a:lnTo>
                  <a:pt x="240" y="8"/>
                </a:lnTo>
                <a:lnTo>
                  <a:pt x="240" y="8"/>
                </a:lnTo>
                <a:lnTo>
                  <a:pt x="242" y="6"/>
                </a:lnTo>
                <a:lnTo>
                  <a:pt x="242" y="4"/>
                </a:lnTo>
                <a:lnTo>
                  <a:pt x="242" y="2"/>
                </a:lnTo>
                <a:lnTo>
                  <a:pt x="242" y="2"/>
                </a:lnTo>
                <a:lnTo>
                  <a:pt x="242" y="0"/>
                </a:lnTo>
                <a:close/>
              </a:path>
            </a:pathLst>
          </a:custGeom>
          <a:solidFill>
            <a:srgbClr val="c7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Freeform 473"/>
          <p:cNvSpPr/>
          <p:nvPr/>
        </p:nvSpPr>
        <p:spPr>
          <a:xfrm>
            <a:off x="5870520" y="2781360"/>
            <a:ext cx="393840" cy="928800"/>
          </a:xfrm>
          <a:custGeom>
            <a:avLst/>
            <a:gdLst>
              <a:gd name="textAreaLeft" fmla="*/ 0 w 393840"/>
              <a:gd name="textAreaRight" fmla="*/ 394200 w 3938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48" h="585">
                <a:moveTo>
                  <a:pt x="236" y="0"/>
                </a:moveTo>
                <a:lnTo>
                  <a:pt x="209" y="5"/>
                </a:lnTo>
                <a:lnTo>
                  <a:pt x="183" y="17"/>
                </a:lnTo>
                <a:lnTo>
                  <a:pt x="156" y="28"/>
                </a:lnTo>
                <a:lnTo>
                  <a:pt x="131" y="44"/>
                </a:lnTo>
                <a:lnTo>
                  <a:pt x="108" y="61"/>
                </a:lnTo>
                <a:lnTo>
                  <a:pt x="87" y="80"/>
                </a:lnTo>
                <a:lnTo>
                  <a:pt x="67" y="101"/>
                </a:lnTo>
                <a:lnTo>
                  <a:pt x="50" y="124"/>
                </a:lnTo>
                <a:lnTo>
                  <a:pt x="37" y="149"/>
                </a:lnTo>
                <a:lnTo>
                  <a:pt x="23" y="174"/>
                </a:lnTo>
                <a:lnTo>
                  <a:pt x="14" y="203"/>
                </a:lnTo>
                <a:lnTo>
                  <a:pt x="6" y="230"/>
                </a:lnTo>
                <a:lnTo>
                  <a:pt x="2" y="261"/>
                </a:lnTo>
                <a:lnTo>
                  <a:pt x="0" y="291"/>
                </a:lnTo>
                <a:lnTo>
                  <a:pt x="2" y="322"/>
                </a:lnTo>
                <a:lnTo>
                  <a:pt x="6" y="351"/>
                </a:lnTo>
                <a:lnTo>
                  <a:pt x="14" y="379"/>
                </a:lnTo>
                <a:lnTo>
                  <a:pt x="23" y="406"/>
                </a:lnTo>
                <a:lnTo>
                  <a:pt x="37" y="433"/>
                </a:lnTo>
                <a:lnTo>
                  <a:pt x="50" y="458"/>
                </a:lnTo>
                <a:lnTo>
                  <a:pt x="67" y="481"/>
                </a:lnTo>
                <a:lnTo>
                  <a:pt x="87" y="502"/>
                </a:lnTo>
                <a:lnTo>
                  <a:pt x="108" y="521"/>
                </a:lnTo>
                <a:lnTo>
                  <a:pt x="131" y="539"/>
                </a:lnTo>
                <a:lnTo>
                  <a:pt x="156" y="552"/>
                </a:lnTo>
                <a:lnTo>
                  <a:pt x="183" y="566"/>
                </a:lnTo>
                <a:lnTo>
                  <a:pt x="209" y="575"/>
                </a:lnTo>
                <a:lnTo>
                  <a:pt x="238" y="583"/>
                </a:lnTo>
                <a:lnTo>
                  <a:pt x="248" y="585"/>
                </a:lnTo>
                <a:lnTo>
                  <a:pt x="246" y="583"/>
                </a:lnTo>
                <a:lnTo>
                  <a:pt x="246" y="581"/>
                </a:lnTo>
                <a:lnTo>
                  <a:pt x="246" y="581"/>
                </a:lnTo>
                <a:lnTo>
                  <a:pt x="246" y="579"/>
                </a:lnTo>
                <a:lnTo>
                  <a:pt x="246" y="577"/>
                </a:lnTo>
                <a:lnTo>
                  <a:pt x="246" y="575"/>
                </a:lnTo>
                <a:lnTo>
                  <a:pt x="244" y="575"/>
                </a:lnTo>
                <a:lnTo>
                  <a:pt x="244" y="573"/>
                </a:lnTo>
                <a:lnTo>
                  <a:pt x="240" y="573"/>
                </a:lnTo>
                <a:lnTo>
                  <a:pt x="213" y="566"/>
                </a:lnTo>
                <a:lnTo>
                  <a:pt x="186" y="556"/>
                </a:lnTo>
                <a:lnTo>
                  <a:pt x="161" y="543"/>
                </a:lnTo>
                <a:lnTo>
                  <a:pt x="136" y="529"/>
                </a:lnTo>
                <a:lnTo>
                  <a:pt x="115" y="512"/>
                </a:lnTo>
                <a:lnTo>
                  <a:pt x="94" y="495"/>
                </a:lnTo>
                <a:lnTo>
                  <a:pt x="77" y="474"/>
                </a:lnTo>
                <a:lnTo>
                  <a:pt x="60" y="452"/>
                </a:lnTo>
                <a:lnTo>
                  <a:pt x="44" y="427"/>
                </a:lnTo>
                <a:lnTo>
                  <a:pt x="33" y="403"/>
                </a:lnTo>
                <a:lnTo>
                  <a:pt x="23" y="376"/>
                </a:lnTo>
                <a:lnTo>
                  <a:pt x="16" y="349"/>
                </a:lnTo>
                <a:lnTo>
                  <a:pt x="12" y="320"/>
                </a:lnTo>
                <a:lnTo>
                  <a:pt x="10" y="291"/>
                </a:lnTo>
                <a:lnTo>
                  <a:pt x="12" y="261"/>
                </a:lnTo>
                <a:lnTo>
                  <a:pt x="16" y="234"/>
                </a:lnTo>
                <a:lnTo>
                  <a:pt x="23" y="205"/>
                </a:lnTo>
                <a:lnTo>
                  <a:pt x="33" y="178"/>
                </a:lnTo>
                <a:lnTo>
                  <a:pt x="44" y="153"/>
                </a:lnTo>
                <a:lnTo>
                  <a:pt x="60" y="130"/>
                </a:lnTo>
                <a:lnTo>
                  <a:pt x="77" y="107"/>
                </a:lnTo>
                <a:lnTo>
                  <a:pt x="94" y="88"/>
                </a:lnTo>
                <a:lnTo>
                  <a:pt x="115" y="69"/>
                </a:lnTo>
                <a:lnTo>
                  <a:pt x="136" y="53"/>
                </a:lnTo>
                <a:lnTo>
                  <a:pt x="161" y="38"/>
                </a:lnTo>
                <a:lnTo>
                  <a:pt x="186" y="26"/>
                </a:lnTo>
                <a:lnTo>
                  <a:pt x="213" y="17"/>
                </a:lnTo>
                <a:lnTo>
                  <a:pt x="232" y="11"/>
                </a:lnTo>
                <a:lnTo>
                  <a:pt x="234" y="9"/>
                </a:lnTo>
                <a:lnTo>
                  <a:pt x="234" y="7"/>
                </a:lnTo>
                <a:lnTo>
                  <a:pt x="234" y="7"/>
                </a:lnTo>
                <a:lnTo>
                  <a:pt x="234" y="5"/>
                </a:lnTo>
                <a:lnTo>
                  <a:pt x="234" y="3"/>
                </a:lnTo>
                <a:lnTo>
                  <a:pt x="234" y="2"/>
                </a:lnTo>
                <a:lnTo>
                  <a:pt x="234" y="2"/>
                </a:lnTo>
                <a:lnTo>
                  <a:pt x="236" y="0"/>
                </a:lnTo>
                <a:close/>
              </a:path>
            </a:pathLst>
          </a:custGeom>
          <a:solidFill>
            <a:srgbClr val="c8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Freeform 474"/>
          <p:cNvSpPr/>
          <p:nvPr/>
        </p:nvSpPr>
        <p:spPr>
          <a:xfrm>
            <a:off x="5880240" y="2789280"/>
            <a:ext cx="380880" cy="911160"/>
          </a:xfrm>
          <a:custGeom>
            <a:avLst/>
            <a:gdLst>
              <a:gd name="textAreaLeft" fmla="*/ 0 w 380880"/>
              <a:gd name="textAreaRight" fmla="*/ 381240 w 38088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240" h="574">
                <a:moveTo>
                  <a:pt x="228" y="0"/>
                </a:moveTo>
                <a:lnTo>
                  <a:pt x="205" y="6"/>
                </a:lnTo>
                <a:lnTo>
                  <a:pt x="178" y="16"/>
                </a:lnTo>
                <a:lnTo>
                  <a:pt x="152" y="29"/>
                </a:lnTo>
                <a:lnTo>
                  <a:pt x="129" y="43"/>
                </a:lnTo>
                <a:lnTo>
                  <a:pt x="106" y="60"/>
                </a:lnTo>
                <a:lnTo>
                  <a:pt x="84" y="79"/>
                </a:lnTo>
                <a:lnTo>
                  <a:pt x="65" y="100"/>
                </a:lnTo>
                <a:lnTo>
                  <a:pt x="50" y="121"/>
                </a:lnTo>
                <a:lnTo>
                  <a:pt x="35" y="146"/>
                </a:lnTo>
                <a:lnTo>
                  <a:pt x="23" y="171"/>
                </a:lnTo>
                <a:lnTo>
                  <a:pt x="11" y="198"/>
                </a:lnTo>
                <a:lnTo>
                  <a:pt x="6" y="227"/>
                </a:lnTo>
                <a:lnTo>
                  <a:pt x="0" y="256"/>
                </a:lnTo>
                <a:lnTo>
                  <a:pt x="0" y="286"/>
                </a:lnTo>
                <a:lnTo>
                  <a:pt x="0" y="315"/>
                </a:lnTo>
                <a:lnTo>
                  <a:pt x="6" y="346"/>
                </a:lnTo>
                <a:lnTo>
                  <a:pt x="11" y="373"/>
                </a:lnTo>
                <a:lnTo>
                  <a:pt x="23" y="399"/>
                </a:lnTo>
                <a:lnTo>
                  <a:pt x="35" y="424"/>
                </a:lnTo>
                <a:lnTo>
                  <a:pt x="50" y="449"/>
                </a:lnTo>
                <a:lnTo>
                  <a:pt x="65" y="472"/>
                </a:lnTo>
                <a:lnTo>
                  <a:pt x="84" y="493"/>
                </a:lnTo>
                <a:lnTo>
                  <a:pt x="106" y="511"/>
                </a:lnTo>
                <a:lnTo>
                  <a:pt x="129" y="528"/>
                </a:lnTo>
                <a:lnTo>
                  <a:pt x="152" y="543"/>
                </a:lnTo>
                <a:lnTo>
                  <a:pt x="178" y="555"/>
                </a:lnTo>
                <a:lnTo>
                  <a:pt x="205" y="564"/>
                </a:lnTo>
                <a:lnTo>
                  <a:pt x="232" y="572"/>
                </a:lnTo>
                <a:lnTo>
                  <a:pt x="240" y="574"/>
                </a:lnTo>
                <a:lnTo>
                  <a:pt x="240" y="572"/>
                </a:lnTo>
                <a:lnTo>
                  <a:pt x="240" y="570"/>
                </a:lnTo>
                <a:lnTo>
                  <a:pt x="238" y="570"/>
                </a:lnTo>
                <a:lnTo>
                  <a:pt x="238" y="568"/>
                </a:lnTo>
                <a:lnTo>
                  <a:pt x="238" y="566"/>
                </a:lnTo>
                <a:lnTo>
                  <a:pt x="238" y="564"/>
                </a:lnTo>
                <a:lnTo>
                  <a:pt x="238" y="564"/>
                </a:lnTo>
                <a:lnTo>
                  <a:pt x="238" y="563"/>
                </a:lnTo>
                <a:lnTo>
                  <a:pt x="234" y="563"/>
                </a:lnTo>
                <a:lnTo>
                  <a:pt x="207" y="555"/>
                </a:lnTo>
                <a:lnTo>
                  <a:pt x="182" y="545"/>
                </a:lnTo>
                <a:lnTo>
                  <a:pt x="157" y="534"/>
                </a:lnTo>
                <a:lnTo>
                  <a:pt x="134" y="520"/>
                </a:lnTo>
                <a:lnTo>
                  <a:pt x="113" y="503"/>
                </a:lnTo>
                <a:lnTo>
                  <a:pt x="92" y="486"/>
                </a:lnTo>
                <a:lnTo>
                  <a:pt x="75" y="465"/>
                </a:lnTo>
                <a:lnTo>
                  <a:pt x="58" y="444"/>
                </a:lnTo>
                <a:lnTo>
                  <a:pt x="44" y="421"/>
                </a:lnTo>
                <a:lnTo>
                  <a:pt x="33" y="396"/>
                </a:lnTo>
                <a:lnTo>
                  <a:pt x="23" y="369"/>
                </a:lnTo>
                <a:lnTo>
                  <a:pt x="15" y="342"/>
                </a:lnTo>
                <a:lnTo>
                  <a:pt x="11" y="315"/>
                </a:lnTo>
                <a:lnTo>
                  <a:pt x="10" y="286"/>
                </a:lnTo>
                <a:lnTo>
                  <a:pt x="11" y="257"/>
                </a:lnTo>
                <a:lnTo>
                  <a:pt x="15" y="229"/>
                </a:lnTo>
                <a:lnTo>
                  <a:pt x="23" y="202"/>
                </a:lnTo>
                <a:lnTo>
                  <a:pt x="33" y="177"/>
                </a:lnTo>
                <a:lnTo>
                  <a:pt x="44" y="152"/>
                </a:lnTo>
                <a:lnTo>
                  <a:pt x="58" y="129"/>
                </a:lnTo>
                <a:lnTo>
                  <a:pt x="75" y="106"/>
                </a:lnTo>
                <a:lnTo>
                  <a:pt x="92" y="87"/>
                </a:lnTo>
                <a:lnTo>
                  <a:pt x="113" y="68"/>
                </a:lnTo>
                <a:lnTo>
                  <a:pt x="134" y="52"/>
                </a:lnTo>
                <a:lnTo>
                  <a:pt x="157" y="37"/>
                </a:lnTo>
                <a:lnTo>
                  <a:pt x="182" y="25"/>
                </a:lnTo>
                <a:lnTo>
                  <a:pt x="207" y="16"/>
                </a:lnTo>
                <a:lnTo>
                  <a:pt x="226" y="12"/>
                </a:lnTo>
                <a:lnTo>
                  <a:pt x="226" y="10"/>
                </a:lnTo>
                <a:lnTo>
                  <a:pt x="226" y="8"/>
                </a:lnTo>
                <a:lnTo>
                  <a:pt x="226" y="8"/>
                </a:lnTo>
                <a:lnTo>
                  <a:pt x="226" y="6"/>
                </a:lnTo>
                <a:lnTo>
                  <a:pt x="228" y="4"/>
                </a:lnTo>
                <a:lnTo>
                  <a:pt x="228" y="2"/>
                </a:lnTo>
                <a:lnTo>
                  <a:pt x="228" y="2"/>
                </a:lnTo>
                <a:lnTo>
                  <a:pt x="228" y="0"/>
                </a:lnTo>
                <a:close/>
              </a:path>
            </a:pathLst>
          </a:custGeom>
          <a:solidFill>
            <a:srgbClr val="c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Freeform 475"/>
          <p:cNvSpPr/>
          <p:nvPr/>
        </p:nvSpPr>
        <p:spPr>
          <a:xfrm>
            <a:off x="5886360" y="2798640"/>
            <a:ext cx="371520" cy="892440"/>
          </a:xfrm>
          <a:custGeom>
            <a:avLst/>
            <a:gdLst>
              <a:gd name="textAreaLeft" fmla="*/ 0 w 371520"/>
              <a:gd name="textAreaRight" fmla="*/ 371880 w 371520"/>
              <a:gd name="textAreaTop" fmla="*/ 0 h 892440"/>
              <a:gd name="textAreaBottom" fmla="*/ 892800 h 892440"/>
            </a:gdLst>
            <a:ahLst/>
            <a:rect l="textAreaLeft" t="textAreaTop" r="textAreaRight" b="textAreaBottom"/>
            <a:pathLst>
              <a:path w="234" h="562">
                <a:moveTo>
                  <a:pt x="222" y="0"/>
                </a:moveTo>
                <a:lnTo>
                  <a:pt x="203" y="6"/>
                </a:lnTo>
                <a:lnTo>
                  <a:pt x="176" y="15"/>
                </a:lnTo>
                <a:lnTo>
                  <a:pt x="151" y="27"/>
                </a:lnTo>
                <a:lnTo>
                  <a:pt x="126" y="42"/>
                </a:lnTo>
                <a:lnTo>
                  <a:pt x="105" y="58"/>
                </a:lnTo>
                <a:lnTo>
                  <a:pt x="84" y="77"/>
                </a:lnTo>
                <a:lnTo>
                  <a:pt x="67" y="96"/>
                </a:lnTo>
                <a:lnTo>
                  <a:pt x="50" y="119"/>
                </a:lnTo>
                <a:lnTo>
                  <a:pt x="34" y="142"/>
                </a:lnTo>
                <a:lnTo>
                  <a:pt x="23" y="167"/>
                </a:lnTo>
                <a:lnTo>
                  <a:pt x="13" y="194"/>
                </a:lnTo>
                <a:lnTo>
                  <a:pt x="6" y="223"/>
                </a:lnTo>
                <a:lnTo>
                  <a:pt x="2" y="250"/>
                </a:lnTo>
                <a:lnTo>
                  <a:pt x="0" y="280"/>
                </a:lnTo>
                <a:lnTo>
                  <a:pt x="2" y="309"/>
                </a:lnTo>
                <a:lnTo>
                  <a:pt x="6" y="338"/>
                </a:lnTo>
                <a:lnTo>
                  <a:pt x="13" y="365"/>
                </a:lnTo>
                <a:lnTo>
                  <a:pt x="23" y="392"/>
                </a:lnTo>
                <a:lnTo>
                  <a:pt x="34" y="416"/>
                </a:lnTo>
                <a:lnTo>
                  <a:pt x="50" y="441"/>
                </a:lnTo>
                <a:lnTo>
                  <a:pt x="67" y="463"/>
                </a:lnTo>
                <a:lnTo>
                  <a:pt x="84" y="484"/>
                </a:lnTo>
                <a:lnTo>
                  <a:pt x="105" y="501"/>
                </a:lnTo>
                <a:lnTo>
                  <a:pt x="126" y="518"/>
                </a:lnTo>
                <a:lnTo>
                  <a:pt x="151" y="532"/>
                </a:lnTo>
                <a:lnTo>
                  <a:pt x="176" y="545"/>
                </a:lnTo>
                <a:lnTo>
                  <a:pt x="203" y="555"/>
                </a:lnTo>
                <a:lnTo>
                  <a:pt x="230" y="562"/>
                </a:lnTo>
                <a:lnTo>
                  <a:pt x="234" y="562"/>
                </a:lnTo>
                <a:lnTo>
                  <a:pt x="234" y="560"/>
                </a:lnTo>
                <a:lnTo>
                  <a:pt x="234" y="558"/>
                </a:lnTo>
                <a:lnTo>
                  <a:pt x="234" y="558"/>
                </a:lnTo>
                <a:lnTo>
                  <a:pt x="234" y="557"/>
                </a:lnTo>
                <a:lnTo>
                  <a:pt x="232" y="555"/>
                </a:lnTo>
                <a:lnTo>
                  <a:pt x="232" y="555"/>
                </a:lnTo>
                <a:lnTo>
                  <a:pt x="232" y="553"/>
                </a:lnTo>
                <a:lnTo>
                  <a:pt x="232" y="551"/>
                </a:lnTo>
                <a:lnTo>
                  <a:pt x="205" y="545"/>
                </a:lnTo>
                <a:lnTo>
                  <a:pt x="180" y="535"/>
                </a:lnTo>
                <a:lnTo>
                  <a:pt x="155" y="524"/>
                </a:lnTo>
                <a:lnTo>
                  <a:pt x="132" y="509"/>
                </a:lnTo>
                <a:lnTo>
                  <a:pt x="111" y="493"/>
                </a:lnTo>
                <a:lnTo>
                  <a:pt x="92" y="476"/>
                </a:lnTo>
                <a:lnTo>
                  <a:pt x="75" y="457"/>
                </a:lnTo>
                <a:lnTo>
                  <a:pt x="59" y="434"/>
                </a:lnTo>
                <a:lnTo>
                  <a:pt x="44" y="413"/>
                </a:lnTo>
                <a:lnTo>
                  <a:pt x="32" y="388"/>
                </a:lnTo>
                <a:lnTo>
                  <a:pt x="23" y="363"/>
                </a:lnTo>
                <a:lnTo>
                  <a:pt x="17" y="336"/>
                </a:lnTo>
                <a:lnTo>
                  <a:pt x="13" y="309"/>
                </a:lnTo>
                <a:lnTo>
                  <a:pt x="11" y="280"/>
                </a:lnTo>
                <a:lnTo>
                  <a:pt x="13" y="251"/>
                </a:lnTo>
                <a:lnTo>
                  <a:pt x="17" y="225"/>
                </a:lnTo>
                <a:lnTo>
                  <a:pt x="23" y="198"/>
                </a:lnTo>
                <a:lnTo>
                  <a:pt x="32" y="173"/>
                </a:lnTo>
                <a:lnTo>
                  <a:pt x="44" y="148"/>
                </a:lnTo>
                <a:lnTo>
                  <a:pt x="59" y="125"/>
                </a:lnTo>
                <a:lnTo>
                  <a:pt x="75" y="104"/>
                </a:lnTo>
                <a:lnTo>
                  <a:pt x="92" y="85"/>
                </a:lnTo>
                <a:lnTo>
                  <a:pt x="111" y="65"/>
                </a:lnTo>
                <a:lnTo>
                  <a:pt x="132" y="50"/>
                </a:lnTo>
                <a:lnTo>
                  <a:pt x="155" y="37"/>
                </a:lnTo>
                <a:lnTo>
                  <a:pt x="180" y="25"/>
                </a:lnTo>
                <a:lnTo>
                  <a:pt x="205" y="15"/>
                </a:lnTo>
                <a:lnTo>
                  <a:pt x="221" y="12"/>
                </a:lnTo>
                <a:lnTo>
                  <a:pt x="221" y="10"/>
                </a:lnTo>
                <a:lnTo>
                  <a:pt x="222" y="8"/>
                </a:lnTo>
                <a:lnTo>
                  <a:pt x="222" y="8"/>
                </a:lnTo>
                <a:lnTo>
                  <a:pt x="222" y="6"/>
                </a:lnTo>
                <a:lnTo>
                  <a:pt x="222" y="4"/>
                </a:lnTo>
                <a:lnTo>
                  <a:pt x="222" y="2"/>
                </a:lnTo>
                <a:lnTo>
                  <a:pt x="222" y="2"/>
                </a:lnTo>
                <a:lnTo>
                  <a:pt x="222" y="0"/>
                </a:lnTo>
                <a:close/>
              </a:path>
            </a:pathLst>
          </a:custGeom>
          <a:solidFill>
            <a:srgbClr val="ca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Freeform 476"/>
          <p:cNvSpPr/>
          <p:nvPr/>
        </p:nvSpPr>
        <p:spPr>
          <a:xfrm>
            <a:off x="5896080" y="2808360"/>
            <a:ext cx="361800" cy="874800"/>
          </a:xfrm>
          <a:custGeom>
            <a:avLst/>
            <a:gdLst>
              <a:gd name="textAreaLeft" fmla="*/ 0 w 361800"/>
              <a:gd name="textAreaRight" fmla="*/ 362160 w 36180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228" h="551">
                <a:moveTo>
                  <a:pt x="216" y="0"/>
                </a:moveTo>
                <a:lnTo>
                  <a:pt x="197" y="4"/>
                </a:lnTo>
                <a:lnTo>
                  <a:pt x="172" y="13"/>
                </a:lnTo>
                <a:lnTo>
                  <a:pt x="147" y="25"/>
                </a:lnTo>
                <a:lnTo>
                  <a:pt x="124" y="40"/>
                </a:lnTo>
                <a:lnTo>
                  <a:pt x="103" y="56"/>
                </a:lnTo>
                <a:lnTo>
                  <a:pt x="82" y="75"/>
                </a:lnTo>
                <a:lnTo>
                  <a:pt x="65" y="94"/>
                </a:lnTo>
                <a:lnTo>
                  <a:pt x="48" y="117"/>
                </a:lnTo>
                <a:lnTo>
                  <a:pt x="34" y="140"/>
                </a:lnTo>
                <a:lnTo>
                  <a:pt x="23" y="165"/>
                </a:lnTo>
                <a:lnTo>
                  <a:pt x="13" y="190"/>
                </a:lnTo>
                <a:lnTo>
                  <a:pt x="5" y="217"/>
                </a:lnTo>
                <a:lnTo>
                  <a:pt x="1" y="245"/>
                </a:lnTo>
                <a:lnTo>
                  <a:pt x="0" y="274"/>
                </a:lnTo>
                <a:lnTo>
                  <a:pt x="1" y="303"/>
                </a:lnTo>
                <a:lnTo>
                  <a:pt x="5" y="330"/>
                </a:lnTo>
                <a:lnTo>
                  <a:pt x="13" y="357"/>
                </a:lnTo>
                <a:lnTo>
                  <a:pt x="23" y="384"/>
                </a:lnTo>
                <a:lnTo>
                  <a:pt x="34" y="409"/>
                </a:lnTo>
                <a:lnTo>
                  <a:pt x="48" y="432"/>
                </a:lnTo>
                <a:lnTo>
                  <a:pt x="65" y="453"/>
                </a:lnTo>
                <a:lnTo>
                  <a:pt x="82" y="474"/>
                </a:lnTo>
                <a:lnTo>
                  <a:pt x="103" y="491"/>
                </a:lnTo>
                <a:lnTo>
                  <a:pt x="124" y="508"/>
                </a:lnTo>
                <a:lnTo>
                  <a:pt x="147" y="522"/>
                </a:lnTo>
                <a:lnTo>
                  <a:pt x="172" y="533"/>
                </a:lnTo>
                <a:lnTo>
                  <a:pt x="197" y="543"/>
                </a:lnTo>
                <a:lnTo>
                  <a:pt x="224" y="551"/>
                </a:lnTo>
                <a:lnTo>
                  <a:pt x="228" y="551"/>
                </a:lnTo>
                <a:lnTo>
                  <a:pt x="226" y="549"/>
                </a:lnTo>
                <a:lnTo>
                  <a:pt x="226" y="547"/>
                </a:lnTo>
                <a:lnTo>
                  <a:pt x="226" y="547"/>
                </a:lnTo>
                <a:lnTo>
                  <a:pt x="226" y="545"/>
                </a:lnTo>
                <a:lnTo>
                  <a:pt x="226" y="543"/>
                </a:lnTo>
                <a:lnTo>
                  <a:pt x="226" y="543"/>
                </a:lnTo>
                <a:lnTo>
                  <a:pt x="224" y="541"/>
                </a:lnTo>
                <a:lnTo>
                  <a:pt x="224" y="539"/>
                </a:lnTo>
                <a:lnTo>
                  <a:pt x="201" y="533"/>
                </a:lnTo>
                <a:lnTo>
                  <a:pt x="176" y="524"/>
                </a:lnTo>
                <a:lnTo>
                  <a:pt x="153" y="512"/>
                </a:lnTo>
                <a:lnTo>
                  <a:pt x="130" y="499"/>
                </a:lnTo>
                <a:lnTo>
                  <a:pt x="109" y="483"/>
                </a:lnTo>
                <a:lnTo>
                  <a:pt x="90" y="466"/>
                </a:lnTo>
                <a:lnTo>
                  <a:pt x="72" y="447"/>
                </a:lnTo>
                <a:lnTo>
                  <a:pt x="57" y="426"/>
                </a:lnTo>
                <a:lnTo>
                  <a:pt x="44" y="403"/>
                </a:lnTo>
                <a:lnTo>
                  <a:pt x="32" y="380"/>
                </a:lnTo>
                <a:lnTo>
                  <a:pt x="23" y="355"/>
                </a:lnTo>
                <a:lnTo>
                  <a:pt x="17" y="328"/>
                </a:lnTo>
                <a:lnTo>
                  <a:pt x="11" y="301"/>
                </a:lnTo>
                <a:lnTo>
                  <a:pt x="11" y="274"/>
                </a:lnTo>
                <a:lnTo>
                  <a:pt x="11" y="245"/>
                </a:lnTo>
                <a:lnTo>
                  <a:pt x="17" y="219"/>
                </a:lnTo>
                <a:lnTo>
                  <a:pt x="23" y="194"/>
                </a:lnTo>
                <a:lnTo>
                  <a:pt x="32" y="169"/>
                </a:lnTo>
                <a:lnTo>
                  <a:pt x="44" y="144"/>
                </a:lnTo>
                <a:lnTo>
                  <a:pt x="57" y="123"/>
                </a:lnTo>
                <a:lnTo>
                  <a:pt x="72" y="102"/>
                </a:lnTo>
                <a:lnTo>
                  <a:pt x="90" y="82"/>
                </a:lnTo>
                <a:lnTo>
                  <a:pt x="109" y="65"/>
                </a:lnTo>
                <a:lnTo>
                  <a:pt x="130" y="48"/>
                </a:lnTo>
                <a:lnTo>
                  <a:pt x="153" y="34"/>
                </a:lnTo>
                <a:lnTo>
                  <a:pt x="176" y="23"/>
                </a:lnTo>
                <a:lnTo>
                  <a:pt x="201" y="15"/>
                </a:lnTo>
                <a:lnTo>
                  <a:pt x="215" y="11"/>
                </a:lnTo>
                <a:lnTo>
                  <a:pt x="215" y="9"/>
                </a:lnTo>
                <a:lnTo>
                  <a:pt x="215" y="8"/>
                </a:lnTo>
                <a:lnTo>
                  <a:pt x="215" y="8"/>
                </a:lnTo>
                <a:lnTo>
                  <a:pt x="215" y="6"/>
                </a:lnTo>
                <a:lnTo>
                  <a:pt x="215" y="4"/>
                </a:lnTo>
                <a:lnTo>
                  <a:pt x="216" y="2"/>
                </a:lnTo>
                <a:lnTo>
                  <a:pt x="216" y="2"/>
                </a:lnTo>
                <a:lnTo>
                  <a:pt x="216" y="0"/>
                </a:lnTo>
                <a:close/>
              </a:path>
            </a:pathLst>
          </a:custGeom>
          <a:solidFill>
            <a:srgbClr val="cb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Freeform 477"/>
          <p:cNvSpPr/>
          <p:nvPr/>
        </p:nvSpPr>
        <p:spPr>
          <a:xfrm>
            <a:off x="5904000" y="2817720"/>
            <a:ext cx="350640" cy="855720"/>
          </a:xfrm>
          <a:custGeom>
            <a:avLst/>
            <a:gdLst>
              <a:gd name="textAreaLeft" fmla="*/ 0 w 350640"/>
              <a:gd name="textAreaRight" fmla="*/ 351000 w 35064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221" h="539">
                <a:moveTo>
                  <a:pt x="210" y="0"/>
                </a:moveTo>
                <a:lnTo>
                  <a:pt x="194" y="3"/>
                </a:lnTo>
                <a:lnTo>
                  <a:pt x="169" y="13"/>
                </a:lnTo>
                <a:lnTo>
                  <a:pt x="144" y="25"/>
                </a:lnTo>
                <a:lnTo>
                  <a:pt x="121" y="38"/>
                </a:lnTo>
                <a:lnTo>
                  <a:pt x="100" y="53"/>
                </a:lnTo>
                <a:lnTo>
                  <a:pt x="81" y="73"/>
                </a:lnTo>
                <a:lnTo>
                  <a:pt x="64" y="92"/>
                </a:lnTo>
                <a:lnTo>
                  <a:pt x="48" y="113"/>
                </a:lnTo>
                <a:lnTo>
                  <a:pt x="33" y="136"/>
                </a:lnTo>
                <a:lnTo>
                  <a:pt x="21" y="161"/>
                </a:lnTo>
                <a:lnTo>
                  <a:pt x="12" y="186"/>
                </a:lnTo>
                <a:lnTo>
                  <a:pt x="6" y="213"/>
                </a:lnTo>
                <a:lnTo>
                  <a:pt x="2" y="239"/>
                </a:lnTo>
                <a:lnTo>
                  <a:pt x="0" y="268"/>
                </a:lnTo>
                <a:lnTo>
                  <a:pt x="2" y="297"/>
                </a:lnTo>
                <a:lnTo>
                  <a:pt x="6" y="324"/>
                </a:lnTo>
                <a:lnTo>
                  <a:pt x="12" y="351"/>
                </a:lnTo>
                <a:lnTo>
                  <a:pt x="21" y="376"/>
                </a:lnTo>
                <a:lnTo>
                  <a:pt x="33" y="401"/>
                </a:lnTo>
                <a:lnTo>
                  <a:pt x="48" y="422"/>
                </a:lnTo>
                <a:lnTo>
                  <a:pt x="64" y="445"/>
                </a:lnTo>
                <a:lnTo>
                  <a:pt x="81" y="464"/>
                </a:lnTo>
                <a:lnTo>
                  <a:pt x="100" y="481"/>
                </a:lnTo>
                <a:lnTo>
                  <a:pt x="121" y="497"/>
                </a:lnTo>
                <a:lnTo>
                  <a:pt x="144" y="512"/>
                </a:lnTo>
                <a:lnTo>
                  <a:pt x="169" y="523"/>
                </a:lnTo>
                <a:lnTo>
                  <a:pt x="194" y="533"/>
                </a:lnTo>
                <a:lnTo>
                  <a:pt x="221" y="539"/>
                </a:lnTo>
                <a:lnTo>
                  <a:pt x="221" y="537"/>
                </a:lnTo>
                <a:lnTo>
                  <a:pt x="221" y="537"/>
                </a:lnTo>
                <a:lnTo>
                  <a:pt x="221" y="535"/>
                </a:lnTo>
                <a:lnTo>
                  <a:pt x="219" y="533"/>
                </a:lnTo>
                <a:lnTo>
                  <a:pt x="219" y="531"/>
                </a:lnTo>
                <a:lnTo>
                  <a:pt x="219" y="531"/>
                </a:lnTo>
                <a:lnTo>
                  <a:pt x="219" y="529"/>
                </a:lnTo>
                <a:lnTo>
                  <a:pt x="219" y="527"/>
                </a:lnTo>
                <a:lnTo>
                  <a:pt x="198" y="522"/>
                </a:lnTo>
                <a:lnTo>
                  <a:pt x="173" y="514"/>
                </a:lnTo>
                <a:lnTo>
                  <a:pt x="150" y="502"/>
                </a:lnTo>
                <a:lnTo>
                  <a:pt x="129" y="489"/>
                </a:lnTo>
                <a:lnTo>
                  <a:pt x="108" y="474"/>
                </a:lnTo>
                <a:lnTo>
                  <a:pt x="89" y="456"/>
                </a:lnTo>
                <a:lnTo>
                  <a:pt x="71" y="437"/>
                </a:lnTo>
                <a:lnTo>
                  <a:pt x="56" y="416"/>
                </a:lnTo>
                <a:lnTo>
                  <a:pt x="43" y="395"/>
                </a:lnTo>
                <a:lnTo>
                  <a:pt x="31" y="372"/>
                </a:lnTo>
                <a:lnTo>
                  <a:pt x="23" y="347"/>
                </a:lnTo>
                <a:lnTo>
                  <a:pt x="16" y="322"/>
                </a:lnTo>
                <a:lnTo>
                  <a:pt x="12" y="295"/>
                </a:lnTo>
                <a:lnTo>
                  <a:pt x="10" y="268"/>
                </a:lnTo>
                <a:lnTo>
                  <a:pt x="12" y="241"/>
                </a:lnTo>
                <a:lnTo>
                  <a:pt x="16" y="215"/>
                </a:lnTo>
                <a:lnTo>
                  <a:pt x="23" y="190"/>
                </a:lnTo>
                <a:lnTo>
                  <a:pt x="31" y="165"/>
                </a:lnTo>
                <a:lnTo>
                  <a:pt x="43" y="142"/>
                </a:lnTo>
                <a:lnTo>
                  <a:pt x="56" y="119"/>
                </a:lnTo>
                <a:lnTo>
                  <a:pt x="71" y="99"/>
                </a:lnTo>
                <a:lnTo>
                  <a:pt x="89" y="80"/>
                </a:lnTo>
                <a:lnTo>
                  <a:pt x="108" y="63"/>
                </a:lnTo>
                <a:lnTo>
                  <a:pt x="129" y="48"/>
                </a:lnTo>
                <a:lnTo>
                  <a:pt x="150" y="34"/>
                </a:lnTo>
                <a:lnTo>
                  <a:pt x="173" y="23"/>
                </a:lnTo>
                <a:lnTo>
                  <a:pt x="198" y="13"/>
                </a:lnTo>
                <a:lnTo>
                  <a:pt x="208" y="11"/>
                </a:lnTo>
                <a:lnTo>
                  <a:pt x="208" y="9"/>
                </a:lnTo>
                <a:lnTo>
                  <a:pt x="208" y="7"/>
                </a:lnTo>
                <a:lnTo>
                  <a:pt x="210" y="7"/>
                </a:lnTo>
                <a:lnTo>
                  <a:pt x="210" y="5"/>
                </a:lnTo>
                <a:lnTo>
                  <a:pt x="210" y="3"/>
                </a:lnTo>
                <a:lnTo>
                  <a:pt x="210" y="2"/>
                </a:lnTo>
                <a:lnTo>
                  <a:pt x="210" y="2"/>
                </a:lnTo>
                <a:lnTo>
                  <a:pt x="210" y="0"/>
                </a:lnTo>
                <a:close/>
              </a:path>
            </a:pathLst>
          </a:custGeom>
          <a:solidFill>
            <a:srgbClr val="cc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Freeform 478"/>
          <p:cNvSpPr/>
          <p:nvPr/>
        </p:nvSpPr>
        <p:spPr>
          <a:xfrm>
            <a:off x="5913360" y="2825640"/>
            <a:ext cx="338040" cy="838440"/>
          </a:xfrm>
          <a:custGeom>
            <a:avLst/>
            <a:gdLst>
              <a:gd name="textAreaLeft" fmla="*/ 0 w 338040"/>
              <a:gd name="textAreaRight" fmla="*/ 338400 w 3380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3" h="528">
                <a:moveTo>
                  <a:pt x="204" y="0"/>
                </a:moveTo>
                <a:lnTo>
                  <a:pt x="190" y="4"/>
                </a:lnTo>
                <a:lnTo>
                  <a:pt x="165" y="12"/>
                </a:lnTo>
                <a:lnTo>
                  <a:pt x="142" y="23"/>
                </a:lnTo>
                <a:lnTo>
                  <a:pt x="119" y="37"/>
                </a:lnTo>
                <a:lnTo>
                  <a:pt x="98" y="54"/>
                </a:lnTo>
                <a:lnTo>
                  <a:pt x="79" y="71"/>
                </a:lnTo>
                <a:lnTo>
                  <a:pt x="61" y="91"/>
                </a:lnTo>
                <a:lnTo>
                  <a:pt x="46" y="112"/>
                </a:lnTo>
                <a:lnTo>
                  <a:pt x="33" y="133"/>
                </a:lnTo>
                <a:lnTo>
                  <a:pt x="21" y="158"/>
                </a:lnTo>
                <a:lnTo>
                  <a:pt x="12" y="183"/>
                </a:lnTo>
                <a:lnTo>
                  <a:pt x="6" y="208"/>
                </a:lnTo>
                <a:lnTo>
                  <a:pt x="0" y="234"/>
                </a:lnTo>
                <a:lnTo>
                  <a:pt x="0" y="263"/>
                </a:lnTo>
                <a:lnTo>
                  <a:pt x="0" y="290"/>
                </a:lnTo>
                <a:lnTo>
                  <a:pt x="6" y="317"/>
                </a:lnTo>
                <a:lnTo>
                  <a:pt x="12" y="344"/>
                </a:lnTo>
                <a:lnTo>
                  <a:pt x="21" y="369"/>
                </a:lnTo>
                <a:lnTo>
                  <a:pt x="33" y="392"/>
                </a:lnTo>
                <a:lnTo>
                  <a:pt x="46" y="415"/>
                </a:lnTo>
                <a:lnTo>
                  <a:pt x="61" y="436"/>
                </a:lnTo>
                <a:lnTo>
                  <a:pt x="79" y="455"/>
                </a:lnTo>
                <a:lnTo>
                  <a:pt x="98" y="472"/>
                </a:lnTo>
                <a:lnTo>
                  <a:pt x="119" y="488"/>
                </a:lnTo>
                <a:lnTo>
                  <a:pt x="142" y="501"/>
                </a:lnTo>
                <a:lnTo>
                  <a:pt x="165" y="513"/>
                </a:lnTo>
                <a:lnTo>
                  <a:pt x="190" y="522"/>
                </a:lnTo>
                <a:lnTo>
                  <a:pt x="213" y="528"/>
                </a:lnTo>
                <a:lnTo>
                  <a:pt x="213" y="526"/>
                </a:lnTo>
                <a:lnTo>
                  <a:pt x="213" y="526"/>
                </a:lnTo>
                <a:lnTo>
                  <a:pt x="213" y="524"/>
                </a:lnTo>
                <a:lnTo>
                  <a:pt x="213" y="522"/>
                </a:lnTo>
                <a:lnTo>
                  <a:pt x="213" y="520"/>
                </a:lnTo>
                <a:lnTo>
                  <a:pt x="211" y="520"/>
                </a:lnTo>
                <a:lnTo>
                  <a:pt x="211" y="518"/>
                </a:lnTo>
                <a:lnTo>
                  <a:pt x="211" y="517"/>
                </a:lnTo>
                <a:lnTo>
                  <a:pt x="194" y="513"/>
                </a:lnTo>
                <a:lnTo>
                  <a:pt x="169" y="503"/>
                </a:lnTo>
                <a:lnTo>
                  <a:pt x="146" y="492"/>
                </a:lnTo>
                <a:lnTo>
                  <a:pt x="125" y="478"/>
                </a:lnTo>
                <a:lnTo>
                  <a:pt x="106" y="465"/>
                </a:lnTo>
                <a:lnTo>
                  <a:pt x="86" y="447"/>
                </a:lnTo>
                <a:lnTo>
                  <a:pt x="69" y="428"/>
                </a:lnTo>
                <a:lnTo>
                  <a:pt x="54" y="409"/>
                </a:lnTo>
                <a:lnTo>
                  <a:pt x="42" y="388"/>
                </a:lnTo>
                <a:lnTo>
                  <a:pt x="31" y="365"/>
                </a:lnTo>
                <a:lnTo>
                  <a:pt x="21" y="340"/>
                </a:lnTo>
                <a:lnTo>
                  <a:pt x="15" y="315"/>
                </a:lnTo>
                <a:lnTo>
                  <a:pt x="12" y="290"/>
                </a:lnTo>
                <a:lnTo>
                  <a:pt x="10" y="263"/>
                </a:lnTo>
                <a:lnTo>
                  <a:pt x="12" y="236"/>
                </a:lnTo>
                <a:lnTo>
                  <a:pt x="15" y="210"/>
                </a:lnTo>
                <a:lnTo>
                  <a:pt x="21" y="185"/>
                </a:lnTo>
                <a:lnTo>
                  <a:pt x="31" y="162"/>
                </a:lnTo>
                <a:lnTo>
                  <a:pt x="42" y="139"/>
                </a:lnTo>
                <a:lnTo>
                  <a:pt x="54" y="117"/>
                </a:lnTo>
                <a:lnTo>
                  <a:pt x="69" y="96"/>
                </a:lnTo>
                <a:lnTo>
                  <a:pt x="86" y="79"/>
                </a:lnTo>
                <a:lnTo>
                  <a:pt x="106" y="62"/>
                </a:lnTo>
                <a:lnTo>
                  <a:pt x="125" y="46"/>
                </a:lnTo>
                <a:lnTo>
                  <a:pt x="146" y="33"/>
                </a:lnTo>
                <a:lnTo>
                  <a:pt x="169" y="23"/>
                </a:lnTo>
                <a:lnTo>
                  <a:pt x="194" y="14"/>
                </a:lnTo>
                <a:lnTo>
                  <a:pt x="202" y="12"/>
                </a:lnTo>
                <a:lnTo>
                  <a:pt x="202" y="10"/>
                </a:lnTo>
                <a:lnTo>
                  <a:pt x="202" y="8"/>
                </a:lnTo>
                <a:lnTo>
                  <a:pt x="202" y="8"/>
                </a:lnTo>
                <a:lnTo>
                  <a:pt x="202" y="6"/>
                </a:lnTo>
                <a:lnTo>
                  <a:pt x="202" y="4"/>
                </a:lnTo>
                <a:lnTo>
                  <a:pt x="202" y="2"/>
                </a:lnTo>
                <a:lnTo>
                  <a:pt x="204" y="2"/>
                </a:lnTo>
                <a:lnTo>
                  <a:pt x="204" y="0"/>
                </a:lnTo>
                <a:close/>
              </a:path>
            </a:pathLst>
          </a:cu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Freeform 479"/>
          <p:cNvSpPr/>
          <p:nvPr/>
        </p:nvSpPr>
        <p:spPr>
          <a:xfrm>
            <a:off x="5919840" y="2835360"/>
            <a:ext cx="331560" cy="819000"/>
          </a:xfrm>
          <a:custGeom>
            <a:avLst/>
            <a:gdLst>
              <a:gd name="textAreaLeft" fmla="*/ 0 w 331560"/>
              <a:gd name="textAreaRight" fmla="*/ 331920 w 33156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09" h="516">
                <a:moveTo>
                  <a:pt x="198" y="0"/>
                </a:moveTo>
                <a:lnTo>
                  <a:pt x="188" y="2"/>
                </a:lnTo>
                <a:lnTo>
                  <a:pt x="163" y="12"/>
                </a:lnTo>
                <a:lnTo>
                  <a:pt x="140" y="23"/>
                </a:lnTo>
                <a:lnTo>
                  <a:pt x="119" y="37"/>
                </a:lnTo>
                <a:lnTo>
                  <a:pt x="98" y="52"/>
                </a:lnTo>
                <a:lnTo>
                  <a:pt x="79" y="69"/>
                </a:lnTo>
                <a:lnTo>
                  <a:pt x="61" y="88"/>
                </a:lnTo>
                <a:lnTo>
                  <a:pt x="46" y="108"/>
                </a:lnTo>
                <a:lnTo>
                  <a:pt x="33" y="131"/>
                </a:lnTo>
                <a:lnTo>
                  <a:pt x="21" y="154"/>
                </a:lnTo>
                <a:lnTo>
                  <a:pt x="13" y="179"/>
                </a:lnTo>
                <a:lnTo>
                  <a:pt x="6" y="204"/>
                </a:lnTo>
                <a:lnTo>
                  <a:pt x="2" y="230"/>
                </a:lnTo>
                <a:lnTo>
                  <a:pt x="0" y="257"/>
                </a:lnTo>
                <a:lnTo>
                  <a:pt x="2" y="284"/>
                </a:lnTo>
                <a:lnTo>
                  <a:pt x="6" y="311"/>
                </a:lnTo>
                <a:lnTo>
                  <a:pt x="13" y="336"/>
                </a:lnTo>
                <a:lnTo>
                  <a:pt x="21" y="361"/>
                </a:lnTo>
                <a:lnTo>
                  <a:pt x="33" y="384"/>
                </a:lnTo>
                <a:lnTo>
                  <a:pt x="46" y="405"/>
                </a:lnTo>
                <a:lnTo>
                  <a:pt x="61" y="426"/>
                </a:lnTo>
                <a:lnTo>
                  <a:pt x="79" y="445"/>
                </a:lnTo>
                <a:lnTo>
                  <a:pt x="98" y="463"/>
                </a:lnTo>
                <a:lnTo>
                  <a:pt x="119" y="478"/>
                </a:lnTo>
                <a:lnTo>
                  <a:pt x="140" y="491"/>
                </a:lnTo>
                <a:lnTo>
                  <a:pt x="163" y="503"/>
                </a:lnTo>
                <a:lnTo>
                  <a:pt x="188" y="511"/>
                </a:lnTo>
                <a:lnTo>
                  <a:pt x="209" y="516"/>
                </a:lnTo>
                <a:lnTo>
                  <a:pt x="209" y="514"/>
                </a:lnTo>
                <a:lnTo>
                  <a:pt x="207" y="514"/>
                </a:lnTo>
                <a:lnTo>
                  <a:pt x="207" y="512"/>
                </a:lnTo>
                <a:lnTo>
                  <a:pt x="207" y="511"/>
                </a:lnTo>
                <a:lnTo>
                  <a:pt x="207" y="509"/>
                </a:lnTo>
                <a:lnTo>
                  <a:pt x="207" y="507"/>
                </a:lnTo>
                <a:lnTo>
                  <a:pt x="207" y="507"/>
                </a:lnTo>
                <a:lnTo>
                  <a:pt x="205" y="505"/>
                </a:lnTo>
                <a:lnTo>
                  <a:pt x="190" y="501"/>
                </a:lnTo>
                <a:lnTo>
                  <a:pt x="167" y="491"/>
                </a:lnTo>
                <a:lnTo>
                  <a:pt x="146" y="482"/>
                </a:lnTo>
                <a:lnTo>
                  <a:pt x="125" y="468"/>
                </a:lnTo>
                <a:lnTo>
                  <a:pt x="104" y="455"/>
                </a:lnTo>
                <a:lnTo>
                  <a:pt x="86" y="438"/>
                </a:lnTo>
                <a:lnTo>
                  <a:pt x="69" y="418"/>
                </a:lnTo>
                <a:lnTo>
                  <a:pt x="56" y="399"/>
                </a:lnTo>
                <a:lnTo>
                  <a:pt x="42" y="378"/>
                </a:lnTo>
                <a:lnTo>
                  <a:pt x="31" y="357"/>
                </a:lnTo>
                <a:lnTo>
                  <a:pt x="23" y="332"/>
                </a:lnTo>
                <a:lnTo>
                  <a:pt x="17" y="309"/>
                </a:lnTo>
                <a:lnTo>
                  <a:pt x="13" y="282"/>
                </a:lnTo>
                <a:lnTo>
                  <a:pt x="11" y="257"/>
                </a:lnTo>
                <a:lnTo>
                  <a:pt x="13" y="230"/>
                </a:lnTo>
                <a:lnTo>
                  <a:pt x="17" y="205"/>
                </a:lnTo>
                <a:lnTo>
                  <a:pt x="23" y="180"/>
                </a:lnTo>
                <a:lnTo>
                  <a:pt x="31" y="157"/>
                </a:lnTo>
                <a:lnTo>
                  <a:pt x="42" y="134"/>
                </a:lnTo>
                <a:lnTo>
                  <a:pt x="56" y="113"/>
                </a:lnTo>
                <a:lnTo>
                  <a:pt x="69" y="94"/>
                </a:lnTo>
                <a:lnTo>
                  <a:pt x="86" y="77"/>
                </a:lnTo>
                <a:lnTo>
                  <a:pt x="104" y="60"/>
                </a:lnTo>
                <a:lnTo>
                  <a:pt x="125" y="44"/>
                </a:lnTo>
                <a:lnTo>
                  <a:pt x="146" y="33"/>
                </a:lnTo>
                <a:lnTo>
                  <a:pt x="167" y="21"/>
                </a:lnTo>
                <a:lnTo>
                  <a:pt x="190" y="14"/>
                </a:lnTo>
                <a:lnTo>
                  <a:pt x="196" y="12"/>
                </a:lnTo>
                <a:lnTo>
                  <a:pt x="196" y="10"/>
                </a:lnTo>
                <a:lnTo>
                  <a:pt x="196" y="8"/>
                </a:lnTo>
                <a:lnTo>
                  <a:pt x="198" y="8"/>
                </a:lnTo>
                <a:lnTo>
                  <a:pt x="198" y="6"/>
                </a:lnTo>
                <a:lnTo>
                  <a:pt x="198" y="4"/>
                </a:lnTo>
                <a:lnTo>
                  <a:pt x="198" y="2"/>
                </a:lnTo>
                <a:lnTo>
                  <a:pt x="198" y="2"/>
                </a:lnTo>
                <a:lnTo>
                  <a:pt x="198" y="0"/>
                </a:lnTo>
                <a:close/>
              </a:path>
            </a:pathLst>
          </a:custGeom>
          <a:solidFill>
            <a:srgbClr val="ce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Freeform 480"/>
          <p:cNvSpPr/>
          <p:nvPr/>
        </p:nvSpPr>
        <p:spPr>
          <a:xfrm>
            <a:off x="5929200" y="2844720"/>
            <a:ext cx="319320" cy="801720"/>
          </a:xfrm>
          <a:custGeom>
            <a:avLst/>
            <a:gdLst>
              <a:gd name="textAreaLeft" fmla="*/ 0 w 319320"/>
              <a:gd name="textAreaRight" fmla="*/ 319680 w 319320"/>
              <a:gd name="textAreaTop" fmla="*/ 0 h 801720"/>
              <a:gd name="textAreaBottom" fmla="*/ 802080 h 801720"/>
            </a:gdLst>
            <a:ahLst/>
            <a:rect l="textAreaLeft" t="textAreaTop" r="textAreaRight" b="textAreaBottom"/>
            <a:pathLst>
              <a:path w="201" h="505">
                <a:moveTo>
                  <a:pt x="192" y="0"/>
                </a:moveTo>
                <a:lnTo>
                  <a:pt x="184" y="2"/>
                </a:lnTo>
                <a:lnTo>
                  <a:pt x="159" y="11"/>
                </a:lnTo>
                <a:lnTo>
                  <a:pt x="136" y="21"/>
                </a:lnTo>
                <a:lnTo>
                  <a:pt x="115" y="34"/>
                </a:lnTo>
                <a:lnTo>
                  <a:pt x="96" y="50"/>
                </a:lnTo>
                <a:lnTo>
                  <a:pt x="76" y="67"/>
                </a:lnTo>
                <a:lnTo>
                  <a:pt x="59" y="84"/>
                </a:lnTo>
                <a:lnTo>
                  <a:pt x="44" y="105"/>
                </a:lnTo>
                <a:lnTo>
                  <a:pt x="32" y="127"/>
                </a:lnTo>
                <a:lnTo>
                  <a:pt x="21" y="150"/>
                </a:lnTo>
                <a:lnTo>
                  <a:pt x="11" y="173"/>
                </a:lnTo>
                <a:lnTo>
                  <a:pt x="5" y="198"/>
                </a:lnTo>
                <a:lnTo>
                  <a:pt x="2" y="224"/>
                </a:lnTo>
                <a:lnTo>
                  <a:pt x="0" y="251"/>
                </a:lnTo>
                <a:lnTo>
                  <a:pt x="2" y="278"/>
                </a:lnTo>
                <a:lnTo>
                  <a:pt x="5" y="303"/>
                </a:lnTo>
                <a:lnTo>
                  <a:pt x="11" y="328"/>
                </a:lnTo>
                <a:lnTo>
                  <a:pt x="21" y="353"/>
                </a:lnTo>
                <a:lnTo>
                  <a:pt x="32" y="376"/>
                </a:lnTo>
                <a:lnTo>
                  <a:pt x="44" y="397"/>
                </a:lnTo>
                <a:lnTo>
                  <a:pt x="59" y="416"/>
                </a:lnTo>
                <a:lnTo>
                  <a:pt x="76" y="435"/>
                </a:lnTo>
                <a:lnTo>
                  <a:pt x="96" y="453"/>
                </a:lnTo>
                <a:lnTo>
                  <a:pt x="115" y="466"/>
                </a:lnTo>
                <a:lnTo>
                  <a:pt x="136" y="480"/>
                </a:lnTo>
                <a:lnTo>
                  <a:pt x="159" y="491"/>
                </a:lnTo>
                <a:lnTo>
                  <a:pt x="184" y="501"/>
                </a:lnTo>
                <a:lnTo>
                  <a:pt x="201" y="505"/>
                </a:lnTo>
                <a:lnTo>
                  <a:pt x="201" y="503"/>
                </a:lnTo>
                <a:lnTo>
                  <a:pt x="201" y="501"/>
                </a:lnTo>
                <a:lnTo>
                  <a:pt x="201" y="501"/>
                </a:lnTo>
                <a:lnTo>
                  <a:pt x="199" y="499"/>
                </a:lnTo>
                <a:lnTo>
                  <a:pt x="199" y="497"/>
                </a:lnTo>
                <a:lnTo>
                  <a:pt x="199" y="495"/>
                </a:lnTo>
                <a:lnTo>
                  <a:pt x="199" y="495"/>
                </a:lnTo>
                <a:lnTo>
                  <a:pt x="199" y="493"/>
                </a:lnTo>
                <a:lnTo>
                  <a:pt x="186" y="489"/>
                </a:lnTo>
                <a:lnTo>
                  <a:pt x="163" y="481"/>
                </a:lnTo>
                <a:lnTo>
                  <a:pt x="142" y="470"/>
                </a:lnTo>
                <a:lnTo>
                  <a:pt x="121" y="458"/>
                </a:lnTo>
                <a:lnTo>
                  <a:pt x="101" y="443"/>
                </a:lnTo>
                <a:lnTo>
                  <a:pt x="84" y="428"/>
                </a:lnTo>
                <a:lnTo>
                  <a:pt x="69" y="410"/>
                </a:lnTo>
                <a:lnTo>
                  <a:pt x="53" y="391"/>
                </a:lnTo>
                <a:lnTo>
                  <a:pt x="40" y="370"/>
                </a:lnTo>
                <a:lnTo>
                  <a:pt x="30" y="349"/>
                </a:lnTo>
                <a:lnTo>
                  <a:pt x="23" y="326"/>
                </a:lnTo>
                <a:lnTo>
                  <a:pt x="15" y="301"/>
                </a:lnTo>
                <a:lnTo>
                  <a:pt x="11" y="276"/>
                </a:lnTo>
                <a:lnTo>
                  <a:pt x="11" y="251"/>
                </a:lnTo>
                <a:lnTo>
                  <a:pt x="11" y="224"/>
                </a:lnTo>
                <a:lnTo>
                  <a:pt x="15" y="199"/>
                </a:lnTo>
                <a:lnTo>
                  <a:pt x="23" y="176"/>
                </a:lnTo>
                <a:lnTo>
                  <a:pt x="30" y="153"/>
                </a:lnTo>
                <a:lnTo>
                  <a:pt x="40" y="132"/>
                </a:lnTo>
                <a:lnTo>
                  <a:pt x="53" y="111"/>
                </a:lnTo>
                <a:lnTo>
                  <a:pt x="69" y="92"/>
                </a:lnTo>
                <a:lnTo>
                  <a:pt x="84" y="75"/>
                </a:lnTo>
                <a:lnTo>
                  <a:pt x="101" y="57"/>
                </a:lnTo>
                <a:lnTo>
                  <a:pt x="121" y="44"/>
                </a:lnTo>
                <a:lnTo>
                  <a:pt x="142" y="31"/>
                </a:lnTo>
                <a:lnTo>
                  <a:pt x="163" y="21"/>
                </a:lnTo>
                <a:lnTo>
                  <a:pt x="186" y="11"/>
                </a:lnTo>
                <a:lnTo>
                  <a:pt x="190" y="11"/>
                </a:lnTo>
                <a:lnTo>
                  <a:pt x="190" y="9"/>
                </a:lnTo>
                <a:lnTo>
                  <a:pt x="190" y="8"/>
                </a:lnTo>
                <a:lnTo>
                  <a:pt x="190" y="8"/>
                </a:lnTo>
                <a:lnTo>
                  <a:pt x="190" y="6"/>
                </a:lnTo>
                <a:lnTo>
                  <a:pt x="190" y="4"/>
                </a:lnTo>
                <a:lnTo>
                  <a:pt x="190" y="2"/>
                </a:lnTo>
                <a:lnTo>
                  <a:pt x="192" y="2"/>
                </a:lnTo>
                <a:lnTo>
                  <a:pt x="192" y="0"/>
                </a:lnTo>
                <a:close/>
              </a:path>
            </a:pathLst>
          </a:custGeom>
          <a:solidFill>
            <a:srgbClr val="cf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Freeform 481"/>
          <p:cNvSpPr/>
          <p:nvPr/>
        </p:nvSpPr>
        <p:spPr>
          <a:xfrm>
            <a:off x="5937120" y="2854440"/>
            <a:ext cx="308160" cy="782640"/>
          </a:xfrm>
          <a:custGeom>
            <a:avLst/>
            <a:gdLst>
              <a:gd name="textAreaLeft" fmla="*/ 0 w 308160"/>
              <a:gd name="textAreaRight" fmla="*/ 308520 w 30816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194" h="493">
                <a:moveTo>
                  <a:pt x="185" y="0"/>
                </a:moveTo>
                <a:lnTo>
                  <a:pt x="179" y="2"/>
                </a:lnTo>
                <a:lnTo>
                  <a:pt x="156" y="9"/>
                </a:lnTo>
                <a:lnTo>
                  <a:pt x="135" y="21"/>
                </a:lnTo>
                <a:lnTo>
                  <a:pt x="114" y="32"/>
                </a:lnTo>
                <a:lnTo>
                  <a:pt x="93" y="48"/>
                </a:lnTo>
                <a:lnTo>
                  <a:pt x="75" y="65"/>
                </a:lnTo>
                <a:lnTo>
                  <a:pt x="58" y="82"/>
                </a:lnTo>
                <a:lnTo>
                  <a:pt x="45" y="101"/>
                </a:lnTo>
                <a:lnTo>
                  <a:pt x="31" y="122"/>
                </a:lnTo>
                <a:lnTo>
                  <a:pt x="20" y="145"/>
                </a:lnTo>
                <a:lnTo>
                  <a:pt x="12" y="168"/>
                </a:lnTo>
                <a:lnTo>
                  <a:pt x="6" y="193"/>
                </a:lnTo>
                <a:lnTo>
                  <a:pt x="2" y="218"/>
                </a:lnTo>
                <a:lnTo>
                  <a:pt x="0" y="245"/>
                </a:lnTo>
                <a:lnTo>
                  <a:pt x="2" y="270"/>
                </a:lnTo>
                <a:lnTo>
                  <a:pt x="6" y="297"/>
                </a:lnTo>
                <a:lnTo>
                  <a:pt x="12" y="320"/>
                </a:lnTo>
                <a:lnTo>
                  <a:pt x="20" y="345"/>
                </a:lnTo>
                <a:lnTo>
                  <a:pt x="31" y="366"/>
                </a:lnTo>
                <a:lnTo>
                  <a:pt x="45" y="387"/>
                </a:lnTo>
                <a:lnTo>
                  <a:pt x="58" y="406"/>
                </a:lnTo>
                <a:lnTo>
                  <a:pt x="75" y="426"/>
                </a:lnTo>
                <a:lnTo>
                  <a:pt x="93" y="443"/>
                </a:lnTo>
                <a:lnTo>
                  <a:pt x="114" y="456"/>
                </a:lnTo>
                <a:lnTo>
                  <a:pt x="135" y="470"/>
                </a:lnTo>
                <a:lnTo>
                  <a:pt x="156" y="479"/>
                </a:lnTo>
                <a:lnTo>
                  <a:pt x="179" y="489"/>
                </a:lnTo>
                <a:lnTo>
                  <a:pt x="194" y="493"/>
                </a:lnTo>
                <a:lnTo>
                  <a:pt x="194" y="491"/>
                </a:lnTo>
                <a:lnTo>
                  <a:pt x="194" y="489"/>
                </a:lnTo>
                <a:lnTo>
                  <a:pt x="194" y="489"/>
                </a:lnTo>
                <a:lnTo>
                  <a:pt x="194" y="487"/>
                </a:lnTo>
                <a:lnTo>
                  <a:pt x="194" y="485"/>
                </a:lnTo>
                <a:lnTo>
                  <a:pt x="194" y="483"/>
                </a:lnTo>
                <a:lnTo>
                  <a:pt x="192" y="483"/>
                </a:lnTo>
                <a:lnTo>
                  <a:pt x="192" y="481"/>
                </a:lnTo>
                <a:lnTo>
                  <a:pt x="183" y="479"/>
                </a:lnTo>
                <a:lnTo>
                  <a:pt x="160" y="470"/>
                </a:lnTo>
                <a:lnTo>
                  <a:pt x="139" y="460"/>
                </a:lnTo>
                <a:lnTo>
                  <a:pt x="119" y="449"/>
                </a:lnTo>
                <a:lnTo>
                  <a:pt x="100" y="433"/>
                </a:lnTo>
                <a:lnTo>
                  <a:pt x="83" y="418"/>
                </a:lnTo>
                <a:lnTo>
                  <a:pt x="68" y="401"/>
                </a:lnTo>
                <a:lnTo>
                  <a:pt x="52" y="381"/>
                </a:lnTo>
                <a:lnTo>
                  <a:pt x="41" y="362"/>
                </a:lnTo>
                <a:lnTo>
                  <a:pt x="31" y="339"/>
                </a:lnTo>
                <a:lnTo>
                  <a:pt x="22" y="318"/>
                </a:lnTo>
                <a:lnTo>
                  <a:pt x="16" y="293"/>
                </a:lnTo>
                <a:lnTo>
                  <a:pt x="12" y="270"/>
                </a:lnTo>
                <a:lnTo>
                  <a:pt x="12" y="245"/>
                </a:lnTo>
                <a:lnTo>
                  <a:pt x="12" y="220"/>
                </a:lnTo>
                <a:lnTo>
                  <a:pt x="16" y="195"/>
                </a:lnTo>
                <a:lnTo>
                  <a:pt x="22" y="172"/>
                </a:lnTo>
                <a:lnTo>
                  <a:pt x="31" y="149"/>
                </a:lnTo>
                <a:lnTo>
                  <a:pt x="41" y="128"/>
                </a:lnTo>
                <a:lnTo>
                  <a:pt x="52" y="107"/>
                </a:lnTo>
                <a:lnTo>
                  <a:pt x="68" y="90"/>
                </a:lnTo>
                <a:lnTo>
                  <a:pt x="83" y="73"/>
                </a:lnTo>
                <a:lnTo>
                  <a:pt x="100" y="55"/>
                </a:lnTo>
                <a:lnTo>
                  <a:pt x="119" y="42"/>
                </a:lnTo>
                <a:lnTo>
                  <a:pt x="139" y="30"/>
                </a:lnTo>
                <a:lnTo>
                  <a:pt x="160" y="19"/>
                </a:lnTo>
                <a:lnTo>
                  <a:pt x="183" y="11"/>
                </a:lnTo>
                <a:lnTo>
                  <a:pt x="183" y="11"/>
                </a:lnTo>
                <a:lnTo>
                  <a:pt x="183" y="9"/>
                </a:lnTo>
                <a:lnTo>
                  <a:pt x="183" y="7"/>
                </a:lnTo>
                <a:lnTo>
                  <a:pt x="185" y="7"/>
                </a:lnTo>
                <a:lnTo>
                  <a:pt x="185" y="5"/>
                </a:lnTo>
                <a:lnTo>
                  <a:pt x="185" y="3"/>
                </a:lnTo>
                <a:lnTo>
                  <a:pt x="185" y="2"/>
                </a:lnTo>
                <a:lnTo>
                  <a:pt x="185" y="2"/>
                </a:lnTo>
                <a:lnTo>
                  <a:pt x="185" y="0"/>
                </a:lnTo>
                <a:close/>
              </a:path>
            </a:pathLst>
          </a:custGeom>
          <a:solidFill>
            <a:srgbClr val="d0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Freeform 482"/>
          <p:cNvSpPr/>
          <p:nvPr/>
        </p:nvSpPr>
        <p:spPr>
          <a:xfrm>
            <a:off x="5946840" y="2862360"/>
            <a:ext cx="298440" cy="765000"/>
          </a:xfrm>
          <a:custGeom>
            <a:avLst/>
            <a:gdLst>
              <a:gd name="textAreaLeft" fmla="*/ 0 w 298440"/>
              <a:gd name="textAreaRight" fmla="*/ 298800 w 29844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188" h="482">
                <a:moveTo>
                  <a:pt x="179" y="0"/>
                </a:moveTo>
                <a:lnTo>
                  <a:pt x="175" y="0"/>
                </a:lnTo>
                <a:lnTo>
                  <a:pt x="152" y="10"/>
                </a:lnTo>
                <a:lnTo>
                  <a:pt x="131" y="20"/>
                </a:lnTo>
                <a:lnTo>
                  <a:pt x="110" y="33"/>
                </a:lnTo>
                <a:lnTo>
                  <a:pt x="90" y="46"/>
                </a:lnTo>
                <a:lnTo>
                  <a:pt x="73" y="64"/>
                </a:lnTo>
                <a:lnTo>
                  <a:pt x="58" y="81"/>
                </a:lnTo>
                <a:lnTo>
                  <a:pt x="42" y="100"/>
                </a:lnTo>
                <a:lnTo>
                  <a:pt x="29" y="121"/>
                </a:lnTo>
                <a:lnTo>
                  <a:pt x="19" y="142"/>
                </a:lnTo>
                <a:lnTo>
                  <a:pt x="12" y="165"/>
                </a:lnTo>
                <a:lnTo>
                  <a:pt x="4" y="188"/>
                </a:lnTo>
                <a:lnTo>
                  <a:pt x="0" y="213"/>
                </a:lnTo>
                <a:lnTo>
                  <a:pt x="0" y="240"/>
                </a:lnTo>
                <a:lnTo>
                  <a:pt x="0" y="265"/>
                </a:lnTo>
                <a:lnTo>
                  <a:pt x="4" y="290"/>
                </a:lnTo>
                <a:lnTo>
                  <a:pt x="12" y="315"/>
                </a:lnTo>
                <a:lnTo>
                  <a:pt x="19" y="338"/>
                </a:lnTo>
                <a:lnTo>
                  <a:pt x="29" y="359"/>
                </a:lnTo>
                <a:lnTo>
                  <a:pt x="42" y="380"/>
                </a:lnTo>
                <a:lnTo>
                  <a:pt x="58" y="399"/>
                </a:lnTo>
                <a:lnTo>
                  <a:pt x="73" y="417"/>
                </a:lnTo>
                <a:lnTo>
                  <a:pt x="90" y="432"/>
                </a:lnTo>
                <a:lnTo>
                  <a:pt x="110" y="447"/>
                </a:lnTo>
                <a:lnTo>
                  <a:pt x="131" y="459"/>
                </a:lnTo>
                <a:lnTo>
                  <a:pt x="152" y="470"/>
                </a:lnTo>
                <a:lnTo>
                  <a:pt x="175" y="478"/>
                </a:lnTo>
                <a:lnTo>
                  <a:pt x="188" y="482"/>
                </a:lnTo>
                <a:lnTo>
                  <a:pt x="188" y="480"/>
                </a:lnTo>
                <a:lnTo>
                  <a:pt x="188" y="478"/>
                </a:lnTo>
                <a:lnTo>
                  <a:pt x="186" y="478"/>
                </a:lnTo>
                <a:lnTo>
                  <a:pt x="186" y="476"/>
                </a:lnTo>
                <a:lnTo>
                  <a:pt x="186" y="474"/>
                </a:lnTo>
                <a:lnTo>
                  <a:pt x="186" y="472"/>
                </a:lnTo>
                <a:lnTo>
                  <a:pt x="186" y="472"/>
                </a:lnTo>
                <a:lnTo>
                  <a:pt x="186" y="470"/>
                </a:lnTo>
                <a:lnTo>
                  <a:pt x="179" y="469"/>
                </a:lnTo>
                <a:lnTo>
                  <a:pt x="158" y="461"/>
                </a:lnTo>
                <a:lnTo>
                  <a:pt x="136" y="451"/>
                </a:lnTo>
                <a:lnTo>
                  <a:pt x="115" y="438"/>
                </a:lnTo>
                <a:lnTo>
                  <a:pt x="98" y="424"/>
                </a:lnTo>
                <a:lnTo>
                  <a:pt x="81" y="409"/>
                </a:lnTo>
                <a:lnTo>
                  <a:pt x="65" y="392"/>
                </a:lnTo>
                <a:lnTo>
                  <a:pt x="52" y="375"/>
                </a:lnTo>
                <a:lnTo>
                  <a:pt x="39" y="353"/>
                </a:lnTo>
                <a:lnTo>
                  <a:pt x="29" y="332"/>
                </a:lnTo>
                <a:lnTo>
                  <a:pt x="21" y="311"/>
                </a:lnTo>
                <a:lnTo>
                  <a:pt x="16" y="288"/>
                </a:lnTo>
                <a:lnTo>
                  <a:pt x="12" y="265"/>
                </a:lnTo>
                <a:lnTo>
                  <a:pt x="10" y="240"/>
                </a:lnTo>
                <a:lnTo>
                  <a:pt x="12" y="215"/>
                </a:lnTo>
                <a:lnTo>
                  <a:pt x="16" y="192"/>
                </a:lnTo>
                <a:lnTo>
                  <a:pt x="21" y="169"/>
                </a:lnTo>
                <a:lnTo>
                  <a:pt x="29" y="146"/>
                </a:lnTo>
                <a:lnTo>
                  <a:pt x="39" y="125"/>
                </a:lnTo>
                <a:lnTo>
                  <a:pt x="52" y="106"/>
                </a:lnTo>
                <a:lnTo>
                  <a:pt x="65" y="87"/>
                </a:lnTo>
                <a:lnTo>
                  <a:pt x="81" y="69"/>
                </a:lnTo>
                <a:lnTo>
                  <a:pt x="98" y="54"/>
                </a:lnTo>
                <a:lnTo>
                  <a:pt x="115" y="41"/>
                </a:lnTo>
                <a:lnTo>
                  <a:pt x="136" y="29"/>
                </a:lnTo>
                <a:lnTo>
                  <a:pt x="158" y="20"/>
                </a:lnTo>
                <a:lnTo>
                  <a:pt x="177" y="12"/>
                </a:lnTo>
                <a:lnTo>
                  <a:pt x="177" y="10"/>
                </a:lnTo>
                <a:lnTo>
                  <a:pt x="177" y="8"/>
                </a:lnTo>
                <a:lnTo>
                  <a:pt x="177" y="8"/>
                </a:lnTo>
                <a:lnTo>
                  <a:pt x="177" y="6"/>
                </a:lnTo>
                <a:lnTo>
                  <a:pt x="177" y="4"/>
                </a:lnTo>
                <a:lnTo>
                  <a:pt x="177" y="2"/>
                </a:lnTo>
                <a:lnTo>
                  <a:pt x="179" y="2"/>
                </a:lnTo>
                <a:lnTo>
                  <a:pt x="179" y="0"/>
                </a:lnTo>
                <a:close/>
              </a:path>
            </a:pathLst>
          </a:custGeom>
          <a:solidFill>
            <a:srgbClr val="d1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Freeform 483"/>
          <p:cNvSpPr/>
          <p:nvPr/>
        </p:nvSpPr>
        <p:spPr>
          <a:xfrm>
            <a:off x="5956200" y="2871720"/>
            <a:ext cx="285840" cy="746280"/>
          </a:xfrm>
          <a:custGeom>
            <a:avLst/>
            <a:gdLst>
              <a:gd name="textAreaLeft" fmla="*/ 0 w 285840"/>
              <a:gd name="textAreaRight" fmla="*/ 286200 w 28584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180" h="470">
                <a:moveTo>
                  <a:pt x="171" y="0"/>
                </a:moveTo>
                <a:lnTo>
                  <a:pt x="171" y="0"/>
                </a:lnTo>
                <a:lnTo>
                  <a:pt x="148" y="8"/>
                </a:lnTo>
                <a:lnTo>
                  <a:pt x="127" y="19"/>
                </a:lnTo>
                <a:lnTo>
                  <a:pt x="107" y="31"/>
                </a:lnTo>
                <a:lnTo>
                  <a:pt x="88" y="44"/>
                </a:lnTo>
                <a:lnTo>
                  <a:pt x="71" y="62"/>
                </a:lnTo>
                <a:lnTo>
                  <a:pt x="56" y="79"/>
                </a:lnTo>
                <a:lnTo>
                  <a:pt x="40" y="96"/>
                </a:lnTo>
                <a:lnTo>
                  <a:pt x="29" y="117"/>
                </a:lnTo>
                <a:lnTo>
                  <a:pt x="19" y="138"/>
                </a:lnTo>
                <a:lnTo>
                  <a:pt x="10" y="161"/>
                </a:lnTo>
                <a:lnTo>
                  <a:pt x="4" y="184"/>
                </a:lnTo>
                <a:lnTo>
                  <a:pt x="0" y="209"/>
                </a:lnTo>
                <a:lnTo>
                  <a:pt x="0" y="234"/>
                </a:lnTo>
                <a:lnTo>
                  <a:pt x="0" y="259"/>
                </a:lnTo>
                <a:lnTo>
                  <a:pt x="4" y="282"/>
                </a:lnTo>
                <a:lnTo>
                  <a:pt x="10" y="307"/>
                </a:lnTo>
                <a:lnTo>
                  <a:pt x="19" y="328"/>
                </a:lnTo>
                <a:lnTo>
                  <a:pt x="29" y="351"/>
                </a:lnTo>
                <a:lnTo>
                  <a:pt x="40" y="370"/>
                </a:lnTo>
                <a:lnTo>
                  <a:pt x="56" y="390"/>
                </a:lnTo>
                <a:lnTo>
                  <a:pt x="71" y="407"/>
                </a:lnTo>
                <a:lnTo>
                  <a:pt x="88" y="422"/>
                </a:lnTo>
                <a:lnTo>
                  <a:pt x="107" y="438"/>
                </a:lnTo>
                <a:lnTo>
                  <a:pt x="127" y="449"/>
                </a:lnTo>
                <a:lnTo>
                  <a:pt x="148" y="459"/>
                </a:lnTo>
                <a:lnTo>
                  <a:pt x="171" y="468"/>
                </a:lnTo>
                <a:lnTo>
                  <a:pt x="180" y="470"/>
                </a:lnTo>
                <a:lnTo>
                  <a:pt x="180" y="468"/>
                </a:lnTo>
                <a:lnTo>
                  <a:pt x="180" y="466"/>
                </a:lnTo>
                <a:lnTo>
                  <a:pt x="180" y="466"/>
                </a:lnTo>
                <a:lnTo>
                  <a:pt x="180" y="464"/>
                </a:lnTo>
                <a:lnTo>
                  <a:pt x="180" y="463"/>
                </a:lnTo>
                <a:lnTo>
                  <a:pt x="178" y="461"/>
                </a:lnTo>
                <a:lnTo>
                  <a:pt x="178" y="461"/>
                </a:lnTo>
                <a:lnTo>
                  <a:pt x="178" y="459"/>
                </a:lnTo>
                <a:lnTo>
                  <a:pt x="175" y="457"/>
                </a:lnTo>
                <a:lnTo>
                  <a:pt x="153" y="449"/>
                </a:lnTo>
                <a:lnTo>
                  <a:pt x="132" y="440"/>
                </a:lnTo>
                <a:lnTo>
                  <a:pt x="113" y="428"/>
                </a:lnTo>
                <a:lnTo>
                  <a:pt x="94" y="415"/>
                </a:lnTo>
                <a:lnTo>
                  <a:pt x="79" y="399"/>
                </a:lnTo>
                <a:lnTo>
                  <a:pt x="63" y="382"/>
                </a:lnTo>
                <a:lnTo>
                  <a:pt x="50" y="365"/>
                </a:lnTo>
                <a:lnTo>
                  <a:pt x="38" y="346"/>
                </a:lnTo>
                <a:lnTo>
                  <a:pt x="29" y="324"/>
                </a:lnTo>
                <a:lnTo>
                  <a:pt x="21" y="303"/>
                </a:lnTo>
                <a:lnTo>
                  <a:pt x="15" y="280"/>
                </a:lnTo>
                <a:lnTo>
                  <a:pt x="11" y="257"/>
                </a:lnTo>
                <a:lnTo>
                  <a:pt x="10" y="234"/>
                </a:lnTo>
                <a:lnTo>
                  <a:pt x="11" y="209"/>
                </a:lnTo>
                <a:lnTo>
                  <a:pt x="15" y="186"/>
                </a:lnTo>
                <a:lnTo>
                  <a:pt x="21" y="163"/>
                </a:lnTo>
                <a:lnTo>
                  <a:pt x="29" y="142"/>
                </a:lnTo>
                <a:lnTo>
                  <a:pt x="38" y="123"/>
                </a:lnTo>
                <a:lnTo>
                  <a:pt x="50" y="104"/>
                </a:lnTo>
                <a:lnTo>
                  <a:pt x="63" y="85"/>
                </a:lnTo>
                <a:lnTo>
                  <a:pt x="79" y="67"/>
                </a:lnTo>
                <a:lnTo>
                  <a:pt x="94" y="54"/>
                </a:lnTo>
                <a:lnTo>
                  <a:pt x="113" y="40"/>
                </a:lnTo>
                <a:lnTo>
                  <a:pt x="132" y="27"/>
                </a:lnTo>
                <a:lnTo>
                  <a:pt x="153" y="17"/>
                </a:lnTo>
                <a:lnTo>
                  <a:pt x="169" y="12"/>
                </a:lnTo>
                <a:lnTo>
                  <a:pt x="169" y="10"/>
                </a:lnTo>
                <a:lnTo>
                  <a:pt x="171" y="10"/>
                </a:lnTo>
                <a:lnTo>
                  <a:pt x="171" y="8"/>
                </a:lnTo>
                <a:lnTo>
                  <a:pt x="171" y="6"/>
                </a:lnTo>
                <a:lnTo>
                  <a:pt x="171" y="4"/>
                </a:lnTo>
                <a:lnTo>
                  <a:pt x="171" y="2"/>
                </a:lnTo>
                <a:lnTo>
                  <a:pt x="171" y="2"/>
                </a:lnTo>
                <a:lnTo>
                  <a:pt x="171" y="0"/>
                </a:lnTo>
                <a:close/>
              </a:path>
            </a:pathLst>
          </a:custGeom>
          <a:solidFill>
            <a:srgbClr val="d2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Freeform 484"/>
          <p:cNvSpPr/>
          <p:nvPr/>
        </p:nvSpPr>
        <p:spPr>
          <a:xfrm>
            <a:off x="5962680" y="2881440"/>
            <a:ext cx="279360" cy="726840"/>
          </a:xfrm>
          <a:custGeom>
            <a:avLst/>
            <a:gdLst>
              <a:gd name="textAreaLeft" fmla="*/ 0 w 279360"/>
              <a:gd name="textAreaRight" fmla="*/ 279720 w 279360"/>
              <a:gd name="textAreaTop" fmla="*/ 0 h 726840"/>
              <a:gd name="textAreaBottom" fmla="*/ 727200 h 726840"/>
            </a:gdLst>
            <a:ahLst/>
            <a:rect l="textAreaLeft" t="textAreaTop" r="textAreaRight" b="textAreaBottom"/>
            <a:pathLst>
              <a:path w="176" h="458">
                <a:moveTo>
                  <a:pt x="167" y="0"/>
                </a:moveTo>
                <a:lnTo>
                  <a:pt x="148" y="8"/>
                </a:lnTo>
                <a:lnTo>
                  <a:pt x="126" y="17"/>
                </a:lnTo>
                <a:lnTo>
                  <a:pt x="105" y="29"/>
                </a:lnTo>
                <a:lnTo>
                  <a:pt x="88" y="42"/>
                </a:lnTo>
                <a:lnTo>
                  <a:pt x="71" y="57"/>
                </a:lnTo>
                <a:lnTo>
                  <a:pt x="55" y="75"/>
                </a:lnTo>
                <a:lnTo>
                  <a:pt x="42" y="94"/>
                </a:lnTo>
                <a:lnTo>
                  <a:pt x="29" y="113"/>
                </a:lnTo>
                <a:lnTo>
                  <a:pt x="19" y="134"/>
                </a:lnTo>
                <a:lnTo>
                  <a:pt x="11" y="157"/>
                </a:lnTo>
                <a:lnTo>
                  <a:pt x="6" y="180"/>
                </a:lnTo>
                <a:lnTo>
                  <a:pt x="2" y="203"/>
                </a:lnTo>
                <a:lnTo>
                  <a:pt x="0" y="228"/>
                </a:lnTo>
                <a:lnTo>
                  <a:pt x="2" y="253"/>
                </a:lnTo>
                <a:lnTo>
                  <a:pt x="6" y="276"/>
                </a:lnTo>
                <a:lnTo>
                  <a:pt x="11" y="299"/>
                </a:lnTo>
                <a:lnTo>
                  <a:pt x="19" y="320"/>
                </a:lnTo>
                <a:lnTo>
                  <a:pt x="29" y="341"/>
                </a:lnTo>
                <a:lnTo>
                  <a:pt x="42" y="363"/>
                </a:lnTo>
                <a:lnTo>
                  <a:pt x="55" y="380"/>
                </a:lnTo>
                <a:lnTo>
                  <a:pt x="71" y="397"/>
                </a:lnTo>
                <a:lnTo>
                  <a:pt x="88" y="412"/>
                </a:lnTo>
                <a:lnTo>
                  <a:pt x="105" y="426"/>
                </a:lnTo>
                <a:lnTo>
                  <a:pt x="126" y="439"/>
                </a:lnTo>
                <a:lnTo>
                  <a:pt x="148" y="449"/>
                </a:lnTo>
                <a:lnTo>
                  <a:pt x="169" y="457"/>
                </a:lnTo>
                <a:lnTo>
                  <a:pt x="176" y="458"/>
                </a:lnTo>
                <a:lnTo>
                  <a:pt x="176" y="457"/>
                </a:lnTo>
                <a:lnTo>
                  <a:pt x="174" y="455"/>
                </a:lnTo>
                <a:lnTo>
                  <a:pt x="174" y="455"/>
                </a:lnTo>
                <a:lnTo>
                  <a:pt x="174" y="453"/>
                </a:lnTo>
                <a:lnTo>
                  <a:pt x="174" y="451"/>
                </a:lnTo>
                <a:lnTo>
                  <a:pt x="174" y="449"/>
                </a:lnTo>
                <a:lnTo>
                  <a:pt x="174" y="449"/>
                </a:lnTo>
                <a:lnTo>
                  <a:pt x="174" y="447"/>
                </a:lnTo>
                <a:lnTo>
                  <a:pt x="173" y="447"/>
                </a:lnTo>
                <a:lnTo>
                  <a:pt x="151" y="439"/>
                </a:lnTo>
                <a:lnTo>
                  <a:pt x="130" y="430"/>
                </a:lnTo>
                <a:lnTo>
                  <a:pt x="111" y="418"/>
                </a:lnTo>
                <a:lnTo>
                  <a:pt x="94" y="405"/>
                </a:lnTo>
                <a:lnTo>
                  <a:pt x="78" y="389"/>
                </a:lnTo>
                <a:lnTo>
                  <a:pt x="63" y="374"/>
                </a:lnTo>
                <a:lnTo>
                  <a:pt x="50" y="355"/>
                </a:lnTo>
                <a:lnTo>
                  <a:pt x="38" y="338"/>
                </a:lnTo>
                <a:lnTo>
                  <a:pt x="29" y="316"/>
                </a:lnTo>
                <a:lnTo>
                  <a:pt x="21" y="295"/>
                </a:lnTo>
                <a:lnTo>
                  <a:pt x="15" y="274"/>
                </a:lnTo>
                <a:lnTo>
                  <a:pt x="11" y="251"/>
                </a:lnTo>
                <a:lnTo>
                  <a:pt x="11" y="228"/>
                </a:lnTo>
                <a:lnTo>
                  <a:pt x="11" y="205"/>
                </a:lnTo>
                <a:lnTo>
                  <a:pt x="15" y="182"/>
                </a:lnTo>
                <a:lnTo>
                  <a:pt x="21" y="159"/>
                </a:lnTo>
                <a:lnTo>
                  <a:pt x="29" y="138"/>
                </a:lnTo>
                <a:lnTo>
                  <a:pt x="38" y="119"/>
                </a:lnTo>
                <a:lnTo>
                  <a:pt x="50" y="100"/>
                </a:lnTo>
                <a:lnTo>
                  <a:pt x="63" y="82"/>
                </a:lnTo>
                <a:lnTo>
                  <a:pt x="78" y="65"/>
                </a:lnTo>
                <a:lnTo>
                  <a:pt x="94" y="52"/>
                </a:lnTo>
                <a:lnTo>
                  <a:pt x="111" y="38"/>
                </a:lnTo>
                <a:lnTo>
                  <a:pt x="130" y="27"/>
                </a:lnTo>
                <a:lnTo>
                  <a:pt x="151" y="17"/>
                </a:lnTo>
                <a:lnTo>
                  <a:pt x="165" y="11"/>
                </a:lnTo>
                <a:lnTo>
                  <a:pt x="165" y="10"/>
                </a:lnTo>
                <a:lnTo>
                  <a:pt x="165" y="10"/>
                </a:lnTo>
                <a:lnTo>
                  <a:pt x="165" y="8"/>
                </a:lnTo>
                <a:lnTo>
                  <a:pt x="165" y="6"/>
                </a:lnTo>
                <a:lnTo>
                  <a:pt x="165" y="4"/>
                </a:lnTo>
                <a:lnTo>
                  <a:pt x="167" y="4"/>
                </a:lnTo>
                <a:lnTo>
                  <a:pt x="167" y="2"/>
                </a:lnTo>
                <a:lnTo>
                  <a:pt x="167" y="0"/>
                </a:lnTo>
                <a:close/>
              </a:path>
            </a:pathLst>
          </a:custGeom>
          <a:solidFill>
            <a:srgbClr val="d3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Freeform 485"/>
          <p:cNvSpPr/>
          <p:nvPr/>
        </p:nvSpPr>
        <p:spPr>
          <a:xfrm>
            <a:off x="5972040" y="2890800"/>
            <a:ext cx="266760" cy="709560"/>
          </a:xfrm>
          <a:custGeom>
            <a:avLst/>
            <a:gdLst>
              <a:gd name="textAreaLeft" fmla="*/ 0 w 266760"/>
              <a:gd name="textAreaRight" fmla="*/ 267120 w 26676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68" h="447">
                <a:moveTo>
                  <a:pt x="159" y="0"/>
                </a:moveTo>
                <a:lnTo>
                  <a:pt x="143" y="5"/>
                </a:lnTo>
                <a:lnTo>
                  <a:pt x="122" y="15"/>
                </a:lnTo>
                <a:lnTo>
                  <a:pt x="103" y="28"/>
                </a:lnTo>
                <a:lnTo>
                  <a:pt x="84" y="42"/>
                </a:lnTo>
                <a:lnTo>
                  <a:pt x="69" y="55"/>
                </a:lnTo>
                <a:lnTo>
                  <a:pt x="53" y="73"/>
                </a:lnTo>
                <a:lnTo>
                  <a:pt x="40" y="92"/>
                </a:lnTo>
                <a:lnTo>
                  <a:pt x="28" y="111"/>
                </a:lnTo>
                <a:lnTo>
                  <a:pt x="19" y="130"/>
                </a:lnTo>
                <a:lnTo>
                  <a:pt x="11" y="151"/>
                </a:lnTo>
                <a:lnTo>
                  <a:pt x="5" y="174"/>
                </a:lnTo>
                <a:lnTo>
                  <a:pt x="1" y="197"/>
                </a:lnTo>
                <a:lnTo>
                  <a:pt x="0" y="222"/>
                </a:lnTo>
                <a:lnTo>
                  <a:pt x="1" y="245"/>
                </a:lnTo>
                <a:lnTo>
                  <a:pt x="5" y="268"/>
                </a:lnTo>
                <a:lnTo>
                  <a:pt x="11" y="291"/>
                </a:lnTo>
                <a:lnTo>
                  <a:pt x="19" y="312"/>
                </a:lnTo>
                <a:lnTo>
                  <a:pt x="28" y="334"/>
                </a:lnTo>
                <a:lnTo>
                  <a:pt x="40" y="353"/>
                </a:lnTo>
                <a:lnTo>
                  <a:pt x="53" y="370"/>
                </a:lnTo>
                <a:lnTo>
                  <a:pt x="69" y="387"/>
                </a:lnTo>
                <a:lnTo>
                  <a:pt x="84" y="403"/>
                </a:lnTo>
                <a:lnTo>
                  <a:pt x="103" y="416"/>
                </a:lnTo>
                <a:lnTo>
                  <a:pt x="122" y="428"/>
                </a:lnTo>
                <a:lnTo>
                  <a:pt x="143" y="437"/>
                </a:lnTo>
                <a:lnTo>
                  <a:pt x="165" y="445"/>
                </a:lnTo>
                <a:lnTo>
                  <a:pt x="168" y="447"/>
                </a:lnTo>
                <a:lnTo>
                  <a:pt x="168" y="445"/>
                </a:lnTo>
                <a:lnTo>
                  <a:pt x="168" y="443"/>
                </a:lnTo>
                <a:lnTo>
                  <a:pt x="168" y="443"/>
                </a:lnTo>
                <a:lnTo>
                  <a:pt x="168" y="441"/>
                </a:lnTo>
                <a:lnTo>
                  <a:pt x="167" y="439"/>
                </a:lnTo>
                <a:lnTo>
                  <a:pt x="167" y="437"/>
                </a:lnTo>
                <a:lnTo>
                  <a:pt x="167" y="437"/>
                </a:lnTo>
                <a:lnTo>
                  <a:pt x="167" y="435"/>
                </a:lnTo>
                <a:lnTo>
                  <a:pt x="147" y="428"/>
                </a:lnTo>
                <a:lnTo>
                  <a:pt x="128" y="418"/>
                </a:lnTo>
                <a:lnTo>
                  <a:pt x="109" y="406"/>
                </a:lnTo>
                <a:lnTo>
                  <a:pt x="92" y="395"/>
                </a:lnTo>
                <a:lnTo>
                  <a:pt x="76" y="380"/>
                </a:lnTo>
                <a:lnTo>
                  <a:pt x="61" y="364"/>
                </a:lnTo>
                <a:lnTo>
                  <a:pt x="48" y="347"/>
                </a:lnTo>
                <a:lnTo>
                  <a:pt x="38" y="328"/>
                </a:lnTo>
                <a:lnTo>
                  <a:pt x="28" y="309"/>
                </a:lnTo>
                <a:lnTo>
                  <a:pt x="21" y="287"/>
                </a:lnTo>
                <a:lnTo>
                  <a:pt x="15" y="266"/>
                </a:lnTo>
                <a:lnTo>
                  <a:pt x="11" y="245"/>
                </a:lnTo>
                <a:lnTo>
                  <a:pt x="11" y="222"/>
                </a:lnTo>
                <a:lnTo>
                  <a:pt x="11" y="199"/>
                </a:lnTo>
                <a:lnTo>
                  <a:pt x="15" y="176"/>
                </a:lnTo>
                <a:lnTo>
                  <a:pt x="21" y="155"/>
                </a:lnTo>
                <a:lnTo>
                  <a:pt x="28" y="134"/>
                </a:lnTo>
                <a:lnTo>
                  <a:pt x="38" y="115"/>
                </a:lnTo>
                <a:lnTo>
                  <a:pt x="48" y="98"/>
                </a:lnTo>
                <a:lnTo>
                  <a:pt x="61" y="80"/>
                </a:lnTo>
                <a:lnTo>
                  <a:pt x="76" y="63"/>
                </a:lnTo>
                <a:lnTo>
                  <a:pt x="92" y="50"/>
                </a:lnTo>
                <a:lnTo>
                  <a:pt x="109" y="36"/>
                </a:lnTo>
                <a:lnTo>
                  <a:pt x="128" y="25"/>
                </a:lnTo>
                <a:lnTo>
                  <a:pt x="147" y="15"/>
                </a:lnTo>
                <a:lnTo>
                  <a:pt x="157" y="11"/>
                </a:lnTo>
                <a:lnTo>
                  <a:pt x="159" y="11"/>
                </a:lnTo>
                <a:lnTo>
                  <a:pt x="159" y="9"/>
                </a:lnTo>
                <a:lnTo>
                  <a:pt x="159" y="7"/>
                </a:lnTo>
                <a:lnTo>
                  <a:pt x="159" y="5"/>
                </a:lnTo>
                <a:lnTo>
                  <a:pt x="159" y="4"/>
                </a:lnTo>
                <a:lnTo>
                  <a:pt x="159" y="4"/>
                </a:lnTo>
                <a:lnTo>
                  <a:pt x="159" y="2"/>
                </a:lnTo>
                <a:lnTo>
                  <a:pt x="159" y="0"/>
                </a:lnTo>
                <a:close/>
              </a:path>
            </a:pathLst>
          </a:custGeom>
          <a:solidFill>
            <a:srgbClr val="d4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Freeform 486"/>
          <p:cNvSpPr/>
          <p:nvPr/>
        </p:nvSpPr>
        <p:spPr>
          <a:xfrm>
            <a:off x="5979960" y="2898720"/>
            <a:ext cx="258840" cy="692280"/>
          </a:xfrm>
          <a:custGeom>
            <a:avLst/>
            <a:gdLst>
              <a:gd name="textAreaLeft" fmla="*/ 0 w 258840"/>
              <a:gd name="textAreaRight" fmla="*/ 259200 w 2588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163" h="436">
                <a:moveTo>
                  <a:pt x="154" y="0"/>
                </a:moveTo>
                <a:lnTo>
                  <a:pt x="140" y="6"/>
                </a:lnTo>
                <a:lnTo>
                  <a:pt x="119" y="16"/>
                </a:lnTo>
                <a:lnTo>
                  <a:pt x="100" y="27"/>
                </a:lnTo>
                <a:lnTo>
                  <a:pt x="83" y="41"/>
                </a:lnTo>
                <a:lnTo>
                  <a:pt x="67" y="54"/>
                </a:lnTo>
                <a:lnTo>
                  <a:pt x="52" y="71"/>
                </a:lnTo>
                <a:lnTo>
                  <a:pt x="39" y="89"/>
                </a:lnTo>
                <a:lnTo>
                  <a:pt x="27" y="108"/>
                </a:lnTo>
                <a:lnTo>
                  <a:pt x="18" y="127"/>
                </a:lnTo>
                <a:lnTo>
                  <a:pt x="10" y="148"/>
                </a:lnTo>
                <a:lnTo>
                  <a:pt x="4" y="171"/>
                </a:lnTo>
                <a:lnTo>
                  <a:pt x="0" y="194"/>
                </a:lnTo>
                <a:lnTo>
                  <a:pt x="0" y="217"/>
                </a:lnTo>
                <a:lnTo>
                  <a:pt x="0" y="240"/>
                </a:lnTo>
                <a:lnTo>
                  <a:pt x="4" y="263"/>
                </a:lnTo>
                <a:lnTo>
                  <a:pt x="10" y="284"/>
                </a:lnTo>
                <a:lnTo>
                  <a:pt x="18" y="305"/>
                </a:lnTo>
                <a:lnTo>
                  <a:pt x="27" y="327"/>
                </a:lnTo>
                <a:lnTo>
                  <a:pt x="39" y="344"/>
                </a:lnTo>
                <a:lnTo>
                  <a:pt x="52" y="363"/>
                </a:lnTo>
                <a:lnTo>
                  <a:pt x="67" y="378"/>
                </a:lnTo>
                <a:lnTo>
                  <a:pt x="83" y="394"/>
                </a:lnTo>
                <a:lnTo>
                  <a:pt x="100" y="407"/>
                </a:lnTo>
                <a:lnTo>
                  <a:pt x="119" y="419"/>
                </a:lnTo>
                <a:lnTo>
                  <a:pt x="140" y="428"/>
                </a:lnTo>
                <a:lnTo>
                  <a:pt x="162" y="436"/>
                </a:lnTo>
                <a:lnTo>
                  <a:pt x="163" y="436"/>
                </a:lnTo>
                <a:lnTo>
                  <a:pt x="162" y="434"/>
                </a:lnTo>
                <a:lnTo>
                  <a:pt x="162" y="432"/>
                </a:lnTo>
                <a:lnTo>
                  <a:pt x="162" y="432"/>
                </a:lnTo>
                <a:lnTo>
                  <a:pt x="162" y="430"/>
                </a:lnTo>
                <a:lnTo>
                  <a:pt x="162" y="428"/>
                </a:lnTo>
                <a:lnTo>
                  <a:pt x="162" y="426"/>
                </a:lnTo>
                <a:lnTo>
                  <a:pt x="162" y="426"/>
                </a:lnTo>
                <a:lnTo>
                  <a:pt x="160" y="424"/>
                </a:lnTo>
                <a:lnTo>
                  <a:pt x="144" y="419"/>
                </a:lnTo>
                <a:lnTo>
                  <a:pt x="125" y="409"/>
                </a:lnTo>
                <a:lnTo>
                  <a:pt x="108" y="398"/>
                </a:lnTo>
                <a:lnTo>
                  <a:pt x="91" y="386"/>
                </a:lnTo>
                <a:lnTo>
                  <a:pt x="75" y="371"/>
                </a:lnTo>
                <a:lnTo>
                  <a:pt x="60" y="355"/>
                </a:lnTo>
                <a:lnTo>
                  <a:pt x="48" y="338"/>
                </a:lnTo>
                <a:lnTo>
                  <a:pt x="37" y="321"/>
                </a:lnTo>
                <a:lnTo>
                  <a:pt x="27" y="302"/>
                </a:lnTo>
                <a:lnTo>
                  <a:pt x="19" y="282"/>
                </a:lnTo>
                <a:lnTo>
                  <a:pt x="16" y="261"/>
                </a:lnTo>
                <a:lnTo>
                  <a:pt x="12" y="238"/>
                </a:lnTo>
                <a:lnTo>
                  <a:pt x="10" y="217"/>
                </a:lnTo>
                <a:lnTo>
                  <a:pt x="12" y="194"/>
                </a:lnTo>
                <a:lnTo>
                  <a:pt x="16" y="173"/>
                </a:lnTo>
                <a:lnTo>
                  <a:pt x="19" y="152"/>
                </a:lnTo>
                <a:lnTo>
                  <a:pt x="27" y="131"/>
                </a:lnTo>
                <a:lnTo>
                  <a:pt x="37" y="114"/>
                </a:lnTo>
                <a:lnTo>
                  <a:pt x="48" y="94"/>
                </a:lnTo>
                <a:lnTo>
                  <a:pt x="60" y="77"/>
                </a:lnTo>
                <a:lnTo>
                  <a:pt x="75" y="62"/>
                </a:lnTo>
                <a:lnTo>
                  <a:pt x="91" y="48"/>
                </a:lnTo>
                <a:lnTo>
                  <a:pt x="108" y="35"/>
                </a:lnTo>
                <a:lnTo>
                  <a:pt x="125" y="25"/>
                </a:lnTo>
                <a:lnTo>
                  <a:pt x="144" y="16"/>
                </a:lnTo>
                <a:lnTo>
                  <a:pt x="152" y="12"/>
                </a:lnTo>
                <a:lnTo>
                  <a:pt x="152" y="12"/>
                </a:lnTo>
                <a:lnTo>
                  <a:pt x="152" y="10"/>
                </a:lnTo>
                <a:lnTo>
                  <a:pt x="152" y="8"/>
                </a:lnTo>
                <a:lnTo>
                  <a:pt x="152" y="6"/>
                </a:lnTo>
                <a:lnTo>
                  <a:pt x="154" y="6"/>
                </a:lnTo>
                <a:lnTo>
                  <a:pt x="154" y="4"/>
                </a:lnTo>
                <a:lnTo>
                  <a:pt x="154" y="2"/>
                </a:lnTo>
                <a:lnTo>
                  <a:pt x="154" y="0"/>
                </a:lnTo>
                <a:close/>
              </a:path>
            </a:pathLst>
          </a:cu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Freeform 487"/>
          <p:cNvSpPr/>
          <p:nvPr/>
        </p:nvSpPr>
        <p:spPr>
          <a:xfrm>
            <a:off x="5989680" y="2908440"/>
            <a:ext cx="247680" cy="672840"/>
          </a:xfrm>
          <a:custGeom>
            <a:avLst/>
            <a:gdLst>
              <a:gd name="textAreaLeft" fmla="*/ 0 w 247680"/>
              <a:gd name="textAreaRight" fmla="*/ 248040 w 247680"/>
              <a:gd name="textAreaTop" fmla="*/ 0 h 672840"/>
              <a:gd name="textAreaBottom" fmla="*/ 672840 h 672840"/>
            </a:gdLst>
            <a:ahLst/>
            <a:rect l="textAreaLeft" t="textAreaTop" r="textAreaRight" b="textAreaBottom"/>
            <a:pathLst>
              <a:path w="156" h="424">
                <a:moveTo>
                  <a:pt x="146" y="0"/>
                </a:moveTo>
                <a:lnTo>
                  <a:pt x="136" y="4"/>
                </a:lnTo>
                <a:lnTo>
                  <a:pt x="117" y="14"/>
                </a:lnTo>
                <a:lnTo>
                  <a:pt x="98" y="25"/>
                </a:lnTo>
                <a:lnTo>
                  <a:pt x="81" y="39"/>
                </a:lnTo>
                <a:lnTo>
                  <a:pt x="65" y="52"/>
                </a:lnTo>
                <a:lnTo>
                  <a:pt x="50" y="69"/>
                </a:lnTo>
                <a:lnTo>
                  <a:pt x="37" y="87"/>
                </a:lnTo>
                <a:lnTo>
                  <a:pt x="27" y="104"/>
                </a:lnTo>
                <a:lnTo>
                  <a:pt x="17" y="123"/>
                </a:lnTo>
                <a:lnTo>
                  <a:pt x="10" y="144"/>
                </a:lnTo>
                <a:lnTo>
                  <a:pt x="4" y="165"/>
                </a:lnTo>
                <a:lnTo>
                  <a:pt x="0" y="188"/>
                </a:lnTo>
                <a:lnTo>
                  <a:pt x="0" y="211"/>
                </a:lnTo>
                <a:lnTo>
                  <a:pt x="0" y="234"/>
                </a:lnTo>
                <a:lnTo>
                  <a:pt x="4" y="255"/>
                </a:lnTo>
                <a:lnTo>
                  <a:pt x="10" y="276"/>
                </a:lnTo>
                <a:lnTo>
                  <a:pt x="17" y="298"/>
                </a:lnTo>
                <a:lnTo>
                  <a:pt x="27" y="317"/>
                </a:lnTo>
                <a:lnTo>
                  <a:pt x="37" y="336"/>
                </a:lnTo>
                <a:lnTo>
                  <a:pt x="50" y="353"/>
                </a:lnTo>
                <a:lnTo>
                  <a:pt x="65" y="369"/>
                </a:lnTo>
                <a:lnTo>
                  <a:pt x="81" y="384"/>
                </a:lnTo>
                <a:lnTo>
                  <a:pt x="98" y="395"/>
                </a:lnTo>
                <a:lnTo>
                  <a:pt x="117" y="407"/>
                </a:lnTo>
                <a:lnTo>
                  <a:pt x="136" y="417"/>
                </a:lnTo>
                <a:lnTo>
                  <a:pt x="156" y="424"/>
                </a:lnTo>
                <a:lnTo>
                  <a:pt x="156" y="422"/>
                </a:lnTo>
                <a:lnTo>
                  <a:pt x="156" y="420"/>
                </a:lnTo>
                <a:lnTo>
                  <a:pt x="156" y="420"/>
                </a:lnTo>
                <a:lnTo>
                  <a:pt x="154" y="418"/>
                </a:lnTo>
                <a:lnTo>
                  <a:pt x="154" y="417"/>
                </a:lnTo>
                <a:lnTo>
                  <a:pt x="154" y="415"/>
                </a:lnTo>
                <a:lnTo>
                  <a:pt x="154" y="413"/>
                </a:lnTo>
                <a:lnTo>
                  <a:pt x="154" y="413"/>
                </a:lnTo>
                <a:lnTo>
                  <a:pt x="140" y="407"/>
                </a:lnTo>
                <a:lnTo>
                  <a:pt x="121" y="397"/>
                </a:lnTo>
                <a:lnTo>
                  <a:pt x="104" y="388"/>
                </a:lnTo>
                <a:lnTo>
                  <a:pt x="88" y="374"/>
                </a:lnTo>
                <a:lnTo>
                  <a:pt x="73" y="361"/>
                </a:lnTo>
                <a:lnTo>
                  <a:pt x="58" y="346"/>
                </a:lnTo>
                <a:lnTo>
                  <a:pt x="46" y="330"/>
                </a:lnTo>
                <a:lnTo>
                  <a:pt x="37" y="313"/>
                </a:lnTo>
                <a:lnTo>
                  <a:pt x="27" y="294"/>
                </a:lnTo>
                <a:lnTo>
                  <a:pt x="19" y="275"/>
                </a:lnTo>
                <a:lnTo>
                  <a:pt x="13" y="253"/>
                </a:lnTo>
                <a:lnTo>
                  <a:pt x="12" y="232"/>
                </a:lnTo>
                <a:lnTo>
                  <a:pt x="10" y="211"/>
                </a:lnTo>
                <a:lnTo>
                  <a:pt x="12" y="188"/>
                </a:lnTo>
                <a:lnTo>
                  <a:pt x="13" y="167"/>
                </a:lnTo>
                <a:lnTo>
                  <a:pt x="19" y="148"/>
                </a:lnTo>
                <a:lnTo>
                  <a:pt x="27" y="129"/>
                </a:lnTo>
                <a:lnTo>
                  <a:pt x="37" y="110"/>
                </a:lnTo>
                <a:lnTo>
                  <a:pt x="46" y="92"/>
                </a:lnTo>
                <a:lnTo>
                  <a:pt x="58" y="75"/>
                </a:lnTo>
                <a:lnTo>
                  <a:pt x="73" y="60"/>
                </a:lnTo>
                <a:lnTo>
                  <a:pt x="88" y="46"/>
                </a:lnTo>
                <a:lnTo>
                  <a:pt x="104" y="35"/>
                </a:lnTo>
                <a:lnTo>
                  <a:pt x="121" y="23"/>
                </a:lnTo>
                <a:lnTo>
                  <a:pt x="140" y="16"/>
                </a:lnTo>
                <a:lnTo>
                  <a:pt x="146" y="14"/>
                </a:lnTo>
                <a:lnTo>
                  <a:pt x="146" y="12"/>
                </a:lnTo>
                <a:lnTo>
                  <a:pt x="146" y="10"/>
                </a:lnTo>
                <a:lnTo>
                  <a:pt x="146" y="8"/>
                </a:lnTo>
                <a:lnTo>
                  <a:pt x="146" y="6"/>
                </a:lnTo>
                <a:lnTo>
                  <a:pt x="146" y="6"/>
                </a:lnTo>
                <a:lnTo>
                  <a:pt x="146" y="4"/>
                </a:lnTo>
                <a:lnTo>
                  <a:pt x="146" y="2"/>
                </a:lnTo>
                <a:lnTo>
                  <a:pt x="146" y="0"/>
                </a:lnTo>
                <a:close/>
              </a:path>
            </a:pathLst>
          </a:custGeom>
          <a:solidFill>
            <a:srgbClr val="d6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Freeform 488"/>
          <p:cNvSpPr/>
          <p:nvPr/>
        </p:nvSpPr>
        <p:spPr>
          <a:xfrm>
            <a:off x="5996160" y="2917800"/>
            <a:ext cx="237960" cy="654120"/>
          </a:xfrm>
          <a:custGeom>
            <a:avLst/>
            <a:gdLst>
              <a:gd name="textAreaLeft" fmla="*/ 0 w 237960"/>
              <a:gd name="textAreaRight" fmla="*/ 238320 w 23796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150" h="412">
                <a:moveTo>
                  <a:pt x="142" y="0"/>
                </a:moveTo>
                <a:lnTo>
                  <a:pt x="134" y="4"/>
                </a:lnTo>
                <a:lnTo>
                  <a:pt x="115" y="13"/>
                </a:lnTo>
                <a:lnTo>
                  <a:pt x="98" y="23"/>
                </a:lnTo>
                <a:lnTo>
                  <a:pt x="81" y="36"/>
                </a:lnTo>
                <a:lnTo>
                  <a:pt x="65" y="50"/>
                </a:lnTo>
                <a:lnTo>
                  <a:pt x="50" y="65"/>
                </a:lnTo>
                <a:lnTo>
                  <a:pt x="38" y="82"/>
                </a:lnTo>
                <a:lnTo>
                  <a:pt x="27" y="102"/>
                </a:lnTo>
                <a:lnTo>
                  <a:pt x="17" y="119"/>
                </a:lnTo>
                <a:lnTo>
                  <a:pt x="9" y="140"/>
                </a:lnTo>
                <a:lnTo>
                  <a:pt x="6" y="161"/>
                </a:lnTo>
                <a:lnTo>
                  <a:pt x="2" y="182"/>
                </a:lnTo>
                <a:lnTo>
                  <a:pt x="0" y="205"/>
                </a:lnTo>
                <a:lnTo>
                  <a:pt x="2" y="226"/>
                </a:lnTo>
                <a:lnTo>
                  <a:pt x="6" y="249"/>
                </a:lnTo>
                <a:lnTo>
                  <a:pt x="9" y="270"/>
                </a:lnTo>
                <a:lnTo>
                  <a:pt x="17" y="290"/>
                </a:lnTo>
                <a:lnTo>
                  <a:pt x="27" y="309"/>
                </a:lnTo>
                <a:lnTo>
                  <a:pt x="38" y="326"/>
                </a:lnTo>
                <a:lnTo>
                  <a:pt x="50" y="343"/>
                </a:lnTo>
                <a:lnTo>
                  <a:pt x="65" y="359"/>
                </a:lnTo>
                <a:lnTo>
                  <a:pt x="81" y="374"/>
                </a:lnTo>
                <a:lnTo>
                  <a:pt x="98" y="386"/>
                </a:lnTo>
                <a:lnTo>
                  <a:pt x="115" y="397"/>
                </a:lnTo>
                <a:lnTo>
                  <a:pt x="134" y="407"/>
                </a:lnTo>
                <a:lnTo>
                  <a:pt x="150" y="412"/>
                </a:lnTo>
                <a:lnTo>
                  <a:pt x="150" y="411"/>
                </a:lnTo>
                <a:lnTo>
                  <a:pt x="150" y="409"/>
                </a:lnTo>
                <a:lnTo>
                  <a:pt x="150" y="407"/>
                </a:lnTo>
                <a:lnTo>
                  <a:pt x="150" y="407"/>
                </a:lnTo>
                <a:lnTo>
                  <a:pt x="150" y="405"/>
                </a:lnTo>
                <a:lnTo>
                  <a:pt x="150" y="403"/>
                </a:lnTo>
                <a:lnTo>
                  <a:pt x="150" y="401"/>
                </a:lnTo>
                <a:lnTo>
                  <a:pt x="148" y="399"/>
                </a:lnTo>
                <a:lnTo>
                  <a:pt x="138" y="395"/>
                </a:lnTo>
                <a:lnTo>
                  <a:pt x="121" y="388"/>
                </a:lnTo>
                <a:lnTo>
                  <a:pt x="104" y="376"/>
                </a:lnTo>
                <a:lnTo>
                  <a:pt x="86" y="364"/>
                </a:lnTo>
                <a:lnTo>
                  <a:pt x="73" y="351"/>
                </a:lnTo>
                <a:lnTo>
                  <a:pt x="59" y="338"/>
                </a:lnTo>
                <a:lnTo>
                  <a:pt x="46" y="320"/>
                </a:lnTo>
                <a:lnTo>
                  <a:pt x="36" y="303"/>
                </a:lnTo>
                <a:lnTo>
                  <a:pt x="27" y="286"/>
                </a:lnTo>
                <a:lnTo>
                  <a:pt x="21" y="267"/>
                </a:lnTo>
                <a:lnTo>
                  <a:pt x="15" y="247"/>
                </a:lnTo>
                <a:lnTo>
                  <a:pt x="11" y="226"/>
                </a:lnTo>
                <a:lnTo>
                  <a:pt x="11" y="205"/>
                </a:lnTo>
                <a:lnTo>
                  <a:pt x="11" y="184"/>
                </a:lnTo>
                <a:lnTo>
                  <a:pt x="15" y="163"/>
                </a:lnTo>
                <a:lnTo>
                  <a:pt x="21" y="144"/>
                </a:lnTo>
                <a:lnTo>
                  <a:pt x="27" y="125"/>
                </a:lnTo>
                <a:lnTo>
                  <a:pt x="36" y="105"/>
                </a:lnTo>
                <a:lnTo>
                  <a:pt x="46" y="88"/>
                </a:lnTo>
                <a:lnTo>
                  <a:pt x="59" y="73"/>
                </a:lnTo>
                <a:lnTo>
                  <a:pt x="73" y="58"/>
                </a:lnTo>
                <a:lnTo>
                  <a:pt x="86" y="44"/>
                </a:lnTo>
                <a:lnTo>
                  <a:pt x="104" y="33"/>
                </a:lnTo>
                <a:lnTo>
                  <a:pt x="121" y="23"/>
                </a:lnTo>
                <a:lnTo>
                  <a:pt x="138" y="13"/>
                </a:lnTo>
                <a:lnTo>
                  <a:pt x="140" y="13"/>
                </a:lnTo>
                <a:lnTo>
                  <a:pt x="140" y="11"/>
                </a:lnTo>
                <a:lnTo>
                  <a:pt x="140" y="10"/>
                </a:lnTo>
                <a:lnTo>
                  <a:pt x="142" y="8"/>
                </a:lnTo>
                <a:lnTo>
                  <a:pt x="142" y="8"/>
                </a:lnTo>
                <a:lnTo>
                  <a:pt x="142" y="6"/>
                </a:lnTo>
                <a:lnTo>
                  <a:pt x="142" y="4"/>
                </a:lnTo>
                <a:lnTo>
                  <a:pt x="142" y="2"/>
                </a:lnTo>
                <a:lnTo>
                  <a:pt x="142" y="0"/>
                </a:lnTo>
                <a:close/>
              </a:path>
            </a:pathLst>
          </a:custGeom>
          <a:solidFill>
            <a:srgbClr val="d7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Freeform 489"/>
          <p:cNvSpPr/>
          <p:nvPr/>
        </p:nvSpPr>
        <p:spPr>
          <a:xfrm>
            <a:off x="6005520" y="2930400"/>
            <a:ext cx="228600" cy="633600"/>
          </a:xfrm>
          <a:custGeom>
            <a:avLst/>
            <a:gdLst>
              <a:gd name="textAreaLeft" fmla="*/ 0 w 228600"/>
              <a:gd name="textAreaRight" fmla="*/ 228960 w 228600"/>
              <a:gd name="textAreaTop" fmla="*/ 0 h 633600"/>
              <a:gd name="textAreaBottom" fmla="*/ 633600 h 633600"/>
            </a:gdLst>
            <a:ahLst/>
            <a:rect l="textAreaLeft" t="textAreaTop" r="textAreaRight" b="textAreaBottom"/>
            <a:pathLst>
              <a:path w="144" h="399">
                <a:moveTo>
                  <a:pt x="136" y="0"/>
                </a:moveTo>
                <a:lnTo>
                  <a:pt x="130" y="2"/>
                </a:lnTo>
                <a:lnTo>
                  <a:pt x="111" y="9"/>
                </a:lnTo>
                <a:lnTo>
                  <a:pt x="94" y="21"/>
                </a:lnTo>
                <a:lnTo>
                  <a:pt x="78" y="32"/>
                </a:lnTo>
                <a:lnTo>
                  <a:pt x="63" y="46"/>
                </a:lnTo>
                <a:lnTo>
                  <a:pt x="48" y="61"/>
                </a:lnTo>
                <a:lnTo>
                  <a:pt x="36" y="78"/>
                </a:lnTo>
                <a:lnTo>
                  <a:pt x="27" y="96"/>
                </a:lnTo>
                <a:lnTo>
                  <a:pt x="17" y="115"/>
                </a:lnTo>
                <a:lnTo>
                  <a:pt x="9" y="134"/>
                </a:lnTo>
                <a:lnTo>
                  <a:pt x="3" y="153"/>
                </a:lnTo>
                <a:lnTo>
                  <a:pt x="2" y="174"/>
                </a:lnTo>
                <a:lnTo>
                  <a:pt x="0" y="197"/>
                </a:lnTo>
                <a:lnTo>
                  <a:pt x="2" y="218"/>
                </a:lnTo>
                <a:lnTo>
                  <a:pt x="3" y="239"/>
                </a:lnTo>
                <a:lnTo>
                  <a:pt x="9" y="261"/>
                </a:lnTo>
                <a:lnTo>
                  <a:pt x="17" y="280"/>
                </a:lnTo>
                <a:lnTo>
                  <a:pt x="27" y="299"/>
                </a:lnTo>
                <a:lnTo>
                  <a:pt x="36" y="316"/>
                </a:lnTo>
                <a:lnTo>
                  <a:pt x="48" y="332"/>
                </a:lnTo>
                <a:lnTo>
                  <a:pt x="63" y="347"/>
                </a:lnTo>
                <a:lnTo>
                  <a:pt x="78" y="360"/>
                </a:lnTo>
                <a:lnTo>
                  <a:pt x="94" y="374"/>
                </a:lnTo>
                <a:lnTo>
                  <a:pt x="111" y="383"/>
                </a:lnTo>
                <a:lnTo>
                  <a:pt x="130" y="393"/>
                </a:lnTo>
                <a:lnTo>
                  <a:pt x="144" y="399"/>
                </a:lnTo>
                <a:lnTo>
                  <a:pt x="144" y="397"/>
                </a:lnTo>
                <a:lnTo>
                  <a:pt x="144" y="395"/>
                </a:lnTo>
                <a:lnTo>
                  <a:pt x="144" y="393"/>
                </a:lnTo>
                <a:lnTo>
                  <a:pt x="142" y="391"/>
                </a:lnTo>
                <a:lnTo>
                  <a:pt x="142" y="391"/>
                </a:lnTo>
                <a:lnTo>
                  <a:pt x="142" y="389"/>
                </a:lnTo>
                <a:lnTo>
                  <a:pt x="142" y="387"/>
                </a:lnTo>
                <a:lnTo>
                  <a:pt x="142" y="385"/>
                </a:lnTo>
                <a:lnTo>
                  <a:pt x="134" y="383"/>
                </a:lnTo>
                <a:lnTo>
                  <a:pt x="117" y="374"/>
                </a:lnTo>
                <a:lnTo>
                  <a:pt x="99" y="364"/>
                </a:lnTo>
                <a:lnTo>
                  <a:pt x="84" y="353"/>
                </a:lnTo>
                <a:lnTo>
                  <a:pt x="71" y="339"/>
                </a:lnTo>
                <a:lnTo>
                  <a:pt x="57" y="326"/>
                </a:lnTo>
                <a:lnTo>
                  <a:pt x="46" y="310"/>
                </a:lnTo>
                <a:lnTo>
                  <a:pt x="34" y="293"/>
                </a:lnTo>
                <a:lnTo>
                  <a:pt x="27" y="276"/>
                </a:lnTo>
                <a:lnTo>
                  <a:pt x="19" y="257"/>
                </a:lnTo>
                <a:lnTo>
                  <a:pt x="15" y="238"/>
                </a:lnTo>
                <a:lnTo>
                  <a:pt x="11" y="218"/>
                </a:lnTo>
                <a:lnTo>
                  <a:pt x="11" y="197"/>
                </a:lnTo>
                <a:lnTo>
                  <a:pt x="11" y="176"/>
                </a:lnTo>
                <a:lnTo>
                  <a:pt x="15" y="157"/>
                </a:lnTo>
                <a:lnTo>
                  <a:pt x="19" y="136"/>
                </a:lnTo>
                <a:lnTo>
                  <a:pt x="27" y="119"/>
                </a:lnTo>
                <a:lnTo>
                  <a:pt x="34" y="101"/>
                </a:lnTo>
                <a:lnTo>
                  <a:pt x="46" y="84"/>
                </a:lnTo>
                <a:lnTo>
                  <a:pt x="57" y="69"/>
                </a:lnTo>
                <a:lnTo>
                  <a:pt x="71" y="53"/>
                </a:lnTo>
                <a:lnTo>
                  <a:pt x="84" y="40"/>
                </a:lnTo>
                <a:lnTo>
                  <a:pt x="99" y="28"/>
                </a:lnTo>
                <a:lnTo>
                  <a:pt x="117" y="19"/>
                </a:lnTo>
                <a:lnTo>
                  <a:pt x="134" y="11"/>
                </a:lnTo>
                <a:lnTo>
                  <a:pt x="134" y="9"/>
                </a:lnTo>
                <a:lnTo>
                  <a:pt x="134" y="7"/>
                </a:lnTo>
                <a:lnTo>
                  <a:pt x="134" y="5"/>
                </a:lnTo>
                <a:lnTo>
                  <a:pt x="134" y="5"/>
                </a:lnTo>
                <a:lnTo>
                  <a:pt x="134" y="3"/>
                </a:lnTo>
                <a:lnTo>
                  <a:pt x="134" y="2"/>
                </a:lnTo>
                <a:lnTo>
                  <a:pt x="136" y="0"/>
                </a:lnTo>
                <a:lnTo>
                  <a:pt x="136" y="0"/>
                </a:lnTo>
                <a:close/>
              </a:path>
            </a:pathLst>
          </a:custGeom>
          <a:solidFill>
            <a:srgbClr val="d8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Freeform 490"/>
          <p:cNvSpPr/>
          <p:nvPr/>
        </p:nvSpPr>
        <p:spPr>
          <a:xfrm>
            <a:off x="6013440" y="2938320"/>
            <a:ext cx="217440" cy="613080"/>
          </a:xfrm>
          <a:custGeom>
            <a:avLst/>
            <a:gdLst>
              <a:gd name="textAreaLeft" fmla="*/ 0 w 217440"/>
              <a:gd name="textAreaRight" fmla="*/ 217800 w 217440"/>
              <a:gd name="textAreaTop" fmla="*/ 0 h 613080"/>
              <a:gd name="textAreaBottom" fmla="*/ 613080 h 613080"/>
            </a:gdLst>
            <a:ahLst/>
            <a:rect l="textAreaLeft" t="textAreaTop" r="textAreaRight" b="textAreaBottom"/>
            <a:pathLst>
              <a:path w="137" h="386">
                <a:moveTo>
                  <a:pt x="129" y="0"/>
                </a:moveTo>
                <a:lnTo>
                  <a:pt x="127" y="0"/>
                </a:lnTo>
                <a:lnTo>
                  <a:pt x="110" y="10"/>
                </a:lnTo>
                <a:lnTo>
                  <a:pt x="93" y="20"/>
                </a:lnTo>
                <a:lnTo>
                  <a:pt x="75" y="31"/>
                </a:lnTo>
                <a:lnTo>
                  <a:pt x="62" y="45"/>
                </a:lnTo>
                <a:lnTo>
                  <a:pt x="48" y="60"/>
                </a:lnTo>
                <a:lnTo>
                  <a:pt x="35" y="75"/>
                </a:lnTo>
                <a:lnTo>
                  <a:pt x="25" y="92"/>
                </a:lnTo>
                <a:lnTo>
                  <a:pt x="16" y="112"/>
                </a:lnTo>
                <a:lnTo>
                  <a:pt x="10" y="131"/>
                </a:lnTo>
                <a:lnTo>
                  <a:pt x="4" y="150"/>
                </a:lnTo>
                <a:lnTo>
                  <a:pt x="0" y="171"/>
                </a:lnTo>
                <a:lnTo>
                  <a:pt x="0" y="192"/>
                </a:lnTo>
                <a:lnTo>
                  <a:pt x="0" y="213"/>
                </a:lnTo>
                <a:lnTo>
                  <a:pt x="4" y="234"/>
                </a:lnTo>
                <a:lnTo>
                  <a:pt x="10" y="254"/>
                </a:lnTo>
                <a:lnTo>
                  <a:pt x="16" y="273"/>
                </a:lnTo>
                <a:lnTo>
                  <a:pt x="25" y="290"/>
                </a:lnTo>
                <a:lnTo>
                  <a:pt x="35" y="307"/>
                </a:lnTo>
                <a:lnTo>
                  <a:pt x="48" y="325"/>
                </a:lnTo>
                <a:lnTo>
                  <a:pt x="62" y="338"/>
                </a:lnTo>
                <a:lnTo>
                  <a:pt x="75" y="351"/>
                </a:lnTo>
                <a:lnTo>
                  <a:pt x="93" y="363"/>
                </a:lnTo>
                <a:lnTo>
                  <a:pt x="110" y="375"/>
                </a:lnTo>
                <a:lnTo>
                  <a:pt x="127" y="382"/>
                </a:lnTo>
                <a:lnTo>
                  <a:pt x="137" y="386"/>
                </a:lnTo>
                <a:lnTo>
                  <a:pt x="137" y="386"/>
                </a:lnTo>
                <a:lnTo>
                  <a:pt x="137" y="384"/>
                </a:lnTo>
                <a:lnTo>
                  <a:pt x="137" y="382"/>
                </a:lnTo>
                <a:lnTo>
                  <a:pt x="137" y="380"/>
                </a:lnTo>
                <a:lnTo>
                  <a:pt x="137" y="380"/>
                </a:lnTo>
                <a:lnTo>
                  <a:pt x="137" y="378"/>
                </a:lnTo>
                <a:lnTo>
                  <a:pt x="137" y="376"/>
                </a:lnTo>
                <a:lnTo>
                  <a:pt x="135" y="375"/>
                </a:lnTo>
                <a:lnTo>
                  <a:pt x="131" y="373"/>
                </a:lnTo>
                <a:lnTo>
                  <a:pt x="114" y="365"/>
                </a:lnTo>
                <a:lnTo>
                  <a:pt x="98" y="355"/>
                </a:lnTo>
                <a:lnTo>
                  <a:pt x="83" y="344"/>
                </a:lnTo>
                <a:lnTo>
                  <a:pt x="70" y="330"/>
                </a:lnTo>
                <a:lnTo>
                  <a:pt x="56" y="317"/>
                </a:lnTo>
                <a:lnTo>
                  <a:pt x="45" y="302"/>
                </a:lnTo>
                <a:lnTo>
                  <a:pt x="35" y="286"/>
                </a:lnTo>
                <a:lnTo>
                  <a:pt x="27" y="269"/>
                </a:lnTo>
                <a:lnTo>
                  <a:pt x="20" y="250"/>
                </a:lnTo>
                <a:lnTo>
                  <a:pt x="16" y="231"/>
                </a:lnTo>
                <a:lnTo>
                  <a:pt x="12" y="211"/>
                </a:lnTo>
                <a:lnTo>
                  <a:pt x="10" y="192"/>
                </a:lnTo>
                <a:lnTo>
                  <a:pt x="12" y="171"/>
                </a:lnTo>
                <a:lnTo>
                  <a:pt x="16" y="152"/>
                </a:lnTo>
                <a:lnTo>
                  <a:pt x="20" y="133"/>
                </a:lnTo>
                <a:lnTo>
                  <a:pt x="27" y="115"/>
                </a:lnTo>
                <a:lnTo>
                  <a:pt x="35" y="98"/>
                </a:lnTo>
                <a:lnTo>
                  <a:pt x="45" y="81"/>
                </a:lnTo>
                <a:lnTo>
                  <a:pt x="56" y="66"/>
                </a:lnTo>
                <a:lnTo>
                  <a:pt x="70" y="52"/>
                </a:lnTo>
                <a:lnTo>
                  <a:pt x="83" y="41"/>
                </a:lnTo>
                <a:lnTo>
                  <a:pt x="98" y="29"/>
                </a:lnTo>
                <a:lnTo>
                  <a:pt x="114" y="20"/>
                </a:lnTo>
                <a:lnTo>
                  <a:pt x="129" y="12"/>
                </a:lnTo>
                <a:lnTo>
                  <a:pt x="129" y="10"/>
                </a:lnTo>
                <a:lnTo>
                  <a:pt x="129" y="8"/>
                </a:lnTo>
                <a:lnTo>
                  <a:pt x="129" y="8"/>
                </a:lnTo>
                <a:lnTo>
                  <a:pt x="129" y="6"/>
                </a:lnTo>
                <a:lnTo>
                  <a:pt x="129" y="4"/>
                </a:lnTo>
                <a:lnTo>
                  <a:pt x="129" y="2"/>
                </a:lnTo>
                <a:lnTo>
                  <a:pt x="129" y="0"/>
                </a:lnTo>
                <a:lnTo>
                  <a:pt x="129" y="0"/>
                </a:lnTo>
                <a:close/>
              </a:path>
            </a:pathLst>
          </a:custGeom>
          <a:solidFill>
            <a:srgbClr val="d9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Freeform 491"/>
          <p:cNvSpPr/>
          <p:nvPr/>
        </p:nvSpPr>
        <p:spPr>
          <a:xfrm>
            <a:off x="6022800" y="2948040"/>
            <a:ext cx="208080" cy="593640"/>
          </a:xfrm>
          <a:custGeom>
            <a:avLst/>
            <a:gdLst>
              <a:gd name="textAreaLeft" fmla="*/ 0 w 208080"/>
              <a:gd name="textAreaRight" fmla="*/ 208440 w 2080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31" h="374">
                <a:moveTo>
                  <a:pt x="123" y="0"/>
                </a:moveTo>
                <a:lnTo>
                  <a:pt x="106" y="8"/>
                </a:lnTo>
                <a:lnTo>
                  <a:pt x="88" y="17"/>
                </a:lnTo>
                <a:lnTo>
                  <a:pt x="73" y="29"/>
                </a:lnTo>
                <a:lnTo>
                  <a:pt x="60" y="42"/>
                </a:lnTo>
                <a:lnTo>
                  <a:pt x="46" y="58"/>
                </a:lnTo>
                <a:lnTo>
                  <a:pt x="35" y="73"/>
                </a:lnTo>
                <a:lnTo>
                  <a:pt x="23" y="90"/>
                </a:lnTo>
                <a:lnTo>
                  <a:pt x="16" y="108"/>
                </a:lnTo>
                <a:lnTo>
                  <a:pt x="8" y="125"/>
                </a:lnTo>
                <a:lnTo>
                  <a:pt x="4" y="146"/>
                </a:lnTo>
                <a:lnTo>
                  <a:pt x="0" y="165"/>
                </a:lnTo>
                <a:lnTo>
                  <a:pt x="0" y="186"/>
                </a:lnTo>
                <a:lnTo>
                  <a:pt x="0" y="207"/>
                </a:lnTo>
                <a:lnTo>
                  <a:pt x="4" y="227"/>
                </a:lnTo>
                <a:lnTo>
                  <a:pt x="8" y="246"/>
                </a:lnTo>
                <a:lnTo>
                  <a:pt x="16" y="265"/>
                </a:lnTo>
                <a:lnTo>
                  <a:pt x="23" y="282"/>
                </a:lnTo>
                <a:lnTo>
                  <a:pt x="35" y="299"/>
                </a:lnTo>
                <a:lnTo>
                  <a:pt x="46" y="315"/>
                </a:lnTo>
                <a:lnTo>
                  <a:pt x="60" y="328"/>
                </a:lnTo>
                <a:lnTo>
                  <a:pt x="73" y="342"/>
                </a:lnTo>
                <a:lnTo>
                  <a:pt x="88" y="353"/>
                </a:lnTo>
                <a:lnTo>
                  <a:pt x="106" y="363"/>
                </a:lnTo>
                <a:lnTo>
                  <a:pt x="123" y="372"/>
                </a:lnTo>
                <a:lnTo>
                  <a:pt x="131" y="374"/>
                </a:lnTo>
                <a:lnTo>
                  <a:pt x="131" y="374"/>
                </a:lnTo>
                <a:lnTo>
                  <a:pt x="131" y="372"/>
                </a:lnTo>
                <a:lnTo>
                  <a:pt x="131" y="370"/>
                </a:lnTo>
                <a:lnTo>
                  <a:pt x="129" y="369"/>
                </a:lnTo>
                <a:lnTo>
                  <a:pt x="129" y="367"/>
                </a:lnTo>
                <a:lnTo>
                  <a:pt x="129" y="367"/>
                </a:lnTo>
                <a:lnTo>
                  <a:pt x="129" y="365"/>
                </a:lnTo>
                <a:lnTo>
                  <a:pt x="129" y="363"/>
                </a:lnTo>
                <a:lnTo>
                  <a:pt x="127" y="363"/>
                </a:lnTo>
                <a:lnTo>
                  <a:pt x="110" y="355"/>
                </a:lnTo>
                <a:lnTo>
                  <a:pt x="94" y="345"/>
                </a:lnTo>
                <a:lnTo>
                  <a:pt x="81" y="334"/>
                </a:lnTo>
                <a:lnTo>
                  <a:pt x="65" y="321"/>
                </a:lnTo>
                <a:lnTo>
                  <a:pt x="54" y="307"/>
                </a:lnTo>
                <a:lnTo>
                  <a:pt x="42" y="294"/>
                </a:lnTo>
                <a:lnTo>
                  <a:pt x="33" y="276"/>
                </a:lnTo>
                <a:lnTo>
                  <a:pt x="25" y="261"/>
                </a:lnTo>
                <a:lnTo>
                  <a:pt x="19" y="242"/>
                </a:lnTo>
                <a:lnTo>
                  <a:pt x="14" y="225"/>
                </a:lnTo>
                <a:lnTo>
                  <a:pt x="12" y="205"/>
                </a:lnTo>
                <a:lnTo>
                  <a:pt x="10" y="186"/>
                </a:lnTo>
                <a:lnTo>
                  <a:pt x="12" y="167"/>
                </a:lnTo>
                <a:lnTo>
                  <a:pt x="14" y="148"/>
                </a:lnTo>
                <a:lnTo>
                  <a:pt x="19" y="129"/>
                </a:lnTo>
                <a:lnTo>
                  <a:pt x="25" y="111"/>
                </a:lnTo>
                <a:lnTo>
                  <a:pt x="33" y="94"/>
                </a:lnTo>
                <a:lnTo>
                  <a:pt x="42" y="79"/>
                </a:lnTo>
                <a:lnTo>
                  <a:pt x="54" y="63"/>
                </a:lnTo>
                <a:lnTo>
                  <a:pt x="65" y="50"/>
                </a:lnTo>
                <a:lnTo>
                  <a:pt x="81" y="39"/>
                </a:lnTo>
                <a:lnTo>
                  <a:pt x="94" y="27"/>
                </a:lnTo>
                <a:lnTo>
                  <a:pt x="110" y="17"/>
                </a:lnTo>
                <a:lnTo>
                  <a:pt x="121" y="12"/>
                </a:lnTo>
                <a:lnTo>
                  <a:pt x="121" y="10"/>
                </a:lnTo>
                <a:lnTo>
                  <a:pt x="121" y="10"/>
                </a:lnTo>
                <a:lnTo>
                  <a:pt x="121" y="8"/>
                </a:lnTo>
                <a:lnTo>
                  <a:pt x="123" y="6"/>
                </a:lnTo>
                <a:lnTo>
                  <a:pt x="123" y="4"/>
                </a:lnTo>
                <a:lnTo>
                  <a:pt x="123" y="2"/>
                </a:lnTo>
                <a:lnTo>
                  <a:pt x="123" y="2"/>
                </a:lnTo>
                <a:lnTo>
                  <a:pt x="123" y="0"/>
                </a:lnTo>
                <a:close/>
              </a:path>
            </a:pathLst>
          </a:custGeom>
          <a:solidFill>
            <a:srgbClr val="da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Freeform 492"/>
          <p:cNvSpPr/>
          <p:nvPr/>
        </p:nvSpPr>
        <p:spPr>
          <a:xfrm>
            <a:off x="6029280" y="2957400"/>
            <a:ext cx="198360" cy="576360"/>
          </a:xfrm>
          <a:custGeom>
            <a:avLst/>
            <a:gdLst>
              <a:gd name="textAreaLeft" fmla="*/ 0 w 198360"/>
              <a:gd name="textAreaRight" fmla="*/ 198720 w 198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25" h="363">
                <a:moveTo>
                  <a:pt x="119" y="0"/>
                </a:moveTo>
                <a:lnTo>
                  <a:pt x="104" y="8"/>
                </a:lnTo>
                <a:lnTo>
                  <a:pt x="88" y="17"/>
                </a:lnTo>
                <a:lnTo>
                  <a:pt x="73" y="29"/>
                </a:lnTo>
                <a:lnTo>
                  <a:pt x="60" y="40"/>
                </a:lnTo>
                <a:lnTo>
                  <a:pt x="46" y="54"/>
                </a:lnTo>
                <a:lnTo>
                  <a:pt x="35" y="69"/>
                </a:lnTo>
                <a:lnTo>
                  <a:pt x="25" y="86"/>
                </a:lnTo>
                <a:lnTo>
                  <a:pt x="17" y="103"/>
                </a:lnTo>
                <a:lnTo>
                  <a:pt x="10" y="121"/>
                </a:lnTo>
                <a:lnTo>
                  <a:pt x="6" y="140"/>
                </a:lnTo>
                <a:lnTo>
                  <a:pt x="2" y="159"/>
                </a:lnTo>
                <a:lnTo>
                  <a:pt x="0" y="180"/>
                </a:lnTo>
                <a:lnTo>
                  <a:pt x="2" y="199"/>
                </a:lnTo>
                <a:lnTo>
                  <a:pt x="6" y="219"/>
                </a:lnTo>
                <a:lnTo>
                  <a:pt x="10" y="238"/>
                </a:lnTo>
                <a:lnTo>
                  <a:pt x="17" y="257"/>
                </a:lnTo>
                <a:lnTo>
                  <a:pt x="25" y="274"/>
                </a:lnTo>
                <a:lnTo>
                  <a:pt x="35" y="290"/>
                </a:lnTo>
                <a:lnTo>
                  <a:pt x="46" y="305"/>
                </a:lnTo>
                <a:lnTo>
                  <a:pt x="60" y="318"/>
                </a:lnTo>
                <a:lnTo>
                  <a:pt x="73" y="332"/>
                </a:lnTo>
                <a:lnTo>
                  <a:pt x="88" y="343"/>
                </a:lnTo>
                <a:lnTo>
                  <a:pt x="104" y="353"/>
                </a:lnTo>
                <a:lnTo>
                  <a:pt x="121" y="361"/>
                </a:lnTo>
                <a:lnTo>
                  <a:pt x="125" y="363"/>
                </a:lnTo>
                <a:lnTo>
                  <a:pt x="125" y="361"/>
                </a:lnTo>
                <a:lnTo>
                  <a:pt x="125" y="361"/>
                </a:lnTo>
                <a:lnTo>
                  <a:pt x="125" y="359"/>
                </a:lnTo>
                <a:lnTo>
                  <a:pt x="125" y="357"/>
                </a:lnTo>
                <a:lnTo>
                  <a:pt x="125" y="355"/>
                </a:lnTo>
                <a:lnTo>
                  <a:pt x="125" y="353"/>
                </a:lnTo>
                <a:lnTo>
                  <a:pt x="125" y="353"/>
                </a:lnTo>
                <a:lnTo>
                  <a:pt x="123" y="351"/>
                </a:lnTo>
                <a:lnTo>
                  <a:pt x="109" y="343"/>
                </a:lnTo>
                <a:lnTo>
                  <a:pt x="94" y="334"/>
                </a:lnTo>
                <a:lnTo>
                  <a:pt x="79" y="324"/>
                </a:lnTo>
                <a:lnTo>
                  <a:pt x="65" y="311"/>
                </a:lnTo>
                <a:lnTo>
                  <a:pt x="54" y="299"/>
                </a:lnTo>
                <a:lnTo>
                  <a:pt x="44" y="284"/>
                </a:lnTo>
                <a:lnTo>
                  <a:pt x="35" y="268"/>
                </a:lnTo>
                <a:lnTo>
                  <a:pt x="27" y="253"/>
                </a:lnTo>
                <a:lnTo>
                  <a:pt x="19" y="236"/>
                </a:lnTo>
                <a:lnTo>
                  <a:pt x="15" y="217"/>
                </a:lnTo>
                <a:lnTo>
                  <a:pt x="13" y="199"/>
                </a:lnTo>
                <a:lnTo>
                  <a:pt x="12" y="180"/>
                </a:lnTo>
                <a:lnTo>
                  <a:pt x="13" y="161"/>
                </a:lnTo>
                <a:lnTo>
                  <a:pt x="15" y="142"/>
                </a:lnTo>
                <a:lnTo>
                  <a:pt x="19" y="125"/>
                </a:lnTo>
                <a:lnTo>
                  <a:pt x="27" y="107"/>
                </a:lnTo>
                <a:lnTo>
                  <a:pt x="35" y="90"/>
                </a:lnTo>
                <a:lnTo>
                  <a:pt x="44" y="75"/>
                </a:lnTo>
                <a:lnTo>
                  <a:pt x="54" y="61"/>
                </a:lnTo>
                <a:lnTo>
                  <a:pt x="65" y="48"/>
                </a:lnTo>
                <a:lnTo>
                  <a:pt x="79" y="36"/>
                </a:lnTo>
                <a:lnTo>
                  <a:pt x="94" y="25"/>
                </a:lnTo>
                <a:lnTo>
                  <a:pt x="109" y="15"/>
                </a:lnTo>
                <a:lnTo>
                  <a:pt x="117" y="11"/>
                </a:lnTo>
                <a:lnTo>
                  <a:pt x="117" y="11"/>
                </a:lnTo>
                <a:lnTo>
                  <a:pt x="117" y="9"/>
                </a:lnTo>
                <a:lnTo>
                  <a:pt x="117" y="8"/>
                </a:lnTo>
                <a:lnTo>
                  <a:pt x="117" y="6"/>
                </a:lnTo>
                <a:lnTo>
                  <a:pt x="117" y="4"/>
                </a:lnTo>
                <a:lnTo>
                  <a:pt x="117" y="4"/>
                </a:lnTo>
                <a:lnTo>
                  <a:pt x="117" y="2"/>
                </a:lnTo>
                <a:lnTo>
                  <a:pt x="119" y="0"/>
                </a:lnTo>
                <a:close/>
              </a:path>
            </a:pathLst>
          </a:custGeom>
          <a:solidFill>
            <a:srgbClr val="db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Freeform 493"/>
          <p:cNvSpPr/>
          <p:nvPr/>
        </p:nvSpPr>
        <p:spPr>
          <a:xfrm>
            <a:off x="6039000" y="2967120"/>
            <a:ext cx="188640" cy="557280"/>
          </a:xfrm>
          <a:custGeom>
            <a:avLst/>
            <a:gdLst>
              <a:gd name="textAreaLeft" fmla="*/ 0 w 188640"/>
              <a:gd name="textAreaRight" fmla="*/ 189000 w 18864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19" h="351">
                <a:moveTo>
                  <a:pt x="111" y="0"/>
                </a:moveTo>
                <a:lnTo>
                  <a:pt x="100" y="5"/>
                </a:lnTo>
                <a:lnTo>
                  <a:pt x="84" y="15"/>
                </a:lnTo>
                <a:lnTo>
                  <a:pt x="71" y="27"/>
                </a:lnTo>
                <a:lnTo>
                  <a:pt x="55" y="38"/>
                </a:lnTo>
                <a:lnTo>
                  <a:pt x="44" y="51"/>
                </a:lnTo>
                <a:lnTo>
                  <a:pt x="32" y="67"/>
                </a:lnTo>
                <a:lnTo>
                  <a:pt x="23" y="82"/>
                </a:lnTo>
                <a:lnTo>
                  <a:pt x="15" y="99"/>
                </a:lnTo>
                <a:lnTo>
                  <a:pt x="9" y="117"/>
                </a:lnTo>
                <a:lnTo>
                  <a:pt x="4" y="136"/>
                </a:lnTo>
                <a:lnTo>
                  <a:pt x="2" y="155"/>
                </a:lnTo>
                <a:lnTo>
                  <a:pt x="0" y="174"/>
                </a:lnTo>
                <a:lnTo>
                  <a:pt x="2" y="193"/>
                </a:lnTo>
                <a:lnTo>
                  <a:pt x="4" y="213"/>
                </a:lnTo>
                <a:lnTo>
                  <a:pt x="9" y="230"/>
                </a:lnTo>
                <a:lnTo>
                  <a:pt x="15" y="249"/>
                </a:lnTo>
                <a:lnTo>
                  <a:pt x="23" y="264"/>
                </a:lnTo>
                <a:lnTo>
                  <a:pt x="32" y="282"/>
                </a:lnTo>
                <a:lnTo>
                  <a:pt x="44" y="295"/>
                </a:lnTo>
                <a:lnTo>
                  <a:pt x="55" y="309"/>
                </a:lnTo>
                <a:lnTo>
                  <a:pt x="71" y="322"/>
                </a:lnTo>
                <a:lnTo>
                  <a:pt x="84" y="333"/>
                </a:lnTo>
                <a:lnTo>
                  <a:pt x="100" y="343"/>
                </a:lnTo>
                <a:lnTo>
                  <a:pt x="117" y="351"/>
                </a:lnTo>
                <a:lnTo>
                  <a:pt x="119" y="351"/>
                </a:lnTo>
                <a:lnTo>
                  <a:pt x="119" y="349"/>
                </a:lnTo>
                <a:lnTo>
                  <a:pt x="119" y="347"/>
                </a:lnTo>
                <a:lnTo>
                  <a:pt x="119" y="347"/>
                </a:lnTo>
                <a:lnTo>
                  <a:pt x="119" y="345"/>
                </a:lnTo>
                <a:lnTo>
                  <a:pt x="117" y="343"/>
                </a:lnTo>
                <a:lnTo>
                  <a:pt x="117" y="341"/>
                </a:lnTo>
                <a:lnTo>
                  <a:pt x="117" y="339"/>
                </a:lnTo>
                <a:lnTo>
                  <a:pt x="117" y="339"/>
                </a:lnTo>
                <a:lnTo>
                  <a:pt x="105" y="333"/>
                </a:lnTo>
                <a:lnTo>
                  <a:pt x="90" y="324"/>
                </a:lnTo>
                <a:lnTo>
                  <a:pt x="77" y="314"/>
                </a:lnTo>
                <a:lnTo>
                  <a:pt x="63" y="301"/>
                </a:lnTo>
                <a:lnTo>
                  <a:pt x="52" y="289"/>
                </a:lnTo>
                <a:lnTo>
                  <a:pt x="42" y="274"/>
                </a:lnTo>
                <a:lnTo>
                  <a:pt x="32" y="261"/>
                </a:lnTo>
                <a:lnTo>
                  <a:pt x="25" y="243"/>
                </a:lnTo>
                <a:lnTo>
                  <a:pt x="19" y="228"/>
                </a:lnTo>
                <a:lnTo>
                  <a:pt x="15" y="211"/>
                </a:lnTo>
                <a:lnTo>
                  <a:pt x="11" y="192"/>
                </a:lnTo>
                <a:lnTo>
                  <a:pt x="11" y="174"/>
                </a:lnTo>
                <a:lnTo>
                  <a:pt x="11" y="155"/>
                </a:lnTo>
                <a:lnTo>
                  <a:pt x="15" y="138"/>
                </a:lnTo>
                <a:lnTo>
                  <a:pt x="19" y="121"/>
                </a:lnTo>
                <a:lnTo>
                  <a:pt x="25" y="103"/>
                </a:lnTo>
                <a:lnTo>
                  <a:pt x="32" y="88"/>
                </a:lnTo>
                <a:lnTo>
                  <a:pt x="42" y="73"/>
                </a:lnTo>
                <a:lnTo>
                  <a:pt x="52" y="59"/>
                </a:lnTo>
                <a:lnTo>
                  <a:pt x="63" y="46"/>
                </a:lnTo>
                <a:lnTo>
                  <a:pt x="77" y="34"/>
                </a:lnTo>
                <a:lnTo>
                  <a:pt x="90" y="25"/>
                </a:lnTo>
                <a:lnTo>
                  <a:pt x="105" y="15"/>
                </a:lnTo>
                <a:lnTo>
                  <a:pt x="109" y="13"/>
                </a:lnTo>
                <a:lnTo>
                  <a:pt x="111" y="11"/>
                </a:lnTo>
                <a:lnTo>
                  <a:pt x="111" y="9"/>
                </a:lnTo>
                <a:lnTo>
                  <a:pt x="111" y="7"/>
                </a:lnTo>
                <a:lnTo>
                  <a:pt x="111" y="5"/>
                </a:lnTo>
                <a:lnTo>
                  <a:pt x="111" y="5"/>
                </a:lnTo>
                <a:lnTo>
                  <a:pt x="111" y="3"/>
                </a:lnTo>
                <a:lnTo>
                  <a:pt x="111" y="2"/>
                </a:lnTo>
                <a:lnTo>
                  <a:pt x="111" y="0"/>
                </a:lnTo>
                <a:close/>
              </a:path>
            </a:pathLst>
          </a:custGeom>
          <a:solidFill>
            <a:srgbClr val="dc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Freeform 494"/>
          <p:cNvSpPr/>
          <p:nvPr/>
        </p:nvSpPr>
        <p:spPr>
          <a:xfrm>
            <a:off x="6048360" y="2975040"/>
            <a:ext cx="176400" cy="539640"/>
          </a:xfrm>
          <a:custGeom>
            <a:avLst/>
            <a:gdLst>
              <a:gd name="textAreaLeft" fmla="*/ 0 w 176400"/>
              <a:gd name="textAreaRight" fmla="*/ 176400 w 17640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111" h="340">
                <a:moveTo>
                  <a:pt x="105" y="0"/>
                </a:moveTo>
                <a:lnTo>
                  <a:pt x="97" y="4"/>
                </a:lnTo>
                <a:lnTo>
                  <a:pt x="82" y="14"/>
                </a:lnTo>
                <a:lnTo>
                  <a:pt x="67" y="25"/>
                </a:lnTo>
                <a:lnTo>
                  <a:pt x="53" y="37"/>
                </a:lnTo>
                <a:lnTo>
                  <a:pt x="42" y="50"/>
                </a:lnTo>
                <a:lnTo>
                  <a:pt x="32" y="64"/>
                </a:lnTo>
                <a:lnTo>
                  <a:pt x="23" y="79"/>
                </a:lnTo>
                <a:lnTo>
                  <a:pt x="15" y="96"/>
                </a:lnTo>
                <a:lnTo>
                  <a:pt x="7" y="114"/>
                </a:lnTo>
                <a:lnTo>
                  <a:pt x="3" y="131"/>
                </a:lnTo>
                <a:lnTo>
                  <a:pt x="1" y="150"/>
                </a:lnTo>
                <a:lnTo>
                  <a:pt x="0" y="169"/>
                </a:lnTo>
                <a:lnTo>
                  <a:pt x="1" y="188"/>
                </a:lnTo>
                <a:lnTo>
                  <a:pt x="3" y="206"/>
                </a:lnTo>
                <a:lnTo>
                  <a:pt x="7" y="225"/>
                </a:lnTo>
                <a:lnTo>
                  <a:pt x="15" y="242"/>
                </a:lnTo>
                <a:lnTo>
                  <a:pt x="23" y="257"/>
                </a:lnTo>
                <a:lnTo>
                  <a:pt x="32" y="273"/>
                </a:lnTo>
                <a:lnTo>
                  <a:pt x="42" y="288"/>
                </a:lnTo>
                <a:lnTo>
                  <a:pt x="53" y="300"/>
                </a:lnTo>
                <a:lnTo>
                  <a:pt x="67" y="313"/>
                </a:lnTo>
                <a:lnTo>
                  <a:pt x="82" y="323"/>
                </a:lnTo>
                <a:lnTo>
                  <a:pt x="97" y="332"/>
                </a:lnTo>
                <a:lnTo>
                  <a:pt x="111" y="340"/>
                </a:lnTo>
                <a:lnTo>
                  <a:pt x="111" y="338"/>
                </a:lnTo>
                <a:lnTo>
                  <a:pt x="111" y="336"/>
                </a:lnTo>
                <a:lnTo>
                  <a:pt x="111" y="334"/>
                </a:lnTo>
                <a:lnTo>
                  <a:pt x="111" y="334"/>
                </a:lnTo>
                <a:lnTo>
                  <a:pt x="111" y="332"/>
                </a:lnTo>
                <a:lnTo>
                  <a:pt x="111" y="330"/>
                </a:lnTo>
                <a:lnTo>
                  <a:pt x="111" y="328"/>
                </a:lnTo>
                <a:lnTo>
                  <a:pt x="111" y="327"/>
                </a:lnTo>
                <a:lnTo>
                  <a:pt x="101" y="323"/>
                </a:lnTo>
                <a:lnTo>
                  <a:pt x="88" y="315"/>
                </a:lnTo>
                <a:lnTo>
                  <a:pt x="74" y="304"/>
                </a:lnTo>
                <a:lnTo>
                  <a:pt x="61" y="292"/>
                </a:lnTo>
                <a:lnTo>
                  <a:pt x="49" y="281"/>
                </a:lnTo>
                <a:lnTo>
                  <a:pt x="40" y="267"/>
                </a:lnTo>
                <a:lnTo>
                  <a:pt x="32" y="252"/>
                </a:lnTo>
                <a:lnTo>
                  <a:pt x="24" y="236"/>
                </a:lnTo>
                <a:lnTo>
                  <a:pt x="19" y="221"/>
                </a:lnTo>
                <a:lnTo>
                  <a:pt x="13" y="204"/>
                </a:lnTo>
                <a:lnTo>
                  <a:pt x="11" y="187"/>
                </a:lnTo>
                <a:lnTo>
                  <a:pt x="11" y="169"/>
                </a:lnTo>
                <a:lnTo>
                  <a:pt x="11" y="150"/>
                </a:lnTo>
                <a:lnTo>
                  <a:pt x="13" y="133"/>
                </a:lnTo>
                <a:lnTo>
                  <a:pt x="19" y="117"/>
                </a:lnTo>
                <a:lnTo>
                  <a:pt x="24" y="100"/>
                </a:lnTo>
                <a:lnTo>
                  <a:pt x="32" y="85"/>
                </a:lnTo>
                <a:lnTo>
                  <a:pt x="40" y="71"/>
                </a:lnTo>
                <a:lnTo>
                  <a:pt x="49" y="58"/>
                </a:lnTo>
                <a:lnTo>
                  <a:pt x="61" y="45"/>
                </a:lnTo>
                <a:lnTo>
                  <a:pt x="74" y="33"/>
                </a:lnTo>
                <a:lnTo>
                  <a:pt x="88" y="23"/>
                </a:lnTo>
                <a:lnTo>
                  <a:pt x="101" y="14"/>
                </a:lnTo>
                <a:lnTo>
                  <a:pt x="103" y="14"/>
                </a:lnTo>
                <a:lnTo>
                  <a:pt x="103" y="12"/>
                </a:lnTo>
                <a:lnTo>
                  <a:pt x="103" y="10"/>
                </a:lnTo>
                <a:lnTo>
                  <a:pt x="103" y="10"/>
                </a:lnTo>
                <a:lnTo>
                  <a:pt x="103" y="8"/>
                </a:lnTo>
                <a:lnTo>
                  <a:pt x="105" y="6"/>
                </a:lnTo>
                <a:lnTo>
                  <a:pt x="105" y="4"/>
                </a:lnTo>
                <a:lnTo>
                  <a:pt x="105" y="2"/>
                </a:lnTo>
                <a:lnTo>
                  <a:pt x="105" y="0"/>
                </a:lnTo>
                <a:close/>
              </a:path>
            </a:pathLst>
          </a:custGeom>
          <a:solidFill>
            <a:srgbClr val="dd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Freeform 495"/>
          <p:cNvSpPr/>
          <p:nvPr/>
        </p:nvSpPr>
        <p:spPr>
          <a:xfrm>
            <a:off x="6056280" y="2987640"/>
            <a:ext cx="168480" cy="517680"/>
          </a:xfrm>
          <a:custGeom>
            <a:avLst/>
            <a:gdLst>
              <a:gd name="textAreaLeft" fmla="*/ 0 w 168480"/>
              <a:gd name="textAreaRight" fmla="*/ 168840 w 168480"/>
              <a:gd name="textAreaTop" fmla="*/ 0 h 517680"/>
              <a:gd name="textAreaBottom" fmla="*/ 517680 h 517680"/>
            </a:gdLst>
            <a:ahLst/>
            <a:rect l="textAreaLeft" t="textAreaTop" r="textAreaRight" b="textAreaBottom"/>
            <a:pathLst>
              <a:path w="106" h="326">
                <a:moveTo>
                  <a:pt x="98" y="0"/>
                </a:moveTo>
                <a:lnTo>
                  <a:pt x="94" y="2"/>
                </a:lnTo>
                <a:lnTo>
                  <a:pt x="79" y="12"/>
                </a:lnTo>
                <a:lnTo>
                  <a:pt x="66" y="21"/>
                </a:lnTo>
                <a:lnTo>
                  <a:pt x="52" y="33"/>
                </a:lnTo>
                <a:lnTo>
                  <a:pt x="41" y="46"/>
                </a:lnTo>
                <a:lnTo>
                  <a:pt x="31" y="60"/>
                </a:lnTo>
                <a:lnTo>
                  <a:pt x="21" y="75"/>
                </a:lnTo>
                <a:lnTo>
                  <a:pt x="14" y="90"/>
                </a:lnTo>
                <a:lnTo>
                  <a:pt x="8" y="108"/>
                </a:lnTo>
                <a:lnTo>
                  <a:pt x="4" y="125"/>
                </a:lnTo>
                <a:lnTo>
                  <a:pt x="0" y="142"/>
                </a:lnTo>
                <a:lnTo>
                  <a:pt x="0" y="161"/>
                </a:lnTo>
                <a:lnTo>
                  <a:pt x="0" y="179"/>
                </a:lnTo>
                <a:lnTo>
                  <a:pt x="4" y="198"/>
                </a:lnTo>
                <a:lnTo>
                  <a:pt x="8" y="215"/>
                </a:lnTo>
                <a:lnTo>
                  <a:pt x="14" y="230"/>
                </a:lnTo>
                <a:lnTo>
                  <a:pt x="21" y="248"/>
                </a:lnTo>
                <a:lnTo>
                  <a:pt x="31" y="261"/>
                </a:lnTo>
                <a:lnTo>
                  <a:pt x="41" y="276"/>
                </a:lnTo>
                <a:lnTo>
                  <a:pt x="52" y="288"/>
                </a:lnTo>
                <a:lnTo>
                  <a:pt x="66" y="301"/>
                </a:lnTo>
                <a:lnTo>
                  <a:pt x="79" y="311"/>
                </a:lnTo>
                <a:lnTo>
                  <a:pt x="94" y="320"/>
                </a:lnTo>
                <a:lnTo>
                  <a:pt x="106" y="326"/>
                </a:lnTo>
                <a:lnTo>
                  <a:pt x="106" y="324"/>
                </a:lnTo>
                <a:lnTo>
                  <a:pt x="106" y="322"/>
                </a:lnTo>
                <a:lnTo>
                  <a:pt x="106" y="320"/>
                </a:lnTo>
                <a:lnTo>
                  <a:pt x="106" y="319"/>
                </a:lnTo>
                <a:lnTo>
                  <a:pt x="104" y="317"/>
                </a:lnTo>
                <a:lnTo>
                  <a:pt x="104" y="317"/>
                </a:lnTo>
                <a:lnTo>
                  <a:pt x="104" y="315"/>
                </a:lnTo>
                <a:lnTo>
                  <a:pt x="104" y="313"/>
                </a:lnTo>
                <a:lnTo>
                  <a:pt x="100" y="311"/>
                </a:lnTo>
                <a:lnTo>
                  <a:pt x="85" y="301"/>
                </a:lnTo>
                <a:lnTo>
                  <a:pt x="73" y="292"/>
                </a:lnTo>
                <a:lnTo>
                  <a:pt x="60" y="282"/>
                </a:lnTo>
                <a:lnTo>
                  <a:pt x="50" y="269"/>
                </a:lnTo>
                <a:lnTo>
                  <a:pt x="39" y="255"/>
                </a:lnTo>
                <a:lnTo>
                  <a:pt x="31" y="242"/>
                </a:lnTo>
                <a:lnTo>
                  <a:pt x="23" y="226"/>
                </a:lnTo>
                <a:lnTo>
                  <a:pt x="18" y="211"/>
                </a:lnTo>
                <a:lnTo>
                  <a:pt x="14" y="196"/>
                </a:lnTo>
                <a:lnTo>
                  <a:pt x="12" y="179"/>
                </a:lnTo>
                <a:lnTo>
                  <a:pt x="10" y="161"/>
                </a:lnTo>
                <a:lnTo>
                  <a:pt x="12" y="144"/>
                </a:lnTo>
                <a:lnTo>
                  <a:pt x="14" y="127"/>
                </a:lnTo>
                <a:lnTo>
                  <a:pt x="18" y="109"/>
                </a:lnTo>
                <a:lnTo>
                  <a:pt x="23" y="94"/>
                </a:lnTo>
                <a:lnTo>
                  <a:pt x="31" y="79"/>
                </a:lnTo>
                <a:lnTo>
                  <a:pt x="39" y="65"/>
                </a:lnTo>
                <a:lnTo>
                  <a:pt x="50" y="52"/>
                </a:lnTo>
                <a:lnTo>
                  <a:pt x="60" y="40"/>
                </a:lnTo>
                <a:lnTo>
                  <a:pt x="73" y="29"/>
                </a:lnTo>
                <a:lnTo>
                  <a:pt x="85" y="19"/>
                </a:lnTo>
                <a:lnTo>
                  <a:pt x="98" y="12"/>
                </a:lnTo>
                <a:lnTo>
                  <a:pt x="98" y="10"/>
                </a:lnTo>
                <a:lnTo>
                  <a:pt x="98" y="10"/>
                </a:lnTo>
                <a:lnTo>
                  <a:pt x="98" y="8"/>
                </a:lnTo>
                <a:lnTo>
                  <a:pt x="98" y="6"/>
                </a:lnTo>
                <a:lnTo>
                  <a:pt x="98" y="4"/>
                </a:lnTo>
                <a:lnTo>
                  <a:pt x="98" y="2"/>
                </a:lnTo>
                <a:lnTo>
                  <a:pt x="98" y="2"/>
                </a:lnTo>
                <a:lnTo>
                  <a:pt x="98" y="0"/>
                </a:lnTo>
                <a:close/>
              </a:path>
            </a:pathLst>
          </a:custGeom>
          <a:solidFill>
            <a:srgbClr val="de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Freeform 496"/>
          <p:cNvSpPr/>
          <p:nvPr/>
        </p:nvSpPr>
        <p:spPr>
          <a:xfrm>
            <a:off x="6066000" y="2997360"/>
            <a:ext cx="158760" cy="496800"/>
          </a:xfrm>
          <a:custGeom>
            <a:avLst/>
            <a:gdLst>
              <a:gd name="textAreaLeft" fmla="*/ 0 w 158760"/>
              <a:gd name="textAreaRight" fmla="*/ 159120 w 1587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100" h="313">
                <a:moveTo>
                  <a:pt x="92" y="0"/>
                </a:moveTo>
                <a:lnTo>
                  <a:pt x="90" y="0"/>
                </a:lnTo>
                <a:lnTo>
                  <a:pt x="77" y="9"/>
                </a:lnTo>
                <a:lnTo>
                  <a:pt x="63" y="19"/>
                </a:lnTo>
                <a:lnTo>
                  <a:pt x="50" y="31"/>
                </a:lnTo>
                <a:lnTo>
                  <a:pt x="38" y="44"/>
                </a:lnTo>
                <a:lnTo>
                  <a:pt x="29" y="57"/>
                </a:lnTo>
                <a:lnTo>
                  <a:pt x="21" y="71"/>
                </a:lnTo>
                <a:lnTo>
                  <a:pt x="13" y="86"/>
                </a:lnTo>
                <a:lnTo>
                  <a:pt x="8" y="103"/>
                </a:lnTo>
                <a:lnTo>
                  <a:pt x="2" y="119"/>
                </a:lnTo>
                <a:lnTo>
                  <a:pt x="0" y="136"/>
                </a:lnTo>
                <a:lnTo>
                  <a:pt x="0" y="155"/>
                </a:lnTo>
                <a:lnTo>
                  <a:pt x="0" y="173"/>
                </a:lnTo>
                <a:lnTo>
                  <a:pt x="2" y="190"/>
                </a:lnTo>
                <a:lnTo>
                  <a:pt x="8" y="207"/>
                </a:lnTo>
                <a:lnTo>
                  <a:pt x="13" y="222"/>
                </a:lnTo>
                <a:lnTo>
                  <a:pt x="21" y="238"/>
                </a:lnTo>
                <a:lnTo>
                  <a:pt x="29" y="253"/>
                </a:lnTo>
                <a:lnTo>
                  <a:pt x="38" y="267"/>
                </a:lnTo>
                <a:lnTo>
                  <a:pt x="50" y="278"/>
                </a:lnTo>
                <a:lnTo>
                  <a:pt x="63" y="290"/>
                </a:lnTo>
                <a:lnTo>
                  <a:pt x="77" y="301"/>
                </a:lnTo>
                <a:lnTo>
                  <a:pt x="90" y="309"/>
                </a:lnTo>
                <a:lnTo>
                  <a:pt x="100" y="313"/>
                </a:lnTo>
                <a:lnTo>
                  <a:pt x="98" y="311"/>
                </a:lnTo>
                <a:lnTo>
                  <a:pt x="98" y="311"/>
                </a:lnTo>
                <a:lnTo>
                  <a:pt x="98" y="309"/>
                </a:lnTo>
                <a:lnTo>
                  <a:pt x="98" y="307"/>
                </a:lnTo>
                <a:lnTo>
                  <a:pt x="98" y="305"/>
                </a:lnTo>
                <a:lnTo>
                  <a:pt x="98" y="303"/>
                </a:lnTo>
                <a:lnTo>
                  <a:pt x="98" y="303"/>
                </a:lnTo>
                <a:lnTo>
                  <a:pt x="98" y="301"/>
                </a:lnTo>
                <a:lnTo>
                  <a:pt x="96" y="299"/>
                </a:lnTo>
                <a:lnTo>
                  <a:pt x="83" y="291"/>
                </a:lnTo>
                <a:lnTo>
                  <a:pt x="69" y="282"/>
                </a:lnTo>
                <a:lnTo>
                  <a:pt x="58" y="272"/>
                </a:lnTo>
                <a:lnTo>
                  <a:pt x="48" y="259"/>
                </a:lnTo>
                <a:lnTo>
                  <a:pt x="38" y="247"/>
                </a:lnTo>
                <a:lnTo>
                  <a:pt x="29" y="234"/>
                </a:lnTo>
                <a:lnTo>
                  <a:pt x="23" y="219"/>
                </a:lnTo>
                <a:lnTo>
                  <a:pt x="17" y="203"/>
                </a:lnTo>
                <a:lnTo>
                  <a:pt x="13" y="188"/>
                </a:lnTo>
                <a:lnTo>
                  <a:pt x="12" y="173"/>
                </a:lnTo>
                <a:lnTo>
                  <a:pt x="10" y="155"/>
                </a:lnTo>
                <a:lnTo>
                  <a:pt x="12" y="138"/>
                </a:lnTo>
                <a:lnTo>
                  <a:pt x="13" y="121"/>
                </a:lnTo>
                <a:lnTo>
                  <a:pt x="17" y="105"/>
                </a:lnTo>
                <a:lnTo>
                  <a:pt x="23" y="90"/>
                </a:lnTo>
                <a:lnTo>
                  <a:pt x="29" y="77"/>
                </a:lnTo>
                <a:lnTo>
                  <a:pt x="38" y="63"/>
                </a:lnTo>
                <a:lnTo>
                  <a:pt x="48" y="50"/>
                </a:lnTo>
                <a:lnTo>
                  <a:pt x="58" y="38"/>
                </a:lnTo>
                <a:lnTo>
                  <a:pt x="69" y="27"/>
                </a:lnTo>
                <a:lnTo>
                  <a:pt x="83" y="17"/>
                </a:lnTo>
                <a:lnTo>
                  <a:pt x="92" y="13"/>
                </a:lnTo>
                <a:lnTo>
                  <a:pt x="92" y="11"/>
                </a:lnTo>
                <a:lnTo>
                  <a:pt x="92" y="9"/>
                </a:lnTo>
                <a:lnTo>
                  <a:pt x="92" y="8"/>
                </a:lnTo>
                <a:lnTo>
                  <a:pt x="92" y="6"/>
                </a:lnTo>
                <a:lnTo>
                  <a:pt x="92" y="4"/>
                </a:lnTo>
                <a:lnTo>
                  <a:pt x="92" y="4"/>
                </a:lnTo>
                <a:lnTo>
                  <a:pt x="92" y="2"/>
                </a:lnTo>
                <a:lnTo>
                  <a:pt x="92" y="0"/>
                </a:lnTo>
                <a:close/>
              </a:path>
            </a:pathLst>
          </a:custGeom>
          <a:solidFill>
            <a:srgbClr val="df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Freeform 497"/>
          <p:cNvSpPr/>
          <p:nvPr/>
        </p:nvSpPr>
        <p:spPr>
          <a:xfrm>
            <a:off x="6072120" y="3006720"/>
            <a:ext cx="149400" cy="477720"/>
          </a:xfrm>
          <a:custGeom>
            <a:avLst/>
            <a:gdLst>
              <a:gd name="textAreaLeft" fmla="*/ 0 w 149400"/>
              <a:gd name="textAreaRight" fmla="*/ 149760 w 149400"/>
              <a:gd name="textAreaTop" fmla="*/ 0 h 477720"/>
              <a:gd name="textAreaBottom" fmla="*/ 477720 h 477720"/>
            </a:gdLst>
            <a:ahLst/>
            <a:rect l="textAreaLeft" t="textAreaTop" r="textAreaRight" b="textAreaBottom"/>
            <a:pathLst>
              <a:path w="94" h="301">
                <a:moveTo>
                  <a:pt x="88" y="0"/>
                </a:moveTo>
                <a:lnTo>
                  <a:pt x="75" y="7"/>
                </a:lnTo>
                <a:lnTo>
                  <a:pt x="63" y="17"/>
                </a:lnTo>
                <a:lnTo>
                  <a:pt x="50" y="28"/>
                </a:lnTo>
                <a:lnTo>
                  <a:pt x="40" y="40"/>
                </a:lnTo>
                <a:lnTo>
                  <a:pt x="29" y="53"/>
                </a:lnTo>
                <a:lnTo>
                  <a:pt x="21" y="67"/>
                </a:lnTo>
                <a:lnTo>
                  <a:pt x="13" y="82"/>
                </a:lnTo>
                <a:lnTo>
                  <a:pt x="8" y="97"/>
                </a:lnTo>
                <a:lnTo>
                  <a:pt x="4" y="115"/>
                </a:lnTo>
                <a:lnTo>
                  <a:pt x="2" y="132"/>
                </a:lnTo>
                <a:lnTo>
                  <a:pt x="0" y="149"/>
                </a:lnTo>
                <a:lnTo>
                  <a:pt x="2" y="167"/>
                </a:lnTo>
                <a:lnTo>
                  <a:pt x="4" y="184"/>
                </a:lnTo>
                <a:lnTo>
                  <a:pt x="8" y="199"/>
                </a:lnTo>
                <a:lnTo>
                  <a:pt x="13" y="214"/>
                </a:lnTo>
                <a:lnTo>
                  <a:pt x="21" y="230"/>
                </a:lnTo>
                <a:lnTo>
                  <a:pt x="29" y="243"/>
                </a:lnTo>
                <a:lnTo>
                  <a:pt x="40" y="257"/>
                </a:lnTo>
                <a:lnTo>
                  <a:pt x="50" y="270"/>
                </a:lnTo>
                <a:lnTo>
                  <a:pt x="63" y="280"/>
                </a:lnTo>
                <a:lnTo>
                  <a:pt x="75" y="289"/>
                </a:lnTo>
                <a:lnTo>
                  <a:pt x="90" y="299"/>
                </a:lnTo>
                <a:lnTo>
                  <a:pt x="94" y="301"/>
                </a:lnTo>
                <a:lnTo>
                  <a:pt x="94" y="299"/>
                </a:lnTo>
                <a:lnTo>
                  <a:pt x="94" y="297"/>
                </a:lnTo>
                <a:lnTo>
                  <a:pt x="94" y="295"/>
                </a:lnTo>
                <a:lnTo>
                  <a:pt x="94" y="295"/>
                </a:lnTo>
                <a:lnTo>
                  <a:pt x="94" y="293"/>
                </a:lnTo>
                <a:lnTo>
                  <a:pt x="94" y="291"/>
                </a:lnTo>
                <a:lnTo>
                  <a:pt x="92" y="289"/>
                </a:lnTo>
                <a:lnTo>
                  <a:pt x="92" y="287"/>
                </a:lnTo>
                <a:lnTo>
                  <a:pt x="82" y="282"/>
                </a:lnTo>
                <a:lnTo>
                  <a:pt x="69" y="272"/>
                </a:lnTo>
                <a:lnTo>
                  <a:pt x="57" y="262"/>
                </a:lnTo>
                <a:lnTo>
                  <a:pt x="48" y="251"/>
                </a:lnTo>
                <a:lnTo>
                  <a:pt x="38" y="237"/>
                </a:lnTo>
                <a:lnTo>
                  <a:pt x="31" y="224"/>
                </a:lnTo>
                <a:lnTo>
                  <a:pt x="23" y="211"/>
                </a:lnTo>
                <a:lnTo>
                  <a:pt x="19" y="197"/>
                </a:lnTo>
                <a:lnTo>
                  <a:pt x="15" y="182"/>
                </a:lnTo>
                <a:lnTo>
                  <a:pt x="11" y="165"/>
                </a:lnTo>
                <a:lnTo>
                  <a:pt x="11" y="149"/>
                </a:lnTo>
                <a:lnTo>
                  <a:pt x="11" y="132"/>
                </a:lnTo>
                <a:lnTo>
                  <a:pt x="15" y="117"/>
                </a:lnTo>
                <a:lnTo>
                  <a:pt x="19" y="101"/>
                </a:lnTo>
                <a:lnTo>
                  <a:pt x="23" y="86"/>
                </a:lnTo>
                <a:lnTo>
                  <a:pt x="31" y="72"/>
                </a:lnTo>
                <a:lnTo>
                  <a:pt x="38" y="59"/>
                </a:lnTo>
                <a:lnTo>
                  <a:pt x="48" y="48"/>
                </a:lnTo>
                <a:lnTo>
                  <a:pt x="57" y="36"/>
                </a:lnTo>
                <a:lnTo>
                  <a:pt x="69" y="26"/>
                </a:lnTo>
                <a:lnTo>
                  <a:pt x="82" y="17"/>
                </a:lnTo>
                <a:lnTo>
                  <a:pt x="86" y="13"/>
                </a:lnTo>
                <a:lnTo>
                  <a:pt x="86" y="11"/>
                </a:lnTo>
                <a:lnTo>
                  <a:pt x="86" y="9"/>
                </a:lnTo>
                <a:lnTo>
                  <a:pt x="88" y="9"/>
                </a:lnTo>
                <a:lnTo>
                  <a:pt x="88" y="7"/>
                </a:lnTo>
                <a:lnTo>
                  <a:pt x="88" y="5"/>
                </a:lnTo>
                <a:lnTo>
                  <a:pt x="88" y="3"/>
                </a:lnTo>
                <a:lnTo>
                  <a:pt x="88" y="2"/>
                </a:lnTo>
                <a:lnTo>
                  <a:pt x="88" y="0"/>
                </a:lnTo>
                <a:close/>
              </a:path>
            </a:pathLst>
          </a:custGeom>
          <a:solidFill>
            <a:srgbClr val="e0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Freeform 498"/>
          <p:cNvSpPr/>
          <p:nvPr/>
        </p:nvSpPr>
        <p:spPr>
          <a:xfrm>
            <a:off x="6081840" y="3017880"/>
            <a:ext cx="139680" cy="457200"/>
          </a:xfrm>
          <a:custGeom>
            <a:avLst/>
            <a:gdLst>
              <a:gd name="textAreaLeft" fmla="*/ 0 w 139680"/>
              <a:gd name="textAreaRight" fmla="*/ 140040 w 13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88" h="288">
                <a:moveTo>
                  <a:pt x="82" y="0"/>
                </a:moveTo>
                <a:lnTo>
                  <a:pt x="73" y="4"/>
                </a:lnTo>
                <a:lnTo>
                  <a:pt x="59" y="14"/>
                </a:lnTo>
                <a:lnTo>
                  <a:pt x="48" y="25"/>
                </a:lnTo>
                <a:lnTo>
                  <a:pt x="38" y="37"/>
                </a:lnTo>
                <a:lnTo>
                  <a:pt x="28" y="50"/>
                </a:lnTo>
                <a:lnTo>
                  <a:pt x="19" y="64"/>
                </a:lnTo>
                <a:lnTo>
                  <a:pt x="13" y="77"/>
                </a:lnTo>
                <a:lnTo>
                  <a:pt x="7" y="92"/>
                </a:lnTo>
                <a:lnTo>
                  <a:pt x="3" y="108"/>
                </a:lnTo>
                <a:lnTo>
                  <a:pt x="2" y="125"/>
                </a:lnTo>
                <a:lnTo>
                  <a:pt x="0" y="142"/>
                </a:lnTo>
                <a:lnTo>
                  <a:pt x="2" y="160"/>
                </a:lnTo>
                <a:lnTo>
                  <a:pt x="3" y="175"/>
                </a:lnTo>
                <a:lnTo>
                  <a:pt x="7" y="190"/>
                </a:lnTo>
                <a:lnTo>
                  <a:pt x="13" y="206"/>
                </a:lnTo>
                <a:lnTo>
                  <a:pt x="19" y="221"/>
                </a:lnTo>
                <a:lnTo>
                  <a:pt x="28" y="234"/>
                </a:lnTo>
                <a:lnTo>
                  <a:pt x="38" y="246"/>
                </a:lnTo>
                <a:lnTo>
                  <a:pt x="48" y="259"/>
                </a:lnTo>
                <a:lnTo>
                  <a:pt x="59" y="269"/>
                </a:lnTo>
                <a:lnTo>
                  <a:pt x="73" y="278"/>
                </a:lnTo>
                <a:lnTo>
                  <a:pt x="86" y="286"/>
                </a:lnTo>
                <a:lnTo>
                  <a:pt x="88" y="288"/>
                </a:lnTo>
                <a:lnTo>
                  <a:pt x="88" y="286"/>
                </a:lnTo>
                <a:lnTo>
                  <a:pt x="88" y="284"/>
                </a:lnTo>
                <a:lnTo>
                  <a:pt x="86" y="282"/>
                </a:lnTo>
                <a:lnTo>
                  <a:pt x="86" y="280"/>
                </a:lnTo>
                <a:lnTo>
                  <a:pt x="86" y="278"/>
                </a:lnTo>
                <a:lnTo>
                  <a:pt x="86" y="277"/>
                </a:lnTo>
                <a:lnTo>
                  <a:pt x="86" y="277"/>
                </a:lnTo>
                <a:lnTo>
                  <a:pt x="86" y="275"/>
                </a:lnTo>
                <a:lnTo>
                  <a:pt x="78" y="269"/>
                </a:lnTo>
                <a:lnTo>
                  <a:pt x="67" y="261"/>
                </a:lnTo>
                <a:lnTo>
                  <a:pt x="55" y="252"/>
                </a:lnTo>
                <a:lnTo>
                  <a:pt x="46" y="240"/>
                </a:lnTo>
                <a:lnTo>
                  <a:pt x="36" y="229"/>
                </a:lnTo>
                <a:lnTo>
                  <a:pt x="28" y="215"/>
                </a:lnTo>
                <a:lnTo>
                  <a:pt x="23" y="202"/>
                </a:lnTo>
                <a:lnTo>
                  <a:pt x="17" y="188"/>
                </a:lnTo>
                <a:lnTo>
                  <a:pt x="13" y="173"/>
                </a:lnTo>
                <a:lnTo>
                  <a:pt x="11" y="158"/>
                </a:lnTo>
                <a:lnTo>
                  <a:pt x="11" y="142"/>
                </a:lnTo>
                <a:lnTo>
                  <a:pt x="11" y="127"/>
                </a:lnTo>
                <a:lnTo>
                  <a:pt x="13" y="112"/>
                </a:lnTo>
                <a:lnTo>
                  <a:pt x="17" y="96"/>
                </a:lnTo>
                <a:lnTo>
                  <a:pt x="23" y="81"/>
                </a:lnTo>
                <a:lnTo>
                  <a:pt x="28" y="67"/>
                </a:lnTo>
                <a:lnTo>
                  <a:pt x="36" y="56"/>
                </a:lnTo>
                <a:lnTo>
                  <a:pt x="46" y="44"/>
                </a:lnTo>
                <a:lnTo>
                  <a:pt x="55" y="33"/>
                </a:lnTo>
                <a:lnTo>
                  <a:pt x="67" y="23"/>
                </a:lnTo>
                <a:lnTo>
                  <a:pt x="78" y="14"/>
                </a:lnTo>
                <a:lnTo>
                  <a:pt x="80" y="14"/>
                </a:lnTo>
                <a:lnTo>
                  <a:pt x="80" y="12"/>
                </a:lnTo>
                <a:lnTo>
                  <a:pt x="80" y="10"/>
                </a:lnTo>
                <a:lnTo>
                  <a:pt x="80" y="8"/>
                </a:lnTo>
                <a:lnTo>
                  <a:pt x="80" y="6"/>
                </a:lnTo>
                <a:lnTo>
                  <a:pt x="80" y="4"/>
                </a:lnTo>
                <a:lnTo>
                  <a:pt x="80" y="2"/>
                </a:lnTo>
                <a:lnTo>
                  <a:pt x="82" y="2"/>
                </a:lnTo>
                <a:lnTo>
                  <a:pt x="82" y="0"/>
                </a:lnTo>
                <a:close/>
              </a:path>
            </a:pathLst>
          </a:custGeom>
          <a:solidFill>
            <a:srgbClr val="e1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Freeform 499"/>
          <p:cNvSpPr/>
          <p:nvPr/>
        </p:nvSpPr>
        <p:spPr>
          <a:xfrm>
            <a:off x="6089760" y="3027240"/>
            <a:ext cx="128520" cy="435240"/>
          </a:xfrm>
          <a:custGeom>
            <a:avLst/>
            <a:gdLst>
              <a:gd name="textAreaLeft" fmla="*/ 0 w 128520"/>
              <a:gd name="textAreaRight" fmla="*/ 128880 w 12852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81" h="274">
                <a:moveTo>
                  <a:pt x="75" y="0"/>
                </a:moveTo>
                <a:lnTo>
                  <a:pt x="71" y="4"/>
                </a:lnTo>
                <a:lnTo>
                  <a:pt x="58" y="13"/>
                </a:lnTo>
                <a:lnTo>
                  <a:pt x="46" y="23"/>
                </a:lnTo>
                <a:lnTo>
                  <a:pt x="37" y="35"/>
                </a:lnTo>
                <a:lnTo>
                  <a:pt x="27" y="46"/>
                </a:lnTo>
                <a:lnTo>
                  <a:pt x="20" y="59"/>
                </a:lnTo>
                <a:lnTo>
                  <a:pt x="12" y="73"/>
                </a:lnTo>
                <a:lnTo>
                  <a:pt x="8" y="88"/>
                </a:lnTo>
                <a:lnTo>
                  <a:pt x="4" y="104"/>
                </a:lnTo>
                <a:lnTo>
                  <a:pt x="0" y="119"/>
                </a:lnTo>
                <a:lnTo>
                  <a:pt x="0" y="136"/>
                </a:lnTo>
                <a:lnTo>
                  <a:pt x="0" y="152"/>
                </a:lnTo>
                <a:lnTo>
                  <a:pt x="4" y="169"/>
                </a:lnTo>
                <a:lnTo>
                  <a:pt x="8" y="184"/>
                </a:lnTo>
                <a:lnTo>
                  <a:pt x="12" y="198"/>
                </a:lnTo>
                <a:lnTo>
                  <a:pt x="20" y="211"/>
                </a:lnTo>
                <a:lnTo>
                  <a:pt x="27" y="224"/>
                </a:lnTo>
                <a:lnTo>
                  <a:pt x="37" y="238"/>
                </a:lnTo>
                <a:lnTo>
                  <a:pt x="46" y="249"/>
                </a:lnTo>
                <a:lnTo>
                  <a:pt x="58" y="259"/>
                </a:lnTo>
                <a:lnTo>
                  <a:pt x="71" y="269"/>
                </a:lnTo>
                <a:lnTo>
                  <a:pt x="81" y="274"/>
                </a:lnTo>
                <a:lnTo>
                  <a:pt x="81" y="272"/>
                </a:lnTo>
                <a:lnTo>
                  <a:pt x="81" y="272"/>
                </a:lnTo>
                <a:lnTo>
                  <a:pt x="81" y="271"/>
                </a:lnTo>
                <a:lnTo>
                  <a:pt x="81" y="269"/>
                </a:lnTo>
                <a:lnTo>
                  <a:pt x="81" y="267"/>
                </a:lnTo>
                <a:lnTo>
                  <a:pt x="81" y="265"/>
                </a:lnTo>
                <a:lnTo>
                  <a:pt x="81" y="263"/>
                </a:lnTo>
                <a:lnTo>
                  <a:pt x="81" y="261"/>
                </a:lnTo>
                <a:lnTo>
                  <a:pt x="77" y="259"/>
                </a:lnTo>
                <a:lnTo>
                  <a:pt x="66" y="251"/>
                </a:lnTo>
                <a:lnTo>
                  <a:pt x="54" y="242"/>
                </a:lnTo>
                <a:lnTo>
                  <a:pt x="45" y="230"/>
                </a:lnTo>
                <a:lnTo>
                  <a:pt x="37" y="219"/>
                </a:lnTo>
                <a:lnTo>
                  <a:pt x="29" y="207"/>
                </a:lnTo>
                <a:lnTo>
                  <a:pt x="23" y="194"/>
                </a:lnTo>
                <a:lnTo>
                  <a:pt x="18" y="180"/>
                </a:lnTo>
                <a:lnTo>
                  <a:pt x="14" y="165"/>
                </a:lnTo>
                <a:lnTo>
                  <a:pt x="12" y="152"/>
                </a:lnTo>
                <a:lnTo>
                  <a:pt x="10" y="136"/>
                </a:lnTo>
                <a:lnTo>
                  <a:pt x="12" y="121"/>
                </a:lnTo>
                <a:lnTo>
                  <a:pt x="14" y="106"/>
                </a:lnTo>
                <a:lnTo>
                  <a:pt x="18" y="92"/>
                </a:lnTo>
                <a:lnTo>
                  <a:pt x="23" y="79"/>
                </a:lnTo>
                <a:lnTo>
                  <a:pt x="29" y="65"/>
                </a:lnTo>
                <a:lnTo>
                  <a:pt x="37" y="52"/>
                </a:lnTo>
                <a:lnTo>
                  <a:pt x="45" y="40"/>
                </a:lnTo>
                <a:lnTo>
                  <a:pt x="54" y="31"/>
                </a:lnTo>
                <a:lnTo>
                  <a:pt x="66" y="21"/>
                </a:lnTo>
                <a:lnTo>
                  <a:pt x="75" y="13"/>
                </a:lnTo>
                <a:lnTo>
                  <a:pt x="75" y="12"/>
                </a:lnTo>
                <a:lnTo>
                  <a:pt x="75" y="10"/>
                </a:lnTo>
                <a:lnTo>
                  <a:pt x="75" y="8"/>
                </a:lnTo>
                <a:lnTo>
                  <a:pt x="75" y="8"/>
                </a:lnTo>
                <a:lnTo>
                  <a:pt x="75" y="6"/>
                </a:lnTo>
                <a:lnTo>
                  <a:pt x="75" y="4"/>
                </a:lnTo>
                <a:lnTo>
                  <a:pt x="75" y="2"/>
                </a:lnTo>
                <a:lnTo>
                  <a:pt x="75" y="0"/>
                </a:lnTo>
                <a:close/>
              </a:path>
            </a:pathLst>
          </a:custGeom>
          <a:solidFill>
            <a:srgbClr val="e2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Freeform 500"/>
          <p:cNvSpPr/>
          <p:nvPr/>
        </p:nvSpPr>
        <p:spPr>
          <a:xfrm>
            <a:off x="6099120" y="3040200"/>
            <a:ext cx="119160" cy="414360"/>
          </a:xfrm>
          <a:custGeom>
            <a:avLst/>
            <a:gdLst>
              <a:gd name="textAreaLeft" fmla="*/ 0 w 119160"/>
              <a:gd name="textAreaRight" fmla="*/ 119520 w 1191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75" h="261">
                <a:moveTo>
                  <a:pt x="69" y="0"/>
                </a:moveTo>
                <a:lnTo>
                  <a:pt x="67" y="0"/>
                </a:lnTo>
                <a:lnTo>
                  <a:pt x="56" y="9"/>
                </a:lnTo>
                <a:lnTo>
                  <a:pt x="44" y="19"/>
                </a:lnTo>
                <a:lnTo>
                  <a:pt x="35" y="30"/>
                </a:lnTo>
                <a:lnTo>
                  <a:pt x="25" y="42"/>
                </a:lnTo>
                <a:lnTo>
                  <a:pt x="17" y="53"/>
                </a:lnTo>
                <a:lnTo>
                  <a:pt x="12" y="67"/>
                </a:lnTo>
                <a:lnTo>
                  <a:pt x="6" y="82"/>
                </a:lnTo>
                <a:lnTo>
                  <a:pt x="2" y="98"/>
                </a:lnTo>
                <a:lnTo>
                  <a:pt x="0" y="113"/>
                </a:lnTo>
                <a:lnTo>
                  <a:pt x="0" y="128"/>
                </a:lnTo>
                <a:lnTo>
                  <a:pt x="0" y="144"/>
                </a:lnTo>
                <a:lnTo>
                  <a:pt x="2" y="159"/>
                </a:lnTo>
                <a:lnTo>
                  <a:pt x="6" y="174"/>
                </a:lnTo>
                <a:lnTo>
                  <a:pt x="12" y="188"/>
                </a:lnTo>
                <a:lnTo>
                  <a:pt x="17" y="201"/>
                </a:lnTo>
                <a:lnTo>
                  <a:pt x="25" y="215"/>
                </a:lnTo>
                <a:lnTo>
                  <a:pt x="35" y="226"/>
                </a:lnTo>
                <a:lnTo>
                  <a:pt x="44" y="238"/>
                </a:lnTo>
                <a:lnTo>
                  <a:pt x="56" y="247"/>
                </a:lnTo>
                <a:lnTo>
                  <a:pt x="67" y="255"/>
                </a:lnTo>
                <a:lnTo>
                  <a:pt x="75" y="261"/>
                </a:lnTo>
                <a:lnTo>
                  <a:pt x="75" y="259"/>
                </a:lnTo>
                <a:lnTo>
                  <a:pt x="75" y="257"/>
                </a:lnTo>
                <a:lnTo>
                  <a:pt x="75" y="255"/>
                </a:lnTo>
                <a:lnTo>
                  <a:pt x="75" y="253"/>
                </a:lnTo>
                <a:lnTo>
                  <a:pt x="73" y="251"/>
                </a:lnTo>
                <a:lnTo>
                  <a:pt x="73" y="251"/>
                </a:lnTo>
                <a:lnTo>
                  <a:pt x="73" y="249"/>
                </a:lnTo>
                <a:lnTo>
                  <a:pt x="73" y="247"/>
                </a:lnTo>
                <a:lnTo>
                  <a:pt x="62" y="240"/>
                </a:lnTo>
                <a:lnTo>
                  <a:pt x="52" y="230"/>
                </a:lnTo>
                <a:lnTo>
                  <a:pt x="42" y="218"/>
                </a:lnTo>
                <a:lnTo>
                  <a:pt x="35" y="209"/>
                </a:lnTo>
                <a:lnTo>
                  <a:pt x="27" y="195"/>
                </a:lnTo>
                <a:lnTo>
                  <a:pt x="21" y="184"/>
                </a:lnTo>
                <a:lnTo>
                  <a:pt x="17" y="170"/>
                </a:lnTo>
                <a:lnTo>
                  <a:pt x="14" y="157"/>
                </a:lnTo>
                <a:lnTo>
                  <a:pt x="12" y="142"/>
                </a:lnTo>
                <a:lnTo>
                  <a:pt x="10" y="128"/>
                </a:lnTo>
                <a:lnTo>
                  <a:pt x="12" y="113"/>
                </a:lnTo>
                <a:lnTo>
                  <a:pt x="14" y="99"/>
                </a:lnTo>
                <a:lnTo>
                  <a:pt x="17" y="84"/>
                </a:lnTo>
                <a:lnTo>
                  <a:pt x="21" y="73"/>
                </a:lnTo>
                <a:lnTo>
                  <a:pt x="27" y="59"/>
                </a:lnTo>
                <a:lnTo>
                  <a:pt x="35" y="48"/>
                </a:lnTo>
                <a:lnTo>
                  <a:pt x="42" y="36"/>
                </a:lnTo>
                <a:lnTo>
                  <a:pt x="52" y="27"/>
                </a:lnTo>
                <a:lnTo>
                  <a:pt x="62" y="17"/>
                </a:lnTo>
                <a:lnTo>
                  <a:pt x="69" y="13"/>
                </a:lnTo>
                <a:lnTo>
                  <a:pt x="69" y="11"/>
                </a:lnTo>
                <a:lnTo>
                  <a:pt x="69" y="9"/>
                </a:lnTo>
                <a:lnTo>
                  <a:pt x="69" y="7"/>
                </a:lnTo>
                <a:lnTo>
                  <a:pt x="69" y="5"/>
                </a:lnTo>
                <a:lnTo>
                  <a:pt x="69" y="4"/>
                </a:lnTo>
                <a:lnTo>
                  <a:pt x="69" y="2"/>
                </a:lnTo>
                <a:lnTo>
                  <a:pt x="69" y="0"/>
                </a:lnTo>
                <a:lnTo>
                  <a:pt x="69" y="0"/>
                </a:lnTo>
                <a:close/>
              </a:path>
            </a:pathLst>
          </a:custGeom>
          <a:solidFill>
            <a:srgbClr val="e3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Freeform 501"/>
          <p:cNvSpPr/>
          <p:nvPr/>
        </p:nvSpPr>
        <p:spPr>
          <a:xfrm>
            <a:off x="6105600" y="3048120"/>
            <a:ext cx="112680" cy="393480"/>
          </a:xfrm>
          <a:custGeom>
            <a:avLst/>
            <a:gdLst>
              <a:gd name="textAreaLeft" fmla="*/ 0 w 112680"/>
              <a:gd name="textAreaRight" fmla="*/ 113040 w 1126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71" h="248">
                <a:moveTo>
                  <a:pt x="65" y="0"/>
                </a:moveTo>
                <a:lnTo>
                  <a:pt x="56" y="8"/>
                </a:lnTo>
                <a:lnTo>
                  <a:pt x="44" y="18"/>
                </a:lnTo>
                <a:lnTo>
                  <a:pt x="35" y="27"/>
                </a:lnTo>
                <a:lnTo>
                  <a:pt x="27" y="39"/>
                </a:lnTo>
                <a:lnTo>
                  <a:pt x="19" y="52"/>
                </a:lnTo>
                <a:lnTo>
                  <a:pt x="13" y="66"/>
                </a:lnTo>
                <a:lnTo>
                  <a:pt x="8" y="79"/>
                </a:lnTo>
                <a:lnTo>
                  <a:pt x="4" y="93"/>
                </a:lnTo>
                <a:lnTo>
                  <a:pt x="2" y="108"/>
                </a:lnTo>
                <a:lnTo>
                  <a:pt x="0" y="123"/>
                </a:lnTo>
                <a:lnTo>
                  <a:pt x="2" y="139"/>
                </a:lnTo>
                <a:lnTo>
                  <a:pt x="4" y="152"/>
                </a:lnTo>
                <a:lnTo>
                  <a:pt x="8" y="167"/>
                </a:lnTo>
                <a:lnTo>
                  <a:pt x="13" y="181"/>
                </a:lnTo>
                <a:lnTo>
                  <a:pt x="19" y="194"/>
                </a:lnTo>
                <a:lnTo>
                  <a:pt x="27" y="206"/>
                </a:lnTo>
                <a:lnTo>
                  <a:pt x="35" y="217"/>
                </a:lnTo>
                <a:lnTo>
                  <a:pt x="44" y="229"/>
                </a:lnTo>
                <a:lnTo>
                  <a:pt x="56" y="238"/>
                </a:lnTo>
                <a:lnTo>
                  <a:pt x="67" y="246"/>
                </a:lnTo>
                <a:lnTo>
                  <a:pt x="71" y="248"/>
                </a:lnTo>
                <a:lnTo>
                  <a:pt x="69" y="246"/>
                </a:lnTo>
                <a:lnTo>
                  <a:pt x="69" y="244"/>
                </a:lnTo>
                <a:lnTo>
                  <a:pt x="69" y="244"/>
                </a:lnTo>
                <a:lnTo>
                  <a:pt x="69" y="242"/>
                </a:lnTo>
                <a:lnTo>
                  <a:pt x="69" y="240"/>
                </a:lnTo>
                <a:lnTo>
                  <a:pt x="69" y="238"/>
                </a:lnTo>
                <a:lnTo>
                  <a:pt x="69" y="236"/>
                </a:lnTo>
                <a:lnTo>
                  <a:pt x="69" y="235"/>
                </a:lnTo>
                <a:lnTo>
                  <a:pt x="61" y="229"/>
                </a:lnTo>
                <a:lnTo>
                  <a:pt x="52" y="221"/>
                </a:lnTo>
                <a:lnTo>
                  <a:pt x="42" y="211"/>
                </a:lnTo>
                <a:lnTo>
                  <a:pt x="35" y="200"/>
                </a:lnTo>
                <a:lnTo>
                  <a:pt x="29" y="188"/>
                </a:lnTo>
                <a:lnTo>
                  <a:pt x="23" y="177"/>
                </a:lnTo>
                <a:lnTo>
                  <a:pt x="17" y="164"/>
                </a:lnTo>
                <a:lnTo>
                  <a:pt x="13" y="150"/>
                </a:lnTo>
                <a:lnTo>
                  <a:pt x="12" y="137"/>
                </a:lnTo>
                <a:lnTo>
                  <a:pt x="12" y="123"/>
                </a:lnTo>
                <a:lnTo>
                  <a:pt x="12" y="108"/>
                </a:lnTo>
                <a:lnTo>
                  <a:pt x="13" y="94"/>
                </a:lnTo>
                <a:lnTo>
                  <a:pt x="17" y="81"/>
                </a:lnTo>
                <a:lnTo>
                  <a:pt x="23" y="70"/>
                </a:lnTo>
                <a:lnTo>
                  <a:pt x="29" y="56"/>
                </a:lnTo>
                <a:lnTo>
                  <a:pt x="35" y="45"/>
                </a:lnTo>
                <a:lnTo>
                  <a:pt x="42" y="35"/>
                </a:lnTo>
                <a:lnTo>
                  <a:pt x="52" y="25"/>
                </a:lnTo>
                <a:lnTo>
                  <a:pt x="61" y="16"/>
                </a:lnTo>
                <a:lnTo>
                  <a:pt x="63" y="14"/>
                </a:lnTo>
                <a:lnTo>
                  <a:pt x="63" y="12"/>
                </a:lnTo>
                <a:lnTo>
                  <a:pt x="63" y="10"/>
                </a:lnTo>
                <a:lnTo>
                  <a:pt x="63" y="10"/>
                </a:lnTo>
                <a:lnTo>
                  <a:pt x="65" y="8"/>
                </a:lnTo>
                <a:lnTo>
                  <a:pt x="65" y="6"/>
                </a:lnTo>
                <a:lnTo>
                  <a:pt x="65" y="4"/>
                </a:lnTo>
                <a:lnTo>
                  <a:pt x="65" y="2"/>
                </a:lnTo>
                <a:lnTo>
                  <a:pt x="65" y="0"/>
                </a:lnTo>
                <a:close/>
              </a:path>
            </a:pathLst>
          </a:custGeom>
          <a:solidFill>
            <a:srgbClr val="e4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Freeform 502"/>
          <p:cNvSpPr/>
          <p:nvPr/>
        </p:nvSpPr>
        <p:spPr>
          <a:xfrm>
            <a:off x="6114960" y="3060720"/>
            <a:ext cx="100080" cy="371520"/>
          </a:xfrm>
          <a:custGeom>
            <a:avLst/>
            <a:gdLst>
              <a:gd name="textAreaLeft" fmla="*/ 0 w 100080"/>
              <a:gd name="textAreaRight" fmla="*/ 100440 w 1000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63" h="234">
                <a:moveTo>
                  <a:pt x="59" y="0"/>
                </a:moveTo>
                <a:lnTo>
                  <a:pt x="52" y="4"/>
                </a:lnTo>
                <a:lnTo>
                  <a:pt x="42" y="14"/>
                </a:lnTo>
                <a:lnTo>
                  <a:pt x="32" y="23"/>
                </a:lnTo>
                <a:lnTo>
                  <a:pt x="25" y="35"/>
                </a:lnTo>
                <a:lnTo>
                  <a:pt x="17" y="46"/>
                </a:lnTo>
                <a:lnTo>
                  <a:pt x="11" y="60"/>
                </a:lnTo>
                <a:lnTo>
                  <a:pt x="7" y="71"/>
                </a:lnTo>
                <a:lnTo>
                  <a:pt x="4" y="86"/>
                </a:lnTo>
                <a:lnTo>
                  <a:pt x="2" y="100"/>
                </a:lnTo>
                <a:lnTo>
                  <a:pt x="0" y="115"/>
                </a:lnTo>
                <a:lnTo>
                  <a:pt x="2" y="129"/>
                </a:lnTo>
                <a:lnTo>
                  <a:pt x="4" y="144"/>
                </a:lnTo>
                <a:lnTo>
                  <a:pt x="7" y="157"/>
                </a:lnTo>
                <a:lnTo>
                  <a:pt x="11" y="171"/>
                </a:lnTo>
                <a:lnTo>
                  <a:pt x="17" y="182"/>
                </a:lnTo>
                <a:lnTo>
                  <a:pt x="25" y="196"/>
                </a:lnTo>
                <a:lnTo>
                  <a:pt x="32" y="205"/>
                </a:lnTo>
                <a:lnTo>
                  <a:pt x="42" y="217"/>
                </a:lnTo>
                <a:lnTo>
                  <a:pt x="52" y="227"/>
                </a:lnTo>
                <a:lnTo>
                  <a:pt x="63" y="234"/>
                </a:lnTo>
                <a:lnTo>
                  <a:pt x="63" y="232"/>
                </a:lnTo>
                <a:lnTo>
                  <a:pt x="63" y="230"/>
                </a:lnTo>
                <a:lnTo>
                  <a:pt x="63" y="228"/>
                </a:lnTo>
                <a:lnTo>
                  <a:pt x="63" y="227"/>
                </a:lnTo>
                <a:lnTo>
                  <a:pt x="63" y="225"/>
                </a:lnTo>
                <a:lnTo>
                  <a:pt x="63" y="223"/>
                </a:lnTo>
                <a:lnTo>
                  <a:pt x="61" y="221"/>
                </a:lnTo>
                <a:lnTo>
                  <a:pt x="61" y="219"/>
                </a:lnTo>
                <a:lnTo>
                  <a:pt x="59" y="217"/>
                </a:lnTo>
                <a:lnTo>
                  <a:pt x="50" y="209"/>
                </a:lnTo>
                <a:lnTo>
                  <a:pt x="42" y="200"/>
                </a:lnTo>
                <a:lnTo>
                  <a:pt x="34" y="190"/>
                </a:lnTo>
                <a:lnTo>
                  <a:pt x="27" y="179"/>
                </a:lnTo>
                <a:lnTo>
                  <a:pt x="21" y="167"/>
                </a:lnTo>
                <a:lnTo>
                  <a:pt x="17" y="154"/>
                </a:lnTo>
                <a:lnTo>
                  <a:pt x="13" y="142"/>
                </a:lnTo>
                <a:lnTo>
                  <a:pt x="11" y="129"/>
                </a:lnTo>
                <a:lnTo>
                  <a:pt x="11" y="115"/>
                </a:lnTo>
                <a:lnTo>
                  <a:pt x="11" y="102"/>
                </a:lnTo>
                <a:lnTo>
                  <a:pt x="13" y="88"/>
                </a:lnTo>
                <a:lnTo>
                  <a:pt x="17" y="75"/>
                </a:lnTo>
                <a:lnTo>
                  <a:pt x="21" y="63"/>
                </a:lnTo>
                <a:lnTo>
                  <a:pt x="27" y="52"/>
                </a:lnTo>
                <a:lnTo>
                  <a:pt x="34" y="40"/>
                </a:lnTo>
                <a:lnTo>
                  <a:pt x="42" y="31"/>
                </a:lnTo>
                <a:lnTo>
                  <a:pt x="50" y="21"/>
                </a:lnTo>
                <a:lnTo>
                  <a:pt x="57" y="14"/>
                </a:lnTo>
                <a:lnTo>
                  <a:pt x="57" y="12"/>
                </a:lnTo>
                <a:lnTo>
                  <a:pt x="57" y="10"/>
                </a:lnTo>
                <a:lnTo>
                  <a:pt x="57" y="8"/>
                </a:lnTo>
                <a:lnTo>
                  <a:pt x="57" y="6"/>
                </a:lnTo>
                <a:lnTo>
                  <a:pt x="57" y="4"/>
                </a:lnTo>
                <a:lnTo>
                  <a:pt x="57" y="4"/>
                </a:lnTo>
                <a:lnTo>
                  <a:pt x="57" y="2"/>
                </a:lnTo>
                <a:lnTo>
                  <a:pt x="59" y="0"/>
                </a:lnTo>
                <a:close/>
              </a:path>
            </a:pathLst>
          </a:custGeom>
          <a:solidFill>
            <a:srgbClr val="e5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Freeform 503"/>
          <p:cNvSpPr/>
          <p:nvPr/>
        </p:nvSpPr>
        <p:spPr>
          <a:xfrm>
            <a:off x="6124680" y="3070080"/>
            <a:ext cx="90360" cy="351000"/>
          </a:xfrm>
          <a:custGeom>
            <a:avLst/>
            <a:gdLst>
              <a:gd name="textAreaLeft" fmla="*/ 0 w 90360"/>
              <a:gd name="textAreaRight" fmla="*/ 90720 w 9036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57" h="221">
                <a:moveTo>
                  <a:pt x="51" y="0"/>
                </a:moveTo>
                <a:lnTo>
                  <a:pt x="49" y="2"/>
                </a:lnTo>
                <a:lnTo>
                  <a:pt x="40" y="11"/>
                </a:lnTo>
                <a:lnTo>
                  <a:pt x="30" y="21"/>
                </a:lnTo>
                <a:lnTo>
                  <a:pt x="23" y="31"/>
                </a:lnTo>
                <a:lnTo>
                  <a:pt x="17" y="42"/>
                </a:lnTo>
                <a:lnTo>
                  <a:pt x="11" y="56"/>
                </a:lnTo>
                <a:lnTo>
                  <a:pt x="5" y="67"/>
                </a:lnTo>
                <a:lnTo>
                  <a:pt x="1" y="80"/>
                </a:lnTo>
                <a:lnTo>
                  <a:pt x="0" y="94"/>
                </a:lnTo>
                <a:lnTo>
                  <a:pt x="0" y="109"/>
                </a:lnTo>
                <a:lnTo>
                  <a:pt x="0" y="123"/>
                </a:lnTo>
                <a:lnTo>
                  <a:pt x="1" y="136"/>
                </a:lnTo>
                <a:lnTo>
                  <a:pt x="5" y="150"/>
                </a:lnTo>
                <a:lnTo>
                  <a:pt x="11" y="163"/>
                </a:lnTo>
                <a:lnTo>
                  <a:pt x="17" y="174"/>
                </a:lnTo>
                <a:lnTo>
                  <a:pt x="23" y="186"/>
                </a:lnTo>
                <a:lnTo>
                  <a:pt x="30" y="197"/>
                </a:lnTo>
                <a:lnTo>
                  <a:pt x="40" y="207"/>
                </a:lnTo>
                <a:lnTo>
                  <a:pt x="49" y="215"/>
                </a:lnTo>
                <a:lnTo>
                  <a:pt x="57" y="221"/>
                </a:lnTo>
                <a:lnTo>
                  <a:pt x="57" y="219"/>
                </a:lnTo>
                <a:lnTo>
                  <a:pt x="57" y="217"/>
                </a:lnTo>
                <a:lnTo>
                  <a:pt x="55" y="215"/>
                </a:lnTo>
                <a:lnTo>
                  <a:pt x="55" y="213"/>
                </a:lnTo>
                <a:lnTo>
                  <a:pt x="55" y="211"/>
                </a:lnTo>
                <a:lnTo>
                  <a:pt x="55" y="209"/>
                </a:lnTo>
                <a:lnTo>
                  <a:pt x="55" y="207"/>
                </a:lnTo>
                <a:lnTo>
                  <a:pt x="55" y="205"/>
                </a:lnTo>
                <a:lnTo>
                  <a:pt x="47" y="199"/>
                </a:lnTo>
                <a:lnTo>
                  <a:pt x="40" y="190"/>
                </a:lnTo>
                <a:lnTo>
                  <a:pt x="32" y="180"/>
                </a:lnTo>
                <a:lnTo>
                  <a:pt x="26" y="169"/>
                </a:lnTo>
                <a:lnTo>
                  <a:pt x="21" y="159"/>
                </a:lnTo>
                <a:lnTo>
                  <a:pt x="17" y="148"/>
                </a:lnTo>
                <a:lnTo>
                  <a:pt x="13" y="134"/>
                </a:lnTo>
                <a:lnTo>
                  <a:pt x="11" y="123"/>
                </a:lnTo>
                <a:lnTo>
                  <a:pt x="11" y="109"/>
                </a:lnTo>
                <a:lnTo>
                  <a:pt x="11" y="96"/>
                </a:lnTo>
                <a:lnTo>
                  <a:pt x="13" y="82"/>
                </a:lnTo>
                <a:lnTo>
                  <a:pt x="17" y="71"/>
                </a:lnTo>
                <a:lnTo>
                  <a:pt x="21" y="59"/>
                </a:lnTo>
                <a:lnTo>
                  <a:pt x="26" y="48"/>
                </a:lnTo>
                <a:lnTo>
                  <a:pt x="32" y="38"/>
                </a:lnTo>
                <a:lnTo>
                  <a:pt x="40" y="27"/>
                </a:lnTo>
                <a:lnTo>
                  <a:pt x="47" y="19"/>
                </a:lnTo>
                <a:lnTo>
                  <a:pt x="51" y="15"/>
                </a:lnTo>
                <a:lnTo>
                  <a:pt x="51" y="13"/>
                </a:lnTo>
                <a:lnTo>
                  <a:pt x="51" y="11"/>
                </a:lnTo>
                <a:lnTo>
                  <a:pt x="51" y="9"/>
                </a:lnTo>
                <a:lnTo>
                  <a:pt x="51" y="8"/>
                </a:lnTo>
                <a:lnTo>
                  <a:pt x="51" y="6"/>
                </a:lnTo>
                <a:lnTo>
                  <a:pt x="51" y="4"/>
                </a:lnTo>
                <a:lnTo>
                  <a:pt x="51" y="2"/>
                </a:lnTo>
                <a:lnTo>
                  <a:pt x="51" y="0"/>
                </a:lnTo>
                <a:close/>
              </a:path>
            </a:pathLst>
          </a:custGeom>
          <a:solidFill>
            <a:srgbClr val="e6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Freeform 504"/>
          <p:cNvSpPr/>
          <p:nvPr/>
        </p:nvSpPr>
        <p:spPr>
          <a:xfrm>
            <a:off x="6132600" y="3083040"/>
            <a:ext cx="79200" cy="325440"/>
          </a:xfrm>
          <a:custGeom>
            <a:avLst/>
            <a:gdLst>
              <a:gd name="textAreaLeft" fmla="*/ 0 w 79200"/>
              <a:gd name="textAreaRight" fmla="*/ 79560 w 7920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50" h="205">
                <a:moveTo>
                  <a:pt x="46" y="0"/>
                </a:moveTo>
                <a:lnTo>
                  <a:pt x="39" y="7"/>
                </a:lnTo>
                <a:lnTo>
                  <a:pt x="31" y="17"/>
                </a:lnTo>
                <a:lnTo>
                  <a:pt x="23" y="26"/>
                </a:lnTo>
                <a:lnTo>
                  <a:pt x="16" y="38"/>
                </a:lnTo>
                <a:lnTo>
                  <a:pt x="10" y="49"/>
                </a:lnTo>
                <a:lnTo>
                  <a:pt x="6" y="61"/>
                </a:lnTo>
                <a:lnTo>
                  <a:pt x="2" y="74"/>
                </a:lnTo>
                <a:lnTo>
                  <a:pt x="0" y="88"/>
                </a:lnTo>
                <a:lnTo>
                  <a:pt x="0" y="101"/>
                </a:lnTo>
                <a:lnTo>
                  <a:pt x="0" y="115"/>
                </a:lnTo>
                <a:lnTo>
                  <a:pt x="2" y="128"/>
                </a:lnTo>
                <a:lnTo>
                  <a:pt x="6" y="140"/>
                </a:lnTo>
                <a:lnTo>
                  <a:pt x="10" y="153"/>
                </a:lnTo>
                <a:lnTo>
                  <a:pt x="16" y="165"/>
                </a:lnTo>
                <a:lnTo>
                  <a:pt x="23" y="176"/>
                </a:lnTo>
                <a:lnTo>
                  <a:pt x="31" y="186"/>
                </a:lnTo>
                <a:lnTo>
                  <a:pt x="39" y="195"/>
                </a:lnTo>
                <a:lnTo>
                  <a:pt x="48" y="203"/>
                </a:lnTo>
                <a:lnTo>
                  <a:pt x="50" y="205"/>
                </a:lnTo>
                <a:lnTo>
                  <a:pt x="50" y="203"/>
                </a:lnTo>
                <a:lnTo>
                  <a:pt x="50" y="201"/>
                </a:lnTo>
                <a:lnTo>
                  <a:pt x="50" y="199"/>
                </a:lnTo>
                <a:lnTo>
                  <a:pt x="50" y="197"/>
                </a:lnTo>
                <a:lnTo>
                  <a:pt x="50" y="195"/>
                </a:lnTo>
                <a:lnTo>
                  <a:pt x="50" y="193"/>
                </a:lnTo>
                <a:lnTo>
                  <a:pt x="50" y="191"/>
                </a:lnTo>
                <a:lnTo>
                  <a:pt x="50" y="189"/>
                </a:lnTo>
                <a:lnTo>
                  <a:pt x="46" y="188"/>
                </a:lnTo>
                <a:lnTo>
                  <a:pt x="39" y="178"/>
                </a:lnTo>
                <a:lnTo>
                  <a:pt x="31" y="168"/>
                </a:lnTo>
                <a:lnTo>
                  <a:pt x="25" y="159"/>
                </a:lnTo>
                <a:lnTo>
                  <a:pt x="19" y="149"/>
                </a:lnTo>
                <a:lnTo>
                  <a:pt x="16" y="138"/>
                </a:lnTo>
                <a:lnTo>
                  <a:pt x="14" y="126"/>
                </a:lnTo>
                <a:lnTo>
                  <a:pt x="12" y="113"/>
                </a:lnTo>
                <a:lnTo>
                  <a:pt x="10" y="101"/>
                </a:lnTo>
                <a:lnTo>
                  <a:pt x="12" y="88"/>
                </a:lnTo>
                <a:lnTo>
                  <a:pt x="14" y="76"/>
                </a:lnTo>
                <a:lnTo>
                  <a:pt x="16" y="65"/>
                </a:lnTo>
                <a:lnTo>
                  <a:pt x="19" y="53"/>
                </a:lnTo>
                <a:lnTo>
                  <a:pt x="25" y="42"/>
                </a:lnTo>
                <a:lnTo>
                  <a:pt x="31" y="32"/>
                </a:lnTo>
                <a:lnTo>
                  <a:pt x="39" y="23"/>
                </a:lnTo>
                <a:lnTo>
                  <a:pt x="46" y="15"/>
                </a:lnTo>
                <a:lnTo>
                  <a:pt x="46" y="13"/>
                </a:lnTo>
                <a:lnTo>
                  <a:pt x="46" y="11"/>
                </a:lnTo>
                <a:lnTo>
                  <a:pt x="46" y="9"/>
                </a:lnTo>
                <a:lnTo>
                  <a:pt x="46" y="7"/>
                </a:lnTo>
                <a:lnTo>
                  <a:pt x="46" y="5"/>
                </a:lnTo>
                <a:lnTo>
                  <a:pt x="46" y="3"/>
                </a:lnTo>
                <a:lnTo>
                  <a:pt x="46" y="1"/>
                </a:lnTo>
                <a:lnTo>
                  <a:pt x="46" y="0"/>
                </a:lnTo>
                <a:close/>
              </a:path>
            </a:pathLst>
          </a:custGeom>
          <a:solidFill>
            <a:srgbClr val="e7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Freeform 505"/>
          <p:cNvSpPr/>
          <p:nvPr/>
        </p:nvSpPr>
        <p:spPr>
          <a:xfrm>
            <a:off x="6141960" y="3094200"/>
            <a:ext cx="69840" cy="301320"/>
          </a:xfrm>
          <a:custGeom>
            <a:avLst/>
            <a:gdLst>
              <a:gd name="textAreaLeft" fmla="*/ 0 w 69840"/>
              <a:gd name="textAreaRight" fmla="*/ 70200 w 698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44" h="190">
                <a:moveTo>
                  <a:pt x="40" y="0"/>
                </a:moveTo>
                <a:lnTo>
                  <a:pt x="36" y="4"/>
                </a:lnTo>
                <a:lnTo>
                  <a:pt x="29" y="12"/>
                </a:lnTo>
                <a:lnTo>
                  <a:pt x="21" y="23"/>
                </a:lnTo>
                <a:lnTo>
                  <a:pt x="15" y="33"/>
                </a:lnTo>
                <a:lnTo>
                  <a:pt x="10" y="44"/>
                </a:lnTo>
                <a:lnTo>
                  <a:pt x="6" y="56"/>
                </a:lnTo>
                <a:lnTo>
                  <a:pt x="2" y="67"/>
                </a:lnTo>
                <a:lnTo>
                  <a:pt x="0" y="81"/>
                </a:lnTo>
                <a:lnTo>
                  <a:pt x="0" y="94"/>
                </a:lnTo>
                <a:lnTo>
                  <a:pt x="0" y="108"/>
                </a:lnTo>
                <a:lnTo>
                  <a:pt x="2" y="119"/>
                </a:lnTo>
                <a:lnTo>
                  <a:pt x="6" y="133"/>
                </a:lnTo>
                <a:lnTo>
                  <a:pt x="10" y="144"/>
                </a:lnTo>
                <a:lnTo>
                  <a:pt x="15" y="154"/>
                </a:lnTo>
                <a:lnTo>
                  <a:pt x="21" y="165"/>
                </a:lnTo>
                <a:lnTo>
                  <a:pt x="29" y="175"/>
                </a:lnTo>
                <a:lnTo>
                  <a:pt x="36" y="184"/>
                </a:lnTo>
                <a:lnTo>
                  <a:pt x="44" y="190"/>
                </a:lnTo>
                <a:lnTo>
                  <a:pt x="44" y="188"/>
                </a:lnTo>
                <a:lnTo>
                  <a:pt x="44" y="186"/>
                </a:lnTo>
                <a:lnTo>
                  <a:pt x="44" y="184"/>
                </a:lnTo>
                <a:lnTo>
                  <a:pt x="44" y="182"/>
                </a:lnTo>
                <a:lnTo>
                  <a:pt x="44" y="181"/>
                </a:lnTo>
                <a:lnTo>
                  <a:pt x="44" y="179"/>
                </a:lnTo>
                <a:lnTo>
                  <a:pt x="42" y="177"/>
                </a:lnTo>
                <a:lnTo>
                  <a:pt x="42" y="175"/>
                </a:lnTo>
                <a:lnTo>
                  <a:pt x="36" y="169"/>
                </a:lnTo>
                <a:lnTo>
                  <a:pt x="29" y="159"/>
                </a:lnTo>
                <a:lnTo>
                  <a:pt x="23" y="150"/>
                </a:lnTo>
                <a:lnTo>
                  <a:pt x="19" y="140"/>
                </a:lnTo>
                <a:lnTo>
                  <a:pt x="15" y="129"/>
                </a:lnTo>
                <a:lnTo>
                  <a:pt x="12" y="117"/>
                </a:lnTo>
                <a:lnTo>
                  <a:pt x="10" y="106"/>
                </a:lnTo>
                <a:lnTo>
                  <a:pt x="10" y="94"/>
                </a:lnTo>
                <a:lnTo>
                  <a:pt x="10" y="83"/>
                </a:lnTo>
                <a:lnTo>
                  <a:pt x="12" y="69"/>
                </a:lnTo>
                <a:lnTo>
                  <a:pt x="15" y="60"/>
                </a:lnTo>
                <a:lnTo>
                  <a:pt x="19" y="48"/>
                </a:lnTo>
                <a:lnTo>
                  <a:pt x="23" y="39"/>
                </a:lnTo>
                <a:lnTo>
                  <a:pt x="29" y="29"/>
                </a:lnTo>
                <a:lnTo>
                  <a:pt x="36" y="19"/>
                </a:lnTo>
                <a:lnTo>
                  <a:pt x="40" y="16"/>
                </a:lnTo>
                <a:lnTo>
                  <a:pt x="40" y="14"/>
                </a:lnTo>
                <a:lnTo>
                  <a:pt x="40" y="12"/>
                </a:lnTo>
                <a:lnTo>
                  <a:pt x="40" y="10"/>
                </a:lnTo>
                <a:lnTo>
                  <a:pt x="40" y="8"/>
                </a:lnTo>
                <a:lnTo>
                  <a:pt x="40" y="6"/>
                </a:lnTo>
                <a:lnTo>
                  <a:pt x="40" y="4"/>
                </a:lnTo>
                <a:lnTo>
                  <a:pt x="40" y="2"/>
                </a:lnTo>
                <a:lnTo>
                  <a:pt x="40" y="0"/>
                </a:lnTo>
                <a:close/>
              </a:path>
            </a:pathLst>
          </a:custGeom>
          <a:solidFill>
            <a:srgbClr val="e8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Freeform 506"/>
          <p:cNvSpPr/>
          <p:nvPr/>
        </p:nvSpPr>
        <p:spPr>
          <a:xfrm>
            <a:off x="6148440" y="3106800"/>
            <a:ext cx="63360" cy="276120"/>
          </a:xfrm>
          <a:custGeom>
            <a:avLst/>
            <a:gdLst>
              <a:gd name="textAreaLeft" fmla="*/ 0 w 63360"/>
              <a:gd name="textAreaRight" fmla="*/ 63720 w 6336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40" h="174">
                <a:moveTo>
                  <a:pt x="36" y="0"/>
                </a:moveTo>
                <a:lnTo>
                  <a:pt x="29" y="8"/>
                </a:lnTo>
                <a:lnTo>
                  <a:pt x="21" y="17"/>
                </a:lnTo>
                <a:lnTo>
                  <a:pt x="15" y="27"/>
                </a:lnTo>
                <a:lnTo>
                  <a:pt x="9" y="38"/>
                </a:lnTo>
                <a:lnTo>
                  <a:pt x="6" y="50"/>
                </a:lnTo>
                <a:lnTo>
                  <a:pt x="4" y="61"/>
                </a:lnTo>
                <a:lnTo>
                  <a:pt x="2" y="73"/>
                </a:lnTo>
                <a:lnTo>
                  <a:pt x="0" y="86"/>
                </a:lnTo>
                <a:lnTo>
                  <a:pt x="2" y="98"/>
                </a:lnTo>
                <a:lnTo>
                  <a:pt x="4" y="111"/>
                </a:lnTo>
                <a:lnTo>
                  <a:pt x="6" y="123"/>
                </a:lnTo>
                <a:lnTo>
                  <a:pt x="9" y="134"/>
                </a:lnTo>
                <a:lnTo>
                  <a:pt x="15" y="144"/>
                </a:lnTo>
                <a:lnTo>
                  <a:pt x="21" y="153"/>
                </a:lnTo>
                <a:lnTo>
                  <a:pt x="29" y="163"/>
                </a:lnTo>
                <a:lnTo>
                  <a:pt x="36" y="173"/>
                </a:lnTo>
                <a:lnTo>
                  <a:pt x="40" y="174"/>
                </a:lnTo>
                <a:lnTo>
                  <a:pt x="40" y="173"/>
                </a:lnTo>
                <a:lnTo>
                  <a:pt x="38" y="171"/>
                </a:lnTo>
                <a:lnTo>
                  <a:pt x="38" y="169"/>
                </a:lnTo>
                <a:lnTo>
                  <a:pt x="38" y="167"/>
                </a:lnTo>
                <a:lnTo>
                  <a:pt x="38" y="165"/>
                </a:lnTo>
                <a:lnTo>
                  <a:pt x="38" y="163"/>
                </a:lnTo>
                <a:lnTo>
                  <a:pt x="38" y="161"/>
                </a:lnTo>
                <a:lnTo>
                  <a:pt x="38" y="159"/>
                </a:lnTo>
                <a:lnTo>
                  <a:pt x="36" y="157"/>
                </a:lnTo>
                <a:lnTo>
                  <a:pt x="31" y="148"/>
                </a:lnTo>
                <a:lnTo>
                  <a:pt x="25" y="140"/>
                </a:lnTo>
                <a:lnTo>
                  <a:pt x="19" y="128"/>
                </a:lnTo>
                <a:lnTo>
                  <a:pt x="15" y="119"/>
                </a:lnTo>
                <a:lnTo>
                  <a:pt x="13" y="107"/>
                </a:lnTo>
                <a:lnTo>
                  <a:pt x="11" y="98"/>
                </a:lnTo>
                <a:lnTo>
                  <a:pt x="11" y="86"/>
                </a:lnTo>
                <a:lnTo>
                  <a:pt x="11" y="75"/>
                </a:lnTo>
                <a:lnTo>
                  <a:pt x="13" y="63"/>
                </a:lnTo>
                <a:lnTo>
                  <a:pt x="15" y="52"/>
                </a:lnTo>
                <a:lnTo>
                  <a:pt x="19" y="42"/>
                </a:lnTo>
                <a:lnTo>
                  <a:pt x="25" y="33"/>
                </a:lnTo>
                <a:lnTo>
                  <a:pt x="31" y="23"/>
                </a:lnTo>
                <a:lnTo>
                  <a:pt x="34" y="17"/>
                </a:lnTo>
                <a:lnTo>
                  <a:pt x="34" y="15"/>
                </a:lnTo>
                <a:lnTo>
                  <a:pt x="34" y="13"/>
                </a:lnTo>
                <a:lnTo>
                  <a:pt x="36" y="9"/>
                </a:lnTo>
                <a:lnTo>
                  <a:pt x="36" y="8"/>
                </a:lnTo>
                <a:lnTo>
                  <a:pt x="36" y="6"/>
                </a:lnTo>
                <a:lnTo>
                  <a:pt x="36" y="4"/>
                </a:lnTo>
                <a:lnTo>
                  <a:pt x="36" y="2"/>
                </a:lnTo>
                <a:lnTo>
                  <a:pt x="36" y="0"/>
                </a:lnTo>
                <a:close/>
              </a:path>
            </a:pathLst>
          </a:custGeom>
          <a:solidFill>
            <a:srgbClr val="e9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Freeform 507"/>
          <p:cNvSpPr/>
          <p:nvPr/>
        </p:nvSpPr>
        <p:spPr>
          <a:xfrm>
            <a:off x="6157800" y="3119400"/>
            <a:ext cx="50760" cy="252360"/>
          </a:xfrm>
          <a:custGeom>
            <a:avLst/>
            <a:gdLst>
              <a:gd name="textAreaLeft" fmla="*/ 0 w 50760"/>
              <a:gd name="textAreaRight" fmla="*/ 51120 w 507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32" h="159">
                <a:moveTo>
                  <a:pt x="30" y="0"/>
                </a:moveTo>
                <a:lnTo>
                  <a:pt x="26" y="3"/>
                </a:lnTo>
                <a:lnTo>
                  <a:pt x="19" y="13"/>
                </a:lnTo>
                <a:lnTo>
                  <a:pt x="13" y="23"/>
                </a:lnTo>
                <a:lnTo>
                  <a:pt x="9" y="32"/>
                </a:lnTo>
                <a:lnTo>
                  <a:pt x="5" y="44"/>
                </a:lnTo>
                <a:lnTo>
                  <a:pt x="2" y="53"/>
                </a:lnTo>
                <a:lnTo>
                  <a:pt x="0" y="67"/>
                </a:lnTo>
                <a:lnTo>
                  <a:pt x="0" y="78"/>
                </a:lnTo>
                <a:lnTo>
                  <a:pt x="0" y="90"/>
                </a:lnTo>
                <a:lnTo>
                  <a:pt x="2" y="101"/>
                </a:lnTo>
                <a:lnTo>
                  <a:pt x="5" y="113"/>
                </a:lnTo>
                <a:lnTo>
                  <a:pt x="9" y="124"/>
                </a:lnTo>
                <a:lnTo>
                  <a:pt x="13" y="134"/>
                </a:lnTo>
                <a:lnTo>
                  <a:pt x="19" y="143"/>
                </a:lnTo>
                <a:lnTo>
                  <a:pt x="26" y="153"/>
                </a:lnTo>
                <a:lnTo>
                  <a:pt x="32" y="159"/>
                </a:lnTo>
                <a:lnTo>
                  <a:pt x="32" y="157"/>
                </a:lnTo>
                <a:lnTo>
                  <a:pt x="32" y="155"/>
                </a:lnTo>
                <a:lnTo>
                  <a:pt x="32" y="153"/>
                </a:lnTo>
                <a:lnTo>
                  <a:pt x="32" y="151"/>
                </a:lnTo>
                <a:lnTo>
                  <a:pt x="32" y="147"/>
                </a:lnTo>
                <a:lnTo>
                  <a:pt x="32" y="145"/>
                </a:lnTo>
                <a:lnTo>
                  <a:pt x="32" y="143"/>
                </a:lnTo>
                <a:lnTo>
                  <a:pt x="32" y="142"/>
                </a:lnTo>
                <a:lnTo>
                  <a:pt x="28" y="138"/>
                </a:lnTo>
                <a:lnTo>
                  <a:pt x="23" y="128"/>
                </a:lnTo>
                <a:lnTo>
                  <a:pt x="19" y="119"/>
                </a:lnTo>
                <a:lnTo>
                  <a:pt x="15" y="109"/>
                </a:lnTo>
                <a:lnTo>
                  <a:pt x="13" y="99"/>
                </a:lnTo>
                <a:lnTo>
                  <a:pt x="11" y="88"/>
                </a:lnTo>
                <a:lnTo>
                  <a:pt x="11" y="78"/>
                </a:lnTo>
                <a:lnTo>
                  <a:pt x="11" y="67"/>
                </a:lnTo>
                <a:lnTo>
                  <a:pt x="13" y="57"/>
                </a:lnTo>
                <a:lnTo>
                  <a:pt x="15" y="46"/>
                </a:lnTo>
                <a:lnTo>
                  <a:pt x="19" y="36"/>
                </a:lnTo>
                <a:lnTo>
                  <a:pt x="23" y="26"/>
                </a:lnTo>
                <a:lnTo>
                  <a:pt x="28" y="19"/>
                </a:lnTo>
                <a:lnTo>
                  <a:pt x="28" y="19"/>
                </a:lnTo>
                <a:lnTo>
                  <a:pt x="28" y="15"/>
                </a:lnTo>
                <a:lnTo>
                  <a:pt x="28" y="13"/>
                </a:lnTo>
                <a:lnTo>
                  <a:pt x="28" y="11"/>
                </a:lnTo>
                <a:lnTo>
                  <a:pt x="28" y="9"/>
                </a:lnTo>
                <a:lnTo>
                  <a:pt x="28" y="7"/>
                </a:lnTo>
                <a:lnTo>
                  <a:pt x="28" y="5"/>
                </a:lnTo>
                <a:lnTo>
                  <a:pt x="30" y="1"/>
                </a:lnTo>
                <a:lnTo>
                  <a:pt x="30" y="0"/>
                </a:lnTo>
                <a:close/>
              </a:path>
            </a:pathLst>
          </a:custGeom>
          <a:solidFill>
            <a:srgbClr val="ea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Freeform 508"/>
          <p:cNvSpPr/>
          <p:nvPr/>
        </p:nvSpPr>
        <p:spPr>
          <a:xfrm>
            <a:off x="6165720" y="3133800"/>
            <a:ext cx="42840" cy="225360"/>
          </a:xfrm>
          <a:custGeom>
            <a:avLst/>
            <a:gdLst>
              <a:gd name="textAreaLeft" fmla="*/ 0 w 42840"/>
              <a:gd name="textAreaRight" fmla="*/ 43200 w 428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27" h="142">
                <a:moveTo>
                  <a:pt x="23" y="0"/>
                </a:moveTo>
                <a:lnTo>
                  <a:pt x="20" y="6"/>
                </a:lnTo>
                <a:lnTo>
                  <a:pt x="14" y="16"/>
                </a:lnTo>
                <a:lnTo>
                  <a:pt x="8" y="25"/>
                </a:lnTo>
                <a:lnTo>
                  <a:pt x="4" y="35"/>
                </a:lnTo>
                <a:lnTo>
                  <a:pt x="2" y="46"/>
                </a:lnTo>
                <a:lnTo>
                  <a:pt x="0" y="58"/>
                </a:lnTo>
                <a:lnTo>
                  <a:pt x="0" y="69"/>
                </a:lnTo>
                <a:lnTo>
                  <a:pt x="0" y="81"/>
                </a:lnTo>
                <a:lnTo>
                  <a:pt x="2" y="90"/>
                </a:lnTo>
                <a:lnTo>
                  <a:pt x="4" y="102"/>
                </a:lnTo>
                <a:lnTo>
                  <a:pt x="8" y="111"/>
                </a:lnTo>
                <a:lnTo>
                  <a:pt x="14" y="123"/>
                </a:lnTo>
                <a:lnTo>
                  <a:pt x="20" y="131"/>
                </a:lnTo>
                <a:lnTo>
                  <a:pt x="25" y="140"/>
                </a:lnTo>
                <a:lnTo>
                  <a:pt x="27" y="142"/>
                </a:lnTo>
                <a:lnTo>
                  <a:pt x="27" y="138"/>
                </a:lnTo>
                <a:lnTo>
                  <a:pt x="27" y="136"/>
                </a:lnTo>
                <a:lnTo>
                  <a:pt x="27" y="134"/>
                </a:lnTo>
                <a:lnTo>
                  <a:pt x="27" y="131"/>
                </a:lnTo>
                <a:lnTo>
                  <a:pt x="27" y="129"/>
                </a:lnTo>
                <a:lnTo>
                  <a:pt x="25" y="127"/>
                </a:lnTo>
                <a:lnTo>
                  <a:pt x="25" y="125"/>
                </a:lnTo>
                <a:lnTo>
                  <a:pt x="25" y="121"/>
                </a:lnTo>
                <a:lnTo>
                  <a:pt x="20" y="108"/>
                </a:lnTo>
                <a:lnTo>
                  <a:pt x="16" y="98"/>
                </a:lnTo>
                <a:lnTo>
                  <a:pt x="12" y="88"/>
                </a:lnTo>
                <a:lnTo>
                  <a:pt x="12" y="79"/>
                </a:lnTo>
                <a:lnTo>
                  <a:pt x="10" y="69"/>
                </a:lnTo>
                <a:lnTo>
                  <a:pt x="12" y="58"/>
                </a:lnTo>
                <a:lnTo>
                  <a:pt x="12" y="48"/>
                </a:lnTo>
                <a:lnTo>
                  <a:pt x="16" y="39"/>
                </a:lnTo>
                <a:lnTo>
                  <a:pt x="20" y="29"/>
                </a:lnTo>
                <a:lnTo>
                  <a:pt x="23" y="19"/>
                </a:lnTo>
                <a:lnTo>
                  <a:pt x="23" y="17"/>
                </a:lnTo>
                <a:lnTo>
                  <a:pt x="23" y="16"/>
                </a:lnTo>
                <a:lnTo>
                  <a:pt x="23" y="12"/>
                </a:lnTo>
                <a:lnTo>
                  <a:pt x="23" y="10"/>
                </a:lnTo>
                <a:lnTo>
                  <a:pt x="23" y="8"/>
                </a:lnTo>
                <a:lnTo>
                  <a:pt x="23" y="4"/>
                </a:lnTo>
                <a:lnTo>
                  <a:pt x="23" y="2"/>
                </a:lnTo>
                <a:lnTo>
                  <a:pt x="23" y="0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Freeform 509"/>
          <p:cNvSpPr/>
          <p:nvPr/>
        </p:nvSpPr>
        <p:spPr>
          <a:xfrm>
            <a:off x="6175440" y="3149640"/>
            <a:ext cx="33120" cy="195120"/>
          </a:xfrm>
          <a:custGeom>
            <a:avLst/>
            <a:gdLst>
              <a:gd name="textAreaLeft" fmla="*/ 0 w 33120"/>
              <a:gd name="textAreaRight" fmla="*/ 33480 w 3312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" h="123">
                <a:moveTo>
                  <a:pt x="17" y="0"/>
                </a:moveTo>
                <a:lnTo>
                  <a:pt x="17" y="0"/>
                </a:lnTo>
                <a:lnTo>
                  <a:pt x="12" y="7"/>
                </a:lnTo>
                <a:lnTo>
                  <a:pt x="8" y="17"/>
                </a:lnTo>
                <a:lnTo>
                  <a:pt x="4" y="27"/>
                </a:lnTo>
                <a:lnTo>
                  <a:pt x="2" y="38"/>
                </a:lnTo>
                <a:lnTo>
                  <a:pt x="0" y="48"/>
                </a:lnTo>
                <a:lnTo>
                  <a:pt x="0" y="59"/>
                </a:lnTo>
                <a:lnTo>
                  <a:pt x="0" y="69"/>
                </a:lnTo>
                <a:lnTo>
                  <a:pt x="2" y="80"/>
                </a:lnTo>
                <a:lnTo>
                  <a:pt x="4" y="90"/>
                </a:lnTo>
                <a:lnTo>
                  <a:pt x="8" y="100"/>
                </a:lnTo>
                <a:lnTo>
                  <a:pt x="12" y="109"/>
                </a:lnTo>
                <a:lnTo>
                  <a:pt x="17" y="119"/>
                </a:lnTo>
                <a:lnTo>
                  <a:pt x="21" y="123"/>
                </a:lnTo>
                <a:lnTo>
                  <a:pt x="21" y="119"/>
                </a:lnTo>
                <a:lnTo>
                  <a:pt x="19" y="117"/>
                </a:lnTo>
                <a:lnTo>
                  <a:pt x="19" y="113"/>
                </a:lnTo>
                <a:lnTo>
                  <a:pt x="19" y="111"/>
                </a:lnTo>
                <a:lnTo>
                  <a:pt x="19" y="107"/>
                </a:lnTo>
                <a:lnTo>
                  <a:pt x="19" y="105"/>
                </a:lnTo>
                <a:lnTo>
                  <a:pt x="19" y="101"/>
                </a:lnTo>
                <a:lnTo>
                  <a:pt x="19" y="100"/>
                </a:lnTo>
                <a:lnTo>
                  <a:pt x="17" y="96"/>
                </a:lnTo>
                <a:lnTo>
                  <a:pt x="12" y="78"/>
                </a:lnTo>
                <a:lnTo>
                  <a:pt x="10" y="59"/>
                </a:lnTo>
                <a:lnTo>
                  <a:pt x="12" y="40"/>
                </a:lnTo>
                <a:lnTo>
                  <a:pt x="17" y="21"/>
                </a:lnTo>
                <a:lnTo>
                  <a:pt x="17" y="21"/>
                </a:lnTo>
                <a:lnTo>
                  <a:pt x="17" y="19"/>
                </a:lnTo>
                <a:lnTo>
                  <a:pt x="17" y="15"/>
                </a:lnTo>
                <a:lnTo>
                  <a:pt x="17" y="13"/>
                </a:lnTo>
                <a:lnTo>
                  <a:pt x="17" y="9"/>
                </a:lnTo>
                <a:lnTo>
                  <a:pt x="17" y="7"/>
                </a:lnTo>
                <a:lnTo>
                  <a:pt x="17" y="4"/>
                </a:lnTo>
                <a:lnTo>
                  <a:pt x="17" y="2"/>
                </a:lnTo>
                <a:lnTo>
                  <a:pt x="17" y="0"/>
                </a:lnTo>
                <a:close/>
              </a:path>
            </a:pathLst>
          </a:custGeom>
          <a:solidFill>
            <a:srgbClr val="ec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Freeform 510"/>
          <p:cNvSpPr/>
          <p:nvPr/>
        </p:nvSpPr>
        <p:spPr>
          <a:xfrm>
            <a:off x="6181560" y="3164040"/>
            <a:ext cx="24120" cy="161640"/>
          </a:xfrm>
          <a:custGeom>
            <a:avLst/>
            <a:gdLst>
              <a:gd name="textAreaLeft" fmla="*/ 0 w 24120"/>
              <a:gd name="textAreaRight" fmla="*/ 24480 w 2412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15" h="102">
                <a:moveTo>
                  <a:pt x="13" y="0"/>
                </a:moveTo>
                <a:lnTo>
                  <a:pt x="10" y="10"/>
                </a:lnTo>
                <a:lnTo>
                  <a:pt x="6" y="20"/>
                </a:lnTo>
                <a:lnTo>
                  <a:pt x="2" y="29"/>
                </a:lnTo>
                <a:lnTo>
                  <a:pt x="2" y="39"/>
                </a:lnTo>
                <a:lnTo>
                  <a:pt x="0" y="50"/>
                </a:lnTo>
                <a:lnTo>
                  <a:pt x="2" y="60"/>
                </a:lnTo>
                <a:lnTo>
                  <a:pt x="2" y="69"/>
                </a:lnTo>
                <a:lnTo>
                  <a:pt x="6" y="79"/>
                </a:lnTo>
                <a:lnTo>
                  <a:pt x="10" y="89"/>
                </a:lnTo>
                <a:lnTo>
                  <a:pt x="15" y="102"/>
                </a:lnTo>
                <a:lnTo>
                  <a:pt x="15" y="98"/>
                </a:lnTo>
                <a:lnTo>
                  <a:pt x="15" y="94"/>
                </a:lnTo>
                <a:lnTo>
                  <a:pt x="15" y="91"/>
                </a:lnTo>
                <a:lnTo>
                  <a:pt x="15" y="87"/>
                </a:lnTo>
                <a:lnTo>
                  <a:pt x="15" y="83"/>
                </a:lnTo>
                <a:lnTo>
                  <a:pt x="15" y="79"/>
                </a:lnTo>
                <a:lnTo>
                  <a:pt x="15" y="75"/>
                </a:lnTo>
                <a:lnTo>
                  <a:pt x="15" y="71"/>
                </a:lnTo>
                <a:lnTo>
                  <a:pt x="13" y="68"/>
                </a:lnTo>
                <a:lnTo>
                  <a:pt x="11" y="50"/>
                </a:lnTo>
                <a:lnTo>
                  <a:pt x="13" y="31"/>
                </a:lnTo>
                <a:lnTo>
                  <a:pt x="13" y="31"/>
                </a:lnTo>
                <a:lnTo>
                  <a:pt x="13" y="27"/>
                </a:lnTo>
                <a:lnTo>
                  <a:pt x="13" y="23"/>
                </a:lnTo>
                <a:lnTo>
                  <a:pt x="13" y="20"/>
                </a:lnTo>
                <a:lnTo>
                  <a:pt x="13" y="16"/>
                </a:lnTo>
                <a:lnTo>
                  <a:pt x="13" y="12"/>
                </a:lnTo>
                <a:lnTo>
                  <a:pt x="13" y="8"/>
                </a:lnTo>
                <a:lnTo>
                  <a:pt x="13" y="4"/>
                </a:lnTo>
                <a:lnTo>
                  <a:pt x="13" y="0"/>
                </a:lnTo>
                <a:close/>
              </a:path>
            </a:pathLst>
          </a:custGeom>
          <a:solidFill>
            <a:srgbClr val="ed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Freeform 511"/>
          <p:cNvSpPr/>
          <p:nvPr/>
        </p:nvSpPr>
        <p:spPr>
          <a:xfrm>
            <a:off x="6191280" y="3182760"/>
            <a:ext cx="14400" cy="125640"/>
          </a:xfrm>
          <a:custGeom>
            <a:avLst/>
            <a:gdLst>
              <a:gd name="textAreaLeft" fmla="*/ 0 w 14400"/>
              <a:gd name="textAreaRight" fmla="*/ 14760 w 1440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9" h="79">
                <a:moveTo>
                  <a:pt x="7" y="0"/>
                </a:moveTo>
                <a:lnTo>
                  <a:pt x="7" y="0"/>
                </a:lnTo>
                <a:lnTo>
                  <a:pt x="2" y="19"/>
                </a:lnTo>
                <a:lnTo>
                  <a:pt x="0" y="38"/>
                </a:lnTo>
                <a:lnTo>
                  <a:pt x="2" y="57"/>
                </a:lnTo>
                <a:lnTo>
                  <a:pt x="7" y="75"/>
                </a:lnTo>
                <a:lnTo>
                  <a:pt x="9" y="79"/>
                </a:lnTo>
                <a:lnTo>
                  <a:pt x="9" y="69"/>
                </a:lnTo>
                <a:lnTo>
                  <a:pt x="9" y="59"/>
                </a:lnTo>
                <a:lnTo>
                  <a:pt x="7" y="50"/>
                </a:lnTo>
                <a:lnTo>
                  <a:pt x="7" y="40"/>
                </a:lnTo>
                <a:lnTo>
                  <a:pt x="7" y="31"/>
                </a:lnTo>
                <a:lnTo>
                  <a:pt x="7" y="19"/>
                </a:lnTo>
                <a:lnTo>
                  <a:pt x="7" y="9"/>
                </a:lnTo>
                <a:lnTo>
                  <a:pt x="7" y="0"/>
                </a:lnTo>
                <a:close/>
              </a:path>
            </a:pathLst>
          </a:custGeom>
          <a:solidFill>
            <a:srgbClr val="ee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Freeform 512"/>
          <p:cNvSpPr/>
          <p:nvPr/>
        </p:nvSpPr>
        <p:spPr>
          <a:xfrm>
            <a:off x="6199200" y="3213000"/>
            <a:ext cx="6480" cy="63720"/>
          </a:xfrm>
          <a:custGeom>
            <a:avLst/>
            <a:gdLst>
              <a:gd name="textAreaLeft" fmla="*/ 0 w 6480"/>
              <a:gd name="textAreaRight" fmla="*/ 6840 w 64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4" h="40">
                <a:moveTo>
                  <a:pt x="2" y="0"/>
                </a:moveTo>
                <a:lnTo>
                  <a:pt x="2" y="0"/>
                </a:lnTo>
                <a:lnTo>
                  <a:pt x="0" y="19"/>
                </a:lnTo>
                <a:lnTo>
                  <a:pt x="2" y="37"/>
                </a:lnTo>
                <a:lnTo>
                  <a:pt x="4" y="40"/>
                </a:lnTo>
                <a:lnTo>
                  <a:pt x="2" y="37"/>
                </a:lnTo>
                <a:lnTo>
                  <a:pt x="2" y="31"/>
                </a:lnTo>
                <a:lnTo>
                  <a:pt x="2" y="25"/>
                </a:lnTo>
                <a:lnTo>
                  <a:pt x="2" y="21"/>
                </a:lnTo>
                <a:lnTo>
                  <a:pt x="2" y="15"/>
                </a:lnTo>
                <a:lnTo>
                  <a:pt x="2" y="10"/>
                </a:lnTo>
                <a:lnTo>
                  <a:pt x="2" y="4"/>
                </a:lnTo>
                <a:lnTo>
                  <a:pt x="2" y="0"/>
                </a:lnTo>
                <a:close/>
              </a:path>
            </a:pathLst>
          </a:custGeom>
          <a:solidFill>
            <a:srgbClr val="ef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Freeform 513"/>
          <p:cNvSpPr/>
          <p:nvPr/>
        </p:nvSpPr>
        <p:spPr>
          <a:xfrm>
            <a:off x="6391440" y="1224000"/>
            <a:ext cx="655560" cy="12600"/>
          </a:xfrm>
          <a:custGeom>
            <a:avLst/>
            <a:gdLst>
              <a:gd name="textAreaLeft" fmla="*/ 0 w 655560"/>
              <a:gd name="textAreaRight" fmla="*/ 655920 w 6555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413" h="8">
                <a:moveTo>
                  <a:pt x="411" y="6"/>
                </a:moveTo>
                <a:lnTo>
                  <a:pt x="407" y="0"/>
                </a:lnTo>
                <a:lnTo>
                  <a:pt x="0" y="0"/>
                </a:lnTo>
                <a:lnTo>
                  <a:pt x="0" y="8"/>
                </a:lnTo>
                <a:lnTo>
                  <a:pt x="407" y="8"/>
                </a:lnTo>
                <a:lnTo>
                  <a:pt x="403" y="4"/>
                </a:lnTo>
                <a:lnTo>
                  <a:pt x="411" y="6"/>
                </a:lnTo>
                <a:lnTo>
                  <a:pt x="413" y="0"/>
                </a:lnTo>
                <a:lnTo>
                  <a:pt x="407" y="0"/>
                </a:lnTo>
                <a:lnTo>
                  <a:pt x="41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Freeform 514"/>
          <p:cNvSpPr/>
          <p:nvPr/>
        </p:nvSpPr>
        <p:spPr>
          <a:xfrm>
            <a:off x="6781680" y="1230480"/>
            <a:ext cx="262080" cy="542880"/>
          </a:xfrm>
          <a:custGeom>
            <a:avLst/>
            <a:gdLst>
              <a:gd name="textAreaLeft" fmla="*/ 0 w 262080"/>
              <a:gd name="textAreaRight" fmla="*/ 262440 w 2620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165" h="342">
                <a:moveTo>
                  <a:pt x="8" y="342"/>
                </a:moveTo>
                <a:lnTo>
                  <a:pt x="10" y="340"/>
                </a:lnTo>
                <a:lnTo>
                  <a:pt x="12" y="328"/>
                </a:lnTo>
                <a:lnTo>
                  <a:pt x="17" y="313"/>
                </a:lnTo>
                <a:lnTo>
                  <a:pt x="25" y="297"/>
                </a:lnTo>
                <a:lnTo>
                  <a:pt x="33" y="278"/>
                </a:lnTo>
                <a:lnTo>
                  <a:pt x="54" y="236"/>
                </a:lnTo>
                <a:lnTo>
                  <a:pt x="79" y="190"/>
                </a:lnTo>
                <a:lnTo>
                  <a:pt x="106" y="142"/>
                </a:lnTo>
                <a:lnTo>
                  <a:pt x="129" y="92"/>
                </a:lnTo>
                <a:lnTo>
                  <a:pt x="140" y="69"/>
                </a:lnTo>
                <a:lnTo>
                  <a:pt x="150" y="46"/>
                </a:lnTo>
                <a:lnTo>
                  <a:pt x="159" y="23"/>
                </a:lnTo>
                <a:lnTo>
                  <a:pt x="165" y="2"/>
                </a:lnTo>
                <a:lnTo>
                  <a:pt x="157" y="0"/>
                </a:lnTo>
                <a:lnTo>
                  <a:pt x="152" y="21"/>
                </a:lnTo>
                <a:lnTo>
                  <a:pt x="142" y="42"/>
                </a:lnTo>
                <a:lnTo>
                  <a:pt x="133" y="65"/>
                </a:lnTo>
                <a:lnTo>
                  <a:pt x="123" y="90"/>
                </a:lnTo>
                <a:lnTo>
                  <a:pt x="98" y="138"/>
                </a:lnTo>
                <a:lnTo>
                  <a:pt x="73" y="186"/>
                </a:lnTo>
                <a:lnTo>
                  <a:pt x="48" y="232"/>
                </a:lnTo>
                <a:lnTo>
                  <a:pt x="25" y="274"/>
                </a:lnTo>
                <a:lnTo>
                  <a:pt x="17" y="294"/>
                </a:lnTo>
                <a:lnTo>
                  <a:pt x="10" y="311"/>
                </a:lnTo>
                <a:lnTo>
                  <a:pt x="4" y="326"/>
                </a:lnTo>
                <a:lnTo>
                  <a:pt x="0" y="338"/>
                </a:lnTo>
                <a:lnTo>
                  <a:pt x="2" y="336"/>
                </a:lnTo>
                <a:lnTo>
                  <a:pt x="8" y="3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Freeform 515"/>
          <p:cNvSpPr/>
          <p:nvPr/>
        </p:nvSpPr>
        <p:spPr>
          <a:xfrm>
            <a:off x="6197760" y="1763640"/>
            <a:ext cx="712800" cy="3008520"/>
          </a:xfrm>
          <a:custGeom>
            <a:avLst/>
            <a:gdLst>
              <a:gd name="textAreaLeft" fmla="*/ 0 w 712800"/>
              <a:gd name="textAreaRight" fmla="*/ 713160 w 712800"/>
              <a:gd name="textAreaTop" fmla="*/ 0 h 3008520"/>
              <a:gd name="textAreaBottom" fmla="*/ 3008880 h 3008520"/>
            </a:gdLst>
            <a:ahLst/>
            <a:rect l="textAreaLeft" t="textAreaTop" r="textAreaRight" b="textAreaBottom"/>
            <a:pathLst>
              <a:path w="449" h="1895">
                <a:moveTo>
                  <a:pt x="449" y="1890"/>
                </a:moveTo>
                <a:lnTo>
                  <a:pt x="447" y="1888"/>
                </a:lnTo>
                <a:lnTo>
                  <a:pt x="401" y="1849"/>
                </a:lnTo>
                <a:lnTo>
                  <a:pt x="357" y="1807"/>
                </a:lnTo>
                <a:lnTo>
                  <a:pt x="314" y="1761"/>
                </a:lnTo>
                <a:lnTo>
                  <a:pt x="276" y="1715"/>
                </a:lnTo>
                <a:lnTo>
                  <a:pt x="239" y="1665"/>
                </a:lnTo>
                <a:lnTo>
                  <a:pt x="205" y="1611"/>
                </a:lnTo>
                <a:lnTo>
                  <a:pt x="172" y="1558"/>
                </a:lnTo>
                <a:lnTo>
                  <a:pt x="144" y="1500"/>
                </a:lnTo>
                <a:lnTo>
                  <a:pt x="117" y="1443"/>
                </a:lnTo>
                <a:lnTo>
                  <a:pt x="94" y="1383"/>
                </a:lnTo>
                <a:lnTo>
                  <a:pt x="73" y="1322"/>
                </a:lnTo>
                <a:lnTo>
                  <a:pt x="53" y="1260"/>
                </a:lnTo>
                <a:lnTo>
                  <a:pt x="38" y="1197"/>
                </a:lnTo>
                <a:lnTo>
                  <a:pt x="26" y="1132"/>
                </a:lnTo>
                <a:lnTo>
                  <a:pt x="17" y="1067"/>
                </a:lnTo>
                <a:lnTo>
                  <a:pt x="11" y="1001"/>
                </a:lnTo>
                <a:lnTo>
                  <a:pt x="7" y="934"/>
                </a:lnTo>
                <a:lnTo>
                  <a:pt x="7" y="869"/>
                </a:lnTo>
                <a:lnTo>
                  <a:pt x="11" y="802"/>
                </a:lnTo>
                <a:lnTo>
                  <a:pt x="19" y="735"/>
                </a:lnTo>
                <a:lnTo>
                  <a:pt x="28" y="669"/>
                </a:lnTo>
                <a:lnTo>
                  <a:pt x="42" y="604"/>
                </a:lnTo>
                <a:lnTo>
                  <a:pt x="59" y="539"/>
                </a:lnTo>
                <a:lnTo>
                  <a:pt x="78" y="474"/>
                </a:lnTo>
                <a:lnTo>
                  <a:pt x="103" y="410"/>
                </a:lnTo>
                <a:lnTo>
                  <a:pt x="130" y="347"/>
                </a:lnTo>
                <a:lnTo>
                  <a:pt x="145" y="316"/>
                </a:lnTo>
                <a:lnTo>
                  <a:pt x="163" y="288"/>
                </a:lnTo>
                <a:lnTo>
                  <a:pt x="178" y="257"/>
                </a:lnTo>
                <a:lnTo>
                  <a:pt x="197" y="226"/>
                </a:lnTo>
                <a:lnTo>
                  <a:pt x="216" y="197"/>
                </a:lnTo>
                <a:lnTo>
                  <a:pt x="236" y="169"/>
                </a:lnTo>
                <a:lnTo>
                  <a:pt x="257" y="140"/>
                </a:lnTo>
                <a:lnTo>
                  <a:pt x="278" y="113"/>
                </a:lnTo>
                <a:lnTo>
                  <a:pt x="301" y="84"/>
                </a:lnTo>
                <a:lnTo>
                  <a:pt x="326" y="57"/>
                </a:lnTo>
                <a:lnTo>
                  <a:pt x="351" y="32"/>
                </a:lnTo>
                <a:lnTo>
                  <a:pt x="376" y="6"/>
                </a:lnTo>
                <a:lnTo>
                  <a:pt x="370" y="0"/>
                </a:lnTo>
                <a:lnTo>
                  <a:pt x="345" y="27"/>
                </a:lnTo>
                <a:lnTo>
                  <a:pt x="320" y="53"/>
                </a:lnTo>
                <a:lnTo>
                  <a:pt x="295" y="80"/>
                </a:lnTo>
                <a:lnTo>
                  <a:pt x="272" y="107"/>
                </a:lnTo>
                <a:lnTo>
                  <a:pt x="251" y="136"/>
                </a:lnTo>
                <a:lnTo>
                  <a:pt x="230" y="165"/>
                </a:lnTo>
                <a:lnTo>
                  <a:pt x="209" y="194"/>
                </a:lnTo>
                <a:lnTo>
                  <a:pt x="190" y="222"/>
                </a:lnTo>
                <a:lnTo>
                  <a:pt x="172" y="253"/>
                </a:lnTo>
                <a:lnTo>
                  <a:pt x="155" y="284"/>
                </a:lnTo>
                <a:lnTo>
                  <a:pt x="138" y="314"/>
                </a:lnTo>
                <a:lnTo>
                  <a:pt x="122" y="345"/>
                </a:lnTo>
                <a:lnTo>
                  <a:pt x="96" y="407"/>
                </a:lnTo>
                <a:lnTo>
                  <a:pt x="71" y="472"/>
                </a:lnTo>
                <a:lnTo>
                  <a:pt x="51" y="535"/>
                </a:lnTo>
                <a:lnTo>
                  <a:pt x="34" y="602"/>
                </a:lnTo>
                <a:lnTo>
                  <a:pt x="21" y="667"/>
                </a:lnTo>
                <a:lnTo>
                  <a:pt x="9" y="735"/>
                </a:lnTo>
                <a:lnTo>
                  <a:pt x="3" y="802"/>
                </a:lnTo>
                <a:lnTo>
                  <a:pt x="0" y="869"/>
                </a:lnTo>
                <a:lnTo>
                  <a:pt x="0" y="934"/>
                </a:lnTo>
                <a:lnTo>
                  <a:pt x="3" y="1001"/>
                </a:lnTo>
                <a:lnTo>
                  <a:pt x="9" y="1068"/>
                </a:lnTo>
                <a:lnTo>
                  <a:pt x="19" y="1134"/>
                </a:lnTo>
                <a:lnTo>
                  <a:pt x="30" y="1197"/>
                </a:lnTo>
                <a:lnTo>
                  <a:pt x="46" y="1262"/>
                </a:lnTo>
                <a:lnTo>
                  <a:pt x="65" y="1324"/>
                </a:lnTo>
                <a:lnTo>
                  <a:pt x="86" y="1385"/>
                </a:lnTo>
                <a:lnTo>
                  <a:pt x="109" y="1446"/>
                </a:lnTo>
                <a:lnTo>
                  <a:pt x="136" y="1504"/>
                </a:lnTo>
                <a:lnTo>
                  <a:pt x="165" y="1562"/>
                </a:lnTo>
                <a:lnTo>
                  <a:pt x="197" y="1615"/>
                </a:lnTo>
                <a:lnTo>
                  <a:pt x="232" y="1669"/>
                </a:lnTo>
                <a:lnTo>
                  <a:pt x="268" y="1719"/>
                </a:lnTo>
                <a:lnTo>
                  <a:pt x="309" y="1767"/>
                </a:lnTo>
                <a:lnTo>
                  <a:pt x="351" y="1813"/>
                </a:lnTo>
                <a:lnTo>
                  <a:pt x="395" y="1855"/>
                </a:lnTo>
                <a:lnTo>
                  <a:pt x="441" y="1895"/>
                </a:lnTo>
                <a:lnTo>
                  <a:pt x="441" y="1893"/>
                </a:lnTo>
                <a:lnTo>
                  <a:pt x="449" y="18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Freeform 516"/>
          <p:cNvSpPr/>
          <p:nvPr/>
        </p:nvSpPr>
        <p:spPr>
          <a:xfrm>
            <a:off x="6897600" y="4764240"/>
            <a:ext cx="249480" cy="495000"/>
          </a:xfrm>
          <a:custGeom>
            <a:avLst/>
            <a:gdLst>
              <a:gd name="textAreaLeft" fmla="*/ 0 w 249480"/>
              <a:gd name="textAreaRight" fmla="*/ 249840 w 24948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157" h="312">
                <a:moveTo>
                  <a:pt x="152" y="312"/>
                </a:moveTo>
                <a:lnTo>
                  <a:pt x="155" y="307"/>
                </a:lnTo>
                <a:lnTo>
                  <a:pt x="8" y="0"/>
                </a:lnTo>
                <a:lnTo>
                  <a:pt x="0" y="3"/>
                </a:lnTo>
                <a:lnTo>
                  <a:pt x="148" y="310"/>
                </a:lnTo>
                <a:lnTo>
                  <a:pt x="152" y="305"/>
                </a:lnTo>
                <a:lnTo>
                  <a:pt x="152" y="312"/>
                </a:lnTo>
                <a:lnTo>
                  <a:pt x="157" y="312"/>
                </a:lnTo>
                <a:lnTo>
                  <a:pt x="155" y="307"/>
                </a:lnTo>
                <a:lnTo>
                  <a:pt x="152" y="3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517"/>
          <p:cNvSpPr/>
          <p:nvPr/>
        </p:nvSpPr>
        <p:spPr>
          <a:xfrm>
            <a:off x="5900760" y="5248440"/>
            <a:ext cx="1238400" cy="1080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780" h="7">
                <a:moveTo>
                  <a:pt x="0" y="4"/>
                </a:moveTo>
                <a:lnTo>
                  <a:pt x="4" y="7"/>
                </a:lnTo>
                <a:lnTo>
                  <a:pt x="780" y="7"/>
                </a:lnTo>
                <a:lnTo>
                  <a:pt x="780" y="0"/>
                </a:lnTo>
                <a:lnTo>
                  <a:pt x="4" y="0"/>
                </a:lnTo>
                <a:lnTo>
                  <a:pt x="8" y="4"/>
                </a:lnTo>
                <a:lnTo>
                  <a:pt x="0" y="4"/>
                </a:lnTo>
                <a:lnTo>
                  <a:pt x="0" y="7"/>
                </a:lnTo>
                <a:lnTo>
                  <a:pt x="4" y="7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Freeform 518"/>
          <p:cNvSpPr/>
          <p:nvPr/>
        </p:nvSpPr>
        <p:spPr>
          <a:xfrm>
            <a:off x="5727600" y="1224000"/>
            <a:ext cx="669960" cy="4030560"/>
          </a:xfrm>
          <a:custGeom>
            <a:avLst/>
            <a:gdLst>
              <a:gd name="textAreaLeft" fmla="*/ 0 w 669960"/>
              <a:gd name="textAreaRight" fmla="*/ 669960 w 669960"/>
              <a:gd name="textAreaTop" fmla="*/ 0 h 4030560"/>
              <a:gd name="textAreaBottom" fmla="*/ 4030920 h 4030560"/>
            </a:gdLst>
            <a:ahLst/>
            <a:rect l="textAreaLeft" t="textAreaTop" r="textAreaRight" b="textAreaBottom"/>
            <a:pathLst>
              <a:path w="422" h="2539">
                <a:moveTo>
                  <a:pt x="418" y="0"/>
                </a:moveTo>
                <a:lnTo>
                  <a:pt x="415" y="4"/>
                </a:lnTo>
                <a:lnTo>
                  <a:pt x="367" y="108"/>
                </a:lnTo>
                <a:lnTo>
                  <a:pt x="322" y="209"/>
                </a:lnTo>
                <a:lnTo>
                  <a:pt x="280" y="307"/>
                </a:lnTo>
                <a:lnTo>
                  <a:pt x="244" y="401"/>
                </a:lnTo>
                <a:lnTo>
                  <a:pt x="207" y="495"/>
                </a:lnTo>
                <a:lnTo>
                  <a:pt x="177" y="585"/>
                </a:lnTo>
                <a:lnTo>
                  <a:pt x="148" y="672"/>
                </a:lnTo>
                <a:lnTo>
                  <a:pt x="123" y="758"/>
                </a:lnTo>
                <a:lnTo>
                  <a:pt x="100" y="841"/>
                </a:lnTo>
                <a:lnTo>
                  <a:pt x="79" y="923"/>
                </a:lnTo>
                <a:lnTo>
                  <a:pt x="61" y="1002"/>
                </a:lnTo>
                <a:lnTo>
                  <a:pt x="46" y="1080"/>
                </a:lnTo>
                <a:lnTo>
                  <a:pt x="33" y="1157"/>
                </a:lnTo>
                <a:lnTo>
                  <a:pt x="21" y="1232"/>
                </a:lnTo>
                <a:lnTo>
                  <a:pt x="13" y="1305"/>
                </a:lnTo>
                <a:lnTo>
                  <a:pt x="8" y="1380"/>
                </a:lnTo>
                <a:lnTo>
                  <a:pt x="4" y="1451"/>
                </a:lnTo>
                <a:lnTo>
                  <a:pt x="0" y="1522"/>
                </a:lnTo>
                <a:lnTo>
                  <a:pt x="0" y="1595"/>
                </a:lnTo>
                <a:lnTo>
                  <a:pt x="2" y="1664"/>
                </a:lnTo>
                <a:lnTo>
                  <a:pt x="4" y="1735"/>
                </a:lnTo>
                <a:lnTo>
                  <a:pt x="8" y="1806"/>
                </a:lnTo>
                <a:lnTo>
                  <a:pt x="13" y="1875"/>
                </a:lnTo>
                <a:lnTo>
                  <a:pt x="21" y="1946"/>
                </a:lnTo>
                <a:lnTo>
                  <a:pt x="38" y="2090"/>
                </a:lnTo>
                <a:lnTo>
                  <a:pt x="59" y="2235"/>
                </a:lnTo>
                <a:lnTo>
                  <a:pt x="83" y="2385"/>
                </a:lnTo>
                <a:lnTo>
                  <a:pt x="109" y="2539"/>
                </a:lnTo>
                <a:lnTo>
                  <a:pt x="117" y="2539"/>
                </a:lnTo>
                <a:lnTo>
                  <a:pt x="90" y="2383"/>
                </a:lnTo>
                <a:lnTo>
                  <a:pt x="67" y="2233"/>
                </a:lnTo>
                <a:lnTo>
                  <a:pt x="46" y="2088"/>
                </a:lnTo>
                <a:lnTo>
                  <a:pt x="29" y="1946"/>
                </a:lnTo>
                <a:lnTo>
                  <a:pt x="21" y="1875"/>
                </a:lnTo>
                <a:lnTo>
                  <a:pt x="15" y="1804"/>
                </a:lnTo>
                <a:lnTo>
                  <a:pt x="12" y="1735"/>
                </a:lnTo>
                <a:lnTo>
                  <a:pt x="10" y="1664"/>
                </a:lnTo>
                <a:lnTo>
                  <a:pt x="8" y="1595"/>
                </a:lnTo>
                <a:lnTo>
                  <a:pt x="10" y="1524"/>
                </a:lnTo>
                <a:lnTo>
                  <a:pt x="12" y="1451"/>
                </a:lnTo>
                <a:lnTo>
                  <a:pt x="15" y="1380"/>
                </a:lnTo>
                <a:lnTo>
                  <a:pt x="21" y="1307"/>
                </a:lnTo>
                <a:lnTo>
                  <a:pt x="31" y="1232"/>
                </a:lnTo>
                <a:lnTo>
                  <a:pt x="40" y="1157"/>
                </a:lnTo>
                <a:lnTo>
                  <a:pt x="54" y="1082"/>
                </a:lnTo>
                <a:lnTo>
                  <a:pt x="69" y="1004"/>
                </a:lnTo>
                <a:lnTo>
                  <a:pt x="86" y="925"/>
                </a:lnTo>
                <a:lnTo>
                  <a:pt x="107" y="842"/>
                </a:lnTo>
                <a:lnTo>
                  <a:pt x="131" y="760"/>
                </a:lnTo>
                <a:lnTo>
                  <a:pt x="155" y="676"/>
                </a:lnTo>
                <a:lnTo>
                  <a:pt x="184" y="587"/>
                </a:lnTo>
                <a:lnTo>
                  <a:pt x="215" y="497"/>
                </a:lnTo>
                <a:lnTo>
                  <a:pt x="250" y="405"/>
                </a:lnTo>
                <a:lnTo>
                  <a:pt x="288" y="309"/>
                </a:lnTo>
                <a:lnTo>
                  <a:pt x="330" y="211"/>
                </a:lnTo>
                <a:lnTo>
                  <a:pt x="374" y="111"/>
                </a:lnTo>
                <a:lnTo>
                  <a:pt x="422" y="6"/>
                </a:lnTo>
                <a:lnTo>
                  <a:pt x="418" y="8"/>
                </a:lnTo>
                <a:lnTo>
                  <a:pt x="418" y="0"/>
                </a:lnTo>
                <a:lnTo>
                  <a:pt x="416" y="0"/>
                </a:lnTo>
                <a:lnTo>
                  <a:pt x="415" y="4"/>
                </a:lnTo>
                <a:lnTo>
                  <a:pt x="41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Freeform 519"/>
          <p:cNvSpPr/>
          <p:nvPr/>
        </p:nvSpPr>
        <p:spPr>
          <a:xfrm>
            <a:off x="2830680" y="4751280"/>
            <a:ext cx="2881080" cy="23760"/>
          </a:xfrm>
          <a:custGeom>
            <a:avLst/>
            <a:gdLst>
              <a:gd name="textAreaLeft" fmla="*/ 0 w 2881080"/>
              <a:gd name="textAreaRight" fmla="*/ 2881440 w 28810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815" h="15">
                <a:moveTo>
                  <a:pt x="1815" y="8"/>
                </a:moveTo>
                <a:lnTo>
                  <a:pt x="1815" y="0"/>
                </a:lnTo>
                <a:lnTo>
                  <a:pt x="0" y="0"/>
                </a:lnTo>
                <a:lnTo>
                  <a:pt x="0" y="15"/>
                </a:lnTo>
                <a:lnTo>
                  <a:pt x="1815" y="15"/>
                </a:lnTo>
                <a:lnTo>
                  <a:pt x="1815" y="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Freeform 520"/>
          <p:cNvSpPr/>
          <p:nvPr/>
        </p:nvSpPr>
        <p:spPr>
          <a:xfrm>
            <a:off x="6958080" y="4751280"/>
            <a:ext cx="128520" cy="23760"/>
          </a:xfrm>
          <a:custGeom>
            <a:avLst/>
            <a:gdLst>
              <a:gd name="textAreaLeft" fmla="*/ 0 w 128520"/>
              <a:gd name="textAreaRight" fmla="*/ 128880 w 1285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81" h="15">
                <a:moveTo>
                  <a:pt x="0" y="8"/>
                </a:moveTo>
                <a:lnTo>
                  <a:pt x="0" y="15"/>
                </a:lnTo>
                <a:lnTo>
                  <a:pt x="81" y="15"/>
                </a:lnTo>
                <a:lnTo>
                  <a:pt x="81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Freeform 521"/>
          <p:cNvSpPr/>
          <p:nvPr/>
        </p:nvSpPr>
        <p:spPr>
          <a:xfrm>
            <a:off x="5824440" y="4767120"/>
            <a:ext cx="1314720" cy="487440"/>
          </a:xfrm>
          <a:custGeom>
            <a:avLst/>
            <a:gdLst>
              <a:gd name="textAreaLeft" fmla="*/ 0 w 1314720"/>
              <a:gd name="textAreaRight" fmla="*/ 1315080 w 131472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828" h="307">
                <a:moveTo>
                  <a:pt x="680" y="0"/>
                </a:moveTo>
                <a:lnTo>
                  <a:pt x="828" y="307"/>
                </a:lnTo>
                <a:lnTo>
                  <a:pt x="52" y="307"/>
                </a:lnTo>
                <a:lnTo>
                  <a:pt x="0" y="0"/>
                </a:lnTo>
                <a:lnTo>
                  <a:pt x="680" y="0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Freeform 522"/>
          <p:cNvSpPr/>
          <p:nvPr/>
        </p:nvSpPr>
        <p:spPr>
          <a:xfrm>
            <a:off x="6897600" y="4764240"/>
            <a:ext cx="249480" cy="495000"/>
          </a:xfrm>
          <a:custGeom>
            <a:avLst/>
            <a:gdLst>
              <a:gd name="textAreaLeft" fmla="*/ 0 w 249480"/>
              <a:gd name="textAreaRight" fmla="*/ 249840 w 24948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157" h="312">
                <a:moveTo>
                  <a:pt x="152" y="312"/>
                </a:moveTo>
                <a:lnTo>
                  <a:pt x="155" y="307"/>
                </a:lnTo>
                <a:lnTo>
                  <a:pt x="8" y="0"/>
                </a:lnTo>
                <a:lnTo>
                  <a:pt x="0" y="3"/>
                </a:lnTo>
                <a:lnTo>
                  <a:pt x="148" y="310"/>
                </a:lnTo>
                <a:lnTo>
                  <a:pt x="152" y="305"/>
                </a:lnTo>
                <a:lnTo>
                  <a:pt x="152" y="312"/>
                </a:lnTo>
                <a:lnTo>
                  <a:pt x="157" y="312"/>
                </a:lnTo>
                <a:lnTo>
                  <a:pt x="155" y="307"/>
                </a:lnTo>
                <a:lnTo>
                  <a:pt x="152" y="3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Freeform 523"/>
          <p:cNvSpPr/>
          <p:nvPr/>
        </p:nvSpPr>
        <p:spPr>
          <a:xfrm>
            <a:off x="5900760" y="5248440"/>
            <a:ext cx="1238400" cy="1080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780" h="7">
                <a:moveTo>
                  <a:pt x="0" y="4"/>
                </a:moveTo>
                <a:lnTo>
                  <a:pt x="4" y="7"/>
                </a:lnTo>
                <a:lnTo>
                  <a:pt x="780" y="7"/>
                </a:lnTo>
                <a:lnTo>
                  <a:pt x="780" y="0"/>
                </a:lnTo>
                <a:lnTo>
                  <a:pt x="4" y="0"/>
                </a:lnTo>
                <a:lnTo>
                  <a:pt x="8" y="4"/>
                </a:lnTo>
                <a:lnTo>
                  <a:pt x="0" y="4"/>
                </a:lnTo>
                <a:lnTo>
                  <a:pt x="0" y="7"/>
                </a:lnTo>
                <a:lnTo>
                  <a:pt x="4" y="7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Freeform 524"/>
          <p:cNvSpPr/>
          <p:nvPr/>
        </p:nvSpPr>
        <p:spPr>
          <a:xfrm>
            <a:off x="5819760" y="4761000"/>
            <a:ext cx="93600" cy="493560"/>
          </a:xfrm>
          <a:custGeom>
            <a:avLst/>
            <a:gdLst>
              <a:gd name="textAreaLeft" fmla="*/ 0 w 93600"/>
              <a:gd name="textAreaRight" fmla="*/ 93960 w 9360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59" h="311">
                <a:moveTo>
                  <a:pt x="3" y="0"/>
                </a:moveTo>
                <a:lnTo>
                  <a:pt x="0" y="4"/>
                </a:lnTo>
                <a:lnTo>
                  <a:pt x="51" y="311"/>
                </a:lnTo>
                <a:lnTo>
                  <a:pt x="59" y="311"/>
                </a:lnTo>
                <a:lnTo>
                  <a:pt x="7" y="2"/>
                </a:lnTo>
                <a:lnTo>
                  <a:pt x="3" y="7"/>
                </a:lnTo>
                <a:lnTo>
                  <a:pt x="3" y="0"/>
                </a:lnTo>
                <a:lnTo>
                  <a:pt x="0" y="0"/>
                </a:lnTo>
                <a:lnTo>
                  <a:pt x="0" y="4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Freeform 525"/>
          <p:cNvSpPr/>
          <p:nvPr/>
        </p:nvSpPr>
        <p:spPr>
          <a:xfrm>
            <a:off x="5824440" y="4761000"/>
            <a:ext cx="1086120" cy="1116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684" h="7">
                <a:moveTo>
                  <a:pt x="684" y="2"/>
                </a:moveTo>
                <a:lnTo>
                  <a:pt x="680" y="0"/>
                </a:lnTo>
                <a:lnTo>
                  <a:pt x="0" y="0"/>
                </a:lnTo>
                <a:lnTo>
                  <a:pt x="0" y="7"/>
                </a:lnTo>
                <a:lnTo>
                  <a:pt x="680" y="7"/>
                </a:lnTo>
                <a:lnTo>
                  <a:pt x="676" y="5"/>
                </a:lnTo>
                <a:lnTo>
                  <a:pt x="684" y="2"/>
                </a:lnTo>
                <a:lnTo>
                  <a:pt x="682" y="0"/>
                </a:lnTo>
                <a:lnTo>
                  <a:pt x="680" y="0"/>
                </a:lnTo>
                <a:lnTo>
                  <a:pt x="684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Freeform 526"/>
          <p:cNvSpPr/>
          <p:nvPr/>
        </p:nvSpPr>
        <p:spPr>
          <a:xfrm>
            <a:off x="5999040" y="1230480"/>
            <a:ext cx="405000" cy="4028760"/>
          </a:xfrm>
          <a:custGeom>
            <a:avLst/>
            <a:gdLst>
              <a:gd name="textAreaLeft" fmla="*/ 0 w 405000"/>
              <a:gd name="textAreaRight" fmla="*/ 405360 w 405000"/>
              <a:gd name="textAreaTop" fmla="*/ 0 h 4028760"/>
              <a:gd name="textAreaBottom" fmla="*/ 4029120 h 4028760"/>
            </a:gdLst>
            <a:ahLst/>
            <a:rect l="textAreaLeft" t="textAreaTop" r="textAreaRight" b="textAreaBottom"/>
            <a:pathLst>
              <a:path w="255" h="2538">
                <a:moveTo>
                  <a:pt x="226" y="2535"/>
                </a:moveTo>
                <a:lnTo>
                  <a:pt x="215" y="2521"/>
                </a:lnTo>
                <a:lnTo>
                  <a:pt x="203" y="2506"/>
                </a:lnTo>
                <a:lnTo>
                  <a:pt x="192" y="2490"/>
                </a:lnTo>
                <a:lnTo>
                  <a:pt x="182" y="2473"/>
                </a:lnTo>
                <a:lnTo>
                  <a:pt x="161" y="2433"/>
                </a:lnTo>
                <a:lnTo>
                  <a:pt x="140" y="2387"/>
                </a:lnTo>
                <a:lnTo>
                  <a:pt x="123" y="2335"/>
                </a:lnTo>
                <a:lnTo>
                  <a:pt x="103" y="2279"/>
                </a:lnTo>
                <a:lnTo>
                  <a:pt x="88" y="2218"/>
                </a:lnTo>
                <a:lnTo>
                  <a:pt x="73" y="2153"/>
                </a:lnTo>
                <a:lnTo>
                  <a:pt x="59" y="2082"/>
                </a:lnTo>
                <a:lnTo>
                  <a:pt x="48" y="2007"/>
                </a:lnTo>
                <a:lnTo>
                  <a:pt x="36" y="1928"/>
                </a:lnTo>
                <a:lnTo>
                  <a:pt x="29" y="1848"/>
                </a:lnTo>
                <a:lnTo>
                  <a:pt x="21" y="1763"/>
                </a:lnTo>
                <a:lnTo>
                  <a:pt x="15" y="1677"/>
                </a:lnTo>
                <a:lnTo>
                  <a:pt x="11" y="1587"/>
                </a:lnTo>
                <a:lnTo>
                  <a:pt x="9" y="1495"/>
                </a:lnTo>
                <a:lnTo>
                  <a:pt x="9" y="1403"/>
                </a:lnTo>
                <a:lnTo>
                  <a:pt x="9" y="1307"/>
                </a:lnTo>
                <a:lnTo>
                  <a:pt x="13" y="1211"/>
                </a:lnTo>
                <a:lnTo>
                  <a:pt x="19" y="1115"/>
                </a:lnTo>
                <a:lnTo>
                  <a:pt x="27" y="1017"/>
                </a:lnTo>
                <a:lnTo>
                  <a:pt x="36" y="919"/>
                </a:lnTo>
                <a:lnTo>
                  <a:pt x="48" y="823"/>
                </a:lnTo>
                <a:lnTo>
                  <a:pt x="61" y="725"/>
                </a:lnTo>
                <a:lnTo>
                  <a:pt x="77" y="629"/>
                </a:lnTo>
                <a:lnTo>
                  <a:pt x="96" y="533"/>
                </a:lnTo>
                <a:lnTo>
                  <a:pt x="115" y="439"/>
                </a:lnTo>
                <a:lnTo>
                  <a:pt x="138" y="347"/>
                </a:lnTo>
                <a:lnTo>
                  <a:pt x="163" y="257"/>
                </a:lnTo>
                <a:lnTo>
                  <a:pt x="192" y="171"/>
                </a:lnTo>
                <a:lnTo>
                  <a:pt x="222" y="84"/>
                </a:lnTo>
                <a:lnTo>
                  <a:pt x="255" y="2"/>
                </a:lnTo>
                <a:lnTo>
                  <a:pt x="247" y="0"/>
                </a:lnTo>
                <a:lnTo>
                  <a:pt x="215" y="82"/>
                </a:lnTo>
                <a:lnTo>
                  <a:pt x="184" y="167"/>
                </a:lnTo>
                <a:lnTo>
                  <a:pt x="155" y="255"/>
                </a:lnTo>
                <a:lnTo>
                  <a:pt x="130" y="345"/>
                </a:lnTo>
                <a:lnTo>
                  <a:pt x="107" y="437"/>
                </a:lnTo>
                <a:lnTo>
                  <a:pt x="86" y="531"/>
                </a:lnTo>
                <a:lnTo>
                  <a:pt x="69" y="627"/>
                </a:lnTo>
                <a:lnTo>
                  <a:pt x="54" y="723"/>
                </a:lnTo>
                <a:lnTo>
                  <a:pt x="38" y="821"/>
                </a:lnTo>
                <a:lnTo>
                  <a:pt x="27" y="919"/>
                </a:lnTo>
                <a:lnTo>
                  <a:pt x="17" y="1017"/>
                </a:lnTo>
                <a:lnTo>
                  <a:pt x="11" y="1115"/>
                </a:lnTo>
                <a:lnTo>
                  <a:pt x="6" y="1211"/>
                </a:lnTo>
                <a:lnTo>
                  <a:pt x="2" y="1307"/>
                </a:lnTo>
                <a:lnTo>
                  <a:pt x="0" y="1403"/>
                </a:lnTo>
                <a:lnTo>
                  <a:pt x="2" y="1495"/>
                </a:lnTo>
                <a:lnTo>
                  <a:pt x="4" y="1587"/>
                </a:lnTo>
                <a:lnTo>
                  <a:pt x="7" y="1677"/>
                </a:lnTo>
                <a:lnTo>
                  <a:pt x="13" y="1763"/>
                </a:lnTo>
                <a:lnTo>
                  <a:pt x="21" y="1848"/>
                </a:lnTo>
                <a:lnTo>
                  <a:pt x="29" y="1930"/>
                </a:lnTo>
                <a:lnTo>
                  <a:pt x="40" y="2009"/>
                </a:lnTo>
                <a:lnTo>
                  <a:pt x="52" y="2084"/>
                </a:lnTo>
                <a:lnTo>
                  <a:pt x="65" y="2153"/>
                </a:lnTo>
                <a:lnTo>
                  <a:pt x="80" y="2220"/>
                </a:lnTo>
                <a:lnTo>
                  <a:pt x="96" y="2281"/>
                </a:lnTo>
                <a:lnTo>
                  <a:pt x="115" y="2339"/>
                </a:lnTo>
                <a:lnTo>
                  <a:pt x="132" y="2391"/>
                </a:lnTo>
                <a:lnTo>
                  <a:pt x="153" y="2437"/>
                </a:lnTo>
                <a:lnTo>
                  <a:pt x="174" y="2477"/>
                </a:lnTo>
                <a:lnTo>
                  <a:pt x="186" y="2494"/>
                </a:lnTo>
                <a:lnTo>
                  <a:pt x="198" y="2512"/>
                </a:lnTo>
                <a:lnTo>
                  <a:pt x="209" y="2527"/>
                </a:lnTo>
                <a:lnTo>
                  <a:pt x="221" y="2538"/>
                </a:lnTo>
                <a:lnTo>
                  <a:pt x="226" y="25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Freeform 527"/>
          <p:cNvSpPr/>
          <p:nvPr/>
        </p:nvSpPr>
        <p:spPr>
          <a:xfrm>
            <a:off x="2187720" y="4757760"/>
            <a:ext cx="653760" cy="423720"/>
          </a:xfrm>
          <a:custGeom>
            <a:avLst/>
            <a:gdLst>
              <a:gd name="textAreaLeft" fmla="*/ 0 w 653760"/>
              <a:gd name="textAreaRight" fmla="*/ 653760 w 65376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412" h="267">
                <a:moveTo>
                  <a:pt x="368" y="0"/>
                </a:moveTo>
                <a:lnTo>
                  <a:pt x="370" y="19"/>
                </a:lnTo>
                <a:lnTo>
                  <a:pt x="374" y="44"/>
                </a:lnTo>
                <a:lnTo>
                  <a:pt x="380" y="77"/>
                </a:lnTo>
                <a:lnTo>
                  <a:pt x="386" y="113"/>
                </a:lnTo>
                <a:lnTo>
                  <a:pt x="391" y="151"/>
                </a:lnTo>
                <a:lnTo>
                  <a:pt x="397" y="192"/>
                </a:lnTo>
                <a:lnTo>
                  <a:pt x="405" y="230"/>
                </a:lnTo>
                <a:lnTo>
                  <a:pt x="412" y="267"/>
                </a:lnTo>
                <a:lnTo>
                  <a:pt x="370" y="267"/>
                </a:lnTo>
                <a:lnTo>
                  <a:pt x="330" y="267"/>
                </a:lnTo>
                <a:lnTo>
                  <a:pt x="290" y="267"/>
                </a:lnTo>
                <a:lnTo>
                  <a:pt x="251" y="267"/>
                </a:lnTo>
                <a:lnTo>
                  <a:pt x="211" y="267"/>
                </a:lnTo>
                <a:lnTo>
                  <a:pt x="172" y="267"/>
                </a:lnTo>
                <a:lnTo>
                  <a:pt x="130" y="267"/>
                </a:lnTo>
                <a:lnTo>
                  <a:pt x="88" y="267"/>
                </a:lnTo>
                <a:lnTo>
                  <a:pt x="0" y="0"/>
                </a:lnTo>
                <a:lnTo>
                  <a:pt x="368" y="0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Freeform 528"/>
          <p:cNvSpPr/>
          <p:nvPr/>
        </p:nvSpPr>
        <p:spPr>
          <a:xfrm>
            <a:off x="2187720" y="4757760"/>
            <a:ext cx="653760" cy="423720"/>
          </a:xfrm>
          <a:custGeom>
            <a:avLst/>
            <a:gdLst>
              <a:gd name="textAreaLeft" fmla="*/ 0 w 653760"/>
              <a:gd name="textAreaRight" fmla="*/ 653760 w 65376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412" h="267">
                <a:moveTo>
                  <a:pt x="368" y="0"/>
                </a:moveTo>
                <a:lnTo>
                  <a:pt x="370" y="19"/>
                </a:lnTo>
                <a:lnTo>
                  <a:pt x="374" y="44"/>
                </a:lnTo>
                <a:lnTo>
                  <a:pt x="380" y="77"/>
                </a:lnTo>
                <a:lnTo>
                  <a:pt x="386" y="113"/>
                </a:lnTo>
                <a:lnTo>
                  <a:pt x="391" y="151"/>
                </a:lnTo>
                <a:lnTo>
                  <a:pt x="397" y="192"/>
                </a:lnTo>
                <a:lnTo>
                  <a:pt x="405" y="230"/>
                </a:lnTo>
                <a:lnTo>
                  <a:pt x="412" y="267"/>
                </a:lnTo>
                <a:lnTo>
                  <a:pt x="370" y="267"/>
                </a:lnTo>
                <a:lnTo>
                  <a:pt x="330" y="267"/>
                </a:lnTo>
                <a:lnTo>
                  <a:pt x="290" y="267"/>
                </a:lnTo>
                <a:lnTo>
                  <a:pt x="251" y="267"/>
                </a:lnTo>
                <a:lnTo>
                  <a:pt x="211" y="267"/>
                </a:lnTo>
                <a:lnTo>
                  <a:pt x="172" y="267"/>
                </a:lnTo>
                <a:lnTo>
                  <a:pt x="130" y="267"/>
                </a:lnTo>
                <a:lnTo>
                  <a:pt x="88" y="267"/>
                </a:lnTo>
                <a:lnTo>
                  <a:pt x="0" y="0"/>
                </a:lnTo>
                <a:lnTo>
                  <a:pt x="36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531"/>
          <p:cNvSpPr/>
          <p:nvPr/>
        </p:nvSpPr>
        <p:spPr>
          <a:xfrm>
            <a:off x="7223400" y="4557600"/>
            <a:ext cx="1640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UN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41040" y="473040"/>
            <a:ext cx="8744040" cy="49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UPLA TRUNCAGEM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99680" y="1501920"/>
            <a:ext cx="9466200" cy="5153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70000"/>
              </a:lnSpc>
              <a:spcAft>
                <a:spcPts val="13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ma truncagem superior pode ser adicionada para aumentar a estabilidade da lente, se uma truncagem simples não é suficien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026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27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28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29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520" y="228600"/>
            <a:ext cx="8744040" cy="378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IPOS DE LENTE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09680" y="960480"/>
            <a:ext cx="6594480" cy="463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20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órica de superfície anterior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20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órica de superfície posterior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20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itór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20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órica Periférica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9" name="Picture 8" descr=""/>
          <p:cNvPicPr/>
          <p:nvPr/>
        </p:nvPicPr>
        <p:blipFill>
          <a:blip r:embed="rId1"/>
          <a:stretch/>
        </p:blipFill>
        <p:spPr>
          <a:xfrm>
            <a:off x="2371680" y="801720"/>
            <a:ext cx="5511960" cy="4865760"/>
          </a:xfrm>
          <a:prstGeom prst="rect">
            <a:avLst/>
          </a:prstGeom>
          <a:ln w="0">
            <a:noFill/>
          </a:ln>
        </p:spPr>
      </p:pic>
      <p:sp>
        <p:nvSpPr>
          <p:cNvPr id="1020" name="Text Box 9"/>
          <p:cNvSpPr/>
          <p:nvPr/>
        </p:nvSpPr>
        <p:spPr>
          <a:xfrm>
            <a:off x="3766680" y="2998800"/>
            <a:ext cx="2742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PLO TRUN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5" name="Picture 7" descr=""/>
          <p:cNvPicPr/>
          <p:nvPr/>
        </p:nvPicPr>
        <p:blipFill>
          <a:blip r:embed="rId1"/>
          <a:stretch/>
        </p:blipFill>
        <p:spPr>
          <a:xfrm>
            <a:off x="1878120" y="876240"/>
            <a:ext cx="6622920" cy="4552920"/>
          </a:xfrm>
          <a:prstGeom prst="rect">
            <a:avLst/>
          </a:prstGeom>
          <a:ln w="0">
            <a:noFill/>
          </a:ln>
        </p:spPr>
      </p:pic>
      <p:sp>
        <p:nvSpPr>
          <p:cNvPr id="1026" name="Text Box 8"/>
          <p:cNvSpPr/>
          <p:nvPr/>
        </p:nvSpPr>
        <p:spPr>
          <a:xfrm>
            <a:off x="7758000" y="871560"/>
            <a:ext cx="2703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ÁPEBRA SUP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9"/>
          <p:cNvSpPr/>
          <p:nvPr/>
        </p:nvSpPr>
        <p:spPr>
          <a:xfrm>
            <a:off x="859680" y="2803680"/>
            <a:ext cx="1169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Ó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0"/>
          <p:cNvSpPr/>
          <p:nvPr/>
        </p:nvSpPr>
        <p:spPr>
          <a:xfrm>
            <a:off x="7914960" y="2919240"/>
            <a:ext cx="1639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N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1"/>
          <p:cNvSpPr/>
          <p:nvPr/>
        </p:nvSpPr>
        <p:spPr>
          <a:xfrm>
            <a:off x="6947280" y="5218200"/>
            <a:ext cx="2593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ÁLPEBRA INF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2"/>
          <p:cNvSpPr/>
          <p:nvPr/>
        </p:nvSpPr>
        <p:spPr>
          <a:xfrm>
            <a:off x="3998880" y="2174760"/>
            <a:ext cx="930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-360" y="473040"/>
            <a:ext cx="10287000" cy="49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ÓRICA DE SUPERFÍCIE POS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011240" y="1417320"/>
            <a:ext cx="8329680" cy="436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7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 desenho de superfície posterior tórica é escolhido para otimizar a relação de toque da lente à córnea, que seria insatisfatória com uma lente esfér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41040" y="313920"/>
            <a:ext cx="8744040" cy="65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EXIGÊNCIAS DE ADAPT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474920" y="1417320"/>
            <a:ext cx="8170560" cy="436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ilíndrico corneal de 2.00D ou ma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patibilidade física com a córne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rientação meridional está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41040" y="473040"/>
            <a:ext cx="8744040" cy="49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323720" y="1604520"/>
            <a:ext cx="8677080" cy="435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perfície posterior é tór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perfície anterior é esfér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-360" y="255240"/>
            <a:ext cx="10287000" cy="958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E LENTE TÓRICA DE SUPERFÍCIE POS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4720" y="1388880"/>
            <a:ext cx="9205920" cy="5468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delo de alinhamento comple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delo de estimulação de baixa toricida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senho otimizado para cada meridiano princip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941040" y="371520"/>
            <a:ext cx="8744040" cy="595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BITÓ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13920" y="1360440"/>
            <a:ext cx="9737640" cy="457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70000"/>
              </a:lnSpc>
              <a:spcAft>
                <a:spcPts val="13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lente bitórica é exigida quando uma lente de superfície tórica posterior/superfície anterior esférica, dá como resultado um montante de astigmatismo residu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941040" y="473040"/>
            <a:ext cx="8744040" cy="49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775800" y="1198080"/>
            <a:ext cx="8844120" cy="465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perfície posterior tórica para uma adaptação fís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perfície anterior tórica para correção do astigmatism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tabilidade rotacion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40960" y="271440"/>
            <a:ext cx="8744040" cy="550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ÓRICA PERIFÉ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90680" y="1355400"/>
            <a:ext cx="9316800" cy="4964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60000"/>
              </a:lnSpc>
              <a:spcAft>
                <a:spcPts val="134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ma tórica periférica com uma zona óptica posterior esférica é desenhada para melhorar a adaptação em uma córnea com moderada toricida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840960" y="226800"/>
            <a:ext cx="8744040" cy="595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ÓRICA PERIFÉ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574200" y="1298520"/>
            <a:ext cx="9117000" cy="4732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60000"/>
              </a:lnSpc>
              <a:spcAft>
                <a:spcPts val="134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m desenho de curva(s) periférica(s) tórica permite igual toque e/ou claridade na periferia, resultando em uma melhor centralização e confor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8360" y="334800"/>
            <a:ext cx="8744040" cy="479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EXIGÊNCIAS DE ADAPTAÇÃO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6160" y="1665360"/>
            <a:ext cx="9174240" cy="4076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patibilidade fís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tabilidade na orientação dos meridian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5"/>
          <p:cNvSpPr/>
          <p:nvPr/>
        </p:nvSpPr>
        <p:spPr>
          <a:xfrm>
            <a:off x="3514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840960" y="385560"/>
            <a:ext cx="874404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27040" y="1185480"/>
            <a:ext cx="9385200" cy="5079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Zona óptica posterior esfér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urvas periféricas posteriores tóric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Zona óptica e curvas periféricas anteriores esféric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Zona óptica ovala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2"/>
          <p:cNvSpPr/>
          <p:nvPr/>
        </p:nvSpPr>
        <p:spPr>
          <a:xfrm>
            <a:off x="901800" y="61768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3"/>
          <p:cNvSpPr/>
          <p:nvPr/>
        </p:nvSpPr>
        <p:spPr>
          <a:xfrm>
            <a:off x="3645000" y="617688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4"/>
          <p:cNvSpPr/>
          <p:nvPr/>
        </p:nvSpPr>
        <p:spPr>
          <a:xfrm>
            <a:off x="901800" y="61768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5"/>
          <p:cNvSpPr/>
          <p:nvPr/>
        </p:nvSpPr>
        <p:spPr>
          <a:xfrm>
            <a:off x="3645000" y="617688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Freeform 9"/>
          <p:cNvSpPr/>
          <p:nvPr/>
        </p:nvSpPr>
        <p:spPr>
          <a:xfrm>
            <a:off x="3224160" y="1290600"/>
            <a:ext cx="4097520" cy="3919680"/>
          </a:xfrm>
          <a:custGeom>
            <a:avLst/>
            <a:gdLst>
              <a:gd name="textAreaLeft" fmla="*/ 0 w 4097520"/>
              <a:gd name="textAreaRight" fmla="*/ 4097880 w 4097520"/>
              <a:gd name="textAreaTop" fmla="*/ 0 h 3919680"/>
              <a:gd name="textAreaBottom" fmla="*/ 3920040 h 3919680"/>
            </a:gdLst>
            <a:ahLst/>
            <a:rect l="textAreaLeft" t="textAreaTop" r="textAreaRight" b="textAreaBottom"/>
            <a:pathLst>
              <a:path w="2581" h="2469">
                <a:moveTo>
                  <a:pt x="1290" y="0"/>
                </a:moveTo>
                <a:lnTo>
                  <a:pt x="1357" y="1"/>
                </a:lnTo>
                <a:lnTo>
                  <a:pt x="1422" y="7"/>
                </a:lnTo>
                <a:lnTo>
                  <a:pt x="1487" y="15"/>
                </a:lnTo>
                <a:lnTo>
                  <a:pt x="1551" y="26"/>
                </a:lnTo>
                <a:lnTo>
                  <a:pt x="1612" y="40"/>
                </a:lnTo>
                <a:lnTo>
                  <a:pt x="1673" y="55"/>
                </a:lnTo>
                <a:lnTo>
                  <a:pt x="1733" y="76"/>
                </a:lnTo>
                <a:lnTo>
                  <a:pt x="1792" y="97"/>
                </a:lnTo>
                <a:lnTo>
                  <a:pt x="1848" y="122"/>
                </a:lnTo>
                <a:lnTo>
                  <a:pt x="1904" y="149"/>
                </a:lnTo>
                <a:lnTo>
                  <a:pt x="1959" y="180"/>
                </a:lnTo>
                <a:lnTo>
                  <a:pt x="2011" y="213"/>
                </a:lnTo>
                <a:lnTo>
                  <a:pt x="2061" y="245"/>
                </a:lnTo>
                <a:lnTo>
                  <a:pt x="2111" y="284"/>
                </a:lnTo>
                <a:lnTo>
                  <a:pt x="2157" y="322"/>
                </a:lnTo>
                <a:lnTo>
                  <a:pt x="2201" y="362"/>
                </a:lnTo>
                <a:lnTo>
                  <a:pt x="2245" y="406"/>
                </a:lnTo>
                <a:lnTo>
                  <a:pt x="2285" y="450"/>
                </a:lnTo>
                <a:lnTo>
                  <a:pt x="2324" y="496"/>
                </a:lnTo>
                <a:lnTo>
                  <a:pt x="2360" y="544"/>
                </a:lnTo>
                <a:lnTo>
                  <a:pt x="2393" y="596"/>
                </a:lnTo>
                <a:lnTo>
                  <a:pt x="2424" y="648"/>
                </a:lnTo>
                <a:lnTo>
                  <a:pt x="2452" y="700"/>
                </a:lnTo>
                <a:lnTo>
                  <a:pt x="2479" y="756"/>
                </a:lnTo>
                <a:lnTo>
                  <a:pt x="2502" y="811"/>
                </a:lnTo>
                <a:lnTo>
                  <a:pt x="2522" y="869"/>
                </a:lnTo>
                <a:lnTo>
                  <a:pt x="2541" y="926"/>
                </a:lnTo>
                <a:lnTo>
                  <a:pt x="2554" y="986"/>
                </a:lnTo>
                <a:lnTo>
                  <a:pt x="2566" y="1047"/>
                </a:lnTo>
                <a:lnTo>
                  <a:pt x="2573" y="1109"/>
                </a:lnTo>
                <a:lnTo>
                  <a:pt x="2579" y="1172"/>
                </a:lnTo>
                <a:lnTo>
                  <a:pt x="2581" y="1235"/>
                </a:lnTo>
                <a:lnTo>
                  <a:pt x="2579" y="1298"/>
                </a:lnTo>
                <a:lnTo>
                  <a:pt x="2573" y="1360"/>
                </a:lnTo>
                <a:lnTo>
                  <a:pt x="2566" y="1421"/>
                </a:lnTo>
                <a:lnTo>
                  <a:pt x="2554" y="1483"/>
                </a:lnTo>
                <a:lnTo>
                  <a:pt x="2541" y="1542"/>
                </a:lnTo>
                <a:lnTo>
                  <a:pt x="2522" y="1602"/>
                </a:lnTo>
                <a:lnTo>
                  <a:pt x="2502" y="1659"/>
                </a:lnTo>
                <a:lnTo>
                  <a:pt x="2479" y="1715"/>
                </a:lnTo>
                <a:lnTo>
                  <a:pt x="2452" y="1769"/>
                </a:lnTo>
                <a:lnTo>
                  <a:pt x="2424" y="1822"/>
                </a:lnTo>
                <a:lnTo>
                  <a:pt x="2393" y="1874"/>
                </a:lnTo>
                <a:lnTo>
                  <a:pt x="2360" y="1924"/>
                </a:lnTo>
                <a:lnTo>
                  <a:pt x="2324" y="1972"/>
                </a:lnTo>
                <a:lnTo>
                  <a:pt x="2285" y="2020"/>
                </a:lnTo>
                <a:lnTo>
                  <a:pt x="2245" y="2064"/>
                </a:lnTo>
                <a:lnTo>
                  <a:pt x="2201" y="2106"/>
                </a:lnTo>
                <a:lnTo>
                  <a:pt x="2157" y="2148"/>
                </a:lnTo>
                <a:lnTo>
                  <a:pt x="2111" y="2187"/>
                </a:lnTo>
                <a:lnTo>
                  <a:pt x="2061" y="2223"/>
                </a:lnTo>
                <a:lnTo>
                  <a:pt x="2011" y="2258"/>
                </a:lnTo>
                <a:lnTo>
                  <a:pt x="1959" y="2290"/>
                </a:lnTo>
                <a:lnTo>
                  <a:pt x="1904" y="2319"/>
                </a:lnTo>
                <a:lnTo>
                  <a:pt x="1848" y="2346"/>
                </a:lnTo>
                <a:lnTo>
                  <a:pt x="1792" y="2371"/>
                </a:lnTo>
                <a:lnTo>
                  <a:pt x="1733" y="2394"/>
                </a:lnTo>
                <a:lnTo>
                  <a:pt x="1673" y="2413"/>
                </a:lnTo>
                <a:lnTo>
                  <a:pt x="1612" y="2431"/>
                </a:lnTo>
                <a:lnTo>
                  <a:pt x="1551" y="2444"/>
                </a:lnTo>
                <a:lnTo>
                  <a:pt x="1487" y="2455"/>
                </a:lnTo>
                <a:lnTo>
                  <a:pt x="1422" y="2463"/>
                </a:lnTo>
                <a:lnTo>
                  <a:pt x="1357" y="2467"/>
                </a:lnTo>
                <a:lnTo>
                  <a:pt x="1290" y="2469"/>
                </a:lnTo>
                <a:lnTo>
                  <a:pt x="1224" y="2467"/>
                </a:lnTo>
                <a:lnTo>
                  <a:pt x="1159" y="2463"/>
                </a:lnTo>
                <a:lnTo>
                  <a:pt x="1094" y="2455"/>
                </a:lnTo>
                <a:lnTo>
                  <a:pt x="1031" y="2444"/>
                </a:lnTo>
                <a:lnTo>
                  <a:pt x="969" y="2431"/>
                </a:lnTo>
                <a:lnTo>
                  <a:pt x="908" y="2413"/>
                </a:lnTo>
                <a:lnTo>
                  <a:pt x="848" y="2394"/>
                </a:lnTo>
                <a:lnTo>
                  <a:pt x="789" y="2371"/>
                </a:lnTo>
                <a:lnTo>
                  <a:pt x="731" y="2346"/>
                </a:lnTo>
                <a:lnTo>
                  <a:pt x="676" y="2319"/>
                </a:lnTo>
                <a:lnTo>
                  <a:pt x="622" y="2290"/>
                </a:lnTo>
                <a:lnTo>
                  <a:pt x="570" y="2258"/>
                </a:lnTo>
                <a:lnTo>
                  <a:pt x="520" y="2223"/>
                </a:lnTo>
                <a:lnTo>
                  <a:pt x="470" y="2187"/>
                </a:lnTo>
                <a:lnTo>
                  <a:pt x="424" y="2148"/>
                </a:lnTo>
                <a:lnTo>
                  <a:pt x="378" y="2106"/>
                </a:lnTo>
                <a:lnTo>
                  <a:pt x="336" y="2064"/>
                </a:lnTo>
                <a:lnTo>
                  <a:pt x="296" y="2020"/>
                </a:lnTo>
                <a:lnTo>
                  <a:pt x="257" y="1972"/>
                </a:lnTo>
                <a:lnTo>
                  <a:pt x="221" y="1924"/>
                </a:lnTo>
                <a:lnTo>
                  <a:pt x="188" y="1874"/>
                </a:lnTo>
                <a:lnTo>
                  <a:pt x="156" y="1822"/>
                </a:lnTo>
                <a:lnTo>
                  <a:pt x="129" y="1769"/>
                </a:lnTo>
                <a:lnTo>
                  <a:pt x="102" y="1715"/>
                </a:lnTo>
                <a:lnTo>
                  <a:pt x="79" y="1659"/>
                </a:lnTo>
                <a:lnTo>
                  <a:pt x="58" y="1602"/>
                </a:lnTo>
                <a:lnTo>
                  <a:pt x="40" y="1542"/>
                </a:lnTo>
                <a:lnTo>
                  <a:pt x="27" y="1483"/>
                </a:lnTo>
                <a:lnTo>
                  <a:pt x="15" y="1421"/>
                </a:lnTo>
                <a:lnTo>
                  <a:pt x="8" y="1360"/>
                </a:lnTo>
                <a:lnTo>
                  <a:pt x="2" y="1298"/>
                </a:lnTo>
                <a:lnTo>
                  <a:pt x="0" y="1235"/>
                </a:lnTo>
                <a:lnTo>
                  <a:pt x="2" y="1172"/>
                </a:lnTo>
                <a:lnTo>
                  <a:pt x="8" y="1109"/>
                </a:lnTo>
                <a:lnTo>
                  <a:pt x="15" y="1047"/>
                </a:lnTo>
                <a:lnTo>
                  <a:pt x="27" y="986"/>
                </a:lnTo>
                <a:lnTo>
                  <a:pt x="40" y="926"/>
                </a:lnTo>
                <a:lnTo>
                  <a:pt x="58" y="869"/>
                </a:lnTo>
                <a:lnTo>
                  <a:pt x="79" y="811"/>
                </a:lnTo>
                <a:lnTo>
                  <a:pt x="102" y="756"/>
                </a:lnTo>
                <a:lnTo>
                  <a:pt x="129" y="700"/>
                </a:lnTo>
                <a:lnTo>
                  <a:pt x="156" y="648"/>
                </a:lnTo>
                <a:lnTo>
                  <a:pt x="188" y="596"/>
                </a:lnTo>
                <a:lnTo>
                  <a:pt x="221" y="544"/>
                </a:lnTo>
                <a:lnTo>
                  <a:pt x="257" y="496"/>
                </a:lnTo>
                <a:lnTo>
                  <a:pt x="296" y="450"/>
                </a:lnTo>
                <a:lnTo>
                  <a:pt x="336" y="406"/>
                </a:lnTo>
                <a:lnTo>
                  <a:pt x="378" y="362"/>
                </a:lnTo>
                <a:lnTo>
                  <a:pt x="424" y="322"/>
                </a:lnTo>
                <a:lnTo>
                  <a:pt x="470" y="284"/>
                </a:lnTo>
                <a:lnTo>
                  <a:pt x="520" y="245"/>
                </a:lnTo>
                <a:lnTo>
                  <a:pt x="570" y="213"/>
                </a:lnTo>
                <a:lnTo>
                  <a:pt x="622" y="180"/>
                </a:lnTo>
                <a:lnTo>
                  <a:pt x="676" y="149"/>
                </a:lnTo>
                <a:lnTo>
                  <a:pt x="731" y="122"/>
                </a:lnTo>
                <a:lnTo>
                  <a:pt x="789" y="97"/>
                </a:lnTo>
                <a:lnTo>
                  <a:pt x="848" y="76"/>
                </a:lnTo>
                <a:lnTo>
                  <a:pt x="908" y="55"/>
                </a:lnTo>
                <a:lnTo>
                  <a:pt x="969" y="40"/>
                </a:lnTo>
                <a:lnTo>
                  <a:pt x="1031" y="26"/>
                </a:lnTo>
                <a:lnTo>
                  <a:pt x="1094" y="15"/>
                </a:lnTo>
                <a:lnTo>
                  <a:pt x="1159" y="7"/>
                </a:lnTo>
                <a:lnTo>
                  <a:pt x="1224" y="1"/>
                </a:lnTo>
                <a:lnTo>
                  <a:pt x="1290" y="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Freeform 10"/>
          <p:cNvSpPr/>
          <p:nvPr/>
        </p:nvSpPr>
        <p:spPr>
          <a:xfrm>
            <a:off x="5272200" y="1278000"/>
            <a:ext cx="2062080" cy="1973160"/>
          </a:xfrm>
          <a:custGeom>
            <a:avLst/>
            <a:gdLst>
              <a:gd name="textAreaLeft" fmla="*/ 0 w 2062080"/>
              <a:gd name="textAreaRight" fmla="*/ 2062440 w 2062080"/>
              <a:gd name="textAreaTop" fmla="*/ 0 h 1973160"/>
              <a:gd name="textAreaBottom" fmla="*/ 1973520 h 1973160"/>
            </a:gdLst>
            <a:ahLst/>
            <a:rect l="textAreaLeft" t="textAreaTop" r="textAreaRight" b="textAreaBottom"/>
            <a:pathLst>
              <a:path w="1299" h="1243">
                <a:moveTo>
                  <a:pt x="1299" y="1243"/>
                </a:moveTo>
                <a:lnTo>
                  <a:pt x="1297" y="1178"/>
                </a:lnTo>
                <a:lnTo>
                  <a:pt x="1291" y="1117"/>
                </a:lnTo>
                <a:lnTo>
                  <a:pt x="1283" y="1053"/>
                </a:lnTo>
                <a:lnTo>
                  <a:pt x="1272" y="992"/>
                </a:lnTo>
                <a:lnTo>
                  <a:pt x="1258" y="932"/>
                </a:lnTo>
                <a:lnTo>
                  <a:pt x="1239" y="873"/>
                </a:lnTo>
                <a:lnTo>
                  <a:pt x="1220" y="815"/>
                </a:lnTo>
                <a:lnTo>
                  <a:pt x="1197" y="760"/>
                </a:lnTo>
                <a:lnTo>
                  <a:pt x="1170" y="704"/>
                </a:lnTo>
                <a:lnTo>
                  <a:pt x="1141" y="650"/>
                </a:lnTo>
                <a:lnTo>
                  <a:pt x="1111" y="598"/>
                </a:lnTo>
                <a:lnTo>
                  <a:pt x="1076" y="549"/>
                </a:lnTo>
                <a:lnTo>
                  <a:pt x="1040" y="501"/>
                </a:lnTo>
                <a:lnTo>
                  <a:pt x="1001" y="453"/>
                </a:lnTo>
                <a:lnTo>
                  <a:pt x="961" y="409"/>
                </a:lnTo>
                <a:lnTo>
                  <a:pt x="917" y="364"/>
                </a:lnTo>
                <a:lnTo>
                  <a:pt x="873" y="324"/>
                </a:lnTo>
                <a:lnTo>
                  <a:pt x="825" y="284"/>
                </a:lnTo>
                <a:lnTo>
                  <a:pt x="777" y="247"/>
                </a:lnTo>
                <a:lnTo>
                  <a:pt x="725" y="213"/>
                </a:lnTo>
                <a:lnTo>
                  <a:pt x="673" y="180"/>
                </a:lnTo>
                <a:lnTo>
                  <a:pt x="617" y="151"/>
                </a:lnTo>
                <a:lnTo>
                  <a:pt x="562" y="123"/>
                </a:lnTo>
                <a:lnTo>
                  <a:pt x="504" y="98"/>
                </a:lnTo>
                <a:lnTo>
                  <a:pt x="447" y="77"/>
                </a:lnTo>
                <a:lnTo>
                  <a:pt x="385" y="56"/>
                </a:lnTo>
                <a:lnTo>
                  <a:pt x="324" y="40"/>
                </a:lnTo>
                <a:lnTo>
                  <a:pt x="261" y="25"/>
                </a:lnTo>
                <a:lnTo>
                  <a:pt x="197" y="15"/>
                </a:lnTo>
                <a:lnTo>
                  <a:pt x="132" y="8"/>
                </a:lnTo>
                <a:lnTo>
                  <a:pt x="67" y="2"/>
                </a:lnTo>
                <a:lnTo>
                  <a:pt x="0" y="0"/>
                </a:lnTo>
                <a:lnTo>
                  <a:pt x="0" y="17"/>
                </a:lnTo>
                <a:lnTo>
                  <a:pt x="67" y="17"/>
                </a:lnTo>
                <a:lnTo>
                  <a:pt x="132" y="23"/>
                </a:lnTo>
                <a:lnTo>
                  <a:pt x="195" y="31"/>
                </a:lnTo>
                <a:lnTo>
                  <a:pt x="259" y="42"/>
                </a:lnTo>
                <a:lnTo>
                  <a:pt x="320" y="56"/>
                </a:lnTo>
                <a:lnTo>
                  <a:pt x="381" y="71"/>
                </a:lnTo>
                <a:lnTo>
                  <a:pt x="441" y="92"/>
                </a:lnTo>
                <a:lnTo>
                  <a:pt x="498" y="113"/>
                </a:lnTo>
                <a:lnTo>
                  <a:pt x="556" y="138"/>
                </a:lnTo>
                <a:lnTo>
                  <a:pt x="612" y="165"/>
                </a:lnTo>
                <a:lnTo>
                  <a:pt x="664" y="194"/>
                </a:lnTo>
                <a:lnTo>
                  <a:pt x="717" y="226"/>
                </a:lnTo>
                <a:lnTo>
                  <a:pt x="767" y="261"/>
                </a:lnTo>
                <a:lnTo>
                  <a:pt x="815" y="297"/>
                </a:lnTo>
                <a:lnTo>
                  <a:pt x="861" y="336"/>
                </a:lnTo>
                <a:lnTo>
                  <a:pt x="907" y="376"/>
                </a:lnTo>
                <a:lnTo>
                  <a:pt x="949" y="418"/>
                </a:lnTo>
                <a:lnTo>
                  <a:pt x="990" y="464"/>
                </a:lnTo>
                <a:lnTo>
                  <a:pt x="1028" y="510"/>
                </a:lnTo>
                <a:lnTo>
                  <a:pt x="1063" y="558"/>
                </a:lnTo>
                <a:lnTo>
                  <a:pt x="1097" y="608"/>
                </a:lnTo>
                <a:lnTo>
                  <a:pt x="1128" y="660"/>
                </a:lnTo>
                <a:lnTo>
                  <a:pt x="1157" y="712"/>
                </a:lnTo>
                <a:lnTo>
                  <a:pt x="1182" y="765"/>
                </a:lnTo>
                <a:lnTo>
                  <a:pt x="1205" y="821"/>
                </a:lnTo>
                <a:lnTo>
                  <a:pt x="1224" y="879"/>
                </a:lnTo>
                <a:lnTo>
                  <a:pt x="1241" y="936"/>
                </a:lnTo>
                <a:lnTo>
                  <a:pt x="1256" y="996"/>
                </a:lnTo>
                <a:lnTo>
                  <a:pt x="1268" y="1057"/>
                </a:lnTo>
                <a:lnTo>
                  <a:pt x="1276" y="1118"/>
                </a:lnTo>
                <a:lnTo>
                  <a:pt x="1281" y="1180"/>
                </a:lnTo>
                <a:lnTo>
                  <a:pt x="1283" y="1243"/>
                </a:lnTo>
                <a:lnTo>
                  <a:pt x="1299" y="12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Freeform 11"/>
          <p:cNvSpPr/>
          <p:nvPr/>
        </p:nvSpPr>
        <p:spPr>
          <a:xfrm>
            <a:off x="5272200" y="3251160"/>
            <a:ext cx="2062080" cy="1971720"/>
          </a:xfrm>
          <a:custGeom>
            <a:avLst/>
            <a:gdLst>
              <a:gd name="textAreaLeft" fmla="*/ 0 w 2062080"/>
              <a:gd name="textAreaRight" fmla="*/ 2062440 w 206208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1299" h="1242">
                <a:moveTo>
                  <a:pt x="0" y="1242"/>
                </a:moveTo>
                <a:lnTo>
                  <a:pt x="67" y="1240"/>
                </a:lnTo>
                <a:lnTo>
                  <a:pt x="132" y="1236"/>
                </a:lnTo>
                <a:lnTo>
                  <a:pt x="197" y="1228"/>
                </a:lnTo>
                <a:lnTo>
                  <a:pt x="261" y="1217"/>
                </a:lnTo>
                <a:lnTo>
                  <a:pt x="324" y="1203"/>
                </a:lnTo>
                <a:lnTo>
                  <a:pt x="385" y="1186"/>
                </a:lnTo>
                <a:lnTo>
                  <a:pt x="447" y="1167"/>
                </a:lnTo>
                <a:lnTo>
                  <a:pt x="504" y="1144"/>
                </a:lnTo>
                <a:lnTo>
                  <a:pt x="562" y="1119"/>
                </a:lnTo>
                <a:lnTo>
                  <a:pt x="617" y="1092"/>
                </a:lnTo>
                <a:lnTo>
                  <a:pt x="673" y="1061"/>
                </a:lnTo>
                <a:lnTo>
                  <a:pt x="725" y="1029"/>
                </a:lnTo>
                <a:lnTo>
                  <a:pt x="777" y="994"/>
                </a:lnTo>
                <a:lnTo>
                  <a:pt x="825" y="958"/>
                </a:lnTo>
                <a:lnTo>
                  <a:pt x="873" y="919"/>
                </a:lnTo>
                <a:lnTo>
                  <a:pt x="917" y="877"/>
                </a:lnTo>
                <a:lnTo>
                  <a:pt x="961" y="835"/>
                </a:lnTo>
                <a:lnTo>
                  <a:pt x="1001" y="789"/>
                </a:lnTo>
                <a:lnTo>
                  <a:pt x="1040" y="743"/>
                </a:lnTo>
                <a:lnTo>
                  <a:pt x="1076" y="693"/>
                </a:lnTo>
                <a:lnTo>
                  <a:pt x="1111" y="643"/>
                </a:lnTo>
                <a:lnTo>
                  <a:pt x="1141" y="591"/>
                </a:lnTo>
                <a:lnTo>
                  <a:pt x="1170" y="537"/>
                </a:lnTo>
                <a:lnTo>
                  <a:pt x="1197" y="482"/>
                </a:lnTo>
                <a:lnTo>
                  <a:pt x="1220" y="426"/>
                </a:lnTo>
                <a:lnTo>
                  <a:pt x="1239" y="369"/>
                </a:lnTo>
                <a:lnTo>
                  <a:pt x="1258" y="309"/>
                </a:lnTo>
                <a:lnTo>
                  <a:pt x="1272" y="250"/>
                </a:lnTo>
                <a:lnTo>
                  <a:pt x="1283" y="188"/>
                </a:lnTo>
                <a:lnTo>
                  <a:pt x="1291" y="127"/>
                </a:lnTo>
                <a:lnTo>
                  <a:pt x="1297" y="63"/>
                </a:lnTo>
                <a:lnTo>
                  <a:pt x="1299" y="0"/>
                </a:lnTo>
                <a:lnTo>
                  <a:pt x="1283" y="0"/>
                </a:lnTo>
                <a:lnTo>
                  <a:pt x="1281" y="63"/>
                </a:lnTo>
                <a:lnTo>
                  <a:pt x="1276" y="125"/>
                </a:lnTo>
                <a:lnTo>
                  <a:pt x="1268" y="186"/>
                </a:lnTo>
                <a:lnTo>
                  <a:pt x="1256" y="246"/>
                </a:lnTo>
                <a:lnTo>
                  <a:pt x="1241" y="305"/>
                </a:lnTo>
                <a:lnTo>
                  <a:pt x="1224" y="363"/>
                </a:lnTo>
                <a:lnTo>
                  <a:pt x="1205" y="420"/>
                </a:lnTo>
                <a:lnTo>
                  <a:pt x="1182" y="476"/>
                </a:lnTo>
                <a:lnTo>
                  <a:pt x="1157" y="530"/>
                </a:lnTo>
                <a:lnTo>
                  <a:pt x="1128" y="583"/>
                </a:lnTo>
                <a:lnTo>
                  <a:pt x="1097" y="635"/>
                </a:lnTo>
                <a:lnTo>
                  <a:pt x="1063" y="685"/>
                </a:lnTo>
                <a:lnTo>
                  <a:pt x="1028" y="733"/>
                </a:lnTo>
                <a:lnTo>
                  <a:pt x="990" y="779"/>
                </a:lnTo>
                <a:lnTo>
                  <a:pt x="949" y="823"/>
                </a:lnTo>
                <a:lnTo>
                  <a:pt x="907" y="866"/>
                </a:lnTo>
                <a:lnTo>
                  <a:pt x="861" y="906"/>
                </a:lnTo>
                <a:lnTo>
                  <a:pt x="815" y="946"/>
                </a:lnTo>
                <a:lnTo>
                  <a:pt x="767" y="983"/>
                </a:lnTo>
                <a:lnTo>
                  <a:pt x="717" y="1015"/>
                </a:lnTo>
                <a:lnTo>
                  <a:pt x="664" y="1048"/>
                </a:lnTo>
                <a:lnTo>
                  <a:pt x="612" y="1077"/>
                </a:lnTo>
                <a:lnTo>
                  <a:pt x="556" y="1105"/>
                </a:lnTo>
                <a:lnTo>
                  <a:pt x="498" y="1128"/>
                </a:lnTo>
                <a:lnTo>
                  <a:pt x="441" y="1151"/>
                </a:lnTo>
                <a:lnTo>
                  <a:pt x="381" y="1171"/>
                </a:lnTo>
                <a:lnTo>
                  <a:pt x="320" y="1188"/>
                </a:lnTo>
                <a:lnTo>
                  <a:pt x="259" y="1201"/>
                </a:lnTo>
                <a:lnTo>
                  <a:pt x="195" y="1211"/>
                </a:lnTo>
                <a:lnTo>
                  <a:pt x="132" y="1220"/>
                </a:lnTo>
                <a:lnTo>
                  <a:pt x="67" y="1224"/>
                </a:lnTo>
                <a:lnTo>
                  <a:pt x="0" y="1226"/>
                </a:lnTo>
                <a:lnTo>
                  <a:pt x="0" y="12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Freeform 12"/>
          <p:cNvSpPr/>
          <p:nvPr/>
        </p:nvSpPr>
        <p:spPr>
          <a:xfrm>
            <a:off x="3211560" y="3251160"/>
            <a:ext cx="2060640" cy="197172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1298" h="1242">
                <a:moveTo>
                  <a:pt x="0" y="0"/>
                </a:moveTo>
                <a:lnTo>
                  <a:pt x="2" y="63"/>
                </a:lnTo>
                <a:lnTo>
                  <a:pt x="6" y="127"/>
                </a:lnTo>
                <a:lnTo>
                  <a:pt x="16" y="188"/>
                </a:lnTo>
                <a:lnTo>
                  <a:pt x="27" y="250"/>
                </a:lnTo>
                <a:lnTo>
                  <a:pt x="41" y="309"/>
                </a:lnTo>
                <a:lnTo>
                  <a:pt x="58" y="369"/>
                </a:lnTo>
                <a:lnTo>
                  <a:pt x="79" y="426"/>
                </a:lnTo>
                <a:lnTo>
                  <a:pt x="102" y="482"/>
                </a:lnTo>
                <a:lnTo>
                  <a:pt x="129" y="537"/>
                </a:lnTo>
                <a:lnTo>
                  <a:pt x="158" y="591"/>
                </a:lnTo>
                <a:lnTo>
                  <a:pt x="188" y="643"/>
                </a:lnTo>
                <a:lnTo>
                  <a:pt x="223" y="693"/>
                </a:lnTo>
                <a:lnTo>
                  <a:pt x="259" y="743"/>
                </a:lnTo>
                <a:lnTo>
                  <a:pt x="298" y="789"/>
                </a:lnTo>
                <a:lnTo>
                  <a:pt x="338" y="835"/>
                </a:lnTo>
                <a:lnTo>
                  <a:pt x="382" y="877"/>
                </a:lnTo>
                <a:lnTo>
                  <a:pt x="426" y="919"/>
                </a:lnTo>
                <a:lnTo>
                  <a:pt x="474" y="958"/>
                </a:lnTo>
                <a:lnTo>
                  <a:pt x="522" y="994"/>
                </a:lnTo>
                <a:lnTo>
                  <a:pt x="574" y="1029"/>
                </a:lnTo>
                <a:lnTo>
                  <a:pt x="626" y="1061"/>
                </a:lnTo>
                <a:lnTo>
                  <a:pt x="680" y="1092"/>
                </a:lnTo>
                <a:lnTo>
                  <a:pt x="737" y="1119"/>
                </a:lnTo>
                <a:lnTo>
                  <a:pt x="795" y="1144"/>
                </a:lnTo>
                <a:lnTo>
                  <a:pt x="852" y="1167"/>
                </a:lnTo>
                <a:lnTo>
                  <a:pt x="914" y="1186"/>
                </a:lnTo>
                <a:lnTo>
                  <a:pt x="975" y="1203"/>
                </a:lnTo>
                <a:lnTo>
                  <a:pt x="1037" y="1217"/>
                </a:lnTo>
                <a:lnTo>
                  <a:pt x="1102" y="1228"/>
                </a:lnTo>
                <a:lnTo>
                  <a:pt x="1165" y="1236"/>
                </a:lnTo>
                <a:lnTo>
                  <a:pt x="1232" y="1240"/>
                </a:lnTo>
                <a:lnTo>
                  <a:pt x="1298" y="1242"/>
                </a:lnTo>
                <a:lnTo>
                  <a:pt x="1298" y="1226"/>
                </a:lnTo>
                <a:lnTo>
                  <a:pt x="1232" y="1224"/>
                </a:lnTo>
                <a:lnTo>
                  <a:pt x="1167" y="1220"/>
                </a:lnTo>
                <a:lnTo>
                  <a:pt x="1104" y="1211"/>
                </a:lnTo>
                <a:lnTo>
                  <a:pt x="1040" y="1201"/>
                </a:lnTo>
                <a:lnTo>
                  <a:pt x="979" y="1188"/>
                </a:lnTo>
                <a:lnTo>
                  <a:pt x="918" y="1171"/>
                </a:lnTo>
                <a:lnTo>
                  <a:pt x="858" y="1151"/>
                </a:lnTo>
                <a:lnTo>
                  <a:pt x="801" y="1128"/>
                </a:lnTo>
                <a:lnTo>
                  <a:pt x="743" y="1105"/>
                </a:lnTo>
                <a:lnTo>
                  <a:pt x="687" y="1077"/>
                </a:lnTo>
                <a:lnTo>
                  <a:pt x="634" y="1048"/>
                </a:lnTo>
                <a:lnTo>
                  <a:pt x="582" y="1015"/>
                </a:lnTo>
                <a:lnTo>
                  <a:pt x="532" y="983"/>
                </a:lnTo>
                <a:lnTo>
                  <a:pt x="484" y="946"/>
                </a:lnTo>
                <a:lnTo>
                  <a:pt x="438" y="906"/>
                </a:lnTo>
                <a:lnTo>
                  <a:pt x="392" y="866"/>
                </a:lnTo>
                <a:lnTo>
                  <a:pt x="350" y="823"/>
                </a:lnTo>
                <a:lnTo>
                  <a:pt x="309" y="779"/>
                </a:lnTo>
                <a:lnTo>
                  <a:pt x="271" y="733"/>
                </a:lnTo>
                <a:lnTo>
                  <a:pt x="236" y="685"/>
                </a:lnTo>
                <a:lnTo>
                  <a:pt x="202" y="635"/>
                </a:lnTo>
                <a:lnTo>
                  <a:pt x="171" y="583"/>
                </a:lnTo>
                <a:lnTo>
                  <a:pt x="142" y="530"/>
                </a:lnTo>
                <a:lnTo>
                  <a:pt x="117" y="476"/>
                </a:lnTo>
                <a:lnTo>
                  <a:pt x="94" y="420"/>
                </a:lnTo>
                <a:lnTo>
                  <a:pt x="73" y="363"/>
                </a:lnTo>
                <a:lnTo>
                  <a:pt x="56" y="305"/>
                </a:lnTo>
                <a:lnTo>
                  <a:pt x="43" y="246"/>
                </a:lnTo>
                <a:lnTo>
                  <a:pt x="31" y="186"/>
                </a:lnTo>
                <a:lnTo>
                  <a:pt x="23" y="125"/>
                </a:lnTo>
                <a:lnTo>
                  <a:pt x="18" y="63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Freeform 13"/>
          <p:cNvSpPr/>
          <p:nvPr/>
        </p:nvSpPr>
        <p:spPr>
          <a:xfrm>
            <a:off x="3211560" y="1278000"/>
            <a:ext cx="2060640" cy="197316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1973160"/>
              <a:gd name="textAreaBottom" fmla="*/ 1973520 h 1973160"/>
            </a:gdLst>
            <a:ahLst/>
            <a:rect l="textAreaLeft" t="textAreaTop" r="textAreaRight" b="textAreaBottom"/>
            <a:pathLst>
              <a:path w="1298" h="1243">
                <a:moveTo>
                  <a:pt x="1298" y="0"/>
                </a:moveTo>
                <a:lnTo>
                  <a:pt x="1232" y="2"/>
                </a:lnTo>
                <a:lnTo>
                  <a:pt x="1165" y="8"/>
                </a:lnTo>
                <a:lnTo>
                  <a:pt x="1102" y="15"/>
                </a:lnTo>
                <a:lnTo>
                  <a:pt x="1037" y="25"/>
                </a:lnTo>
                <a:lnTo>
                  <a:pt x="975" y="40"/>
                </a:lnTo>
                <a:lnTo>
                  <a:pt x="914" y="56"/>
                </a:lnTo>
                <a:lnTo>
                  <a:pt x="852" y="77"/>
                </a:lnTo>
                <a:lnTo>
                  <a:pt x="795" y="98"/>
                </a:lnTo>
                <a:lnTo>
                  <a:pt x="737" y="123"/>
                </a:lnTo>
                <a:lnTo>
                  <a:pt x="680" y="151"/>
                </a:lnTo>
                <a:lnTo>
                  <a:pt x="626" y="180"/>
                </a:lnTo>
                <a:lnTo>
                  <a:pt x="574" y="213"/>
                </a:lnTo>
                <a:lnTo>
                  <a:pt x="522" y="247"/>
                </a:lnTo>
                <a:lnTo>
                  <a:pt x="474" y="284"/>
                </a:lnTo>
                <a:lnTo>
                  <a:pt x="426" y="324"/>
                </a:lnTo>
                <a:lnTo>
                  <a:pt x="382" y="364"/>
                </a:lnTo>
                <a:lnTo>
                  <a:pt x="338" y="409"/>
                </a:lnTo>
                <a:lnTo>
                  <a:pt x="298" y="453"/>
                </a:lnTo>
                <a:lnTo>
                  <a:pt x="259" y="501"/>
                </a:lnTo>
                <a:lnTo>
                  <a:pt x="223" y="549"/>
                </a:lnTo>
                <a:lnTo>
                  <a:pt x="188" y="598"/>
                </a:lnTo>
                <a:lnTo>
                  <a:pt x="158" y="650"/>
                </a:lnTo>
                <a:lnTo>
                  <a:pt x="129" y="704"/>
                </a:lnTo>
                <a:lnTo>
                  <a:pt x="102" y="760"/>
                </a:lnTo>
                <a:lnTo>
                  <a:pt x="79" y="815"/>
                </a:lnTo>
                <a:lnTo>
                  <a:pt x="58" y="873"/>
                </a:lnTo>
                <a:lnTo>
                  <a:pt x="41" y="932"/>
                </a:lnTo>
                <a:lnTo>
                  <a:pt x="27" y="992"/>
                </a:lnTo>
                <a:lnTo>
                  <a:pt x="16" y="1053"/>
                </a:lnTo>
                <a:lnTo>
                  <a:pt x="6" y="1117"/>
                </a:lnTo>
                <a:lnTo>
                  <a:pt x="2" y="1178"/>
                </a:lnTo>
                <a:lnTo>
                  <a:pt x="0" y="1243"/>
                </a:lnTo>
                <a:lnTo>
                  <a:pt x="16" y="1243"/>
                </a:lnTo>
                <a:lnTo>
                  <a:pt x="18" y="1180"/>
                </a:lnTo>
                <a:lnTo>
                  <a:pt x="23" y="1118"/>
                </a:lnTo>
                <a:lnTo>
                  <a:pt x="31" y="1057"/>
                </a:lnTo>
                <a:lnTo>
                  <a:pt x="43" y="996"/>
                </a:lnTo>
                <a:lnTo>
                  <a:pt x="56" y="936"/>
                </a:lnTo>
                <a:lnTo>
                  <a:pt x="73" y="879"/>
                </a:lnTo>
                <a:lnTo>
                  <a:pt x="94" y="821"/>
                </a:lnTo>
                <a:lnTo>
                  <a:pt x="117" y="765"/>
                </a:lnTo>
                <a:lnTo>
                  <a:pt x="142" y="712"/>
                </a:lnTo>
                <a:lnTo>
                  <a:pt x="171" y="660"/>
                </a:lnTo>
                <a:lnTo>
                  <a:pt x="202" y="608"/>
                </a:lnTo>
                <a:lnTo>
                  <a:pt x="236" y="558"/>
                </a:lnTo>
                <a:lnTo>
                  <a:pt x="271" y="510"/>
                </a:lnTo>
                <a:lnTo>
                  <a:pt x="309" y="464"/>
                </a:lnTo>
                <a:lnTo>
                  <a:pt x="350" y="418"/>
                </a:lnTo>
                <a:lnTo>
                  <a:pt x="392" y="376"/>
                </a:lnTo>
                <a:lnTo>
                  <a:pt x="438" y="336"/>
                </a:lnTo>
                <a:lnTo>
                  <a:pt x="484" y="297"/>
                </a:lnTo>
                <a:lnTo>
                  <a:pt x="532" y="261"/>
                </a:lnTo>
                <a:lnTo>
                  <a:pt x="582" y="226"/>
                </a:lnTo>
                <a:lnTo>
                  <a:pt x="634" y="194"/>
                </a:lnTo>
                <a:lnTo>
                  <a:pt x="687" y="165"/>
                </a:lnTo>
                <a:lnTo>
                  <a:pt x="743" y="138"/>
                </a:lnTo>
                <a:lnTo>
                  <a:pt x="801" y="113"/>
                </a:lnTo>
                <a:lnTo>
                  <a:pt x="858" y="92"/>
                </a:lnTo>
                <a:lnTo>
                  <a:pt x="918" y="71"/>
                </a:lnTo>
                <a:lnTo>
                  <a:pt x="979" y="56"/>
                </a:lnTo>
                <a:lnTo>
                  <a:pt x="1040" y="42"/>
                </a:lnTo>
                <a:lnTo>
                  <a:pt x="1104" y="31"/>
                </a:lnTo>
                <a:lnTo>
                  <a:pt x="1167" y="23"/>
                </a:lnTo>
                <a:lnTo>
                  <a:pt x="1232" y="17"/>
                </a:lnTo>
                <a:lnTo>
                  <a:pt x="1298" y="17"/>
                </a:lnTo>
                <a:lnTo>
                  <a:pt x="129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Freeform 14"/>
          <p:cNvSpPr/>
          <p:nvPr/>
        </p:nvSpPr>
        <p:spPr>
          <a:xfrm>
            <a:off x="3433680" y="1494000"/>
            <a:ext cx="3751200" cy="3514680"/>
          </a:xfrm>
          <a:custGeom>
            <a:avLst/>
            <a:gdLst>
              <a:gd name="textAreaLeft" fmla="*/ 0 w 3751200"/>
              <a:gd name="textAreaRight" fmla="*/ 3751560 w 3751200"/>
              <a:gd name="textAreaTop" fmla="*/ 0 h 3514680"/>
              <a:gd name="textAreaBottom" fmla="*/ 3515040 h 3514680"/>
            </a:gdLst>
            <a:ahLst/>
            <a:rect l="textAreaLeft" t="textAreaTop" r="textAreaRight" b="textAreaBottom"/>
            <a:pathLst>
              <a:path w="2363" h="2214">
                <a:moveTo>
                  <a:pt x="1183" y="0"/>
                </a:moveTo>
                <a:lnTo>
                  <a:pt x="1242" y="2"/>
                </a:lnTo>
                <a:lnTo>
                  <a:pt x="1303" y="6"/>
                </a:lnTo>
                <a:lnTo>
                  <a:pt x="1361" y="12"/>
                </a:lnTo>
                <a:lnTo>
                  <a:pt x="1420" y="23"/>
                </a:lnTo>
                <a:lnTo>
                  <a:pt x="1476" y="35"/>
                </a:lnTo>
                <a:lnTo>
                  <a:pt x="1532" y="50"/>
                </a:lnTo>
                <a:lnTo>
                  <a:pt x="1587" y="67"/>
                </a:lnTo>
                <a:lnTo>
                  <a:pt x="1641" y="86"/>
                </a:lnTo>
                <a:lnTo>
                  <a:pt x="1693" y="109"/>
                </a:lnTo>
                <a:lnTo>
                  <a:pt x="1745" y="134"/>
                </a:lnTo>
                <a:lnTo>
                  <a:pt x="1795" y="161"/>
                </a:lnTo>
                <a:lnTo>
                  <a:pt x="1841" y="190"/>
                </a:lnTo>
                <a:lnTo>
                  <a:pt x="1889" y="221"/>
                </a:lnTo>
                <a:lnTo>
                  <a:pt x="1933" y="253"/>
                </a:lnTo>
                <a:lnTo>
                  <a:pt x="1975" y="288"/>
                </a:lnTo>
                <a:lnTo>
                  <a:pt x="2017" y="324"/>
                </a:lnTo>
                <a:lnTo>
                  <a:pt x="2056" y="363"/>
                </a:lnTo>
                <a:lnTo>
                  <a:pt x="2092" y="403"/>
                </a:lnTo>
                <a:lnTo>
                  <a:pt x="2129" y="445"/>
                </a:lnTo>
                <a:lnTo>
                  <a:pt x="2161" y="489"/>
                </a:lnTo>
                <a:lnTo>
                  <a:pt x="2192" y="533"/>
                </a:lnTo>
                <a:lnTo>
                  <a:pt x="2221" y="580"/>
                </a:lnTo>
                <a:lnTo>
                  <a:pt x="2246" y="628"/>
                </a:lnTo>
                <a:lnTo>
                  <a:pt x="2271" y="677"/>
                </a:lnTo>
                <a:lnTo>
                  <a:pt x="2292" y="727"/>
                </a:lnTo>
                <a:lnTo>
                  <a:pt x="2311" y="779"/>
                </a:lnTo>
                <a:lnTo>
                  <a:pt x="2326" y="831"/>
                </a:lnTo>
                <a:lnTo>
                  <a:pt x="2340" y="885"/>
                </a:lnTo>
                <a:lnTo>
                  <a:pt x="2349" y="938"/>
                </a:lnTo>
                <a:lnTo>
                  <a:pt x="2357" y="994"/>
                </a:lnTo>
                <a:lnTo>
                  <a:pt x="2361" y="1050"/>
                </a:lnTo>
                <a:lnTo>
                  <a:pt x="2363" y="1107"/>
                </a:lnTo>
                <a:lnTo>
                  <a:pt x="2361" y="1163"/>
                </a:lnTo>
                <a:lnTo>
                  <a:pt x="2357" y="1220"/>
                </a:lnTo>
                <a:lnTo>
                  <a:pt x="2349" y="1276"/>
                </a:lnTo>
                <a:lnTo>
                  <a:pt x="2340" y="1330"/>
                </a:lnTo>
                <a:lnTo>
                  <a:pt x="2326" y="1383"/>
                </a:lnTo>
                <a:lnTo>
                  <a:pt x="2311" y="1435"/>
                </a:lnTo>
                <a:lnTo>
                  <a:pt x="2292" y="1487"/>
                </a:lnTo>
                <a:lnTo>
                  <a:pt x="2271" y="1537"/>
                </a:lnTo>
                <a:lnTo>
                  <a:pt x="2246" y="1587"/>
                </a:lnTo>
                <a:lnTo>
                  <a:pt x="2221" y="1635"/>
                </a:lnTo>
                <a:lnTo>
                  <a:pt x="2192" y="1681"/>
                </a:lnTo>
                <a:lnTo>
                  <a:pt x="2161" y="1725"/>
                </a:lnTo>
                <a:lnTo>
                  <a:pt x="2129" y="1769"/>
                </a:lnTo>
                <a:lnTo>
                  <a:pt x="2092" y="1811"/>
                </a:lnTo>
                <a:lnTo>
                  <a:pt x="2056" y="1852"/>
                </a:lnTo>
                <a:lnTo>
                  <a:pt x="2017" y="1890"/>
                </a:lnTo>
                <a:lnTo>
                  <a:pt x="1975" y="1926"/>
                </a:lnTo>
                <a:lnTo>
                  <a:pt x="1933" y="1961"/>
                </a:lnTo>
                <a:lnTo>
                  <a:pt x="1889" y="1994"/>
                </a:lnTo>
                <a:lnTo>
                  <a:pt x="1841" y="2024"/>
                </a:lnTo>
                <a:lnTo>
                  <a:pt x="1795" y="2053"/>
                </a:lnTo>
                <a:lnTo>
                  <a:pt x="1745" y="2080"/>
                </a:lnTo>
                <a:lnTo>
                  <a:pt x="1693" y="2105"/>
                </a:lnTo>
                <a:lnTo>
                  <a:pt x="1641" y="2126"/>
                </a:lnTo>
                <a:lnTo>
                  <a:pt x="1587" y="2147"/>
                </a:lnTo>
                <a:lnTo>
                  <a:pt x="1532" y="2164"/>
                </a:lnTo>
                <a:lnTo>
                  <a:pt x="1476" y="2180"/>
                </a:lnTo>
                <a:lnTo>
                  <a:pt x="1420" y="2191"/>
                </a:lnTo>
                <a:lnTo>
                  <a:pt x="1361" y="2201"/>
                </a:lnTo>
                <a:lnTo>
                  <a:pt x="1303" y="2208"/>
                </a:lnTo>
                <a:lnTo>
                  <a:pt x="1242" y="2212"/>
                </a:lnTo>
                <a:lnTo>
                  <a:pt x="1183" y="2214"/>
                </a:lnTo>
                <a:lnTo>
                  <a:pt x="1121" y="2212"/>
                </a:lnTo>
                <a:lnTo>
                  <a:pt x="1062" y="2208"/>
                </a:lnTo>
                <a:lnTo>
                  <a:pt x="1002" y="2201"/>
                </a:lnTo>
                <a:lnTo>
                  <a:pt x="945" y="2191"/>
                </a:lnTo>
                <a:lnTo>
                  <a:pt x="887" y="2180"/>
                </a:lnTo>
                <a:lnTo>
                  <a:pt x="831" y="2164"/>
                </a:lnTo>
                <a:lnTo>
                  <a:pt x="776" y="2147"/>
                </a:lnTo>
                <a:lnTo>
                  <a:pt x="724" y="2126"/>
                </a:lnTo>
                <a:lnTo>
                  <a:pt x="670" y="2105"/>
                </a:lnTo>
                <a:lnTo>
                  <a:pt x="620" y="2080"/>
                </a:lnTo>
                <a:lnTo>
                  <a:pt x="570" y="2053"/>
                </a:lnTo>
                <a:lnTo>
                  <a:pt x="522" y="2024"/>
                </a:lnTo>
                <a:lnTo>
                  <a:pt x="476" y="1994"/>
                </a:lnTo>
                <a:lnTo>
                  <a:pt x="432" y="1961"/>
                </a:lnTo>
                <a:lnTo>
                  <a:pt x="388" y="1926"/>
                </a:lnTo>
                <a:lnTo>
                  <a:pt x="348" y="1890"/>
                </a:lnTo>
                <a:lnTo>
                  <a:pt x="308" y="1852"/>
                </a:lnTo>
                <a:lnTo>
                  <a:pt x="271" y="1811"/>
                </a:lnTo>
                <a:lnTo>
                  <a:pt x="237" y="1769"/>
                </a:lnTo>
                <a:lnTo>
                  <a:pt x="204" y="1725"/>
                </a:lnTo>
                <a:lnTo>
                  <a:pt x="173" y="1681"/>
                </a:lnTo>
                <a:lnTo>
                  <a:pt x="144" y="1635"/>
                </a:lnTo>
                <a:lnTo>
                  <a:pt x="118" y="1587"/>
                </a:lnTo>
                <a:lnTo>
                  <a:pt x="95" y="1537"/>
                </a:lnTo>
                <a:lnTo>
                  <a:pt x="73" y="1487"/>
                </a:lnTo>
                <a:lnTo>
                  <a:pt x="54" y="1435"/>
                </a:lnTo>
                <a:lnTo>
                  <a:pt x="39" y="1383"/>
                </a:lnTo>
                <a:lnTo>
                  <a:pt x="25" y="1330"/>
                </a:lnTo>
                <a:lnTo>
                  <a:pt x="14" y="1276"/>
                </a:lnTo>
                <a:lnTo>
                  <a:pt x="6" y="1220"/>
                </a:lnTo>
                <a:lnTo>
                  <a:pt x="2" y="1163"/>
                </a:lnTo>
                <a:lnTo>
                  <a:pt x="0" y="1107"/>
                </a:lnTo>
                <a:lnTo>
                  <a:pt x="2" y="1050"/>
                </a:lnTo>
                <a:lnTo>
                  <a:pt x="6" y="994"/>
                </a:lnTo>
                <a:lnTo>
                  <a:pt x="14" y="938"/>
                </a:lnTo>
                <a:lnTo>
                  <a:pt x="25" y="885"/>
                </a:lnTo>
                <a:lnTo>
                  <a:pt x="39" y="831"/>
                </a:lnTo>
                <a:lnTo>
                  <a:pt x="54" y="779"/>
                </a:lnTo>
                <a:lnTo>
                  <a:pt x="73" y="727"/>
                </a:lnTo>
                <a:lnTo>
                  <a:pt x="95" y="677"/>
                </a:lnTo>
                <a:lnTo>
                  <a:pt x="118" y="628"/>
                </a:lnTo>
                <a:lnTo>
                  <a:pt x="144" y="580"/>
                </a:lnTo>
                <a:lnTo>
                  <a:pt x="173" y="533"/>
                </a:lnTo>
                <a:lnTo>
                  <a:pt x="204" y="489"/>
                </a:lnTo>
                <a:lnTo>
                  <a:pt x="237" y="445"/>
                </a:lnTo>
                <a:lnTo>
                  <a:pt x="271" y="403"/>
                </a:lnTo>
                <a:lnTo>
                  <a:pt x="308" y="363"/>
                </a:lnTo>
                <a:lnTo>
                  <a:pt x="348" y="324"/>
                </a:lnTo>
                <a:lnTo>
                  <a:pt x="388" y="288"/>
                </a:lnTo>
                <a:lnTo>
                  <a:pt x="432" y="253"/>
                </a:lnTo>
                <a:lnTo>
                  <a:pt x="476" y="221"/>
                </a:lnTo>
                <a:lnTo>
                  <a:pt x="522" y="190"/>
                </a:lnTo>
                <a:lnTo>
                  <a:pt x="570" y="161"/>
                </a:lnTo>
                <a:lnTo>
                  <a:pt x="620" y="134"/>
                </a:lnTo>
                <a:lnTo>
                  <a:pt x="670" y="109"/>
                </a:lnTo>
                <a:lnTo>
                  <a:pt x="724" y="86"/>
                </a:lnTo>
                <a:lnTo>
                  <a:pt x="776" y="67"/>
                </a:lnTo>
                <a:lnTo>
                  <a:pt x="831" y="50"/>
                </a:lnTo>
                <a:lnTo>
                  <a:pt x="887" y="35"/>
                </a:lnTo>
                <a:lnTo>
                  <a:pt x="945" y="23"/>
                </a:lnTo>
                <a:lnTo>
                  <a:pt x="1002" y="12"/>
                </a:lnTo>
                <a:lnTo>
                  <a:pt x="1062" y="6"/>
                </a:lnTo>
                <a:lnTo>
                  <a:pt x="1121" y="2"/>
                </a:lnTo>
                <a:lnTo>
                  <a:pt x="1183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Freeform 15"/>
          <p:cNvSpPr/>
          <p:nvPr/>
        </p:nvSpPr>
        <p:spPr>
          <a:xfrm>
            <a:off x="5311800" y="1484280"/>
            <a:ext cx="1881000" cy="1766880"/>
          </a:xfrm>
          <a:custGeom>
            <a:avLst/>
            <a:gdLst>
              <a:gd name="textAreaLeft" fmla="*/ 0 w 1881000"/>
              <a:gd name="textAreaRight" fmla="*/ 1881360 w 1881000"/>
              <a:gd name="textAreaTop" fmla="*/ 0 h 1766880"/>
              <a:gd name="textAreaBottom" fmla="*/ 1767240 h 1766880"/>
            </a:gdLst>
            <a:ahLst/>
            <a:rect l="textAreaLeft" t="textAreaTop" r="textAreaRight" b="textAreaBottom"/>
            <a:pathLst>
              <a:path w="1185" h="1113">
                <a:moveTo>
                  <a:pt x="1185" y="1113"/>
                </a:moveTo>
                <a:lnTo>
                  <a:pt x="1185" y="1056"/>
                </a:lnTo>
                <a:lnTo>
                  <a:pt x="1180" y="1000"/>
                </a:lnTo>
                <a:lnTo>
                  <a:pt x="1172" y="944"/>
                </a:lnTo>
                <a:lnTo>
                  <a:pt x="1162" y="889"/>
                </a:lnTo>
                <a:lnTo>
                  <a:pt x="1149" y="835"/>
                </a:lnTo>
                <a:lnTo>
                  <a:pt x="1134" y="783"/>
                </a:lnTo>
                <a:lnTo>
                  <a:pt x="1114" y="731"/>
                </a:lnTo>
                <a:lnTo>
                  <a:pt x="1093" y="680"/>
                </a:lnTo>
                <a:lnTo>
                  <a:pt x="1068" y="632"/>
                </a:lnTo>
                <a:lnTo>
                  <a:pt x="1043" y="584"/>
                </a:lnTo>
                <a:lnTo>
                  <a:pt x="1015" y="536"/>
                </a:lnTo>
                <a:lnTo>
                  <a:pt x="982" y="492"/>
                </a:lnTo>
                <a:lnTo>
                  <a:pt x="949" y="447"/>
                </a:lnTo>
                <a:lnTo>
                  <a:pt x="915" y="405"/>
                </a:lnTo>
                <a:lnTo>
                  <a:pt x="876" y="365"/>
                </a:lnTo>
                <a:lnTo>
                  <a:pt x="838" y="327"/>
                </a:lnTo>
                <a:lnTo>
                  <a:pt x="796" y="290"/>
                </a:lnTo>
                <a:lnTo>
                  <a:pt x="754" y="254"/>
                </a:lnTo>
                <a:lnTo>
                  <a:pt x="708" y="221"/>
                </a:lnTo>
                <a:lnTo>
                  <a:pt x="662" y="190"/>
                </a:lnTo>
                <a:lnTo>
                  <a:pt x="614" y="162"/>
                </a:lnTo>
                <a:lnTo>
                  <a:pt x="564" y="135"/>
                </a:lnTo>
                <a:lnTo>
                  <a:pt x="512" y="110"/>
                </a:lnTo>
                <a:lnTo>
                  <a:pt x="460" y="87"/>
                </a:lnTo>
                <a:lnTo>
                  <a:pt x="406" y="67"/>
                </a:lnTo>
                <a:lnTo>
                  <a:pt x="351" y="50"/>
                </a:lnTo>
                <a:lnTo>
                  <a:pt x="295" y="35"/>
                </a:lnTo>
                <a:lnTo>
                  <a:pt x="237" y="21"/>
                </a:lnTo>
                <a:lnTo>
                  <a:pt x="180" y="12"/>
                </a:lnTo>
                <a:lnTo>
                  <a:pt x="120" y="6"/>
                </a:lnTo>
                <a:lnTo>
                  <a:pt x="59" y="0"/>
                </a:lnTo>
                <a:lnTo>
                  <a:pt x="0" y="0"/>
                </a:lnTo>
                <a:lnTo>
                  <a:pt x="0" y="12"/>
                </a:lnTo>
                <a:lnTo>
                  <a:pt x="59" y="14"/>
                </a:lnTo>
                <a:lnTo>
                  <a:pt x="118" y="18"/>
                </a:lnTo>
                <a:lnTo>
                  <a:pt x="178" y="25"/>
                </a:lnTo>
                <a:lnTo>
                  <a:pt x="236" y="35"/>
                </a:lnTo>
                <a:lnTo>
                  <a:pt x="293" y="46"/>
                </a:lnTo>
                <a:lnTo>
                  <a:pt x="349" y="62"/>
                </a:lnTo>
                <a:lnTo>
                  <a:pt x="402" y="79"/>
                </a:lnTo>
                <a:lnTo>
                  <a:pt x="456" y="98"/>
                </a:lnTo>
                <a:lnTo>
                  <a:pt x="508" y="121"/>
                </a:lnTo>
                <a:lnTo>
                  <a:pt x="558" y="144"/>
                </a:lnTo>
                <a:lnTo>
                  <a:pt x="608" y="171"/>
                </a:lnTo>
                <a:lnTo>
                  <a:pt x="656" y="200"/>
                </a:lnTo>
                <a:lnTo>
                  <a:pt x="702" y="231"/>
                </a:lnTo>
                <a:lnTo>
                  <a:pt x="746" y="263"/>
                </a:lnTo>
                <a:lnTo>
                  <a:pt x="788" y="298"/>
                </a:lnTo>
                <a:lnTo>
                  <a:pt x="830" y="334"/>
                </a:lnTo>
                <a:lnTo>
                  <a:pt x="869" y="373"/>
                </a:lnTo>
                <a:lnTo>
                  <a:pt x="905" y="413"/>
                </a:lnTo>
                <a:lnTo>
                  <a:pt x="940" y="455"/>
                </a:lnTo>
                <a:lnTo>
                  <a:pt x="972" y="497"/>
                </a:lnTo>
                <a:lnTo>
                  <a:pt x="1003" y="543"/>
                </a:lnTo>
                <a:lnTo>
                  <a:pt x="1032" y="589"/>
                </a:lnTo>
                <a:lnTo>
                  <a:pt x="1059" y="635"/>
                </a:lnTo>
                <a:lnTo>
                  <a:pt x="1082" y="685"/>
                </a:lnTo>
                <a:lnTo>
                  <a:pt x="1103" y="735"/>
                </a:lnTo>
                <a:lnTo>
                  <a:pt x="1122" y="787"/>
                </a:lnTo>
                <a:lnTo>
                  <a:pt x="1137" y="839"/>
                </a:lnTo>
                <a:lnTo>
                  <a:pt x="1151" y="891"/>
                </a:lnTo>
                <a:lnTo>
                  <a:pt x="1160" y="946"/>
                </a:lnTo>
                <a:lnTo>
                  <a:pt x="1168" y="1000"/>
                </a:lnTo>
                <a:lnTo>
                  <a:pt x="1172" y="1056"/>
                </a:lnTo>
                <a:lnTo>
                  <a:pt x="1174" y="1113"/>
                </a:lnTo>
                <a:lnTo>
                  <a:pt x="1185" y="11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Freeform 16"/>
          <p:cNvSpPr/>
          <p:nvPr/>
        </p:nvSpPr>
        <p:spPr>
          <a:xfrm>
            <a:off x="5311800" y="3251160"/>
            <a:ext cx="1881000" cy="1766880"/>
          </a:xfrm>
          <a:custGeom>
            <a:avLst/>
            <a:gdLst>
              <a:gd name="textAreaLeft" fmla="*/ 0 w 1881000"/>
              <a:gd name="textAreaRight" fmla="*/ 1881360 w 1881000"/>
              <a:gd name="textAreaTop" fmla="*/ 0 h 1766880"/>
              <a:gd name="textAreaBottom" fmla="*/ 1767240 h 1766880"/>
            </a:gdLst>
            <a:ahLst/>
            <a:rect l="textAreaLeft" t="textAreaTop" r="textAreaRight" b="textAreaBottom"/>
            <a:pathLst>
              <a:path w="1185" h="1113">
                <a:moveTo>
                  <a:pt x="0" y="1113"/>
                </a:moveTo>
                <a:lnTo>
                  <a:pt x="59" y="1111"/>
                </a:lnTo>
                <a:lnTo>
                  <a:pt x="120" y="1107"/>
                </a:lnTo>
                <a:lnTo>
                  <a:pt x="180" y="1100"/>
                </a:lnTo>
                <a:lnTo>
                  <a:pt x="237" y="1090"/>
                </a:lnTo>
                <a:lnTo>
                  <a:pt x="295" y="1078"/>
                </a:lnTo>
                <a:lnTo>
                  <a:pt x="351" y="1063"/>
                </a:lnTo>
                <a:lnTo>
                  <a:pt x="406" y="1046"/>
                </a:lnTo>
                <a:lnTo>
                  <a:pt x="460" y="1025"/>
                </a:lnTo>
                <a:lnTo>
                  <a:pt x="512" y="1004"/>
                </a:lnTo>
                <a:lnTo>
                  <a:pt x="564" y="979"/>
                </a:lnTo>
                <a:lnTo>
                  <a:pt x="614" y="952"/>
                </a:lnTo>
                <a:lnTo>
                  <a:pt x="662" y="923"/>
                </a:lnTo>
                <a:lnTo>
                  <a:pt x="708" y="892"/>
                </a:lnTo>
                <a:lnTo>
                  <a:pt x="754" y="858"/>
                </a:lnTo>
                <a:lnTo>
                  <a:pt x="796" y="823"/>
                </a:lnTo>
                <a:lnTo>
                  <a:pt x="838" y="787"/>
                </a:lnTo>
                <a:lnTo>
                  <a:pt x="876" y="748"/>
                </a:lnTo>
                <a:lnTo>
                  <a:pt x="915" y="708"/>
                </a:lnTo>
                <a:lnTo>
                  <a:pt x="949" y="666"/>
                </a:lnTo>
                <a:lnTo>
                  <a:pt x="982" y="622"/>
                </a:lnTo>
                <a:lnTo>
                  <a:pt x="1015" y="576"/>
                </a:lnTo>
                <a:lnTo>
                  <a:pt x="1043" y="530"/>
                </a:lnTo>
                <a:lnTo>
                  <a:pt x="1068" y="482"/>
                </a:lnTo>
                <a:lnTo>
                  <a:pt x="1093" y="432"/>
                </a:lnTo>
                <a:lnTo>
                  <a:pt x="1114" y="382"/>
                </a:lnTo>
                <a:lnTo>
                  <a:pt x="1134" y="330"/>
                </a:lnTo>
                <a:lnTo>
                  <a:pt x="1149" y="278"/>
                </a:lnTo>
                <a:lnTo>
                  <a:pt x="1162" y="225"/>
                </a:lnTo>
                <a:lnTo>
                  <a:pt x="1172" y="169"/>
                </a:lnTo>
                <a:lnTo>
                  <a:pt x="1180" y="113"/>
                </a:lnTo>
                <a:lnTo>
                  <a:pt x="1185" y="58"/>
                </a:lnTo>
                <a:lnTo>
                  <a:pt x="1185" y="0"/>
                </a:lnTo>
                <a:lnTo>
                  <a:pt x="1174" y="0"/>
                </a:lnTo>
                <a:lnTo>
                  <a:pt x="1172" y="56"/>
                </a:lnTo>
                <a:lnTo>
                  <a:pt x="1168" y="111"/>
                </a:lnTo>
                <a:lnTo>
                  <a:pt x="1160" y="167"/>
                </a:lnTo>
                <a:lnTo>
                  <a:pt x="1151" y="221"/>
                </a:lnTo>
                <a:lnTo>
                  <a:pt x="1137" y="275"/>
                </a:lnTo>
                <a:lnTo>
                  <a:pt x="1122" y="326"/>
                </a:lnTo>
                <a:lnTo>
                  <a:pt x="1103" y="378"/>
                </a:lnTo>
                <a:lnTo>
                  <a:pt x="1082" y="428"/>
                </a:lnTo>
                <a:lnTo>
                  <a:pt x="1059" y="476"/>
                </a:lnTo>
                <a:lnTo>
                  <a:pt x="1032" y="524"/>
                </a:lnTo>
                <a:lnTo>
                  <a:pt x="1003" y="570"/>
                </a:lnTo>
                <a:lnTo>
                  <a:pt x="972" y="614"/>
                </a:lnTo>
                <a:lnTo>
                  <a:pt x="940" y="658"/>
                </a:lnTo>
                <a:lnTo>
                  <a:pt x="905" y="700"/>
                </a:lnTo>
                <a:lnTo>
                  <a:pt x="869" y="739"/>
                </a:lnTo>
                <a:lnTo>
                  <a:pt x="830" y="777"/>
                </a:lnTo>
                <a:lnTo>
                  <a:pt x="788" y="814"/>
                </a:lnTo>
                <a:lnTo>
                  <a:pt x="746" y="848"/>
                </a:lnTo>
                <a:lnTo>
                  <a:pt x="702" y="881"/>
                </a:lnTo>
                <a:lnTo>
                  <a:pt x="656" y="913"/>
                </a:lnTo>
                <a:lnTo>
                  <a:pt x="608" y="940"/>
                </a:lnTo>
                <a:lnTo>
                  <a:pt x="558" y="967"/>
                </a:lnTo>
                <a:lnTo>
                  <a:pt x="508" y="992"/>
                </a:lnTo>
                <a:lnTo>
                  <a:pt x="456" y="1015"/>
                </a:lnTo>
                <a:lnTo>
                  <a:pt x="402" y="1034"/>
                </a:lnTo>
                <a:lnTo>
                  <a:pt x="349" y="1052"/>
                </a:lnTo>
                <a:lnTo>
                  <a:pt x="293" y="1067"/>
                </a:lnTo>
                <a:lnTo>
                  <a:pt x="236" y="1078"/>
                </a:lnTo>
                <a:lnTo>
                  <a:pt x="178" y="1088"/>
                </a:lnTo>
                <a:lnTo>
                  <a:pt x="118" y="1096"/>
                </a:lnTo>
                <a:lnTo>
                  <a:pt x="59" y="1100"/>
                </a:lnTo>
                <a:lnTo>
                  <a:pt x="0" y="1101"/>
                </a:lnTo>
                <a:lnTo>
                  <a:pt x="0" y="11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Freeform 17"/>
          <p:cNvSpPr/>
          <p:nvPr/>
        </p:nvSpPr>
        <p:spPr>
          <a:xfrm>
            <a:off x="3425760" y="3251160"/>
            <a:ext cx="1886040" cy="1766880"/>
          </a:xfrm>
          <a:custGeom>
            <a:avLst/>
            <a:gdLst>
              <a:gd name="textAreaLeft" fmla="*/ 0 w 1886040"/>
              <a:gd name="textAreaRight" fmla="*/ 1886400 w 1886040"/>
              <a:gd name="textAreaTop" fmla="*/ 0 h 1766880"/>
              <a:gd name="textAreaBottom" fmla="*/ 1767240 h 1766880"/>
            </a:gdLst>
            <a:ahLst/>
            <a:rect l="textAreaLeft" t="textAreaTop" r="textAreaRight" b="textAreaBottom"/>
            <a:pathLst>
              <a:path w="1188" h="1113">
                <a:moveTo>
                  <a:pt x="0" y="0"/>
                </a:moveTo>
                <a:lnTo>
                  <a:pt x="2" y="58"/>
                </a:lnTo>
                <a:lnTo>
                  <a:pt x="5" y="113"/>
                </a:lnTo>
                <a:lnTo>
                  <a:pt x="13" y="169"/>
                </a:lnTo>
                <a:lnTo>
                  <a:pt x="25" y="225"/>
                </a:lnTo>
                <a:lnTo>
                  <a:pt x="38" y="278"/>
                </a:lnTo>
                <a:lnTo>
                  <a:pt x="53" y="330"/>
                </a:lnTo>
                <a:lnTo>
                  <a:pt x="73" y="382"/>
                </a:lnTo>
                <a:lnTo>
                  <a:pt x="94" y="432"/>
                </a:lnTo>
                <a:lnTo>
                  <a:pt x="117" y="482"/>
                </a:lnTo>
                <a:lnTo>
                  <a:pt x="144" y="530"/>
                </a:lnTo>
                <a:lnTo>
                  <a:pt x="172" y="576"/>
                </a:lnTo>
                <a:lnTo>
                  <a:pt x="203" y="622"/>
                </a:lnTo>
                <a:lnTo>
                  <a:pt x="236" y="666"/>
                </a:lnTo>
                <a:lnTo>
                  <a:pt x="272" y="708"/>
                </a:lnTo>
                <a:lnTo>
                  <a:pt x="309" y="748"/>
                </a:lnTo>
                <a:lnTo>
                  <a:pt x="349" y="787"/>
                </a:lnTo>
                <a:lnTo>
                  <a:pt x="389" y="823"/>
                </a:lnTo>
                <a:lnTo>
                  <a:pt x="433" y="858"/>
                </a:lnTo>
                <a:lnTo>
                  <a:pt x="478" y="892"/>
                </a:lnTo>
                <a:lnTo>
                  <a:pt x="524" y="923"/>
                </a:lnTo>
                <a:lnTo>
                  <a:pt x="572" y="952"/>
                </a:lnTo>
                <a:lnTo>
                  <a:pt x="621" y="979"/>
                </a:lnTo>
                <a:lnTo>
                  <a:pt x="673" y="1004"/>
                </a:lnTo>
                <a:lnTo>
                  <a:pt x="725" y="1025"/>
                </a:lnTo>
                <a:lnTo>
                  <a:pt x="779" y="1046"/>
                </a:lnTo>
                <a:lnTo>
                  <a:pt x="834" y="1063"/>
                </a:lnTo>
                <a:lnTo>
                  <a:pt x="890" y="1078"/>
                </a:lnTo>
                <a:lnTo>
                  <a:pt x="948" y="1090"/>
                </a:lnTo>
                <a:lnTo>
                  <a:pt x="1007" y="1100"/>
                </a:lnTo>
                <a:lnTo>
                  <a:pt x="1067" y="1107"/>
                </a:lnTo>
                <a:lnTo>
                  <a:pt x="1126" y="1111"/>
                </a:lnTo>
                <a:lnTo>
                  <a:pt x="1188" y="1113"/>
                </a:lnTo>
                <a:lnTo>
                  <a:pt x="1188" y="1101"/>
                </a:lnTo>
                <a:lnTo>
                  <a:pt x="1126" y="1100"/>
                </a:lnTo>
                <a:lnTo>
                  <a:pt x="1067" y="1096"/>
                </a:lnTo>
                <a:lnTo>
                  <a:pt x="1009" y="1088"/>
                </a:lnTo>
                <a:lnTo>
                  <a:pt x="952" y="1078"/>
                </a:lnTo>
                <a:lnTo>
                  <a:pt x="894" y="1067"/>
                </a:lnTo>
                <a:lnTo>
                  <a:pt x="838" y="1052"/>
                </a:lnTo>
                <a:lnTo>
                  <a:pt x="783" y="1034"/>
                </a:lnTo>
                <a:lnTo>
                  <a:pt x="731" y="1015"/>
                </a:lnTo>
                <a:lnTo>
                  <a:pt x="679" y="992"/>
                </a:lnTo>
                <a:lnTo>
                  <a:pt x="627" y="967"/>
                </a:lnTo>
                <a:lnTo>
                  <a:pt x="579" y="940"/>
                </a:lnTo>
                <a:lnTo>
                  <a:pt x="531" y="913"/>
                </a:lnTo>
                <a:lnTo>
                  <a:pt x="485" y="881"/>
                </a:lnTo>
                <a:lnTo>
                  <a:pt x="439" y="848"/>
                </a:lnTo>
                <a:lnTo>
                  <a:pt x="397" y="814"/>
                </a:lnTo>
                <a:lnTo>
                  <a:pt x="357" y="777"/>
                </a:lnTo>
                <a:lnTo>
                  <a:pt x="318" y="739"/>
                </a:lnTo>
                <a:lnTo>
                  <a:pt x="280" y="700"/>
                </a:lnTo>
                <a:lnTo>
                  <a:pt x="245" y="658"/>
                </a:lnTo>
                <a:lnTo>
                  <a:pt x="213" y="614"/>
                </a:lnTo>
                <a:lnTo>
                  <a:pt x="182" y="570"/>
                </a:lnTo>
                <a:lnTo>
                  <a:pt x="153" y="524"/>
                </a:lnTo>
                <a:lnTo>
                  <a:pt x="128" y="476"/>
                </a:lnTo>
                <a:lnTo>
                  <a:pt x="105" y="428"/>
                </a:lnTo>
                <a:lnTo>
                  <a:pt x="84" y="378"/>
                </a:lnTo>
                <a:lnTo>
                  <a:pt x="65" y="326"/>
                </a:lnTo>
                <a:lnTo>
                  <a:pt x="50" y="275"/>
                </a:lnTo>
                <a:lnTo>
                  <a:pt x="36" y="221"/>
                </a:lnTo>
                <a:lnTo>
                  <a:pt x="25" y="167"/>
                </a:lnTo>
                <a:lnTo>
                  <a:pt x="17" y="111"/>
                </a:lnTo>
                <a:lnTo>
                  <a:pt x="13" y="56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Freeform 18"/>
          <p:cNvSpPr/>
          <p:nvPr/>
        </p:nvSpPr>
        <p:spPr>
          <a:xfrm>
            <a:off x="3425760" y="1484280"/>
            <a:ext cx="1886040" cy="1766880"/>
          </a:xfrm>
          <a:custGeom>
            <a:avLst/>
            <a:gdLst>
              <a:gd name="textAreaLeft" fmla="*/ 0 w 1886040"/>
              <a:gd name="textAreaRight" fmla="*/ 1886400 w 1886040"/>
              <a:gd name="textAreaTop" fmla="*/ 0 h 1766880"/>
              <a:gd name="textAreaBottom" fmla="*/ 1767240 h 1766880"/>
            </a:gdLst>
            <a:ahLst/>
            <a:rect l="textAreaLeft" t="textAreaTop" r="textAreaRight" b="textAreaBottom"/>
            <a:pathLst>
              <a:path w="1188" h="1113">
                <a:moveTo>
                  <a:pt x="1188" y="0"/>
                </a:moveTo>
                <a:lnTo>
                  <a:pt x="1126" y="0"/>
                </a:lnTo>
                <a:lnTo>
                  <a:pt x="1067" y="6"/>
                </a:lnTo>
                <a:lnTo>
                  <a:pt x="1007" y="12"/>
                </a:lnTo>
                <a:lnTo>
                  <a:pt x="948" y="21"/>
                </a:lnTo>
                <a:lnTo>
                  <a:pt x="890" y="35"/>
                </a:lnTo>
                <a:lnTo>
                  <a:pt x="834" y="50"/>
                </a:lnTo>
                <a:lnTo>
                  <a:pt x="779" y="67"/>
                </a:lnTo>
                <a:lnTo>
                  <a:pt x="725" y="87"/>
                </a:lnTo>
                <a:lnTo>
                  <a:pt x="673" y="110"/>
                </a:lnTo>
                <a:lnTo>
                  <a:pt x="621" y="135"/>
                </a:lnTo>
                <a:lnTo>
                  <a:pt x="572" y="162"/>
                </a:lnTo>
                <a:lnTo>
                  <a:pt x="524" y="190"/>
                </a:lnTo>
                <a:lnTo>
                  <a:pt x="478" y="221"/>
                </a:lnTo>
                <a:lnTo>
                  <a:pt x="433" y="254"/>
                </a:lnTo>
                <a:lnTo>
                  <a:pt x="389" y="290"/>
                </a:lnTo>
                <a:lnTo>
                  <a:pt x="349" y="327"/>
                </a:lnTo>
                <a:lnTo>
                  <a:pt x="309" y="365"/>
                </a:lnTo>
                <a:lnTo>
                  <a:pt x="272" y="405"/>
                </a:lnTo>
                <a:lnTo>
                  <a:pt x="236" y="447"/>
                </a:lnTo>
                <a:lnTo>
                  <a:pt x="203" y="492"/>
                </a:lnTo>
                <a:lnTo>
                  <a:pt x="172" y="536"/>
                </a:lnTo>
                <a:lnTo>
                  <a:pt x="144" y="584"/>
                </a:lnTo>
                <a:lnTo>
                  <a:pt x="117" y="632"/>
                </a:lnTo>
                <a:lnTo>
                  <a:pt x="94" y="680"/>
                </a:lnTo>
                <a:lnTo>
                  <a:pt x="73" y="731"/>
                </a:lnTo>
                <a:lnTo>
                  <a:pt x="53" y="783"/>
                </a:lnTo>
                <a:lnTo>
                  <a:pt x="38" y="835"/>
                </a:lnTo>
                <a:lnTo>
                  <a:pt x="25" y="889"/>
                </a:lnTo>
                <a:lnTo>
                  <a:pt x="13" y="944"/>
                </a:lnTo>
                <a:lnTo>
                  <a:pt x="5" y="1000"/>
                </a:lnTo>
                <a:lnTo>
                  <a:pt x="2" y="1056"/>
                </a:lnTo>
                <a:lnTo>
                  <a:pt x="0" y="1113"/>
                </a:lnTo>
                <a:lnTo>
                  <a:pt x="11" y="1113"/>
                </a:lnTo>
                <a:lnTo>
                  <a:pt x="13" y="1056"/>
                </a:lnTo>
                <a:lnTo>
                  <a:pt x="17" y="1000"/>
                </a:lnTo>
                <a:lnTo>
                  <a:pt x="25" y="946"/>
                </a:lnTo>
                <a:lnTo>
                  <a:pt x="36" y="891"/>
                </a:lnTo>
                <a:lnTo>
                  <a:pt x="50" y="839"/>
                </a:lnTo>
                <a:lnTo>
                  <a:pt x="65" y="787"/>
                </a:lnTo>
                <a:lnTo>
                  <a:pt x="84" y="735"/>
                </a:lnTo>
                <a:lnTo>
                  <a:pt x="105" y="685"/>
                </a:lnTo>
                <a:lnTo>
                  <a:pt x="128" y="635"/>
                </a:lnTo>
                <a:lnTo>
                  <a:pt x="153" y="589"/>
                </a:lnTo>
                <a:lnTo>
                  <a:pt x="182" y="543"/>
                </a:lnTo>
                <a:lnTo>
                  <a:pt x="213" y="497"/>
                </a:lnTo>
                <a:lnTo>
                  <a:pt x="245" y="455"/>
                </a:lnTo>
                <a:lnTo>
                  <a:pt x="280" y="413"/>
                </a:lnTo>
                <a:lnTo>
                  <a:pt x="318" y="373"/>
                </a:lnTo>
                <a:lnTo>
                  <a:pt x="357" y="334"/>
                </a:lnTo>
                <a:lnTo>
                  <a:pt x="397" y="298"/>
                </a:lnTo>
                <a:lnTo>
                  <a:pt x="439" y="263"/>
                </a:lnTo>
                <a:lnTo>
                  <a:pt x="485" y="231"/>
                </a:lnTo>
                <a:lnTo>
                  <a:pt x="531" y="200"/>
                </a:lnTo>
                <a:lnTo>
                  <a:pt x="579" y="171"/>
                </a:lnTo>
                <a:lnTo>
                  <a:pt x="627" y="144"/>
                </a:lnTo>
                <a:lnTo>
                  <a:pt x="679" y="121"/>
                </a:lnTo>
                <a:lnTo>
                  <a:pt x="731" y="98"/>
                </a:lnTo>
                <a:lnTo>
                  <a:pt x="783" y="79"/>
                </a:lnTo>
                <a:lnTo>
                  <a:pt x="838" y="62"/>
                </a:lnTo>
                <a:lnTo>
                  <a:pt x="894" y="46"/>
                </a:lnTo>
                <a:lnTo>
                  <a:pt x="952" y="35"/>
                </a:lnTo>
                <a:lnTo>
                  <a:pt x="1009" y="25"/>
                </a:lnTo>
                <a:lnTo>
                  <a:pt x="1067" y="18"/>
                </a:lnTo>
                <a:lnTo>
                  <a:pt x="1126" y="14"/>
                </a:lnTo>
                <a:lnTo>
                  <a:pt x="1188" y="12"/>
                </a:lnTo>
                <a:lnTo>
                  <a:pt x="11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Freeform 19"/>
          <p:cNvSpPr/>
          <p:nvPr/>
        </p:nvSpPr>
        <p:spPr>
          <a:xfrm>
            <a:off x="4348080" y="1871640"/>
            <a:ext cx="1849680" cy="2755800"/>
          </a:xfrm>
          <a:custGeom>
            <a:avLst/>
            <a:gdLst>
              <a:gd name="textAreaLeft" fmla="*/ 0 w 1849680"/>
              <a:gd name="textAreaRight" fmla="*/ 1850040 w 1849680"/>
              <a:gd name="textAreaTop" fmla="*/ 0 h 2755800"/>
              <a:gd name="textAreaBottom" fmla="*/ 2756160 h 2755800"/>
            </a:gdLst>
            <a:ahLst/>
            <a:rect l="textAreaLeft" t="textAreaTop" r="textAreaRight" b="textAreaBottom"/>
            <a:pathLst>
              <a:path w="1165" h="1736">
                <a:moveTo>
                  <a:pt x="584" y="0"/>
                </a:moveTo>
                <a:lnTo>
                  <a:pt x="612" y="2"/>
                </a:lnTo>
                <a:lnTo>
                  <a:pt x="643" y="6"/>
                </a:lnTo>
                <a:lnTo>
                  <a:pt x="672" y="12"/>
                </a:lnTo>
                <a:lnTo>
                  <a:pt x="701" y="19"/>
                </a:lnTo>
                <a:lnTo>
                  <a:pt x="727" y="29"/>
                </a:lnTo>
                <a:lnTo>
                  <a:pt x="756" y="40"/>
                </a:lnTo>
                <a:lnTo>
                  <a:pt x="783" y="54"/>
                </a:lnTo>
                <a:lnTo>
                  <a:pt x="810" y="69"/>
                </a:lnTo>
                <a:lnTo>
                  <a:pt x="835" y="86"/>
                </a:lnTo>
                <a:lnTo>
                  <a:pt x="860" y="106"/>
                </a:lnTo>
                <a:lnTo>
                  <a:pt x="885" y="127"/>
                </a:lnTo>
                <a:lnTo>
                  <a:pt x="908" y="150"/>
                </a:lnTo>
                <a:lnTo>
                  <a:pt x="931" y="173"/>
                </a:lnTo>
                <a:lnTo>
                  <a:pt x="954" y="200"/>
                </a:lnTo>
                <a:lnTo>
                  <a:pt x="975" y="226"/>
                </a:lnTo>
                <a:lnTo>
                  <a:pt x="994" y="255"/>
                </a:lnTo>
                <a:lnTo>
                  <a:pt x="1013" y="286"/>
                </a:lnTo>
                <a:lnTo>
                  <a:pt x="1033" y="317"/>
                </a:lnTo>
                <a:lnTo>
                  <a:pt x="1050" y="349"/>
                </a:lnTo>
                <a:lnTo>
                  <a:pt x="1065" y="384"/>
                </a:lnTo>
                <a:lnTo>
                  <a:pt x="1080" y="420"/>
                </a:lnTo>
                <a:lnTo>
                  <a:pt x="1096" y="455"/>
                </a:lnTo>
                <a:lnTo>
                  <a:pt x="1107" y="493"/>
                </a:lnTo>
                <a:lnTo>
                  <a:pt x="1121" y="531"/>
                </a:lnTo>
                <a:lnTo>
                  <a:pt x="1130" y="572"/>
                </a:lnTo>
                <a:lnTo>
                  <a:pt x="1140" y="612"/>
                </a:lnTo>
                <a:lnTo>
                  <a:pt x="1148" y="652"/>
                </a:lnTo>
                <a:lnTo>
                  <a:pt x="1153" y="695"/>
                </a:lnTo>
                <a:lnTo>
                  <a:pt x="1159" y="737"/>
                </a:lnTo>
                <a:lnTo>
                  <a:pt x="1163" y="781"/>
                </a:lnTo>
                <a:lnTo>
                  <a:pt x="1165" y="825"/>
                </a:lnTo>
                <a:lnTo>
                  <a:pt x="1165" y="869"/>
                </a:lnTo>
                <a:lnTo>
                  <a:pt x="1165" y="913"/>
                </a:lnTo>
                <a:lnTo>
                  <a:pt x="1163" y="957"/>
                </a:lnTo>
                <a:lnTo>
                  <a:pt x="1159" y="1002"/>
                </a:lnTo>
                <a:lnTo>
                  <a:pt x="1153" y="1044"/>
                </a:lnTo>
                <a:lnTo>
                  <a:pt x="1148" y="1086"/>
                </a:lnTo>
                <a:lnTo>
                  <a:pt x="1140" y="1126"/>
                </a:lnTo>
                <a:lnTo>
                  <a:pt x="1130" y="1167"/>
                </a:lnTo>
                <a:lnTo>
                  <a:pt x="1121" y="1207"/>
                </a:lnTo>
                <a:lnTo>
                  <a:pt x="1107" y="1245"/>
                </a:lnTo>
                <a:lnTo>
                  <a:pt x="1096" y="1282"/>
                </a:lnTo>
                <a:lnTo>
                  <a:pt x="1080" y="1318"/>
                </a:lnTo>
                <a:lnTo>
                  <a:pt x="1065" y="1355"/>
                </a:lnTo>
                <a:lnTo>
                  <a:pt x="1050" y="1387"/>
                </a:lnTo>
                <a:lnTo>
                  <a:pt x="1033" y="1420"/>
                </a:lnTo>
                <a:lnTo>
                  <a:pt x="1013" y="1452"/>
                </a:lnTo>
                <a:lnTo>
                  <a:pt x="994" y="1483"/>
                </a:lnTo>
                <a:lnTo>
                  <a:pt x="975" y="1512"/>
                </a:lnTo>
                <a:lnTo>
                  <a:pt x="954" y="1539"/>
                </a:lnTo>
                <a:lnTo>
                  <a:pt x="931" y="1564"/>
                </a:lnTo>
                <a:lnTo>
                  <a:pt x="908" y="1589"/>
                </a:lnTo>
                <a:lnTo>
                  <a:pt x="885" y="1612"/>
                </a:lnTo>
                <a:lnTo>
                  <a:pt x="860" y="1633"/>
                </a:lnTo>
                <a:lnTo>
                  <a:pt x="835" y="1652"/>
                </a:lnTo>
                <a:lnTo>
                  <a:pt x="810" y="1669"/>
                </a:lnTo>
                <a:lnTo>
                  <a:pt x="783" y="1685"/>
                </a:lnTo>
                <a:lnTo>
                  <a:pt x="756" y="1698"/>
                </a:lnTo>
                <a:lnTo>
                  <a:pt x="727" y="1710"/>
                </a:lnTo>
                <a:lnTo>
                  <a:pt x="701" y="1719"/>
                </a:lnTo>
                <a:lnTo>
                  <a:pt x="672" y="1727"/>
                </a:lnTo>
                <a:lnTo>
                  <a:pt x="643" y="1733"/>
                </a:lnTo>
                <a:lnTo>
                  <a:pt x="612" y="1736"/>
                </a:lnTo>
                <a:lnTo>
                  <a:pt x="584" y="1736"/>
                </a:lnTo>
                <a:lnTo>
                  <a:pt x="553" y="1736"/>
                </a:lnTo>
                <a:lnTo>
                  <a:pt x="524" y="1733"/>
                </a:lnTo>
                <a:lnTo>
                  <a:pt x="495" y="1727"/>
                </a:lnTo>
                <a:lnTo>
                  <a:pt x="466" y="1719"/>
                </a:lnTo>
                <a:lnTo>
                  <a:pt x="438" y="1710"/>
                </a:lnTo>
                <a:lnTo>
                  <a:pt x="411" y="1698"/>
                </a:lnTo>
                <a:lnTo>
                  <a:pt x="382" y="1685"/>
                </a:lnTo>
                <a:lnTo>
                  <a:pt x="357" y="1669"/>
                </a:lnTo>
                <a:lnTo>
                  <a:pt x="330" y="1652"/>
                </a:lnTo>
                <a:lnTo>
                  <a:pt x="305" y="1633"/>
                </a:lnTo>
                <a:lnTo>
                  <a:pt x="280" y="1612"/>
                </a:lnTo>
                <a:lnTo>
                  <a:pt x="257" y="1589"/>
                </a:lnTo>
                <a:lnTo>
                  <a:pt x="234" y="1564"/>
                </a:lnTo>
                <a:lnTo>
                  <a:pt x="213" y="1539"/>
                </a:lnTo>
                <a:lnTo>
                  <a:pt x="192" y="1512"/>
                </a:lnTo>
                <a:lnTo>
                  <a:pt x="171" y="1483"/>
                </a:lnTo>
                <a:lnTo>
                  <a:pt x="152" y="1452"/>
                </a:lnTo>
                <a:lnTo>
                  <a:pt x="134" y="1420"/>
                </a:lnTo>
                <a:lnTo>
                  <a:pt x="115" y="1387"/>
                </a:lnTo>
                <a:lnTo>
                  <a:pt x="100" y="1355"/>
                </a:lnTo>
                <a:lnTo>
                  <a:pt x="85" y="1318"/>
                </a:lnTo>
                <a:lnTo>
                  <a:pt x="71" y="1282"/>
                </a:lnTo>
                <a:lnTo>
                  <a:pt x="58" y="1245"/>
                </a:lnTo>
                <a:lnTo>
                  <a:pt x="46" y="1207"/>
                </a:lnTo>
                <a:lnTo>
                  <a:pt x="35" y="1167"/>
                </a:lnTo>
                <a:lnTo>
                  <a:pt x="27" y="1126"/>
                </a:lnTo>
                <a:lnTo>
                  <a:pt x="19" y="1086"/>
                </a:lnTo>
                <a:lnTo>
                  <a:pt x="12" y="1044"/>
                </a:lnTo>
                <a:lnTo>
                  <a:pt x="8" y="1002"/>
                </a:lnTo>
                <a:lnTo>
                  <a:pt x="4" y="957"/>
                </a:lnTo>
                <a:lnTo>
                  <a:pt x="0" y="913"/>
                </a:lnTo>
                <a:lnTo>
                  <a:pt x="0" y="869"/>
                </a:lnTo>
                <a:lnTo>
                  <a:pt x="0" y="825"/>
                </a:lnTo>
                <a:lnTo>
                  <a:pt x="4" y="781"/>
                </a:lnTo>
                <a:lnTo>
                  <a:pt x="8" y="737"/>
                </a:lnTo>
                <a:lnTo>
                  <a:pt x="12" y="695"/>
                </a:lnTo>
                <a:lnTo>
                  <a:pt x="19" y="652"/>
                </a:lnTo>
                <a:lnTo>
                  <a:pt x="27" y="612"/>
                </a:lnTo>
                <a:lnTo>
                  <a:pt x="35" y="572"/>
                </a:lnTo>
                <a:lnTo>
                  <a:pt x="46" y="531"/>
                </a:lnTo>
                <a:lnTo>
                  <a:pt x="58" y="493"/>
                </a:lnTo>
                <a:lnTo>
                  <a:pt x="71" y="455"/>
                </a:lnTo>
                <a:lnTo>
                  <a:pt x="85" y="420"/>
                </a:lnTo>
                <a:lnTo>
                  <a:pt x="100" y="384"/>
                </a:lnTo>
                <a:lnTo>
                  <a:pt x="115" y="349"/>
                </a:lnTo>
                <a:lnTo>
                  <a:pt x="134" y="317"/>
                </a:lnTo>
                <a:lnTo>
                  <a:pt x="152" y="286"/>
                </a:lnTo>
                <a:lnTo>
                  <a:pt x="171" y="255"/>
                </a:lnTo>
                <a:lnTo>
                  <a:pt x="192" y="226"/>
                </a:lnTo>
                <a:lnTo>
                  <a:pt x="213" y="200"/>
                </a:lnTo>
                <a:lnTo>
                  <a:pt x="234" y="173"/>
                </a:lnTo>
                <a:lnTo>
                  <a:pt x="257" y="150"/>
                </a:lnTo>
                <a:lnTo>
                  <a:pt x="280" y="127"/>
                </a:lnTo>
                <a:lnTo>
                  <a:pt x="305" y="106"/>
                </a:lnTo>
                <a:lnTo>
                  <a:pt x="330" y="86"/>
                </a:lnTo>
                <a:lnTo>
                  <a:pt x="357" y="69"/>
                </a:lnTo>
                <a:lnTo>
                  <a:pt x="382" y="54"/>
                </a:lnTo>
                <a:lnTo>
                  <a:pt x="411" y="40"/>
                </a:lnTo>
                <a:lnTo>
                  <a:pt x="438" y="29"/>
                </a:lnTo>
                <a:lnTo>
                  <a:pt x="466" y="19"/>
                </a:lnTo>
                <a:lnTo>
                  <a:pt x="495" y="12"/>
                </a:lnTo>
                <a:lnTo>
                  <a:pt x="524" y="6"/>
                </a:lnTo>
                <a:lnTo>
                  <a:pt x="553" y="2"/>
                </a:lnTo>
                <a:lnTo>
                  <a:pt x="58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Freeform 20"/>
          <p:cNvSpPr/>
          <p:nvPr/>
        </p:nvSpPr>
        <p:spPr>
          <a:xfrm>
            <a:off x="5275440" y="1862280"/>
            <a:ext cx="934920" cy="13888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88880"/>
              <a:gd name="textAreaBottom" fmla="*/ 1389240 h 1388880"/>
            </a:gdLst>
            <a:ahLst/>
            <a:rect l="textAreaLeft" t="textAreaTop" r="textAreaRight" b="textAreaBottom"/>
            <a:pathLst>
              <a:path w="589" h="875">
                <a:moveTo>
                  <a:pt x="589" y="875"/>
                </a:moveTo>
                <a:lnTo>
                  <a:pt x="587" y="831"/>
                </a:lnTo>
                <a:lnTo>
                  <a:pt x="585" y="787"/>
                </a:lnTo>
                <a:lnTo>
                  <a:pt x="581" y="743"/>
                </a:lnTo>
                <a:lnTo>
                  <a:pt x="575" y="699"/>
                </a:lnTo>
                <a:lnTo>
                  <a:pt x="569" y="656"/>
                </a:lnTo>
                <a:lnTo>
                  <a:pt x="562" y="616"/>
                </a:lnTo>
                <a:lnTo>
                  <a:pt x="552" y="576"/>
                </a:lnTo>
                <a:lnTo>
                  <a:pt x="543" y="536"/>
                </a:lnTo>
                <a:lnTo>
                  <a:pt x="529" y="497"/>
                </a:lnTo>
                <a:lnTo>
                  <a:pt x="518" y="459"/>
                </a:lnTo>
                <a:lnTo>
                  <a:pt x="502" y="422"/>
                </a:lnTo>
                <a:lnTo>
                  <a:pt x="487" y="388"/>
                </a:lnTo>
                <a:lnTo>
                  <a:pt x="472" y="353"/>
                </a:lnTo>
                <a:lnTo>
                  <a:pt x="454" y="321"/>
                </a:lnTo>
                <a:lnTo>
                  <a:pt x="435" y="288"/>
                </a:lnTo>
                <a:lnTo>
                  <a:pt x="416" y="257"/>
                </a:lnTo>
                <a:lnTo>
                  <a:pt x="395" y="229"/>
                </a:lnTo>
                <a:lnTo>
                  <a:pt x="374" y="202"/>
                </a:lnTo>
                <a:lnTo>
                  <a:pt x="353" y="175"/>
                </a:lnTo>
                <a:lnTo>
                  <a:pt x="330" y="152"/>
                </a:lnTo>
                <a:lnTo>
                  <a:pt x="305" y="129"/>
                </a:lnTo>
                <a:lnTo>
                  <a:pt x="280" y="108"/>
                </a:lnTo>
                <a:lnTo>
                  <a:pt x="255" y="89"/>
                </a:lnTo>
                <a:lnTo>
                  <a:pt x="228" y="69"/>
                </a:lnTo>
                <a:lnTo>
                  <a:pt x="201" y="54"/>
                </a:lnTo>
                <a:lnTo>
                  <a:pt x="174" y="41"/>
                </a:lnTo>
                <a:lnTo>
                  <a:pt x="147" y="29"/>
                </a:lnTo>
                <a:lnTo>
                  <a:pt x="118" y="19"/>
                </a:lnTo>
                <a:lnTo>
                  <a:pt x="90" y="10"/>
                </a:lnTo>
                <a:lnTo>
                  <a:pt x="59" y="6"/>
                </a:lnTo>
                <a:lnTo>
                  <a:pt x="30" y="2"/>
                </a:lnTo>
                <a:lnTo>
                  <a:pt x="0" y="0"/>
                </a:lnTo>
                <a:lnTo>
                  <a:pt x="0" y="12"/>
                </a:lnTo>
                <a:lnTo>
                  <a:pt x="28" y="14"/>
                </a:lnTo>
                <a:lnTo>
                  <a:pt x="57" y="18"/>
                </a:lnTo>
                <a:lnTo>
                  <a:pt x="86" y="23"/>
                </a:lnTo>
                <a:lnTo>
                  <a:pt x="115" y="31"/>
                </a:lnTo>
                <a:lnTo>
                  <a:pt x="141" y="41"/>
                </a:lnTo>
                <a:lnTo>
                  <a:pt x="170" y="52"/>
                </a:lnTo>
                <a:lnTo>
                  <a:pt x="195" y="65"/>
                </a:lnTo>
                <a:lnTo>
                  <a:pt x="222" y="81"/>
                </a:lnTo>
                <a:lnTo>
                  <a:pt x="247" y="98"/>
                </a:lnTo>
                <a:lnTo>
                  <a:pt x="272" y="117"/>
                </a:lnTo>
                <a:lnTo>
                  <a:pt x="297" y="136"/>
                </a:lnTo>
                <a:lnTo>
                  <a:pt x="320" y="160"/>
                </a:lnTo>
                <a:lnTo>
                  <a:pt x="343" y="184"/>
                </a:lnTo>
                <a:lnTo>
                  <a:pt x="364" y="209"/>
                </a:lnTo>
                <a:lnTo>
                  <a:pt x="385" y="236"/>
                </a:lnTo>
                <a:lnTo>
                  <a:pt x="406" y="265"/>
                </a:lnTo>
                <a:lnTo>
                  <a:pt x="425" y="296"/>
                </a:lnTo>
                <a:lnTo>
                  <a:pt x="443" y="326"/>
                </a:lnTo>
                <a:lnTo>
                  <a:pt x="460" y="359"/>
                </a:lnTo>
                <a:lnTo>
                  <a:pt x="477" y="392"/>
                </a:lnTo>
                <a:lnTo>
                  <a:pt x="491" y="428"/>
                </a:lnTo>
                <a:lnTo>
                  <a:pt x="506" y="465"/>
                </a:lnTo>
                <a:lnTo>
                  <a:pt x="518" y="501"/>
                </a:lnTo>
                <a:lnTo>
                  <a:pt x="531" y="539"/>
                </a:lnTo>
                <a:lnTo>
                  <a:pt x="541" y="578"/>
                </a:lnTo>
                <a:lnTo>
                  <a:pt x="550" y="618"/>
                </a:lnTo>
                <a:lnTo>
                  <a:pt x="558" y="660"/>
                </a:lnTo>
                <a:lnTo>
                  <a:pt x="564" y="701"/>
                </a:lnTo>
                <a:lnTo>
                  <a:pt x="569" y="743"/>
                </a:lnTo>
                <a:lnTo>
                  <a:pt x="573" y="787"/>
                </a:lnTo>
                <a:lnTo>
                  <a:pt x="575" y="831"/>
                </a:lnTo>
                <a:lnTo>
                  <a:pt x="575" y="875"/>
                </a:lnTo>
                <a:lnTo>
                  <a:pt x="589" y="8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Freeform 21"/>
          <p:cNvSpPr/>
          <p:nvPr/>
        </p:nvSpPr>
        <p:spPr>
          <a:xfrm>
            <a:off x="5275440" y="3251160"/>
            <a:ext cx="934920" cy="1389240"/>
          </a:xfrm>
          <a:custGeom>
            <a:avLst/>
            <a:gdLst>
              <a:gd name="textAreaLeft" fmla="*/ 0 w 934920"/>
              <a:gd name="textAreaRight" fmla="*/ 935280 w 93492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589" h="875">
                <a:moveTo>
                  <a:pt x="0" y="875"/>
                </a:moveTo>
                <a:lnTo>
                  <a:pt x="30" y="873"/>
                </a:lnTo>
                <a:lnTo>
                  <a:pt x="59" y="869"/>
                </a:lnTo>
                <a:lnTo>
                  <a:pt x="90" y="864"/>
                </a:lnTo>
                <a:lnTo>
                  <a:pt x="118" y="856"/>
                </a:lnTo>
                <a:lnTo>
                  <a:pt x="147" y="846"/>
                </a:lnTo>
                <a:lnTo>
                  <a:pt x="174" y="835"/>
                </a:lnTo>
                <a:lnTo>
                  <a:pt x="201" y="821"/>
                </a:lnTo>
                <a:lnTo>
                  <a:pt x="228" y="804"/>
                </a:lnTo>
                <a:lnTo>
                  <a:pt x="255" y="787"/>
                </a:lnTo>
                <a:lnTo>
                  <a:pt x="280" y="768"/>
                </a:lnTo>
                <a:lnTo>
                  <a:pt x="305" y="747"/>
                </a:lnTo>
                <a:lnTo>
                  <a:pt x="330" y="724"/>
                </a:lnTo>
                <a:lnTo>
                  <a:pt x="353" y="699"/>
                </a:lnTo>
                <a:lnTo>
                  <a:pt x="374" y="674"/>
                </a:lnTo>
                <a:lnTo>
                  <a:pt x="395" y="645"/>
                </a:lnTo>
                <a:lnTo>
                  <a:pt x="416" y="616"/>
                </a:lnTo>
                <a:lnTo>
                  <a:pt x="435" y="587"/>
                </a:lnTo>
                <a:lnTo>
                  <a:pt x="454" y="555"/>
                </a:lnTo>
                <a:lnTo>
                  <a:pt x="472" y="522"/>
                </a:lnTo>
                <a:lnTo>
                  <a:pt x="487" y="488"/>
                </a:lnTo>
                <a:lnTo>
                  <a:pt x="502" y="451"/>
                </a:lnTo>
                <a:lnTo>
                  <a:pt x="518" y="415"/>
                </a:lnTo>
                <a:lnTo>
                  <a:pt x="529" y="378"/>
                </a:lnTo>
                <a:lnTo>
                  <a:pt x="543" y="340"/>
                </a:lnTo>
                <a:lnTo>
                  <a:pt x="552" y="299"/>
                </a:lnTo>
                <a:lnTo>
                  <a:pt x="562" y="259"/>
                </a:lnTo>
                <a:lnTo>
                  <a:pt x="569" y="217"/>
                </a:lnTo>
                <a:lnTo>
                  <a:pt x="575" y="175"/>
                </a:lnTo>
                <a:lnTo>
                  <a:pt x="581" y="133"/>
                </a:lnTo>
                <a:lnTo>
                  <a:pt x="585" y="88"/>
                </a:lnTo>
                <a:lnTo>
                  <a:pt x="587" y="44"/>
                </a:lnTo>
                <a:lnTo>
                  <a:pt x="589" y="0"/>
                </a:lnTo>
                <a:lnTo>
                  <a:pt x="575" y="0"/>
                </a:lnTo>
                <a:lnTo>
                  <a:pt x="575" y="44"/>
                </a:lnTo>
                <a:lnTo>
                  <a:pt x="573" y="88"/>
                </a:lnTo>
                <a:lnTo>
                  <a:pt x="569" y="131"/>
                </a:lnTo>
                <a:lnTo>
                  <a:pt x="564" y="173"/>
                </a:lnTo>
                <a:lnTo>
                  <a:pt x="558" y="215"/>
                </a:lnTo>
                <a:lnTo>
                  <a:pt x="550" y="257"/>
                </a:lnTo>
                <a:lnTo>
                  <a:pt x="541" y="296"/>
                </a:lnTo>
                <a:lnTo>
                  <a:pt x="531" y="336"/>
                </a:lnTo>
                <a:lnTo>
                  <a:pt x="518" y="374"/>
                </a:lnTo>
                <a:lnTo>
                  <a:pt x="506" y="411"/>
                </a:lnTo>
                <a:lnTo>
                  <a:pt x="491" y="447"/>
                </a:lnTo>
                <a:lnTo>
                  <a:pt x="477" y="482"/>
                </a:lnTo>
                <a:lnTo>
                  <a:pt x="460" y="516"/>
                </a:lnTo>
                <a:lnTo>
                  <a:pt x="443" y="549"/>
                </a:lnTo>
                <a:lnTo>
                  <a:pt x="425" y="580"/>
                </a:lnTo>
                <a:lnTo>
                  <a:pt x="406" y="610"/>
                </a:lnTo>
                <a:lnTo>
                  <a:pt x="385" y="639"/>
                </a:lnTo>
                <a:lnTo>
                  <a:pt x="364" y="666"/>
                </a:lnTo>
                <a:lnTo>
                  <a:pt x="343" y="691"/>
                </a:lnTo>
                <a:lnTo>
                  <a:pt x="320" y="716"/>
                </a:lnTo>
                <a:lnTo>
                  <a:pt x="297" y="737"/>
                </a:lnTo>
                <a:lnTo>
                  <a:pt x="272" y="758"/>
                </a:lnTo>
                <a:lnTo>
                  <a:pt x="247" y="777"/>
                </a:lnTo>
                <a:lnTo>
                  <a:pt x="222" y="795"/>
                </a:lnTo>
                <a:lnTo>
                  <a:pt x="195" y="810"/>
                </a:lnTo>
                <a:lnTo>
                  <a:pt x="170" y="823"/>
                </a:lnTo>
                <a:lnTo>
                  <a:pt x="141" y="835"/>
                </a:lnTo>
                <a:lnTo>
                  <a:pt x="115" y="844"/>
                </a:lnTo>
                <a:lnTo>
                  <a:pt x="86" y="852"/>
                </a:lnTo>
                <a:lnTo>
                  <a:pt x="57" y="858"/>
                </a:lnTo>
                <a:lnTo>
                  <a:pt x="28" y="862"/>
                </a:lnTo>
                <a:lnTo>
                  <a:pt x="0" y="862"/>
                </a:lnTo>
                <a:lnTo>
                  <a:pt x="0" y="8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Freeform 22"/>
          <p:cNvSpPr/>
          <p:nvPr/>
        </p:nvSpPr>
        <p:spPr>
          <a:xfrm>
            <a:off x="4338720" y="3251160"/>
            <a:ext cx="936720" cy="1389240"/>
          </a:xfrm>
          <a:custGeom>
            <a:avLst/>
            <a:gdLst>
              <a:gd name="textAreaLeft" fmla="*/ 0 w 936720"/>
              <a:gd name="textAreaRight" fmla="*/ 937080 w 93672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590" h="875">
                <a:moveTo>
                  <a:pt x="0" y="0"/>
                </a:moveTo>
                <a:lnTo>
                  <a:pt x="0" y="44"/>
                </a:lnTo>
                <a:lnTo>
                  <a:pt x="2" y="88"/>
                </a:lnTo>
                <a:lnTo>
                  <a:pt x="6" y="133"/>
                </a:lnTo>
                <a:lnTo>
                  <a:pt x="12" y="175"/>
                </a:lnTo>
                <a:lnTo>
                  <a:pt x="18" y="217"/>
                </a:lnTo>
                <a:lnTo>
                  <a:pt x="27" y="259"/>
                </a:lnTo>
                <a:lnTo>
                  <a:pt x="35" y="299"/>
                </a:lnTo>
                <a:lnTo>
                  <a:pt x="46" y="340"/>
                </a:lnTo>
                <a:lnTo>
                  <a:pt x="58" y="378"/>
                </a:lnTo>
                <a:lnTo>
                  <a:pt x="71" y="415"/>
                </a:lnTo>
                <a:lnTo>
                  <a:pt x="85" y="451"/>
                </a:lnTo>
                <a:lnTo>
                  <a:pt x="100" y="488"/>
                </a:lnTo>
                <a:lnTo>
                  <a:pt x="117" y="522"/>
                </a:lnTo>
                <a:lnTo>
                  <a:pt x="135" y="555"/>
                </a:lnTo>
                <a:lnTo>
                  <a:pt x="152" y="587"/>
                </a:lnTo>
                <a:lnTo>
                  <a:pt x="173" y="616"/>
                </a:lnTo>
                <a:lnTo>
                  <a:pt x="192" y="645"/>
                </a:lnTo>
                <a:lnTo>
                  <a:pt x="213" y="674"/>
                </a:lnTo>
                <a:lnTo>
                  <a:pt x="236" y="699"/>
                </a:lnTo>
                <a:lnTo>
                  <a:pt x="259" y="724"/>
                </a:lnTo>
                <a:lnTo>
                  <a:pt x="282" y="747"/>
                </a:lnTo>
                <a:lnTo>
                  <a:pt x="307" y="768"/>
                </a:lnTo>
                <a:lnTo>
                  <a:pt x="332" y="787"/>
                </a:lnTo>
                <a:lnTo>
                  <a:pt x="359" y="804"/>
                </a:lnTo>
                <a:lnTo>
                  <a:pt x="386" y="821"/>
                </a:lnTo>
                <a:lnTo>
                  <a:pt x="413" y="835"/>
                </a:lnTo>
                <a:lnTo>
                  <a:pt x="442" y="846"/>
                </a:lnTo>
                <a:lnTo>
                  <a:pt x="471" y="856"/>
                </a:lnTo>
                <a:lnTo>
                  <a:pt x="499" y="864"/>
                </a:lnTo>
                <a:lnTo>
                  <a:pt x="528" y="869"/>
                </a:lnTo>
                <a:lnTo>
                  <a:pt x="559" y="873"/>
                </a:lnTo>
                <a:lnTo>
                  <a:pt x="590" y="875"/>
                </a:lnTo>
                <a:lnTo>
                  <a:pt x="590" y="862"/>
                </a:lnTo>
                <a:lnTo>
                  <a:pt x="559" y="862"/>
                </a:lnTo>
                <a:lnTo>
                  <a:pt x="530" y="858"/>
                </a:lnTo>
                <a:lnTo>
                  <a:pt x="501" y="852"/>
                </a:lnTo>
                <a:lnTo>
                  <a:pt x="474" y="844"/>
                </a:lnTo>
                <a:lnTo>
                  <a:pt x="446" y="835"/>
                </a:lnTo>
                <a:lnTo>
                  <a:pt x="419" y="823"/>
                </a:lnTo>
                <a:lnTo>
                  <a:pt x="392" y="810"/>
                </a:lnTo>
                <a:lnTo>
                  <a:pt x="365" y="795"/>
                </a:lnTo>
                <a:lnTo>
                  <a:pt x="340" y="777"/>
                </a:lnTo>
                <a:lnTo>
                  <a:pt x="315" y="758"/>
                </a:lnTo>
                <a:lnTo>
                  <a:pt x="292" y="737"/>
                </a:lnTo>
                <a:lnTo>
                  <a:pt x="267" y="716"/>
                </a:lnTo>
                <a:lnTo>
                  <a:pt x="246" y="691"/>
                </a:lnTo>
                <a:lnTo>
                  <a:pt x="223" y="666"/>
                </a:lnTo>
                <a:lnTo>
                  <a:pt x="202" y="639"/>
                </a:lnTo>
                <a:lnTo>
                  <a:pt x="183" y="610"/>
                </a:lnTo>
                <a:lnTo>
                  <a:pt x="164" y="580"/>
                </a:lnTo>
                <a:lnTo>
                  <a:pt x="144" y="549"/>
                </a:lnTo>
                <a:lnTo>
                  <a:pt x="127" y="516"/>
                </a:lnTo>
                <a:lnTo>
                  <a:pt x="112" y="482"/>
                </a:lnTo>
                <a:lnTo>
                  <a:pt x="96" y="447"/>
                </a:lnTo>
                <a:lnTo>
                  <a:pt x="83" y="411"/>
                </a:lnTo>
                <a:lnTo>
                  <a:pt x="69" y="374"/>
                </a:lnTo>
                <a:lnTo>
                  <a:pt x="58" y="336"/>
                </a:lnTo>
                <a:lnTo>
                  <a:pt x="48" y="296"/>
                </a:lnTo>
                <a:lnTo>
                  <a:pt x="39" y="257"/>
                </a:lnTo>
                <a:lnTo>
                  <a:pt x="31" y="215"/>
                </a:lnTo>
                <a:lnTo>
                  <a:pt x="23" y="173"/>
                </a:lnTo>
                <a:lnTo>
                  <a:pt x="20" y="131"/>
                </a:lnTo>
                <a:lnTo>
                  <a:pt x="16" y="88"/>
                </a:lnTo>
                <a:lnTo>
                  <a:pt x="14" y="44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Freeform 23"/>
          <p:cNvSpPr/>
          <p:nvPr/>
        </p:nvSpPr>
        <p:spPr>
          <a:xfrm>
            <a:off x="4338720" y="1862280"/>
            <a:ext cx="936720" cy="13888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88880"/>
              <a:gd name="textAreaBottom" fmla="*/ 1389240 h 1388880"/>
            </a:gdLst>
            <a:ahLst/>
            <a:rect l="textAreaLeft" t="textAreaTop" r="textAreaRight" b="textAreaBottom"/>
            <a:pathLst>
              <a:path w="590" h="875">
                <a:moveTo>
                  <a:pt x="590" y="0"/>
                </a:moveTo>
                <a:lnTo>
                  <a:pt x="559" y="2"/>
                </a:lnTo>
                <a:lnTo>
                  <a:pt x="528" y="6"/>
                </a:lnTo>
                <a:lnTo>
                  <a:pt x="499" y="10"/>
                </a:lnTo>
                <a:lnTo>
                  <a:pt x="471" y="19"/>
                </a:lnTo>
                <a:lnTo>
                  <a:pt x="442" y="29"/>
                </a:lnTo>
                <a:lnTo>
                  <a:pt x="413" y="41"/>
                </a:lnTo>
                <a:lnTo>
                  <a:pt x="386" y="54"/>
                </a:lnTo>
                <a:lnTo>
                  <a:pt x="359" y="69"/>
                </a:lnTo>
                <a:lnTo>
                  <a:pt x="332" y="89"/>
                </a:lnTo>
                <a:lnTo>
                  <a:pt x="307" y="108"/>
                </a:lnTo>
                <a:lnTo>
                  <a:pt x="282" y="129"/>
                </a:lnTo>
                <a:lnTo>
                  <a:pt x="259" y="152"/>
                </a:lnTo>
                <a:lnTo>
                  <a:pt x="236" y="175"/>
                </a:lnTo>
                <a:lnTo>
                  <a:pt x="213" y="202"/>
                </a:lnTo>
                <a:lnTo>
                  <a:pt x="192" y="229"/>
                </a:lnTo>
                <a:lnTo>
                  <a:pt x="173" y="257"/>
                </a:lnTo>
                <a:lnTo>
                  <a:pt x="152" y="288"/>
                </a:lnTo>
                <a:lnTo>
                  <a:pt x="135" y="321"/>
                </a:lnTo>
                <a:lnTo>
                  <a:pt x="117" y="353"/>
                </a:lnTo>
                <a:lnTo>
                  <a:pt x="100" y="388"/>
                </a:lnTo>
                <a:lnTo>
                  <a:pt x="85" y="422"/>
                </a:lnTo>
                <a:lnTo>
                  <a:pt x="71" y="459"/>
                </a:lnTo>
                <a:lnTo>
                  <a:pt x="58" y="497"/>
                </a:lnTo>
                <a:lnTo>
                  <a:pt x="46" y="536"/>
                </a:lnTo>
                <a:lnTo>
                  <a:pt x="35" y="576"/>
                </a:lnTo>
                <a:lnTo>
                  <a:pt x="27" y="616"/>
                </a:lnTo>
                <a:lnTo>
                  <a:pt x="18" y="656"/>
                </a:lnTo>
                <a:lnTo>
                  <a:pt x="12" y="699"/>
                </a:lnTo>
                <a:lnTo>
                  <a:pt x="6" y="743"/>
                </a:lnTo>
                <a:lnTo>
                  <a:pt x="2" y="787"/>
                </a:lnTo>
                <a:lnTo>
                  <a:pt x="0" y="831"/>
                </a:lnTo>
                <a:lnTo>
                  <a:pt x="0" y="875"/>
                </a:lnTo>
                <a:lnTo>
                  <a:pt x="12" y="875"/>
                </a:lnTo>
                <a:lnTo>
                  <a:pt x="14" y="831"/>
                </a:lnTo>
                <a:lnTo>
                  <a:pt x="16" y="787"/>
                </a:lnTo>
                <a:lnTo>
                  <a:pt x="20" y="743"/>
                </a:lnTo>
                <a:lnTo>
                  <a:pt x="23" y="701"/>
                </a:lnTo>
                <a:lnTo>
                  <a:pt x="31" y="660"/>
                </a:lnTo>
                <a:lnTo>
                  <a:pt x="39" y="618"/>
                </a:lnTo>
                <a:lnTo>
                  <a:pt x="48" y="578"/>
                </a:lnTo>
                <a:lnTo>
                  <a:pt x="58" y="539"/>
                </a:lnTo>
                <a:lnTo>
                  <a:pt x="69" y="501"/>
                </a:lnTo>
                <a:lnTo>
                  <a:pt x="83" y="465"/>
                </a:lnTo>
                <a:lnTo>
                  <a:pt x="96" y="428"/>
                </a:lnTo>
                <a:lnTo>
                  <a:pt x="112" y="392"/>
                </a:lnTo>
                <a:lnTo>
                  <a:pt x="127" y="359"/>
                </a:lnTo>
                <a:lnTo>
                  <a:pt x="144" y="326"/>
                </a:lnTo>
                <a:lnTo>
                  <a:pt x="164" y="296"/>
                </a:lnTo>
                <a:lnTo>
                  <a:pt x="183" y="265"/>
                </a:lnTo>
                <a:lnTo>
                  <a:pt x="202" y="236"/>
                </a:lnTo>
                <a:lnTo>
                  <a:pt x="223" y="209"/>
                </a:lnTo>
                <a:lnTo>
                  <a:pt x="246" y="184"/>
                </a:lnTo>
                <a:lnTo>
                  <a:pt x="267" y="160"/>
                </a:lnTo>
                <a:lnTo>
                  <a:pt x="292" y="136"/>
                </a:lnTo>
                <a:lnTo>
                  <a:pt x="315" y="117"/>
                </a:lnTo>
                <a:lnTo>
                  <a:pt x="340" y="98"/>
                </a:lnTo>
                <a:lnTo>
                  <a:pt x="365" y="81"/>
                </a:lnTo>
                <a:lnTo>
                  <a:pt x="392" y="65"/>
                </a:lnTo>
                <a:lnTo>
                  <a:pt x="419" y="52"/>
                </a:lnTo>
                <a:lnTo>
                  <a:pt x="446" y="41"/>
                </a:lnTo>
                <a:lnTo>
                  <a:pt x="474" y="31"/>
                </a:lnTo>
                <a:lnTo>
                  <a:pt x="501" y="23"/>
                </a:lnTo>
                <a:lnTo>
                  <a:pt x="530" y="18"/>
                </a:lnTo>
                <a:lnTo>
                  <a:pt x="559" y="14"/>
                </a:lnTo>
                <a:lnTo>
                  <a:pt x="590" y="12"/>
                </a:lnTo>
                <a:lnTo>
                  <a:pt x="5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24"/>
          <p:cNvSpPr/>
          <p:nvPr/>
        </p:nvSpPr>
        <p:spPr>
          <a:xfrm>
            <a:off x="6654960" y="2136600"/>
            <a:ext cx="706320" cy="878040"/>
          </a:xfrm>
          <a:custGeom>
            <a:avLst/>
            <a:gdLst>
              <a:gd name="textAreaLeft" fmla="*/ 0 w 706320"/>
              <a:gd name="textAreaRight" fmla="*/ 706320 w 706320"/>
              <a:gd name="textAreaTop" fmla="*/ 0 h 878040"/>
              <a:gd name="textAreaBottom" fmla="*/ 878400 h 878040"/>
            </a:gdLst>
            <a:ahLst/>
            <a:rect l="textAreaLeft" t="textAreaTop" r="textAreaRight" b="textAreaBottom"/>
            <a:pathLst>
              <a:path w="445" h="553">
                <a:moveTo>
                  <a:pt x="7" y="547"/>
                </a:moveTo>
                <a:lnTo>
                  <a:pt x="13" y="553"/>
                </a:lnTo>
                <a:lnTo>
                  <a:pt x="445" y="10"/>
                </a:lnTo>
                <a:lnTo>
                  <a:pt x="432" y="0"/>
                </a:lnTo>
                <a:lnTo>
                  <a:pt x="0" y="543"/>
                </a:lnTo>
                <a:lnTo>
                  <a:pt x="7" y="54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25"/>
          <p:cNvSpPr/>
          <p:nvPr/>
        </p:nvSpPr>
        <p:spPr>
          <a:xfrm>
            <a:off x="6566040" y="2901960"/>
            <a:ext cx="215640" cy="227160"/>
          </a:xfrm>
          <a:custGeom>
            <a:avLst/>
            <a:gdLst>
              <a:gd name="textAreaLeft" fmla="*/ 0 w 215640"/>
              <a:gd name="textAreaRight" fmla="*/ 216000 w 215640"/>
              <a:gd name="textAreaTop" fmla="*/ 0 h 227160"/>
              <a:gd name="textAreaBottom" fmla="*/ 227160 h 227160"/>
            </a:gdLst>
            <a:ahLst/>
            <a:rect l="textAreaLeft" t="textAreaTop" r="textAreaRight" b="textAreaBottom"/>
            <a:pathLst>
              <a:path w="136" h="143">
                <a:moveTo>
                  <a:pt x="0" y="143"/>
                </a:moveTo>
                <a:lnTo>
                  <a:pt x="136" y="92"/>
                </a:lnTo>
                <a:lnTo>
                  <a:pt x="19" y="0"/>
                </a:lnTo>
                <a:lnTo>
                  <a:pt x="0" y="14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26"/>
          <p:cNvSpPr/>
          <p:nvPr/>
        </p:nvSpPr>
        <p:spPr>
          <a:xfrm>
            <a:off x="7324560" y="2757600"/>
            <a:ext cx="319320" cy="380880"/>
          </a:xfrm>
          <a:custGeom>
            <a:avLst/>
            <a:gdLst>
              <a:gd name="textAreaLeft" fmla="*/ 0 w 319320"/>
              <a:gd name="textAreaRight" fmla="*/ 319680 w 3193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01" h="240">
                <a:moveTo>
                  <a:pt x="6" y="234"/>
                </a:moveTo>
                <a:lnTo>
                  <a:pt x="11" y="240"/>
                </a:lnTo>
                <a:lnTo>
                  <a:pt x="201" y="10"/>
                </a:lnTo>
                <a:lnTo>
                  <a:pt x="190" y="0"/>
                </a:lnTo>
                <a:lnTo>
                  <a:pt x="0" y="229"/>
                </a:lnTo>
                <a:lnTo>
                  <a:pt x="6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Freeform 27"/>
          <p:cNvSpPr/>
          <p:nvPr/>
        </p:nvSpPr>
        <p:spPr>
          <a:xfrm>
            <a:off x="7229520" y="3022560"/>
            <a:ext cx="220680" cy="2286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39" h="144">
                <a:moveTo>
                  <a:pt x="2" y="144"/>
                </a:moveTo>
                <a:lnTo>
                  <a:pt x="0" y="144"/>
                </a:lnTo>
                <a:lnTo>
                  <a:pt x="139" y="96"/>
                </a:lnTo>
                <a:lnTo>
                  <a:pt x="23" y="0"/>
                </a:lnTo>
                <a:lnTo>
                  <a:pt x="0" y="144"/>
                </a:lnTo>
                <a:lnTo>
                  <a:pt x="2" y="14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Freeform 28"/>
          <p:cNvSpPr/>
          <p:nvPr/>
        </p:nvSpPr>
        <p:spPr>
          <a:xfrm>
            <a:off x="5389560" y="988920"/>
            <a:ext cx="463680" cy="557280"/>
          </a:xfrm>
          <a:custGeom>
            <a:avLst/>
            <a:gdLst>
              <a:gd name="textAreaLeft" fmla="*/ 0 w 463680"/>
              <a:gd name="textAreaRight" fmla="*/ 464040 w 4636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92" h="351">
                <a:moveTo>
                  <a:pt x="6" y="345"/>
                </a:moveTo>
                <a:lnTo>
                  <a:pt x="12" y="351"/>
                </a:lnTo>
                <a:lnTo>
                  <a:pt x="292" y="9"/>
                </a:lnTo>
                <a:lnTo>
                  <a:pt x="279" y="0"/>
                </a:lnTo>
                <a:lnTo>
                  <a:pt x="0" y="341"/>
                </a:lnTo>
                <a:lnTo>
                  <a:pt x="6" y="34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Freeform 29"/>
          <p:cNvSpPr/>
          <p:nvPr/>
        </p:nvSpPr>
        <p:spPr>
          <a:xfrm>
            <a:off x="5299200" y="1430280"/>
            <a:ext cx="215640" cy="231840"/>
          </a:xfrm>
          <a:custGeom>
            <a:avLst/>
            <a:gdLst>
              <a:gd name="textAreaLeft" fmla="*/ 0 w 215640"/>
              <a:gd name="textAreaRight" fmla="*/ 216000 w 2156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36" h="146">
                <a:moveTo>
                  <a:pt x="0" y="146"/>
                </a:moveTo>
                <a:lnTo>
                  <a:pt x="0" y="144"/>
                </a:lnTo>
                <a:lnTo>
                  <a:pt x="136" y="96"/>
                </a:lnTo>
                <a:lnTo>
                  <a:pt x="21" y="0"/>
                </a:lnTo>
                <a:lnTo>
                  <a:pt x="0" y="144"/>
                </a:lnTo>
                <a:lnTo>
                  <a:pt x="0" y="14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Freeform 30"/>
          <p:cNvSpPr/>
          <p:nvPr/>
        </p:nvSpPr>
        <p:spPr>
          <a:xfrm>
            <a:off x="5240160" y="992160"/>
            <a:ext cx="28800" cy="285840"/>
          </a:xfrm>
          <a:custGeom>
            <a:avLst/>
            <a:gdLst>
              <a:gd name="textAreaLeft" fmla="*/ 0 w 28800"/>
              <a:gd name="textAreaRight" fmla="*/ 29160 w 2880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8" h="180">
                <a:moveTo>
                  <a:pt x="8" y="180"/>
                </a:moveTo>
                <a:lnTo>
                  <a:pt x="18" y="180"/>
                </a:lnTo>
                <a:lnTo>
                  <a:pt x="18" y="0"/>
                </a:lnTo>
                <a:lnTo>
                  <a:pt x="0" y="0"/>
                </a:lnTo>
                <a:lnTo>
                  <a:pt x="0" y="180"/>
                </a:lnTo>
                <a:lnTo>
                  <a:pt x="8" y="18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Freeform 31"/>
          <p:cNvSpPr/>
          <p:nvPr/>
        </p:nvSpPr>
        <p:spPr>
          <a:xfrm>
            <a:off x="5133960" y="1238400"/>
            <a:ext cx="238320" cy="198360"/>
          </a:xfrm>
          <a:custGeom>
            <a:avLst/>
            <a:gdLst>
              <a:gd name="textAreaLeft" fmla="*/ 0 w 238320"/>
              <a:gd name="textAreaRight" fmla="*/ 238680 w 2383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50" h="125">
                <a:moveTo>
                  <a:pt x="75" y="125"/>
                </a:moveTo>
                <a:lnTo>
                  <a:pt x="150" y="0"/>
                </a:lnTo>
                <a:lnTo>
                  <a:pt x="0" y="0"/>
                </a:lnTo>
                <a:lnTo>
                  <a:pt x="75" y="12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Freeform 32"/>
          <p:cNvSpPr/>
          <p:nvPr/>
        </p:nvSpPr>
        <p:spPr>
          <a:xfrm>
            <a:off x="2905200" y="3224160"/>
            <a:ext cx="681120" cy="23760"/>
          </a:xfrm>
          <a:custGeom>
            <a:avLst/>
            <a:gdLst>
              <a:gd name="textAreaLeft" fmla="*/ 0 w 681120"/>
              <a:gd name="textAreaRight" fmla="*/ 681480 w 6811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29" h="15">
                <a:moveTo>
                  <a:pt x="429" y="8"/>
                </a:moveTo>
                <a:lnTo>
                  <a:pt x="429" y="0"/>
                </a:lnTo>
                <a:lnTo>
                  <a:pt x="0" y="0"/>
                </a:lnTo>
                <a:lnTo>
                  <a:pt x="0" y="15"/>
                </a:lnTo>
                <a:lnTo>
                  <a:pt x="429" y="15"/>
                </a:lnTo>
                <a:lnTo>
                  <a:pt x="429" y="8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Freeform 33"/>
          <p:cNvSpPr/>
          <p:nvPr/>
        </p:nvSpPr>
        <p:spPr>
          <a:xfrm>
            <a:off x="3546360" y="3117960"/>
            <a:ext cx="201600" cy="236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7" h="149">
                <a:moveTo>
                  <a:pt x="127" y="75"/>
                </a:moveTo>
                <a:lnTo>
                  <a:pt x="0" y="0"/>
                </a:lnTo>
                <a:lnTo>
                  <a:pt x="0" y="149"/>
                </a:lnTo>
                <a:lnTo>
                  <a:pt x="127" y="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Freeform 34"/>
          <p:cNvSpPr/>
          <p:nvPr/>
        </p:nvSpPr>
        <p:spPr>
          <a:xfrm>
            <a:off x="5286240" y="4998960"/>
            <a:ext cx="25560" cy="490680"/>
          </a:xfrm>
          <a:custGeom>
            <a:avLst/>
            <a:gdLst>
              <a:gd name="textAreaLeft" fmla="*/ 0 w 25560"/>
              <a:gd name="textAreaRight" fmla="*/ 25920 w 2556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16" h="309">
                <a:moveTo>
                  <a:pt x="8" y="0"/>
                </a:moveTo>
                <a:lnTo>
                  <a:pt x="0" y="0"/>
                </a:lnTo>
                <a:lnTo>
                  <a:pt x="0" y="309"/>
                </a:lnTo>
                <a:lnTo>
                  <a:pt x="16" y="309"/>
                </a:lnTo>
                <a:lnTo>
                  <a:pt x="16" y="0"/>
                </a:lnTo>
                <a:lnTo>
                  <a:pt x="8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Freeform 35"/>
          <p:cNvSpPr/>
          <p:nvPr/>
        </p:nvSpPr>
        <p:spPr>
          <a:xfrm>
            <a:off x="5180040" y="4842000"/>
            <a:ext cx="241200" cy="196560"/>
          </a:xfrm>
          <a:custGeom>
            <a:avLst/>
            <a:gdLst>
              <a:gd name="textAreaLeft" fmla="*/ 0 w 241200"/>
              <a:gd name="textAreaRight" fmla="*/ 241560 w 24120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152" h="124">
                <a:moveTo>
                  <a:pt x="75" y="0"/>
                </a:moveTo>
                <a:lnTo>
                  <a:pt x="0" y="124"/>
                </a:lnTo>
                <a:lnTo>
                  <a:pt x="152" y="124"/>
                </a:lnTo>
                <a:lnTo>
                  <a:pt x="75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36"/>
          <p:cNvSpPr/>
          <p:nvPr/>
        </p:nvSpPr>
        <p:spPr>
          <a:xfrm>
            <a:off x="4880880" y="584280"/>
            <a:ext cx="750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.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37"/>
          <p:cNvSpPr/>
          <p:nvPr/>
        </p:nvSpPr>
        <p:spPr>
          <a:xfrm>
            <a:off x="5792760" y="584280"/>
            <a:ext cx="642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.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38"/>
          <p:cNvSpPr/>
          <p:nvPr/>
        </p:nvSpPr>
        <p:spPr>
          <a:xfrm>
            <a:off x="7337520" y="1854360"/>
            <a:ext cx="642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39"/>
          <p:cNvSpPr/>
          <p:nvPr/>
        </p:nvSpPr>
        <p:spPr>
          <a:xfrm>
            <a:off x="7467480" y="2503440"/>
            <a:ext cx="1032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40"/>
          <p:cNvSpPr/>
          <p:nvPr/>
        </p:nvSpPr>
        <p:spPr>
          <a:xfrm>
            <a:off x="3024360" y="5533920"/>
            <a:ext cx="4740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vas secundárias e periféricas mais cu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41"/>
          <p:cNvSpPr/>
          <p:nvPr/>
        </p:nvSpPr>
        <p:spPr>
          <a:xfrm>
            <a:off x="404640" y="2733840"/>
            <a:ext cx="301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vas secundárias e periféricas mais pl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770040" y="255240"/>
            <a:ext cx="874368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ÓRICA PERIFÉ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705960" y="1258920"/>
            <a:ext cx="9075960" cy="5384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lhor centralização das lent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duzido toque desigual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evine a formação de bolhas periféric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Rectangle 8"/>
          <p:cNvSpPr/>
          <p:nvPr/>
        </p:nvSpPr>
        <p:spPr>
          <a:xfrm>
            <a:off x="712800" y="1038240"/>
            <a:ext cx="874404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ARACTERÍSTICA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856800" y="0"/>
            <a:ext cx="8744040" cy="650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FABRIC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329760" y="787320"/>
            <a:ext cx="9418680" cy="574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cedimento mais comum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rtar e polir um raio esférico em um mol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serir o molde em um torn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cortar a lente com um raio esféric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lir as lent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ecar parâmetr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856800" y="303120"/>
            <a:ext cx="8744040" cy="565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FABRIC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1287000" y="1576080"/>
            <a:ext cx="8029800" cy="3516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m prisma pode ser gerado pelo acabamento da superfície posterior e depois cortando e polindo a superfície anterior com seu eixo em um ângulo ao plano da superfície pos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" y="267840"/>
            <a:ext cx="9869400" cy="43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FORÇAS QUE AFETAM A ORIENTAÇÃO DAS LENTE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2520" y="933120"/>
            <a:ext cx="8568000" cy="5342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rque da pálpebr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ravida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ensão superficial do filme lacrim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lação lente-córne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ensão Palpeb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sição Palpeb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325080"/>
            <a:ext cx="8744040" cy="392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UPERFÍCIE ANTERIOR TÓ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87160" y="1130400"/>
            <a:ext cx="5800680" cy="503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erfície posterior esféric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sma de base inferi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erfície anterior cilíndric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senho circul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senho truncad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2040" y="387360"/>
            <a:ext cx="9894960" cy="46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UPERFÍCIE POSTERIOR ESFÉ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2240" y="1063440"/>
            <a:ext cx="8048880" cy="5314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eçar com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Zona óptica em torno de 7.70 m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 total por volta de 9.20 m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icurv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4600" y="399600"/>
            <a:ext cx="8167680" cy="46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PRISMA DE BASE INF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840" y="1000080"/>
            <a:ext cx="8929440" cy="4749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rientação meridion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quer 1 - 1.75 dioptrias prismátic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ermite diferencial espessura/pes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salinhamento nasal entre 10 - 15 grau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3514680" y="60310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514680" y="60310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66960" y="239760"/>
            <a:ext cx="8339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OLHO DIREIT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2131920" y="1073160"/>
            <a:ext cx="5878440" cy="5110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6838200" y="1015920"/>
            <a:ext cx="2693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ÁLPEBRA SUP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7975080" y="2255760"/>
            <a:ext cx="1169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Ó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7224480" y="3121200"/>
            <a:ext cx="1082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6988320" y="5156280"/>
            <a:ext cx="2593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ÁLPEBRA INF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6158880" y="5889600"/>
            <a:ext cx="2520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SMA BASE A 28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7680" y="230040"/>
            <a:ext cx="8167680" cy="379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PRISMA DE BASE INF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5520" y="972720"/>
            <a:ext cx="7424640" cy="4808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tendência da lente em girar com a piscagem é contrariada pelo diferencial de espessura das lent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base do prisma,  mais pesada, ajuda a manter a orientação meridional da correção cilíndr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5T01:34:08Z</dcterms:created>
  <dc:creator>Bbro</dc:creator>
  <dc:description>Any questions, contact Graphics on x331</dc:description>
  <cp:keywords/>
  <dc:language>en-US</dc:language>
  <cp:lastModifiedBy>Siobhan</cp:lastModifiedBy>
  <cp:lastPrinted>1998-09-05T05:14:48Z</cp:lastPrinted>
  <dcterms:modified xsi:type="dcterms:W3CDTF">2013-02-20T03:00:05Z</dcterms:modified>
  <cp:revision>118</cp:revision>
  <dc:subject/>
  <dc:title>No Slide Title</dc:title>
</cp:coreProperties>
</file>