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</p:sldIdLst>
  <p:sldSz cx="10288588" cy="6858000"/>
  <p:notesSz cx="6386513" cy="9817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386400" cy="981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9000"/>
            <a:ext cx="2766960" cy="4590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3619440" y="9000"/>
            <a:ext cx="2766960" cy="4590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2C937-FF16-4C42-812C-952D986D7D1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Img"/>
          </p:nvPr>
        </p:nvSpPr>
        <p:spPr>
          <a:xfrm>
            <a:off x="620280" y="858600"/>
            <a:ext cx="5146920" cy="343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1253A-EE5F-42C3-853D-BE7F4E3B616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1377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30606-A8FB-437A-9EE1-8A8660B8AB0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7A601-74AC-49E8-ACB9-2DFB9740F87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1399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151A9-D1DD-47D6-A012-30C05725306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1410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9420E-37AE-47C3-8FA8-7EB4E673B21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4EFA6-97B6-4603-A65A-F0E3C53A620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1432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A6F1B-6E32-4C10-BF08-2075FAA99BD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1443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294F3-C098-4FAE-83DE-97DCCA837C2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714BB-6091-4415-BE5C-7D59CECD5D8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1465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196AF-2342-4198-A2CB-337041B8CDB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1476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56044-E390-4BCE-A0AB-FD54605F2EB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7B1D8-0ACE-48A0-A581-B00BF72BE76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796B6-433F-44D3-B265-3DD53CD606B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1498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DCCD3-0D14-49CC-A10A-3BB3819ADFC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1509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22F8C-2AAC-411B-912C-2981ED28B5D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FE136-AB6F-4DD0-B5B5-91B39B5521B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1531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256B3-687F-44CA-9BFA-5CC8B691EDA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1542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70E7E-F9E5-44A8-8EB6-0DF0EDF8C47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95D9A-545A-4E9F-BC41-348131567DB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1564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D2827-D591-4994-8036-B54B11D7649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1575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04BD2-A502-4E60-8520-42A25E9FDA7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82C24-B4C5-406F-8A26-710EC8D3812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1300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793C0-2773-4EAE-9A46-ED41B12368D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1597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B58BD-AA25-43CF-822C-CE3D481FCCE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1608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E7200-D8B8-4025-AF27-FCDCB0CD0F6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C2F58-6B35-4E49-B4D9-57361DEE450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1630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67177-BA96-4E3E-9BDB-151BC0C4DF4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1641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D93F4-3B66-42DE-96D1-CD4119B9728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4628F-D53A-4FCE-9657-E2576A6A75A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1663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5DE63-480A-4794-9C6C-B3D898C4AC9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1674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FD258-4E34-49D0-BC3D-19E1EEC7B99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2625E-F121-4248-8FA0-938FFB09132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1696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77AB7-C1EA-4F2A-A066-404FFA3A486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1311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E676C-1057-4D36-A0D6-E01EE30A5DA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1707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B8BA8-B759-432B-92E6-E19E9909500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05EA5-6D37-44B9-8956-0191D1738A2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1729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63FBE-B5AD-4CF7-966E-1A5F3B0E123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1740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B3DFE-03D5-4813-A4E1-0B2F91DA4E5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3F77A-4E2C-478A-8DB6-84BCE53F416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1762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F0FB8-033C-40BE-849D-EA64965B5EA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1773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DBB27-EAFE-4D9D-BCB1-82503FD0DD3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1784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0596E-7FF4-4FF2-B56A-A61FABCF3E4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1795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74509-7D1A-44A4-9803-84052B7B4E6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1806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BAABC-C442-46DB-B128-E7218F0EC27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3E5A5-6012-4ACA-B917-284379E7AB4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1817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F242E-30AA-4800-B77F-572FD06E6BF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1828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BD217-F458-4C15-860B-F8C982CF19F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1839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02C86-376E-4E6E-9D05-95C09DB2EE1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1850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A3C94-DF34-4ABD-97C6-07E22BE6BF8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1861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D5046-3BF6-45D6-9261-1DF9C8C2A8C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1872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A09C1-282A-4A09-B0B8-8E31DCF4BD1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1883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D47AA-1D99-4BA4-B565-369079D673E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1894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158C1-C4AE-47E9-9321-5457CEC2701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1905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1FAEA-2E64-45E2-A2BF-FDEE5C07D99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1916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130D0-4104-4ABB-A032-CCE139A7FC4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E0EC7-5972-435D-A9FF-2D15EEE5517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1927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462A3-4CAC-439F-97FD-F762FF701E0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1938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BC4E1-4D4D-41B1-B8BB-67C262EB70D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1949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D3EC9-292B-497D-9C42-9FA7DD08C0C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1960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8619E-FF80-4CD5-8162-308A1DC65B5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1971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17921-C946-4A71-A293-AF4CD930682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1982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B3B27-8372-4D63-A17F-18D21F26CCA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1993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70B55-2863-4A96-97D4-815C8C0038E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475A5-4738-431F-86FE-EA820E67527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E83D7-5855-4273-94F5-B75D1D2CD06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026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CC3A0-5572-40F4-8A76-226DE272F87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1344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64320-9B6E-4E4A-89BA-C8056633962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037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689A7-93DC-46EE-A5F1-E7AB7E368B3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482E0-5D80-496A-B5FC-5896E51F676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059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CD7C0-801D-4FCB-A1CB-FCE758EB747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070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77E4C-93C9-47FB-9E84-63CFF725A54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19BA7-68B0-4A66-9F05-6BDEF0D7168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092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A8595-1A71-4A20-ACFE-FC16C377FF8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103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590C1-3D03-4E47-8AA3-0FBFA02EDD2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114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5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BBB6A-6F39-4255-8A0E-BC33DC92D66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125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D3017-D44F-48CF-9DB8-060DD3C9E1D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136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739A1-CA0D-4AE0-8D40-91AB6CBFFD6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15CFB-3BC6-4628-9441-7FBEDAC1856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BE78A-9269-4789-8EB4-2062E4E2EF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71120" y="495000"/>
            <a:ext cx="8744040" cy="8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58320" y="17654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58320" y="391500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7D669-61D9-41E0-BDBB-00459C243A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71120" y="495000"/>
            <a:ext cx="8744040" cy="8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58320" y="17654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39240" y="17654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58320" y="39150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39240" y="39150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83558-9291-48AD-965C-6D625EB57F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71120" y="495000"/>
            <a:ext cx="8744040" cy="8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58320" y="17654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14640" y="17654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70960" y="17654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58320" y="39150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14640" y="39150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870960" y="39150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B93AB-D0E5-4278-A4A7-7D9C8B7EFC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71120" y="495000"/>
            <a:ext cx="8744040" cy="8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58320" y="176544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1065A-6A81-45C1-9D13-D62D9C1F32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1120" y="495000"/>
            <a:ext cx="8744040" cy="8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8320" y="176544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B22E8-850A-457A-A27D-8571693D99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1120" y="495000"/>
            <a:ext cx="8744040" cy="8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58320" y="176544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39240" y="176544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4FB2B-5BCD-42A8-B18C-4A6ADF7913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71120" y="495000"/>
            <a:ext cx="8744040" cy="8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B62D7-5F58-43C1-A536-299DB907D9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71120" y="495000"/>
            <a:ext cx="8744040" cy="38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276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6C23D-60FA-4626-84E5-61FCDCF2B9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1120" y="495000"/>
            <a:ext cx="8744040" cy="8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58320" y="17654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39240" y="176544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58320" y="39150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160C4-F806-4FFF-9E05-B8307A7B87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71120" y="495000"/>
            <a:ext cx="8744040" cy="8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58320" y="176544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39240" y="17654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39240" y="39150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DE9D5-668B-4D40-82A2-FB50F5D196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1120" y="495000"/>
            <a:ext cx="8744040" cy="8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58320" y="17654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39240" y="17654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58320" y="391500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A0764-6A07-4FEB-BB0A-E61ED10F7F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30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3720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3500C-0114-482A-AB7C-603343FBF4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771120" y="495000"/>
            <a:ext cx="8744040" cy="83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8320" y="1765440"/>
            <a:ext cx="8744040" cy="4114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87000"/>
          </a:bodyPr>
          <a:p>
            <a:pPr marL="298440" indent="-298440"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Aft>
                <a:spcPts val="1276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3" marL="1358640" indent="-198720">
              <a:spcAft>
                <a:spcPts val="1276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4" marL="1723320" indent="-198720"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5" marL="1723320" indent="-198720">
              <a:spcAft>
                <a:spcPts val="1276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6" marL="1723320" indent="-198720">
              <a:spcAft>
                <a:spcPts val="1276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4339440" y="6261120"/>
            <a:ext cx="1798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3beff"/>
                </a:solidFill>
                <a:latin typeface="Arial"/>
              </a:rPr>
              <a:t>97111-</a:t>
            </a:r>
            <a:fld id="{6D95BB10-6DFB-4808-9A21-84A5BC3AAC5C}" type="slidenum">
              <a:rPr b="0" lang="en-US" sz="1200" spc="-1" strike="noStrike">
                <a:solidFill>
                  <a:srgbClr val="e3beff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e3beff"/>
                </a:solidFill>
                <a:latin typeface="Arial"/>
              </a:rPr>
              <a:t>S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9" descr="IACLEBW"/>
          <p:cNvPicPr/>
          <p:nvPr/>
        </p:nvPicPr>
        <p:blipFill>
          <a:blip r:embed="rId2"/>
          <a:stretch/>
        </p:blipFill>
        <p:spPr>
          <a:xfrm>
            <a:off x="9288360" y="5862600"/>
            <a:ext cx="527040" cy="67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71120" y="2130120"/>
            <a:ext cx="874404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3600" spc="-1" strike="noStrike">
                <a:solidFill>
                  <a:srgbClr val="fcfeb9"/>
                </a:solidFill>
                <a:latin typeface="Arial"/>
              </a:rPr>
              <a:t>Module 3.8 Portuguese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317520"/>
            <a:ext cx="10287000" cy="581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CÁLCULO DO ASTIGMATISMO RESIDUAL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-360" y="1290240"/>
            <a:ext cx="10287000" cy="5567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2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Baseado no astigmatismo corneal e refrativ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álculo apenas teóric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aramente é o mesmo que o astigmatismo residual medid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Usar como um gui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Várias fontes de err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050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2051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205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205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181080"/>
            <a:ext cx="10102680" cy="581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CÁLCULO DO ASTIGMATISMO RESIDUAL 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31840" y="1247760"/>
            <a:ext cx="8212320" cy="4332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4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x óculos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-3.25/-2.00 x 90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eratometria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7.80 @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180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(43.25 D)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7.85 @ 90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(43.00 D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ilíndrico corneal =            -0.25 D x 90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il residual calculado =      -1.75 D x 90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0">
              <a:lnSpc>
                <a:spcPct val="140000"/>
              </a:lnSpc>
              <a:spcAft>
                <a:spcPts val="1276"/>
              </a:spcAft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21800" y="240840"/>
            <a:ext cx="8744040" cy="536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PRISMA DE LASTRO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4600" y="815760"/>
            <a:ext cx="10112400" cy="604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5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 adição de um prisma em uma lente RGP causará um diferencial de espessura do ápice à bas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 interação da pálpebra resultará em uma base de prisma localizada em uma posição inferior da córne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3514680" y="640080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21800" y="240840"/>
            <a:ext cx="8744040" cy="536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PRISMA DE LASTRO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94760" y="837720"/>
            <a:ext cx="10091880" cy="577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xcesso de prisma causa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umento da massa da lent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Baixa “cavalgada” da lent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ovimento limitad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roca lacrimal pobr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dema cornea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esconfort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essecação cornea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08120" y="412920"/>
            <a:ext cx="874368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PRISMA DE LASTRO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08120" y="1630440"/>
            <a:ext cx="9058320" cy="4192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Baixa a moderada toricidade cornea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ilíndrico residual muito elevado para uma visão aceitá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283680"/>
            <a:ext cx="10287000" cy="536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TÓRICA ANTERIOR CIRCULAR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-360" y="1096560"/>
            <a:ext cx="10287000" cy="5761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3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O desenho tórico de superfície anterior preferencial quando as pálpebras não são ideais para um desenho truncado i.e.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3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álpebra inferior abaixo do limb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3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Grande abertura palpebra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3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álpebras laxa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08120" y="225000"/>
            <a:ext cx="8743680" cy="65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TÓRICA ANTERIOR CIRCULAR 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-360" y="980640"/>
            <a:ext cx="10287000" cy="5877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enos complicado que um desenho truncado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Zona óptica simétrica e centrad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xigência de menos prisma (1-1.5 </a:t>
            </a:r>
            <a:r>
              <a:rPr b="0" lang="en-US" sz="3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ais confortá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endimento fisiológico superior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21800" y="-360"/>
            <a:ext cx="8744040" cy="7779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OPÇÕES DE ADAPTAÇÃO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-360" y="864720"/>
            <a:ext cx="10287000" cy="5992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Lentes de teste esférica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Lentes esféricas com prisma de lastr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iâmetro 8.80 - 9.20 mm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daptação estática e dinâmica aceitávei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valiar rotação da base do prism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21800" y="328680"/>
            <a:ext cx="874404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TESTE DE ADAPTAÇÃO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6360" y="981000"/>
            <a:ext cx="9890280" cy="50529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8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iâmetro das lentes entre 8.80 e 9.20 mm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8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eterminar o RZOP ideal para uma adaptação alinhada na avaliação estátic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8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Lente o mais próxima possível do desenho fina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21800" y="240840"/>
            <a:ext cx="8744040" cy="623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TESTE DE ADAPTAÇÃO 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23960" y="1793520"/>
            <a:ext cx="8780400" cy="4505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22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entralização da lent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2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Interação da pálpebra superior com a lent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2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ovimento da lent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22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708120" y="1093680"/>
            <a:ext cx="8743680" cy="536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AVALIAR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026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027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028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029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85520" y="228600"/>
            <a:ext cx="8744040" cy="378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LENTES RGP TÓRICAS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70240" y="1450800"/>
            <a:ext cx="4619520" cy="4143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6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ara melhorar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Visã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daptação físic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stado fisiológic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1038"/>
          <p:cNvSpPr/>
          <p:nvPr/>
        </p:nvSpPr>
        <p:spPr>
          <a:xfrm>
            <a:off x="785880" y="920880"/>
            <a:ext cx="8744040" cy="3776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INDICAÇÕES PARA O USO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21800" y="328680"/>
            <a:ext cx="874404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TESTE DE ADAPTAÇÃO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65080" y="1327320"/>
            <a:ext cx="6273720" cy="4489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8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mpla abertura palpebra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órneas mais curva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ioptrias negativa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Quando a lente centra bem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763560" y="950760"/>
            <a:ext cx="8744040" cy="579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USE DIÂMETROS MENORES PARA: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21800" y="328680"/>
            <a:ext cx="874404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TESTE DE ADAPTAÇÃO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-360" y="1501920"/>
            <a:ext cx="10287000" cy="4690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8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Localização normal da margem das pálpebras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Vigorosa força palpebra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órneas mais planas ou maior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ioptrias positiva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722160" y="890640"/>
            <a:ext cx="874404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USE MAIORES DIÂMETROS PARA :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21800" y="328680"/>
            <a:ext cx="874404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ROTAÇÃO DAS LENTES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-360" y="938160"/>
            <a:ext cx="10287000" cy="5919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10000"/>
              </a:lnSpc>
              <a:spcAft>
                <a:spcPts val="1239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Base da lente irá geralmente rotacionar nasalmente devido às forças palpebrai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Aft>
                <a:spcPts val="1239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Levar em conta a rotação quando pedir a lente (10 a 15 graus por convenção)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Aft>
                <a:spcPts val="1239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Avaliar o grau de rotação quando usar lente de teste com prisma de lastro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Aft>
                <a:spcPts val="1239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Compensar a rotação quando solicitar eixo do cilíndrico da superfície anterior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11320" y="181080"/>
            <a:ext cx="833904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OLHO DIREITO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85" name="Freeform 8"/>
          <p:cNvSpPr/>
          <p:nvPr/>
        </p:nvSpPr>
        <p:spPr>
          <a:xfrm>
            <a:off x="3130560" y="1089000"/>
            <a:ext cx="3919680" cy="3916440"/>
          </a:xfrm>
          <a:custGeom>
            <a:avLst/>
            <a:gdLst>
              <a:gd name="textAreaLeft" fmla="*/ 0 w 3919680"/>
              <a:gd name="textAreaRight" fmla="*/ 3920040 w 3919680"/>
              <a:gd name="textAreaTop" fmla="*/ 0 h 3916440"/>
              <a:gd name="textAreaBottom" fmla="*/ 3916800 h 3916440"/>
            </a:gdLst>
            <a:ahLst/>
            <a:rect l="textAreaLeft" t="textAreaTop" r="textAreaRight" b="textAreaBottom"/>
            <a:pathLst>
              <a:path w="2469" h="2467">
                <a:moveTo>
                  <a:pt x="1234" y="2467"/>
                </a:moveTo>
                <a:lnTo>
                  <a:pt x="1297" y="2465"/>
                </a:lnTo>
                <a:lnTo>
                  <a:pt x="1361" y="2460"/>
                </a:lnTo>
                <a:lnTo>
                  <a:pt x="1422" y="2452"/>
                </a:lnTo>
                <a:lnTo>
                  <a:pt x="1483" y="2442"/>
                </a:lnTo>
                <a:lnTo>
                  <a:pt x="1543" y="2429"/>
                </a:lnTo>
                <a:lnTo>
                  <a:pt x="1600" y="2412"/>
                </a:lnTo>
                <a:lnTo>
                  <a:pt x="1658" y="2394"/>
                </a:lnTo>
                <a:lnTo>
                  <a:pt x="1715" y="2371"/>
                </a:lnTo>
                <a:lnTo>
                  <a:pt x="1769" y="2348"/>
                </a:lnTo>
                <a:lnTo>
                  <a:pt x="1823" y="2321"/>
                </a:lnTo>
                <a:lnTo>
                  <a:pt x="1875" y="2293"/>
                </a:lnTo>
                <a:lnTo>
                  <a:pt x="1925" y="2260"/>
                </a:lnTo>
                <a:lnTo>
                  <a:pt x="1973" y="2227"/>
                </a:lnTo>
                <a:lnTo>
                  <a:pt x="2021" y="2191"/>
                </a:lnTo>
                <a:lnTo>
                  <a:pt x="2065" y="2153"/>
                </a:lnTo>
                <a:lnTo>
                  <a:pt x="2107" y="2112"/>
                </a:lnTo>
                <a:lnTo>
                  <a:pt x="2149" y="2070"/>
                </a:lnTo>
                <a:lnTo>
                  <a:pt x="2187" y="2026"/>
                </a:lnTo>
                <a:lnTo>
                  <a:pt x="2224" y="1978"/>
                </a:lnTo>
                <a:lnTo>
                  <a:pt x="2258" y="1930"/>
                </a:lnTo>
                <a:lnTo>
                  <a:pt x="2291" y="1880"/>
                </a:lnTo>
                <a:lnTo>
                  <a:pt x="2320" y="1828"/>
                </a:lnTo>
                <a:lnTo>
                  <a:pt x="2347" y="1777"/>
                </a:lnTo>
                <a:lnTo>
                  <a:pt x="2372" y="1721"/>
                </a:lnTo>
                <a:lnTo>
                  <a:pt x="2395" y="1665"/>
                </a:lnTo>
                <a:lnTo>
                  <a:pt x="2414" y="1606"/>
                </a:lnTo>
                <a:lnTo>
                  <a:pt x="2431" y="1548"/>
                </a:lnTo>
                <a:lnTo>
                  <a:pt x="2445" y="1487"/>
                </a:lnTo>
                <a:lnTo>
                  <a:pt x="2454" y="1426"/>
                </a:lnTo>
                <a:lnTo>
                  <a:pt x="2464" y="1362"/>
                </a:lnTo>
                <a:lnTo>
                  <a:pt x="2468" y="1299"/>
                </a:lnTo>
                <a:lnTo>
                  <a:pt x="2469" y="1234"/>
                </a:lnTo>
                <a:lnTo>
                  <a:pt x="2468" y="1170"/>
                </a:lnTo>
                <a:lnTo>
                  <a:pt x="2464" y="1107"/>
                </a:lnTo>
                <a:lnTo>
                  <a:pt x="2454" y="1046"/>
                </a:lnTo>
                <a:lnTo>
                  <a:pt x="2445" y="984"/>
                </a:lnTo>
                <a:lnTo>
                  <a:pt x="2431" y="925"/>
                </a:lnTo>
                <a:lnTo>
                  <a:pt x="2414" y="865"/>
                </a:lnTo>
                <a:lnTo>
                  <a:pt x="2395" y="810"/>
                </a:lnTo>
                <a:lnTo>
                  <a:pt x="2372" y="752"/>
                </a:lnTo>
                <a:lnTo>
                  <a:pt x="2347" y="698"/>
                </a:lnTo>
                <a:lnTo>
                  <a:pt x="2320" y="645"/>
                </a:lnTo>
                <a:lnTo>
                  <a:pt x="2291" y="593"/>
                </a:lnTo>
                <a:lnTo>
                  <a:pt x="2258" y="543"/>
                </a:lnTo>
                <a:lnTo>
                  <a:pt x="2224" y="495"/>
                </a:lnTo>
                <a:lnTo>
                  <a:pt x="2187" y="449"/>
                </a:lnTo>
                <a:lnTo>
                  <a:pt x="2149" y="403"/>
                </a:lnTo>
                <a:lnTo>
                  <a:pt x="2107" y="361"/>
                </a:lnTo>
                <a:lnTo>
                  <a:pt x="2065" y="321"/>
                </a:lnTo>
                <a:lnTo>
                  <a:pt x="2021" y="282"/>
                </a:lnTo>
                <a:lnTo>
                  <a:pt x="1973" y="244"/>
                </a:lnTo>
                <a:lnTo>
                  <a:pt x="1925" y="211"/>
                </a:lnTo>
                <a:lnTo>
                  <a:pt x="1875" y="179"/>
                </a:lnTo>
                <a:lnTo>
                  <a:pt x="1823" y="148"/>
                </a:lnTo>
                <a:lnTo>
                  <a:pt x="1769" y="121"/>
                </a:lnTo>
                <a:lnTo>
                  <a:pt x="1715" y="96"/>
                </a:lnTo>
                <a:lnTo>
                  <a:pt x="1658" y="75"/>
                </a:lnTo>
                <a:lnTo>
                  <a:pt x="1600" y="56"/>
                </a:lnTo>
                <a:lnTo>
                  <a:pt x="1543" y="39"/>
                </a:lnTo>
                <a:lnTo>
                  <a:pt x="1483" y="25"/>
                </a:lnTo>
                <a:lnTo>
                  <a:pt x="1422" y="14"/>
                </a:lnTo>
                <a:lnTo>
                  <a:pt x="1361" y="6"/>
                </a:lnTo>
                <a:lnTo>
                  <a:pt x="1297" y="2"/>
                </a:lnTo>
                <a:lnTo>
                  <a:pt x="1234" y="0"/>
                </a:lnTo>
                <a:lnTo>
                  <a:pt x="1169" y="2"/>
                </a:lnTo>
                <a:lnTo>
                  <a:pt x="1107" y="6"/>
                </a:lnTo>
                <a:lnTo>
                  <a:pt x="1046" y="14"/>
                </a:lnTo>
                <a:lnTo>
                  <a:pt x="984" y="25"/>
                </a:lnTo>
                <a:lnTo>
                  <a:pt x="925" y="39"/>
                </a:lnTo>
                <a:lnTo>
                  <a:pt x="865" y="56"/>
                </a:lnTo>
                <a:lnTo>
                  <a:pt x="808" y="75"/>
                </a:lnTo>
                <a:lnTo>
                  <a:pt x="752" y="96"/>
                </a:lnTo>
                <a:lnTo>
                  <a:pt x="699" y="121"/>
                </a:lnTo>
                <a:lnTo>
                  <a:pt x="645" y="148"/>
                </a:lnTo>
                <a:lnTo>
                  <a:pt x="593" y="179"/>
                </a:lnTo>
                <a:lnTo>
                  <a:pt x="543" y="211"/>
                </a:lnTo>
                <a:lnTo>
                  <a:pt x="495" y="244"/>
                </a:lnTo>
                <a:lnTo>
                  <a:pt x="449" y="282"/>
                </a:lnTo>
                <a:lnTo>
                  <a:pt x="403" y="321"/>
                </a:lnTo>
                <a:lnTo>
                  <a:pt x="361" y="361"/>
                </a:lnTo>
                <a:lnTo>
                  <a:pt x="321" y="403"/>
                </a:lnTo>
                <a:lnTo>
                  <a:pt x="280" y="449"/>
                </a:lnTo>
                <a:lnTo>
                  <a:pt x="244" y="495"/>
                </a:lnTo>
                <a:lnTo>
                  <a:pt x="209" y="543"/>
                </a:lnTo>
                <a:lnTo>
                  <a:pt x="179" y="593"/>
                </a:lnTo>
                <a:lnTo>
                  <a:pt x="148" y="645"/>
                </a:lnTo>
                <a:lnTo>
                  <a:pt x="121" y="698"/>
                </a:lnTo>
                <a:lnTo>
                  <a:pt x="96" y="752"/>
                </a:lnTo>
                <a:lnTo>
                  <a:pt x="75" y="810"/>
                </a:lnTo>
                <a:lnTo>
                  <a:pt x="56" y="865"/>
                </a:lnTo>
                <a:lnTo>
                  <a:pt x="39" y="925"/>
                </a:lnTo>
                <a:lnTo>
                  <a:pt x="25" y="984"/>
                </a:lnTo>
                <a:lnTo>
                  <a:pt x="14" y="1046"/>
                </a:lnTo>
                <a:lnTo>
                  <a:pt x="6" y="1107"/>
                </a:lnTo>
                <a:lnTo>
                  <a:pt x="0" y="1170"/>
                </a:lnTo>
                <a:lnTo>
                  <a:pt x="0" y="1234"/>
                </a:lnTo>
                <a:lnTo>
                  <a:pt x="0" y="1297"/>
                </a:lnTo>
                <a:lnTo>
                  <a:pt x="6" y="1360"/>
                </a:lnTo>
                <a:lnTo>
                  <a:pt x="14" y="1424"/>
                </a:lnTo>
                <a:lnTo>
                  <a:pt x="25" y="1483"/>
                </a:lnTo>
                <a:lnTo>
                  <a:pt x="39" y="1544"/>
                </a:lnTo>
                <a:lnTo>
                  <a:pt x="56" y="1602"/>
                </a:lnTo>
                <a:lnTo>
                  <a:pt x="75" y="1660"/>
                </a:lnTo>
                <a:lnTo>
                  <a:pt x="98" y="1717"/>
                </a:lnTo>
                <a:lnTo>
                  <a:pt x="121" y="1771"/>
                </a:lnTo>
                <a:lnTo>
                  <a:pt x="150" y="1825"/>
                </a:lnTo>
                <a:lnTo>
                  <a:pt x="179" y="1876"/>
                </a:lnTo>
                <a:lnTo>
                  <a:pt x="211" y="1926"/>
                </a:lnTo>
                <a:lnTo>
                  <a:pt x="246" y="1974"/>
                </a:lnTo>
                <a:lnTo>
                  <a:pt x="282" y="2020"/>
                </a:lnTo>
                <a:lnTo>
                  <a:pt x="323" y="2066"/>
                </a:lnTo>
                <a:lnTo>
                  <a:pt x="363" y="2108"/>
                </a:lnTo>
                <a:lnTo>
                  <a:pt x="405" y="2149"/>
                </a:lnTo>
                <a:lnTo>
                  <a:pt x="451" y="2187"/>
                </a:lnTo>
                <a:lnTo>
                  <a:pt x="497" y="2224"/>
                </a:lnTo>
                <a:lnTo>
                  <a:pt x="545" y="2258"/>
                </a:lnTo>
                <a:lnTo>
                  <a:pt x="595" y="2289"/>
                </a:lnTo>
                <a:lnTo>
                  <a:pt x="647" y="2319"/>
                </a:lnTo>
                <a:lnTo>
                  <a:pt x="700" y="2346"/>
                </a:lnTo>
                <a:lnTo>
                  <a:pt x="754" y="2371"/>
                </a:lnTo>
                <a:lnTo>
                  <a:pt x="810" y="2392"/>
                </a:lnTo>
                <a:lnTo>
                  <a:pt x="867" y="2412"/>
                </a:lnTo>
                <a:lnTo>
                  <a:pt x="927" y="2429"/>
                </a:lnTo>
                <a:lnTo>
                  <a:pt x="986" y="2442"/>
                </a:lnTo>
                <a:lnTo>
                  <a:pt x="1046" y="2452"/>
                </a:lnTo>
                <a:lnTo>
                  <a:pt x="1107" y="2460"/>
                </a:lnTo>
                <a:lnTo>
                  <a:pt x="1171" y="2465"/>
                </a:lnTo>
                <a:lnTo>
                  <a:pt x="1234" y="2467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Freeform 9"/>
          <p:cNvSpPr/>
          <p:nvPr/>
        </p:nvSpPr>
        <p:spPr>
          <a:xfrm>
            <a:off x="4788000" y="3214800"/>
            <a:ext cx="331560" cy="1461960"/>
          </a:xfrm>
          <a:custGeom>
            <a:avLst/>
            <a:gdLst>
              <a:gd name="textAreaLeft" fmla="*/ 0 w 331560"/>
              <a:gd name="textAreaRight" fmla="*/ 331920 w 331560"/>
              <a:gd name="textAreaTop" fmla="*/ 0 h 1461960"/>
              <a:gd name="textAreaBottom" fmla="*/ 1462320 h 1461960"/>
            </a:gdLst>
            <a:ahLst/>
            <a:rect l="textAreaLeft" t="textAreaTop" r="textAreaRight" b="textAreaBottom"/>
            <a:pathLst>
              <a:path w="209" h="921">
                <a:moveTo>
                  <a:pt x="182" y="23"/>
                </a:moveTo>
                <a:lnTo>
                  <a:pt x="175" y="81"/>
                </a:lnTo>
                <a:lnTo>
                  <a:pt x="165" y="138"/>
                </a:lnTo>
                <a:lnTo>
                  <a:pt x="153" y="196"/>
                </a:lnTo>
                <a:lnTo>
                  <a:pt x="138" y="252"/>
                </a:lnTo>
                <a:lnTo>
                  <a:pt x="105" y="361"/>
                </a:lnTo>
                <a:lnTo>
                  <a:pt x="71" y="472"/>
                </a:lnTo>
                <a:lnTo>
                  <a:pt x="56" y="526"/>
                </a:lnTo>
                <a:lnTo>
                  <a:pt x="40" y="581"/>
                </a:lnTo>
                <a:lnTo>
                  <a:pt x="27" y="637"/>
                </a:lnTo>
                <a:lnTo>
                  <a:pt x="15" y="691"/>
                </a:lnTo>
                <a:lnTo>
                  <a:pt x="6" y="748"/>
                </a:lnTo>
                <a:lnTo>
                  <a:pt x="2" y="804"/>
                </a:lnTo>
                <a:lnTo>
                  <a:pt x="0" y="833"/>
                </a:lnTo>
                <a:lnTo>
                  <a:pt x="0" y="862"/>
                </a:lnTo>
                <a:lnTo>
                  <a:pt x="2" y="890"/>
                </a:lnTo>
                <a:lnTo>
                  <a:pt x="4" y="919"/>
                </a:lnTo>
                <a:lnTo>
                  <a:pt x="4" y="921"/>
                </a:lnTo>
                <a:lnTo>
                  <a:pt x="6" y="921"/>
                </a:lnTo>
                <a:lnTo>
                  <a:pt x="8" y="921"/>
                </a:lnTo>
                <a:lnTo>
                  <a:pt x="11" y="919"/>
                </a:lnTo>
                <a:lnTo>
                  <a:pt x="17" y="915"/>
                </a:lnTo>
                <a:lnTo>
                  <a:pt x="27" y="908"/>
                </a:lnTo>
                <a:lnTo>
                  <a:pt x="34" y="898"/>
                </a:lnTo>
                <a:lnTo>
                  <a:pt x="42" y="888"/>
                </a:lnTo>
                <a:lnTo>
                  <a:pt x="50" y="879"/>
                </a:lnTo>
                <a:lnTo>
                  <a:pt x="52" y="871"/>
                </a:lnTo>
                <a:lnTo>
                  <a:pt x="79" y="762"/>
                </a:lnTo>
                <a:lnTo>
                  <a:pt x="109" y="652"/>
                </a:lnTo>
                <a:lnTo>
                  <a:pt x="140" y="547"/>
                </a:lnTo>
                <a:lnTo>
                  <a:pt x="167" y="439"/>
                </a:lnTo>
                <a:lnTo>
                  <a:pt x="180" y="386"/>
                </a:lnTo>
                <a:lnTo>
                  <a:pt x="190" y="332"/>
                </a:lnTo>
                <a:lnTo>
                  <a:pt x="199" y="278"/>
                </a:lnTo>
                <a:lnTo>
                  <a:pt x="205" y="225"/>
                </a:lnTo>
                <a:lnTo>
                  <a:pt x="209" y="169"/>
                </a:lnTo>
                <a:lnTo>
                  <a:pt x="209" y="113"/>
                </a:lnTo>
                <a:lnTo>
                  <a:pt x="207" y="58"/>
                </a:lnTo>
                <a:lnTo>
                  <a:pt x="201" y="0"/>
                </a:lnTo>
                <a:lnTo>
                  <a:pt x="199" y="4"/>
                </a:lnTo>
                <a:lnTo>
                  <a:pt x="196" y="6"/>
                </a:lnTo>
                <a:lnTo>
                  <a:pt x="192" y="10"/>
                </a:lnTo>
                <a:lnTo>
                  <a:pt x="188" y="12"/>
                </a:lnTo>
                <a:lnTo>
                  <a:pt x="186" y="16"/>
                </a:lnTo>
                <a:lnTo>
                  <a:pt x="184" y="17"/>
                </a:lnTo>
                <a:lnTo>
                  <a:pt x="182" y="21"/>
                </a:lnTo>
                <a:lnTo>
                  <a:pt x="182" y="23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Freeform 10"/>
          <p:cNvSpPr/>
          <p:nvPr/>
        </p:nvSpPr>
        <p:spPr>
          <a:xfrm>
            <a:off x="4465800" y="1305000"/>
            <a:ext cx="644400" cy="1647720"/>
          </a:xfrm>
          <a:custGeom>
            <a:avLst/>
            <a:gdLst>
              <a:gd name="textAreaLeft" fmla="*/ 0 w 644400"/>
              <a:gd name="textAreaRight" fmla="*/ 644760 w 644400"/>
              <a:gd name="textAreaTop" fmla="*/ 0 h 1647720"/>
              <a:gd name="textAreaBottom" fmla="*/ 1648080 h 1647720"/>
            </a:gdLst>
            <a:ahLst/>
            <a:rect l="textAreaLeft" t="textAreaTop" r="textAreaRight" b="textAreaBottom"/>
            <a:pathLst>
              <a:path w="406" h="1038">
                <a:moveTo>
                  <a:pt x="404" y="1038"/>
                </a:moveTo>
                <a:lnTo>
                  <a:pt x="404" y="1023"/>
                </a:lnTo>
                <a:lnTo>
                  <a:pt x="406" y="1008"/>
                </a:lnTo>
                <a:lnTo>
                  <a:pt x="406" y="992"/>
                </a:lnTo>
                <a:lnTo>
                  <a:pt x="406" y="979"/>
                </a:lnTo>
                <a:lnTo>
                  <a:pt x="406" y="963"/>
                </a:lnTo>
                <a:lnTo>
                  <a:pt x="406" y="950"/>
                </a:lnTo>
                <a:lnTo>
                  <a:pt x="404" y="935"/>
                </a:lnTo>
                <a:lnTo>
                  <a:pt x="401" y="921"/>
                </a:lnTo>
                <a:lnTo>
                  <a:pt x="391" y="900"/>
                </a:lnTo>
                <a:lnTo>
                  <a:pt x="381" y="879"/>
                </a:lnTo>
                <a:lnTo>
                  <a:pt x="372" y="856"/>
                </a:lnTo>
                <a:lnTo>
                  <a:pt x="360" y="835"/>
                </a:lnTo>
                <a:lnTo>
                  <a:pt x="349" y="814"/>
                </a:lnTo>
                <a:lnTo>
                  <a:pt x="337" y="793"/>
                </a:lnTo>
                <a:lnTo>
                  <a:pt x="328" y="772"/>
                </a:lnTo>
                <a:lnTo>
                  <a:pt x="318" y="750"/>
                </a:lnTo>
                <a:lnTo>
                  <a:pt x="284" y="656"/>
                </a:lnTo>
                <a:lnTo>
                  <a:pt x="249" y="562"/>
                </a:lnTo>
                <a:lnTo>
                  <a:pt x="214" y="468"/>
                </a:lnTo>
                <a:lnTo>
                  <a:pt x="180" y="373"/>
                </a:lnTo>
                <a:lnTo>
                  <a:pt x="143" y="279"/>
                </a:lnTo>
                <a:lnTo>
                  <a:pt x="107" y="186"/>
                </a:lnTo>
                <a:lnTo>
                  <a:pt x="69" y="92"/>
                </a:lnTo>
                <a:lnTo>
                  <a:pt x="26" y="0"/>
                </a:lnTo>
                <a:lnTo>
                  <a:pt x="13" y="21"/>
                </a:lnTo>
                <a:lnTo>
                  <a:pt x="5" y="41"/>
                </a:lnTo>
                <a:lnTo>
                  <a:pt x="1" y="62"/>
                </a:lnTo>
                <a:lnTo>
                  <a:pt x="0" y="81"/>
                </a:lnTo>
                <a:lnTo>
                  <a:pt x="0" y="102"/>
                </a:lnTo>
                <a:lnTo>
                  <a:pt x="1" y="123"/>
                </a:lnTo>
                <a:lnTo>
                  <a:pt x="5" y="144"/>
                </a:lnTo>
                <a:lnTo>
                  <a:pt x="11" y="163"/>
                </a:lnTo>
                <a:lnTo>
                  <a:pt x="17" y="186"/>
                </a:lnTo>
                <a:lnTo>
                  <a:pt x="24" y="208"/>
                </a:lnTo>
                <a:lnTo>
                  <a:pt x="34" y="229"/>
                </a:lnTo>
                <a:lnTo>
                  <a:pt x="44" y="248"/>
                </a:lnTo>
                <a:lnTo>
                  <a:pt x="69" y="284"/>
                </a:lnTo>
                <a:lnTo>
                  <a:pt x="95" y="321"/>
                </a:lnTo>
                <a:lnTo>
                  <a:pt x="122" y="357"/>
                </a:lnTo>
                <a:lnTo>
                  <a:pt x="147" y="394"/>
                </a:lnTo>
                <a:lnTo>
                  <a:pt x="159" y="413"/>
                </a:lnTo>
                <a:lnTo>
                  <a:pt x="168" y="432"/>
                </a:lnTo>
                <a:lnTo>
                  <a:pt x="178" y="453"/>
                </a:lnTo>
                <a:lnTo>
                  <a:pt x="184" y="474"/>
                </a:lnTo>
                <a:lnTo>
                  <a:pt x="193" y="513"/>
                </a:lnTo>
                <a:lnTo>
                  <a:pt x="207" y="549"/>
                </a:lnTo>
                <a:lnTo>
                  <a:pt x="220" y="585"/>
                </a:lnTo>
                <a:lnTo>
                  <a:pt x="236" y="622"/>
                </a:lnTo>
                <a:lnTo>
                  <a:pt x="268" y="691"/>
                </a:lnTo>
                <a:lnTo>
                  <a:pt x="303" y="758"/>
                </a:lnTo>
                <a:lnTo>
                  <a:pt x="337" y="825"/>
                </a:lnTo>
                <a:lnTo>
                  <a:pt x="366" y="892"/>
                </a:lnTo>
                <a:lnTo>
                  <a:pt x="379" y="927"/>
                </a:lnTo>
                <a:lnTo>
                  <a:pt x="389" y="963"/>
                </a:lnTo>
                <a:lnTo>
                  <a:pt x="399" y="1000"/>
                </a:lnTo>
                <a:lnTo>
                  <a:pt x="404" y="1038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Freeform 11"/>
          <p:cNvSpPr/>
          <p:nvPr/>
        </p:nvSpPr>
        <p:spPr>
          <a:xfrm>
            <a:off x="5214960" y="2322360"/>
            <a:ext cx="1647720" cy="603360"/>
          </a:xfrm>
          <a:custGeom>
            <a:avLst/>
            <a:gdLst>
              <a:gd name="textAreaLeft" fmla="*/ 0 w 1647720"/>
              <a:gd name="textAreaRight" fmla="*/ 1648080 w 1647720"/>
              <a:gd name="textAreaTop" fmla="*/ 0 h 603360"/>
              <a:gd name="textAreaBottom" fmla="*/ 603720 h 603360"/>
            </a:gdLst>
            <a:ahLst/>
            <a:rect l="textAreaLeft" t="textAreaTop" r="textAreaRight" b="textAreaBottom"/>
            <a:pathLst>
              <a:path w="1038" h="380">
                <a:moveTo>
                  <a:pt x="0" y="380"/>
                </a:moveTo>
                <a:lnTo>
                  <a:pt x="38" y="376"/>
                </a:lnTo>
                <a:lnTo>
                  <a:pt x="78" y="370"/>
                </a:lnTo>
                <a:lnTo>
                  <a:pt x="117" y="363"/>
                </a:lnTo>
                <a:lnTo>
                  <a:pt x="155" y="355"/>
                </a:lnTo>
                <a:lnTo>
                  <a:pt x="193" y="344"/>
                </a:lnTo>
                <a:lnTo>
                  <a:pt x="230" y="330"/>
                </a:lnTo>
                <a:lnTo>
                  <a:pt x="266" y="313"/>
                </a:lnTo>
                <a:lnTo>
                  <a:pt x="301" y="294"/>
                </a:lnTo>
                <a:lnTo>
                  <a:pt x="378" y="250"/>
                </a:lnTo>
                <a:lnTo>
                  <a:pt x="456" y="211"/>
                </a:lnTo>
                <a:lnTo>
                  <a:pt x="533" y="175"/>
                </a:lnTo>
                <a:lnTo>
                  <a:pt x="612" y="142"/>
                </a:lnTo>
                <a:lnTo>
                  <a:pt x="692" y="113"/>
                </a:lnTo>
                <a:lnTo>
                  <a:pt x="773" y="86"/>
                </a:lnTo>
                <a:lnTo>
                  <a:pt x="855" y="63"/>
                </a:lnTo>
                <a:lnTo>
                  <a:pt x="940" y="44"/>
                </a:lnTo>
                <a:lnTo>
                  <a:pt x="944" y="42"/>
                </a:lnTo>
                <a:lnTo>
                  <a:pt x="947" y="38"/>
                </a:lnTo>
                <a:lnTo>
                  <a:pt x="951" y="33"/>
                </a:lnTo>
                <a:lnTo>
                  <a:pt x="953" y="27"/>
                </a:lnTo>
                <a:lnTo>
                  <a:pt x="957" y="19"/>
                </a:lnTo>
                <a:lnTo>
                  <a:pt x="961" y="14"/>
                </a:lnTo>
                <a:lnTo>
                  <a:pt x="963" y="10"/>
                </a:lnTo>
                <a:lnTo>
                  <a:pt x="968" y="6"/>
                </a:lnTo>
                <a:lnTo>
                  <a:pt x="974" y="2"/>
                </a:lnTo>
                <a:lnTo>
                  <a:pt x="984" y="2"/>
                </a:lnTo>
                <a:lnTo>
                  <a:pt x="991" y="0"/>
                </a:lnTo>
                <a:lnTo>
                  <a:pt x="1001" y="0"/>
                </a:lnTo>
                <a:lnTo>
                  <a:pt x="1009" y="2"/>
                </a:lnTo>
                <a:lnTo>
                  <a:pt x="1018" y="2"/>
                </a:lnTo>
                <a:lnTo>
                  <a:pt x="1028" y="4"/>
                </a:lnTo>
                <a:lnTo>
                  <a:pt x="1038" y="4"/>
                </a:lnTo>
                <a:lnTo>
                  <a:pt x="1022" y="15"/>
                </a:lnTo>
                <a:lnTo>
                  <a:pt x="1007" y="27"/>
                </a:lnTo>
                <a:lnTo>
                  <a:pt x="991" y="38"/>
                </a:lnTo>
                <a:lnTo>
                  <a:pt x="976" y="48"/>
                </a:lnTo>
                <a:lnTo>
                  <a:pt x="945" y="65"/>
                </a:lnTo>
                <a:lnTo>
                  <a:pt x="911" y="79"/>
                </a:lnTo>
                <a:lnTo>
                  <a:pt x="878" y="90"/>
                </a:lnTo>
                <a:lnTo>
                  <a:pt x="844" y="100"/>
                </a:lnTo>
                <a:lnTo>
                  <a:pt x="807" y="108"/>
                </a:lnTo>
                <a:lnTo>
                  <a:pt x="773" y="115"/>
                </a:lnTo>
                <a:lnTo>
                  <a:pt x="702" y="131"/>
                </a:lnTo>
                <a:lnTo>
                  <a:pt x="631" y="148"/>
                </a:lnTo>
                <a:lnTo>
                  <a:pt x="596" y="159"/>
                </a:lnTo>
                <a:lnTo>
                  <a:pt x="562" y="173"/>
                </a:lnTo>
                <a:lnTo>
                  <a:pt x="529" y="190"/>
                </a:lnTo>
                <a:lnTo>
                  <a:pt x="498" y="209"/>
                </a:lnTo>
                <a:lnTo>
                  <a:pt x="468" y="228"/>
                </a:lnTo>
                <a:lnTo>
                  <a:pt x="437" y="246"/>
                </a:lnTo>
                <a:lnTo>
                  <a:pt x="406" y="259"/>
                </a:lnTo>
                <a:lnTo>
                  <a:pt x="376" y="273"/>
                </a:lnTo>
                <a:lnTo>
                  <a:pt x="345" y="284"/>
                </a:lnTo>
                <a:lnTo>
                  <a:pt x="314" y="294"/>
                </a:lnTo>
                <a:lnTo>
                  <a:pt x="282" y="303"/>
                </a:lnTo>
                <a:lnTo>
                  <a:pt x="251" y="311"/>
                </a:lnTo>
                <a:lnTo>
                  <a:pt x="186" y="326"/>
                </a:lnTo>
                <a:lnTo>
                  <a:pt x="124" y="342"/>
                </a:lnTo>
                <a:lnTo>
                  <a:pt x="92" y="349"/>
                </a:lnTo>
                <a:lnTo>
                  <a:pt x="61" y="359"/>
                </a:lnTo>
                <a:lnTo>
                  <a:pt x="30" y="368"/>
                </a:lnTo>
                <a:lnTo>
                  <a:pt x="0" y="38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Freeform 12"/>
          <p:cNvSpPr/>
          <p:nvPr/>
        </p:nvSpPr>
        <p:spPr>
          <a:xfrm>
            <a:off x="5251320" y="3075120"/>
            <a:ext cx="1309680" cy="1110960"/>
          </a:xfrm>
          <a:custGeom>
            <a:avLst/>
            <a:gdLst>
              <a:gd name="textAreaLeft" fmla="*/ 0 w 1309680"/>
              <a:gd name="textAreaRight" fmla="*/ 1310040 w 1309680"/>
              <a:gd name="textAreaTop" fmla="*/ 0 h 1110960"/>
              <a:gd name="textAreaBottom" fmla="*/ 1111320 h 1110960"/>
            </a:gdLst>
            <a:ahLst/>
            <a:rect l="textAreaLeft" t="textAreaTop" r="textAreaRight" b="textAreaBottom"/>
            <a:pathLst>
              <a:path w="825" h="700">
                <a:moveTo>
                  <a:pt x="0" y="0"/>
                </a:moveTo>
                <a:lnTo>
                  <a:pt x="25" y="21"/>
                </a:lnTo>
                <a:lnTo>
                  <a:pt x="51" y="42"/>
                </a:lnTo>
                <a:lnTo>
                  <a:pt x="80" y="61"/>
                </a:lnTo>
                <a:lnTo>
                  <a:pt x="107" y="81"/>
                </a:lnTo>
                <a:lnTo>
                  <a:pt x="166" y="113"/>
                </a:lnTo>
                <a:lnTo>
                  <a:pt x="224" y="148"/>
                </a:lnTo>
                <a:lnTo>
                  <a:pt x="282" y="180"/>
                </a:lnTo>
                <a:lnTo>
                  <a:pt x="337" y="217"/>
                </a:lnTo>
                <a:lnTo>
                  <a:pt x="364" y="236"/>
                </a:lnTo>
                <a:lnTo>
                  <a:pt x="389" y="257"/>
                </a:lnTo>
                <a:lnTo>
                  <a:pt x="412" y="280"/>
                </a:lnTo>
                <a:lnTo>
                  <a:pt x="433" y="305"/>
                </a:lnTo>
                <a:lnTo>
                  <a:pt x="460" y="338"/>
                </a:lnTo>
                <a:lnTo>
                  <a:pt x="489" y="366"/>
                </a:lnTo>
                <a:lnTo>
                  <a:pt x="520" y="397"/>
                </a:lnTo>
                <a:lnTo>
                  <a:pt x="550" y="426"/>
                </a:lnTo>
                <a:lnTo>
                  <a:pt x="581" y="453"/>
                </a:lnTo>
                <a:lnTo>
                  <a:pt x="614" y="481"/>
                </a:lnTo>
                <a:lnTo>
                  <a:pt x="646" y="508"/>
                </a:lnTo>
                <a:lnTo>
                  <a:pt x="679" y="537"/>
                </a:lnTo>
                <a:lnTo>
                  <a:pt x="698" y="554"/>
                </a:lnTo>
                <a:lnTo>
                  <a:pt x="719" y="572"/>
                </a:lnTo>
                <a:lnTo>
                  <a:pt x="738" y="591"/>
                </a:lnTo>
                <a:lnTo>
                  <a:pt x="757" y="610"/>
                </a:lnTo>
                <a:lnTo>
                  <a:pt x="775" y="629"/>
                </a:lnTo>
                <a:lnTo>
                  <a:pt x="794" y="650"/>
                </a:lnTo>
                <a:lnTo>
                  <a:pt x="809" y="671"/>
                </a:lnTo>
                <a:lnTo>
                  <a:pt x="825" y="694"/>
                </a:lnTo>
                <a:lnTo>
                  <a:pt x="798" y="698"/>
                </a:lnTo>
                <a:lnTo>
                  <a:pt x="773" y="700"/>
                </a:lnTo>
                <a:lnTo>
                  <a:pt x="750" y="698"/>
                </a:lnTo>
                <a:lnTo>
                  <a:pt x="727" y="692"/>
                </a:lnTo>
                <a:lnTo>
                  <a:pt x="706" y="685"/>
                </a:lnTo>
                <a:lnTo>
                  <a:pt x="686" y="673"/>
                </a:lnTo>
                <a:lnTo>
                  <a:pt x="667" y="662"/>
                </a:lnTo>
                <a:lnTo>
                  <a:pt x="648" y="646"/>
                </a:lnTo>
                <a:lnTo>
                  <a:pt x="631" y="631"/>
                </a:lnTo>
                <a:lnTo>
                  <a:pt x="615" y="614"/>
                </a:lnTo>
                <a:lnTo>
                  <a:pt x="598" y="595"/>
                </a:lnTo>
                <a:lnTo>
                  <a:pt x="583" y="575"/>
                </a:lnTo>
                <a:lnTo>
                  <a:pt x="554" y="537"/>
                </a:lnTo>
                <a:lnTo>
                  <a:pt x="525" y="499"/>
                </a:lnTo>
                <a:lnTo>
                  <a:pt x="518" y="491"/>
                </a:lnTo>
                <a:lnTo>
                  <a:pt x="510" y="485"/>
                </a:lnTo>
                <a:lnTo>
                  <a:pt x="500" y="480"/>
                </a:lnTo>
                <a:lnTo>
                  <a:pt x="491" y="476"/>
                </a:lnTo>
                <a:lnTo>
                  <a:pt x="481" y="470"/>
                </a:lnTo>
                <a:lnTo>
                  <a:pt x="473" y="464"/>
                </a:lnTo>
                <a:lnTo>
                  <a:pt x="468" y="457"/>
                </a:lnTo>
                <a:lnTo>
                  <a:pt x="464" y="447"/>
                </a:lnTo>
                <a:lnTo>
                  <a:pt x="458" y="424"/>
                </a:lnTo>
                <a:lnTo>
                  <a:pt x="450" y="401"/>
                </a:lnTo>
                <a:lnTo>
                  <a:pt x="441" y="382"/>
                </a:lnTo>
                <a:lnTo>
                  <a:pt x="427" y="363"/>
                </a:lnTo>
                <a:lnTo>
                  <a:pt x="414" y="345"/>
                </a:lnTo>
                <a:lnTo>
                  <a:pt x="401" y="330"/>
                </a:lnTo>
                <a:lnTo>
                  <a:pt x="383" y="315"/>
                </a:lnTo>
                <a:lnTo>
                  <a:pt x="366" y="301"/>
                </a:lnTo>
                <a:lnTo>
                  <a:pt x="330" y="274"/>
                </a:lnTo>
                <a:lnTo>
                  <a:pt x="291" y="251"/>
                </a:lnTo>
                <a:lnTo>
                  <a:pt x="253" y="228"/>
                </a:lnTo>
                <a:lnTo>
                  <a:pt x="214" y="203"/>
                </a:lnTo>
                <a:lnTo>
                  <a:pt x="182" y="182"/>
                </a:lnTo>
                <a:lnTo>
                  <a:pt x="149" y="161"/>
                </a:lnTo>
                <a:lnTo>
                  <a:pt x="115" y="142"/>
                </a:lnTo>
                <a:lnTo>
                  <a:pt x="82" y="119"/>
                </a:lnTo>
                <a:lnTo>
                  <a:pt x="67" y="107"/>
                </a:lnTo>
                <a:lnTo>
                  <a:pt x="53" y="96"/>
                </a:lnTo>
                <a:lnTo>
                  <a:pt x="40" y="82"/>
                </a:lnTo>
                <a:lnTo>
                  <a:pt x="28" y="69"/>
                </a:lnTo>
                <a:lnTo>
                  <a:pt x="19" y="54"/>
                </a:lnTo>
                <a:lnTo>
                  <a:pt x="9" y="36"/>
                </a:lnTo>
                <a:lnTo>
                  <a:pt x="3" y="19"/>
                </a:lnTo>
                <a:lnTo>
                  <a:pt x="0" y="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Freeform 13"/>
          <p:cNvSpPr/>
          <p:nvPr/>
        </p:nvSpPr>
        <p:spPr>
          <a:xfrm>
            <a:off x="5079960" y="1150920"/>
            <a:ext cx="320760" cy="1589040"/>
          </a:xfrm>
          <a:custGeom>
            <a:avLst/>
            <a:gdLst>
              <a:gd name="textAreaLeft" fmla="*/ 0 w 320760"/>
              <a:gd name="textAreaRight" fmla="*/ 321120 w 320760"/>
              <a:gd name="textAreaTop" fmla="*/ 0 h 1589040"/>
              <a:gd name="textAreaBottom" fmla="*/ 1589400 h 1589040"/>
            </a:gdLst>
            <a:ahLst/>
            <a:rect l="textAreaLeft" t="textAreaTop" r="textAreaRight" b="textAreaBottom"/>
            <a:pathLst>
              <a:path w="202" h="1001">
                <a:moveTo>
                  <a:pt x="188" y="32"/>
                </a:moveTo>
                <a:lnTo>
                  <a:pt x="182" y="44"/>
                </a:lnTo>
                <a:lnTo>
                  <a:pt x="179" y="57"/>
                </a:lnTo>
                <a:lnTo>
                  <a:pt x="173" y="69"/>
                </a:lnTo>
                <a:lnTo>
                  <a:pt x="167" y="80"/>
                </a:lnTo>
                <a:lnTo>
                  <a:pt x="163" y="92"/>
                </a:lnTo>
                <a:lnTo>
                  <a:pt x="159" y="105"/>
                </a:lnTo>
                <a:lnTo>
                  <a:pt x="157" y="117"/>
                </a:lnTo>
                <a:lnTo>
                  <a:pt x="156" y="128"/>
                </a:lnTo>
                <a:lnTo>
                  <a:pt x="154" y="174"/>
                </a:lnTo>
                <a:lnTo>
                  <a:pt x="154" y="220"/>
                </a:lnTo>
                <a:lnTo>
                  <a:pt x="154" y="264"/>
                </a:lnTo>
                <a:lnTo>
                  <a:pt x="156" y="310"/>
                </a:lnTo>
                <a:lnTo>
                  <a:pt x="156" y="356"/>
                </a:lnTo>
                <a:lnTo>
                  <a:pt x="156" y="400"/>
                </a:lnTo>
                <a:lnTo>
                  <a:pt x="152" y="447"/>
                </a:lnTo>
                <a:lnTo>
                  <a:pt x="148" y="493"/>
                </a:lnTo>
                <a:lnTo>
                  <a:pt x="142" y="523"/>
                </a:lnTo>
                <a:lnTo>
                  <a:pt x="138" y="556"/>
                </a:lnTo>
                <a:lnTo>
                  <a:pt x="134" y="587"/>
                </a:lnTo>
                <a:lnTo>
                  <a:pt x="131" y="617"/>
                </a:lnTo>
                <a:lnTo>
                  <a:pt x="125" y="648"/>
                </a:lnTo>
                <a:lnTo>
                  <a:pt x="119" y="679"/>
                </a:lnTo>
                <a:lnTo>
                  <a:pt x="111" y="709"/>
                </a:lnTo>
                <a:lnTo>
                  <a:pt x="102" y="738"/>
                </a:lnTo>
                <a:lnTo>
                  <a:pt x="88" y="771"/>
                </a:lnTo>
                <a:lnTo>
                  <a:pt x="73" y="803"/>
                </a:lnTo>
                <a:lnTo>
                  <a:pt x="58" y="834"/>
                </a:lnTo>
                <a:lnTo>
                  <a:pt x="40" y="867"/>
                </a:lnTo>
                <a:lnTo>
                  <a:pt x="27" y="897"/>
                </a:lnTo>
                <a:lnTo>
                  <a:pt x="14" y="930"/>
                </a:lnTo>
                <a:lnTo>
                  <a:pt x="10" y="947"/>
                </a:lnTo>
                <a:lnTo>
                  <a:pt x="6" y="964"/>
                </a:lnTo>
                <a:lnTo>
                  <a:pt x="2" y="982"/>
                </a:lnTo>
                <a:lnTo>
                  <a:pt x="0" y="1001"/>
                </a:lnTo>
                <a:lnTo>
                  <a:pt x="14" y="966"/>
                </a:lnTo>
                <a:lnTo>
                  <a:pt x="27" y="932"/>
                </a:lnTo>
                <a:lnTo>
                  <a:pt x="44" y="897"/>
                </a:lnTo>
                <a:lnTo>
                  <a:pt x="60" y="865"/>
                </a:lnTo>
                <a:lnTo>
                  <a:pt x="73" y="832"/>
                </a:lnTo>
                <a:lnTo>
                  <a:pt x="85" y="798"/>
                </a:lnTo>
                <a:lnTo>
                  <a:pt x="90" y="780"/>
                </a:lnTo>
                <a:lnTo>
                  <a:pt x="92" y="763"/>
                </a:lnTo>
                <a:lnTo>
                  <a:pt x="96" y="746"/>
                </a:lnTo>
                <a:lnTo>
                  <a:pt x="96" y="729"/>
                </a:lnTo>
                <a:lnTo>
                  <a:pt x="102" y="659"/>
                </a:lnTo>
                <a:lnTo>
                  <a:pt x="108" y="588"/>
                </a:lnTo>
                <a:lnTo>
                  <a:pt x="113" y="519"/>
                </a:lnTo>
                <a:lnTo>
                  <a:pt x="119" y="450"/>
                </a:lnTo>
                <a:lnTo>
                  <a:pt x="127" y="381"/>
                </a:lnTo>
                <a:lnTo>
                  <a:pt x="133" y="312"/>
                </a:lnTo>
                <a:lnTo>
                  <a:pt x="138" y="243"/>
                </a:lnTo>
                <a:lnTo>
                  <a:pt x="142" y="174"/>
                </a:lnTo>
                <a:lnTo>
                  <a:pt x="156" y="166"/>
                </a:lnTo>
                <a:lnTo>
                  <a:pt x="167" y="157"/>
                </a:lnTo>
                <a:lnTo>
                  <a:pt x="175" y="147"/>
                </a:lnTo>
                <a:lnTo>
                  <a:pt x="180" y="138"/>
                </a:lnTo>
                <a:lnTo>
                  <a:pt x="184" y="126"/>
                </a:lnTo>
                <a:lnTo>
                  <a:pt x="186" y="115"/>
                </a:lnTo>
                <a:lnTo>
                  <a:pt x="188" y="103"/>
                </a:lnTo>
                <a:lnTo>
                  <a:pt x="188" y="92"/>
                </a:lnTo>
                <a:lnTo>
                  <a:pt x="188" y="69"/>
                </a:lnTo>
                <a:lnTo>
                  <a:pt x="188" y="46"/>
                </a:lnTo>
                <a:lnTo>
                  <a:pt x="188" y="34"/>
                </a:lnTo>
                <a:lnTo>
                  <a:pt x="192" y="21"/>
                </a:lnTo>
                <a:lnTo>
                  <a:pt x="196" y="9"/>
                </a:lnTo>
                <a:lnTo>
                  <a:pt x="202" y="0"/>
                </a:lnTo>
                <a:lnTo>
                  <a:pt x="188" y="32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reeform 14"/>
          <p:cNvSpPr/>
          <p:nvPr/>
        </p:nvSpPr>
        <p:spPr>
          <a:xfrm>
            <a:off x="5192640" y="1390680"/>
            <a:ext cx="731880" cy="1514520"/>
          </a:xfrm>
          <a:custGeom>
            <a:avLst/>
            <a:gdLst>
              <a:gd name="textAreaLeft" fmla="*/ 0 w 731880"/>
              <a:gd name="textAreaRight" fmla="*/ 732240 w 731880"/>
              <a:gd name="textAreaTop" fmla="*/ 0 h 1514520"/>
              <a:gd name="textAreaBottom" fmla="*/ 1514880 h 1514520"/>
            </a:gdLst>
            <a:ahLst/>
            <a:rect l="textAreaLeft" t="textAreaTop" r="textAreaRight" b="textAreaBottom"/>
            <a:pathLst>
              <a:path w="461" h="954">
                <a:moveTo>
                  <a:pt x="23" y="896"/>
                </a:moveTo>
                <a:lnTo>
                  <a:pt x="23" y="894"/>
                </a:lnTo>
                <a:lnTo>
                  <a:pt x="23" y="894"/>
                </a:lnTo>
                <a:lnTo>
                  <a:pt x="23" y="892"/>
                </a:lnTo>
                <a:lnTo>
                  <a:pt x="23" y="890"/>
                </a:lnTo>
                <a:lnTo>
                  <a:pt x="23" y="888"/>
                </a:lnTo>
                <a:lnTo>
                  <a:pt x="23" y="886"/>
                </a:lnTo>
                <a:lnTo>
                  <a:pt x="23" y="884"/>
                </a:lnTo>
                <a:lnTo>
                  <a:pt x="23" y="883"/>
                </a:lnTo>
                <a:lnTo>
                  <a:pt x="23" y="892"/>
                </a:lnTo>
                <a:lnTo>
                  <a:pt x="23" y="902"/>
                </a:lnTo>
                <a:lnTo>
                  <a:pt x="19" y="911"/>
                </a:lnTo>
                <a:lnTo>
                  <a:pt x="15" y="921"/>
                </a:lnTo>
                <a:lnTo>
                  <a:pt x="12" y="929"/>
                </a:lnTo>
                <a:lnTo>
                  <a:pt x="6" y="938"/>
                </a:lnTo>
                <a:lnTo>
                  <a:pt x="2" y="946"/>
                </a:lnTo>
                <a:lnTo>
                  <a:pt x="0" y="954"/>
                </a:lnTo>
                <a:lnTo>
                  <a:pt x="17" y="909"/>
                </a:lnTo>
                <a:lnTo>
                  <a:pt x="35" y="863"/>
                </a:lnTo>
                <a:lnTo>
                  <a:pt x="50" y="817"/>
                </a:lnTo>
                <a:lnTo>
                  <a:pt x="65" y="771"/>
                </a:lnTo>
                <a:lnTo>
                  <a:pt x="83" y="725"/>
                </a:lnTo>
                <a:lnTo>
                  <a:pt x="102" y="681"/>
                </a:lnTo>
                <a:lnTo>
                  <a:pt x="113" y="658"/>
                </a:lnTo>
                <a:lnTo>
                  <a:pt x="125" y="637"/>
                </a:lnTo>
                <a:lnTo>
                  <a:pt x="136" y="616"/>
                </a:lnTo>
                <a:lnTo>
                  <a:pt x="150" y="595"/>
                </a:lnTo>
                <a:lnTo>
                  <a:pt x="190" y="537"/>
                </a:lnTo>
                <a:lnTo>
                  <a:pt x="227" y="480"/>
                </a:lnTo>
                <a:lnTo>
                  <a:pt x="257" y="420"/>
                </a:lnTo>
                <a:lnTo>
                  <a:pt x="288" y="361"/>
                </a:lnTo>
                <a:lnTo>
                  <a:pt x="315" y="301"/>
                </a:lnTo>
                <a:lnTo>
                  <a:pt x="342" y="242"/>
                </a:lnTo>
                <a:lnTo>
                  <a:pt x="368" y="182"/>
                </a:lnTo>
                <a:lnTo>
                  <a:pt x="395" y="121"/>
                </a:lnTo>
                <a:lnTo>
                  <a:pt x="401" y="104"/>
                </a:lnTo>
                <a:lnTo>
                  <a:pt x="407" y="88"/>
                </a:lnTo>
                <a:lnTo>
                  <a:pt x="415" y="73"/>
                </a:lnTo>
                <a:lnTo>
                  <a:pt x="422" y="58"/>
                </a:lnTo>
                <a:lnTo>
                  <a:pt x="430" y="42"/>
                </a:lnTo>
                <a:lnTo>
                  <a:pt x="439" y="27"/>
                </a:lnTo>
                <a:lnTo>
                  <a:pt x="449" y="14"/>
                </a:lnTo>
                <a:lnTo>
                  <a:pt x="461" y="0"/>
                </a:lnTo>
                <a:lnTo>
                  <a:pt x="459" y="37"/>
                </a:lnTo>
                <a:lnTo>
                  <a:pt x="455" y="71"/>
                </a:lnTo>
                <a:lnTo>
                  <a:pt x="449" y="106"/>
                </a:lnTo>
                <a:lnTo>
                  <a:pt x="439" y="138"/>
                </a:lnTo>
                <a:lnTo>
                  <a:pt x="428" y="171"/>
                </a:lnTo>
                <a:lnTo>
                  <a:pt x="416" y="203"/>
                </a:lnTo>
                <a:lnTo>
                  <a:pt x="401" y="234"/>
                </a:lnTo>
                <a:lnTo>
                  <a:pt x="386" y="267"/>
                </a:lnTo>
                <a:lnTo>
                  <a:pt x="353" y="328"/>
                </a:lnTo>
                <a:lnTo>
                  <a:pt x="319" y="390"/>
                </a:lnTo>
                <a:lnTo>
                  <a:pt x="284" y="453"/>
                </a:lnTo>
                <a:lnTo>
                  <a:pt x="255" y="516"/>
                </a:lnTo>
                <a:lnTo>
                  <a:pt x="242" y="543"/>
                </a:lnTo>
                <a:lnTo>
                  <a:pt x="227" y="568"/>
                </a:lnTo>
                <a:lnTo>
                  <a:pt x="209" y="591"/>
                </a:lnTo>
                <a:lnTo>
                  <a:pt x="190" y="614"/>
                </a:lnTo>
                <a:lnTo>
                  <a:pt x="171" y="635"/>
                </a:lnTo>
                <a:lnTo>
                  <a:pt x="152" y="658"/>
                </a:lnTo>
                <a:lnTo>
                  <a:pt x="136" y="683"/>
                </a:lnTo>
                <a:lnTo>
                  <a:pt x="123" y="710"/>
                </a:lnTo>
                <a:lnTo>
                  <a:pt x="111" y="735"/>
                </a:lnTo>
                <a:lnTo>
                  <a:pt x="98" y="756"/>
                </a:lnTo>
                <a:lnTo>
                  <a:pt x="85" y="779"/>
                </a:lnTo>
                <a:lnTo>
                  <a:pt x="69" y="800"/>
                </a:lnTo>
                <a:lnTo>
                  <a:pt x="54" y="823"/>
                </a:lnTo>
                <a:lnTo>
                  <a:pt x="42" y="846"/>
                </a:lnTo>
                <a:lnTo>
                  <a:pt x="31" y="869"/>
                </a:lnTo>
                <a:lnTo>
                  <a:pt x="23" y="896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Freeform 15"/>
          <p:cNvSpPr/>
          <p:nvPr/>
        </p:nvSpPr>
        <p:spPr>
          <a:xfrm>
            <a:off x="3468600" y="2160720"/>
            <a:ext cx="1462320" cy="661680"/>
          </a:xfrm>
          <a:custGeom>
            <a:avLst/>
            <a:gdLst>
              <a:gd name="textAreaLeft" fmla="*/ 0 w 1462320"/>
              <a:gd name="textAreaRight" fmla="*/ 1462320 w 1462320"/>
              <a:gd name="textAreaTop" fmla="*/ 0 h 661680"/>
              <a:gd name="textAreaBottom" fmla="*/ 662040 h 661680"/>
            </a:gdLst>
            <a:ahLst/>
            <a:rect l="textAreaLeft" t="textAreaTop" r="textAreaRight" b="textAreaBottom"/>
            <a:pathLst>
              <a:path w="921" h="417">
                <a:moveTo>
                  <a:pt x="921" y="411"/>
                </a:moveTo>
                <a:lnTo>
                  <a:pt x="921" y="399"/>
                </a:lnTo>
                <a:lnTo>
                  <a:pt x="919" y="390"/>
                </a:lnTo>
                <a:lnTo>
                  <a:pt x="917" y="380"/>
                </a:lnTo>
                <a:lnTo>
                  <a:pt x="912" y="371"/>
                </a:lnTo>
                <a:lnTo>
                  <a:pt x="906" y="361"/>
                </a:lnTo>
                <a:lnTo>
                  <a:pt x="898" y="353"/>
                </a:lnTo>
                <a:lnTo>
                  <a:pt x="890" y="346"/>
                </a:lnTo>
                <a:lnTo>
                  <a:pt x="881" y="338"/>
                </a:lnTo>
                <a:lnTo>
                  <a:pt x="862" y="323"/>
                </a:lnTo>
                <a:lnTo>
                  <a:pt x="841" y="309"/>
                </a:lnTo>
                <a:lnTo>
                  <a:pt x="819" y="298"/>
                </a:lnTo>
                <a:lnTo>
                  <a:pt x="798" y="288"/>
                </a:lnTo>
                <a:lnTo>
                  <a:pt x="770" y="275"/>
                </a:lnTo>
                <a:lnTo>
                  <a:pt x="741" y="259"/>
                </a:lnTo>
                <a:lnTo>
                  <a:pt x="712" y="244"/>
                </a:lnTo>
                <a:lnTo>
                  <a:pt x="685" y="229"/>
                </a:lnTo>
                <a:lnTo>
                  <a:pt x="656" y="215"/>
                </a:lnTo>
                <a:lnTo>
                  <a:pt x="628" y="202"/>
                </a:lnTo>
                <a:lnTo>
                  <a:pt x="597" y="188"/>
                </a:lnTo>
                <a:lnTo>
                  <a:pt x="564" y="179"/>
                </a:lnTo>
                <a:lnTo>
                  <a:pt x="528" y="169"/>
                </a:lnTo>
                <a:lnTo>
                  <a:pt x="493" y="156"/>
                </a:lnTo>
                <a:lnTo>
                  <a:pt x="457" y="142"/>
                </a:lnTo>
                <a:lnTo>
                  <a:pt x="422" y="129"/>
                </a:lnTo>
                <a:lnTo>
                  <a:pt x="355" y="98"/>
                </a:lnTo>
                <a:lnTo>
                  <a:pt x="288" y="68"/>
                </a:lnTo>
                <a:lnTo>
                  <a:pt x="253" y="52"/>
                </a:lnTo>
                <a:lnTo>
                  <a:pt x="221" y="39"/>
                </a:lnTo>
                <a:lnTo>
                  <a:pt x="186" y="27"/>
                </a:lnTo>
                <a:lnTo>
                  <a:pt x="154" y="18"/>
                </a:lnTo>
                <a:lnTo>
                  <a:pt x="119" y="10"/>
                </a:lnTo>
                <a:lnTo>
                  <a:pt x="85" y="4"/>
                </a:lnTo>
                <a:lnTo>
                  <a:pt x="48" y="0"/>
                </a:lnTo>
                <a:lnTo>
                  <a:pt x="14" y="0"/>
                </a:lnTo>
                <a:lnTo>
                  <a:pt x="6" y="2"/>
                </a:lnTo>
                <a:lnTo>
                  <a:pt x="2" y="4"/>
                </a:lnTo>
                <a:lnTo>
                  <a:pt x="0" y="6"/>
                </a:lnTo>
                <a:lnTo>
                  <a:pt x="0" y="10"/>
                </a:lnTo>
                <a:lnTo>
                  <a:pt x="4" y="18"/>
                </a:lnTo>
                <a:lnTo>
                  <a:pt x="14" y="27"/>
                </a:lnTo>
                <a:lnTo>
                  <a:pt x="25" y="37"/>
                </a:lnTo>
                <a:lnTo>
                  <a:pt x="37" y="45"/>
                </a:lnTo>
                <a:lnTo>
                  <a:pt x="50" y="50"/>
                </a:lnTo>
                <a:lnTo>
                  <a:pt x="58" y="52"/>
                </a:lnTo>
                <a:lnTo>
                  <a:pt x="85" y="54"/>
                </a:lnTo>
                <a:lnTo>
                  <a:pt x="110" y="56"/>
                </a:lnTo>
                <a:lnTo>
                  <a:pt x="134" y="62"/>
                </a:lnTo>
                <a:lnTo>
                  <a:pt x="159" y="70"/>
                </a:lnTo>
                <a:lnTo>
                  <a:pt x="182" y="79"/>
                </a:lnTo>
                <a:lnTo>
                  <a:pt x="204" y="89"/>
                </a:lnTo>
                <a:lnTo>
                  <a:pt x="227" y="100"/>
                </a:lnTo>
                <a:lnTo>
                  <a:pt x="250" y="114"/>
                </a:lnTo>
                <a:lnTo>
                  <a:pt x="292" y="139"/>
                </a:lnTo>
                <a:lnTo>
                  <a:pt x="336" y="164"/>
                </a:lnTo>
                <a:lnTo>
                  <a:pt x="359" y="175"/>
                </a:lnTo>
                <a:lnTo>
                  <a:pt x="380" y="187"/>
                </a:lnTo>
                <a:lnTo>
                  <a:pt x="403" y="196"/>
                </a:lnTo>
                <a:lnTo>
                  <a:pt x="428" y="204"/>
                </a:lnTo>
                <a:lnTo>
                  <a:pt x="470" y="217"/>
                </a:lnTo>
                <a:lnTo>
                  <a:pt x="512" y="231"/>
                </a:lnTo>
                <a:lnTo>
                  <a:pt x="555" y="242"/>
                </a:lnTo>
                <a:lnTo>
                  <a:pt x="597" y="254"/>
                </a:lnTo>
                <a:lnTo>
                  <a:pt x="639" y="267"/>
                </a:lnTo>
                <a:lnTo>
                  <a:pt x="681" y="279"/>
                </a:lnTo>
                <a:lnTo>
                  <a:pt x="723" y="292"/>
                </a:lnTo>
                <a:lnTo>
                  <a:pt x="766" y="305"/>
                </a:lnTo>
                <a:lnTo>
                  <a:pt x="779" y="313"/>
                </a:lnTo>
                <a:lnTo>
                  <a:pt x="791" y="321"/>
                </a:lnTo>
                <a:lnTo>
                  <a:pt x="802" y="330"/>
                </a:lnTo>
                <a:lnTo>
                  <a:pt x="814" y="340"/>
                </a:lnTo>
                <a:lnTo>
                  <a:pt x="823" y="352"/>
                </a:lnTo>
                <a:lnTo>
                  <a:pt x="833" y="361"/>
                </a:lnTo>
                <a:lnTo>
                  <a:pt x="844" y="371"/>
                </a:lnTo>
                <a:lnTo>
                  <a:pt x="854" y="380"/>
                </a:lnTo>
                <a:lnTo>
                  <a:pt x="862" y="386"/>
                </a:lnTo>
                <a:lnTo>
                  <a:pt x="873" y="394"/>
                </a:lnTo>
                <a:lnTo>
                  <a:pt x="883" y="401"/>
                </a:lnTo>
                <a:lnTo>
                  <a:pt x="894" y="409"/>
                </a:lnTo>
                <a:lnTo>
                  <a:pt x="904" y="415"/>
                </a:lnTo>
                <a:lnTo>
                  <a:pt x="912" y="417"/>
                </a:lnTo>
                <a:lnTo>
                  <a:pt x="915" y="417"/>
                </a:lnTo>
                <a:lnTo>
                  <a:pt x="917" y="417"/>
                </a:lnTo>
                <a:lnTo>
                  <a:pt x="919" y="413"/>
                </a:lnTo>
                <a:lnTo>
                  <a:pt x="921" y="411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Freeform 16"/>
          <p:cNvSpPr/>
          <p:nvPr/>
        </p:nvSpPr>
        <p:spPr>
          <a:xfrm>
            <a:off x="3746520" y="3054240"/>
            <a:ext cx="2076480" cy="1762200"/>
          </a:xfrm>
          <a:custGeom>
            <a:avLst/>
            <a:gdLst>
              <a:gd name="textAreaLeft" fmla="*/ 0 w 2076480"/>
              <a:gd name="textAreaRight" fmla="*/ 2076480 w 2076480"/>
              <a:gd name="textAreaTop" fmla="*/ 0 h 1762200"/>
              <a:gd name="textAreaBottom" fmla="*/ 1762560 h 1762200"/>
            </a:gdLst>
            <a:ahLst/>
            <a:rect l="textAreaLeft" t="textAreaTop" r="textAreaRight" b="textAreaBottom"/>
            <a:pathLst>
              <a:path w="1308" h="1110">
                <a:moveTo>
                  <a:pt x="888" y="0"/>
                </a:moveTo>
                <a:lnTo>
                  <a:pt x="892" y="13"/>
                </a:lnTo>
                <a:lnTo>
                  <a:pt x="896" y="26"/>
                </a:lnTo>
                <a:lnTo>
                  <a:pt x="902" y="42"/>
                </a:lnTo>
                <a:lnTo>
                  <a:pt x="905" y="55"/>
                </a:lnTo>
                <a:lnTo>
                  <a:pt x="911" y="67"/>
                </a:lnTo>
                <a:lnTo>
                  <a:pt x="917" y="80"/>
                </a:lnTo>
                <a:lnTo>
                  <a:pt x="923" y="94"/>
                </a:lnTo>
                <a:lnTo>
                  <a:pt x="928" y="105"/>
                </a:lnTo>
                <a:lnTo>
                  <a:pt x="949" y="143"/>
                </a:lnTo>
                <a:lnTo>
                  <a:pt x="967" y="184"/>
                </a:lnTo>
                <a:lnTo>
                  <a:pt x="984" y="224"/>
                </a:lnTo>
                <a:lnTo>
                  <a:pt x="997" y="262"/>
                </a:lnTo>
                <a:lnTo>
                  <a:pt x="1013" y="303"/>
                </a:lnTo>
                <a:lnTo>
                  <a:pt x="1028" y="343"/>
                </a:lnTo>
                <a:lnTo>
                  <a:pt x="1043" y="381"/>
                </a:lnTo>
                <a:lnTo>
                  <a:pt x="1061" y="420"/>
                </a:lnTo>
                <a:lnTo>
                  <a:pt x="1103" y="502"/>
                </a:lnTo>
                <a:lnTo>
                  <a:pt x="1143" y="585"/>
                </a:lnTo>
                <a:lnTo>
                  <a:pt x="1184" y="667"/>
                </a:lnTo>
                <a:lnTo>
                  <a:pt x="1218" y="750"/>
                </a:lnTo>
                <a:lnTo>
                  <a:pt x="1235" y="792"/>
                </a:lnTo>
                <a:lnTo>
                  <a:pt x="1251" y="834"/>
                </a:lnTo>
                <a:lnTo>
                  <a:pt x="1264" y="876"/>
                </a:lnTo>
                <a:lnTo>
                  <a:pt x="1278" y="920"/>
                </a:lnTo>
                <a:lnTo>
                  <a:pt x="1287" y="964"/>
                </a:lnTo>
                <a:lnTo>
                  <a:pt x="1297" y="1009"/>
                </a:lnTo>
                <a:lnTo>
                  <a:pt x="1303" y="1053"/>
                </a:lnTo>
                <a:lnTo>
                  <a:pt x="1308" y="1099"/>
                </a:lnTo>
                <a:lnTo>
                  <a:pt x="1306" y="1101"/>
                </a:lnTo>
                <a:lnTo>
                  <a:pt x="1304" y="1103"/>
                </a:lnTo>
                <a:lnTo>
                  <a:pt x="1301" y="1106"/>
                </a:lnTo>
                <a:lnTo>
                  <a:pt x="1297" y="1108"/>
                </a:lnTo>
                <a:lnTo>
                  <a:pt x="1293" y="1110"/>
                </a:lnTo>
                <a:lnTo>
                  <a:pt x="1287" y="1110"/>
                </a:lnTo>
                <a:lnTo>
                  <a:pt x="1283" y="1108"/>
                </a:lnTo>
                <a:lnTo>
                  <a:pt x="1279" y="1106"/>
                </a:lnTo>
                <a:lnTo>
                  <a:pt x="1266" y="1091"/>
                </a:lnTo>
                <a:lnTo>
                  <a:pt x="1255" y="1074"/>
                </a:lnTo>
                <a:lnTo>
                  <a:pt x="1243" y="1058"/>
                </a:lnTo>
                <a:lnTo>
                  <a:pt x="1233" y="1041"/>
                </a:lnTo>
                <a:lnTo>
                  <a:pt x="1214" y="1007"/>
                </a:lnTo>
                <a:lnTo>
                  <a:pt x="1199" y="970"/>
                </a:lnTo>
                <a:lnTo>
                  <a:pt x="1185" y="932"/>
                </a:lnTo>
                <a:lnTo>
                  <a:pt x="1174" y="895"/>
                </a:lnTo>
                <a:lnTo>
                  <a:pt x="1162" y="859"/>
                </a:lnTo>
                <a:lnTo>
                  <a:pt x="1151" y="821"/>
                </a:lnTo>
                <a:lnTo>
                  <a:pt x="1126" y="750"/>
                </a:lnTo>
                <a:lnTo>
                  <a:pt x="1101" y="679"/>
                </a:lnTo>
                <a:lnTo>
                  <a:pt x="1076" y="610"/>
                </a:lnTo>
                <a:lnTo>
                  <a:pt x="1049" y="540"/>
                </a:lnTo>
                <a:lnTo>
                  <a:pt x="1022" y="471"/>
                </a:lnTo>
                <a:lnTo>
                  <a:pt x="997" y="402"/>
                </a:lnTo>
                <a:lnTo>
                  <a:pt x="971" y="331"/>
                </a:lnTo>
                <a:lnTo>
                  <a:pt x="948" y="260"/>
                </a:lnTo>
                <a:lnTo>
                  <a:pt x="944" y="241"/>
                </a:lnTo>
                <a:lnTo>
                  <a:pt x="944" y="222"/>
                </a:lnTo>
                <a:lnTo>
                  <a:pt x="946" y="203"/>
                </a:lnTo>
                <a:lnTo>
                  <a:pt x="949" y="182"/>
                </a:lnTo>
                <a:lnTo>
                  <a:pt x="949" y="163"/>
                </a:lnTo>
                <a:lnTo>
                  <a:pt x="948" y="143"/>
                </a:lnTo>
                <a:lnTo>
                  <a:pt x="944" y="134"/>
                </a:lnTo>
                <a:lnTo>
                  <a:pt x="938" y="124"/>
                </a:lnTo>
                <a:lnTo>
                  <a:pt x="932" y="117"/>
                </a:lnTo>
                <a:lnTo>
                  <a:pt x="925" y="107"/>
                </a:lnTo>
                <a:lnTo>
                  <a:pt x="928" y="113"/>
                </a:lnTo>
                <a:lnTo>
                  <a:pt x="932" y="120"/>
                </a:lnTo>
                <a:lnTo>
                  <a:pt x="934" y="128"/>
                </a:lnTo>
                <a:lnTo>
                  <a:pt x="934" y="140"/>
                </a:lnTo>
                <a:lnTo>
                  <a:pt x="934" y="163"/>
                </a:lnTo>
                <a:lnTo>
                  <a:pt x="932" y="189"/>
                </a:lnTo>
                <a:lnTo>
                  <a:pt x="930" y="216"/>
                </a:lnTo>
                <a:lnTo>
                  <a:pt x="926" y="245"/>
                </a:lnTo>
                <a:lnTo>
                  <a:pt x="925" y="272"/>
                </a:lnTo>
                <a:lnTo>
                  <a:pt x="926" y="295"/>
                </a:lnTo>
                <a:lnTo>
                  <a:pt x="932" y="324"/>
                </a:lnTo>
                <a:lnTo>
                  <a:pt x="938" y="353"/>
                </a:lnTo>
                <a:lnTo>
                  <a:pt x="944" y="379"/>
                </a:lnTo>
                <a:lnTo>
                  <a:pt x="951" y="408"/>
                </a:lnTo>
                <a:lnTo>
                  <a:pt x="959" y="437"/>
                </a:lnTo>
                <a:lnTo>
                  <a:pt x="965" y="464"/>
                </a:lnTo>
                <a:lnTo>
                  <a:pt x="971" y="493"/>
                </a:lnTo>
                <a:lnTo>
                  <a:pt x="974" y="521"/>
                </a:lnTo>
                <a:lnTo>
                  <a:pt x="982" y="587"/>
                </a:lnTo>
                <a:lnTo>
                  <a:pt x="990" y="654"/>
                </a:lnTo>
                <a:lnTo>
                  <a:pt x="997" y="719"/>
                </a:lnTo>
                <a:lnTo>
                  <a:pt x="1003" y="784"/>
                </a:lnTo>
                <a:lnTo>
                  <a:pt x="1011" y="851"/>
                </a:lnTo>
                <a:lnTo>
                  <a:pt x="1017" y="916"/>
                </a:lnTo>
                <a:lnTo>
                  <a:pt x="1020" y="984"/>
                </a:lnTo>
                <a:lnTo>
                  <a:pt x="1026" y="1051"/>
                </a:lnTo>
                <a:lnTo>
                  <a:pt x="1024" y="1060"/>
                </a:lnTo>
                <a:lnTo>
                  <a:pt x="1019" y="1070"/>
                </a:lnTo>
                <a:lnTo>
                  <a:pt x="1009" y="1080"/>
                </a:lnTo>
                <a:lnTo>
                  <a:pt x="999" y="1085"/>
                </a:lnTo>
                <a:lnTo>
                  <a:pt x="994" y="1087"/>
                </a:lnTo>
                <a:lnTo>
                  <a:pt x="990" y="1089"/>
                </a:lnTo>
                <a:lnTo>
                  <a:pt x="984" y="1089"/>
                </a:lnTo>
                <a:lnTo>
                  <a:pt x="978" y="1087"/>
                </a:lnTo>
                <a:lnTo>
                  <a:pt x="974" y="1085"/>
                </a:lnTo>
                <a:lnTo>
                  <a:pt x="969" y="1081"/>
                </a:lnTo>
                <a:lnTo>
                  <a:pt x="965" y="1078"/>
                </a:lnTo>
                <a:lnTo>
                  <a:pt x="963" y="1070"/>
                </a:lnTo>
                <a:lnTo>
                  <a:pt x="951" y="1037"/>
                </a:lnTo>
                <a:lnTo>
                  <a:pt x="942" y="1005"/>
                </a:lnTo>
                <a:lnTo>
                  <a:pt x="936" y="972"/>
                </a:lnTo>
                <a:lnTo>
                  <a:pt x="932" y="938"/>
                </a:lnTo>
                <a:lnTo>
                  <a:pt x="930" y="869"/>
                </a:lnTo>
                <a:lnTo>
                  <a:pt x="930" y="799"/>
                </a:lnTo>
                <a:lnTo>
                  <a:pt x="930" y="732"/>
                </a:lnTo>
                <a:lnTo>
                  <a:pt x="926" y="665"/>
                </a:lnTo>
                <a:lnTo>
                  <a:pt x="921" y="633"/>
                </a:lnTo>
                <a:lnTo>
                  <a:pt x="915" y="602"/>
                </a:lnTo>
                <a:lnTo>
                  <a:pt x="905" y="569"/>
                </a:lnTo>
                <a:lnTo>
                  <a:pt x="894" y="539"/>
                </a:lnTo>
                <a:lnTo>
                  <a:pt x="884" y="514"/>
                </a:lnTo>
                <a:lnTo>
                  <a:pt x="877" y="487"/>
                </a:lnTo>
                <a:lnTo>
                  <a:pt x="871" y="460"/>
                </a:lnTo>
                <a:lnTo>
                  <a:pt x="867" y="433"/>
                </a:lnTo>
                <a:lnTo>
                  <a:pt x="865" y="404"/>
                </a:lnTo>
                <a:lnTo>
                  <a:pt x="863" y="377"/>
                </a:lnTo>
                <a:lnTo>
                  <a:pt x="863" y="349"/>
                </a:lnTo>
                <a:lnTo>
                  <a:pt x="865" y="320"/>
                </a:lnTo>
                <a:lnTo>
                  <a:pt x="871" y="262"/>
                </a:lnTo>
                <a:lnTo>
                  <a:pt x="877" y="205"/>
                </a:lnTo>
                <a:lnTo>
                  <a:pt x="882" y="149"/>
                </a:lnTo>
                <a:lnTo>
                  <a:pt x="888" y="94"/>
                </a:lnTo>
                <a:lnTo>
                  <a:pt x="888" y="95"/>
                </a:lnTo>
                <a:lnTo>
                  <a:pt x="888" y="95"/>
                </a:lnTo>
                <a:lnTo>
                  <a:pt x="888" y="94"/>
                </a:lnTo>
                <a:lnTo>
                  <a:pt x="886" y="92"/>
                </a:lnTo>
                <a:lnTo>
                  <a:pt x="884" y="92"/>
                </a:lnTo>
                <a:lnTo>
                  <a:pt x="882" y="92"/>
                </a:lnTo>
                <a:lnTo>
                  <a:pt x="880" y="92"/>
                </a:lnTo>
                <a:lnTo>
                  <a:pt x="875" y="94"/>
                </a:lnTo>
                <a:lnTo>
                  <a:pt x="867" y="101"/>
                </a:lnTo>
                <a:lnTo>
                  <a:pt x="855" y="107"/>
                </a:lnTo>
                <a:lnTo>
                  <a:pt x="846" y="111"/>
                </a:lnTo>
                <a:lnTo>
                  <a:pt x="834" y="115"/>
                </a:lnTo>
                <a:lnTo>
                  <a:pt x="825" y="117"/>
                </a:lnTo>
                <a:lnTo>
                  <a:pt x="813" y="120"/>
                </a:lnTo>
                <a:lnTo>
                  <a:pt x="804" y="126"/>
                </a:lnTo>
                <a:lnTo>
                  <a:pt x="794" y="132"/>
                </a:lnTo>
                <a:lnTo>
                  <a:pt x="698" y="222"/>
                </a:lnTo>
                <a:lnTo>
                  <a:pt x="606" y="314"/>
                </a:lnTo>
                <a:lnTo>
                  <a:pt x="512" y="404"/>
                </a:lnTo>
                <a:lnTo>
                  <a:pt x="420" y="493"/>
                </a:lnTo>
                <a:lnTo>
                  <a:pt x="372" y="537"/>
                </a:lnTo>
                <a:lnTo>
                  <a:pt x="322" y="579"/>
                </a:lnTo>
                <a:lnTo>
                  <a:pt x="274" y="619"/>
                </a:lnTo>
                <a:lnTo>
                  <a:pt x="222" y="658"/>
                </a:lnTo>
                <a:lnTo>
                  <a:pt x="171" y="694"/>
                </a:lnTo>
                <a:lnTo>
                  <a:pt x="115" y="728"/>
                </a:lnTo>
                <a:lnTo>
                  <a:pt x="59" y="761"/>
                </a:lnTo>
                <a:lnTo>
                  <a:pt x="0" y="792"/>
                </a:lnTo>
                <a:lnTo>
                  <a:pt x="65" y="732"/>
                </a:lnTo>
                <a:lnTo>
                  <a:pt x="128" y="675"/>
                </a:lnTo>
                <a:lnTo>
                  <a:pt x="192" y="617"/>
                </a:lnTo>
                <a:lnTo>
                  <a:pt x="255" y="558"/>
                </a:lnTo>
                <a:lnTo>
                  <a:pt x="320" y="500"/>
                </a:lnTo>
                <a:lnTo>
                  <a:pt x="387" y="445"/>
                </a:lnTo>
                <a:lnTo>
                  <a:pt x="422" y="418"/>
                </a:lnTo>
                <a:lnTo>
                  <a:pt x="456" y="391"/>
                </a:lnTo>
                <a:lnTo>
                  <a:pt x="493" y="364"/>
                </a:lnTo>
                <a:lnTo>
                  <a:pt x="529" y="339"/>
                </a:lnTo>
                <a:lnTo>
                  <a:pt x="547" y="328"/>
                </a:lnTo>
                <a:lnTo>
                  <a:pt x="560" y="316"/>
                </a:lnTo>
                <a:lnTo>
                  <a:pt x="575" y="303"/>
                </a:lnTo>
                <a:lnTo>
                  <a:pt x="589" y="291"/>
                </a:lnTo>
                <a:lnTo>
                  <a:pt x="614" y="262"/>
                </a:lnTo>
                <a:lnTo>
                  <a:pt x="639" y="235"/>
                </a:lnTo>
                <a:lnTo>
                  <a:pt x="662" y="207"/>
                </a:lnTo>
                <a:lnTo>
                  <a:pt x="687" y="180"/>
                </a:lnTo>
                <a:lnTo>
                  <a:pt x="700" y="166"/>
                </a:lnTo>
                <a:lnTo>
                  <a:pt x="715" y="153"/>
                </a:lnTo>
                <a:lnTo>
                  <a:pt x="729" y="141"/>
                </a:lnTo>
                <a:lnTo>
                  <a:pt x="746" y="130"/>
                </a:lnTo>
                <a:lnTo>
                  <a:pt x="758" y="122"/>
                </a:lnTo>
                <a:lnTo>
                  <a:pt x="771" y="115"/>
                </a:lnTo>
                <a:lnTo>
                  <a:pt x="783" y="107"/>
                </a:lnTo>
                <a:lnTo>
                  <a:pt x="794" y="101"/>
                </a:lnTo>
                <a:lnTo>
                  <a:pt x="806" y="94"/>
                </a:lnTo>
                <a:lnTo>
                  <a:pt x="817" y="86"/>
                </a:lnTo>
                <a:lnTo>
                  <a:pt x="829" y="78"/>
                </a:lnTo>
                <a:lnTo>
                  <a:pt x="840" y="71"/>
                </a:lnTo>
                <a:lnTo>
                  <a:pt x="827" y="82"/>
                </a:lnTo>
                <a:lnTo>
                  <a:pt x="813" y="95"/>
                </a:lnTo>
                <a:lnTo>
                  <a:pt x="802" y="109"/>
                </a:lnTo>
                <a:lnTo>
                  <a:pt x="788" y="120"/>
                </a:lnTo>
                <a:lnTo>
                  <a:pt x="777" y="134"/>
                </a:lnTo>
                <a:lnTo>
                  <a:pt x="763" y="145"/>
                </a:lnTo>
                <a:lnTo>
                  <a:pt x="748" y="155"/>
                </a:lnTo>
                <a:lnTo>
                  <a:pt x="733" y="163"/>
                </a:lnTo>
                <a:lnTo>
                  <a:pt x="702" y="176"/>
                </a:lnTo>
                <a:lnTo>
                  <a:pt x="671" y="189"/>
                </a:lnTo>
                <a:lnTo>
                  <a:pt x="641" y="205"/>
                </a:lnTo>
                <a:lnTo>
                  <a:pt x="612" y="220"/>
                </a:lnTo>
                <a:lnTo>
                  <a:pt x="554" y="255"/>
                </a:lnTo>
                <a:lnTo>
                  <a:pt x="497" y="289"/>
                </a:lnTo>
                <a:lnTo>
                  <a:pt x="441" y="326"/>
                </a:lnTo>
                <a:lnTo>
                  <a:pt x="385" y="362"/>
                </a:lnTo>
                <a:lnTo>
                  <a:pt x="328" y="399"/>
                </a:lnTo>
                <a:lnTo>
                  <a:pt x="270" y="433"/>
                </a:lnTo>
                <a:lnTo>
                  <a:pt x="251" y="445"/>
                </a:lnTo>
                <a:lnTo>
                  <a:pt x="232" y="454"/>
                </a:lnTo>
                <a:lnTo>
                  <a:pt x="213" y="466"/>
                </a:lnTo>
                <a:lnTo>
                  <a:pt x="192" y="477"/>
                </a:lnTo>
                <a:lnTo>
                  <a:pt x="171" y="487"/>
                </a:lnTo>
                <a:lnTo>
                  <a:pt x="151" y="494"/>
                </a:lnTo>
                <a:lnTo>
                  <a:pt x="128" y="502"/>
                </a:lnTo>
                <a:lnTo>
                  <a:pt x="107" y="508"/>
                </a:lnTo>
                <a:lnTo>
                  <a:pt x="159" y="485"/>
                </a:lnTo>
                <a:lnTo>
                  <a:pt x="209" y="458"/>
                </a:lnTo>
                <a:lnTo>
                  <a:pt x="257" y="431"/>
                </a:lnTo>
                <a:lnTo>
                  <a:pt x="305" y="402"/>
                </a:lnTo>
                <a:lnTo>
                  <a:pt x="353" y="377"/>
                </a:lnTo>
                <a:lnTo>
                  <a:pt x="403" y="354"/>
                </a:lnTo>
                <a:lnTo>
                  <a:pt x="428" y="345"/>
                </a:lnTo>
                <a:lnTo>
                  <a:pt x="454" y="335"/>
                </a:lnTo>
                <a:lnTo>
                  <a:pt x="481" y="328"/>
                </a:lnTo>
                <a:lnTo>
                  <a:pt x="510" y="320"/>
                </a:lnTo>
                <a:lnTo>
                  <a:pt x="524" y="297"/>
                </a:lnTo>
                <a:lnTo>
                  <a:pt x="541" y="276"/>
                </a:lnTo>
                <a:lnTo>
                  <a:pt x="560" y="257"/>
                </a:lnTo>
                <a:lnTo>
                  <a:pt x="579" y="239"/>
                </a:lnTo>
                <a:lnTo>
                  <a:pt x="598" y="224"/>
                </a:lnTo>
                <a:lnTo>
                  <a:pt x="621" y="209"/>
                </a:lnTo>
                <a:lnTo>
                  <a:pt x="642" y="195"/>
                </a:lnTo>
                <a:lnTo>
                  <a:pt x="666" y="184"/>
                </a:lnTo>
                <a:lnTo>
                  <a:pt x="713" y="161"/>
                </a:lnTo>
                <a:lnTo>
                  <a:pt x="760" y="138"/>
                </a:lnTo>
                <a:lnTo>
                  <a:pt x="784" y="124"/>
                </a:lnTo>
                <a:lnTo>
                  <a:pt x="808" y="113"/>
                </a:lnTo>
                <a:lnTo>
                  <a:pt x="831" y="99"/>
                </a:lnTo>
                <a:lnTo>
                  <a:pt x="854" y="84"/>
                </a:lnTo>
                <a:lnTo>
                  <a:pt x="848" y="90"/>
                </a:lnTo>
                <a:lnTo>
                  <a:pt x="846" y="99"/>
                </a:lnTo>
                <a:lnTo>
                  <a:pt x="846" y="111"/>
                </a:lnTo>
                <a:lnTo>
                  <a:pt x="848" y="124"/>
                </a:lnTo>
                <a:lnTo>
                  <a:pt x="848" y="140"/>
                </a:lnTo>
                <a:lnTo>
                  <a:pt x="850" y="153"/>
                </a:lnTo>
                <a:lnTo>
                  <a:pt x="850" y="166"/>
                </a:lnTo>
                <a:lnTo>
                  <a:pt x="848" y="176"/>
                </a:lnTo>
                <a:lnTo>
                  <a:pt x="838" y="201"/>
                </a:lnTo>
                <a:lnTo>
                  <a:pt x="829" y="226"/>
                </a:lnTo>
                <a:lnTo>
                  <a:pt x="815" y="251"/>
                </a:lnTo>
                <a:lnTo>
                  <a:pt x="802" y="276"/>
                </a:lnTo>
                <a:lnTo>
                  <a:pt x="775" y="322"/>
                </a:lnTo>
                <a:lnTo>
                  <a:pt x="744" y="368"/>
                </a:lnTo>
                <a:lnTo>
                  <a:pt x="717" y="412"/>
                </a:lnTo>
                <a:lnTo>
                  <a:pt x="694" y="460"/>
                </a:lnTo>
                <a:lnTo>
                  <a:pt x="685" y="483"/>
                </a:lnTo>
                <a:lnTo>
                  <a:pt x="675" y="508"/>
                </a:lnTo>
                <a:lnTo>
                  <a:pt x="669" y="531"/>
                </a:lnTo>
                <a:lnTo>
                  <a:pt x="667" y="558"/>
                </a:lnTo>
                <a:lnTo>
                  <a:pt x="664" y="594"/>
                </a:lnTo>
                <a:lnTo>
                  <a:pt x="658" y="631"/>
                </a:lnTo>
                <a:lnTo>
                  <a:pt x="652" y="665"/>
                </a:lnTo>
                <a:lnTo>
                  <a:pt x="642" y="702"/>
                </a:lnTo>
                <a:lnTo>
                  <a:pt x="625" y="771"/>
                </a:lnTo>
                <a:lnTo>
                  <a:pt x="602" y="838"/>
                </a:lnTo>
                <a:lnTo>
                  <a:pt x="579" y="905"/>
                </a:lnTo>
                <a:lnTo>
                  <a:pt x="554" y="972"/>
                </a:lnTo>
                <a:lnTo>
                  <a:pt x="531" y="1039"/>
                </a:lnTo>
                <a:lnTo>
                  <a:pt x="510" y="1108"/>
                </a:lnTo>
                <a:lnTo>
                  <a:pt x="541" y="1066"/>
                </a:lnTo>
                <a:lnTo>
                  <a:pt x="570" y="1020"/>
                </a:lnTo>
                <a:lnTo>
                  <a:pt x="596" y="974"/>
                </a:lnTo>
                <a:lnTo>
                  <a:pt x="619" y="928"/>
                </a:lnTo>
                <a:lnTo>
                  <a:pt x="641" y="880"/>
                </a:lnTo>
                <a:lnTo>
                  <a:pt x="660" y="830"/>
                </a:lnTo>
                <a:lnTo>
                  <a:pt x="677" y="780"/>
                </a:lnTo>
                <a:lnTo>
                  <a:pt x="694" y="730"/>
                </a:lnTo>
                <a:lnTo>
                  <a:pt x="708" y="679"/>
                </a:lnTo>
                <a:lnTo>
                  <a:pt x="721" y="627"/>
                </a:lnTo>
                <a:lnTo>
                  <a:pt x="733" y="575"/>
                </a:lnTo>
                <a:lnTo>
                  <a:pt x="744" y="521"/>
                </a:lnTo>
                <a:lnTo>
                  <a:pt x="763" y="416"/>
                </a:lnTo>
                <a:lnTo>
                  <a:pt x="784" y="308"/>
                </a:lnTo>
                <a:lnTo>
                  <a:pt x="788" y="293"/>
                </a:lnTo>
                <a:lnTo>
                  <a:pt x="794" y="280"/>
                </a:lnTo>
                <a:lnTo>
                  <a:pt x="800" y="266"/>
                </a:lnTo>
                <a:lnTo>
                  <a:pt x="806" y="253"/>
                </a:lnTo>
                <a:lnTo>
                  <a:pt x="811" y="241"/>
                </a:lnTo>
                <a:lnTo>
                  <a:pt x="817" y="228"/>
                </a:lnTo>
                <a:lnTo>
                  <a:pt x="821" y="214"/>
                </a:lnTo>
                <a:lnTo>
                  <a:pt x="823" y="201"/>
                </a:lnTo>
                <a:lnTo>
                  <a:pt x="825" y="180"/>
                </a:lnTo>
                <a:lnTo>
                  <a:pt x="829" y="157"/>
                </a:lnTo>
                <a:lnTo>
                  <a:pt x="832" y="136"/>
                </a:lnTo>
                <a:lnTo>
                  <a:pt x="836" y="113"/>
                </a:lnTo>
                <a:lnTo>
                  <a:pt x="840" y="92"/>
                </a:lnTo>
                <a:lnTo>
                  <a:pt x="842" y="69"/>
                </a:lnTo>
                <a:lnTo>
                  <a:pt x="842" y="47"/>
                </a:lnTo>
                <a:lnTo>
                  <a:pt x="840" y="26"/>
                </a:lnTo>
                <a:lnTo>
                  <a:pt x="888" y="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Freeform 17"/>
          <p:cNvSpPr/>
          <p:nvPr/>
        </p:nvSpPr>
        <p:spPr>
          <a:xfrm>
            <a:off x="5156280" y="1708200"/>
            <a:ext cx="1272960" cy="1290600"/>
          </a:xfrm>
          <a:custGeom>
            <a:avLst/>
            <a:gdLst>
              <a:gd name="textAreaLeft" fmla="*/ 0 w 1272960"/>
              <a:gd name="textAreaRight" fmla="*/ 1273320 w 1272960"/>
              <a:gd name="textAreaTop" fmla="*/ 0 h 1290600"/>
              <a:gd name="textAreaBottom" fmla="*/ 1290960 h 1290600"/>
            </a:gdLst>
            <a:ahLst/>
            <a:rect l="textAreaLeft" t="textAreaTop" r="textAreaRight" b="textAreaBottom"/>
            <a:pathLst>
              <a:path w="802" h="813">
                <a:moveTo>
                  <a:pt x="0" y="813"/>
                </a:moveTo>
                <a:lnTo>
                  <a:pt x="2" y="800"/>
                </a:lnTo>
                <a:lnTo>
                  <a:pt x="6" y="786"/>
                </a:lnTo>
                <a:lnTo>
                  <a:pt x="10" y="773"/>
                </a:lnTo>
                <a:lnTo>
                  <a:pt x="15" y="761"/>
                </a:lnTo>
                <a:lnTo>
                  <a:pt x="27" y="738"/>
                </a:lnTo>
                <a:lnTo>
                  <a:pt x="42" y="717"/>
                </a:lnTo>
                <a:lnTo>
                  <a:pt x="60" y="698"/>
                </a:lnTo>
                <a:lnTo>
                  <a:pt x="77" y="679"/>
                </a:lnTo>
                <a:lnTo>
                  <a:pt x="96" y="661"/>
                </a:lnTo>
                <a:lnTo>
                  <a:pt x="115" y="644"/>
                </a:lnTo>
                <a:lnTo>
                  <a:pt x="157" y="604"/>
                </a:lnTo>
                <a:lnTo>
                  <a:pt x="202" y="564"/>
                </a:lnTo>
                <a:lnTo>
                  <a:pt x="244" y="521"/>
                </a:lnTo>
                <a:lnTo>
                  <a:pt x="286" y="481"/>
                </a:lnTo>
                <a:lnTo>
                  <a:pt x="328" y="439"/>
                </a:lnTo>
                <a:lnTo>
                  <a:pt x="368" y="397"/>
                </a:lnTo>
                <a:lnTo>
                  <a:pt x="411" y="355"/>
                </a:lnTo>
                <a:lnTo>
                  <a:pt x="453" y="312"/>
                </a:lnTo>
                <a:lnTo>
                  <a:pt x="489" y="272"/>
                </a:lnTo>
                <a:lnTo>
                  <a:pt x="524" y="232"/>
                </a:lnTo>
                <a:lnTo>
                  <a:pt x="558" y="191"/>
                </a:lnTo>
                <a:lnTo>
                  <a:pt x="591" y="151"/>
                </a:lnTo>
                <a:lnTo>
                  <a:pt x="627" y="113"/>
                </a:lnTo>
                <a:lnTo>
                  <a:pt x="664" y="74"/>
                </a:lnTo>
                <a:lnTo>
                  <a:pt x="702" y="38"/>
                </a:lnTo>
                <a:lnTo>
                  <a:pt x="746" y="3"/>
                </a:lnTo>
                <a:lnTo>
                  <a:pt x="750" y="2"/>
                </a:lnTo>
                <a:lnTo>
                  <a:pt x="756" y="0"/>
                </a:lnTo>
                <a:lnTo>
                  <a:pt x="764" y="0"/>
                </a:lnTo>
                <a:lnTo>
                  <a:pt x="771" y="0"/>
                </a:lnTo>
                <a:lnTo>
                  <a:pt x="779" y="0"/>
                </a:lnTo>
                <a:lnTo>
                  <a:pt x="787" y="0"/>
                </a:lnTo>
                <a:lnTo>
                  <a:pt x="794" y="2"/>
                </a:lnTo>
                <a:lnTo>
                  <a:pt x="802" y="2"/>
                </a:lnTo>
                <a:lnTo>
                  <a:pt x="785" y="25"/>
                </a:lnTo>
                <a:lnTo>
                  <a:pt x="766" y="48"/>
                </a:lnTo>
                <a:lnTo>
                  <a:pt x="748" y="71"/>
                </a:lnTo>
                <a:lnTo>
                  <a:pt x="729" y="92"/>
                </a:lnTo>
                <a:lnTo>
                  <a:pt x="689" y="134"/>
                </a:lnTo>
                <a:lnTo>
                  <a:pt x="647" y="174"/>
                </a:lnTo>
                <a:lnTo>
                  <a:pt x="604" y="214"/>
                </a:lnTo>
                <a:lnTo>
                  <a:pt x="564" y="255"/>
                </a:lnTo>
                <a:lnTo>
                  <a:pt x="522" y="299"/>
                </a:lnTo>
                <a:lnTo>
                  <a:pt x="484" y="345"/>
                </a:lnTo>
                <a:lnTo>
                  <a:pt x="447" y="389"/>
                </a:lnTo>
                <a:lnTo>
                  <a:pt x="407" y="431"/>
                </a:lnTo>
                <a:lnTo>
                  <a:pt x="365" y="470"/>
                </a:lnTo>
                <a:lnTo>
                  <a:pt x="322" y="506"/>
                </a:lnTo>
                <a:lnTo>
                  <a:pt x="276" y="543"/>
                </a:lnTo>
                <a:lnTo>
                  <a:pt x="230" y="575"/>
                </a:lnTo>
                <a:lnTo>
                  <a:pt x="180" y="608"/>
                </a:lnTo>
                <a:lnTo>
                  <a:pt x="131" y="640"/>
                </a:lnTo>
                <a:lnTo>
                  <a:pt x="117" y="648"/>
                </a:lnTo>
                <a:lnTo>
                  <a:pt x="106" y="656"/>
                </a:lnTo>
                <a:lnTo>
                  <a:pt x="96" y="665"/>
                </a:lnTo>
                <a:lnTo>
                  <a:pt x="86" y="677"/>
                </a:lnTo>
                <a:lnTo>
                  <a:pt x="71" y="698"/>
                </a:lnTo>
                <a:lnTo>
                  <a:pt x="56" y="721"/>
                </a:lnTo>
                <a:lnTo>
                  <a:pt x="42" y="744"/>
                </a:lnTo>
                <a:lnTo>
                  <a:pt x="29" y="767"/>
                </a:lnTo>
                <a:lnTo>
                  <a:pt x="15" y="790"/>
                </a:lnTo>
                <a:lnTo>
                  <a:pt x="0" y="813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Freeform 18"/>
          <p:cNvSpPr/>
          <p:nvPr/>
        </p:nvSpPr>
        <p:spPr>
          <a:xfrm>
            <a:off x="5302080" y="1576440"/>
            <a:ext cx="1070280" cy="1123920"/>
          </a:xfrm>
          <a:custGeom>
            <a:avLst/>
            <a:gdLst>
              <a:gd name="textAreaLeft" fmla="*/ 0 w 1070280"/>
              <a:gd name="textAreaRight" fmla="*/ 1070640 w 107028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674" h="708">
                <a:moveTo>
                  <a:pt x="62" y="708"/>
                </a:moveTo>
                <a:lnTo>
                  <a:pt x="65" y="696"/>
                </a:lnTo>
                <a:lnTo>
                  <a:pt x="69" y="687"/>
                </a:lnTo>
                <a:lnTo>
                  <a:pt x="73" y="675"/>
                </a:lnTo>
                <a:lnTo>
                  <a:pt x="77" y="666"/>
                </a:lnTo>
                <a:lnTo>
                  <a:pt x="83" y="656"/>
                </a:lnTo>
                <a:lnTo>
                  <a:pt x="87" y="647"/>
                </a:lnTo>
                <a:lnTo>
                  <a:pt x="92" y="637"/>
                </a:lnTo>
                <a:lnTo>
                  <a:pt x="100" y="629"/>
                </a:lnTo>
                <a:lnTo>
                  <a:pt x="115" y="606"/>
                </a:lnTo>
                <a:lnTo>
                  <a:pt x="133" y="585"/>
                </a:lnTo>
                <a:lnTo>
                  <a:pt x="146" y="564"/>
                </a:lnTo>
                <a:lnTo>
                  <a:pt x="161" y="541"/>
                </a:lnTo>
                <a:lnTo>
                  <a:pt x="177" y="520"/>
                </a:lnTo>
                <a:lnTo>
                  <a:pt x="190" y="497"/>
                </a:lnTo>
                <a:lnTo>
                  <a:pt x="204" y="474"/>
                </a:lnTo>
                <a:lnTo>
                  <a:pt x="219" y="451"/>
                </a:lnTo>
                <a:lnTo>
                  <a:pt x="236" y="426"/>
                </a:lnTo>
                <a:lnTo>
                  <a:pt x="253" y="401"/>
                </a:lnTo>
                <a:lnTo>
                  <a:pt x="271" y="378"/>
                </a:lnTo>
                <a:lnTo>
                  <a:pt x="290" y="357"/>
                </a:lnTo>
                <a:lnTo>
                  <a:pt x="328" y="313"/>
                </a:lnTo>
                <a:lnTo>
                  <a:pt x="367" y="271"/>
                </a:lnTo>
                <a:lnTo>
                  <a:pt x="403" y="226"/>
                </a:lnTo>
                <a:lnTo>
                  <a:pt x="438" y="180"/>
                </a:lnTo>
                <a:lnTo>
                  <a:pt x="451" y="157"/>
                </a:lnTo>
                <a:lnTo>
                  <a:pt x="466" y="132"/>
                </a:lnTo>
                <a:lnTo>
                  <a:pt x="478" y="106"/>
                </a:lnTo>
                <a:lnTo>
                  <a:pt x="488" y="79"/>
                </a:lnTo>
                <a:lnTo>
                  <a:pt x="491" y="69"/>
                </a:lnTo>
                <a:lnTo>
                  <a:pt x="497" y="58"/>
                </a:lnTo>
                <a:lnTo>
                  <a:pt x="505" y="46"/>
                </a:lnTo>
                <a:lnTo>
                  <a:pt x="509" y="33"/>
                </a:lnTo>
                <a:lnTo>
                  <a:pt x="512" y="19"/>
                </a:lnTo>
                <a:lnTo>
                  <a:pt x="512" y="10"/>
                </a:lnTo>
                <a:lnTo>
                  <a:pt x="511" y="6"/>
                </a:lnTo>
                <a:lnTo>
                  <a:pt x="509" y="4"/>
                </a:lnTo>
                <a:lnTo>
                  <a:pt x="505" y="2"/>
                </a:lnTo>
                <a:lnTo>
                  <a:pt x="499" y="0"/>
                </a:lnTo>
                <a:lnTo>
                  <a:pt x="491" y="0"/>
                </a:lnTo>
                <a:lnTo>
                  <a:pt x="486" y="2"/>
                </a:lnTo>
                <a:lnTo>
                  <a:pt x="478" y="6"/>
                </a:lnTo>
                <a:lnTo>
                  <a:pt x="472" y="10"/>
                </a:lnTo>
                <a:lnTo>
                  <a:pt x="461" y="19"/>
                </a:lnTo>
                <a:lnTo>
                  <a:pt x="449" y="33"/>
                </a:lnTo>
                <a:lnTo>
                  <a:pt x="438" y="50"/>
                </a:lnTo>
                <a:lnTo>
                  <a:pt x="428" y="65"/>
                </a:lnTo>
                <a:lnTo>
                  <a:pt x="417" y="83"/>
                </a:lnTo>
                <a:lnTo>
                  <a:pt x="407" y="98"/>
                </a:lnTo>
                <a:lnTo>
                  <a:pt x="365" y="163"/>
                </a:lnTo>
                <a:lnTo>
                  <a:pt x="326" y="228"/>
                </a:lnTo>
                <a:lnTo>
                  <a:pt x="290" y="294"/>
                </a:lnTo>
                <a:lnTo>
                  <a:pt x="255" y="359"/>
                </a:lnTo>
                <a:lnTo>
                  <a:pt x="221" y="424"/>
                </a:lnTo>
                <a:lnTo>
                  <a:pt x="186" y="489"/>
                </a:lnTo>
                <a:lnTo>
                  <a:pt x="150" y="555"/>
                </a:lnTo>
                <a:lnTo>
                  <a:pt x="111" y="622"/>
                </a:lnTo>
                <a:lnTo>
                  <a:pt x="106" y="633"/>
                </a:lnTo>
                <a:lnTo>
                  <a:pt x="98" y="645"/>
                </a:lnTo>
                <a:lnTo>
                  <a:pt x="90" y="658"/>
                </a:lnTo>
                <a:lnTo>
                  <a:pt x="83" y="670"/>
                </a:lnTo>
                <a:lnTo>
                  <a:pt x="71" y="681"/>
                </a:lnTo>
                <a:lnTo>
                  <a:pt x="58" y="689"/>
                </a:lnTo>
                <a:lnTo>
                  <a:pt x="50" y="693"/>
                </a:lnTo>
                <a:lnTo>
                  <a:pt x="42" y="695"/>
                </a:lnTo>
                <a:lnTo>
                  <a:pt x="35" y="696"/>
                </a:lnTo>
                <a:lnTo>
                  <a:pt x="25" y="696"/>
                </a:lnTo>
                <a:lnTo>
                  <a:pt x="19" y="696"/>
                </a:lnTo>
                <a:lnTo>
                  <a:pt x="14" y="695"/>
                </a:lnTo>
                <a:lnTo>
                  <a:pt x="8" y="693"/>
                </a:lnTo>
                <a:lnTo>
                  <a:pt x="4" y="689"/>
                </a:lnTo>
                <a:lnTo>
                  <a:pt x="2" y="685"/>
                </a:lnTo>
                <a:lnTo>
                  <a:pt x="0" y="681"/>
                </a:lnTo>
                <a:lnTo>
                  <a:pt x="0" y="675"/>
                </a:lnTo>
                <a:lnTo>
                  <a:pt x="0" y="670"/>
                </a:lnTo>
                <a:lnTo>
                  <a:pt x="4" y="656"/>
                </a:lnTo>
                <a:lnTo>
                  <a:pt x="10" y="641"/>
                </a:lnTo>
                <a:lnTo>
                  <a:pt x="17" y="626"/>
                </a:lnTo>
                <a:lnTo>
                  <a:pt x="27" y="608"/>
                </a:lnTo>
                <a:lnTo>
                  <a:pt x="54" y="572"/>
                </a:lnTo>
                <a:lnTo>
                  <a:pt x="83" y="535"/>
                </a:lnTo>
                <a:lnTo>
                  <a:pt x="111" y="505"/>
                </a:lnTo>
                <a:lnTo>
                  <a:pt x="136" y="482"/>
                </a:lnTo>
                <a:lnTo>
                  <a:pt x="184" y="443"/>
                </a:lnTo>
                <a:lnTo>
                  <a:pt x="230" y="407"/>
                </a:lnTo>
                <a:lnTo>
                  <a:pt x="276" y="368"/>
                </a:lnTo>
                <a:lnTo>
                  <a:pt x="323" y="332"/>
                </a:lnTo>
                <a:lnTo>
                  <a:pt x="369" y="296"/>
                </a:lnTo>
                <a:lnTo>
                  <a:pt x="415" y="261"/>
                </a:lnTo>
                <a:lnTo>
                  <a:pt x="464" y="225"/>
                </a:lnTo>
                <a:lnTo>
                  <a:pt x="516" y="192"/>
                </a:lnTo>
                <a:lnTo>
                  <a:pt x="537" y="177"/>
                </a:lnTo>
                <a:lnTo>
                  <a:pt x="559" y="161"/>
                </a:lnTo>
                <a:lnTo>
                  <a:pt x="580" y="144"/>
                </a:lnTo>
                <a:lnTo>
                  <a:pt x="599" y="127"/>
                </a:lnTo>
                <a:lnTo>
                  <a:pt x="618" y="108"/>
                </a:lnTo>
                <a:lnTo>
                  <a:pt x="637" y="88"/>
                </a:lnTo>
                <a:lnTo>
                  <a:pt x="656" y="69"/>
                </a:lnTo>
                <a:lnTo>
                  <a:pt x="674" y="48"/>
                </a:lnTo>
                <a:lnTo>
                  <a:pt x="670" y="63"/>
                </a:lnTo>
                <a:lnTo>
                  <a:pt x="664" y="77"/>
                </a:lnTo>
                <a:lnTo>
                  <a:pt x="656" y="90"/>
                </a:lnTo>
                <a:lnTo>
                  <a:pt x="649" y="104"/>
                </a:lnTo>
                <a:lnTo>
                  <a:pt x="641" y="115"/>
                </a:lnTo>
                <a:lnTo>
                  <a:pt x="631" y="129"/>
                </a:lnTo>
                <a:lnTo>
                  <a:pt x="622" y="140"/>
                </a:lnTo>
                <a:lnTo>
                  <a:pt x="612" y="150"/>
                </a:lnTo>
                <a:lnTo>
                  <a:pt x="572" y="192"/>
                </a:lnTo>
                <a:lnTo>
                  <a:pt x="534" y="236"/>
                </a:lnTo>
                <a:lnTo>
                  <a:pt x="495" y="278"/>
                </a:lnTo>
                <a:lnTo>
                  <a:pt x="459" y="322"/>
                </a:lnTo>
                <a:lnTo>
                  <a:pt x="424" y="367"/>
                </a:lnTo>
                <a:lnTo>
                  <a:pt x="390" y="413"/>
                </a:lnTo>
                <a:lnTo>
                  <a:pt x="353" y="457"/>
                </a:lnTo>
                <a:lnTo>
                  <a:pt x="319" y="505"/>
                </a:lnTo>
                <a:lnTo>
                  <a:pt x="311" y="512"/>
                </a:lnTo>
                <a:lnTo>
                  <a:pt x="301" y="518"/>
                </a:lnTo>
                <a:lnTo>
                  <a:pt x="292" y="522"/>
                </a:lnTo>
                <a:lnTo>
                  <a:pt x="282" y="526"/>
                </a:lnTo>
                <a:lnTo>
                  <a:pt x="273" y="532"/>
                </a:lnTo>
                <a:lnTo>
                  <a:pt x="263" y="537"/>
                </a:lnTo>
                <a:lnTo>
                  <a:pt x="255" y="545"/>
                </a:lnTo>
                <a:lnTo>
                  <a:pt x="250" y="555"/>
                </a:lnTo>
                <a:lnTo>
                  <a:pt x="62" y="708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Freeform 19"/>
          <p:cNvSpPr/>
          <p:nvPr/>
        </p:nvSpPr>
        <p:spPr>
          <a:xfrm>
            <a:off x="5049720" y="1224000"/>
            <a:ext cx="1681200" cy="1609560"/>
          </a:xfrm>
          <a:custGeom>
            <a:avLst/>
            <a:gdLst>
              <a:gd name="textAreaLeft" fmla="*/ 0 w 1681200"/>
              <a:gd name="textAreaRight" fmla="*/ 1681560 w 1681200"/>
              <a:gd name="textAreaTop" fmla="*/ 0 h 1609560"/>
              <a:gd name="textAreaBottom" fmla="*/ 1609920 h 1609560"/>
            </a:gdLst>
            <a:ahLst/>
            <a:rect l="textAreaLeft" t="textAreaTop" r="textAreaRight" b="textAreaBottom"/>
            <a:pathLst>
              <a:path w="1059" h="1014">
                <a:moveTo>
                  <a:pt x="67" y="790"/>
                </a:moveTo>
                <a:lnTo>
                  <a:pt x="65" y="690"/>
                </a:lnTo>
                <a:lnTo>
                  <a:pt x="61" y="592"/>
                </a:lnTo>
                <a:lnTo>
                  <a:pt x="57" y="493"/>
                </a:lnTo>
                <a:lnTo>
                  <a:pt x="52" y="395"/>
                </a:lnTo>
                <a:lnTo>
                  <a:pt x="48" y="295"/>
                </a:lnTo>
                <a:lnTo>
                  <a:pt x="44" y="197"/>
                </a:lnTo>
                <a:lnTo>
                  <a:pt x="42" y="97"/>
                </a:lnTo>
                <a:lnTo>
                  <a:pt x="42" y="0"/>
                </a:lnTo>
                <a:lnTo>
                  <a:pt x="31" y="26"/>
                </a:lnTo>
                <a:lnTo>
                  <a:pt x="21" y="53"/>
                </a:lnTo>
                <a:lnTo>
                  <a:pt x="13" y="82"/>
                </a:lnTo>
                <a:lnTo>
                  <a:pt x="8" y="109"/>
                </a:lnTo>
                <a:lnTo>
                  <a:pt x="4" y="138"/>
                </a:lnTo>
                <a:lnTo>
                  <a:pt x="0" y="165"/>
                </a:lnTo>
                <a:lnTo>
                  <a:pt x="0" y="193"/>
                </a:lnTo>
                <a:lnTo>
                  <a:pt x="0" y="222"/>
                </a:lnTo>
                <a:lnTo>
                  <a:pt x="2" y="278"/>
                </a:lnTo>
                <a:lnTo>
                  <a:pt x="6" y="335"/>
                </a:lnTo>
                <a:lnTo>
                  <a:pt x="10" y="391"/>
                </a:lnTo>
                <a:lnTo>
                  <a:pt x="13" y="447"/>
                </a:lnTo>
                <a:lnTo>
                  <a:pt x="17" y="518"/>
                </a:lnTo>
                <a:lnTo>
                  <a:pt x="23" y="587"/>
                </a:lnTo>
                <a:lnTo>
                  <a:pt x="29" y="658"/>
                </a:lnTo>
                <a:lnTo>
                  <a:pt x="34" y="729"/>
                </a:lnTo>
                <a:lnTo>
                  <a:pt x="40" y="800"/>
                </a:lnTo>
                <a:lnTo>
                  <a:pt x="46" y="871"/>
                </a:lnTo>
                <a:lnTo>
                  <a:pt x="50" y="942"/>
                </a:lnTo>
                <a:lnTo>
                  <a:pt x="54" y="1012"/>
                </a:lnTo>
                <a:lnTo>
                  <a:pt x="61" y="1014"/>
                </a:lnTo>
                <a:lnTo>
                  <a:pt x="77" y="1011"/>
                </a:lnTo>
                <a:lnTo>
                  <a:pt x="100" y="1003"/>
                </a:lnTo>
                <a:lnTo>
                  <a:pt x="128" y="993"/>
                </a:lnTo>
                <a:lnTo>
                  <a:pt x="161" y="984"/>
                </a:lnTo>
                <a:lnTo>
                  <a:pt x="196" y="972"/>
                </a:lnTo>
                <a:lnTo>
                  <a:pt x="226" y="965"/>
                </a:lnTo>
                <a:lnTo>
                  <a:pt x="255" y="957"/>
                </a:lnTo>
                <a:lnTo>
                  <a:pt x="284" y="953"/>
                </a:lnTo>
                <a:lnTo>
                  <a:pt x="313" y="949"/>
                </a:lnTo>
                <a:lnTo>
                  <a:pt x="340" y="947"/>
                </a:lnTo>
                <a:lnTo>
                  <a:pt x="368" y="945"/>
                </a:lnTo>
                <a:lnTo>
                  <a:pt x="395" y="945"/>
                </a:lnTo>
                <a:lnTo>
                  <a:pt x="422" y="943"/>
                </a:lnTo>
                <a:lnTo>
                  <a:pt x="451" y="942"/>
                </a:lnTo>
                <a:lnTo>
                  <a:pt x="480" y="938"/>
                </a:lnTo>
                <a:lnTo>
                  <a:pt x="553" y="922"/>
                </a:lnTo>
                <a:lnTo>
                  <a:pt x="625" y="907"/>
                </a:lnTo>
                <a:lnTo>
                  <a:pt x="696" y="890"/>
                </a:lnTo>
                <a:lnTo>
                  <a:pt x="769" y="874"/>
                </a:lnTo>
                <a:lnTo>
                  <a:pt x="840" y="859"/>
                </a:lnTo>
                <a:lnTo>
                  <a:pt x="911" y="848"/>
                </a:lnTo>
                <a:lnTo>
                  <a:pt x="948" y="842"/>
                </a:lnTo>
                <a:lnTo>
                  <a:pt x="984" y="840"/>
                </a:lnTo>
                <a:lnTo>
                  <a:pt x="1023" y="836"/>
                </a:lnTo>
                <a:lnTo>
                  <a:pt x="1059" y="836"/>
                </a:lnTo>
                <a:lnTo>
                  <a:pt x="1023" y="842"/>
                </a:lnTo>
                <a:lnTo>
                  <a:pt x="986" y="848"/>
                </a:lnTo>
                <a:lnTo>
                  <a:pt x="948" y="853"/>
                </a:lnTo>
                <a:lnTo>
                  <a:pt x="911" y="859"/>
                </a:lnTo>
                <a:lnTo>
                  <a:pt x="875" y="865"/>
                </a:lnTo>
                <a:lnTo>
                  <a:pt x="838" y="871"/>
                </a:lnTo>
                <a:lnTo>
                  <a:pt x="802" y="878"/>
                </a:lnTo>
                <a:lnTo>
                  <a:pt x="764" y="886"/>
                </a:lnTo>
                <a:lnTo>
                  <a:pt x="733" y="894"/>
                </a:lnTo>
                <a:lnTo>
                  <a:pt x="704" y="897"/>
                </a:lnTo>
                <a:lnTo>
                  <a:pt x="673" y="901"/>
                </a:lnTo>
                <a:lnTo>
                  <a:pt x="643" y="903"/>
                </a:lnTo>
                <a:lnTo>
                  <a:pt x="583" y="907"/>
                </a:lnTo>
                <a:lnTo>
                  <a:pt x="524" y="907"/>
                </a:lnTo>
                <a:lnTo>
                  <a:pt x="466" y="909"/>
                </a:lnTo>
                <a:lnTo>
                  <a:pt x="407" y="911"/>
                </a:lnTo>
                <a:lnTo>
                  <a:pt x="380" y="915"/>
                </a:lnTo>
                <a:lnTo>
                  <a:pt x="351" y="918"/>
                </a:lnTo>
                <a:lnTo>
                  <a:pt x="322" y="924"/>
                </a:lnTo>
                <a:lnTo>
                  <a:pt x="293" y="932"/>
                </a:lnTo>
                <a:lnTo>
                  <a:pt x="259" y="942"/>
                </a:lnTo>
                <a:lnTo>
                  <a:pt x="222" y="949"/>
                </a:lnTo>
                <a:lnTo>
                  <a:pt x="186" y="955"/>
                </a:lnTo>
                <a:lnTo>
                  <a:pt x="152" y="959"/>
                </a:lnTo>
                <a:lnTo>
                  <a:pt x="115" y="963"/>
                </a:lnTo>
                <a:lnTo>
                  <a:pt x="79" y="966"/>
                </a:lnTo>
                <a:lnTo>
                  <a:pt x="42" y="972"/>
                </a:lnTo>
                <a:lnTo>
                  <a:pt x="6" y="978"/>
                </a:lnTo>
                <a:lnTo>
                  <a:pt x="67" y="79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Freeform 20"/>
          <p:cNvSpPr/>
          <p:nvPr/>
        </p:nvSpPr>
        <p:spPr>
          <a:xfrm>
            <a:off x="3262320" y="3166920"/>
            <a:ext cx="1760400" cy="595440"/>
          </a:xfrm>
          <a:custGeom>
            <a:avLst/>
            <a:gdLst>
              <a:gd name="textAreaLeft" fmla="*/ 0 w 1760400"/>
              <a:gd name="textAreaRight" fmla="*/ 1760760 w 1760400"/>
              <a:gd name="textAreaTop" fmla="*/ 0 h 595440"/>
              <a:gd name="textAreaBottom" fmla="*/ 595800 h 595440"/>
            </a:gdLst>
            <a:ahLst/>
            <a:rect l="textAreaLeft" t="textAreaTop" r="textAreaRight" b="textAreaBottom"/>
            <a:pathLst>
              <a:path w="1109" h="375">
                <a:moveTo>
                  <a:pt x="1065" y="0"/>
                </a:moveTo>
                <a:lnTo>
                  <a:pt x="1042" y="11"/>
                </a:lnTo>
                <a:lnTo>
                  <a:pt x="1020" y="19"/>
                </a:lnTo>
                <a:lnTo>
                  <a:pt x="997" y="23"/>
                </a:lnTo>
                <a:lnTo>
                  <a:pt x="976" y="26"/>
                </a:lnTo>
                <a:lnTo>
                  <a:pt x="953" y="28"/>
                </a:lnTo>
                <a:lnTo>
                  <a:pt x="930" y="30"/>
                </a:lnTo>
                <a:lnTo>
                  <a:pt x="907" y="34"/>
                </a:lnTo>
                <a:lnTo>
                  <a:pt x="886" y="42"/>
                </a:lnTo>
                <a:lnTo>
                  <a:pt x="825" y="63"/>
                </a:lnTo>
                <a:lnTo>
                  <a:pt x="763" y="84"/>
                </a:lnTo>
                <a:lnTo>
                  <a:pt x="706" y="109"/>
                </a:lnTo>
                <a:lnTo>
                  <a:pt x="646" y="136"/>
                </a:lnTo>
                <a:lnTo>
                  <a:pt x="589" y="163"/>
                </a:lnTo>
                <a:lnTo>
                  <a:pt x="531" y="189"/>
                </a:lnTo>
                <a:lnTo>
                  <a:pt x="474" y="220"/>
                </a:lnTo>
                <a:lnTo>
                  <a:pt x="414" y="249"/>
                </a:lnTo>
                <a:lnTo>
                  <a:pt x="403" y="257"/>
                </a:lnTo>
                <a:lnTo>
                  <a:pt x="391" y="264"/>
                </a:lnTo>
                <a:lnTo>
                  <a:pt x="381" y="274"/>
                </a:lnTo>
                <a:lnTo>
                  <a:pt x="370" y="283"/>
                </a:lnTo>
                <a:lnTo>
                  <a:pt x="360" y="291"/>
                </a:lnTo>
                <a:lnTo>
                  <a:pt x="351" y="301"/>
                </a:lnTo>
                <a:lnTo>
                  <a:pt x="339" y="308"/>
                </a:lnTo>
                <a:lnTo>
                  <a:pt x="328" y="316"/>
                </a:lnTo>
                <a:lnTo>
                  <a:pt x="320" y="320"/>
                </a:lnTo>
                <a:lnTo>
                  <a:pt x="311" y="326"/>
                </a:lnTo>
                <a:lnTo>
                  <a:pt x="301" y="331"/>
                </a:lnTo>
                <a:lnTo>
                  <a:pt x="291" y="337"/>
                </a:lnTo>
                <a:lnTo>
                  <a:pt x="282" y="341"/>
                </a:lnTo>
                <a:lnTo>
                  <a:pt x="270" y="343"/>
                </a:lnTo>
                <a:lnTo>
                  <a:pt x="259" y="345"/>
                </a:lnTo>
                <a:lnTo>
                  <a:pt x="247" y="343"/>
                </a:lnTo>
                <a:lnTo>
                  <a:pt x="247" y="347"/>
                </a:lnTo>
                <a:lnTo>
                  <a:pt x="247" y="351"/>
                </a:lnTo>
                <a:lnTo>
                  <a:pt x="247" y="354"/>
                </a:lnTo>
                <a:lnTo>
                  <a:pt x="247" y="356"/>
                </a:lnTo>
                <a:lnTo>
                  <a:pt x="247" y="360"/>
                </a:lnTo>
                <a:lnTo>
                  <a:pt x="247" y="362"/>
                </a:lnTo>
                <a:lnTo>
                  <a:pt x="247" y="364"/>
                </a:lnTo>
                <a:lnTo>
                  <a:pt x="249" y="364"/>
                </a:lnTo>
                <a:lnTo>
                  <a:pt x="266" y="370"/>
                </a:lnTo>
                <a:lnTo>
                  <a:pt x="282" y="374"/>
                </a:lnTo>
                <a:lnTo>
                  <a:pt x="297" y="375"/>
                </a:lnTo>
                <a:lnTo>
                  <a:pt x="312" y="375"/>
                </a:lnTo>
                <a:lnTo>
                  <a:pt x="328" y="374"/>
                </a:lnTo>
                <a:lnTo>
                  <a:pt x="343" y="370"/>
                </a:lnTo>
                <a:lnTo>
                  <a:pt x="357" y="364"/>
                </a:lnTo>
                <a:lnTo>
                  <a:pt x="372" y="358"/>
                </a:lnTo>
                <a:lnTo>
                  <a:pt x="399" y="345"/>
                </a:lnTo>
                <a:lnTo>
                  <a:pt x="426" y="329"/>
                </a:lnTo>
                <a:lnTo>
                  <a:pt x="454" y="314"/>
                </a:lnTo>
                <a:lnTo>
                  <a:pt x="481" y="301"/>
                </a:lnTo>
                <a:lnTo>
                  <a:pt x="518" y="285"/>
                </a:lnTo>
                <a:lnTo>
                  <a:pt x="552" y="266"/>
                </a:lnTo>
                <a:lnTo>
                  <a:pt x="587" y="247"/>
                </a:lnTo>
                <a:lnTo>
                  <a:pt x="621" y="226"/>
                </a:lnTo>
                <a:lnTo>
                  <a:pt x="656" y="205"/>
                </a:lnTo>
                <a:lnTo>
                  <a:pt x="688" y="182"/>
                </a:lnTo>
                <a:lnTo>
                  <a:pt x="723" y="159"/>
                </a:lnTo>
                <a:lnTo>
                  <a:pt x="758" y="136"/>
                </a:lnTo>
                <a:lnTo>
                  <a:pt x="765" y="132"/>
                </a:lnTo>
                <a:lnTo>
                  <a:pt x="775" y="130"/>
                </a:lnTo>
                <a:lnTo>
                  <a:pt x="782" y="130"/>
                </a:lnTo>
                <a:lnTo>
                  <a:pt x="792" y="130"/>
                </a:lnTo>
                <a:lnTo>
                  <a:pt x="802" y="132"/>
                </a:lnTo>
                <a:lnTo>
                  <a:pt x="809" y="132"/>
                </a:lnTo>
                <a:lnTo>
                  <a:pt x="817" y="130"/>
                </a:lnTo>
                <a:lnTo>
                  <a:pt x="823" y="128"/>
                </a:lnTo>
                <a:lnTo>
                  <a:pt x="838" y="115"/>
                </a:lnTo>
                <a:lnTo>
                  <a:pt x="855" y="105"/>
                </a:lnTo>
                <a:lnTo>
                  <a:pt x="873" y="95"/>
                </a:lnTo>
                <a:lnTo>
                  <a:pt x="890" y="86"/>
                </a:lnTo>
                <a:lnTo>
                  <a:pt x="926" y="72"/>
                </a:lnTo>
                <a:lnTo>
                  <a:pt x="963" y="61"/>
                </a:lnTo>
                <a:lnTo>
                  <a:pt x="999" y="49"/>
                </a:lnTo>
                <a:lnTo>
                  <a:pt x="1038" y="40"/>
                </a:lnTo>
                <a:lnTo>
                  <a:pt x="1074" y="28"/>
                </a:lnTo>
                <a:lnTo>
                  <a:pt x="1109" y="13"/>
                </a:lnTo>
                <a:lnTo>
                  <a:pt x="1078" y="26"/>
                </a:lnTo>
                <a:lnTo>
                  <a:pt x="1047" y="40"/>
                </a:lnTo>
                <a:lnTo>
                  <a:pt x="1015" y="51"/>
                </a:lnTo>
                <a:lnTo>
                  <a:pt x="982" y="63"/>
                </a:lnTo>
                <a:lnTo>
                  <a:pt x="947" y="72"/>
                </a:lnTo>
                <a:lnTo>
                  <a:pt x="913" y="80"/>
                </a:lnTo>
                <a:lnTo>
                  <a:pt x="877" y="86"/>
                </a:lnTo>
                <a:lnTo>
                  <a:pt x="840" y="92"/>
                </a:lnTo>
                <a:lnTo>
                  <a:pt x="821" y="95"/>
                </a:lnTo>
                <a:lnTo>
                  <a:pt x="804" y="103"/>
                </a:lnTo>
                <a:lnTo>
                  <a:pt x="784" y="115"/>
                </a:lnTo>
                <a:lnTo>
                  <a:pt x="767" y="126"/>
                </a:lnTo>
                <a:lnTo>
                  <a:pt x="750" y="140"/>
                </a:lnTo>
                <a:lnTo>
                  <a:pt x="733" y="153"/>
                </a:lnTo>
                <a:lnTo>
                  <a:pt x="713" y="164"/>
                </a:lnTo>
                <a:lnTo>
                  <a:pt x="694" y="174"/>
                </a:lnTo>
                <a:lnTo>
                  <a:pt x="687" y="176"/>
                </a:lnTo>
                <a:lnTo>
                  <a:pt x="677" y="178"/>
                </a:lnTo>
                <a:lnTo>
                  <a:pt x="665" y="178"/>
                </a:lnTo>
                <a:lnTo>
                  <a:pt x="656" y="178"/>
                </a:lnTo>
                <a:lnTo>
                  <a:pt x="644" y="176"/>
                </a:lnTo>
                <a:lnTo>
                  <a:pt x="635" y="176"/>
                </a:lnTo>
                <a:lnTo>
                  <a:pt x="625" y="178"/>
                </a:lnTo>
                <a:lnTo>
                  <a:pt x="616" y="182"/>
                </a:lnTo>
                <a:lnTo>
                  <a:pt x="571" y="197"/>
                </a:lnTo>
                <a:lnTo>
                  <a:pt x="527" y="212"/>
                </a:lnTo>
                <a:lnTo>
                  <a:pt x="481" y="224"/>
                </a:lnTo>
                <a:lnTo>
                  <a:pt x="437" y="235"/>
                </a:lnTo>
                <a:lnTo>
                  <a:pt x="391" y="247"/>
                </a:lnTo>
                <a:lnTo>
                  <a:pt x="347" y="260"/>
                </a:lnTo>
                <a:lnTo>
                  <a:pt x="326" y="268"/>
                </a:lnTo>
                <a:lnTo>
                  <a:pt x="303" y="276"/>
                </a:lnTo>
                <a:lnTo>
                  <a:pt x="282" y="285"/>
                </a:lnTo>
                <a:lnTo>
                  <a:pt x="261" y="295"/>
                </a:lnTo>
                <a:lnTo>
                  <a:pt x="243" y="303"/>
                </a:lnTo>
                <a:lnTo>
                  <a:pt x="228" y="308"/>
                </a:lnTo>
                <a:lnTo>
                  <a:pt x="211" y="314"/>
                </a:lnTo>
                <a:lnTo>
                  <a:pt x="195" y="318"/>
                </a:lnTo>
                <a:lnTo>
                  <a:pt x="163" y="320"/>
                </a:lnTo>
                <a:lnTo>
                  <a:pt x="130" y="322"/>
                </a:lnTo>
                <a:lnTo>
                  <a:pt x="98" y="320"/>
                </a:lnTo>
                <a:lnTo>
                  <a:pt x="65" y="318"/>
                </a:lnTo>
                <a:lnTo>
                  <a:pt x="32" y="316"/>
                </a:lnTo>
                <a:lnTo>
                  <a:pt x="0" y="318"/>
                </a:lnTo>
                <a:lnTo>
                  <a:pt x="27" y="303"/>
                </a:lnTo>
                <a:lnTo>
                  <a:pt x="55" y="289"/>
                </a:lnTo>
                <a:lnTo>
                  <a:pt x="82" y="276"/>
                </a:lnTo>
                <a:lnTo>
                  <a:pt x="111" y="262"/>
                </a:lnTo>
                <a:lnTo>
                  <a:pt x="140" y="249"/>
                </a:lnTo>
                <a:lnTo>
                  <a:pt x="169" y="239"/>
                </a:lnTo>
                <a:lnTo>
                  <a:pt x="197" y="228"/>
                </a:lnTo>
                <a:lnTo>
                  <a:pt x="226" y="218"/>
                </a:lnTo>
                <a:lnTo>
                  <a:pt x="255" y="212"/>
                </a:lnTo>
                <a:lnTo>
                  <a:pt x="284" y="211"/>
                </a:lnTo>
                <a:lnTo>
                  <a:pt x="312" y="211"/>
                </a:lnTo>
                <a:lnTo>
                  <a:pt x="341" y="211"/>
                </a:lnTo>
                <a:lnTo>
                  <a:pt x="372" y="211"/>
                </a:lnTo>
                <a:lnTo>
                  <a:pt x="401" y="212"/>
                </a:lnTo>
                <a:lnTo>
                  <a:pt x="431" y="211"/>
                </a:lnTo>
                <a:lnTo>
                  <a:pt x="460" y="209"/>
                </a:lnTo>
                <a:lnTo>
                  <a:pt x="474" y="207"/>
                </a:lnTo>
                <a:lnTo>
                  <a:pt x="487" y="205"/>
                </a:lnTo>
                <a:lnTo>
                  <a:pt x="500" y="203"/>
                </a:lnTo>
                <a:lnTo>
                  <a:pt x="514" y="199"/>
                </a:lnTo>
                <a:lnTo>
                  <a:pt x="527" y="197"/>
                </a:lnTo>
                <a:lnTo>
                  <a:pt x="541" y="195"/>
                </a:lnTo>
                <a:lnTo>
                  <a:pt x="554" y="191"/>
                </a:lnTo>
                <a:lnTo>
                  <a:pt x="568" y="189"/>
                </a:lnTo>
                <a:lnTo>
                  <a:pt x="1065" y="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Freeform 21"/>
          <p:cNvSpPr/>
          <p:nvPr/>
        </p:nvSpPr>
        <p:spPr>
          <a:xfrm>
            <a:off x="4254480" y="3151080"/>
            <a:ext cx="901800" cy="1698840"/>
          </a:xfrm>
          <a:custGeom>
            <a:avLst/>
            <a:gdLst>
              <a:gd name="textAreaLeft" fmla="*/ 0 w 901800"/>
              <a:gd name="textAreaRight" fmla="*/ 901800 w 901800"/>
              <a:gd name="textAreaTop" fmla="*/ 0 h 1698840"/>
              <a:gd name="textAreaBottom" fmla="*/ 1699200 h 1698840"/>
            </a:gdLst>
            <a:ahLst/>
            <a:rect l="textAreaLeft" t="textAreaTop" r="textAreaRight" b="textAreaBottom"/>
            <a:pathLst>
              <a:path w="568" h="1070">
                <a:moveTo>
                  <a:pt x="497" y="117"/>
                </a:moveTo>
                <a:lnTo>
                  <a:pt x="474" y="140"/>
                </a:lnTo>
                <a:lnTo>
                  <a:pt x="449" y="161"/>
                </a:lnTo>
                <a:lnTo>
                  <a:pt x="426" y="182"/>
                </a:lnTo>
                <a:lnTo>
                  <a:pt x="401" y="203"/>
                </a:lnTo>
                <a:lnTo>
                  <a:pt x="378" y="224"/>
                </a:lnTo>
                <a:lnTo>
                  <a:pt x="355" y="247"/>
                </a:lnTo>
                <a:lnTo>
                  <a:pt x="334" y="270"/>
                </a:lnTo>
                <a:lnTo>
                  <a:pt x="315" y="297"/>
                </a:lnTo>
                <a:lnTo>
                  <a:pt x="271" y="362"/>
                </a:lnTo>
                <a:lnTo>
                  <a:pt x="228" y="428"/>
                </a:lnTo>
                <a:lnTo>
                  <a:pt x="190" y="493"/>
                </a:lnTo>
                <a:lnTo>
                  <a:pt x="154" y="556"/>
                </a:lnTo>
                <a:lnTo>
                  <a:pt x="115" y="621"/>
                </a:lnTo>
                <a:lnTo>
                  <a:pt x="79" y="685"/>
                </a:lnTo>
                <a:lnTo>
                  <a:pt x="40" y="748"/>
                </a:lnTo>
                <a:lnTo>
                  <a:pt x="0" y="811"/>
                </a:lnTo>
                <a:lnTo>
                  <a:pt x="10" y="811"/>
                </a:lnTo>
                <a:lnTo>
                  <a:pt x="19" y="813"/>
                </a:lnTo>
                <a:lnTo>
                  <a:pt x="29" y="813"/>
                </a:lnTo>
                <a:lnTo>
                  <a:pt x="39" y="813"/>
                </a:lnTo>
                <a:lnTo>
                  <a:pt x="48" y="813"/>
                </a:lnTo>
                <a:lnTo>
                  <a:pt x="56" y="809"/>
                </a:lnTo>
                <a:lnTo>
                  <a:pt x="63" y="806"/>
                </a:lnTo>
                <a:lnTo>
                  <a:pt x="69" y="798"/>
                </a:lnTo>
                <a:lnTo>
                  <a:pt x="115" y="717"/>
                </a:lnTo>
                <a:lnTo>
                  <a:pt x="159" y="635"/>
                </a:lnTo>
                <a:lnTo>
                  <a:pt x="204" y="554"/>
                </a:lnTo>
                <a:lnTo>
                  <a:pt x="250" y="476"/>
                </a:lnTo>
                <a:lnTo>
                  <a:pt x="273" y="435"/>
                </a:lnTo>
                <a:lnTo>
                  <a:pt x="298" y="397"/>
                </a:lnTo>
                <a:lnTo>
                  <a:pt x="322" y="361"/>
                </a:lnTo>
                <a:lnTo>
                  <a:pt x="349" y="322"/>
                </a:lnTo>
                <a:lnTo>
                  <a:pt x="376" y="286"/>
                </a:lnTo>
                <a:lnTo>
                  <a:pt x="405" y="251"/>
                </a:lnTo>
                <a:lnTo>
                  <a:pt x="436" y="217"/>
                </a:lnTo>
                <a:lnTo>
                  <a:pt x="468" y="184"/>
                </a:lnTo>
                <a:lnTo>
                  <a:pt x="478" y="176"/>
                </a:lnTo>
                <a:lnTo>
                  <a:pt x="488" y="167"/>
                </a:lnTo>
                <a:lnTo>
                  <a:pt x="497" y="159"/>
                </a:lnTo>
                <a:lnTo>
                  <a:pt x="509" y="150"/>
                </a:lnTo>
                <a:lnTo>
                  <a:pt x="518" y="138"/>
                </a:lnTo>
                <a:lnTo>
                  <a:pt x="528" y="127"/>
                </a:lnTo>
                <a:lnTo>
                  <a:pt x="535" y="115"/>
                </a:lnTo>
                <a:lnTo>
                  <a:pt x="543" y="105"/>
                </a:lnTo>
                <a:lnTo>
                  <a:pt x="532" y="125"/>
                </a:lnTo>
                <a:lnTo>
                  <a:pt x="522" y="146"/>
                </a:lnTo>
                <a:lnTo>
                  <a:pt x="514" y="167"/>
                </a:lnTo>
                <a:lnTo>
                  <a:pt x="509" y="188"/>
                </a:lnTo>
                <a:lnTo>
                  <a:pt x="503" y="209"/>
                </a:lnTo>
                <a:lnTo>
                  <a:pt x="499" y="232"/>
                </a:lnTo>
                <a:lnTo>
                  <a:pt x="497" y="253"/>
                </a:lnTo>
                <a:lnTo>
                  <a:pt x="495" y="276"/>
                </a:lnTo>
                <a:lnTo>
                  <a:pt x="493" y="322"/>
                </a:lnTo>
                <a:lnTo>
                  <a:pt x="495" y="368"/>
                </a:lnTo>
                <a:lnTo>
                  <a:pt x="499" y="416"/>
                </a:lnTo>
                <a:lnTo>
                  <a:pt x="505" y="462"/>
                </a:lnTo>
                <a:lnTo>
                  <a:pt x="511" y="510"/>
                </a:lnTo>
                <a:lnTo>
                  <a:pt x="516" y="558"/>
                </a:lnTo>
                <a:lnTo>
                  <a:pt x="520" y="604"/>
                </a:lnTo>
                <a:lnTo>
                  <a:pt x="522" y="652"/>
                </a:lnTo>
                <a:lnTo>
                  <a:pt x="522" y="698"/>
                </a:lnTo>
                <a:lnTo>
                  <a:pt x="518" y="742"/>
                </a:lnTo>
                <a:lnTo>
                  <a:pt x="514" y="765"/>
                </a:lnTo>
                <a:lnTo>
                  <a:pt x="511" y="786"/>
                </a:lnTo>
                <a:lnTo>
                  <a:pt x="505" y="808"/>
                </a:lnTo>
                <a:lnTo>
                  <a:pt x="497" y="829"/>
                </a:lnTo>
                <a:lnTo>
                  <a:pt x="489" y="855"/>
                </a:lnTo>
                <a:lnTo>
                  <a:pt x="482" y="884"/>
                </a:lnTo>
                <a:lnTo>
                  <a:pt x="478" y="915"/>
                </a:lnTo>
                <a:lnTo>
                  <a:pt x="476" y="946"/>
                </a:lnTo>
                <a:lnTo>
                  <a:pt x="478" y="976"/>
                </a:lnTo>
                <a:lnTo>
                  <a:pt x="480" y="1009"/>
                </a:lnTo>
                <a:lnTo>
                  <a:pt x="488" y="1040"/>
                </a:lnTo>
                <a:lnTo>
                  <a:pt x="497" y="1070"/>
                </a:lnTo>
                <a:lnTo>
                  <a:pt x="503" y="1057"/>
                </a:lnTo>
                <a:lnTo>
                  <a:pt x="509" y="1043"/>
                </a:lnTo>
                <a:lnTo>
                  <a:pt x="514" y="1028"/>
                </a:lnTo>
                <a:lnTo>
                  <a:pt x="518" y="1013"/>
                </a:lnTo>
                <a:lnTo>
                  <a:pt x="520" y="997"/>
                </a:lnTo>
                <a:lnTo>
                  <a:pt x="524" y="984"/>
                </a:lnTo>
                <a:lnTo>
                  <a:pt x="524" y="969"/>
                </a:lnTo>
                <a:lnTo>
                  <a:pt x="526" y="953"/>
                </a:lnTo>
                <a:lnTo>
                  <a:pt x="528" y="900"/>
                </a:lnTo>
                <a:lnTo>
                  <a:pt x="532" y="846"/>
                </a:lnTo>
                <a:lnTo>
                  <a:pt x="534" y="790"/>
                </a:lnTo>
                <a:lnTo>
                  <a:pt x="534" y="737"/>
                </a:lnTo>
                <a:lnTo>
                  <a:pt x="534" y="681"/>
                </a:lnTo>
                <a:lnTo>
                  <a:pt x="534" y="627"/>
                </a:lnTo>
                <a:lnTo>
                  <a:pt x="532" y="572"/>
                </a:lnTo>
                <a:lnTo>
                  <a:pt x="528" y="516"/>
                </a:lnTo>
                <a:lnTo>
                  <a:pt x="524" y="451"/>
                </a:lnTo>
                <a:lnTo>
                  <a:pt x="526" y="387"/>
                </a:lnTo>
                <a:lnTo>
                  <a:pt x="530" y="322"/>
                </a:lnTo>
                <a:lnTo>
                  <a:pt x="535" y="257"/>
                </a:lnTo>
                <a:lnTo>
                  <a:pt x="543" y="194"/>
                </a:lnTo>
                <a:lnTo>
                  <a:pt x="551" y="128"/>
                </a:lnTo>
                <a:lnTo>
                  <a:pt x="560" y="65"/>
                </a:lnTo>
                <a:lnTo>
                  <a:pt x="568" y="0"/>
                </a:lnTo>
                <a:lnTo>
                  <a:pt x="497" y="117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Freeform 22"/>
          <p:cNvSpPr/>
          <p:nvPr/>
        </p:nvSpPr>
        <p:spPr>
          <a:xfrm>
            <a:off x="5378400" y="3151080"/>
            <a:ext cx="1650960" cy="603360"/>
          </a:xfrm>
          <a:custGeom>
            <a:avLst/>
            <a:gdLst>
              <a:gd name="textAreaLeft" fmla="*/ 0 w 1650960"/>
              <a:gd name="textAreaRight" fmla="*/ 1651320 w 1650960"/>
              <a:gd name="textAreaTop" fmla="*/ 0 h 603360"/>
              <a:gd name="textAreaBottom" fmla="*/ 603720 h 603360"/>
            </a:gdLst>
            <a:ahLst/>
            <a:rect l="textAreaLeft" t="textAreaTop" r="textAreaRight" b="textAreaBottom"/>
            <a:pathLst>
              <a:path w="1040" h="380">
                <a:moveTo>
                  <a:pt x="0" y="0"/>
                </a:moveTo>
                <a:lnTo>
                  <a:pt x="123" y="38"/>
                </a:lnTo>
                <a:lnTo>
                  <a:pt x="242" y="77"/>
                </a:lnTo>
                <a:lnTo>
                  <a:pt x="301" y="94"/>
                </a:lnTo>
                <a:lnTo>
                  <a:pt x="361" y="111"/>
                </a:lnTo>
                <a:lnTo>
                  <a:pt x="422" y="127"/>
                </a:lnTo>
                <a:lnTo>
                  <a:pt x="484" y="140"/>
                </a:lnTo>
                <a:lnTo>
                  <a:pt x="545" y="151"/>
                </a:lnTo>
                <a:lnTo>
                  <a:pt x="608" y="161"/>
                </a:lnTo>
                <a:lnTo>
                  <a:pt x="676" y="169"/>
                </a:lnTo>
                <a:lnTo>
                  <a:pt x="743" y="174"/>
                </a:lnTo>
                <a:lnTo>
                  <a:pt x="812" y="176"/>
                </a:lnTo>
                <a:lnTo>
                  <a:pt x="885" y="176"/>
                </a:lnTo>
                <a:lnTo>
                  <a:pt x="961" y="171"/>
                </a:lnTo>
                <a:lnTo>
                  <a:pt x="1040" y="163"/>
                </a:lnTo>
                <a:lnTo>
                  <a:pt x="1034" y="165"/>
                </a:lnTo>
                <a:lnTo>
                  <a:pt x="1027" y="165"/>
                </a:lnTo>
                <a:lnTo>
                  <a:pt x="1021" y="163"/>
                </a:lnTo>
                <a:lnTo>
                  <a:pt x="1017" y="161"/>
                </a:lnTo>
                <a:lnTo>
                  <a:pt x="1007" y="157"/>
                </a:lnTo>
                <a:lnTo>
                  <a:pt x="998" y="150"/>
                </a:lnTo>
                <a:lnTo>
                  <a:pt x="990" y="142"/>
                </a:lnTo>
                <a:lnTo>
                  <a:pt x="981" y="134"/>
                </a:lnTo>
                <a:lnTo>
                  <a:pt x="971" y="128"/>
                </a:lnTo>
                <a:lnTo>
                  <a:pt x="959" y="125"/>
                </a:lnTo>
                <a:lnTo>
                  <a:pt x="850" y="107"/>
                </a:lnTo>
                <a:lnTo>
                  <a:pt x="743" y="94"/>
                </a:lnTo>
                <a:lnTo>
                  <a:pt x="635" y="80"/>
                </a:lnTo>
                <a:lnTo>
                  <a:pt x="530" y="69"/>
                </a:lnTo>
                <a:lnTo>
                  <a:pt x="424" y="57"/>
                </a:lnTo>
                <a:lnTo>
                  <a:pt x="319" y="48"/>
                </a:lnTo>
                <a:lnTo>
                  <a:pt x="213" y="36"/>
                </a:lnTo>
                <a:lnTo>
                  <a:pt x="108" y="23"/>
                </a:lnTo>
                <a:lnTo>
                  <a:pt x="140" y="29"/>
                </a:lnTo>
                <a:lnTo>
                  <a:pt x="173" y="36"/>
                </a:lnTo>
                <a:lnTo>
                  <a:pt x="202" y="46"/>
                </a:lnTo>
                <a:lnTo>
                  <a:pt x="232" y="57"/>
                </a:lnTo>
                <a:lnTo>
                  <a:pt x="261" y="71"/>
                </a:lnTo>
                <a:lnTo>
                  <a:pt x="288" y="86"/>
                </a:lnTo>
                <a:lnTo>
                  <a:pt x="315" y="104"/>
                </a:lnTo>
                <a:lnTo>
                  <a:pt x="342" y="121"/>
                </a:lnTo>
                <a:lnTo>
                  <a:pt x="393" y="159"/>
                </a:lnTo>
                <a:lnTo>
                  <a:pt x="443" y="198"/>
                </a:lnTo>
                <a:lnTo>
                  <a:pt x="495" y="238"/>
                </a:lnTo>
                <a:lnTo>
                  <a:pt x="547" y="278"/>
                </a:lnTo>
                <a:lnTo>
                  <a:pt x="578" y="297"/>
                </a:lnTo>
                <a:lnTo>
                  <a:pt x="608" y="315"/>
                </a:lnTo>
                <a:lnTo>
                  <a:pt x="639" y="332"/>
                </a:lnTo>
                <a:lnTo>
                  <a:pt x="672" y="345"/>
                </a:lnTo>
                <a:lnTo>
                  <a:pt x="702" y="357"/>
                </a:lnTo>
                <a:lnTo>
                  <a:pt x="737" y="364"/>
                </a:lnTo>
                <a:lnTo>
                  <a:pt x="752" y="368"/>
                </a:lnTo>
                <a:lnTo>
                  <a:pt x="770" y="370"/>
                </a:lnTo>
                <a:lnTo>
                  <a:pt x="787" y="370"/>
                </a:lnTo>
                <a:lnTo>
                  <a:pt x="804" y="368"/>
                </a:lnTo>
                <a:lnTo>
                  <a:pt x="819" y="370"/>
                </a:lnTo>
                <a:lnTo>
                  <a:pt x="839" y="372"/>
                </a:lnTo>
                <a:lnTo>
                  <a:pt x="860" y="376"/>
                </a:lnTo>
                <a:lnTo>
                  <a:pt x="879" y="380"/>
                </a:lnTo>
                <a:lnTo>
                  <a:pt x="888" y="380"/>
                </a:lnTo>
                <a:lnTo>
                  <a:pt x="896" y="380"/>
                </a:lnTo>
                <a:lnTo>
                  <a:pt x="902" y="378"/>
                </a:lnTo>
                <a:lnTo>
                  <a:pt x="908" y="376"/>
                </a:lnTo>
                <a:lnTo>
                  <a:pt x="910" y="370"/>
                </a:lnTo>
                <a:lnTo>
                  <a:pt x="912" y="364"/>
                </a:lnTo>
                <a:lnTo>
                  <a:pt x="912" y="357"/>
                </a:lnTo>
                <a:lnTo>
                  <a:pt x="908" y="345"/>
                </a:lnTo>
                <a:lnTo>
                  <a:pt x="902" y="332"/>
                </a:lnTo>
                <a:lnTo>
                  <a:pt x="896" y="318"/>
                </a:lnTo>
                <a:lnTo>
                  <a:pt x="888" y="307"/>
                </a:lnTo>
                <a:lnTo>
                  <a:pt x="879" y="295"/>
                </a:lnTo>
                <a:lnTo>
                  <a:pt x="869" y="284"/>
                </a:lnTo>
                <a:lnTo>
                  <a:pt x="860" y="274"/>
                </a:lnTo>
                <a:lnTo>
                  <a:pt x="848" y="267"/>
                </a:lnTo>
                <a:lnTo>
                  <a:pt x="837" y="259"/>
                </a:lnTo>
                <a:lnTo>
                  <a:pt x="812" y="244"/>
                </a:lnTo>
                <a:lnTo>
                  <a:pt x="785" y="232"/>
                </a:lnTo>
                <a:lnTo>
                  <a:pt x="756" y="222"/>
                </a:lnTo>
                <a:lnTo>
                  <a:pt x="725" y="215"/>
                </a:lnTo>
                <a:lnTo>
                  <a:pt x="662" y="203"/>
                </a:lnTo>
                <a:lnTo>
                  <a:pt x="597" y="192"/>
                </a:lnTo>
                <a:lnTo>
                  <a:pt x="564" y="186"/>
                </a:lnTo>
                <a:lnTo>
                  <a:pt x="534" y="180"/>
                </a:lnTo>
                <a:lnTo>
                  <a:pt x="503" y="173"/>
                </a:lnTo>
                <a:lnTo>
                  <a:pt x="474" y="163"/>
                </a:lnTo>
                <a:lnTo>
                  <a:pt x="457" y="155"/>
                </a:lnTo>
                <a:lnTo>
                  <a:pt x="441" y="146"/>
                </a:lnTo>
                <a:lnTo>
                  <a:pt x="424" y="136"/>
                </a:lnTo>
                <a:lnTo>
                  <a:pt x="409" y="125"/>
                </a:lnTo>
                <a:lnTo>
                  <a:pt x="393" y="115"/>
                </a:lnTo>
                <a:lnTo>
                  <a:pt x="378" y="105"/>
                </a:lnTo>
                <a:lnTo>
                  <a:pt x="370" y="104"/>
                </a:lnTo>
                <a:lnTo>
                  <a:pt x="361" y="102"/>
                </a:lnTo>
                <a:lnTo>
                  <a:pt x="353" y="100"/>
                </a:lnTo>
                <a:lnTo>
                  <a:pt x="344" y="100"/>
                </a:lnTo>
                <a:lnTo>
                  <a:pt x="322" y="98"/>
                </a:lnTo>
                <a:lnTo>
                  <a:pt x="301" y="96"/>
                </a:lnTo>
                <a:lnTo>
                  <a:pt x="280" y="94"/>
                </a:lnTo>
                <a:lnTo>
                  <a:pt x="261" y="88"/>
                </a:lnTo>
                <a:lnTo>
                  <a:pt x="221" y="79"/>
                </a:lnTo>
                <a:lnTo>
                  <a:pt x="182" y="67"/>
                </a:lnTo>
                <a:lnTo>
                  <a:pt x="144" y="54"/>
                </a:lnTo>
                <a:lnTo>
                  <a:pt x="106" y="44"/>
                </a:lnTo>
                <a:lnTo>
                  <a:pt x="86" y="40"/>
                </a:lnTo>
                <a:lnTo>
                  <a:pt x="67" y="36"/>
                </a:lnTo>
                <a:lnTo>
                  <a:pt x="46" y="34"/>
                </a:lnTo>
                <a:lnTo>
                  <a:pt x="25" y="33"/>
                </a:lnTo>
                <a:lnTo>
                  <a:pt x="63" y="34"/>
                </a:lnTo>
                <a:lnTo>
                  <a:pt x="104" y="34"/>
                </a:lnTo>
                <a:lnTo>
                  <a:pt x="144" y="36"/>
                </a:lnTo>
                <a:lnTo>
                  <a:pt x="184" y="38"/>
                </a:lnTo>
                <a:lnTo>
                  <a:pt x="225" y="40"/>
                </a:lnTo>
                <a:lnTo>
                  <a:pt x="265" y="44"/>
                </a:lnTo>
                <a:lnTo>
                  <a:pt x="303" y="48"/>
                </a:lnTo>
                <a:lnTo>
                  <a:pt x="342" y="54"/>
                </a:lnTo>
                <a:lnTo>
                  <a:pt x="418" y="67"/>
                </a:lnTo>
                <a:lnTo>
                  <a:pt x="495" y="82"/>
                </a:lnTo>
                <a:lnTo>
                  <a:pt x="570" y="100"/>
                </a:lnTo>
                <a:lnTo>
                  <a:pt x="645" y="119"/>
                </a:lnTo>
                <a:lnTo>
                  <a:pt x="718" y="142"/>
                </a:lnTo>
                <a:lnTo>
                  <a:pt x="791" y="167"/>
                </a:lnTo>
                <a:lnTo>
                  <a:pt x="864" y="194"/>
                </a:lnTo>
                <a:lnTo>
                  <a:pt x="935" y="224"/>
                </a:lnTo>
                <a:lnTo>
                  <a:pt x="921" y="228"/>
                </a:lnTo>
                <a:lnTo>
                  <a:pt x="908" y="232"/>
                </a:lnTo>
                <a:lnTo>
                  <a:pt x="894" y="236"/>
                </a:lnTo>
                <a:lnTo>
                  <a:pt x="881" y="236"/>
                </a:lnTo>
                <a:lnTo>
                  <a:pt x="867" y="236"/>
                </a:lnTo>
                <a:lnTo>
                  <a:pt x="854" y="236"/>
                </a:lnTo>
                <a:lnTo>
                  <a:pt x="841" y="234"/>
                </a:lnTo>
                <a:lnTo>
                  <a:pt x="827" y="232"/>
                </a:lnTo>
                <a:lnTo>
                  <a:pt x="773" y="219"/>
                </a:lnTo>
                <a:lnTo>
                  <a:pt x="720" y="203"/>
                </a:lnTo>
                <a:lnTo>
                  <a:pt x="668" y="188"/>
                </a:lnTo>
                <a:lnTo>
                  <a:pt x="616" y="174"/>
                </a:lnTo>
                <a:lnTo>
                  <a:pt x="564" y="161"/>
                </a:lnTo>
                <a:lnTo>
                  <a:pt x="511" y="150"/>
                </a:lnTo>
                <a:lnTo>
                  <a:pt x="457" y="142"/>
                </a:lnTo>
                <a:lnTo>
                  <a:pt x="401" y="134"/>
                </a:lnTo>
                <a:lnTo>
                  <a:pt x="380" y="130"/>
                </a:lnTo>
                <a:lnTo>
                  <a:pt x="357" y="123"/>
                </a:lnTo>
                <a:lnTo>
                  <a:pt x="334" y="113"/>
                </a:lnTo>
                <a:lnTo>
                  <a:pt x="311" y="102"/>
                </a:lnTo>
                <a:lnTo>
                  <a:pt x="288" y="94"/>
                </a:lnTo>
                <a:lnTo>
                  <a:pt x="265" y="88"/>
                </a:lnTo>
                <a:lnTo>
                  <a:pt x="251" y="88"/>
                </a:lnTo>
                <a:lnTo>
                  <a:pt x="240" y="88"/>
                </a:lnTo>
                <a:lnTo>
                  <a:pt x="227" y="90"/>
                </a:lnTo>
                <a:lnTo>
                  <a:pt x="213" y="94"/>
                </a:lnTo>
                <a:lnTo>
                  <a:pt x="0" y="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Freeform 23"/>
          <p:cNvSpPr/>
          <p:nvPr/>
        </p:nvSpPr>
        <p:spPr>
          <a:xfrm>
            <a:off x="3392640" y="2346480"/>
            <a:ext cx="1538280" cy="487080"/>
          </a:xfrm>
          <a:custGeom>
            <a:avLst/>
            <a:gdLst>
              <a:gd name="textAreaLeft" fmla="*/ 0 w 1538280"/>
              <a:gd name="textAreaRight" fmla="*/ 1538640 w 1538280"/>
              <a:gd name="textAreaTop" fmla="*/ 0 h 487080"/>
              <a:gd name="textAreaBottom" fmla="*/ 487440 h 487080"/>
            </a:gdLst>
            <a:ahLst/>
            <a:rect l="textAreaLeft" t="textAreaTop" r="textAreaRight" b="textAreaBottom"/>
            <a:pathLst>
              <a:path w="969" h="307">
                <a:moveTo>
                  <a:pt x="969" y="281"/>
                </a:moveTo>
                <a:lnTo>
                  <a:pt x="913" y="252"/>
                </a:lnTo>
                <a:lnTo>
                  <a:pt x="858" y="223"/>
                </a:lnTo>
                <a:lnTo>
                  <a:pt x="800" y="198"/>
                </a:lnTo>
                <a:lnTo>
                  <a:pt x="743" y="175"/>
                </a:lnTo>
                <a:lnTo>
                  <a:pt x="685" y="154"/>
                </a:lnTo>
                <a:lnTo>
                  <a:pt x="626" y="135"/>
                </a:lnTo>
                <a:lnTo>
                  <a:pt x="566" y="117"/>
                </a:lnTo>
                <a:lnTo>
                  <a:pt x="507" y="100"/>
                </a:lnTo>
                <a:lnTo>
                  <a:pt x="447" y="87"/>
                </a:lnTo>
                <a:lnTo>
                  <a:pt x="386" y="71"/>
                </a:lnTo>
                <a:lnTo>
                  <a:pt x="324" y="58"/>
                </a:lnTo>
                <a:lnTo>
                  <a:pt x="263" y="47"/>
                </a:lnTo>
                <a:lnTo>
                  <a:pt x="138" y="23"/>
                </a:lnTo>
                <a:lnTo>
                  <a:pt x="12" y="0"/>
                </a:lnTo>
                <a:lnTo>
                  <a:pt x="10" y="2"/>
                </a:lnTo>
                <a:lnTo>
                  <a:pt x="6" y="4"/>
                </a:lnTo>
                <a:lnTo>
                  <a:pt x="4" y="6"/>
                </a:lnTo>
                <a:lnTo>
                  <a:pt x="2" y="10"/>
                </a:lnTo>
                <a:lnTo>
                  <a:pt x="0" y="12"/>
                </a:lnTo>
                <a:lnTo>
                  <a:pt x="0" y="16"/>
                </a:lnTo>
                <a:lnTo>
                  <a:pt x="0" y="18"/>
                </a:lnTo>
                <a:lnTo>
                  <a:pt x="2" y="20"/>
                </a:lnTo>
                <a:lnTo>
                  <a:pt x="77" y="47"/>
                </a:lnTo>
                <a:lnTo>
                  <a:pt x="152" y="71"/>
                </a:lnTo>
                <a:lnTo>
                  <a:pt x="227" y="96"/>
                </a:lnTo>
                <a:lnTo>
                  <a:pt x="303" y="121"/>
                </a:lnTo>
                <a:lnTo>
                  <a:pt x="378" y="144"/>
                </a:lnTo>
                <a:lnTo>
                  <a:pt x="455" y="165"/>
                </a:lnTo>
                <a:lnTo>
                  <a:pt x="534" y="187"/>
                </a:lnTo>
                <a:lnTo>
                  <a:pt x="612" y="208"/>
                </a:lnTo>
                <a:lnTo>
                  <a:pt x="643" y="215"/>
                </a:lnTo>
                <a:lnTo>
                  <a:pt x="674" y="221"/>
                </a:lnTo>
                <a:lnTo>
                  <a:pt x="704" y="229"/>
                </a:lnTo>
                <a:lnTo>
                  <a:pt x="735" y="238"/>
                </a:lnTo>
                <a:lnTo>
                  <a:pt x="764" y="248"/>
                </a:lnTo>
                <a:lnTo>
                  <a:pt x="795" y="261"/>
                </a:lnTo>
                <a:lnTo>
                  <a:pt x="823" y="275"/>
                </a:lnTo>
                <a:lnTo>
                  <a:pt x="852" y="294"/>
                </a:lnTo>
                <a:lnTo>
                  <a:pt x="862" y="300"/>
                </a:lnTo>
                <a:lnTo>
                  <a:pt x="873" y="304"/>
                </a:lnTo>
                <a:lnTo>
                  <a:pt x="885" y="305"/>
                </a:lnTo>
                <a:lnTo>
                  <a:pt x="896" y="307"/>
                </a:lnTo>
                <a:lnTo>
                  <a:pt x="910" y="307"/>
                </a:lnTo>
                <a:lnTo>
                  <a:pt x="921" y="305"/>
                </a:lnTo>
                <a:lnTo>
                  <a:pt x="933" y="305"/>
                </a:lnTo>
                <a:lnTo>
                  <a:pt x="946" y="305"/>
                </a:lnTo>
                <a:lnTo>
                  <a:pt x="944" y="305"/>
                </a:lnTo>
                <a:lnTo>
                  <a:pt x="942" y="304"/>
                </a:lnTo>
                <a:lnTo>
                  <a:pt x="940" y="302"/>
                </a:lnTo>
                <a:lnTo>
                  <a:pt x="940" y="300"/>
                </a:lnTo>
                <a:lnTo>
                  <a:pt x="938" y="298"/>
                </a:lnTo>
                <a:lnTo>
                  <a:pt x="936" y="298"/>
                </a:lnTo>
                <a:lnTo>
                  <a:pt x="935" y="296"/>
                </a:lnTo>
                <a:lnTo>
                  <a:pt x="933" y="294"/>
                </a:lnTo>
                <a:lnTo>
                  <a:pt x="969" y="281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Freeform 24"/>
          <p:cNvSpPr/>
          <p:nvPr/>
        </p:nvSpPr>
        <p:spPr>
          <a:xfrm>
            <a:off x="3809880" y="1427040"/>
            <a:ext cx="1063800" cy="1236960"/>
          </a:xfrm>
          <a:custGeom>
            <a:avLst/>
            <a:gdLst>
              <a:gd name="textAreaLeft" fmla="*/ 0 w 1063800"/>
              <a:gd name="textAreaRight" fmla="*/ 1064160 w 1063800"/>
              <a:gd name="textAreaTop" fmla="*/ 0 h 1236960"/>
              <a:gd name="textAreaBottom" fmla="*/ 1237320 h 1236960"/>
            </a:gdLst>
            <a:ahLst/>
            <a:rect l="textAreaLeft" t="textAreaTop" r="textAreaRight" b="textAreaBottom"/>
            <a:pathLst>
              <a:path w="670" h="779">
                <a:moveTo>
                  <a:pt x="622" y="696"/>
                </a:moveTo>
                <a:lnTo>
                  <a:pt x="604" y="672"/>
                </a:lnTo>
                <a:lnTo>
                  <a:pt x="587" y="649"/>
                </a:lnTo>
                <a:lnTo>
                  <a:pt x="566" y="626"/>
                </a:lnTo>
                <a:lnTo>
                  <a:pt x="545" y="604"/>
                </a:lnTo>
                <a:lnTo>
                  <a:pt x="524" y="583"/>
                </a:lnTo>
                <a:lnTo>
                  <a:pt x="501" y="562"/>
                </a:lnTo>
                <a:lnTo>
                  <a:pt x="478" y="543"/>
                </a:lnTo>
                <a:lnTo>
                  <a:pt x="455" y="524"/>
                </a:lnTo>
                <a:lnTo>
                  <a:pt x="443" y="516"/>
                </a:lnTo>
                <a:lnTo>
                  <a:pt x="434" y="508"/>
                </a:lnTo>
                <a:lnTo>
                  <a:pt x="422" y="501"/>
                </a:lnTo>
                <a:lnTo>
                  <a:pt x="413" y="493"/>
                </a:lnTo>
                <a:lnTo>
                  <a:pt x="401" y="487"/>
                </a:lnTo>
                <a:lnTo>
                  <a:pt x="390" y="480"/>
                </a:lnTo>
                <a:lnTo>
                  <a:pt x="378" y="472"/>
                </a:lnTo>
                <a:lnTo>
                  <a:pt x="368" y="466"/>
                </a:lnTo>
                <a:lnTo>
                  <a:pt x="322" y="434"/>
                </a:lnTo>
                <a:lnTo>
                  <a:pt x="278" y="401"/>
                </a:lnTo>
                <a:lnTo>
                  <a:pt x="236" y="368"/>
                </a:lnTo>
                <a:lnTo>
                  <a:pt x="194" y="338"/>
                </a:lnTo>
                <a:lnTo>
                  <a:pt x="152" y="307"/>
                </a:lnTo>
                <a:lnTo>
                  <a:pt x="109" y="276"/>
                </a:lnTo>
                <a:lnTo>
                  <a:pt x="65" y="246"/>
                </a:lnTo>
                <a:lnTo>
                  <a:pt x="19" y="217"/>
                </a:lnTo>
                <a:lnTo>
                  <a:pt x="13" y="215"/>
                </a:lnTo>
                <a:lnTo>
                  <a:pt x="10" y="217"/>
                </a:lnTo>
                <a:lnTo>
                  <a:pt x="6" y="221"/>
                </a:lnTo>
                <a:lnTo>
                  <a:pt x="2" y="225"/>
                </a:lnTo>
                <a:lnTo>
                  <a:pt x="0" y="230"/>
                </a:lnTo>
                <a:lnTo>
                  <a:pt x="0" y="236"/>
                </a:lnTo>
                <a:lnTo>
                  <a:pt x="0" y="242"/>
                </a:lnTo>
                <a:lnTo>
                  <a:pt x="2" y="248"/>
                </a:lnTo>
                <a:lnTo>
                  <a:pt x="21" y="276"/>
                </a:lnTo>
                <a:lnTo>
                  <a:pt x="42" y="301"/>
                </a:lnTo>
                <a:lnTo>
                  <a:pt x="63" y="326"/>
                </a:lnTo>
                <a:lnTo>
                  <a:pt x="86" y="349"/>
                </a:lnTo>
                <a:lnTo>
                  <a:pt x="111" y="372"/>
                </a:lnTo>
                <a:lnTo>
                  <a:pt x="136" y="393"/>
                </a:lnTo>
                <a:lnTo>
                  <a:pt x="163" y="413"/>
                </a:lnTo>
                <a:lnTo>
                  <a:pt x="190" y="432"/>
                </a:lnTo>
                <a:lnTo>
                  <a:pt x="244" y="468"/>
                </a:lnTo>
                <a:lnTo>
                  <a:pt x="299" y="505"/>
                </a:lnTo>
                <a:lnTo>
                  <a:pt x="353" y="543"/>
                </a:lnTo>
                <a:lnTo>
                  <a:pt x="405" y="585"/>
                </a:lnTo>
                <a:lnTo>
                  <a:pt x="437" y="612"/>
                </a:lnTo>
                <a:lnTo>
                  <a:pt x="470" y="637"/>
                </a:lnTo>
                <a:lnTo>
                  <a:pt x="503" y="660"/>
                </a:lnTo>
                <a:lnTo>
                  <a:pt x="535" y="685"/>
                </a:lnTo>
                <a:lnTo>
                  <a:pt x="570" y="708"/>
                </a:lnTo>
                <a:lnTo>
                  <a:pt x="602" y="731"/>
                </a:lnTo>
                <a:lnTo>
                  <a:pt x="637" y="754"/>
                </a:lnTo>
                <a:lnTo>
                  <a:pt x="670" y="779"/>
                </a:lnTo>
                <a:lnTo>
                  <a:pt x="649" y="762"/>
                </a:lnTo>
                <a:lnTo>
                  <a:pt x="627" y="744"/>
                </a:lnTo>
                <a:lnTo>
                  <a:pt x="606" y="727"/>
                </a:lnTo>
                <a:lnTo>
                  <a:pt x="585" y="708"/>
                </a:lnTo>
                <a:lnTo>
                  <a:pt x="549" y="668"/>
                </a:lnTo>
                <a:lnTo>
                  <a:pt x="512" y="626"/>
                </a:lnTo>
                <a:lnTo>
                  <a:pt x="478" y="579"/>
                </a:lnTo>
                <a:lnTo>
                  <a:pt x="447" y="533"/>
                </a:lnTo>
                <a:lnTo>
                  <a:pt x="416" y="484"/>
                </a:lnTo>
                <a:lnTo>
                  <a:pt x="388" y="432"/>
                </a:lnTo>
                <a:lnTo>
                  <a:pt x="361" y="380"/>
                </a:lnTo>
                <a:lnTo>
                  <a:pt x="336" y="326"/>
                </a:lnTo>
                <a:lnTo>
                  <a:pt x="311" y="273"/>
                </a:lnTo>
                <a:lnTo>
                  <a:pt x="286" y="219"/>
                </a:lnTo>
                <a:lnTo>
                  <a:pt x="242" y="109"/>
                </a:lnTo>
                <a:lnTo>
                  <a:pt x="198" y="0"/>
                </a:lnTo>
                <a:lnTo>
                  <a:pt x="205" y="2"/>
                </a:lnTo>
                <a:lnTo>
                  <a:pt x="213" y="6"/>
                </a:lnTo>
                <a:lnTo>
                  <a:pt x="219" y="12"/>
                </a:lnTo>
                <a:lnTo>
                  <a:pt x="223" y="17"/>
                </a:lnTo>
                <a:lnTo>
                  <a:pt x="228" y="25"/>
                </a:lnTo>
                <a:lnTo>
                  <a:pt x="232" y="31"/>
                </a:lnTo>
                <a:lnTo>
                  <a:pt x="234" y="37"/>
                </a:lnTo>
                <a:lnTo>
                  <a:pt x="238" y="40"/>
                </a:lnTo>
                <a:lnTo>
                  <a:pt x="253" y="63"/>
                </a:lnTo>
                <a:lnTo>
                  <a:pt x="269" y="85"/>
                </a:lnTo>
                <a:lnTo>
                  <a:pt x="282" y="108"/>
                </a:lnTo>
                <a:lnTo>
                  <a:pt x="294" y="131"/>
                </a:lnTo>
                <a:lnTo>
                  <a:pt x="315" y="179"/>
                </a:lnTo>
                <a:lnTo>
                  <a:pt x="336" y="226"/>
                </a:lnTo>
                <a:lnTo>
                  <a:pt x="359" y="274"/>
                </a:lnTo>
                <a:lnTo>
                  <a:pt x="382" y="320"/>
                </a:lnTo>
                <a:lnTo>
                  <a:pt x="395" y="342"/>
                </a:lnTo>
                <a:lnTo>
                  <a:pt x="411" y="363"/>
                </a:lnTo>
                <a:lnTo>
                  <a:pt x="428" y="384"/>
                </a:lnTo>
                <a:lnTo>
                  <a:pt x="447" y="403"/>
                </a:lnTo>
                <a:lnTo>
                  <a:pt x="622" y="696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Freeform 25"/>
          <p:cNvSpPr/>
          <p:nvPr/>
        </p:nvSpPr>
        <p:spPr>
          <a:xfrm>
            <a:off x="3127320" y="2846520"/>
            <a:ext cx="1979640" cy="466560"/>
          </a:xfrm>
          <a:custGeom>
            <a:avLst/>
            <a:gdLst>
              <a:gd name="textAreaLeft" fmla="*/ 0 w 1979640"/>
              <a:gd name="textAreaRight" fmla="*/ 1980000 w 1979640"/>
              <a:gd name="textAreaTop" fmla="*/ 0 h 466560"/>
              <a:gd name="textAreaBottom" fmla="*/ 466920 h 466560"/>
            </a:gdLst>
            <a:ahLst/>
            <a:rect l="textAreaLeft" t="textAreaTop" r="textAreaRight" b="textAreaBottom"/>
            <a:pathLst>
              <a:path w="1247" h="294">
                <a:moveTo>
                  <a:pt x="965" y="184"/>
                </a:moveTo>
                <a:lnTo>
                  <a:pt x="1000" y="175"/>
                </a:lnTo>
                <a:lnTo>
                  <a:pt x="1034" y="167"/>
                </a:lnTo>
                <a:lnTo>
                  <a:pt x="1071" y="161"/>
                </a:lnTo>
                <a:lnTo>
                  <a:pt x="1105" y="159"/>
                </a:lnTo>
                <a:lnTo>
                  <a:pt x="1142" y="159"/>
                </a:lnTo>
                <a:lnTo>
                  <a:pt x="1176" y="159"/>
                </a:lnTo>
                <a:lnTo>
                  <a:pt x="1213" y="161"/>
                </a:lnTo>
                <a:lnTo>
                  <a:pt x="1247" y="161"/>
                </a:lnTo>
                <a:lnTo>
                  <a:pt x="1100" y="196"/>
                </a:lnTo>
                <a:lnTo>
                  <a:pt x="952" y="228"/>
                </a:lnTo>
                <a:lnTo>
                  <a:pt x="875" y="244"/>
                </a:lnTo>
                <a:lnTo>
                  <a:pt x="800" y="257"/>
                </a:lnTo>
                <a:lnTo>
                  <a:pt x="726" y="269"/>
                </a:lnTo>
                <a:lnTo>
                  <a:pt x="651" y="278"/>
                </a:lnTo>
                <a:lnTo>
                  <a:pt x="574" y="286"/>
                </a:lnTo>
                <a:lnTo>
                  <a:pt x="499" y="292"/>
                </a:lnTo>
                <a:lnTo>
                  <a:pt x="422" y="294"/>
                </a:lnTo>
                <a:lnTo>
                  <a:pt x="348" y="294"/>
                </a:lnTo>
                <a:lnTo>
                  <a:pt x="271" y="290"/>
                </a:lnTo>
                <a:lnTo>
                  <a:pt x="196" y="282"/>
                </a:lnTo>
                <a:lnTo>
                  <a:pt x="158" y="276"/>
                </a:lnTo>
                <a:lnTo>
                  <a:pt x="119" y="271"/>
                </a:lnTo>
                <a:lnTo>
                  <a:pt x="83" y="263"/>
                </a:lnTo>
                <a:lnTo>
                  <a:pt x="44" y="255"/>
                </a:lnTo>
                <a:lnTo>
                  <a:pt x="110" y="242"/>
                </a:lnTo>
                <a:lnTo>
                  <a:pt x="173" y="230"/>
                </a:lnTo>
                <a:lnTo>
                  <a:pt x="236" y="219"/>
                </a:lnTo>
                <a:lnTo>
                  <a:pt x="301" y="209"/>
                </a:lnTo>
                <a:lnTo>
                  <a:pt x="430" y="192"/>
                </a:lnTo>
                <a:lnTo>
                  <a:pt x="561" y="178"/>
                </a:lnTo>
                <a:lnTo>
                  <a:pt x="691" y="169"/>
                </a:lnTo>
                <a:lnTo>
                  <a:pt x="821" y="157"/>
                </a:lnTo>
                <a:lnTo>
                  <a:pt x="952" y="148"/>
                </a:lnTo>
                <a:lnTo>
                  <a:pt x="1082" y="138"/>
                </a:lnTo>
                <a:lnTo>
                  <a:pt x="1084" y="138"/>
                </a:lnTo>
                <a:lnTo>
                  <a:pt x="1086" y="134"/>
                </a:lnTo>
                <a:lnTo>
                  <a:pt x="1086" y="132"/>
                </a:lnTo>
                <a:lnTo>
                  <a:pt x="1084" y="131"/>
                </a:lnTo>
                <a:lnTo>
                  <a:pt x="1082" y="127"/>
                </a:lnTo>
                <a:lnTo>
                  <a:pt x="1080" y="125"/>
                </a:lnTo>
                <a:lnTo>
                  <a:pt x="1079" y="123"/>
                </a:lnTo>
                <a:lnTo>
                  <a:pt x="1075" y="121"/>
                </a:lnTo>
                <a:lnTo>
                  <a:pt x="1065" y="119"/>
                </a:lnTo>
                <a:lnTo>
                  <a:pt x="1056" y="121"/>
                </a:lnTo>
                <a:lnTo>
                  <a:pt x="1044" y="123"/>
                </a:lnTo>
                <a:lnTo>
                  <a:pt x="1034" y="129"/>
                </a:lnTo>
                <a:lnTo>
                  <a:pt x="1025" y="134"/>
                </a:lnTo>
                <a:lnTo>
                  <a:pt x="1015" y="138"/>
                </a:lnTo>
                <a:lnTo>
                  <a:pt x="1004" y="142"/>
                </a:lnTo>
                <a:lnTo>
                  <a:pt x="994" y="144"/>
                </a:lnTo>
                <a:lnTo>
                  <a:pt x="948" y="144"/>
                </a:lnTo>
                <a:lnTo>
                  <a:pt x="902" y="142"/>
                </a:lnTo>
                <a:lnTo>
                  <a:pt x="856" y="140"/>
                </a:lnTo>
                <a:lnTo>
                  <a:pt x="812" y="140"/>
                </a:lnTo>
                <a:lnTo>
                  <a:pt x="766" y="140"/>
                </a:lnTo>
                <a:lnTo>
                  <a:pt x="722" y="142"/>
                </a:lnTo>
                <a:lnTo>
                  <a:pt x="676" y="146"/>
                </a:lnTo>
                <a:lnTo>
                  <a:pt x="630" y="152"/>
                </a:lnTo>
                <a:lnTo>
                  <a:pt x="599" y="157"/>
                </a:lnTo>
                <a:lnTo>
                  <a:pt x="568" y="165"/>
                </a:lnTo>
                <a:lnTo>
                  <a:pt x="539" y="177"/>
                </a:lnTo>
                <a:lnTo>
                  <a:pt x="511" y="186"/>
                </a:lnTo>
                <a:lnTo>
                  <a:pt x="482" y="198"/>
                </a:lnTo>
                <a:lnTo>
                  <a:pt x="451" y="207"/>
                </a:lnTo>
                <a:lnTo>
                  <a:pt x="422" y="215"/>
                </a:lnTo>
                <a:lnTo>
                  <a:pt x="390" y="223"/>
                </a:lnTo>
                <a:lnTo>
                  <a:pt x="367" y="226"/>
                </a:lnTo>
                <a:lnTo>
                  <a:pt x="342" y="230"/>
                </a:lnTo>
                <a:lnTo>
                  <a:pt x="317" y="232"/>
                </a:lnTo>
                <a:lnTo>
                  <a:pt x="292" y="232"/>
                </a:lnTo>
                <a:lnTo>
                  <a:pt x="267" y="232"/>
                </a:lnTo>
                <a:lnTo>
                  <a:pt x="242" y="230"/>
                </a:lnTo>
                <a:lnTo>
                  <a:pt x="217" y="226"/>
                </a:lnTo>
                <a:lnTo>
                  <a:pt x="192" y="223"/>
                </a:lnTo>
                <a:lnTo>
                  <a:pt x="167" y="219"/>
                </a:lnTo>
                <a:lnTo>
                  <a:pt x="142" y="213"/>
                </a:lnTo>
                <a:lnTo>
                  <a:pt x="119" y="209"/>
                </a:lnTo>
                <a:lnTo>
                  <a:pt x="94" y="207"/>
                </a:lnTo>
                <a:lnTo>
                  <a:pt x="71" y="203"/>
                </a:lnTo>
                <a:lnTo>
                  <a:pt x="48" y="203"/>
                </a:lnTo>
                <a:lnTo>
                  <a:pt x="25" y="202"/>
                </a:lnTo>
                <a:lnTo>
                  <a:pt x="2" y="202"/>
                </a:lnTo>
                <a:lnTo>
                  <a:pt x="2" y="196"/>
                </a:lnTo>
                <a:lnTo>
                  <a:pt x="0" y="190"/>
                </a:lnTo>
                <a:lnTo>
                  <a:pt x="0" y="182"/>
                </a:lnTo>
                <a:lnTo>
                  <a:pt x="0" y="177"/>
                </a:lnTo>
                <a:lnTo>
                  <a:pt x="0" y="171"/>
                </a:lnTo>
                <a:lnTo>
                  <a:pt x="2" y="165"/>
                </a:lnTo>
                <a:lnTo>
                  <a:pt x="2" y="161"/>
                </a:lnTo>
                <a:lnTo>
                  <a:pt x="4" y="159"/>
                </a:lnTo>
                <a:lnTo>
                  <a:pt x="23" y="154"/>
                </a:lnTo>
                <a:lnTo>
                  <a:pt x="44" y="150"/>
                </a:lnTo>
                <a:lnTo>
                  <a:pt x="65" y="148"/>
                </a:lnTo>
                <a:lnTo>
                  <a:pt x="87" y="146"/>
                </a:lnTo>
                <a:lnTo>
                  <a:pt x="129" y="146"/>
                </a:lnTo>
                <a:lnTo>
                  <a:pt x="171" y="144"/>
                </a:lnTo>
                <a:lnTo>
                  <a:pt x="192" y="142"/>
                </a:lnTo>
                <a:lnTo>
                  <a:pt x="213" y="140"/>
                </a:lnTo>
                <a:lnTo>
                  <a:pt x="232" y="136"/>
                </a:lnTo>
                <a:lnTo>
                  <a:pt x="254" y="132"/>
                </a:lnTo>
                <a:lnTo>
                  <a:pt x="271" y="125"/>
                </a:lnTo>
                <a:lnTo>
                  <a:pt x="290" y="113"/>
                </a:lnTo>
                <a:lnTo>
                  <a:pt x="305" y="102"/>
                </a:lnTo>
                <a:lnTo>
                  <a:pt x="323" y="84"/>
                </a:lnTo>
                <a:lnTo>
                  <a:pt x="371" y="83"/>
                </a:lnTo>
                <a:lnTo>
                  <a:pt x="419" y="77"/>
                </a:lnTo>
                <a:lnTo>
                  <a:pt x="468" y="69"/>
                </a:lnTo>
                <a:lnTo>
                  <a:pt x="518" y="60"/>
                </a:lnTo>
                <a:lnTo>
                  <a:pt x="616" y="38"/>
                </a:lnTo>
                <a:lnTo>
                  <a:pt x="716" y="17"/>
                </a:lnTo>
                <a:lnTo>
                  <a:pt x="764" y="10"/>
                </a:lnTo>
                <a:lnTo>
                  <a:pt x="812" y="2"/>
                </a:lnTo>
                <a:lnTo>
                  <a:pt x="860" y="0"/>
                </a:lnTo>
                <a:lnTo>
                  <a:pt x="906" y="0"/>
                </a:lnTo>
                <a:lnTo>
                  <a:pt x="929" y="2"/>
                </a:lnTo>
                <a:lnTo>
                  <a:pt x="952" y="4"/>
                </a:lnTo>
                <a:lnTo>
                  <a:pt x="973" y="8"/>
                </a:lnTo>
                <a:lnTo>
                  <a:pt x="994" y="14"/>
                </a:lnTo>
                <a:lnTo>
                  <a:pt x="1015" y="21"/>
                </a:lnTo>
                <a:lnTo>
                  <a:pt x="1036" y="29"/>
                </a:lnTo>
                <a:lnTo>
                  <a:pt x="1057" y="38"/>
                </a:lnTo>
                <a:lnTo>
                  <a:pt x="1077" y="50"/>
                </a:lnTo>
                <a:lnTo>
                  <a:pt x="1092" y="56"/>
                </a:lnTo>
                <a:lnTo>
                  <a:pt x="1107" y="60"/>
                </a:lnTo>
                <a:lnTo>
                  <a:pt x="1123" y="60"/>
                </a:lnTo>
                <a:lnTo>
                  <a:pt x="1138" y="61"/>
                </a:lnTo>
                <a:lnTo>
                  <a:pt x="1153" y="61"/>
                </a:lnTo>
                <a:lnTo>
                  <a:pt x="1169" y="65"/>
                </a:lnTo>
                <a:lnTo>
                  <a:pt x="1174" y="69"/>
                </a:lnTo>
                <a:lnTo>
                  <a:pt x="1182" y="73"/>
                </a:lnTo>
                <a:lnTo>
                  <a:pt x="1188" y="79"/>
                </a:lnTo>
                <a:lnTo>
                  <a:pt x="1194" y="84"/>
                </a:lnTo>
                <a:lnTo>
                  <a:pt x="1128" y="83"/>
                </a:lnTo>
                <a:lnTo>
                  <a:pt x="1063" y="83"/>
                </a:lnTo>
                <a:lnTo>
                  <a:pt x="996" y="83"/>
                </a:lnTo>
                <a:lnTo>
                  <a:pt x="931" y="83"/>
                </a:lnTo>
                <a:lnTo>
                  <a:pt x="800" y="86"/>
                </a:lnTo>
                <a:lnTo>
                  <a:pt x="668" y="88"/>
                </a:lnTo>
                <a:lnTo>
                  <a:pt x="537" y="88"/>
                </a:lnTo>
                <a:lnTo>
                  <a:pt x="405" y="86"/>
                </a:lnTo>
                <a:lnTo>
                  <a:pt x="340" y="83"/>
                </a:lnTo>
                <a:lnTo>
                  <a:pt x="275" y="79"/>
                </a:lnTo>
                <a:lnTo>
                  <a:pt x="209" y="71"/>
                </a:lnTo>
                <a:lnTo>
                  <a:pt x="144" y="63"/>
                </a:lnTo>
                <a:lnTo>
                  <a:pt x="160" y="52"/>
                </a:lnTo>
                <a:lnTo>
                  <a:pt x="173" y="42"/>
                </a:lnTo>
                <a:lnTo>
                  <a:pt x="190" y="37"/>
                </a:lnTo>
                <a:lnTo>
                  <a:pt x="206" y="33"/>
                </a:lnTo>
                <a:lnTo>
                  <a:pt x="223" y="31"/>
                </a:lnTo>
                <a:lnTo>
                  <a:pt x="240" y="29"/>
                </a:lnTo>
                <a:lnTo>
                  <a:pt x="257" y="27"/>
                </a:lnTo>
                <a:lnTo>
                  <a:pt x="273" y="25"/>
                </a:lnTo>
                <a:lnTo>
                  <a:pt x="319" y="17"/>
                </a:lnTo>
                <a:lnTo>
                  <a:pt x="363" y="14"/>
                </a:lnTo>
                <a:lnTo>
                  <a:pt x="407" y="10"/>
                </a:lnTo>
                <a:lnTo>
                  <a:pt x="451" y="6"/>
                </a:lnTo>
                <a:lnTo>
                  <a:pt x="495" y="6"/>
                </a:lnTo>
                <a:lnTo>
                  <a:pt x="539" y="6"/>
                </a:lnTo>
                <a:lnTo>
                  <a:pt x="584" y="8"/>
                </a:lnTo>
                <a:lnTo>
                  <a:pt x="628" y="12"/>
                </a:lnTo>
                <a:lnTo>
                  <a:pt x="681" y="15"/>
                </a:lnTo>
                <a:lnTo>
                  <a:pt x="737" y="21"/>
                </a:lnTo>
                <a:lnTo>
                  <a:pt x="791" y="25"/>
                </a:lnTo>
                <a:lnTo>
                  <a:pt x="846" y="29"/>
                </a:lnTo>
                <a:lnTo>
                  <a:pt x="900" y="33"/>
                </a:lnTo>
                <a:lnTo>
                  <a:pt x="956" y="35"/>
                </a:lnTo>
                <a:lnTo>
                  <a:pt x="1009" y="38"/>
                </a:lnTo>
                <a:lnTo>
                  <a:pt x="1065" y="40"/>
                </a:lnTo>
                <a:lnTo>
                  <a:pt x="1079" y="42"/>
                </a:lnTo>
                <a:lnTo>
                  <a:pt x="1092" y="46"/>
                </a:lnTo>
                <a:lnTo>
                  <a:pt x="1105" y="50"/>
                </a:lnTo>
                <a:lnTo>
                  <a:pt x="1119" y="58"/>
                </a:lnTo>
                <a:lnTo>
                  <a:pt x="1132" y="63"/>
                </a:lnTo>
                <a:lnTo>
                  <a:pt x="1146" y="71"/>
                </a:lnTo>
                <a:lnTo>
                  <a:pt x="1159" y="79"/>
                </a:lnTo>
                <a:lnTo>
                  <a:pt x="1171" y="84"/>
                </a:lnTo>
                <a:lnTo>
                  <a:pt x="965" y="184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Freeform 26"/>
          <p:cNvSpPr/>
          <p:nvPr/>
        </p:nvSpPr>
        <p:spPr>
          <a:xfrm>
            <a:off x="3693960" y="3300480"/>
            <a:ext cx="1179720" cy="716040"/>
          </a:xfrm>
          <a:custGeom>
            <a:avLst/>
            <a:gdLst/>
            <a:ahLst/>
            <a:rect l="l" t="t" r="r" b="b"/>
            <a:pathLst>
              <a:path w="743" h="451">
                <a:moveTo>
                  <a:pt x="708" y="11"/>
                </a:moveTo>
                <a:lnTo>
                  <a:pt x="610" y="52"/>
                </a:lnTo>
                <a:lnTo>
                  <a:pt x="514" y="94"/>
                </a:lnTo>
                <a:lnTo>
                  <a:pt x="468" y="117"/>
                </a:lnTo>
                <a:lnTo>
                  <a:pt x="420" y="140"/>
                </a:lnTo>
                <a:lnTo>
                  <a:pt x="374" y="165"/>
                </a:lnTo>
                <a:lnTo>
                  <a:pt x="330" y="192"/>
                </a:lnTo>
                <a:lnTo>
                  <a:pt x="284" y="219"/>
                </a:lnTo>
                <a:lnTo>
                  <a:pt x="240" y="247"/>
                </a:lnTo>
                <a:lnTo>
                  <a:pt x="198" y="276"/>
                </a:lnTo>
                <a:lnTo>
                  <a:pt x="156" y="307"/>
                </a:lnTo>
                <a:lnTo>
                  <a:pt x="115" y="339"/>
                </a:lnTo>
                <a:lnTo>
                  <a:pt x="75" y="374"/>
                </a:lnTo>
                <a:lnTo>
                  <a:pt x="37" y="410"/>
                </a:lnTo>
                <a:lnTo>
                  <a:pt x="0" y="447"/>
                </a:lnTo>
                <a:lnTo>
                  <a:pt x="12" y="449"/>
                </a:lnTo>
                <a:lnTo>
                  <a:pt x="25" y="449"/>
                </a:lnTo>
                <a:lnTo>
                  <a:pt x="37" y="451"/>
                </a:lnTo>
                <a:lnTo>
                  <a:pt x="48" y="451"/>
                </a:lnTo>
                <a:lnTo>
                  <a:pt x="60" y="451"/>
                </a:lnTo>
                <a:lnTo>
                  <a:pt x="71" y="451"/>
                </a:lnTo>
                <a:lnTo>
                  <a:pt x="81" y="447"/>
                </a:lnTo>
                <a:lnTo>
                  <a:pt x="90" y="443"/>
                </a:lnTo>
                <a:lnTo>
                  <a:pt x="106" y="432"/>
                </a:lnTo>
                <a:lnTo>
                  <a:pt x="121" y="422"/>
                </a:lnTo>
                <a:lnTo>
                  <a:pt x="138" y="414"/>
                </a:lnTo>
                <a:lnTo>
                  <a:pt x="157" y="405"/>
                </a:lnTo>
                <a:lnTo>
                  <a:pt x="175" y="397"/>
                </a:lnTo>
                <a:lnTo>
                  <a:pt x="194" y="389"/>
                </a:lnTo>
                <a:lnTo>
                  <a:pt x="211" y="378"/>
                </a:lnTo>
                <a:lnTo>
                  <a:pt x="227" y="366"/>
                </a:lnTo>
                <a:lnTo>
                  <a:pt x="288" y="313"/>
                </a:lnTo>
                <a:lnTo>
                  <a:pt x="349" y="261"/>
                </a:lnTo>
                <a:lnTo>
                  <a:pt x="411" y="209"/>
                </a:lnTo>
                <a:lnTo>
                  <a:pt x="474" y="163"/>
                </a:lnTo>
                <a:lnTo>
                  <a:pt x="537" y="117"/>
                </a:lnTo>
                <a:lnTo>
                  <a:pt x="603" y="75"/>
                </a:lnTo>
                <a:lnTo>
                  <a:pt x="637" y="56"/>
                </a:lnTo>
                <a:lnTo>
                  <a:pt x="672" y="36"/>
                </a:lnTo>
                <a:lnTo>
                  <a:pt x="706" y="17"/>
                </a:lnTo>
                <a:lnTo>
                  <a:pt x="743" y="0"/>
                </a:lnTo>
                <a:lnTo>
                  <a:pt x="708" y="11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Freeform 27"/>
          <p:cNvSpPr/>
          <p:nvPr/>
        </p:nvSpPr>
        <p:spPr>
          <a:xfrm>
            <a:off x="5214960" y="3244680"/>
            <a:ext cx="790560" cy="1216080"/>
          </a:xfrm>
          <a:custGeom>
            <a:avLst/>
            <a:gdLst>
              <a:gd name="textAreaLeft" fmla="*/ 0 w 790560"/>
              <a:gd name="textAreaRight" fmla="*/ 790920 w 790560"/>
              <a:gd name="textAreaTop" fmla="*/ 0 h 1216080"/>
              <a:gd name="textAreaBottom" fmla="*/ 1216440 h 1216080"/>
            </a:gdLst>
            <a:ahLst/>
            <a:rect l="textAreaLeft" t="textAreaTop" r="textAreaRight" b="textAreaBottom"/>
            <a:pathLst>
              <a:path w="498" h="766">
                <a:moveTo>
                  <a:pt x="94" y="35"/>
                </a:moveTo>
                <a:lnTo>
                  <a:pt x="101" y="54"/>
                </a:lnTo>
                <a:lnTo>
                  <a:pt x="111" y="69"/>
                </a:lnTo>
                <a:lnTo>
                  <a:pt x="122" y="85"/>
                </a:lnTo>
                <a:lnTo>
                  <a:pt x="134" y="98"/>
                </a:lnTo>
                <a:lnTo>
                  <a:pt x="147" y="112"/>
                </a:lnTo>
                <a:lnTo>
                  <a:pt x="161" y="125"/>
                </a:lnTo>
                <a:lnTo>
                  <a:pt x="172" y="139"/>
                </a:lnTo>
                <a:lnTo>
                  <a:pt x="182" y="156"/>
                </a:lnTo>
                <a:lnTo>
                  <a:pt x="209" y="202"/>
                </a:lnTo>
                <a:lnTo>
                  <a:pt x="236" y="250"/>
                </a:lnTo>
                <a:lnTo>
                  <a:pt x="262" y="294"/>
                </a:lnTo>
                <a:lnTo>
                  <a:pt x="291" y="338"/>
                </a:lnTo>
                <a:lnTo>
                  <a:pt x="320" y="384"/>
                </a:lnTo>
                <a:lnTo>
                  <a:pt x="349" y="428"/>
                </a:lnTo>
                <a:lnTo>
                  <a:pt x="378" y="474"/>
                </a:lnTo>
                <a:lnTo>
                  <a:pt x="406" y="520"/>
                </a:lnTo>
                <a:lnTo>
                  <a:pt x="424" y="549"/>
                </a:lnTo>
                <a:lnTo>
                  <a:pt x="443" y="578"/>
                </a:lnTo>
                <a:lnTo>
                  <a:pt x="462" y="608"/>
                </a:lnTo>
                <a:lnTo>
                  <a:pt x="479" y="641"/>
                </a:lnTo>
                <a:lnTo>
                  <a:pt x="485" y="656"/>
                </a:lnTo>
                <a:lnTo>
                  <a:pt x="491" y="672"/>
                </a:lnTo>
                <a:lnTo>
                  <a:pt x="495" y="687"/>
                </a:lnTo>
                <a:lnTo>
                  <a:pt x="498" y="704"/>
                </a:lnTo>
                <a:lnTo>
                  <a:pt x="498" y="720"/>
                </a:lnTo>
                <a:lnTo>
                  <a:pt x="495" y="735"/>
                </a:lnTo>
                <a:lnTo>
                  <a:pt x="491" y="750"/>
                </a:lnTo>
                <a:lnTo>
                  <a:pt x="483" y="766"/>
                </a:lnTo>
                <a:lnTo>
                  <a:pt x="443" y="702"/>
                </a:lnTo>
                <a:lnTo>
                  <a:pt x="402" y="641"/>
                </a:lnTo>
                <a:lnTo>
                  <a:pt x="364" y="580"/>
                </a:lnTo>
                <a:lnTo>
                  <a:pt x="326" y="516"/>
                </a:lnTo>
                <a:lnTo>
                  <a:pt x="285" y="453"/>
                </a:lnTo>
                <a:lnTo>
                  <a:pt x="245" y="392"/>
                </a:lnTo>
                <a:lnTo>
                  <a:pt x="203" y="328"/>
                </a:lnTo>
                <a:lnTo>
                  <a:pt x="159" y="265"/>
                </a:lnTo>
                <a:lnTo>
                  <a:pt x="136" y="233"/>
                </a:lnTo>
                <a:lnTo>
                  <a:pt x="115" y="200"/>
                </a:lnTo>
                <a:lnTo>
                  <a:pt x="94" y="167"/>
                </a:lnTo>
                <a:lnTo>
                  <a:pt x="72" y="135"/>
                </a:lnTo>
                <a:lnTo>
                  <a:pt x="53" y="102"/>
                </a:lnTo>
                <a:lnTo>
                  <a:pt x="34" y="69"/>
                </a:lnTo>
                <a:lnTo>
                  <a:pt x="15" y="35"/>
                </a:lnTo>
                <a:lnTo>
                  <a:pt x="0" y="0"/>
                </a:lnTo>
                <a:lnTo>
                  <a:pt x="94" y="35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Freeform 28"/>
          <p:cNvSpPr/>
          <p:nvPr/>
        </p:nvSpPr>
        <p:spPr>
          <a:xfrm>
            <a:off x="5195880" y="1747800"/>
            <a:ext cx="1816200" cy="2792520"/>
          </a:xfrm>
          <a:custGeom>
            <a:avLst/>
            <a:gdLst>
              <a:gd name="textAreaLeft" fmla="*/ 0 w 1816200"/>
              <a:gd name="textAreaRight" fmla="*/ 1816560 w 1816200"/>
              <a:gd name="textAreaTop" fmla="*/ 0 h 2792520"/>
              <a:gd name="textAreaBottom" fmla="*/ 2792880 h 2792520"/>
            </a:gdLst>
            <a:ahLst/>
            <a:rect l="textAreaLeft" t="textAreaTop" r="textAreaRight" b="textAreaBottom"/>
            <a:pathLst>
              <a:path w="1144" h="1759">
                <a:moveTo>
                  <a:pt x="44" y="800"/>
                </a:moveTo>
                <a:lnTo>
                  <a:pt x="50" y="800"/>
                </a:lnTo>
                <a:lnTo>
                  <a:pt x="56" y="800"/>
                </a:lnTo>
                <a:lnTo>
                  <a:pt x="63" y="798"/>
                </a:lnTo>
                <a:lnTo>
                  <a:pt x="69" y="794"/>
                </a:lnTo>
                <a:lnTo>
                  <a:pt x="77" y="792"/>
                </a:lnTo>
                <a:lnTo>
                  <a:pt x="81" y="792"/>
                </a:lnTo>
                <a:lnTo>
                  <a:pt x="86" y="792"/>
                </a:lnTo>
                <a:lnTo>
                  <a:pt x="90" y="792"/>
                </a:lnTo>
                <a:lnTo>
                  <a:pt x="104" y="805"/>
                </a:lnTo>
                <a:lnTo>
                  <a:pt x="117" y="817"/>
                </a:lnTo>
                <a:lnTo>
                  <a:pt x="132" y="826"/>
                </a:lnTo>
                <a:lnTo>
                  <a:pt x="146" y="834"/>
                </a:lnTo>
                <a:lnTo>
                  <a:pt x="178" y="851"/>
                </a:lnTo>
                <a:lnTo>
                  <a:pt x="207" y="867"/>
                </a:lnTo>
                <a:lnTo>
                  <a:pt x="223" y="876"/>
                </a:lnTo>
                <a:lnTo>
                  <a:pt x="236" y="886"/>
                </a:lnTo>
                <a:lnTo>
                  <a:pt x="248" y="897"/>
                </a:lnTo>
                <a:lnTo>
                  <a:pt x="257" y="909"/>
                </a:lnTo>
                <a:lnTo>
                  <a:pt x="267" y="922"/>
                </a:lnTo>
                <a:lnTo>
                  <a:pt x="274" y="940"/>
                </a:lnTo>
                <a:lnTo>
                  <a:pt x="278" y="957"/>
                </a:lnTo>
                <a:lnTo>
                  <a:pt x="280" y="978"/>
                </a:lnTo>
                <a:lnTo>
                  <a:pt x="357" y="1030"/>
                </a:lnTo>
                <a:lnTo>
                  <a:pt x="434" y="1083"/>
                </a:lnTo>
                <a:lnTo>
                  <a:pt x="508" y="1137"/>
                </a:lnTo>
                <a:lnTo>
                  <a:pt x="585" y="1189"/>
                </a:lnTo>
                <a:lnTo>
                  <a:pt x="624" y="1216"/>
                </a:lnTo>
                <a:lnTo>
                  <a:pt x="662" y="1239"/>
                </a:lnTo>
                <a:lnTo>
                  <a:pt x="700" y="1262"/>
                </a:lnTo>
                <a:lnTo>
                  <a:pt x="741" y="1283"/>
                </a:lnTo>
                <a:lnTo>
                  <a:pt x="783" y="1302"/>
                </a:lnTo>
                <a:lnTo>
                  <a:pt x="825" y="1321"/>
                </a:lnTo>
                <a:lnTo>
                  <a:pt x="867" y="1337"/>
                </a:lnTo>
                <a:lnTo>
                  <a:pt x="911" y="1350"/>
                </a:lnTo>
                <a:lnTo>
                  <a:pt x="915" y="1350"/>
                </a:lnTo>
                <a:lnTo>
                  <a:pt x="919" y="1348"/>
                </a:lnTo>
                <a:lnTo>
                  <a:pt x="919" y="1346"/>
                </a:lnTo>
                <a:lnTo>
                  <a:pt x="919" y="1342"/>
                </a:lnTo>
                <a:lnTo>
                  <a:pt x="915" y="1331"/>
                </a:lnTo>
                <a:lnTo>
                  <a:pt x="909" y="1317"/>
                </a:lnTo>
                <a:lnTo>
                  <a:pt x="900" y="1304"/>
                </a:lnTo>
                <a:lnTo>
                  <a:pt x="888" y="1289"/>
                </a:lnTo>
                <a:lnTo>
                  <a:pt x="877" y="1275"/>
                </a:lnTo>
                <a:lnTo>
                  <a:pt x="867" y="1266"/>
                </a:lnTo>
                <a:lnTo>
                  <a:pt x="838" y="1239"/>
                </a:lnTo>
                <a:lnTo>
                  <a:pt x="808" y="1214"/>
                </a:lnTo>
                <a:lnTo>
                  <a:pt x="775" y="1191"/>
                </a:lnTo>
                <a:lnTo>
                  <a:pt x="743" y="1170"/>
                </a:lnTo>
                <a:lnTo>
                  <a:pt x="710" y="1149"/>
                </a:lnTo>
                <a:lnTo>
                  <a:pt x="675" y="1129"/>
                </a:lnTo>
                <a:lnTo>
                  <a:pt x="641" y="1112"/>
                </a:lnTo>
                <a:lnTo>
                  <a:pt x="606" y="1095"/>
                </a:lnTo>
                <a:lnTo>
                  <a:pt x="537" y="1064"/>
                </a:lnTo>
                <a:lnTo>
                  <a:pt x="468" y="1035"/>
                </a:lnTo>
                <a:lnTo>
                  <a:pt x="397" y="1007"/>
                </a:lnTo>
                <a:lnTo>
                  <a:pt x="328" y="976"/>
                </a:lnTo>
                <a:lnTo>
                  <a:pt x="294" y="959"/>
                </a:lnTo>
                <a:lnTo>
                  <a:pt x="259" y="941"/>
                </a:lnTo>
                <a:lnTo>
                  <a:pt x="226" y="924"/>
                </a:lnTo>
                <a:lnTo>
                  <a:pt x="194" y="903"/>
                </a:lnTo>
                <a:lnTo>
                  <a:pt x="163" y="882"/>
                </a:lnTo>
                <a:lnTo>
                  <a:pt x="132" y="857"/>
                </a:lnTo>
                <a:lnTo>
                  <a:pt x="104" y="832"/>
                </a:lnTo>
                <a:lnTo>
                  <a:pt x="77" y="803"/>
                </a:lnTo>
                <a:lnTo>
                  <a:pt x="75" y="801"/>
                </a:lnTo>
                <a:lnTo>
                  <a:pt x="71" y="800"/>
                </a:lnTo>
                <a:lnTo>
                  <a:pt x="67" y="798"/>
                </a:lnTo>
                <a:lnTo>
                  <a:pt x="63" y="796"/>
                </a:lnTo>
                <a:lnTo>
                  <a:pt x="58" y="794"/>
                </a:lnTo>
                <a:lnTo>
                  <a:pt x="50" y="792"/>
                </a:lnTo>
                <a:lnTo>
                  <a:pt x="42" y="790"/>
                </a:lnTo>
                <a:lnTo>
                  <a:pt x="35" y="788"/>
                </a:lnTo>
                <a:lnTo>
                  <a:pt x="94" y="798"/>
                </a:lnTo>
                <a:lnTo>
                  <a:pt x="154" y="807"/>
                </a:lnTo>
                <a:lnTo>
                  <a:pt x="215" y="813"/>
                </a:lnTo>
                <a:lnTo>
                  <a:pt x="274" y="819"/>
                </a:lnTo>
                <a:lnTo>
                  <a:pt x="395" y="824"/>
                </a:lnTo>
                <a:lnTo>
                  <a:pt x="514" y="828"/>
                </a:lnTo>
                <a:lnTo>
                  <a:pt x="635" y="832"/>
                </a:lnTo>
                <a:lnTo>
                  <a:pt x="758" y="834"/>
                </a:lnTo>
                <a:lnTo>
                  <a:pt x="817" y="838"/>
                </a:lnTo>
                <a:lnTo>
                  <a:pt x="879" y="840"/>
                </a:lnTo>
                <a:lnTo>
                  <a:pt x="940" y="846"/>
                </a:lnTo>
                <a:lnTo>
                  <a:pt x="1000" y="851"/>
                </a:lnTo>
                <a:lnTo>
                  <a:pt x="1021" y="855"/>
                </a:lnTo>
                <a:lnTo>
                  <a:pt x="1040" y="859"/>
                </a:lnTo>
                <a:lnTo>
                  <a:pt x="1059" y="865"/>
                </a:lnTo>
                <a:lnTo>
                  <a:pt x="1078" y="872"/>
                </a:lnTo>
                <a:lnTo>
                  <a:pt x="1096" y="882"/>
                </a:lnTo>
                <a:lnTo>
                  <a:pt x="1113" y="892"/>
                </a:lnTo>
                <a:lnTo>
                  <a:pt x="1128" y="903"/>
                </a:lnTo>
                <a:lnTo>
                  <a:pt x="1144" y="917"/>
                </a:lnTo>
                <a:lnTo>
                  <a:pt x="1117" y="926"/>
                </a:lnTo>
                <a:lnTo>
                  <a:pt x="1092" y="930"/>
                </a:lnTo>
                <a:lnTo>
                  <a:pt x="1065" y="934"/>
                </a:lnTo>
                <a:lnTo>
                  <a:pt x="1038" y="934"/>
                </a:lnTo>
                <a:lnTo>
                  <a:pt x="1011" y="934"/>
                </a:lnTo>
                <a:lnTo>
                  <a:pt x="984" y="932"/>
                </a:lnTo>
                <a:lnTo>
                  <a:pt x="957" y="928"/>
                </a:lnTo>
                <a:lnTo>
                  <a:pt x="932" y="924"/>
                </a:lnTo>
                <a:lnTo>
                  <a:pt x="838" y="911"/>
                </a:lnTo>
                <a:lnTo>
                  <a:pt x="744" y="897"/>
                </a:lnTo>
                <a:lnTo>
                  <a:pt x="652" y="886"/>
                </a:lnTo>
                <a:lnTo>
                  <a:pt x="558" y="874"/>
                </a:lnTo>
                <a:lnTo>
                  <a:pt x="466" y="863"/>
                </a:lnTo>
                <a:lnTo>
                  <a:pt x="374" y="855"/>
                </a:lnTo>
                <a:lnTo>
                  <a:pt x="280" y="851"/>
                </a:lnTo>
                <a:lnTo>
                  <a:pt x="186" y="849"/>
                </a:lnTo>
                <a:lnTo>
                  <a:pt x="188" y="849"/>
                </a:lnTo>
                <a:lnTo>
                  <a:pt x="190" y="849"/>
                </a:lnTo>
                <a:lnTo>
                  <a:pt x="192" y="847"/>
                </a:lnTo>
                <a:lnTo>
                  <a:pt x="194" y="847"/>
                </a:lnTo>
                <a:lnTo>
                  <a:pt x="194" y="846"/>
                </a:lnTo>
                <a:lnTo>
                  <a:pt x="194" y="846"/>
                </a:lnTo>
                <a:lnTo>
                  <a:pt x="192" y="847"/>
                </a:lnTo>
                <a:lnTo>
                  <a:pt x="186" y="849"/>
                </a:lnTo>
                <a:lnTo>
                  <a:pt x="217" y="836"/>
                </a:lnTo>
                <a:lnTo>
                  <a:pt x="246" y="828"/>
                </a:lnTo>
                <a:lnTo>
                  <a:pt x="276" y="821"/>
                </a:lnTo>
                <a:lnTo>
                  <a:pt x="307" y="817"/>
                </a:lnTo>
                <a:lnTo>
                  <a:pt x="336" y="811"/>
                </a:lnTo>
                <a:lnTo>
                  <a:pt x="366" y="805"/>
                </a:lnTo>
                <a:lnTo>
                  <a:pt x="397" y="798"/>
                </a:lnTo>
                <a:lnTo>
                  <a:pt x="428" y="788"/>
                </a:lnTo>
                <a:lnTo>
                  <a:pt x="453" y="778"/>
                </a:lnTo>
                <a:lnTo>
                  <a:pt x="480" y="773"/>
                </a:lnTo>
                <a:lnTo>
                  <a:pt x="507" y="769"/>
                </a:lnTo>
                <a:lnTo>
                  <a:pt x="535" y="767"/>
                </a:lnTo>
                <a:lnTo>
                  <a:pt x="564" y="765"/>
                </a:lnTo>
                <a:lnTo>
                  <a:pt x="593" y="759"/>
                </a:lnTo>
                <a:lnTo>
                  <a:pt x="622" y="753"/>
                </a:lnTo>
                <a:lnTo>
                  <a:pt x="649" y="744"/>
                </a:lnTo>
                <a:lnTo>
                  <a:pt x="658" y="742"/>
                </a:lnTo>
                <a:lnTo>
                  <a:pt x="666" y="742"/>
                </a:lnTo>
                <a:lnTo>
                  <a:pt x="673" y="740"/>
                </a:lnTo>
                <a:lnTo>
                  <a:pt x="683" y="740"/>
                </a:lnTo>
                <a:lnTo>
                  <a:pt x="691" y="742"/>
                </a:lnTo>
                <a:lnTo>
                  <a:pt x="700" y="742"/>
                </a:lnTo>
                <a:lnTo>
                  <a:pt x="710" y="740"/>
                </a:lnTo>
                <a:lnTo>
                  <a:pt x="718" y="740"/>
                </a:lnTo>
                <a:lnTo>
                  <a:pt x="725" y="738"/>
                </a:lnTo>
                <a:lnTo>
                  <a:pt x="731" y="736"/>
                </a:lnTo>
                <a:lnTo>
                  <a:pt x="737" y="732"/>
                </a:lnTo>
                <a:lnTo>
                  <a:pt x="743" y="729"/>
                </a:lnTo>
                <a:lnTo>
                  <a:pt x="748" y="727"/>
                </a:lnTo>
                <a:lnTo>
                  <a:pt x="754" y="725"/>
                </a:lnTo>
                <a:lnTo>
                  <a:pt x="760" y="723"/>
                </a:lnTo>
                <a:lnTo>
                  <a:pt x="766" y="721"/>
                </a:lnTo>
                <a:lnTo>
                  <a:pt x="802" y="719"/>
                </a:lnTo>
                <a:lnTo>
                  <a:pt x="838" y="719"/>
                </a:lnTo>
                <a:lnTo>
                  <a:pt x="877" y="717"/>
                </a:lnTo>
                <a:lnTo>
                  <a:pt x="913" y="719"/>
                </a:lnTo>
                <a:lnTo>
                  <a:pt x="950" y="719"/>
                </a:lnTo>
                <a:lnTo>
                  <a:pt x="986" y="719"/>
                </a:lnTo>
                <a:lnTo>
                  <a:pt x="1025" y="717"/>
                </a:lnTo>
                <a:lnTo>
                  <a:pt x="1061" y="717"/>
                </a:lnTo>
                <a:lnTo>
                  <a:pt x="1067" y="715"/>
                </a:lnTo>
                <a:lnTo>
                  <a:pt x="1073" y="715"/>
                </a:lnTo>
                <a:lnTo>
                  <a:pt x="1076" y="711"/>
                </a:lnTo>
                <a:lnTo>
                  <a:pt x="1082" y="709"/>
                </a:lnTo>
                <a:lnTo>
                  <a:pt x="1086" y="706"/>
                </a:lnTo>
                <a:lnTo>
                  <a:pt x="1090" y="702"/>
                </a:lnTo>
                <a:lnTo>
                  <a:pt x="1092" y="700"/>
                </a:lnTo>
                <a:lnTo>
                  <a:pt x="1092" y="696"/>
                </a:lnTo>
                <a:lnTo>
                  <a:pt x="1088" y="686"/>
                </a:lnTo>
                <a:lnTo>
                  <a:pt x="1084" y="679"/>
                </a:lnTo>
                <a:lnTo>
                  <a:pt x="1078" y="673"/>
                </a:lnTo>
                <a:lnTo>
                  <a:pt x="1071" y="669"/>
                </a:lnTo>
                <a:lnTo>
                  <a:pt x="1065" y="665"/>
                </a:lnTo>
                <a:lnTo>
                  <a:pt x="1057" y="663"/>
                </a:lnTo>
                <a:lnTo>
                  <a:pt x="1050" y="663"/>
                </a:lnTo>
                <a:lnTo>
                  <a:pt x="1042" y="661"/>
                </a:lnTo>
                <a:lnTo>
                  <a:pt x="1025" y="663"/>
                </a:lnTo>
                <a:lnTo>
                  <a:pt x="1007" y="665"/>
                </a:lnTo>
                <a:lnTo>
                  <a:pt x="992" y="667"/>
                </a:lnTo>
                <a:lnTo>
                  <a:pt x="977" y="667"/>
                </a:lnTo>
                <a:lnTo>
                  <a:pt x="944" y="667"/>
                </a:lnTo>
                <a:lnTo>
                  <a:pt x="911" y="671"/>
                </a:lnTo>
                <a:lnTo>
                  <a:pt x="879" y="675"/>
                </a:lnTo>
                <a:lnTo>
                  <a:pt x="846" y="682"/>
                </a:lnTo>
                <a:lnTo>
                  <a:pt x="814" y="690"/>
                </a:lnTo>
                <a:lnTo>
                  <a:pt x="781" y="700"/>
                </a:lnTo>
                <a:lnTo>
                  <a:pt x="748" y="711"/>
                </a:lnTo>
                <a:lnTo>
                  <a:pt x="716" y="721"/>
                </a:lnTo>
                <a:lnTo>
                  <a:pt x="685" y="730"/>
                </a:lnTo>
                <a:lnTo>
                  <a:pt x="654" y="736"/>
                </a:lnTo>
                <a:lnTo>
                  <a:pt x="624" y="740"/>
                </a:lnTo>
                <a:lnTo>
                  <a:pt x="593" y="742"/>
                </a:lnTo>
                <a:lnTo>
                  <a:pt x="560" y="746"/>
                </a:lnTo>
                <a:lnTo>
                  <a:pt x="530" y="750"/>
                </a:lnTo>
                <a:lnTo>
                  <a:pt x="497" y="755"/>
                </a:lnTo>
                <a:lnTo>
                  <a:pt x="466" y="763"/>
                </a:lnTo>
                <a:lnTo>
                  <a:pt x="416" y="773"/>
                </a:lnTo>
                <a:lnTo>
                  <a:pt x="368" y="782"/>
                </a:lnTo>
                <a:lnTo>
                  <a:pt x="319" y="790"/>
                </a:lnTo>
                <a:lnTo>
                  <a:pt x="269" y="796"/>
                </a:lnTo>
                <a:lnTo>
                  <a:pt x="219" y="803"/>
                </a:lnTo>
                <a:lnTo>
                  <a:pt x="169" y="809"/>
                </a:lnTo>
                <a:lnTo>
                  <a:pt x="119" y="815"/>
                </a:lnTo>
                <a:lnTo>
                  <a:pt x="69" y="823"/>
                </a:lnTo>
                <a:lnTo>
                  <a:pt x="86" y="821"/>
                </a:lnTo>
                <a:lnTo>
                  <a:pt x="104" y="815"/>
                </a:lnTo>
                <a:lnTo>
                  <a:pt x="119" y="811"/>
                </a:lnTo>
                <a:lnTo>
                  <a:pt x="134" y="805"/>
                </a:lnTo>
                <a:lnTo>
                  <a:pt x="150" y="800"/>
                </a:lnTo>
                <a:lnTo>
                  <a:pt x="165" y="794"/>
                </a:lnTo>
                <a:lnTo>
                  <a:pt x="180" y="788"/>
                </a:lnTo>
                <a:lnTo>
                  <a:pt x="196" y="782"/>
                </a:lnTo>
                <a:lnTo>
                  <a:pt x="203" y="776"/>
                </a:lnTo>
                <a:lnTo>
                  <a:pt x="211" y="767"/>
                </a:lnTo>
                <a:lnTo>
                  <a:pt x="217" y="755"/>
                </a:lnTo>
                <a:lnTo>
                  <a:pt x="221" y="744"/>
                </a:lnTo>
                <a:lnTo>
                  <a:pt x="226" y="730"/>
                </a:lnTo>
                <a:lnTo>
                  <a:pt x="232" y="717"/>
                </a:lnTo>
                <a:lnTo>
                  <a:pt x="240" y="707"/>
                </a:lnTo>
                <a:lnTo>
                  <a:pt x="249" y="698"/>
                </a:lnTo>
                <a:lnTo>
                  <a:pt x="320" y="654"/>
                </a:lnTo>
                <a:lnTo>
                  <a:pt x="393" y="613"/>
                </a:lnTo>
                <a:lnTo>
                  <a:pt x="464" y="575"/>
                </a:lnTo>
                <a:lnTo>
                  <a:pt x="537" y="541"/>
                </a:lnTo>
                <a:lnTo>
                  <a:pt x="612" y="508"/>
                </a:lnTo>
                <a:lnTo>
                  <a:pt x="687" y="479"/>
                </a:lnTo>
                <a:lnTo>
                  <a:pt x="766" y="454"/>
                </a:lnTo>
                <a:lnTo>
                  <a:pt x="848" y="431"/>
                </a:lnTo>
                <a:lnTo>
                  <a:pt x="858" y="429"/>
                </a:lnTo>
                <a:lnTo>
                  <a:pt x="867" y="425"/>
                </a:lnTo>
                <a:lnTo>
                  <a:pt x="875" y="422"/>
                </a:lnTo>
                <a:lnTo>
                  <a:pt x="883" y="416"/>
                </a:lnTo>
                <a:lnTo>
                  <a:pt x="890" y="408"/>
                </a:lnTo>
                <a:lnTo>
                  <a:pt x="894" y="400"/>
                </a:lnTo>
                <a:lnTo>
                  <a:pt x="896" y="389"/>
                </a:lnTo>
                <a:lnTo>
                  <a:pt x="896" y="376"/>
                </a:lnTo>
                <a:lnTo>
                  <a:pt x="815" y="410"/>
                </a:lnTo>
                <a:lnTo>
                  <a:pt x="735" y="441"/>
                </a:lnTo>
                <a:lnTo>
                  <a:pt x="654" y="471"/>
                </a:lnTo>
                <a:lnTo>
                  <a:pt x="574" y="502"/>
                </a:lnTo>
                <a:lnTo>
                  <a:pt x="495" y="535"/>
                </a:lnTo>
                <a:lnTo>
                  <a:pt x="418" y="569"/>
                </a:lnTo>
                <a:lnTo>
                  <a:pt x="380" y="590"/>
                </a:lnTo>
                <a:lnTo>
                  <a:pt x="343" y="612"/>
                </a:lnTo>
                <a:lnTo>
                  <a:pt x="307" y="633"/>
                </a:lnTo>
                <a:lnTo>
                  <a:pt x="271" y="658"/>
                </a:lnTo>
                <a:lnTo>
                  <a:pt x="272" y="658"/>
                </a:lnTo>
                <a:lnTo>
                  <a:pt x="269" y="659"/>
                </a:lnTo>
                <a:lnTo>
                  <a:pt x="263" y="665"/>
                </a:lnTo>
                <a:lnTo>
                  <a:pt x="257" y="671"/>
                </a:lnTo>
                <a:lnTo>
                  <a:pt x="253" y="677"/>
                </a:lnTo>
                <a:lnTo>
                  <a:pt x="253" y="679"/>
                </a:lnTo>
                <a:lnTo>
                  <a:pt x="261" y="679"/>
                </a:lnTo>
                <a:lnTo>
                  <a:pt x="278" y="673"/>
                </a:lnTo>
                <a:lnTo>
                  <a:pt x="307" y="661"/>
                </a:lnTo>
                <a:lnTo>
                  <a:pt x="336" y="650"/>
                </a:lnTo>
                <a:lnTo>
                  <a:pt x="363" y="636"/>
                </a:lnTo>
                <a:lnTo>
                  <a:pt x="391" y="621"/>
                </a:lnTo>
                <a:lnTo>
                  <a:pt x="445" y="590"/>
                </a:lnTo>
                <a:lnTo>
                  <a:pt x="499" y="558"/>
                </a:lnTo>
                <a:lnTo>
                  <a:pt x="551" y="523"/>
                </a:lnTo>
                <a:lnTo>
                  <a:pt x="604" y="489"/>
                </a:lnTo>
                <a:lnTo>
                  <a:pt x="658" y="454"/>
                </a:lnTo>
                <a:lnTo>
                  <a:pt x="714" y="422"/>
                </a:lnTo>
                <a:lnTo>
                  <a:pt x="748" y="402"/>
                </a:lnTo>
                <a:lnTo>
                  <a:pt x="783" y="385"/>
                </a:lnTo>
                <a:lnTo>
                  <a:pt x="819" y="368"/>
                </a:lnTo>
                <a:lnTo>
                  <a:pt x="856" y="353"/>
                </a:lnTo>
                <a:lnTo>
                  <a:pt x="894" y="337"/>
                </a:lnTo>
                <a:lnTo>
                  <a:pt x="931" y="320"/>
                </a:lnTo>
                <a:lnTo>
                  <a:pt x="965" y="301"/>
                </a:lnTo>
                <a:lnTo>
                  <a:pt x="1000" y="282"/>
                </a:lnTo>
                <a:lnTo>
                  <a:pt x="996" y="291"/>
                </a:lnTo>
                <a:lnTo>
                  <a:pt x="988" y="299"/>
                </a:lnTo>
                <a:lnTo>
                  <a:pt x="982" y="308"/>
                </a:lnTo>
                <a:lnTo>
                  <a:pt x="973" y="314"/>
                </a:lnTo>
                <a:lnTo>
                  <a:pt x="965" y="322"/>
                </a:lnTo>
                <a:lnTo>
                  <a:pt x="957" y="328"/>
                </a:lnTo>
                <a:lnTo>
                  <a:pt x="948" y="331"/>
                </a:lnTo>
                <a:lnTo>
                  <a:pt x="940" y="335"/>
                </a:lnTo>
                <a:lnTo>
                  <a:pt x="885" y="356"/>
                </a:lnTo>
                <a:lnTo>
                  <a:pt x="831" y="381"/>
                </a:lnTo>
                <a:lnTo>
                  <a:pt x="779" y="408"/>
                </a:lnTo>
                <a:lnTo>
                  <a:pt x="727" y="435"/>
                </a:lnTo>
                <a:lnTo>
                  <a:pt x="675" y="460"/>
                </a:lnTo>
                <a:lnTo>
                  <a:pt x="622" y="485"/>
                </a:lnTo>
                <a:lnTo>
                  <a:pt x="593" y="496"/>
                </a:lnTo>
                <a:lnTo>
                  <a:pt x="566" y="508"/>
                </a:lnTo>
                <a:lnTo>
                  <a:pt x="537" y="518"/>
                </a:lnTo>
                <a:lnTo>
                  <a:pt x="507" y="525"/>
                </a:lnTo>
                <a:lnTo>
                  <a:pt x="482" y="533"/>
                </a:lnTo>
                <a:lnTo>
                  <a:pt x="459" y="541"/>
                </a:lnTo>
                <a:lnTo>
                  <a:pt x="436" y="552"/>
                </a:lnTo>
                <a:lnTo>
                  <a:pt x="413" y="562"/>
                </a:lnTo>
                <a:lnTo>
                  <a:pt x="368" y="587"/>
                </a:lnTo>
                <a:lnTo>
                  <a:pt x="326" y="612"/>
                </a:lnTo>
                <a:lnTo>
                  <a:pt x="282" y="638"/>
                </a:lnTo>
                <a:lnTo>
                  <a:pt x="238" y="661"/>
                </a:lnTo>
                <a:lnTo>
                  <a:pt x="215" y="671"/>
                </a:lnTo>
                <a:lnTo>
                  <a:pt x="190" y="681"/>
                </a:lnTo>
                <a:lnTo>
                  <a:pt x="165" y="688"/>
                </a:lnTo>
                <a:lnTo>
                  <a:pt x="140" y="694"/>
                </a:lnTo>
                <a:lnTo>
                  <a:pt x="142" y="694"/>
                </a:lnTo>
                <a:lnTo>
                  <a:pt x="144" y="694"/>
                </a:lnTo>
                <a:lnTo>
                  <a:pt x="144" y="694"/>
                </a:lnTo>
                <a:lnTo>
                  <a:pt x="146" y="692"/>
                </a:lnTo>
                <a:lnTo>
                  <a:pt x="146" y="690"/>
                </a:lnTo>
                <a:lnTo>
                  <a:pt x="146" y="690"/>
                </a:lnTo>
                <a:lnTo>
                  <a:pt x="144" y="690"/>
                </a:lnTo>
                <a:lnTo>
                  <a:pt x="140" y="694"/>
                </a:lnTo>
                <a:lnTo>
                  <a:pt x="178" y="658"/>
                </a:lnTo>
                <a:lnTo>
                  <a:pt x="213" y="621"/>
                </a:lnTo>
                <a:lnTo>
                  <a:pt x="249" y="583"/>
                </a:lnTo>
                <a:lnTo>
                  <a:pt x="282" y="544"/>
                </a:lnTo>
                <a:lnTo>
                  <a:pt x="349" y="466"/>
                </a:lnTo>
                <a:lnTo>
                  <a:pt x="413" y="387"/>
                </a:lnTo>
                <a:lnTo>
                  <a:pt x="474" y="305"/>
                </a:lnTo>
                <a:lnTo>
                  <a:pt x="535" y="220"/>
                </a:lnTo>
                <a:lnTo>
                  <a:pt x="599" y="136"/>
                </a:lnTo>
                <a:lnTo>
                  <a:pt x="662" y="49"/>
                </a:lnTo>
                <a:lnTo>
                  <a:pt x="670" y="40"/>
                </a:lnTo>
                <a:lnTo>
                  <a:pt x="679" y="30"/>
                </a:lnTo>
                <a:lnTo>
                  <a:pt x="691" y="23"/>
                </a:lnTo>
                <a:lnTo>
                  <a:pt x="700" y="15"/>
                </a:lnTo>
                <a:lnTo>
                  <a:pt x="714" y="9"/>
                </a:lnTo>
                <a:lnTo>
                  <a:pt x="725" y="5"/>
                </a:lnTo>
                <a:lnTo>
                  <a:pt x="739" y="1"/>
                </a:lnTo>
                <a:lnTo>
                  <a:pt x="754" y="0"/>
                </a:lnTo>
                <a:lnTo>
                  <a:pt x="725" y="21"/>
                </a:lnTo>
                <a:lnTo>
                  <a:pt x="698" y="44"/>
                </a:lnTo>
                <a:lnTo>
                  <a:pt x="672" y="67"/>
                </a:lnTo>
                <a:lnTo>
                  <a:pt x="645" y="92"/>
                </a:lnTo>
                <a:lnTo>
                  <a:pt x="620" y="117"/>
                </a:lnTo>
                <a:lnTo>
                  <a:pt x="595" y="142"/>
                </a:lnTo>
                <a:lnTo>
                  <a:pt x="572" y="168"/>
                </a:lnTo>
                <a:lnTo>
                  <a:pt x="549" y="195"/>
                </a:lnTo>
                <a:lnTo>
                  <a:pt x="526" y="224"/>
                </a:lnTo>
                <a:lnTo>
                  <a:pt x="505" y="253"/>
                </a:lnTo>
                <a:lnTo>
                  <a:pt x="484" y="283"/>
                </a:lnTo>
                <a:lnTo>
                  <a:pt x="464" y="314"/>
                </a:lnTo>
                <a:lnTo>
                  <a:pt x="445" y="345"/>
                </a:lnTo>
                <a:lnTo>
                  <a:pt x="426" y="377"/>
                </a:lnTo>
                <a:lnTo>
                  <a:pt x="409" y="410"/>
                </a:lnTo>
                <a:lnTo>
                  <a:pt x="393" y="445"/>
                </a:lnTo>
                <a:lnTo>
                  <a:pt x="386" y="456"/>
                </a:lnTo>
                <a:lnTo>
                  <a:pt x="376" y="466"/>
                </a:lnTo>
                <a:lnTo>
                  <a:pt x="365" y="473"/>
                </a:lnTo>
                <a:lnTo>
                  <a:pt x="353" y="483"/>
                </a:lnTo>
                <a:lnTo>
                  <a:pt x="340" y="491"/>
                </a:lnTo>
                <a:lnTo>
                  <a:pt x="328" y="500"/>
                </a:lnTo>
                <a:lnTo>
                  <a:pt x="319" y="510"/>
                </a:lnTo>
                <a:lnTo>
                  <a:pt x="311" y="521"/>
                </a:lnTo>
                <a:lnTo>
                  <a:pt x="286" y="571"/>
                </a:lnTo>
                <a:lnTo>
                  <a:pt x="259" y="619"/>
                </a:lnTo>
                <a:lnTo>
                  <a:pt x="232" y="665"/>
                </a:lnTo>
                <a:lnTo>
                  <a:pt x="203" y="711"/>
                </a:lnTo>
                <a:lnTo>
                  <a:pt x="173" y="757"/>
                </a:lnTo>
                <a:lnTo>
                  <a:pt x="140" y="800"/>
                </a:lnTo>
                <a:lnTo>
                  <a:pt x="106" y="844"/>
                </a:lnTo>
                <a:lnTo>
                  <a:pt x="69" y="884"/>
                </a:lnTo>
                <a:lnTo>
                  <a:pt x="63" y="892"/>
                </a:lnTo>
                <a:lnTo>
                  <a:pt x="58" y="897"/>
                </a:lnTo>
                <a:lnTo>
                  <a:pt x="56" y="905"/>
                </a:lnTo>
                <a:lnTo>
                  <a:pt x="54" y="913"/>
                </a:lnTo>
                <a:lnTo>
                  <a:pt x="54" y="918"/>
                </a:lnTo>
                <a:lnTo>
                  <a:pt x="56" y="922"/>
                </a:lnTo>
                <a:lnTo>
                  <a:pt x="56" y="928"/>
                </a:lnTo>
                <a:lnTo>
                  <a:pt x="58" y="930"/>
                </a:lnTo>
                <a:lnTo>
                  <a:pt x="83" y="966"/>
                </a:lnTo>
                <a:lnTo>
                  <a:pt x="109" y="1003"/>
                </a:lnTo>
                <a:lnTo>
                  <a:pt x="136" y="1037"/>
                </a:lnTo>
                <a:lnTo>
                  <a:pt x="167" y="1072"/>
                </a:lnTo>
                <a:lnTo>
                  <a:pt x="198" y="1105"/>
                </a:lnTo>
                <a:lnTo>
                  <a:pt x="228" y="1137"/>
                </a:lnTo>
                <a:lnTo>
                  <a:pt x="261" y="1168"/>
                </a:lnTo>
                <a:lnTo>
                  <a:pt x="294" y="1200"/>
                </a:lnTo>
                <a:lnTo>
                  <a:pt x="349" y="1254"/>
                </a:lnTo>
                <a:lnTo>
                  <a:pt x="407" y="1306"/>
                </a:lnTo>
                <a:lnTo>
                  <a:pt x="461" y="1360"/>
                </a:lnTo>
                <a:lnTo>
                  <a:pt x="516" y="1413"/>
                </a:lnTo>
                <a:lnTo>
                  <a:pt x="570" y="1467"/>
                </a:lnTo>
                <a:lnTo>
                  <a:pt x="622" y="1523"/>
                </a:lnTo>
                <a:lnTo>
                  <a:pt x="673" y="1582"/>
                </a:lnTo>
                <a:lnTo>
                  <a:pt x="723" y="1642"/>
                </a:lnTo>
                <a:lnTo>
                  <a:pt x="727" y="1647"/>
                </a:lnTo>
                <a:lnTo>
                  <a:pt x="733" y="1653"/>
                </a:lnTo>
                <a:lnTo>
                  <a:pt x="741" y="1659"/>
                </a:lnTo>
                <a:lnTo>
                  <a:pt x="746" y="1665"/>
                </a:lnTo>
                <a:lnTo>
                  <a:pt x="752" y="1672"/>
                </a:lnTo>
                <a:lnTo>
                  <a:pt x="754" y="1680"/>
                </a:lnTo>
                <a:lnTo>
                  <a:pt x="754" y="1688"/>
                </a:lnTo>
                <a:lnTo>
                  <a:pt x="750" y="1695"/>
                </a:lnTo>
                <a:lnTo>
                  <a:pt x="743" y="1707"/>
                </a:lnTo>
                <a:lnTo>
                  <a:pt x="733" y="1715"/>
                </a:lnTo>
                <a:lnTo>
                  <a:pt x="723" y="1718"/>
                </a:lnTo>
                <a:lnTo>
                  <a:pt x="714" y="1718"/>
                </a:lnTo>
                <a:lnTo>
                  <a:pt x="704" y="1716"/>
                </a:lnTo>
                <a:lnTo>
                  <a:pt x="693" y="1713"/>
                </a:lnTo>
                <a:lnTo>
                  <a:pt x="683" y="1705"/>
                </a:lnTo>
                <a:lnTo>
                  <a:pt x="672" y="1695"/>
                </a:lnTo>
                <a:lnTo>
                  <a:pt x="622" y="1644"/>
                </a:lnTo>
                <a:lnTo>
                  <a:pt x="572" y="1590"/>
                </a:lnTo>
                <a:lnTo>
                  <a:pt x="526" y="1536"/>
                </a:lnTo>
                <a:lnTo>
                  <a:pt x="482" y="1481"/>
                </a:lnTo>
                <a:lnTo>
                  <a:pt x="436" y="1427"/>
                </a:lnTo>
                <a:lnTo>
                  <a:pt x="388" y="1371"/>
                </a:lnTo>
                <a:lnTo>
                  <a:pt x="365" y="1344"/>
                </a:lnTo>
                <a:lnTo>
                  <a:pt x="340" y="1319"/>
                </a:lnTo>
                <a:lnTo>
                  <a:pt x="313" y="1293"/>
                </a:lnTo>
                <a:lnTo>
                  <a:pt x="286" y="1268"/>
                </a:lnTo>
                <a:lnTo>
                  <a:pt x="263" y="1246"/>
                </a:lnTo>
                <a:lnTo>
                  <a:pt x="244" y="1223"/>
                </a:lnTo>
                <a:lnTo>
                  <a:pt x="225" y="1200"/>
                </a:lnTo>
                <a:lnTo>
                  <a:pt x="207" y="1176"/>
                </a:lnTo>
                <a:lnTo>
                  <a:pt x="188" y="1151"/>
                </a:lnTo>
                <a:lnTo>
                  <a:pt x="169" y="1128"/>
                </a:lnTo>
                <a:lnTo>
                  <a:pt x="150" y="1105"/>
                </a:lnTo>
                <a:lnTo>
                  <a:pt x="129" y="1083"/>
                </a:lnTo>
                <a:lnTo>
                  <a:pt x="129" y="1085"/>
                </a:lnTo>
                <a:lnTo>
                  <a:pt x="130" y="1085"/>
                </a:lnTo>
                <a:lnTo>
                  <a:pt x="130" y="1085"/>
                </a:lnTo>
                <a:lnTo>
                  <a:pt x="130" y="1083"/>
                </a:lnTo>
                <a:lnTo>
                  <a:pt x="130" y="1082"/>
                </a:lnTo>
                <a:lnTo>
                  <a:pt x="130" y="1078"/>
                </a:lnTo>
                <a:lnTo>
                  <a:pt x="129" y="1076"/>
                </a:lnTo>
                <a:lnTo>
                  <a:pt x="129" y="1072"/>
                </a:lnTo>
                <a:lnTo>
                  <a:pt x="171" y="1105"/>
                </a:lnTo>
                <a:lnTo>
                  <a:pt x="211" y="1137"/>
                </a:lnTo>
                <a:lnTo>
                  <a:pt x="251" y="1170"/>
                </a:lnTo>
                <a:lnTo>
                  <a:pt x="290" y="1204"/>
                </a:lnTo>
                <a:lnTo>
                  <a:pt x="365" y="1277"/>
                </a:lnTo>
                <a:lnTo>
                  <a:pt x="437" y="1352"/>
                </a:lnTo>
                <a:lnTo>
                  <a:pt x="510" y="1427"/>
                </a:lnTo>
                <a:lnTo>
                  <a:pt x="581" y="1504"/>
                </a:lnTo>
                <a:lnTo>
                  <a:pt x="654" y="1578"/>
                </a:lnTo>
                <a:lnTo>
                  <a:pt x="731" y="1649"/>
                </a:lnTo>
                <a:lnTo>
                  <a:pt x="733" y="1634"/>
                </a:lnTo>
                <a:lnTo>
                  <a:pt x="733" y="1619"/>
                </a:lnTo>
                <a:lnTo>
                  <a:pt x="731" y="1603"/>
                </a:lnTo>
                <a:lnTo>
                  <a:pt x="729" y="1588"/>
                </a:lnTo>
                <a:lnTo>
                  <a:pt x="723" y="1575"/>
                </a:lnTo>
                <a:lnTo>
                  <a:pt x="720" y="1563"/>
                </a:lnTo>
                <a:lnTo>
                  <a:pt x="712" y="1550"/>
                </a:lnTo>
                <a:lnTo>
                  <a:pt x="704" y="1538"/>
                </a:lnTo>
                <a:lnTo>
                  <a:pt x="687" y="1515"/>
                </a:lnTo>
                <a:lnTo>
                  <a:pt x="668" y="1494"/>
                </a:lnTo>
                <a:lnTo>
                  <a:pt x="649" y="1475"/>
                </a:lnTo>
                <a:lnTo>
                  <a:pt x="629" y="1456"/>
                </a:lnTo>
                <a:lnTo>
                  <a:pt x="597" y="1427"/>
                </a:lnTo>
                <a:lnTo>
                  <a:pt x="564" y="1400"/>
                </a:lnTo>
                <a:lnTo>
                  <a:pt x="530" y="1375"/>
                </a:lnTo>
                <a:lnTo>
                  <a:pt x="495" y="1348"/>
                </a:lnTo>
                <a:lnTo>
                  <a:pt x="459" y="1325"/>
                </a:lnTo>
                <a:lnTo>
                  <a:pt x="420" y="1300"/>
                </a:lnTo>
                <a:lnTo>
                  <a:pt x="384" y="1277"/>
                </a:lnTo>
                <a:lnTo>
                  <a:pt x="343" y="1252"/>
                </a:lnTo>
                <a:lnTo>
                  <a:pt x="324" y="1239"/>
                </a:lnTo>
                <a:lnTo>
                  <a:pt x="303" y="1225"/>
                </a:lnTo>
                <a:lnTo>
                  <a:pt x="286" y="1208"/>
                </a:lnTo>
                <a:lnTo>
                  <a:pt x="269" y="1191"/>
                </a:lnTo>
                <a:lnTo>
                  <a:pt x="236" y="1156"/>
                </a:lnTo>
                <a:lnTo>
                  <a:pt x="205" y="1118"/>
                </a:lnTo>
                <a:lnTo>
                  <a:pt x="177" y="1080"/>
                </a:lnTo>
                <a:lnTo>
                  <a:pt x="146" y="1041"/>
                </a:lnTo>
                <a:lnTo>
                  <a:pt x="130" y="1022"/>
                </a:lnTo>
                <a:lnTo>
                  <a:pt x="113" y="1005"/>
                </a:lnTo>
                <a:lnTo>
                  <a:pt x="96" y="988"/>
                </a:lnTo>
                <a:lnTo>
                  <a:pt x="77" y="970"/>
                </a:lnTo>
                <a:lnTo>
                  <a:pt x="71" y="968"/>
                </a:lnTo>
                <a:lnTo>
                  <a:pt x="61" y="966"/>
                </a:lnTo>
                <a:lnTo>
                  <a:pt x="52" y="968"/>
                </a:lnTo>
                <a:lnTo>
                  <a:pt x="40" y="968"/>
                </a:lnTo>
                <a:lnTo>
                  <a:pt x="29" y="970"/>
                </a:lnTo>
                <a:lnTo>
                  <a:pt x="17" y="970"/>
                </a:lnTo>
                <a:lnTo>
                  <a:pt x="8" y="968"/>
                </a:lnTo>
                <a:lnTo>
                  <a:pt x="0" y="963"/>
                </a:lnTo>
                <a:lnTo>
                  <a:pt x="31" y="995"/>
                </a:lnTo>
                <a:lnTo>
                  <a:pt x="61" y="1026"/>
                </a:lnTo>
                <a:lnTo>
                  <a:pt x="92" y="1058"/>
                </a:lnTo>
                <a:lnTo>
                  <a:pt x="121" y="1089"/>
                </a:lnTo>
                <a:lnTo>
                  <a:pt x="152" y="1122"/>
                </a:lnTo>
                <a:lnTo>
                  <a:pt x="180" y="1156"/>
                </a:lnTo>
                <a:lnTo>
                  <a:pt x="207" y="1193"/>
                </a:lnTo>
                <a:lnTo>
                  <a:pt x="234" y="1229"/>
                </a:lnTo>
                <a:lnTo>
                  <a:pt x="259" y="1266"/>
                </a:lnTo>
                <a:lnTo>
                  <a:pt x="284" y="1300"/>
                </a:lnTo>
                <a:lnTo>
                  <a:pt x="309" y="1333"/>
                </a:lnTo>
                <a:lnTo>
                  <a:pt x="336" y="1365"/>
                </a:lnTo>
                <a:lnTo>
                  <a:pt x="363" y="1398"/>
                </a:lnTo>
                <a:lnTo>
                  <a:pt x="390" y="1429"/>
                </a:lnTo>
                <a:lnTo>
                  <a:pt x="418" y="1461"/>
                </a:lnTo>
                <a:lnTo>
                  <a:pt x="445" y="1492"/>
                </a:lnTo>
                <a:lnTo>
                  <a:pt x="451" y="1496"/>
                </a:lnTo>
                <a:lnTo>
                  <a:pt x="455" y="1500"/>
                </a:lnTo>
                <a:lnTo>
                  <a:pt x="461" y="1502"/>
                </a:lnTo>
                <a:lnTo>
                  <a:pt x="468" y="1505"/>
                </a:lnTo>
                <a:lnTo>
                  <a:pt x="474" y="1507"/>
                </a:lnTo>
                <a:lnTo>
                  <a:pt x="480" y="1509"/>
                </a:lnTo>
                <a:lnTo>
                  <a:pt x="485" y="1513"/>
                </a:lnTo>
                <a:lnTo>
                  <a:pt x="489" y="1517"/>
                </a:lnTo>
                <a:lnTo>
                  <a:pt x="495" y="1527"/>
                </a:lnTo>
                <a:lnTo>
                  <a:pt x="501" y="1536"/>
                </a:lnTo>
                <a:lnTo>
                  <a:pt x="507" y="1546"/>
                </a:lnTo>
                <a:lnTo>
                  <a:pt x="510" y="1555"/>
                </a:lnTo>
                <a:lnTo>
                  <a:pt x="512" y="1567"/>
                </a:lnTo>
                <a:lnTo>
                  <a:pt x="516" y="1578"/>
                </a:lnTo>
                <a:lnTo>
                  <a:pt x="520" y="1588"/>
                </a:lnTo>
                <a:lnTo>
                  <a:pt x="524" y="1599"/>
                </a:lnTo>
                <a:lnTo>
                  <a:pt x="530" y="1609"/>
                </a:lnTo>
                <a:lnTo>
                  <a:pt x="537" y="1621"/>
                </a:lnTo>
                <a:lnTo>
                  <a:pt x="543" y="1632"/>
                </a:lnTo>
                <a:lnTo>
                  <a:pt x="551" y="1642"/>
                </a:lnTo>
                <a:lnTo>
                  <a:pt x="558" y="1651"/>
                </a:lnTo>
                <a:lnTo>
                  <a:pt x="568" y="1663"/>
                </a:lnTo>
                <a:lnTo>
                  <a:pt x="576" y="1672"/>
                </a:lnTo>
                <a:lnTo>
                  <a:pt x="583" y="1682"/>
                </a:lnTo>
                <a:lnTo>
                  <a:pt x="587" y="1692"/>
                </a:lnTo>
                <a:lnTo>
                  <a:pt x="591" y="1701"/>
                </a:lnTo>
                <a:lnTo>
                  <a:pt x="595" y="1709"/>
                </a:lnTo>
                <a:lnTo>
                  <a:pt x="597" y="1718"/>
                </a:lnTo>
                <a:lnTo>
                  <a:pt x="599" y="1728"/>
                </a:lnTo>
                <a:lnTo>
                  <a:pt x="599" y="1738"/>
                </a:lnTo>
                <a:lnTo>
                  <a:pt x="599" y="1749"/>
                </a:lnTo>
                <a:lnTo>
                  <a:pt x="597" y="1759"/>
                </a:lnTo>
                <a:lnTo>
                  <a:pt x="583" y="1749"/>
                </a:lnTo>
                <a:lnTo>
                  <a:pt x="570" y="1739"/>
                </a:lnTo>
                <a:lnTo>
                  <a:pt x="558" y="1730"/>
                </a:lnTo>
                <a:lnTo>
                  <a:pt x="547" y="1718"/>
                </a:lnTo>
                <a:lnTo>
                  <a:pt x="526" y="1695"/>
                </a:lnTo>
                <a:lnTo>
                  <a:pt x="507" y="1670"/>
                </a:lnTo>
                <a:lnTo>
                  <a:pt x="487" y="1644"/>
                </a:lnTo>
                <a:lnTo>
                  <a:pt x="468" y="1619"/>
                </a:lnTo>
                <a:lnTo>
                  <a:pt x="449" y="1594"/>
                </a:lnTo>
                <a:lnTo>
                  <a:pt x="428" y="1569"/>
                </a:lnTo>
                <a:lnTo>
                  <a:pt x="420" y="1559"/>
                </a:lnTo>
                <a:lnTo>
                  <a:pt x="414" y="1550"/>
                </a:lnTo>
                <a:lnTo>
                  <a:pt x="409" y="1540"/>
                </a:lnTo>
                <a:lnTo>
                  <a:pt x="403" y="1530"/>
                </a:lnTo>
                <a:lnTo>
                  <a:pt x="397" y="1521"/>
                </a:lnTo>
                <a:lnTo>
                  <a:pt x="391" y="1511"/>
                </a:lnTo>
                <a:lnTo>
                  <a:pt x="386" y="1502"/>
                </a:lnTo>
                <a:lnTo>
                  <a:pt x="378" y="1494"/>
                </a:lnTo>
                <a:lnTo>
                  <a:pt x="366" y="1486"/>
                </a:lnTo>
                <a:lnTo>
                  <a:pt x="357" y="1477"/>
                </a:lnTo>
                <a:lnTo>
                  <a:pt x="349" y="1467"/>
                </a:lnTo>
                <a:lnTo>
                  <a:pt x="340" y="1457"/>
                </a:lnTo>
                <a:lnTo>
                  <a:pt x="332" y="1446"/>
                </a:lnTo>
                <a:lnTo>
                  <a:pt x="322" y="1436"/>
                </a:lnTo>
                <a:lnTo>
                  <a:pt x="313" y="1427"/>
                </a:lnTo>
                <a:lnTo>
                  <a:pt x="303" y="1415"/>
                </a:lnTo>
                <a:lnTo>
                  <a:pt x="286" y="1398"/>
                </a:lnTo>
                <a:lnTo>
                  <a:pt x="271" y="1381"/>
                </a:lnTo>
                <a:lnTo>
                  <a:pt x="253" y="1362"/>
                </a:lnTo>
                <a:lnTo>
                  <a:pt x="238" y="1344"/>
                </a:lnTo>
                <a:lnTo>
                  <a:pt x="223" y="1327"/>
                </a:lnTo>
                <a:lnTo>
                  <a:pt x="207" y="1308"/>
                </a:lnTo>
                <a:lnTo>
                  <a:pt x="194" y="1289"/>
                </a:lnTo>
                <a:lnTo>
                  <a:pt x="178" y="1268"/>
                </a:lnTo>
                <a:lnTo>
                  <a:pt x="177" y="1264"/>
                </a:lnTo>
                <a:lnTo>
                  <a:pt x="175" y="1258"/>
                </a:lnTo>
                <a:lnTo>
                  <a:pt x="173" y="1250"/>
                </a:lnTo>
                <a:lnTo>
                  <a:pt x="173" y="1245"/>
                </a:lnTo>
                <a:lnTo>
                  <a:pt x="171" y="1239"/>
                </a:lnTo>
                <a:lnTo>
                  <a:pt x="169" y="1233"/>
                </a:lnTo>
                <a:lnTo>
                  <a:pt x="167" y="1229"/>
                </a:lnTo>
                <a:lnTo>
                  <a:pt x="163" y="1225"/>
                </a:lnTo>
                <a:lnTo>
                  <a:pt x="154" y="1216"/>
                </a:lnTo>
                <a:lnTo>
                  <a:pt x="146" y="1206"/>
                </a:lnTo>
                <a:lnTo>
                  <a:pt x="138" y="1197"/>
                </a:lnTo>
                <a:lnTo>
                  <a:pt x="132" y="1187"/>
                </a:lnTo>
                <a:lnTo>
                  <a:pt x="123" y="1166"/>
                </a:lnTo>
                <a:lnTo>
                  <a:pt x="113" y="1145"/>
                </a:lnTo>
                <a:lnTo>
                  <a:pt x="106" y="1124"/>
                </a:lnTo>
                <a:lnTo>
                  <a:pt x="98" y="1101"/>
                </a:lnTo>
                <a:lnTo>
                  <a:pt x="88" y="1080"/>
                </a:lnTo>
                <a:lnTo>
                  <a:pt x="77" y="1060"/>
                </a:lnTo>
                <a:lnTo>
                  <a:pt x="44" y="8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Freeform 29"/>
          <p:cNvSpPr/>
          <p:nvPr/>
        </p:nvSpPr>
        <p:spPr>
          <a:xfrm>
            <a:off x="5477040" y="2886120"/>
            <a:ext cx="1455480" cy="1309680"/>
          </a:xfrm>
          <a:custGeom>
            <a:avLst/>
            <a:gdLst>
              <a:gd name="textAreaLeft" fmla="*/ 0 w 1455480"/>
              <a:gd name="textAreaRight" fmla="*/ 1455840 w 1455480"/>
              <a:gd name="textAreaTop" fmla="*/ 0 h 1309680"/>
              <a:gd name="textAreaBottom" fmla="*/ 1310040 h 1309680"/>
            </a:gdLst>
            <a:ahLst/>
            <a:rect l="textAreaLeft" t="textAreaTop" r="textAreaRight" b="textAreaBottom"/>
            <a:pathLst>
              <a:path w="917" h="825">
                <a:moveTo>
                  <a:pt x="456" y="691"/>
                </a:moveTo>
                <a:lnTo>
                  <a:pt x="472" y="696"/>
                </a:lnTo>
                <a:lnTo>
                  <a:pt x="487" y="702"/>
                </a:lnTo>
                <a:lnTo>
                  <a:pt x="500" y="710"/>
                </a:lnTo>
                <a:lnTo>
                  <a:pt x="514" y="717"/>
                </a:lnTo>
                <a:lnTo>
                  <a:pt x="539" y="735"/>
                </a:lnTo>
                <a:lnTo>
                  <a:pt x="566" y="754"/>
                </a:lnTo>
                <a:lnTo>
                  <a:pt x="590" y="775"/>
                </a:lnTo>
                <a:lnTo>
                  <a:pt x="615" y="794"/>
                </a:lnTo>
                <a:lnTo>
                  <a:pt x="642" y="811"/>
                </a:lnTo>
                <a:lnTo>
                  <a:pt x="671" y="825"/>
                </a:lnTo>
                <a:lnTo>
                  <a:pt x="665" y="810"/>
                </a:lnTo>
                <a:lnTo>
                  <a:pt x="660" y="796"/>
                </a:lnTo>
                <a:lnTo>
                  <a:pt x="650" y="785"/>
                </a:lnTo>
                <a:lnTo>
                  <a:pt x="642" y="773"/>
                </a:lnTo>
                <a:lnTo>
                  <a:pt x="631" y="762"/>
                </a:lnTo>
                <a:lnTo>
                  <a:pt x="619" y="752"/>
                </a:lnTo>
                <a:lnTo>
                  <a:pt x="608" y="742"/>
                </a:lnTo>
                <a:lnTo>
                  <a:pt x="596" y="735"/>
                </a:lnTo>
                <a:lnTo>
                  <a:pt x="569" y="719"/>
                </a:lnTo>
                <a:lnTo>
                  <a:pt x="544" y="704"/>
                </a:lnTo>
                <a:lnTo>
                  <a:pt x="519" y="687"/>
                </a:lnTo>
                <a:lnTo>
                  <a:pt x="498" y="668"/>
                </a:lnTo>
                <a:lnTo>
                  <a:pt x="435" y="604"/>
                </a:lnTo>
                <a:lnTo>
                  <a:pt x="372" y="541"/>
                </a:lnTo>
                <a:lnTo>
                  <a:pt x="310" y="478"/>
                </a:lnTo>
                <a:lnTo>
                  <a:pt x="249" y="412"/>
                </a:lnTo>
                <a:lnTo>
                  <a:pt x="189" y="349"/>
                </a:lnTo>
                <a:lnTo>
                  <a:pt x="130" y="284"/>
                </a:lnTo>
                <a:lnTo>
                  <a:pt x="69" y="219"/>
                </a:lnTo>
                <a:lnTo>
                  <a:pt x="9" y="155"/>
                </a:lnTo>
                <a:lnTo>
                  <a:pt x="9" y="155"/>
                </a:lnTo>
                <a:lnTo>
                  <a:pt x="9" y="155"/>
                </a:lnTo>
                <a:lnTo>
                  <a:pt x="11" y="153"/>
                </a:lnTo>
                <a:lnTo>
                  <a:pt x="9" y="153"/>
                </a:lnTo>
                <a:lnTo>
                  <a:pt x="9" y="153"/>
                </a:lnTo>
                <a:lnTo>
                  <a:pt x="7" y="153"/>
                </a:lnTo>
                <a:lnTo>
                  <a:pt x="3" y="153"/>
                </a:lnTo>
                <a:lnTo>
                  <a:pt x="0" y="155"/>
                </a:lnTo>
                <a:lnTo>
                  <a:pt x="21" y="150"/>
                </a:lnTo>
                <a:lnTo>
                  <a:pt x="42" y="144"/>
                </a:lnTo>
                <a:lnTo>
                  <a:pt x="61" y="140"/>
                </a:lnTo>
                <a:lnTo>
                  <a:pt x="82" y="134"/>
                </a:lnTo>
                <a:lnTo>
                  <a:pt x="101" y="130"/>
                </a:lnTo>
                <a:lnTo>
                  <a:pt x="122" y="125"/>
                </a:lnTo>
                <a:lnTo>
                  <a:pt x="143" y="121"/>
                </a:lnTo>
                <a:lnTo>
                  <a:pt x="165" y="113"/>
                </a:lnTo>
                <a:lnTo>
                  <a:pt x="182" y="109"/>
                </a:lnTo>
                <a:lnTo>
                  <a:pt x="199" y="106"/>
                </a:lnTo>
                <a:lnTo>
                  <a:pt x="216" y="102"/>
                </a:lnTo>
                <a:lnTo>
                  <a:pt x="234" y="100"/>
                </a:lnTo>
                <a:lnTo>
                  <a:pt x="251" y="96"/>
                </a:lnTo>
                <a:lnTo>
                  <a:pt x="268" y="94"/>
                </a:lnTo>
                <a:lnTo>
                  <a:pt x="287" y="90"/>
                </a:lnTo>
                <a:lnTo>
                  <a:pt x="305" y="86"/>
                </a:lnTo>
                <a:lnTo>
                  <a:pt x="316" y="84"/>
                </a:lnTo>
                <a:lnTo>
                  <a:pt x="328" y="83"/>
                </a:lnTo>
                <a:lnTo>
                  <a:pt x="341" y="84"/>
                </a:lnTo>
                <a:lnTo>
                  <a:pt x="353" y="84"/>
                </a:lnTo>
                <a:lnTo>
                  <a:pt x="364" y="84"/>
                </a:lnTo>
                <a:lnTo>
                  <a:pt x="376" y="84"/>
                </a:lnTo>
                <a:lnTo>
                  <a:pt x="387" y="84"/>
                </a:lnTo>
                <a:lnTo>
                  <a:pt x="399" y="81"/>
                </a:lnTo>
                <a:lnTo>
                  <a:pt x="462" y="58"/>
                </a:lnTo>
                <a:lnTo>
                  <a:pt x="525" y="36"/>
                </a:lnTo>
                <a:lnTo>
                  <a:pt x="556" y="27"/>
                </a:lnTo>
                <a:lnTo>
                  <a:pt x="589" y="19"/>
                </a:lnTo>
                <a:lnTo>
                  <a:pt x="621" y="13"/>
                </a:lnTo>
                <a:lnTo>
                  <a:pt x="654" y="8"/>
                </a:lnTo>
                <a:lnTo>
                  <a:pt x="686" y="4"/>
                </a:lnTo>
                <a:lnTo>
                  <a:pt x="719" y="0"/>
                </a:lnTo>
                <a:lnTo>
                  <a:pt x="752" y="0"/>
                </a:lnTo>
                <a:lnTo>
                  <a:pt x="784" y="0"/>
                </a:lnTo>
                <a:lnTo>
                  <a:pt x="817" y="0"/>
                </a:lnTo>
                <a:lnTo>
                  <a:pt x="850" y="4"/>
                </a:lnTo>
                <a:lnTo>
                  <a:pt x="882" y="8"/>
                </a:lnTo>
                <a:lnTo>
                  <a:pt x="915" y="15"/>
                </a:lnTo>
                <a:lnTo>
                  <a:pt x="917" y="15"/>
                </a:lnTo>
                <a:lnTo>
                  <a:pt x="917" y="17"/>
                </a:lnTo>
                <a:lnTo>
                  <a:pt x="917" y="19"/>
                </a:lnTo>
                <a:lnTo>
                  <a:pt x="917" y="23"/>
                </a:lnTo>
                <a:lnTo>
                  <a:pt x="911" y="31"/>
                </a:lnTo>
                <a:lnTo>
                  <a:pt x="903" y="40"/>
                </a:lnTo>
                <a:lnTo>
                  <a:pt x="894" y="50"/>
                </a:lnTo>
                <a:lnTo>
                  <a:pt x="882" y="58"/>
                </a:lnTo>
                <a:lnTo>
                  <a:pt x="871" y="65"/>
                </a:lnTo>
                <a:lnTo>
                  <a:pt x="859" y="67"/>
                </a:lnTo>
                <a:lnTo>
                  <a:pt x="817" y="71"/>
                </a:lnTo>
                <a:lnTo>
                  <a:pt x="773" y="73"/>
                </a:lnTo>
                <a:lnTo>
                  <a:pt x="731" y="75"/>
                </a:lnTo>
                <a:lnTo>
                  <a:pt x="688" y="73"/>
                </a:lnTo>
                <a:lnTo>
                  <a:pt x="646" y="73"/>
                </a:lnTo>
                <a:lnTo>
                  <a:pt x="604" y="73"/>
                </a:lnTo>
                <a:lnTo>
                  <a:pt x="562" y="73"/>
                </a:lnTo>
                <a:lnTo>
                  <a:pt x="518" y="73"/>
                </a:lnTo>
                <a:lnTo>
                  <a:pt x="512" y="75"/>
                </a:lnTo>
                <a:lnTo>
                  <a:pt x="506" y="77"/>
                </a:lnTo>
                <a:lnTo>
                  <a:pt x="498" y="81"/>
                </a:lnTo>
                <a:lnTo>
                  <a:pt x="493" y="84"/>
                </a:lnTo>
                <a:lnTo>
                  <a:pt x="487" y="88"/>
                </a:lnTo>
                <a:lnTo>
                  <a:pt x="481" y="90"/>
                </a:lnTo>
                <a:lnTo>
                  <a:pt x="475" y="92"/>
                </a:lnTo>
                <a:lnTo>
                  <a:pt x="470" y="94"/>
                </a:lnTo>
                <a:lnTo>
                  <a:pt x="431" y="94"/>
                </a:lnTo>
                <a:lnTo>
                  <a:pt x="395" y="96"/>
                </a:lnTo>
                <a:lnTo>
                  <a:pt x="356" y="102"/>
                </a:lnTo>
                <a:lnTo>
                  <a:pt x="320" y="109"/>
                </a:lnTo>
                <a:lnTo>
                  <a:pt x="284" y="117"/>
                </a:lnTo>
                <a:lnTo>
                  <a:pt x="247" y="129"/>
                </a:lnTo>
                <a:lnTo>
                  <a:pt x="211" y="140"/>
                </a:lnTo>
                <a:lnTo>
                  <a:pt x="174" y="155"/>
                </a:lnTo>
                <a:lnTo>
                  <a:pt x="456" y="691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Freeform 30"/>
          <p:cNvSpPr/>
          <p:nvPr/>
        </p:nvSpPr>
        <p:spPr>
          <a:xfrm>
            <a:off x="5305320" y="2514600"/>
            <a:ext cx="1557360" cy="487440"/>
          </a:xfrm>
          <a:custGeom>
            <a:avLst/>
            <a:gdLst>
              <a:gd name="textAreaLeft" fmla="*/ 0 w 1557360"/>
              <a:gd name="textAreaRight" fmla="*/ 1557720 w 1557360"/>
              <a:gd name="textAreaTop" fmla="*/ 0 h 487440"/>
              <a:gd name="textAreaBottom" fmla="*/ 487800 h 487440"/>
            </a:gdLst>
            <a:ahLst/>
            <a:rect l="textAreaLeft" t="textAreaTop" r="textAreaRight" b="textAreaBottom"/>
            <a:pathLst>
              <a:path w="981" h="307">
                <a:moveTo>
                  <a:pt x="23" y="305"/>
                </a:moveTo>
                <a:lnTo>
                  <a:pt x="71" y="286"/>
                </a:lnTo>
                <a:lnTo>
                  <a:pt x="119" y="270"/>
                </a:lnTo>
                <a:lnTo>
                  <a:pt x="169" y="257"/>
                </a:lnTo>
                <a:lnTo>
                  <a:pt x="219" y="246"/>
                </a:lnTo>
                <a:lnTo>
                  <a:pt x="269" y="232"/>
                </a:lnTo>
                <a:lnTo>
                  <a:pt x="319" y="219"/>
                </a:lnTo>
                <a:lnTo>
                  <a:pt x="344" y="211"/>
                </a:lnTo>
                <a:lnTo>
                  <a:pt x="370" y="201"/>
                </a:lnTo>
                <a:lnTo>
                  <a:pt x="395" y="192"/>
                </a:lnTo>
                <a:lnTo>
                  <a:pt x="420" y="180"/>
                </a:lnTo>
                <a:lnTo>
                  <a:pt x="487" y="150"/>
                </a:lnTo>
                <a:lnTo>
                  <a:pt x="555" y="123"/>
                </a:lnTo>
                <a:lnTo>
                  <a:pt x="624" y="98"/>
                </a:lnTo>
                <a:lnTo>
                  <a:pt x="693" y="75"/>
                </a:lnTo>
                <a:lnTo>
                  <a:pt x="764" y="54"/>
                </a:lnTo>
                <a:lnTo>
                  <a:pt x="835" y="33"/>
                </a:lnTo>
                <a:lnTo>
                  <a:pt x="908" y="15"/>
                </a:lnTo>
                <a:lnTo>
                  <a:pt x="981" y="0"/>
                </a:lnTo>
                <a:lnTo>
                  <a:pt x="946" y="21"/>
                </a:lnTo>
                <a:lnTo>
                  <a:pt x="910" y="40"/>
                </a:lnTo>
                <a:lnTo>
                  <a:pt x="875" y="59"/>
                </a:lnTo>
                <a:lnTo>
                  <a:pt x="839" y="77"/>
                </a:lnTo>
                <a:lnTo>
                  <a:pt x="766" y="109"/>
                </a:lnTo>
                <a:lnTo>
                  <a:pt x="691" y="140"/>
                </a:lnTo>
                <a:lnTo>
                  <a:pt x="616" y="169"/>
                </a:lnTo>
                <a:lnTo>
                  <a:pt x="539" y="198"/>
                </a:lnTo>
                <a:lnTo>
                  <a:pt x="462" y="224"/>
                </a:lnTo>
                <a:lnTo>
                  <a:pt x="388" y="251"/>
                </a:lnTo>
                <a:lnTo>
                  <a:pt x="342" y="267"/>
                </a:lnTo>
                <a:lnTo>
                  <a:pt x="294" y="278"/>
                </a:lnTo>
                <a:lnTo>
                  <a:pt x="246" y="290"/>
                </a:lnTo>
                <a:lnTo>
                  <a:pt x="198" y="297"/>
                </a:lnTo>
                <a:lnTo>
                  <a:pt x="148" y="303"/>
                </a:lnTo>
                <a:lnTo>
                  <a:pt x="100" y="305"/>
                </a:lnTo>
                <a:lnTo>
                  <a:pt x="50" y="307"/>
                </a:lnTo>
                <a:lnTo>
                  <a:pt x="0" y="305"/>
                </a:lnTo>
                <a:lnTo>
                  <a:pt x="4" y="305"/>
                </a:lnTo>
                <a:lnTo>
                  <a:pt x="6" y="305"/>
                </a:lnTo>
                <a:lnTo>
                  <a:pt x="10" y="305"/>
                </a:lnTo>
                <a:lnTo>
                  <a:pt x="12" y="305"/>
                </a:lnTo>
                <a:lnTo>
                  <a:pt x="15" y="305"/>
                </a:lnTo>
                <a:lnTo>
                  <a:pt x="17" y="305"/>
                </a:lnTo>
                <a:lnTo>
                  <a:pt x="21" y="305"/>
                </a:lnTo>
                <a:lnTo>
                  <a:pt x="23" y="305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Freeform 31"/>
          <p:cNvSpPr/>
          <p:nvPr/>
        </p:nvSpPr>
        <p:spPr>
          <a:xfrm>
            <a:off x="5342040" y="2158920"/>
            <a:ext cx="1444680" cy="746280"/>
          </a:xfrm>
          <a:custGeom>
            <a:avLst/>
            <a:gdLst>
              <a:gd name="textAreaLeft" fmla="*/ 0 w 1444680"/>
              <a:gd name="textAreaRight" fmla="*/ 1445040 w 1444680"/>
              <a:gd name="textAreaTop" fmla="*/ 0 h 746280"/>
              <a:gd name="textAreaBottom" fmla="*/ 746640 h 746280"/>
            </a:gdLst>
            <a:ahLst/>
            <a:rect l="textAreaLeft" t="textAreaTop" r="textAreaRight" b="textAreaBottom"/>
            <a:pathLst>
              <a:path w="910" h="470">
                <a:moveTo>
                  <a:pt x="225" y="341"/>
                </a:moveTo>
                <a:lnTo>
                  <a:pt x="236" y="339"/>
                </a:lnTo>
                <a:lnTo>
                  <a:pt x="250" y="335"/>
                </a:lnTo>
                <a:lnTo>
                  <a:pt x="261" y="331"/>
                </a:lnTo>
                <a:lnTo>
                  <a:pt x="273" y="328"/>
                </a:lnTo>
                <a:lnTo>
                  <a:pt x="284" y="324"/>
                </a:lnTo>
                <a:lnTo>
                  <a:pt x="296" y="318"/>
                </a:lnTo>
                <a:lnTo>
                  <a:pt x="307" y="312"/>
                </a:lnTo>
                <a:lnTo>
                  <a:pt x="319" y="305"/>
                </a:lnTo>
                <a:lnTo>
                  <a:pt x="347" y="282"/>
                </a:lnTo>
                <a:lnTo>
                  <a:pt x="380" y="260"/>
                </a:lnTo>
                <a:lnTo>
                  <a:pt x="411" y="241"/>
                </a:lnTo>
                <a:lnTo>
                  <a:pt x="443" y="224"/>
                </a:lnTo>
                <a:lnTo>
                  <a:pt x="476" y="209"/>
                </a:lnTo>
                <a:lnTo>
                  <a:pt x="509" y="193"/>
                </a:lnTo>
                <a:lnTo>
                  <a:pt x="543" y="180"/>
                </a:lnTo>
                <a:lnTo>
                  <a:pt x="578" y="168"/>
                </a:lnTo>
                <a:lnTo>
                  <a:pt x="645" y="143"/>
                </a:lnTo>
                <a:lnTo>
                  <a:pt x="712" y="118"/>
                </a:lnTo>
                <a:lnTo>
                  <a:pt x="746" y="105"/>
                </a:lnTo>
                <a:lnTo>
                  <a:pt x="779" y="92"/>
                </a:lnTo>
                <a:lnTo>
                  <a:pt x="812" y="76"/>
                </a:lnTo>
                <a:lnTo>
                  <a:pt x="844" y="59"/>
                </a:lnTo>
                <a:lnTo>
                  <a:pt x="852" y="55"/>
                </a:lnTo>
                <a:lnTo>
                  <a:pt x="862" y="53"/>
                </a:lnTo>
                <a:lnTo>
                  <a:pt x="875" y="49"/>
                </a:lnTo>
                <a:lnTo>
                  <a:pt x="887" y="44"/>
                </a:lnTo>
                <a:lnTo>
                  <a:pt x="896" y="38"/>
                </a:lnTo>
                <a:lnTo>
                  <a:pt x="906" y="28"/>
                </a:lnTo>
                <a:lnTo>
                  <a:pt x="908" y="23"/>
                </a:lnTo>
                <a:lnTo>
                  <a:pt x="910" y="15"/>
                </a:lnTo>
                <a:lnTo>
                  <a:pt x="910" y="9"/>
                </a:lnTo>
                <a:lnTo>
                  <a:pt x="908" y="0"/>
                </a:lnTo>
                <a:lnTo>
                  <a:pt x="794" y="59"/>
                </a:lnTo>
                <a:lnTo>
                  <a:pt x="681" y="117"/>
                </a:lnTo>
                <a:lnTo>
                  <a:pt x="566" y="172"/>
                </a:lnTo>
                <a:lnTo>
                  <a:pt x="453" y="230"/>
                </a:lnTo>
                <a:lnTo>
                  <a:pt x="338" y="287"/>
                </a:lnTo>
                <a:lnTo>
                  <a:pt x="225" y="347"/>
                </a:lnTo>
                <a:lnTo>
                  <a:pt x="111" y="408"/>
                </a:lnTo>
                <a:lnTo>
                  <a:pt x="0" y="470"/>
                </a:lnTo>
                <a:lnTo>
                  <a:pt x="60" y="435"/>
                </a:lnTo>
                <a:lnTo>
                  <a:pt x="121" y="402"/>
                </a:lnTo>
                <a:lnTo>
                  <a:pt x="180" y="368"/>
                </a:lnTo>
                <a:lnTo>
                  <a:pt x="242" y="335"/>
                </a:lnTo>
                <a:lnTo>
                  <a:pt x="301" y="303"/>
                </a:lnTo>
                <a:lnTo>
                  <a:pt x="363" y="272"/>
                </a:lnTo>
                <a:lnTo>
                  <a:pt x="422" y="241"/>
                </a:lnTo>
                <a:lnTo>
                  <a:pt x="484" y="211"/>
                </a:lnTo>
                <a:lnTo>
                  <a:pt x="491" y="189"/>
                </a:lnTo>
                <a:lnTo>
                  <a:pt x="503" y="170"/>
                </a:lnTo>
                <a:lnTo>
                  <a:pt x="514" y="151"/>
                </a:lnTo>
                <a:lnTo>
                  <a:pt x="528" y="134"/>
                </a:lnTo>
                <a:lnTo>
                  <a:pt x="543" y="118"/>
                </a:lnTo>
                <a:lnTo>
                  <a:pt x="560" y="103"/>
                </a:lnTo>
                <a:lnTo>
                  <a:pt x="580" y="90"/>
                </a:lnTo>
                <a:lnTo>
                  <a:pt x="599" y="78"/>
                </a:lnTo>
                <a:lnTo>
                  <a:pt x="618" y="69"/>
                </a:lnTo>
                <a:lnTo>
                  <a:pt x="639" y="57"/>
                </a:lnTo>
                <a:lnTo>
                  <a:pt x="660" y="49"/>
                </a:lnTo>
                <a:lnTo>
                  <a:pt x="681" y="42"/>
                </a:lnTo>
                <a:lnTo>
                  <a:pt x="725" y="30"/>
                </a:lnTo>
                <a:lnTo>
                  <a:pt x="768" y="23"/>
                </a:lnTo>
                <a:lnTo>
                  <a:pt x="756" y="38"/>
                </a:lnTo>
                <a:lnTo>
                  <a:pt x="743" y="53"/>
                </a:lnTo>
                <a:lnTo>
                  <a:pt x="729" y="65"/>
                </a:lnTo>
                <a:lnTo>
                  <a:pt x="714" y="78"/>
                </a:lnTo>
                <a:lnTo>
                  <a:pt x="681" y="97"/>
                </a:lnTo>
                <a:lnTo>
                  <a:pt x="649" y="117"/>
                </a:lnTo>
                <a:lnTo>
                  <a:pt x="614" y="134"/>
                </a:lnTo>
                <a:lnTo>
                  <a:pt x="580" y="151"/>
                </a:lnTo>
                <a:lnTo>
                  <a:pt x="564" y="163"/>
                </a:lnTo>
                <a:lnTo>
                  <a:pt x="547" y="172"/>
                </a:lnTo>
                <a:lnTo>
                  <a:pt x="532" y="184"/>
                </a:lnTo>
                <a:lnTo>
                  <a:pt x="516" y="195"/>
                </a:lnTo>
                <a:lnTo>
                  <a:pt x="507" y="201"/>
                </a:lnTo>
                <a:lnTo>
                  <a:pt x="497" y="207"/>
                </a:lnTo>
                <a:lnTo>
                  <a:pt x="484" y="209"/>
                </a:lnTo>
                <a:lnTo>
                  <a:pt x="472" y="212"/>
                </a:lnTo>
                <a:lnTo>
                  <a:pt x="461" y="214"/>
                </a:lnTo>
                <a:lnTo>
                  <a:pt x="447" y="216"/>
                </a:lnTo>
                <a:lnTo>
                  <a:pt x="438" y="220"/>
                </a:lnTo>
                <a:lnTo>
                  <a:pt x="428" y="226"/>
                </a:lnTo>
                <a:lnTo>
                  <a:pt x="415" y="237"/>
                </a:lnTo>
                <a:lnTo>
                  <a:pt x="399" y="249"/>
                </a:lnTo>
                <a:lnTo>
                  <a:pt x="386" y="259"/>
                </a:lnTo>
                <a:lnTo>
                  <a:pt x="370" y="268"/>
                </a:lnTo>
                <a:lnTo>
                  <a:pt x="340" y="283"/>
                </a:lnTo>
                <a:lnTo>
                  <a:pt x="307" y="297"/>
                </a:lnTo>
                <a:lnTo>
                  <a:pt x="276" y="312"/>
                </a:lnTo>
                <a:lnTo>
                  <a:pt x="246" y="328"/>
                </a:lnTo>
                <a:lnTo>
                  <a:pt x="217" y="345"/>
                </a:lnTo>
                <a:lnTo>
                  <a:pt x="188" y="366"/>
                </a:lnTo>
                <a:lnTo>
                  <a:pt x="225" y="341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Freeform 32"/>
          <p:cNvSpPr/>
          <p:nvPr/>
        </p:nvSpPr>
        <p:spPr>
          <a:xfrm>
            <a:off x="4815000" y="1241280"/>
            <a:ext cx="228600" cy="1087560"/>
          </a:xfrm>
          <a:custGeom>
            <a:avLst/>
            <a:gdLst>
              <a:gd name="textAreaLeft" fmla="*/ 0 w 228600"/>
              <a:gd name="textAreaRight" fmla="*/ 228960 w 228600"/>
              <a:gd name="textAreaTop" fmla="*/ 0 h 1087560"/>
              <a:gd name="textAreaBottom" fmla="*/ 1087920 h 1087560"/>
            </a:gdLst>
            <a:ahLst/>
            <a:rect l="textAreaLeft" t="textAreaTop" r="textAreaRight" b="textAreaBottom"/>
            <a:pathLst>
              <a:path w="144" h="685">
                <a:moveTo>
                  <a:pt x="2" y="0"/>
                </a:moveTo>
                <a:lnTo>
                  <a:pt x="17" y="86"/>
                </a:lnTo>
                <a:lnTo>
                  <a:pt x="37" y="171"/>
                </a:lnTo>
                <a:lnTo>
                  <a:pt x="56" y="257"/>
                </a:lnTo>
                <a:lnTo>
                  <a:pt x="75" y="342"/>
                </a:lnTo>
                <a:lnTo>
                  <a:pt x="96" y="426"/>
                </a:lnTo>
                <a:lnTo>
                  <a:pt x="113" y="512"/>
                </a:lnTo>
                <a:lnTo>
                  <a:pt x="131" y="599"/>
                </a:lnTo>
                <a:lnTo>
                  <a:pt x="144" y="685"/>
                </a:lnTo>
                <a:lnTo>
                  <a:pt x="131" y="683"/>
                </a:lnTo>
                <a:lnTo>
                  <a:pt x="119" y="679"/>
                </a:lnTo>
                <a:lnTo>
                  <a:pt x="110" y="673"/>
                </a:lnTo>
                <a:lnTo>
                  <a:pt x="102" y="668"/>
                </a:lnTo>
                <a:lnTo>
                  <a:pt x="96" y="660"/>
                </a:lnTo>
                <a:lnTo>
                  <a:pt x="92" y="652"/>
                </a:lnTo>
                <a:lnTo>
                  <a:pt x="88" y="645"/>
                </a:lnTo>
                <a:lnTo>
                  <a:pt x="87" y="635"/>
                </a:lnTo>
                <a:lnTo>
                  <a:pt x="85" y="616"/>
                </a:lnTo>
                <a:lnTo>
                  <a:pt x="83" y="597"/>
                </a:lnTo>
                <a:lnTo>
                  <a:pt x="85" y="579"/>
                </a:lnTo>
                <a:lnTo>
                  <a:pt x="83" y="564"/>
                </a:lnTo>
                <a:lnTo>
                  <a:pt x="71" y="493"/>
                </a:lnTo>
                <a:lnTo>
                  <a:pt x="58" y="422"/>
                </a:lnTo>
                <a:lnTo>
                  <a:pt x="42" y="353"/>
                </a:lnTo>
                <a:lnTo>
                  <a:pt x="27" y="282"/>
                </a:lnTo>
                <a:lnTo>
                  <a:pt x="14" y="213"/>
                </a:lnTo>
                <a:lnTo>
                  <a:pt x="4" y="142"/>
                </a:lnTo>
                <a:lnTo>
                  <a:pt x="2" y="108"/>
                </a:lnTo>
                <a:lnTo>
                  <a:pt x="0" y="73"/>
                </a:lnTo>
                <a:lnTo>
                  <a:pt x="0" y="37"/>
                </a:lnTo>
                <a:lnTo>
                  <a:pt x="2" y="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Freeform 33"/>
          <p:cNvSpPr/>
          <p:nvPr/>
        </p:nvSpPr>
        <p:spPr>
          <a:xfrm>
            <a:off x="3468600" y="2432160"/>
            <a:ext cx="1292400" cy="473040"/>
          </a:xfrm>
          <a:custGeom>
            <a:avLst/>
            <a:gdLst>
              <a:gd name="textAreaLeft" fmla="*/ 0 w 1292400"/>
              <a:gd name="textAreaRight" fmla="*/ 1292760 w 1292400"/>
              <a:gd name="textAreaTop" fmla="*/ 0 h 473040"/>
              <a:gd name="textAreaBottom" fmla="*/ 473040 h 473040"/>
            </a:gdLst>
            <a:ahLst/>
            <a:rect l="textAreaLeft" t="textAreaTop" r="textAreaRight" b="textAreaBottom"/>
            <a:pathLst>
              <a:path w="814" h="298">
                <a:moveTo>
                  <a:pt x="756" y="298"/>
                </a:moveTo>
                <a:lnTo>
                  <a:pt x="722" y="269"/>
                </a:lnTo>
                <a:lnTo>
                  <a:pt x="687" y="244"/>
                </a:lnTo>
                <a:lnTo>
                  <a:pt x="649" y="221"/>
                </a:lnTo>
                <a:lnTo>
                  <a:pt x="612" y="202"/>
                </a:lnTo>
                <a:lnTo>
                  <a:pt x="574" y="182"/>
                </a:lnTo>
                <a:lnTo>
                  <a:pt x="534" y="165"/>
                </a:lnTo>
                <a:lnTo>
                  <a:pt x="495" y="150"/>
                </a:lnTo>
                <a:lnTo>
                  <a:pt x="453" y="136"/>
                </a:lnTo>
                <a:lnTo>
                  <a:pt x="372" y="110"/>
                </a:lnTo>
                <a:lnTo>
                  <a:pt x="290" y="83"/>
                </a:lnTo>
                <a:lnTo>
                  <a:pt x="248" y="69"/>
                </a:lnTo>
                <a:lnTo>
                  <a:pt x="207" y="54"/>
                </a:lnTo>
                <a:lnTo>
                  <a:pt x="167" y="39"/>
                </a:lnTo>
                <a:lnTo>
                  <a:pt x="127" y="21"/>
                </a:lnTo>
                <a:lnTo>
                  <a:pt x="113" y="16"/>
                </a:lnTo>
                <a:lnTo>
                  <a:pt x="98" y="10"/>
                </a:lnTo>
                <a:lnTo>
                  <a:pt x="83" y="6"/>
                </a:lnTo>
                <a:lnTo>
                  <a:pt x="67" y="4"/>
                </a:lnTo>
                <a:lnTo>
                  <a:pt x="50" y="2"/>
                </a:lnTo>
                <a:lnTo>
                  <a:pt x="33" y="0"/>
                </a:lnTo>
                <a:lnTo>
                  <a:pt x="17" y="0"/>
                </a:lnTo>
                <a:lnTo>
                  <a:pt x="0" y="4"/>
                </a:lnTo>
                <a:lnTo>
                  <a:pt x="35" y="17"/>
                </a:lnTo>
                <a:lnTo>
                  <a:pt x="69" y="31"/>
                </a:lnTo>
                <a:lnTo>
                  <a:pt x="102" y="46"/>
                </a:lnTo>
                <a:lnTo>
                  <a:pt x="136" y="60"/>
                </a:lnTo>
                <a:lnTo>
                  <a:pt x="171" y="73"/>
                </a:lnTo>
                <a:lnTo>
                  <a:pt x="205" y="88"/>
                </a:lnTo>
                <a:lnTo>
                  <a:pt x="240" y="102"/>
                </a:lnTo>
                <a:lnTo>
                  <a:pt x="275" y="115"/>
                </a:lnTo>
                <a:lnTo>
                  <a:pt x="292" y="121"/>
                </a:lnTo>
                <a:lnTo>
                  <a:pt x="309" y="125"/>
                </a:lnTo>
                <a:lnTo>
                  <a:pt x="326" y="129"/>
                </a:lnTo>
                <a:lnTo>
                  <a:pt x="344" y="133"/>
                </a:lnTo>
                <a:lnTo>
                  <a:pt x="380" y="136"/>
                </a:lnTo>
                <a:lnTo>
                  <a:pt x="416" y="138"/>
                </a:lnTo>
                <a:lnTo>
                  <a:pt x="455" y="140"/>
                </a:lnTo>
                <a:lnTo>
                  <a:pt x="491" y="142"/>
                </a:lnTo>
                <a:lnTo>
                  <a:pt x="528" y="146"/>
                </a:lnTo>
                <a:lnTo>
                  <a:pt x="564" y="154"/>
                </a:lnTo>
                <a:lnTo>
                  <a:pt x="597" y="161"/>
                </a:lnTo>
                <a:lnTo>
                  <a:pt x="629" y="169"/>
                </a:lnTo>
                <a:lnTo>
                  <a:pt x="662" y="181"/>
                </a:lnTo>
                <a:lnTo>
                  <a:pt x="693" y="192"/>
                </a:lnTo>
                <a:lnTo>
                  <a:pt x="723" y="205"/>
                </a:lnTo>
                <a:lnTo>
                  <a:pt x="754" y="221"/>
                </a:lnTo>
                <a:lnTo>
                  <a:pt x="785" y="236"/>
                </a:lnTo>
                <a:lnTo>
                  <a:pt x="814" y="251"/>
                </a:lnTo>
                <a:lnTo>
                  <a:pt x="756" y="298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Freeform 34"/>
          <p:cNvSpPr/>
          <p:nvPr/>
        </p:nvSpPr>
        <p:spPr>
          <a:xfrm>
            <a:off x="3975120" y="3357720"/>
            <a:ext cx="1047600" cy="1401480"/>
          </a:xfrm>
          <a:custGeom>
            <a:avLst/>
            <a:gdLst/>
            <a:ahLst/>
            <a:rect l="l" t="t" r="r" b="b"/>
            <a:pathLst>
              <a:path w="660" h="883">
                <a:moveTo>
                  <a:pt x="543" y="117"/>
                </a:moveTo>
                <a:lnTo>
                  <a:pt x="518" y="150"/>
                </a:lnTo>
                <a:lnTo>
                  <a:pt x="489" y="181"/>
                </a:lnTo>
                <a:lnTo>
                  <a:pt x="460" y="211"/>
                </a:lnTo>
                <a:lnTo>
                  <a:pt x="429" y="238"/>
                </a:lnTo>
                <a:lnTo>
                  <a:pt x="399" y="267"/>
                </a:lnTo>
                <a:lnTo>
                  <a:pt x="368" y="296"/>
                </a:lnTo>
                <a:lnTo>
                  <a:pt x="337" y="326"/>
                </a:lnTo>
                <a:lnTo>
                  <a:pt x="309" y="359"/>
                </a:lnTo>
                <a:lnTo>
                  <a:pt x="276" y="397"/>
                </a:lnTo>
                <a:lnTo>
                  <a:pt x="239" y="432"/>
                </a:lnTo>
                <a:lnTo>
                  <a:pt x="201" y="467"/>
                </a:lnTo>
                <a:lnTo>
                  <a:pt x="163" y="499"/>
                </a:lnTo>
                <a:lnTo>
                  <a:pt x="124" y="532"/>
                </a:lnTo>
                <a:lnTo>
                  <a:pt x="86" y="566"/>
                </a:lnTo>
                <a:lnTo>
                  <a:pt x="48" y="599"/>
                </a:lnTo>
                <a:lnTo>
                  <a:pt x="11" y="635"/>
                </a:lnTo>
                <a:lnTo>
                  <a:pt x="9" y="630"/>
                </a:lnTo>
                <a:lnTo>
                  <a:pt x="11" y="624"/>
                </a:lnTo>
                <a:lnTo>
                  <a:pt x="13" y="618"/>
                </a:lnTo>
                <a:lnTo>
                  <a:pt x="15" y="612"/>
                </a:lnTo>
                <a:lnTo>
                  <a:pt x="17" y="607"/>
                </a:lnTo>
                <a:lnTo>
                  <a:pt x="21" y="601"/>
                </a:lnTo>
                <a:lnTo>
                  <a:pt x="23" y="593"/>
                </a:lnTo>
                <a:lnTo>
                  <a:pt x="23" y="587"/>
                </a:lnTo>
                <a:lnTo>
                  <a:pt x="23" y="595"/>
                </a:lnTo>
                <a:lnTo>
                  <a:pt x="21" y="601"/>
                </a:lnTo>
                <a:lnTo>
                  <a:pt x="19" y="603"/>
                </a:lnTo>
                <a:lnTo>
                  <a:pt x="15" y="603"/>
                </a:lnTo>
                <a:lnTo>
                  <a:pt x="11" y="603"/>
                </a:lnTo>
                <a:lnTo>
                  <a:pt x="7" y="601"/>
                </a:lnTo>
                <a:lnTo>
                  <a:pt x="3" y="601"/>
                </a:lnTo>
                <a:lnTo>
                  <a:pt x="0" y="601"/>
                </a:lnTo>
                <a:lnTo>
                  <a:pt x="7" y="591"/>
                </a:lnTo>
                <a:lnTo>
                  <a:pt x="17" y="584"/>
                </a:lnTo>
                <a:lnTo>
                  <a:pt x="28" y="580"/>
                </a:lnTo>
                <a:lnTo>
                  <a:pt x="40" y="574"/>
                </a:lnTo>
                <a:lnTo>
                  <a:pt x="50" y="572"/>
                </a:lnTo>
                <a:lnTo>
                  <a:pt x="59" y="568"/>
                </a:lnTo>
                <a:lnTo>
                  <a:pt x="69" y="564"/>
                </a:lnTo>
                <a:lnTo>
                  <a:pt x="74" y="559"/>
                </a:lnTo>
                <a:lnTo>
                  <a:pt x="90" y="545"/>
                </a:lnTo>
                <a:lnTo>
                  <a:pt x="103" y="532"/>
                </a:lnTo>
                <a:lnTo>
                  <a:pt x="117" y="520"/>
                </a:lnTo>
                <a:lnTo>
                  <a:pt x="128" y="511"/>
                </a:lnTo>
                <a:lnTo>
                  <a:pt x="142" y="501"/>
                </a:lnTo>
                <a:lnTo>
                  <a:pt x="151" y="493"/>
                </a:lnTo>
                <a:lnTo>
                  <a:pt x="161" y="484"/>
                </a:lnTo>
                <a:lnTo>
                  <a:pt x="170" y="476"/>
                </a:lnTo>
                <a:lnTo>
                  <a:pt x="224" y="409"/>
                </a:lnTo>
                <a:lnTo>
                  <a:pt x="282" y="344"/>
                </a:lnTo>
                <a:lnTo>
                  <a:pt x="339" y="282"/>
                </a:lnTo>
                <a:lnTo>
                  <a:pt x="399" y="223"/>
                </a:lnTo>
                <a:lnTo>
                  <a:pt x="460" y="165"/>
                </a:lnTo>
                <a:lnTo>
                  <a:pt x="522" y="110"/>
                </a:lnTo>
                <a:lnTo>
                  <a:pt x="585" y="54"/>
                </a:lnTo>
                <a:lnTo>
                  <a:pt x="648" y="0"/>
                </a:lnTo>
                <a:lnTo>
                  <a:pt x="633" y="16"/>
                </a:lnTo>
                <a:lnTo>
                  <a:pt x="619" y="33"/>
                </a:lnTo>
                <a:lnTo>
                  <a:pt x="606" y="52"/>
                </a:lnTo>
                <a:lnTo>
                  <a:pt x="594" y="71"/>
                </a:lnTo>
                <a:lnTo>
                  <a:pt x="585" y="94"/>
                </a:lnTo>
                <a:lnTo>
                  <a:pt x="575" y="119"/>
                </a:lnTo>
                <a:lnTo>
                  <a:pt x="568" y="142"/>
                </a:lnTo>
                <a:lnTo>
                  <a:pt x="558" y="169"/>
                </a:lnTo>
                <a:lnTo>
                  <a:pt x="543" y="221"/>
                </a:lnTo>
                <a:lnTo>
                  <a:pt x="527" y="275"/>
                </a:lnTo>
                <a:lnTo>
                  <a:pt x="512" y="326"/>
                </a:lnTo>
                <a:lnTo>
                  <a:pt x="493" y="374"/>
                </a:lnTo>
                <a:lnTo>
                  <a:pt x="487" y="384"/>
                </a:lnTo>
                <a:lnTo>
                  <a:pt x="479" y="396"/>
                </a:lnTo>
                <a:lnTo>
                  <a:pt x="472" y="405"/>
                </a:lnTo>
                <a:lnTo>
                  <a:pt x="464" y="417"/>
                </a:lnTo>
                <a:lnTo>
                  <a:pt x="456" y="426"/>
                </a:lnTo>
                <a:lnTo>
                  <a:pt x="449" y="434"/>
                </a:lnTo>
                <a:lnTo>
                  <a:pt x="443" y="443"/>
                </a:lnTo>
                <a:lnTo>
                  <a:pt x="437" y="453"/>
                </a:lnTo>
                <a:lnTo>
                  <a:pt x="406" y="503"/>
                </a:lnTo>
                <a:lnTo>
                  <a:pt x="378" y="555"/>
                </a:lnTo>
                <a:lnTo>
                  <a:pt x="353" y="607"/>
                </a:lnTo>
                <a:lnTo>
                  <a:pt x="332" y="660"/>
                </a:lnTo>
                <a:lnTo>
                  <a:pt x="312" y="714"/>
                </a:lnTo>
                <a:lnTo>
                  <a:pt x="295" y="770"/>
                </a:lnTo>
                <a:lnTo>
                  <a:pt x="282" y="825"/>
                </a:lnTo>
                <a:lnTo>
                  <a:pt x="272" y="883"/>
                </a:lnTo>
                <a:lnTo>
                  <a:pt x="291" y="848"/>
                </a:lnTo>
                <a:lnTo>
                  <a:pt x="312" y="814"/>
                </a:lnTo>
                <a:lnTo>
                  <a:pt x="332" y="779"/>
                </a:lnTo>
                <a:lnTo>
                  <a:pt x="353" y="745"/>
                </a:lnTo>
                <a:lnTo>
                  <a:pt x="374" y="710"/>
                </a:lnTo>
                <a:lnTo>
                  <a:pt x="393" y="676"/>
                </a:lnTo>
                <a:lnTo>
                  <a:pt x="410" y="639"/>
                </a:lnTo>
                <a:lnTo>
                  <a:pt x="429" y="603"/>
                </a:lnTo>
                <a:lnTo>
                  <a:pt x="431" y="599"/>
                </a:lnTo>
                <a:lnTo>
                  <a:pt x="437" y="595"/>
                </a:lnTo>
                <a:lnTo>
                  <a:pt x="443" y="591"/>
                </a:lnTo>
                <a:lnTo>
                  <a:pt x="449" y="589"/>
                </a:lnTo>
                <a:lnTo>
                  <a:pt x="454" y="585"/>
                </a:lnTo>
                <a:lnTo>
                  <a:pt x="460" y="582"/>
                </a:lnTo>
                <a:lnTo>
                  <a:pt x="466" y="580"/>
                </a:lnTo>
                <a:lnTo>
                  <a:pt x="470" y="574"/>
                </a:lnTo>
                <a:lnTo>
                  <a:pt x="502" y="509"/>
                </a:lnTo>
                <a:lnTo>
                  <a:pt x="533" y="443"/>
                </a:lnTo>
                <a:lnTo>
                  <a:pt x="560" y="376"/>
                </a:lnTo>
                <a:lnTo>
                  <a:pt x="585" y="309"/>
                </a:lnTo>
                <a:lnTo>
                  <a:pt x="606" y="242"/>
                </a:lnTo>
                <a:lnTo>
                  <a:pt x="625" y="173"/>
                </a:lnTo>
                <a:lnTo>
                  <a:pt x="644" y="104"/>
                </a:lnTo>
                <a:lnTo>
                  <a:pt x="660" y="33"/>
                </a:lnTo>
                <a:lnTo>
                  <a:pt x="543" y="117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Freeform 35"/>
          <p:cNvSpPr/>
          <p:nvPr/>
        </p:nvSpPr>
        <p:spPr>
          <a:xfrm>
            <a:off x="4273560" y="1390680"/>
            <a:ext cx="1031760" cy="1760400"/>
          </a:xfrm>
          <a:custGeom>
            <a:avLst/>
            <a:gdLst>
              <a:gd name="textAreaLeft" fmla="*/ 0 w 1031760"/>
              <a:gd name="textAreaRight" fmla="*/ 1032120 w 1031760"/>
              <a:gd name="textAreaTop" fmla="*/ 0 h 1760400"/>
              <a:gd name="textAreaBottom" fmla="*/ 1760760 h 1760400"/>
            </a:gdLst>
            <a:ahLst/>
            <a:rect l="textAreaLeft" t="textAreaTop" r="textAreaRight" b="textAreaBottom"/>
            <a:pathLst>
              <a:path w="650" h="1109">
                <a:moveTo>
                  <a:pt x="0" y="0"/>
                </a:moveTo>
                <a:lnTo>
                  <a:pt x="21" y="37"/>
                </a:lnTo>
                <a:lnTo>
                  <a:pt x="40" y="75"/>
                </a:lnTo>
                <a:lnTo>
                  <a:pt x="57" y="113"/>
                </a:lnTo>
                <a:lnTo>
                  <a:pt x="75" y="152"/>
                </a:lnTo>
                <a:lnTo>
                  <a:pt x="92" y="190"/>
                </a:lnTo>
                <a:lnTo>
                  <a:pt x="111" y="228"/>
                </a:lnTo>
                <a:lnTo>
                  <a:pt x="132" y="263"/>
                </a:lnTo>
                <a:lnTo>
                  <a:pt x="155" y="297"/>
                </a:lnTo>
                <a:lnTo>
                  <a:pt x="169" y="315"/>
                </a:lnTo>
                <a:lnTo>
                  <a:pt x="182" y="332"/>
                </a:lnTo>
                <a:lnTo>
                  <a:pt x="197" y="349"/>
                </a:lnTo>
                <a:lnTo>
                  <a:pt x="213" y="367"/>
                </a:lnTo>
                <a:lnTo>
                  <a:pt x="226" y="384"/>
                </a:lnTo>
                <a:lnTo>
                  <a:pt x="241" y="403"/>
                </a:lnTo>
                <a:lnTo>
                  <a:pt x="253" y="422"/>
                </a:lnTo>
                <a:lnTo>
                  <a:pt x="264" y="441"/>
                </a:lnTo>
                <a:lnTo>
                  <a:pt x="276" y="464"/>
                </a:lnTo>
                <a:lnTo>
                  <a:pt x="287" y="489"/>
                </a:lnTo>
                <a:lnTo>
                  <a:pt x="299" y="516"/>
                </a:lnTo>
                <a:lnTo>
                  <a:pt x="310" y="541"/>
                </a:lnTo>
                <a:lnTo>
                  <a:pt x="320" y="566"/>
                </a:lnTo>
                <a:lnTo>
                  <a:pt x="332" y="593"/>
                </a:lnTo>
                <a:lnTo>
                  <a:pt x="343" y="618"/>
                </a:lnTo>
                <a:lnTo>
                  <a:pt x="355" y="641"/>
                </a:lnTo>
                <a:lnTo>
                  <a:pt x="370" y="670"/>
                </a:lnTo>
                <a:lnTo>
                  <a:pt x="385" y="696"/>
                </a:lnTo>
                <a:lnTo>
                  <a:pt x="403" y="723"/>
                </a:lnTo>
                <a:lnTo>
                  <a:pt x="424" y="748"/>
                </a:lnTo>
                <a:lnTo>
                  <a:pt x="445" y="773"/>
                </a:lnTo>
                <a:lnTo>
                  <a:pt x="470" y="796"/>
                </a:lnTo>
                <a:lnTo>
                  <a:pt x="497" y="819"/>
                </a:lnTo>
                <a:lnTo>
                  <a:pt x="529" y="842"/>
                </a:lnTo>
                <a:lnTo>
                  <a:pt x="545" y="856"/>
                </a:lnTo>
                <a:lnTo>
                  <a:pt x="556" y="869"/>
                </a:lnTo>
                <a:lnTo>
                  <a:pt x="568" y="883"/>
                </a:lnTo>
                <a:lnTo>
                  <a:pt x="577" y="900"/>
                </a:lnTo>
                <a:lnTo>
                  <a:pt x="583" y="915"/>
                </a:lnTo>
                <a:lnTo>
                  <a:pt x="591" y="932"/>
                </a:lnTo>
                <a:lnTo>
                  <a:pt x="594" y="952"/>
                </a:lnTo>
                <a:lnTo>
                  <a:pt x="600" y="969"/>
                </a:lnTo>
                <a:lnTo>
                  <a:pt x="608" y="1005"/>
                </a:lnTo>
                <a:lnTo>
                  <a:pt x="617" y="1042"/>
                </a:lnTo>
                <a:lnTo>
                  <a:pt x="623" y="1059"/>
                </a:lnTo>
                <a:lnTo>
                  <a:pt x="631" y="1076"/>
                </a:lnTo>
                <a:lnTo>
                  <a:pt x="641" y="1094"/>
                </a:lnTo>
                <a:lnTo>
                  <a:pt x="650" y="1109"/>
                </a:lnTo>
                <a:lnTo>
                  <a:pt x="629" y="1078"/>
                </a:lnTo>
                <a:lnTo>
                  <a:pt x="604" y="1048"/>
                </a:lnTo>
                <a:lnTo>
                  <a:pt x="579" y="1021"/>
                </a:lnTo>
                <a:lnTo>
                  <a:pt x="552" y="994"/>
                </a:lnTo>
                <a:lnTo>
                  <a:pt x="525" y="967"/>
                </a:lnTo>
                <a:lnTo>
                  <a:pt x="499" y="940"/>
                </a:lnTo>
                <a:lnTo>
                  <a:pt x="476" y="911"/>
                </a:lnTo>
                <a:lnTo>
                  <a:pt x="454" y="881"/>
                </a:lnTo>
                <a:lnTo>
                  <a:pt x="428" y="829"/>
                </a:lnTo>
                <a:lnTo>
                  <a:pt x="403" y="777"/>
                </a:lnTo>
                <a:lnTo>
                  <a:pt x="380" y="723"/>
                </a:lnTo>
                <a:lnTo>
                  <a:pt x="358" y="672"/>
                </a:lnTo>
                <a:lnTo>
                  <a:pt x="335" y="618"/>
                </a:lnTo>
                <a:lnTo>
                  <a:pt x="312" y="566"/>
                </a:lnTo>
                <a:lnTo>
                  <a:pt x="299" y="539"/>
                </a:lnTo>
                <a:lnTo>
                  <a:pt x="284" y="514"/>
                </a:lnTo>
                <a:lnTo>
                  <a:pt x="270" y="489"/>
                </a:lnTo>
                <a:lnTo>
                  <a:pt x="253" y="462"/>
                </a:lnTo>
                <a:lnTo>
                  <a:pt x="218" y="407"/>
                </a:lnTo>
                <a:lnTo>
                  <a:pt x="184" y="349"/>
                </a:lnTo>
                <a:lnTo>
                  <a:pt x="151" y="292"/>
                </a:lnTo>
                <a:lnTo>
                  <a:pt x="121" y="234"/>
                </a:lnTo>
                <a:lnTo>
                  <a:pt x="90" y="175"/>
                </a:lnTo>
                <a:lnTo>
                  <a:pt x="59" y="117"/>
                </a:lnTo>
                <a:lnTo>
                  <a:pt x="30" y="60"/>
                </a:lnTo>
                <a:lnTo>
                  <a:pt x="0" y="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Freeform 36"/>
          <p:cNvSpPr/>
          <p:nvPr/>
        </p:nvSpPr>
        <p:spPr>
          <a:xfrm>
            <a:off x="5251320" y="3394080"/>
            <a:ext cx="282600" cy="1365120"/>
          </a:xfrm>
          <a:custGeom>
            <a:avLst/>
            <a:gdLst>
              <a:gd name="textAreaLeft" fmla="*/ 0 w 282600"/>
              <a:gd name="textAreaRight" fmla="*/ 282960 w 282600"/>
              <a:gd name="textAreaTop" fmla="*/ 0 h 1365120"/>
              <a:gd name="textAreaBottom" fmla="*/ 1365120 h 1365120"/>
            </a:gdLst>
            <a:ahLst/>
            <a:rect l="textAreaLeft" t="textAreaTop" r="textAreaRight" b="textAreaBottom"/>
            <a:pathLst>
              <a:path w="178" h="860">
                <a:moveTo>
                  <a:pt x="0" y="0"/>
                </a:moveTo>
                <a:lnTo>
                  <a:pt x="15" y="39"/>
                </a:lnTo>
                <a:lnTo>
                  <a:pt x="28" y="79"/>
                </a:lnTo>
                <a:lnTo>
                  <a:pt x="42" y="119"/>
                </a:lnTo>
                <a:lnTo>
                  <a:pt x="51" y="160"/>
                </a:lnTo>
                <a:lnTo>
                  <a:pt x="63" y="200"/>
                </a:lnTo>
                <a:lnTo>
                  <a:pt x="71" y="240"/>
                </a:lnTo>
                <a:lnTo>
                  <a:pt x="78" y="280"/>
                </a:lnTo>
                <a:lnTo>
                  <a:pt x="84" y="323"/>
                </a:lnTo>
                <a:lnTo>
                  <a:pt x="95" y="405"/>
                </a:lnTo>
                <a:lnTo>
                  <a:pt x="105" y="490"/>
                </a:lnTo>
                <a:lnTo>
                  <a:pt x="113" y="574"/>
                </a:lnTo>
                <a:lnTo>
                  <a:pt x="120" y="658"/>
                </a:lnTo>
                <a:lnTo>
                  <a:pt x="124" y="683"/>
                </a:lnTo>
                <a:lnTo>
                  <a:pt x="130" y="708"/>
                </a:lnTo>
                <a:lnTo>
                  <a:pt x="138" y="733"/>
                </a:lnTo>
                <a:lnTo>
                  <a:pt x="145" y="758"/>
                </a:lnTo>
                <a:lnTo>
                  <a:pt x="153" y="783"/>
                </a:lnTo>
                <a:lnTo>
                  <a:pt x="159" y="808"/>
                </a:lnTo>
                <a:lnTo>
                  <a:pt x="163" y="833"/>
                </a:lnTo>
                <a:lnTo>
                  <a:pt x="165" y="860"/>
                </a:lnTo>
                <a:lnTo>
                  <a:pt x="166" y="839"/>
                </a:lnTo>
                <a:lnTo>
                  <a:pt x="170" y="818"/>
                </a:lnTo>
                <a:lnTo>
                  <a:pt x="174" y="798"/>
                </a:lnTo>
                <a:lnTo>
                  <a:pt x="176" y="777"/>
                </a:lnTo>
                <a:lnTo>
                  <a:pt x="178" y="756"/>
                </a:lnTo>
                <a:lnTo>
                  <a:pt x="178" y="735"/>
                </a:lnTo>
                <a:lnTo>
                  <a:pt x="176" y="716"/>
                </a:lnTo>
                <a:lnTo>
                  <a:pt x="172" y="697"/>
                </a:lnTo>
                <a:lnTo>
                  <a:pt x="159" y="655"/>
                </a:lnTo>
                <a:lnTo>
                  <a:pt x="147" y="614"/>
                </a:lnTo>
                <a:lnTo>
                  <a:pt x="138" y="572"/>
                </a:lnTo>
                <a:lnTo>
                  <a:pt x="130" y="532"/>
                </a:lnTo>
                <a:lnTo>
                  <a:pt x="117" y="447"/>
                </a:lnTo>
                <a:lnTo>
                  <a:pt x="105" y="365"/>
                </a:lnTo>
                <a:lnTo>
                  <a:pt x="97" y="323"/>
                </a:lnTo>
                <a:lnTo>
                  <a:pt x="90" y="282"/>
                </a:lnTo>
                <a:lnTo>
                  <a:pt x="82" y="242"/>
                </a:lnTo>
                <a:lnTo>
                  <a:pt x="72" y="202"/>
                </a:lnTo>
                <a:lnTo>
                  <a:pt x="59" y="162"/>
                </a:lnTo>
                <a:lnTo>
                  <a:pt x="46" y="123"/>
                </a:lnTo>
                <a:lnTo>
                  <a:pt x="28" y="83"/>
                </a:lnTo>
                <a:lnTo>
                  <a:pt x="9" y="46"/>
                </a:lnTo>
                <a:lnTo>
                  <a:pt x="0" y="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Freeform 37"/>
          <p:cNvSpPr/>
          <p:nvPr/>
        </p:nvSpPr>
        <p:spPr>
          <a:xfrm>
            <a:off x="3597120" y="1817640"/>
            <a:ext cx="1094040" cy="922320"/>
          </a:xfrm>
          <a:custGeom>
            <a:avLst/>
            <a:gdLst>
              <a:gd name="textAreaLeft" fmla="*/ 0 w 1094040"/>
              <a:gd name="textAreaRight" fmla="*/ 1094400 w 1094040"/>
              <a:gd name="textAreaTop" fmla="*/ 0 h 922320"/>
              <a:gd name="textAreaBottom" fmla="*/ 922680 h 922320"/>
            </a:gdLst>
            <a:ahLst/>
            <a:rect l="textAreaLeft" t="textAreaTop" r="textAreaRight" b="textAreaBottom"/>
            <a:pathLst>
              <a:path w="689" h="581">
                <a:moveTo>
                  <a:pt x="687" y="581"/>
                </a:moveTo>
                <a:lnTo>
                  <a:pt x="687" y="575"/>
                </a:lnTo>
                <a:lnTo>
                  <a:pt x="689" y="571"/>
                </a:lnTo>
                <a:lnTo>
                  <a:pt x="689" y="566"/>
                </a:lnTo>
                <a:lnTo>
                  <a:pt x="689" y="562"/>
                </a:lnTo>
                <a:lnTo>
                  <a:pt x="689" y="556"/>
                </a:lnTo>
                <a:lnTo>
                  <a:pt x="687" y="552"/>
                </a:lnTo>
                <a:lnTo>
                  <a:pt x="687" y="548"/>
                </a:lnTo>
                <a:lnTo>
                  <a:pt x="685" y="544"/>
                </a:lnTo>
                <a:lnTo>
                  <a:pt x="666" y="523"/>
                </a:lnTo>
                <a:lnTo>
                  <a:pt x="646" y="504"/>
                </a:lnTo>
                <a:lnTo>
                  <a:pt x="623" y="489"/>
                </a:lnTo>
                <a:lnTo>
                  <a:pt x="602" y="474"/>
                </a:lnTo>
                <a:lnTo>
                  <a:pt x="579" y="458"/>
                </a:lnTo>
                <a:lnTo>
                  <a:pt x="556" y="445"/>
                </a:lnTo>
                <a:lnTo>
                  <a:pt x="535" y="427"/>
                </a:lnTo>
                <a:lnTo>
                  <a:pt x="514" y="410"/>
                </a:lnTo>
                <a:lnTo>
                  <a:pt x="476" y="372"/>
                </a:lnTo>
                <a:lnTo>
                  <a:pt x="435" y="335"/>
                </a:lnTo>
                <a:lnTo>
                  <a:pt x="397" y="297"/>
                </a:lnTo>
                <a:lnTo>
                  <a:pt x="360" y="259"/>
                </a:lnTo>
                <a:lnTo>
                  <a:pt x="322" y="220"/>
                </a:lnTo>
                <a:lnTo>
                  <a:pt x="286" y="180"/>
                </a:lnTo>
                <a:lnTo>
                  <a:pt x="247" y="142"/>
                </a:lnTo>
                <a:lnTo>
                  <a:pt x="209" y="99"/>
                </a:lnTo>
                <a:lnTo>
                  <a:pt x="197" y="88"/>
                </a:lnTo>
                <a:lnTo>
                  <a:pt x="186" y="78"/>
                </a:lnTo>
                <a:lnTo>
                  <a:pt x="172" y="69"/>
                </a:lnTo>
                <a:lnTo>
                  <a:pt x="159" y="61"/>
                </a:lnTo>
                <a:lnTo>
                  <a:pt x="142" y="55"/>
                </a:lnTo>
                <a:lnTo>
                  <a:pt x="124" y="50"/>
                </a:lnTo>
                <a:lnTo>
                  <a:pt x="105" y="46"/>
                </a:lnTo>
                <a:lnTo>
                  <a:pt x="84" y="44"/>
                </a:lnTo>
                <a:lnTo>
                  <a:pt x="78" y="44"/>
                </a:lnTo>
                <a:lnTo>
                  <a:pt x="73" y="40"/>
                </a:lnTo>
                <a:lnTo>
                  <a:pt x="67" y="34"/>
                </a:lnTo>
                <a:lnTo>
                  <a:pt x="61" y="28"/>
                </a:lnTo>
                <a:lnTo>
                  <a:pt x="55" y="21"/>
                </a:lnTo>
                <a:lnTo>
                  <a:pt x="50" y="15"/>
                </a:lnTo>
                <a:lnTo>
                  <a:pt x="42" y="7"/>
                </a:lnTo>
                <a:lnTo>
                  <a:pt x="36" y="4"/>
                </a:lnTo>
                <a:lnTo>
                  <a:pt x="32" y="2"/>
                </a:lnTo>
                <a:lnTo>
                  <a:pt x="29" y="2"/>
                </a:lnTo>
                <a:lnTo>
                  <a:pt x="25" y="0"/>
                </a:lnTo>
                <a:lnTo>
                  <a:pt x="19" y="0"/>
                </a:lnTo>
                <a:lnTo>
                  <a:pt x="15" y="0"/>
                </a:lnTo>
                <a:lnTo>
                  <a:pt x="9" y="2"/>
                </a:lnTo>
                <a:lnTo>
                  <a:pt x="5" y="2"/>
                </a:lnTo>
                <a:lnTo>
                  <a:pt x="0" y="2"/>
                </a:lnTo>
                <a:lnTo>
                  <a:pt x="38" y="21"/>
                </a:lnTo>
                <a:lnTo>
                  <a:pt x="75" y="36"/>
                </a:lnTo>
                <a:lnTo>
                  <a:pt x="113" y="53"/>
                </a:lnTo>
                <a:lnTo>
                  <a:pt x="149" y="69"/>
                </a:lnTo>
                <a:lnTo>
                  <a:pt x="188" y="86"/>
                </a:lnTo>
                <a:lnTo>
                  <a:pt x="224" y="103"/>
                </a:lnTo>
                <a:lnTo>
                  <a:pt x="259" y="124"/>
                </a:lnTo>
                <a:lnTo>
                  <a:pt x="293" y="149"/>
                </a:lnTo>
                <a:lnTo>
                  <a:pt x="335" y="182"/>
                </a:lnTo>
                <a:lnTo>
                  <a:pt x="374" y="218"/>
                </a:lnTo>
                <a:lnTo>
                  <a:pt x="412" y="255"/>
                </a:lnTo>
                <a:lnTo>
                  <a:pt x="451" y="293"/>
                </a:lnTo>
                <a:lnTo>
                  <a:pt x="487" y="330"/>
                </a:lnTo>
                <a:lnTo>
                  <a:pt x="525" y="368"/>
                </a:lnTo>
                <a:lnTo>
                  <a:pt x="564" y="403"/>
                </a:lnTo>
                <a:lnTo>
                  <a:pt x="604" y="439"/>
                </a:lnTo>
                <a:lnTo>
                  <a:pt x="687" y="581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Freeform 38"/>
          <p:cNvSpPr/>
          <p:nvPr/>
        </p:nvSpPr>
        <p:spPr>
          <a:xfrm>
            <a:off x="4221000" y="1449360"/>
            <a:ext cx="484200" cy="746280"/>
          </a:xfrm>
          <a:custGeom>
            <a:avLst/>
            <a:gdLst>
              <a:gd name="textAreaLeft" fmla="*/ 0 w 484200"/>
              <a:gd name="textAreaRight" fmla="*/ 484560 w 484200"/>
              <a:gd name="textAreaTop" fmla="*/ 0 h 746280"/>
              <a:gd name="textAreaBottom" fmla="*/ 746640 h 746280"/>
            </a:gdLst>
            <a:ahLst/>
            <a:rect l="textAreaLeft" t="textAreaTop" r="textAreaRight" b="textAreaBottom"/>
            <a:pathLst>
              <a:path w="305" h="470">
                <a:moveTo>
                  <a:pt x="305" y="470"/>
                </a:moveTo>
                <a:lnTo>
                  <a:pt x="303" y="460"/>
                </a:lnTo>
                <a:lnTo>
                  <a:pt x="301" y="448"/>
                </a:lnTo>
                <a:lnTo>
                  <a:pt x="299" y="439"/>
                </a:lnTo>
                <a:lnTo>
                  <a:pt x="297" y="427"/>
                </a:lnTo>
                <a:lnTo>
                  <a:pt x="296" y="418"/>
                </a:lnTo>
                <a:lnTo>
                  <a:pt x="294" y="408"/>
                </a:lnTo>
                <a:lnTo>
                  <a:pt x="292" y="399"/>
                </a:lnTo>
                <a:lnTo>
                  <a:pt x="290" y="389"/>
                </a:lnTo>
                <a:lnTo>
                  <a:pt x="286" y="381"/>
                </a:lnTo>
                <a:lnTo>
                  <a:pt x="282" y="376"/>
                </a:lnTo>
                <a:lnTo>
                  <a:pt x="276" y="370"/>
                </a:lnTo>
                <a:lnTo>
                  <a:pt x="271" y="364"/>
                </a:lnTo>
                <a:lnTo>
                  <a:pt x="265" y="358"/>
                </a:lnTo>
                <a:lnTo>
                  <a:pt x="259" y="353"/>
                </a:lnTo>
                <a:lnTo>
                  <a:pt x="253" y="347"/>
                </a:lnTo>
                <a:lnTo>
                  <a:pt x="248" y="339"/>
                </a:lnTo>
                <a:lnTo>
                  <a:pt x="225" y="291"/>
                </a:lnTo>
                <a:lnTo>
                  <a:pt x="202" y="241"/>
                </a:lnTo>
                <a:lnTo>
                  <a:pt x="178" y="191"/>
                </a:lnTo>
                <a:lnTo>
                  <a:pt x="154" y="142"/>
                </a:lnTo>
                <a:lnTo>
                  <a:pt x="140" y="118"/>
                </a:lnTo>
                <a:lnTo>
                  <a:pt x="125" y="97"/>
                </a:lnTo>
                <a:lnTo>
                  <a:pt x="109" y="76"/>
                </a:lnTo>
                <a:lnTo>
                  <a:pt x="90" y="57"/>
                </a:lnTo>
                <a:lnTo>
                  <a:pt x="71" y="38"/>
                </a:lnTo>
                <a:lnTo>
                  <a:pt x="50" y="23"/>
                </a:lnTo>
                <a:lnTo>
                  <a:pt x="25" y="9"/>
                </a:lnTo>
                <a:lnTo>
                  <a:pt x="0" y="0"/>
                </a:lnTo>
                <a:lnTo>
                  <a:pt x="29" y="46"/>
                </a:lnTo>
                <a:lnTo>
                  <a:pt x="58" y="92"/>
                </a:lnTo>
                <a:lnTo>
                  <a:pt x="88" y="138"/>
                </a:lnTo>
                <a:lnTo>
                  <a:pt x="121" y="182"/>
                </a:lnTo>
                <a:lnTo>
                  <a:pt x="154" y="226"/>
                </a:lnTo>
                <a:lnTo>
                  <a:pt x="186" y="268"/>
                </a:lnTo>
                <a:lnTo>
                  <a:pt x="223" y="310"/>
                </a:lnTo>
                <a:lnTo>
                  <a:pt x="259" y="353"/>
                </a:lnTo>
                <a:lnTo>
                  <a:pt x="305" y="47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Freeform 39"/>
          <p:cNvSpPr/>
          <p:nvPr/>
        </p:nvSpPr>
        <p:spPr>
          <a:xfrm>
            <a:off x="5251320" y="1671480"/>
            <a:ext cx="1309680" cy="1121040"/>
          </a:xfrm>
          <a:custGeom>
            <a:avLst/>
            <a:gdLst>
              <a:gd name="textAreaLeft" fmla="*/ 0 w 1309680"/>
              <a:gd name="textAreaRight" fmla="*/ 1310040 w 1309680"/>
              <a:gd name="textAreaTop" fmla="*/ 0 h 1121040"/>
              <a:gd name="textAreaBottom" fmla="*/ 1121400 h 1121040"/>
            </a:gdLst>
            <a:ahLst/>
            <a:rect l="textAreaLeft" t="textAreaTop" r="textAreaRight" b="textAreaBottom"/>
            <a:pathLst>
              <a:path w="825" h="706">
                <a:moveTo>
                  <a:pt x="0" y="696"/>
                </a:moveTo>
                <a:lnTo>
                  <a:pt x="1" y="683"/>
                </a:lnTo>
                <a:lnTo>
                  <a:pt x="7" y="671"/>
                </a:lnTo>
                <a:lnTo>
                  <a:pt x="11" y="660"/>
                </a:lnTo>
                <a:lnTo>
                  <a:pt x="17" y="650"/>
                </a:lnTo>
                <a:lnTo>
                  <a:pt x="25" y="638"/>
                </a:lnTo>
                <a:lnTo>
                  <a:pt x="32" y="631"/>
                </a:lnTo>
                <a:lnTo>
                  <a:pt x="40" y="625"/>
                </a:lnTo>
                <a:lnTo>
                  <a:pt x="49" y="619"/>
                </a:lnTo>
                <a:lnTo>
                  <a:pt x="74" y="606"/>
                </a:lnTo>
                <a:lnTo>
                  <a:pt x="99" y="590"/>
                </a:lnTo>
                <a:lnTo>
                  <a:pt x="122" y="575"/>
                </a:lnTo>
                <a:lnTo>
                  <a:pt x="143" y="558"/>
                </a:lnTo>
                <a:lnTo>
                  <a:pt x="184" y="525"/>
                </a:lnTo>
                <a:lnTo>
                  <a:pt x="222" y="489"/>
                </a:lnTo>
                <a:lnTo>
                  <a:pt x="257" y="452"/>
                </a:lnTo>
                <a:lnTo>
                  <a:pt x="287" y="412"/>
                </a:lnTo>
                <a:lnTo>
                  <a:pt x="318" y="370"/>
                </a:lnTo>
                <a:lnTo>
                  <a:pt x="347" y="328"/>
                </a:lnTo>
                <a:lnTo>
                  <a:pt x="378" y="280"/>
                </a:lnTo>
                <a:lnTo>
                  <a:pt x="410" y="236"/>
                </a:lnTo>
                <a:lnTo>
                  <a:pt x="441" y="193"/>
                </a:lnTo>
                <a:lnTo>
                  <a:pt x="473" y="153"/>
                </a:lnTo>
                <a:lnTo>
                  <a:pt x="508" y="115"/>
                </a:lnTo>
                <a:lnTo>
                  <a:pt x="541" y="74"/>
                </a:lnTo>
                <a:lnTo>
                  <a:pt x="575" y="38"/>
                </a:lnTo>
                <a:lnTo>
                  <a:pt x="612" y="0"/>
                </a:lnTo>
                <a:lnTo>
                  <a:pt x="604" y="17"/>
                </a:lnTo>
                <a:lnTo>
                  <a:pt x="596" y="34"/>
                </a:lnTo>
                <a:lnTo>
                  <a:pt x="587" y="51"/>
                </a:lnTo>
                <a:lnTo>
                  <a:pt x="577" y="69"/>
                </a:lnTo>
                <a:lnTo>
                  <a:pt x="556" y="99"/>
                </a:lnTo>
                <a:lnTo>
                  <a:pt x="533" y="130"/>
                </a:lnTo>
                <a:lnTo>
                  <a:pt x="510" y="161"/>
                </a:lnTo>
                <a:lnTo>
                  <a:pt x="485" y="191"/>
                </a:lnTo>
                <a:lnTo>
                  <a:pt x="462" y="222"/>
                </a:lnTo>
                <a:lnTo>
                  <a:pt x="441" y="257"/>
                </a:lnTo>
                <a:lnTo>
                  <a:pt x="422" y="289"/>
                </a:lnTo>
                <a:lnTo>
                  <a:pt x="401" y="320"/>
                </a:lnTo>
                <a:lnTo>
                  <a:pt x="378" y="351"/>
                </a:lnTo>
                <a:lnTo>
                  <a:pt x="355" y="379"/>
                </a:lnTo>
                <a:lnTo>
                  <a:pt x="305" y="437"/>
                </a:lnTo>
                <a:lnTo>
                  <a:pt x="253" y="491"/>
                </a:lnTo>
                <a:lnTo>
                  <a:pt x="201" y="544"/>
                </a:lnTo>
                <a:lnTo>
                  <a:pt x="147" y="598"/>
                </a:lnTo>
                <a:lnTo>
                  <a:pt x="95" y="650"/>
                </a:lnTo>
                <a:lnTo>
                  <a:pt x="44" y="706"/>
                </a:lnTo>
                <a:lnTo>
                  <a:pt x="69" y="681"/>
                </a:lnTo>
                <a:lnTo>
                  <a:pt x="94" y="658"/>
                </a:lnTo>
                <a:lnTo>
                  <a:pt x="120" y="636"/>
                </a:lnTo>
                <a:lnTo>
                  <a:pt x="147" y="617"/>
                </a:lnTo>
                <a:lnTo>
                  <a:pt x="176" y="600"/>
                </a:lnTo>
                <a:lnTo>
                  <a:pt x="207" y="583"/>
                </a:lnTo>
                <a:lnTo>
                  <a:pt x="236" y="567"/>
                </a:lnTo>
                <a:lnTo>
                  <a:pt x="266" y="552"/>
                </a:lnTo>
                <a:lnTo>
                  <a:pt x="330" y="523"/>
                </a:lnTo>
                <a:lnTo>
                  <a:pt x="393" y="493"/>
                </a:lnTo>
                <a:lnTo>
                  <a:pt x="424" y="475"/>
                </a:lnTo>
                <a:lnTo>
                  <a:pt x="454" y="458"/>
                </a:lnTo>
                <a:lnTo>
                  <a:pt x="483" y="439"/>
                </a:lnTo>
                <a:lnTo>
                  <a:pt x="512" y="418"/>
                </a:lnTo>
                <a:lnTo>
                  <a:pt x="548" y="395"/>
                </a:lnTo>
                <a:lnTo>
                  <a:pt x="583" y="372"/>
                </a:lnTo>
                <a:lnTo>
                  <a:pt x="621" y="353"/>
                </a:lnTo>
                <a:lnTo>
                  <a:pt x="660" y="335"/>
                </a:lnTo>
                <a:lnTo>
                  <a:pt x="679" y="330"/>
                </a:lnTo>
                <a:lnTo>
                  <a:pt x="700" y="322"/>
                </a:lnTo>
                <a:lnTo>
                  <a:pt x="719" y="316"/>
                </a:lnTo>
                <a:lnTo>
                  <a:pt x="740" y="312"/>
                </a:lnTo>
                <a:lnTo>
                  <a:pt x="761" y="310"/>
                </a:lnTo>
                <a:lnTo>
                  <a:pt x="782" y="307"/>
                </a:lnTo>
                <a:lnTo>
                  <a:pt x="803" y="307"/>
                </a:lnTo>
                <a:lnTo>
                  <a:pt x="825" y="307"/>
                </a:lnTo>
                <a:lnTo>
                  <a:pt x="746" y="337"/>
                </a:lnTo>
                <a:lnTo>
                  <a:pt x="669" y="372"/>
                </a:lnTo>
                <a:lnTo>
                  <a:pt x="592" y="406"/>
                </a:lnTo>
                <a:lnTo>
                  <a:pt x="518" y="445"/>
                </a:lnTo>
                <a:lnTo>
                  <a:pt x="445" y="485"/>
                </a:lnTo>
                <a:lnTo>
                  <a:pt x="374" y="529"/>
                </a:lnTo>
                <a:lnTo>
                  <a:pt x="337" y="552"/>
                </a:lnTo>
                <a:lnTo>
                  <a:pt x="303" y="575"/>
                </a:lnTo>
                <a:lnTo>
                  <a:pt x="268" y="600"/>
                </a:lnTo>
                <a:lnTo>
                  <a:pt x="236" y="625"/>
                </a:lnTo>
                <a:lnTo>
                  <a:pt x="0" y="696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Freeform 40"/>
          <p:cNvSpPr/>
          <p:nvPr/>
        </p:nvSpPr>
        <p:spPr>
          <a:xfrm>
            <a:off x="3262320" y="3075120"/>
            <a:ext cx="1611360" cy="392040"/>
          </a:xfrm>
          <a:custGeom>
            <a:avLst/>
            <a:gdLst>
              <a:gd name="textAreaLeft" fmla="*/ 0 w 1611360"/>
              <a:gd name="textAreaRight" fmla="*/ 1611720 w 1611360"/>
              <a:gd name="textAreaTop" fmla="*/ 0 h 392040"/>
              <a:gd name="textAreaBottom" fmla="*/ 392400 h 392040"/>
            </a:gdLst>
            <a:ahLst/>
            <a:rect l="textAreaLeft" t="textAreaTop" r="textAreaRight" b="textAreaBottom"/>
            <a:pathLst>
              <a:path w="1015" h="247">
                <a:moveTo>
                  <a:pt x="1015" y="13"/>
                </a:moveTo>
                <a:lnTo>
                  <a:pt x="980" y="17"/>
                </a:lnTo>
                <a:lnTo>
                  <a:pt x="946" y="19"/>
                </a:lnTo>
                <a:lnTo>
                  <a:pt x="909" y="21"/>
                </a:lnTo>
                <a:lnTo>
                  <a:pt x="875" y="21"/>
                </a:lnTo>
                <a:lnTo>
                  <a:pt x="838" y="21"/>
                </a:lnTo>
                <a:lnTo>
                  <a:pt x="804" y="23"/>
                </a:lnTo>
                <a:lnTo>
                  <a:pt x="769" y="25"/>
                </a:lnTo>
                <a:lnTo>
                  <a:pt x="733" y="29"/>
                </a:lnTo>
                <a:lnTo>
                  <a:pt x="721" y="31"/>
                </a:lnTo>
                <a:lnTo>
                  <a:pt x="710" y="34"/>
                </a:lnTo>
                <a:lnTo>
                  <a:pt x="698" y="40"/>
                </a:lnTo>
                <a:lnTo>
                  <a:pt x="685" y="46"/>
                </a:lnTo>
                <a:lnTo>
                  <a:pt x="673" y="52"/>
                </a:lnTo>
                <a:lnTo>
                  <a:pt x="662" y="58"/>
                </a:lnTo>
                <a:lnTo>
                  <a:pt x="650" y="63"/>
                </a:lnTo>
                <a:lnTo>
                  <a:pt x="637" y="65"/>
                </a:lnTo>
                <a:lnTo>
                  <a:pt x="612" y="69"/>
                </a:lnTo>
                <a:lnTo>
                  <a:pt x="587" y="71"/>
                </a:lnTo>
                <a:lnTo>
                  <a:pt x="562" y="71"/>
                </a:lnTo>
                <a:lnTo>
                  <a:pt x="537" y="71"/>
                </a:lnTo>
                <a:lnTo>
                  <a:pt x="512" y="69"/>
                </a:lnTo>
                <a:lnTo>
                  <a:pt x="487" y="69"/>
                </a:lnTo>
                <a:lnTo>
                  <a:pt x="462" y="71"/>
                </a:lnTo>
                <a:lnTo>
                  <a:pt x="437" y="77"/>
                </a:lnTo>
                <a:lnTo>
                  <a:pt x="414" y="81"/>
                </a:lnTo>
                <a:lnTo>
                  <a:pt x="389" y="86"/>
                </a:lnTo>
                <a:lnTo>
                  <a:pt x="366" y="92"/>
                </a:lnTo>
                <a:lnTo>
                  <a:pt x="343" y="98"/>
                </a:lnTo>
                <a:lnTo>
                  <a:pt x="320" y="104"/>
                </a:lnTo>
                <a:lnTo>
                  <a:pt x="297" y="111"/>
                </a:lnTo>
                <a:lnTo>
                  <a:pt x="274" y="117"/>
                </a:lnTo>
                <a:lnTo>
                  <a:pt x="249" y="125"/>
                </a:lnTo>
                <a:lnTo>
                  <a:pt x="216" y="134"/>
                </a:lnTo>
                <a:lnTo>
                  <a:pt x="182" y="144"/>
                </a:lnTo>
                <a:lnTo>
                  <a:pt x="149" y="155"/>
                </a:lnTo>
                <a:lnTo>
                  <a:pt x="117" y="169"/>
                </a:lnTo>
                <a:lnTo>
                  <a:pt x="86" y="184"/>
                </a:lnTo>
                <a:lnTo>
                  <a:pt x="55" y="201"/>
                </a:lnTo>
                <a:lnTo>
                  <a:pt x="27" y="222"/>
                </a:lnTo>
                <a:lnTo>
                  <a:pt x="0" y="247"/>
                </a:lnTo>
                <a:lnTo>
                  <a:pt x="11" y="247"/>
                </a:lnTo>
                <a:lnTo>
                  <a:pt x="25" y="247"/>
                </a:lnTo>
                <a:lnTo>
                  <a:pt x="36" y="247"/>
                </a:lnTo>
                <a:lnTo>
                  <a:pt x="48" y="247"/>
                </a:lnTo>
                <a:lnTo>
                  <a:pt x="59" y="247"/>
                </a:lnTo>
                <a:lnTo>
                  <a:pt x="71" y="246"/>
                </a:lnTo>
                <a:lnTo>
                  <a:pt x="82" y="242"/>
                </a:lnTo>
                <a:lnTo>
                  <a:pt x="94" y="236"/>
                </a:lnTo>
                <a:lnTo>
                  <a:pt x="126" y="219"/>
                </a:lnTo>
                <a:lnTo>
                  <a:pt x="159" y="201"/>
                </a:lnTo>
                <a:lnTo>
                  <a:pt x="190" y="186"/>
                </a:lnTo>
                <a:lnTo>
                  <a:pt x="222" y="173"/>
                </a:lnTo>
                <a:lnTo>
                  <a:pt x="287" y="148"/>
                </a:lnTo>
                <a:lnTo>
                  <a:pt x="353" y="125"/>
                </a:lnTo>
                <a:lnTo>
                  <a:pt x="420" y="104"/>
                </a:lnTo>
                <a:lnTo>
                  <a:pt x="485" y="81"/>
                </a:lnTo>
                <a:lnTo>
                  <a:pt x="550" y="56"/>
                </a:lnTo>
                <a:lnTo>
                  <a:pt x="616" y="29"/>
                </a:lnTo>
                <a:lnTo>
                  <a:pt x="631" y="21"/>
                </a:lnTo>
                <a:lnTo>
                  <a:pt x="648" y="15"/>
                </a:lnTo>
                <a:lnTo>
                  <a:pt x="665" y="11"/>
                </a:lnTo>
                <a:lnTo>
                  <a:pt x="683" y="10"/>
                </a:lnTo>
                <a:lnTo>
                  <a:pt x="702" y="8"/>
                </a:lnTo>
                <a:lnTo>
                  <a:pt x="719" y="4"/>
                </a:lnTo>
                <a:lnTo>
                  <a:pt x="738" y="2"/>
                </a:lnTo>
                <a:lnTo>
                  <a:pt x="756" y="0"/>
                </a:lnTo>
                <a:lnTo>
                  <a:pt x="1015" y="13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Freeform 41"/>
          <p:cNvSpPr/>
          <p:nvPr/>
        </p:nvSpPr>
        <p:spPr>
          <a:xfrm>
            <a:off x="3992400" y="2925720"/>
            <a:ext cx="1444680" cy="1552680"/>
          </a:xfrm>
          <a:custGeom>
            <a:avLst/>
            <a:gdLst>
              <a:gd name="textAreaLeft" fmla="*/ 0 w 1444680"/>
              <a:gd name="textAreaRight" fmla="*/ 1445040 w 1444680"/>
              <a:gd name="textAreaTop" fmla="*/ 0 h 1552680"/>
              <a:gd name="textAreaBottom" fmla="*/ 1553040 h 1552680"/>
            </a:gdLst>
            <a:ahLst/>
            <a:rect l="textAreaLeft" t="textAreaTop" r="textAreaRight" b="textAreaBottom"/>
            <a:pathLst>
              <a:path w="910" h="978">
                <a:moveTo>
                  <a:pt x="484" y="389"/>
                </a:moveTo>
                <a:lnTo>
                  <a:pt x="440" y="432"/>
                </a:lnTo>
                <a:lnTo>
                  <a:pt x="397" y="476"/>
                </a:lnTo>
                <a:lnTo>
                  <a:pt x="357" y="522"/>
                </a:lnTo>
                <a:lnTo>
                  <a:pt x="319" y="570"/>
                </a:lnTo>
                <a:lnTo>
                  <a:pt x="280" y="618"/>
                </a:lnTo>
                <a:lnTo>
                  <a:pt x="242" y="666"/>
                </a:lnTo>
                <a:lnTo>
                  <a:pt x="202" y="714"/>
                </a:lnTo>
                <a:lnTo>
                  <a:pt x="161" y="760"/>
                </a:lnTo>
                <a:lnTo>
                  <a:pt x="140" y="786"/>
                </a:lnTo>
                <a:lnTo>
                  <a:pt x="121" y="813"/>
                </a:lnTo>
                <a:lnTo>
                  <a:pt x="102" y="842"/>
                </a:lnTo>
                <a:lnTo>
                  <a:pt x="83" y="871"/>
                </a:lnTo>
                <a:lnTo>
                  <a:pt x="63" y="900"/>
                </a:lnTo>
                <a:lnTo>
                  <a:pt x="44" y="927"/>
                </a:lnTo>
                <a:lnTo>
                  <a:pt x="23" y="953"/>
                </a:lnTo>
                <a:lnTo>
                  <a:pt x="0" y="978"/>
                </a:lnTo>
                <a:lnTo>
                  <a:pt x="48" y="944"/>
                </a:lnTo>
                <a:lnTo>
                  <a:pt x="94" y="907"/>
                </a:lnTo>
                <a:lnTo>
                  <a:pt x="138" y="867"/>
                </a:lnTo>
                <a:lnTo>
                  <a:pt x="181" y="827"/>
                </a:lnTo>
                <a:lnTo>
                  <a:pt x="223" y="785"/>
                </a:lnTo>
                <a:lnTo>
                  <a:pt x="265" y="740"/>
                </a:lnTo>
                <a:lnTo>
                  <a:pt x="307" y="698"/>
                </a:lnTo>
                <a:lnTo>
                  <a:pt x="351" y="656"/>
                </a:lnTo>
                <a:lnTo>
                  <a:pt x="361" y="646"/>
                </a:lnTo>
                <a:lnTo>
                  <a:pt x="367" y="637"/>
                </a:lnTo>
                <a:lnTo>
                  <a:pt x="372" y="625"/>
                </a:lnTo>
                <a:lnTo>
                  <a:pt x="378" y="612"/>
                </a:lnTo>
                <a:lnTo>
                  <a:pt x="384" y="600"/>
                </a:lnTo>
                <a:lnTo>
                  <a:pt x="390" y="589"/>
                </a:lnTo>
                <a:lnTo>
                  <a:pt x="397" y="579"/>
                </a:lnTo>
                <a:lnTo>
                  <a:pt x="405" y="570"/>
                </a:lnTo>
                <a:lnTo>
                  <a:pt x="476" y="503"/>
                </a:lnTo>
                <a:lnTo>
                  <a:pt x="543" y="434"/>
                </a:lnTo>
                <a:lnTo>
                  <a:pt x="606" y="364"/>
                </a:lnTo>
                <a:lnTo>
                  <a:pt x="670" y="292"/>
                </a:lnTo>
                <a:lnTo>
                  <a:pt x="729" y="221"/>
                </a:lnTo>
                <a:lnTo>
                  <a:pt x="791" y="148"/>
                </a:lnTo>
                <a:lnTo>
                  <a:pt x="848" y="73"/>
                </a:lnTo>
                <a:lnTo>
                  <a:pt x="910" y="0"/>
                </a:lnTo>
                <a:lnTo>
                  <a:pt x="484" y="389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Freeform 42"/>
          <p:cNvSpPr/>
          <p:nvPr/>
        </p:nvSpPr>
        <p:spPr>
          <a:xfrm>
            <a:off x="3222720" y="2693880"/>
            <a:ext cx="1650960" cy="231840"/>
          </a:xfrm>
          <a:custGeom>
            <a:avLst/>
            <a:gdLst>
              <a:gd name="textAreaLeft" fmla="*/ 0 w 1650960"/>
              <a:gd name="textAreaRight" fmla="*/ 1651320 w 165096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1040" h="146">
                <a:moveTo>
                  <a:pt x="1040" y="146"/>
                </a:moveTo>
                <a:lnTo>
                  <a:pt x="1017" y="133"/>
                </a:lnTo>
                <a:lnTo>
                  <a:pt x="992" y="121"/>
                </a:lnTo>
                <a:lnTo>
                  <a:pt x="967" y="110"/>
                </a:lnTo>
                <a:lnTo>
                  <a:pt x="942" y="98"/>
                </a:lnTo>
                <a:lnTo>
                  <a:pt x="917" y="88"/>
                </a:lnTo>
                <a:lnTo>
                  <a:pt x="892" y="81"/>
                </a:lnTo>
                <a:lnTo>
                  <a:pt x="865" y="73"/>
                </a:lnTo>
                <a:lnTo>
                  <a:pt x="840" y="67"/>
                </a:lnTo>
                <a:lnTo>
                  <a:pt x="817" y="63"/>
                </a:lnTo>
                <a:lnTo>
                  <a:pt x="796" y="58"/>
                </a:lnTo>
                <a:lnTo>
                  <a:pt x="775" y="54"/>
                </a:lnTo>
                <a:lnTo>
                  <a:pt x="752" y="48"/>
                </a:lnTo>
                <a:lnTo>
                  <a:pt x="731" y="42"/>
                </a:lnTo>
                <a:lnTo>
                  <a:pt x="708" y="39"/>
                </a:lnTo>
                <a:lnTo>
                  <a:pt x="685" y="35"/>
                </a:lnTo>
                <a:lnTo>
                  <a:pt x="662" y="31"/>
                </a:lnTo>
                <a:lnTo>
                  <a:pt x="579" y="21"/>
                </a:lnTo>
                <a:lnTo>
                  <a:pt x="495" y="12"/>
                </a:lnTo>
                <a:lnTo>
                  <a:pt x="453" y="8"/>
                </a:lnTo>
                <a:lnTo>
                  <a:pt x="410" y="4"/>
                </a:lnTo>
                <a:lnTo>
                  <a:pt x="368" y="2"/>
                </a:lnTo>
                <a:lnTo>
                  <a:pt x="324" y="0"/>
                </a:lnTo>
                <a:lnTo>
                  <a:pt x="282" y="2"/>
                </a:lnTo>
                <a:lnTo>
                  <a:pt x="240" y="4"/>
                </a:lnTo>
                <a:lnTo>
                  <a:pt x="199" y="8"/>
                </a:lnTo>
                <a:lnTo>
                  <a:pt x="157" y="14"/>
                </a:lnTo>
                <a:lnTo>
                  <a:pt x="117" y="21"/>
                </a:lnTo>
                <a:lnTo>
                  <a:pt x="76" y="31"/>
                </a:lnTo>
                <a:lnTo>
                  <a:pt x="38" y="46"/>
                </a:lnTo>
                <a:lnTo>
                  <a:pt x="0" y="62"/>
                </a:lnTo>
                <a:lnTo>
                  <a:pt x="36" y="67"/>
                </a:lnTo>
                <a:lnTo>
                  <a:pt x="71" y="71"/>
                </a:lnTo>
                <a:lnTo>
                  <a:pt x="107" y="73"/>
                </a:lnTo>
                <a:lnTo>
                  <a:pt x="142" y="73"/>
                </a:lnTo>
                <a:lnTo>
                  <a:pt x="213" y="73"/>
                </a:lnTo>
                <a:lnTo>
                  <a:pt x="284" y="73"/>
                </a:lnTo>
                <a:lnTo>
                  <a:pt x="355" y="71"/>
                </a:lnTo>
                <a:lnTo>
                  <a:pt x="426" y="73"/>
                </a:lnTo>
                <a:lnTo>
                  <a:pt x="460" y="77"/>
                </a:lnTo>
                <a:lnTo>
                  <a:pt x="495" y="81"/>
                </a:lnTo>
                <a:lnTo>
                  <a:pt x="529" y="85"/>
                </a:lnTo>
                <a:lnTo>
                  <a:pt x="564" y="92"/>
                </a:lnTo>
                <a:lnTo>
                  <a:pt x="604" y="100"/>
                </a:lnTo>
                <a:lnTo>
                  <a:pt x="644" y="108"/>
                </a:lnTo>
                <a:lnTo>
                  <a:pt x="685" y="111"/>
                </a:lnTo>
                <a:lnTo>
                  <a:pt x="725" y="115"/>
                </a:lnTo>
                <a:lnTo>
                  <a:pt x="765" y="117"/>
                </a:lnTo>
                <a:lnTo>
                  <a:pt x="806" y="119"/>
                </a:lnTo>
                <a:lnTo>
                  <a:pt x="846" y="121"/>
                </a:lnTo>
                <a:lnTo>
                  <a:pt x="888" y="123"/>
                </a:lnTo>
                <a:lnTo>
                  <a:pt x="1040" y="146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reeform 43"/>
          <p:cNvSpPr/>
          <p:nvPr/>
        </p:nvSpPr>
        <p:spPr>
          <a:xfrm>
            <a:off x="3422520" y="3336840"/>
            <a:ext cx="1209960" cy="639720"/>
          </a:xfrm>
          <a:custGeom>
            <a:avLst/>
            <a:gdLst>
              <a:gd name="textAreaLeft" fmla="*/ 0 w 1209960"/>
              <a:gd name="textAreaRight" fmla="*/ 1209960 w 120996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762" h="403">
                <a:moveTo>
                  <a:pt x="762" y="0"/>
                </a:moveTo>
                <a:lnTo>
                  <a:pt x="689" y="38"/>
                </a:lnTo>
                <a:lnTo>
                  <a:pt x="616" y="79"/>
                </a:lnTo>
                <a:lnTo>
                  <a:pt x="543" y="119"/>
                </a:lnTo>
                <a:lnTo>
                  <a:pt x="470" y="157"/>
                </a:lnTo>
                <a:lnTo>
                  <a:pt x="396" y="194"/>
                </a:lnTo>
                <a:lnTo>
                  <a:pt x="321" y="228"/>
                </a:lnTo>
                <a:lnTo>
                  <a:pt x="282" y="244"/>
                </a:lnTo>
                <a:lnTo>
                  <a:pt x="244" y="259"/>
                </a:lnTo>
                <a:lnTo>
                  <a:pt x="204" y="272"/>
                </a:lnTo>
                <a:lnTo>
                  <a:pt x="163" y="286"/>
                </a:lnTo>
                <a:lnTo>
                  <a:pt x="142" y="292"/>
                </a:lnTo>
                <a:lnTo>
                  <a:pt x="117" y="299"/>
                </a:lnTo>
                <a:lnTo>
                  <a:pt x="92" y="309"/>
                </a:lnTo>
                <a:lnTo>
                  <a:pt x="68" y="318"/>
                </a:lnTo>
                <a:lnTo>
                  <a:pt x="56" y="324"/>
                </a:lnTo>
                <a:lnTo>
                  <a:pt x="46" y="332"/>
                </a:lnTo>
                <a:lnTo>
                  <a:pt x="35" y="339"/>
                </a:lnTo>
                <a:lnTo>
                  <a:pt x="25" y="347"/>
                </a:lnTo>
                <a:lnTo>
                  <a:pt x="18" y="357"/>
                </a:lnTo>
                <a:lnTo>
                  <a:pt x="12" y="368"/>
                </a:lnTo>
                <a:lnTo>
                  <a:pt x="6" y="380"/>
                </a:lnTo>
                <a:lnTo>
                  <a:pt x="0" y="391"/>
                </a:lnTo>
                <a:lnTo>
                  <a:pt x="2" y="395"/>
                </a:lnTo>
                <a:lnTo>
                  <a:pt x="6" y="397"/>
                </a:lnTo>
                <a:lnTo>
                  <a:pt x="12" y="401"/>
                </a:lnTo>
                <a:lnTo>
                  <a:pt x="20" y="401"/>
                </a:lnTo>
                <a:lnTo>
                  <a:pt x="27" y="403"/>
                </a:lnTo>
                <a:lnTo>
                  <a:pt x="37" y="401"/>
                </a:lnTo>
                <a:lnTo>
                  <a:pt x="44" y="401"/>
                </a:lnTo>
                <a:lnTo>
                  <a:pt x="52" y="399"/>
                </a:lnTo>
                <a:lnTo>
                  <a:pt x="121" y="372"/>
                </a:lnTo>
                <a:lnTo>
                  <a:pt x="190" y="345"/>
                </a:lnTo>
                <a:lnTo>
                  <a:pt x="257" y="315"/>
                </a:lnTo>
                <a:lnTo>
                  <a:pt x="323" y="282"/>
                </a:lnTo>
                <a:lnTo>
                  <a:pt x="388" y="247"/>
                </a:lnTo>
                <a:lnTo>
                  <a:pt x="453" y="211"/>
                </a:lnTo>
                <a:lnTo>
                  <a:pt x="520" y="173"/>
                </a:lnTo>
                <a:lnTo>
                  <a:pt x="586" y="132"/>
                </a:lnTo>
                <a:lnTo>
                  <a:pt x="591" y="130"/>
                </a:lnTo>
                <a:lnTo>
                  <a:pt x="595" y="130"/>
                </a:lnTo>
                <a:lnTo>
                  <a:pt x="601" y="130"/>
                </a:lnTo>
                <a:lnTo>
                  <a:pt x="607" y="130"/>
                </a:lnTo>
                <a:lnTo>
                  <a:pt x="612" y="130"/>
                </a:lnTo>
                <a:lnTo>
                  <a:pt x="618" y="130"/>
                </a:lnTo>
                <a:lnTo>
                  <a:pt x="624" y="130"/>
                </a:lnTo>
                <a:lnTo>
                  <a:pt x="630" y="127"/>
                </a:lnTo>
                <a:lnTo>
                  <a:pt x="647" y="115"/>
                </a:lnTo>
                <a:lnTo>
                  <a:pt x="662" y="104"/>
                </a:lnTo>
                <a:lnTo>
                  <a:pt x="678" y="92"/>
                </a:lnTo>
                <a:lnTo>
                  <a:pt x="695" y="81"/>
                </a:lnTo>
                <a:lnTo>
                  <a:pt x="710" y="67"/>
                </a:lnTo>
                <a:lnTo>
                  <a:pt x="728" y="57"/>
                </a:lnTo>
                <a:lnTo>
                  <a:pt x="745" y="46"/>
                </a:lnTo>
                <a:lnTo>
                  <a:pt x="762" y="36"/>
                </a:lnTo>
                <a:lnTo>
                  <a:pt x="762" y="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Freeform 44"/>
          <p:cNvSpPr/>
          <p:nvPr/>
        </p:nvSpPr>
        <p:spPr>
          <a:xfrm>
            <a:off x="3597120" y="3430440"/>
            <a:ext cx="1130400" cy="804960"/>
          </a:xfrm>
          <a:custGeom>
            <a:avLst/>
            <a:gdLst>
              <a:gd name="textAreaLeft" fmla="*/ 0 w 1130400"/>
              <a:gd name="textAreaRight" fmla="*/ 1130760 w 1130400"/>
              <a:gd name="textAreaTop" fmla="*/ 0 h 804960"/>
              <a:gd name="textAreaBottom" fmla="*/ 805320 h 804960"/>
            </a:gdLst>
            <a:ahLst/>
            <a:rect l="textAreaLeft" t="textAreaTop" r="textAreaRight" b="textAreaBottom"/>
            <a:pathLst>
              <a:path w="712" h="507">
                <a:moveTo>
                  <a:pt x="710" y="0"/>
                </a:moveTo>
                <a:lnTo>
                  <a:pt x="646" y="37"/>
                </a:lnTo>
                <a:lnTo>
                  <a:pt x="579" y="69"/>
                </a:lnTo>
                <a:lnTo>
                  <a:pt x="514" y="102"/>
                </a:lnTo>
                <a:lnTo>
                  <a:pt x="447" y="137"/>
                </a:lnTo>
                <a:lnTo>
                  <a:pt x="414" y="154"/>
                </a:lnTo>
                <a:lnTo>
                  <a:pt x="383" y="171"/>
                </a:lnTo>
                <a:lnTo>
                  <a:pt x="353" y="190"/>
                </a:lnTo>
                <a:lnTo>
                  <a:pt x="322" y="211"/>
                </a:lnTo>
                <a:lnTo>
                  <a:pt x="293" y="233"/>
                </a:lnTo>
                <a:lnTo>
                  <a:pt x="266" y="256"/>
                </a:lnTo>
                <a:lnTo>
                  <a:pt x="241" y="280"/>
                </a:lnTo>
                <a:lnTo>
                  <a:pt x="217" y="307"/>
                </a:lnTo>
                <a:lnTo>
                  <a:pt x="192" y="334"/>
                </a:lnTo>
                <a:lnTo>
                  <a:pt x="165" y="357"/>
                </a:lnTo>
                <a:lnTo>
                  <a:pt x="136" y="380"/>
                </a:lnTo>
                <a:lnTo>
                  <a:pt x="105" y="401"/>
                </a:lnTo>
                <a:lnTo>
                  <a:pt x="76" y="424"/>
                </a:lnTo>
                <a:lnTo>
                  <a:pt x="50" y="449"/>
                </a:lnTo>
                <a:lnTo>
                  <a:pt x="36" y="461"/>
                </a:lnTo>
                <a:lnTo>
                  <a:pt x="23" y="476"/>
                </a:lnTo>
                <a:lnTo>
                  <a:pt x="11" y="490"/>
                </a:lnTo>
                <a:lnTo>
                  <a:pt x="0" y="505"/>
                </a:lnTo>
                <a:lnTo>
                  <a:pt x="30" y="507"/>
                </a:lnTo>
                <a:lnTo>
                  <a:pt x="59" y="507"/>
                </a:lnTo>
                <a:lnTo>
                  <a:pt x="86" y="501"/>
                </a:lnTo>
                <a:lnTo>
                  <a:pt x="113" y="495"/>
                </a:lnTo>
                <a:lnTo>
                  <a:pt x="140" y="486"/>
                </a:lnTo>
                <a:lnTo>
                  <a:pt x="165" y="472"/>
                </a:lnTo>
                <a:lnTo>
                  <a:pt x="190" y="459"/>
                </a:lnTo>
                <a:lnTo>
                  <a:pt x="213" y="444"/>
                </a:lnTo>
                <a:lnTo>
                  <a:pt x="236" y="426"/>
                </a:lnTo>
                <a:lnTo>
                  <a:pt x="257" y="407"/>
                </a:lnTo>
                <a:lnTo>
                  <a:pt x="280" y="388"/>
                </a:lnTo>
                <a:lnTo>
                  <a:pt x="301" y="367"/>
                </a:lnTo>
                <a:lnTo>
                  <a:pt x="341" y="325"/>
                </a:lnTo>
                <a:lnTo>
                  <a:pt x="382" y="284"/>
                </a:lnTo>
                <a:lnTo>
                  <a:pt x="389" y="279"/>
                </a:lnTo>
                <a:lnTo>
                  <a:pt x="399" y="273"/>
                </a:lnTo>
                <a:lnTo>
                  <a:pt x="406" y="269"/>
                </a:lnTo>
                <a:lnTo>
                  <a:pt x="416" y="265"/>
                </a:lnTo>
                <a:lnTo>
                  <a:pt x="426" y="261"/>
                </a:lnTo>
                <a:lnTo>
                  <a:pt x="433" y="256"/>
                </a:lnTo>
                <a:lnTo>
                  <a:pt x="441" y="250"/>
                </a:lnTo>
                <a:lnTo>
                  <a:pt x="445" y="244"/>
                </a:lnTo>
                <a:lnTo>
                  <a:pt x="456" y="227"/>
                </a:lnTo>
                <a:lnTo>
                  <a:pt x="468" y="209"/>
                </a:lnTo>
                <a:lnTo>
                  <a:pt x="479" y="194"/>
                </a:lnTo>
                <a:lnTo>
                  <a:pt x="493" y="177"/>
                </a:lnTo>
                <a:lnTo>
                  <a:pt x="524" y="148"/>
                </a:lnTo>
                <a:lnTo>
                  <a:pt x="556" y="121"/>
                </a:lnTo>
                <a:lnTo>
                  <a:pt x="591" y="96"/>
                </a:lnTo>
                <a:lnTo>
                  <a:pt x="625" y="73"/>
                </a:lnTo>
                <a:lnTo>
                  <a:pt x="662" y="52"/>
                </a:lnTo>
                <a:lnTo>
                  <a:pt x="698" y="35"/>
                </a:lnTo>
                <a:lnTo>
                  <a:pt x="702" y="33"/>
                </a:lnTo>
                <a:lnTo>
                  <a:pt x="706" y="29"/>
                </a:lnTo>
                <a:lnTo>
                  <a:pt x="710" y="25"/>
                </a:lnTo>
                <a:lnTo>
                  <a:pt x="710" y="20"/>
                </a:lnTo>
                <a:lnTo>
                  <a:pt x="712" y="16"/>
                </a:lnTo>
                <a:lnTo>
                  <a:pt x="712" y="10"/>
                </a:lnTo>
                <a:lnTo>
                  <a:pt x="712" y="6"/>
                </a:lnTo>
                <a:lnTo>
                  <a:pt x="710" y="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Freeform 45"/>
          <p:cNvSpPr/>
          <p:nvPr/>
        </p:nvSpPr>
        <p:spPr>
          <a:xfrm>
            <a:off x="5214960" y="1150920"/>
            <a:ext cx="57240" cy="1698480"/>
          </a:xfrm>
          <a:custGeom>
            <a:avLst/>
            <a:gdLst>
              <a:gd name="textAreaLeft" fmla="*/ 0 w 57240"/>
              <a:gd name="textAreaRight" fmla="*/ 57600 w 57240"/>
              <a:gd name="textAreaTop" fmla="*/ 0 h 1698480"/>
              <a:gd name="textAreaBottom" fmla="*/ 1698840 h 1698480"/>
            </a:gdLst>
            <a:ahLst/>
            <a:rect l="textAreaLeft" t="textAreaTop" r="textAreaRight" b="textAreaBottom"/>
            <a:pathLst>
              <a:path w="36" h="1070">
                <a:moveTo>
                  <a:pt x="0" y="1070"/>
                </a:moveTo>
                <a:lnTo>
                  <a:pt x="1" y="978"/>
                </a:lnTo>
                <a:lnTo>
                  <a:pt x="5" y="888"/>
                </a:lnTo>
                <a:lnTo>
                  <a:pt x="9" y="796"/>
                </a:lnTo>
                <a:lnTo>
                  <a:pt x="15" y="706"/>
                </a:lnTo>
                <a:lnTo>
                  <a:pt x="19" y="613"/>
                </a:lnTo>
                <a:lnTo>
                  <a:pt x="24" y="523"/>
                </a:lnTo>
                <a:lnTo>
                  <a:pt x="28" y="431"/>
                </a:lnTo>
                <a:lnTo>
                  <a:pt x="32" y="339"/>
                </a:lnTo>
                <a:lnTo>
                  <a:pt x="34" y="297"/>
                </a:lnTo>
                <a:lnTo>
                  <a:pt x="36" y="253"/>
                </a:lnTo>
                <a:lnTo>
                  <a:pt x="36" y="211"/>
                </a:lnTo>
                <a:lnTo>
                  <a:pt x="34" y="168"/>
                </a:lnTo>
                <a:lnTo>
                  <a:pt x="30" y="124"/>
                </a:lnTo>
                <a:lnTo>
                  <a:pt x="23" y="82"/>
                </a:lnTo>
                <a:lnTo>
                  <a:pt x="19" y="61"/>
                </a:lnTo>
                <a:lnTo>
                  <a:pt x="13" y="40"/>
                </a:lnTo>
                <a:lnTo>
                  <a:pt x="7" y="19"/>
                </a:lnTo>
                <a:lnTo>
                  <a:pt x="0" y="0"/>
                </a:lnTo>
                <a:lnTo>
                  <a:pt x="0" y="107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Freeform 46"/>
          <p:cNvSpPr/>
          <p:nvPr/>
        </p:nvSpPr>
        <p:spPr>
          <a:xfrm>
            <a:off x="5299200" y="1217520"/>
            <a:ext cx="530280" cy="1276560"/>
          </a:xfrm>
          <a:custGeom>
            <a:avLst/>
            <a:gdLst>
              <a:gd name="textAreaLeft" fmla="*/ 0 w 530280"/>
              <a:gd name="textAreaRight" fmla="*/ 530640 w 530280"/>
              <a:gd name="textAreaTop" fmla="*/ 0 h 1276560"/>
              <a:gd name="textAreaBottom" fmla="*/ 1276920 h 1276560"/>
            </a:gdLst>
            <a:ahLst/>
            <a:rect l="textAreaLeft" t="textAreaTop" r="textAreaRight" b="textAreaBottom"/>
            <a:pathLst>
              <a:path w="334" h="804">
                <a:moveTo>
                  <a:pt x="334" y="98"/>
                </a:moveTo>
                <a:lnTo>
                  <a:pt x="319" y="119"/>
                </a:lnTo>
                <a:lnTo>
                  <a:pt x="303" y="142"/>
                </a:lnTo>
                <a:lnTo>
                  <a:pt x="288" y="165"/>
                </a:lnTo>
                <a:lnTo>
                  <a:pt x="273" y="186"/>
                </a:lnTo>
                <a:lnTo>
                  <a:pt x="257" y="209"/>
                </a:lnTo>
                <a:lnTo>
                  <a:pt x="242" y="230"/>
                </a:lnTo>
                <a:lnTo>
                  <a:pt x="227" y="253"/>
                </a:lnTo>
                <a:lnTo>
                  <a:pt x="211" y="278"/>
                </a:lnTo>
                <a:lnTo>
                  <a:pt x="190" y="309"/>
                </a:lnTo>
                <a:lnTo>
                  <a:pt x="173" y="341"/>
                </a:lnTo>
                <a:lnTo>
                  <a:pt x="156" y="374"/>
                </a:lnTo>
                <a:lnTo>
                  <a:pt x="142" y="406"/>
                </a:lnTo>
                <a:lnTo>
                  <a:pt x="119" y="474"/>
                </a:lnTo>
                <a:lnTo>
                  <a:pt x="100" y="541"/>
                </a:lnTo>
                <a:lnTo>
                  <a:pt x="83" y="610"/>
                </a:lnTo>
                <a:lnTo>
                  <a:pt x="62" y="677"/>
                </a:lnTo>
                <a:lnTo>
                  <a:pt x="50" y="710"/>
                </a:lnTo>
                <a:lnTo>
                  <a:pt x="37" y="740"/>
                </a:lnTo>
                <a:lnTo>
                  <a:pt x="21" y="773"/>
                </a:lnTo>
                <a:lnTo>
                  <a:pt x="4" y="804"/>
                </a:lnTo>
                <a:lnTo>
                  <a:pt x="4" y="779"/>
                </a:lnTo>
                <a:lnTo>
                  <a:pt x="2" y="754"/>
                </a:lnTo>
                <a:lnTo>
                  <a:pt x="0" y="729"/>
                </a:lnTo>
                <a:lnTo>
                  <a:pt x="0" y="702"/>
                </a:lnTo>
                <a:lnTo>
                  <a:pt x="0" y="677"/>
                </a:lnTo>
                <a:lnTo>
                  <a:pt x="0" y="652"/>
                </a:lnTo>
                <a:lnTo>
                  <a:pt x="6" y="629"/>
                </a:lnTo>
                <a:lnTo>
                  <a:pt x="12" y="606"/>
                </a:lnTo>
                <a:lnTo>
                  <a:pt x="23" y="568"/>
                </a:lnTo>
                <a:lnTo>
                  <a:pt x="31" y="531"/>
                </a:lnTo>
                <a:lnTo>
                  <a:pt x="35" y="495"/>
                </a:lnTo>
                <a:lnTo>
                  <a:pt x="41" y="456"/>
                </a:lnTo>
                <a:lnTo>
                  <a:pt x="44" y="420"/>
                </a:lnTo>
                <a:lnTo>
                  <a:pt x="50" y="383"/>
                </a:lnTo>
                <a:lnTo>
                  <a:pt x="58" y="347"/>
                </a:lnTo>
                <a:lnTo>
                  <a:pt x="67" y="311"/>
                </a:lnTo>
                <a:lnTo>
                  <a:pt x="79" y="272"/>
                </a:lnTo>
                <a:lnTo>
                  <a:pt x="89" y="234"/>
                </a:lnTo>
                <a:lnTo>
                  <a:pt x="98" y="194"/>
                </a:lnTo>
                <a:lnTo>
                  <a:pt x="106" y="155"/>
                </a:lnTo>
                <a:lnTo>
                  <a:pt x="115" y="117"/>
                </a:lnTo>
                <a:lnTo>
                  <a:pt x="127" y="78"/>
                </a:lnTo>
                <a:lnTo>
                  <a:pt x="135" y="59"/>
                </a:lnTo>
                <a:lnTo>
                  <a:pt x="142" y="42"/>
                </a:lnTo>
                <a:lnTo>
                  <a:pt x="152" y="23"/>
                </a:lnTo>
                <a:lnTo>
                  <a:pt x="161" y="6"/>
                </a:lnTo>
                <a:lnTo>
                  <a:pt x="163" y="4"/>
                </a:lnTo>
                <a:lnTo>
                  <a:pt x="169" y="2"/>
                </a:lnTo>
                <a:lnTo>
                  <a:pt x="175" y="0"/>
                </a:lnTo>
                <a:lnTo>
                  <a:pt x="181" y="0"/>
                </a:lnTo>
                <a:lnTo>
                  <a:pt x="186" y="2"/>
                </a:lnTo>
                <a:lnTo>
                  <a:pt x="194" y="4"/>
                </a:lnTo>
                <a:lnTo>
                  <a:pt x="200" y="7"/>
                </a:lnTo>
                <a:lnTo>
                  <a:pt x="204" y="15"/>
                </a:lnTo>
                <a:lnTo>
                  <a:pt x="211" y="34"/>
                </a:lnTo>
                <a:lnTo>
                  <a:pt x="215" y="53"/>
                </a:lnTo>
                <a:lnTo>
                  <a:pt x="217" y="71"/>
                </a:lnTo>
                <a:lnTo>
                  <a:pt x="217" y="90"/>
                </a:lnTo>
                <a:lnTo>
                  <a:pt x="217" y="107"/>
                </a:lnTo>
                <a:lnTo>
                  <a:pt x="213" y="126"/>
                </a:lnTo>
                <a:lnTo>
                  <a:pt x="209" y="144"/>
                </a:lnTo>
                <a:lnTo>
                  <a:pt x="204" y="163"/>
                </a:lnTo>
                <a:lnTo>
                  <a:pt x="192" y="197"/>
                </a:lnTo>
                <a:lnTo>
                  <a:pt x="183" y="234"/>
                </a:lnTo>
                <a:lnTo>
                  <a:pt x="177" y="253"/>
                </a:lnTo>
                <a:lnTo>
                  <a:pt x="173" y="272"/>
                </a:lnTo>
                <a:lnTo>
                  <a:pt x="171" y="291"/>
                </a:lnTo>
                <a:lnTo>
                  <a:pt x="169" y="311"/>
                </a:lnTo>
                <a:lnTo>
                  <a:pt x="334" y="98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Freeform 47"/>
          <p:cNvSpPr/>
          <p:nvPr/>
        </p:nvSpPr>
        <p:spPr>
          <a:xfrm>
            <a:off x="5477040" y="1373040"/>
            <a:ext cx="258480" cy="898560"/>
          </a:xfrm>
          <a:custGeom>
            <a:avLst/>
            <a:gdLst>
              <a:gd name="textAreaLeft" fmla="*/ 0 w 258480"/>
              <a:gd name="textAreaRight" fmla="*/ 258840 w 258480"/>
              <a:gd name="textAreaTop" fmla="*/ 0 h 898560"/>
              <a:gd name="textAreaBottom" fmla="*/ 898920 h 898560"/>
            </a:gdLst>
            <a:ahLst/>
            <a:rect l="textAreaLeft" t="textAreaTop" r="textAreaRight" b="textAreaBottom"/>
            <a:pathLst>
              <a:path w="163" h="566">
                <a:moveTo>
                  <a:pt x="163" y="0"/>
                </a:moveTo>
                <a:lnTo>
                  <a:pt x="149" y="40"/>
                </a:lnTo>
                <a:lnTo>
                  <a:pt x="134" y="80"/>
                </a:lnTo>
                <a:lnTo>
                  <a:pt x="117" y="119"/>
                </a:lnTo>
                <a:lnTo>
                  <a:pt x="99" y="157"/>
                </a:lnTo>
                <a:lnTo>
                  <a:pt x="80" y="195"/>
                </a:lnTo>
                <a:lnTo>
                  <a:pt x="63" y="236"/>
                </a:lnTo>
                <a:lnTo>
                  <a:pt x="49" y="276"/>
                </a:lnTo>
                <a:lnTo>
                  <a:pt x="38" y="320"/>
                </a:lnTo>
                <a:lnTo>
                  <a:pt x="30" y="351"/>
                </a:lnTo>
                <a:lnTo>
                  <a:pt x="24" y="379"/>
                </a:lnTo>
                <a:lnTo>
                  <a:pt x="21" y="410"/>
                </a:lnTo>
                <a:lnTo>
                  <a:pt x="15" y="441"/>
                </a:lnTo>
                <a:lnTo>
                  <a:pt x="11" y="472"/>
                </a:lnTo>
                <a:lnTo>
                  <a:pt x="7" y="504"/>
                </a:lnTo>
                <a:lnTo>
                  <a:pt x="3" y="535"/>
                </a:lnTo>
                <a:lnTo>
                  <a:pt x="0" y="566"/>
                </a:lnTo>
                <a:lnTo>
                  <a:pt x="7" y="554"/>
                </a:lnTo>
                <a:lnTo>
                  <a:pt x="13" y="541"/>
                </a:lnTo>
                <a:lnTo>
                  <a:pt x="17" y="529"/>
                </a:lnTo>
                <a:lnTo>
                  <a:pt x="21" y="516"/>
                </a:lnTo>
                <a:lnTo>
                  <a:pt x="26" y="489"/>
                </a:lnTo>
                <a:lnTo>
                  <a:pt x="30" y="462"/>
                </a:lnTo>
                <a:lnTo>
                  <a:pt x="34" y="435"/>
                </a:lnTo>
                <a:lnTo>
                  <a:pt x="38" y="408"/>
                </a:lnTo>
                <a:lnTo>
                  <a:pt x="44" y="381"/>
                </a:lnTo>
                <a:lnTo>
                  <a:pt x="53" y="356"/>
                </a:lnTo>
                <a:lnTo>
                  <a:pt x="72" y="314"/>
                </a:lnTo>
                <a:lnTo>
                  <a:pt x="92" y="272"/>
                </a:lnTo>
                <a:lnTo>
                  <a:pt x="109" y="228"/>
                </a:lnTo>
                <a:lnTo>
                  <a:pt x="124" y="184"/>
                </a:lnTo>
                <a:lnTo>
                  <a:pt x="138" y="138"/>
                </a:lnTo>
                <a:lnTo>
                  <a:pt x="149" y="92"/>
                </a:lnTo>
                <a:lnTo>
                  <a:pt x="157" y="46"/>
                </a:lnTo>
                <a:lnTo>
                  <a:pt x="163" y="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Freeform 48"/>
          <p:cNvSpPr/>
          <p:nvPr/>
        </p:nvSpPr>
        <p:spPr>
          <a:xfrm>
            <a:off x="5775480" y="1486080"/>
            <a:ext cx="239400" cy="465120"/>
          </a:xfrm>
          <a:custGeom>
            <a:avLst/>
            <a:gdLst>
              <a:gd name="textAreaLeft" fmla="*/ 0 w 239400"/>
              <a:gd name="textAreaRight" fmla="*/ 239760 w 239400"/>
              <a:gd name="textAreaTop" fmla="*/ 0 h 465120"/>
              <a:gd name="textAreaBottom" fmla="*/ 465480 h 465120"/>
            </a:gdLst>
            <a:ahLst/>
            <a:rect l="textAreaLeft" t="textAreaTop" r="textAreaRight" b="textAreaBottom"/>
            <a:pathLst>
              <a:path w="151" h="293">
                <a:moveTo>
                  <a:pt x="130" y="34"/>
                </a:moveTo>
                <a:lnTo>
                  <a:pt x="105" y="63"/>
                </a:lnTo>
                <a:lnTo>
                  <a:pt x="82" y="92"/>
                </a:lnTo>
                <a:lnTo>
                  <a:pt x="59" y="122"/>
                </a:lnTo>
                <a:lnTo>
                  <a:pt x="40" y="155"/>
                </a:lnTo>
                <a:lnTo>
                  <a:pt x="25" y="188"/>
                </a:lnTo>
                <a:lnTo>
                  <a:pt x="11" y="222"/>
                </a:lnTo>
                <a:lnTo>
                  <a:pt x="7" y="239"/>
                </a:lnTo>
                <a:lnTo>
                  <a:pt x="3" y="259"/>
                </a:lnTo>
                <a:lnTo>
                  <a:pt x="1" y="276"/>
                </a:lnTo>
                <a:lnTo>
                  <a:pt x="0" y="293"/>
                </a:lnTo>
                <a:lnTo>
                  <a:pt x="5" y="274"/>
                </a:lnTo>
                <a:lnTo>
                  <a:pt x="15" y="255"/>
                </a:lnTo>
                <a:lnTo>
                  <a:pt x="23" y="236"/>
                </a:lnTo>
                <a:lnTo>
                  <a:pt x="32" y="216"/>
                </a:lnTo>
                <a:lnTo>
                  <a:pt x="53" y="180"/>
                </a:lnTo>
                <a:lnTo>
                  <a:pt x="74" y="145"/>
                </a:lnTo>
                <a:lnTo>
                  <a:pt x="97" y="111"/>
                </a:lnTo>
                <a:lnTo>
                  <a:pt x="119" y="74"/>
                </a:lnTo>
                <a:lnTo>
                  <a:pt x="128" y="57"/>
                </a:lnTo>
                <a:lnTo>
                  <a:pt x="136" y="38"/>
                </a:lnTo>
                <a:lnTo>
                  <a:pt x="145" y="19"/>
                </a:lnTo>
                <a:lnTo>
                  <a:pt x="151" y="0"/>
                </a:lnTo>
                <a:lnTo>
                  <a:pt x="130" y="34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Freeform 49"/>
          <p:cNvSpPr/>
          <p:nvPr/>
        </p:nvSpPr>
        <p:spPr>
          <a:xfrm>
            <a:off x="5567400" y="1860480"/>
            <a:ext cx="901800" cy="654120"/>
          </a:xfrm>
          <a:custGeom>
            <a:avLst/>
            <a:gdLst/>
            <a:ahLst/>
            <a:rect l="l" t="t" r="r" b="b"/>
            <a:pathLst>
              <a:path w="568" h="412">
                <a:moveTo>
                  <a:pt x="520" y="9"/>
                </a:moveTo>
                <a:lnTo>
                  <a:pt x="451" y="55"/>
                </a:lnTo>
                <a:lnTo>
                  <a:pt x="382" y="101"/>
                </a:lnTo>
                <a:lnTo>
                  <a:pt x="313" y="147"/>
                </a:lnTo>
                <a:lnTo>
                  <a:pt x="248" y="195"/>
                </a:lnTo>
                <a:lnTo>
                  <a:pt x="182" y="245"/>
                </a:lnTo>
                <a:lnTo>
                  <a:pt x="119" y="299"/>
                </a:lnTo>
                <a:lnTo>
                  <a:pt x="88" y="326"/>
                </a:lnTo>
                <a:lnTo>
                  <a:pt x="58" y="353"/>
                </a:lnTo>
                <a:lnTo>
                  <a:pt x="29" y="381"/>
                </a:lnTo>
                <a:lnTo>
                  <a:pt x="0" y="412"/>
                </a:lnTo>
                <a:lnTo>
                  <a:pt x="71" y="360"/>
                </a:lnTo>
                <a:lnTo>
                  <a:pt x="142" y="308"/>
                </a:lnTo>
                <a:lnTo>
                  <a:pt x="211" y="257"/>
                </a:lnTo>
                <a:lnTo>
                  <a:pt x="282" y="203"/>
                </a:lnTo>
                <a:lnTo>
                  <a:pt x="351" y="149"/>
                </a:lnTo>
                <a:lnTo>
                  <a:pt x="422" y="97"/>
                </a:lnTo>
                <a:lnTo>
                  <a:pt x="495" y="47"/>
                </a:lnTo>
                <a:lnTo>
                  <a:pt x="568" y="0"/>
                </a:lnTo>
                <a:lnTo>
                  <a:pt x="568" y="1"/>
                </a:lnTo>
                <a:lnTo>
                  <a:pt x="568" y="1"/>
                </a:lnTo>
                <a:lnTo>
                  <a:pt x="568" y="3"/>
                </a:lnTo>
                <a:lnTo>
                  <a:pt x="568" y="5"/>
                </a:lnTo>
                <a:lnTo>
                  <a:pt x="568" y="5"/>
                </a:lnTo>
                <a:lnTo>
                  <a:pt x="568" y="7"/>
                </a:lnTo>
                <a:lnTo>
                  <a:pt x="568" y="9"/>
                </a:lnTo>
                <a:lnTo>
                  <a:pt x="568" y="9"/>
                </a:lnTo>
                <a:lnTo>
                  <a:pt x="520" y="9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Freeform 50"/>
          <p:cNvSpPr/>
          <p:nvPr/>
        </p:nvSpPr>
        <p:spPr>
          <a:xfrm>
            <a:off x="3243240" y="2584440"/>
            <a:ext cx="3540240" cy="1014480"/>
          </a:xfrm>
          <a:custGeom>
            <a:avLst/>
            <a:gdLst>
              <a:gd name="textAreaLeft" fmla="*/ 0 w 3540240"/>
              <a:gd name="textAreaRight" fmla="*/ 3540600 w 3540240"/>
              <a:gd name="textAreaTop" fmla="*/ 0 h 1014480"/>
              <a:gd name="textAreaBottom" fmla="*/ 1014840 h 1014480"/>
            </a:gdLst>
            <a:ahLst/>
            <a:rect l="textAreaLeft" t="textAreaTop" r="textAreaRight" b="textAreaBottom"/>
            <a:pathLst>
              <a:path w="2230" h="639">
                <a:moveTo>
                  <a:pt x="1050" y="215"/>
                </a:moveTo>
                <a:lnTo>
                  <a:pt x="1007" y="203"/>
                </a:lnTo>
                <a:lnTo>
                  <a:pt x="965" y="194"/>
                </a:lnTo>
                <a:lnTo>
                  <a:pt x="921" y="184"/>
                </a:lnTo>
                <a:lnTo>
                  <a:pt x="879" y="177"/>
                </a:lnTo>
                <a:lnTo>
                  <a:pt x="793" y="165"/>
                </a:lnTo>
                <a:lnTo>
                  <a:pt x="704" y="154"/>
                </a:lnTo>
                <a:lnTo>
                  <a:pt x="616" y="144"/>
                </a:lnTo>
                <a:lnTo>
                  <a:pt x="528" y="131"/>
                </a:lnTo>
                <a:lnTo>
                  <a:pt x="484" y="125"/>
                </a:lnTo>
                <a:lnTo>
                  <a:pt x="440" y="115"/>
                </a:lnTo>
                <a:lnTo>
                  <a:pt x="395" y="106"/>
                </a:lnTo>
                <a:lnTo>
                  <a:pt x="351" y="96"/>
                </a:lnTo>
                <a:lnTo>
                  <a:pt x="319" y="88"/>
                </a:lnTo>
                <a:lnTo>
                  <a:pt x="286" y="83"/>
                </a:lnTo>
                <a:lnTo>
                  <a:pt x="253" y="79"/>
                </a:lnTo>
                <a:lnTo>
                  <a:pt x="219" y="77"/>
                </a:lnTo>
                <a:lnTo>
                  <a:pt x="184" y="75"/>
                </a:lnTo>
                <a:lnTo>
                  <a:pt x="152" y="73"/>
                </a:lnTo>
                <a:lnTo>
                  <a:pt x="117" y="73"/>
                </a:lnTo>
                <a:lnTo>
                  <a:pt x="83" y="69"/>
                </a:lnTo>
                <a:lnTo>
                  <a:pt x="69" y="67"/>
                </a:lnTo>
                <a:lnTo>
                  <a:pt x="56" y="63"/>
                </a:lnTo>
                <a:lnTo>
                  <a:pt x="42" y="58"/>
                </a:lnTo>
                <a:lnTo>
                  <a:pt x="31" y="50"/>
                </a:lnTo>
                <a:lnTo>
                  <a:pt x="21" y="40"/>
                </a:lnTo>
                <a:lnTo>
                  <a:pt x="12" y="29"/>
                </a:lnTo>
                <a:lnTo>
                  <a:pt x="6" y="15"/>
                </a:lnTo>
                <a:lnTo>
                  <a:pt x="0" y="2"/>
                </a:lnTo>
                <a:lnTo>
                  <a:pt x="19" y="0"/>
                </a:lnTo>
                <a:lnTo>
                  <a:pt x="39" y="0"/>
                </a:lnTo>
                <a:lnTo>
                  <a:pt x="58" y="0"/>
                </a:lnTo>
                <a:lnTo>
                  <a:pt x="77" y="0"/>
                </a:lnTo>
                <a:lnTo>
                  <a:pt x="94" y="0"/>
                </a:lnTo>
                <a:lnTo>
                  <a:pt x="113" y="2"/>
                </a:lnTo>
                <a:lnTo>
                  <a:pt x="133" y="4"/>
                </a:lnTo>
                <a:lnTo>
                  <a:pt x="152" y="6"/>
                </a:lnTo>
                <a:lnTo>
                  <a:pt x="232" y="21"/>
                </a:lnTo>
                <a:lnTo>
                  <a:pt x="309" y="35"/>
                </a:lnTo>
                <a:lnTo>
                  <a:pt x="386" y="46"/>
                </a:lnTo>
                <a:lnTo>
                  <a:pt x="461" y="58"/>
                </a:lnTo>
                <a:lnTo>
                  <a:pt x="535" y="71"/>
                </a:lnTo>
                <a:lnTo>
                  <a:pt x="612" y="85"/>
                </a:lnTo>
                <a:lnTo>
                  <a:pt x="687" y="98"/>
                </a:lnTo>
                <a:lnTo>
                  <a:pt x="766" y="115"/>
                </a:lnTo>
                <a:lnTo>
                  <a:pt x="794" y="123"/>
                </a:lnTo>
                <a:lnTo>
                  <a:pt x="823" y="131"/>
                </a:lnTo>
                <a:lnTo>
                  <a:pt x="850" y="140"/>
                </a:lnTo>
                <a:lnTo>
                  <a:pt x="877" y="148"/>
                </a:lnTo>
                <a:lnTo>
                  <a:pt x="906" y="157"/>
                </a:lnTo>
                <a:lnTo>
                  <a:pt x="933" y="167"/>
                </a:lnTo>
                <a:lnTo>
                  <a:pt x="961" y="175"/>
                </a:lnTo>
                <a:lnTo>
                  <a:pt x="992" y="182"/>
                </a:lnTo>
                <a:lnTo>
                  <a:pt x="1009" y="188"/>
                </a:lnTo>
                <a:lnTo>
                  <a:pt x="1027" y="196"/>
                </a:lnTo>
                <a:lnTo>
                  <a:pt x="1040" y="205"/>
                </a:lnTo>
                <a:lnTo>
                  <a:pt x="1055" y="217"/>
                </a:lnTo>
                <a:lnTo>
                  <a:pt x="1071" y="228"/>
                </a:lnTo>
                <a:lnTo>
                  <a:pt x="1086" y="238"/>
                </a:lnTo>
                <a:lnTo>
                  <a:pt x="1103" y="246"/>
                </a:lnTo>
                <a:lnTo>
                  <a:pt x="1121" y="249"/>
                </a:lnTo>
                <a:lnTo>
                  <a:pt x="1157" y="255"/>
                </a:lnTo>
                <a:lnTo>
                  <a:pt x="1194" y="263"/>
                </a:lnTo>
                <a:lnTo>
                  <a:pt x="1230" y="273"/>
                </a:lnTo>
                <a:lnTo>
                  <a:pt x="1265" y="282"/>
                </a:lnTo>
                <a:lnTo>
                  <a:pt x="1301" y="294"/>
                </a:lnTo>
                <a:lnTo>
                  <a:pt x="1336" y="307"/>
                </a:lnTo>
                <a:lnTo>
                  <a:pt x="1370" y="322"/>
                </a:lnTo>
                <a:lnTo>
                  <a:pt x="1405" y="338"/>
                </a:lnTo>
                <a:lnTo>
                  <a:pt x="1472" y="370"/>
                </a:lnTo>
                <a:lnTo>
                  <a:pt x="1539" y="405"/>
                </a:lnTo>
                <a:lnTo>
                  <a:pt x="1606" y="441"/>
                </a:lnTo>
                <a:lnTo>
                  <a:pt x="1671" y="476"/>
                </a:lnTo>
                <a:lnTo>
                  <a:pt x="1694" y="489"/>
                </a:lnTo>
                <a:lnTo>
                  <a:pt x="1719" y="501"/>
                </a:lnTo>
                <a:lnTo>
                  <a:pt x="1744" y="510"/>
                </a:lnTo>
                <a:lnTo>
                  <a:pt x="1771" y="520"/>
                </a:lnTo>
                <a:lnTo>
                  <a:pt x="1823" y="535"/>
                </a:lnTo>
                <a:lnTo>
                  <a:pt x="1875" y="549"/>
                </a:lnTo>
                <a:lnTo>
                  <a:pt x="1926" y="562"/>
                </a:lnTo>
                <a:lnTo>
                  <a:pt x="1980" y="578"/>
                </a:lnTo>
                <a:lnTo>
                  <a:pt x="2005" y="587"/>
                </a:lnTo>
                <a:lnTo>
                  <a:pt x="2030" y="597"/>
                </a:lnTo>
                <a:lnTo>
                  <a:pt x="2055" y="608"/>
                </a:lnTo>
                <a:lnTo>
                  <a:pt x="2080" y="622"/>
                </a:lnTo>
                <a:lnTo>
                  <a:pt x="2088" y="625"/>
                </a:lnTo>
                <a:lnTo>
                  <a:pt x="2097" y="629"/>
                </a:lnTo>
                <a:lnTo>
                  <a:pt x="2107" y="631"/>
                </a:lnTo>
                <a:lnTo>
                  <a:pt x="2115" y="631"/>
                </a:lnTo>
                <a:lnTo>
                  <a:pt x="2134" y="631"/>
                </a:lnTo>
                <a:lnTo>
                  <a:pt x="2153" y="629"/>
                </a:lnTo>
                <a:lnTo>
                  <a:pt x="2172" y="627"/>
                </a:lnTo>
                <a:lnTo>
                  <a:pt x="2193" y="629"/>
                </a:lnTo>
                <a:lnTo>
                  <a:pt x="2203" y="629"/>
                </a:lnTo>
                <a:lnTo>
                  <a:pt x="2212" y="631"/>
                </a:lnTo>
                <a:lnTo>
                  <a:pt x="2222" y="635"/>
                </a:lnTo>
                <a:lnTo>
                  <a:pt x="2230" y="639"/>
                </a:lnTo>
                <a:lnTo>
                  <a:pt x="2210" y="624"/>
                </a:lnTo>
                <a:lnTo>
                  <a:pt x="2189" y="608"/>
                </a:lnTo>
                <a:lnTo>
                  <a:pt x="2166" y="597"/>
                </a:lnTo>
                <a:lnTo>
                  <a:pt x="2143" y="587"/>
                </a:lnTo>
                <a:lnTo>
                  <a:pt x="2097" y="570"/>
                </a:lnTo>
                <a:lnTo>
                  <a:pt x="2047" y="555"/>
                </a:lnTo>
                <a:lnTo>
                  <a:pt x="1999" y="543"/>
                </a:lnTo>
                <a:lnTo>
                  <a:pt x="1950" y="528"/>
                </a:lnTo>
                <a:lnTo>
                  <a:pt x="1925" y="518"/>
                </a:lnTo>
                <a:lnTo>
                  <a:pt x="1902" y="508"/>
                </a:lnTo>
                <a:lnTo>
                  <a:pt x="1877" y="497"/>
                </a:lnTo>
                <a:lnTo>
                  <a:pt x="1854" y="484"/>
                </a:lnTo>
                <a:lnTo>
                  <a:pt x="1836" y="472"/>
                </a:lnTo>
                <a:lnTo>
                  <a:pt x="1819" y="459"/>
                </a:lnTo>
                <a:lnTo>
                  <a:pt x="1802" y="447"/>
                </a:lnTo>
                <a:lnTo>
                  <a:pt x="1783" y="434"/>
                </a:lnTo>
                <a:lnTo>
                  <a:pt x="1765" y="424"/>
                </a:lnTo>
                <a:lnTo>
                  <a:pt x="1748" y="413"/>
                </a:lnTo>
                <a:lnTo>
                  <a:pt x="1729" y="405"/>
                </a:lnTo>
                <a:lnTo>
                  <a:pt x="1710" y="397"/>
                </a:lnTo>
                <a:lnTo>
                  <a:pt x="1671" y="386"/>
                </a:lnTo>
                <a:lnTo>
                  <a:pt x="1637" y="372"/>
                </a:lnTo>
                <a:lnTo>
                  <a:pt x="1600" y="359"/>
                </a:lnTo>
                <a:lnTo>
                  <a:pt x="1566" y="343"/>
                </a:lnTo>
                <a:lnTo>
                  <a:pt x="1529" y="332"/>
                </a:lnTo>
                <a:lnTo>
                  <a:pt x="1493" y="322"/>
                </a:lnTo>
                <a:lnTo>
                  <a:pt x="1474" y="320"/>
                </a:lnTo>
                <a:lnTo>
                  <a:pt x="1456" y="319"/>
                </a:lnTo>
                <a:lnTo>
                  <a:pt x="1435" y="319"/>
                </a:lnTo>
                <a:lnTo>
                  <a:pt x="1416" y="319"/>
                </a:lnTo>
                <a:lnTo>
                  <a:pt x="1414" y="317"/>
                </a:lnTo>
                <a:lnTo>
                  <a:pt x="1410" y="313"/>
                </a:lnTo>
                <a:lnTo>
                  <a:pt x="1408" y="307"/>
                </a:lnTo>
                <a:lnTo>
                  <a:pt x="1405" y="301"/>
                </a:lnTo>
                <a:lnTo>
                  <a:pt x="1401" y="296"/>
                </a:lnTo>
                <a:lnTo>
                  <a:pt x="1395" y="290"/>
                </a:lnTo>
                <a:lnTo>
                  <a:pt x="1389" y="286"/>
                </a:lnTo>
                <a:lnTo>
                  <a:pt x="1382" y="286"/>
                </a:lnTo>
                <a:lnTo>
                  <a:pt x="1412" y="282"/>
                </a:lnTo>
                <a:lnTo>
                  <a:pt x="1443" y="278"/>
                </a:lnTo>
                <a:lnTo>
                  <a:pt x="1476" y="274"/>
                </a:lnTo>
                <a:lnTo>
                  <a:pt x="1506" y="271"/>
                </a:lnTo>
                <a:lnTo>
                  <a:pt x="1537" y="265"/>
                </a:lnTo>
                <a:lnTo>
                  <a:pt x="1568" y="259"/>
                </a:lnTo>
                <a:lnTo>
                  <a:pt x="1598" y="251"/>
                </a:lnTo>
                <a:lnTo>
                  <a:pt x="1627" y="244"/>
                </a:lnTo>
                <a:lnTo>
                  <a:pt x="1664" y="232"/>
                </a:lnTo>
                <a:lnTo>
                  <a:pt x="1698" y="219"/>
                </a:lnTo>
                <a:lnTo>
                  <a:pt x="1735" y="205"/>
                </a:lnTo>
                <a:lnTo>
                  <a:pt x="1769" y="190"/>
                </a:lnTo>
                <a:lnTo>
                  <a:pt x="1842" y="159"/>
                </a:lnTo>
                <a:lnTo>
                  <a:pt x="1913" y="131"/>
                </a:lnTo>
                <a:lnTo>
                  <a:pt x="1950" y="117"/>
                </a:lnTo>
                <a:lnTo>
                  <a:pt x="1984" y="104"/>
                </a:lnTo>
                <a:lnTo>
                  <a:pt x="2021" y="94"/>
                </a:lnTo>
                <a:lnTo>
                  <a:pt x="2057" y="86"/>
                </a:lnTo>
                <a:lnTo>
                  <a:pt x="2095" y="83"/>
                </a:lnTo>
                <a:lnTo>
                  <a:pt x="2132" y="79"/>
                </a:lnTo>
                <a:lnTo>
                  <a:pt x="2170" y="81"/>
                </a:lnTo>
                <a:lnTo>
                  <a:pt x="2207" y="85"/>
                </a:lnTo>
                <a:lnTo>
                  <a:pt x="2187" y="98"/>
                </a:lnTo>
                <a:lnTo>
                  <a:pt x="2166" y="108"/>
                </a:lnTo>
                <a:lnTo>
                  <a:pt x="2145" y="117"/>
                </a:lnTo>
                <a:lnTo>
                  <a:pt x="2124" y="125"/>
                </a:lnTo>
                <a:lnTo>
                  <a:pt x="2078" y="136"/>
                </a:lnTo>
                <a:lnTo>
                  <a:pt x="2034" y="146"/>
                </a:lnTo>
                <a:lnTo>
                  <a:pt x="1988" y="154"/>
                </a:lnTo>
                <a:lnTo>
                  <a:pt x="1942" y="161"/>
                </a:lnTo>
                <a:lnTo>
                  <a:pt x="1919" y="167"/>
                </a:lnTo>
                <a:lnTo>
                  <a:pt x="1896" y="173"/>
                </a:lnTo>
                <a:lnTo>
                  <a:pt x="1873" y="179"/>
                </a:lnTo>
                <a:lnTo>
                  <a:pt x="1852" y="186"/>
                </a:lnTo>
                <a:lnTo>
                  <a:pt x="1832" y="192"/>
                </a:lnTo>
                <a:lnTo>
                  <a:pt x="1811" y="196"/>
                </a:lnTo>
                <a:lnTo>
                  <a:pt x="1792" y="196"/>
                </a:lnTo>
                <a:lnTo>
                  <a:pt x="1771" y="196"/>
                </a:lnTo>
                <a:lnTo>
                  <a:pt x="1752" y="194"/>
                </a:lnTo>
                <a:lnTo>
                  <a:pt x="1731" y="194"/>
                </a:lnTo>
                <a:lnTo>
                  <a:pt x="1710" y="196"/>
                </a:lnTo>
                <a:lnTo>
                  <a:pt x="1689" y="200"/>
                </a:lnTo>
                <a:lnTo>
                  <a:pt x="1673" y="203"/>
                </a:lnTo>
                <a:lnTo>
                  <a:pt x="1658" y="209"/>
                </a:lnTo>
                <a:lnTo>
                  <a:pt x="1643" y="213"/>
                </a:lnTo>
                <a:lnTo>
                  <a:pt x="1627" y="217"/>
                </a:lnTo>
                <a:lnTo>
                  <a:pt x="1614" y="221"/>
                </a:lnTo>
                <a:lnTo>
                  <a:pt x="1598" y="226"/>
                </a:lnTo>
                <a:lnTo>
                  <a:pt x="1583" y="232"/>
                </a:lnTo>
                <a:lnTo>
                  <a:pt x="1570" y="238"/>
                </a:lnTo>
                <a:lnTo>
                  <a:pt x="1050" y="215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Freeform 51"/>
          <p:cNvSpPr/>
          <p:nvPr/>
        </p:nvSpPr>
        <p:spPr>
          <a:xfrm>
            <a:off x="5378400" y="3333600"/>
            <a:ext cx="957240" cy="806760"/>
          </a:xfrm>
          <a:custGeom>
            <a:avLst/>
            <a:gdLst>
              <a:gd name="textAreaLeft" fmla="*/ 0 w 957240"/>
              <a:gd name="textAreaRight" fmla="*/ 957600 w 957240"/>
              <a:gd name="textAreaTop" fmla="*/ 0 h 806760"/>
              <a:gd name="textAreaBottom" fmla="*/ 807120 h 806760"/>
            </a:gdLst>
            <a:ahLst/>
            <a:rect l="textAreaLeft" t="textAreaTop" r="textAreaRight" b="textAreaBottom"/>
            <a:pathLst>
              <a:path w="603" h="508">
                <a:moveTo>
                  <a:pt x="37" y="2"/>
                </a:moveTo>
                <a:lnTo>
                  <a:pt x="46" y="6"/>
                </a:lnTo>
                <a:lnTo>
                  <a:pt x="58" y="8"/>
                </a:lnTo>
                <a:lnTo>
                  <a:pt x="69" y="12"/>
                </a:lnTo>
                <a:lnTo>
                  <a:pt x="79" y="17"/>
                </a:lnTo>
                <a:lnTo>
                  <a:pt x="90" y="21"/>
                </a:lnTo>
                <a:lnTo>
                  <a:pt x="100" y="27"/>
                </a:lnTo>
                <a:lnTo>
                  <a:pt x="108" y="33"/>
                </a:lnTo>
                <a:lnTo>
                  <a:pt x="117" y="40"/>
                </a:lnTo>
                <a:lnTo>
                  <a:pt x="182" y="98"/>
                </a:lnTo>
                <a:lnTo>
                  <a:pt x="244" y="155"/>
                </a:lnTo>
                <a:lnTo>
                  <a:pt x="305" y="215"/>
                </a:lnTo>
                <a:lnTo>
                  <a:pt x="365" y="272"/>
                </a:lnTo>
                <a:lnTo>
                  <a:pt x="422" y="332"/>
                </a:lnTo>
                <a:lnTo>
                  <a:pt x="482" y="391"/>
                </a:lnTo>
                <a:lnTo>
                  <a:pt x="541" y="451"/>
                </a:lnTo>
                <a:lnTo>
                  <a:pt x="603" y="508"/>
                </a:lnTo>
                <a:lnTo>
                  <a:pt x="591" y="506"/>
                </a:lnTo>
                <a:lnTo>
                  <a:pt x="581" y="503"/>
                </a:lnTo>
                <a:lnTo>
                  <a:pt x="570" y="499"/>
                </a:lnTo>
                <a:lnTo>
                  <a:pt x="560" y="495"/>
                </a:lnTo>
                <a:lnTo>
                  <a:pt x="549" y="491"/>
                </a:lnTo>
                <a:lnTo>
                  <a:pt x="539" y="485"/>
                </a:lnTo>
                <a:lnTo>
                  <a:pt x="530" y="480"/>
                </a:lnTo>
                <a:lnTo>
                  <a:pt x="522" y="472"/>
                </a:lnTo>
                <a:lnTo>
                  <a:pt x="499" y="453"/>
                </a:lnTo>
                <a:lnTo>
                  <a:pt x="478" y="435"/>
                </a:lnTo>
                <a:lnTo>
                  <a:pt x="457" y="416"/>
                </a:lnTo>
                <a:lnTo>
                  <a:pt x="436" y="397"/>
                </a:lnTo>
                <a:lnTo>
                  <a:pt x="415" y="378"/>
                </a:lnTo>
                <a:lnTo>
                  <a:pt x="393" y="361"/>
                </a:lnTo>
                <a:lnTo>
                  <a:pt x="370" y="343"/>
                </a:lnTo>
                <a:lnTo>
                  <a:pt x="346" y="324"/>
                </a:lnTo>
                <a:lnTo>
                  <a:pt x="305" y="294"/>
                </a:lnTo>
                <a:lnTo>
                  <a:pt x="267" y="263"/>
                </a:lnTo>
                <a:lnTo>
                  <a:pt x="232" y="228"/>
                </a:lnTo>
                <a:lnTo>
                  <a:pt x="198" y="194"/>
                </a:lnTo>
                <a:lnTo>
                  <a:pt x="163" y="157"/>
                </a:lnTo>
                <a:lnTo>
                  <a:pt x="129" y="123"/>
                </a:lnTo>
                <a:lnTo>
                  <a:pt x="92" y="86"/>
                </a:lnTo>
                <a:lnTo>
                  <a:pt x="54" y="54"/>
                </a:lnTo>
                <a:lnTo>
                  <a:pt x="48" y="50"/>
                </a:lnTo>
                <a:lnTo>
                  <a:pt x="42" y="46"/>
                </a:lnTo>
                <a:lnTo>
                  <a:pt x="35" y="40"/>
                </a:lnTo>
                <a:lnTo>
                  <a:pt x="27" y="36"/>
                </a:lnTo>
                <a:lnTo>
                  <a:pt x="21" y="31"/>
                </a:lnTo>
                <a:lnTo>
                  <a:pt x="15" y="23"/>
                </a:lnTo>
                <a:lnTo>
                  <a:pt x="10" y="13"/>
                </a:lnTo>
                <a:lnTo>
                  <a:pt x="8" y="2"/>
                </a:lnTo>
                <a:lnTo>
                  <a:pt x="8" y="0"/>
                </a:lnTo>
                <a:lnTo>
                  <a:pt x="6" y="0"/>
                </a:lnTo>
                <a:lnTo>
                  <a:pt x="4" y="0"/>
                </a:lnTo>
                <a:lnTo>
                  <a:pt x="4" y="2"/>
                </a:lnTo>
                <a:lnTo>
                  <a:pt x="2" y="4"/>
                </a:lnTo>
                <a:lnTo>
                  <a:pt x="0" y="8"/>
                </a:lnTo>
                <a:lnTo>
                  <a:pt x="0" y="10"/>
                </a:lnTo>
                <a:lnTo>
                  <a:pt x="0" y="15"/>
                </a:lnTo>
                <a:lnTo>
                  <a:pt x="37" y="2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Freeform 52"/>
          <p:cNvSpPr/>
          <p:nvPr/>
        </p:nvSpPr>
        <p:spPr>
          <a:xfrm>
            <a:off x="5477040" y="3543480"/>
            <a:ext cx="653760" cy="768240"/>
          </a:xfrm>
          <a:custGeom>
            <a:avLst/>
            <a:gdLst>
              <a:gd name="textAreaLeft" fmla="*/ 0 w 653760"/>
              <a:gd name="textAreaRight" fmla="*/ 653760 w 653760"/>
              <a:gd name="textAreaTop" fmla="*/ 0 h 768240"/>
              <a:gd name="textAreaBottom" fmla="*/ 768600 h 768240"/>
            </a:gdLst>
            <a:ahLst/>
            <a:rect l="textAreaLeft" t="textAreaTop" r="textAreaRight" b="textAreaBottom"/>
            <a:pathLst>
              <a:path w="412" h="484">
                <a:moveTo>
                  <a:pt x="0" y="0"/>
                </a:moveTo>
                <a:lnTo>
                  <a:pt x="17" y="10"/>
                </a:lnTo>
                <a:lnTo>
                  <a:pt x="34" y="21"/>
                </a:lnTo>
                <a:lnTo>
                  <a:pt x="51" y="35"/>
                </a:lnTo>
                <a:lnTo>
                  <a:pt x="67" y="50"/>
                </a:lnTo>
                <a:lnTo>
                  <a:pt x="80" y="66"/>
                </a:lnTo>
                <a:lnTo>
                  <a:pt x="94" y="81"/>
                </a:lnTo>
                <a:lnTo>
                  <a:pt x="107" y="96"/>
                </a:lnTo>
                <a:lnTo>
                  <a:pt x="120" y="112"/>
                </a:lnTo>
                <a:lnTo>
                  <a:pt x="161" y="156"/>
                </a:lnTo>
                <a:lnTo>
                  <a:pt x="201" y="202"/>
                </a:lnTo>
                <a:lnTo>
                  <a:pt x="239" y="246"/>
                </a:lnTo>
                <a:lnTo>
                  <a:pt x="278" y="290"/>
                </a:lnTo>
                <a:lnTo>
                  <a:pt x="312" y="336"/>
                </a:lnTo>
                <a:lnTo>
                  <a:pt x="347" y="384"/>
                </a:lnTo>
                <a:lnTo>
                  <a:pt x="381" y="432"/>
                </a:lnTo>
                <a:lnTo>
                  <a:pt x="412" y="484"/>
                </a:lnTo>
                <a:lnTo>
                  <a:pt x="404" y="476"/>
                </a:lnTo>
                <a:lnTo>
                  <a:pt x="395" y="468"/>
                </a:lnTo>
                <a:lnTo>
                  <a:pt x="385" y="465"/>
                </a:lnTo>
                <a:lnTo>
                  <a:pt x="376" y="459"/>
                </a:lnTo>
                <a:lnTo>
                  <a:pt x="366" y="455"/>
                </a:lnTo>
                <a:lnTo>
                  <a:pt x="356" y="449"/>
                </a:lnTo>
                <a:lnTo>
                  <a:pt x="349" y="444"/>
                </a:lnTo>
                <a:lnTo>
                  <a:pt x="343" y="434"/>
                </a:lnTo>
                <a:lnTo>
                  <a:pt x="335" y="422"/>
                </a:lnTo>
                <a:lnTo>
                  <a:pt x="330" y="411"/>
                </a:lnTo>
                <a:lnTo>
                  <a:pt x="324" y="399"/>
                </a:lnTo>
                <a:lnTo>
                  <a:pt x="318" y="386"/>
                </a:lnTo>
                <a:lnTo>
                  <a:pt x="312" y="374"/>
                </a:lnTo>
                <a:lnTo>
                  <a:pt x="305" y="363"/>
                </a:lnTo>
                <a:lnTo>
                  <a:pt x="299" y="353"/>
                </a:lnTo>
                <a:lnTo>
                  <a:pt x="289" y="346"/>
                </a:lnTo>
                <a:lnTo>
                  <a:pt x="255" y="313"/>
                </a:lnTo>
                <a:lnTo>
                  <a:pt x="222" y="280"/>
                </a:lnTo>
                <a:lnTo>
                  <a:pt x="189" y="246"/>
                </a:lnTo>
                <a:lnTo>
                  <a:pt x="159" y="211"/>
                </a:lnTo>
                <a:lnTo>
                  <a:pt x="130" y="175"/>
                </a:lnTo>
                <a:lnTo>
                  <a:pt x="105" y="137"/>
                </a:lnTo>
                <a:lnTo>
                  <a:pt x="80" y="98"/>
                </a:lnTo>
                <a:lnTo>
                  <a:pt x="57" y="58"/>
                </a:lnTo>
                <a:lnTo>
                  <a:pt x="0" y="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Freeform 53"/>
          <p:cNvSpPr/>
          <p:nvPr/>
        </p:nvSpPr>
        <p:spPr>
          <a:xfrm>
            <a:off x="5342040" y="3486240"/>
            <a:ext cx="547560" cy="974520"/>
          </a:xfrm>
          <a:custGeom>
            <a:avLst/>
            <a:gdLst>
              <a:gd name="textAreaLeft" fmla="*/ 0 w 547560"/>
              <a:gd name="textAreaRight" fmla="*/ 547920 w 547560"/>
              <a:gd name="textAreaTop" fmla="*/ 0 h 974520"/>
              <a:gd name="textAreaBottom" fmla="*/ 974880 h 974520"/>
            </a:gdLst>
            <a:ahLst/>
            <a:rect l="textAreaLeft" t="textAreaTop" r="textAreaRight" b="textAreaBottom"/>
            <a:pathLst>
              <a:path w="345" h="614">
                <a:moveTo>
                  <a:pt x="0" y="0"/>
                </a:moveTo>
                <a:lnTo>
                  <a:pt x="25" y="31"/>
                </a:lnTo>
                <a:lnTo>
                  <a:pt x="50" y="63"/>
                </a:lnTo>
                <a:lnTo>
                  <a:pt x="73" y="94"/>
                </a:lnTo>
                <a:lnTo>
                  <a:pt x="96" y="127"/>
                </a:lnTo>
                <a:lnTo>
                  <a:pt x="138" y="194"/>
                </a:lnTo>
                <a:lnTo>
                  <a:pt x="179" y="263"/>
                </a:lnTo>
                <a:lnTo>
                  <a:pt x="217" y="332"/>
                </a:lnTo>
                <a:lnTo>
                  <a:pt x="255" y="403"/>
                </a:lnTo>
                <a:lnTo>
                  <a:pt x="296" y="474"/>
                </a:lnTo>
                <a:lnTo>
                  <a:pt x="338" y="545"/>
                </a:lnTo>
                <a:lnTo>
                  <a:pt x="342" y="552"/>
                </a:lnTo>
                <a:lnTo>
                  <a:pt x="345" y="560"/>
                </a:lnTo>
                <a:lnTo>
                  <a:pt x="345" y="568"/>
                </a:lnTo>
                <a:lnTo>
                  <a:pt x="345" y="577"/>
                </a:lnTo>
                <a:lnTo>
                  <a:pt x="345" y="587"/>
                </a:lnTo>
                <a:lnTo>
                  <a:pt x="345" y="595"/>
                </a:lnTo>
                <a:lnTo>
                  <a:pt x="344" y="604"/>
                </a:lnTo>
                <a:lnTo>
                  <a:pt x="344" y="614"/>
                </a:lnTo>
                <a:lnTo>
                  <a:pt x="330" y="595"/>
                </a:lnTo>
                <a:lnTo>
                  <a:pt x="319" y="574"/>
                </a:lnTo>
                <a:lnTo>
                  <a:pt x="307" y="554"/>
                </a:lnTo>
                <a:lnTo>
                  <a:pt x="298" y="533"/>
                </a:lnTo>
                <a:lnTo>
                  <a:pt x="278" y="489"/>
                </a:lnTo>
                <a:lnTo>
                  <a:pt x="261" y="445"/>
                </a:lnTo>
                <a:lnTo>
                  <a:pt x="242" y="403"/>
                </a:lnTo>
                <a:lnTo>
                  <a:pt x="223" y="362"/>
                </a:lnTo>
                <a:lnTo>
                  <a:pt x="211" y="345"/>
                </a:lnTo>
                <a:lnTo>
                  <a:pt x="198" y="326"/>
                </a:lnTo>
                <a:lnTo>
                  <a:pt x="184" y="311"/>
                </a:lnTo>
                <a:lnTo>
                  <a:pt x="169" y="295"/>
                </a:lnTo>
                <a:lnTo>
                  <a:pt x="156" y="284"/>
                </a:lnTo>
                <a:lnTo>
                  <a:pt x="142" y="270"/>
                </a:lnTo>
                <a:lnTo>
                  <a:pt x="131" y="255"/>
                </a:lnTo>
                <a:lnTo>
                  <a:pt x="119" y="240"/>
                </a:lnTo>
                <a:lnTo>
                  <a:pt x="109" y="224"/>
                </a:lnTo>
                <a:lnTo>
                  <a:pt x="102" y="207"/>
                </a:lnTo>
                <a:lnTo>
                  <a:pt x="92" y="188"/>
                </a:lnTo>
                <a:lnTo>
                  <a:pt x="86" y="171"/>
                </a:lnTo>
                <a:lnTo>
                  <a:pt x="73" y="134"/>
                </a:lnTo>
                <a:lnTo>
                  <a:pt x="65" y="96"/>
                </a:lnTo>
                <a:lnTo>
                  <a:pt x="60" y="59"/>
                </a:lnTo>
                <a:lnTo>
                  <a:pt x="60" y="23"/>
                </a:lnTo>
                <a:lnTo>
                  <a:pt x="0" y="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Freeform 54"/>
          <p:cNvSpPr/>
          <p:nvPr/>
        </p:nvSpPr>
        <p:spPr>
          <a:xfrm>
            <a:off x="5662440" y="4010040"/>
            <a:ext cx="298800" cy="690480"/>
          </a:xfrm>
          <a:custGeom>
            <a:avLst/>
            <a:gdLst>
              <a:gd name="textAreaLeft" fmla="*/ 0 w 298800"/>
              <a:gd name="textAreaRight" fmla="*/ 299160 w 298800"/>
              <a:gd name="textAreaTop" fmla="*/ 0 h 690480"/>
              <a:gd name="textAreaBottom" fmla="*/ 690840 h 690480"/>
            </a:gdLst>
            <a:ahLst/>
            <a:rect l="textAreaLeft" t="textAreaTop" r="textAreaRight" b="textAreaBottom"/>
            <a:pathLst>
              <a:path w="188" h="435">
                <a:moveTo>
                  <a:pt x="105" y="190"/>
                </a:moveTo>
                <a:lnTo>
                  <a:pt x="111" y="199"/>
                </a:lnTo>
                <a:lnTo>
                  <a:pt x="117" y="211"/>
                </a:lnTo>
                <a:lnTo>
                  <a:pt x="122" y="222"/>
                </a:lnTo>
                <a:lnTo>
                  <a:pt x="128" y="232"/>
                </a:lnTo>
                <a:lnTo>
                  <a:pt x="134" y="244"/>
                </a:lnTo>
                <a:lnTo>
                  <a:pt x="138" y="253"/>
                </a:lnTo>
                <a:lnTo>
                  <a:pt x="142" y="263"/>
                </a:lnTo>
                <a:lnTo>
                  <a:pt x="143" y="272"/>
                </a:lnTo>
                <a:lnTo>
                  <a:pt x="147" y="293"/>
                </a:lnTo>
                <a:lnTo>
                  <a:pt x="153" y="314"/>
                </a:lnTo>
                <a:lnTo>
                  <a:pt x="161" y="336"/>
                </a:lnTo>
                <a:lnTo>
                  <a:pt x="167" y="355"/>
                </a:lnTo>
                <a:lnTo>
                  <a:pt x="174" y="374"/>
                </a:lnTo>
                <a:lnTo>
                  <a:pt x="180" y="393"/>
                </a:lnTo>
                <a:lnTo>
                  <a:pt x="184" y="414"/>
                </a:lnTo>
                <a:lnTo>
                  <a:pt x="188" y="435"/>
                </a:lnTo>
                <a:lnTo>
                  <a:pt x="178" y="428"/>
                </a:lnTo>
                <a:lnTo>
                  <a:pt x="168" y="418"/>
                </a:lnTo>
                <a:lnTo>
                  <a:pt x="161" y="410"/>
                </a:lnTo>
                <a:lnTo>
                  <a:pt x="151" y="403"/>
                </a:lnTo>
                <a:lnTo>
                  <a:pt x="142" y="393"/>
                </a:lnTo>
                <a:lnTo>
                  <a:pt x="134" y="384"/>
                </a:lnTo>
                <a:lnTo>
                  <a:pt x="126" y="374"/>
                </a:lnTo>
                <a:lnTo>
                  <a:pt x="120" y="364"/>
                </a:lnTo>
                <a:lnTo>
                  <a:pt x="113" y="339"/>
                </a:lnTo>
                <a:lnTo>
                  <a:pt x="105" y="313"/>
                </a:lnTo>
                <a:lnTo>
                  <a:pt x="97" y="288"/>
                </a:lnTo>
                <a:lnTo>
                  <a:pt x="92" y="261"/>
                </a:lnTo>
                <a:lnTo>
                  <a:pt x="86" y="234"/>
                </a:lnTo>
                <a:lnTo>
                  <a:pt x="80" y="207"/>
                </a:lnTo>
                <a:lnTo>
                  <a:pt x="74" y="182"/>
                </a:lnTo>
                <a:lnTo>
                  <a:pt x="65" y="155"/>
                </a:lnTo>
                <a:lnTo>
                  <a:pt x="57" y="136"/>
                </a:lnTo>
                <a:lnTo>
                  <a:pt x="49" y="117"/>
                </a:lnTo>
                <a:lnTo>
                  <a:pt x="40" y="98"/>
                </a:lnTo>
                <a:lnTo>
                  <a:pt x="32" y="79"/>
                </a:lnTo>
                <a:lnTo>
                  <a:pt x="23" y="59"/>
                </a:lnTo>
                <a:lnTo>
                  <a:pt x="13" y="40"/>
                </a:lnTo>
                <a:lnTo>
                  <a:pt x="5" y="21"/>
                </a:lnTo>
                <a:lnTo>
                  <a:pt x="0" y="0"/>
                </a:lnTo>
                <a:lnTo>
                  <a:pt x="7" y="8"/>
                </a:lnTo>
                <a:lnTo>
                  <a:pt x="15" y="13"/>
                </a:lnTo>
                <a:lnTo>
                  <a:pt x="25" y="19"/>
                </a:lnTo>
                <a:lnTo>
                  <a:pt x="32" y="27"/>
                </a:lnTo>
                <a:lnTo>
                  <a:pt x="40" y="32"/>
                </a:lnTo>
                <a:lnTo>
                  <a:pt x="48" y="40"/>
                </a:lnTo>
                <a:lnTo>
                  <a:pt x="53" y="50"/>
                </a:lnTo>
                <a:lnTo>
                  <a:pt x="57" y="59"/>
                </a:lnTo>
                <a:lnTo>
                  <a:pt x="105" y="19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Freeform 55"/>
          <p:cNvSpPr/>
          <p:nvPr/>
        </p:nvSpPr>
        <p:spPr>
          <a:xfrm>
            <a:off x="4572000" y="3635280"/>
            <a:ext cx="380880" cy="1214640"/>
          </a:xfrm>
          <a:custGeom>
            <a:avLst/>
            <a:gdLst>
              <a:gd name="textAreaLeft" fmla="*/ 0 w 380880"/>
              <a:gd name="textAreaRight" fmla="*/ 381240 w 380880"/>
              <a:gd name="textAreaTop" fmla="*/ 0 h 1214640"/>
              <a:gd name="textAreaBottom" fmla="*/ 1215000 h 1214640"/>
            </a:gdLst>
            <a:ahLst/>
            <a:rect l="textAreaLeft" t="textAreaTop" r="textAreaRight" b="textAreaBottom"/>
            <a:pathLst>
              <a:path w="240" h="765">
                <a:moveTo>
                  <a:pt x="240" y="0"/>
                </a:moveTo>
                <a:lnTo>
                  <a:pt x="238" y="31"/>
                </a:lnTo>
                <a:lnTo>
                  <a:pt x="236" y="59"/>
                </a:lnTo>
                <a:lnTo>
                  <a:pt x="232" y="90"/>
                </a:lnTo>
                <a:lnTo>
                  <a:pt x="228" y="119"/>
                </a:lnTo>
                <a:lnTo>
                  <a:pt x="218" y="176"/>
                </a:lnTo>
                <a:lnTo>
                  <a:pt x="207" y="236"/>
                </a:lnTo>
                <a:lnTo>
                  <a:pt x="193" y="293"/>
                </a:lnTo>
                <a:lnTo>
                  <a:pt x="180" y="353"/>
                </a:lnTo>
                <a:lnTo>
                  <a:pt x="169" y="410"/>
                </a:lnTo>
                <a:lnTo>
                  <a:pt x="157" y="470"/>
                </a:lnTo>
                <a:lnTo>
                  <a:pt x="147" y="512"/>
                </a:lnTo>
                <a:lnTo>
                  <a:pt x="136" y="552"/>
                </a:lnTo>
                <a:lnTo>
                  <a:pt x="122" y="591"/>
                </a:lnTo>
                <a:lnTo>
                  <a:pt x="105" y="629"/>
                </a:lnTo>
                <a:lnTo>
                  <a:pt x="84" y="668"/>
                </a:lnTo>
                <a:lnTo>
                  <a:pt x="61" y="702"/>
                </a:lnTo>
                <a:lnTo>
                  <a:pt x="48" y="719"/>
                </a:lnTo>
                <a:lnTo>
                  <a:pt x="34" y="735"/>
                </a:lnTo>
                <a:lnTo>
                  <a:pt x="19" y="750"/>
                </a:lnTo>
                <a:lnTo>
                  <a:pt x="2" y="765"/>
                </a:lnTo>
                <a:lnTo>
                  <a:pt x="0" y="727"/>
                </a:lnTo>
                <a:lnTo>
                  <a:pt x="0" y="691"/>
                </a:lnTo>
                <a:lnTo>
                  <a:pt x="5" y="654"/>
                </a:lnTo>
                <a:lnTo>
                  <a:pt x="13" y="620"/>
                </a:lnTo>
                <a:lnTo>
                  <a:pt x="23" y="585"/>
                </a:lnTo>
                <a:lnTo>
                  <a:pt x="34" y="552"/>
                </a:lnTo>
                <a:lnTo>
                  <a:pt x="50" y="518"/>
                </a:lnTo>
                <a:lnTo>
                  <a:pt x="65" y="485"/>
                </a:lnTo>
                <a:lnTo>
                  <a:pt x="99" y="420"/>
                </a:lnTo>
                <a:lnTo>
                  <a:pt x="136" y="357"/>
                </a:lnTo>
                <a:lnTo>
                  <a:pt x="155" y="324"/>
                </a:lnTo>
                <a:lnTo>
                  <a:pt x="172" y="292"/>
                </a:lnTo>
                <a:lnTo>
                  <a:pt x="188" y="257"/>
                </a:lnTo>
                <a:lnTo>
                  <a:pt x="203" y="224"/>
                </a:lnTo>
                <a:lnTo>
                  <a:pt x="240" y="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Freeform 56"/>
          <p:cNvSpPr/>
          <p:nvPr/>
        </p:nvSpPr>
        <p:spPr>
          <a:xfrm>
            <a:off x="5126040" y="3933720"/>
            <a:ext cx="103320" cy="992160"/>
          </a:xfrm>
          <a:custGeom>
            <a:avLst/>
            <a:gdLst>
              <a:gd name="textAreaLeft" fmla="*/ 0 w 103320"/>
              <a:gd name="textAreaRight" fmla="*/ 103680 w 103320"/>
              <a:gd name="textAreaTop" fmla="*/ 0 h 992160"/>
              <a:gd name="textAreaBottom" fmla="*/ 992520 h 992160"/>
            </a:gdLst>
            <a:ahLst/>
            <a:rect l="textAreaLeft" t="textAreaTop" r="textAreaRight" b="textAreaBottom"/>
            <a:pathLst>
              <a:path w="65" h="625">
                <a:moveTo>
                  <a:pt x="19" y="0"/>
                </a:moveTo>
                <a:lnTo>
                  <a:pt x="21" y="38"/>
                </a:lnTo>
                <a:lnTo>
                  <a:pt x="21" y="75"/>
                </a:lnTo>
                <a:lnTo>
                  <a:pt x="21" y="111"/>
                </a:lnTo>
                <a:lnTo>
                  <a:pt x="19" y="148"/>
                </a:lnTo>
                <a:lnTo>
                  <a:pt x="13" y="221"/>
                </a:lnTo>
                <a:lnTo>
                  <a:pt x="8" y="295"/>
                </a:lnTo>
                <a:lnTo>
                  <a:pt x="2" y="368"/>
                </a:lnTo>
                <a:lnTo>
                  <a:pt x="0" y="441"/>
                </a:lnTo>
                <a:lnTo>
                  <a:pt x="0" y="478"/>
                </a:lnTo>
                <a:lnTo>
                  <a:pt x="2" y="516"/>
                </a:lnTo>
                <a:lnTo>
                  <a:pt x="4" y="552"/>
                </a:lnTo>
                <a:lnTo>
                  <a:pt x="9" y="591"/>
                </a:lnTo>
                <a:lnTo>
                  <a:pt x="9" y="595"/>
                </a:lnTo>
                <a:lnTo>
                  <a:pt x="11" y="597"/>
                </a:lnTo>
                <a:lnTo>
                  <a:pt x="15" y="598"/>
                </a:lnTo>
                <a:lnTo>
                  <a:pt x="17" y="600"/>
                </a:lnTo>
                <a:lnTo>
                  <a:pt x="25" y="602"/>
                </a:lnTo>
                <a:lnTo>
                  <a:pt x="33" y="604"/>
                </a:lnTo>
                <a:lnTo>
                  <a:pt x="40" y="606"/>
                </a:lnTo>
                <a:lnTo>
                  <a:pt x="48" y="608"/>
                </a:lnTo>
                <a:lnTo>
                  <a:pt x="52" y="612"/>
                </a:lnTo>
                <a:lnTo>
                  <a:pt x="54" y="616"/>
                </a:lnTo>
                <a:lnTo>
                  <a:pt x="54" y="620"/>
                </a:lnTo>
                <a:lnTo>
                  <a:pt x="56" y="625"/>
                </a:lnTo>
                <a:lnTo>
                  <a:pt x="59" y="610"/>
                </a:lnTo>
                <a:lnTo>
                  <a:pt x="63" y="597"/>
                </a:lnTo>
                <a:lnTo>
                  <a:pt x="65" y="581"/>
                </a:lnTo>
                <a:lnTo>
                  <a:pt x="65" y="566"/>
                </a:lnTo>
                <a:lnTo>
                  <a:pt x="63" y="535"/>
                </a:lnTo>
                <a:lnTo>
                  <a:pt x="56" y="506"/>
                </a:lnTo>
                <a:lnTo>
                  <a:pt x="48" y="476"/>
                </a:lnTo>
                <a:lnTo>
                  <a:pt x="38" y="447"/>
                </a:lnTo>
                <a:lnTo>
                  <a:pt x="31" y="418"/>
                </a:lnTo>
                <a:lnTo>
                  <a:pt x="25" y="389"/>
                </a:lnTo>
                <a:lnTo>
                  <a:pt x="19" y="341"/>
                </a:lnTo>
                <a:lnTo>
                  <a:pt x="11" y="292"/>
                </a:lnTo>
                <a:lnTo>
                  <a:pt x="6" y="244"/>
                </a:lnTo>
                <a:lnTo>
                  <a:pt x="2" y="196"/>
                </a:lnTo>
                <a:lnTo>
                  <a:pt x="0" y="146"/>
                </a:lnTo>
                <a:lnTo>
                  <a:pt x="2" y="98"/>
                </a:lnTo>
                <a:lnTo>
                  <a:pt x="4" y="73"/>
                </a:lnTo>
                <a:lnTo>
                  <a:pt x="8" y="50"/>
                </a:lnTo>
                <a:lnTo>
                  <a:pt x="13" y="25"/>
                </a:lnTo>
                <a:lnTo>
                  <a:pt x="19" y="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reeform 57"/>
          <p:cNvSpPr/>
          <p:nvPr/>
        </p:nvSpPr>
        <p:spPr>
          <a:xfrm>
            <a:off x="5342040" y="3954600"/>
            <a:ext cx="112680" cy="934920"/>
          </a:xfrm>
          <a:custGeom>
            <a:avLst/>
            <a:gdLst>
              <a:gd name="textAreaLeft" fmla="*/ 0 w 112680"/>
              <a:gd name="textAreaRight" fmla="*/ 113040 w 11268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71" h="589">
                <a:moveTo>
                  <a:pt x="0" y="140"/>
                </a:moveTo>
                <a:lnTo>
                  <a:pt x="12" y="163"/>
                </a:lnTo>
                <a:lnTo>
                  <a:pt x="21" y="186"/>
                </a:lnTo>
                <a:lnTo>
                  <a:pt x="29" y="209"/>
                </a:lnTo>
                <a:lnTo>
                  <a:pt x="35" y="234"/>
                </a:lnTo>
                <a:lnTo>
                  <a:pt x="40" y="257"/>
                </a:lnTo>
                <a:lnTo>
                  <a:pt x="44" y="282"/>
                </a:lnTo>
                <a:lnTo>
                  <a:pt x="46" y="307"/>
                </a:lnTo>
                <a:lnTo>
                  <a:pt x="48" y="332"/>
                </a:lnTo>
                <a:lnTo>
                  <a:pt x="48" y="382"/>
                </a:lnTo>
                <a:lnTo>
                  <a:pt x="48" y="430"/>
                </a:lnTo>
                <a:lnTo>
                  <a:pt x="48" y="480"/>
                </a:lnTo>
                <a:lnTo>
                  <a:pt x="48" y="530"/>
                </a:lnTo>
                <a:lnTo>
                  <a:pt x="50" y="537"/>
                </a:lnTo>
                <a:lnTo>
                  <a:pt x="54" y="545"/>
                </a:lnTo>
                <a:lnTo>
                  <a:pt x="56" y="553"/>
                </a:lnTo>
                <a:lnTo>
                  <a:pt x="60" y="561"/>
                </a:lnTo>
                <a:lnTo>
                  <a:pt x="63" y="566"/>
                </a:lnTo>
                <a:lnTo>
                  <a:pt x="67" y="574"/>
                </a:lnTo>
                <a:lnTo>
                  <a:pt x="69" y="582"/>
                </a:lnTo>
                <a:lnTo>
                  <a:pt x="71" y="589"/>
                </a:lnTo>
                <a:lnTo>
                  <a:pt x="63" y="532"/>
                </a:lnTo>
                <a:lnTo>
                  <a:pt x="52" y="474"/>
                </a:lnTo>
                <a:lnTo>
                  <a:pt x="40" y="417"/>
                </a:lnTo>
                <a:lnTo>
                  <a:pt x="29" y="361"/>
                </a:lnTo>
                <a:lnTo>
                  <a:pt x="25" y="332"/>
                </a:lnTo>
                <a:lnTo>
                  <a:pt x="21" y="303"/>
                </a:lnTo>
                <a:lnTo>
                  <a:pt x="17" y="275"/>
                </a:lnTo>
                <a:lnTo>
                  <a:pt x="17" y="246"/>
                </a:lnTo>
                <a:lnTo>
                  <a:pt x="17" y="217"/>
                </a:lnTo>
                <a:lnTo>
                  <a:pt x="19" y="190"/>
                </a:lnTo>
                <a:lnTo>
                  <a:pt x="23" y="161"/>
                </a:lnTo>
                <a:lnTo>
                  <a:pt x="31" y="133"/>
                </a:lnTo>
                <a:lnTo>
                  <a:pt x="35" y="115"/>
                </a:lnTo>
                <a:lnTo>
                  <a:pt x="37" y="98"/>
                </a:lnTo>
                <a:lnTo>
                  <a:pt x="38" y="81"/>
                </a:lnTo>
                <a:lnTo>
                  <a:pt x="40" y="64"/>
                </a:lnTo>
                <a:lnTo>
                  <a:pt x="42" y="48"/>
                </a:lnTo>
                <a:lnTo>
                  <a:pt x="46" y="31"/>
                </a:lnTo>
                <a:lnTo>
                  <a:pt x="52" y="16"/>
                </a:lnTo>
                <a:lnTo>
                  <a:pt x="60" y="0"/>
                </a:lnTo>
                <a:lnTo>
                  <a:pt x="0" y="14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reeform 58"/>
          <p:cNvSpPr/>
          <p:nvPr/>
        </p:nvSpPr>
        <p:spPr>
          <a:xfrm>
            <a:off x="3605040" y="1969920"/>
            <a:ext cx="871560" cy="562320"/>
          </a:xfrm>
          <a:custGeom>
            <a:avLst/>
            <a:gdLst>
              <a:gd name="textAreaLeft" fmla="*/ 0 w 871560"/>
              <a:gd name="textAreaRight" fmla="*/ 871920 w 871560"/>
              <a:gd name="textAreaTop" fmla="*/ 0 h 562320"/>
              <a:gd name="textAreaBottom" fmla="*/ 562680 h 562320"/>
            </a:gdLst>
            <a:ahLst/>
            <a:rect l="textAreaLeft" t="textAreaTop" r="textAreaRight" b="textAreaBottom"/>
            <a:pathLst>
              <a:path w="549" h="354">
                <a:moveTo>
                  <a:pt x="549" y="354"/>
                </a:moveTo>
                <a:lnTo>
                  <a:pt x="492" y="305"/>
                </a:lnTo>
                <a:lnTo>
                  <a:pt x="432" y="257"/>
                </a:lnTo>
                <a:lnTo>
                  <a:pt x="371" y="211"/>
                </a:lnTo>
                <a:lnTo>
                  <a:pt x="307" y="166"/>
                </a:lnTo>
                <a:lnTo>
                  <a:pt x="244" y="124"/>
                </a:lnTo>
                <a:lnTo>
                  <a:pt x="177" y="84"/>
                </a:lnTo>
                <a:lnTo>
                  <a:pt x="110" y="44"/>
                </a:lnTo>
                <a:lnTo>
                  <a:pt x="41" y="3"/>
                </a:lnTo>
                <a:lnTo>
                  <a:pt x="37" y="2"/>
                </a:lnTo>
                <a:lnTo>
                  <a:pt x="31" y="2"/>
                </a:lnTo>
                <a:lnTo>
                  <a:pt x="24" y="0"/>
                </a:lnTo>
                <a:lnTo>
                  <a:pt x="16" y="2"/>
                </a:lnTo>
                <a:lnTo>
                  <a:pt x="10" y="2"/>
                </a:lnTo>
                <a:lnTo>
                  <a:pt x="4" y="3"/>
                </a:lnTo>
                <a:lnTo>
                  <a:pt x="0" y="5"/>
                </a:lnTo>
                <a:lnTo>
                  <a:pt x="0" y="7"/>
                </a:lnTo>
                <a:lnTo>
                  <a:pt x="25" y="32"/>
                </a:lnTo>
                <a:lnTo>
                  <a:pt x="52" y="55"/>
                </a:lnTo>
                <a:lnTo>
                  <a:pt x="79" y="78"/>
                </a:lnTo>
                <a:lnTo>
                  <a:pt x="108" y="99"/>
                </a:lnTo>
                <a:lnTo>
                  <a:pt x="167" y="138"/>
                </a:lnTo>
                <a:lnTo>
                  <a:pt x="227" y="174"/>
                </a:lnTo>
                <a:lnTo>
                  <a:pt x="288" y="209"/>
                </a:lnTo>
                <a:lnTo>
                  <a:pt x="350" y="243"/>
                </a:lnTo>
                <a:lnTo>
                  <a:pt x="409" y="280"/>
                </a:lnTo>
                <a:lnTo>
                  <a:pt x="469" y="320"/>
                </a:lnTo>
                <a:lnTo>
                  <a:pt x="549" y="354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Freeform 59"/>
          <p:cNvSpPr/>
          <p:nvPr/>
        </p:nvSpPr>
        <p:spPr>
          <a:xfrm>
            <a:off x="4254480" y="3878280"/>
            <a:ext cx="469800" cy="861840"/>
          </a:xfrm>
          <a:custGeom>
            <a:avLst/>
            <a:gdLst>
              <a:gd name="textAreaLeft" fmla="*/ 0 w 469800"/>
              <a:gd name="textAreaRight" fmla="*/ 470160 w 469800"/>
              <a:gd name="textAreaTop" fmla="*/ 0 h 861840"/>
              <a:gd name="textAreaBottom" fmla="*/ 862200 h 861840"/>
            </a:gdLst>
            <a:ahLst/>
            <a:rect l="textAreaLeft" t="textAreaTop" r="textAreaRight" b="textAreaBottom"/>
            <a:pathLst>
              <a:path w="296" h="543">
                <a:moveTo>
                  <a:pt x="261" y="62"/>
                </a:moveTo>
                <a:lnTo>
                  <a:pt x="215" y="114"/>
                </a:lnTo>
                <a:lnTo>
                  <a:pt x="167" y="167"/>
                </a:lnTo>
                <a:lnTo>
                  <a:pt x="144" y="194"/>
                </a:lnTo>
                <a:lnTo>
                  <a:pt x="121" y="221"/>
                </a:lnTo>
                <a:lnTo>
                  <a:pt x="100" y="250"/>
                </a:lnTo>
                <a:lnTo>
                  <a:pt x="81" y="280"/>
                </a:lnTo>
                <a:lnTo>
                  <a:pt x="62" y="309"/>
                </a:lnTo>
                <a:lnTo>
                  <a:pt x="44" y="340"/>
                </a:lnTo>
                <a:lnTo>
                  <a:pt x="31" y="373"/>
                </a:lnTo>
                <a:lnTo>
                  <a:pt x="17" y="405"/>
                </a:lnTo>
                <a:lnTo>
                  <a:pt x="10" y="438"/>
                </a:lnTo>
                <a:lnTo>
                  <a:pt x="2" y="472"/>
                </a:lnTo>
                <a:lnTo>
                  <a:pt x="0" y="507"/>
                </a:lnTo>
                <a:lnTo>
                  <a:pt x="0" y="543"/>
                </a:lnTo>
                <a:lnTo>
                  <a:pt x="10" y="536"/>
                </a:lnTo>
                <a:lnTo>
                  <a:pt x="17" y="530"/>
                </a:lnTo>
                <a:lnTo>
                  <a:pt x="25" y="522"/>
                </a:lnTo>
                <a:lnTo>
                  <a:pt x="33" y="515"/>
                </a:lnTo>
                <a:lnTo>
                  <a:pt x="40" y="507"/>
                </a:lnTo>
                <a:lnTo>
                  <a:pt x="46" y="499"/>
                </a:lnTo>
                <a:lnTo>
                  <a:pt x="52" y="491"/>
                </a:lnTo>
                <a:lnTo>
                  <a:pt x="58" y="484"/>
                </a:lnTo>
                <a:lnTo>
                  <a:pt x="79" y="434"/>
                </a:lnTo>
                <a:lnTo>
                  <a:pt x="102" y="386"/>
                </a:lnTo>
                <a:lnTo>
                  <a:pt x="127" y="338"/>
                </a:lnTo>
                <a:lnTo>
                  <a:pt x="152" y="292"/>
                </a:lnTo>
                <a:lnTo>
                  <a:pt x="179" y="246"/>
                </a:lnTo>
                <a:lnTo>
                  <a:pt x="205" y="200"/>
                </a:lnTo>
                <a:lnTo>
                  <a:pt x="232" y="154"/>
                </a:lnTo>
                <a:lnTo>
                  <a:pt x="261" y="106"/>
                </a:lnTo>
                <a:lnTo>
                  <a:pt x="265" y="94"/>
                </a:lnTo>
                <a:lnTo>
                  <a:pt x="269" y="81"/>
                </a:lnTo>
                <a:lnTo>
                  <a:pt x="271" y="66"/>
                </a:lnTo>
                <a:lnTo>
                  <a:pt x="273" y="52"/>
                </a:lnTo>
                <a:lnTo>
                  <a:pt x="275" y="37"/>
                </a:lnTo>
                <a:lnTo>
                  <a:pt x="278" y="23"/>
                </a:lnTo>
                <a:lnTo>
                  <a:pt x="280" y="18"/>
                </a:lnTo>
                <a:lnTo>
                  <a:pt x="286" y="12"/>
                </a:lnTo>
                <a:lnTo>
                  <a:pt x="290" y="6"/>
                </a:lnTo>
                <a:lnTo>
                  <a:pt x="296" y="0"/>
                </a:lnTo>
                <a:lnTo>
                  <a:pt x="290" y="16"/>
                </a:lnTo>
                <a:lnTo>
                  <a:pt x="282" y="29"/>
                </a:lnTo>
                <a:lnTo>
                  <a:pt x="273" y="43"/>
                </a:lnTo>
                <a:lnTo>
                  <a:pt x="261" y="54"/>
                </a:lnTo>
                <a:lnTo>
                  <a:pt x="250" y="66"/>
                </a:lnTo>
                <a:lnTo>
                  <a:pt x="240" y="79"/>
                </a:lnTo>
                <a:lnTo>
                  <a:pt x="230" y="92"/>
                </a:lnTo>
                <a:lnTo>
                  <a:pt x="225" y="106"/>
                </a:lnTo>
                <a:lnTo>
                  <a:pt x="261" y="62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Freeform 60"/>
          <p:cNvSpPr/>
          <p:nvPr/>
        </p:nvSpPr>
        <p:spPr>
          <a:xfrm>
            <a:off x="3395520" y="3151080"/>
            <a:ext cx="1167120" cy="387360"/>
          </a:xfrm>
          <a:custGeom>
            <a:avLst/>
            <a:gdLst>
              <a:gd name="textAreaLeft" fmla="*/ 0 w 1167120"/>
              <a:gd name="textAreaRight" fmla="*/ 1167480 w 1167120"/>
              <a:gd name="textAreaTop" fmla="*/ 0 h 387360"/>
              <a:gd name="textAreaBottom" fmla="*/ 387720 h 387360"/>
            </a:gdLst>
            <a:ahLst/>
            <a:rect l="textAreaLeft" t="textAreaTop" r="textAreaRight" b="textAreaBottom"/>
            <a:pathLst>
              <a:path w="735" h="244">
                <a:moveTo>
                  <a:pt x="727" y="0"/>
                </a:moveTo>
                <a:lnTo>
                  <a:pt x="712" y="2"/>
                </a:lnTo>
                <a:lnTo>
                  <a:pt x="697" y="6"/>
                </a:lnTo>
                <a:lnTo>
                  <a:pt x="679" y="10"/>
                </a:lnTo>
                <a:lnTo>
                  <a:pt x="664" y="15"/>
                </a:lnTo>
                <a:lnTo>
                  <a:pt x="649" y="23"/>
                </a:lnTo>
                <a:lnTo>
                  <a:pt x="633" y="29"/>
                </a:lnTo>
                <a:lnTo>
                  <a:pt x="618" y="34"/>
                </a:lnTo>
                <a:lnTo>
                  <a:pt x="603" y="40"/>
                </a:lnTo>
                <a:lnTo>
                  <a:pt x="597" y="42"/>
                </a:lnTo>
                <a:lnTo>
                  <a:pt x="591" y="44"/>
                </a:lnTo>
                <a:lnTo>
                  <a:pt x="585" y="44"/>
                </a:lnTo>
                <a:lnTo>
                  <a:pt x="580" y="44"/>
                </a:lnTo>
                <a:lnTo>
                  <a:pt x="574" y="44"/>
                </a:lnTo>
                <a:lnTo>
                  <a:pt x="568" y="44"/>
                </a:lnTo>
                <a:lnTo>
                  <a:pt x="562" y="44"/>
                </a:lnTo>
                <a:lnTo>
                  <a:pt x="557" y="46"/>
                </a:lnTo>
                <a:lnTo>
                  <a:pt x="549" y="50"/>
                </a:lnTo>
                <a:lnTo>
                  <a:pt x="539" y="54"/>
                </a:lnTo>
                <a:lnTo>
                  <a:pt x="530" y="57"/>
                </a:lnTo>
                <a:lnTo>
                  <a:pt x="520" y="63"/>
                </a:lnTo>
                <a:lnTo>
                  <a:pt x="512" y="67"/>
                </a:lnTo>
                <a:lnTo>
                  <a:pt x="503" y="71"/>
                </a:lnTo>
                <a:lnTo>
                  <a:pt x="495" y="75"/>
                </a:lnTo>
                <a:lnTo>
                  <a:pt x="486" y="77"/>
                </a:lnTo>
                <a:lnTo>
                  <a:pt x="449" y="82"/>
                </a:lnTo>
                <a:lnTo>
                  <a:pt x="413" y="88"/>
                </a:lnTo>
                <a:lnTo>
                  <a:pt x="376" y="98"/>
                </a:lnTo>
                <a:lnTo>
                  <a:pt x="342" y="107"/>
                </a:lnTo>
                <a:lnTo>
                  <a:pt x="307" y="119"/>
                </a:lnTo>
                <a:lnTo>
                  <a:pt x="273" y="130"/>
                </a:lnTo>
                <a:lnTo>
                  <a:pt x="238" y="142"/>
                </a:lnTo>
                <a:lnTo>
                  <a:pt x="202" y="153"/>
                </a:lnTo>
                <a:lnTo>
                  <a:pt x="196" y="153"/>
                </a:lnTo>
                <a:lnTo>
                  <a:pt x="190" y="155"/>
                </a:lnTo>
                <a:lnTo>
                  <a:pt x="184" y="155"/>
                </a:lnTo>
                <a:lnTo>
                  <a:pt x="179" y="155"/>
                </a:lnTo>
                <a:lnTo>
                  <a:pt x="173" y="155"/>
                </a:lnTo>
                <a:lnTo>
                  <a:pt x="167" y="155"/>
                </a:lnTo>
                <a:lnTo>
                  <a:pt x="161" y="157"/>
                </a:lnTo>
                <a:lnTo>
                  <a:pt x="156" y="157"/>
                </a:lnTo>
                <a:lnTo>
                  <a:pt x="136" y="165"/>
                </a:lnTo>
                <a:lnTo>
                  <a:pt x="115" y="171"/>
                </a:lnTo>
                <a:lnTo>
                  <a:pt x="96" y="178"/>
                </a:lnTo>
                <a:lnTo>
                  <a:pt x="77" y="186"/>
                </a:lnTo>
                <a:lnTo>
                  <a:pt x="58" y="194"/>
                </a:lnTo>
                <a:lnTo>
                  <a:pt x="38" y="203"/>
                </a:lnTo>
                <a:lnTo>
                  <a:pt x="21" y="215"/>
                </a:lnTo>
                <a:lnTo>
                  <a:pt x="2" y="226"/>
                </a:lnTo>
                <a:lnTo>
                  <a:pt x="2" y="228"/>
                </a:lnTo>
                <a:lnTo>
                  <a:pt x="2" y="230"/>
                </a:lnTo>
                <a:lnTo>
                  <a:pt x="0" y="232"/>
                </a:lnTo>
                <a:lnTo>
                  <a:pt x="0" y="234"/>
                </a:lnTo>
                <a:lnTo>
                  <a:pt x="0" y="236"/>
                </a:lnTo>
                <a:lnTo>
                  <a:pt x="0" y="238"/>
                </a:lnTo>
                <a:lnTo>
                  <a:pt x="0" y="242"/>
                </a:lnTo>
                <a:lnTo>
                  <a:pt x="0" y="244"/>
                </a:lnTo>
                <a:lnTo>
                  <a:pt x="40" y="232"/>
                </a:lnTo>
                <a:lnTo>
                  <a:pt x="83" y="221"/>
                </a:lnTo>
                <a:lnTo>
                  <a:pt x="123" y="207"/>
                </a:lnTo>
                <a:lnTo>
                  <a:pt x="163" y="196"/>
                </a:lnTo>
                <a:lnTo>
                  <a:pt x="205" y="186"/>
                </a:lnTo>
                <a:lnTo>
                  <a:pt x="246" y="176"/>
                </a:lnTo>
                <a:lnTo>
                  <a:pt x="288" y="169"/>
                </a:lnTo>
                <a:lnTo>
                  <a:pt x="330" y="163"/>
                </a:lnTo>
                <a:lnTo>
                  <a:pt x="342" y="161"/>
                </a:lnTo>
                <a:lnTo>
                  <a:pt x="351" y="157"/>
                </a:lnTo>
                <a:lnTo>
                  <a:pt x="361" y="153"/>
                </a:lnTo>
                <a:lnTo>
                  <a:pt x="370" y="150"/>
                </a:lnTo>
                <a:lnTo>
                  <a:pt x="380" y="144"/>
                </a:lnTo>
                <a:lnTo>
                  <a:pt x="390" y="140"/>
                </a:lnTo>
                <a:lnTo>
                  <a:pt x="399" y="136"/>
                </a:lnTo>
                <a:lnTo>
                  <a:pt x="411" y="134"/>
                </a:lnTo>
                <a:lnTo>
                  <a:pt x="453" y="128"/>
                </a:lnTo>
                <a:lnTo>
                  <a:pt x="493" y="119"/>
                </a:lnTo>
                <a:lnTo>
                  <a:pt x="533" y="107"/>
                </a:lnTo>
                <a:lnTo>
                  <a:pt x="572" y="92"/>
                </a:lnTo>
                <a:lnTo>
                  <a:pt x="610" y="77"/>
                </a:lnTo>
                <a:lnTo>
                  <a:pt x="649" y="59"/>
                </a:lnTo>
                <a:lnTo>
                  <a:pt x="687" y="42"/>
                </a:lnTo>
                <a:lnTo>
                  <a:pt x="725" y="23"/>
                </a:lnTo>
                <a:lnTo>
                  <a:pt x="727" y="21"/>
                </a:lnTo>
                <a:lnTo>
                  <a:pt x="729" y="19"/>
                </a:lnTo>
                <a:lnTo>
                  <a:pt x="733" y="15"/>
                </a:lnTo>
                <a:lnTo>
                  <a:pt x="735" y="11"/>
                </a:lnTo>
                <a:lnTo>
                  <a:pt x="735" y="8"/>
                </a:lnTo>
                <a:lnTo>
                  <a:pt x="735" y="4"/>
                </a:lnTo>
                <a:lnTo>
                  <a:pt x="733" y="2"/>
                </a:lnTo>
                <a:lnTo>
                  <a:pt x="727" y="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Freeform 61"/>
          <p:cNvSpPr/>
          <p:nvPr/>
        </p:nvSpPr>
        <p:spPr>
          <a:xfrm>
            <a:off x="3639960" y="3200400"/>
            <a:ext cx="1416240" cy="958680"/>
          </a:xfrm>
          <a:custGeom>
            <a:avLst/>
            <a:gdLst>
              <a:gd name="textAreaLeft" fmla="*/ 0 w 1416240"/>
              <a:gd name="textAreaRight" fmla="*/ 1416240 w 1416240"/>
              <a:gd name="textAreaTop" fmla="*/ 0 h 958680"/>
              <a:gd name="textAreaBottom" fmla="*/ 959040 h 958680"/>
            </a:gdLst>
            <a:ahLst/>
            <a:rect l="textAreaLeft" t="textAreaTop" r="textAreaRight" b="textAreaBottom"/>
            <a:pathLst>
              <a:path w="892" h="604">
                <a:moveTo>
                  <a:pt x="886" y="0"/>
                </a:moveTo>
                <a:lnTo>
                  <a:pt x="830" y="26"/>
                </a:lnTo>
                <a:lnTo>
                  <a:pt x="775" y="51"/>
                </a:lnTo>
                <a:lnTo>
                  <a:pt x="721" y="76"/>
                </a:lnTo>
                <a:lnTo>
                  <a:pt x="665" y="101"/>
                </a:lnTo>
                <a:lnTo>
                  <a:pt x="610" y="128"/>
                </a:lnTo>
                <a:lnTo>
                  <a:pt x="554" y="155"/>
                </a:lnTo>
                <a:lnTo>
                  <a:pt x="500" y="184"/>
                </a:lnTo>
                <a:lnTo>
                  <a:pt x="447" y="216"/>
                </a:lnTo>
                <a:lnTo>
                  <a:pt x="406" y="239"/>
                </a:lnTo>
                <a:lnTo>
                  <a:pt x="368" y="264"/>
                </a:lnTo>
                <a:lnTo>
                  <a:pt x="330" y="287"/>
                </a:lnTo>
                <a:lnTo>
                  <a:pt x="291" y="310"/>
                </a:lnTo>
                <a:lnTo>
                  <a:pt x="253" y="333"/>
                </a:lnTo>
                <a:lnTo>
                  <a:pt x="214" y="358"/>
                </a:lnTo>
                <a:lnTo>
                  <a:pt x="176" y="383"/>
                </a:lnTo>
                <a:lnTo>
                  <a:pt x="140" y="412"/>
                </a:lnTo>
                <a:lnTo>
                  <a:pt x="120" y="427"/>
                </a:lnTo>
                <a:lnTo>
                  <a:pt x="103" y="443"/>
                </a:lnTo>
                <a:lnTo>
                  <a:pt x="88" y="460"/>
                </a:lnTo>
                <a:lnTo>
                  <a:pt x="74" y="477"/>
                </a:lnTo>
                <a:lnTo>
                  <a:pt x="59" y="495"/>
                </a:lnTo>
                <a:lnTo>
                  <a:pt x="46" y="514"/>
                </a:lnTo>
                <a:lnTo>
                  <a:pt x="30" y="531"/>
                </a:lnTo>
                <a:lnTo>
                  <a:pt x="15" y="548"/>
                </a:lnTo>
                <a:lnTo>
                  <a:pt x="13" y="552"/>
                </a:lnTo>
                <a:lnTo>
                  <a:pt x="11" y="554"/>
                </a:lnTo>
                <a:lnTo>
                  <a:pt x="11" y="558"/>
                </a:lnTo>
                <a:lnTo>
                  <a:pt x="11" y="560"/>
                </a:lnTo>
                <a:lnTo>
                  <a:pt x="13" y="564"/>
                </a:lnTo>
                <a:lnTo>
                  <a:pt x="13" y="567"/>
                </a:lnTo>
                <a:lnTo>
                  <a:pt x="13" y="569"/>
                </a:lnTo>
                <a:lnTo>
                  <a:pt x="11" y="571"/>
                </a:lnTo>
                <a:lnTo>
                  <a:pt x="9" y="575"/>
                </a:lnTo>
                <a:lnTo>
                  <a:pt x="5" y="579"/>
                </a:lnTo>
                <a:lnTo>
                  <a:pt x="3" y="585"/>
                </a:lnTo>
                <a:lnTo>
                  <a:pt x="2" y="589"/>
                </a:lnTo>
                <a:lnTo>
                  <a:pt x="0" y="592"/>
                </a:lnTo>
                <a:lnTo>
                  <a:pt x="0" y="594"/>
                </a:lnTo>
                <a:lnTo>
                  <a:pt x="0" y="598"/>
                </a:lnTo>
                <a:lnTo>
                  <a:pt x="2" y="600"/>
                </a:lnTo>
                <a:lnTo>
                  <a:pt x="11" y="602"/>
                </a:lnTo>
                <a:lnTo>
                  <a:pt x="21" y="604"/>
                </a:lnTo>
                <a:lnTo>
                  <a:pt x="30" y="600"/>
                </a:lnTo>
                <a:lnTo>
                  <a:pt x="40" y="596"/>
                </a:lnTo>
                <a:lnTo>
                  <a:pt x="49" y="590"/>
                </a:lnTo>
                <a:lnTo>
                  <a:pt x="57" y="583"/>
                </a:lnTo>
                <a:lnTo>
                  <a:pt x="67" y="577"/>
                </a:lnTo>
                <a:lnTo>
                  <a:pt x="74" y="569"/>
                </a:lnTo>
                <a:lnTo>
                  <a:pt x="105" y="546"/>
                </a:lnTo>
                <a:lnTo>
                  <a:pt x="134" y="523"/>
                </a:lnTo>
                <a:lnTo>
                  <a:pt x="163" y="498"/>
                </a:lnTo>
                <a:lnTo>
                  <a:pt x="190" y="473"/>
                </a:lnTo>
                <a:lnTo>
                  <a:pt x="216" y="450"/>
                </a:lnTo>
                <a:lnTo>
                  <a:pt x="243" y="427"/>
                </a:lnTo>
                <a:lnTo>
                  <a:pt x="272" y="406"/>
                </a:lnTo>
                <a:lnTo>
                  <a:pt x="305" y="387"/>
                </a:lnTo>
                <a:lnTo>
                  <a:pt x="318" y="379"/>
                </a:lnTo>
                <a:lnTo>
                  <a:pt x="333" y="372"/>
                </a:lnTo>
                <a:lnTo>
                  <a:pt x="347" y="366"/>
                </a:lnTo>
                <a:lnTo>
                  <a:pt x="362" y="360"/>
                </a:lnTo>
                <a:lnTo>
                  <a:pt x="376" y="353"/>
                </a:lnTo>
                <a:lnTo>
                  <a:pt x="391" y="345"/>
                </a:lnTo>
                <a:lnTo>
                  <a:pt x="406" y="335"/>
                </a:lnTo>
                <a:lnTo>
                  <a:pt x="422" y="326"/>
                </a:lnTo>
                <a:lnTo>
                  <a:pt x="426" y="322"/>
                </a:lnTo>
                <a:lnTo>
                  <a:pt x="431" y="322"/>
                </a:lnTo>
                <a:lnTo>
                  <a:pt x="437" y="320"/>
                </a:lnTo>
                <a:lnTo>
                  <a:pt x="445" y="318"/>
                </a:lnTo>
                <a:lnTo>
                  <a:pt x="450" y="318"/>
                </a:lnTo>
                <a:lnTo>
                  <a:pt x="456" y="316"/>
                </a:lnTo>
                <a:lnTo>
                  <a:pt x="462" y="312"/>
                </a:lnTo>
                <a:lnTo>
                  <a:pt x="468" y="310"/>
                </a:lnTo>
                <a:lnTo>
                  <a:pt x="487" y="295"/>
                </a:lnTo>
                <a:lnTo>
                  <a:pt x="508" y="284"/>
                </a:lnTo>
                <a:lnTo>
                  <a:pt x="529" y="272"/>
                </a:lnTo>
                <a:lnTo>
                  <a:pt x="550" y="261"/>
                </a:lnTo>
                <a:lnTo>
                  <a:pt x="571" y="249"/>
                </a:lnTo>
                <a:lnTo>
                  <a:pt x="592" y="237"/>
                </a:lnTo>
                <a:lnTo>
                  <a:pt x="614" y="224"/>
                </a:lnTo>
                <a:lnTo>
                  <a:pt x="635" y="209"/>
                </a:lnTo>
                <a:lnTo>
                  <a:pt x="639" y="205"/>
                </a:lnTo>
                <a:lnTo>
                  <a:pt x="644" y="203"/>
                </a:lnTo>
                <a:lnTo>
                  <a:pt x="650" y="201"/>
                </a:lnTo>
                <a:lnTo>
                  <a:pt x="656" y="201"/>
                </a:lnTo>
                <a:lnTo>
                  <a:pt x="662" y="199"/>
                </a:lnTo>
                <a:lnTo>
                  <a:pt x="667" y="199"/>
                </a:lnTo>
                <a:lnTo>
                  <a:pt x="673" y="195"/>
                </a:lnTo>
                <a:lnTo>
                  <a:pt x="679" y="193"/>
                </a:lnTo>
                <a:lnTo>
                  <a:pt x="708" y="172"/>
                </a:lnTo>
                <a:lnTo>
                  <a:pt x="736" y="149"/>
                </a:lnTo>
                <a:lnTo>
                  <a:pt x="765" y="126"/>
                </a:lnTo>
                <a:lnTo>
                  <a:pt x="790" y="103"/>
                </a:lnTo>
                <a:lnTo>
                  <a:pt x="817" y="80"/>
                </a:lnTo>
                <a:lnTo>
                  <a:pt x="842" y="55"/>
                </a:lnTo>
                <a:lnTo>
                  <a:pt x="867" y="32"/>
                </a:lnTo>
                <a:lnTo>
                  <a:pt x="892" y="7"/>
                </a:lnTo>
                <a:lnTo>
                  <a:pt x="888" y="11"/>
                </a:lnTo>
                <a:lnTo>
                  <a:pt x="884" y="13"/>
                </a:lnTo>
                <a:lnTo>
                  <a:pt x="880" y="17"/>
                </a:lnTo>
                <a:lnTo>
                  <a:pt x="876" y="21"/>
                </a:lnTo>
                <a:lnTo>
                  <a:pt x="871" y="23"/>
                </a:lnTo>
                <a:lnTo>
                  <a:pt x="867" y="26"/>
                </a:lnTo>
                <a:lnTo>
                  <a:pt x="861" y="28"/>
                </a:lnTo>
                <a:lnTo>
                  <a:pt x="855" y="30"/>
                </a:lnTo>
                <a:lnTo>
                  <a:pt x="886" y="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Freeform 62"/>
          <p:cNvSpPr/>
          <p:nvPr/>
        </p:nvSpPr>
        <p:spPr>
          <a:xfrm>
            <a:off x="4502160" y="3321000"/>
            <a:ext cx="620640" cy="1492200"/>
          </a:xfrm>
          <a:custGeom>
            <a:avLst/>
            <a:gdLst>
              <a:gd name="textAreaLeft" fmla="*/ 0 w 620640"/>
              <a:gd name="textAreaRight" fmla="*/ 621000 w 62064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391" h="940">
                <a:moveTo>
                  <a:pt x="385" y="0"/>
                </a:moveTo>
                <a:lnTo>
                  <a:pt x="379" y="29"/>
                </a:lnTo>
                <a:lnTo>
                  <a:pt x="372" y="56"/>
                </a:lnTo>
                <a:lnTo>
                  <a:pt x="366" y="85"/>
                </a:lnTo>
                <a:lnTo>
                  <a:pt x="356" y="112"/>
                </a:lnTo>
                <a:lnTo>
                  <a:pt x="339" y="165"/>
                </a:lnTo>
                <a:lnTo>
                  <a:pt x="318" y="217"/>
                </a:lnTo>
                <a:lnTo>
                  <a:pt x="295" y="269"/>
                </a:lnTo>
                <a:lnTo>
                  <a:pt x="270" y="319"/>
                </a:lnTo>
                <a:lnTo>
                  <a:pt x="245" y="371"/>
                </a:lnTo>
                <a:lnTo>
                  <a:pt x="222" y="422"/>
                </a:lnTo>
                <a:lnTo>
                  <a:pt x="205" y="455"/>
                </a:lnTo>
                <a:lnTo>
                  <a:pt x="188" y="488"/>
                </a:lnTo>
                <a:lnTo>
                  <a:pt x="168" y="518"/>
                </a:lnTo>
                <a:lnTo>
                  <a:pt x="149" y="547"/>
                </a:lnTo>
                <a:lnTo>
                  <a:pt x="128" y="578"/>
                </a:lnTo>
                <a:lnTo>
                  <a:pt x="105" y="607"/>
                </a:lnTo>
                <a:lnTo>
                  <a:pt x="82" y="635"/>
                </a:lnTo>
                <a:lnTo>
                  <a:pt x="57" y="664"/>
                </a:lnTo>
                <a:lnTo>
                  <a:pt x="53" y="668"/>
                </a:lnTo>
                <a:lnTo>
                  <a:pt x="53" y="672"/>
                </a:lnTo>
                <a:lnTo>
                  <a:pt x="53" y="678"/>
                </a:lnTo>
                <a:lnTo>
                  <a:pt x="53" y="683"/>
                </a:lnTo>
                <a:lnTo>
                  <a:pt x="53" y="689"/>
                </a:lnTo>
                <a:lnTo>
                  <a:pt x="53" y="697"/>
                </a:lnTo>
                <a:lnTo>
                  <a:pt x="53" y="702"/>
                </a:lnTo>
                <a:lnTo>
                  <a:pt x="51" y="706"/>
                </a:lnTo>
                <a:lnTo>
                  <a:pt x="38" y="735"/>
                </a:lnTo>
                <a:lnTo>
                  <a:pt x="26" y="766"/>
                </a:lnTo>
                <a:lnTo>
                  <a:pt x="15" y="796"/>
                </a:lnTo>
                <a:lnTo>
                  <a:pt x="5" y="827"/>
                </a:lnTo>
                <a:lnTo>
                  <a:pt x="1" y="842"/>
                </a:lnTo>
                <a:lnTo>
                  <a:pt x="0" y="856"/>
                </a:lnTo>
                <a:lnTo>
                  <a:pt x="0" y="871"/>
                </a:lnTo>
                <a:lnTo>
                  <a:pt x="0" y="887"/>
                </a:lnTo>
                <a:lnTo>
                  <a:pt x="1" y="900"/>
                </a:lnTo>
                <a:lnTo>
                  <a:pt x="7" y="913"/>
                </a:lnTo>
                <a:lnTo>
                  <a:pt x="13" y="927"/>
                </a:lnTo>
                <a:lnTo>
                  <a:pt x="23" y="938"/>
                </a:lnTo>
                <a:lnTo>
                  <a:pt x="26" y="940"/>
                </a:lnTo>
                <a:lnTo>
                  <a:pt x="32" y="940"/>
                </a:lnTo>
                <a:lnTo>
                  <a:pt x="40" y="938"/>
                </a:lnTo>
                <a:lnTo>
                  <a:pt x="48" y="936"/>
                </a:lnTo>
                <a:lnTo>
                  <a:pt x="55" y="933"/>
                </a:lnTo>
                <a:lnTo>
                  <a:pt x="63" y="929"/>
                </a:lnTo>
                <a:lnTo>
                  <a:pt x="71" y="923"/>
                </a:lnTo>
                <a:lnTo>
                  <a:pt x="74" y="917"/>
                </a:lnTo>
                <a:lnTo>
                  <a:pt x="90" y="885"/>
                </a:lnTo>
                <a:lnTo>
                  <a:pt x="101" y="850"/>
                </a:lnTo>
                <a:lnTo>
                  <a:pt x="113" y="814"/>
                </a:lnTo>
                <a:lnTo>
                  <a:pt x="124" y="779"/>
                </a:lnTo>
                <a:lnTo>
                  <a:pt x="136" y="743"/>
                </a:lnTo>
                <a:lnTo>
                  <a:pt x="147" y="708"/>
                </a:lnTo>
                <a:lnTo>
                  <a:pt x="163" y="674"/>
                </a:lnTo>
                <a:lnTo>
                  <a:pt x="178" y="641"/>
                </a:lnTo>
                <a:lnTo>
                  <a:pt x="182" y="631"/>
                </a:lnTo>
                <a:lnTo>
                  <a:pt x="186" y="624"/>
                </a:lnTo>
                <a:lnTo>
                  <a:pt x="188" y="614"/>
                </a:lnTo>
                <a:lnTo>
                  <a:pt x="191" y="605"/>
                </a:lnTo>
                <a:lnTo>
                  <a:pt x="195" y="597"/>
                </a:lnTo>
                <a:lnTo>
                  <a:pt x="201" y="587"/>
                </a:lnTo>
                <a:lnTo>
                  <a:pt x="207" y="582"/>
                </a:lnTo>
                <a:lnTo>
                  <a:pt x="214" y="574"/>
                </a:lnTo>
                <a:lnTo>
                  <a:pt x="226" y="566"/>
                </a:lnTo>
                <a:lnTo>
                  <a:pt x="236" y="560"/>
                </a:lnTo>
                <a:lnTo>
                  <a:pt x="245" y="551"/>
                </a:lnTo>
                <a:lnTo>
                  <a:pt x="255" y="543"/>
                </a:lnTo>
                <a:lnTo>
                  <a:pt x="262" y="534"/>
                </a:lnTo>
                <a:lnTo>
                  <a:pt x="270" y="524"/>
                </a:lnTo>
                <a:lnTo>
                  <a:pt x="278" y="514"/>
                </a:lnTo>
                <a:lnTo>
                  <a:pt x="284" y="501"/>
                </a:lnTo>
                <a:lnTo>
                  <a:pt x="295" y="463"/>
                </a:lnTo>
                <a:lnTo>
                  <a:pt x="308" y="426"/>
                </a:lnTo>
                <a:lnTo>
                  <a:pt x="324" y="390"/>
                </a:lnTo>
                <a:lnTo>
                  <a:pt x="337" y="353"/>
                </a:lnTo>
                <a:lnTo>
                  <a:pt x="349" y="317"/>
                </a:lnTo>
                <a:lnTo>
                  <a:pt x="360" y="280"/>
                </a:lnTo>
                <a:lnTo>
                  <a:pt x="368" y="240"/>
                </a:lnTo>
                <a:lnTo>
                  <a:pt x="374" y="202"/>
                </a:lnTo>
                <a:lnTo>
                  <a:pt x="376" y="186"/>
                </a:lnTo>
                <a:lnTo>
                  <a:pt x="379" y="171"/>
                </a:lnTo>
                <a:lnTo>
                  <a:pt x="383" y="154"/>
                </a:lnTo>
                <a:lnTo>
                  <a:pt x="387" y="138"/>
                </a:lnTo>
                <a:lnTo>
                  <a:pt x="389" y="121"/>
                </a:lnTo>
                <a:lnTo>
                  <a:pt x="391" y="106"/>
                </a:lnTo>
                <a:lnTo>
                  <a:pt x="391" y="89"/>
                </a:lnTo>
                <a:lnTo>
                  <a:pt x="387" y="73"/>
                </a:lnTo>
                <a:lnTo>
                  <a:pt x="385" y="66"/>
                </a:lnTo>
                <a:lnTo>
                  <a:pt x="381" y="60"/>
                </a:lnTo>
                <a:lnTo>
                  <a:pt x="378" y="52"/>
                </a:lnTo>
                <a:lnTo>
                  <a:pt x="374" y="44"/>
                </a:lnTo>
                <a:lnTo>
                  <a:pt x="370" y="37"/>
                </a:lnTo>
                <a:lnTo>
                  <a:pt x="366" y="29"/>
                </a:lnTo>
                <a:lnTo>
                  <a:pt x="362" y="21"/>
                </a:lnTo>
                <a:lnTo>
                  <a:pt x="362" y="12"/>
                </a:lnTo>
                <a:lnTo>
                  <a:pt x="356" y="21"/>
                </a:lnTo>
                <a:lnTo>
                  <a:pt x="351" y="31"/>
                </a:lnTo>
                <a:lnTo>
                  <a:pt x="345" y="39"/>
                </a:lnTo>
                <a:lnTo>
                  <a:pt x="339" y="48"/>
                </a:lnTo>
                <a:lnTo>
                  <a:pt x="335" y="58"/>
                </a:lnTo>
                <a:lnTo>
                  <a:pt x="332" y="69"/>
                </a:lnTo>
                <a:lnTo>
                  <a:pt x="332" y="79"/>
                </a:lnTo>
                <a:lnTo>
                  <a:pt x="332" y="89"/>
                </a:lnTo>
                <a:lnTo>
                  <a:pt x="385" y="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Freeform 63"/>
          <p:cNvSpPr/>
          <p:nvPr/>
        </p:nvSpPr>
        <p:spPr>
          <a:xfrm>
            <a:off x="5208480" y="2428920"/>
            <a:ext cx="1668600" cy="646200"/>
          </a:xfrm>
          <a:custGeom>
            <a:avLst/>
            <a:gdLst>
              <a:gd name="textAreaLeft" fmla="*/ 0 w 1668600"/>
              <a:gd name="textAreaRight" fmla="*/ 1668960 w 1668600"/>
              <a:gd name="textAreaTop" fmla="*/ 0 h 646200"/>
              <a:gd name="textAreaBottom" fmla="*/ 646560 h 646200"/>
            </a:gdLst>
            <a:ahLst/>
            <a:rect l="textAreaLeft" t="textAreaTop" r="textAreaRight" b="textAreaBottom"/>
            <a:pathLst>
              <a:path w="1051" h="407">
                <a:moveTo>
                  <a:pt x="5" y="346"/>
                </a:moveTo>
                <a:lnTo>
                  <a:pt x="23" y="340"/>
                </a:lnTo>
                <a:lnTo>
                  <a:pt x="40" y="332"/>
                </a:lnTo>
                <a:lnTo>
                  <a:pt x="55" y="324"/>
                </a:lnTo>
                <a:lnTo>
                  <a:pt x="73" y="317"/>
                </a:lnTo>
                <a:lnTo>
                  <a:pt x="88" y="309"/>
                </a:lnTo>
                <a:lnTo>
                  <a:pt x="105" y="301"/>
                </a:lnTo>
                <a:lnTo>
                  <a:pt x="122" y="296"/>
                </a:lnTo>
                <a:lnTo>
                  <a:pt x="140" y="290"/>
                </a:lnTo>
                <a:lnTo>
                  <a:pt x="147" y="288"/>
                </a:lnTo>
                <a:lnTo>
                  <a:pt x="153" y="284"/>
                </a:lnTo>
                <a:lnTo>
                  <a:pt x="159" y="278"/>
                </a:lnTo>
                <a:lnTo>
                  <a:pt x="165" y="275"/>
                </a:lnTo>
                <a:lnTo>
                  <a:pt x="170" y="271"/>
                </a:lnTo>
                <a:lnTo>
                  <a:pt x="176" y="265"/>
                </a:lnTo>
                <a:lnTo>
                  <a:pt x="182" y="261"/>
                </a:lnTo>
                <a:lnTo>
                  <a:pt x="188" y="259"/>
                </a:lnTo>
                <a:lnTo>
                  <a:pt x="209" y="252"/>
                </a:lnTo>
                <a:lnTo>
                  <a:pt x="230" y="246"/>
                </a:lnTo>
                <a:lnTo>
                  <a:pt x="251" y="238"/>
                </a:lnTo>
                <a:lnTo>
                  <a:pt x="272" y="230"/>
                </a:lnTo>
                <a:lnTo>
                  <a:pt x="291" y="223"/>
                </a:lnTo>
                <a:lnTo>
                  <a:pt x="312" y="215"/>
                </a:lnTo>
                <a:lnTo>
                  <a:pt x="334" y="207"/>
                </a:lnTo>
                <a:lnTo>
                  <a:pt x="355" y="202"/>
                </a:lnTo>
                <a:lnTo>
                  <a:pt x="387" y="190"/>
                </a:lnTo>
                <a:lnTo>
                  <a:pt x="422" y="181"/>
                </a:lnTo>
                <a:lnTo>
                  <a:pt x="454" y="171"/>
                </a:lnTo>
                <a:lnTo>
                  <a:pt x="489" y="163"/>
                </a:lnTo>
                <a:lnTo>
                  <a:pt x="523" y="154"/>
                </a:lnTo>
                <a:lnTo>
                  <a:pt x="556" y="146"/>
                </a:lnTo>
                <a:lnTo>
                  <a:pt x="591" y="136"/>
                </a:lnTo>
                <a:lnTo>
                  <a:pt x="623" y="125"/>
                </a:lnTo>
                <a:lnTo>
                  <a:pt x="639" y="119"/>
                </a:lnTo>
                <a:lnTo>
                  <a:pt x="654" y="112"/>
                </a:lnTo>
                <a:lnTo>
                  <a:pt x="669" y="106"/>
                </a:lnTo>
                <a:lnTo>
                  <a:pt x="683" y="98"/>
                </a:lnTo>
                <a:lnTo>
                  <a:pt x="698" y="90"/>
                </a:lnTo>
                <a:lnTo>
                  <a:pt x="713" y="83"/>
                </a:lnTo>
                <a:lnTo>
                  <a:pt x="729" y="75"/>
                </a:lnTo>
                <a:lnTo>
                  <a:pt x="742" y="69"/>
                </a:lnTo>
                <a:lnTo>
                  <a:pt x="763" y="62"/>
                </a:lnTo>
                <a:lnTo>
                  <a:pt x="786" y="56"/>
                </a:lnTo>
                <a:lnTo>
                  <a:pt x="807" y="54"/>
                </a:lnTo>
                <a:lnTo>
                  <a:pt x="830" y="50"/>
                </a:lnTo>
                <a:lnTo>
                  <a:pt x="852" y="44"/>
                </a:lnTo>
                <a:lnTo>
                  <a:pt x="875" y="39"/>
                </a:lnTo>
                <a:lnTo>
                  <a:pt x="896" y="29"/>
                </a:lnTo>
                <a:lnTo>
                  <a:pt x="919" y="16"/>
                </a:lnTo>
                <a:lnTo>
                  <a:pt x="926" y="10"/>
                </a:lnTo>
                <a:lnTo>
                  <a:pt x="936" y="6"/>
                </a:lnTo>
                <a:lnTo>
                  <a:pt x="946" y="2"/>
                </a:lnTo>
                <a:lnTo>
                  <a:pt x="957" y="0"/>
                </a:lnTo>
                <a:lnTo>
                  <a:pt x="969" y="0"/>
                </a:lnTo>
                <a:lnTo>
                  <a:pt x="980" y="0"/>
                </a:lnTo>
                <a:lnTo>
                  <a:pt x="990" y="2"/>
                </a:lnTo>
                <a:lnTo>
                  <a:pt x="999" y="8"/>
                </a:lnTo>
                <a:lnTo>
                  <a:pt x="1009" y="12"/>
                </a:lnTo>
                <a:lnTo>
                  <a:pt x="1019" y="16"/>
                </a:lnTo>
                <a:lnTo>
                  <a:pt x="1028" y="19"/>
                </a:lnTo>
                <a:lnTo>
                  <a:pt x="1038" y="25"/>
                </a:lnTo>
                <a:lnTo>
                  <a:pt x="1045" y="29"/>
                </a:lnTo>
                <a:lnTo>
                  <a:pt x="1051" y="35"/>
                </a:lnTo>
                <a:lnTo>
                  <a:pt x="1051" y="37"/>
                </a:lnTo>
                <a:lnTo>
                  <a:pt x="1051" y="41"/>
                </a:lnTo>
                <a:lnTo>
                  <a:pt x="1049" y="42"/>
                </a:lnTo>
                <a:lnTo>
                  <a:pt x="1045" y="46"/>
                </a:lnTo>
                <a:lnTo>
                  <a:pt x="1019" y="62"/>
                </a:lnTo>
                <a:lnTo>
                  <a:pt x="992" y="75"/>
                </a:lnTo>
                <a:lnTo>
                  <a:pt x="963" y="87"/>
                </a:lnTo>
                <a:lnTo>
                  <a:pt x="936" y="98"/>
                </a:lnTo>
                <a:lnTo>
                  <a:pt x="878" y="115"/>
                </a:lnTo>
                <a:lnTo>
                  <a:pt x="821" y="133"/>
                </a:lnTo>
                <a:lnTo>
                  <a:pt x="763" y="146"/>
                </a:lnTo>
                <a:lnTo>
                  <a:pt x="706" y="161"/>
                </a:lnTo>
                <a:lnTo>
                  <a:pt x="675" y="171"/>
                </a:lnTo>
                <a:lnTo>
                  <a:pt x="648" y="179"/>
                </a:lnTo>
                <a:lnTo>
                  <a:pt x="619" y="190"/>
                </a:lnTo>
                <a:lnTo>
                  <a:pt x="591" y="202"/>
                </a:lnTo>
                <a:lnTo>
                  <a:pt x="579" y="206"/>
                </a:lnTo>
                <a:lnTo>
                  <a:pt x="568" y="211"/>
                </a:lnTo>
                <a:lnTo>
                  <a:pt x="556" y="215"/>
                </a:lnTo>
                <a:lnTo>
                  <a:pt x="543" y="221"/>
                </a:lnTo>
                <a:lnTo>
                  <a:pt x="531" y="227"/>
                </a:lnTo>
                <a:lnTo>
                  <a:pt x="520" y="232"/>
                </a:lnTo>
                <a:lnTo>
                  <a:pt x="508" y="238"/>
                </a:lnTo>
                <a:lnTo>
                  <a:pt x="497" y="244"/>
                </a:lnTo>
                <a:lnTo>
                  <a:pt x="485" y="252"/>
                </a:lnTo>
                <a:lnTo>
                  <a:pt x="474" y="259"/>
                </a:lnTo>
                <a:lnTo>
                  <a:pt x="464" y="269"/>
                </a:lnTo>
                <a:lnTo>
                  <a:pt x="453" y="278"/>
                </a:lnTo>
                <a:lnTo>
                  <a:pt x="441" y="288"/>
                </a:lnTo>
                <a:lnTo>
                  <a:pt x="429" y="296"/>
                </a:lnTo>
                <a:lnTo>
                  <a:pt x="414" y="303"/>
                </a:lnTo>
                <a:lnTo>
                  <a:pt x="399" y="307"/>
                </a:lnTo>
                <a:lnTo>
                  <a:pt x="380" y="313"/>
                </a:lnTo>
                <a:lnTo>
                  <a:pt x="362" y="319"/>
                </a:lnTo>
                <a:lnTo>
                  <a:pt x="343" y="324"/>
                </a:lnTo>
                <a:lnTo>
                  <a:pt x="326" y="332"/>
                </a:lnTo>
                <a:lnTo>
                  <a:pt x="309" y="340"/>
                </a:lnTo>
                <a:lnTo>
                  <a:pt x="293" y="347"/>
                </a:lnTo>
                <a:lnTo>
                  <a:pt x="276" y="353"/>
                </a:lnTo>
                <a:lnTo>
                  <a:pt x="257" y="359"/>
                </a:lnTo>
                <a:lnTo>
                  <a:pt x="226" y="369"/>
                </a:lnTo>
                <a:lnTo>
                  <a:pt x="193" y="378"/>
                </a:lnTo>
                <a:lnTo>
                  <a:pt x="163" y="388"/>
                </a:lnTo>
                <a:lnTo>
                  <a:pt x="132" y="395"/>
                </a:lnTo>
                <a:lnTo>
                  <a:pt x="99" y="401"/>
                </a:lnTo>
                <a:lnTo>
                  <a:pt x="69" y="405"/>
                </a:lnTo>
                <a:lnTo>
                  <a:pt x="36" y="407"/>
                </a:lnTo>
                <a:lnTo>
                  <a:pt x="5" y="405"/>
                </a:lnTo>
                <a:lnTo>
                  <a:pt x="2" y="403"/>
                </a:lnTo>
                <a:lnTo>
                  <a:pt x="0" y="401"/>
                </a:lnTo>
                <a:lnTo>
                  <a:pt x="0" y="399"/>
                </a:lnTo>
                <a:lnTo>
                  <a:pt x="0" y="397"/>
                </a:lnTo>
                <a:lnTo>
                  <a:pt x="2" y="392"/>
                </a:lnTo>
                <a:lnTo>
                  <a:pt x="5" y="384"/>
                </a:lnTo>
                <a:lnTo>
                  <a:pt x="13" y="376"/>
                </a:lnTo>
                <a:lnTo>
                  <a:pt x="19" y="371"/>
                </a:lnTo>
                <a:lnTo>
                  <a:pt x="27" y="367"/>
                </a:lnTo>
                <a:lnTo>
                  <a:pt x="34" y="363"/>
                </a:lnTo>
                <a:lnTo>
                  <a:pt x="48" y="363"/>
                </a:lnTo>
                <a:lnTo>
                  <a:pt x="63" y="363"/>
                </a:lnTo>
                <a:lnTo>
                  <a:pt x="78" y="361"/>
                </a:lnTo>
                <a:lnTo>
                  <a:pt x="94" y="357"/>
                </a:lnTo>
                <a:lnTo>
                  <a:pt x="107" y="353"/>
                </a:lnTo>
                <a:lnTo>
                  <a:pt x="121" y="346"/>
                </a:lnTo>
                <a:lnTo>
                  <a:pt x="126" y="340"/>
                </a:lnTo>
                <a:lnTo>
                  <a:pt x="132" y="334"/>
                </a:lnTo>
                <a:lnTo>
                  <a:pt x="136" y="328"/>
                </a:lnTo>
                <a:lnTo>
                  <a:pt x="140" y="321"/>
                </a:lnTo>
                <a:lnTo>
                  <a:pt x="5" y="346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Freeform 64"/>
          <p:cNvSpPr/>
          <p:nvPr/>
        </p:nvSpPr>
        <p:spPr>
          <a:xfrm>
            <a:off x="5318280" y="2962440"/>
            <a:ext cx="1680840" cy="331560"/>
          </a:xfrm>
          <a:custGeom>
            <a:avLst/>
            <a:gdLst>
              <a:gd name="textAreaLeft" fmla="*/ 0 w 1680840"/>
              <a:gd name="textAreaRight" fmla="*/ 1681200 w 1680840"/>
              <a:gd name="textAreaTop" fmla="*/ 0 h 331560"/>
              <a:gd name="textAreaBottom" fmla="*/ 331920 h 331560"/>
            </a:gdLst>
            <a:ahLst/>
            <a:rect l="textAreaLeft" t="textAreaTop" r="textAreaRight" b="textAreaBottom"/>
            <a:pathLst>
              <a:path w="1059" h="209">
                <a:moveTo>
                  <a:pt x="1059" y="73"/>
                </a:moveTo>
                <a:lnTo>
                  <a:pt x="1007" y="81"/>
                </a:lnTo>
                <a:lnTo>
                  <a:pt x="955" y="86"/>
                </a:lnTo>
                <a:lnTo>
                  <a:pt x="905" y="92"/>
                </a:lnTo>
                <a:lnTo>
                  <a:pt x="854" y="96"/>
                </a:lnTo>
                <a:lnTo>
                  <a:pt x="802" y="100"/>
                </a:lnTo>
                <a:lnTo>
                  <a:pt x="752" y="104"/>
                </a:lnTo>
                <a:lnTo>
                  <a:pt x="700" y="109"/>
                </a:lnTo>
                <a:lnTo>
                  <a:pt x="648" y="115"/>
                </a:lnTo>
                <a:lnTo>
                  <a:pt x="629" y="115"/>
                </a:lnTo>
                <a:lnTo>
                  <a:pt x="610" y="115"/>
                </a:lnTo>
                <a:lnTo>
                  <a:pt x="591" y="115"/>
                </a:lnTo>
                <a:lnTo>
                  <a:pt x="572" y="115"/>
                </a:lnTo>
                <a:lnTo>
                  <a:pt x="552" y="113"/>
                </a:lnTo>
                <a:lnTo>
                  <a:pt x="535" y="113"/>
                </a:lnTo>
                <a:lnTo>
                  <a:pt x="516" y="115"/>
                </a:lnTo>
                <a:lnTo>
                  <a:pt x="497" y="117"/>
                </a:lnTo>
                <a:lnTo>
                  <a:pt x="479" y="119"/>
                </a:lnTo>
                <a:lnTo>
                  <a:pt x="464" y="123"/>
                </a:lnTo>
                <a:lnTo>
                  <a:pt x="449" y="127"/>
                </a:lnTo>
                <a:lnTo>
                  <a:pt x="431" y="129"/>
                </a:lnTo>
                <a:lnTo>
                  <a:pt x="416" y="130"/>
                </a:lnTo>
                <a:lnTo>
                  <a:pt x="399" y="132"/>
                </a:lnTo>
                <a:lnTo>
                  <a:pt x="384" y="134"/>
                </a:lnTo>
                <a:lnTo>
                  <a:pt x="366" y="134"/>
                </a:lnTo>
                <a:lnTo>
                  <a:pt x="359" y="136"/>
                </a:lnTo>
                <a:lnTo>
                  <a:pt x="349" y="138"/>
                </a:lnTo>
                <a:lnTo>
                  <a:pt x="341" y="142"/>
                </a:lnTo>
                <a:lnTo>
                  <a:pt x="332" y="144"/>
                </a:lnTo>
                <a:lnTo>
                  <a:pt x="322" y="148"/>
                </a:lnTo>
                <a:lnTo>
                  <a:pt x="314" y="152"/>
                </a:lnTo>
                <a:lnTo>
                  <a:pt x="305" y="153"/>
                </a:lnTo>
                <a:lnTo>
                  <a:pt x="295" y="155"/>
                </a:lnTo>
                <a:lnTo>
                  <a:pt x="284" y="155"/>
                </a:lnTo>
                <a:lnTo>
                  <a:pt x="272" y="157"/>
                </a:lnTo>
                <a:lnTo>
                  <a:pt x="261" y="157"/>
                </a:lnTo>
                <a:lnTo>
                  <a:pt x="249" y="159"/>
                </a:lnTo>
                <a:lnTo>
                  <a:pt x="238" y="161"/>
                </a:lnTo>
                <a:lnTo>
                  <a:pt x="226" y="163"/>
                </a:lnTo>
                <a:lnTo>
                  <a:pt x="213" y="165"/>
                </a:lnTo>
                <a:lnTo>
                  <a:pt x="201" y="167"/>
                </a:lnTo>
                <a:lnTo>
                  <a:pt x="195" y="169"/>
                </a:lnTo>
                <a:lnTo>
                  <a:pt x="190" y="169"/>
                </a:lnTo>
                <a:lnTo>
                  <a:pt x="184" y="169"/>
                </a:lnTo>
                <a:lnTo>
                  <a:pt x="178" y="169"/>
                </a:lnTo>
                <a:lnTo>
                  <a:pt x="172" y="169"/>
                </a:lnTo>
                <a:lnTo>
                  <a:pt x="167" y="169"/>
                </a:lnTo>
                <a:lnTo>
                  <a:pt x="161" y="169"/>
                </a:lnTo>
                <a:lnTo>
                  <a:pt x="155" y="171"/>
                </a:lnTo>
                <a:lnTo>
                  <a:pt x="134" y="175"/>
                </a:lnTo>
                <a:lnTo>
                  <a:pt x="115" y="178"/>
                </a:lnTo>
                <a:lnTo>
                  <a:pt x="96" y="184"/>
                </a:lnTo>
                <a:lnTo>
                  <a:pt x="77" y="190"/>
                </a:lnTo>
                <a:lnTo>
                  <a:pt x="57" y="196"/>
                </a:lnTo>
                <a:lnTo>
                  <a:pt x="38" y="199"/>
                </a:lnTo>
                <a:lnTo>
                  <a:pt x="19" y="205"/>
                </a:lnTo>
                <a:lnTo>
                  <a:pt x="0" y="209"/>
                </a:lnTo>
                <a:lnTo>
                  <a:pt x="4" y="205"/>
                </a:lnTo>
                <a:lnTo>
                  <a:pt x="7" y="203"/>
                </a:lnTo>
                <a:lnTo>
                  <a:pt x="11" y="201"/>
                </a:lnTo>
                <a:lnTo>
                  <a:pt x="15" y="199"/>
                </a:lnTo>
                <a:lnTo>
                  <a:pt x="17" y="196"/>
                </a:lnTo>
                <a:lnTo>
                  <a:pt x="23" y="194"/>
                </a:lnTo>
                <a:lnTo>
                  <a:pt x="27" y="194"/>
                </a:lnTo>
                <a:lnTo>
                  <a:pt x="30" y="194"/>
                </a:lnTo>
                <a:lnTo>
                  <a:pt x="78" y="188"/>
                </a:lnTo>
                <a:lnTo>
                  <a:pt x="124" y="186"/>
                </a:lnTo>
                <a:lnTo>
                  <a:pt x="172" y="182"/>
                </a:lnTo>
                <a:lnTo>
                  <a:pt x="218" y="180"/>
                </a:lnTo>
                <a:lnTo>
                  <a:pt x="266" y="176"/>
                </a:lnTo>
                <a:lnTo>
                  <a:pt x="313" y="175"/>
                </a:lnTo>
                <a:lnTo>
                  <a:pt x="360" y="171"/>
                </a:lnTo>
                <a:lnTo>
                  <a:pt x="407" y="165"/>
                </a:lnTo>
                <a:lnTo>
                  <a:pt x="416" y="163"/>
                </a:lnTo>
                <a:lnTo>
                  <a:pt x="426" y="159"/>
                </a:lnTo>
                <a:lnTo>
                  <a:pt x="433" y="155"/>
                </a:lnTo>
                <a:lnTo>
                  <a:pt x="443" y="152"/>
                </a:lnTo>
                <a:lnTo>
                  <a:pt x="451" y="146"/>
                </a:lnTo>
                <a:lnTo>
                  <a:pt x="460" y="142"/>
                </a:lnTo>
                <a:lnTo>
                  <a:pt x="470" y="138"/>
                </a:lnTo>
                <a:lnTo>
                  <a:pt x="478" y="134"/>
                </a:lnTo>
                <a:lnTo>
                  <a:pt x="508" y="127"/>
                </a:lnTo>
                <a:lnTo>
                  <a:pt x="537" y="119"/>
                </a:lnTo>
                <a:lnTo>
                  <a:pt x="566" y="107"/>
                </a:lnTo>
                <a:lnTo>
                  <a:pt x="593" y="96"/>
                </a:lnTo>
                <a:lnTo>
                  <a:pt x="619" y="84"/>
                </a:lnTo>
                <a:lnTo>
                  <a:pt x="646" y="73"/>
                </a:lnTo>
                <a:lnTo>
                  <a:pt x="673" y="63"/>
                </a:lnTo>
                <a:lnTo>
                  <a:pt x="702" y="54"/>
                </a:lnTo>
                <a:lnTo>
                  <a:pt x="708" y="50"/>
                </a:lnTo>
                <a:lnTo>
                  <a:pt x="715" y="46"/>
                </a:lnTo>
                <a:lnTo>
                  <a:pt x="721" y="42"/>
                </a:lnTo>
                <a:lnTo>
                  <a:pt x="727" y="38"/>
                </a:lnTo>
                <a:lnTo>
                  <a:pt x="733" y="33"/>
                </a:lnTo>
                <a:lnTo>
                  <a:pt x="738" y="29"/>
                </a:lnTo>
                <a:lnTo>
                  <a:pt x="744" y="25"/>
                </a:lnTo>
                <a:lnTo>
                  <a:pt x="750" y="23"/>
                </a:lnTo>
                <a:lnTo>
                  <a:pt x="777" y="15"/>
                </a:lnTo>
                <a:lnTo>
                  <a:pt x="802" y="8"/>
                </a:lnTo>
                <a:lnTo>
                  <a:pt x="827" y="4"/>
                </a:lnTo>
                <a:lnTo>
                  <a:pt x="854" y="2"/>
                </a:lnTo>
                <a:lnTo>
                  <a:pt x="879" y="0"/>
                </a:lnTo>
                <a:lnTo>
                  <a:pt x="905" y="2"/>
                </a:lnTo>
                <a:lnTo>
                  <a:pt x="930" y="6"/>
                </a:lnTo>
                <a:lnTo>
                  <a:pt x="957" y="11"/>
                </a:lnTo>
                <a:lnTo>
                  <a:pt x="967" y="15"/>
                </a:lnTo>
                <a:lnTo>
                  <a:pt x="978" y="17"/>
                </a:lnTo>
                <a:lnTo>
                  <a:pt x="992" y="21"/>
                </a:lnTo>
                <a:lnTo>
                  <a:pt x="1001" y="25"/>
                </a:lnTo>
                <a:lnTo>
                  <a:pt x="1011" y="29"/>
                </a:lnTo>
                <a:lnTo>
                  <a:pt x="1019" y="36"/>
                </a:lnTo>
                <a:lnTo>
                  <a:pt x="1020" y="40"/>
                </a:lnTo>
                <a:lnTo>
                  <a:pt x="1022" y="44"/>
                </a:lnTo>
                <a:lnTo>
                  <a:pt x="1022" y="50"/>
                </a:lnTo>
                <a:lnTo>
                  <a:pt x="1022" y="56"/>
                </a:lnTo>
                <a:lnTo>
                  <a:pt x="1020" y="61"/>
                </a:lnTo>
                <a:lnTo>
                  <a:pt x="1019" y="67"/>
                </a:lnTo>
                <a:lnTo>
                  <a:pt x="1013" y="71"/>
                </a:lnTo>
                <a:lnTo>
                  <a:pt x="1005" y="75"/>
                </a:lnTo>
                <a:lnTo>
                  <a:pt x="997" y="77"/>
                </a:lnTo>
                <a:lnTo>
                  <a:pt x="990" y="81"/>
                </a:lnTo>
                <a:lnTo>
                  <a:pt x="982" y="82"/>
                </a:lnTo>
                <a:lnTo>
                  <a:pt x="974" y="84"/>
                </a:lnTo>
                <a:lnTo>
                  <a:pt x="948" y="92"/>
                </a:lnTo>
                <a:lnTo>
                  <a:pt x="923" y="96"/>
                </a:lnTo>
                <a:lnTo>
                  <a:pt x="896" y="100"/>
                </a:lnTo>
                <a:lnTo>
                  <a:pt x="869" y="100"/>
                </a:lnTo>
                <a:lnTo>
                  <a:pt x="842" y="100"/>
                </a:lnTo>
                <a:lnTo>
                  <a:pt x="815" y="102"/>
                </a:lnTo>
                <a:lnTo>
                  <a:pt x="788" y="107"/>
                </a:lnTo>
                <a:lnTo>
                  <a:pt x="763" y="115"/>
                </a:lnTo>
                <a:lnTo>
                  <a:pt x="1059" y="73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Freeform 65"/>
          <p:cNvSpPr/>
          <p:nvPr/>
        </p:nvSpPr>
        <p:spPr>
          <a:xfrm>
            <a:off x="5494320" y="3270240"/>
            <a:ext cx="1114560" cy="547560"/>
          </a:xfrm>
          <a:custGeom>
            <a:avLst/>
            <a:gdLst>
              <a:gd name="textAreaLeft" fmla="*/ 0 w 1114560"/>
              <a:gd name="textAreaRight" fmla="*/ 1114920 w 1114560"/>
              <a:gd name="textAreaTop" fmla="*/ 0 h 547560"/>
              <a:gd name="textAreaBottom" fmla="*/ 547920 h 547560"/>
            </a:gdLst>
            <a:ahLst/>
            <a:rect l="textAreaLeft" t="textAreaTop" r="textAreaRight" b="textAreaBottom"/>
            <a:pathLst>
              <a:path w="702" h="345">
                <a:moveTo>
                  <a:pt x="0" y="0"/>
                </a:moveTo>
                <a:lnTo>
                  <a:pt x="63" y="27"/>
                </a:lnTo>
                <a:lnTo>
                  <a:pt x="125" y="55"/>
                </a:lnTo>
                <a:lnTo>
                  <a:pt x="186" y="82"/>
                </a:lnTo>
                <a:lnTo>
                  <a:pt x="248" y="111"/>
                </a:lnTo>
                <a:lnTo>
                  <a:pt x="309" y="140"/>
                </a:lnTo>
                <a:lnTo>
                  <a:pt x="370" y="169"/>
                </a:lnTo>
                <a:lnTo>
                  <a:pt x="432" y="199"/>
                </a:lnTo>
                <a:lnTo>
                  <a:pt x="491" y="230"/>
                </a:lnTo>
                <a:lnTo>
                  <a:pt x="499" y="234"/>
                </a:lnTo>
                <a:lnTo>
                  <a:pt x="505" y="240"/>
                </a:lnTo>
                <a:lnTo>
                  <a:pt x="510" y="245"/>
                </a:lnTo>
                <a:lnTo>
                  <a:pt x="514" y="251"/>
                </a:lnTo>
                <a:lnTo>
                  <a:pt x="520" y="259"/>
                </a:lnTo>
                <a:lnTo>
                  <a:pt x="526" y="264"/>
                </a:lnTo>
                <a:lnTo>
                  <a:pt x="533" y="268"/>
                </a:lnTo>
                <a:lnTo>
                  <a:pt x="541" y="274"/>
                </a:lnTo>
                <a:lnTo>
                  <a:pt x="545" y="276"/>
                </a:lnTo>
                <a:lnTo>
                  <a:pt x="551" y="278"/>
                </a:lnTo>
                <a:lnTo>
                  <a:pt x="556" y="278"/>
                </a:lnTo>
                <a:lnTo>
                  <a:pt x="562" y="278"/>
                </a:lnTo>
                <a:lnTo>
                  <a:pt x="568" y="278"/>
                </a:lnTo>
                <a:lnTo>
                  <a:pt x="574" y="280"/>
                </a:lnTo>
                <a:lnTo>
                  <a:pt x="579" y="280"/>
                </a:lnTo>
                <a:lnTo>
                  <a:pt x="585" y="282"/>
                </a:lnTo>
                <a:lnTo>
                  <a:pt x="589" y="284"/>
                </a:lnTo>
                <a:lnTo>
                  <a:pt x="593" y="286"/>
                </a:lnTo>
                <a:lnTo>
                  <a:pt x="597" y="289"/>
                </a:lnTo>
                <a:lnTo>
                  <a:pt x="601" y="293"/>
                </a:lnTo>
                <a:lnTo>
                  <a:pt x="604" y="295"/>
                </a:lnTo>
                <a:lnTo>
                  <a:pt x="608" y="297"/>
                </a:lnTo>
                <a:lnTo>
                  <a:pt x="612" y="301"/>
                </a:lnTo>
                <a:lnTo>
                  <a:pt x="616" y="301"/>
                </a:lnTo>
                <a:lnTo>
                  <a:pt x="629" y="305"/>
                </a:lnTo>
                <a:lnTo>
                  <a:pt x="641" y="309"/>
                </a:lnTo>
                <a:lnTo>
                  <a:pt x="652" y="312"/>
                </a:lnTo>
                <a:lnTo>
                  <a:pt x="664" y="318"/>
                </a:lnTo>
                <a:lnTo>
                  <a:pt x="674" y="322"/>
                </a:lnTo>
                <a:lnTo>
                  <a:pt x="683" y="330"/>
                </a:lnTo>
                <a:lnTo>
                  <a:pt x="693" y="335"/>
                </a:lnTo>
                <a:lnTo>
                  <a:pt x="702" y="345"/>
                </a:lnTo>
                <a:lnTo>
                  <a:pt x="687" y="345"/>
                </a:lnTo>
                <a:lnTo>
                  <a:pt x="670" y="345"/>
                </a:lnTo>
                <a:lnTo>
                  <a:pt x="652" y="343"/>
                </a:lnTo>
                <a:lnTo>
                  <a:pt x="637" y="339"/>
                </a:lnTo>
                <a:lnTo>
                  <a:pt x="606" y="330"/>
                </a:lnTo>
                <a:lnTo>
                  <a:pt x="576" y="316"/>
                </a:lnTo>
                <a:lnTo>
                  <a:pt x="545" y="301"/>
                </a:lnTo>
                <a:lnTo>
                  <a:pt x="514" y="286"/>
                </a:lnTo>
                <a:lnTo>
                  <a:pt x="484" y="270"/>
                </a:lnTo>
                <a:lnTo>
                  <a:pt x="451" y="259"/>
                </a:lnTo>
                <a:lnTo>
                  <a:pt x="413" y="243"/>
                </a:lnTo>
                <a:lnTo>
                  <a:pt x="372" y="228"/>
                </a:lnTo>
                <a:lnTo>
                  <a:pt x="336" y="211"/>
                </a:lnTo>
                <a:lnTo>
                  <a:pt x="299" y="192"/>
                </a:lnTo>
                <a:lnTo>
                  <a:pt x="263" y="170"/>
                </a:lnTo>
                <a:lnTo>
                  <a:pt x="226" y="149"/>
                </a:lnTo>
                <a:lnTo>
                  <a:pt x="190" y="128"/>
                </a:lnTo>
                <a:lnTo>
                  <a:pt x="154" y="105"/>
                </a:lnTo>
                <a:lnTo>
                  <a:pt x="136" y="96"/>
                </a:lnTo>
                <a:lnTo>
                  <a:pt x="117" y="84"/>
                </a:lnTo>
                <a:lnTo>
                  <a:pt x="102" y="73"/>
                </a:lnTo>
                <a:lnTo>
                  <a:pt x="84" y="61"/>
                </a:lnTo>
                <a:lnTo>
                  <a:pt x="69" y="48"/>
                </a:lnTo>
                <a:lnTo>
                  <a:pt x="54" y="34"/>
                </a:lnTo>
                <a:lnTo>
                  <a:pt x="38" y="19"/>
                </a:lnTo>
                <a:lnTo>
                  <a:pt x="27" y="4"/>
                </a:lnTo>
                <a:lnTo>
                  <a:pt x="0" y="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Freeform 66"/>
          <p:cNvSpPr/>
          <p:nvPr/>
        </p:nvSpPr>
        <p:spPr>
          <a:xfrm>
            <a:off x="4343400" y="1317600"/>
            <a:ext cx="620640" cy="1236600"/>
          </a:xfrm>
          <a:custGeom>
            <a:avLst/>
            <a:gdLst>
              <a:gd name="textAreaLeft" fmla="*/ 0 w 620640"/>
              <a:gd name="textAreaRight" fmla="*/ 621000 w 620640"/>
              <a:gd name="textAreaTop" fmla="*/ 0 h 1236600"/>
              <a:gd name="textAreaBottom" fmla="*/ 1236960 h 1236600"/>
            </a:gdLst>
            <a:ahLst/>
            <a:rect l="textAreaLeft" t="textAreaTop" r="textAreaRight" b="textAreaBottom"/>
            <a:pathLst>
              <a:path w="391" h="779">
                <a:moveTo>
                  <a:pt x="389" y="719"/>
                </a:moveTo>
                <a:lnTo>
                  <a:pt x="391" y="716"/>
                </a:lnTo>
                <a:lnTo>
                  <a:pt x="391" y="710"/>
                </a:lnTo>
                <a:lnTo>
                  <a:pt x="391" y="706"/>
                </a:lnTo>
                <a:lnTo>
                  <a:pt x="391" y="700"/>
                </a:lnTo>
                <a:lnTo>
                  <a:pt x="391" y="695"/>
                </a:lnTo>
                <a:lnTo>
                  <a:pt x="391" y="691"/>
                </a:lnTo>
                <a:lnTo>
                  <a:pt x="389" y="687"/>
                </a:lnTo>
                <a:lnTo>
                  <a:pt x="387" y="683"/>
                </a:lnTo>
                <a:lnTo>
                  <a:pt x="374" y="658"/>
                </a:lnTo>
                <a:lnTo>
                  <a:pt x="361" y="635"/>
                </a:lnTo>
                <a:lnTo>
                  <a:pt x="349" y="610"/>
                </a:lnTo>
                <a:lnTo>
                  <a:pt x="339" y="587"/>
                </a:lnTo>
                <a:lnTo>
                  <a:pt x="328" y="564"/>
                </a:lnTo>
                <a:lnTo>
                  <a:pt x="314" y="541"/>
                </a:lnTo>
                <a:lnTo>
                  <a:pt x="301" y="518"/>
                </a:lnTo>
                <a:lnTo>
                  <a:pt x="286" y="495"/>
                </a:lnTo>
                <a:lnTo>
                  <a:pt x="282" y="487"/>
                </a:lnTo>
                <a:lnTo>
                  <a:pt x="278" y="482"/>
                </a:lnTo>
                <a:lnTo>
                  <a:pt x="276" y="474"/>
                </a:lnTo>
                <a:lnTo>
                  <a:pt x="274" y="466"/>
                </a:lnTo>
                <a:lnTo>
                  <a:pt x="272" y="459"/>
                </a:lnTo>
                <a:lnTo>
                  <a:pt x="270" y="453"/>
                </a:lnTo>
                <a:lnTo>
                  <a:pt x="266" y="445"/>
                </a:lnTo>
                <a:lnTo>
                  <a:pt x="263" y="441"/>
                </a:lnTo>
                <a:lnTo>
                  <a:pt x="240" y="414"/>
                </a:lnTo>
                <a:lnTo>
                  <a:pt x="219" y="388"/>
                </a:lnTo>
                <a:lnTo>
                  <a:pt x="196" y="359"/>
                </a:lnTo>
                <a:lnTo>
                  <a:pt x="174" y="332"/>
                </a:lnTo>
                <a:lnTo>
                  <a:pt x="153" y="305"/>
                </a:lnTo>
                <a:lnTo>
                  <a:pt x="132" y="276"/>
                </a:lnTo>
                <a:lnTo>
                  <a:pt x="111" y="249"/>
                </a:lnTo>
                <a:lnTo>
                  <a:pt x="88" y="223"/>
                </a:lnTo>
                <a:lnTo>
                  <a:pt x="82" y="215"/>
                </a:lnTo>
                <a:lnTo>
                  <a:pt x="77" y="207"/>
                </a:lnTo>
                <a:lnTo>
                  <a:pt x="73" y="200"/>
                </a:lnTo>
                <a:lnTo>
                  <a:pt x="69" y="190"/>
                </a:lnTo>
                <a:lnTo>
                  <a:pt x="65" y="173"/>
                </a:lnTo>
                <a:lnTo>
                  <a:pt x="65" y="155"/>
                </a:lnTo>
                <a:lnTo>
                  <a:pt x="65" y="136"/>
                </a:lnTo>
                <a:lnTo>
                  <a:pt x="65" y="117"/>
                </a:lnTo>
                <a:lnTo>
                  <a:pt x="63" y="98"/>
                </a:lnTo>
                <a:lnTo>
                  <a:pt x="61" y="79"/>
                </a:lnTo>
                <a:lnTo>
                  <a:pt x="59" y="69"/>
                </a:lnTo>
                <a:lnTo>
                  <a:pt x="55" y="60"/>
                </a:lnTo>
                <a:lnTo>
                  <a:pt x="50" y="52"/>
                </a:lnTo>
                <a:lnTo>
                  <a:pt x="44" y="44"/>
                </a:lnTo>
                <a:lnTo>
                  <a:pt x="36" y="37"/>
                </a:lnTo>
                <a:lnTo>
                  <a:pt x="27" y="31"/>
                </a:lnTo>
                <a:lnTo>
                  <a:pt x="19" y="25"/>
                </a:lnTo>
                <a:lnTo>
                  <a:pt x="9" y="19"/>
                </a:lnTo>
                <a:lnTo>
                  <a:pt x="7" y="17"/>
                </a:lnTo>
                <a:lnTo>
                  <a:pt x="7" y="15"/>
                </a:lnTo>
                <a:lnTo>
                  <a:pt x="7" y="13"/>
                </a:lnTo>
                <a:lnTo>
                  <a:pt x="7" y="10"/>
                </a:lnTo>
                <a:lnTo>
                  <a:pt x="6" y="8"/>
                </a:lnTo>
                <a:lnTo>
                  <a:pt x="6" y="6"/>
                </a:lnTo>
                <a:lnTo>
                  <a:pt x="4" y="2"/>
                </a:lnTo>
                <a:lnTo>
                  <a:pt x="2" y="0"/>
                </a:lnTo>
                <a:lnTo>
                  <a:pt x="0" y="12"/>
                </a:lnTo>
                <a:lnTo>
                  <a:pt x="0" y="21"/>
                </a:lnTo>
                <a:lnTo>
                  <a:pt x="2" y="31"/>
                </a:lnTo>
                <a:lnTo>
                  <a:pt x="4" y="38"/>
                </a:lnTo>
                <a:lnTo>
                  <a:pt x="6" y="48"/>
                </a:lnTo>
                <a:lnTo>
                  <a:pt x="9" y="56"/>
                </a:lnTo>
                <a:lnTo>
                  <a:pt x="13" y="63"/>
                </a:lnTo>
                <a:lnTo>
                  <a:pt x="19" y="71"/>
                </a:lnTo>
                <a:lnTo>
                  <a:pt x="38" y="102"/>
                </a:lnTo>
                <a:lnTo>
                  <a:pt x="55" y="132"/>
                </a:lnTo>
                <a:lnTo>
                  <a:pt x="71" y="163"/>
                </a:lnTo>
                <a:lnTo>
                  <a:pt x="84" y="194"/>
                </a:lnTo>
                <a:lnTo>
                  <a:pt x="100" y="225"/>
                </a:lnTo>
                <a:lnTo>
                  <a:pt x="113" y="255"/>
                </a:lnTo>
                <a:lnTo>
                  <a:pt x="126" y="286"/>
                </a:lnTo>
                <a:lnTo>
                  <a:pt x="144" y="317"/>
                </a:lnTo>
                <a:lnTo>
                  <a:pt x="153" y="332"/>
                </a:lnTo>
                <a:lnTo>
                  <a:pt x="165" y="349"/>
                </a:lnTo>
                <a:lnTo>
                  <a:pt x="174" y="365"/>
                </a:lnTo>
                <a:lnTo>
                  <a:pt x="184" y="382"/>
                </a:lnTo>
                <a:lnTo>
                  <a:pt x="192" y="399"/>
                </a:lnTo>
                <a:lnTo>
                  <a:pt x="199" y="418"/>
                </a:lnTo>
                <a:lnTo>
                  <a:pt x="201" y="439"/>
                </a:lnTo>
                <a:lnTo>
                  <a:pt x="201" y="460"/>
                </a:lnTo>
                <a:lnTo>
                  <a:pt x="213" y="468"/>
                </a:lnTo>
                <a:lnTo>
                  <a:pt x="220" y="474"/>
                </a:lnTo>
                <a:lnTo>
                  <a:pt x="230" y="482"/>
                </a:lnTo>
                <a:lnTo>
                  <a:pt x="236" y="491"/>
                </a:lnTo>
                <a:lnTo>
                  <a:pt x="249" y="510"/>
                </a:lnTo>
                <a:lnTo>
                  <a:pt x="261" y="531"/>
                </a:lnTo>
                <a:lnTo>
                  <a:pt x="268" y="553"/>
                </a:lnTo>
                <a:lnTo>
                  <a:pt x="276" y="576"/>
                </a:lnTo>
                <a:lnTo>
                  <a:pt x="284" y="599"/>
                </a:lnTo>
                <a:lnTo>
                  <a:pt x="291" y="622"/>
                </a:lnTo>
                <a:lnTo>
                  <a:pt x="295" y="629"/>
                </a:lnTo>
                <a:lnTo>
                  <a:pt x="299" y="637"/>
                </a:lnTo>
                <a:lnTo>
                  <a:pt x="303" y="645"/>
                </a:lnTo>
                <a:lnTo>
                  <a:pt x="309" y="652"/>
                </a:lnTo>
                <a:lnTo>
                  <a:pt x="314" y="658"/>
                </a:lnTo>
                <a:lnTo>
                  <a:pt x="320" y="666"/>
                </a:lnTo>
                <a:lnTo>
                  <a:pt x="324" y="671"/>
                </a:lnTo>
                <a:lnTo>
                  <a:pt x="330" y="679"/>
                </a:lnTo>
                <a:lnTo>
                  <a:pt x="332" y="685"/>
                </a:lnTo>
                <a:lnTo>
                  <a:pt x="334" y="691"/>
                </a:lnTo>
                <a:lnTo>
                  <a:pt x="336" y="696"/>
                </a:lnTo>
                <a:lnTo>
                  <a:pt x="336" y="700"/>
                </a:lnTo>
                <a:lnTo>
                  <a:pt x="337" y="706"/>
                </a:lnTo>
                <a:lnTo>
                  <a:pt x="339" y="712"/>
                </a:lnTo>
                <a:lnTo>
                  <a:pt x="341" y="716"/>
                </a:lnTo>
                <a:lnTo>
                  <a:pt x="345" y="719"/>
                </a:lnTo>
                <a:lnTo>
                  <a:pt x="349" y="725"/>
                </a:lnTo>
                <a:lnTo>
                  <a:pt x="355" y="731"/>
                </a:lnTo>
                <a:lnTo>
                  <a:pt x="361" y="737"/>
                </a:lnTo>
                <a:lnTo>
                  <a:pt x="364" y="742"/>
                </a:lnTo>
                <a:lnTo>
                  <a:pt x="370" y="748"/>
                </a:lnTo>
                <a:lnTo>
                  <a:pt x="374" y="754"/>
                </a:lnTo>
                <a:lnTo>
                  <a:pt x="376" y="762"/>
                </a:lnTo>
                <a:lnTo>
                  <a:pt x="378" y="769"/>
                </a:lnTo>
                <a:lnTo>
                  <a:pt x="378" y="769"/>
                </a:lnTo>
                <a:lnTo>
                  <a:pt x="376" y="771"/>
                </a:lnTo>
                <a:lnTo>
                  <a:pt x="376" y="771"/>
                </a:lnTo>
                <a:lnTo>
                  <a:pt x="374" y="773"/>
                </a:lnTo>
                <a:lnTo>
                  <a:pt x="372" y="773"/>
                </a:lnTo>
                <a:lnTo>
                  <a:pt x="372" y="775"/>
                </a:lnTo>
                <a:lnTo>
                  <a:pt x="372" y="777"/>
                </a:lnTo>
                <a:lnTo>
                  <a:pt x="372" y="779"/>
                </a:lnTo>
                <a:lnTo>
                  <a:pt x="389" y="719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Freeform 67"/>
          <p:cNvSpPr/>
          <p:nvPr/>
        </p:nvSpPr>
        <p:spPr>
          <a:xfrm>
            <a:off x="3611520" y="1825560"/>
            <a:ext cx="1192320" cy="944640"/>
          </a:xfrm>
          <a:custGeom>
            <a:avLst/>
            <a:gdLst>
              <a:gd name="textAreaLeft" fmla="*/ 0 w 1192320"/>
              <a:gd name="textAreaRight" fmla="*/ 1192680 w 1192320"/>
              <a:gd name="textAreaTop" fmla="*/ 0 h 944640"/>
              <a:gd name="textAreaBottom" fmla="*/ 945000 h 944640"/>
            </a:gdLst>
            <a:ahLst/>
            <a:rect l="textAreaLeft" t="textAreaTop" r="textAreaRight" b="textAreaBottom"/>
            <a:pathLst>
              <a:path w="751" h="595">
                <a:moveTo>
                  <a:pt x="749" y="586"/>
                </a:moveTo>
                <a:lnTo>
                  <a:pt x="743" y="564"/>
                </a:lnTo>
                <a:lnTo>
                  <a:pt x="733" y="545"/>
                </a:lnTo>
                <a:lnTo>
                  <a:pt x="720" y="528"/>
                </a:lnTo>
                <a:lnTo>
                  <a:pt x="704" y="511"/>
                </a:lnTo>
                <a:lnTo>
                  <a:pt x="687" y="493"/>
                </a:lnTo>
                <a:lnTo>
                  <a:pt x="668" y="480"/>
                </a:lnTo>
                <a:lnTo>
                  <a:pt x="649" y="465"/>
                </a:lnTo>
                <a:lnTo>
                  <a:pt x="628" y="451"/>
                </a:lnTo>
                <a:lnTo>
                  <a:pt x="626" y="449"/>
                </a:lnTo>
                <a:lnTo>
                  <a:pt x="624" y="447"/>
                </a:lnTo>
                <a:lnTo>
                  <a:pt x="624" y="444"/>
                </a:lnTo>
                <a:lnTo>
                  <a:pt x="624" y="440"/>
                </a:lnTo>
                <a:lnTo>
                  <a:pt x="624" y="436"/>
                </a:lnTo>
                <a:lnTo>
                  <a:pt x="622" y="432"/>
                </a:lnTo>
                <a:lnTo>
                  <a:pt x="622" y="428"/>
                </a:lnTo>
                <a:lnTo>
                  <a:pt x="620" y="426"/>
                </a:lnTo>
                <a:lnTo>
                  <a:pt x="597" y="407"/>
                </a:lnTo>
                <a:lnTo>
                  <a:pt x="574" y="390"/>
                </a:lnTo>
                <a:lnTo>
                  <a:pt x="551" y="373"/>
                </a:lnTo>
                <a:lnTo>
                  <a:pt x="530" y="355"/>
                </a:lnTo>
                <a:lnTo>
                  <a:pt x="507" y="338"/>
                </a:lnTo>
                <a:lnTo>
                  <a:pt x="484" y="323"/>
                </a:lnTo>
                <a:lnTo>
                  <a:pt x="461" y="307"/>
                </a:lnTo>
                <a:lnTo>
                  <a:pt x="434" y="290"/>
                </a:lnTo>
                <a:lnTo>
                  <a:pt x="407" y="275"/>
                </a:lnTo>
                <a:lnTo>
                  <a:pt x="380" y="257"/>
                </a:lnTo>
                <a:lnTo>
                  <a:pt x="355" y="240"/>
                </a:lnTo>
                <a:lnTo>
                  <a:pt x="330" y="221"/>
                </a:lnTo>
                <a:lnTo>
                  <a:pt x="282" y="183"/>
                </a:lnTo>
                <a:lnTo>
                  <a:pt x="234" y="144"/>
                </a:lnTo>
                <a:lnTo>
                  <a:pt x="209" y="125"/>
                </a:lnTo>
                <a:lnTo>
                  <a:pt x="185" y="106"/>
                </a:lnTo>
                <a:lnTo>
                  <a:pt x="160" y="89"/>
                </a:lnTo>
                <a:lnTo>
                  <a:pt x="133" y="73"/>
                </a:lnTo>
                <a:lnTo>
                  <a:pt x="106" y="60"/>
                </a:lnTo>
                <a:lnTo>
                  <a:pt x="77" y="46"/>
                </a:lnTo>
                <a:lnTo>
                  <a:pt x="46" y="35"/>
                </a:lnTo>
                <a:lnTo>
                  <a:pt x="14" y="27"/>
                </a:lnTo>
                <a:lnTo>
                  <a:pt x="12" y="25"/>
                </a:lnTo>
                <a:lnTo>
                  <a:pt x="8" y="23"/>
                </a:lnTo>
                <a:lnTo>
                  <a:pt x="6" y="20"/>
                </a:lnTo>
                <a:lnTo>
                  <a:pt x="4" y="16"/>
                </a:lnTo>
                <a:lnTo>
                  <a:pt x="2" y="14"/>
                </a:lnTo>
                <a:lnTo>
                  <a:pt x="2" y="10"/>
                </a:lnTo>
                <a:lnTo>
                  <a:pt x="0" y="4"/>
                </a:lnTo>
                <a:lnTo>
                  <a:pt x="2" y="0"/>
                </a:lnTo>
                <a:lnTo>
                  <a:pt x="35" y="18"/>
                </a:lnTo>
                <a:lnTo>
                  <a:pt x="71" y="33"/>
                </a:lnTo>
                <a:lnTo>
                  <a:pt x="106" y="48"/>
                </a:lnTo>
                <a:lnTo>
                  <a:pt x="140" y="64"/>
                </a:lnTo>
                <a:lnTo>
                  <a:pt x="173" y="81"/>
                </a:lnTo>
                <a:lnTo>
                  <a:pt x="206" y="100"/>
                </a:lnTo>
                <a:lnTo>
                  <a:pt x="221" y="110"/>
                </a:lnTo>
                <a:lnTo>
                  <a:pt x="234" y="123"/>
                </a:lnTo>
                <a:lnTo>
                  <a:pt x="248" y="135"/>
                </a:lnTo>
                <a:lnTo>
                  <a:pt x="261" y="148"/>
                </a:lnTo>
                <a:lnTo>
                  <a:pt x="307" y="202"/>
                </a:lnTo>
                <a:lnTo>
                  <a:pt x="353" y="252"/>
                </a:lnTo>
                <a:lnTo>
                  <a:pt x="401" y="302"/>
                </a:lnTo>
                <a:lnTo>
                  <a:pt x="449" y="351"/>
                </a:lnTo>
                <a:lnTo>
                  <a:pt x="499" y="398"/>
                </a:lnTo>
                <a:lnTo>
                  <a:pt x="551" y="444"/>
                </a:lnTo>
                <a:lnTo>
                  <a:pt x="605" y="490"/>
                </a:lnTo>
                <a:lnTo>
                  <a:pt x="660" y="532"/>
                </a:lnTo>
                <a:lnTo>
                  <a:pt x="664" y="538"/>
                </a:lnTo>
                <a:lnTo>
                  <a:pt x="668" y="543"/>
                </a:lnTo>
                <a:lnTo>
                  <a:pt x="672" y="549"/>
                </a:lnTo>
                <a:lnTo>
                  <a:pt x="674" y="557"/>
                </a:lnTo>
                <a:lnTo>
                  <a:pt x="678" y="563"/>
                </a:lnTo>
                <a:lnTo>
                  <a:pt x="680" y="566"/>
                </a:lnTo>
                <a:lnTo>
                  <a:pt x="681" y="572"/>
                </a:lnTo>
                <a:lnTo>
                  <a:pt x="685" y="574"/>
                </a:lnTo>
                <a:lnTo>
                  <a:pt x="695" y="576"/>
                </a:lnTo>
                <a:lnTo>
                  <a:pt x="706" y="580"/>
                </a:lnTo>
                <a:lnTo>
                  <a:pt x="718" y="586"/>
                </a:lnTo>
                <a:lnTo>
                  <a:pt x="727" y="589"/>
                </a:lnTo>
                <a:lnTo>
                  <a:pt x="737" y="593"/>
                </a:lnTo>
                <a:lnTo>
                  <a:pt x="745" y="595"/>
                </a:lnTo>
                <a:lnTo>
                  <a:pt x="747" y="595"/>
                </a:lnTo>
                <a:lnTo>
                  <a:pt x="749" y="593"/>
                </a:lnTo>
                <a:lnTo>
                  <a:pt x="751" y="589"/>
                </a:lnTo>
                <a:lnTo>
                  <a:pt x="749" y="586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Freeform 68"/>
          <p:cNvSpPr/>
          <p:nvPr/>
        </p:nvSpPr>
        <p:spPr>
          <a:xfrm>
            <a:off x="3322800" y="2374920"/>
            <a:ext cx="1562040" cy="461880"/>
          </a:xfrm>
          <a:custGeom>
            <a:avLst/>
            <a:gdLst>
              <a:gd name="textAreaLeft" fmla="*/ 0 w 1562040"/>
              <a:gd name="textAreaRight" fmla="*/ 1562400 w 1562040"/>
              <a:gd name="textAreaTop" fmla="*/ 0 h 461880"/>
              <a:gd name="textAreaBottom" fmla="*/ 462240 h 461880"/>
            </a:gdLst>
            <a:ahLst/>
            <a:rect l="textAreaLeft" t="textAreaTop" r="textAreaRight" b="textAreaBottom"/>
            <a:pathLst>
              <a:path w="984" h="291">
                <a:moveTo>
                  <a:pt x="814" y="291"/>
                </a:moveTo>
                <a:lnTo>
                  <a:pt x="798" y="278"/>
                </a:lnTo>
                <a:lnTo>
                  <a:pt x="783" y="264"/>
                </a:lnTo>
                <a:lnTo>
                  <a:pt x="768" y="253"/>
                </a:lnTo>
                <a:lnTo>
                  <a:pt x="750" y="243"/>
                </a:lnTo>
                <a:lnTo>
                  <a:pt x="733" y="234"/>
                </a:lnTo>
                <a:lnTo>
                  <a:pt x="716" y="224"/>
                </a:lnTo>
                <a:lnTo>
                  <a:pt x="697" y="218"/>
                </a:lnTo>
                <a:lnTo>
                  <a:pt x="677" y="213"/>
                </a:lnTo>
                <a:lnTo>
                  <a:pt x="660" y="207"/>
                </a:lnTo>
                <a:lnTo>
                  <a:pt x="643" y="199"/>
                </a:lnTo>
                <a:lnTo>
                  <a:pt x="626" y="190"/>
                </a:lnTo>
                <a:lnTo>
                  <a:pt x="610" y="182"/>
                </a:lnTo>
                <a:lnTo>
                  <a:pt x="593" y="176"/>
                </a:lnTo>
                <a:lnTo>
                  <a:pt x="576" y="172"/>
                </a:lnTo>
                <a:lnTo>
                  <a:pt x="566" y="170"/>
                </a:lnTo>
                <a:lnTo>
                  <a:pt x="556" y="170"/>
                </a:lnTo>
                <a:lnTo>
                  <a:pt x="547" y="172"/>
                </a:lnTo>
                <a:lnTo>
                  <a:pt x="537" y="174"/>
                </a:lnTo>
                <a:lnTo>
                  <a:pt x="482" y="147"/>
                </a:lnTo>
                <a:lnTo>
                  <a:pt x="426" y="123"/>
                </a:lnTo>
                <a:lnTo>
                  <a:pt x="368" y="101"/>
                </a:lnTo>
                <a:lnTo>
                  <a:pt x="311" y="80"/>
                </a:lnTo>
                <a:lnTo>
                  <a:pt x="253" y="63"/>
                </a:lnTo>
                <a:lnTo>
                  <a:pt x="196" y="44"/>
                </a:lnTo>
                <a:lnTo>
                  <a:pt x="136" y="27"/>
                </a:lnTo>
                <a:lnTo>
                  <a:pt x="77" y="11"/>
                </a:lnTo>
                <a:lnTo>
                  <a:pt x="67" y="9"/>
                </a:lnTo>
                <a:lnTo>
                  <a:pt x="58" y="5"/>
                </a:lnTo>
                <a:lnTo>
                  <a:pt x="46" y="4"/>
                </a:lnTo>
                <a:lnTo>
                  <a:pt x="37" y="2"/>
                </a:lnTo>
                <a:lnTo>
                  <a:pt x="27" y="0"/>
                </a:lnTo>
                <a:lnTo>
                  <a:pt x="19" y="0"/>
                </a:lnTo>
                <a:lnTo>
                  <a:pt x="10" y="2"/>
                </a:lnTo>
                <a:lnTo>
                  <a:pt x="4" y="5"/>
                </a:lnTo>
                <a:lnTo>
                  <a:pt x="0" y="9"/>
                </a:lnTo>
                <a:lnTo>
                  <a:pt x="0" y="13"/>
                </a:lnTo>
                <a:lnTo>
                  <a:pt x="0" y="19"/>
                </a:lnTo>
                <a:lnTo>
                  <a:pt x="4" y="23"/>
                </a:lnTo>
                <a:lnTo>
                  <a:pt x="6" y="29"/>
                </a:lnTo>
                <a:lnTo>
                  <a:pt x="10" y="34"/>
                </a:lnTo>
                <a:lnTo>
                  <a:pt x="13" y="38"/>
                </a:lnTo>
                <a:lnTo>
                  <a:pt x="19" y="40"/>
                </a:lnTo>
                <a:lnTo>
                  <a:pt x="81" y="61"/>
                </a:lnTo>
                <a:lnTo>
                  <a:pt x="140" y="82"/>
                </a:lnTo>
                <a:lnTo>
                  <a:pt x="202" y="103"/>
                </a:lnTo>
                <a:lnTo>
                  <a:pt x="261" y="124"/>
                </a:lnTo>
                <a:lnTo>
                  <a:pt x="322" y="146"/>
                </a:lnTo>
                <a:lnTo>
                  <a:pt x="384" y="167"/>
                </a:lnTo>
                <a:lnTo>
                  <a:pt x="445" y="186"/>
                </a:lnTo>
                <a:lnTo>
                  <a:pt x="508" y="205"/>
                </a:lnTo>
                <a:lnTo>
                  <a:pt x="520" y="207"/>
                </a:lnTo>
                <a:lnTo>
                  <a:pt x="532" y="211"/>
                </a:lnTo>
                <a:lnTo>
                  <a:pt x="543" y="213"/>
                </a:lnTo>
                <a:lnTo>
                  <a:pt x="555" y="215"/>
                </a:lnTo>
                <a:lnTo>
                  <a:pt x="566" y="218"/>
                </a:lnTo>
                <a:lnTo>
                  <a:pt x="579" y="220"/>
                </a:lnTo>
                <a:lnTo>
                  <a:pt x="591" y="220"/>
                </a:lnTo>
                <a:lnTo>
                  <a:pt x="603" y="222"/>
                </a:lnTo>
                <a:lnTo>
                  <a:pt x="635" y="224"/>
                </a:lnTo>
                <a:lnTo>
                  <a:pt x="668" y="228"/>
                </a:lnTo>
                <a:lnTo>
                  <a:pt x="700" y="232"/>
                </a:lnTo>
                <a:lnTo>
                  <a:pt x="731" y="238"/>
                </a:lnTo>
                <a:lnTo>
                  <a:pt x="764" y="243"/>
                </a:lnTo>
                <a:lnTo>
                  <a:pt x="796" y="249"/>
                </a:lnTo>
                <a:lnTo>
                  <a:pt x="827" y="257"/>
                </a:lnTo>
                <a:lnTo>
                  <a:pt x="860" y="263"/>
                </a:lnTo>
                <a:lnTo>
                  <a:pt x="877" y="266"/>
                </a:lnTo>
                <a:lnTo>
                  <a:pt x="892" y="268"/>
                </a:lnTo>
                <a:lnTo>
                  <a:pt x="909" y="270"/>
                </a:lnTo>
                <a:lnTo>
                  <a:pt x="925" y="272"/>
                </a:lnTo>
                <a:lnTo>
                  <a:pt x="940" y="274"/>
                </a:lnTo>
                <a:lnTo>
                  <a:pt x="956" y="276"/>
                </a:lnTo>
                <a:lnTo>
                  <a:pt x="971" y="280"/>
                </a:lnTo>
                <a:lnTo>
                  <a:pt x="984" y="286"/>
                </a:lnTo>
                <a:lnTo>
                  <a:pt x="814" y="291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Freeform 69"/>
          <p:cNvSpPr/>
          <p:nvPr/>
        </p:nvSpPr>
        <p:spPr>
          <a:xfrm>
            <a:off x="3200400" y="2828880"/>
            <a:ext cx="1604880" cy="185760"/>
          </a:xfrm>
          <a:custGeom>
            <a:avLst/>
            <a:gdLst>
              <a:gd name="textAreaLeft" fmla="*/ 0 w 1604880"/>
              <a:gd name="textAreaRight" fmla="*/ 1605240 w 1604880"/>
              <a:gd name="textAreaTop" fmla="*/ 0 h 185760"/>
              <a:gd name="textAreaBottom" fmla="*/ 186120 h 185760"/>
            </a:gdLst>
            <a:ahLst/>
            <a:rect l="textAreaLeft" t="textAreaTop" r="textAreaRight" b="textAreaBottom"/>
            <a:pathLst>
              <a:path w="1011" h="117">
                <a:moveTo>
                  <a:pt x="963" y="117"/>
                </a:moveTo>
                <a:lnTo>
                  <a:pt x="950" y="113"/>
                </a:lnTo>
                <a:lnTo>
                  <a:pt x="937" y="109"/>
                </a:lnTo>
                <a:lnTo>
                  <a:pt x="923" y="107"/>
                </a:lnTo>
                <a:lnTo>
                  <a:pt x="910" y="105"/>
                </a:lnTo>
                <a:lnTo>
                  <a:pt x="896" y="103"/>
                </a:lnTo>
                <a:lnTo>
                  <a:pt x="883" y="101"/>
                </a:lnTo>
                <a:lnTo>
                  <a:pt x="869" y="99"/>
                </a:lnTo>
                <a:lnTo>
                  <a:pt x="856" y="95"/>
                </a:lnTo>
                <a:lnTo>
                  <a:pt x="823" y="90"/>
                </a:lnTo>
                <a:lnTo>
                  <a:pt x="791" y="84"/>
                </a:lnTo>
                <a:lnTo>
                  <a:pt x="760" y="78"/>
                </a:lnTo>
                <a:lnTo>
                  <a:pt x="727" y="74"/>
                </a:lnTo>
                <a:lnTo>
                  <a:pt x="695" y="69"/>
                </a:lnTo>
                <a:lnTo>
                  <a:pt x="662" y="65"/>
                </a:lnTo>
                <a:lnTo>
                  <a:pt x="630" y="63"/>
                </a:lnTo>
                <a:lnTo>
                  <a:pt x="597" y="61"/>
                </a:lnTo>
                <a:lnTo>
                  <a:pt x="589" y="61"/>
                </a:lnTo>
                <a:lnTo>
                  <a:pt x="582" y="59"/>
                </a:lnTo>
                <a:lnTo>
                  <a:pt x="574" y="55"/>
                </a:lnTo>
                <a:lnTo>
                  <a:pt x="566" y="53"/>
                </a:lnTo>
                <a:lnTo>
                  <a:pt x="561" y="49"/>
                </a:lnTo>
                <a:lnTo>
                  <a:pt x="553" y="46"/>
                </a:lnTo>
                <a:lnTo>
                  <a:pt x="545" y="44"/>
                </a:lnTo>
                <a:lnTo>
                  <a:pt x="538" y="40"/>
                </a:lnTo>
                <a:lnTo>
                  <a:pt x="532" y="40"/>
                </a:lnTo>
                <a:lnTo>
                  <a:pt x="526" y="40"/>
                </a:lnTo>
                <a:lnTo>
                  <a:pt x="520" y="40"/>
                </a:lnTo>
                <a:lnTo>
                  <a:pt x="515" y="42"/>
                </a:lnTo>
                <a:lnTo>
                  <a:pt x="509" y="42"/>
                </a:lnTo>
                <a:lnTo>
                  <a:pt x="503" y="42"/>
                </a:lnTo>
                <a:lnTo>
                  <a:pt x="497" y="40"/>
                </a:lnTo>
                <a:lnTo>
                  <a:pt x="491" y="38"/>
                </a:lnTo>
                <a:lnTo>
                  <a:pt x="476" y="30"/>
                </a:lnTo>
                <a:lnTo>
                  <a:pt x="461" y="23"/>
                </a:lnTo>
                <a:lnTo>
                  <a:pt x="444" y="17"/>
                </a:lnTo>
                <a:lnTo>
                  <a:pt x="426" y="11"/>
                </a:lnTo>
                <a:lnTo>
                  <a:pt x="394" y="5"/>
                </a:lnTo>
                <a:lnTo>
                  <a:pt x="359" y="0"/>
                </a:lnTo>
                <a:lnTo>
                  <a:pt x="326" y="0"/>
                </a:lnTo>
                <a:lnTo>
                  <a:pt x="292" y="1"/>
                </a:lnTo>
                <a:lnTo>
                  <a:pt x="259" y="5"/>
                </a:lnTo>
                <a:lnTo>
                  <a:pt x="227" y="13"/>
                </a:lnTo>
                <a:lnTo>
                  <a:pt x="200" y="19"/>
                </a:lnTo>
                <a:lnTo>
                  <a:pt x="169" y="23"/>
                </a:lnTo>
                <a:lnTo>
                  <a:pt x="140" y="25"/>
                </a:lnTo>
                <a:lnTo>
                  <a:pt x="112" y="26"/>
                </a:lnTo>
                <a:lnTo>
                  <a:pt x="85" y="30"/>
                </a:lnTo>
                <a:lnTo>
                  <a:pt x="56" y="34"/>
                </a:lnTo>
                <a:lnTo>
                  <a:pt x="29" y="40"/>
                </a:lnTo>
                <a:lnTo>
                  <a:pt x="0" y="51"/>
                </a:lnTo>
                <a:lnTo>
                  <a:pt x="14" y="51"/>
                </a:lnTo>
                <a:lnTo>
                  <a:pt x="27" y="53"/>
                </a:lnTo>
                <a:lnTo>
                  <a:pt x="41" y="57"/>
                </a:lnTo>
                <a:lnTo>
                  <a:pt x="54" y="61"/>
                </a:lnTo>
                <a:lnTo>
                  <a:pt x="66" y="65"/>
                </a:lnTo>
                <a:lnTo>
                  <a:pt x="79" y="69"/>
                </a:lnTo>
                <a:lnTo>
                  <a:pt x="92" y="72"/>
                </a:lnTo>
                <a:lnTo>
                  <a:pt x="106" y="74"/>
                </a:lnTo>
                <a:lnTo>
                  <a:pt x="200" y="78"/>
                </a:lnTo>
                <a:lnTo>
                  <a:pt x="292" y="82"/>
                </a:lnTo>
                <a:lnTo>
                  <a:pt x="386" y="84"/>
                </a:lnTo>
                <a:lnTo>
                  <a:pt x="478" y="84"/>
                </a:lnTo>
                <a:lnTo>
                  <a:pt x="572" y="82"/>
                </a:lnTo>
                <a:lnTo>
                  <a:pt x="664" y="80"/>
                </a:lnTo>
                <a:lnTo>
                  <a:pt x="758" y="76"/>
                </a:lnTo>
                <a:lnTo>
                  <a:pt x="850" y="74"/>
                </a:lnTo>
                <a:lnTo>
                  <a:pt x="871" y="72"/>
                </a:lnTo>
                <a:lnTo>
                  <a:pt x="891" y="69"/>
                </a:lnTo>
                <a:lnTo>
                  <a:pt x="910" y="65"/>
                </a:lnTo>
                <a:lnTo>
                  <a:pt x="931" y="61"/>
                </a:lnTo>
                <a:lnTo>
                  <a:pt x="950" y="55"/>
                </a:lnTo>
                <a:lnTo>
                  <a:pt x="969" y="53"/>
                </a:lnTo>
                <a:lnTo>
                  <a:pt x="990" y="51"/>
                </a:lnTo>
                <a:lnTo>
                  <a:pt x="1011" y="51"/>
                </a:lnTo>
                <a:lnTo>
                  <a:pt x="963" y="117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Freeform 70"/>
          <p:cNvSpPr/>
          <p:nvPr/>
        </p:nvSpPr>
        <p:spPr>
          <a:xfrm>
            <a:off x="3246480" y="3019320"/>
            <a:ext cx="1565280" cy="370080"/>
          </a:xfrm>
          <a:custGeom>
            <a:avLst/>
            <a:gdLst>
              <a:gd name="textAreaLeft" fmla="*/ 0 w 1565280"/>
              <a:gd name="textAreaRight" fmla="*/ 1565640 w 1565280"/>
              <a:gd name="textAreaTop" fmla="*/ 0 h 370080"/>
              <a:gd name="textAreaBottom" fmla="*/ 370440 h 370080"/>
            </a:gdLst>
            <a:ahLst/>
            <a:rect l="textAreaLeft" t="textAreaTop" r="textAreaRight" b="textAreaBottom"/>
            <a:pathLst>
              <a:path w="986" h="233">
                <a:moveTo>
                  <a:pt x="827" y="43"/>
                </a:moveTo>
                <a:lnTo>
                  <a:pt x="810" y="46"/>
                </a:lnTo>
                <a:lnTo>
                  <a:pt x="791" y="50"/>
                </a:lnTo>
                <a:lnTo>
                  <a:pt x="773" y="52"/>
                </a:lnTo>
                <a:lnTo>
                  <a:pt x="756" y="54"/>
                </a:lnTo>
                <a:lnTo>
                  <a:pt x="720" y="56"/>
                </a:lnTo>
                <a:lnTo>
                  <a:pt x="685" y="54"/>
                </a:lnTo>
                <a:lnTo>
                  <a:pt x="649" y="54"/>
                </a:lnTo>
                <a:lnTo>
                  <a:pt x="612" y="54"/>
                </a:lnTo>
                <a:lnTo>
                  <a:pt x="576" y="56"/>
                </a:lnTo>
                <a:lnTo>
                  <a:pt x="539" y="64"/>
                </a:lnTo>
                <a:lnTo>
                  <a:pt x="484" y="75"/>
                </a:lnTo>
                <a:lnTo>
                  <a:pt x="428" y="91"/>
                </a:lnTo>
                <a:lnTo>
                  <a:pt x="374" y="106"/>
                </a:lnTo>
                <a:lnTo>
                  <a:pt x="321" y="121"/>
                </a:lnTo>
                <a:lnTo>
                  <a:pt x="269" y="137"/>
                </a:lnTo>
                <a:lnTo>
                  <a:pt x="215" y="154"/>
                </a:lnTo>
                <a:lnTo>
                  <a:pt x="161" y="169"/>
                </a:lnTo>
                <a:lnTo>
                  <a:pt x="108" y="185"/>
                </a:lnTo>
                <a:lnTo>
                  <a:pt x="92" y="188"/>
                </a:lnTo>
                <a:lnTo>
                  <a:pt x="79" y="192"/>
                </a:lnTo>
                <a:lnTo>
                  <a:pt x="65" y="198"/>
                </a:lnTo>
                <a:lnTo>
                  <a:pt x="50" y="202"/>
                </a:lnTo>
                <a:lnTo>
                  <a:pt x="37" y="208"/>
                </a:lnTo>
                <a:lnTo>
                  <a:pt x="25" y="215"/>
                </a:lnTo>
                <a:lnTo>
                  <a:pt x="12" y="223"/>
                </a:lnTo>
                <a:lnTo>
                  <a:pt x="0" y="233"/>
                </a:lnTo>
                <a:lnTo>
                  <a:pt x="10" y="233"/>
                </a:lnTo>
                <a:lnTo>
                  <a:pt x="17" y="233"/>
                </a:lnTo>
                <a:lnTo>
                  <a:pt x="25" y="233"/>
                </a:lnTo>
                <a:lnTo>
                  <a:pt x="35" y="233"/>
                </a:lnTo>
                <a:lnTo>
                  <a:pt x="42" y="231"/>
                </a:lnTo>
                <a:lnTo>
                  <a:pt x="50" y="231"/>
                </a:lnTo>
                <a:lnTo>
                  <a:pt x="60" y="229"/>
                </a:lnTo>
                <a:lnTo>
                  <a:pt x="67" y="225"/>
                </a:lnTo>
                <a:lnTo>
                  <a:pt x="81" y="219"/>
                </a:lnTo>
                <a:lnTo>
                  <a:pt x="94" y="211"/>
                </a:lnTo>
                <a:lnTo>
                  <a:pt x="109" y="204"/>
                </a:lnTo>
                <a:lnTo>
                  <a:pt x="125" y="198"/>
                </a:lnTo>
                <a:lnTo>
                  <a:pt x="138" y="190"/>
                </a:lnTo>
                <a:lnTo>
                  <a:pt x="154" y="187"/>
                </a:lnTo>
                <a:lnTo>
                  <a:pt x="169" y="181"/>
                </a:lnTo>
                <a:lnTo>
                  <a:pt x="184" y="177"/>
                </a:lnTo>
                <a:lnTo>
                  <a:pt x="238" y="167"/>
                </a:lnTo>
                <a:lnTo>
                  <a:pt x="290" y="158"/>
                </a:lnTo>
                <a:lnTo>
                  <a:pt x="342" y="148"/>
                </a:lnTo>
                <a:lnTo>
                  <a:pt x="393" y="140"/>
                </a:lnTo>
                <a:lnTo>
                  <a:pt x="445" y="131"/>
                </a:lnTo>
                <a:lnTo>
                  <a:pt x="497" y="125"/>
                </a:lnTo>
                <a:lnTo>
                  <a:pt x="551" y="117"/>
                </a:lnTo>
                <a:lnTo>
                  <a:pt x="603" y="114"/>
                </a:lnTo>
                <a:lnTo>
                  <a:pt x="612" y="112"/>
                </a:lnTo>
                <a:lnTo>
                  <a:pt x="622" y="110"/>
                </a:lnTo>
                <a:lnTo>
                  <a:pt x="629" y="106"/>
                </a:lnTo>
                <a:lnTo>
                  <a:pt x="639" y="104"/>
                </a:lnTo>
                <a:lnTo>
                  <a:pt x="647" y="100"/>
                </a:lnTo>
                <a:lnTo>
                  <a:pt x="656" y="96"/>
                </a:lnTo>
                <a:lnTo>
                  <a:pt x="666" y="93"/>
                </a:lnTo>
                <a:lnTo>
                  <a:pt x="674" y="91"/>
                </a:lnTo>
                <a:lnTo>
                  <a:pt x="679" y="91"/>
                </a:lnTo>
                <a:lnTo>
                  <a:pt x="687" y="91"/>
                </a:lnTo>
                <a:lnTo>
                  <a:pt x="693" y="91"/>
                </a:lnTo>
                <a:lnTo>
                  <a:pt x="698" y="91"/>
                </a:lnTo>
                <a:lnTo>
                  <a:pt x="704" y="91"/>
                </a:lnTo>
                <a:lnTo>
                  <a:pt x="710" y="91"/>
                </a:lnTo>
                <a:lnTo>
                  <a:pt x="716" y="91"/>
                </a:lnTo>
                <a:lnTo>
                  <a:pt x="720" y="89"/>
                </a:lnTo>
                <a:lnTo>
                  <a:pt x="748" y="77"/>
                </a:lnTo>
                <a:lnTo>
                  <a:pt x="777" y="68"/>
                </a:lnTo>
                <a:lnTo>
                  <a:pt x="804" y="56"/>
                </a:lnTo>
                <a:lnTo>
                  <a:pt x="833" y="45"/>
                </a:lnTo>
                <a:lnTo>
                  <a:pt x="860" y="33"/>
                </a:lnTo>
                <a:lnTo>
                  <a:pt x="888" y="23"/>
                </a:lnTo>
                <a:lnTo>
                  <a:pt x="917" y="14"/>
                </a:lnTo>
                <a:lnTo>
                  <a:pt x="946" y="4"/>
                </a:lnTo>
                <a:lnTo>
                  <a:pt x="952" y="2"/>
                </a:lnTo>
                <a:lnTo>
                  <a:pt x="956" y="2"/>
                </a:lnTo>
                <a:lnTo>
                  <a:pt x="961" y="0"/>
                </a:lnTo>
                <a:lnTo>
                  <a:pt x="965" y="0"/>
                </a:lnTo>
                <a:lnTo>
                  <a:pt x="971" y="0"/>
                </a:lnTo>
                <a:lnTo>
                  <a:pt x="977" y="2"/>
                </a:lnTo>
                <a:lnTo>
                  <a:pt x="982" y="2"/>
                </a:lnTo>
                <a:lnTo>
                  <a:pt x="986" y="2"/>
                </a:lnTo>
                <a:lnTo>
                  <a:pt x="827" y="43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Freeform 71"/>
          <p:cNvSpPr/>
          <p:nvPr/>
        </p:nvSpPr>
        <p:spPr>
          <a:xfrm>
            <a:off x="3417840" y="3240000"/>
            <a:ext cx="1339920" cy="5684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568440"/>
              <a:gd name="textAreaBottom" fmla="*/ 568800 h 568440"/>
            </a:gdLst>
            <a:ahLst/>
            <a:rect l="textAreaLeft" t="textAreaTop" r="textAreaRight" b="textAreaBottom"/>
            <a:pathLst>
              <a:path w="844" h="358">
                <a:moveTo>
                  <a:pt x="759" y="28"/>
                </a:moveTo>
                <a:lnTo>
                  <a:pt x="738" y="32"/>
                </a:lnTo>
                <a:lnTo>
                  <a:pt x="719" y="38"/>
                </a:lnTo>
                <a:lnTo>
                  <a:pt x="698" y="44"/>
                </a:lnTo>
                <a:lnTo>
                  <a:pt x="679" y="49"/>
                </a:lnTo>
                <a:lnTo>
                  <a:pt x="640" y="65"/>
                </a:lnTo>
                <a:lnTo>
                  <a:pt x="602" y="82"/>
                </a:lnTo>
                <a:lnTo>
                  <a:pt x="564" y="101"/>
                </a:lnTo>
                <a:lnTo>
                  <a:pt x="525" y="118"/>
                </a:lnTo>
                <a:lnTo>
                  <a:pt x="487" y="136"/>
                </a:lnTo>
                <a:lnTo>
                  <a:pt x="447" y="151"/>
                </a:lnTo>
                <a:lnTo>
                  <a:pt x="404" y="165"/>
                </a:lnTo>
                <a:lnTo>
                  <a:pt x="364" y="180"/>
                </a:lnTo>
                <a:lnTo>
                  <a:pt x="322" y="193"/>
                </a:lnTo>
                <a:lnTo>
                  <a:pt x="282" y="211"/>
                </a:lnTo>
                <a:lnTo>
                  <a:pt x="239" y="226"/>
                </a:lnTo>
                <a:lnTo>
                  <a:pt x="199" y="245"/>
                </a:lnTo>
                <a:lnTo>
                  <a:pt x="159" y="264"/>
                </a:lnTo>
                <a:lnTo>
                  <a:pt x="118" y="285"/>
                </a:lnTo>
                <a:lnTo>
                  <a:pt x="111" y="289"/>
                </a:lnTo>
                <a:lnTo>
                  <a:pt x="105" y="295"/>
                </a:lnTo>
                <a:lnTo>
                  <a:pt x="99" y="299"/>
                </a:lnTo>
                <a:lnTo>
                  <a:pt x="94" y="306"/>
                </a:lnTo>
                <a:lnTo>
                  <a:pt x="88" y="312"/>
                </a:lnTo>
                <a:lnTo>
                  <a:pt x="82" y="318"/>
                </a:lnTo>
                <a:lnTo>
                  <a:pt x="76" y="324"/>
                </a:lnTo>
                <a:lnTo>
                  <a:pt x="71" y="328"/>
                </a:lnTo>
                <a:lnTo>
                  <a:pt x="65" y="331"/>
                </a:lnTo>
                <a:lnTo>
                  <a:pt x="59" y="331"/>
                </a:lnTo>
                <a:lnTo>
                  <a:pt x="53" y="333"/>
                </a:lnTo>
                <a:lnTo>
                  <a:pt x="46" y="335"/>
                </a:lnTo>
                <a:lnTo>
                  <a:pt x="40" y="335"/>
                </a:lnTo>
                <a:lnTo>
                  <a:pt x="34" y="337"/>
                </a:lnTo>
                <a:lnTo>
                  <a:pt x="30" y="339"/>
                </a:lnTo>
                <a:lnTo>
                  <a:pt x="24" y="341"/>
                </a:lnTo>
                <a:lnTo>
                  <a:pt x="21" y="343"/>
                </a:lnTo>
                <a:lnTo>
                  <a:pt x="17" y="347"/>
                </a:lnTo>
                <a:lnTo>
                  <a:pt x="13" y="349"/>
                </a:lnTo>
                <a:lnTo>
                  <a:pt x="9" y="351"/>
                </a:lnTo>
                <a:lnTo>
                  <a:pt x="7" y="353"/>
                </a:lnTo>
                <a:lnTo>
                  <a:pt x="3" y="354"/>
                </a:lnTo>
                <a:lnTo>
                  <a:pt x="1" y="356"/>
                </a:lnTo>
                <a:lnTo>
                  <a:pt x="0" y="358"/>
                </a:lnTo>
                <a:lnTo>
                  <a:pt x="46" y="339"/>
                </a:lnTo>
                <a:lnTo>
                  <a:pt x="92" y="320"/>
                </a:lnTo>
                <a:lnTo>
                  <a:pt x="140" y="301"/>
                </a:lnTo>
                <a:lnTo>
                  <a:pt x="186" y="282"/>
                </a:lnTo>
                <a:lnTo>
                  <a:pt x="234" y="262"/>
                </a:lnTo>
                <a:lnTo>
                  <a:pt x="280" y="243"/>
                </a:lnTo>
                <a:lnTo>
                  <a:pt x="326" y="222"/>
                </a:lnTo>
                <a:lnTo>
                  <a:pt x="374" y="201"/>
                </a:lnTo>
                <a:lnTo>
                  <a:pt x="381" y="197"/>
                </a:lnTo>
                <a:lnTo>
                  <a:pt x="391" y="193"/>
                </a:lnTo>
                <a:lnTo>
                  <a:pt x="401" y="191"/>
                </a:lnTo>
                <a:lnTo>
                  <a:pt x="412" y="189"/>
                </a:lnTo>
                <a:lnTo>
                  <a:pt x="422" y="188"/>
                </a:lnTo>
                <a:lnTo>
                  <a:pt x="433" y="186"/>
                </a:lnTo>
                <a:lnTo>
                  <a:pt x="445" y="184"/>
                </a:lnTo>
                <a:lnTo>
                  <a:pt x="454" y="180"/>
                </a:lnTo>
                <a:lnTo>
                  <a:pt x="468" y="176"/>
                </a:lnTo>
                <a:lnTo>
                  <a:pt x="481" y="170"/>
                </a:lnTo>
                <a:lnTo>
                  <a:pt x="493" y="163"/>
                </a:lnTo>
                <a:lnTo>
                  <a:pt x="504" y="153"/>
                </a:lnTo>
                <a:lnTo>
                  <a:pt x="516" y="143"/>
                </a:lnTo>
                <a:lnTo>
                  <a:pt x="527" y="134"/>
                </a:lnTo>
                <a:lnTo>
                  <a:pt x="539" y="122"/>
                </a:lnTo>
                <a:lnTo>
                  <a:pt x="550" y="113"/>
                </a:lnTo>
                <a:lnTo>
                  <a:pt x="556" y="109"/>
                </a:lnTo>
                <a:lnTo>
                  <a:pt x="560" y="107"/>
                </a:lnTo>
                <a:lnTo>
                  <a:pt x="566" y="107"/>
                </a:lnTo>
                <a:lnTo>
                  <a:pt x="571" y="105"/>
                </a:lnTo>
                <a:lnTo>
                  <a:pt x="577" y="103"/>
                </a:lnTo>
                <a:lnTo>
                  <a:pt x="583" y="103"/>
                </a:lnTo>
                <a:lnTo>
                  <a:pt x="589" y="99"/>
                </a:lnTo>
                <a:lnTo>
                  <a:pt x="594" y="97"/>
                </a:lnTo>
                <a:lnTo>
                  <a:pt x="623" y="76"/>
                </a:lnTo>
                <a:lnTo>
                  <a:pt x="654" y="59"/>
                </a:lnTo>
                <a:lnTo>
                  <a:pt x="683" y="44"/>
                </a:lnTo>
                <a:lnTo>
                  <a:pt x="713" y="32"/>
                </a:lnTo>
                <a:lnTo>
                  <a:pt x="746" y="21"/>
                </a:lnTo>
                <a:lnTo>
                  <a:pt x="779" y="11"/>
                </a:lnTo>
                <a:lnTo>
                  <a:pt x="811" y="5"/>
                </a:lnTo>
                <a:lnTo>
                  <a:pt x="844" y="0"/>
                </a:lnTo>
                <a:lnTo>
                  <a:pt x="759" y="28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Freeform 72"/>
          <p:cNvSpPr/>
          <p:nvPr/>
        </p:nvSpPr>
        <p:spPr>
          <a:xfrm>
            <a:off x="5178600" y="1217520"/>
            <a:ext cx="785520" cy="1656000"/>
          </a:xfrm>
          <a:custGeom>
            <a:avLst/>
            <a:gdLst>
              <a:gd name="textAreaLeft" fmla="*/ 0 w 785520"/>
              <a:gd name="textAreaRight" fmla="*/ 785880 w 785520"/>
              <a:gd name="textAreaTop" fmla="*/ 0 h 1656000"/>
              <a:gd name="textAreaBottom" fmla="*/ 1656360 h 1656000"/>
            </a:gdLst>
            <a:ahLst/>
            <a:rect l="textAreaLeft" t="textAreaTop" r="textAreaRight" b="textAreaBottom"/>
            <a:pathLst>
              <a:path w="495" h="1043">
                <a:moveTo>
                  <a:pt x="101" y="779"/>
                </a:moveTo>
                <a:lnTo>
                  <a:pt x="99" y="779"/>
                </a:lnTo>
                <a:lnTo>
                  <a:pt x="97" y="781"/>
                </a:lnTo>
                <a:lnTo>
                  <a:pt x="94" y="781"/>
                </a:lnTo>
                <a:lnTo>
                  <a:pt x="92" y="781"/>
                </a:lnTo>
                <a:lnTo>
                  <a:pt x="90" y="781"/>
                </a:lnTo>
                <a:lnTo>
                  <a:pt x="88" y="782"/>
                </a:lnTo>
                <a:lnTo>
                  <a:pt x="86" y="782"/>
                </a:lnTo>
                <a:lnTo>
                  <a:pt x="82" y="782"/>
                </a:lnTo>
                <a:lnTo>
                  <a:pt x="88" y="777"/>
                </a:lnTo>
                <a:lnTo>
                  <a:pt x="90" y="769"/>
                </a:lnTo>
                <a:lnTo>
                  <a:pt x="90" y="761"/>
                </a:lnTo>
                <a:lnTo>
                  <a:pt x="90" y="752"/>
                </a:lnTo>
                <a:lnTo>
                  <a:pt x="88" y="744"/>
                </a:lnTo>
                <a:lnTo>
                  <a:pt x="88" y="736"/>
                </a:lnTo>
                <a:lnTo>
                  <a:pt x="90" y="727"/>
                </a:lnTo>
                <a:lnTo>
                  <a:pt x="94" y="719"/>
                </a:lnTo>
                <a:lnTo>
                  <a:pt x="107" y="694"/>
                </a:lnTo>
                <a:lnTo>
                  <a:pt x="118" y="669"/>
                </a:lnTo>
                <a:lnTo>
                  <a:pt x="126" y="644"/>
                </a:lnTo>
                <a:lnTo>
                  <a:pt x="134" y="617"/>
                </a:lnTo>
                <a:lnTo>
                  <a:pt x="140" y="591"/>
                </a:lnTo>
                <a:lnTo>
                  <a:pt x="145" y="564"/>
                </a:lnTo>
                <a:lnTo>
                  <a:pt x="149" y="537"/>
                </a:lnTo>
                <a:lnTo>
                  <a:pt x="155" y="508"/>
                </a:lnTo>
                <a:lnTo>
                  <a:pt x="163" y="472"/>
                </a:lnTo>
                <a:lnTo>
                  <a:pt x="174" y="435"/>
                </a:lnTo>
                <a:lnTo>
                  <a:pt x="186" y="399"/>
                </a:lnTo>
                <a:lnTo>
                  <a:pt x="199" y="364"/>
                </a:lnTo>
                <a:lnTo>
                  <a:pt x="212" y="328"/>
                </a:lnTo>
                <a:lnTo>
                  <a:pt x="226" y="291"/>
                </a:lnTo>
                <a:lnTo>
                  <a:pt x="236" y="255"/>
                </a:lnTo>
                <a:lnTo>
                  <a:pt x="243" y="217"/>
                </a:lnTo>
                <a:lnTo>
                  <a:pt x="245" y="190"/>
                </a:lnTo>
                <a:lnTo>
                  <a:pt x="247" y="161"/>
                </a:lnTo>
                <a:lnTo>
                  <a:pt x="247" y="134"/>
                </a:lnTo>
                <a:lnTo>
                  <a:pt x="249" y="109"/>
                </a:lnTo>
                <a:lnTo>
                  <a:pt x="249" y="82"/>
                </a:lnTo>
                <a:lnTo>
                  <a:pt x="251" y="55"/>
                </a:lnTo>
                <a:lnTo>
                  <a:pt x="255" y="29"/>
                </a:lnTo>
                <a:lnTo>
                  <a:pt x="260" y="0"/>
                </a:lnTo>
                <a:lnTo>
                  <a:pt x="245" y="21"/>
                </a:lnTo>
                <a:lnTo>
                  <a:pt x="230" y="42"/>
                </a:lnTo>
                <a:lnTo>
                  <a:pt x="218" y="65"/>
                </a:lnTo>
                <a:lnTo>
                  <a:pt x="207" y="86"/>
                </a:lnTo>
                <a:lnTo>
                  <a:pt x="199" y="111"/>
                </a:lnTo>
                <a:lnTo>
                  <a:pt x="191" y="134"/>
                </a:lnTo>
                <a:lnTo>
                  <a:pt x="186" y="159"/>
                </a:lnTo>
                <a:lnTo>
                  <a:pt x="180" y="184"/>
                </a:lnTo>
                <a:lnTo>
                  <a:pt x="172" y="222"/>
                </a:lnTo>
                <a:lnTo>
                  <a:pt x="165" y="259"/>
                </a:lnTo>
                <a:lnTo>
                  <a:pt x="159" y="297"/>
                </a:lnTo>
                <a:lnTo>
                  <a:pt x="153" y="334"/>
                </a:lnTo>
                <a:lnTo>
                  <a:pt x="147" y="370"/>
                </a:lnTo>
                <a:lnTo>
                  <a:pt x="141" y="406"/>
                </a:lnTo>
                <a:lnTo>
                  <a:pt x="136" y="445"/>
                </a:lnTo>
                <a:lnTo>
                  <a:pt x="128" y="483"/>
                </a:lnTo>
                <a:lnTo>
                  <a:pt x="124" y="495"/>
                </a:lnTo>
                <a:lnTo>
                  <a:pt x="120" y="504"/>
                </a:lnTo>
                <a:lnTo>
                  <a:pt x="115" y="514"/>
                </a:lnTo>
                <a:lnTo>
                  <a:pt x="107" y="523"/>
                </a:lnTo>
                <a:lnTo>
                  <a:pt x="101" y="533"/>
                </a:lnTo>
                <a:lnTo>
                  <a:pt x="95" y="543"/>
                </a:lnTo>
                <a:lnTo>
                  <a:pt x="92" y="552"/>
                </a:lnTo>
                <a:lnTo>
                  <a:pt x="88" y="562"/>
                </a:lnTo>
                <a:lnTo>
                  <a:pt x="82" y="587"/>
                </a:lnTo>
                <a:lnTo>
                  <a:pt x="74" y="612"/>
                </a:lnTo>
                <a:lnTo>
                  <a:pt x="67" y="637"/>
                </a:lnTo>
                <a:lnTo>
                  <a:pt x="59" y="660"/>
                </a:lnTo>
                <a:lnTo>
                  <a:pt x="51" y="685"/>
                </a:lnTo>
                <a:lnTo>
                  <a:pt x="44" y="710"/>
                </a:lnTo>
                <a:lnTo>
                  <a:pt x="36" y="734"/>
                </a:lnTo>
                <a:lnTo>
                  <a:pt x="30" y="761"/>
                </a:lnTo>
                <a:lnTo>
                  <a:pt x="28" y="767"/>
                </a:lnTo>
                <a:lnTo>
                  <a:pt x="28" y="773"/>
                </a:lnTo>
                <a:lnTo>
                  <a:pt x="28" y="779"/>
                </a:lnTo>
                <a:lnTo>
                  <a:pt x="28" y="782"/>
                </a:lnTo>
                <a:lnTo>
                  <a:pt x="30" y="788"/>
                </a:lnTo>
                <a:lnTo>
                  <a:pt x="28" y="794"/>
                </a:lnTo>
                <a:lnTo>
                  <a:pt x="28" y="800"/>
                </a:lnTo>
                <a:lnTo>
                  <a:pt x="26" y="805"/>
                </a:lnTo>
                <a:lnTo>
                  <a:pt x="24" y="815"/>
                </a:lnTo>
                <a:lnTo>
                  <a:pt x="23" y="823"/>
                </a:lnTo>
                <a:lnTo>
                  <a:pt x="19" y="830"/>
                </a:lnTo>
                <a:lnTo>
                  <a:pt x="15" y="838"/>
                </a:lnTo>
                <a:lnTo>
                  <a:pt x="11" y="846"/>
                </a:lnTo>
                <a:lnTo>
                  <a:pt x="7" y="852"/>
                </a:lnTo>
                <a:lnTo>
                  <a:pt x="3" y="859"/>
                </a:lnTo>
                <a:lnTo>
                  <a:pt x="0" y="867"/>
                </a:lnTo>
                <a:lnTo>
                  <a:pt x="1" y="869"/>
                </a:lnTo>
                <a:lnTo>
                  <a:pt x="1" y="871"/>
                </a:lnTo>
                <a:lnTo>
                  <a:pt x="1" y="873"/>
                </a:lnTo>
                <a:lnTo>
                  <a:pt x="0" y="876"/>
                </a:lnTo>
                <a:lnTo>
                  <a:pt x="0" y="878"/>
                </a:lnTo>
                <a:lnTo>
                  <a:pt x="0" y="882"/>
                </a:lnTo>
                <a:lnTo>
                  <a:pt x="1" y="884"/>
                </a:lnTo>
                <a:lnTo>
                  <a:pt x="7" y="886"/>
                </a:lnTo>
                <a:lnTo>
                  <a:pt x="17" y="884"/>
                </a:lnTo>
                <a:lnTo>
                  <a:pt x="23" y="878"/>
                </a:lnTo>
                <a:lnTo>
                  <a:pt x="28" y="871"/>
                </a:lnTo>
                <a:lnTo>
                  <a:pt x="34" y="861"/>
                </a:lnTo>
                <a:lnTo>
                  <a:pt x="38" y="852"/>
                </a:lnTo>
                <a:lnTo>
                  <a:pt x="44" y="842"/>
                </a:lnTo>
                <a:lnTo>
                  <a:pt x="47" y="830"/>
                </a:lnTo>
                <a:lnTo>
                  <a:pt x="55" y="821"/>
                </a:lnTo>
                <a:lnTo>
                  <a:pt x="63" y="809"/>
                </a:lnTo>
                <a:lnTo>
                  <a:pt x="69" y="796"/>
                </a:lnTo>
                <a:lnTo>
                  <a:pt x="74" y="782"/>
                </a:lnTo>
                <a:lnTo>
                  <a:pt x="78" y="767"/>
                </a:lnTo>
                <a:lnTo>
                  <a:pt x="82" y="752"/>
                </a:lnTo>
                <a:lnTo>
                  <a:pt x="88" y="736"/>
                </a:lnTo>
                <a:lnTo>
                  <a:pt x="94" y="721"/>
                </a:lnTo>
                <a:lnTo>
                  <a:pt x="101" y="708"/>
                </a:lnTo>
                <a:lnTo>
                  <a:pt x="105" y="700"/>
                </a:lnTo>
                <a:lnTo>
                  <a:pt x="111" y="694"/>
                </a:lnTo>
                <a:lnTo>
                  <a:pt x="115" y="688"/>
                </a:lnTo>
                <a:lnTo>
                  <a:pt x="120" y="683"/>
                </a:lnTo>
                <a:lnTo>
                  <a:pt x="124" y="677"/>
                </a:lnTo>
                <a:lnTo>
                  <a:pt x="130" y="671"/>
                </a:lnTo>
                <a:lnTo>
                  <a:pt x="134" y="665"/>
                </a:lnTo>
                <a:lnTo>
                  <a:pt x="140" y="660"/>
                </a:lnTo>
                <a:lnTo>
                  <a:pt x="147" y="646"/>
                </a:lnTo>
                <a:lnTo>
                  <a:pt x="153" y="635"/>
                </a:lnTo>
                <a:lnTo>
                  <a:pt x="159" y="623"/>
                </a:lnTo>
                <a:lnTo>
                  <a:pt x="165" y="610"/>
                </a:lnTo>
                <a:lnTo>
                  <a:pt x="170" y="598"/>
                </a:lnTo>
                <a:lnTo>
                  <a:pt x="176" y="587"/>
                </a:lnTo>
                <a:lnTo>
                  <a:pt x="182" y="573"/>
                </a:lnTo>
                <a:lnTo>
                  <a:pt x="189" y="562"/>
                </a:lnTo>
                <a:lnTo>
                  <a:pt x="212" y="529"/>
                </a:lnTo>
                <a:lnTo>
                  <a:pt x="236" y="499"/>
                </a:lnTo>
                <a:lnTo>
                  <a:pt x="257" y="468"/>
                </a:lnTo>
                <a:lnTo>
                  <a:pt x="278" y="437"/>
                </a:lnTo>
                <a:lnTo>
                  <a:pt x="299" y="406"/>
                </a:lnTo>
                <a:lnTo>
                  <a:pt x="322" y="376"/>
                </a:lnTo>
                <a:lnTo>
                  <a:pt x="343" y="343"/>
                </a:lnTo>
                <a:lnTo>
                  <a:pt x="366" y="311"/>
                </a:lnTo>
                <a:lnTo>
                  <a:pt x="372" y="301"/>
                </a:lnTo>
                <a:lnTo>
                  <a:pt x="377" y="291"/>
                </a:lnTo>
                <a:lnTo>
                  <a:pt x="383" y="280"/>
                </a:lnTo>
                <a:lnTo>
                  <a:pt x="387" y="270"/>
                </a:lnTo>
                <a:lnTo>
                  <a:pt x="391" y="259"/>
                </a:lnTo>
                <a:lnTo>
                  <a:pt x="395" y="247"/>
                </a:lnTo>
                <a:lnTo>
                  <a:pt x="401" y="236"/>
                </a:lnTo>
                <a:lnTo>
                  <a:pt x="404" y="224"/>
                </a:lnTo>
                <a:lnTo>
                  <a:pt x="410" y="207"/>
                </a:lnTo>
                <a:lnTo>
                  <a:pt x="420" y="194"/>
                </a:lnTo>
                <a:lnTo>
                  <a:pt x="431" y="180"/>
                </a:lnTo>
                <a:lnTo>
                  <a:pt x="445" y="169"/>
                </a:lnTo>
                <a:lnTo>
                  <a:pt x="458" y="155"/>
                </a:lnTo>
                <a:lnTo>
                  <a:pt x="472" y="144"/>
                </a:lnTo>
                <a:lnTo>
                  <a:pt x="483" y="130"/>
                </a:lnTo>
                <a:lnTo>
                  <a:pt x="495" y="117"/>
                </a:lnTo>
                <a:lnTo>
                  <a:pt x="493" y="128"/>
                </a:lnTo>
                <a:lnTo>
                  <a:pt x="493" y="138"/>
                </a:lnTo>
                <a:lnTo>
                  <a:pt x="491" y="149"/>
                </a:lnTo>
                <a:lnTo>
                  <a:pt x="491" y="159"/>
                </a:lnTo>
                <a:lnTo>
                  <a:pt x="491" y="170"/>
                </a:lnTo>
                <a:lnTo>
                  <a:pt x="491" y="180"/>
                </a:lnTo>
                <a:lnTo>
                  <a:pt x="489" y="190"/>
                </a:lnTo>
                <a:lnTo>
                  <a:pt x="487" y="201"/>
                </a:lnTo>
                <a:lnTo>
                  <a:pt x="479" y="232"/>
                </a:lnTo>
                <a:lnTo>
                  <a:pt x="472" y="261"/>
                </a:lnTo>
                <a:lnTo>
                  <a:pt x="462" y="289"/>
                </a:lnTo>
                <a:lnTo>
                  <a:pt x="452" y="318"/>
                </a:lnTo>
                <a:lnTo>
                  <a:pt x="445" y="347"/>
                </a:lnTo>
                <a:lnTo>
                  <a:pt x="435" y="376"/>
                </a:lnTo>
                <a:lnTo>
                  <a:pt x="427" y="405"/>
                </a:lnTo>
                <a:lnTo>
                  <a:pt x="418" y="435"/>
                </a:lnTo>
                <a:lnTo>
                  <a:pt x="414" y="449"/>
                </a:lnTo>
                <a:lnTo>
                  <a:pt x="408" y="462"/>
                </a:lnTo>
                <a:lnTo>
                  <a:pt x="401" y="474"/>
                </a:lnTo>
                <a:lnTo>
                  <a:pt x="393" y="485"/>
                </a:lnTo>
                <a:lnTo>
                  <a:pt x="385" y="497"/>
                </a:lnTo>
                <a:lnTo>
                  <a:pt x="376" y="508"/>
                </a:lnTo>
                <a:lnTo>
                  <a:pt x="370" y="520"/>
                </a:lnTo>
                <a:lnTo>
                  <a:pt x="362" y="531"/>
                </a:lnTo>
                <a:lnTo>
                  <a:pt x="351" y="564"/>
                </a:lnTo>
                <a:lnTo>
                  <a:pt x="337" y="596"/>
                </a:lnTo>
                <a:lnTo>
                  <a:pt x="324" y="627"/>
                </a:lnTo>
                <a:lnTo>
                  <a:pt x="308" y="660"/>
                </a:lnTo>
                <a:lnTo>
                  <a:pt x="293" y="690"/>
                </a:lnTo>
                <a:lnTo>
                  <a:pt x="274" y="719"/>
                </a:lnTo>
                <a:lnTo>
                  <a:pt x="255" y="746"/>
                </a:lnTo>
                <a:lnTo>
                  <a:pt x="234" y="773"/>
                </a:lnTo>
                <a:lnTo>
                  <a:pt x="230" y="779"/>
                </a:lnTo>
                <a:lnTo>
                  <a:pt x="228" y="784"/>
                </a:lnTo>
                <a:lnTo>
                  <a:pt x="226" y="790"/>
                </a:lnTo>
                <a:lnTo>
                  <a:pt x="224" y="798"/>
                </a:lnTo>
                <a:lnTo>
                  <a:pt x="224" y="805"/>
                </a:lnTo>
                <a:lnTo>
                  <a:pt x="222" y="811"/>
                </a:lnTo>
                <a:lnTo>
                  <a:pt x="220" y="819"/>
                </a:lnTo>
                <a:lnTo>
                  <a:pt x="218" y="825"/>
                </a:lnTo>
                <a:lnTo>
                  <a:pt x="212" y="830"/>
                </a:lnTo>
                <a:lnTo>
                  <a:pt x="207" y="838"/>
                </a:lnTo>
                <a:lnTo>
                  <a:pt x="201" y="844"/>
                </a:lnTo>
                <a:lnTo>
                  <a:pt x="195" y="850"/>
                </a:lnTo>
                <a:lnTo>
                  <a:pt x="189" y="855"/>
                </a:lnTo>
                <a:lnTo>
                  <a:pt x="182" y="861"/>
                </a:lnTo>
                <a:lnTo>
                  <a:pt x="178" y="867"/>
                </a:lnTo>
                <a:lnTo>
                  <a:pt x="172" y="873"/>
                </a:lnTo>
                <a:lnTo>
                  <a:pt x="159" y="896"/>
                </a:lnTo>
                <a:lnTo>
                  <a:pt x="145" y="919"/>
                </a:lnTo>
                <a:lnTo>
                  <a:pt x="132" y="940"/>
                </a:lnTo>
                <a:lnTo>
                  <a:pt x="118" y="963"/>
                </a:lnTo>
                <a:lnTo>
                  <a:pt x="105" y="984"/>
                </a:lnTo>
                <a:lnTo>
                  <a:pt x="92" y="1005"/>
                </a:lnTo>
                <a:lnTo>
                  <a:pt x="76" y="1024"/>
                </a:lnTo>
                <a:lnTo>
                  <a:pt x="61" y="1043"/>
                </a:lnTo>
                <a:lnTo>
                  <a:pt x="101" y="779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Freeform 73"/>
          <p:cNvSpPr/>
          <p:nvPr/>
        </p:nvSpPr>
        <p:spPr>
          <a:xfrm>
            <a:off x="4952880" y="3017880"/>
            <a:ext cx="1884600" cy="1150920"/>
          </a:xfrm>
          <a:custGeom>
            <a:avLst/>
            <a:gdLst>
              <a:gd name="textAreaLeft" fmla="*/ 0 w 1884600"/>
              <a:gd name="textAreaRight" fmla="*/ 1884960 w 1884600"/>
              <a:gd name="textAreaTop" fmla="*/ 0 h 1150920"/>
              <a:gd name="textAreaBottom" fmla="*/ 1151280 h 1150920"/>
            </a:gdLst>
            <a:ahLst/>
            <a:rect l="textAreaLeft" t="textAreaTop" r="textAreaRight" b="textAreaBottom"/>
            <a:pathLst>
              <a:path w="1187" h="725">
                <a:moveTo>
                  <a:pt x="307" y="128"/>
                </a:moveTo>
                <a:lnTo>
                  <a:pt x="378" y="138"/>
                </a:lnTo>
                <a:lnTo>
                  <a:pt x="448" y="143"/>
                </a:lnTo>
                <a:lnTo>
                  <a:pt x="519" y="149"/>
                </a:lnTo>
                <a:lnTo>
                  <a:pt x="592" y="151"/>
                </a:lnTo>
                <a:lnTo>
                  <a:pt x="663" y="151"/>
                </a:lnTo>
                <a:lnTo>
                  <a:pt x="734" y="147"/>
                </a:lnTo>
                <a:lnTo>
                  <a:pt x="807" y="141"/>
                </a:lnTo>
                <a:lnTo>
                  <a:pt x="878" y="130"/>
                </a:lnTo>
                <a:lnTo>
                  <a:pt x="919" y="124"/>
                </a:lnTo>
                <a:lnTo>
                  <a:pt x="957" y="120"/>
                </a:lnTo>
                <a:lnTo>
                  <a:pt x="997" y="118"/>
                </a:lnTo>
                <a:lnTo>
                  <a:pt x="1036" y="118"/>
                </a:lnTo>
                <a:lnTo>
                  <a:pt x="1076" y="120"/>
                </a:lnTo>
                <a:lnTo>
                  <a:pt x="1112" y="126"/>
                </a:lnTo>
                <a:lnTo>
                  <a:pt x="1132" y="132"/>
                </a:lnTo>
                <a:lnTo>
                  <a:pt x="1151" y="136"/>
                </a:lnTo>
                <a:lnTo>
                  <a:pt x="1168" y="143"/>
                </a:lnTo>
                <a:lnTo>
                  <a:pt x="1187" y="151"/>
                </a:lnTo>
                <a:lnTo>
                  <a:pt x="1164" y="157"/>
                </a:lnTo>
                <a:lnTo>
                  <a:pt x="1141" y="161"/>
                </a:lnTo>
                <a:lnTo>
                  <a:pt x="1120" y="164"/>
                </a:lnTo>
                <a:lnTo>
                  <a:pt x="1097" y="166"/>
                </a:lnTo>
                <a:lnTo>
                  <a:pt x="1074" y="166"/>
                </a:lnTo>
                <a:lnTo>
                  <a:pt x="1051" y="164"/>
                </a:lnTo>
                <a:lnTo>
                  <a:pt x="1028" y="163"/>
                </a:lnTo>
                <a:lnTo>
                  <a:pt x="1003" y="161"/>
                </a:lnTo>
                <a:lnTo>
                  <a:pt x="986" y="159"/>
                </a:lnTo>
                <a:lnTo>
                  <a:pt x="968" y="157"/>
                </a:lnTo>
                <a:lnTo>
                  <a:pt x="951" y="155"/>
                </a:lnTo>
                <a:lnTo>
                  <a:pt x="934" y="153"/>
                </a:lnTo>
                <a:lnTo>
                  <a:pt x="917" y="153"/>
                </a:lnTo>
                <a:lnTo>
                  <a:pt x="899" y="151"/>
                </a:lnTo>
                <a:lnTo>
                  <a:pt x="882" y="151"/>
                </a:lnTo>
                <a:lnTo>
                  <a:pt x="863" y="151"/>
                </a:lnTo>
                <a:lnTo>
                  <a:pt x="853" y="149"/>
                </a:lnTo>
                <a:lnTo>
                  <a:pt x="846" y="147"/>
                </a:lnTo>
                <a:lnTo>
                  <a:pt x="836" y="145"/>
                </a:lnTo>
                <a:lnTo>
                  <a:pt x="826" y="141"/>
                </a:lnTo>
                <a:lnTo>
                  <a:pt x="819" y="140"/>
                </a:lnTo>
                <a:lnTo>
                  <a:pt x="809" y="138"/>
                </a:lnTo>
                <a:lnTo>
                  <a:pt x="802" y="136"/>
                </a:lnTo>
                <a:lnTo>
                  <a:pt x="792" y="136"/>
                </a:lnTo>
                <a:lnTo>
                  <a:pt x="750" y="134"/>
                </a:lnTo>
                <a:lnTo>
                  <a:pt x="706" y="134"/>
                </a:lnTo>
                <a:lnTo>
                  <a:pt x="663" y="136"/>
                </a:lnTo>
                <a:lnTo>
                  <a:pt x="621" y="136"/>
                </a:lnTo>
                <a:lnTo>
                  <a:pt x="577" y="138"/>
                </a:lnTo>
                <a:lnTo>
                  <a:pt x="535" y="138"/>
                </a:lnTo>
                <a:lnTo>
                  <a:pt x="493" y="138"/>
                </a:lnTo>
                <a:lnTo>
                  <a:pt x="448" y="132"/>
                </a:lnTo>
                <a:lnTo>
                  <a:pt x="414" y="130"/>
                </a:lnTo>
                <a:lnTo>
                  <a:pt x="381" y="128"/>
                </a:lnTo>
                <a:lnTo>
                  <a:pt x="347" y="128"/>
                </a:lnTo>
                <a:lnTo>
                  <a:pt x="312" y="126"/>
                </a:lnTo>
                <a:lnTo>
                  <a:pt x="280" y="124"/>
                </a:lnTo>
                <a:lnTo>
                  <a:pt x="245" y="118"/>
                </a:lnTo>
                <a:lnTo>
                  <a:pt x="228" y="117"/>
                </a:lnTo>
                <a:lnTo>
                  <a:pt x="211" y="111"/>
                </a:lnTo>
                <a:lnTo>
                  <a:pt x="193" y="107"/>
                </a:lnTo>
                <a:lnTo>
                  <a:pt x="176" y="99"/>
                </a:lnTo>
                <a:lnTo>
                  <a:pt x="172" y="97"/>
                </a:lnTo>
                <a:lnTo>
                  <a:pt x="166" y="97"/>
                </a:lnTo>
                <a:lnTo>
                  <a:pt x="161" y="97"/>
                </a:lnTo>
                <a:lnTo>
                  <a:pt x="157" y="95"/>
                </a:lnTo>
                <a:lnTo>
                  <a:pt x="151" y="97"/>
                </a:lnTo>
                <a:lnTo>
                  <a:pt x="145" y="97"/>
                </a:lnTo>
                <a:lnTo>
                  <a:pt x="142" y="97"/>
                </a:lnTo>
                <a:lnTo>
                  <a:pt x="136" y="97"/>
                </a:lnTo>
                <a:lnTo>
                  <a:pt x="140" y="99"/>
                </a:lnTo>
                <a:lnTo>
                  <a:pt x="143" y="103"/>
                </a:lnTo>
                <a:lnTo>
                  <a:pt x="145" y="109"/>
                </a:lnTo>
                <a:lnTo>
                  <a:pt x="147" y="117"/>
                </a:lnTo>
                <a:lnTo>
                  <a:pt x="149" y="122"/>
                </a:lnTo>
                <a:lnTo>
                  <a:pt x="151" y="130"/>
                </a:lnTo>
                <a:lnTo>
                  <a:pt x="151" y="136"/>
                </a:lnTo>
                <a:lnTo>
                  <a:pt x="153" y="140"/>
                </a:lnTo>
                <a:lnTo>
                  <a:pt x="182" y="164"/>
                </a:lnTo>
                <a:lnTo>
                  <a:pt x="211" y="188"/>
                </a:lnTo>
                <a:lnTo>
                  <a:pt x="239" y="207"/>
                </a:lnTo>
                <a:lnTo>
                  <a:pt x="270" y="226"/>
                </a:lnTo>
                <a:lnTo>
                  <a:pt x="303" y="243"/>
                </a:lnTo>
                <a:lnTo>
                  <a:pt x="335" y="258"/>
                </a:lnTo>
                <a:lnTo>
                  <a:pt x="368" y="276"/>
                </a:lnTo>
                <a:lnTo>
                  <a:pt x="401" y="291"/>
                </a:lnTo>
                <a:lnTo>
                  <a:pt x="427" y="303"/>
                </a:lnTo>
                <a:lnTo>
                  <a:pt x="456" y="312"/>
                </a:lnTo>
                <a:lnTo>
                  <a:pt x="483" y="320"/>
                </a:lnTo>
                <a:lnTo>
                  <a:pt x="508" y="329"/>
                </a:lnTo>
                <a:lnTo>
                  <a:pt x="521" y="335"/>
                </a:lnTo>
                <a:lnTo>
                  <a:pt x="535" y="343"/>
                </a:lnTo>
                <a:lnTo>
                  <a:pt x="546" y="351"/>
                </a:lnTo>
                <a:lnTo>
                  <a:pt x="560" y="358"/>
                </a:lnTo>
                <a:lnTo>
                  <a:pt x="571" y="368"/>
                </a:lnTo>
                <a:lnTo>
                  <a:pt x="583" y="381"/>
                </a:lnTo>
                <a:lnTo>
                  <a:pt x="592" y="395"/>
                </a:lnTo>
                <a:lnTo>
                  <a:pt x="604" y="410"/>
                </a:lnTo>
                <a:lnTo>
                  <a:pt x="608" y="414"/>
                </a:lnTo>
                <a:lnTo>
                  <a:pt x="614" y="416"/>
                </a:lnTo>
                <a:lnTo>
                  <a:pt x="619" y="418"/>
                </a:lnTo>
                <a:lnTo>
                  <a:pt x="627" y="418"/>
                </a:lnTo>
                <a:lnTo>
                  <a:pt x="637" y="420"/>
                </a:lnTo>
                <a:lnTo>
                  <a:pt x="644" y="422"/>
                </a:lnTo>
                <a:lnTo>
                  <a:pt x="652" y="423"/>
                </a:lnTo>
                <a:lnTo>
                  <a:pt x="658" y="427"/>
                </a:lnTo>
                <a:lnTo>
                  <a:pt x="681" y="446"/>
                </a:lnTo>
                <a:lnTo>
                  <a:pt x="702" y="466"/>
                </a:lnTo>
                <a:lnTo>
                  <a:pt x="723" y="485"/>
                </a:lnTo>
                <a:lnTo>
                  <a:pt x="740" y="506"/>
                </a:lnTo>
                <a:lnTo>
                  <a:pt x="759" y="527"/>
                </a:lnTo>
                <a:lnTo>
                  <a:pt x="777" y="548"/>
                </a:lnTo>
                <a:lnTo>
                  <a:pt x="792" y="573"/>
                </a:lnTo>
                <a:lnTo>
                  <a:pt x="807" y="598"/>
                </a:lnTo>
                <a:lnTo>
                  <a:pt x="825" y="625"/>
                </a:lnTo>
                <a:lnTo>
                  <a:pt x="844" y="650"/>
                </a:lnTo>
                <a:lnTo>
                  <a:pt x="853" y="661"/>
                </a:lnTo>
                <a:lnTo>
                  <a:pt x="865" y="675"/>
                </a:lnTo>
                <a:lnTo>
                  <a:pt x="878" y="684"/>
                </a:lnTo>
                <a:lnTo>
                  <a:pt x="890" y="696"/>
                </a:lnTo>
                <a:lnTo>
                  <a:pt x="903" y="704"/>
                </a:lnTo>
                <a:lnTo>
                  <a:pt x="919" y="711"/>
                </a:lnTo>
                <a:lnTo>
                  <a:pt x="932" y="717"/>
                </a:lnTo>
                <a:lnTo>
                  <a:pt x="947" y="723"/>
                </a:lnTo>
                <a:lnTo>
                  <a:pt x="963" y="725"/>
                </a:lnTo>
                <a:lnTo>
                  <a:pt x="980" y="725"/>
                </a:lnTo>
                <a:lnTo>
                  <a:pt x="995" y="725"/>
                </a:lnTo>
                <a:lnTo>
                  <a:pt x="1013" y="721"/>
                </a:lnTo>
                <a:lnTo>
                  <a:pt x="970" y="688"/>
                </a:lnTo>
                <a:lnTo>
                  <a:pt x="924" y="659"/>
                </a:lnTo>
                <a:lnTo>
                  <a:pt x="878" y="631"/>
                </a:lnTo>
                <a:lnTo>
                  <a:pt x="830" y="604"/>
                </a:lnTo>
                <a:lnTo>
                  <a:pt x="784" y="577"/>
                </a:lnTo>
                <a:lnTo>
                  <a:pt x="738" y="548"/>
                </a:lnTo>
                <a:lnTo>
                  <a:pt x="692" y="517"/>
                </a:lnTo>
                <a:lnTo>
                  <a:pt x="648" y="483"/>
                </a:lnTo>
                <a:lnTo>
                  <a:pt x="638" y="475"/>
                </a:lnTo>
                <a:lnTo>
                  <a:pt x="629" y="468"/>
                </a:lnTo>
                <a:lnTo>
                  <a:pt x="621" y="458"/>
                </a:lnTo>
                <a:lnTo>
                  <a:pt x="614" y="450"/>
                </a:lnTo>
                <a:lnTo>
                  <a:pt x="608" y="441"/>
                </a:lnTo>
                <a:lnTo>
                  <a:pt x="600" y="433"/>
                </a:lnTo>
                <a:lnTo>
                  <a:pt x="592" y="425"/>
                </a:lnTo>
                <a:lnTo>
                  <a:pt x="583" y="418"/>
                </a:lnTo>
                <a:lnTo>
                  <a:pt x="508" y="362"/>
                </a:lnTo>
                <a:lnTo>
                  <a:pt x="435" y="308"/>
                </a:lnTo>
                <a:lnTo>
                  <a:pt x="362" y="255"/>
                </a:lnTo>
                <a:lnTo>
                  <a:pt x="289" y="203"/>
                </a:lnTo>
                <a:lnTo>
                  <a:pt x="218" y="151"/>
                </a:lnTo>
                <a:lnTo>
                  <a:pt x="145" y="101"/>
                </a:lnTo>
                <a:lnTo>
                  <a:pt x="72" y="49"/>
                </a:lnTo>
                <a:lnTo>
                  <a:pt x="0" y="0"/>
                </a:lnTo>
                <a:lnTo>
                  <a:pt x="307" y="128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Freeform 74"/>
          <p:cNvSpPr/>
          <p:nvPr/>
        </p:nvSpPr>
        <p:spPr>
          <a:xfrm>
            <a:off x="5195880" y="3144960"/>
            <a:ext cx="1184400" cy="1322280"/>
          </a:xfrm>
          <a:custGeom>
            <a:avLst/>
            <a:gdLst>
              <a:gd name="textAreaLeft" fmla="*/ 0 w 1184400"/>
              <a:gd name="textAreaRight" fmla="*/ 1184760 w 1184400"/>
              <a:gd name="textAreaTop" fmla="*/ 0 h 1322280"/>
              <a:gd name="textAreaBottom" fmla="*/ 1322640 h 1322280"/>
            </a:gdLst>
            <a:ahLst/>
            <a:rect l="textAreaLeft" t="textAreaTop" r="textAreaRight" b="textAreaBottom"/>
            <a:pathLst>
              <a:path w="746" h="833">
                <a:moveTo>
                  <a:pt x="54" y="83"/>
                </a:moveTo>
                <a:lnTo>
                  <a:pt x="69" y="92"/>
                </a:lnTo>
                <a:lnTo>
                  <a:pt x="83" y="102"/>
                </a:lnTo>
                <a:lnTo>
                  <a:pt x="98" y="111"/>
                </a:lnTo>
                <a:lnTo>
                  <a:pt x="111" y="119"/>
                </a:lnTo>
                <a:lnTo>
                  <a:pt x="125" y="129"/>
                </a:lnTo>
                <a:lnTo>
                  <a:pt x="138" y="140"/>
                </a:lnTo>
                <a:lnTo>
                  <a:pt x="152" y="150"/>
                </a:lnTo>
                <a:lnTo>
                  <a:pt x="163" y="161"/>
                </a:lnTo>
                <a:lnTo>
                  <a:pt x="186" y="186"/>
                </a:lnTo>
                <a:lnTo>
                  <a:pt x="205" y="211"/>
                </a:lnTo>
                <a:lnTo>
                  <a:pt x="226" y="238"/>
                </a:lnTo>
                <a:lnTo>
                  <a:pt x="244" y="267"/>
                </a:lnTo>
                <a:lnTo>
                  <a:pt x="263" y="294"/>
                </a:lnTo>
                <a:lnTo>
                  <a:pt x="282" y="320"/>
                </a:lnTo>
                <a:lnTo>
                  <a:pt x="301" y="349"/>
                </a:lnTo>
                <a:lnTo>
                  <a:pt x="320" y="376"/>
                </a:lnTo>
                <a:lnTo>
                  <a:pt x="332" y="389"/>
                </a:lnTo>
                <a:lnTo>
                  <a:pt x="343" y="407"/>
                </a:lnTo>
                <a:lnTo>
                  <a:pt x="353" y="422"/>
                </a:lnTo>
                <a:lnTo>
                  <a:pt x="363" y="439"/>
                </a:lnTo>
                <a:lnTo>
                  <a:pt x="372" y="455"/>
                </a:lnTo>
                <a:lnTo>
                  <a:pt x="384" y="470"/>
                </a:lnTo>
                <a:lnTo>
                  <a:pt x="395" y="485"/>
                </a:lnTo>
                <a:lnTo>
                  <a:pt x="411" y="497"/>
                </a:lnTo>
                <a:lnTo>
                  <a:pt x="422" y="507"/>
                </a:lnTo>
                <a:lnTo>
                  <a:pt x="434" y="516"/>
                </a:lnTo>
                <a:lnTo>
                  <a:pt x="445" y="526"/>
                </a:lnTo>
                <a:lnTo>
                  <a:pt x="457" y="535"/>
                </a:lnTo>
                <a:lnTo>
                  <a:pt x="468" y="545"/>
                </a:lnTo>
                <a:lnTo>
                  <a:pt x="480" y="554"/>
                </a:lnTo>
                <a:lnTo>
                  <a:pt x="491" y="564"/>
                </a:lnTo>
                <a:lnTo>
                  <a:pt x="503" y="572"/>
                </a:lnTo>
                <a:lnTo>
                  <a:pt x="518" y="583"/>
                </a:lnTo>
                <a:lnTo>
                  <a:pt x="535" y="595"/>
                </a:lnTo>
                <a:lnTo>
                  <a:pt x="553" y="606"/>
                </a:lnTo>
                <a:lnTo>
                  <a:pt x="568" y="616"/>
                </a:lnTo>
                <a:lnTo>
                  <a:pt x="585" y="627"/>
                </a:lnTo>
                <a:lnTo>
                  <a:pt x="601" y="639"/>
                </a:lnTo>
                <a:lnTo>
                  <a:pt x="616" y="652"/>
                </a:lnTo>
                <a:lnTo>
                  <a:pt x="629" y="666"/>
                </a:lnTo>
                <a:lnTo>
                  <a:pt x="643" y="681"/>
                </a:lnTo>
                <a:lnTo>
                  <a:pt x="658" y="696"/>
                </a:lnTo>
                <a:lnTo>
                  <a:pt x="672" y="712"/>
                </a:lnTo>
                <a:lnTo>
                  <a:pt x="687" y="729"/>
                </a:lnTo>
                <a:lnTo>
                  <a:pt x="700" y="744"/>
                </a:lnTo>
                <a:lnTo>
                  <a:pt x="716" y="762"/>
                </a:lnTo>
                <a:lnTo>
                  <a:pt x="729" y="779"/>
                </a:lnTo>
                <a:lnTo>
                  <a:pt x="743" y="798"/>
                </a:lnTo>
                <a:lnTo>
                  <a:pt x="744" y="802"/>
                </a:lnTo>
                <a:lnTo>
                  <a:pt x="746" y="806"/>
                </a:lnTo>
                <a:lnTo>
                  <a:pt x="746" y="812"/>
                </a:lnTo>
                <a:lnTo>
                  <a:pt x="744" y="815"/>
                </a:lnTo>
                <a:lnTo>
                  <a:pt x="743" y="821"/>
                </a:lnTo>
                <a:lnTo>
                  <a:pt x="741" y="825"/>
                </a:lnTo>
                <a:lnTo>
                  <a:pt x="737" y="829"/>
                </a:lnTo>
                <a:lnTo>
                  <a:pt x="733" y="831"/>
                </a:lnTo>
                <a:lnTo>
                  <a:pt x="721" y="833"/>
                </a:lnTo>
                <a:lnTo>
                  <a:pt x="712" y="831"/>
                </a:lnTo>
                <a:lnTo>
                  <a:pt x="704" y="829"/>
                </a:lnTo>
                <a:lnTo>
                  <a:pt x="695" y="823"/>
                </a:lnTo>
                <a:lnTo>
                  <a:pt x="687" y="815"/>
                </a:lnTo>
                <a:lnTo>
                  <a:pt x="679" y="810"/>
                </a:lnTo>
                <a:lnTo>
                  <a:pt x="672" y="804"/>
                </a:lnTo>
                <a:lnTo>
                  <a:pt x="664" y="798"/>
                </a:lnTo>
                <a:lnTo>
                  <a:pt x="647" y="785"/>
                </a:lnTo>
                <a:lnTo>
                  <a:pt x="629" y="769"/>
                </a:lnTo>
                <a:lnTo>
                  <a:pt x="614" y="754"/>
                </a:lnTo>
                <a:lnTo>
                  <a:pt x="599" y="737"/>
                </a:lnTo>
                <a:lnTo>
                  <a:pt x="585" y="719"/>
                </a:lnTo>
                <a:lnTo>
                  <a:pt x="570" y="702"/>
                </a:lnTo>
                <a:lnTo>
                  <a:pt x="556" y="683"/>
                </a:lnTo>
                <a:lnTo>
                  <a:pt x="543" y="662"/>
                </a:lnTo>
                <a:lnTo>
                  <a:pt x="520" y="635"/>
                </a:lnTo>
                <a:lnTo>
                  <a:pt x="497" y="608"/>
                </a:lnTo>
                <a:lnTo>
                  <a:pt x="474" y="583"/>
                </a:lnTo>
                <a:lnTo>
                  <a:pt x="449" y="560"/>
                </a:lnTo>
                <a:lnTo>
                  <a:pt x="422" y="537"/>
                </a:lnTo>
                <a:lnTo>
                  <a:pt x="395" y="516"/>
                </a:lnTo>
                <a:lnTo>
                  <a:pt x="368" y="495"/>
                </a:lnTo>
                <a:lnTo>
                  <a:pt x="340" y="474"/>
                </a:lnTo>
                <a:lnTo>
                  <a:pt x="324" y="464"/>
                </a:lnTo>
                <a:lnTo>
                  <a:pt x="309" y="455"/>
                </a:lnTo>
                <a:lnTo>
                  <a:pt x="294" y="443"/>
                </a:lnTo>
                <a:lnTo>
                  <a:pt x="278" y="434"/>
                </a:lnTo>
                <a:lnTo>
                  <a:pt x="265" y="420"/>
                </a:lnTo>
                <a:lnTo>
                  <a:pt x="251" y="407"/>
                </a:lnTo>
                <a:lnTo>
                  <a:pt x="242" y="393"/>
                </a:lnTo>
                <a:lnTo>
                  <a:pt x="232" y="376"/>
                </a:lnTo>
                <a:lnTo>
                  <a:pt x="213" y="332"/>
                </a:lnTo>
                <a:lnTo>
                  <a:pt x="194" y="290"/>
                </a:lnTo>
                <a:lnTo>
                  <a:pt x="173" y="249"/>
                </a:lnTo>
                <a:lnTo>
                  <a:pt x="150" y="209"/>
                </a:lnTo>
                <a:lnTo>
                  <a:pt x="127" y="171"/>
                </a:lnTo>
                <a:lnTo>
                  <a:pt x="104" y="131"/>
                </a:lnTo>
                <a:lnTo>
                  <a:pt x="79" y="90"/>
                </a:lnTo>
                <a:lnTo>
                  <a:pt x="52" y="50"/>
                </a:lnTo>
                <a:lnTo>
                  <a:pt x="48" y="44"/>
                </a:lnTo>
                <a:lnTo>
                  <a:pt x="44" y="40"/>
                </a:lnTo>
                <a:lnTo>
                  <a:pt x="38" y="38"/>
                </a:lnTo>
                <a:lnTo>
                  <a:pt x="33" y="35"/>
                </a:lnTo>
                <a:lnTo>
                  <a:pt x="25" y="33"/>
                </a:lnTo>
                <a:lnTo>
                  <a:pt x="19" y="29"/>
                </a:lnTo>
                <a:lnTo>
                  <a:pt x="13" y="27"/>
                </a:lnTo>
                <a:lnTo>
                  <a:pt x="8" y="21"/>
                </a:lnTo>
                <a:lnTo>
                  <a:pt x="6" y="19"/>
                </a:lnTo>
                <a:lnTo>
                  <a:pt x="6" y="17"/>
                </a:lnTo>
                <a:lnTo>
                  <a:pt x="4" y="15"/>
                </a:lnTo>
                <a:lnTo>
                  <a:pt x="4" y="12"/>
                </a:lnTo>
                <a:lnTo>
                  <a:pt x="4" y="8"/>
                </a:lnTo>
                <a:lnTo>
                  <a:pt x="2" y="6"/>
                </a:lnTo>
                <a:lnTo>
                  <a:pt x="2" y="2"/>
                </a:lnTo>
                <a:lnTo>
                  <a:pt x="0" y="0"/>
                </a:lnTo>
                <a:lnTo>
                  <a:pt x="54" y="83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Freeform 75"/>
          <p:cNvSpPr/>
          <p:nvPr/>
        </p:nvSpPr>
        <p:spPr>
          <a:xfrm>
            <a:off x="5232240" y="1274760"/>
            <a:ext cx="1024200" cy="1554120"/>
          </a:xfrm>
          <a:custGeom>
            <a:avLst/>
            <a:gdLst>
              <a:gd name="textAreaLeft" fmla="*/ 0 w 1024200"/>
              <a:gd name="textAreaRight" fmla="*/ 1024560 w 1024200"/>
              <a:gd name="textAreaTop" fmla="*/ 0 h 1554120"/>
              <a:gd name="textAreaBottom" fmla="*/ 1554480 h 1554120"/>
            </a:gdLst>
            <a:ahLst/>
            <a:rect l="textAreaLeft" t="textAreaTop" r="textAreaRight" b="textAreaBottom"/>
            <a:pathLst>
              <a:path w="645" h="979">
                <a:moveTo>
                  <a:pt x="54" y="725"/>
                </a:moveTo>
                <a:lnTo>
                  <a:pt x="69" y="700"/>
                </a:lnTo>
                <a:lnTo>
                  <a:pt x="83" y="677"/>
                </a:lnTo>
                <a:lnTo>
                  <a:pt x="92" y="652"/>
                </a:lnTo>
                <a:lnTo>
                  <a:pt x="102" y="626"/>
                </a:lnTo>
                <a:lnTo>
                  <a:pt x="111" y="601"/>
                </a:lnTo>
                <a:lnTo>
                  <a:pt x="121" y="576"/>
                </a:lnTo>
                <a:lnTo>
                  <a:pt x="134" y="551"/>
                </a:lnTo>
                <a:lnTo>
                  <a:pt x="152" y="526"/>
                </a:lnTo>
                <a:lnTo>
                  <a:pt x="157" y="514"/>
                </a:lnTo>
                <a:lnTo>
                  <a:pt x="165" y="501"/>
                </a:lnTo>
                <a:lnTo>
                  <a:pt x="169" y="487"/>
                </a:lnTo>
                <a:lnTo>
                  <a:pt x="173" y="472"/>
                </a:lnTo>
                <a:lnTo>
                  <a:pt x="177" y="457"/>
                </a:lnTo>
                <a:lnTo>
                  <a:pt x="180" y="441"/>
                </a:lnTo>
                <a:lnTo>
                  <a:pt x="186" y="426"/>
                </a:lnTo>
                <a:lnTo>
                  <a:pt x="192" y="413"/>
                </a:lnTo>
                <a:lnTo>
                  <a:pt x="194" y="405"/>
                </a:lnTo>
                <a:lnTo>
                  <a:pt x="200" y="399"/>
                </a:lnTo>
                <a:lnTo>
                  <a:pt x="203" y="393"/>
                </a:lnTo>
                <a:lnTo>
                  <a:pt x="207" y="388"/>
                </a:lnTo>
                <a:lnTo>
                  <a:pt x="213" y="382"/>
                </a:lnTo>
                <a:lnTo>
                  <a:pt x="217" y="376"/>
                </a:lnTo>
                <a:lnTo>
                  <a:pt x="221" y="370"/>
                </a:lnTo>
                <a:lnTo>
                  <a:pt x="225" y="363"/>
                </a:lnTo>
                <a:lnTo>
                  <a:pt x="230" y="351"/>
                </a:lnTo>
                <a:lnTo>
                  <a:pt x="234" y="338"/>
                </a:lnTo>
                <a:lnTo>
                  <a:pt x="236" y="324"/>
                </a:lnTo>
                <a:lnTo>
                  <a:pt x="238" y="311"/>
                </a:lnTo>
                <a:lnTo>
                  <a:pt x="240" y="298"/>
                </a:lnTo>
                <a:lnTo>
                  <a:pt x="244" y="284"/>
                </a:lnTo>
                <a:lnTo>
                  <a:pt x="248" y="271"/>
                </a:lnTo>
                <a:lnTo>
                  <a:pt x="255" y="259"/>
                </a:lnTo>
                <a:lnTo>
                  <a:pt x="261" y="253"/>
                </a:lnTo>
                <a:lnTo>
                  <a:pt x="267" y="246"/>
                </a:lnTo>
                <a:lnTo>
                  <a:pt x="274" y="240"/>
                </a:lnTo>
                <a:lnTo>
                  <a:pt x="280" y="234"/>
                </a:lnTo>
                <a:lnTo>
                  <a:pt x="288" y="228"/>
                </a:lnTo>
                <a:lnTo>
                  <a:pt x="292" y="223"/>
                </a:lnTo>
                <a:lnTo>
                  <a:pt x="297" y="217"/>
                </a:lnTo>
                <a:lnTo>
                  <a:pt x="301" y="211"/>
                </a:lnTo>
                <a:lnTo>
                  <a:pt x="311" y="184"/>
                </a:lnTo>
                <a:lnTo>
                  <a:pt x="320" y="159"/>
                </a:lnTo>
                <a:lnTo>
                  <a:pt x="330" y="133"/>
                </a:lnTo>
                <a:lnTo>
                  <a:pt x="340" y="108"/>
                </a:lnTo>
                <a:lnTo>
                  <a:pt x="349" y="81"/>
                </a:lnTo>
                <a:lnTo>
                  <a:pt x="357" y="54"/>
                </a:lnTo>
                <a:lnTo>
                  <a:pt x="363" y="27"/>
                </a:lnTo>
                <a:lnTo>
                  <a:pt x="367" y="0"/>
                </a:lnTo>
                <a:lnTo>
                  <a:pt x="359" y="2"/>
                </a:lnTo>
                <a:lnTo>
                  <a:pt x="351" y="6"/>
                </a:lnTo>
                <a:lnTo>
                  <a:pt x="345" y="12"/>
                </a:lnTo>
                <a:lnTo>
                  <a:pt x="340" y="17"/>
                </a:lnTo>
                <a:lnTo>
                  <a:pt x="336" y="27"/>
                </a:lnTo>
                <a:lnTo>
                  <a:pt x="332" y="35"/>
                </a:lnTo>
                <a:lnTo>
                  <a:pt x="328" y="42"/>
                </a:lnTo>
                <a:lnTo>
                  <a:pt x="324" y="48"/>
                </a:lnTo>
                <a:lnTo>
                  <a:pt x="319" y="60"/>
                </a:lnTo>
                <a:lnTo>
                  <a:pt x="315" y="69"/>
                </a:lnTo>
                <a:lnTo>
                  <a:pt x="313" y="81"/>
                </a:lnTo>
                <a:lnTo>
                  <a:pt x="311" y="92"/>
                </a:lnTo>
                <a:lnTo>
                  <a:pt x="309" y="104"/>
                </a:lnTo>
                <a:lnTo>
                  <a:pt x="307" y="117"/>
                </a:lnTo>
                <a:lnTo>
                  <a:pt x="305" y="129"/>
                </a:lnTo>
                <a:lnTo>
                  <a:pt x="301" y="140"/>
                </a:lnTo>
                <a:lnTo>
                  <a:pt x="290" y="167"/>
                </a:lnTo>
                <a:lnTo>
                  <a:pt x="276" y="194"/>
                </a:lnTo>
                <a:lnTo>
                  <a:pt x="265" y="219"/>
                </a:lnTo>
                <a:lnTo>
                  <a:pt x="251" y="244"/>
                </a:lnTo>
                <a:lnTo>
                  <a:pt x="238" y="271"/>
                </a:lnTo>
                <a:lnTo>
                  <a:pt x="226" y="298"/>
                </a:lnTo>
                <a:lnTo>
                  <a:pt x="215" y="324"/>
                </a:lnTo>
                <a:lnTo>
                  <a:pt x="207" y="353"/>
                </a:lnTo>
                <a:lnTo>
                  <a:pt x="202" y="369"/>
                </a:lnTo>
                <a:lnTo>
                  <a:pt x="194" y="384"/>
                </a:lnTo>
                <a:lnTo>
                  <a:pt x="186" y="399"/>
                </a:lnTo>
                <a:lnTo>
                  <a:pt x="177" y="415"/>
                </a:lnTo>
                <a:lnTo>
                  <a:pt x="167" y="428"/>
                </a:lnTo>
                <a:lnTo>
                  <a:pt x="157" y="443"/>
                </a:lnTo>
                <a:lnTo>
                  <a:pt x="148" y="457"/>
                </a:lnTo>
                <a:lnTo>
                  <a:pt x="140" y="472"/>
                </a:lnTo>
                <a:lnTo>
                  <a:pt x="129" y="503"/>
                </a:lnTo>
                <a:lnTo>
                  <a:pt x="119" y="534"/>
                </a:lnTo>
                <a:lnTo>
                  <a:pt x="113" y="566"/>
                </a:lnTo>
                <a:lnTo>
                  <a:pt x="106" y="597"/>
                </a:lnTo>
                <a:lnTo>
                  <a:pt x="100" y="629"/>
                </a:lnTo>
                <a:lnTo>
                  <a:pt x="92" y="660"/>
                </a:lnTo>
                <a:lnTo>
                  <a:pt x="84" y="693"/>
                </a:lnTo>
                <a:lnTo>
                  <a:pt x="71" y="722"/>
                </a:lnTo>
                <a:lnTo>
                  <a:pt x="65" y="739"/>
                </a:lnTo>
                <a:lnTo>
                  <a:pt x="61" y="756"/>
                </a:lnTo>
                <a:lnTo>
                  <a:pt x="56" y="773"/>
                </a:lnTo>
                <a:lnTo>
                  <a:pt x="52" y="792"/>
                </a:lnTo>
                <a:lnTo>
                  <a:pt x="48" y="810"/>
                </a:lnTo>
                <a:lnTo>
                  <a:pt x="44" y="825"/>
                </a:lnTo>
                <a:lnTo>
                  <a:pt x="38" y="842"/>
                </a:lnTo>
                <a:lnTo>
                  <a:pt x="31" y="860"/>
                </a:lnTo>
                <a:lnTo>
                  <a:pt x="38" y="846"/>
                </a:lnTo>
                <a:lnTo>
                  <a:pt x="48" y="835"/>
                </a:lnTo>
                <a:lnTo>
                  <a:pt x="58" y="823"/>
                </a:lnTo>
                <a:lnTo>
                  <a:pt x="69" y="814"/>
                </a:lnTo>
                <a:lnTo>
                  <a:pt x="81" y="802"/>
                </a:lnTo>
                <a:lnTo>
                  <a:pt x="92" y="792"/>
                </a:lnTo>
                <a:lnTo>
                  <a:pt x="102" y="781"/>
                </a:lnTo>
                <a:lnTo>
                  <a:pt x="113" y="769"/>
                </a:lnTo>
                <a:lnTo>
                  <a:pt x="134" y="748"/>
                </a:lnTo>
                <a:lnTo>
                  <a:pt x="159" y="727"/>
                </a:lnTo>
                <a:lnTo>
                  <a:pt x="184" y="708"/>
                </a:lnTo>
                <a:lnTo>
                  <a:pt x="209" y="689"/>
                </a:lnTo>
                <a:lnTo>
                  <a:pt x="236" y="672"/>
                </a:lnTo>
                <a:lnTo>
                  <a:pt x="263" y="652"/>
                </a:lnTo>
                <a:lnTo>
                  <a:pt x="288" y="631"/>
                </a:lnTo>
                <a:lnTo>
                  <a:pt x="311" y="610"/>
                </a:lnTo>
                <a:lnTo>
                  <a:pt x="338" y="583"/>
                </a:lnTo>
                <a:lnTo>
                  <a:pt x="363" y="555"/>
                </a:lnTo>
                <a:lnTo>
                  <a:pt x="386" y="526"/>
                </a:lnTo>
                <a:lnTo>
                  <a:pt x="411" y="499"/>
                </a:lnTo>
                <a:lnTo>
                  <a:pt x="434" y="470"/>
                </a:lnTo>
                <a:lnTo>
                  <a:pt x="457" y="441"/>
                </a:lnTo>
                <a:lnTo>
                  <a:pt x="482" y="413"/>
                </a:lnTo>
                <a:lnTo>
                  <a:pt x="507" y="386"/>
                </a:lnTo>
                <a:lnTo>
                  <a:pt x="518" y="376"/>
                </a:lnTo>
                <a:lnTo>
                  <a:pt x="526" y="363"/>
                </a:lnTo>
                <a:lnTo>
                  <a:pt x="533" y="351"/>
                </a:lnTo>
                <a:lnTo>
                  <a:pt x="541" y="338"/>
                </a:lnTo>
                <a:lnTo>
                  <a:pt x="549" y="322"/>
                </a:lnTo>
                <a:lnTo>
                  <a:pt x="555" y="309"/>
                </a:lnTo>
                <a:lnTo>
                  <a:pt x="562" y="296"/>
                </a:lnTo>
                <a:lnTo>
                  <a:pt x="570" y="282"/>
                </a:lnTo>
                <a:lnTo>
                  <a:pt x="578" y="271"/>
                </a:lnTo>
                <a:lnTo>
                  <a:pt x="587" y="261"/>
                </a:lnTo>
                <a:lnTo>
                  <a:pt x="599" y="252"/>
                </a:lnTo>
                <a:lnTo>
                  <a:pt x="610" y="242"/>
                </a:lnTo>
                <a:lnTo>
                  <a:pt x="622" y="232"/>
                </a:lnTo>
                <a:lnTo>
                  <a:pt x="631" y="221"/>
                </a:lnTo>
                <a:lnTo>
                  <a:pt x="639" y="207"/>
                </a:lnTo>
                <a:lnTo>
                  <a:pt x="645" y="194"/>
                </a:lnTo>
                <a:lnTo>
                  <a:pt x="627" y="205"/>
                </a:lnTo>
                <a:lnTo>
                  <a:pt x="612" y="221"/>
                </a:lnTo>
                <a:lnTo>
                  <a:pt x="597" y="236"/>
                </a:lnTo>
                <a:lnTo>
                  <a:pt x="583" y="253"/>
                </a:lnTo>
                <a:lnTo>
                  <a:pt x="570" y="269"/>
                </a:lnTo>
                <a:lnTo>
                  <a:pt x="556" y="286"/>
                </a:lnTo>
                <a:lnTo>
                  <a:pt x="541" y="301"/>
                </a:lnTo>
                <a:lnTo>
                  <a:pt x="528" y="317"/>
                </a:lnTo>
                <a:lnTo>
                  <a:pt x="522" y="322"/>
                </a:lnTo>
                <a:lnTo>
                  <a:pt x="516" y="326"/>
                </a:lnTo>
                <a:lnTo>
                  <a:pt x="508" y="330"/>
                </a:lnTo>
                <a:lnTo>
                  <a:pt x="503" y="334"/>
                </a:lnTo>
                <a:lnTo>
                  <a:pt x="497" y="338"/>
                </a:lnTo>
                <a:lnTo>
                  <a:pt x="491" y="344"/>
                </a:lnTo>
                <a:lnTo>
                  <a:pt x="485" y="347"/>
                </a:lnTo>
                <a:lnTo>
                  <a:pt x="482" y="353"/>
                </a:lnTo>
                <a:lnTo>
                  <a:pt x="434" y="413"/>
                </a:lnTo>
                <a:lnTo>
                  <a:pt x="386" y="472"/>
                </a:lnTo>
                <a:lnTo>
                  <a:pt x="338" y="528"/>
                </a:lnTo>
                <a:lnTo>
                  <a:pt x="288" y="581"/>
                </a:lnTo>
                <a:lnTo>
                  <a:pt x="240" y="637"/>
                </a:lnTo>
                <a:lnTo>
                  <a:pt x="192" y="695"/>
                </a:lnTo>
                <a:lnTo>
                  <a:pt x="144" y="752"/>
                </a:lnTo>
                <a:lnTo>
                  <a:pt x="98" y="814"/>
                </a:lnTo>
                <a:lnTo>
                  <a:pt x="84" y="835"/>
                </a:lnTo>
                <a:lnTo>
                  <a:pt x="73" y="856"/>
                </a:lnTo>
                <a:lnTo>
                  <a:pt x="61" y="877"/>
                </a:lnTo>
                <a:lnTo>
                  <a:pt x="50" y="898"/>
                </a:lnTo>
                <a:lnTo>
                  <a:pt x="40" y="919"/>
                </a:lnTo>
                <a:lnTo>
                  <a:pt x="29" y="940"/>
                </a:lnTo>
                <a:lnTo>
                  <a:pt x="15" y="959"/>
                </a:lnTo>
                <a:lnTo>
                  <a:pt x="0" y="979"/>
                </a:lnTo>
                <a:lnTo>
                  <a:pt x="54" y="725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Freeform 76"/>
          <p:cNvSpPr/>
          <p:nvPr/>
        </p:nvSpPr>
        <p:spPr>
          <a:xfrm>
            <a:off x="5262480" y="2639880"/>
            <a:ext cx="1697040" cy="382680"/>
          </a:xfrm>
          <a:custGeom>
            <a:avLst/>
            <a:gdLst>
              <a:gd name="textAreaLeft" fmla="*/ 0 w 1697040"/>
              <a:gd name="textAreaRight" fmla="*/ 1697400 w 1697040"/>
              <a:gd name="textAreaTop" fmla="*/ 0 h 382680"/>
              <a:gd name="textAreaBottom" fmla="*/ 383040 h 382680"/>
            </a:gdLst>
            <a:ahLst/>
            <a:rect l="textAreaLeft" t="textAreaTop" r="textAreaRight" b="textAreaBottom"/>
            <a:pathLst>
              <a:path w="1069" h="241">
                <a:moveTo>
                  <a:pt x="0" y="159"/>
                </a:moveTo>
                <a:lnTo>
                  <a:pt x="52" y="157"/>
                </a:lnTo>
                <a:lnTo>
                  <a:pt x="106" y="151"/>
                </a:lnTo>
                <a:lnTo>
                  <a:pt x="158" y="145"/>
                </a:lnTo>
                <a:lnTo>
                  <a:pt x="209" y="138"/>
                </a:lnTo>
                <a:lnTo>
                  <a:pt x="261" y="126"/>
                </a:lnTo>
                <a:lnTo>
                  <a:pt x="313" y="113"/>
                </a:lnTo>
                <a:lnTo>
                  <a:pt x="363" y="97"/>
                </a:lnTo>
                <a:lnTo>
                  <a:pt x="415" y="78"/>
                </a:lnTo>
                <a:lnTo>
                  <a:pt x="419" y="76"/>
                </a:lnTo>
                <a:lnTo>
                  <a:pt x="424" y="76"/>
                </a:lnTo>
                <a:lnTo>
                  <a:pt x="430" y="76"/>
                </a:lnTo>
                <a:lnTo>
                  <a:pt x="436" y="76"/>
                </a:lnTo>
                <a:lnTo>
                  <a:pt x="442" y="76"/>
                </a:lnTo>
                <a:lnTo>
                  <a:pt x="447" y="76"/>
                </a:lnTo>
                <a:lnTo>
                  <a:pt x="453" y="76"/>
                </a:lnTo>
                <a:lnTo>
                  <a:pt x="461" y="76"/>
                </a:lnTo>
                <a:lnTo>
                  <a:pt x="466" y="73"/>
                </a:lnTo>
                <a:lnTo>
                  <a:pt x="472" y="71"/>
                </a:lnTo>
                <a:lnTo>
                  <a:pt x="478" y="67"/>
                </a:lnTo>
                <a:lnTo>
                  <a:pt x="486" y="63"/>
                </a:lnTo>
                <a:lnTo>
                  <a:pt x="491" y="61"/>
                </a:lnTo>
                <a:lnTo>
                  <a:pt x="497" y="57"/>
                </a:lnTo>
                <a:lnTo>
                  <a:pt x="503" y="55"/>
                </a:lnTo>
                <a:lnTo>
                  <a:pt x="509" y="55"/>
                </a:lnTo>
                <a:lnTo>
                  <a:pt x="536" y="53"/>
                </a:lnTo>
                <a:lnTo>
                  <a:pt x="560" y="50"/>
                </a:lnTo>
                <a:lnTo>
                  <a:pt x="587" y="46"/>
                </a:lnTo>
                <a:lnTo>
                  <a:pt x="614" y="42"/>
                </a:lnTo>
                <a:lnTo>
                  <a:pt x="641" y="38"/>
                </a:lnTo>
                <a:lnTo>
                  <a:pt x="668" y="34"/>
                </a:lnTo>
                <a:lnTo>
                  <a:pt x="695" y="30"/>
                </a:lnTo>
                <a:lnTo>
                  <a:pt x="722" y="26"/>
                </a:lnTo>
                <a:lnTo>
                  <a:pt x="764" y="23"/>
                </a:lnTo>
                <a:lnTo>
                  <a:pt x="808" y="19"/>
                </a:lnTo>
                <a:lnTo>
                  <a:pt x="852" y="15"/>
                </a:lnTo>
                <a:lnTo>
                  <a:pt x="894" y="11"/>
                </a:lnTo>
                <a:lnTo>
                  <a:pt x="938" y="7"/>
                </a:lnTo>
                <a:lnTo>
                  <a:pt x="981" y="3"/>
                </a:lnTo>
                <a:lnTo>
                  <a:pt x="1025" y="2"/>
                </a:lnTo>
                <a:lnTo>
                  <a:pt x="1067" y="0"/>
                </a:lnTo>
                <a:lnTo>
                  <a:pt x="1067" y="2"/>
                </a:lnTo>
                <a:lnTo>
                  <a:pt x="1069" y="5"/>
                </a:lnTo>
                <a:lnTo>
                  <a:pt x="1069" y="7"/>
                </a:lnTo>
                <a:lnTo>
                  <a:pt x="1069" y="9"/>
                </a:lnTo>
                <a:lnTo>
                  <a:pt x="1069" y="13"/>
                </a:lnTo>
                <a:lnTo>
                  <a:pt x="1069" y="15"/>
                </a:lnTo>
                <a:lnTo>
                  <a:pt x="1069" y="15"/>
                </a:lnTo>
                <a:lnTo>
                  <a:pt x="1067" y="17"/>
                </a:lnTo>
                <a:lnTo>
                  <a:pt x="1048" y="23"/>
                </a:lnTo>
                <a:lnTo>
                  <a:pt x="1029" y="26"/>
                </a:lnTo>
                <a:lnTo>
                  <a:pt x="1009" y="26"/>
                </a:lnTo>
                <a:lnTo>
                  <a:pt x="990" y="26"/>
                </a:lnTo>
                <a:lnTo>
                  <a:pt x="971" y="28"/>
                </a:lnTo>
                <a:lnTo>
                  <a:pt x="950" y="30"/>
                </a:lnTo>
                <a:lnTo>
                  <a:pt x="929" y="34"/>
                </a:lnTo>
                <a:lnTo>
                  <a:pt x="908" y="42"/>
                </a:lnTo>
                <a:lnTo>
                  <a:pt x="898" y="46"/>
                </a:lnTo>
                <a:lnTo>
                  <a:pt x="887" y="48"/>
                </a:lnTo>
                <a:lnTo>
                  <a:pt x="873" y="48"/>
                </a:lnTo>
                <a:lnTo>
                  <a:pt x="862" y="46"/>
                </a:lnTo>
                <a:lnTo>
                  <a:pt x="850" y="46"/>
                </a:lnTo>
                <a:lnTo>
                  <a:pt x="837" y="46"/>
                </a:lnTo>
                <a:lnTo>
                  <a:pt x="825" y="48"/>
                </a:lnTo>
                <a:lnTo>
                  <a:pt x="816" y="50"/>
                </a:lnTo>
                <a:lnTo>
                  <a:pt x="796" y="61"/>
                </a:lnTo>
                <a:lnTo>
                  <a:pt x="775" y="69"/>
                </a:lnTo>
                <a:lnTo>
                  <a:pt x="754" y="76"/>
                </a:lnTo>
                <a:lnTo>
                  <a:pt x="733" y="84"/>
                </a:lnTo>
                <a:lnTo>
                  <a:pt x="712" y="92"/>
                </a:lnTo>
                <a:lnTo>
                  <a:pt x="691" y="99"/>
                </a:lnTo>
                <a:lnTo>
                  <a:pt x="670" y="107"/>
                </a:lnTo>
                <a:lnTo>
                  <a:pt x="649" y="113"/>
                </a:lnTo>
                <a:lnTo>
                  <a:pt x="620" y="124"/>
                </a:lnTo>
                <a:lnTo>
                  <a:pt x="593" y="134"/>
                </a:lnTo>
                <a:lnTo>
                  <a:pt x="566" y="144"/>
                </a:lnTo>
                <a:lnTo>
                  <a:pt x="537" y="151"/>
                </a:lnTo>
                <a:lnTo>
                  <a:pt x="511" y="159"/>
                </a:lnTo>
                <a:lnTo>
                  <a:pt x="482" y="167"/>
                </a:lnTo>
                <a:lnTo>
                  <a:pt x="453" y="174"/>
                </a:lnTo>
                <a:lnTo>
                  <a:pt x="424" y="180"/>
                </a:lnTo>
                <a:lnTo>
                  <a:pt x="380" y="186"/>
                </a:lnTo>
                <a:lnTo>
                  <a:pt x="338" y="193"/>
                </a:lnTo>
                <a:lnTo>
                  <a:pt x="294" y="199"/>
                </a:lnTo>
                <a:lnTo>
                  <a:pt x="252" y="205"/>
                </a:lnTo>
                <a:lnTo>
                  <a:pt x="207" y="211"/>
                </a:lnTo>
                <a:lnTo>
                  <a:pt x="163" y="214"/>
                </a:lnTo>
                <a:lnTo>
                  <a:pt x="121" y="218"/>
                </a:lnTo>
                <a:lnTo>
                  <a:pt x="75" y="220"/>
                </a:lnTo>
                <a:lnTo>
                  <a:pt x="71" y="222"/>
                </a:lnTo>
                <a:lnTo>
                  <a:pt x="69" y="224"/>
                </a:lnTo>
                <a:lnTo>
                  <a:pt x="65" y="228"/>
                </a:lnTo>
                <a:lnTo>
                  <a:pt x="62" y="232"/>
                </a:lnTo>
                <a:lnTo>
                  <a:pt x="58" y="236"/>
                </a:lnTo>
                <a:lnTo>
                  <a:pt x="54" y="239"/>
                </a:lnTo>
                <a:lnTo>
                  <a:pt x="48" y="241"/>
                </a:lnTo>
                <a:lnTo>
                  <a:pt x="42" y="241"/>
                </a:lnTo>
                <a:lnTo>
                  <a:pt x="0" y="159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Freeform 77"/>
          <p:cNvSpPr/>
          <p:nvPr/>
        </p:nvSpPr>
        <p:spPr>
          <a:xfrm>
            <a:off x="5251320" y="2889360"/>
            <a:ext cx="1735200" cy="1184040"/>
          </a:xfrm>
          <a:custGeom>
            <a:avLst/>
            <a:gdLst>
              <a:gd name="textAreaLeft" fmla="*/ 0 w 1735200"/>
              <a:gd name="textAreaRight" fmla="*/ 1735560 w 1735200"/>
              <a:gd name="textAreaTop" fmla="*/ 0 h 1184040"/>
              <a:gd name="textAreaBottom" fmla="*/ 1184040 h 1184040"/>
            </a:gdLst>
            <a:ahLst/>
            <a:rect l="textAreaLeft" t="textAreaTop" r="textAreaRight" b="textAreaBottom"/>
            <a:pathLst>
              <a:path w="1093" h="746">
                <a:moveTo>
                  <a:pt x="65" y="221"/>
                </a:moveTo>
                <a:lnTo>
                  <a:pt x="74" y="228"/>
                </a:lnTo>
                <a:lnTo>
                  <a:pt x="84" y="236"/>
                </a:lnTo>
                <a:lnTo>
                  <a:pt x="94" y="244"/>
                </a:lnTo>
                <a:lnTo>
                  <a:pt x="103" y="251"/>
                </a:lnTo>
                <a:lnTo>
                  <a:pt x="113" y="259"/>
                </a:lnTo>
                <a:lnTo>
                  <a:pt x="120" y="267"/>
                </a:lnTo>
                <a:lnTo>
                  <a:pt x="130" y="276"/>
                </a:lnTo>
                <a:lnTo>
                  <a:pt x="140" y="284"/>
                </a:lnTo>
                <a:lnTo>
                  <a:pt x="157" y="301"/>
                </a:lnTo>
                <a:lnTo>
                  <a:pt x="176" y="316"/>
                </a:lnTo>
                <a:lnTo>
                  <a:pt x="197" y="330"/>
                </a:lnTo>
                <a:lnTo>
                  <a:pt x="218" y="343"/>
                </a:lnTo>
                <a:lnTo>
                  <a:pt x="239" y="355"/>
                </a:lnTo>
                <a:lnTo>
                  <a:pt x="262" y="366"/>
                </a:lnTo>
                <a:lnTo>
                  <a:pt x="284" y="378"/>
                </a:lnTo>
                <a:lnTo>
                  <a:pt x="307" y="391"/>
                </a:lnTo>
                <a:lnTo>
                  <a:pt x="353" y="418"/>
                </a:lnTo>
                <a:lnTo>
                  <a:pt x="399" y="445"/>
                </a:lnTo>
                <a:lnTo>
                  <a:pt x="445" y="472"/>
                </a:lnTo>
                <a:lnTo>
                  <a:pt x="491" y="497"/>
                </a:lnTo>
                <a:lnTo>
                  <a:pt x="537" y="522"/>
                </a:lnTo>
                <a:lnTo>
                  <a:pt x="583" y="547"/>
                </a:lnTo>
                <a:lnTo>
                  <a:pt x="631" y="572"/>
                </a:lnTo>
                <a:lnTo>
                  <a:pt x="679" y="597"/>
                </a:lnTo>
                <a:lnTo>
                  <a:pt x="696" y="610"/>
                </a:lnTo>
                <a:lnTo>
                  <a:pt x="715" y="623"/>
                </a:lnTo>
                <a:lnTo>
                  <a:pt x="731" y="639"/>
                </a:lnTo>
                <a:lnTo>
                  <a:pt x="748" y="654"/>
                </a:lnTo>
                <a:lnTo>
                  <a:pt x="763" y="671"/>
                </a:lnTo>
                <a:lnTo>
                  <a:pt x="780" y="687"/>
                </a:lnTo>
                <a:lnTo>
                  <a:pt x="798" y="702"/>
                </a:lnTo>
                <a:lnTo>
                  <a:pt x="817" y="714"/>
                </a:lnTo>
                <a:lnTo>
                  <a:pt x="828" y="719"/>
                </a:lnTo>
                <a:lnTo>
                  <a:pt x="840" y="727"/>
                </a:lnTo>
                <a:lnTo>
                  <a:pt x="853" y="733"/>
                </a:lnTo>
                <a:lnTo>
                  <a:pt x="865" y="738"/>
                </a:lnTo>
                <a:lnTo>
                  <a:pt x="876" y="742"/>
                </a:lnTo>
                <a:lnTo>
                  <a:pt x="884" y="746"/>
                </a:lnTo>
                <a:lnTo>
                  <a:pt x="888" y="746"/>
                </a:lnTo>
                <a:lnTo>
                  <a:pt x="890" y="744"/>
                </a:lnTo>
                <a:lnTo>
                  <a:pt x="892" y="742"/>
                </a:lnTo>
                <a:lnTo>
                  <a:pt x="892" y="740"/>
                </a:lnTo>
                <a:lnTo>
                  <a:pt x="890" y="733"/>
                </a:lnTo>
                <a:lnTo>
                  <a:pt x="886" y="727"/>
                </a:lnTo>
                <a:lnTo>
                  <a:pt x="882" y="721"/>
                </a:lnTo>
                <a:lnTo>
                  <a:pt x="878" y="715"/>
                </a:lnTo>
                <a:lnTo>
                  <a:pt x="865" y="704"/>
                </a:lnTo>
                <a:lnTo>
                  <a:pt x="851" y="696"/>
                </a:lnTo>
                <a:lnTo>
                  <a:pt x="836" y="687"/>
                </a:lnTo>
                <a:lnTo>
                  <a:pt x="819" y="677"/>
                </a:lnTo>
                <a:lnTo>
                  <a:pt x="803" y="669"/>
                </a:lnTo>
                <a:lnTo>
                  <a:pt x="790" y="658"/>
                </a:lnTo>
                <a:lnTo>
                  <a:pt x="754" y="633"/>
                </a:lnTo>
                <a:lnTo>
                  <a:pt x="719" y="608"/>
                </a:lnTo>
                <a:lnTo>
                  <a:pt x="683" y="585"/>
                </a:lnTo>
                <a:lnTo>
                  <a:pt x="644" y="564"/>
                </a:lnTo>
                <a:lnTo>
                  <a:pt x="608" y="543"/>
                </a:lnTo>
                <a:lnTo>
                  <a:pt x="569" y="522"/>
                </a:lnTo>
                <a:lnTo>
                  <a:pt x="531" y="503"/>
                </a:lnTo>
                <a:lnTo>
                  <a:pt x="493" y="481"/>
                </a:lnTo>
                <a:lnTo>
                  <a:pt x="472" y="466"/>
                </a:lnTo>
                <a:lnTo>
                  <a:pt x="450" y="453"/>
                </a:lnTo>
                <a:lnTo>
                  <a:pt x="429" y="439"/>
                </a:lnTo>
                <a:lnTo>
                  <a:pt x="408" y="424"/>
                </a:lnTo>
                <a:lnTo>
                  <a:pt x="389" y="410"/>
                </a:lnTo>
                <a:lnTo>
                  <a:pt x="368" y="399"/>
                </a:lnTo>
                <a:lnTo>
                  <a:pt x="345" y="387"/>
                </a:lnTo>
                <a:lnTo>
                  <a:pt x="322" y="376"/>
                </a:lnTo>
                <a:lnTo>
                  <a:pt x="314" y="372"/>
                </a:lnTo>
                <a:lnTo>
                  <a:pt x="308" y="368"/>
                </a:lnTo>
                <a:lnTo>
                  <a:pt x="303" y="363"/>
                </a:lnTo>
                <a:lnTo>
                  <a:pt x="297" y="357"/>
                </a:lnTo>
                <a:lnTo>
                  <a:pt x="291" y="351"/>
                </a:lnTo>
                <a:lnTo>
                  <a:pt x="285" y="343"/>
                </a:lnTo>
                <a:lnTo>
                  <a:pt x="280" y="338"/>
                </a:lnTo>
                <a:lnTo>
                  <a:pt x="274" y="334"/>
                </a:lnTo>
                <a:lnTo>
                  <a:pt x="253" y="313"/>
                </a:lnTo>
                <a:lnTo>
                  <a:pt x="234" y="292"/>
                </a:lnTo>
                <a:lnTo>
                  <a:pt x="214" y="267"/>
                </a:lnTo>
                <a:lnTo>
                  <a:pt x="195" y="245"/>
                </a:lnTo>
                <a:lnTo>
                  <a:pt x="186" y="234"/>
                </a:lnTo>
                <a:lnTo>
                  <a:pt x="176" y="224"/>
                </a:lnTo>
                <a:lnTo>
                  <a:pt x="165" y="215"/>
                </a:lnTo>
                <a:lnTo>
                  <a:pt x="153" y="207"/>
                </a:lnTo>
                <a:lnTo>
                  <a:pt x="142" y="201"/>
                </a:lnTo>
                <a:lnTo>
                  <a:pt x="126" y="196"/>
                </a:lnTo>
                <a:lnTo>
                  <a:pt x="113" y="192"/>
                </a:lnTo>
                <a:lnTo>
                  <a:pt x="95" y="190"/>
                </a:lnTo>
                <a:lnTo>
                  <a:pt x="113" y="190"/>
                </a:lnTo>
                <a:lnTo>
                  <a:pt x="130" y="192"/>
                </a:lnTo>
                <a:lnTo>
                  <a:pt x="147" y="192"/>
                </a:lnTo>
                <a:lnTo>
                  <a:pt x="165" y="192"/>
                </a:lnTo>
                <a:lnTo>
                  <a:pt x="182" y="194"/>
                </a:lnTo>
                <a:lnTo>
                  <a:pt x="199" y="196"/>
                </a:lnTo>
                <a:lnTo>
                  <a:pt x="216" y="196"/>
                </a:lnTo>
                <a:lnTo>
                  <a:pt x="234" y="198"/>
                </a:lnTo>
                <a:lnTo>
                  <a:pt x="293" y="201"/>
                </a:lnTo>
                <a:lnTo>
                  <a:pt x="353" y="203"/>
                </a:lnTo>
                <a:lnTo>
                  <a:pt x="414" y="203"/>
                </a:lnTo>
                <a:lnTo>
                  <a:pt x="473" y="205"/>
                </a:lnTo>
                <a:lnTo>
                  <a:pt x="533" y="205"/>
                </a:lnTo>
                <a:lnTo>
                  <a:pt x="594" y="207"/>
                </a:lnTo>
                <a:lnTo>
                  <a:pt x="656" y="211"/>
                </a:lnTo>
                <a:lnTo>
                  <a:pt x="715" y="217"/>
                </a:lnTo>
                <a:lnTo>
                  <a:pt x="734" y="219"/>
                </a:lnTo>
                <a:lnTo>
                  <a:pt x="754" y="222"/>
                </a:lnTo>
                <a:lnTo>
                  <a:pt x="773" y="224"/>
                </a:lnTo>
                <a:lnTo>
                  <a:pt x="792" y="228"/>
                </a:lnTo>
                <a:lnTo>
                  <a:pt x="811" y="230"/>
                </a:lnTo>
                <a:lnTo>
                  <a:pt x="830" y="232"/>
                </a:lnTo>
                <a:lnTo>
                  <a:pt x="850" y="234"/>
                </a:lnTo>
                <a:lnTo>
                  <a:pt x="869" y="234"/>
                </a:lnTo>
                <a:lnTo>
                  <a:pt x="878" y="234"/>
                </a:lnTo>
                <a:lnTo>
                  <a:pt x="886" y="236"/>
                </a:lnTo>
                <a:lnTo>
                  <a:pt x="896" y="238"/>
                </a:lnTo>
                <a:lnTo>
                  <a:pt x="905" y="240"/>
                </a:lnTo>
                <a:lnTo>
                  <a:pt x="913" y="244"/>
                </a:lnTo>
                <a:lnTo>
                  <a:pt x="922" y="245"/>
                </a:lnTo>
                <a:lnTo>
                  <a:pt x="932" y="247"/>
                </a:lnTo>
                <a:lnTo>
                  <a:pt x="940" y="249"/>
                </a:lnTo>
                <a:lnTo>
                  <a:pt x="959" y="249"/>
                </a:lnTo>
                <a:lnTo>
                  <a:pt x="978" y="249"/>
                </a:lnTo>
                <a:lnTo>
                  <a:pt x="997" y="249"/>
                </a:lnTo>
                <a:lnTo>
                  <a:pt x="1016" y="249"/>
                </a:lnTo>
                <a:lnTo>
                  <a:pt x="1036" y="249"/>
                </a:lnTo>
                <a:lnTo>
                  <a:pt x="1055" y="249"/>
                </a:lnTo>
                <a:lnTo>
                  <a:pt x="1074" y="249"/>
                </a:lnTo>
                <a:lnTo>
                  <a:pt x="1093" y="249"/>
                </a:lnTo>
                <a:lnTo>
                  <a:pt x="1082" y="238"/>
                </a:lnTo>
                <a:lnTo>
                  <a:pt x="1070" y="230"/>
                </a:lnTo>
                <a:lnTo>
                  <a:pt x="1057" y="224"/>
                </a:lnTo>
                <a:lnTo>
                  <a:pt x="1043" y="221"/>
                </a:lnTo>
                <a:lnTo>
                  <a:pt x="1030" y="217"/>
                </a:lnTo>
                <a:lnTo>
                  <a:pt x="1015" y="217"/>
                </a:lnTo>
                <a:lnTo>
                  <a:pt x="1001" y="215"/>
                </a:lnTo>
                <a:lnTo>
                  <a:pt x="986" y="213"/>
                </a:lnTo>
                <a:lnTo>
                  <a:pt x="955" y="209"/>
                </a:lnTo>
                <a:lnTo>
                  <a:pt x="924" y="203"/>
                </a:lnTo>
                <a:lnTo>
                  <a:pt x="894" y="201"/>
                </a:lnTo>
                <a:lnTo>
                  <a:pt x="863" y="198"/>
                </a:lnTo>
                <a:lnTo>
                  <a:pt x="834" y="194"/>
                </a:lnTo>
                <a:lnTo>
                  <a:pt x="803" y="192"/>
                </a:lnTo>
                <a:lnTo>
                  <a:pt x="773" y="188"/>
                </a:lnTo>
                <a:lnTo>
                  <a:pt x="744" y="182"/>
                </a:lnTo>
                <a:lnTo>
                  <a:pt x="704" y="176"/>
                </a:lnTo>
                <a:lnTo>
                  <a:pt x="661" y="171"/>
                </a:lnTo>
                <a:lnTo>
                  <a:pt x="621" y="167"/>
                </a:lnTo>
                <a:lnTo>
                  <a:pt x="581" y="163"/>
                </a:lnTo>
                <a:lnTo>
                  <a:pt x="539" y="159"/>
                </a:lnTo>
                <a:lnTo>
                  <a:pt x="498" y="155"/>
                </a:lnTo>
                <a:lnTo>
                  <a:pt x="456" y="153"/>
                </a:lnTo>
                <a:lnTo>
                  <a:pt x="416" y="150"/>
                </a:lnTo>
                <a:lnTo>
                  <a:pt x="381" y="148"/>
                </a:lnTo>
                <a:lnTo>
                  <a:pt x="347" y="146"/>
                </a:lnTo>
                <a:lnTo>
                  <a:pt x="314" y="144"/>
                </a:lnTo>
                <a:lnTo>
                  <a:pt x="280" y="142"/>
                </a:lnTo>
                <a:lnTo>
                  <a:pt x="245" y="140"/>
                </a:lnTo>
                <a:lnTo>
                  <a:pt x="211" y="140"/>
                </a:lnTo>
                <a:lnTo>
                  <a:pt x="176" y="144"/>
                </a:lnTo>
                <a:lnTo>
                  <a:pt x="142" y="148"/>
                </a:lnTo>
                <a:lnTo>
                  <a:pt x="128" y="150"/>
                </a:lnTo>
                <a:lnTo>
                  <a:pt x="117" y="150"/>
                </a:lnTo>
                <a:lnTo>
                  <a:pt x="103" y="148"/>
                </a:lnTo>
                <a:lnTo>
                  <a:pt x="90" y="148"/>
                </a:lnTo>
                <a:lnTo>
                  <a:pt x="76" y="146"/>
                </a:lnTo>
                <a:lnTo>
                  <a:pt x="63" y="144"/>
                </a:lnTo>
                <a:lnTo>
                  <a:pt x="49" y="142"/>
                </a:lnTo>
                <a:lnTo>
                  <a:pt x="36" y="142"/>
                </a:lnTo>
                <a:lnTo>
                  <a:pt x="80" y="142"/>
                </a:lnTo>
                <a:lnTo>
                  <a:pt x="122" y="142"/>
                </a:lnTo>
                <a:lnTo>
                  <a:pt x="163" y="144"/>
                </a:lnTo>
                <a:lnTo>
                  <a:pt x="205" y="144"/>
                </a:lnTo>
                <a:lnTo>
                  <a:pt x="245" y="144"/>
                </a:lnTo>
                <a:lnTo>
                  <a:pt x="285" y="142"/>
                </a:lnTo>
                <a:lnTo>
                  <a:pt x="324" y="138"/>
                </a:lnTo>
                <a:lnTo>
                  <a:pt x="362" y="130"/>
                </a:lnTo>
                <a:lnTo>
                  <a:pt x="412" y="119"/>
                </a:lnTo>
                <a:lnTo>
                  <a:pt x="458" y="111"/>
                </a:lnTo>
                <a:lnTo>
                  <a:pt x="504" y="107"/>
                </a:lnTo>
                <a:lnTo>
                  <a:pt x="550" y="104"/>
                </a:lnTo>
                <a:lnTo>
                  <a:pt x="594" y="102"/>
                </a:lnTo>
                <a:lnTo>
                  <a:pt x="638" y="100"/>
                </a:lnTo>
                <a:lnTo>
                  <a:pt x="683" y="96"/>
                </a:lnTo>
                <a:lnTo>
                  <a:pt x="729" y="88"/>
                </a:lnTo>
                <a:lnTo>
                  <a:pt x="748" y="86"/>
                </a:lnTo>
                <a:lnTo>
                  <a:pt x="765" y="82"/>
                </a:lnTo>
                <a:lnTo>
                  <a:pt x="782" y="81"/>
                </a:lnTo>
                <a:lnTo>
                  <a:pt x="802" y="77"/>
                </a:lnTo>
                <a:lnTo>
                  <a:pt x="819" y="75"/>
                </a:lnTo>
                <a:lnTo>
                  <a:pt x="838" y="71"/>
                </a:lnTo>
                <a:lnTo>
                  <a:pt x="855" y="67"/>
                </a:lnTo>
                <a:lnTo>
                  <a:pt x="874" y="61"/>
                </a:lnTo>
                <a:lnTo>
                  <a:pt x="886" y="57"/>
                </a:lnTo>
                <a:lnTo>
                  <a:pt x="899" y="57"/>
                </a:lnTo>
                <a:lnTo>
                  <a:pt x="913" y="57"/>
                </a:lnTo>
                <a:lnTo>
                  <a:pt x="926" y="57"/>
                </a:lnTo>
                <a:lnTo>
                  <a:pt x="938" y="59"/>
                </a:lnTo>
                <a:lnTo>
                  <a:pt x="951" y="59"/>
                </a:lnTo>
                <a:lnTo>
                  <a:pt x="965" y="57"/>
                </a:lnTo>
                <a:lnTo>
                  <a:pt x="976" y="54"/>
                </a:lnTo>
                <a:lnTo>
                  <a:pt x="988" y="50"/>
                </a:lnTo>
                <a:lnTo>
                  <a:pt x="1003" y="46"/>
                </a:lnTo>
                <a:lnTo>
                  <a:pt x="1016" y="44"/>
                </a:lnTo>
                <a:lnTo>
                  <a:pt x="1032" y="40"/>
                </a:lnTo>
                <a:lnTo>
                  <a:pt x="1045" y="34"/>
                </a:lnTo>
                <a:lnTo>
                  <a:pt x="1057" y="27"/>
                </a:lnTo>
                <a:lnTo>
                  <a:pt x="1061" y="21"/>
                </a:lnTo>
                <a:lnTo>
                  <a:pt x="1066" y="15"/>
                </a:lnTo>
                <a:lnTo>
                  <a:pt x="1070" y="8"/>
                </a:lnTo>
                <a:lnTo>
                  <a:pt x="1072" y="0"/>
                </a:lnTo>
                <a:lnTo>
                  <a:pt x="1001" y="8"/>
                </a:lnTo>
                <a:lnTo>
                  <a:pt x="930" y="17"/>
                </a:lnTo>
                <a:lnTo>
                  <a:pt x="859" y="29"/>
                </a:lnTo>
                <a:lnTo>
                  <a:pt x="790" y="40"/>
                </a:lnTo>
                <a:lnTo>
                  <a:pt x="719" y="52"/>
                </a:lnTo>
                <a:lnTo>
                  <a:pt x="648" y="61"/>
                </a:lnTo>
                <a:lnTo>
                  <a:pt x="577" y="69"/>
                </a:lnTo>
                <a:lnTo>
                  <a:pt x="504" y="73"/>
                </a:lnTo>
                <a:lnTo>
                  <a:pt x="498" y="77"/>
                </a:lnTo>
                <a:lnTo>
                  <a:pt x="491" y="81"/>
                </a:lnTo>
                <a:lnTo>
                  <a:pt x="483" y="86"/>
                </a:lnTo>
                <a:lnTo>
                  <a:pt x="477" y="92"/>
                </a:lnTo>
                <a:lnTo>
                  <a:pt x="470" y="100"/>
                </a:lnTo>
                <a:lnTo>
                  <a:pt x="462" y="105"/>
                </a:lnTo>
                <a:lnTo>
                  <a:pt x="454" y="111"/>
                </a:lnTo>
                <a:lnTo>
                  <a:pt x="447" y="115"/>
                </a:lnTo>
                <a:lnTo>
                  <a:pt x="391" y="127"/>
                </a:lnTo>
                <a:lnTo>
                  <a:pt x="333" y="138"/>
                </a:lnTo>
                <a:lnTo>
                  <a:pt x="278" y="146"/>
                </a:lnTo>
                <a:lnTo>
                  <a:pt x="222" y="153"/>
                </a:lnTo>
                <a:lnTo>
                  <a:pt x="166" y="159"/>
                </a:lnTo>
                <a:lnTo>
                  <a:pt x="111" y="165"/>
                </a:lnTo>
                <a:lnTo>
                  <a:pt x="55" y="171"/>
                </a:lnTo>
                <a:lnTo>
                  <a:pt x="0" y="175"/>
                </a:lnTo>
                <a:lnTo>
                  <a:pt x="65" y="221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Freeform 78"/>
          <p:cNvSpPr/>
          <p:nvPr/>
        </p:nvSpPr>
        <p:spPr>
          <a:xfrm>
            <a:off x="5178600" y="3349800"/>
            <a:ext cx="842760" cy="1366560"/>
          </a:xfrm>
          <a:custGeom>
            <a:avLst/>
            <a:gdLst>
              <a:gd name="textAreaLeft" fmla="*/ 0 w 842760"/>
              <a:gd name="textAreaRight" fmla="*/ 843120 w 842760"/>
              <a:gd name="textAreaTop" fmla="*/ 0 h 1366560"/>
              <a:gd name="textAreaBottom" fmla="*/ 1366920 h 1366560"/>
            </a:gdLst>
            <a:ahLst/>
            <a:rect l="textAreaLeft" t="textAreaTop" r="textAreaRight" b="textAreaBottom"/>
            <a:pathLst>
              <a:path w="531" h="861">
                <a:moveTo>
                  <a:pt x="53" y="44"/>
                </a:moveTo>
                <a:lnTo>
                  <a:pt x="61" y="55"/>
                </a:lnTo>
                <a:lnTo>
                  <a:pt x="69" y="69"/>
                </a:lnTo>
                <a:lnTo>
                  <a:pt x="74" y="82"/>
                </a:lnTo>
                <a:lnTo>
                  <a:pt x="82" y="96"/>
                </a:lnTo>
                <a:lnTo>
                  <a:pt x="88" y="109"/>
                </a:lnTo>
                <a:lnTo>
                  <a:pt x="94" y="122"/>
                </a:lnTo>
                <a:lnTo>
                  <a:pt x="99" y="138"/>
                </a:lnTo>
                <a:lnTo>
                  <a:pt x="103" y="153"/>
                </a:lnTo>
                <a:lnTo>
                  <a:pt x="118" y="193"/>
                </a:lnTo>
                <a:lnTo>
                  <a:pt x="136" y="234"/>
                </a:lnTo>
                <a:lnTo>
                  <a:pt x="155" y="272"/>
                </a:lnTo>
                <a:lnTo>
                  <a:pt x="176" y="308"/>
                </a:lnTo>
                <a:lnTo>
                  <a:pt x="199" y="347"/>
                </a:lnTo>
                <a:lnTo>
                  <a:pt x="222" y="383"/>
                </a:lnTo>
                <a:lnTo>
                  <a:pt x="245" y="422"/>
                </a:lnTo>
                <a:lnTo>
                  <a:pt x="268" y="460"/>
                </a:lnTo>
                <a:lnTo>
                  <a:pt x="272" y="466"/>
                </a:lnTo>
                <a:lnTo>
                  <a:pt x="278" y="470"/>
                </a:lnTo>
                <a:lnTo>
                  <a:pt x="283" y="473"/>
                </a:lnTo>
                <a:lnTo>
                  <a:pt x="289" y="477"/>
                </a:lnTo>
                <a:lnTo>
                  <a:pt x="295" y="483"/>
                </a:lnTo>
                <a:lnTo>
                  <a:pt x="301" y="487"/>
                </a:lnTo>
                <a:lnTo>
                  <a:pt x="306" y="493"/>
                </a:lnTo>
                <a:lnTo>
                  <a:pt x="308" y="498"/>
                </a:lnTo>
                <a:lnTo>
                  <a:pt x="320" y="514"/>
                </a:lnTo>
                <a:lnTo>
                  <a:pt x="330" y="527"/>
                </a:lnTo>
                <a:lnTo>
                  <a:pt x="339" y="541"/>
                </a:lnTo>
                <a:lnTo>
                  <a:pt x="351" y="554"/>
                </a:lnTo>
                <a:lnTo>
                  <a:pt x="360" y="567"/>
                </a:lnTo>
                <a:lnTo>
                  <a:pt x="372" y="581"/>
                </a:lnTo>
                <a:lnTo>
                  <a:pt x="383" y="594"/>
                </a:lnTo>
                <a:lnTo>
                  <a:pt x="397" y="608"/>
                </a:lnTo>
                <a:lnTo>
                  <a:pt x="399" y="612"/>
                </a:lnTo>
                <a:lnTo>
                  <a:pt x="401" y="617"/>
                </a:lnTo>
                <a:lnTo>
                  <a:pt x="402" y="623"/>
                </a:lnTo>
                <a:lnTo>
                  <a:pt x="402" y="629"/>
                </a:lnTo>
                <a:lnTo>
                  <a:pt x="404" y="633"/>
                </a:lnTo>
                <a:lnTo>
                  <a:pt x="404" y="638"/>
                </a:lnTo>
                <a:lnTo>
                  <a:pt x="406" y="644"/>
                </a:lnTo>
                <a:lnTo>
                  <a:pt x="408" y="648"/>
                </a:lnTo>
                <a:lnTo>
                  <a:pt x="416" y="660"/>
                </a:lnTo>
                <a:lnTo>
                  <a:pt x="422" y="669"/>
                </a:lnTo>
                <a:lnTo>
                  <a:pt x="427" y="681"/>
                </a:lnTo>
                <a:lnTo>
                  <a:pt x="433" y="690"/>
                </a:lnTo>
                <a:lnTo>
                  <a:pt x="439" y="702"/>
                </a:lnTo>
                <a:lnTo>
                  <a:pt x="445" y="713"/>
                </a:lnTo>
                <a:lnTo>
                  <a:pt x="450" y="725"/>
                </a:lnTo>
                <a:lnTo>
                  <a:pt x="456" y="738"/>
                </a:lnTo>
                <a:lnTo>
                  <a:pt x="462" y="744"/>
                </a:lnTo>
                <a:lnTo>
                  <a:pt x="466" y="750"/>
                </a:lnTo>
                <a:lnTo>
                  <a:pt x="472" y="755"/>
                </a:lnTo>
                <a:lnTo>
                  <a:pt x="477" y="761"/>
                </a:lnTo>
                <a:lnTo>
                  <a:pt x="483" y="767"/>
                </a:lnTo>
                <a:lnTo>
                  <a:pt x="489" y="773"/>
                </a:lnTo>
                <a:lnTo>
                  <a:pt x="495" y="778"/>
                </a:lnTo>
                <a:lnTo>
                  <a:pt x="500" y="786"/>
                </a:lnTo>
                <a:lnTo>
                  <a:pt x="504" y="792"/>
                </a:lnTo>
                <a:lnTo>
                  <a:pt x="506" y="798"/>
                </a:lnTo>
                <a:lnTo>
                  <a:pt x="508" y="803"/>
                </a:lnTo>
                <a:lnTo>
                  <a:pt x="508" y="811"/>
                </a:lnTo>
                <a:lnTo>
                  <a:pt x="510" y="817"/>
                </a:lnTo>
                <a:lnTo>
                  <a:pt x="512" y="824"/>
                </a:lnTo>
                <a:lnTo>
                  <a:pt x="514" y="830"/>
                </a:lnTo>
                <a:lnTo>
                  <a:pt x="516" y="836"/>
                </a:lnTo>
                <a:lnTo>
                  <a:pt x="516" y="840"/>
                </a:lnTo>
                <a:lnTo>
                  <a:pt x="518" y="844"/>
                </a:lnTo>
                <a:lnTo>
                  <a:pt x="519" y="848"/>
                </a:lnTo>
                <a:lnTo>
                  <a:pt x="521" y="849"/>
                </a:lnTo>
                <a:lnTo>
                  <a:pt x="523" y="853"/>
                </a:lnTo>
                <a:lnTo>
                  <a:pt x="525" y="855"/>
                </a:lnTo>
                <a:lnTo>
                  <a:pt x="527" y="859"/>
                </a:lnTo>
                <a:lnTo>
                  <a:pt x="531" y="861"/>
                </a:lnTo>
                <a:lnTo>
                  <a:pt x="518" y="857"/>
                </a:lnTo>
                <a:lnTo>
                  <a:pt x="504" y="851"/>
                </a:lnTo>
                <a:lnTo>
                  <a:pt x="491" y="848"/>
                </a:lnTo>
                <a:lnTo>
                  <a:pt x="477" y="842"/>
                </a:lnTo>
                <a:lnTo>
                  <a:pt x="464" y="834"/>
                </a:lnTo>
                <a:lnTo>
                  <a:pt x="452" y="824"/>
                </a:lnTo>
                <a:lnTo>
                  <a:pt x="443" y="813"/>
                </a:lnTo>
                <a:lnTo>
                  <a:pt x="433" y="801"/>
                </a:lnTo>
                <a:lnTo>
                  <a:pt x="422" y="780"/>
                </a:lnTo>
                <a:lnTo>
                  <a:pt x="410" y="761"/>
                </a:lnTo>
                <a:lnTo>
                  <a:pt x="397" y="742"/>
                </a:lnTo>
                <a:lnTo>
                  <a:pt x="385" y="723"/>
                </a:lnTo>
                <a:lnTo>
                  <a:pt x="374" y="704"/>
                </a:lnTo>
                <a:lnTo>
                  <a:pt x="362" y="684"/>
                </a:lnTo>
                <a:lnTo>
                  <a:pt x="353" y="661"/>
                </a:lnTo>
                <a:lnTo>
                  <a:pt x="345" y="638"/>
                </a:lnTo>
                <a:lnTo>
                  <a:pt x="339" y="625"/>
                </a:lnTo>
                <a:lnTo>
                  <a:pt x="331" y="612"/>
                </a:lnTo>
                <a:lnTo>
                  <a:pt x="322" y="600"/>
                </a:lnTo>
                <a:lnTo>
                  <a:pt x="310" y="589"/>
                </a:lnTo>
                <a:lnTo>
                  <a:pt x="301" y="577"/>
                </a:lnTo>
                <a:lnTo>
                  <a:pt x="289" y="566"/>
                </a:lnTo>
                <a:lnTo>
                  <a:pt x="278" y="554"/>
                </a:lnTo>
                <a:lnTo>
                  <a:pt x="266" y="541"/>
                </a:lnTo>
                <a:lnTo>
                  <a:pt x="264" y="539"/>
                </a:lnTo>
                <a:lnTo>
                  <a:pt x="262" y="535"/>
                </a:lnTo>
                <a:lnTo>
                  <a:pt x="260" y="529"/>
                </a:lnTo>
                <a:lnTo>
                  <a:pt x="260" y="525"/>
                </a:lnTo>
                <a:lnTo>
                  <a:pt x="259" y="519"/>
                </a:lnTo>
                <a:lnTo>
                  <a:pt x="257" y="516"/>
                </a:lnTo>
                <a:lnTo>
                  <a:pt x="257" y="512"/>
                </a:lnTo>
                <a:lnTo>
                  <a:pt x="253" y="508"/>
                </a:lnTo>
                <a:lnTo>
                  <a:pt x="226" y="483"/>
                </a:lnTo>
                <a:lnTo>
                  <a:pt x="201" y="456"/>
                </a:lnTo>
                <a:lnTo>
                  <a:pt x="178" y="427"/>
                </a:lnTo>
                <a:lnTo>
                  <a:pt x="157" y="399"/>
                </a:lnTo>
                <a:lnTo>
                  <a:pt x="136" y="370"/>
                </a:lnTo>
                <a:lnTo>
                  <a:pt x="117" y="339"/>
                </a:lnTo>
                <a:lnTo>
                  <a:pt x="99" y="307"/>
                </a:lnTo>
                <a:lnTo>
                  <a:pt x="84" y="276"/>
                </a:lnTo>
                <a:lnTo>
                  <a:pt x="71" y="243"/>
                </a:lnTo>
                <a:lnTo>
                  <a:pt x="57" y="209"/>
                </a:lnTo>
                <a:lnTo>
                  <a:pt x="44" y="176"/>
                </a:lnTo>
                <a:lnTo>
                  <a:pt x="32" y="142"/>
                </a:lnTo>
                <a:lnTo>
                  <a:pt x="23" y="105"/>
                </a:lnTo>
                <a:lnTo>
                  <a:pt x="15" y="71"/>
                </a:lnTo>
                <a:lnTo>
                  <a:pt x="5" y="36"/>
                </a:lnTo>
                <a:lnTo>
                  <a:pt x="0" y="0"/>
                </a:lnTo>
                <a:lnTo>
                  <a:pt x="53" y="44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Freeform 79"/>
          <p:cNvSpPr/>
          <p:nvPr/>
        </p:nvSpPr>
        <p:spPr>
          <a:xfrm>
            <a:off x="4897440" y="3360600"/>
            <a:ext cx="314280" cy="1535400"/>
          </a:xfrm>
          <a:custGeom>
            <a:avLst/>
            <a:gdLst>
              <a:gd name="textAreaLeft" fmla="*/ 0 w 314280"/>
              <a:gd name="textAreaRight" fmla="*/ 314640 w 314280"/>
              <a:gd name="textAreaTop" fmla="*/ 0 h 1535400"/>
              <a:gd name="textAreaBottom" fmla="*/ 1535760 h 1535400"/>
            </a:gdLst>
            <a:ahLst/>
            <a:rect l="textAreaLeft" t="textAreaTop" r="textAreaRight" b="textAreaBottom"/>
            <a:pathLst>
              <a:path w="198" h="967">
                <a:moveTo>
                  <a:pt x="153" y="0"/>
                </a:moveTo>
                <a:lnTo>
                  <a:pt x="150" y="94"/>
                </a:lnTo>
                <a:lnTo>
                  <a:pt x="148" y="190"/>
                </a:lnTo>
                <a:lnTo>
                  <a:pt x="148" y="284"/>
                </a:lnTo>
                <a:lnTo>
                  <a:pt x="146" y="378"/>
                </a:lnTo>
                <a:lnTo>
                  <a:pt x="144" y="426"/>
                </a:lnTo>
                <a:lnTo>
                  <a:pt x="140" y="474"/>
                </a:lnTo>
                <a:lnTo>
                  <a:pt x="136" y="520"/>
                </a:lnTo>
                <a:lnTo>
                  <a:pt x="130" y="568"/>
                </a:lnTo>
                <a:lnTo>
                  <a:pt x="123" y="614"/>
                </a:lnTo>
                <a:lnTo>
                  <a:pt x="115" y="662"/>
                </a:lnTo>
                <a:lnTo>
                  <a:pt x="104" y="708"/>
                </a:lnTo>
                <a:lnTo>
                  <a:pt x="90" y="756"/>
                </a:lnTo>
                <a:lnTo>
                  <a:pt x="88" y="760"/>
                </a:lnTo>
                <a:lnTo>
                  <a:pt x="88" y="766"/>
                </a:lnTo>
                <a:lnTo>
                  <a:pt x="88" y="771"/>
                </a:lnTo>
                <a:lnTo>
                  <a:pt x="88" y="777"/>
                </a:lnTo>
                <a:lnTo>
                  <a:pt x="88" y="783"/>
                </a:lnTo>
                <a:lnTo>
                  <a:pt x="88" y="789"/>
                </a:lnTo>
                <a:lnTo>
                  <a:pt x="88" y="796"/>
                </a:lnTo>
                <a:lnTo>
                  <a:pt x="86" y="802"/>
                </a:lnTo>
                <a:lnTo>
                  <a:pt x="79" y="823"/>
                </a:lnTo>
                <a:lnTo>
                  <a:pt x="69" y="844"/>
                </a:lnTo>
                <a:lnTo>
                  <a:pt x="59" y="865"/>
                </a:lnTo>
                <a:lnTo>
                  <a:pt x="48" y="887"/>
                </a:lnTo>
                <a:lnTo>
                  <a:pt x="38" y="908"/>
                </a:lnTo>
                <a:lnTo>
                  <a:pt x="25" y="927"/>
                </a:lnTo>
                <a:lnTo>
                  <a:pt x="13" y="948"/>
                </a:lnTo>
                <a:lnTo>
                  <a:pt x="0" y="967"/>
                </a:lnTo>
                <a:lnTo>
                  <a:pt x="17" y="908"/>
                </a:lnTo>
                <a:lnTo>
                  <a:pt x="33" y="846"/>
                </a:lnTo>
                <a:lnTo>
                  <a:pt x="46" y="787"/>
                </a:lnTo>
                <a:lnTo>
                  <a:pt x="58" y="725"/>
                </a:lnTo>
                <a:lnTo>
                  <a:pt x="67" y="664"/>
                </a:lnTo>
                <a:lnTo>
                  <a:pt x="77" y="603"/>
                </a:lnTo>
                <a:lnTo>
                  <a:pt x="83" y="541"/>
                </a:lnTo>
                <a:lnTo>
                  <a:pt x="86" y="478"/>
                </a:lnTo>
                <a:lnTo>
                  <a:pt x="88" y="468"/>
                </a:lnTo>
                <a:lnTo>
                  <a:pt x="90" y="457"/>
                </a:lnTo>
                <a:lnTo>
                  <a:pt x="94" y="447"/>
                </a:lnTo>
                <a:lnTo>
                  <a:pt x="98" y="436"/>
                </a:lnTo>
                <a:lnTo>
                  <a:pt x="102" y="424"/>
                </a:lnTo>
                <a:lnTo>
                  <a:pt x="104" y="411"/>
                </a:lnTo>
                <a:lnTo>
                  <a:pt x="107" y="397"/>
                </a:lnTo>
                <a:lnTo>
                  <a:pt x="109" y="384"/>
                </a:lnTo>
                <a:lnTo>
                  <a:pt x="113" y="374"/>
                </a:lnTo>
                <a:lnTo>
                  <a:pt x="117" y="365"/>
                </a:lnTo>
                <a:lnTo>
                  <a:pt x="123" y="355"/>
                </a:lnTo>
                <a:lnTo>
                  <a:pt x="129" y="347"/>
                </a:lnTo>
                <a:lnTo>
                  <a:pt x="134" y="338"/>
                </a:lnTo>
                <a:lnTo>
                  <a:pt x="140" y="328"/>
                </a:lnTo>
                <a:lnTo>
                  <a:pt x="146" y="321"/>
                </a:lnTo>
                <a:lnTo>
                  <a:pt x="150" y="311"/>
                </a:lnTo>
                <a:lnTo>
                  <a:pt x="153" y="305"/>
                </a:lnTo>
                <a:lnTo>
                  <a:pt x="153" y="300"/>
                </a:lnTo>
                <a:lnTo>
                  <a:pt x="155" y="294"/>
                </a:lnTo>
                <a:lnTo>
                  <a:pt x="155" y="288"/>
                </a:lnTo>
                <a:lnTo>
                  <a:pt x="153" y="282"/>
                </a:lnTo>
                <a:lnTo>
                  <a:pt x="153" y="277"/>
                </a:lnTo>
                <a:lnTo>
                  <a:pt x="153" y="271"/>
                </a:lnTo>
                <a:lnTo>
                  <a:pt x="153" y="265"/>
                </a:lnTo>
                <a:lnTo>
                  <a:pt x="155" y="252"/>
                </a:lnTo>
                <a:lnTo>
                  <a:pt x="159" y="240"/>
                </a:lnTo>
                <a:lnTo>
                  <a:pt x="163" y="227"/>
                </a:lnTo>
                <a:lnTo>
                  <a:pt x="169" y="215"/>
                </a:lnTo>
                <a:lnTo>
                  <a:pt x="173" y="206"/>
                </a:lnTo>
                <a:lnTo>
                  <a:pt x="177" y="194"/>
                </a:lnTo>
                <a:lnTo>
                  <a:pt x="180" y="183"/>
                </a:lnTo>
                <a:lnTo>
                  <a:pt x="184" y="171"/>
                </a:lnTo>
                <a:lnTo>
                  <a:pt x="188" y="154"/>
                </a:lnTo>
                <a:lnTo>
                  <a:pt x="192" y="136"/>
                </a:lnTo>
                <a:lnTo>
                  <a:pt x="194" y="119"/>
                </a:lnTo>
                <a:lnTo>
                  <a:pt x="198" y="102"/>
                </a:lnTo>
                <a:lnTo>
                  <a:pt x="198" y="85"/>
                </a:lnTo>
                <a:lnTo>
                  <a:pt x="198" y="69"/>
                </a:lnTo>
                <a:lnTo>
                  <a:pt x="194" y="52"/>
                </a:lnTo>
                <a:lnTo>
                  <a:pt x="188" y="37"/>
                </a:lnTo>
                <a:lnTo>
                  <a:pt x="153" y="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Freeform 80"/>
          <p:cNvSpPr/>
          <p:nvPr/>
        </p:nvSpPr>
        <p:spPr>
          <a:xfrm>
            <a:off x="4138560" y="3284640"/>
            <a:ext cx="901800" cy="1339920"/>
          </a:xfrm>
          <a:custGeom>
            <a:avLst/>
            <a:gdLst>
              <a:gd name="textAreaLeft" fmla="*/ 0 w 901800"/>
              <a:gd name="textAreaRight" fmla="*/ 901800 w 901800"/>
              <a:gd name="textAreaTop" fmla="*/ 0 h 1339920"/>
              <a:gd name="textAreaBottom" fmla="*/ 1340280 h 1339920"/>
            </a:gdLst>
            <a:ahLst/>
            <a:rect l="textAreaLeft" t="textAreaTop" r="textAreaRight" b="textAreaBottom"/>
            <a:pathLst>
              <a:path w="568" h="844">
                <a:moveTo>
                  <a:pt x="507" y="66"/>
                </a:moveTo>
                <a:lnTo>
                  <a:pt x="476" y="102"/>
                </a:lnTo>
                <a:lnTo>
                  <a:pt x="447" y="140"/>
                </a:lnTo>
                <a:lnTo>
                  <a:pt x="419" y="177"/>
                </a:lnTo>
                <a:lnTo>
                  <a:pt x="392" y="215"/>
                </a:lnTo>
                <a:lnTo>
                  <a:pt x="363" y="254"/>
                </a:lnTo>
                <a:lnTo>
                  <a:pt x="336" y="294"/>
                </a:lnTo>
                <a:lnTo>
                  <a:pt x="309" y="334"/>
                </a:lnTo>
                <a:lnTo>
                  <a:pt x="280" y="374"/>
                </a:lnTo>
                <a:lnTo>
                  <a:pt x="277" y="378"/>
                </a:lnTo>
                <a:lnTo>
                  <a:pt x="275" y="384"/>
                </a:lnTo>
                <a:lnTo>
                  <a:pt x="273" y="390"/>
                </a:lnTo>
                <a:lnTo>
                  <a:pt x="271" y="397"/>
                </a:lnTo>
                <a:lnTo>
                  <a:pt x="269" y="403"/>
                </a:lnTo>
                <a:lnTo>
                  <a:pt x="269" y="407"/>
                </a:lnTo>
                <a:lnTo>
                  <a:pt x="265" y="413"/>
                </a:lnTo>
                <a:lnTo>
                  <a:pt x="263" y="417"/>
                </a:lnTo>
                <a:lnTo>
                  <a:pt x="254" y="428"/>
                </a:lnTo>
                <a:lnTo>
                  <a:pt x="246" y="440"/>
                </a:lnTo>
                <a:lnTo>
                  <a:pt x="238" y="449"/>
                </a:lnTo>
                <a:lnTo>
                  <a:pt x="230" y="461"/>
                </a:lnTo>
                <a:lnTo>
                  <a:pt x="223" y="474"/>
                </a:lnTo>
                <a:lnTo>
                  <a:pt x="215" y="486"/>
                </a:lnTo>
                <a:lnTo>
                  <a:pt x="207" y="499"/>
                </a:lnTo>
                <a:lnTo>
                  <a:pt x="198" y="514"/>
                </a:lnTo>
                <a:lnTo>
                  <a:pt x="188" y="532"/>
                </a:lnTo>
                <a:lnTo>
                  <a:pt x="175" y="549"/>
                </a:lnTo>
                <a:lnTo>
                  <a:pt x="161" y="564"/>
                </a:lnTo>
                <a:lnTo>
                  <a:pt x="146" y="582"/>
                </a:lnTo>
                <a:lnTo>
                  <a:pt x="133" y="597"/>
                </a:lnTo>
                <a:lnTo>
                  <a:pt x="119" y="612"/>
                </a:lnTo>
                <a:lnTo>
                  <a:pt x="108" y="630"/>
                </a:lnTo>
                <a:lnTo>
                  <a:pt x="96" y="647"/>
                </a:lnTo>
                <a:lnTo>
                  <a:pt x="85" y="670"/>
                </a:lnTo>
                <a:lnTo>
                  <a:pt x="71" y="695"/>
                </a:lnTo>
                <a:lnTo>
                  <a:pt x="58" y="718"/>
                </a:lnTo>
                <a:lnTo>
                  <a:pt x="46" y="743"/>
                </a:lnTo>
                <a:lnTo>
                  <a:pt x="33" y="768"/>
                </a:lnTo>
                <a:lnTo>
                  <a:pt x="21" y="793"/>
                </a:lnTo>
                <a:lnTo>
                  <a:pt x="12" y="819"/>
                </a:lnTo>
                <a:lnTo>
                  <a:pt x="0" y="844"/>
                </a:lnTo>
                <a:lnTo>
                  <a:pt x="10" y="827"/>
                </a:lnTo>
                <a:lnTo>
                  <a:pt x="19" y="810"/>
                </a:lnTo>
                <a:lnTo>
                  <a:pt x="29" y="793"/>
                </a:lnTo>
                <a:lnTo>
                  <a:pt x="39" y="777"/>
                </a:lnTo>
                <a:lnTo>
                  <a:pt x="48" y="760"/>
                </a:lnTo>
                <a:lnTo>
                  <a:pt x="58" y="743"/>
                </a:lnTo>
                <a:lnTo>
                  <a:pt x="69" y="727"/>
                </a:lnTo>
                <a:lnTo>
                  <a:pt x="81" y="712"/>
                </a:lnTo>
                <a:lnTo>
                  <a:pt x="98" y="691"/>
                </a:lnTo>
                <a:lnTo>
                  <a:pt x="115" y="670"/>
                </a:lnTo>
                <a:lnTo>
                  <a:pt x="133" y="649"/>
                </a:lnTo>
                <a:lnTo>
                  <a:pt x="152" y="630"/>
                </a:lnTo>
                <a:lnTo>
                  <a:pt x="169" y="608"/>
                </a:lnTo>
                <a:lnTo>
                  <a:pt x="186" y="589"/>
                </a:lnTo>
                <a:lnTo>
                  <a:pt x="206" y="570"/>
                </a:lnTo>
                <a:lnTo>
                  <a:pt x="225" y="549"/>
                </a:lnTo>
                <a:lnTo>
                  <a:pt x="255" y="516"/>
                </a:lnTo>
                <a:lnTo>
                  <a:pt x="286" y="480"/>
                </a:lnTo>
                <a:lnTo>
                  <a:pt x="313" y="443"/>
                </a:lnTo>
                <a:lnTo>
                  <a:pt x="340" y="405"/>
                </a:lnTo>
                <a:lnTo>
                  <a:pt x="365" y="365"/>
                </a:lnTo>
                <a:lnTo>
                  <a:pt x="388" y="325"/>
                </a:lnTo>
                <a:lnTo>
                  <a:pt x="409" y="282"/>
                </a:lnTo>
                <a:lnTo>
                  <a:pt x="428" y="236"/>
                </a:lnTo>
                <a:lnTo>
                  <a:pt x="434" y="223"/>
                </a:lnTo>
                <a:lnTo>
                  <a:pt x="443" y="211"/>
                </a:lnTo>
                <a:lnTo>
                  <a:pt x="453" y="200"/>
                </a:lnTo>
                <a:lnTo>
                  <a:pt x="463" y="188"/>
                </a:lnTo>
                <a:lnTo>
                  <a:pt x="470" y="177"/>
                </a:lnTo>
                <a:lnTo>
                  <a:pt x="480" y="165"/>
                </a:lnTo>
                <a:lnTo>
                  <a:pt x="486" y="154"/>
                </a:lnTo>
                <a:lnTo>
                  <a:pt x="490" y="140"/>
                </a:lnTo>
                <a:lnTo>
                  <a:pt x="493" y="119"/>
                </a:lnTo>
                <a:lnTo>
                  <a:pt x="503" y="100"/>
                </a:lnTo>
                <a:lnTo>
                  <a:pt x="513" y="83"/>
                </a:lnTo>
                <a:lnTo>
                  <a:pt x="524" y="67"/>
                </a:lnTo>
                <a:lnTo>
                  <a:pt x="536" y="52"/>
                </a:lnTo>
                <a:lnTo>
                  <a:pt x="549" y="35"/>
                </a:lnTo>
                <a:lnTo>
                  <a:pt x="559" y="18"/>
                </a:lnTo>
                <a:lnTo>
                  <a:pt x="568" y="0"/>
                </a:lnTo>
                <a:lnTo>
                  <a:pt x="507" y="66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Freeform 81"/>
          <p:cNvSpPr/>
          <p:nvPr/>
        </p:nvSpPr>
        <p:spPr>
          <a:xfrm>
            <a:off x="3398760" y="3127320"/>
            <a:ext cx="1562040" cy="1297080"/>
          </a:xfrm>
          <a:custGeom>
            <a:avLst/>
            <a:gdLst>
              <a:gd name="textAreaLeft" fmla="*/ 0 w 1562040"/>
              <a:gd name="textAreaRight" fmla="*/ 1562400 w 1562040"/>
              <a:gd name="textAreaTop" fmla="*/ 0 h 1297080"/>
              <a:gd name="textAreaBottom" fmla="*/ 1297440 h 1297080"/>
            </a:gdLst>
            <a:ahLst/>
            <a:rect l="textAreaLeft" t="textAreaTop" r="textAreaRight" b="textAreaBottom"/>
            <a:pathLst>
              <a:path w="984" h="817">
                <a:moveTo>
                  <a:pt x="936" y="193"/>
                </a:moveTo>
                <a:lnTo>
                  <a:pt x="929" y="203"/>
                </a:lnTo>
                <a:lnTo>
                  <a:pt x="919" y="214"/>
                </a:lnTo>
                <a:lnTo>
                  <a:pt x="908" y="224"/>
                </a:lnTo>
                <a:lnTo>
                  <a:pt x="898" y="234"/>
                </a:lnTo>
                <a:lnTo>
                  <a:pt x="886" y="241"/>
                </a:lnTo>
                <a:lnTo>
                  <a:pt x="875" y="249"/>
                </a:lnTo>
                <a:lnTo>
                  <a:pt x="865" y="255"/>
                </a:lnTo>
                <a:lnTo>
                  <a:pt x="854" y="259"/>
                </a:lnTo>
                <a:lnTo>
                  <a:pt x="815" y="274"/>
                </a:lnTo>
                <a:lnTo>
                  <a:pt x="779" y="291"/>
                </a:lnTo>
                <a:lnTo>
                  <a:pt x="746" y="312"/>
                </a:lnTo>
                <a:lnTo>
                  <a:pt x="714" y="335"/>
                </a:lnTo>
                <a:lnTo>
                  <a:pt x="681" y="358"/>
                </a:lnTo>
                <a:lnTo>
                  <a:pt x="650" y="383"/>
                </a:lnTo>
                <a:lnTo>
                  <a:pt x="618" y="408"/>
                </a:lnTo>
                <a:lnTo>
                  <a:pt x="585" y="433"/>
                </a:lnTo>
                <a:lnTo>
                  <a:pt x="583" y="435"/>
                </a:lnTo>
                <a:lnTo>
                  <a:pt x="579" y="439"/>
                </a:lnTo>
                <a:lnTo>
                  <a:pt x="578" y="443"/>
                </a:lnTo>
                <a:lnTo>
                  <a:pt x="576" y="447"/>
                </a:lnTo>
                <a:lnTo>
                  <a:pt x="572" y="450"/>
                </a:lnTo>
                <a:lnTo>
                  <a:pt x="570" y="456"/>
                </a:lnTo>
                <a:lnTo>
                  <a:pt x="568" y="460"/>
                </a:lnTo>
                <a:lnTo>
                  <a:pt x="566" y="462"/>
                </a:lnTo>
                <a:lnTo>
                  <a:pt x="537" y="489"/>
                </a:lnTo>
                <a:lnTo>
                  <a:pt x="508" y="514"/>
                </a:lnTo>
                <a:lnTo>
                  <a:pt x="482" y="541"/>
                </a:lnTo>
                <a:lnTo>
                  <a:pt x="455" y="565"/>
                </a:lnTo>
                <a:lnTo>
                  <a:pt x="430" y="592"/>
                </a:lnTo>
                <a:lnTo>
                  <a:pt x="403" y="619"/>
                </a:lnTo>
                <a:lnTo>
                  <a:pt x="378" y="646"/>
                </a:lnTo>
                <a:lnTo>
                  <a:pt x="351" y="673"/>
                </a:lnTo>
                <a:lnTo>
                  <a:pt x="347" y="681"/>
                </a:lnTo>
                <a:lnTo>
                  <a:pt x="343" y="688"/>
                </a:lnTo>
                <a:lnTo>
                  <a:pt x="340" y="696"/>
                </a:lnTo>
                <a:lnTo>
                  <a:pt x="336" y="704"/>
                </a:lnTo>
                <a:lnTo>
                  <a:pt x="330" y="711"/>
                </a:lnTo>
                <a:lnTo>
                  <a:pt x="326" y="721"/>
                </a:lnTo>
                <a:lnTo>
                  <a:pt x="322" y="727"/>
                </a:lnTo>
                <a:lnTo>
                  <a:pt x="317" y="732"/>
                </a:lnTo>
                <a:lnTo>
                  <a:pt x="311" y="736"/>
                </a:lnTo>
                <a:lnTo>
                  <a:pt x="303" y="742"/>
                </a:lnTo>
                <a:lnTo>
                  <a:pt x="297" y="746"/>
                </a:lnTo>
                <a:lnTo>
                  <a:pt x="290" y="752"/>
                </a:lnTo>
                <a:lnTo>
                  <a:pt x="284" y="757"/>
                </a:lnTo>
                <a:lnTo>
                  <a:pt x="278" y="763"/>
                </a:lnTo>
                <a:lnTo>
                  <a:pt x="274" y="771"/>
                </a:lnTo>
                <a:lnTo>
                  <a:pt x="271" y="778"/>
                </a:lnTo>
                <a:lnTo>
                  <a:pt x="274" y="775"/>
                </a:lnTo>
                <a:lnTo>
                  <a:pt x="278" y="771"/>
                </a:lnTo>
                <a:lnTo>
                  <a:pt x="284" y="767"/>
                </a:lnTo>
                <a:lnTo>
                  <a:pt x="288" y="765"/>
                </a:lnTo>
                <a:lnTo>
                  <a:pt x="294" y="763"/>
                </a:lnTo>
                <a:lnTo>
                  <a:pt x="297" y="761"/>
                </a:lnTo>
                <a:lnTo>
                  <a:pt x="301" y="757"/>
                </a:lnTo>
                <a:lnTo>
                  <a:pt x="307" y="755"/>
                </a:lnTo>
                <a:lnTo>
                  <a:pt x="317" y="746"/>
                </a:lnTo>
                <a:lnTo>
                  <a:pt x="324" y="734"/>
                </a:lnTo>
                <a:lnTo>
                  <a:pt x="332" y="723"/>
                </a:lnTo>
                <a:lnTo>
                  <a:pt x="340" y="713"/>
                </a:lnTo>
                <a:lnTo>
                  <a:pt x="347" y="702"/>
                </a:lnTo>
                <a:lnTo>
                  <a:pt x="357" y="690"/>
                </a:lnTo>
                <a:lnTo>
                  <a:pt x="366" y="681"/>
                </a:lnTo>
                <a:lnTo>
                  <a:pt x="378" y="671"/>
                </a:lnTo>
                <a:lnTo>
                  <a:pt x="424" y="640"/>
                </a:lnTo>
                <a:lnTo>
                  <a:pt x="468" y="610"/>
                </a:lnTo>
                <a:lnTo>
                  <a:pt x="512" y="577"/>
                </a:lnTo>
                <a:lnTo>
                  <a:pt x="553" y="544"/>
                </a:lnTo>
                <a:lnTo>
                  <a:pt x="593" y="510"/>
                </a:lnTo>
                <a:lnTo>
                  <a:pt x="631" y="471"/>
                </a:lnTo>
                <a:lnTo>
                  <a:pt x="670" y="433"/>
                </a:lnTo>
                <a:lnTo>
                  <a:pt x="706" y="391"/>
                </a:lnTo>
                <a:lnTo>
                  <a:pt x="716" y="377"/>
                </a:lnTo>
                <a:lnTo>
                  <a:pt x="727" y="364"/>
                </a:lnTo>
                <a:lnTo>
                  <a:pt x="737" y="351"/>
                </a:lnTo>
                <a:lnTo>
                  <a:pt x="746" y="337"/>
                </a:lnTo>
                <a:lnTo>
                  <a:pt x="754" y="322"/>
                </a:lnTo>
                <a:lnTo>
                  <a:pt x="762" y="305"/>
                </a:lnTo>
                <a:lnTo>
                  <a:pt x="767" y="285"/>
                </a:lnTo>
                <a:lnTo>
                  <a:pt x="771" y="264"/>
                </a:lnTo>
                <a:lnTo>
                  <a:pt x="773" y="255"/>
                </a:lnTo>
                <a:lnTo>
                  <a:pt x="777" y="245"/>
                </a:lnTo>
                <a:lnTo>
                  <a:pt x="783" y="236"/>
                </a:lnTo>
                <a:lnTo>
                  <a:pt x="787" y="228"/>
                </a:lnTo>
                <a:lnTo>
                  <a:pt x="794" y="218"/>
                </a:lnTo>
                <a:lnTo>
                  <a:pt x="800" y="211"/>
                </a:lnTo>
                <a:lnTo>
                  <a:pt x="808" y="203"/>
                </a:lnTo>
                <a:lnTo>
                  <a:pt x="815" y="195"/>
                </a:lnTo>
                <a:lnTo>
                  <a:pt x="835" y="180"/>
                </a:lnTo>
                <a:lnTo>
                  <a:pt x="854" y="165"/>
                </a:lnTo>
                <a:lnTo>
                  <a:pt x="875" y="149"/>
                </a:lnTo>
                <a:lnTo>
                  <a:pt x="894" y="134"/>
                </a:lnTo>
                <a:lnTo>
                  <a:pt x="915" y="120"/>
                </a:lnTo>
                <a:lnTo>
                  <a:pt x="936" y="109"/>
                </a:lnTo>
                <a:lnTo>
                  <a:pt x="961" y="99"/>
                </a:lnTo>
                <a:lnTo>
                  <a:pt x="984" y="94"/>
                </a:lnTo>
                <a:lnTo>
                  <a:pt x="979" y="97"/>
                </a:lnTo>
                <a:lnTo>
                  <a:pt x="973" y="107"/>
                </a:lnTo>
                <a:lnTo>
                  <a:pt x="963" y="120"/>
                </a:lnTo>
                <a:lnTo>
                  <a:pt x="956" y="138"/>
                </a:lnTo>
                <a:lnTo>
                  <a:pt x="946" y="155"/>
                </a:lnTo>
                <a:lnTo>
                  <a:pt x="936" y="172"/>
                </a:lnTo>
                <a:lnTo>
                  <a:pt x="925" y="188"/>
                </a:lnTo>
                <a:lnTo>
                  <a:pt x="913" y="201"/>
                </a:lnTo>
                <a:lnTo>
                  <a:pt x="844" y="274"/>
                </a:lnTo>
                <a:lnTo>
                  <a:pt x="775" y="347"/>
                </a:lnTo>
                <a:lnTo>
                  <a:pt x="708" y="420"/>
                </a:lnTo>
                <a:lnTo>
                  <a:pt x="643" y="494"/>
                </a:lnTo>
                <a:lnTo>
                  <a:pt x="579" y="571"/>
                </a:lnTo>
                <a:lnTo>
                  <a:pt x="520" y="650"/>
                </a:lnTo>
                <a:lnTo>
                  <a:pt x="491" y="690"/>
                </a:lnTo>
                <a:lnTo>
                  <a:pt x="462" y="730"/>
                </a:lnTo>
                <a:lnTo>
                  <a:pt x="436" y="773"/>
                </a:lnTo>
                <a:lnTo>
                  <a:pt x="411" y="817"/>
                </a:lnTo>
                <a:lnTo>
                  <a:pt x="441" y="755"/>
                </a:lnTo>
                <a:lnTo>
                  <a:pt x="468" y="694"/>
                </a:lnTo>
                <a:lnTo>
                  <a:pt x="497" y="631"/>
                </a:lnTo>
                <a:lnTo>
                  <a:pt x="526" y="569"/>
                </a:lnTo>
                <a:lnTo>
                  <a:pt x="541" y="539"/>
                </a:lnTo>
                <a:lnTo>
                  <a:pt x="556" y="508"/>
                </a:lnTo>
                <a:lnTo>
                  <a:pt x="574" y="479"/>
                </a:lnTo>
                <a:lnTo>
                  <a:pt x="591" y="448"/>
                </a:lnTo>
                <a:lnTo>
                  <a:pt x="610" y="422"/>
                </a:lnTo>
                <a:lnTo>
                  <a:pt x="631" y="393"/>
                </a:lnTo>
                <a:lnTo>
                  <a:pt x="654" y="366"/>
                </a:lnTo>
                <a:lnTo>
                  <a:pt x="677" y="341"/>
                </a:lnTo>
                <a:lnTo>
                  <a:pt x="683" y="331"/>
                </a:lnTo>
                <a:lnTo>
                  <a:pt x="689" y="322"/>
                </a:lnTo>
                <a:lnTo>
                  <a:pt x="691" y="310"/>
                </a:lnTo>
                <a:lnTo>
                  <a:pt x="695" y="299"/>
                </a:lnTo>
                <a:lnTo>
                  <a:pt x="696" y="285"/>
                </a:lnTo>
                <a:lnTo>
                  <a:pt x="698" y="274"/>
                </a:lnTo>
                <a:lnTo>
                  <a:pt x="702" y="262"/>
                </a:lnTo>
                <a:lnTo>
                  <a:pt x="708" y="251"/>
                </a:lnTo>
                <a:lnTo>
                  <a:pt x="720" y="236"/>
                </a:lnTo>
                <a:lnTo>
                  <a:pt x="731" y="220"/>
                </a:lnTo>
                <a:lnTo>
                  <a:pt x="741" y="203"/>
                </a:lnTo>
                <a:lnTo>
                  <a:pt x="748" y="184"/>
                </a:lnTo>
                <a:lnTo>
                  <a:pt x="764" y="147"/>
                </a:lnTo>
                <a:lnTo>
                  <a:pt x="779" y="111"/>
                </a:lnTo>
                <a:lnTo>
                  <a:pt x="789" y="94"/>
                </a:lnTo>
                <a:lnTo>
                  <a:pt x="798" y="76"/>
                </a:lnTo>
                <a:lnTo>
                  <a:pt x="808" y="61"/>
                </a:lnTo>
                <a:lnTo>
                  <a:pt x="819" y="46"/>
                </a:lnTo>
                <a:lnTo>
                  <a:pt x="833" y="32"/>
                </a:lnTo>
                <a:lnTo>
                  <a:pt x="848" y="21"/>
                </a:lnTo>
                <a:lnTo>
                  <a:pt x="865" y="9"/>
                </a:lnTo>
                <a:lnTo>
                  <a:pt x="886" y="0"/>
                </a:lnTo>
                <a:lnTo>
                  <a:pt x="873" y="5"/>
                </a:lnTo>
                <a:lnTo>
                  <a:pt x="861" y="9"/>
                </a:lnTo>
                <a:lnTo>
                  <a:pt x="848" y="13"/>
                </a:lnTo>
                <a:lnTo>
                  <a:pt x="835" y="19"/>
                </a:lnTo>
                <a:lnTo>
                  <a:pt x="823" y="23"/>
                </a:lnTo>
                <a:lnTo>
                  <a:pt x="810" y="28"/>
                </a:lnTo>
                <a:lnTo>
                  <a:pt x="798" y="32"/>
                </a:lnTo>
                <a:lnTo>
                  <a:pt x="787" y="38"/>
                </a:lnTo>
                <a:lnTo>
                  <a:pt x="773" y="48"/>
                </a:lnTo>
                <a:lnTo>
                  <a:pt x="760" y="57"/>
                </a:lnTo>
                <a:lnTo>
                  <a:pt x="748" y="69"/>
                </a:lnTo>
                <a:lnTo>
                  <a:pt x="737" y="80"/>
                </a:lnTo>
                <a:lnTo>
                  <a:pt x="725" y="94"/>
                </a:lnTo>
                <a:lnTo>
                  <a:pt x="714" y="105"/>
                </a:lnTo>
                <a:lnTo>
                  <a:pt x="700" y="117"/>
                </a:lnTo>
                <a:lnTo>
                  <a:pt x="687" y="126"/>
                </a:lnTo>
                <a:lnTo>
                  <a:pt x="635" y="159"/>
                </a:lnTo>
                <a:lnTo>
                  <a:pt x="581" y="189"/>
                </a:lnTo>
                <a:lnTo>
                  <a:pt x="530" y="220"/>
                </a:lnTo>
                <a:lnTo>
                  <a:pt x="478" y="251"/>
                </a:lnTo>
                <a:lnTo>
                  <a:pt x="424" y="280"/>
                </a:lnTo>
                <a:lnTo>
                  <a:pt x="372" y="308"/>
                </a:lnTo>
                <a:lnTo>
                  <a:pt x="319" y="337"/>
                </a:lnTo>
                <a:lnTo>
                  <a:pt x="263" y="366"/>
                </a:lnTo>
                <a:lnTo>
                  <a:pt x="232" y="381"/>
                </a:lnTo>
                <a:lnTo>
                  <a:pt x="203" y="393"/>
                </a:lnTo>
                <a:lnTo>
                  <a:pt x="173" y="404"/>
                </a:lnTo>
                <a:lnTo>
                  <a:pt x="140" y="412"/>
                </a:lnTo>
                <a:lnTo>
                  <a:pt x="109" y="422"/>
                </a:lnTo>
                <a:lnTo>
                  <a:pt x="77" y="427"/>
                </a:lnTo>
                <a:lnTo>
                  <a:pt x="44" y="435"/>
                </a:lnTo>
                <a:lnTo>
                  <a:pt x="12" y="443"/>
                </a:lnTo>
                <a:lnTo>
                  <a:pt x="10" y="443"/>
                </a:lnTo>
                <a:lnTo>
                  <a:pt x="6" y="445"/>
                </a:lnTo>
                <a:lnTo>
                  <a:pt x="4" y="447"/>
                </a:lnTo>
                <a:lnTo>
                  <a:pt x="2" y="448"/>
                </a:lnTo>
                <a:lnTo>
                  <a:pt x="0" y="450"/>
                </a:lnTo>
                <a:lnTo>
                  <a:pt x="0" y="452"/>
                </a:lnTo>
                <a:lnTo>
                  <a:pt x="0" y="454"/>
                </a:lnTo>
                <a:lnTo>
                  <a:pt x="0" y="458"/>
                </a:lnTo>
                <a:lnTo>
                  <a:pt x="4" y="462"/>
                </a:lnTo>
                <a:lnTo>
                  <a:pt x="8" y="466"/>
                </a:lnTo>
                <a:lnTo>
                  <a:pt x="13" y="468"/>
                </a:lnTo>
                <a:lnTo>
                  <a:pt x="17" y="468"/>
                </a:lnTo>
                <a:lnTo>
                  <a:pt x="23" y="468"/>
                </a:lnTo>
                <a:lnTo>
                  <a:pt x="27" y="466"/>
                </a:lnTo>
                <a:lnTo>
                  <a:pt x="31" y="464"/>
                </a:lnTo>
                <a:lnTo>
                  <a:pt x="35" y="462"/>
                </a:lnTo>
                <a:lnTo>
                  <a:pt x="61" y="445"/>
                </a:lnTo>
                <a:lnTo>
                  <a:pt x="88" y="429"/>
                </a:lnTo>
                <a:lnTo>
                  <a:pt x="115" y="416"/>
                </a:lnTo>
                <a:lnTo>
                  <a:pt x="142" y="402"/>
                </a:lnTo>
                <a:lnTo>
                  <a:pt x="169" y="389"/>
                </a:lnTo>
                <a:lnTo>
                  <a:pt x="196" y="377"/>
                </a:lnTo>
                <a:lnTo>
                  <a:pt x="223" y="366"/>
                </a:lnTo>
                <a:lnTo>
                  <a:pt x="249" y="353"/>
                </a:lnTo>
                <a:lnTo>
                  <a:pt x="278" y="341"/>
                </a:lnTo>
                <a:lnTo>
                  <a:pt x="307" y="330"/>
                </a:lnTo>
                <a:lnTo>
                  <a:pt x="336" y="320"/>
                </a:lnTo>
                <a:lnTo>
                  <a:pt x="365" y="310"/>
                </a:lnTo>
                <a:lnTo>
                  <a:pt x="393" y="303"/>
                </a:lnTo>
                <a:lnTo>
                  <a:pt x="424" y="293"/>
                </a:lnTo>
                <a:lnTo>
                  <a:pt x="453" y="283"/>
                </a:lnTo>
                <a:lnTo>
                  <a:pt x="482" y="272"/>
                </a:lnTo>
                <a:lnTo>
                  <a:pt x="522" y="257"/>
                </a:lnTo>
                <a:lnTo>
                  <a:pt x="564" y="241"/>
                </a:lnTo>
                <a:lnTo>
                  <a:pt x="606" y="230"/>
                </a:lnTo>
                <a:lnTo>
                  <a:pt x="649" y="218"/>
                </a:lnTo>
                <a:lnTo>
                  <a:pt x="691" y="207"/>
                </a:lnTo>
                <a:lnTo>
                  <a:pt x="731" y="193"/>
                </a:lnTo>
                <a:lnTo>
                  <a:pt x="773" y="180"/>
                </a:lnTo>
                <a:lnTo>
                  <a:pt x="815" y="165"/>
                </a:lnTo>
                <a:lnTo>
                  <a:pt x="936" y="193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Freeform 82"/>
          <p:cNvSpPr/>
          <p:nvPr/>
        </p:nvSpPr>
        <p:spPr>
          <a:xfrm>
            <a:off x="3236760" y="2862360"/>
            <a:ext cx="1498680" cy="152280"/>
          </a:xfrm>
          <a:custGeom>
            <a:avLst/>
            <a:gdLst>
              <a:gd name="textAreaLeft" fmla="*/ 0 w 1498680"/>
              <a:gd name="textAreaRight" fmla="*/ 1499040 w 1498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944" h="96">
                <a:moveTo>
                  <a:pt x="944" y="82"/>
                </a:moveTo>
                <a:lnTo>
                  <a:pt x="929" y="82"/>
                </a:lnTo>
                <a:lnTo>
                  <a:pt x="912" y="82"/>
                </a:lnTo>
                <a:lnTo>
                  <a:pt x="896" y="82"/>
                </a:lnTo>
                <a:lnTo>
                  <a:pt x="879" y="82"/>
                </a:lnTo>
                <a:lnTo>
                  <a:pt x="864" y="82"/>
                </a:lnTo>
                <a:lnTo>
                  <a:pt x="848" y="82"/>
                </a:lnTo>
                <a:lnTo>
                  <a:pt x="831" y="84"/>
                </a:lnTo>
                <a:lnTo>
                  <a:pt x="816" y="86"/>
                </a:lnTo>
                <a:lnTo>
                  <a:pt x="798" y="88"/>
                </a:lnTo>
                <a:lnTo>
                  <a:pt x="781" y="92"/>
                </a:lnTo>
                <a:lnTo>
                  <a:pt x="762" y="94"/>
                </a:lnTo>
                <a:lnTo>
                  <a:pt x="745" y="96"/>
                </a:lnTo>
                <a:lnTo>
                  <a:pt x="728" y="94"/>
                </a:lnTo>
                <a:lnTo>
                  <a:pt x="710" y="92"/>
                </a:lnTo>
                <a:lnTo>
                  <a:pt x="693" y="84"/>
                </a:lnTo>
                <a:lnTo>
                  <a:pt x="676" y="73"/>
                </a:lnTo>
                <a:lnTo>
                  <a:pt x="591" y="71"/>
                </a:lnTo>
                <a:lnTo>
                  <a:pt x="505" y="73"/>
                </a:lnTo>
                <a:lnTo>
                  <a:pt x="421" y="73"/>
                </a:lnTo>
                <a:lnTo>
                  <a:pt x="338" y="74"/>
                </a:lnTo>
                <a:lnTo>
                  <a:pt x="254" y="74"/>
                </a:lnTo>
                <a:lnTo>
                  <a:pt x="169" y="73"/>
                </a:lnTo>
                <a:lnTo>
                  <a:pt x="127" y="69"/>
                </a:lnTo>
                <a:lnTo>
                  <a:pt x="85" y="65"/>
                </a:lnTo>
                <a:lnTo>
                  <a:pt x="43" y="61"/>
                </a:lnTo>
                <a:lnTo>
                  <a:pt x="0" y="55"/>
                </a:lnTo>
                <a:lnTo>
                  <a:pt x="39" y="50"/>
                </a:lnTo>
                <a:lnTo>
                  <a:pt x="75" y="44"/>
                </a:lnTo>
                <a:lnTo>
                  <a:pt x="114" y="40"/>
                </a:lnTo>
                <a:lnTo>
                  <a:pt x="150" y="38"/>
                </a:lnTo>
                <a:lnTo>
                  <a:pt x="225" y="34"/>
                </a:lnTo>
                <a:lnTo>
                  <a:pt x="302" y="34"/>
                </a:lnTo>
                <a:lnTo>
                  <a:pt x="376" y="34"/>
                </a:lnTo>
                <a:lnTo>
                  <a:pt x="451" y="34"/>
                </a:lnTo>
                <a:lnTo>
                  <a:pt x="528" y="30"/>
                </a:lnTo>
                <a:lnTo>
                  <a:pt x="605" y="25"/>
                </a:lnTo>
                <a:lnTo>
                  <a:pt x="630" y="21"/>
                </a:lnTo>
                <a:lnTo>
                  <a:pt x="653" y="19"/>
                </a:lnTo>
                <a:lnTo>
                  <a:pt x="678" y="17"/>
                </a:lnTo>
                <a:lnTo>
                  <a:pt x="703" y="13"/>
                </a:lnTo>
                <a:lnTo>
                  <a:pt x="729" y="11"/>
                </a:lnTo>
                <a:lnTo>
                  <a:pt x="754" y="7"/>
                </a:lnTo>
                <a:lnTo>
                  <a:pt x="779" y="5"/>
                </a:lnTo>
                <a:lnTo>
                  <a:pt x="804" y="2"/>
                </a:lnTo>
                <a:lnTo>
                  <a:pt x="818" y="2"/>
                </a:lnTo>
                <a:lnTo>
                  <a:pt x="831" y="0"/>
                </a:lnTo>
                <a:lnTo>
                  <a:pt x="845" y="0"/>
                </a:lnTo>
                <a:lnTo>
                  <a:pt x="858" y="2"/>
                </a:lnTo>
                <a:lnTo>
                  <a:pt x="869" y="2"/>
                </a:lnTo>
                <a:lnTo>
                  <a:pt x="883" y="2"/>
                </a:lnTo>
                <a:lnTo>
                  <a:pt x="896" y="2"/>
                </a:lnTo>
                <a:lnTo>
                  <a:pt x="910" y="2"/>
                </a:lnTo>
                <a:lnTo>
                  <a:pt x="944" y="82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Freeform 83"/>
          <p:cNvSpPr/>
          <p:nvPr/>
        </p:nvSpPr>
        <p:spPr>
          <a:xfrm>
            <a:off x="3408480" y="2225520"/>
            <a:ext cx="1552320" cy="574920"/>
          </a:xfrm>
          <a:custGeom>
            <a:avLst/>
            <a:gdLst>
              <a:gd name="textAreaLeft" fmla="*/ 0 w 1552320"/>
              <a:gd name="textAreaRight" fmla="*/ 1552680 w 155232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978" h="362">
                <a:moveTo>
                  <a:pt x="832" y="362"/>
                </a:moveTo>
                <a:lnTo>
                  <a:pt x="817" y="360"/>
                </a:lnTo>
                <a:lnTo>
                  <a:pt x="802" y="357"/>
                </a:lnTo>
                <a:lnTo>
                  <a:pt x="788" y="351"/>
                </a:lnTo>
                <a:lnTo>
                  <a:pt x="775" y="347"/>
                </a:lnTo>
                <a:lnTo>
                  <a:pt x="760" y="341"/>
                </a:lnTo>
                <a:lnTo>
                  <a:pt x="746" y="337"/>
                </a:lnTo>
                <a:lnTo>
                  <a:pt x="731" y="334"/>
                </a:lnTo>
                <a:lnTo>
                  <a:pt x="715" y="332"/>
                </a:lnTo>
                <a:lnTo>
                  <a:pt x="687" y="330"/>
                </a:lnTo>
                <a:lnTo>
                  <a:pt x="658" y="324"/>
                </a:lnTo>
                <a:lnTo>
                  <a:pt x="631" y="318"/>
                </a:lnTo>
                <a:lnTo>
                  <a:pt x="604" y="311"/>
                </a:lnTo>
                <a:lnTo>
                  <a:pt x="577" y="301"/>
                </a:lnTo>
                <a:lnTo>
                  <a:pt x="549" y="289"/>
                </a:lnTo>
                <a:lnTo>
                  <a:pt x="524" y="278"/>
                </a:lnTo>
                <a:lnTo>
                  <a:pt x="497" y="264"/>
                </a:lnTo>
                <a:lnTo>
                  <a:pt x="466" y="251"/>
                </a:lnTo>
                <a:lnTo>
                  <a:pt x="439" y="234"/>
                </a:lnTo>
                <a:lnTo>
                  <a:pt x="410" y="217"/>
                </a:lnTo>
                <a:lnTo>
                  <a:pt x="384" y="199"/>
                </a:lnTo>
                <a:lnTo>
                  <a:pt x="357" y="182"/>
                </a:lnTo>
                <a:lnTo>
                  <a:pt x="328" y="167"/>
                </a:lnTo>
                <a:lnTo>
                  <a:pt x="299" y="153"/>
                </a:lnTo>
                <a:lnTo>
                  <a:pt x="270" y="142"/>
                </a:lnTo>
                <a:lnTo>
                  <a:pt x="242" y="130"/>
                </a:lnTo>
                <a:lnTo>
                  <a:pt x="213" y="121"/>
                </a:lnTo>
                <a:lnTo>
                  <a:pt x="186" y="109"/>
                </a:lnTo>
                <a:lnTo>
                  <a:pt x="159" y="98"/>
                </a:lnTo>
                <a:lnTo>
                  <a:pt x="132" y="86"/>
                </a:lnTo>
                <a:lnTo>
                  <a:pt x="103" y="75"/>
                </a:lnTo>
                <a:lnTo>
                  <a:pt x="77" y="63"/>
                </a:lnTo>
                <a:lnTo>
                  <a:pt x="48" y="52"/>
                </a:lnTo>
                <a:lnTo>
                  <a:pt x="40" y="50"/>
                </a:lnTo>
                <a:lnTo>
                  <a:pt x="32" y="46"/>
                </a:lnTo>
                <a:lnTo>
                  <a:pt x="25" y="42"/>
                </a:lnTo>
                <a:lnTo>
                  <a:pt x="17" y="38"/>
                </a:lnTo>
                <a:lnTo>
                  <a:pt x="9" y="32"/>
                </a:lnTo>
                <a:lnTo>
                  <a:pt x="6" y="27"/>
                </a:lnTo>
                <a:lnTo>
                  <a:pt x="2" y="19"/>
                </a:lnTo>
                <a:lnTo>
                  <a:pt x="0" y="9"/>
                </a:lnTo>
                <a:lnTo>
                  <a:pt x="6" y="4"/>
                </a:lnTo>
                <a:lnTo>
                  <a:pt x="9" y="2"/>
                </a:lnTo>
                <a:lnTo>
                  <a:pt x="15" y="0"/>
                </a:lnTo>
                <a:lnTo>
                  <a:pt x="21" y="0"/>
                </a:lnTo>
                <a:lnTo>
                  <a:pt x="25" y="0"/>
                </a:lnTo>
                <a:lnTo>
                  <a:pt x="30" y="2"/>
                </a:lnTo>
                <a:lnTo>
                  <a:pt x="36" y="2"/>
                </a:lnTo>
                <a:lnTo>
                  <a:pt x="40" y="4"/>
                </a:lnTo>
                <a:lnTo>
                  <a:pt x="71" y="11"/>
                </a:lnTo>
                <a:lnTo>
                  <a:pt x="98" y="19"/>
                </a:lnTo>
                <a:lnTo>
                  <a:pt x="126" y="29"/>
                </a:lnTo>
                <a:lnTo>
                  <a:pt x="153" y="38"/>
                </a:lnTo>
                <a:lnTo>
                  <a:pt x="182" y="48"/>
                </a:lnTo>
                <a:lnTo>
                  <a:pt x="209" y="59"/>
                </a:lnTo>
                <a:lnTo>
                  <a:pt x="236" y="71"/>
                </a:lnTo>
                <a:lnTo>
                  <a:pt x="263" y="82"/>
                </a:lnTo>
                <a:lnTo>
                  <a:pt x="301" y="99"/>
                </a:lnTo>
                <a:lnTo>
                  <a:pt x="339" y="117"/>
                </a:lnTo>
                <a:lnTo>
                  <a:pt x="380" y="134"/>
                </a:lnTo>
                <a:lnTo>
                  <a:pt x="418" y="149"/>
                </a:lnTo>
                <a:lnTo>
                  <a:pt x="458" y="169"/>
                </a:lnTo>
                <a:lnTo>
                  <a:pt x="497" y="186"/>
                </a:lnTo>
                <a:lnTo>
                  <a:pt x="535" y="203"/>
                </a:lnTo>
                <a:lnTo>
                  <a:pt x="575" y="222"/>
                </a:lnTo>
                <a:lnTo>
                  <a:pt x="600" y="234"/>
                </a:lnTo>
                <a:lnTo>
                  <a:pt x="627" y="243"/>
                </a:lnTo>
                <a:lnTo>
                  <a:pt x="656" y="251"/>
                </a:lnTo>
                <a:lnTo>
                  <a:pt x="683" y="259"/>
                </a:lnTo>
                <a:lnTo>
                  <a:pt x="712" y="264"/>
                </a:lnTo>
                <a:lnTo>
                  <a:pt x="740" y="272"/>
                </a:lnTo>
                <a:lnTo>
                  <a:pt x="769" y="280"/>
                </a:lnTo>
                <a:lnTo>
                  <a:pt x="796" y="287"/>
                </a:lnTo>
                <a:lnTo>
                  <a:pt x="811" y="293"/>
                </a:lnTo>
                <a:lnTo>
                  <a:pt x="827" y="299"/>
                </a:lnTo>
                <a:lnTo>
                  <a:pt x="840" y="307"/>
                </a:lnTo>
                <a:lnTo>
                  <a:pt x="855" y="312"/>
                </a:lnTo>
                <a:lnTo>
                  <a:pt x="869" y="318"/>
                </a:lnTo>
                <a:lnTo>
                  <a:pt x="884" y="324"/>
                </a:lnTo>
                <a:lnTo>
                  <a:pt x="898" y="328"/>
                </a:lnTo>
                <a:lnTo>
                  <a:pt x="913" y="330"/>
                </a:lnTo>
                <a:lnTo>
                  <a:pt x="921" y="330"/>
                </a:lnTo>
                <a:lnTo>
                  <a:pt x="930" y="332"/>
                </a:lnTo>
                <a:lnTo>
                  <a:pt x="938" y="334"/>
                </a:lnTo>
                <a:lnTo>
                  <a:pt x="948" y="337"/>
                </a:lnTo>
                <a:lnTo>
                  <a:pt x="955" y="339"/>
                </a:lnTo>
                <a:lnTo>
                  <a:pt x="963" y="339"/>
                </a:lnTo>
                <a:lnTo>
                  <a:pt x="971" y="337"/>
                </a:lnTo>
                <a:lnTo>
                  <a:pt x="978" y="332"/>
                </a:lnTo>
                <a:lnTo>
                  <a:pt x="832" y="362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Freeform 84"/>
          <p:cNvSpPr/>
          <p:nvPr/>
        </p:nvSpPr>
        <p:spPr>
          <a:xfrm>
            <a:off x="4503600" y="1074600"/>
            <a:ext cx="1812960" cy="1644840"/>
          </a:xfrm>
          <a:custGeom>
            <a:avLst/>
            <a:gdLst>
              <a:gd name="textAreaLeft" fmla="*/ 0 w 1812960"/>
              <a:gd name="textAreaRight" fmla="*/ 1813320 w 1812960"/>
              <a:gd name="textAreaTop" fmla="*/ 0 h 1644840"/>
              <a:gd name="textAreaBottom" fmla="*/ 1645200 h 1644840"/>
            </a:gdLst>
            <a:ahLst/>
            <a:rect l="textAreaLeft" t="textAreaTop" r="textAreaRight" b="textAreaBottom"/>
            <a:pathLst>
              <a:path w="1142" h="1036">
                <a:moveTo>
                  <a:pt x="528" y="1036"/>
                </a:moveTo>
                <a:lnTo>
                  <a:pt x="553" y="1016"/>
                </a:lnTo>
                <a:lnTo>
                  <a:pt x="576" y="993"/>
                </a:lnTo>
                <a:lnTo>
                  <a:pt x="597" y="968"/>
                </a:lnTo>
                <a:lnTo>
                  <a:pt x="616" y="943"/>
                </a:lnTo>
                <a:lnTo>
                  <a:pt x="653" y="890"/>
                </a:lnTo>
                <a:lnTo>
                  <a:pt x="689" y="836"/>
                </a:lnTo>
                <a:lnTo>
                  <a:pt x="707" y="811"/>
                </a:lnTo>
                <a:lnTo>
                  <a:pt x="726" y="784"/>
                </a:lnTo>
                <a:lnTo>
                  <a:pt x="745" y="761"/>
                </a:lnTo>
                <a:lnTo>
                  <a:pt x="766" y="738"/>
                </a:lnTo>
                <a:lnTo>
                  <a:pt x="789" y="717"/>
                </a:lnTo>
                <a:lnTo>
                  <a:pt x="814" y="700"/>
                </a:lnTo>
                <a:lnTo>
                  <a:pt x="841" y="683"/>
                </a:lnTo>
                <a:lnTo>
                  <a:pt x="872" y="669"/>
                </a:lnTo>
                <a:lnTo>
                  <a:pt x="897" y="621"/>
                </a:lnTo>
                <a:lnTo>
                  <a:pt x="925" y="575"/>
                </a:lnTo>
                <a:lnTo>
                  <a:pt x="956" y="529"/>
                </a:lnTo>
                <a:lnTo>
                  <a:pt x="989" y="485"/>
                </a:lnTo>
                <a:lnTo>
                  <a:pt x="1023" y="443"/>
                </a:lnTo>
                <a:lnTo>
                  <a:pt x="1062" y="404"/>
                </a:lnTo>
                <a:lnTo>
                  <a:pt x="1100" y="366"/>
                </a:lnTo>
                <a:lnTo>
                  <a:pt x="1142" y="330"/>
                </a:lnTo>
                <a:lnTo>
                  <a:pt x="1088" y="376"/>
                </a:lnTo>
                <a:lnTo>
                  <a:pt x="1038" y="425"/>
                </a:lnTo>
                <a:lnTo>
                  <a:pt x="991" y="477"/>
                </a:lnTo>
                <a:lnTo>
                  <a:pt x="944" y="531"/>
                </a:lnTo>
                <a:lnTo>
                  <a:pt x="898" y="585"/>
                </a:lnTo>
                <a:lnTo>
                  <a:pt x="852" y="638"/>
                </a:lnTo>
                <a:lnTo>
                  <a:pt x="804" y="692"/>
                </a:lnTo>
                <a:lnTo>
                  <a:pt x="756" y="746"/>
                </a:lnTo>
                <a:lnTo>
                  <a:pt x="730" y="777"/>
                </a:lnTo>
                <a:lnTo>
                  <a:pt x="701" y="805"/>
                </a:lnTo>
                <a:lnTo>
                  <a:pt x="674" y="836"/>
                </a:lnTo>
                <a:lnTo>
                  <a:pt x="645" y="865"/>
                </a:lnTo>
                <a:lnTo>
                  <a:pt x="618" y="895"/>
                </a:lnTo>
                <a:lnTo>
                  <a:pt x="591" y="924"/>
                </a:lnTo>
                <a:lnTo>
                  <a:pt x="566" y="957"/>
                </a:lnTo>
                <a:lnTo>
                  <a:pt x="542" y="988"/>
                </a:lnTo>
                <a:lnTo>
                  <a:pt x="601" y="903"/>
                </a:lnTo>
                <a:lnTo>
                  <a:pt x="659" y="817"/>
                </a:lnTo>
                <a:lnTo>
                  <a:pt x="716" y="730"/>
                </a:lnTo>
                <a:lnTo>
                  <a:pt x="772" y="642"/>
                </a:lnTo>
                <a:lnTo>
                  <a:pt x="824" y="554"/>
                </a:lnTo>
                <a:lnTo>
                  <a:pt x="875" y="464"/>
                </a:lnTo>
                <a:lnTo>
                  <a:pt x="927" y="374"/>
                </a:lnTo>
                <a:lnTo>
                  <a:pt x="975" y="282"/>
                </a:lnTo>
                <a:lnTo>
                  <a:pt x="948" y="307"/>
                </a:lnTo>
                <a:lnTo>
                  <a:pt x="923" y="333"/>
                </a:lnTo>
                <a:lnTo>
                  <a:pt x="897" y="360"/>
                </a:lnTo>
                <a:lnTo>
                  <a:pt x="873" y="389"/>
                </a:lnTo>
                <a:lnTo>
                  <a:pt x="826" y="447"/>
                </a:lnTo>
                <a:lnTo>
                  <a:pt x="781" y="506"/>
                </a:lnTo>
                <a:lnTo>
                  <a:pt x="739" y="567"/>
                </a:lnTo>
                <a:lnTo>
                  <a:pt x="697" y="631"/>
                </a:lnTo>
                <a:lnTo>
                  <a:pt x="657" y="696"/>
                </a:lnTo>
                <a:lnTo>
                  <a:pt x="616" y="761"/>
                </a:lnTo>
                <a:lnTo>
                  <a:pt x="613" y="767"/>
                </a:lnTo>
                <a:lnTo>
                  <a:pt x="609" y="775"/>
                </a:lnTo>
                <a:lnTo>
                  <a:pt x="603" y="780"/>
                </a:lnTo>
                <a:lnTo>
                  <a:pt x="599" y="788"/>
                </a:lnTo>
                <a:lnTo>
                  <a:pt x="593" y="794"/>
                </a:lnTo>
                <a:lnTo>
                  <a:pt x="588" y="801"/>
                </a:lnTo>
                <a:lnTo>
                  <a:pt x="584" y="807"/>
                </a:lnTo>
                <a:lnTo>
                  <a:pt x="580" y="815"/>
                </a:lnTo>
                <a:lnTo>
                  <a:pt x="561" y="842"/>
                </a:lnTo>
                <a:lnTo>
                  <a:pt x="542" y="871"/>
                </a:lnTo>
                <a:lnTo>
                  <a:pt x="522" y="899"/>
                </a:lnTo>
                <a:lnTo>
                  <a:pt x="503" y="926"/>
                </a:lnTo>
                <a:lnTo>
                  <a:pt x="486" y="953"/>
                </a:lnTo>
                <a:lnTo>
                  <a:pt x="471" y="980"/>
                </a:lnTo>
                <a:lnTo>
                  <a:pt x="465" y="991"/>
                </a:lnTo>
                <a:lnTo>
                  <a:pt x="461" y="1003"/>
                </a:lnTo>
                <a:lnTo>
                  <a:pt x="459" y="1014"/>
                </a:lnTo>
                <a:lnTo>
                  <a:pt x="457" y="1024"/>
                </a:lnTo>
                <a:lnTo>
                  <a:pt x="459" y="980"/>
                </a:lnTo>
                <a:lnTo>
                  <a:pt x="459" y="938"/>
                </a:lnTo>
                <a:lnTo>
                  <a:pt x="457" y="894"/>
                </a:lnTo>
                <a:lnTo>
                  <a:pt x="453" y="851"/>
                </a:lnTo>
                <a:lnTo>
                  <a:pt x="448" y="809"/>
                </a:lnTo>
                <a:lnTo>
                  <a:pt x="442" y="767"/>
                </a:lnTo>
                <a:lnTo>
                  <a:pt x="434" y="725"/>
                </a:lnTo>
                <a:lnTo>
                  <a:pt x="426" y="684"/>
                </a:lnTo>
                <a:lnTo>
                  <a:pt x="407" y="600"/>
                </a:lnTo>
                <a:lnTo>
                  <a:pt x="384" y="518"/>
                </a:lnTo>
                <a:lnTo>
                  <a:pt x="359" y="433"/>
                </a:lnTo>
                <a:lnTo>
                  <a:pt x="332" y="349"/>
                </a:lnTo>
                <a:lnTo>
                  <a:pt x="323" y="318"/>
                </a:lnTo>
                <a:lnTo>
                  <a:pt x="315" y="287"/>
                </a:lnTo>
                <a:lnTo>
                  <a:pt x="309" y="257"/>
                </a:lnTo>
                <a:lnTo>
                  <a:pt x="306" y="224"/>
                </a:lnTo>
                <a:lnTo>
                  <a:pt x="302" y="191"/>
                </a:lnTo>
                <a:lnTo>
                  <a:pt x="302" y="159"/>
                </a:lnTo>
                <a:lnTo>
                  <a:pt x="302" y="126"/>
                </a:lnTo>
                <a:lnTo>
                  <a:pt x="304" y="94"/>
                </a:lnTo>
                <a:lnTo>
                  <a:pt x="298" y="109"/>
                </a:lnTo>
                <a:lnTo>
                  <a:pt x="294" y="126"/>
                </a:lnTo>
                <a:lnTo>
                  <a:pt x="292" y="143"/>
                </a:lnTo>
                <a:lnTo>
                  <a:pt x="292" y="161"/>
                </a:lnTo>
                <a:lnTo>
                  <a:pt x="294" y="195"/>
                </a:lnTo>
                <a:lnTo>
                  <a:pt x="298" y="228"/>
                </a:lnTo>
                <a:lnTo>
                  <a:pt x="306" y="262"/>
                </a:lnTo>
                <a:lnTo>
                  <a:pt x="309" y="297"/>
                </a:lnTo>
                <a:lnTo>
                  <a:pt x="311" y="314"/>
                </a:lnTo>
                <a:lnTo>
                  <a:pt x="313" y="331"/>
                </a:lnTo>
                <a:lnTo>
                  <a:pt x="313" y="347"/>
                </a:lnTo>
                <a:lnTo>
                  <a:pt x="311" y="364"/>
                </a:lnTo>
                <a:lnTo>
                  <a:pt x="307" y="397"/>
                </a:lnTo>
                <a:lnTo>
                  <a:pt x="298" y="427"/>
                </a:lnTo>
                <a:lnTo>
                  <a:pt x="286" y="460"/>
                </a:lnTo>
                <a:lnTo>
                  <a:pt x="277" y="491"/>
                </a:lnTo>
                <a:lnTo>
                  <a:pt x="273" y="506"/>
                </a:lnTo>
                <a:lnTo>
                  <a:pt x="269" y="521"/>
                </a:lnTo>
                <a:lnTo>
                  <a:pt x="267" y="537"/>
                </a:lnTo>
                <a:lnTo>
                  <a:pt x="265" y="550"/>
                </a:lnTo>
                <a:lnTo>
                  <a:pt x="267" y="564"/>
                </a:lnTo>
                <a:lnTo>
                  <a:pt x="269" y="579"/>
                </a:lnTo>
                <a:lnTo>
                  <a:pt x="275" y="590"/>
                </a:lnTo>
                <a:lnTo>
                  <a:pt x="283" y="604"/>
                </a:lnTo>
                <a:lnTo>
                  <a:pt x="298" y="631"/>
                </a:lnTo>
                <a:lnTo>
                  <a:pt x="311" y="658"/>
                </a:lnTo>
                <a:lnTo>
                  <a:pt x="323" y="683"/>
                </a:lnTo>
                <a:lnTo>
                  <a:pt x="332" y="709"/>
                </a:lnTo>
                <a:lnTo>
                  <a:pt x="350" y="763"/>
                </a:lnTo>
                <a:lnTo>
                  <a:pt x="363" y="817"/>
                </a:lnTo>
                <a:lnTo>
                  <a:pt x="373" y="871"/>
                </a:lnTo>
                <a:lnTo>
                  <a:pt x="382" y="924"/>
                </a:lnTo>
                <a:lnTo>
                  <a:pt x="394" y="976"/>
                </a:lnTo>
                <a:lnTo>
                  <a:pt x="405" y="1026"/>
                </a:lnTo>
                <a:lnTo>
                  <a:pt x="401" y="1005"/>
                </a:lnTo>
                <a:lnTo>
                  <a:pt x="400" y="982"/>
                </a:lnTo>
                <a:lnTo>
                  <a:pt x="400" y="961"/>
                </a:lnTo>
                <a:lnTo>
                  <a:pt x="400" y="940"/>
                </a:lnTo>
                <a:lnTo>
                  <a:pt x="400" y="917"/>
                </a:lnTo>
                <a:lnTo>
                  <a:pt x="396" y="894"/>
                </a:lnTo>
                <a:lnTo>
                  <a:pt x="390" y="871"/>
                </a:lnTo>
                <a:lnTo>
                  <a:pt x="380" y="848"/>
                </a:lnTo>
                <a:lnTo>
                  <a:pt x="378" y="844"/>
                </a:lnTo>
                <a:lnTo>
                  <a:pt x="377" y="838"/>
                </a:lnTo>
                <a:lnTo>
                  <a:pt x="377" y="834"/>
                </a:lnTo>
                <a:lnTo>
                  <a:pt x="377" y="826"/>
                </a:lnTo>
                <a:lnTo>
                  <a:pt x="378" y="821"/>
                </a:lnTo>
                <a:lnTo>
                  <a:pt x="378" y="815"/>
                </a:lnTo>
                <a:lnTo>
                  <a:pt x="377" y="809"/>
                </a:lnTo>
                <a:lnTo>
                  <a:pt x="377" y="805"/>
                </a:lnTo>
                <a:lnTo>
                  <a:pt x="375" y="800"/>
                </a:lnTo>
                <a:lnTo>
                  <a:pt x="373" y="796"/>
                </a:lnTo>
                <a:lnTo>
                  <a:pt x="369" y="792"/>
                </a:lnTo>
                <a:lnTo>
                  <a:pt x="367" y="788"/>
                </a:lnTo>
                <a:lnTo>
                  <a:pt x="363" y="784"/>
                </a:lnTo>
                <a:lnTo>
                  <a:pt x="361" y="782"/>
                </a:lnTo>
                <a:lnTo>
                  <a:pt x="357" y="778"/>
                </a:lnTo>
                <a:lnTo>
                  <a:pt x="355" y="775"/>
                </a:lnTo>
                <a:lnTo>
                  <a:pt x="348" y="740"/>
                </a:lnTo>
                <a:lnTo>
                  <a:pt x="342" y="706"/>
                </a:lnTo>
                <a:lnTo>
                  <a:pt x="340" y="671"/>
                </a:lnTo>
                <a:lnTo>
                  <a:pt x="338" y="636"/>
                </a:lnTo>
                <a:lnTo>
                  <a:pt x="338" y="602"/>
                </a:lnTo>
                <a:lnTo>
                  <a:pt x="338" y="567"/>
                </a:lnTo>
                <a:lnTo>
                  <a:pt x="336" y="533"/>
                </a:lnTo>
                <a:lnTo>
                  <a:pt x="332" y="496"/>
                </a:lnTo>
                <a:lnTo>
                  <a:pt x="323" y="441"/>
                </a:lnTo>
                <a:lnTo>
                  <a:pt x="317" y="385"/>
                </a:lnTo>
                <a:lnTo>
                  <a:pt x="313" y="330"/>
                </a:lnTo>
                <a:lnTo>
                  <a:pt x="307" y="274"/>
                </a:lnTo>
                <a:lnTo>
                  <a:pt x="302" y="218"/>
                </a:lnTo>
                <a:lnTo>
                  <a:pt x="294" y="165"/>
                </a:lnTo>
                <a:lnTo>
                  <a:pt x="288" y="138"/>
                </a:lnTo>
                <a:lnTo>
                  <a:pt x="283" y="111"/>
                </a:lnTo>
                <a:lnTo>
                  <a:pt x="275" y="84"/>
                </a:lnTo>
                <a:lnTo>
                  <a:pt x="267" y="57"/>
                </a:lnTo>
                <a:lnTo>
                  <a:pt x="265" y="53"/>
                </a:lnTo>
                <a:lnTo>
                  <a:pt x="265" y="49"/>
                </a:lnTo>
                <a:lnTo>
                  <a:pt x="265" y="44"/>
                </a:lnTo>
                <a:lnTo>
                  <a:pt x="263" y="40"/>
                </a:lnTo>
                <a:lnTo>
                  <a:pt x="263" y="36"/>
                </a:lnTo>
                <a:lnTo>
                  <a:pt x="261" y="30"/>
                </a:lnTo>
                <a:lnTo>
                  <a:pt x="258" y="26"/>
                </a:lnTo>
                <a:lnTo>
                  <a:pt x="254" y="25"/>
                </a:lnTo>
                <a:lnTo>
                  <a:pt x="250" y="40"/>
                </a:lnTo>
                <a:lnTo>
                  <a:pt x="250" y="55"/>
                </a:lnTo>
                <a:lnTo>
                  <a:pt x="250" y="72"/>
                </a:lnTo>
                <a:lnTo>
                  <a:pt x="252" y="88"/>
                </a:lnTo>
                <a:lnTo>
                  <a:pt x="256" y="103"/>
                </a:lnTo>
                <a:lnTo>
                  <a:pt x="260" y="119"/>
                </a:lnTo>
                <a:lnTo>
                  <a:pt x="263" y="134"/>
                </a:lnTo>
                <a:lnTo>
                  <a:pt x="267" y="149"/>
                </a:lnTo>
                <a:lnTo>
                  <a:pt x="275" y="195"/>
                </a:lnTo>
                <a:lnTo>
                  <a:pt x="281" y="243"/>
                </a:lnTo>
                <a:lnTo>
                  <a:pt x="284" y="289"/>
                </a:lnTo>
                <a:lnTo>
                  <a:pt x="286" y="335"/>
                </a:lnTo>
                <a:lnTo>
                  <a:pt x="286" y="381"/>
                </a:lnTo>
                <a:lnTo>
                  <a:pt x="288" y="427"/>
                </a:lnTo>
                <a:lnTo>
                  <a:pt x="290" y="473"/>
                </a:lnTo>
                <a:lnTo>
                  <a:pt x="292" y="519"/>
                </a:lnTo>
                <a:lnTo>
                  <a:pt x="294" y="531"/>
                </a:lnTo>
                <a:lnTo>
                  <a:pt x="296" y="541"/>
                </a:lnTo>
                <a:lnTo>
                  <a:pt x="298" y="550"/>
                </a:lnTo>
                <a:lnTo>
                  <a:pt x="302" y="562"/>
                </a:lnTo>
                <a:lnTo>
                  <a:pt x="304" y="571"/>
                </a:lnTo>
                <a:lnTo>
                  <a:pt x="307" y="581"/>
                </a:lnTo>
                <a:lnTo>
                  <a:pt x="309" y="592"/>
                </a:lnTo>
                <a:lnTo>
                  <a:pt x="311" y="604"/>
                </a:lnTo>
                <a:lnTo>
                  <a:pt x="313" y="610"/>
                </a:lnTo>
                <a:lnTo>
                  <a:pt x="313" y="615"/>
                </a:lnTo>
                <a:lnTo>
                  <a:pt x="313" y="621"/>
                </a:lnTo>
                <a:lnTo>
                  <a:pt x="313" y="627"/>
                </a:lnTo>
                <a:lnTo>
                  <a:pt x="313" y="633"/>
                </a:lnTo>
                <a:lnTo>
                  <a:pt x="313" y="638"/>
                </a:lnTo>
                <a:lnTo>
                  <a:pt x="313" y="644"/>
                </a:lnTo>
                <a:lnTo>
                  <a:pt x="315" y="650"/>
                </a:lnTo>
                <a:lnTo>
                  <a:pt x="323" y="688"/>
                </a:lnTo>
                <a:lnTo>
                  <a:pt x="329" y="725"/>
                </a:lnTo>
                <a:lnTo>
                  <a:pt x="336" y="763"/>
                </a:lnTo>
                <a:lnTo>
                  <a:pt x="340" y="800"/>
                </a:lnTo>
                <a:lnTo>
                  <a:pt x="346" y="836"/>
                </a:lnTo>
                <a:lnTo>
                  <a:pt x="352" y="874"/>
                </a:lnTo>
                <a:lnTo>
                  <a:pt x="357" y="911"/>
                </a:lnTo>
                <a:lnTo>
                  <a:pt x="363" y="949"/>
                </a:lnTo>
                <a:lnTo>
                  <a:pt x="363" y="951"/>
                </a:lnTo>
                <a:lnTo>
                  <a:pt x="363" y="951"/>
                </a:lnTo>
                <a:lnTo>
                  <a:pt x="365" y="951"/>
                </a:lnTo>
                <a:lnTo>
                  <a:pt x="365" y="949"/>
                </a:lnTo>
                <a:lnTo>
                  <a:pt x="365" y="949"/>
                </a:lnTo>
                <a:lnTo>
                  <a:pt x="367" y="947"/>
                </a:lnTo>
                <a:lnTo>
                  <a:pt x="367" y="947"/>
                </a:lnTo>
                <a:lnTo>
                  <a:pt x="365" y="945"/>
                </a:lnTo>
                <a:lnTo>
                  <a:pt x="359" y="915"/>
                </a:lnTo>
                <a:lnTo>
                  <a:pt x="355" y="882"/>
                </a:lnTo>
                <a:lnTo>
                  <a:pt x="354" y="848"/>
                </a:lnTo>
                <a:lnTo>
                  <a:pt x="352" y="813"/>
                </a:lnTo>
                <a:lnTo>
                  <a:pt x="350" y="778"/>
                </a:lnTo>
                <a:lnTo>
                  <a:pt x="346" y="744"/>
                </a:lnTo>
                <a:lnTo>
                  <a:pt x="342" y="709"/>
                </a:lnTo>
                <a:lnTo>
                  <a:pt x="332" y="677"/>
                </a:lnTo>
                <a:lnTo>
                  <a:pt x="321" y="638"/>
                </a:lnTo>
                <a:lnTo>
                  <a:pt x="311" y="596"/>
                </a:lnTo>
                <a:lnTo>
                  <a:pt x="306" y="552"/>
                </a:lnTo>
                <a:lnTo>
                  <a:pt x="302" y="508"/>
                </a:lnTo>
                <a:lnTo>
                  <a:pt x="300" y="464"/>
                </a:lnTo>
                <a:lnTo>
                  <a:pt x="300" y="418"/>
                </a:lnTo>
                <a:lnTo>
                  <a:pt x="304" y="372"/>
                </a:lnTo>
                <a:lnTo>
                  <a:pt x="307" y="326"/>
                </a:lnTo>
                <a:lnTo>
                  <a:pt x="307" y="308"/>
                </a:lnTo>
                <a:lnTo>
                  <a:pt x="307" y="289"/>
                </a:lnTo>
                <a:lnTo>
                  <a:pt x="307" y="270"/>
                </a:lnTo>
                <a:lnTo>
                  <a:pt x="306" y="251"/>
                </a:lnTo>
                <a:lnTo>
                  <a:pt x="298" y="214"/>
                </a:lnTo>
                <a:lnTo>
                  <a:pt x="290" y="176"/>
                </a:lnTo>
                <a:lnTo>
                  <a:pt x="283" y="138"/>
                </a:lnTo>
                <a:lnTo>
                  <a:pt x="275" y="99"/>
                </a:lnTo>
                <a:lnTo>
                  <a:pt x="273" y="80"/>
                </a:lnTo>
                <a:lnTo>
                  <a:pt x="271" y="61"/>
                </a:lnTo>
                <a:lnTo>
                  <a:pt x="271" y="42"/>
                </a:lnTo>
                <a:lnTo>
                  <a:pt x="271" y="21"/>
                </a:lnTo>
                <a:lnTo>
                  <a:pt x="271" y="19"/>
                </a:lnTo>
                <a:lnTo>
                  <a:pt x="273" y="15"/>
                </a:lnTo>
                <a:lnTo>
                  <a:pt x="277" y="13"/>
                </a:lnTo>
                <a:lnTo>
                  <a:pt x="279" y="9"/>
                </a:lnTo>
                <a:lnTo>
                  <a:pt x="283" y="7"/>
                </a:lnTo>
                <a:lnTo>
                  <a:pt x="284" y="3"/>
                </a:lnTo>
                <a:lnTo>
                  <a:pt x="288" y="2"/>
                </a:lnTo>
                <a:lnTo>
                  <a:pt x="292" y="0"/>
                </a:lnTo>
                <a:lnTo>
                  <a:pt x="298" y="5"/>
                </a:lnTo>
                <a:lnTo>
                  <a:pt x="306" y="9"/>
                </a:lnTo>
                <a:lnTo>
                  <a:pt x="313" y="13"/>
                </a:lnTo>
                <a:lnTo>
                  <a:pt x="321" y="19"/>
                </a:lnTo>
                <a:lnTo>
                  <a:pt x="329" y="23"/>
                </a:lnTo>
                <a:lnTo>
                  <a:pt x="334" y="28"/>
                </a:lnTo>
                <a:lnTo>
                  <a:pt x="336" y="36"/>
                </a:lnTo>
                <a:lnTo>
                  <a:pt x="338" y="48"/>
                </a:lnTo>
                <a:lnTo>
                  <a:pt x="336" y="97"/>
                </a:lnTo>
                <a:lnTo>
                  <a:pt x="336" y="145"/>
                </a:lnTo>
                <a:lnTo>
                  <a:pt x="334" y="195"/>
                </a:lnTo>
                <a:lnTo>
                  <a:pt x="332" y="245"/>
                </a:lnTo>
                <a:lnTo>
                  <a:pt x="329" y="297"/>
                </a:lnTo>
                <a:lnTo>
                  <a:pt x="325" y="347"/>
                </a:lnTo>
                <a:lnTo>
                  <a:pt x="319" y="397"/>
                </a:lnTo>
                <a:lnTo>
                  <a:pt x="311" y="448"/>
                </a:lnTo>
                <a:lnTo>
                  <a:pt x="304" y="506"/>
                </a:lnTo>
                <a:lnTo>
                  <a:pt x="298" y="566"/>
                </a:lnTo>
                <a:lnTo>
                  <a:pt x="292" y="625"/>
                </a:lnTo>
                <a:lnTo>
                  <a:pt x="292" y="684"/>
                </a:lnTo>
                <a:lnTo>
                  <a:pt x="292" y="713"/>
                </a:lnTo>
                <a:lnTo>
                  <a:pt x="294" y="742"/>
                </a:lnTo>
                <a:lnTo>
                  <a:pt x="296" y="769"/>
                </a:lnTo>
                <a:lnTo>
                  <a:pt x="300" y="796"/>
                </a:lnTo>
                <a:lnTo>
                  <a:pt x="306" y="823"/>
                </a:lnTo>
                <a:lnTo>
                  <a:pt x="311" y="846"/>
                </a:lnTo>
                <a:lnTo>
                  <a:pt x="321" y="869"/>
                </a:lnTo>
                <a:lnTo>
                  <a:pt x="331" y="892"/>
                </a:lnTo>
                <a:lnTo>
                  <a:pt x="307" y="846"/>
                </a:lnTo>
                <a:lnTo>
                  <a:pt x="284" y="801"/>
                </a:lnTo>
                <a:lnTo>
                  <a:pt x="261" y="757"/>
                </a:lnTo>
                <a:lnTo>
                  <a:pt x="240" y="711"/>
                </a:lnTo>
                <a:lnTo>
                  <a:pt x="221" y="665"/>
                </a:lnTo>
                <a:lnTo>
                  <a:pt x="204" y="617"/>
                </a:lnTo>
                <a:lnTo>
                  <a:pt x="196" y="592"/>
                </a:lnTo>
                <a:lnTo>
                  <a:pt x="190" y="567"/>
                </a:lnTo>
                <a:lnTo>
                  <a:pt x="187" y="541"/>
                </a:lnTo>
                <a:lnTo>
                  <a:pt x="183" y="516"/>
                </a:lnTo>
                <a:lnTo>
                  <a:pt x="181" y="502"/>
                </a:lnTo>
                <a:lnTo>
                  <a:pt x="177" y="489"/>
                </a:lnTo>
                <a:lnTo>
                  <a:pt x="173" y="475"/>
                </a:lnTo>
                <a:lnTo>
                  <a:pt x="169" y="462"/>
                </a:lnTo>
                <a:lnTo>
                  <a:pt x="164" y="448"/>
                </a:lnTo>
                <a:lnTo>
                  <a:pt x="158" y="433"/>
                </a:lnTo>
                <a:lnTo>
                  <a:pt x="152" y="420"/>
                </a:lnTo>
                <a:lnTo>
                  <a:pt x="146" y="406"/>
                </a:lnTo>
                <a:lnTo>
                  <a:pt x="131" y="360"/>
                </a:lnTo>
                <a:lnTo>
                  <a:pt x="116" y="318"/>
                </a:lnTo>
                <a:lnTo>
                  <a:pt x="102" y="278"/>
                </a:lnTo>
                <a:lnTo>
                  <a:pt x="87" y="237"/>
                </a:lnTo>
                <a:lnTo>
                  <a:pt x="71" y="197"/>
                </a:lnTo>
                <a:lnTo>
                  <a:pt x="54" y="159"/>
                </a:lnTo>
                <a:lnTo>
                  <a:pt x="35" y="119"/>
                </a:lnTo>
                <a:lnTo>
                  <a:pt x="14" y="74"/>
                </a:lnTo>
                <a:lnTo>
                  <a:pt x="6" y="96"/>
                </a:lnTo>
                <a:lnTo>
                  <a:pt x="2" y="113"/>
                </a:lnTo>
                <a:lnTo>
                  <a:pt x="0" y="128"/>
                </a:lnTo>
                <a:lnTo>
                  <a:pt x="2" y="143"/>
                </a:lnTo>
                <a:lnTo>
                  <a:pt x="4" y="159"/>
                </a:lnTo>
                <a:lnTo>
                  <a:pt x="10" y="174"/>
                </a:lnTo>
                <a:lnTo>
                  <a:pt x="16" y="193"/>
                </a:lnTo>
                <a:lnTo>
                  <a:pt x="22" y="213"/>
                </a:lnTo>
                <a:lnTo>
                  <a:pt x="25" y="220"/>
                </a:lnTo>
                <a:lnTo>
                  <a:pt x="29" y="226"/>
                </a:lnTo>
                <a:lnTo>
                  <a:pt x="33" y="234"/>
                </a:lnTo>
                <a:lnTo>
                  <a:pt x="37" y="239"/>
                </a:lnTo>
                <a:lnTo>
                  <a:pt x="43" y="247"/>
                </a:lnTo>
                <a:lnTo>
                  <a:pt x="48" y="253"/>
                </a:lnTo>
                <a:lnTo>
                  <a:pt x="52" y="260"/>
                </a:lnTo>
                <a:lnTo>
                  <a:pt x="56" y="268"/>
                </a:lnTo>
                <a:lnTo>
                  <a:pt x="66" y="295"/>
                </a:lnTo>
                <a:lnTo>
                  <a:pt x="79" y="322"/>
                </a:lnTo>
                <a:lnTo>
                  <a:pt x="93" y="347"/>
                </a:lnTo>
                <a:lnTo>
                  <a:pt x="108" y="372"/>
                </a:lnTo>
                <a:lnTo>
                  <a:pt x="121" y="397"/>
                </a:lnTo>
                <a:lnTo>
                  <a:pt x="133" y="422"/>
                </a:lnTo>
                <a:lnTo>
                  <a:pt x="144" y="448"/>
                </a:lnTo>
                <a:lnTo>
                  <a:pt x="152" y="477"/>
                </a:lnTo>
                <a:lnTo>
                  <a:pt x="156" y="487"/>
                </a:lnTo>
                <a:lnTo>
                  <a:pt x="162" y="498"/>
                </a:lnTo>
                <a:lnTo>
                  <a:pt x="169" y="508"/>
                </a:lnTo>
                <a:lnTo>
                  <a:pt x="177" y="518"/>
                </a:lnTo>
                <a:lnTo>
                  <a:pt x="185" y="527"/>
                </a:lnTo>
                <a:lnTo>
                  <a:pt x="192" y="535"/>
                </a:lnTo>
                <a:lnTo>
                  <a:pt x="198" y="544"/>
                </a:lnTo>
                <a:lnTo>
                  <a:pt x="202" y="556"/>
                </a:lnTo>
                <a:lnTo>
                  <a:pt x="221" y="598"/>
                </a:lnTo>
                <a:lnTo>
                  <a:pt x="240" y="642"/>
                </a:lnTo>
                <a:lnTo>
                  <a:pt x="260" y="684"/>
                </a:lnTo>
                <a:lnTo>
                  <a:pt x="281" y="725"/>
                </a:lnTo>
                <a:lnTo>
                  <a:pt x="302" y="767"/>
                </a:lnTo>
                <a:lnTo>
                  <a:pt x="325" y="807"/>
                </a:lnTo>
                <a:lnTo>
                  <a:pt x="348" y="848"/>
                </a:lnTo>
                <a:lnTo>
                  <a:pt x="373" y="886"/>
                </a:lnTo>
                <a:lnTo>
                  <a:pt x="528" y="1036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Freeform 85"/>
          <p:cNvSpPr/>
          <p:nvPr/>
        </p:nvSpPr>
        <p:spPr>
          <a:xfrm>
            <a:off x="4979880" y="1114560"/>
            <a:ext cx="173160" cy="1542960"/>
          </a:xfrm>
          <a:custGeom>
            <a:avLst/>
            <a:gdLst>
              <a:gd name="textAreaLeft" fmla="*/ 0 w 173160"/>
              <a:gd name="textAreaRight" fmla="*/ 173160 w 173160"/>
              <a:gd name="textAreaTop" fmla="*/ 0 h 1542960"/>
              <a:gd name="textAreaBottom" fmla="*/ 1543320 h 1542960"/>
            </a:gdLst>
            <a:ahLst/>
            <a:rect l="textAreaLeft" t="textAreaTop" r="textAreaRight" b="textAreaBottom"/>
            <a:pathLst>
              <a:path w="109" h="972">
                <a:moveTo>
                  <a:pt x="48" y="907"/>
                </a:moveTo>
                <a:lnTo>
                  <a:pt x="48" y="899"/>
                </a:lnTo>
                <a:lnTo>
                  <a:pt x="48" y="892"/>
                </a:lnTo>
                <a:lnTo>
                  <a:pt x="48" y="884"/>
                </a:lnTo>
                <a:lnTo>
                  <a:pt x="50" y="876"/>
                </a:lnTo>
                <a:lnTo>
                  <a:pt x="50" y="869"/>
                </a:lnTo>
                <a:lnTo>
                  <a:pt x="52" y="861"/>
                </a:lnTo>
                <a:lnTo>
                  <a:pt x="52" y="851"/>
                </a:lnTo>
                <a:lnTo>
                  <a:pt x="54" y="844"/>
                </a:lnTo>
                <a:lnTo>
                  <a:pt x="54" y="821"/>
                </a:lnTo>
                <a:lnTo>
                  <a:pt x="54" y="799"/>
                </a:lnTo>
                <a:lnTo>
                  <a:pt x="50" y="778"/>
                </a:lnTo>
                <a:lnTo>
                  <a:pt x="46" y="757"/>
                </a:lnTo>
                <a:lnTo>
                  <a:pt x="42" y="736"/>
                </a:lnTo>
                <a:lnTo>
                  <a:pt x="38" y="715"/>
                </a:lnTo>
                <a:lnTo>
                  <a:pt x="34" y="694"/>
                </a:lnTo>
                <a:lnTo>
                  <a:pt x="32" y="673"/>
                </a:lnTo>
                <a:lnTo>
                  <a:pt x="27" y="590"/>
                </a:lnTo>
                <a:lnTo>
                  <a:pt x="19" y="510"/>
                </a:lnTo>
                <a:lnTo>
                  <a:pt x="11" y="427"/>
                </a:lnTo>
                <a:lnTo>
                  <a:pt x="6" y="347"/>
                </a:lnTo>
                <a:lnTo>
                  <a:pt x="2" y="264"/>
                </a:lnTo>
                <a:lnTo>
                  <a:pt x="0" y="184"/>
                </a:lnTo>
                <a:lnTo>
                  <a:pt x="0" y="141"/>
                </a:lnTo>
                <a:lnTo>
                  <a:pt x="2" y="101"/>
                </a:lnTo>
                <a:lnTo>
                  <a:pt x="6" y="61"/>
                </a:lnTo>
                <a:lnTo>
                  <a:pt x="9" y="19"/>
                </a:lnTo>
                <a:lnTo>
                  <a:pt x="9" y="17"/>
                </a:lnTo>
                <a:lnTo>
                  <a:pt x="9" y="13"/>
                </a:lnTo>
                <a:lnTo>
                  <a:pt x="11" y="9"/>
                </a:lnTo>
                <a:lnTo>
                  <a:pt x="11" y="7"/>
                </a:lnTo>
                <a:lnTo>
                  <a:pt x="13" y="3"/>
                </a:lnTo>
                <a:lnTo>
                  <a:pt x="15" y="0"/>
                </a:lnTo>
                <a:lnTo>
                  <a:pt x="19" y="0"/>
                </a:lnTo>
                <a:lnTo>
                  <a:pt x="25" y="0"/>
                </a:lnTo>
                <a:lnTo>
                  <a:pt x="21" y="5"/>
                </a:lnTo>
                <a:lnTo>
                  <a:pt x="19" y="11"/>
                </a:lnTo>
                <a:lnTo>
                  <a:pt x="17" y="17"/>
                </a:lnTo>
                <a:lnTo>
                  <a:pt x="15" y="23"/>
                </a:lnTo>
                <a:lnTo>
                  <a:pt x="15" y="30"/>
                </a:lnTo>
                <a:lnTo>
                  <a:pt x="13" y="36"/>
                </a:lnTo>
                <a:lnTo>
                  <a:pt x="11" y="42"/>
                </a:lnTo>
                <a:lnTo>
                  <a:pt x="9" y="47"/>
                </a:lnTo>
                <a:lnTo>
                  <a:pt x="7" y="59"/>
                </a:lnTo>
                <a:lnTo>
                  <a:pt x="7" y="72"/>
                </a:lnTo>
                <a:lnTo>
                  <a:pt x="11" y="84"/>
                </a:lnTo>
                <a:lnTo>
                  <a:pt x="15" y="97"/>
                </a:lnTo>
                <a:lnTo>
                  <a:pt x="19" y="109"/>
                </a:lnTo>
                <a:lnTo>
                  <a:pt x="23" y="122"/>
                </a:lnTo>
                <a:lnTo>
                  <a:pt x="27" y="134"/>
                </a:lnTo>
                <a:lnTo>
                  <a:pt x="27" y="147"/>
                </a:lnTo>
                <a:lnTo>
                  <a:pt x="29" y="191"/>
                </a:lnTo>
                <a:lnTo>
                  <a:pt x="31" y="235"/>
                </a:lnTo>
                <a:lnTo>
                  <a:pt x="34" y="280"/>
                </a:lnTo>
                <a:lnTo>
                  <a:pt x="38" y="324"/>
                </a:lnTo>
                <a:lnTo>
                  <a:pt x="42" y="368"/>
                </a:lnTo>
                <a:lnTo>
                  <a:pt x="46" y="412"/>
                </a:lnTo>
                <a:lnTo>
                  <a:pt x="48" y="456"/>
                </a:lnTo>
                <a:lnTo>
                  <a:pt x="50" y="500"/>
                </a:lnTo>
                <a:lnTo>
                  <a:pt x="52" y="512"/>
                </a:lnTo>
                <a:lnTo>
                  <a:pt x="54" y="525"/>
                </a:lnTo>
                <a:lnTo>
                  <a:pt x="55" y="537"/>
                </a:lnTo>
                <a:lnTo>
                  <a:pt x="59" y="548"/>
                </a:lnTo>
                <a:lnTo>
                  <a:pt x="61" y="560"/>
                </a:lnTo>
                <a:lnTo>
                  <a:pt x="65" y="573"/>
                </a:lnTo>
                <a:lnTo>
                  <a:pt x="69" y="585"/>
                </a:lnTo>
                <a:lnTo>
                  <a:pt x="71" y="596"/>
                </a:lnTo>
                <a:lnTo>
                  <a:pt x="77" y="636"/>
                </a:lnTo>
                <a:lnTo>
                  <a:pt x="80" y="677"/>
                </a:lnTo>
                <a:lnTo>
                  <a:pt x="84" y="715"/>
                </a:lnTo>
                <a:lnTo>
                  <a:pt x="86" y="755"/>
                </a:lnTo>
                <a:lnTo>
                  <a:pt x="90" y="794"/>
                </a:lnTo>
                <a:lnTo>
                  <a:pt x="92" y="834"/>
                </a:lnTo>
                <a:lnTo>
                  <a:pt x="98" y="874"/>
                </a:lnTo>
                <a:lnTo>
                  <a:pt x="105" y="915"/>
                </a:lnTo>
                <a:lnTo>
                  <a:pt x="107" y="920"/>
                </a:lnTo>
                <a:lnTo>
                  <a:pt x="109" y="928"/>
                </a:lnTo>
                <a:lnTo>
                  <a:pt x="109" y="936"/>
                </a:lnTo>
                <a:lnTo>
                  <a:pt x="107" y="943"/>
                </a:lnTo>
                <a:lnTo>
                  <a:pt x="107" y="951"/>
                </a:lnTo>
                <a:lnTo>
                  <a:pt x="107" y="959"/>
                </a:lnTo>
                <a:lnTo>
                  <a:pt x="107" y="964"/>
                </a:lnTo>
                <a:lnTo>
                  <a:pt x="105" y="972"/>
                </a:lnTo>
                <a:lnTo>
                  <a:pt x="48" y="907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Freeform 86"/>
          <p:cNvSpPr/>
          <p:nvPr/>
        </p:nvSpPr>
        <p:spPr>
          <a:xfrm>
            <a:off x="5245200" y="1162080"/>
            <a:ext cx="225360" cy="1365120"/>
          </a:xfrm>
          <a:custGeom>
            <a:avLst/>
            <a:gdLst>
              <a:gd name="textAreaLeft" fmla="*/ 0 w 225360"/>
              <a:gd name="textAreaRight" fmla="*/ 225720 w 225360"/>
              <a:gd name="textAreaTop" fmla="*/ 0 h 1365120"/>
              <a:gd name="textAreaBottom" fmla="*/ 1365120 h 1365120"/>
            </a:gdLst>
            <a:ahLst/>
            <a:rect l="textAreaLeft" t="textAreaTop" r="textAreaRight" b="textAreaBottom"/>
            <a:pathLst>
              <a:path w="142" h="860">
                <a:moveTo>
                  <a:pt x="0" y="860"/>
                </a:moveTo>
                <a:lnTo>
                  <a:pt x="2" y="827"/>
                </a:lnTo>
                <a:lnTo>
                  <a:pt x="4" y="796"/>
                </a:lnTo>
                <a:lnTo>
                  <a:pt x="4" y="764"/>
                </a:lnTo>
                <a:lnTo>
                  <a:pt x="4" y="733"/>
                </a:lnTo>
                <a:lnTo>
                  <a:pt x="5" y="700"/>
                </a:lnTo>
                <a:lnTo>
                  <a:pt x="7" y="670"/>
                </a:lnTo>
                <a:lnTo>
                  <a:pt x="11" y="639"/>
                </a:lnTo>
                <a:lnTo>
                  <a:pt x="19" y="610"/>
                </a:lnTo>
                <a:lnTo>
                  <a:pt x="23" y="595"/>
                </a:lnTo>
                <a:lnTo>
                  <a:pt x="27" y="580"/>
                </a:lnTo>
                <a:lnTo>
                  <a:pt x="30" y="564"/>
                </a:lnTo>
                <a:lnTo>
                  <a:pt x="34" y="549"/>
                </a:lnTo>
                <a:lnTo>
                  <a:pt x="36" y="534"/>
                </a:lnTo>
                <a:lnTo>
                  <a:pt x="38" y="518"/>
                </a:lnTo>
                <a:lnTo>
                  <a:pt x="40" y="503"/>
                </a:lnTo>
                <a:lnTo>
                  <a:pt x="40" y="487"/>
                </a:lnTo>
                <a:lnTo>
                  <a:pt x="44" y="424"/>
                </a:lnTo>
                <a:lnTo>
                  <a:pt x="50" y="363"/>
                </a:lnTo>
                <a:lnTo>
                  <a:pt x="57" y="301"/>
                </a:lnTo>
                <a:lnTo>
                  <a:pt x="67" y="240"/>
                </a:lnTo>
                <a:lnTo>
                  <a:pt x="80" y="179"/>
                </a:lnTo>
                <a:lnTo>
                  <a:pt x="94" y="119"/>
                </a:lnTo>
                <a:lnTo>
                  <a:pt x="111" y="60"/>
                </a:lnTo>
                <a:lnTo>
                  <a:pt x="130" y="0"/>
                </a:lnTo>
                <a:lnTo>
                  <a:pt x="134" y="6"/>
                </a:lnTo>
                <a:lnTo>
                  <a:pt x="138" y="14"/>
                </a:lnTo>
                <a:lnTo>
                  <a:pt x="140" y="21"/>
                </a:lnTo>
                <a:lnTo>
                  <a:pt x="142" y="27"/>
                </a:lnTo>
                <a:lnTo>
                  <a:pt x="142" y="35"/>
                </a:lnTo>
                <a:lnTo>
                  <a:pt x="142" y="42"/>
                </a:lnTo>
                <a:lnTo>
                  <a:pt x="142" y="50"/>
                </a:lnTo>
                <a:lnTo>
                  <a:pt x="140" y="58"/>
                </a:lnTo>
                <a:lnTo>
                  <a:pt x="134" y="88"/>
                </a:lnTo>
                <a:lnTo>
                  <a:pt x="128" y="117"/>
                </a:lnTo>
                <a:lnTo>
                  <a:pt x="123" y="148"/>
                </a:lnTo>
                <a:lnTo>
                  <a:pt x="117" y="177"/>
                </a:lnTo>
                <a:lnTo>
                  <a:pt x="109" y="205"/>
                </a:lnTo>
                <a:lnTo>
                  <a:pt x="103" y="234"/>
                </a:lnTo>
                <a:lnTo>
                  <a:pt x="98" y="265"/>
                </a:lnTo>
                <a:lnTo>
                  <a:pt x="92" y="294"/>
                </a:lnTo>
                <a:lnTo>
                  <a:pt x="90" y="298"/>
                </a:lnTo>
                <a:lnTo>
                  <a:pt x="88" y="301"/>
                </a:lnTo>
                <a:lnTo>
                  <a:pt x="84" y="305"/>
                </a:lnTo>
                <a:lnTo>
                  <a:pt x="82" y="309"/>
                </a:lnTo>
                <a:lnTo>
                  <a:pt x="78" y="313"/>
                </a:lnTo>
                <a:lnTo>
                  <a:pt x="75" y="317"/>
                </a:lnTo>
                <a:lnTo>
                  <a:pt x="73" y="321"/>
                </a:lnTo>
                <a:lnTo>
                  <a:pt x="71" y="324"/>
                </a:lnTo>
                <a:lnTo>
                  <a:pt x="71" y="351"/>
                </a:lnTo>
                <a:lnTo>
                  <a:pt x="69" y="378"/>
                </a:lnTo>
                <a:lnTo>
                  <a:pt x="65" y="405"/>
                </a:lnTo>
                <a:lnTo>
                  <a:pt x="63" y="432"/>
                </a:lnTo>
                <a:lnTo>
                  <a:pt x="59" y="459"/>
                </a:lnTo>
                <a:lnTo>
                  <a:pt x="55" y="486"/>
                </a:lnTo>
                <a:lnTo>
                  <a:pt x="53" y="514"/>
                </a:lnTo>
                <a:lnTo>
                  <a:pt x="52" y="541"/>
                </a:lnTo>
                <a:lnTo>
                  <a:pt x="50" y="547"/>
                </a:lnTo>
                <a:lnTo>
                  <a:pt x="48" y="555"/>
                </a:lnTo>
                <a:lnTo>
                  <a:pt x="44" y="560"/>
                </a:lnTo>
                <a:lnTo>
                  <a:pt x="40" y="566"/>
                </a:lnTo>
                <a:lnTo>
                  <a:pt x="36" y="572"/>
                </a:lnTo>
                <a:lnTo>
                  <a:pt x="34" y="578"/>
                </a:lnTo>
                <a:lnTo>
                  <a:pt x="32" y="583"/>
                </a:lnTo>
                <a:lnTo>
                  <a:pt x="30" y="589"/>
                </a:lnTo>
                <a:lnTo>
                  <a:pt x="30" y="618"/>
                </a:lnTo>
                <a:lnTo>
                  <a:pt x="29" y="645"/>
                </a:lnTo>
                <a:lnTo>
                  <a:pt x="27" y="672"/>
                </a:lnTo>
                <a:lnTo>
                  <a:pt x="23" y="699"/>
                </a:lnTo>
                <a:lnTo>
                  <a:pt x="21" y="725"/>
                </a:lnTo>
                <a:lnTo>
                  <a:pt x="19" y="754"/>
                </a:lnTo>
                <a:lnTo>
                  <a:pt x="17" y="781"/>
                </a:lnTo>
                <a:lnTo>
                  <a:pt x="19" y="808"/>
                </a:lnTo>
                <a:lnTo>
                  <a:pt x="0" y="86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Freeform 87"/>
          <p:cNvSpPr/>
          <p:nvPr/>
        </p:nvSpPr>
        <p:spPr>
          <a:xfrm>
            <a:off x="3209760" y="2986200"/>
            <a:ext cx="1819440" cy="131760"/>
          </a:xfrm>
          <a:custGeom>
            <a:avLst/>
            <a:gdLst>
              <a:gd name="textAreaLeft" fmla="*/ 0 w 1819440"/>
              <a:gd name="textAreaRight" fmla="*/ 1819800 w 181944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1146" h="83">
                <a:moveTo>
                  <a:pt x="1146" y="58"/>
                </a:moveTo>
                <a:lnTo>
                  <a:pt x="1092" y="50"/>
                </a:lnTo>
                <a:lnTo>
                  <a:pt x="1038" y="46"/>
                </a:lnTo>
                <a:lnTo>
                  <a:pt x="984" y="44"/>
                </a:lnTo>
                <a:lnTo>
                  <a:pt x="929" y="43"/>
                </a:lnTo>
                <a:lnTo>
                  <a:pt x="875" y="43"/>
                </a:lnTo>
                <a:lnTo>
                  <a:pt x="819" y="41"/>
                </a:lnTo>
                <a:lnTo>
                  <a:pt x="766" y="37"/>
                </a:lnTo>
                <a:lnTo>
                  <a:pt x="710" y="27"/>
                </a:lnTo>
                <a:lnTo>
                  <a:pt x="668" y="21"/>
                </a:lnTo>
                <a:lnTo>
                  <a:pt x="627" y="18"/>
                </a:lnTo>
                <a:lnTo>
                  <a:pt x="587" y="18"/>
                </a:lnTo>
                <a:lnTo>
                  <a:pt x="547" y="20"/>
                </a:lnTo>
                <a:lnTo>
                  <a:pt x="509" y="23"/>
                </a:lnTo>
                <a:lnTo>
                  <a:pt x="468" y="27"/>
                </a:lnTo>
                <a:lnTo>
                  <a:pt x="430" y="33"/>
                </a:lnTo>
                <a:lnTo>
                  <a:pt x="390" y="39"/>
                </a:lnTo>
                <a:lnTo>
                  <a:pt x="370" y="41"/>
                </a:lnTo>
                <a:lnTo>
                  <a:pt x="349" y="41"/>
                </a:lnTo>
                <a:lnTo>
                  <a:pt x="330" y="41"/>
                </a:lnTo>
                <a:lnTo>
                  <a:pt x="311" y="41"/>
                </a:lnTo>
                <a:lnTo>
                  <a:pt x="292" y="41"/>
                </a:lnTo>
                <a:lnTo>
                  <a:pt x="271" y="41"/>
                </a:lnTo>
                <a:lnTo>
                  <a:pt x="251" y="41"/>
                </a:lnTo>
                <a:lnTo>
                  <a:pt x="232" y="43"/>
                </a:lnTo>
                <a:lnTo>
                  <a:pt x="202" y="48"/>
                </a:lnTo>
                <a:lnTo>
                  <a:pt x="173" y="52"/>
                </a:lnTo>
                <a:lnTo>
                  <a:pt x="144" y="54"/>
                </a:lnTo>
                <a:lnTo>
                  <a:pt x="113" y="56"/>
                </a:lnTo>
                <a:lnTo>
                  <a:pt x="84" y="58"/>
                </a:lnTo>
                <a:lnTo>
                  <a:pt x="56" y="62"/>
                </a:lnTo>
                <a:lnTo>
                  <a:pt x="29" y="67"/>
                </a:lnTo>
                <a:lnTo>
                  <a:pt x="0" y="77"/>
                </a:lnTo>
                <a:lnTo>
                  <a:pt x="35" y="81"/>
                </a:lnTo>
                <a:lnTo>
                  <a:pt x="67" y="83"/>
                </a:lnTo>
                <a:lnTo>
                  <a:pt x="102" y="81"/>
                </a:lnTo>
                <a:lnTo>
                  <a:pt x="136" y="77"/>
                </a:lnTo>
                <a:lnTo>
                  <a:pt x="169" y="73"/>
                </a:lnTo>
                <a:lnTo>
                  <a:pt x="203" y="67"/>
                </a:lnTo>
                <a:lnTo>
                  <a:pt x="238" y="64"/>
                </a:lnTo>
                <a:lnTo>
                  <a:pt x="273" y="62"/>
                </a:lnTo>
                <a:lnTo>
                  <a:pt x="280" y="60"/>
                </a:lnTo>
                <a:lnTo>
                  <a:pt x="288" y="58"/>
                </a:lnTo>
                <a:lnTo>
                  <a:pt x="296" y="54"/>
                </a:lnTo>
                <a:lnTo>
                  <a:pt x="305" y="50"/>
                </a:lnTo>
                <a:lnTo>
                  <a:pt x="313" y="46"/>
                </a:lnTo>
                <a:lnTo>
                  <a:pt x="320" y="43"/>
                </a:lnTo>
                <a:lnTo>
                  <a:pt x="328" y="41"/>
                </a:lnTo>
                <a:lnTo>
                  <a:pt x="336" y="39"/>
                </a:lnTo>
                <a:lnTo>
                  <a:pt x="395" y="33"/>
                </a:lnTo>
                <a:lnTo>
                  <a:pt x="453" y="31"/>
                </a:lnTo>
                <a:lnTo>
                  <a:pt x="512" y="29"/>
                </a:lnTo>
                <a:lnTo>
                  <a:pt x="570" y="29"/>
                </a:lnTo>
                <a:lnTo>
                  <a:pt x="627" y="27"/>
                </a:lnTo>
                <a:lnTo>
                  <a:pt x="687" y="25"/>
                </a:lnTo>
                <a:lnTo>
                  <a:pt x="745" y="21"/>
                </a:lnTo>
                <a:lnTo>
                  <a:pt x="804" y="16"/>
                </a:lnTo>
                <a:lnTo>
                  <a:pt x="812" y="16"/>
                </a:lnTo>
                <a:lnTo>
                  <a:pt x="819" y="14"/>
                </a:lnTo>
                <a:lnTo>
                  <a:pt x="827" y="12"/>
                </a:lnTo>
                <a:lnTo>
                  <a:pt x="833" y="10"/>
                </a:lnTo>
                <a:lnTo>
                  <a:pt x="840" y="6"/>
                </a:lnTo>
                <a:lnTo>
                  <a:pt x="848" y="4"/>
                </a:lnTo>
                <a:lnTo>
                  <a:pt x="856" y="2"/>
                </a:lnTo>
                <a:lnTo>
                  <a:pt x="863" y="0"/>
                </a:lnTo>
                <a:lnTo>
                  <a:pt x="1146" y="58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Freeform 88"/>
          <p:cNvSpPr/>
          <p:nvPr/>
        </p:nvSpPr>
        <p:spPr>
          <a:xfrm>
            <a:off x="3575160" y="1722600"/>
            <a:ext cx="1428480" cy="1108080"/>
          </a:xfrm>
          <a:custGeom>
            <a:avLst/>
            <a:gdLst>
              <a:gd name="textAreaLeft" fmla="*/ 0 w 1428480"/>
              <a:gd name="textAreaRight" fmla="*/ 1428840 w 1428480"/>
              <a:gd name="textAreaTop" fmla="*/ 0 h 1108080"/>
              <a:gd name="textAreaBottom" fmla="*/ 1108440 h 1108080"/>
            </a:gdLst>
            <a:ahLst/>
            <a:rect l="textAreaLeft" t="textAreaTop" r="textAreaRight" b="textAreaBottom"/>
            <a:pathLst>
              <a:path w="900" h="698">
                <a:moveTo>
                  <a:pt x="816" y="635"/>
                </a:moveTo>
                <a:lnTo>
                  <a:pt x="793" y="622"/>
                </a:lnTo>
                <a:lnTo>
                  <a:pt x="768" y="610"/>
                </a:lnTo>
                <a:lnTo>
                  <a:pt x="743" y="603"/>
                </a:lnTo>
                <a:lnTo>
                  <a:pt x="718" y="595"/>
                </a:lnTo>
                <a:lnTo>
                  <a:pt x="693" y="585"/>
                </a:lnTo>
                <a:lnTo>
                  <a:pt x="668" y="576"/>
                </a:lnTo>
                <a:lnTo>
                  <a:pt x="643" y="564"/>
                </a:lnTo>
                <a:lnTo>
                  <a:pt x="618" y="547"/>
                </a:lnTo>
                <a:lnTo>
                  <a:pt x="595" y="532"/>
                </a:lnTo>
                <a:lnTo>
                  <a:pt x="570" y="520"/>
                </a:lnTo>
                <a:lnTo>
                  <a:pt x="547" y="510"/>
                </a:lnTo>
                <a:lnTo>
                  <a:pt x="520" y="503"/>
                </a:lnTo>
                <a:lnTo>
                  <a:pt x="495" y="495"/>
                </a:lnTo>
                <a:lnTo>
                  <a:pt x="470" y="486"/>
                </a:lnTo>
                <a:lnTo>
                  <a:pt x="444" y="476"/>
                </a:lnTo>
                <a:lnTo>
                  <a:pt x="419" y="464"/>
                </a:lnTo>
                <a:lnTo>
                  <a:pt x="411" y="461"/>
                </a:lnTo>
                <a:lnTo>
                  <a:pt x="405" y="455"/>
                </a:lnTo>
                <a:lnTo>
                  <a:pt x="397" y="449"/>
                </a:lnTo>
                <a:lnTo>
                  <a:pt x="390" y="445"/>
                </a:lnTo>
                <a:lnTo>
                  <a:pt x="384" y="440"/>
                </a:lnTo>
                <a:lnTo>
                  <a:pt x="376" y="434"/>
                </a:lnTo>
                <a:lnTo>
                  <a:pt x="369" y="430"/>
                </a:lnTo>
                <a:lnTo>
                  <a:pt x="361" y="428"/>
                </a:lnTo>
                <a:lnTo>
                  <a:pt x="346" y="422"/>
                </a:lnTo>
                <a:lnTo>
                  <a:pt x="332" y="418"/>
                </a:lnTo>
                <a:lnTo>
                  <a:pt x="319" y="415"/>
                </a:lnTo>
                <a:lnTo>
                  <a:pt x="305" y="411"/>
                </a:lnTo>
                <a:lnTo>
                  <a:pt x="292" y="407"/>
                </a:lnTo>
                <a:lnTo>
                  <a:pt x="279" y="403"/>
                </a:lnTo>
                <a:lnTo>
                  <a:pt x="263" y="399"/>
                </a:lnTo>
                <a:lnTo>
                  <a:pt x="248" y="397"/>
                </a:lnTo>
                <a:lnTo>
                  <a:pt x="242" y="395"/>
                </a:lnTo>
                <a:lnTo>
                  <a:pt x="236" y="392"/>
                </a:lnTo>
                <a:lnTo>
                  <a:pt x="231" y="388"/>
                </a:lnTo>
                <a:lnTo>
                  <a:pt x="225" y="384"/>
                </a:lnTo>
                <a:lnTo>
                  <a:pt x="219" y="378"/>
                </a:lnTo>
                <a:lnTo>
                  <a:pt x="213" y="374"/>
                </a:lnTo>
                <a:lnTo>
                  <a:pt x="208" y="370"/>
                </a:lnTo>
                <a:lnTo>
                  <a:pt x="200" y="367"/>
                </a:lnTo>
                <a:lnTo>
                  <a:pt x="196" y="365"/>
                </a:lnTo>
                <a:lnTo>
                  <a:pt x="190" y="365"/>
                </a:lnTo>
                <a:lnTo>
                  <a:pt x="184" y="365"/>
                </a:lnTo>
                <a:lnTo>
                  <a:pt x="179" y="365"/>
                </a:lnTo>
                <a:lnTo>
                  <a:pt x="173" y="365"/>
                </a:lnTo>
                <a:lnTo>
                  <a:pt x="165" y="365"/>
                </a:lnTo>
                <a:lnTo>
                  <a:pt x="160" y="365"/>
                </a:lnTo>
                <a:lnTo>
                  <a:pt x="154" y="363"/>
                </a:lnTo>
                <a:lnTo>
                  <a:pt x="138" y="357"/>
                </a:lnTo>
                <a:lnTo>
                  <a:pt x="123" y="347"/>
                </a:lnTo>
                <a:lnTo>
                  <a:pt x="110" y="336"/>
                </a:lnTo>
                <a:lnTo>
                  <a:pt x="96" y="324"/>
                </a:lnTo>
                <a:lnTo>
                  <a:pt x="83" y="313"/>
                </a:lnTo>
                <a:lnTo>
                  <a:pt x="69" y="301"/>
                </a:lnTo>
                <a:lnTo>
                  <a:pt x="56" y="290"/>
                </a:lnTo>
                <a:lnTo>
                  <a:pt x="43" y="276"/>
                </a:lnTo>
                <a:lnTo>
                  <a:pt x="37" y="275"/>
                </a:lnTo>
                <a:lnTo>
                  <a:pt x="31" y="273"/>
                </a:lnTo>
                <a:lnTo>
                  <a:pt x="25" y="271"/>
                </a:lnTo>
                <a:lnTo>
                  <a:pt x="19" y="269"/>
                </a:lnTo>
                <a:lnTo>
                  <a:pt x="14" y="267"/>
                </a:lnTo>
                <a:lnTo>
                  <a:pt x="10" y="265"/>
                </a:lnTo>
                <a:lnTo>
                  <a:pt x="6" y="259"/>
                </a:lnTo>
                <a:lnTo>
                  <a:pt x="2" y="253"/>
                </a:lnTo>
                <a:lnTo>
                  <a:pt x="0" y="252"/>
                </a:lnTo>
                <a:lnTo>
                  <a:pt x="0" y="248"/>
                </a:lnTo>
                <a:lnTo>
                  <a:pt x="0" y="246"/>
                </a:lnTo>
                <a:lnTo>
                  <a:pt x="0" y="242"/>
                </a:lnTo>
                <a:lnTo>
                  <a:pt x="0" y="240"/>
                </a:lnTo>
                <a:lnTo>
                  <a:pt x="2" y="238"/>
                </a:lnTo>
                <a:lnTo>
                  <a:pt x="4" y="236"/>
                </a:lnTo>
                <a:lnTo>
                  <a:pt x="6" y="236"/>
                </a:lnTo>
                <a:lnTo>
                  <a:pt x="23" y="238"/>
                </a:lnTo>
                <a:lnTo>
                  <a:pt x="39" y="242"/>
                </a:lnTo>
                <a:lnTo>
                  <a:pt x="56" y="244"/>
                </a:lnTo>
                <a:lnTo>
                  <a:pt x="71" y="248"/>
                </a:lnTo>
                <a:lnTo>
                  <a:pt x="87" y="253"/>
                </a:lnTo>
                <a:lnTo>
                  <a:pt x="100" y="261"/>
                </a:lnTo>
                <a:lnTo>
                  <a:pt x="115" y="269"/>
                </a:lnTo>
                <a:lnTo>
                  <a:pt x="129" y="280"/>
                </a:lnTo>
                <a:lnTo>
                  <a:pt x="133" y="282"/>
                </a:lnTo>
                <a:lnTo>
                  <a:pt x="137" y="286"/>
                </a:lnTo>
                <a:lnTo>
                  <a:pt x="140" y="290"/>
                </a:lnTo>
                <a:lnTo>
                  <a:pt x="142" y="296"/>
                </a:lnTo>
                <a:lnTo>
                  <a:pt x="146" y="299"/>
                </a:lnTo>
                <a:lnTo>
                  <a:pt x="148" y="303"/>
                </a:lnTo>
                <a:lnTo>
                  <a:pt x="150" y="307"/>
                </a:lnTo>
                <a:lnTo>
                  <a:pt x="154" y="311"/>
                </a:lnTo>
                <a:lnTo>
                  <a:pt x="160" y="313"/>
                </a:lnTo>
                <a:lnTo>
                  <a:pt x="165" y="317"/>
                </a:lnTo>
                <a:lnTo>
                  <a:pt x="173" y="317"/>
                </a:lnTo>
                <a:lnTo>
                  <a:pt x="179" y="319"/>
                </a:lnTo>
                <a:lnTo>
                  <a:pt x="184" y="321"/>
                </a:lnTo>
                <a:lnTo>
                  <a:pt x="190" y="321"/>
                </a:lnTo>
                <a:lnTo>
                  <a:pt x="196" y="322"/>
                </a:lnTo>
                <a:lnTo>
                  <a:pt x="200" y="326"/>
                </a:lnTo>
                <a:lnTo>
                  <a:pt x="221" y="344"/>
                </a:lnTo>
                <a:lnTo>
                  <a:pt x="244" y="359"/>
                </a:lnTo>
                <a:lnTo>
                  <a:pt x="265" y="372"/>
                </a:lnTo>
                <a:lnTo>
                  <a:pt x="288" y="386"/>
                </a:lnTo>
                <a:lnTo>
                  <a:pt x="311" y="399"/>
                </a:lnTo>
                <a:lnTo>
                  <a:pt x="334" y="413"/>
                </a:lnTo>
                <a:lnTo>
                  <a:pt x="357" y="424"/>
                </a:lnTo>
                <a:lnTo>
                  <a:pt x="380" y="438"/>
                </a:lnTo>
                <a:lnTo>
                  <a:pt x="392" y="443"/>
                </a:lnTo>
                <a:lnTo>
                  <a:pt x="403" y="451"/>
                </a:lnTo>
                <a:lnTo>
                  <a:pt x="413" y="457"/>
                </a:lnTo>
                <a:lnTo>
                  <a:pt x="424" y="463"/>
                </a:lnTo>
                <a:lnTo>
                  <a:pt x="438" y="466"/>
                </a:lnTo>
                <a:lnTo>
                  <a:pt x="449" y="470"/>
                </a:lnTo>
                <a:lnTo>
                  <a:pt x="463" y="474"/>
                </a:lnTo>
                <a:lnTo>
                  <a:pt x="474" y="478"/>
                </a:lnTo>
                <a:lnTo>
                  <a:pt x="507" y="487"/>
                </a:lnTo>
                <a:lnTo>
                  <a:pt x="536" y="499"/>
                </a:lnTo>
                <a:lnTo>
                  <a:pt x="564" y="510"/>
                </a:lnTo>
                <a:lnTo>
                  <a:pt x="593" y="524"/>
                </a:lnTo>
                <a:lnTo>
                  <a:pt x="620" y="537"/>
                </a:lnTo>
                <a:lnTo>
                  <a:pt x="649" y="551"/>
                </a:lnTo>
                <a:lnTo>
                  <a:pt x="678" y="562"/>
                </a:lnTo>
                <a:lnTo>
                  <a:pt x="708" y="570"/>
                </a:lnTo>
                <a:lnTo>
                  <a:pt x="720" y="572"/>
                </a:lnTo>
                <a:lnTo>
                  <a:pt x="729" y="574"/>
                </a:lnTo>
                <a:lnTo>
                  <a:pt x="739" y="576"/>
                </a:lnTo>
                <a:lnTo>
                  <a:pt x="750" y="578"/>
                </a:lnTo>
                <a:lnTo>
                  <a:pt x="760" y="580"/>
                </a:lnTo>
                <a:lnTo>
                  <a:pt x="770" y="581"/>
                </a:lnTo>
                <a:lnTo>
                  <a:pt x="779" y="583"/>
                </a:lnTo>
                <a:lnTo>
                  <a:pt x="791" y="585"/>
                </a:lnTo>
                <a:lnTo>
                  <a:pt x="795" y="585"/>
                </a:lnTo>
                <a:lnTo>
                  <a:pt x="798" y="587"/>
                </a:lnTo>
                <a:lnTo>
                  <a:pt x="802" y="589"/>
                </a:lnTo>
                <a:lnTo>
                  <a:pt x="806" y="591"/>
                </a:lnTo>
                <a:lnTo>
                  <a:pt x="810" y="595"/>
                </a:lnTo>
                <a:lnTo>
                  <a:pt x="814" y="599"/>
                </a:lnTo>
                <a:lnTo>
                  <a:pt x="818" y="601"/>
                </a:lnTo>
                <a:lnTo>
                  <a:pt x="821" y="603"/>
                </a:lnTo>
                <a:lnTo>
                  <a:pt x="804" y="597"/>
                </a:lnTo>
                <a:lnTo>
                  <a:pt x="791" y="587"/>
                </a:lnTo>
                <a:lnTo>
                  <a:pt x="775" y="580"/>
                </a:lnTo>
                <a:lnTo>
                  <a:pt x="762" y="570"/>
                </a:lnTo>
                <a:lnTo>
                  <a:pt x="749" y="558"/>
                </a:lnTo>
                <a:lnTo>
                  <a:pt x="733" y="549"/>
                </a:lnTo>
                <a:lnTo>
                  <a:pt x="718" y="539"/>
                </a:lnTo>
                <a:lnTo>
                  <a:pt x="701" y="532"/>
                </a:lnTo>
                <a:lnTo>
                  <a:pt x="691" y="524"/>
                </a:lnTo>
                <a:lnTo>
                  <a:pt x="681" y="516"/>
                </a:lnTo>
                <a:lnTo>
                  <a:pt x="674" y="507"/>
                </a:lnTo>
                <a:lnTo>
                  <a:pt x="668" y="495"/>
                </a:lnTo>
                <a:lnTo>
                  <a:pt x="662" y="484"/>
                </a:lnTo>
                <a:lnTo>
                  <a:pt x="655" y="472"/>
                </a:lnTo>
                <a:lnTo>
                  <a:pt x="649" y="463"/>
                </a:lnTo>
                <a:lnTo>
                  <a:pt x="641" y="453"/>
                </a:lnTo>
                <a:lnTo>
                  <a:pt x="578" y="397"/>
                </a:lnTo>
                <a:lnTo>
                  <a:pt x="516" y="344"/>
                </a:lnTo>
                <a:lnTo>
                  <a:pt x="457" y="290"/>
                </a:lnTo>
                <a:lnTo>
                  <a:pt x="396" y="236"/>
                </a:lnTo>
                <a:lnTo>
                  <a:pt x="336" y="182"/>
                </a:lnTo>
                <a:lnTo>
                  <a:pt x="279" y="125"/>
                </a:lnTo>
                <a:lnTo>
                  <a:pt x="223" y="67"/>
                </a:lnTo>
                <a:lnTo>
                  <a:pt x="167" y="6"/>
                </a:lnTo>
                <a:lnTo>
                  <a:pt x="163" y="4"/>
                </a:lnTo>
                <a:lnTo>
                  <a:pt x="160" y="2"/>
                </a:lnTo>
                <a:lnTo>
                  <a:pt x="156" y="0"/>
                </a:lnTo>
                <a:lnTo>
                  <a:pt x="150" y="0"/>
                </a:lnTo>
                <a:lnTo>
                  <a:pt x="146" y="2"/>
                </a:lnTo>
                <a:lnTo>
                  <a:pt x="144" y="4"/>
                </a:lnTo>
                <a:lnTo>
                  <a:pt x="146" y="6"/>
                </a:lnTo>
                <a:lnTo>
                  <a:pt x="150" y="10"/>
                </a:lnTo>
                <a:lnTo>
                  <a:pt x="184" y="46"/>
                </a:lnTo>
                <a:lnTo>
                  <a:pt x="219" y="83"/>
                </a:lnTo>
                <a:lnTo>
                  <a:pt x="254" y="119"/>
                </a:lnTo>
                <a:lnTo>
                  <a:pt x="288" y="156"/>
                </a:lnTo>
                <a:lnTo>
                  <a:pt x="325" y="190"/>
                </a:lnTo>
                <a:lnTo>
                  <a:pt x="363" y="223"/>
                </a:lnTo>
                <a:lnTo>
                  <a:pt x="384" y="238"/>
                </a:lnTo>
                <a:lnTo>
                  <a:pt x="405" y="252"/>
                </a:lnTo>
                <a:lnTo>
                  <a:pt x="426" y="267"/>
                </a:lnTo>
                <a:lnTo>
                  <a:pt x="449" y="280"/>
                </a:lnTo>
                <a:lnTo>
                  <a:pt x="468" y="292"/>
                </a:lnTo>
                <a:lnTo>
                  <a:pt x="488" y="305"/>
                </a:lnTo>
                <a:lnTo>
                  <a:pt x="507" y="321"/>
                </a:lnTo>
                <a:lnTo>
                  <a:pt x="524" y="336"/>
                </a:lnTo>
                <a:lnTo>
                  <a:pt x="557" y="369"/>
                </a:lnTo>
                <a:lnTo>
                  <a:pt x="589" y="403"/>
                </a:lnTo>
                <a:lnTo>
                  <a:pt x="622" y="436"/>
                </a:lnTo>
                <a:lnTo>
                  <a:pt x="656" y="468"/>
                </a:lnTo>
                <a:lnTo>
                  <a:pt x="674" y="484"/>
                </a:lnTo>
                <a:lnTo>
                  <a:pt x="693" y="499"/>
                </a:lnTo>
                <a:lnTo>
                  <a:pt x="712" y="514"/>
                </a:lnTo>
                <a:lnTo>
                  <a:pt x="731" y="526"/>
                </a:lnTo>
                <a:lnTo>
                  <a:pt x="756" y="543"/>
                </a:lnTo>
                <a:lnTo>
                  <a:pt x="779" y="562"/>
                </a:lnTo>
                <a:lnTo>
                  <a:pt x="800" y="583"/>
                </a:lnTo>
                <a:lnTo>
                  <a:pt x="820" y="606"/>
                </a:lnTo>
                <a:lnTo>
                  <a:pt x="839" y="631"/>
                </a:lnTo>
                <a:lnTo>
                  <a:pt x="858" y="654"/>
                </a:lnTo>
                <a:lnTo>
                  <a:pt x="879" y="677"/>
                </a:lnTo>
                <a:lnTo>
                  <a:pt x="900" y="698"/>
                </a:lnTo>
                <a:lnTo>
                  <a:pt x="816" y="635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Freeform 89"/>
          <p:cNvSpPr/>
          <p:nvPr/>
        </p:nvSpPr>
        <p:spPr>
          <a:xfrm>
            <a:off x="5119560" y="1116000"/>
            <a:ext cx="76320" cy="1325520"/>
          </a:xfrm>
          <a:custGeom>
            <a:avLst/>
            <a:gdLst>
              <a:gd name="textAreaLeft" fmla="*/ 0 w 76320"/>
              <a:gd name="textAreaRight" fmla="*/ 76680 w 76320"/>
              <a:gd name="textAreaTop" fmla="*/ 0 h 1325520"/>
              <a:gd name="textAreaBottom" fmla="*/ 1325880 h 1325520"/>
            </a:gdLst>
            <a:ahLst/>
            <a:rect l="textAreaLeft" t="textAreaTop" r="textAreaRight" b="textAreaBottom"/>
            <a:pathLst>
              <a:path w="48" h="835">
                <a:moveTo>
                  <a:pt x="37" y="820"/>
                </a:moveTo>
                <a:lnTo>
                  <a:pt x="37" y="812"/>
                </a:lnTo>
                <a:lnTo>
                  <a:pt x="38" y="806"/>
                </a:lnTo>
                <a:lnTo>
                  <a:pt x="38" y="800"/>
                </a:lnTo>
                <a:lnTo>
                  <a:pt x="40" y="795"/>
                </a:lnTo>
                <a:lnTo>
                  <a:pt x="42" y="789"/>
                </a:lnTo>
                <a:lnTo>
                  <a:pt x="44" y="783"/>
                </a:lnTo>
                <a:lnTo>
                  <a:pt x="46" y="777"/>
                </a:lnTo>
                <a:lnTo>
                  <a:pt x="46" y="772"/>
                </a:lnTo>
                <a:lnTo>
                  <a:pt x="48" y="737"/>
                </a:lnTo>
                <a:lnTo>
                  <a:pt x="48" y="704"/>
                </a:lnTo>
                <a:lnTo>
                  <a:pt x="48" y="672"/>
                </a:lnTo>
                <a:lnTo>
                  <a:pt x="48" y="639"/>
                </a:lnTo>
                <a:lnTo>
                  <a:pt x="48" y="607"/>
                </a:lnTo>
                <a:lnTo>
                  <a:pt x="46" y="572"/>
                </a:lnTo>
                <a:lnTo>
                  <a:pt x="44" y="540"/>
                </a:lnTo>
                <a:lnTo>
                  <a:pt x="40" y="507"/>
                </a:lnTo>
                <a:lnTo>
                  <a:pt x="37" y="444"/>
                </a:lnTo>
                <a:lnTo>
                  <a:pt x="35" y="380"/>
                </a:lnTo>
                <a:lnTo>
                  <a:pt x="35" y="319"/>
                </a:lnTo>
                <a:lnTo>
                  <a:pt x="37" y="256"/>
                </a:lnTo>
                <a:lnTo>
                  <a:pt x="38" y="194"/>
                </a:lnTo>
                <a:lnTo>
                  <a:pt x="38" y="131"/>
                </a:lnTo>
                <a:lnTo>
                  <a:pt x="38" y="68"/>
                </a:lnTo>
                <a:lnTo>
                  <a:pt x="37" y="6"/>
                </a:lnTo>
                <a:lnTo>
                  <a:pt x="37" y="4"/>
                </a:lnTo>
                <a:lnTo>
                  <a:pt x="35" y="2"/>
                </a:lnTo>
                <a:lnTo>
                  <a:pt x="33" y="0"/>
                </a:lnTo>
                <a:lnTo>
                  <a:pt x="33" y="0"/>
                </a:lnTo>
                <a:lnTo>
                  <a:pt x="31" y="0"/>
                </a:lnTo>
                <a:lnTo>
                  <a:pt x="29" y="0"/>
                </a:lnTo>
                <a:lnTo>
                  <a:pt x="27" y="0"/>
                </a:lnTo>
                <a:lnTo>
                  <a:pt x="25" y="0"/>
                </a:lnTo>
                <a:lnTo>
                  <a:pt x="19" y="39"/>
                </a:lnTo>
                <a:lnTo>
                  <a:pt x="13" y="79"/>
                </a:lnTo>
                <a:lnTo>
                  <a:pt x="10" y="117"/>
                </a:lnTo>
                <a:lnTo>
                  <a:pt x="8" y="156"/>
                </a:lnTo>
                <a:lnTo>
                  <a:pt x="6" y="233"/>
                </a:lnTo>
                <a:lnTo>
                  <a:pt x="8" y="307"/>
                </a:lnTo>
                <a:lnTo>
                  <a:pt x="12" y="384"/>
                </a:lnTo>
                <a:lnTo>
                  <a:pt x="13" y="459"/>
                </a:lnTo>
                <a:lnTo>
                  <a:pt x="15" y="536"/>
                </a:lnTo>
                <a:lnTo>
                  <a:pt x="13" y="610"/>
                </a:lnTo>
                <a:lnTo>
                  <a:pt x="12" y="614"/>
                </a:lnTo>
                <a:lnTo>
                  <a:pt x="10" y="618"/>
                </a:lnTo>
                <a:lnTo>
                  <a:pt x="10" y="622"/>
                </a:lnTo>
                <a:lnTo>
                  <a:pt x="8" y="624"/>
                </a:lnTo>
                <a:lnTo>
                  <a:pt x="6" y="628"/>
                </a:lnTo>
                <a:lnTo>
                  <a:pt x="4" y="630"/>
                </a:lnTo>
                <a:lnTo>
                  <a:pt x="4" y="634"/>
                </a:lnTo>
                <a:lnTo>
                  <a:pt x="4" y="635"/>
                </a:lnTo>
                <a:lnTo>
                  <a:pt x="2" y="660"/>
                </a:lnTo>
                <a:lnTo>
                  <a:pt x="0" y="685"/>
                </a:lnTo>
                <a:lnTo>
                  <a:pt x="0" y="710"/>
                </a:lnTo>
                <a:lnTo>
                  <a:pt x="0" y="735"/>
                </a:lnTo>
                <a:lnTo>
                  <a:pt x="0" y="760"/>
                </a:lnTo>
                <a:lnTo>
                  <a:pt x="0" y="785"/>
                </a:lnTo>
                <a:lnTo>
                  <a:pt x="2" y="810"/>
                </a:lnTo>
                <a:lnTo>
                  <a:pt x="6" y="835"/>
                </a:lnTo>
                <a:lnTo>
                  <a:pt x="37" y="82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Freeform 90"/>
          <p:cNvSpPr/>
          <p:nvPr/>
        </p:nvSpPr>
        <p:spPr>
          <a:xfrm>
            <a:off x="3368520" y="1336680"/>
            <a:ext cx="2479680" cy="1811160"/>
          </a:xfrm>
          <a:custGeom>
            <a:avLst/>
            <a:gdLst>
              <a:gd name="textAreaLeft" fmla="*/ 0 w 2479680"/>
              <a:gd name="textAreaRight" fmla="*/ 2480040 w 2479680"/>
              <a:gd name="textAreaTop" fmla="*/ 0 h 1811160"/>
              <a:gd name="textAreaBottom" fmla="*/ 1811520 h 1811160"/>
            </a:gdLst>
            <a:ahLst/>
            <a:rect l="textAreaLeft" t="textAreaTop" r="textAreaRight" b="textAreaBottom"/>
            <a:pathLst>
              <a:path w="1562" h="1141">
                <a:moveTo>
                  <a:pt x="1159" y="905"/>
                </a:moveTo>
                <a:lnTo>
                  <a:pt x="1172" y="897"/>
                </a:lnTo>
                <a:lnTo>
                  <a:pt x="1184" y="888"/>
                </a:lnTo>
                <a:lnTo>
                  <a:pt x="1193" y="876"/>
                </a:lnTo>
                <a:lnTo>
                  <a:pt x="1199" y="865"/>
                </a:lnTo>
                <a:lnTo>
                  <a:pt x="1205" y="851"/>
                </a:lnTo>
                <a:lnTo>
                  <a:pt x="1209" y="838"/>
                </a:lnTo>
                <a:lnTo>
                  <a:pt x="1211" y="824"/>
                </a:lnTo>
                <a:lnTo>
                  <a:pt x="1212" y="811"/>
                </a:lnTo>
                <a:lnTo>
                  <a:pt x="1216" y="790"/>
                </a:lnTo>
                <a:lnTo>
                  <a:pt x="1220" y="771"/>
                </a:lnTo>
                <a:lnTo>
                  <a:pt x="1226" y="752"/>
                </a:lnTo>
                <a:lnTo>
                  <a:pt x="1234" y="732"/>
                </a:lnTo>
                <a:lnTo>
                  <a:pt x="1239" y="715"/>
                </a:lnTo>
                <a:lnTo>
                  <a:pt x="1247" y="696"/>
                </a:lnTo>
                <a:lnTo>
                  <a:pt x="1255" y="679"/>
                </a:lnTo>
                <a:lnTo>
                  <a:pt x="1260" y="659"/>
                </a:lnTo>
                <a:lnTo>
                  <a:pt x="1280" y="613"/>
                </a:lnTo>
                <a:lnTo>
                  <a:pt x="1301" y="565"/>
                </a:lnTo>
                <a:lnTo>
                  <a:pt x="1322" y="519"/>
                </a:lnTo>
                <a:lnTo>
                  <a:pt x="1345" y="475"/>
                </a:lnTo>
                <a:lnTo>
                  <a:pt x="1368" y="429"/>
                </a:lnTo>
                <a:lnTo>
                  <a:pt x="1393" y="383"/>
                </a:lnTo>
                <a:lnTo>
                  <a:pt x="1416" y="337"/>
                </a:lnTo>
                <a:lnTo>
                  <a:pt x="1439" y="291"/>
                </a:lnTo>
                <a:lnTo>
                  <a:pt x="1456" y="255"/>
                </a:lnTo>
                <a:lnTo>
                  <a:pt x="1473" y="218"/>
                </a:lnTo>
                <a:lnTo>
                  <a:pt x="1489" y="182"/>
                </a:lnTo>
                <a:lnTo>
                  <a:pt x="1502" y="145"/>
                </a:lnTo>
                <a:lnTo>
                  <a:pt x="1517" y="109"/>
                </a:lnTo>
                <a:lnTo>
                  <a:pt x="1531" y="72"/>
                </a:lnTo>
                <a:lnTo>
                  <a:pt x="1546" y="36"/>
                </a:lnTo>
                <a:lnTo>
                  <a:pt x="1562" y="0"/>
                </a:lnTo>
                <a:lnTo>
                  <a:pt x="1556" y="42"/>
                </a:lnTo>
                <a:lnTo>
                  <a:pt x="1548" y="84"/>
                </a:lnTo>
                <a:lnTo>
                  <a:pt x="1537" y="124"/>
                </a:lnTo>
                <a:lnTo>
                  <a:pt x="1523" y="165"/>
                </a:lnTo>
                <a:lnTo>
                  <a:pt x="1510" y="205"/>
                </a:lnTo>
                <a:lnTo>
                  <a:pt x="1496" y="245"/>
                </a:lnTo>
                <a:lnTo>
                  <a:pt x="1483" y="285"/>
                </a:lnTo>
                <a:lnTo>
                  <a:pt x="1470" y="324"/>
                </a:lnTo>
                <a:lnTo>
                  <a:pt x="1441" y="420"/>
                </a:lnTo>
                <a:lnTo>
                  <a:pt x="1410" y="523"/>
                </a:lnTo>
                <a:lnTo>
                  <a:pt x="1395" y="575"/>
                </a:lnTo>
                <a:lnTo>
                  <a:pt x="1377" y="627"/>
                </a:lnTo>
                <a:lnTo>
                  <a:pt x="1358" y="677"/>
                </a:lnTo>
                <a:lnTo>
                  <a:pt x="1339" y="727"/>
                </a:lnTo>
                <a:lnTo>
                  <a:pt x="1316" y="773"/>
                </a:lnTo>
                <a:lnTo>
                  <a:pt x="1293" y="815"/>
                </a:lnTo>
                <a:lnTo>
                  <a:pt x="1280" y="834"/>
                </a:lnTo>
                <a:lnTo>
                  <a:pt x="1266" y="853"/>
                </a:lnTo>
                <a:lnTo>
                  <a:pt x="1251" y="871"/>
                </a:lnTo>
                <a:lnTo>
                  <a:pt x="1235" y="888"/>
                </a:lnTo>
                <a:lnTo>
                  <a:pt x="1220" y="901"/>
                </a:lnTo>
                <a:lnTo>
                  <a:pt x="1203" y="915"/>
                </a:lnTo>
                <a:lnTo>
                  <a:pt x="1184" y="926"/>
                </a:lnTo>
                <a:lnTo>
                  <a:pt x="1166" y="936"/>
                </a:lnTo>
                <a:lnTo>
                  <a:pt x="1145" y="945"/>
                </a:lnTo>
                <a:lnTo>
                  <a:pt x="1124" y="951"/>
                </a:lnTo>
                <a:lnTo>
                  <a:pt x="1103" y="955"/>
                </a:lnTo>
                <a:lnTo>
                  <a:pt x="1080" y="957"/>
                </a:lnTo>
                <a:lnTo>
                  <a:pt x="1065" y="959"/>
                </a:lnTo>
                <a:lnTo>
                  <a:pt x="1049" y="965"/>
                </a:lnTo>
                <a:lnTo>
                  <a:pt x="1036" y="972"/>
                </a:lnTo>
                <a:lnTo>
                  <a:pt x="1022" y="980"/>
                </a:lnTo>
                <a:lnTo>
                  <a:pt x="1009" y="989"/>
                </a:lnTo>
                <a:lnTo>
                  <a:pt x="996" y="999"/>
                </a:lnTo>
                <a:lnTo>
                  <a:pt x="982" y="1007"/>
                </a:lnTo>
                <a:lnTo>
                  <a:pt x="969" y="1011"/>
                </a:lnTo>
                <a:lnTo>
                  <a:pt x="955" y="1014"/>
                </a:lnTo>
                <a:lnTo>
                  <a:pt x="942" y="1016"/>
                </a:lnTo>
                <a:lnTo>
                  <a:pt x="930" y="1020"/>
                </a:lnTo>
                <a:lnTo>
                  <a:pt x="917" y="1024"/>
                </a:lnTo>
                <a:lnTo>
                  <a:pt x="907" y="1026"/>
                </a:lnTo>
                <a:lnTo>
                  <a:pt x="896" y="1030"/>
                </a:lnTo>
                <a:lnTo>
                  <a:pt x="884" y="1032"/>
                </a:lnTo>
                <a:lnTo>
                  <a:pt x="875" y="1034"/>
                </a:lnTo>
                <a:lnTo>
                  <a:pt x="857" y="1037"/>
                </a:lnTo>
                <a:lnTo>
                  <a:pt x="842" y="1039"/>
                </a:lnTo>
                <a:lnTo>
                  <a:pt x="827" y="1039"/>
                </a:lnTo>
                <a:lnTo>
                  <a:pt x="810" y="1039"/>
                </a:lnTo>
                <a:lnTo>
                  <a:pt x="794" y="1041"/>
                </a:lnTo>
                <a:lnTo>
                  <a:pt x="777" y="1041"/>
                </a:lnTo>
                <a:lnTo>
                  <a:pt x="762" y="1043"/>
                </a:lnTo>
                <a:lnTo>
                  <a:pt x="744" y="1047"/>
                </a:lnTo>
                <a:lnTo>
                  <a:pt x="671" y="1062"/>
                </a:lnTo>
                <a:lnTo>
                  <a:pt x="597" y="1076"/>
                </a:lnTo>
                <a:lnTo>
                  <a:pt x="524" y="1087"/>
                </a:lnTo>
                <a:lnTo>
                  <a:pt x="451" y="1097"/>
                </a:lnTo>
                <a:lnTo>
                  <a:pt x="378" y="1105"/>
                </a:lnTo>
                <a:lnTo>
                  <a:pt x="307" y="1110"/>
                </a:lnTo>
                <a:lnTo>
                  <a:pt x="234" y="1114"/>
                </a:lnTo>
                <a:lnTo>
                  <a:pt x="159" y="1118"/>
                </a:lnTo>
                <a:lnTo>
                  <a:pt x="153" y="1118"/>
                </a:lnTo>
                <a:lnTo>
                  <a:pt x="148" y="1120"/>
                </a:lnTo>
                <a:lnTo>
                  <a:pt x="142" y="1124"/>
                </a:lnTo>
                <a:lnTo>
                  <a:pt x="136" y="1128"/>
                </a:lnTo>
                <a:lnTo>
                  <a:pt x="130" y="1129"/>
                </a:lnTo>
                <a:lnTo>
                  <a:pt x="125" y="1133"/>
                </a:lnTo>
                <a:lnTo>
                  <a:pt x="119" y="1135"/>
                </a:lnTo>
                <a:lnTo>
                  <a:pt x="113" y="1135"/>
                </a:lnTo>
                <a:lnTo>
                  <a:pt x="100" y="1137"/>
                </a:lnTo>
                <a:lnTo>
                  <a:pt x="86" y="1137"/>
                </a:lnTo>
                <a:lnTo>
                  <a:pt x="71" y="1139"/>
                </a:lnTo>
                <a:lnTo>
                  <a:pt x="57" y="1141"/>
                </a:lnTo>
                <a:lnTo>
                  <a:pt x="42" y="1141"/>
                </a:lnTo>
                <a:lnTo>
                  <a:pt x="29" y="1141"/>
                </a:lnTo>
                <a:lnTo>
                  <a:pt x="13" y="1139"/>
                </a:lnTo>
                <a:lnTo>
                  <a:pt x="0" y="1133"/>
                </a:lnTo>
                <a:lnTo>
                  <a:pt x="23" y="1126"/>
                </a:lnTo>
                <a:lnTo>
                  <a:pt x="46" y="1118"/>
                </a:lnTo>
                <a:lnTo>
                  <a:pt x="71" y="1112"/>
                </a:lnTo>
                <a:lnTo>
                  <a:pt x="94" y="1108"/>
                </a:lnTo>
                <a:lnTo>
                  <a:pt x="142" y="1101"/>
                </a:lnTo>
                <a:lnTo>
                  <a:pt x="192" y="1095"/>
                </a:lnTo>
                <a:lnTo>
                  <a:pt x="240" y="1093"/>
                </a:lnTo>
                <a:lnTo>
                  <a:pt x="288" y="1091"/>
                </a:lnTo>
                <a:lnTo>
                  <a:pt x="338" y="1089"/>
                </a:lnTo>
                <a:lnTo>
                  <a:pt x="385" y="1087"/>
                </a:lnTo>
                <a:lnTo>
                  <a:pt x="458" y="1083"/>
                </a:lnTo>
                <a:lnTo>
                  <a:pt x="531" y="1080"/>
                </a:lnTo>
                <a:lnTo>
                  <a:pt x="602" y="1074"/>
                </a:lnTo>
                <a:lnTo>
                  <a:pt x="675" y="1068"/>
                </a:lnTo>
                <a:lnTo>
                  <a:pt x="746" y="1062"/>
                </a:lnTo>
                <a:lnTo>
                  <a:pt x="819" y="1057"/>
                </a:lnTo>
                <a:lnTo>
                  <a:pt x="892" y="1051"/>
                </a:lnTo>
                <a:lnTo>
                  <a:pt x="963" y="1043"/>
                </a:lnTo>
                <a:lnTo>
                  <a:pt x="1159" y="905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Freeform 91"/>
          <p:cNvSpPr/>
          <p:nvPr/>
        </p:nvSpPr>
        <p:spPr>
          <a:xfrm>
            <a:off x="4062240" y="1725480"/>
            <a:ext cx="2294280" cy="2887920"/>
          </a:xfrm>
          <a:custGeom>
            <a:avLst/>
            <a:gdLst>
              <a:gd name="textAreaLeft" fmla="*/ 0 w 2294280"/>
              <a:gd name="textAreaRight" fmla="*/ 2294280 w 2294280"/>
              <a:gd name="textAreaTop" fmla="*/ 0 h 2887920"/>
              <a:gd name="textAreaBottom" fmla="*/ 2888280 h 2887920"/>
            </a:gdLst>
            <a:ahLst/>
            <a:rect l="textAreaLeft" t="textAreaTop" r="textAreaRight" b="textAreaBottom"/>
            <a:pathLst>
              <a:path w="1445" h="1819">
                <a:moveTo>
                  <a:pt x="703" y="829"/>
                </a:moveTo>
                <a:lnTo>
                  <a:pt x="679" y="854"/>
                </a:lnTo>
                <a:lnTo>
                  <a:pt x="656" y="879"/>
                </a:lnTo>
                <a:lnTo>
                  <a:pt x="632" y="902"/>
                </a:lnTo>
                <a:lnTo>
                  <a:pt x="607" y="925"/>
                </a:lnTo>
                <a:lnTo>
                  <a:pt x="582" y="950"/>
                </a:lnTo>
                <a:lnTo>
                  <a:pt x="557" y="973"/>
                </a:lnTo>
                <a:lnTo>
                  <a:pt x="534" y="998"/>
                </a:lnTo>
                <a:lnTo>
                  <a:pt x="511" y="1025"/>
                </a:lnTo>
                <a:lnTo>
                  <a:pt x="484" y="1061"/>
                </a:lnTo>
                <a:lnTo>
                  <a:pt x="459" y="1097"/>
                </a:lnTo>
                <a:lnTo>
                  <a:pt x="436" y="1134"/>
                </a:lnTo>
                <a:lnTo>
                  <a:pt x="413" y="1170"/>
                </a:lnTo>
                <a:lnTo>
                  <a:pt x="392" y="1209"/>
                </a:lnTo>
                <a:lnTo>
                  <a:pt x="371" y="1245"/>
                </a:lnTo>
                <a:lnTo>
                  <a:pt x="349" y="1283"/>
                </a:lnTo>
                <a:lnTo>
                  <a:pt x="328" y="1324"/>
                </a:lnTo>
                <a:lnTo>
                  <a:pt x="323" y="1333"/>
                </a:lnTo>
                <a:lnTo>
                  <a:pt x="315" y="1343"/>
                </a:lnTo>
                <a:lnTo>
                  <a:pt x="309" y="1353"/>
                </a:lnTo>
                <a:lnTo>
                  <a:pt x="302" y="1362"/>
                </a:lnTo>
                <a:lnTo>
                  <a:pt x="294" y="1372"/>
                </a:lnTo>
                <a:lnTo>
                  <a:pt x="286" y="1381"/>
                </a:lnTo>
                <a:lnTo>
                  <a:pt x="278" y="1391"/>
                </a:lnTo>
                <a:lnTo>
                  <a:pt x="273" y="1402"/>
                </a:lnTo>
                <a:lnTo>
                  <a:pt x="246" y="1447"/>
                </a:lnTo>
                <a:lnTo>
                  <a:pt x="219" y="1489"/>
                </a:lnTo>
                <a:lnTo>
                  <a:pt x="192" y="1531"/>
                </a:lnTo>
                <a:lnTo>
                  <a:pt x="163" y="1571"/>
                </a:lnTo>
                <a:lnTo>
                  <a:pt x="135" y="1613"/>
                </a:lnTo>
                <a:lnTo>
                  <a:pt x="106" y="1654"/>
                </a:lnTo>
                <a:lnTo>
                  <a:pt x="75" y="1696"/>
                </a:lnTo>
                <a:lnTo>
                  <a:pt x="46" y="1740"/>
                </a:lnTo>
                <a:lnTo>
                  <a:pt x="39" y="1750"/>
                </a:lnTo>
                <a:lnTo>
                  <a:pt x="33" y="1759"/>
                </a:lnTo>
                <a:lnTo>
                  <a:pt x="27" y="1769"/>
                </a:lnTo>
                <a:lnTo>
                  <a:pt x="21" y="1778"/>
                </a:lnTo>
                <a:lnTo>
                  <a:pt x="16" y="1788"/>
                </a:lnTo>
                <a:lnTo>
                  <a:pt x="10" y="1798"/>
                </a:lnTo>
                <a:lnTo>
                  <a:pt x="4" y="1809"/>
                </a:lnTo>
                <a:lnTo>
                  <a:pt x="0" y="1819"/>
                </a:lnTo>
                <a:lnTo>
                  <a:pt x="6" y="1819"/>
                </a:lnTo>
                <a:lnTo>
                  <a:pt x="10" y="1817"/>
                </a:lnTo>
                <a:lnTo>
                  <a:pt x="14" y="1815"/>
                </a:lnTo>
                <a:lnTo>
                  <a:pt x="19" y="1811"/>
                </a:lnTo>
                <a:lnTo>
                  <a:pt x="23" y="1809"/>
                </a:lnTo>
                <a:lnTo>
                  <a:pt x="27" y="1805"/>
                </a:lnTo>
                <a:lnTo>
                  <a:pt x="31" y="1801"/>
                </a:lnTo>
                <a:lnTo>
                  <a:pt x="35" y="1798"/>
                </a:lnTo>
                <a:lnTo>
                  <a:pt x="39" y="1796"/>
                </a:lnTo>
                <a:lnTo>
                  <a:pt x="41" y="1794"/>
                </a:lnTo>
                <a:lnTo>
                  <a:pt x="41" y="1790"/>
                </a:lnTo>
                <a:lnTo>
                  <a:pt x="42" y="1784"/>
                </a:lnTo>
                <a:lnTo>
                  <a:pt x="42" y="1780"/>
                </a:lnTo>
                <a:lnTo>
                  <a:pt x="44" y="1775"/>
                </a:lnTo>
                <a:lnTo>
                  <a:pt x="46" y="1771"/>
                </a:lnTo>
                <a:lnTo>
                  <a:pt x="48" y="1767"/>
                </a:lnTo>
                <a:lnTo>
                  <a:pt x="60" y="1755"/>
                </a:lnTo>
                <a:lnTo>
                  <a:pt x="69" y="1744"/>
                </a:lnTo>
                <a:lnTo>
                  <a:pt x="81" y="1732"/>
                </a:lnTo>
                <a:lnTo>
                  <a:pt x="92" y="1721"/>
                </a:lnTo>
                <a:lnTo>
                  <a:pt x="102" y="1709"/>
                </a:lnTo>
                <a:lnTo>
                  <a:pt x="112" y="1698"/>
                </a:lnTo>
                <a:lnTo>
                  <a:pt x="119" y="1684"/>
                </a:lnTo>
                <a:lnTo>
                  <a:pt x="127" y="1671"/>
                </a:lnTo>
                <a:lnTo>
                  <a:pt x="142" y="1644"/>
                </a:lnTo>
                <a:lnTo>
                  <a:pt x="158" y="1617"/>
                </a:lnTo>
                <a:lnTo>
                  <a:pt x="175" y="1592"/>
                </a:lnTo>
                <a:lnTo>
                  <a:pt x="192" y="1569"/>
                </a:lnTo>
                <a:lnTo>
                  <a:pt x="211" y="1544"/>
                </a:lnTo>
                <a:lnTo>
                  <a:pt x="229" y="1521"/>
                </a:lnTo>
                <a:lnTo>
                  <a:pt x="246" y="1496"/>
                </a:lnTo>
                <a:lnTo>
                  <a:pt x="261" y="1470"/>
                </a:lnTo>
                <a:lnTo>
                  <a:pt x="271" y="1452"/>
                </a:lnTo>
                <a:lnTo>
                  <a:pt x="280" y="1437"/>
                </a:lnTo>
                <a:lnTo>
                  <a:pt x="290" y="1420"/>
                </a:lnTo>
                <a:lnTo>
                  <a:pt x="300" y="1402"/>
                </a:lnTo>
                <a:lnTo>
                  <a:pt x="309" y="1385"/>
                </a:lnTo>
                <a:lnTo>
                  <a:pt x="319" y="1368"/>
                </a:lnTo>
                <a:lnTo>
                  <a:pt x="326" y="1351"/>
                </a:lnTo>
                <a:lnTo>
                  <a:pt x="336" y="1333"/>
                </a:lnTo>
                <a:lnTo>
                  <a:pt x="359" y="1295"/>
                </a:lnTo>
                <a:lnTo>
                  <a:pt x="384" y="1259"/>
                </a:lnTo>
                <a:lnTo>
                  <a:pt x="413" y="1224"/>
                </a:lnTo>
                <a:lnTo>
                  <a:pt x="442" y="1190"/>
                </a:lnTo>
                <a:lnTo>
                  <a:pt x="470" y="1155"/>
                </a:lnTo>
                <a:lnTo>
                  <a:pt x="497" y="1120"/>
                </a:lnTo>
                <a:lnTo>
                  <a:pt x="511" y="1103"/>
                </a:lnTo>
                <a:lnTo>
                  <a:pt x="522" y="1084"/>
                </a:lnTo>
                <a:lnTo>
                  <a:pt x="534" y="1065"/>
                </a:lnTo>
                <a:lnTo>
                  <a:pt x="545" y="1046"/>
                </a:lnTo>
                <a:lnTo>
                  <a:pt x="559" y="1017"/>
                </a:lnTo>
                <a:lnTo>
                  <a:pt x="574" y="988"/>
                </a:lnTo>
                <a:lnTo>
                  <a:pt x="589" y="961"/>
                </a:lnTo>
                <a:lnTo>
                  <a:pt x="605" y="934"/>
                </a:lnTo>
                <a:lnTo>
                  <a:pt x="622" y="908"/>
                </a:lnTo>
                <a:lnTo>
                  <a:pt x="639" y="883"/>
                </a:lnTo>
                <a:lnTo>
                  <a:pt x="656" y="856"/>
                </a:lnTo>
                <a:lnTo>
                  <a:pt x="674" y="829"/>
                </a:lnTo>
                <a:lnTo>
                  <a:pt x="695" y="798"/>
                </a:lnTo>
                <a:lnTo>
                  <a:pt x="718" y="767"/>
                </a:lnTo>
                <a:lnTo>
                  <a:pt x="741" y="739"/>
                </a:lnTo>
                <a:lnTo>
                  <a:pt x="766" y="710"/>
                </a:lnTo>
                <a:lnTo>
                  <a:pt x="791" y="681"/>
                </a:lnTo>
                <a:lnTo>
                  <a:pt x="818" y="654"/>
                </a:lnTo>
                <a:lnTo>
                  <a:pt x="844" y="627"/>
                </a:lnTo>
                <a:lnTo>
                  <a:pt x="873" y="601"/>
                </a:lnTo>
                <a:lnTo>
                  <a:pt x="931" y="551"/>
                </a:lnTo>
                <a:lnTo>
                  <a:pt x="990" y="501"/>
                </a:lnTo>
                <a:lnTo>
                  <a:pt x="1050" y="451"/>
                </a:lnTo>
                <a:lnTo>
                  <a:pt x="1111" y="399"/>
                </a:lnTo>
                <a:lnTo>
                  <a:pt x="1136" y="380"/>
                </a:lnTo>
                <a:lnTo>
                  <a:pt x="1159" y="359"/>
                </a:lnTo>
                <a:lnTo>
                  <a:pt x="1180" y="340"/>
                </a:lnTo>
                <a:lnTo>
                  <a:pt x="1203" y="317"/>
                </a:lnTo>
                <a:lnTo>
                  <a:pt x="1222" y="296"/>
                </a:lnTo>
                <a:lnTo>
                  <a:pt x="1242" y="273"/>
                </a:lnTo>
                <a:lnTo>
                  <a:pt x="1259" y="248"/>
                </a:lnTo>
                <a:lnTo>
                  <a:pt x="1274" y="223"/>
                </a:lnTo>
                <a:lnTo>
                  <a:pt x="1292" y="192"/>
                </a:lnTo>
                <a:lnTo>
                  <a:pt x="1313" y="161"/>
                </a:lnTo>
                <a:lnTo>
                  <a:pt x="1334" y="134"/>
                </a:lnTo>
                <a:lnTo>
                  <a:pt x="1355" y="108"/>
                </a:lnTo>
                <a:lnTo>
                  <a:pt x="1378" y="81"/>
                </a:lnTo>
                <a:lnTo>
                  <a:pt x="1399" y="54"/>
                </a:lnTo>
                <a:lnTo>
                  <a:pt x="1422" y="27"/>
                </a:lnTo>
                <a:lnTo>
                  <a:pt x="1445" y="0"/>
                </a:lnTo>
                <a:lnTo>
                  <a:pt x="1416" y="14"/>
                </a:lnTo>
                <a:lnTo>
                  <a:pt x="1389" y="27"/>
                </a:lnTo>
                <a:lnTo>
                  <a:pt x="1366" y="44"/>
                </a:lnTo>
                <a:lnTo>
                  <a:pt x="1341" y="62"/>
                </a:lnTo>
                <a:lnTo>
                  <a:pt x="1297" y="100"/>
                </a:lnTo>
                <a:lnTo>
                  <a:pt x="1255" y="142"/>
                </a:lnTo>
                <a:lnTo>
                  <a:pt x="1213" y="182"/>
                </a:lnTo>
                <a:lnTo>
                  <a:pt x="1169" y="223"/>
                </a:lnTo>
                <a:lnTo>
                  <a:pt x="1146" y="242"/>
                </a:lnTo>
                <a:lnTo>
                  <a:pt x="1123" y="259"/>
                </a:lnTo>
                <a:lnTo>
                  <a:pt x="1096" y="274"/>
                </a:lnTo>
                <a:lnTo>
                  <a:pt x="1069" y="288"/>
                </a:lnTo>
                <a:lnTo>
                  <a:pt x="1065" y="292"/>
                </a:lnTo>
                <a:lnTo>
                  <a:pt x="1063" y="296"/>
                </a:lnTo>
                <a:lnTo>
                  <a:pt x="1061" y="303"/>
                </a:lnTo>
                <a:lnTo>
                  <a:pt x="1061" y="311"/>
                </a:lnTo>
                <a:lnTo>
                  <a:pt x="1059" y="319"/>
                </a:lnTo>
                <a:lnTo>
                  <a:pt x="1057" y="328"/>
                </a:lnTo>
                <a:lnTo>
                  <a:pt x="1056" y="334"/>
                </a:lnTo>
                <a:lnTo>
                  <a:pt x="1054" y="342"/>
                </a:lnTo>
                <a:lnTo>
                  <a:pt x="1008" y="397"/>
                </a:lnTo>
                <a:lnTo>
                  <a:pt x="960" y="449"/>
                </a:lnTo>
                <a:lnTo>
                  <a:pt x="912" y="501"/>
                </a:lnTo>
                <a:lnTo>
                  <a:pt x="864" y="551"/>
                </a:lnTo>
                <a:lnTo>
                  <a:pt x="816" y="601"/>
                </a:lnTo>
                <a:lnTo>
                  <a:pt x="766" y="649"/>
                </a:lnTo>
                <a:lnTo>
                  <a:pt x="716" y="695"/>
                </a:lnTo>
                <a:lnTo>
                  <a:pt x="664" y="743"/>
                </a:lnTo>
                <a:lnTo>
                  <a:pt x="703" y="829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Freeform 92"/>
          <p:cNvSpPr/>
          <p:nvPr/>
        </p:nvSpPr>
        <p:spPr>
          <a:xfrm>
            <a:off x="5138640" y="3071880"/>
            <a:ext cx="266760" cy="1863720"/>
          </a:xfrm>
          <a:custGeom>
            <a:avLst/>
            <a:gdLst>
              <a:gd name="textAreaLeft" fmla="*/ 0 w 266760"/>
              <a:gd name="textAreaRight" fmla="*/ 267120 w 266760"/>
              <a:gd name="textAreaTop" fmla="*/ 0 h 1863720"/>
              <a:gd name="textAreaBottom" fmla="*/ 1864080 h 1863720"/>
            </a:gdLst>
            <a:ahLst/>
            <a:rect l="textAreaLeft" t="textAreaTop" r="textAreaRight" b="textAreaBottom"/>
            <a:pathLst>
              <a:path w="168" h="1174">
                <a:moveTo>
                  <a:pt x="13" y="0"/>
                </a:moveTo>
                <a:lnTo>
                  <a:pt x="11" y="36"/>
                </a:lnTo>
                <a:lnTo>
                  <a:pt x="13" y="75"/>
                </a:lnTo>
                <a:lnTo>
                  <a:pt x="15" y="111"/>
                </a:lnTo>
                <a:lnTo>
                  <a:pt x="19" y="150"/>
                </a:lnTo>
                <a:lnTo>
                  <a:pt x="23" y="186"/>
                </a:lnTo>
                <a:lnTo>
                  <a:pt x="28" y="224"/>
                </a:lnTo>
                <a:lnTo>
                  <a:pt x="32" y="261"/>
                </a:lnTo>
                <a:lnTo>
                  <a:pt x="36" y="299"/>
                </a:lnTo>
                <a:lnTo>
                  <a:pt x="40" y="313"/>
                </a:lnTo>
                <a:lnTo>
                  <a:pt x="42" y="326"/>
                </a:lnTo>
                <a:lnTo>
                  <a:pt x="48" y="338"/>
                </a:lnTo>
                <a:lnTo>
                  <a:pt x="51" y="351"/>
                </a:lnTo>
                <a:lnTo>
                  <a:pt x="57" y="363"/>
                </a:lnTo>
                <a:lnTo>
                  <a:pt x="61" y="376"/>
                </a:lnTo>
                <a:lnTo>
                  <a:pt x="65" y="388"/>
                </a:lnTo>
                <a:lnTo>
                  <a:pt x="71" y="401"/>
                </a:lnTo>
                <a:lnTo>
                  <a:pt x="72" y="412"/>
                </a:lnTo>
                <a:lnTo>
                  <a:pt x="72" y="424"/>
                </a:lnTo>
                <a:lnTo>
                  <a:pt x="72" y="435"/>
                </a:lnTo>
                <a:lnTo>
                  <a:pt x="71" y="447"/>
                </a:lnTo>
                <a:lnTo>
                  <a:pt x="71" y="459"/>
                </a:lnTo>
                <a:lnTo>
                  <a:pt x="71" y="470"/>
                </a:lnTo>
                <a:lnTo>
                  <a:pt x="72" y="482"/>
                </a:lnTo>
                <a:lnTo>
                  <a:pt x="74" y="493"/>
                </a:lnTo>
                <a:lnTo>
                  <a:pt x="82" y="512"/>
                </a:lnTo>
                <a:lnTo>
                  <a:pt x="90" y="531"/>
                </a:lnTo>
                <a:lnTo>
                  <a:pt x="94" y="551"/>
                </a:lnTo>
                <a:lnTo>
                  <a:pt x="99" y="570"/>
                </a:lnTo>
                <a:lnTo>
                  <a:pt x="105" y="610"/>
                </a:lnTo>
                <a:lnTo>
                  <a:pt x="111" y="650"/>
                </a:lnTo>
                <a:lnTo>
                  <a:pt x="113" y="691"/>
                </a:lnTo>
                <a:lnTo>
                  <a:pt x="115" y="731"/>
                </a:lnTo>
                <a:lnTo>
                  <a:pt x="117" y="771"/>
                </a:lnTo>
                <a:lnTo>
                  <a:pt x="120" y="813"/>
                </a:lnTo>
                <a:lnTo>
                  <a:pt x="122" y="819"/>
                </a:lnTo>
                <a:lnTo>
                  <a:pt x="124" y="825"/>
                </a:lnTo>
                <a:lnTo>
                  <a:pt x="128" y="831"/>
                </a:lnTo>
                <a:lnTo>
                  <a:pt x="130" y="836"/>
                </a:lnTo>
                <a:lnTo>
                  <a:pt x="134" y="842"/>
                </a:lnTo>
                <a:lnTo>
                  <a:pt x="138" y="848"/>
                </a:lnTo>
                <a:lnTo>
                  <a:pt x="140" y="854"/>
                </a:lnTo>
                <a:lnTo>
                  <a:pt x="142" y="859"/>
                </a:lnTo>
                <a:lnTo>
                  <a:pt x="145" y="892"/>
                </a:lnTo>
                <a:lnTo>
                  <a:pt x="151" y="925"/>
                </a:lnTo>
                <a:lnTo>
                  <a:pt x="157" y="957"/>
                </a:lnTo>
                <a:lnTo>
                  <a:pt x="163" y="990"/>
                </a:lnTo>
                <a:lnTo>
                  <a:pt x="166" y="1023"/>
                </a:lnTo>
                <a:lnTo>
                  <a:pt x="168" y="1053"/>
                </a:lnTo>
                <a:lnTo>
                  <a:pt x="168" y="1070"/>
                </a:lnTo>
                <a:lnTo>
                  <a:pt x="166" y="1086"/>
                </a:lnTo>
                <a:lnTo>
                  <a:pt x="163" y="1101"/>
                </a:lnTo>
                <a:lnTo>
                  <a:pt x="159" y="1118"/>
                </a:lnTo>
                <a:lnTo>
                  <a:pt x="157" y="1126"/>
                </a:lnTo>
                <a:lnTo>
                  <a:pt x="153" y="1132"/>
                </a:lnTo>
                <a:lnTo>
                  <a:pt x="151" y="1140"/>
                </a:lnTo>
                <a:lnTo>
                  <a:pt x="149" y="1145"/>
                </a:lnTo>
                <a:lnTo>
                  <a:pt x="147" y="1151"/>
                </a:lnTo>
                <a:lnTo>
                  <a:pt x="145" y="1157"/>
                </a:lnTo>
                <a:lnTo>
                  <a:pt x="142" y="1163"/>
                </a:lnTo>
                <a:lnTo>
                  <a:pt x="138" y="1168"/>
                </a:lnTo>
                <a:lnTo>
                  <a:pt x="134" y="1172"/>
                </a:lnTo>
                <a:lnTo>
                  <a:pt x="130" y="1174"/>
                </a:lnTo>
                <a:lnTo>
                  <a:pt x="124" y="1174"/>
                </a:lnTo>
                <a:lnTo>
                  <a:pt x="119" y="1172"/>
                </a:lnTo>
                <a:lnTo>
                  <a:pt x="113" y="1168"/>
                </a:lnTo>
                <a:lnTo>
                  <a:pt x="109" y="1163"/>
                </a:lnTo>
                <a:lnTo>
                  <a:pt x="105" y="1157"/>
                </a:lnTo>
                <a:lnTo>
                  <a:pt x="103" y="1149"/>
                </a:lnTo>
                <a:lnTo>
                  <a:pt x="101" y="1136"/>
                </a:lnTo>
                <a:lnTo>
                  <a:pt x="101" y="1122"/>
                </a:lnTo>
                <a:lnTo>
                  <a:pt x="101" y="1111"/>
                </a:lnTo>
                <a:lnTo>
                  <a:pt x="103" y="1097"/>
                </a:lnTo>
                <a:lnTo>
                  <a:pt x="101" y="1086"/>
                </a:lnTo>
                <a:lnTo>
                  <a:pt x="97" y="1072"/>
                </a:lnTo>
                <a:lnTo>
                  <a:pt x="90" y="1061"/>
                </a:lnTo>
                <a:lnTo>
                  <a:pt x="78" y="1047"/>
                </a:lnTo>
                <a:lnTo>
                  <a:pt x="74" y="980"/>
                </a:lnTo>
                <a:lnTo>
                  <a:pt x="72" y="915"/>
                </a:lnTo>
                <a:lnTo>
                  <a:pt x="71" y="850"/>
                </a:lnTo>
                <a:lnTo>
                  <a:pt x="71" y="783"/>
                </a:lnTo>
                <a:lnTo>
                  <a:pt x="67" y="717"/>
                </a:lnTo>
                <a:lnTo>
                  <a:pt x="63" y="650"/>
                </a:lnTo>
                <a:lnTo>
                  <a:pt x="57" y="585"/>
                </a:lnTo>
                <a:lnTo>
                  <a:pt x="48" y="518"/>
                </a:lnTo>
                <a:lnTo>
                  <a:pt x="46" y="505"/>
                </a:lnTo>
                <a:lnTo>
                  <a:pt x="42" y="493"/>
                </a:lnTo>
                <a:lnTo>
                  <a:pt x="40" y="478"/>
                </a:lnTo>
                <a:lnTo>
                  <a:pt x="36" y="464"/>
                </a:lnTo>
                <a:lnTo>
                  <a:pt x="34" y="449"/>
                </a:lnTo>
                <a:lnTo>
                  <a:pt x="30" y="434"/>
                </a:lnTo>
                <a:lnTo>
                  <a:pt x="30" y="416"/>
                </a:lnTo>
                <a:lnTo>
                  <a:pt x="28" y="399"/>
                </a:lnTo>
                <a:lnTo>
                  <a:pt x="28" y="393"/>
                </a:lnTo>
                <a:lnTo>
                  <a:pt x="26" y="388"/>
                </a:lnTo>
                <a:lnTo>
                  <a:pt x="23" y="382"/>
                </a:lnTo>
                <a:lnTo>
                  <a:pt x="21" y="376"/>
                </a:lnTo>
                <a:lnTo>
                  <a:pt x="17" y="370"/>
                </a:lnTo>
                <a:lnTo>
                  <a:pt x="13" y="365"/>
                </a:lnTo>
                <a:lnTo>
                  <a:pt x="11" y="359"/>
                </a:lnTo>
                <a:lnTo>
                  <a:pt x="9" y="353"/>
                </a:lnTo>
                <a:lnTo>
                  <a:pt x="9" y="343"/>
                </a:lnTo>
                <a:lnTo>
                  <a:pt x="7" y="336"/>
                </a:lnTo>
                <a:lnTo>
                  <a:pt x="5" y="328"/>
                </a:lnTo>
                <a:lnTo>
                  <a:pt x="3" y="320"/>
                </a:lnTo>
                <a:lnTo>
                  <a:pt x="1" y="311"/>
                </a:lnTo>
                <a:lnTo>
                  <a:pt x="0" y="303"/>
                </a:lnTo>
                <a:lnTo>
                  <a:pt x="0" y="295"/>
                </a:lnTo>
                <a:lnTo>
                  <a:pt x="1" y="286"/>
                </a:lnTo>
                <a:lnTo>
                  <a:pt x="13" y="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Freeform 93"/>
          <p:cNvSpPr/>
          <p:nvPr/>
        </p:nvSpPr>
        <p:spPr>
          <a:xfrm>
            <a:off x="4794120" y="3446640"/>
            <a:ext cx="319320" cy="1504800"/>
          </a:xfrm>
          <a:custGeom>
            <a:avLst/>
            <a:gdLst>
              <a:gd name="textAreaLeft" fmla="*/ 0 w 319320"/>
              <a:gd name="textAreaRight" fmla="*/ 319680 w 319320"/>
              <a:gd name="textAreaTop" fmla="*/ 0 h 1504800"/>
              <a:gd name="textAreaBottom" fmla="*/ 1505160 h 1504800"/>
            </a:gdLst>
            <a:ahLst/>
            <a:rect l="textAreaLeft" t="textAreaTop" r="textAreaRight" b="textAreaBottom"/>
            <a:pathLst>
              <a:path w="201" h="948">
                <a:moveTo>
                  <a:pt x="201" y="29"/>
                </a:moveTo>
                <a:lnTo>
                  <a:pt x="201" y="42"/>
                </a:lnTo>
                <a:lnTo>
                  <a:pt x="199" y="58"/>
                </a:lnTo>
                <a:lnTo>
                  <a:pt x="199" y="73"/>
                </a:lnTo>
                <a:lnTo>
                  <a:pt x="199" y="88"/>
                </a:lnTo>
                <a:lnTo>
                  <a:pt x="197" y="102"/>
                </a:lnTo>
                <a:lnTo>
                  <a:pt x="195" y="117"/>
                </a:lnTo>
                <a:lnTo>
                  <a:pt x="194" y="132"/>
                </a:lnTo>
                <a:lnTo>
                  <a:pt x="190" y="148"/>
                </a:lnTo>
                <a:lnTo>
                  <a:pt x="180" y="182"/>
                </a:lnTo>
                <a:lnTo>
                  <a:pt x="169" y="219"/>
                </a:lnTo>
                <a:lnTo>
                  <a:pt x="155" y="251"/>
                </a:lnTo>
                <a:lnTo>
                  <a:pt x="142" y="286"/>
                </a:lnTo>
                <a:lnTo>
                  <a:pt x="130" y="320"/>
                </a:lnTo>
                <a:lnTo>
                  <a:pt x="119" y="355"/>
                </a:lnTo>
                <a:lnTo>
                  <a:pt x="109" y="389"/>
                </a:lnTo>
                <a:lnTo>
                  <a:pt x="103" y="424"/>
                </a:lnTo>
                <a:lnTo>
                  <a:pt x="101" y="455"/>
                </a:lnTo>
                <a:lnTo>
                  <a:pt x="98" y="483"/>
                </a:lnTo>
                <a:lnTo>
                  <a:pt x="96" y="512"/>
                </a:lnTo>
                <a:lnTo>
                  <a:pt x="94" y="543"/>
                </a:lnTo>
                <a:lnTo>
                  <a:pt x="90" y="572"/>
                </a:lnTo>
                <a:lnTo>
                  <a:pt x="86" y="600"/>
                </a:lnTo>
                <a:lnTo>
                  <a:pt x="80" y="627"/>
                </a:lnTo>
                <a:lnTo>
                  <a:pt x="73" y="656"/>
                </a:lnTo>
                <a:lnTo>
                  <a:pt x="67" y="683"/>
                </a:lnTo>
                <a:lnTo>
                  <a:pt x="59" y="710"/>
                </a:lnTo>
                <a:lnTo>
                  <a:pt x="53" y="737"/>
                </a:lnTo>
                <a:lnTo>
                  <a:pt x="48" y="763"/>
                </a:lnTo>
                <a:lnTo>
                  <a:pt x="42" y="792"/>
                </a:lnTo>
                <a:lnTo>
                  <a:pt x="34" y="819"/>
                </a:lnTo>
                <a:lnTo>
                  <a:pt x="29" y="846"/>
                </a:lnTo>
                <a:lnTo>
                  <a:pt x="23" y="875"/>
                </a:lnTo>
                <a:lnTo>
                  <a:pt x="19" y="882"/>
                </a:lnTo>
                <a:lnTo>
                  <a:pt x="15" y="892"/>
                </a:lnTo>
                <a:lnTo>
                  <a:pt x="11" y="902"/>
                </a:lnTo>
                <a:lnTo>
                  <a:pt x="6" y="909"/>
                </a:lnTo>
                <a:lnTo>
                  <a:pt x="2" y="919"/>
                </a:lnTo>
                <a:lnTo>
                  <a:pt x="0" y="928"/>
                </a:lnTo>
                <a:lnTo>
                  <a:pt x="0" y="938"/>
                </a:lnTo>
                <a:lnTo>
                  <a:pt x="4" y="946"/>
                </a:lnTo>
                <a:lnTo>
                  <a:pt x="6" y="948"/>
                </a:lnTo>
                <a:lnTo>
                  <a:pt x="7" y="946"/>
                </a:lnTo>
                <a:lnTo>
                  <a:pt x="9" y="944"/>
                </a:lnTo>
                <a:lnTo>
                  <a:pt x="11" y="940"/>
                </a:lnTo>
                <a:lnTo>
                  <a:pt x="11" y="936"/>
                </a:lnTo>
                <a:lnTo>
                  <a:pt x="13" y="930"/>
                </a:lnTo>
                <a:lnTo>
                  <a:pt x="13" y="927"/>
                </a:lnTo>
                <a:lnTo>
                  <a:pt x="15" y="923"/>
                </a:lnTo>
                <a:lnTo>
                  <a:pt x="30" y="854"/>
                </a:lnTo>
                <a:lnTo>
                  <a:pt x="46" y="785"/>
                </a:lnTo>
                <a:lnTo>
                  <a:pt x="59" y="716"/>
                </a:lnTo>
                <a:lnTo>
                  <a:pt x="71" y="646"/>
                </a:lnTo>
                <a:lnTo>
                  <a:pt x="82" y="579"/>
                </a:lnTo>
                <a:lnTo>
                  <a:pt x="92" y="510"/>
                </a:lnTo>
                <a:lnTo>
                  <a:pt x="100" y="441"/>
                </a:lnTo>
                <a:lnTo>
                  <a:pt x="105" y="370"/>
                </a:lnTo>
                <a:lnTo>
                  <a:pt x="107" y="361"/>
                </a:lnTo>
                <a:lnTo>
                  <a:pt x="109" y="349"/>
                </a:lnTo>
                <a:lnTo>
                  <a:pt x="111" y="338"/>
                </a:lnTo>
                <a:lnTo>
                  <a:pt x="115" y="326"/>
                </a:lnTo>
                <a:lnTo>
                  <a:pt x="119" y="315"/>
                </a:lnTo>
                <a:lnTo>
                  <a:pt x="121" y="301"/>
                </a:lnTo>
                <a:lnTo>
                  <a:pt x="124" y="290"/>
                </a:lnTo>
                <a:lnTo>
                  <a:pt x="128" y="276"/>
                </a:lnTo>
                <a:lnTo>
                  <a:pt x="136" y="259"/>
                </a:lnTo>
                <a:lnTo>
                  <a:pt x="140" y="242"/>
                </a:lnTo>
                <a:lnTo>
                  <a:pt x="144" y="224"/>
                </a:lnTo>
                <a:lnTo>
                  <a:pt x="148" y="207"/>
                </a:lnTo>
                <a:lnTo>
                  <a:pt x="151" y="173"/>
                </a:lnTo>
                <a:lnTo>
                  <a:pt x="153" y="138"/>
                </a:lnTo>
                <a:lnTo>
                  <a:pt x="155" y="104"/>
                </a:lnTo>
                <a:lnTo>
                  <a:pt x="159" y="69"/>
                </a:lnTo>
                <a:lnTo>
                  <a:pt x="165" y="35"/>
                </a:lnTo>
                <a:lnTo>
                  <a:pt x="172" y="0"/>
                </a:lnTo>
                <a:lnTo>
                  <a:pt x="201" y="29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Freeform 94"/>
          <p:cNvSpPr/>
          <p:nvPr/>
        </p:nvSpPr>
        <p:spPr>
          <a:xfrm>
            <a:off x="5411880" y="3260880"/>
            <a:ext cx="1263600" cy="1077840"/>
          </a:xfrm>
          <a:custGeom>
            <a:avLst/>
            <a:gdLst>
              <a:gd name="textAreaLeft" fmla="*/ 0 w 1263600"/>
              <a:gd name="textAreaRight" fmla="*/ 1263960 w 1263600"/>
              <a:gd name="textAreaTop" fmla="*/ 0 h 1077840"/>
              <a:gd name="textAreaBottom" fmla="*/ 1078200 h 1077840"/>
            </a:gdLst>
            <a:ahLst/>
            <a:rect l="textAreaLeft" t="textAreaTop" r="textAreaRight" b="textAreaBottom"/>
            <a:pathLst>
              <a:path w="796" h="679">
                <a:moveTo>
                  <a:pt x="0" y="109"/>
                </a:moveTo>
                <a:lnTo>
                  <a:pt x="6" y="119"/>
                </a:lnTo>
                <a:lnTo>
                  <a:pt x="12" y="129"/>
                </a:lnTo>
                <a:lnTo>
                  <a:pt x="19" y="138"/>
                </a:lnTo>
                <a:lnTo>
                  <a:pt x="25" y="146"/>
                </a:lnTo>
                <a:lnTo>
                  <a:pt x="31" y="155"/>
                </a:lnTo>
                <a:lnTo>
                  <a:pt x="37" y="163"/>
                </a:lnTo>
                <a:lnTo>
                  <a:pt x="44" y="171"/>
                </a:lnTo>
                <a:lnTo>
                  <a:pt x="50" y="178"/>
                </a:lnTo>
                <a:lnTo>
                  <a:pt x="81" y="205"/>
                </a:lnTo>
                <a:lnTo>
                  <a:pt x="110" y="232"/>
                </a:lnTo>
                <a:lnTo>
                  <a:pt x="136" y="261"/>
                </a:lnTo>
                <a:lnTo>
                  <a:pt x="165" y="288"/>
                </a:lnTo>
                <a:lnTo>
                  <a:pt x="196" y="313"/>
                </a:lnTo>
                <a:lnTo>
                  <a:pt x="227" y="338"/>
                </a:lnTo>
                <a:lnTo>
                  <a:pt x="259" y="359"/>
                </a:lnTo>
                <a:lnTo>
                  <a:pt x="294" y="378"/>
                </a:lnTo>
                <a:lnTo>
                  <a:pt x="305" y="384"/>
                </a:lnTo>
                <a:lnTo>
                  <a:pt x="313" y="391"/>
                </a:lnTo>
                <a:lnTo>
                  <a:pt x="323" y="399"/>
                </a:lnTo>
                <a:lnTo>
                  <a:pt x="330" y="409"/>
                </a:lnTo>
                <a:lnTo>
                  <a:pt x="338" y="418"/>
                </a:lnTo>
                <a:lnTo>
                  <a:pt x="346" y="426"/>
                </a:lnTo>
                <a:lnTo>
                  <a:pt x="353" y="435"/>
                </a:lnTo>
                <a:lnTo>
                  <a:pt x="361" y="445"/>
                </a:lnTo>
                <a:lnTo>
                  <a:pt x="367" y="449"/>
                </a:lnTo>
                <a:lnTo>
                  <a:pt x="371" y="453"/>
                </a:lnTo>
                <a:lnTo>
                  <a:pt x="378" y="457"/>
                </a:lnTo>
                <a:lnTo>
                  <a:pt x="384" y="458"/>
                </a:lnTo>
                <a:lnTo>
                  <a:pt x="390" y="460"/>
                </a:lnTo>
                <a:lnTo>
                  <a:pt x="395" y="464"/>
                </a:lnTo>
                <a:lnTo>
                  <a:pt x="401" y="466"/>
                </a:lnTo>
                <a:lnTo>
                  <a:pt x="407" y="470"/>
                </a:lnTo>
                <a:lnTo>
                  <a:pt x="411" y="474"/>
                </a:lnTo>
                <a:lnTo>
                  <a:pt x="415" y="480"/>
                </a:lnTo>
                <a:lnTo>
                  <a:pt x="419" y="483"/>
                </a:lnTo>
                <a:lnTo>
                  <a:pt x="422" y="489"/>
                </a:lnTo>
                <a:lnTo>
                  <a:pt x="424" y="493"/>
                </a:lnTo>
                <a:lnTo>
                  <a:pt x="428" y="497"/>
                </a:lnTo>
                <a:lnTo>
                  <a:pt x="432" y="501"/>
                </a:lnTo>
                <a:lnTo>
                  <a:pt x="438" y="503"/>
                </a:lnTo>
                <a:lnTo>
                  <a:pt x="459" y="512"/>
                </a:lnTo>
                <a:lnTo>
                  <a:pt x="480" y="520"/>
                </a:lnTo>
                <a:lnTo>
                  <a:pt x="501" y="529"/>
                </a:lnTo>
                <a:lnTo>
                  <a:pt x="520" y="539"/>
                </a:lnTo>
                <a:lnTo>
                  <a:pt x="537" y="552"/>
                </a:lnTo>
                <a:lnTo>
                  <a:pt x="553" y="568"/>
                </a:lnTo>
                <a:lnTo>
                  <a:pt x="560" y="577"/>
                </a:lnTo>
                <a:lnTo>
                  <a:pt x="566" y="587"/>
                </a:lnTo>
                <a:lnTo>
                  <a:pt x="570" y="598"/>
                </a:lnTo>
                <a:lnTo>
                  <a:pt x="574" y="610"/>
                </a:lnTo>
                <a:lnTo>
                  <a:pt x="589" y="612"/>
                </a:lnTo>
                <a:lnTo>
                  <a:pt x="601" y="616"/>
                </a:lnTo>
                <a:lnTo>
                  <a:pt x="612" y="622"/>
                </a:lnTo>
                <a:lnTo>
                  <a:pt x="622" y="627"/>
                </a:lnTo>
                <a:lnTo>
                  <a:pt x="631" y="635"/>
                </a:lnTo>
                <a:lnTo>
                  <a:pt x="641" y="641"/>
                </a:lnTo>
                <a:lnTo>
                  <a:pt x="649" y="648"/>
                </a:lnTo>
                <a:lnTo>
                  <a:pt x="658" y="656"/>
                </a:lnTo>
                <a:lnTo>
                  <a:pt x="662" y="660"/>
                </a:lnTo>
                <a:lnTo>
                  <a:pt x="668" y="664"/>
                </a:lnTo>
                <a:lnTo>
                  <a:pt x="674" y="668"/>
                </a:lnTo>
                <a:lnTo>
                  <a:pt x="678" y="673"/>
                </a:lnTo>
                <a:lnTo>
                  <a:pt x="683" y="677"/>
                </a:lnTo>
                <a:lnTo>
                  <a:pt x="687" y="679"/>
                </a:lnTo>
                <a:lnTo>
                  <a:pt x="689" y="679"/>
                </a:lnTo>
                <a:lnTo>
                  <a:pt x="689" y="677"/>
                </a:lnTo>
                <a:lnTo>
                  <a:pt x="689" y="668"/>
                </a:lnTo>
                <a:lnTo>
                  <a:pt x="687" y="660"/>
                </a:lnTo>
                <a:lnTo>
                  <a:pt x="683" y="654"/>
                </a:lnTo>
                <a:lnTo>
                  <a:pt x="679" y="646"/>
                </a:lnTo>
                <a:lnTo>
                  <a:pt x="670" y="633"/>
                </a:lnTo>
                <a:lnTo>
                  <a:pt x="656" y="622"/>
                </a:lnTo>
                <a:lnTo>
                  <a:pt x="643" y="610"/>
                </a:lnTo>
                <a:lnTo>
                  <a:pt x="626" y="600"/>
                </a:lnTo>
                <a:lnTo>
                  <a:pt x="610" y="591"/>
                </a:lnTo>
                <a:lnTo>
                  <a:pt x="595" y="581"/>
                </a:lnTo>
                <a:lnTo>
                  <a:pt x="576" y="572"/>
                </a:lnTo>
                <a:lnTo>
                  <a:pt x="559" y="560"/>
                </a:lnTo>
                <a:lnTo>
                  <a:pt x="539" y="549"/>
                </a:lnTo>
                <a:lnTo>
                  <a:pt x="522" y="535"/>
                </a:lnTo>
                <a:lnTo>
                  <a:pt x="505" y="522"/>
                </a:lnTo>
                <a:lnTo>
                  <a:pt x="488" y="510"/>
                </a:lnTo>
                <a:lnTo>
                  <a:pt x="470" y="497"/>
                </a:lnTo>
                <a:lnTo>
                  <a:pt x="453" y="483"/>
                </a:lnTo>
                <a:lnTo>
                  <a:pt x="420" y="460"/>
                </a:lnTo>
                <a:lnTo>
                  <a:pt x="390" y="437"/>
                </a:lnTo>
                <a:lnTo>
                  <a:pt x="361" y="416"/>
                </a:lnTo>
                <a:lnTo>
                  <a:pt x="330" y="393"/>
                </a:lnTo>
                <a:lnTo>
                  <a:pt x="301" y="370"/>
                </a:lnTo>
                <a:lnTo>
                  <a:pt x="275" y="347"/>
                </a:lnTo>
                <a:lnTo>
                  <a:pt x="248" y="322"/>
                </a:lnTo>
                <a:lnTo>
                  <a:pt x="221" y="295"/>
                </a:lnTo>
                <a:lnTo>
                  <a:pt x="202" y="274"/>
                </a:lnTo>
                <a:lnTo>
                  <a:pt x="183" y="253"/>
                </a:lnTo>
                <a:lnTo>
                  <a:pt x="163" y="232"/>
                </a:lnTo>
                <a:lnTo>
                  <a:pt x="144" y="211"/>
                </a:lnTo>
                <a:lnTo>
                  <a:pt x="125" y="190"/>
                </a:lnTo>
                <a:lnTo>
                  <a:pt x="106" y="169"/>
                </a:lnTo>
                <a:lnTo>
                  <a:pt x="89" y="148"/>
                </a:lnTo>
                <a:lnTo>
                  <a:pt x="71" y="125"/>
                </a:lnTo>
                <a:lnTo>
                  <a:pt x="62" y="113"/>
                </a:lnTo>
                <a:lnTo>
                  <a:pt x="54" y="104"/>
                </a:lnTo>
                <a:lnTo>
                  <a:pt x="44" y="92"/>
                </a:lnTo>
                <a:lnTo>
                  <a:pt x="37" y="82"/>
                </a:lnTo>
                <a:lnTo>
                  <a:pt x="29" y="71"/>
                </a:lnTo>
                <a:lnTo>
                  <a:pt x="21" y="61"/>
                </a:lnTo>
                <a:lnTo>
                  <a:pt x="14" y="50"/>
                </a:lnTo>
                <a:lnTo>
                  <a:pt x="8" y="38"/>
                </a:lnTo>
                <a:lnTo>
                  <a:pt x="21" y="58"/>
                </a:lnTo>
                <a:lnTo>
                  <a:pt x="37" y="75"/>
                </a:lnTo>
                <a:lnTo>
                  <a:pt x="52" y="90"/>
                </a:lnTo>
                <a:lnTo>
                  <a:pt x="71" y="102"/>
                </a:lnTo>
                <a:lnTo>
                  <a:pt x="90" y="113"/>
                </a:lnTo>
                <a:lnTo>
                  <a:pt x="112" y="123"/>
                </a:lnTo>
                <a:lnTo>
                  <a:pt x="135" y="129"/>
                </a:lnTo>
                <a:lnTo>
                  <a:pt x="156" y="134"/>
                </a:lnTo>
                <a:lnTo>
                  <a:pt x="204" y="144"/>
                </a:lnTo>
                <a:lnTo>
                  <a:pt x="252" y="152"/>
                </a:lnTo>
                <a:lnTo>
                  <a:pt x="300" y="157"/>
                </a:lnTo>
                <a:lnTo>
                  <a:pt x="346" y="165"/>
                </a:lnTo>
                <a:lnTo>
                  <a:pt x="403" y="176"/>
                </a:lnTo>
                <a:lnTo>
                  <a:pt x="459" y="188"/>
                </a:lnTo>
                <a:lnTo>
                  <a:pt x="514" y="199"/>
                </a:lnTo>
                <a:lnTo>
                  <a:pt x="570" y="209"/>
                </a:lnTo>
                <a:lnTo>
                  <a:pt x="626" y="217"/>
                </a:lnTo>
                <a:lnTo>
                  <a:pt x="681" y="223"/>
                </a:lnTo>
                <a:lnTo>
                  <a:pt x="710" y="224"/>
                </a:lnTo>
                <a:lnTo>
                  <a:pt x="739" y="224"/>
                </a:lnTo>
                <a:lnTo>
                  <a:pt x="766" y="224"/>
                </a:lnTo>
                <a:lnTo>
                  <a:pt x="796" y="224"/>
                </a:lnTo>
                <a:lnTo>
                  <a:pt x="775" y="209"/>
                </a:lnTo>
                <a:lnTo>
                  <a:pt x="754" y="198"/>
                </a:lnTo>
                <a:lnTo>
                  <a:pt x="731" y="184"/>
                </a:lnTo>
                <a:lnTo>
                  <a:pt x="710" y="175"/>
                </a:lnTo>
                <a:lnTo>
                  <a:pt x="687" y="165"/>
                </a:lnTo>
                <a:lnTo>
                  <a:pt x="664" y="157"/>
                </a:lnTo>
                <a:lnTo>
                  <a:pt x="641" y="153"/>
                </a:lnTo>
                <a:lnTo>
                  <a:pt x="618" y="150"/>
                </a:lnTo>
                <a:lnTo>
                  <a:pt x="584" y="146"/>
                </a:lnTo>
                <a:lnTo>
                  <a:pt x="551" y="138"/>
                </a:lnTo>
                <a:lnTo>
                  <a:pt x="520" y="129"/>
                </a:lnTo>
                <a:lnTo>
                  <a:pt x="488" y="119"/>
                </a:lnTo>
                <a:lnTo>
                  <a:pt x="457" y="109"/>
                </a:lnTo>
                <a:lnTo>
                  <a:pt x="424" y="100"/>
                </a:lnTo>
                <a:lnTo>
                  <a:pt x="392" y="92"/>
                </a:lnTo>
                <a:lnTo>
                  <a:pt x="359" y="86"/>
                </a:lnTo>
                <a:lnTo>
                  <a:pt x="326" y="82"/>
                </a:lnTo>
                <a:lnTo>
                  <a:pt x="294" y="75"/>
                </a:lnTo>
                <a:lnTo>
                  <a:pt x="263" y="65"/>
                </a:lnTo>
                <a:lnTo>
                  <a:pt x="232" y="54"/>
                </a:lnTo>
                <a:lnTo>
                  <a:pt x="200" y="42"/>
                </a:lnTo>
                <a:lnTo>
                  <a:pt x="169" y="29"/>
                </a:lnTo>
                <a:lnTo>
                  <a:pt x="140" y="13"/>
                </a:lnTo>
                <a:lnTo>
                  <a:pt x="110" y="0"/>
                </a:lnTo>
                <a:lnTo>
                  <a:pt x="0" y="109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Freeform 95"/>
          <p:cNvSpPr/>
          <p:nvPr/>
        </p:nvSpPr>
        <p:spPr>
          <a:xfrm>
            <a:off x="5245200" y="2341440"/>
            <a:ext cx="1562040" cy="1486080"/>
          </a:xfrm>
          <a:custGeom>
            <a:avLst/>
            <a:gdLst>
              <a:gd name="textAreaLeft" fmla="*/ 0 w 1562040"/>
              <a:gd name="textAreaRight" fmla="*/ 1562400 w 1562040"/>
              <a:gd name="textAreaTop" fmla="*/ 0 h 1486080"/>
              <a:gd name="textAreaBottom" fmla="*/ 1486440 h 1486080"/>
            </a:gdLst>
            <a:ahLst/>
            <a:rect l="textAreaLeft" t="textAreaTop" r="textAreaRight" b="textAreaBottom"/>
            <a:pathLst>
              <a:path w="984" h="936">
                <a:moveTo>
                  <a:pt x="123" y="512"/>
                </a:moveTo>
                <a:lnTo>
                  <a:pt x="138" y="495"/>
                </a:lnTo>
                <a:lnTo>
                  <a:pt x="153" y="477"/>
                </a:lnTo>
                <a:lnTo>
                  <a:pt x="170" y="462"/>
                </a:lnTo>
                <a:lnTo>
                  <a:pt x="186" y="447"/>
                </a:lnTo>
                <a:lnTo>
                  <a:pt x="203" y="431"/>
                </a:lnTo>
                <a:lnTo>
                  <a:pt x="222" y="418"/>
                </a:lnTo>
                <a:lnTo>
                  <a:pt x="240" y="404"/>
                </a:lnTo>
                <a:lnTo>
                  <a:pt x="259" y="391"/>
                </a:lnTo>
                <a:lnTo>
                  <a:pt x="276" y="381"/>
                </a:lnTo>
                <a:lnTo>
                  <a:pt x="295" y="372"/>
                </a:lnTo>
                <a:lnTo>
                  <a:pt x="312" y="362"/>
                </a:lnTo>
                <a:lnTo>
                  <a:pt x="330" y="353"/>
                </a:lnTo>
                <a:lnTo>
                  <a:pt x="347" y="343"/>
                </a:lnTo>
                <a:lnTo>
                  <a:pt x="364" y="333"/>
                </a:lnTo>
                <a:lnTo>
                  <a:pt x="382" y="320"/>
                </a:lnTo>
                <a:lnTo>
                  <a:pt x="397" y="307"/>
                </a:lnTo>
                <a:lnTo>
                  <a:pt x="401" y="303"/>
                </a:lnTo>
                <a:lnTo>
                  <a:pt x="406" y="301"/>
                </a:lnTo>
                <a:lnTo>
                  <a:pt x="412" y="301"/>
                </a:lnTo>
                <a:lnTo>
                  <a:pt x="418" y="299"/>
                </a:lnTo>
                <a:lnTo>
                  <a:pt x="424" y="299"/>
                </a:lnTo>
                <a:lnTo>
                  <a:pt x="430" y="297"/>
                </a:lnTo>
                <a:lnTo>
                  <a:pt x="435" y="295"/>
                </a:lnTo>
                <a:lnTo>
                  <a:pt x="441" y="291"/>
                </a:lnTo>
                <a:lnTo>
                  <a:pt x="451" y="285"/>
                </a:lnTo>
                <a:lnTo>
                  <a:pt x="460" y="278"/>
                </a:lnTo>
                <a:lnTo>
                  <a:pt x="468" y="270"/>
                </a:lnTo>
                <a:lnTo>
                  <a:pt x="477" y="262"/>
                </a:lnTo>
                <a:lnTo>
                  <a:pt x="485" y="255"/>
                </a:lnTo>
                <a:lnTo>
                  <a:pt x="495" y="249"/>
                </a:lnTo>
                <a:lnTo>
                  <a:pt x="504" y="243"/>
                </a:lnTo>
                <a:lnTo>
                  <a:pt x="514" y="238"/>
                </a:lnTo>
                <a:lnTo>
                  <a:pt x="529" y="232"/>
                </a:lnTo>
                <a:lnTo>
                  <a:pt x="543" y="228"/>
                </a:lnTo>
                <a:lnTo>
                  <a:pt x="558" y="222"/>
                </a:lnTo>
                <a:lnTo>
                  <a:pt x="573" y="216"/>
                </a:lnTo>
                <a:lnTo>
                  <a:pt x="587" y="213"/>
                </a:lnTo>
                <a:lnTo>
                  <a:pt x="602" y="207"/>
                </a:lnTo>
                <a:lnTo>
                  <a:pt x="618" y="199"/>
                </a:lnTo>
                <a:lnTo>
                  <a:pt x="631" y="191"/>
                </a:lnTo>
                <a:lnTo>
                  <a:pt x="675" y="168"/>
                </a:lnTo>
                <a:lnTo>
                  <a:pt x="721" y="145"/>
                </a:lnTo>
                <a:lnTo>
                  <a:pt x="765" y="122"/>
                </a:lnTo>
                <a:lnTo>
                  <a:pt x="811" y="99"/>
                </a:lnTo>
                <a:lnTo>
                  <a:pt x="855" y="74"/>
                </a:lnTo>
                <a:lnTo>
                  <a:pt x="900" y="51"/>
                </a:lnTo>
                <a:lnTo>
                  <a:pt x="942" y="26"/>
                </a:lnTo>
                <a:lnTo>
                  <a:pt x="984" y="0"/>
                </a:lnTo>
                <a:lnTo>
                  <a:pt x="942" y="17"/>
                </a:lnTo>
                <a:lnTo>
                  <a:pt x="898" y="34"/>
                </a:lnTo>
                <a:lnTo>
                  <a:pt x="854" y="53"/>
                </a:lnTo>
                <a:lnTo>
                  <a:pt x="811" y="74"/>
                </a:lnTo>
                <a:lnTo>
                  <a:pt x="769" y="96"/>
                </a:lnTo>
                <a:lnTo>
                  <a:pt x="729" y="119"/>
                </a:lnTo>
                <a:lnTo>
                  <a:pt x="689" y="145"/>
                </a:lnTo>
                <a:lnTo>
                  <a:pt x="648" y="172"/>
                </a:lnTo>
                <a:lnTo>
                  <a:pt x="618" y="191"/>
                </a:lnTo>
                <a:lnTo>
                  <a:pt x="587" y="209"/>
                </a:lnTo>
                <a:lnTo>
                  <a:pt x="554" y="226"/>
                </a:lnTo>
                <a:lnTo>
                  <a:pt x="522" y="239"/>
                </a:lnTo>
                <a:lnTo>
                  <a:pt x="489" y="255"/>
                </a:lnTo>
                <a:lnTo>
                  <a:pt x="456" y="270"/>
                </a:lnTo>
                <a:lnTo>
                  <a:pt x="426" y="287"/>
                </a:lnTo>
                <a:lnTo>
                  <a:pt x="395" y="307"/>
                </a:lnTo>
                <a:lnTo>
                  <a:pt x="343" y="310"/>
                </a:lnTo>
                <a:lnTo>
                  <a:pt x="293" y="318"/>
                </a:lnTo>
                <a:lnTo>
                  <a:pt x="243" y="328"/>
                </a:lnTo>
                <a:lnTo>
                  <a:pt x="194" y="339"/>
                </a:lnTo>
                <a:lnTo>
                  <a:pt x="146" y="353"/>
                </a:lnTo>
                <a:lnTo>
                  <a:pt x="96" y="368"/>
                </a:lnTo>
                <a:lnTo>
                  <a:pt x="48" y="383"/>
                </a:lnTo>
                <a:lnTo>
                  <a:pt x="0" y="401"/>
                </a:lnTo>
                <a:lnTo>
                  <a:pt x="34" y="391"/>
                </a:lnTo>
                <a:lnTo>
                  <a:pt x="67" y="383"/>
                </a:lnTo>
                <a:lnTo>
                  <a:pt x="99" y="379"/>
                </a:lnTo>
                <a:lnTo>
                  <a:pt x="132" y="378"/>
                </a:lnTo>
                <a:lnTo>
                  <a:pt x="165" y="379"/>
                </a:lnTo>
                <a:lnTo>
                  <a:pt x="195" y="383"/>
                </a:lnTo>
                <a:lnTo>
                  <a:pt x="228" y="391"/>
                </a:lnTo>
                <a:lnTo>
                  <a:pt x="259" y="401"/>
                </a:lnTo>
                <a:lnTo>
                  <a:pt x="291" y="410"/>
                </a:lnTo>
                <a:lnTo>
                  <a:pt x="322" y="424"/>
                </a:lnTo>
                <a:lnTo>
                  <a:pt x="353" y="439"/>
                </a:lnTo>
                <a:lnTo>
                  <a:pt x="383" y="456"/>
                </a:lnTo>
                <a:lnTo>
                  <a:pt x="414" y="475"/>
                </a:lnTo>
                <a:lnTo>
                  <a:pt x="445" y="495"/>
                </a:lnTo>
                <a:lnTo>
                  <a:pt x="476" y="516"/>
                </a:lnTo>
                <a:lnTo>
                  <a:pt x="506" y="539"/>
                </a:lnTo>
                <a:lnTo>
                  <a:pt x="566" y="585"/>
                </a:lnTo>
                <a:lnTo>
                  <a:pt x="625" y="637"/>
                </a:lnTo>
                <a:lnTo>
                  <a:pt x="683" y="688"/>
                </a:lnTo>
                <a:lnTo>
                  <a:pt x="742" y="740"/>
                </a:lnTo>
                <a:lnTo>
                  <a:pt x="800" y="792"/>
                </a:lnTo>
                <a:lnTo>
                  <a:pt x="855" y="842"/>
                </a:lnTo>
                <a:lnTo>
                  <a:pt x="913" y="890"/>
                </a:lnTo>
                <a:lnTo>
                  <a:pt x="969" y="932"/>
                </a:lnTo>
                <a:lnTo>
                  <a:pt x="953" y="934"/>
                </a:lnTo>
                <a:lnTo>
                  <a:pt x="936" y="936"/>
                </a:lnTo>
                <a:lnTo>
                  <a:pt x="919" y="936"/>
                </a:lnTo>
                <a:lnTo>
                  <a:pt x="901" y="936"/>
                </a:lnTo>
                <a:lnTo>
                  <a:pt x="886" y="934"/>
                </a:lnTo>
                <a:lnTo>
                  <a:pt x="871" y="930"/>
                </a:lnTo>
                <a:lnTo>
                  <a:pt x="857" y="924"/>
                </a:lnTo>
                <a:lnTo>
                  <a:pt x="844" y="917"/>
                </a:lnTo>
                <a:lnTo>
                  <a:pt x="821" y="899"/>
                </a:lnTo>
                <a:lnTo>
                  <a:pt x="796" y="882"/>
                </a:lnTo>
                <a:lnTo>
                  <a:pt x="771" y="867"/>
                </a:lnTo>
                <a:lnTo>
                  <a:pt x="744" y="853"/>
                </a:lnTo>
                <a:lnTo>
                  <a:pt x="692" y="826"/>
                </a:lnTo>
                <a:lnTo>
                  <a:pt x="641" y="803"/>
                </a:lnTo>
                <a:lnTo>
                  <a:pt x="589" y="778"/>
                </a:lnTo>
                <a:lnTo>
                  <a:pt x="537" y="754"/>
                </a:lnTo>
                <a:lnTo>
                  <a:pt x="510" y="740"/>
                </a:lnTo>
                <a:lnTo>
                  <a:pt x="485" y="725"/>
                </a:lnTo>
                <a:lnTo>
                  <a:pt x="460" y="709"/>
                </a:lnTo>
                <a:lnTo>
                  <a:pt x="435" y="690"/>
                </a:lnTo>
                <a:lnTo>
                  <a:pt x="414" y="675"/>
                </a:lnTo>
                <a:lnTo>
                  <a:pt x="393" y="663"/>
                </a:lnTo>
                <a:lnTo>
                  <a:pt x="372" y="652"/>
                </a:lnTo>
                <a:lnTo>
                  <a:pt x="349" y="642"/>
                </a:lnTo>
                <a:lnTo>
                  <a:pt x="324" y="637"/>
                </a:lnTo>
                <a:lnTo>
                  <a:pt x="299" y="631"/>
                </a:lnTo>
                <a:lnTo>
                  <a:pt x="274" y="629"/>
                </a:lnTo>
                <a:lnTo>
                  <a:pt x="249" y="627"/>
                </a:lnTo>
                <a:lnTo>
                  <a:pt x="123" y="512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Freeform 96"/>
          <p:cNvSpPr/>
          <p:nvPr/>
        </p:nvSpPr>
        <p:spPr>
          <a:xfrm>
            <a:off x="5365800" y="2965320"/>
            <a:ext cx="1647720" cy="1459080"/>
          </a:xfrm>
          <a:custGeom>
            <a:avLst/>
            <a:gdLst>
              <a:gd name="textAreaLeft" fmla="*/ 0 w 1647720"/>
              <a:gd name="textAreaRight" fmla="*/ 1648080 w 1647720"/>
              <a:gd name="textAreaTop" fmla="*/ 0 h 1459080"/>
              <a:gd name="textAreaBottom" fmla="*/ 1459440 h 1459080"/>
            </a:gdLst>
            <a:ahLst/>
            <a:rect l="textAreaLeft" t="textAreaTop" r="textAreaRight" b="textAreaBottom"/>
            <a:pathLst>
              <a:path w="1038" h="919">
                <a:moveTo>
                  <a:pt x="93" y="280"/>
                </a:moveTo>
                <a:lnTo>
                  <a:pt x="83" y="280"/>
                </a:lnTo>
                <a:lnTo>
                  <a:pt x="79" y="280"/>
                </a:lnTo>
                <a:lnTo>
                  <a:pt x="77" y="276"/>
                </a:lnTo>
                <a:lnTo>
                  <a:pt x="77" y="274"/>
                </a:lnTo>
                <a:lnTo>
                  <a:pt x="79" y="268"/>
                </a:lnTo>
                <a:lnTo>
                  <a:pt x="81" y="265"/>
                </a:lnTo>
                <a:lnTo>
                  <a:pt x="81" y="261"/>
                </a:lnTo>
                <a:lnTo>
                  <a:pt x="79" y="257"/>
                </a:lnTo>
                <a:lnTo>
                  <a:pt x="93" y="267"/>
                </a:lnTo>
                <a:lnTo>
                  <a:pt x="104" y="274"/>
                </a:lnTo>
                <a:lnTo>
                  <a:pt x="116" y="284"/>
                </a:lnTo>
                <a:lnTo>
                  <a:pt x="127" y="293"/>
                </a:lnTo>
                <a:lnTo>
                  <a:pt x="139" y="305"/>
                </a:lnTo>
                <a:lnTo>
                  <a:pt x="148" y="315"/>
                </a:lnTo>
                <a:lnTo>
                  <a:pt x="158" y="324"/>
                </a:lnTo>
                <a:lnTo>
                  <a:pt x="169" y="334"/>
                </a:lnTo>
                <a:lnTo>
                  <a:pt x="231" y="399"/>
                </a:lnTo>
                <a:lnTo>
                  <a:pt x="290" y="466"/>
                </a:lnTo>
                <a:lnTo>
                  <a:pt x="319" y="502"/>
                </a:lnTo>
                <a:lnTo>
                  <a:pt x="346" y="537"/>
                </a:lnTo>
                <a:lnTo>
                  <a:pt x="373" y="572"/>
                </a:lnTo>
                <a:lnTo>
                  <a:pt x="400" y="608"/>
                </a:lnTo>
                <a:lnTo>
                  <a:pt x="424" y="644"/>
                </a:lnTo>
                <a:lnTo>
                  <a:pt x="448" y="683"/>
                </a:lnTo>
                <a:lnTo>
                  <a:pt x="471" y="721"/>
                </a:lnTo>
                <a:lnTo>
                  <a:pt x="494" y="760"/>
                </a:lnTo>
                <a:lnTo>
                  <a:pt x="515" y="798"/>
                </a:lnTo>
                <a:lnTo>
                  <a:pt x="536" y="838"/>
                </a:lnTo>
                <a:lnTo>
                  <a:pt x="557" y="877"/>
                </a:lnTo>
                <a:lnTo>
                  <a:pt x="576" y="919"/>
                </a:lnTo>
                <a:lnTo>
                  <a:pt x="559" y="913"/>
                </a:lnTo>
                <a:lnTo>
                  <a:pt x="543" y="905"/>
                </a:lnTo>
                <a:lnTo>
                  <a:pt x="530" y="898"/>
                </a:lnTo>
                <a:lnTo>
                  <a:pt x="517" y="888"/>
                </a:lnTo>
                <a:lnTo>
                  <a:pt x="494" y="867"/>
                </a:lnTo>
                <a:lnTo>
                  <a:pt x="471" y="842"/>
                </a:lnTo>
                <a:lnTo>
                  <a:pt x="451" y="817"/>
                </a:lnTo>
                <a:lnTo>
                  <a:pt x="430" y="792"/>
                </a:lnTo>
                <a:lnTo>
                  <a:pt x="407" y="767"/>
                </a:lnTo>
                <a:lnTo>
                  <a:pt x="382" y="746"/>
                </a:lnTo>
                <a:lnTo>
                  <a:pt x="359" y="727"/>
                </a:lnTo>
                <a:lnTo>
                  <a:pt x="336" y="706"/>
                </a:lnTo>
                <a:lnTo>
                  <a:pt x="313" y="685"/>
                </a:lnTo>
                <a:lnTo>
                  <a:pt x="294" y="662"/>
                </a:lnTo>
                <a:lnTo>
                  <a:pt x="275" y="637"/>
                </a:lnTo>
                <a:lnTo>
                  <a:pt x="258" y="612"/>
                </a:lnTo>
                <a:lnTo>
                  <a:pt x="242" y="587"/>
                </a:lnTo>
                <a:lnTo>
                  <a:pt x="229" y="560"/>
                </a:lnTo>
                <a:lnTo>
                  <a:pt x="208" y="512"/>
                </a:lnTo>
                <a:lnTo>
                  <a:pt x="185" y="464"/>
                </a:lnTo>
                <a:lnTo>
                  <a:pt x="160" y="416"/>
                </a:lnTo>
                <a:lnTo>
                  <a:pt x="135" y="368"/>
                </a:lnTo>
                <a:lnTo>
                  <a:pt x="125" y="345"/>
                </a:lnTo>
                <a:lnTo>
                  <a:pt x="116" y="320"/>
                </a:lnTo>
                <a:lnTo>
                  <a:pt x="108" y="295"/>
                </a:lnTo>
                <a:lnTo>
                  <a:pt x="102" y="270"/>
                </a:lnTo>
                <a:lnTo>
                  <a:pt x="98" y="244"/>
                </a:lnTo>
                <a:lnTo>
                  <a:pt x="96" y="219"/>
                </a:lnTo>
                <a:lnTo>
                  <a:pt x="98" y="190"/>
                </a:lnTo>
                <a:lnTo>
                  <a:pt x="102" y="163"/>
                </a:lnTo>
                <a:lnTo>
                  <a:pt x="110" y="136"/>
                </a:lnTo>
                <a:lnTo>
                  <a:pt x="119" y="111"/>
                </a:lnTo>
                <a:lnTo>
                  <a:pt x="133" y="92"/>
                </a:lnTo>
                <a:lnTo>
                  <a:pt x="148" y="75"/>
                </a:lnTo>
                <a:lnTo>
                  <a:pt x="167" y="59"/>
                </a:lnTo>
                <a:lnTo>
                  <a:pt x="187" y="48"/>
                </a:lnTo>
                <a:lnTo>
                  <a:pt x="210" y="40"/>
                </a:lnTo>
                <a:lnTo>
                  <a:pt x="233" y="34"/>
                </a:lnTo>
                <a:lnTo>
                  <a:pt x="259" y="31"/>
                </a:lnTo>
                <a:lnTo>
                  <a:pt x="286" y="29"/>
                </a:lnTo>
                <a:lnTo>
                  <a:pt x="315" y="29"/>
                </a:lnTo>
                <a:lnTo>
                  <a:pt x="346" y="31"/>
                </a:lnTo>
                <a:lnTo>
                  <a:pt x="377" y="34"/>
                </a:lnTo>
                <a:lnTo>
                  <a:pt x="409" y="40"/>
                </a:lnTo>
                <a:lnTo>
                  <a:pt x="444" y="46"/>
                </a:lnTo>
                <a:lnTo>
                  <a:pt x="478" y="54"/>
                </a:lnTo>
                <a:lnTo>
                  <a:pt x="622" y="90"/>
                </a:lnTo>
                <a:lnTo>
                  <a:pt x="770" y="128"/>
                </a:lnTo>
                <a:lnTo>
                  <a:pt x="841" y="144"/>
                </a:lnTo>
                <a:lnTo>
                  <a:pt x="910" y="155"/>
                </a:lnTo>
                <a:lnTo>
                  <a:pt x="943" y="159"/>
                </a:lnTo>
                <a:lnTo>
                  <a:pt x="975" y="161"/>
                </a:lnTo>
                <a:lnTo>
                  <a:pt x="1006" y="161"/>
                </a:lnTo>
                <a:lnTo>
                  <a:pt x="1037" y="161"/>
                </a:lnTo>
                <a:lnTo>
                  <a:pt x="1037" y="159"/>
                </a:lnTo>
                <a:lnTo>
                  <a:pt x="1037" y="157"/>
                </a:lnTo>
                <a:lnTo>
                  <a:pt x="1037" y="155"/>
                </a:lnTo>
                <a:lnTo>
                  <a:pt x="1037" y="151"/>
                </a:lnTo>
                <a:lnTo>
                  <a:pt x="1037" y="150"/>
                </a:lnTo>
                <a:lnTo>
                  <a:pt x="1037" y="146"/>
                </a:lnTo>
                <a:lnTo>
                  <a:pt x="1037" y="142"/>
                </a:lnTo>
                <a:lnTo>
                  <a:pt x="1037" y="140"/>
                </a:lnTo>
                <a:lnTo>
                  <a:pt x="1031" y="136"/>
                </a:lnTo>
                <a:lnTo>
                  <a:pt x="1025" y="132"/>
                </a:lnTo>
                <a:lnTo>
                  <a:pt x="1019" y="128"/>
                </a:lnTo>
                <a:lnTo>
                  <a:pt x="1012" y="127"/>
                </a:lnTo>
                <a:lnTo>
                  <a:pt x="1006" y="125"/>
                </a:lnTo>
                <a:lnTo>
                  <a:pt x="1000" y="123"/>
                </a:lnTo>
                <a:lnTo>
                  <a:pt x="992" y="123"/>
                </a:lnTo>
                <a:lnTo>
                  <a:pt x="987" y="123"/>
                </a:lnTo>
                <a:lnTo>
                  <a:pt x="937" y="119"/>
                </a:lnTo>
                <a:lnTo>
                  <a:pt x="885" y="117"/>
                </a:lnTo>
                <a:lnTo>
                  <a:pt x="833" y="115"/>
                </a:lnTo>
                <a:lnTo>
                  <a:pt x="781" y="117"/>
                </a:lnTo>
                <a:lnTo>
                  <a:pt x="730" y="117"/>
                </a:lnTo>
                <a:lnTo>
                  <a:pt x="678" y="117"/>
                </a:lnTo>
                <a:lnTo>
                  <a:pt x="626" y="115"/>
                </a:lnTo>
                <a:lnTo>
                  <a:pt x="576" y="113"/>
                </a:lnTo>
                <a:lnTo>
                  <a:pt x="563" y="109"/>
                </a:lnTo>
                <a:lnTo>
                  <a:pt x="551" y="105"/>
                </a:lnTo>
                <a:lnTo>
                  <a:pt x="540" y="100"/>
                </a:lnTo>
                <a:lnTo>
                  <a:pt x="528" y="94"/>
                </a:lnTo>
                <a:lnTo>
                  <a:pt x="517" y="86"/>
                </a:lnTo>
                <a:lnTo>
                  <a:pt x="505" y="80"/>
                </a:lnTo>
                <a:lnTo>
                  <a:pt x="494" y="77"/>
                </a:lnTo>
                <a:lnTo>
                  <a:pt x="482" y="75"/>
                </a:lnTo>
                <a:lnTo>
                  <a:pt x="457" y="71"/>
                </a:lnTo>
                <a:lnTo>
                  <a:pt x="432" y="69"/>
                </a:lnTo>
                <a:lnTo>
                  <a:pt x="409" y="65"/>
                </a:lnTo>
                <a:lnTo>
                  <a:pt x="384" y="63"/>
                </a:lnTo>
                <a:lnTo>
                  <a:pt x="361" y="59"/>
                </a:lnTo>
                <a:lnTo>
                  <a:pt x="338" y="57"/>
                </a:lnTo>
                <a:lnTo>
                  <a:pt x="315" y="54"/>
                </a:lnTo>
                <a:lnTo>
                  <a:pt x="290" y="52"/>
                </a:lnTo>
                <a:lnTo>
                  <a:pt x="256" y="48"/>
                </a:lnTo>
                <a:lnTo>
                  <a:pt x="219" y="46"/>
                </a:lnTo>
                <a:lnTo>
                  <a:pt x="183" y="48"/>
                </a:lnTo>
                <a:lnTo>
                  <a:pt x="146" y="52"/>
                </a:lnTo>
                <a:lnTo>
                  <a:pt x="110" y="54"/>
                </a:lnTo>
                <a:lnTo>
                  <a:pt x="73" y="54"/>
                </a:lnTo>
                <a:lnTo>
                  <a:pt x="37" y="54"/>
                </a:lnTo>
                <a:lnTo>
                  <a:pt x="0" y="48"/>
                </a:lnTo>
                <a:lnTo>
                  <a:pt x="52" y="57"/>
                </a:lnTo>
                <a:lnTo>
                  <a:pt x="104" y="67"/>
                </a:lnTo>
                <a:lnTo>
                  <a:pt x="156" y="73"/>
                </a:lnTo>
                <a:lnTo>
                  <a:pt x="208" y="79"/>
                </a:lnTo>
                <a:lnTo>
                  <a:pt x="261" y="82"/>
                </a:lnTo>
                <a:lnTo>
                  <a:pt x="313" y="82"/>
                </a:lnTo>
                <a:lnTo>
                  <a:pt x="365" y="80"/>
                </a:lnTo>
                <a:lnTo>
                  <a:pt x="417" y="75"/>
                </a:lnTo>
                <a:lnTo>
                  <a:pt x="453" y="69"/>
                </a:lnTo>
                <a:lnTo>
                  <a:pt x="488" y="61"/>
                </a:lnTo>
                <a:lnTo>
                  <a:pt x="522" y="56"/>
                </a:lnTo>
                <a:lnTo>
                  <a:pt x="557" y="50"/>
                </a:lnTo>
                <a:lnTo>
                  <a:pt x="589" y="44"/>
                </a:lnTo>
                <a:lnTo>
                  <a:pt x="624" y="38"/>
                </a:lnTo>
                <a:lnTo>
                  <a:pt x="659" y="34"/>
                </a:lnTo>
                <a:lnTo>
                  <a:pt x="693" y="31"/>
                </a:lnTo>
                <a:lnTo>
                  <a:pt x="733" y="29"/>
                </a:lnTo>
                <a:lnTo>
                  <a:pt x="774" y="27"/>
                </a:lnTo>
                <a:lnTo>
                  <a:pt x="816" y="27"/>
                </a:lnTo>
                <a:lnTo>
                  <a:pt x="856" y="29"/>
                </a:lnTo>
                <a:lnTo>
                  <a:pt x="898" y="29"/>
                </a:lnTo>
                <a:lnTo>
                  <a:pt x="939" y="29"/>
                </a:lnTo>
                <a:lnTo>
                  <a:pt x="979" y="27"/>
                </a:lnTo>
                <a:lnTo>
                  <a:pt x="1021" y="23"/>
                </a:lnTo>
                <a:lnTo>
                  <a:pt x="1023" y="23"/>
                </a:lnTo>
                <a:lnTo>
                  <a:pt x="1027" y="23"/>
                </a:lnTo>
                <a:lnTo>
                  <a:pt x="1029" y="21"/>
                </a:lnTo>
                <a:lnTo>
                  <a:pt x="1031" y="19"/>
                </a:lnTo>
                <a:lnTo>
                  <a:pt x="1033" y="19"/>
                </a:lnTo>
                <a:lnTo>
                  <a:pt x="1035" y="17"/>
                </a:lnTo>
                <a:lnTo>
                  <a:pt x="1037" y="15"/>
                </a:lnTo>
                <a:lnTo>
                  <a:pt x="1038" y="13"/>
                </a:lnTo>
                <a:lnTo>
                  <a:pt x="969" y="6"/>
                </a:lnTo>
                <a:lnTo>
                  <a:pt x="900" y="2"/>
                </a:lnTo>
                <a:lnTo>
                  <a:pt x="831" y="0"/>
                </a:lnTo>
                <a:lnTo>
                  <a:pt x="762" y="2"/>
                </a:lnTo>
                <a:lnTo>
                  <a:pt x="693" y="6"/>
                </a:lnTo>
                <a:lnTo>
                  <a:pt x="622" y="11"/>
                </a:lnTo>
                <a:lnTo>
                  <a:pt x="553" y="15"/>
                </a:lnTo>
                <a:lnTo>
                  <a:pt x="484" y="21"/>
                </a:lnTo>
                <a:lnTo>
                  <a:pt x="478" y="23"/>
                </a:lnTo>
                <a:lnTo>
                  <a:pt x="472" y="25"/>
                </a:lnTo>
                <a:lnTo>
                  <a:pt x="467" y="27"/>
                </a:lnTo>
                <a:lnTo>
                  <a:pt x="461" y="31"/>
                </a:lnTo>
                <a:lnTo>
                  <a:pt x="455" y="34"/>
                </a:lnTo>
                <a:lnTo>
                  <a:pt x="449" y="36"/>
                </a:lnTo>
                <a:lnTo>
                  <a:pt x="444" y="40"/>
                </a:lnTo>
                <a:lnTo>
                  <a:pt x="438" y="40"/>
                </a:lnTo>
                <a:lnTo>
                  <a:pt x="392" y="42"/>
                </a:lnTo>
                <a:lnTo>
                  <a:pt x="344" y="46"/>
                </a:lnTo>
                <a:lnTo>
                  <a:pt x="298" y="52"/>
                </a:lnTo>
                <a:lnTo>
                  <a:pt x="252" y="56"/>
                </a:lnTo>
                <a:lnTo>
                  <a:pt x="204" y="59"/>
                </a:lnTo>
                <a:lnTo>
                  <a:pt x="158" y="63"/>
                </a:lnTo>
                <a:lnTo>
                  <a:pt x="112" y="67"/>
                </a:lnTo>
                <a:lnTo>
                  <a:pt x="64" y="67"/>
                </a:lnTo>
                <a:lnTo>
                  <a:pt x="108" y="69"/>
                </a:lnTo>
                <a:lnTo>
                  <a:pt x="150" y="75"/>
                </a:lnTo>
                <a:lnTo>
                  <a:pt x="192" y="84"/>
                </a:lnTo>
                <a:lnTo>
                  <a:pt x="235" y="96"/>
                </a:lnTo>
                <a:lnTo>
                  <a:pt x="275" y="111"/>
                </a:lnTo>
                <a:lnTo>
                  <a:pt x="315" y="127"/>
                </a:lnTo>
                <a:lnTo>
                  <a:pt x="355" y="146"/>
                </a:lnTo>
                <a:lnTo>
                  <a:pt x="396" y="165"/>
                </a:lnTo>
                <a:lnTo>
                  <a:pt x="472" y="207"/>
                </a:lnTo>
                <a:lnTo>
                  <a:pt x="549" y="253"/>
                </a:lnTo>
                <a:lnTo>
                  <a:pt x="626" y="299"/>
                </a:lnTo>
                <a:lnTo>
                  <a:pt x="703" y="343"/>
                </a:lnTo>
                <a:lnTo>
                  <a:pt x="722" y="355"/>
                </a:lnTo>
                <a:lnTo>
                  <a:pt x="739" y="364"/>
                </a:lnTo>
                <a:lnTo>
                  <a:pt x="758" y="376"/>
                </a:lnTo>
                <a:lnTo>
                  <a:pt x="776" y="387"/>
                </a:lnTo>
                <a:lnTo>
                  <a:pt x="795" y="399"/>
                </a:lnTo>
                <a:lnTo>
                  <a:pt x="812" y="410"/>
                </a:lnTo>
                <a:lnTo>
                  <a:pt x="831" y="420"/>
                </a:lnTo>
                <a:lnTo>
                  <a:pt x="850" y="430"/>
                </a:lnTo>
                <a:lnTo>
                  <a:pt x="862" y="435"/>
                </a:lnTo>
                <a:lnTo>
                  <a:pt x="875" y="439"/>
                </a:lnTo>
                <a:lnTo>
                  <a:pt x="887" y="437"/>
                </a:lnTo>
                <a:lnTo>
                  <a:pt x="900" y="435"/>
                </a:lnTo>
                <a:lnTo>
                  <a:pt x="912" y="430"/>
                </a:lnTo>
                <a:lnTo>
                  <a:pt x="921" y="422"/>
                </a:lnTo>
                <a:lnTo>
                  <a:pt x="933" y="410"/>
                </a:lnTo>
                <a:lnTo>
                  <a:pt x="943" y="399"/>
                </a:lnTo>
                <a:lnTo>
                  <a:pt x="850" y="370"/>
                </a:lnTo>
                <a:lnTo>
                  <a:pt x="762" y="338"/>
                </a:lnTo>
                <a:lnTo>
                  <a:pt x="674" y="303"/>
                </a:lnTo>
                <a:lnTo>
                  <a:pt x="588" y="267"/>
                </a:lnTo>
                <a:lnTo>
                  <a:pt x="501" y="228"/>
                </a:lnTo>
                <a:lnTo>
                  <a:pt x="417" y="188"/>
                </a:lnTo>
                <a:lnTo>
                  <a:pt x="329" y="150"/>
                </a:lnTo>
                <a:lnTo>
                  <a:pt x="242" y="109"/>
                </a:lnTo>
                <a:lnTo>
                  <a:pt x="233" y="105"/>
                </a:lnTo>
                <a:lnTo>
                  <a:pt x="221" y="100"/>
                </a:lnTo>
                <a:lnTo>
                  <a:pt x="212" y="96"/>
                </a:lnTo>
                <a:lnTo>
                  <a:pt x="200" y="92"/>
                </a:lnTo>
                <a:lnTo>
                  <a:pt x="187" y="90"/>
                </a:lnTo>
                <a:lnTo>
                  <a:pt x="175" y="88"/>
                </a:lnTo>
                <a:lnTo>
                  <a:pt x="164" y="90"/>
                </a:lnTo>
                <a:lnTo>
                  <a:pt x="150" y="92"/>
                </a:lnTo>
                <a:lnTo>
                  <a:pt x="93" y="28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Freeform 97"/>
          <p:cNvSpPr/>
          <p:nvPr/>
        </p:nvSpPr>
        <p:spPr>
          <a:xfrm>
            <a:off x="4175280" y="1424160"/>
            <a:ext cx="758520" cy="1143000"/>
          </a:xfrm>
          <a:custGeom>
            <a:avLst/>
            <a:gdLst>
              <a:gd name="textAreaLeft" fmla="*/ 0 w 758520"/>
              <a:gd name="textAreaRight" fmla="*/ 758880 w 75852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478" h="720">
                <a:moveTo>
                  <a:pt x="467" y="720"/>
                </a:moveTo>
                <a:lnTo>
                  <a:pt x="457" y="695"/>
                </a:lnTo>
                <a:lnTo>
                  <a:pt x="447" y="670"/>
                </a:lnTo>
                <a:lnTo>
                  <a:pt x="436" y="645"/>
                </a:lnTo>
                <a:lnTo>
                  <a:pt x="424" y="622"/>
                </a:lnTo>
                <a:lnTo>
                  <a:pt x="413" y="599"/>
                </a:lnTo>
                <a:lnTo>
                  <a:pt x="399" y="574"/>
                </a:lnTo>
                <a:lnTo>
                  <a:pt x="386" y="551"/>
                </a:lnTo>
                <a:lnTo>
                  <a:pt x="372" y="526"/>
                </a:lnTo>
                <a:lnTo>
                  <a:pt x="359" y="507"/>
                </a:lnTo>
                <a:lnTo>
                  <a:pt x="348" y="487"/>
                </a:lnTo>
                <a:lnTo>
                  <a:pt x="336" y="468"/>
                </a:lnTo>
                <a:lnTo>
                  <a:pt x="323" y="449"/>
                </a:lnTo>
                <a:lnTo>
                  <a:pt x="311" y="430"/>
                </a:lnTo>
                <a:lnTo>
                  <a:pt x="300" y="409"/>
                </a:lnTo>
                <a:lnTo>
                  <a:pt x="290" y="388"/>
                </a:lnTo>
                <a:lnTo>
                  <a:pt x="280" y="367"/>
                </a:lnTo>
                <a:lnTo>
                  <a:pt x="277" y="359"/>
                </a:lnTo>
                <a:lnTo>
                  <a:pt x="273" y="353"/>
                </a:lnTo>
                <a:lnTo>
                  <a:pt x="269" y="347"/>
                </a:lnTo>
                <a:lnTo>
                  <a:pt x="263" y="342"/>
                </a:lnTo>
                <a:lnTo>
                  <a:pt x="255" y="336"/>
                </a:lnTo>
                <a:lnTo>
                  <a:pt x="250" y="330"/>
                </a:lnTo>
                <a:lnTo>
                  <a:pt x="242" y="324"/>
                </a:lnTo>
                <a:lnTo>
                  <a:pt x="236" y="319"/>
                </a:lnTo>
                <a:lnTo>
                  <a:pt x="229" y="305"/>
                </a:lnTo>
                <a:lnTo>
                  <a:pt x="223" y="292"/>
                </a:lnTo>
                <a:lnTo>
                  <a:pt x="217" y="278"/>
                </a:lnTo>
                <a:lnTo>
                  <a:pt x="211" y="265"/>
                </a:lnTo>
                <a:lnTo>
                  <a:pt x="207" y="252"/>
                </a:lnTo>
                <a:lnTo>
                  <a:pt x="202" y="240"/>
                </a:lnTo>
                <a:lnTo>
                  <a:pt x="198" y="227"/>
                </a:lnTo>
                <a:lnTo>
                  <a:pt x="190" y="213"/>
                </a:lnTo>
                <a:lnTo>
                  <a:pt x="173" y="182"/>
                </a:lnTo>
                <a:lnTo>
                  <a:pt x="152" y="154"/>
                </a:lnTo>
                <a:lnTo>
                  <a:pt x="131" y="125"/>
                </a:lnTo>
                <a:lnTo>
                  <a:pt x="106" y="98"/>
                </a:lnTo>
                <a:lnTo>
                  <a:pt x="81" y="73"/>
                </a:lnTo>
                <a:lnTo>
                  <a:pt x="54" y="46"/>
                </a:lnTo>
                <a:lnTo>
                  <a:pt x="27" y="23"/>
                </a:lnTo>
                <a:lnTo>
                  <a:pt x="0" y="0"/>
                </a:lnTo>
                <a:lnTo>
                  <a:pt x="8" y="16"/>
                </a:lnTo>
                <a:lnTo>
                  <a:pt x="18" y="29"/>
                </a:lnTo>
                <a:lnTo>
                  <a:pt x="27" y="40"/>
                </a:lnTo>
                <a:lnTo>
                  <a:pt x="41" y="52"/>
                </a:lnTo>
                <a:lnTo>
                  <a:pt x="52" y="64"/>
                </a:lnTo>
                <a:lnTo>
                  <a:pt x="64" y="75"/>
                </a:lnTo>
                <a:lnTo>
                  <a:pt x="75" y="88"/>
                </a:lnTo>
                <a:lnTo>
                  <a:pt x="87" y="102"/>
                </a:lnTo>
                <a:lnTo>
                  <a:pt x="112" y="136"/>
                </a:lnTo>
                <a:lnTo>
                  <a:pt x="137" y="171"/>
                </a:lnTo>
                <a:lnTo>
                  <a:pt x="160" y="205"/>
                </a:lnTo>
                <a:lnTo>
                  <a:pt x="181" y="240"/>
                </a:lnTo>
                <a:lnTo>
                  <a:pt x="202" y="275"/>
                </a:lnTo>
                <a:lnTo>
                  <a:pt x="225" y="309"/>
                </a:lnTo>
                <a:lnTo>
                  <a:pt x="246" y="346"/>
                </a:lnTo>
                <a:lnTo>
                  <a:pt x="267" y="382"/>
                </a:lnTo>
                <a:lnTo>
                  <a:pt x="275" y="392"/>
                </a:lnTo>
                <a:lnTo>
                  <a:pt x="282" y="403"/>
                </a:lnTo>
                <a:lnTo>
                  <a:pt x="290" y="413"/>
                </a:lnTo>
                <a:lnTo>
                  <a:pt x="298" y="422"/>
                </a:lnTo>
                <a:lnTo>
                  <a:pt x="305" y="432"/>
                </a:lnTo>
                <a:lnTo>
                  <a:pt x="313" y="440"/>
                </a:lnTo>
                <a:lnTo>
                  <a:pt x="321" y="449"/>
                </a:lnTo>
                <a:lnTo>
                  <a:pt x="328" y="461"/>
                </a:lnTo>
                <a:lnTo>
                  <a:pt x="332" y="464"/>
                </a:lnTo>
                <a:lnTo>
                  <a:pt x="332" y="472"/>
                </a:lnTo>
                <a:lnTo>
                  <a:pt x="334" y="478"/>
                </a:lnTo>
                <a:lnTo>
                  <a:pt x="334" y="484"/>
                </a:lnTo>
                <a:lnTo>
                  <a:pt x="334" y="489"/>
                </a:lnTo>
                <a:lnTo>
                  <a:pt x="336" y="495"/>
                </a:lnTo>
                <a:lnTo>
                  <a:pt x="336" y="499"/>
                </a:lnTo>
                <a:lnTo>
                  <a:pt x="338" y="503"/>
                </a:lnTo>
                <a:lnTo>
                  <a:pt x="359" y="526"/>
                </a:lnTo>
                <a:lnTo>
                  <a:pt x="378" y="551"/>
                </a:lnTo>
                <a:lnTo>
                  <a:pt x="394" y="576"/>
                </a:lnTo>
                <a:lnTo>
                  <a:pt x="407" y="601"/>
                </a:lnTo>
                <a:lnTo>
                  <a:pt x="422" y="628"/>
                </a:lnTo>
                <a:lnTo>
                  <a:pt x="438" y="652"/>
                </a:lnTo>
                <a:lnTo>
                  <a:pt x="453" y="677"/>
                </a:lnTo>
                <a:lnTo>
                  <a:pt x="474" y="702"/>
                </a:lnTo>
                <a:lnTo>
                  <a:pt x="474" y="700"/>
                </a:lnTo>
                <a:lnTo>
                  <a:pt x="474" y="700"/>
                </a:lnTo>
                <a:lnTo>
                  <a:pt x="476" y="698"/>
                </a:lnTo>
                <a:lnTo>
                  <a:pt x="476" y="698"/>
                </a:lnTo>
                <a:lnTo>
                  <a:pt x="476" y="697"/>
                </a:lnTo>
                <a:lnTo>
                  <a:pt x="476" y="697"/>
                </a:lnTo>
                <a:lnTo>
                  <a:pt x="478" y="695"/>
                </a:lnTo>
                <a:lnTo>
                  <a:pt x="478" y="695"/>
                </a:lnTo>
                <a:lnTo>
                  <a:pt x="467" y="72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Freeform 98"/>
          <p:cNvSpPr/>
          <p:nvPr/>
        </p:nvSpPr>
        <p:spPr>
          <a:xfrm>
            <a:off x="3538440" y="1881360"/>
            <a:ext cx="1246320" cy="925200"/>
          </a:xfrm>
          <a:custGeom>
            <a:avLst/>
            <a:gdLst>
              <a:gd name="textAreaLeft" fmla="*/ 0 w 1246320"/>
              <a:gd name="textAreaRight" fmla="*/ 1246320 w 1246320"/>
              <a:gd name="textAreaTop" fmla="*/ 0 h 925200"/>
              <a:gd name="textAreaBottom" fmla="*/ 925560 h 925200"/>
            </a:gdLst>
            <a:ahLst/>
            <a:rect l="textAreaLeft" t="textAreaTop" r="textAreaRight" b="textAreaBottom"/>
            <a:pathLst>
              <a:path w="785" h="583">
                <a:moveTo>
                  <a:pt x="750" y="518"/>
                </a:moveTo>
                <a:lnTo>
                  <a:pt x="722" y="493"/>
                </a:lnTo>
                <a:lnTo>
                  <a:pt x="693" y="470"/>
                </a:lnTo>
                <a:lnTo>
                  <a:pt x="664" y="447"/>
                </a:lnTo>
                <a:lnTo>
                  <a:pt x="633" y="426"/>
                </a:lnTo>
                <a:lnTo>
                  <a:pt x="603" y="407"/>
                </a:lnTo>
                <a:lnTo>
                  <a:pt x="570" y="387"/>
                </a:lnTo>
                <a:lnTo>
                  <a:pt x="538" y="370"/>
                </a:lnTo>
                <a:lnTo>
                  <a:pt x="503" y="353"/>
                </a:lnTo>
                <a:lnTo>
                  <a:pt x="490" y="345"/>
                </a:lnTo>
                <a:lnTo>
                  <a:pt x="478" y="338"/>
                </a:lnTo>
                <a:lnTo>
                  <a:pt x="465" y="328"/>
                </a:lnTo>
                <a:lnTo>
                  <a:pt x="455" y="318"/>
                </a:lnTo>
                <a:lnTo>
                  <a:pt x="434" y="297"/>
                </a:lnTo>
                <a:lnTo>
                  <a:pt x="413" y="276"/>
                </a:lnTo>
                <a:lnTo>
                  <a:pt x="394" y="253"/>
                </a:lnTo>
                <a:lnTo>
                  <a:pt x="374" y="232"/>
                </a:lnTo>
                <a:lnTo>
                  <a:pt x="351" y="211"/>
                </a:lnTo>
                <a:lnTo>
                  <a:pt x="328" y="192"/>
                </a:lnTo>
                <a:lnTo>
                  <a:pt x="317" y="184"/>
                </a:lnTo>
                <a:lnTo>
                  <a:pt x="307" y="176"/>
                </a:lnTo>
                <a:lnTo>
                  <a:pt x="296" y="169"/>
                </a:lnTo>
                <a:lnTo>
                  <a:pt x="286" y="163"/>
                </a:lnTo>
                <a:lnTo>
                  <a:pt x="277" y="155"/>
                </a:lnTo>
                <a:lnTo>
                  <a:pt x="265" y="148"/>
                </a:lnTo>
                <a:lnTo>
                  <a:pt x="255" y="140"/>
                </a:lnTo>
                <a:lnTo>
                  <a:pt x="244" y="134"/>
                </a:lnTo>
                <a:lnTo>
                  <a:pt x="236" y="130"/>
                </a:lnTo>
                <a:lnTo>
                  <a:pt x="231" y="125"/>
                </a:lnTo>
                <a:lnTo>
                  <a:pt x="225" y="119"/>
                </a:lnTo>
                <a:lnTo>
                  <a:pt x="219" y="113"/>
                </a:lnTo>
                <a:lnTo>
                  <a:pt x="213" y="107"/>
                </a:lnTo>
                <a:lnTo>
                  <a:pt x="206" y="102"/>
                </a:lnTo>
                <a:lnTo>
                  <a:pt x="200" y="96"/>
                </a:lnTo>
                <a:lnTo>
                  <a:pt x="192" y="90"/>
                </a:lnTo>
                <a:lnTo>
                  <a:pt x="169" y="77"/>
                </a:lnTo>
                <a:lnTo>
                  <a:pt x="148" y="61"/>
                </a:lnTo>
                <a:lnTo>
                  <a:pt x="125" y="48"/>
                </a:lnTo>
                <a:lnTo>
                  <a:pt x="100" y="36"/>
                </a:lnTo>
                <a:lnTo>
                  <a:pt x="77" y="25"/>
                </a:lnTo>
                <a:lnTo>
                  <a:pt x="52" y="13"/>
                </a:lnTo>
                <a:lnTo>
                  <a:pt x="27" y="6"/>
                </a:lnTo>
                <a:lnTo>
                  <a:pt x="0" y="0"/>
                </a:lnTo>
                <a:lnTo>
                  <a:pt x="12" y="13"/>
                </a:lnTo>
                <a:lnTo>
                  <a:pt x="27" y="25"/>
                </a:lnTo>
                <a:lnTo>
                  <a:pt x="42" y="36"/>
                </a:lnTo>
                <a:lnTo>
                  <a:pt x="58" y="48"/>
                </a:lnTo>
                <a:lnTo>
                  <a:pt x="73" y="58"/>
                </a:lnTo>
                <a:lnTo>
                  <a:pt x="90" y="69"/>
                </a:lnTo>
                <a:lnTo>
                  <a:pt x="106" y="81"/>
                </a:lnTo>
                <a:lnTo>
                  <a:pt x="119" y="94"/>
                </a:lnTo>
                <a:lnTo>
                  <a:pt x="123" y="96"/>
                </a:lnTo>
                <a:lnTo>
                  <a:pt x="127" y="98"/>
                </a:lnTo>
                <a:lnTo>
                  <a:pt x="131" y="100"/>
                </a:lnTo>
                <a:lnTo>
                  <a:pt x="135" y="102"/>
                </a:lnTo>
                <a:lnTo>
                  <a:pt x="140" y="102"/>
                </a:lnTo>
                <a:lnTo>
                  <a:pt x="144" y="104"/>
                </a:lnTo>
                <a:lnTo>
                  <a:pt x="148" y="105"/>
                </a:lnTo>
                <a:lnTo>
                  <a:pt x="152" y="109"/>
                </a:lnTo>
                <a:lnTo>
                  <a:pt x="202" y="150"/>
                </a:lnTo>
                <a:lnTo>
                  <a:pt x="250" y="188"/>
                </a:lnTo>
                <a:lnTo>
                  <a:pt x="298" y="226"/>
                </a:lnTo>
                <a:lnTo>
                  <a:pt x="348" y="265"/>
                </a:lnTo>
                <a:lnTo>
                  <a:pt x="396" y="303"/>
                </a:lnTo>
                <a:lnTo>
                  <a:pt x="445" y="341"/>
                </a:lnTo>
                <a:lnTo>
                  <a:pt x="495" y="380"/>
                </a:lnTo>
                <a:lnTo>
                  <a:pt x="547" y="418"/>
                </a:lnTo>
                <a:lnTo>
                  <a:pt x="564" y="434"/>
                </a:lnTo>
                <a:lnTo>
                  <a:pt x="584" y="447"/>
                </a:lnTo>
                <a:lnTo>
                  <a:pt x="603" y="462"/>
                </a:lnTo>
                <a:lnTo>
                  <a:pt x="620" y="476"/>
                </a:lnTo>
                <a:lnTo>
                  <a:pt x="639" y="487"/>
                </a:lnTo>
                <a:lnTo>
                  <a:pt x="660" y="499"/>
                </a:lnTo>
                <a:lnTo>
                  <a:pt x="679" y="510"/>
                </a:lnTo>
                <a:lnTo>
                  <a:pt x="701" y="518"/>
                </a:lnTo>
                <a:lnTo>
                  <a:pt x="703" y="528"/>
                </a:lnTo>
                <a:lnTo>
                  <a:pt x="704" y="537"/>
                </a:lnTo>
                <a:lnTo>
                  <a:pt x="706" y="545"/>
                </a:lnTo>
                <a:lnTo>
                  <a:pt x="710" y="551"/>
                </a:lnTo>
                <a:lnTo>
                  <a:pt x="720" y="560"/>
                </a:lnTo>
                <a:lnTo>
                  <a:pt x="731" y="566"/>
                </a:lnTo>
                <a:lnTo>
                  <a:pt x="745" y="572"/>
                </a:lnTo>
                <a:lnTo>
                  <a:pt x="758" y="574"/>
                </a:lnTo>
                <a:lnTo>
                  <a:pt x="772" y="579"/>
                </a:lnTo>
                <a:lnTo>
                  <a:pt x="785" y="583"/>
                </a:lnTo>
                <a:lnTo>
                  <a:pt x="750" y="518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Freeform 99"/>
          <p:cNvSpPr/>
          <p:nvPr/>
        </p:nvSpPr>
        <p:spPr>
          <a:xfrm>
            <a:off x="3873600" y="3240000"/>
            <a:ext cx="1266840" cy="1266840"/>
          </a:xfrm>
          <a:custGeom>
            <a:avLst/>
            <a:gdLst>
              <a:gd name="textAreaLeft" fmla="*/ 0 w 1266840"/>
              <a:gd name="textAreaRight" fmla="*/ 1267200 w 1266840"/>
              <a:gd name="textAreaTop" fmla="*/ 0 h 1266840"/>
              <a:gd name="textAreaBottom" fmla="*/ 1267200 h 1266840"/>
            </a:gdLst>
            <a:ahLst/>
            <a:rect l="textAreaLeft" t="textAreaTop" r="textAreaRight" b="textAreaBottom"/>
            <a:pathLst>
              <a:path w="798" h="798">
                <a:moveTo>
                  <a:pt x="651" y="11"/>
                </a:moveTo>
                <a:lnTo>
                  <a:pt x="609" y="59"/>
                </a:lnTo>
                <a:lnTo>
                  <a:pt x="566" y="107"/>
                </a:lnTo>
                <a:lnTo>
                  <a:pt x="526" y="157"/>
                </a:lnTo>
                <a:lnTo>
                  <a:pt x="486" y="207"/>
                </a:lnTo>
                <a:lnTo>
                  <a:pt x="445" y="257"/>
                </a:lnTo>
                <a:lnTo>
                  <a:pt x="405" y="306"/>
                </a:lnTo>
                <a:lnTo>
                  <a:pt x="361" y="354"/>
                </a:lnTo>
                <a:lnTo>
                  <a:pt x="317" y="402"/>
                </a:lnTo>
                <a:lnTo>
                  <a:pt x="309" y="408"/>
                </a:lnTo>
                <a:lnTo>
                  <a:pt x="303" y="416"/>
                </a:lnTo>
                <a:lnTo>
                  <a:pt x="298" y="423"/>
                </a:lnTo>
                <a:lnTo>
                  <a:pt x="292" y="431"/>
                </a:lnTo>
                <a:lnTo>
                  <a:pt x="284" y="439"/>
                </a:lnTo>
                <a:lnTo>
                  <a:pt x="279" y="447"/>
                </a:lnTo>
                <a:lnTo>
                  <a:pt x="273" y="456"/>
                </a:lnTo>
                <a:lnTo>
                  <a:pt x="267" y="464"/>
                </a:lnTo>
                <a:lnTo>
                  <a:pt x="257" y="473"/>
                </a:lnTo>
                <a:lnTo>
                  <a:pt x="248" y="483"/>
                </a:lnTo>
                <a:lnTo>
                  <a:pt x="238" y="491"/>
                </a:lnTo>
                <a:lnTo>
                  <a:pt x="229" y="500"/>
                </a:lnTo>
                <a:lnTo>
                  <a:pt x="221" y="510"/>
                </a:lnTo>
                <a:lnTo>
                  <a:pt x="211" y="519"/>
                </a:lnTo>
                <a:lnTo>
                  <a:pt x="204" y="529"/>
                </a:lnTo>
                <a:lnTo>
                  <a:pt x="196" y="539"/>
                </a:lnTo>
                <a:lnTo>
                  <a:pt x="185" y="552"/>
                </a:lnTo>
                <a:lnTo>
                  <a:pt x="175" y="565"/>
                </a:lnTo>
                <a:lnTo>
                  <a:pt x="165" y="579"/>
                </a:lnTo>
                <a:lnTo>
                  <a:pt x="158" y="592"/>
                </a:lnTo>
                <a:lnTo>
                  <a:pt x="148" y="606"/>
                </a:lnTo>
                <a:lnTo>
                  <a:pt x="138" y="619"/>
                </a:lnTo>
                <a:lnTo>
                  <a:pt x="127" y="631"/>
                </a:lnTo>
                <a:lnTo>
                  <a:pt x="117" y="644"/>
                </a:lnTo>
                <a:lnTo>
                  <a:pt x="102" y="661"/>
                </a:lnTo>
                <a:lnTo>
                  <a:pt x="89" y="679"/>
                </a:lnTo>
                <a:lnTo>
                  <a:pt x="75" y="696"/>
                </a:lnTo>
                <a:lnTo>
                  <a:pt x="62" y="713"/>
                </a:lnTo>
                <a:lnTo>
                  <a:pt x="48" y="730"/>
                </a:lnTo>
                <a:lnTo>
                  <a:pt x="35" y="748"/>
                </a:lnTo>
                <a:lnTo>
                  <a:pt x="20" y="763"/>
                </a:lnTo>
                <a:lnTo>
                  <a:pt x="2" y="778"/>
                </a:lnTo>
                <a:lnTo>
                  <a:pt x="0" y="780"/>
                </a:lnTo>
                <a:lnTo>
                  <a:pt x="0" y="780"/>
                </a:lnTo>
                <a:lnTo>
                  <a:pt x="0" y="782"/>
                </a:lnTo>
                <a:lnTo>
                  <a:pt x="0" y="784"/>
                </a:lnTo>
                <a:lnTo>
                  <a:pt x="0" y="788"/>
                </a:lnTo>
                <a:lnTo>
                  <a:pt x="0" y="790"/>
                </a:lnTo>
                <a:lnTo>
                  <a:pt x="0" y="792"/>
                </a:lnTo>
                <a:lnTo>
                  <a:pt x="2" y="794"/>
                </a:lnTo>
                <a:lnTo>
                  <a:pt x="4" y="796"/>
                </a:lnTo>
                <a:lnTo>
                  <a:pt x="6" y="798"/>
                </a:lnTo>
                <a:lnTo>
                  <a:pt x="8" y="798"/>
                </a:lnTo>
                <a:lnTo>
                  <a:pt x="10" y="796"/>
                </a:lnTo>
                <a:lnTo>
                  <a:pt x="12" y="794"/>
                </a:lnTo>
                <a:lnTo>
                  <a:pt x="14" y="794"/>
                </a:lnTo>
                <a:lnTo>
                  <a:pt x="18" y="792"/>
                </a:lnTo>
                <a:lnTo>
                  <a:pt x="20" y="794"/>
                </a:lnTo>
                <a:lnTo>
                  <a:pt x="87" y="727"/>
                </a:lnTo>
                <a:lnTo>
                  <a:pt x="152" y="661"/>
                </a:lnTo>
                <a:lnTo>
                  <a:pt x="219" y="596"/>
                </a:lnTo>
                <a:lnTo>
                  <a:pt x="286" y="531"/>
                </a:lnTo>
                <a:lnTo>
                  <a:pt x="355" y="466"/>
                </a:lnTo>
                <a:lnTo>
                  <a:pt x="422" y="402"/>
                </a:lnTo>
                <a:lnTo>
                  <a:pt x="493" y="337"/>
                </a:lnTo>
                <a:lnTo>
                  <a:pt x="564" y="272"/>
                </a:lnTo>
                <a:lnTo>
                  <a:pt x="584" y="255"/>
                </a:lnTo>
                <a:lnTo>
                  <a:pt x="601" y="237"/>
                </a:lnTo>
                <a:lnTo>
                  <a:pt x="618" y="220"/>
                </a:lnTo>
                <a:lnTo>
                  <a:pt x="635" y="201"/>
                </a:lnTo>
                <a:lnTo>
                  <a:pt x="651" y="184"/>
                </a:lnTo>
                <a:lnTo>
                  <a:pt x="668" y="165"/>
                </a:lnTo>
                <a:lnTo>
                  <a:pt x="685" y="145"/>
                </a:lnTo>
                <a:lnTo>
                  <a:pt x="701" y="128"/>
                </a:lnTo>
                <a:lnTo>
                  <a:pt x="714" y="111"/>
                </a:lnTo>
                <a:lnTo>
                  <a:pt x="726" y="95"/>
                </a:lnTo>
                <a:lnTo>
                  <a:pt x="737" y="78"/>
                </a:lnTo>
                <a:lnTo>
                  <a:pt x="749" y="61"/>
                </a:lnTo>
                <a:lnTo>
                  <a:pt x="758" y="46"/>
                </a:lnTo>
                <a:lnTo>
                  <a:pt x="772" y="30"/>
                </a:lnTo>
                <a:lnTo>
                  <a:pt x="783" y="15"/>
                </a:lnTo>
                <a:lnTo>
                  <a:pt x="798" y="0"/>
                </a:lnTo>
                <a:lnTo>
                  <a:pt x="798" y="0"/>
                </a:lnTo>
                <a:lnTo>
                  <a:pt x="798" y="1"/>
                </a:lnTo>
                <a:lnTo>
                  <a:pt x="798" y="1"/>
                </a:lnTo>
                <a:lnTo>
                  <a:pt x="798" y="1"/>
                </a:lnTo>
                <a:lnTo>
                  <a:pt x="798" y="3"/>
                </a:lnTo>
                <a:lnTo>
                  <a:pt x="798" y="3"/>
                </a:lnTo>
                <a:lnTo>
                  <a:pt x="798" y="3"/>
                </a:lnTo>
                <a:lnTo>
                  <a:pt x="798" y="5"/>
                </a:lnTo>
                <a:lnTo>
                  <a:pt x="651" y="11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Freeform 100"/>
          <p:cNvSpPr/>
          <p:nvPr/>
        </p:nvSpPr>
        <p:spPr>
          <a:xfrm>
            <a:off x="5043600" y="1725480"/>
            <a:ext cx="1425600" cy="955800"/>
          </a:xfrm>
          <a:custGeom>
            <a:avLst/>
            <a:gdLst>
              <a:gd name="textAreaLeft" fmla="*/ 0 w 1425600"/>
              <a:gd name="textAreaRight" fmla="*/ 1425960 w 1425600"/>
              <a:gd name="textAreaTop" fmla="*/ 0 h 955800"/>
              <a:gd name="textAreaBottom" fmla="*/ 955800 h 955800"/>
            </a:gdLst>
            <a:ahLst/>
            <a:rect l="textAreaLeft" t="textAreaTop" r="textAreaRight" b="textAreaBottom"/>
            <a:pathLst>
              <a:path w="898" h="602">
                <a:moveTo>
                  <a:pt x="850" y="60"/>
                </a:moveTo>
                <a:lnTo>
                  <a:pt x="831" y="71"/>
                </a:lnTo>
                <a:lnTo>
                  <a:pt x="810" y="81"/>
                </a:lnTo>
                <a:lnTo>
                  <a:pt x="789" y="90"/>
                </a:lnTo>
                <a:lnTo>
                  <a:pt x="769" y="98"/>
                </a:lnTo>
                <a:lnTo>
                  <a:pt x="725" y="111"/>
                </a:lnTo>
                <a:lnTo>
                  <a:pt x="683" y="125"/>
                </a:lnTo>
                <a:lnTo>
                  <a:pt x="639" y="138"/>
                </a:lnTo>
                <a:lnTo>
                  <a:pt x="597" y="154"/>
                </a:lnTo>
                <a:lnTo>
                  <a:pt x="576" y="165"/>
                </a:lnTo>
                <a:lnTo>
                  <a:pt x="557" y="177"/>
                </a:lnTo>
                <a:lnTo>
                  <a:pt x="537" y="188"/>
                </a:lnTo>
                <a:lnTo>
                  <a:pt x="518" y="203"/>
                </a:lnTo>
                <a:lnTo>
                  <a:pt x="497" y="223"/>
                </a:lnTo>
                <a:lnTo>
                  <a:pt x="476" y="240"/>
                </a:lnTo>
                <a:lnTo>
                  <a:pt x="453" y="255"/>
                </a:lnTo>
                <a:lnTo>
                  <a:pt x="430" y="271"/>
                </a:lnTo>
                <a:lnTo>
                  <a:pt x="405" y="288"/>
                </a:lnTo>
                <a:lnTo>
                  <a:pt x="382" y="303"/>
                </a:lnTo>
                <a:lnTo>
                  <a:pt x="359" y="320"/>
                </a:lnTo>
                <a:lnTo>
                  <a:pt x="336" y="340"/>
                </a:lnTo>
                <a:lnTo>
                  <a:pt x="317" y="357"/>
                </a:lnTo>
                <a:lnTo>
                  <a:pt x="299" y="376"/>
                </a:lnTo>
                <a:lnTo>
                  <a:pt x="282" y="397"/>
                </a:lnTo>
                <a:lnTo>
                  <a:pt x="265" y="416"/>
                </a:lnTo>
                <a:lnTo>
                  <a:pt x="248" y="438"/>
                </a:lnTo>
                <a:lnTo>
                  <a:pt x="228" y="459"/>
                </a:lnTo>
                <a:lnTo>
                  <a:pt x="209" y="476"/>
                </a:lnTo>
                <a:lnTo>
                  <a:pt x="186" y="493"/>
                </a:lnTo>
                <a:lnTo>
                  <a:pt x="177" y="499"/>
                </a:lnTo>
                <a:lnTo>
                  <a:pt x="169" y="507"/>
                </a:lnTo>
                <a:lnTo>
                  <a:pt x="161" y="512"/>
                </a:lnTo>
                <a:lnTo>
                  <a:pt x="154" y="520"/>
                </a:lnTo>
                <a:lnTo>
                  <a:pt x="146" y="526"/>
                </a:lnTo>
                <a:lnTo>
                  <a:pt x="138" y="533"/>
                </a:lnTo>
                <a:lnTo>
                  <a:pt x="129" y="541"/>
                </a:lnTo>
                <a:lnTo>
                  <a:pt x="119" y="547"/>
                </a:lnTo>
                <a:lnTo>
                  <a:pt x="115" y="551"/>
                </a:lnTo>
                <a:lnTo>
                  <a:pt x="111" y="555"/>
                </a:lnTo>
                <a:lnTo>
                  <a:pt x="108" y="560"/>
                </a:lnTo>
                <a:lnTo>
                  <a:pt x="106" y="566"/>
                </a:lnTo>
                <a:lnTo>
                  <a:pt x="102" y="572"/>
                </a:lnTo>
                <a:lnTo>
                  <a:pt x="100" y="578"/>
                </a:lnTo>
                <a:lnTo>
                  <a:pt x="96" y="585"/>
                </a:lnTo>
                <a:lnTo>
                  <a:pt x="94" y="591"/>
                </a:lnTo>
                <a:lnTo>
                  <a:pt x="109" y="591"/>
                </a:lnTo>
                <a:lnTo>
                  <a:pt x="125" y="591"/>
                </a:lnTo>
                <a:lnTo>
                  <a:pt x="138" y="587"/>
                </a:lnTo>
                <a:lnTo>
                  <a:pt x="154" y="583"/>
                </a:lnTo>
                <a:lnTo>
                  <a:pt x="167" y="578"/>
                </a:lnTo>
                <a:lnTo>
                  <a:pt x="180" y="572"/>
                </a:lnTo>
                <a:lnTo>
                  <a:pt x="192" y="564"/>
                </a:lnTo>
                <a:lnTo>
                  <a:pt x="205" y="555"/>
                </a:lnTo>
                <a:lnTo>
                  <a:pt x="228" y="537"/>
                </a:lnTo>
                <a:lnTo>
                  <a:pt x="253" y="516"/>
                </a:lnTo>
                <a:lnTo>
                  <a:pt x="276" y="499"/>
                </a:lnTo>
                <a:lnTo>
                  <a:pt x="299" y="482"/>
                </a:lnTo>
                <a:lnTo>
                  <a:pt x="330" y="462"/>
                </a:lnTo>
                <a:lnTo>
                  <a:pt x="357" y="439"/>
                </a:lnTo>
                <a:lnTo>
                  <a:pt x="384" y="418"/>
                </a:lnTo>
                <a:lnTo>
                  <a:pt x="411" y="397"/>
                </a:lnTo>
                <a:lnTo>
                  <a:pt x="424" y="388"/>
                </a:lnTo>
                <a:lnTo>
                  <a:pt x="439" y="380"/>
                </a:lnTo>
                <a:lnTo>
                  <a:pt x="453" y="372"/>
                </a:lnTo>
                <a:lnTo>
                  <a:pt x="470" y="365"/>
                </a:lnTo>
                <a:lnTo>
                  <a:pt x="486" y="359"/>
                </a:lnTo>
                <a:lnTo>
                  <a:pt x="503" y="357"/>
                </a:lnTo>
                <a:lnTo>
                  <a:pt x="522" y="355"/>
                </a:lnTo>
                <a:lnTo>
                  <a:pt x="541" y="353"/>
                </a:lnTo>
                <a:lnTo>
                  <a:pt x="557" y="336"/>
                </a:lnTo>
                <a:lnTo>
                  <a:pt x="572" y="319"/>
                </a:lnTo>
                <a:lnTo>
                  <a:pt x="589" y="303"/>
                </a:lnTo>
                <a:lnTo>
                  <a:pt x="606" y="290"/>
                </a:lnTo>
                <a:lnTo>
                  <a:pt x="645" y="265"/>
                </a:lnTo>
                <a:lnTo>
                  <a:pt x="683" y="244"/>
                </a:lnTo>
                <a:lnTo>
                  <a:pt x="723" y="223"/>
                </a:lnTo>
                <a:lnTo>
                  <a:pt x="764" y="198"/>
                </a:lnTo>
                <a:lnTo>
                  <a:pt x="781" y="186"/>
                </a:lnTo>
                <a:lnTo>
                  <a:pt x="800" y="171"/>
                </a:lnTo>
                <a:lnTo>
                  <a:pt x="816" y="156"/>
                </a:lnTo>
                <a:lnTo>
                  <a:pt x="831" y="138"/>
                </a:lnTo>
                <a:lnTo>
                  <a:pt x="839" y="129"/>
                </a:lnTo>
                <a:lnTo>
                  <a:pt x="844" y="119"/>
                </a:lnTo>
                <a:lnTo>
                  <a:pt x="850" y="109"/>
                </a:lnTo>
                <a:lnTo>
                  <a:pt x="856" y="100"/>
                </a:lnTo>
                <a:lnTo>
                  <a:pt x="863" y="88"/>
                </a:lnTo>
                <a:lnTo>
                  <a:pt x="869" y="79"/>
                </a:lnTo>
                <a:lnTo>
                  <a:pt x="877" y="69"/>
                </a:lnTo>
                <a:lnTo>
                  <a:pt x="885" y="60"/>
                </a:lnTo>
                <a:lnTo>
                  <a:pt x="873" y="52"/>
                </a:lnTo>
                <a:lnTo>
                  <a:pt x="862" y="50"/>
                </a:lnTo>
                <a:lnTo>
                  <a:pt x="848" y="50"/>
                </a:lnTo>
                <a:lnTo>
                  <a:pt x="835" y="52"/>
                </a:lnTo>
                <a:lnTo>
                  <a:pt x="823" y="58"/>
                </a:lnTo>
                <a:lnTo>
                  <a:pt x="812" y="65"/>
                </a:lnTo>
                <a:lnTo>
                  <a:pt x="800" y="75"/>
                </a:lnTo>
                <a:lnTo>
                  <a:pt x="791" y="85"/>
                </a:lnTo>
                <a:lnTo>
                  <a:pt x="804" y="71"/>
                </a:lnTo>
                <a:lnTo>
                  <a:pt x="817" y="62"/>
                </a:lnTo>
                <a:lnTo>
                  <a:pt x="833" y="52"/>
                </a:lnTo>
                <a:lnTo>
                  <a:pt x="848" y="44"/>
                </a:lnTo>
                <a:lnTo>
                  <a:pt x="862" y="37"/>
                </a:lnTo>
                <a:lnTo>
                  <a:pt x="875" y="27"/>
                </a:lnTo>
                <a:lnTo>
                  <a:pt x="888" y="15"/>
                </a:lnTo>
                <a:lnTo>
                  <a:pt x="898" y="0"/>
                </a:lnTo>
                <a:lnTo>
                  <a:pt x="888" y="15"/>
                </a:lnTo>
                <a:lnTo>
                  <a:pt x="879" y="29"/>
                </a:lnTo>
                <a:lnTo>
                  <a:pt x="869" y="42"/>
                </a:lnTo>
                <a:lnTo>
                  <a:pt x="858" y="56"/>
                </a:lnTo>
                <a:lnTo>
                  <a:pt x="848" y="69"/>
                </a:lnTo>
                <a:lnTo>
                  <a:pt x="837" y="81"/>
                </a:lnTo>
                <a:lnTo>
                  <a:pt x="823" y="92"/>
                </a:lnTo>
                <a:lnTo>
                  <a:pt x="812" y="102"/>
                </a:lnTo>
                <a:lnTo>
                  <a:pt x="796" y="115"/>
                </a:lnTo>
                <a:lnTo>
                  <a:pt x="783" y="129"/>
                </a:lnTo>
                <a:lnTo>
                  <a:pt x="771" y="144"/>
                </a:lnTo>
                <a:lnTo>
                  <a:pt x="760" y="157"/>
                </a:lnTo>
                <a:lnTo>
                  <a:pt x="746" y="173"/>
                </a:lnTo>
                <a:lnTo>
                  <a:pt x="733" y="186"/>
                </a:lnTo>
                <a:lnTo>
                  <a:pt x="720" y="198"/>
                </a:lnTo>
                <a:lnTo>
                  <a:pt x="704" y="207"/>
                </a:lnTo>
                <a:lnTo>
                  <a:pt x="695" y="213"/>
                </a:lnTo>
                <a:lnTo>
                  <a:pt x="685" y="217"/>
                </a:lnTo>
                <a:lnTo>
                  <a:pt x="675" y="223"/>
                </a:lnTo>
                <a:lnTo>
                  <a:pt x="664" y="228"/>
                </a:lnTo>
                <a:lnTo>
                  <a:pt x="654" y="234"/>
                </a:lnTo>
                <a:lnTo>
                  <a:pt x="645" y="240"/>
                </a:lnTo>
                <a:lnTo>
                  <a:pt x="637" y="246"/>
                </a:lnTo>
                <a:lnTo>
                  <a:pt x="627" y="251"/>
                </a:lnTo>
                <a:lnTo>
                  <a:pt x="606" y="269"/>
                </a:lnTo>
                <a:lnTo>
                  <a:pt x="585" y="282"/>
                </a:lnTo>
                <a:lnTo>
                  <a:pt x="562" y="294"/>
                </a:lnTo>
                <a:lnTo>
                  <a:pt x="541" y="303"/>
                </a:lnTo>
                <a:lnTo>
                  <a:pt x="522" y="311"/>
                </a:lnTo>
                <a:lnTo>
                  <a:pt x="503" y="320"/>
                </a:lnTo>
                <a:lnTo>
                  <a:pt x="484" y="330"/>
                </a:lnTo>
                <a:lnTo>
                  <a:pt x="468" y="342"/>
                </a:lnTo>
                <a:lnTo>
                  <a:pt x="411" y="384"/>
                </a:lnTo>
                <a:lnTo>
                  <a:pt x="351" y="422"/>
                </a:lnTo>
                <a:lnTo>
                  <a:pt x="294" y="457"/>
                </a:lnTo>
                <a:lnTo>
                  <a:pt x="236" y="489"/>
                </a:lnTo>
                <a:lnTo>
                  <a:pt x="179" y="518"/>
                </a:lnTo>
                <a:lnTo>
                  <a:pt x="119" y="547"/>
                </a:lnTo>
                <a:lnTo>
                  <a:pt x="60" y="576"/>
                </a:lnTo>
                <a:lnTo>
                  <a:pt x="0" y="602"/>
                </a:lnTo>
                <a:lnTo>
                  <a:pt x="12" y="585"/>
                </a:lnTo>
                <a:lnTo>
                  <a:pt x="23" y="568"/>
                </a:lnTo>
                <a:lnTo>
                  <a:pt x="38" y="555"/>
                </a:lnTo>
                <a:lnTo>
                  <a:pt x="54" y="541"/>
                </a:lnTo>
                <a:lnTo>
                  <a:pt x="69" y="532"/>
                </a:lnTo>
                <a:lnTo>
                  <a:pt x="86" y="522"/>
                </a:lnTo>
                <a:lnTo>
                  <a:pt x="106" y="512"/>
                </a:lnTo>
                <a:lnTo>
                  <a:pt x="123" y="505"/>
                </a:lnTo>
                <a:lnTo>
                  <a:pt x="161" y="487"/>
                </a:lnTo>
                <a:lnTo>
                  <a:pt x="198" y="468"/>
                </a:lnTo>
                <a:lnTo>
                  <a:pt x="217" y="459"/>
                </a:lnTo>
                <a:lnTo>
                  <a:pt x="234" y="447"/>
                </a:lnTo>
                <a:lnTo>
                  <a:pt x="250" y="434"/>
                </a:lnTo>
                <a:lnTo>
                  <a:pt x="265" y="418"/>
                </a:lnTo>
                <a:lnTo>
                  <a:pt x="274" y="409"/>
                </a:lnTo>
                <a:lnTo>
                  <a:pt x="286" y="403"/>
                </a:lnTo>
                <a:lnTo>
                  <a:pt x="299" y="399"/>
                </a:lnTo>
                <a:lnTo>
                  <a:pt x="315" y="395"/>
                </a:lnTo>
                <a:lnTo>
                  <a:pt x="330" y="391"/>
                </a:lnTo>
                <a:lnTo>
                  <a:pt x="345" y="388"/>
                </a:lnTo>
                <a:lnTo>
                  <a:pt x="361" y="382"/>
                </a:lnTo>
                <a:lnTo>
                  <a:pt x="376" y="376"/>
                </a:lnTo>
                <a:lnTo>
                  <a:pt x="384" y="372"/>
                </a:lnTo>
                <a:lnTo>
                  <a:pt x="393" y="365"/>
                </a:lnTo>
                <a:lnTo>
                  <a:pt x="399" y="357"/>
                </a:lnTo>
                <a:lnTo>
                  <a:pt x="407" y="349"/>
                </a:lnTo>
                <a:lnTo>
                  <a:pt x="415" y="342"/>
                </a:lnTo>
                <a:lnTo>
                  <a:pt x="422" y="334"/>
                </a:lnTo>
                <a:lnTo>
                  <a:pt x="430" y="328"/>
                </a:lnTo>
                <a:lnTo>
                  <a:pt x="438" y="320"/>
                </a:lnTo>
                <a:lnTo>
                  <a:pt x="489" y="294"/>
                </a:lnTo>
                <a:lnTo>
                  <a:pt x="541" y="269"/>
                </a:lnTo>
                <a:lnTo>
                  <a:pt x="595" y="244"/>
                </a:lnTo>
                <a:lnTo>
                  <a:pt x="649" y="221"/>
                </a:lnTo>
                <a:lnTo>
                  <a:pt x="702" y="198"/>
                </a:lnTo>
                <a:lnTo>
                  <a:pt x="756" y="177"/>
                </a:lnTo>
                <a:lnTo>
                  <a:pt x="810" y="154"/>
                </a:lnTo>
                <a:lnTo>
                  <a:pt x="862" y="131"/>
                </a:lnTo>
                <a:lnTo>
                  <a:pt x="850" y="6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Freeform 101"/>
          <p:cNvSpPr/>
          <p:nvPr/>
        </p:nvSpPr>
        <p:spPr>
          <a:xfrm>
            <a:off x="5491080" y="3187800"/>
            <a:ext cx="1106640" cy="788760"/>
          </a:xfrm>
          <a:custGeom>
            <a:avLst/>
            <a:gdLst>
              <a:gd name="textAreaLeft" fmla="*/ 0 w 1106640"/>
              <a:gd name="textAreaRight" fmla="*/ 1107000 w 1106640"/>
              <a:gd name="textAreaTop" fmla="*/ 0 h 788760"/>
              <a:gd name="textAreaBottom" fmla="*/ 789120 h 788760"/>
            </a:gdLst>
            <a:ahLst/>
            <a:rect l="textAreaLeft" t="textAreaTop" r="textAreaRight" b="textAreaBottom"/>
            <a:pathLst>
              <a:path w="697" h="497">
                <a:moveTo>
                  <a:pt x="0" y="0"/>
                </a:moveTo>
                <a:lnTo>
                  <a:pt x="33" y="23"/>
                </a:lnTo>
                <a:lnTo>
                  <a:pt x="65" y="44"/>
                </a:lnTo>
                <a:lnTo>
                  <a:pt x="100" y="63"/>
                </a:lnTo>
                <a:lnTo>
                  <a:pt x="133" y="84"/>
                </a:lnTo>
                <a:lnTo>
                  <a:pt x="167" y="105"/>
                </a:lnTo>
                <a:lnTo>
                  <a:pt x="200" y="127"/>
                </a:lnTo>
                <a:lnTo>
                  <a:pt x="234" y="148"/>
                </a:lnTo>
                <a:lnTo>
                  <a:pt x="267" y="171"/>
                </a:lnTo>
                <a:lnTo>
                  <a:pt x="324" y="211"/>
                </a:lnTo>
                <a:lnTo>
                  <a:pt x="380" y="251"/>
                </a:lnTo>
                <a:lnTo>
                  <a:pt x="434" y="292"/>
                </a:lnTo>
                <a:lnTo>
                  <a:pt x="487" y="330"/>
                </a:lnTo>
                <a:lnTo>
                  <a:pt x="541" y="370"/>
                </a:lnTo>
                <a:lnTo>
                  <a:pt x="593" y="410"/>
                </a:lnTo>
                <a:lnTo>
                  <a:pt x="645" y="453"/>
                </a:lnTo>
                <a:lnTo>
                  <a:pt x="697" y="497"/>
                </a:lnTo>
                <a:lnTo>
                  <a:pt x="691" y="497"/>
                </a:lnTo>
                <a:lnTo>
                  <a:pt x="685" y="497"/>
                </a:lnTo>
                <a:lnTo>
                  <a:pt x="679" y="497"/>
                </a:lnTo>
                <a:lnTo>
                  <a:pt x="674" y="497"/>
                </a:lnTo>
                <a:lnTo>
                  <a:pt x="668" y="497"/>
                </a:lnTo>
                <a:lnTo>
                  <a:pt x="662" y="497"/>
                </a:lnTo>
                <a:lnTo>
                  <a:pt x="656" y="495"/>
                </a:lnTo>
                <a:lnTo>
                  <a:pt x="652" y="493"/>
                </a:lnTo>
                <a:lnTo>
                  <a:pt x="616" y="476"/>
                </a:lnTo>
                <a:lnTo>
                  <a:pt x="583" y="455"/>
                </a:lnTo>
                <a:lnTo>
                  <a:pt x="553" y="432"/>
                </a:lnTo>
                <a:lnTo>
                  <a:pt x="524" y="409"/>
                </a:lnTo>
                <a:lnTo>
                  <a:pt x="493" y="384"/>
                </a:lnTo>
                <a:lnTo>
                  <a:pt x="463" y="362"/>
                </a:lnTo>
                <a:lnTo>
                  <a:pt x="430" y="341"/>
                </a:lnTo>
                <a:lnTo>
                  <a:pt x="395" y="322"/>
                </a:lnTo>
                <a:lnTo>
                  <a:pt x="386" y="316"/>
                </a:lnTo>
                <a:lnTo>
                  <a:pt x="378" y="307"/>
                </a:lnTo>
                <a:lnTo>
                  <a:pt x="372" y="295"/>
                </a:lnTo>
                <a:lnTo>
                  <a:pt x="367" y="282"/>
                </a:lnTo>
                <a:lnTo>
                  <a:pt x="361" y="269"/>
                </a:lnTo>
                <a:lnTo>
                  <a:pt x="355" y="257"/>
                </a:lnTo>
                <a:lnTo>
                  <a:pt x="353" y="253"/>
                </a:lnTo>
                <a:lnTo>
                  <a:pt x="349" y="249"/>
                </a:lnTo>
                <a:lnTo>
                  <a:pt x="345" y="245"/>
                </a:lnTo>
                <a:lnTo>
                  <a:pt x="342" y="244"/>
                </a:lnTo>
                <a:lnTo>
                  <a:pt x="315" y="238"/>
                </a:lnTo>
                <a:lnTo>
                  <a:pt x="288" y="228"/>
                </a:lnTo>
                <a:lnTo>
                  <a:pt x="263" y="217"/>
                </a:lnTo>
                <a:lnTo>
                  <a:pt x="238" y="203"/>
                </a:lnTo>
                <a:lnTo>
                  <a:pt x="213" y="188"/>
                </a:lnTo>
                <a:lnTo>
                  <a:pt x="190" y="173"/>
                </a:lnTo>
                <a:lnTo>
                  <a:pt x="165" y="155"/>
                </a:lnTo>
                <a:lnTo>
                  <a:pt x="142" y="140"/>
                </a:lnTo>
                <a:lnTo>
                  <a:pt x="0" y="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Freeform 102"/>
          <p:cNvSpPr/>
          <p:nvPr/>
        </p:nvSpPr>
        <p:spPr>
          <a:xfrm>
            <a:off x="5437080" y="1576440"/>
            <a:ext cx="1068480" cy="1077840"/>
          </a:xfrm>
          <a:custGeom>
            <a:avLst/>
            <a:gdLst>
              <a:gd name="textAreaLeft" fmla="*/ 0 w 1068480"/>
              <a:gd name="textAreaRight" fmla="*/ 1068840 w 1068480"/>
              <a:gd name="textAreaTop" fmla="*/ 0 h 1077840"/>
              <a:gd name="textAreaBottom" fmla="*/ 1078200 h 1077840"/>
            </a:gdLst>
            <a:ahLst/>
            <a:rect l="textAreaLeft" t="textAreaTop" r="textAreaRight" b="textAreaBottom"/>
            <a:pathLst>
              <a:path w="673" h="679">
                <a:moveTo>
                  <a:pt x="165" y="602"/>
                </a:moveTo>
                <a:lnTo>
                  <a:pt x="201" y="587"/>
                </a:lnTo>
                <a:lnTo>
                  <a:pt x="236" y="566"/>
                </a:lnTo>
                <a:lnTo>
                  <a:pt x="268" y="545"/>
                </a:lnTo>
                <a:lnTo>
                  <a:pt x="301" y="520"/>
                </a:lnTo>
                <a:lnTo>
                  <a:pt x="332" y="493"/>
                </a:lnTo>
                <a:lnTo>
                  <a:pt x="362" y="464"/>
                </a:lnTo>
                <a:lnTo>
                  <a:pt x="393" y="436"/>
                </a:lnTo>
                <a:lnTo>
                  <a:pt x="422" y="407"/>
                </a:lnTo>
                <a:lnTo>
                  <a:pt x="479" y="347"/>
                </a:lnTo>
                <a:lnTo>
                  <a:pt x="541" y="288"/>
                </a:lnTo>
                <a:lnTo>
                  <a:pt x="571" y="261"/>
                </a:lnTo>
                <a:lnTo>
                  <a:pt x="604" y="234"/>
                </a:lnTo>
                <a:lnTo>
                  <a:pt x="637" y="211"/>
                </a:lnTo>
                <a:lnTo>
                  <a:pt x="673" y="188"/>
                </a:lnTo>
                <a:lnTo>
                  <a:pt x="663" y="190"/>
                </a:lnTo>
                <a:lnTo>
                  <a:pt x="654" y="194"/>
                </a:lnTo>
                <a:lnTo>
                  <a:pt x="644" y="196"/>
                </a:lnTo>
                <a:lnTo>
                  <a:pt x="635" y="200"/>
                </a:lnTo>
                <a:lnTo>
                  <a:pt x="627" y="203"/>
                </a:lnTo>
                <a:lnTo>
                  <a:pt x="619" y="207"/>
                </a:lnTo>
                <a:lnTo>
                  <a:pt x="612" y="211"/>
                </a:lnTo>
                <a:lnTo>
                  <a:pt x="604" y="217"/>
                </a:lnTo>
                <a:lnTo>
                  <a:pt x="587" y="232"/>
                </a:lnTo>
                <a:lnTo>
                  <a:pt x="568" y="246"/>
                </a:lnTo>
                <a:lnTo>
                  <a:pt x="550" y="261"/>
                </a:lnTo>
                <a:lnTo>
                  <a:pt x="533" y="274"/>
                </a:lnTo>
                <a:lnTo>
                  <a:pt x="514" y="288"/>
                </a:lnTo>
                <a:lnTo>
                  <a:pt x="495" y="301"/>
                </a:lnTo>
                <a:lnTo>
                  <a:pt x="475" y="315"/>
                </a:lnTo>
                <a:lnTo>
                  <a:pt x="456" y="326"/>
                </a:lnTo>
                <a:lnTo>
                  <a:pt x="435" y="338"/>
                </a:lnTo>
                <a:lnTo>
                  <a:pt x="416" y="351"/>
                </a:lnTo>
                <a:lnTo>
                  <a:pt x="397" y="365"/>
                </a:lnTo>
                <a:lnTo>
                  <a:pt x="378" y="378"/>
                </a:lnTo>
                <a:lnTo>
                  <a:pt x="358" y="390"/>
                </a:lnTo>
                <a:lnTo>
                  <a:pt x="337" y="403"/>
                </a:lnTo>
                <a:lnTo>
                  <a:pt x="318" y="416"/>
                </a:lnTo>
                <a:lnTo>
                  <a:pt x="299" y="430"/>
                </a:lnTo>
                <a:lnTo>
                  <a:pt x="264" y="455"/>
                </a:lnTo>
                <a:lnTo>
                  <a:pt x="232" y="478"/>
                </a:lnTo>
                <a:lnTo>
                  <a:pt x="201" y="505"/>
                </a:lnTo>
                <a:lnTo>
                  <a:pt x="172" y="530"/>
                </a:lnTo>
                <a:lnTo>
                  <a:pt x="145" y="558"/>
                </a:lnTo>
                <a:lnTo>
                  <a:pt x="122" y="589"/>
                </a:lnTo>
                <a:lnTo>
                  <a:pt x="99" y="624"/>
                </a:lnTo>
                <a:lnTo>
                  <a:pt x="78" y="660"/>
                </a:lnTo>
                <a:lnTo>
                  <a:pt x="76" y="662"/>
                </a:lnTo>
                <a:lnTo>
                  <a:pt x="73" y="664"/>
                </a:lnTo>
                <a:lnTo>
                  <a:pt x="67" y="668"/>
                </a:lnTo>
                <a:lnTo>
                  <a:pt x="61" y="670"/>
                </a:lnTo>
                <a:lnTo>
                  <a:pt x="55" y="672"/>
                </a:lnTo>
                <a:lnTo>
                  <a:pt x="48" y="673"/>
                </a:lnTo>
                <a:lnTo>
                  <a:pt x="42" y="673"/>
                </a:lnTo>
                <a:lnTo>
                  <a:pt x="34" y="672"/>
                </a:lnTo>
                <a:lnTo>
                  <a:pt x="48" y="675"/>
                </a:lnTo>
                <a:lnTo>
                  <a:pt x="59" y="679"/>
                </a:lnTo>
                <a:lnTo>
                  <a:pt x="71" y="679"/>
                </a:lnTo>
                <a:lnTo>
                  <a:pt x="80" y="677"/>
                </a:lnTo>
                <a:lnTo>
                  <a:pt x="92" y="675"/>
                </a:lnTo>
                <a:lnTo>
                  <a:pt x="101" y="670"/>
                </a:lnTo>
                <a:lnTo>
                  <a:pt x="111" y="664"/>
                </a:lnTo>
                <a:lnTo>
                  <a:pt x="119" y="656"/>
                </a:lnTo>
                <a:lnTo>
                  <a:pt x="128" y="647"/>
                </a:lnTo>
                <a:lnTo>
                  <a:pt x="136" y="635"/>
                </a:lnTo>
                <a:lnTo>
                  <a:pt x="143" y="624"/>
                </a:lnTo>
                <a:lnTo>
                  <a:pt x="151" y="612"/>
                </a:lnTo>
                <a:lnTo>
                  <a:pt x="165" y="583"/>
                </a:lnTo>
                <a:lnTo>
                  <a:pt x="178" y="553"/>
                </a:lnTo>
                <a:lnTo>
                  <a:pt x="203" y="484"/>
                </a:lnTo>
                <a:lnTo>
                  <a:pt x="226" y="413"/>
                </a:lnTo>
                <a:lnTo>
                  <a:pt x="238" y="376"/>
                </a:lnTo>
                <a:lnTo>
                  <a:pt x="249" y="344"/>
                </a:lnTo>
                <a:lnTo>
                  <a:pt x="262" y="313"/>
                </a:lnTo>
                <a:lnTo>
                  <a:pt x="276" y="286"/>
                </a:lnTo>
                <a:lnTo>
                  <a:pt x="293" y="255"/>
                </a:lnTo>
                <a:lnTo>
                  <a:pt x="310" y="228"/>
                </a:lnTo>
                <a:lnTo>
                  <a:pt x="330" y="200"/>
                </a:lnTo>
                <a:lnTo>
                  <a:pt x="349" y="173"/>
                </a:lnTo>
                <a:lnTo>
                  <a:pt x="368" y="144"/>
                </a:lnTo>
                <a:lnTo>
                  <a:pt x="385" y="117"/>
                </a:lnTo>
                <a:lnTo>
                  <a:pt x="404" y="88"/>
                </a:lnTo>
                <a:lnTo>
                  <a:pt x="422" y="60"/>
                </a:lnTo>
                <a:lnTo>
                  <a:pt x="424" y="54"/>
                </a:lnTo>
                <a:lnTo>
                  <a:pt x="426" y="46"/>
                </a:lnTo>
                <a:lnTo>
                  <a:pt x="426" y="38"/>
                </a:lnTo>
                <a:lnTo>
                  <a:pt x="426" y="31"/>
                </a:lnTo>
                <a:lnTo>
                  <a:pt x="426" y="23"/>
                </a:lnTo>
                <a:lnTo>
                  <a:pt x="426" y="15"/>
                </a:lnTo>
                <a:lnTo>
                  <a:pt x="424" y="8"/>
                </a:lnTo>
                <a:lnTo>
                  <a:pt x="424" y="0"/>
                </a:lnTo>
                <a:lnTo>
                  <a:pt x="414" y="4"/>
                </a:lnTo>
                <a:lnTo>
                  <a:pt x="406" y="8"/>
                </a:lnTo>
                <a:lnTo>
                  <a:pt x="399" y="12"/>
                </a:lnTo>
                <a:lnTo>
                  <a:pt x="391" y="17"/>
                </a:lnTo>
                <a:lnTo>
                  <a:pt x="379" y="29"/>
                </a:lnTo>
                <a:lnTo>
                  <a:pt x="368" y="42"/>
                </a:lnTo>
                <a:lnTo>
                  <a:pt x="360" y="58"/>
                </a:lnTo>
                <a:lnTo>
                  <a:pt x="353" y="71"/>
                </a:lnTo>
                <a:lnTo>
                  <a:pt x="345" y="86"/>
                </a:lnTo>
                <a:lnTo>
                  <a:pt x="339" y="100"/>
                </a:lnTo>
                <a:lnTo>
                  <a:pt x="322" y="134"/>
                </a:lnTo>
                <a:lnTo>
                  <a:pt x="305" y="167"/>
                </a:lnTo>
                <a:lnTo>
                  <a:pt x="285" y="200"/>
                </a:lnTo>
                <a:lnTo>
                  <a:pt x="264" y="232"/>
                </a:lnTo>
                <a:lnTo>
                  <a:pt x="220" y="292"/>
                </a:lnTo>
                <a:lnTo>
                  <a:pt x="174" y="351"/>
                </a:lnTo>
                <a:lnTo>
                  <a:pt x="128" y="409"/>
                </a:lnTo>
                <a:lnTo>
                  <a:pt x="82" y="468"/>
                </a:lnTo>
                <a:lnTo>
                  <a:pt x="61" y="497"/>
                </a:lnTo>
                <a:lnTo>
                  <a:pt x="40" y="528"/>
                </a:lnTo>
                <a:lnTo>
                  <a:pt x="19" y="558"/>
                </a:lnTo>
                <a:lnTo>
                  <a:pt x="0" y="591"/>
                </a:lnTo>
                <a:lnTo>
                  <a:pt x="165" y="602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Freeform 103"/>
          <p:cNvSpPr/>
          <p:nvPr/>
        </p:nvSpPr>
        <p:spPr>
          <a:xfrm>
            <a:off x="5251320" y="1765440"/>
            <a:ext cx="1459080" cy="1180800"/>
          </a:xfrm>
          <a:custGeom>
            <a:avLst/>
            <a:gdLst>
              <a:gd name="textAreaLeft" fmla="*/ 0 w 1459080"/>
              <a:gd name="textAreaRight" fmla="*/ 1459440 w 1459080"/>
              <a:gd name="textAreaTop" fmla="*/ 0 h 1180800"/>
              <a:gd name="textAreaBottom" fmla="*/ 1181160 h 1180800"/>
            </a:gdLst>
            <a:ahLst/>
            <a:rect l="textAreaLeft" t="textAreaTop" r="textAreaRight" b="textAreaBottom"/>
            <a:pathLst>
              <a:path w="919" h="744">
                <a:moveTo>
                  <a:pt x="151" y="543"/>
                </a:moveTo>
                <a:lnTo>
                  <a:pt x="182" y="530"/>
                </a:lnTo>
                <a:lnTo>
                  <a:pt x="211" y="516"/>
                </a:lnTo>
                <a:lnTo>
                  <a:pt x="239" y="499"/>
                </a:lnTo>
                <a:lnTo>
                  <a:pt x="268" y="482"/>
                </a:lnTo>
                <a:lnTo>
                  <a:pt x="295" y="464"/>
                </a:lnTo>
                <a:lnTo>
                  <a:pt x="324" y="447"/>
                </a:lnTo>
                <a:lnTo>
                  <a:pt x="351" y="434"/>
                </a:lnTo>
                <a:lnTo>
                  <a:pt x="379" y="424"/>
                </a:lnTo>
                <a:lnTo>
                  <a:pt x="452" y="399"/>
                </a:lnTo>
                <a:lnTo>
                  <a:pt x="523" y="374"/>
                </a:lnTo>
                <a:lnTo>
                  <a:pt x="594" y="347"/>
                </a:lnTo>
                <a:lnTo>
                  <a:pt x="663" y="319"/>
                </a:lnTo>
                <a:lnTo>
                  <a:pt x="698" y="303"/>
                </a:lnTo>
                <a:lnTo>
                  <a:pt x="731" y="288"/>
                </a:lnTo>
                <a:lnTo>
                  <a:pt x="763" y="271"/>
                </a:lnTo>
                <a:lnTo>
                  <a:pt x="796" y="251"/>
                </a:lnTo>
                <a:lnTo>
                  <a:pt x="828" y="232"/>
                </a:lnTo>
                <a:lnTo>
                  <a:pt x="859" y="211"/>
                </a:lnTo>
                <a:lnTo>
                  <a:pt x="890" y="188"/>
                </a:lnTo>
                <a:lnTo>
                  <a:pt x="919" y="163"/>
                </a:lnTo>
                <a:lnTo>
                  <a:pt x="907" y="165"/>
                </a:lnTo>
                <a:lnTo>
                  <a:pt x="896" y="167"/>
                </a:lnTo>
                <a:lnTo>
                  <a:pt x="884" y="171"/>
                </a:lnTo>
                <a:lnTo>
                  <a:pt x="873" y="175"/>
                </a:lnTo>
                <a:lnTo>
                  <a:pt x="861" y="180"/>
                </a:lnTo>
                <a:lnTo>
                  <a:pt x="850" y="184"/>
                </a:lnTo>
                <a:lnTo>
                  <a:pt x="838" y="190"/>
                </a:lnTo>
                <a:lnTo>
                  <a:pt x="828" y="194"/>
                </a:lnTo>
                <a:lnTo>
                  <a:pt x="769" y="221"/>
                </a:lnTo>
                <a:lnTo>
                  <a:pt x="711" y="248"/>
                </a:lnTo>
                <a:lnTo>
                  <a:pt x="654" y="274"/>
                </a:lnTo>
                <a:lnTo>
                  <a:pt x="598" y="301"/>
                </a:lnTo>
                <a:lnTo>
                  <a:pt x="541" y="328"/>
                </a:lnTo>
                <a:lnTo>
                  <a:pt x="483" y="355"/>
                </a:lnTo>
                <a:lnTo>
                  <a:pt x="424" y="380"/>
                </a:lnTo>
                <a:lnTo>
                  <a:pt x="364" y="403"/>
                </a:lnTo>
                <a:lnTo>
                  <a:pt x="347" y="411"/>
                </a:lnTo>
                <a:lnTo>
                  <a:pt x="330" y="416"/>
                </a:lnTo>
                <a:lnTo>
                  <a:pt x="310" y="426"/>
                </a:lnTo>
                <a:lnTo>
                  <a:pt x="293" y="434"/>
                </a:lnTo>
                <a:lnTo>
                  <a:pt x="278" y="443"/>
                </a:lnTo>
                <a:lnTo>
                  <a:pt x="262" y="453"/>
                </a:lnTo>
                <a:lnTo>
                  <a:pt x="253" y="464"/>
                </a:lnTo>
                <a:lnTo>
                  <a:pt x="245" y="476"/>
                </a:lnTo>
                <a:lnTo>
                  <a:pt x="239" y="493"/>
                </a:lnTo>
                <a:lnTo>
                  <a:pt x="230" y="508"/>
                </a:lnTo>
                <a:lnTo>
                  <a:pt x="222" y="522"/>
                </a:lnTo>
                <a:lnTo>
                  <a:pt x="213" y="535"/>
                </a:lnTo>
                <a:lnTo>
                  <a:pt x="193" y="558"/>
                </a:lnTo>
                <a:lnTo>
                  <a:pt x="172" y="577"/>
                </a:lnTo>
                <a:lnTo>
                  <a:pt x="149" y="595"/>
                </a:lnTo>
                <a:lnTo>
                  <a:pt x="126" y="610"/>
                </a:lnTo>
                <a:lnTo>
                  <a:pt x="103" y="624"/>
                </a:lnTo>
                <a:lnTo>
                  <a:pt x="80" y="637"/>
                </a:lnTo>
                <a:lnTo>
                  <a:pt x="134" y="606"/>
                </a:lnTo>
                <a:lnTo>
                  <a:pt x="188" y="576"/>
                </a:lnTo>
                <a:lnTo>
                  <a:pt x="243" y="547"/>
                </a:lnTo>
                <a:lnTo>
                  <a:pt x="297" y="520"/>
                </a:lnTo>
                <a:lnTo>
                  <a:pt x="353" y="491"/>
                </a:lnTo>
                <a:lnTo>
                  <a:pt x="406" y="460"/>
                </a:lnTo>
                <a:lnTo>
                  <a:pt x="460" y="428"/>
                </a:lnTo>
                <a:lnTo>
                  <a:pt x="512" y="393"/>
                </a:lnTo>
                <a:lnTo>
                  <a:pt x="548" y="366"/>
                </a:lnTo>
                <a:lnTo>
                  <a:pt x="583" y="340"/>
                </a:lnTo>
                <a:lnTo>
                  <a:pt x="615" y="311"/>
                </a:lnTo>
                <a:lnTo>
                  <a:pt x="648" y="280"/>
                </a:lnTo>
                <a:lnTo>
                  <a:pt x="677" y="248"/>
                </a:lnTo>
                <a:lnTo>
                  <a:pt x="706" y="215"/>
                </a:lnTo>
                <a:lnTo>
                  <a:pt x="731" y="178"/>
                </a:lnTo>
                <a:lnTo>
                  <a:pt x="754" y="140"/>
                </a:lnTo>
                <a:lnTo>
                  <a:pt x="696" y="169"/>
                </a:lnTo>
                <a:lnTo>
                  <a:pt x="638" y="198"/>
                </a:lnTo>
                <a:lnTo>
                  <a:pt x="585" y="230"/>
                </a:lnTo>
                <a:lnTo>
                  <a:pt x="531" y="267"/>
                </a:lnTo>
                <a:lnTo>
                  <a:pt x="506" y="286"/>
                </a:lnTo>
                <a:lnTo>
                  <a:pt x="481" y="305"/>
                </a:lnTo>
                <a:lnTo>
                  <a:pt x="458" y="326"/>
                </a:lnTo>
                <a:lnTo>
                  <a:pt x="435" y="347"/>
                </a:lnTo>
                <a:lnTo>
                  <a:pt x="412" y="368"/>
                </a:lnTo>
                <a:lnTo>
                  <a:pt x="389" y="391"/>
                </a:lnTo>
                <a:lnTo>
                  <a:pt x="368" y="416"/>
                </a:lnTo>
                <a:lnTo>
                  <a:pt x="347" y="441"/>
                </a:lnTo>
                <a:lnTo>
                  <a:pt x="318" y="472"/>
                </a:lnTo>
                <a:lnTo>
                  <a:pt x="287" y="501"/>
                </a:lnTo>
                <a:lnTo>
                  <a:pt x="255" y="526"/>
                </a:lnTo>
                <a:lnTo>
                  <a:pt x="222" y="551"/>
                </a:lnTo>
                <a:lnTo>
                  <a:pt x="191" y="576"/>
                </a:lnTo>
                <a:lnTo>
                  <a:pt x="161" y="602"/>
                </a:lnTo>
                <a:lnTo>
                  <a:pt x="145" y="616"/>
                </a:lnTo>
                <a:lnTo>
                  <a:pt x="132" y="629"/>
                </a:lnTo>
                <a:lnTo>
                  <a:pt x="119" y="645"/>
                </a:lnTo>
                <a:lnTo>
                  <a:pt x="105" y="660"/>
                </a:lnTo>
                <a:lnTo>
                  <a:pt x="94" y="673"/>
                </a:lnTo>
                <a:lnTo>
                  <a:pt x="82" y="685"/>
                </a:lnTo>
                <a:lnTo>
                  <a:pt x="67" y="695"/>
                </a:lnTo>
                <a:lnTo>
                  <a:pt x="53" y="704"/>
                </a:lnTo>
                <a:lnTo>
                  <a:pt x="38" y="712"/>
                </a:lnTo>
                <a:lnTo>
                  <a:pt x="25" y="721"/>
                </a:lnTo>
                <a:lnTo>
                  <a:pt x="11" y="733"/>
                </a:lnTo>
                <a:lnTo>
                  <a:pt x="0" y="744"/>
                </a:lnTo>
                <a:lnTo>
                  <a:pt x="57" y="712"/>
                </a:lnTo>
                <a:lnTo>
                  <a:pt x="113" y="681"/>
                </a:lnTo>
                <a:lnTo>
                  <a:pt x="168" y="647"/>
                </a:lnTo>
                <a:lnTo>
                  <a:pt x="222" y="612"/>
                </a:lnTo>
                <a:lnTo>
                  <a:pt x="330" y="541"/>
                </a:lnTo>
                <a:lnTo>
                  <a:pt x="435" y="468"/>
                </a:lnTo>
                <a:lnTo>
                  <a:pt x="541" y="393"/>
                </a:lnTo>
                <a:lnTo>
                  <a:pt x="648" y="315"/>
                </a:lnTo>
                <a:lnTo>
                  <a:pt x="756" y="238"/>
                </a:lnTo>
                <a:lnTo>
                  <a:pt x="869" y="159"/>
                </a:lnTo>
                <a:lnTo>
                  <a:pt x="873" y="155"/>
                </a:lnTo>
                <a:lnTo>
                  <a:pt x="874" y="152"/>
                </a:lnTo>
                <a:lnTo>
                  <a:pt x="878" y="148"/>
                </a:lnTo>
                <a:lnTo>
                  <a:pt x="882" y="142"/>
                </a:lnTo>
                <a:lnTo>
                  <a:pt x="886" y="136"/>
                </a:lnTo>
                <a:lnTo>
                  <a:pt x="890" y="131"/>
                </a:lnTo>
                <a:lnTo>
                  <a:pt x="894" y="125"/>
                </a:lnTo>
                <a:lnTo>
                  <a:pt x="897" y="117"/>
                </a:lnTo>
                <a:lnTo>
                  <a:pt x="844" y="140"/>
                </a:lnTo>
                <a:lnTo>
                  <a:pt x="794" y="165"/>
                </a:lnTo>
                <a:lnTo>
                  <a:pt x="744" y="192"/>
                </a:lnTo>
                <a:lnTo>
                  <a:pt x="694" y="221"/>
                </a:lnTo>
                <a:lnTo>
                  <a:pt x="646" y="249"/>
                </a:lnTo>
                <a:lnTo>
                  <a:pt x="600" y="280"/>
                </a:lnTo>
                <a:lnTo>
                  <a:pt x="552" y="313"/>
                </a:lnTo>
                <a:lnTo>
                  <a:pt x="506" y="345"/>
                </a:lnTo>
                <a:lnTo>
                  <a:pt x="416" y="414"/>
                </a:lnTo>
                <a:lnTo>
                  <a:pt x="328" y="487"/>
                </a:lnTo>
                <a:lnTo>
                  <a:pt x="239" y="562"/>
                </a:lnTo>
                <a:lnTo>
                  <a:pt x="151" y="637"/>
                </a:lnTo>
                <a:lnTo>
                  <a:pt x="140" y="645"/>
                </a:lnTo>
                <a:lnTo>
                  <a:pt x="126" y="650"/>
                </a:lnTo>
                <a:lnTo>
                  <a:pt x="113" y="656"/>
                </a:lnTo>
                <a:lnTo>
                  <a:pt x="99" y="660"/>
                </a:lnTo>
                <a:lnTo>
                  <a:pt x="86" y="662"/>
                </a:lnTo>
                <a:lnTo>
                  <a:pt x="72" y="666"/>
                </a:lnTo>
                <a:lnTo>
                  <a:pt x="59" y="668"/>
                </a:lnTo>
                <a:lnTo>
                  <a:pt x="44" y="671"/>
                </a:lnTo>
                <a:lnTo>
                  <a:pt x="78" y="660"/>
                </a:lnTo>
                <a:lnTo>
                  <a:pt x="109" y="647"/>
                </a:lnTo>
                <a:lnTo>
                  <a:pt x="142" y="631"/>
                </a:lnTo>
                <a:lnTo>
                  <a:pt x="170" y="616"/>
                </a:lnTo>
                <a:lnTo>
                  <a:pt x="201" y="599"/>
                </a:lnTo>
                <a:lnTo>
                  <a:pt x="228" y="581"/>
                </a:lnTo>
                <a:lnTo>
                  <a:pt x="255" y="560"/>
                </a:lnTo>
                <a:lnTo>
                  <a:pt x="278" y="537"/>
                </a:lnTo>
                <a:lnTo>
                  <a:pt x="322" y="493"/>
                </a:lnTo>
                <a:lnTo>
                  <a:pt x="366" y="449"/>
                </a:lnTo>
                <a:lnTo>
                  <a:pt x="408" y="403"/>
                </a:lnTo>
                <a:lnTo>
                  <a:pt x="449" y="357"/>
                </a:lnTo>
                <a:lnTo>
                  <a:pt x="489" y="311"/>
                </a:lnTo>
                <a:lnTo>
                  <a:pt x="529" y="263"/>
                </a:lnTo>
                <a:lnTo>
                  <a:pt x="567" y="211"/>
                </a:lnTo>
                <a:lnTo>
                  <a:pt x="604" y="159"/>
                </a:lnTo>
                <a:lnTo>
                  <a:pt x="621" y="140"/>
                </a:lnTo>
                <a:lnTo>
                  <a:pt x="640" y="123"/>
                </a:lnTo>
                <a:lnTo>
                  <a:pt x="660" y="106"/>
                </a:lnTo>
                <a:lnTo>
                  <a:pt x="679" y="90"/>
                </a:lnTo>
                <a:lnTo>
                  <a:pt x="686" y="81"/>
                </a:lnTo>
                <a:lnTo>
                  <a:pt x="696" y="71"/>
                </a:lnTo>
                <a:lnTo>
                  <a:pt x="702" y="61"/>
                </a:lnTo>
                <a:lnTo>
                  <a:pt x="709" y="52"/>
                </a:lnTo>
                <a:lnTo>
                  <a:pt x="713" y="40"/>
                </a:lnTo>
                <a:lnTo>
                  <a:pt x="717" y="29"/>
                </a:lnTo>
                <a:lnTo>
                  <a:pt x="719" y="15"/>
                </a:lnTo>
                <a:lnTo>
                  <a:pt x="719" y="0"/>
                </a:lnTo>
                <a:lnTo>
                  <a:pt x="711" y="8"/>
                </a:lnTo>
                <a:lnTo>
                  <a:pt x="702" y="12"/>
                </a:lnTo>
                <a:lnTo>
                  <a:pt x="692" y="13"/>
                </a:lnTo>
                <a:lnTo>
                  <a:pt x="683" y="15"/>
                </a:lnTo>
                <a:lnTo>
                  <a:pt x="673" y="15"/>
                </a:lnTo>
                <a:lnTo>
                  <a:pt x="661" y="19"/>
                </a:lnTo>
                <a:lnTo>
                  <a:pt x="654" y="25"/>
                </a:lnTo>
                <a:lnTo>
                  <a:pt x="644" y="35"/>
                </a:lnTo>
                <a:lnTo>
                  <a:pt x="608" y="83"/>
                </a:lnTo>
                <a:lnTo>
                  <a:pt x="569" y="131"/>
                </a:lnTo>
                <a:lnTo>
                  <a:pt x="531" y="175"/>
                </a:lnTo>
                <a:lnTo>
                  <a:pt x="493" y="219"/>
                </a:lnTo>
                <a:lnTo>
                  <a:pt x="452" y="261"/>
                </a:lnTo>
                <a:lnTo>
                  <a:pt x="412" y="303"/>
                </a:lnTo>
                <a:lnTo>
                  <a:pt x="372" y="345"/>
                </a:lnTo>
                <a:lnTo>
                  <a:pt x="330" y="388"/>
                </a:lnTo>
                <a:lnTo>
                  <a:pt x="305" y="416"/>
                </a:lnTo>
                <a:lnTo>
                  <a:pt x="282" y="447"/>
                </a:lnTo>
                <a:lnTo>
                  <a:pt x="260" y="480"/>
                </a:lnTo>
                <a:lnTo>
                  <a:pt x="237" y="512"/>
                </a:lnTo>
                <a:lnTo>
                  <a:pt x="216" y="543"/>
                </a:lnTo>
                <a:lnTo>
                  <a:pt x="193" y="572"/>
                </a:lnTo>
                <a:lnTo>
                  <a:pt x="180" y="585"/>
                </a:lnTo>
                <a:lnTo>
                  <a:pt x="168" y="597"/>
                </a:lnTo>
                <a:lnTo>
                  <a:pt x="155" y="606"/>
                </a:lnTo>
                <a:lnTo>
                  <a:pt x="142" y="614"/>
                </a:lnTo>
                <a:lnTo>
                  <a:pt x="155" y="604"/>
                </a:lnTo>
                <a:lnTo>
                  <a:pt x="166" y="593"/>
                </a:lnTo>
                <a:lnTo>
                  <a:pt x="176" y="581"/>
                </a:lnTo>
                <a:lnTo>
                  <a:pt x="186" y="568"/>
                </a:lnTo>
                <a:lnTo>
                  <a:pt x="193" y="554"/>
                </a:lnTo>
                <a:lnTo>
                  <a:pt x="203" y="543"/>
                </a:lnTo>
                <a:lnTo>
                  <a:pt x="214" y="531"/>
                </a:lnTo>
                <a:lnTo>
                  <a:pt x="226" y="522"/>
                </a:lnTo>
                <a:lnTo>
                  <a:pt x="284" y="485"/>
                </a:lnTo>
                <a:lnTo>
                  <a:pt x="341" y="449"/>
                </a:lnTo>
                <a:lnTo>
                  <a:pt x="397" y="413"/>
                </a:lnTo>
                <a:lnTo>
                  <a:pt x="450" y="376"/>
                </a:lnTo>
                <a:lnTo>
                  <a:pt x="504" y="340"/>
                </a:lnTo>
                <a:lnTo>
                  <a:pt x="558" y="301"/>
                </a:lnTo>
                <a:lnTo>
                  <a:pt x="610" y="261"/>
                </a:lnTo>
                <a:lnTo>
                  <a:pt x="663" y="217"/>
                </a:lnTo>
                <a:lnTo>
                  <a:pt x="685" y="200"/>
                </a:lnTo>
                <a:lnTo>
                  <a:pt x="709" y="186"/>
                </a:lnTo>
                <a:lnTo>
                  <a:pt x="734" y="173"/>
                </a:lnTo>
                <a:lnTo>
                  <a:pt x="759" y="163"/>
                </a:lnTo>
                <a:lnTo>
                  <a:pt x="786" y="157"/>
                </a:lnTo>
                <a:lnTo>
                  <a:pt x="815" y="155"/>
                </a:lnTo>
                <a:lnTo>
                  <a:pt x="828" y="155"/>
                </a:lnTo>
                <a:lnTo>
                  <a:pt x="842" y="157"/>
                </a:lnTo>
                <a:lnTo>
                  <a:pt x="857" y="159"/>
                </a:lnTo>
                <a:lnTo>
                  <a:pt x="871" y="163"/>
                </a:lnTo>
                <a:lnTo>
                  <a:pt x="851" y="167"/>
                </a:lnTo>
                <a:lnTo>
                  <a:pt x="832" y="173"/>
                </a:lnTo>
                <a:lnTo>
                  <a:pt x="813" y="177"/>
                </a:lnTo>
                <a:lnTo>
                  <a:pt x="796" y="180"/>
                </a:lnTo>
                <a:lnTo>
                  <a:pt x="777" y="186"/>
                </a:lnTo>
                <a:lnTo>
                  <a:pt x="757" y="192"/>
                </a:lnTo>
                <a:lnTo>
                  <a:pt x="738" y="198"/>
                </a:lnTo>
                <a:lnTo>
                  <a:pt x="719" y="205"/>
                </a:lnTo>
                <a:lnTo>
                  <a:pt x="702" y="211"/>
                </a:lnTo>
                <a:lnTo>
                  <a:pt x="685" y="219"/>
                </a:lnTo>
                <a:lnTo>
                  <a:pt x="671" y="228"/>
                </a:lnTo>
                <a:lnTo>
                  <a:pt x="656" y="240"/>
                </a:lnTo>
                <a:lnTo>
                  <a:pt x="631" y="263"/>
                </a:lnTo>
                <a:lnTo>
                  <a:pt x="606" y="290"/>
                </a:lnTo>
                <a:lnTo>
                  <a:pt x="583" y="319"/>
                </a:lnTo>
                <a:lnTo>
                  <a:pt x="560" y="345"/>
                </a:lnTo>
                <a:lnTo>
                  <a:pt x="546" y="359"/>
                </a:lnTo>
                <a:lnTo>
                  <a:pt x="533" y="372"/>
                </a:lnTo>
                <a:lnTo>
                  <a:pt x="518" y="384"/>
                </a:lnTo>
                <a:lnTo>
                  <a:pt x="502" y="395"/>
                </a:lnTo>
                <a:lnTo>
                  <a:pt x="470" y="416"/>
                </a:lnTo>
                <a:lnTo>
                  <a:pt x="439" y="436"/>
                </a:lnTo>
                <a:lnTo>
                  <a:pt x="408" y="457"/>
                </a:lnTo>
                <a:lnTo>
                  <a:pt x="378" y="478"/>
                </a:lnTo>
                <a:lnTo>
                  <a:pt x="349" y="499"/>
                </a:lnTo>
                <a:lnTo>
                  <a:pt x="318" y="520"/>
                </a:lnTo>
                <a:lnTo>
                  <a:pt x="289" y="543"/>
                </a:lnTo>
                <a:lnTo>
                  <a:pt x="259" y="566"/>
                </a:lnTo>
                <a:lnTo>
                  <a:pt x="249" y="570"/>
                </a:lnTo>
                <a:lnTo>
                  <a:pt x="241" y="574"/>
                </a:lnTo>
                <a:lnTo>
                  <a:pt x="232" y="576"/>
                </a:lnTo>
                <a:lnTo>
                  <a:pt x="224" y="577"/>
                </a:lnTo>
                <a:lnTo>
                  <a:pt x="214" y="577"/>
                </a:lnTo>
                <a:lnTo>
                  <a:pt x="205" y="577"/>
                </a:lnTo>
                <a:lnTo>
                  <a:pt x="197" y="577"/>
                </a:lnTo>
                <a:lnTo>
                  <a:pt x="188" y="577"/>
                </a:lnTo>
                <a:lnTo>
                  <a:pt x="182" y="577"/>
                </a:lnTo>
                <a:lnTo>
                  <a:pt x="174" y="579"/>
                </a:lnTo>
                <a:lnTo>
                  <a:pt x="168" y="583"/>
                </a:lnTo>
                <a:lnTo>
                  <a:pt x="161" y="587"/>
                </a:lnTo>
                <a:lnTo>
                  <a:pt x="153" y="591"/>
                </a:lnTo>
                <a:lnTo>
                  <a:pt x="145" y="595"/>
                </a:lnTo>
                <a:lnTo>
                  <a:pt x="138" y="599"/>
                </a:lnTo>
                <a:lnTo>
                  <a:pt x="128" y="601"/>
                </a:lnTo>
                <a:lnTo>
                  <a:pt x="151" y="543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Freeform 104"/>
          <p:cNvSpPr/>
          <p:nvPr/>
        </p:nvSpPr>
        <p:spPr>
          <a:xfrm>
            <a:off x="5172120" y="1373040"/>
            <a:ext cx="752400" cy="1254240"/>
          </a:xfrm>
          <a:custGeom>
            <a:avLst/>
            <a:gdLst>
              <a:gd name="textAreaLeft" fmla="*/ 0 w 752400"/>
              <a:gd name="textAreaRight" fmla="*/ 752760 w 752400"/>
              <a:gd name="textAreaTop" fmla="*/ 0 h 1254240"/>
              <a:gd name="textAreaBottom" fmla="*/ 1254600 h 1254240"/>
            </a:gdLst>
            <a:ahLst/>
            <a:rect l="textAreaLeft" t="textAreaTop" r="textAreaRight" b="textAreaBottom"/>
            <a:pathLst>
              <a:path w="474" h="790">
                <a:moveTo>
                  <a:pt x="50" y="777"/>
                </a:moveTo>
                <a:lnTo>
                  <a:pt x="78" y="729"/>
                </a:lnTo>
                <a:lnTo>
                  <a:pt x="105" y="681"/>
                </a:lnTo>
                <a:lnTo>
                  <a:pt x="130" y="631"/>
                </a:lnTo>
                <a:lnTo>
                  <a:pt x="153" y="581"/>
                </a:lnTo>
                <a:lnTo>
                  <a:pt x="197" y="477"/>
                </a:lnTo>
                <a:lnTo>
                  <a:pt x="241" y="376"/>
                </a:lnTo>
                <a:lnTo>
                  <a:pt x="264" y="326"/>
                </a:lnTo>
                <a:lnTo>
                  <a:pt x="287" y="274"/>
                </a:lnTo>
                <a:lnTo>
                  <a:pt x="312" y="226"/>
                </a:lnTo>
                <a:lnTo>
                  <a:pt x="339" y="178"/>
                </a:lnTo>
                <a:lnTo>
                  <a:pt x="368" y="130"/>
                </a:lnTo>
                <a:lnTo>
                  <a:pt x="401" y="84"/>
                </a:lnTo>
                <a:lnTo>
                  <a:pt x="435" y="40"/>
                </a:lnTo>
                <a:lnTo>
                  <a:pt x="474" y="0"/>
                </a:lnTo>
                <a:lnTo>
                  <a:pt x="454" y="49"/>
                </a:lnTo>
                <a:lnTo>
                  <a:pt x="437" y="99"/>
                </a:lnTo>
                <a:lnTo>
                  <a:pt x="418" y="149"/>
                </a:lnTo>
                <a:lnTo>
                  <a:pt x="397" y="197"/>
                </a:lnTo>
                <a:lnTo>
                  <a:pt x="383" y="220"/>
                </a:lnTo>
                <a:lnTo>
                  <a:pt x="372" y="243"/>
                </a:lnTo>
                <a:lnTo>
                  <a:pt x="357" y="264"/>
                </a:lnTo>
                <a:lnTo>
                  <a:pt x="341" y="285"/>
                </a:lnTo>
                <a:lnTo>
                  <a:pt x="326" y="303"/>
                </a:lnTo>
                <a:lnTo>
                  <a:pt x="307" y="322"/>
                </a:lnTo>
                <a:lnTo>
                  <a:pt x="287" y="337"/>
                </a:lnTo>
                <a:lnTo>
                  <a:pt x="264" y="353"/>
                </a:lnTo>
                <a:lnTo>
                  <a:pt x="245" y="366"/>
                </a:lnTo>
                <a:lnTo>
                  <a:pt x="226" y="383"/>
                </a:lnTo>
                <a:lnTo>
                  <a:pt x="211" y="401"/>
                </a:lnTo>
                <a:lnTo>
                  <a:pt x="197" y="420"/>
                </a:lnTo>
                <a:lnTo>
                  <a:pt x="184" y="439"/>
                </a:lnTo>
                <a:lnTo>
                  <a:pt x="174" y="460"/>
                </a:lnTo>
                <a:lnTo>
                  <a:pt x="163" y="481"/>
                </a:lnTo>
                <a:lnTo>
                  <a:pt x="155" y="504"/>
                </a:lnTo>
                <a:lnTo>
                  <a:pt x="140" y="550"/>
                </a:lnTo>
                <a:lnTo>
                  <a:pt x="124" y="594"/>
                </a:lnTo>
                <a:lnTo>
                  <a:pt x="109" y="638"/>
                </a:lnTo>
                <a:lnTo>
                  <a:pt x="92" y="681"/>
                </a:lnTo>
                <a:lnTo>
                  <a:pt x="84" y="696"/>
                </a:lnTo>
                <a:lnTo>
                  <a:pt x="75" y="711"/>
                </a:lnTo>
                <a:lnTo>
                  <a:pt x="63" y="725"/>
                </a:lnTo>
                <a:lnTo>
                  <a:pt x="51" y="738"/>
                </a:lnTo>
                <a:lnTo>
                  <a:pt x="40" y="752"/>
                </a:lnTo>
                <a:lnTo>
                  <a:pt x="27" y="765"/>
                </a:lnTo>
                <a:lnTo>
                  <a:pt x="13" y="777"/>
                </a:lnTo>
                <a:lnTo>
                  <a:pt x="0" y="790"/>
                </a:lnTo>
                <a:lnTo>
                  <a:pt x="50" y="777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Freeform 105"/>
          <p:cNvSpPr/>
          <p:nvPr/>
        </p:nvSpPr>
        <p:spPr>
          <a:xfrm>
            <a:off x="5321160" y="1973160"/>
            <a:ext cx="1333800" cy="882720"/>
          </a:xfrm>
          <a:custGeom>
            <a:avLst/>
            <a:gdLst>
              <a:gd name="textAreaLeft" fmla="*/ 0 w 1333800"/>
              <a:gd name="textAreaRight" fmla="*/ 1334160 w 1333800"/>
              <a:gd name="textAreaTop" fmla="*/ 0 h 882720"/>
              <a:gd name="textAreaBottom" fmla="*/ 883080 h 882720"/>
            </a:gdLst>
            <a:ahLst/>
            <a:rect l="textAreaLeft" t="textAreaTop" r="textAreaRight" b="textAreaBottom"/>
            <a:pathLst>
              <a:path w="840" h="556">
                <a:moveTo>
                  <a:pt x="0" y="552"/>
                </a:moveTo>
                <a:lnTo>
                  <a:pt x="11" y="556"/>
                </a:lnTo>
                <a:lnTo>
                  <a:pt x="21" y="556"/>
                </a:lnTo>
                <a:lnTo>
                  <a:pt x="28" y="552"/>
                </a:lnTo>
                <a:lnTo>
                  <a:pt x="36" y="546"/>
                </a:lnTo>
                <a:lnTo>
                  <a:pt x="42" y="540"/>
                </a:lnTo>
                <a:lnTo>
                  <a:pt x="48" y="535"/>
                </a:lnTo>
                <a:lnTo>
                  <a:pt x="51" y="529"/>
                </a:lnTo>
                <a:lnTo>
                  <a:pt x="57" y="523"/>
                </a:lnTo>
                <a:lnTo>
                  <a:pt x="67" y="516"/>
                </a:lnTo>
                <a:lnTo>
                  <a:pt x="76" y="508"/>
                </a:lnTo>
                <a:lnTo>
                  <a:pt x="86" y="500"/>
                </a:lnTo>
                <a:lnTo>
                  <a:pt x="96" y="493"/>
                </a:lnTo>
                <a:lnTo>
                  <a:pt x="105" y="485"/>
                </a:lnTo>
                <a:lnTo>
                  <a:pt x="117" y="477"/>
                </a:lnTo>
                <a:lnTo>
                  <a:pt x="126" y="471"/>
                </a:lnTo>
                <a:lnTo>
                  <a:pt x="136" y="466"/>
                </a:lnTo>
                <a:lnTo>
                  <a:pt x="195" y="431"/>
                </a:lnTo>
                <a:lnTo>
                  <a:pt x="255" y="397"/>
                </a:lnTo>
                <a:lnTo>
                  <a:pt x="314" y="364"/>
                </a:lnTo>
                <a:lnTo>
                  <a:pt x="372" y="329"/>
                </a:lnTo>
                <a:lnTo>
                  <a:pt x="429" y="293"/>
                </a:lnTo>
                <a:lnTo>
                  <a:pt x="485" y="257"/>
                </a:lnTo>
                <a:lnTo>
                  <a:pt x="539" y="216"/>
                </a:lnTo>
                <a:lnTo>
                  <a:pt x="593" y="176"/>
                </a:lnTo>
                <a:lnTo>
                  <a:pt x="619" y="153"/>
                </a:lnTo>
                <a:lnTo>
                  <a:pt x="646" y="128"/>
                </a:lnTo>
                <a:lnTo>
                  <a:pt x="675" y="103"/>
                </a:lnTo>
                <a:lnTo>
                  <a:pt x="704" y="76"/>
                </a:lnTo>
                <a:lnTo>
                  <a:pt x="736" y="53"/>
                </a:lnTo>
                <a:lnTo>
                  <a:pt x="769" y="30"/>
                </a:lnTo>
                <a:lnTo>
                  <a:pt x="786" y="21"/>
                </a:lnTo>
                <a:lnTo>
                  <a:pt x="804" y="13"/>
                </a:lnTo>
                <a:lnTo>
                  <a:pt x="821" y="5"/>
                </a:lnTo>
                <a:lnTo>
                  <a:pt x="840" y="0"/>
                </a:lnTo>
                <a:lnTo>
                  <a:pt x="827" y="9"/>
                </a:lnTo>
                <a:lnTo>
                  <a:pt x="811" y="15"/>
                </a:lnTo>
                <a:lnTo>
                  <a:pt x="796" y="23"/>
                </a:lnTo>
                <a:lnTo>
                  <a:pt x="781" y="28"/>
                </a:lnTo>
                <a:lnTo>
                  <a:pt x="765" y="34"/>
                </a:lnTo>
                <a:lnTo>
                  <a:pt x="750" y="42"/>
                </a:lnTo>
                <a:lnTo>
                  <a:pt x="736" y="51"/>
                </a:lnTo>
                <a:lnTo>
                  <a:pt x="723" y="61"/>
                </a:lnTo>
                <a:lnTo>
                  <a:pt x="690" y="88"/>
                </a:lnTo>
                <a:lnTo>
                  <a:pt x="658" y="115"/>
                </a:lnTo>
                <a:lnTo>
                  <a:pt x="625" y="141"/>
                </a:lnTo>
                <a:lnTo>
                  <a:pt x="591" y="166"/>
                </a:lnTo>
                <a:lnTo>
                  <a:pt x="523" y="214"/>
                </a:lnTo>
                <a:lnTo>
                  <a:pt x="454" y="260"/>
                </a:lnTo>
                <a:lnTo>
                  <a:pt x="385" y="308"/>
                </a:lnTo>
                <a:lnTo>
                  <a:pt x="318" y="356"/>
                </a:lnTo>
                <a:lnTo>
                  <a:pt x="284" y="383"/>
                </a:lnTo>
                <a:lnTo>
                  <a:pt x="251" y="408"/>
                </a:lnTo>
                <a:lnTo>
                  <a:pt x="218" y="437"/>
                </a:lnTo>
                <a:lnTo>
                  <a:pt x="186" y="466"/>
                </a:lnTo>
                <a:lnTo>
                  <a:pt x="167" y="481"/>
                </a:lnTo>
                <a:lnTo>
                  <a:pt x="146" y="494"/>
                </a:lnTo>
                <a:lnTo>
                  <a:pt x="124" y="508"/>
                </a:lnTo>
                <a:lnTo>
                  <a:pt x="101" y="521"/>
                </a:lnTo>
                <a:lnTo>
                  <a:pt x="76" y="531"/>
                </a:lnTo>
                <a:lnTo>
                  <a:pt x="53" y="540"/>
                </a:lnTo>
                <a:lnTo>
                  <a:pt x="27" y="546"/>
                </a:lnTo>
                <a:lnTo>
                  <a:pt x="0" y="552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Freeform 106"/>
          <p:cNvSpPr/>
          <p:nvPr/>
        </p:nvSpPr>
        <p:spPr>
          <a:xfrm>
            <a:off x="5342040" y="2082960"/>
            <a:ext cx="1368360" cy="80640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806400"/>
              <a:gd name="textAreaBottom" fmla="*/ 806760 h 806400"/>
            </a:gdLst>
            <a:ahLst/>
            <a:rect l="textAreaLeft" t="textAreaTop" r="textAreaRight" b="textAreaBottom"/>
            <a:pathLst>
              <a:path w="862" h="508">
                <a:moveTo>
                  <a:pt x="23" y="508"/>
                </a:moveTo>
                <a:lnTo>
                  <a:pt x="50" y="495"/>
                </a:lnTo>
                <a:lnTo>
                  <a:pt x="75" y="481"/>
                </a:lnTo>
                <a:lnTo>
                  <a:pt x="98" y="466"/>
                </a:lnTo>
                <a:lnTo>
                  <a:pt x="121" y="448"/>
                </a:lnTo>
                <a:lnTo>
                  <a:pt x="142" y="429"/>
                </a:lnTo>
                <a:lnTo>
                  <a:pt x="165" y="412"/>
                </a:lnTo>
                <a:lnTo>
                  <a:pt x="188" y="395"/>
                </a:lnTo>
                <a:lnTo>
                  <a:pt x="213" y="377"/>
                </a:lnTo>
                <a:lnTo>
                  <a:pt x="230" y="368"/>
                </a:lnTo>
                <a:lnTo>
                  <a:pt x="248" y="358"/>
                </a:lnTo>
                <a:lnTo>
                  <a:pt x="265" y="351"/>
                </a:lnTo>
                <a:lnTo>
                  <a:pt x="282" y="343"/>
                </a:lnTo>
                <a:lnTo>
                  <a:pt x="319" y="331"/>
                </a:lnTo>
                <a:lnTo>
                  <a:pt x="353" y="320"/>
                </a:lnTo>
                <a:lnTo>
                  <a:pt x="390" y="308"/>
                </a:lnTo>
                <a:lnTo>
                  <a:pt x="424" y="297"/>
                </a:lnTo>
                <a:lnTo>
                  <a:pt x="461" y="283"/>
                </a:lnTo>
                <a:lnTo>
                  <a:pt x="493" y="266"/>
                </a:lnTo>
                <a:lnTo>
                  <a:pt x="543" y="237"/>
                </a:lnTo>
                <a:lnTo>
                  <a:pt x="593" y="209"/>
                </a:lnTo>
                <a:lnTo>
                  <a:pt x="641" y="178"/>
                </a:lnTo>
                <a:lnTo>
                  <a:pt x="687" y="145"/>
                </a:lnTo>
                <a:lnTo>
                  <a:pt x="733" y="111"/>
                </a:lnTo>
                <a:lnTo>
                  <a:pt x="777" y="76"/>
                </a:lnTo>
                <a:lnTo>
                  <a:pt x="821" y="40"/>
                </a:lnTo>
                <a:lnTo>
                  <a:pt x="862" y="0"/>
                </a:lnTo>
                <a:lnTo>
                  <a:pt x="806" y="25"/>
                </a:lnTo>
                <a:lnTo>
                  <a:pt x="750" y="51"/>
                </a:lnTo>
                <a:lnTo>
                  <a:pt x="697" y="80"/>
                </a:lnTo>
                <a:lnTo>
                  <a:pt x="643" y="109"/>
                </a:lnTo>
                <a:lnTo>
                  <a:pt x="535" y="172"/>
                </a:lnTo>
                <a:lnTo>
                  <a:pt x="432" y="237"/>
                </a:lnTo>
                <a:lnTo>
                  <a:pt x="326" y="301"/>
                </a:lnTo>
                <a:lnTo>
                  <a:pt x="221" y="364"/>
                </a:lnTo>
                <a:lnTo>
                  <a:pt x="167" y="393"/>
                </a:lnTo>
                <a:lnTo>
                  <a:pt x="113" y="422"/>
                </a:lnTo>
                <a:lnTo>
                  <a:pt x="58" y="448"/>
                </a:lnTo>
                <a:lnTo>
                  <a:pt x="0" y="471"/>
                </a:lnTo>
                <a:lnTo>
                  <a:pt x="23" y="508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Freeform 107"/>
          <p:cNvSpPr/>
          <p:nvPr/>
        </p:nvSpPr>
        <p:spPr>
          <a:xfrm>
            <a:off x="4008600" y="1503360"/>
            <a:ext cx="849240" cy="1066680"/>
          </a:xfrm>
          <a:custGeom>
            <a:avLst/>
            <a:gdLst>
              <a:gd name="textAreaLeft" fmla="*/ 0 w 849240"/>
              <a:gd name="textAreaRight" fmla="*/ 849600 w 84924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535" h="672">
                <a:moveTo>
                  <a:pt x="533" y="672"/>
                </a:moveTo>
                <a:lnTo>
                  <a:pt x="535" y="660"/>
                </a:lnTo>
                <a:lnTo>
                  <a:pt x="535" y="648"/>
                </a:lnTo>
                <a:lnTo>
                  <a:pt x="535" y="639"/>
                </a:lnTo>
                <a:lnTo>
                  <a:pt x="533" y="627"/>
                </a:lnTo>
                <a:lnTo>
                  <a:pt x="529" y="618"/>
                </a:lnTo>
                <a:lnTo>
                  <a:pt x="524" y="608"/>
                </a:lnTo>
                <a:lnTo>
                  <a:pt x="520" y="601"/>
                </a:lnTo>
                <a:lnTo>
                  <a:pt x="514" y="593"/>
                </a:lnTo>
                <a:lnTo>
                  <a:pt x="497" y="568"/>
                </a:lnTo>
                <a:lnTo>
                  <a:pt x="479" y="543"/>
                </a:lnTo>
                <a:lnTo>
                  <a:pt x="458" y="520"/>
                </a:lnTo>
                <a:lnTo>
                  <a:pt x="437" y="497"/>
                </a:lnTo>
                <a:lnTo>
                  <a:pt x="416" y="474"/>
                </a:lnTo>
                <a:lnTo>
                  <a:pt x="393" y="453"/>
                </a:lnTo>
                <a:lnTo>
                  <a:pt x="372" y="430"/>
                </a:lnTo>
                <a:lnTo>
                  <a:pt x="349" y="407"/>
                </a:lnTo>
                <a:lnTo>
                  <a:pt x="324" y="378"/>
                </a:lnTo>
                <a:lnTo>
                  <a:pt x="299" y="349"/>
                </a:lnTo>
                <a:lnTo>
                  <a:pt x="278" y="317"/>
                </a:lnTo>
                <a:lnTo>
                  <a:pt x="257" y="284"/>
                </a:lnTo>
                <a:lnTo>
                  <a:pt x="236" y="251"/>
                </a:lnTo>
                <a:lnTo>
                  <a:pt x="213" y="219"/>
                </a:lnTo>
                <a:lnTo>
                  <a:pt x="192" y="186"/>
                </a:lnTo>
                <a:lnTo>
                  <a:pt x="167" y="154"/>
                </a:lnTo>
                <a:lnTo>
                  <a:pt x="146" y="132"/>
                </a:lnTo>
                <a:lnTo>
                  <a:pt x="124" y="115"/>
                </a:lnTo>
                <a:lnTo>
                  <a:pt x="101" y="98"/>
                </a:lnTo>
                <a:lnTo>
                  <a:pt x="78" y="81"/>
                </a:lnTo>
                <a:lnTo>
                  <a:pt x="57" y="63"/>
                </a:lnTo>
                <a:lnTo>
                  <a:pt x="36" y="46"/>
                </a:lnTo>
                <a:lnTo>
                  <a:pt x="27" y="35"/>
                </a:lnTo>
                <a:lnTo>
                  <a:pt x="17" y="25"/>
                </a:lnTo>
                <a:lnTo>
                  <a:pt x="9" y="14"/>
                </a:lnTo>
                <a:lnTo>
                  <a:pt x="2" y="0"/>
                </a:lnTo>
                <a:lnTo>
                  <a:pt x="0" y="10"/>
                </a:lnTo>
                <a:lnTo>
                  <a:pt x="0" y="19"/>
                </a:lnTo>
                <a:lnTo>
                  <a:pt x="2" y="27"/>
                </a:lnTo>
                <a:lnTo>
                  <a:pt x="4" y="37"/>
                </a:lnTo>
                <a:lnTo>
                  <a:pt x="6" y="46"/>
                </a:lnTo>
                <a:lnTo>
                  <a:pt x="9" y="54"/>
                </a:lnTo>
                <a:lnTo>
                  <a:pt x="13" y="61"/>
                </a:lnTo>
                <a:lnTo>
                  <a:pt x="19" y="67"/>
                </a:lnTo>
                <a:lnTo>
                  <a:pt x="46" y="108"/>
                </a:lnTo>
                <a:lnTo>
                  <a:pt x="76" y="148"/>
                </a:lnTo>
                <a:lnTo>
                  <a:pt x="105" y="184"/>
                </a:lnTo>
                <a:lnTo>
                  <a:pt x="136" y="221"/>
                </a:lnTo>
                <a:lnTo>
                  <a:pt x="167" y="257"/>
                </a:lnTo>
                <a:lnTo>
                  <a:pt x="197" y="294"/>
                </a:lnTo>
                <a:lnTo>
                  <a:pt x="226" y="334"/>
                </a:lnTo>
                <a:lnTo>
                  <a:pt x="253" y="374"/>
                </a:lnTo>
                <a:lnTo>
                  <a:pt x="266" y="397"/>
                </a:lnTo>
                <a:lnTo>
                  <a:pt x="282" y="418"/>
                </a:lnTo>
                <a:lnTo>
                  <a:pt x="299" y="437"/>
                </a:lnTo>
                <a:lnTo>
                  <a:pt x="316" y="457"/>
                </a:lnTo>
                <a:lnTo>
                  <a:pt x="353" y="493"/>
                </a:lnTo>
                <a:lnTo>
                  <a:pt x="389" y="528"/>
                </a:lnTo>
                <a:lnTo>
                  <a:pt x="428" y="562"/>
                </a:lnTo>
                <a:lnTo>
                  <a:pt x="464" y="597"/>
                </a:lnTo>
                <a:lnTo>
                  <a:pt x="483" y="614"/>
                </a:lnTo>
                <a:lnTo>
                  <a:pt x="501" y="633"/>
                </a:lnTo>
                <a:lnTo>
                  <a:pt x="516" y="652"/>
                </a:lnTo>
                <a:lnTo>
                  <a:pt x="533" y="672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Freeform 108"/>
          <p:cNvSpPr/>
          <p:nvPr/>
        </p:nvSpPr>
        <p:spPr>
          <a:xfrm>
            <a:off x="4559400" y="2408400"/>
            <a:ext cx="1190520" cy="1184040"/>
          </a:xfrm>
          <a:custGeom>
            <a:avLst/>
            <a:gdLst>
              <a:gd name="textAreaLeft" fmla="*/ 0 w 1190520"/>
              <a:gd name="textAreaRight" fmla="*/ 1190880 w 1190520"/>
              <a:gd name="textAreaTop" fmla="*/ 0 h 1184040"/>
              <a:gd name="textAreaBottom" fmla="*/ 1184040 h 1184040"/>
            </a:gdLst>
            <a:ahLst/>
            <a:rect l="textAreaLeft" t="textAreaTop" r="textAreaRight" b="textAreaBottom"/>
            <a:pathLst>
              <a:path w="750" h="746">
                <a:moveTo>
                  <a:pt x="376" y="746"/>
                </a:moveTo>
                <a:lnTo>
                  <a:pt x="414" y="744"/>
                </a:lnTo>
                <a:lnTo>
                  <a:pt x="451" y="738"/>
                </a:lnTo>
                <a:lnTo>
                  <a:pt x="487" y="729"/>
                </a:lnTo>
                <a:lnTo>
                  <a:pt x="522" y="715"/>
                </a:lnTo>
                <a:lnTo>
                  <a:pt x="555" y="700"/>
                </a:lnTo>
                <a:lnTo>
                  <a:pt x="585" y="683"/>
                </a:lnTo>
                <a:lnTo>
                  <a:pt x="614" y="660"/>
                </a:lnTo>
                <a:lnTo>
                  <a:pt x="641" y="637"/>
                </a:lnTo>
                <a:lnTo>
                  <a:pt x="664" y="610"/>
                </a:lnTo>
                <a:lnTo>
                  <a:pt x="687" y="581"/>
                </a:lnTo>
                <a:lnTo>
                  <a:pt x="704" y="550"/>
                </a:lnTo>
                <a:lnTo>
                  <a:pt x="721" y="518"/>
                </a:lnTo>
                <a:lnTo>
                  <a:pt x="733" y="483"/>
                </a:lnTo>
                <a:lnTo>
                  <a:pt x="743" y="447"/>
                </a:lnTo>
                <a:lnTo>
                  <a:pt x="746" y="430"/>
                </a:lnTo>
                <a:lnTo>
                  <a:pt x="748" y="410"/>
                </a:lnTo>
                <a:lnTo>
                  <a:pt x="750" y="391"/>
                </a:lnTo>
                <a:lnTo>
                  <a:pt x="750" y="372"/>
                </a:lnTo>
                <a:lnTo>
                  <a:pt x="748" y="334"/>
                </a:lnTo>
                <a:lnTo>
                  <a:pt x="743" y="297"/>
                </a:lnTo>
                <a:lnTo>
                  <a:pt x="733" y="261"/>
                </a:lnTo>
                <a:lnTo>
                  <a:pt x="721" y="226"/>
                </a:lnTo>
                <a:lnTo>
                  <a:pt x="704" y="194"/>
                </a:lnTo>
                <a:lnTo>
                  <a:pt x="687" y="163"/>
                </a:lnTo>
                <a:lnTo>
                  <a:pt x="664" y="134"/>
                </a:lnTo>
                <a:lnTo>
                  <a:pt x="641" y="109"/>
                </a:lnTo>
                <a:lnTo>
                  <a:pt x="614" y="84"/>
                </a:lnTo>
                <a:lnTo>
                  <a:pt x="585" y="63"/>
                </a:lnTo>
                <a:lnTo>
                  <a:pt x="555" y="46"/>
                </a:lnTo>
                <a:lnTo>
                  <a:pt x="522" y="29"/>
                </a:lnTo>
                <a:lnTo>
                  <a:pt x="487" y="17"/>
                </a:lnTo>
                <a:lnTo>
                  <a:pt x="451" y="8"/>
                </a:lnTo>
                <a:lnTo>
                  <a:pt x="414" y="2"/>
                </a:lnTo>
                <a:lnTo>
                  <a:pt x="376" y="0"/>
                </a:lnTo>
                <a:lnTo>
                  <a:pt x="338" y="2"/>
                </a:lnTo>
                <a:lnTo>
                  <a:pt x="299" y="8"/>
                </a:lnTo>
                <a:lnTo>
                  <a:pt x="265" y="17"/>
                </a:lnTo>
                <a:lnTo>
                  <a:pt x="230" y="29"/>
                </a:lnTo>
                <a:lnTo>
                  <a:pt x="196" y="46"/>
                </a:lnTo>
                <a:lnTo>
                  <a:pt x="165" y="63"/>
                </a:lnTo>
                <a:lnTo>
                  <a:pt x="136" y="84"/>
                </a:lnTo>
                <a:lnTo>
                  <a:pt x="109" y="109"/>
                </a:lnTo>
                <a:lnTo>
                  <a:pt x="86" y="134"/>
                </a:lnTo>
                <a:lnTo>
                  <a:pt x="63" y="163"/>
                </a:lnTo>
                <a:lnTo>
                  <a:pt x="46" y="194"/>
                </a:lnTo>
                <a:lnTo>
                  <a:pt x="29" y="226"/>
                </a:lnTo>
                <a:lnTo>
                  <a:pt x="17" y="261"/>
                </a:lnTo>
                <a:lnTo>
                  <a:pt x="8" y="297"/>
                </a:lnTo>
                <a:lnTo>
                  <a:pt x="4" y="314"/>
                </a:lnTo>
                <a:lnTo>
                  <a:pt x="2" y="334"/>
                </a:lnTo>
                <a:lnTo>
                  <a:pt x="0" y="353"/>
                </a:lnTo>
                <a:lnTo>
                  <a:pt x="0" y="372"/>
                </a:lnTo>
                <a:lnTo>
                  <a:pt x="0" y="391"/>
                </a:lnTo>
                <a:lnTo>
                  <a:pt x="2" y="410"/>
                </a:lnTo>
                <a:lnTo>
                  <a:pt x="4" y="430"/>
                </a:lnTo>
                <a:lnTo>
                  <a:pt x="8" y="447"/>
                </a:lnTo>
                <a:lnTo>
                  <a:pt x="17" y="483"/>
                </a:lnTo>
                <a:lnTo>
                  <a:pt x="29" y="518"/>
                </a:lnTo>
                <a:lnTo>
                  <a:pt x="46" y="550"/>
                </a:lnTo>
                <a:lnTo>
                  <a:pt x="63" y="581"/>
                </a:lnTo>
                <a:lnTo>
                  <a:pt x="86" y="610"/>
                </a:lnTo>
                <a:lnTo>
                  <a:pt x="109" y="637"/>
                </a:lnTo>
                <a:lnTo>
                  <a:pt x="136" y="660"/>
                </a:lnTo>
                <a:lnTo>
                  <a:pt x="165" y="683"/>
                </a:lnTo>
                <a:lnTo>
                  <a:pt x="196" y="700"/>
                </a:lnTo>
                <a:lnTo>
                  <a:pt x="230" y="715"/>
                </a:lnTo>
                <a:lnTo>
                  <a:pt x="265" y="729"/>
                </a:lnTo>
                <a:lnTo>
                  <a:pt x="299" y="738"/>
                </a:lnTo>
                <a:lnTo>
                  <a:pt x="338" y="744"/>
                </a:lnTo>
                <a:lnTo>
                  <a:pt x="376" y="746"/>
                </a:lnTo>
                <a:close/>
              </a:path>
            </a:pathLst>
          </a:cu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Freeform 109"/>
          <p:cNvSpPr/>
          <p:nvPr/>
        </p:nvSpPr>
        <p:spPr>
          <a:xfrm>
            <a:off x="5095800" y="1077840"/>
            <a:ext cx="1973160" cy="1970280"/>
          </a:xfrm>
          <a:custGeom>
            <a:avLst/>
            <a:gdLst>
              <a:gd name="textAreaLeft" fmla="*/ 0 w 1973160"/>
              <a:gd name="textAreaRight" fmla="*/ 1973520 w 1973160"/>
              <a:gd name="textAreaTop" fmla="*/ 0 h 1970280"/>
              <a:gd name="textAreaBottom" fmla="*/ 1970640 h 1970280"/>
            </a:gdLst>
            <a:ahLst/>
            <a:rect l="textAreaLeft" t="textAreaTop" r="textAreaRight" b="textAreaBottom"/>
            <a:pathLst>
              <a:path w="1243" h="1241">
                <a:moveTo>
                  <a:pt x="1243" y="1241"/>
                </a:moveTo>
                <a:lnTo>
                  <a:pt x="1241" y="1177"/>
                </a:lnTo>
                <a:lnTo>
                  <a:pt x="1237" y="1114"/>
                </a:lnTo>
                <a:lnTo>
                  <a:pt x="1230" y="1053"/>
                </a:lnTo>
                <a:lnTo>
                  <a:pt x="1218" y="991"/>
                </a:lnTo>
                <a:lnTo>
                  <a:pt x="1205" y="932"/>
                </a:lnTo>
                <a:lnTo>
                  <a:pt x="1187" y="872"/>
                </a:lnTo>
                <a:lnTo>
                  <a:pt x="1168" y="815"/>
                </a:lnTo>
                <a:lnTo>
                  <a:pt x="1145" y="759"/>
                </a:lnTo>
                <a:lnTo>
                  <a:pt x="1120" y="704"/>
                </a:lnTo>
                <a:lnTo>
                  <a:pt x="1093" y="650"/>
                </a:lnTo>
                <a:lnTo>
                  <a:pt x="1063" y="598"/>
                </a:lnTo>
                <a:lnTo>
                  <a:pt x="1030" y="548"/>
                </a:lnTo>
                <a:lnTo>
                  <a:pt x="995" y="498"/>
                </a:lnTo>
                <a:lnTo>
                  <a:pt x="959" y="452"/>
                </a:lnTo>
                <a:lnTo>
                  <a:pt x="919" y="406"/>
                </a:lnTo>
                <a:lnTo>
                  <a:pt x="878" y="364"/>
                </a:lnTo>
                <a:lnTo>
                  <a:pt x="834" y="322"/>
                </a:lnTo>
                <a:lnTo>
                  <a:pt x="790" y="283"/>
                </a:lnTo>
                <a:lnTo>
                  <a:pt x="742" y="247"/>
                </a:lnTo>
                <a:lnTo>
                  <a:pt x="694" y="212"/>
                </a:lnTo>
                <a:lnTo>
                  <a:pt x="644" y="180"/>
                </a:lnTo>
                <a:lnTo>
                  <a:pt x="593" y="149"/>
                </a:lnTo>
                <a:lnTo>
                  <a:pt x="539" y="122"/>
                </a:lnTo>
                <a:lnTo>
                  <a:pt x="483" y="97"/>
                </a:lnTo>
                <a:lnTo>
                  <a:pt x="428" y="74"/>
                </a:lnTo>
                <a:lnTo>
                  <a:pt x="370" y="55"/>
                </a:lnTo>
                <a:lnTo>
                  <a:pt x="311" y="38"/>
                </a:lnTo>
                <a:lnTo>
                  <a:pt x="251" y="24"/>
                </a:lnTo>
                <a:lnTo>
                  <a:pt x="190" y="13"/>
                </a:lnTo>
                <a:lnTo>
                  <a:pt x="126" y="5"/>
                </a:lnTo>
                <a:lnTo>
                  <a:pt x="65" y="1"/>
                </a:lnTo>
                <a:lnTo>
                  <a:pt x="0" y="0"/>
                </a:lnTo>
                <a:lnTo>
                  <a:pt x="0" y="15"/>
                </a:lnTo>
                <a:lnTo>
                  <a:pt x="63" y="17"/>
                </a:lnTo>
                <a:lnTo>
                  <a:pt x="126" y="23"/>
                </a:lnTo>
                <a:lnTo>
                  <a:pt x="188" y="30"/>
                </a:lnTo>
                <a:lnTo>
                  <a:pt x="247" y="40"/>
                </a:lnTo>
                <a:lnTo>
                  <a:pt x="307" y="53"/>
                </a:lnTo>
                <a:lnTo>
                  <a:pt x="364" y="70"/>
                </a:lnTo>
                <a:lnTo>
                  <a:pt x="422" y="90"/>
                </a:lnTo>
                <a:lnTo>
                  <a:pt x="477" y="113"/>
                </a:lnTo>
                <a:lnTo>
                  <a:pt x="531" y="138"/>
                </a:lnTo>
                <a:lnTo>
                  <a:pt x="585" y="164"/>
                </a:lnTo>
                <a:lnTo>
                  <a:pt x="635" y="193"/>
                </a:lnTo>
                <a:lnTo>
                  <a:pt x="685" y="226"/>
                </a:lnTo>
                <a:lnTo>
                  <a:pt x="733" y="260"/>
                </a:lnTo>
                <a:lnTo>
                  <a:pt x="781" y="297"/>
                </a:lnTo>
                <a:lnTo>
                  <a:pt x="825" y="335"/>
                </a:lnTo>
                <a:lnTo>
                  <a:pt x="867" y="376"/>
                </a:lnTo>
                <a:lnTo>
                  <a:pt x="907" y="418"/>
                </a:lnTo>
                <a:lnTo>
                  <a:pt x="946" y="462"/>
                </a:lnTo>
                <a:lnTo>
                  <a:pt x="982" y="508"/>
                </a:lnTo>
                <a:lnTo>
                  <a:pt x="1017" y="558"/>
                </a:lnTo>
                <a:lnTo>
                  <a:pt x="1049" y="606"/>
                </a:lnTo>
                <a:lnTo>
                  <a:pt x="1078" y="658"/>
                </a:lnTo>
                <a:lnTo>
                  <a:pt x="1105" y="711"/>
                </a:lnTo>
                <a:lnTo>
                  <a:pt x="1130" y="765"/>
                </a:lnTo>
                <a:lnTo>
                  <a:pt x="1153" y="821"/>
                </a:lnTo>
                <a:lnTo>
                  <a:pt x="1172" y="878"/>
                </a:lnTo>
                <a:lnTo>
                  <a:pt x="1187" y="936"/>
                </a:lnTo>
                <a:lnTo>
                  <a:pt x="1203" y="995"/>
                </a:lnTo>
                <a:lnTo>
                  <a:pt x="1212" y="1055"/>
                </a:lnTo>
                <a:lnTo>
                  <a:pt x="1220" y="1116"/>
                </a:lnTo>
                <a:lnTo>
                  <a:pt x="1226" y="1179"/>
                </a:lnTo>
                <a:lnTo>
                  <a:pt x="1228" y="1241"/>
                </a:lnTo>
                <a:lnTo>
                  <a:pt x="1243" y="12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Freeform 110"/>
          <p:cNvSpPr/>
          <p:nvPr/>
        </p:nvSpPr>
        <p:spPr>
          <a:xfrm>
            <a:off x="5095800" y="3048120"/>
            <a:ext cx="1973160" cy="1973160"/>
          </a:xfrm>
          <a:custGeom>
            <a:avLst/>
            <a:gdLst>
              <a:gd name="textAreaLeft" fmla="*/ 0 w 1973160"/>
              <a:gd name="textAreaRight" fmla="*/ 1973520 w 1973160"/>
              <a:gd name="textAreaTop" fmla="*/ 0 h 1973160"/>
              <a:gd name="textAreaBottom" fmla="*/ 1973520 h 1973160"/>
            </a:gdLst>
            <a:ahLst/>
            <a:rect l="textAreaLeft" t="textAreaTop" r="textAreaRight" b="textAreaBottom"/>
            <a:pathLst>
              <a:path w="1243" h="1243">
                <a:moveTo>
                  <a:pt x="0" y="1243"/>
                </a:moveTo>
                <a:lnTo>
                  <a:pt x="65" y="1241"/>
                </a:lnTo>
                <a:lnTo>
                  <a:pt x="126" y="1237"/>
                </a:lnTo>
                <a:lnTo>
                  <a:pt x="190" y="1229"/>
                </a:lnTo>
                <a:lnTo>
                  <a:pt x="251" y="1218"/>
                </a:lnTo>
                <a:lnTo>
                  <a:pt x="311" y="1204"/>
                </a:lnTo>
                <a:lnTo>
                  <a:pt x="370" y="1187"/>
                </a:lnTo>
                <a:lnTo>
                  <a:pt x="428" y="1168"/>
                </a:lnTo>
                <a:lnTo>
                  <a:pt x="483" y="1145"/>
                </a:lnTo>
                <a:lnTo>
                  <a:pt x="539" y="1120"/>
                </a:lnTo>
                <a:lnTo>
                  <a:pt x="593" y="1093"/>
                </a:lnTo>
                <a:lnTo>
                  <a:pt x="644" y="1062"/>
                </a:lnTo>
                <a:lnTo>
                  <a:pt x="694" y="1030"/>
                </a:lnTo>
                <a:lnTo>
                  <a:pt x="742" y="995"/>
                </a:lnTo>
                <a:lnTo>
                  <a:pt x="790" y="959"/>
                </a:lnTo>
                <a:lnTo>
                  <a:pt x="834" y="919"/>
                </a:lnTo>
                <a:lnTo>
                  <a:pt x="878" y="878"/>
                </a:lnTo>
                <a:lnTo>
                  <a:pt x="919" y="834"/>
                </a:lnTo>
                <a:lnTo>
                  <a:pt x="959" y="790"/>
                </a:lnTo>
                <a:lnTo>
                  <a:pt x="995" y="742"/>
                </a:lnTo>
                <a:lnTo>
                  <a:pt x="1030" y="694"/>
                </a:lnTo>
                <a:lnTo>
                  <a:pt x="1063" y="644"/>
                </a:lnTo>
                <a:lnTo>
                  <a:pt x="1093" y="592"/>
                </a:lnTo>
                <a:lnTo>
                  <a:pt x="1120" y="539"/>
                </a:lnTo>
                <a:lnTo>
                  <a:pt x="1145" y="483"/>
                </a:lnTo>
                <a:lnTo>
                  <a:pt x="1168" y="427"/>
                </a:lnTo>
                <a:lnTo>
                  <a:pt x="1187" y="370"/>
                </a:lnTo>
                <a:lnTo>
                  <a:pt x="1205" y="310"/>
                </a:lnTo>
                <a:lnTo>
                  <a:pt x="1218" y="251"/>
                </a:lnTo>
                <a:lnTo>
                  <a:pt x="1230" y="190"/>
                </a:lnTo>
                <a:lnTo>
                  <a:pt x="1237" y="126"/>
                </a:lnTo>
                <a:lnTo>
                  <a:pt x="1241" y="65"/>
                </a:lnTo>
                <a:lnTo>
                  <a:pt x="1243" y="0"/>
                </a:lnTo>
                <a:lnTo>
                  <a:pt x="1228" y="0"/>
                </a:lnTo>
                <a:lnTo>
                  <a:pt x="1226" y="63"/>
                </a:lnTo>
                <a:lnTo>
                  <a:pt x="1220" y="126"/>
                </a:lnTo>
                <a:lnTo>
                  <a:pt x="1212" y="188"/>
                </a:lnTo>
                <a:lnTo>
                  <a:pt x="1203" y="247"/>
                </a:lnTo>
                <a:lnTo>
                  <a:pt x="1187" y="307"/>
                </a:lnTo>
                <a:lnTo>
                  <a:pt x="1172" y="364"/>
                </a:lnTo>
                <a:lnTo>
                  <a:pt x="1153" y="422"/>
                </a:lnTo>
                <a:lnTo>
                  <a:pt x="1130" y="477"/>
                </a:lnTo>
                <a:lnTo>
                  <a:pt x="1105" y="531"/>
                </a:lnTo>
                <a:lnTo>
                  <a:pt x="1078" y="585"/>
                </a:lnTo>
                <a:lnTo>
                  <a:pt x="1049" y="635"/>
                </a:lnTo>
                <a:lnTo>
                  <a:pt x="1017" y="685"/>
                </a:lnTo>
                <a:lnTo>
                  <a:pt x="982" y="732"/>
                </a:lnTo>
                <a:lnTo>
                  <a:pt x="946" y="780"/>
                </a:lnTo>
                <a:lnTo>
                  <a:pt x="907" y="825"/>
                </a:lnTo>
                <a:lnTo>
                  <a:pt x="867" y="867"/>
                </a:lnTo>
                <a:lnTo>
                  <a:pt x="825" y="907"/>
                </a:lnTo>
                <a:lnTo>
                  <a:pt x="781" y="945"/>
                </a:lnTo>
                <a:lnTo>
                  <a:pt x="733" y="982"/>
                </a:lnTo>
                <a:lnTo>
                  <a:pt x="685" y="1016"/>
                </a:lnTo>
                <a:lnTo>
                  <a:pt x="635" y="1049"/>
                </a:lnTo>
                <a:lnTo>
                  <a:pt x="585" y="1078"/>
                </a:lnTo>
                <a:lnTo>
                  <a:pt x="531" y="1105"/>
                </a:lnTo>
                <a:lnTo>
                  <a:pt x="477" y="1130"/>
                </a:lnTo>
                <a:lnTo>
                  <a:pt x="422" y="1153"/>
                </a:lnTo>
                <a:lnTo>
                  <a:pt x="364" y="1172"/>
                </a:lnTo>
                <a:lnTo>
                  <a:pt x="307" y="1187"/>
                </a:lnTo>
                <a:lnTo>
                  <a:pt x="247" y="1202"/>
                </a:lnTo>
                <a:lnTo>
                  <a:pt x="188" y="1212"/>
                </a:lnTo>
                <a:lnTo>
                  <a:pt x="126" y="1220"/>
                </a:lnTo>
                <a:lnTo>
                  <a:pt x="63" y="1226"/>
                </a:lnTo>
                <a:lnTo>
                  <a:pt x="0" y="1227"/>
                </a:lnTo>
                <a:lnTo>
                  <a:pt x="0" y="124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Freeform 111"/>
          <p:cNvSpPr/>
          <p:nvPr/>
        </p:nvSpPr>
        <p:spPr>
          <a:xfrm>
            <a:off x="3124080" y="3048120"/>
            <a:ext cx="1971720" cy="1973160"/>
          </a:xfrm>
          <a:custGeom>
            <a:avLst/>
            <a:gdLst>
              <a:gd name="textAreaLeft" fmla="*/ 0 w 1971720"/>
              <a:gd name="textAreaRight" fmla="*/ 1972080 w 1971720"/>
              <a:gd name="textAreaTop" fmla="*/ 0 h 1973160"/>
              <a:gd name="textAreaBottom" fmla="*/ 1973520 h 1973160"/>
            </a:gdLst>
            <a:ahLst/>
            <a:rect l="textAreaLeft" t="textAreaTop" r="textAreaRight" b="textAreaBottom"/>
            <a:pathLst>
              <a:path w="1242" h="1243">
                <a:moveTo>
                  <a:pt x="0" y="0"/>
                </a:moveTo>
                <a:lnTo>
                  <a:pt x="2" y="65"/>
                </a:lnTo>
                <a:lnTo>
                  <a:pt x="6" y="126"/>
                </a:lnTo>
                <a:lnTo>
                  <a:pt x="14" y="190"/>
                </a:lnTo>
                <a:lnTo>
                  <a:pt x="25" y="251"/>
                </a:lnTo>
                <a:lnTo>
                  <a:pt x="39" y="310"/>
                </a:lnTo>
                <a:lnTo>
                  <a:pt x="56" y="370"/>
                </a:lnTo>
                <a:lnTo>
                  <a:pt x="75" y="427"/>
                </a:lnTo>
                <a:lnTo>
                  <a:pt x="98" y="483"/>
                </a:lnTo>
                <a:lnTo>
                  <a:pt x="123" y="539"/>
                </a:lnTo>
                <a:lnTo>
                  <a:pt x="150" y="592"/>
                </a:lnTo>
                <a:lnTo>
                  <a:pt x="181" y="644"/>
                </a:lnTo>
                <a:lnTo>
                  <a:pt x="213" y="694"/>
                </a:lnTo>
                <a:lnTo>
                  <a:pt x="248" y="742"/>
                </a:lnTo>
                <a:lnTo>
                  <a:pt x="284" y="790"/>
                </a:lnTo>
                <a:lnTo>
                  <a:pt x="323" y="834"/>
                </a:lnTo>
                <a:lnTo>
                  <a:pt x="365" y="878"/>
                </a:lnTo>
                <a:lnTo>
                  <a:pt x="407" y="919"/>
                </a:lnTo>
                <a:lnTo>
                  <a:pt x="453" y="959"/>
                </a:lnTo>
                <a:lnTo>
                  <a:pt x="499" y="995"/>
                </a:lnTo>
                <a:lnTo>
                  <a:pt x="549" y="1030"/>
                </a:lnTo>
                <a:lnTo>
                  <a:pt x="599" y="1062"/>
                </a:lnTo>
                <a:lnTo>
                  <a:pt x="651" y="1093"/>
                </a:lnTo>
                <a:lnTo>
                  <a:pt x="704" y="1120"/>
                </a:lnTo>
                <a:lnTo>
                  <a:pt x="760" y="1145"/>
                </a:lnTo>
                <a:lnTo>
                  <a:pt x="816" y="1168"/>
                </a:lnTo>
                <a:lnTo>
                  <a:pt x="873" y="1187"/>
                </a:lnTo>
                <a:lnTo>
                  <a:pt x="933" y="1204"/>
                </a:lnTo>
                <a:lnTo>
                  <a:pt x="992" y="1218"/>
                </a:lnTo>
                <a:lnTo>
                  <a:pt x="1054" y="1229"/>
                </a:lnTo>
                <a:lnTo>
                  <a:pt x="1115" y="1237"/>
                </a:lnTo>
                <a:lnTo>
                  <a:pt x="1178" y="1241"/>
                </a:lnTo>
                <a:lnTo>
                  <a:pt x="1242" y="1243"/>
                </a:lnTo>
                <a:lnTo>
                  <a:pt x="1242" y="1227"/>
                </a:lnTo>
                <a:lnTo>
                  <a:pt x="1180" y="1226"/>
                </a:lnTo>
                <a:lnTo>
                  <a:pt x="1117" y="1220"/>
                </a:lnTo>
                <a:lnTo>
                  <a:pt x="1056" y="1212"/>
                </a:lnTo>
                <a:lnTo>
                  <a:pt x="996" y="1202"/>
                </a:lnTo>
                <a:lnTo>
                  <a:pt x="937" y="1187"/>
                </a:lnTo>
                <a:lnTo>
                  <a:pt x="879" y="1172"/>
                </a:lnTo>
                <a:lnTo>
                  <a:pt x="822" y="1153"/>
                </a:lnTo>
                <a:lnTo>
                  <a:pt x="766" y="1130"/>
                </a:lnTo>
                <a:lnTo>
                  <a:pt x="712" y="1105"/>
                </a:lnTo>
                <a:lnTo>
                  <a:pt x="658" y="1078"/>
                </a:lnTo>
                <a:lnTo>
                  <a:pt x="607" y="1049"/>
                </a:lnTo>
                <a:lnTo>
                  <a:pt x="557" y="1016"/>
                </a:lnTo>
                <a:lnTo>
                  <a:pt x="509" y="982"/>
                </a:lnTo>
                <a:lnTo>
                  <a:pt x="463" y="945"/>
                </a:lnTo>
                <a:lnTo>
                  <a:pt x="419" y="907"/>
                </a:lnTo>
                <a:lnTo>
                  <a:pt x="376" y="867"/>
                </a:lnTo>
                <a:lnTo>
                  <a:pt x="336" y="825"/>
                </a:lnTo>
                <a:lnTo>
                  <a:pt x="296" y="780"/>
                </a:lnTo>
                <a:lnTo>
                  <a:pt x="259" y="732"/>
                </a:lnTo>
                <a:lnTo>
                  <a:pt x="227" y="685"/>
                </a:lnTo>
                <a:lnTo>
                  <a:pt x="194" y="635"/>
                </a:lnTo>
                <a:lnTo>
                  <a:pt x="165" y="585"/>
                </a:lnTo>
                <a:lnTo>
                  <a:pt x="137" y="531"/>
                </a:lnTo>
                <a:lnTo>
                  <a:pt x="114" y="477"/>
                </a:lnTo>
                <a:lnTo>
                  <a:pt x="91" y="422"/>
                </a:lnTo>
                <a:lnTo>
                  <a:pt x="71" y="364"/>
                </a:lnTo>
                <a:lnTo>
                  <a:pt x="54" y="307"/>
                </a:lnTo>
                <a:lnTo>
                  <a:pt x="41" y="247"/>
                </a:lnTo>
                <a:lnTo>
                  <a:pt x="31" y="188"/>
                </a:lnTo>
                <a:lnTo>
                  <a:pt x="23" y="126"/>
                </a:lnTo>
                <a:lnTo>
                  <a:pt x="18" y="63"/>
                </a:lnTo>
                <a:lnTo>
                  <a:pt x="16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Freeform 112"/>
          <p:cNvSpPr/>
          <p:nvPr/>
        </p:nvSpPr>
        <p:spPr>
          <a:xfrm>
            <a:off x="3124080" y="1077840"/>
            <a:ext cx="1971720" cy="1970280"/>
          </a:xfrm>
          <a:custGeom>
            <a:avLst/>
            <a:gdLst>
              <a:gd name="textAreaLeft" fmla="*/ 0 w 1971720"/>
              <a:gd name="textAreaRight" fmla="*/ 1972080 w 1971720"/>
              <a:gd name="textAreaTop" fmla="*/ 0 h 1970280"/>
              <a:gd name="textAreaBottom" fmla="*/ 1970640 h 1970280"/>
            </a:gdLst>
            <a:ahLst/>
            <a:rect l="textAreaLeft" t="textAreaTop" r="textAreaRight" b="textAreaBottom"/>
            <a:pathLst>
              <a:path w="1242" h="1241">
                <a:moveTo>
                  <a:pt x="1242" y="0"/>
                </a:moveTo>
                <a:lnTo>
                  <a:pt x="1178" y="1"/>
                </a:lnTo>
                <a:lnTo>
                  <a:pt x="1115" y="5"/>
                </a:lnTo>
                <a:lnTo>
                  <a:pt x="1054" y="13"/>
                </a:lnTo>
                <a:lnTo>
                  <a:pt x="992" y="24"/>
                </a:lnTo>
                <a:lnTo>
                  <a:pt x="933" y="38"/>
                </a:lnTo>
                <a:lnTo>
                  <a:pt x="873" y="55"/>
                </a:lnTo>
                <a:lnTo>
                  <a:pt x="816" y="74"/>
                </a:lnTo>
                <a:lnTo>
                  <a:pt x="760" y="97"/>
                </a:lnTo>
                <a:lnTo>
                  <a:pt x="704" y="122"/>
                </a:lnTo>
                <a:lnTo>
                  <a:pt x="651" y="149"/>
                </a:lnTo>
                <a:lnTo>
                  <a:pt x="599" y="180"/>
                </a:lnTo>
                <a:lnTo>
                  <a:pt x="549" y="212"/>
                </a:lnTo>
                <a:lnTo>
                  <a:pt x="499" y="247"/>
                </a:lnTo>
                <a:lnTo>
                  <a:pt x="453" y="283"/>
                </a:lnTo>
                <a:lnTo>
                  <a:pt x="407" y="322"/>
                </a:lnTo>
                <a:lnTo>
                  <a:pt x="365" y="364"/>
                </a:lnTo>
                <a:lnTo>
                  <a:pt x="323" y="406"/>
                </a:lnTo>
                <a:lnTo>
                  <a:pt x="284" y="452"/>
                </a:lnTo>
                <a:lnTo>
                  <a:pt x="248" y="498"/>
                </a:lnTo>
                <a:lnTo>
                  <a:pt x="213" y="548"/>
                </a:lnTo>
                <a:lnTo>
                  <a:pt x="181" y="598"/>
                </a:lnTo>
                <a:lnTo>
                  <a:pt x="150" y="650"/>
                </a:lnTo>
                <a:lnTo>
                  <a:pt x="123" y="704"/>
                </a:lnTo>
                <a:lnTo>
                  <a:pt x="98" y="759"/>
                </a:lnTo>
                <a:lnTo>
                  <a:pt x="75" y="815"/>
                </a:lnTo>
                <a:lnTo>
                  <a:pt x="56" y="872"/>
                </a:lnTo>
                <a:lnTo>
                  <a:pt x="39" y="932"/>
                </a:lnTo>
                <a:lnTo>
                  <a:pt x="25" y="991"/>
                </a:lnTo>
                <a:lnTo>
                  <a:pt x="14" y="1053"/>
                </a:lnTo>
                <a:lnTo>
                  <a:pt x="6" y="1114"/>
                </a:lnTo>
                <a:lnTo>
                  <a:pt x="2" y="1177"/>
                </a:lnTo>
                <a:lnTo>
                  <a:pt x="0" y="1241"/>
                </a:lnTo>
                <a:lnTo>
                  <a:pt x="16" y="1241"/>
                </a:lnTo>
                <a:lnTo>
                  <a:pt x="18" y="1179"/>
                </a:lnTo>
                <a:lnTo>
                  <a:pt x="23" y="1116"/>
                </a:lnTo>
                <a:lnTo>
                  <a:pt x="31" y="1055"/>
                </a:lnTo>
                <a:lnTo>
                  <a:pt x="41" y="995"/>
                </a:lnTo>
                <a:lnTo>
                  <a:pt x="54" y="936"/>
                </a:lnTo>
                <a:lnTo>
                  <a:pt x="71" y="878"/>
                </a:lnTo>
                <a:lnTo>
                  <a:pt x="91" y="821"/>
                </a:lnTo>
                <a:lnTo>
                  <a:pt x="114" y="765"/>
                </a:lnTo>
                <a:lnTo>
                  <a:pt x="137" y="711"/>
                </a:lnTo>
                <a:lnTo>
                  <a:pt x="165" y="658"/>
                </a:lnTo>
                <a:lnTo>
                  <a:pt x="194" y="606"/>
                </a:lnTo>
                <a:lnTo>
                  <a:pt x="227" y="558"/>
                </a:lnTo>
                <a:lnTo>
                  <a:pt x="259" y="508"/>
                </a:lnTo>
                <a:lnTo>
                  <a:pt x="296" y="462"/>
                </a:lnTo>
                <a:lnTo>
                  <a:pt x="336" y="418"/>
                </a:lnTo>
                <a:lnTo>
                  <a:pt x="376" y="376"/>
                </a:lnTo>
                <a:lnTo>
                  <a:pt x="419" y="335"/>
                </a:lnTo>
                <a:lnTo>
                  <a:pt x="463" y="297"/>
                </a:lnTo>
                <a:lnTo>
                  <a:pt x="509" y="260"/>
                </a:lnTo>
                <a:lnTo>
                  <a:pt x="557" y="226"/>
                </a:lnTo>
                <a:lnTo>
                  <a:pt x="607" y="193"/>
                </a:lnTo>
                <a:lnTo>
                  <a:pt x="658" y="164"/>
                </a:lnTo>
                <a:lnTo>
                  <a:pt x="712" y="138"/>
                </a:lnTo>
                <a:lnTo>
                  <a:pt x="766" y="113"/>
                </a:lnTo>
                <a:lnTo>
                  <a:pt x="822" y="90"/>
                </a:lnTo>
                <a:lnTo>
                  <a:pt x="879" y="70"/>
                </a:lnTo>
                <a:lnTo>
                  <a:pt x="937" y="53"/>
                </a:lnTo>
                <a:lnTo>
                  <a:pt x="996" y="40"/>
                </a:lnTo>
                <a:lnTo>
                  <a:pt x="1056" y="30"/>
                </a:lnTo>
                <a:lnTo>
                  <a:pt x="1117" y="23"/>
                </a:lnTo>
                <a:lnTo>
                  <a:pt x="1180" y="17"/>
                </a:lnTo>
                <a:lnTo>
                  <a:pt x="1242" y="15"/>
                </a:lnTo>
                <a:lnTo>
                  <a:pt x="124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Freeform 113"/>
          <p:cNvSpPr/>
          <p:nvPr/>
        </p:nvSpPr>
        <p:spPr>
          <a:xfrm>
            <a:off x="4367160" y="1914480"/>
            <a:ext cx="795240" cy="252360"/>
          </a:xfrm>
          <a:custGeom>
            <a:avLst/>
            <a:gdLst>
              <a:gd name="textAreaLeft" fmla="*/ 0 w 795240"/>
              <a:gd name="textAreaRight" fmla="*/ 795600 w 79524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501" h="159">
                <a:moveTo>
                  <a:pt x="501" y="0"/>
                </a:moveTo>
                <a:lnTo>
                  <a:pt x="468" y="2"/>
                </a:lnTo>
                <a:lnTo>
                  <a:pt x="436" y="2"/>
                </a:lnTo>
                <a:lnTo>
                  <a:pt x="403" y="6"/>
                </a:lnTo>
                <a:lnTo>
                  <a:pt x="370" y="10"/>
                </a:lnTo>
                <a:lnTo>
                  <a:pt x="338" y="15"/>
                </a:lnTo>
                <a:lnTo>
                  <a:pt x="305" y="21"/>
                </a:lnTo>
                <a:lnTo>
                  <a:pt x="273" y="29"/>
                </a:lnTo>
                <a:lnTo>
                  <a:pt x="240" y="37"/>
                </a:lnTo>
                <a:lnTo>
                  <a:pt x="209" y="46"/>
                </a:lnTo>
                <a:lnTo>
                  <a:pt x="179" y="56"/>
                </a:lnTo>
                <a:lnTo>
                  <a:pt x="148" y="67"/>
                </a:lnTo>
                <a:lnTo>
                  <a:pt x="117" y="79"/>
                </a:lnTo>
                <a:lnTo>
                  <a:pt x="86" y="92"/>
                </a:lnTo>
                <a:lnTo>
                  <a:pt x="58" y="107"/>
                </a:lnTo>
                <a:lnTo>
                  <a:pt x="29" y="123"/>
                </a:lnTo>
                <a:lnTo>
                  <a:pt x="0" y="138"/>
                </a:lnTo>
                <a:lnTo>
                  <a:pt x="12" y="159"/>
                </a:lnTo>
                <a:lnTo>
                  <a:pt x="40" y="144"/>
                </a:lnTo>
                <a:lnTo>
                  <a:pt x="67" y="129"/>
                </a:lnTo>
                <a:lnTo>
                  <a:pt x="96" y="115"/>
                </a:lnTo>
                <a:lnTo>
                  <a:pt x="127" y="102"/>
                </a:lnTo>
                <a:lnTo>
                  <a:pt x="156" y="90"/>
                </a:lnTo>
                <a:lnTo>
                  <a:pt x="186" y="79"/>
                </a:lnTo>
                <a:lnTo>
                  <a:pt x="217" y="69"/>
                </a:lnTo>
                <a:lnTo>
                  <a:pt x="248" y="60"/>
                </a:lnTo>
                <a:lnTo>
                  <a:pt x="278" y="52"/>
                </a:lnTo>
                <a:lnTo>
                  <a:pt x="309" y="44"/>
                </a:lnTo>
                <a:lnTo>
                  <a:pt x="342" y="38"/>
                </a:lnTo>
                <a:lnTo>
                  <a:pt x="372" y="33"/>
                </a:lnTo>
                <a:lnTo>
                  <a:pt x="405" y="29"/>
                </a:lnTo>
                <a:lnTo>
                  <a:pt x="438" y="27"/>
                </a:lnTo>
                <a:lnTo>
                  <a:pt x="468" y="25"/>
                </a:lnTo>
                <a:lnTo>
                  <a:pt x="501" y="25"/>
                </a:lnTo>
                <a:lnTo>
                  <a:pt x="501" y="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Freeform 114"/>
          <p:cNvSpPr/>
          <p:nvPr/>
        </p:nvSpPr>
        <p:spPr>
          <a:xfrm>
            <a:off x="5162400" y="1914480"/>
            <a:ext cx="1555920" cy="1555920"/>
          </a:xfrm>
          <a:custGeom>
            <a:avLst/>
            <a:gdLst>
              <a:gd name="textAreaLeft" fmla="*/ 0 w 1555920"/>
              <a:gd name="textAreaRight" fmla="*/ 1556280 w 1555920"/>
              <a:gd name="textAreaTop" fmla="*/ 0 h 1555920"/>
              <a:gd name="textAreaBottom" fmla="*/ 1556280 h 1555920"/>
            </a:gdLst>
            <a:ahLst/>
            <a:rect l="textAreaLeft" t="textAreaTop" r="textAreaRight" b="textAreaBottom"/>
            <a:pathLst>
              <a:path w="980" h="980">
                <a:moveTo>
                  <a:pt x="980" y="980"/>
                </a:moveTo>
                <a:lnTo>
                  <a:pt x="978" y="930"/>
                </a:lnTo>
                <a:lnTo>
                  <a:pt x="975" y="881"/>
                </a:lnTo>
                <a:lnTo>
                  <a:pt x="969" y="831"/>
                </a:lnTo>
                <a:lnTo>
                  <a:pt x="959" y="783"/>
                </a:lnTo>
                <a:lnTo>
                  <a:pt x="950" y="735"/>
                </a:lnTo>
                <a:lnTo>
                  <a:pt x="936" y="689"/>
                </a:lnTo>
                <a:lnTo>
                  <a:pt x="921" y="643"/>
                </a:lnTo>
                <a:lnTo>
                  <a:pt x="902" y="599"/>
                </a:lnTo>
                <a:lnTo>
                  <a:pt x="883" y="556"/>
                </a:lnTo>
                <a:lnTo>
                  <a:pt x="861" y="514"/>
                </a:lnTo>
                <a:lnTo>
                  <a:pt x="838" y="472"/>
                </a:lnTo>
                <a:lnTo>
                  <a:pt x="812" y="434"/>
                </a:lnTo>
                <a:lnTo>
                  <a:pt x="785" y="395"/>
                </a:lnTo>
                <a:lnTo>
                  <a:pt x="756" y="357"/>
                </a:lnTo>
                <a:lnTo>
                  <a:pt x="725" y="322"/>
                </a:lnTo>
                <a:lnTo>
                  <a:pt x="693" y="288"/>
                </a:lnTo>
                <a:lnTo>
                  <a:pt x="658" y="255"/>
                </a:lnTo>
                <a:lnTo>
                  <a:pt x="623" y="225"/>
                </a:lnTo>
                <a:lnTo>
                  <a:pt x="585" y="196"/>
                </a:lnTo>
                <a:lnTo>
                  <a:pt x="547" y="169"/>
                </a:lnTo>
                <a:lnTo>
                  <a:pt x="508" y="142"/>
                </a:lnTo>
                <a:lnTo>
                  <a:pt x="466" y="119"/>
                </a:lnTo>
                <a:lnTo>
                  <a:pt x="424" y="98"/>
                </a:lnTo>
                <a:lnTo>
                  <a:pt x="382" y="77"/>
                </a:lnTo>
                <a:lnTo>
                  <a:pt x="336" y="60"/>
                </a:lnTo>
                <a:lnTo>
                  <a:pt x="292" y="44"/>
                </a:lnTo>
                <a:lnTo>
                  <a:pt x="246" y="31"/>
                </a:lnTo>
                <a:lnTo>
                  <a:pt x="198" y="21"/>
                </a:lnTo>
                <a:lnTo>
                  <a:pt x="150" y="12"/>
                </a:lnTo>
                <a:lnTo>
                  <a:pt x="100" y="6"/>
                </a:lnTo>
                <a:lnTo>
                  <a:pt x="50" y="2"/>
                </a:lnTo>
                <a:lnTo>
                  <a:pt x="0" y="0"/>
                </a:lnTo>
                <a:lnTo>
                  <a:pt x="0" y="25"/>
                </a:lnTo>
                <a:lnTo>
                  <a:pt x="50" y="25"/>
                </a:lnTo>
                <a:lnTo>
                  <a:pt x="98" y="29"/>
                </a:lnTo>
                <a:lnTo>
                  <a:pt x="146" y="37"/>
                </a:lnTo>
                <a:lnTo>
                  <a:pt x="192" y="44"/>
                </a:lnTo>
                <a:lnTo>
                  <a:pt x="238" y="56"/>
                </a:lnTo>
                <a:lnTo>
                  <a:pt x="284" y="67"/>
                </a:lnTo>
                <a:lnTo>
                  <a:pt x="328" y="83"/>
                </a:lnTo>
                <a:lnTo>
                  <a:pt x="372" y="100"/>
                </a:lnTo>
                <a:lnTo>
                  <a:pt x="414" y="119"/>
                </a:lnTo>
                <a:lnTo>
                  <a:pt x="455" y="140"/>
                </a:lnTo>
                <a:lnTo>
                  <a:pt x="495" y="163"/>
                </a:lnTo>
                <a:lnTo>
                  <a:pt x="533" y="188"/>
                </a:lnTo>
                <a:lnTo>
                  <a:pt x="572" y="215"/>
                </a:lnTo>
                <a:lnTo>
                  <a:pt x="608" y="244"/>
                </a:lnTo>
                <a:lnTo>
                  <a:pt x="643" y="272"/>
                </a:lnTo>
                <a:lnTo>
                  <a:pt x="675" y="305"/>
                </a:lnTo>
                <a:lnTo>
                  <a:pt x="708" y="338"/>
                </a:lnTo>
                <a:lnTo>
                  <a:pt x="737" y="372"/>
                </a:lnTo>
                <a:lnTo>
                  <a:pt x="765" y="409"/>
                </a:lnTo>
                <a:lnTo>
                  <a:pt x="792" y="447"/>
                </a:lnTo>
                <a:lnTo>
                  <a:pt x="817" y="485"/>
                </a:lnTo>
                <a:lnTo>
                  <a:pt x="840" y="526"/>
                </a:lnTo>
                <a:lnTo>
                  <a:pt x="861" y="566"/>
                </a:lnTo>
                <a:lnTo>
                  <a:pt x="881" y="608"/>
                </a:lnTo>
                <a:lnTo>
                  <a:pt x="898" y="652"/>
                </a:lnTo>
                <a:lnTo>
                  <a:pt x="913" y="696"/>
                </a:lnTo>
                <a:lnTo>
                  <a:pt x="925" y="742"/>
                </a:lnTo>
                <a:lnTo>
                  <a:pt x="936" y="789"/>
                </a:lnTo>
                <a:lnTo>
                  <a:pt x="944" y="835"/>
                </a:lnTo>
                <a:lnTo>
                  <a:pt x="952" y="883"/>
                </a:lnTo>
                <a:lnTo>
                  <a:pt x="953" y="930"/>
                </a:lnTo>
                <a:lnTo>
                  <a:pt x="955" y="980"/>
                </a:lnTo>
                <a:lnTo>
                  <a:pt x="980" y="98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Freeform 115"/>
          <p:cNvSpPr/>
          <p:nvPr/>
        </p:nvSpPr>
        <p:spPr>
          <a:xfrm>
            <a:off x="5162400" y="3470400"/>
            <a:ext cx="1555920" cy="1554120"/>
          </a:xfrm>
          <a:custGeom>
            <a:avLst/>
            <a:gdLst>
              <a:gd name="textAreaLeft" fmla="*/ 0 w 1555920"/>
              <a:gd name="textAreaRight" fmla="*/ 1556280 w 1555920"/>
              <a:gd name="textAreaTop" fmla="*/ 0 h 1554120"/>
              <a:gd name="textAreaBottom" fmla="*/ 1554480 h 1554120"/>
            </a:gdLst>
            <a:ahLst/>
            <a:rect l="textAreaLeft" t="textAreaTop" r="textAreaRight" b="textAreaBottom"/>
            <a:pathLst>
              <a:path w="980" h="979">
                <a:moveTo>
                  <a:pt x="0" y="979"/>
                </a:moveTo>
                <a:lnTo>
                  <a:pt x="50" y="979"/>
                </a:lnTo>
                <a:lnTo>
                  <a:pt x="100" y="975"/>
                </a:lnTo>
                <a:lnTo>
                  <a:pt x="150" y="967"/>
                </a:lnTo>
                <a:lnTo>
                  <a:pt x="198" y="960"/>
                </a:lnTo>
                <a:lnTo>
                  <a:pt x="246" y="948"/>
                </a:lnTo>
                <a:lnTo>
                  <a:pt x="292" y="935"/>
                </a:lnTo>
                <a:lnTo>
                  <a:pt x="336" y="919"/>
                </a:lnTo>
                <a:lnTo>
                  <a:pt x="382" y="902"/>
                </a:lnTo>
                <a:lnTo>
                  <a:pt x="424" y="883"/>
                </a:lnTo>
                <a:lnTo>
                  <a:pt x="466" y="860"/>
                </a:lnTo>
                <a:lnTo>
                  <a:pt x="508" y="837"/>
                </a:lnTo>
                <a:lnTo>
                  <a:pt x="547" y="812"/>
                </a:lnTo>
                <a:lnTo>
                  <a:pt x="585" y="785"/>
                </a:lnTo>
                <a:lnTo>
                  <a:pt x="623" y="754"/>
                </a:lnTo>
                <a:lnTo>
                  <a:pt x="658" y="724"/>
                </a:lnTo>
                <a:lnTo>
                  <a:pt x="693" y="691"/>
                </a:lnTo>
                <a:lnTo>
                  <a:pt x="725" y="658"/>
                </a:lnTo>
                <a:lnTo>
                  <a:pt x="756" y="622"/>
                </a:lnTo>
                <a:lnTo>
                  <a:pt x="785" y="585"/>
                </a:lnTo>
                <a:lnTo>
                  <a:pt x="812" y="547"/>
                </a:lnTo>
                <a:lnTo>
                  <a:pt x="838" y="507"/>
                </a:lnTo>
                <a:lnTo>
                  <a:pt x="861" y="466"/>
                </a:lnTo>
                <a:lnTo>
                  <a:pt x="883" y="424"/>
                </a:lnTo>
                <a:lnTo>
                  <a:pt x="902" y="380"/>
                </a:lnTo>
                <a:lnTo>
                  <a:pt x="921" y="336"/>
                </a:lnTo>
                <a:lnTo>
                  <a:pt x="936" y="290"/>
                </a:lnTo>
                <a:lnTo>
                  <a:pt x="950" y="244"/>
                </a:lnTo>
                <a:lnTo>
                  <a:pt x="959" y="196"/>
                </a:lnTo>
                <a:lnTo>
                  <a:pt x="969" y="148"/>
                </a:lnTo>
                <a:lnTo>
                  <a:pt x="975" y="100"/>
                </a:lnTo>
                <a:lnTo>
                  <a:pt x="978" y="50"/>
                </a:lnTo>
                <a:lnTo>
                  <a:pt x="980" y="0"/>
                </a:lnTo>
                <a:lnTo>
                  <a:pt x="955" y="0"/>
                </a:lnTo>
                <a:lnTo>
                  <a:pt x="953" y="48"/>
                </a:lnTo>
                <a:lnTo>
                  <a:pt x="952" y="98"/>
                </a:lnTo>
                <a:lnTo>
                  <a:pt x="944" y="144"/>
                </a:lnTo>
                <a:lnTo>
                  <a:pt x="936" y="192"/>
                </a:lnTo>
                <a:lnTo>
                  <a:pt x="925" y="238"/>
                </a:lnTo>
                <a:lnTo>
                  <a:pt x="913" y="282"/>
                </a:lnTo>
                <a:lnTo>
                  <a:pt x="898" y="328"/>
                </a:lnTo>
                <a:lnTo>
                  <a:pt x="881" y="371"/>
                </a:lnTo>
                <a:lnTo>
                  <a:pt x="861" y="413"/>
                </a:lnTo>
                <a:lnTo>
                  <a:pt x="840" y="455"/>
                </a:lnTo>
                <a:lnTo>
                  <a:pt x="817" y="495"/>
                </a:lnTo>
                <a:lnTo>
                  <a:pt x="792" y="534"/>
                </a:lnTo>
                <a:lnTo>
                  <a:pt x="765" y="570"/>
                </a:lnTo>
                <a:lnTo>
                  <a:pt x="737" y="607"/>
                </a:lnTo>
                <a:lnTo>
                  <a:pt x="708" y="641"/>
                </a:lnTo>
                <a:lnTo>
                  <a:pt x="675" y="674"/>
                </a:lnTo>
                <a:lnTo>
                  <a:pt x="643" y="706"/>
                </a:lnTo>
                <a:lnTo>
                  <a:pt x="608" y="737"/>
                </a:lnTo>
                <a:lnTo>
                  <a:pt x="572" y="764"/>
                </a:lnTo>
                <a:lnTo>
                  <a:pt x="533" y="791"/>
                </a:lnTo>
                <a:lnTo>
                  <a:pt x="495" y="816"/>
                </a:lnTo>
                <a:lnTo>
                  <a:pt x="455" y="839"/>
                </a:lnTo>
                <a:lnTo>
                  <a:pt x="414" y="860"/>
                </a:lnTo>
                <a:lnTo>
                  <a:pt x="372" y="879"/>
                </a:lnTo>
                <a:lnTo>
                  <a:pt x="328" y="896"/>
                </a:lnTo>
                <a:lnTo>
                  <a:pt x="284" y="912"/>
                </a:lnTo>
                <a:lnTo>
                  <a:pt x="238" y="925"/>
                </a:lnTo>
                <a:lnTo>
                  <a:pt x="192" y="935"/>
                </a:lnTo>
                <a:lnTo>
                  <a:pt x="146" y="944"/>
                </a:lnTo>
                <a:lnTo>
                  <a:pt x="98" y="950"/>
                </a:lnTo>
                <a:lnTo>
                  <a:pt x="50" y="954"/>
                </a:lnTo>
                <a:lnTo>
                  <a:pt x="0" y="956"/>
                </a:lnTo>
                <a:lnTo>
                  <a:pt x="0" y="979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Freeform 116"/>
          <p:cNvSpPr/>
          <p:nvPr/>
        </p:nvSpPr>
        <p:spPr>
          <a:xfrm>
            <a:off x="3608280" y="3470400"/>
            <a:ext cx="1554120" cy="1554120"/>
          </a:xfrm>
          <a:custGeom>
            <a:avLst/>
            <a:gdLst>
              <a:gd name="textAreaLeft" fmla="*/ 0 w 1554120"/>
              <a:gd name="textAreaRight" fmla="*/ 1554480 w 1554120"/>
              <a:gd name="textAreaTop" fmla="*/ 0 h 1554120"/>
              <a:gd name="textAreaBottom" fmla="*/ 1554480 h 1554120"/>
            </a:gdLst>
            <a:ahLst/>
            <a:rect l="textAreaLeft" t="textAreaTop" r="textAreaRight" b="textAreaBottom"/>
            <a:pathLst>
              <a:path w="979" h="979">
                <a:moveTo>
                  <a:pt x="0" y="0"/>
                </a:moveTo>
                <a:lnTo>
                  <a:pt x="0" y="50"/>
                </a:lnTo>
                <a:lnTo>
                  <a:pt x="4" y="100"/>
                </a:lnTo>
                <a:lnTo>
                  <a:pt x="12" y="148"/>
                </a:lnTo>
                <a:lnTo>
                  <a:pt x="20" y="196"/>
                </a:lnTo>
                <a:lnTo>
                  <a:pt x="31" y="244"/>
                </a:lnTo>
                <a:lnTo>
                  <a:pt x="45" y="290"/>
                </a:lnTo>
                <a:lnTo>
                  <a:pt x="60" y="336"/>
                </a:lnTo>
                <a:lnTo>
                  <a:pt x="77" y="380"/>
                </a:lnTo>
                <a:lnTo>
                  <a:pt x="96" y="424"/>
                </a:lnTo>
                <a:lnTo>
                  <a:pt x="117" y="466"/>
                </a:lnTo>
                <a:lnTo>
                  <a:pt x="142" y="507"/>
                </a:lnTo>
                <a:lnTo>
                  <a:pt x="167" y="547"/>
                </a:lnTo>
                <a:lnTo>
                  <a:pt x="194" y="585"/>
                </a:lnTo>
                <a:lnTo>
                  <a:pt x="223" y="622"/>
                </a:lnTo>
                <a:lnTo>
                  <a:pt x="256" y="658"/>
                </a:lnTo>
                <a:lnTo>
                  <a:pt x="286" y="691"/>
                </a:lnTo>
                <a:lnTo>
                  <a:pt x="321" y="724"/>
                </a:lnTo>
                <a:lnTo>
                  <a:pt x="357" y="754"/>
                </a:lnTo>
                <a:lnTo>
                  <a:pt x="394" y="785"/>
                </a:lnTo>
                <a:lnTo>
                  <a:pt x="432" y="812"/>
                </a:lnTo>
                <a:lnTo>
                  <a:pt x="472" y="837"/>
                </a:lnTo>
                <a:lnTo>
                  <a:pt x="513" y="860"/>
                </a:lnTo>
                <a:lnTo>
                  <a:pt x="555" y="883"/>
                </a:lnTo>
                <a:lnTo>
                  <a:pt x="599" y="902"/>
                </a:lnTo>
                <a:lnTo>
                  <a:pt x="643" y="919"/>
                </a:lnTo>
                <a:lnTo>
                  <a:pt x="689" y="935"/>
                </a:lnTo>
                <a:lnTo>
                  <a:pt x="735" y="948"/>
                </a:lnTo>
                <a:lnTo>
                  <a:pt x="783" y="960"/>
                </a:lnTo>
                <a:lnTo>
                  <a:pt x="831" y="967"/>
                </a:lnTo>
                <a:lnTo>
                  <a:pt x="879" y="975"/>
                </a:lnTo>
                <a:lnTo>
                  <a:pt x="929" y="979"/>
                </a:lnTo>
                <a:lnTo>
                  <a:pt x="979" y="979"/>
                </a:lnTo>
                <a:lnTo>
                  <a:pt x="979" y="956"/>
                </a:lnTo>
                <a:lnTo>
                  <a:pt x="931" y="954"/>
                </a:lnTo>
                <a:lnTo>
                  <a:pt x="881" y="950"/>
                </a:lnTo>
                <a:lnTo>
                  <a:pt x="835" y="944"/>
                </a:lnTo>
                <a:lnTo>
                  <a:pt x="787" y="935"/>
                </a:lnTo>
                <a:lnTo>
                  <a:pt x="741" y="925"/>
                </a:lnTo>
                <a:lnTo>
                  <a:pt x="695" y="912"/>
                </a:lnTo>
                <a:lnTo>
                  <a:pt x="651" y="896"/>
                </a:lnTo>
                <a:lnTo>
                  <a:pt x="609" y="879"/>
                </a:lnTo>
                <a:lnTo>
                  <a:pt x="566" y="860"/>
                </a:lnTo>
                <a:lnTo>
                  <a:pt x="524" y="839"/>
                </a:lnTo>
                <a:lnTo>
                  <a:pt x="484" y="816"/>
                </a:lnTo>
                <a:lnTo>
                  <a:pt x="446" y="791"/>
                </a:lnTo>
                <a:lnTo>
                  <a:pt x="409" y="764"/>
                </a:lnTo>
                <a:lnTo>
                  <a:pt x="373" y="737"/>
                </a:lnTo>
                <a:lnTo>
                  <a:pt x="338" y="706"/>
                </a:lnTo>
                <a:lnTo>
                  <a:pt x="304" y="674"/>
                </a:lnTo>
                <a:lnTo>
                  <a:pt x="273" y="641"/>
                </a:lnTo>
                <a:lnTo>
                  <a:pt x="242" y="607"/>
                </a:lnTo>
                <a:lnTo>
                  <a:pt x="213" y="570"/>
                </a:lnTo>
                <a:lnTo>
                  <a:pt x="187" y="534"/>
                </a:lnTo>
                <a:lnTo>
                  <a:pt x="163" y="495"/>
                </a:lnTo>
                <a:lnTo>
                  <a:pt x="139" y="455"/>
                </a:lnTo>
                <a:lnTo>
                  <a:pt x="117" y="413"/>
                </a:lnTo>
                <a:lnTo>
                  <a:pt x="98" y="371"/>
                </a:lnTo>
                <a:lnTo>
                  <a:pt x="83" y="328"/>
                </a:lnTo>
                <a:lnTo>
                  <a:pt x="68" y="282"/>
                </a:lnTo>
                <a:lnTo>
                  <a:pt x="54" y="238"/>
                </a:lnTo>
                <a:lnTo>
                  <a:pt x="43" y="192"/>
                </a:lnTo>
                <a:lnTo>
                  <a:pt x="35" y="144"/>
                </a:lnTo>
                <a:lnTo>
                  <a:pt x="29" y="98"/>
                </a:lnTo>
                <a:lnTo>
                  <a:pt x="25" y="48"/>
                </a:lnTo>
                <a:lnTo>
                  <a:pt x="23" y="0"/>
                </a:lnTo>
                <a:lnTo>
                  <a:pt x="0" y="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Freeform 117"/>
          <p:cNvSpPr/>
          <p:nvPr/>
        </p:nvSpPr>
        <p:spPr>
          <a:xfrm>
            <a:off x="3608280" y="2133720"/>
            <a:ext cx="777960" cy="1336680"/>
          </a:xfrm>
          <a:custGeom>
            <a:avLst/>
            <a:gdLst>
              <a:gd name="textAreaLeft" fmla="*/ 0 w 777960"/>
              <a:gd name="textAreaRight" fmla="*/ 778320 w 777960"/>
              <a:gd name="textAreaTop" fmla="*/ 0 h 1336680"/>
              <a:gd name="textAreaBottom" fmla="*/ 1337040 h 1336680"/>
            </a:gdLst>
            <a:ahLst/>
            <a:rect l="textAreaLeft" t="textAreaTop" r="textAreaRight" b="textAreaBottom"/>
            <a:pathLst>
              <a:path w="490" h="842">
                <a:moveTo>
                  <a:pt x="478" y="0"/>
                </a:moveTo>
                <a:lnTo>
                  <a:pt x="451" y="17"/>
                </a:lnTo>
                <a:lnTo>
                  <a:pt x="424" y="35"/>
                </a:lnTo>
                <a:lnTo>
                  <a:pt x="398" y="54"/>
                </a:lnTo>
                <a:lnTo>
                  <a:pt x="373" y="73"/>
                </a:lnTo>
                <a:lnTo>
                  <a:pt x="348" y="92"/>
                </a:lnTo>
                <a:lnTo>
                  <a:pt x="325" y="113"/>
                </a:lnTo>
                <a:lnTo>
                  <a:pt x="302" y="134"/>
                </a:lnTo>
                <a:lnTo>
                  <a:pt x="279" y="157"/>
                </a:lnTo>
                <a:lnTo>
                  <a:pt x="258" y="181"/>
                </a:lnTo>
                <a:lnTo>
                  <a:pt x="236" y="204"/>
                </a:lnTo>
                <a:lnTo>
                  <a:pt x="217" y="228"/>
                </a:lnTo>
                <a:lnTo>
                  <a:pt x="198" y="253"/>
                </a:lnTo>
                <a:lnTo>
                  <a:pt x="179" y="278"/>
                </a:lnTo>
                <a:lnTo>
                  <a:pt x="162" y="305"/>
                </a:lnTo>
                <a:lnTo>
                  <a:pt x="144" y="330"/>
                </a:lnTo>
                <a:lnTo>
                  <a:pt x="129" y="357"/>
                </a:lnTo>
                <a:lnTo>
                  <a:pt x="114" y="386"/>
                </a:lnTo>
                <a:lnTo>
                  <a:pt x="98" y="413"/>
                </a:lnTo>
                <a:lnTo>
                  <a:pt x="87" y="441"/>
                </a:lnTo>
                <a:lnTo>
                  <a:pt x="73" y="470"/>
                </a:lnTo>
                <a:lnTo>
                  <a:pt x="62" y="499"/>
                </a:lnTo>
                <a:lnTo>
                  <a:pt x="52" y="530"/>
                </a:lnTo>
                <a:lnTo>
                  <a:pt x="43" y="560"/>
                </a:lnTo>
                <a:lnTo>
                  <a:pt x="33" y="589"/>
                </a:lnTo>
                <a:lnTo>
                  <a:pt x="25" y="620"/>
                </a:lnTo>
                <a:lnTo>
                  <a:pt x="20" y="651"/>
                </a:lnTo>
                <a:lnTo>
                  <a:pt x="14" y="683"/>
                </a:lnTo>
                <a:lnTo>
                  <a:pt x="8" y="714"/>
                </a:lnTo>
                <a:lnTo>
                  <a:pt x="4" y="746"/>
                </a:lnTo>
                <a:lnTo>
                  <a:pt x="2" y="777"/>
                </a:lnTo>
                <a:lnTo>
                  <a:pt x="0" y="810"/>
                </a:lnTo>
                <a:lnTo>
                  <a:pt x="0" y="842"/>
                </a:lnTo>
                <a:lnTo>
                  <a:pt x="23" y="842"/>
                </a:lnTo>
                <a:lnTo>
                  <a:pt x="25" y="810"/>
                </a:lnTo>
                <a:lnTo>
                  <a:pt x="25" y="779"/>
                </a:lnTo>
                <a:lnTo>
                  <a:pt x="29" y="748"/>
                </a:lnTo>
                <a:lnTo>
                  <a:pt x="33" y="718"/>
                </a:lnTo>
                <a:lnTo>
                  <a:pt x="37" y="687"/>
                </a:lnTo>
                <a:lnTo>
                  <a:pt x="43" y="656"/>
                </a:lnTo>
                <a:lnTo>
                  <a:pt x="48" y="626"/>
                </a:lnTo>
                <a:lnTo>
                  <a:pt x="56" y="597"/>
                </a:lnTo>
                <a:lnTo>
                  <a:pt x="66" y="566"/>
                </a:lnTo>
                <a:lnTo>
                  <a:pt x="73" y="537"/>
                </a:lnTo>
                <a:lnTo>
                  <a:pt x="85" y="509"/>
                </a:lnTo>
                <a:lnTo>
                  <a:pt x="96" y="480"/>
                </a:lnTo>
                <a:lnTo>
                  <a:pt x="108" y="451"/>
                </a:lnTo>
                <a:lnTo>
                  <a:pt x="121" y="424"/>
                </a:lnTo>
                <a:lnTo>
                  <a:pt x="135" y="397"/>
                </a:lnTo>
                <a:lnTo>
                  <a:pt x="150" y="370"/>
                </a:lnTo>
                <a:lnTo>
                  <a:pt x="165" y="344"/>
                </a:lnTo>
                <a:lnTo>
                  <a:pt x="181" y="317"/>
                </a:lnTo>
                <a:lnTo>
                  <a:pt x="198" y="292"/>
                </a:lnTo>
                <a:lnTo>
                  <a:pt x="217" y="267"/>
                </a:lnTo>
                <a:lnTo>
                  <a:pt x="234" y="244"/>
                </a:lnTo>
                <a:lnTo>
                  <a:pt x="256" y="219"/>
                </a:lnTo>
                <a:lnTo>
                  <a:pt x="275" y="196"/>
                </a:lnTo>
                <a:lnTo>
                  <a:pt x="296" y="175"/>
                </a:lnTo>
                <a:lnTo>
                  <a:pt x="319" y="152"/>
                </a:lnTo>
                <a:lnTo>
                  <a:pt x="340" y="133"/>
                </a:lnTo>
                <a:lnTo>
                  <a:pt x="363" y="111"/>
                </a:lnTo>
                <a:lnTo>
                  <a:pt x="388" y="92"/>
                </a:lnTo>
                <a:lnTo>
                  <a:pt x="413" y="73"/>
                </a:lnTo>
                <a:lnTo>
                  <a:pt x="438" y="54"/>
                </a:lnTo>
                <a:lnTo>
                  <a:pt x="465" y="37"/>
                </a:lnTo>
                <a:lnTo>
                  <a:pt x="490" y="21"/>
                </a:lnTo>
                <a:lnTo>
                  <a:pt x="478" y="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Freeform 118"/>
          <p:cNvSpPr/>
          <p:nvPr/>
        </p:nvSpPr>
        <p:spPr>
          <a:xfrm>
            <a:off x="2104920" y="1486080"/>
            <a:ext cx="5813640" cy="799920"/>
          </a:xfrm>
          <a:custGeom>
            <a:avLst/>
            <a:gdLst>
              <a:gd name="textAreaLeft" fmla="*/ 0 w 5813640"/>
              <a:gd name="textAreaRight" fmla="*/ 5814000 w 5813640"/>
              <a:gd name="textAreaTop" fmla="*/ 0 h 799920"/>
              <a:gd name="textAreaBottom" fmla="*/ 800280 h 799920"/>
            </a:gdLst>
            <a:ahLst/>
            <a:rect l="textAreaLeft" t="textAreaTop" r="textAreaRight" b="textAreaBottom"/>
            <a:pathLst>
              <a:path w="3662" h="504">
                <a:moveTo>
                  <a:pt x="3662" y="324"/>
                </a:moveTo>
                <a:lnTo>
                  <a:pt x="3543" y="280"/>
                </a:lnTo>
                <a:lnTo>
                  <a:pt x="3424" y="239"/>
                </a:lnTo>
                <a:lnTo>
                  <a:pt x="3305" y="201"/>
                </a:lnTo>
                <a:lnTo>
                  <a:pt x="3188" y="166"/>
                </a:lnTo>
                <a:lnTo>
                  <a:pt x="3069" y="134"/>
                </a:lnTo>
                <a:lnTo>
                  <a:pt x="2952" y="107"/>
                </a:lnTo>
                <a:lnTo>
                  <a:pt x="2835" y="82"/>
                </a:lnTo>
                <a:lnTo>
                  <a:pt x="2720" y="61"/>
                </a:lnTo>
                <a:lnTo>
                  <a:pt x="2603" y="42"/>
                </a:lnTo>
                <a:lnTo>
                  <a:pt x="2488" y="26"/>
                </a:lnTo>
                <a:lnTo>
                  <a:pt x="2371" y="15"/>
                </a:lnTo>
                <a:lnTo>
                  <a:pt x="2256" y="7"/>
                </a:lnTo>
                <a:lnTo>
                  <a:pt x="2141" y="1"/>
                </a:lnTo>
                <a:lnTo>
                  <a:pt x="2028" y="0"/>
                </a:lnTo>
                <a:lnTo>
                  <a:pt x="1912" y="0"/>
                </a:lnTo>
                <a:lnTo>
                  <a:pt x="1797" y="3"/>
                </a:lnTo>
                <a:lnTo>
                  <a:pt x="1684" y="11"/>
                </a:lnTo>
                <a:lnTo>
                  <a:pt x="1571" y="21"/>
                </a:lnTo>
                <a:lnTo>
                  <a:pt x="1458" y="34"/>
                </a:lnTo>
                <a:lnTo>
                  <a:pt x="1345" y="49"/>
                </a:lnTo>
                <a:lnTo>
                  <a:pt x="1231" y="69"/>
                </a:lnTo>
                <a:lnTo>
                  <a:pt x="1118" y="92"/>
                </a:lnTo>
                <a:lnTo>
                  <a:pt x="1005" y="117"/>
                </a:lnTo>
                <a:lnTo>
                  <a:pt x="894" y="145"/>
                </a:lnTo>
                <a:lnTo>
                  <a:pt x="780" y="176"/>
                </a:lnTo>
                <a:lnTo>
                  <a:pt x="669" y="211"/>
                </a:lnTo>
                <a:lnTo>
                  <a:pt x="556" y="247"/>
                </a:lnTo>
                <a:lnTo>
                  <a:pt x="445" y="287"/>
                </a:lnTo>
                <a:lnTo>
                  <a:pt x="333" y="330"/>
                </a:lnTo>
                <a:lnTo>
                  <a:pt x="222" y="376"/>
                </a:lnTo>
                <a:lnTo>
                  <a:pt x="111" y="424"/>
                </a:lnTo>
                <a:lnTo>
                  <a:pt x="0" y="475"/>
                </a:lnTo>
                <a:lnTo>
                  <a:pt x="13" y="504"/>
                </a:lnTo>
                <a:lnTo>
                  <a:pt x="122" y="452"/>
                </a:lnTo>
                <a:lnTo>
                  <a:pt x="234" y="404"/>
                </a:lnTo>
                <a:lnTo>
                  <a:pt x="345" y="360"/>
                </a:lnTo>
                <a:lnTo>
                  <a:pt x="456" y="318"/>
                </a:lnTo>
                <a:lnTo>
                  <a:pt x="568" y="278"/>
                </a:lnTo>
                <a:lnTo>
                  <a:pt x="679" y="241"/>
                </a:lnTo>
                <a:lnTo>
                  <a:pt x="790" y="207"/>
                </a:lnTo>
                <a:lnTo>
                  <a:pt x="901" y="176"/>
                </a:lnTo>
                <a:lnTo>
                  <a:pt x="1013" y="147"/>
                </a:lnTo>
                <a:lnTo>
                  <a:pt x="1124" y="122"/>
                </a:lnTo>
                <a:lnTo>
                  <a:pt x="1237" y="101"/>
                </a:lnTo>
                <a:lnTo>
                  <a:pt x="1348" y="82"/>
                </a:lnTo>
                <a:lnTo>
                  <a:pt x="1462" y="67"/>
                </a:lnTo>
                <a:lnTo>
                  <a:pt x="1573" y="53"/>
                </a:lnTo>
                <a:lnTo>
                  <a:pt x="1686" y="44"/>
                </a:lnTo>
                <a:lnTo>
                  <a:pt x="1799" y="36"/>
                </a:lnTo>
                <a:lnTo>
                  <a:pt x="1912" y="32"/>
                </a:lnTo>
                <a:lnTo>
                  <a:pt x="2026" y="30"/>
                </a:lnTo>
                <a:lnTo>
                  <a:pt x="2141" y="34"/>
                </a:lnTo>
                <a:lnTo>
                  <a:pt x="2254" y="38"/>
                </a:lnTo>
                <a:lnTo>
                  <a:pt x="2369" y="48"/>
                </a:lnTo>
                <a:lnTo>
                  <a:pt x="2484" y="59"/>
                </a:lnTo>
                <a:lnTo>
                  <a:pt x="2599" y="74"/>
                </a:lnTo>
                <a:lnTo>
                  <a:pt x="2714" y="92"/>
                </a:lnTo>
                <a:lnTo>
                  <a:pt x="2830" y="113"/>
                </a:lnTo>
                <a:lnTo>
                  <a:pt x="2945" y="138"/>
                </a:lnTo>
                <a:lnTo>
                  <a:pt x="3062" y="166"/>
                </a:lnTo>
                <a:lnTo>
                  <a:pt x="3179" y="197"/>
                </a:lnTo>
                <a:lnTo>
                  <a:pt x="3296" y="232"/>
                </a:lnTo>
                <a:lnTo>
                  <a:pt x="3413" y="268"/>
                </a:lnTo>
                <a:lnTo>
                  <a:pt x="3532" y="310"/>
                </a:lnTo>
                <a:lnTo>
                  <a:pt x="3651" y="354"/>
                </a:lnTo>
                <a:lnTo>
                  <a:pt x="3662" y="324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Freeform 119"/>
          <p:cNvSpPr/>
          <p:nvPr/>
        </p:nvSpPr>
        <p:spPr>
          <a:xfrm>
            <a:off x="7089840" y="1198440"/>
            <a:ext cx="287280" cy="228600"/>
          </a:xfrm>
          <a:custGeom>
            <a:avLst/>
            <a:gdLst>
              <a:gd name="textAreaLeft" fmla="*/ 0 w 287280"/>
              <a:gd name="textAreaRight" fmla="*/ 287640 w 2872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81" h="144">
                <a:moveTo>
                  <a:pt x="89" y="144"/>
                </a:moveTo>
                <a:lnTo>
                  <a:pt x="94" y="138"/>
                </a:lnTo>
                <a:lnTo>
                  <a:pt x="98" y="131"/>
                </a:lnTo>
                <a:lnTo>
                  <a:pt x="100" y="121"/>
                </a:lnTo>
                <a:lnTo>
                  <a:pt x="98" y="112"/>
                </a:lnTo>
                <a:lnTo>
                  <a:pt x="91" y="102"/>
                </a:lnTo>
                <a:lnTo>
                  <a:pt x="79" y="92"/>
                </a:lnTo>
                <a:lnTo>
                  <a:pt x="52" y="79"/>
                </a:lnTo>
                <a:lnTo>
                  <a:pt x="29" y="65"/>
                </a:lnTo>
                <a:lnTo>
                  <a:pt x="27" y="62"/>
                </a:lnTo>
                <a:lnTo>
                  <a:pt x="25" y="60"/>
                </a:lnTo>
                <a:lnTo>
                  <a:pt x="23" y="60"/>
                </a:lnTo>
                <a:lnTo>
                  <a:pt x="23" y="62"/>
                </a:lnTo>
                <a:lnTo>
                  <a:pt x="27" y="60"/>
                </a:lnTo>
                <a:lnTo>
                  <a:pt x="31" y="58"/>
                </a:lnTo>
                <a:lnTo>
                  <a:pt x="50" y="50"/>
                </a:lnTo>
                <a:lnTo>
                  <a:pt x="81" y="42"/>
                </a:lnTo>
                <a:lnTo>
                  <a:pt x="123" y="33"/>
                </a:lnTo>
                <a:lnTo>
                  <a:pt x="181" y="23"/>
                </a:lnTo>
                <a:lnTo>
                  <a:pt x="177" y="0"/>
                </a:lnTo>
                <a:lnTo>
                  <a:pt x="119" y="10"/>
                </a:lnTo>
                <a:lnTo>
                  <a:pt x="75" y="18"/>
                </a:lnTo>
                <a:lnTo>
                  <a:pt x="43" y="27"/>
                </a:lnTo>
                <a:lnTo>
                  <a:pt x="22" y="35"/>
                </a:lnTo>
                <a:lnTo>
                  <a:pt x="14" y="41"/>
                </a:lnTo>
                <a:lnTo>
                  <a:pt x="6" y="44"/>
                </a:lnTo>
                <a:lnTo>
                  <a:pt x="2" y="52"/>
                </a:lnTo>
                <a:lnTo>
                  <a:pt x="0" y="62"/>
                </a:lnTo>
                <a:lnTo>
                  <a:pt x="2" y="69"/>
                </a:lnTo>
                <a:lnTo>
                  <a:pt x="6" y="75"/>
                </a:lnTo>
                <a:lnTo>
                  <a:pt x="10" y="81"/>
                </a:lnTo>
                <a:lnTo>
                  <a:pt x="16" y="85"/>
                </a:lnTo>
                <a:lnTo>
                  <a:pt x="41" y="100"/>
                </a:lnTo>
                <a:lnTo>
                  <a:pt x="66" y="113"/>
                </a:lnTo>
                <a:lnTo>
                  <a:pt x="73" y="119"/>
                </a:lnTo>
                <a:lnTo>
                  <a:pt x="77" y="123"/>
                </a:lnTo>
                <a:lnTo>
                  <a:pt x="75" y="121"/>
                </a:lnTo>
                <a:lnTo>
                  <a:pt x="77" y="121"/>
                </a:lnTo>
                <a:lnTo>
                  <a:pt x="75" y="123"/>
                </a:lnTo>
                <a:lnTo>
                  <a:pt x="73" y="125"/>
                </a:lnTo>
                <a:lnTo>
                  <a:pt x="89" y="144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Freeform 120"/>
          <p:cNvSpPr/>
          <p:nvPr/>
        </p:nvSpPr>
        <p:spPr>
          <a:xfrm>
            <a:off x="6900840" y="1397160"/>
            <a:ext cx="330120" cy="136440"/>
          </a:xfrm>
          <a:custGeom>
            <a:avLst/>
            <a:gdLst>
              <a:gd name="textAreaLeft" fmla="*/ 0 w 330120"/>
              <a:gd name="textAreaRight" fmla="*/ 330480 w 330120"/>
              <a:gd name="textAreaTop" fmla="*/ 0 h 136440"/>
              <a:gd name="textAreaBottom" fmla="*/ 136800 h 136440"/>
            </a:gdLst>
            <a:ahLst/>
            <a:rect l="textAreaLeft" t="textAreaTop" r="textAreaRight" b="textAreaBottom"/>
            <a:pathLst>
              <a:path w="208" h="86">
                <a:moveTo>
                  <a:pt x="23" y="86"/>
                </a:moveTo>
                <a:lnTo>
                  <a:pt x="29" y="69"/>
                </a:lnTo>
                <a:lnTo>
                  <a:pt x="37" y="57"/>
                </a:lnTo>
                <a:lnTo>
                  <a:pt x="45" y="48"/>
                </a:lnTo>
                <a:lnTo>
                  <a:pt x="52" y="42"/>
                </a:lnTo>
                <a:lnTo>
                  <a:pt x="62" y="38"/>
                </a:lnTo>
                <a:lnTo>
                  <a:pt x="73" y="34"/>
                </a:lnTo>
                <a:lnTo>
                  <a:pt x="85" y="34"/>
                </a:lnTo>
                <a:lnTo>
                  <a:pt x="96" y="34"/>
                </a:lnTo>
                <a:lnTo>
                  <a:pt x="123" y="34"/>
                </a:lnTo>
                <a:lnTo>
                  <a:pt x="152" y="36"/>
                </a:lnTo>
                <a:lnTo>
                  <a:pt x="165" y="34"/>
                </a:lnTo>
                <a:lnTo>
                  <a:pt x="181" y="33"/>
                </a:lnTo>
                <a:lnTo>
                  <a:pt x="194" y="27"/>
                </a:lnTo>
                <a:lnTo>
                  <a:pt x="208" y="19"/>
                </a:lnTo>
                <a:lnTo>
                  <a:pt x="192" y="0"/>
                </a:lnTo>
                <a:lnTo>
                  <a:pt x="183" y="6"/>
                </a:lnTo>
                <a:lnTo>
                  <a:pt x="173" y="8"/>
                </a:lnTo>
                <a:lnTo>
                  <a:pt x="164" y="11"/>
                </a:lnTo>
                <a:lnTo>
                  <a:pt x="152" y="11"/>
                </a:lnTo>
                <a:lnTo>
                  <a:pt x="125" y="11"/>
                </a:lnTo>
                <a:lnTo>
                  <a:pt x="96" y="10"/>
                </a:lnTo>
                <a:lnTo>
                  <a:pt x="83" y="10"/>
                </a:lnTo>
                <a:lnTo>
                  <a:pt x="68" y="11"/>
                </a:lnTo>
                <a:lnTo>
                  <a:pt x="54" y="15"/>
                </a:lnTo>
                <a:lnTo>
                  <a:pt x="41" y="21"/>
                </a:lnTo>
                <a:lnTo>
                  <a:pt x="27" y="31"/>
                </a:lnTo>
                <a:lnTo>
                  <a:pt x="18" y="44"/>
                </a:lnTo>
                <a:lnTo>
                  <a:pt x="8" y="59"/>
                </a:lnTo>
                <a:lnTo>
                  <a:pt x="0" y="81"/>
                </a:lnTo>
                <a:lnTo>
                  <a:pt x="23" y="8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Freeform 121"/>
          <p:cNvSpPr/>
          <p:nvPr/>
        </p:nvSpPr>
        <p:spPr>
          <a:xfrm>
            <a:off x="6827760" y="1486080"/>
            <a:ext cx="192240" cy="203040"/>
          </a:xfrm>
          <a:custGeom>
            <a:avLst/>
            <a:gdLst>
              <a:gd name="textAreaLeft" fmla="*/ 0 w 192240"/>
              <a:gd name="textAreaRight" fmla="*/ 192600 w 19224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121" h="128">
                <a:moveTo>
                  <a:pt x="31" y="128"/>
                </a:moveTo>
                <a:lnTo>
                  <a:pt x="121" y="34"/>
                </a:lnTo>
                <a:lnTo>
                  <a:pt x="31" y="128"/>
                </a:lnTo>
                <a:lnTo>
                  <a:pt x="0" y="0"/>
                </a:lnTo>
                <a:lnTo>
                  <a:pt x="121" y="34"/>
                </a:lnTo>
                <a:lnTo>
                  <a:pt x="31" y="128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Freeform 122"/>
          <p:cNvSpPr/>
          <p:nvPr/>
        </p:nvSpPr>
        <p:spPr>
          <a:xfrm>
            <a:off x="7224840" y="5051520"/>
            <a:ext cx="279360" cy="271440"/>
          </a:xfrm>
          <a:custGeom>
            <a:avLst/>
            <a:gdLst>
              <a:gd name="textAreaLeft" fmla="*/ 0 w 279360"/>
              <a:gd name="textAreaRight" fmla="*/ 279720 w 27936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76" h="171">
                <a:moveTo>
                  <a:pt x="86" y="15"/>
                </a:moveTo>
                <a:lnTo>
                  <a:pt x="88" y="19"/>
                </a:lnTo>
                <a:lnTo>
                  <a:pt x="90" y="19"/>
                </a:lnTo>
                <a:lnTo>
                  <a:pt x="90" y="17"/>
                </a:lnTo>
                <a:lnTo>
                  <a:pt x="86" y="21"/>
                </a:lnTo>
                <a:lnTo>
                  <a:pt x="79" y="25"/>
                </a:lnTo>
                <a:lnTo>
                  <a:pt x="50" y="31"/>
                </a:lnTo>
                <a:lnTo>
                  <a:pt x="21" y="38"/>
                </a:lnTo>
                <a:lnTo>
                  <a:pt x="15" y="42"/>
                </a:lnTo>
                <a:lnTo>
                  <a:pt x="8" y="46"/>
                </a:lnTo>
                <a:lnTo>
                  <a:pt x="4" y="50"/>
                </a:lnTo>
                <a:lnTo>
                  <a:pt x="0" y="59"/>
                </a:lnTo>
                <a:lnTo>
                  <a:pt x="0" y="67"/>
                </a:lnTo>
                <a:lnTo>
                  <a:pt x="4" y="75"/>
                </a:lnTo>
                <a:lnTo>
                  <a:pt x="8" y="82"/>
                </a:lnTo>
                <a:lnTo>
                  <a:pt x="15" y="90"/>
                </a:lnTo>
                <a:lnTo>
                  <a:pt x="36" y="104"/>
                </a:lnTo>
                <a:lnTo>
                  <a:pt x="67" y="123"/>
                </a:lnTo>
                <a:lnTo>
                  <a:pt x="109" y="144"/>
                </a:lnTo>
                <a:lnTo>
                  <a:pt x="167" y="171"/>
                </a:lnTo>
                <a:lnTo>
                  <a:pt x="176" y="150"/>
                </a:lnTo>
                <a:lnTo>
                  <a:pt x="121" y="123"/>
                </a:lnTo>
                <a:lnTo>
                  <a:pt x="79" y="102"/>
                </a:lnTo>
                <a:lnTo>
                  <a:pt x="50" y="84"/>
                </a:lnTo>
                <a:lnTo>
                  <a:pt x="31" y="71"/>
                </a:lnTo>
                <a:lnTo>
                  <a:pt x="27" y="67"/>
                </a:lnTo>
                <a:lnTo>
                  <a:pt x="23" y="63"/>
                </a:lnTo>
                <a:lnTo>
                  <a:pt x="23" y="61"/>
                </a:lnTo>
                <a:lnTo>
                  <a:pt x="23" y="63"/>
                </a:lnTo>
                <a:lnTo>
                  <a:pt x="23" y="65"/>
                </a:lnTo>
                <a:lnTo>
                  <a:pt x="23" y="63"/>
                </a:lnTo>
                <a:lnTo>
                  <a:pt x="25" y="63"/>
                </a:lnTo>
                <a:lnTo>
                  <a:pt x="29" y="61"/>
                </a:lnTo>
                <a:lnTo>
                  <a:pt x="55" y="56"/>
                </a:lnTo>
                <a:lnTo>
                  <a:pt x="84" y="48"/>
                </a:lnTo>
                <a:lnTo>
                  <a:pt x="98" y="42"/>
                </a:lnTo>
                <a:lnTo>
                  <a:pt x="109" y="34"/>
                </a:lnTo>
                <a:lnTo>
                  <a:pt x="113" y="25"/>
                </a:lnTo>
                <a:lnTo>
                  <a:pt x="113" y="15"/>
                </a:lnTo>
                <a:lnTo>
                  <a:pt x="111" y="8"/>
                </a:lnTo>
                <a:lnTo>
                  <a:pt x="105" y="0"/>
                </a:lnTo>
                <a:lnTo>
                  <a:pt x="86" y="1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Freeform 123"/>
          <p:cNvSpPr/>
          <p:nvPr/>
        </p:nvSpPr>
        <p:spPr>
          <a:xfrm>
            <a:off x="7078680" y="4856040"/>
            <a:ext cx="312840" cy="219240"/>
          </a:xfrm>
          <a:custGeom>
            <a:avLst/>
            <a:gdLst>
              <a:gd name="textAreaLeft" fmla="*/ 0 w 312840"/>
              <a:gd name="textAreaRight" fmla="*/ 312840 w 31284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97" h="138">
                <a:moveTo>
                  <a:pt x="0" y="0"/>
                </a:moveTo>
                <a:lnTo>
                  <a:pt x="4" y="23"/>
                </a:lnTo>
                <a:lnTo>
                  <a:pt x="9" y="42"/>
                </a:lnTo>
                <a:lnTo>
                  <a:pt x="17" y="58"/>
                </a:lnTo>
                <a:lnTo>
                  <a:pt x="29" y="71"/>
                </a:lnTo>
                <a:lnTo>
                  <a:pt x="40" y="81"/>
                </a:lnTo>
                <a:lnTo>
                  <a:pt x="53" y="88"/>
                </a:lnTo>
                <a:lnTo>
                  <a:pt x="69" y="94"/>
                </a:lnTo>
                <a:lnTo>
                  <a:pt x="82" y="98"/>
                </a:lnTo>
                <a:lnTo>
                  <a:pt x="111" y="106"/>
                </a:lnTo>
                <a:lnTo>
                  <a:pt x="138" y="113"/>
                </a:lnTo>
                <a:lnTo>
                  <a:pt x="149" y="117"/>
                </a:lnTo>
                <a:lnTo>
                  <a:pt x="161" y="123"/>
                </a:lnTo>
                <a:lnTo>
                  <a:pt x="171" y="129"/>
                </a:lnTo>
                <a:lnTo>
                  <a:pt x="178" y="138"/>
                </a:lnTo>
                <a:lnTo>
                  <a:pt x="197" y="123"/>
                </a:lnTo>
                <a:lnTo>
                  <a:pt x="186" y="111"/>
                </a:lnTo>
                <a:lnTo>
                  <a:pt x="174" y="102"/>
                </a:lnTo>
                <a:lnTo>
                  <a:pt x="159" y="94"/>
                </a:lnTo>
                <a:lnTo>
                  <a:pt x="146" y="90"/>
                </a:lnTo>
                <a:lnTo>
                  <a:pt x="117" y="83"/>
                </a:lnTo>
                <a:lnTo>
                  <a:pt x="88" y="75"/>
                </a:lnTo>
                <a:lnTo>
                  <a:pt x="76" y="71"/>
                </a:lnTo>
                <a:lnTo>
                  <a:pt x="65" y="67"/>
                </a:lnTo>
                <a:lnTo>
                  <a:pt x="53" y="62"/>
                </a:lnTo>
                <a:lnTo>
                  <a:pt x="46" y="54"/>
                </a:lnTo>
                <a:lnTo>
                  <a:pt x="38" y="44"/>
                </a:lnTo>
                <a:lnTo>
                  <a:pt x="32" y="33"/>
                </a:lnTo>
                <a:lnTo>
                  <a:pt x="27" y="17"/>
                </a:lnTo>
                <a:lnTo>
                  <a:pt x="25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Freeform 124"/>
          <p:cNvSpPr/>
          <p:nvPr/>
        </p:nvSpPr>
        <p:spPr>
          <a:xfrm>
            <a:off x="6999120" y="4692600"/>
            <a:ext cx="200160" cy="189000"/>
          </a:xfrm>
          <a:custGeom>
            <a:avLst/>
            <a:gdLst>
              <a:gd name="textAreaLeft" fmla="*/ 0 w 200160"/>
              <a:gd name="textAreaRight" fmla="*/ 200520 w 200160"/>
              <a:gd name="textAreaTop" fmla="*/ 0 h 189000"/>
              <a:gd name="textAreaBottom" fmla="*/ 189360 h 189000"/>
            </a:gdLst>
            <a:ahLst/>
            <a:rect l="textAreaLeft" t="textAreaTop" r="textAreaRight" b="textAreaBottom"/>
            <a:pathLst>
              <a:path w="126" h="119">
                <a:moveTo>
                  <a:pt x="54" y="0"/>
                </a:moveTo>
                <a:lnTo>
                  <a:pt x="0" y="119"/>
                </a:lnTo>
                <a:lnTo>
                  <a:pt x="54" y="0"/>
                </a:lnTo>
                <a:lnTo>
                  <a:pt x="126" y="109"/>
                </a:lnTo>
                <a:lnTo>
                  <a:pt x="0" y="119"/>
                </a:lnTo>
                <a:lnTo>
                  <a:pt x="54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Freeform 125"/>
          <p:cNvSpPr/>
          <p:nvPr/>
        </p:nvSpPr>
        <p:spPr>
          <a:xfrm>
            <a:off x="7005600" y="2421000"/>
            <a:ext cx="193680" cy="199800"/>
          </a:xfrm>
          <a:custGeom>
            <a:avLst/>
            <a:gdLst>
              <a:gd name="textAreaLeft" fmla="*/ 0 w 193680"/>
              <a:gd name="textAreaRight" fmla="*/ 194040 w 19368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22" h="126">
                <a:moveTo>
                  <a:pt x="0" y="76"/>
                </a:moveTo>
                <a:lnTo>
                  <a:pt x="107" y="0"/>
                </a:lnTo>
                <a:lnTo>
                  <a:pt x="0" y="76"/>
                </a:lnTo>
                <a:lnTo>
                  <a:pt x="122" y="126"/>
                </a:lnTo>
                <a:lnTo>
                  <a:pt x="107" y="0"/>
                </a:lnTo>
                <a:lnTo>
                  <a:pt x="0" y="7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Freeform 126"/>
          <p:cNvSpPr/>
          <p:nvPr/>
        </p:nvSpPr>
        <p:spPr>
          <a:xfrm>
            <a:off x="7169040" y="2417760"/>
            <a:ext cx="698760" cy="123840"/>
          </a:xfrm>
          <a:custGeom>
            <a:avLst/>
            <a:gdLst>
              <a:gd name="textAreaLeft" fmla="*/ 0 w 698760"/>
              <a:gd name="textAreaRight" fmla="*/ 699120 w 69876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440" h="78">
                <a:moveTo>
                  <a:pt x="440" y="11"/>
                </a:moveTo>
                <a:lnTo>
                  <a:pt x="438" y="0"/>
                </a:lnTo>
                <a:lnTo>
                  <a:pt x="0" y="53"/>
                </a:lnTo>
                <a:lnTo>
                  <a:pt x="2" y="78"/>
                </a:lnTo>
                <a:lnTo>
                  <a:pt x="440" y="25"/>
                </a:lnTo>
                <a:lnTo>
                  <a:pt x="440" y="11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Freeform 127"/>
          <p:cNvSpPr/>
          <p:nvPr/>
        </p:nvSpPr>
        <p:spPr>
          <a:xfrm>
            <a:off x="6713640" y="3166920"/>
            <a:ext cx="190440" cy="200160"/>
          </a:xfrm>
          <a:custGeom>
            <a:avLst/>
            <a:gdLst>
              <a:gd name="textAreaLeft" fmla="*/ 0 w 190440"/>
              <a:gd name="textAreaRight" fmla="*/ 190800 w 19044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120" h="126">
                <a:moveTo>
                  <a:pt x="0" y="51"/>
                </a:moveTo>
                <a:lnTo>
                  <a:pt x="120" y="0"/>
                </a:lnTo>
                <a:lnTo>
                  <a:pt x="0" y="51"/>
                </a:lnTo>
                <a:lnTo>
                  <a:pt x="109" y="126"/>
                </a:lnTo>
                <a:lnTo>
                  <a:pt x="120" y="0"/>
                </a:lnTo>
                <a:lnTo>
                  <a:pt x="0" y="51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Freeform 128"/>
          <p:cNvSpPr/>
          <p:nvPr/>
        </p:nvSpPr>
        <p:spPr>
          <a:xfrm>
            <a:off x="6877080" y="3244680"/>
            <a:ext cx="430200" cy="76320"/>
          </a:xfrm>
          <a:custGeom>
            <a:avLst/>
            <a:gdLst>
              <a:gd name="textAreaLeft" fmla="*/ 0 w 430200"/>
              <a:gd name="textAreaRight" fmla="*/ 430560 w 43020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271" h="48">
                <a:moveTo>
                  <a:pt x="269" y="37"/>
                </a:moveTo>
                <a:lnTo>
                  <a:pt x="271" y="25"/>
                </a:lnTo>
                <a:lnTo>
                  <a:pt x="2" y="0"/>
                </a:lnTo>
                <a:lnTo>
                  <a:pt x="0" y="25"/>
                </a:lnTo>
                <a:lnTo>
                  <a:pt x="269" y="48"/>
                </a:lnTo>
                <a:lnTo>
                  <a:pt x="269" y="37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Freeform 137"/>
          <p:cNvSpPr/>
          <p:nvPr/>
        </p:nvSpPr>
        <p:spPr>
          <a:xfrm>
            <a:off x="4635360" y="2033640"/>
            <a:ext cx="96840" cy="195120"/>
          </a:xfrm>
          <a:custGeom>
            <a:avLst/>
            <a:gdLst>
              <a:gd name="textAreaLeft" fmla="*/ 0 w 96840"/>
              <a:gd name="textAreaRight" fmla="*/ 97200 w 9684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61" h="123">
                <a:moveTo>
                  <a:pt x="61" y="113"/>
                </a:moveTo>
                <a:lnTo>
                  <a:pt x="38" y="123"/>
                </a:lnTo>
                <a:lnTo>
                  <a:pt x="0" y="8"/>
                </a:lnTo>
                <a:lnTo>
                  <a:pt x="21" y="0"/>
                </a:lnTo>
                <a:lnTo>
                  <a:pt x="61" y="11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Freeform 138"/>
          <p:cNvSpPr/>
          <p:nvPr/>
        </p:nvSpPr>
        <p:spPr>
          <a:xfrm>
            <a:off x="4735440" y="2322360"/>
            <a:ext cx="101520" cy="195480"/>
          </a:xfrm>
          <a:custGeom>
            <a:avLst/>
            <a:gdLst>
              <a:gd name="textAreaLeft" fmla="*/ 0 w 101520"/>
              <a:gd name="textAreaRight" fmla="*/ 101880 w 101520"/>
              <a:gd name="textAreaTop" fmla="*/ 0 h 195480"/>
              <a:gd name="textAreaBottom" fmla="*/ 195840 h 195480"/>
            </a:gdLst>
            <a:ahLst/>
            <a:rect l="textAreaLeft" t="textAreaTop" r="textAreaRight" b="textAreaBottom"/>
            <a:pathLst>
              <a:path w="64" h="123">
                <a:moveTo>
                  <a:pt x="64" y="115"/>
                </a:moveTo>
                <a:lnTo>
                  <a:pt x="41" y="123"/>
                </a:lnTo>
                <a:lnTo>
                  <a:pt x="0" y="8"/>
                </a:lnTo>
                <a:lnTo>
                  <a:pt x="23" y="0"/>
                </a:lnTo>
                <a:lnTo>
                  <a:pt x="64" y="11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Freeform 139"/>
          <p:cNvSpPr/>
          <p:nvPr/>
        </p:nvSpPr>
        <p:spPr>
          <a:xfrm>
            <a:off x="4836960" y="2611440"/>
            <a:ext cx="100080" cy="195120"/>
          </a:xfrm>
          <a:custGeom>
            <a:avLst/>
            <a:gdLst>
              <a:gd name="textAreaLeft" fmla="*/ 0 w 100080"/>
              <a:gd name="textAreaRight" fmla="*/ 100440 w 10008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63" h="123">
                <a:moveTo>
                  <a:pt x="63" y="115"/>
                </a:moveTo>
                <a:lnTo>
                  <a:pt x="40" y="123"/>
                </a:lnTo>
                <a:lnTo>
                  <a:pt x="0" y="8"/>
                </a:lnTo>
                <a:lnTo>
                  <a:pt x="23" y="0"/>
                </a:lnTo>
                <a:lnTo>
                  <a:pt x="63" y="11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Freeform 140"/>
          <p:cNvSpPr/>
          <p:nvPr/>
        </p:nvSpPr>
        <p:spPr>
          <a:xfrm>
            <a:off x="4940280" y="2901960"/>
            <a:ext cx="100080" cy="193680"/>
          </a:xfrm>
          <a:custGeom>
            <a:avLst/>
            <a:gdLst>
              <a:gd name="textAreaLeft" fmla="*/ 0 w 100080"/>
              <a:gd name="textAreaRight" fmla="*/ 100440 w 10008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63" h="122">
                <a:moveTo>
                  <a:pt x="63" y="115"/>
                </a:moveTo>
                <a:lnTo>
                  <a:pt x="40" y="122"/>
                </a:lnTo>
                <a:lnTo>
                  <a:pt x="0" y="9"/>
                </a:lnTo>
                <a:lnTo>
                  <a:pt x="23" y="0"/>
                </a:lnTo>
                <a:lnTo>
                  <a:pt x="63" y="11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Freeform 141"/>
          <p:cNvSpPr/>
          <p:nvPr/>
        </p:nvSpPr>
        <p:spPr>
          <a:xfrm>
            <a:off x="5040360" y="3193920"/>
            <a:ext cx="100080" cy="192240"/>
          </a:xfrm>
          <a:custGeom>
            <a:avLst/>
            <a:gdLst>
              <a:gd name="textAreaLeft" fmla="*/ 0 w 100080"/>
              <a:gd name="textAreaRight" fmla="*/ 100440 w 1000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63" h="121">
                <a:moveTo>
                  <a:pt x="63" y="113"/>
                </a:moveTo>
                <a:lnTo>
                  <a:pt x="40" y="121"/>
                </a:lnTo>
                <a:lnTo>
                  <a:pt x="0" y="7"/>
                </a:lnTo>
                <a:lnTo>
                  <a:pt x="23" y="0"/>
                </a:lnTo>
                <a:lnTo>
                  <a:pt x="63" y="11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Freeform 142"/>
          <p:cNvSpPr/>
          <p:nvPr/>
        </p:nvSpPr>
        <p:spPr>
          <a:xfrm>
            <a:off x="5143680" y="3483000"/>
            <a:ext cx="98280" cy="192240"/>
          </a:xfrm>
          <a:custGeom>
            <a:avLst/>
            <a:gdLst>
              <a:gd name="textAreaLeft" fmla="*/ 0 w 98280"/>
              <a:gd name="textAreaRight" fmla="*/ 98640 w 982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62" h="121">
                <a:moveTo>
                  <a:pt x="62" y="113"/>
                </a:moveTo>
                <a:lnTo>
                  <a:pt x="41" y="121"/>
                </a:lnTo>
                <a:lnTo>
                  <a:pt x="0" y="8"/>
                </a:lnTo>
                <a:lnTo>
                  <a:pt x="23" y="0"/>
                </a:lnTo>
                <a:lnTo>
                  <a:pt x="62" y="11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Freeform 143"/>
          <p:cNvSpPr/>
          <p:nvPr/>
        </p:nvSpPr>
        <p:spPr>
          <a:xfrm>
            <a:off x="5245200" y="3772080"/>
            <a:ext cx="100080" cy="195120"/>
          </a:xfrm>
          <a:custGeom>
            <a:avLst/>
            <a:gdLst>
              <a:gd name="textAreaLeft" fmla="*/ 0 w 100080"/>
              <a:gd name="textAreaRight" fmla="*/ 100440 w 10008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63" h="123">
                <a:moveTo>
                  <a:pt x="63" y="113"/>
                </a:moveTo>
                <a:lnTo>
                  <a:pt x="40" y="123"/>
                </a:lnTo>
                <a:lnTo>
                  <a:pt x="0" y="8"/>
                </a:lnTo>
                <a:lnTo>
                  <a:pt x="23" y="0"/>
                </a:lnTo>
                <a:lnTo>
                  <a:pt x="63" y="11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Freeform 144"/>
          <p:cNvSpPr/>
          <p:nvPr/>
        </p:nvSpPr>
        <p:spPr>
          <a:xfrm>
            <a:off x="5345280" y="4060800"/>
            <a:ext cx="99720" cy="195120"/>
          </a:xfrm>
          <a:custGeom>
            <a:avLst/>
            <a:gdLst>
              <a:gd name="textAreaLeft" fmla="*/ 0 w 99720"/>
              <a:gd name="textAreaRight" fmla="*/ 100080 w 9972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63" h="123">
                <a:moveTo>
                  <a:pt x="63" y="116"/>
                </a:moveTo>
                <a:lnTo>
                  <a:pt x="40" y="123"/>
                </a:lnTo>
                <a:lnTo>
                  <a:pt x="0" y="8"/>
                </a:lnTo>
                <a:lnTo>
                  <a:pt x="23" y="0"/>
                </a:lnTo>
                <a:lnTo>
                  <a:pt x="63" y="11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Freeform 145"/>
          <p:cNvSpPr/>
          <p:nvPr/>
        </p:nvSpPr>
        <p:spPr>
          <a:xfrm>
            <a:off x="5448240" y="4351320"/>
            <a:ext cx="101520" cy="195120"/>
          </a:xfrm>
          <a:custGeom>
            <a:avLst/>
            <a:gdLst>
              <a:gd name="textAreaLeft" fmla="*/ 0 w 101520"/>
              <a:gd name="textAreaRight" fmla="*/ 101880 w 10152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64" h="123">
                <a:moveTo>
                  <a:pt x="64" y="115"/>
                </a:moveTo>
                <a:lnTo>
                  <a:pt x="41" y="123"/>
                </a:lnTo>
                <a:lnTo>
                  <a:pt x="0" y="7"/>
                </a:lnTo>
                <a:lnTo>
                  <a:pt x="23" y="0"/>
                </a:lnTo>
                <a:lnTo>
                  <a:pt x="64" y="11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Freeform 146"/>
          <p:cNvSpPr/>
          <p:nvPr/>
        </p:nvSpPr>
        <p:spPr>
          <a:xfrm>
            <a:off x="5549760" y="4643280"/>
            <a:ext cx="100080" cy="192240"/>
          </a:xfrm>
          <a:custGeom>
            <a:avLst/>
            <a:gdLst>
              <a:gd name="textAreaLeft" fmla="*/ 0 w 100080"/>
              <a:gd name="textAreaRight" fmla="*/ 100440 w 1000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63" h="121">
                <a:moveTo>
                  <a:pt x="63" y="113"/>
                </a:moveTo>
                <a:lnTo>
                  <a:pt x="40" y="121"/>
                </a:lnTo>
                <a:lnTo>
                  <a:pt x="0" y="8"/>
                </a:lnTo>
                <a:lnTo>
                  <a:pt x="23" y="0"/>
                </a:lnTo>
                <a:lnTo>
                  <a:pt x="63" y="11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Freeform 147"/>
          <p:cNvSpPr/>
          <p:nvPr/>
        </p:nvSpPr>
        <p:spPr>
          <a:xfrm>
            <a:off x="5653080" y="4932360"/>
            <a:ext cx="96840" cy="192240"/>
          </a:xfrm>
          <a:custGeom>
            <a:avLst/>
            <a:gdLst>
              <a:gd name="textAreaLeft" fmla="*/ 0 w 96840"/>
              <a:gd name="textAreaRight" fmla="*/ 97200 w 96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61" h="121">
                <a:moveTo>
                  <a:pt x="61" y="113"/>
                </a:moveTo>
                <a:lnTo>
                  <a:pt x="40" y="121"/>
                </a:lnTo>
                <a:lnTo>
                  <a:pt x="0" y="8"/>
                </a:lnTo>
                <a:lnTo>
                  <a:pt x="23" y="0"/>
                </a:lnTo>
                <a:lnTo>
                  <a:pt x="61" y="11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Freeform 148"/>
          <p:cNvSpPr/>
          <p:nvPr/>
        </p:nvSpPr>
        <p:spPr>
          <a:xfrm>
            <a:off x="5753160" y="5221440"/>
            <a:ext cx="100080" cy="191880"/>
          </a:xfrm>
          <a:custGeom>
            <a:avLst/>
            <a:gdLst>
              <a:gd name="textAreaLeft" fmla="*/ 0 w 100080"/>
              <a:gd name="textAreaRight" fmla="*/ 100440 w 1000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63" h="121">
                <a:moveTo>
                  <a:pt x="63" y="114"/>
                </a:moveTo>
                <a:lnTo>
                  <a:pt x="40" y="121"/>
                </a:lnTo>
                <a:lnTo>
                  <a:pt x="0" y="8"/>
                </a:lnTo>
                <a:lnTo>
                  <a:pt x="23" y="0"/>
                </a:lnTo>
                <a:lnTo>
                  <a:pt x="63" y="11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Freeform 149"/>
          <p:cNvSpPr/>
          <p:nvPr/>
        </p:nvSpPr>
        <p:spPr>
          <a:xfrm>
            <a:off x="5856120" y="5511960"/>
            <a:ext cx="98640" cy="193680"/>
          </a:xfrm>
          <a:custGeom>
            <a:avLst/>
            <a:gdLst>
              <a:gd name="textAreaLeft" fmla="*/ 0 w 98640"/>
              <a:gd name="textAreaRight" fmla="*/ 99000 w 9864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62" h="122">
                <a:moveTo>
                  <a:pt x="62" y="115"/>
                </a:moveTo>
                <a:lnTo>
                  <a:pt x="39" y="122"/>
                </a:lnTo>
                <a:lnTo>
                  <a:pt x="0" y="7"/>
                </a:lnTo>
                <a:lnTo>
                  <a:pt x="21" y="0"/>
                </a:lnTo>
                <a:lnTo>
                  <a:pt x="62" y="11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Freeform 150"/>
          <p:cNvSpPr/>
          <p:nvPr/>
        </p:nvSpPr>
        <p:spPr>
          <a:xfrm>
            <a:off x="5958000" y="5800680"/>
            <a:ext cx="100080" cy="195480"/>
          </a:xfrm>
          <a:custGeom>
            <a:avLst/>
            <a:gdLst>
              <a:gd name="textAreaLeft" fmla="*/ 0 w 100080"/>
              <a:gd name="textAreaRight" fmla="*/ 100440 w 100080"/>
              <a:gd name="textAreaTop" fmla="*/ 0 h 195480"/>
              <a:gd name="textAreaBottom" fmla="*/ 195840 h 195480"/>
            </a:gdLst>
            <a:ahLst/>
            <a:rect l="textAreaLeft" t="textAreaTop" r="textAreaRight" b="textAreaBottom"/>
            <a:pathLst>
              <a:path w="63" h="123">
                <a:moveTo>
                  <a:pt x="63" y="115"/>
                </a:moveTo>
                <a:lnTo>
                  <a:pt x="40" y="123"/>
                </a:lnTo>
                <a:lnTo>
                  <a:pt x="0" y="8"/>
                </a:lnTo>
                <a:lnTo>
                  <a:pt x="23" y="0"/>
                </a:lnTo>
                <a:lnTo>
                  <a:pt x="63" y="11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Freeform 151"/>
          <p:cNvSpPr/>
          <p:nvPr/>
        </p:nvSpPr>
        <p:spPr>
          <a:xfrm>
            <a:off x="6058080" y="6089760"/>
            <a:ext cx="55440" cy="63360"/>
          </a:xfrm>
          <a:custGeom>
            <a:avLst/>
            <a:gdLst>
              <a:gd name="textAreaLeft" fmla="*/ 0 w 55440"/>
              <a:gd name="textAreaRight" fmla="*/ 55800 w 5544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35" h="40">
                <a:moveTo>
                  <a:pt x="23" y="37"/>
                </a:moveTo>
                <a:lnTo>
                  <a:pt x="35" y="33"/>
                </a:lnTo>
                <a:lnTo>
                  <a:pt x="23" y="0"/>
                </a:lnTo>
                <a:lnTo>
                  <a:pt x="0" y="10"/>
                </a:lnTo>
                <a:lnTo>
                  <a:pt x="12" y="40"/>
                </a:lnTo>
                <a:lnTo>
                  <a:pt x="23" y="3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Freeform 152"/>
          <p:cNvSpPr/>
          <p:nvPr/>
        </p:nvSpPr>
        <p:spPr>
          <a:xfrm>
            <a:off x="5527800" y="4686480"/>
            <a:ext cx="149040" cy="145800"/>
          </a:xfrm>
          <a:custGeom>
            <a:avLst/>
            <a:gdLst>
              <a:gd name="textAreaLeft" fmla="*/ 0 w 149040"/>
              <a:gd name="textAreaRight" fmla="*/ 149400 w 149040"/>
              <a:gd name="textAreaTop" fmla="*/ 0 h 145800"/>
              <a:gd name="textAreaBottom" fmla="*/ 145800 h 145800"/>
            </a:gdLst>
            <a:ahLst/>
            <a:rect l="textAreaLeft" t="textAreaTop" r="textAreaRight" b="textAreaBottom"/>
            <a:pathLst>
              <a:path w="94" h="92">
                <a:moveTo>
                  <a:pt x="46" y="0"/>
                </a:moveTo>
                <a:lnTo>
                  <a:pt x="56" y="0"/>
                </a:lnTo>
                <a:lnTo>
                  <a:pt x="65" y="2"/>
                </a:lnTo>
                <a:lnTo>
                  <a:pt x="73" y="7"/>
                </a:lnTo>
                <a:lnTo>
                  <a:pt x="81" y="13"/>
                </a:lnTo>
                <a:lnTo>
                  <a:pt x="86" y="19"/>
                </a:lnTo>
                <a:lnTo>
                  <a:pt x="90" y="27"/>
                </a:lnTo>
                <a:lnTo>
                  <a:pt x="92" y="36"/>
                </a:lnTo>
                <a:lnTo>
                  <a:pt x="94" y="46"/>
                </a:lnTo>
                <a:lnTo>
                  <a:pt x="92" y="55"/>
                </a:lnTo>
                <a:lnTo>
                  <a:pt x="90" y="63"/>
                </a:lnTo>
                <a:lnTo>
                  <a:pt x="86" y="71"/>
                </a:lnTo>
                <a:lnTo>
                  <a:pt x="81" y="78"/>
                </a:lnTo>
                <a:lnTo>
                  <a:pt x="73" y="84"/>
                </a:lnTo>
                <a:lnTo>
                  <a:pt x="65" y="88"/>
                </a:lnTo>
                <a:lnTo>
                  <a:pt x="56" y="92"/>
                </a:lnTo>
                <a:lnTo>
                  <a:pt x="46" y="92"/>
                </a:lnTo>
                <a:lnTo>
                  <a:pt x="39" y="92"/>
                </a:lnTo>
                <a:lnTo>
                  <a:pt x="29" y="88"/>
                </a:lnTo>
                <a:lnTo>
                  <a:pt x="21" y="84"/>
                </a:lnTo>
                <a:lnTo>
                  <a:pt x="14" y="78"/>
                </a:lnTo>
                <a:lnTo>
                  <a:pt x="8" y="71"/>
                </a:lnTo>
                <a:lnTo>
                  <a:pt x="4" y="63"/>
                </a:lnTo>
                <a:lnTo>
                  <a:pt x="2" y="55"/>
                </a:lnTo>
                <a:lnTo>
                  <a:pt x="0" y="46"/>
                </a:lnTo>
                <a:lnTo>
                  <a:pt x="2" y="36"/>
                </a:lnTo>
                <a:lnTo>
                  <a:pt x="4" y="27"/>
                </a:lnTo>
                <a:lnTo>
                  <a:pt x="8" y="19"/>
                </a:lnTo>
                <a:lnTo>
                  <a:pt x="14" y="13"/>
                </a:lnTo>
                <a:lnTo>
                  <a:pt x="21" y="7"/>
                </a:lnTo>
                <a:lnTo>
                  <a:pt x="29" y="2"/>
                </a:lnTo>
                <a:lnTo>
                  <a:pt x="39" y="0"/>
                </a:lnTo>
                <a:lnTo>
                  <a:pt x="4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Freeform 153"/>
          <p:cNvSpPr/>
          <p:nvPr/>
        </p:nvSpPr>
        <p:spPr>
          <a:xfrm>
            <a:off x="5527800" y="4686480"/>
            <a:ext cx="149040" cy="145800"/>
          </a:xfrm>
          <a:custGeom>
            <a:avLst/>
            <a:gdLst>
              <a:gd name="textAreaLeft" fmla="*/ 0 w 149040"/>
              <a:gd name="textAreaRight" fmla="*/ 149400 w 149040"/>
              <a:gd name="textAreaTop" fmla="*/ 0 h 145800"/>
              <a:gd name="textAreaBottom" fmla="*/ 145800 h 145800"/>
            </a:gdLst>
            <a:ahLst/>
            <a:rect l="textAreaLeft" t="textAreaTop" r="textAreaRight" b="textAreaBottom"/>
            <a:pathLst>
              <a:path w="94" h="92">
                <a:moveTo>
                  <a:pt x="46" y="0"/>
                </a:moveTo>
                <a:lnTo>
                  <a:pt x="56" y="0"/>
                </a:lnTo>
                <a:lnTo>
                  <a:pt x="65" y="2"/>
                </a:lnTo>
                <a:lnTo>
                  <a:pt x="73" y="7"/>
                </a:lnTo>
                <a:lnTo>
                  <a:pt x="81" y="13"/>
                </a:lnTo>
                <a:lnTo>
                  <a:pt x="86" y="19"/>
                </a:lnTo>
                <a:lnTo>
                  <a:pt x="90" y="27"/>
                </a:lnTo>
                <a:lnTo>
                  <a:pt x="92" y="36"/>
                </a:lnTo>
                <a:lnTo>
                  <a:pt x="94" y="46"/>
                </a:lnTo>
                <a:lnTo>
                  <a:pt x="92" y="55"/>
                </a:lnTo>
                <a:lnTo>
                  <a:pt x="90" y="63"/>
                </a:lnTo>
                <a:lnTo>
                  <a:pt x="86" y="71"/>
                </a:lnTo>
                <a:lnTo>
                  <a:pt x="81" y="78"/>
                </a:lnTo>
                <a:lnTo>
                  <a:pt x="73" y="84"/>
                </a:lnTo>
                <a:lnTo>
                  <a:pt x="65" y="88"/>
                </a:lnTo>
                <a:lnTo>
                  <a:pt x="56" y="92"/>
                </a:lnTo>
                <a:lnTo>
                  <a:pt x="46" y="92"/>
                </a:lnTo>
                <a:lnTo>
                  <a:pt x="39" y="92"/>
                </a:lnTo>
                <a:lnTo>
                  <a:pt x="29" y="88"/>
                </a:lnTo>
                <a:lnTo>
                  <a:pt x="21" y="84"/>
                </a:lnTo>
                <a:lnTo>
                  <a:pt x="14" y="78"/>
                </a:lnTo>
                <a:lnTo>
                  <a:pt x="8" y="71"/>
                </a:lnTo>
                <a:lnTo>
                  <a:pt x="4" y="63"/>
                </a:lnTo>
                <a:lnTo>
                  <a:pt x="2" y="55"/>
                </a:lnTo>
                <a:lnTo>
                  <a:pt x="0" y="46"/>
                </a:lnTo>
                <a:lnTo>
                  <a:pt x="2" y="36"/>
                </a:lnTo>
                <a:lnTo>
                  <a:pt x="4" y="27"/>
                </a:lnTo>
                <a:lnTo>
                  <a:pt x="8" y="19"/>
                </a:lnTo>
                <a:lnTo>
                  <a:pt x="14" y="13"/>
                </a:lnTo>
                <a:lnTo>
                  <a:pt x="21" y="7"/>
                </a:lnTo>
                <a:lnTo>
                  <a:pt x="29" y="2"/>
                </a:lnTo>
                <a:lnTo>
                  <a:pt x="39" y="0"/>
                </a:lnTo>
                <a:lnTo>
                  <a:pt x="46" y="0"/>
                </a:lnTo>
              </a:path>
            </a:pathLst>
          </a:custGeom>
          <a:noFill/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Freeform 154"/>
          <p:cNvSpPr/>
          <p:nvPr/>
        </p:nvSpPr>
        <p:spPr>
          <a:xfrm>
            <a:off x="2262240" y="4232160"/>
            <a:ext cx="5689440" cy="831960"/>
          </a:xfrm>
          <a:custGeom>
            <a:avLst/>
            <a:gdLst>
              <a:gd name="textAreaLeft" fmla="*/ 0 w 5689440"/>
              <a:gd name="textAreaRight" fmla="*/ 5689440 w 5689440"/>
              <a:gd name="textAreaTop" fmla="*/ 0 h 831960"/>
              <a:gd name="textAreaBottom" fmla="*/ 832320 h 831960"/>
            </a:gdLst>
            <a:ahLst/>
            <a:rect l="textAreaLeft" t="textAreaTop" r="textAreaRight" b="textAreaBottom"/>
            <a:pathLst>
              <a:path w="3584" h="524">
                <a:moveTo>
                  <a:pt x="3571" y="0"/>
                </a:moveTo>
                <a:lnTo>
                  <a:pt x="3464" y="52"/>
                </a:lnTo>
                <a:lnTo>
                  <a:pt x="3356" y="100"/>
                </a:lnTo>
                <a:lnTo>
                  <a:pt x="3249" y="146"/>
                </a:lnTo>
                <a:lnTo>
                  <a:pt x="3141" y="188"/>
                </a:lnTo>
                <a:lnTo>
                  <a:pt x="3032" y="228"/>
                </a:lnTo>
                <a:lnTo>
                  <a:pt x="2922" y="265"/>
                </a:lnTo>
                <a:lnTo>
                  <a:pt x="2813" y="299"/>
                </a:lnTo>
                <a:lnTo>
                  <a:pt x="2704" y="332"/>
                </a:lnTo>
                <a:lnTo>
                  <a:pt x="2592" y="361"/>
                </a:lnTo>
                <a:lnTo>
                  <a:pt x="2483" y="386"/>
                </a:lnTo>
                <a:lnTo>
                  <a:pt x="2372" y="409"/>
                </a:lnTo>
                <a:lnTo>
                  <a:pt x="2261" y="430"/>
                </a:lnTo>
                <a:lnTo>
                  <a:pt x="2149" y="447"/>
                </a:lnTo>
                <a:lnTo>
                  <a:pt x="2038" y="462"/>
                </a:lnTo>
                <a:lnTo>
                  <a:pt x="1927" y="474"/>
                </a:lnTo>
                <a:lnTo>
                  <a:pt x="1815" y="481"/>
                </a:lnTo>
                <a:lnTo>
                  <a:pt x="1704" y="487"/>
                </a:lnTo>
                <a:lnTo>
                  <a:pt x="1591" y="491"/>
                </a:lnTo>
                <a:lnTo>
                  <a:pt x="1480" y="491"/>
                </a:lnTo>
                <a:lnTo>
                  <a:pt x="1366" y="489"/>
                </a:lnTo>
                <a:lnTo>
                  <a:pt x="1253" y="483"/>
                </a:lnTo>
                <a:lnTo>
                  <a:pt x="1140" y="474"/>
                </a:lnTo>
                <a:lnTo>
                  <a:pt x="1029" y="462"/>
                </a:lnTo>
                <a:lnTo>
                  <a:pt x="916" y="449"/>
                </a:lnTo>
                <a:lnTo>
                  <a:pt x="802" y="432"/>
                </a:lnTo>
                <a:lnTo>
                  <a:pt x="689" y="410"/>
                </a:lnTo>
                <a:lnTo>
                  <a:pt x="576" y="387"/>
                </a:lnTo>
                <a:lnTo>
                  <a:pt x="463" y="361"/>
                </a:lnTo>
                <a:lnTo>
                  <a:pt x="350" y="332"/>
                </a:lnTo>
                <a:lnTo>
                  <a:pt x="238" y="299"/>
                </a:lnTo>
                <a:lnTo>
                  <a:pt x="125" y="265"/>
                </a:lnTo>
                <a:lnTo>
                  <a:pt x="12" y="226"/>
                </a:lnTo>
                <a:lnTo>
                  <a:pt x="0" y="257"/>
                </a:lnTo>
                <a:lnTo>
                  <a:pt x="114" y="295"/>
                </a:lnTo>
                <a:lnTo>
                  <a:pt x="229" y="332"/>
                </a:lnTo>
                <a:lnTo>
                  <a:pt x="342" y="362"/>
                </a:lnTo>
                <a:lnTo>
                  <a:pt x="455" y="393"/>
                </a:lnTo>
                <a:lnTo>
                  <a:pt x="570" y="420"/>
                </a:lnTo>
                <a:lnTo>
                  <a:pt x="683" y="443"/>
                </a:lnTo>
                <a:lnTo>
                  <a:pt x="797" y="462"/>
                </a:lnTo>
                <a:lnTo>
                  <a:pt x="912" y="480"/>
                </a:lnTo>
                <a:lnTo>
                  <a:pt x="1025" y="495"/>
                </a:lnTo>
                <a:lnTo>
                  <a:pt x="1138" y="506"/>
                </a:lnTo>
                <a:lnTo>
                  <a:pt x="1251" y="514"/>
                </a:lnTo>
                <a:lnTo>
                  <a:pt x="1365" y="520"/>
                </a:lnTo>
                <a:lnTo>
                  <a:pt x="1478" y="524"/>
                </a:lnTo>
                <a:lnTo>
                  <a:pt x="1591" y="524"/>
                </a:lnTo>
                <a:lnTo>
                  <a:pt x="1704" y="520"/>
                </a:lnTo>
                <a:lnTo>
                  <a:pt x="1817" y="514"/>
                </a:lnTo>
                <a:lnTo>
                  <a:pt x="1931" y="504"/>
                </a:lnTo>
                <a:lnTo>
                  <a:pt x="2042" y="493"/>
                </a:lnTo>
                <a:lnTo>
                  <a:pt x="2155" y="480"/>
                </a:lnTo>
                <a:lnTo>
                  <a:pt x="2266" y="460"/>
                </a:lnTo>
                <a:lnTo>
                  <a:pt x="2378" y="441"/>
                </a:lnTo>
                <a:lnTo>
                  <a:pt x="2489" y="418"/>
                </a:lnTo>
                <a:lnTo>
                  <a:pt x="2600" y="391"/>
                </a:lnTo>
                <a:lnTo>
                  <a:pt x="2711" y="362"/>
                </a:lnTo>
                <a:lnTo>
                  <a:pt x="2823" y="330"/>
                </a:lnTo>
                <a:lnTo>
                  <a:pt x="2932" y="295"/>
                </a:lnTo>
                <a:lnTo>
                  <a:pt x="3041" y="259"/>
                </a:lnTo>
                <a:lnTo>
                  <a:pt x="3151" y="219"/>
                </a:lnTo>
                <a:lnTo>
                  <a:pt x="3260" y="174"/>
                </a:lnTo>
                <a:lnTo>
                  <a:pt x="3370" y="128"/>
                </a:lnTo>
                <a:lnTo>
                  <a:pt x="3477" y="80"/>
                </a:lnTo>
                <a:lnTo>
                  <a:pt x="3584" y="29"/>
                </a:lnTo>
                <a:lnTo>
                  <a:pt x="3571" y="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155"/>
          <p:cNvSpPr/>
          <p:nvPr/>
        </p:nvSpPr>
        <p:spPr>
          <a:xfrm>
            <a:off x="7590600" y="1131840"/>
            <a:ext cx="26938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ÁLPEBRA SUPE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156"/>
          <p:cNvSpPr/>
          <p:nvPr/>
        </p:nvSpPr>
        <p:spPr>
          <a:xfrm>
            <a:off x="7862400" y="2228760"/>
            <a:ext cx="11696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ÓRN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157"/>
          <p:cNvSpPr/>
          <p:nvPr/>
        </p:nvSpPr>
        <p:spPr>
          <a:xfrm>
            <a:off x="6963120" y="5129280"/>
            <a:ext cx="25930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ÁLPEBRA INFE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158"/>
          <p:cNvSpPr/>
          <p:nvPr/>
        </p:nvSpPr>
        <p:spPr>
          <a:xfrm>
            <a:off x="7289640" y="3151080"/>
            <a:ext cx="930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159"/>
          <p:cNvSpPr/>
          <p:nvPr/>
        </p:nvSpPr>
        <p:spPr>
          <a:xfrm>
            <a:off x="5843160" y="5792760"/>
            <a:ext cx="29268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SE DO PRISMA A 280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53560" y="226800"/>
            <a:ext cx="8744040" cy="523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AVALIAÇÃO DA ROTAÇÃO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-360" y="955440"/>
            <a:ext cx="10287000" cy="4368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92000"/>
          </a:bodyPr>
          <a:p>
            <a:pPr marL="315360" indent="-315360" algn="just">
              <a:lnSpc>
                <a:spcPct val="16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Use uma lente de teste com prisma de lastr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>
              <a:lnSpc>
                <a:spcPct val="16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linhe a estreita faixa da lâmpada de fenda com o meridiano base-ápice e leia a escal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>
              <a:lnSpc>
                <a:spcPct val="16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rmação de prova e lentes cilíndricas de prov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>
              <a:lnSpc>
                <a:spcPct val="16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stimar  usando o diagrama do relógi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Picture 13" descr=""/>
          <p:cNvPicPr/>
          <p:nvPr/>
        </p:nvPicPr>
        <p:blipFill>
          <a:blip r:embed="rId1"/>
          <a:stretch/>
        </p:blipFill>
        <p:spPr>
          <a:xfrm>
            <a:off x="2416320" y="677880"/>
            <a:ext cx="5654520" cy="490860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14"/>
          <p:cNvSpPr/>
          <p:nvPr/>
        </p:nvSpPr>
        <p:spPr>
          <a:xfrm>
            <a:off x="4275000" y="5568840"/>
            <a:ext cx="100656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4040" y="326520"/>
            <a:ext cx="8743680" cy="552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DETERMINAÇÃO DO CILÍNDRICO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-360" y="1084320"/>
            <a:ext cx="10287000" cy="5773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23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elhor usar uma lente de teste esféric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3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Lente de teste com prisma de lastr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3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obre-refração depois da estabilização da lent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-360" y="385920"/>
            <a:ext cx="10287000" cy="581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DETERMINAÇÃO DO CILÍNDRICO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85400" y="1590480"/>
            <a:ext cx="9885240" cy="5470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7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empre avalie o cilíndrico exigido já que o astigmatismo residual pode ser significativamente diferente do cálculo teóric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-360" y="257040"/>
            <a:ext cx="10287000" cy="49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CARACTERÍSTICAS IDEAIS DE ADAPTAÇÃO 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-360" y="971280"/>
            <a:ext cx="10287000" cy="58863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5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linhamento central do padrão estático de fluoresceín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escentração inferior não além do limb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lgum movimento pós piscagem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dequado cobrimento palpebra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osição rotacional está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82280" y="255240"/>
            <a:ext cx="8744040" cy="493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PEDIDO DA LENTE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85400" y="1069920"/>
            <a:ext cx="10101240" cy="43689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96000"/>
          </a:bodyPr>
          <a:p>
            <a:pPr marL="329040" indent="-329040" algn="just">
              <a:lnSpc>
                <a:spcPct val="15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Forneça ao fabricante o desenho da superfície posterior baseado nos parâmetros da lente de test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just">
              <a:lnSpc>
                <a:spcPct val="15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ompensar a rotação no eixo do cilíndric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just">
              <a:lnSpc>
                <a:spcPct val="15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vise o laboratório se a compensação foi feit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just">
              <a:lnSpc>
                <a:spcPct val="15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specifique o montante de prisma de lastr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422280"/>
            <a:ext cx="10287000" cy="479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LENTES ESFÉRICAS EM CÓRNEAS TÓRICAS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5360" y="1130400"/>
            <a:ext cx="9723600" cy="5727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lguns problemas possíveis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obre visã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obre centralizaçã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Lentes balançando sobre meridiano mais plan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daptação instá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Flexão da lent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-360" y="315720"/>
            <a:ext cx="10287000" cy="493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VERIFICAÇÃO DAS TÓRICAS DE SUPERFÍCIE ANTERIOR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-360" y="1056960"/>
            <a:ext cx="10287000" cy="5800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4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Focômetr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valiar o poder do prism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om o prisma de base inferior, medir o esférico, cilíndrico e eix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Óptica pode estar ligeiramente distorcida devida a aberrações na lent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40000"/>
              </a:lnSpc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41040" y="183960"/>
            <a:ext cx="8744040" cy="493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PEDIDO DA LENTE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-360" y="1171440"/>
            <a:ext cx="10287000" cy="5686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7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otação do meridiano base-ápice versus descentração da lent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7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Grau de rotação é muito imprevisí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7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otação pode variar em diferentes posições de olhar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Rectangle 8"/>
          <p:cNvSpPr/>
          <p:nvPr/>
        </p:nvSpPr>
        <p:spPr>
          <a:xfrm>
            <a:off x="912960" y="806400"/>
            <a:ext cx="8743680" cy="49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PRECAUÇÃO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Picture 8" descr=""/>
          <p:cNvPicPr/>
          <p:nvPr/>
        </p:nvPicPr>
        <p:blipFill>
          <a:blip r:embed="rId1"/>
          <a:stretch/>
        </p:blipFill>
        <p:spPr>
          <a:xfrm>
            <a:off x="2130480" y="711360"/>
            <a:ext cx="4273560" cy="490032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9"/>
          <p:cNvSpPr/>
          <p:nvPr/>
        </p:nvSpPr>
        <p:spPr>
          <a:xfrm>
            <a:off x="6008760" y="987480"/>
            <a:ext cx="33552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NTE BEM CENTRALIZ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10"/>
          <p:cNvSpPr/>
          <p:nvPr/>
        </p:nvSpPr>
        <p:spPr>
          <a:xfrm>
            <a:off x="6367320" y="4089240"/>
            <a:ext cx="3138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ão parece estar a 270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em ambas lentes e córn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11"/>
          <p:cNvSpPr/>
          <p:nvPr/>
        </p:nvSpPr>
        <p:spPr>
          <a:xfrm>
            <a:off x="1936800" y="5504040"/>
            <a:ext cx="1174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ÓRN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Picture 8" descr=""/>
          <p:cNvPicPr/>
          <p:nvPr/>
        </p:nvPicPr>
        <p:blipFill>
          <a:blip r:embed="rId1"/>
          <a:stretch/>
        </p:blipFill>
        <p:spPr>
          <a:xfrm>
            <a:off x="2603520" y="490680"/>
            <a:ext cx="4130640" cy="5267160"/>
          </a:xfrm>
          <a:prstGeom prst="rect">
            <a:avLst/>
          </a:prstGeom>
          <a:ln w="0">
            <a:noFill/>
          </a:ln>
        </p:spPr>
      </p:pic>
      <p:sp>
        <p:nvSpPr>
          <p:cNvPr id="391" name="Text Box 9"/>
          <p:cNvSpPr/>
          <p:nvPr/>
        </p:nvSpPr>
        <p:spPr>
          <a:xfrm>
            <a:off x="6389640" y="1117440"/>
            <a:ext cx="3132360" cy="58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nte deslocada para baixo e nasalmente em 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10"/>
          <p:cNvSpPr/>
          <p:nvPr/>
        </p:nvSpPr>
        <p:spPr>
          <a:xfrm>
            <a:off x="6808680" y="3816360"/>
            <a:ext cx="3478320" cy="97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 ponto marca a base do prisma a 270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a lente mas parece estar a 280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na córn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11"/>
          <p:cNvSpPr/>
          <p:nvPr/>
        </p:nvSpPr>
        <p:spPr>
          <a:xfrm>
            <a:off x="2449440" y="5749920"/>
            <a:ext cx="1397160" cy="34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ÓRN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-360" y="384120"/>
            <a:ext cx="10287000" cy="611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CARACTERÍSTICAS DO PACIENTE IDEAL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80800" y="2499840"/>
            <a:ext cx="9816840" cy="2784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argem da pálpebra inferior em ou acima do limbo inferior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4" name="Picture 114" descr=""/>
          <p:cNvPicPr/>
          <p:nvPr/>
        </p:nvPicPr>
        <p:blipFill>
          <a:blip r:embed="rId1"/>
          <a:stretch/>
        </p:blipFill>
        <p:spPr>
          <a:xfrm>
            <a:off x="2114640" y="762120"/>
            <a:ext cx="6059520" cy="495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67960" y="312480"/>
            <a:ext cx="8744040" cy="60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EXIGÊNCIAS DE ADAPTAÇÃO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-360" y="1170000"/>
            <a:ext cx="10287000" cy="5688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4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Lentes devem elevar-se com a piscagem e logo depois reposicionar-se infra-centralment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iâmetro vertical da lente por volta de  8.80 a 9.20 mm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iâmetro horizontal da lente por volta de 9.20 a 9.60 mm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41040" y="0"/>
            <a:ext cx="8744040" cy="7509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EXIGÊNCIAS DA LENTE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-360" y="823680"/>
            <a:ext cx="10287000" cy="60339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10000"/>
              </a:lnSpc>
              <a:spcAft>
                <a:spcPts val="1199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ona óptica suficientemente grande para cobertura pupilar adequada em condições de baixa luminosid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Aft>
                <a:spcPts val="1199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rda superior da lente bem arredondada e polid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Aft>
                <a:spcPts val="1199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ncagem desenhada para adaptar ao contorno da pálpebra inferi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Aft>
                <a:spcPts val="1199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ncagem deve ser retangular para uma melhor interação com a margem da pálpeb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Aft>
                <a:spcPts val="1199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itar truncados agudos que provoquem desconfor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40960" y="257040"/>
            <a:ext cx="8744040" cy="565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EXIGÊNCIAS DAS LENTES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-360" y="894960"/>
            <a:ext cx="10287000" cy="596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1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runcagem temporal ao meridiano base-ápice de 10-15 graus para uma máxima interação palpebra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ais prisma (1.25 a 1.75 </a:t>
            </a:r>
            <a:r>
              <a:rPr b="0" lang="en-US" sz="3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) exigido em altas dioptrias negativas devido à perda do efeito de lastro com a truncagem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ompense a zona óptica superior em 0.5 mm para manter o cobrimento cornea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Freeform 10"/>
          <p:cNvSpPr/>
          <p:nvPr/>
        </p:nvSpPr>
        <p:spPr>
          <a:xfrm>
            <a:off x="5183280" y="1452600"/>
            <a:ext cx="2095560" cy="2095560"/>
          </a:xfrm>
          <a:custGeom>
            <a:avLst/>
            <a:gdLst/>
            <a:ahLst/>
            <a:rect l="l" t="t" r="r" b="b"/>
            <a:pathLst>
              <a:path w="1320" h="1320">
                <a:moveTo>
                  <a:pt x="1320" y="1320"/>
                </a:moveTo>
                <a:lnTo>
                  <a:pt x="1320" y="1253"/>
                </a:lnTo>
                <a:lnTo>
                  <a:pt x="1313" y="1185"/>
                </a:lnTo>
                <a:lnTo>
                  <a:pt x="1305" y="1120"/>
                </a:lnTo>
                <a:lnTo>
                  <a:pt x="1293" y="1055"/>
                </a:lnTo>
                <a:lnTo>
                  <a:pt x="1279" y="991"/>
                </a:lnTo>
                <a:lnTo>
                  <a:pt x="1260" y="928"/>
                </a:lnTo>
                <a:lnTo>
                  <a:pt x="1240" y="867"/>
                </a:lnTo>
                <a:lnTo>
                  <a:pt x="1217" y="807"/>
                </a:lnTo>
                <a:lnTo>
                  <a:pt x="1191" y="748"/>
                </a:lnTo>
                <a:lnTo>
                  <a:pt x="1160" y="693"/>
                </a:lnTo>
                <a:lnTo>
                  <a:pt x="1130" y="638"/>
                </a:lnTo>
                <a:lnTo>
                  <a:pt x="1095" y="583"/>
                </a:lnTo>
                <a:lnTo>
                  <a:pt x="1058" y="532"/>
                </a:lnTo>
                <a:lnTo>
                  <a:pt x="1019" y="481"/>
                </a:lnTo>
                <a:lnTo>
                  <a:pt x="976" y="434"/>
                </a:lnTo>
                <a:lnTo>
                  <a:pt x="933" y="389"/>
                </a:lnTo>
                <a:lnTo>
                  <a:pt x="886" y="344"/>
                </a:lnTo>
                <a:lnTo>
                  <a:pt x="839" y="303"/>
                </a:lnTo>
                <a:lnTo>
                  <a:pt x="788" y="264"/>
                </a:lnTo>
                <a:lnTo>
                  <a:pt x="737" y="225"/>
                </a:lnTo>
                <a:lnTo>
                  <a:pt x="684" y="192"/>
                </a:lnTo>
                <a:lnTo>
                  <a:pt x="629" y="160"/>
                </a:lnTo>
                <a:lnTo>
                  <a:pt x="572" y="131"/>
                </a:lnTo>
                <a:lnTo>
                  <a:pt x="513" y="105"/>
                </a:lnTo>
                <a:lnTo>
                  <a:pt x="453" y="80"/>
                </a:lnTo>
                <a:lnTo>
                  <a:pt x="392" y="60"/>
                </a:lnTo>
                <a:lnTo>
                  <a:pt x="329" y="41"/>
                </a:lnTo>
                <a:lnTo>
                  <a:pt x="265" y="27"/>
                </a:lnTo>
                <a:lnTo>
                  <a:pt x="200" y="15"/>
                </a:lnTo>
                <a:lnTo>
                  <a:pt x="135" y="7"/>
                </a:lnTo>
                <a:lnTo>
                  <a:pt x="67" y="2"/>
                </a:lnTo>
                <a:lnTo>
                  <a:pt x="0" y="0"/>
                </a:lnTo>
                <a:lnTo>
                  <a:pt x="0" y="13"/>
                </a:lnTo>
                <a:lnTo>
                  <a:pt x="67" y="15"/>
                </a:lnTo>
                <a:lnTo>
                  <a:pt x="132" y="19"/>
                </a:lnTo>
                <a:lnTo>
                  <a:pt x="198" y="27"/>
                </a:lnTo>
                <a:lnTo>
                  <a:pt x="263" y="39"/>
                </a:lnTo>
                <a:lnTo>
                  <a:pt x="327" y="54"/>
                </a:lnTo>
                <a:lnTo>
                  <a:pt x="388" y="72"/>
                </a:lnTo>
                <a:lnTo>
                  <a:pt x="449" y="92"/>
                </a:lnTo>
                <a:lnTo>
                  <a:pt x="508" y="117"/>
                </a:lnTo>
                <a:lnTo>
                  <a:pt x="566" y="141"/>
                </a:lnTo>
                <a:lnTo>
                  <a:pt x="623" y="172"/>
                </a:lnTo>
                <a:lnTo>
                  <a:pt x="678" y="203"/>
                </a:lnTo>
                <a:lnTo>
                  <a:pt x="729" y="237"/>
                </a:lnTo>
                <a:lnTo>
                  <a:pt x="782" y="274"/>
                </a:lnTo>
                <a:lnTo>
                  <a:pt x="831" y="313"/>
                </a:lnTo>
                <a:lnTo>
                  <a:pt x="878" y="354"/>
                </a:lnTo>
                <a:lnTo>
                  <a:pt x="923" y="397"/>
                </a:lnTo>
                <a:lnTo>
                  <a:pt x="968" y="442"/>
                </a:lnTo>
                <a:lnTo>
                  <a:pt x="1009" y="489"/>
                </a:lnTo>
                <a:lnTo>
                  <a:pt x="1048" y="540"/>
                </a:lnTo>
                <a:lnTo>
                  <a:pt x="1085" y="591"/>
                </a:lnTo>
                <a:lnTo>
                  <a:pt x="1117" y="644"/>
                </a:lnTo>
                <a:lnTo>
                  <a:pt x="1150" y="699"/>
                </a:lnTo>
                <a:lnTo>
                  <a:pt x="1179" y="754"/>
                </a:lnTo>
                <a:lnTo>
                  <a:pt x="1205" y="814"/>
                </a:lnTo>
                <a:lnTo>
                  <a:pt x="1228" y="873"/>
                </a:lnTo>
                <a:lnTo>
                  <a:pt x="1248" y="932"/>
                </a:lnTo>
                <a:lnTo>
                  <a:pt x="1267" y="995"/>
                </a:lnTo>
                <a:lnTo>
                  <a:pt x="1281" y="1059"/>
                </a:lnTo>
                <a:lnTo>
                  <a:pt x="1293" y="1122"/>
                </a:lnTo>
                <a:lnTo>
                  <a:pt x="1301" y="1187"/>
                </a:lnTo>
                <a:lnTo>
                  <a:pt x="1305" y="1253"/>
                </a:lnTo>
                <a:lnTo>
                  <a:pt x="1307" y="1320"/>
                </a:lnTo>
                <a:lnTo>
                  <a:pt x="1320" y="13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Freeform 11"/>
          <p:cNvSpPr/>
          <p:nvPr/>
        </p:nvSpPr>
        <p:spPr>
          <a:xfrm>
            <a:off x="6539040" y="3548160"/>
            <a:ext cx="739800" cy="1585800"/>
          </a:xfrm>
          <a:custGeom>
            <a:avLst/>
            <a:gdLst>
              <a:gd name="textAreaLeft" fmla="*/ 0 w 739800"/>
              <a:gd name="textAreaRight" fmla="*/ 740160 w 739800"/>
              <a:gd name="textAreaTop" fmla="*/ 0 h 1585800"/>
              <a:gd name="textAreaBottom" fmla="*/ 1586160 h 1585800"/>
            </a:gdLst>
            <a:ahLst/>
            <a:rect l="textAreaLeft" t="textAreaTop" r="textAreaRight" b="textAreaBottom"/>
            <a:pathLst>
              <a:path w="466" h="999">
                <a:moveTo>
                  <a:pt x="10" y="997"/>
                </a:moveTo>
                <a:lnTo>
                  <a:pt x="8" y="999"/>
                </a:lnTo>
                <a:lnTo>
                  <a:pt x="59" y="952"/>
                </a:lnTo>
                <a:lnTo>
                  <a:pt x="108" y="903"/>
                </a:lnTo>
                <a:lnTo>
                  <a:pt x="155" y="850"/>
                </a:lnTo>
                <a:lnTo>
                  <a:pt x="198" y="797"/>
                </a:lnTo>
                <a:lnTo>
                  <a:pt x="239" y="740"/>
                </a:lnTo>
                <a:lnTo>
                  <a:pt x="276" y="681"/>
                </a:lnTo>
                <a:lnTo>
                  <a:pt x="310" y="621"/>
                </a:lnTo>
                <a:lnTo>
                  <a:pt x="343" y="558"/>
                </a:lnTo>
                <a:lnTo>
                  <a:pt x="370" y="493"/>
                </a:lnTo>
                <a:lnTo>
                  <a:pt x="396" y="427"/>
                </a:lnTo>
                <a:lnTo>
                  <a:pt x="417" y="360"/>
                </a:lnTo>
                <a:lnTo>
                  <a:pt x="435" y="290"/>
                </a:lnTo>
                <a:lnTo>
                  <a:pt x="449" y="219"/>
                </a:lnTo>
                <a:lnTo>
                  <a:pt x="457" y="147"/>
                </a:lnTo>
                <a:lnTo>
                  <a:pt x="462" y="111"/>
                </a:lnTo>
                <a:lnTo>
                  <a:pt x="464" y="76"/>
                </a:lnTo>
                <a:lnTo>
                  <a:pt x="466" y="37"/>
                </a:lnTo>
                <a:lnTo>
                  <a:pt x="466" y="0"/>
                </a:lnTo>
                <a:lnTo>
                  <a:pt x="453" y="0"/>
                </a:lnTo>
                <a:lnTo>
                  <a:pt x="453" y="37"/>
                </a:lnTo>
                <a:lnTo>
                  <a:pt x="451" y="74"/>
                </a:lnTo>
                <a:lnTo>
                  <a:pt x="449" y="111"/>
                </a:lnTo>
                <a:lnTo>
                  <a:pt x="445" y="147"/>
                </a:lnTo>
                <a:lnTo>
                  <a:pt x="435" y="217"/>
                </a:lnTo>
                <a:lnTo>
                  <a:pt x="423" y="288"/>
                </a:lnTo>
                <a:lnTo>
                  <a:pt x="404" y="356"/>
                </a:lnTo>
                <a:lnTo>
                  <a:pt x="384" y="423"/>
                </a:lnTo>
                <a:lnTo>
                  <a:pt x="359" y="488"/>
                </a:lnTo>
                <a:lnTo>
                  <a:pt x="331" y="552"/>
                </a:lnTo>
                <a:lnTo>
                  <a:pt x="300" y="615"/>
                </a:lnTo>
                <a:lnTo>
                  <a:pt x="265" y="674"/>
                </a:lnTo>
                <a:lnTo>
                  <a:pt x="229" y="734"/>
                </a:lnTo>
                <a:lnTo>
                  <a:pt x="188" y="789"/>
                </a:lnTo>
                <a:lnTo>
                  <a:pt x="145" y="842"/>
                </a:lnTo>
                <a:lnTo>
                  <a:pt x="100" y="893"/>
                </a:lnTo>
                <a:lnTo>
                  <a:pt x="51" y="942"/>
                </a:lnTo>
                <a:lnTo>
                  <a:pt x="0" y="989"/>
                </a:lnTo>
                <a:lnTo>
                  <a:pt x="0" y="991"/>
                </a:lnTo>
                <a:lnTo>
                  <a:pt x="10" y="99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Freeform 12"/>
          <p:cNvSpPr/>
          <p:nvPr/>
        </p:nvSpPr>
        <p:spPr>
          <a:xfrm>
            <a:off x="6156360" y="5121360"/>
            <a:ext cx="398520" cy="129960"/>
          </a:xfrm>
          <a:custGeom>
            <a:avLst/>
            <a:gdLst>
              <a:gd name="textAreaLeft" fmla="*/ 0 w 398520"/>
              <a:gd name="textAreaRight" fmla="*/ 398880 w 398520"/>
              <a:gd name="textAreaTop" fmla="*/ 0 h 129960"/>
              <a:gd name="textAreaBottom" fmla="*/ 130320 h 129960"/>
            </a:gdLst>
            <a:ahLst/>
            <a:rect l="textAreaLeft" t="textAreaTop" r="textAreaRight" b="textAreaBottom"/>
            <a:pathLst>
              <a:path w="251" h="82">
                <a:moveTo>
                  <a:pt x="0" y="82"/>
                </a:moveTo>
                <a:lnTo>
                  <a:pt x="36" y="82"/>
                </a:lnTo>
                <a:lnTo>
                  <a:pt x="75" y="80"/>
                </a:lnTo>
                <a:lnTo>
                  <a:pt x="110" y="76"/>
                </a:lnTo>
                <a:lnTo>
                  <a:pt x="145" y="70"/>
                </a:lnTo>
                <a:lnTo>
                  <a:pt x="161" y="65"/>
                </a:lnTo>
                <a:lnTo>
                  <a:pt x="175" y="61"/>
                </a:lnTo>
                <a:lnTo>
                  <a:pt x="190" y="55"/>
                </a:lnTo>
                <a:lnTo>
                  <a:pt x="204" y="49"/>
                </a:lnTo>
                <a:lnTo>
                  <a:pt x="218" y="39"/>
                </a:lnTo>
                <a:lnTo>
                  <a:pt x="231" y="31"/>
                </a:lnTo>
                <a:lnTo>
                  <a:pt x="241" y="18"/>
                </a:lnTo>
                <a:lnTo>
                  <a:pt x="251" y="6"/>
                </a:lnTo>
                <a:lnTo>
                  <a:pt x="241" y="0"/>
                </a:lnTo>
                <a:lnTo>
                  <a:pt x="231" y="10"/>
                </a:lnTo>
                <a:lnTo>
                  <a:pt x="220" y="20"/>
                </a:lnTo>
                <a:lnTo>
                  <a:pt x="210" y="29"/>
                </a:lnTo>
                <a:lnTo>
                  <a:pt x="198" y="37"/>
                </a:lnTo>
                <a:lnTo>
                  <a:pt x="186" y="43"/>
                </a:lnTo>
                <a:lnTo>
                  <a:pt x="171" y="49"/>
                </a:lnTo>
                <a:lnTo>
                  <a:pt x="157" y="53"/>
                </a:lnTo>
                <a:lnTo>
                  <a:pt x="143" y="57"/>
                </a:lnTo>
                <a:lnTo>
                  <a:pt x="108" y="63"/>
                </a:lnTo>
                <a:lnTo>
                  <a:pt x="73" y="67"/>
                </a:lnTo>
                <a:lnTo>
                  <a:pt x="36" y="70"/>
                </a:lnTo>
                <a:lnTo>
                  <a:pt x="0" y="70"/>
                </a:lnTo>
                <a:lnTo>
                  <a:pt x="0" y="8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Rectangle 13"/>
          <p:cNvSpPr/>
          <p:nvPr/>
        </p:nvSpPr>
        <p:spPr>
          <a:xfrm>
            <a:off x="4179960" y="5232240"/>
            <a:ext cx="1976400" cy="1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Freeform 14"/>
          <p:cNvSpPr/>
          <p:nvPr/>
        </p:nvSpPr>
        <p:spPr>
          <a:xfrm>
            <a:off x="3803760" y="5111640"/>
            <a:ext cx="376200" cy="139680"/>
          </a:xfrm>
          <a:custGeom>
            <a:avLst/>
            <a:gdLst>
              <a:gd name="textAreaLeft" fmla="*/ 0 w 376200"/>
              <a:gd name="textAreaRight" fmla="*/ 376560 w 37620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237" h="88">
                <a:moveTo>
                  <a:pt x="2" y="10"/>
                </a:moveTo>
                <a:lnTo>
                  <a:pt x="0" y="10"/>
                </a:lnTo>
                <a:lnTo>
                  <a:pt x="19" y="26"/>
                </a:lnTo>
                <a:lnTo>
                  <a:pt x="39" y="41"/>
                </a:lnTo>
                <a:lnTo>
                  <a:pt x="66" y="55"/>
                </a:lnTo>
                <a:lnTo>
                  <a:pt x="94" y="65"/>
                </a:lnTo>
                <a:lnTo>
                  <a:pt x="125" y="76"/>
                </a:lnTo>
                <a:lnTo>
                  <a:pt x="160" y="82"/>
                </a:lnTo>
                <a:lnTo>
                  <a:pt x="196" y="86"/>
                </a:lnTo>
                <a:lnTo>
                  <a:pt x="237" y="88"/>
                </a:lnTo>
                <a:lnTo>
                  <a:pt x="237" y="76"/>
                </a:lnTo>
                <a:lnTo>
                  <a:pt x="199" y="73"/>
                </a:lnTo>
                <a:lnTo>
                  <a:pt x="162" y="69"/>
                </a:lnTo>
                <a:lnTo>
                  <a:pt x="129" y="63"/>
                </a:lnTo>
                <a:lnTo>
                  <a:pt x="98" y="53"/>
                </a:lnTo>
                <a:lnTo>
                  <a:pt x="70" y="43"/>
                </a:lnTo>
                <a:lnTo>
                  <a:pt x="47" y="31"/>
                </a:lnTo>
                <a:lnTo>
                  <a:pt x="27" y="16"/>
                </a:lnTo>
                <a:lnTo>
                  <a:pt x="11" y="0"/>
                </a:lnTo>
                <a:lnTo>
                  <a:pt x="2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Freeform 15"/>
          <p:cNvSpPr/>
          <p:nvPr/>
        </p:nvSpPr>
        <p:spPr>
          <a:xfrm>
            <a:off x="3087720" y="3548160"/>
            <a:ext cx="733320" cy="1579320"/>
          </a:xfrm>
          <a:custGeom>
            <a:avLst/>
            <a:gdLst>
              <a:gd name="textAreaLeft" fmla="*/ 0 w 733320"/>
              <a:gd name="textAreaRight" fmla="*/ 733680 w 733320"/>
              <a:gd name="textAreaTop" fmla="*/ 0 h 1579320"/>
              <a:gd name="textAreaBottom" fmla="*/ 1579680 h 1579320"/>
            </a:gdLst>
            <a:ahLst/>
            <a:rect l="textAreaLeft" t="textAreaTop" r="textAreaRight" b="textAreaBottom"/>
            <a:pathLst>
              <a:path w="462" h="995">
                <a:moveTo>
                  <a:pt x="0" y="0"/>
                </a:moveTo>
                <a:lnTo>
                  <a:pt x="2" y="74"/>
                </a:lnTo>
                <a:lnTo>
                  <a:pt x="8" y="147"/>
                </a:lnTo>
                <a:lnTo>
                  <a:pt x="18" y="219"/>
                </a:lnTo>
                <a:lnTo>
                  <a:pt x="30" y="288"/>
                </a:lnTo>
                <a:lnTo>
                  <a:pt x="49" y="358"/>
                </a:lnTo>
                <a:lnTo>
                  <a:pt x="69" y="425"/>
                </a:lnTo>
                <a:lnTo>
                  <a:pt x="94" y="491"/>
                </a:lnTo>
                <a:lnTo>
                  <a:pt x="122" y="556"/>
                </a:lnTo>
                <a:lnTo>
                  <a:pt x="153" y="617"/>
                </a:lnTo>
                <a:lnTo>
                  <a:pt x="188" y="678"/>
                </a:lnTo>
                <a:lnTo>
                  <a:pt x="225" y="738"/>
                </a:lnTo>
                <a:lnTo>
                  <a:pt x="265" y="793"/>
                </a:lnTo>
                <a:lnTo>
                  <a:pt x="308" y="848"/>
                </a:lnTo>
                <a:lnTo>
                  <a:pt x="353" y="899"/>
                </a:lnTo>
                <a:lnTo>
                  <a:pt x="402" y="948"/>
                </a:lnTo>
                <a:lnTo>
                  <a:pt x="453" y="995"/>
                </a:lnTo>
                <a:lnTo>
                  <a:pt x="462" y="985"/>
                </a:lnTo>
                <a:lnTo>
                  <a:pt x="410" y="940"/>
                </a:lnTo>
                <a:lnTo>
                  <a:pt x="363" y="891"/>
                </a:lnTo>
                <a:lnTo>
                  <a:pt x="318" y="840"/>
                </a:lnTo>
                <a:lnTo>
                  <a:pt x="276" y="785"/>
                </a:lnTo>
                <a:lnTo>
                  <a:pt x="235" y="730"/>
                </a:lnTo>
                <a:lnTo>
                  <a:pt x="198" y="672"/>
                </a:lnTo>
                <a:lnTo>
                  <a:pt x="165" y="611"/>
                </a:lnTo>
                <a:lnTo>
                  <a:pt x="133" y="550"/>
                </a:lnTo>
                <a:lnTo>
                  <a:pt x="106" y="486"/>
                </a:lnTo>
                <a:lnTo>
                  <a:pt x="81" y="421"/>
                </a:lnTo>
                <a:lnTo>
                  <a:pt x="61" y="354"/>
                </a:lnTo>
                <a:lnTo>
                  <a:pt x="43" y="286"/>
                </a:lnTo>
                <a:lnTo>
                  <a:pt x="30" y="217"/>
                </a:lnTo>
                <a:lnTo>
                  <a:pt x="20" y="145"/>
                </a:lnTo>
                <a:lnTo>
                  <a:pt x="14" y="74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Freeform 16"/>
          <p:cNvSpPr/>
          <p:nvPr/>
        </p:nvSpPr>
        <p:spPr>
          <a:xfrm>
            <a:off x="3087720" y="1452600"/>
            <a:ext cx="2095560" cy="2095560"/>
          </a:xfrm>
          <a:custGeom>
            <a:avLst/>
            <a:gdLst/>
            <a:ahLst/>
            <a:rect l="l" t="t" r="r" b="b"/>
            <a:pathLst>
              <a:path w="1320" h="1320">
                <a:moveTo>
                  <a:pt x="1320" y="0"/>
                </a:moveTo>
                <a:lnTo>
                  <a:pt x="1252" y="2"/>
                </a:lnTo>
                <a:lnTo>
                  <a:pt x="1185" y="7"/>
                </a:lnTo>
                <a:lnTo>
                  <a:pt x="1119" y="15"/>
                </a:lnTo>
                <a:lnTo>
                  <a:pt x="1054" y="27"/>
                </a:lnTo>
                <a:lnTo>
                  <a:pt x="991" y="41"/>
                </a:lnTo>
                <a:lnTo>
                  <a:pt x="927" y="60"/>
                </a:lnTo>
                <a:lnTo>
                  <a:pt x="866" y="80"/>
                </a:lnTo>
                <a:lnTo>
                  <a:pt x="807" y="105"/>
                </a:lnTo>
                <a:lnTo>
                  <a:pt x="748" y="131"/>
                </a:lnTo>
                <a:lnTo>
                  <a:pt x="690" y="160"/>
                </a:lnTo>
                <a:lnTo>
                  <a:pt x="635" y="192"/>
                </a:lnTo>
                <a:lnTo>
                  <a:pt x="582" y="225"/>
                </a:lnTo>
                <a:lnTo>
                  <a:pt x="531" y="264"/>
                </a:lnTo>
                <a:lnTo>
                  <a:pt x="480" y="303"/>
                </a:lnTo>
                <a:lnTo>
                  <a:pt x="433" y="344"/>
                </a:lnTo>
                <a:lnTo>
                  <a:pt x="386" y="389"/>
                </a:lnTo>
                <a:lnTo>
                  <a:pt x="343" y="434"/>
                </a:lnTo>
                <a:lnTo>
                  <a:pt x="302" y="481"/>
                </a:lnTo>
                <a:lnTo>
                  <a:pt x="261" y="532"/>
                </a:lnTo>
                <a:lnTo>
                  <a:pt x="225" y="583"/>
                </a:lnTo>
                <a:lnTo>
                  <a:pt x="190" y="638"/>
                </a:lnTo>
                <a:lnTo>
                  <a:pt x="159" y="693"/>
                </a:lnTo>
                <a:lnTo>
                  <a:pt x="131" y="748"/>
                </a:lnTo>
                <a:lnTo>
                  <a:pt x="104" y="807"/>
                </a:lnTo>
                <a:lnTo>
                  <a:pt x="79" y="867"/>
                </a:lnTo>
                <a:lnTo>
                  <a:pt x="59" y="928"/>
                </a:lnTo>
                <a:lnTo>
                  <a:pt x="41" y="991"/>
                </a:lnTo>
                <a:lnTo>
                  <a:pt x="26" y="1055"/>
                </a:lnTo>
                <a:lnTo>
                  <a:pt x="14" y="1120"/>
                </a:lnTo>
                <a:lnTo>
                  <a:pt x="6" y="1185"/>
                </a:lnTo>
                <a:lnTo>
                  <a:pt x="0" y="1253"/>
                </a:lnTo>
                <a:lnTo>
                  <a:pt x="0" y="1320"/>
                </a:lnTo>
                <a:lnTo>
                  <a:pt x="12" y="1320"/>
                </a:lnTo>
                <a:lnTo>
                  <a:pt x="14" y="1253"/>
                </a:lnTo>
                <a:lnTo>
                  <a:pt x="18" y="1187"/>
                </a:lnTo>
                <a:lnTo>
                  <a:pt x="26" y="1122"/>
                </a:lnTo>
                <a:lnTo>
                  <a:pt x="39" y="1059"/>
                </a:lnTo>
                <a:lnTo>
                  <a:pt x="53" y="995"/>
                </a:lnTo>
                <a:lnTo>
                  <a:pt x="71" y="932"/>
                </a:lnTo>
                <a:lnTo>
                  <a:pt x="92" y="873"/>
                </a:lnTo>
                <a:lnTo>
                  <a:pt x="114" y="814"/>
                </a:lnTo>
                <a:lnTo>
                  <a:pt x="141" y="754"/>
                </a:lnTo>
                <a:lnTo>
                  <a:pt x="169" y="699"/>
                </a:lnTo>
                <a:lnTo>
                  <a:pt x="202" y="644"/>
                </a:lnTo>
                <a:lnTo>
                  <a:pt x="237" y="591"/>
                </a:lnTo>
                <a:lnTo>
                  <a:pt x="271" y="540"/>
                </a:lnTo>
                <a:lnTo>
                  <a:pt x="310" y="489"/>
                </a:lnTo>
                <a:lnTo>
                  <a:pt x="353" y="442"/>
                </a:lnTo>
                <a:lnTo>
                  <a:pt x="396" y="397"/>
                </a:lnTo>
                <a:lnTo>
                  <a:pt x="441" y="354"/>
                </a:lnTo>
                <a:lnTo>
                  <a:pt x="488" y="313"/>
                </a:lnTo>
                <a:lnTo>
                  <a:pt x="539" y="274"/>
                </a:lnTo>
                <a:lnTo>
                  <a:pt x="590" y="237"/>
                </a:lnTo>
                <a:lnTo>
                  <a:pt x="643" y="203"/>
                </a:lnTo>
                <a:lnTo>
                  <a:pt x="696" y="172"/>
                </a:lnTo>
                <a:lnTo>
                  <a:pt x="754" y="141"/>
                </a:lnTo>
                <a:lnTo>
                  <a:pt x="811" y="117"/>
                </a:lnTo>
                <a:lnTo>
                  <a:pt x="870" y="92"/>
                </a:lnTo>
                <a:lnTo>
                  <a:pt x="931" y="72"/>
                </a:lnTo>
                <a:lnTo>
                  <a:pt x="993" y="54"/>
                </a:lnTo>
                <a:lnTo>
                  <a:pt x="1056" y="39"/>
                </a:lnTo>
                <a:lnTo>
                  <a:pt x="1121" y="27"/>
                </a:lnTo>
                <a:lnTo>
                  <a:pt x="1187" y="19"/>
                </a:lnTo>
                <a:lnTo>
                  <a:pt x="1252" y="15"/>
                </a:lnTo>
                <a:lnTo>
                  <a:pt x="1320" y="13"/>
                </a:lnTo>
                <a:lnTo>
                  <a:pt x="132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angle 17"/>
          <p:cNvSpPr/>
          <p:nvPr/>
        </p:nvSpPr>
        <p:spPr>
          <a:xfrm>
            <a:off x="2597040" y="3544920"/>
            <a:ext cx="204840" cy="42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Rectangle 18"/>
          <p:cNvSpPr/>
          <p:nvPr/>
        </p:nvSpPr>
        <p:spPr>
          <a:xfrm>
            <a:off x="3006720" y="3544920"/>
            <a:ext cx="203040" cy="42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19"/>
          <p:cNvSpPr/>
          <p:nvPr/>
        </p:nvSpPr>
        <p:spPr>
          <a:xfrm>
            <a:off x="3414600" y="3544920"/>
            <a:ext cx="204840" cy="42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20"/>
          <p:cNvSpPr/>
          <p:nvPr/>
        </p:nvSpPr>
        <p:spPr>
          <a:xfrm>
            <a:off x="3824280" y="3544920"/>
            <a:ext cx="203040" cy="42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21"/>
          <p:cNvSpPr/>
          <p:nvPr/>
        </p:nvSpPr>
        <p:spPr>
          <a:xfrm>
            <a:off x="4232160" y="3544920"/>
            <a:ext cx="204840" cy="42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22"/>
          <p:cNvSpPr/>
          <p:nvPr/>
        </p:nvSpPr>
        <p:spPr>
          <a:xfrm>
            <a:off x="4640400" y="3544920"/>
            <a:ext cx="204480" cy="42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23"/>
          <p:cNvSpPr/>
          <p:nvPr/>
        </p:nvSpPr>
        <p:spPr>
          <a:xfrm>
            <a:off x="5049720" y="3544920"/>
            <a:ext cx="204840" cy="42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24"/>
          <p:cNvSpPr/>
          <p:nvPr/>
        </p:nvSpPr>
        <p:spPr>
          <a:xfrm>
            <a:off x="5457960" y="3544920"/>
            <a:ext cx="204480" cy="42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25"/>
          <p:cNvSpPr/>
          <p:nvPr/>
        </p:nvSpPr>
        <p:spPr>
          <a:xfrm>
            <a:off x="5867280" y="3544920"/>
            <a:ext cx="204840" cy="42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26"/>
          <p:cNvSpPr/>
          <p:nvPr/>
        </p:nvSpPr>
        <p:spPr>
          <a:xfrm>
            <a:off x="6275520" y="3544920"/>
            <a:ext cx="204480" cy="42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Rectangle 27"/>
          <p:cNvSpPr/>
          <p:nvPr/>
        </p:nvSpPr>
        <p:spPr>
          <a:xfrm>
            <a:off x="6684840" y="3544920"/>
            <a:ext cx="203400" cy="42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28"/>
          <p:cNvSpPr/>
          <p:nvPr/>
        </p:nvSpPr>
        <p:spPr>
          <a:xfrm>
            <a:off x="7093080" y="3544920"/>
            <a:ext cx="204480" cy="42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29"/>
          <p:cNvSpPr/>
          <p:nvPr/>
        </p:nvSpPr>
        <p:spPr>
          <a:xfrm>
            <a:off x="7502400" y="3544920"/>
            <a:ext cx="203400" cy="42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30"/>
          <p:cNvSpPr/>
          <p:nvPr/>
        </p:nvSpPr>
        <p:spPr>
          <a:xfrm>
            <a:off x="7910640" y="3544920"/>
            <a:ext cx="204840" cy="42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31"/>
          <p:cNvSpPr/>
          <p:nvPr/>
        </p:nvSpPr>
        <p:spPr>
          <a:xfrm>
            <a:off x="5162400" y="534960"/>
            <a:ext cx="39960" cy="204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32"/>
          <p:cNvSpPr/>
          <p:nvPr/>
        </p:nvSpPr>
        <p:spPr>
          <a:xfrm>
            <a:off x="5162400" y="944640"/>
            <a:ext cx="39960" cy="203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ectangle 33"/>
          <p:cNvSpPr/>
          <p:nvPr/>
        </p:nvSpPr>
        <p:spPr>
          <a:xfrm>
            <a:off x="5162400" y="1352520"/>
            <a:ext cx="39960" cy="204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34"/>
          <p:cNvSpPr/>
          <p:nvPr/>
        </p:nvSpPr>
        <p:spPr>
          <a:xfrm>
            <a:off x="5162400" y="1760400"/>
            <a:ext cx="39960" cy="204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Rectangle 35"/>
          <p:cNvSpPr/>
          <p:nvPr/>
        </p:nvSpPr>
        <p:spPr>
          <a:xfrm>
            <a:off x="5162400" y="2170080"/>
            <a:ext cx="39960" cy="204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36"/>
          <p:cNvSpPr/>
          <p:nvPr/>
        </p:nvSpPr>
        <p:spPr>
          <a:xfrm>
            <a:off x="5162400" y="2577960"/>
            <a:ext cx="39960" cy="204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37"/>
          <p:cNvSpPr/>
          <p:nvPr/>
        </p:nvSpPr>
        <p:spPr>
          <a:xfrm>
            <a:off x="5162400" y="2987640"/>
            <a:ext cx="39960" cy="203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38"/>
          <p:cNvSpPr/>
          <p:nvPr/>
        </p:nvSpPr>
        <p:spPr>
          <a:xfrm>
            <a:off x="5162400" y="3395520"/>
            <a:ext cx="39960" cy="204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39"/>
          <p:cNvSpPr/>
          <p:nvPr/>
        </p:nvSpPr>
        <p:spPr>
          <a:xfrm>
            <a:off x="5162400" y="3805200"/>
            <a:ext cx="39960" cy="203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Rectangle 40"/>
          <p:cNvSpPr/>
          <p:nvPr/>
        </p:nvSpPr>
        <p:spPr>
          <a:xfrm>
            <a:off x="5162400" y="4213080"/>
            <a:ext cx="39960" cy="204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41"/>
          <p:cNvSpPr/>
          <p:nvPr/>
        </p:nvSpPr>
        <p:spPr>
          <a:xfrm>
            <a:off x="5162400" y="4621320"/>
            <a:ext cx="39960" cy="204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42"/>
          <p:cNvSpPr/>
          <p:nvPr/>
        </p:nvSpPr>
        <p:spPr>
          <a:xfrm>
            <a:off x="5162400" y="5030640"/>
            <a:ext cx="39960" cy="208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Freeform 43"/>
          <p:cNvSpPr/>
          <p:nvPr/>
        </p:nvSpPr>
        <p:spPr>
          <a:xfrm>
            <a:off x="4807080" y="1504800"/>
            <a:ext cx="830160" cy="3743640"/>
          </a:xfrm>
          <a:custGeom>
            <a:avLst/>
            <a:gdLst>
              <a:gd name="textAreaLeft" fmla="*/ 0 w 830160"/>
              <a:gd name="textAreaRight" fmla="*/ 830520 w 830160"/>
              <a:gd name="textAreaTop" fmla="*/ 0 h 3743640"/>
              <a:gd name="textAreaBottom" fmla="*/ 3744000 h 3743640"/>
            </a:gdLst>
            <a:ahLst/>
            <a:rect l="textAreaLeft" t="textAreaTop" r="textAreaRight" b="textAreaBottom"/>
            <a:pathLst>
              <a:path w="523" h="2358">
                <a:moveTo>
                  <a:pt x="508" y="2"/>
                </a:moveTo>
                <a:lnTo>
                  <a:pt x="496" y="0"/>
                </a:lnTo>
                <a:lnTo>
                  <a:pt x="0" y="2352"/>
                </a:lnTo>
                <a:lnTo>
                  <a:pt x="26" y="2358"/>
                </a:lnTo>
                <a:lnTo>
                  <a:pt x="523" y="6"/>
                </a:lnTo>
                <a:lnTo>
                  <a:pt x="508" y="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Freeform 44"/>
          <p:cNvSpPr/>
          <p:nvPr/>
        </p:nvSpPr>
        <p:spPr>
          <a:xfrm>
            <a:off x="5578560" y="852480"/>
            <a:ext cx="204840" cy="749160"/>
          </a:xfrm>
          <a:custGeom>
            <a:avLst/>
            <a:gdLst>
              <a:gd name="textAreaLeft" fmla="*/ 0 w 204840"/>
              <a:gd name="textAreaRight" fmla="*/ 205200 w 204840"/>
              <a:gd name="textAreaTop" fmla="*/ 0 h 749160"/>
              <a:gd name="textAreaBottom" fmla="*/ 749520 h 749160"/>
            </a:gdLst>
            <a:ahLst/>
            <a:rect l="textAreaLeft" t="textAreaTop" r="textAreaRight" b="textAreaBottom"/>
            <a:pathLst>
              <a:path w="129" h="472">
                <a:moveTo>
                  <a:pt x="116" y="5"/>
                </a:moveTo>
                <a:lnTo>
                  <a:pt x="104" y="0"/>
                </a:lnTo>
                <a:lnTo>
                  <a:pt x="0" y="466"/>
                </a:lnTo>
                <a:lnTo>
                  <a:pt x="24" y="472"/>
                </a:lnTo>
                <a:lnTo>
                  <a:pt x="129" y="7"/>
                </a:lnTo>
                <a:lnTo>
                  <a:pt x="116" y="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Text Box 48"/>
          <p:cNvSpPr/>
          <p:nvPr/>
        </p:nvSpPr>
        <p:spPr>
          <a:xfrm rot="16960200">
            <a:off x="4527720" y="4151520"/>
            <a:ext cx="67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Text Box 49"/>
          <p:cNvSpPr/>
          <p:nvPr/>
        </p:nvSpPr>
        <p:spPr>
          <a:xfrm rot="16807800">
            <a:off x="5022000" y="1782720"/>
            <a:ext cx="7246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ÁP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50"/>
          <p:cNvSpPr/>
          <p:nvPr/>
        </p:nvSpPr>
        <p:spPr>
          <a:xfrm>
            <a:off x="4063320" y="5418000"/>
            <a:ext cx="22136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LHO ESQUER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267840"/>
            <a:ext cx="10287000" cy="436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LENTES ESFÉRICAS EM CÓRNEAS TÓRICAS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-360" y="992160"/>
            <a:ext cx="10287000" cy="5865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lguns problemas possíveis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Áreas de contato severa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eformação cornea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mbaçamento c/ óculo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esconfort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iscagem pobr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ano epitelia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ancha (toque) nas posições de 3 e 9 hora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Group 532"/>
          <p:cNvGrpSpPr/>
          <p:nvPr/>
        </p:nvGrpSpPr>
        <p:grpSpPr>
          <a:xfrm>
            <a:off x="1798560" y="1025640"/>
            <a:ext cx="5535360" cy="4376160"/>
            <a:chOff x="1798560" y="1025640"/>
            <a:chExt cx="5535360" cy="4376160"/>
          </a:xfrm>
        </p:grpSpPr>
        <p:grpSp>
          <p:nvGrpSpPr>
            <p:cNvPr id="468" name="Group 209"/>
            <p:cNvGrpSpPr/>
            <p:nvPr/>
          </p:nvGrpSpPr>
          <p:grpSpPr>
            <a:xfrm>
              <a:off x="1803600" y="1028520"/>
              <a:ext cx="1024920" cy="4290120"/>
              <a:chOff x="1803600" y="1028520"/>
              <a:chExt cx="1024920" cy="4290120"/>
            </a:xfrm>
          </p:grpSpPr>
          <p:sp>
            <p:nvSpPr>
              <p:cNvPr id="469" name="Freeform 9"/>
              <p:cNvSpPr/>
              <p:nvPr/>
            </p:nvSpPr>
            <p:spPr>
              <a:xfrm>
                <a:off x="2751120" y="1028520"/>
                <a:ext cx="77400" cy="429012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4290120"/>
                  <a:gd name="textAreaBottom" fmla="*/ 4290480 h 4290120"/>
                </a:gdLst>
                <a:ahLst/>
                <a:rect l="textAreaLeft" t="textAreaTop" r="textAreaRight" b="textAreaBottom"/>
                <a:pathLst>
                  <a:path w="46" h="2548">
                    <a:moveTo>
                      <a:pt x="44" y="9"/>
                    </a:moveTo>
                    <a:lnTo>
                      <a:pt x="36" y="7"/>
                    </a:lnTo>
                    <a:lnTo>
                      <a:pt x="36" y="7"/>
                    </a:lnTo>
                    <a:lnTo>
                      <a:pt x="38" y="5"/>
                    </a:lnTo>
                    <a:lnTo>
                      <a:pt x="40" y="5"/>
                    </a:lnTo>
                    <a:lnTo>
                      <a:pt x="40" y="3"/>
                    </a:lnTo>
                    <a:lnTo>
                      <a:pt x="42" y="3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6" y="0"/>
                    </a:lnTo>
                    <a:lnTo>
                      <a:pt x="46" y="1"/>
                    </a:lnTo>
                    <a:lnTo>
                      <a:pt x="46" y="1"/>
                    </a:lnTo>
                    <a:lnTo>
                      <a:pt x="46" y="3"/>
                    </a:lnTo>
                    <a:lnTo>
                      <a:pt x="44" y="5"/>
                    </a:lnTo>
                    <a:lnTo>
                      <a:pt x="44" y="5"/>
                    </a:lnTo>
                    <a:lnTo>
                      <a:pt x="44" y="7"/>
                    </a:lnTo>
                    <a:lnTo>
                      <a:pt x="44" y="9"/>
                    </a:lnTo>
                    <a:lnTo>
                      <a:pt x="44" y="9"/>
                    </a:lnTo>
                    <a:close/>
                    <a:moveTo>
                      <a:pt x="0" y="2548"/>
                    </a:moveTo>
                    <a:lnTo>
                      <a:pt x="9" y="2546"/>
                    </a:lnTo>
                    <a:lnTo>
                      <a:pt x="9" y="2546"/>
                    </a:lnTo>
                    <a:lnTo>
                      <a:pt x="9" y="2546"/>
                    </a:lnTo>
                    <a:lnTo>
                      <a:pt x="9" y="2548"/>
                    </a:lnTo>
                    <a:lnTo>
                      <a:pt x="9" y="2548"/>
                    </a:lnTo>
                    <a:lnTo>
                      <a:pt x="9" y="2548"/>
                    </a:lnTo>
                    <a:lnTo>
                      <a:pt x="9" y="2548"/>
                    </a:lnTo>
                    <a:lnTo>
                      <a:pt x="9" y="2548"/>
                    </a:lnTo>
                    <a:lnTo>
                      <a:pt x="9" y="2548"/>
                    </a:lnTo>
                    <a:lnTo>
                      <a:pt x="7" y="2548"/>
                    </a:lnTo>
                    <a:lnTo>
                      <a:pt x="7" y="2548"/>
                    </a:lnTo>
                    <a:lnTo>
                      <a:pt x="6" y="2548"/>
                    </a:lnTo>
                    <a:lnTo>
                      <a:pt x="6" y="2548"/>
                    </a:lnTo>
                    <a:lnTo>
                      <a:pt x="4" y="2548"/>
                    </a:lnTo>
                    <a:lnTo>
                      <a:pt x="4" y="2548"/>
                    </a:lnTo>
                    <a:lnTo>
                      <a:pt x="2" y="2548"/>
                    </a:lnTo>
                    <a:lnTo>
                      <a:pt x="0" y="2548"/>
                    </a:lnTo>
                    <a:close/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Freeform 10"/>
              <p:cNvSpPr/>
              <p:nvPr/>
            </p:nvSpPr>
            <p:spPr>
              <a:xfrm>
                <a:off x="2709000" y="1033200"/>
                <a:ext cx="115920" cy="428544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4285440"/>
                  <a:gd name="textAreaBottom" fmla="*/ 4285800 h 4285440"/>
                </a:gdLst>
                <a:ahLst/>
                <a:rect l="textAreaLeft" t="textAreaTop" r="textAreaRight" b="textAreaBottom"/>
                <a:pathLst>
                  <a:path w="69" h="2545">
                    <a:moveTo>
                      <a:pt x="69" y="2"/>
                    </a:moveTo>
                    <a:lnTo>
                      <a:pt x="65" y="0"/>
                    </a:lnTo>
                    <a:lnTo>
                      <a:pt x="65" y="2"/>
                    </a:lnTo>
                    <a:lnTo>
                      <a:pt x="63" y="2"/>
                    </a:lnTo>
                    <a:lnTo>
                      <a:pt x="61" y="4"/>
                    </a:lnTo>
                    <a:lnTo>
                      <a:pt x="61" y="4"/>
                    </a:lnTo>
                    <a:lnTo>
                      <a:pt x="59" y="6"/>
                    </a:lnTo>
                    <a:lnTo>
                      <a:pt x="57" y="6"/>
                    </a:lnTo>
                    <a:lnTo>
                      <a:pt x="57" y="8"/>
                    </a:lnTo>
                    <a:lnTo>
                      <a:pt x="56" y="8"/>
                    </a:lnTo>
                    <a:lnTo>
                      <a:pt x="69" y="12"/>
                    </a:lnTo>
                    <a:lnTo>
                      <a:pt x="69" y="10"/>
                    </a:lnTo>
                    <a:lnTo>
                      <a:pt x="69" y="10"/>
                    </a:lnTo>
                    <a:lnTo>
                      <a:pt x="69" y="8"/>
                    </a:lnTo>
                    <a:lnTo>
                      <a:pt x="69" y="6"/>
                    </a:lnTo>
                    <a:lnTo>
                      <a:pt x="69" y="6"/>
                    </a:lnTo>
                    <a:lnTo>
                      <a:pt x="69" y="4"/>
                    </a:lnTo>
                    <a:lnTo>
                      <a:pt x="69" y="2"/>
                    </a:lnTo>
                    <a:lnTo>
                      <a:pt x="69" y="2"/>
                    </a:lnTo>
                    <a:close/>
                    <a:moveTo>
                      <a:pt x="0" y="2545"/>
                    </a:moveTo>
                    <a:lnTo>
                      <a:pt x="11" y="2543"/>
                    </a:lnTo>
                    <a:lnTo>
                      <a:pt x="32" y="2539"/>
                    </a:lnTo>
                    <a:lnTo>
                      <a:pt x="32" y="2539"/>
                    </a:lnTo>
                    <a:lnTo>
                      <a:pt x="32" y="2539"/>
                    </a:lnTo>
                    <a:lnTo>
                      <a:pt x="32" y="2541"/>
                    </a:lnTo>
                    <a:lnTo>
                      <a:pt x="32" y="2541"/>
                    </a:lnTo>
                    <a:lnTo>
                      <a:pt x="32" y="2543"/>
                    </a:lnTo>
                    <a:lnTo>
                      <a:pt x="34" y="2543"/>
                    </a:lnTo>
                    <a:lnTo>
                      <a:pt x="34" y="2545"/>
                    </a:lnTo>
                    <a:lnTo>
                      <a:pt x="34" y="2545"/>
                    </a:lnTo>
                    <a:lnTo>
                      <a:pt x="31" y="2545"/>
                    </a:lnTo>
                    <a:lnTo>
                      <a:pt x="25" y="2545"/>
                    </a:lnTo>
                    <a:lnTo>
                      <a:pt x="21" y="2545"/>
                    </a:lnTo>
                    <a:lnTo>
                      <a:pt x="17" y="2545"/>
                    </a:lnTo>
                    <a:lnTo>
                      <a:pt x="13" y="2545"/>
                    </a:lnTo>
                    <a:lnTo>
                      <a:pt x="9" y="2545"/>
                    </a:lnTo>
                    <a:lnTo>
                      <a:pt x="6" y="2545"/>
                    </a:lnTo>
                    <a:lnTo>
                      <a:pt x="0" y="2545"/>
                    </a:lnTo>
                    <a:close/>
                  </a:path>
                </a:pathLst>
              </a:custGeom>
              <a:solidFill>
                <a:srgbClr val="01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Freeform 11"/>
              <p:cNvSpPr/>
              <p:nvPr/>
            </p:nvSpPr>
            <p:spPr>
              <a:xfrm>
                <a:off x="2660400" y="1040040"/>
                <a:ext cx="164880" cy="4278600"/>
              </a:xfrm>
              <a:custGeom>
                <a:avLst/>
                <a:gdLst>
                  <a:gd name="textAreaLeft" fmla="*/ 0 w 164880"/>
                  <a:gd name="textAreaRight" fmla="*/ 165240 w 164880"/>
                  <a:gd name="textAreaTop" fmla="*/ 0 h 4278600"/>
                  <a:gd name="textAreaBottom" fmla="*/ 4278960 h 4278600"/>
                </a:gdLst>
                <a:ahLst/>
                <a:rect l="textAreaLeft" t="textAreaTop" r="textAreaRight" b="textAreaBottom"/>
                <a:pathLst>
                  <a:path w="98" h="2541">
                    <a:moveTo>
                      <a:pt x="98" y="2"/>
                    </a:moveTo>
                    <a:lnTo>
                      <a:pt x="90" y="0"/>
                    </a:lnTo>
                    <a:lnTo>
                      <a:pt x="88" y="2"/>
                    </a:lnTo>
                    <a:lnTo>
                      <a:pt x="86" y="2"/>
                    </a:lnTo>
                    <a:lnTo>
                      <a:pt x="86" y="4"/>
                    </a:lnTo>
                    <a:lnTo>
                      <a:pt x="85" y="4"/>
                    </a:lnTo>
                    <a:lnTo>
                      <a:pt x="83" y="6"/>
                    </a:lnTo>
                    <a:lnTo>
                      <a:pt x="83" y="8"/>
                    </a:lnTo>
                    <a:lnTo>
                      <a:pt x="81" y="8"/>
                    </a:lnTo>
                    <a:lnTo>
                      <a:pt x="79" y="10"/>
                    </a:lnTo>
                    <a:lnTo>
                      <a:pt x="96" y="14"/>
                    </a:lnTo>
                    <a:lnTo>
                      <a:pt x="96" y="12"/>
                    </a:lnTo>
                    <a:lnTo>
                      <a:pt x="96" y="10"/>
                    </a:lnTo>
                    <a:lnTo>
                      <a:pt x="96" y="10"/>
                    </a:lnTo>
                    <a:lnTo>
                      <a:pt x="98" y="8"/>
                    </a:lnTo>
                    <a:lnTo>
                      <a:pt x="98" y="6"/>
                    </a:lnTo>
                    <a:lnTo>
                      <a:pt x="98" y="6"/>
                    </a:lnTo>
                    <a:lnTo>
                      <a:pt x="98" y="4"/>
                    </a:lnTo>
                    <a:lnTo>
                      <a:pt x="98" y="2"/>
                    </a:lnTo>
                    <a:close/>
                    <a:moveTo>
                      <a:pt x="54" y="2541"/>
                    </a:moveTo>
                    <a:lnTo>
                      <a:pt x="63" y="2539"/>
                    </a:lnTo>
                    <a:lnTo>
                      <a:pt x="61" y="2539"/>
                    </a:lnTo>
                    <a:lnTo>
                      <a:pt x="61" y="2537"/>
                    </a:lnTo>
                    <a:lnTo>
                      <a:pt x="61" y="2535"/>
                    </a:lnTo>
                    <a:lnTo>
                      <a:pt x="61" y="2535"/>
                    </a:lnTo>
                    <a:lnTo>
                      <a:pt x="61" y="2533"/>
                    </a:lnTo>
                    <a:lnTo>
                      <a:pt x="61" y="2531"/>
                    </a:lnTo>
                    <a:lnTo>
                      <a:pt x="61" y="2531"/>
                    </a:lnTo>
                    <a:lnTo>
                      <a:pt x="61" y="2529"/>
                    </a:lnTo>
                    <a:lnTo>
                      <a:pt x="38" y="2535"/>
                    </a:lnTo>
                    <a:lnTo>
                      <a:pt x="0" y="2541"/>
                    </a:lnTo>
                    <a:lnTo>
                      <a:pt x="8" y="2541"/>
                    </a:lnTo>
                    <a:lnTo>
                      <a:pt x="13" y="2541"/>
                    </a:lnTo>
                    <a:lnTo>
                      <a:pt x="21" y="2541"/>
                    </a:lnTo>
                    <a:lnTo>
                      <a:pt x="27" y="2541"/>
                    </a:lnTo>
                    <a:lnTo>
                      <a:pt x="35" y="2541"/>
                    </a:lnTo>
                    <a:lnTo>
                      <a:pt x="40" y="2541"/>
                    </a:lnTo>
                    <a:lnTo>
                      <a:pt x="48" y="2541"/>
                    </a:lnTo>
                    <a:lnTo>
                      <a:pt x="54" y="2541"/>
                    </a:lnTo>
                    <a:close/>
                  </a:path>
                </a:pathLst>
              </a:custGeom>
              <a:solidFill>
                <a:srgbClr val="02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Freeform 12"/>
              <p:cNvSpPr/>
              <p:nvPr/>
            </p:nvSpPr>
            <p:spPr>
              <a:xfrm>
                <a:off x="2607840" y="1046520"/>
                <a:ext cx="217080" cy="4272120"/>
              </a:xfrm>
              <a:custGeom>
                <a:avLst/>
                <a:gdLst>
                  <a:gd name="textAreaLeft" fmla="*/ 0 w 217080"/>
                  <a:gd name="textAreaRight" fmla="*/ 217440 w 217080"/>
                  <a:gd name="textAreaTop" fmla="*/ 0 h 4272120"/>
                  <a:gd name="textAreaBottom" fmla="*/ 4272480 h 4272120"/>
                </a:gdLst>
                <a:ahLst/>
                <a:rect l="textAreaLeft" t="textAreaTop" r="textAreaRight" b="textAreaBottom"/>
                <a:pathLst>
                  <a:path w="129" h="2537">
                    <a:moveTo>
                      <a:pt x="129" y="4"/>
                    </a:moveTo>
                    <a:lnTo>
                      <a:pt x="116" y="0"/>
                    </a:lnTo>
                    <a:lnTo>
                      <a:pt x="114" y="2"/>
                    </a:lnTo>
                    <a:lnTo>
                      <a:pt x="114" y="4"/>
                    </a:lnTo>
                    <a:lnTo>
                      <a:pt x="112" y="4"/>
                    </a:lnTo>
                    <a:lnTo>
                      <a:pt x="110" y="6"/>
                    </a:lnTo>
                    <a:lnTo>
                      <a:pt x="110" y="6"/>
                    </a:lnTo>
                    <a:lnTo>
                      <a:pt x="108" y="8"/>
                    </a:lnTo>
                    <a:lnTo>
                      <a:pt x="106" y="8"/>
                    </a:lnTo>
                    <a:lnTo>
                      <a:pt x="106" y="10"/>
                    </a:lnTo>
                    <a:lnTo>
                      <a:pt x="127" y="13"/>
                    </a:lnTo>
                    <a:lnTo>
                      <a:pt x="127" y="13"/>
                    </a:lnTo>
                    <a:lnTo>
                      <a:pt x="127" y="12"/>
                    </a:lnTo>
                    <a:lnTo>
                      <a:pt x="127" y="10"/>
                    </a:lnTo>
                    <a:lnTo>
                      <a:pt x="127" y="10"/>
                    </a:lnTo>
                    <a:lnTo>
                      <a:pt x="127" y="8"/>
                    </a:lnTo>
                    <a:lnTo>
                      <a:pt x="127" y="6"/>
                    </a:lnTo>
                    <a:lnTo>
                      <a:pt x="127" y="6"/>
                    </a:lnTo>
                    <a:lnTo>
                      <a:pt x="129" y="4"/>
                    </a:lnTo>
                    <a:close/>
                    <a:moveTo>
                      <a:pt x="60" y="2537"/>
                    </a:moveTo>
                    <a:lnTo>
                      <a:pt x="71" y="2535"/>
                    </a:lnTo>
                    <a:lnTo>
                      <a:pt x="92" y="2531"/>
                    </a:lnTo>
                    <a:lnTo>
                      <a:pt x="92" y="2529"/>
                    </a:lnTo>
                    <a:lnTo>
                      <a:pt x="92" y="2527"/>
                    </a:lnTo>
                    <a:lnTo>
                      <a:pt x="92" y="2527"/>
                    </a:lnTo>
                    <a:lnTo>
                      <a:pt x="91" y="2525"/>
                    </a:lnTo>
                    <a:lnTo>
                      <a:pt x="91" y="2523"/>
                    </a:lnTo>
                    <a:lnTo>
                      <a:pt x="91" y="2523"/>
                    </a:lnTo>
                    <a:lnTo>
                      <a:pt x="91" y="2521"/>
                    </a:lnTo>
                    <a:lnTo>
                      <a:pt x="91" y="2519"/>
                    </a:lnTo>
                    <a:lnTo>
                      <a:pt x="69" y="2525"/>
                    </a:lnTo>
                    <a:lnTo>
                      <a:pt x="6" y="2537"/>
                    </a:lnTo>
                    <a:lnTo>
                      <a:pt x="0" y="2537"/>
                    </a:lnTo>
                    <a:lnTo>
                      <a:pt x="8" y="2537"/>
                    </a:lnTo>
                    <a:lnTo>
                      <a:pt x="16" y="2537"/>
                    </a:lnTo>
                    <a:lnTo>
                      <a:pt x="23" y="2537"/>
                    </a:lnTo>
                    <a:lnTo>
                      <a:pt x="31" y="2537"/>
                    </a:lnTo>
                    <a:lnTo>
                      <a:pt x="39" y="2537"/>
                    </a:lnTo>
                    <a:lnTo>
                      <a:pt x="46" y="2537"/>
                    </a:lnTo>
                    <a:lnTo>
                      <a:pt x="52" y="2537"/>
                    </a:lnTo>
                    <a:lnTo>
                      <a:pt x="60" y="2537"/>
                    </a:lnTo>
                    <a:close/>
                  </a:path>
                </a:pathLst>
              </a:custGeom>
              <a:solidFill>
                <a:srgbClr val="039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Freeform 13"/>
              <p:cNvSpPr/>
              <p:nvPr/>
            </p:nvSpPr>
            <p:spPr>
              <a:xfrm>
                <a:off x="2540880" y="1056960"/>
                <a:ext cx="280800" cy="4261680"/>
              </a:xfrm>
              <a:custGeom>
                <a:avLst/>
                <a:gdLst>
                  <a:gd name="textAreaLeft" fmla="*/ 0 w 280800"/>
                  <a:gd name="textAreaRight" fmla="*/ 281160 w 280800"/>
                  <a:gd name="textAreaTop" fmla="*/ 0 h 4261680"/>
                  <a:gd name="textAreaBottom" fmla="*/ 4262040 h 4261680"/>
                </a:gdLst>
                <a:ahLst/>
                <a:rect l="textAreaLeft" t="textAreaTop" r="textAreaRight" b="textAreaBottom"/>
                <a:pathLst>
                  <a:path w="167" h="2531">
                    <a:moveTo>
                      <a:pt x="167" y="4"/>
                    </a:moveTo>
                    <a:lnTo>
                      <a:pt x="150" y="0"/>
                    </a:lnTo>
                    <a:lnTo>
                      <a:pt x="150" y="0"/>
                    </a:lnTo>
                    <a:lnTo>
                      <a:pt x="148" y="2"/>
                    </a:lnTo>
                    <a:lnTo>
                      <a:pt x="146" y="2"/>
                    </a:lnTo>
                    <a:lnTo>
                      <a:pt x="146" y="4"/>
                    </a:lnTo>
                    <a:lnTo>
                      <a:pt x="144" y="4"/>
                    </a:lnTo>
                    <a:lnTo>
                      <a:pt x="142" y="6"/>
                    </a:lnTo>
                    <a:lnTo>
                      <a:pt x="142" y="6"/>
                    </a:lnTo>
                    <a:lnTo>
                      <a:pt x="140" y="7"/>
                    </a:lnTo>
                    <a:lnTo>
                      <a:pt x="165" y="13"/>
                    </a:lnTo>
                    <a:lnTo>
                      <a:pt x="165" y="11"/>
                    </a:lnTo>
                    <a:lnTo>
                      <a:pt x="165" y="11"/>
                    </a:lnTo>
                    <a:lnTo>
                      <a:pt x="165" y="9"/>
                    </a:lnTo>
                    <a:lnTo>
                      <a:pt x="167" y="7"/>
                    </a:lnTo>
                    <a:lnTo>
                      <a:pt x="167" y="7"/>
                    </a:lnTo>
                    <a:lnTo>
                      <a:pt x="167" y="6"/>
                    </a:lnTo>
                    <a:lnTo>
                      <a:pt x="167" y="4"/>
                    </a:lnTo>
                    <a:lnTo>
                      <a:pt x="167" y="4"/>
                    </a:lnTo>
                    <a:close/>
                    <a:moveTo>
                      <a:pt x="71" y="2531"/>
                    </a:moveTo>
                    <a:lnTo>
                      <a:pt x="109" y="2525"/>
                    </a:lnTo>
                    <a:lnTo>
                      <a:pt x="132" y="2519"/>
                    </a:lnTo>
                    <a:lnTo>
                      <a:pt x="131" y="2517"/>
                    </a:lnTo>
                    <a:lnTo>
                      <a:pt x="131" y="2517"/>
                    </a:lnTo>
                    <a:lnTo>
                      <a:pt x="131" y="2515"/>
                    </a:lnTo>
                    <a:lnTo>
                      <a:pt x="131" y="2513"/>
                    </a:lnTo>
                    <a:lnTo>
                      <a:pt x="131" y="2513"/>
                    </a:lnTo>
                    <a:lnTo>
                      <a:pt x="131" y="2511"/>
                    </a:lnTo>
                    <a:lnTo>
                      <a:pt x="131" y="2509"/>
                    </a:lnTo>
                    <a:lnTo>
                      <a:pt x="129" y="2509"/>
                    </a:lnTo>
                    <a:lnTo>
                      <a:pt x="108" y="2513"/>
                    </a:lnTo>
                    <a:lnTo>
                      <a:pt x="44" y="2525"/>
                    </a:lnTo>
                    <a:lnTo>
                      <a:pt x="0" y="2531"/>
                    </a:lnTo>
                    <a:lnTo>
                      <a:pt x="10" y="2531"/>
                    </a:lnTo>
                    <a:lnTo>
                      <a:pt x="17" y="2531"/>
                    </a:lnTo>
                    <a:lnTo>
                      <a:pt x="27" y="2531"/>
                    </a:lnTo>
                    <a:lnTo>
                      <a:pt x="37" y="2531"/>
                    </a:lnTo>
                    <a:lnTo>
                      <a:pt x="44" y="2531"/>
                    </a:lnTo>
                    <a:lnTo>
                      <a:pt x="54" y="2531"/>
                    </a:lnTo>
                    <a:lnTo>
                      <a:pt x="61" y="2531"/>
                    </a:lnTo>
                    <a:lnTo>
                      <a:pt x="71" y="2531"/>
                    </a:lnTo>
                    <a:close/>
                  </a:path>
                </a:pathLst>
              </a:custGeom>
              <a:solidFill>
                <a:srgbClr val="049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Freeform 14"/>
              <p:cNvSpPr/>
              <p:nvPr/>
            </p:nvSpPr>
            <p:spPr>
              <a:xfrm>
                <a:off x="2449800" y="1063440"/>
                <a:ext cx="371880" cy="4255200"/>
              </a:xfrm>
              <a:custGeom>
                <a:avLst/>
                <a:gdLst>
                  <a:gd name="textAreaLeft" fmla="*/ 0 w 371880"/>
                  <a:gd name="textAreaRight" fmla="*/ 372240 w 371880"/>
                  <a:gd name="textAreaTop" fmla="*/ 0 h 4255200"/>
                  <a:gd name="textAreaBottom" fmla="*/ 4255560 h 4255200"/>
                </a:gdLst>
                <a:ahLst/>
                <a:rect l="textAreaLeft" t="textAreaTop" r="textAreaRight" b="textAreaBottom"/>
                <a:pathLst>
                  <a:path w="221" h="2527">
                    <a:moveTo>
                      <a:pt x="221" y="3"/>
                    </a:moveTo>
                    <a:lnTo>
                      <a:pt x="200" y="0"/>
                    </a:lnTo>
                    <a:lnTo>
                      <a:pt x="198" y="0"/>
                    </a:lnTo>
                    <a:lnTo>
                      <a:pt x="196" y="2"/>
                    </a:lnTo>
                    <a:lnTo>
                      <a:pt x="196" y="2"/>
                    </a:lnTo>
                    <a:lnTo>
                      <a:pt x="194" y="3"/>
                    </a:lnTo>
                    <a:lnTo>
                      <a:pt x="192" y="3"/>
                    </a:lnTo>
                    <a:lnTo>
                      <a:pt x="192" y="5"/>
                    </a:lnTo>
                    <a:lnTo>
                      <a:pt x="190" y="7"/>
                    </a:lnTo>
                    <a:lnTo>
                      <a:pt x="190" y="7"/>
                    </a:lnTo>
                    <a:lnTo>
                      <a:pt x="219" y="15"/>
                    </a:lnTo>
                    <a:lnTo>
                      <a:pt x="219" y="13"/>
                    </a:lnTo>
                    <a:lnTo>
                      <a:pt x="219" y="11"/>
                    </a:lnTo>
                    <a:lnTo>
                      <a:pt x="219" y="11"/>
                    </a:lnTo>
                    <a:lnTo>
                      <a:pt x="219" y="9"/>
                    </a:lnTo>
                    <a:lnTo>
                      <a:pt x="219" y="7"/>
                    </a:lnTo>
                    <a:lnTo>
                      <a:pt x="219" y="7"/>
                    </a:lnTo>
                    <a:lnTo>
                      <a:pt x="219" y="5"/>
                    </a:lnTo>
                    <a:lnTo>
                      <a:pt x="221" y="3"/>
                    </a:lnTo>
                    <a:close/>
                    <a:moveTo>
                      <a:pt x="94" y="2527"/>
                    </a:moveTo>
                    <a:lnTo>
                      <a:pt x="100" y="2527"/>
                    </a:lnTo>
                    <a:lnTo>
                      <a:pt x="163" y="2515"/>
                    </a:lnTo>
                    <a:lnTo>
                      <a:pt x="185" y="2509"/>
                    </a:lnTo>
                    <a:lnTo>
                      <a:pt x="185" y="2509"/>
                    </a:lnTo>
                    <a:lnTo>
                      <a:pt x="185" y="2507"/>
                    </a:lnTo>
                    <a:lnTo>
                      <a:pt x="185" y="2505"/>
                    </a:lnTo>
                    <a:lnTo>
                      <a:pt x="183" y="2505"/>
                    </a:lnTo>
                    <a:lnTo>
                      <a:pt x="183" y="2503"/>
                    </a:lnTo>
                    <a:lnTo>
                      <a:pt x="183" y="2502"/>
                    </a:lnTo>
                    <a:lnTo>
                      <a:pt x="183" y="2502"/>
                    </a:lnTo>
                    <a:lnTo>
                      <a:pt x="183" y="2500"/>
                    </a:lnTo>
                    <a:lnTo>
                      <a:pt x="162" y="2505"/>
                    </a:lnTo>
                    <a:lnTo>
                      <a:pt x="98" y="2517"/>
                    </a:lnTo>
                    <a:lnTo>
                      <a:pt x="33" y="2525"/>
                    </a:lnTo>
                    <a:lnTo>
                      <a:pt x="0" y="2527"/>
                    </a:lnTo>
                    <a:lnTo>
                      <a:pt x="12" y="2527"/>
                    </a:lnTo>
                    <a:lnTo>
                      <a:pt x="23" y="2527"/>
                    </a:lnTo>
                    <a:lnTo>
                      <a:pt x="35" y="2527"/>
                    </a:lnTo>
                    <a:lnTo>
                      <a:pt x="48" y="2527"/>
                    </a:lnTo>
                    <a:lnTo>
                      <a:pt x="60" y="2527"/>
                    </a:lnTo>
                    <a:lnTo>
                      <a:pt x="71" y="2527"/>
                    </a:lnTo>
                    <a:lnTo>
                      <a:pt x="83" y="2527"/>
                    </a:lnTo>
                    <a:lnTo>
                      <a:pt x="94" y="2527"/>
                    </a:lnTo>
                    <a:close/>
                  </a:path>
                </a:pathLst>
              </a:custGeom>
              <a:solidFill>
                <a:srgbClr val="059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Freeform 15"/>
              <p:cNvSpPr/>
              <p:nvPr/>
            </p:nvSpPr>
            <p:spPr>
              <a:xfrm>
                <a:off x="2220840" y="1068840"/>
                <a:ext cx="597960" cy="4249800"/>
              </a:xfrm>
              <a:custGeom>
                <a:avLst/>
                <a:gdLst>
                  <a:gd name="textAreaLeft" fmla="*/ 0 w 597960"/>
                  <a:gd name="textAreaRight" fmla="*/ 598320 w 597960"/>
                  <a:gd name="textAreaTop" fmla="*/ 0 h 4249800"/>
                  <a:gd name="textAreaBottom" fmla="*/ 4250160 h 4249800"/>
                </a:gdLst>
                <a:ahLst/>
                <a:rect l="textAreaLeft" t="textAreaTop" r="textAreaRight" b="textAreaBottom"/>
                <a:pathLst>
                  <a:path w="355" h="2524">
                    <a:moveTo>
                      <a:pt x="355" y="6"/>
                    </a:moveTo>
                    <a:lnTo>
                      <a:pt x="330" y="0"/>
                    </a:lnTo>
                    <a:lnTo>
                      <a:pt x="328" y="0"/>
                    </a:lnTo>
                    <a:lnTo>
                      <a:pt x="328" y="2"/>
                    </a:lnTo>
                    <a:lnTo>
                      <a:pt x="326" y="4"/>
                    </a:lnTo>
                    <a:lnTo>
                      <a:pt x="326" y="4"/>
                    </a:lnTo>
                    <a:lnTo>
                      <a:pt x="324" y="6"/>
                    </a:lnTo>
                    <a:lnTo>
                      <a:pt x="322" y="6"/>
                    </a:lnTo>
                    <a:lnTo>
                      <a:pt x="322" y="8"/>
                    </a:lnTo>
                    <a:lnTo>
                      <a:pt x="321" y="8"/>
                    </a:lnTo>
                    <a:lnTo>
                      <a:pt x="353" y="16"/>
                    </a:lnTo>
                    <a:lnTo>
                      <a:pt x="353" y="16"/>
                    </a:lnTo>
                    <a:lnTo>
                      <a:pt x="353" y="14"/>
                    </a:lnTo>
                    <a:lnTo>
                      <a:pt x="355" y="12"/>
                    </a:lnTo>
                    <a:lnTo>
                      <a:pt x="355" y="12"/>
                    </a:lnTo>
                    <a:lnTo>
                      <a:pt x="355" y="10"/>
                    </a:lnTo>
                    <a:lnTo>
                      <a:pt x="355" y="8"/>
                    </a:lnTo>
                    <a:lnTo>
                      <a:pt x="355" y="8"/>
                    </a:lnTo>
                    <a:lnTo>
                      <a:pt x="355" y="6"/>
                    </a:lnTo>
                    <a:close/>
                    <a:moveTo>
                      <a:pt x="190" y="2524"/>
                    </a:moveTo>
                    <a:lnTo>
                      <a:pt x="234" y="2518"/>
                    </a:lnTo>
                    <a:lnTo>
                      <a:pt x="298" y="2506"/>
                    </a:lnTo>
                    <a:lnTo>
                      <a:pt x="319" y="2502"/>
                    </a:lnTo>
                    <a:lnTo>
                      <a:pt x="319" y="2500"/>
                    </a:lnTo>
                    <a:lnTo>
                      <a:pt x="319" y="2499"/>
                    </a:lnTo>
                    <a:lnTo>
                      <a:pt x="319" y="2499"/>
                    </a:lnTo>
                    <a:lnTo>
                      <a:pt x="319" y="2497"/>
                    </a:lnTo>
                    <a:lnTo>
                      <a:pt x="319" y="2495"/>
                    </a:lnTo>
                    <a:lnTo>
                      <a:pt x="319" y="2495"/>
                    </a:lnTo>
                    <a:lnTo>
                      <a:pt x="319" y="2493"/>
                    </a:lnTo>
                    <a:lnTo>
                      <a:pt x="317" y="2491"/>
                    </a:lnTo>
                    <a:lnTo>
                      <a:pt x="296" y="2497"/>
                    </a:lnTo>
                    <a:lnTo>
                      <a:pt x="232" y="2508"/>
                    </a:lnTo>
                    <a:lnTo>
                      <a:pt x="169" y="2516"/>
                    </a:lnTo>
                    <a:lnTo>
                      <a:pt x="104" y="2522"/>
                    </a:lnTo>
                    <a:lnTo>
                      <a:pt x="38" y="2524"/>
                    </a:lnTo>
                    <a:lnTo>
                      <a:pt x="0" y="2522"/>
                    </a:lnTo>
                    <a:lnTo>
                      <a:pt x="0" y="2522"/>
                    </a:lnTo>
                    <a:lnTo>
                      <a:pt x="0" y="2522"/>
                    </a:lnTo>
                    <a:lnTo>
                      <a:pt x="0" y="2522"/>
                    </a:lnTo>
                    <a:lnTo>
                      <a:pt x="0" y="2524"/>
                    </a:lnTo>
                    <a:lnTo>
                      <a:pt x="0" y="2524"/>
                    </a:lnTo>
                    <a:lnTo>
                      <a:pt x="0" y="2524"/>
                    </a:lnTo>
                    <a:lnTo>
                      <a:pt x="0" y="2524"/>
                    </a:lnTo>
                    <a:lnTo>
                      <a:pt x="0" y="2524"/>
                    </a:lnTo>
                    <a:lnTo>
                      <a:pt x="27" y="2524"/>
                    </a:lnTo>
                    <a:lnTo>
                      <a:pt x="50" y="2524"/>
                    </a:lnTo>
                    <a:lnTo>
                      <a:pt x="75" y="2524"/>
                    </a:lnTo>
                    <a:lnTo>
                      <a:pt x="98" y="2524"/>
                    </a:lnTo>
                    <a:lnTo>
                      <a:pt x="121" y="2524"/>
                    </a:lnTo>
                    <a:lnTo>
                      <a:pt x="144" y="2524"/>
                    </a:lnTo>
                    <a:lnTo>
                      <a:pt x="167" y="2524"/>
                    </a:lnTo>
                    <a:lnTo>
                      <a:pt x="190" y="2524"/>
                    </a:lnTo>
                    <a:close/>
                  </a:path>
                </a:pathLst>
              </a:custGeom>
              <a:solidFill>
                <a:srgbClr val="069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Freeform 16"/>
              <p:cNvSpPr/>
              <p:nvPr/>
            </p:nvSpPr>
            <p:spPr>
              <a:xfrm>
                <a:off x="2217240" y="1075320"/>
                <a:ext cx="601200" cy="4243320"/>
              </a:xfrm>
              <a:custGeom>
                <a:avLst/>
                <a:gdLst>
                  <a:gd name="textAreaLeft" fmla="*/ 0 w 601200"/>
                  <a:gd name="textAreaRight" fmla="*/ 601560 w 601200"/>
                  <a:gd name="textAreaTop" fmla="*/ 0 h 4243320"/>
                  <a:gd name="textAreaBottom" fmla="*/ 4243680 h 4243320"/>
                </a:gdLst>
                <a:ahLst/>
                <a:rect l="textAreaLeft" t="textAreaTop" r="textAreaRight" b="textAreaBottom"/>
                <a:pathLst>
                  <a:path w="357" h="2520">
                    <a:moveTo>
                      <a:pt x="357" y="8"/>
                    </a:moveTo>
                    <a:lnTo>
                      <a:pt x="328" y="0"/>
                    </a:lnTo>
                    <a:lnTo>
                      <a:pt x="326" y="2"/>
                    </a:lnTo>
                    <a:lnTo>
                      <a:pt x="324" y="2"/>
                    </a:lnTo>
                    <a:lnTo>
                      <a:pt x="324" y="4"/>
                    </a:lnTo>
                    <a:lnTo>
                      <a:pt x="323" y="4"/>
                    </a:lnTo>
                    <a:lnTo>
                      <a:pt x="321" y="6"/>
                    </a:lnTo>
                    <a:lnTo>
                      <a:pt x="321" y="6"/>
                    </a:lnTo>
                    <a:lnTo>
                      <a:pt x="319" y="8"/>
                    </a:lnTo>
                    <a:lnTo>
                      <a:pt x="317" y="8"/>
                    </a:lnTo>
                    <a:lnTo>
                      <a:pt x="355" y="18"/>
                    </a:lnTo>
                    <a:lnTo>
                      <a:pt x="355" y="16"/>
                    </a:lnTo>
                    <a:lnTo>
                      <a:pt x="355" y="16"/>
                    </a:lnTo>
                    <a:lnTo>
                      <a:pt x="355" y="14"/>
                    </a:lnTo>
                    <a:lnTo>
                      <a:pt x="355" y="12"/>
                    </a:lnTo>
                    <a:lnTo>
                      <a:pt x="355" y="12"/>
                    </a:lnTo>
                    <a:lnTo>
                      <a:pt x="355" y="10"/>
                    </a:lnTo>
                    <a:lnTo>
                      <a:pt x="357" y="8"/>
                    </a:lnTo>
                    <a:lnTo>
                      <a:pt x="357" y="8"/>
                    </a:lnTo>
                    <a:close/>
                    <a:moveTo>
                      <a:pt x="138" y="2520"/>
                    </a:moveTo>
                    <a:lnTo>
                      <a:pt x="171" y="2518"/>
                    </a:lnTo>
                    <a:lnTo>
                      <a:pt x="236" y="2510"/>
                    </a:lnTo>
                    <a:lnTo>
                      <a:pt x="300" y="2498"/>
                    </a:lnTo>
                    <a:lnTo>
                      <a:pt x="321" y="2493"/>
                    </a:lnTo>
                    <a:lnTo>
                      <a:pt x="321" y="2491"/>
                    </a:lnTo>
                    <a:lnTo>
                      <a:pt x="321" y="2491"/>
                    </a:lnTo>
                    <a:lnTo>
                      <a:pt x="321" y="2489"/>
                    </a:lnTo>
                    <a:lnTo>
                      <a:pt x="319" y="2487"/>
                    </a:lnTo>
                    <a:lnTo>
                      <a:pt x="319" y="2487"/>
                    </a:lnTo>
                    <a:lnTo>
                      <a:pt x="319" y="2485"/>
                    </a:lnTo>
                    <a:lnTo>
                      <a:pt x="319" y="2483"/>
                    </a:lnTo>
                    <a:lnTo>
                      <a:pt x="319" y="2483"/>
                    </a:lnTo>
                    <a:lnTo>
                      <a:pt x="296" y="2487"/>
                    </a:lnTo>
                    <a:lnTo>
                      <a:pt x="234" y="2498"/>
                    </a:lnTo>
                    <a:lnTo>
                      <a:pt x="171" y="2506"/>
                    </a:lnTo>
                    <a:lnTo>
                      <a:pt x="106" y="2512"/>
                    </a:lnTo>
                    <a:lnTo>
                      <a:pt x="40" y="2514"/>
                    </a:lnTo>
                    <a:lnTo>
                      <a:pt x="0" y="2512"/>
                    </a:lnTo>
                    <a:lnTo>
                      <a:pt x="0" y="2514"/>
                    </a:lnTo>
                    <a:lnTo>
                      <a:pt x="0" y="2514"/>
                    </a:lnTo>
                    <a:lnTo>
                      <a:pt x="2" y="2516"/>
                    </a:lnTo>
                    <a:lnTo>
                      <a:pt x="2" y="2516"/>
                    </a:lnTo>
                    <a:lnTo>
                      <a:pt x="2" y="2518"/>
                    </a:lnTo>
                    <a:lnTo>
                      <a:pt x="2" y="2518"/>
                    </a:lnTo>
                    <a:lnTo>
                      <a:pt x="2" y="2520"/>
                    </a:lnTo>
                    <a:lnTo>
                      <a:pt x="2" y="2520"/>
                    </a:lnTo>
                    <a:lnTo>
                      <a:pt x="21" y="2520"/>
                    </a:lnTo>
                    <a:lnTo>
                      <a:pt x="38" y="2520"/>
                    </a:lnTo>
                    <a:lnTo>
                      <a:pt x="56" y="2520"/>
                    </a:lnTo>
                    <a:lnTo>
                      <a:pt x="73" y="2520"/>
                    </a:lnTo>
                    <a:lnTo>
                      <a:pt x="88" y="2520"/>
                    </a:lnTo>
                    <a:lnTo>
                      <a:pt x="106" y="2520"/>
                    </a:lnTo>
                    <a:lnTo>
                      <a:pt x="121" y="2520"/>
                    </a:lnTo>
                    <a:lnTo>
                      <a:pt x="138" y="2520"/>
                    </a:lnTo>
                    <a:close/>
                  </a:path>
                </a:pathLst>
              </a:custGeom>
              <a:solidFill>
                <a:srgbClr val="079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Freeform 17"/>
              <p:cNvSpPr/>
              <p:nvPr/>
            </p:nvSpPr>
            <p:spPr>
              <a:xfrm>
                <a:off x="2214360" y="1082160"/>
                <a:ext cx="600840" cy="4236480"/>
              </a:xfrm>
              <a:custGeom>
                <a:avLst/>
                <a:gdLst>
                  <a:gd name="textAreaLeft" fmla="*/ 0 w 600840"/>
                  <a:gd name="textAreaRight" fmla="*/ 601200 w 600840"/>
                  <a:gd name="textAreaTop" fmla="*/ 0 h 4236480"/>
                  <a:gd name="textAreaBottom" fmla="*/ 4236840 h 4236480"/>
                </a:gdLst>
                <a:ahLst/>
                <a:rect l="textAreaLeft" t="textAreaTop" r="textAreaRight" b="textAreaBottom"/>
                <a:pathLst>
                  <a:path w="357" h="2516">
                    <a:moveTo>
                      <a:pt x="357" y="8"/>
                    </a:moveTo>
                    <a:lnTo>
                      <a:pt x="325" y="0"/>
                    </a:lnTo>
                    <a:lnTo>
                      <a:pt x="323" y="2"/>
                    </a:lnTo>
                    <a:lnTo>
                      <a:pt x="323" y="2"/>
                    </a:lnTo>
                    <a:lnTo>
                      <a:pt x="321" y="4"/>
                    </a:lnTo>
                    <a:lnTo>
                      <a:pt x="321" y="4"/>
                    </a:lnTo>
                    <a:lnTo>
                      <a:pt x="319" y="6"/>
                    </a:lnTo>
                    <a:lnTo>
                      <a:pt x="317" y="6"/>
                    </a:lnTo>
                    <a:lnTo>
                      <a:pt x="317" y="8"/>
                    </a:lnTo>
                    <a:lnTo>
                      <a:pt x="315" y="10"/>
                    </a:lnTo>
                    <a:lnTo>
                      <a:pt x="355" y="17"/>
                    </a:lnTo>
                    <a:lnTo>
                      <a:pt x="355" y="17"/>
                    </a:lnTo>
                    <a:lnTo>
                      <a:pt x="355" y="15"/>
                    </a:lnTo>
                    <a:lnTo>
                      <a:pt x="357" y="14"/>
                    </a:lnTo>
                    <a:lnTo>
                      <a:pt x="357" y="14"/>
                    </a:lnTo>
                    <a:lnTo>
                      <a:pt x="357" y="12"/>
                    </a:lnTo>
                    <a:lnTo>
                      <a:pt x="357" y="12"/>
                    </a:lnTo>
                    <a:lnTo>
                      <a:pt x="357" y="10"/>
                    </a:lnTo>
                    <a:lnTo>
                      <a:pt x="357" y="8"/>
                    </a:lnTo>
                    <a:close/>
                    <a:moveTo>
                      <a:pt x="4" y="2514"/>
                    </a:moveTo>
                    <a:lnTo>
                      <a:pt x="42" y="2516"/>
                    </a:lnTo>
                    <a:lnTo>
                      <a:pt x="108" y="2514"/>
                    </a:lnTo>
                    <a:lnTo>
                      <a:pt x="173" y="2508"/>
                    </a:lnTo>
                    <a:lnTo>
                      <a:pt x="236" y="2500"/>
                    </a:lnTo>
                    <a:lnTo>
                      <a:pt x="300" y="2489"/>
                    </a:lnTo>
                    <a:lnTo>
                      <a:pt x="321" y="2483"/>
                    </a:lnTo>
                    <a:lnTo>
                      <a:pt x="321" y="2483"/>
                    </a:lnTo>
                    <a:lnTo>
                      <a:pt x="321" y="2481"/>
                    </a:lnTo>
                    <a:lnTo>
                      <a:pt x="321" y="2479"/>
                    </a:lnTo>
                    <a:lnTo>
                      <a:pt x="321" y="2479"/>
                    </a:lnTo>
                    <a:lnTo>
                      <a:pt x="321" y="2477"/>
                    </a:lnTo>
                    <a:lnTo>
                      <a:pt x="321" y="2475"/>
                    </a:lnTo>
                    <a:lnTo>
                      <a:pt x="321" y="2475"/>
                    </a:lnTo>
                    <a:lnTo>
                      <a:pt x="321" y="2473"/>
                    </a:lnTo>
                    <a:lnTo>
                      <a:pt x="298" y="2479"/>
                    </a:lnTo>
                    <a:lnTo>
                      <a:pt x="236" y="2491"/>
                    </a:lnTo>
                    <a:lnTo>
                      <a:pt x="173" y="2498"/>
                    </a:lnTo>
                    <a:lnTo>
                      <a:pt x="108" y="2502"/>
                    </a:lnTo>
                    <a:lnTo>
                      <a:pt x="42" y="2504"/>
                    </a:lnTo>
                    <a:lnTo>
                      <a:pt x="0" y="2504"/>
                    </a:lnTo>
                    <a:lnTo>
                      <a:pt x="0" y="2504"/>
                    </a:lnTo>
                    <a:lnTo>
                      <a:pt x="2" y="2506"/>
                    </a:lnTo>
                    <a:lnTo>
                      <a:pt x="2" y="2508"/>
                    </a:lnTo>
                    <a:lnTo>
                      <a:pt x="2" y="2508"/>
                    </a:lnTo>
                    <a:lnTo>
                      <a:pt x="2" y="2510"/>
                    </a:lnTo>
                    <a:lnTo>
                      <a:pt x="4" y="2512"/>
                    </a:lnTo>
                    <a:lnTo>
                      <a:pt x="4" y="2512"/>
                    </a:lnTo>
                    <a:lnTo>
                      <a:pt x="4" y="2514"/>
                    </a:lnTo>
                    <a:close/>
                  </a:path>
                </a:pathLst>
              </a:custGeom>
              <a:solidFill>
                <a:srgbClr val="089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Freeform 18"/>
              <p:cNvSpPr/>
              <p:nvPr/>
            </p:nvSpPr>
            <p:spPr>
              <a:xfrm>
                <a:off x="2210760" y="1089000"/>
                <a:ext cx="604440" cy="4219200"/>
              </a:xfrm>
              <a:custGeom>
                <a:avLst/>
                <a:gdLst>
                  <a:gd name="textAreaLeft" fmla="*/ 0 w 604440"/>
                  <a:gd name="textAreaRight" fmla="*/ 604800 w 604440"/>
                  <a:gd name="textAreaTop" fmla="*/ 0 h 4219200"/>
                  <a:gd name="textAreaBottom" fmla="*/ 4219560 h 4219200"/>
                </a:gdLst>
                <a:ahLst/>
                <a:rect l="textAreaLeft" t="textAreaTop" r="textAreaRight" b="textAreaBottom"/>
                <a:pathLst>
                  <a:path w="359" h="2506">
                    <a:moveTo>
                      <a:pt x="359" y="10"/>
                    </a:moveTo>
                    <a:lnTo>
                      <a:pt x="321" y="0"/>
                    </a:lnTo>
                    <a:lnTo>
                      <a:pt x="321" y="2"/>
                    </a:lnTo>
                    <a:lnTo>
                      <a:pt x="319" y="2"/>
                    </a:lnTo>
                    <a:lnTo>
                      <a:pt x="319" y="4"/>
                    </a:lnTo>
                    <a:lnTo>
                      <a:pt x="317" y="6"/>
                    </a:lnTo>
                    <a:lnTo>
                      <a:pt x="315" y="6"/>
                    </a:lnTo>
                    <a:lnTo>
                      <a:pt x="315" y="8"/>
                    </a:lnTo>
                    <a:lnTo>
                      <a:pt x="313" y="8"/>
                    </a:lnTo>
                    <a:lnTo>
                      <a:pt x="313" y="10"/>
                    </a:lnTo>
                    <a:lnTo>
                      <a:pt x="357" y="19"/>
                    </a:lnTo>
                    <a:lnTo>
                      <a:pt x="357" y="17"/>
                    </a:lnTo>
                    <a:lnTo>
                      <a:pt x="357" y="17"/>
                    </a:lnTo>
                    <a:lnTo>
                      <a:pt x="357" y="15"/>
                    </a:lnTo>
                    <a:lnTo>
                      <a:pt x="357" y="13"/>
                    </a:lnTo>
                    <a:lnTo>
                      <a:pt x="357" y="13"/>
                    </a:lnTo>
                    <a:lnTo>
                      <a:pt x="357" y="11"/>
                    </a:lnTo>
                    <a:lnTo>
                      <a:pt x="359" y="10"/>
                    </a:lnTo>
                    <a:lnTo>
                      <a:pt x="359" y="10"/>
                    </a:lnTo>
                    <a:close/>
                    <a:moveTo>
                      <a:pt x="4" y="2504"/>
                    </a:moveTo>
                    <a:lnTo>
                      <a:pt x="44" y="2506"/>
                    </a:lnTo>
                    <a:lnTo>
                      <a:pt x="110" y="2504"/>
                    </a:lnTo>
                    <a:lnTo>
                      <a:pt x="175" y="2498"/>
                    </a:lnTo>
                    <a:lnTo>
                      <a:pt x="238" y="2490"/>
                    </a:lnTo>
                    <a:lnTo>
                      <a:pt x="300" y="2479"/>
                    </a:lnTo>
                    <a:lnTo>
                      <a:pt x="323" y="2475"/>
                    </a:lnTo>
                    <a:lnTo>
                      <a:pt x="323" y="2473"/>
                    </a:lnTo>
                    <a:lnTo>
                      <a:pt x="323" y="2471"/>
                    </a:lnTo>
                    <a:lnTo>
                      <a:pt x="323" y="2471"/>
                    </a:lnTo>
                    <a:lnTo>
                      <a:pt x="323" y="2469"/>
                    </a:lnTo>
                    <a:lnTo>
                      <a:pt x="321" y="2467"/>
                    </a:lnTo>
                    <a:lnTo>
                      <a:pt x="321" y="2467"/>
                    </a:lnTo>
                    <a:lnTo>
                      <a:pt x="321" y="2465"/>
                    </a:lnTo>
                    <a:lnTo>
                      <a:pt x="321" y="2465"/>
                    </a:lnTo>
                    <a:lnTo>
                      <a:pt x="298" y="2469"/>
                    </a:lnTo>
                    <a:lnTo>
                      <a:pt x="236" y="2481"/>
                    </a:lnTo>
                    <a:lnTo>
                      <a:pt x="173" y="2488"/>
                    </a:lnTo>
                    <a:lnTo>
                      <a:pt x="110" y="2494"/>
                    </a:lnTo>
                    <a:lnTo>
                      <a:pt x="44" y="2496"/>
                    </a:lnTo>
                    <a:lnTo>
                      <a:pt x="0" y="2494"/>
                    </a:lnTo>
                    <a:lnTo>
                      <a:pt x="2" y="2496"/>
                    </a:lnTo>
                    <a:lnTo>
                      <a:pt x="2" y="2496"/>
                    </a:lnTo>
                    <a:lnTo>
                      <a:pt x="2" y="2498"/>
                    </a:lnTo>
                    <a:lnTo>
                      <a:pt x="2" y="2500"/>
                    </a:lnTo>
                    <a:lnTo>
                      <a:pt x="2" y="2500"/>
                    </a:lnTo>
                    <a:lnTo>
                      <a:pt x="4" y="2502"/>
                    </a:lnTo>
                    <a:lnTo>
                      <a:pt x="4" y="2504"/>
                    </a:lnTo>
                    <a:lnTo>
                      <a:pt x="4" y="2504"/>
                    </a:lnTo>
                    <a:close/>
                  </a:path>
                </a:pathLst>
              </a:custGeom>
              <a:solidFill>
                <a:srgbClr val="099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Freeform 19"/>
              <p:cNvSpPr/>
              <p:nvPr/>
            </p:nvSpPr>
            <p:spPr>
              <a:xfrm>
                <a:off x="2207520" y="1099080"/>
                <a:ext cx="604440" cy="4199400"/>
              </a:xfrm>
              <a:custGeom>
                <a:avLst/>
                <a:gdLst>
                  <a:gd name="textAreaLeft" fmla="*/ 0 w 604440"/>
                  <a:gd name="textAreaRight" fmla="*/ 604800 w 604440"/>
                  <a:gd name="textAreaTop" fmla="*/ 0 h 4199400"/>
                  <a:gd name="textAreaBottom" fmla="*/ 4199760 h 4199400"/>
                </a:gdLst>
                <a:ahLst/>
                <a:rect l="textAreaLeft" t="textAreaTop" r="textAreaRight" b="textAreaBottom"/>
                <a:pathLst>
                  <a:path w="359" h="2494">
                    <a:moveTo>
                      <a:pt x="359" y="7"/>
                    </a:moveTo>
                    <a:lnTo>
                      <a:pt x="319" y="0"/>
                    </a:lnTo>
                    <a:lnTo>
                      <a:pt x="317" y="0"/>
                    </a:lnTo>
                    <a:lnTo>
                      <a:pt x="317" y="2"/>
                    </a:lnTo>
                    <a:lnTo>
                      <a:pt x="315" y="2"/>
                    </a:lnTo>
                    <a:lnTo>
                      <a:pt x="315" y="4"/>
                    </a:lnTo>
                    <a:lnTo>
                      <a:pt x="313" y="4"/>
                    </a:lnTo>
                    <a:lnTo>
                      <a:pt x="311" y="5"/>
                    </a:lnTo>
                    <a:lnTo>
                      <a:pt x="311" y="5"/>
                    </a:lnTo>
                    <a:lnTo>
                      <a:pt x="309" y="7"/>
                    </a:lnTo>
                    <a:lnTo>
                      <a:pt x="357" y="19"/>
                    </a:lnTo>
                    <a:lnTo>
                      <a:pt x="357" y="17"/>
                    </a:lnTo>
                    <a:lnTo>
                      <a:pt x="359" y="15"/>
                    </a:lnTo>
                    <a:lnTo>
                      <a:pt x="359" y="15"/>
                    </a:lnTo>
                    <a:lnTo>
                      <a:pt x="359" y="13"/>
                    </a:lnTo>
                    <a:lnTo>
                      <a:pt x="359" y="11"/>
                    </a:lnTo>
                    <a:lnTo>
                      <a:pt x="359" y="11"/>
                    </a:lnTo>
                    <a:lnTo>
                      <a:pt x="359" y="9"/>
                    </a:lnTo>
                    <a:lnTo>
                      <a:pt x="359" y="7"/>
                    </a:lnTo>
                    <a:close/>
                    <a:moveTo>
                      <a:pt x="4" y="2494"/>
                    </a:moveTo>
                    <a:lnTo>
                      <a:pt x="46" y="2494"/>
                    </a:lnTo>
                    <a:lnTo>
                      <a:pt x="112" y="2492"/>
                    </a:lnTo>
                    <a:lnTo>
                      <a:pt x="177" y="2488"/>
                    </a:lnTo>
                    <a:lnTo>
                      <a:pt x="240" y="2481"/>
                    </a:lnTo>
                    <a:lnTo>
                      <a:pt x="302" y="2469"/>
                    </a:lnTo>
                    <a:lnTo>
                      <a:pt x="325" y="2463"/>
                    </a:lnTo>
                    <a:lnTo>
                      <a:pt x="323" y="2461"/>
                    </a:lnTo>
                    <a:lnTo>
                      <a:pt x="323" y="2461"/>
                    </a:lnTo>
                    <a:lnTo>
                      <a:pt x="323" y="2459"/>
                    </a:lnTo>
                    <a:lnTo>
                      <a:pt x="323" y="2459"/>
                    </a:lnTo>
                    <a:lnTo>
                      <a:pt x="323" y="2458"/>
                    </a:lnTo>
                    <a:lnTo>
                      <a:pt x="323" y="2456"/>
                    </a:lnTo>
                    <a:lnTo>
                      <a:pt x="323" y="2456"/>
                    </a:lnTo>
                    <a:lnTo>
                      <a:pt x="323" y="2454"/>
                    </a:lnTo>
                    <a:lnTo>
                      <a:pt x="300" y="2459"/>
                    </a:lnTo>
                    <a:lnTo>
                      <a:pt x="238" y="2469"/>
                    </a:lnTo>
                    <a:lnTo>
                      <a:pt x="175" y="2477"/>
                    </a:lnTo>
                    <a:lnTo>
                      <a:pt x="112" y="2482"/>
                    </a:lnTo>
                    <a:lnTo>
                      <a:pt x="46" y="2484"/>
                    </a:lnTo>
                    <a:lnTo>
                      <a:pt x="0" y="2482"/>
                    </a:lnTo>
                    <a:lnTo>
                      <a:pt x="2" y="2484"/>
                    </a:lnTo>
                    <a:lnTo>
                      <a:pt x="2" y="2486"/>
                    </a:lnTo>
                    <a:lnTo>
                      <a:pt x="2" y="2486"/>
                    </a:lnTo>
                    <a:lnTo>
                      <a:pt x="2" y="2488"/>
                    </a:lnTo>
                    <a:lnTo>
                      <a:pt x="4" y="2490"/>
                    </a:lnTo>
                    <a:lnTo>
                      <a:pt x="4" y="2490"/>
                    </a:lnTo>
                    <a:lnTo>
                      <a:pt x="4" y="2492"/>
                    </a:lnTo>
                    <a:lnTo>
                      <a:pt x="4" y="2494"/>
                    </a:lnTo>
                    <a:close/>
                  </a:path>
                </a:pathLst>
              </a:custGeom>
              <a:solidFill>
                <a:srgbClr val="0a9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Freeform 20"/>
              <p:cNvSpPr/>
              <p:nvPr/>
            </p:nvSpPr>
            <p:spPr>
              <a:xfrm>
                <a:off x="2203920" y="1105920"/>
                <a:ext cx="607680" cy="418572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4185720"/>
                  <a:gd name="textAreaBottom" fmla="*/ 4186080 h 4185720"/>
                </a:gdLst>
                <a:ahLst/>
                <a:rect l="textAreaLeft" t="textAreaTop" r="textAreaRight" b="textAreaBottom"/>
                <a:pathLst>
                  <a:path w="361" h="2486">
                    <a:moveTo>
                      <a:pt x="361" y="9"/>
                    </a:moveTo>
                    <a:lnTo>
                      <a:pt x="317" y="0"/>
                    </a:lnTo>
                    <a:lnTo>
                      <a:pt x="315" y="0"/>
                    </a:lnTo>
                    <a:lnTo>
                      <a:pt x="313" y="1"/>
                    </a:lnTo>
                    <a:lnTo>
                      <a:pt x="313" y="1"/>
                    </a:lnTo>
                    <a:lnTo>
                      <a:pt x="311" y="3"/>
                    </a:lnTo>
                    <a:lnTo>
                      <a:pt x="311" y="3"/>
                    </a:lnTo>
                    <a:lnTo>
                      <a:pt x="309" y="5"/>
                    </a:lnTo>
                    <a:lnTo>
                      <a:pt x="308" y="7"/>
                    </a:lnTo>
                    <a:lnTo>
                      <a:pt x="308" y="7"/>
                    </a:lnTo>
                    <a:lnTo>
                      <a:pt x="359" y="19"/>
                    </a:lnTo>
                    <a:lnTo>
                      <a:pt x="359" y="19"/>
                    </a:lnTo>
                    <a:lnTo>
                      <a:pt x="359" y="17"/>
                    </a:lnTo>
                    <a:lnTo>
                      <a:pt x="359" y="15"/>
                    </a:lnTo>
                    <a:lnTo>
                      <a:pt x="359" y="15"/>
                    </a:lnTo>
                    <a:lnTo>
                      <a:pt x="359" y="13"/>
                    </a:lnTo>
                    <a:lnTo>
                      <a:pt x="361" y="11"/>
                    </a:lnTo>
                    <a:lnTo>
                      <a:pt x="361" y="11"/>
                    </a:lnTo>
                    <a:lnTo>
                      <a:pt x="361" y="9"/>
                    </a:lnTo>
                    <a:close/>
                    <a:moveTo>
                      <a:pt x="4" y="2484"/>
                    </a:moveTo>
                    <a:lnTo>
                      <a:pt x="48" y="2486"/>
                    </a:lnTo>
                    <a:lnTo>
                      <a:pt x="114" y="2484"/>
                    </a:lnTo>
                    <a:lnTo>
                      <a:pt x="177" y="2478"/>
                    </a:lnTo>
                    <a:lnTo>
                      <a:pt x="240" y="2471"/>
                    </a:lnTo>
                    <a:lnTo>
                      <a:pt x="302" y="2459"/>
                    </a:lnTo>
                    <a:lnTo>
                      <a:pt x="325" y="2455"/>
                    </a:lnTo>
                    <a:lnTo>
                      <a:pt x="325" y="2454"/>
                    </a:lnTo>
                    <a:lnTo>
                      <a:pt x="325" y="2452"/>
                    </a:lnTo>
                    <a:lnTo>
                      <a:pt x="325" y="2452"/>
                    </a:lnTo>
                    <a:lnTo>
                      <a:pt x="325" y="2450"/>
                    </a:lnTo>
                    <a:lnTo>
                      <a:pt x="323" y="2448"/>
                    </a:lnTo>
                    <a:lnTo>
                      <a:pt x="323" y="2448"/>
                    </a:lnTo>
                    <a:lnTo>
                      <a:pt x="323" y="2446"/>
                    </a:lnTo>
                    <a:lnTo>
                      <a:pt x="323" y="2444"/>
                    </a:lnTo>
                    <a:lnTo>
                      <a:pt x="300" y="2450"/>
                    </a:lnTo>
                    <a:lnTo>
                      <a:pt x="238" y="2461"/>
                    </a:lnTo>
                    <a:lnTo>
                      <a:pt x="177" y="2469"/>
                    </a:lnTo>
                    <a:lnTo>
                      <a:pt x="114" y="2473"/>
                    </a:lnTo>
                    <a:lnTo>
                      <a:pt x="48" y="2475"/>
                    </a:lnTo>
                    <a:lnTo>
                      <a:pt x="0" y="2475"/>
                    </a:lnTo>
                    <a:lnTo>
                      <a:pt x="2" y="2475"/>
                    </a:lnTo>
                    <a:lnTo>
                      <a:pt x="2" y="2477"/>
                    </a:lnTo>
                    <a:lnTo>
                      <a:pt x="2" y="2478"/>
                    </a:lnTo>
                    <a:lnTo>
                      <a:pt x="2" y="2478"/>
                    </a:lnTo>
                    <a:lnTo>
                      <a:pt x="4" y="2480"/>
                    </a:lnTo>
                    <a:lnTo>
                      <a:pt x="4" y="2482"/>
                    </a:lnTo>
                    <a:lnTo>
                      <a:pt x="4" y="2482"/>
                    </a:lnTo>
                    <a:lnTo>
                      <a:pt x="4" y="2484"/>
                    </a:lnTo>
                    <a:close/>
                  </a:path>
                </a:pathLst>
              </a:custGeom>
              <a:solidFill>
                <a:srgbClr val="0b9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Freeform 21"/>
              <p:cNvSpPr/>
              <p:nvPr/>
            </p:nvSpPr>
            <p:spPr>
              <a:xfrm>
                <a:off x="2203920" y="1110960"/>
                <a:ext cx="604440" cy="4170600"/>
              </a:xfrm>
              <a:custGeom>
                <a:avLst/>
                <a:gdLst>
                  <a:gd name="textAreaLeft" fmla="*/ 0 w 604440"/>
                  <a:gd name="textAreaRight" fmla="*/ 604800 w 604440"/>
                  <a:gd name="textAreaTop" fmla="*/ 0 h 4170600"/>
                  <a:gd name="textAreaBottom" fmla="*/ 4170600 h 4170600"/>
                </a:gdLst>
                <a:ahLst/>
                <a:rect l="textAreaLeft" t="textAreaTop" r="textAreaRight" b="textAreaBottom"/>
                <a:pathLst>
                  <a:path w="359" h="2477">
                    <a:moveTo>
                      <a:pt x="359" y="12"/>
                    </a:moveTo>
                    <a:lnTo>
                      <a:pt x="311" y="0"/>
                    </a:lnTo>
                    <a:lnTo>
                      <a:pt x="311" y="0"/>
                    </a:lnTo>
                    <a:lnTo>
                      <a:pt x="309" y="2"/>
                    </a:lnTo>
                    <a:lnTo>
                      <a:pt x="308" y="4"/>
                    </a:lnTo>
                    <a:lnTo>
                      <a:pt x="308" y="4"/>
                    </a:lnTo>
                    <a:lnTo>
                      <a:pt x="306" y="6"/>
                    </a:lnTo>
                    <a:lnTo>
                      <a:pt x="306" y="6"/>
                    </a:lnTo>
                    <a:lnTo>
                      <a:pt x="304" y="8"/>
                    </a:lnTo>
                    <a:lnTo>
                      <a:pt x="302" y="8"/>
                    </a:lnTo>
                    <a:lnTo>
                      <a:pt x="357" y="22"/>
                    </a:lnTo>
                    <a:lnTo>
                      <a:pt x="357" y="20"/>
                    </a:lnTo>
                    <a:lnTo>
                      <a:pt x="359" y="20"/>
                    </a:lnTo>
                    <a:lnTo>
                      <a:pt x="359" y="18"/>
                    </a:lnTo>
                    <a:lnTo>
                      <a:pt x="359" y="16"/>
                    </a:lnTo>
                    <a:lnTo>
                      <a:pt x="359" y="16"/>
                    </a:lnTo>
                    <a:lnTo>
                      <a:pt x="359" y="14"/>
                    </a:lnTo>
                    <a:lnTo>
                      <a:pt x="359" y="12"/>
                    </a:lnTo>
                    <a:lnTo>
                      <a:pt x="359" y="12"/>
                    </a:lnTo>
                    <a:close/>
                    <a:moveTo>
                      <a:pt x="2" y="2475"/>
                    </a:moveTo>
                    <a:lnTo>
                      <a:pt x="48" y="2477"/>
                    </a:lnTo>
                    <a:lnTo>
                      <a:pt x="114" y="2475"/>
                    </a:lnTo>
                    <a:lnTo>
                      <a:pt x="177" y="2470"/>
                    </a:lnTo>
                    <a:lnTo>
                      <a:pt x="240" y="2462"/>
                    </a:lnTo>
                    <a:lnTo>
                      <a:pt x="302" y="2452"/>
                    </a:lnTo>
                    <a:lnTo>
                      <a:pt x="325" y="2447"/>
                    </a:lnTo>
                    <a:lnTo>
                      <a:pt x="323" y="2445"/>
                    </a:lnTo>
                    <a:lnTo>
                      <a:pt x="323" y="2445"/>
                    </a:lnTo>
                    <a:lnTo>
                      <a:pt x="323" y="2443"/>
                    </a:lnTo>
                    <a:lnTo>
                      <a:pt x="323" y="2441"/>
                    </a:lnTo>
                    <a:lnTo>
                      <a:pt x="323" y="2441"/>
                    </a:lnTo>
                    <a:lnTo>
                      <a:pt x="323" y="2439"/>
                    </a:lnTo>
                    <a:lnTo>
                      <a:pt x="323" y="2437"/>
                    </a:lnTo>
                    <a:lnTo>
                      <a:pt x="323" y="2437"/>
                    </a:lnTo>
                    <a:lnTo>
                      <a:pt x="300" y="2441"/>
                    </a:lnTo>
                    <a:lnTo>
                      <a:pt x="238" y="2452"/>
                    </a:lnTo>
                    <a:lnTo>
                      <a:pt x="175" y="2460"/>
                    </a:lnTo>
                    <a:lnTo>
                      <a:pt x="114" y="2466"/>
                    </a:lnTo>
                    <a:lnTo>
                      <a:pt x="48" y="2468"/>
                    </a:lnTo>
                    <a:lnTo>
                      <a:pt x="0" y="2466"/>
                    </a:lnTo>
                    <a:lnTo>
                      <a:pt x="0" y="2468"/>
                    </a:lnTo>
                    <a:lnTo>
                      <a:pt x="0" y="2468"/>
                    </a:lnTo>
                    <a:lnTo>
                      <a:pt x="0" y="2470"/>
                    </a:lnTo>
                    <a:lnTo>
                      <a:pt x="0" y="2472"/>
                    </a:lnTo>
                    <a:lnTo>
                      <a:pt x="2" y="2472"/>
                    </a:lnTo>
                    <a:lnTo>
                      <a:pt x="2" y="2474"/>
                    </a:lnTo>
                    <a:lnTo>
                      <a:pt x="2" y="2475"/>
                    </a:lnTo>
                    <a:lnTo>
                      <a:pt x="2" y="2475"/>
                    </a:lnTo>
                    <a:close/>
                  </a:path>
                </a:pathLst>
              </a:custGeom>
              <a:solidFill>
                <a:srgbClr val="0c9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Freeform 22"/>
              <p:cNvSpPr/>
              <p:nvPr/>
            </p:nvSpPr>
            <p:spPr>
              <a:xfrm>
                <a:off x="2202480" y="1117440"/>
                <a:ext cx="605880" cy="4155840"/>
              </a:xfrm>
              <a:custGeom>
                <a:avLst/>
                <a:gdLst>
                  <a:gd name="textAreaLeft" fmla="*/ 0 w 605880"/>
                  <a:gd name="textAreaRight" fmla="*/ 606240 w 605880"/>
                  <a:gd name="textAreaTop" fmla="*/ 0 h 4155840"/>
                  <a:gd name="textAreaBottom" fmla="*/ 4156200 h 4155840"/>
                </a:gdLst>
                <a:ahLst/>
                <a:rect l="textAreaLeft" t="textAreaTop" r="textAreaRight" b="textAreaBottom"/>
                <a:pathLst>
                  <a:path w="360" h="2468">
                    <a:moveTo>
                      <a:pt x="360" y="12"/>
                    </a:moveTo>
                    <a:lnTo>
                      <a:pt x="309" y="0"/>
                    </a:lnTo>
                    <a:lnTo>
                      <a:pt x="307" y="2"/>
                    </a:lnTo>
                    <a:lnTo>
                      <a:pt x="307" y="2"/>
                    </a:lnTo>
                    <a:lnTo>
                      <a:pt x="305" y="4"/>
                    </a:lnTo>
                    <a:lnTo>
                      <a:pt x="303" y="4"/>
                    </a:lnTo>
                    <a:lnTo>
                      <a:pt x="303" y="6"/>
                    </a:lnTo>
                    <a:lnTo>
                      <a:pt x="301" y="6"/>
                    </a:lnTo>
                    <a:lnTo>
                      <a:pt x="301" y="8"/>
                    </a:lnTo>
                    <a:lnTo>
                      <a:pt x="299" y="10"/>
                    </a:lnTo>
                    <a:lnTo>
                      <a:pt x="299" y="10"/>
                    </a:lnTo>
                    <a:lnTo>
                      <a:pt x="358" y="23"/>
                    </a:lnTo>
                    <a:lnTo>
                      <a:pt x="358" y="21"/>
                    </a:lnTo>
                    <a:lnTo>
                      <a:pt x="358" y="19"/>
                    </a:lnTo>
                    <a:lnTo>
                      <a:pt x="358" y="19"/>
                    </a:lnTo>
                    <a:lnTo>
                      <a:pt x="358" y="18"/>
                    </a:lnTo>
                    <a:lnTo>
                      <a:pt x="358" y="16"/>
                    </a:lnTo>
                    <a:lnTo>
                      <a:pt x="360" y="16"/>
                    </a:lnTo>
                    <a:lnTo>
                      <a:pt x="360" y="14"/>
                    </a:lnTo>
                    <a:lnTo>
                      <a:pt x="360" y="12"/>
                    </a:lnTo>
                    <a:close/>
                    <a:moveTo>
                      <a:pt x="1" y="2468"/>
                    </a:moveTo>
                    <a:lnTo>
                      <a:pt x="49" y="2468"/>
                    </a:lnTo>
                    <a:lnTo>
                      <a:pt x="115" y="2466"/>
                    </a:lnTo>
                    <a:lnTo>
                      <a:pt x="178" y="2462"/>
                    </a:lnTo>
                    <a:lnTo>
                      <a:pt x="239" y="2454"/>
                    </a:lnTo>
                    <a:lnTo>
                      <a:pt x="301" y="2443"/>
                    </a:lnTo>
                    <a:lnTo>
                      <a:pt x="324" y="2437"/>
                    </a:lnTo>
                    <a:lnTo>
                      <a:pt x="324" y="2437"/>
                    </a:lnTo>
                    <a:lnTo>
                      <a:pt x="324" y="2435"/>
                    </a:lnTo>
                    <a:lnTo>
                      <a:pt x="324" y="2433"/>
                    </a:lnTo>
                    <a:lnTo>
                      <a:pt x="324" y="2433"/>
                    </a:lnTo>
                    <a:lnTo>
                      <a:pt x="324" y="2431"/>
                    </a:lnTo>
                    <a:lnTo>
                      <a:pt x="322" y="2429"/>
                    </a:lnTo>
                    <a:lnTo>
                      <a:pt x="322" y="2429"/>
                    </a:lnTo>
                    <a:lnTo>
                      <a:pt x="322" y="2427"/>
                    </a:lnTo>
                    <a:lnTo>
                      <a:pt x="299" y="2433"/>
                    </a:lnTo>
                    <a:lnTo>
                      <a:pt x="238" y="2443"/>
                    </a:lnTo>
                    <a:lnTo>
                      <a:pt x="176" y="2450"/>
                    </a:lnTo>
                    <a:lnTo>
                      <a:pt x="113" y="2456"/>
                    </a:lnTo>
                    <a:lnTo>
                      <a:pt x="49" y="2458"/>
                    </a:lnTo>
                    <a:lnTo>
                      <a:pt x="0" y="2456"/>
                    </a:lnTo>
                    <a:lnTo>
                      <a:pt x="0" y="2458"/>
                    </a:lnTo>
                    <a:lnTo>
                      <a:pt x="0" y="2460"/>
                    </a:lnTo>
                    <a:lnTo>
                      <a:pt x="0" y="2460"/>
                    </a:lnTo>
                    <a:lnTo>
                      <a:pt x="1" y="2462"/>
                    </a:lnTo>
                    <a:lnTo>
                      <a:pt x="1" y="2464"/>
                    </a:lnTo>
                    <a:lnTo>
                      <a:pt x="1" y="2464"/>
                    </a:lnTo>
                    <a:lnTo>
                      <a:pt x="1" y="2466"/>
                    </a:lnTo>
                    <a:lnTo>
                      <a:pt x="1" y="2468"/>
                    </a:lnTo>
                    <a:close/>
                  </a:path>
                </a:pathLst>
              </a:custGeom>
              <a:solidFill>
                <a:srgbClr val="0d9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Freeform 23"/>
              <p:cNvSpPr/>
              <p:nvPr/>
            </p:nvSpPr>
            <p:spPr>
              <a:xfrm>
                <a:off x="2198880" y="1124280"/>
                <a:ext cx="605880" cy="4142160"/>
              </a:xfrm>
              <a:custGeom>
                <a:avLst/>
                <a:gdLst>
                  <a:gd name="textAreaLeft" fmla="*/ 0 w 605880"/>
                  <a:gd name="textAreaRight" fmla="*/ 606240 w 605880"/>
                  <a:gd name="textAreaTop" fmla="*/ 0 h 4142160"/>
                  <a:gd name="textAreaBottom" fmla="*/ 4142520 h 4142160"/>
                </a:gdLst>
                <a:ahLst/>
                <a:rect l="textAreaLeft" t="textAreaTop" r="textAreaRight" b="textAreaBottom"/>
                <a:pathLst>
                  <a:path w="360" h="2460">
                    <a:moveTo>
                      <a:pt x="360" y="14"/>
                    </a:moveTo>
                    <a:lnTo>
                      <a:pt x="305" y="0"/>
                    </a:lnTo>
                    <a:lnTo>
                      <a:pt x="305" y="2"/>
                    </a:lnTo>
                    <a:lnTo>
                      <a:pt x="303" y="2"/>
                    </a:lnTo>
                    <a:lnTo>
                      <a:pt x="303" y="4"/>
                    </a:lnTo>
                    <a:lnTo>
                      <a:pt x="301" y="6"/>
                    </a:lnTo>
                    <a:lnTo>
                      <a:pt x="299" y="6"/>
                    </a:lnTo>
                    <a:lnTo>
                      <a:pt x="299" y="8"/>
                    </a:lnTo>
                    <a:lnTo>
                      <a:pt x="297" y="8"/>
                    </a:lnTo>
                    <a:lnTo>
                      <a:pt x="297" y="10"/>
                    </a:lnTo>
                    <a:lnTo>
                      <a:pt x="301" y="10"/>
                    </a:lnTo>
                    <a:lnTo>
                      <a:pt x="359" y="23"/>
                    </a:lnTo>
                    <a:lnTo>
                      <a:pt x="360" y="23"/>
                    </a:lnTo>
                    <a:lnTo>
                      <a:pt x="360" y="21"/>
                    </a:lnTo>
                    <a:lnTo>
                      <a:pt x="360" y="19"/>
                    </a:lnTo>
                    <a:lnTo>
                      <a:pt x="360" y="19"/>
                    </a:lnTo>
                    <a:lnTo>
                      <a:pt x="360" y="17"/>
                    </a:lnTo>
                    <a:lnTo>
                      <a:pt x="360" y="15"/>
                    </a:lnTo>
                    <a:lnTo>
                      <a:pt x="360" y="15"/>
                    </a:lnTo>
                    <a:lnTo>
                      <a:pt x="360" y="14"/>
                    </a:lnTo>
                    <a:close/>
                    <a:moveTo>
                      <a:pt x="3" y="2458"/>
                    </a:moveTo>
                    <a:lnTo>
                      <a:pt x="51" y="2460"/>
                    </a:lnTo>
                    <a:lnTo>
                      <a:pt x="117" y="2458"/>
                    </a:lnTo>
                    <a:lnTo>
                      <a:pt x="178" y="2452"/>
                    </a:lnTo>
                    <a:lnTo>
                      <a:pt x="241" y="2444"/>
                    </a:lnTo>
                    <a:lnTo>
                      <a:pt x="303" y="2433"/>
                    </a:lnTo>
                    <a:lnTo>
                      <a:pt x="326" y="2429"/>
                    </a:lnTo>
                    <a:lnTo>
                      <a:pt x="326" y="2427"/>
                    </a:lnTo>
                    <a:lnTo>
                      <a:pt x="324" y="2425"/>
                    </a:lnTo>
                    <a:lnTo>
                      <a:pt x="324" y="2425"/>
                    </a:lnTo>
                    <a:lnTo>
                      <a:pt x="324" y="2423"/>
                    </a:lnTo>
                    <a:lnTo>
                      <a:pt x="324" y="2421"/>
                    </a:lnTo>
                    <a:lnTo>
                      <a:pt x="324" y="2421"/>
                    </a:lnTo>
                    <a:lnTo>
                      <a:pt x="324" y="2420"/>
                    </a:lnTo>
                    <a:lnTo>
                      <a:pt x="324" y="2418"/>
                    </a:lnTo>
                    <a:lnTo>
                      <a:pt x="301" y="2423"/>
                    </a:lnTo>
                    <a:lnTo>
                      <a:pt x="240" y="2435"/>
                    </a:lnTo>
                    <a:lnTo>
                      <a:pt x="178" y="2443"/>
                    </a:lnTo>
                    <a:lnTo>
                      <a:pt x="115" y="2446"/>
                    </a:lnTo>
                    <a:lnTo>
                      <a:pt x="51" y="2448"/>
                    </a:lnTo>
                    <a:lnTo>
                      <a:pt x="0" y="2446"/>
                    </a:lnTo>
                    <a:lnTo>
                      <a:pt x="0" y="2448"/>
                    </a:lnTo>
                    <a:lnTo>
                      <a:pt x="0" y="2450"/>
                    </a:lnTo>
                    <a:lnTo>
                      <a:pt x="0" y="2450"/>
                    </a:lnTo>
                    <a:lnTo>
                      <a:pt x="2" y="2452"/>
                    </a:lnTo>
                    <a:lnTo>
                      <a:pt x="2" y="2454"/>
                    </a:lnTo>
                    <a:lnTo>
                      <a:pt x="2" y="2456"/>
                    </a:lnTo>
                    <a:lnTo>
                      <a:pt x="2" y="2456"/>
                    </a:lnTo>
                    <a:lnTo>
                      <a:pt x="3" y="2458"/>
                    </a:lnTo>
                    <a:close/>
                  </a:path>
                </a:pathLst>
              </a:custGeom>
              <a:solidFill>
                <a:srgbClr val="0e9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Freeform 24"/>
              <p:cNvSpPr/>
              <p:nvPr/>
            </p:nvSpPr>
            <p:spPr>
              <a:xfrm>
                <a:off x="2195640" y="1134360"/>
                <a:ext cx="609120" cy="4122000"/>
              </a:xfrm>
              <a:custGeom>
                <a:avLst/>
                <a:gdLst>
                  <a:gd name="textAreaLeft" fmla="*/ 0 w 609120"/>
                  <a:gd name="textAreaRight" fmla="*/ 609480 w 609120"/>
                  <a:gd name="textAreaTop" fmla="*/ 0 h 4122000"/>
                  <a:gd name="textAreaBottom" fmla="*/ 4122360 h 4122000"/>
                </a:gdLst>
                <a:ahLst/>
                <a:rect l="textAreaLeft" t="textAreaTop" r="textAreaRight" b="textAreaBottom"/>
                <a:pathLst>
                  <a:path w="362" h="2448">
                    <a:moveTo>
                      <a:pt x="362" y="13"/>
                    </a:moveTo>
                    <a:lnTo>
                      <a:pt x="303" y="0"/>
                    </a:lnTo>
                    <a:lnTo>
                      <a:pt x="303" y="0"/>
                    </a:lnTo>
                    <a:lnTo>
                      <a:pt x="301" y="0"/>
                    </a:lnTo>
                    <a:lnTo>
                      <a:pt x="301" y="2"/>
                    </a:lnTo>
                    <a:lnTo>
                      <a:pt x="299" y="2"/>
                    </a:lnTo>
                    <a:lnTo>
                      <a:pt x="299" y="4"/>
                    </a:lnTo>
                    <a:lnTo>
                      <a:pt x="297" y="4"/>
                    </a:lnTo>
                    <a:lnTo>
                      <a:pt x="295" y="6"/>
                    </a:lnTo>
                    <a:lnTo>
                      <a:pt x="295" y="8"/>
                    </a:lnTo>
                    <a:lnTo>
                      <a:pt x="293" y="8"/>
                    </a:lnTo>
                    <a:lnTo>
                      <a:pt x="301" y="9"/>
                    </a:lnTo>
                    <a:lnTo>
                      <a:pt x="361" y="23"/>
                    </a:lnTo>
                    <a:lnTo>
                      <a:pt x="361" y="21"/>
                    </a:lnTo>
                    <a:lnTo>
                      <a:pt x="361" y="21"/>
                    </a:lnTo>
                    <a:lnTo>
                      <a:pt x="361" y="19"/>
                    </a:lnTo>
                    <a:lnTo>
                      <a:pt x="361" y="17"/>
                    </a:lnTo>
                    <a:lnTo>
                      <a:pt x="362" y="17"/>
                    </a:lnTo>
                    <a:lnTo>
                      <a:pt x="362" y="15"/>
                    </a:lnTo>
                    <a:lnTo>
                      <a:pt x="362" y="13"/>
                    </a:lnTo>
                    <a:lnTo>
                      <a:pt x="362" y="13"/>
                    </a:lnTo>
                    <a:close/>
                    <a:moveTo>
                      <a:pt x="4" y="2446"/>
                    </a:moveTo>
                    <a:lnTo>
                      <a:pt x="53" y="2448"/>
                    </a:lnTo>
                    <a:lnTo>
                      <a:pt x="117" y="2446"/>
                    </a:lnTo>
                    <a:lnTo>
                      <a:pt x="180" y="2440"/>
                    </a:lnTo>
                    <a:lnTo>
                      <a:pt x="242" y="2433"/>
                    </a:lnTo>
                    <a:lnTo>
                      <a:pt x="303" y="2423"/>
                    </a:lnTo>
                    <a:lnTo>
                      <a:pt x="326" y="2417"/>
                    </a:lnTo>
                    <a:lnTo>
                      <a:pt x="326" y="2415"/>
                    </a:lnTo>
                    <a:lnTo>
                      <a:pt x="326" y="2415"/>
                    </a:lnTo>
                    <a:lnTo>
                      <a:pt x="326" y="2414"/>
                    </a:lnTo>
                    <a:lnTo>
                      <a:pt x="326" y="2412"/>
                    </a:lnTo>
                    <a:lnTo>
                      <a:pt x="326" y="2412"/>
                    </a:lnTo>
                    <a:lnTo>
                      <a:pt x="324" y="2410"/>
                    </a:lnTo>
                    <a:lnTo>
                      <a:pt x="324" y="2408"/>
                    </a:lnTo>
                    <a:lnTo>
                      <a:pt x="324" y="2408"/>
                    </a:lnTo>
                    <a:lnTo>
                      <a:pt x="301" y="2412"/>
                    </a:lnTo>
                    <a:lnTo>
                      <a:pt x="242" y="2423"/>
                    </a:lnTo>
                    <a:lnTo>
                      <a:pt x="180" y="2431"/>
                    </a:lnTo>
                    <a:lnTo>
                      <a:pt x="117" y="2437"/>
                    </a:lnTo>
                    <a:lnTo>
                      <a:pt x="53" y="2437"/>
                    </a:lnTo>
                    <a:lnTo>
                      <a:pt x="0" y="2437"/>
                    </a:lnTo>
                    <a:lnTo>
                      <a:pt x="0" y="2437"/>
                    </a:lnTo>
                    <a:lnTo>
                      <a:pt x="0" y="2438"/>
                    </a:lnTo>
                    <a:lnTo>
                      <a:pt x="2" y="2440"/>
                    </a:lnTo>
                    <a:lnTo>
                      <a:pt x="2" y="2440"/>
                    </a:lnTo>
                    <a:lnTo>
                      <a:pt x="2" y="2442"/>
                    </a:lnTo>
                    <a:lnTo>
                      <a:pt x="2" y="2444"/>
                    </a:lnTo>
                    <a:lnTo>
                      <a:pt x="2" y="2444"/>
                    </a:lnTo>
                    <a:lnTo>
                      <a:pt x="4" y="2446"/>
                    </a:lnTo>
                    <a:close/>
                  </a:path>
                </a:pathLst>
              </a:custGeom>
              <a:solidFill>
                <a:srgbClr val="0f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Freeform 25"/>
              <p:cNvSpPr/>
              <p:nvPr/>
            </p:nvSpPr>
            <p:spPr>
              <a:xfrm>
                <a:off x="2192040" y="1140840"/>
                <a:ext cx="611280" cy="4105080"/>
              </a:xfrm>
              <a:custGeom>
                <a:avLst/>
                <a:gdLst>
                  <a:gd name="textAreaLeft" fmla="*/ 0 w 611280"/>
                  <a:gd name="textAreaRight" fmla="*/ 611640 w 611280"/>
                  <a:gd name="textAreaTop" fmla="*/ 0 h 4105080"/>
                  <a:gd name="textAreaBottom" fmla="*/ 4105440 h 4105080"/>
                </a:gdLst>
                <a:ahLst/>
                <a:rect l="textAreaLeft" t="textAreaTop" r="textAreaRight" b="textAreaBottom"/>
                <a:pathLst>
                  <a:path w="363" h="2438">
                    <a:moveTo>
                      <a:pt x="363" y="13"/>
                    </a:moveTo>
                    <a:lnTo>
                      <a:pt x="305" y="0"/>
                    </a:lnTo>
                    <a:lnTo>
                      <a:pt x="301" y="0"/>
                    </a:lnTo>
                    <a:lnTo>
                      <a:pt x="299" y="0"/>
                    </a:lnTo>
                    <a:lnTo>
                      <a:pt x="297" y="2"/>
                    </a:lnTo>
                    <a:lnTo>
                      <a:pt x="297" y="4"/>
                    </a:lnTo>
                    <a:lnTo>
                      <a:pt x="295" y="4"/>
                    </a:lnTo>
                    <a:lnTo>
                      <a:pt x="295" y="5"/>
                    </a:lnTo>
                    <a:lnTo>
                      <a:pt x="293" y="5"/>
                    </a:lnTo>
                    <a:lnTo>
                      <a:pt x="291" y="7"/>
                    </a:lnTo>
                    <a:lnTo>
                      <a:pt x="291" y="7"/>
                    </a:lnTo>
                    <a:lnTo>
                      <a:pt x="303" y="9"/>
                    </a:lnTo>
                    <a:lnTo>
                      <a:pt x="361" y="25"/>
                    </a:lnTo>
                    <a:lnTo>
                      <a:pt x="361" y="25"/>
                    </a:lnTo>
                    <a:lnTo>
                      <a:pt x="363" y="23"/>
                    </a:lnTo>
                    <a:lnTo>
                      <a:pt x="363" y="21"/>
                    </a:lnTo>
                    <a:lnTo>
                      <a:pt x="363" y="21"/>
                    </a:lnTo>
                    <a:lnTo>
                      <a:pt x="363" y="19"/>
                    </a:lnTo>
                    <a:lnTo>
                      <a:pt x="363" y="17"/>
                    </a:lnTo>
                    <a:lnTo>
                      <a:pt x="363" y="17"/>
                    </a:lnTo>
                    <a:lnTo>
                      <a:pt x="363" y="15"/>
                    </a:lnTo>
                    <a:lnTo>
                      <a:pt x="363" y="13"/>
                    </a:lnTo>
                    <a:close/>
                    <a:moveTo>
                      <a:pt x="4" y="2436"/>
                    </a:moveTo>
                    <a:lnTo>
                      <a:pt x="55" y="2438"/>
                    </a:lnTo>
                    <a:lnTo>
                      <a:pt x="119" y="2436"/>
                    </a:lnTo>
                    <a:lnTo>
                      <a:pt x="182" y="2433"/>
                    </a:lnTo>
                    <a:lnTo>
                      <a:pt x="244" y="2425"/>
                    </a:lnTo>
                    <a:lnTo>
                      <a:pt x="305" y="2413"/>
                    </a:lnTo>
                    <a:lnTo>
                      <a:pt x="328" y="2408"/>
                    </a:lnTo>
                    <a:lnTo>
                      <a:pt x="328" y="2408"/>
                    </a:lnTo>
                    <a:lnTo>
                      <a:pt x="326" y="2406"/>
                    </a:lnTo>
                    <a:lnTo>
                      <a:pt x="326" y="2404"/>
                    </a:lnTo>
                    <a:lnTo>
                      <a:pt x="326" y="2404"/>
                    </a:lnTo>
                    <a:lnTo>
                      <a:pt x="326" y="2402"/>
                    </a:lnTo>
                    <a:lnTo>
                      <a:pt x="326" y="2400"/>
                    </a:lnTo>
                    <a:lnTo>
                      <a:pt x="326" y="2400"/>
                    </a:lnTo>
                    <a:lnTo>
                      <a:pt x="326" y="2398"/>
                    </a:lnTo>
                    <a:lnTo>
                      <a:pt x="303" y="2404"/>
                    </a:lnTo>
                    <a:lnTo>
                      <a:pt x="242" y="2413"/>
                    </a:lnTo>
                    <a:lnTo>
                      <a:pt x="180" y="2423"/>
                    </a:lnTo>
                    <a:lnTo>
                      <a:pt x="119" y="2427"/>
                    </a:lnTo>
                    <a:lnTo>
                      <a:pt x="55" y="2429"/>
                    </a:lnTo>
                    <a:lnTo>
                      <a:pt x="0" y="2427"/>
                    </a:lnTo>
                    <a:lnTo>
                      <a:pt x="0" y="2429"/>
                    </a:lnTo>
                    <a:lnTo>
                      <a:pt x="0" y="2429"/>
                    </a:lnTo>
                    <a:lnTo>
                      <a:pt x="2" y="2431"/>
                    </a:lnTo>
                    <a:lnTo>
                      <a:pt x="2" y="2433"/>
                    </a:lnTo>
                    <a:lnTo>
                      <a:pt x="2" y="2433"/>
                    </a:lnTo>
                    <a:lnTo>
                      <a:pt x="2" y="2434"/>
                    </a:lnTo>
                    <a:lnTo>
                      <a:pt x="4" y="2436"/>
                    </a:lnTo>
                    <a:lnTo>
                      <a:pt x="4" y="2436"/>
                    </a:lnTo>
                    <a:close/>
                  </a:path>
                </a:pathLst>
              </a:custGeom>
              <a:solidFill>
                <a:srgbClr val="1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Freeform 26"/>
              <p:cNvSpPr/>
              <p:nvPr/>
            </p:nvSpPr>
            <p:spPr>
              <a:xfrm>
                <a:off x="2188800" y="1147680"/>
                <a:ext cx="614520" cy="4089960"/>
              </a:xfrm>
              <a:custGeom>
                <a:avLst/>
                <a:gdLst>
                  <a:gd name="textAreaLeft" fmla="*/ 0 w 614520"/>
                  <a:gd name="textAreaRight" fmla="*/ 614880 w 614520"/>
                  <a:gd name="textAreaTop" fmla="*/ 0 h 4089960"/>
                  <a:gd name="textAreaBottom" fmla="*/ 4090320 h 4089960"/>
                </a:gdLst>
                <a:ahLst/>
                <a:rect l="textAreaLeft" t="textAreaTop" r="textAreaRight" b="textAreaBottom"/>
                <a:pathLst>
                  <a:path w="365" h="2429">
                    <a:moveTo>
                      <a:pt x="365" y="15"/>
                    </a:moveTo>
                    <a:lnTo>
                      <a:pt x="305" y="1"/>
                    </a:lnTo>
                    <a:lnTo>
                      <a:pt x="297" y="0"/>
                    </a:lnTo>
                    <a:lnTo>
                      <a:pt x="297" y="1"/>
                    </a:lnTo>
                    <a:lnTo>
                      <a:pt x="295" y="1"/>
                    </a:lnTo>
                    <a:lnTo>
                      <a:pt x="293" y="3"/>
                    </a:lnTo>
                    <a:lnTo>
                      <a:pt x="293" y="3"/>
                    </a:lnTo>
                    <a:lnTo>
                      <a:pt x="292" y="5"/>
                    </a:lnTo>
                    <a:lnTo>
                      <a:pt x="292" y="7"/>
                    </a:lnTo>
                    <a:lnTo>
                      <a:pt x="290" y="7"/>
                    </a:lnTo>
                    <a:lnTo>
                      <a:pt x="290" y="9"/>
                    </a:lnTo>
                    <a:lnTo>
                      <a:pt x="303" y="11"/>
                    </a:lnTo>
                    <a:lnTo>
                      <a:pt x="363" y="24"/>
                    </a:lnTo>
                    <a:lnTo>
                      <a:pt x="363" y="24"/>
                    </a:lnTo>
                    <a:lnTo>
                      <a:pt x="363" y="24"/>
                    </a:lnTo>
                    <a:lnTo>
                      <a:pt x="363" y="23"/>
                    </a:lnTo>
                    <a:lnTo>
                      <a:pt x="363" y="21"/>
                    </a:lnTo>
                    <a:lnTo>
                      <a:pt x="363" y="21"/>
                    </a:lnTo>
                    <a:lnTo>
                      <a:pt x="365" y="19"/>
                    </a:lnTo>
                    <a:lnTo>
                      <a:pt x="365" y="17"/>
                    </a:lnTo>
                    <a:lnTo>
                      <a:pt x="365" y="17"/>
                    </a:lnTo>
                    <a:lnTo>
                      <a:pt x="365" y="15"/>
                    </a:lnTo>
                    <a:close/>
                    <a:moveTo>
                      <a:pt x="4" y="2429"/>
                    </a:moveTo>
                    <a:lnTo>
                      <a:pt x="57" y="2429"/>
                    </a:lnTo>
                    <a:lnTo>
                      <a:pt x="121" y="2429"/>
                    </a:lnTo>
                    <a:lnTo>
                      <a:pt x="184" y="2423"/>
                    </a:lnTo>
                    <a:lnTo>
                      <a:pt x="246" y="2415"/>
                    </a:lnTo>
                    <a:lnTo>
                      <a:pt x="305" y="2404"/>
                    </a:lnTo>
                    <a:lnTo>
                      <a:pt x="328" y="2400"/>
                    </a:lnTo>
                    <a:lnTo>
                      <a:pt x="328" y="2398"/>
                    </a:lnTo>
                    <a:lnTo>
                      <a:pt x="328" y="2396"/>
                    </a:lnTo>
                    <a:lnTo>
                      <a:pt x="328" y="2396"/>
                    </a:lnTo>
                    <a:lnTo>
                      <a:pt x="328" y="2394"/>
                    </a:lnTo>
                    <a:lnTo>
                      <a:pt x="328" y="2392"/>
                    </a:lnTo>
                    <a:lnTo>
                      <a:pt x="328" y="2392"/>
                    </a:lnTo>
                    <a:lnTo>
                      <a:pt x="326" y="2390"/>
                    </a:lnTo>
                    <a:lnTo>
                      <a:pt x="326" y="2388"/>
                    </a:lnTo>
                    <a:lnTo>
                      <a:pt x="303" y="2394"/>
                    </a:lnTo>
                    <a:lnTo>
                      <a:pt x="244" y="2406"/>
                    </a:lnTo>
                    <a:lnTo>
                      <a:pt x="182" y="2413"/>
                    </a:lnTo>
                    <a:lnTo>
                      <a:pt x="121" y="2417"/>
                    </a:lnTo>
                    <a:lnTo>
                      <a:pt x="57" y="2419"/>
                    </a:lnTo>
                    <a:lnTo>
                      <a:pt x="0" y="2417"/>
                    </a:lnTo>
                    <a:lnTo>
                      <a:pt x="0" y="2419"/>
                    </a:lnTo>
                    <a:lnTo>
                      <a:pt x="0" y="2421"/>
                    </a:lnTo>
                    <a:lnTo>
                      <a:pt x="2" y="2421"/>
                    </a:lnTo>
                    <a:lnTo>
                      <a:pt x="2" y="2423"/>
                    </a:lnTo>
                    <a:lnTo>
                      <a:pt x="2" y="2425"/>
                    </a:lnTo>
                    <a:lnTo>
                      <a:pt x="2" y="2425"/>
                    </a:lnTo>
                    <a:lnTo>
                      <a:pt x="4" y="2427"/>
                    </a:lnTo>
                    <a:lnTo>
                      <a:pt x="4" y="2429"/>
                    </a:lnTo>
                    <a:close/>
                  </a:path>
                </a:pathLst>
              </a:custGeom>
              <a:solidFill>
                <a:srgbClr val="11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Freeform 27"/>
              <p:cNvSpPr/>
              <p:nvPr/>
            </p:nvSpPr>
            <p:spPr>
              <a:xfrm>
                <a:off x="2185560" y="1152720"/>
                <a:ext cx="614160" cy="4078080"/>
              </a:xfrm>
              <a:custGeom>
                <a:avLst/>
                <a:gdLst>
                  <a:gd name="textAreaLeft" fmla="*/ 0 w 614160"/>
                  <a:gd name="textAreaRight" fmla="*/ 614520 w 614160"/>
                  <a:gd name="textAreaTop" fmla="*/ 0 h 4078080"/>
                  <a:gd name="textAreaBottom" fmla="*/ 4078440 h 4078080"/>
                </a:gdLst>
                <a:ahLst/>
                <a:rect l="textAreaLeft" t="textAreaTop" r="textAreaRight" b="textAreaBottom"/>
                <a:pathLst>
                  <a:path w="365" h="2422">
                    <a:moveTo>
                      <a:pt x="365" y="18"/>
                    </a:moveTo>
                    <a:lnTo>
                      <a:pt x="365" y="18"/>
                    </a:lnTo>
                    <a:lnTo>
                      <a:pt x="307" y="2"/>
                    </a:lnTo>
                    <a:lnTo>
                      <a:pt x="295" y="0"/>
                    </a:lnTo>
                    <a:lnTo>
                      <a:pt x="294" y="2"/>
                    </a:lnTo>
                    <a:lnTo>
                      <a:pt x="294" y="4"/>
                    </a:lnTo>
                    <a:lnTo>
                      <a:pt x="292" y="4"/>
                    </a:lnTo>
                    <a:lnTo>
                      <a:pt x="292" y="6"/>
                    </a:lnTo>
                    <a:lnTo>
                      <a:pt x="290" y="6"/>
                    </a:lnTo>
                    <a:lnTo>
                      <a:pt x="288" y="8"/>
                    </a:lnTo>
                    <a:lnTo>
                      <a:pt x="288" y="8"/>
                    </a:lnTo>
                    <a:lnTo>
                      <a:pt x="286" y="10"/>
                    </a:lnTo>
                    <a:lnTo>
                      <a:pt x="305" y="14"/>
                    </a:lnTo>
                    <a:lnTo>
                      <a:pt x="363" y="27"/>
                    </a:lnTo>
                    <a:lnTo>
                      <a:pt x="365" y="27"/>
                    </a:lnTo>
                    <a:lnTo>
                      <a:pt x="365" y="25"/>
                    </a:lnTo>
                    <a:lnTo>
                      <a:pt x="365" y="25"/>
                    </a:lnTo>
                    <a:lnTo>
                      <a:pt x="365" y="23"/>
                    </a:lnTo>
                    <a:lnTo>
                      <a:pt x="365" y="21"/>
                    </a:lnTo>
                    <a:lnTo>
                      <a:pt x="365" y="21"/>
                    </a:lnTo>
                    <a:lnTo>
                      <a:pt x="365" y="20"/>
                    </a:lnTo>
                    <a:lnTo>
                      <a:pt x="365" y="18"/>
                    </a:lnTo>
                    <a:lnTo>
                      <a:pt x="365" y="18"/>
                    </a:lnTo>
                    <a:close/>
                    <a:moveTo>
                      <a:pt x="4" y="2420"/>
                    </a:moveTo>
                    <a:lnTo>
                      <a:pt x="59" y="2422"/>
                    </a:lnTo>
                    <a:lnTo>
                      <a:pt x="123" y="2420"/>
                    </a:lnTo>
                    <a:lnTo>
                      <a:pt x="184" y="2416"/>
                    </a:lnTo>
                    <a:lnTo>
                      <a:pt x="246" y="2406"/>
                    </a:lnTo>
                    <a:lnTo>
                      <a:pt x="307" y="2397"/>
                    </a:lnTo>
                    <a:lnTo>
                      <a:pt x="330" y="2391"/>
                    </a:lnTo>
                    <a:lnTo>
                      <a:pt x="330" y="2389"/>
                    </a:lnTo>
                    <a:lnTo>
                      <a:pt x="330" y="2389"/>
                    </a:lnTo>
                    <a:lnTo>
                      <a:pt x="328" y="2387"/>
                    </a:lnTo>
                    <a:lnTo>
                      <a:pt x="328" y="2385"/>
                    </a:lnTo>
                    <a:lnTo>
                      <a:pt x="328" y="2385"/>
                    </a:lnTo>
                    <a:lnTo>
                      <a:pt x="328" y="2383"/>
                    </a:lnTo>
                    <a:lnTo>
                      <a:pt x="328" y="2381"/>
                    </a:lnTo>
                    <a:lnTo>
                      <a:pt x="328" y="2381"/>
                    </a:lnTo>
                    <a:lnTo>
                      <a:pt x="305" y="2387"/>
                    </a:lnTo>
                    <a:lnTo>
                      <a:pt x="244" y="2397"/>
                    </a:lnTo>
                    <a:lnTo>
                      <a:pt x="184" y="2404"/>
                    </a:lnTo>
                    <a:lnTo>
                      <a:pt x="123" y="2410"/>
                    </a:lnTo>
                    <a:lnTo>
                      <a:pt x="59" y="2410"/>
                    </a:lnTo>
                    <a:lnTo>
                      <a:pt x="0" y="2410"/>
                    </a:lnTo>
                    <a:lnTo>
                      <a:pt x="0" y="2410"/>
                    </a:lnTo>
                    <a:lnTo>
                      <a:pt x="2" y="2412"/>
                    </a:lnTo>
                    <a:lnTo>
                      <a:pt x="2" y="2414"/>
                    </a:lnTo>
                    <a:lnTo>
                      <a:pt x="2" y="2414"/>
                    </a:lnTo>
                    <a:lnTo>
                      <a:pt x="2" y="2416"/>
                    </a:lnTo>
                    <a:lnTo>
                      <a:pt x="2" y="2418"/>
                    </a:lnTo>
                    <a:lnTo>
                      <a:pt x="4" y="2418"/>
                    </a:lnTo>
                    <a:lnTo>
                      <a:pt x="4" y="2420"/>
                    </a:lnTo>
                    <a:close/>
                  </a:path>
                </a:pathLst>
              </a:custGeom>
              <a:solidFill>
                <a:srgbClr val="12a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Freeform 28"/>
              <p:cNvSpPr/>
              <p:nvPr/>
            </p:nvSpPr>
            <p:spPr>
              <a:xfrm>
                <a:off x="2182320" y="1163160"/>
                <a:ext cx="617760" cy="4057560"/>
              </a:xfrm>
              <a:custGeom>
                <a:avLst/>
                <a:gdLst>
                  <a:gd name="textAreaLeft" fmla="*/ 0 w 617760"/>
                  <a:gd name="textAreaRight" fmla="*/ 618120 w 617760"/>
                  <a:gd name="textAreaTop" fmla="*/ 0 h 4057560"/>
                  <a:gd name="textAreaBottom" fmla="*/ 4057920 h 4057560"/>
                </a:gdLst>
                <a:ahLst/>
                <a:rect l="textAreaLeft" t="textAreaTop" r="textAreaRight" b="textAreaBottom"/>
                <a:pathLst>
                  <a:path w="367" h="2410">
                    <a:moveTo>
                      <a:pt x="367" y="15"/>
                    </a:moveTo>
                    <a:lnTo>
                      <a:pt x="367" y="15"/>
                    </a:lnTo>
                    <a:lnTo>
                      <a:pt x="307" y="2"/>
                    </a:lnTo>
                    <a:lnTo>
                      <a:pt x="292" y="0"/>
                    </a:lnTo>
                    <a:lnTo>
                      <a:pt x="292" y="0"/>
                    </a:lnTo>
                    <a:lnTo>
                      <a:pt x="290" y="2"/>
                    </a:lnTo>
                    <a:lnTo>
                      <a:pt x="290" y="2"/>
                    </a:lnTo>
                    <a:lnTo>
                      <a:pt x="288" y="4"/>
                    </a:lnTo>
                    <a:lnTo>
                      <a:pt x="288" y="6"/>
                    </a:lnTo>
                    <a:lnTo>
                      <a:pt x="286" y="6"/>
                    </a:lnTo>
                    <a:lnTo>
                      <a:pt x="284" y="8"/>
                    </a:lnTo>
                    <a:lnTo>
                      <a:pt x="284" y="8"/>
                    </a:lnTo>
                    <a:lnTo>
                      <a:pt x="305" y="12"/>
                    </a:lnTo>
                    <a:lnTo>
                      <a:pt x="363" y="25"/>
                    </a:lnTo>
                    <a:lnTo>
                      <a:pt x="365" y="25"/>
                    </a:lnTo>
                    <a:lnTo>
                      <a:pt x="365" y="25"/>
                    </a:lnTo>
                    <a:lnTo>
                      <a:pt x="365" y="23"/>
                    </a:lnTo>
                    <a:lnTo>
                      <a:pt x="365" y="23"/>
                    </a:lnTo>
                    <a:lnTo>
                      <a:pt x="367" y="21"/>
                    </a:lnTo>
                    <a:lnTo>
                      <a:pt x="367" y="19"/>
                    </a:lnTo>
                    <a:lnTo>
                      <a:pt x="367" y="19"/>
                    </a:lnTo>
                    <a:lnTo>
                      <a:pt x="367" y="17"/>
                    </a:lnTo>
                    <a:lnTo>
                      <a:pt x="367" y="15"/>
                    </a:lnTo>
                    <a:close/>
                    <a:moveTo>
                      <a:pt x="4" y="2408"/>
                    </a:moveTo>
                    <a:lnTo>
                      <a:pt x="61" y="2410"/>
                    </a:lnTo>
                    <a:lnTo>
                      <a:pt x="125" y="2408"/>
                    </a:lnTo>
                    <a:lnTo>
                      <a:pt x="186" y="2404"/>
                    </a:lnTo>
                    <a:lnTo>
                      <a:pt x="248" y="2397"/>
                    </a:lnTo>
                    <a:lnTo>
                      <a:pt x="307" y="2385"/>
                    </a:lnTo>
                    <a:lnTo>
                      <a:pt x="330" y="2379"/>
                    </a:lnTo>
                    <a:lnTo>
                      <a:pt x="330" y="2379"/>
                    </a:lnTo>
                    <a:lnTo>
                      <a:pt x="330" y="2377"/>
                    </a:lnTo>
                    <a:lnTo>
                      <a:pt x="330" y="2375"/>
                    </a:lnTo>
                    <a:lnTo>
                      <a:pt x="330" y="2375"/>
                    </a:lnTo>
                    <a:lnTo>
                      <a:pt x="330" y="2374"/>
                    </a:lnTo>
                    <a:lnTo>
                      <a:pt x="330" y="2372"/>
                    </a:lnTo>
                    <a:lnTo>
                      <a:pt x="330" y="2372"/>
                    </a:lnTo>
                    <a:lnTo>
                      <a:pt x="328" y="2370"/>
                    </a:lnTo>
                    <a:lnTo>
                      <a:pt x="305" y="2375"/>
                    </a:lnTo>
                    <a:lnTo>
                      <a:pt x="246" y="2387"/>
                    </a:lnTo>
                    <a:lnTo>
                      <a:pt x="186" y="2395"/>
                    </a:lnTo>
                    <a:lnTo>
                      <a:pt x="125" y="2398"/>
                    </a:lnTo>
                    <a:lnTo>
                      <a:pt x="61" y="2400"/>
                    </a:lnTo>
                    <a:lnTo>
                      <a:pt x="0" y="2398"/>
                    </a:lnTo>
                    <a:lnTo>
                      <a:pt x="0" y="2400"/>
                    </a:lnTo>
                    <a:lnTo>
                      <a:pt x="2" y="2400"/>
                    </a:lnTo>
                    <a:lnTo>
                      <a:pt x="2" y="2402"/>
                    </a:lnTo>
                    <a:lnTo>
                      <a:pt x="2" y="2404"/>
                    </a:lnTo>
                    <a:lnTo>
                      <a:pt x="2" y="2404"/>
                    </a:lnTo>
                    <a:lnTo>
                      <a:pt x="4" y="2406"/>
                    </a:lnTo>
                    <a:lnTo>
                      <a:pt x="4" y="2408"/>
                    </a:lnTo>
                    <a:lnTo>
                      <a:pt x="4" y="2408"/>
                    </a:lnTo>
                    <a:close/>
                  </a:path>
                </a:pathLst>
              </a:custGeom>
              <a:solidFill>
                <a:srgbClr val="13a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Freeform 29"/>
              <p:cNvSpPr/>
              <p:nvPr/>
            </p:nvSpPr>
            <p:spPr>
              <a:xfrm>
                <a:off x="2178720" y="1169640"/>
                <a:ext cx="621000" cy="4041360"/>
              </a:xfrm>
              <a:custGeom>
                <a:avLst/>
                <a:gdLst>
                  <a:gd name="textAreaLeft" fmla="*/ 0 w 621000"/>
                  <a:gd name="textAreaRight" fmla="*/ 621360 w 621000"/>
                  <a:gd name="textAreaTop" fmla="*/ 0 h 4041360"/>
                  <a:gd name="textAreaBottom" fmla="*/ 4041720 h 4041360"/>
                </a:gdLst>
                <a:ahLst/>
                <a:rect l="textAreaLeft" t="textAreaTop" r="textAreaRight" b="textAreaBottom"/>
                <a:pathLst>
                  <a:path w="369" h="2400">
                    <a:moveTo>
                      <a:pt x="369" y="17"/>
                    </a:moveTo>
                    <a:lnTo>
                      <a:pt x="367" y="17"/>
                    </a:lnTo>
                    <a:lnTo>
                      <a:pt x="309" y="4"/>
                    </a:lnTo>
                    <a:lnTo>
                      <a:pt x="290" y="0"/>
                    </a:lnTo>
                    <a:lnTo>
                      <a:pt x="290" y="2"/>
                    </a:lnTo>
                    <a:lnTo>
                      <a:pt x="288" y="2"/>
                    </a:lnTo>
                    <a:lnTo>
                      <a:pt x="286" y="4"/>
                    </a:lnTo>
                    <a:lnTo>
                      <a:pt x="286" y="4"/>
                    </a:lnTo>
                    <a:lnTo>
                      <a:pt x="284" y="6"/>
                    </a:lnTo>
                    <a:lnTo>
                      <a:pt x="284" y="6"/>
                    </a:lnTo>
                    <a:lnTo>
                      <a:pt x="282" y="8"/>
                    </a:lnTo>
                    <a:lnTo>
                      <a:pt x="282" y="10"/>
                    </a:lnTo>
                    <a:lnTo>
                      <a:pt x="305" y="13"/>
                    </a:lnTo>
                    <a:lnTo>
                      <a:pt x="365" y="27"/>
                    </a:lnTo>
                    <a:lnTo>
                      <a:pt x="367" y="27"/>
                    </a:lnTo>
                    <a:lnTo>
                      <a:pt x="367" y="25"/>
                    </a:lnTo>
                    <a:lnTo>
                      <a:pt x="367" y="25"/>
                    </a:lnTo>
                    <a:lnTo>
                      <a:pt x="367" y="23"/>
                    </a:lnTo>
                    <a:lnTo>
                      <a:pt x="367" y="21"/>
                    </a:lnTo>
                    <a:lnTo>
                      <a:pt x="367" y="21"/>
                    </a:lnTo>
                    <a:lnTo>
                      <a:pt x="367" y="19"/>
                    </a:lnTo>
                    <a:lnTo>
                      <a:pt x="367" y="19"/>
                    </a:lnTo>
                    <a:lnTo>
                      <a:pt x="369" y="17"/>
                    </a:lnTo>
                    <a:close/>
                    <a:moveTo>
                      <a:pt x="4" y="2400"/>
                    </a:moveTo>
                    <a:lnTo>
                      <a:pt x="63" y="2400"/>
                    </a:lnTo>
                    <a:lnTo>
                      <a:pt x="127" y="2400"/>
                    </a:lnTo>
                    <a:lnTo>
                      <a:pt x="188" y="2394"/>
                    </a:lnTo>
                    <a:lnTo>
                      <a:pt x="248" y="2387"/>
                    </a:lnTo>
                    <a:lnTo>
                      <a:pt x="309" y="2377"/>
                    </a:lnTo>
                    <a:lnTo>
                      <a:pt x="332" y="2371"/>
                    </a:lnTo>
                    <a:lnTo>
                      <a:pt x="332" y="2370"/>
                    </a:lnTo>
                    <a:lnTo>
                      <a:pt x="332" y="2368"/>
                    </a:lnTo>
                    <a:lnTo>
                      <a:pt x="332" y="2368"/>
                    </a:lnTo>
                    <a:lnTo>
                      <a:pt x="330" y="2366"/>
                    </a:lnTo>
                    <a:lnTo>
                      <a:pt x="330" y="2364"/>
                    </a:lnTo>
                    <a:lnTo>
                      <a:pt x="330" y="2364"/>
                    </a:lnTo>
                    <a:lnTo>
                      <a:pt x="330" y="2362"/>
                    </a:lnTo>
                    <a:lnTo>
                      <a:pt x="330" y="2360"/>
                    </a:lnTo>
                    <a:lnTo>
                      <a:pt x="305" y="2366"/>
                    </a:lnTo>
                    <a:lnTo>
                      <a:pt x="248" y="2377"/>
                    </a:lnTo>
                    <a:lnTo>
                      <a:pt x="186" y="2385"/>
                    </a:lnTo>
                    <a:lnTo>
                      <a:pt x="127" y="2389"/>
                    </a:lnTo>
                    <a:lnTo>
                      <a:pt x="63" y="2391"/>
                    </a:lnTo>
                    <a:lnTo>
                      <a:pt x="2" y="2389"/>
                    </a:lnTo>
                    <a:lnTo>
                      <a:pt x="0" y="2389"/>
                    </a:lnTo>
                    <a:lnTo>
                      <a:pt x="0" y="2391"/>
                    </a:lnTo>
                    <a:lnTo>
                      <a:pt x="2" y="2393"/>
                    </a:lnTo>
                    <a:lnTo>
                      <a:pt x="2" y="2393"/>
                    </a:lnTo>
                    <a:lnTo>
                      <a:pt x="2" y="2394"/>
                    </a:lnTo>
                    <a:lnTo>
                      <a:pt x="2" y="2396"/>
                    </a:lnTo>
                    <a:lnTo>
                      <a:pt x="4" y="2396"/>
                    </a:lnTo>
                    <a:lnTo>
                      <a:pt x="4" y="2398"/>
                    </a:lnTo>
                    <a:lnTo>
                      <a:pt x="4" y="2400"/>
                    </a:lnTo>
                    <a:close/>
                  </a:path>
                </a:pathLst>
              </a:custGeom>
              <a:solidFill>
                <a:srgbClr val="14a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Freeform 30"/>
              <p:cNvSpPr/>
              <p:nvPr/>
            </p:nvSpPr>
            <p:spPr>
              <a:xfrm>
                <a:off x="2175480" y="1176480"/>
                <a:ext cx="621000" cy="4027680"/>
              </a:xfrm>
              <a:custGeom>
                <a:avLst/>
                <a:gdLst>
                  <a:gd name="textAreaLeft" fmla="*/ 0 w 621000"/>
                  <a:gd name="textAreaRight" fmla="*/ 621360 w 621000"/>
                  <a:gd name="textAreaTop" fmla="*/ 0 h 4027680"/>
                  <a:gd name="textAreaBottom" fmla="*/ 4028040 h 4027680"/>
                </a:gdLst>
                <a:ahLst/>
                <a:rect l="textAreaLeft" t="textAreaTop" r="textAreaRight" b="textAreaBottom"/>
                <a:pathLst>
                  <a:path w="369" h="2392">
                    <a:moveTo>
                      <a:pt x="369" y="17"/>
                    </a:moveTo>
                    <a:lnTo>
                      <a:pt x="367" y="17"/>
                    </a:lnTo>
                    <a:lnTo>
                      <a:pt x="309" y="4"/>
                    </a:lnTo>
                    <a:lnTo>
                      <a:pt x="288" y="0"/>
                    </a:lnTo>
                    <a:lnTo>
                      <a:pt x="286" y="2"/>
                    </a:lnTo>
                    <a:lnTo>
                      <a:pt x="286" y="2"/>
                    </a:lnTo>
                    <a:lnTo>
                      <a:pt x="284" y="4"/>
                    </a:lnTo>
                    <a:lnTo>
                      <a:pt x="284" y="6"/>
                    </a:lnTo>
                    <a:lnTo>
                      <a:pt x="282" y="6"/>
                    </a:lnTo>
                    <a:lnTo>
                      <a:pt x="282" y="7"/>
                    </a:lnTo>
                    <a:lnTo>
                      <a:pt x="280" y="7"/>
                    </a:lnTo>
                    <a:lnTo>
                      <a:pt x="278" y="9"/>
                    </a:lnTo>
                    <a:lnTo>
                      <a:pt x="307" y="15"/>
                    </a:lnTo>
                    <a:lnTo>
                      <a:pt x="365" y="27"/>
                    </a:lnTo>
                    <a:lnTo>
                      <a:pt x="367" y="29"/>
                    </a:lnTo>
                    <a:lnTo>
                      <a:pt x="367" y="27"/>
                    </a:lnTo>
                    <a:lnTo>
                      <a:pt x="367" y="25"/>
                    </a:lnTo>
                    <a:lnTo>
                      <a:pt x="367" y="25"/>
                    </a:lnTo>
                    <a:lnTo>
                      <a:pt x="369" y="23"/>
                    </a:lnTo>
                    <a:lnTo>
                      <a:pt x="369" y="21"/>
                    </a:lnTo>
                    <a:lnTo>
                      <a:pt x="369" y="21"/>
                    </a:lnTo>
                    <a:lnTo>
                      <a:pt x="369" y="19"/>
                    </a:lnTo>
                    <a:lnTo>
                      <a:pt x="369" y="17"/>
                    </a:lnTo>
                    <a:close/>
                    <a:moveTo>
                      <a:pt x="4" y="2390"/>
                    </a:moveTo>
                    <a:lnTo>
                      <a:pt x="65" y="2392"/>
                    </a:lnTo>
                    <a:lnTo>
                      <a:pt x="129" y="2390"/>
                    </a:lnTo>
                    <a:lnTo>
                      <a:pt x="190" y="2387"/>
                    </a:lnTo>
                    <a:lnTo>
                      <a:pt x="250" y="2379"/>
                    </a:lnTo>
                    <a:lnTo>
                      <a:pt x="309" y="2367"/>
                    </a:lnTo>
                    <a:lnTo>
                      <a:pt x="332" y="2362"/>
                    </a:lnTo>
                    <a:lnTo>
                      <a:pt x="332" y="2360"/>
                    </a:lnTo>
                    <a:lnTo>
                      <a:pt x="332" y="2360"/>
                    </a:lnTo>
                    <a:lnTo>
                      <a:pt x="332" y="2358"/>
                    </a:lnTo>
                    <a:lnTo>
                      <a:pt x="332" y="2356"/>
                    </a:lnTo>
                    <a:lnTo>
                      <a:pt x="332" y="2356"/>
                    </a:lnTo>
                    <a:lnTo>
                      <a:pt x="332" y="2354"/>
                    </a:lnTo>
                    <a:lnTo>
                      <a:pt x="332" y="2352"/>
                    </a:lnTo>
                    <a:lnTo>
                      <a:pt x="332" y="2352"/>
                    </a:lnTo>
                    <a:lnTo>
                      <a:pt x="307" y="2358"/>
                    </a:lnTo>
                    <a:lnTo>
                      <a:pt x="248" y="2367"/>
                    </a:lnTo>
                    <a:lnTo>
                      <a:pt x="188" y="2375"/>
                    </a:lnTo>
                    <a:lnTo>
                      <a:pt x="127" y="2381"/>
                    </a:lnTo>
                    <a:lnTo>
                      <a:pt x="65" y="2381"/>
                    </a:lnTo>
                    <a:lnTo>
                      <a:pt x="4" y="2381"/>
                    </a:lnTo>
                    <a:lnTo>
                      <a:pt x="0" y="2379"/>
                    </a:lnTo>
                    <a:lnTo>
                      <a:pt x="2" y="2381"/>
                    </a:lnTo>
                    <a:lnTo>
                      <a:pt x="2" y="2383"/>
                    </a:lnTo>
                    <a:lnTo>
                      <a:pt x="2" y="2385"/>
                    </a:lnTo>
                    <a:lnTo>
                      <a:pt x="2" y="2385"/>
                    </a:lnTo>
                    <a:lnTo>
                      <a:pt x="2" y="2387"/>
                    </a:lnTo>
                    <a:lnTo>
                      <a:pt x="4" y="2389"/>
                    </a:lnTo>
                    <a:lnTo>
                      <a:pt x="4" y="2389"/>
                    </a:lnTo>
                    <a:lnTo>
                      <a:pt x="4" y="2390"/>
                    </a:lnTo>
                    <a:close/>
                  </a:path>
                </a:pathLst>
              </a:custGeom>
              <a:solidFill>
                <a:srgbClr val="15a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Freeform 31"/>
              <p:cNvSpPr/>
              <p:nvPr/>
            </p:nvSpPr>
            <p:spPr>
              <a:xfrm>
                <a:off x="2171880" y="1186560"/>
                <a:ext cx="624600" cy="4009320"/>
              </a:xfrm>
              <a:custGeom>
                <a:avLst/>
                <a:gdLst>
                  <a:gd name="textAreaLeft" fmla="*/ 0 w 624600"/>
                  <a:gd name="textAreaRight" fmla="*/ 624960 w 624600"/>
                  <a:gd name="textAreaTop" fmla="*/ 0 h 4009320"/>
                  <a:gd name="textAreaBottom" fmla="*/ 4009680 h 4009320"/>
                </a:gdLst>
                <a:ahLst/>
                <a:rect l="textAreaLeft" t="textAreaTop" r="textAreaRight" b="textAreaBottom"/>
                <a:pathLst>
                  <a:path w="371" h="2381">
                    <a:moveTo>
                      <a:pt x="371" y="17"/>
                    </a:moveTo>
                    <a:lnTo>
                      <a:pt x="369" y="17"/>
                    </a:lnTo>
                    <a:lnTo>
                      <a:pt x="309" y="3"/>
                    </a:lnTo>
                    <a:lnTo>
                      <a:pt x="286" y="0"/>
                    </a:lnTo>
                    <a:lnTo>
                      <a:pt x="284" y="0"/>
                    </a:lnTo>
                    <a:lnTo>
                      <a:pt x="284" y="1"/>
                    </a:lnTo>
                    <a:lnTo>
                      <a:pt x="282" y="1"/>
                    </a:lnTo>
                    <a:lnTo>
                      <a:pt x="280" y="3"/>
                    </a:lnTo>
                    <a:lnTo>
                      <a:pt x="280" y="5"/>
                    </a:lnTo>
                    <a:lnTo>
                      <a:pt x="279" y="5"/>
                    </a:lnTo>
                    <a:lnTo>
                      <a:pt x="279" y="7"/>
                    </a:lnTo>
                    <a:lnTo>
                      <a:pt x="277" y="7"/>
                    </a:lnTo>
                    <a:lnTo>
                      <a:pt x="307" y="13"/>
                    </a:lnTo>
                    <a:lnTo>
                      <a:pt x="365" y="26"/>
                    </a:lnTo>
                    <a:lnTo>
                      <a:pt x="369" y="26"/>
                    </a:lnTo>
                    <a:lnTo>
                      <a:pt x="369" y="26"/>
                    </a:lnTo>
                    <a:lnTo>
                      <a:pt x="369" y="24"/>
                    </a:lnTo>
                    <a:lnTo>
                      <a:pt x="369" y="23"/>
                    </a:lnTo>
                    <a:lnTo>
                      <a:pt x="369" y="23"/>
                    </a:lnTo>
                    <a:lnTo>
                      <a:pt x="369" y="21"/>
                    </a:lnTo>
                    <a:lnTo>
                      <a:pt x="369" y="19"/>
                    </a:lnTo>
                    <a:lnTo>
                      <a:pt x="369" y="19"/>
                    </a:lnTo>
                    <a:lnTo>
                      <a:pt x="371" y="17"/>
                    </a:lnTo>
                    <a:close/>
                    <a:moveTo>
                      <a:pt x="4" y="2379"/>
                    </a:moveTo>
                    <a:lnTo>
                      <a:pt x="6" y="2379"/>
                    </a:lnTo>
                    <a:lnTo>
                      <a:pt x="67" y="2381"/>
                    </a:lnTo>
                    <a:lnTo>
                      <a:pt x="131" y="2379"/>
                    </a:lnTo>
                    <a:lnTo>
                      <a:pt x="190" y="2375"/>
                    </a:lnTo>
                    <a:lnTo>
                      <a:pt x="252" y="2367"/>
                    </a:lnTo>
                    <a:lnTo>
                      <a:pt x="309" y="2356"/>
                    </a:lnTo>
                    <a:lnTo>
                      <a:pt x="334" y="2350"/>
                    </a:lnTo>
                    <a:lnTo>
                      <a:pt x="334" y="2350"/>
                    </a:lnTo>
                    <a:lnTo>
                      <a:pt x="334" y="2348"/>
                    </a:lnTo>
                    <a:lnTo>
                      <a:pt x="334" y="2346"/>
                    </a:lnTo>
                    <a:lnTo>
                      <a:pt x="334" y="2346"/>
                    </a:lnTo>
                    <a:lnTo>
                      <a:pt x="334" y="2344"/>
                    </a:lnTo>
                    <a:lnTo>
                      <a:pt x="332" y="2344"/>
                    </a:lnTo>
                    <a:lnTo>
                      <a:pt x="332" y="2342"/>
                    </a:lnTo>
                    <a:lnTo>
                      <a:pt x="332" y="2340"/>
                    </a:lnTo>
                    <a:lnTo>
                      <a:pt x="307" y="2346"/>
                    </a:lnTo>
                    <a:lnTo>
                      <a:pt x="250" y="2358"/>
                    </a:lnTo>
                    <a:lnTo>
                      <a:pt x="190" y="2365"/>
                    </a:lnTo>
                    <a:lnTo>
                      <a:pt x="129" y="2369"/>
                    </a:lnTo>
                    <a:lnTo>
                      <a:pt x="67" y="2371"/>
                    </a:lnTo>
                    <a:lnTo>
                      <a:pt x="6" y="2369"/>
                    </a:lnTo>
                    <a:lnTo>
                      <a:pt x="0" y="2369"/>
                    </a:lnTo>
                    <a:lnTo>
                      <a:pt x="2" y="2369"/>
                    </a:lnTo>
                    <a:lnTo>
                      <a:pt x="2" y="2371"/>
                    </a:lnTo>
                    <a:lnTo>
                      <a:pt x="2" y="2373"/>
                    </a:lnTo>
                    <a:lnTo>
                      <a:pt x="2" y="2373"/>
                    </a:lnTo>
                    <a:lnTo>
                      <a:pt x="4" y="2375"/>
                    </a:lnTo>
                    <a:lnTo>
                      <a:pt x="4" y="2377"/>
                    </a:lnTo>
                    <a:lnTo>
                      <a:pt x="4" y="2379"/>
                    </a:lnTo>
                    <a:lnTo>
                      <a:pt x="4" y="2379"/>
                    </a:lnTo>
                    <a:close/>
                  </a:path>
                </a:pathLst>
              </a:custGeom>
              <a:solidFill>
                <a:srgbClr val="16a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Freeform 32"/>
              <p:cNvSpPr/>
              <p:nvPr/>
            </p:nvSpPr>
            <p:spPr>
              <a:xfrm>
                <a:off x="2168640" y="1191600"/>
                <a:ext cx="624600" cy="3993480"/>
              </a:xfrm>
              <a:custGeom>
                <a:avLst/>
                <a:gdLst>
                  <a:gd name="textAreaLeft" fmla="*/ 0 w 624600"/>
                  <a:gd name="textAreaRight" fmla="*/ 624960 w 624600"/>
                  <a:gd name="textAreaTop" fmla="*/ 0 h 3993480"/>
                  <a:gd name="textAreaBottom" fmla="*/ 3993840 h 3993480"/>
                </a:gdLst>
                <a:ahLst/>
                <a:rect l="textAreaLeft" t="textAreaTop" r="textAreaRight" b="textAreaBottom"/>
                <a:pathLst>
                  <a:path w="371" h="2372">
                    <a:moveTo>
                      <a:pt x="371" y="20"/>
                    </a:moveTo>
                    <a:lnTo>
                      <a:pt x="369" y="18"/>
                    </a:lnTo>
                    <a:lnTo>
                      <a:pt x="311" y="6"/>
                    </a:lnTo>
                    <a:lnTo>
                      <a:pt x="282" y="0"/>
                    </a:lnTo>
                    <a:lnTo>
                      <a:pt x="282" y="2"/>
                    </a:lnTo>
                    <a:lnTo>
                      <a:pt x="281" y="2"/>
                    </a:lnTo>
                    <a:lnTo>
                      <a:pt x="281" y="4"/>
                    </a:lnTo>
                    <a:lnTo>
                      <a:pt x="279" y="4"/>
                    </a:lnTo>
                    <a:lnTo>
                      <a:pt x="279" y="6"/>
                    </a:lnTo>
                    <a:lnTo>
                      <a:pt x="277" y="6"/>
                    </a:lnTo>
                    <a:lnTo>
                      <a:pt x="277" y="8"/>
                    </a:lnTo>
                    <a:lnTo>
                      <a:pt x="275" y="10"/>
                    </a:lnTo>
                    <a:lnTo>
                      <a:pt x="309" y="16"/>
                    </a:lnTo>
                    <a:lnTo>
                      <a:pt x="367" y="29"/>
                    </a:lnTo>
                    <a:lnTo>
                      <a:pt x="369" y="29"/>
                    </a:lnTo>
                    <a:lnTo>
                      <a:pt x="369" y="27"/>
                    </a:lnTo>
                    <a:lnTo>
                      <a:pt x="369" y="27"/>
                    </a:lnTo>
                    <a:lnTo>
                      <a:pt x="371" y="25"/>
                    </a:lnTo>
                    <a:lnTo>
                      <a:pt x="371" y="23"/>
                    </a:lnTo>
                    <a:lnTo>
                      <a:pt x="371" y="23"/>
                    </a:lnTo>
                    <a:lnTo>
                      <a:pt x="371" y="21"/>
                    </a:lnTo>
                    <a:lnTo>
                      <a:pt x="371" y="20"/>
                    </a:lnTo>
                    <a:lnTo>
                      <a:pt x="371" y="20"/>
                    </a:lnTo>
                    <a:close/>
                    <a:moveTo>
                      <a:pt x="4" y="2370"/>
                    </a:moveTo>
                    <a:lnTo>
                      <a:pt x="8" y="2372"/>
                    </a:lnTo>
                    <a:lnTo>
                      <a:pt x="69" y="2372"/>
                    </a:lnTo>
                    <a:lnTo>
                      <a:pt x="131" y="2372"/>
                    </a:lnTo>
                    <a:lnTo>
                      <a:pt x="192" y="2366"/>
                    </a:lnTo>
                    <a:lnTo>
                      <a:pt x="252" y="2358"/>
                    </a:lnTo>
                    <a:lnTo>
                      <a:pt x="311" y="2349"/>
                    </a:lnTo>
                    <a:lnTo>
                      <a:pt x="336" y="2343"/>
                    </a:lnTo>
                    <a:lnTo>
                      <a:pt x="336" y="2341"/>
                    </a:lnTo>
                    <a:lnTo>
                      <a:pt x="334" y="2341"/>
                    </a:lnTo>
                    <a:lnTo>
                      <a:pt x="334" y="2339"/>
                    </a:lnTo>
                    <a:lnTo>
                      <a:pt x="334" y="2337"/>
                    </a:lnTo>
                    <a:lnTo>
                      <a:pt x="334" y="2337"/>
                    </a:lnTo>
                    <a:lnTo>
                      <a:pt x="334" y="2335"/>
                    </a:lnTo>
                    <a:lnTo>
                      <a:pt x="334" y="2333"/>
                    </a:lnTo>
                    <a:lnTo>
                      <a:pt x="334" y="2333"/>
                    </a:lnTo>
                    <a:lnTo>
                      <a:pt x="309" y="2339"/>
                    </a:lnTo>
                    <a:lnTo>
                      <a:pt x="250" y="2349"/>
                    </a:lnTo>
                    <a:lnTo>
                      <a:pt x="190" y="2357"/>
                    </a:lnTo>
                    <a:lnTo>
                      <a:pt x="131" y="2360"/>
                    </a:lnTo>
                    <a:lnTo>
                      <a:pt x="69" y="2362"/>
                    </a:lnTo>
                    <a:lnTo>
                      <a:pt x="10" y="2360"/>
                    </a:lnTo>
                    <a:lnTo>
                      <a:pt x="0" y="2360"/>
                    </a:lnTo>
                    <a:lnTo>
                      <a:pt x="2" y="2362"/>
                    </a:lnTo>
                    <a:lnTo>
                      <a:pt x="2" y="2362"/>
                    </a:lnTo>
                    <a:lnTo>
                      <a:pt x="2" y="2364"/>
                    </a:lnTo>
                    <a:lnTo>
                      <a:pt x="2" y="2366"/>
                    </a:lnTo>
                    <a:lnTo>
                      <a:pt x="4" y="2366"/>
                    </a:lnTo>
                    <a:lnTo>
                      <a:pt x="4" y="2368"/>
                    </a:lnTo>
                    <a:lnTo>
                      <a:pt x="4" y="2370"/>
                    </a:lnTo>
                    <a:lnTo>
                      <a:pt x="4" y="2370"/>
                    </a:lnTo>
                    <a:close/>
                  </a:path>
                </a:pathLst>
              </a:custGeom>
              <a:solidFill>
                <a:srgbClr val="17a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Freeform 33"/>
              <p:cNvSpPr/>
              <p:nvPr/>
            </p:nvSpPr>
            <p:spPr>
              <a:xfrm>
                <a:off x="2165400" y="1198440"/>
                <a:ext cx="627480" cy="3980520"/>
              </a:xfrm>
              <a:custGeom>
                <a:avLst/>
                <a:gdLst>
                  <a:gd name="textAreaLeft" fmla="*/ 0 w 627480"/>
                  <a:gd name="textAreaRight" fmla="*/ 627480 w 627480"/>
                  <a:gd name="textAreaTop" fmla="*/ 0 h 3980520"/>
                  <a:gd name="textAreaBottom" fmla="*/ 3980880 h 3980520"/>
                </a:gdLst>
                <a:ahLst/>
                <a:rect l="textAreaLeft" t="textAreaTop" r="textAreaRight" b="textAreaBottom"/>
                <a:pathLst>
                  <a:path w="373" h="2364">
                    <a:moveTo>
                      <a:pt x="373" y="19"/>
                    </a:moveTo>
                    <a:lnTo>
                      <a:pt x="369" y="19"/>
                    </a:lnTo>
                    <a:lnTo>
                      <a:pt x="311" y="6"/>
                    </a:lnTo>
                    <a:lnTo>
                      <a:pt x="281" y="0"/>
                    </a:lnTo>
                    <a:lnTo>
                      <a:pt x="281" y="2"/>
                    </a:lnTo>
                    <a:lnTo>
                      <a:pt x="279" y="2"/>
                    </a:lnTo>
                    <a:lnTo>
                      <a:pt x="279" y="4"/>
                    </a:lnTo>
                    <a:lnTo>
                      <a:pt x="277" y="6"/>
                    </a:lnTo>
                    <a:lnTo>
                      <a:pt x="275" y="6"/>
                    </a:lnTo>
                    <a:lnTo>
                      <a:pt x="275" y="8"/>
                    </a:lnTo>
                    <a:lnTo>
                      <a:pt x="273" y="8"/>
                    </a:lnTo>
                    <a:lnTo>
                      <a:pt x="273" y="10"/>
                    </a:lnTo>
                    <a:lnTo>
                      <a:pt x="309" y="16"/>
                    </a:lnTo>
                    <a:lnTo>
                      <a:pt x="367" y="29"/>
                    </a:lnTo>
                    <a:lnTo>
                      <a:pt x="371" y="31"/>
                    </a:lnTo>
                    <a:lnTo>
                      <a:pt x="371" y="29"/>
                    </a:lnTo>
                    <a:lnTo>
                      <a:pt x="371" y="27"/>
                    </a:lnTo>
                    <a:lnTo>
                      <a:pt x="371" y="27"/>
                    </a:lnTo>
                    <a:lnTo>
                      <a:pt x="371" y="25"/>
                    </a:lnTo>
                    <a:lnTo>
                      <a:pt x="371" y="23"/>
                    </a:lnTo>
                    <a:lnTo>
                      <a:pt x="371" y="23"/>
                    </a:lnTo>
                    <a:lnTo>
                      <a:pt x="373" y="21"/>
                    </a:lnTo>
                    <a:lnTo>
                      <a:pt x="373" y="19"/>
                    </a:lnTo>
                    <a:close/>
                    <a:moveTo>
                      <a:pt x="4" y="2362"/>
                    </a:moveTo>
                    <a:lnTo>
                      <a:pt x="10" y="2362"/>
                    </a:lnTo>
                    <a:lnTo>
                      <a:pt x="71" y="2364"/>
                    </a:lnTo>
                    <a:lnTo>
                      <a:pt x="133" y="2362"/>
                    </a:lnTo>
                    <a:lnTo>
                      <a:pt x="194" y="2358"/>
                    </a:lnTo>
                    <a:lnTo>
                      <a:pt x="254" y="2351"/>
                    </a:lnTo>
                    <a:lnTo>
                      <a:pt x="311" y="2339"/>
                    </a:lnTo>
                    <a:lnTo>
                      <a:pt x="336" y="2333"/>
                    </a:lnTo>
                    <a:lnTo>
                      <a:pt x="336" y="2333"/>
                    </a:lnTo>
                    <a:lnTo>
                      <a:pt x="336" y="2331"/>
                    </a:lnTo>
                    <a:lnTo>
                      <a:pt x="336" y="2329"/>
                    </a:lnTo>
                    <a:lnTo>
                      <a:pt x="336" y="2329"/>
                    </a:lnTo>
                    <a:lnTo>
                      <a:pt x="336" y="2328"/>
                    </a:lnTo>
                    <a:lnTo>
                      <a:pt x="336" y="2326"/>
                    </a:lnTo>
                    <a:lnTo>
                      <a:pt x="334" y="2326"/>
                    </a:lnTo>
                    <a:lnTo>
                      <a:pt x="334" y="2324"/>
                    </a:lnTo>
                    <a:lnTo>
                      <a:pt x="309" y="2329"/>
                    </a:lnTo>
                    <a:lnTo>
                      <a:pt x="252" y="2339"/>
                    </a:lnTo>
                    <a:lnTo>
                      <a:pt x="192" y="2347"/>
                    </a:lnTo>
                    <a:lnTo>
                      <a:pt x="133" y="2353"/>
                    </a:lnTo>
                    <a:lnTo>
                      <a:pt x="71" y="2353"/>
                    </a:lnTo>
                    <a:lnTo>
                      <a:pt x="12" y="2353"/>
                    </a:lnTo>
                    <a:lnTo>
                      <a:pt x="0" y="2351"/>
                    </a:lnTo>
                    <a:lnTo>
                      <a:pt x="2" y="2353"/>
                    </a:lnTo>
                    <a:lnTo>
                      <a:pt x="2" y="2354"/>
                    </a:lnTo>
                    <a:lnTo>
                      <a:pt x="2" y="2354"/>
                    </a:lnTo>
                    <a:lnTo>
                      <a:pt x="2" y="2356"/>
                    </a:lnTo>
                    <a:lnTo>
                      <a:pt x="4" y="2358"/>
                    </a:lnTo>
                    <a:lnTo>
                      <a:pt x="4" y="2358"/>
                    </a:lnTo>
                    <a:lnTo>
                      <a:pt x="4" y="2360"/>
                    </a:lnTo>
                    <a:lnTo>
                      <a:pt x="4" y="2362"/>
                    </a:lnTo>
                    <a:close/>
                  </a:path>
                </a:pathLst>
              </a:custGeom>
              <a:solidFill>
                <a:srgbClr val="18a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Freeform 34"/>
              <p:cNvSpPr/>
              <p:nvPr/>
            </p:nvSpPr>
            <p:spPr>
              <a:xfrm>
                <a:off x="2165400" y="1208520"/>
                <a:ext cx="624600" cy="3960000"/>
              </a:xfrm>
              <a:custGeom>
                <a:avLst/>
                <a:gdLst>
                  <a:gd name="textAreaLeft" fmla="*/ 0 w 624600"/>
                  <a:gd name="textAreaRight" fmla="*/ 624960 w 624600"/>
                  <a:gd name="textAreaTop" fmla="*/ 0 h 3960000"/>
                  <a:gd name="textAreaBottom" fmla="*/ 3960360 h 3960000"/>
                </a:gdLst>
                <a:ahLst/>
                <a:rect l="textAreaLeft" t="textAreaTop" r="textAreaRight" b="textAreaBottom"/>
                <a:pathLst>
                  <a:path w="371" h="2352">
                    <a:moveTo>
                      <a:pt x="371" y="19"/>
                    </a:moveTo>
                    <a:lnTo>
                      <a:pt x="369" y="19"/>
                    </a:lnTo>
                    <a:lnTo>
                      <a:pt x="311" y="6"/>
                    </a:lnTo>
                    <a:lnTo>
                      <a:pt x="277" y="0"/>
                    </a:lnTo>
                    <a:lnTo>
                      <a:pt x="275" y="0"/>
                    </a:lnTo>
                    <a:lnTo>
                      <a:pt x="275" y="2"/>
                    </a:lnTo>
                    <a:lnTo>
                      <a:pt x="273" y="2"/>
                    </a:lnTo>
                    <a:lnTo>
                      <a:pt x="273" y="4"/>
                    </a:lnTo>
                    <a:lnTo>
                      <a:pt x="271" y="4"/>
                    </a:lnTo>
                    <a:lnTo>
                      <a:pt x="271" y="6"/>
                    </a:lnTo>
                    <a:lnTo>
                      <a:pt x="269" y="8"/>
                    </a:lnTo>
                    <a:lnTo>
                      <a:pt x="269" y="8"/>
                    </a:lnTo>
                    <a:lnTo>
                      <a:pt x="309" y="15"/>
                    </a:lnTo>
                    <a:lnTo>
                      <a:pt x="365" y="29"/>
                    </a:lnTo>
                    <a:lnTo>
                      <a:pt x="369" y="29"/>
                    </a:lnTo>
                    <a:lnTo>
                      <a:pt x="369" y="29"/>
                    </a:lnTo>
                    <a:lnTo>
                      <a:pt x="369" y="27"/>
                    </a:lnTo>
                    <a:lnTo>
                      <a:pt x="371" y="25"/>
                    </a:lnTo>
                    <a:lnTo>
                      <a:pt x="371" y="25"/>
                    </a:lnTo>
                    <a:lnTo>
                      <a:pt x="371" y="23"/>
                    </a:lnTo>
                    <a:lnTo>
                      <a:pt x="371" y="21"/>
                    </a:lnTo>
                    <a:lnTo>
                      <a:pt x="371" y="21"/>
                    </a:lnTo>
                    <a:lnTo>
                      <a:pt x="371" y="19"/>
                    </a:lnTo>
                    <a:close/>
                    <a:moveTo>
                      <a:pt x="2" y="2350"/>
                    </a:moveTo>
                    <a:lnTo>
                      <a:pt x="12" y="2350"/>
                    </a:lnTo>
                    <a:lnTo>
                      <a:pt x="71" y="2352"/>
                    </a:lnTo>
                    <a:lnTo>
                      <a:pt x="133" y="2350"/>
                    </a:lnTo>
                    <a:lnTo>
                      <a:pt x="192" y="2347"/>
                    </a:lnTo>
                    <a:lnTo>
                      <a:pt x="252" y="2339"/>
                    </a:lnTo>
                    <a:lnTo>
                      <a:pt x="311" y="2329"/>
                    </a:lnTo>
                    <a:lnTo>
                      <a:pt x="336" y="2323"/>
                    </a:lnTo>
                    <a:lnTo>
                      <a:pt x="336" y="2322"/>
                    </a:lnTo>
                    <a:lnTo>
                      <a:pt x="336" y="2320"/>
                    </a:lnTo>
                    <a:lnTo>
                      <a:pt x="334" y="2320"/>
                    </a:lnTo>
                    <a:lnTo>
                      <a:pt x="334" y="2318"/>
                    </a:lnTo>
                    <a:lnTo>
                      <a:pt x="334" y="2316"/>
                    </a:lnTo>
                    <a:lnTo>
                      <a:pt x="334" y="2316"/>
                    </a:lnTo>
                    <a:lnTo>
                      <a:pt x="334" y="2314"/>
                    </a:lnTo>
                    <a:lnTo>
                      <a:pt x="334" y="2312"/>
                    </a:lnTo>
                    <a:lnTo>
                      <a:pt x="309" y="2318"/>
                    </a:lnTo>
                    <a:lnTo>
                      <a:pt x="252" y="2329"/>
                    </a:lnTo>
                    <a:lnTo>
                      <a:pt x="192" y="2337"/>
                    </a:lnTo>
                    <a:lnTo>
                      <a:pt x="133" y="2341"/>
                    </a:lnTo>
                    <a:lnTo>
                      <a:pt x="71" y="2343"/>
                    </a:lnTo>
                    <a:lnTo>
                      <a:pt x="12" y="2341"/>
                    </a:lnTo>
                    <a:lnTo>
                      <a:pt x="0" y="2339"/>
                    </a:lnTo>
                    <a:lnTo>
                      <a:pt x="0" y="2341"/>
                    </a:lnTo>
                    <a:lnTo>
                      <a:pt x="0" y="2343"/>
                    </a:lnTo>
                    <a:lnTo>
                      <a:pt x="0" y="2345"/>
                    </a:lnTo>
                    <a:lnTo>
                      <a:pt x="0" y="2345"/>
                    </a:lnTo>
                    <a:lnTo>
                      <a:pt x="2" y="2347"/>
                    </a:lnTo>
                    <a:lnTo>
                      <a:pt x="2" y="2348"/>
                    </a:lnTo>
                    <a:lnTo>
                      <a:pt x="2" y="2348"/>
                    </a:lnTo>
                    <a:lnTo>
                      <a:pt x="2" y="2350"/>
                    </a:lnTo>
                    <a:close/>
                  </a:path>
                </a:pathLst>
              </a:custGeom>
              <a:solidFill>
                <a:srgbClr val="19a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Freeform 35"/>
              <p:cNvSpPr/>
              <p:nvPr/>
            </p:nvSpPr>
            <p:spPr>
              <a:xfrm>
                <a:off x="2161800" y="1215000"/>
                <a:ext cx="627840" cy="3945240"/>
              </a:xfrm>
              <a:custGeom>
                <a:avLst/>
                <a:gdLst>
                  <a:gd name="textAreaLeft" fmla="*/ 0 w 627840"/>
                  <a:gd name="textAreaRight" fmla="*/ 628200 w 627840"/>
                  <a:gd name="textAreaTop" fmla="*/ 0 h 3945240"/>
                  <a:gd name="textAreaBottom" fmla="*/ 3945600 h 3945240"/>
                </a:gdLst>
                <a:ahLst/>
                <a:rect l="textAreaLeft" t="textAreaTop" r="textAreaRight" b="textAreaBottom"/>
                <a:pathLst>
                  <a:path w="373" h="2343">
                    <a:moveTo>
                      <a:pt x="373" y="21"/>
                    </a:moveTo>
                    <a:lnTo>
                      <a:pt x="369" y="19"/>
                    </a:lnTo>
                    <a:lnTo>
                      <a:pt x="311" y="6"/>
                    </a:lnTo>
                    <a:lnTo>
                      <a:pt x="275" y="0"/>
                    </a:lnTo>
                    <a:lnTo>
                      <a:pt x="273" y="0"/>
                    </a:lnTo>
                    <a:lnTo>
                      <a:pt x="273" y="2"/>
                    </a:lnTo>
                    <a:lnTo>
                      <a:pt x="271" y="4"/>
                    </a:lnTo>
                    <a:lnTo>
                      <a:pt x="271" y="4"/>
                    </a:lnTo>
                    <a:lnTo>
                      <a:pt x="269" y="6"/>
                    </a:lnTo>
                    <a:lnTo>
                      <a:pt x="269" y="6"/>
                    </a:lnTo>
                    <a:lnTo>
                      <a:pt x="267" y="7"/>
                    </a:lnTo>
                    <a:lnTo>
                      <a:pt x="265" y="9"/>
                    </a:lnTo>
                    <a:lnTo>
                      <a:pt x="309" y="17"/>
                    </a:lnTo>
                    <a:lnTo>
                      <a:pt x="367" y="29"/>
                    </a:lnTo>
                    <a:lnTo>
                      <a:pt x="371" y="30"/>
                    </a:lnTo>
                    <a:lnTo>
                      <a:pt x="371" y="29"/>
                    </a:lnTo>
                    <a:lnTo>
                      <a:pt x="371" y="29"/>
                    </a:lnTo>
                    <a:lnTo>
                      <a:pt x="371" y="27"/>
                    </a:lnTo>
                    <a:lnTo>
                      <a:pt x="371" y="25"/>
                    </a:lnTo>
                    <a:lnTo>
                      <a:pt x="371" y="25"/>
                    </a:lnTo>
                    <a:lnTo>
                      <a:pt x="371" y="23"/>
                    </a:lnTo>
                    <a:lnTo>
                      <a:pt x="373" y="21"/>
                    </a:lnTo>
                    <a:lnTo>
                      <a:pt x="373" y="21"/>
                    </a:lnTo>
                    <a:close/>
                    <a:moveTo>
                      <a:pt x="2" y="2341"/>
                    </a:moveTo>
                    <a:lnTo>
                      <a:pt x="14" y="2343"/>
                    </a:lnTo>
                    <a:lnTo>
                      <a:pt x="73" y="2343"/>
                    </a:lnTo>
                    <a:lnTo>
                      <a:pt x="135" y="2343"/>
                    </a:lnTo>
                    <a:lnTo>
                      <a:pt x="194" y="2337"/>
                    </a:lnTo>
                    <a:lnTo>
                      <a:pt x="254" y="2329"/>
                    </a:lnTo>
                    <a:lnTo>
                      <a:pt x="311" y="2319"/>
                    </a:lnTo>
                    <a:lnTo>
                      <a:pt x="336" y="2314"/>
                    </a:lnTo>
                    <a:lnTo>
                      <a:pt x="336" y="2312"/>
                    </a:lnTo>
                    <a:lnTo>
                      <a:pt x="336" y="2312"/>
                    </a:lnTo>
                    <a:lnTo>
                      <a:pt x="336" y="2310"/>
                    </a:lnTo>
                    <a:lnTo>
                      <a:pt x="336" y="2308"/>
                    </a:lnTo>
                    <a:lnTo>
                      <a:pt x="336" y="2308"/>
                    </a:lnTo>
                    <a:lnTo>
                      <a:pt x="336" y="2306"/>
                    </a:lnTo>
                    <a:lnTo>
                      <a:pt x="336" y="2304"/>
                    </a:lnTo>
                    <a:lnTo>
                      <a:pt x="336" y="2304"/>
                    </a:lnTo>
                    <a:lnTo>
                      <a:pt x="309" y="2310"/>
                    </a:lnTo>
                    <a:lnTo>
                      <a:pt x="252" y="2319"/>
                    </a:lnTo>
                    <a:lnTo>
                      <a:pt x="194" y="2327"/>
                    </a:lnTo>
                    <a:lnTo>
                      <a:pt x="135" y="2331"/>
                    </a:lnTo>
                    <a:lnTo>
                      <a:pt x="73" y="2333"/>
                    </a:lnTo>
                    <a:lnTo>
                      <a:pt x="14" y="2331"/>
                    </a:lnTo>
                    <a:lnTo>
                      <a:pt x="0" y="2331"/>
                    </a:lnTo>
                    <a:lnTo>
                      <a:pt x="0" y="2331"/>
                    </a:lnTo>
                    <a:lnTo>
                      <a:pt x="0" y="2333"/>
                    </a:lnTo>
                    <a:lnTo>
                      <a:pt x="0" y="2335"/>
                    </a:lnTo>
                    <a:lnTo>
                      <a:pt x="2" y="2335"/>
                    </a:lnTo>
                    <a:lnTo>
                      <a:pt x="2" y="2337"/>
                    </a:lnTo>
                    <a:lnTo>
                      <a:pt x="2" y="2339"/>
                    </a:lnTo>
                    <a:lnTo>
                      <a:pt x="2" y="2341"/>
                    </a:lnTo>
                    <a:lnTo>
                      <a:pt x="2" y="2341"/>
                    </a:lnTo>
                    <a:close/>
                  </a:path>
                </a:pathLst>
              </a:custGeom>
              <a:solidFill>
                <a:srgbClr val="1aa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Freeform 36"/>
              <p:cNvSpPr/>
              <p:nvPr/>
            </p:nvSpPr>
            <p:spPr>
              <a:xfrm>
                <a:off x="2160000" y="1221840"/>
                <a:ext cx="626400" cy="3931560"/>
              </a:xfrm>
              <a:custGeom>
                <a:avLst/>
                <a:gdLst>
                  <a:gd name="textAreaLeft" fmla="*/ 0 w 626400"/>
                  <a:gd name="textAreaRight" fmla="*/ 626400 w 626400"/>
                  <a:gd name="textAreaTop" fmla="*/ 0 h 3931560"/>
                  <a:gd name="textAreaBottom" fmla="*/ 3931920 h 3931560"/>
                </a:gdLst>
                <a:ahLst/>
                <a:rect l="textAreaLeft" t="textAreaTop" r="textAreaRight" b="textAreaBottom"/>
                <a:pathLst>
                  <a:path w="372" h="2335">
                    <a:moveTo>
                      <a:pt x="372" y="21"/>
                    </a:moveTo>
                    <a:lnTo>
                      <a:pt x="368" y="21"/>
                    </a:lnTo>
                    <a:lnTo>
                      <a:pt x="312" y="7"/>
                    </a:lnTo>
                    <a:lnTo>
                      <a:pt x="272" y="0"/>
                    </a:lnTo>
                    <a:lnTo>
                      <a:pt x="270" y="2"/>
                    </a:lnTo>
                    <a:lnTo>
                      <a:pt x="270" y="2"/>
                    </a:lnTo>
                    <a:lnTo>
                      <a:pt x="268" y="3"/>
                    </a:lnTo>
                    <a:lnTo>
                      <a:pt x="266" y="5"/>
                    </a:lnTo>
                    <a:lnTo>
                      <a:pt x="266" y="5"/>
                    </a:lnTo>
                    <a:lnTo>
                      <a:pt x="264" y="7"/>
                    </a:lnTo>
                    <a:lnTo>
                      <a:pt x="264" y="7"/>
                    </a:lnTo>
                    <a:lnTo>
                      <a:pt x="263" y="9"/>
                    </a:lnTo>
                    <a:lnTo>
                      <a:pt x="310" y="17"/>
                    </a:lnTo>
                    <a:lnTo>
                      <a:pt x="366" y="30"/>
                    </a:lnTo>
                    <a:lnTo>
                      <a:pt x="370" y="32"/>
                    </a:lnTo>
                    <a:lnTo>
                      <a:pt x="370" y="30"/>
                    </a:lnTo>
                    <a:lnTo>
                      <a:pt x="370" y="28"/>
                    </a:lnTo>
                    <a:lnTo>
                      <a:pt x="372" y="28"/>
                    </a:lnTo>
                    <a:lnTo>
                      <a:pt x="372" y="26"/>
                    </a:lnTo>
                    <a:lnTo>
                      <a:pt x="372" y="25"/>
                    </a:lnTo>
                    <a:lnTo>
                      <a:pt x="372" y="25"/>
                    </a:lnTo>
                    <a:lnTo>
                      <a:pt x="372" y="23"/>
                    </a:lnTo>
                    <a:lnTo>
                      <a:pt x="372" y="21"/>
                    </a:lnTo>
                    <a:close/>
                    <a:moveTo>
                      <a:pt x="3" y="2331"/>
                    </a:moveTo>
                    <a:lnTo>
                      <a:pt x="15" y="2333"/>
                    </a:lnTo>
                    <a:lnTo>
                      <a:pt x="74" y="2335"/>
                    </a:lnTo>
                    <a:lnTo>
                      <a:pt x="136" y="2333"/>
                    </a:lnTo>
                    <a:lnTo>
                      <a:pt x="195" y="2329"/>
                    </a:lnTo>
                    <a:lnTo>
                      <a:pt x="255" y="2321"/>
                    </a:lnTo>
                    <a:lnTo>
                      <a:pt x="312" y="2310"/>
                    </a:lnTo>
                    <a:lnTo>
                      <a:pt x="337" y="2304"/>
                    </a:lnTo>
                    <a:lnTo>
                      <a:pt x="337" y="2304"/>
                    </a:lnTo>
                    <a:lnTo>
                      <a:pt x="337" y="2302"/>
                    </a:lnTo>
                    <a:lnTo>
                      <a:pt x="337" y="2300"/>
                    </a:lnTo>
                    <a:lnTo>
                      <a:pt x="337" y="2300"/>
                    </a:lnTo>
                    <a:lnTo>
                      <a:pt x="335" y="2298"/>
                    </a:lnTo>
                    <a:lnTo>
                      <a:pt x="335" y="2296"/>
                    </a:lnTo>
                    <a:lnTo>
                      <a:pt x="335" y="2296"/>
                    </a:lnTo>
                    <a:lnTo>
                      <a:pt x="335" y="2294"/>
                    </a:lnTo>
                    <a:lnTo>
                      <a:pt x="310" y="2300"/>
                    </a:lnTo>
                    <a:lnTo>
                      <a:pt x="253" y="2310"/>
                    </a:lnTo>
                    <a:lnTo>
                      <a:pt x="193" y="2317"/>
                    </a:lnTo>
                    <a:lnTo>
                      <a:pt x="136" y="2323"/>
                    </a:lnTo>
                    <a:lnTo>
                      <a:pt x="74" y="2323"/>
                    </a:lnTo>
                    <a:lnTo>
                      <a:pt x="15" y="2323"/>
                    </a:lnTo>
                    <a:lnTo>
                      <a:pt x="0" y="2321"/>
                    </a:lnTo>
                    <a:lnTo>
                      <a:pt x="0" y="2323"/>
                    </a:lnTo>
                    <a:lnTo>
                      <a:pt x="0" y="2323"/>
                    </a:lnTo>
                    <a:lnTo>
                      <a:pt x="0" y="2325"/>
                    </a:lnTo>
                    <a:lnTo>
                      <a:pt x="1" y="2327"/>
                    </a:lnTo>
                    <a:lnTo>
                      <a:pt x="1" y="2327"/>
                    </a:lnTo>
                    <a:lnTo>
                      <a:pt x="1" y="2329"/>
                    </a:lnTo>
                    <a:lnTo>
                      <a:pt x="1" y="2331"/>
                    </a:lnTo>
                    <a:lnTo>
                      <a:pt x="3" y="2331"/>
                    </a:lnTo>
                    <a:close/>
                  </a:path>
                </a:pathLst>
              </a:custGeom>
              <a:solidFill>
                <a:srgbClr val="1ba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Freeform 37"/>
              <p:cNvSpPr/>
              <p:nvPr/>
            </p:nvSpPr>
            <p:spPr>
              <a:xfrm>
                <a:off x="2157120" y="1230480"/>
                <a:ext cx="629640" cy="3912840"/>
              </a:xfrm>
              <a:custGeom>
                <a:avLst/>
                <a:gdLst>
                  <a:gd name="textAreaLeft" fmla="*/ 0 w 629640"/>
                  <a:gd name="textAreaRight" fmla="*/ 629640 w 629640"/>
                  <a:gd name="textAreaTop" fmla="*/ 0 h 3912840"/>
                  <a:gd name="textAreaBottom" fmla="*/ 3913200 h 3912840"/>
                </a:gdLst>
                <a:ahLst/>
                <a:rect l="textAreaLeft" t="textAreaTop" r="textAreaRight" b="textAreaBottom"/>
                <a:pathLst>
                  <a:path w="374" h="2324">
                    <a:moveTo>
                      <a:pt x="374" y="21"/>
                    </a:moveTo>
                    <a:lnTo>
                      <a:pt x="370" y="20"/>
                    </a:lnTo>
                    <a:lnTo>
                      <a:pt x="312" y="8"/>
                    </a:lnTo>
                    <a:lnTo>
                      <a:pt x="268" y="0"/>
                    </a:lnTo>
                    <a:lnTo>
                      <a:pt x="268" y="0"/>
                    </a:lnTo>
                    <a:lnTo>
                      <a:pt x="266" y="2"/>
                    </a:lnTo>
                    <a:lnTo>
                      <a:pt x="266" y="2"/>
                    </a:lnTo>
                    <a:lnTo>
                      <a:pt x="265" y="4"/>
                    </a:lnTo>
                    <a:lnTo>
                      <a:pt x="265" y="4"/>
                    </a:lnTo>
                    <a:lnTo>
                      <a:pt x="263" y="6"/>
                    </a:lnTo>
                    <a:lnTo>
                      <a:pt x="263" y="8"/>
                    </a:lnTo>
                    <a:lnTo>
                      <a:pt x="261" y="8"/>
                    </a:lnTo>
                    <a:lnTo>
                      <a:pt x="311" y="18"/>
                    </a:lnTo>
                    <a:lnTo>
                      <a:pt x="366" y="31"/>
                    </a:lnTo>
                    <a:lnTo>
                      <a:pt x="372" y="31"/>
                    </a:lnTo>
                    <a:lnTo>
                      <a:pt x="372" y="31"/>
                    </a:lnTo>
                    <a:lnTo>
                      <a:pt x="372" y="29"/>
                    </a:lnTo>
                    <a:lnTo>
                      <a:pt x="372" y="27"/>
                    </a:lnTo>
                    <a:lnTo>
                      <a:pt x="372" y="27"/>
                    </a:lnTo>
                    <a:lnTo>
                      <a:pt x="372" y="25"/>
                    </a:lnTo>
                    <a:lnTo>
                      <a:pt x="372" y="23"/>
                    </a:lnTo>
                    <a:lnTo>
                      <a:pt x="374" y="23"/>
                    </a:lnTo>
                    <a:lnTo>
                      <a:pt x="374" y="21"/>
                    </a:lnTo>
                    <a:close/>
                    <a:moveTo>
                      <a:pt x="3" y="2322"/>
                    </a:moveTo>
                    <a:lnTo>
                      <a:pt x="17" y="2322"/>
                    </a:lnTo>
                    <a:lnTo>
                      <a:pt x="76" y="2324"/>
                    </a:lnTo>
                    <a:lnTo>
                      <a:pt x="138" y="2322"/>
                    </a:lnTo>
                    <a:lnTo>
                      <a:pt x="197" y="2318"/>
                    </a:lnTo>
                    <a:lnTo>
                      <a:pt x="255" y="2310"/>
                    </a:lnTo>
                    <a:lnTo>
                      <a:pt x="312" y="2301"/>
                    </a:lnTo>
                    <a:lnTo>
                      <a:pt x="339" y="2295"/>
                    </a:lnTo>
                    <a:lnTo>
                      <a:pt x="337" y="2293"/>
                    </a:lnTo>
                    <a:lnTo>
                      <a:pt x="337" y="2291"/>
                    </a:lnTo>
                    <a:lnTo>
                      <a:pt x="337" y="2291"/>
                    </a:lnTo>
                    <a:lnTo>
                      <a:pt x="337" y="2289"/>
                    </a:lnTo>
                    <a:lnTo>
                      <a:pt x="337" y="2287"/>
                    </a:lnTo>
                    <a:lnTo>
                      <a:pt x="337" y="2287"/>
                    </a:lnTo>
                    <a:lnTo>
                      <a:pt x="337" y="2286"/>
                    </a:lnTo>
                    <a:lnTo>
                      <a:pt x="337" y="2284"/>
                    </a:lnTo>
                    <a:lnTo>
                      <a:pt x="311" y="2289"/>
                    </a:lnTo>
                    <a:lnTo>
                      <a:pt x="253" y="2301"/>
                    </a:lnTo>
                    <a:lnTo>
                      <a:pt x="195" y="2309"/>
                    </a:lnTo>
                    <a:lnTo>
                      <a:pt x="136" y="2312"/>
                    </a:lnTo>
                    <a:lnTo>
                      <a:pt x="76" y="2314"/>
                    </a:lnTo>
                    <a:lnTo>
                      <a:pt x="17" y="2312"/>
                    </a:lnTo>
                    <a:lnTo>
                      <a:pt x="0" y="2310"/>
                    </a:lnTo>
                    <a:lnTo>
                      <a:pt x="0" y="2312"/>
                    </a:lnTo>
                    <a:lnTo>
                      <a:pt x="0" y="2314"/>
                    </a:lnTo>
                    <a:lnTo>
                      <a:pt x="0" y="2314"/>
                    </a:lnTo>
                    <a:lnTo>
                      <a:pt x="2" y="2316"/>
                    </a:lnTo>
                    <a:lnTo>
                      <a:pt x="2" y="2318"/>
                    </a:lnTo>
                    <a:lnTo>
                      <a:pt x="2" y="2318"/>
                    </a:lnTo>
                    <a:lnTo>
                      <a:pt x="2" y="2320"/>
                    </a:lnTo>
                    <a:lnTo>
                      <a:pt x="3" y="2322"/>
                    </a:lnTo>
                    <a:close/>
                  </a:path>
                </a:pathLst>
              </a:custGeom>
              <a:solidFill>
                <a:srgbClr val="1ca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Freeform 38"/>
              <p:cNvSpPr/>
              <p:nvPr/>
            </p:nvSpPr>
            <p:spPr>
              <a:xfrm>
                <a:off x="2153520" y="1237320"/>
                <a:ext cx="629640" cy="3896280"/>
              </a:xfrm>
              <a:custGeom>
                <a:avLst/>
                <a:gdLst>
                  <a:gd name="textAreaLeft" fmla="*/ 0 w 629640"/>
                  <a:gd name="textAreaRight" fmla="*/ 629640 w 629640"/>
                  <a:gd name="textAreaTop" fmla="*/ 0 h 3896280"/>
                  <a:gd name="textAreaBottom" fmla="*/ 3896640 h 3896280"/>
                </a:gdLst>
                <a:ahLst/>
                <a:rect l="textAreaLeft" t="textAreaTop" r="textAreaRight" b="textAreaBottom"/>
                <a:pathLst>
                  <a:path w="374" h="2314">
                    <a:moveTo>
                      <a:pt x="374" y="23"/>
                    </a:moveTo>
                    <a:lnTo>
                      <a:pt x="370" y="21"/>
                    </a:lnTo>
                    <a:lnTo>
                      <a:pt x="314" y="8"/>
                    </a:lnTo>
                    <a:lnTo>
                      <a:pt x="267" y="0"/>
                    </a:lnTo>
                    <a:lnTo>
                      <a:pt x="267" y="0"/>
                    </a:lnTo>
                    <a:lnTo>
                      <a:pt x="265" y="2"/>
                    </a:lnTo>
                    <a:lnTo>
                      <a:pt x="265" y="4"/>
                    </a:lnTo>
                    <a:lnTo>
                      <a:pt x="263" y="4"/>
                    </a:lnTo>
                    <a:lnTo>
                      <a:pt x="263" y="6"/>
                    </a:lnTo>
                    <a:lnTo>
                      <a:pt x="261" y="6"/>
                    </a:lnTo>
                    <a:lnTo>
                      <a:pt x="261" y="8"/>
                    </a:lnTo>
                    <a:lnTo>
                      <a:pt x="259" y="10"/>
                    </a:lnTo>
                    <a:lnTo>
                      <a:pt x="313" y="17"/>
                    </a:lnTo>
                    <a:lnTo>
                      <a:pt x="368" y="31"/>
                    </a:lnTo>
                    <a:lnTo>
                      <a:pt x="372" y="33"/>
                    </a:lnTo>
                    <a:lnTo>
                      <a:pt x="372" y="31"/>
                    </a:lnTo>
                    <a:lnTo>
                      <a:pt x="374" y="31"/>
                    </a:lnTo>
                    <a:lnTo>
                      <a:pt x="374" y="29"/>
                    </a:lnTo>
                    <a:lnTo>
                      <a:pt x="374" y="27"/>
                    </a:lnTo>
                    <a:lnTo>
                      <a:pt x="374" y="27"/>
                    </a:lnTo>
                    <a:lnTo>
                      <a:pt x="374" y="25"/>
                    </a:lnTo>
                    <a:lnTo>
                      <a:pt x="374" y="23"/>
                    </a:lnTo>
                    <a:lnTo>
                      <a:pt x="374" y="23"/>
                    </a:lnTo>
                    <a:close/>
                    <a:moveTo>
                      <a:pt x="4" y="2312"/>
                    </a:moveTo>
                    <a:lnTo>
                      <a:pt x="19" y="2314"/>
                    </a:lnTo>
                    <a:lnTo>
                      <a:pt x="78" y="2314"/>
                    </a:lnTo>
                    <a:lnTo>
                      <a:pt x="140" y="2314"/>
                    </a:lnTo>
                    <a:lnTo>
                      <a:pt x="197" y="2308"/>
                    </a:lnTo>
                    <a:lnTo>
                      <a:pt x="257" y="2301"/>
                    </a:lnTo>
                    <a:lnTo>
                      <a:pt x="314" y="2291"/>
                    </a:lnTo>
                    <a:lnTo>
                      <a:pt x="339" y="2285"/>
                    </a:lnTo>
                    <a:lnTo>
                      <a:pt x="339" y="2283"/>
                    </a:lnTo>
                    <a:lnTo>
                      <a:pt x="339" y="2283"/>
                    </a:lnTo>
                    <a:lnTo>
                      <a:pt x="339" y="2282"/>
                    </a:lnTo>
                    <a:lnTo>
                      <a:pt x="339" y="2280"/>
                    </a:lnTo>
                    <a:lnTo>
                      <a:pt x="339" y="2280"/>
                    </a:lnTo>
                    <a:lnTo>
                      <a:pt x="338" y="2278"/>
                    </a:lnTo>
                    <a:lnTo>
                      <a:pt x="338" y="2276"/>
                    </a:lnTo>
                    <a:lnTo>
                      <a:pt x="338" y="2276"/>
                    </a:lnTo>
                    <a:lnTo>
                      <a:pt x="313" y="2282"/>
                    </a:lnTo>
                    <a:lnTo>
                      <a:pt x="255" y="2291"/>
                    </a:lnTo>
                    <a:lnTo>
                      <a:pt x="197" y="2299"/>
                    </a:lnTo>
                    <a:lnTo>
                      <a:pt x="138" y="2303"/>
                    </a:lnTo>
                    <a:lnTo>
                      <a:pt x="78" y="2305"/>
                    </a:lnTo>
                    <a:lnTo>
                      <a:pt x="19" y="2303"/>
                    </a:lnTo>
                    <a:lnTo>
                      <a:pt x="0" y="2301"/>
                    </a:lnTo>
                    <a:lnTo>
                      <a:pt x="0" y="2303"/>
                    </a:lnTo>
                    <a:lnTo>
                      <a:pt x="0" y="2305"/>
                    </a:lnTo>
                    <a:lnTo>
                      <a:pt x="0" y="2306"/>
                    </a:lnTo>
                    <a:lnTo>
                      <a:pt x="2" y="2306"/>
                    </a:lnTo>
                    <a:lnTo>
                      <a:pt x="2" y="2308"/>
                    </a:lnTo>
                    <a:lnTo>
                      <a:pt x="2" y="2310"/>
                    </a:lnTo>
                    <a:lnTo>
                      <a:pt x="2" y="2310"/>
                    </a:lnTo>
                    <a:lnTo>
                      <a:pt x="4" y="2312"/>
                    </a:lnTo>
                    <a:close/>
                  </a:path>
                </a:pathLst>
              </a:custGeom>
              <a:solidFill>
                <a:srgbClr val="1da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Freeform 39"/>
              <p:cNvSpPr/>
              <p:nvPr/>
            </p:nvSpPr>
            <p:spPr>
              <a:xfrm>
                <a:off x="2150280" y="1243800"/>
                <a:ext cx="632880" cy="3882960"/>
              </a:xfrm>
              <a:custGeom>
                <a:avLst/>
                <a:gdLst>
                  <a:gd name="textAreaLeft" fmla="*/ 0 w 632880"/>
                  <a:gd name="textAreaRight" fmla="*/ 633240 w 632880"/>
                  <a:gd name="textAreaTop" fmla="*/ 0 h 3882960"/>
                  <a:gd name="textAreaBottom" fmla="*/ 3883320 h 3882960"/>
                </a:gdLst>
                <a:ahLst/>
                <a:rect l="textAreaLeft" t="textAreaTop" r="textAreaRight" b="textAreaBottom"/>
                <a:pathLst>
                  <a:path w="376" h="2306">
                    <a:moveTo>
                      <a:pt x="376" y="23"/>
                    </a:moveTo>
                    <a:lnTo>
                      <a:pt x="370" y="23"/>
                    </a:lnTo>
                    <a:lnTo>
                      <a:pt x="315" y="10"/>
                    </a:lnTo>
                    <a:lnTo>
                      <a:pt x="265" y="0"/>
                    </a:lnTo>
                    <a:lnTo>
                      <a:pt x="265" y="2"/>
                    </a:lnTo>
                    <a:lnTo>
                      <a:pt x="263" y="2"/>
                    </a:lnTo>
                    <a:lnTo>
                      <a:pt x="263" y="4"/>
                    </a:lnTo>
                    <a:lnTo>
                      <a:pt x="261" y="6"/>
                    </a:lnTo>
                    <a:lnTo>
                      <a:pt x="261" y="6"/>
                    </a:lnTo>
                    <a:lnTo>
                      <a:pt x="259" y="8"/>
                    </a:lnTo>
                    <a:lnTo>
                      <a:pt x="259" y="8"/>
                    </a:lnTo>
                    <a:lnTo>
                      <a:pt x="257" y="10"/>
                    </a:lnTo>
                    <a:lnTo>
                      <a:pt x="313" y="19"/>
                    </a:lnTo>
                    <a:lnTo>
                      <a:pt x="368" y="33"/>
                    </a:lnTo>
                    <a:lnTo>
                      <a:pt x="374" y="35"/>
                    </a:lnTo>
                    <a:lnTo>
                      <a:pt x="374" y="33"/>
                    </a:lnTo>
                    <a:lnTo>
                      <a:pt x="374" y="31"/>
                    </a:lnTo>
                    <a:lnTo>
                      <a:pt x="374" y="31"/>
                    </a:lnTo>
                    <a:lnTo>
                      <a:pt x="374" y="29"/>
                    </a:lnTo>
                    <a:lnTo>
                      <a:pt x="374" y="27"/>
                    </a:lnTo>
                    <a:lnTo>
                      <a:pt x="376" y="27"/>
                    </a:lnTo>
                    <a:lnTo>
                      <a:pt x="376" y="25"/>
                    </a:lnTo>
                    <a:lnTo>
                      <a:pt x="376" y="23"/>
                    </a:lnTo>
                    <a:close/>
                    <a:moveTo>
                      <a:pt x="4" y="2302"/>
                    </a:moveTo>
                    <a:lnTo>
                      <a:pt x="21" y="2304"/>
                    </a:lnTo>
                    <a:lnTo>
                      <a:pt x="80" y="2306"/>
                    </a:lnTo>
                    <a:lnTo>
                      <a:pt x="140" y="2304"/>
                    </a:lnTo>
                    <a:lnTo>
                      <a:pt x="199" y="2301"/>
                    </a:lnTo>
                    <a:lnTo>
                      <a:pt x="257" y="2293"/>
                    </a:lnTo>
                    <a:lnTo>
                      <a:pt x="315" y="2281"/>
                    </a:lnTo>
                    <a:lnTo>
                      <a:pt x="341" y="2276"/>
                    </a:lnTo>
                    <a:lnTo>
                      <a:pt x="341" y="2276"/>
                    </a:lnTo>
                    <a:lnTo>
                      <a:pt x="340" y="2274"/>
                    </a:lnTo>
                    <a:lnTo>
                      <a:pt x="340" y="2272"/>
                    </a:lnTo>
                    <a:lnTo>
                      <a:pt x="340" y="2272"/>
                    </a:lnTo>
                    <a:lnTo>
                      <a:pt x="340" y="2270"/>
                    </a:lnTo>
                    <a:lnTo>
                      <a:pt x="340" y="2268"/>
                    </a:lnTo>
                    <a:lnTo>
                      <a:pt x="340" y="2268"/>
                    </a:lnTo>
                    <a:lnTo>
                      <a:pt x="340" y="2266"/>
                    </a:lnTo>
                    <a:lnTo>
                      <a:pt x="313" y="2272"/>
                    </a:lnTo>
                    <a:lnTo>
                      <a:pt x="257" y="2281"/>
                    </a:lnTo>
                    <a:lnTo>
                      <a:pt x="199" y="2289"/>
                    </a:lnTo>
                    <a:lnTo>
                      <a:pt x="140" y="2295"/>
                    </a:lnTo>
                    <a:lnTo>
                      <a:pt x="80" y="2295"/>
                    </a:lnTo>
                    <a:lnTo>
                      <a:pt x="21" y="2295"/>
                    </a:lnTo>
                    <a:lnTo>
                      <a:pt x="0" y="2293"/>
                    </a:lnTo>
                    <a:lnTo>
                      <a:pt x="0" y="2293"/>
                    </a:lnTo>
                    <a:lnTo>
                      <a:pt x="0" y="2295"/>
                    </a:lnTo>
                    <a:lnTo>
                      <a:pt x="2" y="2297"/>
                    </a:lnTo>
                    <a:lnTo>
                      <a:pt x="2" y="2297"/>
                    </a:lnTo>
                    <a:lnTo>
                      <a:pt x="2" y="2299"/>
                    </a:lnTo>
                    <a:lnTo>
                      <a:pt x="2" y="2301"/>
                    </a:lnTo>
                    <a:lnTo>
                      <a:pt x="2" y="2302"/>
                    </a:lnTo>
                    <a:lnTo>
                      <a:pt x="4" y="2302"/>
                    </a:lnTo>
                    <a:close/>
                  </a:path>
                </a:pathLst>
              </a:custGeom>
              <a:solidFill>
                <a:srgbClr val="1ea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Freeform 40"/>
              <p:cNvSpPr/>
              <p:nvPr/>
            </p:nvSpPr>
            <p:spPr>
              <a:xfrm>
                <a:off x="2146680" y="1253880"/>
                <a:ext cx="632880" cy="3864240"/>
              </a:xfrm>
              <a:custGeom>
                <a:avLst/>
                <a:gdLst>
                  <a:gd name="textAreaLeft" fmla="*/ 0 w 632880"/>
                  <a:gd name="textAreaRight" fmla="*/ 633240 w 632880"/>
                  <a:gd name="textAreaTop" fmla="*/ 0 h 3864240"/>
                  <a:gd name="textAreaBottom" fmla="*/ 3864600 h 3864240"/>
                </a:gdLst>
                <a:ahLst/>
                <a:rect l="textAreaLeft" t="textAreaTop" r="textAreaRight" b="textAreaBottom"/>
                <a:pathLst>
                  <a:path w="376" h="2295">
                    <a:moveTo>
                      <a:pt x="376" y="23"/>
                    </a:moveTo>
                    <a:lnTo>
                      <a:pt x="372" y="21"/>
                    </a:lnTo>
                    <a:lnTo>
                      <a:pt x="317" y="7"/>
                    </a:lnTo>
                    <a:lnTo>
                      <a:pt x="263" y="0"/>
                    </a:lnTo>
                    <a:lnTo>
                      <a:pt x="263" y="0"/>
                    </a:lnTo>
                    <a:lnTo>
                      <a:pt x="261" y="2"/>
                    </a:lnTo>
                    <a:lnTo>
                      <a:pt x="261" y="2"/>
                    </a:lnTo>
                    <a:lnTo>
                      <a:pt x="259" y="4"/>
                    </a:lnTo>
                    <a:lnTo>
                      <a:pt x="259" y="6"/>
                    </a:lnTo>
                    <a:lnTo>
                      <a:pt x="257" y="6"/>
                    </a:lnTo>
                    <a:lnTo>
                      <a:pt x="257" y="7"/>
                    </a:lnTo>
                    <a:lnTo>
                      <a:pt x="255" y="7"/>
                    </a:lnTo>
                    <a:lnTo>
                      <a:pt x="257" y="7"/>
                    </a:lnTo>
                    <a:lnTo>
                      <a:pt x="315" y="19"/>
                    </a:lnTo>
                    <a:lnTo>
                      <a:pt x="368" y="31"/>
                    </a:lnTo>
                    <a:lnTo>
                      <a:pt x="374" y="32"/>
                    </a:lnTo>
                    <a:lnTo>
                      <a:pt x="374" y="32"/>
                    </a:lnTo>
                    <a:lnTo>
                      <a:pt x="376" y="31"/>
                    </a:lnTo>
                    <a:lnTo>
                      <a:pt x="376" y="29"/>
                    </a:lnTo>
                    <a:lnTo>
                      <a:pt x="376" y="29"/>
                    </a:lnTo>
                    <a:lnTo>
                      <a:pt x="376" y="27"/>
                    </a:lnTo>
                    <a:lnTo>
                      <a:pt x="376" y="25"/>
                    </a:lnTo>
                    <a:lnTo>
                      <a:pt x="376" y="25"/>
                    </a:lnTo>
                    <a:lnTo>
                      <a:pt x="376" y="23"/>
                    </a:lnTo>
                    <a:close/>
                    <a:moveTo>
                      <a:pt x="4" y="2291"/>
                    </a:moveTo>
                    <a:lnTo>
                      <a:pt x="23" y="2293"/>
                    </a:lnTo>
                    <a:lnTo>
                      <a:pt x="82" y="2295"/>
                    </a:lnTo>
                    <a:lnTo>
                      <a:pt x="142" y="2293"/>
                    </a:lnTo>
                    <a:lnTo>
                      <a:pt x="201" y="2289"/>
                    </a:lnTo>
                    <a:lnTo>
                      <a:pt x="259" y="2281"/>
                    </a:lnTo>
                    <a:lnTo>
                      <a:pt x="317" y="2272"/>
                    </a:lnTo>
                    <a:lnTo>
                      <a:pt x="342" y="2266"/>
                    </a:lnTo>
                    <a:lnTo>
                      <a:pt x="342" y="2264"/>
                    </a:lnTo>
                    <a:lnTo>
                      <a:pt x="342" y="2262"/>
                    </a:lnTo>
                    <a:lnTo>
                      <a:pt x="342" y="2262"/>
                    </a:lnTo>
                    <a:lnTo>
                      <a:pt x="342" y="2260"/>
                    </a:lnTo>
                    <a:lnTo>
                      <a:pt x="342" y="2258"/>
                    </a:lnTo>
                    <a:lnTo>
                      <a:pt x="342" y="2258"/>
                    </a:lnTo>
                    <a:lnTo>
                      <a:pt x="342" y="2256"/>
                    </a:lnTo>
                    <a:lnTo>
                      <a:pt x="340" y="2254"/>
                    </a:lnTo>
                    <a:lnTo>
                      <a:pt x="315" y="2262"/>
                    </a:lnTo>
                    <a:lnTo>
                      <a:pt x="257" y="2272"/>
                    </a:lnTo>
                    <a:lnTo>
                      <a:pt x="199" y="2279"/>
                    </a:lnTo>
                    <a:lnTo>
                      <a:pt x="142" y="2283"/>
                    </a:lnTo>
                    <a:lnTo>
                      <a:pt x="82" y="2285"/>
                    </a:lnTo>
                    <a:lnTo>
                      <a:pt x="25" y="2283"/>
                    </a:lnTo>
                    <a:lnTo>
                      <a:pt x="0" y="2281"/>
                    </a:lnTo>
                    <a:lnTo>
                      <a:pt x="0" y="2283"/>
                    </a:lnTo>
                    <a:lnTo>
                      <a:pt x="0" y="2283"/>
                    </a:lnTo>
                    <a:lnTo>
                      <a:pt x="2" y="2285"/>
                    </a:lnTo>
                    <a:lnTo>
                      <a:pt x="2" y="2287"/>
                    </a:lnTo>
                    <a:lnTo>
                      <a:pt x="2" y="2287"/>
                    </a:lnTo>
                    <a:lnTo>
                      <a:pt x="2" y="2289"/>
                    </a:lnTo>
                    <a:lnTo>
                      <a:pt x="4" y="2291"/>
                    </a:lnTo>
                    <a:lnTo>
                      <a:pt x="4" y="2291"/>
                    </a:lnTo>
                    <a:close/>
                  </a:path>
                </a:pathLst>
              </a:custGeom>
              <a:solidFill>
                <a:srgbClr val="1fa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Freeform 41"/>
              <p:cNvSpPr/>
              <p:nvPr/>
            </p:nvSpPr>
            <p:spPr>
              <a:xfrm>
                <a:off x="2143440" y="1260360"/>
                <a:ext cx="636480" cy="3847680"/>
              </a:xfrm>
              <a:custGeom>
                <a:avLst/>
                <a:gdLst>
                  <a:gd name="textAreaLeft" fmla="*/ 0 w 636480"/>
                  <a:gd name="textAreaRight" fmla="*/ 636480 w 636480"/>
                  <a:gd name="textAreaTop" fmla="*/ 0 h 3847680"/>
                  <a:gd name="textAreaBottom" fmla="*/ 3848040 h 3847680"/>
                </a:gdLst>
                <a:ahLst/>
                <a:rect l="textAreaLeft" t="textAreaTop" r="textAreaRight" b="textAreaBottom"/>
                <a:pathLst>
                  <a:path w="378" h="2285">
                    <a:moveTo>
                      <a:pt x="378" y="25"/>
                    </a:moveTo>
                    <a:lnTo>
                      <a:pt x="372" y="23"/>
                    </a:lnTo>
                    <a:lnTo>
                      <a:pt x="317" y="9"/>
                    </a:lnTo>
                    <a:lnTo>
                      <a:pt x="261" y="0"/>
                    </a:lnTo>
                    <a:lnTo>
                      <a:pt x="261" y="2"/>
                    </a:lnTo>
                    <a:lnTo>
                      <a:pt x="259" y="2"/>
                    </a:lnTo>
                    <a:lnTo>
                      <a:pt x="259" y="3"/>
                    </a:lnTo>
                    <a:lnTo>
                      <a:pt x="257" y="3"/>
                    </a:lnTo>
                    <a:lnTo>
                      <a:pt x="255" y="5"/>
                    </a:lnTo>
                    <a:lnTo>
                      <a:pt x="255" y="7"/>
                    </a:lnTo>
                    <a:lnTo>
                      <a:pt x="253" y="7"/>
                    </a:lnTo>
                    <a:lnTo>
                      <a:pt x="253" y="9"/>
                    </a:lnTo>
                    <a:lnTo>
                      <a:pt x="259" y="9"/>
                    </a:lnTo>
                    <a:lnTo>
                      <a:pt x="315" y="19"/>
                    </a:lnTo>
                    <a:lnTo>
                      <a:pt x="370" y="32"/>
                    </a:lnTo>
                    <a:lnTo>
                      <a:pt x="376" y="34"/>
                    </a:lnTo>
                    <a:lnTo>
                      <a:pt x="376" y="32"/>
                    </a:lnTo>
                    <a:lnTo>
                      <a:pt x="376" y="32"/>
                    </a:lnTo>
                    <a:lnTo>
                      <a:pt x="376" y="30"/>
                    </a:lnTo>
                    <a:lnTo>
                      <a:pt x="376" y="28"/>
                    </a:lnTo>
                    <a:lnTo>
                      <a:pt x="376" y="28"/>
                    </a:lnTo>
                    <a:lnTo>
                      <a:pt x="378" y="27"/>
                    </a:lnTo>
                    <a:lnTo>
                      <a:pt x="378" y="25"/>
                    </a:lnTo>
                    <a:lnTo>
                      <a:pt x="378" y="25"/>
                    </a:lnTo>
                    <a:close/>
                    <a:moveTo>
                      <a:pt x="4" y="2283"/>
                    </a:moveTo>
                    <a:lnTo>
                      <a:pt x="25" y="2285"/>
                    </a:lnTo>
                    <a:lnTo>
                      <a:pt x="84" y="2285"/>
                    </a:lnTo>
                    <a:lnTo>
                      <a:pt x="144" y="2285"/>
                    </a:lnTo>
                    <a:lnTo>
                      <a:pt x="203" y="2279"/>
                    </a:lnTo>
                    <a:lnTo>
                      <a:pt x="261" y="2271"/>
                    </a:lnTo>
                    <a:lnTo>
                      <a:pt x="317" y="2262"/>
                    </a:lnTo>
                    <a:lnTo>
                      <a:pt x="344" y="2256"/>
                    </a:lnTo>
                    <a:lnTo>
                      <a:pt x="344" y="2254"/>
                    </a:lnTo>
                    <a:lnTo>
                      <a:pt x="344" y="2254"/>
                    </a:lnTo>
                    <a:lnTo>
                      <a:pt x="344" y="2252"/>
                    </a:lnTo>
                    <a:lnTo>
                      <a:pt x="342" y="2250"/>
                    </a:lnTo>
                    <a:lnTo>
                      <a:pt x="342" y="2250"/>
                    </a:lnTo>
                    <a:lnTo>
                      <a:pt x="342" y="2248"/>
                    </a:lnTo>
                    <a:lnTo>
                      <a:pt x="342" y="2246"/>
                    </a:lnTo>
                    <a:lnTo>
                      <a:pt x="342" y="2246"/>
                    </a:lnTo>
                    <a:lnTo>
                      <a:pt x="315" y="2252"/>
                    </a:lnTo>
                    <a:lnTo>
                      <a:pt x="259" y="2262"/>
                    </a:lnTo>
                    <a:lnTo>
                      <a:pt x="201" y="2269"/>
                    </a:lnTo>
                    <a:lnTo>
                      <a:pt x="144" y="2273"/>
                    </a:lnTo>
                    <a:lnTo>
                      <a:pt x="84" y="2275"/>
                    </a:lnTo>
                    <a:lnTo>
                      <a:pt x="27" y="2273"/>
                    </a:lnTo>
                    <a:lnTo>
                      <a:pt x="0" y="2271"/>
                    </a:lnTo>
                    <a:lnTo>
                      <a:pt x="0" y="2273"/>
                    </a:lnTo>
                    <a:lnTo>
                      <a:pt x="0" y="2275"/>
                    </a:lnTo>
                    <a:lnTo>
                      <a:pt x="2" y="2275"/>
                    </a:lnTo>
                    <a:lnTo>
                      <a:pt x="2" y="2277"/>
                    </a:lnTo>
                    <a:lnTo>
                      <a:pt x="2" y="2279"/>
                    </a:lnTo>
                    <a:lnTo>
                      <a:pt x="2" y="2279"/>
                    </a:lnTo>
                    <a:lnTo>
                      <a:pt x="4" y="2281"/>
                    </a:lnTo>
                    <a:lnTo>
                      <a:pt x="4" y="2283"/>
                    </a:lnTo>
                    <a:close/>
                  </a:path>
                </a:pathLst>
              </a:custGeom>
              <a:solidFill>
                <a:srgbClr val="20a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Freeform 42"/>
              <p:cNvSpPr/>
              <p:nvPr/>
            </p:nvSpPr>
            <p:spPr>
              <a:xfrm>
                <a:off x="2140200" y="1265760"/>
                <a:ext cx="636120" cy="3835440"/>
              </a:xfrm>
              <a:custGeom>
                <a:avLst/>
                <a:gdLst>
                  <a:gd name="textAreaLeft" fmla="*/ 0 w 636120"/>
                  <a:gd name="textAreaRight" fmla="*/ 636480 w 636120"/>
                  <a:gd name="textAreaTop" fmla="*/ 0 h 3835440"/>
                  <a:gd name="textAreaBottom" fmla="*/ 3835800 h 3835440"/>
                </a:gdLst>
                <a:ahLst/>
                <a:rect l="textAreaLeft" t="textAreaTop" r="textAreaRight" b="textAreaBottom"/>
                <a:pathLst>
                  <a:path w="378" h="2278">
                    <a:moveTo>
                      <a:pt x="378" y="25"/>
                    </a:moveTo>
                    <a:lnTo>
                      <a:pt x="372" y="24"/>
                    </a:lnTo>
                    <a:lnTo>
                      <a:pt x="319" y="12"/>
                    </a:lnTo>
                    <a:lnTo>
                      <a:pt x="261" y="0"/>
                    </a:lnTo>
                    <a:lnTo>
                      <a:pt x="259" y="0"/>
                    </a:lnTo>
                    <a:lnTo>
                      <a:pt x="257" y="2"/>
                    </a:lnTo>
                    <a:lnTo>
                      <a:pt x="257" y="4"/>
                    </a:lnTo>
                    <a:lnTo>
                      <a:pt x="255" y="4"/>
                    </a:lnTo>
                    <a:lnTo>
                      <a:pt x="255" y="6"/>
                    </a:lnTo>
                    <a:lnTo>
                      <a:pt x="253" y="6"/>
                    </a:lnTo>
                    <a:lnTo>
                      <a:pt x="253" y="8"/>
                    </a:lnTo>
                    <a:lnTo>
                      <a:pt x="251" y="10"/>
                    </a:lnTo>
                    <a:lnTo>
                      <a:pt x="251" y="10"/>
                    </a:lnTo>
                    <a:lnTo>
                      <a:pt x="259" y="12"/>
                    </a:lnTo>
                    <a:lnTo>
                      <a:pt x="315" y="22"/>
                    </a:lnTo>
                    <a:lnTo>
                      <a:pt x="370" y="35"/>
                    </a:lnTo>
                    <a:lnTo>
                      <a:pt x="376" y="37"/>
                    </a:lnTo>
                    <a:lnTo>
                      <a:pt x="378" y="35"/>
                    </a:lnTo>
                    <a:lnTo>
                      <a:pt x="378" y="33"/>
                    </a:lnTo>
                    <a:lnTo>
                      <a:pt x="378" y="33"/>
                    </a:lnTo>
                    <a:lnTo>
                      <a:pt x="378" y="31"/>
                    </a:lnTo>
                    <a:lnTo>
                      <a:pt x="378" y="29"/>
                    </a:lnTo>
                    <a:lnTo>
                      <a:pt x="378" y="29"/>
                    </a:lnTo>
                    <a:lnTo>
                      <a:pt x="378" y="27"/>
                    </a:lnTo>
                    <a:lnTo>
                      <a:pt x="378" y="25"/>
                    </a:lnTo>
                    <a:close/>
                    <a:moveTo>
                      <a:pt x="4" y="2274"/>
                    </a:moveTo>
                    <a:lnTo>
                      <a:pt x="29" y="2276"/>
                    </a:lnTo>
                    <a:lnTo>
                      <a:pt x="86" y="2278"/>
                    </a:lnTo>
                    <a:lnTo>
                      <a:pt x="146" y="2276"/>
                    </a:lnTo>
                    <a:lnTo>
                      <a:pt x="203" y="2272"/>
                    </a:lnTo>
                    <a:lnTo>
                      <a:pt x="261" y="2265"/>
                    </a:lnTo>
                    <a:lnTo>
                      <a:pt x="319" y="2255"/>
                    </a:lnTo>
                    <a:lnTo>
                      <a:pt x="344" y="2247"/>
                    </a:lnTo>
                    <a:lnTo>
                      <a:pt x="344" y="2247"/>
                    </a:lnTo>
                    <a:lnTo>
                      <a:pt x="344" y="2245"/>
                    </a:lnTo>
                    <a:lnTo>
                      <a:pt x="344" y="2243"/>
                    </a:lnTo>
                    <a:lnTo>
                      <a:pt x="344" y="2243"/>
                    </a:lnTo>
                    <a:lnTo>
                      <a:pt x="344" y="2242"/>
                    </a:lnTo>
                    <a:lnTo>
                      <a:pt x="344" y="2240"/>
                    </a:lnTo>
                    <a:lnTo>
                      <a:pt x="344" y="2240"/>
                    </a:lnTo>
                    <a:lnTo>
                      <a:pt x="344" y="2238"/>
                    </a:lnTo>
                    <a:lnTo>
                      <a:pt x="315" y="2243"/>
                    </a:lnTo>
                    <a:lnTo>
                      <a:pt x="259" y="2255"/>
                    </a:lnTo>
                    <a:lnTo>
                      <a:pt x="203" y="2261"/>
                    </a:lnTo>
                    <a:lnTo>
                      <a:pt x="146" y="2266"/>
                    </a:lnTo>
                    <a:lnTo>
                      <a:pt x="86" y="2266"/>
                    </a:lnTo>
                    <a:lnTo>
                      <a:pt x="29" y="2266"/>
                    </a:lnTo>
                    <a:lnTo>
                      <a:pt x="0" y="2263"/>
                    </a:lnTo>
                    <a:lnTo>
                      <a:pt x="0" y="2265"/>
                    </a:lnTo>
                    <a:lnTo>
                      <a:pt x="0" y="2266"/>
                    </a:lnTo>
                    <a:lnTo>
                      <a:pt x="2" y="2266"/>
                    </a:lnTo>
                    <a:lnTo>
                      <a:pt x="2" y="2268"/>
                    </a:lnTo>
                    <a:lnTo>
                      <a:pt x="2" y="2270"/>
                    </a:lnTo>
                    <a:lnTo>
                      <a:pt x="2" y="2272"/>
                    </a:lnTo>
                    <a:lnTo>
                      <a:pt x="4" y="2272"/>
                    </a:lnTo>
                    <a:lnTo>
                      <a:pt x="4" y="2274"/>
                    </a:lnTo>
                    <a:close/>
                  </a:path>
                </a:pathLst>
              </a:custGeom>
              <a:solidFill>
                <a:srgbClr val="21a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Freeform 43"/>
              <p:cNvSpPr/>
              <p:nvPr/>
            </p:nvSpPr>
            <p:spPr>
              <a:xfrm>
                <a:off x="2136600" y="1275840"/>
                <a:ext cx="639360" cy="3815280"/>
              </a:xfrm>
              <a:custGeom>
                <a:avLst/>
                <a:gdLst>
                  <a:gd name="textAreaLeft" fmla="*/ 0 w 639360"/>
                  <a:gd name="textAreaRight" fmla="*/ 639720 w 639360"/>
                  <a:gd name="textAreaTop" fmla="*/ 0 h 3815280"/>
                  <a:gd name="textAreaBottom" fmla="*/ 3815280 h 3815280"/>
                </a:gdLst>
                <a:ahLst/>
                <a:rect l="textAreaLeft" t="textAreaTop" r="textAreaRight" b="textAreaBottom"/>
                <a:pathLst>
                  <a:path w="380" h="2266">
                    <a:moveTo>
                      <a:pt x="380" y="25"/>
                    </a:moveTo>
                    <a:lnTo>
                      <a:pt x="374" y="23"/>
                    </a:lnTo>
                    <a:lnTo>
                      <a:pt x="319" y="10"/>
                    </a:lnTo>
                    <a:lnTo>
                      <a:pt x="263" y="0"/>
                    </a:lnTo>
                    <a:lnTo>
                      <a:pt x="257" y="0"/>
                    </a:lnTo>
                    <a:lnTo>
                      <a:pt x="255" y="0"/>
                    </a:lnTo>
                    <a:lnTo>
                      <a:pt x="255" y="2"/>
                    </a:lnTo>
                    <a:lnTo>
                      <a:pt x="253" y="4"/>
                    </a:lnTo>
                    <a:lnTo>
                      <a:pt x="253" y="4"/>
                    </a:lnTo>
                    <a:lnTo>
                      <a:pt x="252" y="6"/>
                    </a:lnTo>
                    <a:lnTo>
                      <a:pt x="252" y="6"/>
                    </a:lnTo>
                    <a:lnTo>
                      <a:pt x="250" y="8"/>
                    </a:lnTo>
                    <a:lnTo>
                      <a:pt x="250" y="10"/>
                    </a:lnTo>
                    <a:lnTo>
                      <a:pt x="261" y="10"/>
                    </a:lnTo>
                    <a:lnTo>
                      <a:pt x="317" y="21"/>
                    </a:lnTo>
                    <a:lnTo>
                      <a:pt x="371" y="33"/>
                    </a:lnTo>
                    <a:lnTo>
                      <a:pt x="378" y="35"/>
                    </a:lnTo>
                    <a:lnTo>
                      <a:pt x="378" y="35"/>
                    </a:lnTo>
                    <a:lnTo>
                      <a:pt x="378" y="33"/>
                    </a:lnTo>
                    <a:lnTo>
                      <a:pt x="378" y="31"/>
                    </a:lnTo>
                    <a:lnTo>
                      <a:pt x="378" y="31"/>
                    </a:lnTo>
                    <a:lnTo>
                      <a:pt x="380" y="29"/>
                    </a:lnTo>
                    <a:lnTo>
                      <a:pt x="380" y="27"/>
                    </a:lnTo>
                    <a:lnTo>
                      <a:pt x="380" y="27"/>
                    </a:lnTo>
                    <a:lnTo>
                      <a:pt x="380" y="25"/>
                    </a:lnTo>
                    <a:close/>
                    <a:moveTo>
                      <a:pt x="4" y="2262"/>
                    </a:moveTo>
                    <a:lnTo>
                      <a:pt x="31" y="2264"/>
                    </a:lnTo>
                    <a:lnTo>
                      <a:pt x="88" y="2266"/>
                    </a:lnTo>
                    <a:lnTo>
                      <a:pt x="148" y="2264"/>
                    </a:lnTo>
                    <a:lnTo>
                      <a:pt x="205" y="2260"/>
                    </a:lnTo>
                    <a:lnTo>
                      <a:pt x="263" y="2253"/>
                    </a:lnTo>
                    <a:lnTo>
                      <a:pt x="319" y="2243"/>
                    </a:lnTo>
                    <a:lnTo>
                      <a:pt x="346" y="2237"/>
                    </a:lnTo>
                    <a:lnTo>
                      <a:pt x="346" y="2236"/>
                    </a:lnTo>
                    <a:lnTo>
                      <a:pt x="346" y="2234"/>
                    </a:lnTo>
                    <a:lnTo>
                      <a:pt x="346" y="2234"/>
                    </a:lnTo>
                    <a:lnTo>
                      <a:pt x="346" y="2232"/>
                    </a:lnTo>
                    <a:lnTo>
                      <a:pt x="346" y="2230"/>
                    </a:lnTo>
                    <a:lnTo>
                      <a:pt x="344" y="2230"/>
                    </a:lnTo>
                    <a:lnTo>
                      <a:pt x="344" y="2228"/>
                    </a:lnTo>
                    <a:lnTo>
                      <a:pt x="344" y="2226"/>
                    </a:lnTo>
                    <a:lnTo>
                      <a:pt x="317" y="2234"/>
                    </a:lnTo>
                    <a:lnTo>
                      <a:pt x="261" y="2243"/>
                    </a:lnTo>
                    <a:lnTo>
                      <a:pt x="204" y="2251"/>
                    </a:lnTo>
                    <a:lnTo>
                      <a:pt x="148" y="2255"/>
                    </a:lnTo>
                    <a:lnTo>
                      <a:pt x="88" y="2257"/>
                    </a:lnTo>
                    <a:lnTo>
                      <a:pt x="31" y="2255"/>
                    </a:lnTo>
                    <a:lnTo>
                      <a:pt x="0" y="2253"/>
                    </a:lnTo>
                    <a:lnTo>
                      <a:pt x="0" y="2253"/>
                    </a:lnTo>
                    <a:lnTo>
                      <a:pt x="2" y="2255"/>
                    </a:lnTo>
                    <a:lnTo>
                      <a:pt x="2" y="2257"/>
                    </a:lnTo>
                    <a:lnTo>
                      <a:pt x="2" y="2257"/>
                    </a:lnTo>
                    <a:lnTo>
                      <a:pt x="2" y="2259"/>
                    </a:lnTo>
                    <a:lnTo>
                      <a:pt x="2" y="2260"/>
                    </a:lnTo>
                    <a:lnTo>
                      <a:pt x="4" y="2260"/>
                    </a:lnTo>
                    <a:lnTo>
                      <a:pt x="4" y="2262"/>
                    </a:lnTo>
                    <a:close/>
                  </a:path>
                </a:pathLst>
              </a:custGeom>
              <a:solidFill>
                <a:srgbClr val="22a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Freeform 44"/>
              <p:cNvSpPr/>
              <p:nvPr/>
            </p:nvSpPr>
            <p:spPr>
              <a:xfrm>
                <a:off x="2133360" y="1282680"/>
                <a:ext cx="639720" cy="3798360"/>
              </a:xfrm>
              <a:custGeom>
                <a:avLst/>
                <a:gdLst>
                  <a:gd name="textAreaLeft" fmla="*/ 0 w 639720"/>
                  <a:gd name="textAreaRight" fmla="*/ 640080 w 639720"/>
                  <a:gd name="textAreaTop" fmla="*/ 0 h 3798360"/>
                  <a:gd name="textAreaBottom" fmla="*/ 3798720 h 3798360"/>
                </a:gdLst>
                <a:ahLst/>
                <a:rect l="textAreaLeft" t="textAreaTop" r="textAreaRight" b="textAreaBottom"/>
                <a:pathLst>
                  <a:path w="380" h="2256">
                    <a:moveTo>
                      <a:pt x="380" y="27"/>
                    </a:moveTo>
                    <a:lnTo>
                      <a:pt x="374" y="25"/>
                    </a:lnTo>
                    <a:lnTo>
                      <a:pt x="319" y="12"/>
                    </a:lnTo>
                    <a:lnTo>
                      <a:pt x="263" y="2"/>
                    </a:lnTo>
                    <a:lnTo>
                      <a:pt x="255" y="0"/>
                    </a:lnTo>
                    <a:lnTo>
                      <a:pt x="254" y="2"/>
                    </a:lnTo>
                    <a:lnTo>
                      <a:pt x="254" y="2"/>
                    </a:lnTo>
                    <a:lnTo>
                      <a:pt x="252" y="4"/>
                    </a:lnTo>
                    <a:lnTo>
                      <a:pt x="252" y="6"/>
                    </a:lnTo>
                    <a:lnTo>
                      <a:pt x="250" y="6"/>
                    </a:lnTo>
                    <a:lnTo>
                      <a:pt x="250" y="8"/>
                    </a:lnTo>
                    <a:lnTo>
                      <a:pt x="248" y="8"/>
                    </a:lnTo>
                    <a:lnTo>
                      <a:pt x="248" y="10"/>
                    </a:lnTo>
                    <a:lnTo>
                      <a:pt x="263" y="12"/>
                    </a:lnTo>
                    <a:lnTo>
                      <a:pt x="317" y="21"/>
                    </a:lnTo>
                    <a:lnTo>
                      <a:pt x="373" y="35"/>
                    </a:lnTo>
                    <a:lnTo>
                      <a:pt x="378" y="37"/>
                    </a:lnTo>
                    <a:lnTo>
                      <a:pt x="380" y="35"/>
                    </a:lnTo>
                    <a:lnTo>
                      <a:pt x="380" y="35"/>
                    </a:lnTo>
                    <a:lnTo>
                      <a:pt x="380" y="33"/>
                    </a:lnTo>
                    <a:lnTo>
                      <a:pt x="380" y="31"/>
                    </a:lnTo>
                    <a:lnTo>
                      <a:pt x="380" y="31"/>
                    </a:lnTo>
                    <a:lnTo>
                      <a:pt x="380" y="29"/>
                    </a:lnTo>
                    <a:lnTo>
                      <a:pt x="380" y="27"/>
                    </a:lnTo>
                    <a:lnTo>
                      <a:pt x="380" y="27"/>
                    </a:lnTo>
                    <a:close/>
                    <a:moveTo>
                      <a:pt x="4" y="2253"/>
                    </a:moveTo>
                    <a:lnTo>
                      <a:pt x="33" y="2256"/>
                    </a:lnTo>
                    <a:lnTo>
                      <a:pt x="90" y="2256"/>
                    </a:lnTo>
                    <a:lnTo>
                      <a:pt x="150" y="2256"/>
                    </a:lnTo>
                    <a:lnTo>
                      <a:pt x="207" y="2251"/>
                    </a:lnTo>
                    <a:lnTo>
                      <a:pt x="263" y="2245"/>
                    </a:lnTo>
                    <a:lnTo>
                      <a:pt x="319" y="2233"/>
                    </a:lnTo>
                    <a:lnTo>
                      <a:pt x="348" y="2228"/>
                    </a:lnTo>
                    <a:lnTo>
                      <a:pt x="348" y="2226"/>
                    </a:lnTo>
                    <a:lnTo>
                      <a:pt x="346" y="2226"/>
                    </a:lnTo>
                    <a:lnTo>
                      <a:pt x="346" y="2224"/>
                    </a:lnTo>
                    <a:lnTo>
                      <a:pt x="346" y="2222"/>
                    </a:lnTo>
                    <a:lnTo>
                      <a:pt x="346" y="2222"/>
                    </a:lnTo>
                    <a:lnTo>
                      <a:pt x="346" y="2220"/>
                    </a:lnTo>
                    <a:lnTo>
                      <a:pt x="346" y="2218"/>
                    </a:lnTo>
                    <a:lnTo>
                      <a:pt x="346" y="2218"/>
                    </a:lnTo>
                    <a:lnTo>
                      <a:pt x="317" y="2224"/>
                    </a:lnTo>
                    <a:lnTo>
                      <a:pt x="263" y="2233"/>
                    </a:lnTo>
                    <a:lnTo>
                      <a:pt x="206" y="2241"/>
                    </a:lnTo>
                    <a:lnTo>
                      <a:pt x="148" y="2245"/>
                    </a:lnTo>
                    <a:lnTo>
                      <a:pt x="90" y="2247"/>
                    </a:lnTo>
                    <a:lnTo>
                      <a:pt x="33" y="2245"/>
                    </a:lnTo>
                    <a:lnTo>
                      <a:pt x="0" y="2243"/>
                    </a:lnTo>
                    <a:lnTo>
                      <a:pt x="0" y="2245"/>
                    </a:lnTo>
                    <a:lnTo>
                      <a:pt x="2" y="2245"/>
                    </a:lnTo>
                    <a:lnTo>
                      <a:pt x="2" y="2247"/>
                    </a:lnTo>
                    <a:lnTo>
                      <a:pt x="2" y="2249"/>
                    </a:lnTo>
                    <a:lnTo>
                      <a:pt x="2" y="2249"/>
                    </a:lnTo>
                    <a:lnTo>
                      <a:pt x="4" y="2251"/>
                    </a:lnTo>
                    <a:lnTo>
                      <a:pt x="4" y="2253"/>
                    </a:lnTo>
                    <a:lnTo>
                      <a:pt x="4" y="2253"/>
                    </a:lnTo>
                    <a:close/>
                  </a:path>
                </a:pathLst>
              </a:custGeom>
              <a:solidFill>
                <a:srgbClr val="23a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Freeform 45"/>
              <p:cNvSpPr/>
              <p:nvPr/>
            </p:nvSpPr>
            <p:spPr>
              <a:xfrm>
                <a:off x="2129760" y="1292400"/>
                <a:ext cx="643320" cy="3783600"/>
              </a:xfrm>
              <a:custGeom>
                <a:avLst/>
                <a:gdLst>
                  <a:gd name="textAreaLeft" fmla="*/ 0 w 643320"/>
                  <a:gd name="textAreaRight" fmla="*/ 643680 w 643320"/>
                  <a:gd name="textAreaTop" fmla="*/ 0 h 3783600"/>
                  <a:gd name="textAreaBottom" fmla="*/ 3783960 h 3783600"/>
                </a:gdLst>
                <a:ahLst/>
                <a:rect l="textAreaLeft" t="textAreaTop" r="textAreaRight" b="textAreaBottom"/>
                <a:pathLst>
                  <a:path w="382" h="2247">
                    <a:moveTo>
                      <a:pt x="382" y="25"/>
                    </a:moveTo>
                    <a:lnTo>
                      <a:pt x="375" y="23"/>
                    </a:lnTo>
                    <a:lnTo>
                      <a:pt x="321" y="11"/>
                    </a:lnTo>
                    <a:lnTo>
                      <a:pt x="265" y="0"/>
                    </a:lnTo>
                    <a:lnTo>
                      <a:pt x="254" y="0"/>
                    </a:lnTo>
                    <a:lnTo>
                      <a:pt x="252" y="0"/>
                    </a:lnTo>
                    <a:lnTo>
                      <a:pt x="252" y="2"/>
                    </a:lnTo>
                    <a:lnTo>
                      <a:pt x="250" y="2"/>
                    </a:lnTo>
                    <a:lnTo>
                      <a:pt x="250" y="4"/>
                    </a:lnTo>
                    <a:lnTo>
                      <a:pt x="248" y="6"/>
                    </a:lnTo>
                    <a:lnTo>
                      <a:pt x="248" y="6"/>
                    </a:lnTo>
                    <a:lnTo>
                      <a:pt x="246" y="8"/>
                    </a:lnTo>
                    <a:lnTo>
                      <a:pt x="246" y="9"/>
                    </a:lnTo>
                    <a:lnTo>
                      <a:pt x="263" y="11"/>
                    </a:lnTo>
                    <a:lnTo>
                      <a:pt x="319" y="21"/>
                    </a:lnTo>
                    <a:lnTo>
                      <a:pt x="373" y="32"/>
                    </a:lnTo>
                    <a:lnTo>
                      <a:pt x="380" y="34"/>
                    </a:lnTo>
                    <a:lnTo>
                      <a:pt x="380" y="34"/>
                    </a:lnTo>
                    <a:lnTo>
                      <a:pt x="380" y="32"/>
                    </a:lnTo>
                    <a:lnTo>
                      <a:pt x="380" y="31"/>
                    </a:lnTo>
                    <a:lnTo>
                      <a:pt x="380" y="31"/>
                    </a:lnTo>
                    <a:lnTo>
                      <a:pt x="382" y="29"/>
                    </a:lnTo>
                    <a:lnTo>
                      <a:pt x="382" y="29"/>
                    </a:lnTo>
                    <a:lnTo>
                      <a:pt x="382" y="27"/>
                    </a:lnTo>
                    <a:lnTo>
                      <a:pt x="382" y="25"/>
                    </a:lnTo>
                    <a:close/>
                    <a:moveTo>
                      <a:pt x="4" y="2243"/>
                    </a:moveTo>
                    <a:lnTo>
                      <a:pt x="35" y="2245"/>
                    </a:lnTo>
                    <a:lnTo>
                      <a:pt x="92" y="2247"/>
                    </a:lnTo>
                    <a:lnTo>
                      <a:pt x="152" y="2245"/>
                    </a:lnTo>
                    <a:lnTo>
                      <a:pt x="208" y="2241"/>
                    </a:lnTo>
                    <a:lnTo>
                      <a:pt x="265" y="2233"/>
                    </a:lnTo>
                    <a:lnTo>
                      <a:pt x="321" y="2224"/>
                    </a:lnTo>
                    <a:lnTo>
                      <a:pt x="348" y="2216"/>
                    </a:lnTo>
                    <a:lnTo>
                      <a:pt x="348" y="2216"/>
                    </a:lnTo>
                    <a:lnTo>
                      <a:pt x="348" y="2214"/>
                    </a:lnTo>
                    <a:lnTo>
                      <a:pt x="348" y="2212"/>
                    </a:lnTo>
                    <a:lnTo>
                      <a:pt x="348" y="2212"/>
                    </a:lnTo>
                    <a:lnTo>
                      <a:pt x="348" y="2210"/>
                    </a:lnTo>
                    <a:lnTo>
                      <a:pt x="348" y="2208"/>
                    </a:lnTo>
                    <a:lnTo>
                      <a:pt x="348" y="2208"/>
                    </a:lnTo>
                    <a:lnTo>
                      <a:pt x="346" y="2206"/>
                    </a:lnTo>
                    <a:lnTo>
                      <a:pt x="319" y="2212"/>
                    </a:lnTo>
                    <a:lnTo>
                      <a:pt x="263" y="2224"/>
                    </a:lnTo>
                    <a:lnTo>
                      <a:pt x="208" y="2229"/>
                    </a:lnTo>
                    <a:lnTo>
                      <a:pt x="150" y="2235"/>
                    </a:lnTo>
                    <a:lnTo>
                      <a:pt x="92" y="2235"/>
                    </a:lnTo>
                    <a:lnTo>
                      <a:pt x="35" y="2235"/>
                    </a:lnTo>
                    <a:lnTo>
                      <a:pt x="0" y="2231"/>
                    </a:lnTo>
                    <a:lnTo>
                      <a:pt x="0" y="2233"/>
                    </a:lnTo>
                    <a:lnTo>
                      <a:pt x="2" y="2235"/>
                    </a:lnTo>
                    <a:lnTo>
                      <a:pt x="2" y="2235"/>
                    </a:lnTo>
                    <a:lnTo>
                      <a:pt x="2" y="2237"/>
                    </a:lnTo>
                    <a:lnTo>
                      <a:pt x="2" y="2239"/>
                    </a:lnTo>
                    <a:lnTo>
                      <a:pt x="4" y="2239"/>
                    </a:lnTo>
                    <a:lnTo>
                      <a:pt x="4" y="2241"/>
                    </a:lnTo>
                    <a:lnTo>
                      <a:pt x="4" y="2243"/>
                    </a:lnTo>
                    <a:close/>
                  </a:path>
                </a:pathLst>
              </a:custGeom>
              <a:solidFill>
                <a:srgbClr val="24a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Freeform 46"/>
              <p:cNvSpPr/>
              <p:nvPr/>
            </p:nvSpPr>
            <p:spPr>
              <a:xfrm>
                <a:off x="2126520" y="1299600"/>
                <a:ext cx="643320" cy="3766320"/>
              </a:xfrm>
              <a:custGeom>
                <a:avLst/>
                <a:gdLst>
                  <a:gd name="textAreaLeft" fmla="*/ 0 w 643320"/>
                  <a:gd name="textAreaRight" fmla="*/ 643680 w 643320"/>
                  <a:gd name="textAreaTop" fmla="*/ 0 h 3766320"/>
                  <a:gd name="textAreaBottom" fmla="*/ 3766680 h 3766320"/>
                </a:gdLst>
                <a:ahLst/>
                <a:rect l="textAreaLeft" t="textAreaTop" r="textAreaRight" b="textAreaBottom"/>
                <a:pathLst>
                  <a:path w="382" h="2237">
                    <a:moveTo>
                      <a:pt x="382" y="27"/>
                    </a:moveTo>
                    <a:lnTo>
                      <a:pt x="377" y="25"/>
                    </a:lnTo>
                    <a:lnTo>
                      <a:pt x="321" y="11"/>
                    </a:lnTo>
                    <a:lnTo>
                      <a:pt x="267" y="2"/>
                    </a:lnTo>
                    <a:lnTo>
                      <a:pt x="252" y="0"/>
                    </a:lnTo>
                    <a:lnTo>
                      <a:pt x="250" y="2"/>
                    </a:lnTo>
                    <a:lnTo>
                      <a:pt x="250" y="2"/>
                    </a:lnTo>
                    <a:lnTo>
                      <a:pt x="248" y="4"/>
                    </a:lnTo>
                    <a:lnTo>
                      <a:pt x="248" y="5"/>
                    </a:lnTo>
                    <a:lnTo>
                      <a:pt x="246" y="5"/>
                    </a:lnTo>
                    <a:lnTo>
                      <a:pt x="246" y="7"/>
                    </a:lnTo>
                    <a:lnTo>
                      <a:pt x="244" y="7"/>
                    </a:lnTo>
                    <a:lnTo>
                      <a:pt x="244" y="9"/>
                    </a:lnTo>
                    <a:lnTo>
                      <a:pt x="265" y="11"/>
                    </a:lnTo>
                    <a:lnTo>
                      <a:pt x="319" y="21"/>
                    </a:lnTo>
                    <a:lnTo>
                      <a:pt x="373" y="34"/>
                    </a:lnTo>
                    <a:lnTo>
                      <a:pt x="382" y="36"/>
                    </a:lnTo>
                    <a:lnTo>
                      <a:pt x="382" y="34"/>
                    </a:lnTo>
                    <a:lnTo>
                      <a:pt x="382" y="34"/>
                    </a:lnTo>
                    <a:lnTo>
                      <a:pt x="382" y="32"/>
                    </a:lnTo>
                    <a:lnTo>
                      <a:pt x="382" y="30"/>
                    </a:lnTo>
                    <a:lnTo>
                      <a:pt x="382" y="30"/>
                    </a:lnTo>
                    <a:lnTo>
                      <a:pt x="382" y="28"/>
                    </a:lnTo>
                    <a:lnTo>
                      <a:pt x="382" y="27"/>
                    </a:lnTo>
                    <a:lnTo>
                      <a:pt x="382" y="27"/>
                    </a:lnTo>
                    <a:close/>
                    <a:moveTo>
                      <a:pt x="4" y="2233"/>
                    </a:moveTo>
                    <a:lnTo>
                      <a:pt x="37" y="2235"/>
                    </a:lnTo>
                    <a:lnTo>
                      <a:pt x="94" y="2237"/>
                    </a:lnTo>
                    <a:lnTo>
                      <a:pt x="152" y="2235"/>
                    </a:lnTo>
                    <a:lnTo>
                      <a:pt x="210" y="2231"/>
                    </a:lnTo>
                    <a:lnTo>
                      <a:pt x="267" y="2223"/>
                    </a:lnTo>
                    <a:lnTo>
                      <a:pt x="321" y="2214"/>
                    </a:lnTo>
                    <a:lnTo>
                      <a:pt x="350" y="2208"/>
                    </a:lnTo>
                    <a:lnTo>
                      <a:pt x="350" y="2206"/>
                    </a:lnTo>
                    <a:lnTo>
                      <a:pt x="350" y="2204"/>
                    </a:lnTo>
                    <a:lnTo>
                      <a:pt x="350" y="2204"/>
                    </a:lnTo>
                    <a:lnTo>
                      <a:pt x="348" y="2202"/>
                    </a:lnTo>
                    <a:lnTo>
                      <a:pt x="348" y="2200"/>
                    </a:lnTo>
                    <a:lnTo>
                      <a:pt x="348" y="2200"/>
                    </a:lnTo>
                    <a:lnTo>
                      <a:pt x="348" y="2198"/>
                    </a:lnTo>
                    <a:lnTo>
                      <a:pt x="348" y="2197"/>
                    </a:lnTo>
                    <a:lnTo>
                      <a:pt x="319" y="2204"/>
                    </a:lnTo>
                    <a:lnTo>
                      <a:pt x="265" y="2214"/>
                    </a:lnTo>
                    <a:lnTo>
                      <a:pt x="210" y="2222"/>
                    </a:lnTo>
                    <a:lnTo>
                      <a:pt x="152" y="2225"/>
                    </a:lnTo>
                    <a:lnTo>
                      <a:pt x="94" y="2227"/>
                    </a:lnTo>
                    <a:lnTo>
                      <a:pt x="37" y="2225"/>
                    </a:lnTo>
                    <a:lnTo>
                      <a:pt x="0" y="2222"/>
                    </a:lnTo>
                    <a:lnTo>
                      <a:pt x="0" y="2223"/>
                    </a:lnTo>
                    <a:lnTo>
                      <a:pt x="2" y="2225"/>
                    </a:lnTo>
                    <a:lnTo>
                      <a:pt x="2" y="2225"/>
                    </a:lnTo>
                    <a:lnTo>
                      <a:pt x="2" y="2227"/>
                    </a:lnTo>
                    <a:lnTo>
                      <a:pt x="2" y="2229"/>
                    </a:lnTo>
                    <a:lnTo>
                      <a:pt x="4" y="2231"/>
                    </a:lnTo>
                    <a:lnTo>
                      <a:pt x="4" y="2231"/>
                    </a:lnTo>
                    <a:lnTo>
                      <a:pt x="4" y="2233"/>
                    </a:lnTo>
                    <a:close/>
                  </a:path>
                </a:pathLst>
              </a:custGeom>
              <a:solidFill>
                <a:srgbClr val="25a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Freeform 47"/>
              <p:cNvSpPr/>
              <p:nvPr/>
            </p:nvSpPr>
            <p:spPr>
              <a:xfrm>
                <a:off x="2122920" y="1307880"/>
                <a:ext cx="646560" cy="3747960"/>
              </a:xfrm>
              <a:custGeom>
                <a:avLst/>
                <a:gdLst>
                  <a:gd name="textAreaLeft" fmla="*/ 0 w 646560"/>
                  <a:gd name="textAreaRight" fmla="*/ 646920 w 646560"/>
                  <a:gd name="textAreaTop" fmla="*/ 0 h 3747960"/>
                  <a:gd name="textAreaBottom" fmla="*/ 3748320 h 3747960"/>
                </a:gdLst>
                <a:ahLst/>
                <a:rect l="textAreaLeft" t="textAreaTop" r="textAreaRight" b="textAreaBottom"/>
                <a:pathLst>
                  <a:path w="384" h="2226">
                    <a:moveTo>
                      <a:pt x="384" y="25"/>
                    </a:moveTo>
                    <a:lnTo>
                      <a:pt x="377" y="23"/>
                    </a:lnTo>
                    <a:lnTo>
                      <a:pt x="323" y="12"/>
                    </a:lnTo>
                    <a:lnTo>
                      <a:pt x="267" y="2"/>
                    </a:lnTo>
                    <a:lnTo>
                      <a:pt x="250" y="0"/>
                    </a:lnTo>
                    <a:lnTo>
                      <a:pt x="248" y="0"/>
                    </a:lnTo>
                    <a:lnTo>
                      <a:pt x="248" y="2"/>
                    </a:lnTo>
                    <a:lnTo>
                      <a:pt x="246" y="2"/>
                    </a:lnTo>
                    <a:lnTo>
                      <a:pt x="246" y="4"/>
                    </a:lnTo>
                    <a:lnTo>
                      <a:pt x="244" y="6"/>
                    </a:lnTo>
                    <a:lnTo>
                      <a:pt x="244" y="6"/>
                    </a:lnTo>
                    <a:lnTo>
                      <a:pt x="242" y="8"/>
                    </a:lnTo>
                    <a:lnTo>
                      <a:pt x="242" y="8"/>
                    </a:lnTo>
                    <a:lnTo>
                      <a:pt x="265" y="12"/>
                    </a:lnTo>
                    <a:lnTo>
                      <a:pt x="321" y="22"/>
                    </a:lnTo>
                    <a:lnTo>
                      <a:pt x="375" y="35"/>
                    </a:lnTo>
                    <a:lnTo>
                      <a:pt x="382" y="37"/>
                    </a:lnTo>
                    <a:lnTo>
                      <a:pt x="382" y="35"/>
                    </a:lnTo>
                    <a:lnTo>
                      <a:pt x="382" y="33"/>
                    </a:lnTo>
                    <a:lnTo>
                      <a:pt x="382" y="33"/>
                    </a:lnTo>
                    <a:lnTo>
                      <a:pt x="384" y="31"/>
                    </a:lnTo>
                    <a:lnTo>
                      <a:pt x="384" y="29"/>
                    </a:lnTo>
                    <a:lnTo>
                      <a:pt x="384" y="29"/>
                    </a:lnTo>
                    <a:lnTo>
                      <a:pt x="384" y="27"/>
                    </a:lnTo>
                    <a:lnTo>
                      <a:pt x="384" y="25"/>
                    </a:lnTo>
                    <a:close/>
                    <a:moveTo>
                      <a:pt x="4" y="2222"/>
                    </a:moveTo>
                    <a:lnTo>
                      <a:pt x="39" y="2226"/>
                    </a:lnTo>
                    <a:lnTo>
                      <a:pt x="96" y="2226"/>
                    </a:lnTo>
                    <a:lnTo>
                      <a:pt x="154" y="2226"/>
                    </a:lnTo>
                    <a:lnTo>
                      <a:pt x="212" y="2220"/>
                    </a:lnTo>
                    <a:lnTo>
                      <a:pt x="267" y="2215"/>
                    </a:lnTo>
                    <a:lnTo>
                      <a:pt x="323" y="2203"/>
                    </a:lnTo>
                    <a:lnTo>
                      <a:pt x="350" y="2197"/>
                    </a:lnTo>
                    <a:lnTo>
                      <a:pt x="350" y="2195"/>
                    </a:lnTo>
                    <a:lnTo>
                      <a:pt x="350" y="2195"/>
                    </a:lnTo>
                    <a:lnTo>
                      <a:pt x="350" y="2193"/>
                    </a:lnTo>
                    <a:lnTo>
                      <a:pt x="350" y="2192"/>
                    </a:lnTo>
                    <a:lnTo>
                      <a:pt x="350" y="2192"/>
                    </a:lnTo>
                    <a:lnTo>
                      <a:pt x="350" y="2190"/>
                    </a:lnTo>
                    <a:lnTo>
                      <a:pt x="350" y="2188"/>
                    </a:lnTo>
                    <a:lnTo>
                      <a:pt x="350" y="2188"/>
                    </a:lnTo>
                    <a:lnTo>
                      <a:pt x="321" y="2193"/>
                    </a:lnTo>
                    <a:lnTo>
                      <a:pt x="265" y="2203"/>
                    </a:lnTo>
                    <a:lnTo>
                      <a:pt x="210" y="2211"/>
                    </a:lnTo>
                    <a:lnTo>
                      <a:pt x="154" y="2215"/>
                    </a:lnTo>
                    <a:lnTo>
                      <a:pt x="96" y="2217"/>
                    </a:lnTo>
                    <a:lnTo>
                      <a:pt x="41" y="2215"/>
                    </a:lnTo>
                    <a:lnTo>
                      <a:pt x="0" y="2213"/>
                    </a:lnTo>
                    <a:lnTo>
                      <a:pt x="2" y="2213"/>
                    </a:lnTo>
                    <a:lnTo>
                      <a:pt x="2" y="2215"/>
                    </a:lnTo>
                    <a:lnTo>
                      <a:pt x="2" y="2217"/>
                    </a:lnTo>
                    <a:lnTo>
                      <a:pt x="2" y="2217"/>
                    </a:lnTo>
                    <a:lnTo>
                      <a:pt x="2" y="2218"/>
                    </a:lnTo>
                    <a:lnTo>
                      <a:pt x="4" y="2220"/>
                    </a:lnTo>
                    <a:lnTo>
                      <a:pt x="4" y="2220"/>
                    </a:lnTo>
                    <a:lnTo>
                      <a:pt x="4" y="2222"/>
                    </a:lnTo>
                    <a:close/>
                  </a:path>
                </a:pathLst>
              </a:custGeom>
              <a:solidFill>
                <a:srgbClr val="26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Freeform 48"/>
              <p:cNvSpPr/>
              <p:nvPr/>
            </p:nvSpPr>
            <p:spPr>
              <a:xfrm>
                <a:off x="2121480" y="1314360"/>
                <a:ext cx="648360" cy="3734640"/>
              </a:xfrm>
              <a:custGeom>
                <a:avLst/>
                <a:gdLst>
                  <a:gd name="textAreaLeft" fmla="*/ 0 w 648360"/>
                  <a:gd name="textAreaRight" fmla="*/ 648720 w 648360"/>
                  <a:gd name="textAreaTop" fmla="*/ 0 h 3734640"/>
                  <a:gd name="textAreaBottom" fmla="*/ 3734640 h 3734640"/>
                </a:gdLst>
                <a:ahLst/>
                <a:rect l="textAreaLeft" t="textAreaTop" r="textAreaRight" b="textAreaBottom"/>
                <a:pathLst>
                  <a:path w="385" h="2218">
                    <a:moveTo>
                      <a:pt x="385" y="27"/>
                    </a:moveTo>
                    <a:lnTo>
                      <a:pt x="376" y="25"/>
                    </a:lnTo>
                    <a:lnTo>
                      <a:pt x="322" y="12"/>
                    </a:lnTo>
                    <a:lnTo>
                      <a:pt x="268" y="2"/>
                    </a:lnTo>
                    <a:lnTo>
                      <a:pt x="247" y="0"/>
                    </a:lnTo>
                    <a:lnTo>
                      <a:pt x="245" y="2"/>
                    </a:lnTo>
                    <a:lnTo>
                      <a:pt x="245" y="2"/>
                    </a:lnTo>
                    <a:lnTo>
                      <a:pt x="243" y="4"/>
                    </a:lnTo>
                    <a:lnTo>
                      <a:pt x="243" y="4"/>
                    </a:lnTo>
                    <a:lnTo>
                      <a:pt x="241" y="6"/>
                    </a:lnTo>
                    <a:lnTo>
                      <a:pt x="241" y="8"/>
                    </a:lnTo>
                    <a:lnTo>
                      <a:pt x="239" y="8"/>
                    </a:lnTo>
                    <a:lnTo>
                      <a:pt x="239" y="10"/>
                    </a:lnTo>
                    <a:lnTo>
                      <a:pt x="266" y="14"/>
                    </a:lnTo>
                    <a:lnTo>
                      <a:pt x="320" y="23"/>
                    </a:lnTo>
                    <a:lnTo>
                      <a:pt x="374" y="35"/>
                    </a:lnTo>
                    <a:lnTo>
                      <a:pt x="383" y="37"/>
                    </a:lnTo>
                    <a:lnTo>
                      <a:pt x="383" y="37"/>
                    </a:lnTo>
                    <a:lnTo>
                      <a:pt x="383" y="35"/>
                    </a:lnTo>
                    <a:lnTo>
                      <a:pt x="383" y="33"/>
                    </a:lnTo>
                    <a:lnTo>
                      <a:pt x="383" y="33"/>
                    </a:lnTo>
                    <a:lnTo>
                      <a:pt x="383" y="31"/>
                    </a:lnTo>
                    <a:lnTo>
                      <a:pt x="383" y="29"/>
                    </a:lnTo>
                    <a:lnTo>
                      <a:pt x="383" y="29"/>
                    </a:lnTo>
                    <a:lnTo>
                      <a:pt x="385" y="27"/>
                    </a:lnTo>
                    <a:close/>
                    <a:moveTo>
                      <a:pt x="3" y="2213"/>
                    </a:moveTo>
                    <a:lnTo>
                      <a:pt x="40" y="2216"/>
                    </a:lnTo>
                    <a:lnTo>
                      <a:pt x="97" y="2218"/>
                    </a:lnTo>
                    <a:lnTo>
                      <a:pt x="155" y="2216"/>
                    </a:lnTo>
                    <a:lnTo>
                      <a:pt x="213" y="2213"/>
                    </a:lnTo>
                    <a:lnTo>
                      <a:pt x="268" y="2205"/>
                    </a:lnTo>
                    <a:lnTo>
                      <a:pt x="322" y="2195"/>
                    </a:lnTo>
                    <a:lnTo>
                      <a:pt x="351" y="2188"/>
                    </a:lnTo>
                    <a:lnTo>
                      <a:pt x="351" y="2188"/>
                    </a:lnTo>
                    <a:lnTo>
                      <a:pt x="351" y="2186"/>
                    </a:lnTo>
                    <a:lnTo>
                      <a:pt x="351" y="2184"/>
                    </a:lnTo>
                    <a:lnTo>
                      <a:pt x="351" y="2184"/>
                    </a:lnTo>
                    <a:lnTo>
                      <a:pt x="351" y="2182"/>
                    </a:lnTo>
                    <a:lnTo>
                      <a:pt x="349" y="2180"/>
                    </a:lnTo>
                    <a:lnTo>
                      <a:pt x="349" y="2180"/>
                    </a:lnTo>
                    <a:lnTo>
                      <a:pt x="349" y="2178"/>
                    </a:lnTo>
                    <a:lnTo>
                      <a:pt x="320" y="2186"/>
                    </a:lnTo>
                    <a:lnTo>
                      <a:pt x="266" y="2195"/>
                    </a:lnTo>
                    <a:lnTo>
                      <a:pt x="211" y="2201"/>
                    </a:lnTo>
                    <a:lnTo>
                      <a:pt x="155" y="2207"/>
                    </a:lnTo>
                    <a:lnTo>
                      <a:pt x="97" y="2207"/>
                    </a:lnTo>
                    <a:lnTo>
                      <a:pt x="42" y="2207"/>
                    </a:lnTo>
                    <a:lnTo>
                      <a:pt x="0" y="2203"/>
                    </a:lnTo>
                    <a:lnTo>
                      <a:pt x="1" y="2205"/>
                    </a:lnTo>
                    <a:lnTo>
                      <a:pt x="1" y="2205"/>
                    </a:lnTo>
                    <a:lnTo>
                      <a:pt x="1" y="2207"/>
                    </a:lnTo>
                    <a:lnTo>
                      <a:pt x="1" y="2209"/>
                    </a:lnTo>
                    <a:lnTo>
                      <a:pt x="3" y="2209"/>
                    </a:lnTo>
                    <a:lnTo>
                      <a:pt x="3" y="2211"/>
                    </a:lnTo>
                    <a:lnTo>
                      <a:pt x="3" y="2213"/>
                    </a:lnTo>
                    <a:lnTo>
                      <a:pt x="3" y="2213"/>
                    </a:lnTo>
                    <a:close/>
                  </a:path>
                </a:pathLst>
              </a:custGeom>
              <a:solidFill>
                <a:srgbClr val="27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Freeform 49"/>
              <p:cNvSpPr/>
              <p:nvPr/>
            </p:nvSpPr>
            <p:spPr>
              <a:xfrm>
                <a:off x="2118240" y="1321200"/>
                <a:ext cx="648360" cy="3719520"/>
              </a:xfrm>
              <a:custGeom>
                <a:avLst/>
                <a:gdLst>
                  <a:gd name="textAreaLeft" fmla="*/ 0 w 648360"/>
                  <a:gd name="textAreaRight" fmla="*/ 648720 w 648360"/>
                  <a:gd name="textAreaTop" fmla="*/ 0 h 3719520"/>
                  <a:gd name="textAreaBottom" fmla="*/ 3719880 h 3719520"/>
                </a:gdLst>
                <a:ahLst/>
                <a:rect l="textAreaLeft" t="textAreaTop" r="textAreaRight" b="textAreaBottom"/>
                <a:pathLst>
                  <a:path w="385" h="2209">
                    <a:moveTo>
                      <a:pt x="385" y="29"/>
                    </a:moveTo>
                    <a:lnTo>
                      <a:pt x="378" y="27"/>
                    </a:lnTo>
                    <a:lnTo>
                      <a:pt x="324" y="14"/>
                    </a:lnTo>
                    <a:lnTo>
                      <a:pt x="268" y="4"/>
                    </a:lnTo>
                    <a:lnTo>
                      <a:pt x="245" y="0"/>
                    </a:lnTo>
                    <a:lnTo>
                      <a:pt x="243" y="2"/>
                    </a:lnTo>
                    <a:lnTo>
                      <a:pt x="243" y="4"/>
                    </a:lnTo>
                    <a:lnTo>
                      <a:pt x="241" y="4"/>
                    </a:lnTo>
                    <a:lnTo>
                      <a:pt x="241" y="6"/>
                    </a:lnTo>
                    <a:lnTo>
                      <a:pt x="240" y="6"/>
                    </a:lnTo>
                    <a:lnTo>
                      <a:pt x="240" y="8"/>
                    </a:lnTo>
                    <a:lnTo>
                      <a:pt x="238" y="10"/>
                    </a:lnTo>
                    <a:lnTo>
                      <a:pt x="238" y="10"/>
                    </a:lnTo>
                    <a:lnTo>
                      <a:pt x="266" y="14"/>
                    </a:lnTo>
                    <a:lnTo>
                      <a:pt x="322" y="23"/>
                    </a:lnTo>
                    <a:lnTo>
                      <a:pt x="374" y="37"/>
                    </a:lnTo>
                    <a:lnTo>
                      <a:pt x="383" y="38"/>
                    </a:lnTo>
                    <a:lnTo>
                      <a:pt x="383" y="37"/>
                    </a:lnTo>
                    <a:lnTo>
                      <a:pt x="383" y="37"/>
                    </a:lnTo>
                    <a:lnTo>
                      <a:pt x="383" y="35"/>
                    </a:lnTo>
                    <a:lnTo>
                      <a:pt x="385" y="33"/>
                    </a:lnTo>
                    <a:lnTo>
                      <a:pt x="385" y="33"/>
                    </a:lnTo>
                    <a:lnTo>
                      <a:pt x="385" y="31"/>
                    </a:lnTo>
                    <a:lnTo>
                      <a:pt x="385" y="29"/>
                    </a:lnTo>
                    <a:lnTo>
                      <a:pt x="385" y="29"/>
                    </a:lnTo>
                    <a:close/>
                    <a:moveTo>
                      <a:pt x="3" y="2205"/>
                    </a:moveTo>
                    <a:lnTo>
                      <a:pt x="44" y="2207"/>
                    </a:lnTo>
                    <a:lnTo>
                      <a:pt x="99" y="2209"/>
                    </a:lnTo>
                    <a:lnTo>
                      <a:pt x="157" y="2207"/>
                    </a:lnTo>
                    <a:lnTo>
                      <a:pt x="213" y="2203"/>
                    </a:lnTo>
                    <a:lnTo>
                      <a:pt x="268" y="2195"/>
                    </a:lnTo>
                    <a:lnTo>
                      <a:pt x="324" y="2185"/>
                    </a:lnTo>
                    <a:lnTo>
                      <a:pt x="353" y="2180"/>
                    </a:lnTo>
                    <a:lnTo>
                      <a:pt x="353" y="2178"/>
                    </a:lnTo>
                    <a:lnTo>
                      <a:pt x="351" y="2176"/>
                    </a:lnTo>
                    <a:lnTo>
                      <a:pt x="351" y="2176"/>
                    </a:lnTo>
                    <a:lnTo>
                      <a:pt x="351" y="2174"/>
                    </a:lnTo>
                    <a:lnTo>
                      <a:pt x="351" y="2172"/>
                    </a:lnTo>
                    <a:lnTo>
                      <a:pt x="351" y="2172"/>
                    </a:lnTo>
                    <a:lnTo>
                      <a:pt x="351" y="2170"/>
                    </a:lnTo>
                    <a:lnTo>
                      <a:pt x="351" y="2168"/>
                    </a:lnTo>
                    <a:lnTo>
                      <a:pt x="322" y="2176"/>
                    </a:lnTo>
                    <a:lnTo>
                      <a:pt x="266" y="2185"/>
                    </a:lnTo>
                    <a:lnTo>
                      <a:pt x="213" y="2193"/>
                    </a:lnTo>
                    <a:lnTo>
                      <a:pt x="157" y="2197"/>
                    </a:lnTo>
                    <a:lnTo>
                      <a:pt x="99" y="2199"/>
                    </a:lnTo>
                    <a:lnTo>
                      <a:pt x="44" y="2197"/>
                    </a:lnTo>
                    <a:lnTo>
                      <a:pt x="0" y="2193"/>
                    </a:lnTo>
                    <a:lnTo>
                      <a:pt x="2" y="2195"/>
                    </a:lnTo>
                    <a:lnTo>
                      <a:pt x="2" y="2197"/>
                    </a:lnTo>
                    <a:lnTo>
                      <a:pt x="2" y="2197"/>
                    </a:lnTo>
                    <a:lnTo>
                      <a:pt x="2" y="2199"/>
                    </a:lnTo>
                    <a:lnTo>
                      <a:pt x="3" y="2201"/>
                    </a:lnTo>
                    <a:lnTo>
                      <a:pt x="3" y="2201"/>
                    </a:lnTo>
                    <a:lnTo>
                      <a:pt x="3" y="2203"/>
                    </a:lnTo>
                    <a:lnTo>
                      <a:pt x="3" y="2205"/>
                    </a:lnTo>
                    <a:close/>
                  </a:path>
                </a:pathLst>
              </a:custGeom>
              <a:solidFill>
                <a:srgbClr val="28a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Freeform 50"/>
              <p:cNvSpPr/>
              <p:nvPr/>
            </p:nvSpPr>
            <p:spPr>
              <a:xfrm>
                <a:off x="2114640" y="1331640"/>
                <a:ext cx="651600" cy="3699000"/>
              </a:xfrm>
              <a:custGeom>
                <a:avLst/>
                <a:gdLst>
                  <a:gd name="textAreaLeft" fmla="*/ 0 w 651600"/>
                  <a:gd name="textAreaRight" fmla="*/ 651960 w 651600"/>
                  <a:gd name="textAreaTop" fmla="*/ 0 h 3699000"/>
                  <a:gd name="textAreaBottom" fmla="*/ 3699360 h 3699000"/>
                </a:gdLst>
                <a:ahLst/>
                <a:rect l="textAreaLeft" t="textAreaTop" r="textAreaRight" b="textAreaBottom"/>
                <a:pathLst>
                  <a:path w="387" h="2197">
                    <a:moveTo>
                      <a:pt x="387" y="27"/>
                    </a:moveTo>
                    <a:lnTo>
                      <a:pt x="378" y="25"/>
                    </a:lnTo>
                    <a:lnTo>
                      <a:pt x="324" y="13"/>
                    </a:lnTo>
                    <a:lnTo>
                      <a:pt x="270" y="4"/>
                    </a:lnTo>
                    <a:lnTo>
                      <a:pt x="243" y="0"/>
                    </a:lnTo>
                    <a:lnTo>
                      <a:pt x="242" y="0"/>
                    </a:lnTo>
                    <a:lnTo>
                      <a:pt x="242" y="2"/>
                    </a:lnTo>
                    <a:lnTo>
                      <a:pt x="240" y="4"/>
                    </a:lnTo>
                    <a:lnTo>
                      <a:pt x="240" y="4"/>
                    </a:lnTo>
                    <a:lnTo>
                      <a:pt x="238" y="6"/>
                    </a:lnTo>
                    <a:lnTo>
                      <a:pt x="238" y="8"/>
                    </a:lnTo>
                    <a:lnTo>
                      <a:pt x="236" y="8"/>
                    </a:lnTo>
                    <a:lnTo>
                      <a:pt x="236" y="9"/>
                    </a:lnTo>
                    <a:lnTo>
                      <a:pt x="268" y="13"/>
                    </a:lnTo>
                    <a:lnTo>
                      <a:pt x="322" y="23"/>
                    </a:lnTo>
                    <a:lnTo>
                      <a:pt x="376" y="34"/>
                    </a:lnTo>
                    <a:lnTo>
                      <a:pt x="385" y="38"/>
                    </a:lnTo>
                    <a:lnTo>
                      <a:pt x="385" y="36"/>
                    </a:lnTo>
                    <a:lnTo>
                      <a:pt x="385" y="34"/>
                    </a:lnTo>
                    <a:lnTo>
                      <a:pt x="385" y="34"/>
                    </a:lnTo>
                    <a:lnTo>
                      <a:pt x="385" y="32"/>
                    </a:lnTo>
                    <a:lnTo>
                      <a:pt x="385" y="31"/>
                    </a:lnTo>
                    <a:lnTo>
                      <a:pt x="385" y="31"/>
                    </a:lnTo>
                    <a:lnTo>
                      <a:pt x="385" y="29"/>
                    </a:lnTo>
                    <a:lnTo>
                      <a:pt x="387" y="27"/>
                    </a:lnTo>
                    <a:close/>
                    <a:moveTo>
                      <a:pt x="4" y="2193"/>
                    </a:moveTo>
                    <a:lnTo>
                      <a:pt x="46" y="2197"/>
                    </a:lnTo>
                    <a:lnTo>
                      <a:pt x="101" y="2197"/>
                    </a:lnTo>
                    <a:lnTo>
                      <a:pt x="159" y="2197"/>
                    </a:lnTo>
                    <a:lnTo>
                      <a:pt x="215" y="2191"/>
                    </a:lnTo>
                    <a:lnTo>
                      <a:pt x="270" y="2185"/>
                    </a:lnTo>
                    <a:lnTo>
                      <a:pt x="324" y="2176"/>
                    </a:lnTo>
                    <a:lnTo>
                      <a:pt x="353" y="2168"/>
                    </a:lnTo>
                    <a:lnTo>
                      <a:pt x="353" y="2166"/>
                    </a:lnTo>
                    <a:lnTo>
                      <a:pt x="353" y="2166"/>
                    </a:lnTo>
                    <a:lnTo>
                      <a:pt x="353" y="2164"/>
                    </a:lnTo>
                    <a:lnTo>
                      <a:pt x="353" y="2162"/>
                    </a:lnTo>
                    <a:lnTo>
                      <a:pt x="353" y="2162"/>
                    </a:lnTo>
                    <a:lnTo>
                      <a:pt x="353" y="2160"/>
                    </a:lnTo>
                    <a:lnTo>
                      <a:pt x="353" y="2158"/>
                    </a:lnTo>
                    <a:lnTo>
                      <a:pt x="351" y="2158"/>
                    </a:lnTo>
                    <a:lnTo>
                      <a:pt x="322" y="2164"/>
                    </a:lnTo>
                    <a:lnTo>
                      <a:pt x="268" y="2174"/>
                    </a:lnTo>
                    <a:lnTo>
                      <a:pt x="215" y="2181"/>
                    </a:lnTo>
                    <a:lnTo>
                      <a:pt x="159" y="2185"/>
                    </a:lnTo>
                    <a:lnTo>
                      <a:pt x="101" y="2187"/>
                    </a:lnTo>
                    <a:lnTo>
                      <a:pt x="46" y="2185"/>
                    </a:lnTo>
                    <a:lnTo>
                      <a:pt x="0" y="2181"/>
                    </a:lnTo>
                    <a:lnTo>
                      <a:pt x="2" y="2183"/>
                    </a:lnTo>
                    <a:lnTo>
                      <a:pt x="2" y="2185"/>
                    </a:lnTo>
                    <a:lnTo>
                      <a:pt x="2" y="2185"/>
                    </a:lnTo>
                    <a:lnTo>
                      <a:pt x="2" y="2187"/>
                    </a:lnTo>
                    <a:lnTo>
                      <a:pt x="4" y="2189"/>
                    </a:lnTo>
                    <a:lnTo>
                      <a:pt x="4" y="2191"/>
                    </a:lnTo>
                    <a:lnTo>
                      <a:pt x="4" y="2191"/>
                    </a:lnTo>
                    <a:lnTo>
                      <a:pt x="4" y="2193"/>
                    </a:lnTo>
                    <a:close/>
                  </a:path>
                </a:pathLst>
              </a:custGeom>
              <a:solidFill>
                <a:srgbClr val="29a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Freeform 51"/>
              <p:cNvSpPr/>
              <p:nvPr/>
            </p:nvSpPr>
            <p:spPr>
              <a:xfrm>
                <a:off x="2114640" y="1338120"/>
                <a:ext cx="648360" cy="3685680"/>
              </a:xfrm>
              <a:custGeom>
                <a:avLst/>
                <a:gdLst>
                  <a:gd name="textAreaLeft" fmla="*/ 0 w 648360"/>
                  <a:gd name="textAreaRight" fmla="*/ 648720 w 648360"/>
                  <a:gd name="textAreaTop" fmla="*/ 0 h 3685680"/>
                  <a:gd name="textAreaBottom" fmla="*/ 3686040 h 3685680"/>
                </a:gdLst>
                <a:ahLst/>
                <a:rect l="textAreaLeft" t="textAreaTop" r="textAreaRight" b="textAreaBottom"/>
                <a:pathLst>
                  <a:path w="385" h="2189">
                    <a:moveTo>
                      <a:pt x="385" y="28"/>
                    </a:moveTo>
                    <a:lnTo>
                      <a:pt x="376" y="27"/>
                    </a:lnTo>
                    <a:lnTo>
                      <a:pt x="324" y="13"/>
                    </a:lnTo>
                    <a:lnTo>
                      <a:pt x="268" y="4"/>
                    </a:lnTo>
                    <a:lnTo>
                      <a:pt x="240" y="0"/>
                    </a:lnTo>
                    <a:lnTo>
                      <a:pt x="238" y="2"/>
                    </a:lnTo>
                    <a:lnTo>
                      <a:pt x="238" y="4"/>
                    </a:lnTo>
                    <a:lnTo>
                      <a:pt x="236" y="4"/>
                    </a:lnTo>
                    <a:lnTo>
                      <a:pt x="236" y="5"/>
                    </a:lnTo>
                    <a:lnTo>
                      <a:pt x="234" y="5"/>
                    </a:lnTo>
                    <a:lnTo>
                      <a:pt x="234" y="7"/>
                    </a:lnTo>
                    <a:lnTo>
                      <a:pt x="232" y="9"/>
                    </a:lnTo>
                    <a:lnTo>
                      <a:pt x="232" y="9"/>
                    </a:lnTo>
                    <a:lnTo>
                      <a:pt x="268" y="15"/>
                    </a:lnTo>
                    <a:lnTo>
                      <a:pt x="322" y="25"/>
                    </a:lnTo>
                    <a:lnTo>
                      <a:pt x="374" y="36"/>
                    </a:lnTo>
                    <a:lnTo>
                      <a:pt x="384" y="38"/>
                    </a:lnTo>
                    <a:lnTo>
                      <a:pt x="384" y="38"/>
                    </a:lnTo>
                    <a:lnTo>
                      <a:pt x="384" y="36"/>
                    </a:lnTo>
                    <a:lnTo>
                      <a:pt x="385" y="34"/>
                    </a:lnTo>
                    <a:lnTo>
                      <a:pt x="385" y="34"/>
                    </a:lnTo>
                    <a:lnTo>
                      <a:pt x="385" y="32"/>
                    </a:lnTo>
                    <a:lnTo>
                      <a:pt x="385" y="30"/>
                    </a:lnTo>
                    <a:lnTo>
                      <a:pt x="385" y="30"/>
                    </a:lnTo>
                    <a:lnTo>
                      <a:pt x="385" y="28"/>
                    </a:lnTo>
                    <a:close/>
                    <a:moveTo>
                      <a:pt x="2" y="2183"/>
                    </a:moveTo>
                    <a:lnTo>
                      <a:pt x="46" y="2187"/>
                    </a:lnTo>
                    <a:lnTo>
                      <a:pt x="101" y="2189"/>
                    </a:lnTo>
                    <a:lnTo>
                      <a:pt x="159" y="2187"/>
                    </a:lnTo>
                    <a:lnTo>
                      <a:pt x="215" y="2183"/>
                    </a:lnTo>
                    <a:lnTo>
                      <a:pt x="268" y="2175"/>
                    </a:lnTo>
                    <a:lnTo>
                      <a:pt x="324" y="2166"/>
                    </a:lnTo>
                    <a:lnTo>
                      <a:pt x="353" y="2158"/>
                    </a:lnTo>
                    <a:lnTo>
                      <a:pt x="353" y="2158"/>
                    </a:lnTo>
                    <a:lnTo>
                      <a:pt x="353" y="2156"/>
                    </a:lnTo>
                    <a:lnTo>
                      <a:pt x="353" y="2154"/>
                    </a:lnTo>
                    <a:lnTo>
                      <a:pt x="351" y="2154"/>
                    </a:lnTo>
                    <a:lnTo>
                      <a:pt x="351" y="2152"/>
                    </a:lnTo>
                    <a:lnTo>
                      <a:pt x="351" y="2151"/>
                    </a:lnTo>
                    <a:lnTo>
                      <a:pt x="351" y="2151"/>
                    </a:lnTo>
                    <a:lnTo>
                      <a:pt x="351" y="2149"/>
                    </a:lnTo>
                    <a:lnTo>
                      <a:pt x="322" y="2156"/>
                    </a:lnTo>
                    <a:lnTo>
                      <a:pt x="268" y="2166"/>
                    </a:lnTo>
                    <a:lnTo>
                      <a:pt x="213" y="2172"/>
                    </a:lnTo>
                    <a:lnTo>
                      <a:pt x="157" y="2177"/>
                    </a:lnTo>
                    <a:lnTo>
                      <a:pt x="101" y="2177"/>
                    </a:lnTo>
                    <a:lnTo>
                      <a:pt x="46" y="2177"/>
                    </a:lnTo>
                    <a:lnTo>
                      <a:pt x="0" y="2174"/>
                    </a:lnTo>
                    <a:lnTo>
                      <a:pt x="0" y="2174"/>
                    </a:lnTo>
                    <a:lnTo>
                      <a:pt x="0" y="2175"/>
                    </a:lnTo>
                    <a:lnTo>
                      <a:pt x="0" y="2177"/>
                    </a:lnTo>
                    <a:lnTo>
                      <a:pt x="0" y="2177"/>
                    </a:lnTo>
                    <a:lnTo>
                      <a:pt x="2" y="2179"/>
                    </a:lnTo>
                    <a:lnTo>
                      <a:pt x="2" y="2181"/>
                    </a:lnTo>
                    <a:lnTo>
                      <a:pt x="2" y="2181"/>
                    </a:lnTo>
                    <a:lnTo>
                      <a:pt x="2" y="2183"/>
                    </a:lnTo>
                    <a:close/>
                  </a:path>
                </a:pathLst>
              </a:custGeom>
              <a:solidFill>
                <a:srgbClr val="2aa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Freeform 52"/>
              <p:cNvSpPr/>
              <p:nvPr/>
            </p:nvSpPr>
            <p:spPr>
              <a:xfrm>
                <a:off x="2111400" y="1346400"/>
                <a:ext cx="651240" cy="3667320"/>
              </a:xfrm>
              <a:custGeom>
                <a:avLst/>
                <a:gdLst>
                  <a:gd name="textAreaLeft" fmla="*/ 0 w 651240"/>
                  <a:gd name="textAreaRight" fmla="*/ 651600 w 651240"/>
                  <a:gd name="textAreaTop" fmla="*/ 0 h 3667320"/>
                  <a:gd name="textAreaBottom" fmla="*/ 3667680 h 3667320"/>
                </a:gdLst>
                <a:ahLst/>
                <a:rect l="textAreaLeft" t="textAreaTop" r="textAreaRight" b="textAreaBottom"/>
                <a:pathLst>
                  <a:path w="387" h="2178">
                    <a:moveTo>
                      <a:pt x="387" y="29"/>
                    </a:moveTo>
                    <a:lnTo>
                      <a:pt x="378" y="25"/>
                    </a:lnTo>
                    <a:lnTo>
                      <a:pt x="324" y="14"/>
                    </a:lnTo>
                    <a:lnTo>
                      <a:pt x="270" y="4"/>
                    </a:lnTo>
                    <a:lnTo>
                      <a:pt x="238" y="0"/>
                    </a:lnTo>
                    <a:lnTo>
                      <a:pt x="236" y="0"/>
                    </a:lnTo>
                    <a:lnTo>
                      <a:pt x="236" y="2"/>
                    </a:lnTo>
                    <a:lnTo>
                      <a:pt x="234" y="4"/>
                    </a:lnTo>
                    <a:lnTo>
                      <a:pt x="234" y="4"/>
                    </a:lnTo>
                    <a:lnTo>
                      <a:pt x="234" y="6"/>
                    </a:lnTo>
                    <a:lnTo>
                      <a:pt x="232" y="6"/>
                    </a:lnTo>
                    <a:lnTo>
                      <a:pt x="232" y="8"/>
                    </a:lnTo>
                    <a:lnTo>
                      <a:pt x="230" y="10"/>
                    </a:lnTo>
                    <a:lnTo>
                      <a:pt x="268" y="14"/>
                    </a:lnTo>
                    <a:lnTo>
                      <a:pt x="322" y="23"/>
                    </a:lnTo>
                    <a:lnTo>
                      <a:pt x="374" y="35"/>
                    </a:lnTo>
                    <a:lnTo>
                      <a:pt x="386" y="39"/>
                    </a:lnTo>
                    <a:lnTo>
                      <a:pt x="386" y="37"/>
                    </a:lnTo>
                    <a:lnTo>
                      <a:pt x="386" y="37"/>
                    </a:lnTo>
                    <a:lnTo>
                      <a:pt x="386" y="35"/>
                    </a:lnTo>
                    <a:lnTo>
                      <a:pt x="386" y="33"/>
                    </a:lnTo>
                    <a:lnTo>
                      <a:pt x="386" y="33"/>
                    </a:lnTo>
                    <a:lnTo>
                      <a:pt x="386" y="31"/>
                    </a:lnTo>
                    <a:lnTo>
                      <a:pt x="387" y="29"/>
                    </a:lnTo>
                    <a:lnTo>
                      <a:pt x="387" y="29"/>
                    </a:lnTo>
                    <a:close/>
                    <a:moveTo>
                      <a:pt x="2" y="2172"/>
                    </a:moveTo>
                    <a:lnTo>
                      <a:pt x="48" y="2176"/>
                    </a:lnTo>
                    <a:lnTo>
                      <a:pt x="103" y="2178"/>
                    </a:lnTo>
                    <a:lnTo>
                      <a:pt x="161" y="2176"/>
                    </a:lnTo>
                    <a:lnTo>
                      <a:pt x="217" y="2172"/>
                    </a:lnTo>
                    <a:lnTo>
                      <a:pt x="270" y="2165"/>
                    </a:lnTo>
                    <a:lnTo>
                      <a:pt x="324" y="2155"/>
                    </a:lnTo>
                    <a:lnTo>
                      <a:pt x="353" y="2149"/>
                    </a:lnTo>
                    <a:lnTo>
                      <a:pt x="353" y="2147"/>
                    </a:lnTo>
                    <a:lnTo>
                      <a:pt x="353" y="2146"/>
                    </a:lnTo>
                    <a:lnTo>
                      <a:pt x="353" y="2146"/>
                    </a:lnTo>
                    <a:lnTo>
                      <a:pt x="353" y="2144"/>
                    </a:lnTo>
                    <a:lnTo>
                      <a:pt x="353" y="2142"/>
                    </a:lnTo>
                    <a:lnTo>
                      <a:pt x="353" y="2142"/>
                    </a:lnTo>
                    <a:lnTo>
                      <a:pt x="353" y="2140"/>
                    </a:lnTo>
                    <a:lnTo>
                      <a:pt x="353" y="2138"/>
                    </a:lnTo>
                    <a:lnTo>
                      <a:pt x="322" y="2146"/>
                    </a:lnTo>
                    <a:lnTo>
                      <a:pt x="268" y="2155"/>
                    </a:lnTo>
                    <a:lnTo>
                      <a:pt x="215" y="2163"/>
                    </a:lnTo>
                    <a:lnTo>
                      <a:pt x="159" y="2167"/>
                    </a:lnTo>
                    <a:lnTo>
                      <a:pt x="103" y="2169"/>
                    </a:lnTo>
                    <a:lnTo>
                      <a:pt x="48" y="2167"/>
                    </a:lnTo>
                    <a:lnTo>
                      <a:pt x="0" y="2163"/>
                    </a:lnTo>
                    <a:lnTo>
                      <a:pt x="0" y="2165"/>
                    </a:lnTo>
                    <a:lnTo>
                      <a:pt x="0" y="2165"/>
                    </a:lnTo>
                    <a:lnTo>
                      <a:pt x="0" y="2167"/>
                    </a:lnTo>
                    <a:lnTo>
                      <a:pt x="2" y="2169"/>
                    </a:lnTo>
                    <a:lnTo>
                      <a:pt x="2" y="2169"/>
                    </a:lnTo>
                    <a:lnTo>
                      <a:pt x="2" y="2170"/>
                    </a:lnTo>
                    <a:lnTo>
                      <a:pt x="2" y="2172"/>
                    </a:lnTo>
                    <a:lnTo>
                      <a:pt x="2" y="2172"/>
                    </a:lnTo>
                    <a:close/>
                  </a:path>
                </a:pathLst>
              </a:custGeom>
              <a:solidFill>
                <a:srgbClr val="2ba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Freeform 53"/>
              <p:cNvSpPr/>
              <p:nvPr/>
            </p:nvSpPr>
            <p:spPr>
              <a:xfrm>
                <a:off x="2108160" y="1353240"/>
                <a:ext cx="653040" cy="3650400"/>
              </a:xfrm>
              <a:custGeom>
                <a:avLst/>
                <a:gdLst>
                  <a:gd name="textAreaLeft" fmla="*/ 0 w 653040"/>
                  <a:gd name="textAreaRight" fmla="*/ 653400 w 653040"/>
                  <a:gd name="textAreaTop" fmla="*/ 0 h 3650400"/>
                  <a:gd name="textAreaBottom" fmla="*/ 3650760 h 3650400"/>
                </a:gdLst>
                <a:ahLst/>
                <a:rect l="textAreaLeft" t="textAreaTop" r="textAreaRight" b="textAreaBottom"/>
                <a:pathLst>
                  <a:path w="388" h="2168">
                    <a:moveTo>
                      <a:pt x="388" y="29"/>
                    </a:moveTo>
                    <a:lnTo>
                      <a:pt x="378" y="27"/>
                    </a:lnTo>
                    <a:lnTo>
                      <a:pt x="326" y="16"/>
                    </a:lnTo>
                    <a:lnTo>
                      <a:pt x="272" y="6"/>
                    </a:lnTo>
                    <a:lnTo>
                      <a:pt x="236" y="0"/>
                    </a:lnTo>
                    <a:lnTo>
                      <a:pt x="234" y="2"/>
                    </a:lnTo>
                    <a:lnTo>
                      <a:pt x="234" y="2"/>
                    </a:lnTo>
                    <a:lnTo>
                      <a:pt x="234" y="4"/>
                    </a:lnTo>
                    <a:lnTo>
                      <a:pt x="232" y="6"/>
                    </a:lnTo>
                    <a:lnTo>
                      <a:pt x="232" y="6"/>
                    </a:lnTo>
                    <a:lnTo>
                      <a:pt x="230" y="8"/>
                    </a:lnTo>
                    <a:lnTo>
                      <a:pt x="230" y="8"/>
                    </a:lnTo>
                    <a:lnTo>
                      <a:pt x="228" y="10"/>
                    </a:lnTo>
                    <a:lnTo>
                      <a:pt x="270" y="16"/>
                    </a:lnTo>
                    <a:lnTo>
                      <a:pt x="322" y="25"/>
                    </a:lnTo>
                    <a:lnTo>
                      <a:pt x="376" y="37"/>
                    </a:lnTo>
                    <a:lnTo>
                      <a:pt x="386" y="41"/>
                    </a:lnTo>
                    <a:lnTo>
                      <a:pt x="386" y="39"/>
                    </a:lnTo>
                    <a:lnTo>
                      <a:pt x="386" y="37"/>
                    </a:lnTo>
                    <a:lnTo>
                      <a:pt x="388" y="37"/>
                    </a:lnTo>
                    <a:lnTo>
                      <a:pt x="388" y="35"/>
                    </a:lnTo>
                    <a:lnTo>
                      <a:pt x="388" y="33"/>
                    </a:lnTo>
                    <a:lnTo>
                      <a:pt x="388" y="33"/>
                    </a:lnTo>
                    <a:lnTo>
                      <a:pt x="388" y="31"/>
                    </a:lnTo>
                    <a:lnTo>
                      <a:pt x="388" y="29"/>
                    </a:lnTo>
                    <a:close/>
                    <a:moveTo>
                      <a:pt x="4" y="2165"/>
                    </a:moveTo>
                    <a:lnTo>
                      <a:pt x="50" y="2168"/>
                    </a:lnTo>
                    <a:lnTo>
                      <a:pt x="105" y="2168"/>
                    </a:lnTo>
                    <a:lnTo>
                      <a:pt x="161" y="2168"/>
                    </a:lnTo>
                    <a:lnTo>
                      <a:pt x="217" y="2163"/>
                    </a:lnTo>
                    <a:lnTo>
                      <a:pt x="272" y="2157"/>
                    </a:lnTo>
                    <a:lnTo>
                      <a:pt x="326" y="2147"/>
                    </a:lnTo>
                    <a:lnTo>
                      <a:pt x="355" y="2140"/>
                    </a:lnTo>
                    <a:lnTo>
                      <a:pt x="355" y="2138"/>
                    </a:lnTo>
                    <a:lnTo>
                      <a:pt x="355" y="2138"/>
                    </a:lnTo>
                    <a:lnTo>
                      <a:pt x="355" y="2136"/>
                    </a:lnTo>
                    <a:lnTo>
                      <a:pt x="355" y="2134"/>
                    </a:lnTo>
                    <a:lnTo>
                      <a:pt x="355" y="2134"/>
                    </a:lnTo>
                    <a:lnTo>
                      <a:pt x="353" y="2132"/>
                    </a:lnTo>
                    <a:lnTo>
                      <a:pt x="353" y="2132"/>
                    </a:lnTo>
                    <a:lnTo>
                      <a:pt x="353" y="2130"/>
                    </a:lnTo>
                    <a:lnTo>
                      <a:pt x="322" y="2136"/>
                    </a:lnTo>
                    <a:lnTo>
                      <a:pt x="270" y="2145"/>
                    </a:lnTo>
                    <a:lnTo>
                      <a:pt x="217" y="2153"/>
                    </a:lnTo>
                    <a:lnTo>
                      <a:pt x="161" y="2157"/>
                    </a:lnTo>
                    <a:lnTo>
                      <a:pt x="105" y="2159"/>
                    </a:lnTo>
                    <a:lnTo>
                      <a:pt x="50" y="2157"/>
                    </a:lnTo>
                    <a:lnTo>
                      <a:pt x="0" y="2153"/>
                    </a:lnTo>
                    <a:lnTo>
                      <a:pt x="0" y="2155"/>
                    </a:lnTo>
                    <a:lnTo>
                      <a:pt x="0" y="2157"/>
                    </a:lnTo>
                    <a:lnTo>
                      <a:pt x="0" y="2157"/>
                    </a:lnTo>
                    <a:lnTo>
                      <a:pt x="2" y="2159"/>
                    </a:lnTo>
                    <a:lnTo>
                      <a:pt x="2" y="2161"/>
                    </a:lnTo>
                    <a:lnTo>
                      <a:pt x="2" y="2161"/>
                    </a:lnTo>
                    <a:lnTo>
                      <a:pt x="2" y="2163"/>
                    </a:lnTo>
                    <a:lnTo>
                      <a:pt x="4" y="2165"/>
                    </a:lnTo>
                    <a:close/>
                  </a:path>
                </a:pathLst>
              </a:custGeom>
              <a:solidFill>
                <a:srgbClr val="2ca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Freeform 54"/>
              <p:cNvSpPr/>
              <p:nvPr/>
            </p:nvSpPr>
            <p:spPr>
              <a:xfrm>
                <a:off x="2104560" y="1363320"/>
                <a:ext cx="656640" cy="3635280"/>
              </a:xfrm>
              <a:custGeom>
                <a:avLst/>
                <a:gdLst>
                  <a:gd name="textAreaLeft" fmla="*/ 0 w 656640"/>
                  <a:gd name="textAreaRight" fmla="*/ 657000 w 656640"/>
                  <a:gd name="textAreaTop" fmla="*/ 0 h 3635280"/>
                  <a:gd name="textAreaBottom" fmla="*/ 3635640 h 3635280"/>
                </a:gdLst>
                <a:ahLst/>
                <a:rect l="textAreaLeft" t="textAreaTop" r="textAreaRight" b="textAreaBottom"/>
                <a:pathLst>
                  <a:path w="390" h="2159">
                    <a:moveTo>
                      <a:pt x="390" y="29"/>
                    </a:moveTo>
                    <a:lnTo>
                      <a:pt x="378" y="25"/>
                    </a:lnTo>
                    <a:lnTo>
                      <a:pt x="326" y="13"/>
                    </a:lnTo>
                    <a:lnTo>
                      <a:pt x="272" y="4"/>
                    </a:lnTo>
                    <a:lnTo>
                      <a:pt x="234" y="0"/>
                    </a:lnTo>
                    <a:lnTo>
                      <a:pt x="234" y="0"/>
                    </a:lnTo>
                    <a:lnTo>
                      <a:pt x="232" y="2"/>
                    </a:lnTo>
                    <a:lnTo>
                      <a:pt x="232" y="2"/>
                    </a:lnTo>
                    <a:lnTo>
                      <a:pt x="230" y="4"/>
                    </a:lnTo>
                    <a:lnTo>
                      <a:pt x="230" y="6"/>
                    </a:lnTo>
                    <a:lnTo>
                      <a:pt x="228" y="6"/>
                    </a:lnTo>
                    <a:lnTo>
                      <a:pt x="228" y="8"/>
                    </a:lnTo>
                    <a:lnTo>
                      <a:pt x="226" y="10"/>
                    </a:lnTo>
                    <a:lnTo>
                      <a:pt x="271" y="15"/>
                    </a:lnTo>
                    <a:lnTo>
                      <a:pt x="324" y="23"/>
                    </a:lnTo>
                    <a:lnTo>
                      <a:pt x="376" y="37"/>
                    </a:lnTo>
                    <a:lnTo>
                      <a:pt x="388" y="38"/>
                    </a:lnTo>
                    <a:lnTo>
                      <a:pt x="388" y="38"/>
                    </a:lnTo>
                    <a:lnTo>
                      <a:pt x="388" y="37"/>
                    </a:lnTo>
                    <a:lnTo>
                      <a:pt x="388" y="35"/>
                    </a:lnTo>
                    <a:lnTo>
                      <a:pt x="388" y="35"/>
                    </a:lnTo>
                    <a:lnTo>
                      <a:pt x="388" y="33"/>
                    </a:lnTo>
                    <a:lnTo>
                      <a:pt x="388" y="31"/>
                    </a:lnTo>
                    <a:lnTo>
                      <a:pt x="390" y="31"/>
                    </a:lnTo>
                    <a:lnTo>
                      <a:pt x="390" y="29"/>
                    </a:lnTo>
                    <a:close/>
                    <a:moveTo>
                      <a:pt x="4" y="2153"/>
                    </a:moveTo>
                    <a:lnTo>
                      <a:pt x="52" y="2157"/>
                    </a:lnTo>
                    <a:lnTo>
                      <a:pt x="107" y="2159"/>
                    </a:lnTo>
                    <a:lnTo>
                      <a:pt x="163" y="2157"/>
                    </a:lnTo>
                    <a:lnTo>
                      <a:pt x="219" y="2153"/>
                    </a:lnTo>
                    <a:lnTo>
                      <a:pt x="272" y="2145"/>
                    </a:lnTo>
                    <a:lnTo>
                      <a:pt x="326" y="2136"/>
                    </a:lnTo>
                    <a:lnTo>
                      <a:pt x="357" y="2128"/>
                    </a:lnTo>
                    <a:lnTo>
                      <a:pt x="357" y="2128"/>
                    </a:lnTo>
                    <a:lnTo>
                      <a:pt x="355" y="2126"/>
                    </a:lnTo>
                    <a:lnTo>
                      <a:pt x="355" y="2126"/>
                    </a:lnTo>
                    <a:lnTo>
                      <a:pt x="355" y="2124"/>
                    </a:lnTo>
                    <a:lnTo>
                      <a:pt x="355" y="2122"/>
                    </a:lnTo>
                    <a:lnTo>
                      <a:pt x="355" y="2122"/>
                    </a:lnTo>
                    <a:lnTo>
                      <a:pt x="355" y="2120"/>
                    </a:lnTo>
                    <a:lnTo>
                      <a:pt x="355" y="2118"/>
                    </a:lnTo>
                    <a:lnTo>
                      <a:pt x="324" y="2126"/>
                    </a:lnTo>
                    <a:lnTo>
                      <a:pt x="271" y="2136"/>
                    </a:lnTo>
                    <a:lnTo>
                      <a:pt x="217" y="2141"/>
                    </a:lnTo>
                    <a:lnTo>
                      <a:pt x="163" y="2145"/>
                    </a:lnTo>
                    <a:lnTo>
                      <a:pt x="107" y="2147"/>
                    </a:lnTo>
                    <a:lnTo>
                      <a:pt x="54" y="2145"/>
                    </a:lnTo>
                    <a:lnTo>
                      <a:pt x="0" y="2141"/>
                    </a:lnTo>
                    <a:lnTo>
                      <a:pt x="0" y="2143"/>
                    </a:lnTo>
                    <a:lnTo>
                      <a:pt x="0" y="2145"/>
                    </a:lnTo>
                    <a:lnTo>
                      <a:pt x="0" y="2145"/>
                    </a:lnTo>
                    <a:lnTo>
                      <a:pt x="2" y="2147"/>
                    </a:lnTo>
                    <a:lnTo>
                      <a:pt x="2" y="2149"/>
                    </a:lnTo>
                    <a:lnTo>
                      <a:pt x="2" y="2151"/>
                    </a:lnTo>
                    <a:lnTo>
                      <a:pt x="2" y="2151"/>
                    </a:lnTo>
                    <a:lnTo>
                      <a:pt x="4" y="2153"/>
                    </a:lnTo>
                    <a:close/>
                  </a:path>
                </a:pathLst>
              </a:custGeom>
              <a:solidFill>
                <a:srgbClr val="2da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Freeform 55"/>
              <p:cNvSpPr/>
              <p:nvPr/>
            </p:nvSpPr>
            <p:spPr>
              <a:xfrm>
                <a:off x="2101320" y="1370160"/>
                <a:ext cx="656640" cy="3618360"/>
              </a:xfrm>
              <a:custGeom>
                <a:avLst/>
                <a:gdLst>
                  <a:gd name="textAreaLeft" fmla="*/ 0 w 656640"/>
                  <a:gd name="textAreaRight" fmla="*/ 657000 w 656640"/>
                  <a:gd name="textAreaTop" fmla="*/ 0 h 3618360"/>
                  <a:gd name="textAreaBottom" fmla="*/ 3618720 h 3618360"/>
                </a:gdLst>
                <a:ahLst/>
                <a:rect l="textAreaLeft" t="textAreaTop" r="textAreaRight" b="textAreaBottom"/>
                <a:pathLst>
                  <a:path w="390" h="2149">
                    <a:moveTo>
                      <a:pt x="390" y="31"/>
                    </a:moveTo>
                    <a:lnTo>
                      <a:pt x="380" y="27"/>
                    </a:lnTo>
                    <a:lnTo>
                      <a:pt x="326" y="15"/>
                    </a:lnTo>
                    <a:lnTo>
                      <a:pt x="274" y="6"/>
                    </a:lnTo>
                    <a:lnTo>
                      <a:pt x="232" y="0"/>
                    </a:lnTo>
                    <a:lnTo>
                      <a:pt x="232" y="2"/>
                    </a:lnTo>
                    <a:lnTo>
                      <a:pt x="230" y="2"/>
                    </a:lnTo>
                    <a:lnTo>
                      <a:pt x="230" y="4"/>
                    </a:lnTo>
                    <a:lnTo>
                      <a:pt x="228" y="6"/>
                    </a:lnTo>
                    <a:lnTo>
                      <a:pt x="228" y="6"/>
                    </a:lnTo>
                    <a:lnTo>
                      <a:pt x="226" y="8"/>
                    </a:lnTo>
                    <a:lnTo>
                      <a:pt x="226" y="8"/>
                    </a:lnTo>
                    <a:lnTo>
                      <a:pt x="225" y="9"/>
                    </a:lnTo>
                    <a:lnTo>
                      <a:pt x="273" y="15"/>
                    </a:lnTo>
                    <a:lnTo>
                      <a:pt x="324" y="25"/>
                    </a:lnTo>
                    <a:lnTo>
                      <a:pt x="376" y="36"/>
                    </a:lnTo>
                    <a:lnTo>
                      <a:pt x="388" y="40"/>
                    </a:lnTo>
                    <a:lnTo>
                      <a:pt x="388" y="38"/>
                    </a:lnTo>
                    <a:lnTo>
                      <a:pt x="390" y="38"/>
                    </a:lnTo>
                    <a:lnTo>
                      <a:pt x="390" y="36"/>
                    </a:lnTo>
                    <a:lnTo>
                      <a:pt x="390" y="34"/>
                    </a:lnTo>
                    <a:lnTo>
                      <a:pt x="390" y="34"/>
                    </a:lnTo>
                    <a:lnTo>
                      <a:pt x="390" y="33"/>
                    </a:lnTo>
                    <a:lnTo>
                      <a:pt x="390" y="31"/>
                    </a:lnTo>
                    <a:lnTo>
                      <a:pt x="390" y="31"/>
                    </a:lnTo>
                    <a:close/>
                    <a:moveTo>
                      <a:pt x="4" y="2143"/>
                    </a:moveTo>
                    <a:lnTo>
                      <a:pt x="54" y="2147"/>
                    </a:lnTo>
                    <a:lnTo>
                      <a:pt x="109" y="2149"/>
                    </a:lnTo>
                    <a:lnTo>
                      <a:pt x="165" y="2147"/>
                    </a:lnTo>
                    <a:lnTo>
                      <a:pt x="221" y="2143"/>
                    </a:lnTo>
                    <a:lnTo>
                      <a:pt x="274" y="2135"/>
                    </a:lnTo>
                    <a:lnTo>
                      <a:pt x="326" y="2126"/>
                    </a:lnTo>
                    <a:lnTo>
                      <a:pt x="357" y="2120"/>
                    </a:lnTo>
                    <a:lnTo>
                      <a:pt x="357" y="2118"/>
                    </a:lnTo>
                    <a:lnTo>
                      <a:pt x="357" y="2118"/>
                    </a:lnTo>
                    <a:lnTo>
                      <a:pt x="357" y="2116"/>
                    </a:lnTo>
                    <a:lnTo>
                      <a:pt x="357" y="2114"/>
                    </a:lnTo>
                    <a:lnTo>
                      <a:pt x="357" y="2114"/>
                    </a:lnTo>
                    <a:lnTo>
                      <a:pt x="357" y="2112"/>
                    </a:lnTo>
                    <a:lnTo>
                      <a:pt x="357" y="2110"/>
                    </a:lnTo>
                    <a:lnTo>
                      <a:pt x="355" y="2110"/>
                    </a:lnTo>
                    <a:lnTo>
                      <a:pt x="324" y="2116"/>
                    </a:lnTo>
                    <a:lnTo>
                      <a:pt x="273" y="2126"/>
                    </a:lnTo>
                    <a:lnTo>
                      <a:pt x="219" y="2133"/>
                    </a:lnTo>
                    <a:lnTo>
                      <a:pt x="165" y="2137"/>
                    </a:lnTo>
                    <a:lnTo>
                      <a:pt x="109" y="2139"/>
                    </a:lnTo>
                    <a:lnTo>
                      <a:pt x="56" y="2137"/>
                    </a:lnTo>
                    <a:lnTo>
                      <a:pt x="0" y="2133"/>
                    </a:lnTo>
                    <a:lnTo>
                      <a:pt x="0" y="2133"/>
                    </a:lnTo>
                    <a:lnTo>
                      <a:pt x="0" y="2133"/>
                    </a:lnTo>
                    <a:lnTo>
                      <a:pt x="0" y="2135"/>
                    </a:lnTo>
                    <a:lnTo>
                      <a:pt x="0" y="2137"/>
                    </a:lnTo>
                    <a:lnTo>
                      <a:pt x="2" y="2137"/>
                    </a:lnTo>
                    <a:lnTo>
                      <a:pt x="2" y="2139"/>
                    </a:lnTo>
                    <a:lnTo>
                      <a:pt x="2" y="2141"/>
                    </a:lnTo>
                    <a:lnTo>
                      <a:pt x="2" y="2141"/>
                    </a:lnTo>
                    <a:lnTo>
                      <a:pt x="4" y="2143"/>
                    </a:lnTo>
                    <a:close/>
                  </a:path>
                </a:pathLst>
              </a:custGeom>
              <a:solidFill>
                <a:srgbClr val="2ea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Freeform 56"/>
              <p:cNvSpPr/>
              <p:nvPr/>
            </p:nvSpPr>
            <p:spPr>
              <a:xfrm>
                <a:off x="2097720" y="1379880"/>
                <a:ext cx="659880" cy="3598200"/>
              </a:xfrm>
              <a:custGeom>
                <a:avLst/>
                <a:gdLst>
                  <a:gd name="textAreaLeft" fmla="*/ 0 w 659880"/>
                  <a:gd name="textAreaRight" fmla="*/ 660240 w 659880"/>
                  <a:gd name="textAreaTop" fmla="*/ 0 h 3598200"/>
                  <a:gd name="textAreaBottom" fmla="*/ 3598560 h 3598200"/>
                </a:gdLst>
                <a:ahLst/>
                <a:rect l="textAreaLeft" t="textAreaTop" r="textAreaRight" b="textAreaBottom"/>
                <a:pathLst>
                  <a:path w="392" h="2137">
                    <a:moveTo>
                      <a:pt x="392" y="28"/>
                    </a:moveTo>
                    <a:lnTo>
                      <a:pt x="380" y="27"/>
                    </a:lnTo>
                    <a:lnTo>
                      <a:pt x="328" y="13"/>
                    </a:lnTo>
                    <a:lnTo>
                      <a:pt x="275" y="5"/>
                    </a:lnTo>
                    <a:lnTo>
                      <a:pt x="230" y="0"/>
                    </a:lnTo>
                    <a:lnTo>
                      <a:pt x="230" y="0"/>
                    </a:lnTo>
                    <a:lnTo>
                      <a:pt x="228" y="2"/>
                    </a:lnTo>
                    <a:lnTo>
                      <a:pt x="228" y="2"/>
                    </a:lnTo>
                    <a:lnTo>
                      <a:pt x="227" y="3"/>
                    </a:lnTo>
                    <a:lnTo>
                      <a:pt x="227" y="5"/>
                    </a:lnTo>
                    <a:lnTo>
                      <a:pt x="227" y="5"/>
                    </a:lnTo>
                    <a:lnTo>
                      <a:pt x="225" y="7"/>
                    </a:lnTo>
                    <a:lnTo>
                      <a:pt x="225" y="7"/>
                    </a:lnTo>
                    <a:lnTo>
                      <a:pt x="275" y="15"/>
                    </a:lnTo>
                    <a:lnTo>
                      <a:pt x="326" y="25"/>
                    </a:lnTo>
                    <a:lnTo>
                      <a:pt x="378" y="36"/>
                    </a:lnTo>
                    <a:lnTo>
                      <a:pt x="390" y="40"/>
                    </a:lnTo>
                    <a:lnTo>
                      <a:pt x="390" y="38"/>
                    </a:lnTo>
                    <a:lnTo>
                      <a:pt x="390" y="36"/>
                    </a:lnTo>
                    <a:lnTo>
                      <a:pt x="390" y="36"/>
                    </a:lnTo>
                    <a:lnTo>
                      <a:pt x="390" y="34"/>
                    </a:lnTo>
                    <a:lnTo>
                      <a:pt x="390" y="32"/>
                    </a:lnTo>
                    <a:lnTo>
                      <a:pt x="392" y="32"/>
                    </a:lnTo>
                    <a:lnTo>
                      <a:pt x="392" y="30"/>
                    </a:lnTo>
                    <a:lnTo>
                      <a:pt x="392" y="28"/>
                    </a:lnTo>
                    <a:close/>
                    <a:moveTo>
                      <a:pt x="4" y="2131"/>
                    </a:moveTo>
                    <a:lnTo>
                      <a:pt x="58" y="2135"/>
                    </a:lnTo>
                    <a:lnTo>
                      <a:pt x="111" y="2137"/>
                    </a:lnTo>
                    <a:lnTo>
                      <a:pt x="167" y="2135"/>
                    </a:lnTo>
                    <a:lnTo>
                      <a:pt x="221" y="2131"/>
                    </a:lnTo>
                    <a:lnTo>
                      <a:pt x="275" y="2126"/>
                    </a:lnTo>
                    <a:lnTo>
                      <a:pt x="328" y="2116"/>
                    </a:lnTo>
                    <a:lnTo>
                      <a:pt x="359" y="2108"/>
                    </a:lnTo>
                    <a:lnTo>
                      <a:pt x="359" y="2108"/>
                    </a:lnTo>
                    <a:lnTo>
                      <a:pt x="359" y="2106"/>
                    </a:lnTo>
                    <a:lnTo>
                      <a:pt x="359" y="2104"/>
                    </a:lnTo>
                    <a:lnTo>
                      <a:pt x="357" y="2104"/>
                    </a:lnTo>
                    <a:lnTo>
                      <a:pt x="357" y="2103"/>
                    </a:lnTo>
                    <a:lnTo>
                      <a:pt x="357" y="2101"/>
                    </a:lnTo>
                    <a:lnTo>
                      <a:pt x="357" y="2101"/>
                    </a:lnTo>
                    <a:lnTo>
                      <a:pt x="357" y="2099"/>
                    </a:lnTo>
                    <a:lnTo>
                      <a:pt x="326" y="2106"/>
                    </a:lnTo>
                    <a:lnTo>
                      <a:pt x="275" y="2114"/>
                    </a:lnTo>
                    <a:lnTo>
                      <a:pt x="221" y="2122"/>
                    </a:lnTo>
                    <a:lnTo>
                      <a:pt x="167" y="2126"/>
                    </a:lnTo>
                    <a:lnTo>
                      <a:pt x="111" y="2127"/>
                    </a:lnTo>
                    <a:lnTo>
                      <a:pt x="58" y="2126"/>
                    </a:lnTo>
                    <a:lnTo>
                      <a:pt x="4" y="2122"/>
                    </a:lnTo>
                    <a:lnTo>
                      <a:pt x="0" y="2122"/>
                    </a:lnTo>
                    <a:lnTo>
                      <a:pt x="0" y="2122"/>
                    </a:lnTo>
                    <a:lnTo>
                      <a:pt x="0" y="2124"/>
                    </a:lnTo>
                    <a:lnTo>
                      <a:pt x="2" y="2126"/>
                    </a:lnTo>
                    <a:lnTo>
                      <a:pt x="2" y="2127"/>
                    </a:lnTo>
                    <a:lnTo>
                      <a:pt x="2" y="2127"/>
                    </a:lnTo>
                    <a:lnTo>
                      <a:pt x="2" y="2129"/>
                    </a:lnTo>
                    <a:lnTo>
                      <a:pt x="2" y="2131"/>
                    </a:lnTo>
                    <a:lnTo>
                      <a:pt x="4" y="2131"/>
                    </a:lnTo>
                    <a:close/>
                  </a:path>
                </a:pathLst>
              </a:custGeom>
              <a:solidFill>
                <a:srgbClr val="2fa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Freeform 57"/>
              <p:cNvSpPr/>
              <p:nvPr/>
            </p:nvSpPr>
            <p:spPr>
              <a:xfrm>
                <a:off x="2094480" y="1385280"/>
                <a:ext cx="659880" cy="3586320"/>
              </a:xfrm>
              <a:custGeom>
                <a:avLst/>
                <a:gdLst>
                  <a:gd name="textAreaLeft" fmla="*/ 0 w 659880"/>
                  <a:gd name="textAreaRight" fmla="*/ 660240 w 659880"/>
                  <a:gd name="textAreaTop" fmla="*/ 0 h 3586320"/>
                  <a:gd name="textAreaBottom" fmla="*/ 3586680 h 3586320"/>
                </a:gdLst>
                <a:ahLst/>
                <a:rect l="textAreaLeft" t="textAreaTop" r="textAreaRight" b="textAreaBottom"/>
                <a:pathLst>
                  <a:path w="392" h="2130">
                    <a:moveTo>
                      <a:pt x="392" y="31"/>
                    </a:moveTo>
                    <a:lnTo>
                      <a:pt x="380" y="27"/>
                    </a:lnTo>
                    <a:lnTo>
                      <a:pt x="328" y="16"/>
                    </a:lnTo>
                    <a:lnTo>
                      <a:pt x="277" y="6"/>
                    </a:lnTo>
                    <a:lnTo>
                      <a:pt x="229" y="0"/>
                    </a:lnTo>
                    <a:lnTo>
                      <a:pt x="229" y="2"/>
                    </a:lnTo>
                    <a:lnTo>
                      <a:pt x="229" y="2"/>
                    </a:lnTo>
                    <a:lnTo>
                      <a:pt x="227" y="4"/>
                    </a:lnTo>
                    <a:lnTo>
                      <a:pt x="227" y="4"/>
                    </a:lnTo>
                    <a:lnTo>
                      <a:pt x="225" y="6"/>
                    </a:lnTo>
                    <a:lnTo>
                      <a:pt x="225" y="8"/>
                    </a:lnTo>
                    <a:lnTo>
                      <a:pt x="223" y="8"/>
                    </a:lnTo>
                    <a:lnTo>
                      <a:pt x="223" y="10"/>
                    </a:lnTo>
                    <a:lnTo>
                      <a:pt x="275" y="16"/>
                    </a:lnTo>
                    <a:lnTo>
                      <a:pt x="326" y="25"/>
                    </a:lnTo>
                    <a:lnTo>
                      <a:pt x="378" y="37"/>
                    </a:lnTo>
                    <a:lnTo>
                      <a:pt x="390" y="41"/>
                    </a:lnTo>
                    <a:lnTo>
                      <a:pt x="390" y="41"/>
                    </a:lnTo>
                    <a:lnTo>
                      <a:pt x="392" y="39"/>
                    </a:lnTo>
                    <a:lnTo>
                      <a:pt x="392" y="37"/>
                    </a:lnTo>
                    <a:lnTo>
                      <a:pt x="392" y="37"/>
                    </a:lnTo>
                    <a:lnTo>
                      <a:pt x="392" y="35"/>
                    </a:lnTo>
                    <a:lnTo>
                      <a:pt x="392" y="33"/>
                    </a:lnTo>
                    <a:lnTo>
                      <a:pt x="392" y="33"/>
                    </a:lnTo>
                    <a:lnTo>
                      <a:pt x="392" y="31"/>
                    </a:lnTo>
                    <a:close/>
                    <a:moveTo>
                      <a:pt x="4" y="2124"/>
                    </a:moveTo>
                    <a:lnTo>
                      <a:pt x="4" y="2124"/>
                    </a:lnTo>
                    <a:lnTo>
                      <a:pt x="60" y="2128"/>
                    </a:lnTo>
                    <a:lnTo>
                      <a:pt x="113" y="2130"/>
                    </a:lnTo>
                    <a:lnTo>
                      <a:pt x="169" y="2128"/>
                    </a:lnTo>
                    <a:lnTo>
                      <a:pt x="223" y="2124"/>
                    </a:lnTo>
                    <a:lnTo>
                      <a:pt x="277" y="2117"/>
                    </a:lnTo>
                    <a:lnTo>
                      <a:pt x="328" y="2107"/>
                    </a:lnTo>
                    <a:lnTo>
                      <a:pt x="359" y="2101"/>
                    </a:lnTo>
                    <a:lnTo>
                      <a:pt x="359" y="2100"/>
                    </a:lnTo>
                    <a:lnTo>
                      <a:pt x="359" y="2098"/>
                    </a:lnTo>
                    <a:lnTo>
                      <a:pt x="359" y="2098"/>
                    </a:lnTo>
                    <a:lnTo>
                      <a:pt x="359" y="2096"/>
                    </a:lnTo>
                    <a:lnTo>
                      <a:pt x="359" y="2094"/>
                    </a:lnTo>
                    <a:lnTo>
                      <a:pt x="359" y="2094"/>
                    </a:lnTo>
                    <a:lnTo>
                      <a:pt x="359" y="2092"/>
                    </a:lnTo>
                    <a:lnTo>
                      <a:pt x="359" y="2090"/>
                    </a:lnTo>
                    <a:lnTo>
                      <a:pt x="326" y="2098"/>
                    </a:lnTo>
                    <a:lnTo>
                      <a:pt x="275" y="2107"/>
                    </a:lnTo>
                    <a:lnTo>
                      <a:pt x="223" y="2113"/>
                    </a:lnTo>
                    <a:lnTo>
                      <a:pt x="169" y="2117"/>
                    </a:lnTo>
                    <a:lnTo>
                      <a:pt x="113" y="2119"/>
                    </a:lnTo>
                    <a:lnTo>
                      <a:pt x="60" y="2117"/>
                    </a:lnTo>
                    <a:lnTo>
                      <a:pt x="6" y="2113"/>
                    </a:lnTo>
                    <a:lnTo>
                      <a:pt x="0" y="2113"/>
                    </a:lnTo>
                    <a:lnTo>
                      <a:pt x="0" y="2115"/>
                    </a:lnTo>
                    <a:lnTo>
                      <a:pt x="0" y="2115"/>
                    </a:lnTo>
                    <a:lnTo>
                      <a:pt x="2" y="2117"/>
                    </a:lnTo>
                    <a:lnTo>
                      <a:pt x="2" y="2119"/>
                    </a:lnTo>
                    <a:lnTo>
                      <a:pt x="2" y="2119"/>
                    </a:lnTo>
                    <a:lnTo>
                      <a:pt x="2" y="2121"/>
                    </a:lnTo>
                    <a:lnTo>
                      <a:pt x="4" y="2123"/>
                    </a:lnTo>
                    <a:lnTo>
                      <a:pt x="4" y="2124"/>
                    </a:lnTo>
                    <a:close/>
                  </a:path>
                </a:pathLst>
              </a:custGeom>
              <a:solidFill>
                <a:srgbClr val="30a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Freeform 58"/>
              <p:cNvSpPr/>
              <p:nvPr/>
            </p:nvSpPr>
            <p:spPr>
              <a:xfrm>
                <a:off x="2091240" y="1391760"/>
                <a:ext cx="663120" cy="3569760"/>
              </a:xfrm>
              <a:custGeom>
                <a:avLst/>
                <a:gdLst>
                  <a:gd name="textAreaLeft" fmla="*/ 0 w 663120"/>
                  <a:gd name="textAreaRight" fmla="*/ 663480 w 663120"/>
                  <a:gd name="textAreaTop" fmla="*/ 0 h 3569760"/>
                  <a:gd name="textAreaBottom" fmla="*/ 3570120 h 3569760"/>
                </a:gdLst>
                <a:ahLst/>
                <a:rect l="textAreaLeft" t="textAreaTop" r="textAreaRight" b="textAreaBottom"/>
                <a:pathLst>
                  <a:path w="394" h="2120">
                    <a:moveTo>
                      <a:pt x="394" y="33"/>
                    </a:moveTo>
                    <a:lnTo>
                      <a:pt x="382" y="29"/>
                    </a:lnTo>
                    <a:lnTo>
                      <a:pt x="330" y="18"/>
                    </a:lnTo>
                    <a:lnTo>
                      <a:pt x="279" y="8"/>
                    </a:lnTo>
                    <a:lnTo>
                      <a:pt x="229" y="0"/>
                    </a:lnTo>
                    <a:lnTo>
                      <a:pt x="227" y="2"/>
                    </a:lnTo>
                    <a:lnTo>
                      <a:pt x="227" y="4"/>
                    </a:lnTo>
                    <a:lnTo>
                      <a:pt x="225" y="4"/>
                    </a:lnTo>
                    <a:lnTo>
                      <a:pt x="225" y="6"/>
                    </a:lnTo>
                    <a:lnTo>
                      <a:pt x="223" y="8"/>
                    </a:lnTo>
                    <a:lnTo>
                      <a:pt x="223" y="8"/>
                    </a:lnTo>
                    <a:lnTo>
                      <a:pt x="221" y="10"/>
                    </a:lnTo>
                    <a:lnTo>
                      <a:pt x="221" y="10"/>
                    </a:lnTo>
                    <a:lnTo>
                      <a:pt x="223" y="12"/>
                    </a:lnTo>
                    <a:lnTo>
                      <a:pt x="277" y="18"/>
                    </a:lnTo>
                    <a:lnTo>
                      <a:pt x="328" y="27"/>
                    </a:lnTo>
                    <a:lnTo>
                      <a:pt x="378" y="39"/>
                    </a:lnTo>
                    <a:lnTo>
                      <a:pt x="392" y="43"/>
                    </a:lnTo>
                    <a:lnTo>
                      <a:pt x="392" y="41"/>
                    </a:lnTo>
                    <a:lnTo>
                      <a:pt x="392" y="41"/>
                    </a:lnTo>
                    <a:lnTo>
                      <a:pt x="392" y="39"/>
                    </a:lnTo>
                    <a:lnTo>
                      <a:pt x="392" y="37"/>
                    </a:lnTo>
                    <a:lnTo>
                      <a:pt x="392" y="37"/>
                    </a:lnTo>
                    <a:lnTo>
                      <a:pt x="394" y="35"/>
                    </a:lnTo>
                    <a:lnTo>
                      <a:pt x="394" y="33"/>
                    </a:lnTo>
                    <a:lnTo>
                      <a:pt x="394" y="33"/>
                    </a:lnTo>
                    <a:close/>
                    <a:moveTo>
                      <a:pt x="4" y="2115"/>
                    </a:moveTo>
                    <a:lnTo>
                      <a:pt x="8" y="2115"/>
                    </a:lnTo>
                    <a:lnTo>
                      <a:pt x="62" y="2119"/>
                    </a:lnTo>
                    <a:lnTo>
                      <a:pt x="115" y="2120"/>
                    </a:lnTo>
                    <a:lnTo>
                      <a:pt x="171" y="2119"/>
                    </a:lnTo>
                    <a:lnTo>
                      <a:pt x="225" y="2115"/>
                    </a:lnTo>
                    <a:lnTo>
                      <a:pt x="279" y="2107"/>
                    </a:lnTo>
                    <a:lnTo>
                      <a:pt x="330" y="2099"/>
                    </a:lnTo>
                    <a:lnTo>
                      <a:pt x="361" y="2092"/>
                    </a:lnTo>
                    <a:lnTo>
                      <a:pt x="361" y="2090"/>
                    </a:lnTo>
                    <a:lnTo>
                      <a:pt x="361" y="2090"/>
                    </a:lnTo>
                    <a:lnTo>
                      <a:pt x="361" y="2088"/>
                    </a:lnTo>
                    <a:lnTo>
                      <a:pt x="361" y="2086"/>
                    </a:lnTo>
                    <a:lnTo>
                      <a:pt x="361" y="2086"/>
                    </a:lnTo>
                    <a:lnTo>
                      <a:pt x="359" y="2084"/>
                    </a:lnTo>
                    <a:lnTo>
                      <a:pt x="359" y="2082"/>
                    </a:lnTo>
                    <a:lnTo>
                      <a:pt x="359" y="2082"/>
                    </a:lnTo>
                    <a:lnTo>
                      <a:pt x="328" y="2088"/>
                    </a:lnTo>
                    <a:lnTo>
                      <a:pt x="277" y="2097"/>
                    </a:lnTo>
                    <a:lnTo>
                      <a:pt x="223" y="2105"/>
                    </a:lnTo>
                    <a:lnTo>
                      <a:pt x="171" y="2109"/>
                    </a:lnTo>
                    <a:lnTo>
                      <a:pt x="115" y="2111"/>
                    </a:lnTo>
                    <a:lnTo>
                      <a:pt x="62" y="2109"/>
                    </a:lnTo>
                    <a:lnTo>
                      <a:pt x="8" y="2105"/>
                    </a:lnTo>
                    <a:lnTo>
                      <a:pt x="0" y="2103"/>
                    </a:lnTo>
                    <a:lnTo>
                      <a:pt x="0" y="2105"/>
                    </a:lnTo>
                    <a:lnTo>
                      <a:pt x="0" y="2107"/>
                    </a:lnTo>
                    <a:lnTo>
                      <a:pt x="2" y="2107"/>
                    </a:lnTo>
                    <a:lnTo>
                      <a:pt x="2" y="2109"/>
                    </a:lnTo>
                    <a:lnTo>
                      <a:pt x="2" y="2111"/>
                    </a:lnTo>
                    <a:lnTo>
                      <a:pt x="2" y="2111"/>
                    </a:lnTo>
                    <a:lnTo>
                      <a:pt x="4" y="2113"/>
                    </a:lnTo>
                    <a:lnTo>
                      <a:pt x="4" y="2115"/>
                    </a:lnTo>
                    <a:close/>
                  </a:path>
                </a:pathLst>
              </a:custGeom>
              <a:solidFill>
                <a:srgbClr val="31a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Freeform 59"/>
              <p:cNvSpPr/>
              <p:nvPr/>
            </p:nvSpPr>
            <p:spPr>
              <a:xfrm>
                <a:off x="2088000" y="1402200"/>
                <a:ext cx="663120" cy="3551040"/>
              </a:xfrm>
              <a:custGeom>
                <a:avLst/>
                <a:gdLst>
                  <a:gd name="textAreaLeft" fmla="*/ 0 w 663120"/>
                  <a:gd name="textAreaRight" fmla="*/ 663480 w 663120"/>
                  <a:gd name="textAreaTop" fmla="*/ 0 h 3551040"/>
                  <a:gd name="textAreaBottom" fmla="*/ 3551400 h 3551040"/>
                </a:gdLst>
                <a:ahLst/>
                <a:rect l="textAreaLeft" t="textAreaTop" r="textAreaRight" b="textAreaBottom"/>
                <a:pathLst>
                  <a:path w="394" h="2109">
                    <a:moveTo>
                      <a:pt x="394" y="31"/>
                    </a:moveTo>
                    <a:lnTo>
                      <a:pt x="382" y="27"/>
                    </a:lnTo>
                    <a:lnTo>
                      <a:pt x="330" y="15"/>
                    </a:lnTo>
                    <a:lnTo>
                      <a:pt x="279" y="6"/>
                    </a:lnTo>
                    <a:lnTo>
                      <a:pt x="227" y="0"/>
                    </a:lnTo>
                    <a:lnTo>
                      <a:pt x="225" y="2"/>
                    </a:lnTo>
                    <a:lnTo>
                      <a:pt x="225" y="2"/>
                    </a:lnTo>
                    <a:lnTo>
                      <a:pt x="223" y="4"/>
                    </a:lnTo>
                    <a:lnTo>
                      <a:pt x="223" y="4"/>
                    </a:lnTo>
                    <a:lnTo>
                      <a:pt x="221" y="6"/>
                    </a:lnTo>
                    <a:lnTo>
                      <a:pt x="221" y="8"/>
                    </a:lnTo>
                    <a:lnTo>
                      <a:pt x="221" y="8"/>
                    </a:lnTo>
                    <a:lnTo>
                      <a:pt x="219" y="10"/>
                    </a:lnTo>
                    <a:lnTo>
                      <a:pt x="225" y="10"/>
                    </a:lnTo>
                    <a:lnTo>
                      <a:pt x="277" y="17"/>
                    </a:lnTo>
                    <a:lnTo>
                      <a:pt x="329" y="27"/>
                    </a:lnTo>
                    <a:lnTo>
                      <a:pt x="380" y="38"/>
                    </a:lnTo>
                    <a:lnTo>
                      <a:pt x="392" y="42"/>
                    </a:lnTo>
                    <a:lnTo>
                      <a:pt x="392" y="40"/>
                    </a:lnTo>
                    <a:lnTo>
                      <a:pt x="394" y="38"/>
                    </a:lnTo>
                    <a:lnTo>
                      <a:pt x="394" y="38"/>
                    </a:lnTo>
                    <a:lnTo>
                      <a:pt x="394" y="37"/>
                    </a:lnTo>
                    <a:lnTo>
                      <a:pt x="394" y="35"/>
                    </a:lnTo>
                    <a:lnTo>
                      <a:pt x="394" y="35"/>
                    </a:lnTo>
                    <a:lnTo>
                      <a:pt x="394" y="33"/>
                    </a:lnTo>
                    <a:lnTo>
                      <a:pt x="394" y="31"/>
                    </a:lnTo>
                    <a:close/>
                    <a:moveTo>
                      <a:pt x="4" y="2103"/>
                    </a:moveTo>
                    <a:lnTo>
                      <a:pt x="10" y="2103"/>
                    </a:lnTo>
                    <a:lnTo>
                      <a:pt x="64" y="2107"/>
                    </a:lnTo>
                    <a:lnTo>
                      <a:pt x="117" y="2109"/>
                    </a:lnTo>
                    <a:lnTo>
                      <a:pt x="173" y="2107"/>
                    </a:lnTo>
                    <a:lnTo>
                      <a:pt x="227" y="2103"/>
                    </a:lnTo>
                    <a:lnTo>
                      <a:pt x="279" y="2097"/>
                    </a:lnTo>
                    <a:lnTo>
                      <a:pt x="330" y="2088"/>
                    </a:lnTo>
                    <a:lnTo>
                      <a:pt x="363" y="2080"/>
                    </a:lnTo>
                    <a:lnTo>
                      <a:pt x="363" y="2080"/>
                    </a:lnTo>
                    <a:lnTo>
                      <a:pt x="361" y="2078"/>
                    </a:lnTo>
                    <a:lnTo>
                      <a:pt x="361" y="2076"/>
                    </a:lnTo>
                    <a:lnTo>
                      <a:pt x="361" y="2076"/>
                    </a:lnTo>
                    <a:lnTo>
                      <a:pt x="361" y="2074"/>
                    </a:lnTo>
                    <a:lnTo>
                      <a:pt x="361" y="2072"/>
                    </a:lnTo>
                    <a:lnTo>
                      <a:pt x="361" y="2072"/>
                    </a:lnTo>
                    <a:lnTo>
                      <a:pt x="361" y="2070"/>
                    </a:lnTo>
                    <a:lnTo>
                      <a:pt x="329" y="2078"/>
                    </a:lnTo>
                    <a:lnTo>
                      <a:pt x="277" y="2088"/>
                    </a:lnTo>
                    <a:lnTo>
                      <a:pt x="225" y="2093"/>
                    </a:lnTo>
                    <a:lnTo>
                      <a:pt x="171" y="2097"/>
                    </a:lnTo>
                    <a:lnTo>
                      <a:pt x="117" y="2099"/>
                    </a:lnTo>
                    <a:lnTo>
                      <a:pt x="64" y="2097"/>
                    </a:lnTo>
                    <a:lnTo>
                      <a:pt x="12" y="2093"/>
                    </a:lnTo>
                    <a:lnTo>
                      <a:pt x="0" y="2091"/>
                    </a:lnTo>
                    <a:lnTo>
                      <a:pt x="0" y="2093"/>
                    </a:lnTo>
                    <a:lnTo>
                      <a:pt x="0" y="2095"/>
                    </a:lnTo>
                    <a:lnTo>
                      <a:pt x="2" y="2095"/>
                    </a:lnTo>
                    <a:lnTo>
                      <a:pt x="2" y="2097"/>
                    </a:lnTo>
                    <a:lnTo>
                      <a:pt x="2" y="2099"/>
                    </a:lnTo>
                    <a:lnTo>
                      <a:pt x="2" y="2101"/>
                    </a:lnTo>
                    <a:lnTo>
                      <a:pt x="4" y="2101"/>
                    </a:lnTo>
                    <a:lnTo>
                      <a:pt x="4" y="2103"/>
                    </a:lnTo>
                    <a:close/>
                  </a:path>
                </a:pathLst>
              </a:custGeom>
              <a:solidFill>
                <a:srgbClr val="32a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Freeform 60"/>
              <p:cNvSpPr/>
              <p:nvPr/>
            </p:nvSpPr>
            <p:spPr>
              <a:xfrm>
                <a:off x="2084400" y="1408680"/>
                <a:ext cx="666360" cy="3537720"/>
              </a:xfrm>
              <a:custGeom>
                <a:avLst/>
                <a:gdLst>
                  <a:gd name="textAreaLeft" fmla="*/ 0 w 666360"/>
                  <a:gd name="textAreaRight" fmla="*/ 666360 w 666360"/>
                  <a:gd name="textAreaTop" fmla="*/ 0 h 3537720"/>
                  <a:gd name="textAreaBottom" fmla="*/ 3538080 h 3537720"/>
                </a:gdLst>
                <a:ahLst/>
                <a:rect l="textAreaLeft" t="textAreaTop" r="textAreaRight" b="textAreaBottom"/>
                <a:pathLst>
                  <a:path w="396" h="2101">
                    <a:moveTo>
                      <a:pt x="396" y="33"/>
                    </a:moveTo>
                    <a:lnTo>
                      <a:pt x="382" y="29"/>
                    </a:lnTo>
                    <a:lnTo>
                      <a:pt x="332" y="17"/>
                    </a:lnTo>
                    <a:lnTo>
                      <a:pt x="281" y="8"/>
                    </a:lnTo>
                    <a:lnTo>
                      <a:pt x="227" y="2"/>
                    </a:lnTo>
                    <a:lnTo>
                      <a:pt x="225" y="0"/>
                    </a:lnTo>
                    <a:lnTo>
                      <a:pt x="223" y="2"/>
                    </a:lnTo>
                    <a:lnTo>
                      <a:pt x="223" y="4"/>
                    </a:lnTo>
                    <a:lnTo>
                      <a:pt x="223" y="4"/>
                    </a:lnTo>
                    <a:lnTo>
                      <a:pt x="221" y="6"/>
                    </a:lnTo>
                    <a:lnTo>
                      <a:pt x="221" y="8"/>
                    </a:lnTo>
                    <a:lnTo>
                      <a:pt x="219" y="8"/>
                    </a:lnTo>
                    <a:lnTo>
                      <a:pt x="219" y="10"/>
                    </a:lnTo>
                    <a:lnTo>
                      <a:pt x="217" y="11"/>
                    </a:lnTo>
                    <a:lnTo>
                      <a:pt x="227" y="11"/>
                    </a:lnTo>
                    <a:lnTo>
                      <a:pt x="279" y="17"/>
                    </a:lnTo>
                    <a:lnTo>
                      <a:pt x="331" y="27"/>
                    </a:lnTo>
                    <a:lnTo>
                      <a:pt x="380" y="38"/>
                    </a:lnTo>
                    <a:lnTo>
                      <a:pt x="394" y="42"/>
                    </a:lnTo>
                    <a:lnTo>
                      <a:pt x="394" y="42"/>
                    </a:lnTo>
                    <a:lnTo>
                      <a:pt x="394" y="40"/>
                    </a:lnTo>
                    <a:lnTo>
                      <a:pt x="394" y="38"/>
                    </a:lnTo>
                    <a:lnTo>
                      <a:pt x="394" y="38"/>
                    </a:lnTo>
                    <a:lnTo>
                      <a:pt x="394" y="36"/>
                    </a:lnTo>
                    <a:lnTo>
                      <a:pt x="396" y="34"/>
                    </a:lnTo>
                    <a:lnTo>
                      <a:pt x="396" y="34"/>
                    </a:lnTo>
                    <a:lnTo>
                      <a:pt x="396" y="33"/>
                    </a:lnTo>
                    <a:close/>
                    <a:moveTo>
                      <a:pt x="4" y="2093"/>
                    </a:moveTo>
                    <a:lnTo>
                      <a:pt x="12" y="2095"/>
                    </a:lnTo>
                    <a:lnTo>
                      <a:pt x="66" y="2099"/>
                    </a:lnTo>
                    <a:lnTo>
                      <a:pt x="119" y="2101"/>
                    </a:lnTo>
                    <a:lnTo>
                      <a:pt x="175" y="2099"/>
                    </a:lnTo>
                    <a:lnTo>
                      <a:pt x="227" y="2095"/>
                    </a:lnTo>
                    <a:lnTo>
                      <a:pt x="281" y="2087"/>
                    </a:lnTo>
                    <a:lnTo>
                      <a:pt x="332" y="2078"/>
                    </a:lnTo>
                    <a:lnTo>
                      <a:pt x="363" y="2072"/>
                    </a:lnTo>
                    <a:lnTo>
                      <a:pt x="363" y="2070"/>
                    </a:lnTo>
                    <a:lnTo>
                      <a:pt x="363" y="2068"/>
                    </a:lnTo>
                    <a:lnTo>
                      <a:pt x="363" y="2068"/>
                    </a:lnTo>
                    <a:lnTo>
                      <a:pt x="363" y="2066"/>
                    </a:lnTo>
                    <a:lnTo>
                      <a:pt x="363" y="2064"/>
                    </a:lnTo>
                    <a:lnTo>
                      <a:pt x="363" y="2064"/>
                    </a:lnTo>
                    <a:lnTo>
                      <a:pt x="363" y="2062"/>
                    </a:lnTo>
                    <a:lnTo>
                      <a:pt x="361" y="2061"/>
                    </a:lnTo>
                    <a:lnTo>
                      <a:pt x="331" y="2068"/>
                    </a:lnTo>
                    <a:lnTo>
                      <a:pt x="279" y="2078"/>
                    </a:lnTo>
                    <a:lnTo>
                      <a:pt x="227" y="2084"/>
                    </a:lnTo>
                    <a:lnTo>
                      <a:pt x="173" y="2087"/>
                    </a:lnTo>
                    <a:lnTo>
                      <a:pt x="119" y="2089"/>
                    </a:lnTo>
                    <a:lnTo>
                      <a:pt x="66" y="2087"/>
                    </a:lnTo>
                    <a:lnTo>
                      <a:pt x="14" y="2084"/>
                    </a:lnTo>
                    <a:lnTo>
                      <a:pt x="0" y="2084"/>
                    </a:lnTo>
                    <a:lnTo>
                      <a:pt x="0" y="2084"/>
                    </a:lnTo>
                    <a:lnTo>
                      <a:pt x="0" y="2086"/>
                    </a:lnTo>
                    <a:lnTo>
                      <a:pt x="2" y="2087"/>
                    </a:lnTo>
                    <a:lnTo>
                      <a:pt x="2" y="2087"/>
                    </a:lnTo>
                    <a:lnTo>
                      <a:pt x="2" y="2089"/>
                    </a:lnTo>
                    <a:lnTo>
                      <a:pt x="2" y="2091"/>
                    </a:lnTo>
                    <a:lnTo>
                      <a:pt x="4" y="2091"/>
                    </a:lnTo>
                    <a:lnTo>
                      <a:pt x="4" y="2093"/>
                    </a:lnTo>
                    <a:close/>
                  </a:path>
                </a:pathLst>
              </a:custGeom>
              <a:solidFill>
                <a:srgbClr val="33a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Freeform 61"/>
              <p:cNvSpPr/>
              <p:nvPr/>
            </p:nvSpPr>
            <p:spPr>
              <a:xfrm>
                <a:off x="2081160" y="1419120"/>
                <a:ext cx="666360" cy="3517560"/>
              </a:xfrm>
              <a:custGeom>
                <a:avLst/>
                <a:gdLst>
                  <a:gd name="textAreaLeft" fmla="*/ 0 w 666360"/>
                  <a:gd name="textAreaRight" fmla="*/ 666360 w 666360"/>
                  <a:gd name="textAreaTop" fmla="*/ 0 h 3517560"/>
                  <a:gd name="textAreaBottom" fmla="*/ 3517920 h 3517560"/>
                </a:gdLst>
                <a:ahLst/>
                <a:rect l="textAreaLeft" t="textAreaTop" r="textAreaRight" b="textAreaBottom"/>
                <a:pathLst>
                  <a:path w="396" h="2089">
                    <a:moveTo>
                      <a:pt x="396" y="32"/>
                    </a:moveTo>
                    <a:lnTo>
                      <a:pt x="384" y="28"/>
                    </a:lnTo>
                    <a:lnTo>
                      <a:pt x="333" y="17"/>
                    </a:lnTo>
                    <a:lnTo>
                      <a:pt x="281" y="7"/>
                    </a:lnTo>
                    <a:lnTo>
                      <a:pt x="229" y="0"/>
                    </a:lnTo>
                    <a:lnTo>
                      <a:pt x="223" y="0"/>
                    </a:lnTo>
                    <a:lnTo>
                      <a:pt x="223" y="2"/>
                    </a:lnTo>
                    <a:lnTo>
                      <a:pt x="221" y="2"/>
                    </a:lnTo>
                    <a:lnTo>
                      <a:pt x="221" y="4"/>
                    </a:lnTo>
                    <a:lnTo>
                      <a:pt x="219" y="5"/>
                    </a:lnTo>
                    <a:lnTo>
                      <a:pt x="219" y="5"/>
                    </a:lnTo>
                    <a:lnTo>
                      <a:pt x="217" y="7"/>
                    </a:lnTo>
                    <a:lnTo>
                      <a:pt x="217" y="7"/>
                    </a:lnTo>
                    <a:lnTo>
                      <a:pt x="215" y="9"/>
                    </a:lnTo>
                    <a:lnTo>
                      <a:pt x="229" y="11"/>
                    </a:lnTo>
                    <a:lnTo>
                      <a:pt x="281" y="17"/>
                    </a:lnTo>
                    <a:lnTo>
                      <a:pt x="331" y="27"/>
                    </a:lnTo>
                    <a:lnTo>
                      <a:pt x="381" y="38"/>
                    </a:lnTo>
                    <a:lnTo>
                      <a:pt x="394" y="42"/>
                    </a:lnTo>
                    <a:lnTo>
                      <a:pt x="396" y="40"/>
                    </a:lnTo>
                    <a:lnTo>
                      <a:pt x="396" y="40"/>
                    </a:lnTo>
                    <a:lnTo>
                      <a:pt x="396" y="38"/>
                    </a:lnTo>
                    <a:lnTo>
                      <a:pt x="396" y="36"/>
                    </a:lnTo>
                    <a:lnTo>
                      <a:pt x="396" y="36"/>
                    </a:lnTo>
                    <a:lnTo>
                      <a:pt x="396" y="34"/>
                    </a:lnTo>
                    <a:lnTo>
                      <a:pt x="396" y="32"/>
                    </a:lnTo>
                    <a:lnTo>
                      <a:pt x="396" y="32"/>
                    </a:lnTo>
                    <a:close/>
                    <a:moveTo>
                      <a:pt x="4" y="2081"/>
                    </a:moveTo>
                    <a:lnTo>
                      <a:pt x="16" y="2083"/>
                    </a:lnTo>
                    <a:lnTo>
                      <a:pt x="68" y="2087"/>
                    </a:lnTo>
                    <a:lnTo>
                      <a:pt x="121" y="2089"/>
                    </a:lnTo>
                    <a:lnTo>
                      <a:pt x="175" y="2087"/>
                    </a:lnTo>
                    <a:lnTo>
                      <a:pt x="229" y="2083"/>
                    </a:lnTo>
                    <a:lnTo>
                      <a:pt x="281" y="2078"/>
                    </a:lnTo>
                    <a:lnTo>
                      <a:pt x="333" y="2068"/>
                    </a:lnTo>
                    <a:lnTo>
                      <a:pt x="365" y="2060"/>
                    </a:lnTo>
                    <a:lnTo>
                      <a:pt x="365" y="2058"/>
                    </a:lnTo>
                    <a:lnTo>
                      <a:pt x="365" y="2058"/>
                    </a:lnTo>
                    <a:lnTo>
                      <a:pt x="365" y="2056"/>
                    </a:lnTo>
                    <a:lnTo>
                      <a:pt x="363" y="2055"/>
                    </a:lnTo>
                    <a:lnTo>
                      <a:pt x="363" y="2055"/>
                    </a:lnTo>
                    <a:lnTo>
                      <a:pt x="363" y="2053"/>
                    </a:lnTo>
                    <a:lnTo>
                      <a:pt x="363" y="2051"/>
                    </a:lnTo>
                    <a:lnTo>
                      <a:pt x="363" y="2051"/>
                    </a:lnTo>
                    <a:lnTo>
                      <a:pt x="331" y="2058"/>
                    </a:lnTo>
                    <a:lnTo>
                      <a:pt x="281" y="2066"/>
                    </a:lnTo>
                    <a:lnTo>
                      <a:pt x="229" y="2074"/>
                    </a:lnTo>
                    <a:lnTo>
                      <a:pt x="175" y="2078"/>
                    </a:lnTo>
                    <a:lnTo>
                      <a:pt x="121" y="2078"/>
                    </a:lnTo>
                    <a:lnTo>
                      <a:pt x="70" y="2078"/>
                    </a:lnTo>
                    <a:lnTo>
                      <a:pt x="16" y="2074"/>
                    </a:lnTo>
                    <a:lnTo>
                      <a:pt x="0" y="2072"/>
                    </a:lnTo>
                    <a:lnTo>
                      <a:pt x="0" y="2072"/>
                    </a:lnTo>
                    <a:lnTo>
                      <a:pt x="2" y="2074"/>
                    </a:lnTo>
                    <a:lnTo>
                      <a:pt x="2" y="2076"/>
                    </a:lnTo>
                    <a:lnTo>
                      <a:pt x="2" y="2078"/>
                    </a:lnTo>
                    <a:lnTo>
                      <a:pt x="2" y="2078"/>
                    </a:lnTo>
                    <a:lnTo>
                      <a:pt x="2" y="2080"/>
                    </a:lnTo>
                    <a:lnTo>
                      <a:pt x="4" y="2081"/>
                    </a:lnTo>
                    <a:lnTo>
                      <a:pt x="4" y="2081"/>
                    </a:lnTo>
                    <a:close/>
                  </a:path>
                </a:pathLst>
              </a:custGeom>
              <a:solidFill>
                <a:srgbClr val="34a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Freeform 62"/>
              <p:cNvSpPr/>
              <p:nvPr/>
            </p:nvSpPr>
            <p:spPr>
              <a:xfrm>
                <a:off x="2079360" y="1427400"/>
                <a:ext cx="668160" cy="3498840"/>
              </a:xfrm>
              <a:custGeom>
                <a:avLst/>
                <a:gdLst>
                  <a:gd name="textAreaLeft" fmla="*/ 0 w 668160"/>
                  <a:gd name="textAreaRight" fmla="*/ 668160 w 668160"/>
                  <a:gd name="textAreaTop" fmla="*/ 0 h 3498840"/>
                  <a:gd name="textAreaBottom" fmla="*/ 3499200 h 3498840"/>
                </a:gdLst>
                <a:ahLst/>
                <a:rect l="textAreaLeft" t="textAreaTop" r="textAreaRight" b="textAreaBottom"/>
                <a:pathLst>
                  <a:path w="397" h="2078">
                    <a:moveTo>
                      <a:pt x="397" y="31"/>
                    </a:moveTo>
                    <a:lnTo>
                      <a:pt x="383" y="27"/>
                    </a:lnTo>
                    <a:lnTo>
                      <a:pt x="334" y="16"/>
                    </a:lnTo>
                    <a:lnTo>
                      <a:pt x="282" y="6"/>
                    </a:lnTo>
                    <a:lnTo>
                      <a:pt x="230" y="0"/>
                    </a:lnTo>
                    <a:lnTo>
                      <a:pt x="220" y="0"/>
                    </a:lnTo>
                    <a:lnTo>
                      <a:pt x="220" y="0"/>
                    </a:lnTo>
                    <a:lnTo>
                      <a:pt x="218" y="2"/>
                    </a:lnTo>
                    <a:lnTo>
                      <a:pt x="218" y="2"/>
                    </a:lnTo>
                    <a:lnTo>
                      <a:pt x="216" y="4"/>
                    </a:lnTo>
                    <a:lnTo>
                      <a:pt x="216" y="6"/>
                    </a:lnTo>
                    <a:lnTo>
                      <a:pt x="216" y="6"/>
                    </a:lnTo>
                    <a:lnTo>
                      <a:pt x="215" y="8"/>
                    </a:lnTo>
                    <a:lnTo>
                      <a:pt x="215" y="10"/>
                    </a:lnTo>
                    <a:lnTo>
                      <a:pt x="228" y="10"/>
                    </a:lnTo>
                    <a:lnTo>
                      <a:pt x="280" y="18"/>
                    </a:lnTo>
                    <a:lnTo>
                      <a:pt x="332" y="25"/>
                    </a:lnTo>
                    <a:lnTo>
                      <a:pt x="382" y="37"/>
                    </a:lnTo>
                    <a:lnTo>
                      <a:pt x="395" y="41"/>
                    </a:lnTo>
                    <a:lnTo>
                      <a:pt x="395" y="41"/>
                    </a:lnTo>
                    <a:lnTo>
                      <a:pt x="395" y="39"/>
                    </a:lnTo>
                    <a:lnTo>
                      <a:pt x="395" y="37"/>
                    </a:lnTo>
                    <a:lnTo>
                      <a:pt x="395" y="37"/>
                    </a:lnTo>
                    <a:lnTo>
                      <a:pt x="397" y="35"/>
                    </a:lnTo>
                    <a:lnTo>
                      <a:pt x="397" y="33"/>
                    </a:lnTo>
                    <a:lnTo>
                      <a:pt x="397" y="33"/>
                    </a:lnTo>
                    <a:lnTo>
                      <a:pt x="397" y="31"/>
                    </a:lnTo>
                    <a:close/>
                    <a:moveTo>
                      <a:pt x="3" y="2073"/>
                    </a:moveTo>
                    <a:lnTo>
                      <a:pt x="17" y="2073"/>
                    </a:lnTo>
                    <a:lnTo>
                      <a:pt x="69" y="2076"/>
                    </a:lnTo>
                    <a:lnTo>
                      <a:pt x="122" y="2078"/>
                    </a:lnTo>
                    <a:lnTo>
                      <a:pt x="176" y="2076"/>
                    </a:lnTo>
                    <a:lnTo>
                      <a:pt x="230" y="2073"/>
                    </a:lnTo>
                    <a:lnTo>
                      <a:pt x="282" y="2067"/>
                    </a:lnTo>
                    <a:lnTo>
                      <a:pt x="334" y="2057"/>
                    </a:lnTo>
                    <a:lnTo>
                      <a:pt x="364" y="2050"/>
                    </a:lnTo>
                    <a:lnTo>
                      <a:pt x="364" y="2050"/>
                    </a:lnTo>
                    <a:lnTo>
                      <a:pt x="364" y="2048"/>
                    </a:lnTo>
                    <a:lnTo>
                      <a:pt x="364" y="2046"/>
                    </a:lnTo>
                    <a:lnTo>
                      <a:pt x="364" y="2046"/>
                    </a:lnTo>
                    <a:lnTo>
                      <a:pt x="364" y="2044"/>
                    </a:lnTo>
                    <a:lnTo>
                      <a:pt x="364" y="2042"/>
                    </a:lnTo>
                    <a:lnTo>
                      <a:pt x="364" y="2042"/>
                    </a:lnTo>
                    <a:lnTo>
                      <a:pt x="364" y="2040"/>
                    </a:lnTo>
                    <a:lnTo>
                      <a:pt x="332" y="2048"/>
                    </a:lnTo>
                    <a:lnTo>
                      <a:pt x="280" y="2057"/>
                    </a:lnTo>
                    <a:lnTo>
                      <a:pt x="228" y="2063"/>
                    </a:lnTo>
                    <a:lnTo>
                      <a:pt x="176" y="2067"/>
                    </a:lnTo>
                    <a:lnTo>
                      <a:pt x="122" y="2069"/>
                    </a:lnTo>
                    <a:lnTo>
                      <a:pt x="71" y="2067"/>
                    </a:lnTo>
                    <a:lnTo>
                      <a:pt x="17" y="2063"/>
                    </a:lnTo>
                    <a:lnTo>
                      <a:pt x="0" y="2061"/>
                    </a:lnTo>
                    <a:lnTo>
                      <a:pt x="0" y="2063"/>
                    </a:lnTo>
                    <a:lnTo>
                      <a:pt x="1" y="2063"/>
                    </a:lnTo>
                    <a:lnTo>
                      <a:pt x="1" y="2065"/>
                    </a:lnTo>
                    <a:lnTo>
                      <a:pt x="1" y="2067"/>
                    </a:lnTo>
                    <a:lnTo>
                      <a:pt x="1" y="2067"/>
                    </a:lnTo>
                    <a:lnTo>
                      <a:pt x="3" y="2069"/>
                    </a:lnTo>
                    <a:lnTo>
                      <a:pt x="3" y="2071"/>
                    </a:lnTo>
                    <a:lnTo>
                      <a:pt x="3" y="2073"/>
                    </a:lnTo>
                    <a:close/>
                  </a:path>
                </a:pathLst>
              </a:custGeom>
              <a:solidFill>
                <a:srgbClr val="35a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Freeform 63"/>
              <p:cNvSpPr/>
              <p:nvPr/>
            </p:nvSpPr>
            <p:spPr>
              <a:xfrm>
                <a:off x="2076120" y="1434240"/>
                <a:ext cx="668520" cy="3483360"/>
              </a:xfrm>
              <a:custGeom>
                <a:avLst/>
                <a:gdLst>
                  <a:gd name="textAreaLeft" fmla="*/ 0 w 668520"/>
                  <a:gd name="textAreaRight" fmla="*/ 668880 w 668520"/>
                  <a:gd name="textAreaTop" fmla="*/ 0 h 3483360"/>
                  <a:gd name="textAreaBottom" fmla="*/ 3483720 h 3483360"/>
                </a:gdLst>
                <a:ahLst/>
                <a:rect l="textAreaLeft" t="textAreaTop" r="textAreaRight" b="textAreaBottom"/>
                <a:pathLst>
                  <a:path w="397" h="2069">
                    <a:moveTo>
                      <a:pt x="397" y="33"/>
                    </a:moveTo>
                    <a:lnTo>
                      <a:pt x="384" y="29"/>
                    </a:lnTo>
                    <a:lnTo>
                      <a:pt x="334" y="18"/>
                    </a:lnTo>
                    <a:lnTo>
                      <a:pt x="284" y="8"/>
                    </a:lnTo>
                    <a:lnTo>
                      <a:pt x="232" y="2"/>
                    </a:lnTo>
                    <a:lnTo>
                      <a:pt x="218" y="0"/>
                    </a:lnTo>
                    <a:lnTo>
                      <a:pt x="218" y="2"/>
                    </a:lnTo>
                    <a:lnTo>
                      <a:pt x="218" y="2"/>
                    </a:lnTo>
                    <a:lnTo>
                      <a:pt x="217" y="4"/>
                    </a:lnTo>
                    <a:lnTo>
                      <a:pt x="217" y="6"/>
                    </a:lnTo>
                    <a:lnTo>
                      <a:pt x="215" y="6"/>
                    </a:lnTo>
                    <a:lnTo>
                      <a:pt x="215" y="8"/>
                    </a:lnTo>
                    <a:lnTo>
                      <a:pt x="213" y="10"/>
                    </a:lnTo>
                    <a:lnTo>
                      <a:pt x="213" y="10"/>
                    </a:lnTo>
                    <a:lnTo>
                      <a:pt x="230" y="12"/>
                    </a:lnTo>
                    <a:lnTo>
                      <a:pt x="282" y="18"/>
                    </a:lnTo>
                    <a:lnTo>
                      <a:pt x="332" y="27"/>
                    </a:lnTo>
                    <a:lnTo>
                      <a:pt x="382" y="39"/>
                    </a:lnTo>
                    <a:lnTo>
                      <a:pt x="395" y="42"/>
                    </a:lnTo>
                    <a:lnTo>
                      <a:pt x="397" y="41"/>
                    </a:lnTo>
                    <a:lnTo>
                      <a:pt x="397" y="41"/>
                    </a:lnTo>
                    <a:lnTo>
                      <a:pt x="397" y="39"/>
                    </a:lnTo>
                    <a:lnTo>
                      <a:pt x="397" y="37"/>
                    </a:lnTo>
                    <a:lnTo>
                      <a:pt x="397" y="37"/>
                    </a:lnTo>
                    <a:lnTo>
                      <a:pt x="397" y="35"/>
                    </a:lnTo>
                    <a:lnTo>
                      <a:pt x="397" y="33"/>
                    </a:lnTo>
                    <a:lnTo>
                      <a:pt x="397" y="33"/>
                    </a:lnTo>
                    <a:close/>
                    <a:moveTo>
                      <a:pt x="3" y="2063"/>
                    </a:moveTo>
                    <a:lnTo>
                      <a:pt x="19" y="2065"/>
                    </a:lnTo>
                    <a:lnTo>
                      <a:pt x="73" y="2069"/>
                    </a:lnTo>
                    <a:lnTo>
                      <a:pt x="124" y="2069"/>
                    </a:lnTo>
                    <a:lnTo>
                      <a:pt x="178" y="2069"/>
                    </a:lnTo>
                    <a:lnTo>
                      <a:pt x="232" y="2065"/>
                    </a:lnTo>
                    <a:lnTo>
                      <a:pt x="284" y="2057"/>
                    </a:lnTo>
                    <a:lnTo>
                      <a:pt x="334" y="2049"/>
                    </a:lnTo>
                    <a:lnTo>
                      <a:pt x="366" y="2042"/>
                    </a:lnTo>
                    <a:lnTo>
                      <a:pt x="366" y="2040"/>
                    </a:lnTo>
                    <a:lnTo>
                      <a:pt x="366" y="2038"/>
                    </a:lnTo>
                    <a:lnTo>
                      <a:pt x="366" y="2038"/>
                    </a:lnTo>
                    <a:lnTo>
                      <a:pt x="366" y="2036"/>
                    </a:lnTo>
                    <a:lnTo>
                      <a:pt x="366" y="2034"/>
                    </a:lnTo>
                    <a:lnTo>
                      <a:pt x="364" y="2034"/>
                    </a:lnTo>
                    <a:lnTo>
                      <a:pt x="364" y="2032"/>
                    </a:lnTo>
                    <a:lnTo>
                      <a:pt x="364" y="2030"/>
                    </a:lnTo>
                    <a:lnTo>
                      <a:pt x="332" y="2038"/>
                    </a:lnTo>
                    <a:lnTo>
                      <a:pt x="282" y="2047"/>
                    </a:lnTo>
                    <a:lnTo>
                      <a:pt x="230" y="2053"/>
                    </a:lnTo>
                    <a:lnTo>
                      <a:pt x="178" y="2057"/>
                    </a:lnTo>
                    <a:lnTo>
                      <a:pt x="124" y="2059"/>
                    </a:lnTo>
                    <a:lnTo>
                      <a:pt x="73" y="2057"/>
                    </a:lnTo>
                    <a:lnTo>
                      <a:pt x="21" y="2053"/>
                    </a:lnTo>
                    <a:lnTo>
                      <a:pt x="0" y="2051"/>
                    </a:lnTo>
                    <a:lnTo>
                      <a:pt x="0" y="2053"/>
                    </a:lnTo>
                    <a:lnTo>
                      <a:pt x="2" y="2053"/>
                    </a:lnTo>
                    <a:lnTo>
                      <a:pt x="2" y="2055"/>
                    </a:lnTo>
                    <a:lnTo>
                      <a:pt x="2" y="2057"/>
                    </a:lnTo>
                    <a:lnTo>
                      <a:pt x="2" y="2059"/>
                    </a:lnTo>
                    <a:lnTo>
                      <a:pt x="3" y="2059"/>
                    </a:lnTo>
                    <a:lnTo>
                      <a:pt x="3" y="2061"/>
                    </a:lnTo>
                    <a:lnTo>
                      <a:pt x="3" y="2063"/>
                    </a:lnTo>
                    <a:close/>
                  </a:path>
                </a:pathLst>
              </a:custGeom>
              <a:solidFill>
                <a:srgbClr val="36a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Freeform 64"/>
              <p:cNvSpPr/>
              <p:nvPr/>
            </p:nvSpPr>
            <p:spPr>
              <a:xfrm>
                <a:off x="2072520" y="1444320"/>
                <a:ext cx="671760" cy="3467160"/>
              </a:xfrm>
              <a:custGeom>
                <a:avLst/>
                <a:gdLst>
                  <a:gd name="textAreaLeft" fmla="*/ 0 w 671760"/>
                  <a:gd name="textAreaRight" fmla="*/ 672120 w 671760"/>
                  <a:gd name="textAreaTop" fmla="*/ 0 h 3467160"/>
                  <a:gd name="textAreaBottom" fmla="*/ 3467520 h 3467160"/>
                </a:gdLst>
                <a:ahLst/>
                <a:rect l="textAreaLeft" t="textAreaTop" r="textAreaRight" b="textAreaBottom"/>
                <a:pathLst>
                  <a:path w="399" h="2059">
                    <a:moveTo>
                      <a:pt x="399" y="31"/>
                    </a:moveTo>
                    <a:lnTo>
                      <a:pt x="386" y="27"/>
                    </a:lnTo>
                    <a:lnTo>
                      <a:pt x="336" y="15"/>
                    </a:lnTo>
                    <a:lnTo>
                      <a:pt x="284" y="8"/>
                    </a:lnTo>
                    <a:lnTo>
                      <a:pt x="232" y="0"/>
                    </a:lnTo>
                    <a:lnTo>
                      <a:pt x="219" y="0"/>
                    </a:lnTo>
                    <a:lnTo>
                      <a:pt x="217" y="0"/>
                    </a:lnTo>
                    <a:lnTo>
                      <a:pt x="217" y="2"/>
                    </a:lnTo>
                    <a:lnTo>
                      <a:pt x="215" y="4"/>
                    </a:lnTo>
                    <a:lnTo>
                      <a:pt x="215" y="4"/>
                    </a:lnTo>
                    <a:lnTo>
                      <a:pt x="213" y="6"/>
                    </a:lnTo>
                    <a:lnTo>
                      <a:pt x="213" y="6"/>
                    </a:lnTo>
                    <a:lnTo>
                      <a:pt x="213" y="8"/>
                    </a:lnTo>
                    <a:lnTo>
                      <a:pt x="211" y="10"/>
                    </a:lnTo>
                    <a:lnTo>
                      <a:pt x="232" y="12"/>
                    </a:lnTo>
                    <a:lnTo>
                      <a:pt x="282" y="17"/>
                    </a:lnTo>
                    <a:lnTo>
                      <a:pt x="334" y="27"/>
                    </a:lnTo>
                    <a:lnTo>
                      <a:pt x="382" y="38"/>
                    </a:lnTo>
                    <a:lnTo>
                      <a:pt x="397" y="42"/>
                    </a:lnTo>
                    <a:lnTo>
                      <a:pt x="397" y="40"/>
                    </a:lnTo>
                    <a:lnTo>
                      <a:pt x="397" y="38"/>
                    </a:lnTo>
                    <a:lnTo>
                      <a:pt x="397" y="38"/>
                    </a:lnTo>
                    <a:lnTo>
                      <a:pt x="397" y="36"/>
                    </a:lnTo>
                    <a:lnTo>
                      <a:pt x="399" y="35"/>
                    </a:lnTo>
                    <a:lnTo>
                      <a:pt x="399" y="35"/>
                    </a:lnTo>
                    <a:lnTo>
                      <a:pt x="399" y="33"/>
                    </a:lnTo>
                    <a:lnTo>
                      <a:pt x="399" y="31"/>
                    </a:lnTo>
                    <a:close/>
                    <a:moveTo>
                      <a:pt x="4" y="2051"/>
                    </a:moveTo>
                    <a:lnTo>
                      <a:pt x="21" y="2053"/>
                    </a:lnTo>
                    <a:lnTo>
                      <a:pt x="75" y="2057"/>
                    </a:lnTo>
                    <a:lnTo>
                      <a:pt x="126" y="2059"/>
                    </a:lnTo>
                    <a:lnTo>
                      <a:pt x="180" y="2057"/>
                    </a:lnTo>
                    <a:lnTo>
                      <a:pt x="232" y="2053"/>
                    </a:lnTo>
                    <a:lnTo>
                      <a:pt x="284" y="2047"/>
                    </a:lnTo>
                    <a:lnTo>
                      <a:pt x="336" y="2038"/>
                    </a:lnTo>
                    <a:lnTo>
                      <a:pt x="368" y="2030"/>
                    </a:lnTo>
                    <a:lnTo>
                      <a:pt x="368" y="2028"/>
                    </a:lnTo>
                    <a:lnTo>
                      <a:pt x="366" y="2028"/>
                    </a:lnTo>
                    <a:lnTo>
                      <a:pt x="366" y="2026"/>
                    </a:lnTo>
                    <a:lnTo>
                      <a:pt x="366" y="2024"/>
                    </a:lnTo>
                    <a:lnTo>
                      <a:pt x="366" y="2024"/>
                    </a:lnTo>
                    <a:lnTo>
                      <a:pt x="366" y="2022"/>
                    </a:lnTo>
                    <a:lnTo>
                      <a:pt x="366" y="2020"/>
                    </a:lnTo>
                    <a:lnTo>
                      <a:pt x="366" y="2020"/>
                    </a:lnTo>
                    <a:lnTo>
                      <a:pt x="334" y="2028"/>
                    </a:lnTo>
                    <a:lnTo>
                      <a:pt x="282" y="2036"/>
                    </a:lnTo>
                    <a:lnTo>
                      <a:pt x="232" y="2043"/>
                    </a:lnTo>
                    <a:lnTo>
                      <a:pt x="180" y="2047"/>
                    </a:lnTo>
                    <a:lnTo>
                      <a:pt x="126" y="2047"/>
                    </a:lnTo>
                    <a:lnTo>
                      <a:pt x="75" y="2047"/>
                    </a:lnTo>
                    <a:lnTo>
                      <a:pt x="23" y="2043"/>
                    </a:lnTo>
                    <a:lnTo>
                      <a:pt x="0" y="2040"/>
                    </a:lnTo>
                    <a:lnTo>
                      <a:pt x="0" y="2041"/>
                    </a:lnTo>
                    <a:lnTo>
                      <a:pt x="2" y="2043"/>
                    </a:lnTo>
                    <a:lnTo>
                      <a:pt x="2" y="2043"/>
                    </a:lnTo>
                    <a:lnTo>
                      <a:pt x="2" y="2045"/>
                    </a:lnTo>
                    <a:lnTo>
                      <a:pt x="2" y="2047"/>
                    </a:lnTo>
                    <a:lnTo>
                      <a:pt x="4" y="2047"/>
                    </a:lnTo>
                    <a:lnTo>
                      <a:pt x="4" y="2049"/>
                    </a:lnTo>
                    <a:lnTo>
                      <a:pt x="4" y="2051"/>
                    </a:lnTo>
                    <a:close/>
                  </a:path>
                </a:pathLst>
              </a:custGeom>
              <a:solidFill>
                <a:srgbClr val="37a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Freeform 65"/>
              <p:cNvSpPr/>
              <p:nvPr/>
            </p:nvSpPr>
            <p:spPr>
              <a:xfrm>
                <a:off x="2069280" y="1451160"/>
                <a:ext cx="671760" cy="3449880"/>
              </a:xfrm>
              <a:custGeom>
                <a:avLst/>
                <a:gdLst>
                  <a:gd name="textAreaLeft" fmla="*/ 0 w 671760"/>
                  <a:gd name="textAreaRight" fmla="*/ 672120 w 671760"/>
                  <a:gd name="textAreaTop" fmla="*/ 0 h 3449880"/>
                  <a:gd name="textAreaBottom" fmla="*/ 3450240 h 3449880"/>
                </a:gdLst>
                <a:ahLst/>
                <a:rect l="textAreaLeft" t="textAreaTop" r="textAreaRight" b="textAreaBottom"/>
                <a:pathLst>
                  <a:path w="399" h="2049">
                    <a:moveTo>
                      <a:pt x="399" y="32"/>
                    </a:moveTo>
                    <a:lnTo>
                      <a:pt x="386" y="29"/>
                    </a:lnTo>
                    <a:lnTo>
                      <a:pt x="336" y="17"/>
                    </a:lnTo>
                    <a:lnTo>
                      <a:pt x="286" y="8"/>
                    </a:lnTo>
                    <a:lnTo>
                      <a:pt x="234" y="2"/>
                    </a:lnTo>
                    <a:lnTo>
                      <a:pt x="217" y="0"/>
                    </a:lnTo>
                    <a:lnTo>
                      <a:pt x="215" y="2"/>
                    </a:lnTo>
                    <a:lnTo>
                      <a:pt x="215" y="2"/>
                    </a:lnTo>
                    <a:lnTo>
                      <a:pt x="215" y="4"/>
                    </a:lnTo>
                    <a:lnTo>
                      <a:pt x="213" y="6"/>
                    </a:lnTo>
                    <a:lnTo>
                      <a:pt x="213" y="6"/>
                    </a:lnTo>
                    <a:lnTo>
                      <a:pt x="211" y="8"/>
                    </a:lnTo>
                    <a:lnTo>
                      <a:pt x="211" y="9"/>
                    </a:lnTo>
                    <a:lnTo>
                      <a:pt x="209" y="9"/>
                    </a:lnTo>
                    <a:lnTo>
                      <a:pt x="232" y="11"/>
                    </a:lnTo>
                    <a:lnTo>
                      <a:pt x="284" y="19"/>
                    </a:lnTo>
                    <a:lnTo>
                      <a:pt x="334" y="27"/>
                    </a:lnTo>
                    <a:lnTo>
                      <a:pt x="384" y="38"/>
                    </a:lnTo>
                    <a:lnTo>
                      <a:pt x="399" y="42"/>
                    </a:lnTo>
                    <a:lnTo>
                      <a:pt x="399" y="42"/>
                    </a:lnTo>
                    <a:lnTo>
                      <a:pt x="399" y="40"/>
                    </a:lnTo>
                    <a:lnTo>
                      <a:pt x="399" y="38"/>
                    </a:lnTo>
                    <a:lnTo>
                      <a:pt x="399" y="38"/>
                    </a:lnTo>
                    <a:lnTo>
                      <a:pt x="399" y="36"/>
                    </a:lnTo>
                    <a:lnTo>
                      <a:pt x="399" y="34"/>
                    </a:lnTo>
                    <a:lnTo>
                      <a:pt x="399" y="34"/>
                    </a:lnTo>
                    <a:lnTo>
                      <a:pt x="399" y="32"/>
                    </a:lnTo>
                    <a:close/>
                    <a:moveTo>
                      <a:pt x="4" y="2041"/>
                    </a:moveTo>
                    <a:lnTo>
                      <a:pt x="25" y="2043"/>
                    </a:lnTo>
                    <a:lnTo>
                      <a:pt x="77" y="2047"/>
                    </a:lnTo>
                    <a:lnTo>
                      <a:pt x="128" y="2049"/>
                    </a:lnTo>
                    <a:lnTo>
                      <a:pt x="182" y="2047"/>
                    </a:lnTo>
                    <a:lnTo>
                      <a:pt x="234" y="2043"/>
                    </a:lnTo>
                    <a:lnTo>
                      <a:pt x="286" y="2037"/>
                    </a:lnTo>
                    <a:lnTo>
                      <a:pt x="336" y="2028"/>
                    </a:lnTo>
                    <a:lnTo>
                      <a:pt x="368" y="2020"/>
                    </a:lnTo>
                    <a:lnTo>
                      <a:pt x="368" y="2020"/>
                    </a:lnTo>
                    <a:lnTo>
                      <a:pt x="368" y="2018"/>
                    </a:lnTo>
                    <a:lnTo>
                      <a:pt x="368" y="2016"/>
                    </a:lnTo>
                    <a:lnTo>
                      <a:pt x="368" y="2016"/>
                    </a:lnTo>
                    <a:lnTo>
                      <a:pt x="368" y="2014"/>
                    </a:lnTo>
                    <a:lnTo>
                      <a:pt x="368" y="2013"/>
                    </a:lnTo>
                    <a:lnTo>
                      <a:pt x="368" y="2013"/>
                    </a:lnTo>
                    <a:lnTo>
                      <a:pt x="366" y="2011"/>
                    </a:lnTo>
                    <a:lnTo>
                      <a:pt x="334" y="2018"/>
                    </a:lnTo>
                    <a:lnTo>
                      <a:pt x="284" y="2028"/>
                    </a:lnTo>
                    <a:lnTo>
                      <a:pt x="232" y="2034"/>
                    </a:lnTo>
                    <a:lnTo>
                      <a:pt x="182" y="2037"/>
                    </a:lnTo>
                    <a:lnTo>
                      <a:pt x="128" y="2039"/>
                    </a:lnTo>
                    <a:lnTo>
                      <a:pt x="77" y="2037"/>
                    </a:lnTo>
                    <a:lnTo>
                      <a:pt x="25" y="2034"/>
                    </a:lnTo>
                    <a:lnTo>
                      <a:pt x="0" y="2030"/>
                    </a:lnTo>
                    <a:lnTo>
                      <a:pt x="2" y="2032"/>
                    </a:lnTo>
                    <a:lnTo>
                      <a:pt x="2" y="2034"/>
                    </a:lnTo>
                    <a:lnTo>
                      <a:pt x="2" y="2036"/>
                    </a:lnTo>
                    <a:lnTo>
                      <a:pt x="2" y="2036"/>
                    </a:lnTo>
                    <a:lnTo>
                      <a:pt x="2" y="2037"/>
                    </a:lnTo>
                    <a:lnTo>
                      <a:pt x="4" y="2039"/>
                    </a:lnTo>
                    <a:lnTo>
                      <a:pt x="4" y="2039"/>
                    </a:lnTo>
                    <a:lnTo>
                      <a:pt x="4" y="2041"/>
                    </a:lnTo>
                    <a:close/>
                  </a:path>
                </a:pathLst>
              </a:custGeom>
              <a:solidFill>
                <a:srgbClr val="38a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Freeform 66"/>
              <p:cNvSpPr/>
              <p:nvPr/>
            </p:nvSpPr>
            <p:spPr>
              <a:xfrm>
                <a:off x="2065680" y="1460880"/>
                <a:ext cx="675360" cy="3430080"/>
              </a:xfrm>
              <a:custGeom>
                <a:avLst/>
                <a:gdLst>
                  <a:gd name="textAreaLeft" fmla="*/ 0 w 675360"/>
                  <a:gd name="textAreaRight" fmla="*/ 675720 w 675360"/>
                  <a:gd name="textAreaTop" fmla="*/ 0 h 3430080"/>
                  <a:gd name="textAreaBottom" fmla="*/ 3430440 h 3430080"/>
                </a:gdLst>
                <a:ahLst/>
                <a:rect l="textAreaLeft" t="textAreaTop" r="textAreaRight" b="textAreaBottom"/>
                <a:pathLst>
                  <a:path w="401" h="2037">
                    <a:moveTo>
                      <a:pt x="401" y="32"/>
                    </a:moveTo>
                    <a:lnTo>
                      <a:pt x="386" y="28"/>
                    </a:lnTo>
                    <a:lnTo>
                      <a:pt x="338" y="17"/>
                    </a:lnTo>
                    <a:lnTo>
                      <a:pt x="286" y="7"/>
                    </a:lnTo>
                    <a:lnTo>
                      <a:pt x="236" y="2"/>
                    </a:lnTo>
                    <a:lnTo>
                      <a:pt x="215" y="0"/>
                    </a:lnTo>
                    <a:lnTo>
                      <a:pt x="215" y="0"/>
                    </a:lnTo>
                    <a:lnTo>
                      <a:pt x="213" y="2"/>
                    </a:lnTo>
                    <a:lnTo>
                      <a:pt x="213" y="3"/>
                    </a:lnTo>
                    <a:lnTo>
                      <a:pt x="211" y="3"/>
                    </a:lnTo>
                    <a:lnTo>
                      <a:pt x="211" y="5"/>
                    </a:lnTo>
                    <a:lnTo>
                      <a:pt x="209" y="7"/>
                    </a:lnTo>
                    <a:lnTo>
                      <a:pt x="209" y="7"/>
                    </a:lnTo>
                    <a:lnTo>
                      <a:pt x="209" y="9"/>
                    </a:lnTo>
                    <a:lnTo>
                      <a:pt x="234" y="11"/>
                    </a:lnTo>
                    <a:lnTo>
                      <a:pt x="286" y="17"/>
                    </a:lnTo>
                    <a:lnTo>
                      <a:pt x="334" y="26"/>
                    </a:lnTo>
                    <a:lnTo>
                      <a:pt x="384" y="38"/>
                    </a:lnTo>
                    <a:lnTo>
                      <a:pt x="399" y="42"/>
                    </a:lnTo>
                    <a:lnTo>
                      <a:pt x="399" y="40"/>
                    </a:lnTo>
                    <a:lnTo>
                      <a:pt x="399" y="40"/>
                    </a:lnTo>
                    <a:lnTo>
                      <a:pt x="399" y="38"/>
                    </a:lnTo>
                    <a:lnTo>
                      <a:pt x="401" y="36"/>
                    </a:lnTo>
                    <a:lnTo>
                      <a:pt x="401" y="36"/>
                    </a:lnTo>
                    <a:lnTo>
                      <a:pt x="401" y="34"/>
                    </a:lnTo>
                    <a:lnTo>
                      <a:pt x="401" y="32"/>
                    </a:lnTo>
                    <a:lnTo>
                      <a:pt x="401" y="32"/>
                    </a:lnTo>
                    <a:close/>
                    <a:moveTo>
                      <a:pt x="4" y="2030"/>
                    </a:moveTo>
                    <a:lnTo>
                      <a:pt x="27" y="2033"/>
                    </a:lnTo>
                    <a:lnTo>
                      <a:pt x="79" y="2037"/>
                    </a:lnTo>
                    <a:lnTo>
                      <a:pt x="130" y="2037"/>
                    </a:lnTo>
                    <a:lnTo>
                      <a:pt x="184" y="2037"/>
                    </a:lnTo>
                    <a:lnTo>
                      <a:pt x="236" y="2033"/>
                    </a:lnTo>
                    <a:lnTo>
                      <a:pt x="286" y="2026"/>
                    </a:lnTo>
                    <a:lnTo>
                      <a:pt x="338" y="2018"/>
                    </a:lnTo>
                    <a:lnTo>
                      <a:pt x="370" y="2010"/>
                    </a:lnTo>
                    <a:lnTo>
                      <a:pt x="370" y="2008"/>
                    </a:lnTo>
                    <a:lnTo>
                      <a:pt x="370" y="2007"/>
                    </a:lnTo>
                    <a:lnTo>
                      <a:pt x="370" y="2007"/>
                    </a:lnTo>
                    <a:lnTo>
                      <a:pt x="368" y="2005"/>
                    </a:lnTo>
                    <a:lnTo>
                      <a:pt x="368" y="2003"/>
                    </a:lnTo>
                    <a:lnTo>
                      <a:pt x="368" y="2003"/>
                    </a:lnTo>
                    <a:lnTo>
                      <a:pt x="368" y="2001"/>
                    </a:lnTo>
                    <a:lnTo>
                      <a:pt x="368" y="1999"/>
                    </a:lnTo>
                    <a:lnTo>
                      <a:pt x="334" y="2007"/>
                    </a:lnTo>
                    <a:lnTo>
                      <a:pt x="286" y="2016"/>
                    </a:lnTo>
                    <a:lnTo>
                      <a:pt x="234" y="2022"/>
                    </a:lnTo>
                    <a:lnTo>
                      <a:pt x="182" y="2026"/>
                    </a:lnTo>
                    <a:lnTo>
                      <a:pt x="130" y="2028"/>
                    </a:lnTo>
                    <a:lnTo>
                      <a:pt x="79" y="2026"/>
                    </a:lnTo>
                    <a:lnTo>
                      <a:pt x="27" y="2022"/>
                    </a:lnTo>
                    <a:lnTo>
                      <a:pt x="0" y="2020"/>
                    </a:lnTo>
                    <a:lnTo>
                      <a:pt x="2" y="2020"/>
                    </a:lnTo>
                    <a:lnTo>
                      <a:pt x="2" y="2022"/>
                    </a:lnTo>
                    <a:lnTo>
                      <a:pt x="2" y="2024"/>
                    </a:lnTo>
                    <a:lnTo>
                      <a:pt x="2" y="2024"/>
                    </a:lnTo>
                    <a:lnTo>
                      <a:pt x="4" y="2026"/>
                    </a:lnTo>
                    <a:lnTo>
                      <a:pt x="4" y="2028"/>
                    </a:lnTo>
                    <a:lnTo>
                      <a:pt x="4" y="2030"/>
                    </a:lnTo>
                    <a:lnTo>
                      <a:pt x="4" y="2030"/>
                    </a:lnTo>
                    <a:close/>
                  </a:path>
                </a:pathLst>
              </a:custGeom>
              <a:solidFill>
                <a:srgbClr val="39a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Freeform 67"/>
              <p:cNvSpPr/>
              <p:nvPr/>
            </p:nvSpPr>
            <p:spPr>
              <a:xfrm>
                <a:off x="2062800" y="1465920"/>
                <a:ext cx="678240" cy="3418200"/>
              </a:xfrm>
              <a:custGeom>
                <a:avLst/>
                <a:gdLst>
                  <a:gd name="textAreaLeft" fmla="*/ 0 w 678240"/>
                  <a:gd name="textAreaRight" fmla="*/ 678600 w 678240"/>
                  <a:gd name="textAreaTop" fmla="*/ 0 h 3418200"/>
                  <a:gd name="textAreaBottom" fmla="*/ 3418560 h 3418200"/>
                </a:gdLst>
                <a:ahLst/>
                <a:rect l="textAreaLeft" t="textAreaTop" r="textAreaRight" b="textAreaBottom"/>
                <a:pathLst>
                  <a:path w="403" h="2030">
                    <a:moveTo>
                      <a:pt x="403" y="33"/>
                    </a:moveTo>
                    <a:lnTo>
                      <a:pt x="388" y="29"/>
                    </a:lnTo>
                    <a:lnTo>
                      <a:pt x="338" y="18"/>
                    </a:lnTo>
                    <a:lnTo>
                      <a:pt x="288" y="10"/>
                    </a:lnTo>
                    <a:lnTo>
                      <a:pt x="236" y="2"/>
                    </a:lnTo>
                    <a:lnTo>
                      <a:pt x="213" y="0"/>
                    </a:lnTo>
                    <a:lnTo>
                      <a:pt x="213" y="2"/>
                    </a:lnTo>
                    <a:lnTo>
                      <a:pt x="211" y="4"/>
                    </a:lnTo>
                    <a:lnTo>
                      <a:pt x="211" y="4"/>
                    </a:lnTo>
                    <a:lnTo>
                      <a:pt x="211" y="6"/>
                    </a:lnTo>
                    <a:lnTo>
                      <a:pt x="209" y="6"/>
                    </a:lnTo>
                    <a:lnTo>
                      <a:pt x="209" y="8"/>
                    </a:lnTo>
                    <a:lnTo>
                      <a:pt x="207" y="10"/>
                    </a:lnTo>
                    <a:lnTo>
                      <a:pt x="207" y="10"/>
                    </a:lnTo>
                    <a:lnTo>
                      <a:pt x="236" y="14"/>
                    </a:lnTo>
                    <a:lnTo>
                      <a:pt x="286" y="20"/>
                    </a:lnTo>
                    <a:lnTo>
                      <a:pt x="336" y="27"/>
                    </a:lnTo>
                    <a:lnTo>
                      <a:pt x="384" y="39"/>
                    </a:lnTo>
                    <a:lnTo>
                      <a:pt x="401" y="45"/>
                    </a:lnTo>
                    <a:lnTo>
                      <a:pt x="401" y="43"/>
                    </a:lnTo>
                    <a:lnTo>
                      <a:pt x="401" y="41"/>
                    </a:lnTo>
                    <a:lnTo>
                      <a:pt x="401" y="41"/>
                    </a:lnTo>
                    <a:lnTo>
                      <a:pt x="401" y="39"/>
                    </a:lnTo>
                    <a:lnTo>
                      <a:pt x="401" y="37"/>
                    </a:lnTo>
                    <a:lnTo>
                      <a:pt x="401" y="37"/>
                    </a:lnTo>
                    <a:lnTo>
                      <a:pt x="401" y="35"/>
                    </a:lnTo>
                    <a:lnTo>
                      <a:pt x="403" y="33"/>
                    </a:lnTo>
                    <a:close/>
                    <a:moveTo>
                      <a:pt x="4" y="2021"/>
                    </a:moveTo>
                    <a:lnTo>
                      <a:pt x="29" y="2025"/>
                    </a:lnTo>
                    <a:lnTo>
                      <a:pt x="81" y="2028"/>
                    </a:lnTo>
                    <a:lnTo>
                      <a:pt x="132" y="2030"/>
                    </a:lnTo>
                    <a:lnTo>
                      <a:pt x="186" y="2028"/>
                    </a:lnTo>
                    <a:lnTo>
                      <a:pt x="236" y="2025"/>
                    </a:lnTo>
                    <a:lnTo>
                      <a:pt x="288" y="2019"/>
                    </a:lnTo>
                    <a:lnTo>
                      <a:pt x="338" y="2009"/>
                    </a:lnTo>
                    <a:lnTo>
                      <a:pt x="370" y="2002"/>
                    </a:lnTo>
                    <a:lnTo>
                      <a:pt x="370" y="2000"/>
                    </a:lnTo>
                    <a:lnTo>
                      <a:pt x="370" y="2000"/>
                    </a:lnTo>
                    <a:lnTo>
                      <a:pt x="370" y="1998"/>
                    </a:lnTo>
                    <a:lnTo>
                      <a:pt x="370" y="1996"/>
                    </a:lnTo>
                    <a:lnTo>
                      <a:pt x="370" y="1996"/>
                    </a:lnTo>
                    <a:lnTo>
                      <a:pt x="370" y="1994"/>
                    </a:lnTo>
                    <a:lnTo>
                      <a:pt x="370" y="1992"/>
                    </a:lnTo>
                    <a:lnTo>
                      <a:pt x="370" y="1992"/>
                    </a:lnTo>
                    <a:lnTo>
                      <a:pt x="336" y="2000"/>
                    </a:lnTo>
                    <a:lnTo>
                      <a:pt x="286" y="2007"/>
                    </a:lnTo>
                    <a:lnTo>
                      <a:pt x="236" y="2015"/>
                    </a:lnTo>
                    <a:lnTo>
                      <a:pt x="184" y="2019"/>
                    </a:lnTo>
                    <a:lnTo>
                      <a:pt x="132" y="2019"/>
                    </a:lnTo>
                    <a:lnTo>
                      <a:pt x="81" y="2019"/>
                    </a:lnTo>
                    <a:lnTo>
                      <a:pt x="31" y="2015"/>
                    </a:lnTo>
                    <a:lnTo>
                      <a:pt x="0" y="2011"/>
                    </a:lnTo>
                    <a:lnTo>
                      <a:pt x="2" y="2013"/>
                    </a:lnTo>
                    <a:lnTo>
                      <a:pt x="2" y="2013"/>
                    </a:lnTo>
                    <a:lnTo>
                      <a:pt x="2" y="2015"/>
                    </a:lnTo>
                    <a:lnTo>
                      <a:pt x="2" y="2017"/>
                    </a:lnTo>
                    <a:lnTo>
                      <a:pt x="4" y="2017"/>
                    </a:lnTo>
                    <a:lnTo>
                      <a:pt x="4" y="2019"/>
                    </a:lnTo>
                    <a:lnTo>
                      <a:pt x="4" y="2021"/>
                    </a:lnTo>
                    <a:lnTo>
                      <a:pt x="4" y="2021"/>
                    </a:lnTo>
                    <a:close/>
                  </a:path>
                </a:pathLst>
              </a:custGeom>
              <a:solidFill>
                <a:srgbClr val="3ab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Freeform 68"/>
              <p:cNvSpPr/>
              <p:nvPr/>
            </p:nvSpPr>
            <p:spPr>
              <a:xfrm>
                <a:off x="2062800" y="1476360"/>
                <a:ext cx="675000" cy="3399480"/>
              </a:xfrm>
              <a:custGeom>
                <a:avLst/>
                <a:gdLst>
                  <a:gd name="textAreaLeft" fmla="*/ 0 w 675000"/>
                  <a:gd name="textAreaRight" fmla="*/ 675360 w 675000"/>
                  <a:gd name="textAreaTop" fmla="*/ 0 h 3399480"/>
                  <a:gd name="textAreaBottom" fmla="*/ 3399840 h 3399480"/>
                </a:gdLst>
                <a:ahLst/>
                <a:rect l="textAreaLeft" t="textAreaTop" r="textAreaRight" b="textAreaBottom"/>
                <a:pathLst>
                  <a:path w="401" h="2019">
                    <a:moveTo>
                      <a:pt x="401" y="33"/>
                    </a:moveTo>
                    <a:lnTo>
                      <a:pt x="386" y="29"/>
                    </a:lnTo>
                    <a:lnTo>
                      <a:pt x="336" y="17"/>
                    </a:lnTo>
                    <a:lnTo>
                      <a:pt x="288" y="8"/>
                    </a:lnTo>
                    <a:lnTo>
                      <a:pt x="236" y="2"/>
                    </a:lnTo>
                    <a:lnTo>
                      <a:pt x="211" y="0"/>
                    </a:lnTo>
                    <a:lnTo>
                      <a:pt x="209" y="0"/>
                    </a:lnTo>
                    <a:lnTo>
                      <a:pt x="209" y="2"/>
                    </a:lnTo>
                    <a:lnTo>
                      <a:pt x="207" y="4"/>
                    </a:lnTo>
                    <a:lnTo>
                      <a:pt x="207" y="4"/>
                    </a:lnTo>
                    <a:lnTo>
                      <a:pt x="205" y="6"/>
                    </a:lnTo>
                    <a:lnTo>
                      <a:pt x="205" y="8"/>
                    </a:lnTo>
                    <a:lnTo>
                      <a:pt x="205" y="8"/>
                    </a:lnTo>
                    <a:lnTo>
                      <a:pt x="203" y="10"/>
                    </a:lnTo>
                    <a:lnTo>
                      <a:pt x="236" y="12"/>
                    </a:lnTo>
                    <a:lnTo>
                      <a:pt x="286" y="19"/>
                    </a:lnTo>
                    <a:lnTo>
                      <a:pt x="334" y="27"/>
                    </a:lnTo>
                    <a:lnTo>
                      <a:pt x="384" y="39"/>
                    </a:lnTo>
                    <a:lnTo>
                      <a:pt x="399" y="42"/>
                    </a:lnTo>
                    <a:lnTo>
                      <a:pt x="399" y="42"/>
                    </a:lnTo>
                    <a:lnTo>
                      <a:pt x="399" y="41"/>
                    </a:lnTo>
                    <a:lnTo>
                      <a:pt x="399" y="39"/>
                    </a:lnTo>
                    <a:lnTo>
                      <a:pt x="401" y="39"/>
                    </a:lnTo>
                    <a:lnTo>
                      <a:pt x="401" y="37"/>
                    </a:lnTo>
                    <a:lnTo>
                      <a:pt x="401" y="35"/>
                    </a:lnTo>
                    <a:lnTo>
                      <a:pt x="401" y="35"/>
                    </a:lnTo>
                    <a:lnTo>
                      <a:pt x="401" y="33"/>
                    </a:lnTo>
                    <a:close/>
                    <a:moveTo>
                      <a:pt x="2" y="2011"/>
                    </a:moveTo>
                    <a:lnTo>
                      <a:pt x="29" y="2013"/>
                    </a:lnTo>
                    <a:lnTo>
                      <a:pt x="81" y="2017"/>
                    </a:lnTo>
                    <a:lnTo>
                      <a:pt x="132" y="2019"/>
                    </a:lnTo>
                    <a:lnTo>
                      <a:pt x="184" y="2017"/>
                    </a:lnTo>
                    <a:lnTo>
                      <a:pt x="236" y="2013"/>
                    </a:lnTo>
                    <a:lnTo>
                      <a:pt x="288" y="2007"/>
                    </a:lnTo>
                    <a:lnTo>
                      <a:pt x="336" y="1998"/>
                    </a:lnTo>
                    <a:lnTo>
                      <a:pt x="370" y="1990"/>
                    </a:lnTo>
                    <a:lnTo>
                      <a:pt x="370" y="1990"/>
                    </a:lnTo>
                    <a:lnTo>
                      <a:pt x="370" y="1988"/>
                    </a:lnTo>
                    <a:lnTo>
                      <a:pt x="370" y="1986"/>
                    </a:lnTo>
                    <a:lnTo>
                      <a:pt x="370" y="1986"/>
                    </a:lnTo>
                    <a:lnTo>
                      <a:pt x="370" y="1984"/>
                    </a:lnTo>
                    <a:lnTo>
                      <a:pt x="368" y="1982"/>
                    </a:lnTo>
                    <a:lnTo>
                      <a:pt x="368" y="1982"/>
                    </a:lnTo>
                    <a:lnTo>
                      <a:pt x="368" y="1980"/>
                    </a:lnTo>
                    <a:lnTo>
                      <a:pt x="334" y="1988"/>
                    </a:lnTo>
                    <a:lnTo>
                      <a:pt x="286" y="1998"/>
                    </a:lnTo>
                    <a:lnTo>
                      <a:pt x="236" y="2003"/>
                    </a:lnTo>
                    <a:lnTo>
                      <a:pt x="184" y="2007"/>
                    </a:lnTo>
                    <a:lnTo>
                      <a:pt x="132" y="2009"/>
                    </a:lnTo>
                    <a:lnTo>
                      <a:pt x="81" y="2007"/>
                    </a:lnTo>
                    <a:lnTo>
                      <a:pt x="31" y="2003"/>
                    </a:lnTo>
                    <a:lnTo>
                      <a:pt x="0" y="1999"/>
                    </a:lnTo>
                    <a:lnTo>
                      <a:pt x="0" y="2001"/>
                    </a:lnTo>
                    <a:lnTo>
                      <a:pt x="0" y="2001"/>
                    </a:lnTo>
                    <a:lnTo>
                      <a:pt x="0" y="2003"/>
                    </a:lnTo>
                    <a:lnTo>
                      <a:pt x="0" y="2005"/>
                    </a:lnTo>
                    <a:lnTo>
                      <a:pt x="2" y="2007"/>
                    </a:lnTo>
                    <a:lnTo>
                      <a:pt x="2" y="2007"/>
                    </a:lnTo>
                    <a:lnTo>
                      <a:pt x="2" y="2009"/>
                    </a:lnTo>
                    <a:lnTo>
                      <a:pt x="2" y="2011"/>
                    </a:lnTo>
                    <a:close/>
                  </a:path>
                </a:pathLst>
              </a:custGeom>
              <a:solidFill>
                <a:srgbClr val="3bb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Freeform 69"/>
              <p:cNvSpPr/>
              <p:nvPr/>
            </p:nvSpPr>
            <p:spPr>
              <a:xfrm>
                <a:off x="2059200" y="1482840"/>
                <a:ext cx="678240" cy="3382920"/>
              </a:xfrm>
              <a:custGeom>
                <a:avLst/>
                <a:gdLst>
                  <a:gd name="textAreaLeft" fmla="*/ 0 w 678240"/>
                  <a:gd name="textAreaRight" fmla="*/ 678600 w 678240"/>
                  <a:gd name="textAreaTop" fmla="*/ 0 h 3382920"/>
                  <a:gd name="textAreaBottom" fmla="*/ 3383280 h 3382920"/>
                </a:gdLst>
                <a:ahLst/>
                <a:rect l="textAreaLeft" t="textAreaTop" r="textAreaRight" b="textAreaBottom"/>
                <a:pathLst>
                  <a:path w="403" h="2009">
                    <a:moveTo>
                      <a:pt x="403" y="35"/>
                    </a:moveTo>
                    <a:lnTo>
                      <a:pt x="386" y="29"/>
                    </a:lnTo>
                    <a:lnTo>
                      <a:pt x="338" y="17"/>
                    </a:lnTo>
                    <a:lnTo>
                      <a:pt x="288" y="10"/>
                    </a:lnTo>
                    <a:lnTo>
                      <a:pt x="238" y="4"/>
                    </a:lnTo>
                    <a:lnTo>
                      <a:pt x="209" y="0"/>
                    </a:lnTo>
                    <a:lnTo>
                      <a:pt x="207" y="2"/>
                    </a:lnTo>
                    <a:lnTo>
                      <a:pt x="207" y="4"/>
                    </a:lnTo>
                    <a:lnTo>
                      <a:pt x="207" y="4"/>
                    </a:lnTo>
                    <a:lnTo>
                      <a:pt x="205" y="6"/>
                    </a:lnTo>
                    <a:lnTo>
                      <a:pt x="205" y="8"/>
                    </a:lnTo>
                    <a:lnTo>
                      <a:pt x="204" y="8"/>
                    </a:lnTo>
                    <a:lnTo>
                      <a:pt x="204" y="10"/>
                    </a:lnTo>
                    <a:lnTo>
                      <a:pt x="202" y="12"/>
                    </a:lnTo>
                    <a:lnTo>
                      <a:pt x="236" y="13"/>
                    </a:lnTo>
                    <a:lnTo>
                      <a:pt x="286" y="19"/>
                    </a:lnTo>
                    <a:lnTo>
                      <a:pt x="336" y="29"/>
                    </a:lnTo>
                    <a:lnTo>
                      <a:pt x="384" y="40"/>
                    </a:lnTo>
                    <a:lnTo>
                      <a:pt x="401" y="44"/>
                    </a:lnTo>
                    <a:lnTo>
                      <a:pt x="401" y="42"/>
                    </a:lnTo>
                    <a:lnTo>
                      <a:pt x="401" y="42"/>
                    </a:lnTo>
                    <a:lnTo>
                      <a:pt x="401" y="40"/>
                    </a:lnTo>
                    <a:lnTo>
                      <a:pt x="401" y="38"/>
                    </a:lnTo>
                    <a:lnTo>
                      <a:pt x="401" y="38"/>
                    </a:lnTo>
                    <a:lnTo>
                      <a:pt x="401" y="37"/>
                    </a:lnTo>
                    <a:lnTo>
                      <a:pt x="401" y="35"/>
                    </a:lnTo>
                    <a:lnTo>
                      <a:pt x="403" y="35"/>
                    </a:lnTo>
                    <a:close/>
                    <a:moveTo>
                      <a:pt x="2" y="2001"/>
                    </a:moveTo>
                    <a:lnTo>
                      <a:pt x="33" y="2005"/>
                    </a:lnTo>
                    <a:lnTo>
                      <a:pt x="83" y="2009"/>
                    </a:lnTo>
                    <a:lnTo>
                      <a:pt x="134" y="2009"/>
                    </a:lnTo>
                    <a:lnTo>
                      <a:pt x="186" y="2009"/>
                    </a:lnTo>
                    <a:lnTo>
                      <a:pt x="238" y="2005"/>
                    </a:lnTo>
                    <a:lnTo>
                      <a:pt x="288" y="1997"/>
                    </a:lnTo>
                    <a:lnTo>
                      <a:pt x="338" y="1990"/>
                    </a:lnTo>
                    <a:lnTo>
                      <a:pt x="372" y="1982"/>
                    </a:lnTo>
                    <a:lnTo>
                      <a:pt x="372" y="1980"/>
                    </a:lnTo>
                    <a:lnTo>
                      <a:pt x="370" y="1978"/>
                    </a:lnTo>
                    <a:lnTo>
                      <a:pt x="370" y="1978"/>
                    </a:lnTo>
                    <a:lnTo>
                      <a:pt x="370" y="1976"/>
                    </a:lnTo>
                    <a:lnTo>
                      <a:pt x="370" y="1974"/>
                    </a:lnTo>
                    <a:lnTo>
                      <a:pt x="370" y="1974"/>
                    </a:lnTo>
                    <a:lnTo>
                      <a:pt x="370" y="1972"/>
                    </a:lnTo>
                    <a:lnTo>
                      <a:pt x="370" y="1971"/>
                    </a:lnTo>
                    <a:lnTo>
                      <a:pt x="336" y="1980"/>
                    </a:lnTo>
                    <a:lnTo>
                      <a:pt x="286" y="1988"/>
                    </a:lnTo>
                    <a:lnTo>
                      <a:pt x="236" y="1994"/>
                    </a:lnTo>
                    <a:lnTo>
                      <a:pt x="186" y="1997"/>
                    </a:lnTo>
                    <a:lnTo>
                      <a:pt x="134" y="1999"/>
                    </a:lnTo>
                    <a:lnTo>
                      <a:pt x="85" y="1997"/>
                    </a:lnTo>
                    <a:lnTo>
                      <a:pt x="33" y="1994"/>
                    </a:lnTo>
                    <a:lnTo>
                      <a:pt x="0" y="1990"/>
                    </a:lnTo>
                    <a:lnTo>
                      <a:pt x="0" y="1992"/>
                    </a:lnTo>
                    <a:lnTo>
                      <a:pt x="0" y="1994"/>
                    </a:lnTo>
                    <a:lnTo>
                      <a:pt x="0" y="1994"/>
                    </a:lnTo>
                    <a:lnTo>
                      <a:pt x="2" y="1995"/>
                    </a:lnTo>
                    <a:lnTo>
                      <a:pt x="2" y="1997"/>
                    </a:lnTo>
                    <a:lnTo>
                      <a:pt x="2" y="1997"/>
                    </a:lnTo>
                    <a:lnTo>
                      <a:pt x="2" y="1999"/>
                    </a:lnTo>
                    <a:lnTo>
                      <a:pt x="2" y="2001"/>
                    </a:lnTo>
                    <a:close/>
                  </a:path>
                </a:pathLst>
              </a:custGeom>
              <a:solidFill>
                <a:srgbClr val="3cb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Freeform 70"/>
              <p:cNvSpPr/>
              <p:nvPr/>
            </p:nvSpPr>
            <p:spPr>
              <a:xfrm>
                <a:off x="2055960" y="1492920"/>
                <a:ext cx="678240" cy="3366000"/>
              </a:xfrm>
              <a:custGeom>
                <a:avLst/>
                <a:gdLst>
                  <a:gd name="textAreaLeft" fmla="*/ 0 w 678240"/>
                  <a:gd name="textAreaRight" fmla="*/ 678600 w 678240"/>
                  <a:gd name="textAreaTop" fmla="*/ 0 h 3366000"/>
                  <a:gd name="textAreaBottom" fmla="*/ 3366360 h 3366000"/>
                </a:gdLst>
                <a:ahLst/>
                <a:rect l="textAreaLeft" t="textAreaTop" r="textAreaRight" b="textAreaBottom"/>
                <a:pathLst>
                  <a:path w="403" h="1999">
                    <a:moveTo>
                      <a:pt x="403" y="32"/>
                    </a:moveTo>
                    <a:lnTo>
                      <a:pt x="388" y="29"/>
                    </a:lnTo>
                    <a:lnTo>
                      <a:pt x="338" y="17"/>
                    </a:lnTo>
                    <a:lnTo>
                      <a:pt x="290" y="9"/>
                    </a:lnTo>
                    <a:lnTo>
                      <a:pt x="240" y="2"/>
                    </a:lnTo>
                    <a:lnTo>
                      <a:pt x="207" y="0"/>
                    </a:lnTo>
                    <a:lnTo>
                      <a:pt x="207" y="2"/>
                    </a:lnTo>
                    <a:lnTo>
                      <a:pt x="206" y="2"/>
                    </a:lnTo>
                    <a:lnTo>
                      <a:pt x="206" y="4"/>
                    </a:lnTo>
                    <a:lnTo>
                      <a:pt x="204" y="6"/>
                    </a:lnTo>
                    <a:lnTo>
                      <a:pt x="204" y="6"/>
                    </a:lnTo>
                    <a:lnTo>
                      <a:pt x="204" y="7"/>
                    </a:lnTo>
                    <a:lnTo>
                      <a:pt x="202" y="7"/>
                    </a:lnTo>
                    <a:lnTo>
                      <a:pt x="202" y="9"/>
                    </a:lnTo>
                    <a:lnTo>
                      <a:pt x="238" y="13"/>
                    </a:lnTo>
                    <a:lnTo>
                      <a:pt x="288" y="19"/>
                    </a:lnTo>
                    <a:lnTo>
                      <a:pt x="336" y="27"/>
                    </a:lnTo>
                    <a:lnTo>
                      <a:pt x="384" y="38"/>
                    </a:lnTo>
                    <a:lnTo>
                      <a:pt x="401" y="44"/>
                    </a:lnTo>
                    <a:lnTo>
                      <a:pt x="401" y="42"/>
                    </a:lnTo>
                    <a:lnTo>
                      <a:pt x="401" y="40"/>
                    </a:lnTo>
                    <a:lnTo>
                      <a:pt x="403" y="40"/>
                    </a:lnTo>
                    <a:lnTo>
                      <a:pt x="403" y="38"/>
                    </a:lnTo>
                    <a:lnTo>
                      <a:pt x="403" y="36"/>
                    </a:lnTo>
                    <a:lnTo>
                      <a:pt x="403" y="36"/>
                    </a:lnTo>
                    <a:lnTo>
                      <a:pt x="403" y="34"/>
                    </a:lnTo>
                    <a:lnTo>
                      <a:pt x="403" y="32"/>
                    </a:lnTo>
                    <a:close/>
                    <a:moveTo>
                      <a:pt x="4" y="1989"/>
                    </a:moveTo>
                    <a:lnTo>
                      <a:pt x="35" y="1993"/>
                    </a:lnTo>
                    <a:lnTo>
                      <a:pt x="85" y="1997"/>
                    </a:lnTo>
                    <a:lnTo>
                      <a:pt x="136" y="1999"/>
                    </a:lnTo>
                    <a:lnTo>
                      <a:pt x="188" y="1997"/>
                    </a:lnTo>
                    <a:lnTo>
                      <a:pt x="240" y="1993"/>
                    </a:lnTo>
                    <a:lnTo>
                      <a:pt x="290" y="1988"/>
                    </a:lnTo>
                    <a:lnTo>
                      <a:pt x="338" y="1978"/>
                    </a:lnTo>
                    <a:lnTo>
                      <a:pt x="372" y="1970"/>
                    </a:lnTo>
                    <a:lnTo>
                      <a:pt x="372" y="1968"/>
                    </a:lnTo>
                    <a:lnTo>
                      <a:pt x="372" y="1968"/>
                    </a:lnTo>
                    <a:lnTo>
                      <a:pt x="372" y="1966"/>
                    </a:lnTo>
                    <a:lnTo>
                      <a:pt x="372" y="1965"/>
                    </a:lnTo>
                    <a:lnTo>
                      <a:pt x="372" y="1965"/>
                    </a:lnTo>
                    <a:lnTo>
                      <a:pt x="372" y="1963"/>
                    </a:lnTo>
                    <a:lnTo>
                      <a:pt x="371" y="1961"/>
                    </a:lnTo>
                    <a:lnTo>
                      <a:pt x="371" y="1961"/>
                    </a:lnTo>
                    <a:lnTo>
                      <a:pt x="336" y="1968"/>
                    </a:lnTo>
                    <a:lnTo>
                      <a:pt x="288" y="1976"/>
                    </a:lnTo>
                    <a:lnTo>
                      <a:pt x="238" y="1984"/>
                    </a:lnTo>
                    <a:lnTo>
                      <a:pt x="188" y="1988"/>
                    </a:lnTo>
                    <a:lnTo>
                      <a:pt x="136" y="1988"/>
                    </a:lnTo>
                    <a:lnTo>
                      <a:pt x="87" y="1988"/>
                    </a:lnTo>
                    <a:lnTo>
                      <a:pt x="37" y="1984"/>
                    </a:lnTo>
                    <a:lnTo>
                      <a:pt x="0" y="1978"/>
                    </a:lnTo>
                    <a:lnTo>
                      <a:pt x="0" y="1980"/>
                    </a:lnTo>
                    <a:lnTo>
                      <a:pt x="0" y="1982"/>
                    </a:lnTo>
                    <a:lnTo>
                      <a:pt x="0" y="1982"/>
                    </a:lnTo>
                    <a:lnTo>
                      <a:pt x="2" y="1984"/>
                    </a:lnTo>
                    <a:lnTo>
                      <a:pt x="2" y="1986"/>
                    </a:lnTo>
                    <a:lnTo>
                      <a:pt x="2" y="1988"/>
                    </a:lnTo>
                    <a:lnTo>
                      <a:pt x="2" y="1988"/>
                    </a:lnTo>
                    <a:lnTo>
                      <a:pt x="4" y="1989"/>
                    </a:lnTo>
                    <a:close/>
                  </a:path>
                </a:pathLst>
              </a:custGeom>
              <a:solidFill>
                <a:srgbClr val="3db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Freeform 71"/>
              <p:cNvSpPr/>
              <p:nvPr/>
            </p:nvSpPr>
            <p:spPr>
              <a:xfrm>
                <a:off x="2052360" y="1503000"/>
                <a:ext cx="681840" cy="3345480"/>
              </a:xfrm>
              <a:custGeom>
                <a:avLst/>
                <a:gdLst>
                  <a:gd name="textAreaLeft" fmla="*/ 0 w 681840"/>
                  <a:gd name="textAreaRight" fmla="*/ 682200 w 681840"/>
                  <a:gd name="textAreaTop" fmla="*/ 0 h 3345480"/>
                  <a:gd name="textAreaBottom" fmla="*/ 3345840 h 3345480"/>
                </a:gdLst>
                <a:ahLst/>
                <a:rect l="textAreaLeft" t="textAreaTop" r="textAreaRight" b="textAreaBottom"/>
                <a:pathLst>
                  <a:path w="405" h="1987">
                    <a:moveTo>
                      <a:pt x="405" y="32"/>
                    </a:moveTo>
                    <a:lnTo>
                      <a:pt x="388" y="28"/>
                    </a:lnTo>
                    <a:lnTo>
                      <a:pt x="340" y="17"/>
                    </a:lnTo>
                    <a:lnTo>
                      <a:pt x="290" y="7"/>
                    </a:lnTo>
                    <a:lnTo>
                      <a:pt x="240" y="1"/>
                    </a:lnTo>
                    <a:lnTo>
                      <a:pt x="206" y="0"/>
                    </a:lnTo>
                    <a:lnTo>
                      <a:pt x="206" y="0"/>
                    </a:lnTo>
                    <a:lnTo>
                      <a:pt x="206" y="1"/>
                    </a:lnTo>
                    <a:lnTo>
                      <a:pt x="204" y="1"/>
                    </a:lnTo>
                    <a:lnTo>
                      <a:pt x="204" y="3"/>
                    </a:lnTo>
                    <a:lnTo>
                      <a:pt x="202" y="5"/>
                    </a:lnTo>
                    <a:lnTo>
                      <a:pt x="202" y="5"/>
                    </a:lnTo>
                    <a:lnTo>
                      <a:pt x="202" y="7"/>
                    </a:lnTo>
                    <a:lnTo>
                      <a:pt x="200" y="9"/>
                    </a:lnTo>
                    <a:lnTo>
                      <a:pt x="240" y="11"/>
                    </a:lnTo>
                    <a:lnTo>
                      <a:pt x="290" y="17"/>
                    </a:lnTo>
                    <a:lnTo>
                      <a:pt x="338" y="26"/>
                    </a:lnTo>
                    <a:lnTo>
                      <a:pt x="386" y="38"/>
                    </a:lnTo>
                    <a:lnTo>
                      <a:pt x="403" y="42"/>
                    </a:lnTo>
                    <a:lnTo>
                      <a:pt x="403" y="42"/>
                    </a:lnTo>
                    <a:lnTo>
                      <a:pt x="403" y="40"/>
                    </a:lnTo>
                    <a:lnTo>
                      <a:pt x="403" y="38"/>
                    </a:lnTo>
                    <a:lnTo>
                      <a:pt x="403" y="38"/>
                    </a:lnTo>
                    <a:lnTo>
                      <a:pt x="403" y="36"/>
                    </a:lnTo>
                    <a:lnTo>
                      <a:pt x="403" y="34"/>
                    </a:lnTo>
                    <a:lnTo>
                      <a:pt x="405" y="34"/>
                    </a:lnTo>
                    <a:lnTo>
                      <a:pt x="405" y="32"/>
                    </a:lnTo>
                    <a:close/>
                    <a:moveTo>
                      <a:pt x="4" y="1978"/>
                    </a:moveTo>
                    <a:lnTo>
                      <a:pt x="37" y="1982"/>
                    </a:lnTo>
                    <a:lnTo>
                      <a:pt x="89" y="1985"/>
                    </a:lnTo>
                    <a:lnTo>
                      <a:pt x="138" y="1987"/>
                    </a:lnTo>
                    <a:lnTo>
                      <a:pt x="190" y="1985"/>
                    </a:lnTo>
                    <a:lnTo>
                      <a:pt x="240" y="1982"/>
                    </a:lnTo>
                    <a:lnTo>
                      <a:pt x="290" y="1976"/>
                    </a:lnTo>
                    <a:lnTo>
                      <a:pt x="340" y="1968"/>
                    </a:lnTo>
                    <a:lnTo>
                      <a:pt x="374" y="1959"/>
                    </a:lnTo>
                    <a:lnTo>
                      <a:pt x="374" y="1959"/>
                    </a:lnTo>
                    <a:lnTo>
                      <a:pt x="374" y="1957"/>
                    </a:lnTo>
                    <a:lnTo>
                      <a:pt x="373" y="1955"/>
                    </a:lnTo>
                    <a:lnTo>
                      <a:pt x="373" y="1955"/>
                    </a:lnTo>
                    <a:lnTo>
                      <a:pt x="373" y="1953"/>
                    </a:lnTo>
                    <a:lnTo>
                      <a:pt x="373" y="1951"/>
                    </a:lnTo>
                    <a:lnTo>
                      <a:pt x="373" y="1951"/>
                    </a:lnTo>
                    <a:lnTo>
                      <a:pt x="373" y="1949"/>
                    </a:lnTo>
                    <a:lnTo>
                      <a:pt x="338" y="1957"/>
                    </a:lnTo>
                    <a:lnTo>
                      <a:pt x="290" y="1966"/>
                    </a:lnTo>
                    <a:lnTo>
                      <a:pt x="240" y="1972"/>
                    </a:lnTo>
                    <a:lnTo>
                      <a:pt x="190" y="1976"/>
                    </a:lnTo>
                    <a:lnTo>
                      <a:pt x="138" y="1978"/>
                    </a:lnTo>
                    <a:lnTo>
                      <a:pt x="89" y="1976"/>
                    </a:lnTo>
                    <a:lnTo>
                      <a:pt x="39" y="1972"/>
                    </a:lnTo>
                    <a:lnTo>
                      <a:pt x="0" y="1968"/>
                    </a:lnTo>
                    <a:lnTo>
                      <a:pt x="0" y="1968"/>
                    </a:lnTo>
                    <a:lnTo>
                      <a:pt x="0" y="1970"/>
                    </a:lnTo>
                    <a:lnTo>
                      <a:pt x="0" y="1972"/>
                    </a:lnTo>
                    <a:lnTo>
                      <a:pt x="2" y="1972"/>
                    </a:lnTo>
                    <a:lnTo>
                      <a:pt x="2" y="1974"/>
                    </a:lnTo>
                    <a:lnTo>
                      <a:pt x="2" y="1976"/>
                    </a:lnTo>
                    <a:lnTo>
                      <a:pt x="2" y="1976"/>
                    </a:lnTo>
                    <a:lnTo>
                      <a:pt x="4" y="1978"/>
                    </a:lnTo>
                    <a:close/>
                  </a:path>
                </a:pathLst>
              </a:custGeom>
              <a:solidFill>
                <a:srgbClr val="3eb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Freeform 72"/>
              <p:cNvSpPr/>
              <p:nvPr/>
            </p:nvSpPr>
            <p:spPr>
              <a:xfrm>
                <a:off x="2049120" y="1508400"/>
                <a:ext cx="681840" cy="3331800"/>
              </a:xfrm>
              <a:custGeom>
                <a:avLst/>
                <a:gdLst>
                  <a:gd name="textAreaLeft" fmla="*/ 0 w 681840"/>
                  <a:gd name="textAreaRight" fmla="*/ 682200 w 681840"/>
                  <a:gd name="textAreaTop" fmla="*/ 0 h 3331800"/>
                  <a:gd name="textAreaBottom" fmla="*/ 3332160 h 3331800"/>
                </a:gdLst>
                <a:ahLst/>
                <a:rect l="textAreaLeft" t="textAreaTop" r="textAreaRight" b="textAreaBottom"/>
                <a:pathLst>
                  <a:path w="405" h="1979">
                    <a:moveTo>
                      <a:pt x="405" y="35"/>
                    </a:moveTo>
                    <a:lnTo>
                      <a:pt x="388" y="29"/>
                    </a:lnTo>
                    <a:lnTo>
                      <a:pt x="340" y="18"/>
                    </a:lnTo>
                    <a:lnTo>
                      <a:pt x="292" y="10"/>
                    </a:lnTo>
                    <a:lnTo>
                      <a:pt x="242" y="4"/>
                    </a:lnTo>
                    <a:lnTo>
                      <a:pt x="206" y="0"/>
                    </a:lnTo>
                    <a:lnTo>
                      <a:pt x="204" y="2"/>
                    </a:lnTo>
                    <a:lnTo>
                      <a:pt x="204" y="2"/>
                    </a:lnTo>
                    <a:lnTo>
                      <a:pt x="204" y="4"/>
                    </a:lnTo>
                    <a:lnTo>
                      <a:pt x="202" y="6"/>
                    </a:lnTo>
                    <a:lnTo>
                      <a:pt x="202" y="6"/>
                    </a:lnTo>
                    <a:lnTo>
                      <a:pt x="200" y="8"/>
                    </a:lnTo>
                    <a:lnTo>
                      <a:pt x="200" y="10"/>
                    </a:lnTo>
                    <a:lnTo>
                      <a:pt x="198" y="10"/>
                    </a:lnTo>
                    <a:lnTo>
                      <a:pt x="242" y="14"/>
                    </a:lnTo>
                    <a:lnTo>
                      <a:pt x="290" y="20"/>
                    </a:lnTo>
                    <a:lnTo>
                      <a:pt x="338" y="29"/>
                    </a:lnTo>
                    <a:lnTo>
                      <a:pt x="386" y="39"/>
                    </a:lnTo>
                    <a:lnTo>
                      <a:pt x="403" y="45"/>
                    </a:lnTo>
                    <a:lnTo>
                      <a:pt x="403" y="43"/>
                    </a:lnTo>
                    <a:lnTo>
                      <a:pt x="403" y="43"/>
                    </a:lnTo>
                    <a:lnTo>
                      <a:pt x="405" y="41"/>
                    </a:lnTo>
                    <a:lnTo>
                      <a:pt x="405" y="39"/>
                    </a:lnTo>
                    <a:lnTo>
                      <a:pt x="405" y="39"/>
                    </a:lnTo>
                    <a:lnTo>
                      <a:pt x="405" y="37"/>
                    </a:lnTo>
                    <a:lnTo>
                      <a:pt x="405" y="35"/>
                    </a:lnTo>
                    <a:lnTo>
                      <a:pt x="405" y="35"/>
                    </a:lnTo>
                    <a:close/>
                    <a:moveTo>
                      <a:pt x="4" y="1969"/>
                    </a:moveTo>
                    <a:lnTo>
                      <a:pt x="41" y="1975"/>
                    </a:lnTo>
                    <a:lnTo>
                      <a:pt x="91" y="1979"/>
                    </a:lnTo>
                    <a:lnTo>
                      <a:pt x="140" y="1979"/>
                    </a:lnTo>
                    <a:lnTo>
                      <a:pt x="192" y="1979"/>
                    </a:lnTo>
                    <a:lnTo>
                      <a:pt x="242" y="1975"/>
                    </a:lnTo>
                    <a:lnTo>
                      <a:pt x="292" y="1967"/>
                    </a:lnTo>
                    <a:lnTo>
                      <a:pt x="340" y="1959"/>
                    </a:lnTo>
                    <a:lnTo>
                      <a:pt x="375" y="1952"/>
                    </a:lnTo>
                    <a:lnTo>
                      <a:pt x="375" y="1950"/>
                    </a:lnTo>
                    <a:lnTo>
                      <a:pt x="375" y="1948"/>
                    </a:lnTo>
                    <a:lnTo>
                      <a:pt x="375" y="1948"/>
                    </a:lnTo>
                    <a:lnTo>
                      <a:pt x="375" y="1946"/>
                    </a:lnTo>
                    <a:lnTo>
                      <a:pt x="375" y="1944"/>
                    </a:lnTo>
                    <a:lnTo>
                      <a:pt x="375" y="1944"/>
                    </a:lnTo>
                    <a:lnTo>
                      <a:pt x="375" y="1942"/>
                    </a:lnTo>
                    <a:lnTo>
                      <a:pt x="373" y="1940"/>
                    </a:lnTo>
                    <a:lnTo>
                      <a:pt x="338" y="1950"/>
                    </a:lnTo>
                    <a:lnTo>
                      <a:pt x="290" y="1957"/>
                    </a:lnTo>
                    <a:lnTo>
                      <a:pt x="242" y="1963"/>
                    </a:lnTo>
                    <a:lnTo>
                      <a:pt x="192" y="1967"/>
                    </a:lnTo>
                    <a:lnTo>
                      <a:pt x="140" y="1969"/>
                    </a:lnTo>
                    <a:lnTo>
                      <a:pt x="91" y="1967"/>
                    </a:lnTo>
                    <a:lnTo>
                      <a:pt x="41" y="1963"/>
                    </a:lnTo>
                    <a:lnTo>
                      <a:pt x="0" y="1959"/>
                    </a:lnTo>
                    <a:lnTo>
                      <a:pt x="0" y="1959"/>
                    </a:lnTo>
                    <a:lnTo>
                      <a:pt x="0" y="1961"/>
                    </a:lnTo>
                    <a:lnTo>
                      <a:pt x="2" y="1963"/>
                    </a:lnTo>
                    <a:lnTo>
                      <a:pt x="2" y="1965"/>
                    </a:lnTo>
                    <a:lnTo>
                      <a:pt x="2" y="1965"/>
                    </a:lnTo>
                    <a:lnTo>
                      <a:pt x="2" y="1967"/>
                    </a:lnTo>
                    <a:lnTo>
                      <a:pt x="2" y="1969"/>
                    </a:lnTo>
                    <a:lnTo>
                      <a:pt x="4" y="1969"/>
                    </a:lnTo>
                    <a:close/>
                  </a:path>
                </a:pathLst>
              </a:custGeom>
              <a:solidFill>
                <a:srgbClr val="3fb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Freeform 73"/>
              <p:cNvSpPr/>
              <p:nvPr/>
            </p:nvSpPr>
            <p:spPr>
              <a:xfrm>
                <a:off x="2045880" y="1518120"/>
                <a:ext cx="684720" cy="3315240"/>
              </a:xfrm>
              <a:custGeom>
                <a:avLst/>
                <a:gdLst>
                  <a:gd name="textAreaLeft" fmla="*/ 0 w 684720"/>
                  <a:gd name="textAreaRight" fmla="*/ 685080 w 684720"/>
                  <a:gd name="textAreaTop" fmla="*/ 0 h 3315240"/>
                  <a:gd name="textAreaBottom" fmla="*/ 3315600 h 3315240"/>
                </a:gdLst>
                <a:ahLst/>
                <a:rect l="textAreaLeft" t="textAreaTop" r="textAreaRight" b="textAreaBottom"/>
                <a:pathLst>
                  <a:path w="407" h="1969">
                    <a:moveTo>
                      <a:pt x="407" y="33"/>
                    </a:moveTo>
                    <a:lnTo>
                      <a:pt x="390" y="29"/>
                    </a:lnTo>
                    <a:lnTo>
                      <a:pt x="342" y="17"/>
                    </a:lnTo>
                    <a:lnTo>
                      <a:pt x="294" y="8"/>
                    </a:lnTo>
                    <a:lnTo>
                      <a:pt x="244" y="2"/>
                    </a:lnTo>
                    <a:lnTo>
                      <a:pt x="204" y="0"/>
                    </a:lnTo>
                    <a:lnTo>
                      <a:pt x="204" y="0"/>
                    </a:lnTo>
                    <a:lnTo>
                      <a:pt x="202" y="2"/>
                    </a:lnTo>
                    <a:lnTo>
                      <a:pt x="202" y="4"/>
                    </a:lnTo>
                    <a:lnTo>
                      <a:pt x="200" y="4"/>
                    </a:lnTo>
                    <a:lnTo>
                      <a:pt x="200" y="6"/>
                    </a:lnTo>
                    <a:lnTo>
                      <a:pt x="200" y="6"/>
                    </a:lnTo>
                    <a:lnTo>
                      <a:pt x="198" y="8"/>
                    </a:lnTo>
                    <a:lnTo>
                      <a:pt x="198" y="10"/>
                    </a:lnTo>
                    <a:lnTo>
                      <a:pt x="242" y="14"/>
                    </a:lnTo>
                    <a:lnTo>
                      <a:pt x="292" y="19"/>
                    </a:lnTo>
                    <a:lnTo>
                      <a:pt x="340" y="27"/>
                    </a:lnTo>
                    <a:lnTo>
                      <a:pt x="386" y="39"/>
                    </a:lnTo>
                    <a:lnTo>
                      <a:pt x="405" y="44"/>
                    </a:lnTo>
                    <a:lnTo>
                      <a:pt x="405" y="42"/>
                    </a:lnTo>
                    <a:lnTo>
                      <a:pt x="405" y="40"/>
                    </a:lnTo>
                    <a:lnTo>
                      <a:pt x="405" y="40"/>
                    </a:lnTo>
                    <a:lnTo>
                      <a:pt x="405" y="39"/>
                    </a:lnTo>
                    <a:lnTo>
                      <a:pt x="405" y="37"/>
                    </a:lnTo>
                    <a:lnTo>
                      <a:pt x="405" y="37"/>
                    </a:lnTo>
                    <a:lnTo>
                      <a:pt x="407" y="35"/>
                    </a:lnTo>
                    <a:lnTo>
                      <a:pt x="407" y="33"/>
                    </a:lnTo>
                    <a:close/>
                    <a:moveTo>
                      <a:pt x="4" y="1959"/>
                    </a:moveTo>
                    <a:lnTo>
                      <a:pt x="43" y="1963"/>
                    </a:lnTo>
                    <a:lnTo>
                      <a:pt x="93" y="1967"/>
                    </a:lnTo>
                    <a:lnTo>
                      <a:pt x="142" y="1969"/>
                    </a:lnTo>
                    <a:lnTo>
                      <a:pt x="194" y="1967"/>
                    </a:lnTo>
                    <a:lnTo>
                      <a:pt x="244" y="1963"/>
                    </a:lnTo>
                    <a:lnTo>
                      <a:pt x="294" y="1957"/>
                    </a:lnTo>
                    <a:lnTo>
                      <a:pt x="342" y="1948"/>
                    </a:lnTo>
                    <a:lnTo>
                      <a:pt x="377" y="1940"/>
                    </a:lnTo>
                    <a:lnTo>
                      <a:pt x="377" y="1938"/>
                    </a:lnTo>
                    <a:lnTo>
                      <a:pt x="377" y="1938"/>
                    </a:lnTo>
                    <a:lnTo>
                      <a:pt x="377" y="1936"/>
                    </a:lnTo>
                    <a:lnTo>
                      <a:pt x="375" y="1934"/>
                    </a:lnTo>
                    <a:lnTo>
                      <a:pt x="375" y="1934"/>
                    </a:lnTo>
                    <a:lnTo>
                      <a:pt x="375" y="1932"/>
                    </a:lnTo>
                    <a:lnTo>
                      <a:pt x="375" y="1932"/>
                    </a:lnTo>
                    <a:lnTo>
                      <a:pt x="375" y="1930"/>
                    </a:lnTo>
                    <a:lnTo>
                      <a:pt x="340" y="1938"/>
                    </a:lnTo>
                    <a:lnTo>
                      <a:pt x="292" y="1948"/>
                    </a:lnTo>
                    <a:lnTo>
                      <a:pt x="242" y="1953"/>
                    </a:lnTo>
                    <a:lnTo>
                      <a:pt x="192" y="1957"/>
                    </a:lnTo>
                    <a:lnTo>
                      <a:pt x="142" y="1957"/>
                    </a:lnTo>
                    <a:lnTo>
                      <a:pt x="93" y="1957"/>
                    </a:lnTo>
                    <a:lnTo>
                      <a:pt x="43" y="1953"/>
                    </a:lnTo>
                    <a:lnTo>
                      <a:pt x="0" y="1948"/>
                    </a:lnTo>
                    <a:lnTo>
                      <a:pt x="0" y="1950"/>
                    </a:lnTo>
                    <a:lnTo>
                      <a:pt x="0" y="1950"/>
                    </a:lnTo>
                    <a:lnTo>
                      <a:pt x="2" y="1951"/>
                    </a:lnTo>
                    <a:lnTo>
                      <a:pt x="2" y="1953"/>
                    </a:lnTo>
                    <a:lnTo>
                      <a:pt x="2" y="1953"/>
                    </a:lnTo>
                    <a:lnTo>
                      <a:pt x="2" y="1955"/>
                    </a:lnTo>
                    <a:lnTo>
                      <a:pt x="4" y="1957"/>
                    </a:lnTo>
                    <a:lnTo>
                      <a:pt x="4" y="1959"/>
                    </a:lnTo>
                    <a:close/>
                  </a:path>
                </a:pathLst>
              </a:custGeom>
              <a:solidFill>
                <a:srgbClr val="40b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Freeform 74"/>
              <p:cNvSpPr/>
              <p:nvPr/>
            </p:nvSpPr>
            <p:spPr>
              <a:xfrm>
                <a:off x="2042280" y="1524960"/>
                <a:ext cx="684720" cy="3298320"/>
              </a:xfrm>
              <a:custGeom>
                <a:avLst/>
                <a:gdLst>
                  <a:gd name="textAreaLeft" fmla="*/ 0 w 684720"/>
                  <a:gd name="textAreaRight" fmla="*/ 685080 w 684720"/>
                  <a:gd name="textAreaTop" fmla="*/ 0 h 3298320"/>
                  <a:gd name="textAreaBottom" fmla="*/ 3298680 h 3298320"/>
                </a:gdLst>
                <a:ahLst/>
                <a:rect l="textAreaLeft" t="textAreaTop" r="textAreaRight" b="textAreaBottom"/>
                <a:pathLst>
                  <a:path w="407" h="1959">
                    <a:moveTo>
                      <a:pt x="407" y="35"/>
                    </a:moveTo>
                    <a:lnTo>
                      <a:pt x="390" y="29"/>
                    </a:lnTo>
                    <a:lnTo>
                      <a:pt x="342" y="19"/>
                    </a:lnTo>
                    <a:lnTo>
                      <a:pt x="294" y="10"/>
                    </a:lnTo>
                    <a:lnTo>
                      <a:pt x="246" y="4"/>
                    </a:lnTo>
                    <a:lnTo>
                      <a:pt x="202" y="0"/>
                    </a:lnTo>
                    <a:lnTo>
                      <a:pt x="202" y="2"/>
                    </a:lnTo>
                    <a:lnTo>
                      <a:pt x="202" y="2"/>
                    </a:lnTo>
                    <a:lnTo>
                      <a:pt x="200" y="4"/>
                    </a:lnTo>
                    <a:lnTo>
                      <a:pt x="200" y="6"/>
                    </a:lnTo>
                    <a:lnTo>
                      <a:pt x="198" y="6"/>
                    </a:lnTo>
                    <a:lnTo>
                      <a:pt x="198" y="8"/>
                    </a:lnTo>
                    <a:lnTo>
                      <a:pt x="198" y="10"/>
                    </a:lnTo>
                    <a:lnTo>
                      <a:pt x="196" y="10"/>
                    </a:lnTo>
                    <a:lnTo>
                      <a:pt x="244" y="13"/>
                    </a:lnTo>
                    <a:lnTo>
                      <a:pt x="292" y="19"/>
                    </a:lnTo>
                    <a:lnTo>
                      <a:pt x="340" y="29"/>
                    </a:lnTo>
                    <a:lnTo>
                      <a:pt x="388" y="38"/>
                    </a:lnTo>
                    <a:lnTo>
                      <a:pt x="405" y="44"/>
                    </a:lnTo>
                    <a:lnTo>
                      <a:pt x="405" y="44"/>
                    </a:lnTo>
                    <a:lnTo>
                      <a:pt x="407" y="42"/>
                    </a:lnTo>
                    <a:lnTo>
                      <a:pt x="407" y="40"/>
                    </a:lnTo>
                    <a:lnTo>
                      <a:pt x="407" y="40"/>
                    </a:lnTo>
                    <a:lnTo>
                      <a:pt x="407" y="38"/>
                    </a:lnTo>
                    <a:lnTo>
                      <a:pt x="407" y="36"/>
                    </a:lnTo>
                    <a:lnTo>
                      <a:pt x="407" y="36"/>
                    </a:lnTo>
                    <a:lnTo>
                      <a:pt x="407" y="35"/>
                    </a:lnTo>
                    <a:close/>
                    <a:moveTo>
                      <a:pt x="4" y="1949"/>
                    </a:moveTo>
                    <a:lnTo>
                      <a:pt x="45" y="1953"/>
                    </a:lnTo>
                    <a:lnTo>
                      <a:pt x="95" y="1957"/>
                    </a:lnTo>
                    <a:lnTo>
                      <a:pt x="144" y="1959"/>
                    </a:lnTo>
                    <a:lnTo>
                      <a:pt x="196" y="1957"/>
                    </a:lnTo>
                    <a:lnTo>
                      <a:pt x="246" y="1953"/>
                    </a:lnTo>
                    <a:lnTo>
                      <a:pt x="294" y="1947"/>
                    </a:lnTo>
                    <a:lnTo>
                      <a:pt x="342" y="1940"/>
                    </a:lnTo>
                    <a:lnTo>
                      <a:pt x="377" y="1930"/>
                    </a:lnTo>
                    <a:lnTo>
                      <a:pt x="377" y="1930"/>
                    </a:lnTo>
                    <a:lnTo>
                      <a:pt x="377" y="1928"/>
                    </a:lnTo>
                    <a:lnTo>
                      <a:pt x="377" y="1928"/>
                    </a:lnTo>
                    <a:lnTo>
                      <a:pt x="377" y="1926"/>
                    </a:lnTo>
                    <a:lnTo>
                      <a:pt x="377" y="1924"/>
                    </a:lnTo>
                    <a:lnTo>
                      <a:pt x="377" y="1924"/>
                    </a:lnTo>
                    <a:lnTo>
                      <a:pt x="377" y="1923"/>
                    </a:lnTo>
                    <a:lnTo>
                      <a:pt x="377" y="1921"/>
                    </a:lnTo>
                    <a:lnTo>
                      <a:pt x="340" y="1928"/>
                    </a:lnTo>
                    <a:lnTo>
                      <a:pt x="292" y="1938"/>
                    </a:lnTo>
                    <a:lnTo>
                      <a:pt x="244" y="1944"/>
                    </a:lnTo>
                    <a:lnTo>
                      <a:pt x="194" y="1947"/>
                    </a:lnTo>
                    <a:lnTo>
                      <a:pt x="144" y="1949"/>
                    </a:lnTo>
                    <a:lnTo>
                      <a:pt x="95" y="1947"/>
                    </a:lnTo>
                    <a:lnTo>
                      <a:pt x="47" y="1944"/>
                    </a:lnTo>
                    <a:lnTo>
                      <a:pt x="0" y="1938"/>
                    </a:lnTo>
                    <a:lnTo>
                      <a:pt x="0" y="1940"/>
                    </a:lnTo>
                    <a:lnTo>
                      <a:pt x="0" y="1942"/>
                    </a:lnTo>
                    <a:lnTo>
                      <a:pt x="2" y="1942"/>
                    </a:lnTo>
                    <a:lnTo>
                      <a:pt x="2" y="1944"/>
                    </a:lnTo>
                    <a:lnTo>
                      <a:pt x="2" y="1946"/>
                    </a:lnTo>
                    <a:lnTo>
                      <a:pt x="2" y="1946"/>
                    </a:lnTo>
                    <a:lnTo>
                      <a:pt x="4" y="1947"/>
                    </a:lnTo>
                    <a:lnTo>
                      <a:pt x="4" y="1949"/>
                    </a:lnTo>
                    <a:close/>
                  </a:path>
                </a:pathLst>
              </a:custGeom>
              <a:solidFill>
                <a:srgbClr val="41b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Freeform 75"/>
              <p:cNvSpPr/>
              <p:nvPr/>
            </p:nvSpPr>
            <p:spPr>
              <a:xfrm>
                <a:off x="2040480" y="1535040"/>
                <a:ext cx="686880" cy="3278520"/>
              </a:xfrm>
              <a:custGeom>
                <a:avLst/>
                <a:gdLst>
                  <a:gd name="textAreaLeft" fmla="*/ 0 w 686880"/>
                  <a:gd name="textAreaRight" fmla="*/ 687240 w 686880"/>
                  <a:gd name="textAreaTop" fmla="*/ 0 h 3278520"/>
                  <a:gd name="textAreaBottom" fmla="*/ 3278880 h 3278520"/>
                </a:gdLst>
                <a:ahLst/>
                <a:rect l="textAreaLeft" t="textAreaTop" r="textAreaRight" b="textAreaBottom"/>
                <a:pathLst>
                  <a:path w="408" h="1947">
                    <a:moveTo>
                      <a:pt x="408" y="34"/>
                    </a:moveTo>
                    <a:lnTo>
                      <a:pt x="389" y="29"/>
                    </a:lnTo>
                    <a:lnTo>
                      <a:pt x="343" y="17"/>
                    </a:lnTo>
                    <a:lnTo>
                      <a:pt x="295" y="9"/>
                    </a:lnTo>
                    <a:lnTo>
                      <a:pt x="245" y="4"/>
                    </a:lnTo>
                    <a:lnTo>
                      <a:pt x="201" y="0"/>
                    </a:lnTo>
                    <a:lnTo>
                      <a:pt x="199" y="0"/>
                    </a:lnTo>
                    <a:lnTo>
                      <a:pt x="199" y="2"/>
                    </a:lnTo>
                    <a:lnTo>
                      <a:pt x="199" y="4"/>
                    </a:lnTo>
                    <a:lnTo>
                      <a:pt x="197" y="4"/>
                    </a:lnTo>
                    <a:lnTo>
                      <a:pt x="197" y="6"/>
                    </a:lnTo>
                    <a:lnTo>
                      <a:pt x="195" y="7"/>
                    </a:lnTo>
                    <a:lnTo>
                      <a:pt x="195" y="7"/>
                    </a:lnTo>
                    <a:lnTo>
                      <a:pt x="195" y="9"/>
                    </a:lnTo>
                    <a:lnTo>
                      <a:pt x="195" y="9"/>
                    </a:lnTo>
                    <a:lnTo>
                      <a:pt x="245" y="13"/>
                    </a:lnTo>
                    <a:lnTo>
                      <a:pt x="293" y="19"/>
                    </a:lnTo>
                    <a:lnTo>
                      <a:pt x="341" y="27"/>
                    </a:lnTo>
                    <a:lnTo>
                      <a:pt x="387" y="38"/>
                    </a:lnTo>
                    <a:lnTo>
                      <a:pt x="406" y="44"/>
                    </a:lnTo>
                    <a:lnTo>
                      <a:pt x="406" y="42"/>
                    </a:lnTo>
                    <a:lnTo>
                      <a:pt x="406" y="42"/>
                    </a:lnTo>
                    <a:lnTo>
                      <a:pt x="406" y="40"/>
                    </a:lnTo>
                    <a:lnTo>
                      <a:pt x="406" y="38"/>
                    </a:lnTo>
                    <a:lnTo>
                      <a:pt x="406" y="38"/>
                    </a:lnTo>
                    <a:lnTo>
                      <a:pt x="408" y="36"/>
                    </a:lnTo>
                    <a:lnTo>
                      <a:pt x="408" y="34"/>
                    </a:lnTo>
                    <a:lnTo>
                      <a:pt x="408" y="34"/>
                    </a:lnTo>
                    <a:close/>
                    <a:moveTo>
                      <a:pt x="3" y="1938"/>
                    </a:moveTo>
                    <a:lnTo>
                      <a:pt x="46" y="1943"/>
                    </a:lnTo>
                    <a:lnTo>
                      <a:pt x="96" y="1947"/>
                    </a:lnTo>
                    <a:lnTo>
                      <a:pt x="145" y="1947"/>
                    </a:lnTo>
                    <a:lnTo>
                      <a:pt x="195" y="1947"/>
                    </a:lnTo>
                    <a:lnTo>
                      <a:pt x="245" y="1943"/>
                    </a:lnTo>
                    <a:lnTo>
                      <a:pt x="295" y="1938"/>
                    </a:lnTo>
                    <a:lnTo>
                      <a:pt x="343" y="1928"/>
                    </a:lnTo>
                    <a:lnTo>
                      <a:pt x="378" y="1920"/>
                    </a:lnTo>
                    <a:lnTo>
                      <a:pt x="378" y="1918"/>
                    </a:lnTo>
                    <a:lnTo>
                      <a:pt x="378" y="1918"/>
                    </a:lnTo>
                    <a:lnTo>
                      <a:pt x="378" y="1917"/>
                    </a:lnTo>
                    <a:lnTo>
                      <a:pt x="378" y="1915"/>
                    </a:lnTo>
                    <a:lnTo>
                      <a:pt x="376" y="1915"/>
                    </a:lnTo>
                    <a:lnTo>
                      <a:pt x="376" y="1913"/>
                    </a:lnTo>
                    <a:lnTo>
                      <a:pt x="376" y="1911"/>
                    </a:lnTo>
                    <a:lnTo>
                      <a:pt x="376" y="1911"/>
                    </a:lnTo>
                    <a:lnTo>
                      <a:pt x="341" y="1918"/>
                    </a:lnTo>
                    <a:lnTo>
                      <a:pt x="293" y="1926"/>
                    </a:lnTo>
                    <a:lnTo>
                      <a:pt x="245" y="1932"/>
                    </a:lnTo>
                    <a:lnTo>
                      <a:pt x="195" y="1936"/>
                    </a:lnTo>
                    <a:lnTo>
                      <a:pt x="145" y="1938"/>
                    </a:lnTo>
                    <a:lnTo>
                      <a:pt x="96" y="1936"/>
                    </a:lnTo>
                    <a:lnTo>
                      <a:pt x="48" y="1932"/>
                    </a:lnTo>
                    <a:lnTo>
                      <a:pt x="0" y="1926"/>
                    </a:lnTo>
                    <a:lnTo>
                      <a:pt x="0" y="1928"/>
                    </a:lnTo>
                    <a:lnTo>
                      <a:pt x="1" y="1930"/>
                    </a:lnTo>
                    <a:lnTo>
                      <a:pt x="1" y="1930"/>
                    </a:lnTo>
                    <a:lnTo>
                      <a:pt x="1" y="1932"/>
                    </a:lnTo>
                    <a:lnTo>
                      <a:pt x="1" y="1934"/>
                    </a:lnTo>
                    <a:lnTo>
                      <a:pt x="1" y="1936"/>
                    </a:lnTo>
                    <a:lnTo>
                      <a:pt x="3" y="1936"/>
                    </a:lnTo>
                    <a:lnTo>
                      <a:pt x="3" y="1938"/>
                    </a:lnTo>
                    <a:close/>
                  </a:path>
                </a:pathLst>
              </a:custGeom>
              <a:solidFill>
                <a:srgbClr val="42b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Freeform 76"/>
              <p:cNvSpPr/>
              <p:nvPr/>
            </p:nvSpPr>
            <p:spPr>
              <a:xfrm>
                <a:off x="2037600" y="1541880"/>
                <a:ext cx="686880" cy="3264480"/>
              </a:xfrm>
              <a:custGeom>
                <a:avLst/>
                <a:gdLst>
                  <a:gd name="textAreaLeft" fmla="*/ 0 w 686880"/>
                  <a:gd name="textAreaRight" fmla="*/ 687240 w 686880"/>
                  <a:gd name="textAreaTop" fmla="*/ 0 h 3264480"/>
                  <a:gd name="textAreaBottom" fmla="*/ 3264840 h 3264480"/>
                </a:gdLst>
                <a:ahLst/>
                <a:rect l="textAreaLeft" t="textAreaTop" r="textAreaRight" b="textAreaBottom"/>
                <a:pathLst>
                  <a:path w="408" h="1939">
                    <a:moveTo>
                      <a:pt x="408" y="34"/>
                    </a:moveTo>
                    <a:lnTo>
                      <a:pt x="391" y="28"/>
                    </a:lnTo>
                    <a:lnTo>
                      <a:pt x="343" y="19"/>
                    </a:lnTo>
                    <a:lnTo>
                      <a:pt x="295" y="9"/>
                    </a:lnTo>
                    <a:lnTo>
                      <a:pt x="247" y="3"/>
                    </a:lnTo>
                    <a:lnTo>
                      <a:pt x="199" y="0"/>
                    </a:lnTo>
                    <a:lnTo>
                      <a:pt x="199" y="2"/>
                    </a:lnTo>
                    <a:lnTo>
                      <a:pt x="197" y="3"/>
                    </a:lnTo>
                    <a:lnTo>
                      <a:pt x="197" y="3"/>
                    </a:lnTo>
                    <a:lnTo>
                      <a:pt x="197" y="5"/>
                    </a:lnTo>
                    <a:lnTo>
                      <a:pt x="195" y="7"/>
                    </a:lnTo>
                    <a:lnTo>
                      <a:pt x="195" y="7"/>
                    </a:lnTo>
                    <a:lnTo>
                      <a:pt x="193" y="9"/>
                    </a:lnTo>
                    <a:lnTo>
                      <a:pt x="193" y="11"/>
                    </a:lnTo>
                    <a:lnTo>
                      <a:pt x="197" y="11"/>
                    </a:lnTo>
                    <a:lnTo>
                      <a:pt x="245" y="13"/>
                    </a:lnTo>
                    <a:lnTo>
                      <a:pt x="293" y="21"/>
                    </a:lnTo>
                    <a:lnTo>
                      <a:pt x="341" y="28"/>
                    </a:lnTo>
                    <a:lnTo>
                      <a:pt x="387" y="40"/>
                    </a:lnTo>
                    <a:lnTo>
                      <a:pt x="407" y="46"/>
                    </a:lnTo>
                    <a:lnTo>
                      <a:pt x="407" y="44"/>
                    </a:lnTo>
                    <a:lnTo>
                      <a:pt x="408" y="42"/>
                    </a:lnTo>
                    <a:lnTo>
                      <a:pt x="408" y="42"/>
                    </a:lnTo>
                    <a:lnTo>
                      <a:pt x="408" y="40"/>
                    </a:lnTo>
                    <a:lnTo>
                      <a:pt x="408" y="38"/>
                    </a:lnTo>
                    <a:lnTo>
                      <a:pt x="408" y="38"/>
                    </a:lnTo>
                    <a:lnTo>
                      <a:pt x="408" y="36"/>
                    </a:lnTo>
                    <a:lnTo>
                      <a:pt x="408" y="34"/>
                    </a:lnTo>
                    <a:close/>
                    <a:moveTo>
                      <a:pt x="3" y="1928"/>
                    </a:moveTo>
                    <a:lnTo>
                      <a:pt x="50" y="1934"/>
                    </a:lnTo>
                    <a:lnTo>
                      <a:pt x="98" y="1937"/>
                    </a:lnTo>
                    <a:lnTo>
                      <a:pt x="147" y="1939"/>
                    </a:lnTo>
                    <a:lnTo>
                      <a:pt x="197" y="1937"/>
                    </a:lnTo>
                    <a:lnTo>
                      <a:pt x="247" y="1934"/>
                    </a:lnTo>
                    <a:lnTo>
                      <a:pt x="295" y="1928"/>
                    </a:lnTo>
                    <a:lnTo>
                      <a:pt x="343" y="1918"/>
                    </a:lnTo>
                    <a:lnTo>
                      <a:pt x="380" y="1911"/>
                    </a:lnTo>
                    <a:lnTo>
                      <a:pt x="378" y="1911"/>
                    </a:lnTo>
                    <a:lnTo>
                      <a:pt x="378" y="1909"/>
                    </a:lnTo>
                    <a:lnTo>
                      <a:pt x="378" y="1907"/>
                    </a:lnTo>
                    <a:lnTo>
                      <a:pt x="378" y="1907"/>
                    </a:lnTo>
                    <a:lnTo>
                      <a:pt x="378" y="1905"/>
                    </a:lnTo>
                    <a:lnTo>
                      <a:pt x="378" y="1903"/>
                    </a:lnTo>
                    <a:lnTo>
                      <a:pt x="378" y="1903"/>
                    </a:lnTo>
                    <a:lnTo>
                      <a:pt x="378" y="1901"/>
                    </a:lnTo>
                    <a:lnTo>
                      <a:pt x="341" y="1909"/>
                    </a:lnTo>
                    <a:lnTo>
                      <a:pt x="293" y="1918"/>
                    </a:lnTo>
                    <a:lnTo>
                      <a:pt x="245" y="1924"/>
                    </a:lnTo>
                    <a:lnTo>
                      <a:pt x="197" y="1928"/>
                    </a:lnTo>
                    <a:lnTo>
                      <a:pt x="147" y="1928"/>
                    </a:lnTo>
                    <a:lnTo>
                      <a:pt x="99" y="1928"/>
                    </a:lnTo>
                    <a:lnTo>
                      <a:pt x="50" y="1924"/>
                    </a:lnTo>
                    <a:lnTo>
                      <a:pt x="2" y="1918"/>
                    </a:lnTo>
                    <a:lnTo>
                      <a:pt x="0" y="1916"/>
                    </a:lnTo>
                    <a:lnTo>
                      <a:pt x="0" y="1918"/>
                    </a:lnTo>
                    <a:lnTo>
                      <a:pt x="2" y="1920"/>
                    </a:lnTo>
                    <a:lnTo>
                      <a:pt x="2" y="1922"/>
                    </a:lnTo>
                    <a:lnTo>
                      <a:pt x="2" y="1922"/>
                    </a:lnTo>
                    <a:lnTo>
                      <a:pt x="2" y="1924"/>
                    </a:lnTo>
                    <a:lnTo>
                      <a:pt x="3" y="1926"/>
                    </a:lnTo>
                    <a:lnTo>
                      <a:pt x="3" y="1926"/>
                    </a:lnTo>
                    <a:lnTo>
                      <a:pt x="3" y="1928"/>
                    </a:lnTo>
                    <a:close/>
                  </a:path>
                </a:pathLst>
              </a:custGeom>
              <a:solidFill>
                <a:srgbClr val="43b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Freeform 77"/>
              <p:cNvSpPr/>
              <p:nvPr/>
            </p:nvSpPr>
            <p:spPr>
              <a:xfrm>
                <a:off x="2034000" y="1550160"/>
                <a:ext cx="690120" cy="3247920"/>
              </a:xfrm>
              <a:custGeom>
                <a:avLst/>
                <a:gdLst>
                  <a:gd name="textAreaLeft" fmla="*/ 0 w 690120"/>
                  <a:gd name="textAreaRight" fmla="*/ 690120 w 690120"/>
                  <a:gd name="textAreaTop" fmla="*/ 0 h 3247920"/>
                  <a:gd name="textAreaBottom" fmla="*/ 3248280 h 3247920"/>
                </a:gdLst>
                <a:ahLst/>
                <a:rect l="textAreaLeft" t="textAreaTop" r="textAreaRight" b="textAreaBottom"/>
                <a:pathLst>
                  <a:path w="410" h="1929">
                    <a:moveTo>
                      <a:pt x="410" y="35"/>
                    </a:moveTo>
                    <a:lnTo>
                      <a:pt x="391" y="29"/>
                    </a:lnTo>
                    <a:lnTo>
                      <a:pt x="345" y="18"/>
                    </a:lnTo>
                    <a:lnTo>
                      <a:pt x="297" y="10"/>
                    </a:lnTo>
                    <a:lnTo>
                      <a:pt x="249" y="4"/>
                    </a:lnTo>
                    <a:lnTo>
                      <a:pt x="199" y="0"/>
                    </a:lnTo>
                    <a:lnTo>
                      <a:pt x="199" y="0"/>
                    </a:lnTo>
                    <a:lnTo>
                      <a:pt x="197" y="2"/>
                    </a:lnTo>
                    <a:lnTo>
                      <a:pt x="197" y="2"/>
                    </a:lnTo>
                    <a:lnTo>
                      <a:pt x="195" y="4"/>
                    </a:lnTo>
                    <a:lnTo>
                      <a:pt x="195" y="6"/>
                    </a:lnTo>
                    <a:lnTo>
                      <a:pt x="194" y="6"/>
                    </a:lnTo>
                    <a:lnTo>
                      <a:pt x="194" y="8"/>
                    </a:lnTo>
                    <a:lnTo>
                      <a:pt x="194" y="8"/>
                    </a:lnTo>
                    <a:lnTo>
                      <a:pt x="192" y="10"/>
                    </a:lnTo>
                    <a:lnTo>
                      <a:pt x="199" y="10"/>
                    </a:lnTo>
                    <a:lnTo>
                      <a:pt x="247" y="14"/>
                    </a:lnTo>
                    <a:lnTo>
                      <a:pt x="295" y="20"/>
                    </a:lnTo>
                    <a:lnTo>
                      <a:pt x="343" y="29"/>
                    </a:lnTo>
                    <a:lnTo>
                      <a:pt x="389" y="39"/>
                    </a:lnTo>
                    <a:lnTo>
                      <a:pt x="409" y="44"/>
                    </a:lnTo>
                    <a:lnTo>
                      <a:pt x="409" y="44"/>
                    </a:lnTo>
                    <a:lnTo>
                      <a:pt x="409" y="43"/>
                    </a:lnTo>
                    <a:lnTo>
                      <a:pt x="409" y="41"/>
                    </a:lnTo>
                    <a:lnTo>
                      <a:pt x="409" y="41"/>
                    </a:lnTo>
                    <a:lnTo>
                      <a:pt x="409" y="39"/>
                    </a:lnTo>
                    <a:lnTo>
                      <a:pt x="410" y="37"/>
                    </a:lnTo>
                    <a:lnTo>
                      <a:pt x="410" y="37"/>
                    </a:lnTo>
                    <a:lnTo>
                      <a:pt x="410" y="35"/>
                    </a:lnTo>
                    <a:close/>
                    <a:moveTo>
                      <a:pt x="4" y="1917"/>
                    </a:moveTo>
                    <a:lnTo>
                      <a:pt x="52" y="1923"/>
                    </a:lnTo>
                    <a:lnTo>
                      <a:pt x="100" y="1927"/>
                    </a:lnTo>
                    <a:lnTo>
                      <a:pt x="149" y="1929"/>
                    </a:lnTo>
                    <a:lnTo>
                      <a:pt x="199" y="1927"/>
                    </a:lnTo>
                    <a:lnTo>
                      <a:pt x="249" y="1923"/>
                    </a:lnTo>
                    <a:lnTo>
                      <a:pt x="297" y="1917"/>
                    </a:lnTo>
                    <a:lnTo>
                      <a:pt x="345" y="1909"/>
                    </a:lnTo>
                    <a:lnTo>
                      <a:pt x="380" y="1902"/>
                    </a:lnTo>
                    <a:lnTo>
                      <a:pt x="380" y="1900"/>
                    </a:lnTo>
                    <a:lnTo>
                      <a:pt x="380" y="1898"/>
                    </a:lnTo>
                    <a:lnTo>
                      <a:pt x="380" y="1898"/>
                    </a:lnTo>
                    <a:lnTo>
                      <a:pt x="380" y="1896"/>
                    </a:lnTo>
                    <a:lnTo>
                      <a:pt x="380" y="1894"/>
                    </a:lnTo>
                    <a:lnTo>
                      <a:pt x="378" y="1894"/>
                    </a:lnTo>
                    <a:lnTo>
                      <a:pt x="378" y="1892"/>
                    </a:lnTo>
                    <a:lnTo>
                      <a:pt x="378" y="1890"/>
                    </a:lnTo>
                    <a:lnTo>
                      <a:pt x="343" y="1900"/>
                    </a:lnTo>
                    <a:lnTo>
                      <a:pt x="295" y="1908"/>
                    </a:lnTo>
                    <a:lnTo>
                      <a:pt x="247" y="1913"/>
                    </a:lnTo>
                    <a:lnTo>
                      <a:pt x="199" y="1917"/>
                    </a:lnTo>
                    <a:lnTo>
                      <a:pt x="149" y="1919"/>
                    </a:lnTo>
                    <a:lnTo>
                      <a:pt x="101" y="1917"/>
                    </a:lnTo>
                    <a:lnTo>
                      <a:pt x="52" y="1913"/>
                    </a:lnTo>
                    <a:lnTo>
                      <a:pt x="5" y="1908"/>
                    </a:lnTo>
                    <a:lnTo>
                      <a:pt x="0" y="1908"/>
                    </a:lnTo>
                    <a:lnTo>
                      <a:pt x="0" y="1908"/>
                    </a:lnTo>
                    <a:lnTo>
                      <a:pt x="2" y="1909"/>
                    </a:lnTo>
                    <a:lnTo>
                      <a:pt x="2" y="1911"/>
                    </a:lnTo>
                    <a:lnTo>
                      <a:pt x="2" y="1911"/>
                    </a:lnTo>
                    <a:lnTo>
                      <a:pt x="2" y="1913"/>
                    </a:lnTo>
                    <a:lnTo>
                      <a:pt x="4" y="1915"/>
                    </a:lnTo>
                    <a:lnTo>
                      <a:pt x="4" y="1917"/>
                    </a:lnTo>
                    <a:lnTo>
                      <a:pt x="4" y="1917"/>
                    </a:lnTo>
                    <a:close/>
                  </a:path>
                </a:pathLst>
              </a:custGeom>
              <a:solidFill>
                <a:srgbClr val="44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Freeform 78"/>
              <p:cNvSpPr/>
              <p:nvPr/>
            </p:nvSpPr>
            <p:spPr>
              <a:xfrm>
                <a:off x="2030760" y="1560240"/>
                <a:ext cx="691560" cy="3228120"/>
              </a:xfrm>
              <a:custGeom>
                <a:avLst/>
                <a:gdLst>
                  <a:gd name="textAreaLeft" fmla="*/ 0 w 691560"/>
                  <a:gd name="textAreaRight" fmla="*/ 691920 w 691560"/>
                  <a:gd name="textAreaTop" fmla="*/ 0 h 3228120"/>
                  <a:gd name="textAreaBottom" fmla="*/ 3228480 h 3228120"/>
                </a:gdLst>
                <a:ahLst/>
                <a:rect l="textAreaLeft" t="textAreaTop" r="textAreaRight" b="textAreaBottom"/>
                <a:pathLst>
                  <a:path w="411" h="1917">
                    <a:moveTo>
                      <a:pt x="411" y="35"/>
                    </a:moveTo>
                    <a:lnTo>
                      <a:pt x="391" y="29"/>
                    </a:lnTo>
                    <a:lnTo>
                      <a:pt x="345" y="17"/>
                    </a:lnTo>
                    <a:lnTo>
                      <a:pt x="297" y="10"/>
                    </a:lnTo>
                    <a:lnTo>
                      <a:pt x="249" y="2"/>
                    </a:lnTo>
                    <a:lnTo>
                      <a:pt x="201" y="0"/>
                    </a:lnTo>
                    <a:lnTo>
                      <a:pt x="197" y="0"/>
                    </a:lnTo>
                    <a:lnTo>
                      <a:pt x="196" y="0"/>
                    </a:lnTo>
                    <a:lnTo>
                      <a:pt x="196" y="2"/>
                    </a:lnTo>
                    <a:lnTo>
                      <a:pt x="196" y="2"/>
                    </a:lnTo>
                    <a:lnTo>
                      <a:pt x="194" y="4"/>
                    </a:lnTo>
                    <a:lnTo>
                      <a:pt x="194" y="6"/>
                    </a:lnTo>
                    <a:lnTo>
                      <a:pt x="192" y="6"/>
                    </a:lnTo>
                    <a:lnTo>
                      <a:pt x="192" y="8"/>
                    </a:lnTo>
                    <a:lnTo>
                      <a:pt x="192" y="10"/>
                    </a:lnTo>
                    <a:lnTo>
                      <a:pt x="201" y="10"/>
                    </a:lnTo>
                    <a:lnTo>
                      <a:pt x="249" y="14"/>
                    </a:lnTo>
                    <a:lnTo>
                      <a:pt x="297" y="19"/>
                    </a:lnTo>
                    <a:lnTo>
                      <a:pt x="343" y="27"/>
                    </a:lnTo>
                    <a:lnTo>
                      <a:pt x="389" y="38"/>
                    </a:lnTo>
                    <a:lnTo>
                      <a:pt x="409" y="44"/>
                    </a:lnTo>
                    <a:lnTo>
                      <a:pt x="409" y="44"/>
                    </a:lnTo>
                    <a:lnTo>
                      <a:pt x="409" y="42"/>
                    </a:lnTo>
                    <a:lnTo>
                      <a:pt x="409" y="42"/>
                    </a:lnTo>
                    <a:lnTo>
                      <a:pt x="409" y="42"/>
                    </a:lnTo>
                    <a:lnTo>
                      <a:pt x="409" y="42"/>
                    </a:lnTo>
                    <a:lnTo>
                      <a:pt x="409" y="42"/>
                    </a:lnTo>
                    <a:lnTo>
                      <a:pt x="411" y="42"/>
                    </a:lnTo>
                    <a:lnTo>
                      <a:pt x="411" y="42"/>
                    </a:lnTo>
                    <a:lnTo>
                      <a:pt x="411" y="40"/>
                    </a:lnTo>
                    <a:lnTo>
                      <a:pt x="411" y="40"/>
                    </a:lnTo>
                    <a:lnTo>
                      <a:pt x="411" y="38"/>
                    </a:lnTo>
                    <a:lnTo>
                      <a:pt x="411" y="38"/>
                    </a:lnTo>
                    <a:lnTo>
                      <a:pt x="411" y="37"/>
                    </a:lnTo>
                    <a:lnTo>
                      <a:pt x="411" y="37"/>
                    </a:lnTo>
                    <a:lnTo>
                      <a:pt x="411" y="35"/>
                    </a:lnTo>
                    <a:lnTo>
                      <a:pt x="411" y="35"/>
                    </a:lnTo>
                    <a:close/>
                    <a:moveTo>
                      <a:pt x="4" y="1905"/>
                    </a:moveTo>
                    <a:lnTo>
                      <a:pt x="6" y="1907"/>
                    </a:lnTo>
                    <a:lnTo>
                      <a:pt x="54" y="1913"/>
                    </a:lnTo>
                    <a:lnTo>
                      <a:pt x="103" y="1917"/>
                    </a:lnTo>
                    <a:lnTo>
                      <a:pt x="151" y="1917"/>
                    </a:lnTo>
                    <a:lnTo>
                      <a:pt x="201" y="1917"/>
                    </a:lnTo>
                    <a:lnTo>
                      <a:pt x="249" y="1913"/>
                    </a:lnTo>
                    <a:lnTo>
                      <a:pt x="297" y="1907"/>
                    </a:lnTo>
                    <a:lnTo>
                      <a:pt x="345" y="1898"/>
                    </a:lnTo>
                    <a:lnTo>
                      <a:pt x="382" y="1890"/>
                    </a:lnTo>
                    <a:lnTo>
                      <a:pt x="382" y="1888"/>
                    </a:lnTo>
                    <a:lnTo>
                      <a:pt x="380" y="1888"/>
                    </a:lnTo>
                    <a:lnTo>
                      <a:pt x="380" y="1886"/>
                    </a:lnTo>
                    <a:lnTo>
                      <a:pt x="380" y="1884"/>
                    </a:lnTo>
                    <a:lnTo>
                      <a:pt x="380" y="1884"/>
                    </a:lnTo>
                    <a:lnTo>
                      <a:pt x="380" y="1882"/>
                    </a:lnTo>
                    <a:lnTo>
                      <a:pt x="380" y="1880"/>
                    </a:lnTo>
                    <a:lnTo>
                      <a:pt x="380" y="1880"/>
                    </a:lnTo>
                    <a:lnTo>
                      <a:pt x="343" y="1888"/>
                    </a:lnTo>
                    <a:lnTo>
                      <a:pt x="297" y="1896"/>
                    </a:lnTo>
                    <a:lnTo>
                      <a:pt x="249" y="1902"/>
                    </a:lnTo>
                    <a:lnTo>
                      <a:pt x="201" y="1905"/>
                    </a:lnTo>
                    <a:lnTo>
                      <a:pt x="151" y="1907"/>
                    </a:lnTo>
                    <a:lnTo>
                      <a:pt x="103" y="1905"/>
                    </a:lnTo>
                    <a:lnTo>
                      <a:pt x="55" y="1902"/>
                    </a:lnTo>
                    <a:lnTo>
                      <a:pt x="7" y="1896"/>
                    </a:lnTo>
                    <a:lnTo>
                      <a:pt x="0" y="1896"/>
                    </a:lnTo>
                    <a:lnTo>
                      <a:pt x="2" y="1896"/>
                    </a:lnTo>
                    <a:lnTo>
                      <a:pt x="2" y="1898"/>
                    </a:lnTo>
                    <a:lnTo>
                      <a:pt x="2" y="1900"/>
                    </a:lnTo>
                    <a:lnTo>
                      <a:pt x="2" y="1902"/>
                    </a:lnTo>
                    <a:lnTo>
                      <a:pt x="2" y="1902"/>
                    </a:lnTo>
                    <a:lnTo>
                      <a:pt x="4" y="1903"/>
                    </a:lnTo>
                    <a:lnTo>
                      <a:pt x="4" y="1905"/>
                    </a:lnTo>
                    <a:lnTo>
                      <a:pt x="4" y="1905"/>
                    </a:lnTo>
                    <a:close/>
                  </a:path>
                </a:pathLst>
              </a:custGeom>
              <a:solidFill>
                <a:srgbClr val="45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Freeform 79"/>
              <p:cNvSpPr/>
              <p:nvPr/>
            </p:nvSpPr>
            <p:spPr>
              <a:xfrm>
                <a:off x="2027160" y="1567080"/>
                <a:ext cx="695160" cy="3214080"/>
              </a:xfrm>
              <a:custGeom>
                <a:avLst/>
                <a:gdLst>
                  <a:gd name="textAreaLeft" fmla="*/ 0 w 695160"/>
                  <a:gd name="textAreaRight" fmla="*/ 695520 w 695160"/>
                  <a:gd name="textAreaTop" fmla="*/ 0 h 3214080"/>
                  <a:gd name="textAreaBottom" fmla="*/ 3214440 h 3214080"/>
                </a:gdLst>
                <a:ahLst/>
                <a:rect l="textAreaLeft" t="textAreaTop" r="textAreaRight" b="textAreaBottom"/>
                <a:pathLst>
                  <a:path w="413" h="1909">
                    <a:moveTo>
                      <a:pt x="413" y="34"/>
                    </a:moveTo>
                    <a:lnTo>
                      <a:pt x="393" y="29"/>
                    </a:lnTo>
                    <a:lnTo>
                      <a:pt x="347" y="19"/>
                    </a:lnTo>
                    <a:lnTo>
                      <a:pt x="299" y="10"/>
                    </a:lnTo>
                    <a:lnTo>
                      <a:pt x="251" y="4"/>
                    </a:lnTo>
                    <a:lnTo>
                      <a:pt x="203" y="0"/>
                    </a:lnTo>
                    <a:lnTo>
                      <a:pt x="196" y="0"/>
                    </a:lnTo>
                    <a:lnTo>
                      <a:pt x="196" y="2"/>
                    </a:lnTo>
                    <a:lnTo>
                      <a:pt x="194" y="2"/>
                    </a:lnTo>
                    <a:lnTo>
                      <a:pt x="194" y="4"/>
                    </a:lnTo>
                    <a:lnTo>
                      <a:pt x="194" y="6"/>
                    </a:lnTo>
                    <a:lnTo>
                      <a:pt x="192" y="6"/>
                    </a:lnTo>
                    <a:lnTo>
                      <a:pt x="192" y="8"/>
                    </a:lnTo>
                    <a:lnTo>
                      <a:pt x="190" y="10"/>
                    </a:lnTo>
                    <a:lnTo>
                      <a:pt x="190" y="10"/>
                    </a:lnTo>
                    <a:lnTo>
                      <a:pt x="203" y="11"/>
                    </a:lnTo>
                    <a:lnTo>
                      <a:pt x="251" y="13"/>
                    </a:lnTo>
                    <a:lnTo>
                      <a:pt x="297" y="21"/>
                    </a:lnTo>
                    <a:lnTo>
                      <a:pt x="343" y="29"/>
                    </a:lnTo>
                    <a:lnTo>
                      <a:pt x="389" y="38"/>
                    </a:lnTo>
                    <a:lnTo>
                      <a:pt x="409" y="44"/>
                    </a:lnTo>
                    <a:lnTo>
                      <a:pt x="409" y="44"/>
                    </a:lnTo>
                    <a:lnTo>
                      <a:pt x="409" y="42"/>
                    </a:lnTo>
                    <a:lnTo>
                      <a:pt x="409" y="42"/>
                    </a:lnTo>
                    <a:lnTo>
                      <a:pt x="411" y="40"/>
                    </a:lnTo>
                    <a:lnTo>
                      <a:pt x="411" y="40"/>
                    </a:lnTo>
                    <a:lnTo>
                      <a:pt x="411" y="38"/>
                    </a:lnTo>
                    <a:lnTo>
                      <a:pt x="411" y="38"/>
                    </a:lnTo>
                    <a:lnTo>
                      <a:pt x="413" y="38"/>
                    </a:lnTo>
                    <a:lnTo>
                      <a:pt x="413" y="36"/>
                    </a:lnTo>
                    <a:lnTo>
                      <a:pt x="413" y="36"/>
                    </a:lnTo>
                    <a:lnTo>
                      <a:pt x="413" y="36"/>
                    </a:lnTo>
                    <a:lnTo>
                      <a:pt x="413" y="36"/>
                    </a:lnTo>
                    <a:lnTo>
                      <a:pt x="413" y="36"/>
                    </a:lnTo>
                    <a:lnTo>
                      <a:pt x="413" y="36"/>
                    </a:lnTo>
                    <a:lnTo>
                      <a:pt x="413" y="34"/>
                    </a:lnTo>
                    <a:lnTo>
                      <a:pt x="413" y="34"/>
                    </a:lnTo>
                    <a:close/>
                    <a:moveTo>
                      <a:pt x="4" y="1898"/>
                    </a:moveTo>
                    <a:lnTo>
                      <a:pt x="9" y="1898"/>
                    </a:lnTo>
                    <a:lnTo>
                      <a:pt x="56" y="1903"/>
                    </a:lnTo>
                    <a:lnTo>
                      <a:pt x="105" y="1907"/>
                    </a:lnTo>
                    <a:lnTo>
                      <a:pt x="153" y="1909"/>
                    </a:lnTo>
                    <a:lnTo>
                      <a:pt x="203" y="1907"/>
                    </a:lnTo>
                    <a:lnTo>
                      <a:pt x="251" y="1903"/>
                    </a:lnTo>
                    <a:lnTo>
                      <a:pt x="299" y="1898"/>
                    </a:lnTo>
                    <a:lnTo>
                      <a:pt x="347" y="1890"/>
                    </a:lnTo>
                    <a:lnTo>
                      <a:pt x="382" y="1880"/>
                    </a:lnTo>
                    <a:lnTo>
                      <a:pt x="382" y="1880"/>
                    </a:lnTo>
                    <a:lnTo>
                      <a:pt x="382" y="1878"/>
                    </a:lnTo>
                    <a:lnTo>
                      <a:pt x="382" y="1876"/>
                    </a:lnTo>
                    <a:lnTo>
                      <a:pt x="382" y="1876"/>
                    </a:lnTo>
                    <a:lnTo>
                      <a:pt x="382" y="1874"/>
                    </a:lnTo>
                    <a:lnTo>
                      <a:pt x="382" y="1873"/>
                    </a:lnTo>
                    <a:lnTo>
                      <a:pt x="380" y="1873"/>
                    </a:lnTo>
                    <a:lnTo>
                      <a:pt x="380" y="1871"/>
                    </a:lnTo>
                    <a:lnTo>
                      <a:pt x="343" y="1878"/>
                    </a:lnTo>
                    <a:lnTo>
                      <a:pt x="297" y="1888"/>
                    </a:lnTo>
                    <a:lnTo>
                      <a:pt x="251" y="1894"/>
                    </a:lnTo>
                    <a:lnTo>
                      <a:pt x="203" y="1898"/>
                    </a:lnTo>
                    <a:lnTo>
                      <a:pt x="153" y="1898"/>
                    </a:lnTo>
                    <a:lnTo>
                      <a:pt x="105" y="1898"/>
                    </a:lnTo>
                    <a:lnTo>
                      <a:pt x="57" y="1894"/>
                    </a:lnTo>
                    <a:lnTo>
                      <a:pt x="9" y="1888"/>
                    </a:lnTo>
                    <a:lnTo>
                      <a:pt x="0" y="1886"/>
                    </a:lnTo>
                    <a:lnTo>
                      <a:pt x="2" y="1888"/>
                    </a:lnTo>
                    <a:lnTo>
                      <a:pt x="2" y="1888"/>
                    </a:lnTo>
                    <a:lnTo>
                      <a:pt x="2" y="1890"/>
                    </a:lnTo>
                    <a:lnTo>
                      <a:pt x="2" y="1892"/>
                    </a:lnTo>
                    <a:lnTo>
                      <a:pt x="4" y="1892"/>
                    </a:lnTo>
                    <a:lnTo>
                      <a:pt x="4" y="1894"/>
                    </a:lnTo>
                    <a:lnTo>
                      <a:pt x="4" y="1896"/>
                    </a:lnTo>
                    <a:lnTo>
                      <a:pt x="4" y="1898"/>
                    </a:lnTo>
                    <a:close/>
                  </a:path>
                </a:pathLst>
              </a:custGeom>
              <a:solidFill>
                <a:srgbClr val="46b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Freeform 80"/>
              <p:cNvSpPr/>
              <p:nvPr/>
            </p:nvSpPr>
            <p:spPr>
              <a:xfrm>
                <a:off x="2027160" y="1577160"/>
                <a:ext cx="691560" cy="3194280"/>
              </a:xfrm>
              <a:custGeom>
                <a:avLst/>
                <a:gdLst>
                  <a:gd name="textAreaLeft" fmla="*/ 0 w 691560"/>
                  <a:gd name="textAreaRight" fmla="*/ 691920 w 691560"/>
                  <a:gd name="textAreaTop" fmla="*/ 0 h 3194280"/>
                  <a:gd name="textAreaBottom" fmla="*/ 3194640 h 3194280"/>
                </a:gdLst>
                <a:ahLst/>
                <a:rect l="textAreaLeft" t="textAreaTop" r="textAreaRight" b="textAreaBottom"/>
                <a:pathLst>
                  <a:path w="411" h="1897">
                    <a:moveTo>
                      <a:pt x="411" y="34"/>
                    </a:moveTo>
                    <a:lnTo>
                      <a:pt x="391" y="28"/>
                    </a:lnTo>
                    <a:lnTo>
                      <a:pt x="345" y="17"/>
                    </a:lnTo>
                    <a:lnTo>
                      <a:pt x="299" y="9"/>
                    </a:lnTo>
                    <a:lnTo>
                      <a:pt x="251" y="4"/>
                    </a:lnTo>
                    <a:lnTo>
                      <a:pt x="203" y="0"/>
                    </a:lnTo>
                    <a:lnTo>
                      <a:pt x="194" y="0"/>
                    </a:lnTo>
                    <a:lnTo>
                      <a:pt x="192" y="0"/>
                    </a:lnTo>
                    <a:lnTo>
                      <a:pt x="192" y="2"/>
                    </a:lnTo>
                    <a:lnTo>
                      <a:pt x="190" y="4"/>
                    </a:lnTo>
                    <a:lnTo>
                      <a:pt x="190" y="4"/>
                    </a:lnTo>
                    <a:lnTo>
                      <a:pt x="190" y="5"/>
                    </a:lnTo>
                    <a:lnTo>
                      <a:pt x="188" y="7"/>
                    </a:lnTo>
                    <a:lnTo>
                      <a:pt x="188" y="7"/>
                    </a:lnTo>
                    <a:lnTo>
                      <a:pt x="186" y="9"/>
                    </a:lnTo>
                    <a:lnTo>
                      <a:pt x="203" y="9"/>
                    </a:lnTo>
                    <a:lnTo>
                      <a:pt x="249" y="13"/>
                    </a:lnTo>
                    <a:lnTo>
                      <a:pt x="297" y="19"/>
                    </a:lnTo>
                    <a:lnTo>
                      <a:pt x="343" y="28"/>
                    </a:lnTo>
                    <a:lnTo>
                      <a:pt x="389" y="38"/>
                    </a:lnTo>
                    <a:lnTo>
                      <a:pt x="405" y="42"/>
                    </a:lnTo>
                    <a:lnTo>
                      <a:pt x="405" y="42"/>
                    </a:lnTo>
                    <a:lnTo>
                      <a:pt x="407" y="40"/>
                    </a:lnTo>
                    <a:lnTo>
                      <a:pt x="407" y="40"/>
                    </a:lnTo>
                    <a:lnTo>
                      <a:pt x="409" y="38"/>
                    </a:lnTo>
                    <a:lnTo>
                      <a:pt x="409" y="36"/>
                    </a:lnTo>
                    <a:lnTo>
                      <a:pt x="409" y="36"/>
                    </a:lnTo>
                    <a:lnTo>
                      <a:pt x="411" y="34"/>
                    </a:lnTo>
                    <a:lnTo>
                      <a:pt x="411" y="34"/>
                    </a:lnTo>
                    <a:close/>
                    <a:moveTo>
                      <a:pt x="2" y="1886"/>
                    </a:moveTo>
                    <a:lnTo>
                      <a:pt x="9" y="1886"/>
                    </a:lnTo>
                    <a:lnTo>
                      <a:pt x="57" y="1892"/>
                    </a:lnTo>
                    <a:lnTo>
                      <a:pt x="105" y="1895"/>
                    </a:lnTo>
                    <a:lnTo>
                      <a:pt x="153" y="1897"/>
                    </a:lnTo>
                    <a:lnTo>
                      <a:pt x="203" y="1895"/>
                    </a:lnTo>
                    <a:lnTo>
                      <a:pt x="251" y="1892"/>
                    </a:lnTo>
                    <a:lnTo>
                      <a:pt x="299" y="1886"/>
                    </a:lnTo>
                    <a:lnTo>
                      <a:pt x="345" y="1878"/>
                    </a:lnTo>
                    <a:lnTo>
                      <a:pt x="382" y="1870"/>
                    </a:lnTo>
                    <a:lnTo>
                      <a:pt x="382" y="1868"/>
                    </a:lnTo>
                    <a:lnTo>
                      <a:pt x="382" y="1867"/>
                    </a:lnTo>
                    <a:lnTo>
                      <a:pt x="380" y="1867"/>
                    </a:lnTo>
                    <a:lnTo>
                      <a:pt x="380" y="1865"/>
                    </a:lnTo>
                    <a:lnTo>
                      <a:pt x="380" y="1863"/>
                    </a:lnTo>
                    <a:lnTo>
                      <a:pt x="380" y="1863"/>
                    </a:lnTo>
                    <a:lnTo>
                      <a:pt x="380" y="1861"/>
                    </a:lnTo>
                    <a:lnTo>
                      <a:pt x="380" y="1859"/>
                    </a:lnTo>
                    <a:lnTo>
                      <a:pt x="343" y="1868"/>
                    </a:lnTo>
                    <a:lnTo>
                      <a:pt x="297" y="1876"/>
                    </a:lnTo>
                    <a:lnTo>
                      <a:pt x="249" y="1882"/>
                    </a:lnTo>
                    <a:lnTo>
                      <a:pt x="203" y="1886"/>
                    </a:lnTo>
                    <a:lnTo>
                      <a:pt x="153" y="1888"/>
                    </a:lnTo>
                    <a:lnTo>
                      <a:pt x="105" y="1886"/>
                    </a:lnTo>
                    <a:lnTo>
                      <a:pt x="57" y="1882"/>
                    </a:lnTo>
                    <a:lnTo>
                      <a:pt x="11" y="1876"/>
                    </a:lnTo>
                    <a:lnTo>
                      <a:pt x="0" y="1874"/>
                    </a:lnTo>
                    <a:lnTo>
                      <a:pt x="0" y="1876"/>
                    </a:lnTo>
                    <a:lnTo>
                      <a:pt x="0" y="1876"/>
                    </a:lnTo>
                    <a:lnTo>
                      <a:pt x="0" y="1878"/>
                    </a:lnTo>
                    <a:lnTo>
                      <a:pt x="0" y="1880"/>
                    </a:lnTo>
                    <a:lnTo>
                      <a:pt x="2" y="1882"/>
                    </a:lnTo>
                    <a:lnTo>
                      <a:pt x="2" y="1882"/>
                    </a:lnTo>
                    <a:lnTo>
                      <a:pt x="2" y="1884"/>
                    </a:lnTo>
                    <a:lnTo>
                      <a:pt x="2" y="1886"/>
                    </a:lnTo>
                    <a:close/>
                  </a:path>
                </a:pathLst>
              </a:custGeom>
              <a:solidFill>
                <a:srgbClr val="47b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Freeform 81"/>
              <p:cNvSpPr/>
              <p:nvPr/>
            </p:nvSpPr>
            <p:spPr>
              <a:xfrm>
                <a:off x="2023920" y="1584000"/>
                <a:ext cx="692280" cy="3179160"/>
              </a:xfrm>
              <a:custGeom>
                <a:avLst/>
                <a:gdLst>
                  <a:gd name="textAreaLeft" fmla="*/ 0 w 692280"/>
                  <a:gd name="textAreaRight" fmla="*/ 692640 w 692280"/>
                  <a:gd name="textAreaTop" fmla="*/ 0 h 3179160"/>
                  <a:gd name="textAreaBottom" fmla="*/ 3179520 h 3179160"/>
                </a:gdLst>
                <a:ahLst/>
                <a:rect l="textAreaLeft" t="textAreaTop" r="textAreaRight" b="textAreaBottom"/>
                <a:pathLst>
                  <a:path w="411" h="1888">
                    <a:moveTo>
                      <a:pt x="411" y="34"/>
                    </a:moveTo>
                    <a:lnTo>
                      <a:pt x="391" y="28"/>
                    </a:lnTo>
                    <a:lnTo>
                      <a:pt x="345" y="19"/>
                    </a:lnTo>
                    <a:lnTo>
                      <a:pt x="299" y="11"/>
                    </a:lnTo>
                    <a:lnTo>
                      <a:pt x="253" y="3"/>
                    </a:lnTo>
                    <a:lnTo>
                      <a:pt x="205" y="1"/>
                    </a:lnTo>
                    <a:lnTo>
                      <a:pt x="192" y="0"/>
                    </a:lnTo>
                    <a:lnTo>
                      <a:pt x="192" y="1"/>
                    </a:lnTo>
                    <a:lnTo>
                      <a:pt x="190" y="3"/>
                    </a:lnTo>
                    <a:lnTo>
                      <a:pt x="190" y="3"/>
                    </a:lnTo>
                    <a:lnTo>
                      <a:pt x="188" y="5"/>
                    </a:lnTo>
                    <a:lnTo>
                      <a:pt x="188" y="7"/>
                    </a:lnTo>
                    <a:lnTo>
                      <a:pt x="188" y="7"/>
                    </a:lnTo>
                    <a:lnTo>
                      <a:pt x="186" y="9"/>
                    </a:lnTo>
                    <a:lnTo>
                      <a:pt x="186" y="11"/>
                    </a:lnTo>
                    <a:lnTo>
                      <a:pt x="203" y="11"/>
                    </a:lnTo>
                    <a:lnTo>
                      <a:pt x="251" y="15"/>
                    </a:lnTo>
                    <a:lnTo>
                      <a:pt x="297" y="21"/>
                    </a:lnTo>
                    <a:lnTo>
                      <a:pt x="344" y="28"/>
                    </a:lnTo>
                    <a:lnTo>
                      <a:pt x="390" y="40"/>
                    </a:lnTo>
                    <a:lnTo>
                      <a:pt x="405" y="44"/>
                    </a:lnTo>
                    <a:lnTo>
                      <a:pt x="405" y="42"/>
                    </a:lnTo>
                    <a:lnTo>
                      <a:pt x="405" y="42"/>
                    </a:lnTo>
                    <a:lnTo>
                      <a:pt x="407" y="40"/>
                    </a:lnTo>
                    <a:lnTo>
                      <a:pt x="407" y="38"/>
                    </a:lnTo>
                    <a:lnTo>
                      <a:pt x="407" y="38"/>
                    </a:lnTo>
                    <a:lnTo>
                      <a:pt x="409" y="36"/>
                    </a:lnTo>
                    <a:lnTo>
                      <a:pt x="409" y="36"/>
                    </a:lnTo>
                    <a:lnTo>
                      <a:pt x="411" y="34"/>
                    </a:lnTo>
                    <a:close/>
                    <a:moveTo>
                      <a:pt x="2" y="1876"/>
                    </a:moveTo>
                    <a:lnTo>
                      <a:pt x="11" y="1878"/>
                    </a:lnTo>
                    <a:lnTo>
                      <a:pt x="59" y="1884"/>
                    </a:lnTo>
                    <a:lnTo>
                      <a:pt x="107" y="1888"/>
                    </a:lnTo>
                    <a:lnTo>
                      <a:pt x="155" y="1888"/>
                    </a:lnTo>
                    <a:lnTo>
                      <a:pt x="205" y="1888"/>
                    </a:lnTo>
                    <a:lnTo>
                      <a:pt x="253" y="1884"/>
                    </a:lnTo>
                    <a:lnTo>
                      <a:pt x="299" y="1878"/>
                    </a:lnTo>
                    <a:lnTo>
                      <a:pt x="345" y="1868"/>
                    </a:lnTo>
                    <a:lnTo>
                      <a:pt x="382" y="1861"/>
                    </a:lnTo>
                    <a:lnTo>
                      <a:pt x="382" y="1859"/>
                    </a:lnTo>
                    <a:lnTo>
                      <a:pt x="382" y="1859"/>
                    </a:lnTo>
                    <a:lnTo>
                      <a:pt x="382" y="1857"/>
                    </a:lnTo>
                    <a:lnTo>
                      <a:pt x="382" y="1855"/>
                    </a:lnTo>
                    <a:lnTo>
                      <a:pt x="382" y="1855"/>
                    </a:lnTo>
                    <a:lnTo>
                      <a:pt x="382" y="1853"/>
                    </a:lnTo>
                    <a:lnTo>
                      <a:pt x="382" y="1851"/>
                    </a:lnTo>
                    <a:lnTo>
                      <a:pt x="380" y="1851"/>
                    </a:lnTo>
                    <a:lnTo>
                      <a:pt x="344" y="1859"/>
                    </a:lnTo>
                    <a:lnTo>
                      <a:pt x="297" y="1866"/>
                    </a:lnTo>
                    <a:lnTo>
                      <a:pt x="251" y="1872"/>
                    </a:lnTo>
                    <a:lnTo>
                      <a:pt x="203" y="1876"/>
                    </a:lnTo>
                    <a:lnTo>
                      <a:pt x="155" y="1878"/>
                    </a:lnTo>
                    <a:lnTo>
                      <a:pt x="107" y="1876"/>
                    </a:lnTo>
                    <a:lnTo>
                      <a:pt x="61" y="1872"/>
                    </a:lnTo>
                    <a:lnTo>
                      <a:pt x="13" y="1866"/>
                    </a:lnTo>
                    <a:lnTo>
                      <a:pt x="0" y="1864"/>
                    </a:lnTo>
                    <a:lnTo>
                      <a:pt x="0" y="1866"/>
                    </a:lnTo>
                    <a:lnTo>
                      <a:pt x="0" y="1866"/>
                    </a:lnTo>
                    <a:lnTo>
                      <a:pt x="0" y="1868"/>
                    </a:lnTo>
                    <a:lnTo>
                      <a:pt x="2" y="1870"/>
                    </a:lnTo>
                    <a:lnTo>
                      <a:pt x="2" y="1872"/>
                    </a:lnTo>
                    <a:lnTo>
                      <a:pt x="2" y="1872"/>
                    </a:lnTo>
                    <a:lnTo>
                      <a:pt x="2" y="1874"/>
                    </a:lnTo>
                    <a:lnTo>
                      <a:pt x="2" y="1876"/>
                    </a:lnTo>
                    <a:close/>
                  </a:path>
                </a:pathLst>
              </a:custGeom>
              <a:solidFill>
                <a:srgbClr val="48b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Freeform 82"/>
              <p:cNvSpPr/>
              <p:nvPr/>
            </p:nvSpPr>
            <p:spPr>
              <a:xfrm>
                <a:off x="2020320" y="1592280"/>
                <a:ext cx="688680" cy="3163680"/>
              </a:xfrm>
              <a:custGeom>
                <a:avLst/>
                <a:gdLst>
                  <a:gd name="textAreaLeft" fmla="*/ 0 w 688680"/>
                  <a:gd name="textAreaRight" fmla="*/ 689040 w 688680"/>
                  <a:gd name="textAreaTop" fmla="*/ 0 h 3163680"/>
                  <a:gd name="textAreaBottom" fmla="*/ 3164040 h 3163680"/>
                </a:gdLst>
                <a:ahLst/>
                <a:rect l="textAreaLeft" t="textAreaTop" r="textAreaRight" b="textAreaBottom"/>
                <a:pathLst>
                  <a:path w="409" h="1879">
                    <a:moveTo>
                      <a:pt x="409" y="33"/>
                    </a:moveTo>
                    <a:lnTo>
                      <a:pt x="393" y="29"/>
                    </a:lnTo>
                    <a:lnTo>
                      <a:pt x="347" y="19"/>
                    </a:lnTo>
                    <a:lnTo>
                      <a:pt x="301" y="10"/>
                    </a:lnTo>
                    <a:lnTo>
                      <a:pt x="253" y="4"/>
                    </a:lnTo>
                    <a:lnTo>
                      <a:pt x="207" y="0"/>
                    </a:lnTo>
                    <a:lnTo>
                      <a:pt x="190" y="0"/>
                    </a:lnTo>
                    <a:lnTo>
                      <a:pt x="190" y="2"/>
                    </a:lnTo>
                    <a:lnTo>
                      <a:pt x="190" y="2"/>
                    </a:lnTo>
                    <a:lnTo>
                      <a:pt x="188" y="4"/>
                    </a:lnTo>
                    <a:lnTo>
                      <a:pt x="188" y="6"/>
                    </a:lnTo>
                    <a:lnTo>
                      <a:pt x="186" y="6"/>
                    </a:lnTo>
                    <a:lnTo>
                      <a:pt x="186" y="8"/>
                    </a:lnTo>
                    <a:lnTo>
                      <a:pt x="186" y="10"/>
                    </a:lnTo>
                    <a:lnTo>
                      <a:pt x="184" y="10"/>
                    </a:lnTo>
                    <a:lnTo>
                      <a:pt x="205" y="12"/>
                    </a:lnTo>
                    <a:lnTo>
                      <a:pt x="253" y="14"/>
                    </a:lnTo>
                    <a:lnTo>
                      <a:pt x="299" y="21"/>
                    </a:lnTo>
                    <a:lnTo>
                      <a:pt x="346" y="29"/>
                    </a:lnTo>
                    <a:lnTo>
                      <a:pt x="390" y="39"/>
                    </a:lnTo>
                    <a:lnTo>
                      <a:pt x="403" y="42"/>
                    </a:lnTo>
                    <a:lnTo>
                      <a:pt x="405" y="42"/>
                    </a:lnTo>
                    <a:lnTo>
                      <a:pt x="405" y="41"/>
                    </a:lnTo>
                    <a:lnTo>
                      <a:pt x="405" y="39"/>
                    </a:lnTo>
                    <a:lnTo>
                      <a:pt x="407" y="39"/>
                    </a:lnTo>
                    <a:lnTo>
                      <a:pt x="407" y="37"/>
                    </a:lnTo>
                    <a:lnTo>
                      <a:pt x="407" y="37"/>
                    </a:lnTo>
                    <a:lnTo>
                      <a:pt x="409" y="35"/>
                    </a:lnTo>
                    <a:lnTo>
                      <a:pt x="409" y="33"/>
                    </a:lnTo>
                    <a:close/>
                    <a:moveTo>
                      <a:pt x="4" y="1865"/>
                    </a:moveTo>
                    <a:lnTo>
                      <a:pt x="15" y="1867"/>
                    </a:lnTo>
                    <a:lnTo>
                      <a:pt x="61" y="1873"/>
                    </a:lnTo>
                    <a:lnTo>
                      <a:pt x="109" y="1877"/>
                    </a:lnTo>
                    <a:lnTo>
                      <a:pt x="157" y="1879"/>
                    </a:lnTo>
                    <a:lnTo>
                      <a:pt x="207" y="1877"/>
                    </a:lnTo>
                    <a:lnTo>
                      <a:pt x="253" y="1873"/>
                    </a:lnTo>
                    <a:lnTo>
                      <a:pt x="301" y="1867"/>
                    </a:lnTo>
                    <a:lnTo>
                      <a:pt x="347" y="1859"/>
                    </a:lnTo>
                    <a:lnTo>
                      <a:pt x="384" y="1850"/>
                    </a:lnTo>
                    <a:lnTo>
                      <a:pt x="384" y="1850"/>
                    </a:lnTo>
                    <a:lnTo>
                      <a:pt x="384" y="1848"/>
                    </a:lnTo>
                    <a:lnTo>
                      <a:pt x="384" y="1846"/>
                    </a:lnTo>
                    <a:lnTo>
                      <a:pt x="382" y="1846"/>
                    </a:lnTo>
                    <a:lnTo>
                      <a:pt x="382" y="1844"/>
                    </a:lnTo>
                    <a:lnTo>
                      <a:pt x="382" y="1842"/>
                    </a:lnTo>
                    <a:lnTo>
                      <a:pt x="382" y="1842"/>
                    </a:lnTo>
                    <a:lnTo>
                      <a:pt x="382" y="1840"/>
                    </a:lnTo>
                    <a:lnTo>
                      <a:pt x="346" y="1848"/>
                    </a:lnTo>
                    <a:lnTo>
                      <a:pt x="299" y="1858"/>
                    </a:lnTo>
                    <a:lnTo>
                      <a:pt x="253" y="1863"/>
                    </a:lnTo>
                    <a:lnTo>
                      <a:pt x="205" y="1867"/>
                    </a:lnTo>
                    <a:lnTo>
                      <a:pt x="157" y="1867"/>
                    </a:lnTo>
                    <a:lnTo>
                      <a:pt x="109" y="1867"/>
                    </a:lnTo>
                    <a:lnTo>
                      <a:pt x="63" y="1863"/>
                    </a:lnTo>
                    <a:lnTo>
                      <a:pt x="17" y="1858"/>
                    </a:lnTo>
                    <a:lnTo>
                      <a:pt x="0" y="1854"/>
                    </a:lnTo>
                    <a:lnTo>
                      <a:pt x="0" y="1856"/>
                    </a:lnTo>
                    <a:lnTo>
                      <a:pt x="0" y="1858"/>
                    </a:lnTo>
                    <a:lnTo>
                      <a:pt x="0" y="1858"/>
                    </a:lnTo>
                    <a:lnTo>
                      <a:pt x="2" y="1859"/>
                    </a:lnTo>
                    <a:lnTo>
                      <a:pt x="2" y="1861"/>
                    </a:lnTo>
                    <a:lnTo>
                      <a:pt x="2" y="1861"/>
                    </a:lnTo>
                    <a:lnTo>
                      <a:pt x="2" y="1863"/>
                    </a:lnTo>
                    <a:lnTo>
                      <a:pt x="4" y="1865"/>
                    </a:lnTo>
                    <a:close/>
                  </a:path>
                </a:pathLst>
              </a:custGeom>
              <a:solidFill>
                <a:srgbClr val="49b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Freeform 83"/>
              <p:cNvSpPr/>
              <p:nvPr/>
            </p:nvSpPr>
            <p:spPr>
              <a:xfrm>
                <a:off x="2017080" y="1602360"/>
                <a:ext cx="688320" cy="3143520"/>
              </a:xfrm>
              <a:custGeom>
                <a:avLst/>
                <a:gdLst>
                  <a:gd name="textAreaLeft" fmla="*/ 0 w 688320"/>
                  <a:gd name="textAreaRight" fmla="*/ 688680 w 688320"/>
                  <a:gd name="textAreaTop" fmla="*/ 0 h 3143520"/>
                  <a:gd name="textAreaBottom" fmla="*/ 3143880 h 3143520"/>
                </a:gdLst>
                <a:ahLst/>
                <a:rect l="textAreaLeft" t="textAreaTop" r="textAreaRight" b="textAreaBottom"/>
                <a:pathLst>
                  <a:path w="409" h="1867">
                    <a:moveTo>
                      <a:pt x="409" y="33"/>
                    </a:moveTo>
                    <a:lnTo>
                      <a:pt x="394" y="29"/>
                    </a:lnTo>
                    <a:lnTo>
                      <a:pt x="348" y="17"/>
                    </a:lnTo>
                    <a:lnTo>
                      <a:pt x="301" y="10"/>
                    </a:lnTo>
                    <a:lnTo>
                      <a:pt x="255" y="4"/>
                    </a:lnTo>
                    <a:lnTo>
                      <a:pt x="207" y="0"/>
                    </a:lnTo>
                    <a:lnTo>
                      <a:pt x="190" y="0"/>
                    </a:lnTo>
                    <a:lnTo>
                      <a:pt x="188" y="0"/>
                    </a:lnTo>
                    <a:lnTo>
                      <a:pt x="188" y="2"/>
                    </a:lnTo>
                    <a:lnTo>
                      <a:pt x="188" y="4"/>
                    </a:lnTo>
                    <a:lnTo>
                      <a:pt x="186" y="4"/>
                    </a:lnTo>
                    <a:lnTo>
                      <a:pt x="186" y="6"/>
                    </a:lnTo>
                    <a:lnTo>
                      <a:pt x="184" y="8"/>
                    </a:lnTo>
                    <a:lnTo>
                      <a:pt x="184" y="8"/>
                    </a:lnTo>
                    <a:lnTo>
                      <a:pt x="184" y="10"/>
                    </a:lnTo>
                    <a:lnTo>
                      <a:pt x="207" y="10"/>
                    </a:lnTo>
                    <a:lnTo>
                      <a:pt x="255" y="13"/>
                    </a:lnTo>
                    <a:lnTo>
                      <a:pt x="301" y="19"/>
                    </a:lnTo>
                    <a:lnTo>
                      <a:pt x="346" y="27"/>
                    </a:lnTo>
                    <a:lnTo>
                      <a:pt x="392" y="38"/>
                    </a:lnTo>
                    <a:lnTo>
                      <a:pt x="403" y="42"/>
                    </a:lnTo>
                    <a:lnTo>
                      <a:pt x="403" y="40"/>
                    </a:lnTo>
                    <a:lnTo>
                      <a:pt x="405" y="38"/>
                    </a:lnTo>
                    <a:lnTo>
                      <a:pt x="405" y="38"/>
                    </a:lnTo>
                    <a:lnTo>
                      <a:pt x="405" y="36"/>
                    </a:lnTo>
                    <a:lnTo>
                      <a:pt x="407" y="36"/>
                    </a:lnTo>
                    <a:lnTo>
                      <a:pt x="407" y="35"/>
                    </a:lnTo>
                    <a:lnTo>
                      <a:pt x="407" y="33"/>
                    </a:lnTo>
                    <a:lnTo>
                      <a:pt x="409" y="33"/>
                    </a:lnTo>
                    <a:close/>
                    <a:moveTo>
                      <a:pt x="4" y="1853"/>
                    </a:moveTo>
                    <a:lnTo>
                      <a:pt x="17" y="1855"/>
                    </a:lnTo>
                    <a:lnTo>
                      <a:pt x="65" y="1861"/>
                    </a:lnTo>
                    <a:lnTo>
                      <a:pt x="111" y="1865"/>
                    </a:lnTo>
                    <a:lnTo>
                      <a:pt x="159" y="1867"/>
                    </a:lnTo>
                    <a:lnTo>
                      <a:pt x="207" y="1865"/>
                    </a:lnTo>
                    <a:lnTo>
                      <a:pt x="255" y="1861"/>
                    </a:lnTo>
                    <a:lnTo>
                      <a:pt x="301" y="1855"/>
                    </a:lnTo>
                    <a:lnTo>
                      <a:pt x="348" y="1848"/>
                    </a:lnTo>
                    <a:lnTo>
                      <a:pt x="384" y="1840"/>
                    </a:lnTo>
                    <a:lnTo>
                      <a:pt x="384" y="1838"/>
                    </a:lnTo>
                    <a:lnTo>
                      <a:pt x="384" y="1836"/>
                    </a:lnTo>
                    <a:lnTo>
                      <a:pt x="384" y="1836"/>
                    </a:lnTo>
                    <a:lnTo>
                      <a:pt x="384" y="1834"/>
                    </a:lnTo>
                    <a:lnTo>
                      <a:pt x="384" y="1832"/>
                    </a:lnTo>
                    <a:lnTo>
                      <a:pt x="384" y="1832"/>
                    </a:lnTo>
                    <a:lnTo>
                      <a:pt x="384" y="1830"/>
                    </a:lnTo>
                    <a:lnTo>
                      <a:pt x="382" y="1829"/>
                    </a:lnTo>
                    <a:lnTo>
                      <a:pt x="346" y="1838"/>
                    </a:lnTo>
                    <a:lnTo>
                      <a:pt x="301" y="1846"/>
                    </a:lnTo>
                    <a:lnTo>
                      <a:pt x="255" y="1852"/>
                    </a:lnTo>
                    <a:lnTo>
                      <a:pt x="207" y="1855"/>
                    </a:lnTo>
                    <a:lnTo>
                      <a:pt x="159" y="1857"/>
                    </a:lnTo>
                    <a:lnTo>
                      <a:pt x="113" y="1855"/>
                    </a:lnTo>
                    <a:lnTo>
                      <a:pt x="65" y="1852"/>
                    </a:lnTo>
                    <a:lnTo>
                      <a:pt x="19" y="1846"/>
                    </a:lnTo>
                    <a:lnTo>
                      <a:pt x="0" y="1842"/>
                    </a:lnTo>
                    <a:lnTo>
                      <a:pt x="0" y="1844"/>
                    </a:lnTo>
                    <a:lnTo>
                      <a:pt x="0" y="1846"/>
                    </a:lnTo>
                    <a:lnTo>
                      <a:pt x="0" y="1846"/>
                    </a:lnTo>
                    <a:lnTo>
                      <a:pt x="2" y="1848"/>
                    </a:lnTo>
                    <a:lnTo>
                      <a:pt x="2" y="1850"/>
                    </a:lnTo>
                    <a:lnTo>
                      <a:pt x="2" y="1852"/>
                    </a:lnTo>
                    <a:lnTo>
                      <a:pt x="2" y="1852"/>
                    </a:lnTo>
                    <a:lnTo>
                      <a:pt x="4" y="1853"/>
                    </a:lnTo>
                    <a:close/>
                  </a:path>
                </a:pathLst>
              </a:custGeom>
              <a:solidFill>
                <a:srgbClr val="4ab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Freeform 84"/>
              <p:cNvSpPr/>
              <p:nvPr/>
            </p:nvSpPr>
            <p:spPr>
              <a:xfrm>
                <a:off x="2013840" y="1609200"/>
                <a:ext cx="685080" cy="3126960"/>
              </a:xfrm>
              <a:custGeom>
                <a:avLst/>
                <a:gdLst>
                  <a:gd name="textAreaLeft" fmla="*/ 0 w 685080"/>
                  <a:gd name="textAreaRight" fmla="*/ 685080 w 685080"/>
                  <a:gd name="textAreaTop" fmla="*/ 0 h 3126960"/>
                  <a:gd name="textAreaBottom" fmla="*/ 3127320 h 3126960"/>
                </a:gdLst>
                <a:ahLst/>
                <a:rect l="textAreaLeft" t="textAreaTop" r="textAreaRight" b="textAreaBottom"/>
                <a:pathLst>
                  <a:path w="407" h="1857">
                    <a:moveTo>
                      <a:pt x="407" y="32"/>
                    </a:moveTo>
                    <a:lnTo>
                      <a:pt x="394" y="29"/>
                    </a:lnTo>
                    <a:lnTo>
                      <a:pt x="350" y="19"/>
                    </a:lnTo>
                    <a:lnTo>
                      <a:pt x="303" y="11"/>
                    </a:lnTo>
                    <a:lnTo>
                      <a:pt x="257" y="4"/>
                    </a:lnTo>
                    <a:lnTo>
                      <a:pt x="209" y="2"/>
                    </a:lnTo>
                    <a:lnTo>
                      <a:pt x="188" y="0"/>
                    </a:lnTo>
                    <a:lnTo>
                      <a:pt x="188" y="2"/>
                    </a:lnTo>
                    <a:lnTo>
                      <a:pt x="186" y="4"/>
                    </a:lnTo>
                    <a:lnTo>
                      <a:pt x="186" y="4"/>
                    </a:lnTo>
                    <a:lnTo>
                      <a:pt x="186" y="6"/>
                    </a:lnTo>
                    <a:lnTo>
                      <a:pt x="184" y="8"/>
                    </a:lnTo>
                    <a:lnTo>
                      <a:pt x="184" y="8"/>
                    </a:lnTo>
                    <a:lnTo>
                      <a:pt x="184" y="9"/>
                    </a:lnTo>
                    <a:lnTo>
                      <a:pt x="183" y="11"/>
                    </a:lnTo>
                    <a:lnTo>
                      <a:pt x="209" y="11"/>
                    </a:lnTo>
                    <a:lnTo>
                      <a:pt x="255" y="15"/>
                    </a:lnTo>
                    <a:lnTo>
                      <a:pt x="302" y="21"/>
                    </a:lnTo>
                    <a:lnTo>
                      <a:pt x="348" y="29"/>
                    </a:lnTo>
                    <a:lnTo>
                      <a:pt x="392" y="38"/>
                    </a:lnTo>
                    <a:lnTo>
                      <a:pt x="401" y="42"/>
                    </a:lnTo>
                    <a:lnTo>
                      <a:pt x="403" y="40"/>
                    </a:lnTo>
                    <a:lnTo>
                      <a:pt x="403" y="40"/>
                    </a:lnTo>
                    <a:lnTo>
                      <a:pt x="405" y="38"/>
                    </a:lnTo>
                    <a:lnTo>
                      <a:pt x="405" y="38"/>
                    </a:lnTo>
                    <a:lnTo>
                      <a:pt x="405" y="36"/>
                    </a:lnTo>
                    <a:lnTo>
                      <a:pt x="407" y="34"/>
                    </a:lnTo>
                    <a:lnTo>
                      <a:pt x="407" y="34"/>
                    </a:lnTo>
                    <a:lnTo>
                      <a:pt x="407" y="32"/>
                    </a:lnTo>
                    <a:close/>
                    <a:moveTo>
                      <a:pt x="4" y="1844"/>
                    </a:moveTo>
                    <a:lnTo>
                      <a:pt x="21" y="1848"/>
                    </a:lnTo>
                    <a:lnTo>
                      <a:pt x="67" y="1853"/>
                    </a:lnTo>
                    <a:lnTo>
                      <a:pt x="113" y="1857"/>
                    </a:lnTo>
                    <a:lnTo>
                      <a:pt x="161" y="1857"/>
                    </a:lnTo>
                    <a:lnTo>
                      <a:pt x="209" y="1857"/>
                    </a:lnTo>
                    <a:lnTo>
                      <a:pt x="257" y="1853"/>
                    </a:lnTo>
                    <a:lnTo>
                      <a:pt x="303" y="1848"/>
                    </a:lnTo>
                    <a:lnTo>
                      <a:pt x="350" y="1838"/>
                    </a:lnTo>
                    <a:lnTo>
                      <a:pt x="386" y="1830"/>
                    </a:lnTo>
                    <a:lnTo>
                      <a:pt x="386" y="1828"/>
                    </a:lnTo>
                    <a:lnTo>
                      <a:pt x="386" y="1828"/>
                    </a:lnTo>
                    <a:lnTo>
                      <a:pt x="386" y="1826"/>
                    </a:lnTo>
                    <a:lnTo>
                      <a:pt x="384" y="1825"/>
                    </a:lnTo>
                    <a:lnTo>
                      <a:pt x="384" y="1825"/>
                    </a:lnTo>
                    <a:lnTo>
                      <a:pt x="384" y="1823"/>
                    </a:lnTo>
                    <a:lnTo>
                      <a:pt x="384" y="1821"/>
                    </a:lnTo>
                    <a:lnTo>
                      <a:pt x="384" y="1821"/>
                    </a:lnTo>
                    <a:lnTo>
                      <a:pt x="348" y="1828"/>
                    </a:lnTo>
                    <a:lnTo>
                      <a:pt x="302" y="1836"/>
                    </a:lnTo>
                    <a:lnTo>
                      <a:pt x="255" y="1844"/>
                    </a:lnTo>
                    <a:lnTo>
                      <a:pt x="209" y="1846"/>
                    </a:lnTo>
                    <a:lnTo>
                      <a:pt x="161" y="1848"/>
                    </a:lnTo>
                    <a:lnTo>
                      <a:pt x="115" y="1846"/>
                    </a:lnTo>
                    <a:lnTo>
                      <a:pt x="67" y="1844"/>
                    </a:lnTo>
                    <a:lnTo>
                      <a:pt x="21" y="1836"/>
                    </a:lnTo>
                    <a:lnTo>
                      <a:pt x="0" y="1832"/>
                    </a:lnTo>
                    <a:lnTo>
                      <a:pt x="0" y="1834"/>
                    </a:lnTo>
                    <a:lnTo>
                      <a:pt x="0" y="1836"/>
                    </a:lnTo>
                    <a:lnTo>
                      <a:pt x="2" y="1838"/>
                    </a:lnTo>
                    <a:lnTo>
                      <a:pt x="2" y="1838"/>
                    </a:lnTo>
                    <a:lnTo>
                      <a:pt x="2" y="1840"/>
                    </a:lnTo>
                    <a:lnTo>
                      <a:pt x="2" y="1842"/>
                    </a:lnTo>
                    <a:lnTo>
                      <a:pt x="2" y="1842"/>
                    </a:lnTo>
                    <a:lnTo>
                      <a:pt x="4" y="1844"/>
                    </a:lnTo>
                    <a:close/>
                  </a:path>
                </a:pathLst>
              </a:custGeom>
              <a:solidFill>
                <a:srgbClr val="4bb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Freeform 85"/>
              <p:cNvSpPr/>
              <p:nvPr/>
            </p:nvSpPr>
            <p:spPr>
              <a:xfrm>
                <a:off x="2010240" y="1619280"/>
                <a:ext cx="685080" cy="3109680"/>
              </a:xfrm>
              <a:custGeom>
                <a:avLst/>
                <a:gdLst>
                  <a:gd name="textAreaLeft" fmla="*/ 0 w 685080"/>
                  <a:gd name="textAreaRight" fmla="*/ 685080 w 685080"/>
                  <a:gd name="textAreaTop" fmla="*/ 0 h 3109680"/>
                  <a:gd name="textAreaBottom" fmla="*/ 3110040 h 3109680"/>
                </a:gdLst>
                <a:ahLst/>
                <a:rect l="textAreaLeft" t="textAreaTop" r="textAreaRight" b="textAreaBottom"/>
                <a:pathLst>
                  <a:path w="407" h="1847">
                    <a:moveTo>
                      <a:pt x="407" y="32"/>
                    </a:moveTo>
                    <a:lnTo>
                      <a:pt x="396" y="28"/>
                    </a:lnTo>
                    <a:lnTo>
                      <a:pt x="350" y="17"/>
                    </a:lnTo>
                    <a:lnTo>
                      <a:pt x="305" y="9"/>
                    </a:lnTo>
                    <a:lnTo>
                      <a:pt x="259" y="3"/>
                    </a:lnTo>
                    <a:lnTo>
                      <a:pt x="211" y="0"/>
                    </a:lnTo>
                    <a:lnTo>
                      <a:pt x="188" y="0"/>
                    </a:lnTo>
                    <a:lnTo>
                      <a:pt x="186" y="2"/>
                    </a:lnTo>
                    <a:lnTo>
                      <a:pt x="186" y="2"/>
                    </a:lnTo>
                    <a:lnTo>
                      <a:pt x="186" y="3"/>
                    </a:lnTo>
                    <a:lnTo>
                      <a:pt x="185" y="5"/>
                    </a:lnTo>
                    <a:lnTo>
                      <a:pt x="185" y="5"/>
                    </a:lnTo>
                    <a:lnTo>
                      <a:pt x="183" y="7"/>
                    </a:lnTo>
                    <a:lnTo>
                      <a:pt x="183" y="9"/>
                    </a:lnTo>
                    <a:lnTo>
                      <a:pt x="183" y="9"/>
                    </a:lnTo>
                    <a:lnTo>
                      <a:pt x="211" y="11"/>
                    </a:lnTo>
                    <a:lnTo>
                      <a:pt x="257" y="13"/>
                    </a:lnTo>
                    <a:lnTo>
                      <a:pt x="304" y="19"/>
                    </a:lnTo>
                    <a:lnTo>
                      <a:pt x="348" y="28"/>
                    </a:lnTo>
                    <a:lnTo>
                      <a:pt x="392" y="38"/>
                    </a:lnTo>
                    <a:lnTo>
                      <a:pt x="401" y="40"/>
                    </a:lnTo>
                    <a:lnTo>
                      <a:pt x="401" y="40"/>
                    </a:lnTo>
                    <a:lnTo>
                      <a:pt x="403" y="38"/>
                    </a:lnTo>
                    <a:lnTo>
                      <a:pt x="403" y="38"/>
                    </a:lnTo>
                    <a:lnTo>
                      <a:pt x="405" y="36"/>
                    </a:lnTo>
                    <a:lnTo>
                      <a:pt x="405" y="34"/>
                    </a:lnTo>
                    <a:lnTo>
                      <a:pt x="405" y="34"/>
                    </a:lnTo>
                    <a:lnTo>
                      <a:pt x="407" y="32"/>
                    </a:lnTo>
                    <a:lnTo>
                      <a:pt x="407" y="32"/>
                    </a:lnTo>
                    <a:close/>
                    <a:moveTo>
                      <a:pt x="4" y="1832"/>
                    </a:moveTo>
                    <a:lnTo>
                      <a:pt x="23" y="1836"/>
                    </a:lnTo>
                    <a:lnTo>
                      <a:pt x="69" y="1842"/>
                    </a:lnTo>
                    <a:lnTo>
                      <a:pt x="117" y="1845"/>
                    </a:lnTo>
                    <a:lnTo>
                      <a:pt x="163" y="1847"/>
                    </a:lnTo>
                    <a:lnTo>
                      <a:pt x="211" y="1845"/>
                    </a:lnTo>
                    <a:lnTo>
                      <a:pt x="259" y="1842"/>
                    </a:lnTo>
                    <a:lnTo>
                      <a:pt x="305" y="1836"/>
                    </a:lnTo>
                    <a:lnTo>
                      <a:pt x="350" y="1828"/>
                    </a:lnTo>
                    <a:lnTo>
                      <a:pt x="386" y="1819"/>
                    </a:lnTo>
                    <a:lnTo>
                      <a:pt x="386" y="1819"/>
                    </a:lnTo>
                    <a:lnTo>
                      <a:pt x="386" y="1817"/>
                    </a:lnTo>
                    <a:lnTo>
                      <a:pt x="386" y="1815"/>
                    </a:lnTo>
                    <a:lnTo>
                      <a:pt x="386" y="1815"/>
                    </a:lnTo>
                    <a:lnTo>
                      <a:pt x="386" y="1813"/>
                    </a:lnTo>
                    <a:lnTo>
                      <a:pt x="386" y="1813"/>
                    </a:lnTo>
                    <a:lnTo>
                      <a:pt x="386" y="1811"/>
                    </a:lnTo>
                    <a:lnTo>
                      <a:pt x="384" y="1809"/>
                    </a:lnTo>
                    <a:lnTo>
                      <a:pt x="348" y="1819"/>
                    </a:lnTo>
                    <a:lnTo>
                      <a:pt x="304" y="1826"/>
                    </a:lnTo>
                    <a:lnTo>
                      <a:pt x="257" y="1832"/>
                    </a:lnTo>
                    <a:lnTo>
                      <a:pt x="211" y="1836"/>
                    </a:lnTo>
                    <a:lnTo>
                      <a:pt x="163" y="1836"/>
                    </a:lnTo>
                    <a:lnTo>
                      <a:pt x="117" y="1836"/>
                    </a:lnTo>
                    <a:lnTo>
                      <a:pt x="71" y="1832"/>
                    </a:lnTo>
                    <a:lnTo>
                      <a:pt x="25" y="1826"/>
                    </a:lnTo>
                    <a:lnTo>
                      <a:pt x="0" y="1822"/>
                    </a:lnTo>
                    <a:lnTo>
                      <a:pt x="0" y="1822"/>
                    </a:lnTo>
                    <a:lnTo>
                      <a:pt x="0" y="1824"/>
                    </a:lnTo>
                    <a:lnTo>
                      <a:pt x="2" y="1826"/>
                    </a:lnTo>
                    <a:lnTo>
                      <a:pt x="2" y="1826"/>
                    </a:lnTo>
                    <a:lnTo>
                      <a:pt x="2" y="1828"/>
                    </a:lnTo>
                    <a:lnTo>
                      <a:pt x="2" y="1830"/>
                    </a:lnTo>
                    <a:lnTo>
                      <a:pt x="4" y="1832"/>
                    </a:lnTo>
                    <a:lnTo>
                      <a:pt x="4" y="1832"/>
                    </a:lnTo>
                    <a:close/>
                  </a:path>
                </a:pathLst>
              </a:custGeom>
              <a:solidFill>
                <a:srgbClr val="4cb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Freeform 86"/>
              <p:cNvSpPr/>
              <p:nvPr/>
            </p:nvSpPr>
            <p:spPr>
              <a:xfrm>
                <a:off x="2007000" y="1627920"/>
                <a:ext cx="681840" cy="3092760"/>
              </a:xfrm>
              <a:custGeom>
                <a:avLst/>
                <a:gdLst>
                  <a:gd name="textAreaLeft" fmla="*/ 0 w 681840"/>
                  <a:gd name="textAreaRight" fmla="*/ 682200 w 681840"/>
                  <a:gd name="textAreaTop" fmla="*/ 0 h 3092760"/>
                  <a:gd name="textAreaBottom" fmla="*/ 3093120 h 3092760"/>
                </a:gdLst>
                <a:ahLst/>
                <a:rect l="textAreaLeft" t="textAreaTop" r="textAreaRight" b="textAreaBottom"/>
                <a:pathLst>
                  <a:path w="405" h="1837">
                    <a:moveTo>
                      <a:pt x="405" y="31"/>
                    </a:moveTo>
                    <a:lnTo>
                      <a:pt x="396" y="27"/>
                    </a:lnTo>
                    <a:lnTo>
                      <a:pt x="352" y="18"/>
                    </a:lnTo>
                    <a:lnTo>
                      <a:pt x="306" y="10"/>
                    </a:lnTo>
                    <a:lnTo>
                      <a:pt x="259" y="4"/>
                    </a:lnTo>
                    <a:lnTo>
                      <a:pt x="213" y="0"/>
                    </a:lnTo>
                    <a:lnTo>
                      <a:pt x="187" y="0"/>
                    </a:lnTo>
                    <a:lnTo>
                      <a:pt x="187" y="0"/>
                    </a:lnTo>
                    <a:lnTo>
                      <a:pt x="185" y="2"/>
                    </a:lnTo>
                    <a:lnTo>
                      <a:pt x="185" y="4"/>
                    </a:lnTo>
                    <a:lnTo>
                      <a:pt x="185" y="4"/>
                    </a:lnTo>
                    <a:lnTo>
                      <a:pt x="183" y="6"/>
                    </a:lnTo>
                    <a:lnTo>
                      <a:pt x="183" y="8"/>
                    </a:lnTo>
                    <a:lnTo>
                      <a:pt x="181" y="8"/>
                    </a:lnTo>
                    <a:lnTo>
                      <a:pt x="181" y="10"/>
                    </a:lnTo>
                    <a:lnTo>
                      <a:pt x="213" y="10"/>
                    </a:lnTo>
                    <a:lnTo>
                      <a:pt x="259" y="14"/>
                    </a:lnTo>
                    <a:lnTo>
                      <a:pt x="304" y="20"/>
                    </a:lnTo>
                    <a:lnTo>
                      <a:pt x="350" y="27"/>
                    </a:lnTo>
                    <a:lnTo>
                      <a:pt x="394" y="39"/>
                    </a:lnTo>
                    <a:lnTo>
                      <a:pt x="401" y="41"/>
                    </a:lnTo>
                    <a:lnTo>
                      <a:pt x="401" y="39"/>
                    </a:lnTo>
                    <a:lnTo>
                      <a:pt x="401" y="39"/>
                    </a:lnTo>
                    <a:lnTo>
                      <a:pt x="403" y="37"/>
                    </a:lnTo>
                    <a:lnTo>
                      <a:pt x="403" y="35"/>
                    </a:lnTo>
                    <a:lnTo>
                      <a:pt x="403" y="35"/>
                    </a:lnTo>
                    <a:lnTo>
                      <a:pt x="405" y="33"/>
                    </a:lnTo>
                    <a:lnTo>
                      <a:pt x="405" y="33"/>
                    </a:lnTo>
                    <a:lnTo>
                      <a:pt x="405" y="31"/>
                    </a:lnTo>
                    <a:close/>
                    <a:moveTo>
                      <a:pt x="4" y="1821"/>
                    </a:moveTo>
                    <a:lnTo>
                      <a:pt x="25" y="1825"/>
                    </a:lnTo>
                    <a:lnTo>
                      <a:pt x="71" y="1833"/>
                    </a:lnTo>
                    <a:lnTo>
                      <a:pt x="119" y="1835"/>
                    </a:lnTo>
                    <a:lnTo>
                      <a:pt x="165" y="1837"/>
                    </a:lnTo>
                    <a:lnTo>
                      <a:pt x="213" y="1835"/>
                    </a:lnTo>
                    <a:lnTo>
                      <a:pt x="259" y="1833"/>
                    </a:lnTo>
                    <a:lnTo>
                      <a:pt x="306" y="1825"/>
                    </a:lnTo>
                    <a:lnTo>
                      <a:pt x="352" y="1817"/>
                    </a:lnTo>
                    <a:lnTo>
                      <a:pt x="388" y="1810"/>
                    </a:lnTo>
                    <a:lnTo>
                      <a:pt x="388" y="1808"/>
                    </a:lnTo>
                    <a:lnTo>
                      <a:pt x="388" y="1808"/>
                    </a:lnTo>
                    <a:lnTo>
                      <a:pt x="388" y="1806"/>
                    </a:lnTo>
                    <a:lnTo>
                      <a:pt x="386" y="1804"/>
                    </a:lnTo>
                    <a:lnTo>
                      <a:pt x="386" y="1804"/>
                    </a:lnTo>
                    <a:lnTo>
                      <a:pt x="386" y="1802"/>
                    </a:lnTo>
                    <a:lnTo>
                      <a:pt x="386" y="1800"/>
                    </a:lnTo>
                    <a:lnTo>
                      <a:pt x="386" y="1800"/>
                    </a:lnTo>
                    <a:lnTo>
                      <a:pt x="350" y="1808"/>
                    </a:lnTo>
                    <a:lnTo>
                      <a:pt x="304" y="1815"/>
                    </a:lnTo>
                    <a:lnTo>
                      <a:pt x="259" y="1821"/>
                    </a:lnTo>
                    <a:lnTo>
                      <a:pt x="213" y="1825"/>
                    </a:lnTo>
                    <a:lnTo>
                      <a:pt x="165" y="1827"/>
                    </a:lnTo>
                    <a:lnTo>
                      <a:pt x="119" y="1825"/>
                    </a:lnTo>
                    <a:lnTo>
                      <a:pt x="73" y="1821"/>
                    </a:lnTo>
                    <a:lnTo>
                      <a:pt x="27" y="1815"/>
                    </a:lnTo>
                    <a:lnTo>
                      <a:pt x="0" y="1812"/>
                    </a:lnTo>
                    <a:lnTo>
                      <a:pt x="0" y="1812"/>
                    </a:lnTo>
                    <a:lnTo>
                      <a:pt x="2" y="1814"/>
                    </a:lnTo>
                    <a:lnTo>
                      <a:pt x="2" y="1815"/>
                    </a:lnTo>
                    <a:lnTo>
                      <a:pt x="2" y="1817"/>
                    </a:lnTo>
                    <a:lnTo>
                      <a:pt x="2" y="1817"/>
                    </a:lnTo>
                    <a:lnTo>
                      <a:pt x="2" y="1819"/>
                    </a:lnTo>
                    <a:lnTo>
                      <a:pt x="4" y="1821"/>
                    </a:lnTo>
                    <a:lnTo>
                      <a:pt x="4" y="1821"/>
                    </a:lnTo>
                    <a:close/>
                  </a:path>
                </a:pathLst>
              </a:custGeom>
              <a:solidFill>
                <a:srgbClr val="4db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Freeform 87"/>
              <p:cNvSpPr/>
              <p:nvPr/>
            </p:nvSpPr>
            <p:spPr>
              <a:xfrm>
                <a:off x="2003400" y="1634400"/>
                <a:ext cx="681840" cy="3076200"/>
              </a:xfrm>
              <a:custGeom>
                <a:avLst/>
                <a:gdLst>
                  <a:gd name="textAreaLeft" fmla="*/ 0 w 681840"/>
                  <a:gd name="textAreaRight" fmla="*/ 682200 w 681840"/>
                  <a:gd name="textAreaTop" fmla="*/ 0 h 3076200"/>
                  <a:gd name="textAreaBottom" fmla="*/ 3076560 h 3076200"/>
                </a:gdLst>
                <a:ahLst/>
                <a:rect l="textAreaLeft" t="textAreaTop" r="textAreaRight" b="textAreaBottom"/>
                <a:pathLst>
                  <a:path w="405" h="1827">
                    <a:moveTo>
                      <a:pt x="405" y="31"/>
                    </a:moveTo>
                    <a:lnTo>
                      <a:pt x="396" y="29"/>
                    </a:lnTo>
                    <a:lnTo>
                      <a:pt x="352" y="19"/>
                    </a:lnTo>
                    <a:lnTo>
                      <a:pt x="308" y="10"/>
                    </a:lnTo>
                    <a:lnTo>
                      <a:pt x="261" y="4"/>
                    </a:lnTo>
                    <a:lnTo>
                      <a:pt x="215" y="2"/>
                    </a:lnTo>
                    <a:lnTo>
                      <a:pt x="187" y="0"/>
                    </a:lnTo>
                    <a:lnTo>
                      <a:pt x="185" y="2"/>
                    </a:lnTo>
                    <a:lnTo>
                      <a:pt x="185" y="4"/>
                    </a:lnTo>
                    <a:lnTo>
                      <a:pt x="183" y="4"/>
                    </a:lnTo>
                    <a:lnTo>
                      <a:pt x="183" y="6"/>
                    </a:lnTo>
                    <a:lnTo>
                      <a:pt x="183" y="8"/>
                    </a:lnTo>
                    <a:lnTo>
                      <a:pt x="181" y="8"/>
                    </a:lnTo>
                    <a:lnTo>
                      <a:pt x="181" y="10"/>
                    </a:lnTo>
                    <a:lnTo>
                      <a:pt x="181" y="10"/>
                    </a:lnTo>
                    <a:lnTo>
                      <a:pt x="215" y="12"/>
                    </a:lnTo>
                    <a:lnTo>
                      <a:pt x="260" y="16"/>
                    </a:lnTo>
                    <a:lnTo>
                      <a:pt x="306" y="21"/>
                    </a:lnTo>
                    <a:lnTo>
                      <a:pt x="350" y="29"/>
                    </a:lnTo>
                    <a:lnTo>
                      <a:pt x="394" y="39"/>
                    </a:lnTo>
                    <a:lnTo>
                      <a:pt x="400" y="41"/>
                    </a:lnTo>
                    <a:lnTo>
                      <a:pt x="402" y="41"/>
                    </a:lnTo>
                    <a:lnTo>
                      <a:pt x="402" y="39"/>
                    </a:lnTo>
                    <a:lnTo>
                      <a:pt x="402" y="37"/>
                    </a:lnTo>
                    <a:lnTo>
                      <a:pt x="403" y="37"/>
                    </a:lnTo>
                    <a:lnTo>
                      <a:pt x="403" y="35"/>
                    </a:lnTo>
                    <a:lnTo>
                      <a:pt x="403" y="35"/>
                    </a:lnTo>
                    <a:lnTo>
                      <a:pt x="405" y="33"/>
                    </a:lnTo>
                    <a:lnTo>
                      <a:pt x="405" y="31"/>
                    </a:lnTo>
                    <a:close/>
                    <a:moveTo>
                      <a:pt x="4" y="1813"/>
                    </a:moveTo>
                    <a:lnTo>
                      <a:pt x="29" y="1817"/>
                    </a:lnTo>
                    <a:lnTo>
                      <a:pt x="75" y="1823"/>
                    </a:lnTo>
                    <a:lnTo>
                      <a:pt x="121" y="1827"/>
                    </a:lnTo>
                    <a:lnTo>
                      <a:pt x="167" y="1827"/>
                    </a:lnTo>
                    <a:lnTo>
                      <a:pt x="215" y="1827"/>
                    </a:lnTo>
                    <a:lnTo>
                      <a:pt x="261" y="1823"/>
                    </a:lnTo>
                    <a:lnTo>
                      <a:pt x="308" y="1817"/>
                    </a:lnTo>
                    <a:lnTo>
                      <a:pt x="352" y="1810"/>
                    </a:lnTo>
                    <a:lnTo>
                      <a:pt x="388" y="1800"/>
                    </a:lnTo>
                    <a:lnTo>
                      <a:pt x="388" y="1800"/>
                    </a:lnTo>
                    <a:lnTo>
                      <a:pt x="388" y="1798"/>
                    </a:lnTo>
                    <a:lnTo>
                      <a:pt x="388" y="1796"/>
                    </a:lnTo>
                    <a:lnTo>
                      <a:pt x="388" y="1796"/>
                    </a:lnTo>
                    <a:lnTo>
                      <a:pt x="388" y="1794"/>
                    </a:lnTo>
                    <a:lnTo>
                      <a:pt x="388" y="1792"/>
                    </a:lnTo>
                    <a:lnTo>
                      <a:pt x="388" y="1792"/>
                    </a:lnTo>
                    <a:lnTo>
                      <a:pt x="388" y="1790"/>
                    </a:lnTo>
                    <a:lnTo>
                      <a:pt x="350" y="1798"/>
                    </a:lnTo>
                    <a:lnTo>
                      <a:pt x="306" y="1808"/>
                    </a:lnTo>
                    <a:lnTo>
                      <a:pt x="260" y="1813"/>
                    </a:lnTo>
                    <a:lnTo>
                      <a:pt x="215" y="1815"/>
                    </a:lnTo>
                    <a:lnTo>
                      <a:pt x="167" y="1817"/>
                    </a:lnTo>
                    <a:lnTo>
                      <a:pt x="121" y="1815"/>
                    </a:lnTo>
                    <a:lnTo>
                      <a:pt x="75" y="1813"/>
                    </a:lnTo>
                    <a:lnTo>
                      <a:pt x="31" y="1808"/>
                    </a:lnTo>
                    <a:lnTo>
                      <a:pt x="0" y="1802"/>
                    </a:lnTo>
                    <a:lnTo>
                      <a:pt x="0" y="1802"/>
                    </a:lnTo>
                    <a:lnTo>
                      <a:pt x="2" y="1804"/>
                    </a:lnTo>
                    <a:lnTo>
                      <a:pt x="2" y="1806"/>
                    </a:lnTo>
                    <a:lnTo>
                      <a:pt x="2" y="1808"/>
                    </a:lnTo>
                    <a:lnTo>
                      <a:pt x="2" y="1808"/>
                    </a:lnTo>
                    <a:lnTo>
                      <a:pt x="4" y="1810"/>
                    </a:lnTo>
                    <a:lnTo>
                      <a:pt x="4" y="1811"/>
                    </a:lnTo>
                    <a:lnTo>
                      <a:pt x="4" y="1813"/>
                    </a:lnTo>
                    <a:close/>
                  </a:path>
                </a:pathLst>
              </a:custGeom>
              <a:solidFill>
                <a:srgbClr val="4eb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Freeform 88"/>
              <p:cNvSpPr/>
              <p:nvPr/>
            </p:nvSpPr>
            <p:spPr>
              <a:xfrm>
                <a:off x="2001960" y="1644480"/>
                <a:ext cx="680040" cy="3059280"/>
              </a:xfrm>
              <a:custGeom>
                <a:avLst/>
                <a:gdLst>
                  <a:gd name="textAreaLeft" fmla="*/ 0 w 680040"/>
                  <a:gd name="textAreaRight" fmla="*/ 680400 w 680040"/>
                  <a:gd name="textAreaTop" fmla="*/ 0 h 3059280"/>
                  <a:gd name="textAreaBottom" fmla="*/ 3059640 h 3059280"/>
                </a:gdLst>
                <a:ahLst/>
                <a:rect l="textAreaLeft" t="textAreaTop" r="textAreaRight" b="textAreaBottom"/>
                <a:pathLst>
                  <a:path w="404" h="1817">
                    <a:moveTo>
                      <a:pt x="404" y="31"/>
                    </a:moveTo>
                    <a:lnTo>
                      <a:pt x="397" y="29"/>
                    </a:lnTo>
                    <a:lnTo>
                      <a:pt x="353" y="17"/>
                    </a:lnTo>
                    <a:lnTo>
                      <a:pt x="307" y="10"/>
                    </a:lnTo>
                    <a:lnTo>
                      <a:pt x="262" y="4"/>
                    </a:lnTo>
                    <a:lnTo>
                      <a:pt x="216" y="0"/>
                    </a:lnTo>
                    <a:lnTo>
                      <a:pt x="184" y="0"/>
                    </a:lnTo>
                    <a:lnTo>
                      <a:pt x="184" y="2"/>
                    </a:lnTo>
                    <a:lnTo>
                      <a:pt x="182" y="2"/>
                    </a:lnTo>
                    <a:lnTo>
                      <a:pt x="182" y="4"/>
                    </a:lnTo>
                    <a:lnTo>
                      <a:pt x="182" y="4"/>
                    </a:lnTo>
                    <a:lnTo>
                      <a:pt x="180" y="6"/>
                    </a:lnTo>
                    <a:lnTo>
                      <a:pt x="180" y="8"/>
                    </a:lnTo>
                    <a:lnTo>
                      <a:pt x="178" y="8"/>
                    </a:lnTo>
                    <a:lnTo>
                      <a:pt x="178" y="10"/>
                    </a:lnTo>
                    <a:lnTo>
                      <a:pt x="214" y="11"/>
                    </a:lnTo>
                    <a:lnTo>
                      <a:pt x="261" y="13"/>
                    </a:lnTo>
                    <a:lnTo>
                      <a:pt x="307" y="19"/>
                    </a:lnTo>
                    <a:lnTo>
                      <a:pt x="351" y="29"/>
                    </a:lnTo>
                    <a:lnTo>
                      <a:pt x="393" y="38"/>
                    </a:lnTo>
                    <a:lnTo>
                      <a:pt x="399" y="40"/>
                    </a:lnTo>
                    <a:lnTo>
                      <a:pt x="399" y="38"/>
                    </a:lnTo>
                    <a:lnTo>
                      <a:pt x="401" y="36"/>
                    </a:lnTo>
                    <a:lnTo>
                      <a:pt x="401" y="36"/>
                    </a:lnTo>
                    <a:lnTo>
                      <a:pt x="401" y="35"/>
                    </a:lnTo>
                    <a:lnTo>
                      <a:pt x="403" y="35"/>
                    </a:lnTo>
                    <a:lnTo>
                      <a:pt x="403" y="33"/>
                    </a:lnTo>
                    <a:lnTo>
                      <a:pt x="403" y="31"/>
                    </a:lnTo>
                    <a:lnTo>
                      <a:pt x="404" y="31"/>
                    </a:lnTo>
                    <a:close/>
                    <a:moveTo>
                      <a:pt x="3" y="1802"/>
                    </a:moveTo>
                    <a:lnTo>
                      <a:pt x="30" y="1805"/>
                    </a:lnTo>
                    <a:lnTo>
                      <a:pt x="76" y="1811"/>
                    </a:lnTo>
                    <a:lnTo>
                      <a:pt x="122" y="1815"/>
                    </a:lnTo>
                    <a:lnTo>
                      <a:pt x="168" y="1817"/>
                    </a:lnTo>
                    <a:lnTo>
                      <a:pt x="216" y="1815"/>
                    </a:lnTo>
                    <a:lnTo>
                      <a:pt x="262" y="1811"/>
                    </a:lnTo>
                    <a:lnTo>
                      <a:pt x="307" y="1805"/>
                    </a:lnTo>
                    <a:lnTo>
                      <a:pt x="353" y="1798"/>
                    </a:lnTo>
                    <a:lnTo>
                      <a:pt x="389" y="1790"/>
                    </a:lnTo>
                    <a:lnTo>
                      <a:pt x="389" y="1788"/>
                    </a:lnTo>
                    <a:lnTo>
                      <a:pt x="389" y="1786"/>
                    </a:lnTo>
                    <a:lnTo>
                      <a:pt x="389" y="1786"/>
                    </a:lnTo>
                    <a:lnTo>
                      <a:pt x="389" y="1784"/>
                    </a:lnTo>
                    <a:lnTo>
                      <a:pt x="387" y="1782"/>
                    </a:lnTo>
                    <a:lnTo>
                      <a:pt x="387" y="1782"/>
                    </a:lnTo>
                    <a:lnTo>
                      <a:pt x="387" y="1781"/>
                    </a:lnTo>
                    <a:lnTo>
                      <a:pt x="387" y="1779"/>
                    </a:lnTo>
                    <a:lnTo>
                      <a:pt x="351" y="1788"/>
                    </a:lnTo>
                    <a:lnTo>
                      <a:pt x="307" y="1796"/>
                    </a:lnTo>
                    <a:lnTo>
                      <a:pt x="261" y="1802"/>
                    </a:lnTo>
                    <a:lnTo>
                      <a:pt x="214" y="1805"/>
                    </a:lnTo>
                    <a:lnTo>
                      <a:pt x="168" y="1805"/>
                    </a:lnTo>
                    <a:lnTo>
                      <a:pt x="122" y="1805"/>
                    </a:lnTo>
                    <a:lnTo>
                      <a:pt x="76" y="1802"/>
                    </a:lnTo>
                    <a:lnTo>
                      <a:pt x="32" y="1796"/>
                    </a:lnTo>
                    <a:lnTo>
                      <a:pt x="0" y="1790"/>
                    </a:lnTo>
                    <a:lnTo>
                      <a:pt x="1" y="1792"/>
                    </a:lnTo>
                    <a:lnTo>
                      <a:pt x="1" y="1792"/>
                    </a:lnTo>
                    <a:lnTo>
                      <a:pt x="1" y="1794"/>
                    </a:lnTo>
                    <a:lnTo>
                      <a:pt x="1" y="1796"/>
                    </a:lnTo>
                    <a:lnTo>
                      <a:pt x="1" y="1796"/>
                    </a:lnTo>
                    <a:lnTo>
                      <a:pt x="3" y="1798"/>
                    </a:lnTo>
                    <a:lnTo>
                      <a:pt x="3" y="1800"/>
                    </a:lnTo>
                    <a:lnTo>
                      <a:pt x="3" y="1802"/>
                    </a:lnTo>
                    <a:close/>
                  </a:path>
                </a:pathLst>
              </a:custGeom>
              <a:solidFill>
                <a:srgbClr val="4fb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Freeform 89"/>
              <p:cNvSpPr/>
              <p:nvPr/>
            </p:nvSpPr>
            <p:spPr>
              <a:xfrm>
                <a:off x="1998720" y="1650960"/>
                <a:ext cx="678240" cy="3042720"/>
              </a:xfrm>
              <a:custGeom>
                <a:avLst/>
                <a:gdLst>
                  <a:gd name="textAreaLeft" fmla="*/ 0 w 678240"/>
                  <a:gd name="textAreaRight" fmla="*/ 678600 w 678240"/>
                  <a:gd name="textAreaTop" fmla="*/ 0 h 3042720"/>
                  <a:gd name="textAreaBottom" fmla="*/ 3043080 h 3042720"/>
                </a:gdLst>
                <a:ahLst/>
                <a:rect l="textAreaLeft" t="textAreaTop" r="textAreaRight" b="textAreaBottom"/>
                <a:pathLst>
                  <a:path w="403" h="1807">
                    <a:moveTo>
                      <a:pt x="403" y="31"/>
                    </a:moveTo>
                    <a:lnTo>
                      <a:pt x="397" y="29"/>
                    </a:lnTo>
                    <a:lnTo>
                      <a:pt x="353" y="19"/>
                    </a:lnTo>
                    <a:lnTo>
                      <a:pt x="309" y="11"/>
                    </a:lnTo>
                    <a:lnTo>
                      <a:pt x="263" y="6"/>
                    </a:lnTo>
                    <a:lnTo>
                      <a:pt x="218" y="2"/>
                    </a:lnTo>
                    <a:lnTo>
                      <a:pt x="184" y="0"/>
                    </a:lnTo>
                    <a:lnTo>
                      <a:pt x="182" y="2"/>
                    </a:lnTo>
                    <a:lnTo>
                      <a:pt x="182" y="4"/>
                    </a:lnTo>
                    <a:lnTo>
                      <a:pt x="180" y="4"/>
                    </a:lnTo>
                    <a:lnTo>
                      <a:pt x="180" y="6"/>
                    </a:lnTo>
                    <a:lnTo>
                      <a:pt x="180" y="7"/>
                    </a:lnTo>
                    <a:lnTo>
                      <a:pt x="178" y="7"/>
                    </a:lnTo>
                    <a:lnTo>
                      <a:pt x="178" y="9"/>
                    </a:lnTo>
                    <a:lnTo>
                      <a:pt x="178" y="11"/>
                    </a:lnTo>
                    <a:lnTo>
                      <a:pt x="216" y="11"/>
                    </a:lnTo>
                    <a:lnTo>
                      <a:pt x="263" y="15"/>
                    </a:lnTo>
                    <a:lnTo>
                      <a:pt x="307" y="21"/>
                    </a:lnTo>
                    <a:lnTo>
                      <a:pt x="351" y="29"/>
                    </a:lnTo>
                    <a:lnTo>
                      <a:pt x="395" y="38"/>
                    </a:lnTo>
                    <a:lnTo>
                      <a:pt x="399" y="40"/>
                    </a:lnTo>
                    <a:lnTo>
                      <a:pt x="399" y="38"/>
                    </a:lnTo>
                    <a:lnTo>
                      <a:pt x="399" y="38"/>
                    </a:lnTo>
                    <a:lnTo>
                      <a:pt x="401" y="36"/>
                    </a:lnTo>
                    <a:lnTo>
                      <a:pt x="401" y="36"/>
                    </a:lnTo>
                    <a:lnTo>
                      <a:pt x="401" y="34"/>
                    </a:lnTo>
                    <a:lnTo>
                      <a:pt x="403" y="32"/>
                    </a:lnTo>
                    <a:lnTo>
                      <a:pt x="403" y="32"/>
                    </a:lnTo>
                    <a:lnTo>
                      <a:pt x="403" y="31"/>
                    </a:lnTo>
                    <a:close/>
                    <a:moveTo>
                      <a:pt x="3" y="1792"/>
                    </a:moveTo>
                    <a:lnTo>
                      <a:pt x="34" y="1798"/>
                    </a:lnTo>
                    <a:lnTo>
                      <a:pt x="78" y="1803"/>
                    </a:lnTo>
                    <a:lnTo>
                      <a:pt x="124" y="1805"/>
                    </a:lnTo>
                    <a:lnTo>
                      <a:pt x="170" y="1807"/>
                    </a:lnTo>
                    <a:lnTo>
                      <a:pt x="218" y="1805"/>
                    </a:lnTo>
                    <a:lnTo>
                      <a:pt x="263" y="1803"/>
                    </a:lnTo>
                    <a:lnTo>
                      <a:pt x="309" y="1798"/>
                    </a:lnTo>
                    <a:lnTo>
                      <a:pt x="353" y="1788"/>
                    </a:lnTo>
                    <a:lnTo>
                      <a:pt x="391" y="1780"/>
                    </a:lnTo>
                    <a:lnTo>
                      <a:pt x="389" y="1778"/>
                    </a:lnTo>
                    <a:lnTo>
                      <a:pt x="389" y="1778"/>
                    </a:lnTo>
                    <a:lnTo>
                      <a:pt x="389" y="1777"/>
                    </a:lnTo>
                    <a:lnTo>
                      <a:pt x="389" y="1775"/>
                    </a:lnTo>
                    <a:lnTo>
                      <a:pt x="389" y="1775"/>
                    </a:lnTo>
                    <a:lnTo>
                      <a:pt x="389" y="1773"/>
                    </a:lnTo>
                    <a:lnTo>
                      <a:pt x="389" y="1771"/>
                    </a:lnTo>
                    <a:lnTo>
                      <a:pt x="387" y="1771"/>
                    </a:lnTo>
                    <a:lnTo>
                      <a:pt x="351" y="1778"/>
                    </a:lnTo>
                    <a:lnTo>
                      <a:pt x="307" y="1786"/>
                    </a:lnTo>
                    <a:lnTo>
                      <a:pt x="263" y="1792"/>
                    </a:lnTo>
                    <a:lnTo>
                      <a:pt x="216" y="1796"/>
                    </a:lnTo>
                    <a:lnTo>
                      <a:pt x="170" y="1798"/>
                    </a:lnTo>
                    <a:lnTo>
                      <a:pt x="124" y="1796"/>
                    </a:lnTo>
                    <a:lnTo>
                      <a:pt x="80" y="1792"/>
                    </a:lnTo>
                    <a:lnTo>
                      <a:pt x="34" y="1786"/>
                    </a:lnTo>
                    <a:lnTo>
                      <a:pt x="0" y="1780"/>
                    </a:lnTo>
                    <a:lnTo>
                      <a:pt x="2" y="1782"/>
                    </a:lnTo>
                    <a:lnTo>
                      <a:pt x="2" y="1782"/>
                    </a:lnTo>
                    <a:lnTo>
                      <a:pt x="2" y="1784"/>
                    </a:lnTo>
                    <a:lnTo>
                      <a:pt x="2" y="1786"/>
                    </a:lnTo>
                    <a:lnTo>
                      <a:pt x="3" y="1788"/>
                    </a:lnTo>
                    <a:lnTo>
                      <a:pt x="3" y="1788"/>
                    </a:lnTo>
                    <a:lnTo>
                      <a:pt x="3" y="1790"/>
                    </a:lnTo>
                    <a:lnTo>
                      <a:pt x="3" y="1792"/>
                    </a:lnTo>
                    <a:close/>
                  </a:path>
                </a:pathLst>
              </a:custGeom>
              <a:solidFill>
                <a:srgbClr val="50b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Freeform 90"/>
              <p:cNvSpPr/>
              <p:nvPr/>
            </p:nvSpPr>
            <p:spPr>
              <a:xfrm>
                <a:off x="1998720" y="1661400"/>
                <a:ext cx="675000" cy="3022200"/>
              </a:xfrm>
              <a:custGeom>
                <a:avLst/>
                <a:gdLst>
                  <a:gd name="textAreaLeft" fmla="*/ 0 w 675000"/>
                  <a:gd name="textAreaRight" fmla="*/ 675360 w 675000"/>
                  <a:gd name="textAreaTop" fmla="*/ 0 h 3022200"/>
                  <a:gd name="textAreaBottom" fmla="*/ 3022560 h 3022200"/>
                </a:gdLst>
                <a:ahLst/>
                <a:rect l="textAreaLeft" t="textAreaTop" r="textAreaRight" b="textAreaBottom"/>
                <a:pathLst>
                  <a:path w="401" h="1795">
                    <a:moveTo>
                      <a:pt x="401" y="30"/>
                    </a:moveTo>
                    <a:lnTo>
                      <a:pt x="395" y="28"/>
                    </a:lnTo>
                    <a:lnTo>
                      <a:pt x="353" y="19"/>
                    </a:lnTo>
                    <a:lnTo>
                      <a:pt x="309" y="9"/>
                    </a:lnTo>
                    <a:lnTo>
                      <a:pt x="263" y="3"/>
                    </a:lnTo>
                    <a:lnTo>
                      <a:pt x="216" y="1"/>
                    </a:lnTo>
                    <a:lnTo>
                      <a:pt x="180" y="0"/>
                    </a:lnTo>
                    <a:lnTo>
                      <a:pt x="180" y="1"/>
                    </a:lnTo>
                    <a:lnTo>
                      <a:pt x="178" y="1"/>
                    </a:lnTo>
                    <a:lnTo>
                      <a:pt x="178" y="3"/>
                    </a:lnTo>
                    <a:lnTo>
                      <a:pt x="178" y="5"/>
                    </a:lnTo>
                    <a:lnTo>
                      <a:pt x="176" y="5"/>
                    </a:lnTo>
                    <a:lnTo>
                      <a:pt x="176" y="7"/>
                    </a:lnTo>
                    <a:lnTo>
                      <a:pt x="174" y="9"/>
                    </a:lnTo>
                    <a:lnTo>
                      <a:pt x="174" y="9"/>
                    </a:lnTo>
                    <a:lnTo>
                      <a:pt x="216" y="11"/>
                    </a:lnTo>
                    <a:lnTo>
                      <a:pt x="263" y="15"/>
                    </a:lnTo>
                    <a:lnTo>
                      <a:pt x="307" y="21"/>
                    </a:lnTo>
                    <a:lnTo>
                      <a:pt x="351" y="28"/>
                    </a:lnTo>
                    <a:lnTo>
                      <a:pt x="393" y="38"/>
                    </a:lnTo>
                    <a:lnTo>
                      <a:pt x="395" y="38"/>
                    </a:lnTo>
                    <a:lnTo>
                      <a:pt x="397" y="38"/>
                    </a:lnTo>
                    <a:lnTo>
                      <a:pt x="397" y="36"/>
                    </a:lnTo>
                    <a:lnTo>
                      <a:pt x="397" y="36"/>
                    </a:lnTo>
                    <a:lnTo>
                      <a:pt x="399" y="34"/>
                    </a:lnTo>
                    <a:lnTo>
                      <a:pt x="399" y="32"/>
                    </a:lnTo>
                    <a:lnTo>
                      <a:pt x="399" y="32"/>
                    </a:lnTo>
                    <a:lnTo>
                      <a:pt x="401" y="30"/>
                    </a:lnTo>
                    <a:lnTo>
                      <a:pt x="401" y="30"/>
                    </a:lnTo>
                    <a:close/>
                    <a:moveTo>
                      <a:pt x="2" y="1780"/>
                    </a:moveTo>
                    <a:lnTo>
                      <a:pt x="34" y="1786"/>
                    </a:lnTo>
                    <a:lnTo>
                      <a:pt x="78" y="1792"/>
                    </a:lnTo>
                    <a:lnTo>
                      <a:pt x="124" y="1795"/>
                    </a:lnTo>
                    <a:lnTo>
                      <a:pt x="170" y="1795"/>
                    </a:lnTo>
                    <a:lnTo>
                      <a:pt x="216" y="1795"/>
                    </a:lnTo>
                    <a:lnTo>
                      <a:pt x="263" y="1792"/>
                    </a:lnTo>
                    <a:lnTo>
                      <a:pt x="309" y="1786"/>
                    </a:lnTo>
                    <a:lnTo>
                      <a:pt x="353" y="1778"/>
                    </a:lnTo>
                    <a:lnTo>
                      <a:pt x="389" y="1769"/>
                    </a:lnTo>
                    <a:lnTo>
                      <a:pt x="389" y="1769"/>
                    </a:lnTo>
                    <a:lnTo>
                      <a:pt x="389" y="1767"/>
                    </a:lnTo>
                    <a:lnTo>
                      <a:pt x="389" y="1765"/>
                    </a:lnTo>
                    <a:lnTo>
                      <a:pt x="387" y="1765"/>
                    </a:lnTo>
                    <a:lnTo>
                      <a:pt x="387" y="1763"/>
                    </a:lnTo>
                    <a:lnTo>
                      <a:pt x="387" y="1761"/>
                    </a:lnTo>
                    <a:lnTo>
                      <a:pt x="387" y="1761"/>
                    </a:lnTo>
                    <a:lnTo>
                      <a:pt x="387" y="1759"/>
                    </a:lnTo>
                    <a:lnTo>
                      <a:pt x="351" y="1769"/>
                    </a:lnTo>
                    <a:lnTo>
                      <a:pt x="307" y="1776"/>
                    </a:lnTo>
                    <a:lnTo>
                      <a:pt x="263" y="1782"/>
                    </a:lnTo>
                    <a:lnTo>
                      <a:pt x="216" y="1784"/>
                    </a:lnTo>
                    <a:lnTo>
                      <a:pt x="170" y="1786"/>
                    </a:lnTo>
                    <a:lnTo>
                      <a:pt x="126" y="1784"/>
                    </a:lnTo>
                    <a:lnTo>
                      <a:pt x="80" y="1782"/>
                    </a:lnTo>
                    <a:lnTo>
                      <a:pt x="36" y="1776"/>
                    </a:lnTo>
                    <a:lnTo>
                      <a:pt x="0" y="1769"/>
                    </a:lnTo>
                    <a:lnTo>
                      <a:pt x="0" y="1771"/>
                    </a:lnTo>
                    <a:lnTo>
                      <a:pt x="0" y="1772"/>
                    </a:lnTo>
                    <a:lnTo>
                      <a:pt x="0" y="1772"/>
                    </a:lnTo>
                    <a:lnTo>
                      <a:pt x="0" y="1774"/>
                    </a:lnTo>
                    <a:lnTo>
                      <a:pt x="2" y="1776"/>
                    </a:lnTo>
                    <a:lnTo>
                      <a:pt x="2" y="1776"/>
                    </a:lnTo>
                    <a:lnTo>
                      <a:pt x="2" y="1778"/>
                    </a:lnTo>
                    <a:lnTo>
                      <a:pt x="2" y="1780"/>
                    </a:lnTo>
                    <a:close/>
                  </a:path>
                </a:pathLst>
              </a:custGeom>
              <a:solidFill>
                <a:srgbClr val="51b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Freeform 91"/>
              <p:cNvSpPr/>
              <p:nvPr/>
            </p:nvSpPr>
            <p:spPr>
              <a:xfrm>
                <a:off x="1995120" y="1669680"/>
                <a:ext cx="675360" cy="3008880"/>
              </a:xfrm>
              <a:custGeom>
                <a:avLst/>
                <a:gdLst>
                  <a:gd name="textAreaLeft" fmla="*/ 0 w 675360"/>
                  <a:gd name="textAreaRight" fmla="*/ 675720 w 675360"/>
                  <a:gd name="textAreaTop" fmla="*/ 0 h 3008880"/>
                  <a:gd name="textAreaBottom" fmla="*/ 3009240 h 3008880"/>
                </a:gdLst>
                <a:ahLst/>
                <a:rect l="textAreaLeft" t="textAreaTop" r="textAreaRight" b="textAreaBottom"/>
                <a:pathLst>
                  <a:path w="401" h="1787">
                    <a:moveTo>
                      <a:pt x="401" y="29"/>
                    </a:moveTo>
                    <a:lnTo>
                      <a:pt x="397" y="27"/>
                    </a:lnTo>
                    <a:lnTo>
                      <a:pt x="353" y="18"/>
                    </a:lnTo>
                    <a:lnTo>
                      <a:pt x="309" y="10"/>
                    </a:lnTo>
                    <a:lnTo>
                      <a:pt x="265" y="4"/>
                    </a:lnTo>
                    <a:lnTo>
                      <a:pt x="218" y="0"/>
                    </a:lnTo>
                    <a:lnTo>
                      <a:pt x="180" y="0"/>
                    </a:lnTo>
                    <a:lnTo>
                      <a:pt x="178" y="0"/>
                    </a:lnTo>
                    <a:lnTo>
                      <a:pt x="178" y="2"/>
                    </a:lnTo>
                    <a:lnTo>
                      <a:pt x="176" y="4"/>
                    </a:lnTo>
                    <a:lnTo>
                      <a:pt x="176" y="4"/>
                    </a:lnTo>
                    <a:lnTo>
                      <a:pt x="176" y="6"/>
                    </a:lnTo>
                    <a:lnTo>
                      <a:pt x="174" y="8"/>
                    </a:lnTo>
                    <a:lnTo>
                      <a:pt x="174" y="8"/>
                    </a:lnTo>
                    <a:lnTo>
                      <a:pt x="174" y="10"/>
                    </a:lnTo>
                    <a:lnTo>
                      <a:pt x="218" y="12"/>
                    </a:lnTo>
                    <a:lnTo>
                      <a:pt x="263" y="14"/>
                    </a:lnTo>
                    <a:lnTo>
                      <a:pt x="307" y="20"/>
                    </a:lnTo>
                    <a:lnTo>
                      <a:pt x="351" y="27"/>
                    </a:lnTo>
                    <a:lnTo>
                      <a:pt x="393" y="39"/>
                    </a:lnTo>
                    <a:lnTo>
                      <a:pt x="395" y="39"/>
                    </a:lnTo>
                    <a:lnTo>
                      <a:pt x="395" y="37"/>
                    </a:lnTo>
                    <a:lnTo>
                      <a:pt x="397" y="37"/>
                    </a:lnTo>
                    <a:lnTo>
                      <a:pt x="397" y="35"/>
                    </a:lnTo>
                    <a:lnTo>
                      <a:pt x="397" y="33"/>
                    </a:lnTo>
                    <a:lnTo>
                      <a:pt x="399" y="33"/>
                    </a:lnTo>
                    <a:lnTo>
                      <a:pt x="399" y="31"/>
                    </a:lnTo>
                    <a:lnTo>
                      <a:pt x="399" y="31"/>
                    </a:lnTo>
                    <a:lnTo>
                      <a:pt x="401" y="29"/>
                    </a:lnTo>
                    <a:close/>
                    <a:moveTo>
                      <a:pt x="2" y="1769"/>
                    </a:moveTo>
                    <a:lnTo>
                      <a:pt x="36" y="1775"/>
                    </a:lnTo>
                    <a:lnTo>
                      <a:pt x="82" y="1781"/>
                    </a:lnTo>
                    <a:lnTo>
                      <a:pt x="126" y="1785"/>
                    </a:lnTo>
                    <a:lnTo>
                      <a:pt x="172" y="1787"/>
                    </a:lnTo>
                    <a:lnTo>
                      <a:pt x="218" y="1785"/>
                    </a:lnTo>
                    <a:lnTo>
                      <a:pt x="265" y="1781"/>
                    </a:lnTo>
                    <a:lnTo>
                      <a:pt x="309" y="1775"/>
                    </a:lnTo>
                    <a:lnTo>
                      <a:pt x="353" y="1767"/>
                    </a:lnTo>
                    <a:lnTo>
                      <a:pt x="389" y="1760"/>
                    </a:lnTo>
                    <a:lnTo>
                      <a:pt x="389" y="1758"/>
                    </a:lnTo>
                    <a:lnTo>
                      <a:pt x="389" y="1756"/>
                    </a:lnTo>
                    <a:lnTo>
                      <a:pt x="389" y="1756"/>
                    </a:lnTo>
                    <a:lnTo>
                      <a:pt x="389" y="1754"/>
                    </a:lnTo>
                    <a:lnTo>
                      <a:pt x="389" y="1752"/>
                    </a:lnTo>
                    <a:lnTo>
                      <a:pt x="389" y="1752"/>
                    </a:lnTo>
                    <a:lnTo>
                      <a:pt x="389" y="1750"/>
                    </a:lnTo>
                    <a:lnTo>
                      <a:pt x="387" y="1748"/>
                    </a:lnTo>
                    <a:lnTo>
                      <a:pt x="351" y="1758"/>
                    </a:lnTo>
                    <a:lnTo>
                      <a:pt x="307" y="1766"/>
                    </a:lnTo>
                    <a:lnTo>
                      <a:pt x="263" y="1771"/>
                    </a:lnTo>
                    <a:lnTo>
                      <a:pt x="218" y="1775"/>
                    </a:lnTo>
                    <a:lnTo>
                      <a:pt x="172" y="1775"/>
                    </a:lnTo>
                    <a:lnTo>
                      <a:pt x="128" y="1775"/>
                    </a:lnTo>
                    <a:lnTo>
                      <a:pt x="82" y="1771"/>
                    </a:lnTo>
                    <a:lnTo>
                      <a:pt x="38" y="1766"/>
                    </a:lnTo>
                    <a:lnTo>
                      <a:pt x="0" y="1758"/>
                    </a:lnTo>
                    <a:lnTo>
                      <a:pt x="0" y="1760"/>
                    </a:lnTo>
                    <a:lnTo>
                      <a:pt x="0" y="1762"/>
                    </a:lnTo>
                    <a:lnTo>
                      <a:pt x="0" y="1762"/>
                    </a:lnTo>
                    <a:lnTo>
                      <a:pt x="2" y="1764"/>
                    </a:lnTo>
                    <a:lnTo>
                      <a:pt x="2" y="1766"/>
                    </a:lnTo>
                    <a:lnTo>
                      <a:pt x="2" y="1767"/>
                    </a:lnTo>
                    <a:lnTo>
                      <a:pt x="2" y="1767"/>
                    </a:lnTo>
                    <a:lnTo>
                      <a:pt x="2" y="1769"/>
                    </a:lnTo>
                    <a:close/>
                  </a:path>
                </a:pathLst>
              </a:custGeom>
              <a:solidFill>
                <a:srgbClr val="52b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Freeform 92"/>
              <p:cNvSpPr/>
              <p:nvPr/>
            </p:nvSpPr>
            <p:spPr>
              <a:xfrm>
                <a:off x="1991520" y="1676880"/>
                <a:ext cx="671760" cy="2991960"/>
              </a:xfrm>
              <a:custGeom>
                <a:avLst/>
                <a:gdLst>
                  <a:gd name="textAreaLeft" fmla="*/ 0 w 671760"/>
                  <a:gd name="textAreaRight" fmla="*/ 672120 w 671760"/>
                  <a:gd name="textAreaTop" fmla="*/ 0 h 2991960"/>
                  <a:gd name="textAreaBottom" fmla="*/ 2992320 h 2991960"/>
                </a:gdLst>
                <a:ahLst/>
                <a:rect l="textAreaLeft" t="textAreaTop" r="textAreaRight" b="textAreaBottom"/>
                <a:pathLst>
                  <a:path w="399" h="1777">
                    <a:moveTo>
                      <a:pt x="399" y="29"/>
                    </a:moveTo>
                    <a:lnTo>
                      <a:pt x="397" y="29"/>
                    </a:lnTo>
                    <a:lnTo>
                      <a:pt x="355" y="19"/>
                    </a:lnTo>
                    <a:lnTo>
                      <a:pt x="311" y="12"/>
                    </a:lnTo>
                    <a:lnTo>
                      <a:pt x="267" y="6"/>
                    </a:lnTo>
                    <a:lnTo>
                      <a:pt x="220" y="2"/>
                    </a:lnTo>
                    <a:lnTo>
                      <a:pt x="178" y="0"/>
                    </a:lnTo>
                    <a:lnTo>
                      <a:pt x="178" y="2"/>
                    </a:lnTo>
                    <a:lnTo>
                      <a:pt x="176" y="4"/>
                    </a:lnTo>
                    <a:lnTo>
                      <a:pt x="176" y="4"/>
                    </a:lnTo>
                    <a:lnTo>
                      <a:pt x="176" y="6"/>
                    </a:lnTo>
                    <a:lnTo>
                      <a:pt x="174" y="8"/>
                    </a:lnTo>
                    <a:lnTo>
                      <a:pt x="174" y="8"/>
                    </a:lnTo>
                    <a:lnTo>
                      <a:pt x="172" y="10"/>
                    </a:lnTo>
                    <a:lnTo>
                      <a:pt x="172" y="12"/>
                    </a:lnTo>
                    <a:lnTo>
                      <a:pt x="174" y="12"/>
                    </a:lnTo>
                    <a:lnTo>
                      <a:pt x="220" y="12"/>
                    </a:lnTo>
                    <a:lnTo>
                      <a:pt x="265" y="16"/>
                    </a:lnTo>
                    <a:lnTo>
                      <a:pt x="309" y="21"/>
                    </a:lnTo>
                    <a:lnTo>
                      <a:pt x="351" y="29"/>
                    </a:lnTo>
                    <a:lnTo>
                      <a:pt x="395" y="39"/>
                    </a:lnTo>
                    <a:lnTo>
                      <a:pt x="395" y="39"/>
                    </a:lnTo>
                    <a:lnTo>
                      <a:pt x="395" y="39"/>
                    </a:lnTo>
                    <a:lnTo>
                      <a:pt x="395" y="37"/>
                    </a:lnTo>
                    <a:lnTo>
                      <a:pt x="397" y="35"/>
                    </a:lnTo>
                    <a:lnTo>
                      <a:pt x="397" y="35"/>
                    </a:lnTo>
                    <a:lnTo>
                      <a:pt x="397" y="33"/>
                    </a:lnTo>
                    <a:lnTo>
                      <a:pt x="399" y="33"/>
                    </a:lnTo>
                    <a:lnTo>
                      <a:pt x="399" y="31"/>
                    </a:lnTo>
                    <a:lnTo>
                      <a:pt x="399" y="29"/>
                    </a:lnTo>
                    <a:close/>
                    <a:moveTo>
                      <a:pt x="4" y="1760"/>
                    </a:moveTo>
                    <a:lnTo>
                      <a:pt x="40" y="1767"/>
                    </a:lnTo>
                    <a:lnTo>
                      <a:pt x="84" y="1773"/>
                    </a:lnTo>
                    <a:lnTo>
                      <a:pt x="130" y="1775"/>
                    </a:lnTo>
                    <a:lnTo>
                      <a:pt x="174" y="1777"/>
                    </a:lnTo>
                    <a:lnTo>
                      <a:pt x="220" y="1775"/>
                    </a:lnTo>
                    <a:lnTo>
                      <a:pt x="267" y="1773"/>
                    </a:lnTo>
                    <a:lnTo>
                      <a:pt x="311" y="1767"/>
                    </a:lnTo>
                    <a:lnTo>
                      <a:pt x="355" y="1760"/>
                    </a:lnTo>
                    <a:lnTo>
                      <a:pt x="391" y="1750"/>
                    </a:lnTo>
                    <a:lnTo>
                      <a:pt x="391" y="1748"/>
                    </a:lnTo>
                    <a:lnTo>
                      <a:pt x="391" y="1748"/>
                    </a:lnTo>
                    <a:lnTo>
                      <a:pt x="391" y="1746"/>
                    </a:lnTo>
                    <a:lnTo>
                      <a:pt x="389" y="1744"/>
                    </a:lnTo>
                    <a:lnTo>
                      <a:pt x="389" y="1744"/>
                    </a:lnTo>
                    <a:lnTo>
                      <a:pt x="389" y="1742"/>
                    </a:lnTo>
                    <a:lnTo>
                      <a:pt x="389" y="1740"/>
                    </a:lnTo>
                    <a:lnTo>
                      <a:pt x="389" y="1740"/>
                    </a:lnTo>
                    <a:lnTo>
                      <a:pt x="351" y="1748"/>
                    </a:lnTo>
                    <a:lnTo>
                      <a:pt x="309" y="1756"/>
                    </a:lnTo>
                    <a:lnTo>
                      <a:pt x="265" y="1762"/>
                    </a:lnTo>
                    <a:lnTo>
                      <a:pt x="220" y="1765"/>
                    </a:lnTo>
                    <a:lnTo>
                      <a:pt x="174" y="1767"/>
                    </a:lnTo>
                    <a:lnTo>
                      <a:pt x="130" y="1765"/>
                    </a:lnTo>
                    <a:lnTo>
                      <a:pt x="86" y="1762"/>
                    </a:lnTo>
                    <a:lnTo>
                      <a:pt x="42" y="1756"/>
                    </a:lnTo>
                    <a:lnTo>
                      <a:pt x="0" y="1748"/>
                    </a:lnTo>
                    <a:lnTo>
                      <a:pt x="0" y="1750"/>
                    </a:lnTo>
                    <a:lnTo>
                      <a:pt x="0" y="1752"/>
                    </a:lnTo>
                    <a:lnTo>
                      <a:pt x="2" y="1754"/>
                    </a:lnTo>
                    <a:lnTo>
                      <a:pt x="2" y="1754"/>
                    </a:lnTo>
                    <a:lnTo>
                      <a:pt x="2" y="1756"/>
                    </a:lnTo>
                    <a:lnTo>
                      <a:pt x="2" y="1758"/>
                    </a:lnTo>
                    <a:lnTo>
                      <a:pt x="2" y="1758"/>
                    </a:lnTo>
                    <a:lnTo>
                      <a:pt x="4" y="1760"/>
                    </a:lnTo>
                    <a:close/>
                  </a:path>
                </a:pathLst>
              </a:custGeom>
              <a:solidFill>
                <a:srgbClr val="53b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Freeform 93"/>
              <p:cNvSpPr/>
              <p:nvPr/>
            </p:nvSpPr>
            <p:spPr>
              <a:xfrm>
                <a:off x="1988640" y="1686600"/>
                <a:ext cx="671400" cy="2971800"/>
              </a:xfrm>
              <a:custGeom>
                <a:avLst/>
                <a:gdLst>
                  <a:gd name="textAreaLeft" fmla="*/ 0 w 671400"/>
                  <a:gd name="textAreaRight" fmla="*/ 671760 w 671400"/>
                  <a:gd name="textAreaTop" fmla="*/ 0 h 2971800"/>
                  <a:gd name="textAreaBottom" fmla="*/ 2972160 h 2971800"/>
                </a:gdLst>
                <a:ahLst/>
                <a:rect l="textAreaLeft" t="textAreaTop" r="textAreaRight" b="textAreaBottom"/>
                <a:pathLst>
                  <a:path w="399" h="1765">
                    <a:moveTo>
                      <a:pt x="399" y="29"/>
                    </a:moveTo>
                    <a:lnTo>
                      <a:pt x="397" y="29"/>
                    </a:lnTo>
                    <a:lnTo>
                      <a:pt x="355" y="17"/>
                    </a:lnTo>
                    <a:lnTo>
                      <a:pt x="311" y="10"/>
                    </a:lnTo>
                    <a:lnTo>
                      <a:pt x="267" y="4"/>
                    </a:lnTo>
                    <a:lnTo>
                      <a:pt x="222" y="2"/>
                    </a:lnTo>
                    <a:lnTo>
                      <a:pt x="178" y="0"/>
                    </a:lnTo>
                    <a:lnTo>
                      <a:pt x="176" y="2"/>
                    </a:lnTo>
                    <a:lnTo>
                      <a:pt x="176" y="2"/>
                    </a:lnTo>
                    <a:lnTo>
                      <a:pt x="174" y="4"/>
                    </a:lnTo>
                    <a:lnTo>
                      <a:pt x="174" y="6"/>
                    </a:lnTo>
                    <a:lnTo>
                      <a:pt x="174" y="6"/>
                    </a:lnTo>
                    <a:lnTo>
                      <a:pt x="173" y="8"/>
                    </a:lnTo>
                    <a:lnTo>
                      <a:pt x="173" y="10"/>
                    </a:lnTo>
                    <a:lnTo>
                      <a:pt x="173" y="10"/>
                    </a:lnTo>
                    <a:lnTo>
                      <a:pt x="176" y="10"/>
                    </a:lnTo>
                    <a:lnTo>
                      <a:pt x="222" y="11"/>
                    </a:lnTo>
                    <a:lnTo>
                      <a:pt x="267" y="15"/>
                    </a:lnTo>
                    <a:lnTo>
                      <a:pt x="311" y="21"/>
                    </a:lnTo>
                    <a:lnTo>
                      <a:pt x="353" y="29"/>
                    </a:lnTo>
                    <a:lnTo>
                      <a:pt x="395" y="38"/>
                    </a:lnTo>
                    <a:lnTo>
                      <a:pt x="395" y="36"/>
                    </a:lnTo>
                    <a:lnTo>
                      <a:pt x="395" y="34"/>
                    </a:lnTo>
                    <a:lnTo>
                      <a:pt x="397" y="34"/>
                    </a:lnTo>
                    <a:lnTo>
                      <a:pt x="397" y="33"/>
                    </a:lnTo>
                    <a:lnTo>
                      <a:pt x="397" y="33"/>
                    </a:lnTo>
                    <a:lnTo>
                      <a:pt x="397" y="31"/>
                    </a:lnTo>
                    <a:lnTo>
                      <a:pt x="399" y="29"/>
                    </a:lnTo>
                    <a:lnTo>
                      <a:pt x="399" y="29"/>
                    </a:lnTo>
                    <a:close/>
                    <a:moveTo>
                      <a:pt x="4" y="1748"/>
                    </a:moveTo>
                    <a:lnTo>
                      <a:pt x="42" y="1756"/>
                    </a:lnTo>
                    <a:lnTo>
                      <a:pt x="86" y="1761"/>
                    </a:lnTo>
                    <a:lnTo>
                      <a:pt x="132" y="1765"/>
                    </a:lnTo>
                    <a:lnTo>
                      <a:pt x="176" y="1765"/>
                    </a:lnTo>
                    <a:lnTo>
                      <a:pt x="222" y="1765"/>
                    </a:lnTo>
                    <a:lnTo>
                      <a:pt x="267" y="1761"/>
                    </a:lnTo>
                    <a:lnTo>
                      <a:pt x="311" y="1756"/>
                    </a:lnTo>
                    <a:lnTo>
                      <a:pt x="355" y="1748"/>
                    </a:lnTo>
                    <a:lnTo>
                      <a:pt x="391" y="1738"/>
                    </a:lnTo>
                    <a:lnTo>
                      <a:pt x="391" y="1738"/>
                    </a:lnTo>
                    <a:lnTo>
                      <a:pt x="391" y="1736"/>
                    </a:lnTo>
                    <a:lnTo>
                      <a:pt x="391" y="1734"/>
                    </a:lnTo>
                    <a:lnTo>
                      <a:pt x="391" y="1734"/>
                    </a:lnTo>
                    <a:lnTo>
                      <a:pt x="391" y="1732"/>
                    </a:lnTo>
                    <a:lnTo>
                      <a:pt x="391" y="1731"/>
                    </a:lnTo>
                    <a:lnTo>
                      <a:pt x="391" y="1731"/>
                    </a:lnTo>
                    <a:lnTo>
                      <a:pt x="389" y="1729"/>
                    </a:lnTo>
                    <a:lnTo>
                      <a:pt x="353" y="1738"/>
                    </a:lnTo>
                    <a:lnTo>
                      <a:pt x="311" y="1746"/>
                    </a:lnTo>
                    <a:lnTo>
                      <a:pt x="267" y="1752"/>
                    </a:lnTo>
                    <a:lnTo>
                      <a:pt x="222" y="1754"/>
                    </a:lnTo>
                    <a:lnTo>
                      <a:pt x="176" y="1756"/>
                    </a:lnTo>
                    <a:lnTo>
                      <a:pt x="132" y="1754"/>
                    </a:lnTo>
                    <a:lnTo>
                      <a:pt x="88" y="1752"/>
                    </a:lnTo>
                    <a:lnTo>
                      <a:pt x="44" y="1746"/>
                    </a:lnTo>
                    <a:lnTo>
                      <a:pt x="2" y="1738"/>
                    </a:lnTo>
                    <a:lnTo>
                      <a:pt x="0" y="1738"/>
                    </a:lnTo>
                    <a:lnTo>
                      <a:pt x="0" y="1738"/>
                    </a:lnTo>
                    <a:lnTo>
                      <a:pt x="0" y="1740"/>
                    </a:lnTo>
                    <a:lnTo>
                      <a:pt x="2" y="1742"/>
                    </a:lnTo>
                    <a:lnTo>
                      <a:pt x="2" y="1742"/>
                    </a:lnTo>
                    <a:lnTo>
                      <a:pt x="2" y="1744"/>
                    </a:lnTo>
                    <a:lnTo>
                      <a:pt x="2" y="1746"/>
                    </a:lnTo>
                    <a:lnTo>
                      <a:pt x="4" y="1748"/>
                    </a:lnTo>
                    <a:lnTo>
                      <a:pt x="4" y="1748"/>
                    </a:lnTo>
                    <a:close/>
                  </a:path>
                </a:pathLst>
              </a:custGeom>
              <a:solidFill>
                <a:srgbClr val="54b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Freeform 94"/>
              <p:cNvSpPr/>
              <p:nvPr/>
            </p:nvSpPr>
            <p:spPr>
              <a:xfrm>
                <a:off x="1985040" y="1696680"/>
                <a:ext cx="671400" cy="2954880"/>
              </a:xfrm>
              <a:custGeom>
                <a:avLst/>
                <a:gdLst>
                  <a:gd name="textAreaLeft" fmla="*/ 0 w 671400"/>
                  <a:gd name="textAreaRight" fmla="*/ 671760 w 671400"/>
                  <a:gd name="textAreaTop" fmla="*/ 0 h 2954880"/>
                  <a:gd name="textAreaBottom" fmla="*/ 2955240 h 2954880"/>
                </a:gdLst>
                <a:ahLst/>
                <a:rect l="textAreaLeft" t="textAreaTop" r="textAreaRight" b="textAreaBottom"/>
                <a:pathLst>
                  <a:path w="399" h="1755">
                    <a:moveTo>
                      <a:pt x="399" y="27"/>
                    </a:moveTo>
                    <a:lnTo>
                      <a:pt x="399" y="27"/>
                    </a:lnTo>
                    <a:lnTo>
                      <a:pt x="355" y="17"/>
                    </a:lnTo>
                    <a:lnTo>
                      <a:pt x="313" y="9"/>
                    </a:lnTo>
                    <a:lnTo>
                      <a:pt x="269" y="4"/>
                    </a:lnTo>
                    <a:lnTo>
                      <a:pt x="224" y="0"/>
                    </a:lnTo>
                    <a:lnTo>
                      <a:pt x="178" y="0"/>
                    </a:lnTo>
                    <a:lnTo>
                      <a:pt x="176" y="0"/>
                    </a:lnTo>
                    <a:lnTo>
                      <a:pt x="176" y="0"/>
                    </a:lnTo>
                    <a:lnTo>
                      <a:pt x="175" y="2"/>
                    </a:lnTo>
                    <a:lnTo>
                      <a:pt x="175" y="4"/>
                    </a:lnTo>
                    <a:lnTo>
                      <a:pt x="175" y="4"/>
                    </a:lnTo>
                    <a:lnTo>
                      <a:pt x="173" y="5"/>
                    </a:lnTo>
                    <a:lnTo>
                      <a:pt x="173" y="7"/>
                    </a:lnTo>
                    <a:lnTo>
                      <a:pt x="173" y="7"/>
                    </a:lnTo>
                    <a:lnTo>
                      <a:pt x="171" y="9"/>
                    </a:lnTo>
                    <a:lnTo>
                      <a:pt x="178" y="9"/>
                    </a:lnTo>
                    <a:lnTo>
                      <a:pt x="224" y="11"/>
                    </a:lnTo>
                    <a:lnTo>
                      <a:pt x="269" y="13"/>
                    </a:lnTo>
                    <a:lnTo>
                      <a:pt x="311" y="19"/>
                    </a:lnTo>
                    <a:lnTo>
                      <a:pt x="353" y="27"/>
                    </a:lnTo>
                    <a:lnTo>
                      <a:pt x="393" y="36"/>
                    </a:lnTo>
                    <a:lnTo>
                      <a:pt x="395" y="34"/>
                    </a:lnTo>
                    <a:lnTo>
                      <a:pt x="395" y="34"/>
                    </a:lnTo>
                    <a:lnTo>
                      <a:pt x="395" y="32"/>
                    </a:lnTo>
                    <a:lnTo>
                      <a:pt x="397" y="32"/>
                    </a:lnTo>
                    <a:lnTo>
                      <a:pt x="397" y="30"/>
                    </a:lnTo>
                    <a:lnTo>
                      <a:pt x="397" y="28"/>
                    </a:lnTo>
                    <a:lnTo>
                      <a:pt x="399" y="28"/>
                    </a:lnTo>
                    <a:lnTo>
                      <a:pt x="399" y="27"/>
                    </a:lnTo>
                    <a:close/>
                    <a:moveTo>
                      <a:pt x="4" y="1736"/>
                    </a:moveTo>
                    <a:lnTo>
                      <a:pt x="46" y="1744"/>
                    </a:lnTo>
                    <a:lnTo>
                      <a:pt x="90" y="1750"/>
                    </a:lnTo>
                    <a:lnTo>
                      <a:pt x="134" y="1753"/>
                    </a:lnTo>
                    <a:lnTo>
                      <a:pt x="178" y="1755"/>
                    </a:lnTo>
                    <a:lnTo>
                      <a:pt x="224" y="1753"/>
                    </a:lnTo>
                    <a:lnTo>
                      <a:pt x="269" y="1750"/>
                    </a:lnTo>
                    <a:lnTo>
                      <a:pt x="313" y="1744"/>
                    </a:lnTo>
                    <a:lnTo>
                      <a:pt x="355" y="1736"/>
                    </a:lnTo>
                    <a:lnTo>
                      <a:pt x="393" y="1728"/>
                    </a:lnTo>
                    <a:lnTo>
                      <a:pt x="393" y="1726"/>
                    </a:lnTo>
                    <a:lnTo>
                      <a:pt x="393" y="1726"/>
                    </a:lnTo>
                    <a:lnTo>
                      <a:pt x="393" y="1725"/>
                    </a:lnTo>
                    <a:lnTo>
                      <a:pt x="393" y="1725"/>
                    </a:lnTo>
                    <a:lnTo>
                      <a:pt x="391" y="1725"/>
                    </a:lnTo>
                    <a:lnTo>
                      <a:pt x="391" y="1723"/>
                    </a:lnTo>
                    <a:lnTo>
                      <a:pt x="391" y="1723"/>
                    </a:lnTo>
                    <a:lnTo>
                      <a:pt x="391" y="1721"/>
                    </a:lnTo>
                    <a:lnTo>
                      <a:pt x="391" y="1721"/>
                    </a:lnTo>
                    <a:lnTo>
                      <a:pt x="391" y="1721"/>
                    </a:lnTo>
                    <a:lnTo>
                      <a:pt x="391" y="1721"/>
                    </a:lnTo>
                    <a:lnTo>
                      <a:pt x="391" y="1719"/>
                    </a:lnTo>
                    <a:lnTo>
                      <a:pt x="391" y="1719"/>
                    </a:lnTo>
                    <a:lnTo>
                      <a:pt x="391" y="1719"/>
                    </a:lnTo>
                    <a:lnTo>
                      <a:pt x="390" y="1719"/>
                    </a:lnTo>
                    <a:lnTo>
                      <a:pt x="390" y="1719"/>
                    </a:lnTo>
                    <a:lnTo>
                      <a:pt x="353" y="1726"/>
                    </a:lnTo>
                    <a:lnTo>
                      <a:pt x="311" y="1734"/>
                    </a:lnTo>
                    <a:lnTo>
                      <a:pt x="269" y="1740"/>
                    </a:lnTo>
                    <a:lnTo>
                      <a:pt x="224" y="1744"/>
                    </a:lnTo>
                    <a:lnTo>
                      <a:pt x="178" y="1744"/>
                    </a:lnTo>
                    <a:lnTo>
                      <a:pt x="134" y="1744"/>
                    </a:lnTo>
                    <a:lnTo>
                      <a:pt x="90" y="1740"/>
                    </a:lnTo>
                    <a:lnTo>
                      <a:pt x="46" y="1734"/>
                    </a:lnTo>
                    <a:lnTo>
                      <a:pt x="4" y="1726"/>
                    </a:lnTo>
                    <a:lnTo>
                      <a:pt x="0" y="1726"/>
                    </a:lnTo>
                    <a:lnTo>
                      <a:pt x="0" y="1726"/>
                    </a:lnTo>
                    <a:lnTo>
                      <a:pt x="2" y="1728"/>
                    </a:lnTo>
                    <a:lnTo>
                      <a:pt x="2" y="1730"/>
                    </a:lnTo>
                    <a:lnTo>
                      <a:pt x="2" y="1730"/>
                    </a:lnTo>
                    <a:lnTo>
                      <a:pt x="2" y="1732"/>
                    </a:lnTo>
                    <a:lnTo>
                      <a:pt x="2" y="1734"/>
                    </a:lnTo>
                    <a:lnTo>
                      <a:pt x="4" y="1736"/>
                    </a:lnTo>
                    <a:lnTo>
                      <a:pt x="4" y="1736"/>
                    </a:lnTo>
                    <a:close/>
                  </a:path>
                </a:pathLst>
              </a:custGeom>
              <a:solidFill>
                <a:srgbClr val="55b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Freeform 95"/>
              <p:cNvSpPr/>
              <p:nvPr/>
            </p:nvSpPr>
            <p:spPr>
              <a:xfrm>
                <a:off x="1981800" y="1703520"/>
                <a:ext cx="671400" cy="2939760"/>
              </a:xfrm>
              <a:custGeom>
                <a:avLst/>
                <a:gdLst>
                  <a:gd name="textAreaLeft" fmla="*/ 0 w 671400"/>
                  <a:gd name="textAreaRight" fmla="*/ 671760 w 671400"/>
                  <a:gd name="textAreaTop" fmla="*/ 0 h 2939760"/>
                  <a:gd name="textAreaBottom" fmla="*/ 2940120 h 2939760"/>
                </a:gdLst>
                <a:ahLst/>
                <a:rect l="textAreaLeft" t="textAreaTop" r="textAreaRight" b="textAreaBottom"/>
                <a:pathLst>
                  <a:path w="399" h="1746">
                    <a:moveTo>
                      <a:pt x="399" y="28"/>
                    </a:moveTo>
                    <a:lnTo>
                      <a:pt x="357" y="19"/>
                    </a:lnTo>
                    <a:lnTo>
                      <a:pt x="315" y="11"/>
                    </a:lnTo>
                    <a:lnTo>
                      <a:pt x="271" y="5"/>
                    </a:lnTo>
                    <a:lnTo>
                      <a:pt x="226" y="1"/>
                    </a:lnTo>
                    <a:lnTo>
                      <a:pt x="180" y="0"/>
                    </a:lnTo>
                    <a:lnTo>
                      <a:pt x="177" y="0"/>
                    </a:lnTo>
                    <a:lnTo>
                      <a:pt x="175" y="1"/>
                    </a:lnTo>
                    <a:lnTo>
                      <a:pt x="175" y="3"/>
                    </a:lnTo>
                    <a:lnTo>
                      <a:pt x="175" y="3"/>
                    </a:lnTo>
                    <a:lnTo>
                      <a:pt x="173" y="5"/>
                    </a:lnTo>
                    <a:lnTo>
                      <a:pt x="173" y="7"/>
                    </a:lnTo>
                    <a:lnTo>
                      <a:pt x="171" y="9"/>
                    </a:lnTo>
                    <a:lnTo>
                      <a:pt x="171" y="9"/>
                    </a:lnTo>
                    <a:lnTo>
                      <a:pt x="171" y="11"/>
                    </a:lnTo>
                    <a:lnTo>
                      <a:pt x="180" y="11"/>
                    </a:lnTo>
                    <a:lnTo>
                      <a:pt x="225" y="11"/>
                    </a:lnTo>
                    <a:lnTo>
                      <a:pt x="269" y="15"/>
                    </a:lnTo>
                    <a:lnTo>
                      <a:pt x="313" y="21"/>
                    </a:lnTo>
                    <a:lnTo>
                      <a:pt x="355" y="28"/>
                    </a:lnTo>
                    <a:lnTo>
                      <a:pt x="393" y="38"/>
                    </a:lnTo>
                    <a:lnTo>
                      <a:pt x="393" y="36"/>
                    </a:lnTo>
                    <a:lnTo>
                      <a:pt x="395" y="34"/>
                    </a:lnTo>
                    <a:lnTo>
                      <a:pt x="395" y="34"/>
                    </a:lnTo>
                    <a:lnTo>
                      <a:pt x="395" y="32"/>
                    </a:lnTo>
                    <a:lnTo>
                      <a:pt x="397" y="30"/>
                    </a:lnTo>
                    <a:lnTo>
                      <a:pt x="397" y="30"/>
                    </a:lnTo>
                    <a:lnTo>
                      <a:pt x="397" y="28"/>
                    </a:lnTo>
                    <a:lnTo>
                      <a:pt x="399" y="28"/>
                    </a:lnTo>
                    <a:close/>
                    <a:moveTo>
                      <a:pt x="4" y="1728"/>
                    </a:moveTo>
                    <a:lnTo>
                      <a:pt x="6" y="1728"/>
                    </a:lnTo>
                    <a:lnTo>
                      <a:pt x="48" y="1736"/>
                    </a:lnTo>
                    <a:lnTo>
                      <a:pt x="92" y="1742"/>
                    </a:lnTo>
                    <a:lnTo>
                      <a:pt x="136" y="1744"/>
                    </a:lnTo>
                    <a:lnTo>
                      <a:pt x="180" y="1746"/>
                    </a:lnTo>
                    <a:lnTo>
                      <a:pt x="226" y="1744"/>
                    </a:lnTo>
                    <a:lnTo>
                      <a:pt x="271" y="1742"/>
                    </a:lnTo>
                    <a:lnTo>
                      <a:pt x="315" y="1736"/>
                    </a:lnTo>
                    <a:lnTo>
                      <a:pt x="357" y="1728"/>
                    </a:lnTo>
                    <a:lnTo>
                      <a:pt x="393" y="1719"/>
                    </a:lnTo>
                    <a:lnTo>
                      <a:pt x="393" y="1719"/>
                    </a:lnTo>
                    <a:lnTo>
                      <a:pt x="393" y="1719"/>
                    </a:lnTo>
                    <a:lnTo>
                      <a:pt x="393" y="1719"/>
                    </a:lnTo>
                    <a:lnTo>
                      <a:pt x="393" y="1719"/>
                    </a:lnTo>
                    <a:lnTo>
                      <a:pt x="393" y="1719"/>
                    </a:lnTo>
                    <a:lnTo>
                      <a:pt x="393" y="1717"/>
                    </a:lnTo>
                    <a:lnTo>
                      <a:pt x="393" y="1717"/>
                    </a:lnTo>
                    <a:lnTo>
                      <a:pt x="393" y="1717"/>
                    </a:lnTo>
                    <a:lnTo>
                      <a:pt x="393" y="1717"/>
                    </a:lnTo>
                    <a:lnTo>
                      <a:pt x="393" y="1715"/>
                    </a:lnTo>
                    <a:lnTo>
                      <a:pt x="392" y="1715"/>
                    </a:lnTo>
                    <a:lnTo>
                      <a:pt x="392" y="1713"/>
                    </a:lnTo>
                    <a:lnTo>
                      <a:pt x="392" y="1713"/>
                    </a:lnTo>
                    <a:lnTo>
                      <a:pt x="392" y="1711"/>
                    </a:lnTo>
                    <a:lnTo>
                      <a:pt x="390" y="1711"/>
                    </a:lnTo>
                    <a:lnTo>
                      <a:pt x="390" y="1709"/>
                    </a:lnTo>
                    <a:lnTo>
                      <a:pt x="355" y="1717"/>
                    </a:lnTo>
                    <a:lnTo>
                      <a:pt x="313" y="1724"/>
                    </a:lnTo>
                    <a:lnTo>
                      <a:pt x="269" y="1730"/>
                    </a:lnTo>
                    <a:lnTo>
                      <a:pt x="225" y="1734"/>
                    </a:lnTo>
                    <a:lnTo>
                      <a:pt x="180" y="1736"/>
                    </a:lnTo>
                    <a:lnTo>
                      <a:pt x="136" y="1734"/>
                    </a:lnTo>
                    <a:lnTo>
                      <a:pt x="92" y="1730"/>
                    </a:lnTo>
                    <a:lnTo>
                      <a:pt x="50" y="1724"/>
                    </a:lnTo>
                    <a:lnTo>
                      <a:pt x="8" y="1717"/>
                    </a:lnTo>
                    <a:lnTo>
                      <a:pt x="0" y="1717"/>
                    </a:lnTo>
                    <a:lnTo>
                      <a:pt x="0" y="1717"/>
                    </a:lnTo>
                    <a:lnTo>
                      <a:pt x="2" y="1719"/>
                    </a:lnTo>
                    <a:lnTo>
                      <a:pt x="2" y="1721"/>
                    </a:lnTo>
                    <a:lnTo>
                      <a:pt x="2" y="1722"/>
                    </a:lnTo>
                    <a:lnTo>
                      <a:pt x="2" y="1722"/>
                    </a:lnTo>
                    <a:lnTo>
                      <a:pt x="4" y="1724"/>
                    </a:lnTo>
                    <a:lnTo>
                      <a:pt x="4" y="1726"/>
                    </a:lnTo>
                    <a:lnTo>
                      <a:pt x="4" y="1728"/>
                    </a:lnTo>
                    <a:close/>
                  </a:path>
                </a:pathLst>
              </a:custGeom>
              <a:solidFill>
                <a:srgbClr val="56b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Freeform 96"/>
              <p:cNvSpPr/>
              <p:nvPr/>
            </p:nvSpPr>
            <p:spPr>
              <a:xfrm>
                <a:off x="1978200" y="1711800"/>
                <a:ext cx="668520" cy="2921400"/>
              </a:xfrm>
              <a:custGeom>
                <a:avLst/>
                <a:gdLst>
                  <a:gd name="textAreaLeft" fmla="*/ 0 w 668520"/>
                  <a:gd name="textAreaRight" fmla="*/ 668880 w 668520"/>
                  <a:gd name="textAreaTop" fmla="*/ 0 h 2921400"/>
                  <a:gd name="textAreaBottom" fmla="*/ 2921760 h 2921400"/>
                </a:gdLst>
                <a:ahLst/>
                <a:rect l="textAreaLeft" t="textAreaTop" r="textAreaRight" b="textAreaBottom"/>
                <a:pathLst>
                  <a:path w="397" h="1735">
                    <a:moveTo>
                      <a:pt x="397" y="27"/>
                    </a:moveTo>
                    <a:lnTo>
                      <a:pt x="357" y="18"/>
                    </a:lnTo>
                    <a:lnTo>
                      <a:pt x="315" y="10"/>
                    </a:lnTo>
                    <a:lnTo>
                      <a:pt x="273" y="4"/>
                    </a:lnTo>
                    <a:lnTo>
                      <a:pt x="228" y="2"/>
                    </a:lnTo>
                    <a:lnTo>
                      <a:pt x="182" y="0"/>
                    </a:lnTo>
                    <a:lnTo>
                      <a:pt x="175" y="0"/>
                    </a:lnTo>
                    <a:lnTo>
                      <a:pt x="175" y="2"/>
                    </a:lnTo>
                    <a:lnTo>
                      <a:pt x="173" y="4"/>
                    </a:lnTo>
                    <a:lnTo>
                      <a:pt x="173" y="4"/>
                    </a:lnTo>
                    <a:lnTo>
                      <a:pt x="173" y="6"/>
                    </a:lnTo>
                    <a:lnTo>
                      <a:pt x="171" y="8"/>
                    </a:lnTo>
                    <a:lnTo>
                      <a:pt x="171" y="8"/>
                    </a:lnTo>
                    <a:lnTo>
                      <a:pt x="171" y="10"/>
                    </a:lnTo>
                    <a:lnTo>
                      <a:pt x="169" y="12"/>
                    </a:lnTo>
                    <a:lnTo>
                      <a:pt x="182" y="10"/>
                    </a:lnTo>
                    <a:lnTo>
                      <a:pt x="227" y="12"/>
                    </a:lnTo>
                    <a:lnTo>
                      <a:pt x="271" y="16"/>
                    </a:lnTo>
                    <a:lnTo>
                      <a:pt x="313" y="21"/>
                    </a:lnTo>
                    <a:lnTo>
                      <a:pt x="355" y="27"/>
                    </a:lnTo>
                    <a:lnTo>
                      <a:pt x="394" y="37"/>
                    </a:lnTo>
                    <a:lnTo>
                      <a:pt x="394" y="35"/>
                    </a:lnTo>
                    <a:lnTo>
                      <a:pt x="394" y="35"/>
                    </a:lnTo>
                    <a:lnTo>
                      <a:pt x="395" y="33"/>
                    </a:lnTo>
                    <a:lnTo>
                      <a:pt x="395" y="33"/>
                    </a:lnTo>
                    <a:lnTo>
                      <a:pt x="395" y="31"/>
                    </a:lnTo>
                    <a:lnTo>
                      <a:pt x="397" y="29"/>
                    </a:lnTo>
                    <a:lnTo>
                      <a:pt x="397" y="29"/>
                    </a:lnTo>
                    <a:lnTo>
                      <a:pt x="397" y="27"/>
                    </a:lnTo>
                    <a:close/>
                    <a:moveTo>
                      <a:pt x="4" y="1717"/>
                    </a:moveTo>
                    <a:lnTo>
                      <a:pt x="8" y="1717"/>
                    </a:lnTo>
                    <a:lnTo>
                      <a:pt x="50" y="1725"/>
                    </a:lnTo>
                    <a:lnTo>
                      <a:pt x="94" y="1731"/>
                    </a:lnTo>
                    <a:lnTo>
                      <a:pt x="138" y="1735"/>
                    </a:lnTo>
                    <a:lnTo>
                      <a:pt x="182" y="1735"/>
                    </a:lnTo>
                    <a:lnTo>
                      <a:pt x="228" y="1735"/>
                    </a:lnTo>
                    <a:lnTo>
                      <a:pt x="273" y="1731"/>
                    </a:lnTo>
                    <a:lnTo>
                      <a:pt x="315" y="1725"/>
                    </a:lnTo>
                    <a:lnTo>
                      <a:pt x="357" y="1717"/>
                    </a:lnTo>
                    <a:lnTo>
                      <a:pt x="394" y="1710"/>
                    </a:lnTo>
                    <a:lnTo>
                      <a:pt x="394" y="1708"/>
                    </a:lnTo>
                    <a:lnTo>
                      <a:pt x="394" y="1706"/>
                    </a:lnTo>
                    <a:lnTo>
                      <a:pt x="392" y="1706"/>
                    </a:lnTo>
                    <a:lnTo>
                      <a:pt x="392" y="1704"/>
                    </a:lnTo>
                    <a:lnTo>
                      <a:pt x="392" y="1704"/>
                    </a:lnTo>
                    <a:lnTo>
                      <a:pt x="390" y="1702"/>
                    </a:lnTo>
                    <a:lnTo>
                      <a:pt x="390" y="1700"/>
                    </a:lnTo>
                    <a:lnTo>
                      <a:pt x="390" y="1700"/>
                    </a:lnTo>
                    <a:lnTo>
                      <a:pt x="355" y="1708"/>
                    </a:lnTo>
                    <a:lnTo>
                      <a:pt x="313" y="1716"/>
                    </a:lnTo>
                    <a:lnTo>
                      <a:pt x="271" y="1721"/>
                    </a:lnTo>
                    <a:lnTo>
                      <a:pt x="227" y="1723"/>
                    </a:lnTo>
                    <a:lnTo>
                      <a:pt x="182" y="1725"/>
                    </a:lnTo>
                    <a:lnTo>
                      <a:pt x="138" y="1723"/>
                    </a:lnTo>
                    <a:lnTo>
                      <a:pt x="96" y="1721"/>
                    </a:lnTo>
                    <a:lnTo>
                      <a:pt x="52" y="1716"/>
                    </a:lnTo>
                    <a:lnTo>
                      <a:pt x="10" y="1708"/>
                    </a:lnTo>
                    <a:lnTo>
                      <a:pt x="0" y="1706"/>
                    </a:lnTo>
                    <a:lnTo>
                      <a:pt x="2" y="1706"/>
                    </a:lnTo>
                    <a:lnTo>
                      <a:pt x="2" y="1708"/>
                    </a:lnTo>
                    <a:lnTo>
                      <a:pt x="2" y="1710"/>
                    </a:lnTo>
                    <a:lnTo>
                      <a:pt x="2" y="1712"/>
                    </a:lnTo>
                    <a:lnTo>
                      <a:pt x="2" y="1712"/>
                    </a:lnTo>
                    <a:lnTo>
                      <a:pt x="4" y="1714"/>
                    </a:lnTo>
                    <a:lnTo>
                      <a:pt x="4" y="1716"/>
                    </a:lnTo>
                    <a:lnTo>
                      <a:pt x="4" y="1717"/>
                    </a:lnTo>
                    <a:close/>
                  </a:path>
                </a:pathLst>
              </a:custGeom>
              <a:solidFill>
                <a:srgbClr val="57b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Freeform 97"/>
              <p:cNvSpPr/>
              <p:nvPr/>
            </p:nvSpPr>
            <p:spPr>
              <a:xfrm>
                <a:off x="1978200" y="1722240"/>
                <a:ext cx="664920" cy="290412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2904120"/>
                  <a:gd name="textAreaBottom" fmla="*/ 2904480 h 2904120"/>
                </a:gdLst>
                <a:ahLst/>
                <a:rect l="textAreaLeft" t="textAreaTop" r="textAreaRight" b="textAreaBottom"/>
                <a:pathLst>
                  <a:path w="395" h="1725">
                    <a:moveTo>
                      <a:pt x="395" y="27"/>
                    </a:moveTo>
                    <a:lnTo>
                      <a:pt x="357" y="17"/>
                    </a:lnTo>
                    <a:lnTo>
                      <a:pt x="315" y="10"/>
                    </a:lnTo>
                    <a:lnTo>
                      <a:pt x="271" y="4"/>
                    </a:lnTo>
                    <a:lnTo>
                      <a:pt x="227" y="0"/>
                    </a:lnTo>
                    <a:lnTo>
                      <a:pt x="182" y="0"/>
                    </a:lnTo>
                    <a:lnTo>
                      <a:pt x="173" y="0"/>
                    </a:lnTo>
                    <a:lnTo>
                      <a:pt x="171" y="2"/>
                    </a:lnTo>
                    <a:lnTo>
                      <a:pt x="171" y="2"/>
                    </a:lnTo>
                    <a:lnTo>
                      <a:pt x="171" y="4"/>
                    </a:lnTo>
                    <a:lnTo>
                      <a:pt x="169" y="6"/>
                    </a:lnTo>
                    <a:lnTo>
                      <a:pt x="169" y="6"/>
                    </a:lnTo>
                    <a:lnTo>
                      <a:pt x="167" y="8"/>
                    </a:lnTo>
                    <a:lnTo>
                      <a:pt x="167" y="10"/>
                    </a:lnTo>
                    <a:lnTo>
                      <a:pt x="167" y="10"/>
                    </a:lnTo>
                    <a:lnTo>
                      <a:pt x="182" y="10"/>
                    </a:lnTo>
                    <a:lnTo>
                      <a:pt x="227" y="12"/>
                    </a:lnTo>
                    <a:lnTo>
                      <a:pt x="271" y="13"/>
                    </a:lnTo>
                    <a:lnTo>
                      <a:pt x="313" y="19"/>
                    </a:lnTo>
                    <a:lnTo>
                      <a:pt x="355" y="27"/>
                    </a:lnTo>
                    <a:lnTo>
                      <a:pt x="390" y="35"/>
                    </a:lnTo>
                    <a:lnTo>
                      <a:pt x="392" y="35"/>
                    </a:lnTo>
                    <a:lnTo>
                      <a:pt x="392" y="33"/>
                    </a:lnTo>
                    <a:lnTo>
                      <a:pt x="392" y="33"/>
                    </a:lnTo>
                    <a:lnTo>
                      <a:pt x="394" y="31"/>
                    </a:lnTo>
                    <a:lnTo>
                      <a:pt x="394" y="29"/>
                    </a:lnTo>
                    <a:lnTo>
                      <a:pt x="394" y="29"/>
                    </a:lnTo>
                    <a:lnTo>
                      <a:pt x="395" y="27"/>
                    </a:lnTo>
                    <a:lnTo>
                      <a:pt x="395" y="27"/>
                    </a:lnTo>
                    <a:close/>
                    <a:moveTo>
                      <a:pt x="2" y="1706"/>
                    </a:moveTo>
                    <a:lnTo>
                      <a:pt x="10" y="1706"/>
                    </a:lnTo>
                    <a:lnTo>
                      <a:pt x="52" y="1713"/>
                    </a:lnTo>
                    <a:lnTo>
                      <a:pt x="94" y="1719"/>
                    </a:lnTo>
                    <a:lnTo>
                      <a:pt x="138" y="1723"/>
                    </a:lnTo>
                    <a:lnTo>
                      <a:pt x="182" y="1725"/>
                    </a:lnTo>
                    <a:lnTo>
                      <a:pt x="227" y="1723"/>
                    </a:lnTo>
                    <a:lnTo>
                      <a:pt x="271" y="1719"/>
                    </a:lnTo>
                    <a:lnTo>
                      <a:pt x="315" y="1713"/>
                    </a:lnTo>
                    <a:lnTo>
                      <a:pt x="357" y="1706"/>
                    </a:lnTo>
                    <a:lnTo>
                      <a:pt x="392" y="1698"/>
                    </a:lnTo>
                    <a:lnTo>
                      <a:pt x="392" y="1698"/>
                    </a:lnTo>
                    <a:lnTo>
                      <a:pt x="390" y="1696"/>
                    </a:lnTo>
                    <a:lnTo>
                      <a:pt x="390" y="1694"/>
                    </a:lnTo>
                    <a:lnTo>
                      <a:pt x="390" y="1694"/>
                    </a:lnTo>
                    <a:lnTo>
                      <a:pt x="388" y="1692"/>
                    </a:lnTo>
                    <a:lnTo>
                      <a:pt x="388" y="1692"/>
                    </a:lnTo>
                    <a:lnTo>
                      <a:pt x="388" y="1690"/>
                    </a:lnTo>
                    <a:lnTo>
                      <a:pt x="388" y="1688"/>
                    </a:lnTo>
                    <a:lnTo>
                      <a:pt x="355" y="1696"/>
                    </a:lnTo>
                    <a:lnTo>
                      <a:pt x="313" y="1704"/>
                    </a:lnTo>
                    <a:lnTo>
                      <a:pt x="271" y="1710"/>
                    </a:lnTo>
                    <a:lnTo>
                      <a:pt x="227" y="1713"/>
                    </a:lnTo>
                    <a:lnTo>
                      <a:pt x="182" y="1713"/>
                    </a:lnTo>
                    <a:lnTo>
                      <a:pt x="138" y="1713"/>
                    </a:lnTo>
                    <a:lnTo>
                      <a:pt x="96" y="1710"/>
                    </a:lnTo>
                    <a:lnTo>
                      <a:pt x="54" y="1704"/>
                    </a:lnTo>
                    <a:lnTo>
                      <a:pt x="12" y="1696"/>
                    </a:lnTo>
                    <a:lnTo>
                      <a:pt x="0" y="1694"/>
                    </a:lnTo>
                    <a:lnTo>
                      <a:pt x="0" y="1694"/>
                    </a:lnTo>
                    <a:lnTo>
                      <a:pt x="0" y="1696"/>
                    </a:lnTo>
                    <a:lnTo>
                      <a:pt x="0" y="1698"/>
                    </a:lnTo>
                    <a:lnTo>
                      <a:pt x="0" y="1700"/>
                    </a:lnTo>
                    <a:lnTo>
                      <a:pt x="2" y="1700"/>
                    </a:lnTo>
                    <a:lnTo>
                      <a:pt x="2" y="1702"/>
                    </a:lnTo>
                    <a:lnTo>
                      <a:pt x="2" y="1704"/>
                    </a:lnTo>
                    <a:lnTo>
                      <a:pt x="2" y="1706"/>
                    </a:lnTo>
                    <a:close/>
                  </a:path>
                </a:pathLst>
              </a:custGeom>
              <a:solidFill>
                <a:srgbClr val="58b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Freeform 98"/>
              <p:cNvSpPr/>
              <p:nvPr/>
            </p:nvSpPr>
            <p:spPr>
              <a:xfrm>
                <a:off x="1974960" y="1728720"/>
                <a:ext cx="667080" cy="2887920"/>
              </a:xfrm>
              <a:custGeom>
                <a:avLst/>
                <a:gdLst>
                  <a:gd name="textAreaLeft" fmla="*/ 0 w 667080"/>
                  <a:gd name="textAreaRight" fmla="*/ 667440 w 667080"/>
                  <a:gd name="textAreaTop" fmla="*/ 0 h 2887920"/>
                  <a:gd name="textAreaBottom" fmla="*/ 2888280 h 2887920"/>
                </a:gdLst>
                <a:ahLst/>
                <a:rect l="textAreaLeft" t="textAreaTop" r="textAreaRight" b="textAreaBottom"/>
                <a:pathLst>
                  <a:path w="396" h="1715">
                    <a:moveTo>
                      <a:pt x="396" y="27"/>
                    </a:moveTo>
                    <a:lnTo>
                      <a:pt x="357" y="17"/>
                    </a:lnTo>
                    <a:lnTo>
                      <a:pt x="315" y="11"/>
                    </a:lnTo>
                    <a:lnTo>
                      <a:pt x="273" y="6"/>
                    </a:lnTo>
                    <a:lnTo>
                      <a:pt x="229" y="2"/>
                    </a:lnTo>
                    <a:lnTo>
                      <a:pt x="184" y="0"/>
                    </a:lnTo>
                    <a:lnTo>
                      <a:pt x="171" y="2"/>
                    </a:lnTo>
                    <a:lnTo>
                      <a:pt x="171" y="2"/>
                    </a:lnTo>
                    <a:lnTo>
                      <a:pt x="169" y="4"/>
                    </a:lnTo>
                    <a:lnTo>
                      <a:pt x="169" y="6"/>
                    </a:lnTo>
                    <a:lnTo>
                      <a:pt x="169" y="6"/>
                    </a:lnTo>
                    <a:lnTo>
                      <a:pt x="167" y="8"/>
                    </a:lnTo>
                    <a:lnTo>
                      <a:pt x="167" y="9"/>
                    </a:lnTo>
                    <a:lnTo>
                      <a:pt x="167" y="9"/>
                    </a:lnTo>
                    <a:lnTo>
                      <a:pt x="165" y="11"/>
                    </a:lnTo>
                    <a:lnTo>
                      <a:pt x="184" y="11"/>
                    </a:lnTo>
                    <a:lnTo>
                      <a:pt x="229" y="11"/>
                    </a:lnTo>
                    <a:lnTo>
                      <a:pt x="271" y="15"/>
                    </a:lnTo>
                    <a:lnTo>
                      <a:pt x="315" y="21"/>
                    </a:lnTo>
                    <a:lnTo>
                      <a:pt x="355" y="29"/>
                    </a:lnTo>
                    <a:lnTo>
                      <a:pt x="390" y="36"/>
                    </a:lnTo>
                    <a:lnTo>
                      <a:pt x="390" y="34"/>
                    </a:lnTo>
                    <a:lnTo>
                      <a:pt x="392" y="34"/>
                    </a:lnTo>
                    <a:lnTo>
                      <a:pt x="392" y="32"/>
                    </a:lnTo>
                    <a:lnTo>
                      <a:pt x="392" y="31"/>
                    </a:lnTo>
                    <a:lnTo>
                      <a:pt x="394" y="31"/>
                    </a:lnTo>
                    <a:lnTo>
                      <a:pt x="394" y="29"/>
                    </a:lnTo>
                    <a:lnTo>
                      <a:pt x="394" y="29"/>
                    </a:lnTo>
                    <a:lnTo>
                      <a:pt x="396" y="27"/>
                    </a:lnTo>
                    <a:close/>
                    <a:moveTo>
                      <a:pt x="2" y="1696"/>
                    </a:moveTo>
                    <a:lnTo>
                      <a:pt x="12" y="1698"/>
                    </a:lnTo>
                    <a:lnTo>
                      <a:pt x="54" y="1706"/>
                    </a:lnTo>
                    <a:lnTo>
                      <a:pt x="98" y="1711"/>
                    </a:lnTo>
                    <a:lnTo>
                      <a:pt x="140" y="1713"/>
                    </a:lnTo>
                    <a:lnTo>
                      <a:pt x="184" y="1715"/>
                    </a:lnTo>
                    <a:lnTo>
                      <a:pt x="229" y="1713"/>
                    </a:lnTo>
                    <a:lnTo>
                      <a:pt x="273" y="1711"/>
                    </a:lnTo>
                    <a:lnTo>
                      <a:pt x="315" y="1706"/>
                    </a:lnTo>
                    <a:lnTo>
                      <a:pt x="357" y="1698"/>
                    </a:lnTo>
                    <a:lnTo>
                      <a:pt x="392" y="1690"/>
                    </a:lnTo>
                    <a:lnTo>
                      <a:pt x="390" y="1688"/>
                    </a:lnTo>
                    <a:lnTo>
                      <a:pt x="390" y="1688"/>
                    </a:lnTo>
                    <a:lnTo>
                      <a:pt x="390" y="1686"/>
                    </a:lnTo>
                    <a:lnTo>
                      <a:pt x="390" y="1684"/>
                    </a:lnTo>
                    <a:lnTo>
                      <a:pt x="388" y="1684"/>
                    </a:lnTo>
                    <a:lnTo>
                      <a:pt x="388" y="1683"/>
                    </a:lnTo>
                    <a:lnTo>
                      <a:pt x="388" y="1681"/>
                    </a:lnTo>
                    <a:lnTo>
                      <a:pt x="386" y="1681"/>
                    </a:lnTo>
                    <a:lnTo>
                      <a:pt x="355" y="1688"/>
                    </a:lnTo>
                    <a:lnTo>
                      <a:pt x="315" y="1694"/>
                    </a:lnTo>
                    <a:lnTo>
                      <a:pt x="271" y="1700"/>
                    </a:lnTo>
                    <a:lnTo>
                      <a:pt x="229" y="1704"/>
                    </a:lnTo>
                    <a:lnTo>
                      <a:pt x="184" y="1706"/>
                    </a:lnTo>
                    <a:lnTo>
                      <a:pt x="142" y="1704"/>
                    </a:lnTo>
                    <a:lnTo>
                      <a:pt x="98" y="1700"/>
                    </a:lnTo>
                    <a:lnTo>
                      <a:pt x="56" y="1694"/>
                    </a:lnTo>
                    <a:lnTo>
                      <a:pt x="14" y="1688"/>
                    </a:lnTo>
                    <a:lnTo>
                      <a:pt x="0" y="1684"/>
                    </a:lnTo>
                    <a:lnTo>
                      <a:pt x="0" y="1686"/>
                    </a:lnTo>
                    <a:lnTo>
                      <a:pt x="0" y="1686"/>
                    </a:lnTo>
                    <a:lnTo>
                      <a:pt x="0" y="1688"/>
                    </a:lnTo>
                    <a:lnTo>
                      <a:pt x="2" y="1690"/>
                    </a:lnTo>
                    <a:lnTo>
                      <a:pt x="2" y="1690"/>
                    </a:lnTo>
                    <a:lnTo>
                      <a:pt x="2" y="1692"/>
                    </a:lnTo>
                    <a:lnTo>
                      <a:pt x="2" y="1694"/>
                    </a:lnTo>
                    <a:lnTo>
                      <a:pt x="2" y="1696"/>
                    </a:lnTo>
                    <a:close/>
                  </a:path>
                </a:pathLst>
              </a:custGeom>
              <a:solidFill>
                <a:srgbClr val="59b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Freeform 99"/>
              <p:cNvSpPr/>
              <p:nvPr/>
            </p:nvSpPr>
            <p:spPr>
              <a:xfrm>
                <a:off x="1971720" y="1738800"/>
                <a:ext cx="663120" cy="2867040"/>
              </a:xfrm>
              <a:custGeom>
                <a:avLst/>
                <a:gdLst>
                  <a:gd name="textAreaLeft" fmla="*/ 0 w 663120"/>
                  <a:gd name="textAreaRight" fmla="*/ 663480 w 663120"/>
                  <a:gd name="textAreaTop" fmla="*/ 0 h 2867040"/>
                  <a:gd name="textAreaBottom" fmla="*/ 2867400 h 2867040"/>
                </a:gdLst>
                <a:ahLst/>
                <a:rect l="textAreaLeft" t="textAreaTop" r="textAreaRight" b="textAreaBottom"/>
                <a:pathLst>
                  <a:path w="394" h="1703">
                    <a:moveTo>
                      <a:pt x="394" y="25"/>
                    </a:moveTo>
                    <a:lnTo>
                      <a:pt x="359" y="17"/>
                    </a:lnTo>
                    <a:lnTo>
                      <a:pt x="317" y="9"/>
                    </a:lnTo>
                    <a:lnTo>
                      <a:pt x="275" y="3"/>
                    </a:lnTo>
                    <a:lnTo>
                      <a:pt x="231" y="2"/>
                    </a:lnTo>
                    <a:lnTo>
                      <a:pt x="186" y="0"/>
                    </a:lnTo>
                    <a:lnTo>
                      <a:pt x="171" y="0"/>
                    </a:lnTo>
                    <a:lnTo>
                      <a:pt x="169" y="2"/>
                    </a:lnTo>
                    <a:lnTo>
                      <a:pt x="169" y="3"/>
                    </a:lnTo>
                    <a:lnTo>
                      <a:pt x="169" y="3"/>
                    </a:lnTo>
                    <a:lnTo>
                      <a:pt x="167" y="5"/>
                    </a:lnTo>
                    <a:lnTo>
                      <a:pt x="167" y="7"/>
                    </a:lnTo>
                    <a:lnTo>
                      <a:pt x="167" y="7"/>
                    </a:lnTo>
                    <a:lnTo>
                      <a:pt x="165" y="9"/>
                    </a:lnTo>
                    <a:lnTo>
                      <a:pt x="165" y="11"/>
                    </a:lnTo>
                    <a:lnTo>
                      <a:pt x="186" y="9"/>
                    </a:lnTo>
                    <a:lnTo>
                      <a:pt x="231" y="11"/>
                    </a:lnTo>
                    <a:lnTo>
                      <a:pt x="273" y="15"/>
                    </a:lnTo>
                    <a:lnTo>
                      <a:pt x="315" y="19"/>
                    </a:lnTo>
                    <a:lnTo>
                      <a:pt x="357" y="26"/>
                    </a:lnTo>
                    <a:lnTo>
                      <a:pt x="390" y="34"/>
                    </a:lnTo>
                    <a:lnTo>
                      <a:pt x="390" y="34"/>
                    </a:lnTo>
                    <a:lnTo>
                      <a:pt x="392" y="32"/>
                    </a:lnTo>
                    <a:lnTo>
                      <a:pt x="392" y="30"/>
                    </a:lnTo>
                    <a:lnTo>
                      <a:pt x="392" y="30"/>
                    </a:lnTo>
                    <a:lnTo>
                      <a:pt x="392" y="28"/>
                    </a:lnTo>
                    <a:lnTo>
                      <a:pt x="394" y="28"/>
                    </a:lnTo>
                    <a:lnTo>
                      <a:pt x="394" y="26"/>
                    </a:lnTo>
                    <a:lnTo>
                      <a:pt x="394" y="25"/>
                    </a:lnTo>
                    <a:close/>
                    <a:moveTo>
                      <a:pt x="4" y="1684"/>
                    </a:moveTo>
                    <a:lnTo>
                      <a:pt x="16" y="1686"/>
                    </a:lnTo>
                    <a:lnTo>
                      <a:pt x="58" y="1694"/>
                    </a:lnTo>
                    <a:lnTo>
                      <a:pt x="100" y="1700"/>
                    </a:lnTo>
                    <a:lnTo>
                      <a:pt x="142" y="1703"/>
                    </a:lnTo>
                    <a:lnTo>
                      <a:pt x="186" y="1703"/>
                    </a:lnTo>
                    <a:lnTo>
                      <a:pt x="231" y="1703"/>
                    </a:lnTo>
                    <a:lnTo>
                      <a:pt x="275" y="1700"/>
                    </a:lnTo>
                    <a:lnTo>
                      <a:pt x="317" y="1694"/>
                    </a:lnTo>
                    <a:lnTo>
                      <a:pt x="359" y="1686"/>
                    </a:lnTo>
                    <a:lnTo>
                      <a:pt x="392" y="1678"/>
                    </a:lnTo>
                    <a:lnTo>
                      <a:pt x="390" y="1678"/>
                    </a:lnTo>
                    <a:lnTo>
                      <a:pt x="390" y="1677"/>
                    </a:lnTo>
                    <a:lnTo>
                      <a:pt x="390" y="1675"/>
                    </a:lnTo>
                    <a:lnTo>
                      <a:pt x="388" y="1675"/>
                    </a:lnTo>
                    <a:lnTo>
                      <a:pt x="388" y="1673"/>
                    </a:lnTo>
                    <a:lnTo>
                      <a:pt x="388" y="1673"/>
                    </a:lnTo>
                    <a:lnTo>
                      <a:pt x="386" y="1671"/>
                    </a:lnTo>
                    <a:lnTo>
                      <a:pt x="386" y="1669"/>
                    </a:lnTo>
                    <a:lnTo>
                      <a:pt x="357" y="1677"/>
                    </a:lnTo>
                    <a:lnTo>
                      <a:pt x="315" y="1684"/>
                    </a:lnTo>
                    <a:lnTo>
                      <a:pt x="273" y="1690"/>
                    </a:lnTo>
                    <a:lnTo>
                      <a:pt x="231" y="1692"/>
                    </a:lnTo>
                    <a:lnTo>
                      <a:pt x="186" y="1694"/>
                    </a:lnTo>
                    <a:lnTo>
                      <a:pt x="144" y="1692"/>
                    </a:lnTo>
                    <a:lnTo>
                      <a:pt x="100" y="1690"/>
                    </a:lnTo>
                    <a:lnTo>
                      <a:pt x="60" y="1684"/>
                    </a:lnTo>
                    <a:lnTo>
                      <a:pt x="18" y="1677"/>
                    </a:lnTo>
                    <a:lnTo>
                      <a:pt x="0" y="1673"/>
                    </a:lnTo>
                    <a:lnTo>
                      <a:pt x="0" y="1675"/>
                    </a:lnTo>
                    <a:lnTo>
                      <a:pt x="0" y="1675"/>
                    </a:lnTo>
                    <a:lnTo>
                      <a:pt x="0" y="1677"/>
                    </a:lnTo>
                    <a:lnTo>
                      <a:pt x="2" y="1678"/>
                    </a:lnTo>
                    <a:lnTo>
                      <a:pt x="2" y="1680"/>
                    </a:lnTo>
                    <a:lnTo>
                      <a:pt x="2" y="1680"/>
                    </a:lnTo>
                    <a:lnTo>
                      <a:pt x="2" y="1682"/>
                    </a:lnTo>
                    <a:lnTo>
                      <a:pt x="4" y="1684"/>
                    </a:lnTo>
                    <a:close/>
                  </a:path>
                </a:pathLst>
              </a:custGeom>
              <a:solidFill>
                <a:srgbClr val="5ab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Freeform 100"/>
              <p:cNvSpPr/>
              <p:nvPr/>
            </p:nvSpPr>
            <p:spPr>
              <a:xfrm>
                <a:off x="1968480" y="1747440"/>
                <a:ext cx="663120" cy="2853720"/>
              </a:xfrm>
              <a:custGeom>
                <a:avLst/>
                <a:gdLst>
                  <a:gd name="textAreaLeft" fmla="*/ 0 w 663120"/>
                  <a:gd name="textAreaRight" fmla="*/ 663480 w 663120"/>
                  <a:gd name="textAreaTop" fmla="*/ 0 h 2853720"/>
                  <a:gd name="textAreaBottom" fmla="*/ 2854080 h 2853720"/>
                </a:gdLst>
                <a:ahLst/>
                <a:rect l="textAreaLeft" t="textAreaTop" r="textAreaRight" b="textAreaBottom"/>
                <a:pathLst>
                  <a:path w="394" h="1695">
                    <a:moveTo>
                      <a:pt x="394" y="25"/>
                    </a:moveTo>
                    <a:lnTo>
                      <a:pt x="359" y="18"/>
                    </a:lnTo>
                    <a:lnTo>
                      <a:pt x="319" y="10"/>
                    </a:lnTo>
                    <a:lnTo>
                      <a:pt x="275" y="4"/>
                    </a:lnTo>
                    <a:lnTo>
                      <a:pt x="233" y="0"/>
                    </a:lnTo>
                    <a:lnTo>
                      <a:pt x="188" y="0"/>
                    </a:lnTo>
                    <a:lnTo>
                      <a:pt x="169" y="0"/>
                    </a:lnTo>
                    <a:lnTo>
                      <a:pt x="169" y="2"/>
                    </a:lnTo>
                    <a:lnTo>
                      <a:pt x="169" y="2"/>
                    </a:lnTo>
                    <a:lnTo>
                      <a:pt x="167" y="4"/>
                    </a:lnTo>
                    <a:lnTo>
                      <a:pt x="167" y="6"/>
                    </a:lnTo>
                    <a:lnTo>
                      <a:pt x="167" y="6"/>
                    </a:lnTo>
                    <a:lnTo>
                      <a:pt x="165" y="8"/>
                    </a:lnTo>
                    <a:lnTo>
                      <a:pt x="165" y="10"/>
                    </a:lnTo>
                    <a:lnTo>
                      <a:pt x="163" y="10"/>
                    </a:lnTo>
                    <a:lnTo>
                      <a:pt x="188" y="10"/>
                    </a:lnTo>
                    <a:lnTo>
                      <a:pt x="233" y="12"/>
                    </a:lnTo>
                    <a:lnTo>
                      <a:pt x="275" y="14"/>
                    </a:lnTo>
                    <a:lnTo>
                      <a:pt x="317" y="20"/>
                    </a:lnTo>
                    <a:lnTo>
                      <a:pt x="357" y="27"/>
                    </a:lnTo>
                    <a:lnTo>
                      <a:pt x="390" y="35"/>
                    </a:lnTo>
                    <a:lnTo>
                      <a:pt x="390" y="33"/>
                    </a:lnTo>
                    <a:lnTo>
                      <a:pt x="390" y="33"/>
                    </a:lnTo>
                    <a:lnTo>
                      <a:pt x="392" y="31"/>
                    </a:lnTo>
                    <a:lnTo>
                      <a:pt x="392" y="29"/>
                    </a:lnTo>
                    <a:lnTo>
                      <a:pt x="392" y="29"/>
                    </a:lnTo>
                    <a:lnTo>
                      <a:pt x="394" y="27"/>
                    </a:lnTo>
                    <a:lnTo>
                      <a:pt x="394" y="25"/>
                    </a:lnTo>
                    <a:lnTo>
                      <a:pt x="394" y="25"/>
                    </a:lnTo>
                    <a:close/>
                    <a:moveTo>
                      <a:pt x="4" y="1673"/>
                    </a:moveTo>
                    <a:lnTo>
                      <a:pt x="18" y="1677"/>
                    </a:lnTo>
                    <a:lnTo>
                      <a:pt x="60" y="1683"/>
                    </a:lnTo>
                    <a:lnTo>
                      <a:pt x="102" y="1689"/>
                    </a:lnTo>
                    <a:lnTo>
                      <a:pt x="146" y="1693"/>
                    </a:lnTo>
                    <a:lnTo>
                      <a:pt x="188" y="1695"/>
                    </a:lnTo>
                    <a:lnTo>
                      <a:pt x="233" y="1693"/>
                    </a:lnTo>
                    <a:lnTo>
                      <a:pt x="275" y="1689"/>
                    </a:lnTo>
                    <a:lnTo>
                      <a:pt x="319" y="1683"/>
                    </a:lnTo>
                    <a:lnTo>
                      <a:pt x="359" y="1677"/>
                    </a:lnTo>
                    <a:lnTo>
                      <a:pt x="390" y="1670"/>
                    </a:lnTo>
                    <a:lnTo>
                      <a:pt x="390" y="1668"/>
                    </a:lnTo>
                    <a:lnTo>
                      <a:pt x="390" y="1668"/>
                    </a:lnTo>
                    <a:lnTo>
                      <a:pt x="388" y="1666"/>
                    </a:lnTo>
                    <a:lnTo>
                      <a:pt x="388" y="1664"/>
                    </a:lnTo>
                    <a:lnTo>
                      <a:pt x="388" y="1664"/>
                    </a:lnTo>
                    <a:lnTo>
                      <a:pt x="386" y="1662"/>
                    </a:lnTo>
                    <a:lnTo>
                      <a:pt x="386" y="1662"/>
                    </a:lnTo>
                    <a:lnTo>
                      <a:pt x="386" y="1660"/>
                    </a:lnTo>
                    <a:lnTo>
                      <a:pt x="357" y="1666"/>
                    </a:lnTo>
                    <a:lnTo>
                      <a:pt x="317" y="1673"/>
                    </a:lnTo>
                    <a:lnTo>
                      <a:pt x="275" y="1679"/>
                    </a:lnTo>
                    <a:lnTo>
                      <a:pt x="233" y="1683"/>
                    </a:lnTo>
                    <a:lnTo>
                      <a:pt x="188" y="1683"/>
                    </a:lnTo>
                    <a:lnTo>
                      <a:pt x="146" y="1683"/>
                    </a:lnTo>
                    <a:lnTo>
                      <a:pt x="104" y="1679"/>
                    </a:lnTo>
                    <a:lnTo>
                      <a:pt x="62" y="1673"/>
                    </a:lnTo>
                    <a:lnTo>
                      <a:pt x="20" y="1666"/>
                    </a:lnTo>
                    <a:lnTo>
                      <a:pt x="0" y="1662"/>
                    </a:lnTo>
                    <a:lnTo>
                      <a:pt x="0" y="1664"/>
                    </a:lnTo>
                    <a:lnTo>
                      <a:pt x="0" y="1664"/>
                    </a:lnTo>
                    <a:lnTo>
                      <a:pt x="2" y="1666"/>
                    </a:lnTo>
                    <a:lnTo>
                      <a:pt x="2" y="1668"/>
                    </a:lnTo>
                    <a:lnTo>
                      <a:pt x="2" y="1670"/>
                    </a:lnTo>
                    <a:lnTo>
                      <a:pt x="2" y="1670"/>
                    </a:lnTo>
                    <a:lnTo>
                      <a:pt x="2" y="1672"/>
                    </a:lnTo>
                    <a:lnTo>
                      <a:pt x="4" y="1673"/>
                    </a:lnTo>
                    <a:close/>
                  </a:path>
                </a:pathLst>
              </a:custGeom>
              <a:solidFill>
                <a:srgbClr val="5bb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Freeform 101"/>
              <p:cNvSpPr/>
              <p:nvPr/>
            </p:nvSpPr>
            <p:spPr>
              <a:xfrm>
                <a:off x="1964880" y="1753920"/>
                <a:ext cx="663120" cy="2837520"/>
              </a:xfrm>
              <a:custGeom>
                <a:avLst/>
                <a:gdLst>
                  <a:gd name="textAreaLeft" fmla="*/ 0 w 663120"/>
                  <a:gd name="textAreaRight" fmla="*/ 663480 w 663120"/>
                  <a:gd name="textAreaTop" fmla="*/ 0 h 2837520"/>
                  <a:gd name="textAreaBottom" fmla="*/ 2837880 h 2837520"/>
                </a:gdLst>
                <a:ahLst/>
                <a:rect l="textAreaLeft" t="textAreaTop" r="textAreaRight" b="textAreaBottom"/>
                <a:pathLst>
                  <a:path w="394" h="1685">
                    <a:moveTo>
                      <a:pt x="394" y="25"/>
                    </a:moveTo>
                    <a:lnTo>
                      <a:pt x="361" y="17"/>
                    </a:lnTo>
                    <a:lnTo>
                      <a:pt x="319" y="10"/>
                    </a:lnTo>
                    <a:lnTo>
                      <a:pt x="277" y="6"/>
                    </a:lnTo>
                    <a:lnTo>
                      <a:pt x="235" y="2"/>
                    </a:lnTo>
                    <a:lnTo>
                      <a:pt x="190" y="0"/>
                    </a:lnTo>
                    <a:lnTo>
                      <a:pt x="169" y="2"/>
                    </a:lnTo>
                    <a:lnTo>
                      <a:pt x="169" y="2"/>
                    </a:lnTo>
                    <a:lnTo>
                      <a:pt x="167" y="4"/>
                    </a:lnTo>
                    <a:lnTo>
                      <a:pt x="167" y="6"/>
                    </a:lnTo>
                    <a:lnTo>
                      <a:pt x="165" y="6"/>
                    </a:lnTo>
                    <a:lnTo>
                      <a:pt x="165" y="8"/>
                    </a:lnTo>
                    <a:lnTo>
                      <a:pt x="165" y="10"/>
                    </a:lnTo>
                    <a:lnTo>
                      <a:pt x="164" y="10"/>
                    </a:lnTo>
                    <a:lnTo>
                      <a:pt x="164" y="12"/>
                    </a:lnTo>
                    <a:lnTo>
                      <a:pt x="190" y="12"/>
                    </a:lnTo>
                    <a:lnTo>
                      <a:pt x="235" y="12"/>
                    </a:lnTo>
                    <a:lnTo>
                      <a:pt x="277" y="16"/>
                    </a:lnTo>
                    <a:lnTo>
                      <a:pt x="317" y="21"/>
                    </a:lnTo>
                    <a:lnTo>
                      <a:pt x="359" y="29"/>
                    </a:lnTo>
                    <a:lnTo>
                      <a:pt x="388" y="35"/>
                    </a:lnTo>
                    <a:lnTo>
                      <a:pt x="390" y="35"/>
                    </a:lnTo>
                    <a:lnTo>
                      <a:pt x="390" y="33"/>
                    </a:lnTo>
                    <a:lnTo>
                      <a:pt x="390" y="31"/>
                    </a:lnTo>
                    <a:lnTo>
                      <a:pt x="392" y="31"/>
                    </a:lnTo>
                    <a:lnTo>
                      <a:pt x="392" y="29"/>
                    </a:lnTo>
                    <a:lnTo>
                      <a:pt x="392" y="29"/>
                    </a:lnTo>
                    <a:lnTo>
                      <a:pt x="394" y="27"/>
                    </a:lnTo>
                    <a:lnTo>
                      <a:pt x="394" y="25"/>
                    </a:lnTo>
                    <a:close/>
                    <a:moveTo>
                      <a:pt x="4" y="1664"/>
                    </a:moveTo>
                    <a:lnTo>
                      <a:pt x="22" y="1668"/>
                    </a:lnTo>
                    <a:lnTo>
                      <a:pt x="64" y="1675"/>
                    </a:lnTo>
                    <a:lnTo>
                      <a:pt x="104" y="1681"/>
                    </a:lnTo>
                    <a:lnTo>
                      <a:pt x="148" y="1683"/>
                    </a:lnTo>
                    <a:lnTo>
                      <a:pt x="190" y="1685"/>
                    </a:lnTo>
                    <a:lnTo>
                      <a:pt x="235" y="1683"/>
                    </a:lnTo>
                    <a:lnTo>
                      <a:pt x="277" y="1681"/>
                    </a:lnTo>
                    <a:lnTo>
                      <a:pt x="319" y="1675"/>
                    </a:lnTo>
                    <a:lnTo>
                      <a:pt x="361" y="1668"/>
                    </a:lnTo>
                    <a:lnTo>
                      <a:pt x="390" y="1660"/>
                    </a:lnTo>
                    <a:lnTo>
                      <a:pt x="390" y="1660"/>
                    </a:lnTo>
                    <a:lnTo>
                      <a:pt x="388" y="1658"/>
                    </a:lnTo>
                    <a:lnTo>
                      <a:pt x="388" y="1658"/>
                    </a:lnTo>
                    <a:lnTo>
                      <a:pt x="388" y="1656"/>
                    </a:lnTo>
                    <a:lnTo>
                      <a:pt x="386" y="1654"/>
                    </a:lnTo>
                    <a:lnTo>
                      <a:pt x="386" y="1654"/>
                    </a:lnTo>
                    <a:lnTo>
                      <a:pt x="386" y="1652"/>
                    </a:lnTo>
                    <a:lnTo>
                      <a:pt x="386" y="1650"/>
                    </a:lnTo>
                    <a:lnTo>
                      <a:pt x="359" y="1658"/>
                    </a:lnTo>
                    <a:lnTo>
                      <a:pt x="317" y="1666"/>
                    </a:lnTo>
                    <a:lnTo>
                      <a:pt x="277" y="1669"/>
                    </a:lnTo>
                    <a:lnTo>
                      <a:pt x="235" y="1673"/>
                    </a:lnTo>
                    <a:lnTo>
                      <a:pt x="190" y="1673"/>
                    </a:lnTo>
                    <a:lnTo>
                      <a:pt x="148" y="1673"/>
                    </a:lnTo>
                    <a:lnTo>
                      <a:pt x="106" y="1669"/>
                    </a:lnTo>
                    <a:lnTo>
                      <a:pt x="64" y="1666"/>
                    </a:lnTo>
                    <a:lnTo>
                      <a:pt x="23" y="1658"/>
                    </a:lnTo>
                    <a:lnTo>
                      <a:pt x="0" y="1652"/>
                    </a:lnTo>
                    <a:lnTo>
                      <a:pt x="0" y="1654"/>
                    </a:lnTo>
                    <a:lnTo>
                      <a:pt x="2" y="1654"/>
                    </a:lnTo>
                    <a:lnTo>
                      <a:pt x="2" y="1656"/>
                    </a:lnTo>
                    <a:lnTo>
                      <a:pt x="2" y="1658"/>
                    </a:lnTo>
                    <a:lnTo>
                      <a:pt x="2" y="1660"/>
                    </a:lnTo>
                    <a:lnTo>
                      <a:pt x="2" y="1660"/>
                    </a:lnTo>
                    <a:lnTo>
                      <a:pt x="4" y="1662"/>
                    </a:lnTo>
                    <a:lnTo>
                      <a:pt x="4" y="1664"/>
                    </a:lnTo>
                    <a:close/>
                  </a:path>
                </a:pathLst>
              </a:custGeom>
              <a:solidFill>
                <a:srgbClr val="5cb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Freeform 102"/>
              <p:cNvSpPr/>
              <p:nvPr/>
            </p:nvSpPr>
            <p:spPr>
              <a:xfrm>
                <a:off x="1961640" y="1764000"/>
                <a:ext cx="663480" cy="2816640"/>
              </a:xfrm>
              <a:custGeom>
                <a:avLst/>
                <a:gdLst>
                  <a:gd name="textAreaLeft" fmla="*/ 0 w 663480"/>
                  <a:gd name="textAreaRight" fmla="*/ 663840 w 663480"/>
                  <a:gd name="textAreaTop" fmla="*/ 0 h 2816640"/>
                  <a:gd name="textAreaBottom" fmla="*/ 2817000 h 2816640"/>
                </a:gdLst>
                <a:ahLst/>
                <a:rect l="textAreaLeft" t="textAreaTop" r="textAreaRight" b="textAreaBottom"/>
                <a:pathLst>
                  <a:path w="394" h="1673">
                    <a:moveTo>
                      <a:pt x="394" y="25"/>
                    </a:moveTo>
                    <a:lnTo>
                      <a:pt x="361" y="17"/>
                    </a:lnTo>
                    <a:lnTo>
                      <a:pt x="321" y="10"/>
                    </a:lnTo>
                    <a:lnTo>
                      <a:pt x="279" y="4"/>
                    </a:lnTo>
                    <a:lnTo>
                      <a:pt x="237" y="2"/>
                    </a:lnTo>
                    <a:lnTo>
                      <a:pt x="192" y="0"/>
                    </a:lnTo>
                    <a:lnTo>
                      <a:pt x="167" y="0"/>
                    </a:lnTo>
                    <a:lnTo>
                      <a:pt x="167" y="2"/>
                    </a:lnTo>
                    <a:lnTo>
                      <a:pt x="167" y="4"/>
                    </a:lnTo>
                    <a:lnTo>
                      <a:pt x="166" y="4"/>
                    </a:lnTo>
                    <a:lnTo>
                      <a:pt x="166" y="6"/>
                    </a:lnTo>
                    <a:lnTo>
                      <a:pt x="166" y="8"/>
                    </a:lnTo>
                    <a:lnTo>
                      <a:pt x="164" y="10"/>
                    </a:lnTo>
                    <a:lnTo>
                      <a:pt x="164" y="10"/>
                    </a:lnTo>
                    <a:lnTo>
                      <a:pt x="164" y="11"/>
                    </a:lnTo>
                    <a:lnTo>
                      <a:pt x="192" y="10"/>
                    </a:lnTo>
                    <a:lnTo>
                      <a:pt x="235" y="11"/>
                    </a:lnTo>
                    <a:lnTo>
                      <a:pt x="277" y="15"/>
                    </a:lnTo>
                    <a:lnTo>
                      <a:pt x="319" y="19"/>
                    </a:lnTo>
                    <a:lnTo>
                      <a:pt x="359" y="27"/>
                    </a:lnTo>
                    <a:lnTo>
                      <a:pt x="388" y="35"/>
                    </a:lnTo>
                    <a:lnTo>
                      <a:pt x="390" y="33"/>
                    </a:lnTo>
                    <a:lnTo>
                      <a:pt x="390" y="31"/>
                    </a:lnTo>
                    <a:lnTo>
                      <a:pt x="390" y="31"/>
                    </a:lnTo>
                    <a:lnTo>
                      <a:pt x="390" y="29"/>
                    </a:lnTo>
                    <a:lnTo>
                      <a:pt x="392" y="29"/>
                    </a:lnTo>
                    <a:lnTo>
                      <a:pt x="392" y="27"/>
                    </a:lnTo>
                    <a:lnTo>
                      <a:pt x="392" y="25"/>
                    </a:lnTo>
                    <a:lnTo>
                      <a:pt x="394" y="25"/>
                    </a:lnTo>
                    <a:close/>
                    <a:moveTo>
                      <a:pt x="4" y="1652"/>
                    </a:moveTo>
                    <a:lnTo>
                      <a:pt x="24" y="1656"/>
                    </a:lnTo>
                    <a:lnTo>
                      <a:pt x="66" y="1663"/>
                    </a:lnTo>
                    <a:lnTo>
                      <a:pt x="108" y="1669"/>
                    </a:lnTo>
                    <a:lnTo>
                      <a:pt x="150" y="1673"/>
                    </a:lnTo>
                    <a:lnTo>
                      <a:pt x="192" y="1673"/>
                    </a:lnTo>
                    <a:lnTo>
                      <a:pt x="237" y="1673"/>
                    </a:lnTo>
                    <a:lnTo>
                      <a:pt x="279" y="1669"/>
                    </a:lnTo>
                    <a:lnTo>
                      <a:pt x="321" y="1663"/>
                    </a:lnTo>
                    <a:lnTo>
                      <a:pt x="361" y="1656"/>
                    </a:lnTo>
                    <a:lnTo>
                      <a:pt x="390" y="1650"/>
                    </a:lnTo>
                    <a:lnTo>
                      <a:pt x="388" y="1648"/>
                    </a:lnTo>
                    <a:lnTo>
                      <a:pt x="388" y="1648"/>
                    </a:lnTo>
                    <a:lnTo>
                      <a:pt x="388" y="1646"/>
                    </a:lnTo>
                    <a:lnTo>
                      <a:pt x="388" y="1644"/>
                    </a:lnTo>
                    <a:lnTo>
                      <a:pt x="386" y="1644"/>
                    </a:lnTo>
                    <a:lnTo>
                      <a:pt x="386" y="1642"/>
                    </a:lnTo>
                    <a:lnTo>
                      <a:pt x="386" y="1642"/>
                    </a:lnTo>
                    <a:lnTo>
                      <a:pt x="384" y="1640"/>
                    </a:lnTo>
                    <a:lnTo>
                      <a:pt x="359" y="1646"/>
                    </a:lnTo>
                    <a:lnTo>
                      <a:pt x="319" y="1654"/>
                    </a:lnTo>
                    <a:lnTo>
                      <a:pt x="277" y="1660"/>
                    </a:lnTo>
                    <a:lnTo>
                      <a:pt x="235" y="1662"/>
                    </a:lnTo>
                    <a:lnTo>
                      <a:pt x="192" y="1663"/>
                    </a:lnTo>
                    <a:lnTo>
                      <a:pt x="150" y="1662"/>
                    </a:lnTo>
                    <a:lnTo>
                      <a:pt x="108" y="1660"/>
                    </a:lnTo>
                    <a:lnTo>
                      <a:pt x="68" y="1654"/>
                    </a:lnTo>
                    <a:lnTo>
                      <a:pt x="27" y="1646"/>
                    </a:lnTo>
                    <a:lnTo>
                      <a:pt x="0" y="1640"/>
                    </a:lnTo>
                    <a:lnTo>
                      <a:pt x="2" y="1642"/>
                    </a:lnTo>
                    <a:lnTo>
                      <a:pt x="2" y="1642"/>
                    </a:lnTo>
                    <a:lnTo>
                      <a:pt x="2" y="1644"/>
                    </a:lnTo>
                    <a:lnTo>
                      <a:pt x="2" y="1646"/>
                    </a:lnTo>
                    <a:lnTo>
                      <a:pt x="2" y="1648"/>
                    </a:lnTo>
                    <a:lnTo>
                      <a:pt x="4" y="1648"/>
                    </a:lnTo>
                    <a:lnTo>
                      <a:pt x="4" y="1650"/>
                    </a:lnTo>
                    <a:lnTo>
                      <a:pt x="4" y="1652"/>
                    </a:lnTo>
                    <a:close/>
                  </a:path>
                </a:pathLst>
              </a:custGeom>
              <a:solidFill>
                <a:srgbClr val="5db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Freeform 103"/>
              <p:cNvSpPr/>
              <p:nvPr/>
            </p:nvSpPr>
            <p:spPr>
              <a:xfrm>
                <a:off x="1961640" y="1774080"/>
                <a:ext cx="656640" cy="2796840"/>
              </a:xfrm>
              <a:custGeom>
                <a:avLst/>
                <a:gdLst>
                  <a:gd name="textAreaLeft" fmla="*/ 0 w 656640"/>
                  <a:gd name="textAreaRight" fmla="*/ 657000 w 656640"/>
                  <a:gd name="textAreaTop" fmla="*/ 0 h 2796840"/>
                  <a:gd name="textAreaBottom" fmla="*/ 2797200 h 2796840"/>
                </a:gdLst>
                <a:ahLst/>
                <a:rect l="textAreaLeft" t="textAreaTop" r="textAreaRight" b="textAreaBottom"/>
                <a:pathLst>
                  <a:path w="390" h="1661">
                    <a:moveTo>
                      <a:pt x="390" y="23"/>
                    </a:moveTo>
                    <a:lnTo>
                      <a:pt x="361" y="17"/>
                    </a:lnTo>
                    <a:lnTo>
                      <a:pt x="319" y="9"/>
                    </a:lnTo>
                    <a:lnTo>
                      <a:pt x="279" y="4"/>
                    </a:lnTo>
                    <a:lnTo>
                      <a:pt x="237" y="0"/>
                    </a:lnTo>
                    <a:lnTo>
                      <a:pt x="192" y="0"/>
                    </a:lnTo>
                    <a:lnTo>
                      <a:pt x="166" y="0"/>
                    </a:lnTo>
                    <a:lnTo>
                      <a:pt x="166" y="2"/>
                    </a:lnTo>
                    <a:lnTo>
                      <a:pt x="164" y="4"/>
                    </a:lnTo>
                    <a:lnTo>
                      <a:pt x="164" y="4"/>
                    </a:lnTo>
                    <a:lnTo>
                      <a:pt x="164" y="5"/>
                    </a:lnTo>
                    <a:lnTo>
                      <a:pt x="162" y="7"/>
                    </a:lnTo>
                    <a:lnTo>
                      <a:pt x="162" y="7"/>
                    </a:lnTo>
                    <a:lnTo>
                      <a:pt x="162" y="9"/>
                    </a:lnTo>
                    <a:lnTo>
                      <a:pt x="160" y="11"/>
                    </a:lnTo>
                    <a:lnTo>
                      <a:pt x="192" y="9"/>
                    </a:lnTo>
                    <a:lnTo>
                      <a:pt x="235" y="11"/>
                    </a:lnTo>
                    <a:lnTo>
                      <a:pt x="277" y="13"/>
                    </a:lnTo>
                    <a:lnTo>
                      <a:pt x="317" y="19"/>
                    </a:lnTo>
                    <a:lnTo>
                      <a:pt x="359" y="27"/>
                    </a:lnTo>
                    <a:lnTo>
                      <a:pt x="386" y="32"/>
                    </a:lnTo>
                    <a:lnTo>
                      <a:pt x="386" y="32"/>
                    </a:lnTo>
                    <a:lnTo>
                      <a:pt x="388" y="30"/>
                    </a:lnTo>
                    <a:lnTo>
                      <a:pt x="388" y="29"/>
                    </a:lnTo>
                    <a:lnTo>
                      <a:pt x="388" y="29"/>
                    </a:lnTo>
                    <a:lnTo>
                      <a:pt x="390" y="27"/>
                    </a:lnTo>
                    <a:lnTo>
                      <a:pt x="390" y="25"/>
                    </a:lnTo>
                    <a:lnTo>
                      <a:pt x="390" y="25"/>
                    </a:lnTo>
                    <a:lnTo>
                      <a:pt x="390" y="23"/>
                    </a:lnTo>
                    <a:close/>
                    <a:moveTo>
                      <a:pt x="2" y="1640"/>
                    </a:moveTo>
                    <a:lnTo>
                      <a:pt x="25" y="1646"/>
                    </a:lnTo>
                    <a:lnTo>
                      <a:pt x="66" y="1654"/>
                    </a:lnTo>
                    <a:lnTo>
                      <a:pt x="108" y="1657"/>
                    </a:lnTo>
                    <a:lnTo>
                      <a:pt x="150" y="1661"/>
                    </a:lnTo>
                    <a:lnTo>
                      <a:pt x="192" y="1661"/>
                    </a:lnTo>
                    <a:lnTo>
                      <a:pt x="237" y="1661"/>
                    </a:lnTo>
                    <a:lnTo>
                      <a:pt x="279" y="1657"/>
                    </a:lnTo>
                    <a:lnTo>
                      <a:pt x="319" y="1654"/>
                    </a:lnTo>
                    <a:lnTo>
                      <a:pt x="361" y="1646"/>
                    </a:lnTo>
                    <a:lnTo>
                      <a:pt x="388" y="1638"/>
                    </a:lnTo>
                    <a:lnTo>
                      <a:pt x="386" y="1638"/>
                    </a:lnTo>
                    <a:lnTo>
                      <a:pt x="386" y="1636"/>
                    </a:lnTo>
                    <a:lnTo>
                      <a:pt x="386" y="1636"/>
                    </a:lnTo>
                    <a:lnTo>
                      <a:pt x="384" y="1634"/>
                    </a:lnTo>
                    <a:lnTo>
                      <a:pt x="384" y="1633"/>
                    </a:lnTo>
                    <a:lnTo>
                      <a:pt x="384" y="1633"/>
                    </a:lnTo>
                    <a:lnTo>
                      <a:pt x="382" y="1631"/>
                    </a:lnTo>
                    <a:lnTo>
                      <a:pt x="382" y="1631"/>
                    </a:lnTo>
                    <a:lnTo>
                      <a:pt x="359" y="1634"/>
                    </a:lnTo>
                    <a:lnTo>
                      <a:pt x="317" y="1642"/>
                    </a:lnTo>
                    <a:lnTo>
                      <a:pt x="277" y="1648"/>
                    </a:lnTo>
                    <a:lnTo>
                      <a:pt x="235" y="1652"/>
                    </a:lnTo>
                    <a:lnTo>
                      <a:pt x="192" y="1652"/>
                    </a:lnTo>
                    <a:lnTo>
                      <a:pt x="150" y="1652"/>
                    </a:lnTo>
                    <a:lnTo>
                      <a:pt x="110" y="1648"/>
                    </a:lnTo>
                    <a:lnTo>
                      <a:pt x="68" y="1642"/>
                    </a:lnTo>
                    <a:lnTo>
                      <a:pt x="27" y="1634"/>
                    </a:lnTo>
                    <a:lnTo>
                      <a:pt x="0" y="1629"/>
                    </a:lnTo>
                    <a:lnTo>
                      <a:pt x="0" y="1631"/>
                    </a:lnTo>
                    <a:lnTo>
                      <a:pt x="0" y="1633"/>
                    </a:lnTo>
                    <a:lnTo>
                      <a:pt x="0" y="1633"/>
                    </a:lnTo>
                    <a:lnTo>
                      <a:pt x="0" y="1634"/>
                    </a:lnTo>
                    <a:lnTo>
                      <a:pt x="2" y="1636"/>
                    </a:lnTo>
                    <a:lnTo>
                      <a:pt x="2" y="1636"/>
                    </a:lnTo>
                    <a:lnTo>
                      <a:pt x="2" y="1638"/>
                    </a:lnTo>
                    <a:lnTo>
                      <a:pt x="2" y="1640"/>
                    </a:lnTo>
                    <a:close/>
                  </a:path>
                </a:pathLst>
              </a:custGeom>
              <a:solidFill>
                <a:srgbClr val="5eb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Freeform 104"/>
              <p:cNvSpPr/>
              <p:nvPr/>
            </p:nvSpPr>
            <p:spPr>
              <a:xfrm>
                <a:off x="1959840" y="1780920"/>
                <a:ext cx="654840" cy="2783160"/>
              </a:xfrm>
              <a:custGeom>
                <a:avLst/>
                <a:gdLst/>
                <a:ahLst/>
                <a:rect l="l" t="t" r="r" b="b"/>
                <a:pathLst>
                  <a:path w="389" h="1653">
                    <a:moveTo>
                      <a:pt x="389" y="25"/>
                    </a:moveTo>
                    <a:lnTo>
                      <a:pt x="360" y="17"/>
                    </a:lnTo>
                    <a:lnTo>
                      <a:pt x="320" y="9"/>
                    </a:lnTo>
                    <a:lnTo>
                      <a:pt x="278" y="5"/>
                    </a:lnTo>
                    <a:lnTo>
                      <a:pt x="236" y="1"/>
                    </a:lnTo>
                    <a:lnTo>
                      <a:pt x="193" y="0"/>
                    </a:lnTo>
                    <a:lnTo>
                      <a:pt x="165" y="1"/>
                    </a:lnTo>
                    <a:lnTo>
                      <a:pt x="163" y="3"/>
                    </a:lnTo>
                    <a:lnTo>
                      <a:pt x="163" y="3"/>
                    </a:lnTo>
                    <a:lnTo>
                      <a:pt x="163" y="5"/>
                    </a:lnTo>
                    <a:lnTo>
                      <a:pt x="161" y="7"/>
                    </a:lnTo>
                    <a:lnTo>
                      <a:pt x="161" y="7"/>
                    </a:lnTo>
                    <a:lnTo>
                      <a:pt x="161" y="9"/>
                    </a:lnTo>
                    <a:lnTo>
                      <a:pt x="159" y="11"/>
                    </a:lnTo>
                    <a:lnTo>
                      <a:pt x="159" y="11"/>
                    </a:lnTo>
                    <a:lnTo>
                      <a:pt x="193" y="11"/>
                    </a:lnTo>
                    <a:lnTo>
                      <a:pt x="236" y="11"/>
                    </a:lnTo>
                    <a:lnTo>
                      <a:pt x="278" y="15"/>
                    </a:lnTo>
                    <a:lnTo>
                      <a:pt x="318" y="21"/>
                    </a:lnTo>
                    <a:lnTo>
                      <a:pt x="358" y="26"/>
                    </a:lnTo>
                    <a:lnTo>
                      <a:pt x="385" y="34"/>
                    </a:lnTo>
                    <a:lnTo>
                      <a:pt x="385" y="32"/>
                    </a:lnTo>
                    <a:lnTo>
                      <a:pt x="385" y="30"/>
                    </a:lnTo>
                    <a:lnTo>
                      <a:pt x="387" y="30"/>
                    </a:lnTo>
                    <a:lnTo>
                      <a:pt x="387" y="28"/>
                    </a:lnTo>
                    <a:lnTo>
                      <a:pt x="387" y="28"/>
                    </a:lnTo>
                    <a:lnTo>
                      <a:pt x="389" y="26"/>
                    </a:lnTo>
                    <a:lnTo>
                      <a:pt x="389" y="25"/>
                    </a:lnTo>
                    <a:lnTo>
                      <a:pt x="389" y="25"/>
                    </a:lnTo>
                    <a:close/>
                    <a:moveTo>
                      <a:pt x="1" y="1630"/>
                    </a:moveTo>
                    <a:lnTo>
                      <a:pt x="28" y="1636"/>
                    </a:lnTo>
                    <a:lnTo>
                      <a:pt x="69" y="1644"/>
                    </a:lnTo>
                    <a:lnTo>
                      <a:pt x="109" y="1650"/>
                    </a:lnTo>
                    <a:lnTo>
                      <a:pt x="151" y="1652"/>
                    </a:lnTo>
                    <a:lnTo>
                      <a:pt x="193" y="1653"/>
                    </a:lnTo>
                    <a:lnTo>
                      <a:pt x="236" y="1652"/>
                    </a:lnTo>
                    <a:lnTo>
                      <a:pt x="278" y="1650"/>
                    </a:lnTo>
                    <a:lnTo>
                      <a:pt x="320" y="1644"/>
                    </a:lnTo>
                    <a:lnTo>
                      <a:pt x="360" y="1636"/>
                    </a:lnTo>
                    <a:lnTo>
                      <a:pt x="385" y="1630"/>
                    </a:lnTo>
                    <a:lnTo>
                      <a:pt x="385" y="1629"/>
                    </a:lnTo>
                    <a:lnTo>
                      <a:pt x="385" y="1629"/>
                    </a:lnTo>
                    <a:lnTo>
                      <a:pt x="383" y="1627"/>
                    </a:lnTo>
                    <a:lnTo>
                      <a:pt x="383" y="1627"/>
                    </a:lnTo>
                    <a:lnTo>
                      <a:pt x="383" y="1625"/>
                    </a:lnTo>
                    <a:lnTo>
                      <a:pt x="383" y="1623"/>
                    </a:lnTo>
                    <a:lnTo>
                      <a:pt x="382" y="1623"/>
                    </a:lnTo>
                    <a:lnTo>
                      <a:pt x="382" y="1621"/>
                    </a:lnTo>
                    <a:lnTo>
                      <a:pt x="358" y="1627"/>
                    </a:lnTo>
                    <a:lnTo>
                      <a:pt x="318" y="1634"/>
                    </a:lnTo>
                    <a:lnTo>
                      <a:pt x="278" y="1638"/>
                    </a:lnTo>
                    <a:lnTo>
                      <a:pt x="236" y="1642"/>
                    </a:lnTo>
                    <a:lnTo>
                      <a:pt x="193" y="1642"/>
                    </a:lnTo>
                    <a:lnTo>
                      <a:pt x="151" y="1642"/>
                    </a:lnTo>
                    <a:lnTo>
                      <a:pt x="111" y="1638"/>
                    </a:lnTo>
                    <a:lnTo>
                      <a:pt x="71" y="1634"/>
                    </a:lnTo>
                    <a:lnTo>
                      <a:pt x="30" y="1627"/>
                    </a:lnTo>
                    <a:lnTo>
                      <a:pt x="0" y="1619"/>
                    </a:lnTo>
                    <a:lnTo>
                      <a:pt x="0" y="1621"/>
                    </a:lnTo>
                    <a:lnTo>
                      <a:pt x="0" y="1623"/>
                    </a:lnTo>
                    <a:lnTo>
                      <a:pt x="0" y="1623"/>
                    </a:lnTo>
                    <a:lnTo>
                      <a:pt x="1" y="1625"/>
                    </a:lnTo>
                    <a:lnTo>
                      <a:pt x="1" y="1627"/>
                    </a:lnTo>
                    <a:lnTo>
                      <a:pt x="1" y="1629"/>
                    </a:lnTo>
                    <a:lnTo>
                      <a:pt x="1" y="1629"/>
                    </a:lnTo>
                    <a:lnTo>
                      <a:pt x="1" y="1630"/>
                    </a:lnTo>
                    <a:close/>
                  </a:path>
                </a:pathLst>
              </a:custGeom>
              <a:solidFill>
                <a:srgbClr val="5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Freeform 105"/>
              <p:cNvSpPr/>
              <p:nvPr/>
            </p:nvSpPr>
            <p:spPr>
              <a:xfrm>
                <a:off x="1956600" y="1789200"/>
                <a:ext cx="654840" cy="2766240"/>
              </a:xfrm>
              <a:custGeom>
                <a:avLst/>
                <a:gdLst>
                  <a:gd name="textAreaLeft" fmla="*/ 0 w 654840"/>
                  <a:gd name="textAreaRight" fmla="*/ 654840 w 654840"/>
                  <a:gd name="textAreaTop" fmla="*/ 0 h 2766240"/>
                  <a:gd name="textAreaBottom" fmla="*/ 2766600 h 2766240"/>
                </a:gdLst>
                <a:ahLst/>
                <a:rect l="textAreaLeft" t="textAreaTop" r="textAreaRight" b="textAreaBottom"/>
                <a:pathLst>
                  <a:path w="389" h="1643">
                    <a:moveTo>
                      <a:pt x="389" y="23"/>
                    </a:moveTo>
                    <a:lnTo>
                      <a:pt x="362" y="18"/>
                    </a:lnTo>
                    <a:lnTo>
                      <a:pt x="320" y="10"/>
                    </a:lnTo>
                    <a:lnTo>
                      <a:pt x="280" y="4"/>
                    </a:lnTo>
                    <a:lnTo>
                      <a:pt x="238" y="2"/>
                    </a:lnTo>
                    <a:lnTo>
                      <a:pt x="195" y="0"/>
                    </a:lnTo>
                    <a:lnTo>
                      <a:pt x="163" y="2"/>
                    </a:lnTo>
                    <a:lnTo>
                      <a:pt x="163" y="2"/>
                    </a:lnTo>
                    <a:lnTo>
                      <a:pt x="163" y="4"/>
                    </a:lnTo>
                    <a:lnTo>
                      <a:pt x="161" y="6"/>
                    </a:lnTo>
                    <a:lnTo>
                      <a:pt x="161" y="6"/>
                    </a:lnTo>
                    <a:lnTo>
                      <a:pt x="161" y="8"/>
                    </a:lnTo>
                    <a:lnTo>
                      <a:pt x="159" y="10"/>
                    </a:lnTo>
                    <a:lnTo>
                      <a:pt x="159" y="10"/>
                    </a:lnTo>
                    <a:lnTo>
                      <a:pt x="159" y="12"/>
                    </a:lnTo>
                    <a:lnTo>
                      <a:pt x="195" y="10"/>
                    </a:lnTo>
                    <a:lnTo>
                      <a:pt x="238" y="12"/>
                    </a:lnTo>
                    <a:lnTo>
                      <a:pt x="280" y="16"/>
                    </a:lnTo>
                    <a:lnTo>
                      <a:pt x="320" y="20"/>
                    </a:lnTo>
                    <a:lnTo>
                      <a:pt x="359" y="27"/>
                    </a:lnTo>
                    <a:lnTo>
                      <a:pt x="385" y="33"/>
                    </a:lnTo>
                    <a:lnTo>
                      <a:pt x="385" y="33"/>
                    </a:lnTo>
                    <a:lnTo>
                      <a:pt x="385" y="31"/>
                    </a:lnTo>
                    <a:lnTo>
                      <a:pt x="387" y="29"/>
                    </a:lnTo>
                    <a:lnTo>
                      <a:pt x="387" y="29"/>
                    </a:lnTo>
                    <a:lnTo>
                      <a:pt x="387" y="27"/>
                    </a:lnTo>
                    <a:lnTo>
                      <a:pt x="387" y="25"/>
                    </a:lnTo>
                    <a:lnTo>
                      <a:pt x="389" y="25"/>
                    </a:lnTo>
                    <a:lnTo>
                      <a:pt x="389" y="23"/>
                    </a:lnTo>
                    <a:close/>
                    <a:moveTo>
                      <a:pt x="3" y="1620"/>
                    </a:moveTo>
                    <a:lnTo>
                      <a:pt x="30" y="1625"/>
                    </a:lnTo>
                    <a:lnTo>
                      <a:pt x="71" y="1633"/>
                    </a:lnTo>
                    <a:lnTo>
                      <a:pt x="113" y="1639"/>
                    </a:lnTo>
                    <a:lnTo>
                      <a:pt x="153" y="1643"/>
                    </a:lnTo>
                    <a:lnTo>
                      <a:pt x="195" y="1643"/>
                    </a:lnTo>
                    <a:lnTo>
                      <a:pt x="238" y="1643"/>
                    </a:lnTo>
                    <a:lnTo>
                      <a:pt x="280" y="1639"/>
                    </a:lnTo>
                    <a:lnTo>
                      <a:pt x="320" y="1633"/>
                    </a:lnTo>
                    <a:lnTo>
                      <a:pt x="362" y="1625"/>
                    </a:lnTo>
                    <a:lnTo>
                      <a:pt x="385" y="1622"/>
                    </a:lnTo>
                    <a:lnTo>
                      <a:pt x="385" y="1620"/>
                    </a:lnTo>
                    <a:lnTo>
                      <a:pt x="385" y="1618"/>
                    </a:lnTo>
                    <a:lnTo>
                      <a:pt x="384" y="1618"/>
                    </a:lnTo>
                    <a:lnTo>
                      <a:pt x="384" y="1616"/>
                    </a:lnTo>
                    <a:lnTo>
                      <a:pt x="384" y="1614"/>
                    </a:lnTo>
                    <a:lnTo>
                      <a:pt x="382" y="1614"/>
                    </a:lnTo>
                    <a:lnTo>
                      <a:pt x="382" y="1612"/>
                    </a:lnTo>
                    <a:lnTo>
                      <a:pt x="382" y="1612"/>
                    </a:lnTo>
                    <a:lnTo>
                      <a:pt x="359" y="1616"/>
                    </a:lnTo>
                    <a:lnTo>
                      <a:pt x="320" y="1624"/>
                    </a:lnTo>
                    <a:lnTo>
                      <a:pt x="280" y="1629"/>
                    </a:lnTo>
                    <a:lnTo>
                      <a:pt x="238" y="1631"/>
                    </a:lnTo>
                    <a:lnTo>
                      <a:pt x="195" y="1633"/>
                    </a:lnTo>
                    <a:lnTo>
                      <a:pt x="155" y="1631"/>
                    </a:lnTo>
                    <a:lnTo>
                      <a:pt x="113" y="1629"/>
                    </a:lnTo>
                    <a:lnTo>
                      <a:pt x="73" y="1624"/>
                    </a:lnTo>
                    <a:lnTo>
                      <a:pt x="32" y="1616"/>
                    </a:lnTo>
                    <a:lnTo>
                      <a:pt x="0" y="1608"/>
                    </a:lnTo>
                    <a:lnTo>
                      <a:pt x="0" y="1610"/>
                    </a:lnTo>
                    <a:lnTo>
                      <a:pt x="0" y="1612"/>
                    </a:lnTo>
                    <a:lnTo>
                      <a:pt x="0" y="1612"/>
                    </a:lnTo>
                    <a:lnTo>
                      <a:pt x="2" y="1614"/>
                    </a:lnTo>
                    <a:lnTo>
                      <a:pt x="2" y="1616"/>
                    </a:lnTo>
                    <a:lnTo>
                      <a:pt x="2" y="1618"/>
                    </a:lnTo>
                    <a:lnTo>
                      <a:pt x="2" y="1618"/>
                    </a:lnTo>
                    <a:lnTo>
                      <a:pt x="3" y="1620"/>
                    </a:lnTo>
                    <a:close/>
                  </a:path>
                </a:pathLst>
              </a:custGeom>
              <a:solidFill>
                <a:srgbClr val="60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Freeform 106"/>
              <p:cNvSpPr/>
              <p:nvPr/>
            </p:nvSpPr>
            <p:spPr>
              <a:xfrm>
                <a:off x="1953000" y="1799280"/>
                <a:ext cx="654840" cy="2746440"/>
              </a:xfrm>
              <a:custGeom>
                <a:avLst/>
                <a:gdLst>
                  <a:gd name="textAreaLeft" fmla="*/ 0 w 654840"/>
                  <a:gd name="textAreaRight" fmla="*/ 654840 w 65484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389" h="1631">
                    <a:moveTo>
                      <a:pt x="389" y="23"/>
                    </a:moveTo>
                    <a:lnTo>
                      <a:pt x="362" y="15"/>
                    </a:lnTo>
                    <a:lnTo>
                      <a:pt x="322" y="10"/>
                    </a:lnTo>
                    <a:lnTo>
                      <a:pt x="282" y="4"/>
                    </a:lnTo>
                    <a:lnTo>
                      <a:pt x="240" y="0"/>
                    </a:lnTo>
                    <a:lnTo>
                      <a:pt x="197" y="0"/>
                    </a:lnTo>
                    <a:lnTo>
                      <a:pt x="163" y="0"/>
                    </a:lnTo>
                    <a:lnTo>
                      <a:pt x="163" y="2"/>
                    </a:lnTo>
                    <a:lnTo>
                      <a:pt x="161" y="4"/>
                    </a:lnTo>
                    <a:lnTo>
                      <a:pt x="161" y="4"/>
                    </a:lnTo>
                    <a:lnTo>
                      <a:pt x="161" y="6"/>
                    </a:lnTo>
                    <a:lnTo>
                      <a:pt x="159" y="8"/>
                    </a:lnTo>
                    <a:lnTo>
                      <a:pt x="159" y="8"/>
                    </a:lnTo>
                    <a:lnTo>
                      <a:pt x="159" y="10"/>
                    </a:lnTo>
                    <a:lnTo>
                      <a:pt x="157" y="12"/>
                    </a:lnTo>
                    <a:lnTo>
                      <a:pt x="197" y="10"/>
                    </a:lnTo>
                    <a:lnTo>
                      <a:pt x="240" y="12"/>
                    </a:lnTo>
                    <a:lnTo>
                      <a:pt x="280" y="14"/>
                    </a:lnTo>
                    <a:lnTo>
                      <a:pt x="320" y="19"/>
                    </a:lnTo>
                    <a:lnTo>
                      <a:pt x="361" y="27"/>
                    </a:lnTo>
                    <a:lnTo>
                      <a:pt x="386" y="33"/>
                    </a:lnTo>
                    <a:lnTo>
                      <a:pt x="386" y="31"/>
                    </a:lnTo>
                    <a:lnTo>
                      <a:pt x="386" y="29"/>
                    </a:lnTo>
                    <a:lnTo>
                      <a:pt x="386" y="29"/>
                    </a:lnTo>
                    <a:lnTo>
                      <a:pt x="387" y="27"/>
                    </a:lnTo>
                    <a:lnTo>
                      <a:pt x="387" y="27"/>
                    </a:lnTo>
                    <a:lnTo>
                      <a:pt x="387" y="25"/>
                    </a:lnTo>
                    <a:lnTo>
                      <a:pt x="389" y="23"/>
                    </a:lnTo>
                    <a:lnTo>
                      <a:pt x="389" y="23"/>
                    </a:lnTo>
                    <a:close/>
                    <a:moveTo>
                      <a:pt x="4" y="1608"/>
                    </a:moveTo>
                    <a:lnTo>
                      <a:pt x="34" y="1616"/>
                    </a:lnTo>
                    <a:lnTo>
                      <a:pt x="75" y="1623"/>
                    </a:lnTo>
                    <a:lnTo>
                      <a:pt x="115" y="1627"/>
                    </a:lnTo>
                    <a:lnTo>
                      <a:pt x="155" y="1631"/>
                    </a:lnTo>
                    <a:lnTo>
                      <a:pt x="197" y="1631"/>
                    </a:lnTo>
                    <a:lnTo>
                      <a:pt x="240" y="1631"/>
                    </a:lnTo>
                    <a:lnTo>
                      <a:pt x="282" y="1627"/>
                    </a:lnTo>
                    <a:lnTo>
                      <a:pt x="322" y="1623"/>
                    </a:lnTo>
                    <a:lnTo>
                      <a:pt x="362" y="1616"/>
                    </a:lnTo>
                    <a:lnTo>
                      <a:pt x="386" y="1610"/>
                    </a:lnTo>
                    <a:lnTo>
                      <a:pt x="386" y="1608"/>
                    </a:lnTo>
                    <a:lnTo>
                      <a:pt x="384" y="1608"/>
                    </a:lnTo>
                    <a:lnTo>
                      <a:pt x="384" y="1606"/>
                    </a:lnTo>
                    <a:lnTo>
                      <a:pt x="384" y="1606"/>
                    </a:lnTo>
                    <a:lnTo>
                      <a:pt x="384" y="1604"/>
                    </a:lnTo>
                    <a:lnTo>
                      <a:pt x="382" y="1602"/>
                    </a:lnTo>
                    <a:lnTo>
                      <a:pt x="382" y="1602"/>
                    </a:lnTo>
                    <a:lnTo>
                      <a:pt x="382" y="1600"/>
                    </a:lnTo>
                    <a:lnTo>
                      <a:pt x="361" y="1606"/>
                    </a:lnTo>
                    <a:lnTo>
                      <a:pt x="320" y="1612"/>
                    </a:lnTo>
                    <a:lnTo>
                      <a:pt x="280" y="1618"/>
                    </a:lnTo>
                    <a:lnTo>
                      <a:pt x="240" y="1621"/>
                    </a:lnTo>
                    <a:lnTo>
                      <a:pt x="197" y="1621"/>
                    </a:lnTo>
                    <a:lnTo>
                      <a:pt x="157" y="1621"/>
                    </a:lnTo>
                    <a:lnTo>
                      <a:pt x="115" y="1618"/>
                    </a:lnTo>
                    <a:lnTo>
                      <a:pt x="75" y="1612"/>
                    </a:lnTo>
                    <a:lnTo>
                      <a:pt x="36" y="1606"/>
                    </a:lnTo>
                    <a:lnTo>
                      <a:pt x="0" y="1596"/>
                    </a:lnTo>
                    <a:lnTo>
                      <a:pt x="0" y="1598"/>
                    </a:lnTo>
                    <a:lnTo>
                      <a:pt x="0" y="1600"/>
                    </a:lnTo>
                    <a:lnTo>
                      <a:pt x="2" y="1600"/>
                    </a:lnTo>
                    <a:lnTo>
                      <a:pt x="2" y="1602"/>
                    </a:lnTo>
                    <a:lnTo>
                      <a:pt x="2" y="1604"/>
                    </a:lnTo>
                    <a:lnTo>
                      <a:pt x="2" y="1606"/>
                    </a:lnTo>
                    <a:lnTo>
                      <a:pt x="4" y="1606"/>
                    </a:lnTo>
                    <a:lnTo>
                      <a:pt x="4" y="1608"/>
                    </a:lnTo>
                    <a:close/>
                  </a:path>
                </a:pathLst>
              </a:custGeom>
              <a:solidFill>
                <a:srgbClr val="61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Freeform 107"/>
              <p:cNvSpPr/>
              <p:nvPr/>
            </p:nvSpPr>
            <p:spPr>
              <a:xfrm>
                <a:off x="1949760" y="1806120"/>
                <a:ext cx="655200" cy="2732760"/>
              </a:xfrm>
              <a:custGeom>
                <a:avLst/>
                <a:gdLst>
                  <a:gd name="textAreaLeft" fmla="*/ 0 w 655200"/>
                  <a:gd name="textAreaRight" fmla="*/ 655560 w 655200"/>
                  <a:gd name="textAreaTop" fmla="*/ 0 h 2732760"/>
                  <a:gd name="textAreaBottom" fmla="*/ 2733120 h 2732760"/>
                </a:gdLst>
                <a:ahLst/>
                <a:rect l="textAreaLeft" t="textAreaTop" r="textAreaRight" b="textAreaBottom"/>
                <a:pathLst>
                  <a:path w="389" h="1623">
                    <a:moveTo>
                      <a:pt x="389" y="23"/>
                    </a:moveTo>
                    <a:lnTo>
                      <a:pt x="363" y="17"/>
                    </a:lnTo>
                    <a:lnTo>
                      <a:pt x="324" y="10"/>
                    </a:lnTo>
                    <a:lnTo>
                      <a:pt x="284" y="6"/>
                    </a:lnTo>
                    <a:lnTo>
                      <a:pt x="242" y="2"/>
                    </a:lnTo>
                    <a:lnTo>
                      <a:pt x="199" y="0"/>
                    </a:lnTo>
                    <a:lnTo>
                      <a:pt x="163" y="2"/>
                    </a:lnTo>
                    <a:lnTo>
                      <a:pt x="161" y="4"/>
                    </a:lnTo>
                    <a:lnTo>
                      <a:pt x="161" y="4"/>
                    </a:lnTo>
                    <a:lnTo>
                      <a:pt x="161" y="6"/>
                    </a:lnTo>
                    <a:lnTo>
                      <a:pt x="159" y="8"/>
                    </a:lnTo>
                    <a:lnTo>
                      <a:pt x="159" y="8"/>
                    </a:lnTo>
                    <a:lnTo>
                      <a:pt x="159" y="10"/>
                    </a:lnTo>
                    <a:lnTo>
                      <a:pt x="157" y="11"/>
                    </a:lnTo>
                    <a:lnTo>
                      <a:pt x="157" y="11"/>
                    </a:lnTo>
                    <a:lnTo>
                      <a:pt x="159" y="11"/>
                    </a:lnTo>
                    <a:lnTo>
                      <a:pt x="199" y="11"/>
                    </a:lnTo>
                    <a:lnTo>
                      <a:pt x="242" y="11"/>
                    </a:lnTo>
                    <a:lnTo>
                      <a:pt x="282" y="15"/>
                    </a:lnTo>
                    <a:lnTo>
                      <a:pt x="322" y="21"/>
                    </a:lnTo>
                    <a:lnTo>
                      <a:pt x="361" y="27"/>
                    </a:lnTo>
                    <a:lnTo>
                      <a:pt x="384" y="33"/>
                    </a:lnTo>
                    <a:lnTo>
                      <a:pt x="386" y="31"/>
                    </a:lnTo>
                    <a:lnTo>
                      <a:pt x="386" y="31"/>
                    </a:lnTo>
                    <a:lnTo>
                      <a:pt x="386" y="29"/>
                    </a:lnTo>
                    <a:lnTo>
                      <a:pt x="388" y="29"/>
                    </a:lnTo>
                    <a:lnTo>
                      <a:pt x="388" y="27"/>
                    </a:lnTo>
                    <a:lnTo>
                      <a:pt x="388" y="25"/>
                    </a:lnTo>
                    <a:lnTo>
                      <a:pt x="388" y="25"/>
                    </a:lnTo>
                    <a:lnTo>
                      <a:pt x="389" y="23"/>
                    </a:lnTo>
                    <a:close/>
                    <a:moveTo>
                      <a:pt x="4" y="1598"/>
                    </a:moveTo>
                    <a:lnTo>
                      <a:pt x="36" y="1606"/>
                    </a:lnTo>
                    <a:lnTo>
                      <a:pt x="77" y="1614"/>
                    </a:lnTo>
                    <a:lnTo>
                      <a:pt x="117" y="1619"/>
                    </a:lnTo>
                    <a:lnTo>
                      <a:pt x="159" y="1621"/>
                    </a:lnTo>
                    <a:lnTo>
                      <a:pt x="199" y="1623"/>
                    </a:lnTo>
                    <a:lnTo>
                      <a:pt x="242" y="1621"/>
                    </a:lnTo>
                    <a:lnTo>
                      <a:pt x="284" y="1619"/>
                    </a:lnTo>
                    <a:lnTo>
                      <a:pt x="324" y="1614"/>
                    </a:lnTo>
                    <a:lnTo>
                      <a:pt x="363" y="1606"/>
                    </a:lnTo>
                    <a:lnTo>
                      <a:pt x="386" y="1602"/>
                    </a:lnTo>
                    <a:lnTo>
                      <a:pt x="386" y="1600"/>
                    </a:lnTo>
                    <a:lnTo>
                      <a:pt x="384" y="1598"/>
                    </a:lnTo>
                    <a:lnTo>
                      <a:pt x="384" y="1598"/>
                    </a:lnTo>
                    <a:lnTo>
                      <a:pt x="384" y="1596"/>
                    </a:lnTo>
                    <a:lnTo>
                      <a:pt x="382" y="1594"/>
                    </a:lnTo>
                    <a:lnTo>
                      <a:pt x="382" y="1594"/>
                    </a:lnTo>
                    <a:lnTo>
                      <a:pt x="382" y="1592"/>
                    </a:lnTo>
                    <a:lnTo>
                      <a:pt x="382" y="1592"/>
                    </a:lnTo>
                    <a:lnTo>
                      <a:pt x="361" y="1596"/>
                    </a:lnTo>
                    <a:lnTo>
                      <a:pt x="322" y="1604"/>
                    </a:lnTo>
                    <a:lnTo>
                      <a:pt x="282" y="1608"/>
                    </a:lnTo>
                    <a:lnTo>
                      <a:pt x="242" y="1612"/>
                    </a:lnTo>
                    <a:lnTo>
                      <a:pt x="199" y="1612"/>
                    </a:lnTo>
                    <a:lnTo>
                      <a:pt x="159" y="1612"/>
                    </a:lnTo>
                    <a:lnTo>
                      <a:pt x="119" y="1608"/>
                    </a:lnTo>
                    <a:lnTo>
                      <a:pt x="78" y="1604"/>
                    </a:lnTo>
                    <a:lnTo>
                      <a:pt x="38" y="1596"/>
                    </a:lnTo>
                    <a:lnTo>
                      <a:pt x="0" y="1587"/>
                    </a:lnTo>
                    <a:lnTo>
                      <a:pt x="0" y="1589"/>
                    </a:lnTo>
                    <a:lnTo>
                      <a:pt x="2" y="1591"/>
                    </a:lnTo>
                    <a:lnTo>
                      <a:pt x="2" y="1592"/>
                    </a:lnTo>
                    <a:lnTo>
                      <a:pt x="2" y="1592"/>
                    </a:lnTo>
                    <a:lnTo>
                      <a:pt x="2" y="1594"/>
                    </a:lnTo>
                    <a:lnTo>
                      <a:pt x="2" y="1596"/>
                    </a:lnTo>
                    <a:lnTo>
                      <a:pt x="4" y="1596"/>
                    </a:lnTo>
                    <a:lnTo>
                      <a:pt x="4" y="1598"/>
                    </a:lnTo>
                    <a:close/>
                  </a:path>
                </a:pathLst>
              </a:custGeom>
              <a:solidFill>
                <a:srgbClr val="62c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Freeform 108"/>
              <p:cNvSpPr/>
              <p:nvPr/>
            </p:nvSpPr>
            <p:spPr>
              <a:xfrm>
                <a:off x="1946160" y="1816560"/>
                <a:ext cx="656640" cy="2712600"/>
              </a:xfrm>
              <a:custGeom>
                <a:avLst/>
                <a:gdLst>
                  <a:gd name="textAreaLeft" fmla="*/ 0 w 656640"/>
                  <a:gd name="textAreaRight" fmla="*/ 657000 w 656640"/>
                  <a:gd name="textAreaTop" fmla="*/ 0 h 2712600"/>
                  <a:gd name="textAreaBottom" fmla="*/ 2712960 h 2712600"/>
                </a:gdLst>
                <a:ahLst/>
                <a:rect l="textAreaLeft" t="textAreaTop" r="textAreaRight" b="textAreaBottom"/>
                <a:pathLst>
                  <a:path w="390" h="1611">
                    <a:moveTo>
                      <a:pt x="390" y="23"/>
                    </a:moveTo>
                    <a:lnTo>
                      <a:pt x="365" y="17"/>
                    </a:lnTo>
                    <a:lnTo>
                      <a:pt x="324" y="9"/>
                    </a:lnTo>
                    <a:lnTo>
                      <a:pt x="284" y="4"/>
                    </a:lnTo>
                    <a:lnTo>
                      <a:pt x="244" y="2"/>
                    </a:lnTo>
                    <a:lnTo>
                      <a:pt x="201" y="0"/>
                    </a:lnTo>
                    <a:lnTo>
                      <a:pt x="161" y="2"/>
                    </a:lnTo>
                    <a:lnTo>
                      <a:pt x="161" y="2"/>
                    </a:lnTo>
                    <a:lnTo>
                      <a:pt x="161" y="4"/>
                    </a:lnTo>
                    <a:lnTo>
                      <a:pt x="159" y="5"/>
                    </a:lnTo>
                    <a:lnTo>
                      <a:pt x="159" y="5"/>
                    </a:lnTo>
                    <a:lnTo>
                      <a:pt x="159" y="7"/>
                    </a:lnTo>
                    <a:lnTo>
                      <a:pt x="157" y="9"/>
                    </a:lnTo>
                    <a:lnTo>
                      <a:pt x="157" y="11"/>
                    </a:lnTo>
                    <a:lnTo>
                      <a:pt x="157" y="11"/>
                    </a:lnTo>
                    <a:lnTo>
                      <a:pt x="161" y="11"/>
                    </a:lnTo>
                    <a:lnTo>
                      <a:pt x="201" y="11"/>
                    </a:lnTo>
                    <a:lnTo>
                      <a:pt x="244" y="11"/>
                    </a:lnTo>
                    <a:lnTo>
                      <a:pt x="284" y="15"/>
                    </a:lnTo>
                    <a:lnTo>
                      <a:pt x="322" y="19"/>
                    </a:lnTo>
                    <a:lnTo>
                      <a:pt x="363" y="27"/>
                    </a:lnTo>
                    <a:lnTo>
                      <a:pt x="384" y="32"/>
                    </a:lnTo>
                    <a:lnTo>
                      <a:pt x="384" y="30"/>
                    </a:lnTo>
                    <a:lnTo>
                      <a:pt x="386" y="28"/>
                    </a:lnTo>
                    <a:lnTo>
                      <a:pt x="386" y="28"/>
                    </a:lnTo>
                    <a:lnTo>
                      <a:pt x="386" y="27"/>
                    </a:lnTo>
                    <a:lnTo>
                      <a:pt x="388" y="25"/>
                    </a:lnTo>
                    <a:lnTo>
                      <a:pt x="388" y="25"/>
                    </a:lnTo>
                    <a:lnTo>
                      <a:pt x="388" y="23"/>
                    </a:lnTo>
                    <a:lnTo>
                      <a:pt x="390" y="23"/>
                    </a:lnTo>
                    <a:close/>
                    <a:moveTo>
                      <a:pt x="4" y="1586"/>
                    </a:moveTo>
                    <a:lnTo>
                      <a:pt x="40" y="1596"/>
                    </a:lnTo>
                    <a:lnTo>
                      <a:pt x="79" y="1602"/>
                    </a:lnTo>
                    <a:lnTo>
                      <a:pt x="119" y="1608"/>
                    </a:lnTo>
                    <a:lnTo>
                      <a:pt x="161" y="1611"/>
                    </a:lnTo>
                    <a:lnTo>
                      <a:pt x="201" y="1611"/>
                    </a:lnTo>
                    <a:lnTo>
                      <a:pt x="244" y="1611"/>
                    </a:lnTo>
                    <a:lnTo>
                      <a:pt x="284" y="1608"/>
                    </a:lnTo>
                    <a:lnTo>
                      <a:pt x="324" y="1602"/>
                    </a:lnTo>
                    <a:lnTo>
                      <a:pt x="365" y="1596"/>
                    </a:lnTo>
                    <a:lnTo>
                      <a:pt x="386" y="1590"/>
                    </a:lnTo>
                    <a:lnTo>
                      <a:pt x="384" y="1588"/>
                    </a:lnTo>
                    <a:lnTo>
                      <a:pt x="384" y="1588"/>
                    </a:lnTo>
                    <a:lnTo>
                      <a:pt x="384" y="1586"/>
                    </a:lnTo>
                    <a:lnTo>
                      <a:pt x="384" y="1586"/>
                    </a:lnTo>
                    <a:lnTo>
                      <a:pt x="382" y="1585"/>
                    </a:lnTo>
                    <a:lnTo>
                      <a:pt x="382" y="1583"/>
                    </a:lnTo>
                    <a:lnTo>
                      <a:pt x="382" y="1583"/>
                    </a:lnTo>
                    <a:lnTo>
                      <a:pt x="380" y="1581"/>
                    </a:lnTo>
                    <a:lnTo>
                      <a:pt x="363" y="1585"/>
                    </a:lnTo>
                    <a:lnTo>
                      <a:pt x="322" y="1592"/>
                    </a:lnTo>
                    <a:lnTo>
                      <a:pt x="284" y="1598"/>
                    </a:lnTo>
                    <a:lnTo>
                      <a:pt x="244" y="1600"/>
                    </a:lnTo>
                    <a:lnTo>
                      <a:pt x="201" y="1602"/>
                    </a:lnTo>
                    <a:lnTo>
                      <a:pt x="161" y="1600"/>
                    </a:lnTo>
                    <a:lnTo>
                      <a:pt x="121" y="1598"/>
                    </a:lnTo>
                    <a:lnTo>
                      <a:pt x="80" y="1592"/>
                    </a:lnTo>
                    <a:lnTo>
                      <a:pt x="42" y="1585"/>
                    </a:lnTo>
                    <a:lnTo>
                      <a:pt x="4" y="1577"/>
                    </a:lnTo>
                    <a:lnTo>
                      <a:pt x="0" y="1575"/>
                    </a:lnTo>
                    <a:lnTo>
                      <a:pt x="2" y="1577"/>
                    </a:lnTo>
                    <a:lnTo>
                      <a:pt x="2" y="1579"/>
                    </a:lnTo>
                    <a:lnTo>
                      <a:pt x="2" y="1581"/>
                    </a:lnTo>
                    <a:lnTo>
                      <a:pt x="2" y="1581"/>
                    </a:lnTo>
                    <a:lnTo>
                      <a:pt x="2" y="1583"/>
                    </a:lnTo>
                    <a:lnTo>
                      <a:pt x="4" y="1585"/>
                    </a:lnTo>
                    <a:lnTo>
                      <a:pt x="4" y="1586"/>
                    </a:lnTo>
                    <a:lnTo>
                      <a:pt x="4" y="1586"/>
                    </a:lnTo>
                    <a:close/>
                  </a:path>
                </a:pathLst>
              </a:custGeom>
              <a:solidFill>
                <a:srgbClr val="63c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Freeform 109"/>
              <p:cNvSpPr/>
              <p:nvPr/>
            </p:nvSpPr>
            <p:spPr>
              <a:xfrm>
                <a:off x="1946160" y="1824840"/>
                <a:ext cx="650160" cy="2695680"/>
              </a:xfrm>
              <a:custGeom>
                <a:avLst/>
                <a:gdLst>
                  <a:gd name="textAreaLeft" fmla="*/ 0 w 650160"/>
                  <a:gd name="textAreaRight" fmla="*/ 650520 w 650160"/>
                  <a:gd name="textAreaTop" fmla="*/ 0 h 2695680"/>
                  <a:gd name="textAreaBottom" fmla="*/ 2695680 h 2695680"/>
                </a:gdLst>
                <a:ahLst/>
                <a:rect l="textAreaLeft" t="textAreaTop" r="textAreaRight" b="textAreaBottom"/>
                <a:pathLst>
                  <a:path w="386" h="1601">
                    <a:moveTo>
                      <a:pt x="386" y="22"/>
                    </a:moveTo>
                    <a:lnTo>
                      <a:pt x="363" y="16"/>
                    </a:lnTo>
                    <a:lnTo>
                      <a:pt x="324" y="10"/>
                    </a:lnTo>
                    <a:lnTo>
                      <a:pt x="284" y="4"/>
                    </a:lnTo>
                    <a:lnTo>
                      <a:pt x="244" y="0"/>
                    </a:lnTo>
                    <a:lnTo>
                      <a:pt x="201" y="0"/>
                    </a:lnTo>
                    <a:lnTo>
                      <a:pt x="161" y="0"/>
                    </a:lnTo>
                    <a:lnTo>
                      <a:pt x="159" y="0"/>
                    </a:lnTo>
                    <a:lnTo>
                      <a:pt x="159" y="2"/>
                    </a:lnTo>
                    <a:lnTo>
                      <a:pt x="157" y="4"/>
                    </a:lnTo>
                    <a:lnTo>
                      <a:pt x="157" y="6"/>
                    </a:lnTo>
                    <a:lnTo>
                      <a:pt x="157" y="6"/>
                    </a:lnTo>
                    <a:lnTo>
                      <a:pt x="155" y="8"/>
                    </a:lnTo>
                    <a:lnTo>
                      <a:pt x="155" y="10"/>
                    </a:lnTo>
                    <a:lnTo>
                      <a:pt x="153" y="10"/>
                    </a:lnTo>
                    <a:lnTo>
                      <a:pt x="153" y="12"/>
                    </a:lnTo>
                    <a:lnTo>
                      <a:pt x="161" y="12"/>
                    </a:lnTo>
                    <a:lnTo>
                      <a:pt x="201" y="10"/>
                    </a:lnTo>
                    <a:lnTo>
                      <a:pt x="244" y="12"/>
                    </a:lnTo>
                    <a:lnTo>
                      <a:pt x="282" y="14"/>
                    </a:lnTo>
                    <a:lnTo>
                      <a:pt x="322" y="20"/>
                    </a:lnTo>
                    <a:lnTo>
                      <a:pt x="361" y="27"/>
                    </a:lnTo>
                    <a:lnTo>
                      <a:pt x="382" y="31"/>
                    </a:lnTo>
                    <a:lnTo>
                      <a:pt x="382" y="29"/>
                    </a:lnTo>
                    <a:lnTo>
                      <a:pt x="384" y="29"/>
                    </a:lnTo>
                    <a:lnTo>
                      <a:pt x="384" y="27"/>
                    </a:lnTo>
                    <a:lnTo>
                      <a:pt x="384" y="27"/>
                    </a:lnTo>
                    <a:lnTo>
                      <a:pt x="384" y="25"/>
                    </a:lnTo>
                    <a:lnTo>
                      <a:pt x="386" y="23"/>
                    </a:lnTo>
                    <a:lnTo>
                      <a:pt x="386" y="23"/>
                    </a:lnTo>
                    <a:lnTo>
                      <a:pt x="386" y="22"/>
                    </a:lnTo>
                    <a:close/>
                    <a:moveTo>
                      <a:pt x="2" y="1576"/>
                    </a:moveTo>
                    <a:lnTo>
                      <a:pt x="40" y="1585"/>
                    </a:lnTo>
                    <a:lnTo>
                      <a:pt x="80" y="1593"/>
                    </a:lnTo>
                    <a:lnTo>
                      <a:pt x="121" y="1597"/>
                    </a:lnTo>
                    <a:lnTo>
                      <a:pt x="161" y="1601"/>
                    </a:lnTo>
                    <a:lnTo>
                      <a:pt x="201" y="1601"/>
                    </a:lnTo>
                    <a:lnTo>
                      <a:pt x="244" y="1601"/>
                    </a:lnTo>
                    <a:lnTo>
                      <a:pt x="284" y="1597"/>
                    </a:lnTo>
                    <a:lnTo>
                      <a:pt x="324" y="1593"/>
                    </a:lnTo>
                    <a:lnTo>
                      <a:pt x="363" y="1585"/>
                    </a:lnTo>
                    <a:lnTo>
                      <a:pt x="384" y="1581"/>
                    </a:lnTo>
                    <a:lnTo>
                      <a:pt x="382" y="1580"/>
                    </a:lnTo>
                    <a:lnTo>
                      <a:pt x="382" y="1578"/>
                    </a:lnTo>
                    <a:lnTo>
                      <a:pt x="382" y="1578"/>
                    </a:lnTo>
                    <a:lnTo>
                      <a:pt x="380" y="1576"/>
                    </a:lnTo>
                    <a:lnTo>
                      <a:pt x="380" y="1576"/>
                    </a:lnTo>
                    <a:lnTo>
                      <a:pt x="380" y="1574"/>
                    </a:lnTo>
                    <a:lnTo>
                      <a:pt x="380" y="1572"/>
                    </a:lnTo>
                    <a:lnTo>
                      <a:pt x="378" y="1572"/>
                    </a:lnTo>
                    <a:lnTo>
                      <a:pt x="361" y="1576"/>
                    </a:lnTo>
                    <a:lnTo>
                      <a:pt x="322" y="1581"/>
                    </a:lnTo>
                    <a:lnTo>
                      <a:pt x="282" y="1587"/>
                    </a:lnTo>
                    <a:lnTo>
                      <a:pt x="244" y="1591"/>
                    </a:lnTo>
                    <a:lnTo>
                      <a:pt x="201" y="1591"/>
                    </a:lnTo>
                    <a:lnTo>
                      <a:pt x="161" y="1591"/>
                    </a:lnTo>
                    <a:lnTo>
                      <a:pt x="121" y="1587"/>
                    </a:lnTo>
                    <a:lnTo>
                      <a:pt x="82" y="1581"/>
                    </a:lnTo>
                    <a:lnTo>
                      <a:pt x="42" y="1576"/>
                    </a:lnTo>
                    <a:lnTo>
                      <a:pt x="4" y="1566"/>
                    </a:lnTo>
                    <a:lnTo>
                      <a:pt x="0" y="1564"/>
                    </a:lnTo>
                    <a:lnTo>
                      <a:pt x="0" y="1566"/>
                    </a:lnTo>
                    <a:lnTo>
                      <a:pt x="0" y="1568"/>
                    </a:lnTo>
                    <a:lnTo>
                      <a:pt x="0" y="1570"/>
                    </a:lnTo>
                    <a:lnTo>
                      <a:pt x="0" y="1570"/>
                    </a:lnTo>
                    <a:lnTo>
                      <a:pt x="2" y="1572"/>
                    </a:lnTo>
                    <a:lnTo>
                      <a:pt x="2" y="1574"/>
                    </a:lnTo>
                    <a:lnTo>
                      <a:pt x="2" y="1576"/>
                    </a:lnTo>
                    <a:lnTo>
                      <a:pt x="2" y="1576"/>
                    </a:lnTo>
                    <a:close/>
                  </a:path>
                </a:pathLst>
              </a:custGeom>
              <a:solidFill>
                <a:srgbClr val="64c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Freeform 110"/>
              <p:cNvSpPr/>
              <p:nvPr/>
            </p:nvSpPr>
            <p:spPr>
              <a:xfrm>
                <a:off x="1943280" y="1834920"/>
                <a:ext cx="649800" cy="2678760"/>
              </a:xfrm>
              <a:custGeom>
                <a:avLst/>
                <a:gdLst>
                  <a:gd name="textAreaLeft" fmla="*/ 0 w 649800"/>
                  <a:gd name="textAreaRight" fmla="*/ 650160 w 649800"/>
                  <a:gd name="textAreaTop" fmla="*/ 0 h 2678760"/>
                  <a:gd name="textAreaBottom" fmla="*/ 2679120 h 2678760"/>
                </a:gdLst>
                <a:ahLst/>
                <a:rect l="textAreaLeft" t="textAreaTop" r="textAreaRight" b="textAreaBottom"/>
                <a:pathLst>
                  <a:path w="386" h="1591">
                    <a:moveTo>
                      <a:pt x="386" y="21"/>
                    </a:moveTo>
                    <a:lnTo>
                      <a:pt x="365" y="16"/>
                    </a:lnTo>
                    <a:lnTo>
                      <a:pt x="324" y="8"/>
                    </a:lnTo>
                    <a:lnTo>
                      <a:pt x="286" y="4"/>
                    </a:lnTo>
                    <a:lnTo>
                      <a:pt x="246" y="0"/>
                    </a:lnTo>
                    <a:lnTo>
                      <a:pt x="203" y="0"/>
                    </a:lnTo>
                    <a:lnTo>
                      <a:pt x="163" y="0"/>
                    </a:lnTo>
                    <a:lnTo>
                      <a:pt x="159" y="0"/>
                    </a:lnTo>
                    <a:lnTo>
                      <a:pt x="157" y="2"/>
                    </a:lnTo>
                    <a:lnTo>
                      <a:pt x="157" y="4"/>
                    </a:lnTo>
                    <a:lnTo>
                      <a:pt x="155" y="4"/>
                    </a:lnTo>
                    <a:lnTo>
                      <a:pt x="155" y="6"/>
                    </a:lnTo>
                    <a:lnTo>
                      <a:pt x="155" y="8"/>
                    </a:lnTo>
                    <a:lnTo>
                      <a:pt x="154" y="8"/>
                    </a:lnTo>
                    <a:lnTo>
                      <a:pt x="154" y="10"/>
                    </a:lnTo>
                    <a:lnTo>
                      <a:pt x="154" y="12"/>
                    </a:lnTo>
                    <a:lnTo>
                      <a:pt x="163" y="10"/>
                    </a:lnTo>
                    <a:lnTo>
                      <a:pt x="203" y="10"/>
                    </a:lnTo>
                    <a:lnTo>
                      <a:pt x="244" y="10"/>
                    </a:lnTo>
                    <a:lnTo>
                      <a:pt x="284" y="14"/>
                    </a:lnTo>
                    <a:lnTo>
                      <a:pt x="324" y="19"/>
                    </a:lnTo>
                    <a:lnTo>
                      <a:pt x="363" y="25"/>
                    </a:lnTo>
                    <a:lnTo>
                      <a:pt x="382" y="31"/>
                    </a:lnTo>
                    <a:lnTo>
                      <a:pt x="382" y="29"/>
                    </a:lnTo>
                    <a:lnTo>
                      <a:pt x="382" y="27"/>
                    </a:lnTo>
                    <a:lnTo>
                      <a:pt x="384" y="27"/>
                    </a:lnTo>
                    <a:lnTo>
                      <a:pt x="384" y="25"/>
                    </a:lnTo>
                    <a:lnTo>
                      <a:pt x="384" y="23"/>
                    </a:lnTo>
                    <a:lnTo>
                      <a:pt x="386" y="23"/>
                    </a:lnTo>
                    <a:lnTo>
                      <a:pt x="386" y="21"/>
                    </a:lnTo>
                    <a:lnTo>
                      <a:pt x="386" y="21"/>
                    </a:lnTo>
                    <a:close/>
                    <a:moveTo>
                      <a:pt x="2" y="1564"/>
                    </a:moveTo>
                    <a:lnTo>
                      <a:pt x="6" y="1566"/>
                    </a:lnTo>
                    <a:lnTo>
                      <a:pt x="44" y="1574"/>
                    </a:lnTo>
                    <a:lnTo>
                      <a:pt x="82" y="1581"/>
                    </a:lnTo>
                    <a:lnTo>
                      <a:pt x="123" y="1587"/>
                    </a:lnTo>
                    <a:lnTo>
                      <a:pt x="163" y="1589"/>
                    </a:lnTo>
                    <a:lnTo>
                      <a:pt x="203" y="1591"/>
                    </a:lnTo>
                    <a:lnTo>
                      <a:pt x="246" y="1589"/>
                    </a:lnTo>
                    <a:lnTo>
                      <a:pt x="286" y="1587"/>
                    </a:lnTo>
                    <a:lnTo>
                      <a:pt x="324" y="1581"/>
                    </a:lnTo>
                    <a:lnTo>
                      <a:pt x="365" y="1574"/>
                    </a:lnTo>
                    <a:lnTo>
                      <a:pt x="382" y="1570"/>
                    </a:lnTo>
                    <a:lnTo>
                      <a:pt x="382" y="1570"/>
                    </a:lnTo>
                    <a:lnTo>
                      <a:pt x="382" y="1568"/>
                    </a:lnTo>
                    <a:lnTo>
                      <a:pt x="382" y="1566"/>
                    </a:lnTo>
                    <a:lnTo>
                      <a:pt x="380" y="1566"/>
                    </a:lnTo>
                    <a:lnTo>
                      <a:pt x="380" y="1564"/>
                    </a:lnTo>
                    <a:lnTo>
                      <a:pt x="380" y="1562"/>
                    </a:lnTo>
                    <a:lnTo>
                      <a:pt x="380" y="1562"/>
                    </a:lnTo>
                    <a:lnTo>
                      <a:pt x="378" y="1560"/>
                    </a:lnTo>
                    <a:lnTo>
                      <a:pt x="363" y="1564"/>
                    </a:lnTo>
                    <a:lnTo>
                      <a:pt x="324" y="1572"/>
                    </a:lnTo>
                    <a:lnTo>
                      <a:pt x="284" y="1575"/>
                    </a:lnTo>
                    <a:lnTo>
                      <a:pt x="244" y="1579"/>
                    </a:lnTo>
                    <a:lnTo>
                      <a:pt x="203" y="1579"/>
                    </a:lnTo>
                    <a:lnTo>
                      <a:pt x="163" y="1579"/>
                    </a:lnTo>
                    <a:lnTo>
                      <a:pt x="123" y="1575"/>
                    </a:lnTo>
                    <a:lnTo>
                      <a:pt x="84" y="1572"/>
                    </a:lnTo>
                    <a:lnTo>
                      <a:pt x="46" y="1564"/>
                    </a:lnTo>
                    <a:lnTo>
                      <a:pt x="8" y="1556"/>
                    </a:lnTo>
                    <a:lnTo>
                      <a:pt x="0" y="1552"/>
                    </a:lnTo>
                    <a:lnTo>
                      <a:pt x="0" y="1554"/>
                    </a:lnTo>
                    <a:lnTo>
                      <a:pt x="0" y="1556"/>
                    </a:lnTo>
                    <a:lnTo>
                      <a:pt x="0" y="1558"/>
                    </a:lnTo>
                    <a:lnTo>
                      <a:pt x="2" y="1558"/>
                    </a:lnTo>
                    <a:lnTo>
                      <a:pt x="2" y="1560"/>
                    </a:lnTo>
                    <a:lnTo>
                      <a:pt x="2" y="1562"/>
                    </a:lnTo>
                    <a:lnTo>
                      <a:pt x="2" y="1564"/>
                    </a:lnTo>
                    <a:lnTo>
                      <a:pt x="2" y="1564"/>
                    </a:lnTo>
                    <a:close/>
                  </a:path>
                </a:pathLst>
              </a:custGeom>
              <a:solidFill>
                <a:srgbClr val="65c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Freeform 111"/>
              <p:cNvSpPr/>
              <p:nvPr/>
            </p:nvSpPr>
            <p:spPr>
              <a:xfrm>
                <a:off x="1939680" y="1841760"/>
                <a:ext cx="649800" cy="2661840"/>
              </a:xfrm>
              <a:custGeom>
                <a:avLst/>
                <a:gdLst>
                  <a:gd name="textAreaLeft" fmla="*/ 0 w 649800"/>
                  <a:gd name="textAreaRight" fmla="*/ 650160 w 649800"/>
                  <a:gd name="textAreaTop" fmla="*/ 0 h 2661840"/>
                  <a:gd name="textAreaBottom" fmla="*/ 2662200 h 2661840"/>
                </a:gdLst>
                <a:ahLst/>
                <a:rect l="textAreaLeft" t="textAreaTop" r="textAreaRight" b="textAreaBottom"/>
                <a:pathLst>
                  <a:path w="386" h="1581">
                    <a:moveTo>
                      <a:pt x="386" y="21"/>
                    </a:moveTo>
                    <a:lnTo>
                      <a:pt x="365" y="17"/>
                    </a:lnTo>
                    <a:lnTo>
                      <a:pt x="326" y="10"/>
                    </a:lnTo>
                    <a:lnTo>
                      <a:pt x="286" y="4"/>
                    </a:lnTo>
                    <a:lnTo>
                      <a:pt x="248" y="2"/>
                    </a:lnTo>
                    <a:lnTo>
                      <a:pt x="205" y="0"/>
                    </a:lnTo>
                    <a:lnTo>
                      <a:pt x="165" y="2"/>
                    </a:lnTo>
                    <a:lnTo>
                      <a:pt x="157" y="2"/>
                    </a:lnTo>
                    <a:lnTo>
                      <a:pt x="157" y="4"/>
                    </a:lnTo>
                    <a:lnTo>
                      <a:pt x="156" y="4"/>
                    </a:lnTo>
                    <a:lnTo>
                      <a:pt x="156" y="6"/>
                    </a:lnTo>
                    <a:lnTo>
                      <a:pt x="156" y="8"/>
                    </a:lnTo>
                    <a:lnTo>
                      <a:pt x="154" y="10"/>
                    </a:lnTo>
                    <a:lnTo>
                      <a:pt x="154" y="10"/>
                    </a:lnTo>
                    <a:lnTo>
                      <a:pt x="154" y="12"/>
                    </a:lnTo>
                    <a:lnTo>
                      <a:pt x="152" y="13"/>
                    </a:lnTo>
                    <a:lnTo>
                      <a:pt x="165" y="12"/>
                    </a:lnTo>
                    <a:lnTo>
                      <a:pt x="205" y="12"/>
                    </a:lnTo>
                    <a:lnTo>
                      <a:pt x="246" y="12"/>
                    </a:lnTo>
                    <a:lnTo>
                      <a:pt x="286" y="15"/>
                    </a:lnTo>
                    <a:lnTo>
                      <a:pt x="324" y="19"/>
                    </a:lnTo>
                    <a:lnTo>
                      <a:pt x="363" y="27"/>
                    </a:lnTo>
                    <a:lnTo>
                      <a:pt x="382" y="31"/>
                    </a:lnTo>
                    <a:lnTo>
                      <a:pt x="382" y="29"/>
                    </a:lnTo>
                    <a:lnTo>
                      <a:pt x="382" y="29"/>
                    </a:lnTo>
                    <a:lnTo>
                      <a:pt x="384" y="27"/>
                    </a:lnTo>
                    <a:lnTo>
                      <a:pt x="384" y="27"/>
                    </a:lnTo>
                    <a:lnTo>
                      <a:pt x="384" y="25"/>
                    </a:lnTo>
                    <a:lnTo>
                      <a:pt x="384" y="23"/>
                    </a:lnTo>
                    <a:lnTo>
                      <a:pt x="386" y="23"/>
                    </a:lnTo>
                    <a:lnTo>
                      <a:pt x="386" y="21"/>
                    </a:lnTo>
                    <a:close/>
                    <a:moveTo>
                      <a:pt x="4" y="1554"/>
                    </a:moveTo>
                    <a:lnTo>
                      <a:pt x="8" y="1556"/>
                    </a:lnTo>
                    <a:lnTo>
                      <a:pt x="46" y="1566"/>
                    </a:lnTo>
                    <a:lnTo>
                      <a:pt x="86" y="1571"/>
                    </a:lnTo>
                    <a:lnTo>
                      <a:pt x="125" y="1577"/>
                    </a:lnTo>
                    <a:lnTo>
                      <a:pt x="165" y="1581"/>
                    </a:lnTo>
                    <a:lnTo>
                      <a:pt x="205" y="1581"/>
                    </a:lnTo>
                    <a:lnTo>
                      <a:pt x="248" y="1581"/>
                    </a:lnTo>
                    <a:lnTo>
                      <a:pt x="286" y="1577"/>
                    </a:lnTo>
                    <a:lnTo>
                      <a:pt x="326" y="1571"/>
                    </a:lnTo>
                    <a:lnTo>
                      <a:pt x="365" y="1566"/>
                    </a:lnTo>
                    <a:lnTo>
                      <a:pt x="382" y="1562"/>
                    </a:lnTo>
                    <a:lnTo>
                      <a:pt x="382" y="1560"/>
                    </a:lnTo>
                    <a:lnTo>
                      <a:pt x="382" y="1558"/>
                    </a:lnTo>
                    <a:lnTo>
                      <a:pt x="382" y="1558"/>
                    </a:lnTo>
                    <a:lnTo>
                      <a:pt x="380" y="1556"/>
                    </a:lnTo>
                    <a:lnTo>
                      <a:pt x="380" y="1556"/>
                    </a:lnTo>
                    <a:lnTo>
                      <a:pt x="380" y="1554"/>
                    </a:lnTo>
                    <a:lnTo>
                      <a:pt x="378" y="1552"/>
                    </a:lnTo>
                    <a:lnTo>
                      <a:pt x="378" y="1552"/>
                    </a:lnTo>
                    <a:lnTo>
                      <a:pt x="363" y="1554"/>
                    </a:lnTo>
                    <a:lnTo>
                      <a:pt x="324" y="1562"/>
                    </a:lnTo>
                    <a:lnTo>
                      <a:pt x="286" y="1568"/>
                    </a:lnTo>
                    <a:lnTo>
                      <a:pt x="246" y="1570"/>
                    </a:lnTo>
                    <a:lnTo>
                      <a:pt x="205" y="1571"/>
                    </a:lnTo>
                    <a:lnTo>
                      <a:pt x="165" y="1570"/>
                    </a:lnTo>
                    <a:lnTo>
                      <a:pt x="127" y="1568"/>
                    </a:lnTo>
                    <a:lnTo>
                      <a:pt x="86" y="1562"/>
                    </a:lnTo>
                    <a:lnTo>
                      <a:pt x="48" y="1554"/>
                    </a:lnTo>
                    <a:lnTo>
                      <a:pt x="12" y="1546"/>
                    </a:lnTo>
                    <a:lnTo>
                      <a:pt x="0" y="1543"/>
                    </a:lnTo>
                    <a:lnTo>
                      <a:pt x="0" y="1545"/>
                    </a:lnTo>
                    <a:lnTo>
                      <a:pt x="0" y="1546"/>
                    </a:lnTo>
                    <a:lnTo>
                      <a:pt x="2" y="1548"/>
                    </a:lnTo>
                    <a:lnTo>
                      <a:pt x="2" y="1548"/>
                    </a:lnTo>
                    <a:lnTo>
                      <a:pt x="2" y="1550"/>
                    </a:lnTo>
                    <a:lnTo>
                      <a:pt x="2" y="1552"/>
                    </a:lnTo>
                    <a:lnTo>
                      <a:pt x="2" y="1554"/>
                    </a:lnTo>
                    <a:lnTo>
                      <a:pt x="4" y="1554"/>
                    </a:lnTo>
                    <a:close/>
                  </a:path>
                </a:pathLst>
              </a:custGeom>
              <a:solidFill>
                <a:srgbClr val="66c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Freeform 112"/>
              <p:cNvSpPr/>
              <p:nvPr/>
            </p:nvSpPr>
            <p:spPr>
              <a:xfrm>
                <a:off x="1936440" y="1851480"/>
                <a:ext cx="649800" cy="2641680"/>
              </a:xfrm>
              <a:custGeom>
                <a:avLst/>
                <a:gdLst>
                  <a:gd name="textAreaLeft" fmla="*/ 0 w 649800"/>
                  <a:gd name="textAreaRight" fmla="*/ 650160 w 649800"/>
                  <a:gd name="textAreaTop" fmla="*/ 0 h 2641680"/>
                  <a:gd name="textAreaBottom" fmla="*/ 2642040 h 2641680"/>
                </a:gdLst>
                <a:ahLst/>
                <a:rect l="textAreaLeft" t="textAreaTop" r="textAreaRight" b="textAreaBottom"/>
                <a:pathLst>
                  <a:path w="386" h="1569">
                    <a:moveTo>
                      <a:pt x="386" y="21"/>
                    </a:moveTo>
                    <a:lnTo>
                      <a:pt x="367" y="15"/>
                    </a:lnTo>
                    <a:lnTo>
                      <a:pt x="328" y="9"/>
                    </a:lnTo>
                    <a:lnTo>
                      <a:pt x="288" y="4"/>
                    </a:lnTo>
                    <a:lnTo>
                      <a:pt x="248" y="0"/>
                    </a:lnTo>
                    <a:lnTo>
                      <a:pt x="207" y="0"/>
                    </a:lnTo>
                    <a:lnTo>
                      <a:pt x="167" y="0"/>
                    </a:lnTo>
                    <a:lnTo>
                      <a:pt x="158" y="2"/>
                    </a:lnTo>
                    <a:lnTo>
                      <a:pt x="156" y="4"/>
                    </a:lnTo>
                    <a:lnTo>
                      <a:pt x="156" y="4"/>
                    </a:lnTo>
                    <a:lnTo>
                      <a:pt x="156" y="6"/>
                    </a:lnTo>
                    <a:lnTo>
                      <a:pt x="154" y="7"/>
                    </a:lnTo>
                    <a:lnTo>
                      <a:pt x="154" y="7"/>
                    </a:lnTo>
                    <a:lnTo>
                      <a:pt x="154" y="9"/>
                    </a:lnTo>
                    <a:lnTo>
                      <a:pt x="152" y="11"/>
                    </a:lnTo>
                    <a:lnTo>
                      <a:pt x="152" y="11"/>
                    </a:lnTo>
                    <a:lnTo>
                      <a:pt x="169" y="11"/>
                    </a:lnTo>
                    <a:lnTo>
                      <a:pt x="207" y="9"/>
                    </a:lnTo>
                    <a:lnTo>
                      <a:pt x="248" y="11"/>
                    </a:lnTo>
                    <a:lnTo>
                      <a:pt x="288" y="13"/>
                    </a:lnTo>
                    <a:lnTo>
                      <a:pt x="326" y="19"/>
                    </a:lnTo>
                    <a:lnTo>
                      <a:pt x="365" y="25"/>
                    </a:lnTo>
                    <a:lnTo>
                      <a:pt x="382" y="29"/>
                    </a:lnTo>
                    <a:lnTo>
                      <a:pt x="382" y="29"/>
                    </a:lnTo>
                    <a:lnTo>
                      <a:pt x="382" y="27"/>
                    </a:lnTo>
                    <a:lnTo>
                      <a:pt x="384" y="27"/>
                    </a:lnTo>
                    <a:lnTo>
                      <a:pt x="384" y="25"/>
                    </a:lnTo>
                    <a:lnTo>
                      <a:pt x="384" y="23"/>
                    </a:lnTo>
                    <a:lnTo>
                      <a:pt x="384" y="23"/>
                    </a:lnTo>
                    <a:lnTo>
                      <a:pt x="386" y="21"/>
                    </a:lnTo>
                    <a:lnTo>
                      <a:pt x="386" y="21"/>
                    </a:lnTo>
                    <a:close/>
                    <a:moveTo>
                      <a:pt x="4" y="1542"/>
                    </a:moveTo>
                    <a:lnTo>
                      <a:pt x="12" y="1546"/>
                    </a:lnTo>
                    <a:lnTo>
                      <a:pt x="50" y="1554"/>
                    </a:lnTo>
                    <a:lnTo>
                      <a:pt x="88" y="1562"/>
                    </a:lnTo>
                    <a:lnTo>
                      <a:pt x="127" y="1565"/>
                    </a:lnTo>
                    <a:lnTo>
                      <a:pt x="167" y="1569"/>
                    </a:lnTo>
                    <a:lnTo>
                      <a:pt x="207" y="1569"/>
                    </a:lnTo>
                    <a:lnTo>
                      <a:pt x="248" y="1569"/>
                    </a:lnTo>
                    <a:lnTo>
                      <a:pt x="288" y="1565"/>
                    </a:lnTo>
                    <a:lnTo>
                      <a:pt x="328" y="1562"/>
                    </a:lnTo>
                    <a:lnTo>
                      <a:pt x="367" y="1554"/>
                    </a:lnTo>
                    <a:lnTo>
                      <a:pt x="382" y="1550"/>
                    </a:lnTo>
                    <a:lnTo>
                      <a:pt x="382" y="1550"/>
                    </a:lnTo>
                    <a:lnTo>
                      <a:pt x="382" y="1548"/>
                    </a:lnTo>
                    <a:lnTo>
                      <a:pt x="380" y="1546"/>
                    </a:lnTo>
                    <a:lnTo>
                      <a:pt x="380" y="1546"/>
                    </a:lnTo>
                    <a:lnTo>
                      <a:pt x="380" y="1544"/>
                    </a:lnTo>
                    <a:lnTo>
                      <a:pt x="380" y="1542"/>
                    </a:lnTo>
                    <a:lnTo>
                      <a:pt x="378" y="1542"/>
                    </a:lnTo>
                    <a:lnTo>
                      <a:pt x="378" y="1540"/>
                    </a:lnTo>
                    <a:lnTo>
                      <a:pt x="365" y="1544"/>
                    </a:lnTo>
                    <a:lnTo>
                      <a:pt x="326" y="1550"/>
                    </a:lnTo>
                    <a:lnTo>
                      <a:pt x="288" y="1556"/>
                    </a:lnTo>
                    <a:lnTo>
                      <a:pt x="248" y="1560"/>
                    </a:lnTo>
                    <a:lnTo>
                      <a:pt x="207" y="1560"/>
                    </a:lnTo>
                    <a:lnTo>
                      <a:pt x="169" y="1560"/>
                    </a:lnTo>
                    <a:lnTo>
                      <a:pt x="129" y="1556"/>
                    </a:lnTo>
                    <a:lnTo>
                      <a:pt x="90" y="1550"/>
                    </a:lnTo>
                    <a:lnTo>
                      <a:pt x="52" y="1544"/>
                    </a:lnTo>
                    <a:lnTo>
                      <a:pt x="14" y="1535"/>
                    </a:lnTo>
                    <a:lnTo>
                      <a:pt x="0" y="1531"/>
                    </a:lnTo>
                    <a:lnTo>
                      <a:pt x="0" y="1533"/>
                    </a:lnTo>
                    <a:lnTo>
                      <a:pt x="2" y="1535"/>
                    </a:lnTo>
                    <a:lnTo>
                      <a:pt x="2" y="1537"/>
                    </a:lnTo>
                    <a:lnTo>
                      <a:pt x="2" y="1537"/>
                    </a:lnTo>
                    <a:lnTo>
                      <a:pt x="2" y="1539"/>
                    </a:lnTo>
                    <a:lnTo>
                      <a:pt x="2" y="1540"/>
                    </a:lnTo>
                    <a:lnTo>
                      <a:pt x="4" y="1542"/>
                    </a:lnTo>
                    <a:lnTo>
                      <a:pt x="4" y="1542"/>
                    </a:lnTo>
                    <a:close/>
                  </a:path>
                </a:pathLst>
              </a:custGeom>
              <a:solidFill>
                <a:srgbClr val="67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Freeform 113"/>
              <p:cNvSpPr/>
              <p:nvPr/>
            </p:nvSpPr>
            <p:spPr>
              <a:xfrm>
                <a:off x="1932840" y="1861920"/>
                <a:ext cx="649800" cy="2624760"/>
              </a:xfrm>
              <a:custGeom>
                <a:avLst/>
                <a:gdLst>
                  <a:gd name="textAreaLeft" fmla="*/ 0 w 649800"/>
                  <a:gd name="textAreaRight" fmla="*/ 650160 w 649800"/>
                  <a:gd name="textAreaTop" fmla="*/ 0 h 2624760"/>
                  <a:gd name="textAreaBottom" fmla="*/ 2625120 h 2624760"/>
                </a:gdLst>
                <a:ahLst/>
                <a:rect l="textAreaLeft" t="textAreaTop" r="textAreaRight" b="textAreaBottom"/>
                <a:pathLst>
                  <a:path w="386" h="1559">
                    <a:moveTo>
                      <a:pt x="386" y="19"/>
                    </a:moveTo>
                    <a:lnTo>
                      <a:pt x="367" y="15"/>
                    </a:lnTo>
                    <a:lnTo>
                      <a:pt x="328" y="7"/>
                    </a:lnTo>
                    <a:lnTo>
                      <a:pt x="290" y="3"/>
                    </a:lnTo>
                    <a:lnTo>
                      <a:pt x="250" y="0"/>
                    </a:lnTo>
                    <a:lnTo>
                      <a:pt x="209" y="0"/>
                    </a:lnTo>
                    <a:lnTo>
                      <a:pt x="169" y="0"/>
                    </a:lnTo>
                    <a:lnTo>
                      <a:pt x="156" y="1"/>
                    </a:lnTo>
                    <a:lnTo>
                      <a:pt x="156" y="1"/>
                    </a:lnTo>
                    <a:lnTo>
                      <a:pt x="156" y="3"/>
                    </a:lnTo>
                    <a:lnTo>
                      <a:pt x="154" y="5"/>
                    </a:lnTo>
                    <a:lnTo>
                      <a:pt x="154" y="5"/>
                    </a:lnTo>
                    <a:lnTo>
                      <a:pt x="154" y="7"/>
                    </a:lnTo>
                    <a:lnTo>
                      <a:pt x="152" y="9"/>
                    </a:lnTo>
                    <a:lnTo>
                      <a:pt x="152" y="9"/>
                    </a:lnTo>
                    <a:lnTo>
                      <a:pt x="152" y="11"/>
                    </a:lnTo>
                    <a:lnTo>
                      <a:pt x="171" y="9"/>
                    </a:lnTo>
                    <a:lnTo>
                      <a:pt x="209" y="9"/>
                    </a:lnTo>
                    <a:lnTo>
                      <a:pt x="250" y="9"/>
                    </a:lnTo>
                    <a:lnTo>
                      <a:pt x="288" y="13"/>
                    </a:lnTo>
                    <a:lnTo>
                      <a:pt x="326" y="19"/>
                    </a:lnTo>
                    <a:lnTo>
                      <a:pt x="365" y="24"/>
                    </a:lnTo>
                    <a:lnTo>
                      <a:pt x="382" y="28"/>
                    </a:lnTo>
                    <a:lnTo>
                      <a:pt x="382" y="26"/>
                    </a:lnTo>
                    <a:lnTo>
                      <a:pt x="382" y="26"/>
                    </a:lnTo>
                    <a:lnTo>
                      <a:pt x="382" y="24"/>
                    </a:lnTo>
                    <a:lnTo>
                      <a:pt x="384" y="23"/>
                    </a:lnTo>
                    <a:lnTo>
                      <a:pt x="384" y="23"/>
                    </a:lnTo>
                    <a:lnTo>
                      <a:pt x="384" y="21"/>
                    </a:lnTo>
                    <a:lnTo>
                      <a:pt x="386" y="21"/>
                    </a:lnTo>
                    <a:lnTo>
                      <a:pt x="386" y="19"/>
                    </a:lnTo>
                    <a:close/>
                    <a:moveTo>
                      <a:pt x="4" y="1531"/>
                    </a:moveTo>
                    <a:lnTo>
                      <a:pt x="16" y="1534"/>
                    </a:lnTo>
                    <a:lnTo>
                      <a:pt x="52" y="1542"/>
                    </a:lnTo>
                    <a:lnTo>
                      <a:pt x="90" y="1550"/>
                    </a:lnTo>
                    <a:lnTo>
                      <a:pt x="131" y="1556"/>
                    </a:lnTo>
                    <a:lnTo>
                      <a:pt x="169" y="1558"/>
                    </a:lnTo>
                    <a:lnTo>
                      <a:pt x="209" y="1559"/>
                    </a:lnTo>
                    <a:lnTo>
                      <a:pt x="250" y="1558"/>
                    </a:lnTo>
                    <a:lnTo>
                      <a:pt x="290" y="1556"/>
                    </a:lnTo>
                    <a:lnTo>
                      <a:pt x="328" y="1550"/>
                    </a:lnTo>
                    <a:lnTo>
                      <a:pt x="367" y="1542"/>
                    </a:lnTo>
                    <a:lnTo>
                      <a:pt x="382" y="1540"/>
                    </a:lnTo>
                    <a:lnTo>
                      <a:pt x="382" y="1538"/>
                    </a:lnTo>
                    <a:lnTo>
                      <a:pt x="382" y="1536"/>
                    </a:lnTo>
                    <a:lnTo>
                      <a:pt x="380" y="1536"/>
                    </a:lnTo>
                    <a:lnTo>
                      <a:pt x="380" y="1534"/>
                    </a:lnTo>
                    <a:lnTo>
                      <a:pt x="380" y="1534"/>
                    </a:lnTo>
                    <a:lnTo>
                      <a:pt x="380" y="1533"/>
                    </a:lnTo>
                    <a:lnTo>
                      <a:pt x="378" y="1531"/>
                    </a:lnTo>
                    <a:lnTo>
                      <a:pt x="378" y="1531"/>
                    </a:lnTo>
                    <a:lnTo>
                      <a:pt x="365" y="1533"/>
                    </a:lnTo>
                    <a:lnTo>
                      <a:pt x="326" y="1540"/>
                    </a:lnTo>
                    <a:lnTo>
                      <a:pt x="288" y="1544"/>
                    </a:lnTo>
                    <a:lnTo>
                      <a:pt x="250" y="1548"/>
                    </a:lnTo>
                    <a:lnTo>
                      <a:pt x="209" y="1548"/>
                    </a:lnTo>
                    <a:lnTo>
                      <a:pt x="171" y="1548"/>
                    </a:lnTo>
                    <a:lnTo>
                      <a:pt x="131" y="1544"/>
                    </a:lnTo>
                    <a:lnTo>
                      <a:pt x="92" y="1540"/>
                    </a:lnTo>
                    <a:lnTo>
                      <a:pt x="54" y="1533"/>
                    </a:lnTo>
                    <a:lnTo>
                      <a:pt x="17" y="1525"/>
                    </a:lnTo>
                    <a:lnTo>
                      <a:pt x="0" y="1519"/>
                    </a:lnTo>
                    <a:lnTo>
                      <a:pt x="2" y="1521"/>
                    </a:lnTo>
                    <a:lnTo>
                      <a:pt x="2" y="1523"/>
                    </a:lnTo>
                    <a:lnTo>
                      <a:pt x="2" y="1525"/>
                    </a:lnTo>
                    <a:lnTo>
                      <a:pt x="2" y="1525"/>
                    </a:lnTo>
                    <a:lnTo>
                      <a:pt x="2" y="1527"/>
                    </a:lnTo>
                    <a:lnTo>
                      <a:pt x="4" y="1529"/>
                    </a:lnTo>
                    <a:lnTo>
                      <a:pt x="4" y="1531"/>
                    </a:lnTo>
                    <a:lnTo>
                      <a:pt x="4" y="1531"/>
                    </a:lnTo>
                    <a:close/>
                  </a:path>
                </a:pathLst>
              </a:custGeom>
              <a:solidFill>
                <a:srgbClr val="68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Freeform 114"/>
              <p:cNvSpPr/>
              <p:nvPr/>
            </p:nvSpPr>
            <p:spPr>
              <a:xfrm>
                <a:off x="1932840" y="1866960"/>
                <a:ext cx="646200" cy="26114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2611440"/>
                  <a:gd name="textAreaBottom" fmla="*/ 2611800 h 2611440"/>
                </a:gdLst>
                <a:ahLst/>
                <a:rect l="textAreaLeft" t="textAreaTop" r="textAreaRight" b="textAreaBottom"/>
                <a:pathLst>
                  <a:path w="384" h="1551">
                    <a:moveTo>
                      <a:pt x="384" y="20"/>
                    </a:moveTo>
                    <a:lnTo>
                      <a:pt x="367" y="16"/>
                    </a:lnTo>
                    <a:lnTo>
                      <a:pt x="328" y="10"/>
                    </a:lnTo>
                    <a:lnTo>
                      <a:pt x="290" y="4"/>
                    </a:lnTo>
                    <a:lnTo>
                      <a:pt x="250" y="2"/>
                    </a:lnTo>
                    <a:lnTo>
                      <a:pt x="209" y="0"/>
                    </a:lnTo>
                    <a:lnTo>
                      <a:pt x="171" y="2"/>
                    </a:lnTo>
                    <a:lnTo>
                      <a:pt x="154" y="2"/>
                    </a:lnTo>
                    <a:lnTo>
                      <a:pt x="154" y="4"/>
                    </a:lnTo>
                    <a:lnTo>
                      <a:pt x="152" y="6"/>
                    </a:lnTo>
                    <a:lnTo>
                      <a:pt x="152" y="6"/>
                    </a:lnTo>
                    <a:lnTo>
                      <a:pt x="152" y="8"/>
                    </a:lnTo>
                    <a:lnTo>
                      <a:pt x="150" y="10"/>
                    </a:lnTo>
                    <a:lnTo>
                      <a:pt x="150" y="12"/>
                    </a:lnTo>
                    <a:lnTo>
                      <a:pt x="150" y="12"/>
                    </a:lnTo>
                    <a:lnTo>
                      <a:pt x="150" y="14"/>
                    </a:lnTo>
                    <a:lnTo>
                      <a:pt x="171" y="12"/>
                    </a:lnTo>
                    <a:lnTo>
                      <a:pt x="209" y="12"/>
                    </a:lnTo>
                    <a:lnTo>
                      <a:pt x="250" y="12"/>
                    </a:lnTo>
                    <a:lnTo>
                      <a:pt x="288" y="16"/>
                    </a:lnTo>
                    <a:lnTo>
                      <a:pt x="326" y="20"/>
                    </a:lnTo>
                    <a:lnTo>
                      <a:pt x="365" y="27"/>
                    </a:lnTo>
                    <a:lnTo>
                      <a:pt x="378" y="29"/>
                    </a:lnTo>
                    <a:lnTo>
                      <a:pt x="380" y="29"/>
                    </a:lnTo>
                    <a:lnTo>
                      <a:pt x="380" y="27"/>
                    </a:lnTo>
                    <a:lnTo>
                      <a:pt x="380" y="27"/>
                    </a:lnTo>
                    <a:lnTo>
                      <a:pt x="382" y="25"/>
                    </a:lnTo>
                    <a:lnTo>
                      <a:pt x="382" y="23"/>
                    </a:lnTo>
                    <a:lnTo>
                      <a:pt x="382" y="23"/>
                    </a:lnTo>
                    <a:lnTo>
                      <a:pt x="382" y="21"/>
                    </a:lnTo>
                    <a:lnTo>
                      <a:pt x="384" y="20"/>
                    </a:lnTo>
                    <a:close/>
                    <a:moveTo>
                      <a:pt x="2" y="1522"/>
                    </a:moveTo>
                    <a:lnTo>
                      <a:pt x="16" y="1526"/>
                    </a:lnTo>
                    <a:lnTo>
                      <a:pt x="54" y="1535"/>
                    </a:lnTo>
                    <a:lnTo>
                      <a:pt x="92" y="1541"/>
                    </a:lnTo>
                    <a:lnTo>
                      <a:pt x="131" y="1547"/>
                    </a:lnTo>
                    <a:lnTo>
                      <a:pt x="171" y="1551"/>
                    </a:lnTo>
                    <a:lnTo>
                      <a:pt x="209" y="1551"/>
                    </a:lnTo>
                    <a:lnTo>
                      <a:pt x="250" y="1551"/>
                    </a:lnTo>
                    <a:lnTo>
                      <a:pt x="290" y="1547"/>
                    </a:lnTo>
                    <a:lnTo>
                      <a:pt x="328" y="1541"/>
                    </a:lnTo>
                    <a:lnTo>
                      <a:pt x="367" y="1535"/>
                    </a:lnTo>
                    <a:lnTo>
                      <a:pt x="380" y="1531"/>
                    </a:lnTo>
                    <a:lnTo>
                      <a:pt x="380" y="1531"/>
                    </a:lnTo>
                    <a:lnTo>
                      <a:pt x="380" y="1530"/>
                    </a:lnTo>
                    <a:lnTo>
                      <a:pt x="378" y="1528"/>
                    </a:lnTo>
                    <a:lnTo>
                      <a:pt x="378" y="1528"/>
                    </a:lnTo>
                    <a:lnTo>
                      <a:pt x="378" y="1526"/>
                    </a:lnTo>
                    <a:lnTo>
                      <a:pt x="376" y="1524"/>
                    </a:lnTo>
                    <a:lnTo>
                      <a:pt x="376" y="1524"/>
                    </a:lnTo>
                    <a:lnTo>
                      <a:pt x="376" y="1522"/>
                    </a:lnTo>
                    <a:lnTo>
                      <a:pt x="365" y="1526"/>
                    </a:lnTo>
                    <a:lnTo>
                      <a:pt x="326" y="1531"/>
                    </a:lnTo>
                    <a:lnTo>
                      <a:pt x="288" y="1537"/>
                    </a:lnTo>
                    <a:lnTo>
                      <a:pt x="250" y="1539"/>
                    </a:lnTo>
                    <a:lnTo>
                      <a:pt x="209" y="1541"/>
                    </a:lnTo>
                    <a:lnTo>
                      <a:pt x="171" y="1539"/>
                    </a:lnTo>
                    <a:lnTo>
                      <a:pt x="133" y="1537"/>
                    </a:lnTo>
                    <a:lnTo>
                      <a:pt x="94" y="1531"/>
                    </a:lnTo>
                    <a:lnTo>
                      <a:pt x="56" y="1526"/>
                    </a:lnTo>
                    <a:lnTo>
                      <a:pt x="19" y="1516"/>
                    </a:lnTo>
                    <a:lnTo>
                      <a:pt x="0" y="1510"/>
                    </a:lnTo>
                    <a:lnTo>
                      <a:pt x="0" y="1512"/>
                    </a:lnTo>
                    <a:lnTo>
                      <a:pt x="0" y="1514"/>
                    </a:lnTo>
                    <a:lnTo>
                      <a:pt x="0" y="1516"/>
                    </a:lnTo>
                    <a:lnTo>
                      <a:pt x="0" y="1516"/>
                    </a:lnTo>
                    <a:lnTo>
                      <a:pt x="2" y="1518"/>
                    </a:lnTo>
                    <a:lnTo>
                      <a:pt x="2" y="1520"/>
                    </a:lnTo>
                    <a:lnTo>
                      <a:pt x="2" y="1522"/>
                    </a:lnTo>
                    <a:lnTo>
                      <a:pt x="2" y="1522"/>
                    </a:lnTo>
                    <a:close/>
                  </a:path>
                </a:pathLst>
              </a:custGeom>
              <a:solidFill>
                <a:srgbClr val="69c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Freeform 115"/>
              <p:cNvSpPr/>
              <p:nvPr/>
            </p:nvSpPr>
            <p:spPr>
              <a:xfrm>
                <a:off x="1929600" y="1876680"/>
                <a:ext cx="646560" cy="2591280"/>
              </a:xfrm>
              <a:custGeom>
                <a:avLst/>
                <a:gdLst>
                  <a:gd name="textAreaLeft" fmla="*/ 0 w 646560"/>
                  <a:gd name="textAreaRight" fmla="*/ 646920 w 646560"/>
                  <a:gd name="textAreaTop" fmla="*/ 0 h 2591280"/>
                  <a:gd name="textAreaBottom" fmla="*/ 2591640 h 2591280"/>
                </a:gdLst>
                <a:ahLst/>
                <a:rect l="textAreaLeft" t="textAreaTop" r="textAreaRight" b="textAreaBottom"/>
                <a:pathLst>
                  <a:path w="384" h="1539">
                    <a:moveTo>
                      <a:pt x="384" y="19"/>
                    </a:moveTo>
                    <a:lnTo>
                      <a:pt x="367" y="15"/>
                    </a:lnTo>
                    <a:lnTo>
                      <a:pt x="328" y="10"/>
                    </a:lnTo>
                    <a:lnTo>
                      <a:pt x="290" y="4"/>
                    </a:lnTo>
                    <a:lnTo>
                      <a:pt x="252" y="0"/>
                    </a:lnTo>
                    <a:lnTo>
                      <a:pt x="211" y="0"/>
                    </a:lnTo>
                    <a:lnTo>
                      <a:pt x="173" y="0"/>
                    </a:lnTo>
                    <a:lnTo>
                      <a:pt x="154" y="2"/>
                    </a:lnTo>
                    <a:lnTo>
                      <a:pt x="152" y="4"/>
                    </a:lnTo>
                    <a:lnTo>
                      <a:pt x="152" y="6"/>
                    </a:lnTo>
                    <a:lnTo>
                      <a:pt x="152" y="6"/>
                    </a:lnTo>
                    <a:lnTo>
                      <a:pt x="152" y="8"/>
                    </a:lnTo>
                    <a:lnTo>
                      <a:pt x="150" y="10"/>
                    </a:lnTo>
                    <a:lnTo>
                      <a:pt x="150" y="10"/>
                    </a:lnTo>
                    <a:lnTo>
                      <a:pt x="150" y="12"/>
                    </a:lnTo>
                    <a:lnTo>
                      <a:pt x="148" y="14"/>
                    </a:lnTo>
                    <a:lnTo>
                      <a:pt x="173" y="12"/>
                    </a:lnTo>
                    <a:lnTo>
                      <a:pt x="211" y="10"/>
                    </a:lnTo>
                    <a:lnTo>
                      <a:pt x="252" y="12"/>
                    </a:lnTo>
                    <a:lnTo>
                      <a:pt x="290" y="14"/>
                    </a:lnTo>
                    <a:lnTo>
                      <a:pt x="328" y="19"/>
                    </a:lnTo>
                    <a:lnTo>
                      <a:pt x="365" y="25"/>
                    </a:lnTo>
                    <a:lnTo>
                      <a:pt x="378" y="29"/>
                    </a:lnTo>
                    <a:lnTo>
                      <a:pt x="380" y="27"/>
                    </a:lnTo>
                    <a:lnTo>
                      <a:pt x="380" y="27"/>
                    </a:lnTo>
                    <a:lnTo>
                      <a:pt x="380" y="25"/>
                    </a:lnTo>
                    <a:lnTo>
                      <a:pt x="380" y="23"/>
                    </a:lnTo>
                    <a:lnTo>
                      <a:pt x="382" y="23"/>
                    </a:lnTo>
                    <a:lnTo>
                      <a:pt x="382" y="21"/>
                    </a:lnTo>
                    <a:lnTo>
                      <a:pt x="382" y="21"/>
                    </a:lnTo>
                    <a:lnTo>
                      <a:pt x="384" y="19"/>
                    </a:lnTo>
                    <a:close/>
                    <a:moveTo>
                      <a:pt x="2" y="1510"/>
                    </a:moveTo>
                    <a:lnTo>
                      <a:pt x="19" y="1516"/>
                    </a:lnTo>
                    <a:lnTo>
                      <a:pt x="56" y="1524"/>
                    </a:lnTo>
                    <a:lnTo>
                      <a:pt x="94" y="1531"/>
                    </a:lnTo>
                    <a:lnTo>
                      <a:pt x="133" y="1535"/>
                    </a:lnTo>
                    <a:lnTo>
                      <a:pt x="173" y="1539"/>
                    </a:lnTo>
                    <a:lnTo>
                      <a:pt x="211" y="1539"/>
                    </a:lnTo>
                    <a:lnTo>
                      <a:pt x="252" y="1539"/>
                    </a:lnTo>
                    <a:lnTo>
                      <a:pt x="290" y="1535"/>
                    </a:lnTo>
                    <a:lnTo>
                      <a:pt x="328" y="1531"/>
                    </a:lnTo>
                    <a:lnTo>
                      <a:pt x="367" y="1524"/>
                    </a:lnTo>
                    <a:lnTo>
                      <a:pt x="380" y="1522"/>
                    </a:lnTo>
                    <a:lnTo>
                      <a:pt x="380" y="1520"/>
                    </a:lnTo>
                    <a:lnTo>
                      <a:pt x="378" y="1518"/>
                    </a:lnTo>
                    <a:lnTo>
                      <a:pt x="378" y="1518"/>
                    </a:lnTo>
                    <a:lnTo>
                      <a:pt x="378" y="1516"/>
                    </a:lnTo>
                    <a:lnTo>
                      <a:pt x="378" y="1516"/>
                    </a:lnTo>
                    <a:lnTo>
                      <a:pt x="376" y="1514"/>
                    </a:lnTo>
                    <a:lnTo>
                      <a:pt x="376" y="1512"/>
                    </a:lnTo>
                    <a:lnTo>
                      <a:pt x="376" y="1512"/>
                    </a:lnTo>
                    <a:lnTo>
                      <a:pt x="365" y="1514"/>
                    </a:lnTo>
                    <a:lnTo>
                      <a:pt x="328" y="1520"/>
                    </a:lnTo>
                    <a:lnTo>
                      <a:pt x="290" y="1525"/>
                    </a:lnTo>
                    <a:lnTo>
                      <a:pt x="252" y="1529"/>
                    </a:lnTo>
                    <a:lnTo>
                      <a:pt x="211" y="1529"/>
                    </a:lnTo>
                    <a:lnTo>
                      <a:pt x="173" y="1529"/>
                    </a:lnTo>
                    <a:lnTo>
                      <a:pt x="135" y="1525"/>
                    </a:lnTo>
                    <a:lnTo>
                      <a:pt x="96" y="1520"/>
                    </a:lnTo>
                    <a:lnTo>
                      <a:pt x="60" y="1514"/>
                    </a:lnTo>
                    <a:lnTo>
                      <a:pt x="21" y="1506"/>
                    </a:lnTo>
                    <a:lnTo>
                      <a:pt x="0" y="1499"/>
                    </a:lnTo>
                    <a:lnTo>
                      <a:pt x="0" y="1501"/>
                    </a:lnTo>
                    <a:lnTo>
                      <a:pt x="0" y="1502"/>
                    </a:lnTo>
                    <a:lnTo>
                      <a:pt x="2" y="1504"/>
                    </a:lnTo>
                    <a:lnTo>
                      <a:pt x="2" y="1504"/>
                    </a:lnTo>
                    <a:lnTo>
                      <a:pt x="2" y="1506"/>
                    </a:lnTo>
                    <a:lnTo>
                      <a:pt x="2" y="1508"/>
                    </a:lnTo>
                    <a:lnTo>
                      <a:pt x="2" y="1510"/>
                    </a:lnTo>
                    <a:lnTo>
                      <a:pt x="2" y="1510"/>
                    </a:lnTo>
                    <a:close/>
                  </a:path>
                </a:pathLst>
              </a:custGeom>
              <a:solidFill>
                <a:srgbClr val="6ac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Freeform 116"/>
              <p:cNvSpPr/>
              <p:nvPr/>
            </p:nvSpPr>
            <p:spPr>
              <a:xfrm>
                <a:off x="1926000" y="1887120"/>
                <a:ext cx="643320" cy="2574360"/>
              </a:xfrm>
              <a:custGeom>
                <a:avLst/>
                <a:gdLst>
                  <a:gd name="textAreaLeft" fmla="*/ 0 w 643320"/>
                  <a:gd name="textAreaRight" fmla="*/ 643680 w 643320"/>
                  <a:gd name="textAreaTop" fmla="*/ 0 h 2574360"/>
                  <a:gd name="textAreaBottom" fmla="*/ 2574720 h 2574360"/>
                </a:gdLst>
                <a:ahLst/>
                <a:rect l="textAreaLeft" t="textAreaTop" r="textAreaRight" b="textAreaBottom"/>
                <a:pathLst>
                  <a:path w="382" h="1529">
                    <a:moveTo>
                      <a:pt x="382" y="17"/>
                    </a:moveTo>
                    <a:lnTo>
                      <a:pt x="369" y="15"/>
                    </a:lnTo>
                    <a:lnTo>
                      <a:pt x="330" y="8"/>
                    </a:lnTo>
                    <a:lnTo>
                      <a:pt x="292" y="4"/>
                    </a:lnTo>
                    <a:lnTo>
                      <a:pt x="254" y="0"/>
                    </a:lnTo>
                    <a:lnTo>
                      <a:pt x="213" y="0"/>
                    </a:lnTo>
                    <a:lnTo>
                      <a:pt x="175" y="0"/>
                    </a:lnTo>
                    <a:lnTo>
                      <a:pt x="154" y="2"/>
                    </a:lnTo>
                    <a:lnTo>
                      <a:pt x="152" y="4"/>
                    </a:lnTo>
                    <a:lnTo>
                      <a:pt x="152" y="4"/>
                    </a:lnTo>
                    <a:lnTo>
                      <a:pt x="152" y="6"/>
                    </a:lnTo>
                    <a:lnTo>
                      <a:pt x="150" y="8"/>
                    </a:lnTo>
                    <a:lnTo>
                      <a:pt x="150" y="8"/>
                    </a:lnTo>
                    <a:lnTo>
                      <a:pt x="150" y="9"/>
                    </a:lnTo>
                    <a:lnTo>
                      <a:pt x="148" y="11"/>
                    </a:lnTo>
                    <a:lnTo>
                      <a:pt x="148" y="13"/>
                    </a:lnTo>
                    <a:lnTo>
                      <a:pt x="175" y="9"/>
                    </a:lnTo>
                    <a:lnTo>
                      <a:pt x="213" y="9"/>
                    </a:lnTo>
                    <a:lnTo>
                      <a:pt x="254" y="9"/>
                    </a:lnTo>
                    <a:lnTo>
                      <a:pt x="292" y="13"/>
                    </a:lnTo>
                    <a:lnTo>
                      <a:pt x="329" y="17"/>
                    </a:lnTo>
                    <a:lnTo>
                      <a:pt x="367" y="25"/>
                    </a:lnTo>
                    <a:lnTo>
                      <a:pt x="378" y="27"/>
                    </a:lnTo>
                    <a:lnTo>
                      <a:pt x="380" y="27"/>
                    </a:lnTo>
                    <a:lnTo>
                      <a:pt x="380" y="25"/>
                    </a:lnTo>
                    <a:lnTo>
                      <a:pt x="380" y="25"/>
                    </a:lnTo>
                    <a:lnTo>
                      <a:pt x="380" y="23"/>
                    </a:lnTo>
                    <a:lnTo>
                      <a:pt x="382" y="21"/>
                    </a:lnTo>
                    <a:lnTo>
                      <a:pt x="382" y="21"/>
                    </a:lnTo>
                    <a:lnTo>
                      <a:pt x="382" y="19"/>
                    </a:lnTo>
                    <a:lnTo>
                      <a:pt x="382" y="17"/>
                    </a:lnTo>
                    <a:close/>
                    <a:moveTo>
                      <a:pt x="4" y="1498"/>
                    </a:moveTo>
                    <a:lnTo>
                      <a:pt x="23" y="1504"/>
                    </a:lnTo>
                    <a:lnTo>
                      <a:pt x="60" y="1514"/>
                    </a:lnTo>
                    <a:lnTo>
                      <a:pt x="98" y="1519"/>
                    </a:lnTo>
                    <a:lnTo>
                      <a:pt x="137" y="1525"/>
                    </a:lnTo>
                    <a:lnTo>
                      <a:pt x="175" y="1527"/>
                    </a:lnTo>
                    <a:lnTo>
                      <a:pt x="213" y="1529"/>
                    </a:lnTo>
                    <a:lnTo>
                      <a:pt x="254" y="1527"/>
                    </a:lnTo>
                    <a:lnTo>
                      <a:pt x="292" y="1525"/>
                    </a:lnTo>
                    <a:lnTo>
                      <a:pt x="330" y="1519"/>
                    </a:lnTo>
                    <a:lnTo>
                      <a:pt x="369" y="1514"/>
                    </a:lnTo>
                    <a:lnTo>
                      <a:pt x="380" y="1510"/>
                    </a:lnTo>
                    <a:lnTo>
                      <a:pt x="380" y="1510"/>
                    </a:lnTo>
                    <a:lnTo>
                      <a:pt x="378" y="1508"/>
                    </a:lnTo>
                    <a:lnTo>
                      <a:pt x="378" y="1506"/>
                    </a:lnTo>
                    <a:lnTo>
                      <a:pt x="378" y="1506"/>
                    </a:lnTo>
                    <a:lnTo>
                      <a:pt x="378" y="1504"/>
                    </a:lnTo>
                    <a:lnTo>
                      <a:pt x="377" y="1502"/>
                    </a:lnTo>
                    <a:lnTo>
                      <a:pt x="377" y="1502"/>
                    </a:lnTo>
                    <a:lnTo>
                      <a:pt x="377" y="1500"/>
                    </a:lnTo>
                    <a:lnTo>
                      <a:pt x="367" y="1502"/>
                    </a:lnTo>
                    <a:lnTo>
                      <a:pt x="329" y="1510"/>
                    </a:lnTo>
                    <a:lnTo>
                      <a:pt x="292" y="1514"/>
                    </a:lnTo>
                    <a:lnTo>
                      <a:pt x="254" y="1518"/>
                    </a:lnTo>
                    <a:lnTo>
                      <a:pt x="213" y="1518"/>
                    </a:lnTo>
                    <a:lnTo>
                      <a:pt x="175" y="1518"/>
                    </a:lnTo>
                    <a:lnTo>
                      <a:pt x="137" y="1514"/>
                    </a:lnTo>
                    <a:lnTo>
                      <a:pt x="98" y="1510"/>
                    </a:lnTo>
                    <a:lnTo>
                      <a:pt x="62" y="1502"/>
                    </a:lnTo>
                    <a:lnTo>
                      <a:pt x="25" y="1495"/>
                    </a:lnTo>
                    <a:lnTo>
                      <a:pt x="0" y="1487"/>
                    </a:lnTo>
                    <a:lnTo>
                      <a:pt x="0" y="1489"/>
                    </a:lnTo>
                    <a:lnTo>
                      <a:pt x="2" y="1491"/>
                    </a:lnTo>
                    <a:lnTo>
                      <a:pt x="2" y="1493"/>
                    </a:lnTo>
                    <a:lnTo>
                      <a:pt x="2" y="1493"/>
                    </a:lnTo>
                    <a:lnTo>
                      <a:pt x="2" y="1495"/>
                    </a:lnTo>
                    <a:lnTo>
                      <a:pt x="2" y="1496"/>
                    </a:lnTo>
                    <a:lnTo>
                      <a:pt x="4" y="1498"/>
                    </a:lnTo>
                    <a:lnTo>
                      <a:pt x="4" y="1498"/>
                    </a:lnTo>
                    <a:close/>
                  </a:path>
                </a:pathLst>
              </a:custGeom>
              <a:solidFill>
                <a:srgbClr val="6bc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Freeform 117"/>
              <p:cNvSpPr/>
              <p:nvPr/>
            </p:nvSpPr>
            <p:spPr>
              <a:xfrm>
                <a:off x="1922760" y="1893600"/>
                <a:ext cx="642960" cy="2557800"/>
              </a:xfrm>
              <a:custGeom>
                <a:avLst/>
                <a:gdLst>
                  <a:gd name="textAreaLeft" fmla="*/ 0 w 642960"/>
                  <a:gd name="textAreaRight" fmla="*/ 642960 w 642960"/>
                  <a:gd name="textAreaTop" fmla="*/ 0 h 2557800"/>
                  <a:gd name="textAreaBottom" fmla="*/ 2558160 h 2557800"/>
                </a:gdLst>
                <a:ahLst/>
                <a:rect l="textAreaLeft" t="textAreaTop" r="textAreaRight" b="textAreaBottom"/>
                <a:pathLst>
                  <a:path w="382" h="1519">
                    <a:moveTo>
                      <a:pt x="382" y="19"/>
                    </a:moveTo>
                    <a:lnTo>
                      <a:pt x="369" y="15"/>
                    </a:lnTo>
                    <a:lnTo>
                      <a:pt x="332" y="9"/>
                    </a:lnTo>
                    <a:lnTo>
                      <a:pt x="294" y="4"/>
                    </a:lnTo>
                    <a:lnTo>
                      <a:pt x="256" y="2"/>
                    </a:lnTo>
                    <a:lnTo>
                      <a:pt x="215" y="0"/>
                    </a:lnTo>
                    <a:lnTo>
                      <a:pt x="177" y="2"/>
                    </a:lnTo>
                    <a:lnTo>
                      <a:pt x="152" y="4"/>
                    </a:lnTo>
                    <a:lnTo>
                      <a:pt x="152" y="4"/>
                    </a:lnTo>
                    <a:lnTo>
                      <a:pt x="152" y="5"/>
                    </a:lnTo>
                    <a:lnTo>
                      <a:pt x="150" y="7"/>
                    </a:lnTo>
                    <a:lnTo>
                      <a:pt x="150" y="7"/>
                    </a:lnTo>
                    <a:lnTo>
                      <a:pt x="150" y="9"/>
                    </a:lnTo>
                    <a:lnTo>
                      <a:pt x="148" y="11"/>
                    </a:lnTo>
                    <a:lnTo>
                      <a:pt x="148" y="13"/>
                    </a:lnTo>
                    <a:lnTo>
                      <a:pt x="148" y="13"/>
                    </a:lnTo>
                    <a:lnTo>
                      <a:pt x="177" y="11"/>
                    </a:lnTo>
                    <a:lnTo>
                      <a:pt x="215" y="11"/>
                    </a:lnTo>
                    <a:lnTo>
                      <a:pt x="254" y="11"/>
                    </a:lnTo>
                    <a:lnTo>
                      <a:pt x="292" y="15"/>
                    </a:lnTo>
                    <a:lnTo>
                      <a:pt x="331" y="19"/>
                    </a:lnTo>
                    <a:lnTo>
                      <a:pt x="367" y="27"/>
                    </a:lnTo>
                    <a:lnTo>
                      <a:pt x="379" y="28"/>
                    </a:lnTo>
                    <a:lnTo>
                      <a:pt x="380" y="27"/>
                    </a:lnTo>
                    <a:lnTo>
                      <a:pt x="380" y="27"/>
                    </a:lnTo>
                    <a:lnTo>
                      <a:pt x="380" y="25"/>
                    </a:lnTo>
                    <a:lnTo>
                      <a:pt x="380" y="23"/>
                    </a:lnTo>
                    <a:lnTo>
                      <a:pt x="382" y="23"/>
                    </a:lnTo>
                    <a:lnTo>
                      <a:pt x="382" y="21"/>
                    </a:lnTo>
                    <a:lnTo>
                      <a:pt x="382" y="21"/>
                    </a:lnTo>
                    <a:lnTo>
                      <a:pt x="382" y="19"/>
                    </a:lnTo>
                    <a:close/>
                    <a:moveTo>
                      <a:pt x="4" y="1489"/>
                    </a:moveTo>
                    <a:lnTo>
                      <a:pt x="25" y="1496"/>
                    </a:lnTo>
                    <a:lnTo>
                      <a:pt x="64" y="1504"/>
                    </a:lnTo>
                    <a:lnTo>
                      <a:pt x="100" y="1510"/>
                    </a:lnTo>
                    <a:lnTo>
                      <a:pt x="139" y="1515"/>
                    </a:lnTo>
                    <a:lnTo>
                      <a:pt x="177" y="1519"/>
                    </a:lnTo>
                    <a:lnTo>
                      <a:pt x="215" y="1519"/>
                    </a:lnTo>
                    <a:lnTo>
                      <a:pt x="256" y="1519"/>
                    </a:lnTo>
                    <a:lnTo>
                      <a:pt x="294" y="1515"/>
                    </a:lnTo>
                    <a:lnTo>
                      <a:pt x="332" y="1510"/>
                    </a:lnTo>
                    <a:lnTo>
                      <a:pt x="369" y="1504"/>
                    </a:lnTo>
                    <a:lnTo>
                      <a:pt x="380" y="1502"/>
                    </a:lnTo>
                    <a:lnTo>
                      <a:pt x="380" y="1500"/>
                    </a:lnTo>
                    <a:lnTo>
                      <a:pt x="379" y="1498"/>
                    </a:lnTo>
                    <a:lnTo>
                      <a:pt x="379" y="1498"/>
                    </a:lnTo>
                    <a:lnTo>
                      <a:pt x="379" y="1496"/>
                    </a:lnTo>
                    <a:lnTo>
                      <a:pt x="379" y="1496"/>
                    </a:lnTo>
                    <a:lnTo>
                      <a:pt x="377" y="1494"/>
                    </a:lnTo>
                    <a:lnTo>
                      <a:pt x="377" y="1492"/>
                    </a:lnTo>
                    <a:lnTo>
                      <a:pt x="377" y="1492"/>
                    </a:lnTo>
                    <a:lnTo>
                      <a:pt x="367" y="1494"/>
                    </a:lnTo>
                    <a:lnTo>
                      <a:pt x="331" y="1500"/>
                    </a:lnTo>
                    <a:lnTo>
                      <a:pt x="292" y="1506"/>
                    </a:lnTo>
                    <a:lnTo>
                      <a:pt x="254" y="1508"/>
                    </a:lnTo>
                    <a:lnTo>
                      <a:pt x="215" y="1510"/>
                    </a:lnTo>
                    <a:lnTo>
                      <a:pt x="177" y="1508"/>
                    </a:lnTo>
                    <a:lnTo>
                      <a:pt x="139" y="1506"/>
                    </a:lnTo>
                    <a:lnTo>
                      <a:pt x="102" y="1500"/>
                    </a:lnTo>
                    <a:lnTo>
                      <a:pt x="66" y="1494"/>
                    </a:lnTo>
                    <a:lnTo>
                      <a:pt x="29" y="1485"/>
                    </a:lnTo>
                    <a:lnTo>
                      <a:pt x="0" y="1477"/>
                    </a:lnTo>
                    <a:lnTo>
                      <a:pt x="2" y="1479"/>
                    </a:lnTo>
                    <a:lnTo>
                      <a:pt x="2" y="1481"/>
                    </a:lnTo>
                    <a:lnTo>
                      <a:pt x="2" y="1483"/>
                    </a:lnTo>
                    <a:lnTo>
                      <a:pt x="2" y="1483"/>
                    </a:lnTo>
                    <a:lnTo>
                      <a:pt x="2" y="1485"/>
                    </a:lnTo>
                    <a:lnTo>
                      <a:pt x="4" y="1487"/>
                    </a:lnTo>
                    <a:lnTo>
                      <a:pt x="4" y="1489"/>
                    </a:lnTo>
                    <a:lnTo>
                      <a:pt x="4" y="1489"/>
                    </a:lnTo>
                    <a:close/>
                  </a:path>
                </a:pathLst>
              </a:custGeom>
              <a:solidFill>
                <a:srgbClr val="6cc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Freeform 118"/>
              <p:cNvSpPr/>
              <p:nvPr/>
            </p:nvSpPr>
            <p:spPr>
              <a:xfrm>
                <a:off x="1922760" y="1901880"/>
                <a:ext cx="639360" cy="2540880"/>
              </a:xfrm>
              <a:custGeom>
                <a:avLst/>
                <a:gdLst>
                  <a:gd name="textAreaLeft" fmla="*/ 0 w 639360"/>
                  <a:gd name="textAreaRight" fmla="*/ 639720 w 639360"/>
                  <a:gd name="textAreaTop" fmla="*/ 0 h 2540880"/>
                  <a:gd name="textAreaBottom" fmla="*/ 2540880 h 2540880"/>
                </a:gdLst>
                <a:ahLst/>
                <a:rect l="textAreaLeft" t="textAreaTop" r="textAreaRight" b="textAreaBottom"/>
                <a:pathLst>
                  <a:path w="380" h="1509">
                    <a:moveTo>
                      <a:pt x="380" y="18"/>
                    </a:moveTo>
                    <a:lnTo>
                      <a:pt x="369" y="16"/>
                    </a:lnTo>
                    <a:lnTo>
                      <a:pt x="331" y="8"/>
                    </a:lnTo>
                    <a:lnTo>
                      <a:pt x="294" y="4"/>
                    </a:lnTo>
                    <a:lnTo>
                      <a:pt x="256" y="0"/>
                    </a:lnTo>
                    <a:lnTo>
                      <a:pt x="215" y="0"/>
                    </a:lnTo>
                    <a:lnTo>
                      <a:pt x="177" y="0"/>
                    </a:lnTo>
                    <a:lnTo>
                      <a:pt x="150" y="4"/>
                    </a:lnTo>
                    <a:lnTo>
                      <a:pt x="150" y="4"/>
                    </a:lnTo>
                    <a:lnTo>
                      <a:pt x="148" y="6"/>
                    </a:lnTo>
                    <a:lnTo>
                      <a:pt x="148" y="8"/>
                    </a:lnTo>
                    <a:lnTo>
                      <a:pt x="148" y="8"/>
                    </a:lnTo>
                    <a:lnTo>
                      <a:pt x="146" y="10"/>
                    </a:lnTo>
                    <a:lnTo>
                      <a:pt x="146" y="12"/>
                    </a:lnTo>
                    <a:lnTo>
                      <a:pt x="146" y="12"/>
                    </a:lnTo>
                    <a:lnTo>
                      <a:pt x="144" y="14"/>
                    </a:lnTo>
                    <a:lnTo>
                      <a:pt x="177" y="12"/>
                    </a:lnTo>
                    <a:lnTo>
                      <a:pt x="215" y="10"/>
                    </a:lnTo>
                    <a:lnTo>
                      <a:pt x="254" y="12"/>
                    </a:lnTo>
                    <a:lnTo>
                      <a:pt x="292" y="14"/>
                    </a:lnTo>
                    <a:lnTo>
                      <a:pt x="329" y="20"/>
                    </a:lnTo>
                    <a:lnTo>
                      <a:pt x="365" y="25"/>
                    </a:lnTo>
                    <a:lnTo>
                      <a:pt x="377" y="27"/>
                    </a:lnTo>
                    <a:lnTo>
                      <a:pt x="377" y="27"/>
                    </a:lnTo>
                    <a:lnTo>
                      <a:pt x="379" y="25"/>
                    </a:lnTo>
                    <a:lnTo>
                      <a:pt x="379" y="25"/>
                    </a:lnTo>
                    <a:lnTo>
                      <a:pt x="379" y="23"/>
                    </a:lnTo>
                    <a:lnTo>
                      <a:pt x="380" y="22"/>
                    </a:lnTo>
                    <a:lnTo>
                      <a:pt x="380" y="22"/>
                    </a:lnTo>
                    <a:lnTo>
                      <a:pt x="380" y="20"/>
                    </a:lnTo>
                    <a:lnTo>
                      <a:pt x="380" y="18"/>
                    </a:lnTo>
                    <a:close/>
                    <a:moveTo>
                      <a:pt x="2" y="1478"/>
                    </a:moveTo>
                    <a:lnTo>
                      <a:pt x="27" y="1486"/>
                    </a:lnTo>
                    <a:lnTo>
                      <a:pt x="64" y="1493"/>
                    </a:lnTo>
                    <a:lnTo>
                      <a:pt x="100" y="1501"/>
                    </a:lnTo>
                    <a:lnTo>
                      <a:pt x="139" y="1505"/>
                    </a:lnTo>
                    <a:lnTo>
                      <a:pt x="177" y="1509"/>
                    </a:lnTo>
                    <a:lnTo>
                      <a:pt x="215" y="1509"/>
                    </a:lnTo>
                    <a:lnTo>
                      <a:pt x="256" y="1509"/>
                    </a:lnTo>
                    <a:lnTo>
                      <a:pt x="294" y="1505"/>
                    </a:lnTo>
                    <a:lnTo>
                      <a:pt x="331" y="1501"/>
                    </a:lnTo>
                    <a:lnTo>
                      <a:pt x="369" y="1493"/>
                    </a:lnTo>
                    <a:lnTo>
                      <a:pt x="379" y="1491"/>
                    </a:lnTo>
                    <a:lnTo>
                      <a:pt x="379" y="1491"/>
                    </a:lnTo>
                    <a:lnTo>
                      <a:pt x="377" y="1489"/>
                    </a:lnTo>
                    <a:lnTo>
                      <a:pt x="377" y="1487"/>
                    </a:lnTo>
                    <a:lnTo>
                      <a:pt x="377" y="1487"/>
                    </a:lnTo>
                    <a:lnTo>
                      <a:pt x="377" y="1486"/>
                    </a:lnTo>
                    <a:lnTo>
                      <a:pt x="375" y="1484"/>
                    </a:lnTo>
                    <a:lnTo>
                      <a:pt x="375" y="1484"/>
                    </a:lnTo>
                    <a:lnTo>
                      <a:pt x="375" y="1482"/>
                    </a:lnTo>
                    <a:lnTo>
                      <a:pt x="365" y="1484"/>
                    </a:lnTo>
                    <a:lnTo>
                      <a:pt x="329" y="1491"/>
                    </a:lnTo>
                    <a:lnTo>
                      <a:pt x="292" y="1495"/>
                    </a:lnTo>
                    <a:lnTo>
                      <a:pt x="254" y="1499"/>
                    </a:lnTo>
                    <a:lnTo>
                      <a:pt x="215" y="1499"/>
                    </a:lnTo>
                    <a:lnTo>
                      <a:pt x="177" y="1499"/>
                    </a:lnTo>
                    <a:lnTo>
                      <a:pt x="141" y="1495"/>
                    </a:lnTo>
                    <a:lnTo>
                      <a:pt x="102" y="1491"/>
                    </a:lnTo>
                    <a:lnTo>
                      <a:pt x="66" y="1484"/>
                    </a:lnTo>
                    <a:lnTo>
                      <a:pt x="29" y="1476"/>
                    </a:lnTo>
                    <a:lnTo>
                      <a:pt x="0" y="1466"/>
                    </a:lnTo>
                    <a:lnTo>
                      <a:pt x="0" y="1468"/>
                    </a:lnTo>
                    <a:lnTo>
                      <a:pt x="0" y="1470"/>
                    </a:lnTo>
                    <a:lnTo>
                      <a:pt x="0" y="1472"/>
                    </a:lnTo>
                    <a:lnTo>
                      <a:pt x="0" y="1472"/>
                    </a:lnTo>
                    <a:lnTo>
                      <a:pt x="2" y="1474"/>
                    </a:lnTo>
                    <a:lnTo>
                      <a:pt x="2" y="1476"/>
                    </a:lnTo>
                    <a:lnTo>
                      <a:pt x="2" y="1478"/>
                    </a:lnTo>
                    <a:lnTo>
                      <a:pt x="2" y="1478"/>
                    </a:lnTo>
                    <a:close/>
                  </a:path>
                </a:pathLst>
              </a:custGeom>
              <a:solidFill>
                <a:srgbClr val="6dc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Freeform 119"/>
              <p:cNvSpPr/>
              <p:nvPr/>
            </p:nvSpPr>
            <p:spPr>
              <a:xfrm>
                <a:off x="1920960" y="1912320"/>
                <a:ext cx="639720" cy="2523960"/>
              </a:xfrm>
              <a:custGeom>
                <a:avLst/>
                <a:gdLst>
                  <a:gd name="textAreaLeft" fmla="*/ 0 w 639720"/>
                  <a:gd name="textAreaRight" fmla="*/ 640080 w 639720"/>
                  <a:gd name="textAreaTop" fmla="*/ 0 h 2523960"/>
                  <a:gd name="textAreaBottom" fmla="*/ 2524320 h 2523960"/>
                </a:gdLst>
                <a:ahLst/>
                <a:rect l="textAreaLeft" t="textAreaTop" r="textAreaRight" b="textAreaBottom"/>
                <a:pathLst>
                  <a:path w="380" h="1499">
                    <a:moveTo>
                      <a:pt x="380" y="17"/>
                    </a:moveTo>
                    <a:lnTo>
                      <a:pt x="368" y="16"/>
                    </a:lnTo>
                    <a:lnTo>
                      <a:pt x="332" y="8"/>
                    </a:lnTo>
                    <a:lnTo>
                      <a:pt x="293" y="4"/>
                    </a:lnTo>
                    <a:lnTo>
                      <a:pt x="255" y="0"/>
                    </a:lnTo>
                    <a:lnTo>
                      <a:pt x="216" y="0"/>
                    </a:lnTo>
                    <a:lnTo>
                      <a:pt x="178" y="0"/>
                    </a:lnTo>
                    <a:lnTo>
                      <a:pt x="149" y="2"/>
                    </a:lnTo>
                    <a:lnTo>
                      <a:pt x="147" y="4"/>
                    </a:lnTo>
                    <a:lnTo>
                      <a:pt x="147" y="6"/>
                    </a:lnTo>
                    <a:lnTo>
                      <a:pt x="147" y="6"/>
                    </a:lnTo>
                    <a:lnTo>
                      <a:pt x="145" y="8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43" y="12"/>
                    </a:lnTo>
                    <a:lnTo>
                      <a:pt x="143" y="14"/>
                    </a:lnTo>
                    <a:lnTo>
                      <a:pt x="180" y="10"/>
                    </a:lnTo>
                    <a:lnTo>
                      <a:pt x="216" y="10"/>
                    </a:lnTo>
                    <a:lnTo>
                      <a:pt x="255" y="10"/>
                    </a:lnTo>
                    <a:lnTo>
                      <a:pt x="293" y="14"/>
                    </a:lnTo>
                    <a:lnTo>
                      <a:pt x="330" y="17"/>
                    </a:lnTo>
                    <a:lnTo>
                      <a:pt x="366" y="25"/>
                    </a:lnTo>
                    <a:lnTo>
                      <a:pt x="376" y="27"/>
                    </a:lnTo>
                    <a:lnTo>
                      <a:pt x="376" y="25"/>
                    </a:lnTo>
                    <a:lnTo>
                      <a:pt x="378" y="25"/>
                    </a:lnTo>
                    <a:lnTo>
                      <a:pt x="378" y="23"/>
                    </a:lnTo>
                    <a:lnTo>
                      <a:pt x="378" y="21"/>
                    </a:lnTo>
                    <a:lnTo>
                      <a:pt x="378" y="21"/>
                    </a:lnTo>
                    <a:lnTo>
                      <a:pt x="380" y="19"/>
                    </a:lnTo>
                    <a:lnTo>
                      <a:pt x="380" y="19"/>
                    </a:lnTo>
                    <a:lnTo>
                      <a:pt x="380" y="17"/>
                    </a:lnTo>
                    <a:close/>
                    <a:moveTo>
                      <a:pt x="1" y="1466"/>
                    </a:moveTo>
                    <a:lnTo>
                      <a:pt x="30" y="1474"/>
                    </a:lnTo>
                    <a:lnTo>
                      <a:pt x="67" y="1483"/>
                    </a:lnTo>
                    <a:lnTo>
                      <a:pt x="103" y="1489"/>
                    </a:lnTo>
                    <a:lnTo>
                      <a:pt x="140" y="1495"/>
                    </a:lnTo>
                    <a:lnTo>
                      <a:pt x="178" y="1497"/>
                    </a:lnTo>
                    <a:lnTo>
                      <a:pt x="216" y="1499"/>
                    </a:lnTo>
                    <a:lnTo>
                      <a:pt x="255" y="1497"/>
                    </a:lnTo>
                    <a:lnTo>
                      <a:pt x="293" y="1495"/>
                    </a:lnTo>
                    <a:lnTo>
                      <a:pt x="332" y="1489"/>
                    </a:lnTo>
                    <a:lnTo>
                      <a:pt x="368" y="1483"/>
                    </a:lnTo>
                    <a:lnTo>
                      <a:pt x="378" y="1481"/>
                    </a:lnTo>
                    <a:lnTo>
                      <a:pt x="378" y="1480"/>
                    </a:lnTo>
                    <a:lnTo>
                      <a:pt x="376" y="1478"/>
                    </a:lnTo>
                    <a:lnTo>
                      <a:pt x="376" y="1478"/>
                    </a:lnTo>
                    <a:lnTo>
                      <a:pt x="376" y="1476"/>
                    </a:lnTo>
                    <a:lnTo>
                      <a:pt x="376" y="1476"/>
                    </a:lnTo>
                    <a:lnTo>
                      <a:pt x="374" y="1474"/>
                    </a:lnTo>
                    <a:lnTo>
                      <a:pt x="374" y="1472"/>
                    </a:lnTo>
                    <a:lnTo>
                      <a:pt x="374" y="1472"/>
                    </a:lnTo>
                    <a:lnTo>
                      <a:pt x="366" y="1474"/>
                    </a:lnTo>
                    <a:lnTo>
                      <a:pt x="330" y="1480"/>
                    </a:lnTo>
                    <a:lnTo>
                      <a:pt x="293" y="1483"/>
                    </a:lnTo>
                    <a:lnTo>
                      <a:pt x="255" y="1487"/>
                    </a:lnTo>
                    <a:lnTo>
                      <a:pt x="216" y="1487"/>
                    </a:lnTo>
                    <a:lnTo>
                      <a:pt x="180" y="1487"/>
                    </a:lnTo>
                    <a:lnTo>
                      <a:pt x="142" y="1483"/>
                    </a:lnTo>
                    <a:lnTo>
                      <a:pt x="105" y="1480"/>
                    </a:lnTo>
                    <a:lnTo>
                      <a:pt x="69" y="1474"/>
                    </a:lnTo>
                    <a:lnTo>
                      <a:pt x="32" y="1464"/>
                    </a:lnTo>
                    <a:lnTo>
                      <a:pt x="0" y="1455"/>
                    </a:lnTo>
                    <a:lnTo>
                      <a:pt x="0" y="1457"/>
                    </a:lnTo>
                    <a:lnTo>
                      <a:pt x="0" y="1458"/>
                    </a:lnTo>
                    <a:lnTo>
                      <a:pt x="0" y="1460"/>
                    </a:lnTo>
                    <a:lnTo>
                      <a:pt x="1" y="1460"/>
                    </a:lnTo>
                    <a:lnTo>
                      <a:pt x="1" y="1462"/>
                    </a:lnTo>
                    <a:lnTo>
                      <a:pt x="1" y="1464"/>
                    </a:lnTo>
                    <a:lnTo>
                      <a:pt x="1" y="1466"/>
                    </a:lnTo>
                    <a:lnTo>
                      <a:pt x="1" y="1466"/>
                    </a:lnTo>
                    <a:close/>
                  </a:path>
                </a:pathLst>
              </a:custGeom>
              <a:solidFill>
                <a:srgbClr val="6ec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Freeform 120"/>
              <p:cNvSpPr/>
              <p:nvPr/>
            </p:nvSpPr>
            <p:spPr>
              <a:xfrm>
                <a:off x="1917720" y="1919160"/>
                <a:ext cx="639720" cy="2507040"/>
              </a:xfrm>
              <a:custGeom>
                <a:avLst/>
                <a:gdLst>
                  <a:gd name="textAreaLeft" fmla="*/ 0 w 639720"/>
                  <a:gd name="textAreaRight" fmla="*/ 640080 w 639720"/>
                  <a:gd name="textAreaTop" fmla="*/ 0 h 2507040"/>
                  <a:gd name="textAreaBottom" fmla="*/ 2507040 h 2507040"/>
                </a:gdLst>
                <a:ahLst/>
                <a:rect l="textAreaLeft" t="textAreaTop" r="textAreaRight" b="textAreaBottom"/>
                <a:pathLst>
                  <a:path w="380" h="1489">
                    <a:moveTo>
                      <a:pt x="380" y="17"/>
                    </a:moveTo>
                    <a:lnTo>
                      <a:pt x="368" y="15"/>
                    </a:lnTo>
                    <a:lnTo>
                      <a:pt x="332" y="10"/>
                    </a:lnTo>
                    <a:lnTo>
                      <a:pt x="295" y="4"/>
                    </a:lnTo>
                    <a:lnTo>
                      <a:pt x="257" y="2"/>
                    </a:lnTo>
                    <a:lnTo>
                      <a:pt x="218" y="0"/>
                    </a:lnTo>
                    <a:lnTo>
                      <a:pt x="180" y="2"/>
                    </a:lnTo>
                    <a:lnTo>
                      <a:pt x="147" y="4"/>
                    </a:lnTo>
                    <a:lnTo>
                      <a:pt x="147" y="6"/>
                    </a:lnTo>
                    <a:lnTo>
                      <a:pt x="147" y="6"/>
                    </a:lnTo>
                    <a:lnTo>
                      <a:pt x="145" y="8"/>
                    </a:lnTo>
                    <a:lnTo>
                      <a:pt x="145" y="10"/>
                    </a:lnTo>
                    <a:lnTo>
                      <a:pt x="145" y="12"/>
                    </a:lnTo>
                    <a:lnTo>
                      <a:pt x="144" y="12"/>
                    </a:lnTo>
                    <a:lnTo>
                      <a:pt x="144" y="13"/>
                    </a:lnTo>
                    <a:lnTo>
                      <a:pt x="144" y="15"/>
                    </a:lnTo>
                    <a:lnTo>
                      <a:pt x="144" y="15"/>
                    </a:lnTo>
                    <a:lnTo>
                      <a:pt x="182" y="12"/>
                    </a:lnTo>
                    <a:lnTo>
                      <a:pt x="218" y="12"/>
                    </a:lnTo>
                    <a:lnTo>
                      <a:pt x="257" y="12"/>
                    </a:lnTo>
                    <a:lnTo>
                      <a:pt x="293" y="15"/>
                    </a:lnTo>
                    <a:lnTo>
                      <a:pt x="332" y="19"/>
                    </a:lnTo>
                    <a:lnTo>
                      <a:pt x="366" y="25"/>
                    </a:lnTo>
                    <a:lnTo>
                      <a:pt x="376" y="27"/>
                    </a:lnTo>
                    <a:lnTo>
                      <a:pt x="376" y="27"/>
                    </a:lnTo>
                    <a:lnTo>
                      <a:pt x="378" y="25"/>
                    </a:lnTo>
                    <a:lnTo>
                      <a:pt x="378" y="25"/>
                    </a:lnTo>
                    <a:lnTo>
                      <a:pt x="378" y="23"/>
                    </a:lnTo>
                    <a:lnTo>
                      <a:pt x="378" y="21"/>
                    </a:lnTo>
                    <a:lnTo>
                      <a:pt x="380" y="21"/>
                    </a:lnTo>
                    <a:lnTo>
                      <a:pt x="380" y="19"/>
                    </a:lnTo>
                    <a:lnTo>
                      <a:pt x="380" y="17"/>
                    </a:lnTo>
                    <a:close/>
                    <a:moveTo>
                      <a:pt x="3" y="1456"/>
                    </a:moveTo>
                    <a:lnTo>
                      <a:pt x="32" y="1466"/>
                    </a:lnTo>
                    <a:lnTo>
                      <a:pt x="69" y="1474"/>
                    </a:lnTo>
                    <a:lnTo>
                      <a:pt x="105" y="1481"/>
                    </a:lnTo>
                    <a:lnTo>
                      <a:pt x="144" y="1485"/>
                    </a:lnTo>
                    <a:lnTo>
                      <a:pt x="180" y="1489"/>
                    </a:lnTo>
                    <a:lnTo>
                      <a:pt x="218" y="1489"/>
                    </a:lnTo>
                    <a:lnTo>
                      <a:pt x="257" y="1489"/>
                    </a:lnTo>
                    <a:lnTo>
                      <a:pt x="295" y="1485"/>
                    </a:lnTo>
                    <a:lnTo>
                      <a:pt x="332" y="1481"/>
                    </a:lnTo>
                    <a:lnTo>
                      <a:pt x="368" y="1474"/>
                    </a:lnTo>
                    <a:lnTo>
                      <a:pt x="378" y="1472"/>
                    </a:lnTo>
                    <a:lnTo>
                      <a:pt x="378" y="1472"/>
                    </a:lnTo>
                    <a:lnTo>
                      <a:pt x="376" y="1470"/>
                    </a:lnTo>
                    <a:lnTo>
                      <a:pt x="376" y="1468"/>
                    </a:lnTo>
                    <a:lnTo>
                      <a:pt x="376" y="1468"/>
                    </a:lnTo>
                    <a:lnTo>
                      <a:pt x="376" y="1466"/>
                    </a:lnTo>
                    <a:lnTo>
                      <a:pt x="374" y="1464"/>
                    </a:lnTo>
                    <a:lnTo>
                      <a:pt x="374" y="1464"/>
                    </a:lnTo>
                    <a:lnTo>
                      <a:pt x="374" y="1462"/>
                    </a:lnTo>
                    <a:lnTo>
                      <a:pt x="366" y="1464"/>
                    </a:lnTo>
                    <a:lnTo>
                      <a:pt x="332" y="1470"/>
                    </a:lnTo>
                    <a:lnTo>
                      <a:pt x="293" y="1476"/>
                    </a:lnTo>
                    <a:lnTo>
                      <a:pt x="257" y="1477"/>
                    </a:lnTo>
                    <a:lnTo>
                      <a:pt x="218" y="1479"/>
                    </a:lnTo>
                    <a:lnTo>
                      <a:pt x="182" y="1477"/>
                    </a:lnTo>
                    <a:lnTo>
                      <a:pt x="144" y="1476"/>
                    </a:lnTo>
                    <a:lnTo>
                      <a:pt x="107" y="1470"/>
                    </a:lnTo>
                    <a:lnTo>
                      <a:pt x="71" y="1464"/>
                    </a:lnTo>
                    <a:lnTo>
                      <a:pt x="36" y="1456"/>
                    </a:lnTo>
                    <a:lnTo>
                      <a:pt x="2" y="1445"/>
                    </a:lnTo>
                    <a:lnTo>
                      <a:pt x="0" y="1445"/>
                    </a:lnTo>
                    <a:lnTo>
                      <a:pt x="0" y="1447"/>
                    </a:lnTo>
                    <a:lnTo>
                      <a:pt x="2" y="1449"/>
                    </a:lnTo>
                    <a:lnTo>
                      <a:pt x="2" y="1451"/>
                    </a:lnTo>
                    <a:lnTo>
                      <a:pt x="2" y="1451"/>
                    </a:lnTo>
                    <a:lnTo>
                      <a:pt x="2" y="1453"/>
                    </a:lnTo>
                    <a:lnTo>
                      <a:pt x="2" y="1454"/>
                    </a:lnTo>
                    <a:lnTo>
                      <a:pt x="2" y="1456"/>
                    </a:lnTo>
                    <a:lnTo>
                      <a:pt x="3" y="1456"/>
                    </a:lnTo>
                    <a:close/>
                  </a:path>
                </a:pathLst>
              </a:custGeom>
              <a:solidFill>
                <a:srgbClr val="6fc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Freeform 121"/>
              <p:cNvSpPr/>
              <p:nvPr/>
            </p:nvSpPr>
            <p:spPr>
              <a:xfrm>
                <a:off x="1914480" y="1929240"/>
                <a:ext cx="639360" cy="2486880"/>
              </a:xfrm>
              <a:custGeom>
                <a:avLst/>
                <a:gdLst>
                  <a:gd name="textAreaLeft" fmla="*/ 0 w 639360"/>
                  <a:gd name="textAreaRight" fmla="*/ 639720 w 639360"/>
                  <a:gd name="textAreaTop" fmla="*/ 0 h 2486880"/>
                  <a:gd name="textAreaBottom" fmla="*/ 2487240 h 2486880"/>
                </a:gdLst>
                <a:ahLst/>
                <a:rect l="textAreaLeft" t="textAreaTop" r="textAreaRight" b="textAreaBottom"/>
                <a:pathLst>
                  <a:path w="380" h="1477">
                    <a:moveTo>
                      <a:pt x="380" y="17"/>
                    </a:moveTo>
                    <a:lnTo>
                      <a:pt x="370" y="15"/>
                    </a:lnTo>
                    <a:lnTo>
                      <a:pt x="334" y="7"/>
                    </a:lnTo>
                    <a:lnTo>
                      <a:pt x="297" y="4"/>
                    </a:lnTo>
                    <a:lnTo>
                      <a:pt x="259" y="0"/>
                    </a:lnTo>
                    <a:lnTo>
                      <a:pt x="220" y="0"/>
                    </a:lnTo>
                    <a:lnTo>
                      <a:pt x="184" y="0"/>
                    </a:lnTo>
                    <a:lnTo>
                      <a:pt x="147" y="4"/>
                    </a:lnTo>
                    <a:lnTo>
                      <a:pt x="147" y="6"/>
                    </a:lnTo>
                    <a:lnTo>
                      <a:pt x="146" y="6"/>
                    </a:lnTo>
                    <a:lnTo>
                      <a:pt x="146" y="7"/>
                    </a:lnTo>
                    <a:lnTo>
                      <a:pt x="146" y="9"/>
                    </a:lnTo>
                    <a:lnTo>
                      <a:pt x="146" y="9"/>
                    </a:lnTo>
                    <a:lnTo>
                      <a:pt x="144" y="11"/>
                    </a:lnTo>
                    <a:lnTo>
                      <a:pt x="144" y="13"/>
                    </a:lnTo>
                    <a:lnTo>
                      <a:pt x="144" y="13"/>
                    </a:lnTo>
                    <a:lnTo>
                      <a:pt x="146" y="13"/>
                    </a:lnTo>
                    <a:lnTo>
                      <a:pt x="184" y="11"/>
                    </a:lnTo>
                    <a:lnTo>
                      <a:pt x="220" y="9"/>
                    </a:lnTo>
                    <a:lnTo>
                      <a:pt x="259" y="11"/>
                    </a:lnTo>
                    <a:lnTo>
                      <a:pt x="295" y="13"/>
                    </a:lnTo>
                    <a:lnTo>
                      <a:pt x="332" y="19"/>
                    </a:lnTo>
                    <a:lnTo>
                      <a:pt x="368" y="25"/>
                    </a:lnTo>
                    <a:lnTo>
                      <a:pt x="376" y="27"/>
                    </a:lnTo>
                    <a:lnTo>
                      <a:pt x="376" y="25"/>
                    </a:lnTo>
                    <a:lnTo>
                      <a:pt x="378" y="25"/>
                    </a:lnTo>
                    <a:lnTo>
                      <a:pt x="378" y="23"/>
                    </a:lnTo>
                    <a:lnTo>
                      <a:pt x="378" y="21"/>
                    </a:lnTo>
                    <a:lnTo>
                      <a:pt x="378" y="21"/>
                    </a:lnTo>
                    <a:lnTo>
                      <a:pt x="380" y="19"/>
                    </a:lnTo>
                    <a:lnTo>
                      <a:pt x="380" y="19"/>
                    </a:lnTo>
                    <a:lnTo>
                      <a:pt x="380" y="17"/>
                    </a:lnTo>
                    <a:close/>
                    <a:moveTo>
                      <a:pt x="4" y="1445"/>
                    </a:moveTo>
                    <a:lnTo>
                      <a:pt x="36" y="1454"/>
                    </a:lnTo>
                    <a:lnTo>
                      <a:pt x="73" y="1464"/>
                    </a:lnTo>
                    <a:lnTo>
                      <a:pt x="109" y="1470"/>
                    </a:lnTo>
                    <a:lnTo>
                      <a:pt x="146" y="1473"/>
                    </a:lnTo>
                    <a:lnTo>
                      <a:pt x="184" y="1477"/>
                    </a:lnTo>
                    <a:lnTo>
                      <a:pt x="220" y="1477"/>
                    </a:lnTo>
                    <a:lnTo>
                      <a:pt x="259" y="1477"/>
                    </a:lnTo>
                    <a:lnTo>
                      <a:pt x="297" y="1473"/>
                    </a:lnTo>
                    <a:lnTo>
                      <a:pt x="334" y="1470"/>
                    </a:lnTo>
                    <a:lnTo>
                      <a:pt x="370" y="1464"/>
                    </a:lnTo>
                    <a:lnTo>
                      <a:pt x="378" y="1462"/>
                    </a:lnTo>
                    <a:lnTo>
                      <a:pt x="378" y="1460"/>
                    </a:lnTo>
                    <a:lnTo>
                      <a:pt x="376" y="1458"/>
                    </a:lnTo>
                    <a:lnTo>
                      <a:pt x="376" y="1458"/>
                    </a:lnTo>
                    <a:lnTo>
                      <a:pt x="376" y="1456"/>
                    </a:lnTo>
                    <a:lnTo>
                      <a:pt x="376" y="1454"/>
                    </a:lnTo>
                    <a:lnTo>
                      <a:pt x="374" y="1454"/>
                    </a:lnTo>
                    <a:lnTo>
                      <a:pt x="374" y="1452"/>
                    </a:lnTo>
                    <a:lnTo>
                      <a:pt x="374" y="1452"/>
                    </a:lnTo>
                    <a:lnTo>
                      <a:pt x="368" y="1452"/>
                    </a:lnTo>
                    <a:lnTo>
                      <a:pt x="332" y="1460"/>
                    </a:lnTo>
                    <a:lnTo>
                      <a:pt x="295" y="1464"/>
                    </a:lnTo>
                    <a:lnTo>
                      <a:pt x="259" y="1468"/>
                    </a:lnTo>
                    <a:lnTo>
                      <a:pt x="220" y="1468"/>
                    </a:lnTo>
                    <a:lnTo>
                      <a:pt x="184" y="1468"/>
                    </a:lnTo>
                    <a:lnTo>
                      <a:pt x="146" y="1464"/>
                    </a:lnTo>
                    <a:lnTo>
                      <a:pt x="109" y="1460"/>
                    </a:lnTo>
                    <a:lnTo>
                      <a:pt x="75" y="1452"/>
                    </a:lnTo>
                    <a:lnTo>
                      <a:pt x="38" y="1445"/>
                    </a:lnTo>
                    <a:lnTo>
                      <a:pt x="4" y="1435"/>
                    </a:lnTo>
                    <a:lnTo>
                      <a:pt x="0" y="1433"/>
                    </a:lnTo>
                    <a:lnTo>
                      <a:pt x="2" y="1435"/>
                    </a:lnTo>
                    <a:lnTo>
                      <a:pt x="2" y="1437"/>
                    </a:lnTo>
                    <a:lnTo>
                      <a:pt x="2" y="1439"/>
                    </a:lnTo>
                    <a:lnTo>
                      <a:pt x="2" y="1439"/>
                    </a:lnTo>
                    <a:lnTo>
                      <a:pt x="2" y="1441"/>
                    </a:lnTo>
                    <a:lnTo>
                      <a:pt x="4" y="1443"/>
                    </a:lnTo>
                    <a:lnTo>
                      <a:pt x="4" y="1445"/>
                    </a:lnTo>
                    <a:lnTo>
                      <a:pt x="4" y="1445"/>
                    </a:lnTo>
                    <a:close/>
                  </a:path>
                </a:pathLst>
              </a:custGeom>
              <a:solidFill>
                <a:srgbClr val="70c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Freeform 122"/>
              <p:cNvSpPr/>
              <p:nvPr/>
            </p:nvSpPr>
            <p:spPr>
              <a:xfrm>
                <a:off x="1914480" y="1938960"/>
                <a:ext cx="636120" cy="2469960"/>
              </a:xfrm>
              <a:custGeom>
                <a:avLst/>
                <a:gdLst>
                  <a:gd name="textAreaLeft" fmla="*/ 0 w 636120"/>
                  <a:gd name="textAreaRight" fmla="*/ 636480 w 636120"/>
                  <a:gd name="textAreaTop" fmla="*/ 0 h 2469960"/>
                  <a:gd name="textAreaBottom" fmla="*/ 2470320 h 2469960"/>
                </a:gdLst>
                <a:ahLst/>
                <a:rect l="textAreaLeft" t="textAreaTop" r="textAreaRight" b="textAreaBottom"/>
                <a:pathLst>
                  <a:path w="378" h="1467">
                    <a:moveTo>
                      <a:pt x="378" y="15"/>
                    </a:moveTo>
                    <a:lnTo>
                      <a:pt x="368" y="13"/>
                    </a:lnTo>
                    <a:lnTo>
                      <a:pt x="334" y="7"/>
                    </a:lnTo>
                    <a:lnTo>
                      <a:pt x="295" y="3"/>
                    </a:lnTo>
                    <a:lnTo>
                      <a:pt x="259" y="0"/>
                    </a:lnTo>
                    <a:lnTo>
                      <a:pt x="220" y="0"/>
                    </a:lnTo>
                    <a:lnTo>
                      <a:pt x="184" y="0"/>
                    </a:lnTo>
                    <a:lnTo>
                      <a:pt x="146" y="3"/>
                    </a:lnTo>
                    <a:lnTo>
                      <a:pt x="146" y="3"/>
                    </a:lnTo>
                    <a:lnTo>
                      <a:pt x="146" y="3"/>
                    </a:lnTo>
                    <a:lnTo>
                      <a:pt x="144" y="5"/>
                    </a:lnTo>
                    <a:lnTo>
                      <a:pt x="144" y="7"/>
                    </a:lnTo>
                    <a:lnTo>
                      <a:pt x="144" y="7"/>
                    </a:lnTo>
                    <a:lnTo>
                      <a:pt x="142" y="9"/>
                    </a:lnTo>
                    <a:lnTo>
                      <a:pt x="142" y="11"/>
                    </a:lnTo>
                    <a:lnTo>
                      <a:pt x="142" y="13"/>
                    </a:lnTo>
                    <a:lnTo>
                      <a:pt x="140" y="13"/>
                    </a:lnTo>
                    <a:lnTo>
                      <a:pt x="147" y="13"/>
                    </a:lnTo>
                    <a:lnTo>
                      <a:pt x="184" y="9"/>
                    </a:lnTo>
                    <a:lnTo>
                      <a:pt x="220" y="9"/>
                    </a:lnTo>
                    <a:lnTo>
                      <a:pt x="259" y="9"/>
                    </a:lnTo>
                    <a:lnTo>
                      <a:pt x="295" y="13"/>
                    </a:lnTo>
                    <a:lnTo>
                      <a:pt x="332" y="17"/>
                    </a:lnTo>
                    <a:lnTo>
                      <a:pt x="366" y="25"/>
                    </a:lnTo>
                    <a:lnTo>
                      <a:pt x="374" y="26"/>
                    </a:lnTo>
                    <a:lnTo>
                      <a:pt x="374" y="25"/>
                    </a:lnTo>
                    <a:lnTo>
                      <a:pt x="376" y="23"/>
                    </a:lnTo>
                    <a:lnTo>
                      <a:pt x="376" y="23"/>
                    </a:lnTo>
                    <a:lnTo>
                      <a:pt x="376" y="21"/>
                    </a:lnTo>
                    <a:lnTo>
                      <a:pt x="376" y="19"/>
                    </a:lnTo>
                    <a:lnTo>
                      <a:pt x="378" y="19"/>
                    </a:lnTo>
                    <a:lnTo>
                      <a:pt x="378" y="17"/>
                    </a:lnTo>
                    <a:lnTo>
                      <a:pt x="378" y="15"/>
                    </a:lnTo>
                    <a:close/>
                    <a:moveTo>
                      <a:pt x="2" y="1433"/>
                    </a:moveTo>
                    <a:lnTo>
                      <a:pt x="4" y="1433"/>
                    </a:lnTo>
                    <a:lnTo>
                      <a:pt x="38" y="1444"/>
                    </a:lnTo>
                    <a:lnTo>
                      <a:pt x="73" y="1452"/>
                    </a:lnTo>
                    <a:lnTo>
                      <a:pt x="109" y="1458"/>
                    </a:lnTo>
                    <a:lnTo>
                      <a:pt x="146" y="1464"/>
                    </a:lnTo>
                    <a:lnTo>
                      <a:pt x="184" y="1465"/>
                    </a:lnTo>
                    <a:lnTo>
                      <a:pt x="220" y="1467"/>
                    </a:lnTo>
                    <a:lnTo>
                      <a:pt x="259" y="1465"/>
                    </a:lnTo>
                    <a:lnTo>
                      <a:pt x="295" y="1464"/>
                    </a:lnTo>
                    <a:lnTo>
                      <a:pt x="334" y="1458"/>
                    </a:lnTo>
                    <a:lnTo>
                      <a:pt x="368" y="1452"/>
                    </a:lnTo>
                    <a:lnTo>
                      <a:pt x="376" y="1450"/>
                    </a:lnTo>
                    <a:lnTo>
                      <a:pt x="376" y="1448"/>
                    </a:lnTo>
                    <a:lnTo>
                      <a:pt x="374" y="1448"/>
                    </a:lnTo>
                    <a:lnTo>
                      <a:pt x="374" y="1446"/>
                    </a:lnTo>
                    <a:lnTo>
                      <a:pt x="374" y="1446"/>
                    </a:lnTo>
                    <a:lnTo>
                      <a:pt x="374" y="1444"/>
                    </a:lnTo>
                    <a:lnTo>
                      <a:pt x="372" y="1442"/>
                    </a:lnTo>
                    <a:lnTo>
                      <a:pt x="372" y="1442"/>
                    </a:lnTo>
                    <a:lnTo>
                      <a:pt x="372" y="1441"/>
                    </a:lnTo>
                    <a:lnTo>
                      <a:pt x="366" y="1442"/>
                    </a:lnTo>
                    <a:lnTo>
                      <a:pt x="332" y="1448"/>
                    </a:lnTo>
                    <a:lnTo>
                      <a:pt x="295" y="1452"/>
                    </a:lnTo>
                    <a:lnTo>
                      <a:pt x="259" y="1456"/>
                    </a:lnTo>
                    <a:lnTo>
                      <a:pt x="220" y="1456"/>
                    </a:lnTo>
                    <a:lnTo>
                      <a:pt x="184" y="1456"/>
                    </a:lnTo>
                    <a:lnTo>
                      <a:pt x="147" y="1452"/>
                    </a:lnTo>
                    <a:lnTo>
                      <a:pt x="111" y="1448"/>
                    </a:lnTo>
                    <a:lnTo>
                      <a:pt x="75" y="1442"/>
                    </a:lnTo>
                    <a:lnTo>
                      <a:pt x="40" y="1433"/>
                    </a:lnTo>
                    <a:lnTo>
                      <a:pt x="5" y="1423"/>
                    </a:lnTo>
                    <a:lnTo>
                      <a:pt x="0" y="1421"/>
                    </a:lnTo>
                    <a:lnTo>
                      <a:pt x="0" y="1423"/>
                    </a:lnTo>
                    <a:lnTo>
                      <a:pt x="0" y="1425"/>
                    </a:lnTo>
                    <a:lnTo>
                      <a:pt x="0" y="1425"/>
                    </a:lnTo>
                    <a:lnTo>
                      <a:pt x="0" y="1427"/>
                    </a:lnTo>
                    <a:lnTo>
                      <a:pt x="2" y="1429"/>
                    </a:lnTo>
                    <a:lnTo>
                      <a:pt x="2" y="1431"/>
                    </a:lnTo>
                    <a:lnTo>
                      <a:pt x="2" y="1433"/>
                    </a:lnTo>
                    <a:lnTo>
                      <a:pt x="2" y="1433"/>
                    </a:lnTo>
                    <a:close/>
                  </a:path>
                </a:pathLst>
              </a:custGeom>
              <a:solidFill>
                <a:srgbClr val="71c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Freeform 123"/>
              <p:cNvSpPr/>
              <p:nvPr/>
            </p:nvSpPr>
            <p:spPr>
              <a:xfrm>
                <a:off x="1911240" y="1944360"/>
                <a:ext cx="636480" cy="2456280"/>
              </a:xfrm>
              <a:custGeom>
                <a:avLst/>
                <a:gdLst>
                  <a:gd name="textAreaLeft" fmla="*/ 0 w 636480"/>
                  <a:gd name="textAreaRight" fmla="*/ 636480 w 636480"/>
                  <a:gd name="textAreaTop" fmla="*/ 0 h 2456280"/>
                  <a:gd name="textAreaBottom" fmla="*/ 2456640 h 2456280"/>
                </a:gdLst>
                <a:ahLst/>
                <a:rect l="textAreaLeft" t="textAreaTop" r="textAreaRight" b="textAreaBottom"/>
                <a:pathLst>
                  <a:path w="378" h="1459">
                    <a:moveTo>
                      <a:pt x="378" y="18"/>
                    </a:moveTo>
                    <a:lnTo>
                      <a:pt x="370" y="16"/>
                    </a:lnTo>
                    <a:lnTo>
                      <a:pt x="334" y="10"/>
                    </a:lnTo>
                    <a:lnTo>
                      <a:pt x="297" y="4"/>
                    </a:lnTo>
                    <a:lnTo>
                      <a:pt x="261" y="2"/>
                    </a:lnTo>
                    <a:lnTo>
                      <a:pt x="222" y="0"/>
                    </a:lnTo>
                    <a:lnTo>
                      <a:pt x="186" y="2"/>
                    </a:lnTo>
                    <a:lnTo>
                      <a:pt x="148" y="4"/>
                    </a:lnTo>
                    <a:lnTo>
                      <a:pt x="146" y="4"/>
                    </a:lnTo>
                    <a:lnTo>
                      <a:pt x="144" y="6"/>
                    </a:lnTo>
                    <a:lnTo>
                      <a:pt x="144" y="8"/>
                    </a:lnTo>
                    <a:lnTo>
                      <a:pt x="144" y="10"/>
                    </a:lnTo>
                    <a:lnTo>
                      <a:pt x="142" y="10"/>
                    </a:lnTo>
                    <a:lnTo>
                      <a:pt x="142" y="12"/>
                    </a:lnTo>
                    <a:lnTo>
                      <a:pt x="142" y="14"/>
                    </a:lnTo>
                    <a:lnTo>
                      <a:pt x="140" y="14"/>
                    </a:lnTo>
                    <a:lnTo>
                      <a:pt x="140" y="16"/>
                    </a:lnTo>
                    <a:lnTo>
                      <a:pt x="149" y="16"/>
                    </a:lnTo>
                    <a:lnTo>
                      <a:pt x="186" y="12"/>
                    </a:lnTo>
                    <a:lnTo>
                      <a:pt x="222" y="12"/>
                    </a:lnTo>
                    <a:lnTo>
                      <a:pt x="261" y="12"/>
                    </a:lnTo>
                    <a:lnTo>
                      <a:pt x="297" y="16"/>
                    </a:lnTo>
                    <a:lnTo>
                      <a:pt x="332" y="20"/>
                    </a:lnTo>
                    <a:lnTo>
                      <a:pt x="368" y="25"/>
                    </a:lnTo>
                    <a:lnTo>
                      <a:pt x="374" y="27"/>
                    </a:lnTo>
                    <a:lnTo>
                      <a:pt x="374" y="25"/>
                    </a:lnTo>
                    <a:lnTo>
                      <a:pt x="376" y="25"/>
                    </a:lnTo>
                    <a:lnTo>
                      <a:pt x="376" y="23"/>
                    </a:lnTo>
                    <a:lnTo>
                      <a:pt x="376" y="23"/>
                    </a:lnTo>
                    <a:lnTo>
                      <a:pt x="376" y="22"/>
                    </a:lnTo>
                    <a:lnTo>
                      <a:pt x="378" y="20"/>
                    </a:lnTo>
                    <a:lnTo>
                      <a:pt x="378" y="20"/>
                    </a:lnTo>
                    <a:lnTo>
                      <a:pt x="378" y="18"/>
                    </a:lnTo>
                    <a:close/>
                    <a:moveTo>
                      <a:pt x="2" y="1424"/>
                    </a:moveTo>
                    <a:lnTo>
                      <a:pt x="6" y="1426"/>
                    </a:lnTo>
                    <a:lnTo>
                      <a:pt x="40" y="1436"/>
                    </a:lnTo>
                    <a:lnTo>
                      <a:pt x="77" y="1443"/>
                    </a:lnTo>
                    <a:lnTo>
                      <a:pt x="111" y="1451"/>
                    </a:lnTo>
                    <a:lnTo>
                      <a:pt x="148" y="1455"/>
                    </a:lnTo>
                    <a:lnTo>
                      <a:pt x="186" y="1459"/>
                    </a:lnTo>
                    <a:lnTo>
                      <a:pt x="222" y="1459"/>
                    </a:lnTo>
                    <a:lnTo>
                      <a:pt x="261" y="1459"/>
                    </a:lnTo>
                    <a:lnTo>
                      <a:pt x="297" y="1455"/>
                    </a:lnTo>
                    <a:lnTo>
                      <a:pt x="334" y="1451"/>
                    </a:lnTo>
                    <a:lnTo>
                      <a:pt x="370" y="1443"/>
                    </a:lnTo>
                    <a:lnTo>
                      <a:pt x="376" y="1443"/>
                    </a:lnTo>
                    <a:lnTo>
                      <a:pt x="376" y="1441"/>
                    </a:lnTo>
                    <a:lnTo>
                      <a:pt x="374" y="1439"/>
                    </a:lnTo>
                    <a:lnTo>
                      <a:pt x="374" y="1439"/>
                    </a:lnTo>
                    <a:lnTo>
                      <a:pt x="374" y="1438"/>
                    </a:lnTo>
                    <a:lnTo>
                      <a:pt x="374" y="1436"/>
                    </a:lnTo>
                    <a:lnTo>
                      <a:pt x="372" y="1436"/>
                    </a:lnTo>
                    <a:lnTo>
                      <a:pt x="372" y="1434"/>
                    </a:lnTo>
                    <a:lnTo>
                      <a:pt x="372" y="1434"/>
                    </a:lnTo>
                    <a:lnTo>
                      <a:pt x="368" y="1434"/>
                    </a:lnTo>
                    <a:lnTo>
                      <a:pt x="332" y="1439"/>
                    </a:lnTo>
                    <a:lnTo>
                      <a:pt x="297" y="1445"/>
                    </a:lnTo>
                    <a:lnTo>
                      <a:pt x="261" y="1447"/>
                    </a:lnTo>
                    <a:lnTo>
                      <a:pt x="222" y="1449"/>
                    </a:lnTo>
                    <a:lnTo>
                      <a:pt x="186" y="1447"/>
                    </a:lnTo>
                    <a:lnTo>
                      <a:pt x="149" y="1445"/>
                    </a:lnTo>
                    <a:lnTo>
                      <a:pt x="113" y="1439"/>
                    </a:lnTo>
                    <a:lnTo>
                      <a:pt x="78" y="1434"/>
                    </a:lnTo>
                    <a:lnTo>
                      <a:pt x="44" y="1426"/>
                    </a:lnTo>
                    <a:lnTo>
                      <a:pt x="9" y="1416"/>
                    </a:lnTo>
                    <a:lnTo>
                      <a:pt x="0" y="1413"/>
                    </a:lnTo>
                    <a:lnTo>
                      <a:pt x="0" y="1414"/>
                    </a:lnTo>
                    <a:lnTo>
                      <a:pt x="0" y="1416"/>
                    </a:lnTo>
                    <a:lnTo>
                      <a:pt x="0" y="1416"/>
                    </a:lnTo>
                    <a:lnTo>
                      <a:pt x="2" y="1418"/>
                    </a:lnTo>
                    <a:lnTo>
                      <a:pt x="2" y="1420"/>
                    </a:lnTo>
                    <a:lnTo>
                      <a:pt x="2" y="1422"/>
                    </a:lnTo>
                    <a:lnTo>
                      <a:pt x="2" y="1422"/>
                    </a:lnTo>
                    <a:lnTo>
                      <a:pt x="2" y="1424"/>
                    </a:lnTo>
                    <a:close/>
                  </a:path>
                </a:pathLst>
              </a:custGeom>
              <a:solidFill>
                <a:srgbClr val="72c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Freeform 124"/>
              <p:cNvSpPr/>
              <p:nvPr/>
            </p:nvSpPr>
            <p:spPr>
              <a:xfrm>
                <a:off x="1907640" y="1954440"/>
                <a:ext cx="636480" cy="2436480"/>
              </a:xfrm>
              <a:custGeom>
                <a:avLst/>
                <a:gdLst/>
                <a:ahLst/>
                <a:rect l="l" t="t" r="r" b="b"/>
                <a:pathLst>
                  <a:path w="378" h="1447">
                    <a:moveTo>
                      <a:pt x="378" y="17"/>
                    </a:moveTo>
                    <a:lnTo>
                      <a:pt x="370" y="16"/>
                    </a:lnTo>
                    <a:lnTo>
                      <a:pt x="336" y="8"/>
                    </a:lnTo>
                    <a:lnTo>
                      <a:pt x="299" y="4"/>
                    </a:lnTo>
                    <a:lnTo>
                      <a:pt x="263" y="0"/>
                    </a:lnTo>
                    <a:lnTo>
                      <a:pt x="224" y="0"/>
                    </a:lnTo>
                    <a:lnTo>
                      <a:pt x="188" y="0"/>
                    </a:lnTo>
                    <a:lnTo>
                      <a:pt x="151" y="4"/>
                    </a:lnTo>
                    <a:lnTo>
                      <a:pt x="144" y="4"/>
                    </a:lnTo>
                    <a:lnTo>
                      <a:pt x="144" y="6"/>
                    </a:lnTo>
                    <a:lnTo>
                      <a:pt x="144" y="8"/>
                    </a:lnTo>
                    <a:lnTo>
                      <a:pt x="142" y="8"/>
                    </a:lnTo>
                    <a:lnTo>
                      <a:pt x="142" y="10"/>
                    </a:lnTo>
                    <a:lnTo>
                      <a:pt x="142" y="12"/>
                    </a:lnTo>
                    <a:lnTo>
                      <a:pt x="140" y="14"/>
                    </a:lnTo>
                    <a:lnTo>
                      <a:pt x="140" y="14"/>
                    </a:lnTo>
                    <a:lnTo>
                      <a:pt x="140" y="16"/>
                    </a:lnTo>
                    <a:lnTo>
                      <a:pt x="151" y="14"/>
                    </a:lnTo>
                    <a:lnTo>
                      <a:pt x="188" y="12"/>
                    </a:lnTo>
                    <a:lnTo>
                      <a:pt x="224" y="10"/>
                    </a:lnTo>
                    <a:lnTo>
                      <a:pt x="261" y="12"/>
                    </a:lnTo>
                    <a:lnTo>
                      <a:pt x="297" y="14"/>
                    </a:lnTo>
                    <a:lnTo>
                      <a:pt x="334" y="19"/>
                    </a:lnTo>
                    <a:lnTo>
                      <a:pt x="368" y="25"/>
                    </a:lnTo>
                    <a:lnTo>
                      <a:pt x="374" y="27"/>
                    </a:lnTo>
                    <a:lnTo>
                      <a:pt x="374" y="25"/>
                    </a:lnTo>
                    <a:lnTo>
                      <a:pt x="376" y="23"/>
                    </a:lnTo>
                    <a:lnTo>
                      <a:pt x="376" y="23"/>
                    </a:lnTo>
                    <a:lnTo>
                      <a:pt x="376" y="21"/>
                    </a:lnTo>
                    <a:lnTo>
                      <a:pt x="376" y="19"/>
                    </a:lnTo>
                    <a:lnTo>
                      <a:pt x="378" y="19"/>
                    </a:lnTo>
                    <a:lnTo>
                      <a:pt x="378" y="17"/>
                    </a:lnTo>
                    <a:lnTo>
                      <a:pt x="378" y="17"/>
                    </a:lnTo>
                    <a:close/>
                    <a:moveTo>
                      <a:pt x="4" y="1412"/>
                    </a:moveTo>
                    <a:lnTo>
                      <a:pt x="9" y="1414"/>
                    </a:lnTo>
                    <a:lnTo>
                      <a:pt x="44" y="1424"/>
                    </a:lnTo>
                    <a:lnTo>
                      <a:pt x="79" y="1433"/>
                    </a:lnTo>
                    <a:lnTo>
                      <a:pt x="115" y="1439"/>
                    </a:lnTo>
                    <a:lnTo>
                      <a:pt x="151" y="1443"/>
                    </a:lnTo>
                    <a:lnTo>
                      <a:pt x="188" y="1447"/>
                    </a:lnTo>
                    <a:lnTo>
                      <a:pt x="224" y="1447"/>
                    </a:lnTo>
                    <a:lnTo>
                      <a:pt x="263" y="1447"/>
                    </a:lnTo>
                    <a:lnTo>
                      <a:pt x="299" y="1443"/>
                    </a:lnTo>
                    <a:lnTo>
                      <a:pt x="336" y="1439"/>
                    </a:lnTo>
                    <a:lnTo>
                      <a:pt x="370" y="1433"/>
                    </a:lnTo>
                    <a:lnTo>
                      <a:pt x="376" y="1432"/>
                    </a:lnTo>
                    <a:lnTo>
                      <a:pt x="376" y="1430"/>
                    </a:lnTo>
                    <a:lnTo>
                      <a:pt x="374" y="1430"/>
                    </a:lnTo>
                    <a:lnTo>
                      <a:pt x="374" y="1428"/>
                    </a:lnTo>
                    <a:lnTo>
                      <a:pt x="374" y="1428"/>
                    </a:lnTo>
                    <a:lnTo>
                      <a:pt x="374" y="1426"/>
                    </a:lnTo>
                    <a:lnTo>
                      <a:pt x="372" y="1424"/>
                    </a:lnTo>
                    <a:lnTo>
                      <a:pt x="372" y="1424"/>
                    </a:lnTo>
                    <a:lnTo>
                      <a:pt x="372" y="1422"/>
                    </a:lnTo>
                    <a:lnTo>
                      <a:pt x="368" y="1422"/>
                    </a:lnTo>
                    <a:lnTo>
                      <a:pt x="334" y="1430"/>
                    </a:lnTo>
                    <a:lnTo>
                      <a:pt x="297" y="1433"/>
                    </a:lnTo>
                    <a:lnTo>
                      <a:pt x="261" y="1435"/>
                    </a:lnTo>
                    <a:lnTo>
                      <a:pt x="224" y="1437"/>
                    </a:lnTo>
                    <a:lnTo>
                      <a:pt x="188" y="1435"/>
                    </a:lnTo>
                    <a:lnTo>
                      <a:pt x="151" y="1433"/>
                    </a:lnTo>
                    <a:lnTo>
                      <a:pt x="117" y="1430"/>
                    </a:lnTo>
                    <a:lnTo>
                      <a:pt x="80" y="1422"/>
                    </a:lnTo>
                    <a:lnTo>
                      <a:pt x="46" y="1414"/>
                    </a:lnTo>
                    <a:lnTo>
                      <a:pt x="13" y="1405"/>
                    </a:lnTo>
                    <a:lnTo>
                      <a:pt x="0" y="1401"/>
                    </a:lnTo>
                    <a:lnTo>
                      <a:pt x="0" y="1403"/>
                    </a:lnTo>
                    <a:lnTo>
                      <a:pt x="2" y="1405"/>
                    </a:lnTo>
                    <a:lnTo>
                      <a:pt x="2" y="1405"/>
                    </a:lnTo>
                    <a:lnTo>
                      <a:pt x="2" y="1407"/>
                    </a:lnTo>
                    <a:lnTo>
                      <a:pt x="2" y="1408"/>
                    </a:lnTo>
                    <a:lnTo>
                      <a:pt x="2" y="1410"/>
                    </a:lnTo>
                    <a:lnTo>
                      <a:pt x="2" y="1410"/>
                    </a:lnTo>
                    <a:lnTo>
                      <a:pt x="4" y="1412"/>
                    </a:lnTo>
                    <a:close/>
                  </a:path>
                </a:pathLst>
              </a:custGeom>
              <a:solidFill>
                <a:srgbClr val="73c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Freeform 125"/>
              <p:cNvSpPr/>
              <p:nvPr/>
            </p:nvSpPr>
            <p:spPr>
              <a:xfrm>
                <a:off x="1904400" y="1964520"/>
                <a:ext cx="636480" cy="2419200"/>
              </a:xfrm>
              <a:custGeom>
                <a:avLst/>
                <a:gdLst>
                  <a:gd name="textAreaLeft" fmla="*/ 0 w 636480"/>
                  <a:gd name="textAreaRight" fmla="*/ 636480 w 636480"/>
                  <a:gd name="textAreaTop" fmla="*/ 0 h 2419200"/>
                  <a:gd name="textAreaBottom" fmla="*/ 2419560 h 2419200"/>
                </a:gdLst>
                <a:ahLst/>
                <a:rect l="textAreaLeft" t="textAreaTop" r="textAreaRight" b="textAreaBottom"/>
                <a:pathLst>
                  <a:path w="378" h="1437">
                    <a:moveTo>
                      <a:pt x="378" y="15"/>
                    </a:moveTo>
                    <a:lnTo>
                      <a:pt x="372" y="13"/>
                    </a:lnTo>
                    <a:lnTo>
                      <a:pt x="336" y="8"/>
                    </a:lnTo>
                    <a:lnTo>
                      <a:pt x="301" y="4"/>
                    </a:lnTo>
                    <a:lnTo>
                      <a:pt x="265" y="0"/>
                    </a:lnTo>
                    <a:lnTo>
                      <a:pt x="226" y="0"/>
                    </a:lnTo>
                    <a:lnTo>
                      <a:pt x="190" y="0"/>
                    </a:lnTo>
                    <a:lnTo>
                      <a:pt x="153" y="4"/>
                    </a:lnTo>
                    <a:lnTo>
                      <a:pt x="144" y="4"/>
                    </a:lnTo>
                    <a:lnTo>
                      <a:pt x="144" y="6"/>
                    </a:lnTo>
                    <a:lnTo>
                      <a:pt x="142" y="8"/>
                    </a:lnTo>
                    <a:lnTo>
                      <a:pt x="142" y="8"/>
                    </a:lnTo>
                    <a:lnTo>
                      <a:pt x="142" y="10"/>
                    </a:lnTo>
                    <a:lnTo>
                      <a:pt x="142" y="11"/>
                    </a:lnTo>
                    <a:lnTo>
                      <a:pt x="140" y="11"/>
                    </a:lnTo>
                    <a:lnTo>
                      <a:pt x="140" y="13"/>
                    </a:lnTo>
                    <a:lnTo>
                      <a:pt x="140" y="15"/>
                    </a:lnTo>
                    <a:lnTo>
                      <a:pt x="155" y="13"/>
                    </a:lnTo>
                    <a:lnTo>
                      <a:pt x="190" y="10"/>
                    </a:lnTo>
                    <a:lnTo>
                      <a:pt x="226" y="10"/>
                    </a:lnTo>
                    <a:lnTo>
                      <a:pt x="263" y="10"/>
                    </a:lnTo>
                    <a:lnTo>
                      <a:pt x="299" y="13"/>
                    </a:lnTo>
                    <a:lnTo>
                      <a:pt x="336" y="17"/>
                    </a:lnTo>
                    <a:lnTo>
                      <a:pt x="370" y="23"/>
                    </a:lnTo>
                    <a:lnTo>
                      <a:pt x="374" y="25"/>
                    </a:lnTo>
                    <a:lnTo>
                      <a:pt x="374" y="23"/>
                    </a:lnTo>
                    <a:lnTo>
                      <a:pt x="376" y="23"/>
                    </a:lnTo>
                    <a:lnTo>
                      <a:pt x="376" y="21"/>
                    </a:lnTo>
                    <a:lnTo>
                      <a:pt x="376" y="21"/>
                    </a:lnTo>
                    <a:lnTo>
                      <a:pt x="376" y="19"/>
                    </a:lnTo>
                    <a:lnTo>
                      <a:pt x="378" y="17"/>
                    </a:lnTo>
                    <a:lnTo>
                      <a:pt x="378" y="17"/>
                    </a:lnTo>
                    <a:lnTo>
                      <a:pt x="378" y="15"/>
                    </a:lnTo>
                    <a:close/>
                    <a:moveTo>
                      <a:pt x="4" y="1401"/>
                    </a:moveTo>
                    <a:lnTo>
                      <a:pt x="13" y="1404"/>
                    </a:lnTo>
                    <a:lnTo>
                      <a:pt x="48" y="1414"/>
                    </a:lnTo>
                    <a:lnTo>
                      <a:pt x="82" y="1422"/>
                    </a:lnTo>
                    <a:lnTo>
                      <a:pt x="117" y="1427"/>
                    </a:lnTo>
                    <a:lnTo>
                      <a:pt x="153" y="1433"/>
                    </a:lnTo>
                    <a:lnTo>
                      <a:pt x="190" y="1435"/>
                    </a:lnTo>
                    <a:lnTo>
                      <a:pt x="226" y="1437"/>
                    </a:lnTo>
                    <a:lnTo>
                      <a:pt x="265" y="1435"/>
                    </a:lnTo>
                    <a:lnTo>
                      <a:pt x="301" y="1433"/>
                    </a:lnTo>
                    <a:lnTo>
                      <a:pt x="336" y="1427"/>
                    </a:lnTo>
                    <a:lnTo>
                      <a:pt x="372" y="1422"/>
                    </a:lnTo>
                    <a:lnTo>
                      <a:pt x="376" y="1422"/>
                    </a:lnTo>
                    <a:lnTo>
                      <a:pt x="376" y="1420"/>
                    </a:lnTo>
                    <a:lnTo>
                      <a:pt x="374" y="1418"/>
                    </a:lnTo>
                    <a:lnTo>
                      <a:pt x="374" y="1418"/>
                    </a:lnTo>
                    <a:lnTo>
                      <a:pt x="374" y="1416"/>
                    </a:lnTo>
                    <a:lnTo>
                      <a:pt x="374" y="1414"/>
                    </a:lnTo>
                    <a:lnTo>
                      <a:pt x="374" y="1414"/>
                    </a:lnTo>
                    <a:lnTo>
                      <a:pt x="372" y="1412"/>
                    </a:lnTo>
                    <a:lnTo>
                      <a:pt x="372" y="1410"/>
                    </a:lnTo>
                    <a:lnTo>
                      <a:pt x="370" y="1412"/>
                    </a:lnTo>
                    <a:lnTo>
                      <a:pt x="336" y="1418"/>
                    </a:lnTo>
                    <a:lnTo>
                      <a:pt x="299" y="1422"/>
                    </a:lnTo>
                    <a:lnTo>
                      <a:pt x="263" y="1426"/>
                    </a:lnTo>
                    <a:lnTo>
                      <a:pt x="226" y="1426"/>
                    </a:lnTo>
                    <a:lnTo>
                      <a:pt x="190" y="1426"/>
                    </a:lnTo>
                    <a:lnTo>
                      <a:pt x="155" y="1422"/>
                    </a:lnTo>
                    <a:lnTo>
                      <a:pt x="119" y="1418"/>
                    </a:lnTo>
                    <a:lnTo>
                      <a:pt x="84" y="1412"/>
                    </a:lnTo>
                    <a:lnTo>
                      <a:pt x="50" y="1404"/>
                    </a:lnTo>
                    <a:lnTo>
                      <a:pt x="17" y="1395"/>
                    </a:lnTo>
                    <a:lnTo>
                      <a:pt x="0" y="1389"/>
                    </a:lnTo>
                    <a:lnTo>
                      <a:pt x="2" y="1391"/>
                    </a:lnTo>
                    <a:lnTo>
                      <a:pt x="2" y="1393"/>
                    </a:lnTo>
                    <a:lnTo>
                      <a:pt x="2" y="1393"/>
                    </a:lnTo>
                    <a:lnTo>
                      <a:pt x="2" y="1395"/>
                    </a:lnTo>
                    <a:lnTo>
                      <a:pt x="2" y="1397"/>
                    </a:lnTo>
                    <a:lnTo>
                      <a:pt x="4" y="1399"/>
                    </a:lnTo>
                    <a:lnTo>
                      <a:pt x="4" y="1399"/>
                    </a:lnTo>
                    <a:lnTo>
                      <a:pt x="4" y="1401"/>
                    </a:lnTo>
                    <a:close/>
                  </a:path>
                </a:pathLst>
              </a:custGeom>
              <a:solidFill>
                <a:srgbClr val="74c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Freeform 126"/>
              <p:cNvSpPr/>
              <p:nvPr/>
            </p:nvSpPr>
            <p:spPr>
              <a:xfrm>
                <a:off x="1904400" y="1971000"/>
                <a:ext cx="632880" cy="2402640"/>
              </a:xfrm>
              <a:custGeom>
                <a:avLst/>
                <a:gdLst>
                  <a:gd name="textAreaLeft" fmla="*/ 0 w 632880"/>
                  <a:gd name="textAreaRight" fmla="*/ 633240 w 632880"/>
                  <a:gd name="textAreaTop" fmla="*/ 0 h 2402640"/>
                  <a:gd name="textAreaBottom" fmla="*/ 2403000 h 2402640"/>
                </a:gdLst>
                <a:ahLst/>
                <a:rect l="textAreaLeft" t="textAreaTop" r="textAreaRight" b="textAreaBottom"/>
                <a:pathLst>
                  <a:path w="376" h="1427">
                    <a:moveTo>
                      <a:pt x="376" y="17"/>
                    </a:moveTo>
                    <a:lnTo>
                      <a:pt x="370" y="15"/>
                    </a:lnTo>
                    <a:lnTo>
                      <a:pt x="336" y="9"/>
                    </a:lnTo>
                    <a:lnTo>
                      <a:pt x="299" y="4"/>
                    </a:lnTo>
                    <a:lnTo>
                      <a:pt x="263" y="2"/>
                    </a:lnTo>
                    <a:lnTo>
                      <a:pt x="226" y="0"/>
                    </a:lnTo>
                    <a:lnTo>
                      <a:pt x="190" y="2"/>
                    </a:lnTo>
                    <a:lnTo>
                      <a:pt x="153" y="4"/>
                    </a:lnTo>
                    <a:lnTo>
                      <a:pt x="142" y="6"/>
                    </a:lnTo>
                    <a:lnTo>
                      <a:pt x="142" y="7"/>
                    </a:lnTo>
                    <a:lnTo>
                      <a:pt x="140" y="7"/>
                    </a:lnTo>
                    <a:lnTo>
                      <a:pt x="140" y="9"/>
                    </a:lnTo>
                    <a:lnTo>
                      <a:pt x="140" y="11"/>
                    </a:lnTo>
                    <a:lnTo>
                      <a:pt x="138" y="13"/>
                    </a:lnTo>
                    <a:lnTo>
                      <a:pt x="138" y="13"/>
                    </a:lnTo>
                    <a:lnTo>
                      <a:pt x="138" y="15"/>
                    </a:lnTo>
                    <a:lnTo>
                      <a:pt x="136" y="17"/>
                    </a:lnTo>
                    <a:lnTo>
                      <a:pt x="155" y="15"/>
                    </a:lnTo>
                    <a:lnTo>
                      <a:pt x="190" y="11"/>
                    </a:lnTo>
                    <a:lnTo>
                      <a:pt x="226" y="11"/>
                    </a:lnTo>
                    <a:lnTo>
                      <a:pt x="263" y="11"/>
                    </a:lnTo>
                    <a:lnTo>
                      <a:pt x="299" y="15"/>
                    </a:lnTo>
                    <a:lnTo>
                      <a:pt x="334" y="19"/>
                    </a:lnTo>
                    <a:lnTo>
                      <a:pt x="368" y="25"/>
                    </a:lnTo>
                    <a:lnTo>
                      <a:pt x="372" y="27"/>
                    </a:lnTo>
                    <a:lnTo>
                      <a:pt x="372" y="25"/>
                    </a:lnTo>
                    <a:lnTo>
                      <a:pt x="374" y="23"/>
                    </a:lnTo>
                    <a:lnTo>
                      <a:pt x="374" y="23"/>
                    </a:lnTo>
                    <a:lnTo>
                      <a:pt x="374" y="21"/>
                    </a:lnTo>
                    <a:lnTo>
                      <a:pt x="374" y="19"/>
                    </a:lnTo>
                    <a:lnTo>
                      <a:pt x="376" y="19"/>
                    </a:lnTo>
                    <a:lnTo>
                      <a:pt x="376" y="17"/>
                    </a:lnTo>
                    <a:lnTo>
                      <a:pt x="376" y="17"/>
                    </a:lnTo>
                    <a:close/>
                    <a:moveTo>
                      <a:pt x="2" y="1391"/>
                    </a:moveTo>
                    <a:lnTo>
                      <a:pt x="15" y="1395"/>
                    </a:lnTo>
                    <a:lnTo>
                      <a:pt x="48" y="1404"/>
                    </a:lnTo>
                    <a:lnTo>
                      <a:pt x="82" y="1412"/>
                    </a:lnTo>
                    <a:lnTo>
                      <a:pt x="119" y="1420"/>
                    </a:lnTo>
                    <a:lnTo>
                      <a:pt x="153" y="1423"/>
                    </a:lnTo>
                    <a:lnTo>
                      <a:pt x="190" y="1425"/>
                    </a:lnTo>
                    <a:lnTo>
                      <a:pt x="226" y="1427"/>
                    </a:lnTo>
                    <a:lnTo>
                      <a:pt x="263" y="1425"/>
                    </a:lnTo>
                    <a:lnTo>
                      <a:pt x="299" y="1423"/>
                    </a:lnTo>
                    <a:lnTo>
                      <a:pt x="336" y="1420"/>
                    </a:lnTo>
                    <a:lnTo>
                      <a:pt x="370" y="1412"/>
                    </a:lnTo>
                    <a:lnTo>
                      <a:pt x="374" y="1412"/>
                    </a:lnTo>
                    <a:lnTo>
                      <a:pt x="374" y="1410"/>
                    </a:lnTo>
                    <a:lnTo>
                      <a:pt x="374" y="1410"/>
                    </a:lnTo>
                    <a:lnTo>
                      <a:pt x="372" y="1408"/>
                    </a:lnTo>
                    <a:lnTo>
                      <a:pt x="372" y="1406"/>
                    </a:lnTo>
                    <a:lnTo>
                      <a:pt x="372" y="1406"/>
                    </a:lnTo>
                    <a:lnTo>
                      <a:pt x="372" y="1404"/>
                    </a:lnTo>
                    <a:lnTo>
                      <a:pt x="370" y="1404"/>
                    </a:lnTo>
                    <a:lnTo>
                      <a:pt x="370" y="1402"/>
                    </a:lnTo>
                    <a:lnTo>
                      <a:pt x="368" y="1402"/>
                    </a:lnTo>
                    <a:lnTo>
                      <a:pt x="334" y="1408"/>
                    </a:lnTo>
                    <a:lnTo>
                      <a:pt x="299" y="1414"/>
                    </a:lnTo>
                    <a:lnTo>
                      <a:pt x="263" y="1416"/>
                    </a:lnTo>
                    <a:lnTo>
                      <a:pt x="226" y="1418"/>
                    </a:lnTo>
                    <a:lnTo>
                      <a:pt x="190" y="1416"/>
                    </a:lnTo>
                    <a:lnTo>
                      <a:pt x="155" y="1414"/>
                    </a:lnTo>
                    <a:lnTo>
                      <a:pt x="121" y="1408"/>
                    </a:lnTo>
                    <a:lnTo>
                      <a:pt x="84" y="1402"/>
                    </a:lnTo>
                    <a:lnTo>
                      <a:pt x="52" y="1395"/>
                    </a:lnTo>
                    <a:lnTo>
                      <a:pt x="17" y="1385"/>
                    </a:lnTo>
                    <a:lnTo>
                      <a:pt x="0" y="1379"/>
                    </a:lnTo>
                    <a:lnTo>
                      <a:pt x="0" y="1381"/>
                    </a:lnTo>
                    <a:lnTo>
                      <a:pt x="0" y="1381"/>
                    </a:lnTo>
                    <a:lnTo>
                      <a:pt x="0" y="1383"/>
                    </a:lnTo>
                    <a:lnTo>
                      <a:pt x="0" y="1385"/>
                    </a:lnTo>
                    <a:lnTo>
                      <a:pt x="2" y="1387"/>
                    </a:lnTo>
                    <a:lnTo>
                      <a:pt x="2" y="1389"/>
                    </a:lnTo>
                    <a:lnTo>
                      <a:pt x="2" y="1389"/>
                    </a:lnTo>
                    <a:lnTo>
                      <a:pt x="2" y="1391"/>
                    </a:lnTo>
                    <a:close/>
                  </a:path>
                </a:pathLst>
              </a:custGeom>
              <a:solidFill>
                <a:srgbClr val="75c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Freeform 127"/>
              <p:cNvSpPr/>
              <p:nvPr/>
            </p:nvSpPr>
            <p:spPr>
              <a:xfrm>
                <a:off x="1900800" y="1981440"/>
                <a:ext cx="632880" cy="2383920"/>
              </a:xfrm>
              <a:custGeom>
                <a:avLst/>
                <a:gdLst>
                  <a:gd name="textAreaLeft" fmla="*/ 0 w 632880"/>
                  <a:gd name="textAreaRight" fmla="*/ 633240 w 632880"/>
                  <a:gd name="textAreaTop" fmla="*/ 0 h 2383920"/>
                  <a:gd name="textAreaBottom" fmla="*/ 2384280 h 2383920"/>
                </a:gdLst>
                <a:ahLst/>
                <a:rect l="textAreaLeft" t="textAreaTop" r="textAreaRight" b="textAreaBottom"/>
                <a:pathLst>
                  <a:path w="376" h="1416">
                    <a:moveTo>
                      <a:pt x="376" y="15"/>
                    </a:moveTo>
                    <a:lnTo>
                      <a:pt x="372" y="13"/>
                    </a:lnTo>
                    <a:lnTo>
                      <a:pt x="338" y="7"/>
                    </a:lnTo>
                    <a:lnTo>
                      <a:pt x="301" y="3"/>
                    </a:lnTo>
                    <a:lnTo>
                      <a:pt x="265" y="0"/>
                    </a:lnTo>
                    <a:lnTo>
                      <a:pt x="228" y="0"/>
                    </a:lnTo>
                    <a:lnTo>
                      <a:pt x="192" y="0"/>
                    </a:lnTo>
                    <a:lnTo>
                      <a:pt x="157" y="3"/>
                    </a:lnTo>
                    <a:lnTo>
                      <a:pt x="142" y="5"/>
                    </a:lnTo>
                    <a:lnTo>
                      <a:pt x="140" y="7"/>
                    </a:lnTo>
                    <a:lnTo>
                      <a:pt x="140" y="7"/>
                    </a:lnTo>
                    <a:lnTo>
                      <a:pt x="140" y="9"/>
                    </a:lnTo>
                    <a:lnTo>
                      <a:pt x="138" y="11"/>
                    </a:lnTo>
                    <a:lnTo>
                      <a:pt x="138" y="11"/>
                    </a:lnTo>
                    <a:lnTo>
                      <a:pt x="138" y="13"/>
                    </a:lnTo>
                    <a:lnTo>
                      <a:pt x="136" y="15"/>
                    </a:lnTo>
                    <a:lnTo>
                      <a:pt x="136" y="17"/>
                    </a:lnTo>
                    <a:lnTo>
                      <a:pt x="157" y="13"/>
                    </a:lnTo>
                    <a:lnTo>
                      <a:pt x="194" y="11"/>
                    </a:lnTo>
                    <a:lnTo>
                      <a:pt x="228" y="9"/>
                    </a:lnTo>
                    <a:lnTo>
                      <a:pt x="265" y="11"/>
                    </a:lnTo>
                    <a:lnTo>
                      <a:pt x="301" y="13"/>
                    </a:lnTo>
                    <a:lnTo>
                      <a:pt x="336" y="19"/>
                    </a:lnTo>
                    <a:lnTo>
                      <a:pt x="370" y="24"/>
                    </a:lnTo>
                    <a:lnTo>
                      <a:pt x="372" y="24"/>
                    </a:lnTo>
                    <a:lnTo>
                      <a:pt x="372" y="23"/>
                    </a:lnTo>
                    <a:lnTo>
                      <a:pt x="374" y="23"/>
                    </a:lnTo>
                    <a:lnTo>
                      <a:pt x="374" y="21"/>
                    </a:lnTo>
                    <a:lnTo>
                      <a:pt x="374" y="21"/>
                    </a:lnTo>
                    <a:lnTo>
                      <a:pt x="374" y="19"/>
                    </a:lnTo>
                    <a:lnTo>
                      <a:pt x="376" y="17"/>
                    </a:lnTo>
                    <a:lnTo>
                      <a:pt x="376" y="17"/>
                    </a:lnTo>
                    <a:lnTo>
                      <a:pt x="376" y="15"/>
                    </a:lnTo>
                    <a:close/>
                    <a:moveTo>
                      <a:pt x="2" y="1379"/>
                    </a:moveTo>
                    <a:lnTo>
                      <a:pt x="19" y="1385"/>
                    </a:lnTo>
                    <a:lnTo>
                      <a:pt x="52" y="1394"/>
                    </a:lnTo>
                    <a:lnTo>
                      <a:pt x="86" y="1402"/>
                    </a:lnTo>
                    <a:lnTo>
                      <a:pt x="121" y="1408"/>
                    </a:lnTo>
                    <a:lnTo>
                      <a:pt x="157" y="1412"/>
                    </a:lnTo>
                    <a:lnTo>
                      <a:pt x="192" y="1416"/>
                    </a:lnTo>
                    <a:lnTo>
                      <a:pt x="228" y="1416"/>
                    </a:lnTo>
                    <a:lnTo>
                      <a:pt x="265" y="1416"/>
                    </a:lnTo>
                    <a:lnTo>
                      <a:pt x="301" y="1412"/>
                    </a:lnTo>
                    <a:lnTo>
                      <a:pt x="338" y="1408"/>
                    </a:lnTo>
                    <a:lnTo>
                      <a:pt x="372" y="1402"/>
                    </a:lnTo>
                    <a:lnTo>
                      <a:pt x="374" y="1400"/>
                    </a:lnTo>
                    <a:lnTo>
                      <a:pt x="374" y="1400"/>
                    </a:lnTo>
                    <a:lnTo>
                      <a:pt x="374" y="1398"/>
                    </a:lnTo>
                    <a:lnTo>
                      <a:pt x="372" y="1398"/>
                    </a:lnTo>
                    <a:lnTo>
                      <a:pt x="372" y="1396"/>
                    </a:lnTo>
                    <a:lnTo>
                      <a:pt x="372" y="1394"/>
                    </a:lnTo>
                    <a:lnTo>
                      <a:pt x="372" y="1394"/>
                    </a:lnTo>
                    <a:lnTo>
                      <a:pt x="370" y="1392"/>
                    </a:lnTo>
                    <a:lnTo>
                      <a:pt x="370" y="1391"/>
                    </a:lnTo>
                    <a:lnTo>
                      <a:pt x="370" y="1392"/>
                    </a:lnTo>
                    <a:lnTo>
                      <a:pt x="336" y="1398"/>
                    </a:lnTo>
                    <a:lnTo>
                      <a:pt x="301" y="1402"/>
                    </a:lnTo>
                    <a:lnTo>
                      <a:pt x="265" y="1404"/>
                    </a:lnTo>
                    <a:lnTo>
                      <a:pt x="228" y="1406"/>
                    </a:lnTo>
                    <a:lnTo>
                      <a:pt x="194" y="1404"/>
                    </a:lnTo>
                    <a:lnTo>
                      <a:pt x="157" y="1402"/>
                    </a:lnTo>
                    <a:lnTo>
                      <a:pt x="123" y="1398"/>
                    </a:lnTo>
                    <a:lnTo>
                      <a:pt x="88" y="1392"/>
                    </a:lnTo>
                    <a:lnTo>
                      <a:pt x="54" y="1383"/>
                    </a:lnTo>
                    <a:lnTo>
                      <a:pt x="21" y="1375"/>
                    </a:lnTo>
                    <a:lnTo>
                      <a:pt x="0" y="1368"/>
                    </a:lnTo>
                    <a:lnTo>
                      <a:pt x="0" y="1369"/>
                    </a:lnTo>
                    <a:lnTo>
                      <a:pt x="0" y="1369"/>
                    </a:lnTo>
                    <a:lnTo>
                      <a:pt x="2" y="1371"/>
                    </a:lnTo>
                    <a:lnTo>
                      <a:pt x="2" y="1373"/>
                    </a:lnTo>
                    <a:lnTo>
                      <a:pt x="2" y="1375"/>
                    </a:lnTo>
                    <a:lnTo>
                      <a:pt x="2" y="1375"/>
                    </a:lnTo>
                    <a:lnTo>
                      <a:pt x="2" y="1377"/>
                    </a:lnTo>
                    <a:lnTo>
                      <a:pt x="2" y="1379"/>
                    </a:lnTo>
                    <a:close/>
                  </a:path>
                </a:pathLst>
              </a:custGeom>
              <a:solidFill>
                <a:srgbClr val="76c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Freeform 128"/>
              <p:cNvSpPr/>
              <p:nvPr/>
            </p:nvSpPr>
            <p:spPr>
              <a:xfrm>
                <a:off x="1897560" y="1989720"/>
                <a:ext cx="632880" cy="2368800"/>
              </a:xfrm>
              <a:custGeom>
                <a:avLst/>
                <a:gdLst>
                  <a:gd name="textAreaLeft" fmla="*/ 0 w 632880"/>
                  <a:gd name="textAreaRight" fmla="*/ 633240 w 632880"/>
                  <a:gd name="textAreaTop" fmla="*/ 0 h 2368800"/>
                  <a:gd name="textAreaBottom" fmla="*/ 2369160 h 2368800"/>
                </a:gdLst>
                <a:ahLst/>
                <a:rect l="textAreaLeft" t="textAreaTop" r="textAreaRight" b="textAreaBottom"/>
                <a:pathLst>
                  <a:path w="376" h="1407">
                    <a:moveTo>
                      <a:pt x="376" y="16"/>
                    </a:moveTo>
                    <a:lnTo>
                      <a:pt x="372" y="14"/>
                    </a:lnTo>
                    <a:lnTo>
                      <a:pt x="338" y="8"/>
                    </a:lnTo>
                    <a:lnTo>
                      <a:pt x="303" y="4"/>
                    </a:lnTo>
                    <a:lnTo>
                      <a:pt x="267" y="0"/>
                    </a:lnTo>
                    <a:lnTo>
                      <a:pt x="230" y="0"/>
                    </a:lnTo>
                    <a:lnTo>
                      <a:pt x="194" y="0"/>
                    </a:lnTo>
                    <a:lnTo>
                      <a:pt x="159" y="4"/>
                    </a:lnTo>
                    <a:lnTo>
                      <a:pt x="140" y="6"/>
                    </a:lnTo>
                    <a:lnTo>
                      <a:pt x="140" y="6"/>
                    </a:lnTo>
                    <a:lnTo>
                      <a:pt x="140" y="8"/>
                    </a:lnTo>
                    <a:lnTo>
                      <a:pt x="138" y="10"/>
                    </a:lnTo>
                    <a:lnTo>
                      <a:pt x="138" y="12"/>
                    </a:lnTo>
                    <a:lnTo>
                      <a:pt x="138" y="12"/>
                    </a:lnTo>
                    <a:lnTo>
                      <a:pt x="138" y="14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59" y="14"/>
                    </a:lnTo>
                    <a:lnTo>
                      <a:pt x="196" y="10"/>
                    </a:lnTo>
                    <a:lnTo>
                      <a:pt x="230" y="10"/>
                    </a:lnTo>
                    <a:lnTo>
                      <a:pt x="267" y="10"/>
                    </a:lnTo>
                    <a:lnTo>
                      <a:pt x="301" y="14"/>
                    </a:lnTo>
                    <a:lnTo>
                      <a:pt x="336" y="18"/>
                    </a:lnTo>
                    <a:lnTo>
                      <a:pt x="371" y="23"/>
                    </a:lnTo>
                    <a:lnTo>
                      <a:pt x="372" y="25"/>
                    </a:lnTo>
                    <a:lnTo>
                      <a:pt x="372" y="23"/>
                    </a:lnTo>
                    <a:lnTo>
                      <a:pt x="374" y="21"/>
                    </a:lnTo>
                    <a:lnTo>
                      <a:pt x="374" y="21"/>
                    </a:lnTo>
                    <a:lnTo>
                      <a:pt x="374" y="19"/>
                    </a:lnTo>
                    <a:lnTo>
                      <a:pt x="374" y="18"/>
                    </a:lnTo>
                    <a:lnTo>
                      <a:pt x="376" y="18"/>
                    </a:lnTo>
                    <a:lnTo>
                      <a:pt x="376" y="16"/>
                    </a:lnTo>
                    <a:lnTo>
                      <a:pt x="376" y="16"/>
                    </a:lnTo>
                    <a:close/>
                    <a:moveTo>
                      <a:pt x="4" y="1368"/>
                    </a:moveTo>
                    <a:lnTo>
                      <a:pt x="21" y="1374"/>
                    </a:lnTo>
                    <a:lnTo>
                      <a:pt x="56" y="1384"/>
                    </a:lnTo>
                    <a:lnTo>
                      <a:pt x="88" y="1391"/>
                    </a:lnTo>
                    <a:lnTo>
                      <a:pt x="125" y="1397"/>
                    </a:lnTo>
                    <a:lnTo>
                      <a:pt x="159" y="1403"/>
                    </a:lnTo>
                    <a:lnTo>
                      <a:pt x="194" y="1405"/>
                    </a:lnTo>
                    <a:lnTo>
                      <a:pt x="230" y="1407"/>
                    </a:lnTo>
                    <a:lnTo>
                      <a:pt x="267" y="1405"/>
                    </a:lnTo>
                    <a:lnTo>
                      <a:pt x="303" y="1403"/>
                    </a:lnTo>
                    <a:lnTo>
                      <a:pt x="338" y="1397"/>
                    </a:lnTo>
                    <a:lnTo>
                      <a:pt x="372" y="1391"/>
                    </a:lnTo>
                    <a:lnTo>
                      <a:pt x="374" y="1391"/>
                    </a:lnTo>
                    <a:lnTo>
                      <a:pt x="374" y="1389"/>
                    </a:lnTo>
                    <a:lnTo>
                      <a:pt x="374" y="1389"/>
                    </a:lnTo>
                    <a:lnTo>
                      <a:pt x="372" y="1387"/>
                    </a:lnTo>
                    <a:lnTo>
                      <a:pt x="372" y="1386"/>
                    </a:lnTo>
                    <a:lnTo>
                      <a:pt x="372" y="1386"/>
                    </a:lnTo>
                    <a:lnTo>
                      <a:pt x="372" y="1384"/>
                    </a:lnTo>
                    <a:lnTo>
                      <a:pt x="372" y="1384"/>
                    </a:lnTo>
                    <a:lnTo>
                      <a:pt x="371" y="1382"/>
                    </a:lnTo>
                    <a:lnTo>
                      <a:pt x="371" y="1382"/>
                    </a:lnTo>
                    <a:lnTo>
                      <a:pt x="336" y="1387"/>
                    </a:lnTo>
                    <a:lnTo>
                      <a:pt x="301" y="1391"/>
                    </a:lnTo>
                    <a:lnTo>
                      <a:pt x="267" y="1395"/>
                    </a:lnTo>
                    <a:lnTo>
                      <a:pt x="230" y="1395"/>
                    </a:lnTo>
                    <a:lnTo>
                      <a:pt x="196" y="1395"/>
                    </a:lnTo>
                    <a:lnTo>
                      <a:pt x="159" y="1391"/>
                    </a:lnTo>
                    <a:lnTo>
                      <a:pt x="125" y="1387"/>
                    </a:lnTo>
                    <a:lnTo>
                      <a:pt x="92" y="1382"/>
                    </a:lnTo>
                    <a:lnTo>
                      <a:pt x="58" y="1374"/>
                    </a:lnTo>
                    <a:lnTo>
                      <a:pt x="25" y="1364"/>
                    </a:lnTo>
                    <a:lnTo>
                      <a:pt x="0" y="1357"/>
                    </a:lnTo>
                    <a:lnTo>
                      <a:pt x="2" y="1359"/>
                    </a:lnTo>
                    <a:lnTo>
                      <a:pt x="2" y="1359"/>
                    </a:lnTo>
                    <a:lnTo>
                      <a:pt x="2" y="1361"/>
                    </a:lnTo>
                    <a:lnTo>
                      <a:pt x="2" y="1363"/>
                    </a:lnTo>
                    <a:lnTo>
                      <a:pt x="2" y="1364"/>
                    </a:lnTo>
                    <a:lnTo>
                      <a:pt x="2" y="1364"/>
                    </a:lnTo>
                    <a:lnTo>
                      <a:pt x="4" y="1366"/>
                    </a:lnTo>
                    <a:lnTo>
                      <a:pt x="4" y="1368"/>
                    </a:lnTo>
                    <a:close/>
                  </a:path>
                </a:pathLst>
              </a:custGeom>
              <a:solidFill>
                <a:srgbClr val="77c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Freeform 129"/>
              <p:cNvSpPr/>
              <p:nvPr/>
            </p:nvSpPr>
            <p:spPr>
              <a:xfrm>
                <a:off x="1897560" y="1996200"/>
                <a:ext cx="629640" cy="2352240"/>
              </a:xfrm>
              <a:custGeom>
                <a:avLst/>
                <a:gdLst>
                  <a:gd name="textAreaLeft" fmla="*/ 0 w 629640"/>
                  <a:gd name="textAreaRight" fmla="*/ 629640 w 629640"/>
                  <a:gd name="textAreaTop" fmla="*/ 0 h 2352240"/>
                  <a:gd name="textAreaBottom" fmla="*/ 2352600 h 2352240"/>
                </a:gdLst>
                <a:ahLst/>
                <a:rect l="textAreaLeft" t="textAreaTop" r="textAreaRight" b="textAreaBottom"/>
                <a:pathLst>
                  <a:path w="374" h="1397">
                    <a:moveTo>
                      <a:pt x="374" y="15"/>
                    </a:moveTo>
                    <a:lnTo>
                      <a:pt x="372" y="15"/>
                    </a:lnTo>
                    <a:lnTo>
                      <a:pt x="338" y="10"/>
                    </a:lnTo>
                    <a:lnTo>
                      <a:pt x="303" y="4"/>
                    </a:lnTo>
                    <a:lnTo>
                      <a:pt x="267" y="2"/>
                    </a:lnTo>
                    <a:lnTo>
                      <a:pt x="230" y="0"/>
                    </a:lnTo>
                    <a:lnTo>
                      <a:pt x="196" y="2"/>
                    </a:lnTo>
                    <a:lnTo>
                      <a:pt x="159" y="4"/>
                    </a:lnTo>
                    <a:lnTo>
                      <a:pt x="138" y="8"/>
                    </a:lnTo>
                    <a:lnTo>
                      <a:pt x="138" y="8"/>
                    </a:lnTo>
                    <a:lnTo>
                      <a:pt x="138" y="10"/>
                    </a:lnTo>
                    <a:lnTo>
                      <a:pt x="136" y="12"/>
                    </a:lnTo>
                    <a:lnTo>
                      <a:pt x="136" y="12"/>
                    </a:lnTo>
                    <a:lnTo>
                      <a:pt x="136" y="14"/>
                    </a:lnTo>
                    <a:lnTo>
                      <a:pt x="134" y="15"/>
                    </a:lnTo>
                    <a:lnTo>
                      <a:pt x="134" y="17"/>
                    </a:lnTo>
                    <a:lnTo>
                      <a:pt x="134" y="17"/>
                    </a:lnTo>
                    <a:lnTo>
                      <a:pt x="161" y="15"/>
                    </a:lnTo>
                    <a:lnTo>
                      <a:pt x="196" y="12"/>
                    </a:lnTo>
                    <a:lnTo>
                      <a:pt x="230" y="12"/>
                    </a:lnTo>
                    <a:lnTo>
                      <a:pt x="267" y="12"/>
                    </a:lnTo>
                    <a:lnTo>
                      <a:pt x="301" y="15"/>
                    </a:lnTo>
                    <a:lnTo>
                      <a:pt x="336" y="19"/>
                    </a:lnTo>
                    <a:lnTo>
                      <a:pt x="371" y="25"/>
                    </a:lnTo>
                    <a:lnTo>
                      <a:pt x="371" y="25"/>
                    </a:lnTo>
                    <a:lnTo>
                      <a:pt x="371" y="25"/>
                    </a:lnTo>
                    <a:lnTo>
                      <a:pt x="372" y="23"/>
                    </a:lnTo>
                    <a:lnTo>
                      <a:pt x="372" y="21"/>
                    </a:lnTo>
                    <a:lnTo>
                      <a:pt x="372" y="21"/>
                    </a:lnTo>
                    <a:lnTo>
                      <a:pt x="372" y="19"/>
                    </a:lnTo>
                    <a:lnTo>
                      <a:pt x="374" y="17"/>
                    </a:lnTo>
                    <a:lnTo>
                      <a:pt x="374" y="17"/>
                    </a:lnTo>
                    <a:lnTo>
                      <a:pt x="374" y="15"/>
                    </a:lnTo>
                    <a:close/>
                    <a:moveTo>
                      <a:pt x="2" y="1359"/>
                    </a:moveTo>
                    <a:lnTo>
                      <a:pt x="23" y="1366"/>
                    </a:lnTo>
                    <a:lnTo>
                      <a:pt x="56" y="1374"/>
                    </a:lnTo>
                    <a:lnTo>
                      <a:pt x="90" y="1383"/>
                    </a:lnTo>
                    <a:lnTo>
                      <a:pt x="125" y="1389"/>
                    </a:lnTo>
                    <a:lnTo>
                      <a:pt x="159" y="1393"/>
                    </a:lnTo>
                    <a:lnTo>
                      <a:pt x="196" y="1395"/>
                    </a:lnTo>
                    <a:lnTo>
                      <a:pt x="230" y="1397"/>
                    </a:lnTo>
                    <a:lnTo>
                      <a:pt x="267" y="1395"/>
                    </a:lnTo>
                    <a:lnTo>
                      <a:pt x="303" y="1393"/>
                    </a:lnTo>
                    <a:lnTo>
                      <a:pt x="338" y="1389"/>
                    </a:lnTo>
                    <a:lnTo>
                      <a:pt x="372" y="1383"/>
                    </a:lnTo>
                    <a:lnTo>
                      <a:pt x="372" y="1382"/>
                    </a:lnTo>
                    <a:lnTo>
                      <a:pt x="372" y="1382"/>
                    </a:lnTo>
                    <a:lnTo>
                      <a:pt x="372" y="1380"/>
                    </a:lnTo>
                    <a:lnTo>
                      <a:pt x="372" y="1380"/>
                    </a:lnTo>
                    <a:lnTo>
                      <a:pt x="371" y="1378"/>
                    </a:lnTo>
                    <a:lnTo>
                      <a:pt x="371" y="1376"/>
                    </a:lnTo>
                    <a:lnTo>
                      <a:pt x="371" y="1376"/>
                    </a:lnTo>
                    <a:lnTo>
                      <a:pt x="371" y="1374"/>
                    </a:lnTo>
                    <a:lnTo>
                      <a:pt x="369" y="1372"/>
                    </a:lnTo>
                    <a:lnTo>
                      <a:pt x="336" y="1378"/>
                    </a:lnTo>
                    <a:lnTo>
                      <a:pt x="301" y="1383"/>
                    </a:lnTo>
                    <a:lnTo>
                      <a:pt x="267" y="1385"/>
                    </a:lnTo>
                    <a:lnTo>
                      <a:pt x="230" y="1387"/>
                    </a:lnTo>
                    <a:lnTo>
                      <a:pt x="196" y="1385"/>
                    </a:lnTo>
                    <a:lnTo>
                      <a:pt x="161" y="1383"/>
                    </a:lnTo>
                    <a:lnTo>
                      <a:pt x="127" y="1378"/>
                    </a:lnTo>
                    <a:lnTo>
                      <a:pt x="92" y="1372"/>
                    </a:lnTo>
                    <a:lnTo>
                      <a:pt x="60" y="1364"/>
                    </a:lnTo>
                    <a:lnTo>
                      <a:pt x="27" y="1355"/>
                    </a:lnTo>
                    <a:lnTo>
                      <a:pt x="0" y="1347"/>
                    </a:lnTo>
                    <a:lnTo>
                      <a:pt x="0" y="1347"/>
                    </a:lnTo>
                    <a:lnTo>
                      <a:pt x="0" y="1349"/>
                    </a:lnTo>
                    <a:lnTo>
                      <a:pt x="0" y="1351"/>
                    </a:lnTo>
                    <a:lnTo>
                      <a:pt x="0" y="1353"/>
                    </a:lnTo>
                    <a:lnTo>
                      <a:pt x="2" y="1355"/>
                    </a:lnTo>
                    <a:lnTo>
                      <a:pt x="2" y="1355"/>
                    </a:lnTo>
                    <a:lnTo>
                      <a:pt x="2" y="1357"/>
                    </a:lnTo>
                    <a:lnTo>
                      <a:pt x="2" y="1359"/>
                    </a:lnTo>
                    <a:close/>
                  </a:path>
                </a:pathLst>
              </a:custGeom>
              <a:solidFill>
                <a:srgbClr val="78c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Freeform 130"/>
              <p:cNvSpPr/>
              <p:nvPr/>
            </p:nvSpPr>
            <p:spPr>
              <a:xfrm>
                <a:off x="1894320" y="2006640"/>
                <a:ext cx="629640" cy="2331720"/>
              </a:xfrm>
              <a:custGeom>
                <a:avLst/>
                <a:gdLst>
                  <a:gd name="textAreaLeft" fmla="*/ 0 w 629640"/>
                  <a:gd name="textAreaRight" fmla="*/ 629640 w 629640"/>
                  <a:gd name="textAreaTop" fmla="*/ 0 h 2331720"/>
                  <a:gd name="textAreaBottom" fmla="*/ 2332080 h 2331720"/>
                </a:gdLst>
                <a:ahLst/>
                <a:rect l="textAreaLeft" t="textAreaTop" r="textAreaRight" b="textAreaBottom"/>
                <a:pathLst>
                  <a:path w="374" h="1385">
                    <a:moveTo>
                      <a:pt x="374" y="15"/>
                    </a:moveTo>
                    <a:lnTo>
                      <a:pt x="373" y="13"/>
                    </a:lnTo>
                    <a:lnTo>
                      <a:pt x="338" y="8"/>
                    </a:lnTo>
                    <a:lnTo>
                      <a:pt x="303" y="4"/>
                    </a:lnTo>
                    <a:lnTo>
                      <a:pt x="269" y="0"/>
                    </a:lnTo>
                    <a:lnTo>
                      <a:pt x="232" y="0"/>
                    </a:lnTo>
                    <a:lnTo>
                      <a:pt x="198" y="0"/>
                    </a:lnTo>
                    <a:lnTo>
                      <a:pt x="161" y="4"/>
                    </a:lnTo>
                    <a:lnTo>
                      <a:pt x="138" y="6"/>
                    </a:lnTo>
                    <a:lnTo>
                      <a:pt x="138" y="8"/>
                    </a:lnTo>
                    <a:lnTo>
                      <a:pt x="136" y="9"/>
                    </a:lnTo>
                    <a:lnTo>
                      <a:pt x="136" y="11"/>
                    </a:lnTo>
                    <a:lnTo>
                      <a:pt x="136" y="11"/>
                    </a:lnTo>
                    <a:lnTo>
                      <a:pt x="135" y="13"/>
                    </a:lnTo>
                    <a:lnTo>
                      <a:pt x="135" y="15"/>
                    </a:lnTo>
                    <a:lnTo>
                      <a:pt x="135" y="15"/>
                    </a:lnTo>
                    <a:lnTo>
                      <a:pt x="135" y="17"/>
                    </a:lnTo>
                    <a:lnTo>
                      <a:pt x="163" y="13"/>
                    </a:lnTo>
                    <a:lnTo>
                      <a:pt x="198" y="11"/>
                    </a:lnTo>
                    <a:lnTo>
                      <a:pt x="232" y="9"/>
                    </a:lnTo>
                    <a:lnTo>
                      <a:pt x="269" y="11"/>
                    </a:lnTo>
                    <a:lnTo>
                      <a:pt x="303" y="13"/>
                    </a:lnTo>
                    <a:lnTo>
                      <a:pt x="336" y="17"/>
                    </a:lnTo>
                    <a:lnTo>
                      <a:pt x="371" y="25"/>
                    </a:lnTo>
                    <a:lnTo>
                      <a:pt x="371" y="25"/>
                    </a:lnTo>
                    <a:lnTo>
                      <a:pt x="373" y="23"/>
                    </a:lnTo>
                    <a:lnTo>
                      <a:pt x="373" y="21"/>
                    </a:lnTo>
                    <a:lnTo>
                      <a:pt x="373" y="21"/>
                    </a:lnTo>
                    <a:lnTo>
                      <a:pt x="373" y="19"/>
                    </a:lnTo>
                    <a:lnTo>
                      <a:pt x="373" y="19"/>
                    </a:lnTo>
                    <a:lnTo>
                      <a:pt x="374" y="17"/>
                    </a:lnTo>
                    <a:lnTo>
                      <a:pt x="374" y="15"/>
                    </a:lnTo>
                    <a:lnTo>
                      <a:pt x="374" y="15"/>
                    </a:lnTo>
                    <a:close/>
                    <a:moveTo>
                      <a:pt x="2" y="1347"/>
                    </a:moveTo>
                    <a:lnTo>
                      <a:pt x="27" y="1354"/>
                    </a:lnTo>
                    <a:lnTo>
                      <a:pt x="60" y="1364"/>
                    </a:lnTo>
                    <a:lnTo>
                      <a:pt x="94" y="1372"/>
                    </a:lnTo>
                    <a:lnTo>
                      <a:pt x="127" y="1377"/>
                    </a:lnTo>
                    <a:lnTo>
                      <a:pt x="161" y="1381"/>
                    </a:lnTo>
                    <a:lnTo>
                      <a:pt x="198" y="1385"/>
                    </a:lnTo>
                    <a:lnTo>
                      <a:pt x="232" y="1385"/>
                    </a:lnTo>
                    <a:lnTo>
                      <a:pt x="269" y="1385"/>
                    </a:lnTo>
                    <a:lnTo>
                      <a:pt x="303" y="1381"/>
                    </a:lnTo>
                    <a:lnTo>
                      <a:pt x="338" y="1377"/>
                    </a:lnTo>
                    <a:lnTo>
                      <a:pt x="373" y="1372"/>
                    </a:lnTo>
                    <a:lnTo>
                      <a:pt x="373" y="1372"/>
                    </a:lnTo>
                    <a:lnTo>
                      <a:pt x="373" y="1370"/>
                    </a:lnTo>
                    <a:lnTo>
                      <a:pt x="373" y="1370"/>
                    </a:lnTo>
                    <a:lnTo>
                      <a:pt x="373" y="1368"/>
                    </a:lnTo>
                    <a:lnTo>
                      <a:pt x="371" y="1366"/>
                    </a:lnTo>
                    <a:lnTo>
                      <a:pt x="371" y="1366"/>
                    </a:lnTo>
                    <a:lnTo>
                      <a:pt x="371" y="1364"/>
                    </a:lnTo>
                    <a:lnTo>
                      <a:pt x="371" y="1362"/>
                    </a:lnTo>
                    <a:lnTo>
                      <a:pt x="369" y="1362"/>
                    </a:lnTo>
                    <a:lnTo>
                      <a:pt x="336" y="1368"/>
                    </a:lnTo>
                    <a:lnTo>
                      <a:pt x="303" y="1372"/>
                    </a:lnTo>
                    <a:lnTo>
                      <a:pt x="269" y="1374"/>
                    </a:lnTo>
                    <a:lnTo>
                      <a:pt x="232" y="1376"/>
                    </a:lnTo>
                    <a:lnTo>
                      <a:pt x="198" y="1374"/>
                    </a:lnTo>
                    <a:lnTo>
                      <a:pt x="163" y="1372"/>
                    </a:lnTo>
                    <a:lnTo>
                      <a:pt x="129" y="1368"/>
                    </a:lnTo>
                    <a:lnTo>
                      <a:pt x="96" y="1362"/>
                    </a:lnTo>
                    <a:lnTo>
                      <a:pt x="62" y="1354"/>
                    </a:lnTo>
                    <a:lnTo>
                      <a:pt x="31" y="1345"/>
                    </a:lnTo>
                    <a:lnTo>
                      <a:pt x="0" y="1335"/>
                    </a:lnTo>
                    <a:lnTo>
                      <a:pt x="0" y="1335"/>
                    </a:lnTo>
                    <a:lnTo>
                      <a:pt x="0" y="1337"/>
                    </a:lnTo>
                    <a:lnTo>
                      <a:pt x="2" y="1339"/>
                    </a:lnTo>
                    <a:lnTo>
                      <a:pt x="2" y="1341"/>
                    </a:lnTo>
                    <a:lnTo>
                      <a:pt x="2" y="1341"/>
                    </a:lnTo>
                    <a:lnTo>
                      <a:pt x="2" y="1343"/>
                    </a:lnTo>
                    <a:lnTo>
                      <a:pt x="2" y="1345"/>
                    </a:lnTo>
                    <a:lnTo>
                      <a:pt x="2" y="1347"/>
                    </a:lnTo>
                    <a:close/>
                  </a:path>
                </a:pathLst>
              </a:custGeom>
              <a:solidFill>
                <a:srgbClr val="79c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Freeform 131"/>
              <p:cNvSpPr/>
              <p:nvPr/>
            </p:nvSpPr>
            <p:spPr>
              <a:xfrm>
                <a:off x="1890720" y="2016720"/>
                <a:ext cx="631440" cy="2315520"/>
              </a:xfrm>
              <a:custGeom>
                <a:avLst/>
                <a:gdLst>
                  <a:gd name="textAreaLeft" fmla="*/ 0 w 631440"/>
                  <a:gd name="textAreaRight" fmla="*/ 631800 w 631440"/>
                  <a:gd name="textAreaTop" fmla="*/ 0 h 2315520"/>
                  <a:gd name="textAreaBottom" fmla="*/ 2315880 h 2315520"/>
                </a:gdLst>
                <a:ahLst/>
                <a:rect l="textAreaLeft" t="textAreaTop" r="textAreaRight" b="textAreaBottom"/>
                <a:pathLst>
                  <a:path w="375" h="1375">
                    <a:moveTo>
                      <a:pt x="375" y="13"/>
                    </a:moveTo>
                    <a:lnTo>
                      <a:pt x="375" y="13"/>
                    </a:lnTo>
                    <a:lnTo>
                      <a:pt x="340" y="7"/>
                    </a:lnTo>
                    <a:lnTo>
                      <a:pt x="305" y="3"/>
                    </a:lnTo>
                    <a:lnTo>
                      <a:pt x="271" y="0"/>
                    </a:lnTo>
                    <a:lnTo>
                      <a:pt x="234" y="0"/>
                    </a:lnTo>
                    <a:lnTo>
                      <a:pt x="200" y="0"/>
                    </a:lnTo>
                    <a:lnTo>
                      <a:pt x="165" y="3"/>
                    </a:lnTo>
                    <a:lnTo>
                      <a:pt x="138" y="5"/>
                    </a:lnTo>
                    <a:lnTo>
                      <a:pt x="137" y="7"/>
                    </a:lnTo>
                    <a:lnTo>
                      <a:pt x="137" y="9"/>
                    </a:lnTo>
                    <a:lnTo>
                      <a:pt x="137" y="9"/>
                    </a:lnTo>
                    <a:lnTo>
                      <a:pt x="137" y="11"/>
                    </a:lnTo>
                    <a:lnTo>
                      <a:pt x="135" y="13"/>
                    </a:lnTo>
                    <a:lnTo>
                      <a:pt x="135" y="15"/>
                    </a:lnTo>
                    <a:lnTo>
                      <a:pt x="135" y="15"/>
                    </a:lnTo>
                    <a:lnTo>
                      <a:pt x="133" y="17"/>
                    </a:lnTo>
                    <a:lnTo>
                      <a:pt x="165" y="13"/>
                    </a:lnTo>
                    <a:lnTo>
                      <a:pt x="200" y="9"/>
                    </a:lnTo>
                    <a:lnTo>
                      <a:pt x="234" y="9"/>
                    </a:lnTo>
                    <a:lnTo>
                      <a:pt x="269" y="9"/>
                    </a:lnTo>
                    <a:lnTo>
                      <a:pt x="304" y="13"/>
                    </a:lnTo>
                    <a:lnTo>
                      <a:pt x="338" y="17"/>
                    </a:lnTo>
                    <a:lnTo>
                      <a:pt x="371" y="23"/>
                    </a:lnTo>
                    <a:lnTo>
                      <a:pt x="373" y="23"/>
                    </a:lnTo>
                    <a:lnTo>
                      <a:pt x="373" y="21"/>
                    </a:lnTo>
                    <a:lnTo>
                      <a:pt x="373" y="19"/>
                    </a:lnTo>
                    <a:lnTo>
                      <a:pt x="373" y="19"/>
                    </a:lnTo>
                    <a:lnTo>
                      <a:pt x="375" y="17"/>
                    </a:lnTo>
                    <a:lnTo>
                      <a:pt x="375" y="15"/>
                    </a:lnTo>
                    <a:lnTo>
                      <a:pt x="375" y="15"/>
                    </a:lnTo>
                    <a:lnTo>
                      <a:pt x="375" y="13"/>
                    </a:lnTo>
                    <a:close/>
                    <a:moveTo>
                      <a:pt x="4" y="1335"/>
                    </a:moveTo>
                    <a:lnTo>
                      <a:pt x="31" y="1343"/>
                    </a:lnTo>
                    <a:lnTo>
                      <a:pt x="64" y="1352"/>
                    </a:lnTo>
                    <a:lnTo>
                      <a:pt x="96" y="1360"/>
                    </a:lnTo>
                    <a:lnTo>
                      <a:pt x="131" y="1366"/>
                    </a:lnTo>
                    <a:lnTo>
                      <a:pt x="165" y="1371"/>
                    </a:lnTo>
                    <a:lnTo>
                      <a:pt x="200" y="1373"/>
                    </a:lnTo>
                    <a:lnTo>
                      <a:pt x="234" y="1375"/>
                    </a:lnTo>
                    <a:lnTo>
                      <a:pt x="271" y="1373"/>
                    </a:lnTo>
                    <a:lnTo>
                      <a:pt x="305" y="1371"/>
                    </a:lnTo>
                    <a:lnTo>
                      <a:pt x="340" y="1366"/>
                    </a:lnTo>
                    <a:lnTo>
                      <a:pt x="373" y="1360"/>
                    </a:lnTo>
                    <a:lnTo>
                      <a:pt x="373" y="1360"/>
                    </a:lnTo>
                    <a:lnTo>
                      <a:pt x="373" y="1358"/>
                    </a:lnTo>
                    <a:lnTo>
                      <a:pt x="373" y="1356"/>
                    </a:lnTo>
                    <a:lnTo>
                      <a:pt x="371" y="1356"/>
                    </a:lnTo>
                    <a:lnTo>
                      <a:pt x="371" y="1354"/>
                    </a:lnTo>
                    <a:lnTo>
                      <a:pt x="371" y="1354"/>
                    </a:lnTo>
                    <a:lnTo>
                      <a:pt x="371" y="1352"/>
                    </a:lnTo>
                    <a:lnTo>
                      <a:pt x="371" y="1350"/>
                    </a:lnTo>
                    <a:lnTo>
                      <a:pt x="338" y="1356"/>
                    </a:lnTo>
                    <a:lnTo>
                      <a:pt x="304" y="1360"/>
                    </a:lnTo>
                    <a:lnTo>
                      <a:pt x="269" y="1364"/>
                    </a:lnTo>
                    <a:lnTo>
                      <a:pt x="234" y="1364"/>
                    </a:lnTo>
                    <a:lnTo>
                      <a:pt x="200" y="1364"/>
                    </a:lnTo>
                    <a:lnTo>
                      <a:pt x="165" y="1360"/>
                    </a:lnTo>
                    <a:lnTo>
                      <a:pt x="133" y="1356"/>
                    </a:lnTo>
                    <a:lnTo>
                      <a:pt x="98" y="1350"/>
                    </a:lnTo>
                    <a:lnTo>
                      <a:pt x="66" y="1343"/>
                    </a:lnTo>
                    <a:lnTo>
                      <a:pt x="33" y="1333"/>
                    </a:lnTo>
                    <a:lnTo>
                      <a:pt x="2" y="1324"/>
                    </a:lnTo>
                    <a:lnTo>
                      <a:pt x="0" y="1324"/>
                    </a:lnTo>
                    <a:lnTo>
                      <a:pt x="0" y="1324"/>
                    </a:lnTo>
                    <a:lnTo>
                      <a:pt x="2" y="1325"/>
                    </a:lnTo>
                    <a:lnTo>
                      <a:pt x="2" y="1327"/>
                    </a:lnTo>
                    <a:lnTo>
                      <a:pt x="2" y="1329"/>
                    </a:lnTo>
                    <a:lnTo>
                      <a:pt x="2" y="1329"/>
                    </a:lnTo>
                    <a:lnTo>
                      <a:pt x="2" y="1331"/>
                    </a:lnTo>
                    <a:lnTo>
                      <a:pt x="4" y="1333"/>
                    </a:lnTo>
                    <a:lnTo>
                      <a:pt x="4" y="1335"/>
                    </a:lnTo>
                    <a:close/>
                  </a:path>
                </a:pathLst>
              </a:custGeom>
              <a:solidFill>
                <a:srgbClr val="7ac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Freeform 132"/>
              <p:cNvSpPr/>
              <p:nvPr/>
            </p:nvSpPr>
            <p:spPr>
              <a:xfrm>
                <a:off x="1890720" y="2021760"/>
                <a:ext cx="627840" cy="2301480"/>
              </a:xfrm>
              <a:custGeom>
                <a:avLst/>
                <a:gdLst>
                  <a:gd name="textAreaLeft" fmla="*/ 0 w 627840"/>
                  <a:gd name="textAreaRight" fmla="*/ 628200 w 627840"/>
                  <a:gd name="textAreaTop" fmla="*/ 0 h 2301480"/>
                  <a:gd name="textAreaBottom" fmla="*/ 2301480 h 2301480"/>
                </a:gdLst>
                <a:ahLst/>
                <a:rect l="textAreaLeft" t="textAreaTop" r="textAreaRight" b="textAreaBottom"/>
                <a:pathLst>
                  <a:path w="373" h="1367">
                    <a:moveTo>
                      <a:pt x="373" y="16"/>
                    </a:moveTo>
                    <a:lnTo>
                      <a:pt x="373" y="16"/>
                    </a:lnTo>
                    <a:lnTo>
                      <a:pt x="338" y="8"/>
                    </a:lnTo>
                    <a:lnTo>
                      <a:pt x="305" y="4"/>
                    </a:lnTo>
                    <a:lnTo>
                      <a:pt x="271" y="2"/>
                    </a:lnTo>
                    <a:lnTo>
                      <a:pt x="234" y="0"/>
                    </a:lnTo>
                    <a:lnTo>
                      <a:pt x="200" y="2"/>
                    </a:lnTo>
                    <a:lnTo>
                      <a:pt x="165" y="4"/>
                    </a:lnTo>
                    <a:lnTo>
                      <a:pt x="137" y="8"/>
                    </a:lnTo>
                    <a:lnTo>
                      <a:pt x="135" y="10"/>
                    </a:lnTo>
                    <a:lnTo>
                      <a:pt x="135" y="12"/>
                    </a:lnTo>
                    <a:lnTo>
                      <a:pt x="135" y="12"/>
                    </a:lnTo>
                    <a:lnTo>
                      <a:pt x="133" y="14"/>
                    </a:lnTo>
                    <a:lnTo>
                      <a:pt x="133" y="16"/>
                    </a:lnTo>
                    <a:lnTo>
                      <a:pt x="133" y="16"/>
                    </a:lnTo>
                    <a:lnTo>
                      <a:pt x="131" y="18"/>
                    </a:lnTo>
                    <a:lnTo>
                      <a:pt x="131" y="20"/>
                    </a:lnTo>
                    <a:lnTo>
                      <a:pt x="133" y="20"/>
                    </a:lnTo>
                    <a:lnTo>
                      <a:pt x="167" y="16"/>
                    </a:lnTo>
                    <a:lnTo>
                      <a:pt x="200" y="12"/>
                    </a:lnTo>
                    <a:lnTo>
                      <a:pt x="234" y="12"/>
                    </a:lnTo>
                    <a:lnTo>
                      <a:pt x="269" y="12"/>
                    </a:lnTo>
                    <a:lnTo>
                      <a:pt x="304" y="16"/>
                    </a:lnTo>
                    <a:lnTo>
                      <a:pt x="338" y="20"/>
                    </a:lnTo>
                    <a:lnTo>
                      <a:pt x="369" y="25"/>
                    </a:lnTo>
                    <a:lnTo>
                      <a:pt x="371" y="23"/>
                    </a:lnTo>
                    <a:lnTo>
                      <a:pt x="371" y="22"/>
                    </a:lnTo>
                    <a:lnTo>
                      <a:pt x="371" y="22"/>
                    </a:lnTo>
                    <a:lnTo>
                      <a:pt x="371" y="20"/>
                    </a:lnTo>
                    <a:lnTo>
                      <a:pt x="373" y="20"/>
                    </a:lnTo>
                    <a:lnTo>
                      <a:pt x="373" y="18"/>
                    </a:lnTo>
                    <a:lnTo>
                      <a:pt x="373" y="16"/>
                    </a:lnTo>
                    <a:lnTo>
                      <a:pt x="373" y="16"/>
                    </a:lnTo>
                    <a:close/>
                    <a:moveTo>
                      <a:pt x="2" y="1326"/>
                    </a:moveTo>
                    <a:lnTo>
                      <a:pt x="33" y="1336"/>
                    </a:lnTo>
                    <a:lnTo>
                      <a:pt x="64" y="1345"/>
                    </a:lnTo>
                    <a:lnTo>
                      <a:pt x="98" y="1353"/>
                    </a:lnTo>
                    <a:lnTo>
                      <a:pt x="131" y="1359"/>
                    </a:lnTo>
                    <a:lnTo>
                      <a:pt x="165" y="1363"/>
                    </a:lnTo>
                    <a:lnTo>
                      <a:pt x="200" y="1365"/>
                    </a:lnTo>
                    <a:lnTo>
                      <a:pt x="234" y="1367"/>
                    </a:lnTo>
                    <a:lnTo>
                      <a:pt x="271" y="1365"/>
                    </a:lnTo>
                    <a:lnTo>
                      <a:pt x="305" y="1363"/>
                    </a:lnTo>
                    <a:lnTo>
                      <a:pt x="338" y="1359"/>
                    </a:lnTo>
                    <a:lnTo>
                      <a:pt x="371" y="1353"/>
                    </a:lnTo>
                    <a:lnTo>
                      <a:pt x="371" y="1351"/>
                    </a:lnTo>
                    <a:lnTo>
                      <a:pt x="371" y="1351"/>
                    </a:lnTo>
                    <a:lnTo>
                      <a:pt x="371" y="1349"/>
                    </a:lnTo>
                    <a:lnTo>
                      <a:pt x="371" y="1347"/>
                    </a:lnTo>
                    <a:lnTo>
                      <a:pt x="369" y="1347"/>
                    </a:lnTo>
                    <a:lnTo>
                      <a:pt x="369" y="1345"/>
                    </a:lnTo>
                    <a:lnTo>
                      <a:pt x="369" y="1344"/>
                    </a:lnTo>
                    <a:lnTo>
                      <a:pt x="369" y="1344"/>
                    </a:lnTo>
                    <a:lnTo>
                      <a:pt x="338" y="1349"/>
                    </a:lnTo>
                    <a:lnTo>
                      <a:pt x="304" y="1353"/>
                    </a:lnTo>
                    <a:lnTo>
                      <a:pt x="269" y="1355"/>
                    </a:lnTo>
                    <a:lnTo>
                      <a:pt x="234" y="1357"/>
                    </a:lnTo>
                    <a:lnTo>
                      <a:pt x="200" y="1355"/>
                    </a:lnTo>
                    <a:lnTo>
                      <a:pt x="167" y="1353"/>
                    </a:lnTo>
                    <a:lnTo>
                      <a:pt x="133" y="1349"/>
                    </a:lnTo>
                    <a:lnTo>
                      <a:pt x="100" y="1342"/>
                    </a:lnTo>
                    <a:lnTo>
                      <a:pt x="67" y="1336"/>
                    </a:lnTo>
                    <a:lnTo>
                      <a:pt x="35" y="1326"/>
                    </a:lnTo>
                    <a:lnTo>
                      <a:pt x="4" y="1315"/>
                    </a:lnTo>
                    <a:lnTo>
                      <a:pt x="0" y="1313"/>
                    </a:lnTo>
                    <a:lnTo>
                      <a:pt x="0" y="1315"/>
                    </a:lnTo>
                    <a:lnTo>
                      <a:pt x="0" y="1317"/>
                    </a:lnTo>
                    <a:lnTo>
                      <a:pt x="0" y="1319"/>
                    </a:lnTo>
                    <a:lnTo>
                      <a:pt x="0" y="1321"/>
                    </a:lnTo>
                    <a:lnTo>
                      <a:pt x="0" y="1321"/>
                    </a:lnTo>
                    <a:lnTo>
                      <a:pt x="2" y="1322"/>
                    </a:lnTo>
                    <a:lnTo>
                      <a:pt x="2" y="1324"/>
                    </a:lnTo>
                    <a:lnTo>
                      <a:pt x="2" y="1326"/>
                    </a:lnTo>
                    <a:close/>
                  </a:path>
                </a:pathLst>
              </a:custGeom>
              <a:solidFill>
                <a:srgbClr val="7bc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Freeform 133"/>
              <p:cNvSpPr/>
              <p:nvPr/>
            </p:nvSpPr>
            <p:spPr>
              <a:xfrm>
                <a:off x="1887480" y="2031840"/>
                <a:ext cx="627840" cy="2281320"/>
              </a:xfrm>
              <a:custGeom>
                <a:avLst/>
                <a:gdLst>
                  <a:gd name="textAreaLeft" fmla="*/ 0 w 627840"/>
                  <a:gd name="textAreaRight" fmla="*/ 628200 w 627840"/>
                  <a:gd name="textAreaTop" fmla="*/ 0 h 2281320"/>
                  <a:gd name="textAreaBottom" fmla="*/ 2281680 h 2281320"/>
                </a:gdLst>
                <a:ahLst/>
                <a:rect l="textAreaLeft" t="textAreaTop" r="textAreaRight" b="textAreaBottom"/>
                <a:pathLst>
                  <a:path w="373" h="1355">
                    <a:moveTo>
                      <a:pt x="373" y="14"/>
                    </a:moveTo>
                    <a:lnTo>
                      <a:pt x="340" y="8"/>
                    </a:lnTo>
                    <a:lnTo>
                      <a:pt x="306" y="4"/>
                    </a:lnTo>
                    <a:lnTo>
                      <a:pt x="271" y="0"/>
                    </a:lnTo>
                    <a:lnTo>
                      <a:pt x="236" y="0"/>
                    </a:lnTo>
                    <a:lnTo>
                      <a:pt x="202" y="0"/>
                    </a:lnTo>
                    <a:lnTo>
                      <a:pt x="167" y="4"/>
                    </a:lnTo>
                    <a:lnTo>
                      <a:pt x="135" y="8"/>
                    </a:lnTo>
                    <a:lnTo>
                      <a:pt x="135" y="10"/>
                    </a:lnTo>
                    <a:lnTo>
                      <a:pt x="135" y="10"/>
                    </a:lnTo>
                    <a:lnTo>
                      <a:pt x="133" y="12"/>
                    </a:lnTo>
                    <a:lnTo>
                      <a:pt x="133" y="14"/>
                    </a:lnTo>
                    <a:lnTo>
                      <a:pt x="133" y="16"/>
                    </a:lnTo>
                    <a:lnTo>
                      <a:pt x="133" y="16"/>
                    </a:lnTo>
                    <a:lnTo>
                      <a:pt x="131" y="17"/>
                    </a:lnTo>
                    <a:lnTo>
                      <a:pt x="131" y="19"/>
                    </a:lnTo>
                    <a:lnTo>
                      <a:pt x="135" y="17"/>
                    </a:lnTo>
                    <a:lnTo>
                      <a:pt x="169" y="14"/>
                    </a:lnTo>
                    <a:lnTo>
                      <a:pt x="202" y="12"/>
                    </a:lnTo>
                    <a:lnTo>
                      <a:pt x="236" y="10"/>
                    </a:lnTo>
                    <a:lnTo>
                      <a:pt x="271" y="12"/>
                    </a:lnTo>
                    <a:lnTo>
                      <a:pt x="306" y="14"/>
                    </a:lnTo>
                    <a:lnTo>
                      <a:pt x="338" y="17"/>
                    </a:lnTo>
                    <a:lnTo>
                      <a:pt x="369" y="23"/>
                    </a:lnTo>
                    <a:lnTo>
                      <a:pt x="371" y="23"/>
                    </a:lnTo>
                    <a:lnTo>
                      <a:pt x="371" y="21"/>
                    </a:lnTo>
                    <a:lnTo>
                      <a:pt x="371" y="19"/>
                    </a:lnTo>
                    <a:lnTo>
                      <a:pt x="371" y="19"/>
                    </a:lnTo>
                    <a:lnTo>
                      <a:pt x="373" y="17"/>
                    </a:lnTo>
                    <a:lnTo>
                      <a:pt x="373" y="16"/>
                    </a:lnTo>
                    <a:lnTo>
                      <a:pt x="373" y="16"/>
                    </a:lnTo>
                    <a:lnTo>
                      <a:pt x="373" y="14"/>
                    </a:lnTo>
                    <a:close/>
                    <a:moveTo>
                      <a:pt x="2" y="1315"/>
                    </a:moveTo>
                    <a:lnTo>
                      <a:pt x="4" y="1315"/>
                    </a:lnTo>
                    <a:lnTo>
                      <a:pt x="35" y="1324"/>
                    </a:lnTo>
                    <a:lnTo>
                      <a:pt x="68" y="1334"/>
                    </a:lnTo>
                    <a:lnTo>
                      <a:pt x="100" y="1341"/>
                    </a:lnTo>
                    <a:lnTo>
                      <a:pt x="135" y="1347"/>
                    </a:lnTo>
                    <a:lnTo>
                      <a:pt x="167" y="1351"/>
                    </a:lnTo>
                    <a:lnTo>
                      <a:pt x="202" y="1355"/>
                    </a:lnTo>
                    <a:lnTo>
                      <a:pt x="236" y="1355"/>
                    </a:lnTo>
                    <a:lnTo>
                      <a:pt x="271" y="1355"/>
                    </a:lnTo>
                    <a:lnTo>
                      <a:pt x="306" y="1351"/>
                    </a:lnTo>
                    <a:lnTo>
                      <a:pt x="340" y="1347"/>
                    </a:lnTo>
                    <a:lnTo>
                      <a:pt x="373" y="1341"/>
                    </a:lnTo>
                    <a:lnTo>
                      <a:pt x="371" y="1341"/>
                    </a:lnTo>
                    <a:lnTo>
                      <a:pt x="371" y="1339"/>
                    </a:lnTo>
                    <a:lnTo>
                      <a:pt x="371" y="1338"/>
                    </a:lnTo>
                    <a:lnTo>
                      <a:pt x="371" y="1338"/>
                    </a:lnTo>
                    <a:lnTo>
                      <a:pt x="371" y="1336"/>
                    </a:lnTo>
                    <a:lnTo>
                      <a:pt x="369" y="1334"/>
                    </a:lnTo>
                    <a:lnTo>
                      <a:pt x="369" y="1334"/>
                    </a:lnTo>
                    <a:lnTo>
                      <a:pt x="369" y="1332"/>
                    </a:lnTo>
                    <a:lnTo>
                      <a:pt x="338" y="1338"/>
                    </a:lnTo>
                    <a:lnTo>
                      <a:pt x="306" y="1341"/>
                    </a:lnTo>
                    <a:lnTo>
                      <a:pt x="271" y="1343"/>
                    </a:lnTo>
                    <a:lnTo>
                      <a:pt x="236" y="1345"/>
                    </a:lnTo>
                    <a:lnTo>
                      <a:pt x="202" y="1343"/>
                    </a:lnTo>
                    <a:lnTo>
                      <a:pt x="169" y="1341"/>
                    </a:lnTo>
                    <a:lnTo>
                      <a:pt x="135" y="1338"/>
                    </a:lnTo>
                    <a:lnTo>
                      <a:pt x="102" y="1332"/>
                    </a:lnTo>
                    <a:lnTo>
                      <a:pt x="69" y="1324"/>
                    </a:lnTo>
                    <a:lnTo>
                      <a:pt x="39" y="1315"/>
                    </a:lnTo>
                    <a:lnTo>
                      <a:pt x="8" y="1305"/>
                    </a:lnTo>
                    <a:lnTo>
                      <a:pt x="0" y="1301"/>
                    </a:lnTo>
                    <a:lnTo>
                      <a:pt x="0" y="1303"/>
                    </a:lnTo>
                    <a:lnTo>
                      <a:pt x="0" y="1305"/>
                    </a:lnTo>
                    <a:lnTo>
                      <a:pt x="0" y="1307"/>
                    </a:lnTo>
                    <a:lnTo>
                      <a:pt x="2" y="1307"/>
                    </a:lnTo>
                    <a:lnTo>
                      <a:pt x="2" y="1309"/>
                    </a:lnTo>
                    <a:lnTo>
                      <a:pt x="2" y="1311"/>
                    </a:lnTo>
                    <a:lnTo>
                      <a:pt x="2" y="1313"/>
                    </a:lnTo>
                    <a:lnTo>
                      <a:pt x="2" y="1315"/>
                    </a:lnTo>
                    <a:close/>
                  </a:path>
                </a:pathLst>
              </a:custGeom>
              <a:solidFill>
                <a:srgbClr val="7cc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Freeform 134"/>
              <p:cNvSpPr/>
              <p:nvPr/>
            </p:nvSpPr>
            <p:spPr>
              <a:xfrm>
                <a:off x="1883880" y="2041920"/>
                <a:ext cx="627840" cy="2265120"/>
              </a:xfrm>
              <a:custGeom>
                <a:avLst/>
                <a:gdLst>
                  <a:gd name="textAreaLeft" fmla="*/ 0 w 627840"/>
                  <a:gd name="textAreaRight" fmla="*/ 628200 w 627840"/>
                  <a:gd name="textAreaTop" fmla="*/ 0 h 2265120"/>
                  <a:gd name="textAreaBottom" fmla="*/ 2265480 h 2265120"/>
                </a:gdLst>
                <a:ahLst/>
                <a:rect l="textAreaLeft" t="textAreaTop" r="textAreaRight" b="textAreaBottom"/>
                <a:pathLst>
                  <a:path w="373" h="1345">
                    <a:moveTo>
                      <a:pt x="373" y="13"/>
                    </a:moveTo>
                    <a:lnTo>
                      <a:pt x="342" y="8"/>
                    </a:lnTo>
                    <a:lnTo>
                      <a:pt x="308" y="4"/>
                    </a:lnTo>
                    <a:lnTo>
                      <a:pt x="273" y="0"/>
                    </a:lnTo>
                    <a:lnTo>
                      <a:pt x="238" y="0"/>
                    </a:lnTo>
                    <a:lnTo>
                      <a:pt x="204" y="0"/>
                    </a:lnTo>
                    <a:lnTo>
                      <a:pt x="171" y="4"/>
                    </a:lnTo>
                    <a:lnTo>
                      <a:pt x="137" y="8"/>
                    </a:lnTo>
                    <a:lnTo>
                      <a:pt x="135" y="8"/>
                    </a:lnTo>
                    <a:lnTo>
                      <a:pt x="135" y="10"/>
                    </a:lnTo>
                    <a:lnTo>
                      <a:pt x="135" y="10"/>
                    </a:lnTo>
                    <a:lnTo>
                      <a:pt x="133" y="11"/>
                    </a:lnTo>
                    <a:lnTo>
                      <a:pt x="133" y="13"/>
                    </a:lnTo>
                    <a:lnTo>
                      <a:pt x="133" y="15"/>
                    </a:lnTo>
                    <a:lnTo>
                      <a:pt x="131" y="15"/>
                    </a:lnTo>
                    <a:lnTo>
                      <a:pt x="131" y="17"/>
                    </a:lnTo>
                    <a:lnTo>
                      <a:pt x="131" y="19"/>
                    </a:lnTo>
                    <a:lnTo>
                      <a:pt x="139" y="17"/>
                    </a:lnTo>
                    <a:lnTo>
                      <a:pt x="171" y="13"/>
                    </a:lnTo>
                    <a:lnTo>
                      <a:pt x="206" y="11"/>
                    </a:lnTo>
                    <a:lnTo>
                      <a:pt x="238" y="10"/>
                    </a:lnTo>
                    <a:lnTo>
                      <a:pt x="273" y="11"/>
                    </a:lnTo>
                    <a:lnTo>
                      <a:pt x="308" y="13"/>
                    </a:lnTo>
                    <a:lnTo>
                      <a:pt x="340" y="17"/>
                    </a:lnTo>
                    <a:lnTo>
                      <a:pt x="371" y="23"/>
                    </a:lnTo>
                    <a:lnTo>
                      <a:pt x="371" y="21"/>
                    </a:lnTo>
                    <a:lnTo>
                      <a:pt x="371" y="21"/>
                    </a:lnTo>
                    <a:lnTo>
                      <a:pt x="371" y="19"/>
                    </a:lnTo>
                    <a:lnTo>
                      <a:pt x="371" y="17"/>
                    </a:lnTo>
                    <a:lnTo>
                      <a:pt x="373" y="17"/>
                    </a:lnTo>
                    <a:lnTo>
                      <a:pt x="373" y="15"/>
                    </a:lnTo>
                    <a:lnTo>
                      <a:pt x="373" y="13"/>
                    </a:lnTo>
                    <a:lnTo>
                      <a:pt x="373" y="13"/>
                    </a:lnTo>
                    <a:close/>
                    <a:moveTo>
                      <a:pt x="4" y="1301"/>
                    </a:moveTo>
                    <a:lnTo>
                      <a:pt x="8" y="1303"/>
                    </a:lnTo>
                    <a:lnTo>
                      <a:pt x="39" y="1314"/>
                    </a:lnTo>
                    <a:lnTo>
                      <a:pt x="71" y="1324"/>
                    </a:lnTo>
                    <a:lnTo>
                      <a:pt x="104" y="1330"/>
                    </a:lnTo>
                    <a:lnTo>
                      <a:pt x="137" y="1337"/>
                    </a:lnTo>
                    <a:lnTo>
                      <a:pt x="171" y="1341"/>
                    </a:lnTo>
                    <a:lnTo>
                      <a:pt x="204" y="1343"/>
                    </a:lnTo>
                    <a:lnTo>
                      <a:pt x="238" y="1345"/>
                    </a:lnTo>
                    <a:lnTo>
                      <a:pt x="273" y="1343"/>
                    </a:lnTo>
                    <a:lnTo>
                      <a:pt x="308" y="1341"/>
                    </a:lnTo>
                    <a:lnTo>
                      <a:pt x="342" y="1337"/>
                    </a:lnTo>
                    <a:lnTo>
                      <a:pt x="373" y="1332"/>
                    </a:lnTo>
                    <a:lnTo>
                      <a:pt x="373" y="1330"/>
                    </a:lnTo>
                    <a:lnTo>
                      <a:pt x="371" y="1328"/>
                    </a:lnTo>
                    <a:lnTo>
                      <a:pt x="371" y="1328"/>
                    </a:lnTo>
                    <a:lnTo>
                      <a:pt x="371" y="1326"/>
                    </a:lnTo>
                    <a:lnTo>
                      <a:pt x="371" y="1324"/>
                    </a:lnTo>
                    <a:lnTo>
                      <a:pt x="369" y="1324"/>
                    </a:lnTo>
                    <a:lnTo>
                      <a:pt x="369" y="1322"/>
                    </a:lnTo>
                    <a:lnTo>
                      <a:pt x="369" y="1322"/>
                    </a:lnTo>
                    <a:lnTo>
                      <a:pt x="340" y="1326"/>
                    </a:lnTo>
                    <a:lnTo>
                      <a:pt x="308" y="1330"/>
                    </a:lnTo>
                    <a:lnTo>
                      <a:pt x="273" y="1333"/>
                    </a:lnTo>
                    <a:lnTo>
                      <a:pt x="238" y="1333"/>
                    </a:lnTo>
                    <a:lnTo>
                      <a:pt x="206" y="1333"/>
                    </a:lnTo>
                    <a:lnTo>
                      <a:pt x="171" y="1330"/>
                    </a:lnTo>
                    <a:lnTo>
                      <a:pt x="139" y="1326"/>
                    </a:lnTo>
                    <a:lnTo>
                      <a:pt x="106" y="1320"/>
                    </a:lnTo>
                    <a:lnTo>
                      <a:pt x="73" y="1312"/>
                    </a:lnTo>
                    <a:lnTo>
                      <a:pt x="43" y="1305"/>
                    </a:lnTo>
                    <a:lnTo>
                      <a:pt x="12" y="1293"/>
                    </a:lnTo>
                    <a:lnTo>
                      <a:pt x="0" y="1289"/>
                    </a:lnTo>
                    <a:lnTo>
                      <a:pt x="0" y="1291"/>
                    </a:lnTo>
                    <a:lnTo>
                      <a:pt x="2" y="1293"/>
                    </a:lnTo>
                    <a:lnTo>
                      <a:pt x="2" y="1295"/>
                    </a:lnTo>
                    <a:lnTo>
                      <a:pt x="2" y="1295"/>
                    </a:lnTo>
                    <a:lnTo>
                      <a:pt x="2" y="1297"/>
                    </a:lnTo>
                    <a:lnTo>
                      <a:pt x="2" y="1299"/>
                    </a:lnTo>
                    <a:lnTo>
                      <a:pt x="2" y="1301"/>
                    </a:lnTo>
                    <a:lnTo>
                      <a:pt x="4" y="1301"/>
                    </a:lnTo>
                    <a:close/>
                  </a:path>
                </a:pathLst>
              </a:custGeom>
              <a:solidFill>
                <a:srgbClr val="7dc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Freeform 135"/>
              <p:cNvSpPr/>
              <p:nvPr/>
            </p:nvSpPr>
            <p:spPr>
              <a:xfrm>
                <a:off x="1883880" y="2048760"/>
                <a:ext cx="624600" cy="2247840"/>
              </a:xfrm>
              <a:custGeom>
                <a:avLst/>
                <a:gdLst>
                  <a:gd name="textAreaLeft" fmla="*/ 0 w 624600"/>
                  <a:gd name="textAreaRight" fmla="*/ 624960 w 624600"/>
                  <a:gd name="textAreaTop" fmla="*/ 0 h 2247840"/>
                  <a:gd name="textAreaBottom" fmla="*/ 2247840 h 2247840"/>
                </a:gdLst>
                <a:ahLst/>
                <a:rect l="textAreaLeft" t="textAreaTop" r="textAreaRight" b="textAreaBottom"/>
                <a:pathLst>
                  <a:path w="371" h="1335">
                    <a:moveTo>
                      <a:pt x="371" y="13"/>
                    </a:moveTo>
                    <a:lnTo>
                      <a:pt x="340" y="7"/>
                    </a:lnTo>
                    <a:lnTo>
                      <a:pt x="308" y="4"/>
                    </a:lnTo>
                    <a:lnTo>
                      <a:pt x="273" y="2"/>
                    </a:lnTo>
                    <a:lnTo>
                      <a:pt x="238" y="0"/>
                    </a:lnTo>
                    <a:lnTo>
                      <a:pt x="204" y="2"/>
                    </a:lnTo>
                    <a:lnTo>
                      <a:pt x="171" y="4"/>
                    </a:lnTo>
                    <a:lnTo>
                      <a:pt x="137" y="7"/>
                    </a:lnTo>
                    <a:lnTo>
                      <a:pt x="133" y="9"/>
                    </a:lnTo>
                    <a:lnTo>
                      <a:pt x="133" y="11"/>
                    </a:lnTo>
                    <a:lnTo>
                      <a:pt x="131" y="11"/>
                    </a:lnTo>
                    <a:lnTo>
                      <a:pt x="131" y="13"/>
                    </a:lnTo>
                    <a:lnTo>
                      <a:pt x="131" y="15"/>
                    </a:lnTo>
                    <a:lnTo>
                      <a:pt x="129" y="15"/>
                    </a:lnTo>
                    <a:lnTo>
                      <a:pt x="129" y="17"/>
                    </a:lnTo>
                    <a:lnTo>
                      <a:pt x="129" y="19"/>
                    </a:lnTo>
                    <a:lnTo>
                      <a:pt x="129" y="21"/>
                    </a:lnTo>
                    <a:lnTo>
                      <a:pt x="139" y="19"/>
                    </a:lnTo>
                    <a:lnTo>
                      <a:pt x="171" y="15"/>
                    </a:lnTo>
                    <a:lnTo>
                      <a:pt x="206" y="11"/>
                    </a:lnTo>
                    <a:lnTo>
                      <a:pt x="238" y="11"/>
                    </a:lnTo>
                    <a:lnTo>
                      <a:pt x="273" y="11"/>
                    </a:lnTo>
                    <a:lnTo>
                      <a:pt x="306" y="15"/>
                    </a:lnTo>
                    <a:lnTo>
                      <a:pt x="338" y="19"/>
                    </a:lnTo>
                    <a:lnTo>
                      <a:pt x="369" y="23"/>
                    </a:lnTo>
                    <a:lnTo>
                      <a:pt x="369" y="23"/>
                    </a:lnTo>
                    <a:lnTo>
                      <a:pt x="369" y="21"/>
                    </a:lnTo>
                    <a:lnTo>
                      <a:pt x="369" y="19"/>
                    </a:lnTo>
                    <a:lnTo>
                      <a:pt x="371" y="19"/>
                    </a:lnTo>
                    <a:lnTo>
                      <a:pt x="371" y="17"/>
                    </a:lnTo>
                    <a:lnTo>
                      <a:pt x="371" y="17"/>
                    </a:lnTo>
                    <a:lnTo>
                      <a:pt x="371" y="15"/>
                    </a:lnTo>
                    <a:lnTo>
                      <a:pt x="371" y="13"/>
                    </a:lnTo>
                    <a:close/>
                    <a:moveTo>
                      <a:pt x="2" y="1291"/>
                    </a:moveTo>
                    <a:lnTo>
                      <a:pt x="10" y="1295"/>
                    </a:lnTo>
                    <a:lnTo>
                      <a:pt x="41" y="1305"/>
                    </a:lnTo>
                    <a:lnTo>
                      <a:pt x="71" y="1314"/>
                    </a:lnTo>
                    <a:lnTo>
                      <a:pt x="104" y="1322"/>
                    </a:lnTo>
                    <a:lnTo>
                      <a:pt x="137" y="1328"/>
                    </a:lnTo>
                    <a:lnTo>
                      <a:pt x="171" y="1331"/>
                    </a:lnTo>
                    <a:lnTo>
                      <a:pt x="204" y="1333"/>
                    </a:lnTo>
                    <a:lnTo>
                      <a:pt x="238" y="1335"/>
                    </a:lnTo>
                    <a:lnTo>
                      <a:pt x="273" y="1333"/>
                    </a:lnTo>
                    <a:lnTo>
                      <a:pt x="308" y="1331"/>
                    </a:lnTo>
                    <a:lnTo>
                      <a:pt x="340" y="1328"/>
                    </a:lnTo>
                    <a:lnTo>
                      <a:pt x="371" y="1322"/>
                    </a:lnTo>
                    <a:lnTo>
                      <a:pt x="371" y="1320"/>
                    </a:lnTo>
                    <a:lnTo>
                      <a:pt x="369" y="1320"/>
                    </a:lnTo>
                    <a:lnTo>
                      <a:pt x="369" y="1318"/>
                    </a:lnTo>
                    <a:lnTo>
                      <a:pt x="369" y="1318"/>
                    </a:lnTo>
                    <a:lnTo>
                      <a:pt x="369" y="1316"/>
                    </a:lnTo>
                    <a:lnTo>
                      <a:pt x="369" y="1314"/>
                    </a:lnTo>
                    <a:lnTo>
                      <a:pt x="367" y="1314"/>
                    </a:lnTo>
                    <a:lnTo>
                      <a:pt x="367" y="1312"/>
                    </a:lnTo>
                    <a:lnTo>
                      <a:pt x="338" y="1318"/>
                    </a:lnTo>
                    <a:lnTo>
                      <a:pt x="306" y="1322"/>
                    </a:lnTo>
                    <a:lnTo>
                      <a:pt x="273" y="1324"/>
                    </a:lnTo>
                    <a:lnTo>
                      <a:pt x="238" y="1326"/>
                    </a:lnTo>
                    <a:lnTo>
                      <a:pt x="206" y="1324"/>
                    </a:lnTo>
                    <a:lnTo>
                      <a:pt x="171" y="1322"/>
                    </a:lnTo>
                    <a:lnTo>
                      <a:pt x="139" y="1318"/>
                    </a:lnTo>
                    <a:lnTo>
                      <a:pt x="106" y="1312"/>
                    </a:lnTo>
                    <a:lnTo>
                      <a:pt x="75" y="1305"/>
                    </a:lnTo>
                    <a:lnTo>
                      <a:pt x="45" y="1295"/>
                    </a:lnTo>
                    <a:lnTo>
                      <a:pt x="14" y="1285"/>
                    </a:lnTo>
                    <a:lnTo>
                      <a:pt x="0" y="1280"/>
                    </a:lnTo>
                    <a:lnTo>
                      <a:pt x="0" y="1281"/>
                    </a:lnTo>
                    <a:lnTo>
                      <a:pt x="0" y="1283"/>
                    </a:lnTo>
                    <a:lnTo>
                      <a:pt x="0" y="1283"/>
                    </a:lnTo>
                    <a:lnTo>
                      <a:pt x="0" y="1285"/>
                    </a:lnTo>
                    <a:lnTo>
                      <a:pt x="0" y="1287"/>
                    </a:lnTo>
                    <a:lnTo>
                      <a:pt x="2" y="1289"/>
                    </a:lnTo>
                    <a:lnTo>
                      <a:pt x="2" y="1291"/>
                    </a:lnTo>
                    <a:lnTo>
                      <a:pt x="2" y="1291"/>
                    </a:lnTo>
                    <a:close/>
                  </a:path>
                </a:pathLst>
              </a:custGeom>
              <a:solidFill>
                <a:srgbClr val="7ec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Freeform 136"/>
              <p:cNvSpPr/>
              <p:nvPr/>
            </p:nvSpPr>
            <p:spPr>
              <a:xfrm>
                <a:off x="1880640" y="2058840"/>
                <a:ext cx="627840" cy="2227680"/>
              </a:xfrm>
              <a:custGeom>
                <a:avLst/>
                <a:gdLst>
                  <a:gd name="textAreaLeft" fmla="*/ 0 w 627840"/>
                  <a:gd name="textAreaRight" fmla="*/ 628200 w 627840"/>
                  <a:gd name="textAreaTop" fmla="*/ 0 h 2227680"/>
                  <a:gd name="textAreaBottom" fmla="*/ 2228040 h 2227680"/>
                </a:gdLst>
                <a:ahLst/>
                <a:rect l="textAreaLeft" t="textAreaTop" r="textAreaRight" b="textAreaBottom"/>
                <a:pathLst>
                  <a:path w="373" h="1323">
                    <a:moveTo>
                      <a:pt x="373" y="13"/>
                    </a:moveTo>
                    <a:lnTo>
                      <a:pt x="342" y="7"/>
                    </a:lnTo>
                    <a:lnTo>
                      <a:pt x="310" y="3"/>
                    </a:lnTo>
                    <a:lnTo>
                      <a:pt x="275" y="1"/>
                    </a:lnTo>
                    <a:lnTo>
                      <a:pt x="240" y="0"/>
                    </a:lnTo>
                    <a:lnTo>
                      <a:pt x="208" y="1"/>
                    </a:lnTo>
                    <a:lnTo>
                      <a:pt x="173" y="3"/>
                    </a:lnTo>
                    <a:lnTo>
                      <a:pt x="141" y="7"/>
                    </a:lnTo>
                    <a:lnTo>
                      <a:pt x="133" y="9"/>
                    </a:lnTo>
                    <a:lnTo>
                      <a:pt x="131" y="9"/>
                    </a:lnTo>
                    <a:lnTo>
                      <a:pt x="131" y="11"/>
                    </a:lnTo>
                    <a:lnTo>
                      <a:pt x="131" y="13"/>
                    </a:lnTo>
                    <a:lnTo>
                      <a:pt x="131" y="15"/>
                    </a:lnTo>
                    <a:lnTo>
                      <a:pt x="129" y="15"/>
                    </a:lnTo>
                    <a:lnTo>
                      <a:pt x="129" y="17"/>
                    </a:lnTo>
                    <a:lnTo>
                      <a:pt x="129" y="19"/>
                    </a:lnTo>
                    <a:lnTo>
                      <a:pt x="127" y="21"/>
                    </a:lnTo>
                    <a:lnTo>
                      <a:pt x="143" y="17"/>
                    </a:lnTo>
                    <a:lnTo>
                      <a:pt x="175" y="13"/>
                    </a:lnTo>
                    <a:lnTo>
                      <a:pt x="208" y="11"/>
                    </a:lnTo>
                    <a:lnTo>
                      <a:pt x="240" y="9"/>
                    </a:lnTo>
                    <a:lnTo>
                      <a:pt x="275" y="11"/>
                    </a:lnTo>
                    <a:lnTo>
                      <a:pt x="308" y="13"/>
                    </a:lnTo>
                    <a:lnTo>
                      <a:pt x="340" y="17"/>
                    </a:lnTo>
                    <a:lnTo>
                      <a:pt x="369" y="23"/>
                    </a:lnTo>
                    <a:lnTo>
                      <a:pt x="369" y="21"/>
                    </a:lnTo>
                    <a:lnTo>
                      <a:pt x="369" y="21"/>
                    </a:lnTo>
                    <a:lnTo>
                      <a:pt x="369" y="19"/>
                    </a:lnTo>
                    <a:lnTo>
                      <a:pt x="371" y="17"/>
                    </a:lnTo>
                    <a:lnTo>
                      <a:pt x="371" y="17"/>
                    </a:lnTo>
                    <a:lnTo>
                      <a:pt x="371" y="15"/>
                    </a:lnTo>
                    <a:lnTo>
                      <a:pt x="371" y="13"/>
                    </a:lnTo>
                    <a:lnTo>
                      <a:pt x="373" y="13"/>
                    </a:lnTo>
                    <a:close/>
                    <a:moveTo>
                      <a:pt x="2" y="1279"/>
                    </a:moveTo>
                    <a:lnTo>
                      <a:pt x="14" y="1283"/>
                    </a:lnTo>
                    <a:lnTo>
                      <a:pt x="45" y="1295"/>
                    </a:lnTo>
                    <a:lnTo>
                      <a:pt x="75" y="1302"/>
                    </a:lnTo>
                    <a:lnTo>
                      <a:pt x="108" y="1310"/>
                    </a:lnTo>
                    <a:lnTo>
                      <a:pt x="141" y="1316"/>
                    </a:lnTo>
                    <a:lnTo>
                      <a:pt x="173" y="1320"/>
                    </a:lnTo>
                    <a:lnTo>
                      <a:pt x="208" y="1323"/>
                    </a:lnTo>
                    <a:lnTo>
                      <a:pt x="240" y="1323"/>
                    </a:lnTo>
                    <a:lnTo>
                      <a:pt x="275" y="1323"/>
                    </a:lnTo>
                    <a:lnTo>
                      <a:pt x="310" y="1320"/>
                    </a:lnTo>
                    <a:lnTo>
                      <a:pt x="342" y="1316"/>
                    </a:lnTo>
                    <a:lnTo>
                      <a:pt x="371" y="1312"/>
                    </a:lnTo>
                    <a:lnTo>
                      <a:pt x="371" y="1310"/>
                    </a:lnTo>
                    <a:lnTo>
                      <a:pt x="371" y="1308"/>
                    </a:lnTo>
                    <a:lnTo>
                      <a:pt x="369" y="1308"/>
                    </a:lnTo>
                    <a:lnTo>
                      <a:pt x="369" y="1306"/>
                    </a:lnTo>
                    <a:lnTo>
                      <a:pt x="369" y="1304"/>
                    </a:lnTo>
                    <a:lnTo>
                      <a:pt x="369" y="1304"/>
                    </a:lnTo>
                    <a:lnTo>
                      <a:pt x="367" y="1302"/>
                    </a:lnTo>
                    <a:lnTo>
                      <a:pt x="367" y="1300"/>
                    </a:lnTo>
                    <a:lnTo>
                      <a:pt x="340" y="1306"/>
                    </a:lnTo>
                    <a:lnTo>
                      <a:pt x="308" y="1310"/>
                    </a:lnTo>
                    <a:lnTo>
                      <a:pt x="275" y="1312"/>
                    </a:lnTo>
                    <a:lnTo>
                      <a:pt x="240" y="1314"/>
                    </a:lnTo>
                    <a:lnTo>
                      <a:pt x="208" y="1312"/>
                    </a:lnTo>
                    <a:lnTo>
                      <a:pt x="175" y="1310"/>
                    </a:lnTo>
                    <a:lnTo>
                      <a:pt x="143" y="1306"/>
                    </a:lnTo>
                    <a:lnTo>
                      <a:pt x="110" y="1300"/>
                    </a:lnTo>
                    <a:lnTo>
                      <a:pt x="77" y="1293"/>
                    </a:lnTo>
                    <a:lnTo>
                      <a:pt x="47" y="1285"/>
                    </a:lnTo>
                    <a:lnTo>
                      <a:pt x="18" y="1274"/>
                    </a:lnTo>
                    <a:lnTo>
                      <a:pt x="0" y="1268"/>
                    </a:lnTo>
                    <a:lnTo>
                      <a:pt x="0" y="1270"/>
                    </a:lnTo>
                    <a:lnTo>
                      <a:pt x="0" y="1270"/>
                    </a:lnTo>
                    <a:lnTo>
                      <a:pt x="0" y="1272"/>
                    </a:lnTo>
                    <a:lnTo>
                      <a:pt x="2" y="1274"/>
                    </a:lnTo>
                    <a:lnTo>
                      <a:pt x="2" y="1275"/>
                    </a:lnTo>
                    <a:lnTo>
                      <a:pt x="2" y="1277"/>
                    </a:lnTo>
                    <a:lnTo>
                      <a:pt x="2" y="1277"/>
                    </a:lnTo>
                    <a:lnTo>
                      <a:pt x="2" y="1279"/>
                    </a:lnTo>
                    <a:close/>
                  </a:path>
                </a:pathLst>
              </a:custGeom>
              <a:solidFill>
                <a:srgbClr val="7fc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Freeform 137"/>
              <p:cNvSpPr/>
              <p:nvPr/>
            </p:nvSpPr>
            <p:spPr>
              <a:xfrm>
                <a:off x="1879200" y="2067480"/>
                <a:ext cx="626040" cy="2213640"/>
              </a:xfrm>
              <a:custGeom>
                <a:avLst/>
                <a:gdLst>
                  <a:gd name="textAreaLeft" fmla="*/ 0 w 626040"/>
                  <a:gd name="textAreaRight" fmla="*/ 626400 w 626040"/>
                  <a:gd name="textAreaTop" fmla="*/ 0 h 2213640"/>
                  <a:gd name="textAreaBottom" fmla="*/ 2214000 h 2213640"/>
                </a:gdLst>
                <a:ahLst/>
                <a:rect l="textAreaLeft" t="textAreaTop" r="textAreaRight" b="textAreaBottom"/>
                <a:pathLst>
                  <a:path w="372" h="1315">
                    <a:moveTo>
                      <a:pt x="372" y="12"/>
                    </a:moveTo>
                    <a:lnTo>
                      <a:pt x="341" y="8"/>
                    </a:lnTo>
                    <a:lnTo>
                      <a:pt x="309" y="4"/>
                    </a:lnTo>
                    <a:lnTo>
                      <a:pt x="276" y="0"/>
                    </a:lnTo>
                    <a:lnTo>
                      <a:pt x="241" y="0"/>
                    </a:lnTo>
                    <a:lnTo>
                      <a:pt x="209" y="0"/>
                    </a:lnTo>
                    <a:lnTo>
                      <a:pt x="174" y="4"/>
                    </a:lnTo>
                    <a:lnTo>
                      <a:pt x="142" y="8"/>
                    </a:lnTo>
                    <a:lnTo>
                      <a:pt x="132" y="10"/>
                    </a:lnTo>
                    <a:lnTo>
                      <a:pt x="130" y="10"/>
                    </a:lnTo>
                    <a:lnTo>
                      <a:pt x="130" y="12"/>
                    </a:lnTo>
                    <a:lnTo>
                      <a:pt x="130" y="14"/>
                    </a:lnTo>
                    <a:lnTo>
                      <a:pt x="128" y="16"/>
                    </a:lnTo>
                    <a:lnTo>
                      <a:pt x="128" y="16"/>
                    </a:lnTo>
                    <a:lnTo>
                      <a:pt x="128" y="18"/>
                    </a:lnTo>
                    <a:lnTo>
                      <a:pt x="128" y="20"/>
                    </a:lnTo>
                    <a:lnTo>
                      <a:pt x="126" y="21"/>
                    </a:lnTo>
                    <a:lnTo>
                      <a:pt x="144" y="18"/>
                    </a:lnTo>
                    <a:lnTo>
                      <a:pt x="176" y="14"/>
                    </a:lnTo>
                    <a:lnTo>
                      <a:pt x="209" y="12"/>
                    </a:lnTo>
                    <a:lnTo>
                      <a:pt x="241" y="10"/>
                    </a:lnTo>
                    <a:lnTo>
                      <a:pt x="276" y="12"/>
                    </a:lnTo>
                    <a:lnTo>
                      <a:pt x="309" y="14"/>
                    </a:lnTo>
                    <a:lnTo>
                      <a:pt x="341" y="18"/>
                    </a:lnTo>
                    <a:lnTo>
                      <a:pt x="368" y="23"/>
                    </a:lnTo>
                    <a:lnTo>
                      <a:pt x="368" y="21"/>
                    </a:lnTo>
                    <a:lnTo>
                      <a:pt x="368" y="20"/>
                    </a:lnTo>
                    <a:lnTo>
                      <a:pt x="370" y="20"/>
                    </a:lnTo>
                    <a:lnTo>
                      <a:pt x="370" y="18"/>
                    </a:lnTo>
                    <a:lnTo>
                      <a:pt x="370" y="16"/>
                    </a:lnTo>
                    <a:lnTo>
                      <a:pt x="370" y="16"/>
                    </a:lnTo>
                    <a:lnTo>
                      <a:pt x="370" y="14"/>
                    </a:lnTo>
                    <a:lnTo>
                      <a:pt x="372" y="12"/>
                    </a:lnTo>
                    <a:close/>
                    <a:moveTo>
                      <a:pt x="3" y="1269"/>
                    </a:moveTo>
                    <a:lnTo>
                      <a:pt x="17" y="1274"/>
                    </a:lnTo>
                    <a:lnTo>
                      <a:pt x="48" y="1284"/>
                    </a:lnTo>
                    <a:lnTo>
                      <a:pt x="78" y="1294"/>
                    </a:lnTo>
                    <a:lnTo>
                      <a:pt x="109" y="1301"/>
                    </a:lnTo>
                    <a:lnTo>
                      <a:pt x="142" y="1307"/>
                    </a:lnTo>
                    <a:lnTo>
                      <a:pt x="174" y="1311"/>
                    </a:lnTo>
                    <a:lnTo>
                      <a:pt x="209" y="1313"/>
                    </a:lnTo>
                    <a:lnTo>
                      <a:pt x="241" y="1315"/>
                    </a:lnTo>
                    <a:lnTo>
                      <a:pt x="276" y="1313"/>
                    </a:lnTo>
                    <a:lnTo>
                      <a:pt x="309" y="1311"/>
                    </a:lnTo>
                    <a:lnTo>
                      <a:pt x="341" y="1307"/>
                    </a:lnTo>
                    <a:lnTo>
                      <a:pt x="370" y="1301"/>
                    </a:lnTo>
                    <a:lnTo>
                      <a:pt x="370" y="1299"/>
                    </a:lnTo>
                    <a:lnTo>
                      <a:pt x="370" y="1299"/>
                    </a:lnTo>
                    <a:lnTo>
                      <a:pt x="368" y="1297"/>
                    </a:lnTo>
                    <a:lnTo>
                      <a:pt x="368" y="1295"/>
                    </a:lnTo>
                    <a:lnTo>
                      <a:pt x="368" y="1295"/>
                    </a:lnTo>
                    <a:lnTo>
                      <a:pt x="368" y="1294"/>
                    </a:lnTo>
                    <a:lnTo>
                      <a:pt x="368" y="1292"/>
                    </a:lnTo>
                    <a:lnTo>
                      <a:pt x="366" y="1292"/>
                    </a:lnTo>
                    <a:lnTo>
                      <a:pt x="341" y="1295"/>
                    </a:lnTo>
                    <a:lnTo>
                      <a:pt x="309" y="1299"/>
                    </a:lnTo>
                    <a:lnTo>
                      <a:pt x="276" y="1303"/>
                    </a:lnTo>
                    <a:lnTo>
                      <a:pt x="241" y="1303"/>
                    </a:lnTo>
                    <a:lnTo>
                      <a:pt x="209" y="1303"/>
                    </a:lnTo>
                    <a:lnTo>
                      <a:pt x="176" y="1299"/>
                    </a:lnTo>
                    <a:lnTo>
                      <a:pt x="144" y="1295"/>
                    </a:lnTo>
                    <a:lnTo>
                      <a:pt x="111" y="1290"/>
                    </a:lnTo>
                    <a:lnTo>
                      <a:pt x="80" y="1284"/>
                    </a:lnTo>
                    <a:lnTo>
                      <a:pt x="49" y="1274"/>
                    </a:lnTo>
                    <a:lnTo>
                      <a:pt x="19" y="1265"/>
                    </a:lnTo>
                    <a:lnTo>
                      <a:pt x="0" y="1257"/>
                    </a:lnTo>
                    <a:lnTo>
                      <a:pt x="1" y="1259"/>
                    </a:lnTo>
                    <a:lnTo>
                      <a:pt x="1" y="1259"/>
                    </a:lnTo>
                    <a:lnTo>
                      <a:pt x="1" y="1261"/>
                    </a:lnTo>
                    <a:lnTo>
                      <a:pt x="1" y="1263"/>
                    </a:lnTo>
                    <a:lnTo>
                      <a:pt x="1" y="1265"/>
                    </a:lnTo>
                    <a:lnTo>
                      <a:pt x="1" y="1265"/>
                    </a:lnTo>
                    <a:lnTo>
                      <a:pt x="1" y="1267"/>
                    </a:lnTo>
                    <a:lnTo>
                      <a:pt x="3" y="1269"/>
                    </a:lnTo>
                    <a:close/>
                  </a:path>
                </a:pathLst>
              </a:custGeom>
              <a:solidFill>
                <a:srgbClr val="8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Freeform 138"/>
              <p:cNvSpPr/>
              <p:nvPr/>
            </p:nvSpPr>
            <p:spPr>
              <a:xfrm>
                <a:off x="1879200" y="2073960"/>
                <a:ext cx="623160" cy="2197440"/>
              </a:xfrm>
              <a:custGeom>
                <a:avLst/>
                <a:gdLst>
                  <a:gd name="textAreaLeft" fmla="*/ 0 w 623160"/>
                  <a:gd name="textAreaRight" fmla="*/ 623520 w 623160"/>
                  <a:gd name="textAreaTop" fmla="*/ 0 h 2197440"/>
                  <a:gd name="textAreaBottom" fmla="*/ 2197800 h 2197440"/>
                </a:gdLst>
                <a:ahLst/>
                <a:rect l="textAreaLeft" t="textAreaTop" r="textAreaRight" b="textAreaBottom"/>
                <a:pathLst>
                  <a:path w="370" h="1305">
                    <a:moveTo>
                      <a:pt x="370" y="14"/>
                    </a:moveTo>
                    <a:lnTo>
                      <a:pt x="341" y="8"/>
                    </a:lnTo>
                    <a:lnTo>
                      <a:pt x="309" y="4"/>
                    </a:lnTo>
                    <a:lnTo>
                      <a:pt x="276" y="2"/>
                    </a:lnTo>
                    <a:lnTo>
                      <a:pt x="241" y="0"/>
                    </a:lnTo>
                    <a:lnTo>
                      <a:pt x="209" y="2"/>
                    </a:lnTo>
                    <a:lnTo>
                      <a:pt x="176" y="4"/>
                    </a:lnTo>
                    <a:lnTo>
                      <a:pt x="144" y="8"/>
                    </a:lnTo>
                    <a:lnTo>
                      <a:pt x="128" y="12"/>
                    </a:lnTo>
                    <a:lnTo>
                      <a:pt x="128" y="12"/>
                    </a:lnTo>
                    <a:lnTo>
                      <a:pt x="128" y="14"/>
                    </a:lnTo>
                    <a:lnTo>
                      <a:pt x="128" y="16"/>
                    </a:lnTo>
                    <a:lnTo>
                      <a:pt x="126" y="17"/>
                    </a:lnTo>
                    <a:lnTo>
                      <a:pt x="126" y="17"/>
                    </a:lnTo>
                    <a:lnTo>
                      <a:pt x="126" y="19"/>
                    </a:lnTo>
                    <a:lnTo>
                      <a:pt x="124" y="21"/>
                    </a:lnTo>
                    <a:lnTo>
                      <a:pt x="124" y="21"/>
                    </a:lnTo>
                    <a:lnTo>
                      <a:pt x="144" y="19"/>
                    </a:lnTo>
                    <a:lnTo>
                      <a:pt x="176" y="14"/>
                    </a:lnTo>
                    <a:lnTo>
                      <a:pt x="209" y="12"/>
                    </a:lnTo>
                    <a:lnTo>
                      <a:pt x="241" y="12"/>
                    </a:lnTo>
                    <a:lnTo>
                      <a:pt x="276" y="12"/>
                    </a:lnTo>
                    <a:lnTo>
                      <a:pt x="307" y="14"/>
                    </a:lnTo>
                    <a:lnTo>
                      <a:pt x="339" y="19"/>
                    </a:lnTo>
                    <a:lnTo>
                      <a:pt x="366" y="23"/>
                    </a:lnTo>
                    <a:lnTo>
                      <a:pt x="366" y="21"/>
                    </a:lnTo>
                    <a:lnTo>
                      <a:pt x="366" y="21"/>
                    </a:lnTo>
                    <a:lnTo>
                      <a:pt x="368" y="19"/>
                    </a:lnTo>
                    <a:lnTo>
                      <a:pt x="368" y="19"/>
                    </a:lnTo>
                    <a:lnTo>
                      <a:pt x="368" y="17"/>
                    </a:lnTo>
                    <a:lnTo>
                      <a:pt x="368" y="16"/>
                    </a:lnTo>
                    <a:lnTo>
                      <a:pt x="370" y="16"/>
                    </a:lnTo>
                    <a:lnTo>
                      <a:pt x="370" y="14"/>
                    </a:lnTo>
                    <a:close/>
                    <a:moveTo>
                      <a:pt x="1" y="1259"/>
                    </a:moveTo>
                    <a:lnTo>
                      <a:pt x="19" y="1265"/>
                    </a:lnTo>
                    <a:lnTo>
                      <a:pt x="48" y="1276"/>
                    </a:lnTo>
                    <a:lnTo>
                      <a:pt x="78" y="1284"/>
                    </a:lnTo>
                    <a:lnTo>
                      <a:pt x="111" y="1291"/>
                    </a:lnTo>
                    <a:lnTo>
                      <a:pt x="144" y="1297"/>
                    </a:lnTo>
                    <a:lnTo>
                      <a:pt x="176" y="1301"/>
                    </a:lnTo>
                    <a:lnTo>
                      <a:pt x="209" y="1303"/>
                    </a:lnTo>
                    <a:lnTo>
                      <a:pt x="241" y="1305"/>
                    </a:lnTo>
                    <a:lnTo>
                      <a:pt x="276" y="1303"/>
                    </a:lnTo>
                    <a:lnTo>
                      <a:pt x="309" y="1301"/>
                    </a:lnTo>
                    <a:lnTo>
                      <a:pt x="341" y="1297"/>
                    </a:lnTo>
                    <a:lnTo>
                      <a:pt x="368" y="1291"/>
                    </a:lnTo>
                    <a:lnTo>
                      <a:pt x="368" y="1291"/>
                    </a:lnTo>
                    <a:lnTo>
                      <a:pt x="368" y="1290"/>
                    </a:lnTo>
                    <a:lnTo>
                      <a:pt x="368" y="1288"/>
                    </a:lnTo>
                    <a:lnTo>
                      <a:pt x="366" y="1288"/>
                    </a:lnTo>
                    <a:lnTo>
                      <a:pt x="366" y="1286"/>
                    </a:lnTo>
                    <a:lnTo>
                      <a:pt x="366" y="1286"/>
                    </a:lnTo>
                    <a:lnTo>
                      <a:pt x="366" y="1284"/>
                    </a:lnTo>
                    <a:lnTo>
                      <a:pt x="366" y="1282"/>
                    </a:lnTo>
                    <a:lnTo>
                      <a:pt x="339" y="1288"/>
                    </a:lnTo>
                    <a:lnTo>
                      <a:pt x="307" y="1291"/>
                    </a:lnTo>
                    <a:lnTo>
                      <a:pt x="276" y="1293"/>
                    </a:lnTo>
                    <a:lnTo>
                      <a:pt x="241" y="1295"/>
                    </a:lnTo>
                    <a:lnTo>
                      <a:pt x="209" y="1293"/>
                    </a:lnTo>
                    <a:lnTo>
                      <a:pt x="176" y="1291"/>
                    </a:lnTo>
                    <a:lnTo>
                      <a:pt x="144" y="1288"/>
                    </a:lnTo>
                    <a:lnTo>
                      <a:pt x="113" y="1282"/>
                    </a:lnTo>
                    <a:lnTo>
                      <a:pt x="82" y="1274"/>
                    </a:lnTo>
                    <a:lnTo>
                      <a:pt x="51" y="1265"/>
                    </a:lnTo>
                    <a:lnTo>
                      <a:pt x="21" y="1255"/>
                    </a:lnTo>
                    <a:lnTo>
                      <a:pt x="0" y="1247"/>
                    </a:lnTo>
                    <a:lnTo>
                      <a:pt x="0" y="1247"/>
                    </a:lnTo>
                    <a:lnTo>
                      <a:pt x="0" y="1249"/>
                    </a:lnTo>
                    <a:lnTo>
                      <a:pt x="0" y="1251"/>
                    </a:lnTo>
                    <a:lnTo>
                      <a:pt x="0" y="1253"/>
                    </a:lnTo>
                    <a:lnTo>
                      <a:pt x="1" y="1255"/>
                    </a:lnTo>
                    <a:lnTo>
                      <a:pt x="1" y="1255"/>
                    </a:lnTo>
                    <a:lnTo>
                      <a:pt x="1" y="1257"/>
                    </a:lnTo>
                    <a:lnTo>
                      <a:pt x="1" y="1259"/>
                    </a:lnTo>
                    <a:close/>
                  </a:path>
                </a:pathLst>
              </a:custGeom>
              <a:solidFill>
                <a:srgbClr val="81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Freeform 139"/>
              <p:cNvSpPr/>
              <p:nvPr/>
            </p:nvSpPr>
            <p:spPr>
              <a:xfrm>
                <a:off x="1875600" y="2084040"/>
                <a:ext cx="623160" cy="2176920"/>
              </a:xfrm>
              <a:custGeom>
                <a:avLst/>
                <a:gdLst>
                  <a:gd name="textAreaLeft" fmla="*/ 0 w 623160"/>
                  <a:gd name="textAreaRight" fmla="*/ 623520 w 623160"/>
                  <a:gd name="textAreaTop" fmla="*/ 0 h 2176920"/>
                  <a:gd name="textAreaBottom" fmla="*/ 2177280 h 2176920"/>
                </a:gdLst>
                <a:ahLst/>
                <a:rect l="textAreaLeft" t="textAreaTop" r="textAreaRight" b="textAreaBottom"/>
                <a:pathLst>
                  <a:path w="370" h="1293">
                    <a:moveTo>
                      <a:pt x="370" y="13"/>
                    </a:moveTo>
                    <a:lnTo>
                      <a:pt x="343" y="8"/>
                    </a:lnTo>
                    <a:lnTo>
                      <a:pt x="311" y="4"/>
                    </a:lnTo>
                    <a:lnTo>
                      <a:pt x="278" y="2"/>
                    </a:lnTo>
                    <a:lnTo>
                      <a:pt x="243" y="0"/>
                    </a:lnTo>
                    <a:lnTo>
                      <a:pt x="211" y="2"/>
                    </a:lnTo>
                    <a:lnTo>
                      <a:pt x="178" y="4"/>
                    </a:lnTo>
                    <a:lnTo>
                      <a:pt x="146" y="8"/>
                    </a:lnTo>
                    <a:lnTo>
                      <a:pt x="128" y="11"/>
                    </a:lnTo>
                    <a:lnTo>
                      <a:pt x="128" y="11"/>
                    </a:lnTo>
                    <a:lnTo>
                      <a:pt x="128" y="13"/>
                    </a:lnTo>
                    <a:lnTo>
                      <a:pt x="126" y="15"/>
                    </a:lnTo>
                    <a:lnTo>
                      <a:pt x="126" y="15"/>
                    </a:lnTo>
                    <a:lnTo>
                      <a:pt x="126" y="17"/>
                    </a:lnTo>
                    <a:lnTo>
                      <a:pt x="126" y="19"/>
                    </a:lnTo>
                    <a:lnTo>
                      <a:pt x="124" y="21"/>
                    </a:lnTo>
                    <a:lnTo>
                      <a:pt x="124" y="21"/>
                    </a:lnTo>
                    <a:lnTo>
                      <a:pt x="147" y="17"/>
                    </a:lnTo>
                    <a:lnTo>
                      <a:pt x="178" y="13"/>
                    </a:lnTo>
                    <a:lnTo>
                      <a:pt x="211" y="11"/>
                    </a:lnTo>
                    <a:lnTo>
                      <a:pt x="243" y="10"/>
                    </a:lnTo>
                    <a:lnTo>
                      <a:pt x="276" y="11"/>
                    </a:lnTo>
                    <a:lnTo>
                      <a:pt x="309" y="13"/>
                    </a:lnTo>
                    <a:lnTo>
                      <a:pt x="341" y="17"/>
                    </a:lnTo>
                    <a:lnTo>
                      <a:pt x="366" y="23"/>
                    </a:lnTo>
                    <a:lnTo>
                      <a:pt x="366" y="21"/>
                    </a:lnTo>
                    <a:lnTo>
                      <a:pt x="368" y="19"/>
                    </a:lnTo>
                    <a:lnTo>
                      <a:pt x="368" y="19"/>
                    </a:lnTo>
                    <a:lnTo>
                      <a:pt x="368" y="17"/>
                    </a:lnTo>
                    <a:lnTo>
                      <a:pt x="368" y="15"/>
                    </a:lnTo>
                    <a:lnTo>
                      <a:pt x="368" y="15"/>
                    </a:lnTo>
                    <a:lnTo>
                      <a:pt x="370" y="13"/>
                    </a:lnTo>
                    <a:lnTo>
                      <a:pt x="370" y="13"/>
                    </a:lnTo>
                    <a:close/>
                    <a:moveTo>
                      <a:pt x="2" y="1247"/>
                    </a:moveTo>
                    <a:lnTo>
                      <a:pt x="21" y="1255"/>
                    </a:lnTo>
                    <a:lnTo>
                      <a:pt x="51" y="1264"/>
                    </a:lnTo>
                    <a:lnTo>
                      <a:pt x="82" y="1274"/>
                    </a:lnTo>
                    <a:lnTo>
                      <a:pt x="113" y="1280"/>
                    </a:lnTo>
                    <a:lnTo>
                      <a:pt x="146" y="1285"/>
                    </a:lnTo>
                    <a:lnTo>
                      <a:pt x="178" y="1289"/>
                    </a:lnTo>
                    <a:lnTo>
                      <a:pt x="211" y="1293"/>
                    </a:lnTo>
                    <a:lnTo>
                      <a:pt x="243" y="1293"/>
                    </a:lnTo>
                    <a:lnTo>
                      <a:pt x="278" y="1293"/>
                    </a:lnTo>
                    <a:lnTo>
                      <a:pt x="311" y="1289"/>
                    </a:lnTo>
                    <a:lnTo>
                      <a:pt x="343" y="1285"/>
                    </a:lnTo>
                    <a:lnTo>
                      <a:pt x="368" y="1282"/>
                    </a:lnTo>
                    <a:lnTo>
                      <a:pt x="368" y="1280"/>
                    </a:lnTo>
                    <a:lnTo>
                      <a:pt x="368" y="1280"/>
                    </a:lnTo>
                    <a:lnTo>
                      <a:pt x="368" y="1278"/>
                    </a:lnTo>
                    <a:lnTo>
                      <a:pt x="368" y="1276"/>
                    </a:lnTo>
                    <a:lnTo>
                      <a:pt x="366" y="1276"/>
                    </a:lnTo>
                    <a:lnTo>
                      <a:pt x="366" y="1274"/>
                    </a:lnTo>
                    <a:lnTo>
                      <a:pt x="366" y="1272"/>
                    </a:lnTo>
                    <a:lnTo>
                      <a:pt x="366" y="1272"/>
                    </a:lnTo>
                    <a:lnTo>
                      <a:pt x="341" y="1276"/>
                    </a:lnTo>
                    <a:lnTo>
                      <a:pt x="309" y="1280"/>
                    </a:lnTo>
                    <a:lnTo>
                      <a:pt x="276" y="1282"/>
                    </a:lnTo>
                    <a:lnTo>
                      <a:pt x="243" y="1284"/>
                    </a:lnTo>
                    <a:lnTo>
                      <a:pt x="211" y="1282"/>
                    </a:lnTo>
                    <a:lnTo>
                      <a:pt x="178" y="1280"/>
                    </a:lnTo>
                    <a:lnTo>
                      <a:pt x="147" y="1276"/>
                    </a:lnTo>
                    <a:lnTo>
                      <a:pt x="115" y="1270"/>
                    </a:lnTo>
                    <a:lnTo>
                      <a:pt x="84" y="1262"/>
                    </a:lnTo>
                    <a:lnTo>
                      <a:pt x="55" y="1255"/>
                    </a:lnTo>
                    <a:lnTo>
                      <a:pt x="25" y="1245"/>
                    </a:lnTo>
                    <a:lnTo>
                      <a:pt x="0" y="1236"/>
                    </a:lnTo>
                    <a:lnTo>
                      <a:pt x="0" y="1236"/>
                    </a:lnTo>
                    <a:lnTo>
                      <a:pt x="0" y="1237"/>
                    </a:lnTo>
                    <a:lnTo>
                      <a:pt x="2" y="1239"/>
                    </a:lnTo>
                    <a:lnTo>
                      <a:pt x="2" y="1241"/>
                    </a:lnTo>
                    <a:lnTo>
                      <a:pt x="2" y="1241"/>
                    </a:lnTo>
                    <a:lnTo>
                      <a:pt x="2" y="1243"/>
                    </a:lnTo>
                    <a:lnTo>
                      <a:pt x="2" y="1245"/>
                    </a:lnTo>
                    <a:lnTo>
                      <a:pt x="2" y="1247"/>
                    </a:lnTo>
                    <a:close/>
                  </a:path>
                </a:pathLst>
              </a:custGeom>
              <a:solidFill>
                <a:srgbClr val="82c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Freeform 140"/>
              <p:cNvSpPr/>
              <p:nvPr/>
            </p:nvSpPr>
            <p:spPr>
              <a:xfrm>
                <a:off x="1872000" y="2094120"/>
                <a:ext cx="623160" cy="2160360"/>
              </a:xfrm>
              <a:custGeom>
                <a:avLst/>
                <a:gdLst>
                  <a:gd name="textAreaLeft" fmla="*/ 0 w 623160"/>
                  <a:gd name="textAreaRight" fmla="*/ 623520 w 623160"/>
                  <a:gd name="textAreaTop" fmla="*/ 0 h 2160360"/>
                  <a:gd name="textAreaBottom" fmla="*/ 2160720 h 2160360"/>
                </a:gdLst>
                <a:ahLst/>
                <a:rect l="textAreaLeft" t="textAreaTop" r="textAreaRight" b="textAreaBottom"/>
                <a:pathLst>
                  <a:path w="370" h="1283">
                    <a:moveTo>
                      <a:pt x="370" y="11"/>
                    </a:moveTo>
                    <a:lnTo>
                      <a:pt x="343" y="7"/>
                    </a:lnTo>
                    <a:lnTo>
                      <a:pt x="311" y="2"/>
                    </a:lnTo>
                    <a:lnTo>
                      <a:pt x="280" y="0"/>
                    </a:lnTo>
                    <a:lnTo>
                      <a:pt x="245" y="0"/>
                    </a:lnTo>
                    <a:lnTo>
                      <a:pt x="213" y="0"/>
                    </a:lnTo>
                    <a:lnTo>
                      <a:pt x="180" y="2"/>
                    </a:lnTo>
                    <a:lnTo>
                      <a:pt x="148" y="7"/>
                    </a:lnTo>
                    <a:lnTo>
                      <a:pt x="128" y="9"/>
                    </a:lnTo>
                    <a:lnTo>
                      <a:pt x="128" y="11"/>
                    </a:lnTo>
                    <a:lnTo>
                      <a:pt x="128" y="13"/>
                    </a:lnTo>
                    <a:lnTo>
                      <a:pt x="126" y="15"/>
                    </a:lnTo>
                    <a:lnTo>
                      <a:pt x="126" y="15"/>
                    </a:lnTo>
                    <a:lnTo>
                      <a:pt x="126" y="17"/>
                    </a:lnTo>
                    <a:lnTo>
                      <a:pt x="124" y="19"/>
                    </a:lnTo>
                    <a:lnTo>
                      <a:pt x="124" y="21"/>
                    </a:lnTo>
                    <a:lnTo>
                      <a:pt x="124" y="21"/>
                    </a:lnTo>
                    <a:lnTo>
                      <a:pt x="149" y="17"/>
                    </a:lnTo>
                    <a:lnTo>
                      <a:pt x="182" y="13"/>
                    </a:lnTo>
                    <a:lnTo>
                      <a:pt x="213" y="11"/>
                    </a:lnTo>
                    <a:lnTo>
                      <a:pt x="245" y="9"/>
                    </a:lnTo>
                    <a:lnTo>
                      <a:pt x="278" y="11"/>
                    </a:lnTo>
                    <a:lnTo>
                      <a:pt x="311" y="13"/>
                    </a:lnTo>
                    <a:lnTo>
                      <a:pt x="341" y="17"/>
                    </a:lnTo>
                    <a:lnTo>
                      <a:pt x="366" y="21"/>
                    </a:lnTo>
                    <a:lnTo>
                      <a:pt x="366" y="21"/>
                    </a:lnTo>
                    <a:lnTo>
                      <a:pt x="368" y="19"/>
                    </a:lnTo>
                    <a:lnTo>
                      <a:pt x="368" y="17"/>
                    </a:lnTo>
                    <a:lnTo>
                      <a:pt x="368" y="17"/>
                    </a:lnTo>
                    <a:lnTo>
                      <a:pt x="368" y="15"/>
                    </a:lnTo>
                    <a:lnTo>
                      <a:pt x="370" y="13"/>
                    </a:lnTo>
                    <a:lnTo>
                      <a:pt x="370" y="13"/>
                    </a:lnTo>
                    <a:lnTo>
                      <a:pt x="370" y="11"/>
                    </a:lnTo>
                    <a:close/>
                    <a:moveTo>
                      <a:pt x="4" y="1235"/>
                    </a:moveTo>
                    <a:lnTo>
                      <a:pt x="25" y="1243"/>
                    </a:lnTo>
                    <a:lnTo>
                      <a:pt x="55" y="1253"/>
                    </a:lnTo>
                    <a:lnTo>
                      <a:pt x="86" y="1262"/>
                    </a:lnTo>
                    <a:lnTo>
                      <a:pt x="117" y="1270"/>
                    </a:lnTo>
                    <a:lnTo>
                      <a:pt x="148" y="1276"/>
                    </a:lnTo>
                    <a:lnTo>
                      <a:pt x="180" y="1279"/>
                    </a:lnTo>
                    <a:lnTo>
                      <a:pt x="213" y="1281"/>
                    </a:lnTo>
                    <a:lnTo>
                      <a:pt x="245" y="1283"/>
                    </a:lnTo>
                    <a:lnTo>
                      <a:pt x="280" y="1281"/>
                    </a:lnTo>
                    <a:lnTo>
                      <a:pt x="311" y="1279"/>
                    </a:lnTo>
                    <a:lnTo>
                      <a:pt x="343" y="1276"/>
                    </a:lnTo>
                    <a:lnTo>
                      <a:pt x="370" y="1270"/>
                    </a:lnTo>
                    <a:lnTo>
                      <a:pt x="368" y="1270"/>
                    </a:lnTo>
                    <a:lnTo>
                      <a:pt x="368" y="1268"/>
                    </a:lnTo>
                    <a:lnTo>
                      <a:pt x="368" y="1266"/>
                    </a:lnTo>
                    <a:lnTo>
                      <a:pt x="368" y="1266"/>
                    </a:lnTo>
                    <a:lnTo>
                      <a:pt x="368" y="1264"/>
                    </a:lnTo>
                    <a:lnTo>
                      <a:pt x="366" y="1262"/>
                    </a:lnTo>
                    <a:lnTo>
                      <a:pt x="366" y="1262"/>
                    </a:lnTo>
                    <a:lnTo>
                      <a:pt x="366" y="1260"/>
                    </a:lnTo>
                    <a:lnTo>
                      <a:pt x="341" y="1264"/>
                    </a:lnTo>
                    <a:lnTo>
                      <a:pt x="311" y="1268"/>
                    </a:lnTo>
                    <a:lnTo>
                      <a:pt x="278" y="1272"/>
                    </a:lnTo>
                    <a:lnTo>
                      <a:pt x="245" y="1272"/>
                    </a:lnTo>
                    <a:lnTo>
                      <a:pt x="213" y="1272"/>
                    </a:lnTo>
                    <a:lnTo>
                      <a:pt x="182" y="1268"/>
                    </a:lnTo>
                    <a:lnTo>
                      <a:pt x="149" y="1264"/>
                    </a:lnTo>
                    <a:lnTo>
                      <a:pt x="119" y="1258"/>
                    </a:lnTo>
                    <a:lnTo>
                      <a:pt x="88" y="1253"/>
                    </a:lnTo>
                    <a:lnTo>
                      <a:pt x="59" y="1243"/>
                    </a:lnTo>
                    <a:lnTo>
                      <a:pt x="29" y="1233"/>
                    </a:lnTo>
                    <a:lnTo>
                      <a:pt x="0" y="1222"/>
                    </a:lnTo>
                    <a:lnTo>
                      <a:pt x="2" y="1224"/>
                    </a:lnTo>
                    <a:lnTo>
                      <a:pt x="2" y="1226"/>
                    </a:lnTo>
                    <a:lnTo>
                      <a:pt x="2" y="1228"/>
                    </a:lnTo>
                    <a:lnTo>
                      <a:pt x="2" y="1230"/>
                    </a:lnTo>
                    <a:lnTo>
                      <a:pt x="2" y="1230"/>
                    </a:lnTo>
                    <a:lnTo>
                      <a:pt x="2" y="1231"/>
                    </a:lnTo>
                    <a:lnTo>
                      <a:pt x="4" y="1233"/>
                    </a:lnTo>
                    <a:lnTo>
                      <a:pt x="4" y="1235"/>
                    </a:lnTo>
                    <a:close/>
                  </a:path>
                </a:pathLst>
              </a:custGeom>
              <a:solidFill>
                <a:srgbClr val="83c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Freeform 141"/>
              <p:cNvSpPr/>
              <p:nvPr/>
            </p:nvSpPr>
            <p:spPr>
              <a:xfrm>
                <a:off x="1872000" y="2100960"/>
                <a:ext cx="619560" cy="2144880"/>
              </a:xfrm>
              <a:custGeom>
                <a:avLst/>
                <a:gdLst>
                  <a:gd name="textAreaLeft" fmla="*/ 0 w 619560"/>
                  <a:gd name="textAreaRight" fmla="*/ 619560 w 619560"/>
                  <a:gd name="textAreaTop" fmla="*/ 0 h 2144880"/>
                  <a:gd name="textAreaBottom" fmla="*/ 2145240 h 2144880"/>
                </a:gdLst>
                <a:ahLst/>
                <a:rect l="textAreaLeft" t="textAreaTop" r="textAreaRight" b="textAreaBottom"/>
                <a:pathLst>
                  <a:path w="368" h="1274">
                    <a:moveTo>
                      <a:pt x="368" y="13"/>
                    </a:moveTo>
                    <a:lnTo>
                      <a:pt x="343" y="7"/>
                    </a:lnTo>
                    <a:lnTo>
                      <a:pt x="311" y="3"/>
                    </a:lnTo>
                    <a:lnTo>
                      <a:pt x="278" y="1"/>
                    </a:lnTo>
                    <a:lnTo>
                      <a:pt x="245" y="0"/>
                    </a:lnTo>
                    <a:lnTo>
                      <a:pt x="213" y="1"/>
                    </a:lnTo>
                    <a:lnTo>
                      <a:pt x="180" y="3"/>
                    </a:lnTo>
                    <a:lnTo>
                      <a:pt x="149" y="7"/>
                    </a:lnTo>
                    <a:lnTo>
                      <a:pt x="126" y="11"/>
                    </a:lnTo>
                    <a:lnTo>
                      <a:pt x="126" y="13"/>
                    </a:lnTo>
                    <a:lnTo>
                      <a:pt x="124" y="15"/>
                    </a:lnTo>
                    <a:lnTo>
                      <a:pt x="124" y="17"/>
                    </a:lnTo>
                    <a:lnTo>
                      <a:pt x="124" y="17"/>
                    </a:lnTo>
                    <a:lnTo>
                      <a:pt x="124" y="19"/>
                    </a:lnTo>
                    <a:lnTo>
                      <a:pt x="123" y="21"/>
                    </a:lnTo>
                    <a:lnTo>
                      <a:pt x="123" y="21"/>
                    </a:lnTo>
                    <a:lnTo>
                      <a:pt x="123" y="23"/>
                    </a:lnTo>
                    <a:lnTo>
                      <a:pt x="151" y="19"/>
                    </a:lnTo>
                    <a:lnTo>
                      <a:pt x="182" y="13"/>
                    </a:lnTo>
                    <a:lnTo>
                      <a:pt x="215" y="11"/>
                    </a:lnTo>
                    <a:lnTo>
                      <a:pt x="245" y="11"/>
                    </a:lnTo>
                    <a:lnTo>
                      <a:pt x="278" y="11"/>
                    </a:lnTo>
                    <a:lnTo>
                      <a:pt x="311" y="13"/>
                    </a:lnTo>
                    <a:lnTo>
                      <a:pt x="341" y="19"/>
                    </a:lnTo>
                    <a:lnTo>
                      <a:pt x="364" y="23"/>
                    </a:lnTo>
                    <a:lnTo>
                      <a:pt x="366" y="21"/>
                    </a:lnTo>
                    <a:lnTo>
                      <a:pt x="366" y="19"/>
                    </a:lnTo>
                    <a:lnTo>
                      <a:pt x="366" y="19"/>
                    </a:lnTo>
                    <a:lnTo>
                      <a:pt x="366" y="17"/>
                    </a:lnTo>
                    <a:lnTo>
                      <a:pt x="366" y="17"/>
                    </a:lnTo>
                    <a:lnTo>
                      <a:pt x="368" y="15"/>
                    </a:lnTo>
                    <a:lnTo>
                      <a:pt x="368" y="13"/>
                    </a:lnTo>
                    <a:lnTo>
                      <a:pt x="368" y="13"/>
                    </a:lnTo>
                    <a:close/>
                    <a:moveTo>
                      <a:pt x="2" y="1226"/>
                    </a:moveTo>
                    <a:lnTo>
                      <a:pt x="27" y="1235"/>
                    </a:lnTo>
                    <a:lnTo>
                      <a:pt x="57" y="1245"/>
                    </a:lnTo>
                    <a:lnTo>
                      <a:pt x="86" y="1252"/>
                    </a:lnTo>
                    <a:lnTo>
                      <a:pt x="117" y="1260"/>
                    </a:lnTo>
                    <a:lnTo>
                      <a:pt x="149" y="1266"/>
                    </a:lnTo>
                    <a:lnTo>
                      <a:pt x="180" y="1270"/>
                    </a:lnTo>
                    <a:lnTo>
                      <a:pt x="213" y="1272"/>
                    </a:lnTo>
                    <a:lnTo>
                      <a:pt x="245" y="1274"/>
                    </a:lnTo>
                    <a:lnTo>
                      <a:pt x="278" y="1272"/>
                    </a:lnTo>
                    <a:lnTo>
                      <a:pt x="311" y="1270"/>
                    </a:lnTo>
                    <a:lnTo>
                      <a:pt x="343" y="1266"/>
                    </a:lnTo>
                    <a:lnTo>
                      <a:pt x="368" y="1262"/>
                    </a:lnTo>
                    <a:lnTo>
                      <a:pt x="368" y="1260"/>
                    </a:lnTo>
                    <a:lnTo>
                      <a:pt x="366" y="1258"/>
                    </a:lnTo>
                    <a:lnTo>
                      <a:pt x="366" y="1258"/>
                    </a:lnTo>
                    <a:lnTo>
                      <a:pt x="366" y="1256"/>
                    </a:lnTo>
                    <a:lnTo>
                      <a:pt x="366" y="1256"/>
                    </a:lnTo>
                    <a:lnTo>
                      <a:pt x="366" y="1254"/>
                    </a:lnTo>
                    <a:lnTo>
                      <a:pt x="364" y="1252"/>
                    </a:lnTo>
                    <a:lnTo>
                      <a:pt x="364" y="1252"/>
                    </a:lnTo>
                    <a:lnTo>
                      <a:pt x="341" y="1256"/>
                    </a:lnTo>
                    <a:lnTo>
                      <a:pt x="311" y="1260"/>
                    </a:lnTo>
                    <a:lnTo>
                      <a:pt x="278" y="1262"/>
                    </a:lnTo>
                    <a:lnTo>
                      <a:pt x="245" y="1262"/>
                    </a:lnTo>
                    <a:lnTo>
                      <a:pt x="215" y="1262"/>
                    </a:lnTo>
                    <a:lnTo>
                      <a:pt x="182" y="1260"/>
                    </a:lnTo>
                    <a:lnTo>
                      <a:pt x="151" y="1256"/>
                    </a:lnTo>
                    <a:lnTo>
                      <a:pt x="121" y="1250"/>
                    </a:lnTo>
                    <a:lnTo>
                      <a:pt x="90" y="1243"/>
                    </a:lnTo>
                    <a:lnTo>
                      <a:pt x="59" y="1235"/>
                    </a:lnTo>
                    <a:lnTo>
                      <a:pt x="30" y="1226"/>
                    </a:lnTo>
                    <a:lnTo>
                      <a:pt x="2" y="1214"/>
                    </a:lnTo>
                    <a:lnTo>
                      <a:pt x="0" y="1212"/>
                    </a:lnTo>
                    <a:lnTo>
                      <a:pt x="0" y="1214"/>
                    </a:lnTo>
                    <a:lnTo>
                      <a:pt x="0" y="1216"/>
                    </a:lnTo>
                    <a:lnTo>
                      <a:pt x="0" y="1218"/>
                    </a:lnTo>
                    <a:lnTo>
                      <a:pt x="0" y="1218"/>
                    </a:lnTo>
                    <a:lnTo>
                      <a:pt x="2" y="1220"/>
                    </a:lnTo>
                    <a:lnTo>
                      <a:pt x="2" y="1222"/>
                    </a:lnTo>
                    <a:lnTo>
                      <a:pt x="2" y="1224"/>
                    </a:lnTo>
                    <a:lnTo>
                      <a:pt x="2" y="1226"/>
                    </a:lnTo>
                    <a:close/>
                  </a:path>
                </a:pathLst>
              </a:custGeom>
              <a:solidFill>
                <a:srgbClr val="84c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Freeform 142"/>
              <p:cNvSpPr/>
              <p:nvPr/>
            </p:nvSpPr>
            <p:spPr>
              <a:xfrm>
                <a:off x="1869120" y="2109240"/>
                <a:ext cx="619200" cy="2126160"/>
              </a:xfrm>
              <a:custGeom>
                <a:avLst/>
                <a:gdLst>
                  <a:gd name="textAreaLeft" fmla="*/ 0 w 619200"/>
                  <a:gd name="textAreaRight" fmla="*/ 619560 w 619200"/>
                  <a:gd name="textAreaTop" fmla="*/ 0 h 2126160"/>
                  <a:gd name="textAreaBottom" fmla="*/ 2126520 h 2126160"/>
                </a:gdLst>
                <a:ahLst/>
                <a:rect l="textAreaLeft" t="textAreaTop" r="textAreaRight" b="textAreaBottom"/>
                <a:pathLst>
                  <a:path w="368" h="1263">
                    <a:moveTo>
                      <a:pt x="368" y="12"/>
                    </a:moveTo>
                    <a:lnTo>
                      <a:pt x="343" y="8"/>
                    </a:lnTo>
                    <a:lnTo>
                      <a:pt x="313" y="4"/>
                    </a:lnTo>
                    <a:lnTo>
                      <a:pt x="280" y="2"/>
                    </a:lnTo>
                    <a:lnTo>
                      <a:pt x="247" y="0"/>
                    </a:lnTo>
                    <a:lnTo>
                      <a:pt x="215" y="2"/>
                    </a:lnTo>
                    <a:lnTo>
                      <a:pt x="184" y="4"/>
                    </a:lnTo>
                    <a:lnTo>
                      <a:pt x="151" y="8"/>
                    </a:lnTo>
                    <a:lnTo>
                      <a:pt x="126" y="12"/>
                    </a:lnTo>
                    <a:lnTo>
                      <a:pt x="126" y="14"/>
                    </a:lnTo>
                    <a:lnTo>
                      <a:pt x="125" y="16"/>
                    </a:lnTo>
                    <a:lnTo>
                      <a:pt x="125" y="18"/>
                    </a:lnTo>
                    <a:lnTo>
                      <a:pt x="125" y="18"/>
                    </a:lnTo>
                    <a:lnTo>
                      <a:pt x="123" y="19"/>
                    </a:lnTo>
                    <a:lnTo>
                      <a:pt x="123" y="21"/>
                    </a:lnTo>
                    <a:lnTo>
                      <a:pt x="123" y="21"/>
                    </a:lnTo>
                    <a:lnTo>
                      <a:pt x="123" y="23"/>
                    </a:lnTo>
                    <a:lnTo>
                      <a:pt x="123" y="23"/>
                    </a:lnTo>
                    <a:lnTo>
                      <a:pt x="153" y="18"/>
                    </a:lnTo>
                    <a:lnTo>
                      <a:pt x="184" y="14"/>
                    </a:lnTo>
                    <a:lnTo>
                      <a:pt x="217" y="12"/>
                    </a:lnTo>
                    <a:lnTo>
                      <a:pt x="247" y="10"/>
                    </a:lnTo>
                    <a:lnTo>
                      <a:pt x="280" y="12"/>
                    </a:lnTo>
                    <a:lnTo>
                      <a:pt x="311" y="14"/>
                    </a:lnTo>
                    <a:lnTo>
                      <a:pt x="343" y="18"/>
                    </a:lnTo>
                    <a:lnTo>
                      <a:pt x="366" y="21"/>
                    </a:lnTo>
                    <a:lnTo>
                      <a:pt x="366" y="21"/>
                    </a:lnTo>
                    <a:lnTo>
                      <a:pt x="366" y="19"/>
                    </a:lnTo>
                    <a:lnTo>
                      <a:pt x="366" y="18"/>
                    </a:lnTo>
                    <a:lnTo>
                      <a:pt x="366" y="18"/>
                    </a:lnTo>
                    <a:lnTo>
                      <a:pt x="368" y="16"/>
                    </a:lnTo>
                    <a:lnTo>
                      <a:pt x="368" y="14"/>
                    </a:lnTo>
                    <a:lnTo>
                      <a:pt x="368" y="14"/>
                    </a:lnTo>
                    <a:lnTo>
                      <a:pt x="368" y="12"/>
                    </a:lnTo>
                    <a:close/>
                    <a:moveTo>
                      <a:pt x="2" y="1213"/>
                    </a:moveTo>
                    <a:lnTo>
                      <a:pt x="31" y="1224"/>
                    </a:lnTo>
                    <a:lnTo>
                      <a:pt x="61" y="1234"/>
                    </a:lnTo>
                    <a:lnTo>
                      <a:pt x="90" y="1244"/>
                    </a:lnTo>
                    <a:lnTo>
                      <a:pt x="121" y="1249"/>
                    </a:lnTo>
                    <a:lnTo>
                      <a:pt x="151" y="1255"/>
                    </a:lnTo>
                    <a:lnTo>
                      <a:pt x="184" y="1259"/>
                    </a:lnTo>
                    <a:lnTo>
                      <a:pt x="215" y="1263"/>
                    </a:lnTo>
                    <a:lnTo>
                      <a:pt x="247" y="1263"/>
                    </a:lnTo>
                    <a:lnTo>
                      <a:pt x="280" y="1263"/>
                    </a:lnTo>
                    <a:lnTo>
                      <a:pt x="313" y="1259"/>
                    </a:lnTo>
                    <a:lnTo>
                      <a:pt x="343" y="1255"/>
                    </a:lnTo>
                    <a:lnTo>
                      <a:pt x="368" y="1251"/>
                    </a:lnTo>
                    <a:lnTo>
                      <a:pt x="368" y="1251"/>
                    </a:lnTo>
                    <a:lnTo>
                      <a:pt x="368" y="1249"/>
                    </a:lnTo>
                    <a:lnTo>
                      <a:pt x="366" y="1247"/>
                    </a:lnTo>
                    <a:lnTo>
                      <a:pt x="366" y="1247"/>
                    </a:lnTo>
                    <a:lnTo>
                      <a:pt x="366" y="1245"/>
                    </a:lnTo>
                    <a:lnTo>
                      <a:pt x="366" y="1244"/>
                    </a:lnTo>
                    <a:lnTo>
                      <a:pt x="366" y="1244"/>
                    </a:lnTo>
                    <a:lnTo>
                      <a:pt x="364" y="1242"/>
                    </a:lnTo>
                    <a:lnTo>
                      <a:pt x="343" y="1245"/>
                    </a:lnTo>
                    <a:lnTo>
                      <a:pt x="311" y="1249"/>
                    </a:lnTo>
                    <a:lnTo>
                      <a:pt x="280" y="1251"/>
                    </a:lnTo>
                    <a:lnTo>
                      <a:pt x="247" y="1253"/>
                    </a:lnTo>
                    <a:lnTo>
                      <a:pt x="217" y="1251"/>
                    </a:lnTo>
                    <a:lnTo>
                      <a:pt x="184" y="1249"/>
                    </a:lnTo>
                    <a:lnTo>
                      <a:pt x="153" y="1245"/>
                    </a:lnTo>
                    <a:lnTo>
                      <a:pt x="123" y="1240"/>
                    </a:lnTo>
                    <a:lnTo>
                      <a:pt x="92" y="1234"/>
                    </a:lnTo>
                    <a:lnTo>
                      <a:pt x="63" y="1224"/>
                    </a:lnTo>
                    <a:lnTo>
                      <a:pt x="34" y="1215"/>
                    </a:lnTo>
                    <a:lnTo>
                      <a:pt x="6" y="1203"/>
                    </a:lnTo>
                    <a:lnTo>
                      <a:pt x="0" y="1201"/>
                    </a:lnTo>
                    <a:lnTo>
                      <a:pt x="0" y="1203"/>
                    </a:lnTo>
                    <a:lnTo>
                      <a:pt x="2" y="1205"/>
                    </a:lnTo>
                    <a:lnTo>
                      <a:pt x="2" y="1205"/>
                    </a:lnTo>
                    <a:lnTo>
                      <a:pt x="2" y="1207"/>
                    </a:lnTo>
                    <a:lnTo>
                      <a:pt x="2" y="1209"/>
                    </a:lnTo>
                    <a:lnTo>
                      <a:pt x="2" y="1211"/>
                    </a:lnTo>
                    <a:lnTo>
                      <a:pt x="2" y="1213"/>
                    </a:lnTo>
                    <a:lnTo>
                      <a:pt x="2" y="1213"/>
                    </a:lnTo>
                    <a:close/>
                  </a:path>
                </a:pathLst>
              </a:custGeom>
              <a:solidFill>
                <a:srgbClr val="85c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Freeform 143"/>
              <p:cNvSpPr/>
              <p:nvPr/>
            </p:nvSpPr>
            <p:spPr>
              <a:xfrm>
                <a:off x="1869120" y="2119320"/>
                <a:ext cx="615600" cy="2106360"/>
              </a:xfrm>
              <a:custGeom>
                <a:avLst/>
                <a:gdLst>
                  <a:gd name="textAreaLeft" fmla="*/ 0 w 615600"/>
                  <a:gd name="textAreaRight" fmla="*/ 615960 w 615600"/>
                  <a:gd name="textAreaTop" fmla="*/ 0 h 2106360"/>
                  <a:gd name="textAreaBottom" fmla="*/ 2106720 h 2106360"/>
                </a:gdLst>
                <a:ahLst/>
                <a:rect l="textAreaLeft" t="textAreaTop" r="textAreaRight" b="textAreaBottom"/>
                <a:pathLst>
                  <a:path w="366" h="1251">
                    <a:moveTo>
                      <a:pt x="366" y="12"/>
                    </a:moveTo>
                    <a:lnTo>
                      <a:pt x="343" y="8"/>
                    </a:lnTo>
                    <a:lnTo>
                      <a:pt x="313" y="2"/>
                    </a:lnTo>
                    <a:lnTo>
                      <a:pt x="280" y="0"/>
                    </a:lnTo>
                    <a:lnTo>
                      <a:pt x="247" y="0"/>
                    </a:lnTo>
                    <a:lnTo>
                      <a:pt x="217" y="0"/>
                    </a:lnTo>
                    <a:lnTo>
                      <a:pt x="184" y="2"/>
                    </a:lnTo>
                    <a:lnTo>
                      <a:pt x="153" y="8"/>
                    </a:lnTo>
                    <a:lnTo>
                      <a:pt x="125" y="12"/>
                    </a:lnTo>
                    <a:lnTo>
                      <a:pt x="123" y="13"/>
                    </a:lnTo>
                    <a:lnTo>
                      <a:pt x="123" y="15"/>
                    </a:lnTo>
                    <a:lnTo>
                      <a:pt x="123" y="15"/>
                    </a:lnTo>
                    <a:lnTo>
                      <a:pt x="123" y="17"/>
                    </a:lnTo>
                    <a:lnTo>
                      <a:pt x="121" y="19"/>
                    </a:lnTo>
                    <a:lnTo>
                      <a:pt x="121" y="21"/>
                    </a:lnTo>
                    <a:lnTo>
                      <a:pt x="121" y="21"/>
                    </a:lnTo>
                    <a:lnTo>
                      <a:pt x="119" y="23"/>
                    </a:lnTo>
                    <a:lnTo>
                      <a:pt x="125" y="23"/>
                    </a:lnTo>
                    <a:lnTo>
                      <a:pt x="153" y="17"/>
                    </a:lnTo>
                    <a:lnTo>
                      <a:pt x="186" y="13"/>
                    </a:lnTo>
                    <a:lnTo>
                      <a:pt x="217" y="12"/>
                    </a:lnTo>
                    <a:lnTo>
                      <a:pt x="247" y="10"/>
                    </a:lnTo>
                    <a:lnTo>
                      <a:pt x="280" y="12"/>
                    </a:lnTo>
                    <a:lnTo>
                      <a:pt x="311" y="13"/>
                    </a:lnTo>
                    <a:lnTo>
                      <a:pt x="341" y="17"/>
                    </a:lnTo>
                    <a:lnTo>
                      <a:pt x="364" y="21"/>
                    </a:lnTo>
                    <a:lnTo>
                      <a:pt x="364" y="19"/>
                    </a:lnTo>
                    <a:lnTo>
                      <a:pt x="364" y="19"/>
                    </a:lnTo>
                    <a:lnTo>
                      <a:pt x="364" y="17"/>
                    </a:lnTo>
                    <a:lnTo>
                      <a:pt x="366" y="15"/>
                    </a:lnTo>
                    <a:lnTo>
                      <a:pt x="366" y="15"/>
                    </a:lnTo>
                    <a:lnTo>
                      <a:pt x="366" y="13"/>
                    </a:lnTo>
                    <a:lnTo>
                      <a:pt x="366" y="12"/>
                    </a:lnTo>
                    <a:lnTo>
                      <a:pt x="366" y="12"/>
                    </a:lnTo>
                    <a:close/>
                    <a:moveTo>
                      <a:pt x="2" y="1201"/>
                    </a:moveTo>
                    <a:lnTo>
                      <a:pt x="4" y="1203"/>
                    </a:lnTo>
                    <a:lnTo>
                      <a:pt x="32" y="1215"/>
                    </a:lnTo>
                    <a:lnTo>
                      <a:pt x="61" y="1224"/>
                    </a:lnTo>
                    <a:lnTo>
                      <a:pt x="92" y="1232"/>
                    </a:lnTo>
                    <a:lnTo>
                      <a:pt x="123" y="1239"/>
                    </a:lnTo>
                    <a:lnTo>
                      <a:pt x="153" y="1245"/>
                    </a:lnTo>
                    <a:lnTo>
                      <a:pt x="184" y="1249"/>
                    </a:lnTo>
                    <a:lnTo>
                      <a:pt x="217" y="1251"/>
                    </a:lnTo>
                    <a:lnTo>
                      <a:pt x="247" y="1251"/>
                    </a:lnTo>
                    <a:lnTo>
                      <a:pt x="280" y="1251"/>
                    </a:lnTo>
                    <a:lnTo>
                      <a:pt x="313" y="1249"/>
                    </a:lnTo>
                    <a:lnTo>
                      <a:pt x="343" y="1245"/>
                    </a:lnTo>
                    <a:lnTo>
                      <a:pt x="366" y="1241"/>
                    </a:lnTo>
                    <a:lnTo>
                      <a:pt x="366" y="1239"/>
                    </a:lnTo>
                    <a:lnTo>
                      <a:pt x="366" y="1238"/>
                    </a:lnTo>
                    <a:lnTo>
                      <a:pt x="366" y="1238"/>
                    </a:lnTo>
                    <a:lnTo>
                      <a:pt x="364" y="1236"/>
                    </a:lnTo>
                    <a:lnTo>
                      <a:pt x="364" y="1234"/>
                    </a:lnTo>
                    <a:lnTo>
                      <a:pt x="364" y="1234"/>
                    </a:lnTo>
                    <a:lnTo>
                      <a:pt x="364" y="1232"/>
                    </a:lnTo>
                    <a:lnTo>
                      <a:pt x="364" y="1230"/>
                    </a:lnTo>
                    <a:lnTo>
                      <a:pt x="341" y="1234"/>
                    </a:lnTo>
                    <a:lnTo>
                      <a:pt x="311" y="1238"/>
                    </a:lnTo>
                    <a:lnTo>
                      <a:pt x="280" y="1241"/>
                    </a:lnTo>
                    <a:lnTo>
                      <a:pt x="247" y="1241"/>
                    </a:lnTo>
                    <a:lnTo>
                      <a:pt x="217" y="1241"/>
                    </a:lnTo>
                    <a:lnTo>
                      <a:pt x="186" y="1238"/>
                    </a:lnTo>
                    <a:lnTo>
                      <a:pt x="153" y="1234"/>
                    </a:lnTo>
                    <a:lnTo>
                      <a:pt x="125" y="1230"/>
                    </a:lnTo>
                    <a:lnTo>
                      <a:pt x="94" y="1222"/>
                    </a:lnTo>
                    <a:lnTo>
                      <a:pt x="65" y="1215"/>
                    </a:lnTo>
                    <a:lnTo>
                      <a:pt x="36" y="1205"/>
                    </a:lnTo>
                    <a:lnTo>
                      <a:pt x="7" y="1193"/>
                    </a:lnTo>
                    <a:lnTo>
                      <a:pt x="0" y="1190"/>
                    </a:lnTo>
                    <a:lnTo>
                      <a:pt x="0" y="1192"/>
                    </a:lnTo>
                    <a:lnTo>
                      <a:pt x="0" y="1192"/>
                    </a:lnTo>
                    <a:lnTo>
                      <a:pt x="0" y="1193"/>
                    </a:lnTo>
                    <a:lnTo>
                      <a:pt x="0" y="1195"/>
                    </a:lnTo>
                    <a:lnTo>
                      <a:pt x="0" y="1197"/>
                    </a:lnTo>
                    <a:lnTo>
                      <a:pt x="2" y="1199"/>
                    </a:lnTo>
                    <a:lnTo>
                      <a:pt x="2" y="1199"/>
                    </a:lnTo>
                    <a:lnTo>
                      <a:pt x="2" y="1201"/>
                    </a:lnTo>
                    <a:close/>
                  </a:path>
                </a:pathLst>
              </a:custGeom>
              <a:solidFill>
                <a:srgbClr val="86c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Freeform 144"/>
              <p:cNvSpPr/>
              <p:nvPr/>
            </p:nvSpPr>
            <p:spPr>
              <a:xfrm>
                <a:off x="1865520" y="2126160"/>
                <a:ext cx="619200" cy="2092680"/>
              </a:xfrm>
              <a:custGeom>
                <a:avLst/>
                <a:gdLst>
                  <a:gd name="textAreaLeft" fmla="*/ 0 w 619200"/>
                  <a:gd name="textAreaRight" fmla="*/ 619560 w 619200"/>
                  <a:gd name="textAreaTop" fmla="*/ 0 h 2092680"/>
                  <a:gd name="textAreaBottom" fmla="*/ 2093040 h 2092680"/>
                </a:gdLst>
                <a:ahLst/>
                <a:rect l="textAreaLeft" t="textAreaTop" r="textAreaRight" b="textAreaBottom"/>
                <a:pathLst>
                  <a:path w="368" h="1243">
                    <a:moveTo>
                      <a:pt x="368" y="11"/>
                    </a:moveTo>
                    <a:lnTo>
                      <a:pt x="345" y="8"/>
                    </a:lnTo>
                    <a:lnTo>
                      <a:pt x="313" y="4"/>
                    </a:lnTo>
                    <a:lnTo>
                      <a:pt x="282" y="2"/>
                    </a:lnTo>
                    <a:lnTo>
                      <a:pt x="249" y="0"/>
                    </a:lnTo>
                    <a:lnTo>
                      <a:pt x="219" y="2"/>
                    </a:lnTo>
                    <a:lnTo>
                      <a:pt x="186" y="4"/>
                    </a:lnTo>
                    <a:lnTo>
                      <a:pt x="155" y="8"/>
                    </a:lnTo>
                    <a:lnTo>
                      <a:pt x="125" y="13"/>
                    </a:lnTo>
                    <a:lnTo>
                      <a:pt x="125" y="13"/>
                    </a:lnTo>
                    <a:lnTo>
                      <a:pt x="123" y="15"/>
                    </a:lnTo>
                    <a:lnTo>
                      <a:pt x="123" y="17"/>
                    </a:lnTo>
                    <a:lnTo>
                      <a:pt x="123" y="17"/>
                    </a:lnTo>
                    <a:lnTo>
                      <a:pt x="121" y="19"/>
                    </a:lnTo>
                    <a:lnTo>
                      <a:pt x="121" y="21"/>
                    </a:lnTo>
                    <a:lnTo>
                      <a:pt x="121" y="23"/>
                    </a:lnTo>
                    <a:lnTo>
                      <a:pt x="121" y="23"/>
                    </a:lnTo>
                    <a:lnTo>
                      <a:pt x="119" y="25"/>
                    </a:lnTo>
                    <a:lnTo>
                      <a:pt x="127" y="23"/>
                    </a:lnTo>
                    <a:lnTo>
                      <a:pt x="157" y="17"/>
                    </a:lnTo>
                    <a:lnTo>
                      <a:pt x="188" y="13"/>
                    </a:lnTo>
                    <a:lnTo>
                      <a:pt x="219" y="11"/>
                    </a:lnTo>
                    <a:lnTo>
                      <a:pt x="249" y="11"/>
                    </a:lnTo>
                    <a:lnTo>
                      <a:pt x="282" y="11"/>
                    </a:lnTo>
                    <a:lnTo>
                      <a:pt x="313" y="13"/>
                    </a:lnTo>
                    <a:lnTo>
                      <a:pt x="343" y="17"/>
                    </a:lnTo>
                    <a:lnTo>
                      <a:pt x="365" y="21"/>
                    </a:lnTo>
                    <a:lnTo>
                      <a:pt x="365" y="21"/>
                    </a:lnTo>
                    <a:lnTo>
                      <a:pt x="365" y="19"/>
                    </a:lnTo>
                    <a:lnTo>
                      <a:pt x="365" y="19"/>
                    </a:lnTo>
                    <a:lnTo>
                      <a:pt x="366" y="17"/>
                    </a:lnTo>
                    <a:lnTo>
                      <a:pt x="366" y="15"/>
                    </a:lnTo>
                    <a:lnTo>
                      <a:pt x="366" y="15"/>
                    </a:lnTo>
                    <a:lnTo>
                      <a:pt x="366" y="13"/>
                    </a:lnTo>
                    <a:lnTo>
                      <a:pt x="368" y="11"/>
                    </a:lnTo>
                    <a:close/>
                    <a:moveTo>
                      <a:pt x="2" y="1191"/>
                    </a:moveTo>
                    <a:lnTo>
                      <a:pt x="8" y="1193"/>
                    </a:lnTo>
                    <a:lnTo>
                      <a:pt x="36" y="1205"/>
                    </a:lnTo>
                    <a:lnTo>
                      <a:pt x="65" y="1214"/>
                    </a:lnTo>
                    <a:lnTo>
                      <a:pt x="94" y="1224"/>
                    </a:lnTo>
                    <a:lnTo>
                      <a:pt x="125" y="1230"/>
                    </a:lnTo>
                    <a:lnTo>
                      <a:pt x="155" y="1235"/>
                    </a:lnTo>
                    <a:lnTo>
                      <a:pt x="186" y="1239"/>
                    </a:lnTo>
                    <a:lnTo>
                      <a:pt x="219" y="1241"/>
                    </a:lnTo>
                    <a:lnTo>
                      <a:pt x="249" y="1243"/>
                    </a:lnTo>
                    <a:lnTo>
                      <a:pt x="282" y="1241"/>
                    </a:lnTo>
                    <a:lnTo>
                      <a:pt x="313" y="1239"/>
                    </a:lnTo>
                    <a:lnTo>
                      <a:pt x="345" y="1235"/>
                    </a:lnTo>
                    <a:lnTo>
                      <a:pt x="366" y="1232"/>
                    </a:lnTo>
                    <a:lnTo>
                      <a:pt x="366" y="1230"/>
                    </a:lnTo>
                    <a:lnTo>
                      <a:pt x="366" y="1230"/>
                    </a:lnTo>
                    <a:lnTo>
                      <a:pt x="366" y="1228"/>
                    </a:lnTo>
                    <a:lnTo>
                      <a:pt x="366" y="1226"/>
                    </a:lnTo>
                    <a:lnTo>
                      <a:pt x="365" y="1226"/>
                    </a:lnTo>
                    <a:lnTo>
                      <a:pt x="365" y="1224"/>
                    </a:lnTo>
                    <a:lnTo>
                      <a:pt x="365" y="1222"/>
                    </a:lnTo>
                    <a:lnTo>
                      <a:pt x="365" y="1222"/>
                    </a:lnTo>
                    <a:lnTo>
                      <a:pt x="343" y="1226"/>
                    </a:lnTo>
                    <a:lnTo>
                      <a:pt x="313" y="1230"/>
                    </a:lnTo>
                    <a:lnTo>
                      <a:pt x="282" y="1232"/>
                    </a:lnTo>
                    <a:lnTo>
                      <a:pt x="249" y="1232"/>
                    </a:lnTo>
                    <a:lnTo>
                      <a:pt x="219" y="1232"/>
                    </a:lnTo>
                    <a:lnTo>
                      <a:pt x="188" y="1230"/>
                    </a:lnTo>
                    <a:lnTo>
                      <a:pt x="157" y="1226"/>
                    </a:lnTo>
                    <a:lnTo>
                      <a:pt x="127" y="1220"/>
                    </a:lnTo>
                    <a:lnTo>
                      <a:pt x="98" y="1212"/>
                    </a:lnTo>
                    <a:lnTo>
                      <a:pt x="69" y="1205"/>
                    </a:lnTo>
                    <a:lnTo>
                      <a:pt x="40" y="1195"/>
                    </a:lnTo>
                    <a:lnTo>
                      <a:pt x="11" y="1184"/>
                    </a:lnTo>
                    <a:lnTo>
                      <a:pt x="0" y="1180"/>
                    </a:lnTo>
                    <a:lnTo>
                      <a:pt x="0" y="1180"/>
                    </a:lnTo>
                    <a:lnTo>
                      <a:pt x="0" y="1182"/>
                    </a:lnTo>
                    <a:lnTo>
                      <a:pt x="0" y="1184"/>
                    </a:lnTo>
                    <a:lnTo>
                      <a:pt x="2" y="1186"/>
                    </a:lnTo>
                    <a:lnTo>
                      <a:pt x="2" y="1188"/>
                    </a:lnTo>
                    <a:lnTo>
                      <a:pt x="2" y="1188"/>
                    </a:lnTo>
                    <a:lnTo>
                      <a:pt x="2" y="1189"/>
                    </a:lnTo>
                    <a:lnTo>
                      <a:pt x="2" y="1191"/>
                    </a:lnTo>
                    <a:close/>
                  </a:path>
                </a:pathLst>
              </a:custGeom>
              <a:solidFill>
                <a:srgbClr val="87c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Freeform 145"/>
              <p:cNvSpPr/>
              <p:nvPr/>
            </p:nvSpPr>
            <p:spPr>
              <a:xfrm>
                <a:off x="1862280" y="2136240"/>
                <a:ext cx="619560" cy="2072880"/>
              </a:xfrm>
              <a:custGeom>
                <a:avLst/>
                <a:gdLst>
                  <a:gd name="textAreaLeft" fmla="*/ 0 w 619560"/>
                  <a:gd name="textAreaRight" fmla="*/ 619560 w 619560"/>
                  <a:gd name="textAreaTop" fmla="*/ 0 h 2072880"/>
                  <a:gd name="textAreaBottom" fmla="*/ 2073240 h 2072880"/>
                </a:gdLst>
                <a:ahLst/>
                <a:rect l="textAreaLeft" t="textAreaTop" r="textAreaRight" b="textAreaBottom"/>
                <a:pathLst>
                  <a:path w="368" h="1231">
                    <a:moveTo>
                      <a:pt x="368" y="11"/>
                    </a:moveTo>
                    <a:lnTo>
                      <a:pt x="345" y="7"/>
                    </a:lnTo>
                    <a:lnTo>
                      <a:pt x="315" y="3"/>
                    </a:lnTo>
                    <a:lnTo>
                      <a:pt x="284" y="2"/>
                    </a:lnTo>
                    <a:lnTo>
                      <a:pt x="251" y="0"/>
                    </a:lnTo>
                    <a:lnTo>
                      <a:pt x="221" y="2"/>
                    </a:lnTo>
                    <a:lnTo>
                      <a:pt x="190" y="3"/>
                    </a:lnTo>
                    <a:lnTo>
                      <a:pt x="157" y="7"/>
                    </a:lnTo>
                    <a:lnTo>
                      <a:pt x="129" y="13"/>
                    </a:lnTo>
                    <a:lnTo>
                      <a:pt x="123" y="13"/>
                    </a:lnTo>
                    <a:lnTo>
                      <a:pt x="123" y="15"/>
                    </a:lnTo>
                    <a:lnTo>
                      <a:pt x="123" y="17"/>
                    </a:lnTo>
                    <a:lnTo>
                      <a:pt x="123" y="17"/>
                    </a:lnTo>
                    <a:lnTo>
                      <a:pt x="121" y="19"/>
                    </a:lnTo>
                    <a:lnTo>
                      <a:pt x="121" y="21"/>
                    </a:lnTo>
                    <a:lnTo>
                      <a:pt x="121" y="23"/>
                    </a:lnTo>
                    <a:lnTo>
                      <a:pt x="119" y="23"/>
                    </a:lnTo>
                    <a:lnTo>
                      <a:pt x="119" y="25"/>
                    </a:lnTo>
                    <a:lnTo>
                      <a:pt x="130" y="23"/>
                    </a:lnTo>
                    <a:lnTo>
                      <a:pt x="159" y="17"/>
                    </a:lnTo>
                    <a:lnTo>
                      <a:pt x="190" y="13"/>
                    </a:lnTo>
                    <a:lnTo>
                      <a:pt x="221" y="11"/>
                    </a:lnTo>
                    <a:lnTo>
                      <a:pt x="251" y="9"/>
                    </a:lnTo>
                    <a:lnTo>
                      <a:pt x="284" y="11"/>
                    </a:lnTo>
                    <a:lnTo>
                      <a:pt x="315" y="13"/>
                    </a:lnTo>
                    <a:lnTo>
                      <a:pt x="344" y="17"/>
                    </a:lnTo>
                    <a:lnTo>
                      <a:pt x="365" y="21"/>
                    </a:lnTo>
                    <a:lnTo>
                      <a:pt x="365" y="19"/>
                    </a:lnTo>
                    <a:lnTo>
                      <a:pt x="365" y="19"/>
                    </a:lnTo>
                    <a:lnTo>
                      <a:pt x="367" y="17"/>
                    </a:lnTo>
                    <a:lnTo>
                      <a:pt x="367" y="15"/>
                    </a:lnTo>
                    <a:lnTo>
                      <a:pt x="367" y="15"/>
                    </a:lnTo>
                    <a:lnTo>
                      <a:pt x="367" y="13"/>
                    </a:lnTo>
                    <a:lnTo>
                      <a:pt x="367" y="13"/>
                    </a:lnTo>
                    <a:lnTo>
                      <a:pt x="368" y="11"/>
                    </a:lnTo>
                    <a:close/>
                    <a:moveTo>
                      <a:pt x="4" y="1180"/>
                    </a:moveTo>
                    <a:lnTo>
                      <a:pt x="11" y="1183"/>
                    </a:lnTo>
                    <a:lnTo>
                      <a:pt x="40" y="1195"/>
                    </a:lnTo>
                    <a:lnTo>
                      <a:pt x="69" y="1205"/>
                    </a:lnTo>
                    <a:lnTo>
                      <a:pt x="98" y="1212"/>
                    </a:lnTo>
                    <a:lnTo>
                      <a:pt x="129" y="1220"/>
                    </a:lnTo>
                    <a:lnTo>
                      <a:pt x="157" y="1224"/>
                    </a:lnTo>
                    <a:lnTo>
                      <a:pt x="190" y="1228"/>
                    </a:lnTo>
                    <a:lnTo>
                      <a:pt x="221" y="1231"/>
                    </a:lnTo>
                    <a:lnTo>
                      <a:pt x="251" y="1231"/>
                    </a:lnTo>
                    <a:lnTo>
                      <a:pt x="284" y="1231"/>
                    </a:lnTo>
                    <a:lnTo>
                      <a:pt x="315" y="1228"/>
                    </a:lnTo>
                    <a:lnTo>
                      <a:pt x="345" y="1224"/>
                    </a:lnTo>
                    <a:lnTo>
                      <a:pt x="368" y="1220"/>
                    </a:lnTo>
                    <a:lnTo>
                      <a:pt x="367" y="1220"/>
                    </a:lnTo>
                    <a:lnTo>
                      <a:pt x="367" y="1218"/>
                    </a:lnTo>
                    <a:lnTo>
                      <a:pt x="367" y="1216"/>
                    </a:lnTo>
                    <a:lnTo>
                      <a:pt x="367" y="1216"/>
                    </a:lnTo>
                    <a:lnTo>
                      <a:pt x="367" y="1214"/>
                    </a:lnTo>
                    <a:lnTo>
                      <a:pt x="365" y="1214"/>
                    </a:lnTo>
                    <a:lnTo>
                      <a:pt x="365" y="1212"/>
                    </a:lnTo>
                    <a:lnTo>
                      <a:pt x="365" y="1210"/>
                    </a:lnTo>
                    <a:lnTo>
                      <a:pt x="344" y="1214"/>
                    </a:lnTo>
                    <a:lnTo>
                      <a:pt x="315" y="1218"/>
                    </a:lnTo>
                    <a:lnTo>
                      <a:pt x="284" y="1220"/>
                    </a:lnTo>
                    <a:lnTo>
                      <a:pt x="251" y="1222"/>
                    </a:lnTo>
                    <a:lnTo>
                      <a:pt x="221" y="1220"/>
                    </a:lnTo>
                    <a:lnTo>
                      <a:pt x="190" y="1218"/>
                    </a:lnTo>
                    <a:lnTo>
                      <a:pt x="159" y="1214"/>
                    </a:lnTo>
                    <a:lnTo>
                      <a:pt x="130" y="1208"/>
                    </a:lnTo>
                    <a:lnTo>
                      <a:pt x="100" y="1203"/>
                    </a:lnTo>
                    <a:lnTo>
                      <a:pt x="71" y="1195"/>
                    </a:lnTo>
                    <a:lnTo>
                      <a:pt x="44" y="1185"/>
                    </a:lnTo>
                    <a:lnTo>
                      <a:pt x="15" y="1174"/>
                    </a:lnTo>
                    <a:lnTo>
                      <a:pt x="0" y="1166"/>
                    </a:lnTo>
                    <a:lnTo>
                      <a:pt x="2" y="1168"/>
                    </a:lnTo>
                    <a:lnTo>
                      <a:pt x="2" y="1170"/>
                    </a:lnTo>
                    <a:lnTo>
                      <a:pt x="2" y="1172"/>
                    </a:lnTo>
                    <a:lnTo>
                      <a:pt x="2" y="1174"/>
                    </a:lnTo>
                    <a:lnTo>
                      <a:pt x="2" y="1174"/>
                    </a:lnTo>
                    <a:lnTo>
                      <a:pt x="2" y="1176"/>
                    </a:lnTo>
                    <a:lnTo>
                      <a:pt x="2" y="1178"/>
                    </a:lnTo>
                    <a:lnTo>
                      <a:pt x="4" y="1180"/>
                    </a:lnTo>
                    <a:close/>
                  </a:path>
                </a:pathLst>
              </a:custGeom>
              <a:solidFill>
                <a:srgbClr val="88c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Freeform 146"/>
              <p:cNvSpPr/>
              <p:nvPr/>
            </p:nvSpPr>
            <p:spPr>
              <a:xfrm>
                <a:off x="1862280" y="2144520"/>
                <a:ext cx="617760" cy="2055960"/>
              </a:xfrm>
              <a:custGeom>
                <a:avLst/>
                <a:gdLst>
                  <a:gd name="textAreaLeft" fmla="*/ 0 w 617760"/>
                  <a:gd name="textAreaRight" fmla="*/ 618120 w 617760"/>
                  <a:gd name="textAreaTop" fmla="*/ 0 h 2055960"/>
                  <a:gd name="textAreaBottom" fmla="*/ 2055960 h 2055960"/>
                </a:gdLst>
                <a:ahLst/>
                <a:rect l="textAreaLeft" t="textAreaTop" r="textAreaRight" b="textAreaBottom"/>
                <a:pathLst>
                  <a:path w="367" h="1221">
                    <a:moveTo>
                      <a:pt x="367" y="10"/>
                    </a:moveTo>
                    <a:lnTo>
                      <a:pt x="345" y="6"/>
                    </a:lnTo>
                    <a:lnTo>
                      <a:pt x="315" y="2"/>
                    </a:lnTo>
                    <a:lnTo>
                      <a:pt x="284" y="0"/>
                    </a:lnTo>
                    <a:lnTo>
                      <a:pt x="251" y="0"/>
                    </a:lnTo>
                    <a:lnTo>
                      <a:pt x="221" y="0"/>
                    </a:lnTo>
                    <a:lnTo>
                      <a:pt x="190" y="2"/>
                    </a:lnTo>
                    <a:lnTo>
                      <a:pt x="159" y="6"/>
                    </a:lnTo>
                    <a:lnTo>
                      <a:pt x="129" y="12"/>
                    </a:lnTo>
                    <a:lnTo>
                      <a:pt x="121" y="14"/>
                    </a:lnTo>
                    <a:lnTo>
                      <a:pt x="121" y="16"/>
                    </a:lnTo>
                    <a:lnTo>
                      <a:pt x="121" y="18"/>
                    </a:lnTo>
                    <a:lnTo>
                      <a:pt x="119" y="18"/>
                    </a:lnTo>
                    <a:lnTo>
                      <a:pt x="119" y="20"/>
                    </a:lnTo>
                    <a:lnTo>
                      <a:pt x="119" y="21"/>
                    </a:lnTo>
                    <a:lnTo>
                      <a:pt x="119" y="23"/>
                    </a:lnTo>
                    <a:lnTo>
                      <a:pt x="117" y="23"/>
                    </a:lnTo>
                    <a:lnTo>
                      <a:pt x="117" y="25"/>
                    </a:lnTo>
                    <a:lnTo>
                      <a:pt x="130" y="23"/>
                    </a:lnTo>
                    <a:lnTo>
                      <a:pt x="161" y="18"/>
                    </a:lnTo>
                    <a:lnTo>
                      <a:pt x="190" y="14"/>
                    </a:lnTo>
                    <a:lnTo>
                      <a:pt x="221" y="12"/>
                    </a:lnTo>
                    <a:lnTo>
                      <a:pt x="251" y="10"/>
                    </a:lnTo>
                    <a:lnTo>
                      <a:pt x="282" y="12"/>
                    </a:lnTo>
                    <a:lnTo>
                      <a:pt x="313" y="14"/>
                    </a:lnTo>
                    <a:lnTo>
                      <a:pt x="344" y="18"/>
                    </a:lnTo>
                    <a:lnTo>
                      <a:pt x="363" y="21"/>
                    </a:lnTo>
                    <a:lnTo>
                      <a:pt x="363" y="20"/>
                    </a:lnTo>
                    <a:lnTo>
                      <a:pt x="365" y="18"/>
                    </a:lnTo>
                    <a:lnTo>
                      <a:pt x="365" y="18"/>
                    </a:lnTo>
                    <a:lnTo>
                      <a:pt x="365" y="16"/>
                    </a:lnTo>
                    <a:lnTo>
                      <a:pt x="365" y="14"/>
                    </a:lnTo>
                    <a:lnTo>
                      <a:pt x="365" y="14"/>
                    </a:lnTo>
                    <a:lnTo>
                      <a:pt x="367" y="12"/>
                    </a:lnTo>
                    <a:lnTo>
                      <a:pt x="367" y="10"/>
                    </a:lnTo>
                    <a:close/>
                    <a:moveTo>
                      <a:pt x="2" y="1169"/>
                    </a:moveTo>
                    <a:lnTo>
                      <a:pt x="13" y="1173"/>
                    </a:lnTo>
                    <a:lnTo>
                      <a:pt x="42" y="1184"/>
                    </a:lnTo>
                    <a:lnTo>
                      <a:pt x="71" y="1194"/>
                    </a:lnTo>
                    <a:lnTo>
                      <a:pt x="100" y="1201"/>
                    </a:lnTo>
                    <a:lnTo>
                      <a:pt x="129" y="1209"/>
                    </a:lnTo>
                    <a:lnTo>
                      <a:pt x="159" y="1215"/>
                    </a:lnTo>
                    <a:lnTo>
                      <a:pt x="190" y="1219"/>
                    </a:lnTo>
                    <a:lnTo>
                      <a:pt x="221" y="1221"/>
                    </a:lnTo>
                    <a:lnTo>
                      <a:pt x="251" y="1221"/>
                    </a:lnTo>
                    <a:lnTo>
                      <a:pt x="284" y="1221"/>
                    </a:lnTo>
                    <a:lnTo>
                      <a:pt x="315" y="1219"/>
                    </a:lnTo>
                    <a:lnTo>
                      <a:pt x="345" y="1215"/>
                    </a:lnTo>
                    <a:lnTo>
                      <a:pt x="367" y="1211"/>
                    </a:lnTo>
                    <a:lnTo>
                      <a:pt x="367" y="1209"/>
                    </a:lnTo>
                    <a:lnTo>
                      <a:pt x="365" y="1209"/>
                    </a:lnTo>
                    <a:lnTo>
                      <a:pt x="365" y="1207"/>
                    </a:lnTo>
                    <a:lnTo>
                      <a:pt x="365" y="1205"/>
                    </a:lnTo>
                    <a:lnTo>
                      <a:pt x="365" y="1205"/>
                    </a:lnTo>
                    <a:lnTo>
                      <a:pt x="365" y="1203"/>
                    </a:lnTo>
                    <a:lnTo>
                      <a:pt x="363" y="1201"/>
                    </a:lnTo>
                    <a:lnTo>
                      <a:pt x="363" y="1201"/>
                    </a:lnTo>
                    <a:lnTo>
                      <a:pt x="344" y="1205"/>
                    </a:lnTo>
                    <a:lnTo>
                      <a:pt x="313" y="1209"/>
                    </a:lnTo>
                    <a:lnTo>
                      <a:pt x="282" y="1211"/>
                    </a:lnTo>
                    <a:lnTo>
                      <a:pt x="251" y="1211"/>
                    </a:lnTo>
                    <a:lnTo>
                      <a:pt x="221" y="1211"/>
                    </a:lnTo>
                    <a:lnTo>
                      <a:pt x="190" y="1209"/>
                    </a:lnTo>
                    <a:lnTo>
                      <a:pt x="161" y="1205"/>
                    </a:lnTo>
                    <a:lnTo>
                      <a:pt x="130" y="1200"/>
                    </a:lnTo>
                    <a:lnTo>
                      <a:pt x="102" y="1192"/>
                    </a:lnTo>
                    <a:lnTo>
                      <a:pt x="73" y="1184"/>
                    </a:lnTo>
                    <a:lnTo>
                      <a:pt x="46" y="1175"/>
                    </a:lnTo>
                    <a:lnTo>
                      <a:pt x="19" y="1165"/>
                    </a:lnTo>
                    <a:lnTo>
                      <a:pt x="0" y="1155"/>
                    </a:lnTo>
                    <a:lnTo>
                      <a:pt x="0" y="1157"/>
                    </a:lnTo>
                    <a:lnTo>
                      <a:pt x="0" y="1159"/>
                    </a:lnTo>
                    <a:lnTo>
                      <a:pt x="0" y="1161"/>
                    </a:lnTo>
                    <a:lnTo>
                      <a:pt x="0" y="1161"/>
                    </a:lnTo>
                    <a:lnTo>
                      <a:pt x="2" y="1163"/>
                    </a:lnTo>
                    <a:lnTo>
                      <a:pt x="2" y="1165"/>
                    </a:lnTo>
                    <a:lnTo>
                      <a:pt x="2" y="1167"/>
                    </a:lnTo>
                    <a:lnTo>
                      <a:pt x="2" y="1169"/>
                    </a:lnTo>
                    <a:close/>
                  </a:path>
                </a:pathLst>
              </a:custGeom>
              <a:solidFill>
                <a:srgbClr val="89c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Freeform 147"/>
              <p:cNvSpPr/>
              <p:nvPr/>
            </p:nvSpPr>
            <p:spPr>
              <a:xfrm>
                <a:off x="1858680" y="2151360"/>
                <a:ext cx="617760" cy="2042280"/>
              </a:xfrm>
              <a:custGeom>
                <a:avLst/>
                <a:gdLst>
                  <a:gd name="textAreaLeft" fmla="*/ 0 w 617760"/>
                  <a:gd name="textAreaRight" fmla="*/ 618120 w 617760"/>
                  <a:gd name="textAreaTop" fmla="*/ 0 h 2042280"/>
                  <a:gd name="textAreaBottom" fmla="*/ 2042640 h 2042280"/>
                </a:gdLst>
                <a:ahLst/>
                <a:rect l="textAreaLeft" t="textAreaTop" r="textAreaRight" b="textAreaBottom"/>
                <a:pathLst>
                  <a:path w="367" h="1213">
                    <a:moveTo>
                      <a:pt x="367" y="12"/>
                    </a:moveTo>
                    <a:lnTo>
                      <a:pt x="346" y="8"/>
                    </a:lnTo>
                    <a:lnTo>
                      <a:pt x="317" y="4"/>
                    </a:lnTo>
                    <a:lnTo>
                      <a:pt x="286" y="2"/>
                    </a:lnTo>
                    <a:lnTo>
                      <a:pt x="253" y="0"/>
                    </a:lnTo>
                    <a:lnTo>
                      <a:pt x="223" y="2"/>
                    </a:lnTo>
                    <a:lnTo>
                      <a:pt x="192" y="4"/>
                    </a:lnTo>
                    <a:lnTo>
                      <a:pt x="161" y="8"/>
                    </a:lnTo>
                    <a:lnTo>
                      <a:pt x="132" y="14"/>
                    </a:lnTo>
                    <a:lnTo>
                      <a:pt x="121" y="16"/>
                    </a:lnTo>
                    <a:lnTo>
                      <a:pt x="121" y="17"/>
                    </a:lnTo>
                    <a:lnTo>
                      <a:pt x="121" y="19"/>
                    </a:lnTo>
                    <a:lnTo>
                      <a:pt x="119" y="19"/>
                    </a:lnTo>
                    <a:lnTo>
                      <a:pt x="119" y="21"/>
                    </a:lnTo>
                    <a:lnTo>
                      <a:pt x="119" y="23"/>
                    </a:lnTo>
                    <a:lnTo>
                      <a:pt x="117" y="25"/>
                    </a:lnTo>
                    <a:lnTo>
                      <a:pt x="117" y="25"/>
                    </a:lnTo>
                    <a:lnTo>
                      <a:pt x="117" y="27"/>
                    </a:lnTo>
                    <a:lnTo>
                      <a:pt x="134" y="23"/>
                    </a:lnTo>
                    <a:lnTo>
                      <a:pt x="163" y="17"/>
                    </a:lnTo>
                    <a:lnTo>
                      <a:pt x="194" y="14"/>
                    </a:lnTo>
                    <a:lnTo>
                      <a:pt x="223" y="12"/>
                    </a:lnTo>
                    <a:lnTo>
                      <a:pt x="253" y="12"/>
                    </a:lnTo>
                    <a:lnTo>
                      <a:pt x="284" y="12"/>
                    </a:lnTo>
                    <a:lnTo>
                      <a:pt x="315" y="14"/>
                    </a:lnTo>
                    <a:lnTo>
                      <a:pt x="346" y="17"/>
                    </a:lnTo>
                    <a:lnTo>
                      <a:pt x="363" y="21"/>
                    </a:lnTo>
                    <a:lnTo>
                      <a:pt x="365" y="21"/>
                    </a:lnTo>
                    <a:lnTo>
                      <a:pt x="365" y="19"/>
                    </a:lnTo>
                    <a:lnTo>
                      <a:pt x="365" y="17"/>
                    </a:lnTo>
                    <a:lnTo>
                      <a:pt x="365" y="17"/>
                    </a:lnTo>
                    <a:lnTo>
                      <a:pt x="365" y="16"/>
                    </a:lnTo>
                    <a:lnTo>
                      <a:pt x="367" y="14"/>
                    </a:lnTo>
                    <a:lnTo>
                      <a:pt x="367" y="14"/>
                    </a:lnTo>
                    <a:lnTo>
                      <a:pt x="367" y="12"/>
                    </a:lnTo>
                    <a:close/>
                    <a:moveTo>
                      <a:pt x="2" y="1157"/>
                    </a:moveTo>
                    <a:lnTo>
                      <a:pt x="17" y="1165"/>
                    </a:lnTo>
                    <a:lnTo>
                      <a:pt x="46" y="1176"/>
                    </a:lnTo>
                    <a:lnTo>
                      <a:pt x="73" y="1186"/>
                    </a:lnTo>
                    <a:lnTo>
                      <a:pt x="102" y="1194"/>
                    </a:lnTo>
                    <a:lnTo>
                      <a:pt x="132" y="1199"/>
                    </a:lnTo>
                    <a:lnTo>
                      <a:pt x="161" y="1205"/>
                    </a:lnTo>
                    <a:lnTo>
                      <a:pt x="192" y="1209"/>
                    </a:lnTo>
                    <a:lnTo>
                      <a:pt x="223" y="1211"/>
                    </a:lnTo>
                    <a:lnTo>
                      <a:pt x="253" y="1213"/>
                    </a:lnTo>
                    <a:lnTo>
                      <a:pt x="286" y="1211"/>
                    </a:lnTo>
                    <a:lnTo>
                      <a:pt x="317" y="1209"/>
                    </a:lnTo>
                    <a:lnTo>
                      <a:pt x="346" y="1205"/>
                    </a:lnTo>
                    <a:lnTo>
                      <a:pt x="367" y="1201"/>
                    </a:lnTo>
                    <a:lnTo>
                      <a:pt x="367" y="1201"/>
                    </a:lnTo>
                    <a:lnTo>
                      <a:pt x="367" y="1199"/>
                    </a:lnTo>
                    <a:lnTo>
                      <a:pt x="365" y="1197"/>
                    </a:lnTo>
                    <a:lnTo>
                      <a:pt x="365" y="1197"/>
                    </a:lnTo>
                    <a:lnTo>
                      <a:pt x="365" y="1196"/>
                    </a:lnTo>
                    <a:lnTo>
                      <a:pt x="365" y="1194"/>
                    </a:lnTo>
                    <a:lnTo>
                      <a:pt x="365" y="1194"/>
                    </a:lnTo>
                    <a:lnTo>
                      <a:pt x="365" y="1192"/>
                    </a:lnTo>
                    <a:lnTo>
                      <a:pt x="346" y="1196"/>
                    </a:lnTo>
                    <a:lnTo>
                      <a:pt x="315" y="1199"/>
                    </a:lnTo>
                    <a:lnTo>
                      <a:pt x="284" y="1201"/>
                    </a:lnTo>
                    <a:lnTo>
                      <a:pt x="253" y="1201"/>
                    </a:lnTo>
                    <a:lnTo>
                      <a:pt x="223" y="1201"/>
                    </a:lnTo>
                    <a:lnTo>
                      <a:pt x="194" y="1199"/>
                    </a:lnTo>
                    <a:lnTo>
                      <a:pt x="163" y="1196"/>
                    </a:lnTo>
                    <a:lnTo>
                      <a:pt x="134" y="1190"/>
                    </a:lnTo>
                    <a:lnTo>
                      <a:pt x="106" y="1184"/>
                    </a:lnTo>
                    <a:lnTo>
                      <a:pt x="77" y="1174"/>
                    </a:lnTo>
                    <a:lnTo>
                      <a:pt x="50" y="1167"/>
                    </a:lnTo>
                    <a:lnTo>
                      <a:pt x="23" y="1155"/>
                    </a:lnTo>
                    <a:lnTo>
                      <a:pt x="0" y="1146"/>
                    </a:lnTo>
                    <a:lnTo>
                      <a:pt x="0" y="1148"/>
                    </a:lnTo>
                    <a:lnTo>
                      <a:pt x="2" y="1150"/>
                    </a:lnTo>
                    <a:lnTo>
                      <a:pt x="2" y="1150"/>
                    </a:lnTo>
                    <a:lnTo>
                      <a:pt x="2" y="1151"/>
                    </a:lnTo>
                    <a:lnTo>
                      <a:pt x="2" y="1153"/>
                    </a:lnTo>
                    <a:lnTo>
                      <a:pt x="2" y="1155"/>
                    </a:lnTo>
                    <a:lnTo>
                      <a:pt x="2" y="1157"/>
                    </a:lnTo>
                    <a:lnTo>
                      <a:pt x="2" y="1157"/>
                    </a:lnTo>
                    <a:close/>
                  </a:path>
                </a:pathLst>
              </a:custGeom>
              <a:solidFill>
                <a:srgbClr val="8ad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Freeform 148"/>
              <p:cNvSpPr/>
              <p:nvPr/>
            </p:nvSpPr>
            <p:spPr>
              <a:xfrm>
                <a:off x="1858680" y="2161800"/>
                <a:ext cx="614520" cy="2022120"/>
              </a:xfrm>
              <a:custGeom>
                <a:avLst/>
                <a:gdLst>
                  <a:gd name="textAreaLeft" fmla="*/ 0 w 614520"/>
                  <a:gd name="textAreaRight" fmla="*/ 614880 w 614520"/>
                  <a:gd name="textAreaTop" fmla="*/ 0 h 2022120"/>
                  <a:gd name="textAreaBottom" fmla="*/ 2022480 h 2022120"/>
                </a:gdLst>
                <a:ahLst/>
                <a:rect l="textAreaLeft" t="textAreaTop" r="textAreaRight" b="textAreaBottom"/>
                <a:pathLst>
                  <a:path w="365" h="1201">
                    <a:moveTo>
                      <a:pt x="365" y="11"/>
                    </a:moveTo>
                    <a:lnTo>
                      <a:pt x="346" y="8"/>
                    </a:lnTo>
                    <a:lnTo>
                      <a:pt x="315" y="4"/>
                    </a:lnTo>
                    <a:lnTo>
                      <a:pt x="284" y="2"/>
                    </a:lnTo>
                    <a:lnTo>
                      <a:pt x="253" y="0"/>
                    </a:lnTo>
                    <a:lnTo>
                      <a:pt x="223" y="2"/>
                    </a:lnTo>
                    <a:lnTo>
                      <a:pt x="192" y="4"/>
                    </a:lnTo>
                    <a:lnTo>
                      <a:pt x="163" y="8"/>
                    </a:lnTo>
                    <a:lnTo>
                      <a:pt x="132" y="13"/>
                    </a:lnTo>
                    <a:lnTo>
                      <a:pt x="119" y="15"/>
                    </a:lnTo>
                    <a:lnTo>
                      <a:pt x="119" y="17"/>
                    </a:lnTo>
                    <a:lnTo>
                      <a:pt x="117" y="19"/>
                    </a:lnTo>
                    <a:lnTo>
                      <a:pt x="117" y="19"/>
                    </a:lnTo>
                    <a:lnTo>
                      <a:pt x="117" y="21"/>
                    </a:lnTo>
                    <a:lnTo>
                      <a:pt x="117" y="23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7"/>
                    </a:lnTo>
                    <a:lnTo>
                      <a:pt x="134" y="23"/>
                    </a:lnTo>
                    <a:lnTo>
                      <a:pt x="163" y="17"/>
                    </a:lnTo>
                    <a:lnTo>
                      <a:pt x="194" y="13"/>
                    </a:lnTo>
                    <a:lnTo>
                      <a:pt x="223" y="11"/>
                    </a:lnTo>
                    <a:lnTo>
                      <a:pt x="253" y="11"/>
                    </a:lnTo>
                    <a:lnTo>
                      <a:pt x="284" y="11"/>
                    </a:lnTo>
                    <a:lnTo>
                      <a:pt x="315" y="13"/>
                    </a:lnTo>
                    <a:lnTo>
                      <a:pt x="344" y="17"/>
                    </a:lnTo>
                    <a:lnTo>
                      <a:pt x="363" y="21"/>
                    </a:lnTo>
                    <a:lnTo>
                      <a:pt x="363" y="19"/>
                    </a:lnTo>
                    <a:lnTo>
                      <a:pt x="363" y="17"/>
                    </a:lnTo>
                    <a:lnTo>
                      <a:pt x="363" y="17"/>
                    </a:lnTo>
                    <a:lnTo>
                      <a:pt x="363" y="15"/>
                    </a:lnTo>
                    <a:lnTo>
                      <a:pt x="365" y="15"/>
                    </a:lnTo>
                    <a:lnTo>
                      <a:pt x="365" y="13"/>
                    </a:lnTo>
                    <a:lnTo>
                      <a:pt x="365" y="11"/>
                    </a:lnTo>
                    <a:lnTo>
                      <a:pt x="365" y="11"/>
                    </a:lnTo>
                    <a:close/>
                    <a:moveTo>
                      <a:pt x="2" y="1145"/>
                    </a:moveTo>
                    <a:lnTo>
                      <a:pt x="21" y="1155"/>
                    </a:lnTo>
                    <a:lnTo>
                      <a:pt x="48" y="1165"/>
                    </a:lnTo>
                    <a:lnTo>
                      <a:pt x="75" y="1174"/>
                    </a:lnTo>
                    <a:lnTo>
                      <a:pt x="104" y="1182"/>
                    </a:lnTo>
                    <a:lnTo>
                      <a:pt x="132" y="1190"/>
                    </a:lnTo>
                    <a:lnTo>
                      <a:pt x="163" y="1195"/>
                    </a:lnTo>
                    <a:lnTo>
                      <a:pt x="192" y="1199"/>
                    </a:lnTo>
                    <a:lnTo>
                      <a:pt x="223" y="1201"/>
                    </a:lnTo>
                    <a:lnTo>
                      <a:pt x="253" y="1201"/>
                    </a:lnTo>
                    <a:lnTo>
                      <a:pt x="284" y="1201"/>
                    </a:lnTo>
                    <a:lnTo>
                      <a:pt x="315" y="1199"/>
                    </a:lnTo>
                    <a:lnTo>
                      <a:pt x="346" y="1195"/>
                    </a:lnTo>
                    <a:lnTo>
                      <a:pt x="365" y="1191"/>
                    </a:lnTo>
                    <a:lnTo>
                      <a:pt x="365" y="1190"/>
                    </a:lnTo>
                    <a:lnTo>
                      <a:pt x="365" y="1188"/>
                    </a:lnTo>
                    <a:lnTo>
                      <a:pt x="365" y="1188"/>
                    </a:lnTo>
                    <a:lnTo>
                      <a:pt x="365" y="1186"/>
                    </a:lnTo>
                    <a:lnTo>
                      <a:pt x="363" y="1184"/>
                    </a:lnTo>
                    <a:lnTo>
                      <a:pt x="363" y="1184"/>
                    </a:lnTo>
                    <a:lnTo>
                      <a:pt x="363" y="1182"/>
                    </a:lnTo>
                    <a:lnTo>
                      <a:pt x="363" y="1182"/>
                    </a:lnTo>
                    <a:lnTo>
                      <a:pt x="344" y="1184"/>
                    </a:lnTo>
                    <a:lnTo>
                      <a:pt x="315" y="1188"/>
                    </a:lnTo>
                    <a:lnTo>
                      <a:pt x="284" y="1190"/>
                    </a:lnTo>
                    <a:lnTo>
                      <a:pt x="253" y="1191"/>
                    </a:lnTo>
                    <a:lnTo>
                      <a:pt x="223" y="1190"/>
                    </a:lnTo>
                    <a:lnTo>
                      <a:pt x="194" y="1188"/>
                    </a:lnTo>
                    <a:lnTo>
                      <a:pt x="163" y="1184"/>
                    </a:lnTo>
                    <a:lnTo>
                      <a:pt x="134" y="1180"/>
                    </a:lnTo>
                    <a:lnTo>
                      <a:pt x="106" y="1172"/>
                    </a:lnTo>
                    <a:lnTo>
                      <a:pt x="79" y="1165"/>
                    </a:lnTo>
                    <a:lnTo>
                      <a:pt x="52" y="1155"/>
                    </a:lnTo>
                    <a:lnTo>
                      <a:pt x="25" y="1145"/>
                    </a:lnTo>
                    <a:lnTo>
                      <a:pt x="0" y="1134"/>
                    </a:lnTo>
                    <a:lnTo>
                      <a:pt x="0" y="1136"/>
                    </a:lnTo>
                    <a:lnTo>
                      <a:pt x="0" y="1136"/>
                    </a:lnTo>
                    <a:lnTo>
                      <a:pt x="0" y="1138"/>
                    </a:lnTo>
                    <a:lnTo>
                      <a:pt x="0" y="1140"/>
                    </a:lnTo>
                    <a:lnTo>
                      <a:pt x="0" y="1142"/>
                    </a:lnTo>
                    <a:lnTo>
                      <a:pt x="2" y="1144"/>
                    </a:lnTo>
                    <a:lnTo>
                      <a:pt x="2" y="1144"/>
                    </a:lnTo>
                    <a:lnTo>
                      <a:pt x="2" y="1145"/>
                    </a:lnTo>
                    <a:close/>
                  </a:path>
                </a:pathLst>
              </a:custGeom>
              <a:solidFill>
                <a:srgbClr val="8bd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Freeform 149"/>
              <p:cNvSpPr/>
              <p:nvPr/>
            </p:nvSpPr>
            <p:spPr>
              <a:xfrm>
                <a:off x="1855440" y="2171520"/>
                <a:ext cx="618120" cy="2001960"/>
              </a:xfrm>
              <a:custGeom>
                <a:avLst/>
                <a:gdLst>
                  <a:gd name="textAreaLeft" fmla="*/ 0 w 618120"/>
                  <a:gd name="textAreaRight" fmla="*/ 618120 w 618120"/>
                  <a:gd name="textAreaTop" fmla="*/ 0 h 2001960"/>
                  <a:gd name="textAreaBottom" fmla="*/ 2002320 h 2001960"/>
                </a:gdLst>
                <a:ahLst/>
                <a:rect l="textAreaLeft" t="textAreaTop" r="textAreaRight" b="textAreaBottom"/>
                <a:pathLst>
                  <a:path w="367" h="1189">
                    <a:moveTo>
                      <a:pt x="365" y="9"/>
                    </a:moveTo>
                    <a:lnTo>
                      <a:pt x="348" y="5"/>
                    </a:lnTo>
                    <a:lnTo>
                      <a:pt x="317" y="2"/>
                    </a:lnTo>
                    <a:lnTo>
                      <a:pt x="286" y="0"/>
                    </a:lnTo>
                    <a:lnTo>
                      <a:pt x="255" y="0"/>
                    </a:lnTo>
                    <a:lnTo>
                      <a:pt x="225" y="0"/>
                    </a:lnTo>
                    <a:lnTo>
                      <a:pt x="196" y="2"/>
                    </a:lnTo>
                    <a:lnTo>
                      <a:pt x="165" y="5"/>
                    </a:lnTo>
                    <a:lnTo>
                      <a:pt x="136" y="11"/>
                    </a:lnTo>
                    <a:lnTo>
                      <a:pt x="119" y="15"/>
                    </a:lnTo>
                    <a:lnTo>
                      <a:pt x="119" y="17"/>
                    </a:lnTo>
                    <a:lnTo>
                      <a:pt x="117" y="19"/>
                    </a:lnTo>
                    <a:lnTo>
                      <a:pt x="117" y="19"/>
                    </a:lnTo>
                    <a:lnTo>
                      <a:pt x="117" y="21"/>
                    </a:lnTo>
                    <a:lnTo>
                      <a:pt x="117" y="23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7"/>
                    </a:lnTo>
                    <a:lnTo>
                      <a:pt x="138" y="21"/>
                    </a:lnTo>
                    <a:lnTo>
                      <a:pt x="167" y="17"/>
                    </a:lnTo>
                    <a:lnTo>
                      <a:pt x="196" y="13"/>
                    </a:lnTo>
                    <a:lnTo>
                      <a:pt x="227" y="11"/>
                    </a:lnTo>
                    <a:lnTo>
                      <a:pt x="255" y="9"/>
                    </a:lnTo>
                    <a:lnTo>
                      <a:pt x="286" y="11"/>
                    </a:lnTo>
                    <a:lnTo>
                      <a:pt x="315" y="13"/>
                    </a:lnTo>
                    <a:lnTo>
                      <a:pt x="346" y="17"/>
                    </a:lnTo>
                    <a:lnTo>
                      <a:pt x="363" y="19"/>
                    </a:lnTo>
                    <a:lnTo>
                      <a:pt x="363" y="19"/>
                    </a:lnTo>
                    <a:lnTo>
                      <a:pt x="363" y="17"/>
                    </a:lnTo>
                    <a:lnTo>
                      <a:pt x="363" y="15"/>
                    </a:lnTo>
                    <a:lnTo>
                      <a:pt x="365" y="15"/>
                    </a:lnTo>
                    <a:lnTo>
                      <a:pt x="365" y="13"/>
                    </a:lnTo>
                    <a:lnTo>
                      <a:pt x="365" y="11"/>
                    </a:lnTo>
                    <a:lnTo>
                      <a:pt x="365" y="11"/>
                    </a:lnTo>
                    <a:lnTo>
                      <a:pt x="365" y="9"/>
                    </a:lnTo>
                    <a:close/>
                    <a:moveTo>
                      <a:pt x="2" y="1134"/>
                    </a:moveTo>
                    <a:lnTo>
                      <a:pt x="25" y="1143"/>
                    </a:lnTo>
                    <a:lnTo>
                      <a:pt x="52" y="1155"/>
                    </a:lnTo>
                    <a:lnTo>
                      <a:pt x="79" y="1162"/>
                    </a:lnTo>
                    <a:lnTo>
                      <a:pt x="108" y="1172"/>
                    </a:lnTo>
                    <a:lnTo>
                      <a:pt x="136" y="1178"/>
                    </a:lnTo>
                    <a:lnTo>
                      <a:pt x="165" y="1184"/>
                    </a:lnTo>
                    <a:lnTo>
                      <a:pt x="196" y="1187"/>
                    </a:lnTo>
                    <a:lnTo>
                      <a:pt x="225" y="1189"/>
                    </a:lnTo>
                    <a:lnTo>
                      <a:pt x="255" y="1189"/>
                    </a:lnTo>
                    <a:lnTo>
                      <a:pt x="286" y="1189"/>
                    </a:lnTo>
                    <a:lnTo>
                      <a:pt x="317" y="1187"/>
                    </a:lnTo>
                    <a:lnTo>
                      <a:pt x="348" y="1184"/>
                    </a:lnTo>
                    <a:lnTo>
                      <a:pt x="367" y="1180"/>
                    </a:lnTo>
                    <a:lnTo>
                      <a:pt x="365" y="1178"/>
                    </a:lnTo>
                    <a:lnTo>
                      <a:pt x="365" y="1178"/>
                    </a:lnTo>
                    <a:lnTo>
                      <a:pt x="365" y="1176"/>
                    </a:lnTo>
                    <a:lnTo>
                      <a:pt x="365" y="1176"/>
                    </a:lnTo>
                    <a:lnTo>
                      <a:pt x="365" y="1174"/>
                    </a:lnTo>
                    <a:lnTo>
                      <a:pt x="363" y="1172"/>
                    </a:lnTo>
                    <a:lnTo>
                      <a:pt x="363" y="1172"/>
                    </a:lnTo>
                    <a:lnTo>
                      <a:pt x="363" y="1170"/>
                    </a:lnTo>
                    <a:lnTo>
                      <a:pt x="346" y="1174"/>
                    </a:lnTo>
                    <a:lnTo>
                      <a:pt x="315" y="1178"/>
                    </a:lnTo>
                    <a:lnTo>
                      <a:pt x="286" y="1180"/>
                    </a:lnTo>
                    <a:lnTo>
                      <a:pt x="255" y="1180"/>
                    </a:lnTo>
                    <a:lnTo>
                      <a:pt x="227" y="1180"/>
                    </a:lnTo>
                    <a:lnTo>
                      <a:pt x="196" y="1178"/>
                    </a:lnTo>
                    <a:lnTo>
                      <a:pt x="167" y="1174"/>
                    </a:lnTo>
                    <a:lnTo>
                      <a:pt x="138" y="1168"/>
                    </a:lnTo>
                    <a:lnTo>
                      <a:pt x="110" y="1161"/>
                    </a:lnTo>
                    <a:lnTo>
                      <a:pt x="83" y="1153"/>
                    </a:lnTo>
                    <a:lnTo>
                      <a:pt x="54" y="1145"/>
                    </a:lnTo>
                    <a:lnTo>
                      <a:pt x="29" y="1134"/>
                    </a:lnTo>
                    <a:lnTo>
                      <a:pt x="2" y="1122"/>
                    </a:lnTo>
                    <a:lnTo>
                      <a:pt x="0" y="1122"/>
                    </a:lnTo>
                    <a:lnTo>
                      <a:pt x="0" y="1122"/>
                    </a:lnTo>
                    <a:lnTo>
                      <a:pt x="0" y="1124"/>
                    </a:lnTo>
                    <a:lnTo>
                      <a:pt x="2" y="1126"/>
                    </a:lnTo>
                    <a:lnTo>
                      <a:pt x="2" y="1128"/>
                    </a:lnTo>
                    <a:lnTo>
                      <a:pt x="2" y="1130"/>
                    </a:lnTo>
                    <a:lnTo>
                      <a:pt x="2" y="1130"/>
                    </a:lnTo>
                    <a:lnTo>
                      <a:pt x="2" y="1132"/>
                    </a:lnTo>
                    <a:lnTo>
                      <a:pt x="2" y="1134"/>
                    </a:lnTo>
                    <a:close/>
                  </a:path>
                </a:pathLst>
              </a:custGeom>
              <a:solidFill>
                <a:srgbClr val="8c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Freeform 150"/>
              <p:cNvSpPr/>
              <p:nvPr/>
            </p:nvSpPr>
            <p:spPr>
              <a:xfrm>
                <a:off x="1855440" y="2180160"/>
                <a:ext cx="614520" cy="1986480"/>
              </a:xfrm>
              <a:custGeom>
                <a:avLst/>
                <a:gdLst>
                  <a:gd name="textAreaLeft" fmla="*/ 0 w 614520"/>
                  <a:gd name="textAreaRight" fmla="*/ 614880 w 614520"/>
                  <a:gd name="textAreaTop" fmla="*/ 0 h 1986480"/>
                  <a:gd name="textAreaBottom" fmla="*/ 1986840 h 1986480"/>
                </a:gdLst>
                <a:ahLst/>
                <a:rect l="textAreaLeft" t="textAreaTop" r="textAreaRight" b="textAreaBottom"/>
                <a:pathLst>
                  <a:path w="365" h="1180">
                    <a:moveTo>
                      <a:pt x="365" y="10"/>
                    </a:moveTo>
                    <a:lnTo>
                      <a:pt x="346" y="6"/>
                    </a:lnTo>
                    <a:lnTo>
                      <a:pt x="317" y="2"/>
                    </a:lnTo>
                    <a:lnTo>
                      <a:pt x="286" y="0"/>
                    </a:lnTo>
                    <a:lnTo>
                      <a:pt x="255" y="0"/>
                    </a:lnTo>
                    <a:lnTo>
                      <a:pt x="225" y="0"/>
                    </a:lnTo>
                    <a:lnTo>
                      <a:pt x="196" y="2"/>
                    </a:lnTo>
                    <a:lnTo>
                      <a:pt x="165" y="6"/>
                    </a:lnTo>
                    <a:lnTo>
                      <a:pt x="136" y="12"/>
                    </a:lnTo>
                    <a:lnTo>
                      <a:pt x="117" y="16"/>
                    </a:lnTo>
                    <a:lnTo>
                      <a:pt x="117" y="18"/>
                    </a:lnTo>
                    <a:lnTo>
                      <a:pt x="115" y="20"/>
                    </a:lnTo>
                    <a:lnTo>
                      <a:pt x="115" y="20"/>
                    </a:lnTo>
                    <a:lnTo>
                      <a:pt x="115" y="22"/>
                    </a:lnTo>
                    <a:lnTo>
                      <a:pt x="113" y="24"/>
                    </a:lnTo>
                    <a:lnTo>
                      <a:pt x="113" y="25"/>
                    </a:lnTo>
                    <a:lnTo>
                      <a:pt x="113" y="25"/>
                    </a:lnTo>
                    <a:lnTo>
                      <a:pt x="113" y="27"/>
                    </a:lnTo>
                    <a:lnTo>
                      <a:pt x="138" y="22"/>
                    </a:lnTo>
                    <a:lnTo>
                      <a:pt x="167" y="16"/>
                    </a:lnTo>
                    <a:lnTo>
                      <a:pt x="196" y="12"/>
                    </a:lnTo>
                    <a:lnTo>
                      <a:pt x="227" y="10"/>
                    </a:lnTo>
                    <a:lnTo>
                      <a:pt x="255" y="10"/>
                    </a:lnTo>
                    <a:lnTo>
                      <a:pt x="286" y="10"/>
                    </a:lnTo>
                    <a:lnTo>
                      <a:pt x="315" y="12"/>
                    </a:lnTo>
                    <a:lnTo>
                      <a:pt x="344" y="16"/>
                    </a:lnTo>
                    <a:lnTo>
                      <a:pt x="361" y="20"/>
                    </a:lnTo>
                    <a:lnTo>
                      <a:pt x="361" y="18"/>
                    </a:lnTo>
                    <a:lnTo>
                      <a:pt x="361" y="18"/>
                    </a:lnTo>
                    <a:lnTo>
                      <a:pt x="363" y="16"/>
                    </a:lnTo>
                    <a:lnTo>
                      <a:pt x="363" y="14"/>
                    </a:lnTo>
                    <a:lnTo>
                      <a:pt x="363" y="14"/>
                    </a:lnTo>
                    <a:lnTo>
                      <a:pt x="363" y="12"/>
                    </a:lnTo>
                    <a:lnTo>
                      <a:pt x="363" y="10"/>
                    </a:lnTo>
                    <a:lnTo>
                      <a:pt x="365" y="10"/>
                    </a:lnTo>
                    <a:close/>
                    <a:moveTo>
                      <a:pt x="2" y="1123"/>
                    </a:moveTo>
                    <a:lnTo>
                      <a:pt x="27" y="1134"/>
                    </a:lnTo>
                    <a:lnTo>
                      <a:pt x="54" y="1144"/>
                    </a:lnTo>
                    <a:lnTo>
                      <a:pt x="81" y="1154"/>
                    </a:lnTo>
                    <a:lnTo>
                      <a:pt x="108" y="1161"/>
                    </a:lnTo>
                    <a:lnTo>
                      <a:pt x="136" y="1169"/>
                    </a:lnTo>
                    <a:lnTo>
                      <a:pt x="165" y="1173"/>
                    </a:lnTo>
                    <a:lnTo>
                      <a:pt x="196" y="1177"/>
                    </a:lnTo>
                    <a:lnTo>
                      <a:pt x="225" y="1179"/>
                    </a:lnTo>
                    <a:lnTo>
                      <a:pt x="255" y="1180"/>
                    </a:lnTo>
                    <a:lnTo>
                      <a:pt x="286" y="1179"/>
                    </a:lnTo>
                    <a:lnTo>
                      <a:pt x="317" y="1177"/>
                    </a:lnTo>
                    <a:lnTo>
                      <a:pt x="346" y="1173"/>
                    </a:lnTo>
                    <a:lnTo>
                      <a:pt x="365" y="1171"/>
                    </a:lnTo>
                    <a:lnTo>
                      <a:pt x="365" y="1169"/>
                    </a:lnTo>
                    <a:lnTo>
                      <a:pt x="363" y="1167"/>
                    </a:lnTo>
                    <a:lnTo>
                      <a:pt x="363" y="1167"/>
                    </a:lnTo>
                    <a:lnTo>
                      <a:pt x="363" y="1165"/>
                    </a:lnTo>
                    <a:lnTo>
                      <a:pt x="363" y="1163"/>
                    </a:lnTo>
                    <a:lnTo>
                      <a:pt x="363" y="1163"/>
                    </a:lnTo>
                    <a:lnTo>
                      <a:pt x="361" y="1161"/>
                    </a:lnTo>
                    <a:lnTo>
                      <a:pt x="361" y="1159"/>
                    </a:lnTo>
                    <a:lnTo>
                      <a:pt x="344" y="1163"/>
                    </a:lnTo>
                    <a:lnTo>
                      <a:pt x="315" y="1167"/>
                    </a:lnTo>
                    <a:lnTo>
                      <a:pt x="286" y="1169"/>
                    </a:lnTo>
                    <a:lnTo>
                      <a:pt x="255" y="1169"/>
                    </a:lnTo>
                    <a:lnTo>
                      <a:pt x="227" y="1169"/>
                    </a:lnTo>
                    <a:lnTo>
                      <a:pt x="196" y="1167"/>
                    </a:lnTo>
                    <a:lnTo>
                      <a:pt x="167" y="1163"/>
                    </a:lnTo>
                    <a:lnTo>
                      <a:pt x="138" y="1157"/>
                    </a:lnTo>
                    <a:lnTo>
                      <a:pt x="111" y="1152"/>
                    </a:lnTo>
                    <a:lnTo>
                      <a:pt x="83" y="1144"/>
                    </a:lnTo>
                    <a:lnTo>
                      <a:pt x="56" y="1134"/>
                    </a:lnTo>
                    <a:lnTo>
                      <a:pt x="31" y="1125"/>
                    </a:lnTo>
                    <a:lnTo>
                      <a:pt x="4" y="1113"/>
                    </a:lnTo>
                    <a:lnTo>
                      <a:pt x="0" y="1109"/>
                    </a:lnTo>
                    <a:lnTo>
                      <a:pt x="0" y="1111"/>
                    </a:lnTo>
                    <a:lnTo>
                      <a:pt x="0" y="1113"/>
                    </a:lnTo>
                    <a:lnTo>
                      <a:pt x="0" y="1115"/>
                    </a:lnTo>
                    <a:lnTo>
                      <a:pt x="0" y="1115"/>
                    </a:lnTo>
                    <a:lnTo>
                      <a:pt x="0" y="1117"/>
                    </a:lnTo>
                    <a:lnTo>
                      <a:pt x="0" y="1119"/>
                    </a:lnTo>
                    <a:lnTo>
                      <a:pt x="2" y="1121"/>
                    </a:lnTo>
                    <a:lnTo>
                      <a:pt x="2" y="1123"/>
                    </a:lnTo>
                    <a:close/>
                  </a:path>
                </a:pathLst>
              </a:custGeom>
              <a:solidFill>
                <a:srgbClr val="8d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Freeform 151"/>
              <p:cNvSpPr/>
              <p:nvPr/>
            </p:nvSpPr>
            <p:spPr>
              <a:xfrm>
                <a:off x="1851840" y="2187000"/>
                <a:ext cx="614520" cy="1971360"/>
              </a:xfrm>
              <a:custGeom>
                <a:avLst/>
                <a:gdLst>
                  <a:gd name="textAreaLeft" fmla="*/ 0 w 614520"/>
                  <a:gd name="textAreaRight" fmla="*/ 614880 w 614520"/>
                  <a:gd name="textAreaTop" fmla="*/ 0 h 1971360"/>
                  <a:gd name="textAreaBottom" fmla="*/ 1971720 h 1971360"/>
                </a:gdLst>
                <a:ahLst/>
                <a:rect l="textAreaLeft" t="textAreaTop" r="textAreaRight" b="textAreaBottom"/>
                <a:pathLst>
                  <a:path w="365" h="1171">
                    <a:moveTo>
                      <a:pt x="365" y="10"/>
                    </a:moveTo>
                    <a:lnTo>
                      <a:pt x="348" y="8"/>
                    </a:lnTo>
                    <a:lnTo>
                      <a:pt x="317" y="4"/>
                    </a:lnTo>
                    <a:lnTo>
                      <a:pt x="288" y="2"/>
                    </a:lnTo>
                    <a:lnTo>
                      <a:pt x="257" y="0"/>
                    </a:lnTo>
                    <a:lnTo>
                      <a:pt x="229" y="2"/>
                    </a:lnTo>
                    <a:lnTo>
                      <a:pt x="198" y="4"/>
                    </a:lnTo>
                    <a:lnTo>
                      <a:pt x="169" y="8"/>
                    </a:lnTo>
                    <a:lnTo>
                      <a:pt x="140" y="12"/>
                    </a:lnTo>
                    <a:lnTo>
                      <a:pt x="117" y="18"/>
                    </a:lnTo>
                    <a:lnTo>
                      <a:pt x="115" y="20"/>
                    </a:lnTo>
                    <a:lnTo>
                      <a:pt x="115" y="21"/>
                    </a:lnTo>
                    <a:lnTo>
                      <a:pt x="115" y="21"/>
                    </a:lnTo>
                    <a:lnTo>
                      <a:pt x="115" y="23"/>
                    </a:lnTo>
                    <a:lnTo>
                      <a:pt x="113" y="25"/>
                    </a:lnTo>
                    <a:lnTo>
                      <a:pt x="113" y="27"/>
                    </a:lnTo>
                    <a:lnTo>
                      <a:pt x="113" y="27"/>
                    </a:lnTo>
                    <a:lnTo>
                      <a:pt x="113" y="29"/>
                    </a:lnTo>
                    <a:lnTo>
                      <a:pt x="113" y="29"/>
                    </a:lnTo>
                    <a:lnTo>
                      <a:pt x="142" y="23"/>
                    </a:lnTo>
                    <a:lnTo>
                      <a:pt x="171" y="18"/>
                    </a:lnTo>
                    <a:lnTo>
                      <a:pt x="200" y="14"/>
                    </a:lnTo>
                    <a:lnTo>
                      <a:pt x="229" y="12"/>
                    </a:lnTo>
                    <a:lnTo>
                      <a:pt x="257" y="12"/>
                    </a:lnTo>
                    <a:lnTo>
                      <a:pt x="288" y="12"/>
                    </a:lnTo>
                    <a:lnTo>
                      <a:pt x="317" y="14"/>
                    </a:lnTo>
                    <a:lnTo>
                      <a:pt x="346" y="18"/>
                    </a:lnTo>
                    <a:lnTo>
                      <a:pt x="361" y="20"/>
                    </a:lnTo>
                    <a:lnTo>
                      <a:pt x="363" y="20"/>
                    </a:lnTo>
                    <a:lnTo>
                      <a:pt x="363" y="18"/>
                    </a:lnTo>
                    <a:lnTo>
                      <a:pt x="363" y="18"/>
                    </a:lnTo>
                    <a:lnTo>
                      <a:pt x="363" y="16"/>
                    </a:lnTo>
                    <a:lnTo>
                      <a:pt x="363" y="14"/>
                    </a:lnTo>
                    <a:lnTo>
                      <a:pt x="363" y="14"/>
                    </a:lnTo>
                    <a:lnTo>
                      <a:pt x="365" y="12"/>
                    </a:lnTo>
                    <a:lnTo>
                      <a:pt x="365" y="10"/>
                    </a:lnTo>
                    <a:close/>
                    <a:moveTo>
                      <a:pt x="2" y="1113"/>
                    </a:moveTo>
                    <a:lnTo>
                      <a:pt x="4" y="1113"/>
                    </a:lnTo>
                    <a:lnTo>
                      <a:pt x="31" y="1125"/>
                    </a:lnTo>
                    <a:lnTo>
                      <a:pt x="56" y="1136"/>
                    </a:lnTo>
                    <a:lnTo>
                      <a:pt x="85" y="1144"/>
                    </a:lnTo>
                    <a:lnTo>
                      <a:pt x="112" y="1152"/>
                    </a:lnTo>
                    <a:lnTo>
                      <a:pt x="140" y="1159"/>
                    </a:lnTo>
                    <a:lnTo>
                      <a:pt x="169" y="1165"/>
                    </a:lnTo>
                    <a:lnTo>
                      <a:pt x="198" y="1169"/>
                    </a:lnTo>
                    <a:lnTo>
                      <a:pt x="229" y="1171"/>
                    </a:lnTo>
                    <a:lnTo>
                      <a:pt x="257" y="1171"/>
                    </a:lnTo>
                    <a:lnTo>
                      <a:pt x="288" y="1171"/>
                    </a:lnTo>
                    <a:lnTo>
                      <a:pt x="317" y="1169"/>
                    </a:lnTo>
                    <a:lnTo>
                      <a:pt x="348" y="1165"/>
                    </a:lnTo>
                    <a:lnTo>
                      <a:pt x="365" y="1161"/>
                    </a:lnTo>
                    <a:lnTo>
                      <a:pt x="365" y="1159"/>
                    </a:lnTo>
                    <a:lnTo>
                      <a:pt x="365" y="1159"/>
                    </a:lnTo>
                    <a:lnTo>
                      <a:pt x="363" y="1157"/>
                    </a:lnTo>
                    <a:lnTo>
                      <a:pt x="363" y="1155"/>
                    </a:lnTo>
                    <a:lnTo>
                      <a:pt x="363" y="1155"/>
                    </a:lnTo>
                    <a:lnTo>
                      <a:pt x="363" y="1153"/>
                    </a:lnTo>
                    <a:lnTo>
                      <a:pt x="363" y="1152"/>
                    </a:lnTo>
                    <a:lnTo>
                      <a:pt x="363" y="1152"/>
                    </a:lnTo>
                    <a:lnTo>
                      <a:pt x="346" y="1153"/>
                    </a:lnTo>
                    <a:lnTo>
                      <a:pt x="317" y="1157"/>
                    </a:lnTo>
                    <a:lnTo>
                      <a:pt x="288" y="1159"/>
                    </a:lnTo>
                    <a:lnTo>
                      <a:pt x="257" y="1161"/>
                    </a:lnTo>
                    <a:lnTo>
                      <a:pt x="229" y="1159"/>
                    </a:lnTo>
                    <a:lnTo>
                      <a:pt x="200" y="1157"/>
                    </a:lnTo>
                    <a:lnTo>
                      <a:pt x="171" y="1153"/>
                    </a:lnTo>
                    <a:lnTo>
                      <a:pt x="142" y="1150"/>
                    </a:lnTo>
                    <a:lnTo>
                      <a:pt x="113" y="1142"/>
                    </a:lnTo>
                    <a:lnTo>
                      <a:pt x="87" y="1134"/>
                    </a:lnTo>
                    <a:lnTo>
                      <a:pt x="60" y="1127"/>
                    </a:lnTo>
                    <a:lnTo>
                      <a:pt x="35" y="1115"/>
                    </a:lnTo>
                    <a:lnTo>
                      <a:pt x="8" y="1104"/>
                    </a:lnTo>
                    <a:lnTo>
                      <a:pt x="0" y="1100"/>
                    </a:lnTo>
                    <a:lnTo>
                      <a:pt x="0" y="1102"/>
                    </a:lnTo>
                    <a:lnTo>
                      <a:pt x="0" y="1104"/>
                    </a:lnTo>
                    <a:lnTo>
                      <a:pt x="0" y="1104"/>
                    </a:lnTo>
                    <a:lnTo>
                      <a:pt x="2" y="1105"/>
                    </a:lnTo>
                    <a:lnTo>
                      <a:pt x="2" y="1107"/>
                    </a:lnTo>
                    <a:lnTo>
                      <a:pt x="2" y="1109"/>
                    </a:lnTo>
                    <a:lnTo>
                      <a:pt x="2" y="1111"/>
                    </a:lnTo>
                    <a:lnTo>
                      <a:pt x="2" y="1113"/>
                    </a:lnTo>
                    <a:close/>
                  </a:path>
                </a:pathLst>
              </a:custGeom>
              <a:solidFill>
                <a:srgbClr val="8e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Freeform 152"/>
              <p:cNvSpPr/>
              <p:nvPr/>
            </p:nvSpPr>
            <p:spPr>
              <a:xfrm>
                <a:off x="1848960" y="2196720"/>
                <a:ext cx="614160" cy="1951560"/>
              </a:xfrm>
              <a:custGeom>
                <a:avLst/>
                <a:gdLst>
                  <a:gd name="textAreaLeft" fmla="*/ 0 w 614160"/>
                  <a:gd name="textAreaRight" fmla="*/ 614520 w 614160"/>
                  <a:gd name="textAreaTop" fmla="*/ 0 h 1951560"/>
                  <a:gd name="textAreaBottom" fmla="*/ 1951920 h 1951560"/>
                </a:gdLst>
                <a:ahLst/>
                <a:rect l="textAreaLeft" t="textAreaTop" r="textAreaRight" b="textAreaBottom"/>
                <a:pathLst>
                  <a:path w="365" h="1159">
                    <a:moveTo>
                      <a:pt x="365" y="10"/>
                    </a:moveTo>
                    <a:lnTo>
                      <a:pt x="348" y="6"/>
                    </a:lnTo>
                    <a:lnTo>
                      <a:pt x="319" y="2"/>
                    </a:lnTo>
                    <a:lnTo>
                      <a:pt x="290" y="0"/>
                    </a:lnTo>
                    <a:lnTo>
                      <a:pt x="259" y="0"/>
                    </a:lnTo>
                    <a:lnTo>
                      <a:pt x="231" y="0"/>
                    </a:lnTo>
                    <a:lnTo>
                      <a:pt x="200" y="2"/>
                    </a:lnTo>
                    <a:lnTo>
                      <a:pt x="171" y="6"/>
                    </a:lnTo>
                    <a:lnTo>
                      <a:pt x="142" y="12"/>
                    </a:lnTo>
                    <a:lnTo>
                      <a:pt x="117" y="17"/>
                    </a:lnTo>
                    <a:lnTo>
                      <a:pt x="115" y="19"/>
                    </a:lnTo>
                    <a:lnTo>
                      <a:pt x="115" y="21"/>
                    </a:lnTo>
                    <a:lnTo>
                      <a:pt x="115" y="21"/>
                    </a:lnTo>
                    <a:lnTo>
                      <a:pt x="115" y="23"/>
                    </a:lnTo>
                    <a:lnTo>
                      <a:pt x="114" y="25"/>
                    </a:lnTo>
                    <a:lnTo>
                      <a:pt x="114" y="27"/>
                    </a:lnTo>
                    <a:lnTo>
                      <a:pt x="114" y="29"/>
                    </a:lnTo>
                    <a:lnTo>
                      <a:pt x="112" y="29"/>
                    </a:lnTo>
                    <a:lnTo>
                      <a:pt x="117" y="29"/>
                    </a:lnTo>
                    <a:lnTo>
                      <a:pt x="144" y="21"/>
                    </a:lnTo>
                    <a:lnTo>
                      <a:pt x="173" y="17"/>
                    </a:lnTo>
                    <a:lnTo>
                      <a:pt x="202" y="14"/>
                    </a:lnTo>
                    <a:lnTo>
                      <a:pt x="231" y="12"/>
                    </a:lnTo>
                    <a:lnTo>
                      <a:pt x="259" y="10"/>
                    </a:lnTo>
                    <a:lnTo>
                      <a:pt x="290" y="12"/>
                    </a:lnTo>
                    <a:lnTo>
                      <a:pt x="319" y="14"/>
                    </a:lnTo>
                    <a:lnTo>
                      <a:pt x="348" y="17"/>
                    </a:lnTo>
                    <a:lnTo>
                      <a:pt x="363" y="19"/>
                    </a:lnTo>
                    <a:lnTo>
                      <a:pt x="363" y="17"/>
                    </a:lnTo>
                    <a:lnTo>
                      <a:pt x="363" y="17"/>
                    </a:lnTo>
                    <a:lnTo>
                      <a:pt x="363" y="15"/>
                    </a:lnTo>
                    <a:lnTo>
                      <a:pt x="363" y="14"/>
                    </a:lnTo>
                    <a:lnTo>
                      <a:pt x="363" y="14"/>
                    </a:lnTo>
                    <a:lnTo>
                      <a:pt x="365" y="12"/>
                    </a:lnTo>
                    <a:lnTo>
                      <a:pt x="365" y="12"/>
                    </a:lnTo>
                    <a:lnTo>
                      <a:pt x="365" y="10"/>
                    </a:lnTo>
                    <a:close/>
                    <a:moveTo>
                      <a:pt x="4" y="1099"/>
                    </a:moveTo>
                    <a:lnTo>
                      <a:pt x="8" y="1103"/>
                    </a:lnTo>
                    <a:lnTo>
                      <a:pt x="35" y="1115"/>
                    </a:lnTo>
                    <a:lnTo>
                      <a:pt x="60" y="1124"/>
                    </a:lnTo>
                    <a:lnTo>
                      <a:pt x="87" y="1134"/>
                    </a:lnTo>
                    <a:lnTo>
                      <a:pt x="115" y="1142"/>
                    </a:lnTo>
                    <a:lnTo>
                      <a:pt x="142" y="1147"/>
                    </a:lnTo>
                    <a:lnTo>
                      <a:pt x="171" y="1153"/>
                    </a:lnTo>
                    <a:lnTo>
                      <a:pt x="200" y="1157"/>
                    </a:lnTo>
                    <a:lnTo>
                      <a:pt x="231" y="1159"/>
                    </a:lnTo>
                    <a:lnTo>
                      <a:pt x="259" y="1159"/>
                    </a:lnTo>
                    <a:lnTo>
                      <a:pt x="290" y="1159"/>
                    </a:lnTo>
                    <a:lnTo>
                      <a:pt x="319" y="1157"/>
                    </a:lnTo>
                    <a:lnTo>
                      <a:pt x="348" y="1153"/>
                    </a:lnTo>
                    <a:lnTo>
                      <a:pt x="365" y="1149"/>
                    </a:lnTo>
                    <a:lnTo>
                      <a:pt x="365" y="1149"/>
                    </a:lnTo>
                    <a:lnTo>
                      <a:pt x="365" y="1147"/>
                    </a:lnTo>
                    <a:lnTo>
                      <a:pt x="365" y="1146"/>
                    </a:lnTo>
                    <a:lnTo>
                      <a:pt x="365" y="1146"/>
                    </a:lnTo>
                    <a:lnTo>
                      <a:pt x="363" y="1144"/>
                    </a:lnTo>
                    <a:lnTo>
                      <a:pt x="363" y="1142"/>
                    </a:lnTo>
                    <a:lnTo>
                      <a:pt x="363" y="1142"/>
                    </a:lnTo>
                    <a:lnTo>
                      <a:pt x="363" y="1140"/>
                    </a:lnTo>
                    <a:lnTo>
                      <a:pt x="348" y="1144"/>
                    </a:lnTo>
                    <a:lnTo>
                      <a:pt x="319" y="1147"/>
                    </a:lnTo>
                    <a:lnTo>
                      <a:pt x="290" y="1149"/>
                    </a:lnTo>
                    <a:lnTo>
                      <a:pt x="259" y="1149"/>
                    </a:lnTo>
                    <a:lnTo>
                      <a:pt x="231" y="1149"/>
                    </a:lnTo>
                    <a:lnTo>
                      <a:pt x="202" y="1147"/>
                    </a:lnTo>
                    <a:lnTo>
                      <a:pt x="173" y="1144"/>
                    </a:lnTo>
                    <a:lnTo>
                      <a:pt x="144" y="1138"/>
                    </a:lnTo>
                    <a:lnTo>
                      <a:pt x="117" y="1132"/>
                    </a:lnTo>
                    <a:lnTo>
                      <a:pt x="91" y="1124"/>
                    </a:lnTo>
                    <a:lnTo>
                      <a:pt x="64" y="1115"/>
                    </a:lnTo>
                    <a:lnTo>
                      <a:pt x="39" y="1105"/>
                    </a:lnTo>
                    <a:lnTo>
                      <a:pt x="14" y="1094"/>
                    </a:lnTo>
                    <a:lnTo>
                      <a:pt x="0" y="1088"/>
                    </a:lnTo>
                    <a:lnTo>
                      <a:pt x="2" y="1088"/>
                    </a:lnTo>
                    <a:lnTo>
                      <a:pt x="2" y="1090"/>
                    </a:lnTo>
                    <a:lnTo>
                      <a:pt x="2" y="1092"/>
                    </a:lnTo>
                    <a:lnTo>
                      <a:pt x="2" y="1094"/>
                    </a:lnTo>
                    <a:lnTo>
                      <a:pt x="2" y="1096"/>
                    </a:lnTo>
                    <a:lnTo>
                      <a:pt x="2" y="1098"/>
                    </a:lnTo>
                    <a:lnTo>
                      <a:pt x="2" y="1098"/>
                    </a:lnTo>
                    <a:lnTo>
                      <a:pt x="4" y="1099"/>
                    </a:lnTo>
                    <a:close/>
                  </a:path>
                </a:pathLst>
              </a:custGeom>
              <a:solidFill>
                <a:srgbClr val="8fd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Freeform 153"/>
              <p:cNvSpPr/>
              <p:nvPr/>
            </p:nvSpPr>
            <p:spPr>
              <a:xfrm>
                <a:off x="1848960" y="2207160"/>
                <a:ext cx="614160" cy="1934280"/>
              </a:xfrm>
              <a:custGeom>
                <a:avLst/>
                <a:gdLst>
                  <a:gd name="textAreaLeft" fmla="*/ 0 w 614160"/>
                  <a:gd name="textAreaRight" fmla="*/ 614520 w 614160"/>
                  <a:gd name="textAreaTop" fmla="*/ 0 h 1934280"/>
                  <a:gd name="textAreaBottom" fmla="*/ 1934640 h 1934280"/>
                </a:gdLst>
                <a:ahLst/>
                <a:rect l="textAreaLeft" t="textAreaTop" r="textAreaRight" b="textAreaBottom"/>
                <a:pathLst>
                  <a:path w="365" h="1149">
                    <a:moveTo>
                      <a:pt x="363" y="8"/>
                    </a:moveTo>
                    <a:lnTo>
                      <a:pt x="348" y="6"/>
                    </a:lnTo>
                    <a:lnTo>
                      <a:pt x="319" y="2"/>
                    </a:lnTo>
                    <a:lnTo>
                      <a:pt x="290" y="0"/>
                    </a:lnTo>
                    <a:lnTo>
                      <a:pt x="259" y="0"/>
                    </a:lnTo>
                    <a:lnTo>
                      <a:pt x="231" y="0"/>
                    </a:lnTo>
                    <a:lnTo>
                      <a:pt x="202" y="2"/>
                    </a:lnTo>
                    <a:lnTo>
                      <a:pt x="173" y="6"/>
                    </a:lnTo>
                    <a:lnTo>
                      <a:pt x="144" y="11"/>
                    </a:lnTo>
                    <a:lnTo>
                      <a:pt x="115" y="17"/>
                    </a:lnTo>
                    <a:lnTo>
                      <a:pt x="115" y="17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4" y="23"/>
                    </a:lnTo>
                    <a:lnTo>
                      <a:pt x="112" y="23"/>
                    </a:lnTo>
                    <a:lnTo>
                      <a:pt x="112" y="25"/>
                    </a:lnTo>
                    <a:lnTo>
                      <a:pt x="112" y="27"/>
                    </a:lnTo>
                    <a:lnTo>
                      <a:pt x="112" y="29"/>
                    </a:lnTo>
                    <a:lnTo>
                      <a:pt x="110" y="29"/>
                    </a:lnTo>
                    <a:lnTo>
                      <a:pt x="119" y="27"/>
                    </a:lnTo>
                    <a:lnTo>
                      <a:pt x="146" y="21"/>
                    </a:lnTo>
                    <a:lnTo>
                      <a:pt x="175" y="15"/>
                    </a:lnTo>
                    <a:lnTo>
                      <a:pt x="202" y="11"/>
                    </a:lnTo>
                    <a:lnTo>
                      <a:pt x="231" y="9"/>
                    </a:lnTo>
                    <a:lnTo>
                      <a:pt x="259" y="9"/>
                    </a:lnTo>
                    <a:lnTo>
                      <a:pt x="288" y="9"/>
                    </a:lnTo>
                    <a:lnTo>
                      <a:pt x="317" y="11"/>
                    </a:lnTo>
                    <a:lnTo>
                      <a:pt x="346" y="15"/>
                    </a:lnTo>
                    <a:lnTo>
                      <a:pt x="361" y="19"/>
                    </a:lnTo>
                    <a:lnTo>
                      <a:pt x="361" y="17"/>
                    </a:lnTo>
                    <a:lnTo>
                      <a:pt x="361" y="15"/>
                    </a:lnTo>
                    <a:lnTo>
                      <a:pt x="361" y="15"/>
                    </a:lnTo>
                    <a:lnTo>
                      <a:pt x="363" y="13"/>
                    </a:lnTo>
                    <a:lnTo>
                      <a:pt x="363" y="11"/>
                    </a:lnTo>
                    <a:lnTo>
                      <a:pt x="363" y="11"/>
                    </a:lnTo>
                    <a:lnTo>
                      <a:pt x="363" y="9"/>
                    </a:lnTo>
                    <a:lnTo>
                      <a:pt x="363" y="8"/>
                    </a:lnTo>
                    <a:close/>
                    <a:moveTo>
                      <a:pt x="2" y="1088"/>
                    </a:moveTo>
                    <a:lnTo>
                      <a:pt x="10" y="1092"/>
                    </a:lnTo>
                    <a:lnTo>
                      <a:pt x="37" y="1103"/>
                    </a:lnTo>
                    <a:lnTo>
                      <a:pt x="62" y="1115"/>
                    </a:lnTo>
                    <a:lnTo>
                      <a:pt x="89" y="1122"/>
                    </a:lnTo>
                    <a:lnTo>
                      <a:pt x="115" y="1130"/>
                    </a:lnTo>
                    <a:lnTo>
                      <a:pt x="144" y="1138"/>
                    </a:lnTo>
                    <a:lnTo>
                      <a:pt x="173" y="1141"/>
                    </a:lnTo>
                    <a:lnTo>
                      <a:pt x="202" y="1145"/>
                    </a:lnTo>
                    <a:lnTo>
                      <a:pt x="231" y="1147"/>
                    </a:lnTo>
                    <a:lnTo>
                      <a:pt x="259" y="1149"/>
                    </a:lnTo>
                    <a:lnTo>
                      <a:pt x="290" y="1147"/>
                    </a:lnTo>
                    <a:lnTo>
                      <a:pt x="319" y="1145"/>
                    </a:lnTo>
                    <a:lnTo>
                      <a:pt x="348" y="1141"/>
                    </a:lnTo>
                    <a:lnTo>
                      <a:pt x="365" y="1140"/>
                    </a:lnTo>
                    <a:lnTo>
                      <a:pt x="363" y="1138"/>
                    </a:lnTo>
                    <a:lnTo>
                      <a:pt x="363" y="1136"/>
                    </a:lnTo>
                    <a:lnTo>
                      <a:pt x="363" y="1136"/>
                    </a:lnTo>
                    <a:lnTo>
                      <a:pt x="363" y="1134"/>
                    </a:lnTo>
                    <a:lnTo>
                      <a:pt x="363" y="1134"/>
                    </a:lnTo>
                    <a:lnTo>
                      <a:pt x="361" y="1132"/>
                    </a:lnTo>
                    <a:lnTo>
                      <a:pt x="361" y="1130"/>
                    </a:lnTo>
                    <a:lnTo>
                      <a:pt x="361" y="1130"/>
                    </a:lnTo>
                    <a:lnTo>
                      <a:pt x="346" y="1132"/>
                    </a:lnTo>
                    <a:lnTo>
                      <a:pt x="317" y="1136"/>
                    </a:lnTo>
                    <a:lnTo>
                      <a:pt x="288" y="1138"/>
                    </a:lnTo>
                    <a:lnTo>
                      <a:pt x="259" y="1138"/>
                    </a:lnTo>
                    <a:lnTo>
                      <a:pt x="231" y="1138"/>
                    </a:lnTo>
                    <a:lnTo>
                      <a:pt x="202" y="1136"/>
                    </a:lnTo>
                    <a:lnTo>
                      <a:pt x="175" y="1132"/>
                    </a:lnTo>
                    <a:lnTo>
                      <a:pt x="146" y="1126"/>
                    </a:lnTo>
                    <a:lnTo>
                      <a:pt x="119" y="1120"/>
                    </a:lnTo>
                    <a:lnTo>
                      <a:pt x="92" y="1113"/>
                    </a:lnTo>
                    <a:lnTo>
                      <a:pt x="66" y="1105"/>
                    </a:lnTo>
                    <a:lnTo>
                      <a:pt x="41" y="1093"/>
                    </a:lnTo>
                    <a:lnTo>
                      <a:pt x="16" y="1082"/>
                    </a:lnTo>
                    <a:lnTo>
                      <a:pt x="0" y="1074"/>
                    </a:lnTo>
                    <a:lnTo>
                      <a:pt x="0" y="1076"/>
                    </a:lnTo>
                    <a:lnTo>
                      <a:pt x="0" y="1078"/>
                    </a:lnTo>
                    <a:lnTo>
                      <a:pt x="0" y="1080"/>
                    </a:lnTo>
                    <a:lnTo>
                      <a:pt x="2" y="1082"/>
                    </a:lnTo>
                    <a:lnTo>
                      <a:pt x="2" y="1082"/>
                    </a:lnTo>
                    <a:lnTo>
                      <a:pt x="2" y="1084"/>
                    </a:lnTo>
                    <a:lnTo>
                      <a:pt x="2" y="1086"/>
                    </a:lnTo>
                    <a:lnTo>
                      <a:pt x="2" y="1088"/>
                    </a:lnTo>
                    <a:close/>
                  </a:path>
                </a:pathLst>
              </a:custGeom>
              <a:solidFill>
                <a:srgbClr val="90d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Freeform 154"/>
              <p:cNvSpPr/>
              <p:nvPr/>
            </p:nvSpPr>
            <p:spPr>
              <a:xfrm>
                <a:off x="1845360" y="2213640"/>
                <a:ext cx="614160" cy="1917720"/>
              </a:xfrm>
              <a:custGeom>
                <a:avLst/>
                <a:gdLst>
                  <a:gd name="textAreaLeft" fmla="*/ 0 w 614160"/>
                  <a:gd name="textAreaRight" fmla="*/ 614520 w 614160"/>
                  <a:gd name="textAreaTop" fmla="*/ 0 h 1917720"/>
                  <a:gd name="textAreaBottom" fmla="*/ 1918080 h 1917720"/>
                </a:gdLst>
                <a:ahLst/>
                <a:rect l="textAreaLeft" t="textAreaTop" r="textAreaRight" b="textAreaBottom"/>
                <a:pathLst>
                  <a:path w="365" h="1139">
                    <a:moveTo>
                      <a:pt x="365" y="9"/>
                    </a:moveTo>
                    <a:lnTo>
                      <a:pt x="350" y="7"/>
                    </a:lnTo>
                    <a:lnTo>
                      <a:pt x="321" y="4"/>
                    </a:lnTo>
                    <a:lnTo>
                      <a:pt x="292" y="2"/>
                    </a:lnTo>
                    <a:lnTo>
                      <a:pt x="261" y="0"/>
                    </a:lnTo>
                    <a:lnTo>
                      <a:pt x="233" y="2"/>
                    </a:lnTo>
                    <a:lnTo>
                      <a:pt x="204" y="4"/>
                    </a:lnTo>
                    <a:lnTo>
                      <a:pt x="175" y="7"/>
                    </a:lnTo>
                    <a:lnTo>
                      <a:pt x="146" y="11"/>
                    </a:lnTo>
                    <a:lnTo>
                      <a:pt x="119" y="19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4" y="23"/>
                    </a:lnTo>
                    <a:lnTo>
                      <a:pt x="114" y="25"/>
                    </a:lnTo>
                    <a:lnTo>
                      <a:pt x="112" y="25"/>
                    </a:lnTo>
                    <a:lnTo>
                      <a:pt x="112" y="27"/>
                    </a:lnTo>
                    <a:lnTo>
                      <a:pt x="112" y="28"/>
                    </a:lnTo>
                    <a:lnTo>
                      <a:pt x="112" y="30"/>
                    </a:lnTo>
                    <a:lnTo>
                      <a:pt x="110" y="30"/>
                    </a:lnTo>
                    <a:lnTo>
                      <a:pt x="121" y="28"/>
                    </a:lnTo>
                    <a:lnTo>
                      <a:pt x="150" y="21"/>
                    </a:lnTo>
                    <a:lnTo>
                      <a:pt x="177" y="17"/>
                    </a:lnTo>
                    <a:lnTo>
                      <a:pt x="206" y="13"/>
                    </a:lnTo>
                    <a:lnTo>
                      <a:pt x="233" y="11"/>
                    </a:lnTo>
                    <a:lnTo>
                      <a:pt x="261" y="11"/>
                    </a:lnTo>
                    <a:lnTo>
                      <a:pt x="290" y="11"/>
                    </a:lnTo>
                    <a:lnTo>
                      <a:pt x="319" y="13"/>
                    </a:lnTo>
                    <a:lnTo>
                      <a:pt x="348" y="17"/>
                    </a:lnTo>
                    <a:lnTo>
                      <a:pt x="361" y="19"/>
                    </a:lnTo>
                    <a:lnTo>
                      <a:pt x="361" y="19"/>
                    </a:lnTo>
                    <a:lnTo>
                      <a:pt x="361" y="17"/>
                    </a:lnTo>
                    <a:lnTo>
                      <a:pt x="363" y="15"/>
                    </a:lnTo>
                    <a:lnTo>
                      <a:pt x="363" y="15"/>
                    </a:lnTo>
                    <a:lnTo>
                      <a:pt x="363" y="13"/>
                    </a:lnTo>
                    <a:lnTo>
                      <a:pt x="363" y="11"/>
                    </a:lnTo>
                    <a:lnTo>
                      <a:pt x="363" y="11"/>
                    </a:lnTo>
                    <a:lnTo>
                      <a:pt x="365" y="9"/>
                    </a:lnTo>
                    <a:close/>
                    <a:moveTo>
                      <a:pt x="2" y="1078"/>
                    </a:moveTo>
                    <a:lnTo>
                      <a:pt x="16" y="1084"/>
                    </a:lnTo>
                    <a:lnTo>
                      <a:pt x="41" y="1095"/>
                    </a:lnTo>
                    <a:lnTo>
                      <a:pt x="66" y="1105"/>
                    </a:lnTo>
                    <a:lnTo>
                      <a:pt x="93" y="1114"/>
                    </a:lnTo>
                    <a:lnTo>
                      <a:pt x="119" y="1122"/>
                    </a:lnTo>
                    <a:lnTo>
                      <a:pt x="146" y="1128"/>
                    </a:lnTo>
                    <a:lnTo>
                      <a:pt x="175" y="1134"/>
                    </a:lnTo>
                    <a:lnTo>
                      <a:pt x="204" y="1137"/>
                    </a:lnTo>
                    <a:lnTo>
                      <a:pt x="233" y="1139"/>
                    </a:lnTo>
                    <a:lnTo>
                      <a:pt x="261" y="1139"/>
                    </a:lnTo>
                    <a:lnTo>
                      <a:pt x="292" y="1139"/>
                    </a:lnTo>
                    <a:lnTo>
                      <a:pt x="321" y="1137"/>
                    </a:lnTo>
                    <a:lnTo>
                      <a:pt x="350" y="1134"/>
                    </a:lnTo>
                    <a:lnTo>
                      <a:pt x="365" y="1130"/>
                    </a:lnTo>
                    <a:lnTo>
                      <a:pt x="365" y="1130"/>
                    </a:lnTo>
                    <a:lnTo>
                      <a:pt x="363" y="1128"/>
                    </a:lnTo>
                    <a:lnTo>
                      <a:pt x="363" y="1126"/>
                    </a:lnTo>
                    <a:lnTo>
                      <a:pt x="363" y="1126"/>
                    </a:lnTo>
                    <a:lnTo>
                      <a:pt x="363" y="1124"/>
                    </a:lnTo>
                    <a:lnTo>
                      <a:pt x="363" y="1122"/>
                    </a:lnTo>
                    <a:lnTo>
                      <a:pt x="363" y="1122"/>
                    </a:lnTo>
                    <a:lnTo>
                      <a:pt x="361" y="1120"/>
                    </a:lnTo>
                    <a:lnTo>
                      <a:pt x="348" y="1122"/>
                    </a:lnTo>
                    <a:lnTo>
                      <a:pt x="319" y="1126"/>
                    </a:lnTo>
                    <a:lnTo>
                      <a:pt x="290" y="1128"/>
                    </a:lnTo>
                    <a:lnTo>
                      <a:pt x="261" y="1130"/>
                    </a:lnTo>
                    <a:lnTo>
                      <a:pt x="233" y="1128"/>
                    </a:lnTo>
                    <a:lnTo>
                      <a:pt x="206" y="1126"/>
                    </a:lnTo>
                    <a:lnTo>
                      <a:pt x="177" y="1122"/>
                    </a:lnTo>
                    <a:lnTo>
                      <a:pt x="150" y="1118"/>
                    </a:lnTo>
                    <a:lnTo>
                      <a:pt x="121" y="1113"/>
                    </a:lnTo>
                    <a:lnTo>
                      <a:pt x="96" y="1105"/>
                    </a:lnTo>
                    <a:lnTo>
                      <a:pt x="69" y="1095"/>
                    </a:lnTo>
                    <a:lnTo>
                      <a:pt x="45" y="1086"/>
                    </a:lnTo>
                    <a:lnTo>
                      <a:pt x="20" y="1074"/>
                    </a:lnTo>
                    <a:lnTo>
                      <a:pt x="0" y="1065"/>
                    </a:lnTo>
                    <a:lnTo>
                      <a:pt x="2" y="1066"/>
                    </a:lnTo>
                    <a:lnTo>
                      <a:pt x="2" y="1068"/>
                    </a:lnTo>
                    <a:lnTo>
                      <a:pt x="2" y="1070"/>
                    </a:lnTo>
                    <a:lnTo>
                      <a:pt x="2" y="1070"/>
                    </a:lnTo>
                    <a:lnTo>
                      <a:pt x="2" y="1072"/>
                    </a:lnTo>
                    <a:lnTo>
                      <a:pt x="2" y="1074"/>
                    </a:lnTo>
                    <a:lnTo>
                      <a:pt x="2" y="1076"/>
                    </a:lnTo>
                    <a:lnTo>
                      <a:pt x="2" y="1078"/>
                    </a:lnTo>
                    <a:close/>
                  </a:path>
                </a:pathLst>
              </a:custGeom>
              <a:solidFill>
                <a:srgbClr val="91d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Freeform 155"/>
              <p:cNvSpPr/>
              <p:nvPr/>
            </p:nvSpPr>
            <p:spPr>
              <a:xfrm>
                <a:off x="1845360" y="2221920"/>
                <a:ext cx="611280" cy="1901160"/>
              </a:xfrm>
              <a:custGeom>
                <a:avLst/>
                <a:gdLst>
                  <a:gd name="textAreaLeft" fmla="*/ 0 w 611280"/>
                  <a:gd name="textAreaRight" fmla="*/ 611640 w 611280"/>
                  <a:gd name="textAreaTop" fmla="*/ 0 h 1901160"/>
                  <a:gd name="textAreaBottom" fmla="*/ 1901520 h 1901160"/>
                </a:gdLst>
                <a:ahLst/>
                <a:rect l="textAreaLeft" t="textAreaTop" r="textAreaRight" b="textAreaBottom"/>
                <a:pathLst>
                  <a:path w="363" h="1129">
                    <a:moveTo>
                      <a:pt x="363" y="10"/>
                    </a:moveTo>
                    <a:lnTo>
                      <a:pt x="348" y="6"/>
                    </a:lnTo>
                    <a:lnTo>
                      <a:pt x="319" y="2"/>
                    </a:lnTo>
                    <a:lnTo>
                      <a:pt x="290" y="0"/>
                    </a:lnTo>
                    <a:lnTo>
                      <a:pt x="261" y="0"/>
                    </a:lnTo>
                    <a:lnTo>
                      <a:pt x="233" y="0"/>
                    </a:lnTo>
                    <a:lnTo>
                      <a:pt x="204" y="2"/>
                    </a:lnTo>
                    <a:lnTo>
                      <a:pt x="177" y="6"/>
                    </a:lnTo>
                    <a:lnTo>
                      <a:pt x="148" y="12"/>
                    </a:lnTo>
                    <a:lnTo>
                      <a:pt x="121" y="18"/>
                    </a:lnTo>
                    <a:lnTo>
                      <a:pt x="112" y="20"/>
                    </a:lnTo>
                    <a:lnTo>
                      <a:pt x="112" y="22"/>
                    </a:lnTo>
                    <a:lnTo>
                      <a:pt x="112" y="23"/>
                    </a:lnTo>
                    <a:lnTo>
                      <a:pt x="112" y="25"/>
                    </a:lnTo>
                    <a:lnTo>
                      <a:pt x="110" y="25"/>
                    </a:lnTo>
                    <a:lnTo>
                      <a:pt x="110" y="27"/>
                    </a:lnTo>
                    <a:lnTo>
                      <a:pt x="110" y="29"/>
                    </a:lnTo>
                    <a:lnTo>
                      <a:pt x="110" y="31"/>
                    </a:lnTo>
                    <a:lnTo>
                      <a:pt x="108" y="33"/>
                    </a:lnTo>
                    <a:lnTo>
                      <a:pt x="123" y="27"/>
                    </a:lnTo>
                    <a:lnTo>
                      <a:pt x="150" y="22"/>
                    </a:lnTo>
                    <a:lnTo>
                      <a:pt x="177" y="18"/>
                    </a:lnTo>
                    <a:lnTo>
                      <a:pt x="206" y="14"/>
                    </a:lnTo>
                    <a:lnTo>
                      <a:pt x="233" y="12"/>
                    </a:lnTo>
                    <a:lnTo>
                      <a:pt x="261" y="10"/>
                    </a:lnTo>
                    <a:lnTo>
                      <a:pt x="290" y="12"/>
                    </a:lnTo>
                    <a:lnTo>
                      <a:pt x="319" y="14"/>
                    </a:lnTo>
                    <a:lnTo>
                      <a:pt x="346" y="18"/>
                    </a:lnTo>
                    <a:lnTo>
                      <a:pt x="359" y="20"/>
                    </a:lnTo>
                    <a:lnTo>
                      <a:pt x="361" y="18"/>
                    </a:lnTo>
                    <a:lnTo>
                      <a:pt x="361" y="18"/>
                    </a:lnTo>
                    <a:lnTo>
                      <a:pt x="361" y="16"/>
                    </a:lnTo>
                    <a:lnTo>
                      <a:pt x="361" y="14"/>
                    </a:lnTo>
                    <a:lnTo>
                      <a:pt x="361" y="14"/>
                    </a:lnTo>
                    <a:lnTo>
                      <a:pt x="361" y="12"/>
                    </a:lnTo>
                    <a:lnTo>
                      <a:pt x="363" y="10"/>
                    </a:lnTo>
                    <a:lnTo>
                      <a:pt x="363" y="10"/>
                    </a:lnTo>
                    <a:close/>
                    <a:moveTo>
                      <a:pt x="2" y="1065"/>
                    </a:moveTo>
                    <a:lnTo>
                      <a:pt x="18" y="1073"/>
                    </a:lnTo>
                    <a:lnTo>
                      <a:pt x="43" y="1084"/>
                    </a:lnTo>
                    <a:lnTo>
                      <a:pt x="68" y="1096"/>
                    </a:lnTo>
                    <a:lnTo>
                      <a:pt x="94" y="1104"/>
                    </a:lnTo>
                    <a:lnTo>
                      <a:pt x="121" y="1111"/>
                    </a:lnTo>
                    <a:lnTo>
                      <a:pt x="148" y="1117"/>
                    </a:lnTo>
                    <a:lnTo>
                      <a:pt x="177" y="1123"/>
                    </a:lnTo>
                    <a:lnTo>
                      <a:pt x="204" y="1127"/>
                    </a:lnTo>
                    <a:lnTo>
                      <a:pt x="233" y="1129"/>
                    </a:lnTo>
                    <a:lnTo>
                      <a:pt x="261" y="1129"/>
                    </a:lnTo>
                    <a:lnTo>
                      <a:pt x="290" y="1129"/>
                    </a:lnTo>
                    <a:lnTo>
                      <a:pt x="319" y="1127"/>
                    </a:lnTo>
                    <a:lnTo>
                      <a:pt x="348" y="1123"/>
                    </a:lnTo>
                    <a:lnTo>
                      <a:pt x="363" y="1121"/>
                    </a:lnTo>
                    <a:lnTo>
                      <a:pt x="363" y="1119"/>
                    </a:lnTo>
                    <a:lnTo>
                      <a:pt x="363" y="1117"/>
                    </a:lnTo>
                    <a:lnTo>
                      <a:pt x="363" y="1117"/>
                    </a:lnTo>
                    <a:lnTo>
                      <a:pt x="361" y="1115"/>
                    </a:lnTo>
                    <a:lnTo>
                      <a:pt x="361" y="1113"/>
                    </a:lnTo>
                    <a:lnTo>
                      <a:pt x="361" y="1113"/>
                    </a:lnTo>
                    <a:lnTo>
                      <a:pt x="361" y="1111"/>
                    </a:lnTo>
                    <a:lnTo>
                      <a:pt x="361" y="1109"/>
                    </a:lnTo>
                    <a:lnTo>
                      <a:pt x="346" y="1113"/>
                    </a:lnTo>
                    <a:lnTo>
                      <a:pt x="319" y="1117"/>
                    </a:lnTo>
                    <a:lnTo>
                      <a:pt x="290" y="1119"/>
                    </a:lnTo>
                    <a:lnTo>
                      <a:pt x="261" y="1119"/>
                    </a:lnTo>
                    <a:lnTo>
                      <a:pt x="233" y="1119"/>
                    </a:lnTo>
                    <a:lnTo>
                      <a:pt x="206" y="1117"/>
                    </a:lnTo>
                    <a:lnTo>
                      <a:pt x="177" y="1113"/>
                    </a:lnTo>
                    <a:lnTo>
                      <a:pt x="150" y="1108"/>
                    </a:lnTo>
                    <a:lnTo>
                      <a:pt x="123" y="1102"/>
                    </a:lnTo>
                    <a:lnTo>
                      <a:pt x="96" y="1094"/>
                    </a:lnTo>
                    <a:lnTo>
                      <a:pt x="71" y="1086"/>
                    </a:lnTo>
                    <a:lnTo>
                      <a:pt x="46" y="1075"/>
                    </a:lnTo>
                    <a:lnTo>
                      <a:pt x="21" y="1065"/>
                    </a:lnTo>
                    <a:lnTo>
                      <a:pt x="0" y="1054"/>
                    </a:lnTo>
                    <a:lnTo>
                      <a:pt x="0" y="1056"/>
                    </a:lnTo>
                    <a:lnTo>
                      <a:pt x="0" y="1056"/>
                    </a:lnTo>
                    <a:lnTo>
                      <a:pt x="0" y="1058"/>
                    </a:lnTo>
                    <a:lnTo>
                      <a:pt x="0" y="1060"/>
                    </a:lnTo>
                    <a:lnTo>
                      <a:pt x="2" y="1061"/>
                    </a:lnTo>
                    <a:lnTo>
                      <a:pt x="2" y="1063"/>
                    </a:lnTo>
                    <a:lnTo>
                      <a:pt x="2" y="1065"/>
                    </a:lnTo>
                    <a:lnTo>
                      <a:pt x="2" y="1065"/>
                    </a:lnTo>
                    <a:close/>
                  </a:path>
                </a:pathLst>
              </a:custGeom>
              <a:solidFill>
                <a:srgbClr val="92d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Freeform 156"/>
              <p:cNvSpPr/>
              <p:nvPr/>
            </p:nvSpPr>
            <p:spPr>
              <a:xfrm>
                <a:off x="1842120" y="2232360"/>
                <a:ext cx="611280" cy="1883880"/>
              </a:xfrm>
              <a:custGeom>
                <a:avLst/>
                <a:gdLst>
                  <a:gd name="textAreaLeft" fmla="*/ 0 w 611280"/>
                  <a:gd name="textAreaRight" fmla="*/ 611640 w 611280"/>
                  <a:gd name="textAreaTop" fmla="*/ 0 h 1883880"/>
                  <a:gd name="textAreaBottom" fmla="*/ 1884240 h 1883880"/>
                </a:gdLst>
                <a:ahLst/>
                <a:rect l="textAreaLeft" t="textAreaTop" r="textAreaRight" b="textAreaBottom"/>
                <a:pathLst>
                  <a:path w="363" h="1119">
                    <a:moveTo>
                      <a:pt x="363" y="8"/>
                    </a:moveTo>
                    <a:lnTo>
                      <a:pt x="350" y="6"/>
                    </a:lnTo>
                    <a:lnTo>
                      <a:pt x="321" y="2"/>
                    </a:lnTo>
                    <a:lnTo>
                      <a:pt x="292" y="0"/>
                    </a:lnTo>
                    <a:lnTo>
                      <a:pt x="263" y="0"/>
                    </a:lnTo>
                    <a:lnTo>
                      <a:pt x="235" y="0"/>
                    </a:lnTo>
                    <a:lnTo>
                      <a:pt x="208" y="2"/>
                    </a:lnTo>
                    <a:lnTo>
                      <a:pt x="179" y="6"/>
                    </a:lnTo>
                    <a:lnTo>
                      <a:pt x="152" y="10"/>
                    </a:lnTo>
                    <a:lnTo>
                      <a:pt x="123" y="17"/>
                    </a:lnTo>
                    <a:lnTo>
                      <a:pt x="112" y="19"/>
                    </a:lnTo>
                    <a:lnTo>
                      <a:pt x="112" y="21"/>
                    </a:lnTo>
                    <a:lnTo>
                      <a:pt x="112" y="23"/>
                    </a:lnTo>
                    <a:lnTo>
                      <a:pt x="112" y="25"/>
                    </a:lnTo>
                    <a:lnTo>
                      <a:pt x="110" y="27"/>
                    </a:lnTo>
                    <a:lnTo>
                      <a:pt x="110" y="27"/>
                    </a:lnTo>
                    <a:lnTo>
                      <a:pt x="110" y="29"/>
                    </a:lnTo>
                    <a:lnTo>
                      <a:pt x="108" y="31"/>
                    </a:lnTo>
                    <a:lnTo>
                      <a:pt x="108" y="33"/>
                    </a:lnTo>
                    <a:lnTo>
                      <a:pt x="127" y="27"/>
                    </a:lnTo>
                    <a:lnTo>
                      <a:pt x="154" y="21"/>
                    </a:lnTo>
                    <a:lnTo>
                      <a:pt x="181" y="16"/>
                    </a:lnTo>
                    <a:lnTo>
                      <a:pt x="208" y="12"/>
                    </a:lnTo>
                    <a:lnTo>
                      <a:pt x="237" y="10"/>
                    </a:lnTo>
                    <a:lnTo>
                      <a:pt x="263" y="10"/>
                    </a:lnTo>
                    <a:lnTo>
                      <a:pt x="292" y="10"/>
                    </a:lnTo>
                    <a:lnTo>
                      <a:pt x="321" y="12"/>
                    </a:lnTo>
                    <a:lnTo>
                      <a:pt x="348" y="16"/>
                    </a:lnTo>
                    <a:lnTo>
                      <a:pt x="361" y="17"/>
                    </a:lnTo>
                    <a:lnTo>
                      <a:pt x="361" y="17"/>
                    </a:lnTo>
                    <a:lnTo>
                      <a:pt x="361" y="16"/>
                    </a:lnTo>
                    <a:lnTo>
                      <a:pt x="361" y="14"/>
                    </a:lnTo>
                    <a:lnTo>
                      <a:pt x="361" y="14"/>
                    </a:lnTo>
                    <a:lnTo>
                      <a:pt x="363" y="12"/>
                    </a:lnTo>
                    <a:lnTo>
                      <a:pt x="363" y="12"/>
                    </a:lnTo>
                    <a:lnTo>
                      <a:pt x="363" y="10"/>
                    </a:lnTo>
                    <a:lnTo>
                      <a:pt x="363" y="8"/>
                    </a:lnTo>
                    <a:close/>
                    <a:moveTo>
                      <a:pt x="2" y="1054"/>
                    </a:moveTo>
                    <a:lnTo>
                      <a:pt x="22" y="1063"/>
                    </a:lnTo>
                    <a:lnTo>
                      <a:pt x="47" y="1075"/>
                    </a:lnTo>
                    <a:lnTo>
                      <a:pt x="71" y="1084"/>
                    </a:lnTo>
                    <a:lnTo>
                      <a:pt x="98" y="1094"/>
                    </a:lnTo>
                    <a:lnTo>
                      <a:pt x="123" y="1102"/>
                    </a:lnTo>
                    <a:lnTo>
                      <a:pt x="152" y="1107"/>
                    </a:lnTo>
                    <a:lnTo>
                      <a:pt x="179" y="1111"/>
                    </a:lnTo>
                    <a:lnTo>
                      <a:pt x="208" y="1115"/>
                    </a:lnTo>
                    <a:lnTo>
                      <a:pt x="235" y="1117"/>
                    </a:lnTo>
                    <a:lnTo>
                      <a:pt x="263" y="1119"/>
                    </a:lnTo>
                    <a:lnTo>
                      <a:pt x="292" y="1117"/>
                    </a:lnTo>
                    <a:lnTo>
                      <a:pt x="321" y="1115"/>
                    </a:lnTo>
                    <a:lnTo>
                      <a:pt x="350" y="1111"/>
                    </a:lnTo>
                    <a:lnTo>
                      <a:pt x="363" y="1109"/>
                    </a:lnTo>
                    <a:lnTo>
                      <a:pt x="363" y="1107"/>
                    </a:lnTo>
                    <a:lnTo>
                      <a:pt x="363" y="1107"/>
                    </a:lnTo>
                    <a:lnTo>
                      <a:pt x="363" y="1105"/>
                    </a:lnTo>
                    <a:lnTo>
                      <a:pt x="363" y="1103"/>
                    </a:lnTo>
                    <a:lnTo>
                      <a:pt x="363" y="1103"/>
                    </a:lnTo>
                    <a:lnTo>
                      <a:pt x="361" y="1102"/>
                    </a:lnTo>
                    <a:lnTo>
                      <a:pt x="361" y="1100"/>
                    </a:lnTo>
                    <a:lnTo>
                      <a:pt x="361" y="1100"/>
                    </a:lnTo>
                    <a:lnTo>
                      <a:pt x="348" y="1102"/>
                    </a:lnTo>
                    <a:lnTo>
                      <a:pt x="321" y="1105"/>
                    </a:lnTo>
                    <a:lnTo>
                      <a:pt x="292" y="1107"/>
                    </a:lnTo>
                    <a:lnTo>
                      <a:pt x="263" y="1107"/>
                    </a:lnTo>
                    <a:lnTo>
                      <a:pt x="237" y="1107"/>
                    </a:lnTo>
                    <a:lnTo>
                      <a:pt x="208" y="1105"/>
                    </a:lnTo>
                    <a:lnTo>
                      <a:pt x="181" y="1102"/>
                    </a:lnTo>
                    <a:lnTo>
                      <a:pt x="154" y="1098"/>
                    </a:lnTo>
                    <a:lnTo>
                      <a:pt x="127" y="1090"/>
                    </a:lnTo>
                    <a:lnTo>
                      <a:pt x="100" y="1084"/>
                    </a:lnTo>
                    <a:lnTo>
                      <a:pt x="75" y="1075"/>
                    </a:lnTo>
                    <a:lnTo>
                      <a:pt x="50" y="1065"/>
                    </a:lnTo>
                    <a:lnTo>
                      <a:pt x="25" y="1054"/>
                    </a:lnTo>
                    <a:lnTo>
                      <a:pt x="2" y="1042"/>
                    </a:lnTo>
                    <a:lnTo>
                      <a:pt x="0" y="1042"/>
                    </a:lnTo>
                    <a:lnTo>
                      <a:pt x="2" y="1042"/>
                    </a:lnTo>
                    <a:lnTo>
                      <a:pt x="2" y="1044"/>
                    </a:lnTo>
                    <a:lnTo>
                      <a:pt x="2" y="1046"/>
                    </a:lnTo>
                    <a:lnTo>
                      <a:pt x="2" y="1048"/>
                    </a:lnTo>
                    <a:lnTo>
                      <a:pt x="2" y="1050"/>
                    </a:lnTo>
                    <a:lnTo>
                      <a:pt x="2" y="1050"/>
                    </a:lnTo>
                    <a:lnTo>
                      <a:pt x="2" y="1052"/>
                    </a:lnTo>
                    <a:lnTo>
                      <a:pt x="2" y="1054"/>
                    </a:lnTo>
                    <a:close/>
                  </a:path>
                </a:pathLst>
              </a:custGeom>
              <a:solidFill>
                <a:srgbClr val="93d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Freeform 157"/>
              <p:cNvSpPr/>
              <p:nvPr/>
            </p:nvSpPr>
            <p:spPr>
              <a:xfrm>
                <a:off x="1842120" y="2238840"/>
                <a:ext cx="611280" cy="1867320"/>
              </a:xfrm>
              <a:custGeom>
                <a:avLst/>
                <a:gdLst>
                  <a:gd name="textAreaLeft" fmla="*/ 0 w 611280"/>
                  <a:gd name="textAreaRight" fmla="*/ 611640 w 611280"/>
                  <a:gd name="textAreaTop" fmla="*/ 0 h 1867320"/>
                  <a:gd name="textAreaBottom" fmla="*/ 1867680 h 1867320"/>
                </a:gdLst>
                <a:ahLst/>
                <a:rect l="textAreaLeft" t="textAreaTop" r="textAreaRight" b="textAreaBottom"/>
                <a:pathLst>
                  <a:path w="363" h="1109">
                    <a:moveTo>
                      <a:pt x="361" y="10"/>
                    </a:moveTo>
                    <a:lnTo>
                      <a:pt x="348" y="8"/>
                    </a:lnTo>
                    <a:lnTo>
                      <a:pt x="321" y="4"/>
                    </a:lnTo>
                    <a:lnTo>
                      <a:pt x="292" y="2"/>
                    </a:lnTo>
                    <a:lnTo>
                      <a:pt x="263" y="0"/>
                    </a:lnTo>
                    <a:lnTo>
                      <a:pt x="235" y="2"/>
                    </a:lnTo>
                    <a:lnTo>
                      <a:pt x="208" y="4"/>
                    </a:lnTo>
                    <a:lnTo>
                      <a:pt x="179" y="8"/>
                    </a:lnTo>
                    <a:lnTo>
                      <a:pt x="152" y="12"/>
                    </a:lnTo>
                    <a:lnTo>
                      <a:pt x="125" y="17"/>
                    </a:lnTo>
                    <a:lnTo>
                      <a:pt x="110" y="23"/>
                    </a:lnTo>
                    <a:lnTo>
                      <a:pt x="110" y="23"/>
                    </a:lnTo>
                    <a:lnTo>
                      <a:pt x="110" y="25"/>
                    </a:lnTo>
                    <a:lnTo>
                      <a:pt x="108" y="27"/>
                    </a:lnTo>
                    <a:lnTo>
                      <a:pt x="108" y="29"/>
                    </a:lnTo>
                    <a:lnTo>
                      <a:pt x="108" y="29"/>
                    </a:lnTo>
                    <a:lnTo>
                      <a:pt x="108" y="31"/>
                    </a:lnTo>
                    <a:lnTo>
                      <a:pt x="106" y="33"/>
                    </a:lnTo>
                    <a:lnTo>
                      <a:pt x="106" y="35"/>
                    </a:lnTo>
                    <a:lnTo>
                      <a:pt x="127" y="29"/>
                    </a:lnTo>
                    <a:lnTo>
                      <a:pt x="154" y="21"/>
                    </a:lnTo>
                    <a:lnTo>
                      <a:pt x="181" y="17"/>
                    </a:lnTo>
                    <a:lnTo>
                      <a:pt x="208" y="13"/>
                    </a:lnTo>
                    <a:lnTo>
                      <a:pt x="237" y="12"/>
                    </a:lnTo>
                    <a:lnTo>
                      <a:pt x="263" y="12"/>
                    </a:lnTo>
                    <a:lnTo>
                      <a:pt x="292" y="12"/>
                    </a:lnTo>
                    <a:lnTo>
                      <a:pt x="319" y="13"/>
                    </a:lnTo>
                    <a:lnTo>
                      <a:pt x="346" y="17"/>
                    </a:lnTo>
                    <a:lnTo>
                      <a:pt x="359" y="19"/>
                    </a:lnTo>
                    <a:lnTo>
                      <a:pt x="359" y="17"/>
                    </a:lnTo>
                    <a:lnTo>
                      <a:pt x="359" y="17"/>
                    </a:lnTo>
                    <a:lnTo>
                      <a:pt x="359" y="15"/>
                    </a:lnTo>
                    <a:lnTo>
                      <a:pt x="361" y="13"/>
                    </a:lnTo>
                    <a:lnTo>
                      <a:pt x="361" y="13"/>
                    </a:lnTo>
                    <a:lnTo>
                      <a:pt x="361" y="12"/>
                    </a:lnTo>
                    <a:lnTo>
                      <a:pt x="361" y="10"/>
                    </a:lnTo>
                    <a:lnTo>
                      <a:pt x="361" y="10"/>
                    </a:lnTo>
                    <a:close/>
                    <a:moveTo>
                      <a:pt x="2" y="1044"/>
                    </a:moveTo>
                    <a:lnTo>
                      <a:pt x="23" y="1055"/>
                    </a:lnTo>
                    <a:lnTo>
                      <a:pt x="48" y="1065"/>
                    </a:lnTo>
                    <a:lnTo>
                      <a:pt x="73" y="1076"/>
                    </a:lnTo>
                    <a:lnTo>
                      <a:pt x="98" y="1084"/>
                    </a:lnTo>
                    <a:lnTo>
                      <a:pt x="125" y="1092"/>
                    </a:lnTo>
                    <a:lnTo>
                      <a:pt x="152" y="1098"/>
                    </a:lnTo>
                    <a:lnTo>
                      <a:pt x="179" y="1103"/>
                    </a:lnTo>
                    <a:lnTo>
                      <a:pt x="208" y="1107"/>
                    </a:lnTo>
                    <a:lnTo>
                      <a:pt x="235" y="1109"/>
                    </a:lnTo>
                    <a:lnTo>
                      <a:pt x="263" y="1109"/>
                    </a:lnTo>
                    <a:lnTo>
                      <a:pt x="292" y="1109"/>
                    </a:lnTo>
                    <a:lnTo>
                      <a:pt x="321" y="1107"/>
                    </a:lnTo>
                    <a:lnTo>
                      <a:pt x="348" y="1103"/>
                    </a:lnTo>
                    <a:lnTo>
                      <a:pt x="363" y="1099"/>
                    </a:lnTo>
                    <a:lnTo>
                      <a:pt x="363" y="1099"/>
                    </a:lnTo>
                    <a:lnTo>
                      <a:pt x="361" y="1098"/>
                    </a:lnTo>
                    <a:lnTo>
                      <a:pt x="361" y="1096"/>
                    </a:lnTo>
                    <a:lnTo>
                      <a:pt x="361" y="1096"/>
                    </a:lnTo>
                    <a:lnTo>
                      <a:pt x="361" y="1094"/>
                    </a:lnTo>
                    <a:lnTo>
                      <a:pt x="361" y="1094"/>
                    </a:lnTo>
                    <a:lnTo>
                      <a:pt x="361" y="1092"/>
                    </a:lnTo>
                    <a:lnTo>
                      <a:pt x="359" y="1090"/>
                    </a:lnTo>
                    <a:lnTo>
                      <a:pt x="346" y="1092"/>
                    </a:lnTo>
                    <a:lnTo>
                      <a:pt x="319" y="1096"/>
                    </a:lnTo>
                    <a:lnTo>
                      <a:pt x="292" y="1098"/>
                    </a:lnTo>
                    <a:lnTo>
                      <a:pt x="263" y="1099"/>
                    </a:lnTo>
                    <a:lnTo>
                      <a:pt x="237" y="1098"/>
                    </a:lnTo>
                    <a:lnTo>
                      <a:pt x="208" y="1096"/>
                    </a:lnTo>
                    <a:lnTo>
                      <a:pt x="181" y="1092"/>
                    </a:lnTo>
                    <a:lnTo>
                      <a:pt x="154" y="1088"/>
                    </a:lnTo>
                    <a:lnTo>
                      <a:pt x="127" y="1082"/>
                    </a:lnTo>
                    <a:lnTo>
                      <a:pt x="102" y="1074"/>
                    </a:lnTo>
                    <a:lnTo>
                      <a:pt x="77" y="1065"/>
                    </a:lnTo>
                    <a:lnTo>
                      <a:pt x="52" y="1055"/>
                    </a:lnTo>
                    <a:lnTo>
                      <a:pt x="27" y="1046"/>
                    </a:lnTo>
                    <a:lnTo>
                      <a:pt x="4" y="1032"/>
                    </a:lnTo>
                    <a:lnTo>
                      <a:pt x="0" y="1030"/>
                    </a:lnTo>
                    <a:lnTo>
                      <a:pt x="0" y="1032"/>
                    </a:lnTo>
                    <a:lnTo>
                      <a:pt x="0" y="1034"/>
                    </a:lnTo>
                    <a:lnTo>
                      <a:pt x="0" y="1036"/>
                    </a:lnTo>
                    <a:lnTo>
                      <a:pt x="0" y="1038"/>
                    </a:lnTo>
                    <a:lnTo>
                      <a:pt x="2" y="1038"/>
                    </a:lnTo>
                    <a:lnTo>
                      <a:pt x="2" y="1040"/>
                    </a:lnTo>
                    <a:lnTo>
                      <a:pt x="2" y="1042"/>
                    </a:lnTo>
                    <a:lnTo>
                      <a:pt x="2" y="1044"/>
                    </a:lnTo>
                    <a:close/>
                  </a:path>
                </a:pathLst>
              </a:custGeom>
              <a:solidFill>
                <a:srgbClr val="94d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Freeform 158"/>
              <p:cNvSpPr/>
              <p:nvPr/>
            </p:nvSpPr>
            <p:spPr>
              <a:xfrm>
                <a:off x="1840320" y="2249280"/>
                <a:ext cx="609120" cy="1846800"/>
              </a:xfrm>
              <a:custGeom>
                <a:avLst/>
                <a:gdLst>
                  <a:gd name="textAreaLeft" fmla="*/ 0 w 609120"/>
                  <a:gd name="textAreaRight" fmla="*/ 609480 w 609120"/>
                  <a:gd name="textAreaTop" fmla="*/ 0 h 1846800"/>
                  <a:gd name="textAreaBottom" fmla="*/ 1847160 h 1846800"/>
                </a:gdLst>
                <a:ahLst/>
                <a:rect l="textAreaLeft" t="textAreaTop" r="textAreaRight" b="textAreaBottom"/>
                <a:pathLst>
                  <a:path w="362" h="1097">
                    <a:moveTo>
                      <a:pt x="362" y="7"/>
                    </a:moveTo>
                    <a:lnTo>
                      <a:pt x="349" y="6"/>
                    </a:lnTo>
                    <a:lnTo>
                      <a:pt x="322" y="2"/>
                    </a:lnTo>
                    <a:lnTo>
                      <a:pt x="293" y="0"/>
                    </a:lnTo>
                    <a:lnTo>
                      <a:pt x="264" y="0"/>
                    </a:lnTo>
                    <a:lnTo>
                      <a:pt x="238" y="0"/>
                    </a:lnTo>
                    <a:lnTo>
                      <a:pt x="209" y="2"/>
                    </a:lnTo>
                    <a:lnTo>
                      <a:pt x="182" y="6"/>
                    </a:lnTo>
                    <a:lnTo>
                      <a:pt x="155" y="11"/>
                    </a:lnTo>
                    <a:lnTo>
                      <a:pt x="128" y="17"/>
                    </a:lnTo>
                    <a:lnTo>
                      <a:pt x="109" y="23"/>
                    </a:lnTo>
                    <a:lnTo>
                      <a:pt x="109" y="23"/>
                    </a:lnTo>
                    <a:lnTo>
                      <a:pt x="109" y="25"/>
                    </a:lnTo>
                    <a:lnTo>
                      <a:pt x="107" y="27"/>
                    </a:lnTo>
                    <a:lnTo>
                      <a:pt x="107" y="29"/>
                    </a:lnTo>
                    <a:lnTo>
                      <a:pt x="107" y="30"/>
                    </a:lnTo>
                    <a:lnTo>
                      <a:pt x="107" y="30"/>
                    </a:lnTo>
                    <a:lnTo>
                      <a:pt x="105" y="32"/>
                    </a:lnTo>
                    <a:lnTo>
                      <a:pt x="105" y="34"/>
                    </a:lnTo>
                    <a:lnTo>
                      <a:pt x="130" y="27"/>
                    </a:lnTo>
                    <a:lnTo>
                      <a:pt x="157" y="21"/>
                    </a:lnTo>
                    <a:lnTo>
                      <a:pt x="184" y="17"/>
                    </a:lnTo>
                    <a:lnTo>
                      <a:pt x="211" y="13"/>
                    </a:lnTo>
                    <a:lnTo>
                      <a:pt x="238" y="11"/>
                    </a:lnTo>
                    <a:lnTo>
                      <a:pt x="264" y="9"/>
                    </a:lnTo>
                    <a:lnTo>
                      <a:pt x="293" y="11"/>
                    </a:lnTo>
                    <a:lnTo>
                      <a:pt x="320" y="13"/>
                    </a:lnTo>
                    <a:lnTo>
                      <a:pt x="347" y="17"/>
                    </a:lnTo>
                    <a:lnTo>
                      <a:pt x="358" y="19"/>
                    </a:lnTo>
                    <a:lnTo>
                      <a:pt x="358" y="17"/>
                    </a:lnTo>
                    <a:lnTo>
                      <a:pt x="360" y="15"/>
                    </a:lnTo>
                    <a:lnTo>
                      <a:pt x="360" y="15"/>
                    </a:lnTo>
                    <a:lnTo>
                      <a:pt x="360" y="13"/>
                    </a:lnTo>
                    <a:lnTo>
                      <a:pt x="360" y="11"/>
                    </a:lnTo>
                    <a:lnTo>
                      <a:pt x="360" y="11"/>
                    </a:lnTo>
                    <a:lnTo>
                      <a:pt x="360" y="9"/>
                    </a:lnTo>
                    <a:lnTo>
                      <a:pt x="362" y="7"/>
                    </a:lnTo>
                    <a:close/>
                    <a:moveTo>
                      <a:pt x="1" y="1032"/>
                    </a:moveTo>
                    <a:lnTo>
                      <a:pt x="3" y="1032"/>
                    </a:lnTo>
                    <a:lnTo>
                      <a:pt x="26" y="1044"/>
                    </a:lnTo>
                    <a:lnTo>
                      <a:pt x="51" y="1055"/>
                    </a:lnTo>
                    <a:lnTo>
                      <a:pt x="76" y="1065"/>
                    </a:lnTo>
                    <a:lnTo>
                      <a:pt x="101" y="1074"/>
                    </a:lnTo>
                    <a:lnTo>
                      <a:pt x="128" y="1080"/>
                    </a:lnTo>
                    <a:lnTo>
                      <a:pt x="155" y="1088"/>
                    </a:lnTo>
                    <a:lnTo>
                      <a:pt x="182" y="1092"/>
                    </a:lnTo>
                    <a:lnTo>
                      <a:pt x="209" y="1095"/>
                    </a:lnTo>
                    <a:lnTo>
                      <a:pt x="238" y="1097"/>
                    </a:lnTo>
                    <a:lnTo>
                      <a:pt x="264" y="1097"/>
                    </a:lnTo>
                    <a:lnTo>
                      <a:pt x="293" y="1097"/>
                    </a:lnTo>
                    <a:lnTo>
                      <a:pt x="322" y="1095"/>
                    </a:lnTo>
                    <a:lnTo>
                      <a:pt x="349" y="1092"/>
                    </a:lnTo>
                    <a:lnTo>
                      <a:pt x="362" y="1090"/>
                    </a:lnTo>
                    <a:lnTo>
                      <a:pt x="362" y="1088"/>
                    </a:lnTo>
                    <a:lnTo>
                      <a:pt x="362" y="1088"/>
                    </a:lnTo>
                    <a:lnTo>
                      <a:pt x="362" y="1086"/>
                    </a:lnTo>
                    <a:lnTo>
                      <a:pt x="360" y="1084"/>
                    </a:lnTo>
                    <a:lnTo>
                      <a:pt x="360" y="1084"/>
                    </a:lnTo>
                    <a:lnTo>
                      <a:pt x="360" y="1082"/>
                    </a:lnTo>
                    <a:lnTo>
                      <a:pt x="360" y="1080"/>
                    </a:lnTo>
                    <a:lnTo>
                      <a:pt x="360" y="1080"/>
                    </a:lnTo>
                    <a:lnTo>
                      <a:pt x="347" y="1082"/>
                    </a:lnTo>
                    <a:lnTo>
                      <a:pt x="320" y="1086"/>
                    </a:lnTo>
                    <a:lnTo>
                      <a:pt x="293" y="1088"/>
                    </a:lnTo>
                    <a:lnTo>
                      <a:pt x="264" y="1088"/>
                    </a:lnTo>
                    <a:lnTo>
                      <a:pt x="238" y="1088"/>
                    </a:lnTo>
                    <a:lnTo>
                      <a:pt x="211" y="1086"/>
                    </a:lnTo>
                    <a:lnTo>
                      <a:pt x="184" y="1082"/>
                    </a:lnTo>
                    <a:lnTo>
                      <a:pt x="157" y="1076"/>
                    </a:lnTo>
                    <a:lnTo>
                      <a:pt x="130" y="1070"/>
                    </a:lnTo>
                    <a:lnTo>
                      <a:pt x="105" y="1063"/>
                    </a:lnTo>
                    <a:lnTo>
                      <a:pt x="80" y="1055"/>
                    </a:lnTo>
                    <a:lnTo>
                      <a:pt x="55" y="1045"/>
                    </a:lnTo>
                    <a:lnTo>
                      <a:pt x="32" y="1034"/>
                    </a:lnTo>
                    <a:lnTo>
                      <a:pt x="7" y="1022"/>
                    </a:lnTo>
                    <a:lnTo>
                      <a:pt x="0" y="1019"/>
                    </a:lnTo>
                    <a:lnTo>
                      <a:pt x="1" y="1021"/>
                    </a:lnTo>
                    <a:lnTo>
                      <a:pt x="1" y="1021"/>
                    </a:lnTo>
                    <a:lnTo>
                      <a:pt x="1" y="1022"/>
                    </a:lnTo>
                    <a:lnTo>
                      <a:pt x="1" y="1024"/>
                    </a:lnTo>
                    <a:lnTo>
                      <a:pt x="1" y="1026"/>
                    </a:lnTo>
                    <a:lnTo>
                      <a:pt x="1" y="1028"/>
                    </a:lnTo>
                    <a:lnTo>
                      <a:pt x="1" y="1030"/>
                    </a:lnTo>
                    <a:lnTo>
                      <a:pt x="1" y="1032"/>
                    </a:lnTo>
                    <a:close/>
                  </a:path>
                </a:pathLst>
              </a:custGeom>
              <a:solidFill>
                <a:srgbClr val="95d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Freeform 159"/>
              <p:cNvSpPr/>
              <p:nvPr/>
            </p:nvSpPr>
            <p:spPr>
              <a:xfrm>
                <a:off x="1840320" y="2259000"/>
                <a:ext cx="605880" cy="1830240"/>
              </a:xfrm>
              <a:custGeom>
                <a:avLst/>
                <a:gdLst>
                  <a:gd name="textAreaLeft" fmla="*/ 0 w 605880"/>
                  <a:gd name="textAreaRight" fmla="*/ 606240 w 605880"/>
                  <a:gd name="textAreaTop" fmla="*/ 0 h 1830240"/>
                  <a:gd name="textAreaBottom" fmla="*/ 1830600 h 1830240"/>
                </a:gdLst>
                <a:ahLst/>
                <a:rect l="textAreaLeft" t="textAreaTop" r="textAreaRight" b="textAreaBottom"/>
                <a:pathLst>
                  <a:path w="360" h="1087">
                    <a:moveTo>
                      <a:pt x="360" y="7"/>
                    </a:moveTo>
                    <a:lnTo>
                      <a:pt x="347" y="5"/>
                    </a:lnTo>
                    <a:lnTo>
                      <a:pt x="320" y="1"/>
                    </a:lnTo>
                    <a:lnTo>
                      <a:pt x="293" y="0"/>
                    </a:lnTo>
                    <a:lnTo>
                      <a:pt x="264" y="0"/>
                    </a:lnTo>
                    <a:lnTo>
                      <a:pt x="238" y="0"/>
                    </a:lnTo>
                    <a:lnTo>
                      <a:pt x="209" y="1"/>
                    </a:lnTo>
                    <a:lnTo>
                      <a:pt x="182" y="5"/>
                    </a:lnTo>
                    <a:lnTo>
                      <a:pt x="155" y="9"/>
                    </a:lnTo>
                    <a:lnTo>
                      <a:pt x="128" y="17"/>
                    </a:lnTo>
                    <a:lnTo>
                      <a:pt x="107" y="23"/>
                    </a:lnTo>
                    <a:lnTo>
                      <a:pt x="107" y="24"/>
                    </a:lnTo>
                    <a:lnTo>
                      <a:pt x="107" y="24"/>
                    </a:lnTo>
                    <a:lnTo>
                      <a:pt x="105" y="26"/>
                    </a:lnTo>
                    <a:lnTo>
                      <a:pt x="105" y="28"/>
                    </a:lnTo>
                    <a:lnTo>
                      <a:pt x="105" y="30"/>
                    </a:lnTo>
                    <a:lnTo>
                      <a:pt x="105" y="30"/>
                    </a:lnTo>
                    <a:lnTo>
                      <a:pt x="103" y="32"/>
                    </a:lnTo>
                    <a:lnTo>
                      <a:pt x="103" y="34"/>
                    </a:lnTo>
                    <a:lnTo>
                      <a:pt x="107" y="32"/>
                    </a:lnTo>
                    <a:lnTo>
                      <a:pt x="132" y="26"/>
                    </a:lnTo>
                    <a:lnTo>
                      <a:pt x="157" y="21"/>
                    </a:lnTo>
                    <a:lnTo>
                      <a:pt x="184" y="15"/>
                    </a:lnTo>
                    <a:lnTo>
                      <a:pt x="211" y="11"/>
                    </a:lnTo>
                    <a:lnTo>
                      <a:pt x="238" y="9"/>
                    </a:lnTo>
                    <a:lnTo>
                      <a:pt x="264" y="9"/>
                    </a:lnTo>
                    <a:lnTo>
                      <a:pt x="293" y="9"/>
                    </a:lnTo>
                    <a:lnTo>
                      <a:pt x="320" y="11"/>
                    </a:lnTo>
                    <a:lnTo>
                      <a:pt x="347" y="15"/>
                    </a:lnTo>
                    <a:lnTo>
                      <a:pt x="357" y="17"/>
                    </a:lnTo>
                    <a:lnTo>
                      <a:pt x="358" y="17"/>
                    </a:lnTo>
                    <a:lnTo>
                      <a:pt x="358" y="15"/>
                    </a:lnTo>
                    <a:lnTo>
                      <a:pt x="358" y="13"/>
                    </a:lnTo>
                    <a:lnTo>
                      <a:pt x="358" y="13"/>
                    </a:lnTo>
                    <a:lnTo>
                      <a:pt x="358" y="11"/>
                    </a:lnTo>
                    <a:lnTo>
                      <a:pt x="360" y="9"/>
                    </a:lnTo>
                    <a:lnTo>
                      <a:pt x="360" y="9"/>
                    </a:lnTo>
                    <a:lnTo>
                      <a:pt x="360" y="7"/>
                    </a:lnTo>
                    <a:close/>
                    <a:moveTo>
                      <a:pt x="1" y="1018"/>
                    </a:moveTo>
                    <a:lnTo>
                      <a:pt x="5" y="1020"/>
                    </a:lnTo>
                    <a:lnTo>
                      <a:pt x="28" y="1034"/>
                    </a:lnTo>
                    <a:lnTo>
                      <a:pt x="53" y="1043"/>
                    </a:lnTo>
                    <a:lnTo>
                      <a:pt x="78" y="1053"/>
                    </a:lnTo>
                    <a:lnTo>
                      <a:pt x="103" y="1062"/>
                    </a:lnTo>
                    <a:lnTo>
                      <a:pt x="128" y="1070"/>
                    </a:lnTo>
                    <a:lnTo>
                      <a:pt x="155" y="1076"/>
                    </a:lnTo>
                    <a:lnTo>
                      <a:pt x="182" y="1080"/>
                    </a:lnTo>
                    <a:lnTo>
                      <a:pt x="209" y="1084"/>
                    </a:lnTo>
                    <a:lnTo>
                      <a:pt x="238" y="1086"/>
                    </a:lnTo>
                    <a:lnTo>
                      <a:pt x="264" y="1087"/>
                    </a:lnTo>
                    <a:lnTo>
                      <a:pt x="293" y="1086"/>
                    </a:lnTo>
                    <a:lnTo>
                      <a:pt x="320" y="1084"/>
                    </a:lnTo>
                    <a:lnTo>
                      <a:pt x="347" y="1080"/>
                    </a:lnTo>
                    <a:lnTo>
                      <a:pt x="360" y="1078"/>
                    </a:lnTo>
                    <a:lnTo>
                      <a:pt x="360" y="1078"/>
                    </a:lnTo>
                    <a:lnTo>
                      <a:pt x="360" y="1076"/>
                    </a:lnTo>
                    <a:lnTo>
                      <a:pt x="360" y="1074"/>
                    </a:lnTo>
                    <a:lnTo>
                      <a:pt x="360" y="1074"/>
                    </a:lnTo>
                    <a:lnTo>
                      <a:pt x="360" y="1072"/>
                    </a:lnTo>
                    <a:lnTo>
                      <a:pt x="358" y="1070"/>
                    </a:lnTo>
                    <a:lnTo>
                      <a:pt x="358" y="1070"/>
                    </a:lnTo>
                    <a:lnTo>
                      <a:pt x="358" y="1068"/>
                    </a:lnTo>
                    <a:lnTo>
                      <a:pt x="347" y="1070"/>
                    </a:lnTo>
                    <a:lnTo>
                      <a:pt x="320" y="1074"/>
                    </a:lnTo>
                    <a:lnTo>
                      <a:pt x="293" y="1076"/>
                    </a:lnTo>
                    <a:lnTo>
                      <a:pt x="264" y="1076"/>
                    </a:lnTo>
                    <a:lnTo>
                      <a:pt x="238" y="1076"/>
                    </a:lnTo>
                    <a:lnTo>
                      <a:pt x="211" y="1074"/>
                    </a:lnTo>
                    <a:lnTo>
                      <a:pt x="184" y="1070"/>
                    </a:lnTo>
                    <a:lnTo>
                      <a:pt x="157" y="1066"/>
                    </a:lnTo>
                    <a:lnTo>
                      <a:pt x="132" y="1061"/>
                    </a:lnTo>
                    <a:lnTo>
                      <a:pt x="107" y="1053"/>
                    </a:lnTo>
                    <a:lnTo>
                      <a:pt x="82" y="1043"/>
                    </a:lnTo>
                    <a:lnTo>
                      <a:pt x="57" y="1034"/>
                    </a:lnTo>
                    <a:lnTo>
                      <a:pt x="34" y="1024"/>
                    </a:lnTo>
                    <a:lnTo>
                      <a:pt x="11" y="1013"/>
                    </a:lnTo>
                    <a:lnTo>
                      <a:pt x="0" y="1005"/>
                    </a:lnTo>
                    <a:lnTo>
                      <a:pt x="0" y="1007"/>
                    </a:lnTo>
                    <a:lnTo>
                      <a:pt x="0" y="1009"/>
                    </a:lnTo>
                    <a:lnTo>
                      <a:pt x="0" y="1011"/>
                    </a:lnTo>
                    <a:lnTo>
                      <a:pt x="0" y="1013"/>
                    </a:lnTo>
                    <a:lnTo>
                      <a:pt x="1" y="1015"/>
                    </a:lnTo>
                    <a:lnTo>
                      <a:pt x="1" y="1015"/>
                    </a:lnTo>
                    <a:lnTo>
                      <a:pt x="1" y="1016"/>
                    </a:lnTo>
                    <a:lnTo>
                      <a:pt x="1" y="1018"/>
                    </a:lnTo>
                    <a:close/>
                  </a:path>
                </a:pathLst>
              </a:custGeom>
              <a:solidFill>
                <a:srgbClr val="96d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Freeform 160"/>
              <p:cNvSpPr/>
              <p:nvPr/>
            </p:nvSpPr>
            <p:spPr>
              <a:xfrm>
                <a:off x="1837080" y="2264400"/>
                <a:ext cx="609120" cy="1816560"/>
              </a:xfrm>
              <a:custGeom>
                <a:avLst/>
                <a:gdLst>
                  <a:gd name="textAreaLeft" fmla="*/ 0 w 609120"/>
                  <a:gd name="textAreaRight" fmla="*/ 609480 w 609120"/>
                  <a:gd name="textAreaTop" fmla="*/ 0 h 1816560"/>
                  <a:gd name="textAreaBottom" fmla="*/ 1816920 h 1816560"/>
                </a:gdLst>
                <a:ahLst/>
                <a:rect l="textAreaLeft" t="textAreaTop" r="textAreaRight" b="textAreaBottom"/>
                <a:pathLst>
                  <a:path w="362" h="1079">
                    <a:moveTo>
                      <a:pt x="360" y="10"/>
                    </a:moveTo>
                    <a:lnTo>
                      <a:pt x="349" y="8"/>
                    </a:lnTo>
                    <a:lnTo>
                      <a:pt x="322" y="4"/>
                    </a:lnTo>
                    <a:lnTo>
                      <a:pt x="295" y="2"/>
                    </a:lnTo>
                    <a:lnTo>
                      <a:pt x="266" y="0"/>
                    </a:lnTo>
                    <a:lnTo>
                      <a:pt x="240" y="2"/>
                    </a:lnTo>
                    <a:lnTo>
                      <a:pt x="213" y="4"/>
                    </a:lnTo>
                    <a:lnTo>
                      <a:pt x="186" y="8"/>
                    </a:lnTo>
                    <a:lnTo>
                      <a:pt x="159" y="12"/>
                    </a:lnTo>
                    <a:lnTo>
                      <a:pt x="132" y="18"/>
                    </a:lnTo>
                    <a:lnTo>
                      <a:pt x="107" y="25"/>
                    </a:lnTo>
                    <a:lnTo>
                      <a:pt x="107" y="27"/>
                    </a:lnTo>
                    <a:lnTo>
                      <a:pt x="107" y="27"/>
                    </a:lnTo>
                    <a:lnTo>
                      <a:pt x="105" y="29"/>
                    </a:lnTo>
                    <a:lnTo>
                      <a:pt x="105" y="31"/>
                    </a:lnTo>
                    <a:lnTo>
                      <a:pt x="105" y="33"/>
                    </a:lnTo>
                    <a:lnTo>
                      <a:pt x="103" y="35"/>
                    </a:lnTo>
                    <a:lnTo>
                      <a:pt x="103" y="35"/>
                    </a:lnTo>
                    <a:lnTo>
                      <a:pt x="103" y="37"/>
                    </a:lnTo>
                    <a:lnTo>
                      <a:pt x="109" y="35"/>
                    </a:lnTo>
                    <a:lnTo>
                      <a:pt x="134" y="27"/>
                    </a:lnTo>
                    <a:lnTo>
                      <a:pt x="161" y="21"/>
                    </a:lnTo>
                    <a:lnTo>
                      <a:pt x="186" y="18"/>
                    </a:lnTo>
                    <a:lnTo>
                      <a:pt x="213" y="14"/>
                    </a:lnTo>
                    <a:lnTo>
                      <a:pt x="240" y="12"/>
                    </a:lnTo>
                    <a:lnTo>
                      <a:pt x="266" y="12"/>
                    </a:lnTo>
                    <a:lnTo>
                      <a:pt x="293" y="12"/>
                    </a:lnTo>
                    <a:lnTo>
                      <a:pt x="320" y="14"/>
                    </a:lnTo>
                    <a:lnTo>
                      <a:pt x="347" y="18"/>
                    </a:lnTo>
                    <a:lnTo>
                      <a:pt x="359" y="20"/>
                    </a:lnTo>
                    <a:lnTo>
                      <a:pt x="359" y="18"/>
                    </a:lnTo>
                    <a:lnTo>
                      <a:pt x="359" y="16"/>
                    </a:lnTo>
                    <a:lnTo>
                      <a:pt x="359" y="16"/>
                    </a:lnTo>
                    <a:lnTo>
                      <a:pt x="359" y="14"/>
                    </a:lnTo>
                    <a:lnTo>
                      <a:pt x="360" y="14"/>
                    </a:lnTo>
                    <a:lnTo>
                      <a:pt x="360" y="12"/>
                    </a:lnTo>
                    <a:lnTo>
                      <a:pt x="360" y="10"/>
                    </a:lnTo>
                    <a:lnTo>
                      <a:pt x="360" y="10"/>
                    </a:lnTo>
                    <a:close/>
                    <a:moveTo>
                      <a:pt x="2" y="1010"/>
                    </a:moveTo>
                    <a:lnTo>
                      <a:pt x="9" y="1013"/>
                    </a:lnTo>
                    <a:lnTo>
                      <a:pt x="34" y="1025"/>
                    </a:lnTo>
                    <a:lnTo>
                      <a:pt x="57" y="1036"/>
                    </a:lnTo>
                    <a:lnTo>
                      <a:pt x="82" y="1046"/>
                    </a:lnTo>
                    <a:lnTo>
                      <a:pt x="107" y="1054"/>
                    </a:lnTo>
                    <a:lnTo>
                      <a:pt x="132" y="1061"/>
                    </a:lnTo>
                    <a:lnTo>
                      <a:pt x="159" y="1067"/>
                    </a:lnTo>
                    <a:lnTo>
                      <a:pt x="186" y="1073"/>
                    </a:lnTo>
                    <a:lnTo>
                      <a:pt x="213" y="1077"/>
                    </a:lnTo>
                    <a:lnTo>
                      <a:pt x="240" y="1079"/>
                    </a:lnTo>
                    <a:lnTo>
                      <a:pt x="266" y="1079"/>
                    </a:lnTo>
                    <a:lnTo>
                      <a:pt x="295" y="1079"/>
                    </a:lnTo>
                    <a:lnTo>
                      <a:pt x="322" y="1077"/>
                    </a:lnTo>
                    <a:lnTo>
                      <a:pt x="349" y="1073"/>
                    </a:lnTo>
                    <a:lnTo>
                      <a:pt x="362" y="1071"/>
                    </a:lnTo>
                    <a:lnTo>
                      <a:pt x="362" y="1069"/>
                    </a:lnTo>
                    <a:lnTo>
                      <a:pt x="360" y="1067"/>
                    </a:lnTo>
                    <a:lnTo>
                      <a:pt x="360" y="1067"/>
                    </a:lnTo>
                    <a:lnTo>
                      <a:pt x="360" y="1065"/>
                    </a:lnTo>
                    <a:lnTo>
                      <a:pt x="360" y="1063"/>
                    </a:lnTo>
                    <a:lnTo>
                      <a:pt x="360" y="1063"/>
                    </a:lnTo>
                    <a:lnTo>
                      <a:pt x="360" y="1061"/>
                    </a:lnTo>
                    <a:lnTo>
                      <a:pt x="359" y="1059"/>
                    </a:lnTo>
                    <a:lnTo>
                      <a:pt x="347" y="1061"/>
                    </a:lnTo>
                    <a:lnTo>
                      <a:pt x="320" y="1065"/>
                    </a:lnTo>
                    <a:lnTo>
                      <a:pt x="293" y="1067"/>
                    </a:lnTo>
                    <a:lnTo>
                      <a:pt x="266" y="1069"/>
                    </a:lnTo>
                    <a:lnTo>
                      <a:pt x="240" y="1067"/>
                    </a:lnTo>
                    <a:lnTo>
                      <a:pt x="213" y="1065"/>
                    </a:lnTo>
                    <a:lnTo>
                      <a:pt x="186" y="1061"/>
                    </a:lnTo>
                    <a:lnTo>
                      <a:pt x="161" y="1058"/>
                    </a:lnTo>
                    <a:lnTo>
                      <a:pt x="134" y="1052"/>
                    </a:lnTo>
                    <a:lnTo>
                      <a:pt x="109" y="1044"/>
                    </a:lnTo>
                    <a:lnTo>
                      <a:pt x="86" y="1036"/>
                    </a:lnTo>
                    <a:lnTo>
                      <a:pt x="61" y="1027"/>
                    </a:lnTo>
                    <a:lnTo>
                      <a:pt x="38" y="1015"/>
                    </a:lnTo>
                    <a:lnTo>
                      <a:pt x="15" y="1004"/>
                    </a:lnTo>
                    <a:lnTo>
                      <a:pt x="0" y="996"/>
                    </a:lnTo>
                    <a:lnTo>
                      <a:pt x="2" y="998"/>
                    </a:lnTo>
                    <a:lnTo>
                      <a:pt x="2" y="1000"/>
                    </a:lnTo>
                    <a:lnTo>
                      <a:pt x="2" y="1002"/>
                    </a:lnTo>
                    <a:lnTo>
                      <a:pt x="2" y="1002"/>
                    </a:lnTo>
                    <a:lnTo>
                      <a:pt x="2" y="1004"/>
                    </a:lnTo>
                    <a:lnTo>
                      <a:pt x="2" y="1006"/>
                    </a:lnTo>
                    <a:lnTo>
                      <a:pt x="2" y="1008"/>
                    </a:lnTo>
                    <a:lnTo>
                      <a:pt x="2" y="1010"/>
                    </a:lnTo>
                    <a:close/>
                  </a:path>
                </a:pathLst>
              </a:custGeom>
              <a:solidFill>
                <a:srgbClr val="97d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Freeform 161"/>
              <p:cNvSpPr/>
              <p:nvPr/>
            </p:nvSpPr>
            <p:spPr>
              <a:xfrm>
                <a:off x="1837080" y="2274480"/>
                <a:ext cx="605880" cy="1796400"/>
              </a:xfrm>
              <a:custGeom>
                <a:avLst/>
                <a:gdLst>
                  <a:gd name="textAreaLeft" fmla="*/ 0 w 605880"/>
                  <a:gd name="textAreaRight" fmla="*/ 606240 w 605880"/>
                  <a:gd name="textAreaTop" fmla="*/ 0 h 1796400"/>
                  <a:gd name="textAreaBottom" fmla="*/ 1796760 h 1796400"/>
                </a:gdLst>
                <a:ahLst/>
                <a:rect l="textAreaLeft" t="textAreaTop" r="textAreaRight" b="textAreaBottom"/>
                <a:pathLst>
                  <a:path w="360" h="1067">
                    <a:moveTo>
                      <a:pt x="359" y="8"/>
                    </a:moveTo>
                    <a:lnTo>
                      <a:pt x="349" y="6"/>
                    </a:lnTo>
                    <a:lnTo>
                      <a:pt x="322" y="2"/>
                    </a:lnTo>
                    <a:lnTo>
                      <a:pt x="295" y="0"/>
                    </a:lnTo>
                    <a:lnTo>
                      <a:pt x="266" y="0"/>
                    </a:lnTo>
                    <a:lnTo>
                      <a:pt x="240" y="0"/>
                    </a:lnTo>
                    <a:lnTo>
                      <a:pt x="213" y="2"/>
                    </a:lnTo>
                    <a:lnTo>
                      <a:pt x="186" y="6"/>
                    </a:lnTo>
                    <a:lnTo>
                      <a:pt x="159" y="12"/>
                    </a:lnTo>
                    <a:lnTo>
                      <a:pt x="134" y="17"/>
                    </a:lnTo>
                    <a:lnTo>
                      <a:pt x="109" y="23"/>
                    </a:lnTo>
                    <a:lnTo>
                      <a:pt x="105" y="25"/>
                    </a:lnTo>
                    <a:lnTo>
                      <a:pt x="105" y="27"/>
                    </a:lnTo>
                    <a:lnTo>
                      <a:pt x="103" y="29"/>
                    </a:lnTo>
                    <a:lnTo>
                      <a:pt x="103" y="29"/>
                    </a:lnTo>
                    <a:lnTo>
                      <a:pt x="103" y="31"/>
                    </a:lnTo>
                    <a:lnTo>
                      <a:pt x="103" y="33"/>
                    </a:lnTo>
                    <a:lnTo>
                      <a:pt x="101" y="35"/>
                    </a:lnTo>
                    <a:lnTo>
                      <a:pt x="101" y="37"/>
                    </a:lnTo>
                    <a:lnTo>
                      <a:pt x="101" y="37"/>
                    </a:lnTo>
                    <a:lnTo>
                      <a:pt x="111" y="35"/>
                    </a:lnTo>
                    <a:lnTo>
                      <a:pt x="136" y="27"/>
                    </a:lnTo>
                    <a:lnTo>
                      <a:pt x="161" y="21"/>
                    </a:lnTo>
                    <a:lnTo>
                      <a:pt x="188" y="15"/>
                    </a:lnTo>
                    <a:lnTo>
                      <a:pt x="213" y="14"/>
                    </a:lnTo>
                    <a:lnTo>
                      <a:pt x="240" y="12"/>
                    </a:lnTo>
                    <a:lnTo>
                      <a:pt x="266" y="10"/>
                    </a:lnTo>
                    <a:lnTo>
                      <a:pt x="293" y="12"/>
                    </a:lnTo>
                    <a:lnTo>
                      <a:pt x="320" y="14"/>
                    </a:lnTo>
                    <a:lnTo>
                      <a:pt x="347" y="15"/>
                    </a:lnTo>
                    <a:lnTo>
                      <a:pt x="357" y="17"/>
                    </a:lnTo>
                    <a:lnTo>
                      <a:pt x="357" y="17"/>
                    </a:lnTo>
                    <a:lnTo>
                      <a:pt x="357" y="15"/>
                    </a:lnTo>
                    <a:lnTo>
                      <a:pt x="359" y="14"/>
                    </a:lnTo>
                    <a:lnTo>
                      <a:pt x="359" y="14"/>
                    </a:lnTo>
                    <a:lnTo>
                      <a:pt x="359" y="12"/>
                    </a:lnTo>
                    <a:lnTo>
                      <a:pt x="359" y="10"/>
                    </a:lnTo>
                    <a:lnTo>
                      <a:pt x="359" y="10"/>
                    </a:lnTo>
                    <a:lnTo>
                      <a:pt x="359" y="8"/>
                    </a:lnTo>
                    <a:close/>
                    <a:moveTo>
                      <a:pt x="2" y="996"/>
                    </a:moveTo>
                    <a:lnTo>
                      <a:pt x="13" y="1004"/>
                    </a:lnTo>
                    <a:lnTo>
                      <a:pt x="36" y="1015"/>
                    </a:lnTo>
                    <a:lnTo>
                      <a:pt x="59" y="1025"/>
                    </a:lnTo>
                    <a:lnTo>
                      <a:pt x="84" y="1034"/>
                    </a:lnTo>
                    <a:lnTo>
                      <a:pt x="109" y="1044"/>
                    </a:lnTo>
                    <a:lnTo>
                      <a:pt x="134" y="1052"/>
                    </a:lnTo>
                    <a:lnTo>
                      <a:pt x="159" y="1057"/>
                    </a:lnTo>
                    <a:lnTo>
                      <a:pt x="186" y="1061"/>
                    </a:lnTo>
                    <a:lnTo>
                      <a:pt x="213" y="1065"/>
                    </a:lnTo>
                    <a:lnTo>
                      <a:pt x="240" y="1067"/>
                    </a:lnTo>
                    <a:lnTo>
                      <a:pt x="266" y="1067"/>
                    </a:lnTo>
                    <a:lnTo>
                      <a:pt x="295" y="1067"/>
                    </a:lnTo>
                    <a:lnTo>
                      <a:pt x="322" y="1065"/>
                    </a:lnTo>
                    <a:lnTo>
                      <a:pt x="349" y="1061"/>
                    </a:lnTo>
                    <a:lnTo>
                      <a:pt x="360" y="1059"/>
                    </a:lnTo>
                    <a:lnTo>
                      <a:pt x="360" y="1057"/>
                    </a:lnTo>
                    <a:lnTo>
                      <a:pt x="360" y="1057"/>
                    </a:lnTo>
                    <a:lnTo>
                      <a:pt x="360" y="1055"/>
                    </a:lnTo>
                    <a:lnTo>
                      <a:pt x="359" y="1053"/>
                    </a:lnTo>
                    <a:lnTo>
                      <a:pt x="359" y="1053"/>
                    </a:lnTo>
                    <a:lnTo>
                      <a:pt x="359" y="1052"/>
                    </a:lnTo>
                    <a:lnTo>
                      <a:pt x="359" y="1050"/>
                    </a:lnTo>
                    <a:lnTo>
                      <a:pt x="359" y="1050"/>
                    </a:lnTo>
                    <a:lnTo>
                      <a:pt x="347" y="1052"/>
                    </a:lnTo>
                    <a:lnTo>
                      <a:pt x="320" y="1055"/>
                    </a:lnTo>
                    <a:lnTo>
                      <a:pt x="293" y="1057"/>
                    </a:lnTo>
                    <a:lnTo>
                      <a:pt x="266" y="1057"/>
                    </a:lnTo>
                    <a:lnTo>
                      <a:pt x="240" y="1057"/>
                    </a:lnTo>
                    <a:lnTo>
                      <a:pt x="213" y="1055"/>
                    </a:lnTo>
                    <a:lnTo>
                      <a:pt x="188" y="1052"/>
                    </a:lnTo>
                    <a:lnTo>
                      <a:pt x="161" y="1046"/>
                    </a:lnTo>
                    <a:lnTo>
                      <a:pt x="136" y="1040"/>
                    </a:lnTo>
                    <a:lnTo>
                      <a:pt x="111" y="1034"/>
                    </a:lnTo>
                    <a:lnTo>
                      <a:pt x="88" y="1025"/>
                    </a:lnTo>
                    <a:lnTo>
                      <a:pt x="63" y="1017"/>
                    </a:lnTo>
                    <a:lnTo>
                      <a:pt x="40" y="1006"/>
                    </a:lnTo>
                    <a:lnTo>
                      <a:pt x="17" y="994"/>
                    </a:lnTo>
                    <a:lnTo>
                      <a:pt x="0" y="984"/>
                    </a:lnTo>
                    <a:lnTo>
                      <a:pt x="0" y="986"/>
                    </a:lnTo>
                    <a:lnTo>
                      <a:pt x="0" y="986"/>
                    </a:lnTo>
                    <a:lnTo>
                      <a:pt x="0" y="988"/>
                    </a:lnTo>
                    <a:lnTo>
                      <a:pt x="0" y="990"/>
                    </a:lnTo>
                    <a:lnTo>
                      <a:pt x="2" y="992"/>
                    </a:lnTo>
                    <a:lnTo>
                      <a:pt x="2" y="994"/>
                    </a:lnTo>
                    <a:lnTo>
                      <a:pt x="2" y="996"/>
                    </a:lnTo>
                    <a:lnTo>
                      <a:pt x="2" y="996"/>
                    </a:lnTo>
                    <a:close/>
                  </a:path>
                </a:pathLst>
              </a:custGeom>
              <a:solidFill>
                <a:srgbClr val="98d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Freeform 162"/>
              <p:cNvSpPr/>
              <p:nvPr/>
            </p:nvSpPr>
            <p:spPr>
              <a:xfrm>
                <a:off x="1837080" y="2284200"/>
                <a:ext cx="604440" cy="1779840"/>
              </a:xfrm>
              <a:custGeom>
                <a:avLst/>
                <a:gdLst>
                  <a:gd name="textAreaLeft" fmla="*/ 0 w 604440"/>
                  <a:gd name="textAreaRight" fmla="*/ 604800 w 604440"/>
                  <a:gd name="textAreaTop" fmla="*/ 0 h 1779840"/>
                  <a:gd name="textAreaBottom" fmla="*/ 1780200 h 1779840"/>
                </a:gdLst>
                <a:ahLst/>
                <a:rect l="textAreaLeft" t="textAreaTop" r="textAreaRight" b="textAreaBottom"/>
                <a:pathLst>
                  <a:path w="359" h="1057">
                    <a:moveTo>
                      <a:pt x="359" y="8"/>
                    </a:moveTo>
                    <a:lnTo>
                      <a:pt x="347" y="6"/>
                    </a:lnTo>
                    <a:lnTo>
                      <a:pt x="320" y="2"/>
                    </a:lnTo>
                    <a:lnTo>
                      <a:pt x="293" y="0"/>
                    </a:lnTo>
                    <a:lnTo>
                      <a:pt x="266" y="0"/>
                    </a:lnTo>
                    <a:lnTo>
                      <a:pt x="240" y="0"/>
                    </a:lnTo>
                    <a:lnTo>
                      <a:pt x="213" y="2"/>
                    </a:lnTo>
                    <a:lnTo>
                      <a:pt x="186" y="6"/>
                    </a:lnTo>
                    <a:lnTo>
                      <a:pt x="161" y="9"/>
                    </a:lnTo>
                    <a:lnTo>
                      <a:pt x="134" y="15"/>
                    </a:lnTo>
                    <a:lnTo>
                      <a:pt x="109" y="23"/>
                    </a:lnTo>
                    <a:lnTo>
                      <a:pt x="103" y="25"/>
                    </a:lnTo>
                    <a:lnTo>
                      <a:pt x="103" y="27"/>
                    </a:lnTo>
                    <a:lnTo>
                      <a:pt x="101" y="29"/>
                    </a:lnTo>
                    <a:lnTo>
                      <a:pt x="101" y="31"/>
                    </a:lnTo>
                    <a:lnTo>
                      <a:pt x="101" y="31"/>
                    </a:lnTo>
                    <a:lnTo>
                      <a:pt x="101" y="32"/>
                    </a:lnTo>
                    <a:lnTo>
                      <a:pt x="99" y="34"/>
                    </a:lnTo>
                    <a:lnTo>
                      <a:pt x="99" y="36"/>
                    </a:lnTo>
                    <a:lnTo>
                      <a:pt x="99" y="38"/>
                    </a:lnTo>
                    <a:lnTo>
                      <a:pt x="113" y="32"/>
                    </a:lnTo>
                    <a:lnTo>
                      <a:pt x="138" y="25"/>
                    </a:lnTo>
                    <a:lnTo>
                      <a:pt x="163" y="19"/>
                    </a:lnTo>
                    <a:lnTo>
                      <a:pt x="188" y="15"/>
                    </a:lnTo>
                    <a:lnTo>
                      <a:pt x="215" y="11"/>
                    </a:lnTo>
                    <a:lnTo>
                      <a:pt x="240" y="9"/>
                    </a:lnTo>
                    <a:lnTo>
                      <a:pt x="266" y="9"/>
                    </a:lnTo>
                    <a:lnTo>
                      <a:pt x="293" y="9"/>
                    </a:lnTo>
                    <a:lnTo>
                      <a:pt x="320" y="11"/>
                    </a:lnTo>
                    <a:lnTo>
                      <a:pt x="345" y="15"/>
                    </a:lnTo>
                    <a:lnTo>
                      <a:pt x="355" y="17"/>
                    </a:lnTo>
                    <a:lnTo>
                      <a:pt x="357" y="15"/>
                    </a:lnTo>
                    <a:lnTo>
                      <a:pt x="357" y="15"/>
                    </a:lnTo>
                    <a:lnTo>
                      <a:pt x="357" y="13"/>
                    </a:lnTo>
                    <a:lnTo>
                      <a:pt x="357" y="11"/>
                    </a:lnTo>
                    <a:lnTo>
                      <a:pt x="357" y="11"/>
                    </a:lnTo>
                    <a:lnTo>
                      <a:pt x="357" y="9"/>
                    </a:lnTo>
                    <a:lnTo>
                      <a:pt x="359" y="8"/>
                    </a:lnTo>
                    <a:lnTo>
                      <a:pt x="359" y="8"/>
                    </a:lnTo>
                    <a:close/>
                    <a:moveTo>
                      <a:pt x="0" y="984"/>
                    </a:moveTo>
                    <a:lnTo>
                      <a:pt x="15" y="992"/>
                    </a:lnTo>
                    <a:lnTo>
                      <a:pt x="38" y="1005"/>
                    </a:lnTo>
                    <a:lnTo>
                      <a:pt x="61" y="1015"/>
                    </a:lnTo>
                    <a:lnTo>
                      <a:pt x="86" y="1024"/>
                    </a:lnTo>
                    <a:lnTo>
                      <a:pt x="109" y="1032"/>
                    </a:lnTo>
                    <a:lnTo>
                      <a:pt x="134" y="1040"/>
                    </a:lnTo>
                    <a:lnTo>
                      <a:pt x="161" y="1046"/>
                    </a:lnTo>
                    <a:lnTo>
                      <a:pt x="186" y="1049"/>
                    </a:lnTo>
                    <a:lnTo>
                      <a:pt x="213" y="1053"/>
                    </a:lnTo>
                    <a:lnTo>
                      <a:pt x="240" y="1055"/>
                    </a:lnTo>
                    <a:lnTo>
                      <a:pt x="266" y="1057"/>
                    </a:lnTo>
                    <a:lnTo>
                      <a:pt x="293" y="1055"/>
                    </a:lnTo>
                    <a:lnTo>
                      <a:pt x="320" y="1053"/>
                    </a:lnTo>
                    <a:lnTo>
                      <a:pt x="347" y="1049"/>
                    </a:lnTo>
                    <a:lnTo>
                      <a:pt x="359" y="1047"/>
                    </a:lnTo>
                    <a:lnTo>
                      <a:pt x="359" y="1047"/>
                    </a:lnTo>
                    <a:lnTo>
                      <a:pt x="359" y="1046"/>
                    </a:lnTo>
                    <a:lnTo>
                      <a:pt x="359" y="1044"/>
                    </a:lnTo>
                    <a:lnTo>
                      <a:pt x="359" y="1044"/>
                    </a:lnTo>
                    <a:lnTo>
                      <a:pt x="359" y="1042"/>
                    </a:lnTo>
                    <a:lnTo>
                      <a:pt x="357" y="1042"/>
                    </a:lnTo>
                    <a:lnTo>
                      <a:pt x="357" y="1040"/>
                    </a:lnTo>
                    <a:lnTo>
                      <a:pt x="357" y="1038"/>
                    </a:lnTo>
                    <a:lnTo>
                      <a:pt x="345" y="1040"/>
                    </a:lnTo>
                    <a:lnTo>
                      <a:pt x="320" y="1044"/>
                    </a:lnTo>
                    <a:lnTo>
                      <a:pt x="293" y="1046"/>
                    </a:lnTo>
                    <a:lnTo>
                      <a:pt x="266" y="1046"/>
                    </a:lnTo>
                    <a:lnTo>
                      <a:pt x="240" y="1046"/>
                    </a:lnTo>
                    <a:lnTo>
                      <a:pt x="215" y="1044"/>
                    </a:lnTo>
                    <a:lnTo>
                      <a:pt x="188" y="1040"/>
                    </a:lnTo>
                    <a:lnTo>
                      <a:pt x="163" y="1036"/>
                    </a:lnTo>
                    <a:lnTo>
                      <a:pt x="138" y="1030"/>
                    </a:lnTo>
                    <a:lnTo>
                      <a:pt x="113" y="1023"/>
                    </a:lnTo>
                    <a:lnTo>
                      <a:pt x="88" y="1015"/>
                    </a:lnTo>
                    <a:lnTo>
                      <a:pt x="65" y="1005"/>
                    </a:lnTo>
                    <a:lnTo>
                      <a:pt x="42" y="996"/>
                    </a:lnTo>
                    <a:lnTo>
                      <a:pt x="21" y="984"/>
                    </a:lnTo>
                    <a:lnTo>
                      <a:pt x="0" y="971"/>
                    </a:lnTo>
                    <a:lnTo>
                      <a:pt x="0" y="973"/>
                    </a:lnTo>
                    <a:lnTo>
                      <a:pt x="0" y="975"/>
                    </a:lnTo>
                    <a:lnTo>
                      <a:pt x="0" y="976"/>
                    </a:lnTo>
                    <a:lnTo>
                      <a:pt x="0" y="978"/>
                    </a:lnTo>
                    <a:lnTo>
                      <a:pt x="0" y="980"/>
                    </a:lnTo>
                    <a:lnTo>
                      <a:pt x="0" y="980"/>
                    </a:lnTo>
                    <a:lnTo>
                      <a:pt x="0" y="982"/>
                    </a:lnTo>
                    <a:lnTo>
                      <a:pt x="0" y="984"/>
                    </a:lnTo>
                    <a:close/>
                  </a:path>
                </a:pathLst>
              </a:custGeom>
              <a:solidFill>
                <a:srgbClr val="99d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Freeform 163"/>
              <p:cNvSpPr/>
              <p:nvPr/>
            </p:nvSpPr>
            <p:spPr>
              <a:xfrm>
                <a:off x="1833480" y="2291040"/>
                <a:ext cx="607680" cy="176292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1762920"/>
                  <a:gd name="textAreaBottom" fmla="*/ 1763280 h 1762920"/>
                </a:gdLst>
                <a:ahLst/>
                <a:rect l="textAreaLeft" t="textAreaTop" r="textAreaRight" b="textAreaBottom"/>
                <a:pathLst>
                  <a:path w="361" h="1047">
                    <a:moveTo>
                      <a:pt x="359" y="7"/>
                    </a:moveTo>
                    <a:lnTo>
                      <a:pt x="349" y="5"/>
                    </a:lnTo>
                    <a:lnTo>
                      <a:pt x="322" y="4"/>
                    </a:lnTo>
                    <a:lnTo>
                      <a:pt x="295" y="2"/>
                    </a:lnTo>
                    <a:lnTo>
                      <a:pt x="268" y="0"/>
                    </a:lnTo>
                    <a:lnTo>
                      <a:pt x="242" y="2"/>
                    </a:lnTo>
                    <a:lnTo>
                      <a:pt x="215" y="4"/>
                    </a:lnTo>
                    <a:lnTo>
                      <a:pt x="190" y="5"/>
                    </a:lnTo>
                    <a:lnTo>
                      <a:pt x="163" y="11"/>
                    </a:lnTo>
                    <a:lnTo>
                      <a:pt x="138" y="17"/>
                    </a:lnTo>
                    <a:lnTo>
                      <a:pt x="113" y="25"/>
                    </a:lnTo>
                    <a:lnTo>
                      <a:pt x="103" y="27"/>
                    </a:lnTo>
                    <a:lnTo>
                      <a:pt x="103" y="28"/>
                    </a:lnTo>
                    <a:lnTo>
                      <a:pt x="101" y="30"/>
                    </a:lnTo>
                    <a:lnTo>
                      <a:pt x="101" y="32"/>
                    </a:lnTo>
                    <a:lnTo>
                      <a:pt x="101" y="34"/>
                    </a:lnTo>
                    <a:lnTo>
                      <a:pt x="101" y="34"/>
                    </a:lnTo>
                    <a:lnTo>
                      <a:pt x="100" y="36"/>
                    </a:lnTo>
                    <a:lnTo>
                      <a:pt x="100" y="38"/>
                    </a:lnTo>
                    <a:lnTo>
                      <a:pt x="100" y="40"/>
                    </a:lnTo>
                    <a:lnTo>
                      <a:pt x="117" y="34"/>
                    </a:lnTo>
                    <a:lnTo>
                      <a:pt x="140" y="27"/>
                    </a:lnTo>
                    <a:lnTo>
                      <a:pt x="165" y="21"/>
                    </a:lnTo>
                    <a:lnTo>
                      <a:pt x="192" y="17"/>
                    </a:lnTo>
                    <a:lnTo>
                      <a:pt x="217" y="13"/>
                    </a:lnTo>
                    <a:lnTo>
                      <a:pt x="243" y="11"/>
                    </a:lnTo>
                    <a:lnTo>
                      <a:pt x="268" y="11"/>
                    </a:lnTo>
                    <a:lnTo>
                      <a:pt x="295" y="11"/>
                    </a:lnTo>
                    <a:lnTo>
                      <a:pt x="322" y="13"/>
                    </a:lnTo>
                    <a:lnTo>
                      <a:pt x="347" y="17"/>
                    </a:lnTo>
                    <a:lnTo>
                      <a:pt x="357" y="19"/>
                    </a:lnTo>
                    <a:lnTo>
                      <a:pt x="357" y="17"/>
                    </a:lnTo>
                    <a:lnTo>
                      <a:pt x="357" y="15"/>
                    </a:lnTo>
                    <a:lnTo>
                      <a:pt x="357" y="15"/>
                    </a:lnTo>
                    <a:lnTo>
                      <a:pt x="357" y="13"/>
                    </a:lnTo>
                    <a:lnTo>
                      <a:pt x="359" y="11"/>
                    </a:lnTo>
                    <a:lnTo>
                      <a:pt x="359" y="11"/>
                    </a:lnTo>
                    <a:lnTo>
                      <a:pt x="359" y="9"/>
                    </a:lnTo>
                    <a:lnTo>
                      <a:pt x="359" y="7"/>
                    </a:lnTo>
                    <a:close/>
                    <a:moveTo>
                      <a:pt x="2" y="974"/>
                    </a:moveTo>
                    <a:lnTo>
                      <a:pt x="19" y="984"/>
                    </a:lnTo>
                    <a:lnTo>
                      <a:pt x="42" y="996"/>
                    </a:lnTo>
                    <a:lnTo>
                      <a:pt x="65" y="1007"/>
                    </a:lnTo>
                    <a:lnTo>
                      <a:pt x="90" y="1015"/>
                    </a:lnTo>
                    <a:lnTo>
                      <a:pt x="113" y="1024"/>
                    </a:lnTo>
                    <a:lnTo>
                      <a:pt x="138" y="1030"/>
                    </a:lnTo>
                    <a:lnTo>
                      <a:pt x="163" y="1036"/>
                    </a:lnTo>
                    <a:lnTo>
                      <a:pt x="190" y="1042"/>
                    </a:lnTo>
                    <a:lnTo>
                      <a:pt x="215" y="1045"/>
                    </a:lnTo>
                    <a:lnTo>
                      <a:pt x="242" y="1047"/>
                    </a:lnTo>
                    <a:lnTo>
                      <a:pt x="268" y="1047"/>
                    </a:lnTo>
                    <a:lnTo>
                      <a:pt x="295" y="1047"/>
                    </a:lnTo>
                    <a:lnTo>
                      <a:pt x="322" y="1045"/>
                    </a:lnTo>
                    <a:lnTo>
                      <a:pt x="349" y="1042"/>
                    </a:lnTo>
                    <a:lnTo>
                      <a:pt x="361" y="1040"/>
                    </a:lnTo>
                    <a:lnTo>
                      <a:pt x="361" y="1038"/>
                    </a:lnTo>
                    <a:lnTo>
                      <a:pt x="359" y="1038"/>
                    </a:lnTo>
                    <a:lnTo>
                      <a:pt x="359" y="1036"/>
                    </a:lnTo>
                    <a:lnTo>
                      <a:pt x="359" y="1034"/>
                    </a:lnTo>
                    <a:lnTo>
                      <a:pt x="359" y="1034"/>
                    </a:lnTo>
                    <a:lnTo>
                      <a:pt x="359" y="1032"/>
                    </a:lnTo>
                    <a:lnTo>
                      <a:pt x="359" y="1030"/>
                    </a:lnTo>
                    <a:lnTo>
                      <a:pt x="357" y="1030"/>
                    </a:lnTo>
                    <a:lnTo>
                      <a:pt x="347" y="1032"/>
                    </a:lnTo>
                    <a:lnTo>
                      <a:pt x="322" y="1034"/>
                    </a:lnTo>
                    <a:lnTo>
                      <a:pt x="295" y="1036"/>
                    </a:lnTo>
                    <a:lnTo>
                      <a:pt x="268" y="1038"/>
                    </a:lnTo>
                    <a:lnTo>
                      <a:pt x="243" y="1036"/>
                    </a:lnTo>
                    <a:lnTo>
                      <a:pt x="217" y="1034"/>
                    </a:lnTo>
                    <a:lnTo>
                      <a:pt x="192" y="1032"/>
                    </a:lnTo>
                    <a:lnTo>
                      <a:pt x="165" y="1026"/>
                    </a:lnTo>
                    <a:lnTo>
                      <a:pt x="140" y="1020"/>
                    </a:lnTo>
                    <a:lnTo>
                      <a:pt x="117" y="1015"/>
                    </a:lnTo>
                    <a:lnTo>
                      <a:pt x="92" y="1005"/>
                    </a:lnTo>
                    <a:lnTo>
                      <a:pt x="69" y="997"/>
                    </a:lnTo>
                    <a:lnTo>
                      <a:pt x="46" y="986"/>
                    </a:lnTo>
                    <a:lnTo>
                      <a:pt x="25" y="974"/>
                    </a:lnTo>
                    <a:lnTo>
                      <a:pt x="4" y="963"/>
                    </a:lnTo>
                    <a:lnTo>
                      <a:pt x="0" y="961"/>
                    </a:lnTo>
                    <a:lnTo>
                      <a:pt x="0" y="963"/>
                    </a:lnTo>
                    <a:lnTo>
                      <a:pt x="0" y="965"/>
                    </a:lnTo>
                    <a:lnTo>
                      <a:pt x="0" y="965"/>
                    </a:lnTo>
                    <a:lnTo>
                      <a:pt x="2" y="967"/>
                    </a:lnTo>
                    <a:lnTo>
                      <a:pt x="2" y="969"/>
                    </a:lnTo>
                    <a:lnTo>
                      <a:pt x="2" y="971"/>
                    </a:lnTo>
                    <a:lnTo>
                      <a:pt x="2" y="972"/>
                    </a:lnTo>
                    <a:lnTo>
                      <a:pt x="2" y="974"/>
                    </a:lnTo>
                    <a:close/>
                  </a:path>
                </a:pathLst>
              </a:custGeom>
              <a:solidFill>
                <a:srgbClr val="9ad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Freeform 164"/>
              <p:cNvSpPr/>
              <p:nvPr/>
            </p:nvSpPr>
            <p:spPr>
              <a:xfrm>
                <a:off x="1833480" y="2299680"/>
                <a:ext cx="604440" cy="1746000"/>
              </a:xfrm>
              <a:custGeom>
                <a:avLst/>
                <a:gdLst>
                  <a:gd name="textAreaLeft" fmla="*/ 0 w 604440"/>
                  <a:gd name="textAreaRight" fmla="*/ 604800 w 604440"/>
                  <a:gd name="textAreaTop" fmla="*/ 0 h 1746000"/>
                  <a:gd name="textAreaBottom" fmla="*/ 1746360 h 1746000"/>
                </a:gdLst>
                <a:ahLst/>
                <a:rect l="textAreaLeft" t="textAreaTop" r="textAreaRight" b="textAreaBottom"/>
                <a:pathLst>
                  <a:path w="359" h="1037">
                    <a:moveTo>
                      <a:pt x="357" y="8"/>
                    </a:moveTo>
                    <a:lnTo>
                      <a:pt x="347" y="6"/>
                    </a:lnTo>
                    <a:lnTo>
                      <a:pt x="322" y="2"/>
                    </a:lnTo>
                    <a:lnTo>
                      <a:pt x="295" y="0"/>
                    </a:lnTo>
                    <a:lnTo>
                      <a:pt x="268" y="0"/>
                    </a:lnTo>
                    <a:lnTo>
                      <a:pt x="242" y="0"/>
                    </a:lnTo>
                    <a:lnTo>
                      <a:pt x="217" y="2"/>
                    </a:lnTo>
                    <a:lnTo>
                      <a:pt x="190" y="6"/>
                    </a:lnTo>
                    <a:lnTo>
                      <a:pt x="165" y="10"/>
                    </a:lnTo>
                    <a:lnTo>
                      <a:pt x="140" y="16"/>
                    </a:lnTo>
                    <a:lnTo>
                      <a:pt x="115" y="23"/>
                    </a:lnTo>
                    <a:lnTo>
                      <a:pt x="101" y="29"/>
                    </a:lnTo>
                    <a:lnTo>
                      <a:pt x="101" y="29"/>
                    </a:lnTo>
                    <a:lnTo>
                      <a:pt x="100" y="31"/>
                    </a:lnTo>
                    <a:lnTo>
                      <a:pt x="100" y="33"/>
                    </a:lnTo>
                    <a:lnTo>
                      <a:pt x="100" y="35"/>
                    </a:lnTo>
                    <a:lnTo>
                      <a:pt x="100" y="35"/>
                    </a:lnTo>
                    <a:lnTo>
                      <a:pt x="98" y="37"/>
                    </a:lnTo>
                    <a:lnTo>
                      <a:pt x="98" y="39"/>
                    </a:lnTo>
                    <a:lnTo>
                      <a:pt x="98" y="41"/>
                    </a:lnTo>
                    <a:lnTo>
                      <a:pt x="119" y="33"/>
                    </a:lnTo>
                    <a:lnTo>
                      <a:pt x="142" y="27"/>
                    </a:lnTo>
                    <a:lnTo>
                      <a:pt x="167" y="22"/>
                    </a:lnTo>
                    <a:lnTo>
                      <a:pt x="192" y="16"/>
                    </a:lnTo>
                    <a:lnTo>
                      <a:pt x="217" y="14"/>
                    </a:lnTo>
                    <a:lnTo>
                      <a:pt x="243" y="12"/>
                    </a:lnTo>
                    <a:lnTo>
                      <a:pt x="268" y="10"/>
                    </a:lnTo>
                    <a:lnTo>
                      <a:pt x="295" y="12"/>
                    </a:lnTo>
                    <a:lnTo>
                      <a:pt x="320" y="14"/>
                    </a:lnTo>
                    <a:lnTo>
                      <a:pt x="347" y="16"/>
                    </a:lnTo>
                    <a:lnTo>
                      <a:pt x="355" y="18"/>
                    </a:lnTo>
                    <a:lnTo>
                      <a:pt x="355" y="18"/>
                    </a:lnTo>
                    <a:lnTo>
                      <a:pt x="355" y="16"/>
                    </a:lnTo>
                    <a:lnTo>
                      <a:pt x="357" y="14"/>
                    </a:lnTo>
                    <a:lnTo>
                      <a:pt x="357" y="14"/>
                    </a:lnTo>
                    <a:lnTo>
                      <a:pt x="357" y="12"/>
                    </a:lnTo>
                    <a:lnTo>
                      <a:pt x="357" y="10"/>
                    </a:lnTo>
                    <a:lnTo>
                      <a:pt x="357" y="10"/>
                    </a:lnTo>
                    <a:lnTo>
                      <a:pt x="357" y="8"/>
                    </a:lnTo>
                    <a:close/>
                    <a:moveTo>
                      <a:pt x="2" y="962"/>
                    </a:moveTo>
                    <a:lnTo>
                      <a:pt x="23" y="975"/>
                    </a:lnTo>
                    <a:lnTo>
                      <a:pt x="44" y="987"/>
                    </a:lnTo>
                    <a:lnTo>
                      <a:pt x="67" y="996"/>
                    </a:lnTo>
                    <a:lnTo>
                      <a:pt x="90" y="1006"/>
                    </a:lnTo>
                    <a:lnTo>
                      <a:pt x="115" y="1014"/>
                    </a:lnTo>
                    <a:lnTo>
                      <a:pt x="140" y="1021"/>
                    </a:lnTo>
                    <a:lnTo>
                      <a:pt x="165" y="1027"/>
                    </a:lnTo>
                    <a:lnTo>
                      <a:pt x="190" y="1031"/>
                    </a:lnTo>
                    <a:lnTo>
                      <a:pt x="217" y="1035"/>
                    </a:lnTo>
                    <a:lnTo>
                      <a:pt x="242" y="1037"/>
                    </a:lnTo>
                    <a:lnTo>
                      <a:pt x="268" y="1037"/>
                    </a:lnTo>
                    <a:lnTo>
                      <a:pt x="295" y="1037"/>
                    </a:lnTo>
                    <a:lnTo>
                      <a:pt x="322" y="1035"/>
                    </a:lnTo>
                    <a:lnTo>
                      <a:pt x="347" y="1031"/>
                    </a:lnTo>
                    <a:lnTo>
                      <a:pt x="359" y="1029"/>
                    </a:lnTo>
                    <a:lnTo>
                      <a:pt x="359" y="1029"/>
                    </a:lnTo>
                    <a:lnTo>
                      <a:pt x="359" y="1027"/>
                    </a:lnTo>
                    <a:lnTo>
                      <a:pt x="359" y="1025"/>
                    </a:lnTo>
                    <a:lnTo>
                      <a:pt x="357" y="1025"/>
                    </a:lnTo>
                    <a:lnTo>
                      <a:pt x="357" y="1023"/>
                    </a:lnTo>
                    <a:lnTo>
                      <a:pt x="357" y="1021"/>
                    </a:lnTo>
                    <a:lnTo>
                      <a:pt x="357" y="1021"/>
                    </a:lnTo>
                    <a:lnTo>
                      <a:pt x="357" y="1019"/>
                    </a:lnTo>
                    <a:lnTo>
                      <a:pt x="347" y="1021"/>
                    </a:lnTo>
                    <a:lnTo>
                      <a:pt x="320" y="1025"/>
                    </a:lnTo>
                    <a:lnTo>
                      <a:pt x="295" y="1027"/>
                    </a:lnTo>
                    <a:lnTo>
                      <a:pt x="268" y="1027"/>
                    </a:lnTo>
                    <a:lnTo>
                      <a:pt x="243" y="1027"/>
                    </a:lnTo>
                    <a:lnTo>
                      <a:pt x="217" y="1025"/>
                    </a:lnTo>
                    <a:lnTo>
                      <a:pt x="192" y="1021"/>
                    </a:lnTo>
                    <a:lnTo>
                      <a:pt x="167" y="1017"/>
                    </a:lnTo>
                    <a:lnTo>
                      <a:pt x="142" y="1012"/>
                    </a:lnTo>
                    <a:lnTo>
                      <a:pt x="119" y="1004"/>
                    </a:lnTo>
                    <a:lnTo>
                      <a:pt x="94" y="996"/>
                    </a:lnTo>
                    <a:lnTo>
                      <a:pt x="71" y="987"/>
                    </a:lnTo>
                    <a:lnTo>
                      <a:pt x="50" y="977"/>
                    </a:lnTo>
                    <a:lnTo>
                      <a:pt x="27" y="966"/>
                    </a:lnTo>
                    <a:lnTo>
                      <a:pt x="5" y="954"/>
                    </a:lnTo>
                    <a:lnTo>
                      <a:pt x="0" y="948"/>
                    </a:lnTo>
                    <a:lnTo>
                      <a:pt x="0" y="950"/>
                    </a:lnTo>
                    <a:lnTo>
                      <a:pt x="0" y="952"/>
                    </a:lnTo>
                    <a:lnTo>
                      <a:pt x="0" y="954"/>
                    </a:lnTo>
                    <a:lnTo>
                      <a:pt x="0" y="956"/>
                    </a:lnTo>
                    <a:lnTo>
                      <a:pt x="0" y="958"/>
                    </a:lnTo>
                    <a:lnTo>
                      <a:pt x="0" y="960"/>
                    </a:lnTo>
                    <a:lnTo>
                      <a:pt x="0" y="962"/>
                    </a:lnTo>
                    <a:lnTo>
                      <a:pt x="2" y="962"/>
                    </a:lnTo>
                    <a:close/>
                  </a:path>
                </a:pathLst>
              </a:custGeom>
              <a:solidFill>
                <a:srgbClr val="9bd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Freeform 165"/>
              <p:cNvSpPr/>
              <p:nvPr/>
            </p:nvSpPr>
            <p:spPr>
              <a:xfrm>
                <a:off x="1830240" y="2309760"/>
                <a:ext cx="604440" cy="1728720"/>
              </a:xfrm>
              <a:custGeom>
                <a:avLst/>
                <a:gdLst>
                  <a:gd name="textAreaLeft" fmla="*/ 0 w 604440"/>
                  <a:gd name="textAreaRight" fmla="*/ 604800 w 604440"/>
                  <a:gd name="textAreaTop" fmla="*/ 0 h 1728720"/>
                  <a:gd name="textAreaBottom" fmla="*/ 1729080 h 1728720"/>
                </a:gdLst>
                <a:ahLst/>
                <a:rect l="textAreaLeft" t="textAreaTop" r="textAreaRight" b="textAreaBottom"/>
                <a:pathLst>
                  <a:path w="359" h="1027">
                    <a:moveTo>
                      <a:pt x="359" y="8"/>
                    </a:moveTo>
                    <a:lnTo>
                      <a:pt x="349" y="6"/>
                    </a:lnTo>
                    <a:lnTo>
                      <a:pt x="324" y="2"/>
                    </a:lnTo>
                    <a:lnTo>
                      <a:pt x="297" y="0"/>
                    </a:lnTo>
                    <a:lnTo>
                      <a:pt x="270" y="0"/>
                    </a:lnTo>
                    <a:lnTo>
                      <a:pt x="245" y="0"/>
                    </a:lnTo>
                    <a:lnTo>
                      <a:pt x="219" y="2"/>
                    </a:lnTo>
                    <a:lnTo>
                      <a:pt x="194" y="6"/>
                    </a:lnTo>
                    <a:lnTo>
                      <a:pt x="167" y="10"/>
                    </a:lnTo>
                    <a:lnTo>
                      <a:pt x="142" y="16"/>
                    </a:lnTo>
                    <a:lnTo>
                      <a:pt x="119" y="23"/>
                    </a:lnTo>
                    <a:lnTo>
                      <a:pt x="102" y="29"/>
                    </a:lnTo>
                    <a:lnTo>
                      <a:pt x="102" y="29"/>
                    </a:lnTo>
                    <a:lnTo>
                      <a:pt x="100" y="31"/>
                    </a:lnTo>
                    <a:lnTo>
                      <a:pt x="100" y="33"/>
                    </a:lnTo>
                    <a:lnTo>
                      <a:pt x="100" y="35"/>
                    </a:lnTo>
                    <a:lnTo>
                      <a:pt x="100" y="37"/>
                    </a:lnTo>
                    <a:lnTo>
                      <a:pt x="98" y="37"/>
                    </a:lnTo>
                    <a:lnTo>
                      <a:pt x="98" y="39"/>
                    </a:lnTo>
                    <a:lnTo>
                      <a:pt x="98" y="41"/>
                    </a:lnTo>
                    <a:lnTo>
                      <a:pt x="98" y="41"/>
                    </a:lnTo>
                    <a:lnTo>
                      <a:pt x="121" y="33"/>
                    </a:lnTo>
                    <a:lnTo>
                      <a:pt x="146" y="25"/>
                    </a:lnTo>
                    <a:lnTo>
                      <a:pt x="171" y="19"/>
                    </a:lnTo>
                    <a:lnTo>
                      <a:pt x="194" y="16"/>
                    </a:lnTo>
                    <a:lnTo>
                      <a:pt x="221" y="12"/>
                    </a:lnTo>
                    <a:lnTo>
                      <a:pt x="245" y="10"/>
                    </a:lnTo>
                    <a:lnTo>
                      <a:pt x="270" y="10"/>
                    </a:lnTo>
                    <a:lnTo>
                      <a:pt x="297" y="10"/>
                    </a:lnTo>
                    <a:lnTo>
                      <a:pt x="322" y="12"/>
                    </a:lnTo>
                    <a:lnTo>
                      <a:pt x="347" y="16"/>
                    </a:lnTo>
                    <a:lnTo>
                      <a:pt x="355" y="17"/>
                    </a:lnTo>
                    <a:lnTo>
                      <a:pt x="357" y="16"/>
                    </a:lnTo>
                    <a:lnTo>
                      <a:pt x="357" y="14"/>
                    </a:lnTo>
                    <a:lnTo>
                      <a:pt x="357" y="14"/>
                    </a:lnTo>
                    <a:lnTo>
                      <a:pt x="357" y="12"/>
                    </a:lnTo>
                    <a:lnTo>
                      <a:pt x="357" y="12"/>
                    </a:lnTo>
                    <a:lnTo>
                      <a:pt x="357" y="10"/>
                    </a:lnTo>
                    <a:lnTo>
                      <a:pt x="359" y="8"/>
                    </a:lnTo>
                    <a:lnTo>
                      <a:pt x="359" y="8"/>
                    </a:lnTo>
                    <a:close/>
                    <a:moveTo>
                      <a:pt x="2" y="950"/>
                    </a:moveTo>
                    <a:lnTo>
                      <a:pt x="6" y="952"/>
                    </a:lnTo>
                    <a:lnTo>
                      <a:pt x="27" y="963"/>
                    </a:lnTo>
                    <a:lnTo>
                      <a:pt x="48" y="975"/>
                    </a:lnTo>
                    <a:lnTo>
                      <a:pt x="71" y="986"/>
                    </a:lnTo>
                    <a:lnTo>
                      <a:pt x="94" y="994"/>
                    </a:lnTo>
                    <a:lnTo>
                      <a:pt x="119" y="1004"/>
                    </a:lnTo>
                    <a:lnTo>
                      <a:pt x="142" y="1009"/>
                    </a:lnTo>
                    <a:lnTo>
                      <a:pt x="167" y="1015"/>
                    </a:lnTo>
                    <a:lnTo>
                      <a:pt x="194" y="1021"/>
                    </a:lnTo>
                    <a:lnTo>
                      <a:pt x="219" y="1023"/>
                    </a:lnTo>
                    <a:lnTo>
                      <a:pt x="245" y="1025"/>
                    </a:lnTo>
                    <a:lnTo>
                      <a:pt x="270" y="1027"/>
                    </a:lnTo>
                    <a:lnTo>
                      <a:pt x="297" y="1025"/>
                    </a:lnTo>
                    <a:lnTo>
                      <a:pt x="324" y="1023"/>
                    </a:lnTo>
                    <a:lnTo>
                      <a:pt x="349" y="1021"/>
                    </a:lnTo>
                    <a:lnTo>
                      <a:pt x="359" y="1019"/>
                    </a:lnTo>
                    <a:lnTo>
                      <a:pt x="359" y="1017"/>
                    </a:lnTo>
                    <a:lnTo>
                      <a:pt x="359" y="1015"/>
                    </a:lnTo>
                    <a:lnTo>
                      <a:pt x="359" y="1015"/>
                    </a:lnTo>
                    <a:lnTo>
                      <a:pt x="359" y="1013"/>
                    </a:lnTo>
                    <a:lnTo>
                      <a:pt x="359" y="1011"/>
                    </a:lnTo>
                    <a:lnTo>
                      <a:pt x="357" y="1011"/>
                    </a:lnTo>
                    <a:lnTo>
                      <a:pt x="357" y="1009"/>
                    </a:lnTo>
                    <a:lnTo>
                      <a:pt x="357" y="1008"/>
                    </a:lnTo>
                    <a:lnTo>
                      <a:pt x="347" y="1009"/>
                    </a:lnTo>
                    <a:lnTo>
                      <a:pt x="322" y="1013"/>
                    </a:lnTo>
                    <a:lnTo>
                      <a:pt x="297" y="1015"/>
                    </a:lnTo>
                    <a:lnTo>
                      <a:pt x="270" y="1015"/>
                    </a:lnTo>
                    <a:lnTo>
                      <a:pt x="245" y="1015"/>
                    </a:lnTo>
                    <a:lnTo>
                      <a:pt x="221" y="1013"/>
                    </a:lnTo>
                    <a:lnTo>
                      <a:pt x="194" y="1009"/>
                    </a:lnTo>
                    <a:lnTo>
                      <a:pt x="171" y="1006"/>
                    </a:lnTo>
                    <a:lnTo>
                      <a:pt x="146" y="1000"/>
                    </a:lnTo>
                    <a:lnTo>
                      <a:pt x="121" y="994"/>
                    </a:lnTo>
                    <a:lnTo>
                      <a:pt x="98" y="985"/>
                    </a:lnTo>
                    <a:lnTo>
                      <a:pt x="75" y="977"/>
                    </a:lnTo>
                    <a:lnTo>
                      <a:pt x="54" y="965"/>
                    </a:lnTo>
                    <a:lnTo>
                      <a:pt x="30" y="956"/>
                    </a:lnTo>
                    <a:lnTo>
                      <a:pt x="9" y="942"/>
                    </a:lnTo>
                    <a:lnTo>
                      <a:pt x="0" y="937"/>
                    </a:lnTo>
                    <a:lnTo>
                      <a:pt x="0" y="938"/>
                    </a:lnTo>
                    <a:lnTo>
                      <a:pt x="0" y="940"/>
                    </a:lnTo>
                    <a:lnTo>
                      <a:pt x="2" y="942"/>
                    </a:lnTo>
                    <a:lnTo>
                      <a:pt x="2" y="942"/>
                    </a:lnTo>
                    <a:lnTo>
                      <a:pt x="2" y="944"/>
                    </a:lnTo>
                    <a:lnTo>
                      <a:pt x="2" y="946"/>
                    </a:lnTo>
                    <a:lnTo>
                      <a:pt x="2" y="948"/>
                    </a:lnTo>
                    <a:lnTo>
                      <a:pt x="2" y="950"/>
                    </a:lnTo>
                    <a:close/>
                  </a:path>
                </a:pathLst>
              </a:custGeom>
              <a:solidFill>
                <a:srgbClr val="9cd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Freeform 166"/>
              <p:cNvSpPr/>
              <p:nvPr/>
            </p:nvSpPr>
            <p:spPr>
              <a:xfrm>
                <a:off x="1830240" y="2316240"/>
                <a:ext cx="604440" cy="1712520"/>
              </a:xfrm>
              <a:custGeom>
                <a:avLst/>
                <a:gdLst>
                  <a:gd name="textAreaLeft" fmla="*/ 0 w 604440"/>
                  <a:gd name="textAreaRight" fmla="*/ 604800 w 604440"/>
                  <a:gd name="textAreaTop" fmla="*/ 0 h 1712520"/>
                  <a:gd name="textAreaBottom" fmla="*/ 1712880 h 1712520"/>
                </a:gdLst>
                <a:ahLst/>
                <a:rect l="textAreaLeft" t="textAreaTop" r="textAreaRight" b="textAreaBottom"/>
                <a:pathLst>
                  <a:path w="359" h="1017">
                    <a:moveTo>
                      <a:pt x="357" y="8"/>
                    </a:moveTo>
                    <a:lnTo>
                      <a:pt x="349" y="6"/>
                    </a:lnTo>
                    <a:lnTo>
                      <a:pt x="322" y="4"/>
                    </a:lnTo>
                    <a:lnTo>
                      <a:pt x="297" y="2"/>
                    </a:lnTo>
                    <a:lnTo>
                      <a:pt x="270" y="0"/>
                    </a:lnTo>
                    <a:lnTo>
                      <a:pt x="245" y="2"/>
                    </a:lnTo>
                    <a:lnTo>
                      <a:pt x="219" y="4"/>
                    </a:lnTo>
                    <a:lnTo>
                      <a:pt x="194" y="6"/>
                    </a:lnTo>
                    <a:lnTo>
                      <a:pt x="169" y="12"/>
                    </a:lnTo>
                    <a:lnTo>
                      <a:pt x="144" y="17"/>
                    </a:lnTo>
                    <a:lnTo>
                      <a:pt x="121" y="23"/>
                    </a:lnTo>
                    <a:lnTo>
                      <a:pt x="100" y="31"/>
                    </a:lnTo>
                    <a:lnTo>
                      <a:pt x="100" y="33"/>
                    </a:lnTo>
                    <a:lnTo>
                      <a:pt x="98" y="33"/>
                    </a:lnTo>
                    <a:lnTo>
                      <a:pt x="98" y="35"/>
                    </a:lnTo>
                    <a:lnTo>
                      <a:pt x="98" y="37"/>
                    </a:lnTo>
                    <a:lnTo>
                      <a:pt x="98" y="38"/>
                    </a:lnTo>
                    <a:lnTo>
                      <a:pt x="96" y="40"/>
                    </a:lnTo>
                    <a:lnTo>
                      <a:pt x="96" y="42"/>
                    </a:lnTo>
                    <a:lnTo>
                      <a:pt x="96" y="42"/>
                    </a:lnTo>
                    <a:lnTo>
                      <a:pt x="100" y="40"/>
                    </a:lnTo>
                    <a:lnTo>
                      <a:pt x="123" y="33"/>
                    </a:lnTo>
                    <a:lnTo>
                      <a:pt x="146" y="27"/>
                    </a:lnTo>
                    <a:lnTo>
                      <a:pt x="171" y="21"/>
                    </a:lnTo>
                    <a:lnTo>
                      <a:pt x="196" y="17"/>
                    </a:lnTo>
                    <a:lnTo>
                      <a:pt x="221" y="13"/>
                    </a:lnTo>
                    <a:lnTo>
                      <a:pt x="245" y="12"/>
                    </a:lnTo>
                    <a:lnTo>
                      <a:pt x="270" y="12"/>
                    </a:lnTo>
                    <a:lnTo>
                      <a:pt x="297" y="12"/>
                    </a:lnTo>
                    <a:lnTo>
                      <a:pt x="322" y="13"/>
                    </a:lnTo>
                    <a:lnTo>
                      <a:pt x="347" y="17"/>
                    </a:lnTo>
                    <a:lnTo>
                      <a:pt x="355" y="17"/>
                    </a:lnTo>
                    <a:lnTo>
                      <a:pt x="355" y="17"/>
                    </a:lnTo>
                    <a:lnTo>
                      <a:pt x="355" y="15"/>
                    </a:lnTo>
                    <a:lnTo>
                      <a:pt x="355" y="13"/>
                    </a:lnTo>
                    <a:lnTo>
                      <a:pt x="355" y="13"/>
                    </a:lnTo>
                    <a:lnTo>
                      <a:pt x="357" y="12"/>
                    </a:lnTo>
                    <a:lnTo>
                      <a:pt x="357" y="10"/>
                    </a:lnTo>
                    <a:lnTo>
                      <a:pt x="357" y="10"/>
                    </a:lnTo>
                    <a:lnTo>
                      <a:pt x="357" y="8"/>
                    </a:lnTo>
                    <a:close/>
                    <a:moveTo>
                      <a:pt x="2" y="938"/>
                    </a:moveTo>
                    <a:lnTo>
                      <a:pt x="7" y="944"/>
                    </a:lnTo>
                    <a:lnTo>
                      <a:pt x="29" y="956"/>
                    </a:lnTo>
                    <a:lnTo>
                      <a:pt x="52" y="967"/>
                    </a:lnTo>
                    <a:lnTo>
                      <a:pt x="73" y="977"/>
                    </a:lnTo>
                    <a:lnTo>
                      <a:pt x="96" y="986"/>
                    </a:lnTo>
                    <a:lnTo>
                      <a:pt x="121" y="994"/>
                    </a:lnTo>
                    <a:lnTo>
                      <a:pt x="144" y="1002"/>
                    </a:lnTo>
                    <a:lnTo>
                      <a:pt x="169" y="1007"/>
                    </a:lnTo>
                    <a:lnTo>
                      <a:pt x="194" y="1011"/>
                    </a:lnTo>
                    <a:lnTo>
                      <a:pt x="219" y="1015"/>
                    </a:lnTo>
                    <a:lnTo>
                      <a:pt x="245" y="1017"/>
                    </a:lnTo>
                    <a:lnTo>
                      <a:pt x="270" y="1017"/>
                    </a:lnTo>
                    <a:lnTo>
                      <a:pt x="297" y="1017"/>
                    </a:lnTo>
                    <a:lnTo>
                      <a:pt x="322" y="1015"/>
                    </a:lnTo>
                    <a:lnTo>
                      <a:pt x="349" y="1011"/>
                    </a:lnTo>
                    <a:lnTo>
                      <a:pt x="359" y="1009"/>
                    </a:lnTo>
                    <a:lnTo>
                      <a:pt x="359" y="1007"/>
                    </a:lnTo>
                    <a:lnTo>
                      <a:pt x="357" y="1007"/>
                    </a:lnTo>
                    <a:lnTo>
                      <a:pt x="357" y="1005"/>
                    </a:lnTo>
                    <a:lnTo>
                      <a:pt x="357" y="1004"/>
                    </a:lnTo>
                    <a:lnTo>
                      <a:pt x="357" y="1004"/>
                    </a:lnTo>
                    <a:lnTo>
                      <a:pt x="357" y="1002"/>
                    </a:lnTo>
                    <a:lnTo>
                      <a:pt x="357" y="1000"/>
                    </a:lnTo>
                    <a:lnTo>
                      <a:pt x="357" y="1000"/>
                    </a:lnTo>
                    <a:lnTo>
                      <a:pt x="347" y="1002"/>
                    </a:lnTo>
                    <a:lnTo>
                      <a:pt x="322" y="1004"/>
                    </a:lnTo>
                    <a:lnTo>
                      <a:pt x="297" y="1005"/>
                    </a:lnTo>
                    <a:lnTo>
                      <a:pt x="270" y="1007"/>
                    </a:lnTo>
                    <a:lnTo>
                      <a:pt x="245" y="1005"/>
                    </a:lnTo>
                    <a:lnTo>
                      <a:pt x="221" y="1004"/>
                    </a:lnTo>
                    <a:lnTo>
                      <a:pt x="196" y="1002"/>
                    </a:lnTo>
                    <a:lnTo>
                      <a:pt x="171" y="996"/>
                    </a:lnTo>
                    <a:lnTo>
                      <a:pt x="146" y="990"/>
                    </a:lnTo>
                    <a:lnTo>
                      <a:pt x="123" y="984"/>
                    </a:lnTo>
                    <a:lnTo>
                      <a:pt x="100" y="977"/>
                    </a:lnTo>
                    <a:lnTo>
                      <a:pt x="77" y="967"/>
                    </a:lnTo>
                    <a:lnTo>
                      <a:pt x="55" y="957"/>
                    </a:lnTo>
                    <a:lnTo>
                      <a:pt x="34" y="946"/>
                    </a:lnTo>
                    <a:lnTo>
                      <a:pt x="13" y="934"/>
                    </a:lnTo>
                    <a:lnTo>
                      <a:pt x="0" y="927"/>
                    </a:lnTo>
                    <a:lnTo>
                      <a:pt x="0" y="927"/>
                    </a:lnTo>
                    <a:lnTo>
                      <a:pt x="0" y="929"/>
                    </a:lnTo>
                    <a:lnTo>
                      <a:pt x="0" y="931"/>
                    </a:lnTo>
                    <a:lnTo>
                      <a:pt x="0" y="933"/>
                    </a:lnTo>
                    <a:lnTo>
                      <a:pt x="0" y="934"/>
                    </a:lnTo>
                    <a:lnTo>
                      <a:pt x="0" y="936"/>
                    </a:lnTo>
                    <a:lnTo>
                      <a:pt x="2" y="938"/>
                    </a:lnTo>
                    <a:lnTo>
                      <a:pt x="2" y="938"/>
                    </a:lnTo>
                    <a:close/>
                  </a:path>
                </a:pathLst>
              </a:custGeom>
              <a:solidFill>
                <a:srgbClr val="9dd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Freeform 167"/>
              <p:cNvSpPr/>
              <p:nvPr/>
            </p:nvSpPr>
            <p:spPr>
              <a:xfrm>
                <a:off x="1826640" y="2326680"/>
                <a:ext cx="604440" cy="1691640"/>
              </a:xfrm>
              <a:custGeom>
                <a:avLst/>
                <a:gdLst>
                  <a:gd name="textAreaLeft" fmla="*/ 0 w 604440"/>
                  <a:gd name="textAreaRight" fmla="*/ 604800 w 604440"/>
                  <a:gd name="textAreaTop" fmla="*/ 0 h 1691640"/>
                  <a:gd name="textAreaBottom" fmla="*/ 1692000 h 1691640"/>
                </a:gdLst>
                <a:ahLst/>
                <a:rect l="textAreaLeft" t="textAreaTop" r="textAreaRight" b="textAreaBottom"/>
                <a:pathLst>
                  <a:path w="359" h="1005">
                    <a:moveTo>
                      <a:pt x="357" y="7"/>
                    </a:moveTo>
                    <a:lnTo>
                      <a:pt x="349" y="6"/>
                    </a:lnTo>
                    <a:lnTo>
                      <a:pt x="324" y="2"/>
                    </a:lnTo>
                    <a:lnTo>
                      <a:pt x="299" y="0"/>
                    </a:lnTo>
                    <a:lnTo>
                      <a:pt x="272" y="0"/>
                    </a:lnTo>
                    <a:lnTo>
                      <a:pt x="247" y="0"/>
                    </a:lnTo>
                    <a:lnTo>
                      <a:pt x="223" y="2"/>
                    </a:lnTo>
                    <a:lnTo>
                      <a:pt x="196" y="6"/>
                    </a:lnTo>
                    <a:lnTo>
                      <a:pt x="173" y="9"/>
                    </a:lnTo>
                    <a:lnTo>
                      <a:pt x="148" y="15"/>
                    </a:lnTo>
                    <a:lnTo>
                      <a:pt x="123" y="23"/>
                    </a:lnTo>
                    <a:lnTo>
                      <a:pt x="100" y="31"/>
                    </a:lnTo>
                    <a:lnTo>
                      <a:pt x="100" y="31"/>
                    </a:lnTo>
                    <a:lnTo>
                      <a:pt x="100" y="32"/>
                    </a:lnTo>
                    <a:lnTo>
                      <a:pt x="98" y="34"/>
                    </a:lnTo>
                    <a:lnTo>
                      <a:pt x="98" y="36"/>
                    </a:lnTo>
                    <a:lnTo>
                      <a:pt x="98" y="36"/>
                    </a:lnTo>
                    <a:lnTo>
                      <a:pt x="96" y="38"/>
                    </a:lnTo>
                    <a:lnTo>
                      <a:pt x="96" y="40"/>
                    </a:lnTo>
                    <a:lnTo>
                      <a:pt x="96" y="42"/>
                    </a:lnTo>
                    <a:lnTo>
                      <a:pt x="96" y="44"/>
                    </a:lnTo>
                    <a:lnTo>
                      <a:pt x="104" y="40"/>
                    </a:lnTo>
                    <a:lnTo>
                      <a:pt x="127" y="32"/>
                    </a:lnTo>
                    <a:lnTo>
                      <a:pt x="150" y="25"/>
                    </a:lnTo>
                    <a:lnTo>
                      <a:pt x="175" y="21"/>
                    </a:lnTo>
                    <a:lnTo>
                      <a:pt x="198" y="15"/>
                    </a:lnTo>
                    <a:lnTo>
                      <a:pt x="223" y="13"/>
                    </a:lnTo>
                    <a:lnTo>
                      <a:pt x="247" y="11"/>
                    </a:lnTo>
                    <a:lnTo>
                      <a:pt x="272" y="9"/>
                    </a:lnTo>
                    <a:lnTo>
                      <a:pt x="299" y="11"/>
                    </a:lnTo>
                    <a:lnTo>
                      <a:pt x="324" y="13"/>
                    </a:lnTo>
                    <a:lnTo>
                      <a:pt x="347" y="15"/>
                    </a:lnTo>
                    <a:lnTo>
                      <a:pt x="355" y="17"/>
                    </a:lnTo>
                    <a:lnTo>
                      <a:pt x="355" y="15"/>
                    </a:lnTo>
                    <a:lnTo>
                      <a:pt x="355" y="15"/>
                    </a:lnTo>
                    <a:lnTo>
                      <a:pt x="357" y="13"/>
                    </a:lnTo>
                    <a:lnTo>
                      <a:pt x="357" y="11"/>
                    </a:lnTo>
                    <a:lnTo>
                      <a:pt x="357" y="11"/>
                    </a:lnTo>
                    <a:lnTo>
                      <a:pt x="357" y="9"/>
                    </a:lnTo>
                    <a:lnTo>
                      <a:pt x="357" y="7"/>
                    </a:lnTo>
                    <a:lnTo>
                      <a:pt x="357" y="7"/>
                    </a:lnTo>
                    <a:close/>
                    <a:moveTo>
                      <a:pt x="2" y="927"/>
                    </a:moveTo>
                    <a:lnTo>
                      <a:pt x="11" y="932"/>
                    </a:lnTo>
                    <a:lnTo>
                      <a:pt x="32" y="946"/>
                    </a:lnTo>
                    <a:lnTo>
                      <a:pt x="56" y="955"/>
                    </a:lnTo>
                    <a:lnTo>
                      <a:pt x="77" y="967"/>
                    </a:lnTo>
                    <a:lnTo>
                      <a:pt x="100" y="975"/>
                    </a:lnTo>
                    <a:lnTo>
                      <a:pt x="123" y="984"/>
                    </a:lnTo>
                    <a:lnTo>
                      <a:pt x="148" y="990"/>
                    </a:lnTo>
                    <a:lnTo>
                      <a:pt x="173" y="996"/>
                    </a:lnTo>
                    <a:lnTo>
                      <a:pt x="196" y="999"/>
                    </a:lnTo>
                    <a:lnTo>
                      <a:pt x="223" y="1003"/>
                    </a:lnTo>
                    <a:lnTo>
                      <a:pt x="247" y="1005"/>
                    </a:lnTo>
                    <a:lnTo>
                      <a:pt x="272" y="1005"/>
                    </a:lnTo>
                    <a:lnTo>
                      <a:pt x="299" y="1005"/>
                    </a:lnTo>
                    <a:lnTo>
                      <a:pt x="324" y="1003"/>
                    </a:lnTo>
                    <a:lnTo>
                      <a:pt x="349" y="999"/>
                    </a:lnTo>
                    <a:lnTo>
                      <a:pt x="359" y="998"/>
                    </a:lnTo>
                    <a:lnTo>
                      <a:pt x="359" y="998"/>
                    </a:lnTo>
                    <a:lnTo>
                      <a:pt x="359" y="996"/>
                    </a:lnTo>
                    <a:lnTo>
                      <a:pt x="359" y="994"/>
                    </a:lnTo>
                    <a:lnTo>
                      <a:pt x="359" y="994"/>
                    </a:lnTo>
                    <a:lnTo>
                      <a:pt x="357" y="992"/>
                    </a:lnTo>
                    <a:lnTo>
                      <a:pt x="357" y="990"/>
                    </a:lnTo>
                    <a:lnTo>
                      <a:pt x="357" y="990"/>
                    </a:lnTo>
                    <a:lnTo>
                      <a:pt x="357" y="988"/>
                    </a:lnTo>
                    <a:lnTo>
                      <a:pt x="347" y="990"/>
                    </a:lnTo>
                    <a:lnTo>
                      <a:pt x="324" y="994"/>
                    </a:lnTo>
                    <a:lnTo>
                      <a:pt x="299" y="996"/>
                    </a:lnTo>
                    <a:lnTo>
                      <a:pt x="272" y="996"/>
                    </a:lnTo>
                    <a:lnTo>
                      <a:pt x="247" y="996"/>
                    </a:lnTo>
                    <a:lnTo>
                      <a:pt x="223" y="994"/>
                    </a:lnTo>
                    <a:lnTo>
                      <a:pt x="198" y="990"/>
                    </a:lnTo>
                    <a:lnTo>
                      <a:pt x="175" y="986"/>
                    </a:lnTo>
                    <a:lnTo>
                      <a:pt x="150" y="980"/>
                    </a:lnTo>
                    <a:lnTo>
                      <a:pt x="127" y="973"/>
                    </a:lnTo>
                    <a:lnTo>
                      <a:pt x="104" y="965"/>
                    </a:lnTo>
                    <a:lnTo>
                      <a:pt x="80" y="957"/>
                    </a:lnTo>
                    <a:lnTo>
                      <a:pt x="59" y="948"/>
                    </a:lnTo>
                    <a:lnTo>
                      <a:pt x="38" y="936"/>
                    </a:lnTo>
                    <a:lnTo>
                      <a:pt x="17" y="925"/>
                    </a:lnTo>
                    <a:lnTo>
                      <a:pt x="0" y="913"/>
                    </a:lnTo>
                    <a:lnTo>
                      <a:pt x="0" y="915"/>
                    </a:lnTo>
                    <a:lnTo>
                      <a:pt x="2" y="917"/>
                    </a:lnTo>
                    <a:lnTo>
                      <a:pt x="2" y="919"/>
                    </a:lnTo>
                    <a:lnTo>
                      <a:pt x="2" y="921"/>
                    </a:lnTo>
                    <a:lnTo>
                      <a:pt x="2" y="921"/>
                    </a:lnTo>
                    <a:lnTo>
                      <a:pt x="2" y="923"/>
                    </a:lnTo>
                    <a:lnTo>
                      <a:pt x="2" y="925"/>
                    </a:lnTo>
                    <a:lnTo>
                      <a:pt x="2" y="927"/>
                    </a:lnTo>
                    <a:close/>
                  </a:path>
                </a:pathLst>
              </a:custGeom>
              <a:solidFill>
                <a:srgbClr val="9ed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Freeform 168"/>
              <p:cNvSpPr/>
              <p:nvPr/>
            </p:nvSpPr>
            <p:spPr>
              <a:xfrm>
                <a:off x="1826640" y="2336400"/>
                <a:ext cx="604440" cy="1675440"/>
              </a:xfrm>
              <a:custGeom>
                <a:avLst/>
                <a:gdLst>
                  <a:gd name="textAreaLeft" fmla="*/ 0 w 604440"/>
                  <a:gd name="textAreaRight" fmla="*/ 604800 w 604440"/>
                  <a:gd name="textAreaTop" fmla="*/ 0 h 1675440"/>
                  <a:gd name="textAreaBottom" fmla="*/ 1675800 h 1675440"/>
                </a:gdLst>
                <a:ahLst/>
                <a:rect l="textAreaLeft" t="textAreaTop" r="textAreaRight" b="textAreaBottom"/>
                <a:pathLst>
                  <a:path w="359" h="995">
                    <a:moveTo>
                      <a:pt x="357" y="5"/>
                    </a:moveTo>
                    <a:lnTo>
                      <a:pt x="349" y="5"/>
                    </a:lnTo>
                    <a:lnTo>
                      <a:pt x="324" y="1"/>
                    </a:lnTo>
                    <a:lnTo>
                      <a:pt x="299" y="0"/>
                    </a:lnTo>
                    <a:lnTo>
                      <a:pt x="272" y="0"/>
                    </a:lnTo>
                    <a:lnTo>
                      <a:pt x="247" y="0"/>
                    </a:lnTo>
                    <a:lnTo>
                      <a:pt x="223" y="1"/>
                    </a:lnTo>
                    <a:lnTo>
                      <a:pt x="198" y="5"/>
                    </a:lnTo>
                    <a:lnTo>
                      <a:pt x="173" y="9"/>
                    </a:lnTo>
                    <a:lnTo>
                      <a:pt x="148" y="15"/>
                    </a:lnTo>
                    <a:lnTo>
                      <a:pt x="125" y="21"/>
                    </a:lnTo>
                    <a:lnTo>
                      <a:pt x="102" y="28"/>
                    </a:lnTo>
                    <a:lnTo>
                      <a:pt x="98" y="30"/>
                    </a:lnTo>
                    <a:lnTo>
                      <a:pt x="96" y="32"/>
                    </a:lnTo>
                    <a:lnTo>
                      <a:pt x="96" y="34"/>
                    </a:lnTo>
                    <a:lnTo>
                      <a:pt x="96" y="36"/>
                    </a:lnTo>
                    <a:lnTo>
                      <a:pt x="96" y="38"/>
                    </a:lnTo>
                    <a:lnTo>
                      <a:pt x="94" y="38"/>
                    </a:lnTo>
                    <a:lnTo>
                      <a:pt x="94" y="40"/>
                    </a:lnTo>
                    <a:lnTo>
                      <a:pt x="94" y="42"/>
                    </a:lnTo>
                    <a:lnTo>
                      <a:pt x="94" y="44"/>
                    </a:lnTo>
                    <a:lnTo>
                      <a:pt x="105" y="38"/>
                    </a:lnTo>
                    <a:lnTo>
                      <a:pt x="128" y="30"/>
                    </a:lnTo>
                    <a:lnTo>
                      <a:pt x="151" y="25"/>
                    </a:lnTo>
                    <a:lnTo>
                      <a:pt x="175" y="19"/>
                    </a:lnTo>
                    <a:lnTo>
                      <a:pt x="199" y="15"/>
                    </a:lnTo>
                    <a:lnTo>
                      <a:pt x="223" y="11"/>
                    </a:lnTo>
                    <a:lnTo>
                      <a:pt x="247" y="9"/>
                    </a:lnTo>
                    <a:lnTo>
                      <a:pt x="272" y="9"/>
                    </a:lnTo>
                    <a:lnTo>
                      <a:pt x="297" y="9"/>
                    </a:lnTo>
                    <a:lnTo>
                      <a:pt x="322" y="11"/>
                    </a:lnTo>
                    <a:lnTo>
                      <a:pt x="347" y="15"/>
                    </a:lnTo>
                    <a:lnTo>
                      <a:pt x="353" y="17"/>
                    </a:lnTo>
                    <a:lnTo>
                      <a:pt x="355" y="15"/>
                    </a:lnTo>
                    <a:lnTo>
                      <a:pt x="355" y="13"/>
                    </a:lnTo>
                    <a:lnTo>
                      <a:pt x="355" y="13"/>
                    </a:lnTo>
                    <a:lnTo>
                      <a:pt x="355" y="11"/>
                    </a:lnTo>
                    <a:lnTo>
                      <a:pt x="355" y="9"/>
                    </a:lnTo>
                    <a:lnTo>
                      <a:pt x="355" y="9"/>
                    </a:lnTo>
                    <a:lnTo>
                      <a:pt x="357" y="7"/>
                    </a:lnTo>
                    <a:lnTo>
                      <a:pt x="357" y="5"/>
                    </a:lnTo>
                    <a:close/>
                    <a:moveTo>
                      <a:pt x="2" y="915"/>
                    </a:moveTo>
                    <a:lnTo>
                      <a:pt x="15" y="922"/>
                    </a:lnTo>
                    <a:lnTo>
                      <a:pt x="36" y="934"/>
                    </a:lnTo>
                    <a:lnTo>
                      <a:pt x="57" y="945"/>
                    </a:lnTo>
                    <a:lnTo>
                      <a:pt x="79" y="955"/>
                    </a:lnTo>
                    <a:lnTo>
                      <a:pt x="102" y="965"/>
                    </a:lnTo>
                    <a:lnTo>
                      <a:pt x="125" y="972"/>
                    </a:lnTo>
                    <a:lnTo>
                      <a:pt x="148" y="978"/>
                    </a:lnTo>
                    <a:lnTo>
                      <a:pt x="173" y="984"/>
                    </a:lnTo>
                    <a:lnTo>
                      <a:pt x="198" y="990"/>
                    </a:lnTo>
                    <a:lnTo>
                      <a:pt x="223" y="992"/>
                    </a:lnTo>
                    <a:lnTo>
                      <a:pt x="247" y="993"/>
                    </a:lnTo>
                    <a:lnTo>
                      <a:pt x="272" y="995"/>
                    </a:lnTo>
                    <a:lnTo>
                      <a:pt x="299" y="993"/>
                    </a:lnTo>
                    <a:lnTo>
                      <a:pt x="324" y="992"/>
                    </a:lnTo>
                    <a:lnTo>
                      <a:pt x="349" y="990"/>
                    </a:lnTo>
                    <a:lnTo>
                      <a:pt x="359" y="988"/>
                    </a:lnTo>
                    <a:lnTo>
                      <a:pt x="357" y="986"/>
                    </a:lnTo>
                    <a:lnTo>
                      <a:pt x="357" y="984"/>
                    </a:lnTo>
                    <a:lnTo>
                      <a:pt x="357" y="984"/>
                    </a:lnTo>
                    <a:lnTo>
                      <a:pt x="357" y="982"/>
                    </a:lnTo>
                    <a:lnTo>
                      <a:pt x="357" y="982"/>
                    </a:lnTo>
                    <a:lnTo>
                      <a:pt x="357" y="980"/>
                    </a:lnTo>
                    <a:lnTo>
                      <a:pt x="355" y="978"/>
                    </a:lnTo>
                    <a:lnTo>
                      <a:pt x="355" y="978"/>
                    </a:lnTo>
                    <a:lnTo>
                      <a:pt x="347" y="978"/>
                    </a:lnTo>
                    <a:lnTo>
                      <a:pt x="322" y="982"/>
                    </a:lnTo>
                    <a:lnTo>
                      <a:pt x="297" y="984"/>
                    </a:lnTo>
                    <a:lnTo>
                      <a:pt x="272" y="984"/>
                    </a:lnTo>
                    <a:lnTo>
                      <a:pt x="247" y="984"/>
                    </a:lnTo>
                    <a:lnTo>
                      <a:pt x="223" y="982"/>
                    </a:lnTo>
                    <a:lnTo>
                      <a:pt x="199" y="978"/>
                    </a:lnTo>
                    <a:lnTo>
                      <a:pt x="175" y="974"/>
                    </a:lnTo>
                    <a:lnTo>
                      <a:pt x="151" y="969"/>
                    </a:lnTo>
                    <a:lnTo>
                      <a:pt x="128" y="963"/>
                    </a:lnTo>
                    <a:lnTo>
                      <a:pt x="105" y="955"/>
                    </a:lnTo>
                    <a:lnTo>
                      <a:pt x="82" y="945"/>
                    </a:lnTo>
                    <a:lnTo>
                      <a:pt x="61" y="936"/>
                    </a:lnTo>
                    <a:lnTo>
                      <a:pt x="40" y="926"/>
                    </a:lnTo>
                    <a:lnTo>
                      <a:pt x="21" y="913"/>
                    </a:lnTo>
                    <a:lnTo>
                      <a:pt x="0" y="901"/>
                    </a:lnTo>
                    <a:lnTo>
                      <a:pt x="0" y="901"/>
                    </a:lnTo>
                    <a:lnTo>
                      <a:pt x="0" y="903"/>
                    </a:lnTo>
                    <a:lnTo>
                      <a:pt x="0" y="903"/>
                    </a:lnTo>
                    <a:lnTo>
                      <a:pt x="0" y="905"/>
                    </a:lnTo>
                    <a:lnTo>
                      <a:pt x="0" y="907"/>
                    </a:lnTo>
                    <a:lnTo>
                      <a:pt x="0" y="909"/>
                    </a:lnTo>
                    <a:lnTo>
                      <a:pt x="2" y="911"/>
                    </a:lnTo>
                    <a:lnTo>
                      <a:pt x="2" y="913"/>
                    </a:lnTo>
                    <a:lnTo>
                      <a:pt x="2" y="915"/>
                    </a:lnTo>
                    <a:close/>
                  </a:path>
                </a:pathLst>
              </a:custGeom>
              <a:solidFill>
                <a:srgbClr val="9fd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Freeform 169"/>
              <p:cNvSpPr/>
              <p:nvPr/>
            </p:nvSpPr>
            <p:spPr>
              <a:xfrm>
                <a:off x="1826640" y="2341440"/>
                <a:ext cx="601200" cy="1662120"/>
              </a:xfrm>
              <a:custGeom>
                <a:avLst/>
                <a:gdLst>
                  <a:gd name="textAreaLeft" fmla="*/ 0 w 601200"/>
                  <a:gd name="textAreaRight" fmla="*/ 601560 w 601200"/>
                  <a:gd name="textAreaTop" fmla="*/ 0 h 1662120"/>
                  <a:gd name="textAreaBottom" fmla="*/ 1662480 h 1662120"/>
                </a:gdLst>
                <a:ahLst/>
                <a:rect l="textAreaLeft" t="textAreaTop" r="textAreaRight" b="textAreaBottom"/>
                <a:pathLst>
                  <a:path w="357" h="987">
                    <a:moveTo>
                      <a:pt x="355" y="8"/>
                    </a:moveTo>
                    <a:lnTo>
                      <a:pt x="347" y="6"/>
                    </a:lnTo>
                    <a:lnTo>
                      <a:pt x="324" y="4"/>
                    </a:lnTo>
                    <a:lnTo>
                      <a:pt x="299" y="2"/>
                    </a:lnTo>
                    <a:lnTo>
                      <a:pt x="272" y="0"/>
                    </a:lnTo>
                    <a:lnTo>
                      <a:pt x="247" y="2"/>
                    </a:lnTo>
                    <a:lnTo>
                      <a:pt x="223" y="4"/>
                    </a:lnTo>
                    <a:lnTo>
                      <a:pt x="198" y="6"/>
                    </a:lnTo>
                    <a:lnTo>
                      <a:pt x="175" y="12"/>
                    </a:lnTo>
                    <a:lnTo>
                      <a:pt x="150" y="16"/>
                    </a:lnTo>
                    <a:lnTo>
                      <a:pt x="127" y="23"/>
                    </a:lnTo>
                    <a:lnTo>
                      <a:pt x="104" y="31"/>
                    </a:lnTo>
                    <a:lnTo>
                      <a:pt x="96" y="35"/>
                    </a:lnTo>
                    <a:lnTo>
                      <a:pt x="94" y="35"/>
                    </a:lnTo>
                    <a:lnTo>
                      <a:pt x="94" y="37"/>
                    </a:lnTo>
                    <a:lnTo>
                      <a:pt x="94" y="39"/>
                    </a:lnTo>
                    <a:lnTo>
                      <a:pt x="94" y="41"/>
                    </a:lnTo>
                    <a:lnTo>
                      <a:pt x="92" y="43"/>
                    </a:lnTo>
                    <a:lnTo>
                      <a:pt x="92" y="45"/>
                    </a:lnTo>
                    <a:lnTo>
                      <a:pt x="92" y="45"/>
                    </a:lnTo>
                    <a:lnTo>
                      <a:pt x="92" y="46"/>
                    </a:lnTo>
                    <a:lnTo>
                      <a:pt x="107" y="41"/>
                    </a:lnTo>
                    <a:lnTo>
                      <a:pt x="130" y="33"/>
                    </a:lnTo>
                    <a:lnTo>
                      <a:pt x="151" y="27"/>
                    </a:lnTo>
                    <a:lnTo>
                      <a:pt x="176" y="22"/>
                    </a:lnTo>
                    <a:lnTo>
                      <a:pt x="199" y="18"/>
                    </a:lnTo>
                    <a:lnTo>
                      <a:pt x="224" y="14"/>
                    </a:lnTo>
                    <a:lnTo>
                      <a:pt x="247" y="12"/>
                    </a:lnTo>
                    <a:lnTo>
                      <a:pt x="272" y="12"/>
                    </a:lnTo>
                    <a:lnTo>
                      <a:pt x="297" y="12"/>
                    </a:lnTo>
                    <a:lnTo>
                      <a:pt x="322" y="14"/>
                    </a:lnTo>
                    <a:lnTo>
                      <a:pt x="347" y="18"/>
                    </a:lnTo>
                    <a:lnTo>
                      <a:pt x="353" y="18"/>
                    </a:lnTo>
                    <a:lnTo>
                      <a:pt x="353" y="18"/>
                    </a:lnTo>
                    <a:lnTo>
                      <a:pt x="353" y="16"/>
                    </a:lnTo>
                    <a:lnTo>
                      <a:pt x="353" y="14"/>
                    </a:lnTo>
                    <a:lnTo>
                      <a:pt x="353" y="14"/>
                    </a:lnTo>
                    <a:lnTo>
                      <a:pt x="355" y="12"/>
                    </a:lnTo>
                    <a:lnTo>
                      <a:pt x="355" y="10"/>
                    </a:lnTo>
                    <a:lnTo>
                      <a:pt x="355" y="10"/>
                    </a:lnTo>
                    <a:lnTo>
                      <a:pt x="355" y="8"/>
                    </a:lnTo>
                    <a:close/>
                    <a:moveTo>
                      <a:pt x="0" y="904"/>
                    </a:moveTo>
                    <a:lnTo>
                      <a:pt x="17" y="916"/>
                    </a:lnTo>
                    <a:lnTo>
                      <a:pt x="38" y="927"/>
                    </a:lnTo>
                    <a:lnTo>
                      <a:pt x="59" y="939"/>
                    </a:lnTo>
                    <a:lnTo>
                      <a:pt x="80" y="948"/>
                    </a:lnTo>
                    <a:lnTo>
                      <a:pt x="104" y="956"/>
                    </a:lnTo>
                    <a:lnTo>
                      <a:pt x="127" y="964"/>
                    </a:lnTo>
                    <a:lnTo>
                      <a:pt x="150" y="971"/>
                    </a:lnTo>
                    <a:lnTo>
                      <a:pt x="175" y="977"/>
                    </a:lnTo>
                    <a:lnTo>
                      <a:pt x="198" y="981"/>
                    </a:lnTo>
                    <a:lnTo>
                      <a:pt x="223" y="985"/>
                    </a:lnTo>
                    <a:lnTo>
                      <a:pt x="247" y="987"/>
                    </a:lnTo>
                    <a:lnTo>
                      <a:pt x="272" y="987"/>
                    </a:lnTo>
                    <a:lnTo>
                      <a:pt x="299" y="987"/>
                    </a:lnTo>
                    <a:lnTo>
                      <a:pt x="324" y="985"/>
                    </a:lnTo>
                    <a:lnTo>
                      <a:pt x="347" y="981"/>
                    </a:lnTo>
                    <a:lnTo>
                      <a:pt x="357" y="979"/>
                    </a:lnTo>
                    <a:lnTo>
                      <a:pt x="357" y="979"/>
                    </a:lnTo>
                    <a:lnTo>
                      <a:pt x="357" y="977"/>
                    </a:lnTo>
                    <a:lnTo>
                      <a:pt x="355" y="975"/>
                    </a:lnTo>
                    <a:lnTo>
                      <a:pt x="355" y="975"/>
                    </a:lnTo>
                    <a:lnTo>
                      <a:pt x="355" y="973"/>
                    </a:lnTo>
                    <a:lnTo>
                      <a:pt x="355" y="971"/>
                    </a:lnTo>
                    <a:lnTo>
                      <a:pt x="355" y="971"/>
                    </a:lnTo>
                    <a:lnTo>
                      <a:pt x="355" y="969"/>
                    </a:lnTo>
                    <a:lnTo>
                      <a:pt x="347" y="971"/>
                    </a:lnTo>
                    <a:lnTo>
                      <a:pt x="322" y="973"/>
                    </a:lnTo>
                    <a:lnTo>
                      <a:pt x="297" y="975"/>
                    </a:lnTo>
                    <a:lnTo>
                      <a:pt x="272" y="977"/>
                    </a:lnTo>
                    <a:lnTo>
                      <a:pt x="247" y="975"/>
                    </a:lnTo>
                    <a:lnTo>
                      <a:pt x="224" y="973"/>
                    </a:lnTo>
                    <a:lnTo>
                      <a:pt x="199" y="971"/>
                    </a:lnTo>
                    <a:lnTo>
                      <a:pt x="176" y="966"/>
                    </a:lnTo>
                    <a:lnTo>
                      <a:pt x="151" y="962"/>
                    </a:lnTo>
                    <a:lnTo>
                      <a:pt x="130" y="954"/>
                    </a:lnTo>
                    <a:lnTo>
                      <a:pt x="107" y="946"/>
                    </a:lnTo>
                    <a:lnTo>
                      <a:pt x="84" y="939"/>
                    </a:lnTo>
                    <a:lnTo>
                      <a:pt x="63" y="929"/>
                    </a:lnTo>
                    <a:lnTo>
                      <a:pt x="42" y="918"/>
                    </a:lnTo>
                    <a:lnTo>
                      <a:pt x="23" y="906"/>
                    </a:lnTo>
                    <a:lnTo>
                      <a:pt x="4" y="895"/>
                    </a:lnTo>
                    <a:lnTo>
                      <a:pt x="0" y="891"/>
                    </a:lnTo>
                    <a:lnTo>
                      <a:pt x="0" y="893"/>
                    </a:lnTo>
                    <a:lnTo>
                      <a:pt x="0" y="895"/>
                    </a:lnTo>
                    <a:lnTo>
                      <a:pt x="0" y="896"/>
                    </a:lnTo>
                    <a:lnTo>
                      <a:pt x="0" y="898"/>
                    </a:lnTo>
                    <a:lnTo>
                      <a:pt x="0" y="898"/>
                    </a:lnTo>
                    <a:lnTo>
                      <a:pt x="0" y="900"/>
                    </a:lnTo>
                    <a:lnTo>
                      <a:pt x="0" y="902"/>
                    </a:lnTo>
                    <a:lnTo>
                      <a:pt x="0" y="904"/>
                    </a:lnTo>
                    <a:close/>
                  </a:path>
                </a:pathLst>
              </a:custGeom>
              <a:solidFill>
                <a:srgbClr val="a0d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Freeform 170"/>
              <p:cNvSpPr/>
              <p:nvPr/>
            </p:nvSpPr>
            <p:spPr>
              <a:xfrm>
                <a:off x="1823400" y="2351880"/>
                <a:ext cx="601200" cy="1641240"/>
              </a:xfrm>
              <a:custGeom>
                <a:avLst/>
                <a:gdLst>
                  <a:gd name="textAreaLeft" fmla="*/ 0 w 601200"/>
                  <a:gd name="textAreaRight" fmla="*/ 601560 w 601200"/>
                  <a:gd name="textAreaTop" fmla="*/ 0 h 1641240"/>
                  <a:gd name="textAreaBottom" fmla="*/ 1641600 h 1641240"/>
                </a:gdLst>
                <a:ahLst/>
                <a:rect l="textAreaLeft" t="textAreaTop" r="textAreaRight" b="textAreaBottom"/>
                <a:pathLst>
                  <a:path w="357" h="975">
                    <a:moveTo>
                      <a:pt x="355" y="8"/>
                    </a:moveTo>
                    <a:lnTo>
                      <a:pt x="349" y="6"/>
                    </a:lnTo>
                    <a:lnTo>
                      <a:pt x="324" y="2"/>
                    </a:lnTo>
                    <a:lnTo>
                      <a:pt x="299" y="0"/>
                    </a:lnTo>
                    <a:lnTo>
                      <a:pt x="274" y="0"/>
                    </a:lnTo>
                    <a:lnTo>
                      <a:pt x="249" y="0"/>
                    </a:lnTo>
                    <a:lnTo>
                      <a:pt x="225" y="2"/>
                    </a:lnTo>
                    <a:lnTo>
                      <a:pt x="201" y="6"/>
                    </a:lnTo>
                    <a:lnTo>
                      <a:pt x="177" y="10"/>
                    </a:lnTo>
                    <a:lnTo>
                      <a:pt x="153" y="16"/>
                    </a:lnTo>
                    <a:lnTo>
                      <a:pt x="130" y="21"/>
                    </a:lnTo>
                    <a:lnTo>
                      <a:pt x="107" y="29"/>
                    </a:lnTo>
                    <a:lnTo>
                      <a:pt x="96" y="35"/>
                    </a:lnTo>
                    <a:lnTo>
                      <a:pt x="94" y="37"/>
                    </a:lnTo>
                    <a:lnTo>
                      <a:pt x="94" y="39"/>
                    </a:lnTo>
                    <a:lnTo>
                      <a:pt x="94" y="39"/>
                    </a:lnTo>
                    <a:lnTo>
                      <a:pt x="94" y="40"/>
                    </a:lnTo>
                    <a:lnTo>
                      <a:pt x="92" y="42"/>
                    </a:lnTo>
                    <a:lnTo>
                      <a:pt x="92" y="44"/>
                    </a:lnTo>
                    <a:lnTo>
                      <a:pt x="92" y="46"/>
                    </a:lnTo>
                    <a:lnTo>
                      <a:pt x="92" y="46"/>
                    </a:lnTo>
                    <a:lnTo>
                      <a:pt x="111" y="39"/>
                    </a:lnTo>
                    <a:lnTo>
                      <a:pt x="132" y="33"/>
                    </a:lnTo>
                    <a:lnTo>
                      <a:pt x="155" y="25"/>
                    </a:lnTo>
                    <a:lnTo>
                      <a:pt x="178" y="19"/>
                    </a:lnTo>
                    <a:lnTo>
                      <a:pt x="201" y="16"/>
                    </a:lnTo>
                    <a:lnTo>
                      <a:pt x="226" y="14"/>
                    </a:lnTo>
                    <a:lnTo>
                      <a:pt x="251" y="12"/>
                    </a:lnTo>
                    <a:lnTo>
                      <a:pt x="274" y="10"/>
                    </a:lnTo>
                    <a:lnTo>
                      <a:pt x="299" y="12"/>
                    </a:lnTo>
                    <a:lnTo>
                      <a:pt x="324" y="14"/>
                    </a:lnTo>
                    <a:lnTo>
                      <a:pt x="347" y="16"/>
                    </a:lnTo>
                    <a:lnTo>
                      <a:pt x="353" y="17"/>
                    </a:lnTo>
                    <a:lnTo>
                      <a:pt x="353" y="16"/>
                    </a:lnTo>
                    <a:lnTo>
                      <a:pt x="355" y="14"/>
                    </a:lnTo>
                    <a:lnTo>
                      <a:pt x="355" y="14"/>
                    </a:lnTo>
                    <a:lnTo>
                      <a:pt x="355" y="12"/>
                    </a:lnTo>
                    <a:lnTo>
                      <a:pt x="355" y="12"/>
                    </a:lnTo>
                    <a:lnTo>
                      <a:pt x="355" y="10"/>
                    </a:lnTo>
                    <a:lnTo>
                      <a:pt x="355" y="8"/>
                    </a:lnTo>
                    <a:lnTo>
                      <a:pt x="355" y="8"/>
                    </a:lnTo>
                    <a:close/>
                    <a:moveTo>
                      <a:pt x="2" y="892"/>
                    </a:moveTo>
                    <a:lnTo>
                      <a:pt x="2" y="892"/>
                    </a:lnTo>
                    <a:lnTo>
                      <a:pt x="23" y="904"/>
                    </a:lnTo>
                    <a:lnTo>
                      <a:pt x="42" y="917"/>
                    </a:lnTo>
                    <a:lnTo>
                      <a:pt x="63" y="927"/>
                    </a:lnTo>
                    <a:lnTo>
                      <a:pt x="84" y="936"/>
                    </a:lnTo>
                    <a:lnTo>
                      <a:pt x="107" y="946"/>
                    </a:lnTo>
                    <a:lnTo>
                      <a:pt x="130" y="954"/>
                    </a:lnTo>
                    <a:lnTo>
                      <a:pt x="153" y="960"/>
                    </a:lnTo>
                    <a:lnTo>
                      <a:pt x="177" y="965"/>
                    </a:lnTo>
                    <a:lnTo>
                      <a:pt x="201" y="969"/>
                    </a:lnTo>
                    <a:lnTo>
                      <a:pt x="225" y="973"/>
                    </a:lnTo>
                    <a:lnTo>
                      <a:pt x="249" y="975"/>
                    </a:lnTo>
                    <a:lnTo>
                      <a:pt x="274" y="975"/>
                    </a:lnTo>
                    <a:lnTo>
                      <a:pt x="299" y="975"/>
                    </a:lnTo>
                    <a:lnTo>
                      <a:pt x="324" y="973"/>
                    </a:lnTo>
                    <a:lnTo>
                      <a:pt x="349" y="969"/>
                    </a:lnTo>
                    <a:lnTo>
                      <a:pt x="357" y="969"/>
                    </a:lnTo>
                    <a:lnTo>
                      <a:pt x="357" y="967"/>
                    </a:lnTo>
                    <a:lnTo>
                      <a:pt x="357" y="965"/>
                    </a:lnTo>
                    <a:lnTo>
                      <a:pt x="357" y="965"/>
                    </a:lnTo>
                    <a:lnTo>
                      <a:pt x="357" y="963"/>
                    </a:lnTo>
                    <a:lnTo>
                      <a:pt x="357" y="961"/>
                    </a:lnTo>
                    <a:lnTo>
                      <a:pt x="355" y="961"/>
                    </a:lnTo>
                    <a:lnTo>
                      <a:pt x="355" y="960"/>
                    </a:lnTo>
                    <a:lnTo>
                      <a:pt x="355" y="958"/>
                    </a:lnTo>
                    <a:lnTo>
                      <a:pt x="347" y="960"/>
                    </a:lnTo>
                    <a:lnTo>
                      <a:pt x="324" y="963"/>
                    </a:lnTo>
                    <a:lnTo>
                      <a:pt x="299" y="965"/>
                    </a:lnTo>
                    <a:lnTo>
                      <a:pt x="274" y="965"/>
                    </a:lnTo>
                    <a:lnTo>
                      <a:pt x="251" y="965"/>
                    </a:lnTo>
                    <a:lnTo>
                      <a:pt x="226" y="963"/>
                    </a:lnTo>
                    <a:lnTo>
                      <a:pt x="201" y="960"/>
                    </a:lnTo>
                    <a:lnTo>
                      <a:pt x="178" y="956"/>
                    </a:lnTo>
                    <a:lnTo>
                      <a:pt x="155" y="950"/>
                    </a:lnTo>
                    <a:lnTo>
                      <a:pt x="132" y="944"/>
                    </a:lnTo>
                    <a:lnTo>
                      <a:pt x="111" y="936"/>
                    </a:lnTo>
                    <a:lnTo>
                      <a:pt x="90" y="927"/>
                    </a:lnTo>
                    <a:lnTo>
                      <a:pt x="67" y="917"/>
                    </a:lnTo>
                    <a:lnTo>
                      <a:pt x="48" y="908"/>
                    </a:lnTo>
                    <a:lnTo>
                      <a:pt x="27" y="896"/>
                    </a:lnTo>
                    <a:lnTo>
                      <a:pt x="8" y="883"/>
                    </a:lnTo>
                    <a:lnTo>
                      <a:pt x="0" y="879"/>
                    </a:lnTo>
                    <a:lnTo>
                      <a:pt x="0" y="879"/>
                    </a:lnTo>
                    <a:lnTo>
                      <a:pt x="0" y="881"/>
                    </a:lnTo>
                    <a:lnTo>
                      <a:pt x="0" y="883"/>
                    </a:lnTo>
                    <a:lnTo>
                      <a:pt x="2" y="885"/>
                    </a:lnTo>
                    <a:lnTo>
                      <a:pt x="2" y="887"/>
                    </a:lnTo>
                    <a:lnTo>
                      <a:pt x="2" y="889"/>
                    </a:lnTo>
                    <a:lnTo>
                      <a:pt x="2" y="890"/>
                    </a:lnTo>
                    <a:lnTo>
                      <a:pt x="2" y="892"/>
                    </a:lnTo>
                    <a:close/>
                  </a:path>
                </a:pathLst>
              </a:custGeom>
              <a:solidFill>
                <a:srgbClr val="a1d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Freeform 171"/>
              <p:cNvSpPr/>
              <p:nvPr/>
            </p:nvSpPr>
            <p:spPr>
              <a:xfrm>
                <a:off x="1823400" y="2361600"/>
                <a:ext cx="601200" cy="1625040"/>
              </a:xfrm>
              <a:custGeom>
                <a:avLst/>
                <a:gdLst>
                  <a:gd name="textAreaLeft" fmla="*/ 0 w 601200"/>
                  <a:gd name="textAreaRight" fmla="*/ 601560 w 601200"/>
                  <a:gd name="textAreaTop" fmla="*/ 0 h 1625040"/>
                  <a:gd name="textAreaBottom" fmla="*/ 1625400 h 1625040"/>
                </a:gdLst>
                <a:ahLst/>
                <a:rect l="textAreaLeft" t="textAreaTop" r="textAreaRight" b="textAreaBottom"/>
                <a:pathLst>
                  <a:path w="357" h="965">
                    <a:moveTo>
                      <a:pt x="355" y="6"/>
                    </a:moveTo>
                    <a:lnTo>
                      <a:pt x="349" y="6"/>
                    </a:lnTo>
                    <a:lnTo>
                      <a:pt x="324" y="2"/>
                    </a:lnTo>
                    <a:lnTo>
                      <a:pt x="299" y="0"/>
                    </a:lnTo>
                    <a:lnTo>
                      <a:pt x="274" y="0"/>
                    </a:lnTo>
                    <a:lnTo>
                      <a:pt x="249" y="0"/>
                    </a:lnTo>
                    <a:lnTo>
                      <a:pt x="226" y="2"/>
                    </a:lnTo>
                    <a:lnTo>
                      <a:pt x="201" y="6"/>
                    </a:lnTo>
                    <a:lnTo>
                      <a:pt x="178" y="10"/>
                    </a:lnTo>
                    <a:lnTo>
                      <a:pt x="153" y="15"/>
                    </a:lnTo>
                    <a:lnTo>
                      <a:pt x="132" y="21"/>
                    </a:lnTo>
                    <a:lnTo>
                      <a:pt x="109" y="29"/>
                    </a:lnTo>
                    <a:lnTo>
                      <a:pt x="94" y="34"/>
                    </a:lnTo>
                    <a:lnTo>
                      <a:pt x="92" y="36"/>
                    </a:lnTo>
                    <a:lnTo>
                      <a:pt x="92" y="38"/>
                    </a:lnTo>
                    <a:lnTo>
                      <a:pt x="92" y="40"/>
                    </a:lnTo>
                    <a:lnTo>
                      <a:pt x="92" y="40"/>
                    </a:lnTo>
                    <a:lnTo>
                      <a:pt x="90" y="42"/>
                    </a:lnTo>
                    <a:lnTo>
                      <a:pt x="90" y="44"/>
                    </a:lnTo>
                    <a:lnTo>
                      <a:pt x="90" y="46"/>
                    </a:lnTo>
                    <a:lnTo>
                      <a:pt x="90" y="48"/>
                    </a:lnTo>
                    <a:lnTo>
                      <a:pt x="92" y="46"/>
                    </a:lnTo>
                    <a:lnTo>
                      <a:pt x="113" y="38"/>
                    </a:lnTo>
                    <a:lnTo>
                      <a:pt x="134" y="31"/>
                    </a:lnTo>
                    <a:lnTo>
                      <a:pt x="157" y="25"/>
                    </a:lnTo>
                    <a:lnTo>
                      <a:pt x="180" y="19"/>
                    </a:lnTo>
                    <a:lnTo>
                      <a:pt x="203" y="15"/>
                    </a:lnTo>
                    <a:lnTo>
                      <a:pt x="226" y="11"/>
                    </a:lnTo>
                    <a:lnTo>
                      <a:pt x="251" y="10"/>
                    </a:lnTo>
                    <a:lnTo>
                      <a:pt x="274" y="10"/>
                    </a:lnTo>
                    <a:lnTo>
                      <a:pt x="299" y="10"/>
                    </a:lnTo>
                    <a:lnTo>
                      <a:pt x="322" y="11"/>
                    </a:lnTo>
                    <a:lnTo>
                      <a:pt x="347" y="15"/>
                    </a:lnTo>
                    <a:lnTo>
                      <a:pt x="353" y="15"/>
                    </a:lnTo>
                    <a:lnTo>
                      <a:pt x="353" y="15"/>
                    </a:lnTo>
                    <a:lnTo>
                      <a:pt x="353" y="13"/>
                    </a:lnTo>
                    <a:lnTo>
                      <a:pt x="353" y="11"/>
                    </a:lnTo>
                    <a:lnTo>
                      <a:pt x="353" y="11"/>
                    </a:lnTo>
                    <a:lnTo>
                      <a:pt x="353" y="10"/>
                    </a:lnTo>
                    <a:lnTo>
                      <a:pt x="355" y="8"/>
                    </a:lnTo>
                    <a:lnTo>
                      <a:pt x="355" y="8"/>
                    </a:lnTo>
                    <a:lnTo>
                      <a:pt x="355" y="6"/>
                    </a:lnTo>
                    <a:close/>
                    <a:moveTo>
                      <a:pt x="2" y="879"/>
                    </a:moveTo>
                    <a:lnTo>
                      <a:pt x="6" y="883"/>
                    </a:lnTo>
                    <a:lnTo>
                      <a:pt x="25" y="894"/>
                    </a:lnTo>
                    <a:lnTo>
                      <a:pt x="44" y="906"/>
                    </a:lnTo>
                    <a:lnTo>
                      <a:pt x="65" y="917"/>
                    </a:lnTo>
                    <a:lnTo>
                      <a:pt x="86" y="927"/>
                    </a:lnTo>
                    <a:lnTo>
                      <a:pt x="109" y="934"/>
                    </a:lnTo>
                    <a:lnTo>
                      <a:pt x="132" y="942"/>
                    </a:lnTo>
                    <a:lnTo>
                      <a:pt x="153" y="950"/>
                    </a:lnTo>
                    <a:lnTo>
                      <a:pt x="178" y="954"/>
                    </a:lnTo>
                    <a:lnTo>
                      <a:pt x="201" y="959"/>
                    </a:lnTo>
                    <a:lnTo>
                      <a:pt x="226" y="961"/>
                    </a:lnTo>
                    <a:lnTo>
                      <a:pt x="249" y="963"/>
                    </a:lnTo>
                    <a:lnTo>
                      <a:pt x="274" y="965"/>
                    </a:lnTo>
                    <a:lnTo>
                      <a:pt x="299" y="963"/>
                    </a:lnTo>
                    <a:lnTo>
                      <a:pt x="324" y="961"/>
                    </a:lnTo>
                    <a:lnTo>
                      <a:pt x="349" y="959"/>
                    </a:lnTo>
                    <a:lnTo>
                      <a:pt x="357" y="957"/>
                    </a:lnTo>
                    <a:lnTo>
                      <a:pt x="357" y="955"/>
                    </a:lnTo>
                    <a:lnTo>
                      <a:pt x="355" y="955"/>
                    </a:lnTo>
                    <a:lnTo>
                      <a:pt x="355" y="954"/>
                    </a:lnTo>
                    <a:lnTo>
                      <a:pt x="355" y="952"/>
                    </a:lnTo>
                    <a:lnTo>
                      <a:pt x="355" y="952"/>
                    </a:lnTo>
                    <a:lnTo>
                      <a:pt x="355" y="950"/>
                    </a:lnTo>
                    <a:lnTo>
                      <a:pt x="355" y="948"/>
                    </a:lnTo>
                    <a:lnTo>
                      <a:pt x="355" y="948"/>
                    </a:lnTo>
                    <a:lnTo>
                      <a:pt x="347" y="948"/>
                    </a:lnTo>
                    <a:lnTo>
                      <a:pt x="322" y="952"/>
                    </a:lnTo>
                    <a:lnTo>
                      <a:pt x="299" y="954"/>
                    </a:lnTo>
                    <a:lnTo>
                      <a:pt x="274" y="954"/>
                    </a:lnTo>
                    <a:lnTo>
                      <a:pt x="251" y="954"/>
                    </a:lnTo>
                    <a:lnTo>
                      <a:pt x="226" y="952"/>
                    </a:lnTo>
                    <a:lnTo>
                      <a:pt x="203" y="948"/>
                    </a:lnTo>
                    <a:lnTo>
                      <a:pt x="180" y="944"/>
                    </a:lnTo>
                    <a:lnTo>
                      <a:pt x="157" y="938"/>
                    </a:lnTo>
                    <a:lnTo>
                      <a:pt x="134" y="932"/>
                    </a:lnTo>
                    <a:lnTo>
                      <a:pt x="113" y="925"/>
                    </a:lnTo>
                    <a:lnTo>
                      <a:pt x="92" y="917"/>
                    </a:lnTo>
                    <a:lnTo>
                      <a:pt x="71" y="907"/>
                    </a:lnTo>
                    <a:lnTo>
                      <a:pt x="50" y="898"/>
                    </a:lnTo>
                    <a:lnTo>
                      <a:pt x="31" y="886"/>
                    </a:lnTo>
                    <a:lnTo>
                      <a:pt x="11" y="873"/>
                    </a:lnTo>
                    <a:lnTo>
                      <a:pt x="0" y="865"/>
                    </a:lnTo>
                    <a:lnTo>
                      <a:pt x="0" y="867"/>
                    </a:lnTo>
                    <a:lnTo>
                      <a:pt x="0" y="869"/>
                    </a:lnTo>
                    <a:lnTo>
                      <a:pt x="0" y="871"/>
                    </a:lnTo>
                    <a:lnTo>
                      <a:pt x="0" y="873"/>
                    </a:lnTo>
                    <a:lnTo>
                      <a:pt x="0" y="873"/>
                    </a:lnTo>
                    <a:lnTo>
                      <a:pt x="0" y="875"/>
                    </a:lnTo>
                    <a:lnTo>
                      <a:pt x="0" y="877"/>
                    </a:lnTo>
                    <a:lnTo>
                      <a:pt x="2" y="879"/>
                    </a:lnTo>
                    <a:close/>
                  </a:path>
                </a:pathLst>
              </a:custGeom>
              <a:solidFill>
                <a:srgbClr val="a2d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Freeform 172"/>
              <p:cNvSpPr/>
              <p:nvPr/>
            </p:nvSpPr>
            <p:spPr>
              <a:xfrm>
                <a:off x="1820160" y="2368800"/>
                <a:ext cx="600840" cy="1607760"/>
              </a:xfrm>
              <a:custGeom>
                <a:avLst/>
                <a:gdLst>
                  <a:gd name="textAreaLeft" fmla="*/ 0 w 600840"/>
                  <a:gd name="textAreaRight" fmla="*/ 601200 w 600840"/>
                  <a:gd name="textAreaTop" fmla="*/ 0 h 1607760"/>
                  <a:gd name="textAreaBottom" fmla="*/ 1608120 h 1607760"/>
                </a:gdLst>
                <a:ahLst/>
                <a:rect l="textAreaLeft" t="textAreaTop" r="textAreaRight" b="textAreaBottom"/>
                <a:pathLst>
                  <a:path w="357" h="955">
                    <a:moveTo>
                      <a:pt x="355" y="7"/>
                    </a:moveTo>
                    <a:lnTo>
                      <a:pt x="349" y="6"/>
                    </a:lnTo>
                    <a:lnTo>
                      <a:pt x="326" y="4"/>
                    </a:lnTo>
                    <a:lnTo>
                      <a:pt x="301" y="2"/>
                    </a:lnTo>
                    <a:lnTo>
                      <a:pt x="276" y="0"/>
                    </a:lnTo>
                    <a:lnTo>
                      <a:pt x="253" y="2"/>
                    </a:lnTo>
                    <a:lnTo>
                      <a:pt x="228" y="4"/>
                    </a:lnTo>
                    <a:lnTo>
                      <a:pt x="203" y="6"/>
                    </a:lnTo>
                    <a:lnTo>
                      <a:pt x="180" y="9"/>
                    </a:lnTo>
                    <a:lnTo>
                      <a:pt x="157" y="15"/>
                    </a:lnTo>
                    <a:lnTo>
                      <a:pt x="134" y="23"/>
                    </a:lnTo>
                    <a:lnTo>
                      <a:pt x="113" y="29"/>
                    </a:lnTo>
                    <a:lnTo>
                      <a:pt x="94" y="36"/>
                    </a:lnTo>
                    <a:lnTo>
                      <a:pt x="92" y="38"/>
                    </a:lnTo>
                    <a:lnTo>
                      <a:pt x="92" y="40"/>
                    </a:lnTo>
                    <a:lnTo>
                      <a:pt x="92" y="42"/>
                    </a:lnTo>
                    <a:lnTo>
                      <a:pt x="92" y="44"/>
                    </a:lnTo>
                    <a:lnTo>
                      <a:pt x="90" y="46"/>
                    </a:lnTo>
                    <a:lnTo>
                      <a:pt x="90" y="48"/>
                    </a:lnTo>
                    <a:lnTo>
                      <a:pt x="90" y="48"/>
                    </a:lnTo>
                    <a:lnTo>
                      <a:pt x="90" y="50"/>
                    </a:lnTo>
                    <a:lnTo>
                      <a:pt x="96" y="48"/>
                    </a:lnTo>
                    <a:lnTo>
                      <a:pt x="117" y="38"/>
                    </a:lnTo>
                    <a:lnTo>
                      <a:pt x="138" y="32"/>
                    </a:lnTo>
                    <a:lnTo>
                      <a:pt x="161" y="25"/>
                    </a:lnTo>
                    <a:lnTo>
                      <a:pt x="182" y="21"/>
                    </a:lnTo>
                    <a:lnTo>
                      <a:pt x="205" y="17"/>
                    </a:lnTo>
                    <a:lnTo>
                      <a:pt x="228" y="13"/>
                    </a:lnTo>
                    <a:lnTo>
                      <a:pt x="253" y="11"/>
                    </a:lnTo>
                    <a:lnTo>
                      <a:pt x="276" y="11"/>
                    </a:lnTo>
                    <a:lnTo>
                      <a:pt x="301" y="11"/>
                    </a:lnTo>
                    <a:lnTo>
                      <a:pt x="324" y="13"/>
                    </a:lnTo>
                    <a:lnTo>
                      <a:pt x="347" y="17"/>
                    </a:lnTo>
                    <a:lnTo>
                      <a:pt x="353" y="17"/>
                    </a:lnTo>
                    <a:lnTo>
                      <a:pt x="353" y="15"/>
                    </a:lnTo>
                    <a:lnTo>
                      <a:pt x="353" y="15"/>
                    </a:lnTo>
                    <a:lnTo>
                      <a:pt x="353" y="13"/>
                    </a:lnTo>
                    <a:lnTo>
                      <a:pt x="355" y="11"/>
                    </a:lnTo>
                    <a:lnTo>
                      <a:pt x="355" y="11"/>
                    </a:lnTo>
                    <a:lnTo>
                      <a:pt x="355" y="9"/>
                    </a:lnTo>
                    <a:lnTo>
                      <a:pt x="355" y="7"/>
                    </a:lnTo>
                    <a:lnTo>
                      <a:pt x="355" y="7"/>
                    </a:lnTo>
                    <a:close/>
                    <a:moveTo>
                      <a:pt x="2" y="869"/>
                    </a:moveTo>
                    <a:lnTo>
                      <a:pt x="10" y="873"/>
                    </a:lnTo>
                    <a:lnTo>
                      <a:pt x="29" y="886"/>
                    </a:lnTo>
                    <a:lnTo>
                      <a:pt x="50" y="898"/>
                    </a:lnTo>
                    <a:lnTo>
                      <a:pt x="69" y="907"/>
                    </a:lnTo>
                    <a:lnTo>
                      <a:pt x="92" y="917"/>
                    </a:lnTo>
                    <a:lnTo>
                      <a:pt x="113" y="926"/>
                    </a:lnTo>
                    <a:lnTo>
                      <a:pt x="134" y="934"/>
                    </a:lnTo>
                    <a:lnTo>
                      <a:pt x="157" y="940"/>
                    </a:lnTo>
                    <a:lnTo>
                      <a:pt x="180" y="946"/>
                    </a:lnTo>
                    <a:lnTo>
                      <a:pt x="203" y="950"/>
                    </a:lnTo>
                    <a:lnTo>
                      <a:pt x="228" y="953"/>
                    </a:lnTo>
                    <a:lnTo>
                      <a:pt x="253" y="955"/>
                    </a:lnTo>
                    <a:lnTo>
                      <a:pt x="276" y="955"/>
                    </a:lnTo>
                    <a:lnTo>
                      <a:pt x="301" y="955"/>
                    </a:lnTo>
                    <a:lnTo>
                      <a:pt x="326" y="953"/>
                    </a:lnTo>
                    <a:lnTo>
                      <a:pt x="349" y="950"/>
                    </a:lnTo>
                    <a:lnTo>
                      <a:pt x="357" y="948"/>
                    </a:lnTo>
                    <a:lnTo>
                      <a:pt x="357" y="948"/>
                    </a:lnTo>
                    <a:lnTo>
                      <a:pt x="357" y="946"/>
                    </a:lnTo>
                    <a:lnTo>
                      <a:pt x="357" y="944"/>
                    </a:lnTo>
                    <a:lnTo>
                      <a:pt x="357" y="944"/>
                    </a:lnTo>
                    <a:lnTo>
                      <a:pt x="355" y="942"/>
                    </a:lnTo>
                    <a:lnTo>
                      <a:pt x="355" y="940"/>
                    </a:lnTo>
                    <a:lnTo>
                      <a:pt x="355" y="940"/>
                    </a:lnTo>
                    <a:lnTo>
                      <a:pt x="355" y="938"/>
                    </a:lnTo>
                    <a:lnTo>
                      <a:pt x="347" y="940"/>
                    </a:lnTo>
                    <a:lnTo>
                      <a:pt x="324" y="942"/>
                    </a:lnTo>
                    <a:lnTo>
                      <a:pt x="301" y="944"/>
                    </a:lnTo>
                    <a:lnTo>
                      <a:pt x="276" y="946"/>
                    </a:lnTo>
                    <a:lnTo>
                      <a:pt x="253" y="944"/>
                    </a:lnTo>
                    <a:lnTo>
                      <a:pt x="228" y="942"/>
                    </a:lnTo>
                    <a:lnTo>
                      <a:pt x="205" y="940"/>
                    </a:lnTo>
                    <a:lnTo>
                      <a:pt x="182" y="936"/>
                    </a:lnTo>
                    <a:lnTo>
                      <a:pt x="161" y="930"/>
                    </a:lnTo>
                    <a:lnTo>
                      <a:pt x="138" y="925"/>
                    </a:lnTo>
                    <a:lnTo>
                      <a:pt x="117" y="917"/>
                    </a:lnTo>
                    <a:lnTo>
                      <a:pt x="96" y="907"/>
                    </a:lnTo>
                    <a:lnTo>
                      <a:pt x="75" y="900"/>
                    </a:lnTo>
                    <a:lnTo>
                      <a:pt x="54" y="888"/>
                    </a:lnTo>
                    <a:lnTo>
                      <a:pt x="35" y="877"/>
                    </a:lnTo>
                    <a:lnTo>
                      <a:pt x="15" y="865"/>
                    </a:lnTo>
                    <a:lnTo>
                      <a:pt x="0" y="854"/>
                    </a:lnTo>
                    <a:lnTo>
                      <a:pt x="2" y="855"/>
                    </a:lnTo>
                    <a:lnTo>
                      <a:pt x="2" y="857"/>
                    </a:lnTo>
                    <a:lnTo>
                      <a:pt x="2" y="859"/>
                    </a:lnTo>
                    <a:lnTo>
                      <a:pt x="2" y="861"/>
                    </a:lnTo>
                    <a:lnTo>
                      <a:pt x="2" y="863"/>
                    </a:lnTo>
                    <a:lnTo>
                      <a:pt x="2" y="865"/>
                    </a:lnTo>
                    <a:lnTo>
                      <a:pt x="2" y="867"/>
                    </a:lnTo>
                    <a:lnTo>
                      <a:pt x="2" y="869"/>
                    </a:lnTo>
                    <a:close/>
                  </a:path>
                </a:pathLst>
              </a:custGeom>
              <a:solidFill>
                <a:srgbClr val="a3d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Freeform 173"/>
              <p:cNvSpPr/>
              <p:nvPr/>
            </p:nvSpPr>
            <p:spPr>
              <a:xfrm>
                <a:off x="1820160" y="2378520"/>
                <a:ext cx="600840" cy="1589400"/>
              </a:xfrm>
              <a:custGeom>
                <a:avLst/>
                <a:gdLst>
                  <a:gd name="textAreaLeft" fmla="*/ 0 w 600840"/>
                  <a:gd name="textAreaRight" fmla="*/ 601200 w 600840"/>
                  <a:gd name="textAreaTop" fmla="*/ 0 h 1589400"/>
                  <a:gd name="textAreaBottom" fmla="*/ 1589760 h 1589400"/>
                </a:gdLst>
                <a:ahLst/>
                <a:rect l="textAreaLeft" t="textAreaTop" r="textAreaRight" b="textAreaBottom"/>
                <a:pathLst>
                  <a:path w="357" h="944">
                    <a:moveTo>
                      <a:pt x="355" y="5"/>
                    </a:moveTo>
                    <a:lnTo>
                      <a:pt x="349" y="5"/>
                    </a:lnTo>
                    <a:lnTo>
                      <a:pt x="324" y="1"/>
                    </a:lnTo>
                    <a:lnTo>
                      <a:pt x="301" y="0"/>
                    </a:lnTo>
                    <a:lnTo>
                      <a:pt x="276" y="0"/>
                    </a:lnTo>
                    <a:lnTo>
                      <a:pt x="253" y="0"/>
                    </a:lnTo>
                    <a:lnTo>
                      <a:pt x="228" y="1"/>
                    </a:lnTo>
                    <a:lnTo>
                      <a:pt x="205" y="5"/>
                    </a:lnTo>
                    <a:lnTo>
                      <a:pt x="182" y="9"/>
                    </a:lnTo>
                    <a:lnTo>
                      <a:pt x="159" y="15"/>
                    </a:lnTo>
                    <a:lnTo>
                      <a:pt x="136" y="21"/>
                    </a:lnTo>
                    <a:lnTo>
                      <a:pt x="115" y="28"/>
                    </a:lnTo>
                    <a:lnTo>
                      <a:pt x="94" y="36"/>
                    </a:lnTo>
                    <a:lnTo>
                      <a:pt x="92" y="38"/>
                    </a:lnTo>
                    <a:lnTo>
                      <a:pt x="90" y="40"/>
                    </a:lnTo>
                    <a:lnTo>
                      <a:pt x="90" y="40"/>
                    </a:lnTo>
                    <a:lnTo>
                      <a:pt x="90" y="42"/>
                    </a:lnTo>
                    <a:lnTo>
                      <a:pt x="90" y="44"/>
                    </a:lnTo>
                    <a:lnTo>
                      <a:pt x="88" y="46"/>
                    </a:lnTo>
                    <a:lnTo>
                      <a:pt x="88" y="47"/>
                    </a:lnTo>
                    <a:lnTo>
                      <a:pt x="88" y="49"/>
                    </a:lnTo>
                    <a:lnTo>
                      <a:pt x="88" y="51"/>
                    </a:lnTo>
                    <a:lnTo>
                      <a:pt x="98" y="46"/>
                    </a:lnTo>
                    <a:lnTo>
                      <a:pt x="119" y="38"/>
                    </a:lnTo>
                    <a:lnTo>
                      <a:pt x="140" y="30"/>
                    </a:lnTo>
                    <a:lnTo>
                      <a:pt x="161" y="24"/>
                    </a:lnTo>
                    <a:lnTo>
                      <a:pt x="184" y="19"/>
                    </a:lnTo>
                    <a:lnTo>
                      <a:pt x="207" y="15"/>
                    </a:lnTo>
                    <a:lnTo>
                      <a:pt x="230" y="13"/>
                    </a:lnTo>
                    <a:lnTo>
                      <a:pt x="253" y="11"/>
                    </a:lnTo>
                    <a:lnTo>
                      <a:pt x="276" y="9"/>
                    </a:lnTo>
                    <a:lnTo>
                      <a:pt x="301" y="11"/>
                    </a:lnTo>
                    <a:lnTo>
                      <a:pt x="324" y="13"/>
                    </a:lnTo>
                    <a:lnTo>
                      <a:pt x="347" y="15"/>
                    </a:lnTo>
                    <a:lnTo>
                      <a:pt x="351" y="17"/>
                    </a:lnTo>
                    <a:lnTo>
                      <a:pt x="353" y="15"/>
                    </a:lnTo>
                    <a:lnTo>
                      <a:pt x="353" y="13"/>
                    </a:lnTo>
                    <a:lnTo>
                      <a:pt x="353" y="13"/>
                    </a:lnTo>
                    <a:lnTo>
                      <a:pt x="353" y="11"/>
                    </a:lnTo>
                    <a:lnTo>
                      <a:pt x="353" y="9"/>
                    </a:lnTo>
                    <a:lnTo>
                      <a:pt x="353" y="9"/>
                    </a:lnTo>
                    <a:lnTo>
                      <a:pt x="353" y="7"/>
                    </a:lnTo>
                    <a:lnTo>
                      <a:pt x="355" y="5"/>
                    </a:lnTo>
                    <a:close/>
                    <a:moveTo>
                      <a:pt x="2" y="855"/>
                    </a:moveTo>
                    <a:lnTo>
                      <a:pt x="13" y="863"/>
                    </a:lnTo>
                    <a:lnTo>
                      <a:pt x="33" y="876"/>
                    </a:lnTo>
                    <a:lnTo>
                      <a:pt x="52" y="888"/>
                    </a:lnTo>
                    <a:lnTo>
                      <a:pt x="73" y="897"/>
                    </a:lnTo>
                    <a:lnTo>
                      <a:pt x="94" y="907"/>
                    </a:lnTo>
                    <a:lnTo>
                      <a:pt x="115" y="915"/>
                    </a:lnTo>
                    <a:lnTo>
                      <a:pt x="136" y="922"/>
                    </a:lnTo>
                    <a:lnTo>
                      <a:pt x="159" y="928"/>
                    </a:lnTo>
                    <a:lnTo>
                      <a:pt x="182" y="934"/>
                    </a:lnTo>
                    <a:lnTo>
                      <a:pt x="205" y="938"/>
                    </a:lnTo>
                    <a:lnTo>
                      <a:pt x="228" y="942"/>
                    </a:lnTo>
                    <a:lnTo>
                      <a:pt x="253" y="944"/>
                    </a:lnTo>
                    <a:lnTo>
                      <a:pt x="276" y="944"/>
                    </a:lnTo>
                    <a:lnTo>
                      <a:pt x="301" y="944"/>
                    </a:lnTo>
                    <a:lnTo>
                      <a:pt x="324" y="942"/>
                    </a:lnTo>
                    <a:lnTo>
                      <a:pt x="349" y="938"/>
                    </a:lnTo>
                    <a:lnTo>
                      <a:pt x="357" y="938"/>
                    </a:lnTo>
                    <a:lnTo>
                      <a:pt x="355" y="936"/>
                    </a:lnTo>
                    <a:lnTo>
                      <a:pt x="355" y="934"/>
                    </a:lnTo>
                    <a:lnTo>
                      <a:pt x="355" y="934"/>
                    </a:lnTo>
                    <a:lnTo>
                      <a:pt x="355" y="932"/>
                    </a:lnTo>
                    <a:lnTo>
                      <a:pt x="355" y="930"/>
                    </a:lnTo>
                    <a:lnTo>
                      <a:pt x="355" y="930"/>
                    </a:lnTo>
                    <a:lnTo>
                      <a:pt x="355" y="928"/>
                    </a:lnTo>
                    <a:lnTo>
                      <a:pt x="353" y="928"/>
                    </a:lnTo>
                    <a:lnTo>
                      <a:pt x="347" y="928"/>
                    </a:lnTo>
                    <a:lnTo>
                      <a:pt x="324" y="932"/>
                    </a:lnTo>
                    <a:lnTo>
                      <a:pt x="301" y="934"/>
                    </a:lnTo>
                    <a:lnTo>
                      <a:pt x="276" y="934"/>
                    </a:lnTo>
                    <a:lnTo>
                      <a:pt x="253" y="934"/>
                    </a:lnTo>
                    <a:lnTo>
                      <a:pt x="230" y="932"/>
                    </a:lnTo>
                    <a:lnTo>
                      <a:pt x="207" y="928"/>
                    </a:lnTo>
                    <a:lnTo>
                      <a:pt x="184" y="924"/>
                    </a:lnTo>
                    <a:lnTo>
                      <a:pt x="161" y="919"/>
                    </a:lnTo>
                    <a:lnTo>
                      <a:pt x="140" y="913"/>
                    </a:lnTo>
                    <a:lnTo>
                      <a:pt x="119" y="905"/>
                    </a:lnTo>
                    <a:lnTo>
                      <a:pt x="98" y="897"/>
                    </a:lnTo>
                    <a:lnTo>
                      <a:pt x="77" y="888"/>
                    </a:lnTo>
                    <a:lnTo>
                      <a:pt x="58" y="878"/>
                    </a:lnTo>
                    <a:lnTo>
                      <a:pt x="38" y="867"/>
                    </a:lnTo>
                    <a:lnTo>
                      <a:pt x="19" y="855"/>
                    </a:lnTo>
                    <a:lnTo>
                      <a:pt x="0" y="842"/>
                    </a:lnTo>
                    <a:lnTo>
                      <a:pt x="0" y="842"/>
                    </a:lnTo>
                    <a:lnTo>
                      <a:pt x="0" y="844"/>
                    </a:lnTo>
                    <a:lnTo>
                      <a:pt x="0" y="846"/>
                    </a:lnTo>
                    <a:lnTo>
                      <a:pt x="0" y="848"/>
                    </a:lnTo>
                    <a:lnTo>
                      <a:pt x="0" y="848"/>
                    </a:lnTo>
                    <a:lnTo>
                      <a:pt x="2" y="849"/>
                    </a:lnTo>
                    <a:lnTo>
                      <a:pt x="2" y="851"/>
                    </a:lnTo>
                    <a:lnTo>
                      <a:pt x="2" y="853"/>
                    </a:lnTo>
                    <a:lnTo>
                      <a:pt x="2" y="855"/>
                    </a:lnTo>
                    <a:close/>
                  </a:path>
                </a:pathLst>
              </a:custGeom>
              <a:solidFill>
                <a:srgbClr val="a4d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Freeform 174"/>
              <p:cNvSpPr/>
              <p:nvPr/>
            </p:nvSpPr>
            <p:spPr>
              <a:xfrm>
                <a:off x="1820160" y="2386800"/>
                <a:ext cx="597240" cy="157464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1574640"/>
                  <a:gd name="textAreaBottom" fmla="*/ 1575000 h 1574640"/>
                </a:gdLst>
                <a:ahLst/>
                <a:rect l="textAreaLeft" t="textAreaTop" r="textAreaRight" b="textAreaBottom"/>
                <a:pathLst>
                  <a:path w="355" h="935">
                    <a:moveTo>
                      <a:pt x="353" y="6"/>
                    </a:moveTo>
                    <a:lnTo>
                      <a:pt x="347" y="6"/>
                    </a:lnTo>
                    <a:lnTo>
                      <a:pt x="324" y="2"/>
                    </a:lnTo>
                    <a:lnTo>
                      <a:pt x="301" y="0"/>
                    </a:lnTo>
                    <a:lnTo>
                      <a:pt x="276" y="0"/>
                    </a:lnTo>
                    <a:lnTo>
                      <a:pt x="253" y="0"/>
                    </a:lnTo>
                    <a:lnTo>
                      <a:pt x="228" y="2"/>
                    </a:lnTo>
                    <a:lnTo>
                      <a:pt x="205" y="6"/>
                    </a:lnTo>
                    <a:lnTo>
                      <a:pt x="182" y="10"/>
                    </a:lnTo>
                    <a:lnTo>
                      <a:pt x="161" y="14"/>
                    </a:lnTo>
                    <a:lnTo>
                      <a:pt x="138" y="21"/>
                    </a:lnTo>
                    <a:lnTo>
                      <a:pt x="117" y="27"/>
                    </a:lnTo>
                    <a:lnTo>
                      <a:pt x="96" y="37"/>
                    </a:lnTo>
                    <a:lnTo>
                      <a:pt x="90" y="39"/>
                    </a:lnTo>
                    <a:lnTo>
                      <a:pt x="88" y="41"/>
                    </a:lnTo>
                    <a:lnTo>
                      <a:pt x="88" y="42"/>
                    </a:lnTo>
                    <a:lnTo>
                      <a:pt x="88" y="44"/>
                    </a:lnTo>
                    <a:lnTo>
                      <a:pt x="88" y="46"/>
                    </a:lnTo>
                    <a:lnTo>
                      <a:pt x="86" y="46"/>
                    </a:lnTo>
                    <a:lnTo>
                      <a:pt x="86" y="48"/>
                    </a:lnTo>
                    <a:lnTo>
                      <a:pt x="86" y="50"/>
                    </a:lnTo>
                    <a:lnTo>
                      <a:pt x="86" y="52"/>
                    </a:lnTo>
                    <a:lnTo>
                      <a:pt x="100" y="46"/>
                    </a:lnTo>
                    <a:lnTo>
                      <a:pt x="119" y="39"/>
                    </a:lnTo>
                    <a:lnTo>
                      <a:pt x="142" y="31"/>
                    </a:lnTo>
                    <a:lnTo>
                      <a:pt x="163" y="25"/>
                    </a:lnTo>
                    <a:lnTo>
                      <a:pt x="184" y="19"/>
                    </a:lnTo>
                    <a:lnTo>
                      <a:pt x="207" y="16"/>
                    </a:lnTo>
                    <a:lnTo>
                      <a:pt x="230" y="12"/>
                    </a:lnTo>
                    <a:lnTo>
                      <a:pt x="253" y="10"/>
                    </a:lnTo>
                    <a:lnTo>
                      <a:pt x="276" y="10"/>
                    </a:lnTo>
                    <a:lnTo>
                      <a:pt x="301" y="10"/>
                    </a:lnTo>
                    <a:lnTo>
                      <a:pt x="324" y="12"/>
                    </a:lnTo>
                    <a:lnTo>
                      <a:pt x="347" y="16"/>
                    </a:lnTo>
                    <a:lnTo>
                      <a:pt x="351" y="16"/>
                    </a:lnTo>
                    <a:lnTo>
                      <a:pt x="351" y="16"/>
                    </a:lnTo>
                    <a:lnTo>
                      <a:pt x="351" y="14"/>
                    </a:lnTo>
                    <a:lnTo>
                      <a:pt x="351" y="12"/>
                    </a:lnTo>
                    <a:lnTo>
                      <a:pt x="351" y="12"/>
                    </a:lnTo>
                    <a:lnTo>
                      <a:pt x="353" y="10"/>
                    </a:lnTo>
                    <a:lnTo>
                      <a:pt x="353" y="8"/>
                    </a:lnTo>
                    <a:lnTo>
                      <a:pt x="353" y="8"/>
                    </a:lnTo>
                    <a:lnTo>
                      <a:pt x="353" y="6"/>
                    </a:lnTo>
                    <a:close/>
                    <a:moveTo>
                      <a:pt x="0" y="843"/>
                    </a:moveTo>
                    <a:lnTo>
                      <a:pt x="15" y="854"/>
                    </a:lnTo>
                    <a:lnTo>
                      <a:pt x="35" y="866"/>
                    </a:lnTo>
                    <a:lnTo>
                      <a:pt x="54" y="877"/>
                    </a:lnTo>
                    <a:lnTo>
                      <a:pt x="75" y="889"/>
                    </a:lnTo>
                    <a:lnTo>
                      <a:pt x="96" y="896"/>
                    </a:lnTo>
                    <a:lnTo>
                      <a:pt x="117" y="906"/>
                    </a:lnTo>
                    <a:lnTo>
                      <a:pt x="138" y="914"/>
                    </a:lnTo>
                    <a:lnTo>
                      <a:pt x="161" y="919"/>
                    </a:lnTo>
                    <a:lnTo>
                      <a:pt x="182" y="925"/>
                    </a:lnTo>
                    <a:lnTo>
                      <a:pt x="205" y="929"/>
                    </a:lnTo>
                    <a:lnTo>
                      <a:pt x="228" y="931"/>
                    </a:lnTo>
                    <a:lnTo>
                      <a:pt x="253" y="933"/>
                    </a:lnTo>
                    <a:lnTo>
                      <a:pt x="276" y="935"/>
                    </a:lnTo>
                    <a:lnTo>
                      <a:pt x="301" y="933"/>
                    </a:lnTo>
                    <a:lnTo>
                      <a:pt x="324" y="931"/>
                    </a:lnTo>
                    <a:lnTo>
                      <a:pt x="347" y="929"/>
                    </a:lnTo>
                    <a:lnTo>
                      <a:pt x="355" y="927"/>
                    </a:lnTo>
                    <a:lnTo>
                      <a:pt x="355" y="925"/>
                    </a:lnTo>
                    <a:lnTo>
                      <a:pt x="355" y="925"/>
                    </a:lnTo>
                    <a:lnTo>
                      <a:pt x="355" y="923"/>
                    </a:lnTo>
                    <a:lnTo>
                      <a:pt x="353" y="923"/>
                    </a:lnTo>
                    <a:lnTo>
                      <a:pt x="353" y="921"/>
                    </a:lnTo>
                    <a:lnTo>
                      <a:pt x="353" y="919"/>
                    </a:lnTo>
                    <a:lnTo>
                      <a:pt x="353" y="919"/>
                    </a:lnTo>
                    <a:lnTo>
                      <a:pt x="353" y="917"/>
                    </a:lnTo>
                    <a:lnTo>
                      <a:pt x="347" y="917"/>
                    </a:lnTo>
                    <a:lnTo>
                      <a:pt x="324" y="921"/>
                    </a:lnTo>
                    <a:lnTo>
                      <a:pt x="301" y="923"/>
                    </a:lnTo>
                    <a:lnTo>
                      <a:pt x="276" y="923"/>
                    </a:lnTo>
                    <a:lnTo>
                      <a:pt x="253" y="923"/>
                    </a:lnTo>
                    <a:lnTo>
                      <a:pt x="230" y="921"/>
                    </a:lnTo>
                    <a:lnTo>
                      <a:pt x="207" y="917"/>
                    </a:lnTo>
                    <a:lnTo>
                      <a:pt x="184" y="914"/>
                    </a:lnTo>
                    <a:lnTo>
                      <a:pt x="163" y="910"/>
                    </a:lnTo>
                    <a:lnTo>
                      <a:pt x="142" y="904"/>
                    </a:lnTo>
                    <a:lnTo>
                      <a:pt x="119" y="896"/>
                    </a:lnTo>
                    <a:lnTo>
                      <a:pt x="100" y="889"/>
                    </a:lnTo>
                    <a:lnTo>
                      <a:pt x="79" y="879"/>
                    </a:lnTo>
                    <a:lnTo>
                      <a:pt x="60" y="868"/>
                    </a:lnTo>
                    <a:lnTo>
                      <a:pt x="40" y="858"/>
                    </a:lnTo>
                    <a:lnTo>
                      <a:pt x="21" y="846"/>
                    </a:lnTo>
                    <a:lnTo>
                      <a:pt x="4" y="833"/>
                    </a:lnTo>
                    <a:lnTo>
                      <a:pt x="0" y="829"/>
                    </a:lnTo>
                    <a:lnTo>
                      <a:pt x="0" y="831"/>
                    </a:lnTo>
                    <a:lnTo>
                      <a:pt x="0" y="833"/>
                    </a:lnTo>
                    <a:lnTo>
                      <a:pt x="0" y="835"/>
                    </a:lnTo>
                    <a:lnTo>
                      <a:pt x="0" y="837"/>
                    </a:lnTo>
                    <a:lnTo>
                      <a:pt x="0" y="839"/>
                    </a:lnTo>
                    <a:lnTo>
                      <a:pt x="0" y="841"/>
                    </a:lnTo>
                    <a:lnTo>
                      <a:pt x="0" y="843"/>
                    </a:lnTo>
                    <a:lnTo>
                      <a:pt x="0" y="843"/>
                    </a:lnTo>
                    <a:close/>
                  </a:path>
                </a:pathLst>
              </a:custGeom>
              <a:solidFill>
                <a:srgbClr val="a5d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Freeform 175"/>
              <p:cNvSpPr/>
              <p:nvPr/>
            </p:nvSpPr>
            <p:spPr>
              <a:xfrm>
                <a:off x="1816920" y="2394000"/>
                <a:ext cx="597240" cy="15573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1557360"/>
                  <a:gd name="textAreaBottom" fmla="*/ 1557720 h 1557360"/>
                </a:gdLst>
                <a:ahLst/>
                <a:rect l="textAreaLeft" t="textAreaTop" r="textAreaRight" b="textAreaBottom"/>
                <a:pathLst>
                  <a:path w="355" h="925">
                    <a:moveTo>
                      <a:pt x="353" y="8"/>
                    </a:moveTo>
                    <a:lnTo>
                      <a:pt x="349" y="6"/>
                    </a:lnTo>
                    <a:lnTo>
                      <a:pt x="326" y="4"/>
                    </a:lnTo>
                    <a:lnTo>
                      <a:pt x="303" y="2"/>
                    </a:lnTo>
                    <a:lnTo>
                      <a:pt x="278" y="0"/>
                    </a:lnTo>
                    <a:lnTo>
                      <a:pt x="255" y="2"/>
                    </a:lnTo>
                    <a:lnTo>
                      <a:pt x="232" y="4"/>
                    </a:lnTo>
                    <a:lnTo>
                      <a:pt x="209" y="6"/>
                    </a:lnTo>
                    <a:lnTo>
                      <a:pt x="186" y="10"/>
                    </a:lnTo>
                    <a:lnTo>
                      <a:pt x="163" y="15"/>
                    </a:lnTo>
                    <a:lnTo>
                      <a:pt x="142" y="21"/>
                    </a:lnTo>
                    <a:lnTo>
                      <a:pt x="121" y="29"/>
                    </a:lnTo>
                    <a:lnTo>
                      <a:pt x="100" y="37"/>
                    </a:lnTo>
                    <a:lnTo>
                      <a:pt x="90" y="42"/>
                    </a:lnTo>
                    <a:lnTo>
                      <a:pt x="88" y="42"/>
                    </a:lnTo>
                    <a:lnTo>
                      <a:pt x="88" y="44"/>
                    </a:lnTo>
                    <a:lnTo>
                      <a:pt x="88" y="46"/>
                    </a:lnTo>
                    <a:lnTo>
                      <a:pt x="88" y="48"/>
                    </a:lnTo>
                    <a:lnTo>
                      <a:pt x="86" y="50"/>
                    </a:lnTo>
                    <a:lnTo>
                      <a:pt x="86" y="52"/>
                    </a:lnTo>
                    <a:lnTo>
                      <a:pt x="86" y="54"/>
                    </a:lnTo>
                    <a:lnTo>
                      <a:pt x="86" y="54"/>
                    </a:lnTo>
                    <a:lnTo>
                      <a:pt x="104" y="46"/>
                    </a:lnTo>
                    <a:lnTo>
                      <a:pt x="123" y="38"/>
                    </a:lnTo>
                    <a:lnTo>
                      <a:pt x="144" y="31"/>
                    </a:lnTo>
                    <a:lnTo>
                      <a:pt x="167" y="25"/>
                    </a:lnTo>
                    <a:lnTo>
                      <a:pt x="188" y="21"/>
                    </a:lnTo>
                    <a:lnTo>
                      <a:pt x="209" y="15"/>
                    </a:lnTo>
                    <a:lnTo>
                      <a:pt x="232" y="14"/>
                    </a:lnTo>
                    <a:lnTo>
                      <a:pt x="255" y="12"/>
                    </a:lnTo>
                    <a:lnTo>
                      <a:pt x="278" y="12"/>
                    </a:lnTo>
                    <a:lnTo>
                      <a:pt x="301" y="12"/>
                    </a:lnTo>
                    <a:lnTo>
                      <a:pt x="324" y="14"/>
                    </a:lnTo>
                    <a:lnTo>
                      <a:pt x="348" y="15"/>
                    </a:lnTo>
                    <a:lnTo>
                      <a:pt x="351" y="17"/>
                    </a:lnTo>
                    <a:lnTo>
                      <a:pt x="351" y="15"/>
                    </a:lnTo>
                    <a:lnTo>
                      <a:pt x="353" y="15"/>
                    </a:lnTo>
                    <a:lnTo>
                      <a:pt x="353" y="14"/>
                    </a:lnTo>
                    <a:lnTo>
                      <a:pt x="353" y="12"/>
                    </a:lnTo>
                    <a:lnTo>
                      <a:pt x="353" y="12"/>
                    </a:lnTo>
                    <a:lnTo>
                      <a:pt x="353" y="10"/>
                    </a:lnTo>
                    <a:lnTo>
                      <a:pt x="353" y="8"/>
                    </a:lnTo>
                    <a:lnTo>
                      <a:pt x="353" y="8"/>
                    </a:lnTo>
                    <a:close/>
                    <a:moveTo>
                      <a:pt x="2" y="833"/>
                    </a:moveTo>
                    <a:lnTo>
                      <a:pt x="2" y="833"/>
                    </a:lnTo>
                    <a:lnTo>
                      <a:pt x="21" y="846"/>
                    </a:lnTo>
                    <a:lnTo>
                      <a:pt x="40" y="858"/>
                    </a:lnTo>
                    <a:lnTo>
                      <a:pt x="60" y="869"/>
                    </a:lnTo>
                    <a:lnTo>
                      <a:pt x="79" y="879"/>
                    </a:lnTo>
                    <a:lnTo>
                      <a:pt x="100" y="888"/>
                    </a:lnTo>
                    <a:lnTo>
                      <a:pt x="121" y="896"/>
                    </a:lnTo>
                    <a:lnTo>
                      <a:pt x="142" y="904"/>
                    </a:lnTo>
                    <a:lnTo>
                      <a:pt x="163" y="910"/>
                    </a:lnTo>
                    <a:lnTo>
                      <a:pt x="186" y="915"/>
                    </a:lnTo>
                    <a:lnTo>
                      <a:pt x="209" y="919"/>
                    </a:lnTo>
                    <a:lnTo>
                      <a:pt x="232" y="923"/>
                    </a:lnTo>
                    <a:lnTo>
                      <a:pt x="255" y="925"/>
                    </a:lnTo>
                    <a:lnTo>
                      <a:pt x="278" y="925"/>
                    </a:lnTo>
                    <a:lnTo>
                      <a:pt x="303" y="925"/>
                    </a:lnTo>
                    <a:lnTo>
                      <a:pt x="326" y="923"/>
                    </a:lnTo>
                    <a:lnTo>
                      <a:pt x="349" y="919"/>
                    </a:lnTo>
                    <a:lnTo>
                      <a:pt x="355" y="919"/>
                    </a:lnTo>
                    <a:lnTo>
                      <a:pt x="355" y="917"/>
                    </a:lnTo>
                    <a:lnTo>
                      <a:pt x="355" y="915"/>
                    </a:lnTo>
                    <a:lnTo>
                      <a:pt x="355" y="915"/>
                    </a:lnTo>
                    <a:lnTo>
                      <a:pt x="355" y="913"/>
                    </a:lnTo>
                    <a:lnTo>
                      <a:pt x="355" y="911"/>
                    </a:lnTo>
                    <a:lnTo>
                      <a:pt x="355" y="911"/>
                    </a:lnTo>
                    <a:lnTo>
                      <a:pt x="353" y="910"/>
                    </a:lnTo>
                    <a:lnTo>
                      <a:pt x="353" y="908"/>
                    </a:lnTo>
                    <a:lnTo>
                      <a:pt x="348" y="910"/>
                    </a:lnTo>
                    <a:lnTo>
                      <a:pt x="324" y="911"/>
                    </a:lnTo>
                    <a:lnTo>
                      <a:pt x="301" y="913"/>
                    </a:lnTo>
                    <a:lnTo>
                      <a:pt x="278" y="915"/>
                    </a:lnTo>
                    <a:lnTo>
                      <a:pt x="255" y="913"/>
                    </a:lnTo>
                    <a:lnTo>
                      <a:pt x="232" y="911"/>
                    </a:lnTo>
                    <a:lnTo>
                      <a:pt x="209" y="910"/>
                    </a:lnTo>
                    <a:lnTo>
                      <a:pt x="188" y="906"/>
                    </a:lnTo>
                    <a:lnTo>
                      <a:pt x="167" y="900"/>
                    </a:lnTo>
                    <a:lnTo>
                      <a:pt x="144" y="894"/>
                    </a:lnTo>
                    <a:lnTo>
                      <a:pt x="123" y="887"/>
                    </a:lnTo>
                    <a:lnTo>
                      <a:pt x="104" y="879"/>
                    </a:lnTo>
                    <a:lnTo>
                      <a:pt x="83" y="869"/>
                    </a:lnTo>
                    <a:lnTo>
                      <a:pt x="63" y="860"/>
                    </a:lnTo>
                    <a:lnTo>
                      <a:pt x="44" y="848"/>
                    </a:lnTo>
                    <a:lnTo>
                      <a:pt x="27" y="837"/>
                    </a:lnTo>
                    <a:lnTo>
                      <a:pt x="10" y="825"/>
                    </a:lnTo>
                    <a:lnTo>
                      <a:pt x="0" y="819"/>
                    </a:lnTo>
                    <a:lnTo>
                      <a:pt x="0" y="819"/>
                    </a:lnTo>
                    <a:lnTo>
                      <a:pt x="2" y="821"/>
                    </a:lnTo>
                    <a:lnTo>
                      <a:pt x="2" y="823"/>
                    </a:lnTo>
                    <a:lnTo>
                      <a:pt x="2" y="825"/>
                    </a:lnTo>
                    <a:lnTo>
                      <a:pt x="2" y="827"/>
                    </a:lnTo>
                    <a:lnTo>
                      <a:pt x="2" y="829"/>
                    </a:lnTo>
                    <a:lnTo>
                      <a:pt x="2" y="831"/>
                    </a:lnTo>
                    <a:lnTo>
                      <a:pt x="2" y="833"/>
                    </a:lnTo>
                    <a:close/>
                  </a:path>
                </a:pathLst>
              </a:custGeom>
              <a:solidFill>
                <a:srgbClr val="a6d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Freeform 176"/>
              <p:cNvSpPr/>
              <p:nvPr/>
            </p:nvSpPr>
            <p:spPr>
              <a:xfrm>
                <a:off x="1816920" y="2404080"/>
                <a:ext cx="597240" cy="153720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1537200"/>
                  <a:gd name="textAreaBottom" fmla="*/ 1537560 h 1537200"/>
                </a:gdLst>
                <a:ahLst/>
                <a:rect l="textAreaLeft" t="textAreaTop" r="textAreaRight" b="textAreaBottom"/>
                <a:pathLst>
                  <a:path w="355" h="913">
                    <a:moveTo>
                      <a:pt x="353" y="6"/>
                    </a:moveTo>
                    <a:lnTo>
                      <a:pt x="349" y="6"/>
                    </a:lnTo>
                    <a:lnTo>
                      <a:pt x="326" y="2"/>
                    </a:lnTo>
                    <a:lnTo>
                      <a:pt x="303" y="0"/>
                    </a:lnTo>
                    <a:lnTo>
                      <a:pt x="278" y="0"/>
                    </a:lnTo>
                    <a:lnTo>
                      <a:pt x="255" y="0"/>
                    </a:lnTo>
                    <a:lnTo>
                      <a:pt x="232" y="2"/>
                    </a:lnTo>
                    <a:lnTo>
                      <a:pt x="209" y="6"/>
                    </a:lnTo>
                    <a:lnTo>
                      <a:pt x="186" y="9"/>
                    </a:lnTo>
                    <a:lnTo>
                      <a:pt x="165" y="15"/>
                    </a:lnTo>
                    <a:lnTo>
                      <a:pt x="144" y="21"/>
                    </a:lnTo>
                    <a:lnTo>
                      <a:pt x="121" y="29"/>
                    </a:lnTo>
                    <a:lnTo>
                      <a:pt x="102" y="36"/>
                    </a:lnTo>
                    <a:lnTo>
                      <a:pt x="88" y="42"/>
                    </a:lnTo>
                    <a:lnTo>
                      <a:pt x="86" y="44"/>
                    </a:lnTo>
                    <a:lnTo>
                      <a:pt x="86" y="46"/>
                    </a:lnTo>
                    <a:lnTo>
                      <a:pt x="86" y="48"/>
                    </a:lnTo>
                    <a:lnTo>
                      <a:pt x="86" y="48"/>
                    </a:lnTo>
                    <a:lnTo>
                      <a:pt x="85" y="50"/>
                    </a:lnTo>
                    <a:lnTo>
                      <a:pt x="85" y="52"/>
                    </a:lnTo>
                    <a:lnTo>
                      <a:pt x="85" y="54"/>
                    </a:lnTo>
                    <a:lnTo>
                      <a:pt x="85" y="56"/>
                    </a:lnTo>
                    <a:lnTo>
                      <a:pt x="85" y="54"/>
                    </a:lnTo>
                    <a:lnTo>
                      <a:pt x="106" y="46"/>
                    </a:lnTo>
                    <a:lnTo>
                      <a:pt x="125" y="38"/>
                    </a:lnTo>
                    <a:lnTo>
                      <a:pt x="146" y="31"/>
                    </a:lnTo>
                    <a:lnTo>
                      <a:pt x="167" y="25"/>
                    </a:lnTo>
                    <a:lnTo>
                      <a:pt x="188" y="19"/>
                    </a:lnTo>
                    <a:lnTo>
                      <a:pt x="211" y="15"/>
                    </a:lnTo>
                    <a:lnTo>
                      <a:pt x="234" y="13"/>
                    </a:lnTo>
                    <a:lnTo>
                      <a:pt x="255" y="11"/>
                    </a:lnTo>
                    <a:lnTo>
                      <a:pt x="278" y="9"/>
                    </a:lnTo>
                    <a:lnTo>
                      <a:pt x="301" y="11"/>
                    </a:lnTo>
                    <a:lnTo>
                      <a:pt x="324" y="13"/>
                    </a:lnTo>
                    <a:lnTo>
                      <a:pt x="348" y="15"/>
                    </a:lnTo>
                    <a:lnTo>
                      <a:pt x="351" y="15"/>
                    </a:lnTo>
                    <a:lnTo>
                      <a:pt x="351" y="15"/>
                    </a:lnTo>
                    <a:lnTo>
                      <a:pt x="351" y="13"/>
                    </a:lnTo>
                    <a:lnTo>
                      <a:pt x="351" y="11"/>
                    </a:lnTo>
                    <a:lnTo>
                      <a:pt x="351" y="11"/>
                    </a:lnTo>
                    <a:lnTo>
                      <a:pt x="351" y="9"/>
                    </a:lnTo>
                    <a:lnTo>
                      <a:pt x="353" y="9"/>
                    </a:lnTo>
                    <a:lnTo>
                      <a:pt x="353" y="8"/>
                    </a:lnTo>
                    <a:lnTo>
                      <a:pt x="353" y="6"/>
                    </a:lnTo>
                    <a:close/>
                    <a:moveTo>
                      <a:pt x="2" y="819"/>
                    </a:moveTo>
                    <a:lnTo>
                      <a:pt x="6" y="823"/>
                    </a:lnTo>
                    <a:lnTo>
                      <a:pt x="23" y="836"/>
                    </a:lnTo>
                    <a:lnTo>
                      <a:pt x="42" y="848"/>
                    </a:lnTo>
                    <a:lnTo>
                      <a:pt x="62" y="858"/>
                    </a:lnTo>
                    <a:lnTo>
                      <a:pt x="81" y="869"/>
                    </a:lnTo>
                    <a:lnTo>
                      <a:pt x="102" y="879"/>
                    </a:lnTo>
                    <a:lnTo>
                      <a:pt x="121" y="886"/>
                    </a:lnTo>
                    <a:lnTo>
                      <a:pt x="144" y="894"/>
                    </a:lnTo>
                    <a:lnTo>
                      <a:pt x="165" y="900"/>
                    </a:lnTo>
                    <a:lnTo>
                      <a:pt x="186" y="904"/>
                    </a:lnTo>
                    <a:lnTo>
                      <a:pt x="209" y="907"/>
                    </a:lnTo>
                    <a:lnTo>
                      <a:pt x="232" y="911"/>
                    </a:lnTo>
                    <a:lnTo>
                      <a:pt x="255" y="913"/>
                    </a:lnTo>
                    <a:lnTo>
                      <a:pt x="278" y="913"/>
                    </a:lnTo>
                    <a:lnTo>
                      <a:pt x="303" y="913"/>
                    </a:lnTo>
                    <a:lnTo>
                      <a:pt x="326" y="911"/>
                    </a:lnTo>
                    <a:lnTo>
                      <a:pt x="349" y="907"/>
                    </a:lnTo>
                    <a:lnTo>
                      <a:pt x="355" y="907"/>
                    </a:lnTo>
                    <a:lnTo>
                      <a:pt x="355" y="905"/>
                    </a:lnTo>
                    <a:lnTo>
                      <a:pt x="355" y="905"/>
                    </a:lnTo>
                    <a:lnTo>
                      <a:pt x="353" y="904"/>
                    </a:lnTo>
                    <a:lnTo>
                      <a:pt x="353" y="902"/>
                    </a:lnTo>
                    <a:lnTo>
                      <a:pt x="353" y="902"/>
                    </a:lnTo>
                    <a:lnTo>
                      <a:pt x="353" y="900"/>
                    </a:lnTo>
                    <a:lnTo>
                      <a:pt x="353" y="898"/>
                    </a:lnTo>
                    <a:lnTo>
                      <a:pt x="353" y="898"/>
                    </a:lnTo>
                    <a:lnTo>
                      <a:pt x="348" y="898"/>
                    </a:lnTo>
                    <a:lnTo>
                      <a:pt x="324" y="902"/>
                    </a:lnTo>
                    <a:lnTo>
                      <a:pt x="301" y="904"/>
                    </a:lnTo>
                    <a:lnTo>
                      <a:pt x="278" y="904"/>
                    </a:lnTo>
                    <a:lnTo>
                      <a:pt x="255" y="904"/>
                    </a:lnTo>
                    <a:lnTo>
                      <a:pt x="234" y="902"/>
                    </a:lnTo>
                    <a:lnTo>
                      <a:pt x="211" y="898"/>
                    </a:lnTo>
                    <a:lnTo>
                      <a:pt x="188" y="894"/>
                    </a:lnTo>
                    <a:lnTo>
                      <a:pt x="167" y="890"/>
                    </a:lnTo>
                    <a:lnTo>
                      <a:pt x="146" y="882"/>
                    </a:lnTo>
                    <a:lnTo>
                      <a:pt x="125" y="877"/>
                    </a:lnTo>
                    <a:lnTo>
                      <a:pt x="106" y="869"/>
                    </a:lnTo>
                    <a:lnTo>
                      <a:pt x="85" y="859"/>
                    </a:lnTo>
                    <a:lnTo>
                      <a:pt x="65" y="850"/>
                    </a:lnTo>
                    <a:lnTo>
                      <a:pt x="48" y="838"/>
                    </a:lnTo>
                    <a:lnTo>
                      <a:pt x="29" y="827"/>
                    </a:lnTo>
                    <a:lnTo>
                      <a:pt x="12" y="815"/>
                    </a:lnTo>
                    <a:lnTo>
                      <a:pt x="0" y="806"/>
                    </a:lnTo>
                    <a:lnTo>
                      <a:pt x="0" y="808"/>
                    </a:lnTo>
                    <a:lnTo>
                      <a:pt x="0" y="810"/>
                    </a:lnTo>
                    <a:lnTo>
                      <a:pt x="0" y="811"/>
                    </a:lnTo>
                    <a:lnTo>
                      <a:pt x="0" y="813"/>
                    </a:lnTo>
                    <a:lnTo>
                      <a:pt x="0" y="813"/>
                    </a:lnTo>
                    <a:lnTo>
                      <a:pt x="2" y="815"/>
                    </a:lnTo>
                    <a:lnTo>
                      <a:pt x="2" y="817"/>
                    </a:lnTo>
                    <a:lnTo>
                      <a:pt x="2" y="819"/>
                    </a:lnTo>
                    <a:close/>
                  </a:path>
                </a:pathLst>
              </a:custGeom>
              <a:solidFill>
                <a:srgbClr val="a7d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Freeform 177"/>
              <p:cNvSpPr/>
              <p:nvPr/>
            </p:nvSpPr>
            <p:spPr>
              <a:xfrm>
                <a:off x="1816920" y="2414160"/>
                <a:ext cx="594000" cy="1520280"/>
              </a:xfrm>
              <a:custGeom>
                <a:avLst/>
                <a:gdLst>
                  <a:gd name="textAreaLeft" fmla="*/ 0 w 594000"/>
                  <a:gd name="textAreaRight" fmla="*/ 594360 w 594000"/>
                  <a:gd name="textAreaTop" fmla="*/ 0 h 1520280"/>
                  <a:gd name="textAreaBottom" fmla="*/ 1520640 h 1520280"/>
                </a:gdLst>
                <a:ahLst/>
                <a:rect l="textAreaLeft" t="textAreaTop" r="textAreaRight" b="textAreaBottom"/>
                <a:pathLst>
                  <a:path w="353" h="903">
                    <a:moveTo>
                      <a:pt x="351" y="5"/>
                    </a:moveTo>
                    <a:lnTo>
                      <a:pt x="348" y="3"/>
                    </a:lnTo>
                    <a:lnTo>
                      <a:pt x="324" y="2"/>
                    </a:lnTo>
                    <a:lnTo>
                      <a:pt x="301" y="0"/>
                    </a:lnTo>
                    <a:lnTo>
                      <a:pt x="278" y="0"/>
                    </a:lnTo>
                    <a:lnTo>
                      <a:pt x="255" y="0"/>
                    </a:lnTo>
                    <a:lnTo>
                      <a:pt x="232" y="2"/>
                    </a:lnTo>
                    <a:lnTo>
                      <a:pt x="209" y="3"/>
                    </a:lnTo>
                    <a:lnTo>
                      <a:pt x="188" y="9"/>
                    </a:lnTo>
                    <a:lnTo>
                      <a:pt x="167" y="13"/>
                    </a:lnTo>
                    <a:lnTo>
                      <a:pt x="144" y="19"/>
                    </a:lnTo>
                    <a:lnTo>
                      <a:pt x="123" y="26"/>
                    </a:lnTo>
                    <a:lnTo>
                      <a:pt x="104" y="34"/>
                    </a:lnTo>
                    <a:lnTo>
                      <a:pt x="86" y="42"/>
                    </a:lnTo>
                    <a:lnTo>
                      <a:pt x="85" y="44"/>
                    </a:lnTo>
                    <a:lnTo>
                      <a:pt x="85" y="46"/>
                    </a:lnTo>
                    <a:lnTo>
                      <a:pt x="85" y="48"/>
                    </a:lnTo>
                    <a:lnTo>
                      <a:pt x="85" y="50"/>
                    </a:lnTo>
                    <a:lnTo>
                      <a:pt x="83" y="51"/>
                    </a:lnTo>
                    <a:lnTo>
                      <a:pt x="83" y="53"/>
                    </a:lnTo>
                    <a:lnTo>
                      <a:pt x="83" y="53"/>
                    </a:lnTo>
                    <a:lnTo>
                      <a:pt x="83" y="55"/>
                    </a:lnTo>
                    <a:lnTo>
                      <a:pt x="88" y="53"/>
                    </a:lnTo>
                    <a:lnTo>
                      <a:pt x="108" y="44"/>
                    </a:lnTo>
                    <a:lnTo>
                      <a:pt x="127" y="36"/>
                    </a:lnTo>
                    <a:lnTo>
                      <a:pt x="148" y="28"/>
                    </a:lnTo>
                    <a:lnTo>
                      <a:pt x="169" y="23"/>
                    </a:lnTo>
                    <a:lnTo>
                      <a:pt x="190" y="19"/>
                    </a:lnTo>
                    <a:lnTo>
                      <a:pt x="211" y="15"/>
                    </a:lnTo>
                    <a:lnTo>
                      <a:pt x="234" y="11"/>
                    </a:lnTo>
                    <a:lnTo>
                      <a:pt x="255" y="9"/>
                    </a:lnTo>
                    <a:lnTo>
                      <a:pt x="278" y="9"/>
                    </a:lnTo>
                    <a:lnTo>
                      <a:pt x="301" y="9"/>
                    </a:lnTo>
                    <a:lnTo>
                      <a:pt x="324" y="11"/>
                    </a:lnTo>
                    <a:lnTo>
                      <a:pt x="346" y="15"/>
                    </a:lnTo>
                    <a:lnTo>
                      <a:pt x="349" y="15"/>
                    </a:lnTo>
                    <a:lnTo>
                      <a:pt x="349" y="13"/>
                    </a:lnTo>
                    <a:lnTo>
                      <a:pt x="349" y="13"/>
                    </a:lnTo>
                    <a:lnTo>
                      <a:pt x="351" y="11"/>
                    </a:lnTo>
                    <a:lnTo>
                      <a:pt x="351" y="9"/>
                    </a:lnTo>
                    <a:lnTo>
                      <a:pt x="351" y="9"/>
                    </a:lnTo>
                    <a:lnTo>
                      <a:pt x="351" y="7"/>
                    </a:lnTo>
                    <a:lnTo>
                      <a:pt x="351" y="5"/>
                    </a:lnTo>
                    <a:lnTo>
                      <a:pt x="351" y="5"/>
                    </a:lnTo>
                    <a:close/>
                    <a:moveTo>
                      <a:pt x="0" y="807"/>
                    </a:moveTo>
                    <a:lnTo>
                      <a:pt x="10" y="813"/>
                    </a:lnTo>
                    <a:lnTo>
                      <a:pt x="27" y="825"/>
                    </a:lnTo>
                    <a:lnTo>
                      <a:pt x="44" y="836"/>
                    </a:lnTo>
                    <a:lnTo>
                      <a:pt x="63" y="848"/>
                    </a:lnTo>
                    <a:lnTo>
                      <a:pt x="83" y="857"/>
                    </a:lnTo>
                    <a:lnTo>
                      <a:pt x="104" y="867"/>
                    </a:lnTo>
                    <a:lnTo>
                      <a:pt x="123" y="875"/>
                    </a:lnTo>
                    <a:lnTo>
                      <a:pt x="144" y="882"/>
                    </a:lnTo>
                    <a:lnTo>
                      <a:pt x="167" y="888"/>
                    </a:lnTo>
                    <a:lnTo>
                      <a:pt x="188" y="894"/>
                    </a:lnTo>
                    <a:lnTo>
                      <a:pt x="209" y="898"/>
                    </a:lnTo>
                    <a:lnTo>
                      <a:pt x="232" y="899"/>
                    </a:lnTo>
                    <a:lnTo>
                      <a:pt x="255" y="901"/>
                    </a:lnTo>
                    <a:lnTo>
                      <a:pt x="278" y="903"/>
                    </a:lnTo>
                    <a:lnTo>
                      <a:pt x="301" y="901"/>
                    </a:lnTo>
                    <a:lnTo>
                      <a:pt x="324" y="899"/>
                    </a:lnTo>
                    <a:lnTo>
                      <a:pt x="348" y="898"/>
                    </a:lnTo>
                    <a:lnTo>
                      <a:pt x="353" y="896"/>
                    </a:lnTo>
                    <a:lnTo>
                      <a:pt x="353" y="896"/>
                    </a:lnTo>
                    <a:lnTo>
                      <a:pt x="353" y="894"/>
                    </a:lnTo>
                    <a:lnTo>
                      <a:pt x="353" y="892"/>
                    </a:lnTo>
                    <a:lnTo>
                      <a:pt x="353" y="892"/>
                    </a:lnTo>
                    <a:lnTo>
                      <a:pt x="353" y="890"/>
                    </a:lnTo>
                    <a:lnTo>
                      <a:pt x="351" y="888"/>
                    </a:lnTo>
                    <a:lnTo>
                      <a:pt x="351" y="888"/>
                    </a:lnTo>
                    <a:lnTo>
                      <a:pt x="351" y="886"/>
                    </a:lnTo>
                    <a:lnTo>
                      <a:pt x="346" y="888"/>
                    </a:lnTo>
                    <a:lnTo>
                      <a:pt x="324" y="890"/>
                    </a:lnTo>
                    <a:lnTo>
                      <a:pt x="301" y="892"/>
                    </a:lnTo>
                    <a:lnTo>
                      <a:pt x="278" y="892"/>
                    </a:lnTo>
                    <a:lnTo>
                      <a:pt x="255" y="892"/>
                    </a:lnTo>
                    <a:lnTo>
                      <a:pt x="234" y="890"/>
                    </a:lnTo>
                    <a:lnTo>
                      <a:pt x="211" y="888"/>
                    </a:lnTo>
                    <a:lnTo>
                      <a:pt x="190" y="884"/>
                    </a:lnTo>
                    <a:lnTo>
                      <a:pt x="169" y="878"/>
                    </a:lnTo>
                    <a:lnTo>
                      <a:pt x="148" y="873"/>
                    </a:lnTo>
                    <a:lnTo>
                      <a:pt x="127" y="865"/>
                    </a:lnTo>
                    <a:lnTo>
                      <a:pt x="108" y="857"/>
                    </a:lnTo>
                    <a:lnTo>
                      <a:pt x="88" y="850"/>
                    </a:lnTo>
                    <a:lnTo>
                      <a:pt x="69" y="838"/>
                    </a:lnTo>
                    <a:lnTo>
                      <a:pt x="50" y="828"/>
                    </a:lnTo>
                    <a:lnTo>
                      <a:pt x="33" y="817"/>
                    </a:lnTo>
                    <a:lnTo>
                      <a:pt x="15" y="804"/>
                    </a:lnTo>
                    <a:lnTo>
                      <a:pt x="0" y="792"/>
                    </a:lnTo>
                    <a:lnTo>
                      <a:pt x="0" y="794"/>
                    </a:lnTo>
                    <a:lnTo>
                      <a:pt x="0" y="796"/>
                    </a:lnTo>
                    <a:lnTo>
                      <a:pt x="0" y="798"/>
                    </a:lnTo>
                    <a:lnTo>
                      <a:pt x="0" y="800"/>
                    </a:lnTo>
                    <a:lnTo>
                      <a:pt x="0" y="802"/>
                    </a:lnTo>
                    <a:lnTo>
                      <a:pt x="0" y="804"/>
                    </a:lnTo>
                    <a:lnTo>
                      <a:pt x="0" y="805"/>
                    </a:lnTo>
                    <a:lnTo>
                      <a:pt x="0" y="807"/>
                    </a:lnTo>
                    <a:close/>
                  </a:path>
                </a:pathLst>
              </a:custGeom>
              <a:solidFill>
                <a:srgbClr val="a8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Freeform 178"/>
              <p:cNvSpPr/>
              <p:nvPr/>
            </p:nvSpPr>
            <p:spPr>
              <a:xfrm>
                <a:off x="1813320" y="2419200"/>
                <a:ext cx="597240" cy="1506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1506960"/>
                  <a:gd name="textAreaBottom" fmla="*/ 1507320 h 1506960"/>
                </a:gdLst>
                <a:ahLst/>
                <a:rect l="textAreaLeft" t="textAreaTop" r="textAreaRight" b="textAreaBottom"/>
                <a:pathLst>
                  <a:path w="355" h="895">
                    <a:moveTo>
                      <a:pt x="353" y="6"/>
                    </a:moveTo>
                    <a:lnTo>
                      <a:pt x="350" y="6"/>
                    </a:lnTo>
                    <a:lnTo>
                      <a:pt x="326" y="4"/>
                    </a:lnTo>
                    <a:lnTo>
                      <a:pt x="303" y="2"/>
                    </a:lnTo>
                    <a:lnTo>
                      <a:pt x="280" y="0"/>
                    </a:lnTo>
                    <a:lnTo>
                      <a:pt x="257" y="2"/>
                    </a:lnTo>
                    <a:lnTo>
                      <a:pt x="236" y="4"/>
                    </a:lnTo>
                    <a:lnTo>
                      <a:pt x="213" y="6"/>
                    </a:lnTo>
                    <a:lnTo>
                      <a:pt x="190" y="10"/>
                    </a:lnTo>
                    <a:lnTo>
                      <a:pt x="169" y="16"/>
                    </a:lnTo>
                    <a:lnTo>
                      <a:pt x="148" y="22"/>
                    </a:lnTo>
                    <a:lnTo>
                      <a:pt x="127" y="29"/>
                    </a:lnTo>
                    <a:lnTo>
                      <a:pt x="108" y="37"/>
                    </a:lnTo>
                    <a:lnTo>
                      <a:pt x="87" y="45"/>
                    </a:lnTo>
                    <a:lnTo>
                      <a:pt x="87" y="47"/>
                    </a:lnTo>
                    <a:lnTo>
                      <a:pt x="85" y="48"/>
                    </a:lnTo>
                    <a:lnTo>
                      <a:pt x="85" y="50"/>
                    </a:lnTo>
                    <a:lnTo>
                      <a:pt x="85" y="50"/>
                    </a:lnTo>
                    <a:lnTo>
                      <a:pt x="85" y="52"/>
                    </a:lnTo>
                    <a:lnTo>
                      <a:pt x="83" y="54"/>
                    </a:lnTo>
                    <a:lnTo>
                      <a:pt x="83" y="56"/>
                    </a:lnTo>
                    <a:lnTo>
                      <a:pt x="83" y="58"/>
                    </a:lnTo>
                    <a:lnTo>
                      <a:pt x="83" y="60"/>
                    </a:lnTo>
                    <a:lnTo>
                      <a:pt x="92" y="54"/>
                    </a:lnTo>
                    <a:lnTo>
                      <a:pt x="112" y="47"/>
                    </a:lnTo>
                    <a:lnTo>
                      <a:pt x="131" y="39"/>
                    </a:lnTo>
                    <a:lnTo>
                      <a:pt x="152" y="31"/>
                    </a:lnTo>
                    <a:lnTo>
                      <a:pt x="173" y="25"/>
                    </a:lnTo>
                    <a:lnTo>
                      <a:pt x="194" y="20"/>
                    </a:lnTo>
                    <a:lnTo>
                      <a:pt x="215" y="16"/>
                    </a:lnTo>
                    <a:lnTo>
                      <a:pt x="236" y="14"/>
                    </a:lnTo>
                    <a:lnTo>
                      <a:pt x="259" y="12"/>
                    </a:lnTo>
                    <a:lnTo>
                      <a:pt x="280" y="12"/>
                    </a:lnTo>
                    <a:lnTo>
                      <a:pt x="303" y="12"/>
                    </a:lnTo>
                    <a:lnTo>
                      <a:pt x="326" y="14"/>
                    </a:lnTo>
                    <a:lnTo>
                      <a:pt x="348" y="16"/>
                    </a:lnTo>
                    <a:lnTo>
                      <a:pt x="351" y="18"/>
                    </a:lnTo>
                    <a:lnTo>
                      <a:pt x="351" y="16"/>
                    </a:lnTo>
                    <a:lnTo>
                      <a:pt x="351" y="14"/>
                    </a:lnTo>
                    <a:lnTo>
                      <a:pt x="351" y="14"/>
                    </a:lnTo>
                    <a:lnTo>
                      <a:pt x="351" y="12"/>
                    </a:lnTo>
                    <a:lnTo>
                      <a:pt x="351" y="10"/>
                    </a:lnTo>
                    <a:lnTo>
                      <a:pt x="351" y="10"/>
                    </a:lnTo>
                    <a:lnTo>
                      <a:pt x="353" y="8"/>
                    </a:lnTo>
                    <a:lnTo>
                      <a:pt x="353" y="6"/>
                    </a:lnTo>
                    <a:close/>
                    <a:moveTo>
                      <a:pt x="2" y="797"/>
                    </a:moveTo>
                    <a:lnTo>
                      <a:pt x="14" y="806"/>
                    </a:lnTo>
                    <a:lnTo>
                      <a:pt x="31" y="818"/>
                    </a:lnTo>
                    <a:lnTo>
                      <a:pt x="50" y="829"/>
                    </a:lnTo>
                    <a:lnTo>
                      <a:pt x="67" y="841"/>
                    </a:lnTo>
                    <a:lnTo>
                      <a:pt x="87" y="850"/>
                    </a:lnTo>
                    <a:lnTo>
                      <a:pt x="108" y="860"/>
                    </a:lnTo>
                    <a:lnTo>
                      <a:pt x="127" y="868"/>
                    </a:lnTo>
                    <a:lnTo>
                      <a:pt x="148" y="873"/>
                    </a:lnTo>
                    <a:lnTo>
                      <a:pt x="169" y="881"/>
                    </a:lnTo>
                    <a:lnTo>
                      <a:pt x="190" y="885"/>
                    </a:lnTo>
                    <a:lnTo>
                      <a:pt x="213" y="889"/>
                    </a:lnTo>
                    <a:lnTo>
                      <a:pt x="236" y="893"/>
                    </a:lnTo>
                    <a:lnTo>
                      <a:pt x="257" y="895"/>
                    </a:lnTo>
                    <a:lnTo>
                      <a:pt x="280" y="895"/>
                    </a:lnTo>
                    <a:lnTo>
                      <a:pt x="303" y="895"/>
                    </a:lnTo>
                    <a:lnTo>
                      <a:pt x="326" y="893"/>
                    </a:lnTo>
                    <a:lnTo>
                      <a:pt x="350" y="889"/>
                    </a:lnTo>
                    <a:lnTo>
                      <a:pt x="355" y="889"/>
                    </a:lnTo>
                    <a:lnTo>
                      <a:pt x="355" y="887"/>
                    </a:lnTo>
                    <a:lnTo>
                      <a:pt x="353" y="885"/>
                    </a:lnTo>
                    <a:lnTo>
                      <a:pt x="353" y="885"/>
                    </a:lnTo>
                    <a:lnTo>
                      <a:pt x="353" y="883"/>
                    </a:lnTo>
                    <a:lnTo>
                      <a:pt x="353" y="881"/>
                    </a:lnTo>
                    <a:lnTo>
                      <a:pt x="353" y="881"/>
                    </a:lnTo>
                    <a:lnTo>
                      <a:pt x="353" y="879"/>
                    </a:lnTo>
                    <a:lnTo>
                      <a:pt x="353" y="877"/>
                    </a:lnTo>
                    <a:lnTo>
                      <a:pt x="348" y="879"/>
                    </a:lnTo>
                    <a:lnTo>
                      <a:pt x="326" y="881"/>
                    </a:lnTo>
                    <a:lnTo>
                      <a:pt x="303" y="883"/>
                    </a:lnTo>
                    <a:lnTo>
                      <a:pt x="280" y="885"/>
                    </a:lnTo>
                    <a:lnTo>
                      <a:pt x="259" y="883"/>
                    </a:lnTo>
                    <a:lnTo>
                      <a:pt x="236" y="881"/>
                    </a:lnTo>
                    <a:lnTo>
                      <a:pt x="215" y="879"/>
                    </a:lnTo>
                    <a:lnTo>
                      <a:pt x="194" y="875"/>
                    </a:lnTo>
                    <a:lnTo>
                      <a:pt x="173" y="870"/>
                    </a:lnTo>
                    <a:lnTo>
                      <a:pt x="152" y="864"/>
                    </a:lnTo>
                    <a:lnTo>
                      <a:pt x="131" y="858"/>
                    </a:lnTo>
                    <a:lnTo>
                      <a:pt x="112" y="850"/>
                    </a:lnTo>
                    <a:lnTo>
                      <a:pt x="92" y="841"/>
                    </a:lnTo>
                    <a:lnTo>
                      <a:pt x="73" y="831"/>
                    </a:lnTo>
                    <a:lnTo>
                      <a:pt x="54" y="822"/>
                    </a:lnTo>
                    <a:lnTo>
                      <a:pt x="37" y="810"/>
                    </a:lnTo>
                    <a:lnTo>
                      <a:pt x="19" y="797"/>
                    </a:lnTo>
                    <a:lnTo>
                      <a:pt x="4" y="785"/>
                    </a:lnTo>
                    <a:lnTo>
                      <a:pt x="0" y="781"/>
                    </a:lnTo>
                    <a:lnTo>
                      <a:pt x="0" y="783"/>
                    </a:lnTo>
                    <a:lnTo>
                      <a:pt x="2" y="785"/>
                    </a:lnTo>
                    <a:lnTo>
                      <a:pt x="2" y="787"/>
                    </a:lnTo>
                    <a:lnTo>
                      <a:pt x="2" y="789"/>
                    </a:lnTo>
                    <a:lnTo>
                      <a:pt x="2" y="791"/>
                    </a:lnTo>
                    <a:lnTo>
                      <a:pt x="2" y="793"/>
                    </a:lnTo>
                    <a:lnTo>
                      <a:pt x="2" y="795"/>
                    </a:lnTo>
                    <a:lnTo>
                      <a:pt x="2" y="797"/>
                    </a:lnTo>
                    <a:close/>
                  </a:path>
                </a:pathLst>
              </a:custGeom>
              <a:solidFill>
                <a:srgbClr val="a9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Freeform 179"/>
              <p:cNvSpPr/>
              <p:nvPr/>
            </p:nvSpPr>
            <p:spPr>
              <a:xfrm>
                <a:off x="1813320" y="2429280"/>
                <a:ext cx="594360" cy="1486440"/>
              </a:xfrm>
              <a:custGeom>
                <a:avLst/>
                <a:gdLst>
                  <a:gd name="textAreaLeft" fmla="*/ 0 w 594360"/>
                  <a:gd name="textAreaRight" fmla="*/ 594360 w 594360"/>
                  <a:gd name="textAreaTop" fmla="*/ 0 h 1486440"/>
                  <a:gd name="textAreaBottom" fmla="*/ 1486800 h 1486440"/>
                </a:gdLst>
                <a:ahLst/>
                <a:rect l="textAreaLeft" t="textAreaTop" r="textAreaRight" b="textAreaBottom"/>
                <a:pathLst>
                  <a:path w="353" h="883">
                    <a:moveTo>
                      <a:pt x="351" y="6"/>
                    </a:moveTo>
                    <a:lnTo>
                      <a:pt x="348" y="6"/>
                    </a:lnTo>
                    <a:lnTo>
                      <a:pt x="326" y="2"/>
                    </a:lnTo>
                    <a:lnTo>
                      <a:pt x="303" y="0"/>
                    </a:lnTo>
                    <a:lnTo>
                      <a:pt x="280" y="0"/>
                    </a:lnTo>
                    <a:lnTo>
                      <a:pt x="257" y="0"/>
                    </a:lnTo>
                    <a:lnTo>
                      <a:pt x="236" y="2"/>
                    </a:lnTo>
                    <a:lnTo>
                      <a:pt x="213" y="6"/>
                    </a:lnTo>
                    <a:lnTo>
                      <a:pt x="192" y="10"/>
                    </a:lnTo>
                    <a:lnTo>
                      <a:pt x="171" y="14"/>
                    </a:lnTo>
                    <a:lnTo>
                      <a:pt x="150" y="19"/>
                    </a:lnTo>
                    <a:lnTo>
                      <a:pt x="129" y="27"/>
                    </a:lnTo>
                    <a:lnTo>
                      <a:pt x="110" y="35"/>
                    </a:lnTo>
                    <a:lnTo>
                      <a:pt x="90" y="44"/>
                    </a:lnTo>
                    <a:lnTo>
                      <a:pt x="85" y="46"/>
                    </a:lnTo>
                    <a:lnTo>
                      <a:pt x="83" y="48"/>
                    </a:lnTo>
                    <a:lnTo>
                      <a:pt x="83" y="50"/>
                    </a:lnTo>
                    <a:lnTo>
                      <a:pt x="83" y="52"/>
                    </a:lnTo>
                    <a:lnTo>
                      <a:pt x="83" y="54"/>
                    </a:lnTo>
                    <a:lnTo>
                      <a:pt x="81" y="56"/>
                    </a:lnTo>
                    <a:lnTo>
                      <a:pt x="81" y="58"/>
                    </a:lnTo>
                    <a:lnTo>
                      <a:pt x="81" y="60"/>
                    </a:lnTo>
                    <a:lnTo>
                      <a:pt x="81" y="60"/>
                    </a:lnTo>
                    <a:lnTo>
                      <a:pt x="94" y="54"/>
                    </a:lnTo>
                    <a:lnTo>
                      <a:pt x="113" y="44"/>
                    </a:lnTo>
                    <a:lnTo>
                      <a:pt x="133" y="37"/>
                    </a:lnTo>
                    <a:lnTo>
                      <a:pt x="154" y="31"/>
                    </a:lnTo>
                    <a:lnTo>
                      <a:pt x="173" y="25"/>
                    </a:lnTo>
                    <a:lnTo>
                      <a:pt x="194" y="19"/>
                    </a:lnTo>
                    <a:lnTo>
                      <a:pt x="215" y="16"/>
                    </a:lnTo>
                    <a:lnTo>
                      <a:pt x="236" y="14"/>
                    </a:lnTo>
                    <a:lnTo>
                      <a:pt x="259" y="12"/>
                    </a:lnTo>
                    <a:lnTo>
                      <a:pt x="280" y="10"/>
                    </a:lnTo>
                    <a:lnTo>
                      <a:pt x="303" y="12"/>
                    </a:lnTo>
                    <a:lnTo>
                      <a:pt x="325" y="14"/>
                    </a:lnTo>
                    <a:lnTo>
                      <a:pt x="348" y="16"/>
                    </a:lnTo>
                    <a:lnTo>
                      <a:pt x="350" y="16"/>
                    </a:lnTo>
                    <a:lnTo>
                      <a:pt x="350" y="16"/>
                    </a:lnTo>
                    <a:lnTo>
                      <a:pt x="350" y="14"/>
                    </a:lnTo>
                    <a:lnTo>
                      <a:pt x="350" y="12"/>
                    </a:lnTo>
                    <a:lnTo>
                      <a:pt x="351" y="12"/>
                    </a:lnTo>
                    <a:lnTo>
                      <a:pt x="351" y="10"/>
                    </a:lnTo>
                    <a:lnTo>
                      <a:pt x="351" y="8"/>
                    </a:lnTo>
                    <a:lnTo>
                      <a:pt x="351" y="8"/>
                    </a:lnTo>
                    <a:lnTo>
                      <a:pt x="351" y="6"/>
                    </a:lnTo>
                    <a:close/>
                    <a:moveTo>
                      <a:pt x="2" y="783"/>
                    </a:moveTo>
                    <a:lnTo>
                      <a:pt x="17" y="795"/>
                    </a:lnTo>
                    <a:lnTo>
                      <a:pt x="35" y="808"/>
                    </a:lnTo>
                    <a:lnTo>
                      <a:pt x="52" y="819"/>
                    </a:lnTo>
                    <a:lnTo>
                      <a:pt x="71" y="829"/>
                    </a:lnTo>
                    <a:lnTo>
                      <a:pt x="90" y="841"/>
                    </a:lnTo>
                    <a:lnTo>
                      <a:pt x="110" y="848"/>
                    </a:lnTo>
                    <a:lnTo>
                      <a:pt x="129" y="856"/>
                    </a:lnTo>
                    <a:lnTo>
                      <a:pt x="150" y="864"/>
                    </a:lnTo>
                    <a:lnTo>
                      <a:pt x="171" y="869"/>
                    </a:lnTo>
                    <a:lnTo>
                      <a:pt x="192" y="875"/>
                    </a:lnTo>
                    <a:lnTo>
                      <a:pt x="213" y="879"/>
                    </a:lnTo>
                    <a:lnTo>
                      <a:pt x="236" y="881"/>
                    </a:lnTo>
                    <a:lnTo>
                      <a:pt x="257" y="883"/>
                    </a:lnTo>
                    <a:lnTo>
                      <a:pt x="280" y="883"/>
                    </a:lnTo>
                    <a:lnTo>
                      <a:pt x="303" y="883"/>
                    </a:lnTo>
                    <a:lnTo>
                      <a:pt x="326" y="881"/>
                    </a:lnTo>
                    <a:lnTo>
                      <a:pt x="348" y="879"/>
                    </a:lnTo>
                    <a:lnTo>
                      <a:pt x="353" y="877"/>
                    </a:lnTo>
                    <a:lnTo>
                      <a:pt x="353" y="875"/>
                    </a:lnTo>
                    <a:lnTo>
                      <a:pt x="353" y="875"/>
                    </a:lnTo>
                    <a:lnTo>
                      <a:pt x="353" y="873"/>
                    </a:lnTo>
                    <a:lnTo>
                      <a:pt x="353" y="871"/>
                    </a:lnTo>
                    <a:lnTo>
                      <a:pt x="353" y="871"/>
                    </a:lnTo>
                    <a:lnTo>
                      <a:pt x="351" y="869"/>
                    </a:lnTo>
                    <a:lnTo>
                      <a:pt x="351" y="867"/>
                    </a:lnTo>
                    <a:lnTo>
                      <a:pt x="351" y="867"/>
                    </a:lnTo>
                    <a:lnTo>
                      <a:pt x="348" y="867"/>
                    </a:lnTo>
                    <a:lnTo>
                      <a:pt x="325" y="871"/>
                    </a:lnTo>
                    <a:lnTo>
                      <a:pt x="303" y="873"/>
                    </a:lnTo>
                    <a:lnTo>
                      <a:pt x="280" y="873"/>
                    </a:lnTo>
                    <a:lnTo>
                      <a:pt x="259" y="873"/>
                    </a:lnTo>
                    <a:lnTo>
                      <a:pt x="236" y="871"/>
                    </a:lnTo>
                    <a:lnTo>
                      <a:pt x="215" y="867"/>
                    </a:lnTo>
                    <a:lnTo>
                      <a:pt x="194" y="864"/>
                    </a:lnTo>
                    <a:lnTo>
                      <a:pt x="173" y="860"/>
                    </a:lnTo>
                    <a:lnTo>
                      <a:pt x="154" y="854"/>
                    </a:lnTo>
                    <a:lnTo>
                      <a:pt x="133" y="846"/>
                    </a:lnTo>
                    <a:lnTo>
                      <a:pt x="113" y="839"/>
                    </a:lnTo>
                    <a:lnTo>
                      <a:pt x="94" y="831"/>
                    </a:lnTo>
                    <a:lnTo>
                      <a:pt x="75" y="821"/>
                    </a:lnTo>
                    <a:lnTo>
                      <a:pt x="58" y="810"/>
                    </a:lnTo>
                    <a:lnTo>
                      <a:pt x="40" y="798"/>
                    </a:lnTo>
                    <a:lnTo>
                      <a:pt x="23" y="787"/>
                    </a:lnTo>
                    <a:lnTo>
                      <a:pt x="6" y="775"/>
                    </a:lnTo>
                    <a:lnTo>
                      <a:pt x="0" y="770"/>
                    </a:lnTo>
                    <a:lnTo>
                      <a:pt x="0" y="772"/>
                    </a:lnTo>
                    <a:lnTo>
                      <a:pt x="0" y="773"/>
                    </a:lnTo>
                    <a:lnTo>
                      <a:pt x="0" y="773"/>
                    </a:lnTo>
                    <a:lnTo>
                      <a:pt x="0" y="775"/>
                    </a:lnTo>
                    <a:lnTo>
                      <a:pt x="0" y="777"/>
                    </a:lnTo>
                    <a:lnTo>
                      <a:pt x="2" y="779"/>
                    </a:lnTo>
                    <a:lnTo>
                      <a:pt x="2" y="781"/>
                    </a:lnTo>
                    <a:lnTo>
                      <a:pt x="2" y="783"/>
                    </a:lnTo>
                    <a:close/>
                  </a:path>
                </a:pathLst>
              </a:custGeom>
              <a:solidFill>
                <a:srgbClr val="aa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Freeform 180"/>
              <p:cNvSpPr/>
              <p:nvPr/>
            </p:nvSpPr>
            <p:spPr>
              <a:xfrm>
                <a:off x="1813320" y="2439360"/>
                <a:ext cx="594360" cy="1469880"/>
              </a:xfrm>
              <a:custGeom>
                <a:avLst/>
                <a:gdLst>
                  <a:gd name="textAreaLeft" fmla="*/ 0 w 594360"/>
                  <a:gd name="textAreaRight" fmla="*/ 594360 w 594360"/>
                  <a:gd name="textAreaTop" fmla="*/ 0 h 1469880"/>
                  <a:gd name="textAreaBottom" fmla="*/ 1470240 h 1469880"/>
                </a:gdLst>
                <a:ahLst/>
                <a:rect l="textAreaLeft" t="textAreaTop" r="textAreaRight" b="textAreaBottom"/>
                <a:pathLst>
                  <a:path w="353" h="873">
                    <a:moveTo>
                      <a:pt x="351" y="6"/>
                    </a:moveTo>
                    <a:lnTo>
                      <a:pt x="348" y="4"/>
                    </a:lnTo>
                    <a:lnTo>
                      <a:pt x="326" y="2"/>
                    </a:lnTo>
                    <a:lnTo>
                      <a:pt x="303" y="0"/>
                    </a:lnTo>
                    <a:lnTo>
                      <a:pt x="280" y="0"/>
                    </a:lnTo>
                    <a:lnTo>
                      <a:pt x="259" y="0"/>
                    </a:lnTo>
                    <a:lnTo>
                      <a:pt x="236" y="2"/>
                    </a:lnTo>
                    <a:lnTo>
                      <a:pt x="215" y="4"/>
                    </a:lnTo>
                    <a:lnTo>
                      <a:pt x="194" y="8"/>
                    </a:lnTo>
                    <a:lnTo>
                      <a:pt x="173" y="13"/>
                    </a:lnTo>
                    <a:lnTo>
                      <a:pt x="152" y="19"/>
                    </a:lnTo>
                    <a:lnTo>
                      <a:pt x="131" y="27"/>
                    </a:lnTo>
                    <a:lnTo>
                      <a:pt x="112" y="35"/>
                    </a:lnTo>
                    <a:lnTo>
                      <a:pt x="92" y="42"/>
                    </a:lnTo>
                    <a:lnTo>
                      <a:pt x="83" y="48"/>
                    </a:lnTo>
                    <a:lnTo>
                      <a:pt x="81" y="50"/>
                    </a:lnTo>
                    <a:lnTo>
                      <a:pt x="81" y="52"/>
                    </a:lnTo>
                    <a:lnTo>
                      <a:pt x="81" y="54"/>
                    </a:lnTo>
                    <a:lnTo>
                      <a:pt x="81" y="54"/>
                    </a:lnTo>
                    <a:lnTo>
                      <a:pt x="79" y="56"/>
                    </a:lnTo>
                    <a:lnTo>
                      <a:pt x="79" y="58"/>
                    </a:lnTo>
                    <a:lnTo>
                      <a:pt x="79" y="59"/>
                    </a:lnTo>
                    <a:lnTo>
                      <a:pt x="79" y="61"/>
                    </a:lnTo>
                    <a:lnTo>
                      <a:pt x="96" y="52"/>
                    </a:lnTo>
                    <a:lnTo>
                      <a:pt x="115" y="44"/>
                    </a:lnTo>
                    <a:lnTo>
                      <a:pt x="135" y="36"/>
                    </a:lnTo>
                    <a:lnTo>
                      <a:pt x="154" y="29"/>
                    </a:lnTo>
                    <a:lnTo>
                      <a:pt x="175" y="23"/>
                    </a:lnTo>
                    <a:lnTo>
                      <a:pt x="196" y="19"/>
                    </a:lnTo>
                    <a:lnTo>
                      <a:pt x="217" y="15"/>
                    </a:lnTo>
                    <a:lnTo>
                      <a:pt x="238" y="11"/>
                    </a:lnTo>
                    <a:lnTo>
                      <a:pt x="259" y="10"/>
                    </a:lnTo>
                    <a:lnTo>
                      <a:pt x="280" y="10"/>
                    </a:lnTo>
                    <a:lnTo>
                      <a:pt x="303" y="10"/>
                    </a:lnTo>
                    <a:lnTo>
                      <a:pt x="325" y="11"/>
                    </a:lnTo>
                    <a:lnTo>
                      <a:pt x="346" y="15"/>
                    </a:lnTo>
                    <a:lnTo>
                      <a:pt x="348" y="15"/>
                    </a:lnTo>
                    <a:lnTo>
                      <a:pt x="350" y="13"/>
                    </a:lnTo>
                    <a:lnTo>
                      <a:pt x="350" y="13"/>
                    </a:lnTo>
                    <a:lnTo>
                      <a:pt x="350" y="11"/>
                    </a:lnTo>
                    <a:lnTo>
                      <a:pt x="350" y="10"/>
                    </a:lnTo>
                    <a:lnTo>
                      <a:pt x="350" y="10"/>
                    </a:lnTo>
                    <a:lnTo>
                      <a:pt x="350" y="8"/>
                    </a:lnTo>
                    <a:lnTo>
                      <a:pt x="350" y="6"/>
                    </a:lnTo>
                    <a:lnTo>
                      <a:pt x="351" y="6"/>
                    </a:lnTo>
                    <a:close/>
                    <a:moveTo>
                      <a:pt x="0" y="769"/>
                    </a:moveTo>
                    <a:lnTo>
                      <a:pt x="4" y="773"/>
                    </a:lnTo>
                    <a:lnTo>
                      <a:pt x="19" y="785"/>
                    </a:lnTo>
                    <a:lnTo>
                      <a:pt x="37" y="798"/>
                    </a:lnTo>
                    <a:lnTo>
                      <a:pt x="54" y="810"/>
                    </a:lnTo>
                    <a:lnTo>
                      <a:pt x="73" y="819"/>
                    </a:lnTo>
                    <a:lnTo>
                      <a:pt x="92" y="829"/>
                    </a:lnTo>
                    <a:lnTo>
                      <a:pt x="112" y="838"/>
                    </a:lnTo>
                    <a:lnTo>
                      <a:pt x="131" y="846"/>
                    </a:lnTo>
                    <a:lnTo>
                      <a:pt x="152" y="852"/>
                    </a:lnTo>
                    <a:lnTo>
                      <a:pt x="173" y="858"/>
                    </a:lnTo>
                    <a:lnTo>
                      <a:pt x="194" y="863"/>
                    </a:lnTo>
                    <a:lnTo>
                      <a:pt x="215" y="867"/>
                    </a:lnTo>
                    <a:lnTo>
                      <a:pt x="236" y="869"/>
                    </a:lnTo>
                    <a:lnTo>
                      <a:pt x="259" y="871"/>
                    </a:lnTo>
                    <a:lnTo>
                      <a:pt x="280" y="873"/>
                    </a:lnTo>
                    <a:lnTo>
                      <a:pt x="303" y="871"/>
                    </a:lnTo>
                    <a:lnTo>
                      <a:pt x="326" y="869"/>
                    </a:lnTo>
                    <a:lnTo>
                      <a:pt x="348" y="867"/>
                    </a:lnTo>
                    <a:lnTo>
                      <a:pt x="353" y="865"/>
                    </a:lnTo>
                    <a:lnTo>
                      <a:pt x="353" y="865"/>
                    </a:lnTo>
                    <a:lnTo>
                      <a:pt x="351" y="863"/>
                    </a:lnTo>
                    <a:lnTo>
                      <a:pt x="351" y="861"/>
                    </a:lnTo>
                    <a:lnTo>
                      <a:pt x="351" y="861"/>
                    </a:lnTo>
                    <a:lnTo>
                      <a:pt x="351" y="860"/>
                    </a:lnTo>
                    <a:lnTo>
                      <a:pt x="351" y="858"/>
                    </a:lnTo>
                    <a:lnTo>
                      <a:pt x="351" y="858"/>
                    </a:lnTo>
                    <a:lnTo>
                      <a:pt x="351" y="856"/>
                    </a:lnTo>
                    <a:lnTo>
                      <a:pt x="346" y="858"/>
                    </a:lnTo>
                    <a:lnTo>
                      <a:pt x="325" y="860"/>
                    </a:lnTo>
                    <a:lnTo>
                      <a:pt x="303" y="861"/>
                    </a:lnTo>
                    <a:lnTo>
                      <a:pt x="280" y="861"/>
                    </a:lnTo>
                    <a:lnTo>
                      <a:pt x="259" y="861"/>
                    </a:lnTo>
                    <a:lnTo>
                      <a:pt x="238" y="860"/>
                    </a:lnTo>
                    <a:lnTo>
                      <a:pt x="217" y="858"/>
                    </a:lnTo>
                    <a:lnTo>
                      <a:pt x="196" y="854"/>
                    </a:lnTo>
                    <a:lnTo>
                      <a:pt x="175" y="848"/>
                    </a:lnTo>
                    <a:lnTo>
                      <a:pt x="154" y="842"/>
                    </a:lnTo>
                    <a:lnTo>
                      <a:pt x="135" y="837"/>
                    </a:lnTo>
                    <a:lnTo>
                      <a:pt x="115" y="829"/>
                    </a:lnTo>
                    <a:lnTo>
                      <a:pt x="96" y="819"/>
                    </a:lnTo>
                    <a:lnTo>
                      <a:pt x="79" y="810"/>
                    </a:lnTo>
                    <a:lnTo>
                      <a:pt x="60" y="800"/>
                    </a:lnTo>
                    <a:lnTo>
                      <a:pt x="42" y="789"/>
                    </a:lnTo>
                    <a:lnTo>
                      <a:pt x="27" y="777"/>
                    </a:lnTo>
                    <a:lnTo>
                      <a:pt x="10" y="764"/>
                    </a:lnTo>
                    <a:lnTo>
                      <a:pt x="0" y="756"/>
                    </a:lnTo>
                    <a:lnTo>
                      <a:pt x="0" y="758"/>
                    </a:lnTo>
                    <a:lnTo>
                      <a:pt x="0" y="760"/>
                    </a:lnTo>
                    <a:lnTo>
                      <a:pt x="0" y="762"/>
                    </a:lnTo>
                    <a:lnTo>
                      <a:pt x="0" y="764"/>
                    </a:lnTo>
                    <a:lnTo>
                      <a:pt x="0" y="766"/>
                    </a:lnTo>
                    <a:lnTo>
                      <a:pt x="0" y="767"/>
                    </a:lnTo>
                    <a:lnTo>
                      <a:pt x="0" y="767"/>
                    </a:lnTo>
                    <a:lnTo>
                      <a:pt x="0" y="769"/>
                    </a:lnTo>
                    <a:close/>
                  </a:path>
                </a:pathLst>
              </a:custGeom>
              <a:solidFill>
                <a:srgbClr val="ab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Freeform 181"/>
              <p:cNvSpPr/>
              <p:nvPr/>
            </p:nvSpPr>
            <p:spPr>
              <a:xfrm>
                <a:off x="1813320" y="2446200"/>
                <a:ext cx="590760" cy="1452600"/>
              </a:xfrm>
              <a:custGeom>
                <a:avLst/>
                <a:gdLst>
                  <a:gd name="textAreaLeft" fmla="*/ 0 w 590760"/>
                  <a:gd name="textAreaRight" fmla="*/ 590760 w 590760"/>
                  <a:gd name="textAreaTop" fmla="*/ 0 h 1452600"/>
                  <a:gd name="textAreaBottom" fmla="*/ 1452960 h 1452600"/>
                </a:gdLst>
                <a:ahLst/>
                <a:rect l="textAreaLeft" t="textAreaTop" r="textAreaRight" b="textAreaBottom"/>
                <a:pathLst>
                  <a:path w="351" h="863">
                    <a:moveTo>
                      <a:pt x="350" y="6"/>
                    </a:moveTo>
                    <a:lnTo>
                      <a:pt x="348" y="6"/>
                    </a:lnTo>
                    <a:lnTo>
                      <a:pt x="325" y="4"/>
                    </a:lnTo>
                    <a:lnTo>
                      <a:pt x="303" y="2"/>
                    </a:lnTo>
                    <a:lnTo>
                      <a:pt x="280" y="0"/>
                    </a:lnTo>
                    <a:lnTo>
                      <a:pt x="259" y="2"/>
                    </a:lnTo>
                    <a:lnTo>
                      <a:pt x="236" y="4"/>
                    </a:lnTo>
                    <a:lnTo>
                      <a:pt x="215" y="6"/>
                    </a:lnTo>
                    <a:lnTo>
                      <a:pt x="194" y="9"/>
                    </a:lnTo>
                    <a:lnTo>
                      <a:pt x="173" y="15"/>
                    </a:lnTo>
                    <a:lnTo>
                      <a:pt x="154" y="21"/>
                    </a:lnTo>
                    <a:lnTo>
                      <a:pt x="133" y="27"/>
                    </a:lnTo>
                    <a:lnTo>
                      <a:pt x="113" y="34"/>
                    </a:lnTo>
                    <a:lnTo>
                      <a:pt x="94" y="44"/>
                    </a:lnTo>
                    <a:lnTo>
                      <a:pt x="81" y="50"/>
                    </a:lnTo>
                    <a:lnTo>
                      <a:pt x="79" y="52"/>
                    </a:lnTo>
                    <a:lnTo>
                      <a:pt x="79" y="54"/>
                    </a:lnTo>
                    <a:lnTo>
                      <a:pt x="79" y="55"/>
                    </a:lnTo>
                    <a:lnTo>
                      <a:pt x="79" y="57"/>
                    </a:lnTo>
                    <a:lnTo>
                      <a:pt x="77" y="59"/>
                    </a:lnTo>
                    <a:lnTo>
                      <a:pt x="77" y="61"/>
                    </a:lnTo>
                    <a:lnTo>
                      <a:pt x="77" y="63"/>
                    </a:lnTo>
                    <a:lnTo>
                      <a:pt x="77" y="65"/>
                    </a:lnTo>
                    <a:lnTo>
                      <a:pt x="81" y="61"/>
                    </a:lnTo>
                    <a:lnTo>
                      <a:pt x="98" y="52"/>
                    </a:lnTo>
                    <a:lnTo>
                      <a:pt x="117" y="44"/>
                    </a:lnTo>
                    <a:lnTo>
                      <a:pt x="136" y="36"/>
                    </a:lnTo>
                    <a:lnTo>
                      <a:pt x="156" y="31"/>
                    </a:lnTo>
                    <a:lnTo>
                      <a:pt x="177" y="25"/>
                    </a:lnTo>
                    <a:lnTo>
                      <a:pt x="196" y="19"/>
                    </a:lnTo>
                    <a:lnTo>
                      <a:pt x="217" y="15"/>
                    </a:lnTo>
                    <a:lnTo>
                      <a:pt x="238" y="13"/>
                    </a:lnTo>
                    <a:lnTo>
                      <a:pt x="259" y="11"/>
                    </a:lnTo>
                    <a:lnTo>
                      <a:pt x="280" y="11"/>
                    </a:lnTo>
                    <a:lnTo>
                      <a:pt x="303" y="11"/>
                    </a:lnTo>
                    <a:lnTo>
                      <a:pt x="325" y="13"/>
                    </a:lnTo>
                    <a:lnTo>
                      <a:pt x="346" y="15"/>
                    </a:lnTo>
                    <a:lnTo>
                      <a:pt x="348" y="17"/>
                    </a:lnTo>
                    <a:lnTo>
                      <a:pt x="348" y="15"/>
                    </a:lnTo>
                    <a:lnTo>
                      <a:pt x="348" y="13"/>
                    </a:lnTo>
                    <a:lnTo>
                      <a:pt x="348" y="13"/>
                    </a:lnTo>
                    <a:lnTo>
                      <a:pt x="348" y="11"/>
                    </a:lnTo>
                    <a:lnTo>
                      <a:pt x="350" y="9"/>
                    </a:lnTo>
                    <a:lnTo>
                      <a:pt x="350" y="9"/>
                    </a:lnTo>
                    <a:lnTo>
                      <a:pt x="350" y="7"/>
                    </a:lnTo>
                    <a:lnTo>
                      <a:pt x="350" y="6"/>
                    </a:lnTo>
                    <a:close/>
                    <a:moveTo>
                      <a:pt x="0" y="760"/>
                    </a:moveTo>
                    <a:lnTo>
                      <a:pt x="6" y="765"/>
                    </a:lnTo>
                    <a:lnTo>
                      <a:pt x="23" y="777"/>
                    </a:lnTo>
                    <a:lnTo>
                      <a:pt x="40" y="788"/>
                    </a:lnTo>
                    <a:lnTo>
                      <a:pt x="58" y="800"/>
                    </a:lnTo>
                    <a:lnTo>
                      <a:pt x="75" y="811"/>
                    </a:lnTo>
                    <a:lnTo>
                      <a:pt x="94" y="821"/>
                    </a:lnTo>
                    <a:lnTo>
                      <a:pt x="113" y="829"/>
                    </a:lnTo>
                    <a:lnTo>
                      <a:pt x="133" y="836"/>
                    </a:lnTo>
                    <a:lnTo>
                      <a:pt x="154" y="844"/>
                    </a:lnTo>
                    <a:lnTo>
                      <a:pt x="173" y="850"/>
                    </a:lnTo>
                    <a:lnTo>
                      <a:pt x="194" y="854"/>
                    </a:lnTo>
                    <a:lnTo>
                      <a:pt x="215" y="857"/>
                    </a:lnTo>
                    <a:lnTo>
                      <a:pt x="236" y="861"/>
                    </a:lnTo>
                    <a:lnTo>
                      <a:pt x="259" y="863"/>
                    </a:lnTo>
                    <a:lnTo>
                      <a:pt x="280" y="863"/>
                    </a:lnTo>
                    <a:lnTo>
                      <a:pt x="303" y="863"/>
                    </a:lnTo>
                    <a:lnTo>
                      <a:pt x="325" y="861"/>
                    </a:lnTo>
                    <a:lnTo>
                      <a:pt x="348" y="857"/>
                    </a:lnTo>
                    <a:lnTo>
                      <a:pt x="351" y="857"/>
                    </a:lnTo>
                    <a:lnTo>
                      <a:pt x="351" y="856"/>
                    </a:lnTo>
                    <a:lnTo>
                      <a:pt x="351" y="854"/>
                    </a:lnTo>
                    <a:lnTo>
                      <a:pt x="351" y="854"/>
                    </a:lnTo>
                    <a:lnTo>
                      <a:pt x="351" y="852"/>
                    </a:lnTo>
                    <a:lnTo>
                      <a:pt x="350" y="852"/>
                    </a:lnTo>
                    <a:lnTo>
                      <a:pt x="350" y="850"/>
                    </a:lnTo>
                    <a:lnTo>
                      <a:pt x="350" y="848"/>
                    </a:lnTo>
                    <a:lnTo>
                      <a:pt x="350" y="848"/>
                    </a:lnTo>
                    <a:lnTo>
                      <a:pt x="346" y="848"/>
                    </a:lnTo>
                    <a:lnTo>
                      <a:pt x="325" y="850"/>
                    </a:lnTo>
                    <a:lnTo>
                      <a:pt x="303" y="852"/>
                    </a:lnTo>
                    <a:lnTo>
                      <a:pt x="280" y="852"/>
                    </a:lnTo>
                    <a:lnTo>
                      <a:pt x="259" y="852"/>
                    </a:lnTo>
                    <a:lnTo>
                      <a:pt x="238" y="850"/>
                    </a:lnTo>
                    <a:lnTo>
                      <a:pt x="217" y="848"/>
                    </a:lnTo>
                    <a:lnTo>
                      <a:pt x="196" y="844"/>
                    </a:lnTo>
                    <a:lnTo>
                      <a:pt x="177" y="840"/>
                    </a:lnTo>
                    <a:lnTo>
                      <a:pt x="156" y="834"/>
                    </a:lnTo>
                    <a:lnTo>
                      <a:pt x="136" y="827"/>
                    </a:lnTo>
                    <a:lnTo>
                      <a:pt x="117" y="819"/>
                    </a:lnTo>
                    <a:lnTo>
                      <a:pt x="98" y="811"/>
                    </a:lnTo>
                    <a:lnTo>
                      <a:pt x="81" y="802"/>
                    </a:lnTo>
                    <a:lnTo>
                      <a:pt x="64" y="792"/>
                    </a:lnTo>
                    <a:lnTo>
                      <a:pt x="46" y="781"/>
                    </a:lnTo>
                    <a:lnTo>
                      <a:pt x="29" y="769"/>
                    </a:lnTo>
                    <a:lnTo>
                      <a:pt x="14" y="756"/>
                    </a:lnTo>
                    <a:lnTo>
                      <a:pt x="0" y="744"/>
                    </a:lnTo>
                    <a:lnTo>
                      <a:pt x="0" y="746"/>
                    </a:lnTo>
                    <a:lnTo>
                      <a:pt x="0" y="748"/>
                    </a:lnTo>
                    <a:lnTo>
                      <a:pt x="0" y="750"/>
                    </a:lnTo>
                    <a:lnTo>
                      <a:pt x="0" y="752"/>
                    </a:lnTo>
                    <a:lnTo>
                      <a:pt x="0" y="754"/>
                    </a:lnTo>
                    <a:lnTo>
                      <a:pt x="0" y="756"/>
                    </a:lnTo>
                    <a:lnTo>
                      <a:pt x="0" y="758"/>
                    </a:lnTo>
                    <a:lnTo>
                      <a:pt x="0" y="760"/>
                    </a:lnTo>
                    <a:close/>
                  </a:path>
                </a:pathLst>
              </a:custGeom>
              <a:solidFill>
                <a:srgbClr val="ac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Freeform 182"/>
              <p:cNvSpPr/>
              <p:nvPr/>
            </p:nvSpPr>
            <p:spPr>
              <a:xfrm>
                <a:off x="1810080" y="2455920"/>
                <a:ext cx="594360" cy="1432800"/>
              </a:xfrm>
              <a:custGeom>
                <a:avLst/>
                <a:gdLst>
                  <a:gd name="textAreaLeft" fmla="*/ 0 w 594360"/>
                  <a:gd name="textAreaRight" fmla="*/ 594360 w 594360"/>
                  <a:gd name="textAreaTop" fmla="*/ 0 h 1432800"/>
                  <a:gd name="textAreaBottom" fmla="*/ 1433160 h 1432800"/>
                </a:gdLst>
                <a:ahLst/>
                <a:rect l="textAreaLeft" t="textAreaTop" r="textAreaRight" b="textAreaBottom"/>
                <a:pathLst>
                  <a:path w="353" h="851">
                    <a:moveTo>
                      <a:pt x="350" y="5"/>
                    </a:moveTo>
                    <a:lnTo>
                      <a:pt x="348" y="5"/>
                    </a:lnTo>
                    <a:lnTo>
                      <a:pt x="327" y="1"/>
                    </a:lnTo>
                    <a:lnTo>
                      <a:pt x="305" y="0"/>
                    </a:lnTo>
                    <a:lnTo>
                      <a:pt x="282" y="0"/>
                    </a:lnTo>
                    <a:lnTo>
                      <a:pt x="261" y="0"/>
                    </a:lnTo>
                    <a:lnTo>
                      <a:pt x="240" y="1"/>
                    </a:lnTo>
                    <a:lnTo>
                      <a:pt x="219" y="5"/>
                    </a:lnTo>
                    <a:lnTo>
                      <a:pt x="198" y="9"/>
                    </a:lnTo>
                    <a:lnTo>
                      <a:pt x="177" y="13"/>
                    </a:lnTo>
                    <a:lnTo>
                      <a:pt x="156" y="19"/>
                    </a:lnTo>
                    <a:lnTo>
                      <a:pt x="137" y="26"/>
                    </a:lnTo>
                    <a:lnTo>
                      <a:pt x="117" y="34"/>
                    </a:lnTo>
                    <a:lnTo>
                      <a:pt x="98" y="42"/>
                    </a:lnTo>
                    <a:lnTo>
                      <a:pt x="81" y="51"/>
                    </a:lnTo>
                    <a:lnTo>
                      <a:pt x="79" y="53"/>
                    </a:lnTo>
                    <a:lnTo>
                      <a:pt x="79" y="55"/>
                    </a:lnTo>
                    <a:lnTo>
                      <a:pt x="79" y="57"/>
                    </a:lnTo>
                    <a:lnTo>
                      <a:pt x="79" y="59"/>
                    </a:lnTo>
                    <a:lnTo>
                      <a:pt x="77" y="59"/>
                    </a:lnTo>
                    <a:lnTo>
                      <a:pt x="77" y="61"/>
                    </a:lnTo>
                    <a:lnTo>
                      <a:pt x="77" y="63"/>
                    </a:lnTo>
                    <a:lnTo>
                      <a:pt x="77" y="65"/>
                    </a:lnTo>
                    <a:lnTo>
                      <a:pt x="85" y="61"/>
                    </a:lnTo>
                    <a:lnTo>
                      <a:pt x="102" y="51"/>
                    </a:lnTo>
                    <a:lnTo>
                      <a:pt x="121" y="42"/>
                    </a:lnTo>
                    <a:lnTo>
                      <a:pt x="140" y="36"/>
                    </a:lnTo>
                    <a:lnTo>
                      <a:pt x="160" y="28"/>
                    </a:lnTo>
                    <a:lnTo>
                      <a:pt x="179" y="23"/>
                    </a:lnTo>
                    <a:lnTo>
                      <a:pt x="200" y="19"/>
                    </a:lnTo>
                    <a:lnTo>
                      <a:pt x="219" y="15"/>
                    </a:lnTo>
                    <a:lnTo>
                      <a:pt x="240" y="13"/>
                    </a:lnTo>
                    <a:lnTo>
                      <a:pt x="261" y="11"/>
                    </a:lnTo>
                    <a:lnTo>
                      <a:pt x="282" y="9"/>
                    </a:lnTo>
                    <a:lnTo>
                      <a:pt x="304" y="11"/>
                    </a:lnTo>
                    <a:lnTo>
                      <a:pt x="325" y="13"/>
                    </a:lnTo>
                    <a:lnTo>
                      <a:pt x="346" y="15"/>
                    </a:lnTo>
                    <a:lnTo>
                      <a:pt x="348" y="15"/>
                    </a:lnTo>
                    <a:lnTo>
                      <a:pt x="350" y="15"/>
                    </a:lnTo>
                    <a:lnTo>
                      <a:pt x="350" y="13"/>
                    </a:lnTo>
                    <a:lnTo>
                      <a:pt x="350" y="11"/>
                    </a:lnTo>
                    <a:lnTo>
                      <a:pt x="350" y="11"/>
                    </a:lnTo>
                    <a:lnTo>
                      <a:pt x="350" y="9"/>
                    </a:lnTo>
                    <a:lnTo>
                      <a:pt x="350" y="7"/>
                    </a:lnTo>
                    <a:lnTo>
                      <a:pt x="350" y="7"/>
                    </a:lnTo>
                    <a:lnTo>
                      <a:pt x="350" y="5"/>
                    </a:lnTo>
                    <a:close/>
                    <a:moveTo>
                      <a:pt x="2" y="746"/>
                    </a:moveTo>
                    <a:lnTo>
                      <a:pt x="12" y="754"/>
                    </a:lnTo>
                    <a:lnTo>
                      <a:pt x="29" y="767"/>
                    </a:lnTo>
                    <a:lnTo>
                      <a:pt x="44" y="779"/>
                    </a:lnTo>
                    <a:lnTo>
                      <a:pt x="62" y="790"/>
                    </a:lnTo>
                    <a:lnTo>
                      <a:pt x="81" y="800"/>
                    </a:lnTo>
                    <a:lnTo>
                      <a:pt x="98" y="809"/>
                    </a:lnTo>
                    <a:lnTo>
                      <a:pt x="117" y="819"/>
                    </a:lnTo>
                    <a:lnTo>
                      <a:pt x="137" y="827"/>
                    </a:lnTo>
                    <a:lnTo>
                      <a:pt x="156" y="832"/>
                    </a:lnTo>
                    <a:lnTo>
                      <a:pt x="177" y="838"/>
                    </a:lnTo>
                    <a:lnTo>
                      <a:pt x="198" y="844"/>
                    </a:lnTo>
                    <a:lnTo>
                      <a:pt x="219" y="848"/>
                    </a:lnTo>
                    <a:lnTo>
                      <a:pt x="240" y="850"/>
                    </a:lnTo>
                    <a:lnTo>
                      <a:pt x="261" y="851"/>
                    </a:lnTo>
                    <a:lnTo>
                      <a:pt x="282" y="851"/>
                    </a:lnTo>
                    <a:lnTo>
                      <a:pt x="305" y="851"/>
                    </a:lnTo>
                    <a:lnTo>
                      <a:pt x="327" y="850"/>
                    </a:lnTo>
                    <a:lnTo>
                      <a:pt x="348" y="848"/>
                    </a:lnTo>
                    <a:lnTo>
                      <a:pt x="353" y="846"/>
                    </a:lnTo>
                    <a:lnTo>
                      <a:pt x="352" y="846"/>
                    </a:lnTo>
                    <a:lnTo>
                      <a:pt x="352" y="844"/>
                    </a:lnTo>
                    <a:lnTo>
                      <a:pt x="352" y="842"/>
                    </a:lnTo>
                    <a:lnTo>
                      <a:pt x="352" y="842"/>
                    </a:lnTo>
                    <a:lnTo>
                      <a:pt x="352" y="840"/>
                    </a:lnTo>
                    <a:lnTo>
                      <a:pt x="352" y="838"/>
                    </a:lnTo>
                    <a:lnTo>
                      <a:pt x="352" y="838"/>
                    </a:lnTo>
                    <a:lnTo>
                      <a:pt x="352" y="836"/>
                    </a:lnTo>
                    <a:lnTo>
                      <a:pt x="346" y="836"/>
                    </a:lnTo>
                    <a:lnTo>
                      <a:pt x="325" y="840"/>
                    </a:lnTo>
                    <a:lnTo>
                      <a:pt x="304" y="842"/>
                    </a:lnTo>
                    <a:lnTo>
                      <a:pt x="282" y="842"/>
                    </a:lnTo>
                    <a:lnTo>
                      <a:pt x="261" y="842"/>
                    </a:lnTo>
                    <a:lnTo>
                      <a:pt x="240" y="840"/>
                    </a:lnTo>
                    <a:lnTo>
                      <a:pt x="219" y="836"/>
                    </a:lnTo>
                    <a:lnTo>
                      <a:pt x="200" y="832"/>
                    </a:lnTo>
                    <a:lnTo>
                      <a:pt x="179" y="828"/>
                    </a:lnTo>
                    <a:lnTo>
                      <a:pt x="160" y="823"/>
                    </a:lnTo>
                    <a:lnTo>
                      <a:pt x="140" y="817"/>
                    </a:lnTo>
                    <a:lnTo>
                      <a:pt x="121" y="809"/>
                    </a:lnTo>
                    <a:lnTo>
                      <a:pt x="102" y="800"/>
                    </a:lnTo>
                    <a:lnTo>
                      <a:pt x="85" y="792"/>
                    </a:lnTo>
                    <a:lnTo>
                      <a:pt x="67" y="780"/>
                    </a:lnTo>
                    <a:lnTo>
                      <a:pt x="50" y="771"/>
                    </a:lnTo>
                    <a:lnTo>
                      <a:pt x="19" y="746"/>
                    </a:lnTo>
                    <a:lnTo>
                      <a:pt x="0" y="731"/>
                    </a:lnTo>
                    <a:lnTo>
                      <a:pt x="0" y="733"/>
                    </a:lnTo>
                    <a:lnTo>
                      <a:pt x="0" y="734"/>
                    </a:lnTo>
                    <a:lnTo>
                      <a:pt x="0" y="736"/>
                    </a:lnTo>
                    <a:lnTo>
                      <a:pt x="0" y="738"/>
                    </a:lnTo>
                    <a:lnTo>
                      <a:pt x="2" y="740"/>
                    </a:lnTo>
                    <a:lnTo>
                      <a:pt x="2" y="742"/>
                    </a:lnTo>
                    <a:lnTo>
                      <a:pt x="2" y="744"/>
                    </a:lnTo>
                    <a:lnTo>
                      <a:pt x="2" y="746"/>
                    </a:lnTo>
                    <a:close/>
                  </a:path>
                </a:pathLst>
              </a:custGeom>
              <a:solidFill>
                <a:srgbClr val="add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Freeform 183"/>
              <p:cNvSpPr/>
              <p:nvPr/>
            </p:nvSpPr>
            <p:spPr>
              <a:xfrm>
                <a:off x="1810080" y="2464560"/>
                <a:ext cx="592560" cy="1416240"/>
              </a:xfrm>
              <a:custGeom>
                <a:avLst/>
                <a:gdLst>
                  <a:gd name="textAreaLeft" fmla="*/ 0 w 592560"/>
                  <a:gd name="textAreaRight" fmla="*/ 592920 w 592560"/>
                  <a:gd name="textAreaTop" fmla="*/ 0 h 1416240"/>
                  <a:gd name="textAreaBottom" fmla="*/ 1416240 h 1416240"/>
                </a:gdLst>
                <a:ahLst/>
                <a:rect l="textAreaLeft" t="textAreaTop" r="textAreaRight" b="textAreaBottom"/>
                <a:pathLst>
                  <a:path w="352" h="841">
                    <a:moveTo>
                      <a:pt x="350" y="6"/>
                    </a:moveTo>
                    <a:lnTo>
                      <a:pt x="348" y="4"/>
                    </a:lnTo>
                    <a:lnTo>
                      <a:pt x="327" y="2"/>
                    </a:lnTo>
                    <a:lnTo>
                      <a:pt x="305" y="0"/>
                    </a:lnTo>
                    <a:lnTo>
                      <a:pt x="282" y="0"/>
                    </a:lnTo>
                    <a:lnTo>
                      <a:pt x="261" y="0"/>
                    </a:lnTo>
                    <a:lnTo>
                      <a:pt x="240" y="2"/>
                    </a:lnTo>
                    <a:lnTo>
                      <a:pt x="219" y="4"/>
                    </a:lnTo>
                    <a:lnTo>
                      <a:pt x="198" y="8"/>
                    </a:lnTo>
                    <a:lnTo>
                      <a:pt x="179" y="14"/>
                    </a:lnTo>
                    <a:lnTo>
                      <a:pt x="158" y="20"/>
                    </a:lnTo>
                    <a:lnTo>
                      <a:pt x="138" y="25"/>
                    </a:lnTo>
                    <a:lnTo>
                      <a:pt x="119" y="33"/>
                    </a:lnTo>
                    <a:lnTo>
                      <a:pt x="100" y="41"/>
                    </a:lnTo>
                    <a:lnTo>
                      <a:pt x="83" y="50"/>
                    </a:lnTo>
                    <a:lnTo>
                      <a:pt x="79" y="54"/>
                    </a:lnTo>
                    <a:lnTo>
                      <a:pt x="77" y="54"/>
                    </a:lnTo>
                    <a:lnTo>
                      <a:pt x="77" y="56"/>
                    </a:lnTo>
                    <a:lnTo>
                      <a:pt x="77" y="58"/>
                    </a:lnTo>
                    <a:lnTo>
                      <a:pt x="77" y="60"/>
                    </a:lnTo>
                    <a:lnTo>
                      <a:pt x="75" y="62"/>
                    </a:lnTo>
                    <a:lnTo>
                      <a:pt x="75" y="64"/>
                    </a:lnTo>
                    <a:lnTo>
                      <a:pt x="75" y="66"/>
                    </a:lnTo>
                    <a:lnTo>
                      <a:pt x="75" y="67"/>
                    </a:lnTo>
                    <a:lnTo>
                      <a:pt x="87" y="60"/>
                    </a:lnTo>
                    <a:lnTo>
                      <a:pt x="106" y="50"/>
                    </a:lnTo>
                    <a:lnTo>
                      <a:pt x="123" y="43"/>
                    </a:lnTo>
                    <a:lnTo>
                      <a:pt x="142" y="35"/>
                    </a:lnTo>
                    <a:lnTo>
                      <a:pt x="161" y="29"/>
                    </a:lnTo>
                    <a:lnTo>
                      <a:pt x="181" y="23"/>
                    </a:lnTo>
                    <a:lnTo>
                      <a:pt x="200" y="18"/>
                    </a:lnTo>
                    <a:lnTo>
                      <a:pt x="221" y="16"/>
                    </a:lnTo>
                    <a:lnTo>
                      <a:pt x="240" y="12"/>
                    </a:lnTo>
                    <a:lnTo>
                      <a:pt x="261" y="10"/>
                    </a:lnTo>
                    <a:lnTo>
                      <a:pt x="282" y="10"/>
                    </a:lnTo>
                    <a:lnTo>
                      <a:pt x="304" y="10"/>
                    </a:lnTo>
                    <a:lnTo>
                      <a:pt x="325" y="12"/>
                    </a:lnTo>
                    <a:lnTo>
                      <a:pt x="346" y="16"/>
                    </a:lnTo>
                    <a:lnTo>
                      <a:pt x="348" y="16"/>
                    </a:lnTo>
                    <a:lnTo>
                      <a:pt x="348" y="14"/>
                    </a:lnTo>
                    <a:lnTo>
                      <a:pt x="348" y="12"/>
                    </a:lnTo>
                    <a:lnTo>
                      <a:pt x="348" y="12"/>
                    </a:lnTo>
                    <a:lnTo>
                      <a:pt x="348" y="10"/>
                    </a:lnTo>
                    <a:lnTo>
                      <a:pt x="350" y="8"/>
                    </a:lnTo>
                    <a:lnTo>
                      <a:pt x="350" y="8"/>
                    </a:lnTo>
                    <a:lnTo>
                      <a:pt x="350" y="6"/>
                    </a:lnTo>
                    <a:lnTo>
                      <a:pt x="350" y="6"/>
                    </a:lnTo>
                    <a:close/>
                    <a:moveTo>
                      <a:pt x="2" y="733"/>
                    </a:moveTo>
                    <a:lnTo>
                      <a:pt x="16" y="745"/>
                    </a:lnTo>
                    <a:lnTo>
                      <a:pt x="31" y="758"/>
                    </a:lnTo>
                    <a:lnTo>
                      <a:pt x="48" y="770"/>
                    </a:lnTo>
                    <a:lnTo>
                      <a:pt x="66" y="781"/>
                    </a:lnTo>
                    <a:lnTo>
                      <a:pt x="83" y="791"/>
                    </a:lnTo>
                    <a:lnTo>
                      <a:pt x="100" y="800"/>
                    </a:lnTo>
                    <a:lnTo>
                      <a:pt x="119" y="808"/>
                    </a:lnTo>
                    <a:lnTo>
                      <a:pt x="138" y="816"/>
                    </a:lnTo>
                    <a:lnTo>
                      <a:pt x="158" y="823"/>
                    </a:lnTo>
                    <a:lnTo>
                      <a:pt x="179" y="829"/>
                    </a:lnTo>
                    <a:lnTo>
                      <a:pt x="198" y="833"/>
                    </a:lnTo>
                    <a:lnTo>
                      <a:pt x="219" y="837"/>
                    </a:lnTo>
                    <a:lnTo>
                      <a:pt x="240" y="839"/>
                    </a:lnTo>
                    <a:lnTo>
                      <a:pt x="261" y="841"/>
                    </a:lnTo>
                    <a:lnTo>
                      <a:pt x="282" y="841"/>
                    </a:lnTo>
                    <a:lnTo>
                      <a:pt x="305" y="841"/>
                    </a:lnTo>
                    <a:lnTo>
                      <a:pt x="327" y="839"/>
                    </a:lnTo>
                    <a:lnTo>
                      <a:pt x="348" y="837"/>
                    </a:lnTo>
                    <a:lnTo>
                      <a:pt x="352" y="837"/>
                    </a:lnTo>
                    <a:lnTo>
                      <a:pt x="352" y="835"/>
                    </a:lnTo>
                    <a:lnTo>
                      <a:pt x="352" y="833"/>
                    </a:lnTo>
                    <a:lnTo>
                      <a:pt x="352" y="833"/>
                    </a:lnTo>
                    <a:lnTo>
                      <a:pt x="352" y="831"/>
                    </a:lnTo>
                    <a:lnTo>
                      <a:pt x="350" y="829"/>
                    </a:lnTo>
                    <a:lnTo>
                      <a:pt x="350" y="829"/>
                    </a:lnTo>
                    <a:lnTo>
                      <a:pt x="350" y="827"/>
                    </a:lnTo>
                    <a:lnTo>
                      <a:pt x="350" y="825"/>
                    </a:lnTo>
                    <a:lnTo>
                      <a:pt x="346" y="827"/>
                    </a:lnTo>
                    <a:lnTo>
                      <a:pt x="325" y="829"/>
                    </a:lnTo>
                    <a:lnTo>
                      <a:pt x="304" y="831"/>
                    </a:lnTo>
                    <a:lnTo>
                      <a:pt x="282" y="831"/>
                    </a:lnTo>
                    <a:lnTo>
                      <a:pt x="261" y="831"/>
                    </a:lnTo>
                    <a:lnTo>
                      <a:pt x="240" y="829"/>
                    </a:lnTo>
                    <a:lnTo>
                      <a:pt x="221" y="827"/>
                    </a:lnTo>
                    <a:lnTo>
                      <a:pt x="200" y="823"/>
                    </a:lnTo>
                    <a:lnTo>
                      <a:pt x="181" y="818"/>
                    </a:lnTo>
                    <a:lnTo>
                      <a:pt x="161" y="814"/>
                    </a:lnTo>
                    <a:lnTo>
                      <a:pt x="142" y="806"/>
                    </a:lnTo>
                    <a:lnTo>
                      <a:pt x="123" y="798"/>
                    </a:lnTo>
                    <a:lnTo>
                      <a:pt x="106" y="791"/>
                    </a:lnTo>
                    <a:lnTo>
                      <a:pt x="87" y="781"/>
                    </a:lnTo>
                    <a:lnTo>
                      <a:pt x="69" y="772"/>
                    </a:lnTo>
                    <a:lnTo>
                      <a:pt x="54" y="762"/>
                    </a:lnTo>
                    <a:lnTo>
                      <a:pt x="21" y="737"/>
                    </a:lnTo>
                    <a:lnTo>
                      <a:pt x="0" y="718"/>
                    </a:lnTo>
                    <a:lnTo>
                      <a:pt x="0" y="720"/>
                    </a:lnTo>
                    <a:lnTo>
                      <a:pt x="0" y="722"/>
                    </a:lnTo>
                    <a:lnTo>
                      <a:pt x="0" y="724"/>
                    </a:lnTo>
                    <a:lnTo>
                      <a:pt x="0" y="726"/>
                    </a:lnTo>
                    <a:lnTo>
                      <a:pt x="0" y="728"/>
                    </a:lnTo>
                    <a:lnTo>
                      <a:pt x="0" y="729"/>
                    </a:lnTo>
                    <a:lnTo>
                      <a:pt x="0" y="731"/>
                    </a:lnTo>
                    <a:lnTo>
                      <a:pt x="2" y="733"/>
                    </a:lnTo>
                    <a:close/>
                  </a:path>
                </a:pathLst>
              </a:custGeom>
              <a:solidFill>
                <a:srgbClr val="aed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Freeform 184"/>
              <p:cNvSpPr/>
              <p:nvPr/>
            </p:nvSpPr>
            <p:spPr>
              <a:xfrm>
                <a:off x="1810080" y="2471400"/>
                <a:ext cx="592560" cy="1402200"/>
              </a:xfrm>
              <a:custGeom>
                <a:avLst/>
                <a:gdLst>
                  <a:gd name="textAreaLeft" fmla="*/ 0 w 592560"/>
                  <a:gd name="textAreaRight" fmla="*/ 592920 w 592560"/>
                  <a:gd name="textAreaTop" fmla="*/ 0 h 1402200"/>
                  <a:gd name="textAreaBottom" fmla="*/ 1402560 h 1402200"/>
                </a:gdLst>
                <a:ahLst/>
                <a:rect l="textAreaLeft" t="textAreaTop" r="textAreaRight" b="textAreaBottom"/>
                <a:pathLst>
                  <a:path w="352" h="833">
                    <a:moveTo>
                      <a:pt x="348" y="6"/>
                    </a:moveTo>
                    <a:lnTo>
                      <a:pt x="346" y="6"/>
                    </a:lnTo>
                    <a:lnTo>
                      <a:pt x="325" y="4"/>
                    </a:lnTo>
                    <a:lnTo>
                      <a:pt x="304" y="2"/>
                    </a:lnTo>
                    <a:lnTo>
                      <a:pt x="282" y="0"/>
                    </a:lnTo>
                    <a:lnTo>
                      <a:pt x="261" y="2"/>
                    </a:lnTo>
                    <a:lnTo>
                      <a:pt x="240" y="4"/>
                    </a:lnTo>
                    <a:lnTo>
                      <a:pt x="219" y="6"/>
                    </a:lnTo>
                    <a:lnTo>
                      <a:pt x="200" y="10"/>
                    </a:lnTo>
                    <a:lnTo>
                      <a:pt x="179" y="14"/>
                    </a:lnTo>
                    <a:lnTo>
                      <a:pt x="160" y="19"/>
                    </a:lnTo>
                    <a:lnTo>
                      <a:pt x="140" y="27"/>
                    </a:lnTo>
                    <a:lnTo>
                      <a:pt x="121" y="33"/>
                    </a:lnTo>
                    <a:lnTo>
                      <a:pt x="102" y="42"/>
                    </a:lnTo>
                    <a:lnTo>
                      <a:pt x="85" y="52"/>
                    </a:lnTo>
                    <a:lnTo>
                      <a:pt x="77" y="56"/>
                    </a:lnTo>
                    <a:lnTo>
                      <a:pt x="75" y="58"/>
                    </a:lnTo>
                    <a:lnTo>
                      <a:pt x="75" y="60"/>
                    </a:lnTo>
                    <a:lnTo>
                      <a:pt x="75" y="62"/>
                    </a:lnTo>
                    <a:lnTo>
                      <a:pt x="73" y="63"/>
                    </a:lnTo>
                    <a:lnTo>
                      <a:pt x="73" y="65"/>
                    </a:lnTo>
                    <a:lnTo>
                      <a:pt x="73" y="67"/>
                    </a:lnTo>
                    <a:lnTo>
                      <a:pt x="73" y="69"/>
                    </a:lnTo>
                    <a:lnTo>
                      <a:pt x="71" y="71"/>
                    </a:lnTo>
                    <a:lnTo>
                      <a:pt x="90" y="60"/>
                    </a:lnTo>
                    <a:lnTo>
                      <a:pt x="125" y="42"/>
                    </a:lnTo>
                    <a:lnTo>
                      <a:pt x="144" y="37"/>
                    </a:lnTo>
                    <a:lnTo>
                      <a:pt x="161" y="29"/>
                    </a:lnTo>
                    <a:lnTo>
                      <a:pt x="183" y="23"/>
                    </a:lnTo>
                    <a:lnTo>
                      <a:pt x="202" y="19"/>
                    </a:lnTo>
                    <a:lnTo>
                      <a:pt x="221" y="16"/>
                    </a:lnTo>
                    <a:lnTo>
                      <a:pt x="242" y="14"/>
                    </a:lnTo>
                    <a:lnTo>
                      <a:pt x="261" y="12"/>
                    </a:lnTo>
                    <a:lnTo>
                      <a:pt x="282" y="12"/>
                    </a:lnTo>
                    <a:lnTo>
                      <a:pt x="304" y="12"/>
                    </a:lnTo>
                    <a:lnTo>
                      <a:pt x="325" y="14"/>
                    </a:lnTo>
                    <a:lnTo>
                      <a:pt x="344" y="16"/>
                    </a:lnTo>
                    <a:lnTo>
                      <a:pt x="346" y="16"/>
                    </a:lnTo>
                    <a:lnTo>
                      <a:pt x="346" y="16"/>
                    </a:lnTo>
                    <a:lnTo>
                      <a:pt x="348" y="14"/>
                    </a:lnTo>
                    <a:lnTo>
                      <a:pt x="348" y="12"/>
                    </a:lnTo>
                    <a:lnTo>
                      <a:pt x="348" y="12"/>
                    </a:lnTo>
                    <a:lnTo>
                      <a:pt x="348" y="10"/>
                    </a:lnTo>
                    <a:lnTo>
                      <a:pt x="348" y="8"/>
                    </a:lnTo>
                    <a:lnTo>
                      <a:pt x="348" y="8"/>
                    </a:lnTo>
                    <a:lnTo>
                      <a:pt x="348" y="6"/>
                    </a:lnTo>
                    <a:close/>
                    <a:moveTo>
                      <a:pt x="0" y="722"/>
                    </a:moveTo>
                    <a:lnTo>
                      <a:pt x="19" y="737"/>
                    </a:lnTo>
                    <a:lnTo>
                      <a:pt x="50" y="762"/>
                    </a:lnTo>
                    <a:lnTo>
                      <a:pt x="67" y="771"/>
                    </a:lnTo>
                    <a:lnTo>
                      <a:pt x="85" y="783"/>
                    </a:lnTo>
                    <a:lnTo>
                      <a:pt x="102" y="791"/>
                    </a:lnTo>
                    <a:lnTo>
                      <a:pt x="121" y="800"/>
                    </a:lnTo>
                    <a:lnTo>
                      <a:pt x="140" y="808"/>
                    </a:lnTo>
                    <a:lnTo>
                      <a:pt x="160" y="814"/>
                    </a:lnTo>
                    <a:lnTo>
                      <a:pt x="179" y="819"/>
                    </a:lnTo>
                    <a:lnTo>
                      <a:pt x="200" y="823"/>
                    </a:lnTo>
                    <a:lnTo>
                      <a:pt x="219" y="827"/>
                    </a:lnTo>
                    <a:lnTo>
                      <a:pt x="240" y="831"/>
                    </a:lnTo>
                    <a:lnTo>
                      <a:pt x="261" y="833"/>
                    </a:lnTo>
                    <a:lnTo>
                      <a:pt x="282" y="833"/>
                    </a:lnTo>
                    <a:lnTo>
                      <a:pt x="304" y="833"/>
                    </a:lnTo>
                    <a:lnTo>
                      <a:pt x="325" y="831"/>
                    </a:lnTo>
                    <a:lnTo>
                      <a:pt x="346" y="827"/>
                    </a:lnTo>
                    <a:lnTo>
                      <a:pt x="352" y="827"/>
                    </a:lnTo>
                    <a:lnTo>
                      <a:pt x="350" y="825"/>
                    </a:lnTo>
                    <a:lnTo>
                      <a:pt x="350" y="825"/>
                    </a:lnTo>
                    <a:lnTo>
                      <a:pt x="350" y="823"/>
                    </a:lnTo>
                    <a:lnTo>
                      <a:pt x="350" y="821"/>
                    </a:lnTo>
                    <a:lnTo>
                      <a:pt x="350" y="821"/>
                    </a:lnTo>
                    <a:lnTo>
                      <a:pt x="350" y="819"/>
                    </a:lnTo>
                    <a:lnTo>
                      <a:pt x="350" y="818"/>
                    </a:lnTo>
                    <a:lnTo>
                      <a:pt x="350" y="818"/>
                    </a:lnTo>
                    <a:lnTo>
                      <a:pt x="344" y="818"/>
                    </a:lnTo>
                    <a:lnTo>
                      <a:pt x="325" y="819"/>
                    </a:lnTo>
                    <a:lnTo>
                      <a:pt x="304" y="821"/>
                    </a:lnTo>
                    <a:lnTo>
                      <a:pt x="282" y="821"/>
                    </a:lnTo>
                    <a:lnTo>
                      <a:pt x="261" y="821"/>
                    </a:lnTo>
                    <a:lnTo>
                      <a:pt x="242" y="819"/>
                    </a:lnTo>
                    <a:lnTo>
                      <a:pt x="221" y="818"/>
                    </a:lnTo>
                    <a:lnTo>
                      <a:pt x="202" y="814"/>
                    </a:lnTo>
                    <a:lnTo>
                      <a:pt x="183" y="810"/>
                    </a:lnTo>
                    <a:lnTo>
                      <a:pt x="161" y="804"/>
                    </a:lnTo>
                    <a:lnTo>
                      <a:pt x="144" y="798"/>
                    </a:lnTo>
                    <a:lnTo>
                      <a:pt x="125" y="791"/>
                    </a:lnTo>
                    <a:lnTo>
                      <a:pt x="90" y="773"/>
                    </a:lnTo>
                    <a:lnTo>
                      <a:pt x="56" y="752"/>
                    </a:lnTo>
                    <a:lnTo>
                      <a:pt x="25" y="729"/>
                    </a:lnTo>
                    <a:lnTo>
                      <a:pt x="0" y="706"/>
                    </a:lnTo>
                    <a:lnTo>
                      <a:pt x="0" y="708"/>
                    </a:lnTo>
                    <a:lnTo>
                      <a:pt x="0" y="710"/>
                    </a:lnTo>
                    <a:lnTo>
                      <a:pt x="0" y="712"/>
                    </a:lnTo>
                    <a:lnTo>
                      <a:pt x="0" y="714"/>
                    </a:lnTo>
                    <a:lnTo>
                      <a:pt x="0" y="716"/>
                    </a:lnTo>
                    <a:lnTo>
                      <a:pt x="0" y="718"/>
                    </a:lnTo>
                    <a:lnTo>
                      <a:pt x="0" y="720"/>
                    </a:lnTo>
                    <a:lnTo>
                      <a:pt x="0" y="722"/>
                    </a:lnTo>
                    <a:close/>
                  </a:path>
                </a:pathLst>
              </a:custGeom>
              <a:solidFill>
                <a:srgbClr val="af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Freeform 185"/>
              <p:cNvSpPr/>
              <p:nvPr/>
            </p:nvSpPr>
            <p:spPr>
              <a:xfrm>
                <a:off x="1806480" y="2481120"/>
                <a:ext cx="592920" cy="1382400"/>
              </a:xfrm>
              <a:custGeom>
                <a:avLst/>
                <a:gdLst>
                  <a:gd name="textAreaLeft" fmla="*/ 0 w 592920"/>
                  <a:gd name="textAreaRight" fmla="*/ 593280 w 592920"/>
                  <a:gd name="textAreaTop" fmla="*/ 0 h 1382400"/>
                  <a:gd name="textAreaBottom" fmla="*/ 1382760 h 1382400"/>
                </a:gdLst>
                <a:ahLst/>
                <a:rect l="textAreaLeft" t="textAreaTop" r="textAreaRight" b="textAreaBottom"/>
                <a:pathLst>
                  <a:path w="352" h="821">
                    <a:moveTo>
                      <a:pt x="350" y="6"/>
                    </a:moveTo>
                    <a:lnTo>
                      <a:pt x="348" y="6"/>
                    </a:lnTo>
                    <a:lnTo>
                      <a:pt x="327" y="2"/>
                    </a:lnTo>
                    <a:lnTo>
                      <a:pt x="306" y="0"/>
                    </a:lnTo>
                    <a:lnTo>
                      <a:pt x="284" y="0"/>
                    </a:lnTo>
                    <a:lnTo>
                      <a:pt x="263" y="0"/>
                    </a:lnTo>
                    <a:lnTo>
                      <a:pt x="242" y="2"/>
                    </a:lnTo>
                    <a:lnTo>
                      <a:pt x="223" y="6"/>
                    </a:lnTo>
                    <a:lnTo>
                      <a:pt x="202" y="8"/>
                    </a:lnTo>
                    <a:lnTo>
                      <a:pt x="183" y="13"/>
                    </a:lnTo>
                    <a:lnTo>
                      <a:pt x="163" y="19"/>
                    </a:lnTo>
                    <a:lnTo>
                      <a:pt x="144" y="25"/>
                    </a:lnTo>
                    <a:lnTo>
                      <a:pt x="125" y="33"/>
                    </a:lnTo>
                    <a:lnTo>
                      <a:pt x="108" y="40"/>
                    </a:lnTo>
                    <a:lnTo>
                      <a:pt x="89" y="50"/>
                    </a:lnTo>
                    <a:lnTo>
                      <a:pt x="77" y="57"/>
                    </a:lnTo>
                    <a:lnTo>
                      <a:pt x="75" y="59"/>
                    </a:lnTo>
                    <a:lnTo>
                      <a:pt x="75" y="61"/>
                    </a:lnTo>
                    <a:lnTo>
                      <a:pt x="75" y="63"/>
                    </a:lnTo>
                    <a:lnTo>
                      <a:pt x="73" y="65"/>
                    </a:lnTo>
                    <a:lnTo>
                      <a:pt x="73" y="67"/>
                    </a:lnTo>
                    <a:lnTo>
                      <a:pt x="73" y="69"/>
                    </a:lnTo>
                    <a:lnTo>
                      <a:pt x="73" y="71"/>
                    </a:lnTo>
                    <a:lnTo>
                      <a:pt x="71" y="73"/>
                    </a:lnTo>
                    <a:lnTo>
                      <a:pt x="94" y="59"/>
                    </a:lnTo>
                    <a:lnTo>
                      <a:pt x="129" y="42"/>
                    </a:lnTo>
                    <a:lnTo>
                      <a:pt x="148" y="34"/>
                    </a:lnTo>
                    <a:lnTo>
                      <a:pt x="165" y="29"/>
                    </a:lnTo>
                    <a:lnTo>
                      <a:pt x="185" y="23"/>
                    </a:lnTo>
                    <a:lnTo>
                      <a:pt x="204" y="19"/>
                    </a:lnTo>
                    <a:lnTo>
                      <a:pt x="225" y="15"/>
                    </a:lnTo>
                    <a:lnTo>
                      <a:pt x="244" y="13"/>
                    </a:lnTo>
                    <a:lnTo>
                      <a:pt x="265" y="11"/>
                    </a:lnTo>
                    <a:lnTo>
                      <a:pt x="284" y="10"/>
                    </a:lnTo>
                    <a:lnTo>
                      <a:pt x="306" y="11"/>
                    </a:lnTo>
                    <a:lnTo>
                      <a:pt x="327" y="13"/>
                    </a:lnTo>
                    <a:lnTo>
                      <a:pt x="346" y="15"/>
                    </a:lnTo>
                    <a:lnTo>
                      <a:pt x="348" y="15"/>
                    </a:lnTo>
                    <a:lnTo>
                      <a:pt x="348" y="13"/>
                    </a:lnTo>
                    <a:lnTo>
                      <a:pt x="348" y="13"/>
                    </a:lnTo>
                    <a:lnTo>
                      <a:pt x="348" y="11"/>
                    </a:lnTo>
                    <a:lnTo>
                      <a:pt x="348" y="10"/>
                    </a:lnTo>
                    <a:lnTo>
                      <a:pt x="348" y="10"/>
                    </a:lnTo>
                    <a:lnTo>
                      <a:pt x="350" y="8"/>
                    </a:lnTo>
                    <a:lnTo>
                      <a:pt x="350" y="6"/>
                    </a:lnTo>
                    <a:lnTo>
                      <a:pt x="350" y="6"/>
                    </a:lnTo>
                    <a:close/>
                    <a:moveTo>
                      <a:pt x="2" y="708"/>
                    </a:moveTo>
                    <a:lnTo>
                      <a:pt x="23" y="727"/>
                    </a:lnTo>
                    <a:lnTo>
                      <a:pt x="56" y="752"/>
                    </a:lnTo>
                    <a:lnTo>
                      <a:pt x="71" y="762"/>
                    </a:lnTo>
                    <a:lnTo>
                      <a:pt x="89" y="771"/>
                    </a:lnTo>
                    <a:lnTo>
                      <a:pt x="108" y="781"/>
                    </a:lnTo>
                    <a:lnTo>
                      <a:pt x="125" y="788"/>
                    </a:lnTo>
                    <a:lnTo>
                      <a:pt x="144" y="796"/>
                    </a:lnTo>
                    <a:lnTo>
                      <a:pt x="163" y="804"/>
                    </a:lnTo>
                    <a:lnTo>
                      <a:pt x="183" y="808"/>
                    </a:lnTo>
                    <a:lnTo>
                      <a:pt x="202" y="813"/>
                    </a:lnTo>
                    <a:lnTo>
                      <a:pt x="223" y="817"/>
                    </a:lnTo>
                    <a:lnTo>
                      <a:pt x="242" y="819"/>
                    </a:lnTo>
                    <a:lnTo>
                      <a:pt x="263" y="821"/>
                    </a:lnTo>
                    <a:lnTo>
                      <a:pt x="284" y="821"/>
                    </a:lnTo>
                    <a:lnTo>
                      <a:pt x="306" y="821"/>
                    </a:lnTo>
                    <a:lnTo>
                      <a:pt x="327" y="819"/>
                    </a:lnTo>
                    <a:lnTo>
                      <a:pt x="348" y="817"/>
                    </a:lnTo>
                    <a:lnTo>
                      <a:pt x="352" y="815"/>
                    </a:lnTo>
                    <a:lnTo>
                      <a:pt x="352" y="815"/>
                    </a:lnTo>
                    <a:lnTo>
                      <a:pt x="352" y="813"/>
                    </a:lnTo>
                    <a:lnTo>
                      <a:pt x="352" y="812"/>
                    </a:lnTo>
                    <a:lnTo>
                      <a:pt x="352" y="812"/>
                    </a:lnTo>
                    <a:lnTo>
                      <a:pt x="350" y="810"/>
                    </a:lnTo>
                    <a:lnTo>
                      <a:pt x="350" y="808"/>
                    </a:lnTo>
                    <a:lnTo>
                      <a:pt x="350" y="808"/>
                    </a:lnTo>
                    <a:lnTo>
                      <a:pt x="350" y="806"/>
                    </a:lnTo>
                    <a:lnTo>
                      <a:pt x="346" y="806"/>
                    </a:lnTo>
                    <a:lnTo>
                      <a:pt x="327" y="810"/>
                    </a:lnTo>
                    <a:lnTo>
                      <a:pt x="306" y="812"/>
                    </a:lnTo>
                    <a:lnTo>
                      <a:pt x="284" y="812"/>
                    </a:lnTo>
                    <a:lnTo>
                      <a:pt x="265" y="812"/>
                    </a:lnTo>
                    <a:lnTo>
                      <a:pt x="244" y="810"/>
                    </a:lnTo>
                    <a:lnTo>
                      <a:pt x="225" y="806"/>
                    </a:lnTo>
                    <a:lnTo>
                      <a:pt x="204" y="804"/>
                    </a:lnTo>
                    <a:lnTo>
                      <a:pt x="185" y="798"/>
                    </a:lnTo>
                    <a:lnTo>
                      <a:pt x="165" y="792"/>
                    </a:lnTo>
                    <a:lnTo>
                      <a:pt x="148" y="787"/>
                    </a:lnTo>
                    <a:lnTo>
                      <a:pt x="129" y="779"/>
                    </a:lnTo>
                    <a:lnTo>
                      <a:pt x="94" y="764"/>
                    </a:lnTo>
                    <a:lnTo>
                      <a:pt x="62" y="742"/>
                    </a:lnTo>
                    <a:lnTo>
                      <a:pt x="31" y="719"/>
                    </a:lnTo>
                    <a:lnTo>
                      <a:pt x="2" y="694"/>
                    </a:lnTo>
                    <a:lnTo>
                      <a:pt x="0" y="693"/>
                    </a:lnTo>
                    <a:lnTo>
                      <a:pt x="2" y="694"/>
                    </a:lnTo>
                    <a:lnTo>
                      <a:pt x="2" y="696"/>
                    </a:lnTo>
                    <a:lnTo>
                      <a:pt x="2" y="698"/>
                    </a:lnTo>
                    <a:lnTo>
                      <a:pt x="2" y="700"/>
                    </a:lnTo>
                    <a:lnTo>
                      <a:pt x="2" y="702"/>
                    </a:lnTo>
                    <a:lnTo>
                      <a:pt x="2" y="704"/>
                    </a:lnTo>
                    <a:lnTo>
                      <a:pt x="2" y="706"/>
                    </a:lnTo>
                    <a:lnTo>
                      <a:pt x="2" y="708"/>
                    </a:lnTo>
                    <a:close/>
                  </a:path>
                </a:pathLst>
              </a:custGeom>
              <a:solidFill>
                <a:srgbClr val="b0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Freeform 186"/>
              <p:cNvSpPr/>
              <p:nvPr/>
            </p:nvSpPr>
            <p:spPr>
              <a:xfrm>
                <a:off x="1806480" y="2491560"/>
                <a:ext cx="592920" cy="1361880"/>
              </a:xfrm>
              <a:custGeom>
                <a:avLst/>
                <a:gdLst>
                  <a:gd name="textAreaLeft" fmla="*/ 0 w 592920"/>
                  <a:gd name="textAreaRight" fmla="*/ 593280 w 592920"/>
                  <a:gd name="textAreaTop" fmla="*/ 0 h 1361880"/>
                  <a:gd name="textAreaBottom" fmla="*/ 1361880 h 1361880"/>
                </a:gdLst>
                <a:ahLst/>
                <a:rect l="textAreaLeft" t="textAreaTop" r="textAreaRight" b="textAreaBottom"/>
                <a:pathLst>
                  <a:path w="352" h="809">
                    <a:moveTo>
                      <a:pt x="348" y="4"/>
                    </a:moveTo>
                    <a:lnTo>
                      <a:pt x="346" y="4"/>
                    </a:lnTo>
                    <a:lnTo>
                      <a:pt x="327" y="2"/>
                    </a:lnTo>
                    <a:lnTo>
                      <a:pt x="306" y="0"/>
                    </a:lnTo>
                    <a:lnTo>
                      <a:pt x="284" y="0"/>
                    </a:lnTo>
                    <a:lnTo>
                      <a:pt x="263" y="0"/>
                    </a:lnTo>
                    <a:lnTo>
                      <a:pt x="244" y="2"/>
                    </a:lnTo>
                    <a:lnTo>
                      <a:pt x="223" y="4"/>
                    </a:lnTo>
                    <a:lnTo>
                      <a:pt x="204" y="7"/>
                    </a:lnTo>
                    <a:lnTo>
                      <a:pt x="185" y="11"/>
                    </a:lnTo>
                    <a:lnTo>
                      <a:pt x="163" y="17"/>
                    </a:lnTo>
                    <a:lnTo>
                      <a:pt x="146" y="25"/>
                    </a:lnTo>
                    <a:lnTo>
                      <a:pt x="127" y="30"/>
                    </a:lnTo>
                    <a:lnTo>
                      <a:pt x="92" y="48"/>
                    </a:lnTo>
                    <a:lnTo>
                      <a:pt x="73" y="59"/>
                    </a:lnTo>
                    <a:lnTo>
                      <a:pt x="73" y="61"/>
                    </a:lnTo>
                    <a:lnTo>
                      <a:pt x="73" y="63"/>
                    </a:lnTo>
                    <a:lnTo>
                      <a:pt x="73" y="65"/>
                    </a:lnTo>
                    <a:lnTo>
                      <a:pt x="71" y="67"/>
                    </a:lnTo>
                    <a:lnTo>
                      <a:pt x="71" y="69"/>
                    </a:lnTo>
                    <a:lnTo>
                      <a:pt x="71" y="69"/>
                    </a:lnTo>
                    <a:lnTo>
                      <a:pt x="71" y="71"/>
                    </a:lnTo>
                    <a:lnTo>
                      <a:pt x="69" y="73"/>
                    </a:lnTo>
                    <a:lnTo>
                      <a:pt x="96" y="57"/>
                    </a:lnTo>
                    <a:lnTo>
                      <a:pt x="131" y="40"/>
                    </a:lnTo>
                    <a:lnTo>
                      <a:pt x="150" y="34"/>
                    </a:lnTo>
                    <a:lnTo>
                      <a:pt x="167" y="27"/>
                    </a:lnTo>
                    <a:lnTo>
                      <a:pt x="187" y="23"/>
                    </a:lnTo>
                    <a:lnTo>
                      <a:pt x="206" y="17"/>
                    </a:lnTo>
                    <a:lnTo>
                      <a:pt x="225" y="15"/>
                    </a:lnTo>
                    <a:lnTo>
                      <a:pt x="244" y="11"/>
                    </a:lnTo>
                    <a:lnTo>
                      <a:pt x="265" y="9"/>
                    </a:lnTo>
                    <a:lnTo>
                      <a:pt x="284" y="9"/>
                    </a:lnTo>
                    <a:lnTo>
                      <a:pt x="306" y="9"/>
                    </a:lnTo>
                    <a:lnTo>
                      <a:pt x="325" y="11"/>
                    </a:lnTo>
                    <a:lnTo>
                      <a:pt x="346" y="15"/>
                    </a:lnTo>
                    <a:lnTo>
                      <a:pt x="346" y="15"/>
                    </a:lnTo>
                    <a:lnTo>
                      <a:pt x="346" y="13"/>
                    </a:lnTo>
                    <a:lnTo>
                      <a:pt x="348" y="11"/>
                    </a:lnTo>
                    <a:lnTo>
                      <a:pt x="348" y="11"/>
                    </a:lnTo>
                    <a:lnTo>
                      <a:pt x="348" y="9"/>
                    </a:lnTo>
                    <a:lnTo>
                      <a:pt x="348" y="7"/>
                    </a:lnTo>
                    <a:lnTo>
                      <a:pt x="348" y="7"/>
                    </a:lnTo>
                    <a:lnTo>
                      <a:pt x="348" y="5"/>
                    </a:lnTo>
                    <a:lnTo>
                      <a:pt x="348" y="4"/>
                    </a:lnTo>
                    <a:close/>
                    <a:moveTo>
                      <a:pt x="2" y="694"/>
                    </a:moveTo>
                    <a:lnTo>
                      <a:pt x="27" y="717"/>
                    </a:lnTo>
                    <a:lnTo>
                      <a:pt x="58" y="740"/>
                    </a:lnTo>
                    <a:lnTo>
                      <a:pt x="92" y="761"/>
                    </a:lnTo>
                    <a:lnTo>
                      <a:pt x="127" y="779"/>
                    </a:lnTo>
                    <a:lnTo>
                      <a:pt x="146" y="786"/>
                    </a:lnTo>
                    <a:lnTo>
                      <a:pt x="163" y="792"/>
                    </a:lnTo>
                    <a:lnTo>
                      <a:pt x="185" y="798"/>
                    </a:lnTo>
                    <a:lnTo>
                      <a:pt x="204" y="802"/>
                    </a:lnTo>
                    <a:lnTo>
                      <a:pt x="223" y="806"/>
                    </a:lnTo>
                    <a:lnTo>
                      <a:pt x="244" y="807"/>
                    </a:lnTo>
                    <a:lnTo>
                      <a:pt x="263" y="809"/>
                    </a:lnTo>
                    <a:lnTo>
                      <a:pt x="284" y="809"/>
                    </a:lnTo>
                    <a:lnTo>
                      <a:pt x="306" y="809"/>
                    </a:lnTo>
                    <a:lnTo>
                      <a:pt x="327" y="807"/>
                    </a:lnTo>
                    <a:lnTo>
                      <a:pt x="346" y="806"/>
                    </a:lnTo>
                    <a:lnTo>
                      <a:pt x="352" y="806"/>
                    </a:lnTo>
                    <a:lnTo>
                      <a:pt x="350" y="804"/>
                    </a:lnTo>
                    <a:lnTo>
                      <a:pt x="350" y="802"/>
                    </a:lnTo>
                    <a:lnTo>
                      <a:pt x="350" y="802"/>
                    </a:lnTo>
                    <a:lnTo>
                      <a:pt x="350" y="800"/>
                    </a:lnTo>
                    <a:lnTo>
                      <a:pt x="350" y="798"/>
                    </a:lnTo>
                    <a:lnTo>
                      <a:pt x="350" y="798"/>
                    </a:lnTo>
                    <a:lnTo>
                      <a:pt x="350" y="796"/>
                    </a:lnTo>
                    <a:lnTo>
                      <a:pt x="350" y="794"/>
                    </a:lnTo>
                    <a:lnTo>
                      <a:pt x="346" y="796"/>
                    </a:lnTo>
                    <a:lnTo>
                      <a:pt x="325" y="798"/>
                    </a:lnTo>
                    <a:lnTo>
                      <a:pt x="306" y="800"/>
                    </a:lnTo>
                    <a:lnTo>
                      <a:pt x="284" y="800"/>
                    </a:lnTo>
                    <a:lnTo>
                      <a:pt x="265" y="800"/>
                    </a:lnTo>
                    <a:lnTo>
                      <a:pt x="244" y="798"/>
                    </a:lnTo>
                    <a:lnTo>
                      <a:pt x="225" y="796"/>
                    </a:lnTo>
                    <a:lnTo>
                      <a:pt x="206" y="792"/>
                    </a:lnTo>
                    <a:lnTo>
                      <a:pt x="187" y="788"/>
                    </a:lnTo>
                    <a:lnTo>
                      <a:pt x="167" y="782"/>
                    </a:lnTo>
                    <a:lnTo>
                      <a:pt x="150" y="777"/>
                    </a:lnTo>
                    <a:lnTo>
                      <a:pt x="131" y="769"/>
                    </a:lnTo>
                    <a:lnTo>
                      <a:pt x="96" y="752"/>
                    </a:lnTo>
                    <a:lnTo>
                      <a:pt x="64" y="733"/>
                    </a:lnTo>
                    <a:lnTo>
                      <a:pt x="33" y="710"/>
                    </a:lnTo>
                    <a:lnTo>
                      <a:pt x="6" y="685"/>
                    </a:lnTo>
                    <a:lnTo>
                      <a:pt x="0" y="679"/>
                    </a:lnTo>
                    <a:lnTo>
                      <a:pt x="0" y="681"/>
                    </a:lnTo>
                    <a:lnTo>
                      <a:pt x="0" y="683"/>
                    </a:lnTo>
                    <a:lnTo>
                      <a:pt x="0" y="685"/>
                    </a:lnTo>
                    <a:lnTo>
                      <a:pt x="0" y="687"/>
                    </a:lnTo>
                    <a:lnTo>
                      <a:pt x="2" y="688"/>
                    </a:lnTo>
                    <a:lnTo>
                      <a:pt x="2" y="690"/>
                    </a:lnTo>
                    <a:lnTo>
                      <a:pt x="2" y="692"/>
                    </a:lnTo>
                    <a:lnTo>
                      <a:pt x="2" y="694"/>
                    </a:lnTo>
                    <a:close/>
                  </a:path>
                </a:pathLst>
              </a:custGeom>
              <a:solidFill>
                <a:srgbClr val="b1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Freeform 187"/>
              <p:cNvSpPr/>
              <p:nvPr/>
            </p:nvSpPr>
            <p:spPr>
              <a:xfrm>
                <a:off x="1806480" y="2498040"/>
                <a:ext cx="589320" cy="1350360"/>
              </a:xfrm>
              <a:custGeom>
                <a:avLst/>
                <a:gdLst>
                  <a:gd name="textAreaLeft" fmla="*/ 0 w 589320"/>
                  <a:gd name="textAreaRight" fmla="*/ 589680 w 589320"/>
                  <a:gd name="textAreaTop" fmla="*/ 0 h 1350360"/>
                  <a:gd name="textAreaBottom" fmla="*/ 1350720 h 1350360"/>
                </a:gdLst>
                <a:ahLst/>
                <a:rect l="textAreaLeft" t="textAreaTop" r="textAreaRight" b="textAreaBottom"/>
                <a:pathLst>
                  <a:path w="350" h="802">
                    <a:moveTo>
                      <a:pt x="348" y="5"/>
                    </a:moveTo>
                    <a:lnTo>
                      <a:pt x="346" y="5"/>
                    </a:lnTo>
                    <a:lnTo>
                      <a:pt x="327" y="3"/>
                    </a:lnTo>
                    <a:lnTo>
                      <a:pt x="306" y="1"/>
                    </a:lnTo>
                    <a:lnTo>
                      <a:pt x="284" y="0"/>
                    </a:lnTo>
                    <a:lnTo>
                      <a:pt x="265" y="1"/>
                    </a:lnTo>
                    <a:lnTo>
                      <a:pt x="244" y="3"/>
                    </a:lnTo>
                    <a:lnTo>
                      <a:pt x="225" y="5"/>
                    </a:lnTo>
                    <a:lnTo>
                      <a:pt x="204" y="9"/>
                    </a:lnTo>
                    <a:lnTo>
                      <a:pt x="185" y="13"/>
                    </a:lnTo>
                    <a:lnTo>
                      <a:pt x="165" y="19"/>
                    </a:lnTo>
                    <a:lnTo>
                      <a:pt x="148" y="24"/>
                    </a:lnTo>
                    <a:lnTo>
                      <a:pt x="129" y="32"/>
                    </a:lnTo>
                    <a:lnTo>
                      <a:pt x="94" y="49"/>
                    </a:lnTo>
                    <a:lnTo>
                      <a:pt x="71" y="63"/>
                    </a:lnTo>
                    <a:lnTo>
                      <a:pt x="71" y="65"/>
                    </a:lnTo>
                    <a:lnTo>
                      <a:pt x="71" y="65"/>
                    </a:lnTo>
                    <a:lnTo>
                      <a:pt x="71" y="67"/>
                    </a:lnTo>
                    <a:lnTo>
                      <a:pt x="69" y="69"/>
                    </a:lnTo>
                    <a:lnTo>
                      <a:pt x="69" y="71"/>
                    </a:lnTo>
                    <a:lnTo>
                      <a:pt x="69" y="72"/>
                    </a:lnTo>
                    <a:lnTo>
                      <a:pt x="69" y="74"/>
                    </a:lnTo>
                    <a:lnTo>
                      <a:pt x="69" y="76"/>
                    </a:lnTo>
                    <a:lnTo>
                      <a:pt x="98" y="57"/>
                    </a:lnTo>
                    <a:lnTo>
                      <a:pt x="133" y="42"/>
                    </a:lnTo>
                    <a:lnTo>
                      <a:pt x="169" y="28"/>
                    </a:lnTo>
                    <a:lnTo>
                      <a:pt x="206" y="19"/>
                    </a:lnTo>
                    <a:lnTo>
                      <a:pt x="225" y="15"/>
                    </a:lnTo>
                    <a:lnTo>
                      <a:pt x="246" y="13"/>
                    </a:lnTo>
                    <a:lnTo>
                      <a:pt x="265" y="11"/>
                    </a:lnTo>
                    <a:lnTo>
                      <a:pt x="284" y="11"/>
                    </a:lnTo>
                    <a:lnTo>
                      <a:pt x="306" y="11"/>
                    </a:lnTo>
                    <a:lnTo>
                      <a:pt x="325" y="13"/>
                    </a:lnTo>
                    <a:lnTo>
                      <a:pt x="344" y="15"/>
                    </a:lnTo>
                    <a:lnTo>
                      <a:pt x="346" y="15"/>
                    </a:lnTo>
                    <a:lnTo>
                      <a:pt x="346" y="15"/>
                    </a:lnTo>
                    <a:lnTo>
                      <a:pt x="346" y="13"/>
                    </a:lnTo>
                    <a:lnTo>
                      <a:pt x="346" y="11"/>
                    </a:lnTo>
                    <a:lnTo>
                      <a:pt x="346" y="11"/>
                    </a:lnTo>
                    <a:lnTo>
                      <a:pt x="346" y="9"/>
                    </a:lnTo>
                    <a:lnTo>
                      <a:pt x="348" y="7"/>
                    </a:lnTo>
                    <a:lnTo>
                      <a:pt x="348" y="7"/>
                    </a:lnTo>
                    <a:lnTo>
                      <a:pt x="348" y="5"/>
                    </a:lnTo>
                    <a:close/>
                    <a:moveTo>
                      <a:pt x="0" y="683"/>
                    </a:moveTo>
                    <a:lnTo>
                      <a:pt x="2" y="684"/>
                    </a:lnTo>
                    <a:lnTo>
                      <a:pt x="31" y="709"/>
                    </a:lnTo>
                    <a:lnTo>
                      <a:pt x="62" y="732"/>
                    </a:lnTo>
                    <a:lnTo>
                      <a:pt x="94" y="754"/>
                    </a:lnTo>
                    <a:lnTo>
                      <a:pt x="129" y="769"/>
                    </a:lnTo>
                    <a:lnTo>
                      <a:pt x="148" y="777"/>
                    </a:lnTo>
                    <a:lnTo>
                      <a:pt x="165" y="782"/>
                    </a:lnTo>
                    <a:lnTo>
                      <a:pt x="185" y="788"/>
                    </a:lnTo>
                    <a:lnTo>
                      <a:pt x="204" y="794"/>
                    </a:lnTo>
                    <a:lnTo>
                      <a:pt x="225" y="796"/>
                    </a:lnTo>
                    <a:lnTo>
                      <a:pt x="244" y="800"/>
                    </a:lnTo>
                    <a:lnTo>
                      <a:pt x="265" y="802"/>
                    </a:lnTo>
                    <a:lnTo>
                      <a:pt x="284" y="802"/>
                    </a:lnTo>
                    <a:lnTo>
                      <a:pt x="306" y="802"/>
                    </a:lnTo>
                    <a:lnTo>
                      <a:pt x="327" y="800"/>
                    </a:lnTo>
                    <a:lnTo>
                      <a:pt x="346" y="796"/>
                    </a:lnTo>
                    <a:lnTo>
                      <a:pt x="350" y="796"/>
                    </a:lnTo>
                    <a:lnTo>
                      <a:pt x="350" y="794"/>
                    </a:lnTo>
                    <a:lnTo>
                      <a:pt x="350" y="794"/>
                    </a:lnTo>
                    <a:lnTo>
                      <a:pt x="350" y="792"/>
                    </a:lnTo>
                    <a:lnTo>
                      <a:pt x="350" y="790"/>
                    </a:lnTo>
                    <a:lnTo>
                      <a:pt x="348" y="790"/>
                    </a:lnTo>
                    <a:lnTo>
                      <a:pt x="348" y="788"/>
                    </a:lnTo>
                    <a:lnTo>
                      <a:pt x="348" y="786"/>
                    </a:lnTo>
                    <a:lnTo>
                      <a:pt x="348" y="786"/>
                    </a:lnTo>
                    <a:lnTo>
                      <a:pt x="344" y="786"/>
                    </a:lnTo>
                    <a:lnTo>
                      <a:pt x="325" y="788"/>
                    </a:lnTo>
                    <a:lnTo>
                      <a:pt x="306" y="790"/>
                    </a:lnTo>
                    <a:lnTo>
                      <a:pt x="284" y="790"/>
                    </a:lnTo>
                    <a:lnTo>
                      <a:pt x="265" y="790"/>
                    </a:lnTo>
                    <a:lnTo>
                      <a:pt x="246" y="788"/>
                    </a:lnTo>
                    <a:lnTo>
                      <a:pt x="225" y="786"/>
                    </a:lnTo>
                    <a:lnTo>
                      <a:pt x="206" y="782"/>
                    </a:lnTo>
                    <a:lnTo>
                      <a:pt x="169" y="773"/>
                    </a:lnTo>
                    <a:lnTo>
                      <a:pt x="133" y="759"/>
                    </a:lnTo>
                    <a:lnTo>
                      <a:pt x="98" y="744"/>
                    </a:lnTo>
                    <a:lnTo>
                      <a:pt x="68" y="725"/>
                    </a:lnTo>
                    <a:lnTo>
                      <a:pt x="37" y="702"/>
                    </a:lnTo>
                    <a:lnTo>
                      <a:pt x="10" y="677"/>
                    </a:lnTo>
                    <a:lnTo>
                      <a:pt x="0" y="667"/>
                    </a:lnTo>
                    <a:lnTo>
                      <a:pt x="0" y="669"/>
                    </a:lnTo>
                    <a:lnTo>
                      <a:pt x="0" y="671"/>
                    </a:lnTo>
                    <a:lnTo>
                      <a:pt x="0" y="673"/>
                    </a:lnTo>
                    <a:lnTo>
                      <a:pt x="0" y="675"/>
                    </a:lnTo>
                    <a:lnTo>
                      <a:pt x="0" y="677"/>
                    </a:lnTo>
                    <a:lnTo>
                      <a:pt x="0" y="679"/>
                    </a:lnTo>
                    <a:lnTo>
                      <a:pt x="0" y="681"/>
                    </a:lnTo>
                    <a:lnTo>
                      <a:pt x="0" y="683"/>
                    </a:lnTo>
                    <a:close/>
                  </a:path>
                </a:pathLst>
              </a:custGeom>
              <a:solidFill>
                <a:srgbClr val="b2e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Freeform 188"/>
              <p:cNvSpPr/>
              <p:nvPr/>
            </p:nvSpPr>
            <p:spPr>
              <a:xfrm>
                <a:off x="1806480" y="2507040"/>
                <a:ext cx="589320" cy="1331640"/>
              </a:xfrm>
              <a:custGeom>
                <a:avLst/>
                <a:gdLst>
                  <a:gd name="textAreaLeft" fmla="*/ 0 w 589320"/>
                  <a:gd name="textAreaRight" fmla="*/ 589680 w 589320"/>
                  <a:gd name="textAreaTop" fmla="*/ 0 h 1331640"/>
                  <a:gd name="textAreaBottom" fmla="*/ 1332000 h 1331640"/>
                </a:gdLst>
                <a:ahLst/>
                <a:rect l="textAreaLeft" t="textAreaTop" r="textAreaRight" b="textAreaBottom"/>
                <a:pathLst>
                  <a:path w="350" h="791">
                    <a:moveTo>
                      <a:pt x="346" y="6"/>
                    </a:moveTo>
                    <a:lnTo>
                      <a:pt x="346" y="6"/>
                    </a:lnTo>
                    <a:lnTo>
                      <a:pt x="325" y="2"/>
                    </a:lnTo>
                    <a:lnTo>
                      <a:pt x="306" y="0"/>
                    </a:lnTo>
                    <a:lnTo>
                      <a:pt x="284" y="0"/>
                    </a:lnTo>
                    <a:lnTo>
                      <a:pt x="265" y="0"/>
                    </a:lnTo>
                    <a:lnTo>
                      <a:pt x="244" y="2"/>
                    </a:lnTo>
                    <a:lnTo>
                      <a:pt x="225" y="6"/>
                    </a:lnTo>
                    <a:lnTo>
                      <a:pt x="206" y="8"/>
                    </a:lnTo>
                    <a:lnTo>
                      <a:pt x="187" y="14"/>
                    </a:lnTo>
                    <a:lnTo>
                      <a:pt x="167" y="18"/>
                    </a:lnTo>
                    <a:lnTo>
                      <a:pt x="150" y="25"/>
                    </a:lnTo>
                    <a:lnTo>
                      <a:pt x="131" y="31"/>
                    </a:lnTo>
                    <a:lnTo>
                      <a:pt x="96" y="48"/>
                    </a:lnTo>
                    <a:lnTo>
                      <a:pt x="69" y="64"/>
                    </a:lnTo>
                    <a:lnTo>
                      <a:pt x="69" y="66"/>
                    </a:lnTo>
                    <a:lnTo>
                      <a:pt x="69" y="67"/>
                    </a:lnTo>
                    <a:lnTo>
                      <a:pt x="69" y="69"/>
                    </a:lnTo>
                    <a:lnTo>
                      <a:pt x="68" y="71"/>
                    </a:lnTo>
                    <a:lnTo>
                      <a:pt x="68" y="73"/>
                    </a:lnTo>
                    <a:lnTo>
                      <a:pt x="68" y="75"/>
                    </a:lnTo>
                    <a:lnTo>
                      <a:pt x="68" y="77"/>
                    </a:lnTo>
                    <a:lnTo>
                      <a:pt x="66" y="79"/>
                    </a:lnTo>
                    <a:lnTo>
                      <a:pt x="69" y="77"/>
                    </a:lnTo>
                    <a:lnTo>
                      <a:pt x="102" y="58"/>
                    </a:lnTo>
                    <a:lnTo>
                      <a:pt x="135" y="41"/>
                    </a:lnTo>
                    <a:lnTo>
                      <a:pt x="171" y="29"/>
                    </a:lnTo>
                    <a:lnTo>
                      <a:pt x="208" y="19"/>
                    </a:lnTo>
                    <a:lnTo>
                      <a:pt x="227" y="16"/>
                    </a:lnTo>
                    <a:lnTo>
                      <a:pt x="246" y="14"/>
                    </a:lnTo>
                    <a:lnTo>
                      <a:pt x="265" y="12"/>
                    </a:lnTo>
                    <a:lnTo>
                      <a:pt x="284" y="12"/>
                    </a:lnTo>
                    <a:lnTo>
                      <a:pt x="306" y="12"/>
                    </a:lnTo>
                    <a:lnTo>
                      <a:pt x="325" y="14"/>
                    </a:lnTo>
                    <a:lnTo>
                      <a:pt x="344" y="16"/>
                    </a:lnTo>
                    <a:lnTo>
                      <a:pt x="344" y="16"/>
                    </a:lnTo>
                    <a:lnTo>
                      <a:pt x="344" y="14"/>
                    </a:lnTo>
                    <a:lnTo>
                      <a:pt x="346" y="14"/>
                    </a:lnTo>
                    <a:lnTo>
                      <a:pt x="346" y="12"/>
                    </a:lnTo>
                    <a:lnTo>
                      <a:pt x="346" y="10"/>
                    </a:lnTo>
                    <a:lnTo>
                      <a:pt x="346" y="10"/>
                    </a:lnTo>
                    <a:lnTo>
                      <a:pt x="346" y="8"/>
                    </a:lnTo>
                    <a:lnTo>
                      <a:pt x="346" y="6"/>
                    </a:lnTo>
                    <a:lnTo>
                      <a:pt x="346" y="6"/>
                    </a:lnTo>
                    <a:close/>
                    <a:moveTo>
                      <a:pt x="0" y="670"/>
                    </a:moveTo>
                    <a:lnTo>
                      <a:pt x="6" y="676"/>
                    </a:lnTo>
                    <a:lnTo>
                      <a:pt x="33" y="701"/>
                    </a:lnTo>
                    <a:lnTo>
                      <a:pt x="64" y="724"/>
                    </a:lnTo>
                    <a:lnTo>
                      <a:pt x="96" y="743"/>
                    </a:lnTo>
                    <a:lnTo>
                      <a:pt x="131" y="760"/>
                    </a:lnTo>
                    <a:lnTo>
                      <a:pt x="150" y="768"/>
                    </a:lnTo>
                    <a:lnTo>
                      <a:pt x="167" y="773"/>
                    </a:lnTo>
                    <a:lnTo>
                      <a:pt x="187" y="779"/>
                    </a:lnTo>
                    <a:lnTo>
                      <a:pt x="206" y="783"/>
                    </a:lnTo>
                    <a:lnTo>
                      <a:pt x="225" y="787"/>
                    </a:lnTo>
                    <a:lnTo>
                      <a:pt x="244" y="789"/>
                    </a:lnTo>
                    <a:lnTo>
                      <a:pt x="265" y="791"/>
                    </a:lnTo>
                    <a:lnTo>
                      <a:pt x="284" y="791"/>
                    </a:lnTo>
                    <a:lnTo>
                      <a:pt x="306" y="791"/>
                    </a:lnTo>
                    <a:lnTo>
                      <a:pt x="325" y="789"/>
                    </a:lnTo>
                    <a:lnTo>
                      <a:pt x="346" y="787"/>
                    </a:lnTo>
                    <a:lnTo>
                      <a:pt x="350" y="785"/>
                    </a:lnTo>
                    <a:lnTo>
                      <a:pt x="348" y="785"/>
                    </a:lnTo>
                    <a:lnTo>
                      <a:pt x="348" y="783"/>
                    </a:lnTo>
                    <a:lnTo>
                      <a:pt x="348" y="781"/>
                    </a:lnTo>
                    <a:lnTo>
                      <a:pt x="348" y="781"/>
                    </a:lnTo>
                    <a:lnTo>
                      <a:pt x="348" y="779"/>
                    </a:lnTo>
                    <a:lnTo>
                      <a:pt x="348" y="777"/>
                    </a:lnTo>
                    <a:lnTo>
                      <a:pt x="348" y="777"/>
                    </a:lnTo>
                    <a:lnTo>
                      <a:pt x="348" y="775"/>
                    </a:lnTo>
                    <a:lnTo>
                      <a:pt x="344" y="775"/>
                    </a:lnTo>
                    <a:lnTo>
                      <a:pt x="325" y="779"/>
                    </a:lnTo>
                    <a:lnTo>
                      <a:pt x="306" y="781"/>
                    </a:lnTo>
                    <a:lnTo>
                      <a:pt x="284" y="781"/>
                    </a:lnTo>
                    <a:lnTo>
                      <a:pt x="265" y="781"/>
                    </a:lnTo>
                    <a:lnTo>
                      <a:pt x="246" y="779"/>
                    </a:lnTo>
                    <a:lnTo>
                      <a:pt x="227" y="775"/>
                    </a:lnTo>
                    <a:lnTo>
                      <a:pt x="208" y="773"/>
                    </a:lnTo>
                    <a:lnTo>
                      <a:pt x="171" y="764"/>
                    </a:lnTo>
                    <a:lnTo>
                      <a:pt x="135" y="750"/>
                    </a:lnTo>
                    <a:lnTo>
                      <a:pt x="102" y="735"/>
                    </a:lnTo>
                    <a:lnTo>
                      <a:pt x="69" y="716"/>
                    </a:lnTo>
                    <a:lnTo>
                      <a:pt x="41" y="693"/>
                    </a:lnTo>
                    <a:lnTo>
                      <a:pt x="12" y="668"/>
                    </a:lnTo>
                    <a:lnTo>
                      <a:pt x="0" y="655"/>
                    </a:lnTo>
                    <a:lnTo>
                      <a:pt x="0" y="656"/>
                    </a:lnTo>
                    <a:lnTo>
                      <a:pt x="0" y="658"/>
                    </a:lnTo>
                    <a:lnTo>
                      <a:pt x="0" y="660"/>
                    </a:lnTo>
                    <a:lnTo>
                      <a:pt x="0" y="662"/>
                    </a:lnTo>
                    <a:lnTo>
                      <a:pt x="0" y="664"/>
                    </a:lnTo>
                    <a:lnTo>
                      <a:pt x="0" y="666"/>
                    </a:lnTo>
                    <a:lnTo>
                      <a:pt x="0" y="668"/>
                    </a:lnTo>
                    <a:lnTo>
                      <a:pt x="0" y="670"/>
                    </a:lnTo>
                    <a:close/>
                  </a:path>
                </a:pathLst>
              </a:custGeom>
              <a:solidFill>
                <a:srgbClr val="b3e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Freeform 189"/>
              <p:cNvSpPr/>
              <p:nvPr/>
            </p:nvSpPr>
            <p:spPr>
              <a:xfrm>
                <a:off x="1806480" y="2516760"/>
                <a:ext cx="586080" cy="1311480"/>
              </a:xfrm>
              <a:custGeom>
                <a:avLst/>
                <a:gdLst>
                  <a:gd name="textAreaLeft" fmla="*/ 0 w 586080"/>
                  <a:gd name="textAreaRight" fmla="*/ 586440 w 586080"/>
                  <a:gd name="textAreaTop" fmla="*/ 0 h 1311480"/>
                  <a:gd name="textAreaBottom" fmla="*/ 1311840 h 1311480"/>
                </a:gdLst>
                <a:ahLst/>
                <a:rect l="textAreaLeft" t="textAreaTop" r="textAreaRight" b="textAreaBottom"/>
                <a:pathLst>
                  <a:path w="348" h="779">
                    <a:moveTo>
                      <a:pt x="346" y="4"/>
                    </a:moveTo>
                    <a:lnTo>
                      <a:pt x="344" y="4"/>
                    </a:lnTo>
                    <a:lnTo>
                      <a:pt x="325" y="2"/>
                    </a:lnTo>
                    <a:lnTo>
                      <a:pt x="306" y="0"/>
                    </a:lnTo>
                    <a:lnTo>
                      <a:pt x="284" y="0"/>
                    </a:lnTo>
                    <a:lnTo>
                      <a:pt x="265" y="0"/>
                    </a:lnTo>
                    <a:lnTo>
                      <a:pt x="246" y="2"/>
                    </a:lnTo>
                    <a:lnTo>
                      <a:pt x="225" y="4"/>
                    </a:lnTo>
                    <a:lnTo>
                      <a:pt x="206" y="8"/>
                    </a:lnTo>
                    <a:lnTo>
                      <a:pt x="169" y="17"/>
                    </a:lnTo>
                    <a:lnTo>
                      <a:pt x="133" y="31"/>
                    </a:lnTo>
                    <a:lnTo>
                      <a:pt x="98" y="46"/>
                    </a:lnTo>
                    <a:lnTo>
                      <a:pt x="69" y="65"/>
                    </a:lnTo>
                    <a:lnTo>
                      <a:pt x="68" y="67"/>
                    </a:lnTo>
                    <a:lnTo>
                      <a:pt x="68" y="69"/>
                    </a:lnTo>
                    <a:lnTo>
                      <a:pt x="68" y="71"/>
                    </a:lnTo>
                    <a:lnTo>
                      <a:pt x="66" y="73"/>
                    </a:lnTo>
                    <a:lnTo>
                      <a:pt x="66" y="75"/>
                    </a:lnTo>
                    <a:lnTo>
                      <a:pt x="66" y="77"/>
                    </a:lnTo>
                    <a:lnTo>
                      <a:pt x="66" y="79"/>
                    </a:lnTo>
                    <a:lnTo>
                      <a:pt x="64" y="81"/>
                    </a:lnTo>
                    <a:lnTo>
                      <a:pt x="73" y="75"/>
                    </a:lnTo>
                    <a:lnTo>
                      <a:pt x="104" y="56"/>
                    </a:lnTo>
                    <a:lnTo>
                      <a:pt x="137" y="40"/>
                    </a:lnTo>
                    <a:lnTo>
                      <a:pt x="171" y="27"/>
                    </a:lnTo>
                    <a:lnTo>
                      <a:pt x="208" y="17"/>
                    </a:lnTo>
                    <a:lnTo>
                      <a:pt x="227" y="13"/>
                    </a:lnTo>
                    <a:lnTo>
                      <a:pt x="246" y="12"/>
                    </a:lnTo>
                    <a:lnTo>
                      <a:pt x="265" y="10"/>
                    </a:lnTo>
                    <a:lnTo>
                      <a:pt x="284" y="10"/>
                    </a:lnTo>
                    <a:lnTo>
                      <a:pt x="306" y="10"/>
                    </a:lnTo>
                    <a:lnTo>
                      <a:pt x="325" y="12"/>
                    </a:lnTo>
                    <a:lnTo>
                      <a:pt x="342" y="13"/>
                    </a:lnTo>
                    <a:lnTo>
                      <a:pt x="344" y="15"/>
                    </a:lnTo>
                    <a:lnTo>
                      <a:pt x="344" y="13"/>
                    </a:lnTo>
                    <a:lnTo>
                      <a:pt x="344" y="12"/>
                    </a:lnTo>
                    <a:lnTo>
                      <a:pt x="344" y="12"/>
                    </a:lnTo>
                    <a:lnTo>
                      <a:pt x="344" y="10"/>
                    </a:lnTo>
                    <a:lnTo>
                      <a:pt x="344" y="8"/>
                    </a:lnTo>
                    <a:lnTo>
                      <a:pt x="346" y="8"/>
                    </a:lnTo>
                    <a:lnTo>
                      <a:pt x="346" y="6"/>
                    </a:lnTo>
                    <a:lnTo>
                      <a:pt x="346" y="4"/>
                    </a:lnTo>
                    <a:close/>
                    <a:moveTo>
                      <a:pt x="0" y="656"/>
                    </a:moveTo>
                    <a:lnTo>
                      <a:pt x="10" y="666"/>
                    </a:lnTo>
                    <a:lnTo>
                      <a:pt x="37" y="691"/>
                    </a:lnTo>
                    <a:lnTo>
                      <a:pt x="68" y="714"/>
                    </a:lnTo>
                    <a:lnTo>
                      <a:pt x="98" y="733"/>
                    </a:lnTo>
                    <a:lnTo>
                      <a:pt x="133" y="748"/>
                    </a:lnTo>
                    <a:lnTo>
                      <a:pt x="169" y="762"/>
                    </a:lnTo>
                    <a:lnTo>
                      <a:pt x="206" y="771"/>
                    </a:lnTo>
                    <a:lnTo>
                      <a:pt x="225" y="775"/>
                    </a:lnTo>
                    <a:lnTo>
                      <a:pt x="246" y="777"/>
                    </a:lnTo>
                    <a:lnTo>
                      <a:pt x="265" y="779"/>
                    </a:lnTo>
                    <a:lnTo>
                      <a:pt x="284" y="779"/>
                    </a:lnTo>
                    <a:lnTo>
                      <a:pt x="306" y="779"/>
                    </a:lnTo>
                    <a:lnTo>
                      <a:pt x="325" y="777"/>
                    </a:lnTo>
                    <a:lnTo>
                      <a:pt x="344" y="775"/>
                    </a:lnTo>
                    <a:lnTo>
                      <a:pt x="348" y="775"/>
                    </a:lnTo>
                    <a:lnTo>
                      <a:pt x="348" y="773"/>
                    </a:lnTo>
                    <a:lnTo>
                      <a:pt x="348" y="771"/>
                    </a:lnTo>
                    <a:lnTo>
                      <a:pt x="348" y="771"/>
                    </a:lnTo>
                    <a:lnTo>
                      <a:pt x="348" y="769"/>
                    </a:lnTo>
                    <a:lnTo>
                      <a:pt x="346" y="767"/>
                    </a:lnTo>
                    <a:lnTo>
                      <a:pt x="346" y="767"/>
                    </a:lnTo>
                    <a:lnTo>
                      <a:pt x="346" y="766"/>
                    </a:lnTo>
                    <a:lnTo>
                      <a:pt x="346" y="766"/>
                    </a:lnTo>
                    <a:lnTo>
                      <a:pt x="342" y="766"/>
                    </a:lnTo>
                    <a:lnTo>
                      <a:pt x="325" y="767"/>
                    </a:lnTo>
                    <a:lnTo>
                      <a:pt x="306" y="769"/>
                    </a:lnTo>
                    <a:lnTo>
                      <a:pt x="284" y="769"/>
                    </a:lnTo>
                    <a:lnTo>
                      <a:pt x="265" y="769"/>
                    </a:lnTo>
                    <a:lnTo>
                      <a:pt x="246" y="767"/>
                    </a:lnTo>
                    <a:lnTo>
                      <a:pt x="227" y="766"/>
                    </a:lnTo>
                    <a:lnTo>
                      <a:pt x="208" y="762"/>
                    </a:lnTo>
                    <a:lnTo>
                      <a:pt x="171" y="752"/>
                    </a:lnTo>
                    <a:lnTo>
                      <a:pt x="137" y="741"/>
                    </a:lnTo>
                    <a:lnTo>
                      <a:pt x="104" y="723"/>
                    </a:lnTo>
                    <a:lnTo>
                      <a:pt x="73" y="704"/>
                    </a:lnTo>
                    <a:lnTo>
                      <a:pt x="43" y="683"/>
                    </a:lnTo>
                    <a:lnTo>
                      <a:pt x="16" y="658"/>
                    </a:lnTo>
                    <a:lnTo>
                      <a:pt x="0" y="639"/>
                    </a:lnTo>
                    <a:lnTo>
                      <a:pt x="0" y="643"/>
                    </a:lnTo>
                    <a:lnTo>
                      <a:pt x="0" y="645"/>
                    </a:lnTo>
                    <a:lnTo>
                      <a:pt x="0" y="647"/>
                    </a:lnTo>
                    <a:lnTo>
                      <a:pt x="0" y="649"/>
                    </a:lnTo>
                    <a:lnTo>
                      <a:pt x="0" y="650"/>
                    </a:lnTo>
                    <a:lnTo>
                      <a:pt x="0" y="652"/>
                    </a:lnTo>
                    <a:lnTo>
                      <a:pt x="0" y="654"/>
                    </a:lnTo>
                    <a:lnTo>
                      <a:pt x="0" y="656"/>
                    </a:lnTo>
                    <a:close/>
                  </a:path>
                </a:pathLst>
              </a:custGeom>
              <a:solidFill>
                <a:srgbClr val="b4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Freeform 190"/>
              <p:cNvSpPr/>
              <p:nvPr/>
            </p:nvSpPr>
            <p:spPr>
              <a:xfrm>
                <a:off x="1803600" y="2526840"/>
                <a:ext cx="588960" cy="1294920"/>
              </a:xfrm>
              <a:custGeom>
                <a:avLst/>
                <a:gdLst>
                  <a:gd name="textAreaLeft" fmla="*/ 0 w 588960"/>
                  <a:gd name="textAreaRight" fmla="*/ 589320 w 588960"/>
                  <a:gd name="textAreaTop" fmla="*/ 0 h 1294920"/>
                  <a:gd name="textAreaBottom" fmla="*/ 1295280 h 1294920"/>
                </a:gdLst>
                <a:ahLst/>
                <a:rect l="textAreaLeft" t="textAreaTop" r="textAreaRight" b="textAreaBottom"/>
                <a:pathLst>
                  <a:path w="350" h="769">
                    <a:moveTo>
                      <a:pt x="346" y="4"/>
                    </a:moveTo>
                    <a:lnTo>
                      <a:pt x="346" y="4"/>
                    </a:lnTo>
                    <a:lnTo>
                      <a:pt x="327" y="2"/>
                    </a:lnTo>
                    <a:lnTo>
                      <a:pt x="308" y="0"/>
                    </a:lnTo>
                    <a:lnTo>
                      <a:pt x="286" y="0"/>
                    </a:lnTo>
                    <a:lnTo>
                      <a:pt x="267" y="0"/>
                    </a:lnTo>
                    <a:lnTo>
                      <a:pt x="248" y="2"/>
                    </a:lnTo>
                    <a:lnTo>
                      <a:pt x="229" y="4"/>
                    </a:lnTo>
                    <a:lnTo>
                      <a:pt x="210" y="7"/>
                    </a:lnTo>
                    <a:lnTo>
                      <a:pt x="173" y="17"/>
                    </a:lnTo>
                    <a:lnTo>
                      <a:pt x="137" y="29"/>
                    </a:lnTo>
                    <a:lnTo>
                      <a:pt x="104" y="46"/>
                    </a:lnTo>
                    <a:lnTo>
                      <a:pt x="71" y="65"/>
                    </a:lnTo>
                    <a:lnTo>
                      <a:pt x="68" y="67"/>
                    </a:lnTo>
                    <a:lnTo>
                      <a:pt x="68" y="69"/>
                    </a:lnTo>
                    <a:lnTo>
                      <a:pt x="68" y="71"/>
                    </a:lnTo>
                    <a:lnTo>
                      <a:pt x="68" y="73"/>
                    </a:lnTo>
                    <a:lnTo>
                      <a:pt x="66" y="75"/>
                    </a:lnTo>
                    <a:lnTo>
                      <a:pt x="66" y="77"/>
                    </a:lnTo>
                    <a:lnTo>
                      <a:pt x="66" y="78"/>
                    </a:lnTo>
                    <a:lnTo>
                      <a:pt x="66" y="80"/>
                    </a:lnTo>
                    <a:lnTo>
                      <a:pt x="64" y="82"/>
                    </a:lnTo>
                    <a:lnTo>
                      <a:pt x="77" y="73"/>
                    </a:lnTo>
                    <a:lnTo>
                      <a:pt x="108" y="54"/>
                    </a:lnTo>
                    <a:lnTo>
                      <a:pt x="141" y="38"/>
                    </a:lnTo>
                    <a:lnTo>
                      <a:pt x="175" y="27"/>
                    </a:lnTo>
                    <a:lnTo>
                      <a:pt x="212" y="17"/>
                    </a:lnTo>
                    <a:lnTo>
                      <a:pt x="248" y="11"/>
                    </a:lnTo>
                    <a:lnTo>
                      <a:pt x="286" y="9"/>
                    </a:lnTo>
                    <a:lnTo>
                      <a:pt x="325" y="11"/>
                    </a:lnTo>
                    <a:lnTo>
                      <a:pt x="344" y="13"/>
                    </a:lnTo>
                    <a:lnTo>
                      <a:pt x="346" y="13"/>
                    </a:lnTo>
                    <a:lnTo>
                      <a:pt x="346" y="11"/>
                    </a:lnTo>
                    <a:lnTo>
                      <a:pt x="346" y="9"/>
                    </a:lnTo>
                    <a:lnTo>
                      <a:pt x="346" y="9"/>
                    </a:lnTo>
                    <a:lnTo>
                      <a:pt x="346" y="7"/>
                    </a:lnTo>
                    <a:lnTo>
                      <a:pt x="346" y="6"/>
                    </a:lnTo>
                    <a:lnTo>
                      <a:pt x="346" y="6"/>
                    </a:lnTo>
                    <a:lnTo>
                      <a:pt x="346" y="4"/>
                    </a:lnTo>
                    <a:close/>
                    <a:moveTo>
                      <a:pt x="2" y="643"/>
                    </a:moveTo>
                    <a:lnTo>
                      <a:pt x="14" y="656"/>
                    </a:lnTo>
                    <a:lnTo>
                      <a:pt x="43" y="681"/>
                    </a:lnTo>
                    <a:lnTo>
                      <a:pt x="71" y="704"/>
                    </a:lnTo>
                    <a:lnTo>
                      <a:pt x="104" y="723"/>
                    </a:lnTo>
                    <a:lnTo>
                      <a:pt x="137" y="738"/>
                    </a:lnTo>
                    <a:lnTo>
                      <a:pt x="173" y="752"/>
                    </a:lnTo>
                    <a:lnTo>
                      <a:pt x="210" y="761"/>
                    </a:lnTo>
                    <a:lnTo>
                      <a:pt x="229" y="763"/>
                    </a:lnTo>
                    <a:lnTo>
                      <a:pt x="248" y="767"/>
                    </a:lnTo>
                    <a:lnTo>
                      <a:pt x="267" y="769"/>
                    </a:lnTo>
                    <a:lnTo>
                      <a:pt x="286" y="769"/>
                    </a:lnTo>
                    <a:lnTo>
                      <a:pt x="308" y="769"/>
                    </a:lnTo>
                    <a:lnTo>
                      <a:pt x="327" y="767"/>
                    </a:lnTo>
                    <a:lnTo>
                      <a:pt x="346" y="763"/>
                    </a:lnTo>
                    <a:lnTo>
                      <a:pt x="350" y="763"/>
                    </a:lnTo>
                    <a:lnTo>
                      <a:pt x="348" y="761"/>
                    </a:lnTo>
                    <a:lnTo>
                      <a:pt x="348" y="761"/>
                    </a:lnTo>
                    <a:lnTo>
                      <a:pt x="348" y="760"/>
                    </a:lnTo>
                    <a:lnTo>
                      <a:pt x="348" y="758"/>
                    </a:lnTo>
                    <a:lnTo>
                      <a:pt x="348" y="758"/>
                    </a:lnTo>
                    <a:lnTo>
                      <a:pt x="348" y="756"/>
                    </a:lnTo>
                    <a:lnTo>
                      <a:pt x="348" y="754"/>
                    </a:lnTo>
                    <a:lnTo>
                      <a:pt x="348" y="754"/>
                    </a:lnTo>
                    <a:lnTo>
                      <a:pt x="325" y="756"/>
                    </a:lnTo>
                    <a:lnTo>
                      <a:pt x="286" y="758"/>
                    </a:lnTo>
                    <a:lnTo>
                      <a:pt x="248" y="756"/>
                    </a:lnTo>
                    <a:lnTo>
                      <a:pt x="212" y="750"/>
                    </a:lnTo>
                    <a:lnTo>
                      <a:pt x="175" y="742"/>
                    </a:lnTo>
                    <a:lnTo>
                      <a:pt x="141" y="729"/>
                    </a:lnTo>
                    <a:lnTo>
                      <a:pt x="108" y="714"/>
                    </a:lnTo>
                    <a:lnTo>
                      <a:pt x="77" y="694"/>
                    </a:lnTo>
                    <a:lnTo>
                      <a:pt x="48" y="673"/>
                    </a:lnTo>
                    <a:lnTo>
                      <a:pt x="22" y="648"/>
                    </a:lnTo>
                    <a:lnTo>
                      <a:pt x="0" y="625"/>
                    </a:lnTo>
                    <a:lnTo>
                      <a:pt x="0" y="627"/>
                    </a:lnTo>
                    <a:lnTo>
                      <a:pt x="2" y="629"/>
                    </a:lnTo>
                    <a:lnTo>
                      <a:pt x="2" y="631"/>
                    </a:lnTo>
                    <a:lnTo>
                      <a:pt x="2" y="633"/>
                    </a:lnTo>
                    <a:lnTo>
                      <a:pt x="2" y="637"/>
                    </a:lnTo>
                    <a:lnTo>
                      <a:pt x="2" y="639"/>
                    </a:lnTo>
                    <a:lnTo>
                      <a:pt x="2" y="641"/>
                    </a:lnTo>
                    <a:lnTo>
                      <a:pt x="2" y="643"/>
                    </a:lnTo>
                    <a:close/>
                  </a:path>
                </a:pathLst>
              </a:custGeom>
              <a:solidFill>
                <a:srgbClr val="b5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Freeform 191"/>
              <p:cNvSpPr/>
              <p:nvPr/>
            </p:nvSpPr>
            <p:spPr>
              <a:xfrm>
                <a:off x="1803600" y="2533680"/>
                <a:ext cx="585720" cy="1278000"/>
              </a:xfrm>
              <a:custGeom>
                <a:avLst/>
                <a:gdLst>
                  <a:gd name="textAreaLeft" fmla="*/ 0 w 585720"/>
                  <a:gd name="textAreaRight" fmla="*/ 586080 w 585720"/>
                  <a:gd name="textAreaTop" fmla="*/ 0 h 1278000"/>
                  <a:gd name="textAreaBottom" fmla="*/ 1278360 h 1278000"/>
                </a:gdLst>
                <a:ahLst/>
                <a:rect l="textAreaLeft" t="textAreaTop" r="textAreaRight" b="textAreaBottom"/>
                <a:pathLst>
                  <a:path w="348" h="759">
                    <a:moveTo>
                      <a:pt x="346" y="5"/>
                    </a:moveTo>
                    <a:lnTo>
                      <a:pt x="344" y="3"/>
                    </a:lnTo>
                    <a:lnTo>
                      <a:pt x="327" y="2"/>
                    </a:lnTo>
                    <a:lnTo>
                      <a:pt x="308" y="0"/>
                    </a:lnTo>
                    <a:lnTo>
                      <a:pt x="286" y="0"/>
                    </a:lnTo>
                    <a:lnTo>
                      <a:pt x="267" y="0"/>
                    </a:lnTo>
                    <a:lnTo>
                      <a:pt x="248" y="2"/>
                    </a:lnTo>
                    <a:lnTo>
                      <a:pt x="229" y="3"/>
                    </a:lnTo>
                    <a:lnTo>
                      <a:pt x="210" y="7"/>
                    </a:lnTo>
                    <a:lnTo>
                      <a:pt x="173" y="17"/>
                    </a:lnTo>
                    <a:lnTo>
                      <a:pt x="139" y="30"/>
                    </a:lnTo>
                    <a:lnTo>
                      <a:pt x="106" y="46"/>
                    </a:lnTo>
                    <a:lnTo>
                      <a:pt x="75" y="65"/>
                    </a:lnTo>
                    <a:lnTo>
                      <a:pt x="66" y="71"/>
                    </a:lnTo>
                    <a:lnTo>
                      <a:pt x="66" y="73"/>
                    </a:lnTo>
                    <a:lnTo>
                      <a:pt x="66" y="74"/>
                    </a:lnTo>
                    <a:lnTo>
                      <a:pt x="66" y="76"/>
                    </a:lnTo>
                    <a:lnTo>
                      <a:pt x="64" y="78"/>
                    </a:lnTo>
                    <a:lnTo>
                      <a:pt x="64" y="80"/>
                    </a:lnTo>
                    <a:lnTo>
                      <a:pt x="64" y="82"/>
                    </a:lnTo>
                    <a:lnTo>
                      <a:pt x="64" y="84"/>
                    </a:lnTo>
                    <a:lnTo>
                      <a:pt x="62" y="86"/>
                    </a:lnTo>
                    <a:lnTo>
                      <a:pt x="81" y="73"/>
                    </a:lnTo>
                    <a:lnTo>
                      <a:pt x="112" y="55"/>
                    </a:lnTo>
                    <a:lnTo>
                      <a:pt x="142" y="40"/>
                    </a:lnTo>
                    <a:lnTo>
                      <a:pt x="177" y="26"/>
                    </a:lnTo>
                    <a:lnTo>
                      <a:pt x="213" y="17"/>
                    </a:lnTo>
                    <a:lnTo>
                      <a:pt x="250" y="13"/>
                    </a:lnTo>
                    <a:lnTo>
                      <a:pt x="286" y="11"/>
                    </a:lnTo>
                    <a:lnTo>
                      <a:pt x="325" y="13"/>
                    </a:lnTo>
                    <a:lnTo>
                      <a:pt x="344" y="15"/>
                    </a:lnTo>
                    <a:lnTo>
                      <a:pt x="344" y="13"/>
                    </a:lnTo>
                    <a:lnTo>
                      <a:pt x="344" y="13"/>
                    </a:lnTo>
                    <a:lnTo>
                      <a:pt x="344" y="11"/>
                    </a:lnTo>
                    <a:lnTo>
                      <a:pt x="344" y="9"/>
                    </a:lnTo>
                    <a:lnTo>
                      <a:pt x="346" y="9"/>
                    </a:lnTo>
                    <a:lnTo>
                      <a:pt x="346" y="7"/>
                    </a:lnTo>
                    <a:lnTo>
                      <a:pt x="346" y="5"/>
                    </a:lnTo>
                    <a:lnTo>
                      <a:pt x="346" y="5"/>
                    </a:lnTo>
                    <a:close/>
                    <a:moveTo>
                      <a:pt x="2" y="629"/>
                    </a:moveTo>
                    <a:lnTo>
                      <a:pt x="18" y="648"/>
                    </a:lnTo>
                    <a:lnTo>
                      <a:pt x="45" y="673"/>
                    </a:lnTo>
                    <a:lnTo>
                      <a:pt x="75" y="694"/>
                    </a:lnTo>
                    <a:lnTo>
                      <a:pt x="106" y="713"/>
                    </a:lnTo>
                    <a:lnTo>
                      <a:pt x="139" y="731"/>
                    </a:lnTo>
                    <a:lnTo>
                      <a:pt x="173" y="742"/>
                    </a:lnTo>
                    <a:lnTo>
                      <a:pt x="210" y="752"/>
                    </a:lnTo>
                    <a:lnTo>
                      <a:pt x="229" y="756"/>
                    </a:lnTo>
                    <a:lnTo>
                      <a:pt x="248" y="757"/>
                    </a:lnTo>
                    <a:lnTo>
                      <a:pt x="267" y="759"/>
                    </a:lnTo>
                    <a:lnTo>
                      <a:pt x="286" y="759"/>
                    </a:lnTo>
                    <a:lnTo>
                      <a:pt x="308" y="759"/>
                    </a:lnTo>
                    <a:lnTo>
                      <a:pt x="327" y="757"/>
                    </a:lnTo>
                    <a:lnTo>
                      <a:pt x="344" y="756"/>
                    </a:lnTo>
                    <a:lnTo>
                      <a:pt x="348" y="756"/>
                    </a:lnTo>
                    <a:lnTo>
                      <a:pt x="348" y="754"/>
                    </a:lnTo>
                    <a:lnTo>
                      <a:pt x="348" y="752"/>
                    </a:lnTo>
                    <a:lnTo>
                      <a:pt x="348" y="750"/>
                    </a:lnTo>
                    <a:lnTo>
                      <a:pt x="348" y="750"/>
                    </a:lnTo>
                    <a:lnTo>
                      <a:pt x="348" y="748"/>
                    </a:lnTo>
                    <a:lnTo>
                      <a:pt x="346" y="746"/>
                    </a:lnTo>
                    <a:lnTo>
                      <a:pt x="346" y="746"/>
                    </a:lnTo>
                    <a:lnTo>
                      <a:pt x="346" y="744"/>
                    </a:lnTo>
                    <a:lnTo>
                      <a:pt x="325" y="748"/>
                    </a:lnTo>
                    <a:lnTo>
                      <a:pt x="286" y="750"/>
                    </a:lnTo>
                    <a:lnTo>
                      <a:pt x="250" y="748"/>
                    </a:lnTo>
                    <a:lnTo>
                      <a:pt x="213" y="742"/>
                    </a:lnTo>
                    <a:lnTo>
                      <a:pt x="177" y="733"/>
                    </a:lnTo>
                    <a:lnTo>
                      <a:pt x="142" y="721"/>
                    </a:lnTo>
                    <a:lnTo>
                      <a:pt x="112" y="704"/>
                    </a:lnTo>
                    <a:lnTo>
                      <a:pt x="81" y="687"/>
                    </a:lnTo>
                    <a:lnTo>
                      <a:pt x="52" y="665"/>
                    </a:lnTo>
                    <a:lnTo>
                      <a:pt x="25" y="640"/>
                    </a:lnTo>
                    <a:lnTo>
                      <a:pt x="2" y="616"/>
                    </a:lnTo>
                    <a:lnTo>
                      <a:pt x="0" y="614"/>
                    </a:lnTo>
                    <a:lnTo>
                      <a:pt x="0" y="616"/>
                    </a:lnTo>
                    <a:lnTo>
                      <a:pt x="0" y="617"/>
                    </a:lnTo>
                    <a:lnTo>
                      <a:pt x="0" y="619"/>
                    </a:lnTo>
                    <a:lnTo>
                      <a:pt x="0" y="621"/>
                    </a:lnTo>
                    <a:lnTo>
                      <a:pt x="0" y="623"/>
                    </a:lnTo>
                    <a:lnTo>
                      <a:pt x="2" y="625"/>
                    </a:lnTo>
                    <a:lnTo>
                      <a:pt x="2" y="627"/>
                    </a:lnTo>
                    <a:lnTo>
                      <a:pt x="2" y="629"/>
                    </a:lnTo>
                    <a:close/>
                  </a:path>
                </a:pathLst>
              </a:custGeom>
              <a:solidFill>
                <a:srgbClr val="b6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Freeform 192"/>
              <p:cNvSpPr/>
              <p:nvPr/>
            </p:nvSpPr>
            <p:spPr>
              <a:xfrm>
                <a:off x="1803600" y="2541960"/>
                <a:ext cx="585720" cy="1261080"/>
              </a:xfrm>
              <a:custGeom>
                <a:avLst/>
                <a:gdLst>
                  <a:gd name="textAreaLeft" fmla="*/ 0 w 585720"/>
                  <a:gd name="textAreaRight" fmla="*/ 586080 w 585720"/>
                  <a:gd name="textAreaTop" fmla="*/ 0 h 1261080"/>
                  <a:gd name="textAreaBottom" fmla="*/ 1261440 h 1261080"/>
                </a:gdLst>
                <a:ahLst/>
                <a:rect l="textAreaLeft" t="textAreaTop" r="textAreaRight" b="textAreaBottom"/>
                <a:pathLst>
                  <a:path w="348" h="749">
                    <a:moveTo>
                      <a:pt x="344" y="4"/>
                    </a:moveTo>
                    <a:lnTo>
                      <a:pt x="325" y="2"/>
                    </a:lnTo>
                    <a:lnTo>
                      <a:pt x="286" y="0"/>
                    </a:lnTo>
                    <a:lnTo>
                      <a:pt x="248" y="2"/>
                    </a:lnTo>
                    <a:lnTo>
                      <a:pt x="212" y="8"/>
                    </a:lnTo>
                    <a:lnTo>
                      <a:pt x="175" y="18"/>
                    </a:lnTo>
                    <a:lnTo>
                      <a:pt x="141" y="29"/>
                    </a:lnTo>
                    <a:lnTo>
                      <a:pt x="108" y="45"/>
                    </a:lnTo>
                    <a:lnTo>
                      <a:pt x="77" y="64"/>
                    </a:lnTo>
                    <a:lnTo>
                      <a:pt x="64" y="73"/>
                    </a:lnTo>
                    <a:lnTo>
                      <a:pt x="64" y="75"/>
                    </a:lnTo>
                    <a:lnTo>
                      <a:pt x="64" y="77"/>
                    </a:lnTo>
                    <a:lnTo>
                      <a:pt x="64" y="79"/>
                    </a:lnTo>
                    <a:lnTo>
                      <a:pt x="62" y="81"/>
                    </a:lnTo>
                    <a:lnTo>
                      <a:pt x="62" y="83"/>
                    </a:lnTo>
                    <a:lnTo>
                      <a:pt x="62" y="85"/>
                    </a:lnTo>
                    <a:lnTo>
                      <a:pt x="62" y="87"/>
                    </a:lnTo>
                    <a:lnTo>
                      <a:pt x="60" y="91"/>
                    </a:lnTo>
                    <a:lnTo>
                      <a:pt x="83" y="73"/>
                    </a:lnTo>
                    <a:lnTo>
                      <a:pt x="114" y="54"/>
                    </a:lnTo>
                    <a:lnTo>
                      <a:pt x="144" y="39"/>
                    </a:lnTo>
                    <a:lnTo>
                      <a:pt x="179" y="27"/>
                    </a:lnTo>
                    <a:lnTo>
                      <a:pt x="213" y="18"/>
                    </a:lnTo>
                    <a:lnTo>
                      <a:pt x="250" y="12"/>
                    </a:lnTo>
                    <a:lnTo>
                      <a:pt x="286" y="10"/>
                    </a:lnTo>
                    <a:lnTo>
                      <a:pt x="325" y="12"/>
                    </a:lnTo>
                    <a:lnTo>
                      <a:pt x="342" y="16"/>
                    </a:lnTo>
                    <a:lnTo>
                      <a:pt x="344" y="14"/>
                    </a:lnTo>
                    <a:lnTo>
                      <a:pt x="344" y="12"/>
                    </a:lnTo>
                    <a:lnTo>
                      <a:pt x="344" y="12"/>
                    </a:lnTo>
                    <a:lnTo>
                      <a:pt x="344" y="10"/>
                    </a:lnTo>
                    <a:lnTo>
                      <a:pt x="344" y="8"/>
                    </a:lnTo>
                    <a:lnTo>
                      <a:pt x="344" y="8"/>
                    </a:lnTo>
                    <a:lnTo>
                      <a:pt x="344" y="6"/>
                    </a:lnTo>
                    <a:lnTo>
                      <a:pt x="344" y="4"/>
                    </a:lnTo>
                    <a:close/>
                    <a:moveTo>
                      <a:pt x="0" y="616"/>
                    </a:moveTo>
                    <a:lnTo>
                      <a:pt x="22" y="639"/>
                    </a:lnTo>
                    <a:lnTo>
                      <a:pt x="48" y="664"/>
                    </a:lnTo>
                    <a:lnTo>
                      <a:pt x="77" y="685"/>
                    </a:lnTo>
                    <a:lnTo>
                      <a:pt x="108" y="705"/>
                    </a:lnTo>
                    <a:lnTo>
                      <a:pt x="141" y="720"/>
                    </a:lnTo>
                    <a:lnTo>
                      <a:pt x="175" y="733"/>
                    </a:lnTo>
                    <a:lnTo>
                      <a:pt x="212" y="741"/>
                    </a:lnTo>
                    <a:lnTo>
                      <a:pt x="248" y="747"/>
                    </a:lnTo>
                    <a:lnTo>
                      <a:pt x="286" y="749"/>
                    </a:lnTo>
                    <a:lnTo>
                      <a:pt x="325" y="747"/>
                    </a:lnTo>
                    <a:lnTo>
                      <a:pt x="348" y="745"/>
                    </a:lnTo>
                    <a:lnTo>
                      <a:pt x="348" y="743"/>
                    </a:lnTo>
                    <a:lnTo>
                      <a:pt x="346" y="741"/>
                    </a:lnTo>
                    <a:lnTo>
                      <a:pt x="346" y="741"/>
                    </a:lnTo>
                    <a:lnTo>
                      <a:pt x="346" y="739"/>
                    </a:lnTo>
                    <a:lnTo>
                      <a:pt x="346" y="737"/>
                    </a:lnTo>
                    <a:lnTo>
                      <a:pt x="346" y="737"/>
                    </a:lnTo>
                    <a:lnTo>
                      <a:pt x="346" y="735"/>
                    </a:lnTo>
                    <a:lnTo>
                      <a:pt x="346" y="733"/>
                    </a:lnTo>
                    <a:lnTo>
                      <a:pt x="325" y="737"/>
                    </a:lnTo>
                    <a:lnTo>
                      <a:pt x="286" y="739"/>
                    </a:lnTo>
                    <a:lnTo>
                      <a:pt x="250" y="737"/>
                    </a:lnTo>
                    <a:lnTo>
                      <a:pt x="213" y="731"/>
                    </a:lnTo>
                    <a:lnTo>
                      <a:pt x="179" y="724"/>
                    </a:lnTo>
                    <a:lnTo>
                      <a:pt x="144" y="710"/>
                    </a:lnTo>
                    <a:lnTo>
                      <a:pt x="114" y="695"/>
                    </a:lnTo>
                    <a:lnTo>
                      <a:pt x="83" y="678"/>
                    </a:lnTo>
                    <a:lnTo>
                      <a:pt x="56" y="657"/>
                    </a:lnTo>
                    <a:lnTo>
                      <a:pt x="29" y="632"/>
                    </a:lnTo>
                    <a:lnTo>
                      <a:pt x="6" y="607"/>
                    </a:lnTo>
                    <a:lnTo>
                      <a:pt x="0" y="599"/>
                    </a:lnTo>
                    <a:lnTo>
                      <a:pt x="0" y="603"/>
                    </a:lnTo>
                    <a:lnTo>
                      <a:pt x="0" y="605"/>
                    </a:lnTo>
                    <a:lnTo>
                      <a:pt x="0" y="607"/>
                    </a:lnTo>
                    <a:lnTo>
                      <a:pt x="0" y="609"/>
                    </a:lnTo>
                    <a:lnTo>
                      <a:pt x="0" y="611"/>
                    </a:lnTo>
                    <a:lnTo>
                      <a:pt x="0" y="612"/>
                    </a:lnTo>
                    <a:lnTo>
                      <a:pt x="0" y="614"/>
                    </a:lnTo>
                    <a:lnTo>
                      <a:pt x="0" y="616"/>
                    </a:lnTo>
                    <a:close/>
                  </a:path>
                </a:pathLst>
              </a:custGeom>
              <a:solidFill>
                <a:srgbClr val="b7e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Freeform 193"/>
              <p:cNvSpPr/>
              <p:nvPr/>
            </p:nvSpPr>
            <p:spPr>
              <a:xfrm>
                <a:off x="1803600" y="2552400"/>
                <a:ext cx="582120" cy="1243800"/>
              </a:xfrm>
              <a:custGeom>
                <a:avLst/>
                <a:gdLst>
                  <a:gd name="textAreaLeft" fmla="*/ 0 w 582120"/>
                  <a:gd name="textAreaRight" fmla="*/ 582480 w 582120"/>
                  <a:gd name="textAreaTop" fmla="*/ 0 h 1243800"/>
                  <a:gd name="textAreaBottom" fmla="*/ 1244160 h 1243800"/>
                </a:gdLst>
                <a:ahLst/>
                <a:rect l="textAreaLeft" t="textAreaTop" r="textAreaRight" b="textAreaBottom"/>
                <a:pathLst>
                  <a:path w="346" h="739">
                    <a:moveTo>
                      <a:pt x="344" y="4"/>
                    </a:moveTo>
                    <a:lnTo>
                      <a:pt x="325" y="2"/>
                    </a:lnTo>
                    <a:lnTo>
                      <a:pt x="286" y="0"/>
                    </a:lnTo>
                    <a:lnTo>
                      <a:pt x="250" y="2"/>
                    </a:lnTo>
                    <a:lnTo>
                      <a:pt x="213" y="6"/>
                    </a:lnTo>
                    <a:lnTo>
                      <a:pt x="177" y="15"/>
                    </a:lnTo>
                    <a:lnTo>
                      <a:pt x="142" y="29"/>
                    </a:lnTo>
                    <a:lnTo>
                      <a:pt x="112" y="44"/>
                    </a:lnTo>
                    <a:lnTo>
                      <a:pt x="81" y="62"/>
                    </a:lnTo>
                    <a:lnTo>
                      <a:pt x="62" y="75"/>
                    </a:lnTo>
                    <a:lnTo>
                      <a:pt x="62" y="77"/>
                    </a:lnTo>
                    <a:lnTo>
                      <a:pt x="62" y="79"/>
                    </a:lnTo>
                    <a:lnTo>
                      <a:pt x="62" y="81"/>
                    </a:lnTo>
                    <a:lnTo>
                      <a:pt x="60" y="85"/>
                    </a:lnTo>
                    <a:lnTo>
                      <a:pt x="60" y="86"/>
                    </a:lnTo>
                    <a:lnTo>
                      <a:pt x="60" y="88"/>
                    </a:lnTo>
                    <a:lnTo>
                      <a:pt x="60" y="90"/>
                    </a:lnTo>
                    <a:lnTo>
                      <a:pt x="58" y="92"/>
                    </a:lnTo>
                    <a:lnTo>
                      <a:pt x="87" y="71"/>
                    </a:lnTo>
                    <a:lnTo>
                      <a:pt x="116" y="52"/>
                    </a:lnTo>
                    <a:lnTo>
                      <a:pt x="146" y="39"/>
                    </a:lnTo>
                    <a:lnTo>
                      <a:pt x="181" y="25"/>
                    </a:lnTo>
                    <a:lnTo>
                      <a:pt x="215" y="17"/>
                    </a:lnTo>
                    <a:lnTo>
                      <a:pt x="250" y="12"/>
                    </a:lnTo>
                    <a:lnTo>
                      <a:pt x="286" y="10"/>
                    </a:lnTo>
                    <a:lnTo>
                      <a:pt x="323" y="12"/>
                    </a:lnTo>
                    <a:lnTo>
                      <a:pt x="342" y="14"/>
                    </a:lnTo>
                    <a:lnTo>
                      <a:pt x="342" y="14"/>
                    </a:lnTo>
                    <a:lnTo>
                      <a:pt x="342" y="12"/>
                    </a:lnTo>
                    <a:lnTo>
                      <a:pt x="342" y="10"/>
                    </a:lnTo>
                    <a:lnTo>
                      <a:pt x="342" y="10"/>
                    </a:lnTo>
                    <a:lnTo>
                      <a:pt x="344" y="8"/>
                    </a:lnTo>
                    <a:lnTo>
                      <a:pt x="344" y="6"/>
                    </a:lnTo>
                    <a:lnTo>
                      <a:pt x="344" y="6"/>
                    </a:lnTo>
                    <a:lnTo>
                      <a:pt x="344" y="4"/>
                    </a:lnTo>
                    <a:close/>
                    <a:moveTo>
                      <a:pt x="0" y="603"/>
                    </a:moveTo>
                    <a:lnTo>
                      <a:pt x="2" y="605"/>
                    </a:lnTo>
                    <a:lnTo>
                      <a:pt x="25" y="629"/>
                    </a:lnTo>
                    <a:lnTo>
                      <a:pt x="52" y="654"/>
                    </a:lnTo>
                    <a:lnTo>
                      <a:pt x="81" y="676"/>
                    </a:lnTo>
                    <a:lnTo>
                      <a:pt x="112" y="693"/>
                    </a:lnTo>
                    <a:lnTo>
                      <a:pt x="142" y="710"/>
                    </a:lnTo>
                    <a:lnTo>
                      <a:pt x="177" y="722"/>
                    </a:lnTo>
                    <a:lnTo>
                      <a:pt x="213" y="731"/>
                    </a:lnTo>
                    <a:lnTo>
                      <a:pt x="250" y="737"/>
                    </a:lnTo>
                    <a:lnTo>
                      <a:pt x="286" y="739"/>
                    </a:lnTo>
                    <a:lnTo>
                      <a:pt x="325" y="737"/>
                    </a:lnTo>
                    <a:lnTo>
                      <a:pt x="346" y="733"/>
                    </a:lnTo>
                    <a:lnTo>
                      <a:pt x="346" y="731"/>
                    </a:lnTo>
                    <a:lnTo>
                      <a:pt x="346" y="731"/>
                    </a:lnTo>
                    <a:lnTo>
                      <a:pt x="346" y="729"/>
                    </a:lnTo>
                    <a:lnTo>
                      <a:pt x="346" y="727"/>
                    </a:lnTo>
                    <a:lnTo>
                      <a:pt x="346" y="727"/>
                    </a:lnTo>
                    <a:lnTo>
                      <a:pt x="346" y="725"/>
                    </a:lnTo>
                    <a:lnTo>
                      <a:pt x="344" y="723"/>
                    </a:lnTo>
                    <a:lnTo>
                      <a:pt x="344" y="723"/>
                    </a:lnTo>
                    <a:lnTo>
                      <a:pt x="323" y="725"/>
                    </a:lnTo>
                    <a:lnTo>
                      <a:pt x="286" y="727"/>
                    </a:lnTo>
                    <a:lnTo>
                      <a:pt x="250" y="725"/>
                    </a:lnTo>
                    <a:lnTo>
                      <a:pt x="215" y="722"/>
                    </a:lnTo>
                    <a:lnTo>
                      <a:pt x="181" y="712"/>
                    </a:lnTo>
                    <a:lnTo>
                      <a:pt x="146" y="700"/>
                    </a:lnTo>
                    <a:lnTo>
                      <a:pt x="116" y="685"/>
                    </a:lnTo>
                    <a:lnTo>
                      <a:pt x="87" y="666"/>
                    </a:lnTo>
                    <a:lnTo>
                      <a:pt x="58" y="647"/>
                    </a:lnTo>
                    <a:lnTo>
                      <a:pt x="33" y="624"/>
                    </a:lnTo>
                    <a:lnTo>
                      <a:pt x="10" y="597"/>
                    </a:lnTo>
                    <a:lnTo>
                      <a:pt x="0" y="585"/>
                    </a:lnTo>
                    <a:lnTo>
                      <a:pt x="0" y="587"/>
                    </a:lnTo>
                    <a:lnTo>
                      <a:pt x="0" y="589"/>
                    </a:lnTo>
                    <a:lnTo>
                      <a:pt x="0" y="591"/>
                    </a:lnTo>
                    <a:lnTo>
                      <a:pt x="0" y="593"/>
                    </a:lnTo>
                    <a:lnTo>
                      <a:pt x="0" y="597"/>
                    </a:lnTo>
                    <a:lnTo>
                      <a:pt x="0" y="599"/>
                    </a:lnTo>
                    <a:lnTo>
                      <a:pt x="0" y="601"/>
                    </a:lnTo>
                    <a:lnTo>
                      <a:pt x="0" y="603"/>
                    </a:lnTo>
                    <a:close/>
                  </a:path>
                </a:pathLst>
              </a:custGeom>
              <a:solidFill>
                <a:srgbClr val="b8e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Freeform 194"/>
              <p:cNvSpPr/>
              <p:nvPr/>
            </p:nvSpPr>
            <p:spPr>
              <a:xfrm>
                <a:off x="1803600" y="2558880"/>
                <a:ext cx="582120" cy="1227600"/>
              </a:xfrm>
              <a:custGeom>
                <a:avLst/>
                <a:gdLst>
                  <a:gd name="textAreaLeft" fmla="*/ 0 w 582120"/>
                  <a:gd name="textAreaRight" fmla="*/ 582480 w 582120"/>
                  <a:gd name="textAreaTop" fmla="*/ 0 h 1227600"/>
                  <a:gd name="textAreaBottom" fmla="*/ 1227960 h 1227600"/>
                </a:gdLst>
                <a:ahLst/>
                <a:rect l="textAreaLeft" t="textAreaTop" r="textAreaRight" b="textAreaBottom"/>
                <a:pathLst>
                  <a:path w="346" h="729">
                    <a:moveTo>
                      <a:pt x="342" y="6"/>
                    </a:moveTo>
                    <a:lnTo>
                      <a:pt x="325" y="2"/>
                    </a:lnTo>
                    <a:lnTo>
                      <a:pt x="286" y="0"/>
                    </a:lnTo>
                    <a:lnTo>
                      <a:pt x="250" y="2"/>
                    </a:lnTo>
                    <a:lnTo>
                      <a:pt x="213" y="8"/>
                    </a:lnTo>
                    <a:lnTo>
                      <a:pt x="179" y="17"/>
                    </a:lnTo>
                    <a:lnTo>
                      <a:pt x="144" y="29"/>
                    </a:lnTo>
                    <a:lnTo>
                      <a:pt x="114" y="44"/>
                    </a:lnTo>
                    <a:lnTo>
                      <a:pt x="83" y="63"/>
                    </a:lnTo>
                    <a:lnTo>
                      <a:pt x="60" y="81"/>
                    </a:lnTo>
                    <a:lnTo>
                      <a:pt x="60" y="82"/>
                    </a:lnTo>
                    <a:lnTo>
                      <a:pt x="60" y="84"/>
                    </a:lnTo>
                    <a:lnTo>
                      <a:pt x="60" y="86"/>
                    </a:lnTo>
                    <a:lnTo>
                      <a:pt x="58" y="88"/>
                    </a:lnTo>
                    <a:lnTo>
                      <a:pt x="58" y="90"/>
                    </a:lnTo>
                    <a:lnTo>
                      <a:pt x="58" y="92"/>
                    </a:lnTo>
                    <a:lnTo>
                      <a:pt x="56" y="94"/>
                    </a:lnTo>
                    <a:lnTo>
                      <a:pt x="56" y="96"/>
                    </a:lnTo>
                    <a:lnTo>
                      <a:pt x="62" y="92"/>
                    </a:lnTo>
                    <a:lnTo>
                      <a:pt x="89" y="71"/>
                    </a:lnTo>
                    <a:lnTo>
                      <a:pt x="118" y="54"/>
                    </a:lnTo>
                    <a:lnTo>
                      <a:pt x="148" y="38"/>
                    </a:lnTo>
                    <a:lnTo>
                      <a:pt x="181" y="27"/>
                    </a:lnTo>
                    <a:lnTo>
                      <a:pt x="215" y="17"/>
                    </a:lnTo>
                    <a:lnTo>
                      <a:pt x="250" y="13"/>
                    </a:lnTo>
                    <a:lnTo>
                      <a:pt x="286" y="11"/>
                    </a:lnTo>
                    <a:lnTo>
                      <a:pt x="323" y="13"/>
                    </a:lnTo>
                    <a:lnTo>
                      <a:pt x="342" y="15"/>
                    </a:lnTo>
                    <a:lnTo>
                      <a:pt x="342" y="13"/>
                    </a:lnTo>
                    <a:lnTo>
                      <a:pt x="342" y="13"/>
                    </a:lnTo>
                    <a:lnTo>
                      <a:pt x="342" y="11"/>
                    </a:lnTo>
                    <a:lnTo>
                      <a:pt x="342" y="10"/>
                    </a:lnTo>
                    <a:lnTo>
                      <a:pt x="342" y="10"/>
                    </a:lnTo>
                    <a:lnTo>
                      <a:pt x="342" y="8"/>
                    </a:lnTo>
                    <a:lnTo>
                      <a:pt x="342" y="6"/>
                    </a:lnTo>
                    <a:lnTo>
                      <a:pt x="342" y="6"/>
                    </a:lnTo>
                    <a:close/>
                    <a:moveTo>
                      <a:pt x="0" y="589"/>
                    </a:moveTo>
                    <a:lnTo>
                      <a:pt x="6" y="597"/>
                    </a:lnTo>
                    <a:lnTo>
                      <a:pt x="29" y="622"/>
                    </a:lnTo>
                    <a:lnTo>
                      <a:pt x="56" y="647"/>
                    </a:lnTo>
                    <a:lnTo>
                      <a:pt x="83" y="668"/>
                    </a:lnTo>
                    <a:lnTo>
                      <a:pt x="114" y="685"/>
                    </a:lnTo>
                    <a:lnTo>
                      <a:pt x="144" y="700"/>
                    </a:lnTo>
                    <a:lnTo>
                      <a:pt x="179" y="714"/>
                    </a:lnTo>
                    <a:lnTo>
                      <a:pt x="213" y="721"/>
                    </a:lnTo>
                    <a:lnTo>
                      <a:pt x="250" y="727"/>
                    </a:lnTo>
                    <a:lnTo>
                      <a:pt x="286" y="729"/>
                    </a:lnTo>
                    <a:lnTo>
                      <a:pt x="325" y="727"/>
                    </a:lnTo>
                    <a:lnTo>
                      <a:pt x="346" y="723"/>
                    </a:lnTo>
                    <a:lnTo>
                      <a:pt x="346" y="723"/>
                    </a:lnTo>
                    <a:lnTo>
                      <a:pt x="346" y="721"/>
                    </a:lnTo>
                    <a:lnTo>
                      <a:pt x="344" y="719"/>
                    </a:lnTo>
                    <a:lnTo>
                      <a:pt x="344" y="719"/>
                    </a:lnTo>
                    <a:lnTo>
                      <a:pt x="344" y="718"/>
                    </a:lnTo>
                    <a:lnTo>
                      <a:pt x="344" y="716"/>
                    </a:lnTo>
                    <a:lnTo>
                      <a:pt x="344" y="716"/>
                    </a:lnTo>
                    <a:lnTo>
                      <a:pt x="344" y="714"/>
                    </a:lnTo>
                    <a:lnTo>
                      <a:pt x="323" y="718"/>
                    </a:lnTo>
                    <a:lnTo>
                      <a:pt x="286" y="719"/>
                    </a:lnTo>
                    <a:lnTo>
                      <a:pt x="250" y="718"/>
                    </a:lnTo>
                    <a:lnTo>
                      <a:pt x="215" y="712"/>
                    </a:lnTo>
                    <a:lnTo>
                      <a:pt x="181" y="702"/>
                    </a:lnTo>
                    <a:lnTo>
                      <a:pt x="148" y="691"/>
                    </a:lnTo>
                    <a:lnTo>
                      <a:pt x="118" y="675"/>
                    </a:lnTo>
                    <a:lnTo>
                      <a:pt x="89" y="658"/>
                    </a:lnTo>
                    <a:lnTo>
                      <a:pt x="62" y="639"/>
                    </a:lnTo>
                    <a:lnTo>
                      <a:pt x="37" y="616"/>
                    </a:lnTo>
                    <a:lnTo>
                      <a:pt x="14" y="591"/>
                    </a:lnTo>
                    <a:lnTo>
                      <a:pt x="0" y="572"/>
                    </a:lnTo>
                    <a:lnTo>
                      <a:pt x="0" y="574"/>
                    </a:lnTo>
                    <a:lnTo>
                      <a:pt x="0" y="576"/>
                    </a:lnTo>
                    <a:lnTo>
                      <a:pt x="0" y="579"/>
                    </a:lnTo>
                    <a:lnTo>
                      <a:pt x="0" y="581"/>
                    </a:lnTo>
                    <a:lnTo>
                      <a:pt x="0" y="583"/>
                    </a:lnTo>
                    <a:lnTo>
                      <a:pt x="0" y="585"/>
                    </a:lnTo>
                    <a:lnTo>
                      <a:pt x="0" y="587"/>
                    </a:lnTo>
                    <a:lnTo>
                      <a:pt x="0" y="589"/>
                    </a:lnTo>
                    <a:close/>
                  </a:path>
                </a:pathLst>
              </a:custGeom>
              <a:solidFill>
                <a:srgbClr val="b9e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Freeform 195"/>
              <p:cNvSpPr/>
              <p:nvPr/>
            </p:nvSpPr>
            <p:spPr>
              <a:xfrm>
                <a:off x="1803600" y="2568960"/>
                <a:ext cx="579240" cy="1206720"/>
              </a:xfrm>
              <a:custGeom>
                <a:avLst/>
                <a:gdLst>
                  <a:gd name="textAreaLeft" fmla="*/ 0 w 579240"/>
                  <a:gd name="textAreaRight" fmla="*/ 579600 w 579240"/>
                  <a:gd name="textAreaTop" fmla="*/ 0 h 1206720"/>
                  <a:gd name="textAreaBottom" fmla="*/ 1206720 h 1206720"/>
                </a:gdLst>
                <a:ahLst/>
                <a:rect l="textAreaLeft" t="textAreaTop" r="textAreaRight" b="textAreaBottom"/>
                <a:pathLst>
                  <a:path w="344" h="717">
                    <a:moveTo>
                      <a:pt x="342" y="4"/>
                    </a:moveTo>
                    <a:lnTo>
                      <a:pt x="323" y="2"/>
                    </a:lnTo>
                    <a:lnTo>
                      <a:pt x="286" y="0"/>
                    </a:lnTo>
                    <a:lnTo>
                      <a:pt x="250" y="2"/>
                    </a:lnTo>
                    <a:lnTo>
                      <a:pt x="215" y="7"/>
                    </a:lnTo>
                    <a:lnTo>
                      <a:pt x="181" y="15"/>
                    </a:lnTo>
                    <a:lnTo>
                      <a:pt x="146" y="29"/>
                    </a:lnTo>
                    <a:lnTo>
                      <a:pt x="116" y="42"/>
                    </a:lnTo>
                    <a:lnTo>
                      <a:pt x="87" y="61"/>
                    </a:lnTo>
                    <a:lnTo>
                      <a:pt x="58" y="82"/>
                    </a:lnTo>
                    <a:lnTo>
                      <a:pt x="58" y="84"/>
                    </a:lnTo>
                    <a:lnTo>
                      <a:pt x="58" y="86"/>
                    </a:lnTo>
                    <a:lnTo>
                      <a:pt x="56" y="88"/>
                    </a:lnTo>
                    <a:lnTo>
                      <a:pt x="56" y="90"/>
                    </a:lnTo>
                    <a:lnTo>
                      <a:pt x="56" y="92"/>
                    </a:lnTo>
                    <a:lnTo>
                      <a:pt x="56" y="96"/>
                    </a:lnTo>
                    <a:lnTo>
                      <a:pt x="54" y="98"/>
                    </a:lnTo>
                    <a:lnTo>
                      <a:pt x="54" y="99"/>
                    </a:lnTo>
                    <a:lnTo>
                      <a:pt x="66" y="90"/>
                    </a:lnTo>
                    <a:lnTo>
                      <a:pt x="93" y="69"/>
                    </a:lnTo>
                    <a:lnTo>
                      <a:pt x="121" y="52"/>
                    </a:lnTo>
                    <a:lnTo>
                      <a:pt x="152" y="38"/>
                    </a:lnTo>
                    <a:lnTo>
                      <a:pt x="183" y="25"/>
                    </a:lnTo>
                    <a:lnTo>
                      <a:pt x="217" y="17"/>
                    </a:lnTo>
                    <a:lnTo>
                      <a:pt x="252" y="11"/>
                    </a:lnTo>
                    <a:lnTo>
                      <a:pt x="286" y="9"/>
                    </a:lnTo>
                    <a:lnTo>
                      <a:pt x="323" y="11"/>
                    </a:lnTo>
                    <a:lnTo>
                      <a:pt x="340" y="15"/>
                    </a:lnTo>
                    <a:lnTo>
                      <a:pt x="340" y="13"/>
                    </a:lnTo>
                    <a:lnTo>
                      <a:pt x="340" y="11"/>
                    </a:lnTo>
                    <a:lnTo>
                      <a:pt x="340" y="11"/>
                    </a:lnTo>
                    <a:lnTo>
                      <a:pt x="342" y="9"/>
                    </a:lnTo>
                    <a:lnTo>
                      <a:pt x="342" y="7"/>
                    </a:lnTo>
                    <a:lnTo>
                      <a:pt x="342" y="7"/>
                    </a:lnTo>
                    <a:lnTo>
                      <a:pt x="342" y="5"/>
                    </a:lnTo>
                    <a:lnTo>
                      <a:pt x="342" y="4"/>
                    </a:lnTo>
                    <a:close/>
                    <a:moveTo>
                      <a:pt x="0" y="575"/>
                    </a:moveTo>
                    <a:lnTo>
                      <a:pt x="10" y="587"/>
                    </a:lnTo>
                    <a:lnTo>
                      <a:pt x="33" y="614"/>
                    </a:lnTo>
                    <a:lnTo>
                      <a:pt x="58" y="637"/>
                    </a:lnTo>
                    <a:lnTo>
                      <a:pt x="87" y="656"/>
                    </a:lnTo>
                    <a:lnTo>
                      <a:pt x="116" y="675"/>
                    </a:lnTo>
                    <a:lnTo>
                      <a:pt x="146" y="690"/>
                    </a:lnTo>
                    <a:lnTo>
                      <a:pt x="181" y="702"/>
                    </a:lnTo>
                    <a:lnTo>
                      <a:pt x="215" y="712"/>
                    </a:lnTo>
                    <a:lnTo>
                      <a:pt x="250" y="715"/>
                    </a:lnTo>
                    <a:lnTo>
                      <a:pt x="286" y="717"/>
                    </a:lnTo>
                    <a:lnTo>
                      <a:pt x="323" y="715"/>
                    </a:lnTo>
                    <a:lnTo>
                      <a:pt x="344" y="713"/>
                    </a:lnTo>
                    <a:lnTo>
                      <a:pt x="344" y="712"/>
                    </a:lnTo>
                    <a:lnTo>
                      <a:pt x="344" y="710"/>
                    </a:lnTo>
                    <a:lnTo>
                      <a:pt x="344" y="710"/>
                    </a:lnTo>
                    <a:lnTo>
                      <a:pt x="344" y="708"/>
                    </a:lnTo>
                    <a:lnTo>
                      <a:pt x="344" y="706"/>
                    </a:lnTo>
                    <a:lnTo>
                      <a:pt x="344" y="706"/>
                    </a:lnTo>
                    <a:lnTo>
                      <a:pt x="344" y="704"/>
                    </a:lnTo>
                    <a:lnTo>
                      <a:pt x="342" y="702"/>
                    </a:lnTo>
                    <a:lnTo>
                      <a:pt x="323" y="706"/>
                    </a:lnTo>
                    <a:lnTo>
                      <a:pt x="286" y="708"/>
                    </a:lnTo>
                    <a:lnTo>
                      <a:pt x="252" y="706"/>
                    </a:lnTo>
                    <a:lnTo>
                      <a:pt x="217" y="700"/>
                    </a:lnTo>
                    <a:lnTo>
                      <a:pt x="183" y="692"/>
                    </a:lnTo>
                    <a:lnTo>
                      <a:pt x="152" y="681"/>
                    </a:lnTo>
                    <a:lnTo>
                      <a:pt x="121" y="666"/>
                    </a:lnTo>
                    <a:lnTo>
                      <a:pt x="93" y="648"/>
                    </a:lnTo>
                    <a:lnTo>
                      <a:pt x="66" y="629"/>
                    </a:lnTo>
                    <a:lnTo>
                      <a:pt x="41" y="606"/>
                    </a:lnTo>
                    <a:lnTo>
                      <a:pt x="18" y="581"/>
                    </a:lnTo>
                    <a:lnTo>
                      <a:pt x="0" y="558"/>
                    </a:lnTo>
                    <a:lnTo>
                      <a:pt x="0" y="560"/>
                    </a:lnTo>
                    <a:lnTo>
                      <a:pt x="0" y="562"/>
                    </a:lnTo>
                    <a:lnTo>
                      <a:pt x="0" y="564"/>
                    </a:lnTo>
                    <a:lnTo>
                      <a:pt x="0" y="566"/>
                    </a:lnTo>
                    <a:lnTo>
                      <a:pt x="0" y="568"/>
                    </a:lnTo>
                    <a:lnTo>
                      <a:pt x="0" y="570"/>
                    </a:lnTo>
                    <a:lnTo>
                      <a:pt x="0" y="573"/>
                    </a:lnTo>
                    <a:lnTo>
                      <a:pt x="0" y="575"/>
                    </a:lnTo>
                    <a:close/>
                  </a:path>
                </a:pathLst>
              </a:custGeom>
              <a:solidFill>
                <a:srgbClr val="bae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Freeform 196"/>
              <p:cNvSpPr/>
              <p:nvPr/>
            </p:nvSpPr>
            <p:spPr>
              <a:xfrm>
                <a:off x="1803600" y="2577600"/>
                <a:ext cx="579240" cy="1191960"/>
              </a:xfrm>
              <a:custGeom>
                <a:avLst/>
                <a:gdLst>
                  <a:gd name="textAreaLeft" fmla="*/ 0 w 579240"/>
                  <a:gd name="textAreaRight" fmla="*/ 579600 w 579240"/>
                  <a:gd name="textAreaTop" fmla="*/ 0 h 1191960"/>
                  <a:gd name="textAreaBottom" fmla="*/ 1192320 h 1191960"/>
                </a:gdLst>
                <a:ahLst/>
                <a:rect l="textAreaLeft" t="textAreaTop" r="textAreaRight" b="textAreaBottom"/>
                <a:pathLst>
                  <a:path w="344" h="708">
                    <a:moveTo>
                      <a:pt x="342" y="4"/>
                    </a:moveTo>
                    <a:lnTo>
                      <a:pt x="323" y="2"/>
                    </a:lnTo>
                    <a:lnTo>
                      <a:pt x="286" y="0"/>
                    </a:lnTo>
                    <a:lnTo>
                      <a:pt x="250" y="2"/>
                    </a:lnTo>
                    <a:lnTo>
                      <a:pt x="215" y="6"/>
                    </a:lnTo>
                    <a:lnTo>
                      <a:pt x="181" y="16"/>
                    </a:lnTo>
                    <a:lnTo>
                      <a:pt x="148" y="27"/>
                    </a:lnTo>
                    <a:lnTo>
                      <a:pt x="118" y="43"/>
                    </a:lnTo>
                    <a:lnTo>
                      <a:pt x="89" y="60"/>
                    </a:lnTo>
                    <a:lnTo>
                      <a:pt x="62" y="81"/>
                    </a:lnTo>
                    <a:lnTo>
                      <a:pt x="56" y="85"/>
                    </a:lnTo>
                    <a:lnTo>
                      <a:pt x="56" y="87"/>
                    </a:lnTo>
                    <a:lnTo>
                      <a:pt x="56" y="91"/>
                    </a:lnTo>
                    <a:lnTo>
                      <a:pt x="54" y="93"/>
                    </a:lnTo>
                    <a:lnTo>
                      <a:pt x="54" y="94"/>
                    </a:lnTo>
                    <a:lnTo>
                      <a:pt x="54" y="96"/>
                    </a:lnTo>
                    <a:lnTo>
                      <a:pt x="54" y="98"/>
                    </a:lnTo>
                    <a:lnTo>
                      <a:pt x="52" y="100"/>
                    </a:lnTo>
                    <a:lnTo>
                      <a:pt x="52" y="102"/>
                    </a:lnTo>
                    <a:lnTo>
                      <a:pt x="68" y="89"/>
                    </a:lnTo>
                    <a:lnTo>
                      <a:pt x="94" y="70"/>
                    </a:lnTo>
                    <a:lnTo>
                      <a:pt x="123" y="52"/>
                    </a:lnTo>
                    <a:lnTo>
                      <a:pt x="154" y="37"/>
                    </a:lnTo>
                    <a:lnTo>
                      <a:pt x="185" y="25"/>
                    </a:lnTo>
                    <a:lnTo>
                      <a:pt x="217" y="18"/>
                    </a:lnTo>
                    <a:lnTo>
                      <a:pt x="252" y="12"/>
                    </a:lnTo>
                    <a:lnTo>
                      <a:pt x="286" y="10"/>
                    </a:lnTo>
                    <a:lnTo>
                      <a:pt x="323" y="12"/>
                    </a:lnTo>
                    <a:lnTo>
                      <a:pt x="340" y="14"/>
                    </a:lnTo>
                    <a:lnTo>
                      <a:pt x="340" y="14"/>
                    </a:lnTo>
                    <a:lnTo>
                      <a:pt x="340" y="12"/>
                    </a:lnTo>
                    <a:lnTo>
                      <a:pt x="340" y="10"/>
                    </a:lnTo>
                    <a:lnTo>
                      <a:pt x="340" y="10"/>
                    </a:lnTo>
                    <a:lnTo>
                      <a:pt x="340" y="8"/>
                    </a:lnTo>
                    <a:lnTo>
                      <a:pt x="340" y="6"/>
                    </a:lnTo>
                    <a:lnTo>
                      <a:pt x="340" y="6"/>
                    </a:lnTo>
                    <a:lnTo>
                      <a:pt x="342" y="4"/>
                    </a:lnTo>
                    <a:close/>
                    <a:moveTo>
                      <a:pt x="0" y="561"/>
                    </a:moveTo>
                    <a:lnTo>
                      <a:pt x="14" y="580"/>
                    </a:lnTo>
                    <a:lnTo>
                      <a:pt x="37" y="605"/>
                    </a:lnTo>
                    <a:lnTo>
                      <a:pt x="62" y="628"/>
                    </a:lnTo>
                    <a:lnTo>
                      <a:pt x="89" y="647"/>
                    </a:lnTo>
                    <a:lnTo>
                      <a:pt x="118" y="664"/>
                    </a:lnTo>
                    <a:lnTo>
                      <a:pt x="148" y="680"/>
                    </a:lnTo>
                    <a:lnTo>
                      <a:pt x="181" y="691"/>
                    </a:lnTo>
                    <a:lnTo>
                      <a:pt x="215" y="701"/>
                    </a:lnTo>
                    <a:lnTo>
                      <a:pt x="250" y="707"/>
                    </a:lnTo>
                    <a:lnTo>
                      <a:pt x="286" y="708"/>
                    </a:lnTo>
                    <a:lnTo>
                      <a:pt x="323" y="707"/>
                    </a:lnTo>
                    <a:lnTo>
                      <a:pt x="344" y="703"/>
                    </a:lnTo>
                    <a:lnTo>
                      <a:pt x="344" y="701"/>
                    </a:lnTo>
                    <a:lnTo>
                      <a:pt x="344" y="701"/>
                    </a:lnTo>
                    <a:lnTo>
                      <a:pt x="344" y="699"/>
                    </a:lnTo>
                    <a:lnTo>
                      <a:pt x="342" y="699"/>
                    </a:lnTo>
                    <a:lnTo>
                      <a:pt x="342" y="697"/>
                    </a:lnTo>
                    <a:lnTo>
                      <a:pt x="342" y="695"/>
                    </a:lnTo>
                    <a:lnTo>
                      <a:pt x="342" y="695"/>
                    </a:lnTo>
                    <a:lnTo>
                      <a:pt x="342" y="693"/>
                    </a:lnTo>
                    <a:lnTo>
                      <a:pt x="323" y="695"/>
                    </a:lnTo>
                    <a:lnTo>
                      <a:pt x="286" y="697"/>
                    </a:lnTo>
                    <a:lnTo>
                      <a:pt x="252" y="695"/>
                    </a:lnTo>
                    <a:lnTo>
                      <a:pt x="217" y="691"/>
                    </a:lnTo>
                    <a:lnTo>
                      <a:pt x="185" y="682"/>
                    </a:lnTo>
                    <a:lnTo>
                      <a:pt x="154" y="670"/>
                    </a:lnTo>
                    <a:lnTo>
                      <a:pt x="123" y="657"/>
                    </a:lnTo>
                    <a:lnTo>
                      <a:pt x="94" y="639"/>
                    </a:lnTo>
                    <a:lnTo>
                      <a:pt x="68" y="618"/>
                    </a:lnTo>
                    <a:lnTo>
                      <a:pt x="45" y="597"/>
                    </a:lnTo>
                    <a:lnTo>
                      <a:pt x="22" y="572"/>
                    </a:lnTo>
                    <a:lnTo>
                      <a:pt x="2" y="545"/>
                    </a:lnTo>
                    <a:lnTo>
                      <a:pt x="0" y="543"/>
                    </a:lnTo>
                    <a:lnTo>
                      <a:pt x="0" y="545"/>
                    </a:lnTo>
                    <a:lnTo>
                      <a:pt x="0" y="547"/>
                    </a:lnTo>
                    <a:lnTo>
                      <a:pt x="0" y="549"/>
                    </a:lnTo>
                    <a:lnTo>
                      <a:pt x="0" y="551"/>
                    </a:lnTo>
                    <a:lnTo>
                      <a:pt x="0" y="555"/>
                    </a:lnTo>
                    <a:lnTo>
                      <a:pt x="0" y="557"/>
                    </a:lnTo>
                    <a:lnTo>
                      <a:pt x="0" y="559"/>
                    </a:lnTo>
                    <a:lnTo>
                      <a:pt x="0" y="561"/>
                    </a:lnTo>
                    <a:close/>
                  </a:path>
                </a:pathLst>
              </a:custGeom>
              <a:solidFill>
                <a:srgbClr val="bbe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Freeform 197"/>
              <p:cNvSpPr/>
              <p:nvPr/>
            </p:nvSpPr>
            <p:spPr>
              <a:xfrm>
                <a:off x="1803600" y="2584080"/>
                <a:ext cx="575640" cy="1177200"/>
              </a:xfrm>
              <a:custGeom>
                <a:avLst/>
                <a:gdLst>
                  <a:gd name="textAreaLeft" fmla="*/ 0 w 575640"/>
                  <a:gd name="textAreaRight" fmla="*/ 576000 w 575640"/>
                  <a:gd name="textAreaTop" fmla="*/ 0 h 1177200"/>
                  <a:gd name="textAreaBottom" fmla="*/ 1177560 h 1177200"/>
                </a:gdLst>
                <a:ahLst/>
                <a:rect l="textAreaLeft" t="textAreaTop" r="textAreaRight" b="textAreaBottom"/>
                <a:pathLst>
                  <a:path w="342" h="699">
                    <a:moveTo>
                      <a:pt x="340" y="6"/>
                    </a:moveTo>
                    <a:lnTo>
                      <a:pt x="323" y="2"/>
                    </a:lnTo>
                    <a:lnTo>
                      <a:pt x="286" y="0"/>
                    </a:lnTo>
                    <a:lnTo>
                      <a:pt x="252" y="2"/>
                    </a:lnTo>
                    <a:lnTo>
                      <a:pt x="217" y="8"/>
                    </a:lnTo>
                    <a:lnTo>
                      <a:pt x="183" y="16"/>
                    </a:lnTo>
                    <a:lnTo>
                      <a:pt x="152" y="29"/>
                    </a:lnTo>
                    <a:lnTo>
                      <a:pt x="121" y="43"/>
                    </a:lnTo>
                    <a:lnTo>
                      <a:pt x="93" y="60"/>
                    </a:lnTo>
                    <a:lnTo>
                      <a:pt x="66" y="81"/>
                    </a:lnTo>
                    <a:lnTo>
                      <a:pt x="54" y="90"/>
                    </a:lnTo>
                    <a:lnTo>
                      <a:pt x="54" y="92"/>
                    </a:lnTo>
                    <a:lnTo>
                      <a:pt x="54" y="94"/>
                    </a:lnTo>
                    <a:lnTo>
                      <a:pt x="52" y="96"/>
                    </a:lnTo>
                    <a:lnTo>
                      <a:pt x="52" y="98"/>
                    </a:lnTo>
                    <a:lnTo>
                      <a:pt x="52" y="102"/>
                    </a:lnTo>
                    <a:lnTo>
                      <a:pt x="52" y="104"/>
                    </a:lnTo>
                    <a:lnTo>
                      <a:pt x="50" y="106"/>
                    </a:lnTo>
                    <a:lnTo>
                      <a:pt x="50" y="108"/>
                    </a:lnTo>
                    <a:lnTo>
                      <a:pt x="71" y="89"/>
                    </a:lnTo>
                    <a:lnTo>
                      <a:pt x="98" y="69"/>
                    </a:lnTo>
                    <a:lnTo>
                      <a:pt x="125" y="52"/>
                    </a:lnTo>
                    <a:lnTo>
                      <a:pt x="156" y="37"/>
                    </a:lnTo>
                    <a:lnTo>
                      <a:pt x="187" y="27"/>
                    </a:lnTo>
                    <a:lnTo>
                      <a:pt x="219" y="18"/>
                    </a:lnTo>
                    <a:lnTo>
                      <a:pt x="252" y="14"/>
                    </a:lnTo>
                    <a:lnTo>
                      <a:pt x="286" y="12"/>
                    </a:lnTo>
                    <a:lnTo>
                      <a:pt x="321" y="14"/>
                    </a:lnTo>
                    <a:lnTo>
                      <a:pt x="338" y="16"/>
                    </a:lnTo>
                    <a:lnTo>
                      <a:pt x="338" y="14"/>
                    </a:lnTo>
                    <a:lnTo>
                      <a:pt x="340" y="14"/>
                    </a:lnTo>
                    <a:lnTo>
                      <a:pt x="340" y="12"/>
                    </a:lnTo>
                    <a:lnTo>
                      <a:pt x="340" y="10"/>
                    </a:lnTo>
                    <a:lnTo>
                      <a:pt x="340" y="10"/>
                    </a:lnTo>
                    <a:lnTo>
                      <a:pt x="340" y="8"/>
                    </a:lnTo>
                    <a:lnTo>
                      <a:pt x="340" y="6"/>
                    </a:lnTo>
                    <a:lnTo>
                      <a:pt x="340" y="6"/>
                    </a:lnTo>
                    <a:close/>
                    <a:moveTo>
                      <a:pt x="0" y="549"/>
                    </a:moveTo>
                    <a:lnTo>
                      <a:pt x="18" y="572"/>
                    </a:lnTo>
                    <a:lnTo>
                      <a:pt x="41" y="597"/>
                    </a:lnTo>
                    <a:lnTo>
                      <a:pt x="66" y="620"/>
                    </a:lnTo>
                    <a:lnTo>
                      <a:pt x="93" y="639"/>
                    </a:lnTo>
                    <a:lnTo>
                      <a:pt x="121" y="657"/>
                    </a:lnTo>
                    <a:lnTo>
                      <a:pt x="152" y="672"/>
                    </a:lnTo>
                    <a:lnTo>
                      <a:pt x="183" y="683"/>
                    </a:lnTo>
                    <a:lnTo>
                      <a:pt x="217" y="691"/>
                    </a:lnTo>
                    <a:lnTo>
                      <a:pt x="252" y="697"/>
                    </a:lnTo>
                    <a:lnTo>
                      <a:pt x="286" y="699"/>
                    </a:lnTo>
                    <a:lnTo>
                      <a:pt x="323" y="697"/>
                    </a:lnTo>
                    <a:lnTo>
                      <a:pt x="342" y="693"/>
                    </a:lnTo>
                    <a:lnTo>
                      <a:pt x="342" y="693"/>
                    </a:lnTo>
                    <a:lnTo>
                      <a:pt x="342" y="691"/>
                    </a:lnTo>
                    <a:lnTo>
                      <a:pt x="342" y="691"/>
                    </a:lnTo>
                    <a:lnTo>
                      <a:pt x="342" y="689"/>
                    </a:lnTo>
                    <a:lnTo>
                      <a:pt x="342" y="687"/>
                    </a:lnTo>
                    <a:lnTo>
                      <a:pt x="342" y="687"/>
                    </a:lnTo>
                    <a:lnTo>
                      <a:pt x="342" y="685"/>
                    </a:lnTo>
                    <a:lnTo>
                      <a:pt x="342" y="683"/>
                    </a:lnTo>
                    <a:lnTo>
                      <a:pt x="321" y="687"/>
                    </a:lnTo>
                    <a:lnTo>
                      <a:pt x="286" y="689"/>
                    </a:lnTo>
                    <a:lnTo>
                      <a:pt x="252" y="687"/>
                    </a:lnTo>
                    <a:lnTo>
                      <a:pt x="219" y="681"/>
                    </a:lnTo>
                    <a:lnTo>
                      <a:pt x="187" y="674"/>
                    </a:lnTo>
                    <a:lnTo>
                      <a:pt x="156" y="662"/>
                    </a:lnTo>
                    <a:lnTo>
                      <a:pt x="125" y="647"/>
                    </a:lnTo>
                    <a:lnTo>
                      <a:pt x="98" y="632"/>
                    </a:lnTo>
                    <a:lnTo>
                      <a:pt x="71" y="610"/>
                    </a:lnTo>
                    <a:lnTo>
                      <a:pt x="48" y="589"/>
                    </a:lnTo>
                    <a:lnTo>
                      <a:pt x="25" y="564"/>
                    </a:lnTo>
                    <a:lnTo>
                      <a:pt x="6" y="539"/>
                    </a:lnTo>
                    <a:lnTo>
                      <a:pt x="0" y="528"/>
                    </a:lnTo>
                    <a:lnTo>
                      <a:pt x="0" y="532"/>
                    </a:lnTo>
                    <a:lnTo>
                      <a:pt x="0" y="534"/>
                    </a:lnTo>
                    <a:lnTo>
                      <a:pt x="0" y="536"/>
                    </a:lnTo>
                    <a:lnTo>
                      <a:pt x="0" y="538"/>
                    </a:lnTo>
                    <a:lnTo>
                      <a:pt x="0" y="541"/>
                    </a:lnTo>
                    <a:lnTo>
                      <a:pt x="0" y="543"/>
                    </a:lnTo>
                    <a:lnTo>
                      <a:pt x="0" y="545"/>
                    </a:lnTo>
                    <a:lnTo>
                      <a:pt x="0" y="549"/>
                    </a:lnTo>
                    <a:close/>
                  </a:path>
                </a:pathLst>
              </a:custGeom>
              <a:solidFill>
                <a:srgbClr val="bce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Freeform 198"/>
              <p:cNvSpPr/>
              <p:nvPr/>
            </p:nvSpPr>
            <p:spPr>
              <a:xfrm>
                <a:off x="1803600" y="2594160"/>
                <a:ext cx="575640" cy="1156320"/>
              </a:xfrm>
              <a:custGeom>
                <a:avLst/>
                <a:gdLst>
                  <a:gd name="textAreaLeft" fmla="*/ 0 w 575640"/>
                  <a:gd name="textAreaRight" fmla="*/ 576000 w 575640"/>
                  <a:gd name="textAreaTop" fmla="*/ 0 h 1156320"/>
                  <a:gd name="textAreaBottom" fmla="*/ 1156680 h 1156320"/>
                </a:gdLst>
                <a:ahLst/>
                <a:rect l="textAreaLeft" t="textAreaTop" r="textAreaRight" b="textAreaBottom"/>
                <a:pathLst>
                  <a:path w="342" h="687">
                    <a:moveTo>
                      <a:pt x="340" y="4"/>
                    </a:moveTo>
                    <a:lnTo>
                      <a:pt x="323" y="2"/>
                    </a:lnTo>
                    <a:lnTo>
                      <a:pt x="286" y="0"/>
                    </a:lnTo>
                    <a:lnTo>
                      <a:pt x="252" y="2"/>
                    </a:lnTo>
                    <a:lnTo>
                      <a:pt x="217" y="8"/>
                    </a:lnTo>
                    <a:lnTo>
                      <a:pt x="185" y="15"/>
                    </a:lnTo>
                    <a:lnTo>
                      <a:pt x="154" y="27"/>
                    </a:lnTo>
                    <a:lnTo>
                      <a:pt x="123" y="42"/>
                    </a:lnTo>
                    <a:lnTo>
                      <a:pt x="94" y="60"/>
                    </a:lnTo>
                    <a:lnTo>
                      <a:pt x="68" y="79"/>
                    </a:lnTo>
                    <a:lnTo>
                      <a:pt x="52" y="92"/>
                    </a:lnTo>
                    <a:lnTo>
                      <a:pt x="52" y="96"/>
                    </a:lnTo>
                    <a:lnTo>
                      <a:pt x="50" y="98"/>
                    </a:lnTo>
                    <a:lnTo>
                      <a:pt x="50" y="100"/>
                    </a:lnTo>
                    <a:lnTo>
                      <a:pt x="50" y="102"/>
                    </a:lnTo>
                    <a:lnTo>
                      <a:pt x="50" y="104"/>
                    </a:lnTo>
                    <a:lnTo>
                      <a:pt x="48" y="108"/>
                    </a:lnTo>
                    <a:lnTo>
                      <a:pt x="48" y="109"/>
                    </a:lnTo>
                    <a:lnTo>
                      <a:pt x="48" y="111"/>
                    </a:lnTo>
                    <a:lnTo>
                      <a:pt x="50" y="108"/>
                    </a:lnTo>
                    <a:lnTo>
                      <a:pt x="75" y="86"/>
                    </a:lnTo>
                    <a:lnTo>
                      <a:pt x="100" y="67"/>
                    </a:lnTo>
                    <a:lnTo>
                      <a:pt x="127" y="50"/>
                    </a:lnTo>
                    <a:lnTo>
                      <a:pt x="158" y="37"/>
                    </a:lnTo>
                    <a:lnTo>
                      <a:pt x="189" y="25"/>
                    </a:lnTo>
                    <a:lnTo>
                      <a:pt x="219" y="17"/>
                    </a:lnTo>
                    <a:lnTo>
                      <a:pt x="254" y="12"/>
                    </a:lnTo>
                    <a:lnTo>
                      <a:pt x="286" y="10"/>
                    </a:lnTo>
                    <a:lnTo>
                      <a:pt x="321" y="12"/>
                    </a:lnTo>
                    <a:lnTo>
                      <a:pt x="338" y="15"/>
                    </a:lnTo>
                    <a:lnTo>
                      <a:pt x="338" y="14"/>
                    </a:lnTo>
                    <a:lnTo>
                      <a:pt x="338" y="12"/>
                    </a:lnTo>
                    <a:lnTo>
                      <a:pt x="338" y="12"/>
                    </a:lnTo>
                    <a:lnTo>
                      <a:pt x="338" y="10"/>
                    </a:lnTo>
                    <a:lnTo>
                      <a:pt x="338" y="8"/>
                    </a:lnTo>
                    <a:lnTo>
                      <a:pt x="340" y="8"/>
                    </a:lnTo>
                    <a:lnTo>
                      <a:pt x="340" y="6"/>
                    </a:lnTo>
                    <a:lnTo>
                      <a:pt x="340" y="4"/>
                    </a:lnTo>
                    <a:close/>
                    <a:moveTo>
                      <a:pt x="0" y="533"/>
                    </a:moveTo>
                    <a:lnTo>
                      <a:pt x="2" y="535"/>
                    </a:lnTo>
                    <a:lnTo>
                      <a:pt x="22" y="562"/>
                    </a:lnTo>
                    <a:lnTo>
                      <a:pt x="45" y="587"/>
                    </a:lnTo>
                    <a:lnTo>
                      <a:pt x="68" y="608"/>
                    </a:lnTo>
                    <a:lnTo>
                      <a:pt x="94" y="629"/>
                    </a:lnTo>
                    <a:lnTo>
                      <a:pt x="123" y="647"/>
                    </a:lnTo>
                    <a:lnTo>
                      <a:pt x="154" y="660"/>
                    </a:lnTo>
                    <a:lnTo>
                      <a:pt x="185" y="672"/>
                    </a:lnTo>
                    <a:lnTo>
                      <a:pt x="217" y="681"/>
                    </a:lnTo>
                    <a:lnTo>
                      <a:pt x="252" y="685"/>
                    </a:lnTo>
                    <a:lnTo>
                      <a:pt x="286" y="687"/>
                    </a:lnTo>
                    <a:lnTo>
                      <a:pt x="323" y="685"/>
                    </a:lnTo>
                    <a:lnTo>
                      <a:pt x="342" y="683"/>
                    </a:lnTo>
                    <a:lnTo>
                      <a:pt x="342" y="681"/>
                    </a:lnTo>
                    <a:lnTo>
                      <a:pt x="342" y="681"/>
                    </a:lnTo>
                    <a:lnTo>
                      <a:pt x="342" y="679"/>
                    </a:lnTo>
                    <a:lnTo>
                      <a:pt x="342" y="677"/>
                    </a:lnTo>
                    <a:lnTo>
                      <a:pt x="340" y="677"/>
                    </a:lnTo>
                    <a:lnTo>
                      <a:pt x="340" y="675"/>
                    </a:lnTo>
                    <a:lnTo>
                      <a:pt x="340" y="674"/>
                    </a:lnTo>
                    <a:lnTo>
                      <a:pt x="340" y="674"/>
                    </a:lnTo>
                    <a:lnTo>
                      <a:pt x="321" y="675"/>
                    </a:lnTo>
                    <a:lnTo>
                      <a:pt x="286" y="677"/>
                    </a:lnTo>
                    <a:lnTo>
                      <a:pt x="254" y="675"/>
                    </a:lnTo>
                    <a:lnTo>
                      <a:pt x="219" y="670"/>
                    </a:lnTo>
                    <a:lnTo>
                      <a:pt x="189" y="662"/>
                    </a:lnTo>
                    <a:lnTo>
                      <a:pt x="158" y="651"/>
                    </a:lnTo>
                    <a:lnTo>
                      <a:pt x="127" y="637"/>
                    </a:lnTo>
                    <a:lnTo>
                      <a:pt x="100" y="620"/>
                    </a:lnTo>
                    <a:lnTo>
                      <a:pt x="75" y="601"/>
                    </a:lnTo>
                    <a:lnTo>
                      <a:pt x="50" y="580"/>
                    </a:lnTo>
                    <a:lnTo>
                      <a:pt x="29" y="556"/>
                    </a:lnTo>
                    <a:lnTo>
                      <a:pt x="10" y="530"/>
                    </a:lnTo>
                    <a:lnTo>
                      <a:pt x="0" y="512"/>
                    </a:lnTo>
                    <a:lnTo>
                      <a:pt x="0" y="516"/>
                    </a:lnTo>
                    <a:lnTo>
                      <a:pt x="0" y="518"/>
                    </a:lnTo>
                    <a:lnTo>
                      <a:pt x="0" y="520"/>
                    </a:lnTo>
                    <a:lnTo>
                      <a:pt x="0" y="522"/>
                    </a:lnTo>
                    <a:lnTo>
                      <a:pt x="0" y="526"/>
                    </a:lnTo>
                    <a:lnTo>
                      <a:pt x="0" y="528"/>
                    </a:lnTo>
                    <a:lnTo>
                      <a:pt x="0" y="530"/>
                    </a:lnTo>
                    <a:lnTo>
                      <a:pt x="0" y="533"/>
                    </a:lnTo>
                    <a:close/>
                  </a:path>
                </a:pathLst>
              </a:custGeom>
              <a:solidFill>
                <a:srgbClr val="bde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Freeform 199"/>
              <p:cNvSpPr/>
              <p:nvPr/>
            </p:nvSpPr>
            <p:spPr>
              <a:xfrm>
                <a:off x="1803600" y="2604240"/>
                <a:ext cx="575640" cy="1140120"/>
              </a:xfrm>
              <a:custGeom>
                <a:avLst/>
                <a:gdLst>
                  <a:gd name="textAreaLeft" fmla="*/ 0 w 575640"/>
                  <a:gd name="textAreaRight" fmla="*/ 576000 w 575640"/>
                  <a:gd name="textAreaTop" fmla="*/ 0 h 1140120"/>
                  <a:gd name="textAreaBottom" fmla="*/ 1140120 h 1140120"/>
                </a:gdLst>
                <a:ahLst/>
                <a:rect l="textAreaLeft" t="textAreaTop" r="textAreaRight" b="textAreaBottom"/>
                <a:pathLst>
                  <a:path w="342" h="677">
                    <a:moveTo>
                      <a:pt x="338" y="4"/>
                    </a:moveTo>
                    <a:lnTo>
                      <a:pt x="321" y="2"/>
                    </a:lnTo>
                    <a:lnTo>
                      <a:pt x="286" y="0"/>
                    </a:lnTo>
                    <a:lnTo>
                      <a:pt x="252" y="2"/>
                    </a:lnTo>
                    <a:lnTo>
                      <a:pt x="219" y="6"/>
                    </a:lnTo>
                    <a:lnTo>
                      <a:pt x="187" y="15"/>
                    </a:lnTo>
                    <a:lnTo>
                      <a:pt x="156" y="25"/>
                    </a:lnTo>
                    <a:lnTo>
                      <a:pt x="125" y="40"/>
                    </a:lnTo>
                    <a:lnTo>
                      <a:pt x="98" y="57"/>
                    </a:lnTo>
                    <a:lnTo>
                      <a:pt x="71" y="77"/>
                    </a:lnTo>
                    <a:lnTo>
                      <a:pt x="50" y="96"/>
                    </a:lnTo>
                    <a:lnTo>
                      <a:pt x="50" y="98"/>
                    </a:lnTo>
                    <a:lnTo>
                      <a:pt x="48" y="102"/>
                    </a:lnTo>
                    <a:lnTo>
                      <a:pt x="48" y="103"/>
                    </a:lnTo>
                    <a:lnTo>
                      <a:pt x="48" y="105"/>
                    </a:lnTo>
                    <a:lnTo>
                      <a:pt x="48" y="107"/>
                    </a:lnTo>
                    <a:lnTo>
                      <a:pt x="46" y="111"/>
                    </a:lnTo>
                    <a:lnTo>
                      <a:pt x="46" y="113"/>
                    </a:lnTo>
                    <a:lnTo>
                      <a:pt x="46" y="115"/>
                    </a:lnTo>
                    <a:lnTo>
                      <a:pt x="54" y="105"/>
                    </a:lnTo>
                    <a:lnTo>
                      <a:pt x="77" y="84"/>
                    </a:lnTo>
                    <a:lnTo>
                      <a:pt x="104" y="65"/>
                    </a:lnTo>
                    <a:lnTo>
                      <a:pt x="131" y="50"/>
                    </a:lnTo>
                    <a:lnTo>
                      <a:pt x="160" y="34"/>
                    </a:lnTo>
                    <a:lnTo>
                      <a:pt x="189" y="25"/>
                    </a:lnTo>
                    <a:lnTo>
                      <a:pt x="221" y="15"/>
                    </a:lnTo>
                    <a:lnTo>
                      <a:pt x="254" y="11"/>
                    </a:lnTo>
                    <a:lnTo>
                      <a:pt x="286" y="9"/>
                    </a:lnTo>
                    <a:lnTo>
                      <a:pt x="321" y="11"/>
                    </a:lnTo>
                    <a:lnTo>
                      <a:pt x="336" y="13"/>
                    </a:lnTo>
                    <a:lnTo>
                      <a:pt x="338" y="11"/>
                    </a:lnTo>
                    <a:lnTo>
                      <a:pt x="338" y="11"/>
                    </a:lnTo>
                    <a:lnTo>
                      <a:pt x="338" y="9"/>
                    </a:lnTo>
                    <a:lnTo>
                      <a:pt x="338" y="9"/>
                    </a:lnTo>
                    <a:lnTo>
                      <a:pt x="338" y="8"/>
                    </a:lnTo>
                    <a:lnTo>
                      <a:pt x="338" y="6"/>
                    </a:lnTo>
                    <a:lnTo>
                      <a:pt x="338" y="6"/>
                    </a:lnTo>
                    <a:lnTo>
                      <a:pt x="338" y="4"/>
                    </a:lnTo>
                    <a:close/>
                    <a:moveTo>
                      <a:pt x="0" y="516"/>
                    </a:moveTo>
                    <a:lnTo>
                      <a:pt x="6" y="527"/>
                    </a:lnTo>
                    <a:lnTo>
                      <a:pt x="25" y="552"/>
                    </a:lnTo>
                    <a:lnTo>
                      <a:pt x="48" y="577"/>
                    </a:lnTo>
                    <a:lnTo>
                      <a:pt x="71" y="598"/>
                    </a:lnTo>
                    <a:lnTo>
                      <a:pt x="98" y="620"/>
                    </a:lnTo>
                    <a:lnTo>
                      <a:pt x="125" y="635"/>
                    </a:lnTo>
                    <a:lnTo>
                      <a:pt x="156" y="650"/>
                    </a:lnTo>
                    <a:lnTo>
                      <a:pt x="187" y="662"/>
                    </a:lnTo>
                    <a:lnTo>
                      <a:pt x="219" y="669"/>
                    </a:lnTo>
                    <a:lnTo>
                      <a:pt x="252" y="675"/>
                    </a:lnTo>
                    <a:lnTo>
                      <a:pt x="286" y="677"/>
                    </a:lnTo>
                    <a:lnTo>
                      <a:pt x="321" y="675"/>
                    </a:lnTo>
                    <a:lnTo>
                      <a:pt x="342" y="671"/>
                    </a:lnTo>
                    <a:lnTo>
                      <a:pt x="340" y="671"/>
                    </a:lnTo>
                    <a:lnTo>
                      <a:pt x="340" y="669"/>
                    </a:lnTo>
                    <a:lnTo>
                      <a:pt x="340" y="668"/>
                    </a:lnTo>
                    <a:lnTo>
                      <a:pt x="340" y="668"/>
                    </a:lnTo>
                    <a:lnTo>
                      <a:pt x="340" y="666"/>
                    </a:lnTo>
                    <a:lnTo>
                      <a:pt x="340" y="664"/>
                    </a:lnTo>
                    <a:lnTo>
                      <a:pt x="340" y="664"/>
                    </a:lnTo>
                    <a:lnTo>
                      <a:pt x="340" y="662"/>
                    </a:lnTo>
                    <a:lnTo>
                      <a:pt x="321" y="664"/>
                    </a:lnTo>
                    <a:lnTo>
                      <a:pt x="286" y="666"/>
                    </a:lnTo>
                    <a:lnTo>
                      <a:pt x="254" y="664"/>
                    </a:lnTo>
                    <a:lnTo>
                      <a:pt x="221" y="660"/>
                    </a:lnTo>
                    <a:lnTo>
                      <a:pt x="189" y="652"/>
                    </a:lnTo>
                    <a:lnTo>
                      <a:pt x="160" y="641"/>
                    </a:lnTo>
                    <a:lnTo>
                      <a:pt x="131" y="627"/>
                    </a:lnTo>
                    <a:lnTo>
                      <a:pt x="104" y="610"/>
                    </a:lnTo>
                    <a:lnTo>
                      <a:pt x="77" y="591"/>
                    </a:lnTo>
                    <a:lnTo>
                      <a:pt x="54" y="570"/>
                    </a:lnTo>
                    <a:lnTo>
                      <a:pt x="33" y="547"/>
                    </a:lnTo>
                    <a:lnTo>
                      <a:pt x="14" y="522"/>
                    </a:lnTo>
                    <a:lnTo>
                      <a:pt x="0" y="497"/>
                    </a:lnTo>
                    <a:lnTo>
                      <a:pt x="0" y="499"/>
                    </a:lnTo>
                    <a:lnTo>
                      <a:pt x="0" y="503"/>
                    </a:lnTo>
                    <a:lnTo>
                      <a:pt x="0" y="504"/>
                    </a:lnTo>
                    <a:lnTo>
                      <a:pt x="0" y="506"/>
                    </a:lnTo>
                    <a:lnTo>
                      <a:pt x="0" y="510"/>
                    </a:lnTo>
                    <a:lnTo>
                      <a:pt x="0" y="512"/>
                    </a:lnTo>
                    <a:lnTo>
                      <a:pt x="0" y="514"/>
                    </a:lnTo>
                    <a:lnTo>
                      <a:pt x="0" y="516"/>
                    </a:lnTo>
                    <a:close/>
                  </a:path>
                </a:pathLst>
              </a:custGeom>
              <a:solidFill>
                <a:srgbClr val="bee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Freeform 200"/>
              <p:cNvSpPr/>
              <p:nvPr/>
            </p:nvSpPr>
            <p:spPr>
              <a:xfrm>
                <a:off x="1803600" y="2611080"/>
                <a:ext cx="572040" cy="1122840"/>
              </a:xfrm>
              <a:custGeom>
                <a:avLst/>
                <a:gdLst>
                  <a:gd name="textAreaLeft" fmla="*/ 0 w 572040"/>
                  <a:gd name="textAreaRight" fmla="*/ 572400 w 572040"/>
                  <a:gd name="textAreaTop" fmla="*/ 0 h 1122840"/>
                  <a:gd name="textAreaBottom" fmla="*/ 1123200 h 1122840"/>
                </a:gdLst>
                <a:ahLst/>
                <a:rect l="textAreaLeft" t="textAreaTop" r="textAreaRight" b="textAreaBottom"/>
                <a:pathLst>
                  <a:path w="340" h="667">
                    <a:moveTo>
                      <a:pt x="338" y="5"/>
                    </a:moveTo>
                    <a:lnTo>
                      <a:pt x="321" y="2"/>
                    </a:lnTo>
                    <a:lnTo>
                      <a:pt x="286" y="0"/>
                    </a:lnTo>
                    <a:lnTo>
                      <a:pt x="254" y="2"/>
                    </a:lnTo>
                    <a:lnTo>
                      <a:pt x="219" y="7"/>
                    </a:lnTo>
                    <a:lnTo>
                      <a:pt x="189" y="15"/>
                    </a:lnTo>
                    <a:lnTo>
                      <a:pt x="158" y="27"/>
                    </a:lnTo>
                    <a:lnTo>
                      <a:pt x="127" y="40"/>
                    </a:lnTo>
                    <a:lnTo>
                      <a:pt x="100" y="57"/>
                    </a:lnTo>
                    <a:lnTo>
                      <a:pt x="75" y="76"/>
                    </a:lnTo>
                    <a:lnTo>
                      <a:pt x="50" y="98"/>
                    </a:lnTo>
                    <a:lnTo>
                      <a:pt x="48" y="101"/>
                    </a:lnTo>
                    <a:lnTo>
                      <a:pt x="48" y="103"/>
                    </a:lnTo>
                    <a:lnTo>
                      <a:pt x="46" y="107"/>
                    </a:lnTo>
                    <a:lnTo>
                      <a:pt x="46" y="109"/>
                    </a:lnTo>
                    <a:lnTo>
                      <a:pt x="46" y="111"/>
                    </a:lnTo>
                    <a:lnTo>
                      <a:pt x="45" y="113"/>
                    </a:lnTo>
                    <a:lnTo>
                      <a:pt x="45" y="117"/>
                    </a:lnTo>
                    <a:lnTo>
                      <a:pt x="45" y="119"/>
                    </a:lnTo>
                    <a:lnTo>
                      <a:pt x="43" y="121"/>
                    </a:lnTo>
                    <a:lnTo>
                      <a:pt x="58" y="105"/>
                    </a:lnTo>
                    <a:lnTo>
                      <a:pt x="81" y="84"/>
                    </a:lnTo>
                    <a:lnTo>
                      <a:pt x="106" y="65"/>
                    </a:lnTo>
                    <a:lnTo>
                      <a:pt x="133" y="50"/>
                    </a:lnTo>
                    <a:lnTo>
                      <a:pt x="162" y="36"/>
                    </a:lnTo>
                    <a:lnTo>
                      <a:pt x="190" y="25"/>
                    </a:lnTo>
                    <a:lnTo>
                      <a:pt x="221" y="17"/>
                    </a:lnTo>
                    <a:lnTo>
                      <a:pt x="254" y="11"/>
                    </a:lnTo>
                    <a:lnTo>
                      <a:pt x="286" y="11"/>
                    </a:lnTo>
                    <a:lnTo>
                      <a:pt x="321" y="11"/>
                    </a:lnTo>
                    <a:lnTo>
                      <a:pt x="336" y="15"/>
                    </a:lnTo>
                    <a:lnTo>
                      <a:pt x="336" y="13"/>
                    </a:lnTo>
                    <a:lnTo>
                      <a:pt x="336" y="11"/>
                    </a:lnTo>
                    <a:lnTo>
                      <a:pt x="336" y="11"/>
                    </a:lnTo>
                    <a:lnTo>
                      <a:pt x="336" y="9"/>
                    </a:lnTo>
                    <a:lnTo>
                      <a:pt x="338" y="7"/>
                    </a:lnTo>
                    <a:lnTo>
                      <a:pt x="338" y="7"/>
                    </a:lnTo>
                    <a:lnTo>
                      <a:pt x="338" y="5"/>
                    </a:lnTo>
                    <a:lnTo>
                      <a:pt x="338" y="5"/>
                    </a:lnTo>
                    <a:close/>
                    <a:moveTo>
                      <a:pt x="0" y="502"/>
                    </a:moveTo>
                    <a:lnTo>
                      <a:pt x="10" y="520"/>
                    </a:lnTo>
                    <a:lnTo>
                      <a:pt x="29" y="546"/>
                    </a:lnTo>
                    <a:lnTo>
                      <a:pt x="50" y="570"/>
                    </a:lnTo>
                    <a:lnTo>
                      <a:pt x="75" y="591"/>
                    </a:lnTo>
                    <a:lnTo>
                      <a:pt x="100" y="610"/>
                    </a:lnTo>
                    <a:lnTo>
                      <a:pt x="127" y="627"/>
                    </a:lnTo>
                    <a:lnTo>
                      <a:pt x="158" y="641"/>
                    </a:lnTo>
                    <a:lnTo>
                      <a:pt x="189" y="652"/>
                    </a:lnTo>
                    <a:lnTo>
                      <a:pt x="219" y="660"/>
                    </a:lnTo>
                    <a:lnTo>
                      <a:pt x="254" y="665"/>
                    </a:lnTo>
                    <a:lnTo>
                      <a:pt x="286" y="667"/>
                    </a:lnTo>
                    <a:lnTo>
                      <a:pt x="321" y="665"/>
                    </a:lnTo>
                    <a:lnTo>
                      <a:pt x="340" y="664"/>
                    </a:lnTo>
                    <a:lnTo>
                      <a:pt x="340" y="662"/>
                    </a:lnTo>
                    <a:lnTo>
                      <a:pt x="340" y="660"/>
                    </a:lnTo>
                    <a:lnTo>
                      <a:pt x="340" y="660"/>
                    </a:lnTo>
                    <a:lnTo>
                      <a:pt x="340" y="658"/>
                    </a:lnTo>
                    <a:lnTo>
                      <a:pt x="340" y="656"/>
                    </a:lnTo>
                    <a:lnTo>
                      <a:pt x="340" y="656"/>
                    </a:lnTo>
                    <a:lnTo>
                      <a:pt x="338" y="654"/>
                    </a:lnTo>
                    <a:lnTo>
                      <a:pt x="338" y="652"/>
                    </a:lnTo>
                    <a:lnTo>
                      <a:pt x="321" y="656"/>
                    </a:lnTo>
                    <a:lnTo>
                      <a:pt x="286" y="658"/>
                    </a:lnTo>
                    <a:lnTo>
                      <a:pt x="254" y="656"/>
                    </a:lnTo>
                    <a:lnTo>
                      <a:pt x="221" y="650"/>
                    </a:lnTo>
                    <a:lnTo>
                      <a:pt x="190" y="642"/>
                    </a:lnTo>
                    <a:lnTo>
                      <a:pt x="162" y="631"/>
                    </a:lnTo>
                    <a:lnTo>
                      <a:pt x="133" y="617"/>
                    </a:lnTo>
                    <a:lnTo>
                      <a:pt x="106" y="602"/>
                    </a:lnTo>
                    <a:lnTo>
                      <a:pt x="81" y="583"/>
                    </a:lnTo>
                    <a:lnTo>
                      <a:pt x="58" y="562"/>
                    </a:lnTo>
                    <a:lnTo>
                      <a:pt x="37" y="539"/>
                    </a:lnTo>
                    <a:lnTo>
                      <a:pt x="20" y="514"/>
                    </a:lnTo>
                    <a:lnTo>
                      <a:pt x="2" y="487"/>
                    </a:lnTo>
                    <a:lnTo>
                      <a:pt x="0" y="481"/>
                    </a:lnTo>
                    <a:lnTo>
                      <a:pt x="0" y="485"/>
                    </a:lnTo>
                    <a:lnTo>
                      <a:pt x="0" y="487"/>
                    </a:lnTo>
                    <a:lnTo>
                      <a:pt x="0" y="489"/>
                    </a:lnTo>
                    <a:lnTo>
                      <a:pt x="0" y="493"/>
                    </a:lnTo>
                    <a:lnTo>
                      <a:pt x="0" y="495"/>
                    </a:lnTo>
                    <a:lnTo>
                      <a:pt x="0" y="499"/>
                    </a:lnTo>
                    <a:lnTo>
                      <a:pt x="0" y="500"/>
                    </a:lnTo>
                    <a:lnTo>
                      <a:pt x="0" y="502"/>
                    </a:lnTo>
                    <a:close/>
                  </a:path>
                </a:pathLst>
              </a:custGeom>
              <a:solidFill>
                <a:srgbClr val="bfe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Freeform 201"/>
              <p:cNvSpPr/>
              <p:nvPr/>
            </p:nvSpPr>
            <p:spPr>
              <a:xfrm>
                <a:off x="1803600" y="2619360"/>
                <a:ext cx="572040" cy="1105920"/>
              </a:xfrm>
              <a:custGeom>
                <a:avLst/>
                <a:gdLst>
                  <a:gd name="textAreaLeft" fmla="*/ 0 w 572040"/>
                  <a:gd name="textAreaRight" fmla="*/ 572400 w 572040"/>
                  <a:gd name="textAreaTop" fmla="*/ 0 h 1105920"/>
                  <a:gd name="textAreaBottom" fmla="*/ 1106280 h 1105920"/>
                </a:gdLst>
                <a:ahLst/>
                <a:rect l="textAreaLeft" t="textAreaTop" r="textAreaRight" b="textAreaBottom"/>
                <a:pathLst>
                  <a:path w="340" h="657">
                    <a:moveTo>
                      <a:pt x="336" y="4"/>
                    </a:moveTo>
                    <a:lnTo>
                      <a:pt x="321" y="2"/>
                    </a:lnTo>
                    <a:lnTo>
                      <a:pt x="286" y="0"/>
                    </a:lnTo>
                    <a:lnTo>
                      <a:pt x="254" y="2"/>
                    </a:lnTo>
                    <a:lnTo>
                      <a:pt x="221" y="6"/>
                    </a:lnTo>
                    <a:lnTo>
                      <a:pt x="189" y="16"/>
                    </a:lnTo>
                    <a:lnTo>
                      <a:pt x="160" y="25"/>
                    </a:lnTo>
                    <a:lnTo>
                      <a:pt x="131" y="41"/>
                    </a:lnTo>
                    <a:lnTo>
                      <a:pt x="104" y="56"/>
                    </a:lnTo>
                    <a:lnTo>
                      <a:pt x="77" y="75"/>
                    </a:lnTo>
                    <a:lnTo>
                      <a:pt x="54" y="96"/>
                    </a:lnTo>
                    <a:lnTo>
                      <a:pt x="46" y="106"/>
                    </a:lnTo>
                    <a:lnTo>
                      <a:pt x="45" y="110"/>
                    </a:lnTo>
                    <a:lnTo>
                      <a:pt x="45" y="112"/>
                    </a:lnTo>
                    <a:lnTo>
                      <a:pt x="45" y="114"/>
                    </a:lnTo>
                    <a:lnTo>
                      <a:pt x="43" y="116"/>
                    </a:lnTo>
                    <a:lnTo>
                      <a:pt x="43" y="119"/>
                    </a:lnTo>
                    <a:lnTo>
                      <a:pt x="43" y="121"/>
                    </a:lnTo>
                    <a:lnTo>
                      <a:pt x="43" y="123"/>
                    </a:lnTo>
                    <a:lnTo>
                      <a:pt x="41" y="127"/>
                    </a:lnTo>
                    <a:lnTo>
                      <a:pt x="41" y="127"/>
                    </a:lnTo>
                    <a:lnTo>
                      <a:pt x="62" y="104"/>
                    </a:lnTo>
                    <a:lnTo>
                      <a:pt x="85" y="83"/>
                    </a:lnTo>
                    <a:lnTo>
                      <a:pt x="110" y="66"/>
                    </a:lnTo>
                    <a:lnTo>
                      <a:pt x="135" y="48"/>
                    </a:lnTo>
                    <a:lnTo>
                      <a:pt x="164" y="35"/>
                    </a:lnTo>
                    <a:lnTo>
                      <a:pt x="192" y="25"/>
                    </a:lnTo>
                    <a:lnTo>
                      <a:pt x="223" y="18"/>
                    </a:lnTo>
                    <a:lnTo>
                      <a:pt x="254" y="12"/>
                    </a:lnTo>
                    <a:lnTo>
                      <a:pt x="286" y="10"/>
                    </a:lnTo>
                    <a:lnTo>
                      <a:pt x="319" y="12"/>
                    </a:lnTo>
                    <a:lnTo>
                      <a:pt x="336" y="14"/>
                    </a:lnTo>
                    <a:lnTo>
                      <a:pt x="336" y="14"/>
                    </a:lnTo>
                    <a:lnTo>
                      <a:pt x="336" y="12"/>
                    </a:lnTo>
                    <a:lnTo>
                      <a:pt x="336" y="10"/>
                    </a:lnTo>
                    <a:lnTo>
                      <a:pt x="336" y="10"/>
                    </a:lnTo>
                    <a:lnTo>
                      <a:pt x="336" y="8"/>
                    </a:lnTo>
                    <a:lnTo>
                      <a:pt x="336" y="6"/>
                    </a:lnTo>
                    <a:lnTo>
                      <a:pt x="336" y="6"/>
                    </a:lnTo>
                    <a:lnTo>
                      <a:pt x="336" y="4"/>
                    </a:lnTo>
                    <a:close/>
                    <a:moveTo>
                      <a:pt x="0" y="488"/>
                    </a:moveTo>
                    <a:lnTo>
                      <a:pt x="14" y="513"/>
                    </a:lnTo>
                    <a:lnTo>
                      <a:pt x="33" y="538"/>
                    </a:lnTo>
                    <a:lnTo>
                      <a:pt x="54" y="561"/>
                    </a:lnTo>
                    <a:lnTo>
                      <a:pt x="77" y="582"/>
                    </a:lnTo>
                    <a:lnTo>
                      <a:pt x="104" y="601"/>
                    </a:lnTo>
                    <a:lnTo>
                      <a:pt x="131" y="618"/>
                    </a:lnTo>
                    <a:lnTo>
                      <a:pt x="160" y="632"/>
                    </a:lnTo>
                    <a:lnTo>
                      <a:pt x="189" y="643"/>
                    </a:lnTo>
                    <a:lnTo>
                      <a:pt x="221" y="651"/>
                    </a:lnTo>
                    <a:lnTo>
                      <a:pt x="254" y="655"/>
                    </a:lnTo>
                    <a:lnTo>
                      <a:pt x="286" y="657"/>
                    </a:lnTo>
                    <a:lnTo>
                      <a:pt x="321" y="655"/>
                    </a:lnTo>
                    <a:lnTo>
                      <a:pt x="340" y="653"/>
                    </a:lnTo>
                    <a:lnTo>
                      <a:pt x="340" y="651"/>
                    </a:lnTo>
                    <a:lnTo>
                      <a:pt x="340" y="651"/>
                    </a:lnTo>
                    <a:lnTo>
                      <a:pt x="338" y="649"/>
                    </a:lnTo>
                    <a:lnTo>
                      <a:pt x="338" y="647"/>
                    </a:lnTo>
                    <a:lnTo>
                      <a:pt x="338" y="647"/>
                    </a:lnTo>
                    <a:lnTo>
                      <a:pt x="338" y="645"/>
                    </a:lnTo>
                    <a:lnTo>
                      <a:pt x="338" y="643"/>
                    </a:lnTo>
                    <a:lnTo>
                      <a:pt x="338" y="643"/>
                    </a:lnTo>
                    <a:lnTo>
                      <a:pt x="319" y="645"/>
                    </a:lnTo>
                    <a:lnTo>
                      <a:pt x="286" y="647"/>
                    </a:lnTo>
                    <a:lnTo>
                      <a:pt x="254" y="645"/>
                    </a:lnTo>
                    <a:lnTo>
                      <a:pt x="223" y="641"/>
                    </a:lnTo>
                    <a:lnTo>
                      <a:pt x="192" y="634"/>
                    </a:lnTo>
                    <a:lnTo>
                      <a:pt x="164" y="622"/>
                    </a:lnTo>
                    <a:lnTo>
                      <a:pt x="135" y="609"/>
                    </a:lnTo>
                    <a:lnTo>
                      <a:pt x="110" y="593"/>
                    </a:lnTo>
                    <a:lnTo>
                      <a:pt x="85" y="574"/>
                    </a:lnTo>
                    <a:lnTo>
                      <a:pt x="62" y="553"/>
                    </a:lnTo>
                    <a:lnTo>
                      <a:pt x="41" y="532"/>
                    </a:lnTo>
                    <a:lnTo>
                      <a:pt x="23" y="507"/>
                    </a:lnTo>
                    <a:lnTo>
                      <a:pt x="8" y="480"/>
                    </a:lnTo>
                    <a:lnTo>
                      <a:pt x="0" y="465"/>
                    </a:lnTo>
                    <a:lnTo>
                      <a:pt x="0" y="469"/>
                    </a:lnTo>
                    <a:lnTo>
                      <a:pt x="0" y="470"/>
                    </a:lnTo>
                    <a:lnTo>
                      <a:pt x="0" y="474"/>
                    </a:lnTo>
                    <a:lnTo>
                      <a:pt x="0" y="476"/>
                    </a:lnTo>
                    <a:lnTo>
                      <a:pt x="0" y="480"/>
                    </a:lnTo>
                    <a:lnTo>
                      <a:pt x="0" y="482"/>
                    </a:lnTo>
                    <a:lnTo>
                      <a:pt x="0" y="486"/>
                    </a:lnTo>
                    <a:lnTo>
                      <a:pt x="0" y="488"/>
                    </a:lnTo>
                    <a:close/>
                  </a:path>
                </a:pathLst>
              </a:custGeom>
              <a:solidFill>
                <a:srgbClr val="c0e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Freeform 202"/>
              <p:cNvSpPr/>
              <p:nvPr/>
            </p:nvSpPr>
            <p:spPr>
              <a:xfrm>
                <a:off x="1803600" y="2629440"/>
                <a:ext cx="568800" cy="1089720"/>
              </a:xfrm>
              <a:custGeom>
                <a:avLst/>
                <a:gdLst>
                  <a:gd name="textAreaLeft" fmla="*/ 0 w 568800"/>
                  <a:gd name="textAreaRight" fmla="*/ 568800 w 568800"/>
                  <a:gd name="textAreaTop" fmla="*/ 0 h 1089720"/>
                  <a:gd name="textAreaBottom" fmla="*/ 1090080 h 1089720"/>
                </a:gdLst>
                <a:ahLst/>
                <a:rect l="textAreaLeft" t="textAreaTop" r="textAreaRight" b="textAreaBottom"/>
                <a:pathLst>
                  <a:path w="338" h="647">
                    <a:moveTo>
                      <a:pt x="336" y="4"/>
                    </a:moveTo>
                    <a:lnTo>
                      <a:pt x="321" y="0"/>
                    </a:lnTo>
                    <a:lnTo>
                      <a:pt x="286" y="0"/>
                    </a:lnTo>
                    <a:lnTo>
                      <a:pt x="254" y="0"/>
                    </a:lnTo>
                    <a:lnTo>
                      <a:pt x="221" y="6"/>
                    </a:lnTo>
                    <a:lnTo>
                      <a:pt x="190" y="14"/>
                    </a:lnTo>
                    <a:lnTo>
                      <a:pt x="162" y="25"/>
                    </a:lnTo>
                    <a:lnTo>
                      <a:pt x="133" y="39"/>
                    </a:lnTo>
                    <a:lnTo>
                      <a:pt x="106" y="54"/>
                    </a:lnTo>
                    <a:lnTo>
                      <a:pt x="81" y="73"/>
                    </a:lnTo>
                    <a:lnTo>
                      <a:pt x="58" y="94"/>
                    </a:lnTo>
                    <a:lnTo>
                      <a:pt x="43" y="110"/>
                    </a:lnTo>
                    <a:lnTo>
                      <a:pt x="43" y="113"/>
                    </a:lnTo>
                    <a:lnTo>
                      <a:pt x="43" y="115"/>
                    </a:lnTo>
                    <a:lnTo>
                      <a:pt x="43" y="119"/>
                    </a:lnTo>
                    <a:lnTo>
                      <a:pt x="41" y="121"/>
                    </a:lnTo>
                    <a:lnTo>
                      <a:pt x="41" y="125"/>
                    </a:lnTo>
                    <a:lnTo>
                      <a:pt x="41" y="127"/>
                    </a:lnTo>
                    <a:lnTo>
                      <a:pt x="39" y="129"/>
                    </a:lnTo>
                    <a:lnTo>
                      <a:pt x="39" y="133"/>
                    </a:lnTo>
                    <a:lnTo>
                      <a:pt x="45" y="123"/>
                    </a:lnTo>
                    <a:lnTo>
                      <a:pt x="66" y="102"/>
                    </a:lnTo>
                    <a:lnTo>
                      <a:pt x="89" y="81"/>
                    </a:lnTo>
                    <a:lnTo>
                      <a:pt x="112" y="63"/>
                    </a:lnTo>
                    <a:lnTo>
                      <a:pt x="139" y="48"/>
                    </a:lnTo>
                    <a:lnTo>
                      <a:pt x="165" y="35"/>
                    </a:lnTo>
                    <a:lnTo>
                      <a:pt x="194" y="23"/>
                    </a:lnTo>
                    <a:lnTo>
                      <a:pt x="223" y="16"/>
                    </a:lnTo>
                    <a:lnTo>
                      <a:pt x="256" y="12"/>
                    </a:lnTo>
                    <a:lnTo>
                      <a:pt x="286" y="10"/>
                    </a:lnTo>
                    <a:lnTo>
                      <a:pt x="319" y="12"/>
                    </a:lnTo>
                    <a:lnTo>
                      <a:pt x="334" y="14"/>
                    </a:lnTo>
                    <a:lnTo>
                      <a:pt x="334" y="12"/>
                    </a:lnTo>
                    <a:lnTo>
                      <a:pt x="336" y="12"/>
                    </a:lnTo>
                    <a:lnTo>
                      <a:pt x="336" y="10"/>
                    </a:lnTo>
                    <a:lnTo>
                      <a:pt x="336" y="8"/>
                    </a:lnTo>
                    <a:lnTo>
                      <a:pt x="336" y="8"/>
                    </a:lnTo>
                    <a:lnTo>
                      <a:pt x="336" y="6"/>
                    </a:lnTo>
                    <a:lnTo>
                      <a:pt x="336" y="4"/>
                    </a:lnTo>
                    <a:lnTo>
                      <a:pt x="336" y="4"/>
                    </a:lnTo>
                    <a:close/>
                    <a:moveTo>
                      <a:pt x="0" y="470"/>
                    </a:moveTo>
                    <a:lnTo>
                      <a:pt x="2" y="476"/>
                    </a:lnTo>
                    <a:lnTo>
                      <a:pt x="20" y="503"/>
                    </a:lnTo>
                    <a:lnTo>
                      <a:pt x="37" y="528"/>
                    </a:lnTo>
                    <a:lnTo>
                      <a:pt x="58" y="551"/>
                    </a:lnTo>
                    <a:lnTo>
                      <a:pt x="81" y="572"/>
                    </a:lnTo>
                    <a:lnTo>
                      <a:pt x="106" y="591"/>
                    </a:lnTo>
                    <a:lnTo>
                      <a:pt x="133" y="606"/>
                    </a:lnTo>
                    <a:lnTo>
                      <a:pt x="162" y="620"/>
                    </a:lnTo>
                    <a:lnTo>
                      <a:pt x="190" y="631"/>
                    </a:lnTo>
                    <a:lnTo>
                      <a:pt x="221" y="639"/>
                    </a:lnTo>
                    <a:lnTo>
                      <a:pt x="254" y="645"/>
                    </a:lnTo>
                    <a:lnTo>
                      <a:pt x="286" y="647"/>
                    </a:lnTo>
                    <a:lnTo>
                      <a:pt x="321" y="645"/>
                    </a:lnTo>
                    <a:lnTo>
                      <a:pt x="338" y="641"/>
                    </a:lnTo>
                    <a:lnTo>
                      <a:pt x="338" y="641"/>
                    </a:lnTo>
                    <a:lnTo>
                      <a:pt x="338" y="639"/>
                    </a:lnTo>
                    <a:lnTo>
                      <a:pt x="338" y="637"/>
                    </a:lnTo>
                    <a:lnTo>
                      <a:pt x="338" y="637"/>
                    </a:lnTo>
                    <a:lnTo>
                      <a:pt x="338" y="635"/>
                    </a:lnTo>
                    <a:lnTo>
                      <a:pt x="338" y="633"/>
                    </a:lnTo>
                    <a:lnTo>
                      <a:pt x="338" y="633"/>
                    </a:lnTo>
                    <a:lnTo>
                      <a:pt x="338" y="631"/>
                    </a:lnTo>
                    <a:lnTo>
                      <a:pt x="319" y="633"/>
                    </a:lnTo>
                    <a:lnTo>
                      <a:pt x="286" y="635"/>
                    </a:lnTo>
                    <a:lnTo>
                      <a:pt x="256" y="633"/>
                    </a:lnTo>
                    <a:lnTo>
                      <a:pt x="223" y="630"/>
                    </a:lnTo>
                    <a:lnTo>
                      <a:pt x="194" y="622"/>
                    </a:lnTo>
                    <a:lnTo>
                      <a:pt x="165" y="610"/>
                    </a:lnTo>
                    <a:lnTo>
                      <a:pt x="139" y="599"/>
                    </a:lnTo>
                    <a:lnTo>
                      <a:pt x="112" y="582"/>
                    </a:lnTo>
                    <a:lnTo>
                      <a:pt x="89" y="564"/>
                    </a:lnTo>
                    <a:lnTo>
                      <a:pt x="66" y="545"/>
                    </a:lnTo>
                    <a:lnTo>
                      <a:pt x="45" y="522"/>
                    </a:lnTo>
                    <a:lnTo>
                      <a:pt x="27" y="497"/>
                    </a:lnTo>
                    <a:lnTo>
                      <a:pt x="12" y="472"/>
                    </a:lnTo>
                    <a:lnTo>
                      <a:pt x="0" y="447"/>
                    </a:lnTo>
                    <a:lnTo>
                      <a:pt x="0" y="451"/>
                    </a:lnTo>
                    <a:lnTo>
                      <a:pt x="0" y="453"/>
                    </a:lnTo>
                    <a:lnTo>
                      <a:pt x="0" y="457"/>
                    </a:lnTo>
                    <a:lnTo>
                      <a:pt x="0" y="459"/>
                    </a:lnTo>
                    <a:lnTo>
                      <a:pt x="0" y="463"/>
                    </a:lnTo>
                    <a:lnTo>
                      <a:pt x="0" y="464"/>
                    </a:lnTo>
                    <a:lnTo>
                      <a:pt x="0" y="468"/>
                    </a:lnTo>
                    <a:lnTo>
                      <a:pt x="0" y="470"/>
                    </a:lnTo>
                    <a:close/>
                  </a:path>
                </a:pathLst>
              </a:custGeom>
              <a:solidFill>
                <a:srgbClr val="c1e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Freeform 203"/>
              <p:cNvSpPr/>
              <p:nvPr/>
            </p:nvSpPr>
            <p:spPr>
              <a:xfrm>
                <a:off x="1803600" y="2636280"/>
                <a:ext cx="568800" cy="1072440"/>
              </a:xfrm>
              <a:custGeom>
                <a:avLst/>
                <a:gdLst>
                  <a:gd name="textAreaLeft" fmla="*/ 0 w 568800"/>
                  <a:gd name="textAreaRight" fmla="*/ 568800 w 568800"/>
                  <a:gd name="textAreaTop" fmla="*/ 0 h 1072440"/>
                  <a:gd name="textAreaBottom" fmla="*/ 1072800 h 1072440"/>
                </a:gdLst>
                <a:ahLst/>
                <a:rect l="textAreaLeft" t="textAreaTop" r="textAreaRight" b="textAreaBottom"/>
                <a:pathLst>
                  <a:path w="338" h="637">
                    <a:moveTo>
                      <a:pt x="336" y="4"/>
                    </a:moveTo>
                    <a:lnTo>
                      <a:pt x="319" y="2"/>
                    </a:lnTo>
                    <a:lnTo>
                      <a:pt x="286" y="0"/>
                    </a:lnTo>
                    <a:lnTo>
                      <a:pt x="254" y="2"/>
                    </a:lnTo>
                    <a:lnTo>
                      <a:pt x="223" y="8"/>
                    </a:lnTo>
                    <a:lnTo>
                      <a:pt x="192" y="15"/>
                    </a:lnTo>
                    <a:lnTo>
                      <a:pt x="164" y="25"/>
                    </a:lnTo>
                    <a:lnTo>
                      <a:pt x="135" y="38"/>
                    </a:lnTo>
                    <a:lnTo>
                      <a:pt x="110" y="56"/>
                    </a:lnTo>
                    <a:lnTo>
                      <a:pt x="85" y="73"/>
                    </a:lnTo>
                    <a:lnTo>
                      <a:pt x="62" y="94"/>
                    </a:lnTo>
                    <a:lnTo>
                      <a:pt x="41" y="117"/>
                    </a:lnTo>
                    <a:lnTo>
                      <a:pt x="41" y="117"/>
                    </a:lnTo>
                    <a:lnTo>
                      <a:pt x="41" y="119"/>
                    </a:lnTo>
                    <a:lnTo>
                      <a:pt x="41" y="123"/>
                    </a:lnTo>
                    <a:lnTo>
                      <a:pt x="39" y="125"/>
                    </a:lnTo>
                    <a:lnTo>
                      <a:pt x="39" y="129"/>
                    </a:lnTo>
                    <a:lnTo>
                      <a:pt x="39" y="130"/>
                    </a:lnTo>
                    <a:lnTo>
                      <a:pt x="37" y="134"/>
                    </a:lnTo>
                    <a:lnTo>
                      <a:pt x="37" y="138"/>
                    </a:lnTo>
                    <a:lnTo>
                      <a:pt x="37" y="140"/>
                    </a:lnTo>
                    <a:lnTo>
                      <a:pt x="50" y="123"/>
                    </a:lnTo>
                    <a:lnTo>
                      <a:pt x="70" y="102"/>
                    </a:lnTo>
                    <a:lnTo>
                      <a:pt x="91" y="81"/>
                    </a:lnTo>
                    <a:lnTo>
                      <a:pt x="116" y="63"/>
                    </a:lnTo>
                    <a:lnTo>
                      <a:pt x="141" y="48"/>
                    </a:lnTo>
                    <a:lnTo>
                      <a:pt x="167" y="35"/>
                    </a:lnTo>
                    <a:lnTo>
                      <a:pt x="196" y="25"/>
                    </a:lnTo>
                    <a:lnTo>
                      <a:pt x="225" y="17"/>
                    </a:lnTo>
                    <a:lnTo>
                      <a:pt x="256" y="12"/>
                    </a:lnTo>
                    <a:lnTo>
                      <a:pt x="286" y="12"/>
                    </a:lnTo>
                    <a:lnTo>
                      <a:pt x="319" y="12"/>
                    </a:lnTo>
                    <a:lnTo>
                      <a:pt x="334" y="15"/>
                    </a:lnTo>
                    <a:lnTo>
                      <a:pt x="334" y="13"/>
                    </a:lnTo>
                    <a:lnTo>
                      <a:pt x="334" y="12"/>
                    </a:lnTo>
                    <a:lnTo>
                      <a:pt x="334" y="12"/>
                    </a:lnTo>
                    <a:lnTo>
                      <a:pt x="334" y="10"/>
                    </a:lnTo>
                    <a:lnTo>
                      <a:pt x="334" y="8"/>
                    </a:lnTo>
                    <a:lnTo>
                      <a:pt x="336" y="8"/>
                    </a:lnTo>
                    <a:lnTo>
                      <a:pt x="336" y="6"/>
                    </a:lnTo>
                    <a:lnTo>
                      <a:pt x="336" y="4"/>
                    </a:lnTo>
                    <a:close/>
                    <a:moveTo>
                      <a:pt x="0" y="455"/>
                    </a:moveTo>
                    <a:lnTo>
                      <a:pt x="8" y="470"/>
                    </a:lnTo>
                    <a:lnTo>
                      <a:pt x="23" y="497"/>
                    </a:lnTo>
                    <a:lnTo>
                      <a:pt x="41" y="522"/>
                    </a:lnTo>
                    <a:lnTo>
                      <a:pt x="62" y="543"/>
                    </a:lnTo>
                    <a:lnTo>
                      <a:pt x="85" y="564"/>
                    </a:lnTo>
                    <a:lnTo>
                      <a:pt x="110" y="583"/>
                    </a:lnTo>
                    <a:lnTo>
                      <a:pt x="135" y="599"/>
                    </a:lnTo>
                    <a:lnTo>
                      <a:pt x="164" y="612"/>
                    </a:lnTo>
                    <a:lnTo>
                      <a:pt x="192" y="624"/>
                    </a:lnTo>
                    <a:lnTo>
                      <a:pt x="223" y="631"/>
                    </a:lnTo>
                    <a:lnTo>
                      <a:pt x="254" y="635"/>
                    </a:lnTo>
                    <a:lnTo>
                      <a:pt x="286" y="637"/>
                    </a:lnTo>
                    <a:lnTo>
                      <a:pt x="319" y="635"/>
                    </a:lnTo>
                    <a:lnTo>
                      <a:pt x="338" y="633"/>
                    </a:lnTo>
                    <a:lnTo>
                      <a:pt x="338" y="631"/>
                    </a:lnTo>
                    <a:lnTo>
                      <a:pt x="338" y="629"/>
                    </a:lnTo>
                    <a:lnTo>
                      <a:pt x="338" y="629"/>
                    </a:lnTo>
                    <a:lnTo>
                      <a:pt x="338" y="627"/>
                    </a:lnTo>
                    <a:lnTo>
                      <a:pt x="336" y="626"/>
                    </a:lnTo>
                    <a:lnTo>
                      <a:pt x="336" y="626"/>
                    </a:lnTo>
                    <a:lnTo>
                      <a:pt x="336" y="624"/>
                    </a:lnTo>
                    <a:lnTo>
                      <a:pt x="336" y="622"/>
                    </a:lnTo>
                    <a:lnTo>
                      <a:pt x="319" y="626"/>
                    </a:lnTo>
                    <a:lnTo>
                      <a:pt x="286" y="627"/>
                    </a:lnTo>
                    <a:lnTo>
                      <a:pt x="256" y="626"/>
                    </a:lnTo>
                    <a:lnTo>
                      <a:pt x="225" y="620"/>
                    </a:lnTo>
                    <a:lnTo>
                      <a:pt x="196" y="612"/>
                    </a:lnTo>
                    <a:lnTo>
                      <a:pt x="167" y="602"/>
                    </a:lnTo>
                    <a:lnTo>
                      <a:pt x="141" y="589"/>
                    </a:lnTo>
                    <a:lnTo>
                      <a:pt x="116" y="574"/>
                    </a:lnTo>
                    <a:lnTo>
                      <a:pt x="91" y="556"/>
                    </a:lnTo>
                    <a:lnTo>
                      <a:pt x="70" y="537"/>
                    </a:lnTo>
                    <a:lnTo>
                      <a:pt x="50" y="514"/>
                    </a:lnTo>
                    <a:lnTo>
                      <a:pt x="31" y="491"/>
                    </a:lnTo>
                    <a:lnTo>
                      <a:pt x="16" y="466"/>
                    </a:lnTo>
                    <a:lnTo>
                      <a:pt x="2" y="439"/>
                    </a:lnTo>
                    <a:lnTo>
                      <a:pt x="0" y="430"/>
                    </a:lnTo>
                    <a:lnTo>
                      <a:pt x="0" y="434"/>
                    </a:lnTo>
                    <a:lnTo>
                      <a:pt x="0" y="437"/>
                    </a:lnTo>
                    <a:lnTo>
                      <a:pt x="0" y="439"/>
                    </a:lnTo>
                    <a:lnTo>
                      <a:pt x="0" y="443"/>
                    </a:lnTo>
                    <a:lnTo>
                      <a:pt x="0" y="445"/>
                    </a:lnTo>
                    <a:lnTo>
                      <a:pt x="0" y="449"/>
                    </a:lnTo>
                    <a:lnTo>
                      <a:pt x="0" y="453"/>
                    </a:lnTo>
                    <a:lnTo>
                      <a:pt x="0" y="455"/>
                    </a:lnTo>
                    <a:close/>
                  </a:path>
                </a:pathLst>
              </a:custGeom>
              <a:solidFill>
                <a:srgbClr val="c2e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Freeform 204"/>
              <p:cNvSpPr/>
              <p:nvPr/>
            </p:nvSpPr>
            <p:spPr>
              <a:xfrm>
                <a:off x="1803600" y="2646720"/>
                <a:ext cx="568800" cy="1052280"/>
              </a:xfrm>
              <a:custGeom>
                <a:avLst/>
                <a:gdLst>
                  <a:gd name="textAreaLeft" fmla="*/ 0 w 568800"/>
                  <a:gd name="textAreaRight" fmla="*/ 568800 w 568800"/>
                  <a:gd name="textAreaTop" fmla="*/ 0 h 1052280"/>
                  <a:gd name="textAreaBottom" fmla="*/ 1052640 h 1052280"/>
                </a:gdLst>
                <a:ahLst/>
                <a:rect l="textAreaLeft" t="textAreaTop" r="textAreaRight" b="textAreaBottom"/>
                <a:pathLst>
                  <a:path w="338" h="625">
                    <a:moveTo>
                      <a:pt x="334" y="4"/>
                    </a:moveTo>
                    <a:lnTo>
                      <a:pt x="319" y="2"/>
                    </a:lnTo>
                    <a:lnTo>
                      <a:pt x="286" y="0"/>
                    </a:lnTo>
                    <a:lnTo>
                      <a:pt x="256" y="2"/>
                    </a:lnTo>
                    <a:lnTo>
                      <a:pt x="223" y="6"/>
                    </a:lnTo>
                    <a:lnTo>
                      <a:pt x="194" y="13"/>
                    </a:lnTo>
                    <a:lnTo>
                      <a:pt x="165" y="25"/>
                    </a:lnTo>
                    <a:lnTo>
                      <a:pt x="139" y="38"/>
                    </a:lnTo>
                    <a:lnTo>
                      <a:pt x="112" y="53"/>
                    </a:lnTo>
                    <a:lnTo>
                      <a:pt x="89" y="71"/>
                    </a:lnTo>
                    <a:lnTo>
                      <a:pt x="66" y="92"/>
                    </a:lnTo>
                    <a:lnTo>
                      <a:pt x="45" y="113"/>
                    </a:lnTo>
                    <a:lnTo>
                      <a:pt x="39" y="123"/>
                    </a:lnTo>
                    <a:lnTo>
                      <a:pt x="39" y="126"/>
                    </a:lnTo>
                    <a:lnTo>
                      <a:pt x="37" y="128"/>
                    </a:lnTo>
                    <a:lnTo>
                      <a:pt x="37" y="132"/>
                    </a:lnTo>
                    <a:lnTo>
                      <a:pt x="37" y="134"/>
                    </a:lnTo>
                    <a:lnTo>
                      <a:pt x="35" y="138"/>
                    </a:lnTo>
                    <a:lnTo>
                      <a:pt x="35" y="142"/>
                    </a:lnTo>
                    <a:lnTo>
                      <a:pt x="35" y="144"/>
                    </a:lnTo>
                    <a:lnTo>
                      <a:pt x="33" y="148"/>
                    </a:lnTo>
                    <a:lnTo>
                      <a:pt x="35" y="144"/>
                    </a:lnTo>
                    <a:lnTo>
                      <a:pt x="54" y="121"/>
                    </a:lnTo>
                    <a:lnTo>
                      <a:pt x="73" y="100"/>
                    </a:lnTo>
                    <a:lnTo>
                      <a:pt x="94" y="78"/>
                    </a:lnTo>
                    <a:lnTo>
                      <a:pt x="118" y="61"/>
                    </a:lnTo>
                    <a:lnTo>
                      <a:pt x="142" y="46"/>
                    </a:lnTo>
                    <a:lnTo>
                      <a:pt x="169" y="34"/>
                    </a:lnTo>
                    <a:lnTo>
                      <a:pt x="196" y="23"/>
                    </a:lnTo>
                    <a:lnTo>
                      <a:pt x="227" y="17"/>
                    </a:lnTo>
                    <a:lnTo>
                      <a:pt x="256" y="11"/>
                    </a:lnTo>
                    <a:lnTo>
                      <a:pt x="286" y="9"/>
                    </a:lnTo>
                    <a:lnTo>
                      <a:pt x="317" y="11"/>
                    </a:lnTo>
                    <a:lnTo>
                      <a:pt x="334" y="13"/>
                    </a:lnTo>
                    <a:lnTo>
                      <a:pt x="334" y="13"/>
                    </a:lnTo>
                    <a:lnTo>
                      <a:pt x="334" y="11"/>
                    </a:lnTo>
                    <a:lnTo>
                      <a:pt x="334" y="9"/>
                    </a:lnTo>
                    <a:lnTo>
                      <a:pt x="334" y="9"/>
                    </a:lnTo>
                    <a:lnTo>
                      <a:pt x="334" y="7"/>
                    </a:lnTo>
                    <a:lnTo>
                      <a:pt x="334" y="6"/>
                    </a:lnTo>
                    <a:lnTo>
                      <a:pt x="334" y="6"/>
                    </a:lnTo>
                    <a:lnTo>
                      <a:pt x="334" y="4"/>
                    </a:lnTo>
                    <a:close/>
                    <a:moveTo>
                      <a:pt x="0" y="437"/>
                    </a:moveTo>
                    <a:lnTo>
                      <a:pt x="12" y="462"/>
                    </a:lnTo>
                    <a:lnTo>
                      <a:pt x="27" y="487"/>
                    </a:lnTo>
                    <a:lnTo>
                      <a:pt x="45" y="512"/>
                    </a:lnTo>
                    <a:lnTo>
                      <a:pt x="66" y="535"/>
                    </a:lnTo>
                    <a:lnTo>
                      <a:pt x="89" y="554"/>
                    </a:lnTo>
                    <a:lnTo>
                      <a:pt x="112" y="572"/>
                    </a:lnTo>
                    <a:lnTo>
                      <a:pt x="139" y="589"/>
                    </a:lnTo>
                    <a:lnTo>
                      <a:pt x="165" y="600"/>
                    </a:lnTo>
                    <a:lnTo>
                      <a:pt x="194" y="612"/>
                    </a:lnTo>
                    <a:lnTo>
                      <a:pt x="223" y="620"/>
                    </a:lnTo>
                    <a:lnTo>
                      <a:pt x="256" y="623"/>
                    </a:lnTo>
                    <a:lnTo>
                      <a:pt x="286" y="625"/>
                    </a:lnTo>
                    <a:lnTo>
                      <a:pt x="319" y="623"/>
                    </a:lnTo>
                    <a:lnTo>
                      <a:pt x="338" y="621"/>
                    </a:lnTo>
                    <a:lnTo>
                      <a:pt x="336" y="620"/>
                    </a:lnTo>
                    <a:lnTo>
                      <a:pt x="336" y="620"/>
                    </a:lnTo>
                    <a:lnTo>
                      <a:pt x="336" y="618"/>
                    </a:lnTo>
                    <a:lnTo>
                      <a:pt x="336" y="616"/>
                    </a:lnTo>
                    <a:lnTo>
                      <a:pt x="336" y="616"/>
                    </a:lnTo>
                    <a:lnTo>
                      <a:pt x="336" y="614"/>
                    </a:lnTo>
                    <a:lnTo>
                      <a:pt x="336" y="612"/>
                    </a:lnTo>
                    <a:lnTo>
                      <a:pt x="336" y="612"/>
                    </a:lnTo>
                    <a:lnTo>
                      <a:pt x="317" y="614"/>
                    </a:lnTo>
                    <a:lnTo>
                      <a:pt x="286" y="616"/>
                    </a:lnTo>
                    <a:lnTo>
                      <a:pt x="256" y="614"/>
                    </a:lnTo>
                    <a:lnTo>
                      <a:pt x="227" y="610"/>
                    </a:lnTo>
                    <a:lnTo>
                      <a:pt x="196" y="602"/>
                    </a:lnTo>
                    <a:lnTo>
                      <a:pt x="169" y="593"/>
                    </a:lnTo>
                    <a:lnTo>
                      <a:pt x="142" y="579"/>
                    </a:lnTo>
                    <a:lnTo>
                      <a:pt x="118" y="564"/>
                    </a:lnTo>
                    <a:lnTo>
                      <a:pt x="94" y="547"/>
                    </a:lnTo>
                    <a:lnTo>
                      <a:pt x="73" y="527"/>
                    </a:lnTo>
                    <a:lnTo>
                      <a:pt x="54" y="506"/>
                    </a:lnTo>
                    <a:lnTo>
                      <a:pt x="35" y="481"/>
                    </a:lnTo>
                    <a:lnTo>
                      <a:pt x="22" y="456"/>
                    </a:lnTo>
                    <a:lnTo>
                      <a:pt x="8" y="431"/>
                    </a:lnTo>
                    <a:lnTo>
                      <a:pt x="0" y="410"/>
                    </a:lnTo>
                    <a:lnTo>
                      <a:pt x="0" y="414"/>
                    </a:lnTo>
                    <a:lnTo>
                      <a:pt x="0" y="418"/>
                    </a:lnTo>
                    <a:lnTo>
                      <a:pt x="0" y="420"/>
                    </a:lnTo>
                    <a:lnTo>
                      <a:pt x="0" y="424"/>
                    </a:lnTo>
                    <a:lnTo>
                      <a:pt x="0" y="428"/>
                    </a:lnTo>
                    <a:lnTo>
                      <a:pt x="0" y="431"/>
                    </a:lnTo>
                    <a:lnTo>
                      <a:pt x="0" y="433"/>
                    </a:lnTo>
                    <a:lnTo>
                      <a:pt x="0" y="437"/>
                    </a:lnTo>
                    <a:close/>
                  </a:path>
                </a:pathLst>
              </a:custGeom>
              <a:solidFill>
                <a:srgbClr val="c3e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Freeform 205"/>
              <p:cNvSpPr/>
              <p:nvPr/>
            </p:nvSpPr>
            <p:spPr>
              <a:xfrm>
                <a:off x="1803600" y="2656440"/>
                <a:ext cx="565200" cy="1035360"/>
              </a:xfrm>
              <a:custGeom>
                <a:avLst/>
                <a:gdLst>
                  <a:gd name="textAreaLeft" fmla="*/ 0 w 565200"/>
                  <a:gd name="textAreaRight" fmla="*/ 565560 w 56520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36" h="615">
                    <a:moveTo>
                      <a:pt x="334" y="3"/>
                    </a:moveTo>
                    <a:lnTo>
                      <a:pt x="319" y="0"/>
                    </a:lnTo>
                    <a:lnTo>
                      <a:pt x="286" y="0"/>
                    </a:lnTo>
                    <a:lnTo>
                      <a:pt x="256" y="0"/>
                    </a:lnTo>
                    <a:lnTo>
                      <a:pt x="225" y="5"/>
                    </a:lnTo>
                    <a:lnTo>
                      <a:pt x="196" y="13"/>
                    </a:lnTo>
                    <a:lnTo>
                      <a:pt x="167" y="23"/>
                    </a:lnTo>
                    <a:lnTo>
                      <a:pt x="141" y="36"/>
                    </a:lnTo>
                    <a:lnTo>
                      <a:pt x="116" y="51"/>
                    </a:lnTo>
                    <a:lnTo>
                      <a:pt x="91" y="69"/>
                    </a:lnTo>
                    <a:lnTo>
                      <a:pt x="70" y="90"/>
                    </a:lnTo>
                    <a:lnTo>
                      <a:pt x="50" y="111"/>
                    </a:lnTo>
                    <a:lnTo>
                      <a:pt x="37" y="128"/>
                    </a:lnTo>
                    <a:lnTo>
                      <a:pt x="35" y="132"/>
                    </a:lnTo>
                    <a:lnTo>
                      <a:pt x="35" y="136"/>
                    </a:lnTo>
                    <a:lnTo>
                      <a:pt x="35" y="140"/>
                    </a:lnTo>
                    <a:lnTo>
                      <a:pt x="33" y="142"/>
                    </a:lnTo>
                    <a:lnTo>
                      <a:pt x="33" y="145"/>
                    </a:lnTo>
                    <a:lnTo>
                      <a:pt x="33" y="149"/>
                    </a:lnTo>
                    <a:lnTo>
                      <a:pt x="31" y="153"/>
                    </a:lnTo>
                    <a:lnTo>
                      <a:pt x="31" y="155"/>
                    </a:lnTo>
                    <a:lnTo>
                      <a:pt x="41" y="140"/>
                    </a:lnTo>
                    <a:lnTo>
                      <a:pt x="58" y="117"/>
                    </a:lnTo>
                    <a:lnTo>
                      <a:pt x="77" y="95"/>
                    </a:lnTo>
                    <a:lnTo>
                      <a:pt x="98" y="76"/>
                    </a:lnTo>
                    <a:lnTo>
                      <a:pt x="121" y="59"/>
                    </a:lnTo>
                    <a:lnTo>
                      <a:pt x="144" y="46"/>
                    </a:lnTo>
                    <a:lnTo>
                      <a:pt x="171" y="32"/>
                    </a:lnTo>
                    <a:lnTo>
                      <a:pt x="198" y="23"/>
                    </a:lnTo>
                    <a:lnTo>
                      <a:pt x="227" y="15"/>
                    </a:lnTo>
                    <a:lnTo>
                      <a:pt x="256" y="11"/>
                    </a:lnTo>
                    <a:lnTo>
                      <a:pt x="286" y="9"/>
                    </a:lnTo>
                    <a:lnTo>
                      <a:pt x="317" y="11"/>
                    </a:lnTo>
                    <a:lnTo>
                      <a:pt x="332" y="13"/>
                    </a:lnTo>
                    <a:lnTo>
                      <a:pt x="332" y="11"/>
                    </a:lnTo>
                    <a:lnTo>
                      <a:pt x="332" y="11"/>
                    </a:lnTo>
                    <a:lnTo>
                      <a:pt x="332" y="9"/>
                    </a:lnTo>
                    <a:lnTo>
                      <a:pt x="334" y="7"/>
                    </a:lnTo>
                    <a:lnTo>
                      <a:pt x="334" y="7"/>
                    </a:lnTo>
                    <a:lnTo>
                      <a:pt x="334" y="5"/>
                    </a:lnTo>
                    <a:lnTo>
                      <a:pt x="334" y="3"/>
                    </a:lnTo>
                    <a:lnTo>
                      <a:pt x="334" y="3"/>
                    </a:lnTo>
                    <a:close/>
                    <a:moveTo>
                      <a:pt x="0" y="418"/>
                    </a:moveTo>
                    <a:lnTo>
                      <a:pt x="2" y="427"/>
                    </a:lnTo>
                    <a:lnTo>
                      <a:pt x="16" y="454"/>
                    </a:lnTo>
                    <a:lnTo>
                      <a:pt x="31" y="479"/>
                    </a:lnTo>
                    <a:lnTo>
                      <a:pt x="50" y="502"/>
                    </a:lnTo>
                    <a:lnTo>
                      <a:pt x="70" y="525"/>
                    </a:lnTo>
                    <a:lnTo>
                      <a:pt x="91" y="544"/>
                    </a:lnTo>
                    <a:lnTo>
                      <a:pt x="116" y="562"/>
                    </a:lnTo>
                    <a:lnTo>
                      <a:pt x="141" y="577"/>
                    </a:lnTo>
                    <a:lnTo>
                      <a:pt x="167" y="590"/>
                    </a:lnTo>
                    <a:lnTo>
                      <a:pt x="196" y="600"/>
                    </a:lnTo>
                    <a:lnTo>
                      <a:pt x="225" y="608"/>
                    </a:lnTo>
                    <a:lnTo>
                      <a:pt x="256" y="614"/>
                    </a:lnTo>
                    <a:lnTo>
                      <a:pt x="286" y="615"/>
                    </a:lnTo>
                    <a:lnTo>
                      <a:pt x="319" y="614"/>
                    </a:lnTo>
                    <a:lnTo>
                      <a:pt x="336" y="610"/>
                    </a:lnTo>
                    <a:lnTo>
                      <a:pt x="336" y="610"/>
                    </a:lnTo>
                    <a:lnTo>
                      <a:pt x="336" y="608"/>
                    </a:lnTo>
                    <a:lnTo>
                      <a:pt x="336" y="606"/>
                    </a:lnTo>
                    <a:lnTo>
                      <a:pt x="336" y="606"/>
                    </a:lnTo>
                    <a:lnTo>
                      <a:pt x="336" y="604"/>
                    </a:lnTo>
                    <a:lnTo>
                      <a:pt x="336" y="602"/>
                    </a:lnTo>
                    <a:lnTo>
                      <a:pt x="336" y="602"/>
                    </a:lnTo>
                    <a:lnTo>
                      <a:pt x="334" y="600"/>
                    </a:lnTo>
                    <a:lnTo>
                      <a:pt x="317" y="602"/>
                    </a:lnTo>
                    <a:lnTo>
                      <a:pt x="286" y="604"/>
                    </a:lnTo>
                    <a:lnTo>
                      <a:pt x="256" y="602"/>
                    </a:lnTo>
                    <a:lnTo>
                      <a:pt x="227" y="598"/>
                    </a:lnTo>
                    <a:lnTo>
                      <a:pt x="198" y="590"/>
                    </a:lnTo>
                    <a:lnTo>
                      <a:pt x="171" y="581"/>
                    </a:lnTo>
                    <a:lnTo>
                      <a:pt x="144" y="569"/>
                    </a:lnTo>
                    <a:lnTo>
                      <a:pt x="121" y="554"/>
                    </a:lnTo>
                    <a:lnTo>
                      <a:pt x="98" y="537"/>
                    </a:lnTo>
                    <a:lnTo>
                      <a:pt x="77" y="518"/>
                    </a:lnTo>
                    <a:lnTo>
                      <a:pt x="58" y="496"/>
                    </a:lnTo>
                    <a:lnTo>
                      <a:pt x="41" y="473"/>
                    </a:lnTo>
                    <a:lnTo>
                      <a:pt x="25" y="448"/>
                    </a:lnTo>
                    <a:lnTo>
                      <a:pt x="12" y="424"/>
                    </a:lnTo>
                    <a:lnTo>
                      <a:pt x="2" y="395"/>
                    </a:lnTo>
                    <a:lnTo>
                      <a:pt x="0" y="389"/>
                    </a:lnTo>
                    <a:lnTo>
                      <a:pt x="0" y="393"/>
                    </a:lnTo>
                    <a:lnTo>
                      <a:pt x="0" y="397"/>
                    </a:lnTo>
                    <a:lnTo>
                      <a:pt x="0" y="401"/>
                    </a:lnTo>
                    <a:lnTo>
                      <a:pt x="0" y="404"/>
                    </a:lnTo>
                    <a:lnTo>
                      <a:pt x="0" y="408"/>
                    </a:lnTo>
                    <a:lnTo>
                      <a:pt x="0" y="410"/>
                    </a:lnTo>
                    <a:lnTo>
                      <a:pt x="0" y="414"/>
                    </a:lnTo>
                    <a:lnTo>
                      <a:pt x="0" y="418"/>
                    </a:lnTo>
                    <a:close/>
                  </a:path>
                </a:pathLst>
              </a:custGeom>
              <a:solidFill>
                <a:srgbClr val="c4e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Freeform 206"/>
              <p:cNvSpPr/>
              <p:nvPr/>
            </p:nvSpPr>
            <p:spPr>
              <a:xfrm>
                <a:off x="1803600" y="2661480"/>
                <a:ext cx="565200" cy="1022040"/>
              </a:xfrm>
              <a:custGeom>
                <a:avLst/>
                <a:gdLst>
                  <a:gd name="textAreaLeft" fmla="*/ 0 w 565200"/>
                  <a:gd name="textAreaRight" fmla="*/ 565560 w 565200"/>
                  <a:gd name="textAreaTop" fmla="*/ 0 h 1022040"/>
                  <a:gd name="textAreaBottom" fmla="*/ 1022400 h 1022040"/>
                </a:gdLst>
                <a:ahLst/>
                <a:rect l="textAreaLeft" t="textAreaTop" r="textAreaRight" b="textAreaBottom"/>
                <a:pathLst>
                  <a:path w="336" h="607">
                    <a:moveTo>
                      <a:pt x="334" y="4"/>
                    </a:moveTo>
                    <a:lnTo>
                      <a:pt x="317" y="2"/>
                    </a:lnTo>
                    <a:lnTo>
                      <a:pt x="286" y="0"/>
                    </a:lnTo>
                    <a:lnTo>
                      <a:pt x="256" y="2"/>
                    </a:lnTo>
                    <a:lnTo>
                      <a:pt x="227" y="8"/>
                    </a:lnTo>
                    <a:lnTo>
                      <a:pt x="196" y="14"/>
                    </a:lnTo>
                    <a:lnTo>
                      <a:pt x="169" y="25"/>
                    </a:lnTo>
                    <a:lnTo>
                      <a:pt x="142" y="37"/>
                    </a:lnTo>
                    <a:lnTo>
                      <a:pt x="118" y="52"/>
                    </a:lnTo>
                    <a:lnTo>
                      <a:pt x="94" y="69"/>
                    </a:lnTo>
                    <a:lnTo>
                      <a:pt x="73" y="91"/>
                    </a:lnTo>
                    <a:lnTo>
                      <a:pt x="54" y="112"/>
                    </a:lnTo>
                    <a:lnTo>
                      <a:pt x="35" y="135"/>
                    </a:lnTo>
                    <a:lnTo>
                      <a:pt x="33" y="139"/>
                    </a:lnTo>
                    <a:lnTo>
                      <a:pt x="33" y="142"/>
                    </a:lnTo>
                    <a:lnTo>
                      <a:pt x="33" y="146"/>
                    </a:lnTo>
                    <a:lnTo>
                      <a:pt x="31" y="150"/>
                    </a:lnTo>
                    <a:lnTo>
                      <a:pt x="31" y="154"/>
                    </a:lnTo>
                    <a:lnTo>
                      <a:pt x="29" y="158"/>
                    </a:lnTo>
                    <a:lnTo>
                      <a:pt x="29" y="162"/>
                    </a:lnTo>
                    <a:lnTo>
                      <a:pt x="29" y="165"/>
                    </a:lnTo>
                    <a:lnTo>
                      <a:pt x="27" y="169"/>
                    </a:lnTo>
                    <a:lnTo>
                      <a:pt x="29" y="163"/>
                    </a:lnTo>
                    <a:lnTo>
                      <a:pt x="45" y="140"/>
                    </a:lnTo>
                    <a:lnTo>
                      <a:pt x="62" y="117"/>
                    </a:lnTo>
                    <a:lnTo>
                      <a:pt x="81" y="96"/>
                    </a:lnTo>
                    <a:lnTo>
                      <a:pt x="100" y="77"/>
                    </a:lnTo>
                    <a:lnTo>
                      <a:pt x="123" y="62"/>
                    </a:lnTo>
                    <a:lnTo>
                      <a:pt x="148" y="46"/>
                    </a:lnTo>
                    <a:lnTo>
                      <a:pt x="173" y="35"/>
                    </a:lnTo>
                    <a:lnTo>
                      <a:pt x="200" y="25"/>
                    </a:lnTo>
                    <a:lnTo>
                      <a:pt x="229" y="18"/>
                    </a:lnTo>
                    <a:lnTo>
                      <a:pt x="258" y="12"/>
                    </a:lnTo>
                    <a:lnTo>
                      <a:pt x="286" y="12"/>
                    </a:lnTo>
                    <a:lnTo>
                      <a:pt x="317" y="12"/>
                    </a:lnTo>
                    <a:lnTo>
                      <a:pt x="332" y="16"/>
                    </a:lnTo>
                    <a:lnTo>
                      <a:pt x="332" y="14"/>
                    </a:lnTo>
                    <a:lnTo>
                      <a:pt x="332" y="12"/>
                    </a:lnTo>
                    <a:lnTo>
                      <a:pt x="332" y="12"/>
                    </a:lnTo>
                    <a:lnTo>
                      <a:pt x="332" y="10"/>
                    </a:lnTo>
                    <a:lnTo>
                      <a:pt x="332" y="8"/>
                    </a:lnTo>
                    <a:lnTo>
                      <a:pt x="332" y="8"/>
                    </a:lnTo>
                    <a:lnTo>
                      <a:pt x="332" y="6"/>
                    </a:lnTo>
                    <a:lnTo>
                      <a:pt x="334" y="4"/>
                    </a:lnTo>
                    <a:close/>
                    <a:moveTo>
                      <a:pt x="0" y="401"/>
                    </a:moveTo>
                    <a:lnTo>
                      <a:pt x="8" y="422"/>
                    </a:lnTo>
                    <a:lnTo>
                      <a:pt x="22" y="447"/>
                    </a:lnTo>
                    <a:lnTo>
                      <a:pt x="35" y="472"/>
                    </a:lnTo>
                    <a:lnTo>
                      <a:pt x="54" y="497"/>
                    </a:lnTo>
                    <a:lnTo>
                      <a:pt x="73" y="518"/>
                    </a:lnTo>
                    <a:lnTo>
                      <a:pt x="94" y="538"/>
                    </a:lnTo>
                    <a:lnTo>
                      <a:pt x="118" y="555"/>
                    </a:lnTo>
                    <a:lnTo>
                      <a:pt x="142" y="570"/>
                    </a:lnTo>
                    <a:lnTo>
                      <a:pt x="169" y="584"/>
                    </a:lnTo>
                    <a:lnTo>
                      <a:pt x="196" y="593"/>
                    </a:lnTo>
                    <a:lnTo>
                      <a:pt x="227" y="601"/>
                    </a:lnTo>
                    <a:lnTo>
                      <a:pt x="256" y="605"/>
                    </a:lnTo>
                    <a:lnTo>
                      <a:pt x="286" y="607"/>
                    </a:lnTo>
                    <a:lnTo>
                      <a:pt x="317" y="605"/>
                    </a:lnTo>
                    <a:lnTo>
                      <a:pt x="336" y="603"/>
                    </a:lnTo>
                    <a:lnTo>
                      <a:pt x="336" y="601"/>
                    </a:lnTo>
                    <a:lnTo>
                      <a:pt x="336" y="599"/>
                    </a:lnTo>
                    <a:lnTo>
                      <a:pt x="336" y="599"/>
                    </a:lnTo>
                    <a:lnTo>
                      <a:pt x="334" y="597"/>
                    </a:lnTo>
                    <a:lnTo>
                      <a:pt x="334" y="595"/>
                    </a:lnTo>
                    <a:lnTo>
                      <a:pt x="334" y="595"/>
                    </a:lnTo>
                    <a:lnTo>
                      <a:pt x="334" y="593"/>
                    </a:lnTo>
                    <a:lnTo>
                      <a:pt x="334" y="591"/>
                    </a:lnTo>
                    <a:lnTo>
                      <a:pt x="317" y="595"/>
                    </a:lnTo>
                    <a:lnTo>
                      <a:pt x="286" y="597"/>
                    </a:lnTo>
                    <a:lnTo>
                      <a:pt x="258" y="595"/>
                    </a:lnTo>
                    <a:lnTo>
                      <a:pt x="229" y="591"/>
                    </a:lnTo>
                    <a:lnTo>
                      <a:pt x="200" y="584"/>
                    </a:lnTo>
                    <a:lnTo>
                      <a:pt x="173" y="574"/>
                    </a:lnTo>
                    <a:lnTo>
                      <a:pt x="148" y="561"/>
                    </a:lnTo>
                    <a:lnTo>
                      <a:pt x="123" y="547"/>
                    </a:lnTo>
                    <a:lnTo>
                      <a:pt x="100" y="530"/>
                    </a:lnTo>
                    <a:lnTo>
                      <a:pt x="81" y="511"/>
                    </a:lnTo>
                    <a:lnTo>
                      <a:pt x="62" y="490"/>
                    </a:lnTo>
                    <a:lnTo>
                      <a:pt x="45" y="467"/>
                    </a:lnTo>
                    <a:lnTo>
                      <a:pt x="29" y="444"/>
                    </a:lnTo>
                    <a:lnTo>
                      <a:pt x="18" y="417"/>
                    </a:lnTo>
                    <a:lnTo>
                      <a:pt x="8" y="390"/>
                    </a:lnTo>
                    <a:lnTo>
                      <a:pt x="2" y="369"/>
                    </a:lnTo>
                    <a:lnTo>
                      <a:pt x="2" y="373"/>
                    </a:lnTo>
                    <a:lnTo>
                      <a:pt x="2" y="376"/>
                    </a:lnTo>
                    <a:lnTo>
                      <a:pt x="0" y="380"/>
                    </a:lnTo>
                    <a:lnTo>
                      <a:pt x="0" y="384"/>
                    </a:lnTo>
                    <a:lnTo>
                      <a:pt x="0" y="390"/>
                    </a:lnTo>
                    <a:lnTo>
                      <a:pt x="0" y="394"/>
                    </a:lnTo>
                    <a:lnTo>
                      <a:pt x="0" y="398"/>
                    </a:lnTo>
                    <a:lnTo>
                      <a:pt x="0" y="401"/>
                    </a:lnTo>
                    <a:close/>
                  </a:path>
                </a:pathLst>
              </a:custGeom>
              <a:solidFill>
                <a:srgbClr val="c5e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Freeform 207"/>
              <p:cNvSpPr/>
              <p:nvPr/>
            </p:nvSpPr>
            <p:spPr>
              <a:xfrm>
                <a:off x="1803600" y="2671920"/>
                <a:ext cx="561960" cy="1001520"/>
              </a:xfrm>
              <a:custGeom>
                <a:avLst/>
                <a:gdLst>
                  <a:gd name="textAreaLeft" fmla="*/ 0 w 561960"/>
                  <a:gd name="textAreaRight" fmla="*/ 562320 w 561960"/>
                  <a:gd name="textAreaTop" fmla="*/ 0 h 1001520"/>
                  <a:gd name="textAreaBottom" fmla="*/ 1001880 h 1001520"/>
                </a:gdLst>
                <a:ahLst/>
                <a:rect l="textAreaLeft" t="textAreaTop" r="textAreaRight" b="textAreaBottom"/>
                <a:pathLst>
                  <a:path w="334" h="595">
                    <a:moveTo>
                      <a:pt x="332" y="4"/>
                    </a:moveTo>
                    <a:lnTo>
                      <a:pt x="317" y="2"/>
                    </a:lnTo>
                    <a:lnTo>
                      <a:pt x="286" y="0"/>
                    </a:lnTo>
                    <a:lnTo>
                      <a:pt x="256" y="2"/>
                    </a:lnTo>
                    <a:lnTo>
                      <a:pt x="227" y="6"/>
                    </a:lnTo>
                    <a:lnTo>
                      <a:pt x="198" y="14"/>
                    </a:lnTo>
                    <a:lnTo>
                      <a:pt x="171" y="23"/>
                    </a:lnTo>
                    <a:lnTo>
                      <a:pt x="144" y="37"/>
                    </a:lnTo>
                    <a:lnTo>
                      <a:pt x="121" y="50"/>
                    </a:lnTo>
                    <a:lnTo>
                      <a:pt x="98" y="67"/>
                    </a:lnTo>
                    <a:lnTo>
                      <a:pt x="77" y="86"/>
                    </a:lnTo>
                    <a:lnTo>
                      <a:pt x="58" y="108"/>
                    </a:lnTo>
                    <a:lnTo>
                      <a:pt x="41" y="131"/>
                    </a:lnTo>
                    <a:lnTo>
                      <a:pt x="31" y="146"/>
                    </a:lnTo>
                    <a:lnTo>
                      <a:pt x="29" y="152"/>
                    </a:lnTo>
                    <a:lnTo>
                      <a:pt x="29" y="156"/>
                    </a:lnTo>
                    <a:lnTo>
                      <a:pt x="27" y="159"/>
                    </a:lnTo>
                    <a:lnTo>
                      <a:pt x="27" y="165"/>
                    </a:lnTo>
                    <a:lnTo>
                      <a:pt x="27" y="169"/>
                    </a:lnTo>
                    <a:lnTo>
                      <a:pt x="25" y="173"/>
                    </a:lnTo>
                    <a:lnTo>
                      <a:pt x="25" y="179"/>
                    </a:lnTo>
                    <a:lnTo>
                      <a:pt x="23" y="182"/>
                    </a:lnTo>
                    <a:lnTo>
                      <a:pt x="35" y="161"/>
                    </a:lnTo>
                    <a:lnTo>
                      <a:pt x="48" y="136"/>
                    </a:lnTo>
                    <a:lnTo>
                      <a:pt x="66" y="115"/>
                    </a:lnTo>
                    <a:lnTo>
                      <a:pt x="83" y="94"/>
                    </a:lnTo>
                    <a:lnTo>
                      <a:pt x="104" y="77"/>
                    </a:lnTo>
                    <a:lnTo>
                      <a:pt x="127" y="60"/>
                    </a:lnTo>
                    <a:lnTo>
                      <a:pt x="150" y="44"/>
                    </a:lnTo>
                    <a:lnTo>
                      <a:pt x="175" y="33"/>
                    </a:lnTo>
                    <a:lnTo>
                      <a:pt x="202" y="23"/>
                    </a:lnTo>
                    <a:lnTo>
                      <a:pt x="229" y="15"/>
                    </a:lnTo>
                    <a:lnTo>
                      <a:pt x="258" y="12"/>
                    </a:lnTo>
                    <a:lnTo>
                      <a:pt x="286" y="10"/>
                    </a:lnTo>
                    <a:lnTo>
                      <a:pt x="317" y="12"/>
                    </a:lnTo>
                    <a:lnTo>
                      <a:pt x="332" y="14"/>
                    </a:lnTo>
                    <a:lnTo>
                      <a:pt x="332" y="14"/>
                    </a:lnTo>
                    <a:lnTo>
                      <a:pt x="332" y="12"/>
                    </a:lnTo>
                    <a:lnTo>
                      <a:pt x="332" y="10"/>
                    </a:lnTo>
                    <a:lnTo>
                      <a:pt x="332" y="10"/>
                    </a:lnTo>
                    <a:lnTo>
                      <a:pt x="332" y="8"/>
                    </a:lnTo>
                    <a:lnTo>
                      <a:pt x="332" y="6"/>
                    </a:lnTo>
                    <a:lnTo>
                      <a:pt x="332" y="6"/>
                    </a:lnTo>
                    <a:lnTo>
                      <a:pt x="332" y="4"/>
                    </a:lnTo>
                    <a:close/>
                    <a:moveTo>
                      <a:pt x="0" y="380"/>
                    </a:moveTo>
                    <a:lnTo>
                      <a:pt x="2" y="386"/>
                    </a:lnTo>
                    <a:lnTo>
                      <a:pt x="12" y="415"/>
                    </a:lnTo>
                    <a:lnTo>
                      <a:pt x="25" y="439"/>
                    </a:lnTo>
                    <a:lnTo>
                      <a:pt x="41" y="464"/>
                    </a:lnTo>
                    <a:lnTo>
                      <a:pt x="58" y="487"/>
                    </a:lnTo>
                    <a:lnTo>
                      <a:pt x="77" y="509"/>
                    </a:lnTo>
                    <a:lnTo>
                      <a:pt x="98" y="528"/>
                    </a:lnTo>
                    <a:lnTo>
                      <a:pt x="121" y="545"/>
                    </a:lnTo>
                    <a:lnTo>
                      <a:pt x="144" y="560"/>
                    </a:lnTo>
                    <a:lnTo>
                      <a:pt x="171" y="572"/>
                    </a:lnTo>
                    <a:lnTo>
                      <a:pt x="198" y="581"/>
                    </a:lnTo>
                    <a:lnTo>
                      <a:pt x="227" y="589"/>
                    </a:lnTo>
                    <a:lnTo>
                      <a:pt x="256" y="593"/>
                    </a:lnTo>
                    <a:lnTo>
                      <a:pt x="286" y="595"/>
                    </a:lnTo>
                    <a:lnTo>
                      <a:pt x="317" y="593"/>
                    </a:lnTo>
                    <a:lnTo>
                      <a:pt x="334" y="591"/>
                    </a:lnTo>
                    <a:lnTo>
                      <a:pt x="334" y="589"/>
                    </a:lnTo>
                    <a:lnTo>
                      <a:pt x="334" y="589"/>
                    </a:lnTo>
                    <a:lnTo>
                      <a:pt x="334" y="587"/>
                    </a:lnTo>
                    <a:lnTo>
                      <a:pt x="334" y="585"/>
                    </a:lnTo>
                    <a:lnTo>
                      <a:pt x="334" y="585"/>
                    </a:lnTo>
                    <a:lnTo>
                      <a:pt x="334" y="583"/>
                    </a:lnTo>
                    <a:lnTo>
                      <a:pt x="334" y="581"/>
                    </a:lnTo>
                    <a:lnTo>
                      <a:pt x="334" y="581"/>
                    </a:lnTo>
                    <a:lnTo>
                      <a:pt x="317" y="583"/>
                    </a:lnTo>
                    <a:lnTo>
                      <a:pt x="286" y="585"/>
                    </a:lnTo>
                    <a:lnTo>
                      <a:pt x="258" y="583"/>
                    </a:lnTo>
                    <a:lnTo>
                      <a:pt x="229" y="580"/>
                    </a:lnTo>
                    <a:lnTo>
                      <a:pt x="202" y="572"/>
                    </a:lnTo>
                    <a:lnTo>
                      <a:pt x="175" y="562"/>
                    </a:lnTo>
                    <a:lnTo>
                      <a:pt x="150" y="551"/>
                    </a:lnTo>
                    <a:lnTo>
                      <a:pt x="127" y="535"/>
                    </a:lnTo>
                    <a:lnTo>
                      <a:pt x="104" y="520"/>
                    </a:lnTo>
                    <a:lnTo>
                      <a:pt x="83" y="501"/>
                    </a:lnTo>
                    <a:lnTo>
                      <a:pt x="66" y="480"/>
                    </a:lnTo>
                    <a:lnTo>
                      <a:pt x="48" y="459"/>
                    </a:lnTo>
                    <a:lnTo>
                      <a:pt x="35" y="436"/>
                    </a:lnTo>
                    <a:lnTo>
                      <a:pt x="22" y="409"/>
                    </a:lnTo>
                    <a:lnTo>
                      <a:pt x="12" y="384"/>
                    </a:lnTo>
                    <a:lnTo>
                      <a:pt x="6" y="355"/>
                    </a:lnTo>
                    <a:lnTo>
                      <a:pt x="2" y="340"/>
                    </a:lnTo>
                    <a:lnTo>
                      <a:pt x="2" y="344"/>
                    </a:lnTo>
                    <a:lnTo>
                      <a:pt x="2" y="349"/>
                    </a:lnTo>
                    <a:lnTo>
                      <a:pt x="2" y="355"/>
                    </a:lnTo>
                    <a:lnTo>
                      <a:pt x="2" y="359"/>
                    </a:lnTo>
                    <a:lnTo>
                      <a:pt x="2" y="365"/>
                    </a:lnTo>
                    <a:lnTo>
                      <a:pt x="2" y="370"/>
                    </a:lnTo>
                    <a:lnTo>
                      <a:pt x="0" y="374"/>
                    </a:lnTo>
                    <a:lnTo>
                      <a:pt x="0" y="380"/>
                    </a:lnTo>
                    <a:close/>
                  </a:path>
                </a:pathLst>
              </a:custGeom>
              <a:solidFill>
                <a:srgbClr val="c6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Freeform 208"/>
              <p:cNvSpPr/>
              <p:nvPr/>
            </p:nvSpPr>
            <p:spPr>
              <a:xfrm>
                <a:off x="1806480" y="2681640"/>
                <a:ext cx="558720" cy="984960"/>
              </a:xfrm>
              <a:custGeom>
                <a:avLst/>
                <a:gdLst>
                  <a:gd name="textAreaLeft" fmla="*/ 0 w 558720"/>
                  <a:gd name="textAreaRight" fmla="*/ 559080 w 558720"/>
                  <a:gd name="textAreaTop" fmla="*/ 0 h 984960"/>
                  <a:gd name="textAreaBottom" fmla="*/ 985320 h 984960"/>
                </a:gdLst>
                <a:ahLst/>
                <a:rect l="textAreaLeft" t="textAreaTop" r="textAreaRight" b="textAreaBottom"/>
                <a:pathLst>
                  <a:path w="332" h="585">
                    <a:moveTo>
                      <a:pt x="330" y="4"/>
                    </a:moveTo>
                    <a:lnTo>
                      <a:pt x="315" y="0"/>
                    </a:lnTo>
                    <a:lnTo>
                      <a:pt x="284" y="0"/>
                    </a:lnTo>
                    <a:lnTo>
                      <a:pt x="256" y="0"/>
                    </a:lnTo>
                    <a:lnTo>
                      <a:pt x="227" y="6"/>
                    </a:lnTo>
                    <a:lnTo>
                      <a:pt x="198" y="13"/>
                    </a:lnTo>
                    <a:lnTo>
                      <a:pt x="171" y="23"/>
                    </a:lnTo>
                    <a:lnTo>
                      <a:pt x="146" y="34"/>
                    </a:lnTo>
                    <a:lnTo>
                      <a:pt x="121" y="50"/>
                    </a:lnTo>
                    <a:lnTo>
                      <a:pt x="98" y="65"/>
                    </a:lnTo>
                    <a:lnTo>
                      <a:pt x="79" y="84"/>
                    </a:lnTo>
                    <a:lnTo>
                      <a:pt x="60" y="105"/>
                    </a:lnTo>
                    <a:lnTo>
                      <a:pt x="43" y="128"/>
                    </a:lnTo>
                    <a:lnTo>
                      <a:pt x="27" y="151"/>
                    </a:lnTo>
                    <a:lnTo>
                      <a:pt x="25" y="157"/>
                    </a:lnTo>
                    <a:lnTo>
                      <a:pt x="25" y="163"/>
                    </a:lnTo>
                    <a:lnTo>
                      <a:pt x="23" y="169"/>
                    </a:lnTo>
                    <a:lnTo>
                      <a:pt x="21" y="174"/>
                    </a:lnTo>
                    <a:lnTo>
                      <a:pt x="21" y="180"/>
                    </a:lnTo>
                    <a:lnTo>
                      <a:pt x="20" y="186"/>
                    </a:lnTo>
                    <a:lnTo>
                      <a:pt x="20" y="192"/>
                    </a:lnTo>
                    <a:lnTo>
                      <a:pt x="18" y="198"/>
                    </a:lnTo>
                    <a:lnTo>
                      <a:pt x="18" y="203"/>
                    </a:lnTo>
                    <a:lnTo>
                      <a:pt x="25" y="182"/>
                    </a:lnTo>
                    <a:lnTo>
                      <a:pt x="37" y="157"/>
                    </a:lnTo>
                    <a:lnTo>
                      <a:pt x="50" y="134"/>
                    </a:lnTo>
                    <a:lnTo>
                      <a:pt x="68" y="113"/>
                    </a:lnTo>
                    <a:lnTo>
                      <a:pt x="85" y="92"/>
                    </a:lnTo>
                    <a:lnTo>
                      <a:pt x="106" y="75"/>
                    </a:lnTo>
                    <a:lnTo>
                      <a:pt x="127" y="57"/>
                    </a:lnTo>
                    <a:lnTo>
                      <a:pt x="150" y="44"/>
                    </a:lnTo>
                    <a:lnTo>
                      <a:pt x="175" y="32"/>
                    </a:lnTo>
                    <a:lnTo>
                      <a:pt x="202" y="23"/>
                    </a:lnTo>
                    <a:lnTo>
                      <a:pt x="229" y="15"/>
                    </a:lnTo>
                    <a:lnTo>
                      <a:pt x="256" y="11"/>
                    </a:lnTo>
                    <a:lnTo>
                      <a:pt x="284" y="9"/>
                    </a:lnTo>
                    <a:lnTo>
                      <a:pt x="313" y="11"/>
                    </a:lnTo>
                    <a:lnTo>
                      <a:pt x="329" y="13"/>
                    </a:lnTo>
                    <a:lnTo>
                      <a:pt x="329" y="11"/>
                    </a:lnTo>
                    <a:lnTo>
                      <a:pt x="329" y="11"/>
                    </a:lnTo>
                    <a:lnTo>
                      <a:pt x="329" y="9"/>
                    </a:lnTo>
                    <a:lnTo>
                      <a:pt x="330" y="8"/>
                    </a:lnTo>
                    <a:lnTo>
                      <a:pt x="330" y="8"/>
                    </a:lnTo>
                    <a:lnTo>
                      <a:pt x="330" y="6"/>
                    </a:lnTo>
                    <a:lnTo>
                      <a:pt x="330" y="4"/>
                    </a:lnTo>
                    <a:lnTo>
                      <a:pt x="330" y="4"/>
                    </a:lnTo>
                    <a:close/>
                    <a:moveTo>
                      <a:pt x="0" y="357"/>
                    </a:moveTo>
                    <a:lnTo>
                      <a:pt x="6" y="378"/>
                    </a:lnTo>
                    <a:lnTo>
                      <a:pt x="16" y="405"/>
                    </a:lnTo>
                    <a:lnTo>
                      <a:pt x="27" y="432"/>
                    </a:lnTo>
                    <a:lnTo>
                      <a:pt x="43" y="455"/>
                    </a:lnTo>
                    <a:lnTo>
                      <a:pt x="60" y="478"/>
                    </a:lnTo>
                    <a:lnTo>
                      <a:pt x="79" y="499"/>
                    </a:lnTo>
                    <a:lnTo>
                      <a:pt x="98" y="518"/>
                    </a:lnTo>
                    <a:lnTo>
                      <a:pt x="121" y="535"/>
                    </a:lnTo>
                    <a:lnTo>
                      <a:pt x="146" y="549"/>
                    </a:lnTo>
                    <a:lnTo>
                      <a:pt x="171" y="562"/>
                    </a:lnTo>
                    <a:lnTo>
                      <a:pt x="198" y="572"/>
                    </a:lnTo>
                    <a:lnTo>
                      <a:pt x="227" y="579"/>
                    </a:lnTo>
                    <a:lnTo>
                      <a:pt x="256" y="583"/>
                    </a:lnTo>
                    <a:lnTo>
                      <a:pt x="284" y="585"/>
                    </a:lnTo>
                    <a:lnTo>
                      <a:pt x="315" y="583"/>
                    </a:lnTo>
                    <a:lnTo>
                      <a:pt x="332" y="579"/>
                    </a:lnTo>
                    <a:lnTo>
                      <a:pt x="332" y="579"/>
                    </a:lnTo>
                    <a:lnTo>
                      <a:pt x="332" y="577"/>
                    </a:lnTo>
                    <a:lnTo>
                      <a:pt x="332" y="575"/>
                    </a:lnTo>
                    <a:lnTo>
                      <a:pt x="332" y="575"/>
                    </a:lnTo>
                    <a:lnTo>
                      <a:pt x="332" y="574"/>
                    </a:lnTo>
                    <a:lnTo>
                      <a:pt x="332" y="572"/>
                    </a:lnTo>
                    <a:lnTo>
                      <a:pt x="330" y="572"/>
                    </a:lnTo>
                    <a:lnTo>
                      <a:pt x="330" y="570"/>
                    </a:lnTo>
                    <a:lnTo>
                      <a:pt x="313" y="574"/>
                    </a:lnTo>
                    <a:lnTo>
                      <a:pt x="284" y="574"/>
                    </a:lnTo>
                    <a:lnTo>
                      <a:pt x="256" y="574"/>
                    </a:lnTo>
                    <a:lnTo>
                      <a:pt x="229" y="568"/>
                    </a:lnTo>
                    <a:lnTo>
                      <a:pt x="202" y="562"/>
                    </a:lnTo>
                    <a:lnTo>
                      <a:pt x="175" y="552"/>
                    </a:lnTo>
                    <a:lnTo>
                      <a:pt x="150" y="541"/>
                    </a:lnTo>
                    <a:lnTo>
                      <a:pt x="127" y="526"/>
                    </a:lnTo>
                    <a:lnTo>
                      <a:pt x="106" y="510"/>
                    </a:lnTo>
                    <a:lnTo>
                      <a:pt x="85" y="491"/>
                    </a:lnTo>
                    <a:lnTo>
                      <a:pt x="68" y="472"/>
                    </a:lnTo>
                    <a:lnTo>
                      <a:pt x="50" y="449"/>
                    </a:lnTo>
                    <a:lnTo>
                      <a:pt x="37" y="426"/>
                    </a:lnTo>
                    <a:lnTo>
                      <a:pt x="25" y="401"/>
                    </a:lnTo>
                    <a:lnTo>
                      <a:pt x="16" y="376"/>
                    </a:lnTo>
                    <a:lnTo>
                      <a:pt x="8" y="349"/>
                    </a:lnTo>
                    <a:lnTo>
                      <a:pt x="4" y="320"/>
                    </a:lnTo>
                    <a:lnTo>
                      <a:pt x="2" y="299"/>
                    </a:lnTo>
                    <a:lnTo>
                      <a:pt x="2" y="307"/>
                    </a:lnTo>
                    <a:lnTo>
                      <a:pt x="2" y="313"/>
                    </a:lnTo>
                    <a:lnTo>
                      <a:pt x="2" y="320"/>
                    </a:lnTo>
                    <a:lnTo>
                      <a:pt x="0" y="328"/>
                    </a:lnTo>
                    <a:lnTo>
                      <a:pt x="0" y="336"/>
                    </a:lnTo>
                    <a:lnTo>
                      <a:pt x="0" y="341"/>
                    </a:lnTo>
                    <a:lnTo>
                      <a:pt x="0" y="349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c7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9" name="Freeform 210"/>
            <p:cNvSpPr/>
            <p:nvPr/>
          </p:nvSpPr>
          <p:spPr>
            <a:xfrm>
              <a:off x="1806840" y="2688840"/>
              <a:ext cx="559080" cy="968040"/>
            </a:xfrm>
            <a:custGeom>
              <a:avLst/>
              <a:gdLst>
                <a:gd name="textAreaLeft" fmla="*/ 0 w 559080"/>
                <a:gd name="textAreaRight" fmla="*/ 559080 w 559080"/>
                <a:gd name="textAreaTop" fmla="*/ 0 h 968040"/>
                <a:gd name="textAreaBottom" fmla="*/ 968400 h 968040"/>
              </a:gdLst>
              <a:ahLst/>
              <a:rect l="textAreaLeft" t="textAreaTop" r="textAreaRight" b="textAreaBottom"/>
              <a:pathLst>
                <a:path w="332" h="575">
                  <a:moveTo>
                    <a:pt x="330" y="4"/>
                  </a:moveTo>
                  <a:lnTo>
                    <a:pt x="315" y="2"/>
                  </a:lnTo>
                  <a:lnTo>
                    <a:pt x="284" y="0"/>
                  </a:lnTo>
                  <a:lnTo>
                    <a:pt x="256" y="2"/>
                  </a:lnTo>
                  <a:lnTo>
                    <a:pt x="227" y="5"/>
                  </a:lnTo>
                  <a:lnTo>
                    <a:pt x="200" y="13"/>
                  </a:lnTo>
                  <a:lnTo>
                    <a:pt x="173" y="23"/>
                  </a:lnTo>
                  <a:lnTo>
                    <a:pt x="148" y="34"/>
                  </a:lnTo>
                  <a:lnTo>
                    <a:pt x="125" y="50"/>
                  </a:lnTo>
                  <a:lnTo>
                    <a:pt x="102" y="67"/>
                  </a:lnTo>
                  <a:lnTo>
                    <a:pt x="81" y="84"/>
                  </a:lnTo>
                  <a:lnTo>
                    <a:pt x="64" y="105"/>
                  </a:lnTo>
                  <a:lnTo>
                    <a:pt x="46" y="126"/>
                  </a:lnTo>
                  <a:lnTo>
                    <a:pt x="33" y="151"/>
                  </a:lnTo>
                  <a:lnTo>
                    <a:pt x="21" y="172"/>
                  </a:lnTo>
                  <a:lnTo>
                    <a:pt x="20" y="186"/>
                  </a:lnTo>
                  <a:lnTo>
                    <a:pt x="18" y="199"/>
                  </a:lnTo>
                  <a:lnTo>
                    <a:pt x="16" y="213"/>
                  </a:lnTo>
                  <a:lnTo>
                    <a:pt x="12" y="226"/>
                  </a:lnTo>
                  <a:lnTo>
                    <a:pt x="10" y="240"/>
                  </a:lnTo>
                  <a:lnTo>
                    <a:pt x="8" y="253"/>
                  </a:lnTo>
                  <a:lnTo>
                    <a:pt x="6" y="264"/>
                  </a:lnTo>
                  <a:lnTo>
                    <a:pt x="4" y="278"/>
                  </a:lnTo>
                  <a:lnTo>
                    <a:pt x="4" y="286"/>
                  </a:lnTo>
                  <a:lnTo>
                    <a:pt x="4" y="291"/>
                  </a:lnTo>
                  <a:lnTo>
                    <a:pt x="2" y="297"/>
                  </a:lnTo>
                  <a:lnTo>
                    <a:pt x="2" y="305"/>
                  </a:lnTo>
                  <a:lnTo>
                    <a:pt x="2" y="311"/>
                  </a:lnTo>
                  <a:lnTo>
                    <a:pt x="2" y="316"/>
                  </a:lnTo>
                  <a:lnTo>
                    <a:pt x="0" y="322"/>
                  </a:lnTo>
                  <a:lnTo>
                    <a:pt x="0" y="330"/>
                  </a:lnTo>
                  <a:lnTo>
                    <a:pt x="4" y="345"/>
                  </a:lnTo>
                  <a:lnTo>
                    <a:pt x="10" y="374"/>
                  </a:lnTo>
                  <a:lnTo>
                    <a:pt x="20" y="399"/>
                  </a:lnTo>
                  <a:lnTo>
                    <a:pt x="33" y="426"/>
                  </a:lnTo>
                  <a:lnTo>
                    <a:pt x="46" y="449"/>
                  </a:lnTo>
                  <a:lnTo>
                    <a:pt x="64" y="470"/>
                  </a:lnTo>
                  <a:lnTo>
                    <a:pt x="81" y="491"/>
                  </a:lnTo>
                  <a:lnTo>
                    <a:pt x="102" y="510"/>
                  </a:lnTo>
                  <a:lnTo>
                    <a:pt x="125" y="525"/>
                  </a:lnTo>
                  <a:lnTo>
                    <a:pt x="148" y="541"/>
                  </a:lnTo>
                  <a:lnTo>
                    <a:pt x="173" y="552"/>
                  </a:lnTo>
                  <a:lnTo>
                    <a:pt x="200" y="562"/>
                  </a:lnTo>
                  <a:lnTo>
                    <a:pt x="227" y="570"/>
                  </a:lnTo>
                  <a:lnTo>
                    <a:pt x="256" y="573"/>
                  </a:lnTo>
                  <a:lnTo>
                    <a:pt x="284" y="575"/>
                  </a:lnTo>
                  <a:lnTo>
                    <a:pt x="315" y="573"/>
                  </a:lnTo>
                  <a:lnTo>
                    <a:pt x="332" y="571"/>
                  </a:lnTo>
                  <a:lnTo>
                    <a:pt x="332" y="570"/>
                  </a:lnTo>
                  <a:lnTo>
                    <a:pt x="332" y="568"/>
                  </a:lnTo>
                  <a:lnTo>
                    <a:pt x="330" y="568"/>
                  </a:lnTo>
                  <a:lnTo>
                    <a:pt x="330" y="566"/>
                  </a:lnTo>
                  <a:lnTo>
                    <a:pt x="330" y="564"/>
                  </a:lnTo>
                  <a:lnTo>
                    <a:pt x="330" y="564"/>
                  </a:lnTo>
                  <a:lnTo>
                    <a:pt x="330" y="562"/>
                  </a:lnTo>
                  <a:lnTo>
                    <a:pt x="330" y="560"/>
                  </a:lnTo>
                  <a:lnTo>
                    <a:pt x="313" y="564"/>
                  </a:lnTo>
                  <a:lnTo>
                    <a:pt x="284" y="566"/>
                  </a:lnTo>
                  <a:lnTo>
                    <a:pt x="258" y="564"/>
                  </a:lnTo>
                  <a:lnTo>
                    <a:pt x="229" y="560"/>
                  </a:lnTo>
                  <a:lnTo>
                    <a:pt x="202" y="552"/>
                  </a:lnTo>
                  <a:lnTo>
                    <a:pt x="177" y="543"/>
                  </a:lnTo>
                  <a:lnTo>
                    <a:pt x="152" y="531"/>
                  </a:lnTo>
                  <a:lnTo>
                    <a:pt x="131" y="518"/>
                  </a:lnTo>
                  <a:lnTo>
                    <a:pt x="108" y="502"/>
                  </a:lnTo>
                  <a:lnTo>
                    <a:pt x="89" y="483"/>
                  </a:lnTo>
                  <a:lnTo>
                    <a:pt x="71" y="464"/>
                  </a:lnTo>
                  <a:lnTo>
                    <a:pt x="56" y="443"/>
                  </a:lnTo>
                  <a:lnTo>
                    <a:pt x="41" y="420"/>
                  </a:lnTo>
                  <a:lnTo>
                    <a:pt x="29" y="395"/>
                  </a:lnTo>
                  <a:lnTo>
                    <a:pt x="20" y="370"/>
                  </a:lnTo>
                  <a:lnTo>
                    <a:pt x="14" y="343"/>
                  </a:lnTo>
                  <a:lnTo>
                    <a:pt x="10" y="316"/>
                  </a:lnTo>
                  <a:lnTo>
                    <a:pt x="8" y="288"/>
                  </a:lnTo>
                  <a:lnTo>
                    <a:pt x="10" y="259"/>
                  </a:lnTo>
                  <a:lnTo>
                    <a:pt x="14" y="232"/>
                  </a:lnTo>
                  <a:lnTo>
                    <a:pt x="20" y="205"/>
                  </a:lnTo>
                  <a:lnTo>
                    <a:pt x="29" y="180"/>
                  </a:lnTo>
                  <a:lnTo>
                    <a:pt x="41" y="155"/>
                  </a:lnTo>
                  <a:lnTo>
                    <a:pt x="56" y="132"/>
                  </a:lnTo>
                  <a:lnTo>
                    <a:pt x="71" y="111"/>
                  </a:lnTo>
                  <a:lnTo>
                    <a:pt x="89" y="92"/>
                  </a:lnTo>
                  <a:lnTo>
                    <a:pt x="108" y="75"/>
                  </a:lnTo>
                  <a:lnTo>
                    <a:pt x="131" y="57"/>
                  </a:lnTo>
                  <a:lnTo>
                    <a:pt x="152" y="44"/>
                  </a:lnTo>
                  <a:lnTo>
                    <a:pt x="177" y="32"/>
                  </a:lnTo>
                  <a:lnTo>
                    <a:pt x="202" y="23"/>
                  </a:lnTo>
                  <a:lnTo>
                    <a:pt x="229" y="17"/>
                  </a:lnTo>
                  <a:lnTo>
                    <a:pt x="258" y="11"/>
                  </a:lnTo>
                  <a:lnTo>
                    <a:pt x="284" y="11"/>
                  </a:lnTo>
                  <a:lnTo>
                    <a:pt x="313" y="11"/>
                  </a:lnTo>
                  <a:lnTo>
                    <a:pt x="329" y="15"/>
                  </a:lnTo>
                  <a:lnTo>
                    <a:pt x="329" y="13"/>
                  </a:lnTo>
                  <a:lnTo>
                    <a:pt x="329" y="11"/>
                  </a:lnTo>
                  <a:lnTo>
                    <a:pt x="329" y="11"/>
                  </a:lnTo>
                  <a:lnTo>
                    <a:pt x="329" y="9"/>
                  </a:lnTo>
                  <a:lnTo>
                    <a:pt x="329" y="7"/>
                  </a:lnTo>
                  <a:lnTo>
                    <a:pt x="329" y="7"/>
                  </a:lnTo>
                  <a:lnTo>
                    <a:pt x="329" y="5"/>
                  </a:lnTo>
                  <a:lnTo>
                    <a:pt x="330" y="4"/>
                  </a:lnTo>
                  <a:close/>
                </a:path>
              </a:pathLst>
            </a:custGeom>
            <a:solidFill>
              <a:srgbClr val="c8e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Freeform 211"/>
            <p:cNvSpPr/>
            <p:nvPr/>
          </p:nvSpPr>
          <p:spPr>
            <a:xfrm>
              <a:off x="1810080" y="2697480"/>
              <a:ext cx="552600" cy="951120"/>
            </a:xfrm>
            <a:custGeom>
              <a:avLst/>
              <a:gdLst>
                <a:gd name="textAreaLeft" fmla="*/ 0 w 552600"/>
                <a:gd name="textAreaRight" fmla="*/ 552960 w 552600"/>
                <a:gd name="textAreaTop" fmla="*/ 0 h 951120"/>
                <a:gd name="textAreaBottom" fmla="*/ 951120 h 951120"/>
              </a:gdLst>
              <a:ahLst/>
              <a:rect l="textAreaLeft" t="textAreaTop" r="textAreaRight" b="textAreaBottom"/>
              <a:pathLst>
                <a:path w="328" h="565">
                  <a:moveTo>
                    <a:pt x="327" y="4"/>
                  </a:moveTo>
                  <a:lnTo>
                    <a:pt x="311" y="2"/>
                  </a:lnTo>
                  <a:lnTo>
                    <a:pt x="282" y="0"/>
                  </a:lnTo>
                  <a:lnTo>
                    <a:pt x="254" y="2"/>
                  </a:lnTo>
                  <a:lnTo>
                    <a:pt x="227" y="6"/>
                  </a:lnTo>
                  <a:lnTo>
                    <a:pt x="200" y="14"/>
                  </a:lnTo>
                  <a:lnTo>
                    <a:pt x="173" y="23"/>
                  </a:lnTo>
                  <a:lnTo>
                    <a:pt x="148" y="35"/>
                  </a:lnTo>
                  <a:lnTo>
                    <a:pt x="125" y="48"/>
                  </a:lnTo>
                  <a:lnTo>
                    <a:pt x="104" y="66"/>
                  </a:lnTo>
                  <a:lnTo>
                    <a:pt x="83" y="83"/>
                  </a:lnTo>
                  <a:lnTo>
                    <a:pt x="66" y="104"/>
                  </a:lnTo>
                  <a:lnTo>
                    <a:pt x="48" y="125"/>
                  </a:lnTo>
                  <a:lnTo>
                    <a:pt x="35" y="148"/>
                  </a:lnTo>
                  <a:lnTo>
                    <a:pt x="23" y="173"/>
                  </a:lnTo>
                  <a:lnTo>
                    <a:pt x="16" y="194"/>
                  </a:lnTo>
                  <a:lnTo>
                    <a:pt x="14" y="204"/>
                  </a:lnTo>
                  <a:lnTo>
                    <a:pt x="12" y="213"/>
                  </a:lnTo>
                  <a:lnTo>
                    <a:pt x="10" y="225"/>
                  </a:lnTo>
                  <a:lnTo>
                    <a:pt x="8" y="235"/>
                  </a:lnTo>
                  <a:lnTo>
                    <a:pt x="6" y="244"/>
                  </a:lnTo>
                  <a:lnTo>
                    <a:pt x="6" y="254"/>
                  </a:lnTo>
                  <a:lnTo>
                    <a:pt x="4" y="263"/>
                  </a:lnTo>
                  <a:lnTo>
                    <a:pt x="2" y="273"/>
                  </a:lnTo>
                  <a:lnTo>
                    <a:pt x="2" y="275"/>
                  </a:lnTo>
                  <a:lnTo>
                    <a:pt x="2" y="277"/>
                  </a:lnTo>
                  <a:lnTo>
                    <a:pt x="2" y="281"/>
                  </a:lnTo>
                  <a:lnTo>
                    <a:pt x="2" y="283"/>
                  </a:lnTo>
                  <a:lnTo>
                    <a:pt x="2" y="284"/>
                  </a:lnTo>
                  <a:lnTo>
                    <a:pt x="2" y="286"/>
                  </a:lnTo>
                  <a:lnTo>
                    <a:pt x="0" y="288"/>
                  </a:lnTo>
                  <a:lnTo>
                    <a:pt x="0" y="290"/>
                  </a:lnTo>
                  <a:lnTo>
                    <a:pt x="2" y="311"/>
                  </a:lnTo>
                  <a:lnTo>
                    <a:pt x="6" y="340"/>
                  </a:lnTo>
                  <a:lnTo>
                    <a:pt x="14" y="367"/>
                  </a:lnTo>
                  <a:lnTo>
                    <a:pt x="23" y="392"/>
                  </a:lnTo>
                  <a:lnTo>
                    <a:pt x="35" y="417"/>
                  </a:lnTo>
                  <a:lnTo>
                    <a:pt x="48" y="440"/>
                  </a:lnTo>
                  <a:lnTo>
                    <a:pt x="66" y="463"/>
                  </a:lnTo>
                  <a:lnTo>
                    <a:pt x="83" y="482"/>
                  </a:lnTo>
                  <a:lnTo>
                    <a:pt x="104" y="501"/>
                  </a:lnTo>
                  <a:lnTo>
                    <a:pt x="125" y="517"/>
                  </a:lnTo>
                  <a:lnTo>
                    <a:pt x="148" y="532"/>
                  </a:lnTo>
                  <a:lnTo>
                    <a:pt x="173" y="543"/>
                  </a:lnTo>
                  <a:lnTo>
                    <a:pt x="200" y="553"/>
                  </a:lnTo>
                  <a:lnTo>
                    <a:pt x="227" y="559"/>
                  </a:lnTo>
                  <a:lnTo>
                    <a:pt x="254" y="565"/>
                  </a:lnTo>
                  <a:lnTo>
                    <a:pt x="282" y="565"/>
                  </a:lnTo>
                  <a:lnTo>
                    <a:pt x="311" y="565"/>
                  </a:lnTo>
                  <a:lnTo>
                    <a:pt x="328" y="561"/>
                  </a:lnTo>
                  <a:lnTo>
                    <a:pt x="328" y="559"/>
                  </a:lnTo>
                  <a:lnTo>
                    <a:pt x="328" y="559"/>
                  </a:lnTo>
                  <a:lnTo>
                    <a:pt x="328" y="557"/>
                  </a:lnTo>
                  <a:lnTo>
                    <a:pt x="328" y="555"/>
                  </a:lnTo>
                  <a:lnTo>
                    <a:pt x="328" y="555"/>
                  </a:lnTo>
                  <a:lnTo>
                    <a:pt x="328" y="553"/>
                  </a:lnTo>
                  <a:lnTo>
                    <a:pt x="328" y="551"/>
                  </a:lnTo>
                  <a:lnTo>
                    <a:pt x="328" y="551"/>
                  </a:lnTo>
                  <a:lnTo>
                    <a:pt x="311" y="553"/>
                  </a:lnTo>
                  <a:lnTo>
                    <a:pt x="282" y="555"/>
                  </a:lnTo>
                  <a:lnTo>
                    <a:pt x="256" y="553"/>
                  </a:lnTo>
                  <a:lnTo>
                    <a:pt x="229" y="549"/>
                  </a:lnTo>
                  <a:lnTo>
                    <a:pt x="202" y="543"/>
                  </a:lnTo>
                  <a:lnTo>
                    <a:pt x="177" y="534"/>
                  </a:lnTo>
                  <a:lnTo>
                    <a:pt x="154" y="522"/>
                  </a:lnTo>
                  <a:lnTo>
                    <a:pt x="131" y="509"/>
                  </a:lnTo>
                  <a:lnTo>
                    <a:pt x="110" y="494"/>
                  </a:lnTo>
                  <a:lnTo>
                    <a:pt x="90" y="474"/>
                  </a:lnTo>
                  <a:lnTo>
                    <a:pt x="73" y="455"/>
                  </a:lnTo>
                  <a:lnTo>
                    <a:pt x="58" y="434"/>
                  </a:lnTo>
                  <a:lnTo>
                    <a:pt x="44" y="413"/>
                  </a:lnTo>
                  <a:lnTo>
                    <a:pt x="33" y="388"/>
                  </a:lnTo>
                  <a:lnTo>
                    <a:pt x="23" y="363"/>
                  </a:lnTo>
                  <a:lnTo>
                    <a:pt x="16" y="338"/>
                  </a:lnTo>
                  <a:lnTo>
                    <a:pt x="12" y="311"/>
                  </a:lnTo>
                  <a:lnTo>
                    <a:pt x="12" y="283"/>
                  </a:lnTo>
                  <a:lnTo>
                    <a:pt x="12" y="256"/>
                  </a:lnTo>
                  <a:lnTo>
                    <a:pt x="16" y="229"/>
                  </a:lnTo>
                  <a:lnTo>
                    <a:pt x="23" y="202"/>
                  </a:lnTo>
                  <a:lnTo>
                    <a:pt x="33" y="177"/>
                  </a:lnTo>
                  <a:lnTo>
                    <a:pt x="44" y="154"/>
                  </a:lnTo>
                  <a:lnTo>
                    <a:pt x="58" y="131"/>
                  </a:lnTo>
                  <a:lnTo>
                    <a:pt x="73" y="110"/>
                  </a:lnTo>
                  <a:lnTo>
                    <a:pt x="90" y="91"/>
                  </a:lnTo>
                  <a:lnTo>
                    <a:pt x="110" y="73"/>
                  </a:lnTo>
                  <a:lnTo>
                    <a:pt x="131" y="58"/>
                  </a:lnTo>
                  <a:lnTo>
                    <a:pt x="154" y="43"/>
                  </a:lnTo>
                  <a:lnTo>
                    <a:pt x="177" y="33"/>
                  </a:lnTo>
                  <a:lnTo>
                    <a:pt x="202" y="23"/>
                  </a:lnTo>
                  <a:lnTo>
                    <a:pt x="229" y="16"/>
                  </a:lnTo>
                  <a:lnTo>
                    <a:pt x="256" y="12"/>
                  </a:lnTo>
                  <a:lnTo>
                    <a:pt x="282" y="10"/>
                  </a:lnTo>
                  <a:lnTo>
                    <a:pt x="311" y="12"/>
                  </a:lnTo>
                  <a:lnTo>
                    <a:pt x="325" y="14"/>
                  </a:lnTo>
                  <a:lnTo>
                    <a:pt x="327" y="14"/>
                  </a:lnTo>
                  <a:lnTo>
                    <a:pt x="327" y="12"/>
                  </a:lnTo>
                  <a:lnTo>
                    <a:pt x="327" y="10"/>
                  </a:lnTo>
                  <a:lnTo>
                    <a:pt x="327" y="10"/>
                  </a:lnTo>
                  <a:lnTo>
                    <a:pt x="327" y="8"/>
                  </a:lnTo>
                  <a:lnTo>
                    <a:pt x="327" y="6"/>
                  </a:lnTo>
                  <a:lnTo>
                    <a:pt x="327" y="6"/>
                  </a:lnTo>
                  <a:lnTo>
                    <a:pt x="327" y="4"/>
                  </a:lnTo>
                  <a:close/>
                </a:path>
              </a:pathLst>
            </a:custGeom>
            <a:solidFill>
              <a:srgbClr val="c9e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Freeform 212"/>
            <p:cNvSpPr/>
            <p:nvPr/>
          </p:nvSpPr>
          <p:spPr>
            <a:xfrm>
              <a:off x="1820520" y="2707560"/>
              <a:ext cx="542160" cy="934200"/>
            </a:xfrm>
            <a:custGeom>
              <a:avLst/>
              <a:gdLst>
                <a:gd name="textAreaLeft" fmla="*/ 0 w 542160"/>
                <a:gd name="textAreaRight" fmla="*/ 542520 w 542160"/>
                <a:gd name="textAreaTop" fmla="*/ 0 h 934200"/>
                <a:gd name="textAreaBottom" fmla="*/ 934560 h 934200"/>
              </a:gdLst>
              <a:ahLst/>
              <a:rect l="textAreaLeft" t="textAreaTop" r="textAreaRight" b="textAreaBottom"/>
              <a:pathLst>
                <a:path w="322" h="555">
                  <a:moveTo>
                    <a:pt x="321" y="4"/>
                  </a:moveTo>
                  <a:lnTo>
                    <a:pt x="305" y="0"/>
                  </a:lnTo>
                  <a:lnTo>
                    <a:pt x="276" y="0"/>
                  </a:lnTo>
                  <a:lnTo>
                    <a:pt x="250" y="0"/>
                  </a:lnTo>
                  <a:lnTo>
                    <a:pt x="221" y="6"/>
                  </a:lnTo>
                  <a:lnTo>
                    <a:pt x="194" y="12"/>
                  </a:lnTo>
                  <a:lnTo>
                    <a:pt x="169" y="21"/>
                  </a:lnTo>
                  <a:lnTo>
                    <a:pt x="144" y="33"/>
                  </a:lnTo>
                  <a:lnTo>
                    <a:pt x="123" y="46"/>
                  </a:lnTo>
                  <a:lnTo>
                    <a:pt x="100" y="64"/>
                  </a:lnTo>
                  <a:lnTo>
                    <a:pt x="81" y="81"/>
                  </a:lnTo>
                  <a:lnTo>
                    <a:pt x="63" y="100"/>
                  </a:lnTo>
                  <a:lnTo>
                    <a:pt x="48" y="121"/>
                  </a:lnTo>
                  <a:lnTo>
                    <a:pt x="33" y="144"/>
                  </a:lnTo>
                  <a:lnTo>
                    <a:pt x="21" y="169"/>
                  </a:lnTo>
                  <a:lnTo>
                    <a:pt x="12" y="194"/>
                  </a:lnTo>
                  <a:lnTo>
                    <a:pt x="6" y="221"/>
                  </a:lnTo>
                  <a:lnTo>
                    <a:pt x="2" y="248"/>
                  </a:lnTo>
                  <a:lnTo>
                    <a:pt x="0" y="277"/>
                  </a:lnTo>
                  <a:lnTo>
                    <a:pt x="2" y="305"/>
                  </a:lnTo>
                  <a:lnTo>
                    <a:pt x="6" y="332"/>
                  </a:lnTo>
                  <a:lnTo>
                    <a:pt x="12" y="359"/>
                  </a:lnTo>
                  <a:lnTo>
                    <a:pt x="21" y="384"/>
                  </a:lnTo>
                  <a:lnTo>
                    <a:pt x="33" y="409"/>
                  </a:lnTo>
                  <a:lnTo>
                    <a:pt x="48" y="432"/>
                  </a:lnTo>
                  <a:lnTo>
                    <a:pt x="63" y="453"/>
                  </a:lnTo>
                  <a:lnTo>
                    <a:pt x="81" y="472"/>
                  </a:lnTo>
                  <a:lnTo>
                    <a:pt x="100" y="491"/>
                  </a:lnTo>
                  <a:lnTo>
                    <a:pt x="123" y="507"/>
                  </a:lnTo>
                  <a:lnTo>
                    <a:pt x="144" y="520"/>
                  </a:lnTo>
                  <a:lnTo>
                    <a:pt x="169" y="532"/>
                  </a:lnTo>
                  <a:lnTo>
                    <a:pt x="194" y="541"/>
                  </a:lnTo>
                  <a:lnTo>
                    <a:pt x="221" y="549"/>
                  </a:lnTo>
                  <a:lnTo>
                    <a:pt x="250" y="553"/>
                  </a:lnTo>
                  <a:lnTo>
                    <a:pt x="276" y="555"/>
                  </a:lnTo>
                  <a:lnTo>
                    <a:pt x="305" y="553"/>
                  </a:lnTo>
                  <a:lnTo>
                    <a:pt x="322" y="549"/>
                  </a:lnTo>
                  <a:lnTo>
                    <a:pt x="322" y="549"/>
                  </a:lnTo>
                  <a:lnTo>
                    <a:pt x="322" y="547"/>
                  </a:lnTo>
                  <a:lnTo>
                    <a:pt x="322" y="545"/>
                  </a:lnTo>
                  <a:lnTo>
                    <a:pt x="322" y="545"/>
                  </a:lnTo>
                  <a:lnTo>
                    <a:pt x="322" y="543"/>
                  </a:lnTo>
                  <a:lnTo>
                    <a:pt x="322" y="543"/>
                  </a:lnTo>
                  <a:lnTo>
                    <a:pt x="321" y="541"/>
                  </a:lnTo>
                  <a:lnTo>
                    <a:pt x="321" y="539"/>
                  </a:lnTo>
                  <a:lnTo>
                    <a:pt x="305" y="543"/>
                  </a:lnTo>
                  <a:lnTo>
                    <a:pt x="276" y="543"/>
                  </a:lnTo>
                  <a:lnTo>
                    <a:pt x="250" y="543"/>
                  </a:lnTo>
                  <a:lnTo>
                    <a:pt x="223" y="537"/>
                  </a:lnTo>
                  <a:lnTo>
                    <a:pt x="198" y="532"/>
                  </a:lnTo>
                  <a:lnTo>
                    <a:pt x="173" y="522"/>
                  </a:lnTo>
                  <a:lnTo>
                    <a:pt x="150" y="511"/>
                  </a:lnTo>
                  <a:lnTo>
                    <a:pt x="129" y="497"/>
                  </a:lnTo>
                  <a:lnTo>
                    <a:pt x="108" y="482"/>
                  </a:lnTo>
                  <a:lnTo>
                    <a:pt x="88" y="465"/>
                  </a:lnTo>
                  <a:lnTo>
                    <a:pt x="71" y="447"/>
                  </a:lnTo>
                  <a:lnTo>
                    <a:pt x="56" y="426"/>
                  </a:lnTo>
                  <a:lnTo>
                    <a:pt x="42" y="403"/>
                  </a:lnTo>
                  <a:lnTo>
                    <a:pt x="31" y="380"/>
                  </a:lnTo>
                  <a:lnTo>
                    <a:pt x="23" y="357"/>
                  </a:lnTo>
                  <a:lnTo>
                    <a:pt x="15" y="330"/>
                  </a:lnTo>
                  <a:lnTo>
                    <a:pt x="12" y="303"/>
                  </a:lnTo>
                  <a:lnTo>
                    <a:pt x="10" y="277"/>
                  </a:lnTo>
                  <a:lnTo>
                    <a:pt x="12" y="250"/>
                  </a:lnTo>
                  <a:lnTo>
                    <a:pt x="15" y="223"/>
                  </a:lnTo>
                  <a:lnTo>
                    <a:pt x="23" y="198"/>
                  </a:lnTo>
                  <a:lnTo>
                    <a:pt x="31" y="173"/>
                  </a:lnTo>
                  <a:lnTo>
                    <a:pt x="42" y="150"/>
                  </a:lnTo>
                  <a:lnTo>
                    <a:pt x="56" y="127"/>
                  </a:lnTo>
                  <a:lnTo>
                    <a:pt x="71" y="108"/>
                  </a:lnTo>
                  <a:lnTo>
                    <a:pt x="88" y="88"/>
                  </a:lnTo>
                  <a:lnTo>
                    <a:pt x="108" y="71"/>
                  </a:lnTo>
                  <a:lnTo>
                    <a:pt x="129" y="56"/>
                  </a:lnTo>
                  <a:lnTo>
                    <a:pt x="150" y="42"/>
                  </a:lnTo>
                  <a:lnTo>
                    <a:pt x="173" y="31"/>
                  </a:lnTo>
                  <a:lnTo>
                    <a:pt x="198" y="21"/>
                  </a:lnTo>
                  <a:lnTo>
                    <a:pt x="223" y="16"/>
                  </a:lnTo>
                  <a:lnTo>
                    <a:pt x="250" y="12"/>
                  </a:lnTo>
                  <a:lnTo>
                    <a:pt x="276" y="10"/>
                  </a:lnTo>
                  <a:lnTo>
                    <a:pt x="305" y="12"/>
                  </a:lnTo>
                  <a:lnTo>
                    <a:pt x="319" y="14"/>
                  </a:lnTo>
                  <a:lnTo>
                    <a:pt x="319" y="12"/>
                  </a:lnTo>
                  <a:lnTo>
                    <a:pt x="319" y="12"/>
                  </a:lnTo>
                  <a:lnTo>
                    <a:pt x="319" y="10"/>
                  </a:lnTo>
                  <a:lnTo>
                    <a:pt x="319" y="8"/>
                  </a:lnTo>
                  <a:lnTo>
                    <a:pt x="321" y="8"/>
                  </a:lnTo>
                  <a:lnTo>
                    <a:pt x="321" y="6"/>
                  </a:lnTo>
                  <a:lnTo>
                    <a:pt x="321" y="4"/>
                  </a:lnTo>
                  <a:lnTo>
                    <a:pt x="321" y="4"/>
                  </a:lnTo>
                  <a:close/>
                </a:path>
              </a:pathLst>
            </a:custGeom>
            <a:solidFill>
              <a:srgbClr val="cae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Freeform 213"/>
            <p:cNvSpPr/>
            <p:nvPr/>
          </p:nvSpPr>
          <p:spPr>
            <a:xfrm>
              <a:off x="1830600" y="2714400"/>
              <a:ext cx="532080" cy="917280"/>
            </a:xfrm>
            <a:custGeom>
              <a:avLst/>
              <a:gdLst>
                <a:gd name="textAreaLeft" fmla="*/ 0 w 532080"/>
                <a:gd name="textAreaRight" fmla="*/ 532080 w 532080"/>
                <a:gd name="textAreaTop" fmla="*/ 0 h 917280"/>
                <a:gd name="textAreaBottom" fmla="*/ 917640 h 917280"/>
              </a:gdLst>
              <a:ahLst/>
              <a:rect l="textAreaLeft" t="textAreaTop" r="textAreaRight" b="textAreaBottom"/>
              <a:pathLst>
                <a:path w="316" h="545">
                  <a:moveTo>
                    <a:pt x="313" y="4"/>
                  </a:moveTo>
                  <a:lnTo>
                    <a:pt x="299" y="2"/>
                  </a:lnTo>
                  <a:lnTo>
                    <a:pt x="270" y="0"/>
                  </a:lnTo>
                  <a:lnTo>
                    <a:pt x="244" y="2"/>
                  </a:lnTo>
                  <a:lnTo>
                    <a:pt x="217" y="6"/>
                  </a:lnTo>
                  <a:lnTo>
                    <a:pt x="190" y="13"/>
                  </a:lnTo>
                  <a:lnTo>
                    <a:pt x="165" y="23"/>
                  </a:lnTo>
                  <a:lnTo>
                    <a:pt x="142" y="33"/>
                  </a:lnTo>
                  <a:lnTo>
                    <a:pt x="119" y="48"/>
                  </a:lnTo>
                  <a:lnTo>
                    <a:pt x="98" y="63"/>
                  </a:lnTo>
                  <a:lnTo>
                    <a:pt x="78" y="81"/>
                  </a:lnTo>
                  <a:lnTo>
                    <a:pt x="61" y="100"/>
                  </a:lnTo>
                  <a:lnTo>
                    <a:pt x="46" y="121"/>
                  </a:lnTo>
                  <a:lnTo>
                    <a:pt x="32" y="144"/>
                  </a:lnTo>
                  <a:lnTo>
                    <a:pt x="21" y="167"/>
                  </a:lnTo>
                  <a:lnTo>
                    <a:pt x="11" y="192"/>
                  </a:lnTo>
                  <a:lnTo>
                    <a:pt x="4" y="219"/>
                  </a:lnTo>
                  <a:lnTo>
                    <a:pt x="0" y="246"/>
                  </a:lnTo>
                  <a:lnTo>
                    <a:pt x="0" y="273"/>
                  </a:lnTo>
                  <a:lnTo>
                    <a:pt x="0" y="301"/>
                  </a:lnTo>
                  <a:lnTo>
                    <a:pt x="4" y="328"/>
                  </a:lnTo>
                  <a:lnTo>
                    <a:pt x="11" y="353"/>
                  </a:lnTo>
                  <a:lnTo>
                    <a:pt x="21" y="378"/>
                  </a:lnTo>
                  <a:lnTo>
                    <a:pt x="32" y="403"/>
                  </a:lnTo>
                  <a:lnTo>
                    <a:pt x="46" y="424"/>
                  </a:lnTo>
                  <a:lnTo>
                    <a:pt x="61" y="445"/>
                  </a:lnTo>
                  <a:lnTo>
                    <a:pt x="78" y="464"/>
                  </a:lnTo>
                  <a:lnTo>
                    <a:pt x="98" y="484"/>
                  </a:lnTo>
                  <a:lnTo>
                    <a:pt x="119" y="499"/>
                  </a:lnTo>
                  <a:lnTo>
                    <a:pt x="142" y="512"/>
                  </a:lnTo>
                  <a:lnTo>
                    <a:pt x="165" y="524"/>
                  </a:lnTo>
                  <a:lnTo>
                    <a:pt x="190" y="533"/>
                  </a:lnTo>
                  <a:lnTo>
                    <a:pt x="217" y="539"/>
                  </a:lnTo>
                  <a:lnTo>
                    <a:pt x="244" y="543"/>
                  </a:lnTo>
                  <a:lnTo>
                    <a:pt x="270" y="545"/>
                  </a:lnTo>
                  <a:lnTo>
                    <a:pt x="299" y="543"/>
                  </a:lnTo>
                  <a:lnTo>
                    <a:pt x="316" y="541"/>
                  </a:lnTo>
                  <a:lnTo>
                    <a:pt x="316" y="539"/>
                  </a:lnTo>
                  <a:lnTo>
                    <a:pt x="316" y="539"/>
                  </a:lnTo>
                  <a:lnTo>
                    <a:pt x="315" y="537"/>
                  </a:lnTo>
                  <a:lnTo>
                    <a:pt x="315" y="535"/>
                  </a:lnTo>
                  <a:lnTo>
                    <a:pt x="315" y="535"/>
                  </a:lnTo>
                  <a:lnTo>
                    <a:pt x="315" y="533"/>
                  </a:lnTo>
                  <a:lnTo>
                    <a:pt x="315" y="532"/>
                  </a:lnTo>
                  <a:lnTo>
                    <a:pt x="315" y="532"/>
                  </a:lnTo>
                  <a:lnTo>
                    <a:pt x="297" y="533"/>
                  </a:lnTo>
                  <a:lnTo>
                    <a:pt x="270" y="535"/>
                  </a:lnTo>
                  <a:lnTo>
                    <a:pt x="244" y="533"/>
                  </a:lnTo>
                  <a:lnTo>
                    <a:pt x="219" y="530"/>
                  </a:lnTo>
                  <a:lnTo>
                    <a:pt x="194" y="522"/>
                  </a:lnTo>
                  <a:lnTo>
                    <a:pt x="169" y="514"/>
                  </a:lnTo>
                  <a:lnTo>
                    <a:pt x="146" y="503"/>
                  </a:lnTo>
                  <a:lnTo>
                    <a:pt x="125" y="489"/>
                  </a:lnTo>
                  <a:lnTo>
                    <a:pt x="105" y="474"/>
                  </a:lnTo>
                  <a:lnTo>
                    <a:pt x="86" y="459"/>
                  </a:lnTo>
                  <a:lnTo>
                    <a:pt x="69" y="439"/>
                  </a:lnTo>
                  <a:lnTo>
                    <a:pt x="54" y="418"/>
                  </a:lnTo>
                  <a:lnTo>
                    <a:pt x="40" y="397"/>
                  </a:lnTo>
                  <a:lnTo>
                    <a:pt x="30" y="374"/>
                  </a:lnTo>
                  <a:lnTo>
                    <a:pt x="21" y="351"/>
                  </a:lnTo>
                  <a:lnTo>
                    <a:pt x="15" y="326"/>
                  </a:lnTo>
                  <a:lnTo>
                    <a:pt x="11" y="299"/>
                  </a:lnTo>
                  <a:lnTo>
                    <a:pt x="9" y="273"/>
                  </a:lnTo>
                  <a:lnTo>
                    <a:pt x="11" y="246"/>
                  </a:lnTo>
                  <a:lnTo>
                    <a:pt x="15" y="221"/>
                  </a:lnTo>
                  <a:lnTo>
                    <a:pt x="21" y="196"/>
                  </a:lnTo>
                  <a:lnTo>
                    <a:pt x="30" y="171"/>
                  </a:lnTo>
                  <a:lnTo>
                    <a:pt x="40" y="148"/>
                  </a:lnTo>
                  <a:lnTo>
                    <a:pt x="54" y="127"/>
                  </a:lnTo>
                  <a:lnTo>
                    <a:pt x="69" y="106"/>
                  </a:lnTo>
                  <a:lnTo>
                    <a:pt x="86" y="88"/>
                  </a:lnTo>
                  <a:lnTo>
                    <a:pt x="105" y="71"/>
                  </a:lnTo>
                  <a:lnTo>
                    <a:pt x="125" y="56"/>
                  </a:lnTo>
                  <a:lnTo>
                    <a:pt x="146" y="42"/>
                  </a:lnTo>
                  <a:lnTo>
                    <a:pt x="169" y="31"/>
                  </a:lnTo>
                  <a:lnTo>
                    <a:pt x="194" y="23"/>
                  </a:lnTo>
                  <a:lnTo>
                    <a:pt x="219" y="15"/>
                  </a:lnTo>
                  <a:lnTo>
                    <a:pt x="244" y="12"/>
                  </a:lnTo>
                  <a:lnTo>
                    <a:pt x="270" y="12"/>
                  </a:lnTo>
                  <a:lnTo>
                    <a:pt x="297" y="12"/>
                  </a:lnTo>
                  <a:lnTo>
                    <a:pt x="313" y="15"/>
                  </a:lnTo>
                  <a:lnTo>
                    <a:pt x="313" y="13"/>
                  </a:lnTo>
                  <a:lnTo>
                    <a:pt x="313" y="12"/>
                  </a:lnTo>
                  <a:lnTo>
                    <a:pt x="313" y="12"/>
                  </a:lnTo>
                  <a:lnTo>
                    <a:pt x="313" y="10"/>
                  </a:lnTo>
                  <a:lnTo>
                    <a:pt x="313" y="8"/>
                  </a:lnTo>
                  <a:lnTo>
                    <a:pt x="313" y="8"/>
                  </a:lnTo>
                  <a:lnTo>
                    <a:pt x="313" y="6"/>
                  </a:lnTo>
                  <a:lnTo>
                    <a:pt x="313" y="4"/>
                  </a:lnTo>
                  <a:close/>
                </a:path>
              </a:pathLst>
            </a:custGeom>
            <a:solidFill>
              <a:srgbClr val="cbe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Freeform 214"/>
            <p:cNvSpPr/>
            <p:nvPr/>
          </p:nvSpPr>
          <p:spPr>
            <a:xfrm>
              <a:off x="1837440" y="2724480"/>
              <a:ext cx="523440" cy="89712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311" h="533">
                  <a:moveTo>
                    <a:pt x="309" y="4"/>
                  </a:moveTo>
                  <a:lnTo>
                    <a:pt x="295" y="2"/>
                  </a:lnTo>
                  <a:lnTo>
                    <a:pt x="266" y="0"/>
                  </a:lnTo>
                  <a:lnTo>
                    <a:pt x="240" y="2"/>
                  </a:lnTo>
                  <a:lnTo>
                    <a:pt x="213" y="6"/>
                  </a:lnTo>
                  <a:lnTo>
                    <a:pt x="188" y="11"/>
                  </a:lnTo>
                  <a:lnTo>
                    <a:pt x="163" y="21"/>
                  </a:lnTo>
                  <a:lnTo>
                    <a:pt x="140" y="32"/>
                  </a:lnTo>
                  <a:lnTo>
                    <a:pt x="119" y="46"/>
                  </a:lnTo>
                  <a:lnTo>
                    <a:pt x="98" y="61"/>
                  </a:lnTo>
                  <a:lnTo>
                    <a:pt x="78" y="78"/>
                  </a:lnTo>
                  <a:lnTo>
                    <a:pt x="61" y="98"/>
                  </a:lnTo>
                  <a:lnTo>
                    <a:pt x="46" y="117"/>
                  </a:lnTo>
                  <a:lnTo>
                    <a:pt x="32" y="140"/>
                  </a:lnTo>
                  <a:lnTo>
                    <a:pt x="21" y="163"/>
                  </a:lnTo>
                  <a:lnTo>
                    <a:pt x="13" y="188"/>
                  </a:lnTo>
                  <a:lnTo>
                    <a:pt x="5" y="213"/>
                  </a:lnTo>
                  <a:lnTo>
                    <a:pt x="2" y="240"/>
                  </a:lnTo>
                  <a:lnTo>
                    <a:pt x="0" y="267"/>
                  </a:lnTo>
                  <a:lnTo>
                    <a:pt x="2" y="293"/>
                  </a:lnTo>
                  <a:lnTo>
                    <a:pt x="5" y="320"/>
                  </a:lnTo>
                  <a:lnTo>
                    <a:pt x="13" y="347"/>
                  </a:lnTo>
                  <a:lnTo>
                    <a:pt x="21" y="370"/>
                  </a:lnTo>
                  <a:lnTo>
                    <a:pt x="32" y="393"/>
                  </a:lnTo>
                  <a:lnTo>
                    <a:pt x="46" y="416"/>
                  </a:lnTo>
                  <a:lnTo>
                    <a:pt x="61" y="437"/>
                  </a:lnTo>
                  <a:lnTo>
                    <a:pt x="78" y="455"/>
                  </a:lnTo>
                  <a:lnTo>
                    <a:pt x="98" y="472"/>
                  </a:lnTo>
                  <a:lnTo>
                    <a:pt x="119" y="487"/>
                  </a:lnTo>
                  <a:lnTo>
                    <a:pt x="140" y="501"/>
                  </a:lnTo>
                  <a:lnTo>
                    <a:pt x="163" y="512"/>
                  </a:lnTo>
                  <a:lnTo>
                    <a:pt x="188" y="522"/>
                  </a:lnTo>
                  <a:lnTo>
                    <a:pt x="213" y="527"/>
                  </a:lnTo>
                  <a:lnTo>
                    <a:pt x="240" y="533"/>
                  </a:lnTo>
                  <a:lnTo>
                    <a:pt x="266" y="533"/>
                  </a:lnTo>
                  <a:lnTo>
                    <a:pt x="295" y="533"/>
                  </a:lnTo>
                  <a:lnTo>
                    <a:pt x="311" y="529"/>
                  </a:lnTo>
                  <a:lnTo>
                    <a:pt x="311" y="529"/>
                  </a:lnTo>
                  <a:lnTo>
                    <a:pt x="311" y="527"/>
                  </a:lnTo>
                  <a:lnTo>
                    <a:pt x="311" y="526"/>
                  </a:lnTo>
                  <a:lnTo>
                    <a:pt x="311" y="526"/>
                  </a:lnTo>
                  <a:lnTo>
                    <a:pt x="311" y="524"/>
                  </a:lnTo>
                  <a:lnTo>
                    <a:pt x="311" y="522"/>
                  </a:lnTo>
                  <a:lnTo>
                    <a:pt x="311" y="522"/>
                  </a:lnTo>
                  <a:lnTo>
                    <a:pt x="311" y="520"/>
                  </a:lnTo>
                  <a:lnTo>
                    <a:pt x="293" y="522"/>
                  </a:lnTo>
                  <a:lnTo>
                    <a:pt x="266" y="524"/>
                  </a:lnTo>
                  <a:lnTo>
                    <a:pt x="241" y="522"/>
                  </a:lnTo>
                  <a:lnTo>
                    <a:pt x="215" y="518"/>
                  </a:lnTo>
                  <a:lnTo>
                    <a:pt x="192" y="512"/>
                  </a:lnTo>
                  <a:lnTo>
                    <a:pt x="167" y="503"/>
                  </a:lnTo>
                  <a:lnTo>
                    <a:pt x="145" y="493"/>
                  </a:lnTo>
                  <a:lnTo>
                    <a:pt x="124" y="479"/>
                  </a:lnTo>
                  <a:lnTo>
                    <a:pt x="103" y="464"/>
                  </a:lnTo>
                  <a:lnTo>
                    <a:pt x="86" y="449"/>
                  </a:lnTo>
                  <a:lnTo>
                    <a:pt x="69" y="430"/>
                  </a:lnTo>
                  <a:lnTo>
                    <a:pt x="53" y="410"/>
                  </a:lnTo>
                  <a:lnTo>
                    <a:pt x="42" y="389"/>
                  </a:lnTo>
                  <a:lnTo>
                    <a:pt x="30" y="366"/>
                  </a:lnTo>
                  <a:lnTo>
                    <a:pt x="23" y="343"/>
                  </a:lnTo>
                  <a:lnTo>
                    <a:pt x="15" y="318"/>
                  </a:lnTo>
                  <a:lnTo>
                    <a:pt x="11" y="293"/>
                  </a:lnTo>
                  <a:lnTo>
                    <a:pt x="11" y="267"/>
                  </a:lnTo>
                  <a:lnTo>
                    <a:pt x="11" y="240"/>
                  </a:lnTo>
                  <a:lnTo>
                    <a:pt x="15" y="215"/>
                  </a:lnTo>
                  <a:lnTo>
                    <a:pt x="23" y="190"/>
                  </a:lnTo>
                  <a:lnTo>
                    <a:pt x="30" y="167"/>
                  </a:lnTo>
                  <a:lnTo>
                    <a:pt x="42" y="144"/>
                  </a:lnTo>
                  <a:lnTo>
                    <a:pt x="53" y="123"/>
                  </a:lnTo>
                  <a:lnTo>
                    <a:pt x="69" y="103"/>
                  </a:lnTo>
                  <a:lnTo>
                    <a:pt x="86" y="86"/>
                  </a:lnTo>
                  <a:lnTo>
                    <a:pt x="103" y="69"/>
                  </a:lnTo>
                  <a:lnTo>
                    <a:pt x="124" y="54"/>
                  </a:lnTo>
                  <a:lnTo>
                    <a:pt x="145" y="42"/>
                  </a:lnTo>
                  <a:lnTo>
                    <a:pt x="167" y="31"/>
                  </a:lnTo>
                  <a:lnTo>
                    <a:pt x="192" y="21"/>
                  </a:lnTo>
                  <a:lnTo>
                    <a:pt x="215" y="15"/>
                  </a:lnTo>
                  <a:lnTo>
                    <a:pt x="241" y="11"/>
                  </a:lnTo>
                  <a:lnTo>
                    <a:pt x="266" y="9"/>
                  </a:lnTo>
                  <a:lnTo>
                    <a:pt x="293" y="11"/>
                  </a:lnTo>
                  <a:lnTo>
                    <a:pt x="309" y="13"/>
                  </a:lnTo>
                  <a:lnTo>
                    <a:pt x="309" y="13"/>
                  </a:lnTo>
                  <a:lnTo>
                    <a:pt x="309" y="11"/>
                  </a:lnTo>
                  <a:lnTo>
                    <a:pt x="309" y="9"/>
                  </a:lnTo>
                  <a:lnTo>
                    <a:pt x="309" y="9"/>
                  </a:lnTo>
                  <a:lnTo>
                    <a:pt x="309" y="7"/>
                  </a:lnTo>
                  <a:lnTo>
                    <a:pt x="309" y="6"/>
                  </a:lnTo>
                  <a:lnTo>
                    <a:pt x="309" y="6"/>
                  </a:lnTo>
                  <a:lnTo>
                    <a:pt x="309" y="4"/>
                  </a:lnTo>
                  <a:close/>
                </a:path>
              </a:pathLst>
            </a:custGeom>
            <a:solidFill>
              <a:srgbClr val="cce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Freeform 215"/>
            <p:cNvSpPr/>
            <p:nvPr/>
          </p:nvSpPr>
          <p:spPr>
            <a:xfrm>
              <a:off x="1845720" y="2734560"/>
              <a:ext cx="515160" cy="880560"/>
            </a:xfrm>
            <a:custGeom>
              <a:avLst/>
              <a:gdLst>
                <a:gd name="textAreaLeft" fmla="*/ 0 w 515160"/>
                <a:gd name="textAreaRight" fmla="*/ 515520 w 515160"/>
                <a:gd name="textAreaTop" fmla="*/ 0 h 880560"/>
                <a:gd name="textAreaBottom" fmla="*/ 880920 h 880560"/>
              </a:gdLst>
              <a:ahLst/>
              <a:rect l="textAreaLeft" t="textAreaTop" r="textAreaRight" b="textAreaBottom"/>
              <a:pathLst>
                <a:path w="306" h="523">
                  <a:moveTo>
                    <a:pt x="304" y="3"/>
                  </a:moveTo>
                  <a:lnTo>
                    <a:pt x="288" y="0"/>
                  </a:lnTo>
                  <a:lnTo>
                    <a:pt x="261" y="0"/>
                  </a:lnTo>
                  <a:lnTo>
                    <a:pt x="235" y="0"/>
                  </a:lnTo>
                  <a:lnTo>
                    <a:pt x="210" y="3"/>
                  </a:lnTo>
                  <a:lnTo>
                    <a:pt x="185" y="11"/>
                  </a:lnTo>
                  <a:lnTo>
                    <a:pt x="160" y="19"/>
                  </a:lnTo>
                  <a:lnTo>
                    <a:pt x="137" y="30"/>
                  </a:lnTo>
                  <a:lnTo>
                    <a:pt x="116" y="44"/>
                  </a:lnTo>
                  <a:lnTo>
                    <a:pt x="96" y="59"/>
                  </a:lnTo>
                  <a:lnTo>
                    <a:pt x="77" y="76"/>
                  </a:lnTo>
                  <a:lnTo>
                    <a:pt x="60" y="94"/>
                  </a:lnTo>
                  <a:lnTo>
                    <a:pt x="45" y="115"/>
                  </a:lnTo>
                  <a:lnTo>
                    <a:pt x="31" y="136"/>
                  </a:lnTo>
                  <a:lnTo>
                    <a:pt x="21" y="159"/>
                  </a:lnTo>
                  <a:lnTo>
                    <a:pt x="12" y="184"/>
                  </a:lnTo>
                  <a:lnTo>
                    <a:pt x="6" y="209"/>
                  </a:lnTo>
                  <a:lnTo>
                    <a:pt x="2" y="234"/>
                  </a:lnTo>
                  <a:lnTo>
                    <a:pt x="0" y="261"/>
                  </a:lnTo>
                  <a:lnTo>
                    <a:pt x="2" y="287"/>
                  </a:lnTo>
                  <a:lnTo>
                    <a:pt x="6" y="314"/>
                  </a:lnTo>
                  <a:lnTo>
                    <a:pt x="12" y="339"/>
                  </a:lnTo>
                  <a:lnTo>
                    <a:pt x="21" y="362"/>
                  </a:lnTo>
                  <a:lnTo>
                    <a:pt x="31" y="385"/>
                  </a:lnTo>
                  <a:lnTo>
                    <a:pt x="45" y="406"/>
                  </a:lnTo>
                  <a:lnTo>
                    <a:pt x="60" y="427"/>
                  </a:lnTo>
                  <a:lnTo>
                    <a:pt x="77" y="447"/>
                  </a:lnTo>
                  <a:lnTo>
                    <a:pt x="96" y="462"/>
                  </a:lnTo>
                  <a:lnTo>
                    <a:pt x="116" y="477"/>
                  </a:lnTo>
                  <a:lnTo>
                    <a:pt x="137" y="491"/>
                  </a:lnTo>
                  <a:lnTo>
                    <a:pt x="160" y="502"/>
                  </a:lnTo>
                  <a:lnTo>
                    <a:pt x="185" y="510"/>
                  </a:lnTo>
                  <a:lnTo>
                    <a:pt x="210" y="518"/>
                  </a:lnTo>
                  <a:lnTo>
                    <a:pt x="235" y="521"/>
                  </a:lnTo>
                  <a:lnTo>
                    <a:pt x="261" y="523"/>
                  </a:lnTo>
                  <a:lnTo>
                    <a:pt x="288" y="521"/>
                  </a:lnTo>
                  <a:lnTo>
                    <a:pt x="306" y="520"/>
                  </a:lnTo>
                  <a:lnTo>
                    <a:pt x="306" y="518"/>
                  </a:lnTo>
                  <a:lnTo>
                    <a:pt x="306" y="516"/>
                  </a:lnTo>
                  <a:lnTo>
                    <a:pt x="306" y="516"/>
                  </a:lnTo>
                  <a:lnTo>
                    <a:pt x="306" y="514"/>
                  </a:lnTo>
                  <a:lnTo>
                    <a:pt x="306" y="512"/>
                  </a:lnTo>
                  <a:lnTo>
                    <a:pt x="306" y="512"/>
                  </a:lnTo>
                  <a:lnTo>
                    <a:pt x="306" y="510"/>
                  </a:lnTo>
                  <a:lnTo>
                    <a:pt x="304" y="508"/>
                  </a:lnTo>
                  <a:lnTo>
                    <a:pt x="288" y="512"/>
                  </a:lnTo>
                  <a:lnTo>
                    <a:pt x="261" y="512"/>
                  </a:lnTo>
                  <a:lnTo>
                    <a:pt x="236" y="512"/>
                  </a:lnTo>
                  <a:lnTo>
                    <a:pt x="212" y="508"/>
                  </a:lnTo>
                  <a:lnTo>
                    <a:pt x="187" y="500"/>
                  </a:lnTo>
                  <a:lnTo>
                    <a:pt x="164" y="493"/>
                  </a:lnTo>
                  <a:lnTo>
                    <a:pt x="142" y="481"/>
                  </a:lnTo>
                  <a:lnTo>
                    <a:pt x="121" y="470"/>
                  </a:lnTo>
                  <a:lnTo>
                    <a:pt x="102" y="454"/>
                  </a:lnTo>
                  <a:lnTo>
                    <a:pt x="85" y="439"/>
                  </a:lnTo>
                  <a:lnTo>
                    <a:pt x="68" y="422"/>
                  </a:lnTo>
                  <a:lnTo>
                    <a:pt x="54" y="401"/>
                  </a:lnTo>
                  <a:lnTo>
                    <a:pt x="41" y="381"/>
                  </a:lnTo>
                  <a:lnTo>
                    <a:pt x="31" y="358"/>
                  </a:lnTo>
                  <a:lnTo>
                    <a:pt x="21" y="335"/>
                  </a:lnTo>
                  <a:lnTo>
                    <a:pt x="16" y="312"/>
                  </a:lnTo>
                  <a:lnTo>
                    <a:pt x="12" y="287"/>
                  </a:lnTo>
                  <a:lnTo>
                    <a:pt x="10" y="261"/>
                  </a:lnTo>
                  <a:lnTo>
                    <a:pt x="12" y="236"/>
                  </a:lnTo>
                  <a:lnTo>
                    <a:pt x="16" y="211"/>
                  </a:lnTo>
                  <a:lnTo>
                    <a:pt x="21" y="186"/>
                  </a:lnTo>
                  <a:lnTo>
                    <a:pt x="31" y="163"/>
                  </a:lnTo>
                  <a:lnTo>
                    <a:pt x="41" y="142"/>
                  </a:lnTo>
                  <a:lnTo>
                    <a:pt x="54" y="120"/>
                  </a:lnTo>
                  <a:lnTo>
                    <a:pt x="68" y="101"/>
                  </a:lnTo>
                  <a:lnTo>
                    <a:pt x="85" y="82"/>
                  </a:lnTo>
                  <a:lnTo>
                    <a:pt x="102" y="67"/>
                  </a:lnTo>
                  <a:lnTo>
                    <a:pt x="121" y="51"/>
                  </a:lnTo>
                  <a:lnTo>
                    <a:pt x="142" y="40"/>
                  </a:lnTo>
                  <a:lnTo>
                    <a:pt x="164" y="28"/>
                  </a:lnTo>
                  <a:lnTo>
                    <a:pt x="187" y="21"/>
                  </a:lnTo>
                  <a:lnTo>
                    <a:pt x="212" y="15"/>
                  </a:lnTo>
                  <a:lnTo>
                    <a:pt x="236" y="11"/>
                  </a:lnTo>
                  <a:lnTo>
                    <a:pt x="261" y="9"/>
                  </a:lnTo>
                  <a:lnTo>
                    <a:pt x="288" y="11"/>
                  </a:lnTo>
                  <a:lnTo>
                    <a:pt x="302" y="13"/>
                  </a:lnTo>
                  <a:lnTo>
                    <a:pt x="302" y="11"/>
                  </a:lnTo>
                  <a:lnTo>
                    <a:pt x="302" y="11"/>
                  </a:lnTo>
                  <a:lnTo>
                    <a:pt x="302" y="9"/>
                  </a:lnTo>
                  <a:lnTo>
                    <a:pt x="304" y="7"/>
                  </a:lnTo>
                  <a:lnTo>
                    <a:pt x="304" y="7"/>
                  </a:lnTo>
                  <a:lnTo>
                    <a:pt x="304" y="5"/>
                  </a:lnTo>
                  <a:lnTo>
                    <a:pt x="304" y="3"/>
                  </a:lnTo>
                  <a:lnTo>
                    <a:pt x="304" y="3"/>
                  </a:lnTo>
                  <a:close/>
                </a:path>
              </a:pathLst>
            </a:custGeom>
            <a:solidFill>
              <a:srgbClr val="cde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Freeform 216"/>
            <p:cNvSpPr/>
            <p:nvPr/>
          </p:nvSpPr>
          <p:spPr>
            <a:xfrm>
              <a:off x="1855800" y="2739600"/>
              <a:ext cx="505080" cy="86688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866880"/>
                <a:gd name="textAreaBottom" fmla="*/ 867240 h 866880"/>
              </a:gdLst>
              <a:ahLst/>
              <a:rect l="textAreaLeft" t="textAreaTop" r="textAreaRight" b="textAreaBottom"/>
              <a:pathLst>
                <a:path w="300" h="515">
                  <a:moveTo>
                    <a:pt x="298" y="4"/>
                  </a:moveTo>
                  <a:lnTo>
                    <a:pt x="282" y="2"/>
                  </a:lnTo>
                  <a:lnTo>
                    <a:pt x="255" y="0"/>
                  </a:lnTo>
                  <a:lnTo>
                    <a:pt x="230" y="2"/>
                  </a:lnTo>
                  <a:lnTo>
                    <a:pt x="204" y="6"/>
                  </a:lnTo>
                  <a:lnTo>
                    <a:pt x="181" y="12"/>
                  </a:lnTo>
                  <a:lnTo>
                    <a:pt x="156" y="22"/>
                  </a:lnTo>
                  <a:lnTo>
                    <a:pt x="134" y="33"/>
                  </a:lnTo>
                  <a:lnTo>
                    <a:pt x="113" y="45"/>
                  </a:lnTo>
                  <a:lnTo>
                    <a:pt x="92" y="60"/>
                  </a:lnTo>
                  <a:lnTo>
                    <a:pt x="75" y="77"/>
                  </a:lnTo>
                  <a:lnTo>
                    <a:pt x="58" y="94"/>
                  </a:lnTo>
                  <a:lnTo>
                    <a:pt x="42" y="114"/>
                  </a:lnTo>
                  <a:lnTo>
                    <a:pt x="31" y="135"/>
                  </a:lnTo>
                  <a:lnTo>
                    <a:pt x="19" y="158"/>
                  </a:lnTo>
                  <a:lnTo>
                    <a:pt x="12" y="181"/>
                  </a:lnTo>
                  <a:lnTo>
                    <a:pt x="4" y="206"/>
                  </a:lnTo>
                  <a:lnTo>
                    <a:pt x="0" y="231"/>
                  </a:lnTo>
                  <a:lnTo>
                    <a:pt x="0" y="258"/>
                  </a:lnTo>
                  <a:lnTo>
                    <a:pt x="0" y="284"/>
                  </a:lnTo>
                  <a:lnTo>
                    <a:pt x="4" y="309"/>
                  </a:lnTo>
                  <a:lnTo>
                    <a:pt x="12" y="334"/>
                  </a:lnTo>
                  <a:lnTo>
                    <a:pt x="19" y="357"/>
                  </a:lnTo>
                  <a:lnTo>
                    <a:pt x="31" y="380"/>
                  </a:lnTo>
                  <a:lnTo>
                    <a:pt x="42" y="401"/>
                  </a:lnTo>
                  <a:lnTo>
                    <a:pt x="58" y="421"/>
                  </a:lnTo>
                  <a:lnTo>
                    <a:pt x="75" y="440"/>
                  </a:lnTo>
                  <a:lnTo>
                    <a:pt x="92" y="455"/>
                  </a:lnTo>
                  <a:lnTo>
                    <a:pt x="113" y="470"/>
                  </a:lnTo>
                  <a:lnTo>
                    <a:pt x="134" y="484"/>
                  </a:lnTo>
                  <a:lnTo>
                    <a:pt x="156" y="494"/>
                  </a:lnTo>
                  <a:lnTo>
                    <a:pt x="181" y="503"/>
                  </a:lnTo>
                  <a:lnTo>
                    <a:pt x="204" y="509"/>
                  </a:lnTo>
                  <a:lnTo>
                    <a:pt x="230" y="513"/>
                  </a:lnTo>
                  <a:lnTo>
                    <a:pt x="255" y="515"/>
                  </a:lnTo>
                  <a:lnTo>
                    <a:pt x="282" y="513"/>
                  </a:lnTo>
                  <a:lnTo>
                    <a:pt x="300" y="511"/>
                  </a:lnTo>
                  <a:lnTo>
                    <a:pt x="300" y="509"/>
                  </a:lnTo>
                  <a:lnTo>
                    <a:pt x="300" y="509"/>
                  </a:lnTo>
                  <a:lnTo>
                    <a:pt x="300" y="507"/>
                  </a:lnTo>
                  <a:lnTo>
                    <a:pt x="298" y="505"/>
                  </a:lnTo>
                  <a:lnTo>
                    <a:pt x="298" y="505"/>
                  </a:lnTo>
                  <a:lnTo>
                    <a:pt x="298" y="503"/>
                  </a:lnTo>
                  <a:lnTo>
                    <a:pt x="298" y="501"/>
                  </a:lnTo>
                  <a:lnTo>
                    <a:pt x="298" y="501"/>
                  </a:lnTo>
                  <a:lnTo>
                    <a:pt x="280" y="503"/>
                  </a:lnTo>
                  <a:lnTo>
                    <a:pt x="255" y="505"/>
                  </a:lnTo>
                  <a:lnTo>
                    <a:pt x="230" y="503"/>
                  </a:lnTo>
                  <a:lnTo>
                    <a:pt x="206" y="499"/>
                  </a:lnTo>
                  <a:lnTo>
                    <a:pt x="182" y="494"/>
                  </a:lnTo>
                  <a:lnTo>
                    <a:pt x="159" y="484"/>
                  </a:lnTo>
                  <a:lnTo>
                    <a:pt x="138" y="474"/>
                  </a:lnTo>
                  <a:lnTo>
                    <a:pt x="119" y="463"/>
                  </a:lnTo>
                  <a:lnTo>
                    <a:pt x="100" y="447"/>
                  </a:lnTo>
                  <a:lnTo>
                    <a:pt x="83" y="432"/>
                  </a:lnTo>
                  <a:lnTo>
                    <a:pt x="65" y="415"/>
                  </a:lnTo>
                  <a:lnTo>
                    <a:pt x="52" y="396"/>
                  </a:lnTo>
                  <a:lnTo>
                    <a:pt x="39" y="375"/>
                  </a:lnTo>
                  <a:lnTo>
                    <a:pt x="29" y="353"/>
                  </a:lnTo>
                  <a:lnTo>
                    <a:pt x="21" y="330"/>
                  </a:lnTo>
                  <a:lnTo>
                    <a:pt x="15" y="307"/>
                  </a:lnTo>
                  <a:lnTo>
                    <a:pt x="12" y="282"/>
                  </a:lnTo>
                  <a:lnTo>
                    <a:pt x="10" y="258"/>
                  </a:lnTo>
                  <a:lnTo>
                    <a:pt x="12" y="233"/>
                  </a:lnTo>
                  <a:lnTo>
                    <a:pt x="15" y="208"/>
                  </a:lnTo>
                  <a:lnTo>
                    <a:pt x="21" y="185"/>
                  </a:lnTo>
                  <a:lnTo>
                    <a:pt x="29" y="162"/>
                  </a:lnTo>
                  <a:lnTo>
                    <a:pt x="39" y="140"/>
                  </a:lnTo>
                  <a:lnTo>
                    <a:pt x="52" y="119"/>
                  </a:lnTo>
                  <a:lnTo>
                    <a:pt x="65" y="100"/>
                  </a:lnTo>
                  <a:lnTo>
                    <a:pt x="83" y="83"/>
                  </a:lnTo>
                  <a:lnTo>
                    <a:pt x="100" y="68"/>
                  </a:lnTo>
                  <a:lnTo>
                    <a:pt x="119" y="54"/>
                  </a:lnTo>
                  <a:lnTo>
                    <a:pt x="138" y="41"/>
                  </a:lnTo>
                  <a:lnTo>
                    <a:pt x="159" y="31"/>
                  </a:lnTo>
                  <a:lnTo>
                    <a:pt x="182" y="23"/>
                  </a:lnTo>
                  <a:lnTo>
                    <a:pt x="206" y="16"/>
                  </a:lnTo>
                  <a:lnTo>
                    <a:pt x="230" y="12"/>
                  </a:lnTo>
                  <a:lnTo>
                    <a:pt x="255" y="12"/>
                  </a:lnTo>
                  <a:lnTo>
                    <a:pt x="280" y="12"/>
                  </a:lnTo>
                  <a:lnTo>
                    <a:pt x="296" y="16"/>
                  </a:lnTo>
                  <a:lnTo>
                    <a:pt x="296" y="14"/>
                  </a:lnTo>
                  <a:lnTo>
                    <a:pt x="296" y="12"/>
                  </a:lnTo>
                  <a:lnTo>
                    <a:pt x="296" y="12"/>
                  </a:lnTo>
                  <a:lnTo>
                    <a:pt x="296" y="10"/>
                  </a:lnTo>
                  <a:lnTo>
                    <a:pt x="296" y="8"/>
                  </a:lnTo>
                  <a:lnTo>
                    <a:pt x="296" y="8"/>
                  </a:lnTo>
                  <a:lnTo>
                    <a:pt x="296" y="6"/>
                  </a:lnTo>
                  <a:lnTo>
                    <a:pt x="298" y="4"/>
                  </a:lnTo>
                  <a:close/>
                </a:path>
              </a:pathLst>
            </a:custGeom>
            <a:solidFill>
              <a:srgbClr val="cee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Freeform 217"/>
            <p:cNvSpPr/>
            <p:nvPr/>
          </p:nvSpPr>
          <p:spPr>
            <a:xfrm>
              <a:off x="1862640" y="2749680"/>
              <a:ext cx="494640" cy="846720"/>
            </a:xfrm>
            <a:custGeom>
              <a:avLst/>
              <a:gdLst>
                <a:gd name="textAreaLeft" fmla="*/ 0 w 494640"/>
                <a:gd name="textAreaRight" fmla="*/ 495000 w 494640"/>
                <a:gd name="textAreaTop" fmla="*/ 0 h 846720"/>
                <a:gd name="textAreaBottom" fmla="*/ 847080 h 846720"/>
              </a:gdLst>
              <a:ahLst/>
              <a:rect l="textAreaLeft" t="textAreaTop" r="textAreaRight" b="textAreaBottom"/>
              <a:pathLst>
                <a:path w="294" h="503">
                  <a:moveTo>
                    <a:pt x="292" y="4"/>
                  </a:moveTo>
                  <a:lnTo>
                    <a:pt x="278" y="2"/>
                  </a:lnTo>
                  <a:lnTo>
                    <a:pt x="251" y="0"/>
                  </a:lnTo>
                  <a:lnTo>
                    <a:pt x="226" y="2"/>
                  </a:lnTo>
                  <a:lnTo>
                    <a:pt x="202" y="6"/>
                  </a:lnTo>
                  <a:lnTo>
                    <a:pt x="177" y="12"/>
                  </a:lnTo>
                  <a:lnTo>
                    <a:pt x="154" y="19"/>
                  </a:lnTo>
                  <a:lnTo>
                    <a:pt x="132" y="31"/>
                  </a:lnTo>
                  <a:lnTo>
                    <a:pt x="111" y="42"/>
                  </a:lnTo>
                  <a:lnTo>
                    <a:pt x="92" y="58"/>
                  </a:lnTo>
                  <a:lnTo>
                    <a:pt x="75" y="73"/>
                  </a:lnTo>
                  <a:lnTo>
                    <a:pt x="58" y="92"/>
                  </a:lnTo>
                  <a:lnTo>
                    <a:pt x="44" y="111"/>
                  </a:lnTo>
                  <a:lnTo>
                    <a:pt x="31" y="133"/>
                  </a:lnTo>
                  <a:lnTo>
                    <a:pt x="21" y="154"/>
                  </a:lnTo>
                  <a:lnTo>
                    <a:pt x="11" y="177"/>
                  </a:lnTo>
                  <a:lnTo>
                    <a:pt x="6" y="202"/>
                  </a:lnTo>
                  <a:lnTo>
                    <a:pt x="2" y="227"/>
                  </a:lnTo>
                  <a:lnTo>
                    <a:pt x="0" y="252"/>
                  </a:lnTo>
                  <a:lnTo>
                    <a:pt x="2" y="278"/>
                  </a:lnTo>
                  <a:lnTo>
                    <a:pt x="6" y="303"/>
                  </a:lnTo>
                  <a:lnTo>
                    <a:pt x="11" y="326"/>
                  </a:lnTo>
                  <a:lnTo>
                    <a:pt x="21" y="349"/>
                  </a:lnTo>
                  <a:lnTo>
                    <a:pt x="31" y="372"/>
                  </a:lnTo>
                  <a:lnTo>
                    <a:pt x="44" y="392"/>
                  </a:lnTo>
                  <a:lnTo>
                    <a:pt x="58" y="413"/>
                  </a:lnTo>
                  <a:lnTo>
                    <a:pt x="75" y="430"/>
                  </a:lnTo>
                  <a:lnTo>
                    <a:pt x="92" y="445"/>
                  </a:lnTo>
                  <a:lnTo>
                    <a:pt x="111" y="461"/>
                  </a:lnTo>
                  <a:lnTo>
                    <a:pt x="132" y="472"/>
                  </a:lnTo>
                  <a:lnTo>
                    <a:pt x="154" y="484"/>
                  </a:lnTo>
                  <a:lnTo>
                    <a:pt x="177" y="491"/>
                  </a:lnTo>
                  <a:lnTo>
                    <a:pt x="202" y="499"/>
                  </a:lnTo>
                  <a:lnTo>
                    <a:pt x="226" y="503"/>
                  </a:lnTo>
                  <a:lnTo>
                    <a:pt x="251" y="503"/>
                  </a:lnTo>
                  <a:lnTo>
                    <a:pt x="278" y="503"/>
                  </a:lnTo>
                  <a:lnTo>
                    <a:pt x="294" y="499"/>
                  </a:lnTo>
                  <a:lnTo>
                    <a:pt x="294" y="499"/>
                  </a:lnTo>
                  <a:lnTo>
                    <a:pt x="294" y="497"/>
                  </a:lnTo>
                  <a:lnTo>
                    <a:pt x="294" y="495"/>
                  </a:lnTo>
                  <a:lnTo>
                    <a:pt x="294" y="495"/>
                  </a:lnTo>
                  <a:lnTo>
                    <a:pt x="294" y="493"/>
                  </a:lnTo>
                  <a:lnTo>
                    <a:pt x="294" y="491"/>
                  </a:lnTo>
                  <a:lnTo>
                    <a:pt x="294" y="491"/>
                  </a:lnTo>
                  <a:lnTo>
                    <a:pt x="294" y="489"/>
                  </a:lnTo>
                  <a:lnTo>
                    <a:pt x="276" y="491"/>
                  </a:lnTo>
                  <a:lnTo>
                    <a:pt x="251" y="493"/>
                  </a:lnTo>
                  <a:lnTo>
                    <a:pt x="226" y="491"/>
                  </a:lnTo>
                  <a:lnTo>
                    <a:pt x="203" y="488"/>
                  </a:lnTo>
                  <a:lnTo>
                    <a:pt x="180" y="482"/>
                  </a:lnTo>
                  <a:lnTo>
                    <a:pt x="157" y="474"/>
                  </a:lnTo>
                  <a:lnTo>
                    <a:pt x="136" y="464"/>
                  </a:lnTo>
                  <a:lnTo>
                    <a:pt x="117" y="451"/>
                  </a:lnTo>
                  <a:lnTo>
                    <a:pt x="98" y="438"/>
                  </a:lnTo>
                  <a:lnTo>
                    <a:pt x="81" y="422"/>
                  </a:lnTo>
                  <a:lnTo>
                    <a:pt x="65" y="405"/>
                  </a:lnTo>
                  <a:lnTo>
                    <a:pt x="52" y="386"/>
                  </a:lnTo>
                  <a:lnTo>
                    <a:pt x="40" y="367"/>
                  </a:lnTo>
                  <a:lnTo>
                    <a:pt x="31" y="346"/>
                  </a:lnTo>
                  <a:lnTo>
                    <a:pt x="21" y="324"/>
                  </a:lnTo>
                  <a:lnTo>
                    <a:pt x="15" y="299"/>
                  </a:lnTo>
                  <a:lnTo>
                    <a:pt x="11" y="276"/>
                  </a:lnTo>
                  <a:lnTo>
                    <a:pt x="11" y="252"/>
                  </a:lnTo>
                  <a:lnTo>
                    <a:pt x="11" y="227"/>
                  </a:lnTo>
                  <a:lnTo>
                    <a:pt x="15" y="204"/>
                  </a:lnTo>
                  <a:lnTo>
                    <a:pt x="21" y="181"/>
                  </a:lnTo>
                  <a:lnTo>
                    <a:pt x="31" y="158"/>
                  </a:lnTo>
                  <a:lnTo>
                    <a:pt x="40" y="136"/>
                  </a:lnTo>
                  <a:lnTo>
                    <a:pt x="52" y="117"/>
                  </a:lnTo>
                  <a:lnTo>
                    <a:pt x="65" y="98"/>
                  </a:lnTo>
                  <a:lnTo>
                    <a:pt x="81" y="81"/>
                  </a:lnTo>
                  <a:lnTo>
                    <a:pt x="98" y="65"/>
                  </a:lnTo>
                  <a:lnTo>
                    <a:pt x="117" y="52"/>
                  </a:lnTo>
                  <a:lnTo>
                    <a:pt x="136" y="40"/>
                  </a:lnTo>
                  <a:lnTo>
                    <a:pt x="157" y="29"/>
                  </a:lnTo>
                  <a:lnTo>
                    <a:pt x="180" y="21"/>
                  </a:lnTo>
                  <a:lnTo>
                    <a:pt x="203" y="16"/>
                  </a:lnTo>
                  <a:lnTo>
                    <a:pt x="226" y="12"/>
                  </a:lnTo>
                  <a:lnTo>
                    <a:pt x="251" y="10"/>
                  </a:lnTo>
                  <a:lnTo>
                    <a:pt x="276" y="12"/>
                  </a:lnTo>
                  <a:lnTo>
                    <a:pt x="292" y="14"/>
                  </a:lnTo>
                  <a:lnTo>
                    <a:pt x="292" y="14"/>
                  </a:lnTo>
                  <a:lnTo>
                    <a:pt x="292" y="12"/>
                  </a:lnTo>
                  <a:lnTo>
                    <a:pt x="292" y="10"/>
                  </a:lnTo>
                  <a:lnTo>
                    <a:pt x="292" y="10"/>
                  </a:lnTo>
                  <a:lnTo>
                    <a:pt x="292" y="8"/>
                  </a:lnTo>
                  <a:lnTo>
                    <a:pt x="292" y="6"/>
                  </a:lnTo>
                  <a:lnTo>
                    <a:pt x="292" y="6"/>
                  </a:lnTo>
                  <a:lnTo>
                    <a:pt x="292" y="4"/>
                  </a:lnTo>
                  <a:close/>
                </a:path>
              </a:pathLst>
            </a:custGeom>
            <a:solidFill>
              <a:srgbClr val="cfe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Freeform 218"/>
            <p:cNvSpPr/>
            <p:nvPr/>
          </p:nvSpPr>
          <p:spPr>
            <a:xfrm>
              <a:off x="1872360" y="2759760"/>
              <a:ext cx="484920" cy="830160"/>
            </a:xfrm>
            <a:custGeom>
              <a:avLst/>
              <a:gdLst>
                <a:gd name="textAreaLeft" fmla="*/ 0 w 484920"/>
                <a:gd name="textAreaRight" fmla="*/ 485280 w 484920"/>
                <a:gd name="textAreaTop" fmla="*/ 0 h 830160"/>
                <a:gd name="textAreaBottom" fmla="*/ 830520 h 830160"/>
              </a:gdLst>
              <a:ahLst/>
              <a:rect l="textAreaLeft" t="textAreaTop" r="textAreaRight" b="textAreaBottom"/>
              <a:pathLst>
                <a:path w="288" h="493">
                  <a:moveTo>
                    <a:pt x="286" y="4"/>
                  </a:moveTo>
                  <a:lnTo>
                    <a:pt x="270" y="0"/>
                  </a:lnTo>
                  <a:lnTo>
                    <a:pt x="245" y="0"/>
                  </a:lnTo>
                  <a:lnTo>
                    <a:pt x="220" y="0"/>
                  </a:lnTo>
                  <a:lnTo>
                    <a:pt x="196" y="4"/>
                  </a:lnTo>
                  <a:lnTo>
                    <a:pt x="172" y="11"/>
                  </a:lnTo>
                  <a:lnTo>
                    <a:pt x="149" y="19"/>
                  </a:lnTo>
                  <a:lnTo>
                    <a:pt x="128" y="29"/>
                  </a:lnTo>
                  <a:lnTo>
                    <a:pt x="109" y="42"/>
                  </a:lnTo>
                  <a:lnTo>
                    <a:pt x="90" y="56"/>
                  </a:lnTo>
                  <a:lnTo>
                    <a:pt x="73" y="71"/>
                  </a:lnTo>
                  <a:lnTo>
                    <a:pt x="55" y="88"/>
                  </a:lnTo>
                  <a:lnTo>
                    <a:pt x="42" y="107"/>
                  </a:lnTo>
                  <a:lnTo>
                    <a:pt x="29" y="128"/>
                  </a:lnTo>
                  <a:lnTo>
                    <a:pt x="19" y="150"/>
                  </a:lnTo>
                  <a:lnTo>
                    <a:pt x="11" y="173"/>
                  </a:lnTo>
                  <a:lnTo>
                    <a:pt x="5" y="196"/>
                  </a:lnTo>
                  <a:lnTo>
                    <a:pt x="2" y="221"/>
                  </a:lnTo>
                  <a:lnTo>
                    <a:pt x="0" y="246"/>
                  </a:lnTo>
                  <a:lnTo>
                    <a:pt x="2" y="270"/>
                  </a:lnTo>
                  <a:lnTo>
                    <a:pt x="5" y="295"/>
                  </a:lnTo>
                  <a:lnTo>
                    <a:pt x="11" y="318"/>
                  </a:lnTo>
                  <a:lnTo>
                    <a:pt x="19" y="341"/>
                  </a:lnTo>
                  <a:lnTo>
                    <a:pt x="29" y="363"/>
                  </a:lnTo>
                  <a:lnTo>
                    <a:pt x="42" y="384"/>
                  </a:lnTo>
                  <a:lnTo>
                    <a:pt x="55" y="403"/>
                  </a:lnTo>
                  <a:lnTo>
                    <a:pt x="73" y="420"/>
                  </a:lnTo>
                  <a:lnTo>
                    <a:pt x="90" y="435"/>
                  </a:lnTo>
                  <a:lnTo>
                    <a:pt x="109" y="451"/>
                  </a:lnTo>
                  <a:lnTo>
                    <a:pt x="128" y="462"/>
                  </a:lnTo>
                  <a:lnTo>
                    <a:pt x="149" y="472"/>
                  </a:lnTo>
                  <a:lnTo>
                    <a:pt x="172" y="482"/>
                  </a:lnTo>
                  <a:lnTo>
                    <a:pt x="196" y="487"/>
                  </a:lnTo>
                  <a:lnTo>
                    <a:pt x="220" y="491"/>
                  </a:lnTo>
                  <a:lnTo>
                    <a:pt x="245" y="493"/>
                  </a:lnTo>
                  <a:lnTo>
                    <a:pt x="270" y="491"/>
                  </a:lnTo>
                  <a:lnTo>
                    <a:pt x="288" y="489"/>
                  </a:lnTo>
                  <a:lnTo>
                    <a:pt x="288" y="487"/>
                  </a:lnTo>
                  <a:lnTo>
                    <a:pt x="288" y="485"/>
                  </a:lnTo>
                  <a:lnTo>
                    <a:pt x="288" y="485"/>
                  </a:lnTo>
                  <a:lnTo>
                    <a:pt x="288" y="483"/>
                  </a:lnTo>
                  <a:lnTo>
                    <a:pt x="288" y="482"/>
                  </a:lnTo>
                  <a:lnTo>
                    <a:pt x="288" y="482"/>
                  </a:lnTo>
                  <a:lnTo>
                    <a:pt x="288" y="480"/>
                  </a:lnTo>
                  <a:lnTo>
                    <a:pt x="288" y="478"/>
                  </a:lnTo>
                  <a:lnTo>
                    <a:pt x="270" y="482"/>
                  </a:lnTo>
                  <a:lnTo>
                    <a:pt x="245" y="482"/>
                  </a:lnTo>
                  <a:lnTo>
                    <a:pt x="222" y="482"/>
                  </a:lnTo>
                  <a:lnTo>
                    <a:pt x="199" y="478"/>
                  </a:lnTo>
                  <a:lnTo>
                    <a:pt x="176" y="472"/>
                  </a:lnTo>
                  <a:lnTo>
                    <a:pt x="153" y="464"/>
                  </a:lnTo>
                  <a:lnTo>
                    <a:pt x="134" y="453"/>
                  </a:lnTo>
                  <a:lnTo>
                    <a:pt x="115" y="441"/>
                  </a:lnTo>
                  <a:lnTo>
                    <a:pt x="96" y="428"/>
                  </a:lnTo>
                  <a:lnTo>
                    <a:pt x="78" y="412"/>
                  </a:lnTo>
                  <a:lnTo>
                    <a:pt x="63" y="395"/>
                  </a:lnTo>
                  <a:lnTo>
                    <a:pt x="50" y="378"/>
                  </a:lnTo>
                  <a:lnTo>
                    <a:pt x="38" y="359"/>
                  </a:lnTo>
                  <a:lnTo>
                    <a:pt x="29" y="338"/>
                  </a:lnTo>
                  <a:lnTo>
                    <a:pt x="21" y="317"/>
                  </a:lnTo>
                  <a:lnTo>
                    <a:pt x="15" y="293"/>
                  </a:lnTo>
                  <a:lnTo>
                    <a:pt x="11" y="270"/>
                  </a:lnTo>
                  <a:lnTo>
                    <a:pt x="9" y="246"/>
                  </a:lnTo>
                  <a:lnTo>
                    <a:pt x="11" y="222"/>
                  </a:lnTo>
                  <a:lnTo>
                    <a:pt x="15" y="198"/>
                  </a:lnTo>
                  <a:lnTo>
                    <a:pt x="21" y="176"/>
                  </a:lnTo>
                  <a:lnTo>
                    <a:pt x="29" y="153"/>
                  </a:lnTo>
                  <a:lnTo>
                    <a:pt x="38" y="132"/>
                  </a:lnTo>
                  <a:lnTo>
                    <a:pt x="50" y="113"/>
                  </a:lnTo>
                  <a:lnTo>
                    <a:pt x="63" y="96"/>
                  </a:lnTo>
                  <a:lnTo>
                    <a:pt x="78" y="79"/>
                  </a:lnTo>
                  <a:lnTo>
                    <a:pt x="96" y="63"/>
                  </a:lnTo>
                  <a:lnTo>
                    <a:pt x="115" y="50"/>
                  </a:lnTo>
                  <a:lnTo>
                    <a:pt x="134" y="38"/>
                  </a:lnTo>
                  <a:lnTo>
                    <a:pt x="153" y="29"/>
                  </a:lnTo>
                  <a:lnTo>
                    <a:pt x="176" y="21"/>
                  </a:lnTo>
                  <a:lnTo>
                    <a:pt x="199" y="15"/>
                  </a:lnTo>
                  <a:lnTo>
                    <a:pt x="222" y="11"/>
                  </a:lnTo>
                  <a:lnTo>
                    <a:pt x="245" y="10"/>
                  </a:lnTo>
                  <a:lnTo>
                    <a:pt x="270" y="11"/>
                  </a:lnTo>
                  <a:lnTo>
                    <a:pt x="284" y="13"/>
                  </a:lnTo>
                  <a:lnTo>
                    <a:pt x="284" y="11"/>
                  </a:lnTo>
                  <a:lnTo>
                    <a:pt x="286" y="11"/>
                  </a:lnTo>
                  <a:lnTo>
                    <a:pt x="286" y="10"/>
                  </a:lnTo>
                  <a:lnTo>
                    <a:pt x="286" y="8"/>
                  </a:lnTo>
                  <a:lnTo>
                    <a:pt x="286" y="8"/>
                  </a:lnTo>
                  <a:lnTo>
                    <a:pt x="286" y="6"/>
                  </a:lnTo>
                  <a:lnTo>
                    <a:pt x="286" y="4"/>
                  </a:lnTo>
                  <a:lnTo>
                    <a:pt x="286" y="4"/>
                  </a:lnTo>
                  <a:close/>
                </a:path>
              </a:pathLst>
            </a:custGeom>
            <a:solidFill>
              <a:srgbClr val="d0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Freeform 219"/>
            <p:cNvSpPr/>
            <p:nvPr/>
          </p:nvSpPr>
          <p:spPr>
            <a:xfrm>
              <a:off x="1881000" y="2766240"/>
              <a:ext cx="476280" cy="813240"/>
            </a:xfrm>
            <a:custGeom>
              <a:avLst/>
              <a:gdLst>
                <a:gd name="textAreaLeft" fmla="*/ 0 w 476280"/>
                <a:gd name="textAreaRight" fmla="*/ 476640 w 476280"/>
                <a:gd name="textAreaTop" fmla="*/ 0 h 813240"/>
                <a:gd name="textAreaBottom" fmla="*/ 813600 h 813240"/>
              </a:gdLst>
              <a:ahLst/>
              <a:rect l="textAreaLeft" t="textAreaTop" r="textAreaRight" b="textAreaBottom"/>
              <a:pathLst>
                <a:path w="283" h="483">
                  <a:moveTo>
                    <a:pt x="281" y="4"/>
                  </a:moveTo>
                  <a:lnTo>
                    <a:pt x="265" y="2"/>
                  </a:lnTo>
                  <a:lnTo>
                    <a:pt x="240" y="0"/>
                  </a:lnTo>
                  <a:lnTo>
                    <a:pt x="215" y="2"/>
                  </a:lnTo>
                  <a:lnTo>
                    <a:pt x="192" y="6"/>
                  </a:lnTo>
                  <a:lnTo>
                    <a:pt x="169" y="11"/>
                  </a:lnTo>
                  <a:lnTo>
                    <a:pt x="146" y="19"/>
                  </a:lnTo>
                  <a:lnTo>
                    <a:pt x="125" y="30"/>
                  </a:lnTo>
                  <a:lnTo>
                    <a:pt x="106" y="42"/>
                  </a:lnTo>
                  <a:lnTo>
                    <a:pt x="87" y="55"/>
                  </a:lnTo>
                  <a:lnTo>
                    <a:pt x="70" y="71"/>
                  </a:lnTo>
                  <a:lnTo>
                    <a:pt x="54" y="88"/>
                  </a:lnTo>
                  <a:lnTo>
                    <a:pt x="41" y="107"/>
                  </a:lnTo>
                  <a:lnTo>
                    <a:pt x="29" y="126"/>
                  </a:lnTo>
                  <a:lnTo>
                    <a:pt x="20" y="148"/>
                  </a:lnTo>
                  <a:lnTo>
                    <a:pt x="10" y="171"/>
                  </a:lnTo>
                  <a:lnTo>
                    <a:pt x="4" y="194"/>
                  </a:lnTo>
                  <a:lnTo>
                    <a:pt x="0" y="217"/>
                  </a:lnTo>
                  <a:lnTo>
                    <a:pt x="0" y="242"/>
                  </a:lnTo>
                  <a:lnTo>
                    <a:pt x="0" y="266"/>
                  </a:lnTo>
                  <a:lnTo>
                    <a:pt x="4" y="289"/>
                  </a:lnTo>
                  <a:lnTo>
                    <a:pt x="10" y="314"/>
                  </a:lnTo>
                  <a:lnTo>
                    <a:pt x="20" y="336"/>
                  </a:lnTo>
                  <a:lnTo>
                    <a:pt x="29" y="357"/>
                  </a:lnTo>
                  <a:lnTo>
                    <a:pt x="41" y="376"/>
                  </a:lnTo>
                  <a:lnTo>
                    <a:pt x="54" y="395"/>
                  </a:lnTo>
                  <a:lnTo>
                    <a:pt x="70" y="412"/>
                  </a:lnTo>
                  <a:lnTo>
                    <a:pt x="87" y="428"/>
                  </a:lnTo>
                  <a:lnTo>
                    <a:pt x="106" y="441"/>
                  </a:lnTo>
                  <a:lnTo>
                    <a:pt x="125" y="454"/>
                  </a:lnTo>
                  <a:lnTo>
                    <a:pt x="146" y="464"/>
                  </a:lnTo>
                  <a:lnTo>
                    <a:pt x="169" y="472"/>
                  </a:lnTo>
                  <a:lnTo>
                    <a:pt x="192" y="478"/>
                  </a:lnTo>
                  <a:lnTo>
                    <a:pt x="215" y="481"/>
                  </a:lnTo>
                  <a:lnTo>
                    <a:pt x="240" y="483"/>
                  </a:lnTo>
                  <a:lnTo>
                    <a:pt x="265" y="481"/>
                  </a:lnTo>
                  <a:lnTo>
                    <a:pt x="283" y="479"/>
                  </a:lnTo>
                  <a:lnTo>
                    <a:pt x="283" y="478"/>
                  </a:lnTo>
                  <a:lnTo>
                    <a:pt x="283" y="478"/>
                  </a:lnTo>
                  <a:lnTo>
                    <a:pt x="283" y="476"/>
                  </a:lnTo>
                  <a:lnTo>
                    <a:pt x="283" y="474"/>
                  </a:lnTo>
                  <a:lnTo>
                    <a:pt x="281" y="474"/>
                  </a:lnTo>
                  <a:lnTo>
                    <a:pt x="281" y="472"/>
                  </a:lnTo>
                  <a:lnTo>
                    <a:pt x="281" y="470"/>
                  </a:lnTo>
                  <a:lnTo>
                    <a:pt x="281" y="470"/>
                  </a:lnTo>
                  <a:lnTo>
                    <a:pt x="265" y="472"/>
                  </a:lnTo>
                  <a:lnTo>
                    <a:pt x="240" y="474"/>
                  </a:lnTo>
                  <a:lnTo>
                    <a:pt x="217" y="472"/>
                  </a:lnTo>
                  <a:lnTo>
                    <a:pt x="194" y="468"/>
                  </a:lnTo>
                  <a:lnTo>
                    <a:pt x="173" y="462"/>
                  </a:lnTo>
                  <a:lnTo>
                    <a:pt x="150" y="454"/>
                  </a:lnTo>
                  <a:lnTo>
                    <a:pt x="131" y="445"/>
                  </a:lnTo>
                  <a:lnTo>
                    <a:pt x="112" y="433"/>
                  </a:lnTo>
                  <a:lnTo>
                    <a:pt x="95" y="420"/>
                  </a:lnTo>
                  <a:lnTo>
                    <a:pt x="77" y="405"/>
                  </a:lnTo>
                  <a:lnTo>
                    <a:pt x="62" y="389"/>
                  </a:lnTo>
                  <a:lnTo>
                    <a:pt x="50" y="370"/>
                  </a:lnTo>
                  <a:lnTo>
                    <a:pt x="37" y="353"/>
                  </a:lnTo>
                  <a:lnTo>
                    <a:pt x="27" y="332"/>
                  </a:lnTo>
                  <a:lnTo>
                    <a:pt x="20" y="311"/>
                  </a:lnTo>
                  <a:lnTo>
                    <a:pt x="14" y="288"/>
                  </a:lnTo>
                  <a:lnTo>
                    <a:pt x="12" y="265"/>
                  </a:lnTo>
                  <a:lnTo>
                    <a:pt x="10" y="242"/>
                  </a:lnTo>
                  <a:lnTo>
                    <a:pt x="12" y="218"/>
                  </a:lnTo>
                  <a:lnTo>
                    <a:pt x="14" y="195"/>
                  </a:lnTo>
                  <a:lnTo>
                    <a:pt x="20" y="172"/>
                  </a:lnTo>
                  <a:lnTo>
                    <a:pt x="27" y="151"/>
                  </a:lnTo>
                  <a:lnTo>
                    <a:pt x="37" y="132"/>
                  </a:lnTo>
                  <a:lnTo>
                    <a:pt x="50" y="113"/>
                  </a:lnTo>
                  <a:lnTo>
                    <a:pt x="62" y="96"/>
                  </a:lnTo>
                  <a:lnTo>
                    <a:pt x="77" y="78"/>
                  </a:lnTo>
                  <a:lnTo>
                    <a:pt x="95" y="63"/>
                  </a:lnTo>
                  <a:lnTo>
                    <a:pt x="112" y="50"/>
                  </a:lnTo>
                  <a:lnTo>
                    <a:pt x="131" y="38"/>
                  </a:lnTo>
                  <a:lnTo>
                    <a:pt x="150" y="29"/>
                  </a:lnTo>
                  <a:lnTo>
                    <a:pt x="173" y="21"/>
                  </a:lnTo>
                  <a:lnTo>
                    <a:pt x="194" y="15"/>
                  </a:lnTo>
                  <a:lnTo>
                    <a:pt x="217" y="11"/>
                  </a:lnTo>
                  <a:lnTo>
                    <a:pt x="240" y="11"/>
                  </a:lnTo>
                  <a:lnTo>
                    <a:pt x="265" y="11"/>
                  </a:lnTo>
                  <a:lnTo>
                    <a:pt x="279" y="15"/>
                  </a:lnTo>
                  <a:lnTo>
                    <a:pt x="279" y="13"/>
                  </a:lnTo>
                  <a:lnTo>
                    <a:pt x="279" y="11"/>
                  </a:lnTo>
                  <a:lnTo>
                    <a:pt x="279" y="11"/>
                  </a:lnTo>
                  <a:lnTo>
                    <a:pt x="279" y="9"/>
                  </a:lnTo>
                  <a:lnTo>
                    <a:pt x="279" y="7"/>
                  </a:lnTo>
                  <a:lnTo>
                    <a:pt x="281" y="7"/>
                  </a:lnTo>
                  <a:lnTo>
                    <a:pt x="281" y="6"/>
                  </a:lnTo>
                  <a:lnTo>
                    <a:pt x="281" y="4"/>
                  </a:lnTo>
                  <a:close/>
                </a:path>
              </a:pathLst>
            </a:custGeom>
            <a:solidFill>
              <a:srgbClr val="d1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Freeform 220"/>
            <p:cNvSpPr/>
            <p:nvPr/>
          </p:nvSpPr>
          <p:spPr>
            <a:xfrm>
              <a:off x="1887840" y="2776680"/>
              <a:ext cx="469440" cy="794520"/>
            </a:xfrm>
            <a:custGeom>
              <a:avLst/>
              <a:gdLst>
                <a:gd name="textAreaLeft" fmla="*/ 0 w 469440"/>
                <a:gd name="textAreaRight" fmla="*/ 469800 w 469440"/>
                <a:gd name="textAreaTop" fmla="*/ 0 h 794520"/>
                <a:gd name="textAreaBottom" fmla="*/ 794880 h 794520"/>
              </a:gdLst>
              <a:ahLst/>
              <a:rect l="textAreaLeft" t="textAreaTop" r="textAreaRight" b="textAreaBottom"/>
              <a:pathLst>
                <a:path w="279" h="472">
                  <a:moveTo>
                    <a:pt x="275" y="3"/>
                  </a:moveTo>
                  <a:lnTo>
                    <a:pt x="261" y="1"/>
                  </a:lnTo>
                  <a:lnTo>
                    <a:pt x="236" y="0"/>
                  </a:lnTo>
                  <a:lnTo>
                    <a:pt x="213" y="1"/>
                  </a:lnTo>
                  <a:lnTo>
                    <a:pt x="190" y="5"/>
                  </a:lnTo>
                  <a:lnTo>
                    <a:pt x="167" y="11"/>
                  </a:lnTo>
                  <a:lnTo>
                    <a:pt x="144" y="19"/>
                  </a:lnTo>
                  <a:lnTo>
                    <a:pt x="125" y="28"/>
                  </a:lnTo>
                  <a:lnTo>
                    <a:pt x="106" y="40"/>
                  </a:lnTo>
                  <a:lnTo>
                    <a:pt x="87" y="53"/>
                  </a:lnTo>
                  <a:lnTo>
                    <a:pt x="69" y="69"/>
                  </a:lnTo>
                  <a:lnTo>
                    <a:pt x="54" y="86"/>
                  </a:lnTo>
                  <a:lnTo>
                    <a:pt x="41" y="103"/>
                  </a:lnTo>
                  <a:lnTo>
                    <a:pt x="29" y="122"/>
                  </a:lnTo>
                  <a:lnTo>
                    <a:pt x="20" y="143"/>
                  </a:lnTo>
                  <a:lnTo>
                    <a:pt x="12" y="166"/>
                  </a:lnTo>
                  <a:lnTo>
                    <a:pt x="6" y="188"/>
                  </a:lnTo>
                  <a:lnTo>
                    <a:pt x="2" y="212"/>
                  </a:lnTo>
                  <a:lnTo>
                    <a:pt x="0" y="236"/>
                  </a:lnTo>
                  <a:lnTo>
                    <a:pt x="2" y="260"/>
                  </a:lnTo>
                  <a:lnTo>
                    <a:pt x="6" y="283"/>
                  </a:lnTo>
                  <a:lnTo>
                    <a:pt x="12" y="307"/>
                  </a:lnTo>
                  <a:lnTo>
                    <a:pt x="20" y="328"/>
                  </a:lnTo>
                  <a:lnTo>
                    <a:pt x="29" y="349"/>
                  </a:lnTo>
                  <a:lnTo>
                    <a:pt x="41" y="368"/>
                  </a:lnTo>
                  <a:lnTo>
                    <a:pt x="54" y="385"/>
                  </a:lnTo>
                  <a:lnTo>
                    <a:pt x="69" y="402"/>
                  </a:lnTo>
                  <a:lnTo>
                    <a:pt x="87" y="418"/>
                  </a:lnTo>
                  <a:lnTo>
                    <a:pt x="106" y="431"/>
                  </a:lnTo>
                  <a:lnTo>
                    <a:pt x="125" y="443"/>
                  </a:lnTo>
                  <a:lnTo>
                    <a:pt x="144" y="454"/>
                  </a:lnTo>
                  <a:lnTo>
                    <a:pt x="167" y="462"/>
                  </a:lnTo>
                  <a:lnTo>
                    <a:pt x="190" y="468"/>
                  </a:lnTo>
                  <a:lnTo>
                    <a:pt x="213" y="472"/>
                  </a:lnTo>
                  <a:lnTo>
                    <a:pt x="236" y="472"/>
                  </a:lnTo>
                  <a:lnTo>
                    <a:pt x="261" y="472"/>
                  </a:lnTo>
                  <a:lnTo>
                    <a:pt x="279" y="468"/>
                  </a:lnTo>
                  <a:lnTo>
                    <a:pt x="277" y="468"/>
                  </a:lnTo>
                  <a:lnTo>
                    <a:pt x="277" y="466"/>
                  </a:lnTo>
                  <a:lnTo>
                    <a:pt x="277" y="464"/>
                  </a:lnTo>
                  <a:lnTo>
                    <a:pt x="277" y="464"/>
                  </a:lnTo>
                  <a:lnTo>
                    <a:pt x="277" y="462"/>
                  </a:lnTo>
                  <a:lnTo>
                    <a:pt x="277" y="460"/>
                  </a:lnTo>
                  <a:lnTo>
                    <a:pt x="277" y="460"/>
                  </a:lnTo>
                  <a:lnTo>
                    <a:pt x="277" y="458"/>
                  </a:lnTo>
                  <a:lnTo>
                    <a:pt x="259" y="460"/>
                  </a:lnTo>
                  <a:lnTo>
                    <a:pt x="236" y="462"/>
                  </a:lnTo>
                  <a:lnTo>
                    <a:pt x="213" y="460"/>
                  </a:lnTo>
                  <a:lnTo>
                    <a:pt x="192" y="456"/>
                  </a:lnTo>
                  <a:lnTo>
                    <a:pt x="169" y="452"/>
                  </a:lnTo>
                  <a:lnTo>
                    <a:pt x="150" y="445"/>
                  </a:lnTo>
                  <a:lnTo>
                    <a:pt x="129" y="435"/>
                  </a:lnTo>
                  <a:lnTo>
                    <a:pt x="112" y="424"/>
                  </a:lnTo>
                  <a:lnTo>
                    <a:pt x="92" y="410"/>
                  </a:lnTo>
                  <a:lnTo>
                    <a:pt x="77" y="395"/>
                  </a:lnTo>
                  <a:lnTo>
                    <a:pt x="64" y="379"/>
                  </a:lnTo>
                  <a:lnTo>
                    <a:pt x="50" y="362"/>
                  </a:lnTo>
                  <a:lnTo>
                    <a:pt x="39" y="343"/>
                  </a:lnTo>
                  <a:lnTo>
                    <a:pt x="29" y="324"/>
                  </a:lnTo>
                  <a:lnTo>
                    <a:pt x="21" y="303"/>
                  </a:lnTo>
                  <a:lnTo>
                    <a:pt x="16" y="282"/>
                  </a:lnTo>
                  <a:lnTo>
                    <a:pt x="12" y="259"/>
                  </a:lnTo>
                  <a:lnTo>
                    <a:pt x="12" y="236"/>
                  </a:lnTo>
                  <a:lnTo>
                    <a:pt x="12" y="212"/>
                  </a:lnTo>
                  <a:lnTo>
                    <a:pt x="16" y="189"/>
                  </a:lnTo>
                  <a:lnTo>
                    <a:pt x="21" y="168"/>
                  </a:lnTo>
                  <a:lnTo>
                    <a:pt x="29" y="147"/>
                  </a:lnTo>
                  <a:lnTo>
                    <a:pt x="39" y="128"/>
                  </a:lnTo>
                  <a:lnTo>
                    <a:pt x="50" y="109"/>
                  </a:lnTo>
                  <a:lnTo>
                    <a:pt x="64" y="92"/>
                  </a:lnTo>
                  <a:lnTo>
                    <a:pt x="77" y="76"/>
                  </a:lnTo>
                  <a:lnTo>
                    <a:pt x="92" y="61"/>
                  </a:lnTo>
                  <a:lnTo>
                    <a:pt x="112" y="49"/>
                  </a:lnTo>
                  <a:lnTo>
                    <a:pt x="129" y="38"/>
                  </a:lnTo>
                  <a:lnTo>
                    <a:pt x="150" y="28"/>
                  </a:lnTo>
                  <a:lnTo>
                    <a:pt x="169" y="21"/>
                  </a:lnTo>
                  <a:lnTo>
                    <a:pt x="192" y="15"/>
                  </a:lnTo>
                  <a:lnTo>
                    <a:pt x="213" y="11"/>
                  </a:lnTo>
                  <a:lnTo>
                    <a:pt x="236" y="9"/>
                  </a:lnTo>
                  <a:lnTo>
                    <a:pt x="259" y="11"/>
                  </a:lnTo>
                  <a:lnTo>
                    <a:pt x="275" y="13"/>
                  </a:lnTo>
                  <a:lnTo>
                    <a:pt x="275" y="13"/>
                  </a:lnTo>
                  <a:lnTo>
                    <a:pt x="275" y="11"/>
                  </a:lnTo>
                  <a:lnTo>
                    <a:pt x="275" y="9"/>
                  </a:lnTo>
                  <a:lnTo>
                    <a:pt x="275" y="9"/>
                  </a:lnTo>
                  <a:lnTo>
                    <a:pt x="275" y="7"/>
                  </a:lnTo>
                  <a:lnTo>
                    <a:pt x="275" y="5"/>
                  </a:lnTo>
                  <a:lnTo>
                    <a:pt x="275" y="5"/>
                  </a:lnTo>
                  <a:lnTo>
                    <a:pt x="275" y="3"/>
                  </a:lnTo>
                  <a:close/>
                </a:path>
              </a:pathLst>
            </a:custGeom>
            <a:solidFill>
              <a:srgbClr val="d2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Freeform 221"/>
            <p:cNvSpPr/>
            <p:nvPr/>
          </p:nvSpPr>
          <p:spPr>
            <a:xfrm>
              <a:off x="1897920" y="2784960"/>
              <a:ext cx="456120" cy="779400"/>
            </a:xfrm>
            <a:custGeom>
              <a:avLst/>
              <a:gdLst>
                <a:gd name="textAreaLeft" fmla="*/ 0 w 456120"/>
                <a:gd name="textAreaRight" fmla="*/ 456480 w 456120"/>
                <a:gd name="textAreaTop" fmla="*/ 0 h 779400"/>
                <a:gd name="textAreaBottom" fmla="*/ 779760 h 779400"/>
              </a:gdLst>
              <a:ahLst/>
              <a:rect l="textAreaLeft" t="textAreaTop" r="textAreaRight" b="textAreaBottom"/>
              <a:pathLst>
                <a:path w="271" h="463">
                  <a:moveTo>
                    <a:pt x="269" y="4"/>
                  </a:moveTo>
                  <a:lnTo>
                    <a:pt x="255" y="0"/>
                  </a:lnTo>
                  <a:lnTo>
                    <a:pt x="230" y="0"/>
                  </a:lnTo>
                  <a:lnTo>
                    <a:pt x="207" y="0"/>
                  </a:lnTo>
                  <a:lnTo>
                    <a:pt x="184" y="4"/>
                  </a:lnTo>
                  <a:lnTo>
                    <a:pt x="163" y="10"/>
                  </a:lnTo>
                  <a:lnTo>
                    <a:pt x="140" y="18"/>
                  </a:lnTo>
                  <a:lnTo>
                    <a:pt x="121" y="27"/>
                  </a:lnTo>
                  <a:lnTo>
                    <a:pt x="102" y="39"/>
                  </a:lnTo>
                  <a:lnTo>
                    <a:pt x="85" y="52"/>
                  </a:lnTo>
                  <a:lnTo>
                    <a:pt x="67" y="67"/>
                  </a:lnTo>
                  <a:lnTo>
                    <a:pt x="52" y="85"/>
                  </a:lnTo>
                  <a:lnTo>
                    <a:pt x="40" y="102"/>
                  </a:lnTo>
                  <a:lnTo>
                    <a:pt x="27" y="121"/>
                  </a:lnTo>
                  <a:lnTo>
                    <a:pt x="17" y="140"/>
                  </a:lnTo>
                  <a:lnTo>
                    <a:pt x="10" y="161"/>
                  </a:lnTo>
                  <a:lnTo>
                    <a:pt x="4" y="184"/>
                  </a:lnTo>
                  <a:lnTo>
                    <a:pt x="2" y="207"/>
                  </a:lnTo>
                  <a:lnTo>
                    <a:pt x="0" y="231"/>
                  </a:lnTo>
                  <a:lnTo>
                    <a:pt x="2" y="254"/>
                  </a:lnTo>
                  <a:lnTo>
                    <a:pt x="4" y="277"/>
                  </a:lnTo>
                  <a:lnTo>
                    <a:pt x="10" y="300"/>
                  </a:lnTo>
                  <a:lnTo>
                    <a:pt x="17" y="321"/>
                  </a:lnTo>
                  <a:lnTo>
                    <a:pt x="27" y="342"/>
                  </a:lnTo>
                  <a:lnTo>
                    <a:pt x="40" y="359"/>
                  </a:lnTo>
                  <a:lnTo>
                    <a:pt x="52" y="378"/>
                  </a:lnTo>
                  <a:lnTo>
                    <a:pt x="67" y="394"/>
                  </a:lnTo>
                  <a:lnTo>
                    <a:pt x="85" y="409"/>
                  </a:lnTo>
                  <a:lnTo>
                    <a:pt x="102" y="422"/>
                  </a:lnTo>
                  <a:lnTo>
                    <a:pt x="121" y="434"/>
                  </a:lnTo>
                  <a:lnTo>
                    <a:pt x="140" y="443"/>
                  </a:lnTo>
                  <a:lnTo>
                    <a:pt x="163" y="451"/>
                  </a:lnTo>
                  <a:lnTo>
                    <a:pt x="184" y="457"/>
                  </a:lnTo>
                  <a:lnTo>
                    <a:pt x="207" y="461"/>
                  </a:lnTo>
                  <a:lnTo>
                    <a:pt x="230" y="463"/>
                  </a:lnTo>
                  <a:lnTo>
                    <a:pt x="255" y="461"/>
                  </a:lnTo>
                  <a:lnTo>
                    <a:pt x="271" y="459"/>
                  </a:lnTo>
                  <a:lnTo>
                    <a:pt x="271" y="457"/>
                  </a:lnTo>
                  <a:lnTo>
                    <a:pt x="271" y="455"/>
                  </a:lnTo>
                  <a:lnTo>
                    <a:pt x="271" y="455"/>
                  </a:lnTo>
                  <a:lnTo>
                    <a:pt x="271" y="453"/>
                  </a:lnTo>
                  <a:lnTo>
                    <a:pt x="271" y="451"/>
                  </a:lnTo>
                  <a:lnTo>
                    <a:pt x="271" y="451"/>
                  </a:lnTo>
                  <a:lnTo>
                    <a:pt x="271" y="449"/>
                  </a:lnTo>
                  <a:lnTo>
                    <a:pt x="271" y="447"/>
                  </a:lnTo>
                  <a:lnTo>
                    <a:pt x="253" y="451"/>
                  </a:lnTo>
                  <a:lnTo>
                    <a:pt x="230" y="451"/>
                  </a:lnTo>
                  <a:lnTo>
                    <a:pt x="209" y="451"/>
                  </a:lnTo>
                  <a:lnTo>
                    <a:pt x="186" y="447"/>
                  </a:lnTo>
                  <a:lnTo>
                    <a:pt x="165" y="442"/>
                  </a:lnTo>
                  <a:lnTo>
                    <a:pt x="146" y="434"/>
                  </a:lnTo>
                  <a:lnTo>
                    <a:pt x="127" y="424"/>
                  </a:lnTo>
                  <a:lnTo>
                    <a:pt x="108" y="415"/>
                  </a:lnTo>
                  <a:lnTo>
                    <a:pt x="90" y="401"/>
                  </a:lnTo>
                  <a:lnTo>
                    <a:pt x="75" y="386"/>
                  </a:lnTo>
                  <a:lnTo>
                    <a:pt x="62" y="371"/>
                  </a:lnTo>
                  <a:lnTo>
                    <a:pt x="48" y="353"/>
                  </a:lnTo>
                  <a:lnTo>
                    <a:pt x="37" y="336"/>
                  </a:lnTo>
                  <a:lnTo>
                    <a:pt x="27" y="317"/>
                  </a:lnTo>
                  <a:lnTo>
                    <a:pt x="19" y="296"/>
                  </a:lnTo>
                  <a:lnTo>
                    <a:pt x="15" y="275"/>
                  </a:lnTo>
                  <a:lnTo>
                    <a:pt x="12" y="254"/>
                  </a:lnTo>
                  <a:lnTo>
                    <a:pt x="10" y="231"/>
                  </a:lnTo>
                  <a:lnTo>
                    <a:pt x="12" y="207"/>
                  </a:lnTo>
                  <a:lnTo>
                    <a:pt x="15" y="186"/>
                  </a:lnTo>
                  <a:lnTo>
                    <a:pt x="19" y="165"/>
                  </a:lnTo>
                  <a:lnTo>
                    <a:pt x="27" y="144"/>
                  </a:lnTo>
                  <a:lnTo>
                    <a:pt x="37" y="125"/>
                  </a:lnTo>
                  <a:lnTo>
                    <a:pt x="48" y="108"/>
                  </a:lnTo>
                  <a:lnTo>
                    <a:pt x="62" y="90"/>
                  </a:lnTo>
                  <a:lnTo>
                    <a:pt x="75" y="75"/>
                  </a:lnTo>
                  <a:lnTo>
                    <a:pt x="90" y="60"/>
                  </a:lnTo>
                  <a:lnTo>
                    <a:pt x="108" y="48"/>
                  </a:lnTo>
                  <a:lnTo>
                    <a:pt x="127" y="37"/>
                  </a:lnTo>
                  <a:lnTo>
                    <a:pt x="146" y="27"/>
                  </a:lnTo>
                  <a:lnTo>
                    <a:pt x="165" y="19"/>
                  </a:lnTo>
                  <a:lnTo>
                    <a:pt x="186" y="14"/>
                  </a:lnTo>
                  <a:lnTo>
                    <a:pt x="209" y="12"/>
                  </a:lnTo>
                  <a:lnTo>
                    <a:pt x="230" y="10"/>
                  </a:lnTo>
                  <a:lnTo>
                    <a:pt x="253" y="12"/>
                  </a:lnTo>
                  <a:lnTo>
                    <a:pt x="269" y="14"/>
                  </a:lnTo>
                  <a:lnTo>
                    <a:pt x="269" y="12"/>
                  </a:lnTo>
                  <a:lnTo>
                    <a:pt x="269" y="12"/>
                  </a:lnTo>
                  <a:lnTo>
                    <a:pt x="269" y="10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6"/>
                  </a:lnTo>
                  <a:lnTo>
                    <a:pt x="269" y="4"/>
                  </a:lnTo>
                  <a:lnTo>
                    <a:pt x="269" y="4"/>
                  </a:lnTo>
                  <a:close/>
                </a:path>
              </a:pathLst>
            </a:custGeom>
            <a:solidFill>
              <a:srgbClr val="d3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Freeform 222"/>
            <p:cNvSpPr/>
            <p:nvPr/>
          </p:nvSpPr>
          <p:spPr>
            <a:xfrm>
              <a:off x="1908000" y="2791440"/>
              <a:ext cx="446400" cy="762840"/>
            </a:xfrm>
            <a:custGeom>
              <a:avLst/>
              <a:gdLst>
                <a:gd name="textAreaLeft" fmla="*/ 0 w 446400"/>
                <a:gd name="textAreaRight" fmla="*/ 446760 w 446400"/>
                <a:gd name="textAreaTop" fmla="*/ 0 h 762840"/>
                <a:gd name="textAreaBottom" fmla="*/ 763200 h 762840"/>
              </a:gdLst>
              <a:ahLst/>
              <a:rect l="textAreaLeft" t="textAreaTop" r="textAreaRight" b="textAreaBottom"/>
              <a:pathLst>
                <a:path w="265" h="453">
                  <a:moveTo>
                    <a:pt x="263" y="4"/>
                  </a:moveTo>
                  <a:lnTo>
                    <a:pt x="247" y="2"/>
                  </a:lnTo>
                  <a:lnTo>
                    <a:pt x="224" y="0"/>
                  </a:lnTo>
                  <a:lnTo>
                    <a:pt x="201" y="2"/>
                  </a:lnTo>
                  <a:lnTo>
                    <a:pt x="180" y="6"/>
                  </a:lnTo>
                  <a:lnTo>
                    <a:pt x="157" y="12"/>
                  </a:lnTo>
                  <a:lnTo>
                    <a:pt x="138" y="19"/>
                  </a:lnTo>
                  <a:lnTo>
                    <a:pt x="117" y="29"/>
                  </a:lnTo>
                  <a:lnTo>
                    <a:pt x="100" y="40"/>
                  </a:lnTo>
                  <a:lnTo>
                    <a:pt x="80" y="52"/>
                  </a:lnTo>
                  <a:lnTo>
                    <a:pt x="65" y="67"/>
                  </a:lnTo>
                  <a:lnTo>
                    <a:pt x="52" y="83"/>
                  </a:lnTo>
                  <a:lnTo>
                    <a:pt x="38" y="100"/>
                  </a:lnTo>
                  <a:lnTo>
                    <a:pt x="27" y="119"/>
                  </a:lnTo>
                  <a:lnTo>
                    <a:pt x="17" y="138"/>
                  </a:lnTo>
                  <a:lnTo>
                    <a:pt x="9" y="159"/>
                  </a:lnTo>
                  <a:lnTo>
                    <a:pt x="4" y="180"/>
                  </a:lnTo>
                  <a:lnTo>
                    <a:pt x="0" y="203"/>
                  </a:lnTo>
                  <a:lnTo>
                    <a:pt x="0" y="227"/>
                  </a:lnTo>
                  <a:lnTo>
                    <a:pt x="0" y="250"/>
                  </a:lnTo>
                  <a:lnTo>
                    <a:pt x="4" y="273"/>
                  </a:lnTo>
                  <a:lnTo>
                    <a:pt x="9" y="294"/>
                  </a:lnTo>
                  <a:lnTo>
                    <a:pt x="17" y="315"/>
                  </a:lnTo>
                  <a:lnTo>
                    <a:pt x="27" y="334"/>
                  </a:lnTo>
                  <a:lnTo>
                    <a:pt x="38" y="353"/>
                  </a:lnTo>
                  <a:lnTo>
                    <a:pt x="52" y="370"/>
                  </a:lnTo>
                  <a:lnTo>
                    <a:pt x="65" y="386"/>
                  </a:lnTo>
                  <a:lnTo>
                    <a:pt x="80" y="401"/>
                  </a:lnTo>
                  <a:lnTo>
                    <a:pt x="100" y="415"/>
                  </a:lnTo>
                  <a:lnTo>
                    <a:pt x="117" y="426"/>
                  </a:lnTo>
                  <a:lnTo>
                    <a:pt x="138" y="436"/>
                  </a:lnTo>
                  <a:lnTo>
                    <a:pt x="157" y="443"/>
                  </a:lnTo>
                  <a:lnTo>
                    <a:pt x="180" y="447"/>
                  </a:lnTo>
                  <a:lnTo>
                    <a:pt x="201" y="451"/>
                  </a:lnTo>
                  <a:lnTo>
                    <a:pt x="224" y="453"/>
                  </a:lnTo>
                  <a:lnTo>
                    <a:pt x="247" y="451"/>
                  </a:lnTo>
                  <a:lnTo>
                    <a:pt x="265" y="449"/>
                  </a:lnTo>
                  <a:lnTo>
                    <a:pt x="265" y="447"/>
                  </a:lnTo>
                  <a:lnTo>
                    <a:pt x="265" y="447"/>
                  </a:lnTo>
                  <a:lnTo>
                    <a:pt x="265" y="445"/>
                  </a:lnTo>
                  <a:lnTo>
                    <a:pt x="265" y="443"/>
                  </a:lnTo>
                  <a:lnTo>
                    <a:pt x="265" y="443"/>
                  </a:lnTo>
                  <a:lnTo>
                    <a:pt x="265" y="441"/>
                  </a:lnTo>
                  <a:lnTo>
                    <a:pt x="263" y="439"/>
                  </a:lnTo>
                  <a:lnTo>
                    <a:pt x="263" y="439"/>
                  </a:lnTo>
                  <a:lnTo>
                    <a:pt x="247" y="441"/>
                  </a:lnTo>
                  <a:lnTo>
                    <a:pt x="224" y="441"/>
                  </a:lnTo>
                  <a:lnTo>
                    <a:pt x="203" y="441"/>
                  </a:lnTo>
                  <a:lnTo>
                    <a:pt x="182" y="438"/>
                  </a:lnTo>
                  <a:lnTo>
                    <a:pt x="161" y="432"/>
                  </a:lnTo>
                  <a:lnTo>
                    <a:pt x="142" y="426"/>
                  </a:lnTo>
                  <a:lnTo>
                    <a:pt x="123" y="416"/>
                  </a:lnTo>
                  <a:lnTo>
                    <a:pt x="105" y="405"/>
                  </a:lnTo>
                  <a:lnTo>
                    <a:pt x="88" y="393"/>
                  </a:lnTo>
                  <a:lnTo>
                    <a:pt x="73" y="380"/>
                  </a:lnTo>
                  <a:lnTo>
                    <a:pt x="59" y="365"/>
                  </a:lnTo>
                  <a:lnTo>
                    <a:pt x="46" y="347"/>
                  </a:lnTo>
                  <a:lnTo>
                    <a:pt x="36" y="330"/>
                  </a:lnTo>
                  <a:lnTo>
                    <a:pt x="27" y="311"/>
                  </a:lnTo>
                  <a:lnTo>
                    <a:pt x="19" y="292"/>
                  </a:lnTo>
                  <a:lnTo>
                    <a:pt x="13" y="271"/>
                  </a:lnTo>
                  <a:lnTo>
                    <a:pt x="11" y="250"/>
                  </a:lnTo>
                  <a:lnTo>
                    <a:pt x="9" y="227"/>
                  </a:lnTo>
                  <a:lnTo>
                    <a:pt x="11" y="205"/>
                  </a:lnTo>
                  <a:lnTo>
                    <a:pt x="13" y="184"/>
                  </a:lnTo>
                  <a:lnTo>
                    <a:pt x="19" y="163"/>
                  </a:lnTo>
                  <a:lnTo>
                    <a:pt x="27" y="142"/>
                  </a:lnTo>
                  <a:lnTo>
                    <a:pt x="36" y="125"/>
                  </a:lnTo>
                  <a:lnTo>
                    <a:pt x="46" y="106"/>
                  </a:lnTo>
                  <a:lnTo>
                    <a:pt x="59" y="90"/>
                  </a:lnTo>
                  <a:lnTo>
                    <a:pt x="73" y="75"/>
                  </a:lnTo>
                  <a:lnTo>
                    <a:pt x="88" y="60"/>
                  </a:lnTo>
                  <a:lnTo>
                    <a:pt x="105" y="48"/>
                  </a:lnTo>
                  <a:lnTo>
                    <a:pt x="123" y="37"/>
                  </a:lnTo>
                  <a:lnTo>
                    <a:pt x="142" y="29"/>
                  </a:lnTo>
                  <a:lnTo>
                    <a:pt x="161" y="21"/>
                  </a:lnTo>
                  <a:lnTo>
                    <a:pt x="182" y="15"/>
                  </a:lnTo>
                  <a:lnTo>
                    <a:pt x="203" y="12"/>
                  </a:lnTo>
                  <a:lnTo>
                    <a:pt x="224" y="12"/>
                  </a:lnTo>
                  <a:lnTo>
                    <a:pt x="247" y="12"/>
                  </a:lnTo>
                  <a:lnTo>
                    <a:pt x="261" y="15"/>
                  </a:lnTo>
                  <a:lnTo>
                    <a:pt x="261" y="14"/>
                  </a:lnTo>
                  <a:lnTo>
                    <a:pt x="261" y="12"/>
                  </a:lnTo>
                  <a:lnTo>
                    <a:pt x="263" y="12"/>
                  </a:lnTo>
                  <a:lnTo>
                    <a:pt x="263" y="10"/>
                  </a:lnTo>
                  <a:lnTo>
                    <a:pt x="263" y="8"/>
                  </a:lnTo>
                  <a:lnTo>
                    <a:pt x="263" y="8"/>
                  </a:lnTo>
                  <a:lnTo>
                    <a:pt x="263" y="6"/>
                  </a:lnTo>
                  <a:lnTo>
                    <a:pt x="263" y="4"/>
                  </a:lnTo>
                  <a:close/>
                </a:path>
              </a:pathLst>
            </a:custGeom>
            <a:solidFill>
              <a:srgbClr val="d4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Freeform 223"/>
            <p:cNvSpPr/>
            <p:nvPr/>
          </p:nvSpPr>
          <p:spPr>
            <a:xfrm>
              <a:off x="1914840" y="2801880"/>
              <a:ext cx="439560" cy="742680"/>
            </a:xfrm>
            <a:custGeom>
              <a:avLst/>
              <a:gdLst>
                <a:gd name="textAreaLeft" fmla="*/ 0 w 439560"/>
                <a:gd name="textAreaRight" fmla="*/ 439920 w 439560"/>
                <a:gd name="textAreaTop" fmla="*/ 0 h 742680"/>
                <a:gd name="textAreaBottom" fmla="*/ 743040 h 742680"/>
              </a:gdLst>
              <a:ahLst/>
              <a:rect l="textAreaLeft" t="textAreaTop" r="textAreaRight" b="textAreaBottom"/>
              <a:pathLst>
                <a:path w="261" h="441">
                  <a:moveTo>
                    <a:pt x="259" y="4"/>
                  </a:moveTo>
                  <a:lnTo>
                    <a:pt x="243" y="2"/>
                  </a:lnTo>
                  <a:lnTo>
                    <a:pt x="220" y="0"/>
                  </a:lnTo>
                  <a:lnTo>
                    <a:pt x="199" y="2"/>
                  </a:lnTo>
                  <a:lnTo>
                    <a:pt x="176" y="4"/>
                  </a:lnTo>
                  <a:lnTo>
                    <a:pt x="155" y="9"/>
                  </a:lnTo>
                  <a:lnTo>
                    <a:pt x="136" y="17"/>
                  </a:lnTo>
                  <a:lnTo>
                    <a:pt x="117" y="27"/>
                  </a:lnTo>
                  <a:lnTo>
                    <a:pt x="98" y="38"/>
                  </a:lnTo>
                  <a:lnTo>
                    <a:pt x="80" y="50"/>
                  </a:lnTo>
                  <a:lnTo>
                    <a:pt x="65" y="65"/>
                  </a:lnTo>
                  <a:lnTo>
                    <a:pt x="52" y="80"/>
                  </a:lnTo>
                  <a:lnTo>
                    <a:pt x="38" y="98"/>
                  </a:lnTo>
                  <a:lnTo>
                    <a:pt x="27" y="115"/>
                  </a:lnTo>
                  <a:lnTo>
                    <a:pt x="17" y="134"/>
                  </a:lnTo>
                  <a:lnTo>
                    <a:pt x="9" y="155"/>
                  </a:lnTo>
                  <a:lnTo>
                    <a:pt x="5" y="176"/>
                  </a:lnTo>
                  <a:lnTo>
                    <a:pt x="2" y="197"/>
                  </a:lnTo>
                  <a:lnTo>
                    <a:pt x="0" y="221"/>
                  </a:lnTo>
                  <a:lnTo>
                    <a:pt x="2" y="244"/>
                  </a:lnTo>
                  <a:lnTo>
                    <a:pt x="5" y="265"/>
                  </a:lnTo>
                  <a:lnTo>
                    <a:pt x="9" y="286"/>
                  </a:lnTo>
                  <a:lnTo>
                    <a:pt x="17" y="307"/>
                  </a:lnTo>
                  <a:lnTo>
                    <a:pt x="27" y="326"/>
                  </a:lnTo>
                  <a:lnTo>
                    <a:pt x="38" y="343"/>
                  </a:lnTo>
                  <a:lnTo>
                    <a:pt x="52" y="361"/>
                  </a:lnTo>
                  <a:lnTo>
                    <a:pt x="65" y="376"/>
                  </a:lnTo>
                  <a:lnTo>
                    <a:pt x="80" y="391"/>
                  </a:lnTo>
                  <a:lnTo>
                    <a:pt x="98" y="405"/>
                  </a:lnTo>
                  <a:lnTo>
                    <a:pt x="117" y="414"/>
                  </a:lnTo>
                  <a:lnTo>
                    <a:pt x="136" y="424"/>
                  </a:lnTo>
                  <a:lnTo>
                    <a:pt x="155" y="432"/>
                  </a:lnTo>
                  <a:lnTo>
                    <a:pt x="176" y="437"/>
                  </a:lnTo>
                  <a:lnTo>
                    <a:pt x="199" y="441"/>
                  </a:lnTo>
                  <a:lnTo>
                    <a:pt x="220" y="441"/>
                  </a:lnTo>
                  <a:lnTo>
                    <a:pt x="243" y="441"/>
                  </a:lnTo>
                  <a:lnTo>
                    <a:pt x="261" y="437"/>
                  </a:lnTo>
                  <a:lnTo>
                    <a:pt x="261" y="437"/>
                  </a:lnTo>
                  <a:lnTo>
                    <a:pt x="261" y="435"/>
                  </a:lnTo>
                  <a:lnTo>
                    <a:pt x="259" y="433"/>
                  </a:lnTo>
                  <a:lnTo>
                    <a:pt x="259" y="433"/>
                  </a:lnTo>
                  <a:lnTo>
                    <a:pt x="259" y="432"/>
                  </a:lnTo>
                  <a:lnTo>
                    <a:pt x="259" y="430"/>
                  </a:lnTo>
                  <a:lnTo>
                    <a:pt x="259" y="430"/>
                  </a:lnTo>
                  <a:lnTo>
                    <a:pt x="259" y="428"/>
                  </a:lnTo>
                  <a:lnTo>
                    <a:pt x="243" y="430"/>
                  </a:lnTo>
                  <a:lnTo>
                    <a:pt x="220" y="432"/>
                  </a:lnTo>
                  <a:lnTo>
                    <a:pt x="199" y="430"/>
                  </a:lnTo>
                  <a:lnTo>
                    <a:pt x="178" y="428"/>
                  </a:lnTo>
                  <a:lnTo>
                    <a:pt x="159" y="422"/>
                  </a:lnTo>
                  <a:lnTo>
                    <a:pt x="140" y="414"/>
                  </a:lnTo>
                  <a:lnTo>
                    <a:pt x="121" y="407"/>
                  </a:lnTo>
                  <a:lnTo>
                    <a:pt x="103" y="395"/>
                  </a:lnTo>
                  <a:lnTo>
                    <a:pt x="88" y="384"/>
                  </a:lnTo>
                  <a:lnTo>
                    <a:pt x="73" y="370"/>
                  </a:lnTo>
                  <a:lnTo>
                    <a:pt x="59" y="355"/>
                  </a:lnTo>
                  <a:lnTo>
                    <a:pt x="46" y="338"/>
                  </a:lnTo>
                  <a:lnTo>
                    <a:pt x="36" y="320"/>
                  </a:lnTo>
                  <a:lnTo>
                    <a:pt x="27" y="303"/>
                  </a:lnTo>
                  <a:lnTo>
                    <a:pt x="21" y="284"/>
                  </a:lnTo>
                  <a:lnTo>
                    <a:pt x="15" y="263"/>
                  </a:lnTo>
                  <a:lnTo>
                    <a:pt x="11" y="242"/>
                  </a:lnTo>
                  <a:lnTo>
                    <a:pt x="11" y="221"/>
                  </a:lnTo>
                  <a:lnTo>
                    <a:pt x="11" y="199"/>
                  </a:lnTo>
                  <a:lnTo>
                    <a:pt x="15" y="178"/>
                  </a:lnTo>
                  <a:lnTo>
                    <a:pt x="21" y="159"/>
                  </a:lnTo>
                  <a:lnTo>
                    <a:pt x="27" y="138"/>
                  </a:lnTo>
                  <a:lnTo>
                    <a:pt x="36" y="121"/>
                  </a:lnTo>
                  <a:lnTo>
                    <a:pt x="46" y="103"/>
                  </a:lnTo>
                  <a:lnTo>
                    <a:pt x="59" y="86"/>
                  </a:lnTo>
                  <a:lnTo>
                    <a:pt x="73" y="73"/>
                  </a:lnTo>
                  <a:lnTo>
                    <a:pt x="88" y="59"/>
                  </a:lnTo>
                  <a:lnTo>
                    <a:pt x="103" y="46"/>
                  </a:lnTo>
                  <a:lnTo>
                    <a:pt x="121" y="36"/>
                  </a:lnTo>
                  <a:lnTo>
                    <a:pt x="140" y="27"/>
                  </a:lnTo>
                  <a:lnTo>
                    <a:pt x="159" y="19"/>
                  </a:lnTo>
                  <a:lnTo>
                    <a:pt x="178" y="15"/>
                  </a:lnTo>
                  <a:lnTo>
                    <a:pt x="199" y="11"/>
                  </a:lnTo>
                  <a:lnTo>
                    <a:pt x="220" y="9"/>
                  </a:lnTo>
                  <a:lnTo>
                    <a:pt x="243" y="11"/>
                  </a:lnTo>
                  <a:lnTo>
                    <a:pt x="257" y="13"/>
                  </a:lnTo>
                  <a:lnTo>
                    <a:pt x="257" y="13"/>
                  </a:lnTo>
                  <a:lnTo>
                    <a:pt x="257" y="11"/>
                  </a:lnTo>
                  <a:lnTo>
                    <a:pt x="257" y="9"/>
                  </a:lnTo>
                  <a:lnTo>
                    <a:pt x="257" y="9"/>
                  </a:lnTo>
                  <a:lnTo>
                    <a:pt x="257" y="8"/>
                  </a:lnTo>
                  <a:lnTo>
                    <a:pt x="257" y="6"/>
                  </a:lnTo>
                  <a:lnTo>
                    <a:pt x="259" y="6"/>
                  </a:lnTo>
                  <a:lnTo>
                    <a:pt x="259" y="4"/>
                  </a:lnTo>
                  <a:close/>
                </a:path>
              </a:pathLst>
            </a:custGeom>
            <a:solidFill>
              <a:srgbClr val="d5e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Freeform 224"/>
            <p:cNvSpPr/>
            <p:nvPr/>
          </p:nvSpPr>
          <p:spPr>
            <a:xfrm>
              <a:off x="1923120" y="2811960"/>
              <a:ext cx="427680" cy="722160"/>
            </a:xfrm>
            <a:custGeom>
              <a:avLst/>
              <a:gdLst>
                <a:gd name="textAreaLeft" fmla="*/ 0 w 427680"/>
                <a:gd name="textAreaRight" fmla="*/ 428040 w 427680"/>
                <a:gd name="textAreaTop" fmla="*/ 0 h 722160"/>
                <a:gd name="textAreaBottom" fmla="*/ 722520 h 722160"/>
              </a:gdLst>
              <a:ahLst/>
              <a:rect l="textAreaLeft" t="textAreaTop" r="textAreaRight" b="textAreaBottom"/>
              <a:pathLst>
                <a:path w="254" h="429">
                  <a:moveTo>
                    <a:pt x="252" y="3"/>
                  </a:moveTo>
                  <a:lnTo>
                    <a:pt x="238" y="0"/>
                  </a:lnTo>
                  <a:lnTo>
                    <a:pt x="215" y="0"/>
                  </a:lnTo>
                  <a:lnTo>
                    <a:pt x="194" y="0"/>
                  </a:lnTo>
                  <a:lnTo>
                    <a:pt x="173" y="3"/>
                  </a:lnTo>
                  <a:lnTo>
                    <a:pt x="152" y="9"/>
                  </a:lnTo>
                  <a:lnTo>
                    <a:pt x="133" y="17"/>
                  </a:lnTo>
                  <a:lnTo>
                    <a:pt x="114" y="25"/>
                  </a:lnTo>
                  <a:lnTo>
                    <a:pt x="96" y="36"/>
                  </a:lnTo>
                  <a:lnTo>
                    <a:pt x="79" y="48"/>
                  </a:lnTo>
                  <a:lnTo>
                    <a:pt x="64" y="63"/>
                  </a:lnTo>
                  <a:lnTo>
                    <a:pt x="50" y="78"/>
                  </a:lnTo>
                  <a:lnTo>
                    <a:pt x="37" y="94"/>
                  </a:lnTo>
                  <a:lnTo>
                    <a:pt x="27" y="113"/>
                  </a:lnTo>
                  <a:lnTo>
                    <a:pt x="18" y="130"/>
                  </a:lnTo>
                  <a:lnTo>
                    <a:pt x="10" y="151"/>
                  </a:lnTo>
                  <a:lnTo>
                    <a:pt x="4" y="172"/>
                  </a:lnTo>
                  <a:lnTo>
                    <a:pt x="2" y="193"/>
                  </a:lnTo>
                  <a:lnTo>
                    <a:pt x="0" y="215"/>
                  </a:lnTo>
                  <a:lnTo>
                    <a:pt x="2" y="238"/>
                  </a:lnTo>
                  <a:lnTo>
                    <a:pt x="4" y="259"/>
                  </a:lnTo>
                  <a:lnTo>
                    <a:pt x="10" y="280"/>
                  </a:lnTo>
                  <a:lnTo>
                    <a:pt x="18" y="299"/>
                  </a:lnTo>
                  <a:lnTo>
                    <a:pt x="27" y="318"/>
                  </a:lnTo>
                  <a:lnTo>
                    <a:pt x="37" y="335"/>
                  </a:lnTo>
                  <a:lnTo>
                    <a:pt x="50" y="353"/>
                  </a:lnTo>
                  <a:lnTo>
                    <a:pt x="64" y="368"/>
                  </a:lnTo>
                  <a:lnTo>
                    <a:pt x="79" y="381"/>
                  </a:lnTo>
                  <a:lnTo>
                    <a:pt x="96" y="393"/>
                  </a:lnTo>
                  <a:lnTo>
                    <a:pt x="114" y="404"/>
                  </a:lnTo>
                  <a:lnTo>
                    <a:pt x="133" y="414"/>
                  </a:lnTo>
                  <a:lnTo>
                    <a:pt x="152" y="420"/>
                  </a:lnTo>
                  <a:lnTo>
                    <a:pt x="173" y="426"/>
                  </a:lnTo>
                  <a:lnTo>
                    <a:pt x="194" y="429"/>
                  </a:lnTo>
                  <a:lnTo>
                    <a:pt x="215" y="429"/>
                  </a:lnTo>
                  <a:lnTo>
                    <a:pt x="238" y="429"/>
                  </a:lnTo>
                  <a:lnTo>
                    <a:pt x="254" y="427"/>
                  </a:lnTo>
                  <a:lnTo>
                    <a:pt x="254" y="426"/>
                  </a:lnTo>
                  <a:lnTo>
                    <a:pt x="254" y="424"/>
                  </a:lnTo>
                  <a:lnTo>
                    <a:pt x="254" y="424"/>
                  </a:lnTo>
                  <a:lnTo>
                    <a:pt x="254" y="422"/>
                  </a:lnTo>
                  <a:lnTo>
                    <a:pt x="254" y="420"/>
                  </a:lnTo>
                  <a:lnTo>
                    <a:pt x="254" y="420"/>
                  </a:lnTo>
                  <a:lnTo>
                    <a:pt x="254" y="418"/>
                  </a:lnTo>
                  <a:lnTo>
                    <a:pt x="254" y="416"/>
                  </a:lnTo>
                  <a:lnTo>
                    <a:pt x="237" y="420"/>
                  </a:lnTo>
                  <a:lnTo>
                    <a:pt x="215" y="420"/>
                  </a:lnTo>
                  <a:lnTo>
                    <a:pt x="194" y="420"/>
                  </a:lnTo>
                  <a:lnTo>
                    <a:pt x="175" y="416"/>
                  </a:lnTo>
                  <a:lnTo>
                    <a:pt x="156" y="410"/>
                  </a:lnTo>
                  <a:lnTo>
                    <a:pt x="137" y="404"/>
                  </a:lnTo>
                  <a:lnTo>
                    <a:pt x="118" y="395"/>
                  </a:lnTo>
                  <a:lnTo>
                    <a:pt x="102" y="385"/>
                  </a:lnTo>
                  <a:lnTo>
                    <a:pt x="85" y="374"/>
                  </a:lnTo>
                  <a:lnTo>
                    <a:pt x="71" y="360"/>
                  </a:lnTo>
                  <a:lnTo>
                    <a:pt x="58" y="345"/>
                  </a:lnTo>
                  <a:lnTo>
                    <a:pt x="47" y="330"/>
                  </a:lnTo>
                  <a:lnTo>
                    <a:pt x="35" y="312"/>
                  </a:lnTo>
                  <a:lnTo>
                    <a:pt x="27" y="295"/>
                  </a:lnTo>
                  <a:lnTo>
                    <a:pt x="20" y="276"/>
                  </a:lnTo>
                  <a:lnTo>
                    <a:pt x="16" y="257"/>
                  </a:lnTo>
                  <a:lnTo>
                    <a:pt x="12" y="236"/>
                  </a:lnTo>
                  <a:lnTo>
                    <a:pt x="10" y="215"/>
                  </a:lnTo>
                  <a:lnTo>
                    <a:pt x="12" y="193"/>
                  </a:lnTo>
                  <a:lnTo>
                    <a:pt x="16" y="174"/>
                  </a:lnTo>
                  <a:lnTo>
                    <a:pt x="20" y="153"/>
                  </a:lnTo>
                  <a:lnTo>
                    <a:pt x="27" y="134"/>
                  </a:lnTo>
                  <a:lnTo>
                    <a:pt x="35" y="117"/>
                  </a:lnTo>
                  <a:lnTo>
                    <a:pt x="47" y="99"/>
                  </a:lnTo>
                  <a:lnTo>
                    <a:pt x="58" y="84"/>
                  </a:lnTo>
                  <a:lnTo>
                    <a:pt x="71" y="69"/>
                  </a:lnTo>
                  <a:lnTo>
                    <a:pt x="85" y="57"/>
                  </a:lnTo>
                  <a:lnTo>
                    <a:pt x="102" y="44"/>
                  </a:lnTo>
                  <a:lnTo>
                    <a:pt x="118" y="34"/>
                  </a:lnTo>
                  <a:lnTo>
                    <a:pt x="137" y="26"/>
                  </a:lnTo>
                  <a:lnTo>
                    <a:pt x="156" y="19"/>
                  </a:lnTo>
                  <a:lnTo>
                    <a:pt x="175" y="13"/>
                  </a:lnTo>
                  <a:lnTo>
                    <a:pt x="194" y="11"/>
                  </a:lnTo>
                  <a:lnTo>
                    <a:pt x="215" y="9"/>
                  </a:lnTo>
                  <a:lnTo>
                    <a:pt x="237" y="11"/>
                  </a:lnTo>
                  <a:lnTo>
                    <a:pt x="252" y="13"/>
                  </a:lnTo>
                  <a:lnTo>
                    <a:pt x="252" y="11"/>
                  </a:lnTo>
                  <a:lnTo>
                    <a:pt x="252" y="11"/>
                  </a:lnTo>
                  <a:lnTo>
                    <a:pt x="252" y="9"/>
                  </a:lnTo>
                  <a:lnTo>
                    <a:pt x="252" y="7"/>
                  </a:lnTo>
                  <a:lnTo>
                    <a:pt x="252" y="7"/>
                  </a:lnTo>
                  <a:lnTo>
                    <a:pt x="252" y="5"/>
                  </a:lnTo>
                  <a:lnTo>
                    <a:pt x="252" y="3"/>
                  </a:lnTo>
                  <a:lnTo>
                    <a:pt x="252" y="3"/>
                  </a:lnTo>
                  <a:close/>
                </a:path>
              </a:pathLst>
            </a:custGeom>
            <a:solidFill>
              <a:srgbClr val="d6e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Freeform 225"/>
            <p:cNvSpPr/>
            <p:nvPr/>
          </p:nvSpPr>
          <p:spPr>
            <a:xfrm>
              <a:off x="1933200" y="2817000"/>
              <a:ext cx="417600" cy="712080"/>
            </a:xfrm>
            <a:custGeom>
              <a:avLst/>
              <a:gdLst>
                <a:gd name="textAreaLeft" fmla="*/ 0 w 417600"/>
                <a:gd name="textAreaRight" fmla="*/ 417960 w 417600"/>
                <a:gd name="textAreaTop" fmla="*/ 0 h 712080"/>
                <a:gd name="textAreaBottom" fmla="*/ 712440 h 712080"/>
              </a:gdLst>
              <a:ahLst/>
              <a:rect l="textAreaLeft" t="textAreaTop" r="textAreaRight" b="textAreaBottom"/>
              <a:pathLst>
                <a:path w="248" h="423">
                  <a:moveTo>
                    <a:pt x="246" y="4"/>
                  </a:moveTo>
                  <a:lnTo>
                    <a:pt x="232" y="2"/>
                  </a:lnTo>
                  <a:lnTo>
                    <a:pt x="209" y="0"/>
                  </a:lnTo>
                  <a:lnTo>
                    <a:pt x="188" y="2"/>
                  </a:lnTo>
                  <a:lnTo>
                    <a:pt x="167" y="6"/>
                  </a:lnTo>
                  <a:lnTo>
                    <a:pt x="148" y="10"/>
                  </a:lnTo>
                  <a:lnTo>
                    <a:pt x="129" y="18"/>
                  </a:lnTo>
                  <a:lnTo>
                    <a:pt x="110" y="27"/>
                  </a:lnTo>
                  <a:lnTo>
                    <a:pt x="92" y="37"/>
                  </a:lnTo>
                  <a:lnTo>
                    <a:pt x="77" y="50"/>
                  </a:lnTo>
                  <a:lnTo>
                    <a:pt x="62" y="64"/>
                  </a:lnTo>
                  <a:lnTo>
                    <a:pt x="48" y="77"/>
                  </a:lnTo>
                  <a:lnTo>
                    <a:pt x="35" y="94"/>
                  </a:lnTo>
                  <a:lnTo>
                    <a:pt x="25" y="112"/>
                  </a:lnTo>
                  <a:lnTo>
                    <a:pt x="16" y="129"/>
                  </a:lnTo>
                  <a:lnTo>
                    <a:pt x="10" y="150"/>
                  </a:lnTo>
                  <a:lnTo>
                    <a:pt x="4" y="169"/>
                  </a:lnTo>
                  <a:lnTo>
                    <a:pt x="0" y="190"/>
                  </a:lnTo>
                  <a:lnTo>
                    <a:pt x="0" y="212"/>
                  </a:lnTo>
                  <a:lnTo>
                    <a:pt x="0" y="233"/>
                  </a:lnTo>
                  <a:lnTo>
                    <a:pt x="4" y="254"/>
                  </a:lnTo>
                  <a:lnTo>
                    <a:pt x="10" y="275"/>
                  </a:lnTo>
                  <a:lnTo>
                    <a:pt x="16" y="294"/>
                  </a:lnTo>
                  <a:lnTo>
                    <a:pt x="25" y="311"/>
                  </a:lnTo>
                  <a:lnTo>
                    <a:pt x="35" y="329"/>
                  </a:lnTo>
                  <a:lnTo>
                    <a:pt x="48" y="346"/>
                  </a:lnTo>
                  <a:lnTo>
                    <a:pt x="62" y="361"/>
                  </a:lnTo>
                  <a:lnTo>
                    <a:pt x="77" y="375"/>
                  </a:lnTo>
                  <a:lnTo>
                    <a:pt x="92" y="386"/>
                  </a:lnTo>
                  <a:lnTo>
                    <a:pt x="110" y="398"/>
                  </a:lnTo>
                  <a:lnTo>
                    <a:pt x="129" y="405"/>
                  </a:lnTo>
                  <a:lnTo>
                    <a:pt x="148" y="413"/>
                  </a:lnTo>
                  <a:lnTo>
                    <a:pt x="167" y="419"/>
                  </a:lnTo>
                  <a:lnTo>
                    <a:pt x="188" y="421"/>
                  </a:lnTo>
                  <a:lnTo>
                    <a:pt x="209" y="423"/>
                  </a:lnTo>
                  <a:lnTo>
                    <a:pt x="232" y="421"/>
                  </a:lnTo>
                  <a:lnTo>
                    <a:pt x="248" y="419"/>
                  </a:lnTo>
                  <a:lnTo>
                    <a:pt x="248" y="417"/>
                  </a:lnTo>
                  <a:lnTo>
                    <a:pt x="248" y="417"/>
                  </a:lnTo>
                  <a:lnTo>
                    <a:pt x="248" y="415"/>
                  </a:lnTo>
                  <a:lnTo>
                    <a:pt x="248" y="413"/>
                  </a:lnTo>
                  <a:lnTo>
                    <a:pt x="248" y="413"/>
                  </a:lnTo>
                  <a:lnTo>
                    <a:pt x="248" y="411"/>
                  </a:lnTo>
                  <a:lnTo>
                    <a:pt x="248" y="409"/>
                  </a:lnTo>
                  <a:lnTo>
                    <a:pt x="248" y="409"/>
                  </a:lnTo>
                  <a:lnTo>
                    <a:pt x="231" y="411"/>
                  </a:lnTo>
                  <a:lnTo>
                    <a:pt x="209" y="411"/>
                  </a:lnTo>
                  <a:lnTo>
                    <a:pt x="190" y="411"/>
                  </a:lnTo>
                  <a:lnTo>
                    <a:pt x="169" y="407"/>
                  </a:lnTo>
                  <a:lnTo>
                    <a:pt x="150" y="403"/>
                  </a:lnTo>
                  <a:lnTo>
                    <a:pt x="133" y="396"/>
                  </a:lnTo>
                  <a:lnTo>
                    <a:pt x="115" y="388"/>
                  </a:lnTo>
                  <a:lnTo>
                    <a:pt x="98" y="378"/>
                  </a:lnTo>
                  <a:lnTo>
                    <a:pt x="83" y="367"/>
                  </a:lnTo>
                  <a:lnTo>
                    <a:pt x="69" y="353"/>
                  </a:lnTo>
                  <a:lnTo>
                    <a:pt x="56" y="340"/>
                  </a:lnTo>
                  <a:lnTo>
                    <a:pt x="44" y="323"/>
                  </a:lnTo>
                  <a:lnTo>
                    <a:pt x="35" y="307"/>
                  </a:lnTo>
                  <a:lnTo>
                    <a:pt x="25" y="290"/>
                  </a:lnTo>
                  <a:lnTo>
                    <a:pt x="19" y="271"/>
                  </a:lnTo>
                  <a:lnTo>
                    <a:pt x="14" y="252"/>
                  </a:lnTo>
                  <a:lnTo>
                    <a:pt x="12" y="233"/>
                  </a:lnTo>
                  <a:lnTo>
                    <a:pt x="10" y="212"/>
                  </a:lnTo>
                  <a:lnTo>
                    <a:pt x="12" y="190"/>
                  </a:lnTo>
                  <a:lnTo>
                    <a:pt x="14" y="171"/>
                  </a:lnTo>
                  <a:lnTo>
                    <a:pt x="19" y="152"/>
                  </a:lnTo>
                  <a:lnTo>
                    <a:pt x="25" y="135"/>
                  </a:lnTo>
                  <a:lnTo>
                    <a:pt x="35" y="116"/>
                  </a:lnTo>
                  <a:lnTo>
                    <a:pt x="44" y="100"/>
                  </a:lnTo>
                  <a:lnTo>
                    <a:pt x="56" y="85"/>
                  </a:lnTo>
                  <a:lnTo>
                    <a:pt x="69" y="70"/>
                  </a:lnTo>
                  <a:lnTo>
                    <a:pt x="83" y="58"/>
                  </a:lnTo>
                  <a:lnTo>
                    <a:pt x="98" y="47"/>
                  </a:lnTo>
                  <a:lnTo>
                    <a:pt x="115" y="35"/>
                  </a:lnTo>
                  <a:lnTo>
                    <a:pt x="133" y="27"/>
                  </a:lnTo>
                  <a:lnTo>
                    <a:pt x="150" y="22"/>
                  </a:lnTo>
                  <a:lnTo>
                    <a:pt x="169" y="16"/>
                  </a:lnTo>
                  <a:lnTo>
                    <a:pt x="190" y="12"/>
                  </a:lnTo>
                  <a:lnTo>
                    <a:pt x="209" y="12"/>
                  </a:lnTo>
                  <a:lnTo>
                    <a:pt x="231" y="12"/>
                  </a:lnTo>
                  <a:lnTo>
                    <a:pt x="246" y="16"/>
                  </a:lnTo>
                  <a:lnTo>
                    <a:pt x="246" y="14"/>
                  </a:lnTo>
                  <a:lnTo>
                    <a:pt x="246" y="12"/>
                  </a:lnTo>
                  <a:lnTo>
                    <a:pt x="246" y="12"/>
                  </a:lnTo>
                  <a:lnTo>
                    <a:pt x="246" y="10"/>
                  </a:lnTo>
                  <a:lnTo>
                    <a:pt x="246" y="8"/>
                  </a:lnTo>
                  <a:lnTo>
                    <a:pt x="246" y="8"/>
                  </a:lnTo>
                  <a:lnTo>
                    <a:pt x="246" y="6"/>
                  </a:lnTo>
                  <a:lnTo>
                    <a:pt x="246" y="4"/>
                  </a:lnTo>
                  <a:close/>
                </a:path>
              </a:pathLst>
            </a:custGeom>
            <a:solidFill>
              <a:srgbClr val="d7e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Freeform 226"/>
            <p:cNvSpPr/>
            <p:nvPr/>
          </p:nvSpPr>
          <p:spPr>
            <a:xfrm>
              <a:off x="1940040" y="2827080"/>
              <a:ext cx="410760" cy="691920"/>
            </a:xfrm>
            <a:custGeom>
              <a:avLst/>
              <a:gdLst>
                <a:gd name="textAreaLeft" fmla="*/ 0 w 410760"/>
                <a:gd name="textAreaRight" fmla="*/ 411120 w 410760"/>
                <a:gd name="textAreaTop" fmla="*/ 0 h 691920"/>
                <a:gd name="textAreaBottom" fmla="*/ 692280 h 691920"/>
              </a:gdLst>
              <a:ahLst/>
              <a:rect l="textAreaLeft" t="textAreaTop" r="textAreaRight" b="textAreaBottom"/>
              <a:pathLst>
                <a:path w="244" h="411">
                  <a:moveTo>
                    <a:pt x="242" y="4"/>
                  </a:moveTo>
                  <a:lnTo>
                    <a:pt x="227" y="2"/>
                  </a:lnTo>
                  <a:lnTo>
                    <a:pt x="205" y="0"/>
                  </a:lnTo>
                  <a:lnTo>
                    <a:pt x="184" y="2"/>
                  </a:lnTo>
                  <a:lnTo>
                    <a:pt x="165" y="4"/>
                  </a:lnTo>
                  <a:lnTo>
                    <a:pt x="146" y="10"/>
                  </a:lnTo>
                  <a:lnTo>
                    <a:pt x="127" y="17"/>
                  </a:lnTo>
                  <a:lnTo>
                    <a:pt x="108" y="25"/>
                  </a:lnTo>
                  <a:lnTo>
                    <a:pt x="92" y="35"/>
                  </a:lnTo>
                  <a:lnTo>
                    <a:pt x="75" y="48"/>
                  </a:lnTo>
                  <a:lnTo>
                    <a:pt x="61" y="60"/>
                  </a:lnTo>
                  <a:lnTo>
                    <a:pt x="48" y="75"/>
                  </a:lnTo>
                  <a:lnTo>
                    <a:pt x="37" y="90"/>
                  </a:lnTo>
                  <a:lnTo>
                    <a:pt x="25" y="108"/>
                  </a:lnTo>
                  <a:lnTo>
                    <a:pt x="17" y="125"/>
                  </a:lnTo>
                  <a:lnTo>
                    <a:pt x="10" y="144"/>
                  </a:lnTo>
                  <a:lnTo>
                    <a:pt x="6" y="165"/>
                  </a:lnTo>
                  <a:lnTo>
                    <a:pt x="2" y="184"/>
                  </a:lnTo>
                  <a:lnTo>
                    <a:pt x="0" y="206"/>
                  </a:lnTo>
                  <a:lnTo>
                    <a:pt x="2" y="227"/>
                  </a:lnTo>
                  <a:lnTo>
                    <a:pt x="6" y="248"/>
                  </a:lnTo>
                  <a:lnTo>
                    <a:pt x="10" y="267"/>
                  </a:lnTo>
                  <a:lnTo>
                    <a:pt x="17" y="286"/>
                  </a:lnTo>
                  <a:lnTo>
                    <a:pt x="25" y="303"/>
                  </a:lnTo>
                  <a:lnTo>
                    <a:pt x="37" y="321"/>
                  </a:lnTo>
                  <a:lnTo>
                    <a:pt x="48" y="336"/>
                  </a:lnTo>
                  <a:lnTo>
                    <a:pt x="61" y="351"/>
                  </a:lnTo>
                  <a:lnTo>
                    <a:pt x="75" y="365"/>
                  </a:lnTo>
                  <a:lnTo>
                    <a:pt x="92" y="376"/>
                  </a:lnTo>
                  <a:lnTo>
                    <a:pt x="108" y="386"/>
                  </a:lnTo>
                  <a:lnTo>
                    <a:pt x="127" y="395"/>
                  </a:lnTo>
                  <a:lnTo>
                    <a:pt x="146" y="401"/>
                  </a:lnTo>
                  <a:lnTo>
                    <a:pt x="165" y="407"/>
                  </a:lnTo>
                  <a:lnTo>
                    <a:pt x="184" y="411"/>
                  </a:lnTo>
                  <a:lnTo>
                    <a:pt x="205" y="411"/>
                  </a:lnTo>
                  <a:lnTo>
                    <a:pt x="227" y="411"/>
                  </a:lnTo>
                  <a:lnTo>
                    <a:pt x="244" y="407"/>
                  </a:lnTo>
                  <a:lnTo>
                    <a:pt x="244" y="407"/>
                  </a:lnTo>
                  <a:lnTo>
                    <a:pt x="244" y="405"/>
                  </a:lnTo>
                  <a:lnTo>
                    <a:pt x="244" y="403"/>
                  </a:lnTo>
                  <a:lnTo>
                    <a:pt x="244" y="403"/>
                  </a:lnTo>
                  <a:lnTo>
                    <a:pt x="244" y="401"/>
                  </a:lnTo>
                  <a:lnTo>
                    <a:pt x="242" y="399"/>
                  </a:lnTo>
                  <a:lnTo>
                    <a:pt x="242" y="399"/>
                  </a:lnTo>
                  <a:lnTo>
                    <a:pt x="242" y="397"/>
                  </a:lnTo>
                  <a:lnTo>
                    <a:pt x="227" y="399"/>
                  </a:lnTo>
                  <a:lnTo>
                    <a:pt x="205" y="401"/>
                  </a:lnTo>
                  <a:lnTo>
                    <a:pt x="186" y="399"/>
                  </a:lnTo>
                  <a:lnTo>
                    <a:pt x="167" y="397"/>
                  </a:lnTo>
                  <a:lnTo>
                    <a:pt x="148" y="392"/>
                  </a:lnTo>
                  <a:lnTo>
                    <a:pt x="131" y="386"/>
                  </a:lnTo>
                  <a:lnTo>
                    <a:pt x="113" y="378"/>
                  </a:lnTo>
                  <a:lnTo>
                    <a:pt x="98" y="367"/>
                  </a:lnTo>
                  <a:lnTo>
                    <a:pt x="83" y="357"/>
                  </a:lnTo>
                  <a:lnTo>
                    <a:pt x="67" y="344"/>
                  </a:lnTo>
                  <a:lnTo>
                    <a:pt x="56" y="330"/>
                  </a:lnTo>
                  <a:lnTo>
                    <a:pt x="44" y="315"/>
                  </a:lnTo>
                  <a:lnTo>
                    <a:pt x="35" y="300"/>
                  </a:lnTo>
                  <a:lnTo>
                    <a:pt x="27" y="282"/>
                  </a:lnTo>
                  <a:lnTo>
                    <a:pt x="19" y="263"/>
                  </a:lnTo>
                  <a:lnTo>
                    <a:pt x="15" y="246"/>
                  </a:lnTo>
                  <a:lnTo>
                    <a:pt x="12" y="227"/>
                  </a:lnTo>
                  <a:lnTo>
                    <a:pt x="12" y="206"/>
                  </a:lnTo>
                  <a:lnTo>
                    <a:pt x="12" y="186"/>
                  </a:lnTo>
                  <a:lnTo>
                    <a:pt x="15" y="167"/>
                  </a:lnTo>
                  <a:lnTo>
                    <a:pt x="19" y="148"/>
                  </a:lnTo>
                  <a:lnTo>
                    <a:pt x="27" y="131"/>
                  </a:lnTo>
                  <a:lnTo>
                    <a:pt x="35" y="113"/>
                  </a:lnTo>
                  <a:lnTo>
                    <a:pt x="44" y="96"/>
                  </a:lnTo>
                  <a:lnTo>
                    <a:pt x="56" y="81"/>
                  </a:lnTo>
                  <a:lnTo>
                    <a:pt x="67" y="67"/>
                  </a:lnTo>
                  <a:lnTo>
                    <a:pt x="83" y="56"/>
                  </a:lnTo>
                  <a:lnTo>
                    <a:pt x="98" y="44"/>
                  </a:lnTo>
                  <a:lnTo>
                    <a:pt x="113" y="35"/>
                  </a:lnTo>
                  <a:lnTo>
                    <a:pt x="131" y="25"/>
                  </a:lnTo>
                  <a:lnTo>
                    <a:pt x="148" y="19"/>
                  </a:lnTo>
                  <a:lnTo>
                    <a:pt x="167" y="16"/>
                  </a:lnTo>
                  <a:lnTo>
                    <a:pt x="186" y="12"/>
                  </a:lnTo>
                  <a:lnTo>
                    <a:pt x="205" y="10"/>
                  </a:lnTo>
                  <a:lnTo>
                    <a:pt x="227" y="12"/>
                  </a:lnTo>
                  <a:lnTo>
                    <a:pt x="240" y="14"/>
                  </a:lnTo>
                  <a:lnTo>
                    <a:pt x="240" y="14"/>
                  </a:lnTo>
                  <a:lnTo>
                    <a:pt x="240" y="12"/>
                  </a:lnTo>
                  <a:lnTo>
                    <a:pt x="242" y="10"/>
                  </a:lnTo>
                  <a:lnTo>
                    <a:pt x="242" y="10"/>
                  </a:lnTo>
                  <a:lnTo>
                    <a:pt x="242" y="8"/>
                  </a:lnTo>
                  <a:lnTo>
                    <a:pt x="242" y="6"/>
                  </a:lnTo>
                  <a:lnTo>
                    <a:pt x="242" y="6"/>
                  </a:lnTo>
                  <a:lnTo>
                    <a:pt x="242" y="4"/>
                  </a:lnTo>
                  <a:close/>
                </a:path>
              </a:pathLst>
            </a:custGeom>
            <a:solidFill>
              <a:srgbClr val="d8e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Freeform 227"/>
            <p:cNvSpPr/>
            <p:nvPr/>
          </p:nvSpPr>
          <p:spPr>
            <a:xfrm>
              <a:off x="1950120" y="2837520"/>
              <a:ext cx="400680" cy="671400"/>
            </a:xfrm>
            <a:custGeom>
              <a:avLst/>
              <a:gdLst>
                <a:gd name="textAreaLeft" fmla="*/ 0 w 400680"/>
                <a:gd name="textAreaRight" fmla="*/ 401040 w 400680"/>
                <a:gd name="textAreaTop" fmla="*/ 0 h 671400"/>
                <a:gd name="textAreaBottom" fmla="*/ 671760 h 671400"/>
              </a:gdLst>
              <a:ahLst/>
              <a:rect l="textAreaLeft" t="textAreaTop" r="textAreaRight" b="textAreaBottom"/>
              <a:pathLst>
                <a:path w="238" h="399">
                  <a:moveTo>
                    <a:pt x="236" y="4"/>
                  </a:moveTo>
                  <a:lnTo>
                    <a:pt x="221" y="0"/>
                  </a:lnTo>
                  <a:lnTo>
                    <a:pt x="199" y="0"/>
                  </a:lnTo>
                  <a:lnTo>
                    <a:pt x="180" y="0"/>
                  </a:lnTo>
                  <a:lnTo>
                    <a:pt x="159" y="4"/>
                  </a:lnTo>
                  <a:lnTo>
                    <a:pt x="140" y="10"/>
                  </a:lnTo>
                  <a:lnTo>
                    <a:pt x="123" y="15"/>
                  </a:lnTo>
                  <a:lnTo>
                    <a:pt x="105" y="23"/>
                  </a:lnTo>
                  <a:lnTo>
                    <a:pt x="88" y="35"/>
                  </a:lnTo>
                  <a:lnTo>
                    <a:pt x="73" y="46"/>
                  </a:lnTo>
                  <a:lnTo>
                    <a:pt x="59" y="58"/>
                  </a:lnTo>
                  <a:lnTo>
                    <a:pt x="46" y="73"/>
                  </a:lnTo>
                  <a:lnTo>
                    <a:pt x="34" y="88"/>
                  </a:lnTo>
                  <a:lnTo>
                    <a:pt x="25" y="104"/>
                  </a:lnTo>
                  <a:lnTo>
                    <a:pt x="15" y="123"/>
                  </a:lnTo>
                  <a:lnTo>
                    <a:pt x="9" y="140"/>
                  </a:lnTo>
                  <a:lnTo>
                    <a:pt x="4" y="159"/>
                  </a:lnTo>
                  <a:lnTo>
                    <a:pt x="2" y="178"/>
                  </a:lnTo>
                  <a:lnTo>
                    <a:pt x="0" y="200"/>
                  </a:lnTo>
                  <a:lnTo>
                    <a:pt x="2" y="221"/>
                  </a:lnTo>
                  <a:lnTo>
                    <a:pt x="4" y="240"/>
                  </a:lnTo>
                  <a:lnTo>
                    <a:pt x="9" y="259"/>
                  </a:lnTo>
                  <a:lnTo>
                    <a:pt x="15" y="278"/>
                  </a:lnTo>
                  <a:lnTo>
                    <a:pt x="25" y="295"/>
                  </a:lnTo>
                  <a:lnTo>
                    <a:pt x="34" y="311"/>
                  </a:lnTo>
                  <a:lnTo>
                    <a:pt x="46" y="328"/>
                  </a:lnTo>
                  <a:lnTo>
                    <a:pt x="59" y="341"/>
                  </a:lnTo>
                  <a:lnTo>
                    <a:pt x="73" y="355"/>
                  </a:lnTo>
                  <a:lnTo>
                    <a:pt x="88" y="366"/>
                  </a:lnTo>
                  <a:lnTo>
                    <a:pt x="105" y="376"/>
                  </a:lnTo>
                  <a:lnTo>
                    <a:pt x="123" y="384"/>
                  </a:lnTo>
                  <a:lnTo>
                    <a:pt x="140" y="391"/>
                  </a:lnTo>
                  <a:lnTo>
                    <a:pt x="159" y="395"/>
                  </a:lnTo>
                  <a:lnTo>
                    <a:pt x="180" y="399"/>
                  </a:lnTo>
                  <a:lnTo>
                    <a:pt x="199" y="399"/>
                  </a:lnTo>
                  <a:lnTo>
                    <a:pt x="221" y="399"/>
                  </a:lnTo>
                  <a:lnTo>
                    <a:pt x="238" y="397"/>
                  </a:lnTo>
                  <a:lnTo>
                    <a:pt x="238" y="395"/>
                  </a:lnTo>
                  <a:lnTo>
                    <a:pt x="238" y="393"/>
                  </a:lnTo>
                  <a:lnTo>
                    <a:pt x="236" y="393"/>
                  </a:lnTo>
                  <a:lnTo>
                    <a:pt x="236" y="391"/>
                  </a:lnTo>
                  <a:lnTo>
                    <a:pt x="236" y="389"/>
                  </a:lnTo>
                  <a:lnTo>
                    <a:pt x="236" y="389"/>
                  </a:lnTo>
                  <a:lnTo>
                    <a:pt x="236" y="388"/>
                  </a:lnTo>
                  <a:lnTo>
                    <a:pt x="236" y="386"/>
                  </a:lnTo>
                  <a:lnTo>
                    <a:pt x="219" y="389"/>
                  </a:lnTo>
                  <a:lnTo>
                    <a:pt x="199" y="389"/>
                  </a:lnTo>
                  <a:lnTo>
                    <a:pt x="180" y="389"/>
                  </a:lnTo>
                  <a:lnTo>
                    <a:pt x="161" y="386"/>
                  </a:lnTo>
                  <a:lnTo>
                    <a:pt x="144" y="382"/>
                  </a:lnTo>
                  <a:lnTo>
                    <a:pt x="126" y="374"/>
                  </a:lnTo>
                  <a:lnTo>
                    <a:pt x="109" y="366"/>
                  </a:lnTo>
                  <a:lnTo>
                    <a:pt x="94" y="357"/>
                  </a:lnTo>
                  <a:lnTo>
                    <a:pt x="78" y="347"/>
                  </a:lnTo>
                  <a:lnTo>
                    <a:pt x="65" y="334"/>
                  </a:lnTo>
                  <a:lnTo>
                    <a:pt x="54" y="320"/>
                  </a:lnTo>
                  <a:lnTo>
                    <a:pt x="42" y="305"/>
                  </a:lnTo>
                  <a:lnTo>
                    <a:pt x="32" y="290"/>
                  </a:lnTo>
                  <a:lnTo>
                    <a:pt x="25" y="274"/>
                  </a:lnTo>
                  <a:lnTo>
                    <a:pt x="19" y="257"/>
                  </a:lnTo>
                  <a:lnTo>
                    <a:pt x="13" y="238"/>
                  </a:lnTo>
                  <a:lnTo>
                    <a:pt x="11" y="219"/>
                  </a:lnTo>
                  <a:lnTo>
                    <a:pt x="9" y="200"/>
                  </a:lnTo>
                  <a:lnTo>
                    <a:pt x="11" y="180"/>
                  </a:lnTo>
                  <a:lnTo>
                    <a:pt x="13" y="161"/>
                  </a:lnTo>
                  <a:lnTo>
                    <a:pt x="19" y="144"/>
                  </a:lnTo>
                  <a:lnTo>
                    <a:pt x="25" y="127"/>
                  </a:lnTo>
                  <a:lnTo>
                    <a:pt x="32" y="109"/>
                  </a:lnTo>
                  <a:lnTo>
                    <a:pt x="42" y="94"/>
                  </a:lnTo>
                  <a:lnTo>
                    <a:pt x="54" y="79"/>
                  </a:lnTo>
                  <a:lnTo>
                    <a:pt x="65" y="65"/>
                  </a:lnTo>
                  <a:lnTo>
                    <a:pt x="78" y="54"/>
                  </a:lnTo>
                  <a:lnTo>
                    <a:pt x="94" y="42"/>
                  </a:lnTo>
                  <a:lnTo>
                    <a:pt x="109" y="33"/>
                  </a:lnTo>
                  <a:lnTo>
                    <a:pt x="126" y="25"/>
                  </a:lnTo>
                  <a:lnTo>
                    <a:pt x="144" y="19"/>
                  </a:lnTo>
                  <a:lnTo>
                    <a:pt x="161" y="13"/>
                  </a:lnTo>
                  <a:lnTo>
                    <a:pt x="180" y="11"/>
                  </a:lnTo>
                  <a:lnTo>
                    <a:pt x="199" y="10"/>
                  </a:lnTo>
                  <a:lnTo>
                    <a:pt x="219" y="11"/>
                  </a:lnTo>
                  <a:lnTo>
                    <a:pt x="234" y="13"/>
                  </a:lnTo>
                  <a:lnTo>
                    <a:pt x="234" y="11"/>
                  </a:lnTo>
                  <a:lnTo>
                    <a:pt x="234" y="11"/>
                  </a:lnTo>
                  <a:lnTo>
                    <a:pt x="234" y="10"/>
                  </a:lnTo>
                  <a:lnTo>
                    <a:pt x="234" y="8"/>
                  </a:lnTo>
                  <a:lnTo>
                    <a:pt x="234" y="8"/>
                  </a:lnTo>
                  <a:lnTo>
                    <a:pt x="234" y="6"/>
                  </a:lnTo>
                  <a:lnTo>
                    <a:pt x="236" y="4"/>
                  </a:lnTo>
                  <a:lnTo>
                    <a:pt x="236" y="4"/>
                  </a:lnTo>
                  <a:close/>
                </a:path>
              </a:pathLst>
            </a:custGeom>
            <a:solidFill>
              <a:srgbClr val="d9e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Freeform 228"/>
            <p:cNvSpPr/>
            <p:nvPr/>
          </p:nvSpPr>
          <p:spPr>
            <a:xfrm>
              <a:off x="1960200" y="2844000"/>
              <a:ext cx="387000" cy="658080"/>
            </a:xfrm>
            <a:custGeom>
              <a:avLst/>
              <a:gdLst>
                <a:gd name="textAreaLeft" fmla="*/ 0 w 387000"/>
                <a:gd name="textAreaRight" fmla="*/ 387360 w 387000"/>
                <a:gd name="textAreaTop" fmla="*/ 0 h 658080"/>
                <a:gd name="textAreaBottom" fmla="*/ 658080 h 658080"/>
              </a:gdLst>
              <a:ahLst/>
              <a:rect l="textAreaLeft" t="textAreaTop" r="textAreaRight" b="textAreaBottom"/>
              <a:pathLst>
                <a:path w="230" h="391">
                  <a:moveTo>
                    <a:pt x="228" y="4"/>
                  </a:moveTo>
                  <a:lnTo>
                    <a:pt x="215" y="2"/>
                  </a:lnTo>
                  <a:lnTo>
                    <a:pt x="193" y="0"/>
                  </a:lnTo>
                  <a:lnTo>
                    <a:pt x="174" y="2"/>
                  </a:lnTo>
                  <a:lnTo>
                    <a:pt x="155" y="6"/>
                  </a:lnTo>
                  <a:lnTo>
                    <a:pt x="136" y="9"/>
                  </a:lnTo>
                  <a:lnTo>
                    <a:pt x="119" y="15"/>
                  </a:lnTo>
                  <a:lnTo>
                    <a:pt x="101" y="25"/>
                  </a:lnTo>
                  <a:lnTo>
                    <a:pt x="86" y="34"/>
                  </a:lnTo>
                  <a:lnTo>
                    <a:pt x="71" y="46"/>
                  </a:lnTo>
                  <a:lnTo>
                    <a:pt x="55" y="57"/>
                  </a:lnTo>
                  <a:lnTo>
                    <a:pt x="44" y="71"/>
                  </a:lnTo>
                  <a:lnTo>
                    <a:pt x="32" y="86"/>
                  </a:lnTo>
                  <a:lnTo>
                    <a:pt x="23" y="103"/>
                  </a:lnTo>
                  <a:lnTo>
                    <a:pt x="15" y="121"/>
                  </a:lnTo>
                  <a:lnTo>
                    <a:pt x="7" y="138"/>
                  </a:lnTo>
                  <a:lnTo>
                    <a:pt x="3" y="157"/>
                  </a:lnTo>
                  <a:lnTo>
                    <a:pt x="0" y="176"/>
                  </a:lnTo>
                  <a:lnTo>
                    <a:pt x="0" y="196"/>
                  </a:lnTo>
                  <a:lnTo>
                    <a:pt x="0" y="217"/>
                  </a:lnTo>
                  <a:lnTo>
                    <a:pt x="3" y="236"/>
                  </a:lnTo>
                  <a:lnTo>
                    <a:pt x="7" y="253"/>
                  </a:lnTo>
                  <a:lnTo>
                    <a:pt x="15" y="272"/>
                  </a:lnTo>
                  <a:lnTo>
                    <a:pt x="23" y="290"/>
                  </a:lnTo>
                  <a:lnTo>
                    <a:pt x="32" y="305"/>
                  </a:lnTo>
                  <a:lnTo>
                    <a:pt x="44" y="320"/>
                  </a:lnTo>
                  <a:lnTo>
                    <a:pt x="55" y="334"/>
                  </a:lnTo>
                  <a:lnTo>
                    <a:pt x="71" y="347"/>
                  </a:lnTo>
                  <a:lnTo>
                    <a:pt x="86" y="357"/>
                  </a:lnTo>
                  <a:lnTo>
                    <a:pt x="101" y="368"/>
                  </a:lnTo>
                  <a:lnTo>
                    <a:pt x="119" y="376"/>
                  </a:lnTo>
                  <a:lnTo>
                    <a:pt x="136" y="382"/>
                  </a:lnTo>
                  <a:lnTo>
                    <a:pt x="155" y="387"/>
                  </a:lnTo>
                  <a:lnTo>
                    <a:pt x="174" y="389"/>
                  </a:lnTo>
                  <a:lnTo>
                    <a:pt x="193" y="391"/>
                  </a:lnTo>
                  <a:lnTo>
                    <a:pt x="215" y="389"/>
                  </a:lnTo>
                  <a:lnTo>
                    <a:pt x="230" y="387"/>
                  </a:lnTo>
                  <a:lnTo>
                    <a:pt x="230" y="385"/>
                  </a:lnTo>
                  <a:lnTo>
                    <a:pt x="230" y="385"/>
                  </a:lnTo>
                  <a:lnTo>
                    <a:pt x="230" y="384"/>
                  </a:lnTo>
                  <a:lnTo>
                    <a:pt x="230" y="382"/>
                  </a:lnTo>
                  <a:lnTo>
                    <a:pt x="230" y="382"/>
                  </a:lnTo>
                  <a:lnTo>
                    <a:pt x="230" y="380"/>
                  </a:lnTo>
                  <a:lnTo>
                    <a:pt x="230" y="378"/>
                  </a:lnTo>
                  <a:lnTo>
                    <a:pt x="230" y="378"/>
                  </a:lnTo>
                  <a:lnTo>
                    <a:pt x="213" y="380"/>
                  </a:lnTo>
                  <a:lnTo>
                    <a:pt x="193" y="380"/>
                  </a:lnTo>
                  <a:lnTo>
                    <a:pt x="174" y="380"/>
                  </a:lnTo>
                  <a:lnTo>
                    <a:pt x="157" y="376"/>
                  </a:lnTo>
                  <a:lnTo>
                    <a:pt x="140" y="372"/>
                  </a:lnTo>
                  <a:lnTo>
                    <a:pt x="122" y="366"/>
                  </a:lnTo>
                  <a:lnTo>
                    <a:pt x="105" y="359"/>
                  </a:lnTo>
                  <a:lnTo>
                    <a:pt x="90" y="349"/>
                  </a:lnTo>
                  <a:lnTo>
                    <a:pt x="76" y="337"/>
                  </a:lnTo>
                  <a:lnTo>
                    <a:pt x="63" y="326"/>
                  </a:lnTo>
                  <a:lnTo>
                    <a:pt x="51" y="313"/>
                  </a:lnTo>
                  <a:lnTo>
                    <a:pt x="40" y="299"/>
                  </a:lnTo>
                  <a:lnTo>
                    <a:pt x="32" y="284"/>
                  </a:lnTo>
                  <a:lnTo>
                    <a:pt x="25" y="268"/>
                  </a:lnTo>
                  <a:lnTo>
                    <a:pt x="17" y="251"/>
                  </a:lnTo>
                  <a:lnTo>
                    <a:pt x="13" y="234"/>
                  </a:lnTo>
                  <a:lnTo>
                    <a:pt x="11" y="215"/>
                  </a:lnTo>
                  <a:lnTo>
                    <a:pt x="9" y="196"/>
                  </a:lnTo>
                  <a:lnTo>
                    <a:pt x="11" y="176"/>
                  </a:lnTo>
                  <a:lnTo>
                    <a:pt x="13" y="159"/>
                  </a:lnTo>
                  <a:lnTo>
                    <a:pt x="17" y="142"/>
                  </a:lnTo>
                  <a:lnTo>
                    <a:pt x="25" y="125"/>
                  </a:lnTo>
                  <a:lnTo>
                    <a:pt x="32" y="107"/>
                  </a:lnTo>
                  <a:lnTo>
                    <a:pt x="40" y="92"/>
                  </a:lnTo>
                  <a:lnTo>
                    <a:pt x="51" y="78"/>
                  </a:lnTo>
                  <a:lnTo>
                    <a:pt x="63" y="65"/>
                  </a:lnTo>
                  <a:lnTo>
                    <a:pt x="76" y="54"/>
                  </a:lnTo>
                  <a:lnTo>
                    <a:pt x="90" y="42"/>
                  </a:lnTo>
                  <a:lnTo>
                    <a:pt x="105" y="32"/>
                  </a:lnTo>
                  <a:lnTo>
                    <a:pt x="122" y="25"/>
                  </a:lnTo>
                  <a:lnTo>
                    <a:pt x="140" y="19"/>
                  </a:lnTo>
                  <a:lnTo>
                    <a:pt x="157" y="15"/>
                  </a:lnTo>
                  <a:lnTo>
                    <a:pt x="174" y="11"/>
                  </a:lnTo>
                  <a:lnTo>
                    <a:pt x="193" y="11"/>
                  </a:lnTo>
                  <a:lnTo>
                    <a:pt x="213" y="11"/>
                  </a:lnTo>
                  <a:lnTo>
                    <a:pt x="228" y="15"/>
                  </a:lnTo>
                  <a:lnTo>
                    <a:pt x="228" y="13"/>
                  </a:lnTo>
                  <a:lnTo>
                    <a:pt x="228" y="11"/>
                  </a:lnTo>
                  <a:lnTo>
                    <a:pt x="228" y="11"/>
                  </a:lnTo>
                  <a:lnTo>
                    <a:pt x="228" y="9"/>
                  </a:lnTo>
                  <a:lnTo>
                    <a:pt x="228" y="7"/>
                  </a:lnTo>
                  <a:lnTo>
                    <a:pt x="228" y="7"/>
                  </a:lnTo>
                  <a:lnTo>
                    <a:pt x="228" y="6"/>
                  </a:lnTo>
                  <a:lnTo>
                    <a:pt x="228" y="4"/>
                  </a:lnTo>
                  <a:close/>
                </a:path>
              </a:pathLst>
            </a:custGeom>
            <a:solidFill>
              <a:srgbClr val="daf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Freeform 229"/>
            <p:cNvSpPr/>
            <p:nvPr/>
          </p:nvSpPr>
          <p:spPr>
            <a:xfrm>
              <a:off x="1965240" y="2854080"/>
              <a:ext cx="381960" cy="63792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637920"/>
                <a:gd name="textAreaBottom" fmla="*/ 638280 h 637920"/>
              </a:gdLst>
              <a:ahLst/>
              <a:rect l="textAreaLeft" t="textAreaTop" r="textAreaRight" b="textAreaBottom"/>
              <a:pathLst>
                <a:path w="227" h="379">
                  <a:moveTo>
                    <a:pt x="225" y="3"/>
                  </a:moveTo>
                  <a:lnTo>
                    <a:pt x="210" y="1"/>
                  </a:lnTo>
                  <a:lnTo>
                    <a:pt x="190" y="0"/>
                  </a:lnTo>
                  <a:lnTo>
                    <a:pt x="171" y="1"/>
                  </a:lnTo>
                  <a:lnTo>
                    <a:pt x="152" y="3"/>
                  </a:lnTo>
                  <a:lnTo>
                    <a:pt x="135" y="9"/>
                  </a:lnTo>
                  <a:lnTo>
                    <a:pt x="117" y="15"/>
                  </a:lnTo>
                  <a:lnTo>
                    <a:pt x="100" y="23"/>
                  </a:lnTo>
                  <a:lnTo>
                    <a:pt x="85" y="32"/>
                  </a:lnTo>
                  <a:lnTo>
                    <a:pt x="69" y="44"/>
                  </a:lnTo>
                  <a:lnTo>
                    <a:pt x="56" y="55"/>
                  </a:lnTo>
                  <a:lnTo>
                    <a:pt x="45" y="69"/>
                  </a:lnTo>
                  <a:lnTo>
                    <a:pt x="33" y="84"/>
                  </a:lnTo>
                  <a:lnTo>
                    <a:pt x="23" y="99"/>
                  </a:lnTo>
                  <a:lnTo>
                    <a:pt x="16" y="117"/>
                  </a:lnTo>
                  <a:lnTo>
                    <a:pt x="10" y="134"/>
                  </a:lnTo>
                  <a:lnTo>
                    <a:pt x="4" y="151"/>
                  </a:lnTo>
                  <a:lnTo>
                    <a:pt x="2" y="170"/>
                  </a:lnTo>
                  <a:lnTo>
                    <a:pt x="0" y="190"/>
                  </a:lnTo>
                  <a:lnTo>
                    <a:pt x="2" y="209"/>
                  </a:lnTo>
                  <a:lnTo>
                    <a:pt x="4" y="228"/>
                  </a:lnTo>
                  <a:lnTo>
                    <a:pt x="10" y="247"/>
                  </a:lnTo>
                  <a:lnTo>
                    <a:pt x="16" y="264"/>
                  </a:lnTo>
                  <a:lnTo>
                    <a:pt x="23" y="280"/>
                  </a:lnTo>
                  <a:lnTo>
                    <a:pt x="33" y="295"/>
                  </a:lnTo>
                  <a:lnTo>
                    <a:pt x="45" y="310"/>
                  </a:lnTo>
                  <a:lnTo>
                    <a:pt x="56" y="324"/>
                  </a:lnTo>
                  <a:lnTo>
                    <a:pt x="69" y="337"/>
                  </a:lnTo>
                  <a:lnTo>
                    <a:pt x="85" y="347"/>
                  </a:lnTo>
                  <a:lnTo>
                    <a:pt x="100" y="356"/>
                  </a:lnTo>
                  <a:lnTo>
                    <a:pt x="117" y="364"/>
                  </a:lnTo>
                  <a:lnTo>
                    <a:pt x="135" y="372"/>
                  </a:lnTo>
                  <a:lnTo>
                    <a:pt x="152" y="376"/>
                  </a:lnTo>
                  <a:lnTo>
                    <a:pt x="171" y="379"/>
                  </a:lnTo>
                  <a:lnTo>
                    <a:pt x="190" y="379"/>
                  </a:lnTo>
                  <a:lnTo>
                    <a:pt x="210" y="379"/>
                  </a:lnTo>
                  <a:lnTo>
                    <a:pt x="227" y="376"/>
                  </a:lnTo>
                  <a:lnTo>
                    <a:pt x="227" y="376"/>
                  </a:lnTo>
                  <a:lnTo>
                    <a:pt x="227" y="374"/>
                  </a:lnTo>
                  <a:lnTo>
                    <a:pt x="227" y="372"/>
                  </a:lnTo>
                  <a:lnTo>
                    <a:pt x="227" y="372"/>
                  </a:lnTo>
                  <a:lnTo>
                    <a:pt x="227" y="370"/>
                  </a:lnTo>
                  <a:lnTo>
                    <a:pt x="227" y="368"/>
                  </a:lnTo>
                  <a:lnTo>
                    <a:pt x="227" y="368"/>
                  </a:lnTo>
                  <a:lnTo>
                    <a:pt x="227" y="366"/>
                  </a:lnTo>
                  <a:lnTo>
                    <a:pt x="210" y="368"/>
                  </a:lnTo>
                  <a:lnTo>
                    <a:pt x="190" y="370"/>
                  </a:lnTo>
                  <a:lnTo>
                    <a:pt x="173" y="368"/>
                  </a:lnTo>
                  <a:lnTo>
                    <a:pt x="154" y="366"/>
                  </a:lnTo>
                  <a:lnTo>
                    <a:pt x="137" y="362"/>
                  </a:lnTo>
                  <a:lnTo>
                    <a:pt x="121" y="355"/>
                  </a:lnTo>
                  <a:lnTo>
                    <a:pt x="106" y="347"/>
                  </a:lnTo>
                  <a:lnTo>
                    <a:pt x="91" y="339"/>
                  </a:lnTo>
                  <a:lnTo>
                    <a:pt x="77" y="328"/>
                  </a:lnTo>
                  <a:lnTo>
                    <a:pt x="64" y="316"/>
                  </a:lnTo>
                  <a:lnTo>
                    <a:pt x="52" y="305"/>
                  </a:lnTo>
                  <a:lnTo>
                    <a:pt x="43" y="289"/>
                  </a:lnTo>
                  <a:lnTo>
                    <a:pt x="33" y="276"/>
                  </a:lnTo>
                  <a:lnTo>
                    <a:pt x="25" y="261"/>
                  </a:lnTo>
                  <a:lnTo>
                    <a:pt x="20" y="243"/>
                  </a:lnTo>
                  <a:lnTo>
                    <a:pt x="16" y="226"/>
                  </a:lnTo>
                  <a:lnTo>
                    <a:pt x="12" y="209"/>
                  </a:lnTo>
                  <a:lnTo>
                    <a:pt x="12" y="190"/>
                  </a:lnTo>
                  <a:lnTo>
                    <a:pt x="12" y="172"/>
                  </a:lnTo>
                  <a:lnTo>
                    <a:pt x="16" y="153"/>
                  </a:lnTo>
                  <a:lnTo>
                    <a:pt x="20" y="136"/>
                  </a:lnTo>
                  <a:lnTo>
                    <a:pt x="25" y="120"/>
                  </a:lnTo>
                  <a:lnTo>
                    <a:pt x="33" y="105"/>
                  </a:lnTo>
                  <a:lnTo>
                    <a:pt x="43" y="90"/>
                  </a:lnTo>
                  <a:lnTo>
                    <a:pt x="52" y="76"/>
                  </a:lnTo>
                  <a:lnTo>
                    <a:pt x="64" y="63"/>
                  </a:lnTo>
                  <a:lnTo>
                    <a:pt x="77" y="51"/>
                  </a:lnTo>
                  <a:lnTo>
                    <a:pt x="91" y="42"/>
                  </a:lnTo>
                  <a:lnTo>
                    <a:pt x="106" y="32"/>
                  </a:lnTo>
                  <a:lnTo>
                    <a:pt x="121" y="25"/>
                  </a:lnTo>
                  <a:lnTo>
                    <a:pt x="137" y="19"/>
                  </a:lnTo>
                  <a:lnTo>
                    <a:pt x="154" y="13"/>
                  </a:lnTo>
                  <a:lnTo>
                    <a:pt x="173" y="11"/>
                  </a:lnTo>
                  <a:lnTo>
                    <a:pt x="190" y="11"/>
                  </a:lnTo>
                  <a:lnTo>
                    <a:pt x="210" y="11"/>
                  </a:lnTo>
                  <a:lnTo>
                    <a:pt x="225" y="13"/>
                  </a:lnTo>
                  <a:lnTo>
                    <a:pt x="225" y="13"/>
                  </a:lnTo>
                  <a:lnTo>
                    <a:pt x="225" y="11"/>
                  </a:lnTo>
                  <a:lnTo>
                    <a:pt x="225" y="9"/>
                  </a:lnTo>
                  <a:lnTo>
                    <a:pt x="225" y="9"/>
                  </a:lnTo>
                  <a:lnTo>
                    <a:pt x="225" y="7"/>
                  </a:lnTo>
                  <a:lnTo>
                    <a:pt x="225" y="5"/>
                  </a:lnTo>
                  <a:lnTo>
                    <a:pt x="225" y="5"/>
                  </a:lnTo>
                  <a:lnTo>
                    <a:pt x="225" y="3"/>
                  </a:lnTo>
                  <a:close/>
                </a:path>
              </a:pathLst>
            </a:custGeom>
            <a:solidFill>
              <a:srgbClr val="dbf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Freeform 230"/>
            <p:cNvSpPr/>
            <p:nvPr/>
          </p:nvSpPr>
          <p:spPr>
            <a:xfrm>
              <a:off x="1975320" y="2862720"/>
              <a:ext cx="372240" cy="621000"/>
            </a:xfrm>
            <a:custGeom>
              <a:avLst/>
              <a:gdLst>
                <a:gd name="textAreaLeft" fmla="*/ 0 w 372240"/>
                <a:gd name="textAreaRight" fmla="*/ 372600 w 372240"/>
                <a:gd name="textAreaTop" fmla="*/ 0 h 621000"/>
                <a:gd name="textAreaBottom" fmla="*/ 621360 h 621000"/>
              </a:gdLst>
              <a:ahLst/>
              <a:rect l="textAreaLeft" t="textAreaTop" r="textAreaRight" b="textAreaBottom"/>
              <a:pathLst>
                <a:path w="221" h="369">
                  <a:moveTo>
                    <a:pt x="219" y="4"/>
                  </a:moveTo>
                  <a:lnTo>
                    <a:pt x="204" y="0"/>
                  </a:lnTo>
                  <a:lnTo>
                    <a:pt x="184" y="0"/>
                  </a:lnTo>
                  <a:lnTo>
                    <a:pt x="165" y="0"/>
                  </a:lnTo>
                  <a:lnTo>
                    <a:pt x="148" y="4"/>
                  </a:lnTo>
                  <a:lnTo>
                    <a:pt x="131" y="8"/>
                  </a:lnTo>
                  <a:lnTo>
                    <a:pt x="113" y="14"/>
                  </a:lnTo>
                  <a:lnTo>
                    <a:pt x="96" y="21"/>
                  </a:lnTo>
                  <a:lnTo>
                    <a:pt x="81" y="31"/>
                  </a:lnTo>
                  <a:lnTo>
                    <a:pt x="67" y="43"/>
                  </a:lnTo>
                  <a:lnTo>
                    <a:pt x="54" y="54"/>
                  </a:lnTo>
                  <a:lnTo>
                    <a:pt x="42" y="67"/>
                  </a:lnTo>
                  <a:lnTo>
                    <a:pt x="31" y="81"/>
                  </a:lnTo>
                  <a:lnTo>
                    <a:pt x="23" y="96"/>
                  </a:lnTo>
                  <a:lnTo>
                    <a:pt x="16" y="114"/>
                  </a:lnTo>
                  <a:lnTo>
                    <a:pt x="8" y="131"/>
                  </a:lnTo>
                  <a:lnTo>
                    <a:pt x="4" y="148"/>
                  </a:lnTo>
                  <a:lnTo>
                    <a:pt x="2" y="165"/>
                  </a:lnTo>
                  <a:lnTo>
                    <a:pt x="0" y="185"/>
                  </a:lnTo>
                  <a:lnTo>
                    <a:pt x="2" y="204"/>
                  </a:lnTo>
                  <a:lnTo>
                    <a:pt x="4" y="223"/>
                  </a:lnTo>
                  <a:lnTo>
                    <a:pt x="8" y="240"/>
                  </a:lnTo>
                  <a:lnTo>
                    <a:pt x="16" y="257"/>
                  </a:lnTo>
                  <a:lnTo>
                    <a:pt x="23" y="273"/>
                  </a:lnTo>
                  <a:lnTo>
                    <a:pt x="31" y="288"/>
                  </a:lnTo>
                  <a:lnTo>
                    <a:pt x="42" y="302"/>
                  </a:lnTo>
                  <a:lnTo>
                    <a:pt x="54" y="315"/>
                  </a:lnTo>
                  <a:lnTo>
                    <a:pt x="67" y="326"/>
                  </a:lnTo>
                  <a:lnTo>
                    <a:pt x="81" y="338"/>
                  </a:lnTo>
                  <a:lnTo>
                    <a:pt x="96" y="348"/>
                  </a:lnTo>
                  <a:lnTo>
                    <a:pt x="113" y="355"/>
                  </a:lnTo>
                  <a:lnTo>
                    <a:pt x="131" y="361"/>
                  </a:lnTo>
                  <a:lnTo>
                    <a:pt x="148" y="365"/>
                  </a:lnTo>
                  <a:lnTo>
                    <a:pt x="165" y="369"/>
                  </a:lnTo>
                  <a:lnTo>
                    <a:pt x="184" y="369"/>
                  </a:lnTo>
                  <a:lnTo>
                    <a:pt x="204" y="369"/>
                  </a:lnTo>
                  <a:lnTo>
                    <a:pt x="221" y="367"/>
                  </a:lnTo>
                  <a:lnTo>
                    <a:pt x="221" y="365"/>
                  </a:lnTo>
                  <a:lnTo>
                    <a:pt x="221" y="363"/>
                  </a:lnTo>
                  <a:lnTo>
                    <a:pt x="221" y="363"/>
                  </a:lnTo>
                  <a:lnTo>
                    <a:pt x="221" y="361"/>
                  </a:lnTo>
                  <a:lnTo>
                    <a:pt x="221" y="359"/>
                  </a:lnTo>
                  <a:lnTo>
                    <a:pt x="221" y="359"/>
                  </a:lnTo>
                  <a:lnTo>
                    <a:pt x="221" y="357"/>
                  </a:lnTo>
                  <a:lnTo>
                    <a:pt x="219" y="355"/>
                  </a:lnTo>
                  <a:lnTo>
                    <a:pt x="204" y="359"/>
                  </a:lnTo>
                  <a:lnTo>
                    <a:pt x="184" y="359"/>
                  </a:lnTo>
                  <a:lnTo>
                    <a:pt x="167" y="359"/>
                  </a:lnTo>
                  <a:lnTo>
                    <a:pt x="150" y="355"/>
                  </a:lnTo>
                  <a:lnTo>
                    <a:pt x="133" y="351"/>
                  </a:lnTo>
                  <a:lnTo>
                    <a:pt x="117" y="346"/>
                  </a:lnTo>
                  <a:lnTo>
                    <a:pt x="102" y="338"/>
                  </a:lnTo>
                  <a:lnTo>
                    <a:pt x="87" y="330"/>
                  </a:lnTo>
                  <a:lnTo>
                    <a:pt x="73" y="319"/>
                  </a:lnTo>
                  <a:lnTo>
                    <a:pt x="62" y="307"/>
                  </a:lnTo>
                  <a:lnTo>
                    <a:pt x="50" y="296"/>
                  </a:lnTo>
                  <a:lnTo>
                    <a:pt x="40" y="282"/>
                  </a:lnTo>
                  <a:lnTo>
                    <a:pt x="31" y="267"/>
                  </a:lnTo>
                  <a:lnTo>
                    <a:pt x="25" y="254"/>
                  </a:lnTo>
                  <a:lnTo>
                    <a:pt x="17" y="236"/>
                  </a:lnTo>
                  <a:lnTo>
                    <a:pt x="14" y="219"/>
                  </a:lnTo>
                  <a:lnTo>
                    <a:pt x="12" y="202"/>
                  </a:lnTo>
                  <a:lnTo>
                    <a:pt x="10" y="185"/>
                  </a:lnTo>
                  <a:lnTo>
                    <a:pt x="12" y="167"/>
                  </a:lnTo>
                  <a:lnTo>
                    <a:pt x="14" y="150"/>
                  </a:lnTo>
                  <a:lnTo>
                    <a:pt x="17" y="133"/>
                  </a:lnTo>
                  <a:lnTo>
                    <a:pt x="25" y="117"/>
                  </a:lnTo>
                  <a:lnTo>
                    <a:pt x="31" y="102"/>
                  </a:lnTo>
                  <a:lnTo>
                    <a:pt x="40" y="87"/>
                  </a:lnTo>
                  <a:lnTo>
                    <a:pt x="50" y="73"/>
                  </a:lnTo>
                  <a:lnTo>
                    <a:pt x="62" y="62"/>
                  </a:lnTo>
                  <a:lnTo>
                    <a:pt x="73" y="50"/>
                  </a:lnTo>
                  <a:lnTo>
                    <a:pt x="87" y="41"/>
                  </a:lnTo>
                  <a:lnTo>
                    <a:pt x="102" y="31"/>
                  </a:lnTo>
                  <a:lnTo>
                    <a:pt x="117" y="23"/>
                  </a:lnTo>
                  <a:lnTo>
                    <a:pt x="133" y="18"/>
                  </a:lnTo>
                  <a:lnTo>
                    <a:pt x="150" y="14"/>
                  </a:lnTo>
                  <a:lnTo>
                    <a:pt x="167" y="12"/>
                  </a:lnTo>
                  <a:lnTo>
                    <a:pt x="184" y="10"/>
                  </a:lnTo>
                  <a:lnTo>
                    <a:pt x="204" y="12"/>
                  </a:lnTo>
                  <a:lnTo>
                    <a:pt x="219" y="14"/>
                  </a:lnTo>
                  <a:lnTo>
                    <a:pt x="219" y="12"/>
                  </a:lnTo>
                  <a:lnTo>
                    <a:pt x="219" y="12"/>
                  </a:lnTo>
                  <a:lnTo>
                    <a:pt x="219" y="10"/>
                  </a:lnTo>
                  <a:lnTo>
                    <a:pt x="219" y="8"/>
                  </a:lnTo>
                  <a:lnTo>
                    <a:pt x="219" y="8"/>
                  </a:lnTo>
                  <a:lnTo>
                    <a:pt x="219" y="6"/>
                  </a:lnTo>
                  <a:lnTo>
                    <a:pt x="219" y="4"/>
                  </a:lnTo>
                  <a:lnTo>
                    <a:pt x="219" y="4"/>
                  </a:lnTo>
                  <a:close/>
                </a:path>
              </a:pathLst>
            </a:custGeom>
            <a:solidFill>
              <a:srgbClr val="dcf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Freeform 231"/>
            <p:cNvSpPr/>
            <p:nvPr/>
          </p:nvSpPr>
          <p:spPr>
            <a:xfrm>
              <a:off x="1985400" y="2872440"/>
              <a:ext cx="361800" cy="60444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04440"/>
                <a:gd name="textAreaBottom" fmla="*/ 604800 h 604440"/>
              </a:gdLst>
              <a:ahLst/>
              <a:rect l="textAreaLeft" t="textAreaTop" r="textAreaRight" b="textAreaBottom"/>
              <a:pathLst>
                <a:path w="215" h="359">
                  <a:moveTo>
                    <a:pt x="213" y="2"/>
                  </a:moveTo>
                  <a:lnTo>
                    <a:pt x="198" y="0"/>
                  </a:lnTo>
                  <a:lnTo>
                    <a:pt x="178" y="0"/>
                  </a:lnTo>
                  <a:lnTo>
                    <a:pt x="161" y="0"/>
                  </a:lnTo>
                  <a:lnTo>
                    <a:pt x="142" y="2"/>
                  </a:lnTo>
                  <a:lnTo>
                    <a:pt x="125" y="8"/>
                  </a:lnTo>
                  <a:lnTo>
                    <a:pt x="109" y="14"/>
                  </a:lnTo>
                  <a:lnTo>
                    <a:pt x="94" y="21"/>
                  </a:lnTo>
                  <a:lnTo>
                    <a:pt x="79" y="31"/>
                  </a:lnTo>
                  <a:lnTo>
                    <a:pt x="65" y="40"/>
                  </a:lnTo>
                  <a:lnTo>
                    <a:pt x="52" y="52"/>
                  </a:lnTo>
                  <a:lnTo>
                    <a:pt x="40" y="65"/>
                  </a:lnTo>
                  <a:lnTo>
                    <a:pt x="31" y="79"/>
                  </a:lnTo>
                  <a:lnTo>
                    <a:pt x="21" y="94"/>
                  </a:lnTo>
                  <a:lnTo>
                    <a:pt x="13" y="109"/>
                  </a:lnTo>
                  <a:lnTo>
                    <a:pt x="8" y="125"/>
                  </a:lnTo>
                  <a:lnTo>
                    <a:pt x="4" y="142"/>
                  </a:lnTo>
                  <a:lnTo>
                    <a:pt x="0" y="161"/>
                  </a:lnTo>
                  <a:lnTo>
                    <a:pt x="0" y="179"/>
                  </a:lnTo>
                  <a:lnTo>
                    <a:pt x="0" y="198"/>
                  </a:lnTo>
                  <a:lnTo>
                    <a:pt x="4" y="215"/>
                  </a:lnTo>
                  <a:lnTo>
                    <a:pt x="8" y="232"/>
                  </a:lnTo>
                  <a:lnTo>
                    <a:pt x="13" y="250"/>
                  </a:lnTo>
                  <a:lnTo>
                    <a:pt x="21" y="265"/>
                  </a:lnTo>
                  <a:lnTo>
                    <a:pt x="31" y="278"/>
                  </a:lnTo>
                  <a:lnTo>
                    <a:pt x="40" y="294"/>
                  </a:lnTo>
                  <a:lnTo>
                    <a:pt x="52" y="305"/>
                  </a:lnTo>
                  <a:lnTo>
                    <a:pt x="65" y="317"/>
                  </a:lnTo>
                  <a:lnTo>
                    <a:pt x="79" y="328"/>
                  </a:lnTo>
                  <a:lnTo>
                    <a:pt x="94" y="336"/>
                  </a:lnTo>
                  <a:lnTo>
                    <a:pt x="109" y="344"/>
                  </a:lnTo>
                  <a:lnTo>
                    <a:pt x="125" y="351"/>
                  </a:lnTo>
                  <a:lnTo>
                    <a:pt x="142" y="355"/>
                  </a:lnTo>
                  <a:lnTo>
                    <a:pt x="161" y="357"/>
                  </a:lnTo>
                  <a:lnTo>
                    <a:pt x="178" y="359"/>
                  </a:lnTo>
                  <a:lnTo>
                    <a:pt x="198" y="357"/>
                  </a:lnTo>
                  <a:lnTo>
                    <a:pt x="215" y="355"/>
                  </a:lnTo>
                  <a:lnTo>
                    <a:pt x="215" y="353"/>
                  </a:lnTo>
                  <a:lnTo>
                    <a:pt x="215" y="353"/>
                  </a:lnTo>
                  <a:lnTo>
                    <a:pt x="215" y="351"/>
                  </a:lnTo>
                  <a:lnTo>
                    <a:pt x="213" y="349"/>
                  </a:lnTo>
                  <a:lnTo>
                    <a:pt x="213" y="349"/>
                  </a:lnTo>
                  <a:lnTo>
                    <a:pt x="213" y="347"/>
                  </a:lnTo>
                  <a:lnTo>
                    <a:pt x="213" y="345"/>
                  </a:lnTo>
                  <a:lnTo>
                    <a:pt x="213" y="345"/>
                  </a:lnTo>
                  <a:lnTo>
                    <a:pt x="213" y="345"/>
                  </a:lnTo>
                  <a:lnTo>
                    <a:pt x="196" y="347"/>
                  </a:lnTo>
                  <a:lnTo>
                    <a:pt x="178" y="347"/>
                  </a:lnTo>
                  <a:lnTo>
                    <a:pt x="161" y="347"/>
                  </a:lnTo>
                  <a:lnTo>
                    <a:pt x="146" y="345"/>
                  </a:lnTo>
                  <a:lnTo>
                    <a:pt x="129" y="340"/>
                  </a:lnTo>
                  <a:lnTo>
                    <a:pt x="113" y="334"/>
                  </a:lnTo>
                  <a:lnTo>
                    <a:pt x="98" y="328"/>
                  </a:lnTo>
                  <a:lnTo>
                    <a:pt x="84" y="319"/>
                  </a:lnTo>
                  <a:lnTo>
                    <a:pt x="71" y="309"/>
                  </a:lnTo>
                  <a:lnTo>
                    <a:pt x="59" y="299"/>
                  </a:lnTo>
                  <a:lnTo>
                    <a:pt x="48" y="286"/>
                  </a:lnTo>
                  <a:lnTo>
                    <a:pt x="38" y="273"/>
                  </a:lnTo>
                  <a:lnTo>
                    <a:pt x="31" y="259"/>
                  </a:lnTo>
                  <a:lnTo>
                    <a:pt x="23" y="246"/>
                  </a:lnTo>
                  <a:lnTo>
                    <a:pt x="17" y="228"/>
                  </a:lnTo>
                  <a:lnTo>
                    <a:pt x="13" y="213"/>
                  </a:lnTo>
                  <a:lnTo>
                    <a:pt x="11" y="196"/>
                  </a:lnTo>
                  <a:lnTo>
                    <a:pt x="10" y="179"/>
                  </a:lnTo>
                  <a:lnTo>
                    <a:pt x="11" y="161"/>
                  </a:lnTo>
                  <a:lnTo>
                    <a:pt x="13" y="144"/>
                  </a:lnTo>
                  <a:lnTo>
                    <a:pt x="17" y="129"/>
                  </a:lnTo>
                  <a:lnTo>
                    <a:pt x="23" y="113"/>
                  </a:lnTo>
                  <a:lnTo>
                    <a:pt x="31" y="98"/>
                  </a:lnTo>
                  <a:lnTo>
                    <a:pt x="38" y="85"/>
                  </a:lnTo>
                  <a:lnTo>
                    <a:pt x="48" y="71"/>
                  </a:lnTo>
                  <a:lnTo>
                    <a:pt x="59" y="60"/>
                  </a:lnTo>
                  <a:lnTo>
                    <a:pt x="71" y="48"/>
                  </a:lnTo>
                  <a:lnTo>
                    <a:pt x="84" y="38"/>
                  </a:lnTo>
                  <a:lnTo>
                    <a:pt x="98" y="31"/>
                  </a:lnTo>
                  <a:lnTo>
                    <a:pt x="113" y="23"/>
                  </a:lnTo>
                  <a:lnTo>
                    <a:pt x="129" y="17"/>
                  </a:lnTo>
                  <a:lnTo>
                    <a:pt x="146" y="14"/>
                  </a:lnTo>
                  <a:lnTo>
                    <a:pt x="161" y="10"/>
                  </a:lnTo>
                  <a:lnTo>
                    <a:pt x="178" y="10"/>
                  </a:lnTo>
                  <a:lnTo>
                    <a:pt x="196" y="10"/>
                  </a:lnTo>
                  <a:lnTo>
                    <a:pt x="211" y="14"/>
                  </a:lnTo>
                  <a:lnTo>
                    <a:pt x="211" y="12"/>
                  </a:lnTo>
                  <a:lnTo>
                    <a:pt x="211" y="10"/>
                  </a:lnTo>
                  <a:lnTo>
                    <a:pt x="211" y="10"/>
                  </a:lnTo>
                  <a:lnTo>
                    <a:pt x="213" y="8"/>
                  </a:lnTo>
                  <a:lnTo>
                    <a:pt x="213" y="6"/>
                  </a:lnTo>
                  <a:lnTo>
                    <a:pt x="213" y="6"/>
                  </a:lnTo>
                  <a:lnTo>
                    <a:pt x="213" y="4"/>
                  </a:lnTo>
                  <a:lnTo>
                    <a:pt x="213" y="2"/>
                  </a:lnTo>
                  <a:close/>
                </a:path>
              </a:pathLst>
            </a:custGeom>
            <a:solidFill>
              <a:srgbClr val="ddf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Freeform 232"/>
            <p:cNvSpPr/>
            <p:nvPr/>
          </p:nvSpPr>
          <p:spPr>
            <a:xfrm>
              <a:off x="1991880" y="2879280"/>
              <a:ext cx="352080" cy="587520"/>
            </a:xfrm>
            <a:custGeom>
              <a:avLst/>
              <a:gdLst>
                <a:gd name="textAreaLeft" fmla="*/ 0 w 352080"/>
                <a:gd name="textAreaRight" fmla="*/ 352440 w 352080"/>
                <a:gd name="textAreaTop" fmla="*/ 0 h 587520"/>
                <a:gd name="textAreaBottom" fmla="*/ 587880 h 587520"/>
              </a:gdLst>
              <a:ahLst/>
              <a:rect l="textAreaLeft" t="textAreaTop" r="textAreaRight" b="textAreaBottom"/>
              <a:pathLst>
                <a:path w="209" h="349">
                  <a:moveTo>
                    <a:pt x="209" y="4"/>
                  </a:moveTo>
                  <a:lnTo>
                    <a:pt x="194" y="2"/>
                  </a:lnTo>
                  <a:lnTo>
                    <a:pt x="174" y="0"/>
                  </a:lnTo>
                  <a:lnTo>
                    <a:pt x="157" y="2"/>
                  </a:lnTo>
                  <a:lnTo>
                    <a:pt x="140" y="4"/>
                  </a:lnTo>
                  <a:lnTo>
                    <a:pt x="123" y="8"/>
                  </a:lnTo>
                  <a:lnTo>
                    <a:pt x="107" y="13"/>
                  </a:lnTo>
                  <a:lnTo>
                    <a:pt x="92" y="21"/>
                  </a:lnTo>
                  <a:lnTo>
                    <a:pt x="77" y="31"/>
                  </a:lnTo>
                  <a:lnTo>
                    <a:pt x="63" y="40"/>
                  </a:lnTo>
                  <a:lnTo>
                    <a:pt x="52" y="52"/>
                  </a:lnTo>
                  <a:lnTo>
                    <a:pt x="40" y="63"/>
                  </a:lnTo>
                  <a:lnTo>
                    <a:pt x="30" y="77"/>
                  </a:lnTo>
                  <a:lnTo>
                    <a:pt x="21" y="92"/>
                  </a:lnTo>
                  <a:lnTo>
                    <a:pt x="15" y="107"/>
                  </a:lnTo>
                  <a:lnTo>
                    <a:pt x="7" y="123"/>
                  </a:lnTo>
                  <a:lnTo>
                    <a:pt x="4" y="140"/>
                  </a:lnTo>
                  <a:lnTo>
                    <a:pt x="2" y="157"/>
                  </a:lnTo>
                  <a:lnTo>
                    <a:pt x="0" y="175"/>
                  </a:lnTo>
                  <a:lnTo>
                    <a:pt x="2" y="192"/>
                  </a:lnTo>
                  <a:lnTo>
                    <a:pt x="4" y="209"/>
                  </a:lnTo>
                  <a:lnTo>
                    <a:pt x="7" y="226"/>
                  </a:lnTo>
                  <a:lnTo>
                    <a:pt x="15" y="244"/>
                  </a:lnTo>
                  <a:lnTo>
                    <a:pt x="21" y="257"/>
                  </a:lnTo>
                  <a:lnTo>
                    <a:pt x="30" y="272"/>
                  </a:lnTo>
                  <a:lnTo>
                    <a:pt x="40" y="286"/>
                  </a:lnTo>
                  <a:lnTo>
                    <a:pt x="52" y="297"/>
                  </a:lnTo>
                  <a:lnTo>
                    <a:pt x="63" y="309"/>
                  </a:lnTo>
                  <a:lnTo>
                    <a:pt x="77" y="320"/>
                  </a:lnTo>
                  <a:lnTo>
                    <a:pt x="92" y="328"/>
                  </a:lnTo>
                  <a:lnTo>
                    <a:pt x="107" y="336"/>
                  </a:lnTo>
                  <a:lnTo>
                    <a:pt x="123" y="341"/>
                  </a:lnTo>
                  <a:lnTo>
                    <a:pt x="140" y="345"/>
                  </a:lnTo>
                  <a:lnTo>
                    <a:pt x="157" y="349"/>
                  </a:lnTo>
                  <a:lnTo>
                    <a:pt x="174" y="349"/>
                  </a:lnTo>
                  <a:lnTo>
                    <a:pt x="194" y="349"/>
                  </a:lnTo>
                  <a:lnTo>
                    <a:pt x="209" y="345"/>
                  </a:lnTo>
                  <a:lnTo>
                    <a:pt x="209" y="345"/>
                  </a:lnTo>
                  <a:lnTo>
                    <a:pt x="209" y="343"/>
                  </a:lnTo>
                  <a:lnTo>
                    <a:pt x="209" y="341"/>
                  </a:lnTo>
                  <a:lnTo>
                    <a:pt x="209" y="341"/>
                  </a:lnTo>
                  <a:lnTo>
                    <a:pt x="209" y="340"/>
                  </a:lnTo>
                  <a:lnTo>
                    <a:pt x="209" y="338"/>
                  </a:lnTo>
                  <a:lnTo>
                    <a:pt x="209" y="338"/>
                  </a:lnTo>
                  <a:lnTo>
                    <a:pt x="209" y="336"/>
                  </a:lnTo>
                  <a:lnTo>
                    <a:pt x="209" y="336"/>
                  </a:lnTo>
                  <a:lnTo>
                    <a:pt x="192" y="338"/>
                  </a:lnTo>
                  <a:lnTo>
                    <a:pt x="174" y="340"/>
                  </a:lnTo>
                  <a:lnTo>
                    <a:pt x="159" y="338"/>
                  </a:lnTo>
                  <a:lnTo>
                    <a:pt x="142" y="336"/>
                  </a:lnTo>
                  <a:lnTo>
                    <a:pt x="126" y="332"/>
                  </a:lnTo>
                  <a:lnTo>
                    <a:pt x="111" y="326"/>
                  </a:lnTo>
                  <a:lnTo>
                    <a:pt x="98" y="318"/>
                  </a:lnTo>
                  <a:lnTo>
                    <a:pt x="82" y="311"/>
                  </a:lnTo>
                  <a:lnTo>
                    <a:pt x="71" y="301"/>
                  </a:lnTo>
                  <a:lnTo>
                    <a:pt x="59" y="292"/>
                  </a:lnTo>
                  <a:lnTo>
                    <a:pt x="48" y="280"/>
                  </a:lnTo>
                  <a:lnTo>
                    <a:pt x="38" y="267"/>
                  </a:lnTo>
                  <a:lnTo>
                    <a:pt x="30" y="253"/>
                  </a:lnTo>
                  <a:lnTo>
                    <a:pt x="23" y="238"/>
                  </a:lnTo>
                  <a:lnTo>
                    <a:pt x="19" y="224"/>
                  </a:lnTo>
                  <a:lnTo>
                    <a:pt x="13" y="207"/>
                  </a:lnTo>
                  <a:lnTo>
                    <a:pt x="11" y="192"/>
                  </a:lnTo>
                  <a:lnTo>
                    <a:pt x="11" y="175"/>
                  </a:lnTo>
                  <a:lnTo>
                    <a:pt x="11" y="157"/>
                  </a:lnTo>
                  <a:lnTo>
                    <a:pt x="13" y="142"/>
                  </a:lnTo>
                  <a:lnTo>
                    <a:pt x="19" y="127"/>
                  </a:lnTo>
                  <a:lnTo>
                    <a:pt x="23" y="111"/>
                  </a:lnTo>
                  <a:lnTo>
                    <a:pt x="30" y="96"/>
                  </a:lnTo>
                  <a:lnTo>
                    <a:pt x="38" y="82"/>
                  </a:lnTo>
                  <a:lnTo>
                    <a:pt x="48" y="71"/>
                  </a:lnTo>
                  <a:lnTo>
                    <a:pt x="59" y="59"/>
                  </a:lnTo>
                  <a:lnTo>
                    <a:pt x="71" y="48"/>
                  </a:lnTo>
                  <a:lnTo>
                    <a:pt x="82" y="38"/>
                  </a:lnTo>
                  <a:lnTo>
                    <a:pt x="98" y="31"/>
                  </a:lnTo>
                  <a:lnTo>
                    <a:pt x="111" y="23"/>
                  </a:lnTo>
                  <a:lnTo>
                    <a:pt x="126" y="17"/>
                  </a:lnTo>
                  <a:lnTo>
                    <a:pt x="142" y="13"/>
                  </a:lnTo>
                  <a:lnTo>
                    <a:pt x="159" y="11"/>
                  </a:lnTo>
                  <a:lnTo>
                    <a:pt x="174" y="11"/>
                  </a:lnTo>
                  <a:lnTo>
                    <a:pt x="192" y="11"/>
                  </a:lnTo>
                  <a:lnTo>
                    <a:pt x="207" y="13"/>
                  </a:lnTo>
                  <a:lnTo>
                    <a:pt x="207" y="13"/>
                  </a:lnTo>
                  <a:lnTo>
                    <a:pt x="207" y="11"/>
                  </a:lnTo>
                  <a:lnTo>
                    <a:pt x="207" y="10"/>
                  </a:lnTo>
                  <a:lnTo>
                    <a:pt x="207" y="10"/>
                  </a:lnTo>
                  <a:lnTo>
                    <a:pt x="207" y="8"/>
                  </a:lnTo>
                  <a:lnTo>
                    <a:pt x="207" y="6"/>
                  </a:lnTo>
                  <a:lnTo>
                    <a:pt x="207" y="6"/>
                  </a:lnTo>
                  <a:lnTo>
                    <a:pt x="209" y="4"/>
                  </a:lnTo>
                  <a:close/>
                </a:path>
              </a:pathLst>
            </a:custGeom>
            <a:solidFill>
              <a:srgbClr val="def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Freeform 233"/>
            <p:cNvSpPr/>
            <p:nvPr/>
          </p:nvSpPr>
          <p:spPr>
            <a:xfrm>
              <a:off x="2002320" y="2889360"/>
              <a:ext cx="341640" cy="567360"/>
            </a:xfrm>
            <a:custGeom>
              <a:avLst/>
              <a:gdLst>
                <a:gd name="textAreaLeft" fmla="*/ 0 w 341640"/>
                <a:gd name="textAreaRight" fmla="*/ 342000 w 341640"/>
                <a:gd name="textAreaTop" fmla="*/ 0 h 567360"/>
                <a:gd name="textAreaBottom" fmla="*/ 567720 h 567360"/>
              </a:gdLst>
              <a:ahLst/>
              <a:rect l="textAreaLeft" t="textAreaTop" r="textAreaRight" b="textAreaBottom"/>
              <a:pathLst>
                <a:path w="203" h="337">
                  <a:moveTo>
                    <a:pt x="201" y="4"/>
                  </a:moveTo>
                  <a:lnTo>
                    <a:pt x="186" y="0"/>
                  </a:lnTo>
                  <a:lnTo>
                    <a:pt x="168" y="0"/>
                  </a:lnTo>
                  <a:lnTo>
                    <a:pt x="151" y="0"/>
                  </a:lnTo>
                  <a:lnTo>
                    <a:pt x="136" y="4"/>
                  </a:lnTo>
                  <a:lnTo>
                    <a:pt x="119" y="7"/>
                  </a:lnTo>
                  <a:lnTo>
                    <a:pt x="103" y="13"/>
                  </a:lnTo>
                  <a:lnTo>
                    <a:pt x="88" y="21"/>
                  </a:lnTo>
                  <a:lnTo>
                    <a:pt x="74" y="28"/>
                  </a:lnTo>
                  <a:lnTo>
                    <a:pt x="61" y="38"/>
                  </a:lnTo>
                  <a:lnTo>
                    <a:pt x="49" y="50"/>
                  </a:lnTo>
                  <a:lnTo>
                    <a:pt x="38" y="61"/>
                  </a:lnTo>
                  <a:lnTo>
                    <a:pt x="28" y="75"/>
                  </a:lnTo>
                  <a:lnTo>
                    <a:pt x="21" y="88"/>
                  </a:lnTo>
                  <a:lnTo>
                    <a:pt x="13" y="103"/>
                  </a:lnTo>
                  <a:lnTo>
                    <a:pt x="7" y="119"/>
                  </a:lnTo>
                  <a:lnTo>
                    <a:pt x="3" y="134"/>
                  </a:lnTo>
                  <a:lnTo>
                    <a:pt x="1" y="151"/>
                  </a:lnTo>
                  <a:lnTo>
                    <a:pt x="0" y="169"/>
                  </a:lnTo>
                  <a:lnTo>
                    <a:pt x="1" y="186"/>
                  </a:lnTo>
                  <a:lnTo>
                    <a:pt x="3" y="203"/>
                  </a:lnTo>
                  <a:lnTo>
                    <a:pt x="7" y="218"/>
                  </a:lnTo>
                  <a:lnTo>
                    <a:pt x="13" y="236"/>
                  </a:lnTo>
                  <a:lnTo>
                    <a:pt x="21" y="249"/>
                  </a:lnTo>
                  <a:lnTo>
                    <a:pt x="28" y="263"/>
                  </a:lnTo>
                  <a:lnTo>
                    <a:pt x="38" y="276"/>
                  </a:lnTo>
                  <a:lnTo>
                    <a:pt x="49" y="289"/>
                  </a:lnTo>
                  <a:lnTo>
                    <a:pt x="61" y="299"/>
                  </a:lnTo>
                  <a:lnTo>
                    <a:pt x="74" y="309"/>
                  </a:lnTo>
                  <a:lnTo>
                    <a:pt x="88" y="318"/>
                  </a:lnTo>
                  <a:lnTo>
                    <a:pt x="103" y="324"/>
                  </a:lnTo>
                  <a:lnTo>
                    <a:pt x="119" y="330"/>
                  </a:lnTo>
                  <a:lnTo>
                    <a:pt x="136" y="335"/>
                  </a:lnTo>
                  <a:lnTo>
                    <a:pt x="151" y="337"/>
                  </a:lnTo>
                  <a:lnTo>
                    <a:pt x="168" y="337"/>
                  </a:lnTo>
                  <a:lnTo>
                    <a:pt x="186" y="337"/>
                  </a:lnTo>
                  <a:lnTo>
                    <a:pt x="203" y="335"/>
                  </a:lnTo>
                  <a:lnTo>
                    <a:pt x="203" y="335"/>
                  </a:lnTo>
                  <a:lnTo>
                    <a:pt x="203" y="334"/>
                  </a:lnTo>
                  <a:lnTo>
                    <a:pt x="203" y="332"/>
                  </a:lnTo>
                  <a:lnTo>
                    <a:pt x="203" y="332"/>
                  </a:lnTo>
                  <a:lnTo>
                    <a:pt x="203" y="330"/>
                  </a:lnTo>
                  <a:lnTo>
                    <a:pt x="203" y="328"/>
                  </a:lnTo>
                  <a:lnTo>
                    <a:pt x="203" y="328"/>
                  </a:lnTo>
                  <a:lnTo>
                    <a:pt x="203" y="326"/>
                  </a:lnTo>
                  <a:lnTo>
                    <a:pt x="203" y="324"/>
                  </a:lnTo>
                  <a:lnTo>
                    <a:pt x="201" y="324"/>
                  </a:lnTo>
                  <a:lnTo>
                    <a:pt x="186" y="328"/>
                  </a:lnTo>
                  <a:lnTo>
                    <a:pt x="168" y="328"/>
                  </a:lnTo>
                  <a:lnTo>
                    <a:pt x="153" y="328"/>
                  </a:lnTo>
                  <a:lnTo>
                    <a:pt x="138" y="324"/>
                  </a:lnTo>
                  <a:lnTo>
                    <a:pt x="122" y="320"/>
                  </a:lnTo>
                  <a:lnTo>
                    <a:pt x="107" y="316"/>
                  </a:lnTo>
                  <a:lnTo>
                    <a:pt x="94" y="309"/>
                  </a:lnTo>
                  <a:lnTo>
                    <a:pt x="80" y="301"/>
                  </a:lnTo>
                  <a:lnTo>
                    <a:pt x="69" y="291"/>
                  </a:lnTo>
                  <a:lnTo>
                    <a:pt x="57" y="282"/>
                  </a:lnTo>
                  <a:lnTo>
                    <a:pt x="46" y="270"/>
                  </a:lnTo>
                  <a:lnTo>
                    <a:pt x="38" y="259"/>
                  </a:lnTo>
                  <a:lnTo>
                    <a:pt x="28" y="245"/>
                  </a:lnTo>
                  <a:lnTo>
                    <a:pt x="23" y="230"/>
                  </a:lnTo>
                  <a:lnTo>
                    <a:pt x="17" y="216"/>
                  </a:lnTo>
                  <a:lnTo>
                    <a:pt x="13" y="201"/>
                  </a:lnTo>
                  <a:lnTo>
                    <a:pt x="11" y="186"/>
                  </a:lnTo>
                  <a:lnTo>
                    <a:pt x="9" y="169"/>
                  </a:lnTo>
                  <a:lnTo>
                    <a:pt x="11" y="153"/>
                  </a:lnTo>
                  <a:lnTo>
                    <a:pt x="13" y="136"/>
                  </a:lnTo>
                  <a:lnTo>
                    <a:pt x="17" y="121"/>
                  </a:lnTo>
                  <a:lnTo>
                    <a:pt x="23" y="107"/>
                  </a:lnTo>
                  <a:lnTo>
                    <a:pt x="28" y="94"/>
                  </a:lnTo>
                  <a:lnTo>
                    <a:pt x="38" y="80"/>
                  </a:lnTo>
                  <a:lnTo>
                    <a:pt x="46" y="67"/>
                  </a:lnTo>
                  <a:lnTo>
                    <a:pt x="57" y="57"/>
                  </a:lnTo>
                  <a:lnTo>
                    <a:pt x="69" y="46"/>
                  </a:lnTo>
                  <a:lnTo>
                    <a:pt x="80" y="36"/>
                  </a:lnTo>
                  <a:lnTo>
                    <a:pt x="94" y="28"/>
                  </a:lnTo>
                  <a:lnTo>
                    <a:pt x="107" y="23"/>
                  </a:lnTo>
                  <a:lnTo>
                    <a:pt x="122" y="17"/>
                  </a:lnTo>
                  <a:lnTo>
                    <a:pt x="138" y="13"/>
                  </a:lnTo>
                  <a:lnTo>
                    <a:pt x="153" y="11"/>
                  </a:lnTo>
                  <a:lnTo>
                    <a:pt x="168" y="9"/>
                  </a:lnTo>
                  <a:lnTo>
                    <a:pt x="186" y="11"/>
                  </a:lnTo>
                  <a:lnTo>
                    <a:pt x="201" y="13"/>
                  </a:lnTo>
                  <a:lnTo>
                    <a:pt x="201" y="11"/>
                  </a:lnTo>
                  <a:lnTo>
                    <a:pt x="201" y="11"/>
                  </a:lnTo>
                  <a:lnTo>
                    <a:pt x="201" y="9"/>
                  </a:lnTo>
                  <a:lnTo>
                    <a:pt x="201" y="7"/>
                  </a:lnTo>
                  <a:lnTo>
                    <a:pt x="201" y="7"/>
                  </a:lnTo>
                  <a:lnTo>
                    <a:pt x="201" y="5"/>
                  </a:lnTo>
                  <a:lnTo>
                    <a:pt x="201" y="4"/>
                  </a:lnTo>
                  <a:lnTo>
                    <a:pt x="201" y="4"/>
                  </a:lnTo>
                  <a:close/>
                </a:path>
              </a:pathLst>
            </a:custGeom>
            <a:solidFill>
              <a:srgbClr val="df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Freeform 234"/>
            <p:cNvSpPr/>
            <p:nvPr/>
          </p:nvSpPr>
          <p:spPr>
            <a:xfrm>
              <a:off x="2010600" y="2897640"/>
              <a:ext cx="333360" cy="55404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554040"/>
                <a:gd name="textAreaBottom" fmla="*/ 554400 h 554040"/>
              </a:gdLst>
              <a:ahLst/>
              <a:rect l="textAreaLeft" t="textAreaTop" r="textAreaRight" b="textAreaBottom"/>
              <a:pathLst>
                <a:path w="198" h="329">
                  <a:moveTo>
                    <a:pt x="196" y="2"/>
                  </a:moveTo>
                  <a:lnTo>
                    <a:pt x="181" y="0"/>
                  </a:lnTo>
                  <a:lnTo>
                    <a:pt x="163" y="0"/>
                  </a:lnTo>
                  <a:lnTo>
                    <a:pt x="148" y="0"/>
                  </a:lnTo>
                  <a:lnTo>
                    <a:pt x="131" y="2"/>
                  </a:lnTo>
                  <a:lnTo>
                    <a:pt x="115" y="6"/>
                  </a:lnTo>
                  <a:lnTo>
                    <a:pt x="100" y="12"/>
                  </a:lnTo>
                  <a:lnTo>
                    <a:pt x="87" y="20"/>
                  </a:lnTo>
                  <a:lnTo>
                    <a:pt x="71" y="27"/>
                  </a:lnTo>
                  <a:lnTo>
                    <a:pt x="60" y="37"/>
                  </a:lnTo>
                  <a:lnTo>
                    <a:pt x="48" y="48"/>
                  </a:lnTo>
                  <a:lnTo>
                    <a:pt x="37" y="60"/>
                  </a:lnTo>
                  <a:lnTo>
                    <a:pt x="27" y="71"/>
                  </a:lnTo>
                  <a:lnTo>
                    <a:pt x="19" y="85"/>
                  </a:lnTo>
                  <a:lnTo>
                    <a:pt x="12" y="100"/>
                  </a:lnTo>
                  <a:lnTo>
                    <a:pt x="8" y="116"/>
                  </a:lnTo>
                  <a:lnTo>
                    <a:pt x="2" y="131"/>
                  </a:lnTo>
                  <a:lnTo>
                    <a:pt x="0" y="146"/>
                  </a:lnTo>
                  <a:lnTo>
                    <a:pt x="0" y="164"/>
                  </a:lnTo>
                  <a:lnTo>
                    <a:pt x="0" y="181"/>
                  </a:lnTo>
                  <a:lnTo>
                    <a:pt x="2" y="196"/>
                  </a:lnTo>
                  <a:lnTo>
                    <a:pt x="8" y="213"/>
                  </a:lnTo>
                  <a:lnTo>
                    <a:pt x="12" y="227"/>
                  </a:lnTo>
                  <a:lnTo>
                    <a:pt x="19" y="242"/>
                  </a:lnTo>
                  <a:lnTo>
                    <a:pt x="27" y="256"/>
                  </a:lnTo>
                  <a:lnTo>
                    <a:pt x="37" y="269"/>
                  </a:lnTo>
                  <a:lnTo>
                    <a:pt x="48" y="281"/>
                  </a:lnTo>
                  <a:lnTo>
                    <a:pt x="60" y="290"/>
                  </a:lnTo>
                  <a:lnTo>
                    <a:pt x="71" y="300"/>
                  </a:lnTo>
                  <a:lnTo>
                    <a:pt x="87" y="307"/>
                  </a:lnTo>
                  <a:lnTo>
                    <a:pt x="100" y="315"/>
                  </a:lnTo>
                  <a:lnTo>
                    <a:pt x="115" y="321"/>
                  </a:lnTo>
                  <a:lnTo>
                    <a:pt x="131" y="325"/>
                  </a:lnTo>
                  <a:lnTo>
                    <a:pt x="148" y="327"/>
                  </a:lnTo>
                  <a:lnTo>
                    <a:pt x="163" y="329"/>
                  </a:lnTo>
                  <a:lnTo>
                    <a:pt x="181" y="327"/>
                  </a:lnTo>
                  <a:lnTo>
                    <a:pt x="198" y="325"/>
                  </a:lnTo>
                  <a:lnTo>
                    <a:pt x="198" y="325"/>
                  </a:lnTo>
                  <a:lnTo>
                    <a:pt x="198" y="323"/>
                  </a:lnTo>
                  <a:lnTo>
                    <a:pt x="198" y="323"/>
                  </a:lnTo>
                  <a:lnTo>
                    <a:pt x="198" y="321"/>
                  </a:lnTo>
                  <a:lnTo>
                    <a:pt x="198" y="319"/>
                  </a:lnTo>
                  <a:lnTo>
                    <a:pt x="198" y="319"/>
                  </a:lnTo>
                  <a:lnTo>
                    <a:pt x="198" y="317"/>
                  </a:lnTo>
                  <a:lnTo>
                    <a:pt x="198" y="315"/>
                  </a:lnTo>
                  <a:lnTo>
                    <a:pt x="198" y="313"/>
                  </a:lnTo>
                  <a:lnTo>
                    <a:pt x="194" y="315"/>
                  </a:lnTo>
                  <a:lnTo>
                    <a:pt x="181" y="317"/>
                  </a:lnTo>
                  <a:lnTo>
                    <a:pt x="163" y="317"/>
                  </a:lnTo>
                  <a:lnTo>
                    <a:pt x="148" y="317"/>
                  </a:lnTo>
                  <a:lnTo>
                    <a:pt x="133" y="315"/>
                  </a:lnTo>
                  <a:lnTo>
                    <a:pt x="117" y="311"/>
                  </a:lnTo>
                  <a:lnTo>
                    <a:pt x="104" y="305"/>
                  </a:lnTo>
                  <a:lnTo>
                    <a:pt x="90" y="300"/>
                  </a:lnTo>
                  <a:lnTo>
                    <a:pt x="77" y="292"/>
                  </a:lnTo>
                  <a:lnTo>
                    <a:pt x="66" y="282"/>
                  </a:lnTo>
                  <a:lnTo>
                    <a:pt x="56" y="273"/>
                  </a:lnTo>
                  <a:lnTo>
                    <a:pt x="44" y="261"/>
                  </a:lnTo>
                  <a:lnTo>
                    <a:pt x="37" y="250"/>
                  </a:lnTo>
                  <a:lnTo>
                    <a:pt x="29" y="236"/>
                  </a:lnTo>
                  <a:lnTo>
                    <a:pt x="21" y="223"/>
                  </a:lnTo>
                  <a:lnTo>
                    <a:pt x="18" y="210"/>
                  </a:lnTo>
                  <a:lnTo>
                    <a:pt x="14" y="194"/>
                  </a:lnTo>
                  <a:lnTo>
                    <a:pt x="12" y="179"/>
                  </a:lnTo>
                  <a:lnTo>
                    <a:pt x="10" y="164"/>
                  </a:lnTo>
                  <a:lnTo>
                    <a:pt x="12" y="148"/>
                  </a:lnTo>
                  <a:lnTo>
                    <a:pt x="14" y="133"/>
                  </a:lnTo>
                  <a:lnTo>
                    <a:pt x="18" y="117"/>
                  </a:lnTo>
                  <a:lnTo>
                    <a:pt x="21" y="104"/>
                  </a:lnTo>
                  <a:lnTo>
                    <a:pt x="29" y="91"/>
                  </a:lnTo>
                  <a:lnTo>
                    <a:pt x="37" y="77"/>
                  </a:lnTo>
                  <a:lnTo>
                    <a:pt x="44" y="66"/>
                  </a:lnTo>
                  <a:lnTo>
                    <a:pt x="56" y="54"/>
                  </a:lnTo>
                  <a:lnTo>
                    <a:pt x="66" y="45"/>
                  </a:lnTo>
                  <a:lnTo>
                    <a:pt x="77" y="37"/>
                  </a:lnTo>
                  <a:lnTo>
                    <a:pt x="90" y="29"/>
                  </a:lnTo>
                  <a:lnTo>
                    <a:pt x="104" y="22"/>
                  </a:lnTo>
                  <a:lnTo>
                    <a:pt x="117" y="18"/>
                  </a:lnTo>
                  <a:lnTo>
                    <a:pt x="133" y="14"/>
                  </a:lnTo>
                  <a:lnTo>
                    <a:pt x="148" y="10"/>
                  </a:lnTo>
                  <a:lnTo>
                    <a:pt x="163" y="10"/>
                  </a:lnTo>
                  <a:lnTo>
                    <a:pt x="181" y="10"/>
                  </a:lnTo>
                  <a:lnTo>
                    <a:pt x="194" y="14"/>
                  </a:lnTo>
                  <a:lnTo>
                    <a:pt x="196" y="14"/>
                  </a:lnTo>
                  <a:lnTo>
                    <a:pt x="196" y="12"/>
                  </a:lnTo>
                  <a:lnTo>
                    <a:pt x="196" y="10"/>
                  </a:lnTo>
                  <a:lnTo>
                    <a:pt x="196" y="10"/>
                  </a:lnTo>
                  <a:lnTo>
                    <a:pt x="196" y="8"/>
                  </a:lnTo>
                  <a:lnTo>
                    <a:pt x="196" y="6"/>
                  </a:lnTo>
                  <a:lnTo>
                    <a:pt x="196" y="6"/>
                  </a:lnTo>
                  <a:lnTo>
                    <a:pt x="196" y="4"/>
                  </a:lnTo>
                  <a:lnTo>
                    <a:pt x="196" y="2"/>
                  </a:lnTo>
                  <a:close/>
                </a:path>
              </a:pathLst>
            </a:custGeom>
            <a:solidFill>
              <a:srgbClr val="e0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Freeform 235"/>
            <p:cNvSpPr/>
            <p:nvPr/>
          </p:nvSpPr>
          <p:spPr>
            <a:xfrm>
              <a:off x="2017440" y="2904480"/>
              <a:ext cx="326520" cy="537120"/>
            </a:xfrm>
            <a:custGeom>
              <a:avLst/>
              <a:gdLst>
                <a:gd name="textAreaLeft" fmla="*/ 0 w 326520"/>
                <a:gd name="textAreaRight" fmla="*/ 326880 w 326520"/>
                <a:gd name="textAreaTop" fmla="*/ 0 h 537120"/>
                <a:gd name="textAreaBottom" fmla="*/ 537480 h 537120"/>
              </a:gdLst>
              <a:ahLst/>
              <a:rect l="textAreaLeft" t="textAreaTop" r="textAreaRight" b="textAreaBottom"/>
              <a:pathLst>
                <a:path w="194" h="319">
                  <a:moveTo>
                    <a:pt x="192" y="4"/>
                  </a:moveTo>
                  <a:lnTo>
                    <a:pt x="177" y="2"/>
                  </a:lnTo>
                  <a:lnTo>
                    <a:pt x="159" y="0"/>
                  </a:lnTo>
                  <a:lnTo>
                    <a:pt x="144" y="2"/>
                  </a:lnTo>
                  <a:lnTo>
                    <a:pt x="129" y="4"/>
                  </a:lnTo>
                  <a:lnTo>
                    <a:pt x="113" y="8"/>
                  </a:lnTo>
                  <a:lnTo>
                    <a:pt x="98" y="14"/>
                  </a:lnTo>
                  <a:lnTo>
                    <a:pt x="85" y="19"/>
                  </a:lnTo>
                  <a:lnTo>
                    <a:pt x="71" y="27"/>
                  </a:lnTo>
                  <a:lnTo>
                    <a:pt x="60" y="37"/>
                  </a:lnTo>
                  <a:lnTo>
                    <a:pt x="48" y="48"/>
                  </a:lnTo>
                  <a:lnTo>
                    <a:pt x="37" y="58"/>
                  </a:lnTo>
                  <a:lnTo>
                    <a:pt x="29" y="71"/>
                  </a:lnTo>
                  <a:lnTo>
                    <a:pt x="19" y="85"/>
                  </a:lnTo>
                  <a:lnTo>
                    <a:pt x="14" y="98"/>
                  </a:lnTo>
                  <a:lnTo>
                    <a:pt x="8" y="112"/>
                  </a:lnTo>
                  <a:lnTo>
                    <a:pt x="4" y="127"/>
                  </a:lnTo>
                  <a:lnTo>
                    <a:pt x="2" y="144"/>
                  </a:lnTo>
                  <a:lnTo>
                    <a:pt x="0" y="160"/>
                  </a:lnTo>
                  <a:lnTo>
                    <a:pt x="2" y="177"/>
                  </a:lnTo>
                  <a:lnTo>
                    <a:pt x="4" y="192"/>
                  </a:lnTo>
                  <a:lnTo>
                    <a:pt x="8" y="207"/>
                  </a:lnTo>
                  <a:lnTo>
                    <a:pt x="14" y="221"/>
                  </a:lnTo>
                  <a:lnTo>
                    <a:pt x="19" y="236"/>
                  </a:lnTo>
                  <a:lnTo>
                    <a:pt x="29" y="250"/>
                  </a:lnTo>
                  <a:lnTo>
                    <a:pt x="37" y="261"/>
                  </a:lnTo>
                  <a:lnTo>
                    <a:pt x="48" y="273"/>
                  </a:lnTo>
                  <a:lnTo>
                    <a:pt x="60" y="282"/>
                  </a:lnTo>
                  <a:lnTo>
                    <a:pt x="71" y="292"/>
                  </a:lnTo>
                  <a:lnTo>
                    <a:pt x="85" y="300"/>
                  </a:lnTo>
                  <a:lnTo>
                    <a:pt x="98" y="307"/>
                  </a:lnTo>
                  <a:lnTo>
                    <a:pt x="113" y="311"/>
                  </a:lnTo>
                  <a:lnTo>
                    <a:pt x="129" y="315"/>
                  </a:lnTo>
                  <a:lnTo>
                    <a:pt x="144" y="319"/>
                  </a:lnTo>
                  <a:lnTo>
                    <a:pt x="159" y="319"/>
                  </a:lnTo>
                  <a:lnTo>
                    <a:pt x="177" y="319"/>
                  </a:lnTo>
                  <a:lnTo>
                    <a:pt x="192" y="315"/>
                  </a:lnTo>
                  <a:lnTo>
                    <a:pt x="194" y="315"/>
                  </a:lnTo>
                  <a:lnTo>
                    <a:pt x="194" y="315"/>
                  </a:lnTo>
                  <a:lnTo>
                    <a:pt x="194" y="313"/>
                  </a:lnTo>
                  <a:lnTo>
                    <a:pt x="194" y="311"/>
                  </a:lnTo>
                  <a:lnTo>
                    <a:pt x="194" y="309"/>
                  </a:lnTo>
                  <a:lnTo>
                    <a:pt x="194" y="309"/>
                  </a:lnTo>
                  <a:lnTo>
                    <a:pt x="194" y="307"/>
                  </a:lnTo>
                  <a:lnTo>
                    <a:pt x="192" y="305"/>
                  </a:lnTo>
                  <a:lnTo>
                    <a:pt x="192" y="305"/>
                  </a:lnTo>
                  <a:lnTo>
                    <a:pt x="190" y="305"/>
                  </a:lnTo>
                  <a:lnTo>
                    <a:pt x="175" y="307"/>
                  </a:lnTo>
                  <a:lnTo>
                    <a:pt x="159" y="309"/>
                  </a:lnTo>
                  <a:lnTo>
                    <a:pt x="144" y="307"/>
                  </a:lnTo>
                  <a:lnTo>
                    <a:pt x="131" y="305"/>
                  </a:lnTo>
                  <a:lnTo>
                    <a:pt x="115" y="301"/>
                  </a:lnTo>
                  <a:lnTo>
                    <a:pt x="102" y="298"/>
                  </a:lnTo>
                  <a:lnTo>
                    <a:pt x="88" y="290"/>
                  </a:lnTo>
                  <a:lnTo>
                    <a:pt x="77" y="282"/>
                  </a:lnTo>
                  <a:lnTo>
                    <a:pt x="65" y="275"/>
                  </a:lnTo>
                  <a:lnTo>
                    <a:pt x="54" y="265"/>
                  </a:lnTo>
                  <a:lnTo>
                    <a:pt x="44" y="254"/>
                  </a:lnTo>
                  <a:lnTo>
                    <a:pt x="37" y="244"/>
                  </a:lnTo>
                  <a:lnTo>
                    <a:pt x="29" y="231"/>
                  </a:lnTo>
                  <a:lnTo>
                    <a:pt x="23" y="217"/>
                  </a:lnTo>
                  <a:lnTo>
                    <a:pt x="17" y="204"/>
                  </a:lnTo>
                  <a:lnTo>
                    <a:pt x="14" y="190"/>
                  </a:lnTo>
                  <a:lnTo>
                    <a:pt x="12" y="175"/>
                  </a:lnTo>
                  <a:lnTo>
                    <a:pt x="12" y="160"/>
                  </a:lnTo>
                  <a:lnTo>
                    <a:pt x="12" y="144"/>
                  </a:lnTo>
                  <a:lnTo>
                    <a:pt x="14" y="131"/>
                  </a:lnTo>
                  <a:lnTo>
                    <a:pt x="17" y="115"/>
                  </a:lnTo>
                  <a:lnTo>
                    <a:pt x="23" y="102"/>
                  </a:lnTo>
                  <a:lnTo>
                    <a:pt x="29" y="89"/>
                  </a:lnTo>
                  <a:lnTo>
                    <a:pt x="37" y="77"/>
                  </a:lnTo>
                  <a:lnTo>
                    <a:pt x="44" y="66"/>
                  </a:lnTo>
                  <a:lnTo>
                    <a:pt x="54" y="54"/>
                  </a:lnTo>
                  <a:lnTo>
                    <a:pt x="65" y="44"/>
                  </a:lnTo>
                  <a:lnTo>
                    <a:pt x="77" y="37"/>
                  </a:lnTo>
                  <a:lnTo>
                    <a:pt x="88" y="29"/>
                  </a:lnTo>
                  <a:lnTo>
                    <a:pt x="102" y="23"/>
                  </a:lnTo>
                  <a:lnTo>
                    <a:pt x="115" y="18"/>
                  </a:lnTo>
                  <a:lnTo>
                    <a:pt x="131" y="14"/>
                  </a:lnTo>
                  <a:lnTo>
                    <a:pt x="144" y="12"/>
                  </a:lnTo>
                  <a:lnTo>
                    <a:pt x="159" y="12"/>
                  </a:lnTo>
                  <a:lnTo>
                    <a:pt x="175" y="12"/>
                  </a:lnTo>
                  <a:lnTo>
                    <a:pt x="190" y="14"/>
                  </a:lnTo>
                  <a:lnTo>
                    <a:pt x="192" y="14"/>
                  </a:lnTo>
                  <a:lnTo>
                    <a:pt x="192" y="14"/>
                  </a:lnTo>
                  <a:lnTo>
                    <a:pt x="192" y="12"/>
                  </a:lnTo>
                  <a:lnTo>
                    <a:pt x="192" y="10"/>
                  </a:lnTo>
                  <a:lnTo>
                    <a:pt x="192" y="10"/>
                  </a:lnTo>
                  <a:lnTo>
                    <a:pt x="192" y="8"/>
                  </a:lnTo>
                  <a:lnTo>
                    <a:pt x="192" y="6"/>
                  </a:lnTo>
                  <a:lnTo>
                    <a:pt x="192" y="6"/>
                  </a:lnTo>
                  <a:lnTo>
                    <a:pt x="192" y="4"/>
                  </a:lnTo>
                  <a:close/>
                </a:path>
              </a:pathLst>
            </a:custGeom>
            <a:solidFill>
              <a:srgbClr val="e1f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Freeform 236"/>
            <p:cNvSpPr/>
            <p:nvPr/>
          </p:nvSpPr>
          <p:spPr>
            <a:xfrm>
              <a:off x="2027520" y="2914560"/>
              <a:ext cx="316440" cy="516960"/>
            </a:xfrm>
            <a:custGeom>
              <a:avLst/>
              <a:gdLst>
                <a:gd name="textAreaLeft" fmla="*/ 0 w 316440"/>
                <a:gd name="textAreaRight" fmla="*/ 316800 w 316440"/>
                <a:gd name="textAreaTop" fmla="*/ 0 h 516960"/>
                <a:gd name="textAreaBottom" fmla="*/ 517320 h 516960"/>
              </a:gdLst>
              <a:ahLst/>
              <a:rect l="textAreaLeft" t="textAreaTop" r="textAreaRight" b="textAreaBottom"/>
              <a:pathLst>
                <a:path w="188" h="307">
                  <a:moveTo>
                    <a:pt x="186" y="4"/>
                  </a:moveTo>
                  <a:lnTo>
                    <a:pt x="184" y="4"/>
                  </a:lnTo>
                  <a:lnTo>
                    <a:pt x="171" y="0"/>
                  </a:lnTo>
                  <a:lnTo>
                    <a:pt x="153" y="0"/>
                  </a:lnTo>
                  <a:lnTo>
                    <a:pt x="138" y="0"/>
                  </a:lnTo>
                  <a:lnTo>
                    <a:pt x="123" y="4"/>
                  </a:lnTo>
                  <a:lnTo>
                    <a:pt x="107" y="8"/>
                  </a:lnTo>
                  <a:lnTo>
                    <a:pt x="94" y="12"/>
                  </a:lnTo>
                  <a:lnTo>
                    <a:pt x="80" y="19"/>
                  </a:lnTo>
                  <a:lnTo>
                    <a:pt x="67" y="27"/>
                  </a:lnTo>
                  <a:lnTo>
                    <a:pt x="56" y="35"/>
                  </a:lnTo>
                  <a:lnTo>
                    <a:pt x="46" y="44"/>
                  </a:lnTo>
                  <a:lnTo>
                    <a:pt x="34" y="56"/>
                  </a:lnTo>
                  <a:lnTo>
                    <a:pt x="27" y="67"/>
                  </a:lnTo>
                  <a:lnTo>
                    <a:pt x="19" y="81"/>
                  </a:lnTo>
                  <a:lnTo>
                    <a:pt x="11" y="94"/>
                  </a:lnTo>
                  <a:lnTo>
                    <a:pt x="8" y="107"/>
                  </a:lnTo>
                  <a:lnTo>
                    <a:pt x="4" y="123"/>
                  </a:lnTo>
                  <a:lnTo>
                    <a:pt x="2" y="138"/>
                  </a:lnTo>
                  <a:lnTo>
                    <a:pt x="0" y="154"/>
                  </a:lnTo>
                  <a:lnTo>
                    <a:pt x="2" y="169"/>
                  </a:lnTo>
                  <a:lnTo>
                    <a:pt x="4" y="184"/>
                  </a:lnTo>
                  <a:lnTo>
                    <a:pt x="8" y="200"/>
                  </a:lnTo>
                  <a:lnTo>
                    <a:pt x="11" y="213"/>
                  </a:lnTo>
                  <a:lnTo>
                    <a:pt x="19" y="226"/>
                  </a:lnTo>
                  <a:lnTo>
                    <a:pt x="27" y="240"/>
                  </a:lnTo>
                  <a:lnTo>
                    <a:pt x="34" y="251"/>
                  </a:lnTo>
                  <a:lnTo>
                    <a:pt x="46" y="263"/>
                  </a:lnTo>
                  <a:lnTo>
                    <a:pt x="56" y="272"/>
                  </a:lnTo>
                  <a:lnTo>
                    <a:pt x="67" y="282"/>
                  </a:lnTo>
                  <a:lnTo>
                    <a:pt x="80" y="290"/>
                  </a:lnTo>
                  <a:lnTo>
                    <a:pt x="94" y="295"/>
                  </a:lnTo>
                  <a:lnTo>
                    <a:pt x="107" y="301"/>
                  </a:lnTo>
                  <a:lnTo>
                    <a:pt x="123" y="305"/>
                  </a:lnTo>
                  <a:lnTo>
                    <a:pt x="138" y="307"/>
                  </a:lnTo>
                  <a:lnTo>
                    <a:pt x="153" y="307"/>
                  </a:lnTo>
                  <a:lnTo>
                    <a:pt x="171" y="307"/>
                  </a:lnTo>
                  <a:lnTo>
                    <a:pt x="184" y="305"/>
                  </a:lnTo>
                  <a:lnTo>
                    <a:pt x="188" y="303"/>
                  </a:lnTo>
                  <a:lnTo>
                    <a:pt x="188" y="303"/>
                  </a:lnTo>
                  <a:lnTo>
                    <a:pt x="188" y="301"/>
                  </a:lnTo>
                  <a:lnTo>
                    <a:pt x="186" y="299"/>
                  </a:lnTo>
                  <a:lnTo>
                    <a:pt x="186" y="299"/>
                  </a:lnTo>
                  <a:lnTo>
                    <a:pt x="186" y="297"/>
                  </a:lnTo>
                  <a:lnTo>
                    <a:pt x="186" y="295"/>
                  </a:lnTo>
                  <a:lnTo>
                    <a:pt x="186" y="295"/>
                  </a:lnTo>
                  <a:lnTo>
                    <a:pt x="186" y="294"/>
                  </a:lnTo>
                  <a:lnTo>
                    <a:pt x="182" y="295"/>
                  </a:lnTo>
                  <a:lnTo>
                    <a:pt x="169" y="297"/>
                  </a:lnTo>
                  <a:lnTo>
                    <a:pt x="153" y="297"/>
                  </a:lnTo>
                  <a:lnTo>
                    <a:pt x="140" y="297"/>
                  </a:lnTo>
                  <a:lnTo>
                    <a:pt x="125" y="295"/>
                  </a:lnTo>
                  <a:lnTo>
                    <a:pt x="111" y="292"/>
                  </a:lnTo>
                  <a:lnTo>
                    <a:pt x="98" y="286"/>
                  </a:lnTo>
                  <a:lnTo>
                    <a:pt x="86" y="280"/>
                  </a:lnTo>
                  <a:lnTo>
                    <a:pt x="73" y="272"/>
                  </a:lnTo>
                  <a:lnTo>
                    <a:pt x="63" y="265"/>
                  </a:lnTo>
                  <a:lnTo>
                    <a:pt x="52" y="255"/>
                  </a:lnTo>
                  <a:lnTo>
                    <a:pt x="44" y="246"/>
                  </a:lnTo>
                  <a:lnTo>
                    <a:pt x="34" y="234"/>
                  </a:lnTo>
                  <a:lnTo>
                    <a:pt x="27" y="223"/>
                  </a:lnTo>
                  <a:lnTo>
                    <a:pt x="21" y="209"/>
                  </a:lnTo>
                  <a:lnTo>
                    <a:pt x="17" y="196"/>
                  </a:lnTo>
                  <a:lnTo>
                    <a:pt x="13" y="182"/>
                  </a:lnTo>
                  <a:lnTo>
                    <a:pt x="11" y="169"/>
                  </a:lnTo>
                  <a:lnTo>
                    <a:pt x="9" y="154"/>
                  </a:lnTo>
                  <a:lnTo>
                    <a:pt x="11" y="138"/>
                  </a:lnTo>
                  <a:lnTo>
                    <a:pt x="13" y="125"/>
                  </a:lnTo>
                  <a:lnTo>
                    <a:pt x="17" y="111"/>
                  </a:lnTo>
                  <a:lnTo>
                    <a:pt x="21" y="98"/>
                  </a:lnTo>
                  <a:lnTo>
                    <a:pt x="27" y="84"/>
                  </a:lnTo>
                  <a:lnTo>
                    <a:pt x="34" y="73"/>
                  </a:lnTo>
                  <a:lnTo>
                    <a:pt x="44" y="63"/>
                  </a:lnTo>
                  <a:lnTo>
                    <a:pt x="52" y="52"/>
                  </a:lnTo>
                  <a:lnTo>
                    <a:pt x="63" y="42"/>
                  </a:lnTo>
                  <a:lnTo>
                    <a:pt x="73" y="35"/>
                  </a:lnTo>
                  <a:lnTo>
                    <a:pt x="86" y="27"/>
                  </a:lnTo>
                  <a:lnTo>
                    <a:pt x="98" y="21"/>
                  </a:lnTo>
                  <a:lnTo>
                    <a:pt x="111" y="17"/>
                  </a:lnTo>
                  <a:lnTo>
                    <a:pt x="125" y="13"/>
                  </a:lnTo>
                  <a:lnTo>
                    <a:pt x="140" y="12"/>
                  </a:lnTo>
                  <a:lnTo>
                    <a:pt x="153" y="10"/>
                  </a:lnTo>
                  <a:lnTo>
                    <a:pt x="169" y="12"/>
                  </a:lnTo>
                  <a:lnTo>
                    <a:pt x="182" y="13"/>
                  </a:lnTo>
                  <a:lnTo>
                    <a:pt x="184" y="13"/>
                  </a:lnTo>
                  <a:lnTo>
                    <a:pt x="184" y="12"/>
                  </a:lnTo>
                  <a:lnTo>
                    <a:pt x="186" y="12"/>
                  </a:lnTo>
                  <a:lnTo>
                    <a:pt x="186" y="10"/>
                  </a:lnTo>
                  <a:lnTo>
                    <a:pt x="186" y="8"/>
                  </a:lnTo>
                  <a:lnTo>
                    <a:pt x="186" y="8"/>
                  </a:lnTo>
                  <a:lnTo>
                    <a:pt x="186" y="6"/>
                  </a:lnTo>
                  <a:lnTo>
                    <a:pt x="186" y="4"/>
                  </a:lnTo>
                  <a:lnTo>
                    <a:pt x="186" y="4"/>
                  </a:lnTo>
                  <a:close/>
                </a:path>
              </a:pathLst>
            </a:custGeom>
            <a:solidFill>
              <a:srgbClr val="e2f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Freeform 237"/>
            <p:cNvSpPr/>
            <p:nvPr/>
          </p:nvSpPr>
          <p:spPr>
            <a:xfrm>
              <a:off x="2037960" y="2925000"/>
              <a:ext cx="302760" cy="500040"/>
            </a:xfrm>
            <a:custGeom>
              <a:avLst/>
              <a:gdLst>
                <a:gd name="textAreaLeft" fmla="*/ 0 w 302760"/>
                <a:gd name="textAreaRight" fmla="*/ 303120 w 302760"/>
                <a:gd name="textAreaTop" fmla="*/ 0 h 500040"/>
                <a:gd name="textAreaBottom" fmla="*/ 500400 h 500040"/>
              </a:gdLst>
              <a:ahLst/>
              <a:rect l="textAreaLeft" t="textAreaTop" r="textAreaRight" b="textAreaBottom"/>
              <a:pathLst>
                <a:path w="180" h="297">
                  <a:moveTo>
                    <a:pt x="180" y="2"/>
                  </a:moveTo>
                  <a:lnTo>
                    <a:pt x="178" y="2"/>
                  </a:lnTo>
                  <a:lnTo>
                    <a:pt x="163" y="0"/>
                  </a:lnTo>
                  <a:lnTo>
                    <a:pt x="147" y="0"/>
                  </a:lnTo>
                  <a:lnTo>
                    <a:pt x="132" y="0"/>
                  </a:lnTo>
                  <a:lnTo>
                    <a:pt x="119" y="2"/>
                  </a:lnTo>
                  <a:lnTo>
                    <a:pt x="103" y="6"/>
                  </a:lnTo>
                  <a:lnTo>
                    <a:pt x="90" y="11"/>
                  </a:lnTo>
                  <a:lnTo>
                    <a:pt x="76" y="17"/>
                  </a:lnTo>
                  <a:lnTo>
                    <a:pt x="65" y="25"/>
                  </a:lnTo>
                  <a:lnTo>
                    <a:pt x="53" y="32"/>
                  </a:lnTo>
                  <a:lnTo>
                    <a:pt x="42" y="42"/>
                  </a:lnTo>
                  <a:lnTo>
                    <a:pt x="32" y="54"/>
                  </a:lnTo>
                  <a:lnTo>
                    <a:pt x="25" y="65"/>
                  </a:lnTo>
                  <a:lnTo>
                    <a:pt x="17" y="77"/>
                  </a:lnTo>
                  <a:lnTo>
                    <a:pt x="11" y="90"/>
                  </a:lnTo>
                  <a:lnTo>
                    <a:pt x="5" y="103"/>
                  </a:lnTo>
                  <a:lnTo>
                    <a:pt x="2" y="119"/>
                  </a:lnTo>
                  <a:lnTo>
                    <a:pt x="0" y="132"/>
                  </a:lnTo>
                  <a:lnTo>
                    <a:pt x="0" y="148"/>
                  </a:lnTo>
                  <a:lnTo>
                    <a:pt x="0" y="163"/>
                  </a:lnTo>
                  <a:lnTo>
                    <a:pt x="2" y="178"/>
                  </a:lnTo>
                  <a:lnTo>
                    <a:pt x="5" y="192"/>
                  </a:lnTo>
                  <a:lnTo>
                    <a:pt x="11" y="205"/>
                  </a:lnTo>
                  <a:lnTo>
                    <a:pt x="17" y="219"/>
                  </a:lnTo>
                  <a:lnTo>
                    <a:pt x="25" y="232"/>
                  </a:lnTo>
                  <a:lnTo>
                    <a:pt x="32" y="242"/>
                  </a:lnTo>
                  <a:lnTo>
                    <a:pt x="42" y="253"/>
                  </a:lnTo>
                  <a:lnTo>
                    <a:pt x="53" y="263"/>
                  </a:lnTo>
                  <a:lnTo>
                    <a:pt x="65" y="270"/>
                  </a:lnTo>
                  <a:lnTo>
                    <a:pt x="76" y="278"/>
                  </a:lnTo>
                  <a:lnTo>
                    <a:pt x="90" y="286"/>
                  </a:lnTo>
                  <a:lnTo>
                    <a:pt x="103" y="289"/>
                  </a:lnTo>
                  <a:lnTo>
                    <a:pt x="119" y="293"/>
                  </a:lnTo>
                  <a:lnTo>
                    <a:pt x="132" y="295"/>
                  </a:lnTo>
                  <a:lnTo>
                    <a:pt x="147" y="297"/>
                  </a:lnTo>
                  <a:lnTo>
                    <a:pt x="163" y="295"/>
                  </a:lnTo>
                  <a:lnTo>
                    <a:pt x="178" y="293"/>
                  </a:lnTo>
                  <a:lnTo>
                    <a:pt x="180" y="293"/>
                  </a:lnTo>
                  <a:lnTo>
                    <a:pt x="180" y="291"/>
                  </a:lnTo>
                  <a:lnTo>
                    <a:pt x="180" y="289"/>
                  </a:lnTo>
                  <a:lnTo>
                    <a:pt x="180" y="289"/>
                  </a:lnTo>
                  <a:lnTo>
                    <a:pt x="180" y="288"/>
                  </a:lnTo>
                  <a:lnTo>
                    <a:pt x="180" y="286"/>
                  </a:lnTo>
                  <a:lnTo>
                    <a:pt x="180" y="286"/>
                  </a:lnTo>
                  <a:lnTo>
                    <a:pt x="180" y="284"/>
                  </a:lnTo>
                  <a:lnTo>
                    <a:pt x="180" y="282"/>
                  </a:lnTo>
                  <a:lnTo>
                    <a:pt x="176" y="284"/>
                  </a:lnTo>
                  <a:lnTo>
                    <a:pt x="163" y="286"/>
                  </a:lnTo>
                  <a:lnTo>
                    <a:pt x="147" y="286"/>
                  </a:lnTo>
                  <a:lnTo>
                    <a:pt x="134" y="286"/>
                  </a:lnTo>
                  <a:lnTo>
                    <a:pt x="121" y="284"/>
                  </a:lnTo>
                  <a:lnTo>
                    <a:pt x="107" y="280"/>
                  </a:lnTo>
                  <a:lnTo>
                    <a:pt x="94" y="276"/>
                  </a:lnTo>
                  <a:lnTo>
                    <a:pt x="82" y="270"/>
                  </a:lnTo>
                  <a:lnTo>
                    <a:pt x="71" y="263"/>
                  </a:lnTo>
                  <a:lnTo>
                    <a:pt x="59" y="255"/>
                  </a:lnTo>
                  <a:lnTo>
                    <a:pt x="50" y="245"/>
                  </a:lnTo>
                  <a:lnTo>
                    <a:pt x="42" y="236"/>
                  </a:lnTo>
                  <a:lnTo>
                    <a:pt x="32" y="226"/>
                  </a:lnTo>
                  <a:lnTo>
                    <a:pt x="26" y="215"/>
                  </a:lnTo>
                  <a:lnTo>
                    <a:pt x="21" y="201"/>
                  </a:lnTo>
                  <a:lnTo>
                    <a:pt x="15" y="190"/>
                  </a:lnTo>
                  <a:lnTo>
                    <a:pt x="13" y="176"/>
                  </a:lnTo>
                  <a:lnTo>
                    <a:pt x="9" y="163"/>
                  </a:lnTo>
                  <a:lnTo>
                    <a:pt x="9" y="148"/>
                  </a:lnTo>
                  <a:lnTo>
                    <a:pt x="9" y="134"/>
                  </a:lnTo>
                  <a:lnTo>
                    <a:pt x="13" y="121"/>
                  </a:lnTo>
                  <a:lnTo>
                    <a:pt x="15" y="107"/>
                  </a:lnTo>
                  <a:lnTo>
                    <a:pt x="21" y="94"/>
                  </a:lnTo>
                  <a:lnTo>
                    <a:pt x="26" y="82"/>
                  </a:lnTo>
                  <a:lnTo>
                    <a:pt x="32" y="71"/>
                  </a:lnTo>
                  <a:lnTo>
                    <a:pt x="42" y="59"/>
                  </a:lnTo>
                  <a:lnTo>
                    <a:pt x="50" y="50"/>
                  </a:lnTo>
                  <a:lnTo>
                    <a:pt x="59" y="40"/>
                  </a:lnTo>
                  <a:lnTo>
                    <a:pt x="71" y="32"/>
                  </a:lnTo>
                  <a:lnTo>
                    <a:pt x="82" y="27"/>
                  </a:lnTo>
                  <a:lnTo>
                    <a:pt x="94" y="21"/>
                  </a:lnTo>
                  <a:lnTo>
                    <a:pt x="107" y="15"/>
                  </a:lnTo>
                  <a:lnTo>
                    <a:pt x="121" y="11"/>
                  </a:lnTo>
                  <a:lnTo>
                    <a:pt x="134" y="9"/>
                  </a:lnTo>
                  <a:lnTo>
                    <a:pt x="147" y="9"/>
                  </a:lnTo>
                  <a:lnTo>
                    <a:pt x="163" y="9"/>
                  </a:lnTo>
                  <a:lnTo>
                    <a:pt x="176" y="11"/>
                  </a:lnTo>
                  <a:lnTo>
                    <a:pt x="178" y="13"/>
                  </a:lnTo>
                  <a:lnTo>
                    <a:pt x="178" y="11"/>
                  </a:lnTo>
                  <a:lnTo>
                    <a:pt x="178" y="9"/>
                  </a:lnTo>
                  <a:lnTo>
                    <a:pt x="178" y="9"/>
                  </a:lnTo>
                  <a:lnTo>
                    <a:pt x="178" y="7"/>
                  </a:lnTo>
                  <a:lnTo>
                    <a:pt x="180" y="6"/>
                  </a:lnTo>
                  <a:lnTo>
                    <a:pt x="180" y="6"/>
                  </a:lnTo>
                  <a:lnTo>
                    <a:pt x="180" y="4"/>
                  </a:lnTo>
                  <a:lnTo>
                    <a:pt x="180" y="2"/>
                  </a:lnTo>
                  <a:close/>
                </a:path>
              </a:pathLst>
            </a:custGeom>
            <a:solidFill>
              <a:srgbClr val="e3f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Freeform 238"/>
            <p:cNvSpPr/>
            <p:nvPr/>
          </p:nvSpPr>
          <p:spPr>
            <a:xfrm>
              <a:off x="2042640" y="2931480"/>
              <a:ext cx="297720" cy="483120"/>
            </a:xfrm>
            <a:custGeom>
              <a:avLst/>
              <a:gdLst>
                <a:gd name="textAreaLeft" fmla="*/ 0 w 297720"/>
                <a:gd name="textAreaRight" fmla="*/ 298080 w 297720"/>
                <a:gd name="textAreaTop" fmla="*/ 0 h 483120"/>
                <a:gd name="textAreaBottom" fmla="*/ 483480 h 483120"/>
              </a:gdLst>
              <a:ahLst/>
              <a:rect l="textAreaLeft" t="textAreaTop" r="textAreaRight" b="textAreaBottom"/>
              <a:pathLst>
                <a:path w="177" h="287">
                  <a:moveTo>
                    <a:pt x="175" y="3"/>
                  </a:moveTo>
                  <a:lnTo>
                    <a:pt x="173" y="3"/>
                  </a:lnTo>
                  <a:lnTo>
                    <a:pt x="160" y="2"/>
                  </a:lnTo>
                  <a:lnTo>
                    <a:pt x="144" y="0"/>
                  </a:lnTo>
                  <a:lnTo>
                    <a:pt x="131" y="2"/>
                  </a:lnTo>
                  <a:lnTo>
                    <a:pt x="116" y="3"/>
                  </a:lnTo>
                  <a:lnTo>
                    <a:pt x="102" y="7"/>
                  </a:lnTo>
                  <a:lnTo>
                    <a:pt x="89" y="11"/>
                  </a:lnTo>
                  <a:lnTo>
                    <a:pt x="77" y="17"/>
                  </a:lnTo>
                  <a:lnTo>
                    <a:pt x="64" y="25"/>
                  </a:lnTo>
                  <a:lnTo>
                    <a:pt x="54" y="32"/>
                  </a:lnTo>
                  <a:lnTo>
                    <a:pt x="43" y="42"/>
                  </a:lnTo>
                  <a:lnTo>
                    <a:pt x="35" y="53"/>
                  </a:lnTo>
                  <a:lnTo>
                    <a:pt x="25" y="63"/>
                  </a:lnTo>
                  <a:lnTo>
                    <a:pt x="18" y="74"/>
                  </a:lnTo>
                  <a:lnTo>
                    <a:pt x="12" y="88"/>
                  </a:lnTo>
                  <a:lnTo>
                    <a:pt x="8" y="101"/>
                  </a:lnTo>
                  <a:lnTo>
                    <a:pt x="4" y="115"/>
                  </a:lnTo>
                  <a:lnTo>
                    <a:pt x="2" y="128"/>
                  </a:lnTo>
                  <a:lnTo>
                    <a:pt x="0" y="144"/>
                  </a:lnTo>
                  <a:lnTo>
                    <a:pt x="2" y="159"/>
                  </a:lnTo>
                  <a:lnTo>
                    <a:pt x="4" y="172"/>
                  </a:lnTo>
                  <a:lnTo>
                    <a:pt x="8" y="186"/>
                  </a:lnTo>
                  <a:lnTo>
                    <a:pt x="12" y="199"/>
                  </a:lnTo>
                  <a:lnTo>
                    <a:pt x="18" y="213"/>
                  </a:lnTo>
                  <a:lnTo>
                    <a:pt x="25" y="224"/>
                  </a:lnTo>
                  <a:lnTo>
                    <a:pt x="35" y="236"/>
                  </a:lnTo>
                  <a:lnTo>
                    <a:pt x="43" y="245"/>
                  </a:lnTo>
                  <a:lnTo>
                    <a:pt x="54" y="255"/>
                  </a:lnTo>
                  <a:lnTo>
                    <a:pt x="64" y="262"/>
                  </a:lnTo>
                  <a:lnTo>
                    <a:pt x="77" y="270"/>
                  </a:lnTo>
                  <a:lnTo>
                    <a:pt x="89" y="276"/>
                  </a:lnTo>
                  <a:lnTo>
                    <a:pt x="102" y="282"/>
                  </a:lnTo>
                  <a:lnTo>
                    <a:pt x="116" y="285"/>
                  </a:lnTo>
                  <a:lnTo>
                    <a:pt x="131" y="287"/>
                  </a:lnTo>
                  <a:lnTo>
                    <a:pt x="144" y="287"/>
                  </a:lnTo>
                  <a:lnTo>
                    <a:pt x="160" y="287"/>
                  </a:lnTo>
                  <a:lnTo>
                    <a:pt x="173" y="285"/>
                  </a:lnTo>
                  <a:lnTo>
                    <a:pt x="177" y="284"/>
                  </a:lnTo>
                  <a:lnTo>
                    <a:pt x="177" y="282"/>
                  </a:lnTo>
                  <a:lnTo>
                    <a:pt x="177" y="282"/>
                  </a:lnTo>
                  <a:lnTo>
                    <a:pt x="177" y="280"/>
                  </a:lnTo>
                  <a:lnTo>
                    <a:pt x="177" y="278"/>
                  </a:lnTo>
                  <a:lnTo>
                    <a:pt x="177" y="278"/>
                  </a:lnTo>
                  <a:lnTo>
                    <a:pt x="177" y="276"/>
                  </a:lnTo>
                  <a:lnTo>
                    <a:pt x="177" y="274"/>
                  </a:lnTo>
                  <a:lnTo>
                    <a:pt x="177" y="274"/>
                  </a:lnTo>
                  <a:lnTo>
                    <a:pt x="171" y="274"/>
                  </a:lnTo>
                  <a:lnTo>
                    <a:pt x="158" y="276"/>
                  </a:lnTo>
                  <a:lnTo>
                    <a:pt x="144" y="278"/>
                  </a:lnTo>
                  <a:lnTo>
                    <a:pt x="131" y="276"/>
                  </a:lnTo>
                  <a:lnTo>
                    <a:pt x="118" y="274"/>
                  </a:lnTo>
                  <a:lnTo>
                    <a:pt x="106" y="272"/>
                  </a:lnTo>
                  <a:lnTo>
                    <a:pt x="93" y="266"/>
                  </a:lnTo>
                  <a:lnTo>
                    <a:pt x="81" y="261"/>
                  </a:lnTo>
                  <a:lnTo>
                    <a:pt x="70" y="255"/>
                  </a:lnTo>
                  <a:lnTo>
                    <a:pt x="60" y="247"/>
                  </a:lnTo>
                  <a:lnTo>
                    <a:pt x="50" y="238"/>
                  </a:lnTo>
                  <a:lnTo>
                    <a:pt x="43" y="228"/>
                  </a:lnTo>
                  <a:lnTo>
                    <a:pt x="35" y="218"/>
                  </a:lnTo>
                  <a:lnTo>
                    <a:pt x="27" y="207"/>
                  </a:lnTo>
                  <a:lnTo>
                    <a:pt x="22" y="195"/>
                  </a:lnTo>
                  <a:lnTo>
                    <a:pt x="18" y="184"/>
                  </a:lnTo>
                  <a:lnTo>
                    <a:pt x="14" y="170"/>
                  </a:lnTo>
                  <a:lnTo>
                    <a:pt x="12" y="157"/>
                  </a:lnTo>
                  <a:lnTo>
                    <a:pt x="12" y="144"/>
                  </a:lnTo>
                  <a:lnTo>
                    <a:pt x="12" y="130"/>
                  </a:lnTo>
                  <a:lnTo>
                    <a:pt x="14" y="117"/>
                  </a:lnTo>
                  <a:lnTo>
                    <a:pt x="18" y="103"/>
                  </a:lnTo>
                  <a:lnTo>
                    <a:pt x="22" y="92"/>
                  </a:lnTo>
                  <a:lnTo>
                    <a:pt x="27" y="80"/>
                  </a:lnTo>
                  <a:lnTo>
                    <a:pt x="35" y="69"/>
                  </a:lnTo>
                  <a:lnTo>
                    <a:pt x="43" y="59"/>
                  </a:lnTo>
                  <a:lnTo>
                    <a:pt x="50" y="50"/>
                  </a:lnTo>
                  <a:lnTo>
                    <a:pt x="60" y="40"/>
                  </a:lnTo>
                  <a:lnTo>
                    <a:pt x="70" y="32"/>
                  </a:lnTo>
                  <a:lnTo>
                    <a:pt x="81" y="26"/>
                  </a:lnTo>
                  <a:lnTo>
                    <a:pt x="93" y="21"/>
                  </a:lnTo>
                  <a:lnTo>
                    <a:pt x="106" y="17"/>
                  </a:lnTo>
                  <a:lnTo>
                    <a:pt x="118" y="13"/>
                  </a:lnTo>
                  <a:lnTo>
                    <a:pt x="131" y="11"/>
                  </a:lnTo>
                  <a:lnTo>
                    <a:pt x="144" y="11"/>
                  </a:lnTo>
                  <a:lnTo>
                    <a:pt x="158" y="11"/>
                  </a:lnTo>
                  <a:lnTo>
                    <a:pt x="171" y="13"/>
                  </a:lnTo>
                  <a:lnTo>
                    <a:pt x="175" y="13"/>
                  </a:lnTo>
                  <a:lnTo>
                    <a:pt x="175" y="13"/>
                  </a:lnTo>
                  <a:lnTo>
                    <a:pt x="175" y="11"/>
                  </a:lnTo>
                  <a:lnTo>
                    <a:pt x="175" y="9"/>
                  </a:lnTo>
                  <a:lnTo>
                    <a:pt x="175" y="9"/>
                  </a:lnTo>
                  <a:lnTo>
                    <a:pt x="175" y="7"/>
                  </a:lnTo>
                  <a:lnTo>
                    <a:pt x="175" y="5"/>
                  </a:lnTo>
                  <a:lnTo>
                    <a:pt x="175" y="5"/>
                  </a:lnTo>
                  <a:lnTo>
                    <a:pt x="175" y="3"/>
                  </a:lnTo>
                  <a:close/>
                </a:path>
              </a:pathLst>
            </a:custGeom>
            <a:solidFill>
              <a:srgbClr val="e4f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Freeform 239"/>
            <p:cNvSpPr/>
            <p:nvPr/>
          </p:nvSpPr>
          <p:spPr>
            <a:xfrm>
              <a:off x="2052720" y="2940120"/>
              <a:ext cx="287640" cy="466200"/>
            </a:xfrm>
            <a:custGeom>
              <a:avLst/>
              <a:gdLst>
                <a:gd name="textAreaLeft" fmla="*/ 0 w 287640"/>
                <a:gd name="textAreaRight" fmla="*/ 288000 w 287640"/>
                <a:gd name="textAreaTop" fmla="*/ 0 h 466200"/>
                <a:gd name="textAreaBottom" fmla="*/ 466560 h 466200"/>
              </a:gdLst>
              <a:ahLst/>
              <a:rect l="textAreaLeft" t="textAreaTop" r="textAreaRight" b="textAreaBottom"/>
              <a:pathLst>
                <a:path w="171" h="277">
                  <a:moveTo>
                    <a:pt x="169" y="4"/>
                  </a:moveTo>
                  <a:lnTo>
                    <a:pt x="167" y="2"/>
                  </a:lnTo>
                  <a:lnTo>
                    <a:pt x="154" y="0"/>
                  </a:lnTo>
                  <a:lnTo>
                    <a:pt x="138" y="0"/>
                  </a:lnTo>
                  <a:lnTo>
                    <a:pt x="125" y="0"/>
                  </a:lnTo>
                  <a:lnTo>
                    <a:pt x="112" y="2"/>
                  </a:lnTo>
                  <a:lnTo>
                    <a:pt x="98" y="6"/>
                  </a:lnTo>
                  <a:lnTo>
                    <a:pt x="85" y="12"/>
                  </a:lnTo>
                  <a:lnTo>
                    <a:pt x="73" y="18"/>
                  </a:lnTo>
                  <a:lnTo>
                    <a:pt x="62" y="23"/>
                  </a:lnTo>
                  <a:lnTo>
                    <a:pt x="50" y="31"/>
                  </a:lnTo>
                  <a:lnTo>
                    <a:pt x="41" y="41"/>
                  </a:lnTo>
                  <a:lnTo>
                    <a:pt x="33" y="50"/>
                  </a:lnTo>
                  <a:lnTo>
                    <a:pt x="23" y="62"/>
                  </a:lnTo>
                  <a:lnTo>
                    <a:pt x="17" y="73"/>
                  </a:lnTo>
                  <a:lnTo>
                    <a:pt x="12" y="85"/>
                  </a:lnTo>
                  <a:lnTo>
                    <a:pt x="6" y="98"/>
                  </a:lnTo>
                  <a:lnTo>
                    <a:pt x="4" y="112"/>
                  </a:lnTo>
                  <a:lnTo>
                    <a:pt x="0" y="125"/>
                  </a:lnTo>
                  <a:lnTo>
                    <a:pt x="0" y="139"/>
                  </a:lnTo>
                  <a:lnTo>
                    <a:pt x="0" y="154"/>
                  </a:lnTo>
                  <a:lnTo>
                    <a:pt x="4" y="167"/>
                  </a:lnTo>
                  <a:lnTo>
                    <a:pt x="6" y="181"/>
                  </a:lnTo>
                  <a:lnTo>
                    <a:pt x="12" y="192"/>
                  </a:lnTo>
                  <a:lnTo>
                    <a:pt x="17" y="206"/>
                  </a:lnTo>
                  <a:lnTo>
                    <a:pt x="23" y="217"/>
                  </a:lnTo>
                  <a:lnTo>
                    <a:pt x="33" y="227"/>
                  </a:lnTo>
                  <a:lnTo>
                    <a:pt x="41" y="236"/>
                  </a:lnTo>
                  <a:lnTo>
                    <a:pt x="50" y="246"/>
                  </a:lnTo>
                  <a:lnTo>
                    <a:pt x="62" y="254"/>
                  </a:lnTo>
                  <a:lnTo>
                    <a:pt x="73" y="261"/>
                  </a:lnTo>
                  <a:lnTo>
                    <a:pt x="85" y="267"/>
                  </a:lnTo>
                  <a:lnTo>
                    <a:pt x="98" y="271"/>
                  </a:lnTo>
                  <a:lnTo>
                    <a:pt x="112" y="275"/>
                  </a:lnTo>
                  <a:lnTo>
                    <a:pt x="125" y="277"/>
                  </a:lnTo>
                  <a:lnTo>
                    <a:pt x="138" y="277"/>
                  </a:lnTo>
                  <a:lnTo>
                    <a:pt x="154" y="277"/>
                  </a:lnTo>
                  <a:lnTo>
                    <a:pt x="167" y="275"/>
                  </a:lnTo>
                  <a:lnTo>
                    <a:pt x="171" y="273"/>
                  </a:lnTo>
                  <a:lnTo>
                    <a:pt x="171" y="273"/>
                  </a:lnTo>
                  <a:lnTo>
                    <a:pt x="171" y="271"/>
                  </a:lnTo>
                  <a:lnTo>
                    <a:pt x="171" y="269"/>
                  </a:lnTo>
                  <a:lnTo>
                    <a:pt x="171" y="269"/>
                  </a:lnTo>
                  <a:lnTo>
                    <a:pt x="171" y="267"/>
                  </a:lnTo>
                  <a:lnTo>
                    <a:pt x="171" y="265"/>
                  </a:lnTo>
                  <a:lnTo>
                    <a:pt x="171" y="265"/>
                  </a:lnTo>
                  <a:lnTo>
                    <a:pt x="171" y="263"/>
                  </a:lnTo>
                  <a:lnTo>
                    <a:pt x="165" y="265"/>
                  </a:lnTo>
                  <a:lnTo>
                    <a:pt x="152" y="267"/>
                  </a:lnTo>
                  <a:lnTo>
                    <a:pt x="138" y="267"/>
                  </a:lnTo>
                  <a:lnTo>
                    <a:pt x="125" y="267"/>
                  </a:lnTo>
                  <a:lnTo>
                    <a:pt x="113" y="265"/>
                  </a:lnTo>
                  <a:lnTo>
                    <a:pt x="100" y="261"/>
                  </a:lnTo>
                  <a:lnTo>
                    <a:pt x="89" y="257"/>
                  </a:lnTo>
                  <a:lnTo>
                    <a:pt x="77" y="252"/>
                  </a:lnTo>
                  <a:lnTo>
                    <a:pt x="67" y="246"/>
                  </a:lnTo>
                  <a:lnTo>
                    <a:pt x="58" y="238"/>
                  </a:lnTo>
                  <a:lnTo>
                    <a:pt x="48" y="229"/>
                  </a:lnTo>
                  <a:lnTo>
                    <a:pt x="41" y="221"/>
                  </a:lnTo>
                  <a:lnTo>
                    <a:pt x="33" y="211"/>
                  </a:lnTo>
                  <a:lnTo>
                    <a:pt x="27" y="200"/>
                  </a:lnTo>
                  <a:lnTo>
                    <a:pt x="21" y="188"/>
                  </a:lnTo>
                  <a:lnTo>
                    <a:pt x="16" y="177"/>
                  </a:lnTo>
                  <a:lnTo>
                    <a:pt x="14" y="165"/>
                  </a:lnTo>
                  <a:lnTo>
                    <a:pt x="12" y="152"/>
                  </a:lnTo>
                  <a:lnTo>
                    <a:pt x="10" y="139"/>
                  </a:lnTo>
                  <a:lnTo>
                    <a:pt x="12" y="125"/>
                  </a:lnTo>
                  <a:lnTo>
                    <a:pt x="14" y="114"/>
                  </a:lnTo>
                  <a:lnTo>
                    <a:pt x="16" y="100"/>
                  </a:lnTo>
                  <a:lnTo>
                    <a:pt x="21" y="89"/>
                  </a:lnTo>
                  <a:lnTo>
                    <a:pt x="27" y="77"/>
                  </a:lnTo>
                  <a:lnTo>
                    <a:pt x="33" y="68"/>
                  </a:lnTo>
                  <a:lnTo>
                    <a:pt x="41" y="58"/>
                  </a:lnTo>
                  <a:lnTo>
                    <a:pt x="48" y="48"/>
                  </a:lnTo>
                  <a:lnTo>
                    <a:pt x="58" y="41"/>
                  </a:lnTo>
                  <a:lnTo>
                    <a:pt x="67" y="33"/>
                  </a:lnTo>
                  <a:lnTo>
                    <a:pt x="77" y="25"/>
                  </a:lnTo>
                  <a:lnTo>
                    <a:pt x="89" y="21"/>
                  </a:lnTo>
                  <a:lnTo>
                    <a:pt x="100" y="16"/>
                  </a:lnTo>
                  <a:lnTo>
                    <a:pt x="113" y="14"/>
                  </a:lnTo>
                  <a:lnTo>
                    <a:pt x="125" y="12"/>
                  </a:lnTo>
                  <a:lnTo>
                    <a:pt x="138" y="10"/>
                  </a:lnTo>
                  <a:lnTo>
                    <a:pt x="152" y="12"/>
                  </a:lnTo>
                  <a:lnTo>
                    <a:pt x="165" y="14"/>
                  </a:lnTo>
                  <a:lnTo>
                    <a:pt x="169" y="14"/>
                  </a:lnTo>
                  <a:lnTo>
                    <a:pt x="169" y="14"/>
                  </a:lnTo>
                  <a:lnTo>
                    <a:pt x="169" y="12"/>
                  </a:lnTo>
                  <a:lnTo>
                    <a:pt x="169" y="10"/>
                  </a:lnTo>
                  <a:lnTo>
                    <a:pt x="169" y="8"/>
                  </a:lnTo>
                  <a:lnTo>
                    <a:pt x="169" y="8"/>
                  </a:lnTo>
                  <a:lnTo>
                    <a:pt x="169" y="6"/>
                  </a:lnTo>
                  <a:lnTo>
                    <a:pt x="169" y="4"/>
                  </a:lnTo>
                  <a:lnTo>
                    <a:pt x="169" y="4"/>
                  </a:lnTo>
                  <a:close/>
                </a:path>
              </a:pathLst>
            </a:custGeom>
            <a:solidFill>
              <a:srgbClr val="e5f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Freeform 240"/>
            <p:cNvSpPr/>
            <p:nvPr/>
          </p:nvSpPr>
          <p:spPr>
            <a:xfrm>
              <a:off x="2063160" y="2950200"/>
              <a:ext cx="277560" cy="449280"/>
            </a:xfrm>
            <a:custGeom>
              <a:avLst/>
              <a:gdLst>
                <a:gd name="textAreaLeft" fmla="*/ 0 w 277560"/>
                <a:gd name="textAreaRight" fmla="*/ 277920 w 27756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165" h="267">
                  <a:moveTo>
                    <a:pt x="163" y="2"/>
                  </a:moveTo>
                  <a:lnTo>
                    <a:pt x="159" y="2"/>
                  </a:lnTo>
                  <a:lnTo>
                    <a:pt x="146" y="0"/>
                  </a:lnTo>
                  <a:lnTo>
                    <a:pt x="132" y="0"/>
                  </a:lnTo>
                  <a:lnTo>
                    <a:pt x="119" y="0"/>
                  </a:lnTo>
                  <a:lnTo>
                    <a:pt x="106" y="2"/>
                  </a:lnTo>
                  <a:lnTo>
                    <a:pt x="94" y="6"/>
                  </a:lnTo>
                  <a:lnTo>
                    <a:pt x="81" y="10"/>
                  </a:lnTo>
                  <a:lnTo>
                    <a:pt x="69" y="15"/>
                  </a:lnTo>
                  <a:lnTo>
                    <a:pt x="58" y="21"/>
                  </a:lnTo>
                  <a:lnTo>
                    <a:pt x="48" y="29"/>
                  </a:lnTo>
                  <a:lnTo>
                    <a:pt x="38" y="39"/>
                  </a:lnTo>
                  <a:lnTo>
                    <a:pt x="31" y="48"/>
                  </a:lnTo>
                  <a:lnTo>
                    <a:pt x="23" y="58"/>
                  </a:lnTo>
                  <a:lnTo>
                    <a:pt x="15" y="69"/>
                  </a:lnTo>
                  <a:lnTo>
                    <a:pt x="10" y="81"/>
                  </a:lnTo>
                  <a:lnTo>
                    <a:pt x="6" y="92"/>
                  </a:lnTo>
                  <a:lnTo>
                    <a:pt x="2" y="106"/>
                  </a:lnTo>
                  <a:lnTo>
                    <a:pt x="0" y="119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2" y="159"/>
                  </a:lnTo>
                  <a:lnTo>
                    <a:pt x="6" y="173"/>
                  </a:lnTo>
                  <a:lnTo>
                    <a:pt x="10" y="184"/>
                  </a:lnTo>
                  <a:lnTo>
                    <a:pt x="15" y="196"/>
                  </a:lnTo>
                  <a:lnTo>
                    <a:pt x="23" y="207"/>
                  </a:lnTo>
                  <a:lnTo>
                    <a:pt x="31" y="217"/>
                  </a:lnTo>
                  <a:lnTo>
                    <a:pt x="38" y="227"/>
                  </a:lnTo>
                  <a:lnTo>
                    <a:pt x="48" y="236"/>
                  </a:lnTo>
                  <a:lnTo>
                    <a:pt x="58" y="244"/>
                  </a:lnTo>
                  <a:lnTo>
                    <a:pt x="69" y="250"/>
                  </a:lnTo>
                  <a:lnTo>
                    <a:pt x="81" y="255"/>
                  </a:lnTo>
                  <a:lnTo>
                    <a:pt x="94" y="261"/>
                  </a:lnTo>
                  <a:lnTo>
                    <a:pt x="106" y="263"/>
                  </a:lnTo>
                  <a:lnTo>
                    <a:pt x="119" y="265"/>
                  </a:lnTo>
                  <a:lnTo>
                    <a:pt x="132" y="267"/>
                  </a:lnTo>
                  <a:lnTo>
                    <a:pt x="146" y="265"/>
                  </a:lnTo>
                  <a:lnTo>
                    <a:pt x="159" y="263"/>
                  </a:lnTo>
                  <a:lnTo>
                    <a:pt x="165" y="263"/>
                  </a:lnTo>
                  <a:lnTo>
                    <a:pt x="165" y="261"/>
                  </a:lnTo>
                  <a:lnTo>
                    <a:pt x="165" y="259"/>
                  </a:lnTo>
                  <a:lnTo>
                    <a:pt x="165" y="259"/>
                  </a:lnTo>
                  <a:lnTo>
                    <a:pt x="165" y="257"/>
                  </a:lnTo>
                  <a:lnTo>
                    <a:pt x="165" y="255"/>
                  </a:lnTo>
                  <a:lnTo>
                    <a:pt x="165" y="255"/>
                  </a:lnTo>
                  <a:lnTo>
                    <a:pt x="165" y="253"/>
                  </a:lnTo>
                  <a:lnTo>
                    <a:pt x="165" y="251"/>
                  </a:lnTo>
                  <a:lnTo>
                    <a:pt x="157" y="253"/>
                  </a:lnTo>
                  <a:lnTo>
                    <a:pt x="146" y="255"/>
                  </a:lnTo>
                  <a:lnTo>
                    <a:pt x="132" y="255"/>
                  </a:lnTo>
                  <a:lnTo>
                    <a:pt x="121" y="255"/>
                  </a:lnTo>
                  <a:lnTo>
                    <a:pt x="107" y="253"/>
                  </a:lnTo>
                  <a:lnTo>
                    <a:pt x="96" y="250"/>
                  </a:lnTo>
                  <a:lnTo>
                    <a:pt x="84" y="246"/>
                  </a:lnTo>
                  <a:lnTo>
                    <a:pt x="75" y="242"/>
                  </a:lnTo>
                  <a:lnTo>
                    <a:pt x="63" y="234"/>
                  </a:lnTo>
                  <a:lnTo>
                    <a:pt x="54" y="228"/>
                  </a:lnTo>
                  <a:lnTo>
                    <a:pt x="46" y="221"/>
                  </a:lnTo>
                  <a:lnTo>
                    <a:pt x="38" y="211"/>
                  </a:lnTo>
                  <a:lnTo>
                    <a:pt x="31" y="202"/>
                  </a:lnTo>
                  <a:lnTo>
                    <a:pt x="25" y="192"/>
                  </a:lnTo>
                  <a:lnTo>
                    <a:pt x="19" y="180"/>
                  </a:lnTo>
                  <a:lnTo>
                    <a:pt x="15" y="169"/>
                  </a:lnTo>
                  <a:lnTo>
                    <a:pt x="11" y="157"/>
                  </a:lnTo>
                  <a:lnTo>
                    <a:pt x="10" y="146"/>
                  </a:lnTo>
                  <a:lnTo>
                    <a:pt x="10" y="133"/>
                  </a:lnTo>
                  <a:lnTo>
                    <a:pt x="10" y="121"/>
                  </a:lnTo>
                  <a:lnTo>
                    <a:pt x="11" y="108"/>
                  </a:lnTo>
                  <a:lnTo>
                    <a:pt x="15" y="96"/>
                  </a:lnTo>
                  <a:lnTo>
                    <a:pt x="19" y="85"/>
                  </a:lnTo>
                  <a:lnTo>
                    <a:pt x="25" y="75"/>
                  </a:lnTo>
                  <a:lnTo>
                    <a:pt x="31" y="63"/>
                  </a:lnTo>
                  <a:lnTo>
                    <a:pt x="38" y="54"/>
                  </a:lnTo>
                  <a:lnTo>
                    <a:pt x="46" y="46"/>
                  </a:lnTo>
                  <a:lnTo>
                    <a:pt x="54" y="39"/>
                  </a:lnTo>
                  <a:lnTo>
                    <a:pt x="63" y="31"/>
                  </a:lnTo>
                  <a:lnTo>
                    <a:pt x="75" y="25"/>
                  </a:lnTo>
                  <a:lnTo>
                    <a:pt x="84" y="19"/>
                  </a:lnTo>
                  <a:lnTo>
                    <a:pt x="96" y="15"/>
                  </a:lnTo>
                  <a:lnTo>
                    <a:pt x="107" y="12"/>
                  </a:lnTo>
                  <a:lnTo>
                    <a:pt x="121" y="10"/>
                  </a:lnTo>
                  <a:lnTo>
                    <a:pt x="132" y="10"/>
                  </a:lnTo>
                  <a:lnTo>
                    <a:pt x="146" y="10"/>
                  </a:lnTo>
                  <a:lnTo>
                    <a:pt x="157" y="12"/>
                  </a:lnTo>
                  <a:lnTo>
                    <a:pt x="163" y="14"/>
                  </a:lnTo>
                  <a:lnTo>
                    <a:pt x="163" y="12"/>
                  </a:lnTo>
                  <a:lnTo>
                    <a:pt x="163" y="12"/>
                  </a:lnTo>
                  <a:lnTo>
                    <a:pt x="163" y="10"/>
                  </a:lnTo>
                  <a:lnTo>
                    <a:pt x="163" y="8"/>
                  </a:lnTo>
                  <a:lnTo>
                    <a:pt x="163" y="8"/>
                  </a:lnTo>
                  <a:lnTo>
                    <a:pt x="163" y="6"/>
                  </a:lnTo>
                  <a:lnTo>
                    <a:pt x="163" y="4"/>
                  </a:lnTo>
                  <a:lnTo>
                    <a:pt x="163" y="2"/>
                  </a:lnTo>
                  <a:close/>
                </a:path>
              </a:pathLst>
            </a:custGeom>
            <a:solidFill>
              <a:srgbClr val="e6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Freeform 241"/>
            <p:cNvSpPr/>
            <p:nvPr/>
          </p:nvSpPr>
          <p:spPr>
            <a:xfrm>
              <a:off x="2069640" y="2957040"/>
              <a:ext cx="271080" cy="43236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432360"/>
                <a:gd name="textAreaBottom" fmla="*/ 432720 h 432360"/>
              </a:gdLst>
              <a:ahLst/>
              <a:rect l="textAreaLeft" t="textAreaTop" r="textAreaRight" b="textAreaBottom"/>
              <a:pathLst>
                <a:path w="161" h="257">
                  <a:moveTo>
                    <a:pt x="159" y="4"/>
                  </a:moveTo>
                  <a:lnTo>
                    <a:pt x="155" y="4"/>
                  </a:lnTo>
                  <a:lnTo>
                    <a:pt x="142" y="2"/>
                  </a:lnTo>
                  <a:lnTo>
                    <a:pt x="128" y="0"/>
                  </a:lnTo>
                  <a:lnTo>
                    <a:pt x="115" y="2"/>
                  </a:lnTo>
                  <a:lnTo>
                    <a:pt x="103" y="4"/>
                  </a:lnTo>
                  <a:lnTo>
                    <a:pt x="90" y="6"/>
                  </a:lnTo>
                  <a:lnTo>
                    <a:pt x="79" y="11"/>
                  </a:lnTo>
                  <a:lnTo>
                    <a:pt x="67" y="15"/>
                  </a:lnTo>
                  <a:lnTo>
                    <a:pt x="57" y="23"/>
                  </a:lnTo>
                  <a:lnTo>
                    <a:pt x="48" y="31"/>
                  </a:lnTo>
                  <a:lnTo>
                    <a:pt x="38" y="38"/>
                  </a:lnTo>
                  <a:lnTo>
                    <a:pt x="31" y="48"/>
                  </a:lnTo>
                  <a:lnTo>
                    <a:pt x="23" y="58"/>
                  </a:lnTo>
                  <a:lnTo>
                    <a:pt x="17" y="67"/>
                  </a:lnTo>
                  <a:lnTo>
                    <a:pt x="11" y="79"/>
                  </a:lnTo>
                  <a:lnTo>
                    <a:pt x="6" y="90"/>
                  </a:lnTo>
                  <a:lnTo>
                    <a:pt x="4" y="104"/>
                  </a:lnTo>
                  <a:lnTo>
                    <a:pt x="2" y="115"/>
                  </a:lnTo>
                  <a:lnTo>
                    <a:pt x="0" y="129"/>
                  </a:lnTo>
                  <a:lnTo>
                    <a:pt x="2" y="142"/>
                  </a:lnTo>
                  <a:lnTo>
                    <a:pt x="4" y="155"/>
                  </a:lnTo>
                  <a:lnTo>
                    <a:pt x="6" y="167"/>
                  </a:lnTo>
                  <a:lnTo>
                    <a:pt x="11" y="178"/>
                  </a:lnTo>
                  <a:lnTo>
                    <a:pt x="17" y="190"/>
                  </a:lnTo>
                  <a:lnTo>
                    <a:pt x="23" y="201"/>
                  </a:lnTo>
                  <a:lnTo>
                    <a:pt x="31" y="211"/>
                  </a:lnTo>
                  <a:lnTo>
                    <a:pt x="38" y="219"/>
                  </a:lnTo>
                  <a:lnTo>
                    <a:pt x="48" y="228"/>
                  </a:lnTo>
                  <a:lnTo>
                    <a:pt x="57" y="236"/>
                  </a:lnTo>
                  <a:lnTo>
                    <a:pt x="67" y="242"/>
                  </a:lnTo>
                  <a:lnTo>
                    <a:pt x="79" y="247"/>
                  </a:lnTo>
                  <a:lnTo>
                    <a:pt x="90" y="251"/>
                  </a:lnTo>
                  <a:lnTo>
                    <a:pt x="103" y="255"/>
                  </a:lnTo>
                  <a:lnTo>
                    <a:pt x="115" y="257"/>
                  </a:lnTo>
                  <a:lnTo>
                    <a:pt x="128" y="257"/>
                  </a:lnTo>
                  <a:lnTo>
                    <a:pt x="142" y="257"/>
                  </a:lnTo>
                  <a:lnTo>
                    <a:pt x="155" y="255"/>
                  </a:lnTo>
                  <a:lnTo>
                    <a:pt x="161" y="253"/>
                  </a:lnTo>
                  <a:lnTo>
                    <a:pt x="161" y="251"/>
                  </a:lnTo>
                  <a:lnTo>
                    <a:pt x="161" y="251"/>
                  </a:lnTo>
                  <a:lnTo>
                    <a:pt x="161" y="249"/>
                  </a:lnTo>
                  <a:lnTo>
                    <a:pt x="161" y="247"/>
                  </a:lnTo>
                  <a:lnTo>
                    <a:pt x="161" y="247"/>
                  </a:lnTo>
                  <a:lnTo>
                    <a:pt x="159" y="246"/>
                  </a:lnTo>
                  <a:lnTo>
                    <a:pt x="159" y="244"/>
                  </a:lnTo>
                  <a:lnTo>
                    <a:pt x="159" y="242"/>
                  </a:lnTo>
                  <a:lnTo>
                    <a:pt x="153" y="244"/>
                  </a:lnTo>
                  <a:lnTo>
                    <a:pt x="142" y="246"/>
                  </a:lnTo>
                  <a:lnTo>
                    <a:pt x="128" y="247"/>
                  </a:lnTo>
                  <a:lnTo>
                    <a:pt x="117" y="246"/>
                  </a:lnTo>
                  <a:lnTo>
                    <a:pt x="105" y="244"/>
                  </a:lnTo>
                  <a:lnTo>
                    <a:pt x="94" y="242"/>
                  </a:lnTo>
                  <a:lnTo>
                    <a:pt x="82" y="238"/>
                  </a:lnTo>
                  <a:lnTo>
                    <a:pt x="73" y="232"/>
                  </a:lnTo>
                  <a:lnTo>
                    <a:pt x="63" y="226"/>
                  </a:lnTo>
                  <a:lnTo>
                    <a:pt x="54" y="221"/>
                  </a:lnTo>
                  <a:lnTo>
                    <a:pt x="46" y="213"/>
                  </a:lnTo>
                  <a:lnTo>
                    <a:pt x="38" y="203"/>
                  </a:lnTo>
                  <a:lnTo>
                    <a:pt x="31" y="196"/>
                  </a:lnTo>
                  <a:lnTo>
                    <a:pt x="25" y="184"/>
                  </a:lnTo>
                  <a:lnTo>
                    <a:pt x="21" y="175"/>
                  </a:lnTo>
                  <a:lnTo>
                    <a:pt x="17" y="163"/>
                  </a:lnTo>
                  <a:lnTo>
                    <a:pt x="13" y="153"/>
                  </a:lnTo>
                  <a:lnTo>
                    <a:pt x="11" y="140"/>
                  </a:lnTo>
                  <a:lnTo>
                    <a:pt x="11" y="129"/>
                  </a:lnTo>
                  <a:lnTo>
                    <a:pt x="11" y="117"/>
                  </a:lnTo>
                  <a:lnTo>
                    <a:pt x="13" y="105"/>
                  </a:lnTo>
                  <a:lnTo>
                    <a:pt x="17" y="94"/>
                  </a:lnTo>
                  <a:lnTo>
                    <a:pt x="21" y="82"/>
                  </a:lnTo>
                  <a:lnTo>
                    <a:pt x="25" y="73"/>
                  </a:lnTo>
                  <a:lnTo>
                    <a:pt x="31" y="63"/>
                  </a:lnTo>
                  <a:lnTo>
                    <a:pt x="38" y="54"/>
                  </a:lnTo>
                  <a:lnTo>
                    <a:pt x="46" y="46"/>
                  </a:lnTo>
                  <a:lnTo>
                    <a:pt x="54" y="38"/>
                  </a:lnTo>
                  <a:lnTo>
                    <a:pt x="63" y="31"/>
                  </a:lnTo>
                  <a:lnTo>
                    <a:pt x="73" y="25"/>
                  </a:lnTo>
                  <a:lnTo>
                    <a:pt x="82" y="19"/>
                  </a:lnTo>
                  <a:lnTo>
                    <a:pt x="94" y="15"/>
                  </a:lnTo>
                  <a:lnTo>
                    <a:pt x="105" y="13"/>
                  </a:lnTo>
                  <a:lnTo>
                    <a:pt x="117" y="11"/>
                  </a:lnTo>
                  <a:lnTo>
                    <a:pt x="128" y="11"/>
                  </a:lnTo>
                  <a:lnTo>
                    <a:pt x="142" y="11"/>
                  </a:lnTo>
                  <a:lnTo>
                    <a:pt x="153" y="13"/>
                  </a:lnTo>
                  <a:lnTo>
                    <a:pt x="159" y="15"/>
                  </a:lnTo>
                  <a:lnTo>
                    <a:pt x="159" y="13"/>
                  </a:lnTo>
                  <a:lnTo>
                    <a:pt x="159" y="11"/>
                  </a:lnTo>
                  <a:lnTo>
                    <a:pt x="159" y="11"/>
                  </a:lnTo>
                  <a:lnTo>
                    <a:pt x="159" y="10"/>
                  </a:lnTo>
                  <a:lnTo>
                    <a:pt x="159" y="8"/>
                  </a:lnTo>
                  <a:lnTo>
                    <a:pt x="159" y="8"/>
                  </a:lnTo>
                  <a:lnTo>
                    <a:pt x="159" y="6"/>
                  </a:lnTo>
                  <a:lnTo>
                    <a:pt x="159" y="4"/>
                  </a:lnTo>
                  <a:close/>
                </a:path>
              </a:pathLst>
            </a:custGeom>
            <a:solidFill>
              <a:srgbClr val="e7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Freeform 242"/>
            <p:cNvSpPr/>
            <p:nvPr/>
          </p:nvSpPr>
          <p:spPr>
            <a:xfrm>
              <a:off x="2079720" y="2966760"/>
              <a:ext cx="260640" cy="41220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412200"/>
                <a:gd name="textAreaBottom" fmla="*/ 412560 h 412200"/>
              </a:gdLst>
              <a:ahLst/>
              <a:rect l="textAreaLeft" t="textAreaTop" r="textAreaRight" b="textAreaBottom"/>
              <a:pathLst>
                <a:path w="155" h="245">
                  <a:moveTo>
                    <a:pt x="153" y="4"/>
                  </a:moveTo>
                  <a:lnTo>
                    <a:pt x="147" y="2"/>
                  </a:lnTo>
                  <a:lnTo>
                    <a:pt x="136" y="0"/>
                  </a:lnTo>
                  <a:lnTo>
                    <a:pt x="122" y="0"/>
                  </a:lnTo>
                  <a:lnTo>
                    <a:pt x="111" y="0"/>
                  </a:lnTo>
                  <a:lnTo>
                    <a:pt x="97" y="2"/>
                  </a:lnTo>
                  <a:lnTo>
                    <a:pt x="86" y="5"/>
                  </a:lnTo>
                  <a:lnTo>
                    <a:pt x="74" y="9"/>
                  </a:lnTo>
                  <a:lnTo>
                    <a:pt x="65" y="15"/>
                  </a:lnTo>
                  <a:lnTo>
                    <a:pt x="53" y="21"/>
                  </a:lnTo>
                  <a:lnTo>
                    <a:pt x="44" y="29"/>
                  </a:lnTo>
                  <a:lnTo>
                    <a:pt x="36" y="36"/>
                  </a:lnTo>
                  <a:lnTo>
                    <a:pt x="28" y="44"/>
                  </a:lnTo>
                  <a:lnTo>
                    <a:pt x="21" y="53"/>
                  </a:lnTo>
                  <a:lnTo>
                    <a:pt x="15" y="65"/>
                  </a:lnTo>
                  <a:lnTo>
                    <a:pt x="9" y="75"/>
                  </a:lnTo>
                  <a:lnTo>
                    <a:pt x="5" y="86"/>
                  </a:lnTo>
                  <a:lnTo>
                    <a:pt x="1" y="98"/>
                  </a:lnTo>
                  <a:lnTo>
                    <a:pt x="0" y="111"/>
                  </a:lnTo>
                  <a:lnTo>
                    <a:pt x="0" y="123"/>
                  </a:lnTo>
                  <a:lnTo>
                    <a:pt x="0" y="136"/>
                  </a:lnTo>
                  <a:lnTo>
                    <a:pt x="1" y="147"/>
                  </a:lnTo>
                  <a:lnTo>
                    <a:pt x="5" y="159"/>
                  </a:lnTo>
                  <a:lnTo>
                    <a:pt x="9" y="170"/>
                  </a:lnTo>
                  <a:lnTo>
                    <a:pt x="15" y="182"/>
                  </a:lnTo>
                  <a:lnTo>
                    <a:pt x="21" y="192"/>
                  </a:lnTo>
                  <a:lnTo>
                    <a:pt x="28" y="201"/>
                  </a:lnTo>
                  <a:lnTo>
                    <a:pt x="36" y="211"/>
                  </a:lnTo>
                  <a:lnTo>
                    <a:pt x="44" y="218"/>
                  </a:lnTo>
                  <a:lnTo>
                    <a:pt x="53" y="224"/>
                  </a:lnTo>
                  <a:lnTo>
                    <a:pt x="65" y="232"/>
                  </a:lnTo>
                  <a:lnTo>
                    <a:pt x="74" y="236"/>
                  </a:lnTo>
                  <a:lnTo>
                    <a:pt x="86" y="240"/>
                  </a:lnTo>
                  <a:lnTo>
                    <a:pt x="97" y="243"/>
                  </a:lnTo>
                  <a:lnTo>
                    <a:pt x="111" y="245"/>
                  </a:lnTo>
                  <a:lnTo>
                    <a:pt x="122" y="245"/>
                  </a:lnTo>
                  <a:lnTo>
                    <a:pt x="136" y="245"/>
                  </a:lnTo>
                  <a:lnTo>
                    <a:pt x="147" y="243"/>
                  </a:lnTo>
                  <a:lnTo>
                    <a:pt x="155" y="241"/>
                  </a:lnTo>
                  <a:lnTo>
                    <a:pt x="155" y="241"/>
                  </a:lnTo>
                  <a:lnTo>
                    <a:pt x="153" y="240"/>
                  </a:lnTo>
                  <a:lnTo>
                    <a:pt x="153" y="238"/>
                  </a:lnTo>
                  <a:lnTo>
                    <a:pt x="153" y="236"/>
                  </a:lnTo>
                  <a:lnTo>
                    <a:pt x="153" y="236"/>
                  </a:lnTo>
                  <a:lnTo>
                    <a:pt x="153" y="234"/>
                  </a:lnTo>
                  <a:lnTo>
                    <a:pt x="153" y="232"/>
                  </a:lnTo>
                  <a:lnTo>
                    <a:pt x="153" y="232"/>
                  </a:lnTo>
                  <a:lnTo>
                    <a:pt x="145" y="234"/>
                  </a:lnTo>
                  <a:lnTo>
                    <a:pt x="134" y="236"/>
                  </a:lnTo>
                  <a:lnTo>
                    <a:pt x="122" y="236"/>
                  </a:lnTo>
                  <a:lnTo>
                    <a:pt x="111" y="236"/>
                  </a:lnTo>
                  <a:lnTo>
                    <a:pt x="99" y="234"/>
                  </a:lnTo>
                  <a:lnTo>
                    <a:pt x="90" y="230"/>
                  </a:lnTo>
                  <a:lnTo>
                    <a:pt x="78" y="226"/>
                  </a:lnTo>
                  <a:lnTo>
                    <a:pt x="69" y="222"/>
                  </a:lnTo>
                  <a:lnTo>
                    <a:pt x="59" y="217"/>
                  </a:lnTo>
                  <a:lnTo>
                    <a:pt x="51" y="211"/>
                  </a:lnTo>
                  <a:lnTo>
                    <a:pt x="44" y="203"/>
                  </a:lnTo>
                  <a:lnTo>
                    <a:pt x="36" y="195"/>
                  </a:lnTo>
                  <a:lnTo>
                    <a:pt x="30" y="186"/>
                  </a:lnTo>
                  <a:lnTo>
                    <a:pt x="25" y="176"/>
                  </a:lnTo>
                  <a:lnTo>
                    <a:pt x="19" y="167"/>
                  </a:lnTo>
                  <a:lnTo>
                    <a:pt x="15" y="157"/>
                  </a:lnTo>
                  <a:lnTo>
                    <a:pt x="13" y="146"/>
                  </a:lnTo>
                  <a:lnTo>
                    <a:pt x="11" y="134"/>
                  </a:lnTo>
                  <a:lnTo>
                    <a:pt x="9" y="123"/>
                  </a:lnTo>
                  <a:lnTo>
                    <a:pt x="11" y="111"/>
                  </a:lnTo>
                  <a:lnTo>
                    <a:pt x="13" y="99"/>
                  </a:lnTo>
                  <a:lnTo>
                    <a:pt x="15" y="90"/>
                  </a:lnTo>
                  <a:lnTo>
                    <a:pt x="19" y="78"/>
                  </a:lnTo>
                  <a:lnTo>
                    <a:pt x="25" y="69"/>
                  </a:lnTo>
                  <a:lnTo>
                    <a:pt x="30" y="59"/>
                  </a:lnTo>
                  <a:lnTo>
                    <a:pt x="36" y="52"/>
                  </a:lnTo>
                  <a:lnTo>
                    <a:pt x="44" y="44"/>
                  </a:lnTo>
                  <a:lnTo>
                    <a:pt x="51" y="36"/>
                  </a:lnTo>
                  <a:lnTo>
                    <a:pt x="59" y="29"/>
                  </a:lnTo>
                  <a:lnTo>
                    <a:pt x="69" y="23"/>
                  </a:lnTo>
                  <a:lnTo>
                    <a:pt x="78" y="19"/>
                  </a:lnTo>
                  <a:lnTo>
                    <a:pt x="90" y="15"/>
                  </a:lnTo>
                  <a:lnTo>
                    <a:pt x="99" y="11"/>
                  </a:lnTo>
                  <a:lnTo>
                    <a:pt x="111" y="11"/>
                  </a:lnTo>
                  <a:lnTo>
                    <a:pt x="122" y="9"/>
                  </a:lnTo>
                  <a:lnTo>
                    <a:pt x="134" y="11"/>
                  </a:lnTo>
                  <a:lnTo>
                    <a:pt x="145" y="11"/>
                  </a:lnTo>
                  <a:lnTo>
                    <a:pt x="153" y="13"/>
                  </a:lnTo>
                  <a:lnTo>
                    <a:pt x="153" y="13"/>
                  </a:lnTo>
                  <a:lnTo>
                    <a:pt x="153" y="11"/>
                  </a:lnTo>
                  <a:lnTo>
                    <a:pt x="153" y="9"/>
                  </a:lnTo>
                  <a:lnTo>
                    <a:pt x="153" y="9"/>
                  </a:lnTo>
                  <a:lnTo>
                    <a:pt x="153" y="7"/>
                  </a:lnTo>
                  <a:lnTo>
                    <a:pt x="153" y="5"/>
                  </a:lnTo>
                  <a:lnTo>
                    <a:pt x="153" y="5"/>
                  </a:lnTo>
                  <a:lnTo>
                    <a:pt x="153" y="4"/>
                  </a:lnTo>
                  <a:close/>
                </a:path>
              </a:pathLst>
            </a:custGeom>
            <a:solidFill>
              <a:srgbClr val="e8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Freeform 243"/>
            <p:cNvSpPr/>
            <p:nvPr/>
          </p:nvSpPr>
          <p:spPr>
            <a:xfrm>
              <a:off x="2088360" y="2975400"/>
              <a:ext cx="248760" cy="397440"/>
            </a:xfrm>
            <a:custGeom>
              <a:avLst/>
              <a:gdLst>
                <a:gd name="textAreaLeft" fmla="*/ 0 w 248760"/>
                <a:gd name="textAreaRight" fmla="*/ 249120 w 248760"/>
                <a:gd name="textAreaTop" fmla="*/ 0 h 397440"/>
                <a:gd name="textAreaBottom" fmla="*/ 397800 h 397440"/>
              </a:gdLst>
              <a:ahLst/>
              <a:rect l="textAreaLeft" t="textAreaTop" r="textAreaRight" b="textAreaBottom"/>
              <a:pathLst>
                <a:path w="148" h="236">
                  <a:moveTo>
                    <a:pt x="148" y="4"/>
                  </a:moveTo>
                  <a:lnTo>
                    <a:pt x="142" y="2"/>
                  </a:lnTo>
                  <a:lnTo>
                    <a:pt x="131" y="0"/>
                  </a:lnTo>
                  <a:lnTo>
                    <a:pt x="117" y="0"/>
                  </a:lnTo>
                  <a:lnTo>
                    <a:pt x="106" y="0"/>
                  </a:lnTo>
                  <a:lnTo>
                    <a:pt x="94" y="2"/>
                  </a:lnTo>
                  <a:lnTo>
                    <a:pt x="83" y="4"/>
                  </a:lnTo>
                  <a:lnTo>
                    <a:pt x="71" y="8"/>
                  </a:lnTo>
                  <a:lnTo>
                    <a:pt x="62" y="14"/>
                  </a:lnTo>
                  <a:lnTo>
                    <a:pt x="52" y="20"/>
                  </a:lnTo>
                  <a:lnTo>
                    <a:pt x="43" y="27"/>
                  </a:lnTo>
                  <a:lnTo>
                    <a:pt x="35" y="35"/>
                  </a:lnTo>
                  <a:lnTo>
                    <a:pt x="27" y="43"/>
                  </a:lnTo>
                  <a:lnTo>
                    <a:pt x="20" y="52"/>
                  </a:lnTo>
                  <a:lnTo>
                    <a:pt x="14" y="62"/>
                  </a:lnTo>
                  <a:lnTo>
                    <a:pt x="10" y="71"/>
                  </a:lnTo>
                  <a:lnTo>
                    <a:pt x="6" y="83"/>
                  </a:lnTo>
                  <a:lnTo>
                    <a:pt x="2" y="94"/>
                  </a:lnTo>
                  <a:lnTo>
                    <a:pt x="0" y="106"/>
                  </a:lnTo>
                  <a:lnTo>
                    <a:pt x="0" y="118"/>
                  </a:lnTo>
                  <a:lnTo>
                    <a:pt x="0" y="129"/>
                  </a:lnTo>
                  <a:lnTo>
                    <a:pt x="2" y="142"/>
                  </a:lnTo>
                  <a:lnTo>
                    <a:pt x="6" y="152"/>
                  </a:lnTo>
                  <a:lnTo>
                    <a:pt x="10" y="164"/>
                  </a:lnTo>
                  <a:lnTo>
                    <a:pt x="14" y="173"/>
                  </a:lnTo>
                  <a:lnTo>
                    <a:pt x="20" y="185"/>
                  </a:lnTo>
                  <a:lnTo>
                    <a:pt x="27" y="192"/>
                  </a:lnTo>
                  <a:lnTo>
                    <a:pt x="35" y="202"/>
                  </a:lnTo>
                  <a:lnTo>
                    <a:pt x="43" y="210"/>
                  </a:lnTo>
                  <a:lnTo>
                    <a:pt x="52" y="215"/>
                  </a:lnTo>
                  <a:lnTo>
                    <a:pt x="62" y="221"/>
                  </a:lnTo>
                  <a:lnTo>
                    <a:pt x="71" y="227"/>
                  </a:lnTo>
                  <a:lnTo>
                    <a:pt x="83" y="231"/>
                  </a:lnTo>
                  <a:lnTo>
                    <a:pt x="94" y="233"/>
                  </a:lnTo>
                  <a:lnTo>
                    <a:pt x="106" y="235"/>
                  </a:lnTo>
                  <a:lnTo>
                    <a:pt x="117" y="236"/>
                  </a:lnTo>
                  <a:lnTo>
                    <a:pt x="131" y="235"/>
                  </a:lnTo>
                  <a:lnTo>
                    <a:pt x="142" y="233"/>
                  </a:lnTo>
                  <a:lnTo>
                    <a:pt x="148" y="231"/>
                  </a:lnTo>
                  <a:lnTo>
                    <a:pt x="148" y="231"/>
                  </a:lnTo>
                  <a:lnTo>
                    <a:pt x="148" y="229"/>
                  </a:lnTo>
                  <a:lnTo>
                    <a:pt x="148" y="227"/>
                  </a:lnTo>
                  <a:lnTo>
                    <a:pt x="148" y="227"/>
                  </a:lnTo>
                  <a:lnTo>
                    <a:pt x="148" y="225"/>
                  </a:lnTo>
                  <a:lnTo>
                    <a:pt x="148" y="223"/>
                  </a:lnTo>
                  <a:lnTo>
                    <a:pt x="148" y="223"/>
                  </a:lnTo>
                  <a:lnTo>
                    <a:pt x="148" y="221"/>
                  </a:lnTo>
                  <a:lnTo>
                    <a:pt x="140" y="223"/>
                  </a:lnTo>
                  <a:lnTo>
                    <a:pt x="129" y="225"/>
                  </a:lnTo>
                  <a:lnTo>
                    <a:pt x="117" y="225"/>
                  </a:lnTo>
                  <a:lnTo>
                    <a:pt x="108" y="225"/>
                  </a:lnTo>
                  <a:lnTo>
                    <a:pt x="96" y="223"/>
                  </a:lnTo>
                  <a:lnTo>
                    <a:pt x="87" y="221"/>
                  </a:lnTo>
                  <a:lnTo>
                    <a:pt x="75" y="217"/>
                  </a:lnTo>
                  <a:lnTo>
                    <a:pt x="68" y="213"/>
                  </a:lnTo>
                  <a:lnTo>
                    <a:pt x="58" y="208"/>
                  </a:lnTo>
                  <a:lnTo>
                    <a:pt x="50" y="200"/>
                  </a:lnTo>
                  <a:lnTo>
                    <a:pt x="43" y="194"/>
                  </a:lnTo>
                  <a:lnTo>
                    <a:pt x="35" y="187"/>
                  </a:lnTo>
                  <a:lnTo>
                    <a:pt x="29" y="179"/>
                  </a:lnTo>
                  <a:lnTo>
                    <a:pt x="23" y="169"/>
                  </a:lnTo>
                  <a:lnTo>
                    <a:pt x="20" y="160"/>
                  </a:lnTo>
                  <a:lnTo>
                    <a:pt x="16" y="150"/>
                  </a:lnTo>
                  <a:lnTo>
                    <a:pt x="12" y="139"/>
                  </a:lnTo>
                  <a:lnTo>
                    <a:pt x="10" y="129"/>
                  </a:lnTo>
                  <a:lnTo>
                    <a:pt x="10" y="118"/>
                  </a:lnTo>
                  <a:lnTo>
                    <a:pt x="10" y="106"/>
                  </a:lnTo>
                  <a:lnTo>
                    <a:pt x="12" y="96"/>
                  </a:lnTo>
                  <a:lnTo>
                    <a:pt x="16" y="85"/>
                  </a:lnTo>
                  <a:lnTo>
                    <a:pt x="20" y="75"/>
                  </a:lnTo>
                  <a:lnTo>
                    <a:pt x="23" y="66"/>
                  </a:lnTo>
                  <a:lnTo>
                    <a:pt x="29" y="58"/>
                  </a:lnTo>
                  <a:lnTo>
                    <a:pt x="35" y="48"/>
                  </a:lnTo>
                  <a:lnTo>
                    <a:pt x="43" y="41"/>
                  </a:lnTo>
                  <a:lnTo>
                    <a:pt x="50" y="35"/>
                  </a:lnTo>
                  <a:lnTo>
                    <a:pt x="58" y="29"/>
                  </a:lnTo>
                  <a:lnTo>
                    <a:pt x="68" y="24"/>
                  </a:lnTo>
                  <a:lnTo>
                    <a:pt x="75" y="18"/>
                  </a:lnTo>
                  <a:lnTo>
                    <a:pt x="87" y="14"/>
                  </a:lnTo>
                  <a:lnTo>
                    <a:pt x="96" y="12"/>
                  </a:lnTo>
                  <a:lnTo>
                    <a:pt x="108" y="10"/>
                  </a:lnTo>
                  <a:lnTo>
                    <a:pt x="117" y="10"/>
                  </a:lnTo>
                  <a:lnTo>
                    <a:pt x="129" y="10"/>
                  </a:lnTo>
                  <a:lnTo>
                    <a:pt x="140" y="12"/>
                  </a:lnTo>
                  <a:lnTo>
                    <a:pt x="146" y="14"/>
                  </a:lnTo>
                  <a:lnTo>
                    <a:pt x="148" y="12"/>
                  </a:lnTo>
                  <a:lnTo>
                    <a:pt x="148" y="12"/>
                  </a:lnTo>
                  <a:lnTo>
                    <a:pt x="148" y="10"/>
                  </a:lnTo>
                  <a:lnTo>
                    <a:pt x="148" y="8"/>
                  </a:lnTo>
                  <a:lnTo>
                    <a:pt x="148" y="8"/>
                  </a:lnTo>
                  <a:lnTo>
                    <a:pt x="148" y="6"/>
                  </a:lnTo>
                  <a:lnTo>
                    <a:pt x="148" y="4"/>
                  </a:lnTo>
                  <a:lnTo>
                    <a:pt x="148" y="4"/>
                  </a:lnTo>
                  <a:close/>
                </a:path>
              </a:pathLst>
            </a:custGeom>
            <a:solidFill>
              <a:srgbClr val="e9f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Freeform 244"/>
            <p:cNvSpPr/>
            <p:nvPr/>
          </p:nvSpPr>
          <p:spPr>
            <a:xfrm>
              <a:off x="2094840" y="2982240"/>
              <a:ext cx="242280" cy="381960"/>
            </a:xfrm>
            <a:custGeom>
              <a:avLst/>
              <a:gdLst>
                <a:gd name="textAreaLeft" fmla="*/ 0 w 242280"/>
                <a:gd name="textAreaRight" fmla="*/ 242640 w 242280"/>
                <a:gd name="textAreaTop" fmla="*/ 0 h 381960"/>
                <a:gd name="textAreaBottom" fmla="*/ 382320 h 381960"/>
              </a:gdLst>
              <a:ahLst/>
              <a:rect l="textAreaLeft" t="textAreaTop" r="textAreaRight" b="textAreaBottom"/>
              <a:pathLst>
                <a:path w="144" h="227">
                  <a:moveTo>
                    <a:pt x="144" y="4"/>
                  </a:moveTo>
                  <a:lnTo>
                    <a:pt x="136" y="2"/>
                  </a:lnTo>
                  <a:lnTo>
                    <a:pt x="125" y="2"/>
                  </a:lnTo>
                  <a:lnTo>
                    <a:pt x="113" y="0"/>
                  </a:lnTo>
                  <a:lnTo>
                    <a:pt x="102" y="2"/>
                  </a:lnTo>
                  <a:lnTo>
                    <a:pt x="90" y="2"/>
                  </a:lnTo>
                  <a:lnTo>
                    <a:pt x="81" y="6"/>
                  </a:lnTo>
                  <a:lnTo>
                    <a:pt x="69" y="10"/>
                  </a:lnTo>
                  <a:lnTo>
                    <a:pt x="60" y="14"/>
                  </a:lnTo>
                  <a:lnTo>
                    <a:pt x="50" y="20"/>
                  </a:lnTo>
                  <a:lnTo>
                    <a:pt x="42" y="27"/>
                  </a:lnTo>
                  <a:lnTo>
                    <a:pt x="35" y="35"/>
                  </a:lnTo>
                  <a:lnTo>
                    <a:pt x="27" y="43"/>
                  </a:lnTo>
                  <a:lnTo>
                    <a:pt x="21" y="50"/>
                  </a:lnTo>
                  <a:lnTo>
                    <a:pt x="16" y="60"/>
                  </a:lnTo>
                  <a:lnTo>
                    <a:pt x="10" y="69"/>
                  </a:lnTo>
                  <a:lnTo>
                    <a:pt x="6" y="81"/>
                  </a:lnTo>
                  <a:lnTo>
                    <a:pt x="4" y="90"/>
                  </a:lnTo>
                  <a:lnTo>
                    <a:pt x="2" y="102"/>
                  </a:lnTo>
                  <a:lnTo>
                    <a:pt x="0" y="114"/>
                  </a:lnTo>
                  <a:lnTo>
                    <a:pt x="2" y="125"/>
                  </a:lnTo>
                  <a:lnTo>
                    <a:pt x="4" y="137"/>
                  </a:lnTo>
                  <a:lnTo>
                    <a:pt x="6" y="148"/>
                  </a:lnTo>
                  <a:lnTo>
                    <a:pt x="10" y="158"/>
                  </a:lnTo>
                  <a:lnTo>
                    <a:pt x="16" y="167"/>
                  </a:lnTo>
                  <a:lnTo>
                    <a:pt x="21" y="177"/>
                  </a:lnTo>
                  <a:lnTo>
                    <a:pt x="27" y="186"/>
                  </a:lnTo>
                  <a:lnTo>
                    <a:pt x="35" y="194"/>
                  </a:lnTo>
                  <a:lnTo>
                    <a:pt x="42" y="202"/>
                  </a:lnTo>
                  <a:lnTo>
                    <a:pt x="50" y="208"/>
                  </a:lnTo>
                  <a:lnTo>
                    <a:pt x="60" y="213"/>
                  </a:lnTo>
                  <a:lnTo>
                    <a:pt x="69" y="217"/>
                  </a:lnTo>
                  <a:lnTo>
                    <a:pt x="81" y="221"/>
                  </a:lnTo>
                  <a:lnTo>
                    <a:pt x="90" y="225"/>
                  </a:lnTo>
                  <a:lnTo>
                    <a:pt x="102" y="227"/>
                  </a:lnTo>
                  <a:lnTo>
                    <a:pt x="113" y="227"/>
                  </a:lnTo>
                  <a:lnTo>
                    <a:pt x="125" y="227"/>
                  </a:lnTo>
                  <a:lnTo>
                    <a:pt x="136" y="225"/>
                  </a:lnTo>
                  <a:lnTo>
                    <a:pt x="144" y="223"/>
                  </a:lnTo>
                  <a:lnTo>
                    <a:pt x="144" y="221"/>
                  </a:lnTo>
                  <a:lnTo>
                    <a:pt x="144" y="219"/>
                  </a:lnTo>
                  <a:lnTo>
                    <a:pt x="144" y="219"/>
                  </a:lnTo>
                  <a:lnTo>
                    <a:pt x="144" y="217"/>
                  </a:lnTo>
                  <a:lnTo>
                    <a:pt x="144" y="215"/>
                  </a:lnTo>
                  <a:lnTo>
                    <a:pt x="144" y="215"/>
                  </a:lnTo>
                  <a:lnTo>
                    <a:pt x="144" y="213"/>
                  </a:lnTo>
                  <a:lnTo>
                    <a:pt x="144" y="211"/>
                  </a:lnTo>
                  <a:lnTo>
                    <a:pt x="135" y="215"/>
                  </a:lnTo>
                  <a:lnTo>
                    <a:pt x="125" y="215"/>
                  </a:lnTo>
                  <a:lnTo>
                    <a:pt x="113" y="217"/>
                  </a:lnTo>
                  <a:lnTo>
                    <a:pt x="104" y="215"/>
                  </a:lnTo>
                  <a:lnTo>
                    <a:pt x="94" y="215"/>
                  </a:lnTo>
                  <a:lnTo>
                    <a:pt x="83" y="211"/>
                  </a:lnTo>
                  <a:lnTo>
                    <a:pt x="75" y="208"/>
                  </a:lnTo>
                  <a:lnTo>
                    <a:pt x="56" y="200"/>
                  </a:lnTo>
                  <a:lnTo>
                    <a:pt x="42" y="186"/>
                  </a:lnTo>
                  <a:lnTo>
                    <a:pt x="29" y="171"/>
                  </a:lnTo>
                  <a:lnTo>
                    <a:pt x="19" y="154"/>
                  </a:lnTo>
                  <a:lnTo>
                    <a:pt x="16" y="144"/>
                  </a:lnTo>
                  <a:lnTo>
                    <a:pt x="14" y="135"/>
                  </a:lnTo>
                  <a:lnTo>
                    <a:pt x="12" y="125"/>
                  </a:lnTo>
                  <a:lnTo>
                    <a:pt x="12" y="114"/>
                  </a:lnTo>
                  <a:lnTo>
                    <a:pt x="12" y="104"/>
                  </a:lnTo>
                  <a:lnTo>
                    <a:pt x="14" y="92"/>
                  </a:lnTo>
                  <a:lnTo>
                    <a:pt x="16" y="83"/>
                  </a:lnTo>
                  <a:lnTo>
                    <a:pt x="19" y="73"/>
                  </a:lnTo>
                  <a:lnTo>
                    <a:pt x="29" y="56"/>
                  </a:lnTo>
                  <a:lnTo>
                    <a:pt x="42" y="41"/>
                  </a:lnTo>
                  <a:lnTo>
                    <a:pt x="56" y="29"/>
                  </a:lnTo>
                  <a:lnTo>
                    <a:pt x="75" y="20"/>
                  </a:lnTo>
                  <a:lnTo>
                    <a:pt x="83" y="16"/>
                  </a:lnTo>
                  <a:lnTo>
                    <a:pt x="94" y="14"/>
                  </a:lnTo>
                  <a:lnTo>
                    <a:pt x="104" y="12"/>
                  </a:lnTo>
                  <a:lnTo>
                    <a:pt x="113" y="12"/>
                  </a:lnTo>
                  <a:lnTo>
                    <a:pt x="125" y="12"/>
                  </a:lnTo>
                  <a:lnTo>
                    <a:pt x="135" y="14"/>
                  </a:lnTo>
                  <a:lnTo>
                    <a:pt x="142" y="16"/>
                  </a:lnTo>
                  <a:lnTo>
                    <a:pt x="142" y="14"/>
                  </a:lnTo>
                  <a:lnTo>
                    <a:pt x="142" y="12"/>
                  </a:lnTo>
                  <a:lnTo>
                    <a:pt x="142" y="12"/>
                  </a:lnTo>
                  <a:lnTo>
                    <a:pt x="142" y="10"/>
                  </a:lnTo>
                  <a:lnTo>
                    <a:pt x="144" y="8"/>
                  </a:lnTo>
                  <a:lnTo>
                    <a:pt x="144" y="8"/>
                  </a:lnTo>
                  <a:lnTo>
                    <a:pt x="144" y="6"/>
                  </a:lnTo>
                  <a:lnTo>
                    <a:pt x="144" y="4"/>
                  </a:lnTo>
                  <a:close/>
                </a:path>
              </a:pathLst>
            </a:custGeom>
            <a:solidFill>
              <a:srgbClr val="eaf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Freeform 245"/>
            <p:cNvSpPr/>
            <p:nvPr/>
          </p:nvSpPr>
          <p:spPr>
            <a:xfrm>
              <a:off x="2104920" y="2991960"/>
              <a:ext cx="231840" cy="36180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38" h="215">
                  <a:moveTo>
                    <a:pt x="136" y="4"/>
                  </a:moveTo>
                  <a:lnTo>
                    <a:pt x="130" y="2"/>
                  </a:lnTo>
                  <a:lnTo>
                    <a:pt x="119" y="0"/>
                  </a:lnTo>
                  <a:lnTo>
                    <a:pt x="107" y="0"/>
                  </a:lnTo>
                  <a:lnTo>
                    <a:pt x="98" y="0"/>
                  </a:lnTo>
                  <a:lnTo>
                    <a:pt x="86" y="2"/>
                  </a:lnTo>
                  <a:lnTo>
                    <a:pt x="77" y="4"/>
                  </a:lnTo>
                  <a:lnTo>
                    <a:pt x="65" y="8"/>
                  </a:lnTo>
                  <a:lnTo>
                    <a:pt x="58" y="14"/>
                  </a:lnTo>
                  <a:lnTo>
                    <a:pt x="48" y="19"/>
                  </a:lnTo>
                  <a:lnTo>
                    <a:pt x="40" y="25"/>
                  </a:lnTo>
                  <a:lnTo>
                    <a:pt x="33" y="31"/>
                  </a:lnTo>
                  <a:lnTo>
                    <a:pt x="25" y="38"/>
                  </a:lnTo>
                  <a:lnTo>
                    <a:pt x="19" y="48"/>
                  </a:lnTo>
                  <a:lnTo>
                    <a:pt x="13" y="56"/>
                  </a:lnTo>
                  <a:lnTo>
                    <a:pt x="10" y="65"/>
                  </a:lnTo>
                  <a:lnTo>
                    <a:pt x="6" y="75"/>
                  </a:lnTo>
                  <a:lnTo>
                    <a:pt x="2" y="86"/>
                  </a:lnTo>
                  <a:lnTo>
                    <a:pt x="0" y="96"/>
                  </a:lnTo>
                  <a:lnTo>
                    <a:pt x="0" y="108"/>
                  </a:lnTo>
                  <a:lnTo>
                    <a:pt x="0" y="119"/>
                  </a:lnTo>
                  <a:lnTo>
                    <a:pt x="2" y="129"/>
                  </a:lnTo>
                  <a:lnTo>
                    <a:pt x="6" y="140"/>
                  </a:lnTo>
                  <a:lnTo>
                    <a:pt x="10" y="150"/>
                  </a:lnTo>
                  <a:lnTo>
                    <a:pt x="13" y="159"/>
                  </a:lnTo>
                  <a:lnTo>
                    <a:pt x="19" y="169"/>
                  </a:lnTo>
                  <a:lnTo>
                    <a:pt x="25" y="177"/>
                  </a:lnTo>
                  <a:lnTo>
                    <a:pt x="33" y="184"/>
                  </a:lnTo>
                  <a:lnTo>
                    <a:pt x="40" y="190"/>
                  </a:lnTo>
                  <a:lnTo>
                    <a:pt x="48" y="198"/>
                  </a:lnTo>
                  <a:lnTo>
                    <a:pt x="58" y="203"/>
                  </a:lnTo>
                  <a:lnTo>
                    <a:pt x="65" y="207"/>
                  </a:lnTo>
                  <a:lnTo>
                    <a:pt x="77" y="211"/>
                  </a:lnTo>
                  <a:lnTo>
                    <a:pt x="86" y="213"/>
                  </a:lnTo>
                  <a:lnTo>
                    <a:pt x="98" y="215"/>
                  </a:lnTo>
                  <a:lnTo>
                    <a:pt x="107" y="215"/>
                  </a:lnTo>
                  <a:lnTo>
                    <a:pt x="119" y="215"/>
                  </a:lnTo>
                  <a:lnTo>
                    <a:pt x="130" y="213"/>
                  </a:lnTo>
                  <a:lnTo>
                    <a:pt x="138" y="211"/>
                  </a:lnTo>
                  <a:lnTo>
                    <a:pt x="138" y="209"/>
                  </a:lnTo>
                  <a:lnTo>
                    <a:pt x="138" y="209"/>
                  </a:lnTo>
                  <a:lnTo>
                    <a:pt x="138" y="207"/>
                  </a:lnTo>
                  <a:lnTo>
                    <a:pt x="138" y="205"/>
                  </a:lnTo>
                  <a:lnTo>
                    <a:pt x="138" y="205"/>
                  </a:lnTo>
                  <a:lnTo>
                    <a:pt x="138" y="203"/>
                  </a:lnTo>
                  <a:lnTo>
                    <a:pt x="138" y="202"/>
                  </a:lnTo>
                  <a:lnTo>
                    <a:pt x="138" y="202"/>
                  </a:lnTo>
                  <a:lnTo>
                    <a:pt x="136" y="202"/>
                  </a:lnTo>
                  <a:lnTo>
                    <a:pt x="129" y="203"/>
                  </a:lnTo>
                  <a:lnTo>
                    <a:pt x="119" y="205"/>
                  </a:lnTo>
                  <a:lnTo>
                    <a:pt x="107" y="205"/>
                  </a:lnTo>
                  <a:lnTo>
                    <a:pt x="98" y="205"/>
                  </a:lnTo>
                  <a:lnTo>
                    <a:pt x="88" y="203"/>
                  </a:lnTo>
                  <a:lnTo>
                    <a:pt x="79" y="202"/>
                  </a:lnTo>
                  <a:lnTo>
                    <a:pt x="71" y="198"/>
                  </a:lnTo>
                  <a:lnTo>
                    <a:pt x="54" y="188"/>
                  </a:lnTo>
                  <a:lnTo>
                    <a:pt x="38" y="177"/>
                  </a:lnTo>
                  <a:lnTo>
                    <a:pt x="27" y="163"/>
                  </a:lnTo>
                  <a:lnTo>
                    <a:pt x="19" y="146"/>
                  </a:lnTo>
                  <a:lnTo>
                    <a:pt x="15" y="136"/>
                  </a:lnTo>
                  <a:lnTo>
                    <a:pt x="13" y="127"/>
                  </a:lnTo>
                  <a:lnTo>
                    <a:pt x="11" y="117"/>
                  </a:lnTo>
                  <a:lnTo>
                    <a:pt x="11" y="108"/>
                  </a:lnTo>
                  <a:lnTo>
                    <a:pt x="11" y="98"/>
                  </a:lnTo>
                  <a:lnTo>
                    <a:pt x="13" y="88"/>
                  </a:lnTo>
                  <a:lnTo>
                    <a:pt x="15" y="79"/>
                  </a:lnTo>
                  <a:lnTo>
                    <a:pt x="19" y="69"/>
                  </a:lnTo>
                  <a:lnTo>
                    <a:pt x="27" y="54"/>
                  </a:lnTo>
                  <a:lnTo>
                    <a:pt x="38" y="38"/>
                  </a:lnTo>
                  <a:lnTo>
                    <a:pt x="54" y="27"/>
                  </a:lnTo>
                  <a:lnTo>
                    <a:pt x="71" y="17"/>
                  </a:lnTo>
                  <a:lnTo>
                    <a:pt x="79" y="15"/>
                  </a:lnTo>
                  <a:lnTo>
                    <a:pt x="88" y="12"/>
                  </a:lnTo>
                  <a:lnTo>
                    <a:pt x="98" y="12"/>
                  </a:lnTo>
                  <a:lnTo>
                    <a:pt x="107" y="10"/>
                  </a:lnTo>
                  <a:lnTo>
                    <a:pt x="119" y="12"/>
                  </a:lnTo>
                  <a:lnTo>
                    <a:pt x="129" y="12"/>
                  </a:lnTo>
                  <a:lnTo>
                    <a:pt x="136" y="15"/>
                  </a:lnTo>
                  <a:lnTo>
                    <a:pt x="136" y="14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0"/>
                  </a:lnTo>
                  <a:lnTo>
                    <a:pt x="136" y="8"/>
                  </a:lnTo>
                  <a:lnTo>
                    <a:pt x="136" y="6"/>
                  </a:lnTo>
                  <a:lnTo>
                    <a:pt x="136" y="6"/>
                  </a:lnTo>
                  <a:lnTo>
                    <a:pt x="136" y="4"/>
                  </a:lnTo>
                  <a:close/>
                </a:path>
              </a:pathLst>
            </a:custGeom>
            <a:solidFill>
              <a:srgbClr val="eb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Freeform 246"/>
            <p:cNvSpPr/>
            <p:nvPr/>
          </p:nvSpPr>
          <p:spPr>
            <a:xfrm>
              <a:off x="2115000" y="3002400"/>
              <a:ext cx="222120" cy="34488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344880"/>
                <a:gd name="textAreaBottom" fmla="*/ 344880 h 344880"/>
              </a:gdLst>
              <a:ahLst/>
              <a:rect l="textAreaLeft" t="textAreaTop" r="textAreaRight" b="textAreaBottom"/>
              <a:pathLst>
                <a:path w="132" h="205">
                  <a:moveTo>
                    <a:pt x="130" y="4"/>
                  </a:moveTo>
                  <a:lnTo>
                    <a:pt x="123" y="2"/>
                  </a:lnTo>
                  <a:lnTo>
                    <a:pt x="113" y="0"/>
                  </a:lnTo>
                  <a:lnTo>
                    <a:pt x="101" y="0"/>
                  </a:lnTo>
                  <a:lnTo>
                    <a:pt x="92" y="0"/>
                  </a:lnTo>
                  <a:lnTo>
                    <a:pt x="82" y="2"/>
                  </a:lnTo>
                  <a:lnTo>
                    <a:pt x="71" y="4"/>
                  </a:lnTo>
                  <a:lnTo>
                    <a:pt x="63" y="8"/>
                  </a:lnTo>
                  <a:lnTo>
                    <a:pt x="44" y="17"/>
                  </a:lnTo>
                  <a:lnTo>
                    <a:pt x="30" y="29"/>
                  </a:lnTo>
                  <a:lnTo>
                    <a:pt x="17" y="44"/>
                  </a:lnTo>
                  <a:lnTo>
                    <a:pt x="7" y="61"/>
                  </a:lnTo>
                  <a:lnTo>
                    <a:pt x="4" y="71"/>
                  </a:lnTo>
                  <a:lnTo>
                    <a:pt x="2" y="80"/>
                  </a:lnTo>
                  <a:lnTo>
                    <a:pt x="0" y="92"/>
                  </a:lnTo>
                  <a:lnTo>
                    <a:pt x="0" y="102"/>
                  </a:lnTo>
                  <a:lnTo>
                    <a:pt x="0" y="113"/>
                  </a:lnTo>
                  <a:lnTo>
                    <a:pt x="2" y="123"/>
                  </a:lnTo>
                  <a:lnTo>
                    <a:pt x="4" y="132"/>
                  </a:lnTo>
                  <a:lnTo>
                    <a:pt x="7" y="142"/>
                  </a:lnTo>
                  <a:lnTo>
                    <a:pt x="17" y="159"/>
                  </a:lnTo>
                  <a:lnTo>
                    <a:pt x="30" y="174"/>
                  </a:lnTo>
                  <a:lnTo>
                    <a:pt x="44" y="188"/>
                  </a:lnTo>
                  <a:lnTo>
                    <a:pt x="63" y="196"/>
                  </a:lnTo>
                  <a:lnTo>
                    <a:pt x="71" y="199"/>
                  </a:lnTo>
                  <a:lnTo>
                    <a:pt x="82" y="203"/>
                  </a:lnTo>
                  <a:lnTo>
                    <a:pt x="92" y="203"/>
                  </a:lnTo>
                  <a:lnTo>
                    <a:pt x="101" y="205"/>
                  </a:lnTo>
                  <a:lnTo>
                    <a:pt x="113" y="203"/>
                  </a:lnTo>
                  <a:lnTo>
                    <a:pt x="123" y="203"/>
                  </a:lnTo>
                  <a:lnTo>
                    <a:pt x="132" y="199"/>
                  </a:lnTo>
                  <a:lnTo>
                    <a:pt x="132" y="199"/>
                  </a:lnTo>
                  <a:lnTo>
                    <a:pt x="132" y="197"/>
                  </a:lnTo>
                  <a:lnTo>
                    <a:pt x="132" y="196"/>
                  </a:lnTo>
                  <a:lnTo>
                    <a:pt x="132" y="194"/>
                  </a:lnTo>
                  <a:lnTo>
                    <a:pt x="132" y="194"/>
                  </a:lnTo>
                  <a:lnTo>
                    <a:pt x="132" y="192"/>
                  </a:lnTo>
                  <a:lnTo>
                    <a:pt x="132" y="190"/>
                  </a:lnTo>
                  <a:lnTo>
                    <a:pt x="132" y="190"/>
                  </a:lnTo>
                  <a:lnTo>
                    <a:pt x="121" y="192"/>
                  </a:lnTo>
                  <a:lnTo>
                    <a:pt x="101" y="194"/>
                  </a:lnTo>
                  <a:lnTo>
                    <a:pt x="84" y="192"/>
                  </a:lnTo>
                  <a:lnTo>
                    <a:pt x="67" y="188"/>
                  </a:lnTo>
                  <a:lnTo>
                    <a:pt x="50" y="178"/>
                  </a:lnTo>
                  <a:lnTo>
                    <a:pt x="36" y="167"/>
                  </a:lnTo>
                  <a:lnTo>
                    <a:pt x="25" y="153"/>
                  </a:lnTo>
                  <a:lnTo>
                    <a:pt x="17" y="138"/>
                  </a:lnTo>
                  <a:lnTo>
                    <a:pt x="11" y="121"/>
                  </a:lnTo>
                  <a:lnTo>
                    <a:pt x="9" y="102"/>
                  </a:lnTo>
                  <a:lnTo>
                    <a:pt x="11" y="82"/>
                  </a:lnTo>
                  <a:lnTo>
                    <a:pt x="17" y="65"/>
                  </a:lnTo>
                  <a:lnTo>
                    <a:pt x="25" y="50"/>
                  </a:lnTo>
                  <a:lnTo>
                    <a:pt x="36" y="36"/>
                  </a:lnTo>
                  <a:lnTo>
                    <a:pt x="50" y="25"/>
                  </a:lnTo>
                  <a:lnTo>
                    <a:pt x="67" y="17"/>
                  </a:lnTo>
                  <a:lnTo>
                    <a:pt x="84" y="11"/>
                  </a:lnTo>
                  <a:lnTo>
                    <a:pt x="101" y="9"/>
                  </a:lnTo>
                  <a:lnTo>
                    <a:pt x="121" y="11"/>
                  </a:lnTo>
                  <a:lnTo>
                    <a:pt x="130" y="15"/>
                  </a:lnTo>
                  <a:lnTo>
                    <a:pt x="130" y="13"/>
                  </a:lnTo>
                  <a:lnTo>
                    <a:pt x="130" y="11"/>
                  </a:lnTo>
                  <a:lnTo>
                    <a:pt x="130" y="9"/>
                  </a:lnTo>
                  <a:lnTo>
                    <a:pt x="130" y="9"/>
                  </a:lnTo>
                  <a:lnTo>
                    <a:pt x="130" y="8"/>
                  </a:lnTo>
                  <a:lnTo>
                    <a:pt x="130" y="6"/>
                  </a:lnTo>
                  <a:lnTo>
                    <a:pt x="130" y="6"/>
                  </a:lnTo>
                  <a:lnTo>
                    <a:pt x="130" y="4"/>
                  </a:lnTo>
                  <a:close/>
                </a:path>
              </a:pathLst>
            </a:custGeom>
            <a:solidFill>
              <a:srgbClr val="e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Freeform 247"/>
            <p:cNvSpPr/>
            <p:nvPr/>
          </p:nvSpPr>
          <p:spPr>
            <a:xfrm>
              <a:off x="2123280" y="3008880"/>
              <a:ext cx="213840" cy="32832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328320"/>
                <a:gd name="textAreaBottom" fmla="*/ 328680 h 328320"/>
              </a:gdLst>
              <a:ahLst/>
              <a:rect l="textAreaLeft" t="textAreaTop" r="textAreaRight" b="textAreaBottom"/>
              <a:pathLst>
                <a:path w="127" h="195">
                  <a:moveTo>
                    <a:pt x="125" y="5"/>
                  </a:moveTo>
                  <a:lnTo>
                    <a:pt x="118" y="2"/>
                  </a:lnTo>
                  <a:lnTo>
                    <a:pt x="108" y="2"/>
                  </a:lnTo>
                  <a:lnTo>
                    <a:pt x="96" y="0"/>
                  </a:lnTo>
                  <a:lnTo>
                    <a:pt x="87" y="2"/>
                  </a:lnTo>
                  <a:lnTo>
                    <a:pt x="77" y="2"/>
                  </a:lnTo>
                  <a:lnTo>
                    <a:pt x="68" y="5"/>
                  </a:lnTo>
                  <a:lnTo>
                    <a:pt x="60" y="7"/>
                  </a:lnTo>
                  <a:lnTo>
                    <a:pt x="43" y="17"/>
                  </a:lnTo>
                  <a:lnTo>
                    <a:pt x="27" y="28"/>
                  </a:lnTo>
                  <a:lnTo>
                    <a:pt x="16" y="44"/>
                  </a:lnTo>
                  <a:lnTo>
                    <a:pt x="8" y="59"/>
                  </a:lnTo>
                  <a:lnTo>
                    <a:pt x="4" y="69"/>
                  </a:lnTo>
                  <a:lnTo>
                    <a:pt x="2" y="78"/>
                  </a:lnTo>
                  <a:lnTo>
                    <a:pt x="0" y="88"/>
                  </a:lnTo>
                  <a:lnTo>
                    <a:pt x="0" y="98"/>
                  </a:lnTo>
                  <a:lnTo>
                    <a:pt x="0" y="107"/>
                  </a:lnTo>
                  <a:lnTo>
                    <a:pt x="2" y="117"/>
                  </a:lnTo>
                  <a:lnTo>
                    <a:pt x="4" y="126"/>
                  </a:lnTo>
                  <a:lnTo>
                    <a:pt x="8" y="136"/>
                  </a:lnTo>
                  <a:lnTo>
                    <a:pt x="16" y="153"/>
                  </a:lnTo>
                  <a:lnTo>
                    <a:pt x="27" y="167"/>
                  </a:lnTo>
                  <a:lnTo>
                    <a:pt x="43" y="178"/>
                  </a:lnTo>
                  <a:lnTo>
                    <a:pt x="60" y="188"/>
                  </a:lnTo>
                  <a:lnTo>
                    <a:pt x="68" y="192"/>
                  </a:lnTo>
                  <a:lnTo>
                    <a:pt x="77" y="193"/>
                  </a:lnTo>
                  <a:lnTo>
                    <a:pt x="87" y="195"/>
                  </a:lnTo>
                  <a:lnTo>
                    <a:pt x="96" y="195"/>
                  </a:lnTo>
                  <a:lnTo>
                    <a:pt x="108" y="195"/>
                  </a:lnTo>
                  <a:lnTo>
                    <a:pt x="118" y="193"/>
                  </a:lnTo>
                  <a:lnTo>
                    <a:pt x="125" y="192"/>
                  </a:lnTo>
                  <a:lnTo>
                    <a:pt x="127" y="192"/>
                  </a:lnTo>
                  <a:lnTo>
                    <a:pt x="127" y="190"/>
                  </a:lnTo>
                  <a:lnTo>
                    <a:pt x="127" y="188"/>
                  </a:lnTo>
                  <a:lnTo>
                    <a:pt x="127" y="186"/>
                  </a:lnTo>
                  <a:lnTo>
                    <a:pt x="127" y="186"/>
                  </a:lnTo>
                  <a:lnTo>
                    <a:pt x="127" y="184"/>
                  </a:lnTo>
                  <a:lnTo>
                    <a:pt x="127" y="182"/>
                  </a:lnTo>
                  <a:lnTo>
                    <a:pt x="127" y="182"/>
                  </a:lnTo>
                  <a:lnTo>
                    <a:pt x="127" y="180"/>
                  </a:lnTo>
                  <a:lnTo>
                    <a:pt x="114" y="184"/>
                  </a:lnTo>
                  <a:lnTo>
                    <a:pt x="96" y="186"/>
                  </a:lnTo>
                  <a:lnTo>
                    <a:pt x="79" y="184"/>
                  </a:lnTo>
                  <a:lnTo>
                    <a:pt x="64" y="178"/>
                  </a:lnTo>
                  <a:lnTo>
                    <a:pt x="48" y="170"/>
                  </a:lnTo>
                  <a:lnTo>
                    <a:pt x="35" y="159"/>
                  </a:lnTo>
                  <a:lnTo>
                    <a:pt x="25" y="147"/>
                  </a:lnTo>
                  <a:lnTo>
                    <a:pt x="16" y="132"/>
                  </a:lnTo>
                  <a:lnTo>
                    <a:pt x="12" y="115"/>
                  </a:lnTo>
                  <a:lnTo>
                    <a:pt x="10" y="98"/>
                  </a:lnTo>
                  <a:lnTo>
                    <a:pt x="12" y="80"/>
                  </a:lnTo>
                  <a:lnTo>
                    <a:pt x="16" y="63"/>
                  </a:lnTo>
                  <a:lnTo>
                    <a:pt x="25" y="50"/>
                  </a:lnTo>
                  <a:lnTo>
                    <a:pt x="35" y="36"/>
                  </a:lnTo>
                  <a:lnTo>
                    <a:pt x="48" y="25"/>
                  </a:lnTo>
                  <a:lnTo>
                    <a:pt x="64" y="17"/>
                  </a:lnTo>
                  <a:lnTo>
                    <a:pt x="79" y="13"/>
                  </a:lnTo>
                  <a:lnTo>
                    <a:pt x="96" y="11"/>
                  </a:lnTo>
                  <a:lnTo>
                    <a:pt x="114" y="13"/>
                  </a:lnTo>
                  <a:lnTo>
                    <a:pt x="125" y="15"/>
                  </a:lnTo>
                  <a:lnTo>
                    <a:pt x="125" y="15"/>
                  </a:lnTo>
                  <a:lnTo>
                    <a:pt x="125" y="13"/>
                  </a:lnTo>
                  <a:lnTo>
                    <a:pt x="125" y="11"/>
                  </a:lnTo>
                  <a:lnTo>
                    <a:pt x="125" y="9"/>
                  </a:lnTo>
                  <a:lnTo>
                    <a:pt x="125" y="9"/>
                  </a:lnTo>
                  <a:lnTo>
                    <a:pt x="125" y="7"/>
                  </a:lnTo>
                  <a:lnTo>
                    <a:pt x="125" y="5"/>
                  </a:lnTo>
                  <a:lnTo>
                    <a:pt x="125" y="5"/>
                  </a:lnTo>
                  <a:close/>
                </a:path>
              </a:pathLst>
            </a:custGeom>
            <a:solidFill>
              <a:srgbClr val="ed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Freeform 248"/>
            <p:cNvSpPr/>
            <p:nvPr/>
          </p:nvSpPr>
          <p:spPr>
            <a:xfrm>
              <a:off x="2130120" y="3017160"/>
              <a:ext cx="206640" cy="311400"/>
            </a:xfrm>
            <a:custGeom>
              <a:avLst/>
              <a:gdLst>
                <a:gd name="textAreaLeft" fmla="*/ 0 w 206640"/>
                <a:gd name="textAreaRight" fmla="*/ 207000 w 206640"/>
                <a:gd name="textAreaTop" fmla="*/ 0 h 311400"/>
                <a:gd name="textAreaBottom" fmla="*/ 311760 h 311400"/>
              </a:gdLst>
              <a:ahLst/>
              <a:rect l="textAreaLeft" t="textAreaTop" r="textAreaRight" b="textAreaBottom"/>
              <a:pathLst>
                <a:path w="123" h="185">
                  <a:moveTo>
                    <a:pt x="121" y="6"/>
                  </a:moveTo>
                  <a:lnTo>
                    <a:pt x="112" y="2"/>
                  </a:lnTo>
                  <a:lnTo>
                    <a:pt x="92" y="0"/>
                  </a:lnTo>
                  <a:lnTo>
                    <a:pt x="75" y="2"/>
                  </a:lnTo>
                  <a:lnTo>
                    <a:pt x="58" y="8"/>
                  </a:lnTo>
                  <a:lnTo>
                    <a:pt x="41" y="16"/>
                  </a:lnTo>
                  <a:lnTo>
                    <a:pt x="27" y="27"/>
                  </a:lnTo>
                  <a:lnTo>
                    <a:pt x="16" y="41"/>
                  </a:lnTo>
                  <a:lnTo>
                    <a:pt x="8" y="56"/>
                  </a:lnTo>
                  <a:lnTo>
                    <a:pt x="2" y="73"/>
                  </a:lnTo>
                  <a:lnTo>
                    <a:pt x="0" y="93"/>
                  </a:lnTo>
                  <a:lnTo>
                    <a:pt x="2" y="112"/>
                  </a:lnTo>
                  <a:lnTo>
                    <a:pt x="8" y="129"/>
                  </a:lnTo>
                  <a:lnTo>
                    <a:pt x="16" y="144"/>
                  </a:lnTo>
                  <a:lnTo>
                    <a:pt x="27" y="158"/>
                  </a:lnTo>
                  <a:lnTo>
                    <a:pt x="41" y="169"/>
                  </a:lnTo>
                  <a:lnTo>
                    <a:pt x="58" y="179"/>
                  </a:lnTo>
                  <a:lnTo>
                    <a:pt x="75" y="183"/>
                  </a:lnTo>
                  <a:lnTo>
                    <a:pt x="92" y="185"/>
                  </a:lnTo>
                  <a:lnTo>
                    <a:pt x="112" y="183"/>
                  </a:lnTo>
                  <a:lnTo>
                    <a:pt x="123" y="181"/>
                  </a:lnTo>
                  <a:lnTo>
                    <a:pt x="123" y="179"/>
                  </a:lnTo>
                  <a:lnTo>
                    <a:pt x="123" y="177"/>
                  </a:lnTo>
                  <a:lnTo>
                    <a:pt x="123" y="175"/>
                  </a:lnTo>
                  <a:lnTo>
                    <a:pt x="123" y="175"/>
                  </a:lnTo>
                  <a:lnTo>
                    <a:pt x="123" y="173"/>
                  </a:lnTo>
                  <a:lnTo>
                    <a:pt x="121" y="171"/>
                  </a:lnTo>
                  <a:lnTo>
                    <a:pt x="121" y="171"/>
                  </a:lnTo>
                  <a:lnTo>
                    <a:pt x="121" y="169"/>
                  </a:lnTo>
                  <a:lnTo>
                    <a:pt x="110" y="173"/>
                  </a:lnTo>
                  <a:lnTo>
                    <a:pt x="92" y="175"/>
                  </a:lnTo>
                  <a:lnTo>
                    <a:pt x="77" y="173"/>
                  </a:lnTo>
                  <a:lnTo>
                    <a:pt x="62" y="169"/>
                  </a:lnTo>
                  <a:lnTo>
                    <a:pt x="46" y="162"/>
                  </a:lnTo>
                  <a:lnTo>
                    <a:pt x="35" y="150"/>
                  </a:lnTo>
                  <a:lnTo>
                    <a:pt x="25" y="139"/>
                  </a:lnTo>
                  <a:lnTo>
                    <a:pt x="18" y="125"/>
                  </a:lnTo>
                  <a:lnTo>
                    <a:pt x="12" y="110"/>
                  </a:lnTo>
                  <a:lnTo>
                    <a:pt x="12" y="93"/>
                  </a:lnTo>
                  <a:lnTo>
                    <a:pt x="12" y="77"/>
                  </a:lnTo>
                  <a:lnTo>
                    <a:pt x="18" y="60"/>
                  </a:lnTo>
                  <a:lnTo>
                    <a:pt x="25" y="46"/>
                  </a:lnTo>
                  <a:lnTo>
                    <a:pt x="35" y="35"/>
                  </a:lnTo>
                  <a:lnTo>
                    <a:pt x="46" y="25"/>
                  </a:lnTo>
                  <a:lnTo>
                    <a:pt x="62" y="18"/>
                  </a:lnTo>
                  <a:lnTo>
                    <a:pt x="77" y="12"/>
                  </a:lnTo>
                  <a:lnTo>
                    <a:pt x="92" y="10"/>
                  </a:lnTo>
                  <a:lnTo>
                    <a:pt x="110" y="12"/>
                  </a:lnTo>
                  <a:lnTo>
                    <a:pt x="121" y="16"/>
                  </a:lnTo>
                  <a:lnTo>
                    <a:pt x="121" y="14"/>
                  </a:lnTo>
                  <a:lnTo>
                    <a:pt x="121" y="14"/>
                  </a:lnTo>
                  <a:lnTo>
                    <a:pt x="121" y="12"/>
                  </a:lnTo>
                  <a:lnTo>
                    <a:pt x="121" y="10"/>
                  </a:lnTo>
                  <a:lnTo>
                    <a:pt x="121" y="10"/>
                  </a:lnTo>
                  <a:lnTo>
                    <a:pt x="121" y="8"/>
                  </a:lnTo>
                  <a:lnTo>
                    <a:pt x="121" y="6"/>
                  </a:lnTo>
                  <a:lnTo>
                    <a:pt x="121" y="6"/>
                  </a:lnTo>
                  <a:close/>
                </a:path>
              </a:pathLst>
            </a:custGeom>
            <a:solidFill>
              <a:srgbClr val="eef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Freeform 249"/>
            <p:cNvSpPr/>
            <p:nvPr/>
          </p:nvSpPr>
          <p:spPr>
            <a:xfrm>
              <a:off x="2140560" y="3027600"/>
              <a:ext cx="196560" cy="29448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294480"/>
                <a:gd name="textAreaBottom" fmla="*/ 294840 h 294480"/>
              </a:gdLst>
              <a:ahLst/>
              <a:rect l="textAreaLeft" t="textAreaTop" r="textAreaRight" b="textAreaBottom"/>
              <a:pathLst>
                <a:path w="117" h="175">
                  <a:moveTo>
                    <a:pt x="115" y="4"/>
                  </a:moveTo>
                  <a:lnTo>
                    <a:pt x="104" y="2"/>
                  </a:lnTo>
                  <a:lnTo>
                    <a:pt x="86" y="0"/>
                  </a:lnTo>
                  <a:lnTo>
                    <a:pt x="69" y="2"/>
                  </a:lnTo>
                  <a:lnTo>
                    <a:pt x="54" y="6"/>
                  </a:lnTo>
                  <a:lnTo>
                    <a:pt x="38" y="14"/>
                  </a:lnTo>
                  <a:lnTo>
                    <a:pt x="25" y="25"/>
                  </a:lnTo>
                  <a:lnTo>
                    <a:pt x="15" y="39"/>
                  </a:lnTo>
                  <a:lnTo>
                    <a:pt x="6" y="52"/>
                  </a:lnTo>
                  <a:lnTo>
                    <a:pt x="2" y="69"/>
                  </a:lnTo>
                  <a:lnTo>
                    <a:pt x="0" y="87"/>
                  </a:lnTo>
                  <a:lnTo>
                    <a:pt x="2" y="104"/>
                  </a:lnTo>
                  <a:lnTo>
                    <a:pt x="6" y="121"/>
                  </a:lnTo>
                  <a:lnTo>
                    <a:pt x="15" y="136"/>
                  </a:lnTo>
                  <a:lnTo>
                    <a:pt x="25" y="148"/>
                  </a:lnTo>
                  <a:lnTo>
                    <a:pt x="38" y="159"/>
                  </a:lnTo>
                  <a:lnTo>
                    <a:pt x="54" y="167"/>
                  </a:lnTo>
                  <a:lnTo>
                    <a:pt x="69" y="173"/>
                  </a:lnTo>
                  <a:lnTo>
                    <a:pt x="86" y="175"/>
                  </a:lnTo>
                  <a:lnTo>
                    <a:pt x="104" y="173"/>
                  </a:lnTo>
                  <a:lnTo>
                    <a:pt x="117" y="169"/>
                  </a:lnTo>
                  <a:lnTo>
                    <a:pt x="117" y="167"/>
                  </a:lnTo>
                  <a:lnTo>
                    <a:pt x="115" y="165"/>
                  </a:lnTo>
                  <a:lnTo>
                    <a:pt x="115" y="165"/>
                  </a:lnTo>
                  <a:lnTo>
                    <a:pt x="115" y="163"/>
                  </a:lnTo>
                  <a:lnTo>
                    <a:pt x="115" y="161"/>
                  </a:lnTo>
                  <a:lnTo>
                    <a:pt x="115" y="161"/>
                  </a:lnTo>
                  <a:lnTo>
                    <a:pt x="115" y="159"/>
                  </a:lnTo>
                  <a:lnTo>
                    <a:pt x="115" y="158"/>
                  </a:lnTo>
                  <a:lnTo>
                    <a:pt x="102" y="161"/>
                  </a:lnTo>
                  <a:lnTo>
                    <a:pt x="86" y="163"/>
                  </a:lnTo>
                  <a:lnTo>
                    <a:pt x="71" y="161"/>
                  </a:lnTo>
                  <a:lnTo>
                    <a:pt x="58" y="158"/>
                  </a:lnTo>
                  <a:lnTo>
                    <a:pt x="44" y="150"/>
                  </a:lnTo>
                  <a:lnTo>
                    <a:pt x="33" y="142"/>
                  </a:lnTo>
                  <a:lnTo>
                    <a:pt x="23" y="131"/>
                  </a:lnTo>
                  <a:lnTo>
                    <a:pt x="15" y="117"/>
                  </a:lnTo>
                  <a:lnTo>
                    <a:pt x="12" y="102"/>
                  </a:lnTo>
                  <a:lnTo>
                    <a:pt x="10" y="87"/>
                  </a:lnTo>
                  <a:lnTo>
                    <a:pt x="12" y="71"/>
                  </a:lnTo>
                  <a:lnTo>
                    <a:pt x="15" y="58"/>
                  </a:lnTo>
                  <a:lnTo>
                    <a:pt x="23" y="44"/>
                  </a:lnTo>
                  <a:lnTo>
                    <a:pt x="33" y="33"/>
                  </a:lnTo>
                  <a:lnTo>
                    <a:pt x="44" y="23"/>
                  </a:lnTo>
                  <a:lnTo>
                    <a:pt x="58" y="16"/>
                  </a:lnTo>
                  <a:lnTo>
                    <a:pt x="71" y="12"/>
                  </a:lnTo>
                  <a:lnTo>
                    <a:pt x="86" y="10"/>
                  </a:lnTo>
                  <a:lnTo>
                    <a:pt x="102" y="12"/>
                  </a:lnTo>
                  <a:lnTo>
                    <a:pt x="115" y="16"/>
                  </a:lnTo>
                  <a:lnTo>
                    <a:pt x="115" y="14"/>
                  </a:lnTo>
                  <a:lnTo>
                    <a:pt x="115" y="12"/>
                  </a:lnTo>
                  <a:lnTo>
                    <a:pt x="115" y="12"/>
                  </a:lnTo>
                  <a:lnTo>
                    <a:pt x="115" y="10"/>
                  </a:lnTo>
                  <a:lnTo>
                    <a:pt x="115" y="8"/>
                  </a:lnTo>
                  <a:lnTo>
                    <a:pt x="115" y="8"/>
                  </a:lnTo>
                  <a:lnTo>
                    <a:pt x="115" y="6"/>
                  </a:lnTo>
                  <a:lnTo>
                    <a:pt x="115" y="4"/>
                  </a:lnTo>
                  <a:close/>
                </a:path>
              </a:pathLst>
            </a:custGeom>
            <a:solidFill>
              <a:srgbClr val="eff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Freeform 250"/>
            <p:cNvSpPr/>
            <p:nvPr/>
          </p:nvSpPr>
          <p:spPr>
            <a:xfrm>
              <a:off x="2150640" y="3034080"/>
              <a:ext cx="183600" cy="277920"/>
            </a:xfrm>
            <a:custGeom>
              <a:avLst/>
              <a:gdLst>
                <a:gd name="textAreaLeft" fmla="*/ 0 w 183600"/>
                <a:gd name="textAreaRight" fmla="*/ 183600 w 183600"/>
                <a:gd name="textAreaTop" fmla="*/ 0 h 277920"/>
                <a:gd name="textAreaBottom" fmla="*/ 278280 h 277920"/>
              </a:gdLst>
              <a:ahLst/>
              <a:rect l="textAreaLeft" t="textAreaTop" r="textAreaRight" b="textAreaBottom"/>
              <a:pathLst>
                <a:path w="109" h="165">
                  <a:moveTo>
                    <a:pt x="109" y="6"/>
                  </a:moveTo>
                  <a:lnTo>
                    <a:pt x="98" y="2"/>
                  </a:lnTo>
                  <a:lnTo>
                    <a:pt x="80" y="0"/>
                  </a:lnTo>
                  <a:lnTo>
                    <a:pt x="65" y="2"/>
                  </a:lnTo>
                  <a:lnTo>
                    <a:pt x="50" y="8"/>
                  </a:lnTo>
                  <a:lnTo>
                    <a:pt x="34" y="15"/>
                  </a:lnTo>
                  <a:lnTo>
                    <a:pt x="23" y="25"/>
                  </a:lnTo>
                  <a:lnTo>
                    <a:pt x="13" y="36"/>
                  </a:lnTo>
                  <a:lnTo>
                    <a:pt x="6" y="50"/>
                  </a:lnTo>
                  <a:lnTo>
                    <a:pt x="0" y="67"/>
                  </a:lnTo>
                  <a:lnTo>
                    <a:pt x="0" y="83"/>
                  </a:lnTo>
                  <a:lnTo>
                    <a:pt x="0" y="100"/>
                  </a:lnTo>
                  <a:lnTo>
                    <a:pt x="6" y="115"/>
                  </a:lnTo>
                  <a:lnTo>
                    <a:pt x="13" y="129"/>
                  </a:lnTo>
                  <a:lnTo>
                    <a:pt x="23" y="140"/>
                  </a:lnTo>
                  <a:lnTo>
                    <a:pt x="34" y="152"/>
                  </a:lnTo>
                  <a:lnTo>
                    <a:pt x="50" y="159"/>
                  </a:lnTo>
                  <a:lnTo>
                    <a:pt x="65" y="163"/>
                  </a:lnTo>
                  <a:lnTo>
                    <a:pt x="80" y="165"/>
                  </a:lnTo>
                  <a:lnTo>
                    <a:pt x="98" y="163"/>
                  </a:lnTo>
                  <a:lnTo>
                    <a:pt x="109" y="159"/>
                  </a:lnTo>
                  <a:lnTo>
                    <a:pt x="109" y="157"/>
                  </a:lnTo>
                  <a:lnTo>
                    <a:pt x="109" y="157"/>
                  </a:lnTo>
                  <a:lnTo>
                    <a:pt x="109" y="155"/>
                  </a:lnTo>
                  <a:lnTo>
                    <a:pt x="109" y="154"/>
                  </a:lnTo>
                  <a:lnTo>
                    <a:pt x="109" y="154"/>
                  </a:lnTo>
                  <a:lnTo>
                    <a:pt x="109" y="152"/>
                  </a:lnTo>
                  <a:lnTo>
                    <a:pt x="109" y="150"/>
                  </a:lnTo>
                  <a:lnTo>
                    <a:pt x="109" y="148"/>
                  </a:lnTo>
                  <a:lnTo>
                    <a:pt x="109" y="150"/>
                  </a:lnTo>
                  <a:lnTo>
                    <a:pt x="96" y="154"/>
                  </a:lnTo>
                  <a:lnTo>
                    <a:pt x="80" y="155"/>
                  </a:lnTo>
                  <a:lnTo>
                    <a:pt x="67" y="154"/>
                  </a:lnTo>
                  <a:lnTo>
                    <a:pt x="54" y="150"/>
                  </a:lnTo>
                  <a:lnTo>
                    <a:pt x="40" y="142"/>
                  </a:lnTo>
                  <a:lnTo>
                    <a:pt x="31" y="134"/>
                  </a:lnTo>
                  <a:lnTo>
                    <a:pt x="21" y="123"/>
                  </a:lnTo>
                  <a:lnTo>
                    <a:pt x="15" y="111"/>
                  </a:lnTo>
                  <a:lnTo>
                    <a:pt x="11" y="98"/>
                  </a:lnTo>
                  <a:lnTo>
                    <a:pt x="9" y="83"/>
                  </a:lnTo>
                  <a:lnTo>
                    <a:pt x="11" y="69"/>
                  </a:lnTo>
                  <a:lnTo>
                    <a:pt x="15" y="56"/>
                  </a:lnTo>
                  <a:lnTo>
                    <a:pt x="21" y="42"/>
                  </a:lnTo>
                  <a:lnTo>
                    <a:pt x="31" y="33"/>
                  </a:lnTo>
                  <a:lnTo>
                    <a:pt x="40" y="23"/>
                  </a:lnTo>
                  <a:lnTo>
                    <a:pt x="54" y="17"/>
                  </a:lnTo>
                  <a:lnTo>
                    <a:pt x="67" y="12"/>
                  </a:lnTo>
                  <a:lnTo>
                    <a:pt x="80" y="12"/>
                  </a:lnTo>
                  <a:lnTo>
                    <a:pt x="96" y="12"/>
                  </a:lnTo>
                  <a:lnTo>
                    <a:pt x="109" y="17"/>
                  </a:lnTo>
                  <a:lnTo>
                    <a:pt x="109" y="15"/>
                  </a:lnTo>
                  <a:lnTo>
                    <a:pt x="109" y="13"/>
                  </a:lnTo>
                  <a:lnTo>
                    <a:pt x="109" y="13"/>
                  </a:lnTo>
                  <a:lnTo>
                    <a:pt x="109" y="12"/>
                  </a:lnTo>
                  <a:lnTo>
                    <a:pt x="109" y="10"/>
                  </a:lnTo>
                  <a:lnTo>
                    <a:pt x="109" y="8"/>
                  </a:lnTo>
                  <a:lnTo>
                    <a:pt x="109" y="8"/>
                  </a:lnTo>
                  <a:lnTo>
                    <a:pt x="109" y="6"/>
                  </a:lnTo>
                  <a:close/>
                </a:path>
              </a:pathLst>
            </a:custGeom>
            <a:solidFill>
              <a:srgbClr val="f0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Freeform 251"/>
            <p:cNvSpPr/>
            <p:nvPr/>
          </p:nvSpPr>
          <p:spPr>
            <a:xfrm>
              <a:off x="2157480" y="3044520"/>
              <a:ext cx="176760" cy="257400"/>
            </a:xfrm>
            <a:custGeom>
              <a:avLst/>
              <a:gdLst>
                <a:gd name="textAreaLeft" fmla="*/ 0 w 176760"/>
                <a:gd name="textAreaRight" fmla="*/ 177120 w 176760"/>
                <a:gd name="textAreaTop" fmla="*/ 0 h 257400"/>
                <a:gd name="textAreaBottom" fmla="*/ 257760 h 257400"/>
              </a:gdLst>
              <a:ahLst/>
              <a:rect l="textAreaLeft" t="textAreaTop" r="textAreaRight" b="textAreaBottom"/>
              <a:pathLst>
                <a:path w="105" h="153">
                  <a:moveTo>
                    <a:pt x="105" y="6"/>
                  </a:moveTo>
                  <a:lnTo>
                    <a:pt x="92" y="2"/>
                  </a:lnTo>
                  <a:lnTo>
                    <a:pt x="76" y="0"/>
                  </a:lnTo>
                  <a:lnTo>
                    <a:pt x="61" y="2"/>
                  </a:lnTo>
                  <a:lnTo>
                    <a:pt x="48" y="6"/>
                  </a:lnTo>
                  <a:lnTo>
                    <a:pt x="34" y="13"/>
                  </a:lnTo>
                  <a:lnTo>
                    <a:pt x="23" y="23"/>
                  </a:lnTo>
                  <a:lnTo>
                    <a:pt x="13" y="34"/>
                  </a:lnTo>
                  <a:lnTo>
                    <a:pt x="5" y="48"/>
                  </a:lnTo>
                  <a:lnTo>
                    <a:pt x="2" y="61"/>
                  </a:lnTo>
                  <a:lnTo>
                    <a:pt x="0" y="77"/>
                  </a:lnTo>
                  <a:lnTo>
                    <a:pt x="2" y="92"/>
                  </a:lnTo>
                  <a:lnTo>
                    <a:pt x="5" y="107"/>
                  </a:lnTo>
                  <a:lnTo>
                    <a:pt x="13" y="121"/>
                  </a:lnTo>
                  <a:lnTo>
                    <a:pt x="23" y="132"/>
                  </a:lnTo>
                  <a:lnTo>
                    <a:pt x="34" y="140"/>
                  </a:lnTo>
                  <a:lnTo>
                    <a:pt x="48" y="148"/>
                  </a:lnTo>
                  <a:lnTo>
                    <a:pt x="61" y="151"/>
                  </a:lnTo>
                  <a:lnTo>
                    <a:pt x="76" y="153"/>
                  </a:lnTo>
                  <a:lnTo>
                    <a:pt x="92" y="151"/>
                  </a:lnTo>
                  <a:lnTo>
                    <a:pt x="105" y="148"/>
                  </a:lnTo>
                  <a:lnTo>
                    <a:pt x="105" y="148"/>
                  </a:lnTo>
                  <a:lnTo>
                    <a:pt x="105" y="146"/>
                  </a:lnTo>
                  <a:lnTo>
                    <a:pt x="105" y="144"/>
                  </a:lnTo>
                  <a:lnTo>
                    <a:pt x="105" y="142"/>
                  </a:lnTo>
                  <a:lnTo>
                    <a:pt x="105" y="142"/>
                  </a:lnTo>
                  <a:lnTo>
                    <a:pt x="105" y="140"/>
                  </a:lnTo>
                  <a:lnTo>
                    <a:pt x="105" y="138"/>
                  </a:lnTo>
                  <a:lnTo>
                    <a:pt x="105" y="136"/>
                  </a:lnTo>
                  <a:lnTo>
                    <a:pt x="103" y="138"/>
                  </a:lnTo>
                  <a:lnTo>
                    <a:pt x="90" y="142"/>
                  </a:lnTo>
                  <a:lnTo>
                    <a:pt x="76" y="144"/>
                  </a:lnTo>
                  <a:lnTo>
                    <a:pt x="63" y="142"/>
                  </a:lnTo>
                  <a:lnTo>
                    <a:pt x="51" y="138"/>
                  </a:lnTo>
                  <a:lnTo>
                    <a:pt x="40" y="132"/>
                  </a:lnTo>
                  <a:lnTo>
                    <a:pt x="30" y="124"/>
                  </a:lnTo>
                  <a:lnTo>
                    <a:pt x="21" y="115"/>
                  </a:lnTo>
                  <a:lnTo>
                    <a:pt x="15" y="103"/>
                  </a:lnTo>
                  <a:lnTo>
                    <a:pt x="11" y="90"/>
                  </a:lnTo>
                  <a:lnTo>
                    <a:pt x="11" y="77"/>
                  </a:lnTo>
                  <a:lnTo>
                    <a:pt x="11" y="63"/>
                  </a:lnTo>
                  <a:lnTo>
                    <a:pt x="15" y="52"/>
                  </a:lnTo>
                  <a:lnTo>
                    <a:pt x="21" y="40"/>
                  </a:lnTo>
                  <a:lnTo>
                    <a:pt x="30" y="30"/>
                  </a:lnTo>
                  <a:lnTo>
                    <a:pt x="40" y="21"/>
                  </a:lnTo>
                  <a:lnTo>
                    <a:pt x="51" y="15"/>
                  </a:lnTo>
                  <a:lnTo>
                    <a:pt x="63" y="11"/>
                  </a:lnTo>
                  <a:lnTo>
                    <a:pt x="76" y="9"/>
                  </a:lnTo>
                  <a:lnTo>
                    <a:pt x="90" y="11"/>
                  </a:lnTo>
                  <a:lnTo>
                    <a:pt x="103" y="15"/>
                  </a:lnTo>
                  <a:lnTo>
                    <a:pt x="105" y="17"/>
                  </a:lnTo>
                  <a:lnTo>
                    <a:pt x="105" y="15"/>
                  </a:lnTo>
                  <a:lnTo>
                    <a:pt x="105" y="13"/>
                  </a:lnTo>
                  <a:lnTo>
                    <a:pt x="105" y="11"/>
                  </a:lnTo>
                  <a:lnTo>
                    <a:pt x="105" y="11"/>
                  </a:lnTo>
                  <a:lnTo>
                    <a:pt x="105" y="9"/>
                  </a:lnTo>
                  <a:lnTo>
                    <a:pt x="105" y="7"/>
                  </a:lnTo>
                  <a:lnTo>
                    <a:pt x="105" y="7"/>
                  </a:lnTo>
                  <a:lnTo>
                    <a:pt x="105" y="6"/>
                  </a:lnTo>
                  <a:close/>
                </a:path>
              </a:pathLst>
            </a:custGeom>
            <a:solidFill>
              <a:srgbClr val="f1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Freeform 252"/>
            <p:cNvSpPr/>
            <p:nvPr/>
          </p:nvSpPr>
          <p:spPr>
            <a:xfrm>
              <a:off x="2165760" y="3054240"/>
              <a:ext cx="168120" cy="24084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240840"/>
                <a:gd name="textAreaBottom" fmla="*/ 241200 h 240840"/>
              </a:gdLst>
              <a:ahLst/>
              <a:rect l="textAreaLeft" t="textAreaTop" r="textAreaRight" b="textAreaBottom"/>
              <a:pathLst>
                <a:path w="100" h="143">
                  <a:moveTo>
                    <a:pt x="100" y="5"/>
                  </a:moveTo>
                  <a:lnTo>
                    <a:pt x="87" y="0"/>
                  </a:lnTo>
                  <a:lnTo>
                    <a:pt x="71" y="0"/>
                  </a:lnTo>
                  <a:lnTo>
                    <a:pt x="58" y="0"/>
                  </a:lnTo>
                  <a:lnTo>
                    <a:pt x="45" y="5"/>
                  </a:lnTo>
                  <a:lnTo>
                    <a:pt x="31" y="11"/>
                  </a:lnTo>
                  <a:lnTo>
                    <a:pt x="22" y="21"/>
                  </a:lnTo>
                  <a:lnTo>
                    <a:pt x="12" y="30"/>
                  </a:lnTo>
                  <a:lnTo>
                    <a:pt x="6" y="44"/>
                  </a:lnTo>
                  <a:lnTo>
                    <a:pt x="2" y="57"/>
                  </a:lnTo>
                  <a:lnTo>
                    <a:pt x="0" y="71"/>
                  </a:lnTo>
                  <a:lnTo>
                    <a:pt x="2" y="86"/>
                  </a:lnTo>
                  <a:lnTo>
                    <a:pt x="6" y="99"/>
                  </a:lnTo>
                  <a:lnTo>
                    <a:pt x="12" y="111"/>
                  </a:lnTo>
                  <a:lnTo>
                    <a:pt x="22" y="122"/>
                  </a:lnTo>
                  <a:lnTo>
                    <a:pt x="31" y="130"/>
                  </a:lnTo>
                  <a:lnTo>
                    <a:pt x="45" y="138"/>
                  </a:lnTo>
                  <a:lnTo>
                    <a:pt x="58" y="142"/>
                  </a:lnTo>
                  <a:lnTo>
                    <a:pt x="71" y="143"/>
                  </a:lnTo>
                  <a:lnTo>
                    <a:pt x="87" y="142"/>
                  </a:lnTo>
                  <a:lnTo>
                    <a:pt x="100" y="138"/>
                  </a:lnTo>
                  <a:lnTo>
                    <a:pt x="100" y="136"/>
                  </a:lnTo>
                  <a:lnTo>
                    <a:pt x="100" y="136"/>
                  </a:lnTo>
                  <a:lnTo>
                    <a:pt x="100" y="134"/>
                  </a:lnTo>
                  <a:lnTo>
                    <a:pt x="100" y="132"/>
                  </a:lnTo>
                  <a:lnTo>
                    <a:pt x="100" y="130"/>
                  </a:lnTo>
                  <a:lnTo>
                    <a:pt x="100" y="130"/>
                  </a:lnTo>
                  <a:lnTo>
                    <a:pt x="100" y="128"/>
                  </a:lnTo>
                  <a:lnTo>
                    <a:pt x="100" y="126"/>
                  </a:lnTo>
                  <a:lnTo>
                    <a:pt x="100" y="126"/>
                  </a:lnTo>
                  <a:lnTo>
                    <a:pt x="96" y="128"/>
                  </a:lnTo>
                  <a:lnTo>
                    <a:pt x="85" y="132"/>
                  </a:lnTo>
                  <a:lnTo>
                    <a:pt x="71" y="132"/>
                  </a:lnTo>
                  <a:lnTo>
                    <a:pt x="60" y="132"/>
                  </a:lnTo>
                  <a:lnTo>
                    <a:pt x="48" y="128"/>
                  </a:lnTo>
                  <a:lnTo>
                    <a:pt x="37" y="122"/>
                  </a:lnTo>
                  <a:lnTo>
                    <a:pt x="29" y="115"/>
                  </a:lnTo>
                  <a:lnTo>
                    <a:pt x="22" y="105"/>
                  </a:lnTo>
                  <a:lnTo>
                    <a:pt x="16" y="95"/>
                  </a:lnTo>
                  <a:lnTo>
                    <a:pt x="12" y="84"/>
                  </a:lnTo>
                  <a:lnTo>
                    <a:pt x="10" y="71"/>
                  </a:lnTo>
                  <a:lnTo>
                    <a:pt x="12" y="59"/>
                  </a:lnTo>
                  <a:lnTo>
                    <a:pt x="16" y="47"/>
                  </a:lnTo>
                  <a:lnTo>
                    <a:pt x="22" y="36"/>
                  </a:lnTo>
                  <a:lnTo>
                    <a:pt x="29" y="26"/>
                  </a:lnTo>
                  <a:lnTo>
                    <a:pt x="37" y="21"/>
                  </a:lnTo>
                  <a:lnTo>
                    <a:pt x="48" y="15"/>
                  </a:lnTo>
                  <a:lnTo>
                    <a:pt x="60" y="11"/>
                  </a:lnTo>
                  <a:lnTo>
                    <a:pt x="71" y="9"/>
                  </a:lnTo>
                  <a:lnTo>
                    <a:pt x="85" y="11"/>
                  </a:lnTo>
                  <a:lnTo>
                    <a:pt x="96" y="15"/>
                  </a:lnTo>
                  <a:lnTo>
                    <a:pt x="100" y="17"/>
                  </a:lnTo>
                  <a:lnTo>
                    <a:pt x="100" y="15"/>
                  </a:lnTo>
                  <a:lnTo>
                    <a:pt x="100" y="13"/>
                  </a:lnTo>
                  <a:lnTo>
                    <a:pt x="100" y="11"/>
                  </a:lnTo>
                  <a:lnTo>
                    <a:pt x="100" y="11"/>
                  </a:lnTo>
                  <a:lnTo>
                    <a:pt x="100" y="9"/>
                  </a:lnTo>
                  <a:lnTo>
                    <a:pt x="100" y="7"/>
                  </a:lnTo>
                  <a:lnTo>
                    <a:pt x="100" y="5"/>
                  </a:lnTo>
                  <a:lnTo>
                    <a:pt x="100" y="5"/>
                  </a:lnTo>
                  <a:close/>
                </a:path>
              </a:pathLst>
            </a:custGeom>
            <a:solidFill>
              <a:srgbClr val="f2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Freeform 253"/>
            <p:cNvSpPr/>
            <p:nvPr/>
          </p:nvSpPr>
          <p:spPr>
            <a:xfrm>
              <a:off x="2175840" y="3059640"/>
              <a:ext cx="158400" cy="22716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227160"/>
                <a:gd name="textAreaBottom" fmla="*/ 227520 h 227160"/>
              </a:gdLst>
              <a:ahLst/>
              <a:rect l="textAreaLeft" t="textAreaTop" r="textAreaRight" b="textAreaBottom"/>
              <a:pathLst>
                <a:path w="94" h="135">
                  <a:moveTo>
                    <a:pt x="94" y="8"/>
                  </a:moveTo>
                  <a:lnTo>
                    <a:pt x="92" y="6"/>
                  </a:lnTo>
                  <a:lnTo>
                    <a:pt x="79" y="2"/>
                  </a:lnTo>
                  <a:lnTo>
                    <a:pt x="65" y="0"/>
                  </a:lnTo>
                  <a:lnTo>
                    <a:pt x="52" y="2"/>
                  </a:lnTo>
                  <a:lnTo>
                    <a:pt x="40" y="6"/>
                  </a:lnTo>
                  <a:lnTo>
                    <a:pt x="29" y="12"/>
                  </a:lnTo>
                  <a:lnTo>
                    <a:pt x="19" y="21"/>
                  </a:lnTo>
                  <a:lnTo>
                    <a:pt x="10" y="31"/>
                  </a:lnTo>
                  <a:lnTo>
                    <a:pt x="4" y="43"/>
                  </a:lnTo>
                  <a:lnTo>
                    <a:pt x="0" y="54"/>
                  </a:lnTo>
                  <a:lnTo>
                    <a:pt x="0" y="68"/>
                  </a:lnTo>
                  <a:lnTo>
                    <a:pt x="0" y="81"/>
                  </a:lnTo>
                  <a:lnTo>
                    <a:pt x="4" y="94"/>
                  </a:lnTo>
                  <a:lnTo>
                    <a:pt x="10" y="106"/>
                  </a:lnTo>
                  <a:lnTo>
                    <a:pt x="19" y="115"/>
                  </a:lnTo>
                  <a:lnTo>
                    <a:pt x="29" y="123"/>
                  </a:lnTo>
                  <a:lnTo>
                    <a:pt x="40" y="129"/>
                  </a:lnTo>
                  <a:lnTo>
                    <a:pt x="52" y="133"/>
                  </a:lnTo>
                  <a:lnTo>
                    <a:pt x="65" y="135"/>
                  </a:lnTo>
                  <a:lnTo>
                    <a:pt x="79" y="133"/>
                  </a:lnTo>
                  <a:lnTo>
                    <a:pt x="92" y="129"/>
                  </a:lnTo>
                  <a:lnTo>
                    <a:pt x="94" y="127"/>
                  </a:lnTo>
                  <a:lnTo>
                    <a:pt x="94" y="127"/>
                  </a:lnTo>
                  <a:lnTo>
                    <a:pt x="94" y="125"/>
                  </a:lnTo>
                  <a:lnTo>
                    <a:pt x="94" y="123"/>
                  </a:lnTo>
                  <a:lnTo>
                    <a:pt x="94" y="123"/>
                  </a:lnTo>
                  <a:lnTo>
                    <a:pt x="94" y="121"/>
                  </a:lnTo>
                  <a:lnTo>
                    <a:pt x="94" y="119"/>
                  </a:lnTo>
                  <a:lnTo>
                    <a:pt x="94" y="117"/>
                  </a:lnTo>
                  <a:lnTo>
                    <a:pt x="94" y="117"/>
                  </a:lnTo>
                  <a:lnTo>
                    <a:pt x="88" y="119"/>
                  </a:lnTo>
                  <a:lnTo>
                    <a:pt x="77" y="123"/>
                  </a:lnTo>
                  <a:lnTo>
                    <a:pt x="65" y="125"/>
                  </a:lnTo>
                  <a:lnTo>
                    <a:pt x="54" y="123"/>
                  </a:lnTo>
                  <a:lnTo>
                    <a:pt x="44" y="119"/>
                  </a:lnTo>
                  <a:lnTo>
                    <a:pt x="35" y="115"/>
                  </a:lnTo>
                  <a:lnTo>
                    <a:pt x="27" y="108"/>
                  </a:lnTo>
                  <a:lnTo>
                    <a:pt x="19" y="100"/>
                  </a:lnTo>
                  <a:lnTo>
                    <a:pt x="14" y="91"/>
                  </a:lnTo>
                  <a:lnTo>
                    <a:pt x="12" y="79"/>
                  </a:lnTo>
                  <a:lnTo>
                    <a:pt x="10" y="68"/>
                  </a:lnTo>
                  <a:lnTo>
                    <a:pt x="12" y="56"/>
                  </a:lnTo>
                  <a:lnTo>
                    <a:pt x="14" y="46"/>
                  </a:lnTo>
                  <a:lnTo>
                    <a:pt x="19" y="37"/>
                  </a:lnTo>
                  <a:lnTo>
                    <a:pt x="27" y="27"/>
                  </a:lnTo>
                  <a:lnTo>
                    <a:pt x="35" y="21"/>
                  </a:lnTo>
                  <a:lnTo>
                    <a:pt x="44" y="16"/>
                  </a:lnTo>
                  <a:lnTo>
                    <a:pt x="54" y="12"/>
                  </a:lnTo>
                  <a:lnTo>
                    <a:pt x="65" y="12"/>
                  </a:lnTo>
                  <a:lnTo>
                    <a:pt x="77" y="12"/>
                  </a:lnTo>
                  <a:lnTo>
                    <a:pt x="88" y="16"/>
                  </a:lnTo>
                  <a:lnTo>
                    <a:pt x="94" y="20"/>
                  </a:lnTo>
                  <a:lnTo>
                    <a:pt x="94" y="18"/>
                  </a:lnTo>
                  <a:lnTo>
                    <a:pt x="94" y="16"/>
                  </a:lnTo>
                  <a:lnTo>
                    <a:pt x="94" y="14"/>
                  </a:lnTo>
                  <a:lnTo>
                    <a:pt x="94" y="14"/>
                  </a:lnTo>
                  <a:lnTo>
                    <a:pt x="94" y="12"/>
                  </a:lnTo>
                  <a:lnTo>
                    <a:pt x="94" y="10"/>
                  </a:lnTo>
                  <a:lnTo>
                    <a:pt x="94" y="8"/>
                  </a:lnTo>
                  <a:lnTo>
                    <a:pt x="94" y="8"/>
                  </a:lnTo>
                  <a:close/>
                </a:path>
              </a:pathLst>
            </a:custGeom>
            <a:solidFill>
              <a:srgbClr val="f3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Freeform 254"/>
            <p:cNvSpPr/>
            <p:nvPr/>
          </p:nvSpPr>
          <p:spPr>
            <a:xfrm>
              <a:off x="2182680" y="3069720"/>
              <a:ext cx="151560" cy="20664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90" h="123">
                  <a:moveTo>
                    <a:pt x="90" y="8"/>
                  </a:moveTo>
                  <a:lnTo>
                    <a:pt x="86" y="6"/>
                  </a:lnTo>
                  <a:lnTo>
                    <a:pt x="75" y="2"/>
                  </a:lnTo>
                  <a:lnTo>
                    <a:pt x="61" y="0"/>
                  </a:lnTo>
                  <a:lnTo>
                    <a:pt x="50" y="2"/>
                  </a:lnTo>
                  <a:lnTo>
                    <a:pt x="38" y="6"/>
                  </a:lnTo>
                  <a:lnTo>
                    <a:pt x="27" y="12"/>
                  </a:lnTo>
                  <a:lnTo>
                    <a:pt x="19" y="17"/>
                  </a:lnTo>
                  <a:lnTo>
                    <a:pt x="12" y="27"/>
                  </a:lnTo>
                  <a:lnTo>
                    <a:pt x="6" y="38"/>
                  </a:lnTo>
                  <a:lnTo>
                    <a:pt x="2" y="50"/>
                  </a:lnTo>
                  <a:lnTo>
                    <a:pt x="0" y="62"/>
                  </a:lnTo>
                  <a:lnTo>
                    <a:pt x="2" y="75"/>
                  </a:lnTo>
                  <a:lnTo>
                    <a:pt x="6" y="86"/>
                  </a:lnTo>
                  <a:lnTo>
                    <a:pt x="12" y="96"/>
                  </a:lnTo>
                  <a:lnTo>
                    <a:pt x="19" y="106"/>
                  </a:lnTo>
                  <a:lnTo>
                    <a:pt x="27" y="113"/>
                  </a:lnTo>
                  <a:lnTo>
                    <a:pt x="38" y="119"/>
                  </a:lnTo>
                  <a:lnTo>
                    <a:pt x="50" y="123"/>
                  </a:lnTo>
                  <a:lnTo>
                    <a:pt x="61" y="123"/>
                  </a:lnTo>
                  <a:lnTo>
                    <a:pt x="75" y="123"/>
                  </a:lnTo>
                  <a:lnTo>
                    <a:pt x="86" y="119"/>
                  </a:lnTo>
                  <a:lnTo>
                    <a:pt x="90" y="117"/>
                  </a:lnTo>
                  <a:lnTo>
                    <a:pt x="90" y="115"/>
                  </a:lnTo>
                  <a:lnTo>
                    <a:pt x="90" y="113"/>
                  </a:lnTo>
                  <a:lnTo>
                    <a:pt x="90" y="111"/>
                  </a:lnTo>
                  <a:lnTo>
                    <a:pt x="90" y="111"/>
                  </a:lnTo>
                  <a:lnTo>
                    <a:pt x="90" y="109"/>
                  </a:lnTo>
                  <a:lnTo>
                    <a:pt x="90" y="108"/>
                  </a:lnTo>
                  <a:lnTo>
                    <a:pt x="90" y="106"/>
                  </a:lnTo>
                  <a:lnTo>
                    <a:pt x="90" y="106"/>
                  </a:lnTo>
                  <a:lnTo>
                    <a:pt x="83" y="109"/>
                  </a:lnTo>
                  <a:lnTo>
                    <a:pt x="73" y="111"/>
                  </a:lnTo>
                  <a:lnTo>
                    <a:pt x="61" y="113"/>
                  </a:lnTo>
                  <a:lnTo>
                    <a:pt x="52" y="111"/>
                  </a:lnTo>
                  <a:lnTo>
                    <a:pt x="42" y="109"/>
                  </a:lnTo>
                  <a:lnTo>
                    <a:pt x="33" y="104"/>
                  </a:lnTo>
                  <a:lnTo>
                    <a:pt x="25" y="98"/>
                  </a:lnTo>
                  <a:lnTo>
                    <a:pt x="19" y="90"/>
                  </a:lnTo>
                  <a:lnTo>
                    <a:pt x="15" y="83"/>
                  </a:lnTo>
                  <a:lnTo>
                    <a:pt x="12" y="73"/>
                  </a:lnTo>
                  <a:lnTo>
                    <a:pt x="12" y="62"/>
                  </a:lnTo>
                  <a:lnTo>
                    <a:pt x="12" y="52"/>
                  </a:lnTo>
                  <a:lnTo>
                    <a:pt x="15" y="42"/>
                  </a:lnTo>
                  <a:lnTo>
                    <a:pt x="19" y="33"/>
                  </a:lnTo>
                  <a:lnTo>
                    <a:pt x="25" y="25"/>
                  </a:lnTo>
                  <a:lnTo>
                    <a:pt x="33" y="19"/>
                  </a:lnTo>
                  <a:lnTo>
                    <a:pt x="42" y="14"/>
                  </a:lnTo>
                  <a:lnTo>
                    <a:pt x="52" y="12"/>
                  </a:lnTo>
                  <a:lnTo>
                    <a:pt x="61" y="10"/>
                  </a:lnTo>
                  <a:lnTo>
                    <a:pt x="73" y="12"/>
                  </a:lnTo>
                  <a:lnTo>
                    <a:pt x="83" y="14"/>
                  </a:lnTo>
                  <a:lnTo>
                    <a:pt x="90" y="19"/>
                  </a:lnTo>
                  <a:lnTo>
                    <a:pt x="90" y="17"/>
                  </a:lnTo>
                  <a:lnTo>
                    <a:pt x="90" y="15"/>
                  </a:lnTo>
                  <a:lnTo>
                    <a:pt x="90" y="14"/>
                  </a:lnTo>
                  <a:lnTo>
                    <a:pt x="90" y="14"/>
                  </a:lnTo>
                  <a:lnTo>
                    <a:pt x="90" y="12"/>
                  </a:lnTo>
                  <a:lnTo>
                    <a:pt x="90" y="10"/>
                  </a:lnTo>
                  <a:lnTo>
                    <a:pt x="90" y="8"/>
                  </a:lnTo>
                  <a:lnTo>
                    <a:pt x="90" y="8"/>
                  </a:lnTo>
                  <a:close/>
                </a:path>
              </a:pathLst>
            </a:custGeom>
            <a:solidFill>
              <a:srgbClr val="f4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Freeform 255"/>
            <p:cNvSpPr/>
            <p:nvPr/>
          </p:nvSpPr>
          <p:spPr>
            <a:xfrm>
              <a:off x="2192400" y="3079800"/>
              <a:ext cx="141480" cy="19008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84" h="113">
                  <a:moveTo>
                    <a:pt x="84" y="8"/>
                  </a:moveTo>
                  <a:lnTo>
                    <a:pt x="78" y="4"/>
                  </a:lnTo>
                  <a:lnTo>
                    <a:pt x="67" y="0"/>
                  </a:lnTo>
                  <a:lnTo>
                    <a:pt x="55" y="0"/>
                  </a:lnTo>
                  <a:lnTo>
                    <a:pt x="44" y="0"/>
                  </a:lnTo>
                  <a:lnTo>
                    <a:pt x="34" y="4"/>
                  </a:lnTo>
                  <a:lnTo>
                    <a:pt x="25" y="9"/>
                  </a:lnTo>
                  <a:lnTo>
                    <a:pt x="17" y="15"/>
                  </a:lnTo>
                  <a:lnTo>
                    <a:pt x="9" y="25"/>
                  </a:lnTo>
                  <a:lnTo>
                    <a:pt x="4" y="34"/>
                  </a:lnTo>
                  <a:lnTo>
                    <a:pt x="2" y="44"/>
                  </a:lnTo>
                  <a:lnTo>
                    <a:pt x="0" y="56"/>
                  </a:lnTo>
                  <a:lnTo>
                    <a:pt x="2" y="67"/>
                  </a:lnTo>
                  <a:lnTo>
                    <a:pt x="4" y="79"/>
                  </a:lnTo>
                  <a:lnTo>
                    <a:pt x="9" y="88"/>
                  </a:lnTo>
                  <a:lnTo>
                    <a:pt x="17" y="96"/>
                  </a:lnTo>
                  <a:lnTo>
                    <a:pt x="25" y="103"/>
                  </a:lnTo>
                  <a:lnTo>
                    <a:pt x="34" y="107"/>
                  </a:lnTo>
                  <a:lnTo>
                    <a:pt x="44" y="111"/>
                  </a:lnTo>
                  <a:lnTo>
                    <a:pt x="55" y="113"/>
                  </a:lnTo>
                  <a:lnTo>
                    <a:pt x="67" y="111"/>
                  </a:lnTo>
                  <a:lnTo>
                    <a:pt x="78" y="107"/>
                  </a:lnTo>
                  <a:lnTo>
                    <a:pt x="84" y="105"/>
                  </a:lnTo>
                  <a:lnTo>
                    <a:pt x="84" y="103"/>
                  </a:lnTo>
                  <a:lnTo>
                    <a:pt x="84" y="102"/>
                  </a:lnTo>
                  <a:lnTo>
                    <a:pt x="84" y="100"/>
                  </a:lnTo>
                  <a:lnTo>
                    <a:pt x="84" y="98"/>
                  </a:lnTo>
                  <a:lnTo>
                    <a:pt x="84" y="98"/>
                  </a:lnTo>
                  <a:lnTo>
                    <a:pt x="84" y="96"/>
                  </a:lnTo>
                  <a:lnTo>
                    <a:pt x="84" y="94"/>
                  </a:lnTo>
                  <a:lnTo>
                    <a:pt x="84" y="92"/>
                  </a:lnTo>
                  <a:lnTo>
                    <a:pt x="82" y="94"/>
                  </a:lnTo>
                  <a:lnTo>
                    <a:pt x="75" y="98"/>
                  </a:lnTo>
                  <a:lnTo>
                    <a:pt x="65" y="102"/>
                  </a:lnTo>
                  <a:lnTo>
                    <a:pt x="55" y="102"/>
                  </a:lnTo>
                  <a:lnTo>
                    <a:pt x="46" y="102"/>
                  </a:lnTo>
                  <a:lnTo>
                    <a:pt x="38" y="98"/>
                  </a:lnTo>
                  <a:lnTo>
                    <a:pt x="30" y="94"/>
                  </a:lnTo>
                  <a:lnTo>
                    <a:pt x="23" y="88"/>
                  </a:lnTo>
                  <a:lnTo>
                    <a:pt x="17" y="82"/>
                  </a:lnTo>
                  <a:lnTo>
                    <a:pt x="13" y="75"/>
                  </a:lnTo>
                  <a:lnTo>
                    <a:pt x="11" y="65"/>
                  </a:lnTo>
                  <a:lnTo>
                    <a:pt x="9" y="56"/>
                  </a:lnTo>
                  <a:lnTo>
                    <a:pt x="11" y="46"/>
                  </a:lnTo>
                  <a:lnTo>
                    <a:pt x="13" y="38"/>
                  </a:lnTo>
                  <a:lnTo>
                    <a:pt x="17" y="31"/>
                  </a:lnTo>
                  <a:lnTo>
                    <a:pt x="23" y="23"/>
                  </a:lnTo>
                  <a:lnTo>
                    <a:pt x="30" y="17"/>
                  </a:lnTo>
                  <a:lnTo>
                    <a:pt x="38" y="13"/>
                  </a:lnTo>
                  <a:lnTo>
                    <a:pt x="46" y="11"/>
                  </a:lnTo>
                  <a:lnTo>
                    <a:pt x="55" y="9"/>
                  </a:lnTo>
                  <a:lnTo>
                    <a:pt x="65" y="11"/>
                  </a:lnTo>
                  <a:lnTo>
                    <a:pt x="75" y="13"/>
                  </a:lnTo>
                  <a:lnTo>
                    <a:pt x="82" y="17"/>
                  </a:lnTo>
                  <a:lnTo>
                    <a:pt x="84" y="19"/>
                  </a:lnTo>
                  <a:lnTo>
                    <a:pt x="84" y="17"/>
                  </a:lnTo>
                  <a:lnTo>
                    <a:pt x="84" y="15"/>
                  </a:lnTo>
                  <a:lnTo>
                    <a:pt x="84" y="15"/>
                  </a:lnTo>
                  <a:lnTo>
                    <a:pt x="84" y="13"/>
                  </a:lnTo>
                  <a:lnTo>
                    <a:pt x="84" y="11"/>
                  </a:lnTo>
                  <a:lnTo>
                    <a:pt x="84" y="9"/>
                  </a:lnTo>
                  <a:lnTo>
                    <a:pt x="84" y="8"/>
                  </a:lnTo>
                  <a:lnTo>
                    <a:pt x="84" y="8"/>
                  </a:lnTo>
                  <a:close/>
                </a:path>
              </a:pathLst>
            </a:custGeom>
            <a:solidFill>
              <a:srgbClr val="f5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Freeform 256"/>
            <p:cNvSpPr/>
            <p:nvPr/>
          </p:nvSpPr>
          <p:spPr>
            <a:xfrm>
              <a:off x="2202840" y="3086280"/>
              <a:ext cx="131040" cy="173160"/>
            </a:xfrm>
            <a:custGeom>
              <a:avLst/>
              <a:gdLst>
                <a:gd name="textAreaLeft" fmla="*/ 0 w 131040"/>
                <a:gd name="textAreaRight" fmla="*/ 131400 w 13104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78" h="103">
                  <a:moveTo>
                    <a:pt x="78" y="9"/>
                  </a:moveTo>
                  <a:lnTo>
                    <a:pt x="71" y="4"/>
                  </a:lnTo>
                  <a:lnTo>
                    <a:pt x="61" y="2"/>
                  </a:lnTo>
                  <a:lnTo>
                    <a:pt x="49" y="0"/>
                  </a:lnTo>
                  <a:lnTo>
                    <a:pt x="40" y="2"/>
                  </a:lnTo>
                  <a:lnTo>
                    <a:pt x="30" y="4"/>
                  </a:lnTo>
                  <a:lnTo>
                    <a:pt x="21" y="9"/>
                  </a:lnTo>
                  <a:lnTo>
                    <a:pt x="13" y="15"/>
                  </a:lnTo>
                  <a:lnTo>
                    <a:pt x="7" y="23"/>
                  </a:lnTo>
                  <a:lnTo>
                    <a:pt x="3" y="32"/>
                  </a:lnTo>
                  <a:lnTo>
                    <a:pt x="0" y="42"/>
                  </a:lnTo>
                  <a:lnTo>
                    <a:pt x="0" y="52"/>
                  </a:lnTo>
                  <a:lnTo>
                    <a:pt x="0" y="63"/>
                  </a:lnTo>
                  <a:lnTo>
                    <a:pt x="3" y="73"/>
                  </a:lnTo>
                  <a:lnTo>
                    <a:pt x="7" y="80"/>
                  </a:lnTo>
                  <a:lnTo>
                    <a:pt x="13" y="88"/>
                  </a:lnTo>
                  <a:lnTo>
                    <a:pt x="21" y="94"/>
                  </a:lnTo>
                  <a:lnTo>
                    <a:pt x="30" y="99"/>
                  </a:lnTo>
                  <a:lnTo>
                    <a:pt x="40" y="101"/>
                  </a:lnTo>
                  <a:lnTo>
                    <a:pt x="49" y="103"/>
                  </a:lnTo>
                  <a:lnTo>
                    <a:pt x="61" y="101"/>
                  </a:lnTo>
                  <a:lnTo>
                    <a:pt x="71" y="99"/>
                  </a:lnTo>
                  <a:lnTo>
                    <a:pt x="78" y="96"/>
                  </a:lnTo>
                  <a:lnTo>
                    <a:pt x="78" y="94"/>
                  </a:lnTo>
                  <a:lnTo>
                    <a:pt x="78" y="92"/>
                  </a:lnTo>
                  <a:lnTo>
                    <a:pt x="78" y="90"/>
                  </a:lnTo>
                  <a:lnTo>
                    <a:pt x="78" y="88"/>
                  </a:lnTo>
                  <a:lnTo>
                    <a:pt x="78" y="86"/>
                  </a:lnTo>
                  <a:lnTo>
                    <a:pt x="78" y="86"/>
                  </a:lnTo>
                  <a:lnTo>
                    <a:pt x="78" y="84"/>
                  </a:lnTo>
                  <a:lnTo>
                    <a:pt x="78" y="82"/>
                  </a:lnTo>
                  <a:lnTo>
                    <a:pt x="72" y="86"/>
                  </a:lnTo>
                  <a:lnTo>
                    <a:pt x="67" y="90"/>
                  </a:lnTo>
                  <a:lnTo>
                    <a:pt x="59" y="92"/>
                  </a:lnTo>
                  <a:lnTo>
                    <a:pt x="49" y="94"/>
                  </a:lnTo>
                  <a:lnTo>
                    <a:pt x="42" y="92"/>
                  </a:lnTo>
                  <a:lnTo>
                    <a:pt x="34" y="90"/>
                  </a:lnTo>
                  <a:lnTo>
                    <a:pt x="26" y="86"/>
                  </a:lnTo>
                  <a:lnTo>
                    <a:pt x="21" y="80"/>
                  </a:lnTo>
                  <a:lnTo>
                    <a:pt x="17" y="75"/>
                  </a:lnTo>
                  <a:lnTo>
                    <a:pt x="13" y="67"/>
                  </a:lnTo>
                  <a:lnTo>
                    <a:pt x="9" y="59"/>
                  </a:lnTo>
                  <a:lnTo>
                    <a:pt x="9" y="52"/>
                  </a:lnTo>
                  <a:lnTo>
                    <a:pt x="9" y="44"/>
                  </a:lnTo>
                  <a:lnTo>
                    <a:pt x="13" y="36"/>
                  </a:lnTo>
                  <a:lnTo>
                    <a:pt x="17" y="28"/>
                  </a:lnTo>
                  <a:lnTo>
                    <a:pt x="21" y="23"/>
                  </a:lnTo>
                  <a:lnTo>
                    <a:pt x="26" y="17"/>
                  </a:lnTo>
                  <a:lnTo>
                    <a:pt x="34" y="13"/>
                  </a:lnTo>
                  <a:lnTo>
                    <a:pt x="42" y="11"/>
                  </a:lnTo>
                  <a:lnTo>
                    <a:pt x="49" y="11"/>
                  </a:lnTo>
                  <a:lnTo>
                    <a:pt x="59" y="11"/>
                  </a:lnTo>
                  <a:lnTo>
                    <a:pt x="67" y="13"/>
                  </a:lnTo>
                  <a:lnTo>
                    <a:pt x="72" y="17"/>
                  </a:lnTo>
                  <a:lnTo>
                    <a:pt x="78" y="21"/>
                  </a:lnTo>
                  <a:lnTo>
                    <a:pt x="78" y="19"/>
                  </a:lnTo>
                  <a:lnTo>
                    <a:pt x="78" y="19"/>
                  </a:lnTo>
                  <a:lnTo>
                    <a:pt x="78" y="17"/>
                  </a:lnTo>
                  <a:lnTo>
                    <a:pt x="78" y="15"/>
                  </a:lnTo>
                  <a:lnTo>
                    <a:pt x="78" y="13"/>
                  </a:lnTo>
                  <a:lnTo>
                    <a:pt x="78" y="11"/>
                  </a:lnTo>
                  <a:lnTo>
                    <a:pt x="78" y="9"/>
                  </a:lnTo>
                  <a:lnTo>
                    <a:pt x="78" y="9"/>
                  </a:lnTo>
                  <a:close/>
                </a:path>
              </a:pathLst>
            </a:custGeom>
            <a:solidFill>
              <a:srgbClr val="f6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Freeform 257"/>
            <p:cNvSpPr/>
            <p:nvPr/>
          </p:nvSpPr>
          <p:spPr>
            <a:xfrm>
              <a:off x="2207880" y="3094920"/>
              <a:ext cx="126360" cy="15624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75" h="93">
                  <a:moveTo>
                    <a:pt x="75" y="10"/>
                  </a:moveTo>
                  <a:lnTo>
                    <a:pt x="73" y="8"/>
                  </a:lnTo>
                  <a:lnTo>
                    <a:pt x="66" y="4"/>
                  </a:lnTo>
                  <a:lnTo>
                    <a:pt x="56" y="2"/>
                  </a:lnTo>
                  <a:lnTo>
                    <a:pt x="46" y="0"/>
                  </a:lnTo>
                  <a:lnTo>
                    <a:pt x="37" y="2"/>
                  </a:lnTo>
                  <a:lnTo>
                    <a:pt x="29" y="4"/>
                  </a:lnTo>
                  <a:lnTo>
                    <a:pt x="21" y="8"/>
                  </a:lnTo>
                  <a:lnTo>
                    <a:pt x="14" y="14"/>
                  </a:lnTo>
                  <a:lnTo>
                    <a:pt x="8" y="22"/>
                  </a:lnTo>
                  <a:lnTo>
                    <a:pt x="4" y="29"/>
                  </a:lnTo>
                  <a:lnTo>
                    <a:pt x="2" y="37"/>
                  </a:lnTo>
                  <a:lnTo>
                    <a:pt x="0" y="47"/>
                  </a:lnTo>
                  <a:lnTo>
                    <a:pt x="2" y="56"/>
                  </a:lnTo>
                  <a:lnTo>
                    <a:pt x="4" y="66"/>
                  </a:lnTo>
                  <a:lnTo>
                    <a:pt x="8" y="73"/>
                  </a:lnTo>
                  <a:lnTo>
                    <a:pt x="14" y="79"/>
                  </a:lnTo>
                  <a:lnTo>
                    <a:pt x="21" y="85"/>
                  </a:lnTo>
                  <a:lnTo>
                    <a:pt x="29" y="89"/>
                  </a:lnTo>
                  <a:lnTo>
                    <a:pt x="37" y="93"/>
                  </a:lnTo>
                  <a:lnTo>
                    <a:pt x="46" y="93"/>
                  </a:lnTo>
                  <a:lnTo>
                    <a:pt x="56" y="93"/>
                  </a:lnTo>
                  <a:lnTo>
                    <a:pt x="66" y="89"/>
                  </a:lnTo>
                  <a:lnTo>
                    <a:pt x="73" y="85"/>
                  </a:lnTo>
                  <a:lnTo>
                    <a:pt x="75" y="83"/>
                  </a:lnTo>
                  <a:lnTo>
                    <a:pt x="75" y="81"/>
                  </a:lnTo>
                  <a:lnTo>
                    <a:pt x="75" y="79"/>
                  </a:lnTo>
                  <a:lnTo>
                    <a:pt x="75" y="79"/>
                  </a:lnTo>
                  <a:lnTo>
                    <a:pt x="75" y="77"/>
                  </a:lnTo>
                  <a:lnTo>
                    <a:pt x="75" y="75"/>
                  </a:lnTo>
                  <a:lnTo>
                    <a:pt x="75" y="73"/>
                  </a:lnTo>
                  <a:lnTo>
                    <a:pt x="75" y="71"/>
                  </a:lnTo>
                  <a:lnTo>
                    <a:pt x="75" y="70"/>
                  </a:lnTo>
                  <a:lnTo>
                    <a:pt x="73" y="71"/>
                  </a:lnTo>
                  <a:lnTo>
                    <a:pt x="68" y="77"/>
                  </a:lnTo>
                  <a:lnTo>
                    <a:pt x="62" y="79"/>
                  </a:lnTo>
                  <a:lnTo>
                    <a:pt x="54" y="81"/>
                  </a:lnTo>
                  <a:lnTo>
                    <a:pt x="46" y="83"/>
                  </a:lnTo>
                  <a:lnTo>
                    <a:pt x="41" y="81"/>
                  </a:lnTo>
                  <a:lnTo>
                    <a:pt x="33" y="79"/>
                  </a:lnTo>
                  <a:lnTo>
                    <a:pt x="27" y="77"/>
                  </a:lnTo>
                  <a:lnTo>
                    <a:pt x="21" y="71"/>
                  </a:lnTo>
                  <a:lnTo>
                    <a:pt x="18" y="68"/>
                  </a:lnTo>
                  <a:lnTo>
                    <a:pt x="14" y="60"/>
                  </a:lnTo>
                  <a:lnTo>
                    <a:pt x="12" y="54"/>
                  </a:lnTo>
                  <a:lnTo>
                    <a:pt x="12" y="47"/>
                  </a:lnTo>
                  <a:lnTo>
                    <a:pt x="12" y="39"/>
                  </a:lnTo>
                  <a:lnTo>
                    <a:pt x="14" y="33"/>
                  </a:lnTo>
                  <a:lnTo>
                    <a:pt x="18" y="27"/>
                  </a:lnTo>
                  <a:lnTo>
                    <a:pt x="21" y="22"/>
                  </a:lnTo>
                  <a:lnTo>
                    <a:pt x="27" y="18"/>
                  </a:lnTo>
                  <a:lnTo>
                    <a:pt x="33" y="14"/>
                  </a:lnTo>
                  <a:lnTo>
                    <a:pt x="41" y="12"/>
                  </a:lnTo>
                  <a:lnTo>
                    <a:pt x="46" y="10"/>
                  </a:lnTo>
                  <a:lnTo>
                    <a:pt x="54" y="12"/>
                  </a:lnTo>
                  <a:lnTo>
                    <a:pt x="62" y="14"/>
                  </a:lnTo>
                  <a:lnTo>
                    <a:pt x="68" y="18"/>
                  </a:lnTo>
                  <a:lnTo>
                    <a:pt x="73" y="22"/>
                  </a:lnTo>
                  <a:lnTo>
                    <a:pt x="75" y="23"/>
                  </a:lnTo>
                  <a:lnTo>
                    <a:pt x="75" y="22"/>
                  </a:lnTo>
                  <a:lnTo>
                    <a:pt x="75" y="20"/>
                  </a:lnTo>
                  <a:lnTo>
                    <a:pt x="75" y="18"/>
                  </a:lnTo>
                  <a:lnTo>
                    <a:pt x="75" y="16"/>
                  </a:lnTo>
                  <a:lnTo>
                    <a:pt x="75" y="16"/>
                  </a:lnTo>
                  <a:lnTo>
                    <a:pt x="75" y="14"/>
                  </a:lnTo>
                  <a:lnTo>
                    <a:pt x="75" y="12"/>
                  </a:lnTo>
                  <a:lnTo>
                    <a:pt x="75" y="10"/>
                  </a:lnTo>
                  <a:close/>
                </a:path>
              </a:pathLst>
            </a:custGeom>
            <a:solidFill>
              <a:srgbClr val="f7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Freeform 258"/>
            <p:cNvSpPr/>
            <p:nvPr/>
          </p:nvSpPr>
          <p:spPr>
            <a:xfrm>
              <a:off x="2217600" y="3105000"/>
              <a:ext cx="116280" cy="139680"/>
            </a:xfrm>
            <a:custGeom>
              <a:avLst/>
              <a:gdLst>
                <a:gd name="textAreaLeft" fmla="*/ 0 w 116280"/>
                <a:gd name="textAreaRight" fmla="*/ 116640 w 11628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69" h="83">
                  <a:moveTo>
                    <a:pt x="69" y="10"/>
                  </a:moveTo>
                  <a:lnTo>
                    <a:pt x="63" y="6"/>
                  </a:lnTo>
                  <a:lnTo>
                    <a:pt x="58" y="2"/>
                  </a:lnTo>
                  <a:lnTo>
                    <a:pt x="50" y="0"/>
                  </a:lnTo>
                  <a:lnTo>
                    <a:pt x="40" y="0"/>
                  </a:lnTo>
                  <a:lnTo>
                    <a:pt x="33" y="0"/>
                  </a:lnTo>
                  <a:lnTo>
                    <a:pt x="25" y="2"/>
                  </a:lnTo>
                  <a:lnTo>
                    <a:pt x="17" y="6"/>
                  </a:lnTo>
                  <a:lnTo>
                    <a:pt x="12" y="12"/>
                  </a:lnTo>
                  <a:lnTo>
                    <a:pt x="8" y="17"/>
                  </a:lnTo>
                  <a:lnTo>
                    <a:pt x="4" y="25"/>
                  </a:lnTo>
                  <a:lnTo>
                    <a:pt x="0" y="33"/>
                  </a:lnTo>
                  <a:lnTo>
                    <a:pt x="0" y="41"/>
                  </a:lnTo>
                  <a:lnTo>
                    <a:pt x="0" y="48"/>
                  </a:lnTo>
                  <a:lnTo>
                    <a:pt x="4" y="56"/>
                  </a:lnTo>
                  <a:lnTo>
                    <a:pt x="8" y="64"/>
                  </a:lnTo>
                  <a:lnTo>
                    <a:pt x="12" y="69"/>
                  </a:lnTo>
                  <a:lnTo>
                    <a:pt x="17" y="75"/>
                  </a:lnTo>
                  <a:lnTo>
                    <a:pt x="25" y="79"/>
                  </a:lnTo>
                  <a:lnTo>
                    <a:pt x="33" y="81"/>
                  </a:lnTo>
                  <a:lnTo>
                    <a:pt x="40" y="83"/>
                  </a:lnTo>
                  <a:lnTo>
                    <a:pt x="50" y="81"/>
                  </a:lnTo>
                  <a:lnTo>
                    <a:pt x="58" y="79"/>
                  </a:lnTo>
                  <a:lnTo>
                    <a:pt x="63" y="75"/>
                  </a:lnTo>
                  <a:lnTo>
                    <a:pt x="69" y="71"/>
                  </a:lnTo>
                  <a:lnTo>
                    <a:pt x="69" y="69"/>
                  </a:lnTo>
                  <a:lnTo>
                    <a:pt x="69" y="67"/>
                  </a:lnTo>
                  <a:lnTo>
                    <a:pt x="69" y="65"/>
                  </a:lnTo>
                  <a:lnTo>
                    <a:pt x="69" y="64"/>
                  </a:lnTo>
                  <a:lnTo>
                    <a:pt x="69" y="62"/>
                  </a:lnTo>
                  <a:lnTo>
                    <a:pt x="69" y="58"/>
                  </a:lnTo>
                  <a:lnTo>
                    <a:pt x="69" y="56"/>
                  </a:lnTo>
                  <a:lnTo>
                    <a:pt x="69" y="54"/>
                  </a:lnTo>
                  <a:lnTo>
                    <a:pt x="67" y="58"/>
                  </a:lnTo>
                  <a:lnTo>
                    <a:pt x="63" y="62"/>
                  </a:lnTo>
                  <a:lnTo>
                    <a:pt x="58" y="65"/>
                  </a:lnTo>
                  <a:lnTo>
                    <a:pt x="54" y="69"/>
                  </a:lnTo>
                  <a:lnTo>
                    <a:pt x="48" y="71"/>
                  </a:lnTo>
                  <a:lnTo>
                    <a:pt x="40" y="71"/>
                  </a:lnTo>
                  <a:lnTo>
                    <a:pt x="35" y="71"/>
                  </a:lnTo>
                  <a:lnTo>
                    <a:pt x="29" y="69"/>
                  </a:lnTo>
                  <a:lnTo>
                    <a:pt x="23" y="65"/>
                  </a:lnTo>
                  <a:lnTo>
                    <a:pt x="19" y="62"/>
                  </a:lnTo>
                  <a:lnTo>
                    <a:pt x="15" y="58"/>
                  </a:lnTo>
                  <a:lnTo>
                    <a:pt x="14" y="52"/>
                  </a:lnTo>
                  <a:lnTo>
                    <a:pt x="12" y="46"/>
                  </a:lnTo>
                  <a:lnTo>
                    <a:pt x="10" y="41"/>
                  </a:lnTo>
                  <a:lnTo>
                    <a:pt x="12" y="35"/>
                  </a:lnTo>
                  <a:lnTo>
                    <a:pt x="14" y="29"/>
                  </a:lnTo>
                  <a:lnTo>
                    <a:pt x="15" y="23"/>
                  </a:lnTo>
                  <a:lnTo>
                    <a:pt x="19" y="19"/>
                  </a:lnTo>
                  <a:lnTo>
                    <a:pt x="23" y="16"/>
                  </a:lnTo>
                  <a:lnTo>
                    <a:pt x="29" y="12"/>
                  </a:lnTo>
                  <a:lnTo>
                    <a:pt x="35" y="10"/>
                  </a:lnTo>
                  <a:lnTo>
                    <a:pt x="40" y="10"/>
                  </a:lnTo>
                  <a:lnTo>
                    <a:pt x="48" y="10"/>
                  </a:lnTo>
                  <a:lnTo>
                    <a:pt x="54" y="12"/>
                  </a:lnTo>
                  <a:lnTo>
                    <a:pt x="58" y="16"/>
                  </a:lnTo>
                  <a:lnTo>
                    <a:pt x="63" y="19"/>
                  </a:lnTo>
                  <a:lnTo>
                    <a:pt x="67" y="23"/>
                  </a:lnTo>
                  <a:lnTo>
                    <a:pt x="67" y="27"/>
                  </a:lnTo>
                  <a:lnTo>
                    <a:pt x="67" y="25"/>
                  </a:lnTo>
                  <a:lnTo>
                    <a:pt x="69" y="23"/>
                  </a:lnTo>
                  <a:lnTo>
                    <a:pt x="69" y="21"/>
                  </a:lnTo>
                  <a:lnTo>
                    <a:pt x="69" y="19"/>
                  </a:lnTo>
                  <a:lnTo>
                    <a:pt x="69" y="16"/>
                  </a:lnTo>
                  <a:lnTo>
                    <a:pt x="69" y="14"/>
                  </a:lnTo>
                  <a:lnTo>
                    <a:pt x="69" y="12"/>
                  </a:lnTo>
                  <a:lnTo>
                    <a:pt x="69" y="10"/>
                  </a:lnTo>
                  <a:close/>
                </a:path>
              </a:pathLst>
            </a:custGeom>
            <a:solidFill>
              <a:srgbClr val="f8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Freeform 259"/>
            <p:cNvSpPr/>
            <p:nvPr/>
          </p:nvSpPr>
          <p:spPr>
            <a:xfrm>
              <a:off x="2228040" y="3111480"/>
              <a:ext cx="105840" cy="12276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122760"/>
                <a:gd name="textAreaBottom" fmla="*/ 123120 h 122760"/>
              </a:gdLst>
              <a:ahLst/>
              <a:rect l="textAreaLeft" t="textAreaTop" r="textAreaRight" b="textAreaBottom"/>
              <a:pathLst>
                <a:path w="63" h="73">
                  <a:moveTo>
                    <a:pt x="63" y="13"/>
                  </a:moveTo>
                  <a:lnTo>
                    <a:pt x="61" y="12"/>
                  </a:lnTo>
                  <a:lnTo>
                    <a:pt x="56" y="8"/>
                  </a:lnTo>
                  <a:lnTo>
                    <a:pt x="50" y="4"/>
                  </a:lnTo>
                  <a:lnTo>
                    <a:pt x="42" y="2"/>
                  </a:lnTo>
                  <a:lnTo>
                    <a:pt x="34" y="0"/>
                  </a:lnTo>
                  <a:lnTo>
                    <a:pt x="29" y="2"/>
                  </a:lnTo>
                  <a:lnTo>
                    <a:pt x="21" y="4"/>
                  </a:lnTo>
                  <a:lnTo>
                    <a:pt x="15" y="8"/>
                  </a:lnTo>
                  <a:lnTo>
                    <a:pt x="9" y="12"/>
                  </a:lnTo>
                  <a:lnTo>
                    <a:pt x="6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7"/>
                  </a:lnTo>
                  <a:lnTo>
                    <a:pt x="0" y="44"/>
                  </a:lnTo>
                  <a:lnTo>
                    <a:pt x="2" y="50"/>
                  </a:lnTo>
                  <a:lnTo>
                    <a:pt x="6" y="58"/>
                  </a:lnTo>
                  <a:lnTo>
                    <a:pt x="9" y="61"/>
                  </a:lnTo>
                  <a:lnTo>
                    <a:pt x="15" y="67"/>
                  </a:lnTo>
                  <a:lnTo>
                    <a:pt x="21" y="69"/>
                  </a:lnTo>
                  <a:lnTo>
                    <a:pt x="29" y="71"/>
                  </a:lnTo>
                  <a:lnTo>
                    <a:pt x="34" y="73"/>
                  </a:lnTo>
                  <a:lnTo>
                    <a:pt x="42" y="71"/>
                  </a:lnTo>
                  <a:lnTo>
                    <a:pt x="50" y="69"/>
                  </a:lnTo>
                  <a:lnTo>
                    <a:pt x="56" y="67"/>
                  </a:lnTo>
                  <a:lnTo>
                    <a:pt x="61" y="61"/>
                  </a:lnTo>
                  <a:lnTo>
                    <a:pt x="63" y="60"/>
                  </a:lnTo>
                  <a:lnTo>
                    <a:pt x="63" y="58"/>
                  </a:lnTo>
                  <a:lnTo>
                    <a:pt x="63" y="54"/>
                  </a:lnTo>
                  <a:lnTo>
                    <a:pt x="63" y="52"/>
                  </a:lnTo>
                  <a:lnTo>
                    <a:pt x="63" y="48"/>
                  </a:lnTo>
                  <a:lnTo>
                    <a:pt x="63" y="46"/>
                  </a:lnTo>
                  <a:lnTo>
                    <a:pt x="63" y="42"/>
                  </a:lnTo>
                  <a:lnTo>
                    <a:pt x="63" y="40"/>
                  </a:lnTo>
                  <a:lnTo>
                    <a:pt x="63" y="37"/>
                  </a:lnTo>
                  <a:lnTo>
                    <a:pt x="61" y="37"/>
                  </a:lnTo>
                  <a:lnTo>
                    <a:pt x="59" y="31"/>
                  </a:lnTo>
                  <a:lnTo>
                    <a:pt x="59" y="27"/>
                  </a:lnTo>
                  <a:lnTo>
                    <a:pt x="56" y="23"/>
                  </a:lnTo>
                  <a:lnTo>
                    <a:pt x="54" y="19"/>
                  </a:lnTo>
                  <a:lnTo>
                    <a:pt x="50" y="15"/>
                  </a:lnTo>
                  <a:lnTo>
                    <a:pt x="46" y="13"/>
                  </a:lnTo>
                  <a:lnTo>
                    <a:pt x="40" y="12"/>
                  </a:lnTo>
                  <a:lnTo>
                    <a:pt x="34" y="12"/>
                  </a:lnTo>
                  <a:lnTo>
                    <a:pt x="31" y="12"/>
                  </a:lnTo>
                  <a:lnTo>
                    <a:pt x="25" y="13"/>
                  </a:lnTo>
                  <a:lnTo>
                    <a:pt x="21" y="15"/>
                  </a:lnTo>
                  <a:lnTo>
                    <a:pt x="17" y="19"/>
                  </a:lnTo>
                  <a:lnTo>
                    <a:pt x="13" y="23"/>
                  </a:lnTo>
                  <a:lnTo>
                    <a:pt x="11" y="27"/>
                  </a:lnTo>
                  <a:lnTo>
                    <a:pt x="9" y="31"/>
                  </a:lnTo>
                  <a:lnTo>
                    <a:pt x="9" y="37"/>
                  </a:lnTo>
                  <a:lnTo>
                    <a:pt x="9" y="42"/>
                  </a:lnTo>
                  <a:lnTo>
                    <a:pt x="11" y="46"/>
                  </a:lnTo>
                  <a:lnTo>
                    <a:pt x="13" y="52"/>
                  </a:lnTo>
                  <a:lnTo>
                    <a:pt x="17" y="56"/>
                  </a:lnTo>
                  <a:lnTo>
                    <a:pt x="21" y="58"/>
                  </a:lnTo>
                  <a:lnTo>
                    <a:pt x="25" y="60"/>
                  </a:lnTo>
                  <a:lnTo>
                    <a:pt x="31" y="61"/>
                  </a:lnTo>
                  <a:lnTo>
                    <a:pt x="34" y="63"/>
                  </a:lnTo>
                  <a:lnTo>
                    <a:pt x="40" y="61"/>
                  </a:lnTo>
                  <a:lnTo>
                    <a:pt x="46" y="60"/>
                  </a:lnTo>
                  <a:lnTo>
                    <a:pt x="50" y="58"/>
                  </a:lnTo>
                  <a:lnTo>
                    <a:pt x="54" y="56"/>
                  </a:lnTo>
                  <a:lnTo>
                    <a:pt x="56" y="52"/>
                  </a:lnTo>
                  <a:lnTo>
                    <a:pt x="59" y="46"/>
                  </a:lnTo>
                  <a:lnTo>
                    <a:pt x="59" y="42"/>
                  </a:lnTo>
                  <a:lnTo>
                    <a:pt x="61" y="37"/>
                  </a:lnTo>
                  <a:lnTo>
                    <a:pt x="63" y="37"/>
                  </a:lnTo>
                  <a:lnTo>
                    <a:pt x="63" y="35"/>
                  </a:lnTo>
                  <a:lnTo>
                    <a:pt x="63" y="31"/>
                  </a:lnTo>
                  <a:lnTo>
                    <a:pt x="63" y="29"/>
                  </a:lnTo>
                  <a:lnTo>
                    <a:pt x="63" y="25"/>
                  </a:lnTo>
                  <a:lnTo>
                    <a:pt x="63" y="23"/>
                  </a:lnTo>
                  <a:lnTo>
                    <a:pt x="63" y="19"/>
                  </a:lnTo>
                  <a:lnTo>
                    <a:pt x="63" y="17"/>
                  </a:lnTo>
                  <a:lnTo>
                    <a:pt x="63" y="13"/>
                  </a:lnTo>
                  <a:close/>
                </a:path>
              </a:pathLst>
            </a:custGeom>
            <a:solidFill>
              <a:srgbClr val="f9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Freeform 260"/>
            <p:cNvSpPr/>
            <p:nvPr/>
          </p:nvSpPr>
          <p:spPr>
            <a:xfrm>
              <a:off x="2234520" y="3121920"/>
              <a:ext cx="99360" cy="10260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102600"/>
                <a:gd name="textAreaBottom" fmla="*/ 102960 h 102600"/>
              </a:gdLst>
              <a:ahLst/>
              <a:rect l="textAreaLeft" t="textAreaTop" r="textAreaRight" b="textAreaBottom"/>
              <a:pathLst>
                <a:path w="59" h="61">
                  <a:moveTo>
                    <a:pt x="57" y="17"/>
                  </a:moveTo>
                  <a:lnTo>
                    <a:pt x="57" y="13"/>
                  </a:lnTo>
                  <a:lnTo>
                    <a:pt x="53" y="9"/>
                  </a:lnTo>
                  <a:lnTo>
                    <a:pt x="48" y="6"/>
                  </a:lnTo>
                  <a:lnTo>
                    <a:pt x="44" y="2"/>
                  </a:lnTo>
                  <a:lnTo>
                    <a:pt x="38" y="0"/>
                  </a:lnTo>
                  <a:lnTo>
                    <a:pt x="30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3" y="6"/>
                  </a:lnTo>
                  <a:lnTo>
                    <a:pt x="9" y="9"/>
                  </a:lnTo>
                  <a:lnTo>
                    <a:pt x="5" y="13"/>
                  </a:lnTo>
                  <a:lnTo>
                    <a:pt x="4" y="19"/>
                  </a:lnTo>
                  <a:lnTo>
                    <a:pt x="2" y="25"/>
                  </a:lnTo>
                  <a:lnTo>
                    <a:pt x="0" y="31"/>
                  </a:lnTo>
                  <a:lnTo>
                    <a:pt x="2" y="36"/>
                  </a:lnTo>
                  <a:lnTo>
                    <a:pt x="4" y="42"/>
                  </a:lnTo>
                  <a:lnTo>
                    <a:pt x="5" y="48"/>
                  </a:lnTo>
                  <a:lnTo>
                    <a:pt x="9" y="52"/>
                  </a:lnTo>
                  <a:lnTo>
                    <a:pt x="13" y="55"/>
                  </a:lnTo>
                  <a:lnTo>
                    <a:pt x="19" y="59"/>
                  </a:lnTo>
                  <a:lnTo>
                    <a:pt x="25" y="61"/>
                  </a:lnTo>
                  <a:lnTo>
                    <a:pt x="30" y="61"/>
                  </a:lnTo>
                  <a:lnTo>
                    <a:pt x="38" y="61"/>
                  </a:lnTo>
                  <a:lnTo>
                    <a:pt x="44" y="59"/>
                  </a:lnTo>
                  <a:lnTo>
                    <a:pt x="48" y="55"/>
                  </a:lnTo>
                  <a:lnTo>
                    <a:pt x="53" y="52"/>
                  </a:lnTo>
                  <a:lnTo>
                    <a:pt x="57" y="48"/>
                  </a:lnTo>
                  <a:lnTo>
                    <a:pt x="59" y="44"/>
                  </a:lnTo>
                  <a:lnTo>
                    <a:pt x="59" y="42"/>
                  </a:lnTo>
                  <a:lnTo>
                    <a:pt x="59" y="42"/>
                  </a:lnTo>
                  <a:lnTo>
                    <a:pt x="59" y="40"/>
                  </a:lnTo>
                  <a:lnTo>
                    <a:pt x="59" y="38"/>
                  </a:lnTo>
                  <a:lnTo>
                    <a:pt x="59" y="36"/>
                  </a:lnTo>
                  <a:lnTo>
                    <a:pt x="59" y="34"/>
                  </a:lnTo>
                  <a:lnTo>
                    <a:pt x="59" y="32"/>
                  </a:lnTo>
                  <a:lnTo>
                    <a:pt x="59" y="31"/>
                  </a:lnTo>
                  <a:lnTo>
                    <a:pt x="52" y="31"/>
                  </a:lnTo>
                  <a:lnTo>
                    <a:pt x="52" y="27"/>
                  </a:lnTo>
                  <a:lnTo>
                    <a:pt x="50" y="23"/>
                  </a:lnTo>
                  <a:lnTo>
                    <a:pt x="48" y="19"/>
                  </a:lnTo>
                  <a:lnTo>
                    <a:pt x="46" y="17"/>
                  </a:lnTo>
                  <a:lnTo>
                    <a:pt x="42" y="13"/>
                  </a:lnTo>
                  <a:lnTo>
                    <a:pt x="38" y="11"/>
                  </a:lnTo>
                  <a:lnTo>
                    <a:pt x="34" y="11"/>
                  </a:lnTo>
                  <a:lnTo>
                    <a:pt x="30" y="9"/>
                  </a:lnTo>
                  <a:lnTo>
                    <a:pt x="27" y="11"/>
                  </a:lnTo>
                  <a:lnTo>
                    <a:pt x="23" y="11"/>
                  </a:lnTo>
                  <a:lnTo>
                    <a:pt x="19" y="13"/>
                  </a:lnTo>
                  <a:lnTo>
                    <a:pt x="17" y="17"/>
                  </a:lnTo>
                  <a:lnTo>
                    <a:pt x="13" y="19"/>
                  </a:lnTo>
                  <a:lnTo>
                    <a:pt x="11" y="23"/>
                  </a:lnTo>
                  <a:lnTo>
                    <a:pt x="11" y="27"/>
                  </a:lnTo>
                  <a:lnTo>
                    <a:pt x="11" y="31"/>
                  </a:lnTo>
                  <a:lnTo>
                    <a:pt x="11" y="34"/>
                  </a:lnTo>
                  <a:lnTo>
                    <a:pt x="11" y="38"/>
                  </a:lnTo>
                  <a:lnTo>
                    <a:pt x="13" y="42"/>
                  </a:lnTo>
                  <a:lnTo>
                    <a:pt x="17" y="46"/>
                  </a:lnTo>
                  <a:lnTo>
                    <a:pt x="19" y="48"/>
                  </a:lnTo>
                  <a:lnTo>
                    <a:pt x="23" y="50"/>
                  </a:lnTo>
                  <a:lnTo>
                    <a:pt x="27" y="52"/>
                  </a:lnTo>
                  <a:lnTo>
                    <a:pt x="30" y="52"/>
                  </a:lnTo>
                  <a:lnTo>
                    <a:pt x="34" y="52"/>
                  </a:lnTo>
                  <a:lnTo>
                    <a:pt x="38" y="50"/>
                  </a:lnTo>
                  <a:lnTo>
                    <a:pt x="42" y="48"/>
                  </a:lnTo>
                  <a:lnTo>
                    <a:pt x="46" y="46"/>
                  </a:lnTo>
                  <a:lnTo>
                    <a:pt x="48" y="42"/>
                  </a:lnTo>
                  <a:lnTo>
                    <a:pt x="50" y="38"/>
                  </a:lnTo>
                  <a:lnTo>
                    <a:pt x="52" y="34"/>
                  </a:lnTo>
                  <a:lnTo>
                    <a:pt x="52" y="31"/>
                  </a:lnTo>
                  <a:lnTo>
                    <a:pt x="59" y="31"/>
                  </a:lnTo>
                  <a:lnTo>
                    <a:pt x="59" y="29"/>
                  </a:lnTo>
                  <a:lnTo>
                    <a:pt x="59" y="27"/>
                  </a:lnTo>
                  <a:lnTo>
                    <a:pt x="59" y="25"/>
                  </a:lnTo>
                  <a:lnTo>
                    <a:pt x="59" y="23"/>
                  </a:lnTo>
                  <a:lnTo>
                    <a:pt x="59" y="23"/>
                  </a:lnTo>
                  <a:lnTo>
                    <a:pt x="57" y="21"/>
                  </a:lnTo>
                  <a:lnTo>
                    <a:pt x="57" y="19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faf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Freeform 261"/>
            <p:cNvSpPr/>
            <p:nvPr/>
          </p:nvSpPr>
          <p:spPr>
            <a:xfrm>
              <a:off x="2242800" y="3131640"/>
              <a:ext cx="87480" cy="8568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52" h="51">
                  <a:moveTo>
                    <a:pt x="52" y="25"/>
                  </a:moveTo>
                  <a:lnTo>
                    <a:pt x="50" y="19"/>
                  </a:lnTo>
                  <a:lnTo>
                    <a:pt x="50" y="15"/>
                  </a:lnTo>
                  <a:lnTo>
                    <a:pt x="47" y="11"/>
                  </a:lnTo>
                  <a:lnTo>
                    <a:pt x="45" y="7"/>
                  </a:lnTo>
                  <a:lnTo>
                    <a:pt x="41" y="3"/>
                  </a:lnTo>
                  <a:lnTo>
                    <a:pt x="37" y="1"/>
                  </a:lnTo>
                  <a:lnTo>
                    <a:pt x="31" y="0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16" y="1"/>
                  </a:lnTo>
                  <a:lnTo>
                    <a:pt x="12" y="3"/>
                  </a:lnTo>
                  <a:lnTo>
                    <a:pt x="8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0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4"/>
                  </a:lnTo>
                  <a:lnTo>
                    <a:pt x="4" y="40"/>
                  </a:lnTo>
                  <a:lnTo>
                    <a:pt x="8" y="44"/>
                  </a:lnTo>
                  <a:lnTo>
                    <a:pt x="12" y="46"/>
                  </a:lnTo>
                  <a:lnTo>
                    <a:pt x="16" y="48"/>
                  </a:lnTo>
                  <a:lnTo>
                    <a:pt x="22" y="49"/>
                  </a:lnTo>
                  <a:lnTo>
                    <a:pt x="25" y="51"/>
                  </a:lnTo>
                  <a:lnTo>
                    <a:pt x="31" y="49"/>
                  </a:lnTo>
                  <a:lnTo>
                    <a:pt x="37" y="48"/>
                  </a:lnTo>
                  <a:lnTo>
                    <a:pt x="41" y="46"/>
                  </a:lnTo>
                  <a:lnTo>
                    <a:pt x="45" y="44"/>
                  </a:lnTo>
                  <a:lnTo>
                    <a:pt x="47" y="40"/>
                  </a:lnTo>
                  <a:lnTo>
                    <a:pt x="50" y="34"/>
                  </a:lnTo>
                  <a:lnTo>
                    <a:pt x="50" y="30"/>
                  </a:lnTo>
                  <a:lnTo>
                    <a:pt x="52" y="25"/>
                  </a:lnTo>
                  <a:lnTo>
                    <a:pt x="41" y="25"/>
                  </a:lnTo>
                  <a:lnTo>
                    <a:pt x="41" y="23"/>
                  </a:lnTo>
                  <a:lnTo>
                    <a:pt x="41" y="19"/>
                  </a:lnTo>
                  <a:lnTo>
                    <a:pt x="39" y="17"/>
                  </a:lnTo>
                  <a:lnTo>
                    <a:pt x="37" y="13"/>
                  </a:lnTo>
                  <a:lnTo>
                    <a:pt x="35" y="11"/>
                  </a:lnTo>
                  <a:lnTo>
                    <a:pt x="31" y="11"/>
                  </a:lnTo>
                  <a:lnTo>
                    <a:pt x="29" y="9"/>
                  </a:lnTo>
                  <a:lnTo>
                    <a:pt x="25" y="9"/>
                  </a:lnTo>
                  <a:lnTo>
                    <a:pt x="23" y="9"/>
                  </a:lnTo>
                  <a:lnTo>
                    <a:pt x="20" y="11"/>
                  </a:lnTo>
                  <a:lnTo>
                    <a:pt x="18" y="11"/>
                  </a:lnTo>
                  <a:lnTo>
                    <a:pt x="16" y="13"/>
                  </a:lnTo>
                  <a:lnTo>
                    <a:pt x="14" y="17"/>
                  </a:lnTo>
                  <a:lnTo>
                    <a:pt x="12" y="19"/>
                  </a:lnTo>
                  <a:lnTo>
                    <a:pt x="10" y="23"/>
                  </a:lnTo>
                  <a:lnTo>
                    <a:pt x="10" y="25"/>
                  </a:lnTo>
                  <a:lnTo>
                    <a:pt x="10" y="28"/>
                  </a:lnTo>
                  <a:lnTo>
                    <a:pt x="12" y="30"/>
                  </a:lnTo>
                  <a:lnTo>
                    <a:pt x="14" y="34"/>
                  </a:lnTo>
                  <a:lnTo>
                    <a:pt x="16" y="36"/>
                  </a:lnTo>
                  <a:lnTo>
                    <a:pt x="18" y="38"/>
                  </a:lnTo>
                  <a:lnTo>
                    <a:pt x="20" y="40"/>
                  </a:lnTo>
                  <a:lnTo>
                    <a:pt x="23" y="40"/>
                  </a:lnTo>
                  <a:lnTo>
                    <a:pt x="25" y="40"/>
                  </a:lnTo>
                  <a:lnTo>
                    <a:pt x="29" y="40"/>
                  </a:lnTo>
                  <a:lnTo>
                    <a:pt x="31" y="40"/>
                  </a:lnTo>
                  <a:lnTo>
                    <a:pt x="35" y="38"/>
                  </a:lnTo>
                  <a:lnTo>
                    <a:pt x="37" y="36"/>
                  </a:lnTo>
                  <a:lnTo>
                    <a:pt x="39" y="34"/>
                  </a:lnTo>
                  <a:lnTo>
                    <a:pt x="41" y="30"/>
                  </a:lnTo>
                  <a:lnTo>
                    <a:pt x="41" y="28"/>
                  </a:lnTo>
                  <a:lnTo>
                    <a:pt x="41" y="25"/>
                  </a:lnTo>
                  <a:lnTo>
                    <a:pt x="52" y="25"/>
                  </a:lnTo>
                  <a:close/>
                </a:path>
              </a:pathLst>
            </a:custGeom>
            <a:solidFill>
              <a:srgbClr val="fbf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Freeform 262"/>
            <p:cNvSpPr/>
            <p:nvPr/>
          </p:nvSpPr>
          <p:spPr>
            <a:xfrm>
              <a:off x="2253240" y="3136680"/>
              <a:ext cx="69120" cy="7236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72360"/>
                <a:gd name="textAreaBottom" fmla="*/ 72720 h 72360"/>
              </a:gdLst>
              <a:ahLst/>
              <a:rect l="textAreaLeft" t="textAreaTop" r="textAreaRight" b="textAreaBottom"/>
              <a:pathLst>
                <a:path w="41" h="43">
                  <a:moveTo>
                    <a:pt x="41" y="22"/>
                  </a:moveTo>
                  <a:lnTo>
                    <a:pt x="41" y="18"/>
                  </a:lnTo>
                  <a:lnTo>
                    <a:pt x="39" y="14"/>
                  </a:lnTo>
                  <a:lnTo>
                    <a:pt x="37" y="10"/>
                  </a:lnTo>
                  <a:lnTo>
                    <a:pt x="35" y="8"/>
                  </a:lnTo>
                  <a:lnTo>
                    <a:pt x="31" y="4"/>
                  </a:lnTo>
                  <a:lnTo>
                    <a:pt x="27" y="2"/>
                  </a:lnTo>
                  <a:lnTo>
                    <a:pt x="23" y="2"/>
                  </a:lnTo>
                  <a:lnTo>
                    <a:pt x="19" y="0"/>
                  </a:lnTo>
                  <a:lnTo>
                    <a:pt x="16" y="2"/>
                  </a:lnTo>
                  <a:lnTo>
                    <a:pt x="12" y="2"/>
                  </a:lnTo>
                  <a:lnTo>
                    <a:pt x="8" y="4"/>
                  </a:lnTo>
                  <a:lnTo>
                    <a:pt x="6" y="8"/>
                  </a:lnTo>
                  <a:lnTo>
                    <a:pt x="2" y="10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2" y="33"/>
                  </a:lnTo>
                  <a:lnTo>
                    <a:pt x="6" y="37"/>
                  </a:lnTo>
                  <a:lnTo>
                    <a:pt x="8" y="39"/>
                  </a:lnTo>
                  <a:lnTo>
                    <a:pt x="12" y="41"/>
                  </a:lnTo>
                  <a:lnTo>
                    <a:pt x="16" y="43"/>
                  </a:lnTo>
                  <a:lnTo>
                    <a:pt x="19" y="43"/>
                  </a:lnTo>
                  <a:lnTo>
                    <a:pt x="23" y="43"/>
                  </a:lnTo>
                  <a:lnTo>
                    <a:pt x="27" y="41"/>
                  </a:lnTo>
                  <a:lnTo>
                    <a:pt x="31" y="39"/>
                  </a:lnTo>
                  <a:lnTo>
                    <a:pt x="35" y="37"/>
                  </a:lnTo>
                  <a:lnTo>
                    <a:pt x="37" y="33"/>
                  </a:lnTo>
                  <a:lnTo>
                    <a:pt x="39" y="29"/>
                  </a:lnTo>
                  <a:lnTo>
                    <a:pt x="41" y="25"/>
                  </a:lnTo>
                  <a:lnTo>
                    <a:pt x="41" y="22"/>
                  </a:lnTo>
                  <a:lnTo>
                    <a:pt x="31" y="22"/>
                  </a:lnTo>
                  <a:lnTo>
                    <a:pt x="31" y="20"/>
                  </a:lnTo>
                  <a:lnTo>
                    <a:pt x="29" y="18"/>
                  </a:lnTo>
                  <a:lnTo>
                    <a:pt x="29" y="16"/>
                  </a:lnTo>
                  <a:lnTo>
                    <a:pt x="27" y="14"/>
                  </a:lnTo>
                  <a:lnTo>
                    <a:pt x="25" y="14"/>
                  </a:lnTo>
                  <a:lnTo>
                    <a:pt x="23" y="12"/>
                  </a:lnTo>
                  <a:lnTo>
                    <a:pt x="21" y="12"/>
                  </a:lnTo>
                  <a:lnTo>
                    <a:pt x="19" y="12"/>
                  </a:lnTo>
                  <a:lnTo>
                    <a:pt x="17" y="12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0" y="18"/>
                  </a:lnTo>
                  <a:lnTo>
                    <a:pt x="10" y="20"/>
                  </a:lnTo>
                  <a:lnTo>
                    <a:pt x="10" y="22"/>
                  </a:lnTo>
                  <a:lnTo>
                    <a:pt x="10" y="23"/>
                  </a:lnTo>
                  <a:lnTo>
                    <a:pt x="10" y="25"/>
                  </a:lnTo>
                  <a:lnTo>
                    <a:pt x="12" y="27"/>
                  </a:lnTo>
                  <a:lnTo>
                    <a:pt x="14" y="29"/>
                  </a:lnTo>
                  <a:lnTo>
                    <a:pt x="14" y="31"/>
                  </a:lnTo>
                  <a:lnTo>
                    <a:pt x="16" y="31"/>
                  </a:lnTo>
                  <a:lnTo>
                    <a:pt x="17" y="31"/>
                  </a:lnTo>
                  <a:lnTo>
                    <a:pt x="19" y="31"/>
                  </a:lnTo>
                  <a:lnTo>
                    <a:pt x="21" y="31"/>
                  </a:lnTo>
                  <a:lnTo>
                    <a:pt x="23" y="31"/>
                  </a:lnTo>
                  <a:lnTo>
                    <a:pt x="25" y="31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1" y="22"/>
                  </a:lnTo>
                  <a:lnTo>
                    <a:pt x="41" y="22"/>
                  </a:lnTo>
                  <a:close/>
                </a:path>
              </a:pathLst>
            </a:custGeom>
            <a:solidFill>
              <a:srgbClr val="fcf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Freeform 263"/>
            <p:cNvSpPr/>
            <p:nvPr/>
          </p:nvSpPr>
          <p:spPr>
            <a:xfrm>
              <a:off x="2260080" y="3147120"/>
              <a:ext cx="51840" cy="5220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31" h="31">
                  <a:moveTo>
                    <a:pt x="31" y="16"/>
                  </a:moveTo>
                  <a:lnTo>
                    <a:pt x="31" y="14"/>
                  </a:lnTo>
                  <a:lnTo>
                    <a:pt x="31" y="10"/>
                  </a:lnTo>
                  <a:lnTo>
                    <a:pt x="29" y="8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8"/>
                  </a:lnTo>
                  <a:lnTo>
                    <a:pt x="2" y="10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8" y="29"/>
                  </a:lnTo>
                  <a:lnTo>
                    <a:pt x="10" y="31"/>
                  </a:lnTo>
                  <a:lnTo>
                    <a:pt x="13" y="31"/>
                  </a:lnTo>
                  <a:lnTo>
                    <a:pt x="15" y="31"/>
                  </a:lnTo>
                  <a:lnTo>
                    <a:pt x="19" y="31"/>
                  </a:lnTo>
                  <a:lnTo>
                    <a:pt x="21" y="31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1" y="21"/>
                  </a:lnTo>
                  <a:lnTo>
                    <a:pt x="31" y="19"/>
                  </a:lnTo>
                  <a:lnTo>
                    <a:pt x="31" y="16"/>
                  </a:lnTo>
                  <a:lnTo>
                    <a:pt x="21" y="16"/>
                  </a:lnTo>
                  <a:lnTo>
                    <a:pt x="21" y="16"/>
                  </a:lnTo>
                  <a:lnTo>
                    <a:pt x="21" y="14"/>
                  </a:lnTo>
                  <a:lnTo>
                    <a:pt x="21" y="14"/>
                  </a:lnTo>
                  <a:lnTo>
                    <a:pt x="19" y="12"/>
                  </a:lnTo>
                  <a:lnTo>
                    <a:pt x="19" y="12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5" y="10"/>
                  </a:lnTo>
                  <a:lnTo>
                    <a:pt x="15" y="12"/>
                  </a:lnTo>
                  <a:lnTo>
                    <a:pt x="13" y="12"/>
                  </a:lnTo>
                  <a:lnTo>
                    <a:pt x="13" y="12"/>
                  </a:lnTo>
                  <a:lnTo>
                    <a:pt x="12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2" y="17"/>
                  </a:lnTo>
                  <a:lnTo>
                    <a:pt x="12" y="17"/>
                  </a:lnTo>
                  <a:lnTo>
                    <a:pt x="12" y="19"/>
                  </a:lnTo>
                  <a:lnTo>
                    <a:pt x="12" y="19"/>
                  </a:lnTo>
                  <a:lnTo>
                    <a:pt x="13" y="19"/>
                  </a:lnTo>
                  <a:lnTo>
                    <a:pt x="13" y="21"/>
                  </a:lnTo>
                  <a:lnTo>
                    <a:pt x="15" y="21"/>
                  </a:lnTo>
                  <a:lnTo>
                    <a:pt x="15" y="21"/>
                  </a:lnTo>
                  <a:lnTo>
                    <a:pt x="17" y="21"/>
                  </a:lnTo>
                  <a:lnTo>
                    <a:pt x="17" y="21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21" y="19"/>
                  </a:lnTo>
                  <a:lnTo>
                    <a:pt x="21" y="17"/>
                  </a:lnTo>
                  <a:lnTo>
                    <a:pt x="21" y="17"/>
                  </a:lnTo>
                  <a:lnTo>
                    <a:pt x="21" y="16"/>
                  </a:lnTo>
                  <a:lnTo>
                    <a:pt x="31" y="16"/>
                  </a:lnTo>
                  <a:close/>
                </a:path>
              </a:pathLst>
            </a:custGeom>
            <a:solidFill>
              <a:srgbClr val="fd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Freeform 266"/>
            <p:cNvSpPr/>
            <p:nvPr/>
          </p:nvSpPr>
          <p:spPr>
            <a:xfrm>
              <a:off x="2716560" y="1028520"/>
              <a:ext cx="119520" cy="606240"/>
            </a:xfrm>
            <a:custGeom>
              <a:avLst/>
              <a:gdLst>
                <a:gd name="textAreaLeft" fmla="*/ 0 w 119520"/>
                <a:gd name="textAreaRight" fmla="*/ 119880 w 11952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71" h="360">
                  <a:moveTo>
                    <a:pt x="5" y="360"/>
                  </a:moveTo>
                  <a:lnTo>
                    <a:pt x="7" y="358"/>
                  </a:lnTo>
                  <a:lnTo>
                    <a:pt x="15" y="314"/>
                  </a:lnTo>
                  <a:lnTo>
                    <a:pt x="23" y="268"/>
                  </a:lnTo>
                  <a:lnTo>
                    <a:pt x="30" y="224"/>
                  </a:lnTo>
                  <a:lnTo>
                    <a:pt x="38" y="180"/>
                  </a:lnTo>
                  <a:lnTo>
                    <a:pt x="46" y="134"/>
                  </a:lnTo>
                  <a:lnTo>
                    <a:pt x="55" y="90"/>
                  </a:lnTo>
                  <a:lnTo>
                    <a:pt x="63" y="46"/>
                  </a:lnTo>
                  <a:lnTo>
                    <a:pt x="71" y="1"/>
                  </a:lnTo>
                  <a:lnTo>
                    <a:pt x="63" y="0"/>
                  </a:lnTo>
                  <a:lnTo>
                    <a:pt x="55" y="44"/>
                  </a:lnTo>
                  <a:lnTo>
                    <a:pt x="48" y="88"/>
                  </a:lnTo>
                  <a:lnTo>
                    <a:pt x="38" y="134"/>
                  </a:lnTo>
                  <a:lnTo>
                    <a:pt x="30" y="178"/>
                  </a:lnTo>
                  <a:lnTo>
                    <a:pt x="23" y="222"/>
                  </a:lnTo>
                  <a:lnTo>
                    <a:pt x="15" y="268"/>
                  </a:lnTo>
                  <a:lnTo>
                    <a:pt x="7" y="312"/>
                  </a:lnTo>
                  <a:lnTo>
                    <a:pt x="0" y="356"/>
                  </a:lnTo>
                  <a:lnTo>
                    <a:pt x="0" y="354"/>
                  </a:lnTo>
                  <a:lnTo>
                    <a:pt x="5" y="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Freeform 267"/>
            <p:cNvSpPr/>
            <p:nvPr/>
          </p:nvSpPr>
          <p:spPr>
            <a:xfrm>
              <a:off x="2323800" y="1625040"/>
              <a:ext cx="400680" cy="2973240"/>
            </a:xfrm>
            <a:custGeom>
              <a:avLst/>
              <a:gdLst>
                <a:gd name="textAreaLeft" fmla="*/ 0 w 400680"/>
                <a:gd name="textAreaRight" fmla="*/ 401040 w 400680"/>
                <a:gd name="textAreaTop" fmla="*/ 0 h 2973240"/>
                <a:gd name="textAreaBottom" fmla="*/ 2973600 h 2973240"/>
              </a:gdLst>
              <a:ahLst/>
              <a:rect l="textAreaLeft" t="textAreaTop" r="textAreaRight" b="textAreaBottom"/>
              <a:pathLst>
                <a:path w="238" h="1766">
                  <a:moveTo>
                    <a:pt x="194" y="1764"/>
                  </a:moveTo>
                  <a:lnTo>
                    <a:pt x="194" y="1762"/>
                  </a:lnTo>
                  <a:lnTo>
                    <a:pt x="177" y="1727"/>
                  </a:lnTo>
                  <a:lnTo>
                    <a:pt x="158" y="1689"/>
                  </a:lnTo>
                  <a:lnTo>
                    <a:pt x="141" y="1649"/>
                  </a:lnTo>
                  <a:lnTo>
                    <a:pt x="125" y="1606"/>
                  </a:lnTo>
                  <a:lnTo>
                    <a:pt x="110" y="1562"/>
                  </a:lnTo>
                  <a:lnTo>
                    <a:pt x="94" y="1514"/>
                  </a:lnTo>
                  <a:lnTo>
                    <a:pt x="81" y="1466"/>
                  </a:lnTo>
                  <a:lnTo>
                    <a:pt x="68" y="1416"/>
                  </a:lnTo>
                  <a:lnTo>
                    <a:pt x="56" y="1365"/>
                  </a:lnTo>
                  <a:lnTo>
                    <a:pt x="47" y="1311"/>
                  </a:lnTo>
                  <a:lnTo>
                    <a:pt x="37" y="1255"/>
                  </a:lnTo>
                  <a:lnTo>
                    <a:pt x="29" y="1200"/>
                  </a:lnTo>
                  <a:lnTo>
                    <a:pt x="22" y="1142"/>
                  </a:lnTo>
                  <a:lnTo>
                    <a:pt x="16" y="1085"/>
                  </a:lnTo>
                  <a:lnTo>
                    <a:pt x="12" y="1025"/>
                  </a:lnTo>
                  <a:lnTo>
                    <a:pt x="10" y="964"/>
                  </a:lnTo>
                  <a:lnTo>
                    <a:pt x="10" y="904"/>
                  </a:lnTo>
                  <a:lnTo>
                    <a:pt x="10" y="843"/>
                  </a:lnTo>
                  <a:lnTo>
                    <a:pt x="12" y="781"/>
                  </a:lnTo>
                  <a:lnTo>
                    <a:pt x="18" y="720"/>
                  </a:lnTo>
                  <a:lnTo>
                    <a:pt x="23" y="659"/>
                  </a:lnTo>
                  <a:lnTo>
                    <a:pt x="33" y="595"/>
                  </a:lnTo>
                  <a:lnTo>
                    <a:pt x="43" y="534"/>
                  </a:lnTo>
                  <a:lnTo>
                    <a:pt x="54" y="472"/>
                  </a:lnTo>
                  <a:lnTo>
                    <a:pt x="70" y="411"/>
                  </a:lnTo>
                  <a:lnTo>
                    <a:pt x="87" y="352"/>
                  </a:lnTo>
                  <a:lnTo>
                    <a:pt x="106" y="292"/>
                  </a:lnTo>
                  <a:lnTo>
                    <a:pt x="127" y="233"/>
                  </a:lnTo>
                  <a:lnTo>
                    <a:pt x="152" y="173"/>
                  </a:lnTo>
                  <a:lnTo>
                    <a:pt x="179" y="118"/>
                  </a:lnTo>
                  <a:lnTo>
                    <a:pt x="208" y="60"/>
                  </a:lnTo>
                  <a:lnTo>
                    <a:pt x="238" y="6"/>
                  </a:lnTo>
                  <a:lnTo>
                    <a:pt x="233" y="0"/>
                  </a:lnTo>
                  <a:lnTo>
                    <a:pt x="200" y="56"/>
                  </a:lnTo>
                  <a:lnTo>
                    <a:pt x="171" y="114"/>
                  </a:lnTo>
                  <a:lnTo>
                    <a:pt x="144" y="171"/>
                  </a:lnTo>
                  <a:lnTo>
                    <a:pt x="119" y="229"/>
                  </a:lnTo>
                  <a:lnTo>
                    <a:pt x="98" y="288"/>
                  </a:lnTo>
                  <a:lnTo>
                    <a:pt x="79" y="350"/>
                  </a:lnTo>
                  <a:lnTo>
                    <a:pt x="62" y="409"/>
                  </a:lnTo>
                  <a:lnTo>
                    <a:pt x="47" y="471"/>
                  </a:lnTo>
                  <a:lnTo>
                    <a:pt x="35" y="532"/>
                  </a:lnTo>
                  <a:lnTo>
                    <a:pt x="23" y="595"/>
                  </a:lnTo>
                  <a:lnTo>
                    <a:pt x="16" y="657"/>
                  </a:lnTo>
                  <a:lnTo>
                    <a:pt x="10" y="718"/>
                  </a:lnTo>
                  <a:lnTo>
                    <a:pt x="4" y="781"/>
                  </a:lnTo>
                  <a:lnTo>
                    <a:pt x="2" y="843"/>
                  </a:lnTo>
                  <a:lnTo>
                    <a:pt x="0" y="904"/>
                  </a:lnTo>
                  <a:lnTo>
                    <a:pt x="2" y="966"/>
                  </a:lnTo>
                  <a:lnTo>
                    <a:pt x="4" y="1025"/>
                  </a:lnTo>
                  <a:lnTo>
                    <a:pt x="8" y="1085"/>
                  </a:lnTo>
                  <a:lnTo>
                    <a:pt x="14" y="1142"/>
                  </a:lnTo>
                  <a:lnTo>
                    <a:pt x="20" y="1200"/>
                  </a:lnTo>
                  <a:lnTo>
                    <a:pt x="29" y="1257"/>
                  </a:lnTo>
                  <a:lnTo>
                    <a:pt x="39" y="1311"/>
                  </a:lnTo>
                  <a:lnTo>
                    <a:pt x="48" y="1365"/>
                  </a:lnTo>
                  <a:lnTo>
                    <a:pt x="60" y="1418"/>
                  </a:lnTo>
                  <a:lnTo>
                    <a:pt x="73" y="1468"/>
                  </a:lnTo>
                  <a:lnTo>
                    <a:pt x="87" y="1516"/>
                  </a:lnTo>
                  <a:lnTo>
                    <a:pt x="102" y="1564"/>
                  </a:lnTo>
                  <a:lnTo>
                    <a:pt x="118" y="1608"/>
                  </a:lnTo>
                  <a:lnTo>
                    <a:pt x="135" y="1652"/>
                  </a:lnTo>
                  <a:lnTo>
                    <a:pt x="152" y="1693"/>
                  </a:lnTo>
                  <a:lnTo>
                    <a:pt x="169" y="1731"/>
                  </a:lnTo>
                  <a:lnTo>
                    <a:pt x="187" y="1766"/>
                  </a:lnTo>
                  <a:lnTo>
                    <a:pt x="194" y="17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Freeform 268"/>
            <p:cNvSpPr/>
            <p:nvPr/>
          </p:nvSpPr>
          <p:spPr>
            <a:xfrm>
              <a:off x="2638800" y="4595040"/>
              <a:ext cx="134640" cy="7290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729000"/>
                <a:gd name="textAreaBottom" fmla="*/ 729360 h 729000"/>
              </a:gdLst>
              <a:ahLst/>
              <a:rect l="textAreaLeft" t="textAreaTop" r="textAreaRight" b="textAreaBottom"/>
              <a:pathLst>
                <a:path w="80" h="433">
                  <a:moveTo>
                    <a:pt x="76" y="433"/>
                  </a:moveTo>
                  <a:lnTo>
                    <a:pt x="80" y="430"/>
                  </a:lnTo>
                  <a:lnTo>
                    <a:pt x="69" y="374"/>
                  </a:lnTo>
                  <a:lnTo>
                    <a:pt x="61" y="320"/>
                  </a:lnTo>
                  <a:lnTo>
                    <a:pt x="51" y="266"/>
                  </a:lnTo>
                  <a:lnTo>
                    <a:pt x="44" y="215"/>
                  </a:lnTo>
                  <a:lnTo>
                    <a:pt x="36" y="161"/>
                  </a:lnTo>
                  <a:lnTo>
                    <a:pt x="28" y="109"/>
                  </a:lnTo>
                  <a:lnTo>
                    <a:pt x="19" y="55"/>
                  </a:lnTo>
                  <a:lnTo>
                    <a:pt x="7" y="0"/>
                  </a:lnTo>
                  <a:lnTo>
                    <a:pt x="0" y="2"/>
                  </a:lnTo>
                  <a:lnTo>
                    <a:pt x="11" y="55"/>
                  </a:lnTo>
                  <a:lnTo>
                    <a:pt x="21" y="109"/>
                  </a:lnTo>
                  <a:lnTo>
                    <a:pt x="28" y="163"/>
                  </a:lnTo>
                  <a:lnTo>
                    <a:pt x="36" y="215"/>
                  </a:lnTo>
                  <a:lnTo>
                    <a:pt x="44" y="268"/>
                  </a:lnTo>
                  <a:lnTo>
                    <a:pt x="51" y="322"/>
                  </a:lnTo>
                  <a:lnTo>
                    <a:pt x="61" y="376"/>
                  </a:lnTo>
                  <a:lnTo>
                    <a:pt x="73" y="431"/>
                  </a:lnTo>
                  <a:lnTo>
                    <a:pt x="76" y="426"/>
                  </a:lnTo>
                  <a:lnTo>
                    <a:pt x="76" y="433"/>
                  </a:lnTo>
                  <a:lnTo>
                    <a:pt x="80" y="433"/>
                  </a:lnTo>
                  <a:lnTo>
                    <a:pt x="80" y="430"/>
                  </a:lnTo>
                  <a:lnTo>
                    <a:pt x="76" y="4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Freeform 269"/>
            <p:cNvSpPr/>
            <p:nvPr/>
          </p:nvSpPr>
          <p:spPr>
            <a:xfrm>
              <a:off x="2214720" y="5312520"/>
              <a:ext cx="551880" cy="1152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328" h="7">
                  <a:moveTo>
                    <a:pt x="0" y="5"/>
                  </a:moveTo>
                  <a:lnTo>
                    <a:pt x="4" y="7"/>
                  </a:lnTo>
                  <a:lnTo>
                    <a:pt x="46" y="7"/>
                  </a:lnTo>
                  <a:lnTo>
                    <a:pt x="88" y="7"/>
                  </a:lnTo>
                  <a:lnTo>
                    <a:pt x="127" y="7"/>
                  </a:lnTo>
                  <a:lnTo>
                    <a:pt x="167" y="7"/>
                  </a:lnTo>
                  <a:lnTo>
                    <a:pt x="206" y="7"/>
                  </a:lnTo>
                  <a:lnTo>
                    <a:pt x="246" y="7"/>
                  </a:lnTo>
                  <a:lnTo>
                    <a:pt x="286" y="7"/>
                  </a:lnTo>
                  <a:lnTo>
                    <a:pt x="328" y="7"/>
                  </a:lnTo>
                  <a:lnTo>
                    <a:pt x="328" y="0"/>
                  </a:lnTo>
                  <a:lnTo>
                    <a:pt x="286" y="0"/>
                  </a:lnTo>
                  <a:lnTo>
                    <a:pt x="246" y="0"/>
                  </a:lnTo>
                  <a:lnTo>
                    <a:pt x="206" y="0"/>
                  </a:lnTo>
                  <a:lnTo>
                    <a:pt x="167" y="0"/>
                  </a:lnTo>
                  <a:lnTo>
                    <a:pt x="127" y="0"/>
                  </a:lnTo>
                  <a:lnTo>
                    <a:pt x="88" y="0"/>
                  </a:lnTo>
                  <a:lnTo>
                    <a:pt x="46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4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Freeform 270"/>
            <p:cNvSpPr/>
            <p:nvPr/>
          </p:nvSpPr>
          <p:spPr>
            <a:xfrm>
              <a:off x="1798560" y="3156840"/>
              <a:ext cx="429480" cy="2163960"/>
            </a:xfrm>
            <a:custGeom>
              <a:avLst/>
              <a:gdLst>
                <a:gd name="textAreaLeft" fmla="*/ 0 w 429480"/>
                <a:gd name="textAreaRight" fmla="*/ 429840 w 429480"/>
                <a:gd name="textAreaTop" fmla="*/ 0 h 2163960"/>
                <a:gd name="textAreaBottom" fmla="*/ 2164320 h 2163960"/>
              </a:gdLst>
              <a:ahLst/>
              <a:rect l="textAreaLeft" t="textAreaTop" r="textAreaRight" b="textAreaBottom"/>
              <a:pathLst>
                <a:path w="255" h="1285">
                  <a:moveTo>
                    <a:pt x="5" y="0"/>
                  </a:moveTo>
                  <a:lnTo>
                    <a:pt x="2" y="50"/>
                  </a:lnTo>
                  <a:lnTo>
                    <a:pt x="0" y="98"/>
                  </a:lnTo>
                  <a:lnTo>
                    <a:pt x="0" y="146"/>
                  </a:lnTo>
                  <a:lnTo>
                    <a:pt x="0" y="192"/>
                  </a:lnTo>
                  <a:lnTo>
                    <a:pt x="2" y="284"/>
                  </a:lnTo>
                  <a:lnTo>
                    <a:pt x="9" y="372"/>
                  </a:lnTo>
                  <a:lnTo>
                    <a:pt x="19" y="457"/>
                  </a:lnTo>
                  <a:lnTo>
                    <a:pt x="30" y="541"/>
                  </a:lnTo>
                  <a:lnTo>
                    <a:pt x="46" y="622"/>
                  </a:lnTo>
                  <a:lnTo>
                    <a:pt x="65" y="700"/>
                  </a:lnTo>
                  <a:lnTo>
                    <a:pt x="84" y="777"/>
                  </a:lnTo>
                  <a:lnTo>
                    <a:pt x="105" y="854"/>
                  </a:lnTo>
                  <a:lnTo>
                    <a:pt x="128" y="927"/>
                  </a:lnTo>
                  <a:lnTo>
                    <a:pt x="151" y="1001"/>
                  </a:lnTo>
                  <a:lnTo>
                    <a:pt x="199" y="1143"/>
                  </a:lnTo>
                  <a:lnTo>
                    <a:pt x="247" y="1285"/>
                  </a:lnTo>
                  <a:lnTo>
                    <a:pt x="255" y="1282"/>
                  </a:lnTo>
                  <a:lnTo>
                    <a:pt x="207" y="1142"/>
                  </a:lnTo>
                  <a:lnTo>
                    <a:pt x="159" y="998"/>
                  </a:lnTo>
                  <a:lnTo>
                    <a:pt x="136" y="925"/>
                  </a:lnTo>
                  <a:lnTo>
                    <a:pt x="113" y="852"/>
                  </a:lnTo>
                  <a:lnTo>
                    <a:pt x="92" y="775"/>
                  </a:lnTo>
                  <a:lnTo>
                    <a:pt x="73" y="698"/>
                  </a:lnTo>
                  <a:lnTo>
                    <a:pt x="55" y="620"/>
                  </a:lnTo>
                  <a:lnTo>
                    <a:pt x="40" y="539"/>
                  </a:lnTo>
                  <a:lnTo>
                    <a:pt x="26" y="457"/>
                  </a:lnTo>
                  <a:lnTo>
                    <a:pt x="17" y="370"/>
                  </a:lnTo>
                  <a:lnTo>
                    <a:pt x="9" y="282"/>
                  </a:lnTo>
                  <a:lnTo>
                    <a:pt x="7" y="192"/>
                  </a:lnTo>
                  <a:lnTo>
                    <a:pt x="7" y="146"/>
                  </a:lnTo>
                  <a:lnTo>
                    <a:pt x="7" y="98"/>
                  </a:lnTo>
                  <a:lnTo>
                    <a:pt x="9" y="50"/>
                  </a:lnTo>
                  <a:lnTo>
                    <a:pt x="13" y="0"/>
                  </a:lnTo>
                  <a:lnTo>
                    <a:pt x="13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Freeform 271"/>
            <p:cNvSpPr/>
            <p:nvPr/>
          </p:nvSpPr>
          <p:spPr>
            <a:xfrm>
              <a:off x="1806840" y="1025640"/>
              <a:ext cx="1028880" cy="2134800"/>
            </a:xfrm>
            <a:custGeom>
              <a:avLst/>
              <a:gdLst/>
              <a:ahLst/>
              <a:rect l="l" t="t" r="r" b="b"/>
              <a:pathLst>
                <a:path w="611" h="1268">
                  <a:moveTo>
                    <a:pt x="611" y="3"/>
                  </a:moveTo>
                  <a:lnTo>
                    <a:pt x="605" y="0"/>
                  </a:lnTo>
                  <a:lnTo>
                    <a:pt x="572" y="25"/>
                  </a:lnTo>
                  <a:lnTo>
                    <a:pt x="542" y="51"/>
                  </a:lnTo>
                  <a:lnTo>
                    <a:pt x="511" y="80"/>
                  </a:lnTo>
                  <a:lnTo>
                    <a:pt x="482" y="111"/>
                  </a:lnTo>
                  <a:lnTo>
                    <a:pt x="453" y="142"/>
                  </a:lnTo>
                  <a:lnTo>
                    <a:pt x="426" y="174"/>
                  </a:lnTo>
                  <a:lnTo>
                    <a:pt x="400" y="209"/>
                  </a:lnTo>
                  <a:lnTo>
                    <a:pt x="375" y="243"/>
                  </a:lnTo>
                  <a:lnTo>
                    <a:pt x="350" y="280"/>
                  </a:lnTo>
                  <a:lnTo>
                    <a:pt x="325" y="318"/>
                  </a:lnTo>
                  <a:lnTo>
                    <a:pt x="302" y="356"/>
                  </a:lnTo>
                  <a:lnTo>
                    <a:pt x="279" y="395"/>
                  </a:lnTo>
                  <a:lnTo>
                    <a:pt x="258" y="435"/>
                  </a:lnTo>
                  <a:lnTo>
                    <a:pt x="236" y="477"/>
                  </a:lnTo>
                  <a:lnTo>
                    <a:pt x="217" y="518"/>
                  </a:lnTo>
                  <a:lnTo>
                    <a:pt x="198" y="560"/>
                  </a:lnTo>
                  <a:lnTo>
                    <a:pt x="163" y="646"/>
                  </a:lnTo>
                  <a:lnTo>
                    <a:pt x="131" y="734"/>
                  </a:lnTo>
                  <a:lnTo>
                    <a:pt x="100" y="823"/>
                  </a:lnTo>
                  <a:lnTo>
                    <a:pt x="75" y="913"/>
                  </a:lnTo>
                  <a:lnTo>
                    <a:pt x="52" y="1003"/>
                  </a:lnTo>
                  <a:lnTo>
                    <a:pt x="31" y="1091"/>
                  </a:lnTo>
                  <a:lnTo>
                    <a:pt x="14" y="1180"/>
                  </a:lnTo>
                  <a:lnTo>
                    <a:pt x="0" y="1266"/>
                  </a:lnTo>
                  <a:lnTo>
                    <a:pt x="8" y="1268"/>
                  </a:lnTo>
                  <a:lnTo>
                    <a:pt x="21" y="1182"/>
                  </a:lnTo>
                  <a:lnTo>
                    <a:pt x="39" y="1093"/>
                  </a:lnTo>
                  <a:lnTo>
                    <a:pt x="60" y="1005"/>
                  </a:lnTo>
                  <a:lnTo>
                    <a:pt x="83" y="915"/>
                  </a:lnTo>
                  <a:lnTo>
                    <a:pt x="108" y="827"/>
                  </a:lnTo>
                  <a:lnTo>
                    <a:pt x="139" y="736"/>
                  </a:lnTo>
                  <a:lnTo>
                    <a:pt x="169" y="650"/>
                  </a:lnTo>
                  <a:lnTo>
                    <a:pt x="206" y="564"/>
                  </a:lnTo>
                  <a:lnTo>
                    <a:pt x="225" y="521"/>
                  </a:lnTo>
                  <a:lnTo>
                    <a:pt x="244" y="479"/>
                  </a:lnTo>
                  <a:lnTo>
                    <a:pt x="265" y="439"/>
                  </a:lnTo>
                  <a:lnTo>
                    <a:pt x="286" y="399"/>
                  </a:lnTo>
                  <a:lnTo>
                    <a:pt x="309" y="360"/>
                  </a:lnTo>
                  <a:lnTo>
                    <a:pt x="332" y="322"/>
                  </a:lnTo>
                  <a:lnTo>
                    <a:pt x="355" y="285"/>
                  </a:lnTo>
                  <a:lnTo>
                    <a:pt x="380" y="249"/>
                  </a:lnTo>
                  <a:lnTo>
                    <a:pt x="405" y="214"/>
                  </a:lnTo>
                  <a:lnTo>
                    <a:pt x="432" y="180"/>
                  </a:lnTo>
                  <a:lnTo>
                    <a:pt x="459" y="147"/>
                  </a:lnTo>
                  <a:lnTo>
                    <a:pt x="488" y="117"/>
                  </a:lnTo>
                  <a:lnTo>
                    <a:pt x="517" y="86"/>
                  </a:lnTo>
                  <a:lnTo>
                    <a:pt x="547" y="57"/>
                  </a:lnTo>
                  <a:lnTo>
                    <a:pt x="578" y="30"/>
                  </a:lnTo>
                  <a:lnTo>
                    <a:pt x="609" y="5"/>
                  </a:lnTo>
                  <a:lnTo>
                    <a:pt x="603" y="2"/>
                  </a:lnTo>
                  <a:lnTo>
                    <a:pt x="61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Freeform 272"/>
            <p:cNvSpPr/>
            <p:nvPr/>
          </p:nvSpPr>
          <p:spPr>
            <a:xfrm>
              <a:off x="7276680" y="5379840"/>
              <a:ext cx="48600" cy="1656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29" h="10">
                  <a:moveTo>
                    <a:pt x="29" y="10"/>
                  </a:moveTo>
                  <a:lnTo>
                    <a:pt x="29" y="10"/>
                  </a:lnTo>
                  <a:lnTo>
                    <a:pt x="25" y="0"/>
                  </a:lnTo>
                  <a:lnTo>
                    <a:pt x="0" y="10"/>
                  </a:lnTo>
                  <a:lnTo>
                    <a:pt x="29" y="10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Freeform 273"/>
            <p:cNvSpPr/>
            <p:nvPr/>
          </p:nvSpPr>
          <p:spPr>
            <a:xfrm>
              <a:off x="7251480" y="5373360"/>
              <a:ext cx="70560" cy="23040"/>
            </a:xfrm>
            <a:custGeom>
              <a:avLst/>
              <a:gdLst>
                <a:gd name="textAreaLeft" fmla="*/ 0 w 70560"/>
                <a:gd name="textAreaRight" fmla="*/ 70920 w 7056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42" h="14">
                  <a:moveTo>
                    <a:pt x="30" y="14"/>
                  </a:moveTo>
                  <a:lnTo>
                    <a:pt x="42" y="10"/>
                  </a:lnTo>
                  <a:lnTo>
                    <a:pt x="38" y="0"/>
                  </a:lnTo>
                  <a:lnTo>
                    <a:pt x="5" y="12"/>
                  </a:lnTo>
                  <a:lnTo>
                    <a:pt x="0" y="14"/>
                  </a:lnTo>
                  <a:lnTo>
                    <a:pt x="30" y="14"/>
                  </a:lnTo>
                  <a:close/>
                </a:path>
              </a:pathLst>
            </a:custGeom>
            <a:solidFill>
              <a:srgbClr val="01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Freeform 274"/>
            <p:cNvSpPr/>
            <p:nvPr/>
          </p:nvSpPr>
          <p:spPr>
            <a:xfrm>
              <a:off x="7221240" y="5362920"/>
              <a:ext cx="97200" cy="3348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58" h="20">
                  <a:moveTo>
                    <a:pt x="33" y="20"/>
                  </a:moveTo>
                  <a:lnTo>
                    <a:pt x="58" y="10"/>
                  </a:lnTo>
                  <a:lnTo>
                    <a:pt x="52" y="0"/>
                  </a:lnTo>
                  <a:lnTo>
                    <a:pt x="21" y="12"/>
                  </a:lnTo>
                  <a:lnTo>
                    <a:pt x="0" y="20"/>
                  </a:lnTo>
                  <a:lnTo>
                    <a:pt x="33" y="20"/>
                  </a:lnTo>
                  <a:close/>
                </a:path>
              </a:pathLst>
            </a:custGeom>
            <a:solidFill>
              <a:srgbClr val="02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Freeform 275"/>
            <p:cNvSpPr/>
            <p:nvPr/>
          </p:nvSpPr>
          <p:spPr>
            <a:xfrm>
              <a:off x="7195680" y="1128240"/>
              <a:ext cx="119880" cy="4268160"/>
            </a:xfrm>
            <a:custGeom>
              <a:avLst/>
              <a:gdLst>
                <a:gd name="textAreaLeft" fmla="*/ 0 w 119880"/>
                <a:gd name="textAreaRight" fmla="*/ 120240 w 119880"/>
                <a:gd name="textAreaTop" fmla="*/ 0 h 4268160"/>
                <a:gd name="textAreaBottom" fmla="*/ 4268520 h 4268160"/>
              </a:gdLst>
              <a:ahLst/>
              <a:rect l="textAreaLeft" t="textAreaTop" r="textAreaRight" b="textAreaBottom"/>
              <a:pathLst>
                <a:path w="71" h="2535">
                  <a:moveTo>
                    <a:pt x="33" y="2535"/>
                  </a:moveTo>
                  <a:lnTo>
                    <a:pt x="38" y="2533"/>
                  </a:lnTo>
                  <a:lnTo>
                    <a:pt x="71" y="2521"/>
                  </a:lnTo>
                  <a:lnTo>
                    <a:pt x="65" y="2512"/>
                  </a:lnTo>
                  <a:lnTo>
                    <a:pt x="34" y="2523"/>
                  </a:lnTo>
                  <a:lnTo>
                    <a:pt x="0" y="2535"/>
                  </a:lnTo>
                  <a:lnTo>
                    <a:pt x="33" y="2535"/>
                  </a:lnTo>
                  <a:close/>
                  <a:moveTo>
                    <a:pt x="11" y="6"/>
                  </a:moveTo>
                  <a:lnTo>
                    <a:pt x="0" y="0"/>
                  </a:lnTo>
                  <a:lnTo>
                    <a:pt x="13" y="0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039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Freeform 276"/>
            <p:cNvSpPr/>
            <p:nvPr/>
          </p:nvSpPr>
          <p:spPr>
            <a:xfrm>
              <a:off x="7167600" y="1128240"/>
              <a:ext cx="141120" cy="426816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4268160"/>
                <a:gd name="textAreaBottom" fmla="*/ 4268520 h 4268160"/>
              </a:gdLst>
              <a:ahLst/>
              <a:rect l="textAreaLeft" t="textAreaTop" r="textAreaRight" b="textAreaBottom"/>
              <a:pathLst>
                <a:path w="84" h="2535">
                  <a:moveTo>
                    <a:pt x="32" y="2535"/>
                  </a:moveTo>
                  <a:lnTo>
                    <a:pt x="53" y="2527"/>
                  </a:lnTo>
                  <a:lnTo>
                    <a:pt x="84" y="2515"/>
                  </a:lnTo>
                  <a:lnTo>
                    <a:pt x="80" y="2506"/>
                  </a:lnTo>
                  <a:lnTo>
                    <a:pt x="50" y="2517"/>
                  </a:lnTo>
                  <a:lnTo>
                    <a:pt x="0" y="2535"/>
                  </a:lnTo>
                  <a:lnTo>
                    <a:pt x="32" y="2535"/>
                  </a:lnTo>
                  <a:close/>
                  <a:moveTo>
                    <a:pt x="28" y="10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0" y="2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28" y="6"/>
                  </a:lnTo>
                  <a:lnTo>
                    <a:pt x="28" y="6"/>
                  </a:lnTo>
                  <a:lnTo>
                    <a:pt x="28" y="8"/>
                  </a:lnTo>
                  <a:lnTo>
                    <a:pt x="28" y="10"/>
                  </a:lnTo>
                  <a:lnTo>
                    <a:pt x="28" y="10"/>
                  </a:lnTo>
                  <a:close/>
                </a:path>
              </a:pathLst>
            </a:custGeom>
            <a:solidFill>
              <a:srgbClr val="049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Freeform 277"/>
            <p:cNvSpPr/>
            <p:nvPr/>
          </p:nvSpPr>
          <p:spPr>
            <a:xfrm>
              <a:off x="7137000" y="1128240"/>
              <a:ext cx="168120" cy="426816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4268160"/>
                <a:gd name="textAreaBottom" fmla="*/ 4268520 h 4268160"/>
              </a:gdLst>
              <a:ahLst/>
              <a:rect l="textAreaLeft" t="textAreaTop" r="textAreaRight" b="textAreaBottom"/>
              <a:pathLst>
                <a:path w="100" h="2535">
                  <a:moveTo>
                    <a:pt x="46" y="6"/>
                  </a:moveTo>
                  <a:lnTo>
                    <a:pt x="35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4" y="15"/>
                  </a:lnTo>
                  <a:lnTo>
                    <a:pt x="44" y="13"/>
                  </a:lnTo>
                  <a:lnTo>
                    <a:pt x="44" y="13"/>
                  </a:lnTo>
                  <a:lnTo>
                    <a:pt x="44" y="12"/>
                  </a:lnTo>
                  <a:lnTo>
                    <a:pt x="46" y="10"/>
                  </a:lnTo>
                  <a:lnTo>
                    <a:pt x="46" y="10"/>
                  </a:lnTo>
                  <a:lnTo>
                    <a:pt x="46" y="8"/>
                  </a:lnTo>
                  <a:lnTo>
                    <a:pt x="46" y="6"/>
                  </a:lnTo>
                  <a:lnTo>
                    <a:pt x="46" y="6"/>
                  </a:lnTo>
                  <a:close/>
                  <a:moveTo>
                    <a:pt x="35" y="2535"/>
                  </a:moveTo>
                  <a:lnTo>
                    <a:pt x="69" y="2523"/>
                  </a:lnTo>
                  <a:lnTo>
                    <a:pt x="100" y="2512"/>
                  </a:lnTo>
                  <a:lnTo>
                    <a:pt x="96" y="2502"/>
                  </a:lnTo>
                  <a:lnTo>
                    <a:pt x="68" y="2513"/>
                  </a:lnTo>
                  <a:lnTo>
                    <a:pt x="4" y="2533"/>
                  </a:lnTo>
                  <a:lnTo>
                    <a:pt x="0" y="2535"/>
                  </a:lnTo>
                  <a:lnTo>
                    <a:pt x="35" y="2535"/>
                  </a:lnTo>
                  <a:close/>
                </a:path>
              </a:pathLst>
            </a:custGeom>
            <a:solidFill>
              <a:srgbClr val="059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Freeform 278"/>
            <p:cNvSpPr/>
            <p:nvPr/>
          </p:nvSpPr>
          <p:spPr>
            <a:xfrm>
              <a:off x="7104960" y="1128240"/>
              <a:ext cx="196920" cy="426816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4268160"/>
                <a:gd name="textAreaBottom" fmla="*/ 4268520 h 4268160"/>
              </a:gdLst>
              <a:ahLst/>
              <a:rect l="textAreaLeft" t="textAreaTop" r="textAreaRight" b="textAreaBottom"/>
              <a:pathLst>
                <a:path w="117" h="2535">
                  <a:moveTo>
                    <a:pt x="65" y="10"/>
                  </a:moveTo>
                  <a:lnTo>
                    <a:pt x="37" y="0"/>
                  </a:lnTo>
                  <a:lnTo>
                    <a:pt x="0" y="0"/>
                  </a:lnTo>
                  <a:lnTo>
                    <a:pt x="23" y="8"/>
                  </a:lnTo>
                  <a:lnTo>
                    <a:pt x="62" y="21"/>
                  </a:lnTo>
                  <a:lnTo>
                    <a:pt x="62" y="19"/>
                  </a:lnTo>
                  <a:lnTo>
                    <a:pt x="62" y="17"/>
                  </a:lnTo>
                  <a:lnTo>
                    <a:pt x="63" y="17"/>
                  </a:lnTo>
                  <a:lnTo>
                    <a:pt x="63" y="15"/>
                  </a:lnTo>
                  <a:lnTo>
                    <a:pt x="63" y="13"/>
                  </a:lnTo>
                  <a:lnTo>
                    <a:pt x="63" y="13"/>
                  </a:lnTo>
                  <a:lnTo>
                    <a:pt x="63" y="12"/>
                  </a:lnTo>
                  <a:lnTo>
                    <a:pt x="65" y="10"/>
                  </a:lnTo>
                  <a:close/>
                  <a:moveTo>
                    <a:pt x="37" y="2535"/>
                  </a:moveTo>
                  <a:lnTo>
                    <a:pt x="87" y="2517"/>
                  </a:lnTo>
                  <a:lnTo>
                    <a:pt x="117" y="2506"/>
                  </a:lnTo>
                  <a:lnTo>
                    <a:pt x="111" y="2496"/>
                  </a:lnTo>
                  <a:lnTo>
                    <a:pt x="85" y="2508"/>
                  </a:lnTo>
                  <a:lnTo>
                    <a:pt x="23" y="2529"/>
                  </a:lnTo>
                  <a:lnTo>
                    <a:pt x="0" y="2535"/>
                  </a:lnTo>
                  <a:lnTo>
                    <a:pt x="37" y="2535"/>
                  </a:lnTo>
                  <a:close/>
                </a:path>
              </a:pathLst>
            </a:custGeom>
            <a:solidFill>
              <a:srgbClr val="069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Freeform 279"/>
            <p:cNvSpPr/>
            <p:nvPr/>
          </p:nvSpPr>
          <p:spPr>
            <a:xfrm>
              <a:off x="7073280" y="1128240"/>
              <a:ext cx="225000" cy="4268160"/>
            </a:xfrm>
            <a:custGeom>
              <a:avLst/>
              <a:gdLst>
                <a:gd name="textAreaLeft" fmla="*/ 0 w 225000"/>
                <a:gd name="textAreaRight" fmla="*/ 225360 w 225000"/>
                <a:gd name="textAreaTop" fmla="*/ 0 h 4268160"/>
                <a:gd name="textAreaBottom" fmla="*/ 4268520 h 4268160"/>
              </a:gdLst>
              <a:ahLst/>
              <a:rect l="textAreaLeft" t="textAreaTop" r="textAreaRight" b="textAreaBottom"/>
              <a:pathLst>
                <a:path w="134" h="2535">
                  <a:moveTo>
                    <a:pt x="82" y="15"/>
                  </a:moveTo>
                  <a:lnTo>
                    <a:pt x="42" y="2"/>
                  </a:lnTo>
                  <a:lnTo>
                    <a:pt x="38" y="0"/>
                  </a:lnTo>
                  <a:lnTo>
                    <a:pt x="0" y="0"/>
                  </a:lnTo>
                  <a:lnTo>
                    <a:pt x="40" y="12"/>
                  </a:lnTo>
                  <a:lnTo>
                    <a:pt x="79" y="25"/>
                  </a:lnTo>
                  <a:lnTo>
                    <a:pt x="79" y="25"/>
                  </a:lnTo>
                  <a:lnTo>
                    <a:pt x="79" y="23"/>
                  </a:lnTo>
                  <a:lnTo>
                    <a:pt x="81" y="21"/>
                  </a:lnTo>
                  <a:lnTo>
                    <a:pt x="81" y="21"/>
                  </a:lnTo>
                  <a:lnTo>
                    <a:pt x="81" y="19"/>
                  </a:lnTo>
                  <a:lnTo>
                    <a:pt x="81" y="17"/>
                  </a:lnTo>
                  <a:lnTo>
                    <a:pt x="82" y="17"/>
                  </a:lnTo>
                  <a:lnTo>
                    <a:pt x="82" y="15"/>
                  </a:lnTo>
                  <a:close/>
                  <a:moveTo>
                    <a:pt x="38" y="2535"/>
                  </a:moveTo>
                  <a:lnTo>
                    <a:pt x="42" y="2533"/>
                  </a:lnTo>
                  <a:lnTo>
                    <a:pt x="106" y="2513"/>
                  </a:lnTo>
                  <a:lnTo>
                    <a:pt x="134" y="2502"/>
                  </a:lnTo>
                  <a:lnTo>
                    <a:pt x="129" y="2492"/>
                  </a:lnTo>
                  <a:lnTo>
                    <a:pt x="102" y="2502"/>
                  </a:lnTo>
                  <a:lnTo>
                    <a:pt x="40" y="2523"/>
                  </a:lnTo>
                  <a:lnTo>
                    <a:pt x="0" y="2535"/>
                  </a:lnTo>
                  <a:lnTo>
                    <a:pt x="38" y="2535"/>
                  </a:lnTo>
                  <a:close/>
                </a:path>
              </a:pathLst>
            </a:custGeom>
            <a:solidFill>
              <a:srgbClr val="079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Freeform 280"/>
            <p:cNvSpPr/>
            <p:nvPr/>
          </p:nvSpPr>
          <p:spPr>
            <a:xfrm>
              <a:off x="7037640" y="1128240"/>
              <a:ext cx="254160" cy="4268160"/>
            </a:xfrm>
            <a:custGeom>
              <a:avLst/>
              <a:gdLst>
                <a:gd name="textAreaLeft" fmla="*/ 0 w 254160"/>
                <a:gd name="textAreaRight" fmla="*/ 254520 w 254160"/>
                <a:gd name="textAreaTop" fmla="*/ 0 h 4268160"/>
                <a:gd name="textAreaBottom" fmla="*/ 4268520 h 4268160"/>
              </a:gdLst>
              <a:ahLst/>
              <a:rect l="textAreaLeft" t="textAreaTop" r="textAreaRight" b="textAreaBottom"/>
              <a:pathLst>
                <a:path w="151" h="2535">
                  <a:moveTo>
                    <a:pt x="102" y="21"/>
                  </a:moveTo>
                  <a:lnTo>
                    <a:pt x="63" y="8"/>
                  </a:lnTo>
                  <a:lnTo>
                    <a:pt x="40" y="0"/>
                  </a:lnTo>
                  <a:lnTo>
                    <a:pt x="0" y="0"/>
                  </a:lnTo>
                  <a:lnTo>
                    <a:pt x="59" y="17"/>
                  </a:lnTo>
                  <a:lnTo>
                    <a:pt x="98" y="31"/>
                  </a:lnTo>
                  <a:lnTo>
                    <a:pt x="98" y="29"/>
                  </a:lnTo>
                  <a:lnTo>
                    <a:pt x="100" y="29"/>
                  </a:lnTo>
                  <a:lnTo>
                    <a:pt x="100" y="27"/>
                  </a:lnTo>
                  <a:lnTo>
                    <a:pt x="100" y="25"/>
                  </a:lnTo>
                  <a:lnTo>
                    <a:pt x="100" y="25"/>
                  </a:lnTo>
                  <a:lnTo>
                    <a:pt x="100" y="23"/>
                  </a:lnTo>
                  <a:lnTo>
                    <a:pt x="102" y="21"/>
                  </a:lnTo>
                  <a:lnTo>
                    <a:pt x="102" y="21"/>
                  </a:lnTo>
                  <a:close/>
                  <a:moveTo>
                    <a:pt x="40" y="2535"/>
                  </a:moveTo>
                  <a:lnTo>
                    <a:pt x="63" y="2529"/>
                  </a:lnTo>
                  <a:lnTo>
                    <a:pt x="125" y="2508"/>
                  </a:lnTo>
                  <a:lnTo>
                    <a:pt x="151" y="2496"/>
                  </a:lnTo>
                  <a:lnTo>
                    <a:pt x="148" y="2487"/>
                  </a:lnTo>
                  <a:lnTo>
                    <a:pt x="121" y="2498"/>
                  </a:lnTo>
                  <a:lnTo>
                    <a:pt x="59" y="2517"/>
                  </a:lnTo>
                  <a:lnTo>
                    <a:pt x="0" y="2535"/>
                  </a:lnTo>
                  <a:lnTo>
                    <a:pt x="40" y="2535"/>
                  </a:lnTo>
                  <a:close/>
                </a:path>
              </a:pathLst>
            </a:custGeom>
            <a:solidFill>
              <a:srgbClr val="089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Freeform 281"/>
            <p:cNvSpPr/>
            <p:nvPr/>
          </p:nvSpPr>
          <p:spPr>
            <a:xfrm>
              <a:off x="7002360" y="1128240"/>
              <a:ext cx="287640" cy="4268160"/>
            </a:xfrm>
            <a:custGeom>
              <a:avLst/>
              <a:gdLst>
                <a:gd name="textAreaLeft" fmla="*/ 0 w 287640"/>
                <a:gd name="textAreaRight" fmla="*/ 288000 w 287640"/>
                <a:gd name="textAreaTop" fmla="*/ 0 h 4268160"/>
                <a:gd name="textAreaBottom" fmla="*/ 4268520 h 4268160"/>
              </a:gdLst>
              <a:ahLst/>
              <a:rect l="textAreaLeft" t="textAreaTop" r="textAreaRight" b="textAreaBottom"/>
              <a:pathLst>
                <a:path w="171" h="2535">
                  <a:moveTo>
                    <a:pt x="121" y="25"/>
                  </a:moveTo>
                  <a:lnTo>
                    <a:pt x="82" y="12"/>
                  </a:lnTo>
                  <a:lnTo>
                    <a:pt x="42" y="0"/>
                  </a:lnTo>
                  <a:lnTo>
                    <a:pt x="0" y="0"/>
                  </a:lnTo>
                  <a:lnTo>
                    <a:pt x="17" y="6"/>
                  </a:lnTo>
                  <a:lnTo>
                    <a:pt x="78" y="23"/>
                  </a:lnTo>
                  <a:lnTo>
                    <a:pt x="117" y="35"/>
                  </a:lnTo>
                  <a:lnTo>
                    <a:pt x="117" y="35"/>
                  </a:lnTo>
                  <a:lnTo>
                    <a:pt x="119" y="33"/>
                  </a:lnTo>
                  <a:lnTo>
                    <a:pt x="119" y="31"/>
                  </a:lnTo>
                  <a:lnTo>
                    <a:pt x="119" y="31"/>
                  </a:lnTo>
                  <a:lnTo>
                    <a:pt x="119" y="29"/>
                  </a:lnTo>
                  <a:lnTo>
                    <a:pt x="121" y="29"/>
                  </a:lnTo>
                  <a:lnTo>
                    <a:pt x="121" y="27"/>
                  </a:lnTo>
                  <a:lnTo>
                    <a:pt x="121" y="25"/>
                  </a:lnTo>
                  <a:close/>
                  <a:moveTo>
                    <a:pt x="42" y="2535"/>
                  </a:moveTo>
                  <a:lnTo>
                    <a:pt x="82" y="2523"/>
                  </a:lnTo>
                  <a:lnTo>
                    <a:pt x="144" y="2502"/>
                  </a:lnTo>
                  <a:lnTo>
                    <a:pt x="171" y="2492"/>
                  </a:lnTo>
                  <a:lnTo>
                    <a:pt x="167" y="2483"/>
                  </a:lnTo>
                  <a:lnTo>
                    <a:pt x="140" y="2492"/>
                  </a:lnTo>
                  <a:lnTo>
                    <a:pt x="78" y="2513"/>
                  </a:lnTo>
                  <a:lnTo>
                    <a:pt x="17" y="2531"/>
                  </a:lnTo>
                  <a:lnTo>
                    <a:pt x="0" y="2535"/>
                  </a:lnTo>
                  <a:lnTo>
                    <a:pt x="42" y="2535"/>
                  </a:lnTo>
                  <a:close/>
                </a:path>
              </a:pathLst>
            </a:custGeom>
            <a:solidFill>
              <a:srgbClr val="099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Freeform 282"/>
            <p:cNvSpPr/>
            <p:nvPr/>
          </p:nvSpPr>
          <p:spPr>
            <a:xfrm>
              <a:off x="6960240" y="1128240"/>
              <a:ext cx="326880" cy="426816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4268160"/>
                <a:gd name="textAreaBottom" fmla="*/ 4268520 h 4268160"/>
              </a:gdLst>
              <a:ahLst/>
              <a:rect l="textAreaLeft" t="textAreaTop" r="textAreaRight" b="textAreaBottom"/>
              <a:pathLst>
                <a:path w="194" h="2535">
                  <a:moveTo>
                    <a:pt x="144" y="31"/>
                  </a:moveTo>
                  <a:lnTo>
                    <a:pt x="105" y="17"/>
                  </a:lnTo>
                  <a:lnTo>
                    <a:pt x="46" y="0"/>
                  </a:lnTo>
                  <a:lnTo>
                    <a:pt x="0" y="0"/>
                  </a:lnTo>
                  <a:lnTo>
                    <a:pt x="40" y="10"/>
                  </a:lnTo>
                  <a:lnTo>
                    <a:pt x="101" y="27"/>
                  </a:lnTo>
                  <a:lnTo>
                    <a:pt x="140" y="40"/>
                  </a:lnTo>
                  <a:lnTo>
                    <a:pt x="140" y="38"/>
                  </a:lnTo>
                  <a:lnTo>
                    <a:pt x="142" y="38"/>
                  </a:lnTo>
                  <a:lnTo>
                    <a:pt x="142" y="36"/>
                  </a:lnTo>
                  <a:lnTo>
                    <a:pt x="142" y="35"/>
                  </a:lnTo>
                  <a:lnTo>
                    <a:pt x="142" y="35"/>
                  </a:lnTo>
                  <a:lnTo>
                    <a:pt x="144" y="33"/>
                  </a:lnTo>
                  <a:lnTo>
                    <a:pt x="144" y="33"/>
                  </a:lnTo>
                  <a:lnTo>
                    <a:pt x="144" y="31"/>
                  </a:lnTo>
                  <a:close/>
                  <a:moveTo>
                    <a:pt x="46" y="2535"/>
                  </a:moveTo>
                  <a:lnTo>
                    <a:pt x="105" y="2517"/>
                  </a:lnTo>
                  <a:lnTo>
                    <a:pt x="167" y="2498"/>
                  </a:lnTo>
                  <a:lnTo>
                    <a:pt x="194" y="2487"/>
                  </a:lnTo>
                  <a:lnTo>
                    <a:pt x="190" y="2477"/>
                  </a:lnTo>
                  <a:lnTo>
                    <a:pt x="163" y="2489"/>
                  </a:lnTo>
                  <a:lnTo>
                    <a:pt x="101" y="2508"/>
                  </a:lnTo>
                  <a:lnTo>
                    <a:pt x="40" y="2525"/>
                  </a:lnTo>
                  <a:lnTo>
                    <a:pt x="0" y="2535"/>
                  </a:lnTo>
                  <a:lnTo>
                    <a:pt x="46" y="2535"/>
                  </a:lnTo>
                  <a:close/>
                </a:path>
              </a:pathLst>
            </a:custGeom>
            <a:solidFill>
              <a:srgbClr val="0a9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Freeform 283"/>
            <p:cNvSpPr/>
            <p:nvPr/>
          </p:nvSpPr>
          <p:spPr>
            <a:xfrm>
              <a:off x="6018840" y="1128240"/>
              <a:ext cx="1264680" cy="4268160"/>
            </a:xfrm>
            <a:custGeom>
              <a:avLst/>
              <a:gdLst>
                <a:gd name="textAreaLeft" fmla="*/ 0 w 1264680"/>
                <a:gd name="textAreaRight" fmla="*/ 1265040 w 1264680"/>
                <a:gd name="textAreaTop" fmla="*/ 0 h 4268160"/>
                <a:gd name="textAreaBottom" fmla="*/ 4268520 h 4268160"/>
              </a:gdLst>
              <a:ahLst/>
              <a:rect l="textAreaLeft" t="textAreaTop" r="textAreaRight" b="textAreaBottom"/>
              <a:pathLst>
                <a:path w="751" h="2535">
                  <a:moveTo>
                    <a:pt x="701" y="35"/>
                  </a:moveTo>
                  <a:lnTo>
                    <a:pt x="662" y="23"/>
                  </a:lnTo>
                  <a:lnTo>
                    <a:pt x="601" y="6"/>
                  </a:lnTo>
                  <a:lnTo>
                    <a:pt x="584" y="0"/>
                  </a:lnTo>
                  <a:lnTo>
                    <a:pt x="536" y="0"/>
                  </a:lnTo>
                  <a:lnTo>
                    <a:pt x="597" y="15"/>
                  </a:lnTo>
                  <a:lnTo>
                    <a:pt x="659" y="33"/>
                  </a:lnTo>
                  <a:lnTo>
                    <a:pt x="697" y="46"/>
                  </a:lnTo>
                  <a:lnTo>
                    <a:pt x="697" y="44"/>
                  </a:lnTo>
                  <a:lnTo>
                    <a:pt x="699" y="42"/>
                  </a:lnTo>
                  <a:lnTo>
                    <a:pt x="699" y="42"/>
                  </a:lnTo>
                  <a:lnTo>
                    <a:pt x="699" y="40"/>
                  </a:lnTo>
                  <a:lnTo>
                    <a:pt x="699" y="38"/>
                  </a:lnTo>
                  <a:lnTo>
                    <a:pt x="701" y="38"/>
                  </a:lnTo>
                  <a:lnTo>
                    <a:pt x="701" y="36"/>
                  </a:lnTo>
                  <a:lnTo>
                    <a:pt x="701" y="35"/>
                  </a:lnTo>
                  <a:close/>
                  <a:moveTo>
                    <a:pt x="584" y="2535"/>
                  </a:moveTo>
                  <a:lnTo>
                    <a:pt x="601" y="2531"/>
                  </a:lnTo>
                  <a:lnTo>
                    <a:pt x="662" y="2513"/>
                  </a:lnTo>
                  <a:lnTo>
                    <a:pt x="724" y="2492"/>
                  </a:lnTo>
                  <a:lnTo>
                    <a:pt x="751" y="2483"/>
                  </a:lnTo>
                  <a:lnTo>
                    <a:pt x="745" y="2473"/>
                  </a:lnTo>
                  <a:lnTo>
                    <a:pt x="720" y="2483"/>
                  </a:lnTo>
                  <a:lnTo>
                    <a:pt x="659" y="2504"/>
                  </a:lnTo>
                  <a:lnTo>
                    <a:pt x="597" y="2521"/>
                  </a:lnTo>
                  <a:lnTo>
                    <a:pt x="536" y="2535"/>
                  </a:lnTo>
                  <a:lnTo>
                    <a:pt x="584" y="2535"/>
                  </a:lnTo>
                  <a:close/>
                  <a:moveTo>
                    <a:pt x="0" y="2531"/>
                  </a:moveTo>
                  <a:lnTo>
                    <a:pt x="14" y="2535"/>
                  </a:lnTo>
                  <a:lnTo>
                    <a:pt x="0" y="2535"/>
                  </a:lnTo>
                  <a:lnTo>
                    <a:pt x="0" y="2535"/>
                  </a:lnTo>
                  <a:lnTo>
                    <a:pt x="0" y="2535"/>
                  </a:lnTo>
                  <a:lnTo>
                    <a:pt x="0" y="2533"/>
                  </a:lnTo>
                  <a:lnTo>
                    <a:pt x="0" y="2533"/>
                  </a:lnTo>
                  <a:lnTo>
                    <a:pt x="0" y="2533"/>
                  </a:lnTo>
                  <a:lnTo>
                    <a:pt x="0" y="2533"/>
                  </a:lnTo>
                  <a:lnTo>
                    <a:pt x="0" y="2533"/>
                  </a:lnTo>
                  <a:lnTo>
                    <a:pt x="0" y="2531"/>
                  </a:lnTo>
                  <a:close/>
                </a:path>
              </a:pathLst>
            </a:custGeom>
            <a:solidFill>
              <a:srgbClr val="0b9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Freeform 284"/>
            <p:cNvSpPr/>
            <p:nvPr/>
          </p:nvSpPr>
          <p:spPr>
            <a:xfrm>
              <a:off x="6015240" y="1128240"/>
              <a:ext cx="1264680" cy="4268160"/>
            </a:xfrm>
            <a:custGeom>
              <a:avLst/>
              <a:gdLst>
                <a:gd name="textAreaLeft" fmla="*/ 0 w 1264680"/>
                <a:gd name="textAreaRight" fmla="*/ 1265040 w 1264680"/>
                <a:gd name="textAreaTop" fmla="*/ 0 h 4268160"/>
                <a:gd name="textAreaBottom" fmla="*/ 4268520 h 4268160"/>
              </a:gdLst>
              <a:ahLst/>
              <a:rect l="textAreaLeft" t="textAreaTop" r="textAreaRight" b="textAreaBottom"/>
              <a:pathLst>
                <a:path w="751" h="2535">
                  <a:moveTo>
                    <a:pt x="701" y="40"/>
                  </a:moveTo>
                  <a:lnTo>
                    <a:pt x="662" y="27"/>
                  </a:lnTo>
                  <a:lnTo>
                    <a:pt x="601" y="10"/>
                  </a:lnTo>
                  <a:lnTo>
                    <a:pt x="561" y="0"/>
                  </a:lnTo>
                  <a:lnTo>
                    <a:pt x="507" y="0"/>
                  </a:lnTo>
                  <a:lnTo>
                    <a:pt x="536" y="6"/>
                  </a:lnTo>
                  <a:lnTo>
                    <a:pt x="599" y="21"/>
                  </a:lnTo>
                  <a:lnTo>
                    <a:pt x="661" y="38"/>
                  </a:lnTo>
                  <a:lnTo>
                    <a:pt x="697" y="50"/>
                  </a:lnTo>
                  <a:lnTo>
                    <a:pt x="697" y="50"/>
                  </a:lnTo>
                  <a:lnTo>
                    <a:pt x="699" y="48"/>
                  </a:lnTo>
                  <a:lnTo>
                    <a:pt x="699" y="46"/>
                  </a:lnTo>
                  <a:lnTo>
                    <a:pt x="699" y="46"/>
                  </a:lnTo>
                  <a:lnTo>
                    <a:pt x="699" y="44"/>
                  </a:lnTo>
                  <a:lnTo>
                    <a:pt x="701" y="42"/>
                  </a:lnTo>
                  <a:lnTo>
                    <a:pt x="701" y="42"/>
                  </a:lnTo>
                  <a:lnTo>
                    <a:pt x="701" y="40"/>
                  </a:lnTo>
                  <a:close/>
                  <a:moveTo>
                    <a:pt x="561" y="2535"/>
                  </a:moveTo>
                  <a:lnTo>
                    <a:pt x="601" y="2525"/>
                  </a:lnTo>
                  <a:lnTo>
                    <a:pt x="662" y="2508"/>
                  </a:lnTo>
                  <a:lnTo>
                    <a:pt x="724" y="2489"/>
                  </a:lnTo>
                  <a:lnTo>
                    <a:pt x="751" y="2477"/>
                  </a:lnTo>
                  <a:lnTo>
                    <a:pt x="745" y="2467"/>
                  </a:lnTo>
                  <a:lnTo>
                    <a:pt x="720" y="2477"/>
                  </a:lnTo>
                  <a:lnTo>
                    <a:pt x="661" y="2498"/>
                  </a:lnTo>
                  <a:lnTo>
                    <a:pt x="599" y="2515"/>
                  </a:lnTo>
                  <a:lnTo>
                    <a:pt x="536" y="2529"/>
                  </a:lnTo>
                  <a:lnTo>
                    <a:pt x="507" y="2535"/>
                  </a:lnTo>
                  <a:lnTo>
                    <a:pt x="561" y="2535"/>
                  </a:lnTo>
                  <a:close/>
                  <a:moveTo>
                    <a:pt x="0" y="2525"/>
                  </a:moveTo>
                  <a:lnTo>
                    <a:pt x="18" y="2529"/>
                  </a:lnTo>
                  <a:lnTo>
                    <a:pt x="46" y="2535"/>
                  </a:lnTo>
                  <a:lnTo>
                    <a:pt x="2" y="2535"/>
                  </a:lnTo>
                  <a:lnTo>
                    <a:pt x="2" y="2535"/>
                  </a:lnTo>
                  <a:lnTo>
                    <a:pt x="2" y="2533"/>
                  </a:lnTo>
                  <a:lnTo>
                    <a:pt x="2" y="2531"/>
                  </a:lnTo>
                  <a:lnTo>
                    <a:pt x="2" y="2531"/>
                  </a:lnTo>
                  <a:lnTo>
                    <a:pt x="2" y="2529"/>
                  </a:lnTo>
                  <a:lnTo>
                    <a:pt x="2" y="2529"/>
                  </a:lnTo>
                  <a:lnTo>
                    <a:pt x="2" y="2527"/>
                  </a:lnTo>
                  <a:lnTo>
                    <a:pt x="0" y="2525"/>
                  </a:lnTo>
                  <a:close/>
                </a:path>
              </a:pathLst>
            </a:custGeom>
            <a:solidFill>
              <a:srgbClr val="0c9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Freeform 285"/>
            <p:cNvSpPr/>
            <p:nvPr/>
          </p:nvSpPr>
          <p:spPr>
            <a:xfrm>
              <a:off x="6015240" y="1128240"/>
              <a:ext cx="1257840" cy="4268160"/>
            </a:xfrm>
            <a:custGeom>
              <a:avLst/>
              <a:gdLst>
                <a:gd name="textAreaLeft" fmla="*/ 0 w 1257840"/>
                <a:gd name="textAreaRight" fmla="*/ 1257840 w 1257840"/>
                <a:gd name="textAreaTop" fmla="*/ 0 h 4268160"/>
                <a:gd name="textAreaBottom" fmla="*/ 4268520 h 4268160"/>
              </a:gdLst>
              <a:ahLst/>
              <a:rect l="textAreaLeft" t="textAreaTop" r="textAreaRight" b="textAreaBottom"/>
              <a:pathLst>
                <a:path w="747" h="2535">
                  <a:moveTo>
                    <a:pt x="699" y="46"/>
                  </a:moveTo>
                  <a:lnTo>
                    <a:pt x="661" y="33"/>
                  </a:lnTo>
                  <a:lnTo>
                    <a:pt x="599" y="15"/>
                  </a:lnTo>
                  <a:lnTo>
                    <a:pt x="538" y="0"/>
                  </a:lnTo>
                  <a:lnTo>
                    <a:pt x="476" y="0"/>
                  </a:lnTo>
                  <a:lnTo>
                    <a:pt x="536" y="12"/>
                  </a:lnTo>
                  <a:lnTo>
                    <a:pt x="597" y="25"/>
                  </a:lnTo>
                  <a:lnTo>
                    <a:pt x="659" y="42"/>
                  </a:lnTo>
                  <a:lnTo>
                    <a:pt x="695" y="56"/>
                  </a:lnTo>
                  <a:lnTo>
                    <a:pt x="695" y="54"/>
                  </a:lnTo>
                  <a:lnTo>
                    <a:pt x="695" y="52"/>
                  </a:lnTo>
                  <a:lnTo>
                    <a:pt x="697" y="52"/>
                  </a:lnTo>
                  <a:lnTo>
                    <a:pt x="697" y="50"/>
                  </a:lnTo>
                  <a:lnTo>
                    <a:pt x="697" y="50"/>
                  </a:lnTo>
                  <a:lnTo>
                    <a:pt x="699" y="48"/>
                  </a:lnTo>
                  <a:lnTo>
                    <a:pt x="699" y="46"/>
                  </a:lnTo>
                  <a:lnTo>
                    <a:pt x="699" y="46"/>
                  </a:lnTo>
                  <a:close/>
                  <a:moveTo>
                    <a:pt x="2" y="2531"/>
                  </a:moveTo>
                  <a:lnTo>
                    <a:pt x="16" y="2535"/>
                  </a:lnTo>
                  <a:lnTo>
                    <a:pt x="77" y="2535"/>
                  </a:lnTo>
                  <a:lnTo>
                    <a:pt x="18" y="2525"/>
                  </a:lnTo>
                  <a:lnTo>
                    <a:pt x="0" y="2521"/>
                  </a:lnTo>
                  <a:lnTo>
                    <a:pt x="0" y="2521"/>
                  </a:lnTo>
                  <a:lnTo>
                    <a:pt x="0" y="2523"/>
                  </a:lnTo>
                  <a:lnTo>
                    <a:pt x="0" y="2525"/>
                  </a:lnTo>
                  <a:lnTo>
                    <a:pt x="0" y="2525"/>
                  </a:lnTo>
                  <a:lnTo>
                    <a:pt x="2" y="2527"/>
                  </a:lnTo>
                  <a:lnTo>
                    <a:pt x="2" y="2529"/>
                  </a:lnTo>
                  <a:lnTo>
                    <a:pt x="2" y="2531"/>
                  </a:lnTo>
                  <a:lnTo>
                    <a:pt x="2" y="2531"/>
                  </a:lnTo>
                  <a:close/>
                  <a:moveTo>
                    <a:pt x="538" y="2535"/>
                  </a:moveTo>
                  <a:lnTo>
                    <a:pt x="599" y="2521"/>
                  </a:lnTo>
                  <a:lnTo>
                    <a:pt x="661" y="2504"/>
                  </a:lnTo>
                  <a:lnTo>
                    <a:pt x="722" y="2483"/>
                  </a:lnTo>
                  <a:lnTo>
                    <a:pt x="747" y="2473"/>
                  </a:lnTo>
                  <a:lnTo>
                    <a:pt x="743" y="2464"/>
                  </a:lnTo>
                  <a:lnTo>
                    <a:pt x="718" y="2473"/>
                  </a:lnTo>
                  <a:lnTo>
                    <a:pt x="659" y="2492"/>
                  </a:lnTo>
                  <a:lnTo>
                    <a:pt x="597" y="2510"/>
                  </a:lnTo>
                  <a:lnTo>
                    <a:pt x="536" y="2525"/>
                  </a:lnTo>
                  <a:lnTo>
                    <a:pt x="476" y="2535"/>
                  </a:lnTo>
                  <a:lnTo>
                    <a:pt x="538" y="2535"/>
                  </a:lnTo>
                  <a:close/>
                </a:path>
              </a:pathLst>
            </a:custGeom>
            <a:solidFill>
              <a:srgbClr val="0d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Freeform 286"/>
            <p:cNvSpPr/>
            <p:nvPr/>
          </p:nvSpPr>
          <p:spPr>
            <a:xfrm>
              <a:off x="6012000" y="1128240"/>
              <a:ext cx="1258200" cy="4268160"/>
            </a:xfrm>
            <a:custGeom>
              <a:avLst/>
              <a:gdLst>
                <a:gd name="textAreaLeft" fmla="*/ 0 w 1258200"/>
                <a:gd name="textAreaRight" fmla="*/ 1258200 w 1258200"/>
                <a:gd name="textAreaTop" fmla="*/ 0 h 4268160"/>
                <a:gd name="textAreaBottom" fmla="*/ 4268520 h 4268160"/>
              </a:gdLst>
              <a:ahLst/>
              <a:rect l="textAreaLeft" t="textAreaTop" r="textAreaRight" b="textAreaBottom"/>
              <a:pathLst>
                <a:path w="747" h="2535">
                  <a:moveTo>
                    <a:pt x="699" y="50"/>
                  </a:moveTo>
                  <a:lnTo>
                    <a:pt x="663" y="38"/>
                  </a:lnTo>
                  <a:lnTo>
                    <a:pt x="601" y="21"/>
                  </a:lnTo>
                  <a:lnTo>
                    <a:pt x="538" y="6"/>
                  </a:lnTo>
                  <a:lnTo>
                    <a:pt x="509" y="0"/>
                  </a:lnTo>
                  <a:lnTo>
                    <a:pt x="438" y="0"/>
                  </a:lnTo>
                  <a:lnTo>
                    <a:pt x="473" y="6"/>
                  </a:lnTo>
                  <a:lnTo>
                    <a:pt x="536" y="17"/>
                  </a:lnTo>
                  <a:lnTo>
                    <a:pt x="597" y="31"/>
                  </a:lnTo>
                  <a:lnTo>
                    <a:pt x="659" y="48"/>
                  </a:lnTo>
                  <a:lnTo>
                    <a:pt x="695" y="59"/>
                  </a:lnTo>
                  <a:lnTo>
                    <a:pt x="695" y="59"/>
                  </a:lnTo>
                  <a:lnTo>
                    <a:pt x="695" y="58"/>
                  </a:lnTo>
                  <a:lnTo>
                    <a:pt x="697" y="56"/>
                  </a:lnTo>
                  <a:lnTo>
                    <a:pt x="697" y="56"/>
                  </a:lnTo>
                  <a:lnTo>
                    <a:pt x="697" y="54"/>
                  </a:lnTo>
                  <a:lnTo>
                    <a:pt x="697" y="52"/>
                  </a:lnTo>
                  <a:lnTo>
                    <a:pt x="699" y="52"/>
                  </a:lnTo>
                  <a:lnTo>
                    <a:pt x="699" y="50"/>
                  </a:lnTo>
                  <a:close/>
                  <a:moveTo>
                    <a:pt x="2" y="2525"/>
                  </a:moveTo>
                  <a:lnTo>
                    <a:pt x="20" y="2529"/>
                  </a:lnTo>
                  <a:lnTo>
                    <a:pt x="48" y="2535"/>
                  </a:lnTo>
                  <a:lnTo>
                    <a:pt x="119" y="2535"/>
                  </a:lnTo>
                  <a:lnTo>
                    <a:pt x="85" y="2531"/>
                  </a:lnTo>
                  <a:lnTo>
                    <a:pt x="22" y="2519"/>
                  </a:lnTo>
                  <a:lnTo>
                    <a:pt x="0" y="2515"/>
                  </a:lnTo>
                  <a:lnTo>
                    <a:pt x="2" y="2515"/>
                  </a:lnTo>
                  <a:lnTo>
                    <a:pt x="2" y="2517"/>
                  </a:lnTo>
                  <a:lnTo>
                    <a:pt x="2" y="2519"/>
                  </a:lnTo>
                  <a:lnTo>
                    <a:pt x="2" y="2521"/>
                  </a:lnTo>
                  <a:lnTo>
                    <a:pt x="2" y="2521"/>
                  </a:lnTo>
                  <a:lnTo>
                    <a:pt x="2" y="2523"/>
                  </a:lnTo>
                  <a:lnTo>
                    <a:pt x="2" y="2525"/>
                  </a:lnTo>
                  <a:lnTo>
                    <a:pt x="2" y="2525"/>
                  </a:lnTo>
                  <a:close/>
                  <a:moveTo>
                    <a:pt x="509" y="2535"/>
                  </a:moveTo>
                  <a:lnTo>
                    <a:pt x="538" y="2529"/>
                  </a:lnTo>
                  <a:lnTo>
                    <a:pt x="601" y="2515"/>
                  </a:lnTo>
                  <a:lnTo>
                    <a:pt x="663" y="2498"/>
                  </a:lnTo>
                  <a:lnTo>
                    <a:pt x="722" y="2477"/>
                  </a:lnTo>
                  <a:lnTo>
                    <a:pt x="747" y="2467"/>
                  </a:lnTo>
                  <a:lnTo>
                    <a:pt x="743" y="2458"/>
                  </a:lnTo>
                  <a:lnTo>
                    <a:pt x="718" y="2467"/>
                  </a:lnTo>
                  <a:lnTo>
                    <a:pt x="659" y="2489"/>
                  </a:lnTo>
                  <a:lnTo>
                    <a:pt x="597" y="2506"/>
                  </a:lnTo>
                  <a:lnTo>
                    <a:pt x="536" y="2519"/>
                  </a:lnTo>
                  <a:lnTo>
                    <a:pt x="473" y="2531"/>
                  </a:lnTo>
                  <a:lnTo>
                    <a:pt x="438" y="2535"/>
                  </a:lnTo>
                  <a:lnTo>
                    <a:pt x="509" y="2535"/>
                  </a:lnTo>
                  <a:close/>
                </a:path>
              </a:pathLst>
            </a:custGeom>
            <a:solidFill>
              <a:srgbClr val="0e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Freeform 287"/>
            <p:cNvSpPr/>
            <p:nvPr/>
          </p:nvSpPr>
          <p:spPr>
            <a:xfrm>
              <a:off x="6012000" y="1128240"/>
              <a:ext cx="1254600" cy="4268160"/>
            </a:xfrm>
            <a:custGeom>
              <a:avLst/>
              <a:gdLst>
                <a:gd name="textAreaLeft" fmla="*/ 0 w 1254600"/>
                <a:gd name="textAreaRight" fmla="*/ 1254960 w 1254600"/>
                <a:gd name="textAreaTop" fmla="*/ 0 h 4268160"/>
                <a:gd name="textAreaBottom" fmla="*/ 4268520 h 4268160"/>
              </a:gdLst>
              <a:ahLst/>
              <a:rect l="textAreaLeft" t="textAreaTop" r="textAreaRight" b="textAreaBottom"/>
              <a:pathLst>
                <a:path w="745" h="2535">
                  <a:moveTo>
                    <a:pt x="697" y="56"/>
                  </a:moveTo>
                  <a:lnTo>
                    <a:pt x="661" y="42"/>
                  </a:lnTo>
                  <a:lnTo>
                    <a:pt x="599" y="25"/>
                  </a:lnTo>
                  <a:lnTo>
                    <a:pt x="538" y="12"/>
                  </a:lnTo>
                  <a:lnTo>
                    <a:pt x="478" y="0"/>
                  </a:lnTo>
                  <a:lnTo>
                    <a:pt x="388" y="0"/>
                  </a:lnTo>
                  <a:lnTo>
                    <a:pt x="409" y="2"/>
                  </a:lnTo>
                  <a:lnTo>
                    <a:pt x="473" y="10"/>
                  </a:lnTo>
                  <a:lnTo>
                    <a:pt x="536" y="21"/>
                  </a:lnTo>
                  <a:lnTo>
                    <a:pt x="597" y="36"/>
                  </a:lnTo>
                  <a:lnTo>
                    <a:pt x="657" y="54"/>
                  </a:lnTo>
                  <a:lnTo>
                    <a:pt x="693" y="65"/>
                  </a:lnTo>
                  <a:lnTo>
                    <a:pt x="693" y="63"/>
                  </a:lnTo>
                  <a:lnTo>
                    <a:pt x="693" y="63"/>
                  </a:lnTo>
                  <a:lnTo>
                    <a:pt x="695" y="61"/>
                  </a:lnTo>
                  <a:lnTo>
                    <a:pt x="695" y="59"/>
                  </a:lnTo>
                  <a:lnTo>
                    <a:pt x="695" y="59"/>
                  </a:lnTo>
                  <a:lnTo>
                    <a:pt x="695" y="58"/>
                  </a:lnTo>
                  <a:lnTo>
                    <a:pt x="697" y="56"/>
                  </a:lnTo>
                  <a:lnTo>
                    <a:pt x="697" y="56"/>
                  </a:lnTo>
                  <a:close/>
                  <a:moveTo>
                    <a:pt x="2" y="2521"/>
                  </a:moveTo>
                  <a:lnTo>
                    <a:pt x="20" y="2525"/>
                  </a:lnTo>
                  <a:lnTo>
                    <a:pt x="79" y="2535"/>
                  </a:lnTo>
                  <a:lnTo>
                    <a:pt x="169" y="2535"/>
                  </a:lnTo>
                  <a:lnTo>
                    <a:pt x="148" y="2533"/>
                  </a:lnTo>
                  <a:lnTo>
                    <a:pt x="85" y="2525"/>
                  </a:lnTo>
                  <a:lnTo>
                    <a:pt x="23" y="2513"/>
                  </a:lnTo>
                  <a:lnTo>
                    <a:pt x="0" y="2510"/>
                  </a:lnTo>
                  <a:lnTo>
                    <a:pt x="0" y="2510"/>
                  </a:lnTo>
                  <a:lnTo>
                    <a:pt x="0" y="2512"/>
                  </a:lnTo>
                  <a:lnTo>
                    <a:pt x="0" y="2513"/>
                  </a:lnTo>
                  <a:lnTo>
                    <a:pt x="0" y="2515"/>
                  </a:lnTo>
                  <a:lnTo>
                    <a:pt x="2" y="2515"/>
                  </a:lnTo>
                  <a:lnTo>
                    <a:pt x="2" y="2517"/>
                  </a:lnTo>
                  <a:lnTo>
                    <a:pt x="2" y="2519"/>
                  </a:lnTo>
                  <a:lnTo>
                    <a:pt x="2" y="2521"/>
                  </a:lnTo>
                  <a:close/>
                  <a:moveTo>
                    <a:pt x="478" y="2535"/>
                  </a:moveTo>
                  <a:lnTo>
                    <a:pt x="538" y="2525"/>
                  </a:lnTo>
                  <a:lnTo>
                    <a:pt x="599" y="2510"/>
                  </a:lnTo>
                  <a:lnTo>
                    <a:pt x="661" y="2492"/>
                  </a:lnTo>
                  <a:lnTo>
                    <a:pt x="720" y="2473"/>
                  </a:lnTo>
                  <a:lnTo>
                    <a:pt x="745" y="2464"/>
                  </a:lnTo>
                  <a:lnTo>
                    <a:pt x="741" y="2454"/>
                  </a:lnTo>
                  <a:lnTo>
                    <a:pt x="716" y="2464"/>
                  </a:lnTo>
                  <a:lnTo>
                    <a:pt x="657" y="2483"/>
                  </a:lnTo>
                  <a:lnTo>
                    <a:pt x="597" y="2500"/>
                  </a:lnTo>
                  <a:lnTo>
                    <a:pt x="536" y="2513"/>
                  </a:lnTo>
                  <a:lnTo>
                    <a:pt x="473" y="2525"/>
                  </a:lnTo>
                  <a:lnTo>
                    <a:pt x="409" y="2533"/>
                  </a:lnTo>
                  <a:lnTo>
                    <a:pt x="388" y="2535"/>
                  </a:lnTo>
                  <a:lnTo>
                    <a:pt x="478" y="2535"/>
                  </a:lnTo>
                  <a:close/>
                </a:path>
              </a:pathLst>
            </a:custGeom>
            <a:solidFill>
              <a:srgbClr val="0f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Freeform 288"/>
            <p:cNvSpPr/>
            <p:nvPr/>
          </p:nvSpPr>
          <p:spPr>
            <a:xfrm>
              <a:off x="6008760" y="1128240"/>
              <a:ext cx="1254240" cy="4268160"/>
            </a:xfrm>
            <a:custGeom>
              <a:avLst/>
              <a:gdLst>
                <a:gd name="textAreaLeft" fmla="*/ 0 w 1254240"/>
                <a:gd name="textAreaRight" fmla="*/ 1254240 w 1254240"/>
                <a:gd name="textAreaTop" fmla="*/ 0 h 4268160"/>
                <a:gd name="textAreaBottom" fmla="*/ 4268520 h 4268160"/>
              </a:gdLst>
              <a:ahLst/>
              <a:rect l="textAreaLeft" t="textAreaTop" r="textAreaRight" b="textAreaBottom"/>
              <a:pathLst>
                <a:path w="745" h="2535">
                  <a:moveTo>
                    <a:pt x="697" y="59"/>
                  </a:moveTo>
                  <a:lnTo>
                    <a:pt x="661" y="48"/>
                  </a:lnTo>
                  <a:lnTo>
                    <a:pt x="599" y="31"/>
                  </a:lnTo>
                  <a:lnTo>
                    <a:pt x="538" y="17"/>
                  </a:lnTo>
                  <a:lnTo>
                    <a:pt x="475" y="6"/>
                  </a:lnTo>
                  <a:lnTo>
                    <a:pt x="440" y="0"/>
                  </a:lnTo>
                  <a:lnTo>
                    <a:pt x="311" y="0"/>
                  </a:lnTo>
                  <a:lnTo>
                    <a:pt x="311" y="0"/>
                  </a:lnTo>
                  <a:lnTo>
                    <a:pt x="311" y="2"/>
                  </a:lnTo>
                  <a:lnTo>
                    <a:pt x="311" y="2"/>
                  </a:lnTo>
                  <a:lnTo>
                    <a:pt x="311" y="2"/>
                  </a:lnTo>
                  <a:lnTo>
                    <a:pt x="311" y="2"/>
                  </a:lnTo>
                  <a:lnTo>
                    <a:pt x="311" y="2"/>
                  </a:lnTo>
                  <a:lnTo>
                    <a:pt x="311" y="2"/>
                  </a:lnTo>
                  <a:lnTo>
                    <a:pt x="311" y="2"/>
                  </a:lnTo>
                  <a:lnTo>
                    <a:pt x="346" y="2"/>
                  </a:lnTo>
                  <a:lnTo>
                    <a:pt x="411" y="8"/>
                  </a:lnTo>
                  <a:lnTo>
                    <a:pt x="475" y="15"/>
                  </a:lnTo>
                  <a:lnTo>
                    <a:pt x="536" y="27"/>
                  </a:lnTo>
                  <a:lnTo>
                    <a:pt x="597" y="40"/>
                  </a:lnTo>
                  <a:lnTo>
                    <a:pt x="657" y="58"/>
                  </a:lnTo>
                  <a:lnTo>
                    <a:pt x="693" y="69"/>
                  </a:lnTo>
                  <a:lnTo>
                    <a:pt x="693" y="69"/>
                  </a:lnTo>
                  <a:lnTo>
                    <a:pt x="693" y="67"/>
                  </a:lnTo>
                  <a:lnTo>
                    <a:pt x="693" y="65"/>
                  </a:lnTo>
                  <a:lnTo>
                    <a:pt x="695" y="65"/>
                  </a:lnTo>
                  <a:lnTo>
                    <a:pt x="695" y="63"/>
                  </a:lnTo>
                  <a:lnTo>
                    <a:pt x="695" y="63"/>
                  </a:lnTo>
                  <a:lnTo>
                    <a:pt x="697" y="61"/>
                  </a:lnTo>
                  <a:lnTo>
                    <a:pt x="697" y="59"/>
                  </a:lnTo>
                  <a:close/>
                  <a:moveTo>
                    <a:pt x="2" y="2515"/>
                  </a:moveTo>
                  <a:lnTo>
                    <a:pt x="24" y="2519"/>
                  </a:lnTo>
                  <a:lnTo>
                    <a:pt x="87" y="2531"/>
                  </a:lnTo>
                  <a:lnTo>
                    <a:pt x="121" y="2535"/>
                  </a:lnTo>
                  <a:lnTo>
                    <a:pt x="440" y="2535"/>
                  </a:lnTo>
                  <a:lnTo>
                    <a:pt x="475" y="2531"/>
                  </a:lnTo>
                  <a:lnTo>
                    <a:pt x="538" y="2519"/>
                  </a:lnTo>
                  <a:lnTo>
                    <a:pt x="599" y="2506"/>
                  </a:lnTo>
                  <a:lnTo>
                    <a:pt x="661" y="2489"/>
                  </a:lnTo>
                  <a:lnTo>
                    <a:pt x="720" y="2467"/>
                  </a:lnTo>
                  <a:lnTo>
                    <a:pt x="745" y="2458"/>
                  </a:lnTo>
                  <a:lnTo>
                    <a:pt x="739" y="2448"/>
                  </a:lnTo>
                  <a:lnTo>
                    <a:pt x="716" y="2458"/>
                  </a:lnTo>
                  <a:lnTo>
                    <a:pt x="657" y="2477"/>
                  </a:lnTo>
                  <a:lnTo>
                    <a:pt x="597" y="2494"/>
                  </a:lnTo>
                  <a:lnTo>
                    <a:pt x="536" y="2510"/>
                  </a:lnTo>
                  <a:lnTo>
                    <a:pt x="475" y="2519"/>
                  </a:lnTo>
                  <a:lnTo>
                    <a:pt x="411" y="2529"/>
                  </a:lnTo>
                  <a:lnTo>
                    <a:pt x="346" y="2533"/>
                  </a:lnTo>
                  <a:lnTo>
                    <a:pt x="281" y="2535"/>
                  </a:lnTo>
                  <a:lnTo>
                    <a:pt x="215" y="2533"/>
                  </a:lnTo>
                  <a:lnTo>
                    <a:pt x="152" y="2529"/>
                  </a:lnTo>
                  <a:lnTo>
                    <a:pt x="89" y="2519"/>
                  </a:lnTo>
                  <a:lnTo>
                    <a:pt x="25" y="2510"/>
                  </a:lnTo>
                  <a:lnTo>
                    <a:pt x="0" y="2504"/>
                  </a:lnTo>
                  <a:lnTo>
                    <a:pt x="0" y="2504"/>
                  </a:lnTo>
                  <a:lnTo>
                    <a:pt x="2" y="2506"/>
                  </a:lnTo>
                  <a:lnTo>
                    <a:pt x="2" y="2508"/>
                  </a:lnTo>
                  <a:lnTo>
                    <a:pt x="2" y="2510"/>
                  </a:lnTo>
                  <a:lnTo>
                    <a:pt x="2" y="2510"/>
                  </a:lnTo>
                  <a:lnTo>
                    <a:pt x="2" y="2512"/>
                  </a:lnTo>
                  <a:lnTo>
                    <a:pt x="2" y="2513"/>
                  </a:lnTo>
                  <a:lnTo>
                    <a:pt x="2" y="2515"/>
                  </a:lnTo>
                  <a:close/>
                </a:path>
              </a:pathLst>
            </a:custGeom>
            <a:solidFill>
              <a:srgbClr val="10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Freeform 289"/>
            <p:cNvSpPr/>
            <p:nvPr/>
          </p:nvSpPr>
          <p:spPr>
            <a:xfrm>
              <a:off x="6008760" y="1128240"/>
              <a:ext cx="1251000" cy="4268160"/>
            </a:xfrm>
            <a:custGeom>
              <a:avLst/>
              <a:gdLst>
                <a:gd name="textAreaLeft" fmla="*/ 0 w 1251000"/>
                <a:gd name="textAreaRight" fmla="*/ 1251360 w 1251000"/>
                <a:gd name="textAreaTop" fmla="*/ 0 h 4268160"/>
                <a:gd name="textAreaBottom" fmla="*/ 4268520 h 4268160"/>
              </a:gdLst>
              <a:ahLst/>
              <a:rect l="textAreaLeft" t="textAreaTop" r="textAreaRight" b="textAreaBottom"/>
              <a:pathLst>
                <a:path w="743" h="2535">
                  <a:moveTo>
                    <a:pt x="695" y="65"/>
                  </a:moveTo>
                  <a:lnTo>
                    <a:pt x="659" y="54"/>
                  </a:lnTo>
                  <a:lnTo>
                    <a:pt x="599" y="36"/>
                  </a:lnTo>
                  <a:lnTo>
                    <a:pt x="538" y="21"/>
                  </a:lnTo>
                  <a:lnTo>
                    <a:pt x="475" y="10"/>
                  </a:lnTo>
                  <a:lnTo>
                    <a:pt x="411" y="2"/>
                  </a:lnTo>
                  <a:lnTo>
                    <a:pt x="390" y="0"/>
                  </a:lnTo>
                  <a:lnTo>
                    <a:pt x="311" y="0"/>
                  </a:lnTo>
                  <a:lnTo>
                    <a:pt x="311" y="2"/>
                  </a:lnTo>
                  <a:lnTo>
                    <a:pt x="311" y="2"/>
                  </a:lnTo>
                  <a:lnTo>
                    <a:pt x="309" y="4"/>
                  </a:lnTo>
                  <a:lnTo>
                    <a:pt x="309" y="4"/>
                  </a:lnTo>
                  <a:lnTo>
                    <a:pt x="309" y="4"/>
                  </a:lnTo>
                  <a:lnTo>
                    <a:pt x="309" y="6"/>
                  </a:lnTo>
                  <a:lnTo>
                    <a:pt x="309" y="6"/>
                  </a:lnTo>
                  <a:lnTo>
                    <a:pt x="308" y="8"/>
                  </a:lnTo>
                  <a:lnTo>
                    <a:pt x="346" y="8"/>
                  </a:lnTo>
                  <a:lnTo>
                    <a:pt x="409" y="13"/>
                  </a:lnTo>
                  <a:lnTo>
                    <a:pt x="473" y="21"/>
                  </a:lnTo>
                  <a:lnTo>
                    <a:pt x="536" y="33"/>
                  </a:lnTo>
                  <a:lnTo>
                    <a:pt x="595" y="46"/>
                  </a:lnTo>
                  <a:lnTo>
                    <a:pt x="657" y="63"/>
                  </a:lnTo>
                  <a:lnTo>
                    <a:pt x="690" y="75"/>
                  </a:lnTo>
                  <a:lnTo>
                    <a:pt x="691" y="73"/>
                  </a:lnTo>
                  <a:lnTo>
                    <a:pt x="691" y="73"/>
                  </a:lnTo>
                  <a:lnTo>
                    <a:pt x="691" y="71"/>
                  </a:lnTo>
                  <a:lnTo>
                    <a:pt x="693" y="69"/>
                  </a:lnTo>
                  <a:lnTo>
                    <a:pt x="693" y="69"/>
                  </a:lnTo>
                  <a:lnTo>
                    <a:pt x="693" y="67"/>
                  </a:lnTo>
                  <a:lnTo>
                    <a:pt x="693" y="67"/>
                  </a:lnTo>
                  <a:lnTo>
                    <a:pt x="695" y="65"/>
                  </a:lnTo>
                  <a:close/>
                  <a:moveTo>
                    <a:pt x="2" y="2510"/>
                  </a:moveTo>
                  <a:lnTo>
                    <a:pt x="25" y="2513"/>
                  </a:lnTo>
                  <a:lnTo>
                    <a:pt x="87" y="2525"/>
                  </a:lnTo>
                  <a:lnTo>
                    <a:pt x="150" y="2533"/>
                  </a:lnTo>
                  <a:lnTo>
                    <a:pt x="171" y="2535"/>
                  </a:lnTo>
                  <a:lnTo>
                    <a:pt x="390" y="2535"/>
                  </a:lnTo>
                  <a:lnTo>
                    <a:pt x="411" y="2533"/>
                  </a:lnTo>
                  <a:lnTo>
                    <a:pt x="475" y="2525"/>
                  </a:lnTo>
                  <a:lnTo>
                    <a:pt x="538" y="2513"/>
                  </a:lnTo>
                  <a:lnTo>
                    <a:pt x="599" y="2500"/>
                  </a:lnTo>
                  <a:lnTo>
                    <a:pt x="659" y="2483"/>
                  </a:lnTo>
                  <a:lnTo>
                    <a:pt x="718" y="2464"/>
                  </a:lnTo>
                  <a:lnTo>
                    <a:pt x="743" y="2454"/>
                  </a:lnTo>
                  <a:lnTo>
                    <a:pt x="738" y="2444"/>
                  </a:lnTo>
                  <a:lnTo>
                    <a:pt x="714" y="2452"/>
                  </a:lnTo>
                  <a:lnTo>
                    <a:pt x="657" y="2473"/>
                  </a:lnTo>
                  <a:lnTo>
                    <a:pt x="595" y="2489"/>
                  </a:lnTo>
                  <a:lnTo>
                    <a:pt x="536" y="2504"/>
                  </a:lnTo>
                  <a:lnTo>
                    <a:pt x="473" y="2515"/>
                  </a:lnTo>
                  <a:lnTo>
                    <a:pt x="409" y="2523"/>
                  </a:lnTo>
                  <a:lnTo>
                    <a:pt x="346" y="2527"/>
                  </a:lnTo>
                  <a:lnTo>
                    <a:pt x="281" y="2529"/>
                  </a:lnTo>
                  <a:lnTo>
                    <a:pt x="215" y="2527"/>
                  </a:lnTo>
                  <a:lnTo>
                    <a:pt x="152" y="2523"/>
                  </a:lnTo>
                  <a:lnTo>
                    <a:pt x="89" y="2515"/>
                  </a:lnTo>
                  <a:lnTo>
                    <a:pt x="27" y="2504"/>
                  </a:lnTo>
                  <a:lnTo>
                    <a:pt x="0" y="2498"/>
                  </a:lnTo>
                  <a:lnTo>
                    <a:pt x="0" y="2498"/>
                  </a:lnTo>
                  <a:lnTo>
                    <a:pt x="0" y="2500"/>
                  </a:lnTo>
                  <a:lnTo>
                    <a:pt x="0" y="2502"/>
                  </a:lnTo>
                  <a:lnTo>
                    <a:pt x="0" y="2504"/>
                  </a:lnTo>
                  <a:lnTo>
                    <a:pt x="0" y="2504"/>
                  </a:lnTo>
                  <a:lnTo>
                    <a:pt x="2" y="2506"/>
                  </a:lnTo>
                  <a:lnTo>
                    <a:pt x="2" y="2508"/>
                  </a:lnTo>
                  <a:lnTo>
                    <a:pt x="2" y="2510"/>
                  </a:lnTo>
                  <a:close/>
                </a:path>
              </a:pathLst>
            </a:custGeom>
            <a:solidFill>
              <a:srgbClr val="11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Freeform 290"/>
            <p:cNvSpPr/>
            <p:nvPr/>
          </p:nvSpPr>
          <p:spPr>
            <a:xfrm>
              <a:off x="6006960" y="1131120"/>
              <a:ext cx="1245960" cy="4265280"/>
            </a:xfrm>
            <a:custGeom>
              <a:avLst/>
              <a:gdLst>
                <a:gd name="textAreaLeft" fmla="*/ 0 w 1245960"/>
                <a:gd name="textAreaRight" fmla="*/ 1246320 w 1245960"/>
                <a:gd name="textAreaTop" fmla="*/ 0 h 4265280"/>
                <a:gd name="textAreaBottom" fmla="*/ 4265280 h 4265280"/>
              </a:gdLst>
              <a:ahLst/>
              <a:rect l="textAreaLeft" t="textAreaTop" r="textAreaRight" b="textAreaBottom"/>
              <a:pathLst>
                <a:path w="740" h="2533">
                  <a:moveTo>
                    <a:pt x="694" y="67"/>
                  </a:moveTo>
                  <a:lnTo>
                    <a:pt x="658" y="56"/>
                  </a:lnTo>
                  <a:lnTo>
                    <a:pt x="598" y="38"/>
                  </a:lnTo>
                  <a:lnTo>
                    <a:pt x="537" y="25"/>
                  </a:lnTo>
                  <a:lnTo>
                    <a:pt x="476" y="13"/>
                  </a:lnTo>
                  <a:lnTo>
                    <a:pt x="412" y="6"/>
                  </a:lnTo>
                  <a:lnTo>
                    <a:pt x="347" y="0"/>
                  </a:lnTo>
                  <a:lnTo>
                    <a:pt x="312" y="0"/>
                  </a:lnTo>
                  <a:lnTo>
                    <a:pt x="310" y="2"/>
                  </a:lnTo>
                  <a:lnTo>
                    <a:pt x="310" y="2"/>
                  </a:lnTo>
                  <a:lnTo>
                    <a:pt x="310" y="4"/>
                  </a:lnTo>
                  <a:lnTo>
                    <a:pt x="309" y="6"/>
                  </a:lnTo>
                  <a:lnTo>
                    <a:pt x="309" y="6"/>
                  </a:lnTo>
                  <a:lnTo>
                    <a:pt x="309" y="8"/>
                  </a:lnTo>
                  <a:lnTo>
                    <a:pt x="307" y="10"/>
                  </a:lnTo>
                  <a:lnTo>
                    <a:pt x="307" y="10"/>
                  </a:lnTo>
                  <a:lnTo>
                    <a:pt x="347" y="11"/>
                  </a:lnTo>
                  <a:lnTo>
                    <a:pt x="410" y="15"/>
                  </a:lnTo>
                  <a:lnTo>
                    <a:pt x="474" y="25"/>
                  </a:lnTo>
                  <a:lnTo>
                    <a:pt x="535" y="34"/>
                  </a:lnTo>
                  <a:lnTo>
                    <a:pt x="596" y="50"/>
                  </a:lnTo>
                  <a:lnTo>
                    <a:pt x="656" y="67"/>
                  </a:lnTo>
                  <a:lnTo>
                    <a:pt x="689" y="77"/>
                  </a:lnTo>
                  <a:lnTo>
                    <a:pt x="691" y="77"/>
                  </a:lnTo>
                  <a:lnTo>
                    <a:pt x="691" y="75"/>
                  </a:lnTo>
                  <a:lnTo>
                    <a:pt x="691" y="75"/>
                  </a:lnTo>
                  <a:lnTo>
                    <a:pt x="691" y="73"/>
                  </a:lnTo>
                  <a:lnTo>
                    <a:pt x="692" y="71"/>
                  </a:lnTo>
                  <a:lnTo>
                    <a:pt x="692" y="71"/>
                  </a:lnTo>
                  <a:lnTo>
                    <a:pt x="692" y="69"/>
                  </a:lnTo>
                  <a:lnTo>
                    <a:pt x="694" y="67"/>
                  </a:lnTo>
                  <a:close/>
                  <a:moveTo>
                    <a:pt x="1" y="2502"/>
                  </a:moveTo>
                  <a:lnTo>
                    <a:pt x="26" y="2508"/>
                  </a:lnTo>
                  <a:lnTo>
                    <a:pt x="90" y="2517"/>
                  </a:lnTo>
                  <a:lnTo>
                    <a:pt x="153" y="2527"/>
                  </a:lnTo>
                  <a:lnTo>
                    <a:pt x="216" y="2531"/>
                  </a:lnTo>
                  <a:lnTo>
                    <a:pt x="282" y="2533"/>
                  </a:lnTo>
                  <a:lnTo>
                    <a:pt x="347" y="2531"/>
                  </a:lnTo>
                  <a:lnTo>
                    <a:pt x="412" y="2527"/>
                  </a:lnTo>
                  <a:lnTo>
                    <a:pt x="476" y="2517"/>
                  </a:lnTo>
                  <a:lnTo>
                    <a:pt x="537" y="2508"/>
                  </a:lnTo>
                  <a:lnTo>
                    <a:pt x="598" y="2492"/>
                  </a:lnTo>
                  <a:lnTo>
                    <a:pt x="658" y="2475"/>
                  </a:lnTo>
                  <a:lnTo>
                    <a:pt x="717" y="2456"/>
                  </a:lnTo>
                  <a:lnTo>
                    <a:pt x="740" y="2446"/>
                  </a:lnTo>
                  <a:lnTo>
                    <a:pt x="737" y="2437"/>
                  </a:lnTo>
                  <a:lnTo>
                    <a:pt x="714" y="2446"/>
                  </a:lnTo>
                  <a:lnTo>
                    <a:pt x="656" y="2465"/>
                  </a:lnTo>
                  <a:lnTo>
                    <a:pt x="596" y="2483"/>
                  </a:lnTo>
                  <a:lnTo>
                    <a:pt x="535" y="2496"/>
                  </a:lnTo>
                  <a:lnTo>
                    <a:pt x="474" y="2508"/>
                  </a:lnTo>
                  <a:lnTo>
                    <a:pt x="410" y="2515"/>
                  </a:lnTo>
                  <a:lnTo>
                    <a:pt x="347" y="2521"/>
                  </a:lnTo>
                  <a:lnTo>
                    <a:pt x="282" y="2521"/>
                  </a:lnTo>
                  <a:lnTo>
                    <a:pt x="216" y="2521"/>
                  </a:lnTo>
                  <a:lnTo>
                    <a:pt x="153" y="2515"/>
                  </a:lnTo>
                  <a:lnTo>
                    <a:pt x="90" y="2508"/>
                  </a:lnTo>
                  <a:lnTo>
                    <a:pt x="28" y="2496"/>
                  </a:lnTo>
                  <a:lnTo>
                    <a:pt x="0" y="2490"/>
                  </a:lnTo>
                  <a:lnTo>
                    <a:pt x="0" y="2490"/>
                  </a:lnTo>
                  <a:lnTo>
                    <a:pt x="1" y="2492"/>
                  </a:lnTo>
                  <a:lnTo>
                    <a:pt x="1" y="2494"/>
                  </a:lnTo>
                  <a:lnTo>
                    <a:pt x="1" y="2496"/>
                  </a:lnTo>
                  <a:lnTo>
                    <a:pt x="1" y="2496"/>
                  </a:lnTo>
                  <a:lnTo>
                    <a:pt x="1" y="2498"/>
                  </a:lnTo>
                  <a:lnTo>
                    <a:pt x="1" y="2500"/>
                  </a:lnTo>
                  <a:lnTo>
                    <a:pt x="1" y="2502"/>
                  </a:lnTo>
                  <a:close/>
                </a:path>
              </a:pathLst>
            </a:custGeom>
            <a:solidFill>
              <a:srgbClr val="12a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Freeform 291"/>
            <p:cNvSpPr/>
            <p:nvPr/>
          </p:nvSpPr>
          <p:spPr>
            <a:xfrm>
              <a:off x="6006960" y="1141560"/>
              <a:ext cx="1244520" cy="4245120"/>
            </a:xfrm>
            <a:custGeom>
              <a:avLst/>
              <a:gdLst>
                <a:gd name="textAreaLeft" fmla="*/ 0 w 1244520"/>
                <a:gd name="textAreaRight" fmla="*/ 1244880 w 1244520"/>
                <a:gd name="textAreaTop" fmla="*/ 0 h 4245120"/>
                <a:gd name="textAreaBottom" fmla="*/ 4245480 h 4245120"/>
              </a:gdLst>
              <a:ahLst/>
              <a:rect l="textAreaLeft" t="textAreaTop" r="textAreaRight" b="textAreaBottom"/>
              <a:pathLst>
                <a:path w="739" h="2521">
                  <a:moveTo>
                    <a:pt x="691" y="67"/>
                  </a:moveTo>
                  <a:lnTo>
                    <a:pt x="658" y="55"/>
                  </a:lnTo>
                  <a:lnTo>
                    <a:pt x="596" y="38"/>
                  </a:lnTo>
                  <a:lnTo>
                    <a:pt x="537" y="25"/>
                  </a:lnTo>
                  <a:lnTo>
                    <a:pt x="474" y="13"/>
                  </a:lnTo>
                  <a:lnTo>
                    <a:pt x="410" y="5"/>
                  </a:lnTo>
                  <a:lnTo>
                    <a:pt x="347" y="0"/>
                  </a:lnTo>
                  <a:lnTo>
                    <a:pt x="309" y="0"/>
                  </a:lnTo>
                  <a:lnTo>
                    <a:pt x="309" y="0"/>
                  </a:lnTo>
                  <a:lnTo>
                    <a:pt x="309" y="2"/>
                  </a:lnTo>
                  <a:lnTo>
                    <a:pt x="307" y="4"/>
                  </a:lnTo>
                  <a:lnTo>
                    <a:pt x="307" y="4"/>
                  </a:lnTo>
                  <a:lnTo>
                    <a:pt x="307" y="5"/>
                  </a:lnTo>
                  <a:lnTo>
                    <a:pt x="307" y="7"/>
                  </a:lnTo>
                  <a:lnTo>
                    <a:pt x="305" y="7"/>
                  </a:lnTo>
                  <a:lnTo>
                    <a:pt x="305" y="9"/>
                  </a:lnTo>
                  <a:lnTo>
                    <a:pt x="347" y="11"/>
                  </a:lnTo>
                  <a:lnTo>
                    <a:pt x="410" y="15"/>
                  </a:lnTo>
                  <a:lnTo>
                    <a:pt x="472" y="23"/>
                  </a:lnTo>
                  <a:lnTo>
                    <a:pt x="533" y="34"/>
                  </a:lnTo>
                  <a:lnTo>
                    <a:pt x="595" y="48"/>
                  </a:lnTo>
                  <a:lnTo>
                    <a:pt x="654" y="65"/>
                  </a:lnTo>
                  <a:lnTo>
                    <a:pt x="687" y="76"/>
                  </a:lnTo>
                  <a:lnTo>
                    <a:pt x="687" y="74"/>
                  </a:lnTo>
                  <a:lnTo>
                    <a:pt x="689" y="74"/>
                  </a:lnTo>
                  <a:lnTo>
                    <a:pt x="689" y="73"/>
                  </a:lnTo>
                  <a:lnTo>
                    <a:pt x="689" y="71"/>
                  </a:lnTo>
                  <a:lnTo>
                    <a:pt x="691" y="71"/>
                  </a:lnTo>
                  <a:lnTo>
                    <a:pt x="691" y="69"/>
                  </a:lnTo>
                  <a:lnTo>
                    <a:pt x="691" y="69"/>
                  </a:lnTo>
                  <a:lnTo>
                    <a:pt x="691" y="67"/>
                  </a:lnTo>
                  <a:close/>
                  <a:moveTo>
                    <a:pt x="1" y="2490"/>
                  </a:moveTo>
                  <a:lnTo>
                    <a:pt x="28" y="2496"/>
                  </a:lnTo>
                  <a:lnTo>
                    <a:pt x="90" y="2507"/>
                  </a:lnTo>
                  <a:lnTo>
                    <a:pt x="153" y="2515"/>
                  </a:lnTo>
                  <a:lnTo>
                    <a:pt x="216" y="2519"/>
                  </a:lnTo>
                  <a:lnTo>
                    <a:pt x="282" y="2521"/>
                  </a:lnTo>
                  <a:lnTo>
                    <a:pt x="347" y="2519"/>
                  </a:lnTo>
                  <a:lnTo>
                    <a:pt x="410" y="2515"/>
                  </a:lnTo>
                  <a:lnTo>
                    <a:pt x="474" y="2507"/>
                  </a:lnTo>
                  <a:lnTo>
                    <a:pt x="537" y="2496"/>
                  </a:lnTo>
                  <a:lnTo>
                    <a:pt x="596" y="2481"/>
                  </a:lnTo>
                  <a:lnTo>
                    <a:pt x="658" y="2465"/>
                  </a:lnTo>
                  <a:lnTo>
                    <a:pt x="715" y="2444"/>
                  </a:lnTo>
                  <a:lnTo>
                    <a:pt x="739" y="2436"/>
                  </a:lnTo>
                  <a:lnTo>
                    <a:pt x="735" y="2427"/>
                  </a:lnTo>
                  <a:lnTo>
                    <a:pt x="712" y="2434"/>
                  </a:lnTo>
                  <a:lnTo>
                    <a:pt x="654" y="2454"/>
                  </a:lnTo>
                  <a:lnTo>
                    <a:pt x="595" y="2471"/>
                  </a:lnTo>
                  <a:lnTo>
                    <a:pt x="533" y="2484"/>
                  </a:lnTo>
                  <a:lnTo>
                    <a:pt x="472" y="2496"/>
                  </a:lnTo>
                  <a:lnTo>
                    <a:pt x="410" y="2504"/>
                  </a:lnTo>
                  <a:lnTo>
                    <a:pt x="347" y="2509"/>
                  </a:lnTo>
                  <a:lnTo>
                    <a:pt x="282" y="2511"/>
                  </a:lnTo>
                  <a:lnTo>
                    <a:pt x="218" y="2509"/>
                  </a:lnTo>
                  <a:lnTo>
                    <a:pt x="153" y="2504"/>
                  </a:lnTo>
                  <a:lnTo>
                    <a:pt x="92" y="2496"/>
                  </a:lnTo>
                  <a:lnTo>
                    <a:pt x="30" y="2484"/>
                  </a:lnTo>
                  <a:lnTo>
                    <a:pt x="0" y="2479"/>
                  </a:lnTo>
                  <a:lnTo>
                    <a:pt x="0" y="2479"/>
                  </a:lnTo>
                  <a:lnTo>
                    <a:pt x="0" y="2481"/>
                  </a:lnTo>
                  <a:lnTo>
                    <a:pt x="0" y="2482"/>
                  </a:lnTo>
                  <a:lnTo>
                    <a:pt x="0" y="2484"/>
                  </a:lnTo>
                  <a:lnTo>
                    <a:pt x="0" y="2484"/>
                  </a:lnTo>
                  <a:lnTo>
                    <a:pt x="1" y="2486"/>
                  </a:lnTo>
                  <a:lnTo>
                    <a:pt x="1" y="2488"/>
                  </a:lnTo>
                  <a:lnTo>
                    <a:pt x="1" y="2490"/>
                  </a:lnTo>
                  <a:close/>
                </a:path>
              </a:pathLst>
            </a:custGeom>
            <a:solidFill>
              <a:srgbClr val="13a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Freeform 292"/>
            <p:cNvSpPr/>
            <p:nvPr/>
          </p:nvSpPr>
          <p:spPr>
            <a:xfrm>
              <a:off x="6003360" y="1148400"/>
              <a:ext cx="1244520" cy="4227840"/>
            </a:xfrm>
            <a:custGeom>
              <a:avLst/>
              <a:gdLst>
                <a:gd name="textAreaLeft" fmla="*/ 0 w 1244520"/>
                <a:gd name="textAreaRight" fmla="*/ 1244880 w 1244520"/>
                <a:gd name="textAreaTop" fmla="*/ 0 h 4227840"/>
                <a:gd name="textAreaBottom" fmla="*/ 4228200 h 4227840"/>
              </a:gdLst>
              <a:ahLst/>
              <a:rect l="textAreaLeft" t="textAreaTop" r="textAreaRight" b="textAreaBottom"/>
              <a:pathLst>
                <a:path w="739" h="2511">
                  <a:moveTo>
                    <a:pt x="691" y="67"/>
                  </a:moveTo>
                  <a:lnTo>
                    <a:pt x="658" y="57"/>
                  </a:lnTo>
                  <a:lnTo>
                    <a:pt x="598" y="40"/>
                  </a:lnTo>
                  <a:lnTo>
                    <a:pt x="537" y="24"/>
                  </a:lnTo>
                  <a:lnTo>
                    <a:pt x="476" y="15"/>
                  </a:lnTo>
                  <a:lnTo>
                    <a:pt x="412" y="5"/>
                  </a:lnTo>
                  <a:lnTo>
                    <a:pt x="349" y="1"/>
                  </a:lnTo>
                  <a:lnTo>
                    <a:pt x="309" y="0"/>
                  </a:lnTo>
                  <a:lnTo>
                    <a:pt x="309" y="1"/>
                  </a:lnTo>
                  <a:lnTo>
                    <a:pt x="309" y="3"/>
                  </a:lnTo>
                  <a:lnTo>
                    <a:pt x="307" y="3"/>
                  </a:lnTo>
                  <a:lnTo>
                    <a:pt x="307" y="5"/>
                  </a:lnTo>
                  <a:lnTo>
                    <a:pt x="307" y="7"/>
                  </a:lnTo>
                  <a:lnTo>
                    <a:pt x="305" y="9"/>
                  </a:lnTo>
                  <a:lnTo>
                    <a:pt x="305" y="9"/>
                  </a:lnTo>
                  <a:lnTo>
                    <a:pt x="305" y="11"/>
                  </a:lnTo>
                  <a:lnTo>
                    <a:pt x="347" y="13"/>
                  </a:lnTo>
                  <a:lnTo>
                    <a:pt x="410" y="17"/>
                  </a:lnTo>
                  <a:lnTo>
                    <a:pt x="474" y="24"/>
                  </a:lnTo>
                  <a:lnTo>
                    <a:pt x="535" y="36"/>
                  </a:lnTo>
                  <a:lnTo>
                    <a:pt x="595" y="49"/>
                  </a:lnTo>
                  <a:lnTo>
                    <a:pt x="654" y="67"/>
                  </a:lnTo>
                  <a:lnTo>
                    <a:pt x="687" y="78"/>
                  </a:lnTo>
                  <a:lnTo>
                    <a:pt x="687" y="76"/>
                  </a:lnTo>
                  <a:lnTo>
                    <a:pt x="689" y="74"/>
                  </a:lnTo>
                  <a:lnTo>
                    <a:pt x="689" y="74"/>
                  </a:lnTo>
                  <a:lnTo>
                    <a:pt x="689" y="72"/>
                  </a:lnTo>
                  <a:lnTo>
                    <a:pt x="689" y="70"/>
                  </a:lnTo>
                  <a:lnTo>
                    <a:pt x="691" y="70"/>
                  </a:lnTo>
                  <a:lnTo>
                    <a:pt x="691" y="69"/>
                  </a:lnTo>
                  <a:lnTo>
                    <a:pt x="691" y="67"/>
                  </a:lnTo>
                  <a:close/>
                  <a:moveTo>
                    <a:pt x="2" y="2480"/>
                  </a:moveTo>
                  <a:lnTo>
                    <a:pt x="30" y="2486"/>
                  </a:lnTo>
                  <a:lnTo>
                    <a:pt x="92" y="2498"/>
                  </a:lnTo>
                  <a:lnTo>
                    <a:pt x="155" y="2505"/>
                  </a:lnTo>
                  <a:lnTo>
                    <a:pt x="218" y="2511"/>
                  </a:lnTo>
                  <a:lnTo>
                    <a:pt x="284" y="2511"/>
                  </a:lnTo>
                  <a:lnTo>
                    <a:pt x="349" y="2511"/>
                  </a:lnTo>
                  <a:lnTo>
                    <a:pt x="412" y="2505"/>
                  </a:lnTo>
                  <a:lnTo>
                    <a:pt x="476" y="2498"/>
                  </a:lnTo>
                  <a:lnTo>
                    <a:pt x="537" y="2486"/>
                  </a:lnTo>
                  <a:lnTo>
                    <a:pt x="598" y="2473"/>
                  </a:lnTo>
                  <a:lnTo>
                    <a:pt x="658" y="2455"/>
                  </a:lnTo>
                  <a:lnTo>
                    <a:pt x="716" y="2436"/>
                  </a:lnTo>
                  <a:lnTo>
                    <a:pt x="739" y="2427"/>
                  </a:lnTo>
                  <a:lnTo>
                    <a:pt x="733" y="2417"/>
                  </a:lnTo>
                  <a:lnTo>
                    <a:pt x="712" y="2425"/>
                  </a:lnTo>
                  <a:lnTo>
                    <a:pt x="654" y="2446"/>
                  </a:lnTo>
                  <a:lnTo>
                    <a:pt x="595" y="2461"/>
                  </a:lnTo>
                  <a:lnTo>
                    <a:pt x="535" y="2477"/>
                  </a:lnTo>
                  <a:lnTo>
                    <a:pt x="474" y="2486"/>
                  </a:lnTo>
                  <a:lnTo>
                    <a:pt x="410" y="2496"/>
                  </a:lnTo>
                  <a:lnTo>
                    <a:pt x="347" y="2500"/>
                  </a:lnTo>
                  <a:lnTo>
                    <a:pt x="284" y="2501"/>
                  </a:lnTo>
                  <a:lnTo>
                    <a:pt x="220" y="2500"/>
                  </a:lnTo>
                  <a:lnTo>
                    <a:pt x="157" y="2496"/>
                  </a:lnTo>
                  <a:lnTo>
                    <a:pt x="94" y="2486"/>
                  </a:lnTo>
                  <a:lnTo>
                    <a:pt x="32" y="2477"/>
                  </a:lnTo>
                  <a:lnTo>
                    <a:pt x="0" y="2469"/>
                  </a:lnTo>
                  <a:lnTo>
                    <a:pt x="0" y="2469"/>
                  </a:lnTo>
                  <a:lnTo>
                    <a:pt x="2" y="2471"/>
                  </a:lnTo>
                  <a:lnTo>
                    <a:pt x="2" y="2473"/>
                  </a:lnTo>
                  <a:lnTo>
                    <a:pt x="2" y="2475"/>
                  </a:lnTo>
                  <a:lnTo>
                    <a:pt x="2" y="2475"/>
                  </a:lnTo>
                  <a:lnTo>
                    <a:pt x="2" y="2477"/>
                  </a:lnTo>
                  <a:lnTo>
                    <a:pt x="2" y="2478"/>
                  </a:lnTo>
                  <a:lnTo>
                    <a:pt x="2" y="2480"/>
                  </a:lnTo>
                  <a:close/>
                </a:path>
              </a:pathLst>
            </a:custGeom>
            <a:solidFill>
              <a:srgbClr val="14a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Freeform 293"/>
            <p:cNvSpPr/>
            <p:nvPr/>
          </p:nvSpPr>
          <p:spPr>
            <a:xfrm>
              <a:off x="6003360" y="1156680"/>
              <a:ext cx="1240920" cy="4212720"/>
            </a:xfrm>
            <a:custGeom>
              <a:avLst/>
              <a:gdLst>
                <a:gd name="textAreaLeft" fmla="*/ 0 w 1240920"/>
                <a:gd name="textAreaRight" fmla="*/ 1241280 w 124092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737" h="2502">
                  <a:moveTo>
                    <a:pt x="689" y="67"/>
                  </a:moveTo>
                  <a:lnTo>
                    <a:pt x="656" y="56"/>
                  </a:lnTo>
                  <a:lnTo>
                    <a:pt x="597" y="39"/>
                  </a:lnTo>
                  <a:lnTo>
                    <a:pt x="535" y="25"/>
                  </a:lnTo>
                  <a:lnTo>
                    <a:pt x="474" y="14"/>
                  </a:lnTo>
                  <a:lnTo>
                    <a:pt x="412" y="6"/>
                  </a:lnTo>
                  <a:lnTo>
                    <a:pt x="349" y="2"/>
                  </a:lnTo>
                  <a:lnTo>
                    <a:pt x="307" y="0"/>
                  </a:lnTo>
                  <a:lnTo>
                    <a:pt x="307" y="2"/>
                  </a:lnTo>
                  <a:lnTo>
                    <a:pt x="305" y="4"/>
                  </a:lnTo>
                  <a:lnTo>
                    <a:pt x="305" y="4"/>
                  </a:lnTo>
                  <a:lnTo>
                    <a:pt x="305" y="6"/>
                  </a:lnTo>
                  <a:lnTo>
                    <a:pt x="303" y="8"/>
                  </a:lnTo>
                  <a:lnTo>
                    <a:pt x="303" y="8"/>
                  </a:lnTo>
                  <a:lnTo>
                    <a:pt x="303" y="10"/>
                  </a:lnTo>
                  <a:lnTo>
                    <a:pt x="301" y="12"/>
                  </a:lnTo>
                  <a:lnTo>
                    <a:pt x="347" y="12"/>
                  </a:lnTo>
                  <a:lnTo>
                    <a:pt x="410" y="18"/>
                  </a:lnTo>
                  <a:lnTo>
                    <a:pt x="472" y="25"/>
                  </a:lnTo>
                  <a:lnTo>
                    <a:pt x="533" y="37"/>
                  </a:lnTo>
                  <a:lnTo>
                    <a:pt x="595" y="50"/>
                  </a:lnTo>
                  <a:lnTo>
                    <a:pt x="652" y="65"/>
                  </a:lnTo>
                  <a:lnTo>
                    <a:pt x="685" y="77"/>
                  </a:lnTo>
                  <a:lnTo>
                    <a:pt x="685" y="75"/>
                  </a:lnTo>
                  <a:lnTo>
                    <a:pt x="685" y="75"/>
                  </a:lnTo>
                  <a:lnTo>
                    <a:pt x="687" y="73"/>
                  </a:lnTo>
                  <a:lnTo>
                    <a:pt x="687" y="73"/>
                  </a:lnTo>
                  <a:lnTo>
                    <a:pt x="687" y="71"/>
                  </a:lnTo>
                  <a:lnTo>
                    <a:pt x="689" y="69"/>
                  </a:lnTo>
                  <a:lnTo>
                    <a:pt x="689" y="69"/>
                  </a:lnTo>
                  <a:lnTo>
                    <a:pt x="689" y="67"/>
                  </a:lnTo>
                  <a:close/>
                  <a:moveTo>
                    <a:pt x="2" y="2470"/>
                  </a:moveTo>
                  <a:lnTo>
                    <a:pt x="32" y="2475"/>
                  </a:lnTo>
                  <a:lnTo>
                    <a:pt x="94" y="2487"/>
                  </a:lnTo>
                  <a:lnTo>
                    <a:pt x="155" y="2495"/>
                  </a:lnTo>
                  <a:lnTo>
                    <a:pt x="220" y="2500"/>
                  </a:lnTo>
                  <a:lnTo>
                    <a:pt x="284" y="2502"/>
                  </a:lnTo>
                  <a:lnTo>
                    <a:pt x="349" y="2500"/>
                  </a:lnTo>
                  <a:lnTo>
                    <a:pt x="412" y="2495"/>
                  </a:lnTo>
                  <a:lnTo>
                    <a:pt x="474" y="2487"/>
                  </a:lnTo>
                  <a:lnTo>
                    <a:pt x="535" y="2475"/>
                  </a:lnTo>
                  <a:lnTo>
                    <a:pt x="597" y="2462"/>
                  </a:lnTo>
                  <a:lnTo>
                    <a:pt x="656" y="2445"/>
                  </a:lnTo>
                  <a:lnTo>
                    <a:pt x="714" y="2425"/>
                  </a:lnTo>
                  <a:lnTo>
                    <a:pt x="737" y="2418"/>
                  </a:lnTo>
                  <a:lnTo>
                    <a:pt x="731" y="2408"/>
                  </a:lnTo>
                  <a:lnTo>
                    <a:pt x="710" y="2416"/>
                  </a:lnTo>
                  <a:lnTo>
                    <a:pt x="652" y="2435"/>
                  </a:lnTo>
                  <a:lnTo>
                    <a:pt x="595" y="2452"/>
                  </a:lnTo>
                  <a:lnTo>
                    <a:pt x="533" y="2466"/>
                  </a:lnTo>
                  <a:lnTo>
                    <a:pt x="472" y="2477"/>
                  </a:lnTo>
                  <a:lnTo>
                    <a:pt x="410" y="2485"/>
                  </a:lnTo>
                  <a:lnTo>
                    <a:pt x="347" y="2489"/>
                  </a:lnTo>
                  <a:lnTo>
                    <a:pt x="284" y="2491"/>
                  </a:lnTo>
                  <a:lnTo>
                    <a:pt x="220" y="2489"/>
                  </a:lnTo>
                  <a:lnTo>
                    <a:pt x="157" y="2485"/>
                  </a:lnTo>
                  <a:lnTo>
                    <a:pt x="96" y="2477"/>
                  </a:lnTo>
                  <a:lnTo>
                    <a:pt x="34" y="2466"/>
                  </a:lnTo>
                  <a:lnTo>
                    <a:pt x="0" y="2458"/>
                  </a:lnTo>
                  <a:lnTo>
                    <a:pt x="0" y="2460"/>
                  </a:lnTo>
                  <a:lnTo>
                    <a:pt x="0" y="2460"/>
                  </a:lnTo>
                  <a:lnTo>
                    <a:pt x="0" y="2462"/>
                  </a:lnTo>
                  <a:lnTo>
                    <a:pt x="0" y="2464"/>
                  </a:lnTo>
                  <a:lnTo>
                    <a:pt x="0" y="2464"/>
                  </a:lnTo>
                  <a:lnTo>
                    <a:pt x="2" y="2466"/>
                  </a:lnTo>
                  <a:lnTo>
                    <a:pt x="2" y="2468"/>
                  </a:lnTo>
                  <a:lnTo>
                    <a:pt x="2" y="2470"/>
                  </a:lnTo>
                  <a:close/>
                </a:path>
              </a:pathLst>
            </a:custGeom>
            <a:solidFill>
              <a:srgbClr val="15a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Freeform 294"/>
            <p:cNvSpPr/>
            <p:nvPr/>
          </p:nvSpPr>
          <p:spPr>
            <a:xfrm>
              <a:off x="6000480" y="1166760"/>
              <a:ext cx="1237680" cy="4192560"/>
            </a:xfrm>
            <a:custGeom>
              <a:avLst/>
              <a:gdLst>
                <a:gd name="textAreaLeft" fmla="*/ 0 w 1237680"/>
                <a:gd name="textAreaRight" fmla="*/ 1238040 w 1237680"/>
                <a:gd name="textAreaTop" fmla="*/ 0 h 4192560"/>
                <a:gd name="textAreaBottom" fmla="*/ 4192920 h 4192560"/>
              </a:gdLst>
              <a:ahLst/>
              <a:rect l="textAreaLeft" t="textAreaTop" r="textAreaRight" b="textAreaBottom"/>
              <a:pathLst>
                <a:path w="735" h="2490">
                  <a:moveTo>
                    <a:pt x="689" y="67"/>
                  </a:moveTo>
                  <a:lnTo>
                    <a:pt x="656" y="56"/>
                  </a:lnTo>
                  <a:lnTo>
                    <a:pt x="597" y="38"/>
                  </a:lnTo>
                  <a:lnTo>
                    <a:pt x="537" y="25"/>
                  </a:lnTo>
                  <a:lnTo>
                    <a:pt x="476" y="13"/>
                  </a:lnTo>
                  <a:lnTo>
                    <a:pt x="412" y="6"/>
                  </a:lnTo>
                  <a:lnTo>
                    <a:pt x="349" y="0"/>
                  </a:lnTo>
                  <a:lnTo>
                    <a:pt x="307" y="0"/>
                  </a:lnTo>
                  <a:lnTo>
                    <a:pt x="305" y="2"/>
                  </a:lnTo>
                  <a:lnTo>
                    <a:pt x="305" y="2"/>
                  </a:lnTo>
                  <a:lnTo>
                    <a:pt x="305" y="4"/>
                  </a:lnTo>
                  <a:lnTo>
                    <a:pt x="303" y="6"/>
                  </a:lnTo>
                  <a:lnTo>
                    <a:pt x="303" y="6"/>
                  </a:lnTo>
                  <a:lnTo>
                    <a:pt x="303" y="8"/>
                  </a:lnTo>
                  <a:lnTo>
                    <a:pt x="301" y="10"/>
                  </a:lnTo>
                  <a:lnTo>
                    <a:pt x="301" y="10"/>
                  </a:lnTo>
                  <a:lnTo>
                    <a:pt x="349" y="12"/>
                  </a:lnTo>
                  <a:lnTo>
                    <a:pt x="412" y="17"/>
                  </a:lnTo>
                  <a:lnTo>
                    <a:pt x="474" y="25"/>
                  </a:lnTo>
                  <a:lnTo>
                    <a:pt x="535" y="35"/>
                  </a:lnTo>
                  <a:lnTo>
                    <a:pt x="595" y="48"/>
                  </a:lnTo>
                  <a:lnTo>
                    <a:pt x="652" y="65"/>
                  </a:lnTo>
                  <a:lnTo>
                    <a:pt x="683" y="77"/>
                  </a:lnTo>
                  <a:lnTo>
                    <a:pt x="685" y="75"/>
                  </a:lnTo>
                  <a:lnTo>
                    <a:pt x="685" y="73"/>
                  </a:lnTo>
                  <a:lnTo>
                    <a:pt x="685" y="73"/>
                  </a:lnTo>
                  <a:lnTo>
                    <a:pt x="687" y="71"/>
                  </a:lnTo>
                  <a:lnTo>
                    <a:pt x="687" y="69"/>
                  </a:lnTo>
                  <a:lnTo>
                    <a:pt x="687" y="69"/>
                  </a:lnTo>
                  <a:lnTo>
                    <a:pt x="689" y="67"/>
                  </a:lnTo>
                  <a:lnTo>
                    <a:pt x="689" y="67"/>
                  </a:lnTo>
                  <a:close/>
                  <a:moveTo>
                    <a:pt x="2" y="2458"/>
                  </a:moveTo>
                  <a:lnTo>
                    <a:pt x="34" y="2466"/>
                  </a:lnTo>
                  <a:lnTo>
                    <a:pt x="96" y="2475"/>
                  </a:lnTo>
                  <a:lnTo>
                    <a:pt x="159" y="2485"/>
                  </a:lnTo>
                  <a:lnTo>
                    <a:pt x="222" y="2489"/>
                  </a:lnTo>
                  <a:lnTo>
                    <a:pt x="286" y="2490"/>
                  </a:lnTo>
                  <a:lnTo>
                    <a:pt x="349" y="2489"/>
                  </a:lnTo>
                  <a:lnTo>
                    <a:pt x="412" y="2485"/>
                  </a:lnTo>
                  <a:lnTo>
                    <a:pt x="476" y="2475"/>
                  </a:lnTo>
                  <a:lnTo>
                    <a:pt x="537" y="2466"/>
                  </a:lnTo>
                  <a:lnTo>
                    <a:pt x="597" y="2450"/>
                  </a:lnTo>
                  <a:lnTo>
                    <a:pt x="656" y="2435"/>
                  </a:lnTo>
                  <a:lnTo>
                    <a:pt x="714" y="2414"/>
                  </a:lnTo>
                  <a:lnTo>
                    <a:pt x="735" y="2406"/>
                  </a:lnTo>
                  <a:lnTo>
                    <a:pt x="731" y="2396"/>
                  </a:lnTo>
                  <a:lnTo>
                    <a:pt x="710" y="2404"/>
                  </a:lnTo>
                  <a:lnTo>
                    <a:pt x="652" y="2423"/>
                  </a:lnTo>
                  <a:lnTo>
                    <a:pt x="595" y="2441"/>
                  </a:lnTo>
                  <a:lnTo>
                    <a:pt x="535" y="2454"/>
                  </a:lnTo>
                  <a:lnTo>
                    <a:pt x="474" y="2466"/>
                  </a:lnTo>
                  <a:lnTo>
                    <a:pt x="412" y="2473"/>
                  </a:lnTo>
                  <a:lnTo>
                    <a:pt x="349" y="2477"/>
                  </a:lnTo>
                  <a:lnTo>
                    <a:pt x="286" y="2479"/>
                  </a:lnTo>
                  <a:lnTo>
                    <a:pt x="222" y="2477"/>
                  </a:lnTo>
                  <a:lnTo>
                    <a:pt x="159" y="2473"/>
                  </a:lnTo>
                  <a:lnTo>
                    <a:pt x="98" y="2466"/>
                  </a:lnTo>
                  <a:lnTo>
                    <a:pt x="36" y="2454"/>
                  </a:lnTo>
                  <a:lnTo>
                    <a:pt x="0" y="2446"/>
                  </a:lnTo>
                  <a:lnTo>
                    <a:pt x="0" y="2448"/>
                  </a:lnTo>
                  <a:lnTo>
                    <a:pt x="2" y="2448"/>
                  </a:lnTo>
                  <a:lnTo>
                    <a:pt x="2" y="2450"/>
                  </a:lnTo>
                  <a:lnTo>
                    <a:pt x="2" y="2452"/>
                  </a:lnTo>
                  <a:lnTo>
                    <a:pt x="2" y="2454"/>
                  </a:lnTo>
                  <a:lnTo>
                    <a:pt x="2" y="2454"/>
                  </a:lnTo>
                  <a:lnTo>
                    <a:pt x="2" y="2456"/>
                  </a:lnTo>
                  <a:lnTo>
                    <a:pt x="2" y="2458"/>
                  </a:lnTo>
                  <a:close/>
                </a:path>
              </a:pathLst>
            </a:custGeom>
            <a:solidFill>
              <a:srgbClr val="16a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Freeform 295"/>
            <p:cNvSpPr/>
            <p:nvPr/>
          </p:nvSpPr>
          <p:spPr>
            <a:xfrm>
              <a:off x="6000480" y="1177200"/>
              <a:ext cx="1234080" cy="4173840"/>
            </a:xfrm>
            <a:custGeom>
              <a:avLst/>
              <a:gdLst>
                <a:gd name="textAreaLeft" fmla="*/ 0 w 1234080"/>
                <a:gd name="textAreaRight" fmla="*/ 1234440 w 1234080"/>
                <a:gd name="textAreaTop" fmla="*/ 0 h 4173840"/>
                <a:gd name="textAreaBottom" fmla="*/ 4174200 h 4173840"/>
              </a:gdLst>
              <a:ahLst/>
              <a:rect l="textAreaLeft" t="textAreaTop" r="textAreaRight" b="textAreaBottom"/>
              <a:pathLst>
                <a:path w="733" h="2479">
                  <a:moveTo>
                    <a:pt x="687" y="65"/>
                  </a:moveTo>
                  <a:lnTo>
                    <a:pt x="654" y="53"/>
                  </a:lnTo>
                  <a:lnTo>
                    <a:pt x="597" y="38"/>
                  </a:lnTo>
                  <a:lnTo>
                    <a:pt x="535" y="25"/>
                  </a:lnTo>
                  <a:lnTo>
                    <a:pt x="474" y="13"/>
                  </a:lnTo>
                  <a:lnTo>
                    <a:pt x="412" y="6"/>
                  </a:lnTo>
                  <a:lnTo>
                    <a:pt x="349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3" y="2"/>
                  </a:lnTo>
                  <a:lnTo>
                    <a:pt x="301" y="4"/>
                  </a:lnTo>
                  <a:lnTo>
                    <a:pt x="301" y="4"/>
                  </a:lnTo>
                  <a:lnTo>
                    <a:pt x="301" y="6"/>
                  </a:lnTo>
                  <a:lnTo>
                    <a:pt x="299" y="7"/>
                  </a:lnTo>
                  <a:lnTo>
                    <a:pt x="299" y="7"/>
                  </a:lnTo>
                  <a:lnTo>
                    <a:pt x="299" y="9"/>
                  </a:lnTo>
                  <a:lnTo>
                    <a:pt x="349" y="11"/>
                  </a:lnTo>
                  <a:lnTo>
                    <a:pt x="412" y="15"/>
                  </a:lnTo>
                  <a:lnTo>
                    <a:pt x="474" y="23"/>
                  </a:lnTo>
                  <a:lnTo>
                    <a:pt x="533" y="34"/>
                  </a:lnTo>
                  <a:lnTo>
                    <a:pt x="593" y="48"/>
                  </a:lnTo>
                  <a:lnTo>
                    <a:pt x="652" y="65"/>
                  </a:lnTo>
                  <a:lnTo>
                    <a:pt x="681" y="75"/>
                  </a:lnTo>
                  <a:lnTo>
                    <a:pt x="683" y="73"/>
                  </a:lnTo>
                  <a:lnTo>
                    <a:pt x="683" y="73"/>
                  </a:lnTo>
                  <a:lnTo>
                    <a:pt x="683" y="71"/>
                  </a:lnTo>
                  <a:lnTo>
                    <a:pt x="683" y="71"/>
                  </a:lnTo>
                  <a:lnTo>
                    <a:pt x="685" y="69"/>
                  </a:lnTo>
                  <a:lnTo>
                    <a:pt x="685" y="67"/>
                  </a:lnTo>
                  <a:lnTo>
                    <a:pt x="685" y="67"/>
                  </a:lnTo>
                  <a:lnTo>
                    <a:pt x="687" y="65"/>
                  </a:lnTo>
                  <a:close/>
                  <a:moveTo>
                    <a:pt x="2" y="2446"/>
                  </a:moveTo>
                  <a:lnTo>
                    <a:pt x="36" y="2454"/>
                  </a:lnTo>
                  <a:lnTo>
                    <a:pt x="98" y="2465"/>
                  </a:lnTo>
                  <a:lnTo>
                    <a:pt x="159" y="2473"/>
                  </a:lnTo>
                  <a:lnTo>
                    <a:pt x="222" y="2477"/>
                  </a:lnTo>
                  <a:lnTo>
                    <a:pt x="286" y="2479"/>
                  </a:lnTo>
                  <a:lnTo>
                    <a:pt x="349" y="2477"/>
                  </a:lnTo>
                  <a:lnTo>
                    <a:pt x="412" y="2473"/>
                  </a:lnTo>
                  <a:lnTo>
                    <a:pt x="474" y="2465"/>
                  </a:lnTo>
                  <a:lnTo>
                    <a:pt x="535" y="2454"/>
                  </a:lnTo>
                  <a:lnTo>
                    <a:pt x="597" y="2440"/>
                  </a:lnTo>
                  <a:lnTo>
                    <a:pt x="654" y="2423"/>
                  </a:lnTo>
                  <a:lnTo>
                    <a:pt x="712" y="2404"/>
                  </a:lnTo>
                  <a:lnTo>
                    <a:pt x="733" y="2396"/>
                  </a:lnTo>
                  <a:lnTo>
                    <a:pt x="729" y="2387"/>
                  </a:lnTo>
                  <a:lnTo>
                    <a:pt x="708" y="2394"/>
                  </a:lnTo>
                  <a:lnTo>
                    <a:pt x="652" y="2413"/>
                  </a:lnTo>
                  <a:lnTo>
                    <a:pt x="593" y="2429"/>
                  </a:lnTo>
                  <a:lnTo>
                    <a:pt x="533" y="2444"/>
                  </a:lnTo>
                  <a:lnTo>
                    <a:pt x="474" y="2454"/>
                  </a:lnTo>
                  <a:lnTo>
                    <a:pt x="412" y="2461"/>
                  </a:lnTo>
                  <a:lnTo>
                    <a:pt x="349" y="2467"/>
                  </a:lnTo>
                  <a:lnTo>
                    <a:pt x="286" y="2469"/>
                  </a:lnTo>
                  <a:lnTo>
                    <a:pt x="222" y="2467"/>
                  </a:lnTo>
                  <a:lnTo>
                    <a:pt x="161" y="2461"/>
                  </a:lnTo>
                  <a:lnTo>
                    <a:pt x="100" y="2454"/>
                  </a:lnTo>
                  <a:lnTo>
                    <a:pt x="38" y="2444"/>
                  </a:lnTo>
                  <a:lnTo>
                    <a:pt x="0" y="2435"/>
                  </a:lnTo>
                  <a:lnTo>
                    <a:pt x="0" y="2436"/>
                  </a:lnTo>
                  <a:lnTo>
                    <a:pt x="0" y="2436"/>
                  </a:lnTo>
                  <a:lnTo>
                    <a:pt x="0" y="2438"/>
                  </a:lnTo>
                  <a:lnTo>
                    <a:pt x="0" y="2440"/>
                  </a:lnTo>
                  <a:lnTo>
                    <a:pt x="0" y="2442"/>
                  </a:lnTo>
                  <a:lnTo>
                    <a:pt x="2" y="2442"/>
                  </a:lnTo>
                  <a:lnTo>
                    <a:pt x="2" y="2444"/>
                  </a:lnTo>
                  <a:lnTo>
                    <a:pt x="2" y="2446"/>
                  </a:lnTo>
                  <a:close/>
                </a:path>
              </a:pathLst>
            </a:custGeom>
            <a:solidFill>
              <a:srgbClr val="17a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Freeform 296"/>
            <p:cNvSpPr/>
            <p:nvPr/>
          </p:nvSpPr>
          <p:spPr>
            <a:xfrm>
              <a:off x="5996880" y="1183680"/>
              <a:ext cx="1234080" cy="4157640"/>
            </a:xfrm>
            <a:custGeom>
              <a:avLst/>
              <a:gdLst>
                <a:gd name="textAreaLeft" fmla="*/ 0 w 1234080"/>
                <a:gd name="textAreaRight" fmla="*/ 1234440 w 1234080"/>
                <a:gd name="textAreaTop" fmla="*/ 0 h 4157640"/>
                <a:gd name="textAreaBottom" fmla="*/ 4158000 h 4157640"/>
              </a:gdLst>
              <a:ahLst/>
              <a:rect l="textAreaLeft" t="textAreaTop" r="textAreaRight" b="textAreaBottom"/>
              <a:pathLst>
                <a:path w="733" h="2469">
                  <a:moveTo>
                    <a:pt x="685" y="67"/>
                  </a:moveTo>
                  <a:lnTo>
                    <a:pt x="654" y="55"/>
                  </a:lnTo>
                  <a:lnTo>
                    <a:pt x="597" y="38"/>
                  </a:lnTo>
                  <a:lnTo>
                    <a:pt x="537" y="25"/>
                  </a:lnTo>
                  <a:lnTo>
                    <a:pt x="476" y="15"/>
                  </a:lnTo>
                  <a:lnTo>
                    <a:pt x="414" y="7"/>
                  </a:lnTo>
                  <a:lnTo>
                    <a:pt x="351" y="2"/>
                  </a:lnTo>
                  <a:lnTo>
                    <a:pt x="303" y="0"/>
                  </a:lnTo>
                  <a:lnTo>
                    <a:pt x="303" y="2"/>
                  </a:lnTo>
                  <a:lnTo>
                    <a:pt x="301" y="3"/>
                  </a:lnTo>
                  <a:lnTo>
                    <a:pt x="301" y="3"/>
                  </a:lnTo>
                  <a:lnTo>
                    <a:pt x="301" y="5"/>
                  </a:lnTo>
                  <a:lnTo>
                    <a:pt x="299" y="7"/>
                  </a:lnTo>
                  <a:lnTo>
                    <a:pt x="299" y="9"/>
                  </a:lnTo>
                  <a:lnTo>
                    <a:pt x="299" y="9"/>
                  </a:lnTo>
                  <a:lnTo>
                    <a:pt x="299" y="11"/>
                  </a:lnTo>
                  <a:lnTo>
                    <a:pt x="351" y="13"/>
                  </a:lnTo>
                  <a:lnTo>
                    <a:pt x="412" y="17"/>
                  </a:lnTo>
                  <a:lnTo>
                    <a:pt x="474" y="25"/>
                  </a:lnTo>
                  <a:lnTo>
                    <a:pt x="535" y="36"/>
                  </a:lnTo>
                  <a:lnTo>
                    <a:pt x="593" y="49"/>
                  </a:lnTo>
                  <a:lnTo>
                    <a:pt x="652" y="65"/>
                  </a:lnTo>
                  <a:lnTo>
                    <a:pt x="681" y="76"/>
                  </a:lnTo>
                  <a:lnTo>
                    <a:pt x="681" y="74"/>
                  </a:lnTo>
                  <a:lnTo>
                    <a:pt x="683" y="73"/>
                  </a:lnTo>
                  <a:lnTo>
                    <a:pt x="683" y="73"/>
                  </a:lnTo>
                  <a:lnTo>
                    <a:pt x="683" y="71"/>
                  </a:lnTo>
                  <a:lnTo>
                    <a:pt x="685" y="69"/>
                  </a:lnTo>
                  <a:lnTo>
                    <a:pt x="685" y="69"/>
                  </a:lnTo>
                  <a:lnTo>
                    <a:pt x="685" y="67"/>
                  </a:lnTo>
                  <a:lnTo>
                    <a:pt x="685" y="67"/>
                  </a:lnTo>
                  <a:close/>
                  <a:moveTo>
                    <a:pt x="2" y="2436"/>
                  </a:moveTo>
                  <a:lnTo>
                    <a:pt x="38" y="2444"/>
                  </a:lnTo>
                  <a:lnTo>
                    <a:pt x="100" y="2456"/>
                  </a:lnTo>
                  <a:lnTo>
                    <a:pt x="161" y="2463"/>
                  </a:lnTo>
                  <a:lnTo>
                    <a:pt x="224" y="2467"/>
                  </a:lnTo>
                  <a:lnTo>
                    <a:pt x="288" y="2469"/>
                  </a:lnTo>
                  <a:lnTo>
                    <a:pt x="351" y="2467"/>
                  </a:lnTo>
                  <a:lnTo>
                    <a:pt x="414" y="2463"/>
                  </a:lnTo>
                  <a:lnTo>
                    <a:pt x="476" y="2456"/>
                  </a:lnTo>
                  <a:lnTo>
                    <a:pt x="537" y="2444"/>
                  </a:lnTo>
                  <a:lnTo>
                    <a:pt x="597" y="2431"/>
                  </a:lnTo>
                  <a:lnTo>
                    <a:pt x="654" y="2413"/>
                  </a:lnTo>
                  <a:lnTo>
                    <a:pt x="712" y="2394"/>
                  </a:lnTo>
                  <a:lnTo>
                    <a:pt x="733" y="2386"/>
                  </a:lnTo>
                  <a:lnTo>
                    <a:pt x="729" y="2377"/>
                  </a:lnTo>
                  <a:lnTo>
                    <a:pt x="708" y="2385"/>
                  </a:lnTo>
                  <a:lnTo>
                    <a:pt x="652" y="2404"/>
                  </a:lnTo>
                  <a:lnTo>
                    <a:pt x="593" y="2421"/>
                  </a:lnTo>
                  <a:lnTo>
                    <a:pt x="535" y="2434"/>
                  </a:lnTo>
                  <a:lnTo>
                    <a:pt x="474" y="2444"/>
                  </a:lnTo>
                  <a:lnTo>
                    <a:pt x="412" y="2452"/>
                  </a:lnTo>
                  <a:lnTo>
                    <a:pt x="351" y="2457"/>
                  </a:lnTo>
                  <a:lnTo>
                    <a:pt x="288" y="2459"/>
                  </a:lnTo>
                  <a:lnTo>
                    <a:pt x="224" y="2457"/>
                  </a:lnTo>
                  <a:lnTo>
                    <a:pt x="163" y="2452"/>
                  </a:lnTo>
                  <a:lnTo>
                    <a:pt x="102" y="2444"/>
                  </a:lnTo>
                  <a:lnTo>
                    <a:pt x="42" y="2434"/>
                  </a:lnTo>
                  <a:lnTo>
                    <a:pt x="0" y="2425"/>
                  </a:lnTo>
                  <a:lnTo>
                    <a:pt x="0" y="2427"/>
                  </a:lnTo>
                  <a:lnTo>
                    <a:pt x="0" y="2427"/>
                  </a:lnTo>
                  <a:lnTo>
                    <a:pt x="2" y="2429"/>
                  </a:lnTo>
                  <a:lnTo>
                    <a:pt x="2" y="2431"/>
                  </a:lnTo>
                  <a:lnTo>
                    <a:pt x="2" y="2432"/>
                  </a:lnTo>
                  <a:lnTo>
                    <a:pt x="2" y="2432"/>
                  </a:lnTo>
                  <a:lnTo>
                    <a:pt x="2" y="2434"/>
                  </a:lnTo>
                  <a:lnTo>
                    <a:pt x="2" y="2436"/>
                  </a:lnTo>
                  <a:close/>
                </a:path>
              </a:pathLst>
            </a:custGeom>
            <a:solidFill>
              <a:srgbClr val="18a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Freeform 297"/>
            <p:cNvSpPr/>
            <p:nvPr/>
          </p:nvSpPr>
          <p:spPr>
            <a:xfrm>
              <a:off x="5996880" y="1191960"/>
              <a:ext cx="1230840" cy="4142160"/>
            </a:xfrm>
            <a:custGeom>
              <a:avLst/>
              <a:gdLst>
                <a:gd name="textAreaLeft" fmla="*/ 0 w 1230840"/>
                <a:gd name="textAreaRight" fmla="*/ 1231200 w 1230840"/>
                <a:gd name="textAreaTop" fmla="*/ 0 h 4142160"/>
                <a:gd name="textAreaBottom" fmla="*/ 4142520 h 4142160"/>
              </a:gdLst>
              <a:ahLst/>
              <a:rect l="textAreaLeft" t="textAreaTop" r="textAreaRight" b="textAreaBottom"/>
              <a:pathLst>
                <a:path w="731" h="2460">
                  <a:moveTo>
                    <a:pt x="683" y="66"/>
                  </a:moveTo>
                  <a:lnTo>
                    <a:pt x="654" y="56"/>
                  </a:lnTo>
                  <a:lnTo>
                    <a:pt x="595" y="39"/>
                  </a:lnTo>
                  <a:lnTo>
                    <a:pt x="535" y="25"/>
                  </a:lnTo>
                  <a:lnTo>
                    <a:pt x="476" y="14"/>
                  </a:lnTo>
                  <a:lnTo>
                    <a:pt x="414" y="6"/>
                  </a:lnTo>
                  <a:lnTo>
                    <a:pt x="351" y="2"/>
                  </a:lnTo>
                  <a:lnTo>
                    <a:pt x="301" y="0"/>
                  </a:lnTo>
                  <a:lnTo>
                    <a:pt x="299" y="2"/>
                  </a:lnTo>
                  <a:lnTo>
                    <a:pt x="299" y="4"/>
                  </a:lnTo>
                  <a:lnTo>
                    <a:pt x="299" y="4"/>
                  </a:lnTo>
                  <a:lnTo>
                    <a:pt x="299" y="6"/>
                  </a:lnTo>
                  <a:lnTo>
                    <a:pt x="297" y="8"/>
                  </a:lnTo>
                  <a:lnTo>
                    <a:pt x="297" y="8"/>
                  </a:lnTo>
                  <a:lnTo>
                    <a:pt x="297" y="10"/>
                  </a:lnTo>
                  <a:lnTo>
                    <a:pt x="295" y="12"/>
                  </a:lnTo>
                  <a:lnTo>
                    <a:pt x="351" y="12"/>
                  </a:lnTo>
                  <a:lnTo>
                    <a:pt x="412" y="18"/>
                  </a:lnTo>
                  <a:lnTo>
                    <a:pt x="474" y="25"/>
                  </a:lnTo>
                  <a:lnTo>
                    <a:pt x="533" y="35"/>
                  </a:lnTo>
                  <a:lnTo>
                    <a:pt x="593" y="50"/>
                  </a:lnTo>
                  <a:lnTo>
                    <a:pt x="650" y="66"/>
                  </a:lnTo>
                  <a:lnTo>
                    <a:pt x="679" y="75"/>
                  </a:lnTo>
                  <a:lnTo>
                    <a:pt x="679" y="73"/>
                  </a:lnTo>
                  <a:lnTo>
                    <a:pt x="679" y="73"/>
                  </a:lnTo>
                  <a:lnTo>
                    <a:pt x="681" y="71"/>
                  </a:lnTo>
                  <a:lnTo>
                    <a:pt x="681" y="71"/>
                  </a:lnTo>
                  <a:lnTo>
                    <a:pt x="681" y="69"/>
                  </a:lnTo>
                  <a:lnTo>
                    <a:pt x="683" y="68"/>
                  </a:lnTo>
                  <a:lnTo>
                    <a:pt x="683" y="68"/>
                  </a:lnTo>
                  <a:lnTo>
                    <a:pt x="683" y="66"/>
                  </a:lnTo>
                  <a:close/>
                  <a:moveTo>
                    <a:pt x="2" y="2426"/>
                  </a:moveTo>
                  <a:lnTo>
                    <a:pt x="40" y="2435"/>
                  </a:lnTo>
                  <a:lnTo>
                    <a:pt x="102" y="2445"/>
                  </a:lnTo>
                  <a:lnTo>
                    <a:pt x="163" y="2452"/>
                  </a:lnTo>
                  <a:lnTo>
                    <a:pt x="224" y="2458"/>
                  </a:lnTo>
                  <a:lnTo>
                    <a:pt x="288" y="2460"/>
                  </a:lnTo>
                  <a:lnTo>
                    <a:pt x="351" y="2458"/>
                  </a:lnTo>
                  <a:lnTo>
                    <a:pt x="414" y="2452"/>
                  </a:lnTo>
                  <a:lnTo>
                    <a:pt x="476" y="2445"/>
                  </a:lnTo>
                  <a:lnTo>
                    <a:pt x="535" y="2435"/>
                  </a:lnTo>
                  <a:lnTo>
                    <a:pt x="595" y="2420"/>
                  </a:lnTo>
                  <a:lnTo>
                    <a:pt x="654" y="2404"/>
                  </a:lnTo>
                  <a:lnTo>
                    <a:pt x="710" y="2385"/>
                  </a:lnTo>
                  <a:lnTo>
                    <a:pt x="731" y="2378"/>
                  </a:lnTo>
                  <a:lnTo>
                    <a:pt x="725" y="2366"/>
                  </a:lnTo>
                  <a:lnTo>
                    <a:pt x="706" y="2374"/>
                  </a:lnTo>
                  <a:lnTo>
                    <a:pt x="650" y="2393"/>
                  </a:lnTo>
                  <a:lnTo>
                    <a:pt x="593" y="2410"/>
                  </a:lnTo>
                  <a:lnTo>
                    <a:pt x="533" y="2424"/>
                  </a:lnTo>
                  <a:lnTo>
                    <a:pt x="474" y="2435"/>
                  </a:lnTo>
                  <a:lnTo>
                    <a:pt x="412" y="2443"/>
                  </a:lnTo>
                  <a:lnTo>
                    <a:pt x="351" y="2447"/>
                  </a:lnTo>
                  <a:lnTo>
                    <a:pt x="288" y="2449"/>
                  </a:lnTo>
                  <a:lnTo>
                    <a:pt x="224" y="2447"/>
                  </a:lnTo>
                  <a:lnTo>
                    <a:pt x="163" y="2443"/>
                  </a:lnTo>
                  <a:lnTo>
                    <a:pt x="102" y="2435"/>
                  </a:lnTo>
                  <a:lnTo>
                    <a:pt x="42" y="2424"/>
                  </a:lnTo>
                  <a:lnTo>
                    <a:pt x="0" y="2414"/>
                  </a:lnTo>
                  <a:lnTo>
                    <a:pt x="0" y="2416"/>
                  </a:lnTo>
                  <a:lnTo>
                    <a:pt x="0" y="2416"/>
                  </a:lnTo>
                  <a:lnTo>
                    <a:pt x="0" y="2418"/>
                  </a:lnTo>
                  <a:lnTo>
                    <a:pt x="0" y="2420"/>
                  </a:lnTo>
                  <a:lnTo>
                    <a:pt x="0" y="2422"/>
                  </a:lnTo>
                  <a:lnTo>
                    <a:pt x="2" y="2422"/>
                  </a:lnTo>
                  <a:lnTo>
                    <a:pt x="2" y="2424"/>
                  </a:lnTo>
                  <a:lnTo>
                    <a:pt x="2" y="2426"/>
                  </a:lnTo>
                  <a:close/>
                </a:path>
              </a:pathLst>
            </a:custGeom>
            <a:solidFill>
              <a:srgbClr val="19a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Freeform 298"/>
            <p:cNvSpPr/>
            <p:nvPr/>
          </p:nvSpPr>
          <p:spPr>
            <a:xfrm>
              <a:off x="5993640" y="1202400"/>
              <a:ext cx="1230840" cy="4122000"/>
            </a:xfrm>
            <a:custGeom>
              <a:avLst/>
              <a:gdLst>
                <a:gd name="textAreaLeft" fmla="*/ 0 w 1230840"/>
                <a:gd name="textAreaRight" fmla="*/ 1231200 w 1230840"/>
                <a:gd name="textAreaTop" fmla="*/ 0 h 4122000"/>
                <a:gd name="textAreaBottom" fmla="*/ 4122360 h 4122000"/>
              </a:gdLst>
              <a:ahLst/>
              <a:rect l="textAreaLeft" t="textAreaTop" r="textAreaRight" b="textAreaBottom"/>
              <a:pathLst>
                <a:path w="731" h="2448">
                  <a:moveTo>
                    <a:pt x="683" y="65"/>
                  </a:moveTo>
                  <a:lnTo>
                    <a:pt x="654" y="54"/>
                  </a:lnTo>
                  <a:lnTo>
                    <a:pt x="595" y="38"/>
                  </a:lnTo>
                  <a:lnTo>
                    <a:pt x="537" y="25"/>
                  </a:lnTo>
                  <a:lnTo>
                    <a:pt x="476" y="14"/>
                  </a:lnTo>
                  <a:lnTo>
                    <a:pt x="414" y="6"/>
                  </a:lnTo>
                  <a:lnTo>
                    <a:pt x="353" y="2"/>
                  </a:lnTo>
                  <a:lnTo>
                    <a:pt x="301" y="0"/>
                  </a:lnTo>
                  <a:lnTo>
                    <a:pt x="299" y="2"/>
                  </a:lnTo>
                  <a:lnTo>
                    <a:pt x="299" y="2"/>
                  </a:lnTo>
                  <a:lnTo>
                    <a:pt x="299" y="4"/>
                  </a:lnTo>
                  <a:lnTo>
                    <a:pt x="297" y="6"/>
                  </a:lnTo>
                  <a:lnTo>
                    <a:pt x="297" y="6"/>
                  </a:lnTo>
                  <a:lnTo>
                    <a:pt x="297" y="8"/>
                  </a:lnTo>
                  <a:lnTo>
                    <a:pt x="295" y="10"/>
                  </a:lnTo>
                  <a:lnTo>
                    <a:pt x="295" y="10"/>
                  </a:lnTo>
                  <a:lnTo>
                    <a:pt x="353" y="12"/>
                  </a:lnTo>
                  <a:lnTo>
                    <a:pt x="414" y="17"/>
                  </a:lnTo>
                  <a:lnTo>
                    <a:pt x="474" y="25"/>
                  </a:lnTo>
                  <a:lnTo>
                    <a:pt x="535" y="35"/>
                  </a:lnTo>
                  <a:lnTo>
                    <a:pt x="593" y="48"/>
                  </a:lnTo>
                  <a:lnTo>
                    <a:pt x="651" y="65"/>
                  </a:lnTo>
                  <a:lnTo>
                    <a:pt x="679" y="75"/>
                  </a:lnTo>
                  <a:lnTo>
                    <a:pt x="679" y="73"/>
                  </a:lnTo>
                  <a:lnTo>
                    <a:pt x="679" y="71"/>
                  </a:lnTo>
                  <a:lnTo>
                    <a:pt x="679" y="71"/>
                  </a:lnTo>
                  <a:lnTo>
                    <a:pt x="681" y="69"/>
                  </a:lnTo>
                  <a:lnTo>
                    <a:pt x="681" y="67"/>
                  </a:lnTo>
                  <a:lnTo>
                    <a:pt x="681" y="67"/>
                  </a:lnTo>
                  <a:lnTo>
                    <a:pt x="683" y="65"/>
                  </a:lnTo>
                  <a:lnTo>
                    <a:pt x="683" y="65"/>
                  </a:lnTo>
                  <a:close/>
                  <a:moveTo>
                    <a:pt x="2" y="2414"/>
                  </a:moveTo>
                  <a:lnTo>
                    <a:pt x="44" y="2423"/>
                  </a:lnTo>
                  <a:lnTo>
                    <a:pt x="104" y="2433"/>
                  </a:lnTo>
                  <a:lnTo>
                    <a:pt x="165" y="2441"/>
                  </a:lnTo>
                  <a:lnTo>
                    <a:pt x="226" y="2446"/>
                  </a:lnTo>
                  <a:lnTo>
                    <a:pt x="290" y="2448"/>
                  </a:lnTo>
                  <a:lnTo>
                    <a:pt x="353" y="2446"/>
                  </a:lnTo>
                  <a:lnTo>
                    <a:pt x="414" y="2441"/>
                  </a:lnTo>
                  <a:lnTo>
                    <a:pt x="476" y="2433"/>
                  </a:lnTo>
                  <a:lnTo>
                    <a:pt x="537" y="2423"/>
                  </a:lnTo>
                  <a:lnTo>
                    <a:pt x="595" y="2410"/>
                  </a:lnTo>
                  <a:lnTo>
                    <a:pt x="654" y="2393"/>
                  </a:lnTo>
                  <a:lnTo>
                    <a:pt x="710" y="2374"/>
                  </a:lnTo>
                  <a:lnTo>
                    <a:pt x="731" y="2366"/>
                  </a:lnTo>
                  <a:lnTo>
                    <a:pt x="725" y="2356"/>
                  </a:lnTo>
                  <a:lnTo>
                    <a:pt x="706" y="2364"/>
                  </a:lnTo>
                  <a:lnTo>
                    <a:pt x="651" y="2383"/>
                  </a:lnTo>
                  <a:lnTo>
                    <a:pt x="593" y="2398"/>
                  </a:lnTo>
                  <a:lnTo>
                    <a:pt x="535" y="2412"/>
                  </a:lnTo>
                  <a:lnTo>
                    <a:pt x="474" y="2423"/>
                  </a:lnTo>
                  <a:lnTo>
                    <a:pt x="414" y="2431"/>
                  </a:lnTo>
                  <a:lnTo>
                    <a:pt x="353" y="2435"/>
                  </a:lnTo>
                  <a:lnTo>
                    <a:pt x="290" y="2437"/>
                  </a:lnTo>
                  <a:lnTo>
                    <a:pt x="228" y="2435"/>
                  </a:lnTo>
                  <a:lnTo>
                    <a:pt x="165" y="2431"/>
                  </a:lnTo>
                  <a:lnTo>
                    <a:pt x="105" y="2423"/>
                  </a:lnTo>
                  <a:lnTo>
                    <a:pt x="46" y="2412"/>
                  </a:lnTo>
                  <a:lnTo>
                    <a:pt x="0" y="2402"/>
                  </a:lnTo>
                  <a:lnTo>
                    <a:pt x="0" y="2404"/>
                  </a:lnTo>
                  <a:lnTo>
                    <a:pt x="0" y="2404"/>
                  </a:lnTo>
                  <a:lnTo>
                    <a:pt x="2" y="2406"/>
                  </a:lnTo>
                  <a:lnTo>
                    <a:pt x="2" y="2408"/>
                  </a:lnTo>
                  <a:lnTo>
                    <a:pt x="2" y="2410"/>
                  </a:lnTo>
                  <a:lnTo>
                    <a:pt x="2" y="2410"/>
                  </a:lnTo>
                  <a:lnTo>
                    <a:pt x="2" y="2412"/>
                  </a:lnTo>
                  <a:lnTo>
                    <a:pt x="2" y="2414"/>
                  </a:lnTo>
                  <a:close/>
                </a:path>
              </a:pathLst>
            </a:custGeom>
            <a:solidFill>
              <a:srgbClr val="1aa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Freeform 299"/>
            <p:cNvSpPr/>
            <p:nvPr/>
          </p:nvSpPr>
          <p:spPr>
            <a:xfrm>
              <a:off x="5993640" y="1212120"/>
              <a:ext cx="1224360" cy="4103640"/>
            </a:xfrm>
            <a:custGeom>
              <a:avLst/>
              <a:gdLst>
                <a:gd name="textAreaLeft" fmla="*/ 0 w 1224360"/>
                <a:gd name="textAreaRight" fmla="*/ 1224360 w 1224360"/>
                <a:gd name="textAreaTop" fmla="*/ 0 h 4103640"/>
                <a:gd name="textAreaBottom" fmla="*/ 4104000 h 4103640"/>
              </a:gdLst>
              <a:ahLst/>
              <a:rect l="textAreaLeft" t="textAreaTop" r="textAreaRight" b="textAreaBottom"/>
              <a:pathLst>
                <a:path w="727" h="2437">
                  <a:moveTo>
                    <a:pt x="681" y="63"/>
                  </a:moveTo>
                  <a:lnTo>
                    <a:pt x="652" y="54"/>
                  </a:lnTo>
                  <a:lnTo>
                    <a:pt x="595" y="38"/>
                  </a:lnTo>
                  <a:lnTo>
                    <a:pt x="535" y="23"/>
                  </a:lnTo>
                  <a:lnTo>
                    <a:pt x="476" y="13"/>
                  </a:lnTo>
                  <a:lnTo>
                    <a:pt x="414" y="6"/>
                  </a:lnTo>
                  <a:lnTo>
                    <a:pt x="353" y="0"/>
                  </a:lnTo>
                  <a:lnTo>
                    <a:pt x="297" y="0"/>
                  </a:lnTo>
                  <a:lnTo>
                    <a:pt x="297" y="0"/>
                  </a:lnTo>
                  <a:lnTo>
                    <a:pt x="297" y="2"/>
                  </a:lnTo>
                  <a:lnTo>
                    <a:pt x="295" y="4"/>
                  </a:lnTo>
                  <a:lnTo>
                    <a:pt x="295" y="4"/>
                  </a:lnTo>
                  <a:lnTo>
                    <a:pt x="295" y="6"/>
                  </a:lnTo>
                  <a:lnTo>
                    <a:pt x="294" y="8"/>
                  </a:lnTo>
                  <a:lnTo>
                    <a:pt x="294" y="8"/>
                  </a:lnTo>
                  <a:lnTo>
                    <a:pt x="294" y="9"/>
                  </a:lnTo>
                  <a:lnTo>
                    <a:pt x="351" y="11"/>
                  </a:lnTo>
                  <a:lnTo>
                    <a:pt x="413" y="15"/>
                  </a:lnTo>
                  <a:lnTo>
                    <a:pt x="474" y="23"/>
                  </a:lnTo>
                  <a:lnTo>
                    <a:pt x="533" y="34"/>
                  </a:lnTo>
                  <a:lnTo>
                    <a:pt x="591" y="48"/>
                  </a:lnTo>
                  <a:lnTo>
                    <a:pt x="649" y="63"/>
                  </a:lnTo>
                  <a:lnTo>
                    <a:pt x="675" y="73"/>
                  </a:lnTo>
                  <a:lnTo>
                    <a:pt x="677" y="71"/>
                  </a:lnTo>
                  <a:lnTo>
                    <a:pt x="677" y="71"/>
                  </a:lnTo>
                  <a:lnTo>
                    <a:pt x="677" y="69"/>
                  </a:lnTo>
                  <a:lnTo>
                    <a:pt x="679" y="69"/>
                  </a:lnTo>
                  <a:lnTo>
                    <a:pt x="679" y="67"/>
                  </a:lnTo>
                  <a:lnTo>
                    <a:pt x="679" y="65"/>
                  </a:lnTo>
                  <a:lnTo>
                    <a:pt x="679" y="65"/>
                  </a:lnTo>
                  <a:lnTo>
                    <a:pt x="681" y="63"/>
                  </a:lnTo>
                  <a:close/>
                  <a:moveTo>
                    <a:pt x="2" y="2402"/>
                  </a:moveTo>
                  <a:lnTo>
                    <a:pt x="44" y="2412"/>
                  </a:lnTo>
                  <a:lnTo>
                    <a:pt x="104" y="2423"/>
                  </a:lnTo>
                  <a:lnTo>
                    <a:pt x="165" y="2431"/>
                  </a:lnTo>
                  <a:lnTo>
                    <a:pt x="226" y="2435"/>
                  </a:lnTo>
                  <a:lnTo>
                    <a:pt x="290" y="2437"/>
                  </a:lnTo>
                  <a:lnTo>
                    <a:pt x="353" y="2435"/>
                  </a:lnTo>
                  <a:lnTo>
                    <a:pt x="414" y="2431"/>
                  </a:lnTo>
                  <a:lnTo>
                    <a:pt x="476" y="2423"/>
                  </a:lnTo>
                  <a:lnTo>
                    <a:pt x="535" y="2412"/>
                  </a:lnTo>
                  <a:lnTo>
                    <a:pt x="595" y="2398"/>
                  </a:lnTo>
                  <a:lnTo>
                    <a:pt x="652" y="2381"/>
                  </a:lnTo>
                  <a:lnTo>
                    <a:pt x="708" y="2362"/>
                  </a:lnTo>
                  <a:lnTo>
                    <a:pt x="727" y="2354"/>
                  </a:lnTo>
                  <a:lnTo>
                    <a:pt x="723" y="2345"/>
                  </a:lnTo>
                  <a:lnTo>
                    <a:pt x="706" y="2352"/>
                  </a:lnTo>
                  <a:lnTo>
                    <a:pt x="649" y="2371"/>
                  </a:lnTo>
                  <a:lnTo>
                    <a:pt x="591" y="2389"/>
                  </a:lnTo>
                  <a:lnTo>
                    <a:pt x="533" y="2402"/>
                  </a:lnTo>
                  <a:lnTo>
                    <a:pt x="474" y="2412"/>
                  </a:lnTo>
                  <a:lnTo>
                    <a:pt x="413" y="2419"/>
                  </a:lnTo>
                  <a:lnTo>
                    <a:pt x="351" y="2425"/>
                  </a:lnTo>
                  <a:lnTo>
                    <a:pt x="290" y="2425"/>
                  </a:lnTo>
                  <a:lnTo>
                    <a:pt x="228" y="2425"/>
                  </a:lnTo>
                  <a:lnTo>
                    <a:pt x="167" y="2419"/>
                  </a:lnTo>
                  <a:lnTo>
                    <a:pt x="105" y="2412"/>
                  </a:lnTo>
                  <a:lnTo>
                    <a:pt x="46" y="2402"/>
                  </a:lnTo>
                  <a:lnTo>
                    <a:pt x="0" y="2391"/>
                  </a:lnTo>
                  <a:lnTo>
                    <a:pt x="0" y="2392"/>
                  </a:lnTo>
                  <a:lnTo>
                    <a:pt x="0" y="2392"/>
                  </a:lnTo>
                  <a:lnTo>
                    <a:pt x="0" y="2394"/>
                  </a:lnTo>
                  <a:lnTo>
                    <a:pt x="0" y="2396"/>
                  </a:lnTo>
                  <a:lnTo>
                    <a:pt x="0" y="2398"/>
                  </a:lnTo>
                  <a:lnTo>
                    <a:pt x="0" y="2398"/>
                  </a:lnTo>
                  <a:lnTo>
                    <a:pt x="2" y="2400"/>
                  </a:lnTo>
                  <a:lnTo>
                    <a:pt x="2" y="2402"/>
                  </a:lnTo>
                  <a:close/>
                </a:path>
              </a:pathLst>
            </a:custGeom>
            <a:solidFill>
              <a:srgbClr val="1ba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Freeform 300"/>
            <p:cNvSpPr/>
            <p:nvPr/>
          </p:nvSpPr>
          <p:spPr>
            <a:xfrm>
              <a:off x="5990040" y="1218960"/>
              <a:ext cx="1224360" cy="4086360"/>
            </a:xfrm>
            <a:custGeom>
              <a:avLst/>
              <a:gdLst>
                <a:gd name="textAreaLeft" fmla="*/ 0 w 1224360"/>
                <a:gd name="textAreaRight" fmla="*/ 1224360 w 1224360"/>
                <a:gd name="textAreaTop" fmla="*/ 0 h 4086360"/>
                <a:gd name="textAreaBottom" fmla="*/ 4086720 h 4086360"/>
              </a:gdLst>
              <a:ahLst/>
              <a:rect l="textAreaLeft" t="textAreaTop" r="textAreaRight" b="textAreaBottom"/>
              <a:pathLst>
                <a:path w="727" h="2427">
                  <a:moveTo>
                    <a:pt x="681" y="65"/>
                  </a:moveTo>
                  <a:lnTo>
                    <a:pt x="653" y="55"/>
                  </a:lnTo>
                  <a:lnTo>
                    <a:pt x="595" y="38"/>
                  </a:lnTo>
                  <a:lnTo>
                    <a:pt x="537" y="25"/>
                  </a:lnTo>
                  <a:lnTo>
                    <a:pt x="476" y="15"/>
                  </a:lnTo>
                  <a:lnTo>
                    <a:pt x="416" y="7"/>
                  </a:lnTo>
                  <a:lnTo>
                    <a:pt x="355" y="2"/>
                  </a:lnTo>
                  <a:lnTo>
                    <a:pt x="297" y="0"/>
                  </a:lnTo>
                  <a:lnTo>
                    <a:pt x="297" y="2"/>
                  </a:lnTo>
                  <a:lnTo>
                    <a:pt x="296" y="4"/>
                  </a:lnTo>
                  <a:lnTo>
                    <a:pt x="296" y="4"/>
                  </a:lnTo>
                  <a:lnTo>
                    <a:pt x="296" y="5"/>
                  </a:lnTo>
                  <a:lnTo>
                    <a:pt x="294" y="7"/>
                  </a:lnTo>
                  <a:lnTo>
                    <a:pt x="294" y="7"/>
                  </a:lnTo>
                  <a:lnTo>
                    <a:pt x="294" y="9"/>
                  </a:lnTo>
                  <a:lnTo>
                    <a:pt x="292" y="11"/>
                  </a:lnTo>
                  <a:lnTo>
                    <a:pt x="353" y="13"/>
                  </a:lnTo>
                  <a:lnTo>
                    <a:pt x="415" y="17"/>
                  </a:lnTo>
                  <a:lnTo>
                    <a:pt x="476" y="25"/>
                  </a:lnTo>
                  <a:lnTo>
                    <a:pt x="534" y="36"/>
                  </a:lnTo>
                  <a:lnTo>
                    <a:pt x="593" y="50"/>
                  </a:lnTo>
                  <a:lnTo>
                    <a:pt x="649" y="65"/>
                  </a:lnTo>
                  <a:lnTo>
                    <a:pt x="676" y="75"/>
                  </a:lnTo>
                  <a:lnTo>
                    <a:pt x="676" y="73"/>
                  </a:lnTo>
                  <a:lnTo>
                    <a:pt x="677" y="71"/>
                  </a:lnTo>
                  <a:lnTo>
                    <a:pt x="677" y="71"/>
                  </a:lnTo>
                  <a:lnTo>
                    <a:pt x="677" y="69"/>
                  </a:lnTo>
                  <a:lnTo>
                    <a:pt x="679" y="67"/>
                  </a:lnTo>
                  <a:lnTo>
                    <a:pt x="679" y="67"/>
                  </a:lnTo>
                  <a:lnTo>
                    <a:pt x="679" y="65"/>
                  </a:lnTo>
                  <a:lnTo>
                    <a:pt x="681" y="65"/>
                  </a:lnTo>
                  <a:close/>
                  <a:moveTo>
                    <a:pt x="2" y="2392"/>
                  </a:moveTo>
                  <a:lnTo>
                    <a:pt x="48" y="2402"/>
                  </a:lnTo>
                  <a:lnTo>
                    <a:pt x="107" y="2413"/>
                  </a:lnTo>
                  <a:lnTo>
                    <a:pt x="167" y="2421"/>
                  </a:lnTo>
                  <a:lnTo>
                    <a:pt x="230" y="2425"/>
                  </a:lnTo>
                  <a:lnTo>
                    <a:pt x="292" y="2427"/>
                  </a:lnTo>
                  <a:lnTo>
                    <a:pt x="355" y="2425"/>
                  </a:lnTo>
                  <a:lnTo>
                    <a:pt x="416" y="2421"/>
                  </a:lnTo>
                  <a:lnTo>
                    <a:pt x="476" y="2413"/>
                  </a:lnTo>
                  <a:lnTo>
                    <a:pt x="537" y="2402"/>
                  </a:lnTo>
                  <a:lnTo>
                    <a:pt x="595" y="2388"/>
                  </a:lnTo>
                  <a:lnTo>
                    <a:pt x="653" y="2373"/>
                  </a:lnTo>
                  <a:lnTo>
                    <a:pt x="708" y="2354"/>
                  </a:lnTo>
                  <a:lnTo>
                    <a:pt x="727" y="2346"/>
                  </a:lnTo>
                  <a:lnTo>
                    <a:pt x="724" y="2337"/>
                  </a:lnTo>
                  <a:lnTo>
                    <a:pt x="706" y="2344"/>
                  </a:lnTo>
                  <a:lnTo>
                    <a:pt x="649" y="2362"/>
                  </a:lnTo>
                  <a:lnTo>
                    <a:pt x="593" y="2379"/>
                  </a:lnTo>
                  <a:lnTo>
                    <a:pt x="534" y="2392"/>
                  </a:lnTo>
                  <a:lnTo>
                    <a:pt x="476" y="2402"/>
                  </a:lnTo>
                  <a:lnTo>
                    <a:pt x="415" y="2410"/>
                  </a:lnTo>
                  <a:lnTo>
                    <a:pt x="353" y="2415"/>
                  </a:lnTo>
                  <a:lnTo>
                    <a:pt x="292" y="2417"/>
                  </a:lnTo>
                  <a:lnTo>
                    <a:pt x="230" y="2415"/>
                  </a:lnTo>
                  <a:lnTo>
                    <a:pt x="169" y="2410"/>
                  </a:lnTo>
                  <a:lnTo>
                    <a:pt x="109" y="2402"/>
                  </a:lnTo>
                  <a:lnTo>
                    <a:pt x="50" y="2392"/>
                  </a:lnTo>
                  <a:lnTo>
                    <a:pt x="0" y="2381"/>
                  </a:lnTo>
                  <a:lnTo>
                    <a:pt x="0" y="2383"/>
                  </a:lnTo>
                  <a:lnTo>
                    <a:pt x="0" y="2385"/>
                  </a:lnTo>
                  <a:lnTo>
                    <a:pt x="2" y="2385"/>
                  </a:lnTo>
                  <a:lnTo>
                    <a:pt x="2" y="2387"/>
                  </a:lnTo>
                  <a:lnTo>
                    <a:pt x="2" y="2388"/>
                  </a:lnTo>
                  <a:lnTo>
                    <a:pt x="2" y="2388"/>
                  </a:lnTo>
                  <a:lnTo>
                    <a:pt x="2" y="2390"/>
                  </a:lnTo>
                  <a:lnTo>
                    <a:pt x="2" y="2392"/>
                  </a:lnTo>
                  <a:close/>
                </a:path>
              </a:pathLst>
            </a:custGeom>
            <a:solidFill>
              <a:srgbClr val="1ca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Freeform 301"/>
            <p:cNvSpPr/>
            <p:nvPr/>
          </p:nvSpPr>
          <p:spPr>
            <a:xfrm>
              <a:off x="5990040" y="1227600"/>
              <a:ext cx="1220760" cy="4068000"/>
            </a:xfrm>
            <a:custGeom>
              <a:avLst/>
              <a:gdLst>
                <a:gd name="textAreaLeft" fmla="*/ 0 w 1220760"/>
                <a:gd name="textAreaRight" fmla="*/ 1221120 w 1220760"/>
                <a:gd name="textAreaTop" fmla="*/ 0 h 4068000"/>
                <a:gd name="textAreaBottom" fmla="*/ 4068360 h 4068000"/>
              </a:gdLst>
              <a:ahLst/>
              <a:rect l="textAreaLeft" t="textAreaTop" r="textAreaRight" b="textAreaBottom"/>
              <a:pathLst>
                <a:path w="725" h="2416">
                  <a:moveTo>
                    <a:pt x="677" y="64"/>
                  </a:moveTo>
                  <a:lnTo>
                    <a:pt x="651" y="54"/>
                  </a:lnTo>
                  <a:lnTo>
                    <a:pt x="593" y="39"/>
                  </a:lnTo>
                  <a:lnTo>
                    <a:pt x="535" y="25"/>
                  </a:lnTo>
                  <a:lnTo>
                    <a:pt x="476" y="14"/>
                  </a:lnTo>
                  <a:lnTo>
                    <a:pt x="415" y="6"/>
                  </a:lnTo>
                  <a:lnTo>
                    <a:pt x="353" y="2"/>
                  </a:lnTo>
                  <a:lnTo>
                    <a:pt x="296" y="0"/>
                  </a:lnTo>
                  <a:lnTo>
                    <a:pt x="294" y="2"/>
                  </a:lnTo>
                  <a:lnTo>
                    <a:pt x="294" y="2"/>
                  </a:lnTo>
                  <a:lnTo>
                    <a:pt x="294" y="4"/>
                  </a:lnTo>
                  <a:lnTo>
                    <a:pt x="292" y="6"/>
                  </a:lnTo>
                  <a:lnTo>
                    <a:pt x="292" y="8"/>
                  </a:lnTo>
                  <a:lnTo>
                    <a:pt x="292" y="8"/>
                  </a:lnTo>
                  <a:lnTo>
                    <a:pt x="292" y="10"/>
                  </a:lnTo>
                  <a:lnTo>
                    <a:pt x="290" y="12"/>
                  </a:lnTo>
                  <a:lnTo>
                    <a:pt x="292" y="12"/>
                  </a:lnTo>
                  <a:lnTo>
                    <a:pt x="353" y="12"/>
                  </a:lnTo>
                  <a:lnTo>
                    <a:pt x="415" y="18"/>
                  </a:lnTo>
                  <a:lnTo>
                    <a:pt x="474" y="25"/>
                  </a:lnTo>
                  <a:lnTo>
                    <a:pt x="534" y="35"/>
                  </a:lnTo>
                  <a:lnTo>
                    <a:pt x="591" y="48"/>
                  </a:lnTo>
                  <a:lnTo>
                    <a:pt x="649" y="66"/>
                  </a:lnTo>
                  <a:lnTo>
                    <a:pt x="674" y="73"/>
                  </a:lnTo>
                  <a:lnTo>
                    <a:pt x="674" y="71"/>
                  </a:lnTo>
                  <a:lnTo>
                    <a:pt x="674" y="71"/>
                  </a:lnTo>
                  <a:lnTo>
                    <a:pt x="676" y="70"/>
                  </a:lnTo>
                  <a:lnTo>
                    <a:pt x="676" y="70"/>
                  </a:lnTo>
                  <a:lnTo>
                    <a:pt x="676" y="68"/>
                  </a:lnTo>
                  <a:lnTo>
                    <a:pt x="677" y="66"/>
                  </a:lnTo>
                  <a:lnTo>
                    <a:pt x="677" y="66"/>
                  </a:lnTo>
                  <a:lnTo>
                    <a:pt x="677" y="64"/>
                  </a:lnTo>
                  <a:close/>
                  <a:moveTo>
                    <a:pt x="2" y="2382"/>
                  </a:moveTo>
                  <a:lnTo>
                    <a:pt x="48" y="2393"/>
                  </a:lnTo>
                  <a:lnTo>
                    <a:pt x="107" y="2403"/>
                  </a:lnTo>
                  <a:lnTo>
                    <a:pt x="169" y="2410"/>
                  </a:lnTo>
                  <a:lnTo>
                    <a:pt x="230" y="2416"/>
                  </a:lnTo>
                  <a:lnTo>
                    <a:pt x="292" y="2416"/>
                  </a:lnTo>
                  <a:lnTo>
                    <a:pt x="353" y="2416"/>
                  </a:lnTo>
                  <a:lnTo>
                    <a:pt x="415" y="2410"/>
                  </a:lnTo>
                  <a:lnTo>
                    <a:pt x="476" y="2403"/>
                  </a:lnTo>
                  <a:lnTo>
                    <a:pt x="535" y="2393"/>
                  </a:lnTo>
                  <a:lnTo>
                    <a:pt x="593" y="2380"/>
                  </a:lnTo>
                  <a:lnTo>
                    <a:pt x="651" y="2362"/>
                  </a:lnTo>
                  <a:lnTo>
                    <a:pt x="708" y="2343"/>
                  </a:lnTo>
                  <a:lnTo>
                    <a:pt x="725" y="2336"/>
                  </a:lnTo>
                  <a:lnTo>
                    <a:pt x="722" y="2326"/>
                  </a:lnTo>
                  <a:lnTo>
                    <a:pt x="704" y="2334"/>
                  </a:lnTo>
                  <a:lnTo>
                    <a:pt x="649" y="2353"/>
                  </a:lnTo>
                  <a:lnTo>
                    <a:pt x="591" y="2368"/>
                  </a:lnTo>
                  <a:lnTo>
                    <a:pt x="534" y="2382"/>
                  </a:lnTo>
                  <a:lnTo>
                    <a:pt x="474" y="2393"/>
                  </a:lnTo>
                  <a:lnTo>
                    <a:pt x="415" y="2401"/>
                  </a:lnTo>
                  <a:lnTo>
                    <a:pt x="353" y="2405"/>
                  </a:lnTo>
                  <a:lnTo>
                    <a:pt x="292" y="2406"/>
                  </a:lnTo>
                  <a:lnTo>
                    <a:pt x="230" y="2405"/>
                  </a:lnTo>
                  <a:lnTo>
                    <a:pt x="169" y="2401"/>
                  </a:lnTo>
                  <a:lnTo>
                    <a:pt x="109" y="2393"/>
                  </a:lnTo>
                  <a:lnTo>
                    <a:pt x="50" y="2382"/>
                  </a:lnTo>
                  <a:lnTo>
                    <a:pt x="0" y="2370"/>
                  </a:lnTo>
                  <a:lnTo>
                    <a:pt x="0" y="2372"/>
                  </a:lnTo>
                  <a:lnTo>
                    <a:pt x="0" y="2374"/>
                  </a:lnTo>
                  <a:lnTo>
                    <a:pt x="0" y="2374"/>
                  </a:lnTo>
                  <a:lnTo>
                    <a:pt x="0" y="2376"/>
                  </a:lnTo>
                  <a:lnTo>
                    <a:pt x="0" y="2378"/>
                  </a:lnTo>
                  <a:lnTo>
                    <a:pt x="0" y="2380"/>
                  </a:lnTo>
                  <a:lnTo>
                    <a:pt x="2" y="2380"/>
                  </a:lnTo>
                  <a:lnTo>
                    <a:pt x="2" y="2382"/>
                  </a:lnTo>
                  <a:close/>
                </a:path>
              </a:pathLst>
            </a:custGeom>
            <a:solidFill>
              <a:srgbClr val="1da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Freeform 302"/>
            <p:cNvSpPr/>
            <p:nvPr/>
          </p:nvSpPr>
          <p:spPr>
            <a:xfrm>
              <a:off x="5986800" y="1237320"/>
              <a:ext cx="1222560" cy="4051440"/>
            </a:xfrm>
            <a:custGeom>
              <a:avLst/>
              <a:gdLst>
                <a:gd name="textAreaLeft" fmla="*/ 0 w 1222560"/>
                <a:gd name="textAreaRight" fmla="*/ 1222920 w 1222560"/>
                <a:gd name="textAreaTop" fmla="*/ 0 h 4051440"/>
                <a:gd name="textAreaBottom" fmla="*/ 4051800 h 4051440"/>
              </a:gdLst>
              <a:ahLst/>
              <a:rect l="textAreaLeft" t="textAreaTop" r="textAreaRight" b="textAreaBottom"/>
              <a:pathLst>
                <a:path w="726" h="2406">
                  <a:moveTo>
                    <a:pt x="678" y="64"/>
                  </a:moveTo>
                  <a:lnTo>
                    <a:pt x="651" y="54"/>
                  </a:lnTo>
                  <a:lnTo>
                    <a:pt x="595" y="39"/>
                  </a:lnTo>
                  <a:lnTo>
                    <a:pt x="536" y="25"/>
                  </a:lnTo>
                  <a:lnTo>
                    <a:pt x="478" y="14"/>
                  </a:lnTo>
                  <a:lnTo>
                    <a:pt x="417" y="6"/>
                  </a:lnTo>
                  <a:lnTo>
                    <a:pt x="355" y="2"/>
                  </a:lnTo>
                  <a:lnTo>
                    <a:pt x="294" y="0"/>
                  </a:lnTo>
                  <a:lnTo>
                    <a:pt x="294" y="2"/>
                  </a:lnTo>
                  <a:lnTo>
                    <a:pt x="294" y="2"/>
                  </a:lnTo>
                  <a:lnTo>
                    <a:pt x="294" y="4"/>
                  </a:lnTo>
                  <a:lnTo>
                    <a:pt x="292" y="6"/>
                  </a:lnTo>
                  <a:lnTo>
                    <a:pt x="292" y="6"/>
                  </a:lnTo>
                  <a:lnTo>
                    <a:pt x="292" y="8"/>
                  </a:lnTo>
                  <a:lnTo>
                    <a:pt x="290" y="10"/>
                  </a:lnTo>
                  <a:lnTo>
                    <a:pt x="290" y="10"/>
                  </a:lnTo>
                  <a:lnTo>
                    <a:pt x="294" y="10"/>
                  </a:lnTo>
                  <a:lnTo>
                    <a:pt x="355" y="12"/>
                  </a:lnTo>
                  <a:lnTo>
                    <a:pt x="417" y="17"/>
                  </a:lnTo>
                  <a:lnTo>
                    <a:pt x="476" y="25"/>
                  </a:lnTo>
                  <a:lnTo>
                    <a:pt x="534" y="35"/>
                  </a:lnTo>
                  <a:lnTo>
                    <a:pt x="591" y="48"/>
                  </a:lnTo>
                  <a:lnTo>
                    <a:pt x="649" y="64"/>
                  </a:lnTo>
                  <a:lnTo>
                    <a:pt x="672" y="73"/>
                  </a:lnTo>
                  <a:lnTo>
                    <a:pt x="674" y="71"/>
                  </a:lnTo>
                  <a:lnTo>
                    <a:pt x="674" y="69"/>
                  </a:lnTo>
                  <a:lnTo>
                    <a:pt x="674" y="69"/>
                  </a:lnTo>
                  <a:lnTo>
                    <a:pt x="676" y="67"/>
                  </a:lnTo>
                  <a:lnTo>
                    <a:pt x="676" y="65"/>
                  </a:lnTo>
                  <a:lnTo>
                    <a:pt x="676" y="65"/>
                  </a:lnTo>
                  <a:lnTo>
                    <a:pt x="678" y="64"/>
                  </a:lnTo>
                  <a:lnTo>
                    <a:pt x="678" y="64"/>
                  </a:lnTo>
                  <a:close/>
                  <a:moveTo>
                    <a:pt x="2" y="2370"/>
                  </a:moveTo>
                  <a:lnTo>
                    <a:pt x="52" y="2381"/>
                  </a:lnTo>
                  <a:lnTo>
                    <a:pt x="111" y="2391"/>
                  </a:lnTo>
                  <a:lnTo>
                    <a:pt x="171" y="2399"/>
                  </a:lnTo>
                  <a:lnTo>
                    <a:pt x="232" y="2404"/>
                  </a:lnTo>
                  <a:lnTo>
                    <a:pt x="294" y="2406"/>
                  </a:lnTo>
                  <a:lnTo>
                    <a:pt x="355" y="2404"/>
                  </a:lnTo>
                  <a:lnTo>
                    <a:pt x="417" y="2399"/>
                  </a:lnTo>
                  <a:lnTo>
                    <a:pt x="478" y="2391"/>
                  </a:lnTo>
                  <a:lnTo>
                    <a:pt x="536" y="2381"/>
                  </a:lnTo>
                  <a:lnTo>
                    <a:pt x="595" y="2368"/>
                  </a:lnTo>
                  <a:lnTo>
                    <a:pt x="651" y="2351"/>
                  </a:lnTo>
                  <a:lnTo>
                    <a:pt x="708" y="2333"/>
                  </a:lnTo>
                  <a:lnTo>
                    <a:pt x="726" y="2326"/>
                  </a:lnTo>
                  <a:lnTo>
                    <a:pt x="720" y="2316"/>
                  </a:lnTo>
                  <a:lnTo>
                    <a:pt x="704" y="2322"/>
                  </a:lnTo>
                  <a:lnTo>
                    <a:pt x="649" y="2341"/>
                  </a:lnTo>
                  <a:lnTo>
                    <a:pt x="591" y="2358"/>
                  </a:lnTo>
                  <a:lnTo>
                    <a:pt x="534" y="2370"/>
                  </a:lnTo>
                  <a:lnTo>
                    <a:pt x="476" y="2381"/>
                  </a:lnTo>
                  <a:lnTo>
                    <a:pt x="417" y="2389"/>
                  </a:lnTo>
                  <a:lnTo>
                    <a:pt x="355" y="2393"/>
                  </a:lnTo>
                  <a:lnTo>
                    <a:pt x="294" y="2395"/>
                  </a:lnTo>
                  <a:lnTo>
                    <a:pt x="232" y="2393"/>
                  </a:lnTo>
                  <a:lnTo>
                    <a:pt x="173" y="2389"/>
                  </a:lnTo>
                  <a:lnTo>
                    <a:pt x="111" y="2381"/>
                  </a:lnTo>
                  <a:lnTo>
                    <a:pt x="54" y="2370"/>
                  </a:lnTo>
                  <a:lnTo>
                    <a:pt x="0" y="2358"/>
                  </a:lnTo>
                  <a:lnTo>
                    <a:pt x="0" y="2360"/>
                  </a:lnTo>
                  <a:lnTo>
                    <a:pt x="0" y="2362"/>
                  </a:lnTo>
                  <a:lnTo>
                    <a:pt x="2" y="2362"/>
                  </a:lnTo>
                  <a:lnTo>
                    <a:pt x="2" y="2364"/>
                  </a:lnTo>
                  <a:lnTo>
                    <a:pt x="2" y="2366"/>
                  </a:lnTo>
                  <a:lnTo>
                    <a:pt x="2" y="2368"/>
                  </a:lnTo>
                  <a:lnTo>
                    <a:pt x="2" y="2368"/>
                  </a:lnTo>
                  <a:lnTo>
                    <a:pt x="2" y="2370"/>
                  </a:lnTo>
                  <a:close/>
                </a:path>
              </a:pathLst>
            </a:custGeom>
            <a:solidFill>
              <a:srgbClr val="1ea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Freeform 303"/>
            <p:cNvSpPr/>
            <p:nvPr/>
          </p:nvSpPr>
          <p:spPr>
            <a:xfrm>
              <a:off x="5986800" y="1247760"/>
              <a:ext cx="1219320" cy="403128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4031280"/>
                <a:gd name="textAreaBottom" fmla="*/ 4031280 h 4031280"/>
              </a:gdLst>
              <a:ahLst/>
              <a:rect l="textAreaLeft" t="textAreaTop" r="textAreaRight" b="textAreaBottom"/>
              <a:pathLst>
                <a:path w="724" h="2394">
                  <a:moveTo>
                    <a:pt x="676" y="61"/>
                  </a:moveTo>
                  <a:lnTo>
                    <a:pt x="651" y="54"/>
                  </a:lnTo>
                  <a:lnTo>
                    <a:pt x="593" y="36"/>
                  </a:lnTo>
                  <a:lnTo>
                    <a:pt x="536" y="23"/>
                  </a:lnTo>
                  <a:lnTo>
                    <a:pt x="476" y="13"/>
                  </a:lnTo>
                  <a:lnTo>
                    <a:pt x="417" y="6"/>
                  </a:lnTo>
                  <a:lnTo>
                    <a:pt x="355" y="0"/>
                  </a:lnTo>
                  <a:lnTo>
                    <a:pt x="294" y="0"/>
                  </a:lnTo>
                  <a:lnTo>
                    <a:pt x="292" y="0"/>
                  </a:lnTo>
                  <a:lnTo>
                    <a:pt x="292" y="0"/>
                  </a:lnTo>
                  <a:lnTo>
                    <a:pt x="292" y="2"/>
                  </a:lnTo>
                  <a:lnTo>
                    <a:pt x="290" y="4"/>
                  </a:lnTo>
                  <a:lnTo>
                    <a:pt x="290" y="4"/>
                  </a:lnTo>
                  <a:lnTo>
                    <a:pt x="290" y="6"/>
                  </a:lnTo>
                  <a:lnTo>
                    <a:pt x="288" y="8"/>
                  </a:lnTo>
                  <a:lnTo>
                    <a:pt x="288" y="10"/>
                  </a:lnTo>
                  <a:lnTo>
                    <a:pt x="288" y="10"/>
                  </a:lnTo>
                  <a:lnTo>
                    <a:pt x="294" y="10"/>
                  </a:lnTo>
                  <a:lnTo>
                    <a:pt x="355" y="11"/>
                  </a:lnTo>
                  <a:lnTo>
                    <a:pt x="415" y="15"/>
                  </a:lnTo>
                  <a:lnTo>
                    <a:pt x="474" y="23"/>
                  </a:lnTo>
                  <a:lnTo>
                    <a:pt x="534" y="35"/>
                  </a:lnTo>
                  <a:lnTo>
                    <a:pt x="591" y="48"/>
                  </a:lnTo>
                  <a:lnTo>
                    <a:pt x="647" y="63"/>
                  </a:lnTo>
                  <a:lnTo>
                    <a:pt x="670" y="71"/>
                  </a:lnTo>
                  <a:lnTo>
                    <a:pt x="670" y="69"/>
                  </a:lnTo>
                  <a:lnTo>
                    <a:pt x="672" y="69"/>
                  </a:lnTo>
                  <a:lnTo>
                    <a:pt x="672" y="67"/>
                  </a:lnTo>
                  <a:lnTo>
                    <a:pt x="672" y="67"/>
                  </a:lnTo>
                  <a:lnTo>
                    <a:pt x="674" y="65"/>
                  </a:lnTo>
                  <a:lnTo>
                    <a:pt x="674" y="63"/>
                  </a:lnTo>
                  <a:lnTo>
                    <a:pt x="674" y="63"/>
                  </a:lnTo>
                  <a:lnTo>
                    <a:pt x="676" y="61"/>
                  </a:lnTo>
                  <a:close/>
                  <a:moveTo>
                    <a:pt x="2" y="2358"/>
                  </a:moveTo>
                  <a:lnTo>
                    <a:pt x="52" y="2370"/>
                  </a:lnTo>
                  <a:lnTo>
                    <a:pt x="111" y="2381"/>
                  </a:lnTo>
                  <a:lnTo>
                    <a:pt x="171" y="2389"/>
                  </a:lnTo>
                  <a:lnTo>
                    <a:pt x="232" y="2393"/>
                  </a:lnTo>
                  <a:lnTo>
                    <a:pt x="294" y="2394"/>
                  </a:lnTo>
                  <a:lnTo>
                    <a:pt x="355" y="2393"/>
                  </a:lnTo>
                  <a:lnTo>
                    <a:pt x="417" y="2389"/>
                  </a:lnTo>
                  <a:lnTo>
                    <a:pt x="476" y="2381"/>
                  </a:lnTo>
                  <a:lnTo>
                    <a:pt x="536" y="2370"/>
                  </a:lnTo>
                  <a:lnTo>
                    <a:pt x="593" y="2356"/>
                  </a:lnTo>
                  <a:lnTo>
                    <a:pt x="651" y="2341"/>
                  </a:lnTo>
                  <a:lnTo>
                    <a:pt x="706" y="2322"/>
                  </a:lnTo>
                  <a:lnTo>
                    <a:pt x="724" y="2314"/>
                  </a:lnTo>
                  <a:lnTo>
                    <a:pt x="718" y="2304"/>
                  </a:lnTo>
                  <a:lnTo>
                    <a:pt x="703" y="2312"/>
                  </a:lnTo>
                  <a:lnTo>
                    <a:pt x="647" y="2331"/>
                  </a:lnTo>
                  <a:lnTo>
                    <a:pt x="591" y="2347"/>
                  </a:lnTo>
                  <a:lnTo>
                    <a:pt x="534" y="2360"/>
                  </a:lnTo>
                  <a:lnTo>
                    <a:pt x="474" y="2370"/>
                  </a:lnTo>
                  <a:lnTo>
                    <a:pt x="415" y="2377"/>
                  </a:lnTo>
                  <a:lnTo>
                    <a:pt x="355" y="2383"/>
                  </a:lnTo>
                  <a:lnTo>
                    <a:pt x="294" y="2383"/>
                  </a:lnTo>
                  <a:lnTo>
                    <a:pt x="232" y="2383"/>
                  </a:lnTo>
                  <a:lnTo>
                    <a:pt x="173" y="2377"/>
                  </a:lnTo>
                  <a:lnTo>
                    <a:pt x="113" y="2370"/>
                  </a:lnTo>
                  <a:lnTo>
                    <a:pt x="54" y="2360"/>
                  </a:lnTo>
                  <a:lnTo>
                    <a:pt x="0" y="2347"/>
                  </a:lnTo>
                  <a:lnTo>
                    <a:pt x="0" y="2348"/>
                  </a:lnTo>
                  <a:lnTo>
                    <a:pt x="0" y="2350"/>
                  </a:lnTo>
                  <a:lnTo>
                    <a:pt x="0" y="2350"/>
                  </a:lnTo>
                  <a:lnTo>
                    <a:pt x="0" y="2352"/>
                  </a:lnTo>
                  <a:lnTo>
                    <a:pt x="0" y="2354"/>
                  </a:lnTo>
                  <a:lnTo>
                    <a:pt x="0" y="2356"/>
                  </a:lnTo>
                  <a:lnTo>
                    <a:pt x="2" y="2356"/>
                  </a:lnTo>
                  <a:lnTo>
                    <a:pt x="2" y="2358"/>
                  </a:lnTo>
                  <a:close/>
                </a:path>
              </a:pathLst>
            </a:custGeom>
            <a:solidFill>
              <a:srgbClr val="1fa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Freeform 304"/>
            <p:cNvSpPr/>
            <p:nvPr/>
          </p:nvSpPr>
          <p:spPr>
            <a:xfrm>
              <a:off x="5983200" y="1254240"/>
              <a:ext cx="1215720" cy="4016160"/>
            </a:xfrm>
            <a:custGeom>
              <a:avLst/>
              <a:gdLst>
                <a:gd name="textAreaLeft" fmla="*/ 0 w 1215720"/>
                <a:gd name="textAreaRight" fmla="*/ 1216080 w 1215720"/>
                <a:gd name="textAreaTop" fmla="*/ 0 h 4016160"/>
                <a:gd name="textAreaBottom" fmla="*/ 4016520 h 4016160"/>
              </a:gdLst>
              <a:ahLst/>
              <a:rect l="textAreaLeft" t="textAreaTop" r="textAreaRight" b="textAreaBottom"/>
              <a:pathLst>
                <a:path w="722" h="2385">
                  <a:moveTo>
                    <a:pt x="674" y="63"/>
                  </a:moveTo>
                  <a:lnTo>
                    <a:pt x="651" y="54"/>
                  </a:lnTo>
                  <a:lnTo>
                    <a:pt x="593" y="38"/>
                  </a:lnTo>
                  <a:lnTo>
                    <a:pt x="536" y="25"/>
                  </a:lnTo>
                  <a:lnTo>
                    <a:pt x="478" y="15"/>
                  </a:lnTo>
                  <a:lnTo>
                    <a:pt x="419" y="7"/>
                  </a:lnTo>
                  <a:lnTo>
                    <a:pt x="357" y="2"/>
                  </a:lnTo>
                  <a:lnTo>
                    <a:pt x="296" y="0"/>
                  </a:lnTo>
                  <a:lnTo>
                    <a:pt x="292" y="0"/>
                  </a:lnTo>
                  <a:lnTo>
                    <a:pt x="292" y="2"/>
                  </a:lnTo>
                  <a:lnTo>
                    <a:pt x="290" y="4"/>
                  </a:lnTo>
                  <a:lnTo>
                    <a:pt x="290" y="6"/>
                  </a:lnTo>
                  <a:lnTo>
                    <a:pt x="290" y="6"/>
                  </a:lnTo>
                  <a:lnTo>
                    <a:pt x="288" y="7"/>
                  </a:lnTo>
                  <a:lnTo>
                    <a:pt x="288" y="9"/>
                  </a:lnTo>
                  <a:lnTo>
                    <a:pt x="288" y="9"/>
                  </a:lnTo>
                  <a:lnTo>
                    <a:pt x="286" y="11"/>
                  </a:lnTo>
                  <a:lnTo>
                    <a:pt x="296" y="11"/>
                  </a:lnTo>
                  <a:lnTo>
                    <a:pt x="357" y="13"/>
                  </a:lnTo>
                  <a:lnTo>
                    <a:pt x="417" y="17"/>
                  </a:lnTo>
                  <a:lnTo>
                    <a:pt x="476" y="25"/>
                  </a:lnTo>
                  <a:lnTo>
                    <a:pt x="534" y="34"/>
                  </a:lnTo>
                  <a:lnTo>
                    <a:pt x="591" y="48"/>
                  </a:lnTo>
                  <a:lnTo>
                    <a:pt x="647" y="65"/>
                  </a:lnTo>
                  <a:lnTo>
                    <a:pt x="670" y="73"/>
                  </a:lnTo>
                  <a:lnTo>
                    <a:pt x="670" y="71"/>
                  </a:lnTo>
                  <a:lnTo>
                    <a:pt x="670" y="69"/>
                  </a:lnTo>
                  <a:lnTo>
                    <a:pt x="672" y="69"/>
                  </a:lnTo>
                  <a:lnTo>
                    <a:pt x="672" y="67"/>
                  </a:lnTo>
                  <a:lnTo>
                    <a:pt x="672" y="65"/>
                  </a:lnTo>
                  <a:lnTo>
                    <a:pt x="674" y="65"/>
                  </a:lnTo>
                  <a:lnTo>
                    <a:pt x="674" y="63"/>
                  </a:lnTo>
                  <a:lnTo>
                    <a:pt x="674" y="63"/>
                  </a:lnTo>
                  <a:close/>
                  <a:moveTo>
                    <a:pt x="2" y="2348"/>
                  </a:moveTo>
                  <a:lnTo>
                    <a:pt x="56" y="2360"/>
                  </a:lnTo>
                  <a:lnTo>
                    <a:pt x="113" y="2371"/>
                  </a:lnTo>
                  <a:lnTo>
                    <a:pt x="175" y="2379"/>
                  </a:lnTo>
                  <a:lnTo>
                    <a:pt x="234" y="2383"/>
                  </a:lnTo>
                  <a:lnTo>
                    <a:pt x="296" y="2385"/>
                  </a:lnTo>
                  <a:lnTo>
                    <a:pt x="357" y="2383"/>
                  </a:lnTo>
                  <a:lnTo>
                    <a:pt x="419" y="2379"/>
                  </a:lnTo>
                  <a:lnTo>
                    <a:pt x="478" y="2371"/>
                  </a:lnTo>
                  <a:lnTo>
                    <a:pt x="536" y="2360"/>
                  </a:lnTo>
                  <a:lnTo>
                    <a:pt x="593" y="2348"/>
                  </a:lnTo>
                  <a:lnTo>
                    <a:pt x="651" y="2331"/>
                  </a:lnTo>
                  <a:lnTo>
                    <a:pt x="706" y="2312"/>
                  </a:lnTo>
                  <a:lnTo>
                    <a:pt x="722" y="2306"/>
                  </a:lnTo>
                  <a:lnTo>
                    <a:pt x="718" y="2296"/>
                  </a:lnTo>
                  <a:lnTo>
                    <a:pt x="703" y="2302"/>
                  </a:lnTo>
                  <a:lnTo>
                    <a:pt x="647" y="2321"/>
                  </a:lnTo>
                  <a:lnTo>
                    <a:pt x="591" y="2337"/>
                  </a:lnTo>
                  <a:lnTo>
                    <a:pt x="534" y="2350"/>
                  </a:lnTo>
                  <a:lnTo>
                    <a:pt x="476" y="2360"/>
                  </a:lnTo>
                  <a:lnTo>
                    <a:pt x="417" y="2367"/>
                  </a:lnTo>
                  <a:lnTo>
                    <a:pt x="357" y="2373"/>
                  </a:lnTo>
                  <a:lnTo>
                    <a:pt x="296" y="2375"/>
                  </a:lnTo>
                  <a:lnTo>
                    <a:pt x="234" y="2373"/>
                  </a:lnTo>
                  <a:lnTo>
                    <a:pt x="175" y="2367"/>
                  </a:lnTo>
                  <a:lnTo>
                    <a:pt x="115" y="2360"/>
                  </a:lnTo>
                  <a:lnTo>
                    <a:pt x="58" y="2350"/>
                  </a:lnTo>
                  <a:lnTo>
                    <a:pt x="0" y="2337"/>
                  </a:lnTo>
                  <a:lnTo>
                    <a:pt x="0" y="2337"/>
                  </a:lnTo>
                  <a:lnTo>
                    <a:pt x="0" y="2339"/>
                  </a:lnTo>
                  <a:lnTo>
                    <a:pt x="0" y="2341"/>
                  </a:lnTo>
                  <a:lnTo>
                    <a:pt x="2" y="2341"/>
                  </a:lnTo>
                  <a:lnTo>
                    <a:pt x="2" y="2343"/>
                  </a:lnTo>
                  <a:lnTo>
                    <a:pt x="2" y="2344"/>
                  </a:lnTo>
                  <a:lnTo>
                    <a:pt x="2" y="2346"/>
                  </a:lnTo>
                  <a:lnTo>
                    <a:pt x="2" y="2346"/>
                  </a:lnTo>
                  <a:lnTo>
                    <a:pt x="2" y="2348"/>
                  </a:lnTo>
                  <a:close/>
                </a:path>
              </a:pathLst>
            </a:custGeom>
            <a:solidFill>
              <a:srgbClr val="20a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Freeform 305"/>
            <p:cNvSpPr/>
            <p:nvPr/>
          </p:nvSpPr>
          <p:spPr>
            <a:xfrm>
              <a:off x="5983200" y="1264680"/>
              <a:ext cx="1212480" cy="3995640"/>
            </a:xfrm>
            <a:custGeom>
              <a:avLst/>
              <a:gdLst>
                <a:gd name="textAreaLeft" fmla="*/ 0 w 1212480"/>
                <a:gd name="textAreaRight" fmla="*/ 1212480 w 1212480"/>
                <a:gd name="textAreaTop" fmla="*/ 0 h 3995640"/>
                <a:gd name="textAreaBottom" fmla="*/ 3996000 h 3995640"/>
              </a:gdLst>
              <a:ahLst/>
              <a:rect l="textAreaLeft" t="textAreaTop" r="textAreaRight" b="textAreaBottom"/>
              <a:pathLst>
                <a:path w="720" h="2373">
                  <a:moveTo>
                    <a:pt x="672" y="61"/>
                  </a:moveTo>
                  <a:lnTo>
                    <a:pt x="649" y="53"/>
                  </a:lnTo>
                  <a:lnTo>
                    <a:pt x="593" y="38"/>
                  </a:lnTo>
                  <a:lnTo>
                    <a:pt x="536" y="25"/>
                  </a:lnTo>
                  <a:lnTo>
                    <a:pt x="476" y="13"/>
                  </a:lnTo>
                  <a:lnTo>
                    <a:pt x="417" y="5"/>
                  </a:lnTo>
                  <a:lnTo>
                    <a:pt x="357" y="1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8" y="1"/>
                  </a:lnTo>
                  <a:lnTo>
                    <a:pt x="288" y="3"/>
                  </a:lnTo>
                  <a:lnTo>
                    <a:pt x="288" y="3"/>
                  </a:lnTo>
                  <a:lnTo>
                    <a:pt x="286" y="5"/>
                  </a:lnTo>
                  <a:lnTo>
                    <a:pt x="286" y="7"/>
                  </a:lnTo>
                  <a:lnTo>
                    <a:pt x="286" y="7"/>
                  </a:lnTo>
                  <a:lnTo>
                    <a:pt x="284" y="9"/>
                  </a:lnTo>
                  <a:lnTo>
                    <a:pt x="284" y="11"/>
                  </a:lnTo>
                  <a:lnTo>
                    <a:pt x="296" y="11"/>
                  </a:lnTo>
                  <a:lnTo>
                    <a:pt x="357" y="13"/>
                  </a:lnTo>
                  <a:lnTo>
                    <a:pt x="417" y="17"/>
                  </a:lnTo>
                  <a:lnTo>
                    <a:pt x="474" y="25"/>
                  </a:lnTo>
                  <a:lnTo>
                    <a:pt x="534" y="34"/>
                  </a:lnTo>
                  <a:lnTo>
                    <a:pt x="589" y="48"/>
                  </a:lnTo>
                  <a:lnTo>
                    <a:pt x="645" y="63"/>
                  </a:lnTo>
                  <a:lnTo>
                    <a:pt x="668" y="71"/>
                  </a:lnTo>
                  <a:lnTo>
                    <a:pt x="668" y="69"/>
                  </a:lnTo>
                  <a:lnTo>
                    <a:pt x="668" y="69"/>
                  </a:lnTo>
                  <a:lnTo>
                    <a:pt x="670" y="67"/>
                  </a:lnTo>
                  <a:lnTo>
                    <a:pt x="670" y="67"/>
                  </a:lnTo>
                  <a:lnTo>
                    <a:pt x="670" y="65"/>
                  </a:lnTo>
                  <a:lnTo>
                    <a:pt x="670" y="63"/>
                  </a:lnTo>
                  <a:lnTo>
                    <a:pt x="672" y="63"/>
                  </a:lnTo>
                  <a:lnTo>
                    <a:pt x="672" y="61"/>
                  </a:lnTo>
                  <a:close/>
                  <a:moveTo>
                    <a:pt x="2" y="2337"/>
                  </a:moveTo>
                  <a:lnTo>
                    <a:pt x="56" y="2350"/>
                  </a:lnTo>
                  <a:lnTo>
                    <a:pt x="115" y="2360"/>
                  </a:lnTo>
                  <a:lnTo>
                    <a:pt x="175" y="2367"/>
                  </a:lnTo>
                  <a:lnTo>
                    <a:pt x="234" y="2373"/>
                  </a:lnTo>
                  <a:lnTo>
                    <a:pt x="296" y="2373"/>
                  </a:lnTo>
                  <a:lnTo>
                    <a:pt x="357" y="2373"/>
                  </a:lnTo>
                  <a:lnTo>
                    <a:pt x="417" y="2367"/>
                  </a:lnTo>
                  <a:lnTo>
                    <a:pt x="476" y="2360"/>
                  </a:lnTo>
                  <a:lnTo>
                    <a:pt x="536" y="2350"/>
                  </a:lnTo>
                  <a:lnTo>
                    <a:pt x="593" y="2337"/>
                  </a:lnTo>
                  <a:lnTo>
                    <a:pt x="649" y="2321"/>
                  </a:lnTo>
                  <a:lnTo>
                    <a:pt x="705" y="2302"/>
                  </a:lnTo>
                  <a:lnTo>
                    <a:pt x="720" y="2294"/>
                  </a:lnTo>
                  <a:lnTo>
                    <a:pt x="716" y="2285"/>
                  </a:lnTo>
                  <a:lnTo>
                    <a:pt x="701" y="2292"/>
                  </a:lnTo>
                  <a:lnTo>
                    <a:pt x="645" y="2310"/>
                  </a:lnTo>
                  <a:lnTo>
                    <a:pt x="589" y="2327"/>
                  </a:lnTo>
                  <a:lnTo>
                    <a:pt x="534" y="2338"/>
                  </a:lnTo>
                  <a:lnTo>
                    <a:pt x="474" y="2350"/>
                  </a:lnTo>
                  <a:lnTo>
                    <a:pt x="417" y="2358"/>
                  </a:lnTo>
                  <a:lnTo>
                    <a:pt x="357" y="2361"/>
                  </a:lnTo>
                  <a:lnTo>
                    <a:pt x="296" y="2363"/>
                  </a:lnTo>
                  <a:lnTo>
                    <a:pt x="236" y="2361"/>
                  </a:lnTo>
                  <a:lnTo>
                    <a:pt x="175" y="2358"/>
                  </a:lnTo>
                  <a:lnTo>
                    <a:pt x="117" y="2350"/>
                  </a:lnTo>
                  <a:lnTo>
                    <a:pt x="60" y="2338"/>
                  </a:lnTo>
                  <a:lnTo>
                    <a:pt x="2" y="2327"/>
                  </a:lnTo>
                  <a:lnTo>
                    <a:pt x="0" y="2325"/>
                  </a:lnTo>
                  <a:lnTo>
                    <a:pt x="0" y="2327"/>
                  </a:lnTo>
                  <a:lnTo>
                    <a:pt x="0" y="2329"/>
                  </a:lnTo>
                  <a:lnTo>
                    <a:pt x="0" y="2329"/>
                  </a:lnTo>
                  <a:lnTo>
                    <a:pt x="0" y="2331"/>
                  </a:lnTo>
                  <a:lnTo>
                    <a:pt x="0" y="2333"/>
                  </a:lnTo>
                  <a:lnTo>
                    <a:pt x="0" y="2335"/>
                  </a:lnTo>
                  <a:lnTo>
                    <a:pt x="2" y="2335"/>
                  </a:lnTo>
                  <a:lnTo>
                    <a:pt x="2" y="2337"/>
                  </a:lnTo>
                  <a:close/>
                </a:path>
              </a:pathLst>
            </a:custGeom>
            <a:solidFill>
              <a:srgbClr val="21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Freeform 306"/>
            <p:cNvSpPr/>
            <p:nvPr/>
          </p:nvSpPr>
          <p:spPr>
            <a:xfrm>
              <a:off x="5980320" y="1272960"/>
              <a:ext cx="1212480" cy="3980160"/>
            </a:xfrm>
            <a:custGeom>
              <a:avLst/>
              <a:gdLst>
                <a:gd name="textAreaLeft" fmla="*/ 0 w 1212480"/>
                <a:gd name="textAreaRight" fmla="*/ 1212480 w 1212480"/>
                <a:gd name="textAreaTop" fmla="*/ 0 h 3980160"/>
                <a:gd name="textAreaBottom" fmla="*/ 3980520 h 3980160"/>
              </a:gdLst>
              <a:ahLst/>
              <a:rect l="textAreaLeft" t="textAreaTop" r="textAreaRight" b="textAreaBottom"/>
              <a:pathLst>
                <a:path w="720" h="2364">
                  <a:moveTo>
                    <a:pt x="672" y="62"/>
                  </a:moveTo>
                  <a:lnTo>
                    <a:pt x="649" y="54"/>
                  </a:lnTo>
                  <a:lnTo>
                    <a:pt x="593" y="37"/>
                  </a:lnTo>
                  <a:lnTo>
                    <a:pt x="536" y="23"/>
                  </a:lnTo>
                  <a:lnTo>
                    <a:pt x="478" y="14"/>
                  </a:lnTo>
                  <a:lnTo>
                    <a:pt x="419" y="6"/>
                  </a:lnTo>
                  <a:lnTo>
                    <a:pt x="359" y="2"/>
                  </a:lnTo>
                  <a:lnTo>
                    <a:pt x="298" y="0"/>
                  </a:lnTo>
                  <a:lnTo>
                    <a:pt x="288" y="0"/>
                  </a:lnTo>
                  <a:lnTo>
                    <a:pt x="288" y="2"/>
                  </a:lnTo>
                  <a:lnTo>
                    <a:pt x="288" y="2"/>
                  </a:lnTo>
                  <a:lnTo>
                    <a:pt x="286" y="4"/>
                  </a:lnTo>
                  <a:lnTo>
                    <a:pt x="286" y="6"/>
                  </a:lnTo>
                  <a:lnTo>
                    <a:pt x="286" y="8"/>
                  </a:lnTo>
                  <a:lnTo>
                    <a:pt x="284" y="8"/>
                  </a:lnTo>
                  <a:lnTo>
                    <a:pt x="284" y="10"/>
                  </a:lnTo>
                  <a:lnTo>
                    <a:pt x="284" y="12"/>
                  </a:lnTo>
                  <a:lnTo>
                    <a:pt x="298" y="10"/>
                  </a:lnTo>
                  <a:lnTo>
                    <a:pt x="357" y="12"/>
                  </a:lnTo>
                  <a:lnTo>
                    <a:pt x="417" y="18"/>
                  </a:lnTo>
                  <a:lnTo>
                    <a:pt x="476" y="25"/>
                  </a:lnTo>
                  <a:lnTo>
                    <a:pt x="534" y="35"/>
                  </a:lnTo>
                  <a:lnTo>
                    <a:pt x="591" y="48"/>
                  </a:lnTo>
                  <a:lnTo>
                    <a:pt x="647" y="64"/>
                  </a:lnTo>
                  <a:lnTo>
                    <a:pt x="666" y="71"/>
                  </a:lnTo>
                  <a:lnTo>
                    <a:pt x="668" y="69"/>
                  </a:lnTo>
                  <a:lnTo>
                    <a:pt x="668" y="67"/>
                  </a:lnTo>
                  <a:lnTo>
                    <a:pt x="668" y="67"/>
                  </a:lnTo>
                  <a:lnTo>
                    <a:pt x="670" y="66"/>
                  </a:lnTo>
                  <a:lnTo>
                    <a:pt x="670" y="64"/>
                  </a:lnTo>
                  <a:lnTo>
                    <a:pt x="670" y="64"/>
                  </a:lnTo>
                  <a:lnTo>
                    <a:pt x="672" y="62"/>
                  </a:lnTo>
                  <a:lnTo>
                    <a:pt x="672" y="62"/>
                  </a:lnTo>
                  <a:close/>
                  <a:moveTo>
                    <a:pt x="2" y="2326"/>
                  </a:moveTo>
                  <a:lnTo>
                    <a:pt x="2" y="2326"/>
                  </a:lnTo>
                  <a:lnTo>
                    <a:pt x="60" y="2339"/>
                  </a:lnTo>
                  <a:lnTo>
                    <a:pt x="117" y="2349"/>
                  </a:lnTo>
                  <a:lnTo>
                    <a:pt x="177" y="2356"/>
                  </a:lnTo>
                  <a:lnTo>
                    <a:pt x="236" y="2362"/>
                  </a:lnTo>
                  <a:lnTo>
                    <a:pt x="298" y="2364"/>
                  </a:lnTo>
                  <a:lnTo>
                    <a:pt x="359" y="2362"/>
                  </a:lnTo>
                  <a:lnTo>
                    <a:pt x="419" y="2356"/>
                  </a:lnTo>
                  <a:lnTo>
                    <a:pt x="478" y="2349"/>
                  </a:lnTo>
                  <a:lnTo>
                    <a:pt x="536" y="2339"/>
                  </a:lnTo>
                  <a:lnTo>
                    <a:pt x="593" y="2326"/>
                  </a:lnTo>
                  <a:lnTo>
                    <a:pt x="649" y="2310"/>
                  </a:lnTo>
                  <a:lnTo>
                    <a:pt x="705" y="2291"/>
                  </a:lnTo>
                  <a:lnTo>
                    <a:pt x="720" y="2285"/>
                  </a:lnTo>
                  <a:lnTo>
                    <a:pt x="716" y="2276"/>
                  </a:lnTo>
                  <a:lnTo>
                    <a:pt x="701" y="2282"/>
                  </a:lnTo>
                  <a:lnTo>
                    <a:pt x="647" y="2301"/>
                  </a:lnTo>
                  <a:lnTo>
                    <a:pt x="591" y="2316"/>
                  </a:lnTo>
                  <a:lnTo>
                    <a:pt x="534" y="2330"/>
                  </a:lnTo>
                  <a:lnTo>
                    <a:pt x="476" y="2339"/>
                  </a:lnTo>
                  <a:lnTo>
                    <a:pt x="417" y="2347"/>
                  </a:lnTo>
                  <a:lnTo>
                    <a:pt x="357" y="2351"/>
                  </a:lnTo>
                  <a:lnTo>
                    <a:pt x="298" y="2353"/>
                  </a:lnTo>
                  <a:lnTo>
                    <a:pt x="238" y="2351"/>
                  </a:lnTo>
                  <a:lnTo>
                    <a:pt x="179" y="2347"/>
                  </a:lnTo>
                  <a:lnTo>
                    <a:pt x="119" y="2339"/>
                  </a:lnTo>
                  <a:lnTo>
                    <a:pt x="62" y="2330"/>
                  </a:lnTo>
                  <a:lnTo>
                    <a:pt x="6" y="2316"/>
                  </a:lnTo>
                  <a:lnTo>
                    <a:pt x="0" y="2314"/>
                  </a:lnTo>
                  <a:lnTo>
                    <a:pt x="0" y="2316"/>
                  </a:lnTo>
                  <a:lnTo>
                    <a:pt x="0" y="2318"/>
                  </a:lnTo>
                  <a:lnTo>
                    <a:pt x="2" y="2318"/>
                  </a:lnTo>
                  <a:lnTo>
                    <a:pt x="2" y="2320"/>
                  </a:lnTo>
                  <a:lnTo>
                    <a:pt x="2" y="2322"/>
                  </a:lnTo>
                  <a:lnTo>
                    <a:pt x="2" y="2324"/>
                  </a:lnTo>
                  <a:lnTo>
                    <a:pt x="2" y="2324"/>
                  </a:lnTo>
                  <a:lnTo>
                    <a:pt x="2" y="2326"/>
                  </a:lnTo>
                  <a:close/>
                </a:path>
              </a:pathLst>
            </a:custGeom>
            <a:solidFill>
              <a:srgbClr val="22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Freeform 307"/>
            <p:cNvSpPr/>
            <p:nvPr/>
          </p:nvSpPr>
          <p:spPr>
            <a:xfrm>
              <a:off x="5980320" y="1282680"/>
              <a:ext cx="1208880" cy="3960360"/>
            </a:xfrm>
            <a:custGeom>
              <a:avLst/>
              <a:gdLst>
                <a:gd name="textAreaLeft" fmla="*/ 0 w 1208880"/>
                <a:gd name="textAreaRight" fmla="*/ 1209240 w 1208880"/>
                <a:gd name="textAreaTop" fmla="*/ 0 h 3960360"/>
                <a:gd name="textAreaBottom" fmla="*/ 3960360 h 3960360"/>
              </a:gdLst>
              <a:ahLst/>
              <a:rect l="textAreaLeft" t="textAreaTop" r="textAreaRight" b="textAreaBottom"/>
              <a:pathLst>
                <a:path w="718" h="2352">
                  <a:moveTo>
                    <a:pt x="670" y="60"/>
                  </a:moveTo>
                  <a:lnTo>
                    <a:pt x="647" y="52"/>
                  </a:lnTo>
                  <a:lnTo>
                    <a:pt x="591" y="37"/>
                  </a:lnTo>
                  <a:lnTo>
                    <a:pt x="536" y="23"/>
                  </a:lnTo>
                  <a:lnTo>
                    <a:pt x="476" y="14"/>
                  </a:lnTo>
                  <a:lnTo>
                    <a:pt x="419" y="6"/>
                  </a:lnTo>
                  <a:lnTo>
                    <a:pt x="359" y="2"/>
                  </a:lnTo>
                  <a:lnTo>
                    <a:pt x="298" y="0"/>
                  </a:lnTo>
                  <a:lnTo>
                    <a:pt x="286" y="0"/>
                  </a:lnTo>
                  <a:lnTo>
                    <a:pt x="286" y="2"/>
                  </a:lnTo>
                  <a:lnTo>
                    <a:pt x="284" y="2"/>
                  </a:lnTo>
                  <a:lnTo>
                    <a:pt x="284" y="4"/>
                  </a:lnTo>
                  <a:lnTo>
                    <a:pt x="284" y="6"/>
                  </a:lnTo>
                  <a:lnTo>
                    <a:pt x="282" y="6"/>
                  </a:lnTo>
                  <a:lnTo>
                    <a:pt x="282" y="8"/>
                  </a:lnTo>
                  <a:lnTo>
                    <a:pt x="282" y="10"/>
                  </a:lnTo>
                  <a:lnTo>
                    <a:pt x="282" y="10"/>
                  </a:lnTo>
                  <a:lnTo>
                    <a:pt x="298" y="10"/>
                  </a:lnTo>
                  <a:lnTo>
                    <a:pt x="357" y="12"/>
                  </a:lnTo>
                  <a:lnTo>
                    <a:pt x="417" y="15"/>
                  </a:lnTo>
                  <a:lnTo>
                    <a:pt x="476" y="23"/>
                  </a:lnTo>
                  <a:lnTo>
                    <a:pt x="532" y="35"/>
                  </a:lnTo>
                  <a:lnTo>
                    <a:pt x="589" y="46"/>
                  </a:lnTo>
                  <a:lnTo>
                    <a:pt x="645" y="63"/>
                  </a:lnTo>
                  <a:lnTo>
                    <a:pt x="664" y="69"/>
                  </a:lnTo>
                  <a:lnTo>
                    <a:pt x="664" y="67"/>
                  </a:lnTo>
                  <a:lnTo>
                    <a:pt x="666" y="67"/>
                  </a:lnTo>
                  <a:lnTo>
                    <a:pt x="666" y="65"/>
                  </a:lnTo>
                  <a:lnTo>
                    <a:pt x="666" y="65"/>
                  </a:lnTo>
                  <a:lnTo>
                    <a:pt x="668" y="63"/>
                  </a:lnTo>
                  <a:lnTo>
                    <a:pt x="668" y="61"/>
                  </a:lnTo>
                  <a:lnTo>
                    <a:pt x="668" y="61"/>
                  </a:lnTo>
                  <a:lnTo>
                    <a:pt x="670" y="60"/>
                  </a:lnTo>
                  <a:close/>
                  <a:moveTo>
                    <a:pt x="2" y="2314"/>
                  </a:moveTo>
                  <a:lnTo>
                    <a:pt x="4" y="2316"/>
                  </a:lnTo>
                  <a:lnTo>
                    <a:pt x="62" y="2327"/>
                  </a:lnTo>
                  <a:lnTo>
                    <a:pt x="119" y="2339"/>
                  </a:lnTo>
                  <a:lnTo>
                    <a:pt x="177" y="2347"/>
                  </a:lnTo>
                  <a:lnTo>
                    <a:pt x="238" y="2350"/>
                  </a:lnTo>
                  <a:lnTo>
                    <a:pt x="298" y="2352"/>
                  </a:lnTo>
                  <a:lnTo>
                    <a:pt x="359" y="2350"/>
                  </a:lnTo>
                  <a:lnTo>
                    <a:pt x="419" y="2347"/>
                  </a:lnTo>
                  <a:lnTo>
                    <a:pt x="476" y="2339"/>
                  </a:lnTo>
                  <a:lnTo>
                    <a:pt x="536" y="2327"/>
                  </a:lnTo>
                  <a:lnTo>
                    <a:pt x="591" y="2316"/>
                  </a:lnTo>
                  <a:lnTo>
                    <a:pt x="647" y="2299"/>
                  </a:lnTo>
                  <a:lnTo>
                    <a:pt x="703" y="2281"/>
                  </a:lnTo>
                  <a:lnTo>
                    <a:pt x="718" y="2274"/>
                  </a:lnTo>
                  <a:lnTo>
                    <a:pt x="712" y="2264"/>
                  </a:lnTo>
                  <a:lnTo>
                    <a:pt x="699" y="2270"/>
                  </a:lnTo>
                  <a:lnTo>
                    <a:pt x="645" y="2289"/>
                  </a:lnTo>
                  <a:lnTo>
                    <a:pt x="589" y="2304"/>
                  </a:lnTo>
                  <a:lnTo>
                    <a:pt x="532" y="2318"/>
                  </a:lnTo>
                  <a:lnTo>
                    <a:pt x="476" y="2327"/>
                  </a:lnTo>
                  <a:lnTo>
                    <a:pt x="417" y="2335"/>
                  </a:lnTo>
                  <a:lnTo>
                    <a:pt x="357" y="2339"/>
                  </a:lnTo>
                  <a:lnTo>
                    <a:pt x="298" y="2341"/>
                  </a:lnTo>
                  <a:lnTo>
                    <a:pt x="238" y="2339"/>
                  </a:lnTo>
                  <a:lnTo>
                    <a:pt x="179" y="2335"/>
                  </a:lnTo>
                  <a:lnTo>
                    <a:pt x="121" y="2327"/>
                  </a:lnTo>
                  <a:lnTo>
                    <a:pt x="64" y="2318"/>
                  </a:lnTo>
                  <a:lnTo>
                    <a:pt x="6" y="2304"/>
                  </a:lnTo>
                  <a:lnTo>
                    <a:pt x="0" y="2303"/>
                  </a:lnTo>
                  <a:lnTo>
                    <a:pt x="0" y="2304"/>
                  </a:lnTo>
                  <a:lnTo>
                    <a:pt x="0" y="2306"/>
                  </a:lnTo>
                  <a:lnTo>
                    <a:pt x="0" y="2306"/>
                  </a:lnTo>
                  <a:lnTo>
                    <a:pt x="0" y="2308"/>
                  </a:lnTo>
                  <a:lnTo>
                    <a:pt x="0" y="2310"/>
                  </a:lnTo>
                  <a:lnTo>
                    <a:pt x="0" y="2312"/>
                  </a:lnTo>
                  <a:lnTo>
                    <a:pt x="2" y="2312"/>
                  </a:lnTo>
                  <a:lnTo>
                    <a:pt x="2" y="2314"/>
                  </a:lnTo>
                  <a:close/>
                </a:path>
              </a:pathLst>
            </a:custGeom>
            <a:solidFill>
              <a:srgbClr val="23a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Freeform 308"/>
            <p:cNvSpPr/>
            <p:nvPr/>
          </p:nvSpPr>
          <p:spPr>
            <a:xfrm>
              <a:off x="5976720" y="1289880"/>
              <a:ext cx="1208880" cy="3945240"/>
            </a:xfrm>
            <a:custGeom>
              <a:avLst/>
              <a:gdLst>
                <a:gd name="textAreaLeft" fmla="*/ 0 w 1208880"/>
                <a:gd name="textAreaRight" fmla="*/ 1209240 w 1208880"/>
                <a:gd name="textAreaTop" fmla="*/ 0 h 3945240"/>
                <a:gd name="textAreaBottom" fmla="*/ 3945600 h 3945240"/>
              </a:gdLst>
              <a:ahLst/>
              <a:rect l="textAreaLeft" t="textAreaTop" r="textAreaRight" b="textAreaBottom"/>
              <a:pathLst>
                <a:path w="718" h="2343">
                  <a:moveTo>
                    <a:pt x="668" y="61"/>
                  </a:moveTo>
                  <a:lnTo>
                    <a:pt x="649" y="54"/>
                  </a:lnTo>
                  <a:lnTo>
                    <a:pt x="593" y="38"/>
                  </a:lnTo>
                  <a:lnTo>
                    <a:pt x="536" y="25"/>
                  </a:lnTo>
                  <a:lnTo>
                    <a:pt x="478" y="15"/>
                  </a:lnTo>
                  <a:lnTo>
                    <a:pt x="419" y="8"/>
                  </a:lnTo>
                  <a:lnTo>
                    <a:pt x="359" y="2"/>
                  </a:lnTo>
                  <a:lnTo>
                    <a:pt x="300" y="0"/>
                  </a:lnTo>
                  <a:lnTo>
                    <a:pt x="286" y="2"/>
                  </a:lnTo>
                  <a:lnTo>
                    <a:pt x="284" y="2"/>
                  </a:lnTo>
                  <a:lnTo>
                    <a:pt x="284" y="4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2" y="8"/>
                  </a:lnTo>
                  <a:lnTo>
                    <a:pt x="282" y="10"/>
                  </a:lnTo>
                  <a:lnTo>
                    <a:pt x="282" y="11"/>
                  </a:lnTo>
                  <a:lnTo>
                    <a:pt x="281" y="11"/>
                  </a:lnTo>
                  <a:lnTo>
                    <a:pt x="300" y="11"/>
                  </a:lnTo>
                  <a:lnTo>
                    <a:pt x="359" y="13"/>
                  </a:lnTo>
                  <a:lnTo>
                    <a:pt x="419" y="17"/>
                  </a:lnTo>
                  <a:lnTo>
                    <a:pt x="476" y="25"/>
                  </a:lnTo>
                  <a:lnTo>
                    <a:pt x="534" y="34"/>
                  </a:lnTo>
                  <a:lnTo>
                    <a:pt x="590" y="48"/>
                  </a:lnTo>
                  <a:lnTo>
                    <a:pt x="645" y="63"/>
                  </a:lnTo>
                  <a:lnTo>
                    <a:pt x="664" y="71"/>
                  </a:lnTo>
                  <a:lnTo>
                    <a:pt x="664" y="69"/>
                  </a:lnTo>
                  <a:lnTo>
                    <a:pt x="664" y="67"/>
                  </a:lnTo>
                  <a:lnTo>
                    <a:pt x="666" y="67"/>
                  </a:lnTo>
                  <a:lnTo>
                    <a:pt x="666" y="65"/>
                  </a:lnTo>
                  <a:lnTo>
                    <a:pt x="666" y="63"/>
                  </a:lnTo>
                  <a:lnTo>
                    <a:pt x="668" y="63"/>
                  </a:lnTo>
                  <a:lnTo>
                    <a:pt x="668" y="61"/>
                  </a:lnTo>
                  <a:lnTo>
                    <a:pt x="668" y="61"/>
                  </a:lnTo>
                  <a:close/>
                  <a:moveTo>
                    <a:pt x="2" y="2304"/>
                  </a:moveTo>
                  <a:lnTo>
                    <a:pt x="8" y="2306"/>
                  </a:lnTo>
                  <a:lnTo>
                    <a:pt x="64" y="2320"/>
                  </a:lnTo>
                  <a:lnTo>
                    <a:pt x="121" y="2329"/>
                  </a:lnTo>
                  <a:lnTo>
                    <a:pt x="181" y="2337"/>
                  </a:lnTo>
                  <a:lnTo>
                    <a:pt x="240" y="2341"/>
                  </a:lnTo>
                  <a:lnTo>
                    <a:pt x="300" y="2343"/>
                  </a:lnTo>
                  <a:lnTo>
                    <a:pt x="359" y="2341"/>
                  </a:lnTo>
                  <a:lnTo>
                    <a:pt x="419" y="2337"/>
                  </a:lnTo>
                  <a:lnTo>
                    <a:pt x="478" y="2329"/>
                  </a:lnTo>
                  <a:lnTo>
                    <a:pt x="536" y="2320"/>
                  </a:lnTo>
                  <a:lnTo>
                    <a:pt x="593" y="2306"/>
                  </a:lnTo>
                  <a:lnTo>
                    <a:pt x="649" y="2291"/>
                  </a:lnTo>
                  <a:lnTo>
                    <a:pt x="703" y="2272"/>
                  </a:lnTo>
                  <a:lnTo>
                    <a:pt x="718" y="2266"/>
                  </a:lnTo>
                  <a:lnTo>
                    <a:pt x="712" y="2256"/>
                  </a:lnTo>
                  <a:lnTo>
                    <a:pt x="699" y="2262"/>
                  </a:lnTo>
                  <a:lnTo>
                    <a:pt x="645" y="2279"/>
                  </a:lnTo>
                  <a:lnTo>
                    <a:pt x="590" y="2295"/>
                  </a:lnTo>
                  <a:lnTo>
                    <a:pt x="534" y="2308"/>
                  </a:lnTo>
                  <a:lnTo>
                    <a:pt x="476" y="2320"/>
                  </a:lnTo>
                  <a:lnTo>
                    <a:pt x="419" y="2325"/>
                  </a:lnTo>
                  <a:lnTo>
                    <a:pt x="359" y="2331"/>
                  </a:lnTo>
                  <a:lnTo>
                    <a:pt x="300" y="2331"/>
                  </a:lnTo>
                  <a:lnTo>
                    <a:pt x="240" y="2331"/>
                  </a:lnTo>
                  <a:lnTo>
                    <a:pt x="181" y="2325"/>
                  </a:lnTo>
                  <a:lnTo>
                    <a:pt x="123" y="2320"/>
                  </a:lnTo>
                  <a:lnTo>
                    <a:pt x="66" y="2308"/>
                  </a:lnTo>
                  <a:lnTo>
                    <a:pt x="10" y="2295"/>
                  </a:lnTo>
                  <a:lnTo>
                    <a:pt x="0" y="2293"/>
                  </a:lnTo>
                  <a:lnTo>
                    <a:pt x="0" y="2295"/>
                  </a:lnTo>
                  <a:lnTo>
                    <a:pt x="0" y="2297"/>
                  </a:lnTo>
                  <a:lnTo>
                    <a:pt x="2" y="2297"/>
                  </a:lnTo>
                  <a:lnTo>
                    <a:pt x="2" y="2299"/>
                  </a:lnTo>
                  <a:lnTo>
                    <a:pt x="2" y="2300"/>
                  </a:lnTo>
                  <a:lnTo>
                    <a:pt x="2" y="2302"/>
                  </a:lnTo>
                  <a:lnTo>
                    <a:pt x="2" y="2302"/>
                  </a:lnTo>
                  <a:lnTo>
                    <a:pt x="2" y="2304"/>
                  </a:lnTo>
                  <a:close/>
                </a:path>
              </a:pathLst>
            </a:custGeom>
            <a:solidFill>
              <a:srgbClr val="24a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Freeform 309"/>
            <p:cNvSpPr/>
            <p:nvPr/>
          </p:nvSpPr>
          <p:spPr>
            <a:xfrm>
              <a:off x="5976720" y="1299600"/>
              <a:ext cx="1202040" cy="3925440"/>
            </a:xfrm>
            <a:custGeom>
              <a:avLst/>
              <a:gdLst>
                <a:gd name="textAreaLeft" fmla="*/ 0 w 1202040"/>
                <a:gd name="textAreaRight" fmla="*/ 1202400 w 1202040"/>
                <a:gd name="textAreaTop" fmla="*/ 0 h 3925440"/>
                <a:gd name="textAreaBottom" fmla="*/ 3925440 h 3925440"/>
              </a:gdLst>
              <a:ahLst/>
              <a:rect l="textAreaLeft" t="textAreaTop" r="textAreaRight" b="textAreaBottom"/>
              <a:pathLst>
                <a:path w="714" h="2331">
                  <a:moveTo>
                    <a:pt x="666" y="59"/>
                  </a:moveTo>
                  <a:lnTo>
                    <a:pt x="647" y="53"/>
                  </a:lnTo>
                  <a:lnTo>
                    <a:pt x="591" y="36"/>
                  </a:lnTo>
                  <a:lnTo>
                    <a:pt x="534" y="25"/>
                  </a:lnTo>
                  <a:lnTo>
                    <a:pt x="478" y="13"/>
                  </a:lnTo>
                  <a:lnTo>
                    <a:pt x="419" y="5"/>
                  </a:lnTo>
                  <a:lnTo>
                    <a:pt x="359" y="2"/>
                  </a:lnTo>
                  <a:lnTo>
                    <a:pt x="300" y="0"/>
                  </a:lnTo>
                  <a:lnTo>
                    <a:pt x="284" y="0"/>
                  </a:lnTo>
                  <a:lnTo>
                    <a:pt x="282" y="2"/>
                  </a:lnTo>
                  <a:lnTo>
                    <a:pt x="282" y="4"/>
                  </a:lnTo>
                  <a:lnTo>
                    <a:pt x="282" y="5"/>
                  </a:lnTo>
                  <a:lnTo>
                    <a:pt x="281" y="5"/>
                  </a:lnTo>
                  <a:lnTo>
                    <a:pt x="281" y="7"/>
                  </a:lnTo>
                  <a:lnTo>
                    <a:pt x="281" y="9"/>
                  </a:lnTo>
                  <a:lnTo>
                    <a:pt x="279" y="9"/>
                  </a:lnTo>
                  <a:lnTo>
                    <a:pt x="279" y="11"/>
                  </a:lnTo>
                  <a:lnTo>
                    <a:pt x="300" y="11"/>
                  </a:lnTo>
                  <a:lnTo>
                    <a:pt x="359" y="13"/>
                  </a:lnTo>
                  <a:lnTo>
                    <a:pt x="419" y="17"/>
                  </a:lnTo>
                  <a:lnTo>
                    <a:pt x="476" y="25"/>
                  </a:lnTo>
                  <a:lnTo>
                    <a:pt x="532" y="34"/>
                  </a:lnTo>
                  <a:lnTo>
                    <a:pt x="588" y="48"/>
                  </a:lnTo>
                  <a:lnTo>
                    <a:pt x="643" y="63"/>
                  </a:lnTo>
                  <a:lnTo>
                    <a:pt x="661" y="69"/>
                  </a:lnTo>
                  <a:lnTo>
                    <a:pt x="662" y="67"/>
                  </a:lnTo>
                  <a:lnTo>
                    <a:pt x="662" y="67"/>
                  </a:lnTo>
                  <a:lnTo>
                    <a:pt x="662" y="65"/>
                  </a:lnTo>
                  <a:lnTo>
                    <a:pt x="664" y="65"/>
                  </a:lnTo>
                  <a:lnTo>
                    <a:pt x="664" y="63"/>
                  </a:lnTo>
                  <a:lnTo>
                    <a:pt x="664" y="61"/>
                  </a:lnTo>
                  <a:lnTo>
                    <a:pt x="666" y="61"/>
                  </a:lnTo>
                  <a:lnTo>
                    <a:pt x="666" y="59"/>
                  </a:lnTo>
                  <a:close/>
                  <a:moveTo>
                    <a:pt x="2" y="2293"/>
                  </a:moveTo>
                  <a:lnTo>
                    <a:pt x="8" y="2294"/>
                  </a:lnTo>
                  <a:lnTo>
                    <a:pt x="66" y="2308"/>
                  </a:lnTo>
                  <a:lnTo>
                    <a:pt x="123" y="2317"/>
                  </a:lnTo>
                  <a:lnTo>
                    <a:pt x="181" y="2325"/>
                  </a:lnTo>
                  <a:lnTo>
                    <a:pt x="240" y="2329"/>
                  </a:lnTo>
                  <a:lnTo>
                    <a:pt x="300" y="2331"/>
                  </a:lnTo>
                  <a:lnTo>
                    <a:pt x="359" y="2329"/>
                  </a:lnTo>
                  <a:lnTo>
                    <a:pt x="419" y="2325"/>
                  </a:lnTo>
                  <a:lnTo>
                    <a:pt x="478" y="2317"/>
                  </a:lnTo>
                  <a:lnTo>
                    <a:pt x="534" y="2308"/>
                  </a:lnTo>
                  <a:lnTo>
                    <a:pt x="591" y="2294"/>
                  </a:lnTo>
                  <a:lnTo>
                    <a:pt x="647" y="2279"/>
                  </a:lnTo>
                  <a:lnTo>
                    <a:pt x="701" y="2260"/>
                  </a:lnTo>
                  <a:lnTo>
                    <a:pt x="714" y="2254"/>
                  </a:lnTo>
                  <a:lnTo>
                    <a:pt x="710" y="2245"/>
                  </a:lnTo>
                  <a:lnTo>
                    <a:pt x="697" y="2250"/>
                  </a:lnTo>
                  <a:lnTo>
                    <a:pt x="643" y="2269"/>
                  </a:lnTo>
                  <a:lnTo>
                    <a:pt x="588" y="2285"/>
                  </a:lnTo>
                  <a:lnTo>
                    <a:pt x="532" y="2296"/>
                  </a:lnTo>
                  <a:lnTo>
                    <a:pt x="476" y="2308"/>
                  </a:lnTo>
                  <a:lnTo>
                    <a:pt x="419" y="2316"/>
                  </a:lnTo>
                  <a:lnTo>
                    <a:pt x="359" y="2319"/>
                  </a:lnTo>
                  <a:lnTo>
                    <a:pt x="300" y="2321"/>
                  </a:lnTo>
                  <a:lnTo>
                    <a:pt x="240" y="2319"/>
                  </a:lnTo>
                  <a:lnTo>
                    <a:pt x="183" y="2316"/>
                  </a:lnTo>
                  <a:lnTo>
                    <a:pt x="123" y="2308"/>
                  </a:lnTo>
                  <a:lnTo>
                    <a:pt x="67" y="2296"/>
                  </a:lnTo>
                  <a:lnTo>
                    <a:pt x="12" y="2285"/>
                  </a:lnTo>
                  <a:lnTo>
                    <a:pt x="0" y="2281"/>
                  </a:lnTo>
                  <a:lnTo>
                    <a:pt x="0" y="2283"/>
                  </a:lnTo>
                  <a:lnTo>
                    <a:pt x="0" y="2285"/>
                  </a:lnTo>
                  <a:lnTo>
                    <a:pt x="0" y="2285"/>
                  </a:lnTo>
                  <a:lnTo>
                    <a:pt x="0" y="2287"/>
                  </a:lnTo>
                  <a:lnTo>
                    <a:pt x="0" y="2289"/>
                  </a:lnTo>
                  <a:lnTo>
                    <a:pt x="0" y="2291"/>
                  </a:lnTo>
                  <a:lnTo>
                    <a:pt x="2" y="2291"/>
                  </a:lnTo>
                  <a:lnTo>
                    <a:pt x="2" y="2293"/>
                  </a:lnTo>
                  <a:close/>
                </a:path>
              </a:pathLst>
            </a:custGeom>
            <a:solidFill>
              <a:srgbClr val="25a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Freeform 310"/>
            <p:cNvSpPr/>
            <p:nvPr/>
          </p:nvSpPr>
          <p:spPr>
            <a:xfrm>
              <a:off x="5973480" y="1308240"/>
              <a:ext cx="1202400" cy="3906360"/>
            </a:xfrm>
            <a:custGeom>
              <a:avLst/>
              <a:gdLst>
                <a:gd name="textAreaLeft" fmla="*/ 0 w 1202400"/>
                <a:gd name="textAreaRight" fmla="*/ 1202760 w 1202400"/>
                <a:gd name="textAreaTop" fmla="*/ 0 h 3906360"/>
                <a:gd name="textAreaBottom" fmla="*/ 3906720 h 3906360"/>
              </a:gdLst>
              <a:ahLst/>
              <a:rect l="textAreaLeft" t="textAreaTop" r="textAreaRight" b="textAreaBottom"/>
              <a:pathLst>
                <a:path w="714" h="2320">
                  <a:moveTo>
                    <a:pt x="666" y="60"/>
                  </a:moveTo>
                  <a:lnTo>
                    <a:pt x="647" y="52"/>
                  </a:lnTo>
                  <a:lnTo>
                    <a:pt x="592" y="37"/>
                  </a:lnTo>
                  <a:lnTo>
                    <a:pt x="536" y="23"/>
                  </a:lnTo>
                  <a:lnTo>
                    <a:pt x="478" y="14"/>
                  </a:lnTo>
                  <a:lnTo>
                    <a:pt x="421" y="6"/>
                  </a:lnTo>
                  <a:lnTo>
                    <a:pt x="361" y="2"/>
                  </a:lnTo>
                  <a:lnTo>
                    <a:pt x="302" y="0"/>
                  </a:lnTo>
                  <a:lnTo>
                    <a:pt x="283" y="0"/>
                  </a:lnTo>
                  <a:lnTo>
                    <a:pt x="283" y="2"/>
                  </a:lnTo>
                  <a:lnTo>
                    <a:pt x="283" y="4"/>
                  </a:lnTo>
                  <a:lnTo>
                    <a:pt x="281" y="4"/>
                  </a:lnTo>
                  <a:lnTo>
                    <a:pt x="281" y="6"/>
                  </a:lnTo>
                  <a:lnTo>
                    <a:pt x="281" y="8"/>
                  </a:lnTo>
                  <a:lnTo>
                    <a:pt x="279" y="8"/>
                  </a:lnTo>
                  <a:lnTo>
                    <a:pt x="279" y="10"/>
                  </a:lnTo>
                  <a:lnTo>
                    <a:pt x="279" y="12"/>
                  </a:lnTo>
                  <a:lnTo>
                    <a:pt x="302" y="12"/>
                  </a:lnTo>
                  <a:lnTo>
                    <a:pt x="361" y="12"/>
                  </a:lnTo>
                  <a:lnTo>
                    <a:pt x="419" y="18"/>
                  </a:lnTo>
                  <a:lnTo>
                    <a:pt x="476" y="23"/>
                  </a:lnTo>
                  <a:lnTo>
                    <a:pt x="534" y="35"/>
                  </a:lnTo>
                  <a:lnTo>
                    <a:pt x="590" y="46"/>
                  </a:lnTo>
                  <a:lnTo>
                    <a:pt x="643" y="64"/>
                  </a:lnTo>
                  <a:lnTo>
                    <a:pt x="661" y="68"/>
                  </a:lnTo>
                  <a:lnTo>
                    <a:pt x="661" y="68"/>
                  </a:lnTo>
                  <a:lnTo>
                    <a:pt x="663" y="66"/>
                  </a:lnTo>
                  <a:lnTo>
                    <a:pt x="663" y="66"/>
                  </a:lnTo>
                  <a:lnTo>
                    <a:pt x="663" y="64"/>
                  </a:lnTo>
                  <a:lnTo>
                    <a:pt x="664" y="62"/>
                  </a:lnTo>
                  <a:lnTo>
                    <a:pt x="664" y="62"/>
                  </a:lnTo>
                  <a:lnTo>
                    <a:pt x="664" y="60"/>
                  </a:lnTo>
                  <a:lnTo>
                    <a:pt x="666" y="60"/>
                  </a:lnTo>
                  <a:close/>
                  <a:moveTo>
                    <a:pt x="2" y="2282"/>
                  </a:moveTo>
                  <a:lnTo>
                    <a:pt x="12" y="2284"/>
                  </a:lnTo>
                  <a:lnTo>
                    <a:pt x="68" y="2297"/>
                  </a:lnTo>
                  <a:lnTo>
                    <a:pt x="125" y="2309"/>
                  </a:lnTo>
                  <a:lnTo>
                    <a:pt x="183" y="2314"/>
                  </a:lnTo>
                  <a:lnTo>
                    <a:pt x="242" y="2320"/>
                  </a:lnTo>
                  <a:lnTo>
                    <a:pt x="302" y="2320"/>
                  </a:lnTo>
                  <a:lnTo>
                    <a:pt x="361" y="2320"/>
                  </a:lnTo>
                  <a:lnTo>
                    <a:pt x="421" y="2314"/>
                  </a:lnTo>
                  <a:lnTo>
                    <a:pt x="478" y="2309"/>
                  </a:lnTo>
                  <a:lnTo>
                    <a:pt x="536" y="2297"/>
                  </a:lnTo>
                  <a:lnTo>
                    <a:pt x="592" y="2284"/>
                  </a:lnTo>
                  <a:lnTo>
                    <a:pt x="647" y="2268"/>
                  </a:lnTo>
                  <a:lnTo>
                    <a:pt x="701" y="2251"/>
                  </a:lnTo>
                  <a:lnTo>
                    <a:pt x="714" y="2245"/>
                  </a:lnTo>
                  <a:lnTo>
                    <a:pt x="711" y="2236"/>
                  </a:lnTo>
                  <a:lnTo>
                    <a:pt x="697" y="2241"/>
                  </a:lnTo>
                  <a:lnTo>
                    <a:pt x="643" y="2259"/>
                  </a:lnTo>
                  <a:lnTo>
                    <a:pt x="590" y="2274"/>
                  </a:lnTo>
                  <a:lnTo>
                    <a:pt x="534" y="2288"/>
                  </a:lnTo>
                  <a:lnTo>
                    <a:pt x="476" y="2297"/>
                  </a:lnTo>
                  <a:lnTo>
                    <a:pt x="419" y="2305"/>
                  </a:lnTo>
                  <a:lnTo>
                    <a:pt x="361" y="2309"/>
                  </a:lnTo>
                  <a:lnTo>
                    <a:pt x="302" y="2311"/>
                  </a:lnTo>
                  <a:lnTo>
                    <a:pt x="242" y="2309"/>
                  </a:lnTo>
                  <a:lnTo>
                    <a:pt x="185" y="2305"/>
                  </a:lnTo>
                  <a:lnTo>
                    <a:pt x="127" y="2297"/>
                  </a:lnTo>
                  <a:lnTo>
                    <a:pt x="69" y="2288"/>
                  </a:lnTo>
                  <a:lnTo>
                    <a:pt x="14" y="2274"/>
                  </a:lnTo>
                  <a:lnTo>
                    <a:pt x="0" y="2270"/>
                  </a:lnTo>
                  <a:lnTo>
                    <a:pt x="0" y="2272"/>
                  </a:lnTo>
                  <a:lnTo>
                    <a:pt x="0" y="2274"/>
                  </a:lnTo>
                  <a:lnTo>
                    <a:pt x="0" y="2274"/>
                  </a:lnTo>
                  <a:lnTo>
                    <a:pt x="2" y="2276"/>
                  </a:lnTo>
                  <a:lnTo>
                    <a:pt x="2" y="2278"/>
                  </a:lnTo>
                  <a:lnTo>
                    <a:pt x="2" y="2280"/>
                  </a:lnTo>
                  <a:lnTo>
                    <a:pt x="2" y="2280"/>
                  </a:lnTo>
                  <a:lnTo>
                    <a:pt x="2" y="2282"/>
                  </a:lnTo>
                  <a:close/>
                </a:path>
              </a:pathLst>
            </a:custGeom>
            <a:solidFill>
              <a:srgbClr val="26a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Freeform 311"/>
            <p:cNvSpPr/>
            <p:nvPr/>
          </p:nvSpPr>
          <p:spPr>
            <a:xfrm>
              <a:off x="5973480" y="1318320"/>
              <a:ext cx="1199160" cy="3889440"/>
            </a:xfrm>
            <a:custGeom>
              <a:avLst/>
              <a:gdLst>
                <a:gd name="textAreaLeft" fmla="*/ 0 w 1199160"/>
                <a:gd name="textAreaRight" fmla="*/ 1199520 w 1199160"/>
                <a:gd name="textAreaTop" fmla="*/ 0 h 3889440"/>
                <a:gd name="textAreaBottom" fmla="*/ 3889800 h 3889440"/>
              </a:gdLst>
              <a:ahLst/>
              <a:rect l="textAreaLeft" t="textAreaTop" r="textAreaRight" b="textAreaBottom"/>
              <a:pathLst>
                <a:path w="712" h="2310">
                  <a:moveTo>
                    <a:pt x="663" y="58"/>
                  </a:moveTo>
                  <a:lnTo>
                    <a:pt x="645" y="52"/>
                  </a:lnTo>
                  <a:lnTo>
                    <a:pt x="590" y="37"/>
                  </a:lnTo>
                  <a:lnTo>
                    <a:pt x="534" y="23"/>
                  </a:lnTo>
                  <a:lnTo>
                    <a:pt x="478" y="14"/>
                  </a:lnTo>
                  <a:lnTo>
                    <a:pt x="421" y="6"/>
                  </a:lnTo>
                  <a:lnTo>
                    <a:pt x="361" y="2"/>
                  </a:lnTo>
                  <a:lnTo>
                    <a:pt x="302" y="0"/>
                  </a:lnTo>
                  <a:lnTo>
                    <a:pt x="281" y="0"/>
                  </a:lnTo>
                  <a:lnTo>
                    <a:pt x="281" y="2"/>
                  </a:lnTo>
                  <a:lnTo>
                    <a:pt x="279" y="2"/>
                  </a:lnTo>
                  <a:lnTo>
                    <a:pt x="279" y="4"/>
                  </a:lnTo>
                  <a:lnTo>
                    <a:pt x="279" y="6"/>
                  </a:lnTo>
                  <a:lnTo>
                    <a:pt x="277" y="8"/>
                  </a:lnTo>
                  <a:lnTo>
                    <a:pt x="277" y="8"/>
                  </a:lnTo>
                  <a:lnTo>
                    <a:pt x="277" y="10"/>
                  </a:lnTo>
                  <a:lnTo>
                    <a:pt x="277" y="12"/>
                  </a:lnTo>
                  <a:lnTo>
                    <a:pt x="302" y="10"/>
                  </a:lnTo>
                  <a:lnTo>
                    <a:pt x="361" y="12"/>
                  </a:lnTo>
                  <a:lnTo>
                    <a:pt x="419" y="16"/>
                  </a:lnTo>
                  <a:lnTo>
                    <a:pt x="476" y="23"/>
                  </a:lnTo>
                  <a:lnTo>
                    <a:pt x="532" y="33"/>
                  </a:lnTo>
                  <a:lnTo>
                    <a:pt x="588" y="46"/>
                  </a:lnTo>
                  <a:lnTo>
                    <a:pt x="641" y="62"/>
                  </a:lnTo>
                  <a:lnTo>
                    <a:pt x="659" y="67"/>
                  </a:lnTo>
                  <a:lnTo>
                    <a:pt x="659" y="65"/>
                  </a:lnTo>
                  <a:lnTo>
                    <a:pt x="659" y="65"/>
                  </a:lnTo>
                  <a:lnTo>
                    <a:pt x="661" y="64"/>
                  </a:lnTo>
                  <a:lnTo>
                    <a:pt x="661" y="64"/>
                  </a:lnTo>
                  <a:lnTo>
                    <a:pt x="661" y="62"/>
                  </a:lnTo>
                  <a:lnTo>
                    <a:pt x="663" y="60"/>
                  </a:lnTo>
                  <a:lnTo>
                    <a:pt x="663" y="60"/>
                  </a:lnTo>
                  <a:lnTo>
                    <a:pt x="663" y="58"/>
                  </a:lnTo>
                  <a:close/>
                  <a:moveTo>
                    <a:pt x="2" y="2270"/>
                  </a:moveTo>
                  <a:lnTo>
                    <a:pt x="14" y="2274"/>
                  </a:lnTo>
                  <a:lnTo>
                    <a:pt x="69" y="2285"/>
                  </a:lnTo>
                  <a:lnTo>
                    <a:pt x="125" y="2297"/>
                  </a:lnTo>
                  <a:lnTo>
                    <a:pt x="185" y="2305"/>
                  </a:lnTo>
                  <a:lnTo>
                    <a:pt x="242" y="2308"/>
                  </a:lnTo>
                  <a:lnTo>
                    <a:pt x="302" y="2310"/>
                  </a:lnTo>
                  <a:lnTo>
                    <a:pt x="361" y="2308"/>
                  </a:lnTo>
                  <a:lnTo>
                    <a:pt x="421" y="2305"/>
                  </a:lnTo>
                  <a:lnTo>
                    <a:pt x="478" y="2297"/>
                  </a:lnTo>
                  <a:lnTo>
                    <a:pt x="534" y="2285"/>
                  </a:lnTo>
                  <a:lnTo>
                    <a:pt x="590" y="2274"/>
                  </a:lnTo>
                  <a:lnTo>
                    <a:pt x="645" y="2258"/>
                  </a:lnTo>
                  <a:lnTo>
                    <a:pt x="699" y="2239"/>
                  </a:lnTo>
                  <a:lnTo>
                    <a:pt x="712" y="2234"/>
                  </a:lnTo>
                  <a:lnTo>
                    <a:pt x="707" y="2224"/>
                  </a:lnTo>
                  <a:lnTo>
                    <a:pt x="695" y="2230"/>
                  </a:lnTo>
                  <a:lnTo>
                    <a:pt x="641" y="2247"/>
                  </a:lnTo>
                  <a:lnTo>
                    <a:pt x="588" y="2262"/>
                  </a:lnTo>
                  <a:lnTo>
                    <a:pt x="532" y="2276"/>
                  </a:lnTo>
                  <a:lnTo>
                    <a:pt x="476" y="2285"/>
                  </a:lnTo>
                  <a:lnTo>
                    <a:pt x="419" y="2293"/>
                  </a:lnTo>
                  <a:lnTo>
                    <a:pt x="361" y="2297"/>
                  </a:lnTo>
                  <a:lnTo>
                    <a:pt x="302" y="2299"/>
                  </a:lnTo>
                  <a:lnTo>
                    <a:pt x="242" y="2297"/>
                  </a:lnTo>
                  <a:lnTo>
                    <a:pt x="185" y="2293"/>
                  </a:lnTo>
                  <a:lnTo>
                    <a:pt x="127" y="2285"/>
                  </a:lnTo>
                  <a:lnTo>
                    <a:pt x="71" y="2276"/>
                  </a:lnTo>
                  <a:lnTo>
                    <a:pt x="16" y="2262"/>
                  </a:lnTo>
                  <a:lnTo>
                    <a:pt x="0" y="2258"/>
                  </a:lnTo>
                  <a:lnTo>
                    <a:pt x="0" y="2260"/>
                  </a:lnTo>
                  <a:lnTo>
                    <a:pt x="0" y="2260"/>
                  </a:lnTo>
                  <a:lnTo>
                    <a:pt x="0" y="2262"/>
                  </a:lnTo>
                  <a:lnTo>
                    <a:pt x="0" y="2264"/>
                  </a:lnTo>
                  <a:lnTo>
                    <a:pt x="0" y="2266"/>
                  </a:lnTo>
                  <a:lnTo>
                    <a:pt x="0" y="2268"/>
                  </a:lnTo>
                  <a:lnTo>
                    <a:pt x="0" y="2268"/>
                  </a:lnTo>
                  <a:lnTo>
                    <a:pt x="2" y="2270"/>
                  </a:lnTo>
                  <a:close/>
                </a:path>
              </a:pathLst>
            </a:custGeom>
            <a:solidFill>
              <a:srgbClr val="27a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Freeform 312"/>
            <p:cNvSpPr/>
            <p:nvPr/>
          </p:nvSpPr>
          <p:spPr>
            <a:xfrm>
              <a:off x="5969880" y="1328400"/>
              <a:ext cx="1200600" cy="3871080"/>
            </a:xfrm>
            <a:custGeom>
              <a:avLst/>
              <a:gdLst>
                <a:gd name="textAreaLeft" fmla="*/ 0 w 1200600"/>
                <a:gd name="textAreaRight" fmla="*/ 1200960 w 1200600"/>
                <a:gd name="textAreaTop" fmla="*/ 0 h 3871080"/>
                <a:gd name="textAreaBottom" fmla="*/ 3871440 h 3871080"/>
              </a:gdLst>
              <a:ahLst/>
              <a:rect l="textAreaLeft" t="textAreaTop" r="textAreaRight" b="textAreaBottom"/>
              <a:pathLst>
                <a:path w="713" h="2299">
                  <a:moveTo>
                    <a:pt x="663" y="56"/>
                  </a:moveTo>
                  <a:lnTo>
                    <a:pt x="645" y="52"/>
                  </a:lnTo>
                  <a:lnTo>
                    <a:pt x="592" y="34"/>
                  </a:lnTo>
                  <a:lnTo>
                    <a:pt x="536" y="23"/>
                  </a:lnTo>
                  <a:lnTo>
                    <a:pt x="478" y="11"/>
                  </a:lnTo>
                  <a:lnTo>
                    <a:pt x="421" y="6"/>
                  </a:lnTo>
                  <a:lnTo>
                    <a:pt x="363" y="0"/>
                  </a:lnTo>
                  <a:lnTo>
                    <a:pt x="304" y="0"/>
                  </a:lnTo>
                  <a:lnTo>
                    <a:pt x="281" y="0"/>
                  </a:lnTo>
                  <a:lnTo>
                    <a:pt x="279" y="2"/>
                  </a:lnTo>
                  <a:lnTo>
                    <a:pt x="279" y="2"/>
                  </a:lnTo>
                  <a:lnTo>
                    <a:pt x="279" y="4"/>
                  </a:lnTo>
                  <a:lnTo>
                    <a:pt x="277" y="6"/>
                  </a:lnTo>
                  <a:lnTo>
                    <a:pt x="277" y="6"/>
                  </a:lnTo>
                  <a:lnTo>
                    <a:pt x="277" y="8"/>
                  </a:lnTo>
                  <a:lnTo>
                    <a:pt x="277" y="10"/>
                  </a:lnTo>
                  <a:lnTo>
                    <a:pt x="275" y="11"/>
                  </a:lnTo>
                  <a:lnTo>
                    <a:pt x="304" y="10"/>
                  </a:lnTo>
                  <a:lnTo>
                    <a:pt x="363" y="11"/>
                  </a:lnTo>
                  <a:lnTo>
                    <a:pt x="421" y="15"/>
                  </a:lnTo>
                  <a:lnTo>
                    <a:pt x="476" y="23"/>
                  </a:lnTo>
                  <a:lnTo>
                    <a:pt x="534" y="33"/>
                  </a:lnTo>
                  <a:lnTo>
                    <a:pt x="588" y="46"/>
                  </a:lnTo>
                  <a:lnTo>
                    <a:pt x="643" y="61"/>
                  </a:lnTo>
                  <a:lnTo>
                    <a:pt x="657" y="65"/>
                  </a:lnTo>
                  <a:lnTo>
                    <a:pt x="659" y="65"/>
                  </a:lnTo>
                  <a:lnTo>
                    <a:pt x="659" y="63"/>
                  </a:lnTo>
                  <a:lnTo>
                    <a:pt x="659" y="63"/>
                  </a:lnTo>
                  <a:lnTo>
                    <a:pt x="661" y="61"/>
                  </a:lnTo>
                  <a:lnTo>
                    <a:pt x="661" y="59"/>
                  </a:lnTo>
                  <a:lnTo>
                    <a:pt x="661" y="59"/>
                  </a:lnTo>
                  <a:lnTo>
                    <a:pt x="663" y="58"/>
                  </a:lnTo>
                  <a:lnTo>
                    <a:pt x="663" y="56"/>
                  </a:lnTo>
                  <a:close/>
                  <a:moveTo>
                    <a:pt x="2" y="2258"/>
                  </a:moveTo>
                  <a:lnTo>
                    <a:pt x="16" y="2262"/>
                  </a:lnTo>
                  <a:lnTo>
                    <a:pt x="71" y="2276"/>
                  </a:lnTo>
                  <a:lnTo>
                    <a:pt x="129" y="2285"/>
                  </a:lnTo>
                  <a:lnTo>
                    <a:pt x="187" y="2293"/>
                  </a:lnTo>
                  <a:lnTo>
                    <a:pt x="244" y="2297"/>
                  </a:lnTo>
                  <a:lnTo>
                    <a:pt x="304" y="2299"/>
                  </a:lnTo>
                  <a:lnTo>
                    <a:pt x="363" y="2297"/>
                  </a:lnTo>
                  <a:lnTo>
                    <a:pt x="421" y="2293"/>
                  </a:lnTo>
                  <a:lnTo>
                    <a:pt x="478" y="2285"/>
                  </a:lnTo>
                  <a:lnTo>
                    <a:pt x="536" y="2276"/>
                  </a:lnTo>
                  <a:lnTo>
                    <a:pt x="592" y="2262"/>
                  </a:lnTo>
                  <a:lnTo>
                    <a:pt x="645" y="2247"/>
                  </a:lnTo>
                  <a:lnTo>
                    <a:pt x="699" y="2229"/>
                  </a:lnTo>
                  <a:lnTo>
                    <a:pt x="713" y="2224"/>
                  </a:lnTo>
                  <a:lnTo>
                    <a:pt x="707" y="2214"/>
                  </a:lnTo>
                  <a:lnTo>
                    <a:pt x="695" y="2218"/>
                  </a:lnTo>
                  <a:lnTo>
                    <a:pt x="643" y="2237"/>
                  </a:lnTo>
                  <a:lnTo>
                    <a:pt x="588" y="2252"/>
                  </a:lnTo>
                  <a:lnTo>
                    <a:pt x="534" y="2264"/>
                  </a:lnTo>
                  <a:lnTo>
                    <a:pt x="476" y="2276"/>
                  </a:lnTo>
                  <a:lnTo>
                    <a:pt x="421" y="2281"/>
                  </a:lnTo>
                  <a:lnTo>
                    <a:pt x="363" y="2287"/>
                  </a:lnTo>
                  <a:lnTo>
                    <a:pt x="304" y="2287"/>
                  </a:lnTo>
                  <a:lnTo>
                    <a:pt x="246" y="2287"/>
                  </a:lnTo>
                  <a:lnTo>
                    <a:pt x="187" y="2281"/>
                  </a:lnTo>
                  <a:lnTo>
                    <a:pt x="131" y="2276"/>
                  </a:lnTo>
                  <a:lnTo>
                    <a:pt x="73" y="2264"/>
                  </a:lnTo>
                  <a:lnTo>
                    <a:pt x="20" y="2252"/>
                  </a:lnTo>
                  <a:lnTo>
                    <a:pt x="0" y="2247"/>
                  </a:lnTo>
                  <a:lnTo>
                    <a:pt x="0" y="2249"/>
                  </a:lnTo>
                  <a:lnTo>
                    <a:pt x="0" y="2249"/>
                  </a:lnTo>
                  <a:lnTo>
                    <a:pt x="0" y="2251"/>
                  </a:lnTo>
                  <a:lnTo>
                    <a:pt x="2" y="2252"/>
                  </a:lnTo>
                  <a:lnTo>
                    <a:pt x="2" y="2254"/>
                  </a:lnTo>
                  <a:lnTo>
                    <a:pt x="2" y="2254"/>
                  </a:lnTo>
                  <a:lnTo>
                    <a:pt x="2" y="2256"/>
                  </a:lnTo>
                  <a:lnTo>
                    <a:pt x="2" y="2258"/>
                  </a:lnTo>
                  <a:close/>
                </a:path>
              </a:pathLst>
            </a:custGeom>
            <a:solidFill>
              <a:srgbClr val="28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Freeform 313"/>
            <p:cNvSpPr/>
            <p:nvPr/>
          </p:nvSpPr>
          <p:spPr>
            <a:xfrm>
              <a:off x="5969880" y="1335240"/>
              <a:ext cx="1194120" cy="3854160"/>
            </a:xfrm>
            <a:custGeom>
              <a:avLst/>
              <a:gdLst>
                <a:gd name="textAreaLeft" fmla="*/ 0 w 1194120"/>
                <a:gd name="textAreaRight" fmla="*/ 1194480 w 1194120"/>
                <a:gd name="textAreaTop" fmla="*/ 0 h 3854160"/>
                <a:gd name="textAreaBottom" fmla="*/ 3854520 h 3854160"/>
              </a:gdLst>
              <a:ahLst/>
              <a:rect l="textAreaLeft" t="textAreaTop" r="textAreaRight" b="textAreaBottom"/>
              <a:pathLst>
                <a:path w="709" h="2289">
                  <a:moveTo>
                    <a:pt x="661" y="57"/>
                  </a:moveTo>
                  <a:lnTo>
                    <a:pt x="643" y="52"/>
                  </a:lnTo>
                  <a:lnTo>
                    <a:pt x="590" y="36"/>
                  </a:lnTo>
                  <a:lnTo>
                    <a:pt x="534" y="23"/>
                  </a:lnTo>
                  <a:lnTo>
                    <a:pt x="478" y="13"/>
                  </a:lnTo>
                  <a:lnTo>
                    <a:pt x="421" y="6"/>
                  </a:lnTo>
                  <a:lnTo>
                    <a:pt x="363" y="2"/>
                  </a:lnTo>
                  <a:lnTo>
                    <a:pt x="304" y="0"/>
                  </a:lnTo>
                  <a:lnTo>
                    <a:pt x="279" y="2"/>
                  </a:lnTo>
                  <a:lnTo>
                    <a:pt x="277" y="2"/>
                  </a:lnTo>
                  <a:lnTo>
                    <a:pt x="277" y="4"/>
                  </a:lnTo>
                  <a:lnTo>
                    <a:pt x="277" y="6"/>
                  </a:lnTo>
                  <a:lnTo>
                    <a:pt x="275" y="7"/>
                  </a:lnTo>
                  <a:lnTo>
                    <a:pt x="275" y="7"/>
                  </a:lnTo>
                  <a:lnTo>
                    <a:pt x="275" y="9"/>
                  </a:lnTo>
                  <a:lnTo>
                    <a:pt x="273" y="11"/>
                  </a:lnTo>
                  <a:lnTo>
                    <a:pt x="273" y="11"/>
                  </a:lnTo>
                  <a:lnTo>
                    <a:pt x="304" y="11"/>
                  </a:lnTo>
                  <a:lnTo>
                    <a:pt x="361" y="13"/>
                  </a:lnTo>
                  <a:lnTo>
                    <a:pt x="419" y="17"/>
                  </a:lnTo>
                  <a:lnTo>
                    <a:pt x="476" y="25"/>
                  </a:lnTo>
                  <a:lnTo>
                    <a:pt x="532" y="34"/>
                  </a:lnTo>
                  <a:lnTo>
                    <a:pt x="588" y="48"/>
                  </a:lnTo>
                  <a:lnTo>
                    <a:pt x="642" y="61"/>
                  </a:lnTo>
                  <a:lnTo>
                    <a:pt x="655" y="67"/>
                  </a:lnTo>
                  <a:lnTo>
                    <a:pt x="655" y="65"/>
                  </a:lnTo>
                  <a:lnTo>
                    <a:pt x="657" y="65"/>
                  </a:lnTo>
                  <a:lnTo>
                    <a:pt x="657" y="63"/>
                  </a:lnTo>
                  <a:lnTo>
                    <a:pt x="657" y="61"/>
                  </a:lnTo>
                  <a:lnTo>
                    <a:pt x="659" y="61"/>
                  </a:lnTo>
                  <a:lnTo>
                    <a:pt x="659" y="59"/>
                  </a:lnTo>
                  <a:lnTo>
                    <a:pt x="659" y="59"/>
                  </a:lnTo>
                  <a:lnTo>
                    <a:pt x="661" y="57"/>
                  </a:lnTo>
                  <a:close/>
                  <a:moveTo>
                    <a:pt x="2" y="2248"/>
                  </a:moveTo>
                  <a:lnTo>
                    <a:pt x="18" y="2252"/>
                  </a:lnTo>
                  <a:lnTo>
                    <a:pt x="73" y="2266"/>
                  </a:lnTo>
                  <a:lnTo>
                    <a:pt x="129" y="2275"/>
                  </a:lnTo>
                  <a:lnTo>
                    <a:pt x="187" y="2283"/>
                  </a:lnTo>
                  <a:lnTo>
                    <a:pt x="244" y="2287"/>
                  </a:lnTo>
                  <a:lnTo>
                    <a:pt x="304" y="2289"/>
                  </a:lnTo>
                  <a:lnTo>
                    <a:pt x="363" y="2287"/>
                  </a:lnTo>
                  <a:lnTo>
                    <a:pt x="421" y="2283"/>
                  </a:lnTo>
                  <a:lnTo>
                    <a:pt x="478" y="2275"/>
                  </a:lnTo>
                  <a:lnTo>
                    <a:pt x="534" y="2266"/>
                  </a:lnTo>
                  <a:lnTo>
                    <a:pt x="590" y="2252"/>
                  </a:lnTo>
                  <a:lnTo>
                    <a:pt x="643" y="2237"/>
                  </a:lnTo>
                  <a:lnTo>
                    <a:pt x="697" y="2220"/>
                  </a:lnTo>
                  <a:lnTo>
                    <a:pt x="709" y="2214"/>
                  </a:lnTo>
                  <a:lnTo>
                    <a:pt x="705" y="2204"/>
                  </a:lnTo>
                  <a:lnTo>
                    <a:pt x="693" y="2210"/>
                  </a:lnTo>
                  <a:lnTo>
                    <a:pt x="642" y="2227"/>
                  </a:lnTo>
                  <a:lnTo>
                    <a:pt x="588" y="2243"/>
                  </a:lnTo>
                  <a:lnTo>
                    <a:pt x="532" y="2256"/>
                  </a:lnTo>
                  <a:lnTo>
                    <a:pt x="476" y="2266"/>
                  </a:lnTo>
                  <a:lnTo>
                    <a:pt x="419" y="2273"/>
                  </a:lnTo>
                  <a:lnTo>
                    <a:pt x="361" y="2277"/>
                  </a:lnTo>
                  <a:lnTo>
                    <a:pt x="304" y="2279"/>
                  </a:lnTo>
                  <a:lnTo>
                    <a:pt x="246" y="2277"/>
                  </a:lnTo>
                  <a:lnTo>
                    <a:pt x="189" y="2273"/>
                  </a:lnTo>
                  <a:lnTo>
                    <a:pt x="131" y="2266"/>
                  </a:lnTo>
                  <a:lnTo>
                    <a:pt x="75" y="2256"/>
                  </a:lnTo>
                  <a:lnTo>
                    <a:pt x="20" y="2243"/>
                  </a:lnTo>
                  <a:lnTo>
                    <a:pt x="0" y="2237"/>
                  </a:lnTo>
                  <a:lnTo>
                    <a:pt x="0" y="2239"/>
                  </a:lnTo>
                  <a:lnTo>
                    <a:pt x="0" y="2239"/>
                  </a:lnTo>
                  <a:lnTo>
                    <a:pt x="0" y="2241"/>
                  </a:lnTo>
                  <a:lnTo>
                    <a:pt x="0" y="2243"/>
                  </a:lnTo>
                  <a:lnTo>
                    <a:pt x="0" y="2245"/>
                  </a:lnTo>
                  <a:lnTo>
                    <a:pt x="0" y="2245"/>
                  </a:lnTo>
                  <a:lnTo>
                    <a:pt x="0" y="2247"/>
                  </a:lnTo>
                  <a:lnTo>
                    <a:pt x="2" y="2248"/>
                  </a:lnTo>
                  <a:close/>
                </a:path>
              </a:pathLst>
            </a:custGeom>
            <a:solidFill>
              <a:srgbClr val="29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Freeform 314"/>
            <p:cNvSpPr/>
            <p:nvPr/>
          </p:nvSpPr>
          <p:spPr>
            <a:xfrm>
              <a:off x="5968440" y="1345320"/>
              <a:ext cx="1191960" cy="3833640"/>
            </a:xfrm>
            <a:custGeom>
              <a:avLst/>
              <a:gdLst>
                <a:gd name="textAreaLeft" fmla="*/ 0 w 1191960"/>
                <a:gd name="textAreaRight" fmla="*/ 1192320 w 1191960"/>
                <a:gd name="textAreaTop" fmla="*/ 0 h 3833640"/>
                <a:gd name="textAreaBottom" fmla="*/ 3834000 h 3833640"/>
              </a:gdLst>
              <a:ahLst/>
              <a:rect l="textAreaLeft" t="textAreaTop" r="textAreaRight" b="textAreaBottom"/>
              <a:pathLst>
                <a:path w="708" h="2277">
                  <a:moveTo>
                    <a:pt x="658" y="55"/>
                  </a:moveTo>
                  <a:lnTo>
                    <a:pt x="644" y="51"/>
                  </a:lnTo>
                  <a:lnTo>
                    <a:pt x="589" y="36"/>
                  </a:lnTo>
                  <a:lnTo>
                    <a:pt x="535" y="23"/>
                  </a:lnTo>
                  <a:lnTo>
                    <a:pt x="477" y="13"/>
                  </a:lnTo>
                  <a:lnTo>
                    <a:pt x="422" y="5"/>
                  </a:lnTo>
                  <a:lnTo>
                    <a:pt x="364" y="1"/>
                  </a:lnTo>
                  <a:lnTo>
                    <a:pt x="305" y="0"/>
                  </a:lnTo>
                  <a:lnTo>
                    <a:pt x="276" y="1"/>
                  </a:lnTo>
                  <a:lnTo>
                    <a:pt x="276" y="1"/>
                  </a:lnTo>
                  <a:lnTo>
                    <a:pt x="276" y="3"/>
                  </a:lnTo>
                  <a:lnTo>
                    <a:pt x="274" y="5"/>
                  </a:lnTo>
                  <a:lnTo>
                    <a:pt x="274" y="5"/>
                  </a:lnTo>
                  <a:lnTo>
                    <a:pt x="274" y="7"/>
                  </a:lnTo>
                  <a:lnTo>
                    <a:pt x="272" y="9"/>
                  </a:lnTo>
                  <a:lnTo>
                    <a:pt x="272" y="9"/>
                  </a:lnTo>
                  <a:lnTo>
                    <a:pt x="272" y="11"/>
                  </a:lnTo>
                  <a:lnTo>
                    <a:pt x="305" y="11"/>
                  </a:lnTo>
                  <a:lnTo>
                    <a:pt x="362" y="11"/>
                  </a:lnTo>
                  <a:lnTo>
                    <a:pt x="420" y="17"/>
                  </a:lnTo>
                  <a:lnTo>
                    <a:pt x="477" y="23"/>
                  </a:lnTo>
                  <a:lnTo>
                    <a:pt x="533" y="34"/>
                  </a:lnTo>
                  <a:lnTo>
                    <a:pt x="587" y="46"/>
                  </a:lnTo>
                  <a:lnTo>
                    <a:pt x="641" y="61"/>
                  </a:lnTo>
                  <a:lnTo>
                    <a:pt x="654" y="65"/>
                  </a:lnTo>
                  <a:lnTo>
                    <a:pt x="654" y="65"/>
                  </a:lnTo>
                  <a:lnTo>
                    <a:pt x="654" y="63"/>
                  </a:lnTo>
                  <a:lnTo>
                    <a:pt x="656" y="63"/>
                  </a:lnTo>
                  <a:lnTo>
                    <a:pt x="656" y="61"/>
                  </a:lnTo>
                  <a:lnTo>
                    <a:pt x="656" y="59"/>
                  </a:lnTo>
                  <a:lnTo>
                    <a:pt x="658" y="59"/>
                  </a:lnTo>
                  <a:lnTo>
                    <a:pt x="658" y="57"/>
                  </a:lnTo>
                  <a:lnTo>
                    <a:pt x="658" y="55"/>
                  </a:lnTo>
                  <a:close/>
                  <a:moveTo>
                    <a:pt x="1" y="2237"/>
                  </a:moveTo>
                  <a:lnTo>
                    <a:pt x="21" y="2242"/>
                  </a:lnTo>
                  <a:lnTo>
                    <a:pt x="74" y="2254"/>
                  </a:lnTo>
                  <a:lnTo>
                    <a:pt x="132" y="2266"/>
                  </a:lnTo>
                  <a:lnTo>
                    <a:pt x="188" y="2271"/>
                  </a:lnTo>
                  <a:lnTo>
                    <a:pt x="247" y="2277"/>
                  </a:lnTo>
                  <a:lnTo>
                    <a:pt x="305" y="2277"/>
                  </a:lnTo>
                  <a:lnTo>
                    <a:pt x="364" y="2277"/>
                  </a:lnTo>
                  <a:lnTo>
                    <a:pt x="422" y="2271"/>
                  </a:lnTo>
                  <a:lnTo>
                    <a:pt x="477" y="2266"/>
                  </a:lnTo>
                  <a:lnTo>
                    <a:pt x="535" y="2254"/>
                  </a:lnTo>
                  <a:lnTo>
                    <a:pt x="589" y="2242"/>
                  </a:lnTo>
                  <a:lnTo>
                    <a:pt x="644" y="2227"/>
                  </a:lnTo>
                  <a:lnTo>
                    <a:pt x="696" y="2208"/>
                  </a:lnTo>
                  <a:lnTo>
                    <a:pt x="708" y="2204"/>
                  </a:lnTo>
                  <a:lnTo>
                    <a:pt x="704" y="2195"/>
                  </a:lnTo>
                  <a:lnTo>
                    <a:pt x="692" y="2198"/>
                  </a:lnTo>
                  <a:lnTo>
                    <a:pt x="641" y="2216"/>
                  </a:lnTo>
                  <a:lnTo>
                    <a:pt x="587" y="2231"/>
                  </a:lnTo>
                  <a:lnTo>
                    <a:pt x="533" y="2244"/>
                  </a:lnTo>
                  <a:lnTo>
                    <a:pt x="477" y="2254"/>
                  </a:lnTo>
                  <a:lnTo>
                    <a:pt x="420" y="2262"/>
                  </a:lnTo>
                  <a:lnTo>
                    <a:pt x="362" y="2266"/>
                  </a:lnTo>
                  <a:lnTo>
                    <a:pt x="305" y="2267"/>
                  </a:lnTo>
                  <a:lnTo>
                    <a:pt x="247" y="2266"/>
                  </a:lnTo>
                  <a:lnTo>
                    <a:pt x="190" y="2262"/>
                  </a:lnTo>
                  <a:lnTo>
                    <a:pt x="134" y="2254"/>
                  </a:lnTo>
                  <a:lnTo>
                    <a:pt x="78" y="2244"/>
                  </a:lnTo>
                  <a:lnTo>
                    <a:pt x="23" y="2231"/>
                  </a:lnTo>
                  <a:lnTo>
                    <a:pt x="0" y="2225"/>
                  </a:lnTo>
                  <a:lnTo>
                    <a:pt x="0" y="2227"/>
                  </a:lnTo>
                  <a:lnTo>
                    <a:pt x="0" y="2227"/>
                  </a:lnTo>
                  <a:lnTo>
                    <a:pt x="0" y="2229"/>
                  </a:lnTo>
                  <a:lnTo>
                    <a:pt x="1" y="2231"/>
                  </a:lnTo>
                  <a:lnTo>
                    <a:pt x="1" y="2233"/>
                  </a:lnTo>
                  <a:lnTo>
                    <a:pt x="1" y="2233"/>
                  </a:lnTo>
                  <a:lnTo>
                    <a:pt x="1" y="2235"/>
                  </a:lnTo>
                  <a:lnTo>
                    <a:pt x="1" y="2237"/>
                  </a:lnTo>
                  <a:close/>
                </a:path>
              </a:pathLst>
            </a:custGeom>
            <a:solidFill>
              <a:srgbClr val="2a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Freeform 315"/>
            <p:cNvSpPr/>
            <p:nvPr/>
          </p:nvSpPr>
          <p:spPr>
            <a:xfrm>
              <a:off x="5968440" y="1353960"/>
              <a:ext cx="1188720" cy="3818880"/>
            </a:xfrm>
            <a:custGeom>
              <a:avLst/>
              <a:gdLst>
                <a:gd name="textAreaLeft" fmla="*/ 0 w 1188720"/>
                <a:gd name="textAreaRight" fmla="*/ 1189080 w 1188720"/>
                <a:gd name="textAreaTop" fmla="*/ 0 h 3818880"/>
                <a:gd name="textAreaBottom" fmla="*/ 3819240 h 3818880"/>
              </a:gdLst>
              <a:ahLst/>
              <a:rect l="textAreaLeft" t="textAreaTop" r="textAreaRight" b="textAreaBottom"/>
              <a:pathLst>
                <a:path w="706" h="2268">
                  <a:moveTo>
                    <a:pt x="656" y="56"/>
                  </a:moveTo>
                  <a:lnTo>
                    <a:pt x="643" y="50"/>
                  </a:lnTo>
                  <a:lnTo>
                    <a:pt x="589" y="37"/>
                  </a:lnTo>
                  <a:lnTo>
                    <a:pt x="533" y="23"/>
                  </a:lnTo>
                  <a:lnTo>
                    <a:pt x="477" y="14"/>
                  </a:lnTo>
                  <a:lnTo>
                    <a:pt x="420" y="6"/>
                  </a:lnTo>
                  <a:lnTo>
                    <a:pt x="362" y="2"/>
                  </a:lnTo>
                  <a:lnTo>
                    <a:pt x="305" y="0"/>
                  </a:lnTo>
                  <a:lnTo>
                    <a:pt x="274" y="0"/>
                  </a:lnTo>
                  <a:lnTo>
                    <a:pt x="274" y="2"/>
                  </a:lnTo>
                  <a:lnTo>
                    <a:pt x="272" y="4"/>
                  </a:lnTo>
                  <a:lnTo>
                    <a:pt x="272" y="4"/>
                  </a:lnTo>
                  <a:lnTo>
                    <a:pt x="272" y="6"/>
                  </a:lnTo>
                  <a:lnTo>
                    <a:pt x="270" y="8"/>
                  </a:lnTo>
                  <a:lnTo>
                    <a:pt x="270" y="10"/>
                  </a:lnTo>
                  <a:lnTo>
                    <a:pt x="270" y="10"/>
                  </a:lnTo>
                  <a:lnTo>
                    <a:pt x="268" y="12"/>
                  </a:lnTo>
                  <a:lnTo>
                    <a:pt x="305" y="10"/>
                  </a:lnTo>
                  <a:lnTo>
                    <a:pt x="362" y="12"/>
                  </a:lnTo>
                  <a:lnTo>
                    <a:pt x="420" y="16"/>
                  </a:lnTo>
                  <a:lnTo>
                    <a:pt x="476" y="23"/>
                  </a:lnTo>
                  <a:lnTo>
                    <a:pt x="531" y="33"/>
                  </a:lnTo>
                  <a:lnTo>
                    <a:pt x="585" y="46"/>
                  </a:lnTo>
                  <a:lnTo>
                    <a:pt x="639" y="62"/>
                  </a:lnTo>
                  <a:lnTo>
                    <a:pt x="650" y="66"/>
                  </a:lnTo>
                  <a:lnTo>
                    <a:pt x="652" y="64"/>
                  </a:lnTo>
                  <a:lnTo>
                    <a:pt x="652" y="64"/>
                  </a:lnTo>
                  <a:lnTo>
                    <a:pt x="652" y="62"/>
                  </a:lnTo>
                  <a:lnTo>
                    <a:pt x="654" y="60"/>
                  </a:lnTo>
                  <a:lnTo>
                    <a:pt x="654" y="60"/>
                  </a:lnTo>
                  <a:lnTo>
                    <a:pt x="654" y="58"/>
                  </a:lnTo>
                  <a:lnTo>
                    <a:pt x="656" y="58"/>
                  </a:lnTo>
                  <a:lnTo>
                    <a:pt x="656" y="56"/>
                  </a:lnTo>
                  <a:close/>
                  <a:moveTo>
                    <a:pt x="1" y="2226"/>
                  </a:moveTo>
                  <a:lnTo>
                    <a:pt x="21" y="2232"/>
                  </a:lnTo>
                  <a:lnTo>
                    <a:pt x="76" y="2245"/>
                  </a:lnTo>
                  <a:lnTo>
                    <a:pt x="132" y="2255"/>
                  </a:lnTo>
                  <a:lnTo>
                    <a:pt x="190" y="2262"/>
                  </a:lnTo>
                  <a:lnTo>
                    <a:pt x="247" y="2266"/>
                  </a:lnTo>
                  <a:lnTo>
                    <a:pt x="305" y="2268"/>
                  </a:lnTo>
                  <a:lnTo>
                    <a:pt x="362" y="2266"/>
                  </a:lnTo>
                  <a:lnTo>
                    <a:pt x="420" y="2262"/>
                  </a:lnTo>
                  <a:lnTo>
                    <a:pt x="477" y="2255"/>
                  </a:lnTo>
                  <a:lnTo>
                    <a:pt x="533" y="2245"/>
                  </a:lnTo>
                  <a:lnTo>
                    <a:pt x="589" y="2232"/>
                  </a:lnTo>
                  <a:lnTo>
                    <a:pt x="643" y="2216"/>
                  </a:lnTo>
                  <a:lnTo>
                    <a:pt x="694" y="2199"/>
                  </a:lnTo>
                  <a:lnTo>
                    <a:pt x="706" y="2193"/>
                  </a:lnTo>
                  <a:lnTo>
                    <a:pt x="702" y="2184"/>
                  </a:lnTo>
                  <a:lnTo>
                    <a:pt x="690" y="2190"/>
                  </a:lnTo>
                  <a:lnTo>
                    <a:pt x="639" y="2207"/>
                  </a:lnTo>
                  <a:lnTo>
                    <a:pt x="585" y="2222"/>
                  </a:lnTo>
                  <a:lnTo>
                    <a:pt x="531" y="2234"/>
                  </a:lnTo>
                  <a:lnTo>
                    <a:pt x="476" y="2243"/>
                  </a:lnTo>
                  <a:lnTo>
                    <a:pt x="420" y="2251"/>
                  </a:lnTo>
                  <a:lnTo>
                    <a:pt x="362" y="2255"/>
                  </a:lnTo>
                  <a:lnTo>
                    <a:pt x="305" y="2257"/>
                  </a:lnTo>
                  <a:lnTo>
                    <a:pt x="247" y="2255"/>
                  </a:lnTo>
                  <a:lnTo>
                    <a:pt x="190" y="2251"/>
                  </a:lnTo>
                  <a:lnTo>
                    <a:pt x="134" y="2243"/>
                  </a:lnTo>
                  <a:lnTo>
                    <a:pt x="78" y="2234"/>
                  </a:lnTo>
                  <a:lnTo>
                    <a:pt x="24" y="2222"/>
                  </a:lnTo>
                  <a:lnTo>
                    <a:pt x="0" y="2214"/>
                  </a:lnTo>
                  <a:lnTo>
                    <a:pt x="0" y="2216"/>
                  </a:lnTo>
                  <a:lnTo>
                    <a:pt x="0" y="2216"/>
                  </a:lnTo>
                  <a:lnTo>
                    <a:pt x="0" y="2218"/>
                  </a:lnTo>
                  <a:lnTo>
                    <a:pt x="0" y="2220"/>
                  </a:lnTo>
                  <a:lnTo>
                    <a:pt x="0" y="2222"/>
                  </a:lnTo>
                  <a:lnTo>
                    <a:pt x="0" y="2222"/>
                  </a:lnTo>
                  <a:lnTo>
                    <a:pt x="0" y="2224"/>
                  </a:lnTo>
                  <a:lnTo>
                    <a:pt x="1" y="2226"/>
                  </a:lnTo>
                  <a:close/>
                </a:path>
              </a:pathLst>
            </a:custGeom>
            <a:solidFill>
              <a:srgbClr val="2ba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Freeform 316"/>
            <p:cNvSpPr/>
            <p:nvPr/>
          </p:nvSpPr>
          <p:spPr>
            <a:xfrm>
              <a:off x="5964840" y="1363680"/>
              <a:ext cx="1188720" cy="3798720"/>
            </a:xfrm>
            <a:custGeom>
              <a:avLst/>
              <a:gdLst>
                <a:gd name="textAreaLeft" fmla="*/ 0 w 1188720"/>
                <a:gd name="textAreaRight" fmla="*/ 1189080 w 1188720"/>
                <a:gd name="textAreaTop" fmla="*/ 0 h 3798720"/>
                <a:gd name="textAreaBottom" fmla="*/ 3799080 h 3798720"/>
              </a:gdLst>
              <a:ahLst/>
              <a:rect l="textAreaLeft" t="textAreaTop" r="textAreaRight" b="textAreaBottom"/>
              <a:pathLst>
                <a:path w="706" h="2256">
                  <a:moveTo>
                    <a:pt x="656" y="54"/>
                  </a:moveTo>
                  <a:lnTo>
                    <a:pt x="643" y="50"/>
                  </a:lnTo>
                  <a:lnTo>
                    <a:pt x="589" y="35"/>
                  </a:lnTo>
                  <a:lnTo>
                    <a:pt x="535" y="23"/>
                  </a:lnTo>
                  <a:lnTo>
                    <a:pt x="479" y="12"/>
                  </a:lnTo>
                  <a:lnTo>
                    <a:pt x="422" y="6"/>
                  </a:lnTo>
                  <a:lnTo>
                    <a:pt x="364" y="0"/>
                  </a:lnTo>
                  <a:lnTo>
                    <a:pt x="307" y="0"/>
                  </a:lnTo>
                  <a:lnTo>
                    <a:pt x="274" y="0"/>
                  </a:lnTo>
                  <a:lnTo>
                    <a:pt x="272" y="2"/>
                  </a:lnTo>
                  <a:lnTo>
                    <a:pt x="272" y="4"/>
                  </a:lnTo>
                  <a:lnTo>
                    <a:pt x="272" y="4"/>
                  </a:lnTo>
                  <a:lnTo>
                    <a:pt x="270" y="6"/>
                  </a:lnTo>
                  <a:lnTo>
                    <a:pt x="270" y="8"/>
                  </a:lnTo>
                  <a:lnTo>
                    <a:pt x="270" y="8"/>
                  </a:lnTo>
                  <a:lnTo>
                    <a:pt x="270" y="10"/>
                  </a:lnTo>
                  <a:lnTo>
                    <a:pt x="268" y="12"/>
                  </a:lnTo>
                  <a:lnTo>
                    <a:pt x="307" y="10"/>
                  </a:lnTo>
                  <a:lnTo>
                    <a:pt x="364" y="12"/>
                  </a:lnTo>
                  <a:lnTo>
                    <a:pt x="422" y="15"/>
                  </a:lnTo>
                  <a:lnTo>
                    <a:pt x="478" y="23"/>
                  </a:lnTo>
                  <a:lnTo>
                    <a:pt x="531" y="33"/>
                  </a:lnTo>
                  <a:lnTo>
                    <a:pt x="587" y="46"/>
                  </a:lnTo>
                  <a:lnTo>
                    <a:pt x="639" y="60"/>
                  </a:lnTo>
                  <a:lnTo>
                    <a:pt x="650" y="63"/>
                  </a:lnTo>
                  <a:lnTo>
                    <a:pt x="650" y="63"/>
                  </a:lnTo>
                  <a:lnTo>
                    <a:pt x="652" y="61"/>
                  </a:lnTo>
                  <a:lnTo>
                    <a:pt x="652" y="61"/>
                  </a:lnTo>
                  <a:lnTo>
                    <a:pt x="652" y="60"/>
                  </a:lnTo>
                  <a:lnTo>
                    <a:pt x="654" y="58"/>
                  </a:lnTo>
                  <a:lnTo>
                    <a:pt x="654" y="58"/>
                  </a:lnTo>
                  <a:lnTo>
                    <a:pt x="654" y="56"/>
                  </a:lnTo>
                  <a:lnTo>
                    <a:pt x="656" y="54"/>
                  </a:lnTo>
                  <a:close/>
                  <a:moveTo>
                    <a:pt x="2" y="2214"/>
                  </a:moveTo>
                  <a:lnTo>
                    <a:pt x="25" y="2220"/>
                  </a:lnTo>
                  <a:lnTo>
                    <a:pt x="80" y="2233"/>
                  </a:lnTo>
                  <a:lnTo>
                    <a:pt x="136" y="2243"/>
                  </a:lnTo>
                  <a:lnTo>
                    <a:pt x="192" y="2251"/>
                  </a:lnTo>
                  <a:lnTo>
                    <a:pt x="249" y="2255"/>
                  </a:lnTo>
                  <a:lnTo>
                    <a:pt x="307" y="2256"/>
                  </a:lnTo>
                  <a:lnTo>
                    <a:pt x="364" y="2255"/>
                  </a:lnTo>
                  <a:lnTo>
                    <a:pt x="422" y="2251"/>
                  </a:lnTo>
                  <a:lnTo>
                    <a:pt x="479" y="2243"/>
                  </a:lnTo>
                  <a:lnTo>
                    <a:pt x="535" y="2233"/>
                  </a:lnTo>
                  <a:lnTo>
                    <a:pt x="589" y="2220"/>
                  </a:lnTo>
                  <a:lnTo>
                    <a:pt x="643" y="2205"/>
                  </a:lnTo>
                  <a:lnTo>
                    <a:pt x="694" y="2187"/>
                  </a:lnTo>
                  <a:lnTo>
                    <a:pt x="706" y="2184"/>
                  </a:lnTo>
                  <a:lnTo>
                    <a:pt x="700" y="2174"/>
                  </a:lnTo>
                  <a:lnTo>
                    <a:pt x="691" y="2178"/>
                  </a:lnTo>
                  <a:lnTo>
                    <a:pt x="639" y="2195"/>
                  </a:lnTo>
                  <a:lnTo>
                    <a:pt x="587" y="2210"/>
                  </a:lnTo>
                  <a:lnTo>
                    <a:pt x="531" y="2222"/>
                  </a:lnTo>
                  <a:lnTo>
                    <a:pt x="478" y="2233"/>
                  </a:lnTo>
                  <a:lnTo>
                    <a:pt x="422" y="2239"/>
                  </a:lnTo>
                  <a:lnTo>
                    <a:pt x="364" y="2245"/>
                  </a:lnTo>
                  <a:lnTo>
                    <a:pt x="307" y="2245"/>
                  </a:lnTo>
                  <a:lnTo>
                    <a:pt x="249" y="2245"/>
                  </a:lnTo>
                  <a:lnTo>
                    <a:pt x="193" y="2239"/>
                  </a:lnTo>
                  <a:lnTo>
                    <a:pt x="136" y="2233"/>
                  </a:lnTo>
                  <a:lnTo>
                    <a:pt x="82" y="2222"/>
                  </a:lnTo>
                  <a:lnTo>
                    <a:pt x="28" y="2210"/>
                  </a:lnTo>
                  <a:lnTo>
                    <a:pt x="0" y="2203"/>
                  </a:lnTo>
                  <a:lnTo>
                    <a:pt x="0" y="2205"/>
                  </a:lnTo>
                  <a:lnTo>
                    <a:pt x="0" y="2205"/>
                  </a:lnTo>
                  <a:lnTo>
                    <a:pt x="0" y="2207"/>
                  </a:lnTo>
                  <a:lnTo>
                    <a:pt x="2" y="2208"/>
                  </a:lnTo>
                  <a:lnTo>
                    <a:pt x="2" y="2210"/>
                  </a:lnTo>
                  <a:lnTo>
                    <a:pt x="2" y="2210"/>
                  </a:lnTo>
                  <a:lnTo>
                    <a:pt x="2" y="2212"/>
                  </a:lnTo>
                  <a:lnTo>
                    <a:pt x="2" y="2214"/>
                  </a:lnTo>
                  <a:close/>
                </a:path>
              </a:pathLst>
            </a:custGeom>
            <a:solidFill>
              <a:srgbClr val="2ca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Freeform 317"/>
            <p:cNvSpPr/>
            <p:nvPr/>
          </p:nvSpPr>
          <p:spPr>
            <a:xfrm>
              <a:off x="5964840" y="1370520"/>
              <a:ext cx="1185120" cy="3783240"/>
            </a:xfrm>
            <a:custGeom>
              <a:avLst/>
              <a:gdLst>
                <a:gd name="textAreaLeft" fmla="*/ 0 w 1185120"/>
                <a:gd name="textAreaRight" fmla="*/ 1185480 w 1185120"/>
                <a:gd name="textAreaTop" fmla="*/ 0 h 3783240"/>
                <a:gd name="textAreaBottom" fmla="*/ 3783600 h 3783240"/>
              </a:gdLst>
              <a:ahLst/>
              <a:rect l="textAreaLeft" t="textAreaTop" r="textAreaRight" b="textAreaBottom"/>
              <a:pathLst>
                <a:path w="704" h="2247">
                  <a:moveTo>
                    <a:pt x="652" y="56"/>
                  </a:moveTo>
                  <a:lnTo>
                    <a:pt x="641" y="52"/>
                  </a:lnTo>
                  <a:lnTo>
                    <a:pt x="587" y="36"/>
                  </a:lnTo>
                  <a:lnTo>
                    <a:pt x="533" y="23"/>
                  </a:lnTo>
                  <a:lnTo>
                    <a:pt x="478" y="13"/>
                  </a:lnTo>
                  <a:lnTo>
                    <a:pt x="422" y="6"/>
                  </a:lnTo>
                  <a:lnTo>
                    <a:pt x="364" y="2"/>
                  </a:lnTo>
                  <a:lnTo>
                    <a:pt x="307" y="0"/>
                  </a:lnTo>
                  <a:lnTo>
                    <a:pt x="270" y="2"/>
                  </a:lnTo>
                  <a:lnTo>
                    <a:pt x="270" y="4"/>
                  </a:lnTo>
                  <a:lnTo>
                    <a:pt x="270" y="4"/>
                  </a:lnTo>
                  <a:lnTo>
                    <a:pt x="270" y="6"/>
                  </a:lnTo>
                  <a:lnTo>
                    <a:pt x="268" y="8"/>
                  </a:lnTo>
                  <a:lnTo>
                    <a:pt x="268" y="8"/>
                  </a:lnTo>
                  <a:lnTo>
                    <a:pt x="268" y="9"/>
                  </a:lnTo>
                  <a:lnTo>
                    <a:pt x="266" y="11"/>
                  </a:lnTo>
                  <a:lnTo>
                    <a:pt x="266" y="13"/>
                  </a:lnTo>
                  <a:lnTo>
                    <a:pt x="307" y="11"/>
                  </a:lnTo>
                  <a:lnTo>
                    <a:pt x="364" y="13"/>
                  </a:lnTo>
                  <a:lnTo>
                    <a:pt x="420" y="17"/>
                  </a:lnTo>
                  <a:lnTo>
                    <a:pt x="476" y="25"/>
                  </a:lnTo>
                  <a:lnTo>
                    <a:pt x="531" y="34"/>
                  </a:lnTo>
                  <a:lnTo>
                    <a:pt x="585" y="46"/>
                  </a:lnTo>
                  <a:lnTo>
                    <a:pt x="637" y="61"/>
                  </a:lnTo>
                  <a:lnTo>
                    <a:pt x="648" y="65"/>
                  </a:lnTo>
                  <a:lnTo>
                    <a:pt x="648" y="63"/>
                  </a:lnTo>
                  <a:lnTo>
                    <a:pt x="648" y="63"/>
                  </a:lnTo>
                  <a:lnTo>
                    <a:pt x="650" y="61"/>
                  </a:lnTo>
                  <a:lnTo>
                    <a:pt x="650" y="59"/>
                  </a:lnTo>
                  <a:lnTo>
                    <a:pt x="650" y="59"/>
                  </a:lnTo>
                  <a:lnTo>
                    <a:pt x="652" y="57"/>
                  </a:lnTo>
                  <a:lnTo>
                    <a:pt x="652" y="57"/>
                  </a:lnTo>
                  <a:lnTo>
                    <a:pt x="652" y="56"/>
                  </a:lnTo>
                  <a:close/>
                  <a:moveTo>
                    <a:pt x="2" y="2204"/>
                  </a:moveTo>
                  <a:lnTo>
                    <a:pt x="26" y="2212"/>
                  </a:lnTo>
                  <a:lnTo>
                    <a:pt x="80" y="2224"/>
                  </a:lnTo>
                  <a:lnTo>
                    <a:pt x="136" y="2233"/>
                  </a:lnTo>
                  <a:lnTo>
                    <a:pt x="192" y="2241"/>
                  </a:lnTo>
                  <a:lnTo>
                    <a:pt x="249" y="2245"/>
                  </a:lnTo>
                  <a:lnTo>
                    <a:pt x="307" y="2247"/>
                  </a:lnTo>
                  <a:lnTo>
                    <a:pt x="364" y="2245"/>
                  </a:lnTo>
                  <a:lnTo>
                    <a:pt x="422" y="2241"/>
                  </a:lnTo>
                  <a:lnTo>
                    <a:pt x="478" y="2233"/>
                  </a:lnTo>
                  <a:lnTo>
                    <a:pt x="533" y="2224"/>
                  </a:lnTo>
                  <a:lnTo>
                    <a:pt x="587" y="2212"/>
                  </a:lnTo>
                  <a:lnTo>
                    <a:pt x="641" y="2197"/>
                  </a:lnTo>
                  <a:lnTo>
                    <a:pt x="692" y="2180"/>
                  </a:lnTo>
                  <a:lnTo>
                    <a:pt x="704" y="2174"/>
                  </a:lnTo>
                  <a:lnTo>
                    <a:pt x="698" y="2164"/>
                  </a:lnTo>
                  <a:lnTo>
                    <a:pt x="689" y="2168"/>
                  </a:lnTo>
                  <a:lnTo>
                    <a:pt x="637" y="2185"/>
                  </a:lnTo>
                  <a:lnTo>
                    <a:pt x="585" y="2201"/>
                  </a:lnTo>
                  <a:lnTo>
                    <a:pt x="531" y="2214"/>
                  </a:lnTo>
                  <a:lnTo>
                    <a:pt x="476" y="2224"/>
                  </a:lnTo>
                  <a:lnTo>
                    <a:pt x="420" y="2231"/>
                  </a:lnTo>
                  <a:lnTo>
                    <a:pt x="364" y="2235"/>
                  </a:lnTo>
                  <a:lnTo>
                    <a:pt x="307" y="2237"/>
                  </a:lnTo>
                  <a:lnTo>
                    <a:pt x="249" y="2235"/>
                  </a:lnTo>
                  <a:lnTo>
                    <a:pt x="193" y="2231"/>
                  </a:lnTo>
                  <a:lnTo>
                    <a:pt x="138" y="2224"/>
                  </a:lnTo>
                  <a:lnTo>
                    <a:pt x="82" y="2214"/>
                  </a:lnTo>
                  <a:lnTo>
                    <a:pt x="28" y="2201"/>
                  </a:lnTo>
                  <a:lnTo>
                    <a:pt x="0" y="2193"/>
                  </a:lnTo>
                  <a:lnTo>
                    <a:pt x="0" y="2195"/>
                  </a:lnTo>
                  <a:lnTo>
                    <a:pt x="0" y="2195"/>
                  </a:lnTo>
                  <a:lnTo>
                    <a:pt x="0" y="2197"/>
                  </a:lnTo>
                  <a:lnTo>
                    <a:pt x="0" y="2199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0" y="2203"/>
                  </a:lnTo>
                  <a:lnTo>
                    <a:pt x="2" y="2204"/>
                  </a:lnTo>
                  <a:close/>
                </a:path>
              </a:pathLst>
            </a:custGeom>
            <a:solidFill>
              <a:srgbClr val="2da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Freeform 318"/>
            <p:cNvSpPr/>
            <p:nvPr/>
          </p:nvSpPr>
          <p:spPr>
            <a:xfrm>
              <a:off x="5961600" y="1380600"/>
              <a:ext cx="1182240" cy="3763440"/>
            </a:xfrm>
            <a:custGeom>
              <a:avLst/>
              <a:gdLst>
                <a:gd name="textAreaLeft" fmla="*/ 0 w 1182240"/>
                <a:gd name="textAreaRight" fmla="*/ 1182600 w 1182240"/>
                <a:gd name="textAreaTop" fmla="*/ 0 h 3763440"/>
                <a:gd name="textAreaBottom" fmla="*/ 3763440 h 3763440"/>
              </a:gdLst>
              <a:ahLst/>
              <a:rect l="textAreaLeft" t="textAreaTop" r="textAreaRight" b="textAreaBottom"/>
              <a:pathLst>
                <a:path w="702" h="2235">
                  <a:moveTo>
                    <a:pt x="652" y="53"/>
                  </a:moveTo>
                  <a:lnTo>
                    <a:pt x="641" y="50"/>
                  </a:lnTo>
                  <a:lnTo>
                    <a:pt x="589" y="36"/>
                  </a:lnTo>
                  <a:lnTo>
                    <a:pt x="533" y="23"/>
                  </a:lnTo>
                  <a:lnTo>
                    <a:pt x="480" y="13"/>
                  </a:lnTo>
                  <a:lnTo>
                    <a:pt x="424" y="5"/>
                  </a:lnTo>
                  <a:lnTo>
                    <a:pt x="366" y="2"/>
                  </a:lnTo>
                  <a:lnTo>
                    <a:pt x="309" y="0"/>
                  </a:lnTo>
                  <a:lnTo>
                    <a:pt x="270" y="2"/>
                  </a:lnTo>
                  <a:lnTo>
                    <a:pt x="270" y="2"/>
                  </a:lnTo>
                  <a:lnTo>
                    <a:pt x="270" y="3"/>
                  </a:lnTo>
                  <a:lnTo>
                    <a:pt x="268" y="5"/>
                  </a:lnTo>
                  <a:lnTo>
                    <a:pt x="268" y="7"/>
                  </a:lnTo>
                  <a:lnTo>
                    <a:pt x="268" y="7"/>
                  </a:lnTo>
                  <a:lnTo>
                    <a:pt x="266" y="9"/>
                  </a:lnTo>
                  <a:lnTo>
                    <a:pt x="266" y="11"/>
                  </a:lnTo>
                  <a:lnTo>
                    <a:pt x="266" y="11"/>
                  </a:lnTo>
                  <a:lnTo>
                    <a:pt x="309" y="11"/>
                  </a:lnTo>
                  <a:lnTo>
                    <a:pt x="366" y="13"/>
                  </a:lnTo>
                  <a:lnTo>
                    <a:pt x="422" y="17"/>
                  </a:lnTo>
                  <a:lnTo>
                    <a:pt x="478" y="23"/>
                  </a:lnTo>
                  <a:lnTo>
                    <a:pt x="531" y="32"/>
                  </a:lnTo>
                  <a:lnTo>
                    <a:pt x="585" y="46"/>
                  </a:lnTo>
                  <a:lnTo>
                    <a:pt x="639" y="61"/>
                  </a:lnTo>
                  <a:lnTo>
                    <a:pt x="647" y="63"/>
                  </a:lnTo>
                  <a:lnTo>
                    <a:pt x="648" y="63"/>
                  </a:lnTo>
                  <a:lnTo>
                    <a:pt x="648" y="61"/>
                  </a:lnTo>
                  <a:lnTo>
                    <a:pt x="648" y="59"/>
                  </a:lnTo>
                  <a:lnTo>
                    <a:pt x="650" y="59"/>
                  </a:lnTo>
                  <a:lnTo>
                    <a:pt x="650" y="57"/>
                  </a:lnTo>
                  <a:lnTo>
                    <a:pt x="650" y="57"/>
                  </a:lnTo>
                  <a:lnTo>
                    <a:pt x="652" y="55"/>
                  </a:lnTo>
                  <a:lnTo>
                    <a:pt x="652" y="53"/>
                  </a:lnTo>
                  <a:close/>
                  <a:moveTo>
                    <a:pt x="2" y="2193"/>
                  </a:moveTo>
                  <a:lnTo>
                    <a:pt x="30" y="2200"/>
                  </a:lnTo>
                  <a:lnTo>
                    <a:pt x="84" y="2212"/>
                  </a:lnTo>
                  <a:lnTo>
                    <a:pt x="138" y="2223"/>
                  </a:lnTo>
                  <a:lnTo>
                    <a:pt x="195" y="2229"/>
                  </a:lnTo>
                  <a:lnTo>
                    <a:pt x="251" y="2235"/>
                  </a:lnTo>
                  <a:lnTo>
                    <a:pt x="309" y="2235"/>
                  </a:lnTo>
                  <a:lnTo>
                    <a:pt x="366" y="2235"/>
                  </a:lnTo>
                  <a:lnTo>
                    <a:pt x="424" y="2229"/>
                  </a:lnTo>
                  <a:lnTo>
                    <a:pt x="480" y="2223"/>
                  </a:lnTo>
                  <a:lnTo>
                    <a:pt x="533" y="2212"/>
                  </a:lnTo>
                  <a:lnTo>
                    <a:pt x="589" y="2200"/>
                  </a:lnTo>
                  <a:lnTo>
                    <a:pt x="641" y="2185"/>
                  </a:lnTo>
                  <a:lnTo>
                    <a:pt x="693" y="2168"/>
                  </a:lnTo>
                  <a:lnTo>
                    <a:pt x="702" y="2164"/>
                  </a:lnTo>
                  <a:lnTo>
                    <a:pt x="698" y="2154"/>
                  </a:lnTo>
                  <a:lnTo>
                    <a:pt x="689" y="2158"/>
                  </a:lnTo>
                  <a:lnTo>
                    <a:pt x="639" y="2175"/>
                  </a:lnTo>
                  <a:lnTo>
                    <a:pt x="585" y="2191"/>
                  </a:lnTo>
                  <a:lnTo>
                    <a:pt x="531" y="2202"/>
                  </a:lnTo>
                  <a:lnTo>
                    <a:pt x="478" y="2212"/>
                  </a:lnTo>
                  <a:lnTo>
                    <a:pt x="422" y="2220"/>
                  </a:lnTo>
                  <a:lnTo>
                    <a:pt x="366" y="2223"/>
                  </a:lnTo>
                  <a:lnTo>
                    <a:pt x="309" y="2225"/>
                  </a:lnTo>
                  <a:lnTo>
                    <a:pt x="251" y="2223"/>
                  </a:lnTo>
                  <a:lnTo>
                    <a:pt x="195" y="2220"/>
                  </a:lnTo>
                  <a:lnTo>
                    <a:pt x="140" y="2212"/>
                  </a:lnTo>
                  <a:lnTo>
                    <a:pt x="86" y="2202"/>
                  </a:lnTo>
                  <a:lnTo>
                    <a:pt x="32" y="2191"/>
                  </a:lnTo>
                  <a:lnTo>
                    <a:pt x="0" y="2181"/>
                  </a:lnTo>
                  <a:lnTo>
                    <a:pt x="0" y="2183"/>
                  </a:lnTo>
                  <a:lnTo>
                    <a:pt x="0" y="2183"/>
                  </a:lnTo>
                  <a:lnTo>
                    <a:pt x="0" y="2185"/>
                  </a:lnTo>
                  <a:lnTo>
                    <a:pt x="2" y="2187"/>
                  </a:lnTo>
                  <a:lnTo>
                    <a:pt x="2" y="2189"/>
                  </a:lnTo>
                  <a:lnTo>
                    <a:pt x="2" y="2189"/>
                  </a:lnTo>
                  <a:lnTo>
                    <a:pt x="2" y="2191"/>
                  </a:lnTo>
                  <a:lnTo>
                    <a:pt x="2" y="2193"/>
                  </a:lnTo>
                  <a:close/>
                </a:path>
              </a:pathLst>
            </a:custGeom>
            <a:solidFill>
              <a:srgbClr val="2ea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Freeform 319"/>
            <p:cNvSpPr/>
            <p:nvPr/>
          </p:nvSpPr>
          <p:spPr>
            <a:xfrm>
              <a:off x="5961600" y="1388880"/>
              <a:ext cx="1178640" cy="3748320"/>
            </a:xfrm>
            <a:custGeom>
              <a:avLst/>
              <a:gdLst>
                <a:gd name="textAreaLeft" fmla="*/ 0 w 1178640"/>
                <a:gd name="textAreaRight" fmla="*/ 1179000 w 1178640"/>
                <a:gd name="textAreaTop" fmla="*/ 0 h 3748320"/>
                <a:gd name="textAreaBottom" fmla="*/ 3748680 h 3748320"/>
              </a:gdLst>
              <a:ahLst/>
              <a:rect l="textAreaLeft" t="textAreaTop" r="textAreaRight" b="textAreaBottom"/>
              <a:pathLst>
                <a:path w="700" h="2226">
                  <a:moveTo>
                    <a:pt x="650" y="54"/>
                  </a:moveTo>
                  <a:lnTo>
                    <a:pt x="639" y="50"/>
                  </a:lnTo>
                  <a:lnTo>
                    <a:pt x="587" y="35"/>
                  </a:lnTo>
                  <a:lnTo>
                    <a:pt x="533" y="23"/>
                  </a:lnTo>
                  <a:lnTo>
                    <a:pt x="478" y="14"/>
                  </a:lnTo>
                  <a:lnTo>
                    <a:pt x="422" y="6"/>
                  </a:lnTo>
                  <a:lnTo>
                    <a:pt x="366" y="2"/>
                  </a:lnTo>
                  <a:lnTo>
                    <a:pt x="309" y="0"/>
                  </a:lnTo>
                  <a:lnTo>
                    <a:pt x="268" y="2"/>
                  </a:lnTo>
                  <a:lnTo>
                    <a:pt x="268" y="2"/>
                  </a:lnTo>
                  <a:lnTo>
                    <a:pt x="266" y="4"/>
                  </a:lnTo>
                  <a:lnTo>
                    <a:pt x="266" y="6"/>
                  </a:lnTo>
                  <a:lnTo>
                    <a:pt x="266" y="6"/>
                  </a:lnTo>
                  <a:lnTo>
                    <a:pt x="265" y="8"/>
                  </a:lnTo>
                  <a:lnTo>
                    <a:pt x="265" y="10"/>
                  </a:lnTo>
                  <a:lnTo>
                    <a:pt x="265" y="10"/>
                  </a:lnTo>
                  <a:lnTo>
                    <a:pt x="265" y="12"/>
                  </a:lnTo>
                  <a:lnTo>
                    <a:pt x="309" y="12"/>
                  </a:lnTo>
                  <a:lnTo>
                    <a:pt x="366" y="12"/>
                  </a:lnTo>
                  <a:lnTo>
                    <a:pt x="422" y="18"/>
                  </a:lnTo>
                  <a:lnTo>
                    <a:pt x="478" y="23"/>
                  </a:lnTo>
                  <a:lnTo>
                    <a:pt x="531" y="33"/>
                  </a:lnTo>
                  <a:lnTo>
                    <a:pt x="585" y="46"/>
                  </a:lnTo>
                  <a:lnTo>
                    <a:pt x="637" y="60"/>
                  </a:lnTo>
                  <a:lnTo>
                    <a:pt x="645" y="64"/>
                  </a:lnTo>
                  <a:lnTo>
                    <a:pt x="645" y="62"/>
                  </a:lnTo>
                  <a:lnTo>
                    <a:pt x="647" y="62"/>
                  </a:lnTo>
                  <a:lnTo>
                    <a:pt x="647" y="60"/>
                  </a:lnTo>
                  <a:lnTo>
                    <a:pt x="647" y="58"/>
                  </a:lnTo>
                  <a:lnTo>
                    <a:pt x="648" y="58"/>
                  </a:lnTo>
                  <a:lnTo>
                    <a:pt x="648" y="56"/>
                  </a:lnTo>
                  <a:lnTo>
                    <a:pt x="648" y="54"/>
                  </a:lnTo>
                  <a:lnTo>
                    <a:pt x="650" y="54"/>
                  </a:lnTo>
                  <a:close/>
                  <a:moveTo>
                    <a:pt x="2" y="2182"/>
                  </a:moveTo>
                  <a:lnTo>
                    <a:pt x="30" y="2190"/>
                  </a:lnTo>
                  <a:lnTo>
                    <a:pt x="84" y="2203"/>
                  </a:lnTo>
                  <a:lnTo>
                    <a:pt x="140" y="2213"/>
                  </a:lnTo>
                  <a:lnTo>
                    <a:pt x="195" y="2220"/>
                  </a:lnTo>
                  <a:lnTo>
                    <a:pt x="251" y="2224"/>
                  </a:lnTo>
                  <a:lnTo>
                    <a:pt x="309" y="2226"/>
                  </a:lnTo>
                  <a:lnTo>
                    <a:pt x="366" y="2224"/>
                  </a:lnTo>
                  <a:lnTo>
                    <a:pt x="422" y="2220"/>
                  </a:lnTo>
                  <a:lnTo>
                    <a:pt x="478" y="2213"/>
                  </a:lnTo>
                  <a:lnTo>
                    <a:pt x="533" y="2203"/>
                  </a:lnTo>
                  <a:lnTo>
                    <a:pt x="587" y="2190"/>
                  </a:lnTo>
                  <a:lnTo>
                    <a:pt x="639" y="2174"/>
                  </a:lnTo>
                  <a:lnTo>
                    <a:pt x="691" y="2157"/>
                  </a:lnTo>
                  <a:lnTo>
                    <a:pt x="700" y="2153"/>
                  </a:lnTo>
                  <a:lnTo>
                    <a:pt x="696" y="2144"/>
                  </a:lnTo>
                  <a:lnTo>
                    <a:pt x="687" y="2147"/>
                  </a:lnTo>
                  <a:lnTo>
                    <a:pt x="637" y="2165"/>
                  </a:lnTo>
                  <a:lnTo>
                    <a:pt x="585" y="2180"/>
                  </a:lnTo>
                  <a:lnTo>
                    <a:pt x="531" y="2192"/>
                  </a:lnTo>
                  <a:lnTo>
                    <a:pt x="478" y="2201"/>
                  </a:lnTo>
                  <a:lnTo>
                    <a:pt x="422" y="2209"/>
                  </a:lnTo>
                  <a:lnTo>
                    <a:pt x="366" y="2213"/>
                  </a:lnTo>
                  <a:lnTo>
                    <a:pt x="309" y="2215"/>
                  </a:lnTo>
                  <a:lnTo>
                    <a:pt x="253" y="2213"/>
                  </a:lnTo>
                  <a:lnTo>
                    <a:pt x="195" y="2209"/>
                  </a:lnTo>
                  <a:lnTo>
                    <a:pt x="142" y="2201"/>
                  </a:lnTo>
                  <a:lnTo>
                    <a:pt x="86" y="2192"/>
                  </a:lnTo>
                  <a:lnTo>
                    <a:pt x="34" y="2180"/>
                  </a:lnTo>
                  <a:lnTo>
                    <a:pt x="0" y="2170"/>
                  </a:lnTo>
                  <a:lnTo>
                    <a:pt x="0" y="2172"/>
                  </a:lnTo>
                  <a:lnTo>
                    <a:pt x="0" y="2172"/>
                  </a:lnTo>
                  <a:lnTo>
                    <a:pt x="0" y="2174"/>
                  </a:lnTo>
                  <a:lnTo>
                    <a:pt x="0" y="2176"/>
                  </a:lnTo>
                  <a:lnTo>
                    <a:pt x="0" y="2178"/>
                  </a:lnTo>
                  <a:lnTo>
                    <a:pt x="0" y="2178"/>
                  </a:lnTo>
                  <a:lnTo>
                    <a:pt x="0" y="2180"/>
                  </a:lnTo>
                  <a:lnTo>
                    <a:pt x="2" y="2182"/>
                  </a:lnTo>
                  <a:close/>
                </a:path>
              </a:pathLst>
            </a:custGeom>
            <a:solidFill>
              <a:srgbClr val="2fa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Freeform 320"/>
            <p:cNvSpPr/>
            <p:nvPr/>
          </p:nvSpPr>
          <p:spPr>
            <a:xfrm>
              <a:off x="5958000" y="1399320"/>
              <a:ext cx="1178640" cy="3727800"/>
            </a:xfrm>
            <a:custGeom>
              <a:avLst/>
              <a:gdLst>
                <a:gd name="textAreaLeft" fmla="*/ 0 w 1178640"/>
                <a:gd name="textAreaRight" fmla="*/ 1179000 w 1178640"/>
                <a:gd name="textAreaTop" fmla="*/ 0 h 3727800"/>
                <a:gd name="textAreaBottom" fmla="*/ 3728160 h 3727800"/>
              </a:gdLst>
              <a:ahLst/>
              <a:rect l="textAreaLeft" t="textAreaTop" r="textAreaRight" b="textAreaBottom"/>
              <a:pathLst>
                <a:path w="700" h="2214">
                  <a:moveTo>
                    <a:pt x="649" y="52"/>
                  </a:moveTo>
                  <a:lnTo>
                    <a:pt x="641" y="50"/>
                  </a:lnTo>
                  <a:lnTo>
                    <a:pt x="587" y="35"/>
                  </a:lnTo>
                  <a:lnTo>
                    <a:pt x="533" y="23"/>
                  </a:lnTo>
                  <a:lnTo>
                    <a:pt x="480" y="12"/>
                  </a:lnTo>
                  <a:lnTo>
                    <a:pt x="424" y="6"/>
                  </a:lnTo>
                  <a:lnTo>
                    <a:pt x="368" y="2"/>
                  </a:lnTo>
                  <a:lnTo>
                    <a:pt x="311" y="0"/>
                  </a:lnTo>
                  <a:lnTo>
                    <a:pt x="268" y="0"/>
                  </a:lnTo>
                  <a:lnTo>
                    <a:pt x="267" y="2"/>
                  </a:lnTo>
                  <a:lnTo>
                    <a:pt x="267" y="4"/>
                  </a:lnTo>
                  <a:lnTo>
                    <a:pt x="267" y="4"/>
                  </a:lnTo>
                  <a:lnTo>
                    <a:pt x="267" y="6"/>
                  </a:lnTo>
                  <a:lnTo>
                    <a:pt x="265" y="8"/>
                  </a:lnTo>
                  <a:lnTo>
                    <a:pt x="265" y="10"/>
                  </a:lnTo>
                  <a:lnTo>
                    <a:pt x="265" y="10"/>
                  </a:lnTo>
                  <a:lnTo>
                    <a:pt x="263" y="12"/>
                  </a:lnTo>
                  <a:lnTo>
                    <a:pt x="311" y="10"/>
                  </a:lnTo>
                  <a:lnTo>
                    <a:pt x="366" y="12"/>
                  </a:lnTo>
                  <a:lnTo>
                    <a:pt x="422" y="16"/>
                  </a:lnTo>
                  <a:lnTo>
                    <a:pt x="478" y="23"/>
                  </a:lnTo>
                  <a:lnTo>
                    <a:pt x="531" y="33"/>
                  </a:lnTo>
                  <a:lnTo>
                    <a:pt x="585" y="44"/>
                  </a:lnTo>
                  <a:lnTo>
                    <a:pt x="637" y="60"/>
                  </a:lnTo>
                  <a:lnTo>
                    <a:pt x="645" y="62"/>
                  </a:lnTo>
                  <a:lnTo>
                    <a:pt x="645" y="62"/>
                  </a:lnTo>
                  <a:lnTo>
                    <a:pt x="645" y="60"/>
                  </a:lnTo>
                  <a:lnTo>
                    <a:pt x="647" y="58"/>
                  </a:lnTo>
                  <a:lnTo>
                    <a:pt x="647" y="58"/>
                  </a:lnTo>
                  <a:lnTo>
                    <a:pt x="647" y="56"/>
                  </a:lnTo>
                  <a:lnTo>
                    <a:pt x="649" y="56"/>
                  </a:lnTo>
                  <a:lnTo>
                    <a:pt x="649" y="54"/>
                  </a:lnTo>
                  <a:lnTo>
                    <a:pt x="649" y="52"/>
                  </a:lnTo>
                  <a:close/>
                  <a:moveTo>
                    <a:pt x="2" y="2170"/>
                  </a:moveTo>
                  <a:lnTo>
                    <a:pt x="34" y="2180"/>
                  </a:lnTo>
                  <a:lnTo>
                    <a:pt x="88" y="2191"/>
                  </a:lnTo>
                  <a:lnTo>
                    <a:pt x="142" y="2201"/>
                  </a:lnTo>
                  <a:lnTo>
                    <a:pt x="197" y="2209"/>
                  </a:lnTo>
                  <a:lnTo>
                    <a:pt x="253" y="2212"/>
                  </a:lnTo>
                  <a:lnTo>
                    <a:pt x="311" y="2214"/>
                  </a:lnTo>
                  <a:lnTo>
                    <a:pt x="368" y="2212"/>
                  </a:lnTo>
                  <a:lnTo>
                    <a:pt x="424" y="2209"/>
                  </a:lnTo>
                  <a:lnTo>
                    <a:pt x="480" y="2201"/>
                  </a:lnTo>
                  <a:lnTo>
                    <a:pt x="533" y="2191"/>
                  </a:lnTo>
                  <a:lnTo>
                    <a:pt x="587" y="2180"/>
                  </a:lnTo>
                  <a:lnTo>
                    <a:pt x="641" y="2164"/>
                  </a:lnTo>
                  <a:lnTo>
                    <a:pt x="691" y="2147"/>
                  </a:lnTo>
                  <a:lnTo>
                    <a:pt x="700" y="2143"/>
                  </a:lnTo>
                  <a:lnTo>
                    <a:pt x="696" y="2134"/>
                  </a:lnTo>
                  <a:lnTo>
                    <a:pt x="689" y="2138"/>
                  </a:lnTo>
                  <a:lnTo>
                    <a:pt x="637" y="2153"/>
                  </a:lnTo>
                  <a:lnTo>
                    <a:pt x="585" y="2168"/>
                  </a:lnTo>
                  <a:lnTo>
                    <a:pt x="531" y="2182"/>
                  </a:lnTo>
                  <a:lnTo>
                    <a:pt x="478" y="2191"/>
                  </a:lnTo>
                  <a:lnTo>
                    <a:pt x="422" y="2197"/>
                  </a:lnTo>
                  <a:lnTo>
                    <a:pt x="366" y="2201"/>
                  </a:lnTo>
                  <a:lnTo>
                    <a:pt x="311" y="2203"/>
                  </a:lnTo>
                  <a:lnTo>
                    <a:pt x="255" y="2201"/>
                  </a:lnTo>
                  <a:lnTo>
                    <a:pt x="199" y="2197"/>
                  </a:lnTo>
                  <a:lnTo>
                    <a:pt x="144" y="2191"/>
                  </a:lnTo>
                  <a:lnTo>
                    <a:pt x="90" y="2182"/>
                  </a:lnTo>
                  <a:lnTo>
                    <a:pt x="36" y="2168"/>
                  </a:lnTo>
                  <a:lnTo>
                    <a:pt x="0" y="2159"/>
                  </a:lnTo>
                  <a:lnTo>
                    <a:pt x="0" y="2159"/>
                  </a:lnTo>
                  <a:lnTo>
                    <a:pt x="0" y="2161"/>
                  </a:lnTo>
                  <a:lnTo>
                    <a:pt x="0" y="2163"/>
                  </a:lnTo>
                  <a:lnTo>
                    <a:pt x="2" y="2164"/>
                  </a:lnTo>
                  <a:lnTo>
                    <a:pt x="2" y="2166"/>
                  </a:lnTo>
                  <a:lnTo>
                    <a:pt x="2" y="2166"/>
                  </a:lnTo>
                  <a:lnTo>
                    <a:pt x="2" y="2168"/>
                  </a:lnTo>
                  <a:lnTo>
                    <a:pt x="2" y="2170"/>
                  </a:lnTo>
                  <a:close/>
                </a:path>
              </a:pathLst>
            </a:custGeom>
            <a:solidFill>
              <a:srgbClr val="30a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Freeform 321"/>
            <p:cNvSpPr/>
            <p:nvPr/>
          </p:nvSpPr>
          <p:spPr>
            <a:xfrm>
              <a:off x="5958000" y="1409400"/>
              <a:ext cx="1175400" cy="3709440"/>
            </a:xfrm>
            <a:custGeom>
              <a:avLst/>
              <a:gdLst>
                <a:gd name="textAreaLeft" fmla="*/ 0 w 1175400"/>
                <a:gd name="textAreaRight" fmla="*/ 1175760 w 1175400"/>
                <a:gd name="textAreaTop" fmla="*/ 0 h 3709440"/>
                <a:gd name="textAreaBottom" fmla="*/ 3709800 h 3709440"/>
              </a:gdLst>
              <a:ahLst/>
              <a:rect l="textAreaLeft" t="textAreaTop" r="textAreaRight" b="textAreaBottom"/>
              <a:pathLst>
                <a:path w="698" h="2203">
                  <a:moveTo>
                    <a:pt x="647" y="52"/>
                  </a:moveTo>
                  <a:lnTo>
                    <a:pt x="639" y="48"/>
                  </a:lnTo>
                  <a:lnTo>
                    <a:pt x="587" y="34"/>
                  </a:lnTo>
                  <a:lnTo>
                    <a:pt x="533" y="21"/>
                  </a:lnTo>
                  <a:lnTo>
                    <a:pt x="480" y="11"/>
                  </a:lnTo>
                  <a:lnTo>
                    <a:pt x="424" y="6"/>
                  </a:lnTo>
                  <a:lnTo>
                    <a:pt x="368" y="0"/>
                  </a:lnTo>
                  <a:lnTo>
                    <a:pt x="311" y="0"/>
                  </a:lnTo>
                  <a:lnTo>
                    <a:pt x="267" y="0"/>
                  </a:lnTo>
                  <a:lnTo>
                    <a:pt x="265" y="2"/>
                  </a:lnTo>
                  <a:lnTo>
                    <a:pt x="265" y="4"/>
                  </a:lnTo>
                  <a:lnTo>
                    <a:pt x="265" y="4"/>
                  </a:lnTo>
                  <a:lnTo>
                    <a:pt x="263" y="6"/>
                  </a:lnTo>
                  <a:lnTo>
                    <a:pt x="263" y="8"/>
                  </a:lnTo>
                  <a:lnTo>
                    <a:pt x="263" y="8"/>
                  </a:lnTo>
                  <a:lnTo>
                    <a:pt x="261" y="10"/>
                  </a:lnTo>
                  <a:lnTo>
                    <a:pt x="261" y="11"/>
                  </a:lnTo>
                  <a:lnTo>
                    <a:pt x="311" y="10"/>
                  </a:lnTo>
                  <a:lnTo>
                    <a:pt x="366" y="11"/>
                  </a:lnTo>
                  <a:lnTo>
                    <a:pt x="422" y="15"/>
                  </a:lnTo>
                  <a:lnTo>
                    <a:pt x="478" y="23"/>
                  </a:lnTo>
                  <a:lnTo>
                    <a:pt x="531" y="33"/>
                  </a:lnTo>
                  <a:lnTo>
                    <a:pt x="583" y="44"/>
                  </a:lnTo>
                  <a:lnTo>
                    <a:pt x="635" y="59"/>
                  </a:lnTo>
                  <a:lnTo>
                    <a:pt x="641" y="61"/>
                  </a:lnTo>
                  <a:lnTo>
                    <a:pt x="643" y="59"/>
                  </a:lnTo>
                  <a:lnTo>
                    <a:pt x="643" y="59"/>
                  </a:lnTo>
                  <a:lnTo>
                    <a:pt x="643" y="57"/>
                  </a:lnTo>
                  <a:lnTo>
                    <a:pt x="645" y="56"/>
                  </a:lnTo>
                  <a:lnTo>
                    <a:pt x="645" y="56"/>
                  </a:lnTo>
                  <a:lnTo>
                    <a:pt x="645" y="54"/>
                  </a:lnTo>
                  <a:lnTo>
                    <a:pt x="647" y="52"/>
                  </a:lnTo>
                  <a:lnTo>
                    <a:pt x="647" y="52"/>
                  </a:lnTo>
                  <a:close/>
                  <a:moveTo>
                    <a:pt x="2" y="2158"/>
                  </a:moveTo>
                  <a:lnTo>
                    <a:pt x="36" y="2168"/>
                  </a:lnTo>
                  <a:lnTo>
                    <a:pt x="88" y="2180"/>
                  </a:lnTo>
                  <a:lnTo>
                    <a:pt x="144" y="2189"/>
                  </a:lnTo>
                  <a:lnTo>
                    <a:pt x="197" y="2197"/>
                  </a:lnTo>
                  <a:lnTo>
                    <a:pt x="255" y="2201"/>
                  </a:lnTo>
                  <a:lnTo>
                    <a:pt x="311" y="2203"/>
                  </a:lnTo>
                  <a:lnTo>
                    <a:pt x="368" y="2201"/>
                  </a:lnTo>
                  <a:lnTo>
                    <a:pt x="424" y="2197"/>
                  </a:lnTo>
                  <a:lnTo>
                    <a:pt x="480" y="2189"/>
                  </a:lnTo>
                  <a:lnTo>
                    <a:pt x="533" y="2180"/>
                  </a:lnTo>
                  <a:lnTo>
                    <a:pt x="587" y="2168"/>
                  </a:lnTo>
                  <a:lnTo>
                    <a:pt x="639" y="2153"/>
                  </a:lnTo>
                  <a:lnTo>
                    <a:pt x="689" y="2135"/>
                  </a:lnTo>
                  <a:lnTo>
                    <a:pt x="698" y="2132"/>
                  </a:lnTo>
                  <a:lnTo>
                    <a:pt x="693" y="2122"/>
                  </a:lnTo>
                  <a:lnTo>
                    <a:pt x="687" y="2126"/>
                  </a:lnTo>
                  <a:lnTo>
                    <a:pt x="635" y="2143"/>
                  </a:lnTo>
                  <a:lnTo>
                    <a:pt x="583" y="2158"/>
                  </a:lnTo>
                  <a:lnTo>
                    <a:pt x="531" y="2170"/>
                  </a:lnTo>
                  <a:lnTo>
                    <a:pt x="478" y="2180"/>
                  </a:lnTo>
                  <a:lnTo>
                    <a:pt x="422" y="2185"/>
                  </a:lnTo>
                  <a:lnTo>
                    <a:pt x="366" y="2191"/>
                  </a:lnTo>
                  <a:lnTo>
                    <a:pt x="311" y="2191"/>
                  </a:lnTo>
                  <a:lnTo>
                    <a:pt x="255" y="2191"/>
                  </a:lnTo>
                  <a:lnTo>
                    <a:pt x="199" y="2185"/>
                  </a:lnTo>
                  <a:lnTo>
                    <a:pt x="146" y="2180"/>
                  </a:lnTo>
                  <a:lnTo>
                    <a:pt x="92" y="2170"/>
                  </a:lnTo>
                  <a:lnTo>
                    <a:pt x="38" y="2158"/>
                  </a:lnTo>
                  <a:lnTo>
                    <a:pt x="0" y="2147"/>
                  </a:lnTo>
                  <a:lnTo>
                    <a:pt x="0" y="2147"/>
                  </a:lnTo>
                  <a:lnTo>
                    <a:pt x="0" y="2149"/>
                  </a:lnTo>
                  <a:lnTo>
                    <a:pt x="0" y="2151"/>
                  </a:lnTo>
                  <a:lnTo>
                    <a:pt x="0" y="2153"/>
                  </a:lnTo>
                  <a:lnTo>
                    <a:pt x="0" y="2153"/>
                  </a:lnTo>
                  <a:lnTo>
                    <a:pt x="0" y="2155"/>
                  </a:lnTo>
                  <a:lnTo>
                    <a:pt x="0" y="2157"/>
                  </a:lnTo>
                  <a:lnTo>
                    <a:pt x="2" y="2158"/>
                  </a:lnTo>
                  <a:close/>
                </a:path>
              </a:pathLst>
            </a:custGeom>
            <a:solidFill>
              <a:srgbClr val="31a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Freeform 322"/>
            <p:cNvSpPr/>
            <p:nvPr/>
          </p:nvSpPr>
          <p:spPr>
            <a:xfrm>
              <a:off x="5955120" y="1416240"/>
              <a:ext cx="1175400" cy="3692520"/>
            </a:xfrm>
            <a:custGeom>
              <a:avLst/>
              <a:gdLst>
                <a:gd name="textAreaLeft" fmla="*/ 0 w 1175400"/>
                <a:gd name="textAreaRight" fmla="*/ 1175760 w 1175400"/>
                <a:gd name="textAreaTop" fmla="*/ 0 h 3692520"/>
                <a:gd name="textAreaBottom" fmla="*/ 3692880 h 3692520"/>
              </a:gdLst>
              <a:ahLst/>
              <a:rect l="textAreaLeft" t="textAreaTop" r="textAreaRight" b="textAreaBottom"/>
              <a:pathLst>
                <a:path w="698" h="2193">
                  <a:moveTo>
                    <a:pt x="647" y="52"/>
                  </a:moveTo>
                  <a:lnTo>
                    <a:pt x="639" y="50"/>
                  </a:lnTo>
                  <a:lnTo>
                    <a:pt x="587" y="34"/>
                  </a:lnTo>
                  <a:lnTo>
                    <a:pt x="533" y="23"/>
                  </a:lnTo>
                  <a:lnTo>
                    <a:pt x="480" y="13"/>
                  </a:lnTo>
                  <a:lnTo>
                    <a:pt x="424" y="6"/>
                  </a:lnTo>
                  <a:lnTo>
                    <a:pt x="368" y="2"/>
                  </a:lnTo>
                  <a:lnTo>
                    <a:pt x="313" y="0"/>
                  </a:lnTo>
                  <a:lnTo>
                    <a:pt x="265" y="2"/>
                  </a:lnTo>
                  <a:lnTo>
                    <a:pt x="265" y="4"/>
                  </a:lnTo>
                  <a:lnTo>
                    <a:pt x="265" y="4"/>
                  </a:lnTo>
                  <a:lnTo>
                    <a:pt x="263" y="6"/>
                  </a:lnTo>
                  <a:lnTo>
                    <a:pt x="263" y="7"/>
                  </a:lnTo>
                  <a:lnTo>
                    <a:pt x="263" y="7"/>
                  </a:lnTo>
                  <a:lnTo>
                    <a:pt x="261" y="9"/>
                  </a:lnTo>
                  <a:lnTo>
                    <a:pt x="261" y="11"/>
                  </a:lnTo>
                  <a:lnTo>
                    <a:pt x="261" y="13"/>
                  </a:lnTo>
                  <a:lnTo>
                    <a:pt x="313" y="11"/>
                  </a:lnTo>
                  <a:lnTo>
                    <a:pt x="368" y="13"/>
                  </a:lnTo>
                  <a:lnTo>
                    <a:pt x="424" y="17"/>
                  </a:lnTo>
                  <a:lnTo>
                    <a:pt x="478" y="23"/>
                  </a:lnTo>
                  <a:lnTo>
                    <a:pt x="532" y="32"/>
                  </a:lnTo>
                  <a:lnTo>
                    <a:pt x="583" y="46"/>
                  </a:lnTo>
                  <a:lnTo>
                    <a:pt x="635" y="59"/>
                  </a:lnTo>
                  <a:lnTo>
                    <a:pt x="641" y="61"/>
                  </a:lnTo>
                  <a:lnTo>
                    <a:pt x="641" y="61"/>
                  </a:lnTo>
                  <a:lnTo>
                    <a:pt x="643" y="59"/>
                  </a:lnTo>
                  <a:lnTo>
                    <a:pt x="643" y="57"/>
                  </a:lnTo>
                  <a:lnTo>
                    <a:pt x="643" y="57"/>
                  </a:lnTo>
                  <a:lnTo>
                    <a:pt x="645" y="55"/>
                  </a:lnTo>
                  <a:lnTo>
                    <a:pt x="645" y="55"/>
                  </a:lnTo>
                  <a:lnTo>
                    <a:pt x="645" y="53"/>
                  </a:lnTo>
                  <a:lnTo>
                    <a:pt x="647" y="52"/>
                  </a:lnTo>
                  <a:close/>
                  <a:moveTo>
                    <a:pt x="2" y="2149"/>
                  </a:moveTo>
                  <a:lnTo>
                    <a:pt x="38" y="2158"/>
                  </a:lnTo>
                  <a:lnTo>
                    <a:pt x="92" y="2172"/>
                  </a:lnTo>
                  <a:lnTo>
                    <a:pt x="146" y="2181"/>
                  </a:lnTo>
                  <a:lnTo>
                    <a:pt x="201" y="2187"/>
                  </a:lnTo>
                  <a:lnTo>
                    <a:pt x="257" y="2191"/>
                  </a:lnTo>
                  <a:lnTo>
                    <a:pt x="313" y="2193"/>
                  </a:lnTo>
                  <a:lnTo>
                    <a:pt x="368" y="2191"/>
                  </a:lnTo>
                  <a:lnTo>
                    <a:pt x="424" y="2187"/>
                  </a:lnTo>
                  <a:lnTo>
                    <a:pt x="480" y="2181"/>
                  </a:lnTo>
                  <a:lnTo>
                    <a:pt x="533" y="2172"/>
                  </a:lnTo>
                  <a:lnTo>
                    <a:pt x="587" y="2158"/>
                  </a:lnTo>
                  <a:lnTo>
                    <a:pt x="639" y="2143"/>
                  </a:lnTo>
                  <a:lnTo>
                    <a:pt x="691" y="2128"/>
                  </a:lnTo>
                  <a:lnTo>
                    <a:pt x="698" y="2124"/>
                  </a:lnTo>
                  <a:lnTo>
                    <a:pt x="693" y="2114"/>
                  </a:lnTo>
                  <a:lnTo>
                    <a:pt x="687" y="2116"/>
                  </a:lnTo>
                  <a:lnTo>
                    <a:pt x="635" y="2133"/>
                  </a:lnTo>
                  <a:lnTo>
                    <a:pt x="583" y="2149"/>
                  </a:lnTo>
                  <a:lnTo>
                    <a:pt x="532" y="2160"/>
                  </a:lnTo>
                  <a:lnTo>
                    <a:pt x="478" y="2170"/>
                  </a:lnTo>
                  <a:lnTo>
                    <a:pt x="424" y="2177"/>
                  </a:lnTo>
                  <a:lnTo>
                    <a:pt x="368" y="2181"/>
                  </a:lnTo>
                  <a:lnTo>
                    <a:pt x="313" y="2183"/>
                  </a:lnTo>
                  <a:lnTo>
                    <a:pt x="257" y="2181"/>
                  </a:lnTo>
                  <a:lnTo>
                    <a:pt x="201" y="2177"/>
                  </a:lnTo>
                  <a:lnTo>
                    <a:pt x="148" y="2170"/>
                  </a:lnTo>
                  <a:lnTo>
                    <a:pt x="94" y="2160"/>
                  </a:lnTo>
                  <a:lnTo>
                    <a:pt x="42" y="2149"/>
                  </a:lnTo>
                  <a:lnTo>
                    <a:pt x="0" y="2137"/>
                  </a:lnTo>
                  <a:lnTo>
                    <a:pt x="0" y="2137"/>
                  </a:lnTo>
                  <a:lnTo>
                    <a:pt x="0" y="2139"/>
                  </a:lnTo>
                  <a:lnTo>
                    <a:pt x="0" y="2141"/>
                  </a:lnTo>
                  <a:lnTo>
                    <a:pt x="2" y="2143"/>
                  </a:lnTo>
                  <a:lnTo>
                    <a:pt x="2" y="2143"/>
                  </a:lnTo>
                  <a:lnTo>
                    <a:pt x="2" y="2145"/>
                  </a:lnTo>
                  <a:lnTo>
                    <a:pt x="2" y="2147"/>
                  </a:lnTo>
                  <a:lnTo>
                    <a:pt x="2" y="2149"/>
                  </a:lnTo>
                  <a:close/>
                </a:path>
              </a:pathLst>
            </a:custGeom>
            <a:solidFill>
              <a:srgbClr val="32a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Freeform 323"/>
            <p:cNvSpPr/>
            <p:nvPr/>
          </p:nvSpPr>
          <p:spPr>
            <a:xfrm>
              <a:off x="5955120" y="1425960"/>
              <a:ext cx="1170000" cy="3672720"/>
            </a:xfrm>
            <a:custGeom>
              <a:avLst/>
              <a:gdLst>
                <a:gd name="textAreaLeft" fmla="*/ 0 w 1170000"/>
                <a:gd name="textAreaRight" fmla="*/ 1170360 w 1170000"/>
                <a:gd name="textAreaTop" fmla="*/ 0 h 3672720"/>
                <a:gd name="textAreaBottom" fmla="*/ 3673080 h 3672720"/>
              </a:gdLst>
              <a:ahLst/>
              <a:rect l="textAreaLeft" t="textAreaTop" r="textAreaRight" b="textAreaBottom"/>
              <a:pathLst>
                <a:path w="695" h="2181">
                  <a:moveTo>
                    <a:pt x="643" y="51"/>
                  </a:moveTo>
                  <a:lnTo>
                    <a:pt x="637" y="49"/>
                  </a:lnTo>
                  <a:lnTo>
                    <a:pt x="585" y="34"/>
                  </a:lnTo>
                  <a:lnTo>
                    <a:pt x="533" y="23"/>
                  </a:lnTo>
                  <a:lnTo>
                    <a:pt x="480" y="13"/>
                  </a:lnTo>
                  <a:lnTo>
                    <a:pt x="424" y="5"/>
                  </a:lnTo>
                  <a:lnTo>
                    <a:pt x="368" y="1"/>
                  </a:lnTo>
                  <a:lnTo>
                    <a:pt x="313" y="0"/>
                  </a:lnTo>
                  <a:lnTo>
                    <a:pt x="263" y="1"/>
                  </a:lnTo>
                  <a:lnTo>
                    <a:pt x="263" y="1"/>
                  </a:lnTo>
                  <a:lnTo>
                    <a:pt x="261" y="3"/>
                  </a:lnTo>
                  <a:lnTo>
                    <a:pt x="261" y="5"/>
                  </a:lnTo>
                  <a:lnTo>
                    <a:pt x="261" y="7"/>
                  </a:lnTo>
                  <a:lnTo>
                    <a:pt x="261" y="7"/>
                  </a:lnTo>
                  <a:lnTo>
                    <a:pt x="259" y="9"/>
                  </a:lnTo>
                  <a:lnTo>
                    <a:pt x="259" y="11"/>
                  </a:lnTo>
                  <a:lnTo>
                    <a:pt x="259" y="11"/>
                  </a:lnTo>
                  <a:lnTo>
                    <a:pt x="313" y="11"/>
                  </a:lnTo>
                  <a:lnTo>
                    <a:pt x="368" y="11"/>
                  </a:lnTo>
                  <a:lnTo>
                    <a:pt x="424" y="17"/>
                  </a:lnTo>
                  <a:lnTo>
                    <a:pt x="478" y="23"/>
                  </a:lnTo>
                  <a:lnTo>
                    <a:pt x="532" y="32"/>
                  </a:lnTo>
                  <a:lnTo>
                    <a:pt x="583" y="44"/>
                  </a:lnTo>
                  <a:lnTo>
                    <a:pt x="633" y="59"/>
                  </a:lnTo>
                  <a:lnTo>
                    <a:pt x="639" y="61"/>
                  </a:lnTo>
                  <a:lnTo>
                    <a:pt x="639" y="59"/>
                  </a:lnTo>
                  <a:lnTo>
                    <a:pt x="639" y="57"/>
                  </a:lnTo>
                  <a:lnTo>
                    <a:pt x="641" y="57"/>
                  </a:lnTo>
                  <a:lnTo>
                    <a:pt x="641" y="55"/>
                  </a:lnTo>
                  <a:lnTo>
                    <a:pt x="641" y="55"/>
                  </a:lnTo>
                  <a:lnTo>
                    <a:pt x="643" y="53"/>
                  </a:lnTo>
                  <a:lnTo>
                    <a:pt x="643" y="51"/>
                  </a:lnTo>
                  <a:lnTo>
                    <a:pt x="643" y="51"/>
                  </a:lnTo>
                  <a:close/>
                  <a:moveTo>
                    <a:pt x="2" y="2137"/>
                  </a:moveTo>
                  <a:lnTo>
                    <a:pt x="40" y="2148"/>
                  </a:lnTo>
                  <a:lnTo>
                    <a:pt x="94" y="2160"/>
                  </a:lnTo>
                  <a:lnTo>
                    <a:pt x="148" y="2170"/>
                  </a:lnTo>
                  <a:lnTo>
                    <a:pt x="201" y="2175"/>
                  </a:lnTo>
                  <a:lnTo>
                    <a:pt x="257" y="2181"/>
                  </a:lnTo>
                  <a:lnTo>
                    <a:pt x="313" y="2181"/>
                  </a:lnTo>
                  <a:lnTo>
                    <a:pt x="368" y="2181"/>
                  </a:lnTo>
                  <a:lnTo>
                    <a:pt x="424" y="2175"/>
                  </a:lnTo>
                  <a:lnTo>
                    <a:pt x="480" y="2170"/>
                  </a:lnTo>
                  <a:lnTo>
                    <a:pt x="533" y="2160"/>
                  </a:lnTo>
                  <a:lnTo>
                    <a:pt x="585" y="2148"/>
                  </a:lnTo>
                  <a:lnTo>
                    <a:pt x="637" y="2133"/>
                  </a:lnTo>
                  <a:lnTo>
                    <a:pt x="689" y="2116"/>
                  </a:lnTo>
                  <a:lnTo>
                    <a:pt x="695" y="2112"/>
                  </a:lnTo>
                  <a:lnTo>
                    <a:pt x="691" y="2102"/>
                  </a:lnTo>
                  <a:lnTo>
                    <a:pt x="685" y="2106"/>
                  </a:lnTo>
                  <a:lnTo>
                    <a:pt x="633" y="2123"/>
                  </a:lnTo>
                  <a:lnTo>
                    <a:pt x="583" y="2137"/>
                  </a:lnTo>
                  <a:lnTo>
                    <a:pt x="532" y="2148"/>
                  </a:lnTo>
                  <a:lnTo>
                    <a:pt x="478" y="2158"/>
                  </a:lnTo>
                  <a:lnTo>
                    <a:pt x="424" y="2166"/>
                  </a:lnTo>
                  <a:lnTo>
                    <a:pt x="368" y="2170"/>
                  </a:lnTo>
                  <a:lnTo>
                    <a:pt x="313" y="2171"/>
                  </a:lnTo>
                  <a:lnTo>
                    <a:pt x="257" y="2170"/>
                  </a:lnTo>
                  <a:lnTo>
                    <a:pt x="203" y="2166"/>
                  </a:lnTo>
                  <a:lnTo>
                    <a:pt x="148" y="2158"/>
                  </a:lnTo>
                  <a:lnTo>
                    <a:pt x="96" y="2148"/>
                  </a:lnTo>
                  <a:lnTo>
                    <a:pt x="42" y="2137"/>
                  </a:lnTo>
                  <a:lnTo>
                    <a:pt x="0" y="2125"/>
                  </a:lnTo>
                  <a:lnTo>
                    <a:pt x="0" y="2125"/>
                  </a:lnTo>
                  <a:lnTo>
                    <a:pt x="0" y="2127"/>
                  </a:lnTo>
                  <a:lnTo>
                    <a:pt x="0" y="2129"/>
                  </a:lnTo>
                  <a:lnTo>
                    <a:pt x="0" y="2131"/>
                  </a:lnTo>
                  <a:lnTo>
                    <a:pt x="0" y="2131"/>
                  </a:lnTo>
                  <a:lnTo>
                    <a:pt x="0" y="2133"/>
                  </a:lnTo>
                  <a:lnTo>
                    <a:pt x="0" y="2135"/>
                  </a:lnTo>
                  <a:lnTo>
                    <a:pt x="2" y="2137"/>
                  </a:lnTo>
                  <a:close/>
                </a:path>
              </a:pathLst>
            </a:custGeom>
            <a:solidFill>
              <a:srgbClr val="33a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Freeform 324"/>
            <p:cNvSpPr/>
            <p:nvPr/>
          </p:nvSpPr>
          <p:spPr>
            <a:xfrm>
              <a:off x="5951520" y="1434600"/>
              <a:ext cx="1170000" cy="3657240"/>
            </a:xfrm>
            <a:custGeom>
              <a:avLst/>
              <a:gdLst>
                <a:gd name="textAreaLeft" fmla="*/ 0 w 1170000"/>
                <a:gd name="textAreaRight" fmla="*/ 1170360 w 1170000"/>
                <a:gd name="textAreaTop" fmla="*/ 0 h 3657240"/>
                <a:gd name="textAreaBottom" fmla="*/ 3657600 h 3657240"/>
              </a:gdLst>
              <a:ahLst/>
              <a:rect l="textAreaLeft" t="textAreaTop" r="textAreaRight" b="textAreaBottom"/>
              <a:pathLst>
                <a:path w="695" h="2172">
                  <a:moveTo>
                    <a:pt x="643" y="50"/>
                  </a:moveTo>
                  <a:lnTo>
                    <a:pt x="637" y="48"/>
                  </a:lnTo>
                  <a:lnTo>
                    <a:pt x="585" y="35"/>
                  </a:lnTo>
                  <a:lnTo>
                    <a:pt x="534" y="21"/>
                  </a:lnTo>
                  <a:lnTo>
                    <a:pt x="480" y="12"/>
                  </a:lnTo>
                  <a:lnTo>
                    <a:pt x="426" y="6"/>
                  </a:lnTo>
                  <a:lnTo>
                    <a:pt x="370" y="2"/>
                  </a:lnTo>
                  <a:lnTo>
                    <a:pt x="315" y="0"/>
                  </a:lnTo>
                  <a:lnTo>
                    <a:pt x="263" y="2"/>
                  </a:lnTo>
                  <a:lnTo>
                    <a:pt x="263" y="2"/>
                  </a:lnTo>
                  <a:lnTo>
                    <a:pt x="261" y="4"/>
                  </a:lnTo>
                  <a:lnTo>
                    <a:pt x="261" y="6"/>
                  </a:lnTo>
                  <a:lnTo>
                    <a:pt x="261" y="6"/>
                  </a:lnTo>
                  <a:lnTo>
                    <a:pt x="259" y="8"/>
                  </a:lnTo>
                  <a:lnTo>
                    <a:pt x="259" y="10"/>
                  </a:lnTo>
                  <a:lnTo>
                    <a:pt x="259" y="12"/>
                  </a:lnTo>
                  <a:lnTo>
                    <a:pt x="257" y="12"/>
                  </a:lnTo>
                  <a:lnTo>
                    <a:pt x="259" y="12"/>
                  </a:lnTo>
                  <a:lnTo>
                    <a:pt x="315" y="10"/>
                  </a:lnTo>
                  <a:lnTo>
                    <a:pt x="370" y="12"/>
                  </a:lnTo>
                  <a:lnTo>
                    <a:pt x="424" y="16"/>
                  </a:lnTo>
                  <a:lnTo>
                    <a:pt x="478" y="23"/>
                  </a:lnTo>
                  <a:lnTo>
                    <a:pt x="532" y="33"/>
                  </a:lnTo>
                  <a:lnTo>
                    <a:pt x="583" y="44"/>
                  </a:lnTo>
                  <a:lnTo>
                    <a:pt x="635" y="60"/>
                  </a:lnTo>
                  <a:lnTo>
                    <a:pt x="637" y="60"/>
                  </a:lnTo>
                  <a:lnTo>
                    <a:pt x="639" y="60"/>
                  </a:lnTo>
                  <a:lnTo>
                    <a:pt x="639" y="58"/>
                  </a:lnTo>
                  <a:lnTo>
                    <a:pt x="639" y="56"/>
                  </a:lnTo>
                  <a:lnTo>
                    <a:pt x="641" y="56"/>
                  </a:lnTo>
                  <a:lnTo>
                    <a:pt x="641" y="54"/>
                  </a:lnTo>
                  <a:lnTo>
                    <a:pt x="641" y="54"/>
                  </a:lnTo>
                  <a:lnTo>
                    <a:pt x="643" y="52"/>
                  </a:lnTo>
                  <a:lnTo>
                    <a:pt x="643" y="50"/>
                  </a:lnTo>
                  <a:close/>
                  <a:moveTo>
                    <a:pt x="2" y="2126"/>
                  </a:moveTo>
                  <a:lnTo>
                    <a:pt x="44" y="2138"/>
                  </a:lnTo>
                  <a:lnTo>
                    <a:pt x="96" y="2149"/>
                  </a:lnTo>
                  <a:lnTo>
                    <a:pt x="150" y="2159"/>
                  </a:lnTo>
                  <a:lnTo>
                    <a:pt x="203" y="2166"/>
                  </a:lnTo>
                  <a:lnTo>
                    <a:pt x="259" y="2170"/>
                  </a:lnTo>
                  <a:lnTo>
                    <a:pt x="315" y="2172"/>
                  </a:lnTo>
                  <a:lnTo>
                    <a:pt x="370" y="2170"/>
                  </a:lnTo>
                  <a:lnTo>
                    <a:pt x="426" y="2166"/>
                  </a:lnTo>
                  <a:lnTo>
                    <a:pt x="480" y="2159"/>
                  </a:lnTo>
                  <a:lnTo>
                    <a:pt x="534" y="2149"/>
                  </a:lnTo>
                  <a:lnTo>
                    <a:pt x="585" y="2138"/>
                  </a:lnTo>
                  <a:lnTo>
                    <a:pt x="637" y="2122"/>
                  </a:lnTo>
                  <a:lnTo>
                    <a:pt x="689" y="2105"/>
                  </a:lnTo>
                  <a:lnTo>
                    <a:pt x="695" y="2103"/>
                  </a:lnTo>
                  <a:lnTo>
                    <a:pt x="691" y="2094"/>
                  </a:lnTo>
                  <a:lnTo>
                    <a:pt x="685" y="2095"/>
                  </a:lnTo>
                  <a:lnTo>
                    <a:pt x="635" y="2113"/>
                  </a:lnTo>
                  <a:lnTo>
                    <a:pt x="583" y="2126"/>
                  </a:lnTo>
                  <a:lnTo>
                    <a:pt x="532" y="2140"/>
                  </a:lnTo>
                  <a:lnTo>
                    <a:pt x="478" y="2149"/>
                  </a:lnTo>
                  <a:lnTo>
                    <a:pt x="424" y="2155"/>
                  </a:lnTo>
                  <a:lnTo>
                    <a:pt x="370" y="2159"/>
                  </a:lnTo>
                  <a:lnTo>
                    <a:pt x="315" y="2161"/>
                  </a:lnTo>
                  <a:lnTo>
                    <a:pt x="259" y="2159"/>
                  </a:lnTo>
                  <a:lnTo>
                    <a:pt x="205" y="2155"/>
                  </a:lnTo>
                  <a:lnTo>
                    <a:pt x="152" y="2149"/>
                  </a:lnTo>
                  <a:lnTo>
                    <a:pt x="98" y="2140"/>
                  </a:lnTo>
                  <a:lnTo>
                    <a:pt x="46" y="2126"/>
                  </a:lnTo>
                  <a:lnTo>
                    <a:pt x="0" y="2115"/>
                  </a:lnTo>
                  <a:lnTo>
                    <a:pt x="0" y="2115"/>
                  </a:lnTo>
                  <a:lnTo>
                    <a:pt x="0" y="2117"/>
                  </a:lnTo>
                  <a:lnTo>
                    <a:pt x="0" y="2118"/>
                  </a:lnTo>
                  <a:lnTo>
                    <a:pt x="2" y="2120"/>
                  </a:lnTo>
                  <a:lnTo>
                    <a:pt x="2" y="2120"/>
                  </a:lnTo>
                  <a:lnTo>
                    <a:pt x="2" y="2122"/>
                  </a:lnTo>
                  <a:lnTo>
                    <a:pt x="2" y="2124"/>
                  </a:lnTo>
                  <a:lnTo>
                    <a:pt x="2" y="2126"/>
                  </a:lnTo>
                  <a:close/>
                </a:path>
              </a:pathLst>
            </a:custGeom>
            <a:solidFill>
              <a:srgbClr val="34a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Freeform 325"/>
            <p:cNvSpPr/>
            <p:nvPr/>
          </p:nvSpPr>
          <p:spPr>
            <a:xfrm>
              <a:off x="5951520" y="1444680"/>
              <a:ext cx="1166760" cy="3637080"/>
            </a:xfrm>
            <a:custGeom>
              <a:avLst/>
              <a:gdLst>
                <a:gd name="textAreaLeft" fmla="*/ 0 w 1166760"/>
                <a:gd name="textAreaRight" fmla="*/ 1166760 w 1166760"/>
                <a:gd name="textAreaTop" fmla="*/ 0 h 3637080"/>
                <a:gd name="textAreaBottom" fmla="*/ 3637440 h 3637080"/>
              </a:gdLst>
              <a:ahLst/>
              <a:rect l="textAreaLeft" t="textAreaTop" r="textAreaRight" b="textAreaBottom"/>
              <a:pathLst>
                <a:path w="693" h="2160">
                  <a:moveTo>
                    <a:pt x="641" y="50"/>
                  </a:moveTo>
                  <a:lnTo>
                    <a:pt x="635" y="48"/>
                  </a:lnTo>
                  <a:lnTo>
                    <a:pt x="585" y="33"/>
                  </a:lnTo>
                  <a:lnTo>
                    <a:pt x="534" y="21"/>
                  </a:lnTo>
                  <a:lnTo>
                    <a:pt x="480" y="12"/>
                  </a:lnTo>
                  <a:lnTo>
                    <a:pt x="426" y="6"/>
                  </a:lnTo>
                  <a:lnTo>
                    <a:pt x="370" y="0"/>
                  </a:lnTo>
                  <a:lnTo>
                    <a:pt x="315" y="0"/>
                  </a:lnTo>
                  <a:lnTo>
                    <a:pt x="261" y="0"/>
                  </a:lnTo>
                  <a:lnTo>
                    <a:pt x="259" y="2"/>
                  </a:lnTo>
                  <a:lnTo>
                    <a:pt x="259" y="4"/>
                  </a:lnTo>
                  <a:lnTo>
                    <a:pt x="259" y="6"/>
                  </a:lnTo>
                  <a:lnTo>
                    <a:pt x="257" y="6"/>
                  </a:lnTo>
                  <a:lnTo>
                    <a:pt x="257" y="8"/>
                  </a:lnTo>
                  <a:lnTo>
                    <a:pt x="257" y="10"/>
                  </a:lnTo>
                  <a:lnTo>
                    <a:pt x="255" y="10"/>
                  </a:lnTo>
                  <a:lnTo>
                    <a:pt x="255" y="12"/>
                  </a:lnTo>
                  <a:lnTo>
                    <a:pt x="259" y="12"/>
                  </a:lnTo>
                  <a:lnTo>
                    <a:pt x="315" y="10"/>
                  </a:lnTo>
                  <a:lnTo>
                    <a:pt x="370" y="12"/>
                  </a:lnTo>
                  <a:lnTo>
                    <a:pt x="424" y="15"/>
                  </a:lnTo>
                  <a:lnTo>
                    <a:pt x="478" y="23"/>
                  </a:lnTo>
                  <a:lnTo>
                    <a:pt x="530" y="33"/>
                  </a:lnTo>
                  <a:lnTo>
                    <a:pt x="581" y="44"/>
                  </a:lnTo>
                  <a:lnTo>
                    <a:pt x="633" y="58"/>
                  </a:lnTo>
                  <a:lnTo>
                    <a:pt x="635" y="60"/>
                  </a:lnTo>
                  <a:lnTo>
                    <a:pt x="635" y="58"/>
                  </a:lnTo>
                  <a:lnTo>
                    <a:pt x="637" y="56"/>
                  </a:lnTo>
                  <a:lnTo>
                    <a:pt x="637" y="56"/>
                  </a:lnTo>
                  <a:lnTo>
                    <a:pt x="637" y="54"/>
                  </a:lnTo>
                  <a:lnTo>
                    <a:pt x="639" y="54"/>
                  </a:lnTo>
                  <a:lnTo>
                    <a:pt x="639" y="52"/>
                  </a:lnTo>
                  <a:lnTo>
                    <a:pt x="639" y="50"/>
                  </a:lnTo>
                  <a:lnTo>
                    <a:pt x="641" y="50"/>
                  </a:lnTo>
                  <a:close/>
                  <a:moveTo>
                    <a:pt x="2" y="2114"/>
                  </a:moveTo>
                  <a:lnTo>
                    <a:pt x="44" y="2126"/>
                  </a:lnTo>
                  <a:lnTo>
                    <a:pt x="98" y="2137"/>
                  </a:lnTo>
                  <a:lnTo>
                    <a:pt x="150" y="2147"/>
                  </a:lnTo>
                  <a:lnTo>
                    <a:pt x="205" y="2155"/>
                  </a:lnTo>
                  <a:lnTo>
                    <a:pt x="259" y="2159"/>
                  </a:lnTo>
                  <a:lnTo>
                    <a:pt x="315" y="2160"/>
                  </a:lnTo>
                  <a:lnTo>
                    <a:pt x="370" y="2159"/>
                  </a:lnTo>
                  <a:lnTo>
                    <a:pt x="426" y="2155"/>
                  </a:lnTo>
                  <a:lnTo>
                    <a:pt x="480" y="2147"/>
                  </a:lnTo>
                  <a:lnTo>
                    <a:pt x="534" y="2137"/>
                  </a:lnTo>
                  <a:lnTo>
                    <a:pt x="585" y="2126"/>
                  </a:lnTo>
                  <a:lnTo>
                    <a:pt x="635" y="2112"/>
                  </a:lnTo>
                  <a:lnTo>
                    <a:pt x="687" y="2095"/>
                  </a:lnTo>
                  <a:lnTo>
                    <a:pt x="693" y="2091"/>
                  </a:lnTo>
                  <a:lnTo>
                    <a:pt x="689" y="2082"/>
                  </a:lnTo>
                  <a:lnTo>
                    <a:pt x="683" y="2084"/>
                  </a:lnTo>
                  <a:lnTo>
                    <a:pt x="633" y="2101"/>
                  </a:lnTo>
                  <a:lnTo>
                    <a:pt x="581" y="2116"/>
                  </a:lnTo>
                  <a:lnTo>
                    <a:pt x="530" y="2128"/>
                  </a:lnTo>
                  <a:lnTo>
                    <a:pt x="478" y="2137"/>
                  </a:lnTo>
                  <a:lnTo>
                    <a:pt x="424" y="2143"/>
                  </a:lnTo>
                  <a:lnTo>
                    <a:pt x="370" y="2149"/>
                  </a:lnTo>
                  <a:lnTo>
                    <a:pt x="315" y="2149"/>
                  </a:lnTo>
                  <a:lnTo>
                    <a:pt x="259" y="2149"/>
                  </a:lnTo>
                  <a:lnTo>
                    <a:pt x="205" y="2143"/>
                  </a:lnTo>
                  <a:lnTo>
                    <a:pt x="152" y="2137"/>
                  </a:lnTo>
                  <a:lnTo>
                    <a:pt x="100" y="2128"/>
                  </a:lnTo>
                  <a:lnTo>
                    <a:pt x="48" y="2116"/>
                  </a:lnTo>
                  <a:lnTo>
                    <a:pt x="0" y="2103"/>
                  </a:lnTo>
                  <a:lnTo>
                    <a:pt x="0" y="2103"/>
                  </a:lnTo>
                  <a:lnTo>
                    <a:pt x="0" y="2105"/>
                  </a:lnTo>
                  <a:lnTo>
                    <a:pt x="0" y="2107"/>
                  </a:lnTo>
                  <a:lnTo>
                    <a:pt x="0" y="2109"/>
                  </a:lnTo>
                  <a:lnTo>
                    <a:pt x="0" y="2109"/>
                  </a:lnTo>
                  <a:lnTo>
                    <a:pt x="0" y="2111"/>
                  </a:lnTo>
                  <a:lnTo>
                    <a:pt x="0" y="2112"/>
                  </a:lnTo>
                  <a:lnTo>
                    <a:pt x="2" y="2114"/>
                  </a:lnTo>
                  <a:close/>
                </a:path>
              </a:pathLst>
            </a:custGeom>
            <a:solidFill>
              <a:srgbClr val="35a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Freeform 326"/>
            <p:cNvSpPr/>
            <p:nvPr/>
          </p:nvSpPr>
          <p:spPr>
            <a:xfrm>
              <a:off x="5948280" y="1451160"/>
              <a:ext cx="1166760" cy="3622320"/>
            </a:xfrm>
            <a:custGeom>
              <a:avLst/>
              <a:gdLst>
                <a:gd name="textAreaLeft" fmla="*/ 0 w 1166760"/>
                <a:gd name="textAreaRight" fmla="*/ 1166760 w 1166760"/>
                <a:gd name="textAreaTop" fmla="*/ 0 h 3622320"/>
                <a:gd name="textAreaBottom" fmla="*/ 3622680 h 3622320"/>
              </a:gdLst>
              <a:ahLst/>
              <a:rect l="textAreaLeft" t="textAreaTop" r="textAreaRight" b="textAreaBottom"/>
              <a:pathLst>
                <a:path w="693" h="2151">
                  <a:moveTo>
                    <a:pt x="639" y="50"/>
                  </a:moveTo>
                  <a:lnTo>
                    <a:pt x="637" y="50"/>
                  </a:lnTo>
                  <a:lnTo>
                    <a:pt x="585" y="34"/>
                  </a:lnTo>
                  <a:lnTo>
                    <a:pt x="534" y="23"/>
                  </a:lnTo>
                  <a:lnTo>
                    <a:pt x="480" y="13"/>
                  </a:lnTo>
                  <a:lnTo>
                    <a:pt x="426" y="6"/>
                  </a:lnTo>
                  <a:lnTo>
                    <a:pt x="372" y="2"/>
                  </a:lnTo>
                  <a:lnTo>
                    <a:pt x="317" y="0"/>
                  </a:lnTo>
                  <a:lnTo>
                    <a:pt x="261" y="2"/>
                  </a:lnTo>
                  <a:lnTo>
                    <a:pt x="259" y="2"/>
                  </a:lnTo>
                  <a:lnTo>
                    <a:pt x="259" y="4"/>
                  </a:lnTo>
                  <a:lnTo>
                    <a:pt x="259" y="6"/>
                  </a:lnTo>
                  <a:lnTo>
                    <a:pt x="257" y="6"/>
                  </a:lnTo>
                  <a:lnTo>
                    <a:pt x="257" y="8"/>
                  </a:lnTo>
                  <a:lnTo>
                    <a:pt x="257" y="9"/>
                  </a:lnTo>
                  <a:lnTo>
                    <a:pt x="257" y="11"/>
                  </a:lnTo>
                  <a:lnTo>
                    <a:pt x="255" y="11"/>
                  </a:lnTo>
                  <a:lnTo>
                    <a:pt x="255" y="13"/>
                  </a:lnTo>
                  <a:lnTo>
                    <a:pt x="263" y="13"/>
                  </a:lnTo>
                  <a:lnTo>
                    <a:pt x="317" y="11"/>
                  </a:lnTo>
                  <a:lnTo>
                    <a:pt x="372" y="13"/>
                  </a:lnTo>
                  <a:lnTo>
                    <a:pt x="426" y="17"/>
                  </a:lnTo>
                  <a:lnTo>
                    <a:pt x="480" y="23"/>
                  </a:lnTo>
                  <a:lnTo>
                    <a:pt x="532" y="32"/>
                  </a:lnTo>
                  <a:lnTo>
                    <a:pt x="583" y="44"/>
                  </a:lnTo>
                  <a:lnTo>
                    <a:pt x="633" y="59"/>
                  </a:lnTo>
                  <a:lnTo>
                    <a:pt x="635" y="59"/>
                  </a:lnTo>
                  <a:lnTo>
                    <a:pt x="635" y="59"/>
                  </a:lnTo>
                  <a:lnTo>
                    <a:pt x="635" y="57"/>
                  </a:lnTo>
                  <a:lnTo>
                    <a:pt x="637" y="56"/>
                  </a:lnTo>
                  <a:lnTo>
                    <a:pt x="637" y="56"/>
                  </a:lnTo>
                  <a:lnTo>
                    <a:pt x="637" y="54"/>
                  </a:lnTo>
                  <a:lnTo>
                    <a:pt x="639" y="52"/>
                  </a:lnTo>
                  <a:lnTo>
                    <a:pt x="639" y="52"/>
                  </a:lnTo>
                  <a:lnTo>
                    <a:pt x="639" y="50"/>
                  </a:lnTo>
                  <a:close/>
                  <a:moveTo>
                    <a:pt x="2" y="2105"/>
                  </a:moveTo>
                  <a:lnTo>
                    <a:pt x="48" y="2116"/>
                  </a:lnTo>
                  <a:lnTo>
                    <a:pt x="100" y="2130"/>
                  </a:lnTo>
                  <a:lnTo>
                    <a:pt x="154" y="2139"/>
                  </a:lnTo>
                  <a:lnTo>
                    <a:pt x="207" y="2145"/>
                  </a:lnTo>
                  <a:lnTo>
                    <a:pt x="261" y="2149"/>
                  </a:lnTo>
                  <a:lnTo>
                    <a:pt x="317" y="2151"/>
                  </a:lnTo>
                  <a:lnTo>
                    <a:pt x="372" y="2149"/>
                  </a:lnTo>
                  <a:lnTo>
                    <a:pt x="426" y="2145"/>
                  </a:lnTo>
                  <a:lnTo>
                    <a:pt x="480" y="2139"/>
                  </a:lnTo>
                  <a:lnTo>
                    <a:pt x="534" y="2130"/>
                  </a:lnTo>
                  <a:lnTo>
                    <a:pt x="585" y="2116"/>
                  </a:lnTo>
                  <a:lnTo>
                    <a:pt x="637" y="2103"/>
                  </a:lnTo>
                  <a:lnTo>
                    <a:pt x="687" y="2085"/>
                  </a:lnTo>
                  <a:lnTo>
                    <a:pt x="693" y="2084"/>
                  </a:lnTo>
                  <a:lnTo>
                    <a:pt x="687" y="2074"/>
                  </a:lnTo>
                  <a:lnTo>
                    <a:pt x="683" y="2076"/>
                  </a:lnTo>
                  <a:lnTo>
                    <a:pt x="633" y="2093"/>
                  </a:lnTo>
                  <a:lnTo>
                    <a:pt x="583" y="2107"/>
                  </a:lnTo>
                  <a:lnTo>
                    <a:pt x="532" y="2118"/>
                  </a:lnTo>
                  <a:lnTo>
                    <a:pt x="480" y="2128"/>
                  </a:lnTo>
                  <a:lnTo>
                    <a:pt x="426" y="2135"/>
                  </a:lnTo>
                  <a:lnTo>
                    <a:pt x="372" y="2139"/>
                  </a:lnTo>
                  <a:lnTo>
                    <a:pt x="317" y="2141"/>
                  </a:lnTo>
                  <a:lnTo>
                    <a:pt x="263" y="2139"/>
                  </a:lnTo>
                  <a:lnTo>
                    <a:pt x="207" y="2135"/>
                  </a:lnTo>
                  <a:lnTo>
                    <a:pt x="155" y="2128"/>
                  </a:lnTo>
                  <a:lnTo>
                    <a:pt x="102" y="2118"/>
                  </a:lnTo>
                  <a:lnTo>
                    <a:pt x="50" y="2107"/>
                  </a:lnTo>
                  <a:lnTo>
                    <a:pt x="0" y="2093"/>
                  </a:lnTo>
                  <a:lnTo>
                    <a:pt x="0" y="2093"/>
                  </a:lnTo>
                  <a:lnTo>
                    <a:pt x="0" y="2093"/>
                  </a:lnTo>
                  <a:lnTo>
                    <a:pt x="0" y="2095"/>
                  </a:lnTo>
                  <a:lnTo>
                    <a:pt x="0" y="2097"/>
                  </a:lnTo>
                  <a:lnTo>
                    <a:pt x="2" y="2099"/>
                  </a:lnTo>
                  <a:lnTo>
                    <a:pt x="2" y="2099"/>
                  </a:lnTo>
                  <a:lnTo>
                    <a:pt x="2" y="2101"/>
                  </a:lnTo>
                  <a:lnTo>
                    <a:pt x="2" y="2103"/>
                  </a:lnTo>
                  <a:lnTo>
                    <a:pt x="2" y="2105"/>
                  </a:lnTo>
                  <a:close/>
                </a:path>
              </a:pathLst>
            </a:custGeom>
            <a:solidFill>
              <a:srgbClr val="36a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Freeform 327"/>
            <p:cNvSpPr/>
            <p:nvPr/>
          </p:nvSpPr>
          <p:spPr>
            <a:xfrm>
              <a:off x="5948280" y="1461600"/>
              <a:ext cx="1163520" cy="3601440"/>
            </a:xfrm>
            <a:custGeom>
              <a:avLst/>
              <a:gdLst>
                <a:gd name="textAreaLeft" fmla="*/ 0 w 1163520"/>
                <a:gd name="textAreaRight" fmla="*/ 1163880 w 1163520"/>
                <a:gd name="textAreaTop" fmla="*/ 0 h 3601440"/>
                <a:gd name="textAreaBottom" fmla="*/ 3601800 h 3601440"/>
              </a:gdLst>
              <a:ahLst/>
              <a:rect l="textAreaLeft" t="textAreaTop" r="textAreaRight" b="textAreaBottom"/>
              <a:pathLst>
                <a:path w="691" h="2139">
                  <a:moveTo>
                    <a:pt x="637" y="50"/>
                  </a:moveTo>
                  <a:lnTo>
                    <a:pt x="635" y="48"/>
                  </a:lnTo>
                  <a:lnTo>
                    <a:pt x="583" y="34"/>
                  </a:lnTo>
                  <a:lnTo>
                    <a:pt x="532" y="23"/>
                  </a:lnTo>
                  <a:lnTo>
                    <a:pt x="480" y="13"/>
                  </a:lnTo>
                  <a:lnTo>
                    <a:pt x="426" y="5"/>
                  </a:lnTo>
                  <a:lnTo>
                    <a:pt x="372" y="2"/>
                  </a:lnTo>
                  <a:lnTo>
                    <a:pt x="317" y="0"/>
                  </a:lnTo>
                  <a:lnTo>
                    <a:pt x="261" y="2"/>
                  </a:lnTo>
                  <a:lnTo>
                    <a:pt x="257" y="2"/>
                  </a:lnTo>
                  <a:lnTo>
                    <a:pt x="257" y="3"/>
                  </a:lnTo>
                  <a:lnTo>
                    <a:pt x="257" y="5"/>
                  </a:lnTo>
                  <a:lnTo>
                    <a:pt x="255" y="5"/>
                  </a:lnTo>
                  <a:lnTo>
                    <a:pt x="255" y="7"/>
                  </a:lnTo>
                  <a:lnTo>
                    <a:pt x="255" y="9"/>
                  </a:lnTo>
                  <a:lnTo>
                    <a:pt x="253" y="9"/>
                  </a:lnTo>
                  <a:lnTo>
                    <a:pt x="253" y="11"/>
                  </a:lnTo>
                  <a:lnTo>
                    <a:pt x="253" y="13"/>
                  </a:lnTo>
                  <a:lnTo>
                    <a:pt x="263" y="11"/>
                  </a:lnTo>
                  <a:lnTo>
                    <a:pt x="317" y="11"/>
                  </a:lnTo>
                  <a:lnTo>
                    <a:pt x="370" y="11"/>
                  </a:lnTo>
                  <a:lnTo>
                    <a:pt x="426" y="17"/>
                  </a:lnTo>
                  <a:lnTo>
                    <a:pt x="478" y="23"/>
                  </a:lnTo>
                  <a:lnTo>
                    <a:pt x="530" y="32"/>
                  </a:lnTo>
                  <a:lnTo>
                    <a:pt x="582" y="44"/>
                  </a:lnTo>
                  <a:lnTo>
                    <a:pt x="631" y="59"/>
                  </a:lnTo>
                  <a:lnTo>
                    <a:pt x="633" y="59"/>
                  </a:lnTo>
                  <a:lnTo>
                    <a:pt x="633" y="57"/>
                  </a:lnTo>
                  <a:lnTo>
                    <a:pt x="633" y="55"/>
                  </a:lnTo>
                  <a:lnTo>
                    <a:pt x="633" y="55"/>
                  </a:lnTo>
                  <a:lnTo>
                    <a:pt x="635" y="53"/>
                  </a:lnTo>
                  <a:lnTo>
                    <a:pt x="635" y="53"/>
                  </a:lnTo>
                  <a:lnTo>
                    <a:pt x="635" y="51"/>
                  </a:lnTo>
                  <a:lnTo>
                    <a:pt x="637" y="50"/>
                  </a:lnTo>
                  <a:lnTo>
                    <a:pt x="637" y="50"/>
                  </a:lnTo>
                  <a:close/>
                  <a:moveTo>
                    <a:pt x="2" y="2093"/>
                  </a:moveTo>
                  <a:lnTo>
                    <a:pt x="50" y="2106"/>
                  </a:lnTo>
                  <a:lnTo>
                    <a:pt x="102" y="2118"/>
                  </a:lnTo>
                  <a:lnTo>
                    <a:pt x="154" y="2127"/>
                  </a:lnTo>
                  <a:lnTo>
                    <a:pt x="207" y="2133"/>
                  </a:lnTo>
                  <a:lnTo>
                    <a:pt x="261" y="2139"/>
                  </a:lnTo>
                  <a:lnTo>
                    <a:pt x="317" y="2139"/>
                  </a:lnTo>
                  <a:lnTo>
                    <a:pt x="372" y="2139"/>
                  </a:lnTo>
                  <a:lnTo>
                    <a:pt x="426" y="2133"/>
                  </a:lnTo>
                  <a:lnTo>
                    <a:pt x="480" y="2127"/>
                  </a:lnTo>
                  <a:lnTo>
                    <a:pt x="532" y="2118"/>
                  </a:lnTo>
                  <a:lnTo>
                    <a:pt x="583" y="2106"/>
                  </a:lnTo>
                  <a:lnTo>
                    <a:pt x="635" y="2091"/>
                  </a:lnTo>
                  <a:lnTo>
                    <a:pt x="685" y="2074"/>
                  </a:lnTo>
                  <a:lnTo>
                    <a:pt x="691" y="2072"/>
                  </a:lnTo>
                  <a:lnTo>
                    <a:pt x="685" y="2062"/>
                  </a:lnTo>
                  <a:lnTo>
                    <a:pt x="681" y="2064"/>
                  </a:lnTo>
                  <a:lnTo>
                    <a:pt x="631" y="2081"/>
                  </a:lnTo>
                  <a:lnTo>
                    <a:pt x="582" y="2095"/>
                  </a:lnTo>
                  <a:lnTo>
                    <a:pt x="530" y="2108"/>
                  </a:lnTo>
                  <a:lnTo>
                    <a:pt x="478" y="2116"/>
                  </a:lnTo>
                  <a:lnTo>
                    <a:pt x="426" y="2124"/>
                  </a:lnTo>
                  <a:lnTo>
                    <a:pt x="370" y="2127"/>
                  </a:lnTo>
                  <a:lnTo>
                    <a:pt x="317" y="2129"/>
                  </a:lnTo>
                  <a:lnTo>
                    <a:pt x="263" y="2127"/>
                  </a:lnTo>
                  <a:lnTo>
                    <a:pt x="209" y="2124"/>
                  </a:lnTo>
                  <a:lnTo>
                    <a:pt x="155" y="2116"/>
                  </a:lnTo>
                  <a:lnTo>
                    <a:pt x="104" y="2108"/>
                  </a:lnTo>
                  <a:lnTo>
                    <a:pt x="52" y="2095"/>
                  </a:lnTo>
                  <a:lnTo>
                    <a:pt x="2" y="2081"/>
                  </a:lnTo>
                  <a:lnTo>
                    <a:pt x="0" y="2079"/>
                  </a:lnTo>
                  <a:lnTo>
                    <a:pt x="0" y="2081"/>
                  </a:lnTo>
                  <a:lnTo>
                    <a:pt x="0" y="2083"/>
                  </a:lnTo>
                  <a:lnTo>
                    <a:pt x="0" y="2085"/>
                  </a:lnTo>
                  <a:lnTo>
                    <a:pt x="0" y="2087"/>
                  </a:lnTo>
                  <a:lnTo>
                    <a:pt x="0" y="2087"/>
                  </a:lnTo>
                  <a:lnTo>
                    <a:pt x="0" y="2089"/>
                  </a:lnTo>
                  <a:lnTo>
                    <a:pt x="0" y="2091"/>
                  </a:lnTo>
                  <a:lnTo>
                    <a:pt x="2" y="2093"/>
                  </a:lnTo>
                  <a:close/>
                </a:path>
              </a:pathLst>
            </a:custGeom>
            <a:solidFill>
              <a:srgbClr val="37a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Freeform 328"/>
            <p:cNvSpPr/>
            <p:nvPr/>
          </p:nvSpPr>
          <p:spPr>
            <a:xfrm>
              <a:off x="5944680" y="1469880"/>
              <a:ext cx="1159920" cy="3586680"/>
            </a:xfrm>
            <a:custGeom>
              <a:avLst/>
              <a:gdLst>
                <a:gd name="textAreaLeft" fmla="*/ 0 w 1159920"/>
                <a:gd name="textAreaRight" fmla="*/ 1160280 w 1159920"/>
                <a:gd name="textAreaTop" fmla="*/ 0 h 3586680"/>
                <a:gd name="textAreaBottom" fmla="*/ 3587040 h 3586680"/>
              </a:gdLst>
              <a:ahLst/>
              <a:rect l="textAreaLeft" t="textAreaTop" r="textAreaRight" b="textAreaBottom"/>
              <a:pathLst>
                <a:path w="689" h="2130">
                  <a:moveTo>
                    <a:pt x="637" y="48"/>
                  </a:moveTo>
                  <a:lnTo>
                    <a:pt x="635" y="48"/>
                  </a:lnTo>
                  <a:lnTo>
                    <a:pt x="585" y="33"/>
                  </a:lnTo>
                  <a:lnTo>
                    <a:pt x="534" y="21"/>
                  </a:lnTo>
                  <a:lnTo>
                    <a:pt x="482" y="12"/>
                  </a:lnTo>
                  <a:lnTo>
                    <a:pt x="428" y="6"/>
                  </a:lnTo>
                  <a:lnTo>
                    <a:pt x="374" y="2"/>
                  </a:lnTo>
                  <a:lnTo>
                    <a:pt x="319" y="0"/>
                  </a:lnTo>
                  <a:lnTo>
                    <a:pt x="265" y="2"/>
                  </a:lnTo>
                  <a:lnTo>
                    <a:pt x="257" y="2"/>
                  </a:lnTo>
                  <a:lnTo>
                    <a:pt x="257" y="4"/>
                  </a:lnTo>
                  <a:lnTo>
                    <a:pt x="255" y="4"/>
                  </a:lnTo>
                  <a:lnTo>
                    <a:pt x="255" y="6"/>
                  </a:lnTo>
                  <a:lnTo>
                    <a:pt x="255" y="8"/>
                  </a:lnTo>
                  <a:lnTo>
                    <a:pt x="253" y="10"/>
                  </a:lnTo>
                  <a:lnTo>
                    <a:pt x="253" y="10"/>
                  </a:lnTo>
                  <a:lnTo>
                    <a:pt x="253" y="12"/>
                  </a:lnTo>
                  <a:lnTo>
                    <a:pt x="252" y="14"/>
                  </a:lnTo>
                  <a:lnTo>
                    <a:pt x="265" y="12"/>
                  </a:lnTo>
                  <a:lnTo>
                    <a:pt x="319" y="12"/>
                  </a:lnTo>
                  <a:lnTo>
                    <a:pt x="372" y="12"/>
                  </a:lnTo>
                  <a:lnTo>
                    <a:pt x="426" y="16"/>
                  </a:lnTo>
                  <a:lnTo>
                    <a:pt x="480" y="23"/>
                  </a:lnTo>
                  <a:lnTo>
                    <a:pt x="532" y="33"/>
                  </a:lnTo>
                  <a:lnTo>
                    <a:pt x="582" y="45"/>
                  </a:lnTo>
                  <a:lnTo>
                    <a:pt x="632" y="58"/>
                  </a:lnTo>
                  <a:lnTo>
                    <a:pt x="633" y="58"/>
                  </a:lnTo>
                  <a:lnTo>
                    <a:pt x="633" y="56"/>
                  </a:lnTo>
                  <a:lnTo>
                    <a:pt x="633" y="54"/>
                  </a:lnTo>
                  <a:lnTo>
                    <a:pt x="635" y="54"/>
                  </a:lnTo>
                  <a:lnTo>
                    <a:pt x="635" y="52"/>
                  </a:lnTo>
                  <a:lnTo>
                    <a:pt x="635" y="50"/>
                  </a:lnTo>
                  <a:lnTo>
                    <a:pt x="635" y="50"/>
                  </a:lnTo>
                  <a:lnTo>
                    <a:pt x="637" y="48"/>
                  </a:lnTo>
                  <a:close/>
                  <a:moveTo>
                    <a:pt x="2" y="2082"/>
                  </a:moveTo>
                  <a:lnTo>
                    <a:pt x="2" y="2082"/>
                  </a:lnTo>
                  <a:lnTo>
                    <a:pt x="52" y="2096"/>
                  </a:lnTo>
                  <a:lnTo>
                    <a:pt x="104" y="2107"/>
                  </a:lnTo>
                  <a:lnTo>
                    <a:pt x="157" y="2117"/>
                  </a:lnTo>
                  <a:lnTo>
                    <a:pt x="209" y="2124"/>
                  </a:lnTo>
                  <a:lnTo>
                    <a:pt x="265" y="2128"/>
                  </a:lnTo>
                  <a:lnTo>
                    <a:pt x="319" y="2130"/>
                  </a:lnTo>
                  <a:lnTo>
                    <a:pt x="374" y="2128"/>
                  </a:lnTo>
                  <a:lnTo>
                    <a:pt x="428" y="2124"/>
                  </a:lnTo>
                  <a:lnTo>
                    <a:pt x="482" y="2117"/>
                  </a:lnTo>
                  <a:lnTo>
                    <a:pt x="534" y="2107"/>
                  </a:lnTo>
                  <a:lnTo>
                    <a:pt x="585" y="2096"/>
                  </a:lnTo>
                  <a:lnTo>
                    <a:pt x="635" y="2082"/>
                  </a:lnTo>
                  <a:lnTo>
                    <a:pt x="685" y="2065"/>
                  </a:lnTo>
                  <a:lnTo>
                    <a:pt x="689" y="2063"/>
                  </a:lnTo>
                  <a:lnTo>
                    <a:pt x="685" y="2053"/>
                  </a:lnTo>
                  <a:lnTo>
                    <a:pt x="681" y="2055"/>
                  </a:lnTo>
                  <a:lnTo>
                    <a:pt x="632" y="2071"/>
                  </a:lnTo>
                  <a:lnTo>
                    <a:pt x="582" y="2086"/>
                  </a:lnTo>
                  <a:lnTo>
                    <a:pt x="532" y="2097"/>
                  </a:lnTo>
                  <a:lnTo>
                    <a:pt x="480" y="2107"/>
                  </a:lnTo>
                  <a:lnTo>
                    <a:pt x="426" y="2113"/>
                  </a:lnTo>
                  <a:lnTo>
                    <a:pt x="372" y="2117"/>
                  </a:lnTo>
                  <a:lnTo>
                    <a:pt x="319" y="2119"/>
                  </a:lnTo>
                  <a:lnTo>
                    <a:pt x="265" y="2117"/>
                  </a:lnTo>
                  <a:lnTo>
                    <a:pt x="211" y="2113"/>
                  </a:lnTo>
                  <a:lnTo>
                    <a:pt x="157" y="2107"/>
                  </a:lnTo>
                  <a:lnTo>
                    <a:pt x="106" y="2097"/>
                  </a:lnTo>
                  <a:lnTo>
                    <a:pt x="56" y="2086"/>
                  </a:lnTo>
                  <a:lnTo>
                    <a:pt x="6" y="2071"/>
                  </a:lnTo>
                  <a:lnTo>
                    <a:pt x="0" y="2069"/>
                  </a:lnTo>
                  <a:lnTo>
                    <a:pt x="0" y="2071"/>
                  </a:lnTo>
                  <a:lnTo>
                    <a:pt x="0" y="2073"/>
                  </a:lnTo>
                  <a:lnTo>
                    <a:pt x="0" y="2074"/>
                  </a:lnTo>
                  <a:lnTo>
                    <a:pt x="2" y="2074"/>
                  </a:lnTo>
                  <a:lnTo>
                    <a:pt x="2" y="2076"/>
                  </a:lnTo>
                  <a:lnTo>
                    <a:pt x="2" y="2078"/>
                  </a:lnTo>
                  <a:lnTo>
                    <a:pt x="2" y="2080"/>
                  </a:lnTo>
                  <a:lnTo>
                    <a:pt x="2" y="2082"/>
                  </a:lnTo>
                  <a:close/>
                </a:path>
              </a:pathLst>
            </a:custGeom>
            <a:solidFill>
              <a:srgbClr val="38a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Freeform 329"/>
            <p:cNvSpPr/>
            <p:nvPr/>
          </p:nvSpPr>
          <p:spPr>
            <a:xfrm>
              <a:off x="5944680" y="1479960"/>
              <a:ext cx="1157040" cy="3566520"/>
            </a:xfrm>
            <a:custGeom>
              <a:avLst/>
              <a:gdLst>
                <a:gd name="textAreaLeft" fmla="*/ 0 w 1157040"/>
                <a:gd name="textAreaRight" fmla="*/ 1157400 w 1157040"/>
                <a:gd name="textAreaTop" fmla="*/ 0 h 3566520"/>
                <a:gd name="textAreaBottom" fmla="*/ 3566880 h 3566520"/>
              </a:gdLst>
              <a:ahLst/>
              <a:rect l="textAreaLeft" t="textAreaTop" r="textAreaRight" b="textAreaBottom"/>
              <a:pathLst>
                <a:path w="687" h="2118">
                  <a:moveTo>
                    <a:pt x="635" y="48"/>
                  </a:moveTo>
                  <a:lnTo>
                    <a:pt x="633" y="48"/>
                  </a:lnTo>
                  <a:lnTo>
                    <a:pt x="584" y="33"/>
                  </a:lnTo>
                  <a:lnTo>
                    <a:pt x="532" y="21"/>
                  </a:lnTo>
                  <a:lnTo>
                    <a:pt x="480" y="12"/>
                  </a:lnTo>
                  <a:lnTo>
                    <a:pt x="428" y="6"/>
                  </a:lnTo>
                  <a:lnTo>
                    <a:pt x="372" y="0"/>
                  </a:lnTo>
                  <a:lnTo>
                    <a:pt x="319" y="0"/>
                  </a:lnTo>
                  <a:lnTo>
                    <a:pt x="265" y="0"/>
                  </a:lnTo>
                  <a:lnTo>
                    <a:pt x="255" y="2"/>
                  </a:lnTo>
                  <a:lnTo>
                    <a:pt x="253" y="4"/>
                  </a:lnTo>
                  <a:lnTo>
                    <a:pt x="253" y="4"/>
                  </a:lnTo>
                  <a:lnTo>
                    <a:pt x="253" y="6"/>
                  </a:lnTo>
                  <a:lnTo>
                    <a:pt x="252" y="8"/>
                  </a:lnTo>
                  <a:lnTo>
                    <a:pt x="252" y="8"/>
                  </a:lnTo>
                  <a:lnTo>
                    <a:pt x="252" y="10"/>
                  </a:lnTo>
                  <a:lnTo>
                    <a:pt x="252" y="12"/>
                  </a:lnTo>
                  <a:lnTo>
                    <a:pt x="250" y="14"/>
                  </a:lnTo>
                  <a:lnTo>
                    <a:pt x="265" y="12"/>
                  </a:lnTo>
                  <a:lnTo>
                    <a:pt x="319" y="10"/>
                  </a:lnTo>
                  <a:lnTo>
                    <a:pt x="372" y="12"/>
                  </a:lnTo>
                  <a:lnTo>
                    <a:pt x="426" y="15"/>
                  </a:lnTo>
                  <a:lnTo>
                    <a:pt x="478" y="23"/>
                  </a:lnTo>
                  <a:lnTo>
                    <a:pt x="530" y="31"/>
                  </a:lnTo>
                  <a:lnTo>
                    <a:pt x="582" y="42"/>
                  </a:lnTo>
                  <a:lnTo>
                    <a:pt x="630" y="58"/>
                  </a:lnTo>
                  <a:lnTo>
                    <a:pt x="630" y="56"/>
                  </a:lnTo>
                  <a:lnTo>
                    <a:pt x="632" y="54"/>
                  </a:lnTo>
                  <a:lnTo>
                    <a:pt x="632" y="54"/>
                  </a:lnTo>
                  <a:lnTo>
                    <a:pt x="632" y="52"/>
                  </a:lnTo>
                  <a:lnTo>
                    <a:pt x="633" y="52"/>
                  </a:lnTo>
                  <a:lnTo>
                    <a:pt x="633" y="50"/>
                  </a:lnTo>
                  <a:lnTo>
                    <a:pt x="633" y="48"/>
                  </a:lnTo>
                  <a:lnTo>
                    <a:pt x="635" y="48"/>
                  </a:lnTo>
                  <a:close/>
                  <a:moveTo>
                    <a:pt x="2" y="2068"/>
                  </a:moveTo>
                  <a:lnTo>
                    <a:pt x="4" y="2070"/>
                  </a:lnTo>
                  <a:lnTo>
                    <a:pt x="54" y="2084"/>
                  </a:lnTo>
                  <a:lnTo>
                    <a:pt x="106" y="2097"/>
                  </a:lnTo>
                  <a:lnTo>
                    <a:pt x="157" y="2105"/>
                  </a:lnTo>
                  <a:lnTo>
                    <a:pt x="211" y="2113"/>
                  </a:lnTo>
                  <a:lnTo>
                    <a:pt x="265" y="2116"/>
                  </a:lnTo>
                  <a:lnTo>
                    <a:pt x="319" y="2118"/>
                  </a:lnTo>
                  <a:lnTo>
                    <a:pt x="372" y="2116"/>
                  </a:lnTo>
                  <a:lnTo>
                    <a:pt x="428" y="2113"/>
                  </a:lnTo>
                  <a:lnTo>
                    <a:pt x="480" y="2105"/>
                  </a:lnTo>
                  <a:lnTo>
                    <a:pt x="532" y="2097"/>
                  </a:lnTo>
                  <a:lnTo>
                    <a:pt x="584" y="2084"/>
                  </a:lnTo>
                  <a:lnTo>
                    <a:pt x="633" y="2070"/>
                  </a:lnTo>
                  <a:lnTo>
                    <a:pt x="683" y="2053"/>
                  </a:lnTo>
                  <a:lnTo>
                    <a:pt x="687" y="2051"/>
                  </a:lnTo>
                  <a:lnTo>
                    <a:pt x="683" y="2042"/>
                  </a:lnTo>
                  <a:lnTo>
                    <a:pt x="680" y="2044"/>
                  </a:lnTo>
                  <a:lnTo>
                    <a:pt x="632" y="2061"/>
                  </a:lnTo>
                  <a:lnTo>
                    <a:pt x="582" y="2074"/>
                  </a:lnTo>
                  <a:lnTo>
                    <a:pt x="530" y="2086"/>
                  </a:lnTo>
                  <a:lnTo>
                    <a:pt x="478" y="2095"/>
                  </a:lnTo>
                  <a:lnTo>
                    <a:pt x="426" y="2101"/>
                  </a:lnTo>
                  <a:lnTo>
                    <a:pt x="372" y="2107"/>
                  </a:lnTo>
                  <a:lnTo>
                    <a:pt x="319" y="2107"/>
                  </a:lnTo>
                  <a:lnTo>
                    <a:pt x="265" y="2107"/>
                  </a:lnTo>
                  <a:lnTo>
                    <a:pt x="211" y="2101"/>
                  </a:lnTo>
                  <a:lnTo>
                    <a:pt x="159" y="2095"/>
                  </a:lnTo>
                  <a:lnTo>
                    <a:pt x="108" y="2086"/>
                  </a:lnTo>
                  <a:lnTo>
                    <a:pt x="58" y="2074"/>
                  </a:lnTo>
                  <a:lnTo>
                    <a:pt x="8" y="2061"/>
                  </a:lnTo>
                  <a:lnTo>
                    <a:pt x="0" y="2057"/>
                  </a:lnTo>
                  <a:lnTo>
                    <a:pt x="0" y="2059"/>
                  </a:lnTo>
                  <a:lnTo>
                    <a:pt x="0" y="2061"/>
                  </a:lnTo>
                  <a:lnTo>
                    <a:pt x="0" y="2063"/>
                  </a:lnTo>
                  <a:lnTo>
                    <a:pt x="0" y="2063"/>
                  </a:lnTo>
                  <a:lnTo>
                    <a:pt x="0" y="2065"/>
                  </a:lnTo>
                  <a:lnTo>
                    <a:pt x="0" y="2067"/>
                  </a:lnTo>
                  <a:lnTo>
                    <a:pt x="0" y="2068"/>
                  </a:lnTo>
                  <a:lnTo>
                    <a:pt x="2" y="2068"/>
                  </a:lnTo>
                  <a:close/>
                </a:path>
              </a:pathLst>
            </a:custGeom>
            <a:solidFill>
              <a:srgbClr val="39a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Freeform 330"/>
            <p:cNvSpPr/>
            <p:nvPr/>
          </p:nvSpPr>
          <p:spPr>
            <a:xfrm>
              <a:off x="5941440" y="1490040"/>
              <a:ext cx="1157040" cy="3547800"/>
            </a:xfrm>
            <a:custGeom>
              <a:avLst/>
              <a:gdLst>
                <a:gd name="textAreaLeft" fmla="*/ 0 w 1157040"/>
                <a:gd name="textAreaRight" fmla="*/ 1157400 w 1157040"/>
                <a:gd name="textAreaTop" fmla="*/ 0 h 3547800"/>
                <a:gd name="textAreaBottom" fmla="*/ 3548160 h 3547800"/>
              </a:gdLst>
              <a:ahLst/>
              <a:rect l="textAreaLeft" t="textAreaTop" r="textAreaRight" b="textAreaBottom"/>
              <a:pathLst>
                <a:path w="687" h="2107">
                  <a:moveTo>
                    <a:pt x="634" y="46"/>
                  </a:moveTo>
                  <a:lnTo>
                    <a:pt x="584" y="33"/>
                  </a:lnTo>
                  <a:lnTo>
                    <a:pt x="534" y="21"/>
                  </a:lnTo>
                  <a:lnTo>
                    <a:pt x="482" y="11"/>
                  </a:lnTo>
                  <a:lnTo>
                    <a:pt x="428" y="4"/>
                  </a:lnTo>
                  <a:lnTo>
                    <a:pt x="374" y="0"/>
                  </a:lnTo>
                  <a:lnTo>
                    <a:pt x="321" y="0"/>
                  </a:lnTo>
                  <a:lnTo>
                    <a:pt x="267" y="0"/>
                  </a:lnTo>
                  <a:lnTo>
                    <a:pt x="254" y="2"/>
                  </a:lnTo>
                  <a:lnTo>
                    <a:pt x="254" y="2"/>
                  </a:lnTo>
                  <a:lnTo>
                    <a:pt x="254" y="4"/>
                  </a:lnTo>
                  <a:lnTo>
                    <a:pt x="254" y="6"/>
                  </a:lnTo>
                  <a:lnTo>
                    <a:pt x="252" y="8"/>
                  </a:lnTo>
                  <a:lnTo>
                    <a:pt x="252" y="8"/>
                  </a:lnTo>
                  <a:lnTo>
                    <a:pt x="252" y="9"/>
                  </a:lnTo>
                  <a:lnTo>
                    <a:pt x="250" y="11"/>
                  </a:lnTo>
                  <a:lnTo>
                    <a:pt x="250" y="11"/>
                  </a:lnTo>
                  <a:lnTo>
                    <a:pt x="267" y="11"/>
                  </a:lnTo>
                  <a:lnTo>
                    <a:pt x="321" y="9"/>
                  </a:lnTo>
                  <a:lnTo>
                    <a:pt x="374" y="11"/>
                  </a:lnTo>
                  <a:lnTo>
                    <a:pt x="428" y="15"/>
                  </a:lnTo>
                  <a:lnTo>
                    <a:pt x="480" y="21"/>
                  </a:lnTo>
                  <a:lnTo>
                    <a:pt x="532" y="31"/>
                  </a:lnTo>
                  <a:lnTo>
                    <a:pt x="582" y="42"/>
                  </a:lnTo>
                  <a:lnTo>
                    <a:pt x="630" y="56"/>
                  </a:lnTo>
                  <a:lnTo>
                    <a:pt x="630" y="56"/>
                  </a:lnTo>
                  <a:lnTo>
                    <a:pt x="630" y="54"/>
                  </a:lnTo>
                  <a:lnTo>
                    <a:pt x="632" y="52"/>
                  </a:lnTo>
                  <a:lnTo>
                    <a:pt x="632" y="52"/>
                  </a:lnTo>
                  <a:lnTo>
                    <a:pt x="632" y="50"/>
                  </a:lnTo>
                  <a:lnTo>
                    <a:pt x="634" y="48"/>
                  </a:lnTo>
                  <a:lnTo>
                    <a:pt x="634" y="48"/>
                  </a:lnTo>
                  <a:lnTo>
                    <a:pt x="634" y="46"/>
                  </a:lnTo>
                  <a:close/>
                  <a:moveTo>
                    <a:pt x="2" y="2057"/>
                  </a:moveTo>
                  <a:lnTo>
                    <a:pt x="8" y="2059"/>
                  </a:lnTo>
                  <a:lnTo>
                    <a:pt x="58" y="2074"/>
                  </a:lnTo>
                  <a:lnTo>
                    <a:pt x="108" y="2085"/>
                  </a:lnTo>
                  <a:lnTo>
                    <a:pt x="159" y="2095"/>
                  </a:lnTo>
                  <a:lnTo>
                    <a:pt x="213" y="2101"/>
                  </a:lnTo>
                  <a:lnTo>
                    <a:pt x="267" y="2105"/>
                  </a:lnTo>
                  <a:lnTo>
                    <a:pt x="321" y="2107"/>
                  </a:lnTo>
                  <a:lnTo>
                    <a:pt x="374" y="2105"/>
                  </a:lnTo>
                  <a:lnTo>
                    <a:pt x="428" y="2101"/>
                  </a:lnTo>
                  <a:lnTo>
                    <a:pt x="482" y="2095"/>
                  </a:lnTo>
                  <a:lnTo>
                    <a:pt x="534" y="2085"/>
                  </a:lnTo>
                  <a:lnTo>
                    <a:pt x="584" y="2074"/>
                  </a:lnTo>
                  <a:lnTo>
                    <a:pt x="634" y="2059"/>
                  </a:lnTo>
                  <a:lnTo>
                    <a:pt x="683" y="2043"/>
                  </a:lnTo>
                  <a:lnTo>
                    <a:pt x="687" y="2041"/>
                  </a:lnTo>
                  <a:lnTo>
                    <a:pt x="682" y="2032"/>
                  </a:lnTo>
                  <a:lnTo>
                    <a:pt x="680" y="2032"/>
                  </a:lnTo>
                  <a:lnTo>
                    <a:pt x="632" y="2049"/>
                  </a:lnTo>
                  <a:lnTo>
                    <a:pt x="582" y="2062"/>
                  </a:lnTo>
                  <a:lnTo>
                    <a:pt x="532" y="2074"/>
                  </a:lnTo>
                  <a:lnTo>
                    <a:pt x="480" y="2084"/>
                  </a:lnTo>
                  <a:lnTo>
                    <a:pt x="428" y="2091"/>
                  </a:lnTo>
                  <a:lnTo>
                    <a:pt x="374" y="2095"/>
                  </a:lnTo>
                  <a:lnTo>
                    <a:pt x="321" y="2095"/>
                  </a:lnTo>
                  <a:lnTo>
                    <a:pt x="267" y="2095"/>
                  </a:lnTo>
                  <a:lnTo>
                    <a:pt x="215" y="2091"/>
                  </a:lnTo>
                  <a:lnTo>
                    <a:pt x="161" y="2084"/>
                  </a:lnTo>
                  <a:lnTo>
                    <a:pt x="111" y="2074"/>
                  </a:lnTo>
                  <a:lnTo>
                    <a:pt x="60" y="2062"/>
                  </a:lnTo>
                  <a:lnTo>
                    <a:pt x="10" y="2049"/>
                  </a:lnTo>
                  <a:lnTo>
                    <a:pt x="0" y="2045"/>
                  </a:lnTo>
                  <a:lnTo>
                    <a:pt x="0" y="2047"/>
                  </a:lnTo>
                  <a:lnTo>
                    <a:pt x="0" y="2049"/>
                  </a:lnTo>
                  <a:lnTo>
                    <a:pt x="2" y="2051"/>
                  </a:lnTo>
                  <a:lnTo>
                    <a:pt x="2" y="2051"/>
                  </a:lnTo>
                  <a:lnTo>
                    <a:pt x="2" y="2053"/>
                  </a:lnTo>
                  <a:lnTo>
                    <a:pt x="2" y="2055"/>
                  </a:lnTo>
                  <a:lnTo>
                    <a:pt x="2" y="2057"/>
                  </a:lnTo>
                  <a:lnTo>
                    <a:pt x="2" y="2057"/>
                  </a:lnTo>
                  <a:close/>
                </a:path>
              </a:pathLst>
            </a:custGeom>
            <a:solidFill>
              <a:srgbClr val="3ab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Freeform 331"/>
            <p:cNvSpPr/>
            <p:nvPr/>
          </p:nvSpPr>
          <p:spPr>
            <a:xfrm>
              <a:off x="5941440" y="1496520"/>
              <a:ext cx="1153440" cy="353124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3531240"/>
                <a:gd name="textAreaBottom" fmla="*/ 3531600 h 3531240"/>
              </a:gdLst>
              <a:ahLst/>
              <a:rect l="textAreaLeft" t="textAreaTop" r="textAreaRight" b="textAreaBottom"/>
              <a:pathLst>
                <a:path w="685" h="2097">
                  <a:moveTo>
                    <a:pt x="632" y="48"/>
                  </a:moveTo>
                  <a:lnTo>
                    <a:pt x="584" y="32"/>
                  </a:lnTo>
                  <a:lnTo>
                    <a:pt x="532" y="21"/>
                  </a:lnTo>
                  <a:lnTo>
                    <a:pt x="480" y="13"/>
                  </a:lnTo>
                  <a:lnTo>
                    <a:pt x="428" y="5"/>
                  </a:lnTo>
                  <a:lnTo>
                    <a:pt x="374" y="2"/>
                  </a:lnTo>
                  <a:lnTo>
                    <a:pt x="321" y="0"/>
                  </a:lnTo>
                  <a:lnTo>
                    <a:pt x="267" y="2"/>
                  </a:lnTo>
                  <a:lnTo>
                    <a:pt x="252" y="4"/>
                  </a:lnTo>
                  <a:lnTo>
                    <a:pt x="252" y="4"/>
                  </a:lnTo>
                  <a:lnTo>
                    <a:pt x="252" y="5"/>
                  </a:lnTo>
                  <a:lnTo>
                    <a:pt x="250" y="7"/>
                  </a:lnTo>
                  <a:lnTo>
                    <a:pt x="250" y="7"/>
                  </a:lnTo>
                  <a:lnTo>
                    <a:pt x="250" y="9"/>
                  </a:lnTo>
                  <a:lnTo>
                    <a:pt x="248" y="11"/>
                  </a:lnTo>
                  <a:lnTo>
                    <a:pt x="248" y="13"/>
                  </a:lnTo>
                  <a:lnTo>
                    <a:pt x="248" y="13"/>
                  </a:lnTo>
                  <a:lnTo>
                    <a:pt x="267" y="13"/>
                  </a:lnTo>
                  <a:lnTo>
                    <a:pt x="321" y="11"/>
                  </a:lnTo>
                  <a:lnTo>
                    <a:pt x="374" y="13"/>
                  </a:lnTo>
                  <a:lnTo>
                    <a:pt x="426" y="17"/>
                  </a:lnTo>
                  <a:lnTo>
                    <a:pt x="478" y="23"/>
                  </a:lnTo>
                  <a:lnTo>
                    <a:pt x="530" y="32"/>
                  </a:lnTo>
                  <a:lnTo>
                    <a:pt x="580" y="44"/>
                  </a:lnTo>
                  <a:lnTo>
                    <a:pt x="626" y="57"/>
                  </a:lnTo>
                  <a:lnTo>
                    <a:pt x="628" y="55"/>
                  </a:lnTo>
                  <a:lnTo>
                    <a:pt x="628" y="55"/>
                  </a:lnTo>
                  <a:lnTo>
                    <a:pt x="628" y="53"/>
                  </a:lnTo>
                  <a:lnTo>
                    <a:pt x="630" y="52"/>
                  </a:lnTo>
                  <a:lnTo>
                    <a:pt x="630" y="52"/>
                  </a:lnTo>
                  <a:lnTo>
                    <a:pt x="630" y="50"/>
                  </a:lnTo>
                  <a:lnTo>
                    <a:pt x="632" y="48"/>
                  </a:lnTo>
                  <a:lnTo>
                    <a:pt x="632" y="48"/>
                  </a:lnTo>
                  <a:close/>
                  <a:moveTo>
                    <a:pt x="2" y="2047"/>
                  </a:moveTo>
                  <a:lnTo>
                    <a:pt x="10" y="2051"/>
                  </a:lnTo>
                  <a:lnTo>
                    <a:pt x="60" y="2064"/>
                  </a:lnTo>
                  <a:lnTo>
                    <a:pt x="110" y="2076"/>
                  </a:lnTo>
                  <a:lnTo>
                    <a:pt x="161" y="2085"/>
                  </a:lnTo>
                  <a:lnTo>
                    <a:pt x="213" y="2091"/>
                  </a:lnTo>
                  <a:lnTo>
                    <a:pt x="267" y="2097"/>
                  </a:lnTo>
                  <a:lnTo>
                    <a:pt x="321" y="2097"/>
                  </a:lnTo>
                  <a:lnTo>
                    <a:pt x="374" y="2097"/>
                  </a:lnTo>
                  <a:lnTo>
                    <a:pt x="428" y="2091"/>
                  </a:lnTo>
                  <a:lnTo>
                    <a:pt x="480" y="2085"/>
                  </a:lnTo>
                  <a:lnTo>
                    <a:pt x="532" y="2076"/>
                  </a:lnTo>
                  <a:lnTo>
                    <a:pt x="584" y="2064"/>
                  </a:lnTo>
                  <a:lnTo>
                    <a:pt x="634" y="2051"/>
                  </a:lnTo>
                  <a:lnTo>
                    <a:pt x="682" y="2034"/>
                  </a:lnTo>
                  <a:lnTo>
                    <a:pt x="685" y="2032"/>
                  </a:lnTo>
                  <a:lnTo>
                    <a:pt x="680" y="2022"/>
                  </a:lnTo>
                  <a:lnTo>
                    <a:pt x="678" y="2024"/>
                  </a:lnTo>
                  <a:lnTo>
                    <a:pt x="630" y="2039"/>
                  </a:lnTo>
                  <a:lnTo>
                    <a:pt x="580" y="2055"/>
                  </a:lnTo>
                  <a:lnTo>
                    <a:pt x="530" y="2066"/>
                  </a:lnTo>
                  <a:lnTo>
                    <a:pt x="478" y="2074"/>
                  </a:lnTo>
                  <a:lnTo>
                    <a:pt x="426" y="2081"/>
                  </a:lnTo>
                  <a:lnTo>
                    <a:pt x="374" y="2085"/>
                  </a:lnTo>
                  <a:lnTo>
                    <a:pt x="321" y="2087"/>
                  </a:lnTo>
                  <a:lnTo>
                    <a:pt x="267" y="2085"/>
                  </a:lnTo>
                  <a:lnTo>
                    <a:pt x="215" y="2081"/>
                  </a:lnTo>
                  <a:lnTo>
                    <a:pt x="163" y="2074"/>
                  </a:lnTo>
                  <a:lnTo>
                    <a:pt x="111" y="2066"/>
                  </a:lnTo>
                  <a:lnTo>
                    <a:pt x="62" y="2055"/>
                  </a:lnTo>
                  <a:lnTo>
                    <a:pt x="12" y="2039"/>
                  </a:lnTo>
                  <a:lnTo>
                    <a:pt x="0" y="2035"/>
                  </a:lnTo>
                  <a:lnTo>
                    <a:pt x="0" y="2037"/>
                  </a:lnTo>
                  <a:lnTo>
                    <a:pt x="0" y="2039"/>
                  </a:lnTo>
                  <a:lnTo>
                    <a:pt x="0" y="2039"/>
                  </a:lnTo>
                  <a:lnTo>
                    <a:pt x="0" y="2041"/>
                  </a:lnTo>
                  <a:lnTo>
                    <a:pt x="0" y="2043"/>
                  </a:lnTo>
                  <a:lnTo>
                    <a:pt x="0" y="2045"/>
                  </a:lnTo>
                  <a:lnTo>
                    <a:pt x="2" y="2047"/>
                  </a:lnTo>
                  <a:lnTo>
                    <a:pt x="2" y="2047"/>
                  </a:lnTo>
                  <a:close/>
                </a:path>
              </a:pathLst>
            </a:custGeom>
            <a:solidFill>
              <a:srgbClr val="3bb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Freeform 332"/>
            <p:cNvSpPr/>
            <p:nvPr/>
          </p:nvSpPr>
          <p:spPr>
            <a:xfrm>
              <a:off x="5937840" y="1505160"/>
              <a:ext cx="1152000" cy="3512520"/>
            </a:xfrm>
            <a:custGeom>
              <a:avLst/>
              <a:gdLst>
                <a:gd name="textAreaLeft" fmla="*/ 0 w 1152000"/>
                <a:gd name="textAreaRight" fmla="*/ 1152360 w 1152000"/>
                <a:gd name="textAreaTop" fmla="*/ 0 h 3512520"/>
                <a:gd name="textAreaBottom" fmla="*/ 3512880 h 3512520"/>
              </a:gdLst>
              <a:ahLst/>
              <a:rect l="textAreaLeft" t="textAreaTop" r="textAreaRight" b="textAreaBottom"/>
              <a:pathLst>
                <a:path w="684" h="2086">
                  <a:moveTo>
                    <a:pt x="632" y="47"/>
                  </a:moveTo>
                  <a:lnTo>
                    <a:pt x="584" y="33"/>
                  </a:lnTo>
                  <a:lnTo>
                    <a:pt x="534" y="22"/>
                  </a:lnTo>
                  <a:lnTo>
                    <a:pt x="482" y="12"/>
                  </a:lnTo>
                  <a:lnTo>
                    <a:pt x="430" y="6"/>
                  </a:lnTo>
                  <a:lnTo>
                    <a:pt x="376" y="2"/>
                  </a:lnTo>
                  <a:lnTo>
                    <a:pt x="323" y="0"/>
                  </a:lnTo>
                  <a:lnTo>
                    <a:pt x="269" y="2"/>
                  </a:lnTo>
                  <a:lnTo>
                    <a:pt x="252" y="2"/>
                  </a:lnTo>
                  <a:lnTo>
                    <a:pt x="252" y="4"/>
                  </a:lnTo>
                  <a:lnTo>
                    <a:pt x="250" y="6"/>
                  </a:lnTo>
                  <a:lnTo>
                    <a:pt x="250" y="8"/>
                  </a:lnTo>
                  <a:lnTo>
                    <a:pt x="250" y="8"/>
                  </a:lnTo>
                  <a:lnTo>
                    <a:pt x="248" y="10"/>
                  </a:lnTo>
                  <a:lnTo>
                    <a:pt x="248" y="12"/>
                  </a:lnTo>
                  <a:lnTo>
                    <a:pt x="248" y="12"/>
                  </a:lnTo>
                  <a:lnTo>
                    <a:pt x="248" y="14"/>
                  </a:lnTo>
                  <a:lnTo>
                    <a:pt x="269" y="12"/>
                  </a:lnTo>
                  <a:lnTo>
                    <a:pt x="323" y="12"/>
                  </a:lnTo>
                  <a:lnTo>
                    <a:pt x="376" y="12"/>
                  </a:lnTo>
                  <a:lnTo>
                    <a:pt x="428" y="16"/>
                  </a:lnTo>
                  <a:lnTo>
                    <a:pt x="480" y="24"/>
                  </a:lnTo>
                  <a:lnTo>
                    <a:pt x="532" y="33"/>
                  </a:lnTo>
                  <a:lnTo>
                    <a:pt x="582" y="45"/>
                  </a:lnTo>
                  <a:lnTo>
                    <a:pt x="626" y="56"/>
                  </a:lnTo>
                  <a:lnTo>
                    <a:pt x="628" y="56"/>
                  </a:lnTo>
                  <a:lnTo>
                    <a:pt x="628" y="54"/>
                  </a:lnTo>
                  <a:lnTo>
                    <a:pt x="628" y="52"/>
                  </a:lnTo>
                  <a:lnTo>
                    <a:pt x="628" y="52"/>
                  </a:lnTo>
                  <a:lnTo>
                    <a:pt x="630" y="50"/>
                  </a:lnTo>
                  <a:lnTo>
                    <a:pt x="630" y="50"/>
                  </a:lnTo>
                  <a:lnTo>
                    <a:pt x="630" y="48"/>
                  </a:lnTo>
                  <a:lnTo>
                    <a:pt x="632" y="47"/>
                  </a:lnTo>
                  <a:close/>
                  <a:moveTo>
                    <a:pt x="2" y="2036"/>
                  </a:moveTo>
                  <a:lnTo>
                    <a:pt x="12" y="2040"/>
                  </a:lnTo>
                  <a:lnTo>
                    <a:pt x="62" y="2053"/>
                  </a:lnTo>
                  <a:lnTo>
                    <a:pt x="113" y="2065"/>
                  </a:lnTo>
                  <a:lnTo>
                    <a:pt x="163" y="2075"/>
                  </a:lnTo>
                  <a:lnTo>
                    <a:pt x="217" y="2082"/>
                  </a:lnTo>
                  <a:lnTo>
                    <a:pt x="269" y="2086"/>
                  </a:lnTo>
                  <a:lnTo>
                    <a:pt x="323" y="2086"/>
                  </a:lnTo>
                  <a:lnTo>
                    <a:pt x="376" y="2086"/>
                  </a:lnTo>
                  <a:lnTo>
                    <a:pt x="430" y="2082"/>
                  </a:lnTo>
                  <a:lnTo>
                    <a:pt x="482" y="2075"/>
                  </a:lnTo>
                  <a:lnTo>
                    <a:pt x="534" y="2065"/>
                  </a:lnTo>
                  <a:lnTo>
                    <a:pt x="584" y="2053"/>
                  </a:lnTo>
                  <a:lnTo>
                    <a:pt x="634" y="2040"/>
                  </a:lnTo>
                  <a:lnTo>
                    <a:pt x="682" y="2023"/>
                  </a:lnTo>
                  <a:lnTo>
                    <a:pt x="684" y="2023"/>
                  </a:lnTo>
                  <a:lnTo>
                    <a:pt x="680" y="2013"/>
                  </a:lnTo>
                  <a:lnTo>
                    <a:pt x="678" y="2013"/>
                  </a:lnTo>
                  <a:lnTo>
                    <a:pt x="630" y="2030"/>
                  </a:lnTo>
                  <a:lnTo>
                    <a:pt x="582" y="2044"/>
                  </a:lnTo>
                  <a:lnTo>
                    <a:pt x="532" y="2055"/>
                  </a:lnTo>
                  <a:lnTo>
                    <a:pt x="480" y="2065"/>
                  </a:lnTo>
                  <a:lnTo>
                    <a:pt x="428" y="2071"/>
                  </a:lnTo>
                  <a:lnTo>
                    <a:pt x="376" y="2075"/>
                  </a:lnTo>
                  <a:lnTo>
                    <a:pt x="323" y="2076"/>
                  </a:lnTo>
                  <a:lnTo>
                    <a:pt x="269" y="2075"/>
                  </a:lnTo>
                  <a:lnTo>
                    <a:pt x="217" y="2071"/>
                  </a:lnTo>
                  <a:lnTo>
                    <a:pt x="165" y="2065"/>
                  </a:lnTo>
                  <a:lnTo>
                    <a:pt x="115" y="2055"/>
                  </a:lnTo>
                  <a:lnTo>
                    <a:pt x="66" y="2044"/>
                  </a:lnTo>
                  <a:lnTo>
                    <a:pt x="16" y="2030"/>
                  </a:lnTo>
                  <a:lnTo>
                    <a:pt x="0" y="2025"/>
                  </a:lnTo>
                  <a:lnTo>
                    <a:pt x="0" y="2027"/>
                  </a:lnTo>
                  <a:lnTo>
                    <a:pt x="0" y="2029"/>
                  </a:lnTo>
                  <a:lnTo>
                    <a:pt x="2" y="2029"/>
                  </a:lnTo>
                  <a:lnTo>
                    <a:pt x="2" y="2030"/>
                  </a:lnTo>
                  <a:lnTo>
                    <a:pt x="2" y="2032"/>
                  </a:lnTo>
                  <a:lnTo>
                    <a:pt x="2" y="2034"/>
                  </a:lnTo>
                  <a:lnTo>
                    <a:pt x="2" y="2034"/>
                  </a:lnTo>
                  <a:lnTo>
                    <a:pt x="2" y="2036"/>
                  </a:lnTo>
                  <a:close/>
                </a:path>
              </a:pathLst>
            </a:custGeom>
            <a:solidFill>
              <a:srgbClr val="3cb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Freeform 333"/>
            <p:cNvSpPr/>
            <p:nvPr/>
          </p:nvSpPr>
          <p:spPr>
            <a:xfrm>
              <a:off x="5937840" y="1515240"/>
              <a:ext cx="1148760" cy="3495240"/>
            </a:xfrm>
            <a:custGeom>
              <a:avLst/>
              <a:gdLst>
                <a:gd name="textAreaLeft" fmla="*/ 0 w 1148760"/>
                <a:gd name="textAreaRight" fmla="*/ 1149120 w 1148760"/>
                <a:gd name="textAreaTop" fmla="*/ 0 h 3495240"/>
                <a:gd name="textAreaBottom" fmla="*/ 3495600 h 3495240"/>
              </a:gdLst>
              <a:ahLst/>
              <a:rect l="textAreaLeft" t="textAreaTop" r="textAreaRight" b="textAreaBottom"/>
              <a:pathLst>
                <a:path w="682" h="2076">
                  <a:moveTo>
                    <a:pt x="628" y="46"/>
                  </a:moveTo>
                  <a:lnTo>
                    <a:pt x="582" y="33"/>
                  </a:lnTo>
                  <a:lnTo>
                    <a:pt x="532" y="21"/>
                  </a:lnTo>
                  <a:lnTo>
                    <a:pt x="480" y="12"/>
                  </a:lnTo>
                  <a:lnTo>
                    <a:pt x="428" y="6"/>
                  </a:lnTo>
                  <a:lnTo>
                    <a:pt x="376" y="2"/>
                  </a:lnTo>
                  <a:lnTo>
                    <a:pt x="323" y="0"/>
                  </a:lnTo>
                  <a:lnTo>
                    <a:pt x="269" y="2"/>
                  </a:lnTo>
                  <a:lnTo>
                    <a:pt x="250" y="2"/>
                  </a:lnTo>
                  <a:lnTo>
                    <a:pt x="248" y="4"/>
                  </a:lnTo>
                  <a:lnTo>
                    <a:pt x="248" y="6"/>
                  </a:lnTo>
                  <a:lnTo>
                    <a:pt x="248" y="6"/>
                  </a:lnTo>
                  <a:lnTo>
                    <a:pt x="248" y="8"/>
                  </a:lnTo>
                  <a:lnTo>
                    <a:pt x="246" y="10"/>
                  </a:lnTo>
                  <a:lnTo>
                    <a:pt x="246" y="12"/>
                  </a:lnTo>
                  <a:lnTo>
                    <a:pt x="246" y="12"/>
                  </a:lnTo>
                  <a:lnTo>
                    <a:pt x="244" y="14"/>
                  </a:lnTo>
                  <a:lnTo>
                    <a:pt x="271" y="12"/>
                  </a:lnTo>
                  <a:lnTo>
                    <a:pt x="323" y="10"/>
                  </a:lnTo>
                  <a:lnTo>
                    <a:pt x="376" y="12"/>
                  </a:lnTo>
                  <a:lnTo>
                    <a:pt x="428" y="16"/>
                  </a:lnTo>
                  <a:lnTo>
                    <a:pt x="480" y="23"/>
                  </a:lnTo>
                  <a:lnTo>
                    <a:pt x="530" y="31"/>
                  </a:lnTo>
                  <a:lnTo>
                    <a:pt x="580" y="42"/>
                  </a:lnTo>
                  <a:lnTo>
                    <a:pt x="624" y="56"/>
                  </a:lnTo>
                  <a:lnTo>
                    <a:pt x="624" y="54"/>
                  </a:lnTo>
                  <a:lnTo>
                    <a:pt x="626" y="54"/>
                  </a:lnTo>
                  <a:lnTo>
                    <a:pt x="626" y="52"/>
                  </a:lnTo>
                  <a:lnTo>
                    <a:pt x="626" y="50"/>
                  </a:lnTo>
                  <a:lnTo>
                    <a:pt x="626" y="50"/>
                  </a:lnTo>
                  <a:lnTo>
                    <a:pt x="628" y="48"/>
                  </a:lnTo>
                  <a:lnTo>
                    <a:pt x="628" y="46"/>
                  </a:lnTo>
                  <a:lnTo>
                    <a:pt x="628" y="46"/>
                  </a:lnTo>
                  <a:close/>
                  <a:moveTo>
                    <a:pt x="2" y="2024"/>
                  </a:moveTo>
                  <a:lnTo>
                    <a:pt x="14" y="2028"/>
                  </a:lnTo>
                  <a:lnTo>
                    <a:pt x="64" y="2044"/>
                  </a:lnTo>
                  <a:lnTo>
                    <a:pt x="113" y="2055"/>
                  </a:lnTo>
                  <a:lnTo>
                    <a:pt x="165" y="2063"/>
                  </a:lnTo>
                  <a:lnTo>
                    <a:pt x="217" y="2070"/>
                  </a:lnTo>
                  <a:lnTo>
                    <a:pt x="269" y="2074"/>
                  </a:lnTo>
                  <a:lnTo>
                    <a:pt x="323" y="2076"/>
                  </a:lnTo>
                  <a:lnTo>
                    <a:pt x="376" y="2074"/>
                  </a:lnTo>
                  <a:lnTo>
                    <a:pt x="428" y="2070"/>
                  </a:lnTo>
                  <a:lnTo>
                    <a:pt x="480" y="2063"/>
                  </a:lnTo>
                  <a:lnTo>
                    <a:pt x="532" y="2055"/>
                  </a:lnTo>
                  <a:lnTo>
                    <a:pt x="582" y="2044"/>
                  </a:lnTo>
                  <a:lnTo>
                    <a:pt x="632" y="2028"/>
                  </a:lnTo>
                  <a:lnTo>
                    <a:pt x="680" y="2013"/>
                  </a:lnTo>
                  <a:lnTo>
                    <a:pt x="682" y="2011"/>
                  </a:lnTo>
                  <a:lnTo>
                    <a:pt x="678" y="2001"/>
                  </a:lnTo>
                  <a:lnTo>
                    <a:pt x="676" y="2003"/>
                  </a:lnTo>
                  <a:lnTo>
                    <a:pt x="628" y="2019"/>
                  </a:lnTo>
                  <a:lnTo>
                    <a:pt x="580" y="2032"/>
                  </a:lnTo>
                  <a:lnTo>
                    <a:pt x="530" y="2044"/>
                  </a:lnTo>
                  <a:lnTo>
                    <a:pt x="480" y="2053"/>
                  </a:lnTo>
                  <a:lnTo>
                    <a:pt x="428" y="2059"/>
                  </a:lnTo>
                  <a:lnTo>
                    <a:pt x="376" y="2063"/>
                  </a:lnTo>
                  <a:lnTo>
                    <a:pt x="323" y="2065"/>
                  </a:lnTo>
                  <a:lnTo>
                    <a:pt x="271" y="2063"/>
                  </a:lnTo>
                  <a:lnTo>
                    <a:pt x="217" y="2059"/>
                  </a:lnTo>
                  <a:lnTo>
                    <a:pt x="167" y="2053"/>
                  </a:lnTo>
                  <a:lnTo>
                    <a:pt x="115" y="2044"/>
                  </a:lnTo>
                  <a:lnTo>
                    <a:pt x="66" y="2032"/>
                  </a:lnTo>
                  <a:lnTo>
                    <a:pt x="18" y="2019"/>
                  </a:lnTo>
                  <a:lnTo>
                    <a:pt x="0" y="2013"/>
                  </a:lnTo>
                  <a:lnTo>
                    <a:pt x="0" y="2015"/>
                  </a:lnTo>
                  <a:lnTo>
                    <a:pt x="0" y="2015"/>
                  </a:lnTo>
                  <a:lnTo>
                    <a:pt x="0" y="2017"/>
                  </a:lnTo>
                  <a:lnTo>
                    <a:pt x="0" y="2019"/>
                  </a:lnTo>
                  <a:lnTo>
                    <a:pt x="0" y="2021"/>
                  </a:lnTo>
                  <a:lnTo>
                    <a:pt x="0" y="2023"/>
                  </a:lnTo>
                  <a:lnTo>
                    <a:pt x="2" y="2023"/>
                  </a:lnTo>
                  <a:lnTo>
                    <a:pt x="2" y="2024"/>
                  </a:lnTo>
                  <a:close/>
                </a:path>
              </a:pathLst>
            </a:custGeom>
            <a:solidFill>
              <a:srgbClr val="3db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Freeform 334"/>
            <p:cNvSpPr/>
            <p:nvPr/>
          </p:nvSpPr>
          <p:spPr>
            <a:xfrm>
              <a:off x="5934960" y="1525320"/>
              <a:ext cx="1148040" cy="3475440"/>
            </a:xfrm>
            <a:custGeom>
              <a:avLst/>
              <a:gdLst>
                <a:gd name="textAreaLeft" fmla="*/ 0 w 1148040"/>
                <a:gd name="textAreaRight" fmla="*/ 1148400 w 1148040"/>
                <a:gd name="textAreaTop" fmla="*/ 0 h 3475440"/>
                <a:gd name="textAreaBottom" fmla="*/ 3475800 h 3475440"/>
              </a:gdLst>
              <a:ahLst/>
              <a:rect l="textAreaLeft" t="textAreaTop" r="textAreaRight" b="textAreaBottom"/>
              <a:pathLst>
                <a:path w="682" h="2064">
                  <a:moveTo>
                    <a:pt x="628" y="44"/>
                  </a:moveTo>
                  <a:lnTo>
                    <a:pt x="584" y="33"/>
                  </a:lnTo>
                  <a:lnTo>
                    <a:pt x="534" y="21"/>
                  </a:lnTo>
                  <a:lnTo>
                    <a:pt x="482" y="12"/>
                  </a:lnTo>
                  <a:lnTo>
                    <a:pt x="430" y="4"/>
                  </a:lnTo>
                  <a:lnTo>
                    <a:pt x="378" y="0"/>
                  </a:lnTo>
                  <a:lnTo>
                    <a:pt x="325" y="0"/>
                  </a:lnTo>
                  <a:lnTo>
                    <a:pt x="271" y="0"/>
                  </a:lnTo>
                  <a:lnTo>
                    <a:pt x="250" y="2"/>
                  </a:lnTo>
                  <a:lnTo>
                    <a:pt x="248" y="4"/>
                  </a:lnTo>
                  <a:lnTo>
                    <a:pt x="248" y="6"/>
                  </a:lnTo>
                  <a:lnTo>
                    <a:pt x="248" y="6"/>
                  </a:lnTo>
                  <a:lnTo>
                    <a:pt x="246" y="8"/>
                  </a:lnTo>
                  <a:lnTo>
                    <a:pt x="246" y="10"/>
                  </a:lnTo>
                  <a:lnTo>
                    <a:pt x="246" y="12"/>
                  </a:lnTo>
                  <a:lnTo>
                    <a:pt x="244" y="12"/>
                  </a:lnTo>
                  <a:lnTo>
                    <a:pt x="244" y="13"/>
                  </a:lnTo>
                  <a:lnTo>
                    <a:pt x="273" y="12"/>
                  </a:lnTo>
                  <a:lnTo>
                    <a:pt x="325" y="10"/>
                  </a:lnTo>
                  <a:lnTo>
                    <a:pt x="377" y="12"/>
                  </a:lnTo>
                  <a:lnTo>
                    <a:pt x="430" y="15"/>
                  </a:lnTo>
                  <a:lnTo>
                    <a:pt x="480" y="21"/>
                  </a:lnTo>
                  <a:lnTo>
                    <a:pt x="530" y="31"/>
                  </a:lnTo>
                  <a:lnTo>
                    <a:pt x="580" y="42"/>
                  </a:lnTo>
                  <a:lnTo>
                    <a:pt x="624" y="54"/>
                  </a:lnTo>
                  <a:lnTo>
                    <a:pt x="624" y="54"/>
                  </a:lnTo>
                  <a:lnTo>
                    <a:pt x="624" y="52"/>
                  </a:lnTo>
                  <a:lnTo>
                    <a:pt x="626" y="50"/>
                  </a:lnTo>
                  <a:lnTo>
                    <a:pt x="626" y="50"/>
                  </a:lnTo>
                  <a:lnTo>
                    <a:pt x="626" y="48"/>
                  </a:lnTo>
                  <a:lnTo>
                    <a:pt x="628" y="48"/>
                  </a:lnTo>
                  <a:lnTo>
                    <a:pt x="628" y="46"/>
                  </a:lnTo>
                  <a:lnTo>
                    <a:pt x="628" y="44"/>
                  </a:lnTo>
                  <a:close/>
                  <a:moveTo>
                    <a:pt x="2" y="2013"/>
                  </a:moveTo>
                  <a:lnTo>
                    <a:pt x="18" y="2018"/>
                  </a:lnTo>
                  <a:lnTo>
                    <a:pt x="68" y="2032"/>
                  </a:lnTo>
                  <a:lnTo>
                    <a:pt x="117" y="2043"/>
                  </a:lnTo>
                  <a:lnTo>
                    <a:pt x="167" y="2053"/>
                  </a:lnTo>
                  <a:lnTo>
                    <a:pt x="219" y="2059"/>
                  </a:lnTo>
                  <a:lnTo>
                    <a:pt x="271" y="2063"/>
                  </a:lnTo>
                  <a:lnTo>
                    <a:pt x="325" y="2064"/>
                  </a:lnTo>
                  <a:lnTo>
                    <a:pt x="378" y="2063"/>
                  </a:lnTo>
                  <a:lnTo>
                    <a:pt x="430" y="2059"/>
                  </a:lnTo>
                  <a:lnTo>
                    <a:pt x="482" y="2053"/>
                  </a:lnTo>
                  <a:lnTo>
                    <a:pt x="534" y="2043"/>
                  </a:lnTo>
                  <a:lnTo>
                    <a:pt x="584" y="2032"/>
                  </a:lnTo>
                  <a:lnTo>
                    <a:pt x="632" y="2018"/>
                  </a:lnTo>
                  <a:lnTo>
                    <a:pt x="680" y="2001"/>
                  </a:lnTo>
                  <a:lnTo>
                    <a:pt x="682" y="2001"/>
                  </a:lnTo>
                  <a:lnTo>
                    <a:pt x="678" y="1992"/>
                  </a:lnTo>
                  <a:lnTo>
                    <a:pt x="678" y="1992"/>
                  </a:lnTo>
                  <a:lnTo>
                    <a:pt x="678" y="1992"/>
                  </a:lnTo>
                  <a:lnTo>
                    <a:pt x="678" y="1992"/>
                  </a:lnTo>
                  <a:lnTo>
                    <a:pt x="678" y="1992"/>
                  </a:lnTo>
                  <a:lnTo>
                    <a:pt x="678" y="1992"/>
                  </a:lnTo>
                  <a:lnTo>
                    <a:pt x="678" y="1992"/>
                  </a:lnTo>
                  <a:lnTo>
                    <a:pt x="678" y="1992"/>
                  </a:lnTo>
                  <a:lnTo>
                    <a:pt x="676" y="1992"/>
                  </a:lnTo>
                  <a:lnTo>
                    <a:pt x="676" y="1992"/>
                  </a:lnTo>
                  <a:lnTo>
                    <a:pt x="628" y="2007"/>
                  </a:lnTo>
                  <a:lnTo>
                    <a:pt x="580" y="2022"/>
                  </a:lnTo>
                  <a:lnTo>
                    <a:pt x="530" y="2034"/>
                  </a:lnTo>
                  <a:lnTo>
                    <a:pt x="480" y="2041"/>
                  </a:lnTo>
                  <a:lnTo>
                    <a:pt x="430" y="2049"/>
                  </a:lnTo>
                  <a:lnTo>
                    <a:pt x="377" y="2053"/>
                  </a:lnTo>
                  <a:lnTo>
                    <a:pt x="325" y="2053"/>
                  </a:lnTo>
                  <a:lnTo>
                    <a:pt x="273" y="2053"/>
                  </a:lnTo>
                  <a:lnTo>
                    <a:pt x="221" y="2049"/>
                  </a:lnTo>
                  <a:lnTo>
                    <a:pt x="169" y="2041"/>
                  </a:lnTo>
                  <a:lnTo>
                    <a:pt x="119" y="2034"/>
                  </a:lnTo>
                  <a:lnTo>
                    <a:pt x="69" y="2022"/>
                  </a:lnTo>
                  <a:lnTo>
                    <a:pt x="21" y="2007"/>
                  </a:lnTo>
                  <a:lnTo>
                    <a:pt x="0" y="2001"/>
                  </a:lnTo>
                  <a:lnTo>
                    <a:pt x="0" y="2003"/>
                  </a:lnTo>
                  <a:lnTo>
                    <a:pt x="0" y="2003"/>
                  </a:lnTo>
                  <a:lnTo>
                    <a:pt x="2" y="2005"/>
                  </a:lnTo>
                  <a:lnTo>
                    <a:pt x="2" y="2007"/>
                  </a:lnTo>
                  <a:lnTo>
                    <a:pt x="2" y="2009"/>
                  </a:lnTo>
                  <a:lnTo>
                    <a:pt x="2" y="2009"/>
                  </a:lnTo>
                  <a:lnTo>
                    <a:pt x="2" y="2011"/>
                  </a:lnTo>
                  <a:lnTo>
                    <a:pt x="2" y="2013"/>
                  </a:lnTo>
                  <a:close/>
                </a:path>
              </a:pathLst>
            </a:custGeom>
            <a:solidFill>
              <a:srgbClr val="3eb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Freeform 335"/>
            <p:cNvSpPr/>
            <p:nvPr/>
          </p:nvSpPr>
          <p:spPr>
            <a:xfrm>
              <a:off x="5934960" y="1532160"/>
              <a:ext cx="1144800" cy="346032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3460320"/>
                <a:gd name="textAreaBottom" fmla="*/ 3460680 h 3460320"/>
              </a:gdLst>
              <a:ahLst/>
              <a:rect l="textAreaLeft" t="textAreaTop" r="textAreaRight" b="textAreaBottom"/>
              <a:pathLst>
                <a:path w="680" h="2055">
                  <a:moveTo>
                    <a:pt x="626" y="46"/>
                  </a:moveTo>
                  <a:lnTo>
                    <a:pt x="582" y="32"/>
                  </a:lnTo>
                  <a:lnTo>
                    <a:pt x="532" y="21"/>
                  </a:lnTo>
                  <a:lnTo>
                    <a:pt x="482" y="13"/>
                  </a:lnTo>
                  <a:lnTo>
                    <a:pt x="430" y="6"/>
                  </a:lnTo>
                  <a:lnTo>
                    <a:pt x="378" y="2"/>
                  </a:lnTo>
                  <a:lnTo>
                    <a:pt x="325" y="0"/>
                  </a:lnTo>
                  <a:lnTo>
                    <a:pt x="273" y="2"/>
                  </a:lnTo>
                  <a:lnTo>
                    <a:pt x="246" y="4"/>
                  </a:lnTo>
                  <a:lnTo>
                    <a:pt x="246" y="6"/>
                  </a:lnTo>
                  <a:lnTo>
                    <a:pt x="246" y="8"/>
                  </a:lnTo>
                  <a:lnTo>
                    <a:pt x="244" y="8"/>
                  </a:lnTo>
                  <a:lnTo>
                    <a:pt x="244" y="9"/>
                  </a:lnTo>
                  <a:lnTo>
                    <a:pt x="244" y="11"/>
                  </a:lnTo>
                  <a:lnTo>
                    <a:pt x="244" y="11"/>
                  </a:lnTo>
                  <a:lnTo>
                    <a:pt x="242" y="13"/>
                  </a:lnTo>
                  <a:lnTo>
                    <a:pt x="242" y="15"/>
                  </a:lnTo>
                  <a:lnTo>
                    <a:pt x="273" y="13"/>
                  </a:lnTo>
                  <a:lnTo>
                    <a:pt x="325" y="11"/>
                  </a:lnTo>
                  <a:lnTo>
                    <a:pt x="377" y="13"/>
                  </a:lnTo>
                  <a:lnTo>
                    <a:pt x="428" y="17"/>
                  </a:lnTo>
                  <a:lnTo>
                    <a:pt x="480" y="23"/>
                  </a:lnTo>
                  <a:lnTo>
                    <a:pt x="530" y="32"/>
                  </a:lnTo>
                  <a:lnTo>
                    <a:pt x="578" y="44"/>
                  </a:lnTo>
                  <a:lnTo>
                    <a:pt x="622" y="55"/>
                  </a:lnTo>
                  <a:lnTo>
                    <a:pt x="622" y="54"/>
                  </a:lnTo>
                  <a:lnTo>
                    <a:pt x="622" y="54"/>
                  </a:lnTo>
                  <a:lnTo>
                    <a:pt x="622" y="52"/>
                  </a:lnTo>
                  <a:lnTo>
                    <a:pt x="624" y="50"/>
                  </a:lnTo>
                  <a:lnTo>
                    <a:pt x="624" y="50"/>
                  </a:lnTo>
                  <a:lnTo>
                    <a:pt x="624" y="48"/>
                  </a:lnTo>
                  <a:lnTo>
                    <a:pt x="626" y="46"/>
                  </a:lnTo>
                  <a:lnTo>
                    <a:pt x="626" y="46"/>
                  </a:lnTo>
                  <a:close/>
                  <a:moveTo>
                    <a:pt x="2" y="2003"/>
                  </a:moveTo>
                  <a:lnTo>
                    <a:pt x="20" y="2009"/>
                  </a:lnTo>
                  <a:lnTo>
                    <a:pt x="68" y="2022"/>
                  </a:lnTo>
                  <a:lnTo>
                    <a:pt x="117" y="2034"/>
                  </a:lnTo>
                  <a:lnTo>
                    <a:pt x="169" y="2043"/>
                  </a:lnTo>
                  <a:lnTo>
                    <a:pt x="219" y="2049"/>
                  </a:lnTo>
                  <a:lnTo>
                    <a:pt x="273" y="2053"/>
                  </a:lnTo>
                  <a:lnTo>
                    <a:pt x="325" y="2055"/>
                  </a:lnTo>
                  <a:lnTo>
                    <a:pt x="378" y="2053"/>
                  </a:lnTo>
                  <a:lnTo>
                    <a:pt x="430" y="2049"/>
                  </a:lnTo>
                  <a:lnTo>
                    <a:pt x="482" y="2043"/>
                  </a:lnTo>
                  <a:lnTo>
                    <a:pt x="532" y="2034"/>
                  </a:lnTo>
                  <a:lnTo>
                    <a:pt x="582" y="2022"/>
                  </a:lnTo>
                  <a:lnTo>
                    <a:pt x="630" y="2009"/>
                  </a:lnTo>
                  <a:lnTo>
                    <a:pt x="678" y="1993"/>
                  </a:lnTo>
                  <a:lnTo>
                    <a:pt x="680" y="1991"/>
                  </a:lnTo>
                  <a:lnTo>
                    <a:pt x="678" y="1988"/>
                  </a:lnTo>
                  <a:lnTo>
                    <a:pt x="676" y="1988"/>
                  </a:lnTo>
                  <a:lnTo>
                    <a:pt x="676" y="1988"/>
                  </a:lnTo>
                  <a:lnTo>
                    <a:pt x="676" y="1986"/>
                  </a:lnTo>
                  <a:lnTo>
                    <a:pt x="674" y="1986"/>
                  </a:lnTo>
                  <a:lnTo>
                    <a:pt x="674" y="1986"/>
                  </a:lnTo>
                  <a:lnTo>
                    <a:pt x="674" y="1984"/>
                  </a:lnTo>
                  <a:lnTo>
                    <a:pt x="672" y="1984"/>
                  </a:lnTo>
                  <a:lnTo>
                    <a:pt x="672" y="1984"/>
                  </a:lnTo>
                  <a:lnTo>
                    <a:pt x="628" y="1999"/>
                  </a:lnTo>
                  <a:lnTo>
                    <a:pt x="578" y="2013"/>
                  </a:lnTo>
                  <a:lnTo>
                    <a:pt x="530" y="2024"/>
                  </a:lnTo>
                  <a:lnTo>
                    <a:pt x="480" y="2032"/>
                  </a:lnTo>
                  <a:lnTo>
                    <a:pt x="428" y="2039"/>
                  </a:lnTo>
                  <a:lnTo>
                    <a:pt x="377" y="2043"/>
                  </a:lnTo>
                  <a:lnTo>
                    <a:pt x="325" y="2045"/>
                  </a:lnTo>
                  <a:lnTo>
                    <a:pt x="273" y="2043"/>
                  </a:lnTo>
                  <a:lnTo>
                    <a:pt x="221" y="2039"/>
                  </a:lnTo>
                  <a:lnTo>
                    <a:pt x="169" y="2032"/>
                  </a:lnTo>
                  <a:lnTo>
                    <a:pt x="119" y="2024"/>
                  </a:lnTo>
                  <a:lnTo>
                    <a:pt x="71" y="2013"/>
                  </a:lnTo>
                  <a:lnTo>
                    <a:pt x="23" y="1999"/>
                  </a:lnTo>
                  <a:lnTo>
                    <a:pt x="0" y="1991"/>
                  </a:lnTo>
                  <a:lnTo>
                    <a:pt x="0" y="1993"/>
                  </a:lnTo>
                  <a:lnTo>
                    <a:pt x="0" y="1993"/>
                  </a:lnTo>
                  <a:lnTo>
                    <a:pt x="0" y="1995"/>
                  </a:lnTo>
                  <a:lnTo>
                    <a:pt x="0" y="1997"/>
                  </a:lnTo>
                  <a:lnTo>
                    <a:pt x="0" y="1999"/>
                  </a:lnTo>
                  <a:lnTo>
                    <a:pt x="0" y="1999"/>
                  </a:lnTo>
                  <a:lnTo>
                    <a:pt x="2" y="2001"/>
                  </a:lnTo>
                  <a:lnTo>
                    <a:pt x="2" y="2003"/>
                  </a:lnTo>
                  <a:close/>
                </a:path>
              </a:pathLst>
            </a:custGeom>
            <a:solidFill>
              <a:srgbClr val="3f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Freeform 336"/>
            <p:cNvSpPr/>
            <p:nvPr/>
          </p:nvSpPr>
          <p:spPr>
            <a:xfrm>
              <a:off x="5931360" y="1542240"/>
              <a:ext cx="1141560" cy="34405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3440520"/>
                <a:gd name="textAreaBottom" fmla="*/ 3440880 h 3440520"/>
              </a:gdLst>
              <a:ahLst/>
              <a:rect l="textAreaLeft" t="textAreaTop" r="textAreaRight" b="textAreaBottom"/>
              <a:pathLst>
                <a:path w="678" h="2043">
                  <a:moveTo>
                    <a:pt x="626" y="44"/>
                  </a:moveTo>
                  <a:lnTo>
                    <a:pt x="582" y="32"/>
                  </a:lnTo>
                  <a:lnTo>
                    <a:pt x="532" y="21"/>
                  </a:lnTo>
                  <a:lnTo>
                    <a:pt x="482" y="11"/>
                  </a:lnTo>
                  <a:lnTo>
                    <a:pt x="432" y="5"/>
                  </a:lnTo>
                  <a:lnTo>
                    <a:pt x="379" y="2"/>
                  </a:lnTo>
                  <a:lnTo>
                    <a:pt x="327" y="0"/>
                  </a:lnTo>
                  <a:lnTo>
                    <a:pt x="275" y="2"/>
                  </a:lnTo>
                  <a:lnTo>
                    <a:pt x="246" y="3"/>
                  </a:lnTo>
                  <a:lnTo>
                    <a:pt x="246" y="5"/>
                  </a:lnTo>
                  <a:lnTo>
                    <a:pt x="246" y="5"/>
                  </a:lnTo>
                  <a:lnTo>
                    <a:pt x="244" y="7"/>
                  </a:lnTo>
                  <a:lnTo>
                    <a:pt x="244" y="9"/>
                  </a:lnTo>
                  <a:lnTo>
                    <a:pt x="244" y="11"/>
                  </a:lnTo>
                  <a:lnTo>
                    <a:pt x="242" y="11"/>
                  </a:lnTo>
                  <a:lnTo>
                    <a:pt x="242" y="13"/>
                  </a:lnTo>
                  <a:lnTo>
                    <a:pt x="242" y="15"/>
                  </a:lnTo>
                  <a:lnTo>
                    <a:pt x="275" y="11"/>
                  </a:lnTo>
                  <a:lnTo>
                    <a:pt x="327" y="11"/>
                  </a:lnTo>
                  <a:lnTo>
                    <a:pt x="379" y="11"/>
                  </a:lnTo>
                  <a:lnTo>
                    <a:pt x="430" y="15"/>
                  </a:lnTo>
                  <a:lnTo>
                    <a:pt x="480" y="23"/>
                  </a:lnTo>
                  <a:lnTo>
                    <a:pt x="530" y="30"/>
                  </a:lnTo>
                  <a:lnTo>
                    <a:pt x="580" y="42"/>
                  </a:lnTo>
                  <a:lnTo>
                    <a:pt x="620" y="53"/>
                  </a:lnTo>
                  <a:lnTo>
                    <a:pt x="622" y="53"/>
                  </a:lnTo>
                  <a:lnTo>
                    <a:pt x="622" y="51"/>
                  </a:lnTo>
                  <a:lnTo>
                    <a:pt x="622" y="51"/>
                  </a:lnTo>
                  <a:lnTo>
                    <a:pt x="624" y="49"/>
                  </a:lnTo>
                  <a:lnTo>
                    <a:pt x="624" y="48"/>
                  </a:lnTo>
                  <a:lnTo>
                    <a:pt x="624" y="48"/>
                  </a:lnTo>
                  <a:lnTo>
                    <a:pt x="624" y="46"/>
                  </a:lnTo>
                  <a:lnTo>
                    <a:pt x="626" y="44"/>
                  </a:lnTo>
                  <a:close/>
                  <a:moveTo>
                    <a:pt x="2" y="1991"/>
                  </a:moveTo>
                  <a:lnTo>
                    <a:pt x="23" y="1997"/>
                  </a:lnTo>
                  <a:lnTo>
                    <a:pt x="71" y="2012"/>
                  </a:lnTo>
                  <a:lnTo>
                    <a:pt x="121" y="2024"/>
                  </a:lnTo>
                  <a:lnTo>
                    <a:pt x="171" y="2031"/>
                  </a:lnTo>
                  <a:lnTo>
                    <a:pt x="223" y="2039"/>
                  </a:lnTo>
                  <a:lnTo>
                    <a:pt x="275" y="2043"/>
                  </a:lnTo>
                  <a:lnTo>
                    <a:pt x="327" y="2043"/>
                  </a:lnTo>
                  <a:lnTo>
                    <a:pt x="379" y="2043"/>
                  </a:lnTo>
                  <a:lnTo>
                    <a:pt x="432" y="2039"/>
                  </a:lnTo>
                  <a:lnTo>
                    <a:pt x="482" y="2031"/>
                  </a:lnTo>
                  <a:lnTo>
                    <a:pt x="532" y="2024"/>
                  </a:lnTo>
                  <a:lnTo>
                    <a:pt x="582" y="2012"/>
                  </a:lnTo>
                  <a:lnTo>
                    <a:pt x="630" y="1997"/>
                  </a:lnTo>
                  <a:lnTo>
                    <a:pt x="678" y="1982"/>
                  </a:lnTo>
                  <a:lnTo>
                    <a:pt x="678" y="1982"/>
                  </a:lnTo>
                  <a:lnTo>
                    <a:pt x="678" y="1980"/>
                  </a:lnTo>
                  <a:lnTo>
                    <a:pt x="676" y="1980"/>
                  </a:lnTo>
                  <a:lnTo>
                    <a:pt x="676" y="1978"/>
                  </a:lnTo>
                  <a:lnTo>
                    <a:pt x="674" y="1978"/>
                  </a:lnTo>
                  <a:lnTo>
                    <a:pt x="672" y="1976"/>
                  </a:lnTo>
                  <a:lnTo>
                    <a:pt x="672" y="1976"/>
                  </a:lnTo>
                  <a:lnTo>
                    <a:pt x="670" y="1974"/>
                  </a:lnTo>
                  <a:lnTo>
                    <a:pt x="668" y="1974"/>
                  </a:lnTo>
                  <a:lnTo>
                    <a:pt x="628" y="1987"/>
                  </a:lnTo>
                  <a:lnTo>
                    <a:pt x="580" y="2001"/>
                  </a:lnTo>
                  <a:lnTo>
                    <a:pt x="530" y="2012"/>
                  </a:lnTo>
                  <a:lnTo>
                    <a:pt x="480" y="2022"/>
                  </a:lnTo>
                  <a:lnTo>
                    <a:pt x="430" y="2028"/>
                  </a:lnTo>
                  <a:lnTo>
                    <a:pt x="379" y="2031"/>
                  </a:lnTo>
                  <a:lnTo>
                    <a:pt x="327" y="2033"/>
                  </a:lnTo>
                  <a:lnTo>
                    <a:pt x="275" y="2031"/>
                  </a:lnTo>
                  <a:lnTo>
                    <a:pt x="223" y="2028"/>
                  </a:lnTo>
                  <a:lnTo>
                    <a:pt x="173" y="2022"/>
                  </a:lnTo>
                  <a:lnTo>
                    <a:pt x="123" y="2012"/>
                  </a:lnTo>
                  <a:lnTo>
                    <a:pt x="73" y="2001"/>
                  </a:lnTo>
                  <a:lnTo>
                    <a:pt x="25" y="1987"/>
                  </a:lnTo>
                  <a:lnTo>
                    <a:pt x="0" y="1980"/>
                  </a:lnTo>
                  <a:lnTo>
                    <a:pt x="0" y="1980"/>
                  </a:lnTo>
                  <a:lnTo>
                    <a:pt x="0" y="1982"/>
                  </a:lnTo>
                  <a:lnTo>
                    <a:pt x="2" y="1983"/>
                  </a:lnTo>
                  <a:lnTo>
                    <a:pt x="2" y="1985"/>
                  </a:lnTo>
                  <a:lnTo>
                    <a:pt x="2" y="1987"/>
                  </a:lnTo>
                  <a:lnTo>
                    <a:pt x="2" y="1987"/>
                  </a:lnTo>
                  <a:lnTo>
                    <a:pt x="2" y="1989"/>
                  </a:lnTo>
                  <a:lnTo>
                    <a:pt x="2" y="1991"/>
                  </a:lnTo>
                  <a:close/>
                </a:path>
              </a:pathLst>
            </a:custGeom>
            <a:solidFill>
              <a:srgbClr val="40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Freeform 337"/>
            <p:cNvSpPr/>
            <p:nvPr/>
          </p:nvSpPr>
          <p:spPr>
            <a:xfrm>
              <a:off x="5931360" y="1550880"/>
              <a:ext cx="1134720" cy="3424680"/>
            </a:xfrm>
            <a:custGeom>
              <a:avLst/>
              <a:gdLst>
                <a:gd name="textAreaLeft" fmla="*/ 0 w 1134720"/>
                <a:gd name="textAreaRight" fmla="*/ 1135080 w 1134720"/>
                <a:gd name="textAreaTop" fmla="*/ 0 h 3424680"/>
                <a:gd name="textAreaBottom" fmla="*/ 3425040 h 3424680"/>
              </a:gdLst>
              <a:ahLst/>
              <a:rect l="textAreaLeft" t="textAreaTop" r="textAreaRight" b="textAreaBottom"/>
              <a:pathLst>
                <a:path w="674" h="2034">
                  <a:moveTo>
                    <a:pt x="624" y="44"/>
                  </a:moveTo>
                  <a:lnTo>
                    <a:pt x="580" y="33"/>
                  </a:lnTo>
                  <a:lnTo>
                    <a:pt x="532" y="21"/>
                  </a:lnTo>
                  <a:lnTo>
                    <a:pt x="482" y="12"/>
                  </a:lnTo>
                  <a:lnTo>
                    <a:pt x="430" y="6"/>
                  </a:lnTo>
                  <a:lnTo>
                    <a:pt x="379" y="2"/>
                  </a:lnTo>
                  <a:lnTo>
                    <a:pt x="327" y="0"/>
                  </a:lnTo>
                  <a:lnTo>
                    <a:pt x="275" y="2"/>
                  </a:lnTo>
                  <a:lnTo>
                    <a:pt x="244" y="4"/>
                  </a:lnTo>
                  <a:lnTo>
                    <a:pt x="244" y="6"/>
                  </a:lnTo>
                  <a:lnTo>
                    <a:pt x="242" y="6"/>
                  </a:lnTo>
                  <a:lnTo>
                    <a:pt x="242" y="8"/>
                  </a:lnTo>
                  <a:lnTo>
                    <a:pt x="242" y="10"/>
                  </a:lnTo>
                  <a:lnTo>
                    <a:pt x="240" y="10"/>
                  </a:lnTo>
                  <a:lnTo>
                    <a:pt x="240" y="12"/>
                  </a:lnTo>
                  <a:lnTo>
                    <a:pt x="240" y="14"/>
                  </a:lnTo>
                  <a:lnTo>
                    <a:pt x="240" y="16"/>
                  </a:lnTo>
                  <a:lnTo>
                    <a:pt x="275" y="12"/>
                  </a:lnTo>
                  <a:lnTo>
                    <a:pt x="327" y="10"/>
                  </a:lnTo>
                  <a:lnTo>
                    <a:pt x="379" y="12"/>
                  </a:lnTo>
                  <a:lnTo>
                    <a:pt x="430" y="16"/>
                  </a:lnTo>
                  <a:lnTo>
                    <a:pt x="480" y="23"/>
                  </a:lnTo>
                  <a:lnTo>
                    <a:pt x="530" y="31"/>
                  </a:lnTo>
                  <a:lnTo>
                    <a:pt x="578" y="43"/>
                  </a:lnTo>
                  <a:lnTo>
                    <a:pt x="618" y="54"/>
                  </a:lnTo>
                  <a:lnTo>
                    <a:pt x="620" y="52"/>
                  </a:lnTo>
                  <a:lnTo>
                    <a:pt x="620" y="52"/>
                  </a:lnTo>
                  <a:lnTo>
                    <a:pt x="620" y="50"/>
                  </a:lnTo>
                  <a:lnTo>
                    <a:pt x="620" y="50"/>
                  </a:lnTo>
                  <a:lnTo>
                    <a:pt x="622" y="48"/>
                  </a:lnTo>
                  <a:lnTo>
                    <a:pt x="622" y="46"/>
                  </a:lnTo>
                  <a:lnTo>
                    <a:pt x="622" y="46"/>
                  </a:lnTo>
                  <a:lnTo>
                    <a:pt x="624" y="44"/>
                  </a:lnTo>
                  <a:close/>
                  <a:moveTo>
                    <a:pt x="2" y="1980"/>
                  </a:moveTo>
                  <a:lnTo>
                    <a:pt x="25" y="1988"/>
                  </a:lnTo>
                  <a:lnTo>
                    <a:pt x="73" y="2002"/>
                  </a:lnTo>
                  <a:lnTo>
                    <a:pt x="121" y="2013"/>
                  </a:lnTo>
                  <a:lnTo>
                    <a:pt x="171" y="2021"/>
                  </a:lnTo>
                  <a:lnTo>
                    <a:pt x="223" y="2028"/>
                  </a:lnTo>
                  <a:lnTo>
                    <a:pt x="275" y="2032"/>
                  </a:lnTo>
                  <a:lnTo>
                    <a:pt x="327" y="2034"/>
                  </a:lnTo>
                  <a:lnTo>
                    <a:pt x="379" y="2032"/>
                  </a:lnTo>
                  <a:lnTo>
                    <a:pt x="430" y="2028"/>
                  </a:lnTo>
                  <a:lnTo>
                    <a:pt x="482" y="2021"/>
                  </a:lnTo>
                  <a:lnTo>
                    <a:pt x="532" y="2013"/>
                  </a:lnTo>
                  <a:lnTo>
                    <a:pt x="580" y="2002"/>
                  </a:lnTo>
                  <a:lnTo>
                    <a:pt x="630" y="1988"/>
                  </a:lnTo>
                  <a:lnTo>
                    <a:pt x="674" y="1973"/>
                  </a:lnTo>
                  <a:lnTo>
                    <a:pt x="672" y="1971"/>
                  </a:lnTo>
                  <a:lnTo>
                    <a:pt x="672" y="1971"/>
                  </a:lnTo>
                  <a:lnTo>
                    <a:pt x="670" y="1969"/>
                  </a:lnTo>
                  <a:lnTo>
                    <a:pt x="668" y="1969"/>
                  </a:lnTo>
                  <a:lnTo>
                    <a:pt x="668" y="1967"/>
                  </a:lnTo>
                  <a:lnTo>
                    <a:pt x="666" y="1967"/>
                  </a:lnTo>
                  <a:lnTo>
                    <a:pt x="666" y="1965"/>
                  </a:lnTo>
                  <a:lnTo>
                    <a:pt x="665" y="1965"/>
                  </a:lnTo>
                  <a:lnTo>
                    <a:pt x="626" y="1977"/>
                  </a:lnTo>
                  <a:lnTo>
                    <a:pt x="578" y="1992"/>
                  </a:lnTo>
                  <a:lnTo>
                    <a:pt x="530" y="2002"/>
                  </a:lnTo>
                  <a:lnTo>
                    <a:pt x="480" y="2011"/>
                  </a:lnTo>
                  <a:lnTo>
                    <a:pt x="430" y="2017"/>
                  </a:lnTo>
                  <a:lnTo>
                    <a:pt x="379" y="2021"/>
                  </a:lnTo>
                  <a:lnTo>
                    <a:pt x="327" y="2023"/>
                  </a:lnTo>
                  <a:lnTo>
                    <a:pt x="275" y="2021"/>
                  </a:lnTo>
                  <a:lnTo>
                    <a:pt x="223" y="2017"/>
                  </a:lnTo>
                  <a:lnTo>
                    <a:pt x="173" y="2011"/>
                  </a:lnTo>
                  <a:lnTo>
                    <a:pt x="123" y="2002"/>
                  </a:lnTo>
                  <a:lnTo>
                    <a:pt x="75" y="1992"/>
                  </a:lnTo>
                  <a:lnTo>
                    <a:pt x="27" y="1977"/>
                  </a:lnTo>
                  <a:lnTo>
                    <a:pt x="0" y="1969"/>
                  </a:lnTo>
                  <a:lnTo>
                    <a:pt x="0" y="1969"/>
                  </a:lnTo>
                  <a:lnTo>
                    <a:pt x="0" y="1971"/>
                  </a:lnTo>
                  <a:lnTo>
                    <a:pt x="0" y="1973"/>
                  </a:lnTo>
                  <a:lnTo>
                    <a:pt x="0" y="1975"/>
                  </a:lnTo>
                  <a:lnTo>
                    <a:pt x="0" y="1975"/>
                  </a:lnTo>
                  <a:lnTo>
                    <a:pt x="0" y="1977"/>
                  </a:lnTo>
                  <a:lnTo>
                    <a:pt x="2" y="1978"/>
                  </a:lnTo>
                  <a:lnTo>
                    <a:pt x="2" y="1980"/>
                  </a:lnTo>
                  <a:close/>
                </a:path>
              </a:pathLst>
            </a:custGeom>
            <a:solidFill>
              <a:srgbClr val="41b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Freeform 338"/>
            <p:cNvSpPr/>
            <p:nvPr/>
          </p:nvSpPr>
          <p:spPr>
            <a:xfrm>
              <a:off x="5927760" y="1560960"/>
              <a:ext cx="1127880" cy="3404520"/>
            </a:xfrm>
            <a:custGeom>
              <a:avLst/>
              <a:gdLst>
                <a:gd name="textAreaLeft" fmla="*/ 0 w 1127880"/>
                <a:gd name="textAreaRight" fmla="*/ 1128240 w 1127880"/>
                <a:gd name="textAreaTop" fmla="*/ 0 h 3404520"/>
                <a:gd name="textAreaBottom" fmla="*/ 3404880 h 3404520"/>
              </a:gdLst>
              <a:ahLst/>
              <a:rect l="textAreaLeft" t="textAreaTop" r="textAreaRight" b="textAreaBottom"/>
              <a:pathLst>
                <a:path w="670" h="2022">
                  <a:moveTo>
                    <a:pt x="622" y="42"/>
                  </a:moveTo>
                  <a:lnTo>
                    <a:pt x="582" y="31"/>
                  </a:lnTo>
                  <a:lnTo>
                    <a:pt x="532" y="19"/>
                  </a:lnTo>
                  <a:lnTo>
                    <a:pt x="482" y="12"/>
                  </a:lnTo>
                  <a:lnTo>
                    <a:pt x="432" y="4"/>
                  </a:lnTo>
                  <a:lnTo>
                    <a:pt x="381" y="0"/>
                  </a:lnTo>
                  <a:lnTo>
                    <a:pt x="329" y="0"/>
                  </a:lnTo>
                  <a:lnTo>
                    <a:pt x="277" y="0"/>
                  </a:lnTo>
                  <a:lnTo>
                    <a:pt x="244" y="4"/>
                  </a:lnTo>
                  <a:lnTo>
                    <a:pt x="242" y="4"/>
                  </a:lnTo>
                  <a:lnTo>
                    <a:pt x="242" y="6"/>
                  </a:lnTo>
                  <a:lnTo>
                    <a:pt x="242" y="8"/>
                  </a:lnTo>
                  <a:lnTo>
                    <a:pt x="242" y="10"/>
                  </a:lnTo>
                  <a:lnTo>
                    <a:pt x="240" y="10"/>
                  </a:lnTo>
                  <a:lnTo>
                    <a:pt x="240" y="12"/>
                  </a:lnTo>
                  <a:lnTo>
                    <a:pt x="240" y="14"/>
                  </a:lnTo>
                  <a:lnTo>
                    <a:pt x="238" y="14"/>
                  </a:lnTo>
                  <a:lnTo>
                    <a:pt x="277" y="12"/>
                  </a:lnTo>
                  <a:lnTo>
                    <a:pt x="329" y="10"/>
                  </a:lnTo>
                  <a:lnTo>
                    <a:pt x="381" y="12"/>
                  </a:lnTo>
                  <a:lnTo>
                    <a:pt x="430" y="15"/>
                  </a:lnTo>
                  <a:lnTo>
                    <a:pt x="480" y="21"/>
                  </a:lnTo>
                  <a:lnTo>
                    <a:pt x="530" y="31"/>
                  </a:lnTo>
                  <a:lnTo>
                    <a:pt x="578" y="42"/>
                  </a:lnTo>
                  <a:lnTo>
                    <a:pt x="619" y="54"/>
                  </a:lnTo>
                  <a:lnTo>
                    <a:pt x="620" y="52"/>
                  </a:lnTo>
                  <a:lnTo>
                    <a:pt x="620" y="50"/>
                  </a:lnTo>
                  <a:lnTo>
                    <a:pt x="620" y="50"/>
                  </a:lnTo>
                  <a:lnTo>
                    <a:pt x="620" y="48"/>
                  </a:lnTo>
                  <a:lnTo>
                    <a:pt x="622" y="46"/>
                  </a:lnTo>
                  <a:lnTo>
                    <a:pt x="622" y="46"/>
                  </a:lnTo>
                  <a:lnTo>
                    <a:pt x="622" y="44"/>
                  </a:lnTo>
                  <a:lnTo>
                    <a:pt x="622" y="42"/>
                  </a:lnTo>
                  <a:close/>
                  <a:moveTo>
                    <a:pt x="2" y="1969"/>
                  </a:moveTo>
                  <a:lnTo>
                    <a:pt x="27" y="1976"/>
                  </a:lnTo>
                  <a:lnTo>
                    <a:pt x="75" y="1990"/>
                  </a:lnTo>
                  <a:lnTo>
                    <a:pt x="125" y="2001"/>
                  </a:lnTo>
                  <a:lnTo>
                    <a:pt x="175" y="2011"/>
                  </a:lnTo>
                  <a:lnTo>
                    <a:pt x="225" y="2017"/>
                  </a:lnTo>
                  <a:lnTo>
                    <a:pt x="277" y="2020"/>
                  </a:lnTo>
                  <a:lnTo>
                    <a:pt x="329" y="2022"/>
                  </a:lnTo>
                  <a:lnTo>
                    <a:pt x="381" y="2020"/>
                  </a:lnTo>
                  <a:lnTo>
                    <a:pt x="432" y="2017"/>
                  </a:lnTo>
                  <a:lnTo>
                    <a:pt x="482" y="2011"/>
                  </a:lnTo>
                  <a:lnTo>
                    <a:pt x="532" y="2001"/>
                  </a:lnTo>
                  <a:lnTo>
                    <a:pt x="582" y="1990"/>
                  </a:lnTo>
                  <a:lnTo>
                    <a:pt x="630" y="1976"/>
                  </a:lnTo>
                  <a:lnTo>
                    <a:pt x="670" y="1963"/>
                  </a:lnTo>
                  <a:lnTo>
                    <a:pt x="670" y="1961"/>
                  </a:lnTo>
                  <a:lnTo>
                    <a:pt x="668" y="1961"/>
                  </a:lnTo>
                  <a:lnTo>
                    <a:pt x="668" y="1959"/>
                  </a:lnTo>
                  <a:lnTo>
                    <a:pt x="667" y="1959"/>
                  </a:lnTo>
                  <a:lnTo>
                    <a:pt x="665" y="1957"/>
                  </a:lnTo>
                  <a:lnTo>
                    <a:pt x="665" y="1957"/>
                  </a:lnTo>
                  <a:lnTo>
                    <a:pt x="663" y="1955"/>
                  </a:lnTo>
                  <a:lnTo>
                    <a:pt x="661" y="1955"/>
                  </a:lnTo>
                  <a:lnTo>
                    <a:pt x="626" y="1967"/>
                  </a:lnTo>
                  <a:lnTo>
                    <a:pt x="578" y="1980"/>
                  </a:lnTo>
                  <a:lnTo>
                    <a:pt x="530" y="1992"/>
                  </a:lnTo>
                  <a:lnTo>
                    <a:pt x="480" y="1999"/>
                  </a:lnTo>
                  <a:lnTo>
                    <a:pt x="430" y="2007"/>
                  </a:lnTo>
                  <a:lnTo>
                    <a:pt x="381" y="2011"/>
                  </a:lnTo>
                  <a:lnTo>
                    <a:pt x="329" y="2011"/>
                  </a:lnTo>
                  <a:lnTo>
                    <a:pt x="277" y="2011"/>
                  </a:lnTo>
                  <a:lnTo>
                    <a:pt x="227" y="2007"/>
                  </a:lnTo>
                  <a:lnTo>
                    <a:pt x="177" y="1999"/>
                  </a:lnTo>
                  <a:lnTo>
                    <a:pt x="127" y="1992"/>
                  </a:lnTo>
                  <a:lnTo>
                    <a:pt x="79" y="1980"/>
                  </a:lnTo>
                  <a:lnTo>
                    <a:pt x="31" y="1967"/>
                  </a:lnTo>
                  <a:lnTo>
                    <a:pt x="0" y="1955"/>
                  </a:lnTo>
                  <a:lnTo>
                    <a:pt x="0" y="1957"/>
                  </a:lnTo>
                  <a:lnTo>
                    <a:pt x="2" y="1959"/>
                  </a:lnTo>
                  <a:lnTo>
                    <a:pt x="2" y="1961"/>
                  </a:lnTo>
                  <a:lnTo>
                    <a:pt x="2" y="1963"/>
                  </a:lnTo>
                  <a:lnTo>
                    <a:pt x="2" y="1963"/>
                  </a:lnTo>
                  <a:lnTo>
                    <a:pt x="2" y="1965"/>
                  </a:lnTo>
                  <a:lnTo>
                    <a:pt x="2" y="1967"/>
                  </a:lnTo>
                  <a:lnTo>
                    <a:pt x="2" y="1969"/>
                  </a:lnTo>
                  <a:close/>
                </a:path>
              </a:pathLst>
            </a:custGeom>
            <a:solidFill>
              <a:srgbClr val="42b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Freeform 339"/>
            <p:cNvSpPr/>
            <p:nvPr/>
          </p:nvSpPr>
          <p:spPr>
            <a:xfrm>
              <a:off x="5927760" y="1567800"/>
              <a:ext cx="1122840" cy="3389040"/>
            </a:xfrm>
            <a:custGeom>
              <a:avLst/>
              <a:gdLst>
                <a:gd name="textAreaLeft" fmla="*/ 0 w 1122840"/>
                <a:gd name="textAreaRight" fmla="*/ 1123200 w 1122840"/>
                <a:gd name="textAreaTop" fmla="*/ 0 h 3389040"/>
                <a:gd name="textAreaBottom" fmla="*/ 3389400 h 3389040"/>
              </a:gdLst>
              <a:ahLst/>
              <a:rect l="textAreaLeft" t="textAreaTop" r="textAreaRight" b="textAreaBottom"/>
              <a:pathLst>
                <a:path w="667" h="2013">
                  <a:moveTo>
                    <a:pt x="620" y="44"/>
                  </a:moveTo>
                  <a:lnTo>
                    <a:pt x="580" y="33"/>
                  </a:lnTo>
                  <a:lnTo>
                    <a:pt x="532" y="21"/>
                  </a:lnTo>
                  <a:lnTo>
                    <a:pt x="482" y="13"/>
                  </a:lnTo>
                  <a:lnTo>
                    <a:pt x="432" y="6"/>
                  </a:lnTo>
                  <a:lnTo>
                    <a:pt x="381" y="2"/>
                  </a:lnTo>
                  <a:lnTo>
                    <a:pt x="329" y="0"/>
                  </a:lnTo>
                  <a:lnTo>
                    <a:pt x="277" y="2"/>
                  </a:lnTo>
                  <a:lnTo>
                    <a:pt x="242" y="6"/>
                  </a:lnTo>
                  <a:lnTo>
                    <a:pt x="240" y="6"/>
                  </a:lnTo>
                  <a:lnTo>
                    <a:pt x="240" y="8"/>
                  </a:lnTo>
                  <a:lnTo>
                    <a:pt x="240" y="10"/>
                  </a:lnTo>
                  <a:lnTo>
                    <a:pt x="238" y="10"/>
                  </a:lnTo>
                  <a:lnTo>
                    <a:pt x="238" y="11"/>
                  </a:lnTo>
                  <a:lnTo>
                    <a:pt x="238" y="13"/>
                  </a:lnTo>
                  <a:lnTo>
                    <a:pt x="237" y="15"/>
                  </a:lnTo>
                  <a:lnTo>
                    <a:pt x="237" y="15"/>
                  </a:lnTo>
                  <a:lnTo>
                    <a:pt x="277" y="13"/>
                  </a:lnTo>
                  <a:lnTo>
                    <a:pt x="329" y="11"/>
                  </a:lnTo>
                  <a:lnTo>
                    <a:pt x="381" y="13"/>
                  </a:lnTo>
                  <a:lnTo>
                    <a:pt x="430" y="17"/>
                  </a:lnTo>
                  <a:lnTo>
                    <a:pt x="480" y="23"/>
                  </a:lnTo>
                  <a:lnTo>
                    <a:pt x="530" y="33"/>
                  </a:lnTo>
                  <a:lnTo>
                    <a:pt x="578" y="42"/>
                  </a:lnTo>
                  <a:lnTo>
                    <a:pt x="617" y="54"/>
                  </a:lnTo>
                  <a:lnTo>
                    <a:pt x="617" y="54"/>
                  </a:lnTo>
                  <a:lnTo>
                    <a:pt x="619" y="52"/>
                  </a:lnTo>
                  <a:lnTo>
                    <a:pt x="619" y="50"/>
                  </a:lnTo>
                  <a:lnTo>
                    <a:pt x="619" y="50"/>
                  </a:lnTo>
                  <a:lnTo>
                    <a:pt x="620" y="48"/>
                  </a:lnTo>
                  <a:lnTo>
                    <a:pt x="620" y="46"/>
                  </a:lnTo>
                  <a:lnTo>
                    <a:pt x="620" y="46"/>
                  </a:lnTo>
                  <a:lnTo>
                    <a:pt x="620" y="44"/>
                  </a:lnTo>
                  <a:close/>
                  <a:moveTo>
                    <a:pt x="2" y="1959"/>
                  </a:moveTo>
                  <a:lnTo>
                    <a:pt x="29" y="1967"/>
                  </a:lnTo>
                  <a:lnTo>
                    <a:pt x="77" y="1982"/>
                  </a:lnTo>
                  <a:lnTo>
                    <a:pt x="125" y="1992"/>
                  </a:lnTo>
                  <a:lnTo>
                    <a:pt x="175" y="2001"/>
                  </a:lnTo>
                  <a:lnTo>
                    <a:pt x="225" y="2007"/>
                  </a:lnTo>
                  <a:lnTo>
                    <a:pt x="277" y="2011"/>
                  </a:lnTo>
                  <a:lnTo>
                    <a:pt x="329" y="2013"/>
                  </a:lnTo>
                  <a:lnTo>
                    <a:pt x="381" y="2011"/>
                  </a:lnTo>
                  <a:lnTo>
                    <a:pt x="432" y="2007"/>
                  </a:lnTo>
                  <a:lnTo>
                    <a:pt x="482" y="2001"/>
                  </a:lnTo>
                  <a:lnTo>
                    <a:pt x="532" y="1992"/>
                  </a:lnTo>
                  <a:lnTo>
                    <a:pt x="580" y="1982"/>
                  </a:lnTo>
                  <a:lnTo>
                    <a:pt x="628" y="1967"/>
                  </a:lnTo>
                  <a:lnTo>
                    <a:pt x="667" y="1955"/>
                  </a:lnTo>
                  <a:lnTo>
                    <a:pt x="665" y="1953"/>
                  </a:lnTo>
                  <a:lnTo>
                    <a:pt x="665" y="1953"/>
                  </a:lnTo>
                  <a:lnTo>
                    <a:pt x="663" y="1951"/>
                  </a:lnTo>
                  <a:lnTo>
                    <a:pt x="661" y="1951"/>
                  </a:lnTo>
                  <a:lnTo>
                    <a:pt x="661" y="1949"/>
                  </a:lnTo>
                  <a:lnTo>
                    <a:pt x="659" y="1949"/>
                  </a:lnTo>
                  <a:lnTo>
                    <a:pt x="659" y="1947"/>
                  </a:lnTo>
                  <a:lnTo>
                    <a:pt x="657" y="1947"/>
                  </a:lnTo>
                  <a:lnTo>
                    <a:pt x="624" y="1957"/>
                  </a:lnTo>
                  <a:lnTo>
                    <a:pt x="578" y="1970"/>
                  </a:lnTo>
                  <a:lnTo>
                    <a:pt x="530" y="1982"/>
                  </a:lnTo>
                  <a:lnTo>
                    <a:pt x="480" y="1992"/>
                  </a:lnTo>
                  <a:lnTo>
                    <a:pt x="430" y="1997"/>
                  </a:lnTo>
                  <a:lnTo>
                    <a:pt x="381" y="2001"/>
                  </a:lnTo>
                  <a:lnTo>
                    <a:pt x="329" y="2001"/>
                  </a:lnTo>
                  <a:lnTo>
                    <a:pt x="277" y="2001"/>
                  </a:lnTo>
                  <a:lnTo>
                    <a:pt x="227" y="1997"/>
                  </a:lnTo>
                  <a:lnTo>
                    <a:pt x="177" y="1992"/>
                  </a:lnTo>
                  <a:lnTo>
                    <a:pt x="129" y="1982"/>
                  </a:lnTo>
                  <a:lnTo>
                    <a:pt x="79" y="1970"/>
                  </a:lnTo>
                  <a:lnTo>
                    <a:pt x="33" y="1957"/>
                  </a:lnTo>
                  <a:lnTo>
                    <a:pt x="0" y="1945"/>
                  </a:lnTo>
                  <a:lnTo>
                    <a:pt x="0" y="1947"/>
                  </a:lnTo>
                  <a:lnTo>
                    <a:pt x="0" y="1949"/>
                  </a:lnTo>
                  <a:lnTo>
                    <a:pt x="0" y="1951"/>
                  </a:lnTo>
                  <a:lnTo>
                    <a:pt x="0" y="1951"/>
                  </a:lnTo>
                  <a:lnTo>
                    <a:pt x="0" y="1953"/>
                  </a:lnTo>
                  <a:lnTo>
                    <a:pt x="2" y="1955"/>
                  </a:lnTo>
                  <a:lnTo>
                    <a:pt x="2" y="1957"/>
                  </a:lnTo>
                  <a:lnTo>
                    <a:pt x="2" y="1959"/>
                  </a:lnTo>
                  <a:close/>
                </a:path>
              </a:pathLst>
            </a:custGeom>
            <a:solidFill>
              <a:srgbClr val="43b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Freeform 340"/>
            <p:cNvSpPr/>
            <p:nvPr/>
          </p:nvSpPr>
          <p:spPr>
            <a:xfrm>
              <a:off x="5926320" y="1577520"/>
              <a:ext cx="1114560" cy="3369240"/>
            </a:xfrm>
            <a:custGeom>
              <a:avLst/>
              <a:gdLst>
                <a:gd name="textAreaLeft" fmla="*/ 0 w 1114560"/>
                <a:gd name="textAreaRight" fmla="*/ 1114920 w 1114560"/>
                <a:gd name="textAreaTop" fmla="*/ 0 h 3369240"/>
                <a:gd name="textAreaBottom" fmla="*/ 3369600 h 3369240"/>
              </a:gdLst>
              <a:ahLst/>
              <a:rect l="textAreaLeft" t="textAreaTop" r="textAreaRight" b="textAreaBottom"/>
              <a:pathLst>
                <a:path w="662" h="2001">
                  <a:moveTo>
                    <a:pt x="620" y="44"/>
                  </a:moveTo>
                  <a:lnTo>
                    <a:pt x="579" y="32"/>
                  </a:lnTo>
                  <a:lnTo>
                    <a:pt x="531" y="21"/>
                  </a:lnTo>
                  <a:lnTo>
                    <a:pt x="481" y="11"/>
                  </a:lnTo>
                  <a:lnTo>
                    <a:pt x="431" y="5"/>
                  </a:lnTo>
                  <a:lnTo>
                    <a:pt x="382" y="2"/>
                  </a:lnTo>
                  <a:lnTo>
                    <a:pt x="330" y="0"/>
                  </a:lnTo>
                  <a:lnTo>
                    <a:pt x="278" y="2"/>
                  </a:lnTo>
                  <a:lnTo>
                    <a:pt x="239" y="4"/>
                  </a:lnTo>
                  <a:lnTo>
                    <a:pt x="239" y="5"/>
                  </a:lnTo>
                  <a:lnTo>
                    <a:pt x="239" y="7"/>
                  </a:lnTo>
                  <a:lnTo>
                    <a:pt x="238" y="9"/>
                  </a:lnTo>
                  <a:lnTo>
                    <a:pt x="238" y="9"/>
                  </a:lnTo>
                  <a:lnTo>
                    <a:pt x="238" y="11"/>
                  </a:lnTo>
                  <a:lnTo>
                    <a:pt x="238" y="13"/>
                  </a:lnTo>
                  <a:lnTo>
                    <a:pt x="236" y="13"/>
                  </a:lnTo>
                  <a:lnTo>
                    <a:pt x="236" y="15"/>
                  </a:lnTo>
                  <a:lnTo>
                    <a:pt x="280" y="11"/>
                  </a:lnTo>
                  <a:lnTo>
                    <a:pt x="330" y="11"/>
                  </a:lnTo>
                  <a:lnTo>
                    <a:pt x="382" y="11"/>
                  </a:lnTo>
                  <a:lnTo>
                    <a:pt x="431" y="15"/>
                  </a:lnTo>
                  <a:lnTo>
                    <a:pt x="481" y="23"/>
                  </a:lnTo>
                  <a:lnTo>
                    <a:pt x="529" y="30"/>
                  </a:lnTo>
                  <a:lnTo>
                    <a:pt x="577" y="42"/>
                  </a:lnTo>
                  <a:lnTo>
                    <a:pt x="616" y="53"/>
                  </a:lnTo>
                  <a:lnTo>
                    <a:pt x="618" y="51"/>
                  </a:lnTo>
                  <a:lnTo>
                    <a:pt x="618" y="51"/>
                  </a:lnTo>
                  <a:lnTo>
                    <a:pt x="618" y="50"/>
                  </a:lnTo>
                  <a:lnTo>
                    <a:pt x="618" y="48"/>
                  </a:lnTo>
                  <a:lnTo>
                    <a:pt x="618" y="48"/>
                  </a:lnTo>
                  <a:lnTo>
                    <a:pt x="620" y="46"/>
                  </a:lnTo>
                  <a:lnTo>
                    <a:pt x="620" y="44"/>
                  </a:lnTo>
                  <a:lnTo>
                    <a:pt x="620" y="44"/>
                  </a:lnTo>
                  <a:close/>
                  <a:moveTo>
                    <a:pt x="1" y="1945"/>
                  </a:moveTo>
                  <a:lnTo>
                    <a:pt x="32" y="1957"/>
                  </a:lnTo>
                  <a:lnTo>
                    <a:pt x="80" y="1970"/>
                  </a:lnTo>
                  <a:lnTo>
                    <a:pt x="128" y="1982"/>
                  </a:lnTo>
                  <a:lnTo>
                    <a:pt x="178" y="1989"/>
                  </a:lnTo>
                  <a:lnTo>
                    <a:pt x="228" y="1997"/>
                  </a:lnTo>
                  <a:lnTo>
                    <a:pt x="278" y="2001"/>
                  </a:lnTo>
                  <a:lnTo>
                    <a:pt x="330" y="2001"/>
                  </a:lnTo>
                  <a:lnTo>
                    <a:pt x="382" y="2001"/>
                  </a:lnTo>
                  <a:lnTo>
                    <a:pt x="431" y="1997"/>
                  </a:lnTo>
                  <a:lnTo>
                    <a:pt x="481" y="1989"/>
                  </a:lnTo>
                  <a:lnTo>
                    <a:pt x="531" y="1982"/>
                  </a:lnTo>
                  <a:lnTo>
                    <a:pt x="579" y="1970"/>
                  </a:lnTo>
                  <a:lnTo>
                    <a:pt x="627" y="1957"/>
                  </a:lnTo>
                  <a:lnTo>
                    <a:pt x="662" y="1945"/>
                  </a:lnTo>
                  <a:lnTo>
                    <a:pt x="662" y="1943"/>
                  </a:lnTo>
                  <a:lnTo>
                    <a:pt x="660" y="1943"/>
                  </a:lnTo>
                  <a:lnTo>
                    <a:pt x="660" y="1941"/>
                  </a:lnTo>
                  <a:lnTo>
                    <a:pt x="658" y="1941"/>
                  </a:lnTo>
                  <a:lnTo>
                    <a:pt x="656" y="1939"/>
                  </a:lnTo>
                  <a:lnTo>
                    <a:pt x="656" y="1938"/>
                  </a:lnTo>
                  <a:lnTo>
                    <a:pt x="654" y="1938"/>
                  </a:lnTo>
                  <a:lnTo>
                    <a:pt x="654" y="1936"/>
                  </a:lnTo>
                  <a:lnTo>
                    <a:pt x="623" y="1947"/>
                  </a:lnTo>
                  <a:lnTo>
                    <a:pt x="577" y="1959"/>
                  </a:lnTo>
                  <a:lnTo>
                    <a:pt x="529" y="1970"/>
                  </a:lnTo>
                  <a:lnTo>
                    <a:pt x="481" y="1980"/>
                  </a:lnTo>
                  <a:lnTo>
                    <a:pt x="431" y="1986"/>
                  </a:lnTo>
                  <a:lnTo>
                    <a:pt x="382" y="1989"/>
                  </a:lnTo>
                  <a:lnTo>
                    <a:pt x="330" y="1991"/>
                  </a:lnTo>
                  <a:lnTo>
                    <a:pt x="280" y="1989"/>
                  </a:lnTo>
                  <a:lnTo>
                    <a:pt x="228" y="1986"/>
                  </a:lnTo>
                  <a:lnTo>
                    <a:pt x="180" y="1980"/>
                  </a:lnTo>
                  <a:lnTo>
                    <a:pt x="130" y="1970"/>
                  </a:lnTo>
                  <a:lnTo>
                    <a:pt x="82" y="1959"/>
                  </a:lnTo>
                  <a:lnTo>
                    <a:pt x="36" y="1947"/>
                  </a:lnTo>
                  <a:lnTo>
                    <a:pt x="0" y="1934"/>
                  </a:lnTo>
                  <a:lnTo>
                    <a:pt x="0" y="1936"/>
                  </a:lnTo>
                  <a:lnTo>
                    <a:pt x="1" y="1938"/>
                  </a:lnTo>
                  <a:lnTo>
                    <a:pt x="1" y="1939"/>
                  </a:lnTo>
                  <a:lnTo>
                    <a:pt x="1" y="1939"/>
                  </a:lnTo>
                  <a:lnTo>
                    <a:pt x="1" y="1941"/>
                  </a:lnTo>
                  <a:lnTo>
                    <a:pt x="1" y="1943"/>
                  </a:lnTo>
                  <a:lnTo>
                    <a:pt x="1" y="1945"/>
                  </a:lnTo>
                  <a:lnTo>
                    <a:pt x="1" y="1945"/>
                  </a:lnTo>
                  <a:close/>
                </a:path>
              </a:pathLst>
            </a:custGeom>
            <a:solidFill>
              <a:srgbClr val="44b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Freeform 341"/>
            <p:cNvSpPr/>
            <p:nvPr/>
          </p:nvSpPr>
          <p:spPr>
            <a:xfrm>
              <a:off x="5926320" y="1586160"/>
              <a:ext cx="1107720" cy="3350520"/>
            </a:xfrm>
            <a:custGeom>
              <a:avLst/>
              <a:gdLst>
                <a:gd name="textAreaLeft" fmla="*/ 0 w 1107720"/>
                <a:gd name="textAreaRight" fmla="*/ 1108080 w 1107720"/>
                <a:gd name="textAreaTop" fmla="*/ 0 h 3350520"/>
                <a:gd name="textAreaBottom" fmla="*/ 3350880 h 3350520"/>
              </a:gdLst>
              <a:ahLst/>
              <a:rect l="textAreaLeft" t="textAreaTop" r="textAreaRight" b="textAreaBottom"/>
              <a:pathLst>
                <a:path w="658" h="1990">
                  <a:moveTo>
                    <a:pt x="618" y="43"/>
                  </a:moveTo>
                  <a:lnTo>
                    <a:pt x="579" y="31"/>
                  </a:lnTo>
                  <a:lnTo>
                    <a:pt x="531" y="22"/>
                  </a:lnTo>
                  <a:lnTo>
                    <a:pt x="481" y="12"/>
                  </a:lnTo>
                  <a:lnTo>
                    <a:pt x="431" y="6"/>
                  </a:lnTo>
                  <a:lnTo>
                    <a:pt x="382" y="2"/>
                  </a:lnTo>
                  <a:lnTo>
                    <a:pt x="330" y="0"/>
                  </a:lnTo>
                  <a:lnTo>
                    <a:pt x="278" y="2"/>
                  </a:lnTo>
                  <a:lnTo>
                    <a:pt x="238" y="4"/>
                  </a:lnTo>
                  <a:lnTo>
                    <a:pt x="238" y="6"/>
                  </a:lnTo>
                  <a:lnTo>
                    <a:pt x="238" y="8"/>
                  </a:lnTo>
                  <a:lnTo>
                    <a:pt x="236" y="8"/>
                  </a:lnTo>
                  <a:lnTo>
                    <a:pt x="236" y="10"/>
                  </a:lnTo>
                  <a:lnTo>
                    <a:pt x="236" y="12"/>
                  </a:lnTo>
                  <a:lnTo>
                    <a:pt x="234" y="14"/>
                  </a:lnTo>
                  <a:lnTo>
                    <a:pt x="234" y="14"/>
                  </a:lnTo>
                  <a:lnTo>
                    <a:pt x="234" y="16"/>
                  </a:lnTo>
                  <a:lnTo>
                    <a:pt x="280" y="12"/>
                  </a:lnTo>
                  <a:lnTo>
                    <a:pt x="330" y="12"/>
                  </a:lnTo>
                  <a:lnTo>
                    <a:pt x="380" y="12"/>
                  </a:lnTo>
                  <a:lnTo>
                    <a:pt x="431" y="16"/>
                  </a:lnTo>
                  <a:lnTo>
                    <a:pt x="479" y="22"/>
                  </a:lnTo>
                  <a:lnTo>
                    <a:pt x="527" y="31"/>
                  </a:lnTo>
                  <a:lnTo>
                    <a:pt x="575" y="43"/>
                  </a:lnTo>
                  <a:lnTo>
                    <a:pt x="614" y="52"/>
                  </a:lnTo>
                  <a:lnTo>
                    <a:pt x="616" y="52"/>
                  </a:lnTo>
                  <a:lnTo>
                    <a:pt x="616" y="50"/>
                  </a:lnTo>
                  <a:lnTo>
                    <a:pt x="616" y="50"/>
                  </a:lnTo>
                  <a:lnTo>
                    <a:pt x="616" y="48"/>
                  </a:lnTo>
                  <a:lnTo>
                    <a:pt x="616" y="46"/>
                  </a:lnTo>
                  <a:lnTo>
                    <a:pt x="618" y="46"/>
                  </a:lnTo>
                  <a:lnTo>
                    <a:pt x="618" y="45"/>
                  </a:lnTo>
                  <a:lnTo>
                    <a:pt x="618" y="43"/>
                  </a:lnTo>
                  <a:close/>
                  <a:moveTo>
                    <a:pt x="1" y="1934"/>
                  </a:moveTo>
                  <a:lnTo>
                    <a:pt x="34" y="1946"/>
                  </a:lnTo>
                  <a:lnTo>
                    <a:pt x="80" y="1959"/>
                  </a:lnTo>
                  <a:lnTo>
                    <a:pt x="130" y="1971"/>
                  </a:lnTo>
                  <a:lnTo>
                    <a:pt x="178" y="1981"/>
                  </a:lnTo>
                  <a:lnTo>
                    <a:pt x="228" y="1986"/>
                  </a:lnTo>
                  <a:lnTo>
                    <a:pt x="278" y="1990"/>
                  </a:lnTo>
                  <a:lnTo>
                    <a:pt x="330" y="1990"/>
                  </a:lnTo>
                  <a:lnTo>
                    <a:pt x="382" y="1990"/>
                  </a:lnTo>
                  <a:lnTo>
                    <a:pt x="431" y="1986"/>
                  </a:lnTo>
                  <a:lnTo>
                    <a:pt x="481" y="1981"/>
                  </a:lnTo>
                  <a:lnTo>
                    <a:pt x="531" y="1971"/>
                  </a:lnTo>
                  <a:lnTo>
                    <a:pt x="579" y="1959"/>
                  </a:lnTo>
                  <a:lnTo>
                    <a:pt x="625" y="1946"/>
                  </a:lnTo>
                  <a:lnTo>
                    <a:pt x="658" y="1936"/>
                  </a:lnTo>
                  <a:lnTo>
                    <a:pt x="656" y="1934"/>
                  </a:lnTo>
                  <a:lnTo>
                    <a:pt x="656" y="1933"/>
                  </a:lnTo>
                  <a:lnTo>
                    <a:pt x="654" y="1933"/>
                  </a:lnTo>
                  <a:lnTo>
                    <a:pt x="654" y="1931"/>
                  </a:lnTo>
                  <a:lnTo>
                    <a:pt x="652" y="1931"/>
                  </a:lnTo>
                  <a:lnTo>
                    <a:pt x="650" y="1929"/>
                  </a:lnTo>
                  <a:lnTo>
                    <a:pt x="650" y="1929"/>
                  </a:lnTo>
                  <a:lnTo>
                    <a:pt x="648" y="1927"/>
                  </a:lnTo>
                  <a:lnTo>
                    <a:pt x="623" y="1936"/>
                  </a:lnTo>
                  <a:lnTo>
                    <a:pt x="575" y="1950"/>
                  </a:lnTo>
                  <a:lnTo>
                    <a:pt x="527" y="1961"/>
                  </a:lnTo>
                  <a:lnTo>
                    <a:pt x="479" y="1969"/>
                  </a:lnTo>
                  <a:lnTo>
                    <a:pt x="431" y="1975"/>
                  </a:lnTo>
                  <a:lnTo>
                    <a:pt x="380" y="1979"/>
                  </a:lnTo>
                  <a:lnTo>
                    <a:pt x="330" y="1981"/>
                  </a:lnTo>
                  <a:lnTo>
                    <a:pt x="280" y="1979"/>
                  </a:lnTo>
                  <a:lnTo>
                    <a:pt x="230" y="1975"/>
                  </a:lnTo>
                  <a:lnTo>
                    <a:pt x="180" y="1969"/>
                  </a:lnTo>
                  <a:lnTo>
                    <a:pt x="132" y="1961"/>
                  </a:lnTo>
                  <a:lnTo>
                    <a:pt x="84" y="1950"/>
                  </a:lnTo>
                  <a:lnTo>
                    <a:pt x="38" y="1936"/>
                  </a:lnTo>
                  <a:lnTo>
                    <a:pt x="0" y="1923"/>
                  </a:lnTo>
                  <a:lnTo>
                    <a:pt x="0" y="1925"/>
                  </a:lnTo>
                  <a:lnTo>
                    <a:pt x="0" y="1927"/>
                  </a:lnTo>
                  <a:lnTo>
                    <a:pt x="0" y="1929"/>
                  </a:lnTo>
                  <a:lnTo>
                    <a:pt x="0" y="1929"/>
                  </a:lnTo>
                  <a:lnTo>
                    <a:pt x="0" y="1931"/>
                  </a:lnTo>
                  <a:lnTo>
                    <a:pt x="1" y="1933"/>
                  </a:lnTo>
                  <a:lnTo>
                    <a:pt x="1" y="1934"/>
                  </a:lnTo>
                  <a:lnTo>
                    <a:pt x="1" y="1934"/>
                  </a:lnTo>
                  <a:close/>
                </a:path>
              </a:pathLst>
            </a:custGeom>
            <a:solidFill>
              <a:srgbClr val="45b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Freeform 342"/>
            <p:cNvSpPr/>
            <p:nvPr/>
          </p:nvSpPr>
          <p:spPr>
            <a:xfrm>
              <a:off x="5923080" y="1596240"/>
              <a:ext cx="1104840" cy="3333960"/>
            </a:xfrm>
            <a:custGeom>
              <a:avLst/>
              <a:gdLst>
                <a:gd name="textAreaLeft" fmla="*/ 0 w 1104840"/>
                <a:gd name="textAreaRight" fmla="*/ 1105200 w 1104840"/>
                <a:gd name="textAreaTop" fmla="*/ 0 h 3333960"/>
                <a:gd name="textAreaBottom" fmla="*/ 3334320 h 3333960"/>
              </a:gdLst>
              <a:ahLst/>
              <a:rect l="textAreaLeft" t="textAreaTop" r="textAreaRight" b="textAreaBottom"/>
              <a:pathLst>
                <a:path w="656" h="1980">
                  <a:moveTo>
                    <a:pt x="618" y="42"/>
                  </a:moveTo>
                  <a:lnTo>
                    <a:pt x="579" y="31"/>
                  </a:lnTo>
                  <a:lnTo>
                    <a:pt x="531" y="19"/>
                  </a:lnTo>
                  <a:lnTo>
                    <a:pt x="483" y="12"/>
                  </a:lnTo>
                  <a:lnTo>
                    <a:pt x="433" y="4"/>
                  </a:lnTo>
                  <a:lnTo>
                    <a:pt x="384" y="0"/>
                  </a:lnTo>
                  <a:lnTo>
                    <a:pt x="332" y="0"/>
                  </a:lnTo>
                  <a:lnTo>
                    <a:pt x="282" y="0"/>
                  </a:lnTo>
                  <a:lnTo>
                    <a:pt x="238" y="4"/>
                  </a:lnTo>
                  <a:lnTo>
                    <a:pt x="238" y="6"/>
                  </a:lnTo>
                  <a:lnTo>
                    <a:pt x="236" y="8"/>
                  </a:lnTo>
                  <a:lnTo>
                    <a:pt x="236" y="8"/>
                  </a:lnTo>
                  <a:lnTo>
                    <a:pt x="236" y="10"/>
                  </a:lnTo>
                  <a:lnTo>
                    <a:pt x="234" y="12"/>
                  </a:lnTo>
                  <a:lnTo>
                    <a:pt x="234" y="14"/>
                  </a:lnTo>
                  <a:lnTo>
                    <a:pt x="234" y="14"/>
                  </a:lnTo>
                  <a:lnTo>
                    <a:pt x="234" y="16"/>
                  </a:lnTo>
                  <a:lnTo>
                    <a:pt x="282" y="12"/>
                  </a:lnTo>
                  <a:lnTo>
                    <a:pt x="332" y="10"/>
                  </a:lnTo>
                  <a:lnTo>
                    <a:pt x="382" y="12"/>
                  </a:lnTo>
                  <a:lnTo>
                    <a:pt x="432" y="16"/>
                  </a:lnTo>
                  <a:lnTo>
                    <a:pt x="481" y="21"/>
                  </a:lnTo>
                  <a:lnTo>
                    <a:pt x="529" y="31"/>
                  </a:lnTo>
                  <a:lnTo>
                    <a:pt x="577" y="40"/>
                  </a:lnTo>
                  <a:lnTo>
                    <a:pt x="616" y="52"/>
                  </a:lnTo>
                  <a:lnTo>
                    <a:pt x="616" y="50"/>
                  </a:lnTo>
                  <a:lnTo>
                    <a:pt x="616" y="50"/>
                  </a:lnTo>
                  <a:lnTo>
                    <a:pt x="616" y="48"/>
                  </a:lnTo>
                  <a:lnTo>
                    <a:pt x="616" y="48"/>
                  </a:lnTo>
                  <a:lnTo>
                    <a:pt x="618" y="46"/>
                  </a:lnTo>
                  <a:lnTo>
                    <a:pt x="618" y="44"/>
                  </a:lnTo>
                  <a:lnTo>
                    <a:pt x="618" y="44"/>
                  </a:lnTo>
                  <a:lnTo>
                    <a:pt x="618" y="42"/>
                  </a:lnTo>
                  <a:close/>
                  <a:moveTo>
                    <a:pt x="2" y="1923"/>
                  </a:moveTo>
                  <a:lnTo>
                    <a:pt x="38" y="1936"/>
                  </a:lnTo>
                  <a:lnTo>
                    <a:pt x="84" y="1948"/>
                  </a:lnTo>
                  <a:lnTo>
                    <a:pt x="132" y="1959"/>
                  </a:lnTo>
                  <a:lnTo>
                    <a:pt x="182" y="1969"/>
                  </a:lnTo>
                  <a:lnTo>
                    <a:pt x="230" y="1975"/>
                  </a:lnTo>
                  <a:lnTo>
                    <a:pt x="282" y="1978"/>
                  </a:lnTo>
                  <a:lnTo>
                    <a:pt x="332" y="1980"/>
                  </a:lnTo>
                  <a:lnTo>
                    <a:pt x="384" y="1978"/>
                  </a:lnTo>
                  <a:lnTo>
                    <a:pt x="433" y="1975"/>
                  </a:lnTo>
                  <a:lnTo>
                    <a:pt x="483" y="1969"/>
                  </a:lnTo>
                  <a:lnTo>
                    <a:pt x="531" y="1959"/>
                  </a:lnTo>
                  <a:lnTo>
                    <a:pt x="579" y="1948"/>
                  </a:lnTo>
                  <a:lnTo>
                    <a:pt x="625" y="1936"/>
                  </a:lnTo>
                  <a:lnTo>
                    <a:pt x="656" y="1925"/>
                  </a:lnTo>
                  <a:lnTo>
                    <a:pt x="654" y="1925"/>
                  </a:lnTo>
                  <a:lnTo>
                    <a:pt x="652" y="1923"/>
                  </a:lnTo>
                  <a:lnTo>
                    <a:pt x="652" y="1923"/>
                  </a:lnTo>
                  <a:lnTo>
                    <a:pt x="650" y="1921"/>
                  </a:lnTo>
                  <a:lnTo>
                    <a:pt x="648" y="1921"/>
                  </a:lnTo>
                  <a:lnTo>
                    <a:pt x="648" y="1919"/>
                  </a:lnTo>
                  <a:lnTo>
                    <a:pt x="646" y="1919"/>
                  </a:lnTo>
                  <a:lnTo>
                    <a:pt x="646" y="1917"/>
                  </a:lnTo>
                  <a:lnTo>
                    <a:pt x="623" y="1925"/>
                  </a:lnTo>
                  <a:lnTo>
                    <a:pt x="577" y="1938"/>
                  </a:lnTo>
                  <a:lnTo>
                    <a:pt x="529" y="1950"/>
                  </a:lnTo>
                  <a:lnTo>
                    <a:pt x="481" y="1957"/>
                  </a:lnTo>
                  <a:lnTo>
                    <a:pt x="432" y="1965"/>
                  </a:lnTo>
                  <a:lnTo>
                    <a:pt x="382" y="1969"/>
                  </a:lnTo>
                  <a:lnTo>
                    <a:pt x="332" y="1969"/>
                  </a:lnTo>
                  <a:lnTo>
                    <a:pt x="282" y="1969"/>
                  </a:lnTo>
                  <a:lnTo>
                    <a:pt x="232" y="1965"/>
                  </a:lnTo>
                  <a:lnTo>
                    <a:pt x="182" y="1957"/>
                  </a:lnTo>
                  <a:lnTo>
                    <a:pt x="134" y="1950"/>
                  </a:lnTo>
                  <a:lnTo>
                    <a:pt x="88" y="1938"/>
                  </a:lnTo>
                  <a:lnTo>
                    <a:pt x="40" y="1925"/>
                  </a:lnTo>
                  <a:lnTo>
                    <a:pt x="0" y="1911"/>
                  </a:lnTo>
                  <a:lnTo>
                    <a:pt x="2" y="1913"/>
                  </a:lnTo>
                  <a:lnTo>
                    <a:pt x="2" y="1915"/>
                  </a:lnTo>
                  <a:lnTo>
                    <a:pt x="2" y="1915"/>
                  </a:lnTo>
                  <a:lnTo>
                    <a:pt x="2" y="1917"/>
                  </a:lnTo>
                  <a:lnTo>
                    <a:pt x="2" y="1919"/>
                  </a:lnTo>
                  <a:lnTo>
                    <a:pt x="2" y="1921"/>
                  </a:lnTo>
                  <a:lnTo>
                    <a:pt x="2" y="1923"/>
                  </a:lnTo>
                  <a:lnTo>
                    <a:pt x="2" y="1923"/>
                  </a:lnTo>
                  <a:close/>
                </a:path>
              </a:pathLst>
            </a:custGeom>
            <a:solidFill>
              <a:srgbClr val="46b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Freeform 343"/>
            <p:cNvSpPr/>
            <p:nvPr/>
          </p:nvSpPr>
          <p:spPr>
            <a:xfrm>
              <a:off x="5923080" y="1606320"/>
              <a:ext cx="1094400" cy="3315600"/>
            </a:xfrm>
            <a:custGeom>
              <a:avLst/>
              <a:gdLst>
                <a:gd name="textAreaLeft" fmla="*/ 0 w 1094400"/>
                <a:gd name="textAreaRight" fmla="*/ 1094760 w 1094400"/>
                <a:gd name="textAreaTop" fmla="*/ 0 h 3315600"/>
                <a:gd name="textAreaBottom" fmla="*/ 3315960 h 3315600"/>
              </a:gdLst>
              <a:ahLst/>
              <a:rect l="textAreaLeft" t="textAreaTop" r="textAreaRight" b="textAreaBottom"/>
              <a:pathLst>
                <a:path w="650" h="1969">
                  <a:moveTo>
                    <a:pt x="616" y="40"/>
                  </a:moveTo>
                  <a:lnTo>
                    <a:pt x="577" y="31"/>
                  </a:lnTo>
                  <a:lnTo>
                    <a:pt x="529" y="19"/>
                  </a:lnTo>
                  <a:lnTo>
                    <a:pt x="481" y="10"/>
                  </a:lnTo>
                  <a:lnTo>
                    <a:pt x="433" y="4"/>
                  </a:lnTo>
                  <a:lnTo>
                    <a:pt x="382" y="0"/>
                  </a:lnTo>
                  <a:lnTo>
                    <a:pt x="332" y="0"/>
                  </a:lnTo>
                  <a:lnTo>
                    <a:pt x="282" y="0"/>
                  </a:lnTo>
                  <a:lnTo>
                    <a:pt x="236" y="4"/>
                  </a:lnTo>
                  <a:lnTo>
                    <a:pt x="234" y="6"/>
                  </a:lnTo>
                  <a:lnTo>
                    <a:pt x="234" y="8"/>
                  </a:lnTo>
                  <a:lnTo>
                    <a:pt x="234" y="8"/>
                  </a:lnTo>
                  <a:lnTo>
                    <a:pt x="234" y="10"/>
                  </a:lnTo>
                  <a:lnTo>
                    <a:pt x="232" y="11"/>
                  </a:lnTo>
                  <a:lnTo>
                    <a:pt x="232" y="11"/>
                  </a:lnTo>
                  <a:lnTo>
                    <a:pt x="232" y="13"/>
                  </a:lnTo>
                  <a:lnTo>
                    <a:pt x="230" y="15"/>
                  </a:lnTo>
                  <a:lnTo>
                    <a:pt x="232" y="15"/>
                  </a:lnTo>
                  <a:lnTo>
                    <a:pt x="282" y="11"/>
                  </a:lnTo>
                  <a:lnTo>
                    <a:pt x="332" y="10"/>
                  </a:lnTo>
                  <a:lnTo>
                    <a:pt x="382" y="11"/>
                  </a:lnTo>
                  <a:lnTo>
                    <a:pt x="432" y="15"/>
                  </a:lnTo>
                  <a:lnTo>
                    <a:pt x="479" y="21"/>
                  </a:lnTo>
                  <a:lnTo>
                    <a:pt x="527" y="29"/>
                  </a:lnTo>
                  <a:lnTo>
                    <a:pt x="575" y="40"/>
                  </a:lnTo>
                  <a:lnTo>
                    <a:pt x="614" y="52"/>
                  </a:lnTo>
                  <a:lnTo>
                    <a:pt x="614" y="50"/>
                  </a:lnTo>
                  <a:lnTo>
                    <a:pt x="614" y="50"/>
                  </a:lnTo>
                  <a:lnTo>
                    <a:pt x="614" y="48"/>
                  </a:lnTo>
                  <a:lnTo>
                    <a:pt x="616" y="46"/>
                  </a:lnTo>
                  <a:lnTo>
                    <a:pt x="616" y="46"/>
                  </a:lnTo>
                  <a:lnTo>
                    <a:pt x="616" y="44"/>
                  </a:lnTo>
                  <a:lnTo>
                    <a:pt x="616" y="42"/>
                  </a:lnTo>
                  <a:lnTo>
                    <a:pt x="616" y="40"/>
                  </a:lnTo>
                  <a:close/>
                  <a:moveTo>
                    <a:pt x="2" y="1911"/>
                  </a:moveTo>
                  <a:lnTo>
                    <a:pt x="40" y="1924"/>
                  </a:lnTo>
                  <a:lnTo>
                    <a:pt x="86" y="1938"/>
                  </a:lnTo>
                  <a:lnTo>
                    <a:pt x="134" y="1949"/>
                  </a:lnTo>
                  <a:lnTo>
                    <a:pt x="182" y="1957"/>
                  </a:lnTo>
                  <a:lnTo>
                    <a:pt x="232" y="1963"/>
                  </a:lnTo>
                  <a:lnTo>
                    <a:pt x="282" y="1967"/>
                  </a:lnTo>
                  <a:lnTo>
                    <a:pt x="332" y="1969"/>
                  </a:lnTo>
                  <a:lnTo>
                    <a:pt x="382" y="1967"/>
                  </a:lnTo>
                  <a:lnTo>
                    <a:pt x="433" y="1963"/>
                  </a:lnTo>
                  <a:lnTo>
                    <a:pt x="481" y="1957"/>
                  </a:lnTo>
                  <a:lnTo>
                    <a:pt x="529" y="1949"/>
                  </a:lnTo>
                  <a:lnTo>
                    <a:pt x="577" y="1938"/>
                  </a:lnTo>
                  <a:lnTo>
                    <a:pt x="625" y="1924"/>
                  </a:lnTo>
                  <a:lnTo>
                    <a:pt x="650" y="1915"/>
                  </a:lnTo>
                  <a:lnTo>
                    <a:pt x="648" y="1915"/>
                  </a:lnTo>
                  <a:lnTo>
                    <a:pt x="648" y="1913"/>
                  </a:lnTo>
                  <a:lnTo>
                    <a:pt x="646" y="1913"/>
                  </a:lnTo>
                  <a:lnTo>
                    <a:pt x="646" y="1911"/>
                  </a:lnTo>
                  <a:lnTo>
                    <a:pt x="645" y="1911"/>
                  </a:lnTo>
                  <a:lnTo>
                    <a:pt x="643" y="1909"/>
                  </a:lnTo>
                  <a:lnTo>
                    <a:pt x="643" y="1909"/>
                  </a:lnTo>
                  <a:lnTo>
                    <a:pt x="641" y="1907"/>
                  </a:lnTo>
                  <a:lnTo>
                    <a:pt x="622" y="1915"/>
                  </a:lnTo>
                  <a:lnTo>
                    <a:pt x="575" y="1926"/>
                  </a:lnTo>
                  <a:lnTo>
                    <a:pt x="527" y="1938"/>
                  </a:lnTo>
                  <a:lnTo>
                    <a:pt x="479" y="1947"/>
                  </a:lnTo>
                  <a:lnTo>
                    <a:pt x="432" y="1953"/>
                  </a:lnTo>
                  <a:lnTo>
                    <a:pt x="382" y="1957"/>
                  </a:lnTo>
                  <a:lnTo>
                    <a:pt x="332" y="1957"/>
                  </a:lnTo>
                  <a:lnTo>
                    <a:pt x="282" y="1957"/>
                  </a:lnTo>
                  <a:lnTo>
                    <a:pt x="232" y="1953"/>
                  </a:lnTo>
                  <a:lnTo>
                    <a:pt x="184" y="1947"/>
                  </a:lnTo>
                  <a:lnTo>
                    <a:pt x="136" y="1938"/>
                  </a:lnTo>
                  <a:lnTo>
                    <a:pt x="88" y="1926"/>
                  </a:lnTo>
                  <a:lnTo>
                    <a:pt x="42" y="1915"/>
                  </a:lnTo>
                  <a:lnTo>
                    <a:pt x="0" y="1899"/>
                  </a:lnTo>
                  <a:lnTo>
                    <a:pt x="0" y="1901"/>
                  </a:lnTo>
                  <a:lnTo>
                    <a:pt x="0" y="1903"/>
                  </a:lnTo>
                  <a:lnTo>
                    <a:pt x="0" y="1903"/>
                  </a:lnTo>
                  <a:lnTo>
                    <a:pt x="0" y="1905"/>
                  </a:lnTo>
                  <a:lnTo>
                    <a:pt x="2" y="1907"/>
                  </a:lnTo>
                  <a:lnTo>
                    <a:pt x="2" y="1909"/>
                  </a:lnTo>
                  <a:lnTo>
                    <a:pt x="2" y="1909"/>
                  </a:lnTo>
                  <a:lnTo>
                    <a:pt x="2" y="1911"/>
                  </a:lnTo>
                  <a:close/>
                </a:path>
              </a:pathLst>
            </a:custGeom>
            <a:solidFill>
              <a:srgbClr val="47b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Freeform 344"/>
            <p:cNvSpPr/>
            <p:nvPr/>
          </p:nvSpPr>
          <p:spPr>
            <a:xfrm>
              <a:off x="5923080" y="1613160"/>
              <a:ext cx="1087560" cy="3298320"/>
            </a:xfrm>
            <a:custGeom>
              <a:avLst/>
              <a:gdLst>
                <a:gd name="textAreaLeft" fmla="*/ 0 w 1087560"/>
                <a:gd name="textAreaRight" fmla="*/ 1087920 w 1087560"/>
                <a:gd name="textAreaTop" fmla="*/ 0 h 3298320"/>
                <a:gd name="textAreaBottom" fmla="*/ 3298680 h 3298320"/>
              </a:gdLst>
              <a:ahLst/>
              <a:rect l="textAreaLeft" t="textAreaTop" r="textAreaRight" b="textAreaBottom"/>
              <a:pathLst>
                <a:path w="646" h="1959">
                  <a:moveTo>
                    <a:pt x="616" y="42"/>
                  </a:moveTo>
                  <a:lnTo>
                    <a:pt x="577" y="30"/>
                  </a:lnTo>
                  <a:lnTo>
                    <a:pt x="529" y="21"/>
                  </a:lnTo>
                  <a:lnTo>
                    <a:pt x="481" y="11"/>
                  </a:lnTo>
                  <a:lnTo>
                    <a:pt x="432" y="6"/>
                  </a:lnTo>
                  <a:lnTo>
                    <a:pt x="382" y="2"/>
                  </a:lnTo>
                  <a:lnTo>
                    <a:pt x="332" y="0"/>
                  </a:lnTo>
                  <a:lnTo>
                    <a:pt x="282" y="2"/>
                  </a:lnTo>
                  <a:lnTo>
                    <a:pt x="234" y="6"/>
                  </a:lnTo>
                  <a:lnTo>
                    <a:pt x="232" y="7"/>
                  </a:lnTo>
                  <a:lnTo>
                    <a:pt x="232" y="7"/>
                  </a:lnTo>
                  <a:lnTo>
                    <a:pt x="232" y="9"/>
                  </a:lnTo>
                  <a:lnTo>
                    <a:pt x="230" y="11"/>
                  </a:lnTo>
                  <a:lnTo>
                    <a:pt x="230" y="13"/>
                  </a:lnTo>
                  <a:lnTo>
                    <a:pt x="230" y="13"/>
                  </a:lnTo>
                  <a:lnTo>
                    <a:pt x="228" y="15"/>
                  </a:lnTo>
                  <a:lnTo>
                    <a:pt x="228" y="17"/>
                  </a:lnTo>
                  <a:lnTo>
                    <a:pt x="232" y="17"/>
                  </a:lnTo>
                  <a:lnTo>
                    <a:pt x="282" y="13"/>
                  </a:lnTo>
                  <a:lnTo>
                    <a:pt x="332" y="11"/>
                  </a:lnTo>
                  <a:lnTo>
                    <a:pt x="382" y="13"/>
                  </a:lnTo>
                  <a:lnTo>
                    <a:pt x="432" y="17"/>
                  </a:lnTo>
                  <a:lnTo>
                    <a:pt x="479" y="23"/>
                  </a:lnTo>
                  <a:lnTo>
                    <a:pt x="527" y="30"/>
                  </a:lnTo>
                  <a:lnTo>
                    <a:pt x="574" y="42"/>
                  </a:lnTo>
                  <a:lnTo>
                    <a:pt x="612" y="52"/>
                  </a:lnTo>
                  <a:lnTo>
                    <a:pt x="612" y="52"/>
                  </a:lnTo>
                  <a:lnTo>
                    <a:pt x="612" y="52"/>
                  </a:lnTo>
                  <a:lnTo>
                    <a:pt x="612" y="52"/>
                  </a:lnTo>
                  <a:lnTo>
                    <a:pt x="612" y="52"/>
                  </a:lnTo>
                  <a:lnTo>
                    <a:pt x="612" y="52"/>
                  </a:lnTo>
                  <a:lnTo>
                    <a:pt x="612" y="52"/>
                  </a:lnTo>
                  <a:lnTo>
                    <a:pt x="612" y="52"/>
                  </a:lnTo>
                  <a:lnTo>
                    <a:pt x="614" y="52"/>
                  </a:lnTo>
                  <a:lnTo>
                    <a:pt x="614" y="50"/>
                  </a:lnTo>
                  <a:lnTo>
                    <a:pt x="614" y="50"/>
                  </a:lnTo>
                  <a:lnTo>
                    <a:pt x="614" y="48"/>
                  </a:lnTo>
                  <a:lnTo>
                    <a:pt x="614" y="46"/>
                  </a:lnTo>
                  <a:lnTo>
                    <a:pt x="614" y="46"/>
                  </a:lnTo>
                  <a:lnTo>
                    <a:pt x="614" y="44"/>
                  </a:lnTo>
                  <a:lnTo>
                    <a:pt x="614" y="44"/>
                  </a:lnTo>
                  <a:lnTo>
                    <a:pt x="616" y="42"/>
                  </a:lnTo>
                  <a:close/>
                  <a:moveTo>
                    <a:pt x="0" y="1901"/>
                  </a:moveTo>
                  <a:lnTo>
                    <a:pt x="40" y="1915"/>
                  </a:lnTo>
                  <a:lnTo>
                    <a:pt x="88" y="1928"/>
                  </a:lnTo>
                  <a:lnTo>
                    <a:pt x="134" y="1940"/>
                  </a:lnTo>
                  <a:lnTo>
                    <a:pt x="182" y="1947"/>
                  </a:lnTo>
                  <a:lnTo>
                    <a:pt x="232" y="1955"/>
                  </a:lnTo>
                  <a:lnTo>
                    <a:pt x="282" y="1959"/>
                  </a:lnTo>
                  <a:lnTo>
                    <a:pt x="332" y="1959"/>
                  </a:lnTo>
                  <a:lnTo>
                    <a:pt x="382" y="1959"/>
                  </a:lnTo>
                  <a:lnTo>
                    <a:pt x="432" y="1955"/>
                  </a:lnTo>
                  <a:lnTo>
                    <a:pt x="481" y="1947"/>
                  </a:lnTo>
                  <a:lnTo>
                    <a:pt x="529" y="1940"/>
                  </a:lnTo>
                  <a:lnTo>
                    <a:pt x="577" y="1928"/>
                  </a:lnTo>
                  <a:lnTo>
                    <a:pt x="623" y="1915"/>
                  </a:lnTo>
                  <a:lnTo>
                    <a:pt x="646" y="1907"/>
                  </a:lnTo>
                  <a:lnTo>
                    <a:pt x="645" y="1907"/>
                  </a:lnTo>
                  <a:lnTo>
                    <a:pt x="643" y="1905"/>
                  </a:lnTo>
                  <a:lnTo>
                    <a:pt x="643" y="1905"/>
                  </a:lnTo>
                  <a:lnTo>
                    <a:pt x="641" y="1903"/>
                  </a:lnTo>
                  <a:lnTo>
                    <a:pt x="641" y="1903"/>
                  </a:lnTo>
                  <a:lnTo>
                    <a:pt x="639" y="1901"/>
                  </a:lnTo>
                  <a:lnTo>
                    <a:pt x="637" y="1899"/>
                  </a:lnTo>
                  <a:lnTo>
                    <a:pt x="637" y="1899"/>
                  </a:lnTo>
                  <a:lnTo>
                    <a:pt x="620" y="1905"/>
                  </a:lnTo>
                  <a:lnTo>
                    <a:pt x="574" y="1918"/>
                  </a:lnTo>
                  <a:lnTo>
                    <a:pt x="527" y="1928"/>
                  </a:lnTo>
                  <a:lnTo>
                    <a:pt x="479" y="1938"/>
                  </a:lnTo>
                  <a:lnTo>
                    <a:pt x="432" y="1943"/>
                  </a:lnTo>
                  <a:lnTo>
                    <a:pt x="382" y="1947"/>
                  </a:lnTo>
                  <a:lnTo>
                    <a:pt x="332" y="1949"/>
                  </a:lnTo>
                  <a:lnTo>
                    <a:pt x="282" y="1947"/>
                  </a:lnTo>
                  <a:lnTo>
                    <a:pt x="232" y="1943"/>
                  </a:lnTo>
                  <a:lnTo>
                    <a:pt x="184" y="1938"/>
                  </a:lnTo>
                  <a:lnTo>
                    <a:pt x="136" y="1928"/>
                  </a:lnTo>
                  <a:lnTo>
                    <a:pt x="90" y="1918"/>
                  </a:lnTo>
                  <a:lnTo>
                    <a:pt x="44" y="1905"/>
                  </a:lnTo>
                  <a:lnTo>
                    <a:pt x="0" y="1890"/>
                  </a:lnTo>
                  <a:lnTo>
                    <a:pt x="0" y="1890"/>
                  </a:lnTo>
                  <a:lnTo>
                    <a:pt x="0" y="1892"/>
                  </a:lnTo>
                  <a:lnTo>
                    <a:pt x="0" y="1894"/>
                  </a:lnTo>
                  <a:lnTo>
                    <a:pt x="0" y="1894"/>
                  </a:lnTo>
                  <a:lnTo>
                    <a:pt x="0" y="1895"/>
                  </a:lnTo>
                  <a:lnTo>
                    <a:pt x="0" y="1897"/>
                  </a:lnTo>
                  <a:lnTo>
                    <a:pt x="0" y="1899"/>
                  </a:lnTo>
                  <a:lnTo>
                    <a:pt x="0" y="1899"/>
                  </a:lnTo>
                  <a:lnTo>
                    <a:pt x="0" y="1901"/>
                  </a:lnTo>
                  <a:close/>
                </a:path>
              </a:pathLst>
            </a:custGeom>
            <a:solidFill>
              <a:srgbClr val="48b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Freeform 345"/>
            <p:cNvSpPr/>
            <p:nvPr/>
          </p:nvSpPr>
          <p:spPr>
            <a:xfrm>
              <a:off x="5919480" y="1623240"/>
              <a:ext cx="1082520" cy="3278520"/>
            </a:xfrm>
            <a:custGeom>
              <a:avLst/>
              <a:gdLst>
                <a:gd name="textAreaLeft" fmla="*/ 0 w 1082520"/>
                <a:gd name="textAreaRight" fmla="*/ 1082880 w 1082520"/>
                <a:gd name="textAreaTop" fmla="*/ 0 h 3278520"/>
                <a:gd name="textAreaBottom" fmla="*/ 3278880 h 3278520"/>
              </a:gdLst>
              <a:ahLst/>
              <a:rect l="textAreaLeft" t="textAreaTop" r="textAreaRight" b="textAreaBottom"/>
              <a:pathLst>
                <a:path w="643" h="1947">
                  <a:moveTo>
                    <a:pt x="616" y="42"/>
                  </a:moveTo>
                  <a:lnTo>
                    <a:pt x="577" y="30"/>
                  </a:lnTo>
                  <a:lnTo>
                    <a:pt x="529" y="19"/>
                  </a:lnTo>
                  <a:lnTo>
                    <a:pt x="481" y="11"/>
                  </a:lnTo>
                  <a:lnTo>
                    <a:pt x="434" y="5"/>
                  </a:lnTo>
                  <a:lnTo>
                    <a:pt x="384" y="1"/>
                  </a:lnTo>
                  <a:lnTo>
                    <a:pt x="334" y="0"/>
                  </a:lnTo>
                  <a:lnTo>
                    <a:pt x="284" y="1"/>
                  </a:lnTo>
                  <a:lnTo>
                    <a:pt x="234" y="5"/>
                  </a:lnTo>
                  <a:lnTo>
                    <a:pt x="232" y="5"/>
                  </a:lnTo>
                  <a:lnTo>
                    <a:pt x="232" y="7"/>
                  </a:lnTo>
                  <a:lnTo>
                    <a:pt x="232" y="7"/>
                  </a:lnTo>
                  <a:lnTo>
                    <a:pt x="230" y="9"/>
                  </a:lnTo>
                  <a:lnTo>
                    <a:pt x="230" y="11"/>
                  </a:lnTo>
                  <a:lnTo>
                    <a:pt x="230" y="13"/>
                  </a:lnTo>
                  <a:lnTo>
                    <a:pt x="230" y="13"/>
                  </a:lnTo>
                  <a:lnTo>
                    <a:pt x="228" y="15"/>
                  </a:lnTo>
                  <a:lnTo>
                    <a:pt x="228" y="17"/>
                  </a:lnTo>
                  <a:lnTo>
                    <a:pt x="236" y="15"/>
                  </a:lnTo>
                  <a:lnTo>
                    <a:pt x="284" y="11"/>
                  </a:lnTo>
                  <a:lnTo>
                    <a:pt x="334" y="11"/>
                  </a:lnTo>
                  <a:lnTo>
                    <a:pt x="384" y="11"/>
                  </a:lnTo>
                  <a:lnTo>
                    <a:pt x="432" y="15"/>
                  </a:lnTo>
                  <a:lnTo>
                    <a:pt x="481" y="21"/>
                  </a:lnTo>
                  <a:lnTo>
                    <a:pt x="528" y="30"/>
                  </a:lnTo>
                  <a:lnTo>
                    <a:pt x="576" y="40"/>
                  </a:lnTo>
                  <a:lnTo>
                    <a:pt x="610" y="51"/>
                  </a:lnTo>
                  <a:lnTo>
                    <a:pt x="610" y="49"/>
                  </a:lnTo>
                  <a:lnTo>
                    <a:pt x="610" y="49"/>
                  </a:lnTo>
                  <a:lnTo>
                    <a:pt x="612" y="48"/>
                  </a:lnTo>
                  <a:lnTo>
                    <a:pt x="612" y="48"/>
                  </a:lnTo>
                  <a:lnTo>
                    <a:pt x="612" y="48"/>
                  </a:lnTo>
                  <a:lnTo>
                    <a:pt x="614" y="46"/>
                  </a:lnTo>
                  <a:lnTo>
                    <a:pt x="614" y="46"/>
                  </a:lnTo>
                  <a:lnTo>
                    <a:pt x="616" y="46"/>
                  </a:lnTo>
                  <a:lnTo>
                    <a:pt x="616" y="44"/>
                  </a:lnTo>
                  <a:lnTo>
                    <a:pt x="616" y="44"/>
                  </a:lnTo>
                  <a:lnTo>
                    <a:pt x="616" y="44"/>
                  </a:lnTo>
                  <a:lnTo>
                    <a:pt x="616" y="44"/>
                  </a:lnTo>
                  <a:lnTo>
                    <a:pt x="616" y="42"/>
                  </a:lnTo>
                  <a:lnTo>
                    <a:pt x="616" y="42"/>
                  </a:lnTo>
                  <a:lnTo>
                    <a:pt x="616" y="42"/>
                  </a:lnTo>
                  <a:lnTo>
                    <a:pt x="616" y="42"/>
                  </a:lnTo>
                  <a:close/>
                  <a:moveTo>
                    <a:pt x="2" y="1889"/>
                  </a:moveTo>
                  <a:lnTo>
                    <a:pt x="44" y="1905"/>
                  </a:lnTo>
                  <a:lnTo>
                    <a:pt x="90" y="1916"/>
                  </a:lnTo>
                  <a:lnTo>
                    <a:pt x="138" y="1928"/>
                  </a:lnTo>
                  <a:lnTo>
                    <a:pt x="186" y="1937"/>
                  </a:lnTo>
                  <a:lnTo>
                    <a:pt x="234" y="1943"/>
                  </a:lnTo>
                  <a:lnTo>
                    <a:pt x="284" y="1947"/>
                  </a:lnTo>
                  <a:lnTo>
                    <a:pt x="334" y="1947"/>
                  </a:lnTo>
                  <a:lnTo>
                    <a:pt x="384" y="1947"/>
                  </a:lnTo>
                  <a:lnTo>
                    <a:pt x="434" y="1943"/>
                  </a:lnTo>
                  <a:lnTo>
                    <a:pt x="481" y="1937"/>
                  </a:lnTo>
                  <a:lnTo>
                    <a:pt x="529" y="1928"/>
                  </a:lnTo>
                  <a:lnTo>
                    <a:pt x="577" y="1916"/>
                  </a:lnTo>
                  <a:lnTo>
                    <a:pt x="624" y="1905"/>
                  </a:lnTo>
                  <a:lnTo>
                    <a:pt x="643" y="1897"/>
                  </a:lnTo>
                  <a:lnTo>
                    <a:pt x="643" y="1897"/>
                  </a:lnTo>
                  <a:lnTo>
                    <a:pt x="641" y="1895"/>
                  </a:lnTo>
                  <a:lnTo>
                    <a:pt x="641" y="1893"/>
                  </a:lnTo>
                  <a:lnTo>
                    <a:pt x="639" y="1893"/>
                  </a:lnTo>
                  <a:lnTo>
                    <a:pt x="637" y="1891"/>
                  </a:lnTo>
                  <a:lnTo>
                    <a:pt x="637" y="1891"/>
                  </a:lnTo>
                  <a:lnTo>
                    <a:pt x="635" y="1889"/>
                  </a:lnTo>
                  <a:lnTo>
                    <a:pt x="635" y="1889"/>
                  </a:lnTo>
                  <a:lnTo>
                    <a:pt x="620" y="1893"/>
                  </a:lnTo>
                  <a:lnTo>
                    <a:pt x="576" y="1907"/>
                  </a:lnTo>
                  <a:lnTo>
                    <a:pt x="528" y="1918"/>
                  </a:lnTo>
                  <a:lnTo>
                    <a:pt x="481" y="1926"/>
                  </a:lnTo>
                  <a:lnTo>
                    <a:pt x="432" y="1932"/>
                  </a:lnTo>
                  <a:lnTo>
                    <a:pt x="384" y="1935"/>
                  </a:lnTo>
                  <a:lnTo>
                    <a:pt x="334" y="1937"/>
                  </a:lnTo>
                  <a:lnTo>
                    <a:pt x="284" y="1935"/>
                  </a:lnTo>
                  <a:lnTo>
                    <a:pt x="236" y="1932"/>
                  </a:lnTo>
                  <a:lnTo>
                    <a:pt x="188" y="1926"/>
                  </a:lnTo>
                  <a:lnTo>
                    <a:pt x="140" y="1918"/>
                  </a:lnTo>
                  <a:lnTo>
                    <a:pt x="94" y="1907"/>
                  </a:lnTo>
                  <a:lnTo>
                    <a:pt x="48" y="1893"/>
                  </a:lnTo>
                  <a:lnTo>
                    <a:pt x="2" y="1878"/>
                  </a:lnTo>
                  <a:lnTo>
                    <a:pt x="0" y="1878"/>
                  </a:lnTo>
                  <a:lnTo>
                    <a:pt x="0" y="1880"/>
                  </a:lnTo>
                  <a:lnTo>
                    <a:pt x="0" y="1880"/>
                  </a:lnTo>
                  <a:lnTo>
                    <a:pt x="0" y="1882"/>
                  </a:lnTo>
                  <a:lnTo>
                    <a:pt x="0" y="1884"/>
                  </a:lnTo>
                  <a:lnTo>
                    <a:pt x="2" y="1886"/>
                  </a:lnTo>
                  <a:lnTo>
                    <a:pt x="2" y="1886"/>
                  </a:lnTo>
                  <a:lnTo>
                    <a:pt x="2" y="1888"/>
                  </a:lnTo>
                  <a:lnTo>
                    <a:pt x="2" y="1889"/>
                  </a:lnTo>
                  <a:close/>
                </a:path>
              </a:pathLst>
            </a:custGeom>
            <a:solidFill>
              <a:srgbClr val="49b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Freeform 346"/>
            <p:cNvSpPr/>
            <p:nvPr/>
          </p:nvSpPr>
          <p:spPr>
            <a:xfrm>
              <a:off x="5919480" y="1631520"/>
              <a:ext cx="1076040" cy="3263040"/>
            </a:xfrm>
            <a:custGeom>
              <a:avLst/>
              <a:gdLst>
                <a:gd name="textAreaLeft" fmla="*/ 0 w 1076040"/>
                <a:gd name="textAreaRight" fmla="*/ 1076040 w 1076040"/>
                <a:gd name="textAreaTop" fmla="*/ 0 h 3263040"/>
                <a:gd name="textAreaBottom" fmla="*/ 3263400 h 3263040"/>
              </a:gdLst>
              <a:ahLst/>
              <a:rect l="textAreaLeft" t="textAreaTop" r="textAreaRight" b="textAreaBottom"/>
              <a:pathLst>
                <a:path w="639" h="1938">
                  <a:moveTo>
                    <a:pt x="614" y="41"/>
                  </a:moveTo>
                  <a:lnTo>
                    <a:pt x="576" y="31"/>
                  </a:lnTo>
                  <a:lnTo>
                    <a:pt x="529" y="19"/>
                  </a:lnTo>
                  <a:lnTo>
                    <a:pt x="481" y="12"/>
                  </a:lnTo>
                  <a:lnTo>
                    <a:pt x="434" y="6"/>
                  </a:lnTo>
                  <a:lnTo>
                    <a:pt x="384" y="2"/>
                  </a:lnTo>
                  <a:lnTo>
                    <a:pt x="334" y="0"/>
                  </a:lnTo>
                  <a:lnTo>
                    <a:pt x="284" y="2"/>
                  </a:lnTo>
                  <a:lnTo>
                    <a:pt x="234" y="6"/>
                  </a:lnTo>
                  <a:lnTo>
                    <a:pt x="230" y="6"/>
                  </a:lnTo>
                  <a:lnTo>
                    <a:pt x="230" y="8"/>
                  </a:lnTo>
                  <a:lnTo>
                    <a:pt x="230" y="8"/>
                  </a:lnTo>
                  <a:lnTo>
                    <a:pt x="228" y="10"/>
                  </a:lnTo>
                  <a:lnTo>
                    <a:pt x="228" y="12"/>
                  </a:lnTo>
                  <a:lnTo>
                    <a:pt x="228" y="12"/>
                  </a:lnTo>
                  <a:lnTo>
                    <a:pt x="226" y="14"/>
                  </a:lnTo>
                  <a:lnTo>
                    <a:pt x="226" y="16"/>
                  </a:lnTo>
                  <a:lnTo>
                    <a:pt x="226" y="18"/>
                  </a:lnTo>
                  <a:lnTo>
                    <a:pt x="236" y="16"/>
                  </a:lnTo>
                  <a:lnTo>
                    <a:pt x="284" y="12"/>
                  </a:lnTo>
                  <a:lnTo>
                    <a:pt x="334" y="10"/>
                  </a:lnTo>
                  <a:lnTo>
                    <a:pt x="384" y="12"/>
                  </a:lnTo>
                  <a:lnTo>
                    <a:pt x="432" y="16"/>
                  </a:lnTo>
                  <a:lnTo>
                    <a:pt x="480" y="21"/>
                  </a:lnTo>
                  <a:lnTo>
                    <a:pt x="528" y="31"/>
                  </a:lnTo>
                  <a:lnTo>
                    <a:pt x="574" y="41"/>
                  </a:lnTo>
                  <a:lnTo>
                    <a:pt x="604" y="50"/>
                  </a:lnTo>
                  <a:lnTo>
                    <a:pt x="606" y="48"/>
                  </a:lnTo>
                  <a:lnTo>
                    <a:pt x="606" y="48"/>
                  </a:lnTo>
                  <a:lnTo>
                    <a:pt x="608" y="46"/>
                  </a:lnTo>
                  <a:lnTo>
                    <a:pt x="610" y="46"/>
                  </a:lnTo>
                  <a:lnTo>
                    <a:pt x="610" y="44"/>
                  </a:lnTo>
                  <a:lnTo>
                    <a:pt x="612" y="43"/>
                  </a:lnTo>
                  <a:lnTo>
                    <a:pt x="612" y="43"/>
                  </a:lnTo>
                  <a:lnTo>
                    <a:pt x="614" y="41"/>
                  </a:lnTo>
                  <a:close/>
                  <a:moveTo>
                    <a:pt x="2" y="1879"/>
                  </a:moveTo>
                  <a:lnTo>
                    <a:pt x="2" y="1879"/>
                  </a:lnTo>
                  <a:lnTo>
                    <a:pt x="46" y="1894"/>
                  </a:lnTo>
                  <a:lnTo>
                    <a:pt x="92" y="1907"/>
                  </a:lnTo>
                  <a:lnTo>
                    <a:pt x="138" y="1917"/>
                  </a:lnTo>
                  <a:lnTo>
                    <a:pt x="186" y="1927"/>
                  </a:lnTo>
                  <a:lnTo>
                    <a:pt x="234" y="1932"/>
                  </a:lnTo>
                  <a:lnTo>
                    <a:pt x="284" y="1936"/>
                  </a:lnTo>
                  <a:lnTo>
                    <a:pt x="334" y="1938"/>
                  </a:lnTo>
                  <a:lnTo>
                    <a:pt x="384" y="1936"/>
                  </a:lnTo>
                  <a:lnTo>
                    <a:pt x="434" y="1932"/>
                  </a:lnTo>
                  <a:lnTo>
                    <a:pt x="481" y="1927"/>
                  </a:lnTo>
                  <a:lnTo>
                    <a:pt x="529" y="1917"/>
                  </a:lnTo>
                  <a:lnTo>
                    <a:pt x="576" y="1907"/>
                  </a:lnTo>
                  <a:lnTo>
                    <a:pt x="622" y="1894"/>
                  </a:lnTo>
                  <a:lnTo>
                    <a:pt x="639" y="1888"/>
                  </a:lnTo>
                  <a:lnTo>
                    <a:pt x="637" y="1886"/>
                  </a:lnTo>
                  <a:lnTo>
                    <a:pt x="637" y="1886"/>
                  </a:lnTo>
                  <a:lnTo>
                    <a:pt x="635" y="1884"/>
                  </a:lnTo>
                  <a:lnTo>
                    <a:pt x="635" y="1884"/>
                  </a:lnTo>
                  <a:lnTo>
                    <a:pt x="633" y="1883"/>
                  </a:lnTo>
                  <a:lnTo>
                    <a:pt x="631" y="1883"/>
                  </a:lnTo>
                  <a:lnTo>
                    <a:pt x="631" y="1881"/>
                  </a:lnTo>
                  <a:lnTo>
                    <a:pt x="629" y="1881"/>
                  </a:lnTo>
                  <a:lnTo>
                    <a:pt x="620" y="1884"/>
                  </a:lnTo>
                  <a:lnTo>
                    <a:pt x="574" y="1896"/>
                  </a:lnTo>
                  <a:lnTo>
                    <a:pt x="528" y="1907"/>
                  </a:lnTo>
                  <a:lnTo>
                    <a:pt x="480" y="1915"/>
                  </a:lnTo>
                  <a:lnTo>
                    <a:pt x="432" y="1921"/>
                  </a:lnTo>
                  <a:lnTo>
                    <a:pt x="384" y="1925"/>
                  </a:lnTo>
                  <a:lnTo>
                    <a:pt x="334" y="1927"/>
                  </a:lnTo>
                  <a:lnTo>
                    <a:pt x="284" y="1925"/>
                  </a:lnTo>
                  <a:lnTo>
                    <a:pt x="236" y="1921"/>
                  </a:lnTo>
                  <a:lnTo>
                    <a:pt x="188" y="1915"/>
                  </a:lnTo>
                  <a:lnTo>
                    <a:pt x="140" y="1907"/>
                  </a:lnTo>
                  <a:lnTo>
                    <a:pt x="94" y="1896"/>
                  </a:lnTo>
                  <a:lnTo>
                    <a:pt x="50" y="1884"/>
                  </a:lnTo>
                  <a:lnTo>
                    <a:pt x="4" y="1869"/>
                  </a:lnTo>
                  <a:lnTo>
                    <a:pt x="0" y="1867"/>
                  </a:lnTo>
                  <a:lnTo>
                    <a:pt x="0" y="1867"/>
                  </a:lnTo>
                  <a:lnTo>
                    <a:pt x="0" y="1869"/>
                  </a:lnTo>
                  <a:lnTo>
                    <a:pt x="0" y="1871"/>
                  </a:lnTo>
                  <a:lnTo>
                    <a:pt x="0" y="1873"/>
                  </a:lnTo>
                  <a:lnTo>
                    <a:pt x="0" y="1875"/>
                  </a:lnTo>
                  <a:lnTo>
                    <a:pt x="0" y="1875"/>
                  </a:lnTo>
                  <a:lnTo>
                    <a:pt x="0" y="1877"/>
                  </a:lnTo>
                  <a:lnTo>
                    <a:pt x="2" y="1879"/>
                  </a:lnTo>
                  <a:close/>
                </a:path>
              </a:pathLst>
            </a:custGeom>
            <a:solidFill>
              <a:srgbClr val="4ab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Freeform 347"/>
            <p:cNvSpPr/>
            <p:nvPr/>
          </p:nvSpPr>
          <p:spPr>
            <a:xfrm>
              <a:off x="5916240" y="1641960"/>
              <a:ext cx="1072440" cy="3242880"/>
            </a:xfrm>
            <a:custGeom>
              <a:avLst/>
              <a:gdLst>
                <a:gd name="textAreaLeft" fmla="*/ 0 w 1072440"/>
                <a:gd name="textAreaRight" fmla="*/ 1072800 w 1072440"/>
                <a:gd name="textAreaTop" fmla="*/ 0 h 3242880"/>
                <a:gd name="textAreaBottom" fmla="*/ 3243240 h 3242880"/>
              </a:gdLst>
              <a:ahLst/>
              <a:rect l="textAreaLeft" t="textAreaTop" r="textAreaRight" b="textAreaBottom"/>
              <a:pathLst>
                <a:path w="637" h="1926">
                  <a:moveTo>
                    <a:pt x="612" y="40"/>
                  </a:moveTo>
                  <a:lnTo>
                    <a:pt x="578" y="29"/>
                  </a:lnTo>
                  <a:lnTo>
                    <a:pt x="530" y="19"/>
                  </a:lnTo>
                  <a:lnTo>
                    <a:pt x="483" y="10"/>
                  </a:lnTo>
                  <a:lnTo>
                    <a:pt x="434" y="4"/>
                  </a:lnTo>
                  <a:lnTo>
                    <a:pt x="386" y="0"/>
                  </a:lnTo>
                  <a:lnTo>
                    <a:pt x="336" y="0"/>
                  </a:lnTo>
                  <a:lnTo>
                    <a:pt x="286" y="0"/>
                  </a:lnTo>
                  <a:lnTo>
                    <a:pt x="238" y="4"/>
                  </a:lnTo>
                  <a:lnTo>
                    <a:pt x="230" y="6"/>
                  </a:lnTo>
                  <a:lnTo>
                    <a:pt x="230" y="6"/>
                  </a:lnTo>
                  <a:lnTo>
                    <a:pt x="228" y="8"/>
                  </a:lnTo>
                  <a:lnTo>
                    <a:pt x="228" y="10"/>
                  </a:lnTo>
                  <a:lnTo>
                    <a:pt x="228" y="12"/>
                  </a:lnTo>
                  <a:lnTo>
                    <a:pt x="226" y="12"/>
                  </a:lnTo>
                  <a:lnTo>
                    <a:pt x="226" y="13"/>
                  </a:lnTo>
                  <a:lnTo>
                    <a:pt x="226" y="15"/>
                  </a:lnTo>
                  <a:lnTo>
                    <a:pt x="226" y="17"/>
                  </a:lnTo>
                  <a:lnTo>
                    <a:pt x="238" y="15"/>
                  </a:lnTo>
                  <a:lnTo>
                    <a:pt x="288" y="12"/>
                  </a:lnTo>
                  <a:lnTo>
                    <a:pt x="336" y="10"/>
                  </a:lnTo>
                  <a:lnTo>
                    <a:pt x="386" y="12"/>
                  </a:lnTo>
                  <a:lnTo>
                    <a:pt x="434" y="15"/>
                  </a:lnTo>
                  <a:lnTo>
                    <a:pt x="482" y="21"/>
                  </a:lnTo>
                  <a:lnTo>
                    <a:pt x="528" y="29"/>
                  </a:lnTo>
                  <a:lnTo>
                    <a:pt x="574" y="40"/>
                  </a:lnTo>
                  <a:lnTo>
                    <a:pt x="602" y="48"/>
                  </a:lnTo>
                  <a:lnTo>
                    <a:pt x="604" y="48"/>
                  </a:lnTo>
                  <a:lnTo>
                    <a:pt x="604" y="46"/>
                  </a:lnTo>
                  <a:lnTo>
                    <a:pt x="606" y="44"/>
                  </a:lnTo>
                  <a:lnTo>
                    <a:pt x="606" y="44"/>
                  </a:lnTo>
                  <a:lnTo>
                    <a:pt x="608" y="42"/>
                  </a:lnTo>
                  <a:lnTo>
                    <a:pt x="608" y="42"/>
                  </a:lnTo>
                  <a:lnTo>
                    <a:pt x="610" y="40"/>
                  </a:lnTo>
                  <a:lnTo>
                    <a:pt x="612" y="40"/>
                  </a:lnTo>
                  <a:close/>
                  <a:moveTo>
                    <a:pt x="2" y="1867"/>
                  </a:moveTo>
                  <a:lnTo>
                    <a:pt x="4" y="1867"/>
                  </a:lnTo>
                  <a:lnTo>
                    <a:pt x="50" y="1882"/>
                  </a:lnTo>
                  <a:lnTo>
                    <a:pt x="96" y="1896"/>
                  </a:lnTo>
                  <a:lnTo>
                    <a:pt x="142" y="1907"/>
                  </a:lnTo>
                  <a:lnTo>
                    <a:pt x="190" y="1915"/>
                  </a:lnTo>
                  <a:lnTo>
                    <a:pt x="238" y="1921"/>
                  </a:lnTo>
                  <a:lnTo>
                    <a:pt x="286" y="1924"/>
                  </a:lnTo>
                  <a:lnTo>
                    <a:pt x="336" y="1926"/>
                  </a:lnTo>
                  <a:lnTo>
                    <a:pt x="386" y="1924"/>
                  </a:lnTo>
                  <a:lnTo>
                    <a:pt x="434" y="1921"/>
                  </a:lnTo>
                  <a:lnTo>
                    <a:pt x="483" y="1915"/>
                  </a:lnTo>
                  <a:lnTo>
                    <a:pt x="530" y="1907"/>
                  </a:lnTo>
                  <a:lnTo>
                    <a:pt x="578" y="1896"/>
                  </a:lnTo>
                  <a:lnTo>
                    <a:pt x="622" y="1882"/>
                  </a:lnTo>
                  <a:lnTo>
                    <a:pt x="637" y="1878"/>
                  </a:lnTo>
                  <a:lnTo>
                    <a:pt x="635" y="1877"/>
                  </a:lnTo>
                  <a:lnTo>
                    <a:pt x="633" y="1877"/>
                  </a:lnTo>
                  <a:lnTo>
                    <a:pt x="633" y="1875"/>
                  </a:lnTo>
                  <a:lnTo>
                    <a:pt x="631" y="1875"/>
                  </a:lnTo>
                  <a:lnTo>
                    <a:pt x="631" y="1873"/>
                  </a:lnTo>
                  <a:lnTo>
                    <a:pt x="629" y="1873"/>
                  </a:lnTo>
                  <a:lnTo>
                    <a:pt x="629" y="1871"/>
                  </a:lnTo>
                  <a:lnTo>
                    <a:pt x="627" y="1871"/>
                  </a:lnTo>
                  <a:lnTo>
                    <a:pt x="620" y="1873"/>
                  </a:lnTo>
                  <a:lnTo>
                    <a:pt x="574" y="1886"/>
                  </a:lnTo>
                  <a:lnTo>
                    <a:pt x="528" y="1896"/>
                  </a:lnTo>
                  <a:lnTo>
                    <a:pt x="482" y="1905"/>
                  </a:lnTo>
                  <a:lnTo>
                    <a:pt x="434" y="1911"/>
                  </a:lnTo>
                  <a:lnTo>
                    <a:pt x="386" y="1915"/>
                  </a:lnTo>
                  <a:lnTo>
                    <a:pt x="336" y="1915"/>
                  </a:lnTo>
                  <a:lnTo>
                    <a:pt x="288" y="1915"/>
                  </a:lnTo>
                  <a:lnTo>
                    <a:pt x="238" y="1911"/>
                  </a:lnTo>
                  <a:lnTo>
                    <a:pt x="190" y="1905"/>
                  </a:lnTo>
                  <a:lnTo>
                    <a:pt x="144" y="1896"/>
                  </a:lnTo>
                  <a:lnTo>
                    <a:pt x="98" y="1886"/>
                  </a:lnTo>
                  <a:lnTo>
                    <a:pt x="52" y="1873"/>
                  </a:lnTo>
                  <a:lnTo>
                    <a:pt x="7" y="1857"/>
                  </a:lnTo>
                  <a:lnTo>
                    <a:pt x="0" y="1854"/>
                  </a:lnTo>
                  <a:lnTo>
                    <a:pt x="0" y="1855"/>
                  </a:lnTo>
                  <a:lnTo>
                    <a:pt x="0" y="1857"/>
                  </a:lnTo>
                  <a:lnTo>
                    <a:pt x="0" y="1859"/>
                  </a:lnTo>
                  <a:lnTo>
                    <a:pt x="2" y="1861"/>
                  </a:lnTo>
                  <a:lnTo>
                    <a:pt x="2" y="1861"/>
                  </a:lnTo>
                  <a:lnTo>
                    <a:pt x="2" y="1863"/>
                  </a:lnTo>
                  <a:lnTo>
                    <a:pt x="2" y="1865"/>
                  </a:lnTo>
                  <a:lnTo>
                    <a:pt x="2" y="1867"/>
                  </a:lnTo>
                  <a:close/>
                </a:path>
              </a:pathLst>
            </a:custGeom>
            <a:solidFill>
              <a:srgbClr val="4bb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Freeform 348"/>
            <p:cNvSpPr/>
            <p:nvPr/>
          </p:nvSpPr>
          <p:spPr>
            <a:xfrm>
              <a:off x="5916240" y="1648440"/>
              <a:ext cx="1062720" cy="3228120"/>
            </a:xfrm>
            <a:custGeom>
              <a:avLst/>
              <a:gdLst>
                <a:gd name="textAreaLeft" fmla="*/ 0 w 1062720"/>
                <a:gd name="textAreaRight" fmla="*/ 1063080 w 1062720"/>
                <a:gd name="textAreaTop" fmla="*/ 0 h 3228120"/>
                <a:gd name="textAreaBottom" fmla="*/ 3228480 h 3228120"/>
              </a:gdLst>
              <a:ahLst/>
              <a:rect l="textAreaLeft" t="textAreaTop" r="textAreaRight" b="textAreaBottom"/>
              <a:pathLst>
                <a:path w="631" h="1917">
                  <a:moveTo>
                    <a:pt x="606" y="40"/>
                  </a:moveTo>
                  <a:lnTo>
                    <a:pt x="576" y="31"/>
                  </a:lnTo>
                  <a:lnTo>
                    <a:pt x="530" y="21"/>
                  </a:lnTo>
                  <a:lnTo>
                    <a:pt x="482" y="11"/>
                  </a:lnTo>
                  <a:lnTo>
                    <a:pt x="434" y="6"/>
                  </a:lnTo>
                  <a:lnTo>
                    <a:pt x="386" y="2"/>
                  </a:lnTo>
                  <a:lnTo>
                    <a:pt x="336" y="0"/>
                  </a:lnTo>
                  <a:lnTo>
                    <a:pt x="286" y="2"/>
                  </a:lnTo>
                  <a:lnTo>
                    <a:pt x="238" y="6"/>
                  </a:lnTo>
                  <a:lnTo>
                    <a:pt x="228" y="8"/>
                  </a:lnTo>
                  <a:lnTo>
                    <a:pt x="226" y="8"/>
                  </a:lnTo>
                  <a:lnTo>
                    <a:pt x="226" y="9"/>
                  </a:lnTo>
                  <a:lnTo>
                    <a:pt x="226" y="11"/>
                  </a:lnTo>
                  <a:lnTo>
                    <a:pt x="226" y="13"/>
                  </a:lnTo>
                  <a:lnTo>
                    <a:pt x="224" y="13"/>
                  </a:lnTo>
                  <a:lnTo>
                    <a:pt x="224" y="15"/>
                  </a:lnTo>
                  <a:lnTo>
                    <a:pt x="224" y="17"/>
                  </a:lnTo>
                  <a:lnTo>
                    <a:pt x="222" y="19"/>
                  </a:lnTo>
                  <a:lnTo>
                    <a:pt x="240" y="17"/>
                  </a:lnTo>
                  <a:lnTo>
                    <a:pt x="288" y="13"/>
                  </a:lnTo>
                  <a:lnTo>
                    <a:pt x="336" y="11"/>
                  </a:lnTo>
                  <a:lnTo>
                    <a:pt x="384" y="13"/>
                  </a:lnTo>
                  <a:lnTo>
                    <a:pt x="434" y="17"/>
                  </a:lnTo>
                  <a:lnTo>
                    <a:pt x="480" y="23"/>
                  </a:lnTo>
                  <a:lnTo>
                    <a:pt x="528" y="31"/>
                  </a:lnTo>
                  <a:lnTo>
                    <a:pt x="572" y="42"/>
                  </a:lnTo>
                  <a:lnTo>
                    <a:pt x="599" y="48"/>
                  </a:lnTo>
                  <a:lnTo>
                    <a:pt x="599" y="48"/>
                  </a:lnTo>
                  <a:lnTo>
                    <a:pt x="601" y="46"/>
                  </a:lnTo>
                  <a:lnTo>
                    <a:pt x="601" y="46"/>
                  </a:lnTo>
                  <a:lnTo>
                    <a:pt x="602" y="44"/>
                  </a:lnTo>
                  <a:lnTo>
                    <a:pt x="604" y="44"/>
                  </a:lnTo>
                  <a:lnTo>
                    <a:pt x="604" y="42"/>
                  </a:lnTo>
                  <a:lnTo>
                    <a:pt x="606" y="40"/>
                  </a:lnTo>
                  <a:lnTo>
                    <a:pt x="606" y="40"/>
                  </a:lnTo>
                  <a:close/>
                  <a:moveTo>
                    <a:pt x="2" y="1857"/>
                  </a:moveTo>
                  <a:lnTo>
                    <a:pt x="6" y="1859"/>
                  </a:lnTo>
                  <a:lnTo>
                    <a:pt x="52" y="1874"/>
                  </a:lnTo>
                  <a:lnTo>
                    <a:pt x="96" y="1886"/>
                  </a:lnTo>
                  <a:lnTo>
                    <a:pt x="142" y="1897"/>
                  </a:lnTo>
                  <a:lnTo>
                    <a:pt x="190" y="1905"/>
                  </a:lnTo>
                  <a:lnTo>
                    <a:pt x="238" y="1911"/>
                  </a:lnTo>
                  <a:lnTo>
                    <a:pt x="286" y="1915"/>
                  </a:lnTo>
                  <a:lnTo>
                    <a:pt x="336" y="1917"/>
                  </a:lnTo>
                  <a:lnTo>
                    <a:pt x="386" y="1915"/>
                  </a:lnTo>
                  <a:lnTo>
                    <a:pt x="434" y="1911"/>
                  </a:lnTo>
                  <a:lnTo>
                    <a:pt x="482" y="1905"/>
                  </a:lnTo>
                  <a:lnTo>
                    <a:pt x="530" y="1897"/>
                  </a:lnTo>
                  <a:lnTo>
                    <a:pt x="576" y="1886"/>
                  </a:lnTo>
                  <a:lnTo>
                    <a:pt x="622" y="1874"/>
                  </a:lnTo>
                  <a:lnTo>
                    <a:pt x="631" y="1871"/>
                  </a:lnTo>
                  <a:lnTo>
                    <a:pt x="631" y="1869"/>
                  </a:lnTo>
                  <a:lnTo>
                    <a:pt x="629" y="1869"/>
                  </a:lnTo>
                  <a:lnTo>
                    <a:pt x="629" y="1867"/>
                  </a:lnTo>
                  <a:lnTo>
                    <a:pt x="627" y="1867"/>
                  </a:lnTo>
                  <a:lnTo>
                    <a:pt x="626" y="1865"/>
                  </a:lnTo>
                  <a:lnTo>
                    <a:pt x="626" y="1863"/>
                  </a:lnTo>
                  <a:lnTo>
                    <a:pt x="624" y="1863"/>
                  </a:lnTo>
                  <a:lnTo>
                    <a:pt x="624" y="1861"/>
                  </a:lnTo>
                  <a:lnTo>
                    <a:pt x="618" y="1863"/>
                  </a:lnTo>
                  <a:lnTo>
                    <a:pt x="572" y="1876"/>
                  </a:lnTo>
                  <a:lnTo>
                    <a:pt x="528" y="1886"/>
                  </a:lnTo>
                  <a:lnTo>
                    <a:pt x="480" y="1896"/>
                  </a:lnTo>
                  <a:lnTo>
                    <a:pt x="434" y="1901"/>
                  </a:lnTo>
                  <a:lnTo>
                    <a:pt x="384" y="1905"/>
                  </a:lnTo>
                  <a:lnTo>
                    <a:pt x="336" y="1907"/>
                  </a:lnTo>
                  <a:lnTo>
                    <a:pt x="288" y="1905"/>
                  </a:lnTo>
                  <a:lnTo>
                    <a:pt x="240" y="1901"/>
                  </a:lnTo>
                  <a:lnTo>
                    <a:pt x="192" y="1896"/>
                  </a:lnTo>
                  <a:lnTo>
                    <a:pt x="146" y="1886"/>
                  </a:lnTo>
                  <a:lnTo>
                    <a:pt x="100" y="1876"/>
                  </a:lnTo>
                  <a:lnTo>
                    <a:pt x="54" y="1863"/>
                  </a:lnTo>
                  <a:lnTo>
                    <a:pt x="9" y="1850"/>
                  </a:lnTo>
                  <a:lnTo>
                    <a:pt x="0" y="1844"/>
                  </a:lnTo>
                  <a:lnTo>
                    <a:pt x="0" y="1846"/>
                  </a:lnTo>
                  <a:lnTo>
                    <a:pt x="0" y="1848"/>
                  </a:lnTo>
                  <a:lnTo>
                    <a:pt x="0" y="1850"/>
                  </a:lnTo>
                  <a:lnTo>
                    <a:pt x="0" y="1850"/>
                  </a:lnTo>
                  <a:lnTo>
                    <a:pt x="0" y="1851"/>
                  </a:lnTo>
                  <a:lnTo>
                    <a:pt x="0" y="1853"/>
                  </a:lnTo>
                  <a:lnTo>
                    <a:pt x="0" y="1855"/>
                  </a:lnTo>
                  <a:lnTo>
                    <a:pt x="2" y="1857"/>
                  </a:lnTo>
                  <a:close/>
                </a:path>
              </a:pathLst>
            </a:custGeom>
            <a:solidFill>
              <a:srgbClr val="4cb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Freeform 349"/>
            <p:cNvSpPr/>
            <p:nvPr/>
          </p:nvSpPr>
          <p:spPr>
            <a:xfrm>
              <a:off x="5912640" y="1658520"/>
              <a:ext cx="1059120" cy="3207600"/>
            </a:xfrm>
            <a:custGeom>
              <a:avLst/>
              <a:gdLst>
                <a:gd name="textAreaLeft" fmla="*/ 0 w 1059120"/>
                <a:gd name="textAreaRight" fmla="*/ 1059480 w 1059120"/>
                <a:gd name="textAreaTop" fmla="*/ 0 h 3207600"/>
                <a:gd name="textAreaBottom" fmla="*/ 3207960 h 3207600"/>
              </a:gdLst>
              <a:ahLst/>
              <a:rect l="textAreaLeft" t="textAreaTop" r="textAreaRight" b="textAreaBottom"/>
              <a:pathLst>
                <a:path w="629" h="1905">
                  <a:moveTo>
                    <a:pt x="604" y="38"/>
                  </a:moveTo>
                  <a:lnTo>
                    <a:pt x="576" y="30"/>
                  </a:lnTo>
                  <a:lnTo>
                    <a:pt x="530" y="19"/>
                  </a:lnTo>
                  <a:lnTo>
                    <a:pt x="484" y="11"/>
                  </a:lnTo>
                  <a:lnTo>
                    <a:pt x="436" y="5"/>
                  </a:lnTo>
                  <a:lnTo>
                    <a:pt x="388" y="2"/>
                  </a:lnTo>
                  <a:lnTo>
                    <a:pt x="338" y="0"/>
                  </a:lnTo>
                  <a:lnTo>
                    <a:pt x="290" y="2"/>
                  </a:lnTo>
                  <a:lnTo>
                    <a:pt x="240" y="5"/>
                  </a:lnTo>
                  <a:lnTo>
                    <a:pt x="228" y="7"/>
                  </a:lnTo>
                  <a:lnTo>
                    <a:pt x="226" y="7"/>
                  </a:lnTo>
                  <a:lnTo>
                    <a:pt x="226" y="9"/>
                  </a:lnTo>
                  <a:lnTo>
                    <a:pt x="226" y="11"/>
                  </a:lnTo>
                  <a:lnTo>
                    <a:pt x="224" y="13"/>
                  </a:lnTo>
                  <a:lnTo>
                    <a:pt x="224" y="13"/>
                  </a:lnTo>
                  <a:lnTo>
                    <a:pt x="224" y="15"/>
                  </a:lnTo>
                  <a:lnTo>
                    <a:pt x="223" y="17"/>
                  </a:lnTo>
                  <a:lnTo>
                    <a:pt x="223" y="19"/>
                  </a:lnTo>
                  <a:lnTo>
                    <a:pt x="242" y="15"/>
                  </a:lnTo>
                  <a:lnTo>
                    <a:pt x="290" y="11"/>
                  </a:lnTo>
                  <a:lnTo>
                    <a:pt x="338" y="11"/>
                  </a:lnTo>
                  <a:lnTo>
                    <a:pt x="386" y="11"/>
                  </a:lnTo>
                  <a:lnTo>
                    <a:pt x="434" y="15"/>
                  </a:lnTo>
                  <a:lnTo>
                    <a:pt x="482" y="21"/>
                  </a:lnTo>
                  <a:lnTo>
                    <a:pt x="528" y="30"/>
                  </a:lnTo>
                  <a:lnTo>
                    <a:pt x="574" y="40"/>
                  </a:lnTo>
                  <a:lnTo>
                    <a:pt x="597" y="48"/>
                  </a:lnTo>
                  <a:lnTo>
                    <a:pt x="597" y="46"/>
                  </a:lnTo>
                  <a:lnTo>
                    <a:pt x="599" y="44"/>
                  </a:lnTo>
                  <a:lnTo>
                    <a:pt x="599" y="44"/>
                  </a:lnTo>
                  <a:lnTo>
                    <a:pt x="601" y="42"/>
                  </a:lnTo>
                  <a:lnTo>
                    <a:pt x="601" y="42"/>
                  </a:lnTo>
                  <a:lnTo>
                    <a:pt x="603" y="40"/>
                  </a:lnTo>
                  <a:lnTo>
                    <a:pt x="603" y="40"/>
                  </a:lnTo>
                  <a:lnTo>
                    <a:pt x="604" y="38"/>
                  </a:lnTo>
                  <a:close/>
                  <a:moveTo>
                    <a:pt x="2" y="1844"/>
                  </a:moveTo>
                  <a:lnTo>
                    <a:pt x="9" y="1847"/>
                  </a:lnTo>
                  <a:lnTo>
                    <a:pt x="54" y="1863"/>
                  </a:lnTo>
                  <a:lnTo>
                    <a:pt x="100" y="1876"/>
                  </a:lnTo>
                  <a:lnTo>
                    <a:pt x="146" y="1886"/>
                  </a:lnTo>
                  <a:lnTo>
                    <a:pt x="192" y="1895"/>
                  </a:lnTo>
                  <a:lnTo>
                    <a:pt x="240" y="1901"/>
                  </a:lnTo>
                  <a:lnTo>
                    <a:pt x="290" y="1905"/>
                  </a:lnTo>
                  <a:lnTo>
                    <a:pt x="338" y="1905"/>
                  </a:lnTo>
                  <a:lnTo>
                    <a:pt x="388" y="1905"/>
                  </a:lnTo>
                  <a:lnTo>
                    <a:pt x="436" y="1901"/>
                  </a:lnTo>
                  <a:lnTo>
                    <a:pt x="484" y="1895"/>
                  </a:lnTo>
                  <a:lnTo>
                    <a:pt x="530" y="1886"/>
                  </a:lnTo>
                  <a:lnTo>
                    <a:pt x="576" y="1876"/>
                  </a:lnTo>
                  <a:lnTo>
                    <a:pt x="622" y="1863"/>
                  </a:lnTo>
                  <a:lnTo>
                    <a:pt x="629" y="1861"/>
                  </a:lnTo>
                  <a:lnTo>
                    <a:pt x="628" y="1859"/>
                  </a:lnTo>
                  <a:lnTo>
                    <a:pt x="628" y="1857"/>
                  </a:lnTo>
                  <a:lnTo>
                    <a:pt x="626" y="1857"/>
                  </a:lnTo>
                  <a:lnTo>
                    <a:pt x="626" y="1855"/>
                  </a:lnTo>
                  <a:lnTo>
                    <a:pt x="624" y="1855"/>
                  </a:lnTo>
                  <a:lnTo>
                    <a:pt x="624" y="1853"/>
                  </a:lnTo>
                  <a:lnTo>
                    <a:pt x="622" y="1853"/>
                  </a:lnTo>
                  <a:lnTo>
                    <a:pt x="620" y="1851"/>
                  </a:lnTo>
                  <a:lnTo>
                    <a:pt x="618" y="1853"/>
                  </a:lnTo>
                  <a:lnTo>
                    <a:pt x="574" y="1865"/>
                  </a:lnTo>
                  <a:lnTo>
                    <a:pt x="528" y="1876"/>
                  </a:lnTo>
                  <a:lnTo>
                    <a:pt x="482" y="1884"/>
                  </a:lnTo>
                  <a:lnTo>
                    <a:pt x="434" y="1890"/>
                  </a:lnTo>
                  <a:lnTo>
                    <a:pt x="386" y="1893"/>
                  </a:lnTo>
                  <a:lnTo>
                    <a:pt x="338" y="1895"/>
                  </a:lnTo>
                  <a:lnTo>
                    <a:pt x="290" y="1893"/>
                  </a:lnTo>
                  <a:lnTo>
                    <a:pt x="242" y="1890"/>
                  </a:lnTo>
                  <a:lnTo>
                    <a:pt x="194" y="1884"/>
                  </a:lnTo>
                  <a:lnTo>
                    <a:pt x="148" y="1876"/>
                  </a:lnTo>
                  <a:lnTo>
                    <a:pt x="102" y="1865"/>
                  </a:lnTo>
                  <a:lnTo>
                    <a:pt x="57" y="1853"/>
                  </a:lnTo>
                  <a:lnTo>
                    <a:pt x="13" y="1838"/>
                  </a:lnTo>
                  <a:lnTo>
                    <a:pt x="0" y="1832"/>
                  </a:lnTo>
                  <a:lnTo>
                    <a:pt x="0" y="1834"/>
                  </a:lnTo>
                  <a:lnTo>
                    <a:pt x="0" y="1836"/>
                  </a:lnTo>
                  <a:lnTo>
                    <a:pt x="2" y="1838"/>
                  </a:lnTo>
                  <a:lnTo>
                    <a:pt x="2" y="1838"/>
                  </a:lnTo>
                  <a:lnTo>
                    <a:pt x="2" y="1840"/>
                  </a:lnTo>
                  <a:lnTo>
                    <a:pt x="2" y="1842"/>
                  </a:lnTo>
                  <a:lnTo>
                    <a:pt x="2" y="1844"/>
                  </a:lnTo>
                  <a:lnTo>
                    <a:pt x="2" y="1844"/>
                  </a:lnTo>
                  <a:close/>
                </a:path>
              </a:pathLst>
            </a:custGeom>
            <a:solidFill>
              <a:srgbClr val="4db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Freeform 350"/>
            <p:cNvSpPr/>
            <p:nvPr/>
          </p:nvSpPr>
          <p:spPr>
            <a:xfrm>
              <a:off x="5912640" y="1667160"/>
              <a:ext cx="1054080" cy="3192480"/>
            </a:xfrm>
            <a:custGeom>
              <a:avLst/>
              <a:gdLst>
                <a:gd name="textAreaLeft" fmla="*/ 0 w 1054080"/>
                <a:gd name="textAreaRight" fmla="*/ 1054440 w 1054080"/>
                <a:gd name="textAreaTop" fmla="*/ 0 h 3192480"/>
                <a:gd name="textAreaBottom" fmla="*/ 3192840 h 3192480"/>
              </a:gdLst>
              <a:ahLst/>
              <a:rect l="textAreaLeft" t="textAreaTop" r="textAreaRight" b="textAreaBottom"/>
              <a:pathLst>
                <a:path w="626" h="1896">
                  <a:moveTo>
                    <a:pt x="601" y="37"/>
                  </a:moveTo>
                  <a:lnTo>
                    <a:pt x="574" y="31"/>
                  </a:lnTo>
                  <a:lnTo>
                    <a:pt x="530" y="20"/>
                  </a:lnTo>
                  <a:lnTo>
                    <a:pt x="482" y="12"/>
                  </a:lnTo>
                  <a:lnTo>
                    <a:pt x="436" y="6"/>
                  </a:lnTo>
                  <a:lnTo>
                    <a:pt x="386" y="2"/>
                  </a:lnTo>
                  <a:lnTo>
                    <a:pt x="338" y="0"/>
                  </a:lnTo>
                  <a:lnTo>
                    <a:pt x="290" y="2"/>
                  </a:lnTo>
                  <a:lnTo>
                    <a:pt x="242" y="6"/>
                  </a:lnTo>
                  <a:lnTo>
                    <a:pt x="224" y="8"/>
                  </a:lnTo>
                  <a:lnTo>
                    <a:pt x="224" y="8"/>
                  </a:lnTo>
                  <a:lnTo>
                    <a:pt x="224" y="10"/>
                  </a:lnTo>
                  <a:lnTo>
                    <a:pt x="223" y="12"/>
                  </a:lnTo>
                  <a:lnTo>
                    <a:pt x="223" y="14"/>
                  </a:lnTo>
                  <a:lnTo>
                    <a:pt x="223" y="14"/>
                  </a:lnTo>
                  <a:lnTo>
                    <a:pt x="223" y="16"/>
                  </a:lnTo>
                  <a:lnTo>
                    <a:pt x="221" y="18"/>
                  </a:lnTo>
                  <a:lnTo>
                    <a:pt x="221" y="18"/>
                  </a:lnTo>
                  <a:lnTo>
                    <a:pt x="242" y="16"/>
                  </a:lnTo>
                  <a:lnTo>
                    <a:pt x="290" y="12"/>
                  </a:lnTo>
                  <a:lnTo>
                    <a:pt x="338" y="12"/>
                  </a:lnTo>
                  <a:lnTo>
                    <a:pt x="386" y="12"/>
                  </a:lnTo>
                  <a:lnTo>
                    <a:pt x="434" y="16"/>
                  </a:lnTo>
                  <a:lnTo>
                    <a:pt x="480" y="22"/>
                  </a:lnTo>
                  <a:lnTo>
                    <a:pt x="526" y="29"/>
                  </a:lnTo>
                  <a:lnTo>
                    <a:pt x="572" y="41"/>
                  </a:lnTo>
                  <a:lnTo>
                    <a:pt x="591" y="46"/>
                  </a:lnTo>
                  <a:lnTo>
                    <a:pt x="593" y="45"/>
                  </a:lnTo>
                  <a:lnTo>
                    <a:pt x="593" y="45"/>
                  </a:lnTo>
                  <a:lnTo>
                    <a:pt x="595" y="43"/>
                  </a:lnTo>
                  <a:lnTo>
                    <a:pt x="597" y="43"/>
                  </a:lnTo>
                  <a:lnTo>
                    <a:pt x="597" y="41"/>
                  </a:lnTo>
                  <a:lnTo>
                    <a:pt x="599" y="39"/>
                  </a:lnTo>
                  <a:lnTo>
                    <a:pt x="599" y="39"/>
                  </a:lnTo>
                  <a:lnTo>
                    <a:pt x="601" y="37"/>
                  </a:lnTo>
                  <a:close/>
                  <a:moveTo>
                    <a:pt x="2" y="1833"/>
                  </a:moveTo>
                  <a:lnTo>
                    <a:pt x="11" y="1839"/>
                  </a:lnTo>
                  <a:lnTo>
                    <a:pt x="56" y="1852"/>
                  </a:lnTo>
                  <a:lnTo>
                    <a:pt x="102" y="1865"/>
                  </a:lnTo>
                  <a:lnTo>
                    <a:pt x="148" y="1875"/>
                  </a:lnTo>
                  <a:lnTo>
                    <a:pt x="194" y="1885"/>
                  </a:lnTo>
                  <a:lnTo>
                    <a:pt x="242" y="1890"/>
                  </a:lnTo>
                  <a:lnTo>
                    <a:pt x="290" y="1894"/>
                  </a:lnTo>
                  <a:lnTo>
                    <a:pt x="338" y="1896"/>
                  </a:lnTo>
                  <a:lnTo>
                    <a:pt x="386" y="1894"/>
                  </a:lnTo>
                  <a:lnTo>
                    <a:pt x="436" y="1890"/>
                  </a:lnTo>
                  <a:lnTo>
                    <a:pt x="482" y="1885"/>
                  </a:lnTo>
                  <a:lnTo>
                    <a:pt x="530" y="1875"/>
                  </a:lnTo>
                  <a:lnTo>
                    <a:pt x="574" y="1865"/>
                  </a:lnTo>
                  <a:lnTo>
                    <a:pt x="620" y="1852"/>
                  </a:lnTo>
                  <a:lnTo>
                    <a:pt x="626" y="1850"/>
                  </a:lnTo>
                  <a:lnTo>
                    <a:pt x="624" y="1850"/>
                  </a:lnTo>
                  <a:lnTo>
                    <a:pt x="624" y="1848"/>
                  </a:lnTo>
                  <a:lnTo>
                    <a:pt x="622" y="1848"/>
                  </a:lnTo>
                  <a:lnTo>
                    <a:pt x="620" y="1846"/>
                  </a:lnTo>
                  <a:lnTo>
                    <a:pt x="620" y="1846"/>
                  </a:lnTo>
                  <a:lnTo>
                    <a:pt x="618" y="1844"/>
                  </a:lnTo>
                  <a:lnTo>
                    <a:pt x="618" y="1844"/>
                  </a:lnTo>
                  <a:lnTo>
                    <a:pt x="616" y="1842"/>
                  </a:lnTo>
                  <a:lnTo>
                    <a:pt x="572" y="1856"/>
                  </a:lnTo>
                  <a:lnTo>
                    <a:pt x="526" y="1865"/>
                  </a:lnTo>
                  <a:lnTo>
                    <a:pt x="480" y="1873"/>
                  </a:lnTo>
                  <a:lnTo>
                    <a:pt x="434" y="1879"/>
                  </a:lnTo>
                  <a:lnTo>
                    <a:pt x="386" y="1883"/>
                  </a:lnTo>
                  <a:lnTo>
                    <a:pt x="338" y="1885"/>
                  </a:lnTo>
                  <a:lnTo>
                    <a:pt x="290" y="1883"/>
                  </a:lnTo>
                  <a:lnTo>
                    <a:pt x="242" y="1879"/>
                  </a:lnTo>
                  <a:lnTo>
                    <a:pt x="196" y="1873"/>
                  </a:lnTo>
                  <a:lnTo>
                    <a:pt x="150" y="1865"/>
                  </a:lnTo>
                  <a:lnTo>
                    <a:pt x="104" y="1856"/>
                  </a:lnTo>
                  <a:lnTo>
                    <a:pt x="59" y="1842"/>
                  </a:lnTo>
                  <a:lnTo>
                    <a:pt x="15" y="1827"/>
                  </a:lnTo>
                  <a:lnTo>
                    <a:pt x="0" y="1821"/>
                  </a:lnTo>
                  <a:lnTo>
                    <a:pt x="0" y="1823"/>
                  </a:lnTo>
                  <a:lnTo>
                    <a:pt x="0" y="1825"/>
                  </a:lnTo>
                  <a:lnTo>
                    <a:pt x="0" y="1825"/>
                  </a:lnTo>
                  <a:lnTo>
                    <a:pt x="0" y="1827"/>
                  </a:lnTo>
                  <a:lnTo>
                    <a:pt x="0" y="1829"/>
                  </a:lnTo>
                  <a:lnTo>
                    <a:pt x="0" y="1831"/>
                  </a:lnTo>
                  <a:lnTo>
                    <a:pt x="2" y="1833"/>
                  </a:lnTo>
                  <a:lnTo>
                    <a:pt x="2" y="1833"/>
                  </a:lnTo>
                  <a:close/>
                </a:path>
              </a:pathLst>
            </a:custGeom>
            <a:solidFill>
              <a:srgbClr val="4eb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Freeform 351"/>
            <p:cNvSpPr/>
            <p:nvPr/>
          </p:nvSpPr>
          <p:spPr>
            <a:xfrm>
              <a:off x="5909040" y="1676880"/>
              <a:ext cx="1047240" cy="3172320"/>
            </a:xfrm>
            <a:custGeom>
              <a:avLst/>
              <a:gdLst>
                <a:gd name="textAreaLeft" fmla="*/ 0 w 1047240"/>
                <a:gd name="textAreaRight" fmla="*/ 1047600 w 1047240"/>
                <a:gd name="textAreaTop" fmla="*/ 0 h 3172320"/>
                <a:gd name="textAreaBottom" fmla="*/ 3172680 h 3172320"/>
              </a:gdLst>
              <a:ahLst/>
              <a:rect l="textAreaLeft" t="textAreaTop" r="textAreaRight" b="textAreaBottom"/>
              <a:pathLst>
                <a:path w="622" h="1884">
                  <a:moveTo>
                    <a:pt x="599" y="37"/>
                  </a:moveTo>
                  <a:lnTo>
                    <a:pt x="576" y="29"/>
                  </a:lnTo>
                  <a:lnTo>
                    <a:pt x="530" y="19"/>
                  </a:lnTo>
                  <a:lnTo>
                    <a:pt x="484" y="10"/>
                  </a:lnTo>
                  <a:lnTo>
                    <a:pt x="436" y="4"/>
                  </a:lnTo>
                  <a:lnTo>
                    <a:pt x="388" y="0"/>
                  </a:lnTo>
                  <a:lnTo>
                    <a:pt x="340" y="0"/>
                  </a:lnTo>
                  <a:lnTo>
                    <a:pt x="292" y="0"/>
                  </a:lnTo>
                  <a:lnTo>
                    <a:pt x="244" y="4"/>
                  </a:lnTo>
                  <a:lnTo>
                    <a:pt x="225" y="8"/>
                  </a:lnTo>
                  <a:lnTo>
                    <a:pt x="225" y="8"/>
                  </a:lnTo>
                  <a:lnTo>
                    <a:pt x="225" y="10"/>
                  </a:lnTo>
                  <a:lnTo>
                    <a:pt x="223" y="12"/>
                  </a:lnTo>
                  <a:lnTo>
                    <a:pt x="223" y="12"/>
                  </a:lnTo>
                  <a:lnTo>
                    <a:pt x="223" y="14"/>
                  </a:lnTo>
                  <a:lnTo>
                    <a:pt x="221" y="16"/>
                  </a:lnTo>
                  <a:lnTo>
                    <a:pt x="221" y="17"/>
                  </a:lnTo>
                  <a:lnTo>
                    <a:pt x="221" y="17"/>
                  </a:lnTo>
                  <a:lnTo>
                    <a:pt x="244" y="16"/>
                  </a:lnTo>
                  <a:lnTo>
                    <a:pt x="292" y="12"/>
                  </a:lnTo>
                  <a:lnTo>
                    <a:pt x="340" y="10"/>
                  </a:lnTo>
                  <a:lnTo>
                    <a:pt x="388" y="12"/>
                  </a:lnTo>
                  <a:lnTo>
                    <a:pt x="436" y="16"/>
                  </a:lnTo>
                  <a:lnTo>
                    <a:pt x="482" y="21"/>
                  </a:lnTo>
                  <a:lnTo>
                    <a:pt x="528" y="29"/>
                  </a:lnTo>
                  <a:lnTo>
                    <a:pt x="572" y="40"/>
                  </a:lnTo>
                  <a:lnTo>
                    <a:pt x="589" y="44"/>
                  </a:lnTo>
                  <a:lnTo>
                    <a:pt x="591" y="44"/>
                  </a:lnTo>
                  <a:lnTo>
                    <a:pt x="591" y="42"/>
                  </a:lnTo>
                  <a:lnTo>
                    <a:pt x="593" y="40"/>
                  </a:lnTo>
                  <a:lnTo>
                    <a:pt x="593" y="40"/>
                  </a:lnTo>
                  <a:lnTo>
                    <a:pt x="595" y="39"/>
                  </a:lnTo>
                  <a:lnTo>
                    <a:pt x="595" y="39"/>
                  </a:lnTo>
                  <a:lnTo>
                    <a:pt x="597" y="37"/>
                  </a:lnTo>
                  <a:lnTo>
                    <a:pt x="599" y="37"/>
                  </a:lnTo>
                  <a:close/>
                  <a:moveTo>
                    <a:pt x="2" y="1821"/>
                  </a:moveTo>
                  <a:lnTo>
                    <a:pt x="15" y="1827"/>
                  </a:lnTo>
                  <a:lnTo>
                    <a:pt x="59" y="1842"/>
                  </a:lnTo>
                  <a:lnTo>
                    <a:pt x="104" y="1854"/>
                  </a:lnTo>
                  <a:lnTo>
                    <a:pt x="150" y="1865"/>
                  </a:lnTo>
                  <a:lnTo>
                    <a:pt x="196" y="1873"/>
                  </a:lnTo>
                  <a:lnTo>
                    <a:pt x="244" y="1879"/>
                  </a:lnTo>
                  <a:lnTo>
                    <a:pt x="292" y="1882"/>
                  </a:lnTo>
                  <a:lnTo>
                    <a:pt x="340" y="1884"/>
                  </a:lnTo>
                  <a:lnTo>
                    <a:pt x="388" y="1882"/>
                  </a:lnTo>
                  <a:lnTo>
                    <a:pt x="436" y="1879"/>
                  </a:lnTo>
                  <a:lnTo>
                    <a:pt x="484" y="1873"/>
                  </a:lnTo>
                  <a:lnTo>
                    <a:pt x="530" y="1865"/>
                  </a:lnTo>
                  <a:lnTo>
                    <a:pt x="576" y="1854"/>
                  </a:lnTo>
                  <a:lnTo>
                    <a:pt x="620" y="1842"/>
                  </a:lnTo>
                  <a:lnTo>
                    <a:pt x="622" y="1840"/>
                  </a:lnTo>
                  <a:lnTo>
                    <a:pt x="622" y="1840"/>
                  </a:lnTo>
                  <a:lnTo>
                    <a:pt x="620" y="1838"/>
                  </a:lnTo>
                  <a:lnTo>
                    <a:pt x="620" y="1838"/>
                  </a:lnTo>
                  <a:lnTo>
                    <a:pt x="618" y="1836"/>
                  </a:lnTo>
                  <a:lnTo>
                    <a:pt x="618" y="1834"/>
                  </a:lnTo>
                  <a:lnTo>
                    <a:pt x="616" y="1834"/>
                  </a:lnTo>
                  <a:lnTo>
                    <a:pt x="614" y="1833"/>
                  </a:lnTo>
                  <a:lnTo>
                    <a:pt x="614" y="1833"/>
                  </a:lnTo>
                  <a:lnTo>
                    <a:pt x="572" y="1844"/>
                  </a:lnTo>
                  <a:lnTo>
                    <a:pt x="528" y="1854"/>
                  </a:lnTo>
                  <a:lnTo>
                    <a:pt x="482" y="1863"/>
                  </a:lnTo>
                  <a:lnTo>
                    <a:pt x="436" y="1869"/>
                  </a:lnTo>
                  <a:lnTo>
                    <a:pt x="388" y="1873"/>
                  </a:lnTo>
                  <a:lnTo>
                    <a:pt x="340" y="1873"/>
                  </a:lnTo>
                  <a:lnTo>
                    <a:pt x="292" y="1873"/>
                  </a:lnTo>
                  <a:lnTo>
                    <a:pt x="244" y="1869"/>
                  </a:lnTo>
                  <a:lnTo>
                    <a:pt x="198" y="1863"/>
                  </a:lnTo>
                  <a:lnTo>
                    <a:pt x="152" y="1854"/>
                  </a:lnTo>
                  <a:lnTo>
                    <a:pt x="107" y="1844"/>
                  </a:lnTo>
                  <a:lnTo>
                    <a:pt x="63" y="1831"/>
                  </a:lnTo>
                  <a:lnTo>
                    <a:pt x="19" y="1817"/>
                  </a:lnTo>
                  <a:lnTo>
                    <a:pt x="0" y="1809"/>
                  </a:lnTo>
                  <a:lnTo>
                    <a:pt x="0" y="1811"/>
                  </a:lnTo>
                  <a:lnTo>
                    <a:pt x="2" y="1811"/>
                  </a:lnTo>
                  <a:lnTo>
                    <a:pt x="2" y="1813"/>
                  </a:lnTo>
                  <a:lnTo>
                    <a:pt x="2" y="1815"/>
                  </a:lnTo>
                  <a:lnTo>
                    <a:pt x="2" y="1817"/>
                  </a:lnTo>
                  <a:lnTo>
                    <a:pt x="2" y="1819"/>
                  </a:lnTo>
                  <a:lnTo>
                    <a:pt x="2" y="1819"/>
                  </a:lnTo>
                  <a:lnTo>
                    <a:pt x="2" y="1821"/>
                  </a:lnTo>
                  <a:close/>
                </a:path>
              </a:pathLst>
            </a:custGeom>
            <a:solidFill>
              <a:srgbClr val="4fb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Freeform 352"/>
            <p:cNvSpPr/>
            <p:nvPr/>
          </p:nvSpPr>
          <p:spPr>
            <a:xfrm>
              <a:off x="5909040" y="1687320"/>
              <a:ext cx="1040760" cy="3153600"/>
            </a:xfrm>
            <a:custGeom>
              <a:avLst/>
              <a:gdLst>
                <a:gd name="textAreaLeft" fmla="*/ 0 w 1040760"/>
                <a:gd name="textAreaRight" fmla="*/ 1041120 w 1040760"/>
                <a:gd name="textAreaTop" fmla="*/ 0 h 3153600"/>
                <a:gd name="textAreaBottom" fmla="*/ 3153960 h 3153600"/>
              </a:gdLst>
              <a:ahLst/>
              <a:rect l="textAreaLeft" t="textAreaTop" r="textAreaRight" b="textAreaBottom"/>
              <a:pathLst>
                <a:path w="618" h="1873">
                  <a:moveTo>
                    <a:pt x="593" y="34"/>
                  </a:moveTo>
                  <a:lnTo>
                    <a:pt x="574" y="29"/>
                  </a:lnTo>
                  <a:lnTo>
                    <a:pt x="528" y="17"/>
                  </a:lnTo>
                  <a:lnTo>
                    <a:pt x="482" y="10"/>
                  </a:lnTo>
                  <a:lnTo>
                    <a:pt x="436" y="4"/>
                  </a:lnTo>
                  <a:lnTo>
                    <a:pt x="388" y="0"/>
                  </a:lnTo>
                  <a:lnTo>
                    <a:pt x="340" y="0"/>
                  </a:lnTo>
                  <a:lnTo>
                    <a:pt x="292" y="0"/>
                  </a:lnTo>
                  <a:lnTo>
                    <a:pt x="244" y="4"/>
                  </a:lnTo>
                  <a:lnTo>
                    <a:pt x="223" y="6"/>
                  </a:lnTo>
                  <a:lnTo>
                    <a:pt x="223" y="8"/>
                  </a:lnTo>
                  <a:lnTo>
                    <a:pt x="221" y="10"/>
                  </a:lnTo>
                  <a:lnTo>
                    <a:pt x="221" y="11"/>
                  </a:lnTo>
                  <a:lnTo>
                    <a:pt x="221" y="11"/>
                  </a:lnTo>
                  <a:lnTo>
                    <a:pt x="221" y="13"/>
                  </a:lnTo>
                  <a:lnTo>
                    <a:pt x="219" y="15"/>
                  </a:lnTo>
                  <a:lnTo>
                    <a:pt x="219" y="17"/>
                  </a:lnTo>
                  <a:lnTo>
                    <a:pt x="219" y="17"/>
                  </a:lnTo>
                  <a:lnTo>
                    <a:pt x="246" y="15"/>
                  </a:lnTo>
                  <a:lnTo>
                    <a:pt x="292" y="11"/>
                  </a:lnTo>
                  <a:lnTo>
                    <a:pt x="340" y="10"/>
                  </a:lnTo>
                  <a:lnTo>
                    <a:pt x="388" y="11"/>
                  </a:lnTo>
                  <a:lnTo>
                    <a:pt x="434" y="15"/>
                  </a:lnTo>
                  <a:lnTo>
                    <a:pt x="482" y="21"/>
                  </a:lnTo>
                  <a:lnTo>
                    <a:pt x="526" y="29"/>
                  </a:lnTo>
                  <a:lnTo>
                    <a:pt x="572" y="38"/>
                  </a:lnTo>
                  <a:lnTo>
                    <a:pt x="585" y="42"/>
                  </a:lnTo>
                  <a:lnTo>
                    <a:pt x="587" y="42"/>
                  </a:lnTo>
                  <a:lnTo>
                    <a:pt x="587" y="40"/>
                  </a:lnTo>
                  <a:lnTo>
                    <a:pt x="589" y="40"/>
                  </a:lnTo>
                  <a:lnTo>
                    <a:pt x="589" y="38"/>
                  </a:lnTo>
                  <a:lnTo>
                    <a:pt x="591" y="38"/>
                  </a:lnTo>
                  <a:lnTo>
                    <a:pt x="591" y="36"/>
                  </a:lnTo>
                  <a:lnTo>
                    <a:pt x="593" y="34"/>
                  </a:lnTo>
                  <a:lnTo>
                    <a:pt x="593" y="34"/>
                  </a:lnTo>
                  <a:close/>
                  <a:moveTo>
                    <a:pt x="2" y="1809"/>
                  </a:moveTo>
                  <a:lnTo>
                    <a:pt x="17" y="1815"/>
                  </a:lnTo>
                  <a:lnTo>
                    <a:pt x="61" y="1830"/>
                  </a:lnTo>
                  <a:lnTo>
                    <a:pt x="106" y="1844"/>
                  </a:lnTo>
                  <a:lnTo>
                    <a:pt x="152" y="1853"/>
                  </a:lnTo>
                  <a:lnTo>
                    <a:pt x="198" y="1861"/>
                  </a:lnTo>
                  <a:lnTo>
                    <a:pt x="244" y="1867"/>
                  </a:lnTo>
                  <a:lnTo>
                    <a:pt x="292" y="1871"/>
                  </a:lnTo>
                  <a:lnTo>
                    <a:pt x="340" y="1873"/>
                  </a:lnTo>
                  <a:lnTo>
                    <a:pt x="388" y="1871"/>
                  </a:lnTo>
                  <a:lnTo>
                    <a:pt x="436" y="1867"/>
                  </a:lnTo>
                  <a:lnTo>
                    <a:pt x="482" y="1861"/>
                  </a:lnTo>
                  <a:lnTo>
                    <a:pt x="528" y="1853"/>
                  </a:lnTo>
                  <a:lnTo>
                    <a:pt x="574" y="1844"/>
                  </a:lnTo>
                  <a:lnTo>
                    <a:pt x="618" y="1830"/>
                  </a:lnTo>
                  <a:lnTo>
                    <a:pt x="618" y="1828"/>
                  </a:lnTo>
                  <a:lnTo>
                    <a:pt x="616" y="1828"/>
                  </a:lnTo>
                  <a:lnTo>
                    <a:pt x="614" y="1827"/>
                  </a:lnTo>
                  <a:lnTo>
                    <a:pt x="614" y="1827"/>
                  </a:lnTo>
                  <a:lnTo>
                    <a:pt x="612" y="1825"/>
                  </a:lnTo>
                  <a:lnTo>
                    <a:pt x="612" y="1825"/>
                  </a:lnTo>
                  <a:lnTo>
                    <a:pt x="610" y="1823"/>
                  </a:lnTo>
                  <a:lnTo>
                    <a:pt x="610" y="1823"/>
                  </a:lnTo>
                  <a:lnTo>
                    <a:pt x="572" y="1832"/>
                  </a:lnTo>
                  <a:lnTo>
                    <a:pt x="526" y="1844"/>
                  </a:lnTo>
                  <a:lnTo>
                    <a:pt x="482" y="1851"/>
                  </a:lnTo>
                  <a:lnTo>
                    <a:pt x="434" y="1857"/>
                  </a:lnTo>
                  <a:lnTo>
                    <a:pt x="388" y="1861"/>
                  </a:lnTo>
                  <a:lnTo>
                    <a:pt x="340" y="1861"/>
                  </a:lnTo>
                  <a:lnTo>
                    <a:pt x="292" y="1861"/>
                  </a:lnTo>
                  <a:lnTo>
                    <a:pt x="246" y="1857"/>
                  </a:lnTo>
                  <a:lnTo>
                    <a:pt x="200" y="1851"/>
                  </a:lnTo>
                  <a:lnTo>
                    <a:pt x="154" y="1844"/>
                  </a:lnTo>
                  <a:lnTo>
                    <a:pt x="107" y="1832"/>
                  </a:lnTo>
                  <a:lnTo>
                    <a:pt x="65" y="1821"/>
                  </a:lnTo>
                  <a:lnTo>
                    <a:pt x="21" y="1805"/>
                  </a:lnTo>
                  <a:lnTo>
                    <a:pt x="0" y="1798"/>
                  </a:lnTo>
                  <a:lnTo>
                    <a:pt x="0" y="1798"/>
                  </a:lnTo>
                  <a:lnTo>
                    <a:pt x="0" y="1800"/>
                  </a:lnTo>
                  <a:lnTo>
                    <a:pt x="0" y="1802"/>
                  </a:lnTo>
                  <a:lnTo>
                    <a:pt x="0" y="1803"/>
                  </a:lnTo>
                  <a:lnTo>
                    <a:pt x="0" y="1805"/>
                  </a:lnTo>
                  <a:lnTo>
                    <a:pt x="2" y="1805"/>
                  </a:lnTo>
                  <a:lnTo>
                    <a:pt x="2" y="1807"/>
                  </a:lnTo>
                  <a:lnTo>
                    <a:pt x="2" y="1809"/>
                  </a:lnTo>
                  <a:close/>
                </a:path>
              </a:pathLst>
            </a:custGeom>
            <a:solidFill>
              <a:srgbClr val="5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Freeform 353"/>
            <p:cNvSpPr/>
            <p:nvPr/>
          </p:nvSpPr>
          <p:spPr>
            <a:xfrm>
              <a:off x="5906160" y="1693800"/>
              <a:ext cx="1037160" cy="3137040"/>
            </a:xfrm>
            <a:custGeom>
              <a:avLst/>
              <a:gdLst>
                <a:gd name="textAreaLeft" fmla="*/ 0 w 1037160"/>
                <a:gd name="textAreaRight" fmla="*/ 1037520 w 1037160"/>
                <a:gd name="textAreaTop" fmla="*/ 0 h 3137040"/>
                <a:gd name="textAreaBottom" fmla="*/ 3137400 h 3137040"/>
              </a:gdLst>
              <a:ahLst/>
              <a:rect l="textAreaLeft" t="textAreaTop" r="textAreaRight" b="textAreaBottom"/>
              <a:pathLst>
                <a:path w="616" h="1863">
                  <a:moveTo>
                    <a:pt x="591" y="34"/>
                  </a:moveTo>
                  <a:lnTo>
                    <a:pt x="574" y="30"/>
                  </a:lnTo>
                  <a:lnTo>
                    <a:pt x="530" y="19"/>
                  </a:lnTo>
                  <a:lnTo>
                    <a:pt x="484" y="11"/>
                  </a:lnTo>
                  <a:lnTo>
                    <a:pt x="438" y="6"/>
                  </a:lnTo>
                  <a:lnTo>
                    <a:pt x="390" y="2"/>
                  </a:lnTo>
                  <a:lnTo>
                    <a:pt x="342" y="0"/>
                  </a:lnTo>
                  <a:lnTo>
                    <a:pt x="294" y="2"/>
                  </a:lnTo>
                  <a:lnTo>
                    <a:pt x="246" y="6"/>
                  </a:lnTo>
                  <a:lnTo>
                    <a:pt x="223" y="7"/>
                  </a:lnTo>
                  <a:lnTo>
                    <a:pt x="223" y="9"/>
                  </a:lnTo>
                  <a:lnTo>
                    <a:pt x="221" y="11"/>
                  </a:lnTo>
                  <a:lnTo>
                    <a:pt x="221" y="13"/>
                  </a:lnTo>
                  <a:lnTo>
                    <a:pt x="221" y="13"/>
                  </a:lnTo>
                  <a:lnTo>
                    <a:pt x="219" y="15"/>
                  </a:lnTo>
                  <a:lnTo>
                    <a:pt x="219" y="17"/>
                  </a:lnTo>
                  <a:lnTo>
                    <a:pt x="219" y="19"/>
                  </a:lnTo>
                  <a:lnTo>
                    <a:pt x="217" y="19"/>
                  </a:lnTo>
                  <a:lnTo>
                    <a:pt x="248" y="15"/>
                  </a:lnTo>
                  <a:lnTo>
                    <a:pt x="294" y="11"/>
                  </a:lnTo>
                  <a:lnTo>
                    <a:pt x="342" y="11"/>
                  </a:lnTo>
                  <a:lnTo>
                    <a:pt x="390" y="11"/>
                  </a:lnTo>
                  <a:lnTo>
                    <a:pt x="436" y="15"/>
                  </a:lnTo>
                  <a:lnTo>
                    <a:pt x="482" y="21"/>
                  </a:lnTo>
                  <a:lnTo>
                    <a:pt x="528" y="30"/>
                  </a:lnTo>
                  <a:lnTo>
                    <a:pt x="572" y="40"/>
                  </a:lnTo>
                  <a:lnTo>
                    <a:pt x="584" y="44"/>
                  </a:lnTo>
                  <a:lnTo>
                    <a:pt x="584" y="42"/>
                  </a:lnTo>
                  <a:lnTo>
                    <a:pt x="585" y="42"/>
                  </a:lnTo>
                  <a:lnTo>
                    <a:pt x="587" y="40"/>
                  </a:lnTo>
                  <a:lnTo>
                    <a:pt x="587" y="38"/>
                  </a:lnTo>
                  <a:lnTo>
                    <a:pt x="589" y="38"/>
                  </a:lnTo>
                  <a:lnTo>
                    <a:pt x="589" y="36"/>
                  </a:lnTo>
                  <a:lnTo>
                    <a:pt x="591" y="36"/>
                  </a:lnTo>
                  <a:lnTo>
                    <a:pt x="591" y="34"/>
                  </a:lnTo>
                  <a:close/>
                  <a:moveTo>
                    <a:pt x="2" y="1799"/>
                  </a:moveTo>
                  <a:lnTo>
                    <a:pt x="21" y="1807"/>
                  </a:lnTo>
                  <a:lnTo>
                    <a:pt x="65" y="1821"/>
                  </a:lnTo>
                  <a:lnTo>
                    <a:pt x="109" y="1834"/>
                  </a:lnTo>
                  <a:lnTo>
                    <a:pt x="154" y="1844"/>
                  </a:lnTo>
                  <a:lnTo>
                    <a:pt x="200" y="1853"/>
                  </a:lnTo>
                  <a:lnTo>
                    <a:pt x="246" y="1859"/>
                  </a:lnTo>
                  <a:lnTo>
                    <a:pt x="294" y="1863"/>
                  </a:lnTo>
                  <a:lnTo>
                    <a:pt x="342" y="1863"/>
                  </a:lnTo>
                  <a:lnTo>
                    <a:pt x="390" y="1863"/>
                  </a:lnTo>
                  <a:lnTo>
                    <a:pt x="438" y="1859"/>
                  </a:lnTo>
                  <a:lnTo>
                    <a:pt x="484" y="1853"/>
                  </a:lnTo>
                  <a:lnTo>
                    <a:pt x="530" y="1844"/>
                  </a:lnTo>
                  <a:lnTo>
                    <a:pt x="574" y="1834"/>
                  </a:lnTo>
                  <a:lnTo>
                    <a:pt x="616" y="1823"/>
                  </a:lnTo>
                  <a:lnTo>
                    <a:pt x="614" y="1821"/>
                  </a:lnTo>
                  <a:lnTo>
                    <a:pt x="614" y="1821"/>
                  </a:lnTo>
                  <a:lnTo>
                    <a:pt x="612" y="1819"/>
                  </a:lnTo>
                  <a:lnTo>
                    <a:pt x="612" y="1819"/>
                  </a:lnTo>
                  <a:lnTo>
                    <a:pt x="610" y="1817"/>
                  </a:lnTo>
                  <a:lnTo>
                    <a:pt x="610" y="1815"/>
                  </a:lnTo>
                  <a:lnTo>
                    <a:pt x="608" y="1815"/>
                  </a:lnTo>
                  <a:lnTo>
                    <a:pt x="607" y="1813"/>
                  </a:lnTo>
                  <a:lnTo>
                    <a:pt x="572" y="1824"/>
                  </a:lnTo>
                  <a:lnTo>
                    <a:pt x="528" y="1834"/>
                  </a:lnTo>
                  <a:lnTo>
                    <a:pt x="482" y="1842"/>
                  </a:lnTo>
                  <a:lnTo>
                    <a:pt x="436" y="1847"/>
                  </a:lnTo>
                  <a:lnTo>
                    <a:pt x="390" y="1851"/>
                  </a:lnTo>
                  <a:lnTo>
                    <a:pt x="342" y="1853"/>
                  </a:lnTo>
                  <a:lnTo>
                    <a:pt x="294" y="1851"/>
                  </a:lnTo>
                  <a:lnTo>
                    <a:pt x="248" y="1847"/>
                  </a:lnTo>
                  <a:lnTo>
                    <a:pt x="202" y="1842"/>
                  </a:lnTo>
                  <a:lnTo>
                    <a:pt x="156" y="1834"/>
                  </a:lnTo>
                  <a:lnTo>
                    <a:pt x="111" y="1824"/>
                  </a:lnTo>
                  <a:lnTo>
                    <a:pt x="67" y="1811"/>
                  </a:lnTo>
                  <a:lnTo>
                    <a:pt x="25" y="1798"/>
                  </a:lnTo>
                  <a:lnTo>
                    <a:pt x="0" y="1788"/>
                  </a:lnTo>
                  <a:lnTo>
                    <a:pt x="0" y="1788"/>
                  </a:lnTo>
                  <a:lnTo>
                    <a:pt x="2" y="1790"/>
                  </a:lnTo>
                  <a:lnTo>
                    <a:pt x="2" y="1792"/>
                  </a:lnTo>
                  <a:lnTo>
                    <a:pt x="2" y="1794"/>
                  </a:lnTo>
                  <a:lnTo>
                    <a:pt x="2" y="1794"/>
                  </a:lnTo>
                  <a:lnTo>
                    <a:pt x="2" y="1796"/>
                  </a:lnTo>
                  <a:lnTo>
                    <a:pt x="2" y="1798"/>
                  </a:lnTo>
                  <a:lnTo>
                    <a:pt x="2" y="1799"/>
                  </a:lnTo>
                  <a:close/>
                </a:path>
              </a:pathLst>
            </a:custGeom>
            <a:solidFill>
              <a:srgbClr val="51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Freeform 354"/>
            <p:cNvSpPr/>
            <p:nvPr/>
          </p:nvSpPr>
          <p:spPr>
            <a:xfrm>
              <a:off x="5906160" y="1703880"/>
              <a:ext cx="1030320" cy="3116520"/>
            </a:xfrm>
            <a:custGeom>
              <a:avLst/>
              <a:gdLst>
                <a:gd name="textAreaLeft" fmla="*/ 0 w 1030320"/>
                <a:gd name="textAreaRight" fmla="*/ 1030680 w 1030320"/>
                <a:gd name="textAreaTop" fmla="*/ 0 h 3116520"/>
                <a:gd name="textAreaBottom" fmla="*/ 3116880 h 3116520"/>
              </a:gdLst>
              <a:ahLst/>
              <a:rect l="textAreaLeft" t="textAreaTop" r="textAreaRight" b="textAreaBottom"/>
              <a:pathLst>
                <a:path w="612" h="1851">
                  <a:moveTo>
                    <a:pt x="587" y="32"/>
                  </a:moveTo>
                  <a:lnTo>
                    <a:pt x="574" y="28"/>
                  </a:lnTo>
                  <a:lnTo>
                    <a:pt x="528" y="19"/>
                  </a:lnTo>
                  <a:lnTo>
                    <a:pt x="484" y="11"/>
                  </a:lnTo>
                  <a:lnTo>
                    <a:pt x="436" y="5"/>
                  </a:lnTo>
                  <a:lnTo>
                    <a:pt x="390" y="1"/>
                  </a:lnTo>
                  <a:lnTo>
                    <a:pt x="342" y="0"/>
                  </a:lnTo>
                  <a:lnTo>
                    <a:pt x="294" y="1"/>
                  </a:lnTo>
                  <a:lnTo>
                    <a:pt x="248" y="5"/>
                  </a:lnTo>
                  <a:lnTo>
                    <a:pt x="221" y="7"/>
                  </a:lnTo>
                  <a:lnTo>
                    <a:pt x="219" y="9"/>
                  </a:lnTo>
                  <a:lnTo>
                    <a:pt x="219" y="11"/>
                  </a:lnTo>
                  <a:lnTo>
                    <a:pt x="219" y="13"/>
                  </a:lnTo>
                  <a:lnTo>
                    <a:pt x="217" y="13"/>
                  </a:lnTo>
                  <a:lnTo>
                    <a:pt x="217" y="15"/>
                  </a:lnTo>
                  <a:lnTo>
                    <a:pt x="217" y="17"/>
                  </a:lnTo>
                  <a:lnTo>
                    <a:pt x="217" y="19"/>
                  </a:lnTo>
                  <a:lnTo>
                    <a:pt x="215" y="19"/>
                  </a:lnTo>
                  <a:lnTo>
                    <a:pt x="248" y="15"/>
                  </a:lnTo>
                  <a:lnTo>
                    <a:pt x="296" y="11"/>
                  </a:lnTo>
                  <a:lnTo>
                    <a:pt x="342" y="11"/>
                  </a:lnTo>
                  <a:lnTo>
                    <a:pt x="390" y="11"/>
                  </a:lnTo>
                  <a:lnTo>
                    <a:pt x="436" y="15"/>
                  </a:lnTo>
                  <a:lnTo>
                    <a:pt x="482" y="21"/>
                  </a:lnTo>
                  <a:lnTo>
                    <a:pt x="526" y="28"/>
                  </a:lnTo>
                  <a:lnTo>
                    <a:pt x="570" y="40"/>
                  </a:lnTo>
                  <a:lnTo>
                    <a:pt x="580" y="42"/>
                  </a:lnTo>
                  <a:lnTo>
                    <a:pt x="580" y="40"/>
                  </a:lnTo>
                  <a:lnTo>
                    <a:pt x="582" y="40"/>
                  </a:lnTo>
                  <a:lnTo>
                    <a:pt x="582" y="38"/>
                  </a:lnTo>
                  <a:lnTo>
                    <a:pt x="584" y="38"/>
                  </a:lnTo>
                  <a:lnTo>
                    <a:pt x="584" y="36"/>
                  </a:lnTo>
                  <a:lnTo>
                    <a:pt x="585" y="36"/>
                  </a:lnTo>
                  <a:lnTo>
                    <a:pt x="587" y="34"/>
                  </a:lnTo>
                  <a:lnTo>
                    <a:pt x="587" y="32"/>
                  </a:lnTo>
                  <a:close/>
                  <a:moveTo>
                    <a:pt x="2" y="1788"/>
                  </a:moveTo>
                  <a:lnTo>
                    <a:pt x="23" y="1795"/>
                  </a:lnTo>
                  <a:lnTo>
                    <a:pt x="67" y="1811"/>
                  </a:lnTo>
                  <a:lnTo>
                    <a:pt x="109" y="1822"/>
                  </a:lnTo>
                  <a:lnTo>
                    <a:pt x="156" y="1834"/>
                  </a:lnTo>
                  <a:lnTo>
                    <a:pt x="202" y="1841"/>
                  </a:lnTo>
                  <a:lnTo>
                    <a:pt x="248" y="1847"/>
                  </a:lnTo>
                  <a:lnTo>
                    <a:pt x="294" y="1851"/>
                  </a:lnTo>
                  <a:lnTo>
                    <a:pt x="342" y="1851"/>
                  </a:lnTo>
                  <a:lnTo>
                    <a:pt x="390" y="1851"/>
                  </a:lnTo>
                  <a:lnTo>
                    <a:pt x="436" y="1847"/>
                  </a:lnTo>
                  <a:lnTo>
                    <a:pt x="484" y="1841"/>
                  </a:lnTo>
                  <a:lnTo>
                    <a:pt x="528" y="1834"/>
                  </a:lnTo>
                  <a:lnTo>
                    <a:pt x="574" y="1822"/>
                  </a:lnTo>
                  <a:lnTo>
                    <a:pt x="612" y="1813"/>
                  </a:lnTo>
                  <a:lnTo>
                    <a:pt x="610" y="1811"/>
                  </a:lnTo>
                  <a:lnTo>
                    <a:pt x="610" y="1809"/>
                  </a:lnTo>
                  <a:lnTo>
                    <a:pt x="608" y="1809"/>
                  </a:lnTo>
                  <a:lnTo>
                    <a:pt x="607" y="1807"/>
                  </a:lnTo>
                  <a:lnTo>
                    <a:pt x="607" y="1807"/>
                  </a:lnTo>
                  <a:lnTo>
                    <a:pt x="605" y="1805"/>
                  </a:lnTo>
                  <a:lnTo>
                    <a:pt x="605" y="1805"/>
                  </a:lnTo>
                  <a:lnTo>
                    <a:pt x="603" y="1803"/>
                  </a:lnTo>
                  <a:lnTo>
                    <a:pt x="570" y="1813"/>
                  </a:lnTo>
                  <a:lnTo>
                    <a:pt x="526" y="1822"/>
                  </a:lnTo>
                  <a:lnTo>
                    <a:pt x="482" y="1830"/>
                  </a:lnTo>
                  <a:lnTo>
                    <a:pt x="436" y="1836"/>
                  </a:lnTo>
                  <a:lnTo>
                    <a:pt x="390" y="1840"/>
                  </a:lnTo>
                  <a:lnTo>
                    <a:pt x="342" y="1841"/>
                  </a:lnTo>
                  <a:lnTo>
                    <a:pt x="296" y="1840"/>
                  </a:lnTo>
                  <a:lnTo>
                    <a:pt x="248" y="1836"/>
                  </a:lnTo>
                  <a:lnTo>
                    <a:pt x="202" y="1830"/>
                  </a:lnTo>
                  <a:lnTo>
                    <a:pt x="157" y="1822"/>
                  </a:lnTo>
                  <a:lnTo>
                    <a:pt x="113" y="1813"/>
                  </a:lnTo>
                  <a:lnTo>
                    <a:pt x="69" y="1799"/>
                  </a:lnTo>
                  <a:lnTo>
                    <a:pt x="27" y="1786"/>
                  </a:lnTo>
                  <a:lnTo>
                    <a:pt x="0" y="1774"/>
                  </a:lnTo>
                  <a:lnTo>
                    <a:pt x="0" y="1776"/>
                  </a:lnTo>
                  <a:lnTo>
                    <a:pt x="0" y="1778"/>
                  </a:lnTo>
                  <a:lnTo>
                    <a:pt x="0" y="1780"/>
                  </a:lnTo>
                  <a:lnTo>
                    <a:pt x="0" y="1782"/>
                  </a:lnTo>
                  <a:lnTo>
                    <a:pt x="0" y="1782"/>
                  </a:lnTo>
                  <a:lnTo>
                    <a:pt x="2" y="1784"/>
                  </a:lnTo>
                  <a:lnTo>
                    <a:pt x="2" y="1786"/>
                  </a:lnTo>
                  <a:lnTo>
                    <a:pt x="2" y="1788"/>
                  </a:lnTo>
                  <a:close/>
                </a:path>
              </a:pathLst>
            </a:custGeom>
            <a:solidFill>
              <a:srgbClr val="52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Freeform 355"/>
            <p:cNvSpPr/>
            <p:nvPr/>
          </p:nvSpPr>
          <p:spPr>
            <a:xfrm>
              <a:off x="5906160" y="1712520"/>
              <a:ext cx="1021680" cy="3101760"/>
            </a:xfrm>
            <a:custGeom>
              <a:avLst/>
              <a:gdLst>
                <a:gd name="textAreaLeft" fmla="*/ 0 w 1021680"/>
                <a:gd name="textAreaRight" fmla="*/ 1022040 w 1021680"/>
                <a:gd name="textAreaTop" fmla="*/ 0 h 3101760"/>
                <a:gd name="textAreaBottom" fmla="*/ 3102120 h 3101760"/>
              </a:gdLst>
              <a:ahLst/>
              <a:rect l="textAreaLeft" t="textAreaTop" r="textAreaRight" b="textAreaBottom"/>
              <a:pathLst>
                <a:path w="607" h="1842">
                  <a:moveTo>
                    <a:pt x="584" y="33"/>
                  </a:moveTo>
                  <a:lnTo>
                    <a:pt x="572" y="29"/>
                  </a:lnTo>
                  <a:lnTo>
                    <a:pt x="528" y="19"/>
                  </a:lnTo>
                  <a:lnTo>
                    <a:pt x="482" y="10"/>
                  </a:lnTo>
                  <a:lnTo>
                    <a:pt x="436" y="4"/>
                  </a:lnTo>
                  <a:lnTo>
                    <a:pt x="390" y="0"/>
                  </a:lnTo>
                  <a:lnTo>
                    <a:pt x="342" y="0"/>
                  </a:lnTo>
                  <a:lnTo>
                    <a:pt x="294" y="0"/>
                  </a:lnTo>
                  <a:lnTo>
                    <a:pt x="248" y="4"/>
                  </a:lnTo>
                  <a:lnTo>
                    <a:pt x="217" y="8"/>
                  </a:lnTo>
                  <a:lnTo>
                    <a:pt x="217" y="10"/>
                  </a:lnTo>
                  <a:lnTo>
                    <a:pt x="217" y="12"/>
                  </a:lnTo>
                  <a:lnTo>
                    <a:pt x="217" y="14"/>
                  </a:lnTo>
                  <a:lnTo>
                    <a:pt x="215" y="14"/>
                  </a:lnTo>
                  <a:lnTo>
                    <a:pt x="215" y="16"/>
                  </a:lnTo>
                  <a:lnTo>
                    <a:pt x="215" y="18"/>
                  </a:lnTo>
                  <a:lnTo>
                    <a:pt x="213" y="18"/>
                  </a:lnTo>
                  <a:lnTo>
                    <a:pt x="213" y="19"/>
                  </a:lnTo>
                  <a:lnTo>
                    <a:pt x="250" y="16"/>
                  </a:lnTo>
                  <a:lnTo>
                    <a:pt x="296" y="12"/>
                  </a:lnTo>
                  <a:lnTo>
                    <a:pt x="342" y="10"/>
                  </a:lnTo>
                  <a:lnTo>
                    <a:pt x="388" y="12"/>
                  </a:lnTo>
                  <a:lnTo>
                    <a:pt x="436" y="16"/>
                  </a:lnTo>
                  <a:lnTo>
                    <a:pt x="480" y="21"/>
                  </a:lnTo>
                  <a:lnTo>
                    <a:pt x="526" y="29"/>
                  </a:lnTo>
                  <a:lnTo>
                    <a:pt x="570" y="39"/>
                  </a:lnTo>
                  <a:lnTo>
                    <a:pt x="576" y="41"/>
                  </a:lnTo>
                  <a:lnTo>
                    <a:pt x="576" y="41"/>
                  </a:lnTo>
                  <a:lnTo>
                    <a:pt x="578" y="39"/>
                  </a:lnTo>
                  <a:lnTo>
                    <a:pt x="578" y="39"/>
                  </a:lnTo>
                  <a:lnTo>
                    <a:pt x="580" y="37"/>
                  </a:lnTo>
                  <a:lnTo>
                    <a:pt x="580" y="35"/>
                  </a:lnTo>
                  <a:lnTo>
                    <a:pt x="582" y="35"/>
                  </a:lnTo>
                  <a:lnTo>
                    <a:pt x="582" y="33"/>
                  </a:lnTo>
                  <a:lnTo>
                    <a:pt x="584" y="33"/>
                  </a:lnTo>
                  <a:close/>
                  <a:moveTo>
                    <a:pt x="0" y="1777"/>
                  </a:moveTo>
                  <a:lnTo>
                    <a:pt x="25" y="1787"/>
                  </a:lnTo>
                  <a:lnTo>
                    <a:pt x="67" y="1800"/>
                  </a:lnTo>
                  <a:lnTo>
                    <a:pt x="111" y="1813"/>
                  </a:lnTo>
                  <a:lnTo>
                    <a:pt x="156" y="1823"/>
                  </a:lnTo>
                  <a:lnTo>
                    <a:pt x="202" y="1831"/>
                  </a:lnTo>
                  <a:lnTo>
                    <a:pt x="248" y="1836"/>
                  </a:lnTo>
                  <a:lnTo>
                    <a:pt x="294" y="1840"/>
                  </a:lnTo>
                  <a:lnTo>
                    <a:pt x="342" y="1842"/>
                  </a:lnTo>
                  <a:lnTo>
                    <a:pt x="390" y="1840"/>
                  </a:lnTo>
                  <a:lnTo>
                    <a:pt x="436" y="1836"/>
                  </a:lnTo>
                  <a:lnTo>
                    <a:pt x="482" y="1831"/>
                  </a:lnTo>
                  <a:lnTo>
                    <a:pt x="528" y="1823"/>
                  </a:lnTo>
                  <a:lnTo>
                    <a:pt x="572" y="1813"/>
                  </a:lnTo>
                  <a:lnTo>
                    <a:pt x="607" y="1802"/>
                  </a:lnTo>
                  <a:lnTo>
                    <a:pt x="607" y="1802"/>
                  </a:lnTo>
                  <a:lnTo>
                    <a:pt x="605" y="1800"/>
                  </a:lnTo>
                  <a:lnTo>
                    <a:pt x="605" y="1800"/>
                  </a:lnTo>
                  <a:lnTo>
                    <a:pt x="603" y="1798"/>
                  </a:lnTo>
                  <a:lnTo>
                    <a:pt x="603" y="1796"/>
                  </a:lnTo>
                  <a:lnTo>
                    <a:pt x="601" y="1796"/>
                  </a:lnTo>
                  <a:lnTo>
                    <a:pt x="601" y="1794"/>
                  </a:lnTo>
                  <a:lnTo>
                    <a:pt x="599" y="1794"/>
                  </a:lnTo>
                  <a:lnTo>
                    <a:pt x="570" y="1802"/>
                  </a:lnTo>
                  <a:lnTo>
                    <a:pt x="526" y="1812"/>
                  </a:lnTo>
                  <a:lnTo>
                    <a:pt x="480" y="1821"/>
                  </a:lnTo>
                  <a:lnTo>
                    <a:pt x="436" y="1827"/>
                  </a:lnTo>
                  <a:lnTo>
                    <a:pt x="388" y="1829"/>
                  </a:lnTo>
                  <a:lnTo>
                    <a:pt x="342" y="1831"/>
                  </a:lnTo>
                  <a:lnTo>
                    <a:pt x="296" y="1829"/>
                  </a:lnTo>
                  <a:lnTo>
                    <a:pt x="250" y="1827"/>
                  </a:lnTo>
                  <a:lnTo>
                    <a:pt x="204" y="1821"/>
                  </a:lnTo>
                  <a:lnTo>
                    <a:pt x="159" y="1812"/>
                  </a:lnTo>
                  <a:lnTo>
                    <a:pt x="115" y="1802"/>
                  </a:lnTo>
                  <a:lnTo>
                    <a:pt x="71" y="1790"/>
                  </a:lnTo>
                  <a:lnTo>
                    <a:pt x="29" y="1775"/>
                  </a:lnTo>
                  <a:lnTo>
                    <a:pt x="0" y="1764"/>
                  </a:lnTo>
                  <a:lnTo>
                    <a:pt x="0" y="1765"/>
                  </a:lnTo>
                  <a:lnTo>
                    <a:pt x="0" y="1767"/>
                  </a:lnTo>
                  <a:lnTo>
                    <a:pt x="0" y="1769"/>
                  </a:lnTo>
                  <a:lnTo>
                    <a:pt x="0" y="1769"/>
                  </a:lnTo>
                  <a:lnTo>
                    <a:pt x="0" y="1771"/>
                  </a:lnTo>
                  <a:lnTo>
                    <a:pt x="0" y="1773"/>
                  </a:lnTo>
                  <a:lnTo>
                    <a:pt x="0" y="1775"/>
                  </a:lnTo>
                  <a:lnTo>
                    <a:pt x="0" y="1777"/>
                  </a:lnTo>
                  <a:close/>
                </a:path>
              </a:pathLst>
            </a:custGeom>
            <a:solidFill>
              <a:srgbClr val="53b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Freeform 356"/>
            <p:cNvSpPr/>
            <p:nvPr/>
          </p:nvSpPr>
          <p:spPr>
            <a:xfrm>
              <a:off x="5902560" y="1722240"/>
              <a:ext cx="1018800" cy="3081600"/>
            </a:xfrm>
            <a:custGeom>
              <a:avLst/>
              <a:gdLst>
                <a:gd name="textAreaLeft" fmla="*/ 0 w 1018800"/>
                <a:gd name="textAreaRight" fmla="*/ 1019160 w 1018800"/>
                <a:gd name="textAreaTop" fmla="*/ 0 h 3081600"/>
                <a:gd name="textAreaBottom" fmla="*/ 3081960 h 3081600"/>
              </a:gdLst>
              <a:ahLst/>
              <a:rect l="textAreaLeft" t="textAreaTop" r="textAreaRight" b="textAreaBottom"/>
              <a:pathLst>
                <a:path w="605" h="1830">
                  <a:moveTo>
                    <a:pt x="582" y="31"/>
                  </a:moveTo>
                  <a:lnTo>
                    <a:pt x="572" y="29"/>
                  </a:lnTo>
                  <a:lnTo>
                    <a:pt x="528" y="17"/>
                  </a:lnTo>
                  <a:lnTo>
                    <a:pt x="484" y="10"/>
                  </a:lnTo>
                  <a:lnTo>
                    <a:pt x="438" y="4"/>
                  </a:lnTo>
                  <a:lnTo>
                    <a:pt x="392" y="0"/>
                  </a:lnTo>
                  <a:lnTo>
                    <a:pt x="344" y="0"/>
                  </a:lnTo>
                  <a:lnTo>
                    <a:pt x="298" y="0"/>
                  </a:lnTo>
                  <a:lnTo>
                    <a:pt x="250" y="4"/>
                  </a:lnTo>
                  <a:lnTo>
                    <a:pt x="217" y="8"/>
                  </a:lnTo>
                  <a:lnTo>
                    <a:pt x="217" y="10"/>
                  </a:lnTo>
                  <a:lnTo>
                    <a:pt x="217" y="12"/>
                  </a:lnTo>
                  <a:lnTo>
                    <a:pt x="215" y="12"/>
                  </a:lnTo>
                  <a:lnTo>
                    <a:pt x="215" y="13"/>
                  </a:lnTo>
                  <a:lnTo>
                    <a:pt x="215" y="15"/>
                  </a:lnTo>
                  <a:lnTo>
                    <a:pt x="215" y="17"/>
                  </a:lnTo>
                  <a:lnTo>
                    <a:pt x="213" y="17"/>
                  </a:lnTo>
                  <a:lnTo>
                    <a:pt x="213" y="19"/>
                  </a:lnTo>
                  <a:lnTo>
                    <a:pt x="252" y="15"/>
                  </a:lnTo>
                  <a:lnTo>
                    <a:pt x="298" y="12"/>
                  </a:lnTo>
                  <a:lnTo>
                    <a:pt x="344" y="10"/>
                  </a:lnTo>
                  <a:lnTo>
                    <a:pt x="390" y="12"/>
                  </a:lnTo>
                  <a:lnTo>
                    <a:pt x="436" y="15"/>
                  </a:lnTo>
                  <a:lnTo>
                    <a:pt x="482" y="21"/>
                  </a:lnTo>
                  <a:lnTo>
                    <a:pt x="526" y="29"/>
                  </a:lnTo>
                  <a:lnTo>
                    <a:pt x="570" y="38"/>
                  </a:lnTo>
                  <a:lnTo>
                    <a:pt x="574" y="40"/>
                  </a:lnTo>
                  <a:lnTo>
                    <a:pt x="574" y="38"/>
                  </a:lnTo>
                  <a:lnTo>
                    <a:pt x="576" y="36"/>
                  </a:lnTo>
                  <a:lnTo>
                    <a:pt x="576" y="36"/>
                  </a:lnTo>
                  <a:lnTo>
                    <a:pt x="578" y="35"/>
                  </a:lnTo>
                  <a:lnTo>
                    <a:pt x="578" y="35"/>
                  </a:lnTo>
                  <a:lnTo>
                    <a:pt x="580" y="33"/>
                  </a:lnTo>
                  <a:lnTo>
                    <a:pt x="580" y="33"/>
                  </a:lnTo>
                  <a:lnTo>
                    <a:pt x="582" y="31"/>
                  </a:lnTo>
                  <a:close/>
                  <a:moveTo>
                    <a:pt x="2" y="1763"/>
                  </a:moveTo>
                  <a:lnTo>
                    <a:pt x="29" y="1775"/>
                  </a:lnTo>
                  <a:lnTo>
                    <a:pt x="71" y="1788"/>
                  </a:lnTo>
                  <a:lnTo>
                    <a:pt x="115" y="1802"/>
                  </a:lnTo>
                  <a:lnTo>
                    <a:pt x="159" y="1811"/>
                  </a:lnTo>
                  <a:lnTo>
                    <a:pt x="204" y="1819"/>
                  </a:lnTo>
                  <a:lnTo>
                    <a:pt x="250" y="1825"/>
                  </a:lnTo>
                  <a:lnTo>
                    <a:pt x="298" y="1829"/>
                  </a:lnTo>
                  <a:lnTo>
                    <a:pt x="344" y="1830"/>
                  </a:lnTo>
                  <a:lnTo>
                    <a:pt x="392" y="1829"/>
                  </a:lnTo>
                  <a:lnTo>
                    <a:pt x="438" y="1825"/>
                  </a:lnTo>
                  <a:lnTo>
                    <a:pt x="484" y="1819"/>
                  </a:lnTo>
                  <a:lnTo>
                    <a:pt x="528" y="1811"/>
                  </a:lnTo>
                  <a:lnTo>
                    <a:pt x="572" y="1802"/>
                  </a:lnTo>
                  <a:lnTo>
                    <a:pt x="605" y="1792"/>
                  </a:lnTo>
                  <a:lnTo>
                    <a:pt x="605" y="1792"/>
                  </a:lnTo>
                  <a:lnTo>
                    <a:pt x="603" y="1790"/>
                  </a:lnTo>
                  <a:lnTo>
                    <a:pt x="603" y="1788"/>
                  </a:lnTo>
                  <a:lnTo>
                    <a:pt x="601" y="1788"/>
                  </a:lnTo>
                  <a:lnTo>
                    <a:pt x="599" y="1786"/>
                  </a:lnTo>
                  <a:lnTo>
                    <a:pt x="599" y="1786"/>
                  </a:lnTo>
                  <a:lnTo>
                    <a:pt x="597" y="1784"/>
                  </a:lnTo>
                  <a:lnTo>
                    <a:pt x="597" y="1784"/>
                  </a:lnTo>
                  <a:lnTo>
                    <a:pt x="570" y="1790"/>
                  </a:lnTo>
                  <a:lnTo>
                    <a:pt x="526" y="1802"/>
                  </a:lnTo>
                  <a:lnTo>
                    <a:pt x="482" y="1809"/>
                  </a:lnTo>
                  <a:lnTo>
                    <a:pt x="436" y="1815"/>
                  </a:lnTo>
                  <a:lnTo>
                    <a:pt x="390" y="1819"/>
                  </a:lnTo>
                  <a:lnTo>
                    <a:pt x="344" y="1819"/>
                  </a:lnTo>
                  <a:lnTo>
                    <a:pt x="298" y="1819"/>
                  </a:lnTo>
                  <a:lnTo>
                    <a:pt x="252" y="1815"/>
                  </a:lnTo>
                  <a:lnTo>
                    <a:pt x="206" y="1809"/>
                  </a:lnTo>
                  <a:lnTo>
                    <a:pt x="161" y="1802"/>
                  </a:lnTo>
                  <a:lnTo>
                    <a:pt x="117" y="1790"/>
                  </a:lnTo>
                  <a:lnTo>
                    <a:pt x="75" y="1779"/>
                  </a:lnTo>
                  <a:lnTo>
                    <a:pt x="33" y="1765"/>
                  </a:lnTo>
                  <a:lnTo>
                    <a:pt x="0" y="1752"/>
                  </a:lnTo>
                  <a:lnTo>
                    <a:pt x="0" y="1754"/>
                  </a:lnTo>
                  <a:lnTo>
                    <a:pt x="0" y="1756"/>
                  </a:lnTo>
                  <a:lnTo>
                    <a:pt x="0" y="1756"/>
                  </a:lnTo>
                  <a:lnTo>
                    <a:pt x="2" y="1758"/>
                  </a:lnTo>
                  <a:lnTo>
                    <a:pt x="2" y="1759"/>
                  </a:lnTo>
                  <a:lnTo>
                    <a:pt x="2" y="1761"/>
                  </a:lnTo>
                  <a:lnTo>
                    <a:pt x="2" y="1763"/>
                  </a:lnTo>
                  <a:lnTo>
                    <a:pt x="2" y="1763"/>
                  </a:lnTo>
                  <a:close/>
                </a:path>
              </a:pathLst>
            </a:custGeom>
            <a:solidFill>
              <a:srgbClr val="54b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Freeform 357"/>
            <p:cNvSpPr/>
            <p:nvPr/>
          </p:nvSpPr>
          <p:spPr>
            <a:xfrm>
              <a:off x="5902560" y="1729080"/>
              <a:ext cx="1011960" cy="3066120"/>
            </a:xfrm>
            <a:custGeom>
              <a:avLst/>
              <a:gdLst>
                <a:gd name="textAreaLeft" fmla="*/ 0 w 1011960"/>
                <a:gd name="textAreaRight" fmla="*/ 1012320 w 1011960"/>
                <a:gd name="textAreaTop" fmla="*/ 0 h 3066120"/>
                <a:gd name="textAreaBottom" fmla="*/ 3066480 h 3066120"/>
              </a:gdLst>
              <a:ahLst/>
              <a:rect l="textAreaLeft" t="textAreaTop" r="textAreaRight" b="textAreaBottom"/>
              <a:pathLst>
                <a:path w="601" h="1821">
                  <a:moveTo>
                    <a:pt x="578" y="31"/>
                  </a:moveTo>
                  <a:lnTo>
                    <a:pt x="572" y="29"/>
                  </a:lnTo>
                  <a:lnTo>
                    <a:pt x="528" y="19"/>
                  </a:lnTo>
                  <a:lnTo>
                    <a:pt x="482" y="11"/>
                  </a:lnTo>
                  <a:lnTo>
                    <a:pt x="438" y="6"/>
                  </a:lnTo>
                  <a:lnTo>
                    <a:pt x="390" y="2"/>
                  </a:lnTo>
                  <a:lnTo>
                    <a:pt x="344" y="0"/>
                  </a:lnTo>
                  <a:lnTo>
                    <a:pt x="298" y="2"/>
                  </a:lnTo>
                  <a:lnTo>
                    <a:pt x="252" y="6"/>
                  </a:lnTo>
                  <a:lnTo>
                    <a:pt x="215" y="9"/>
                  </a:lnTo>
                  <a:lnTo>
                    <a:pt x="215" y="11"/>
                  </a:lnTo>
                  <a:lnTo>
                    <a:pt x="215" y="13"/>
                  </a:lnTo>
                  <a:lnTo>
                    <a:pt x="213" y="13"/>
                  </a:lnTo>
                  <a:lnTo>
                    <a:pt x="213" y="15"/>
                  </a:lnTo>
                  <a:lnTo>
                    <a:pt x="213" y="17"/>
                  </a:lnTo>
                  <a:lnTo>
                    <a:pt x="211" y="19"/>
                  </a:lnTo>
                  <a:lnTo>
                    <a:pt x="211" y="19"/>
                  </a:lnTo>
                  <a:lnTo>
                    <a:pt x="211" y="21"/>
                  </a:lnTo>
                  <a:lnTo>
                    <a:pt x="252" y="15"/>
                  </a:lnTo>
                  <a:lnTo>
                    <a:pt x="298" y="13"/>
                  </a:lnTo>
                  <a:lnTo>
                    <a:pt x="344" y="11"/>
                  </a:lnTo>
                  <a:lnTo>
                    <a:pt x="390" y="13"/>
                  </a:lnTo>
                  <a:lnTo>
                    <a:pt x="436" y="15"/>
                  </a:lnTo>
                  <a:lnTo>
                    <a:pt x="480" y="21"/>
                  </a:lnTo>
                  <a:lnTo>
                    <a:pt x="526" y="29"/>
                  </a:lnTo>
                  <a:lnTo>
                    <a:pt x="568" y="40"/>
                  </a:lnTo>
                  <a:lnTo>
                    <a:pt x="570" y="40"/>
                  </a:lnTo>
                  <a:lnTo>
                    <a:pt x="570" y="38"/>
                  </a:lnTo>
                  <a:lnTo>
                    <a:pt x="572" y="38"/>
                  </a:lnTo>
                  <a:lnTo>
                    <a:pt x="572" y="36"/>
                  </a:lnTo>
                  <a:lnTo>
                    <a:pt x="574" y="36"/>
                  </a:lnTo>
                  <a:lnTo>
                    <a:pt x="574" y="34"/>
                  </a:lnTo>
                  <a:lnTo>
                    <a:pt x="576" y="32"/>
                  </a:lnTo>
                  <a:lnTo>
                    <a:pt x="576" y="32"/>
                  </a:lnTo>
                  <a:lnTo>
                    <a:pt x="578" y="31"/>
                  </a:lnTo>
                  <a:close/>
                  <a:moveTo>
                    <a:pt x="2" y="1754"/>
                  </a:moveTo>
                  <a:lnTo>
                    <a:pt x="31" y="1765"/>
                  </a:lnTo>
                  <a:lnTo>
                    <a:pt x="73" y="1780"/>
                  </a:lnTo>
                  <a:lnTo>
                    <a:pt x="117" y="1792"/>
                  </a:lnTo>
                  <a:lnTo>
                    <a:pt x="161" y="1802"/>
                  </a:lnTo>
                  <a:lnTo>
                    <a:pt x="206" y="1811"/>
                  </a:lnTo>
                  <a:lnTo>
                    <a:pt x="252" y="1817"/>
                  </a:lnTo>
                  <a:lnTo>
                    <a:pt x="298" y="1819"/>
                  </a:lnTo>
                  <a:lnTo>
                    <a:pt x="344" y="1821"/>
                  </a:lnTo>
                  <a:lnTo>
                    <a:pt x="390" y="1819"/>
                  </a:lnTo>
                  <a:lnTo>
                    <a:pt x="438" y="1817"/>
                  </a:lnTo>
                  <a:lnTo>
                    <a:pt x="482" y="1811"/>
                  </a:lnTo>
                  <a:lnTo>
                    <a:pt x="528" y="1802"/>
                  </a:lnTo>
                  <a:lnTo>
                    <a:pt x="572" y="1792"/>
                  </a:lnTo>
                  <a:lnTo>
                    <a:pt x="601" y="1784"/>
                  </a:lnTo>
                  <a:lnTo>
                    <a:pt x="599" y="1782"/>
                  </a:lnTo>
                  <a:lnTo>
                    <a:pt x="599" y="1782"/>
                  </a:lnTo>
                  <a:lnTo>
                    <a:pt x="597" y="1780"/>
                  </a:lnTo>
                  <a:lnTo>
                    <a:pt x="597" y="1780"/>
                  </a:lnTo>
                  <a:lnTo>
                    <a:pt x="595" y="1778"/>
                  </a:lnTo>
                  <a:lnTo>
                    <a:pt x="595" y="1777"/>
                  </a:lnTo>
                  <a:lnTo>
                    <a:pt x="593" y="1777"/>
                  </a:lnTo>
                  <a:lnTo>
                    <a:pt x="593" y="1775"/>
                  </a:lnTo>
                  <a:lnTo>
                    <a:pt x="568" y="1782"/>
                  </a:lnTo>
                  <a:lnTo>
                    <a:pt x="526" y="1792"/>
                  </a:lnTo>
                  <a:lnTo>
                    <a:pt x="480" y="1800"/>
                  </a:lnTo>
                  <a:lnTo>
                    <a:pt x="436" y="1805"/>
                  </a:lnTo>
                  <a:lnTo>
                    <a:pt x="390" y="1809"/>
                  </a:lnTo>
                  <a:lnTo>
                    <a:pt x="344" y="1811"/>
                  </a:lnTo>
                  <a:lnTo>
                    <a:pt x="298" y="1809"/>
                  </a:lnTo>
                  <a:lnTo>
                    <a:pt x="252" y="1805"/>
                  </a:lnTo>
                  <a:lnTo>
                    <a:pt x="207" y="1800"/>
                  </a:lnTo>
                  <a:lnTo>
                    <a:pt x="163" y="1792"/>
                  </a:lnTo>
                  <a:lnTo>
                    <a:pt x="119" y="1782"/>
                  </a:lnTo>
                  <a:lnTo>
                    <a:pt x="77" y="1769"/>
                  </a:lnTo>
                  <a:lnTo>
                    <a:pt x="35" y="1755"/>
                  </a:lnTo>
                  <a:lnTo>
                    <a:pt x="0" y="1742"/>
                  </a:lnTo>
                  <a:lnTo>
                    <a:pt x="0" y="1744"/>
                  </a:lnTo>
                  <a:lnTo>
                    <a:pt x="0" y="1744"/>
                  </a:lnTo>
                  <a:lnTo>
                    <a:pt x="0" y="1746"/>
                  </a:lnTo>
                  <a:lnTo>
                    <a:pt x="0" y="1748"/>
                  </a:lnTo>
                  <a:lnTo>
                    <a:pt x="0" y="1750"/>
                  </a:lnTo>
                  <a:lnTo>
                    <a:pt x="0" y="1752"/>
                  </a:lnTo>
                  <a:lnTo>
                    <a:pt x="0" y="1752"/>
                  </a:lnTo>
                  <a:lnTo>
                    <a:pt x="2" y="1754"/>
                  </a:lnTo>
                  <a:close/>
                </a:path>
              </a:pathLst>
            </a:custGeom>
            <a:solidFill>
              <a:srgbClr val="55b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Freeform 358"/>
            <p:cNvSpPr/>
            <p:nvPr/>
          </p:nvSpPr>
          <p:spPr>
            <a:xfrm>
              <a:off x="5899320" y="1739160"/>
              <a:ext cx="1008360" cy="3046320"/>
            </a:xfrm>
            <a:custGeom>
              <a:avLst/>
              <a:gdLst>
                <a:gd name="textAreaLeft" fmla="*/ 0 w 1008360"/>
                <a:gd name="textAreaRight" fmla="*/ 1008720 w 1008360"/>
                <a:gd name="textAreaTop" fmla="*/ 0 h 3046320"/>
                <a:gd name="textAreaBottom" fmla="*/ 3046680 h 3046320"/>
              </a:gdLst>
              <a:ahLst/>
              <a:rect l="textAreaLeft" t="textAreaTop" r="textAreaRight" b="textAreaBottom"/>
              <a:pathLst>
                <a:path w="599" h="1809">
                  <a:moveTo>
                    <a:pt x="576" y="30"/>
                  </a:moveTo>
                  <a:lnTo>
                    <a:pt x="572" y="28"/>
                  </a:lnTo>
                  <a:lnTo>
                    <a:pt x="528" y="19"/>
                  </a:lnTo>
                  <a:lnTo>
                    <a:pt x="484" y="11"/>
                  </a:lnTo>
                  <a:lnTo>
                    <a:pt x="438" y="5"/>
                  </a:lnTo>
                  <a:lnTo>
                    <a:pt x="392" y="2"/>
                  </a:lnTo>
                  <a:lnTo>
                    <a:pt x="346" y="0"/>
                  </a:lnTo>
                  <a:lnTo>
                    <a:pt x="300" y="2"/>
                  </a:lnTo>
                  <a:lnTo>
                    <a:pt x="254" y="5"/>
                  </a:lnTo>
                  <a:lnTo>
                    <a:pt x="215" y="9"/>
                  </a:lnTo>
                  <a:lnTo>
                    <a:pt x="215" y="11"/>
                  </a:lnTo>
                  <a:lnTo>
                    <a:pt x="213" y="13"/>
                  </a:lnTo>
                  <a:lnTo>
                    <a:pt x="213" y="13"/>
                  </a:lnTo>
                  <a:lnTo>
                    <a:pt x="213" y="15"/>
                  </a:lnTo>
                  <a:lnTo>
                    <a:pt x="213" y="17"/>
                  </a:lnTo>
                  <a:lnTo>
                    <a:pt x="211" y="19"/>
                  </a:lnTo>
                  <a:lnTo>
                    <a:pt x="211" y="19"/>
                  </a:lnTo>
                  <a:lnTo>
                    <a:pt x="211" y="21"/>
                  </a:lnTo>
                  <a:lnTo>
                    <a:pt x="254" y="15"/>
                  </a:lnTo>
                  <a:lnTo>
                    <a:pt x="300" y="11"/>
                  </a:lnTo>
                  <a:lnTo>
                    <a:pt x="346" y="11"/>
                  </a:lnTo>
                  <a:lnTo>
                    <a:pt x="392" y="11"/>
                  </a:lnTo>
                  <a:lnTo>
                    <a:pt x="438" y="15"/>
                  </a:lnTo>
                  <a:lnTo>
                    <a:pt x="482" y="21"/>
                  </a:lnTo>
                  <a:lnTo>
                    <a:pt x="526" y="28"/>
                  </a:lnTo>
                  <a:lnTo>
                    <a:pt x="566" y="38"/>
                  </a:lnTo>
                  <a:lnTo>
                    <a:pt x="568" y="38"/>
                  </a:lnTo>
                  <a:lnTo>
                    <a:pt x="570" y="36"/>
                  </a:lnTo>
                  <a:lnTo>
                    <a:pt x="570" y="34"/>
                  </a:lnTo>
                  <a:lnTo>
                    <a:pt x="572" y="34"/>
                  </a:lnTo>
                  <a:lnTo>
                    <a:pt x="572" y="32"/>
                  </a:lnTo>
                  <a:lnTo>
                    <a:pt x="574" y="32"/>
                  </a:lnTo>
                  <a:lnTo>
                    <a:pt x="574" y="30"/>
                  </a:lnTo>
                  <a:lnTo>
                    <a:pt x="576" y="30"/>
                  </a:lnTo>
                  <a:close/>
                  <a:moveTo>
                    <a:pt x="2" y="1742"/>
                  </a:moveTo>
                  <a:lnTo>
                    <a:pt x="35" y="1755"/>
                  </a:lnTo>
                  <a:lnTo>
                    <a:pt x="77" y="1769"/>
                  </a:lnTo>
                  <a:lnTo>
                    <a:pt x="119" y="1780"/>
                  </a:lnTo>
                  <a:lnTo>
                    <a:pt x="163" y="1792"/>
                  </a:lnTo>
                  <a:lnTo>
                    <a:pt x="208" y="1799"/>
                  </a:lnTo>
                  <a:lnTo>
                    <a:pt x="254" y="1805"/>
                  </a:lnTo>
                  <a:lnTo>
                    <a:pt x="300" y="1809"/>
                  </a:lnTo>
                  <a:lnTo>
                    <a:pt x="346" y="1809"/>
                  </a:lnTo>
                  <a:lnTo>
                    <a:pt x="392" y="1809"/>
                  </a:lnTo>
                  <a:lnTo>
                    <a:pt x="438" y="1805"/>
                  </a:lnTo>
                  <a:lnTo>
                    <a:pt x="484" y="1799"/>
                  </a:lnTo>
                  <a:lnTo>
                    <a:pt x="528" y="1792"/>
                  </a:lnTo>
                  <a:lnTo>
                    <a:pt x="572" y="1780"/>
                  </a:lnTo>
                  <a:lnTo>
                    <a:pt x="599" y="1774"/>
                  </a:lnTo>
                  <a:lnTo>
                    <a:pt x="597" y="1772"/>
                  </a:lnTo>
                  <a:lnTo>
                    <a:pt x="597" y="1771"/>
                  </a:lnTo>
                  <a:lnTo>
                    <a:pt x="595" y="1771"/>
                  </a:lnTo>
                  <a:lnTo>
                    <a:pt x="595" y="1769"/>
                  </a:lnTo>
                  <a:lnTo>
                    <a:pt x="593" y="1769"/>
                  </a:lnTo>
                  <a:lnTo>
                    <a:pt x="593" y="1767"/>
                  </a:lnTo>
                  <a:lnTo>
                    <a:pt x="591" y="1767"/>
                  </a:lnTo>
                  <a:lnTo>
                    <a:pt x="591" y="1765"/>
                  </a:lnTo>
                  <a:lnTo>
                    <a:pt x="570" y="1771"/>
                  </a:lnTo>
                  <a:lnTo>
                    <a:pt x="526" y="1780"/>
                  </a:lnTo>
                  <a:lnTo>
                    <a:pt x="482" y="1788"/>
                  </a:lnTo>
                  <a:lnTo>
                    <a:pt x="438" y="1794"/>
                  </a:lnTo>
                  <a:lnTo>
                    <a:pt x="392" y="1797"/>
                  </a:lnTo>
                  <a:lnTo>
                    <a:pt x="346" y="1799"/>
                  </a:lnTo>
                  <a:lnTo>
                    <a:pt x="300" y="1797"/>
                  </a:lnTo>
                  <a:lnTo>
                    <a:pt x="254" y="1794"/>
                  </a:lnTo>
                  <a:lnTo>
                    <a:pt x="209" y="1788"/>
                  </a:lnTo>
                  <a:lnTo>
                    <a:pt x="165" y="1780"/>
                  </a:lnTo>
                  <a:lnTo>
                    <a:pt x="123" y="1771"/>
                  </a:lnTo>
                  <a:lnTo>
                    <a:pt x="81" y="1759"/>
                  </a:lnTo>
                  <a:lnTo>
                    <a:pt x="39" y="1746"/>
                  </a:lnTo>
                  <a:lnTo>
                    <a:pt x="0" y="1730"/>
                  </a:lnTo>
                  <a:lnTo>
                    <a:pt x="0" y="1732"/>
                  </a:lnTo>
                  <a:lnTo>
                    <a:pt x="0" y="1732"/>
                  </a:lnTo>
                  <a:lnTo>
                    <a:pt x="2" y="1734"/>
                  </a:lnTo>
                  <a:lnTo>
                    <a:pt x="2" y="1736"/>
                  </a:lnTo>
                  <a:lnTo>
                    <a:pt x="2" y="1738"/>
                  </a:lnTo>
                  <a:lnTo>
                    <a:pt x="2" y="1738"/>
                  </a:lnTo>
                  <a:lnTo>
                    <a:pt x="2" y="1740"/>
                  </a:lnTo>
                  <a:lnTo>
                    <a:pt x="2" y="1742"/>
                  </a:lnTo>
                  <a:close/>
                </a:path>
              </a:pathLst>
            </a:custGeom>
            <a:solidFill>
              <a:srgbClr val="56b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Freeform 359"/>
            <p:cNvSpPr/>
            <p:nvPr/>
          </p:nvSpPr>
          <p:spPr>
            <a:xfrm>
              <a:off x="5899320" y="1747440"/>
              <a:ext cx="1001880" cy="3031200"/>
            </a:xfrm>
            <a:custGeom>
              <a:avLst/>
              <a:gdLst>
                <a:gd name="textAreaLeft" fmla="*/ 0 w 1001880"/>
                <a:gd name="textAreaRight" fmla="*/ 1002240 w 1001880"/>
                <a:gd name="textAreaTop" fmla="*/ 0 h 3031200"/>
                <a:gd name="textAreaBottom" fmla="*/ 3031560 h 3031200"/>
              </a:gdLst>
              <a:ahLst/>
              <a:rect l="textAreaLeft" t="textAreaTop" r="textAreaRight" b="textAreaBottom"/>
              <a:pathLst>
                <a:path w="595" h="1800">
                  <a:moveTo>
                    <a:pt x="572" y="29"/>
                  </a:moveTo>
                  <a:lnTo>
                    <a:pt x="570" y="29"/>
                  </a:lnTo>
                  <a:lnTo>
                    <a:pt x="528" y="18"/>
                  </a:lnTo>
                  <a:lnTo>
                    <a:pt x="482" y="10"/>
                  </a:lnTo>
                  <a:lnTo>
                    <a:pt x="438" y="4"/>
                  </a:lnTo>
                  <a:lnTo>
                    <a:pt x="392" y="2"/>
                  </a:lnTo>
                  <a:lnTo>
                    <a:pt x="346" y="0"/>
                  </a:lnTo>
                  <a:lnTo>
                    <a:pt x="300" y="2"/>
                  </a:lnTo>
                  <a:lnTo>
                    <a:pt x="254" y="4"/>
                  </a:lnTo>
                  <a:lnTo>
                    <a:pt x="213" y="10"/>
                  </a:lnTo>
                  <a:lnTo>
                    <a:pt x="213" y="12"/>
                  </a:lnTo>
                  <a:lnTo>
                    <a:pt x="211" y="14"/>
                  </a:lnTo>
                  <a:lnTo>
                    <a:pt x="211" y="14"/>
                  </a:lnTo>
                  <a:lnTo>
                    <a:pt x="211" y="16"/>
                  </a:lnTo>
                  <a:lnTo>
                    <a:pt x="209" y="18"/>
                  </a:lnTo>
                  <a:lnTo>
                    <a:pt x="209" y="20"/>
                  </a:lnTo>
                  <a:lnTo>
                    <a:pt x="209" y="20"/>
                  </a:lnTo>
                  <a:lnTo>
                    <a:pt x="209" y="21"/>
                  </a:lnTo>
                  <a:lnTo>
                    <a:pt x="211" y="21"/>
                  </a:lnTo>
                  <a:lnTo>
                    <a:pt x="255" y="16"/>
                  </a:lnTo>
                  <a:lnTo>
                    <a:pt x="300" y="12"/>
                  </a:lnTo>
                  <a:lnTo>
                    <a:pt x="346" y="12"/>
                  </a:lnTo>
                  <a:lnTo>
                    <a:pt x="392" y="12"/>
                  </a:lnTo>
                  <a:lnTo>
                    <a:pt x="436" y="16"/>
                  </a:lnTo>
                  <a:lnTo>
                    <a:pt x="482" y="21"/>
                  </a:lnTo>
                  <a:lnTo>
                    <a:pt x="524" y="29"/>
                  </a:lnTo>
                  <a:lnTo>
                    <a:pt x="563" y="39"/>
                  </a:lnTo>
                  <a:lnTo>
                    <a:pt x="565" y="37"/>
                  </a:lnTo>
                  <a:lnTo>
                    <a:pt x="565" y="35"/>
                  </a:lnTo>
                  <a:lnTo>
                    <a:pt x="566" y="35"/>
                  </a:lnTo>
                  <a:lnTo>
                    <a:pt x="566" y="33"/>
                  </a:lnTo>
                  <a:lnTo>
                    <a:pt x="568" y="33"/>
                  </a:lnTo>
                  <a:lnTo>
                    <a:pt x="570" y="31"/>
                  </a:lnTo>
                  <a:lnTo>
                    <a:pt x="570" y="29"/>
                  </a:lnTo>
                  <a:lnTo>
                    <a:pt x="572" y="29"/>
                  </a:lnTo>
                  <a:close/>
                  <a:moveTo>
                    <a:pt x="2" y="1731"/>
                  </a:moveTo>
                  <a:lnTo>
                    <a:pt x="37" y="1744"/>
                  </a:lnTo>
                  <a:lnTo>
                    <a:pt x="79" y="1758"/>
                  </a:lnTo>
                  <a:lnTo>
                    <a:pt x="121" y="1771"/>
                  </a:lnTo>
                  <a:lnTo>
                    <a:pt x="165" y="1781"/>
                  </a:lnTo>
                  <a:lnTo>
                    <a:pt x="209" y="1789"/>
                  </a:lnTo>
                  <a:lnTo>
                    <a:pt x="254" y="1794"/>
                  </a:lnTo>
                  <a:lnTo>
                    <a:pt x="300" y="1798"/>
                  </a:lnTo>
                  <a:lnTo>
                    <a:pt x="346" y="1800"/>
                  </a:lnTo>
                  <a:lnTo>
                    <a:pt x="392" y="1798"/>
                  </a:lnTo>
                  <a:lnTo>
                    <a:pt x="438" y="1794"/>
                  </a:lnTo>
                  <a:lnTo>
                    <a:pt x="482" y="1789"/>
                  </a:lnTo>
                  <a:lnTo>
                    <a:pt x="528" y="1781"/>
                  </a:lnTo>
                  <a:lnTo>
                    <a:pt x="570" y="1771"/>
                  </a:lnTo>
                  <a:lnTo>
                    <a:pt x="595" y="1764"/>
                  </a:lnTo>
                  <a:lnTo>
                    <a:pt x="593" y="1764"/>
                  </a:lnTo>
                  <a:lnTo>
                    <a:pt x="593" y="1762"/>
                  </a:lnTo>
                  <a:lnTo>
                    <a:pt x="591" y="1762"/>
                  </a:lnTo>
                  <a:lnTo>
                    <a:pt x="591" y="1760"/>
                  </a:lnTo>
                  <a:lnTo>
                    <a:pt x="589" y="1758"/>
                  </a:lnTo>
                  <a:lnTo>
                    <a:pt x="588" y="1758"/>
                  </a:lnTo>
                  <a:lnTo>
                    <a:pt x="588" y="1756"/>
                  </a:lnTo>
                  <a:lnTo>
                    <a:pt x="586" y="1756"/>
                  </a:lnTo>
                  <a:lnTo>
                    <a:pt x="568" y="1760"/>
                  </a:lnTo>
                  <a:lnTo>
                    <a:pt x="524" y="1771"/>
                  </a:lnTo>
                  <a:lnTo>
                    <a:pt x="482" y="1779"/>
                  </a:lnTo>
                  <a:lnTo>
                    <a:pt x="436" y="1785"/>
                  </a:lnTo>
                  <a:lnTo>
                    <a:pt x="392" y="1787"/>
                  </a:lnTo>
                  <a:lnTo>
                    <a:pt x="346" y="1789"/>
                  </a:lnTo>
                  <a:lnTo>
                    <a:pt x="300" y="1787"/>
                  </a:lnTo>
                  <a:lnTo>
                    <a:pt x="255" y="1785"/>
                  </a:lnTo>
                  <a:lnTo>
                    <a:pt x="211" y="1779"/>
                  </a:lnTo>
                  <a:lnTo>
                    <a:pt x="167" y="1771"/>
                  </a:lnTo>
                  <a:lnTo>
                    <a:pt x="123" y="1760"/>
                  </a:lnTo>
                  <a:lnTo>
                    <a:pt x="81" y="1748"/>
                  </a:lnTo>
                  <a:lnTo>
                    <a:pt x="41" y="1735"/>
                  </a:lnTo>
                  <a:lnTo>
                    <a:pt x="0" y="1720"/>
                  </a:lnTo>
                  <a:lnTo>
                    <a:pt x="0" y="1720"/>
                  </a:lnTo>
                  <a:lnTo>
                    <a:pt x="0" y="1720"/>
                  </a:lnTo>
                  <a:lnTo>
                    <a:pt x="0" y="1721"/>
                  </a:lnTo>
                  <a:lnTo>
                    <a:pt x="0" y="1723"/>
                  </a:lnTo>
                  <a:lnTo>
                    <a:pt x="0" y="1725"/>
                  </a:lnTo>
                  <a:lnTo>
                    <a:pt x="0" y="1727"/>
                  </a:lnTo>
                  <a:lnTo>
                    <a:pt x="0" y="1727"/>
                  </a:lnTo>
                  <a:lnTo>
                    <a:pt x="2" y="1729"/>
                  </a:lnTo>
                  <a:lnTo>
                    <a:pt x="2" y="1731"/>
                  </a:lnTo>
                  <a:close/>
                </a:path>
              </a:pathLst>
            </a:custGeom>
            <a:solidFill>
              <a:srgbClr val="57b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Freeform 360"/>
            <p:cNvSpPr/>
            <p:nvPr/>
          </p:nvSpPr>
          <p:spPr>
            <a:xfrm>
              <a:off x="5895720" y="1757880"/>
              <a:ext cx="998640" cy="30103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3010320"/>
                <a:gd name="textAreaBottom" fmla="*/ 3010680 h 3010320"/>
              </a:gdLst>
              <a:ahLst/>
              <a:rect l="textAreaLeft" t="textAreaTop" r="textAreaRight" b="textAreaBottom"/>
              <a:pathLst>
                <a:path w="593" h="1788">
                  <a:moveTo>
                    <a:pt x="568" y="27"/>
                  </a:moveTo>
                  <a:lnTo>
                    <a:pt x="528" y="17"/>
                  </a:lnTo>
                  <a:lnTo>
                    <a:pt x="484" y="10"/>
                  </a:lnTo>
                  <a:lnTo>
                    <a:pt x="440" y="4"/>
                  </a:lnTo>
                  <a:lnTo>
                    <a:pt x="394" y="0"/>
                  </a:lnTo>
                  <a:lnTo>
                    <a:pt x="348" y="0"/>
                  </a:lnTo>
                  <a:lnTo>
                    <a:pt x="302" y="0"/>
                  </a:lnTo>
                  <a:lnTo>
                    <a:pt x="256" y="4"/>
                  </a:lnTo>
                  <a:lnTo>
                    <a:pt x="213" y="10"/>
                  </a:lnTo>
                  <a:lnTo>
                    <a:pt x="211" y="12"/>
                  </a:lnTo>
                  <a:lnTo>
                    <a:pt x="211" y="14"/>
                  </a:lnTo>
                  <a:lnTo>
                    <a:pt x="211" y="14"/>
                  </a:lnTo>
                  <a:lnTo>
                    <a:pt x="211" y="15"/>
                  </a:lnTo>
                  <a:lnTo>
                    <a:pt x="210" y="17"/>
                  </a:lnTo>
                  <a:lnTo>
                    <a:pt x="210" y="19"/>
                  </a:lnTo>
                  <a:lnTo>
                    <a:pt x="210" y="19"/>
                  </a:lnTo>
                  <a:lnTo>
                    <a:pt x="208" y="21"/>
                  </a:lnTo>
                  <a:lnTo>
                    <a:pt x="213" y="21"/>
                  </a:lnTo>
                  <a:lnTo>
                    <a:pt x="257" y="15"/>
                  </a:lnTo>
                  <a:lnTo>
                    <a:pt x="302" y="12"/>
                  </a:lnTo>
                  <a:lnTo>
                    <a:pt x="348" y="10"/>
                  </a:lnTo>
                  <a:lnTo>
                    <a:pt x="394" y="12"/>
                  </a:lnTo>
                  <a:lnTo>
                    <a:pt x="438" y="15"/>
                  </a:lnTo>
                  <a:lnTo>
                    <a:pt x="482" y="21"/>
                  </a:lnTo>
                  <a:lnTo>
                    <a:pt x="526" y="29"/>
                  </a:lnTo>
                  <a:lnTo>
                    <a:pt x="561" y="37"/>
                  </a:lnTo>
                  <a:lnTo>
                    <a:pt x="563" y="35"/>
                  </a:lnTo>
                  <a:lnTo>
                    <a:pt x="563" y="35"/>
                  </a:lnTo>
                  <a:lnTo>
                    <a:pt x="565" y="33"/>
                  </a:lnTo>
                  <a:lnTo>
                    <a:pt x="565" y="33"/>
                  </a:lnTo>
                  <a:lnTo>
                    <a:pt x="567" y="31"/>
                  </a:lnTo>
                  <a:lnTo>
                    <a:pt x="567" y="29"/>
                  </a:lnTo>
                  <a:lnTo>
                    <a:pt x="568" y="29"/>
                  </a:lnTo>
                  <a:lnTo>
                    <a:pt x="568" y="27"/>
                  </a:lnTo>
                  <a:close/>
                  <a:moveTo>
                    <a:pt x="2" y="1719"/>
                  </a:moveTo>
                  <a:lnTo>
                    <a:pt x="41" y="1735"/>
                  </a:lnTo>
                  <a:lnTo>
                    <a:pt x="83" y="1748"/>
                  </a:lnTo>
                  <a:lnTo>
                    <a:pt x="125" y="1760"/>
                  </a:lnTo>
                  <a:lnTo>
                    <a:pt x="167" y="1769"/>
                  </a:lnTo>
                  <a:lnTo>
                    <a:pt x="211" y="1777"/>
                  </a:lnTo>
                  <a:lnTo>
                    <a:pt x="256" y="1783"/>
                  </a:lnTo>
                  <a:lnTo>
                    <a:pt x="302" y="1786"/>
                  </a:lnTo>
                  <a:lnTo>
                    <a:pt x="348" y="1788"/>
                  </a:lnTo>
                  <a:lnTo>
                    <a:pt x="394" y="1786"/>
                  </a:lnTo>
                  <a:lnTo>
                    <a:pt x="440" y="1783"/>
                  </a:lnTo>
                  <a:lnTo>
                    <a:pt x="484" y="1777"/>
                  </a:lnTo>
                  <a:lnTo>
                    <a:pt x="528" y="1769"/>
                  </a:lnTo>
                  <a:lnTo>
                    <a:pt x="572" y="1760"/>
                  </a:lnTo>
                  <a:lnTo>
                    <a:pt x="593" y="1754"/>
                  </a:lnTo>
                  <a:lnTo>
                    <a:pt x="591" y="1752"/>
                  </a:lnTo>
                  <a:lnTo>
                    <a:pt x="590" y="1752"/>
                  </a:lnTo>
                  <a:lnTo>
                    <a:pt x="590" y="1750"/>
                  </a:lnTo>
                  <a:lnTo>
                    <a:pt x="588" y="1750"/>
                  </a:lnTo>
                  <a:lnTo>
                    <a:pt x="588" y="1748"/>
                  </a:lnTo>
                  <a:lnTo>
                    <a:pt x="586" y="1748"/>
                  </a:lnTo>
                  <a:lnTo>
                    <a:pt x="586" y="1746"/>
                  </a:lnTo>
                  <a:lnTo>
                    <a:pt x="584" y="1744"/>
                  </a:lnTo>
                  <a:lnTo>
                    <a:pt x="568" y="1750"/>
                  </a:lnTo>
                  <a:lnTo>
                    <a:pt x="526" y="1760"/>
                  </a:lnTo>
                  <a:lnTo>
                    <a:pt x="482" y="1767"/>
                  </a:lnTo>
                  <a:lnTo>
                    <a:pt x="438" y="1773"/>
                  </a:lnTo>
                  <a:lnTo>
                    <a:pt x="394" y="1777"/>
                  </a:lnTo>
                  <a:lnTo>
                    <a:pt x="348" y="1777"/>
                  </a:lnTo>
                  <a:lnTo>
                    <a:pt x="302" y="1777"/>
                  </a:lnTo>
                  <a:lnTo>
                    <a:pt x="257" y="1773"/>
                  </a:lnTo>
                  <a:lnTo>
                    <a:pt x="213" y="1767"/>
                  </a:lnTo>
                  <a:lnTo>
                    <a:pt x="169" y="1760"/>
                  </a:lnTo>
                  <a:lnTo>
                    <a:pt x="127" y="1750"/>
                  </a:lnTo>
                  <a:lnTo>
                    <a:pt x="85" y="1738"/>
                  </a:lnTo>
                  <a:lnTo>
                    <a:pt x="44" y="1723"/>
                  </a:lnTo>
                  <a:lnTo>
                    <a:pt x="4" y="1708"/>
                  </a:lnTo>
                  <a:lnTo>
                    <a:pt x="0" y="1706"/>
                  </a:lnTo>
                  <a:lnTo>
                    <a:pt x="0" y="1708"/>
                  </a:lnTo>
                  <a:lnTo>
                    <a:pt x="2" y="1710"/>
                  </a:lnTo>
                  <a:lnTo>
                    <a:pt x="2" y="1712"/>
                  </a:lnTo>
                  <a:lnTo>
                    <a:pt x="2" y="1714"/>
                  </a:lnTo>
                  <a:lnTo>
                    <a:pt x="2" y="1714"/>
                  </a:lnTo>
                  <a:lnTo>
                    <a:pt x="2" y="1715"/>
                  </a:lnTo>
                  <a:lnTo>
                    <a:pt x="2" y="1717"/>
                  </a:lnTo>
                  <a:lnTo>
                    <a:pt x="2" y="1719"/>
                  </a:lnTo>
                  <a:close/>
                </a:path>
              </a:pathLst>
            </a:custGeom>
            <a:solidFill>
              <a:srgbClr val="58b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Freeform 361"/>
            <p:cNvSpPr/>
            <p:nvPr/>
          </p:nvSpPr>
          <p:spPr>
            <a:xfrm>
              <a:off x="5895720" y="1767960"/>
              <a:ext cx="990000" cy="2991960"/>
            </a:xfrm>
            <a:custGeom>
              <a:avLst/>
              <a:gdLst>
                <a:gd name="textAreaLeft" fmla="*/ 0 w 990000"/>
                <a:gd name="textAreaRight" fmla="*/ 990360 w 990000"/>
                <a:gd name="textAreaTop" fmla="*/ 0 h 2991960"/>
                <a:gd name="textAreaBottom" fmla="*/ 2992320 h 2991960"/>
              </a:gdLst>
              <a:ahLst/>
              <a:rect l="textAreaLeft" t="textAreaTop" r="textAreaRight" b="textAreaBottom"/>
              <a:pathLst>
                <a:path w="588" h="1777">
                  <a:moveTo>
                    <a:pt x="565" y="27"/>
                  </a:moveTo>
                  <a:lnTo>
                    <a:pt x="526" y="17"/>
                  </a:lnTo>
                  <a:lnTo>
                    <a:pt x="484" y="9"/>
                  </a:lnTo>
                  <a:lnTo>
                    <a:pt x="438" y="4"/>
                  </a:lnTo>
                  <a:lnTo>
                    <a:pt x="394" y="0"/>
                  </a:lnTo>
                  <a:lnTo>
                    <a:pt x="348" y="0"/>
                  </a:lnTo>
                  <a:lnTo>
                    <a:pt x="302" y="0"/>
                  </a:lnTo>
                  <a:lnTo>
                    <a:pt x="257" y="4"/>
                  </a:lnTo>
                  <a:lnTo>
                    <a:pt x="213" y="9"/>
                  </a:lnTo>
                  <a:lnTo>
                    <a:pt x="211" y="9"/>
                  </a:lnTo>
                  <a:lnTo>
                    <a:pt x="210" y="11"/>
                  </a:lnTo>
                  <a:lnTo>
                    <a:pt x="210" y="13"/>
                  </a:lnTo>
                  <a:lnTo>
                    <a:pt x="210" y="13"/>
                  </a:lnTo>
                  <a:lnTo>
                    <a:pt x="208" y="15"/>
                  </a:lnTo>
                  <a:lnTo>
                    <a:pt x="208" y="17"/>
                  </a:lnTo>
                  <a:lnTo>
                    <a:pt x="208" y="19"/>
                  </a:lnTo>
                  <a:lnTo>
                    <a:pt x="206" y="19"/>
                  </a:lnTo>
                  <a:lnTo>
                    <a:pt x="206" y="21"/>
                  </a:lnTo>
                  <a:lnTo>
                    <a:pt x="213" y="19"/>
                  </a:lnTo>
                  <a:lnTo>
                    <a:pt x="257" y="13"/>
                  </a:lnTo>
                  <a:lnTo>
                    <a:pt x="304" y="11"/>
                  </a:lnTo>
                  <a:lnTo>
                    <a:pt x="348" y="9"/>
                  </a:lnTo>
                  <a:lnTo>
                    <a:pt x="394" y="11"/>
                  </a:lnTo>
                  <a:lnTo>
                    <a:pt x="438" y="13"/>
                  </a:lnTo>
                  <a:lnTo>
                    <a:pt x="482" y="19"/>
                  </a:lnTo>
                  <a:lnTo>
                    <a:pt x="524" y="27"/>
                  </a:lnTo>
                  <a:lnTo>
                    <a:pt x="557" y="34"/>
                  </a:lnTo>
                  <a:lnTo>
                    <a:pt x="559" y="34"/>
                  </a:lnTo>
                  <a:lnTo>
                    <a:pt x="559" y="33"/>
                  </a:lnTo>
                  <a:lnTo>
                    <a:pt x="561" y="31"/>
                  </a:lnTo>
                  <a:lnTo>
                    <a:pt x="561" y="31"/>
                  </a:lnTo>
                  <a:lnTo>
                    <a:pt x="563" y="29"/>
                  </a:lnTo>
                  <a:lnTo>
                    <a:pt x="563" y="29"/>
                  </a:lnTo>
                  <a:lnTo>
                    <a:pt x="565" y="27"/>
                  </a:lnTo>
                  <a:lnTo>
                    <a:pt x="565" y="27"/>
                  </a:lnTo>
                  <a:close/>
                  <a:moveTo>
                    <a:pt x="2" y="1708"/>
                  </a:moveTo>
                  <a:lnTo>
                    <a:pt x="2" y="1708"/>
                  </a:lnTo>
                  <a:lnTo>
                    <a:pt x="43" y="1723"/>
                  </a:lnTo>
                  <a:lnTo>
                    <a:pt x="83" y="1736"/>
                  </a:lnTo>
                  <a:lnTo>
                    <a:pt x="125" y="1748"/>
                  </a:lnTo>
                  <a:lnTo>
                    <a:pt x="169" y="1759"/>
                  </a:lnTo>
                  <a:lnTo>
                    <a:pt x="213" y="1767"/>
                  </a:lnTo>
                  <a:lnTo>
                    <a:pt x="257" y="1773"/>
                  </a:lnTo>
                  <a:lnTo>
                    <a:pt x="302" y="1775"/>
                  </a:lnTo>
                  <a:lnTo>
                    <a:pt x="348" y="1777"/>
                  </a:lnTo>
                  <a:lnTo>
                    <a:pt x="394" y="1775"/>
                  </a:lnTo>
                  <a:lnTo>
                    <a:pt x="438" y="1773"/>
                  </a:lnTo>
                  <a:lnTo>
                    <a:pt x="484" y="1767"/>
                  </a:lnTo>
                  <a:lnTo>
                    <a:pt x="526" y="1759"/>
                  </a:lnTo>
                  <a:lnTo>
                    <a:pt x="570" y="1748"/>
                  </a:lnTo>
                  <a:lnTo>
                    <a:pt x="588" y="1744"/>
                  </a:lnTo>
                  <a:lnTo>
                    <a:pt x="588" y="1742"/>
                  </a:lnTo>
                  <a:lnTo>
                    <a:pt x="586" y="1742"/>
                  </a:lnTo>
                  <a:lnTo>
                    <a:pt x="586" y="1740"/>
                  </a:lnTo>
                  <a:lnTo>
                    <a:pt x="584" y="1738"/>
                  </a:lnTo>
                  <a:lnTo>
                    <a:pt x="584" y="1738"/>
                  </a:lnTo>
                  <a:lnTo>
                    <a:pt x="582" y="1736"/>
                  </a:lnTo>
                  <a:lnTo>
                    <a:pt x="582" y="1736"/>
                  </a:lnTo>
                  <a:lnTo>
                    <a:pt x="580" y="1734"/>
                  </a:lnTo>
                  <a:lnTo>
                    <a:pt x="567" y="1738"/>
                  </a:lnTo>
                  <a:lnTo>
                    <a:pt x="524" y="1748"/>
                  </a:lnTo>
                  <a:lnTo>
                    <a:pt x="482" y="1755"/>
                  </a:lnTo>
                  <a:lnTo>
                    <a:pt x="438" y="1761"/>
                  </a:lnTo>
                  <a:lnTo>
                    <a:pt x="394" y="1765"/>
                  </a:lnTo>
                  <a:lnTo>
                    <a:pt x="348" y="1765"/>
                  </a:lnTo>
                  <a:lnTo>
                    <a:pt x="304" y="1765"/>
                  </a:lnTo>
                  <a:lnTo>
                    <a:pt x="257" y="1761"/>
                  </a:lnTo>
                  <a:lnTo>
                    <a:pt x="213" y="1755"/>
                  </a:lnTo>
                  <a:lnTo>
                    <a:pt x="171" y="1748"/>
                  </a:lnTo>
                  <a:lnTo>
                    <a:pt x="129" y="1738"/>
                  </a:lnTo>
                  <a:lnTo>
                    <a:pt x="87" y="1727"/>
                  </a:lnTo>
                  <a:lnTo>
                    <a:pt x="46" y="1713"/>
                  </a:lnTo>
                  <a:lnTo>
                    <a:pt x="6" y="1696"/>
                  </a:lnTo>
                  <a:lnTo>
                    <a:pt x="0" y="1694"/>
                  </a:lnTo>
                  <a:lnTo>
                    <a:pt x="0" y="1696"/>
                  </a:lnTo>
                  <a:lnTo>
                    <a:pt x="0" y="1698"/>
                  </a:lnTo>
                  <a:lnTo>
                    <a:pt x="0" y="1700"/>
                  </a:lnTo>
                  <a:lnTo>
                    <a:pt x="0" y="1700"/>
                  </a:lnTo>
                  <a:lnTo>
                    <a:pt x="0" y="1702"/>
                  </a:lnTo>
                  <a:lnTo>
                    <a:pt x="2" y="1704"/>
                  </a:lnTo>
                  <a:lnTo>
                    <a:pt x="2" y="1706"/>
                  </a:lnTo>
                  <a:lnTo>
                    <a:pt x="2" y="1708"/>
                  </a:lnTo>
                  <a:close/>
                </a:path>
              </a:pathLst>
            </a:custGeom>
            <a:solidFill>
              <a:srgbClr val="59b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Freeform 362"/>
            <p:cNvSpPr/>
            <p:nvPr/>
          </p:nvSpPr>
          <p:spPr>
            <a:xfrm>
              <a:off x="5895720" y="1774800"/>
              <a:ext cx="983160" cy="2975400"/>
            </a:xfrm>
            <a:custGeom>
              <a:avLst/>
              <a:gdLst>
                <a:gd name="textAreaLeft" fmla="*/ 0 w 983160"/>
                <a:gd name="textAreaRight" fmla="*/ 983520 w 983160"/>
                <a:gd name="textAreaTop" fmla="*/ 0 h 2975400"/>
                <a:gd name="textAreaBottom" fmla="*/ 2975760 h 2975400"/>
              </a:gdLst>
              <a:ahLst/>
              <a:rect l="textAreaLeft" t="textAreaTop" r="textAreaRight" b="textAreaBottom"/>
              <a:pathLst>
                <a:path w="584" h="1767">
                  <a:moveTo>
                    <a:pt x="561" y="27"/>
                  </a:moveTo>
                  <a:lnTo>
                    <a:pt x="526" y="19"/>
                  </a:lnTo>
                  <a:lnTo>
                    <a:pt x="482" y="11"/>
                  </a:lnTo>
                  <a:lnTo>
                    <a:pt x="438" y="5"/>
                  </a:lnTo>
                  <a:lnTo>
                    <a:pt x="394" y="2"/>
                  </a:lnTo>
                  <a:lnTo>
                    <a:pt x="348" y="0"/>
                  </a:lnTo>
                  <a:lnTo>
                    <a:pt x="302" y="2"/>
                  </a:lnTo>
                  <a:lnTo>
                    <a:pt x="257" y="5"/>
                  </a:lnTo>
                  <a:lnTo>
                    <a:pt x="213" y="11"/>
                  </a:lnTo>
                  <a:lnTo>
                    <a:pt x="208" y="11"/>
                  </a:lnTo>
                  <a:lnTo>
                    <a:pt x="208" y="13"/>
                  </a:lnTo>
                  <a:lnTo>
                    <a:pt x="208" y="15"/>
                  </a:lnTo>
                  <a:lnTo>
                    <a:pt x="206" y="15"/>
                  </a:lnTo>
                  <a:lnTo>
                    <a:pt x="206" y="17"/>
                  </a:lnTo>
                  <a:lnTo>
                    <a:pt x="206" y="19"/>
                  </a:lnTo>
                  <a:lnTo>
                    <a:pt x="206" y="21"/>
                  </a:lnTo>
                  <a:lnTo>
                    <a:pt x="204" y="21"/>
                  </a:lnTo>
                  <a:lnTo>
                    <a:pt x="204" y="23"/>
                  </a:lnTo>
                  <a:lnTo>
                    <a:pt x="215" y="21"/>
                  </a:lnTo>
                  <a:lnTo>
                    <a:pt x="259" y="15"/>
                  </a:lnTo>
                  <a:lnTo>
                    <a:pt x="304" y="11"/>
                  </a:lnTo>
                  <a:lnTo>
                    <a:pt x="348" y="11"/>
                  </a:lnTo>
                  <a:lnTo>
                    <a:pt x="392" y="11"/>
                  </a:lnTo>
                  <a:lnTo>
                    <a:pt x="438" y="15"/>
                  </a:lnTo>
                  <a:lnTo>
                    <a:pt x="480" y="21"/>
                  </a:lnTo>
                  <a:lnTo>
                    <a:pt x="524" y="29"/>
                  </a:lnTo>
                  <a:lnTo>
                    <a:pt x="553" y="36"/>
                  </a:lnTo>
                  <a:lnTo>
                    <a:pt x="555" y="34"/>
                  </a:lnTo>
                  <a:lnTo>
                    <a:pt x="555" y="32"/>
                  </a:lnTo>
                  <a:lnTo>
                    <a:pt x="557" y="32"/>
                  </a:lnTo>
                  <a:lnTo>
                    <a:pt x="557" y="30"/>
                  </a:lnTo>
                  <a:lnTo>
                    <a:pt x="559" y="30"/>
                  </a:lnTo>
                  <a:lnTo>
                    <a:pt x="559" y="29"/>
                  </a:lnTo>
                  <a:lnTo>
                    <a:pt x="561" y="27"/>
                  </a:lnTo>
                  <a:lnTo>
                    <a:pt x="561" y="27"/>
                  </a:lnTo>
                  <a:close/>
                  <a:moveTo>
                    <a:pt x="0" y="1696"/>
                  </a:moveTo>
                  <a:lnTo>
                    <a:pt x="4" y="1698"/>
                  </a:lnTo>
                  <a:lnTo>
                    <a:pt x="44" y="1713"/>
                  </a:lnTo>
                  <a:lnTo>
                    <a:pt x="85" y="1728"/>
                  </a:lnTo>
                  <a:lnTo>
                    <a:pt x="127" y="1740"/>
                  </a:lnTo>
                  <a:lnTo>
                    <a:pt x="169" y="1750"/>
                  </a:lnTo>
                  <a:lnTo>
                    <a:pt x="213" y="1757"/>
                  </a:lnTo>
                  <a:lnTo>
                    <a:pt x="257" y="1763"/>
                  </a:lnTo>
                  <a:lnTo>
                    <a:pt x="302" y="1767"/>
                  </a:lnTo>
                  <a:lnTo>
                    <a:pt x="348" y="1767"/>
                  </a:lnTo>
                  <a:lnTo>
                    <a:pt x="394" y="1767"/>
                  </a:lnTo>
                  <a:lnTo>
                    <a:pt x="438" y="1763"/>
                  </a:lnTo>
                  <a:lnTo>
                    <a:pt x="482" y="1757"/>
                  </a:lnTo>
                  <a:lnTo>
                    <a:pt x="526" y="1750"/>
                  </a:lnTo>
                  <a:lnTo>
                    <a:pt x="568" y="1740"/>
                  </a:lnTo>
                  <a:lnTo>
                    <a:pt x="584" y="1734"/>
                  </a:lnTo>
                  <a:lnTo>
                    <a:pt x="584" y="1734"/>
                  </a:lnTo>
                  <a:lnTo>
                    <a:pt x="582" y="1732"/>
                  </a:lnTo>
                  <a:lnTo>
                    <a:pt x="582" y="1732"/>
                  </a:lnTo>
                  <a:lnTo>
                    <a:pt x="580" y="1730"/>
                  </a:lnTo>
                  <a:lnTo>
                    <a:pt x="580" y="1730"/>
                  </a:lnTo>
                  <a:lnTo>
                    <a:pt x="578" y="1728"/>
                  </a:lnTo>
                  <a:lnTo>
                    <a:pt x="578" y="1727"/>
                  </a:lnTo>
                  <a:lnTo>
                    <a:pt x="576" y="1727"/>
                  </a:lnTo>
                  <a:lnTo>
                    <a:pt x="567" y="1728"/>
                  </a:lnTo>
                  <a:lnTo>
                    <a:pt x="524" y="1738"/>
                  </a:lnTo>
                  <a:lnTo>
                    <a:pt x="480" y="1746"/>
                  </a:lnTo>
                  <a:lnTo>
                    <a:pt x="438" y="1751"/>
                  </a:lnTo>
                  <a:lnTo>
                    <a:pt x="392" y="1755"/>
                  </a:lnTo>
                  <a:lnTo>
                    <a:pt x="348" y="1757"/>
                  </a:lnTo>
                  <a:lnTo>
                    <a:pt x="304" y="1755"/>
                  </a:lnTo>
                  <a:lnTo>
                    <a:pt x="259" y="1751"/>
                  </a:lnTo>
                  <a:lnTo>
                    <a:pt x="215" y="1746"/>
                  </a:lnTo>
                  <a:lnTo>
                    <a:pt x="171" y="1738"/>
                  </a:lnTo>
                  <a:lnTo>
                    <a:pt x="129" y="1728"/>
                  </a:lnTo>
                  <a:lnTo>
                    <a:pt x="89" y="1717"/>
                  </a:lnTo>
                  <a:lnTo>
                    <a:pt x="48" y="1704"/>
                  </a:lnTo>
                  <a:lnTo>
                    <a:pt x="8" y="1688"/>
                  </a:lnTo>
                  <a:lnTo>
                    <a:pt x="0" y="1684"/>
                  </a:lnTo>
                  <a:lnTo>
                    <a:pt x="0" y="1686"/>
                  </a:lnTo>
                  <a:lnTo>
                    <a:pt x="0" y="1686"/>
                  </a:lnTo>
                  <a:lnTo>
                    <a:pt x="0" y="1688"/>
                  </a:lnTo>
                  <a:lnTo>
                    <a:pt x="0" y="1690"/>
                  </a:lnTo>
                  <a:lnTo>
                    <a:pt x="0" y="1692"/>
                  </a:lnTo>
                  <a:lnTo>
                    <a:pt x="0" y="1694"/>
                  </a:lnTo>
                  <a:lnTo>
                    <a:pt x="0" y="1696"/>
                  </a:lnTo>
                  <a:lnTo>
                    <a:pt x="0" y="1696"/>
                  </a:lnTo>
                  <a:close/>
                </a:path>
              </a:pathLst>
            </a:custGeom>
            <a:solidFill>
              <a:srgbClr val="5ab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Freeform 363"/>
            <p:cNvSpPr/>
            <p:nvPr/>
          </p:nvSpPr>
          <p:spPr>
            <a:xfrm>
              <a:off x="5892480" y="1783080"/>
              <a:ext cx="980280" cy="2957040"/>
            </a:xfrm>
            <a:custGeom>
              <a:avLst/>
              <a:gdLst>
                <a:gd name="textAreaLeft" fmla="*/ 0 w 980280"/>
                <a:gd name="textAreaRight" fmla="*/ 980640 w 980280"/>
                <a:gd name="textAreaTop" fmla="*/ 0 h 2957040"/>
                <a:gd name="textAreaBottom" fmla="*/ 2957400 h 2957040"/>
              </a:gdLst>
              <a:ahLst/>
              <a:rect l="textAreaLeft" t="textAreaTop" r="textAreaRight" b="textAreaBottom"/>
              <a:pathLst>
                <a:path w="582" h="1756">
                  <a:moveTo>
                    <a:pt x="559" y="25"/>
                  </a:moveTo>
                  <a:lnTo>
                    <a:pt x="526" y="18"/>
                  </a:lnTo>
                  <a:lnTo>
                    <a:pt x="484" y="10"/>
                  </a:lnTo>
                  <a:lnTo>
                    <a:pt x="440" y="4"/>
                  </a:lnTo>
                  <a:lnTo>
                    <a:pt x="396" y="2"/>
                  </a:lnTo>
                  <a:lnTo>
                    <a:pt x="350" y="0"/>
                  </a:lnTo>
                  <a:lnTo>
                    <a:pt x="306" y="2"/>
                  </a:lnTo>
                  <a:lnTo>
                    <a:pt x="259" y="4"/>
                  </a:lnTo>
                  <a:lnTo>
                    <a:pt x="215" y="10"/>
                  </a:lnTo>
                  <a:lnTo>
                    <a:pt x="208" y="12"/>
                  </a:lnTo>
                  <a:lnTo>
                    <a:pt x="208" y="14"/>
                  </a:lnTo>
                  <a:lnTo>
                    <a:pt x="208" y="16"/>
                  </a:lnTo>
                  <a:lnTo>
                    <a:pt x="206" y="16"/>
                  </a:lnTo>
                  <a:lnTo>
                    <a:pt x="206" y="18"/>
                  </a:lnTo>
                  <a:lnTo>
                    <a:pt x="206" y="20"/>
                  </a:lnTo>
                  <a:lnTo>
                    <a:pt x="204" y="22"/>
                  </a:lnTo>
                  <a:lnTo>
                    <a:pt x="204" y="22"/>
                  </a:lnTo>
                  <a:lnTo>
                    <a:pt x="204" y="24"/>
                  </a:lnTo>
                  <a:lnTo>
                    <a:pt x="217" y="22"/>
                  </a:lnTo>
                  <a:lnTo>
                    <a:pt x="261" y="16"/>
                  </a:lnTo>
                  <a:lnTo>
                    <a:pt x="306" y="12"/>
                  </a:lnTo>
                  <a:lnTo>
                    <a:pt x="350" y="12"/>
                  </a:lnTo>
                  <a:lnTo>
                    <a:pt x="394" y="12"/>
                  </a:lnTo>
                  <a:lnTo>
                    <a:pt x="438" y="16"/>
                  </a:lnTo>
                  <a:lnTo>
                    <a:pt x="482" y="22"/>
                  </a:lnTo>
                  <a:lnTo>
                    <a:pt x="524" y="29"/>
                  </a:lnTo>
                  <a:lnTo>
                    <a:pt x="551" y="35"/>
                  </a:lnTo>
                  <a:lnTo>
                    <a:pt x="553" y="33"/>
                  </a:lnTo>
                  <a:lnTo>
                    <a:pt x="553" y="33"/>
                  </a:lnTo>
                  <a:lnTo>
                    <a:pt x="555" y="31"/>
                  </a:lnTo>
                  <a:lnTo>
                    <a:pt x="555" y="31"/>
                  </a:lnTo>
                  <a:lnTo>
                    <a:pt x="557" y="29"/>
                  </a:lnTo>
                  <a:lnTo>
                    <a:pt x="557" y="27"/>
                  </a:lnTo>
                  <a:lnTo>
                    <a:pt x="559" y="27"/>
                  </a:lnTo>
                  <a:lnTo>
                    <a:pt x="559" y="25"/>
                  </a:lnTo>
                  <a:close/>
                  <a:moveTo>
                    <a:pt x="2" y="1685"/>
                  </a:moveTo>
                  <a:lnTo>
                    <a:pt x="8" y="1687"/>
                  </a:lnTo>
                  <a:lnTo>
                    <a:pt x="48" y="1704"/>
                  </a:lnTo>
                  <a:lnTo>
                    <a:pt x="89" y="1718"/>
                  </a:lnTo>
                  <a:lnTo>
                    <a:pt x="131" y="1729"/>
                  </a:lnTo>
                  <a:lnTo>
                    <a:pt x="173" y="1739"/>
                  </a:lnTo>
                  <a:lnTo>
                    <a:pt x="215" y="1746"/>
                  </a:lnTo>
                  <a:lnTo>
                    <a:pt x="259" y="1752"/>
                  </a:lnTo>
                  <a:lnTo>
                    <a:pt x="306" y="1756"/>
                  </a:lnTo>
                  <a:lnTo>
                    <a:pt x="350" y="1756"/>
                  </a:lnTo>
                  <a:lnTo>
                    <a:pt x="396" y="1756"/>
                  </a:lnTo>
                  <a:lnTo>
                    <a:pt x="440" y="1752"/>
                  </a:lnTo>
                  <a:lnTo>
                    <a:pt x="484" y="1746"/>
                  </a:lnTo>
                  <a:lnTo>
                    <a:pt x="526" y="1739"/>
                  </a:lnTo>
                  <a:lnTo>
                    <a:pt x="569" y="1729"/>
                  </a:lnTo>
                  <a:lnTo>
                    <a:pt x="582" y="1725"/>
                  </a:lnTo>
                  <a:lnTo>
                    <a:pt x="582" y="1725"/>
                  </a:lnTo>
                  <a:lnTo>
                    <a:pt x="580" y="1723"/>
                  </a:lnTo>
                  <a:lnTo>
                    <a:pt x="580" y="1722"/>
                  </a:lnTo>
                  <a:lnTo>
                    <a:pt x="578" y="1722"/>
                  </a:lnTo>
                  <a:lnTo>
                    <a:pt x="578" y="1720"/>
                  </a:lnTo>
                  <a:lnTo>
                    <a:pt x="576" y="1720"/>
                  </a:lnTo>
                  <a:lnTo>
                    <a:pt x="576" y="1718"/>
                  </a:lnTo>
                  <a:lnTo>
                    <a:pt x="574" y="1718"/>
                  </a:lnTo>
                  <a:lnTo>
                    <a:pt x="567" y="1720"/>
                  </a:lnTo>
                  <a:lnTo>
                    <a:pt x="524" y="1729"/>
                  </a:lnTo>
                  <a:lnTo>
                    <a:pt x="482" y="1737"/>
                  </a:lnTo>
                  <a:lnTo>
                    <a:pt x="438" y="1743"/>
                  </a:lnTo>
                  <a:lnTo>
                    <a:pt x="394" y="1745"/>
                  </a:lnTo>
                  <a:lnTo>
                    <a:pt x="350" y="1746"/>
                  </a:lnTo>
                  <a:lnTo>
                    <a:pt x="306" y="1745"/>
                  </a:lnTo>
                  <a:lnTo>
                    <a:pt x="261" y="1743"/>
                  </a:lnTo>
                  <a:lnTo>
                    <a:pt x="217" y="1737"/>
                  </a:lnTo>
                  <a:lnTo>
                    <a:pt x="175" y="1729"/>
                  </a:lnTo>
                  <a:lnTo>
                    <a:pt x="133" y="1720"/>
                  </a:lnTo>
                  <a:lnTo>
                    <a:pt x="93" y="1708"/>
                  </a:lnTo>
                  <a:lnTo>
                    <a:pt x="52" y="1693"/>
                  </a:lnTo>
                  <a:lnTo>
                    <a:pt x="12" y="1677"/>
                  </a:lnTo>
                  <a:lnTo>
                    <a:pt x="0" y="1674"/>
                  </a:lnTo>
                  <a:lnTo>
                    <a:pt x="0" y="1674"/>
                  </a:lnTo>
                  <a:lnTo>
                    <a:pt x="0" y="1675"/>
                  </a:lnTo>
                  <a:lnTo>
                    <a:pt x="0" y="1677"/>
                  </a:lnTo>
                  <a:lnTo>
                    <a:pt x="2" y="1679"/>
                  </a:lnTo>
                  <a:lnTo>
                    <a:pt x="2" y="1681"/>
                  </a:lnTo>
                  <a:lnTo>
                    <a:pt x="2" y="1681"/>
                  </a:lnTo>
                  <a:lnTo>
                    <a:pt x="2" y="1683"/>
                  </a:lnTo>
                  <a:lnTo>
                    <a:pt x="2" y="1685"/>
                  </a:lnTo>
                  <a:close/>
                </a:path>
              </a:pathLst>
            </a:custGeom>
            <a:solidFill>
              <a:srgbClr val="5bb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Freeform 364"/>
            <p:cNvSpPr/>
            <p:nvPr/>
          </p:nvSpPr>
          <p:spPr>
            <a:xfrm>
              <a:off x="5892480" y="1793520"/>
              <a:ext cx="973440" cy="2939760"/>
            </a:xfrm>
            <a:custGeom>
              <a:avLst/>
              <a:gdLst>
                <a:gd name="textAreaLeft" fmla="*/ 0 w 973440"/>
                <a:gd name="textAreaRight" fmla="*/ 973800 w 973440"/>
                <a:gd name="textAreaTop" fmla="*/ 0 h 2939760"/>
                <a:gd name="textAreaBottom" fmla="*/ 2940120 h 2939760"/>
              </a:gdLst>
              <a:ahLst/>
              <a:rect l="textAreaLeft" t="textAreaTop" r="textAreaRight" b="textAreaBottom"/>
              <a:pathLst>
                <a:path w="578" h="1746">
                  <a:moveTo>
                    <a:pt x="555" y="25"/>
                  </a:moveTo>
                  <a:lnTo>
                    <a:pt x="526" y="18"/>
                  </a:lnTo>
                  <a:lnTo>
                    <a:pt x="482" y="10"/>
                  </a:lnTo>
                  <a:lnTo>
                    <a:pt x="440" y="4"/>
                  </a:lnTo>
                  <a:lnTo>
                    <a:pt x="394" y="0"/>
                  </a:lnTo>
                  <a:lnTo>
                    <a:pt x="350" y="0"/>
                  </a:lnTo>
                  <a:lnTo>
                    <a:pt x="306" y="0"/>
                  </a:lnTo>
                  <a:lnTo>
                    <a:pt x="261" y="4"/>
                  </a:lnTo>
                  <a:lnTo>
                    <a:pt x="217" y="10"/>
                  </a:lnTo>
                  <a:lnTo>
                    <a:pt x="206" y="12"/>
                  </a:lnTo>
                  <a:lnTo>
                    <a:pt x="206" y="14"/>
                  </a:lnTo>
                  <a:lnTo>
                    <a:pt x="204" y="16"/>
                  </a:lnTo>
                  <a:lnTo>
                    <a:pt x="204" y="16"/>
                  </a:lnTo>
                  <a:lnTo>
                    <a:pt x="204" y="18"/>
                  </a:lnTo>
                  <a:lnTo>
                    <a:pt x="204" y="19"/>
                  </a:lnTo>
                  <a:lnTo>
                    <a:pt x="202" y="21"/>
                  </a:lnTo>
                  <a:lnTo>
                    <a:pt x="202" y="21"/>
                  </a:lnTo>
                  <a:lnTo>
                    <a:pt x="202" y="23"/>
                  </a:lnTo>
                  <a:lnTo>
                    <a:pt x="219" y="21"/>
                  </a:lnTo>
                  <a:lnTo>
                    <a:pt x="261" y="16"/>
                  </a:lnTo>
                  <a:lnTo>
                    <a:pt x="306" y="12"/>
                  </a:lnTo>
                  <a:lnTo>
                    <a:pt x="350" y="10"/>
                  </a:lnTo>
                  <a:lnTo>
                    <a:pt x="394" y="12"/>
                  </a:lnTo>
                  <a:lnTo>
                    <a:pt x="438" y="16"/>
                  </a:lnTo>
                  <a:lnTo>
                    <a:pt x="480" y="21"/>
                  </a:lnTo>
                  <a:lnTo>
                    <a:pt x="524" y="29"/>
                  </a:lnTo>
                  <a:lnTo>
                    <a:pt x="547" y="33"/>
                  </a:lnTo>
                  <a:lnTo>
                    <a:pt x="549" y="33"/>
                  </a:lnTo>
                  <a:lnTo>
                    <a:pt x="549" y="31"/>
                  </a:lnTo>
                  <a:lnTo>
                    <a:pt x="551" y="31"/>
                  </a:lnTo>
                  <a:lnTo>
                    <a:pt x="551" y="29"/>
                  </a:lnTo>
                  <a:lnTo>
                    <a:pt x="553" y="27"/>
                  </a:lnTo>
                  <a:lnTo>
                    <a:pt x="553" y="27"/>
                  </a:lnTo>
                  <a:lnTo>
                    <a:pt x="555" y="25"/>
                  </a:lnTo>
                  <a:lnTo>
                    <a:pt x="555" y="25"/>
                  </a:lnTo>
                  <a:close/>
                  <a:moveTo>
                    <a:pt x="2" y="1673"/>
                  </a:moveTo>
                  <a:lnTo>
                    <a:pt x="10" y="1677"/>
                  </a:lnTo>
                  <a:lnTo>
                    <a:pt x="50" y="1693"/>
                  </a:lnTo>
                  <a:lnTo>
                    <a:pt x="91" y="1706"/>
                  </a:lnTo>
                  <a:lnTo>
                    <a:pt x="131" y="1717"/>
                  </a:lnTo>
                  <a:lnTo>
                    <a:pt x="173" y="1727"/>
                  </a:lnTo>
                  <a:lnTo>
                    <a:pt x="217" y="1735"/>
                  </a:lnTo>
                  <a:lnTo>
                    <a:pt x="261" y="1740"/>
                  </a:lnTo>
                  <a:lnTo>
                    <a:pt x="306" y="1744"/>
                  </a:lnTo>
                  <a:lnTo>
                    <a:pt x="350" y="1746"/>
                  </a:lnTo>
                  <a:lnTo>
                    <a:pt x="394" y="1744"/>
                  </a:lnTo>
                  <a:lnTo>
                    <a:pt x="440" y="1740"/>
                  </a:lnTo>
                  <a:lnTo>
                    <a:pt x="482" y="1735"/>
                  </a:lnTo>
                  <a:lnTo>
                    <a:pt x="526" y="1727"/>
                  </a:lnTo>
                  <a:lnTo>
                    <a:pt x="569" y="1717"/>
                  </a:lnTo>
                  <a:lnTo>
                    <a:pt x="578" y="1716"/>
                  </a:lnTo>
                  <a:lnTo>
                    <a:pt x="578" y="1714"/>
                  </a:lnTo>
                  <a:lnTo>
                    <a:pt x="576" y="1714"/>
                  </a:lnTo>
                  <a:lnTo>
                    <a:pt x="576" y="1712"/>
                  </a:lnTo>
                  <a:lnTo>
                    <a:pt x="574" y="1712"/>
                  </a:lnTo>
                  <a:lnTo>
                    <a:pt x="574" y="1710"/>
                  </a:lnTo>
                  <a:lnTo>
                    <a:pt x="572" y="1708"/>
                  </a:lnTo>
                  <a:lnTo>
                    <a:pt x="572" y="1708"/>
                  </a:lnTo>
                  <a:lnTo>
                    <a:pt x="570" y="1706"/>
                  </a:lnTo>
                  <a:lnTo>
                    <a:pt x="565" y="1708"/>
                  </a:lnTo>
                  <a:lnTo>
                    <a:pt x="524" y="1717"/>
                  </a:lnTo>
                  <a:lnTo>
                    <a:pt x="480" y="1725"/>
                  </a:lnTo>
                  <a:lnTo>
                    <a:pt x="438" y="1731"/>
                  </a:lnTo>
                  <a:lnTo>
                    <a:pt x="394" y="1735"/>
                  </a:lnTo>
                  <a:lnTo>
                    <a:pt x="350" y="1735"/>
                  </a:lnTo>
                  <a:lnTo>
                    <a:pt x="306" y="1735"/>
                  </a:lnTo>
                  <a:lnTo>
                    <a:pt x="261" y="1731"/>
                  </a:lnTo>
                  <a:lnTo>
                    <a:pt x="219" y="1725"/>
                  </a:lnTo>
                  <a:lnTo>
                    <a:pt x="177" y="1717"/>
                  </a:lnTo>
                  <a:lnTo>
                    <a:pt x="135" y="1708"/>
                  </a:lnTo>
                  <a:lnTo>
                    <a:pt x="93" y="1696"/>
                  </a:lnTo>
                  <a:lnTo>
                    <a:pt x="54" y="1683"/>
                  </a:lnTo>
                  <a:lnTo>
                    <a:pt x="14" y="1668"/>
                  </a:lnTo>
                  <a:lnTo>
                    <a:pt x="0" y="1660"/>
                  </a:lnTo>
                  <a:lnTo>
                    <a:pt x="0" y="1662"/>
                  </a:lnTo>
                  <a:lnTo>
                    <a:pt x="0" y="1664"/>
                  </a:lnTo>
                  <a:lnTo>
                    <a:pt x="0" y="1666"/>
                  </a:lnTo>
                  <a:lnTo>
                    <a:pt x="0" y="1668"/>
                  </a:lnTo>
                  <a:lnTo>
                    <a:pt x="0" y="1668"/>
                  </a:lnTo>
                  <a:lnTo>
                    <a:pt x="0" y="1669"/>
                  </a:lnTo>
                  <a:lnTo>
                    <a:pt x="0" y="1671"/>
                  </a:lnTo>
                  <a:lnTo>
                    <a:pt x="2" y="1673"/>
                  </a:lnTo>
                  <a:close/>
                </a:path>
              </a:pathLst>
            </a:custGeom>
            <a:solidFill>
              <a:srgbClr val="5cb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Freeform 365"/>
            <p:cNvSpPr/>
            <p:nvPr/>
          </p:nvSpPr>
          <p:spPr>
            <a:xfrm>
              <a:off x="5889240" y="1803240"/>
              <a:ext cx="969840" cy="2919600"/>
            </a:xfrm>
            <a:custGeom>
              <a:avLst/>
              <a:gdLst>
                <a:gd name="textAreaLeft" fmla="*/ 0 w 969840"/>
                <a:gd name="textAreaRight" fmla="*/ 970200 w 969840"/>
                <a:gd name="textAreaTop" fmla="*/ 0 h 2919600"/>
                <a:gd name="textAreaBottom" fmla="*/ 2919960 h 2919600"/>
              </a:gdLst>
              <a:ahLst/>
              <a:rect l="textAreaLeft" t="textAreaTop" r="textAreaRight" b="textAreaBottom"/>
              <a:pathLst>
                <a:path w="576" h="1734">
                  <a:moveTo>
                    <a:pt x="553" y="23"/>
                  </a:moveTo>
                  <a:lnTo>
                    <a:pt x="526" y="17"/>
                  </a:lnTo>
                  <a:lnTo>
                    <a:pt x="484" y="10"/>
                  </a:lnTo>
                  <a:lnTo>
                    <a:pt x="440" y="4"/>
                  </a:lnTo>
                  <a:lnTo>
                    <a:pt x="396" y="0"/>
                  </a:lnTo>
                  <a:lnTo>
                    <a:pt x="352" y="0"/>
                  </a:lnTo>
                  <a:lnTo>
                    <a:pt x="308" y="0"/>
                  </a:lnTo>
                  <a:lnTo>
                    <a:pt x="263" y="4"/>
                  </a:lnTo>
                  <a:lnTo>
                    <a:pt x="219" y="10"/>
                  </a:lnTo>
                  <a:lnTo>
                    <a:pt x="206" y="12"/>
                  </a:lnTo>
                  <a:lnTo>
                    <a:pt x="206" y="13"/>
                  </a:lnTo>
                  <a:lnTo>
                    <a:pt x="204" y="15"/>
                  </a:lnTo>
                  <a:lnTo>
                    <a:pt x="204" y="15"/>
                  </a:lnTo>
                  <a:lnTo>
                    <a:pt x="204" y="17"/>
                  </a:lnTo>
                  <a:lnTo>
                    <a:pt x="202" y="19"/>
                  </a:lnTo>
                  <a:lnTo>
                    <a:pt x="202" y="21"/>
                  </a:lnTo>
                  <a:lnTo>
                    <a:pt x="202" y="21"/>
                  </a:lnTo>
                  <a:lnTo>
                    <a:pt x="202" y="23"/>
                  </a:lnTo>
                  <a:lnTo>
                    <a:pt x="221" y="19"/>
                  </a:lnTo>
                  <a:lnTo>
                    <a:pt x="263" y="13"/>
                  </a:lnTo>
                  <a:lnTo>
                    <a:pt x="308" y="12"/>
                  </a:lnTo>
                  <a:lnTo>
                    <a:pt x="352" y="10"/>
                  </a:lnTo>
                  <a:lnTo>
                    <a:pt x="396" y="12"/>
                  </a:lnTo>
                  <a:lnTo>
                    <a:pt x="440" y="13"/>
                  </a:lnTo>
                  <a:lnTo>
                    <a:pt x="482" y="19"/>
                  </a:lnTo>
                  <a:lnTo>
                    <a:pt x="524" y="27"/>
                  </a:lnTo>
                  <a:lnTo>
                    <a:pt x="546" y="33"/>
                  </a:lnTo>
                  <a:lnTo>
                    <a:pt x="547" y="31"/>
                  </a:lnTo>
                  <a:lnTo>
                    <a:pt x="547" y="31"/>
                  </a:lnTo>
                  <a:lnTo>
                    <a:pt x="549" y="29"/>
                  </a:lnTo>
                  <a:lnTo>
                    <a:pt x="549" y="27"/>
                  </a:lnTo>
                  <a:lnTo>
                    <a:pt x="551" y="27"/>
                  </a:lnTo>
                  <a:lnTo>
                    <a:pt x="551" y="25"/>
                  </a:lnTo>
                  <a:lnTo>
                    <a:pt x="553" y="25"/>
                  </a:lnTo>
                  <a:lnTo>
                    <a:pt x="553" y="23"/>
                  </a:lnTo>
                  <a:close/>
                  <a:moveTo>
                    <a:pt x="2" y="1662"/>
                  </a:moveTo>
                  <a:lnTo>
                    <a:pt x="14" y="1665"/>
                  </a:lnTo>
                  <a:lnTo>
                    <a:pt x="54" y="1681"/>
                  </a:lnTo>
                  <a:lnTo>
                    <a:pt x="95" y="1696"/>
                  </a:lnTo>
                  <a:lnTo>
                    <a:pt x="135" y="1708"/>
                  </a:lnTo>
                  <a:lnTo>
                    <a:pt x="177" y="1717"/>
                  </a:lnTo>
                  <a:lnTo>
                    <a:pt x="219" y="1725"/>
                  </a:lnTo>
                  <a:lnTo>
                    <a:pt x="263" y="1731"/>
                  </a:lnTo>
                  <a:lnTo>
                    <a:pt x="308" y="1733"/>
                  </a:lnTo>
                  <a:lnTo>
                    <a:pt x="352" y="1734"/>
                  </a:lnTo>
                  <a:lnTo>
                    <a:pt x="396" y="1733"/>
                  </a:lnTo>
                  <a:lnTo>
                    <a:pt x="440" y="1731"/>
                  </a:lnTo>
                  <a:lnTo>
                    <a:pt x="484" y="1725"/>
                  </a:lnTo>
                  <a:lnTo>
                    <a:pt x="526" y="1717"/>
                  </a:lnTo>
                  <a:lnTo>
                    <a:pt x="569" y="1708"/>
                  </a:lnTo>
                  <a:lnTo>
                    <a:pt x="576" y="1706"/>
                  </a:lnTo>
                  <a:lnTo>
                    <a:pt x="576" y="1704"/>
                  </a:lnTo>
                  <a:lnTo>
                    <a:pt x="574" y="1702"/>
                  </a:lnTo>
                  <a:lnTo>
                    <a:pt x="574" y="1702"/>
                  </a:lnTo>
                  <a:lnTo>
                    <a:pt x="572" y="1700"/>
                  </a:lnTo>
                  <a:lnTo>
                    <a:pt x="572" y="1700"/>
                  </a:lnTo>
                  <a:lnTo>
                    <a:pt x="571" y="1698"/>
                  </a:lnTo>
                  <a:lnTo>
                    <a:pt x="571" y="1696"/>
                  </a:lnTo>
                  <a:lnTo>
                    <a:pt x="569" y="1696"/>
                  </a:lnTo>
                  <a:lnTo>
                    <a:pt x="567" y="1696"/>
                  </a:lnTo>
                  <a:lnTo>
                    <a:pt x="524" y="1706"/>
                  </a:lnTo>
                  <a:lnTo>
                    <a:pt x="482" y="1713"/>
                  </a:lnTo>
                  <a:lnTo>
                    <a:pt x="440" y="1719"/>
                  </a:lnTo>
                  <a:lnTo>
                    <a:pt x="396" y="1723"/>
                  </a:lnTo>
                  <a:lnTo>
                    <a:pt x="352" y="1723"/>
                  </a:lnTo>
                  <a:lnTo>
                    <a:pt x="308" y="1723"/>
                  </a:lnTo>
                  <a:lnTo>
                    <a:pt x="263" y="1719"/>
                  </a:lnTo>
                  <a:lnTo>
                    <a:pt x="221" y="1713"/>
                  </a:lnTo>
                  <a:lnTo>
                    <a:pt x="179" y="1706"/>
                  </a:lnTo>
                  <a:lnTo>
                    <a:pt x="139" y="1696"/>
                  </a:lnTo>
                  <a:lnTo>
                    <a:pt x="96" y="1685"/>
                  </a:lnTo>
                  <a:lnTo>
                    <a:pt x="58" y="1671"/>
                  </a:lnTo>
                  <a:lnTo>
                    <a:pt x="18" y="1656"/>
                  </a:lnTo>
                  <a:lnTo>
                    <a:pt x="0" y="1648"/>
                  </a:lnTo>
                  <a:lnTo>
                    <a:pt x="0" y="1650"/>
                  </a:lnTo>
                  <a:lnTo>
                    <a:pt x="0" y="1652"/>
                  </a:lnTo>
                  <a:lnTo>
                    <a:pt x="2" y="1654"/>
                  </a:lnTo>
                  <a:lnTo>
                    <a:pt x="2" y="1654"/>
                  </a:lnTo>
                  <a:lnTo>
                    <a:pt x="2" y="1656"/>
                  </a:lnTo>
                  <a:lnTo>
                    <a:pt x="2" y="1658"/>
                  </a:lnTo>
                  <a:lnTo>
                    <a:pt x="2" y="1660"/>
                  </a:lnTo>
                  <a:lnTo>
                    <a:pt x="2" y="1662"/>
                  </a:lnTo>
                  <a:close/>
                </a:path>
              </a:pathLst>
            </a:custGeom>
            <a:solidFill>
              <a:srgbClr val="5db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Freeform 366"/>
            <p:cNvSpPr/>
            <p:nvPr/>
          </p:nvSpPr>
          <p:spPr>
            <a:xfrm>
              <a:off x="5889240" y="1810080"/>
              <a:ext cx="963000" cy="2904120"/>
            </a:xfrm>
            <a:custGeom>
              <a:avLst/>
              <a:gdLst>
                <a:gd name="textAreaLeft" fmla="*/ 0 w 963000"/>
                <a:gd name="textAreaRight" fmla="*/ 963360 w 963000"/>
                <a:gd name="textAreaTop" fmla="*/ 0 h 2904120"/>
                <a:gd name="textAreaBottom" fmla="*/ 2904480 h 2904120"/>
              </a:gdLst>
              <a:ahLst/>
              <a:rect l="textAreaLeft" t="textAreaTop" r="textAreaRight" b="textAreaBottom"/>
              <a:pathLst>
                <a:path w="572" h="1725">
                  <a:moveTo>
                    <a:pt x="549" y="23"/>
                  </a:moveTo>
                  <a:lnTo>
                    <a:pt x="526" y="19"/>
                  </a:lnTo>
                  <a:lnTo>
                    <a:pt x="482" y="11"/>
                  </a:lnTo>
                  <a:lnTo>
                    <a:pt x="440" y="6"/>
                  </a:lnTo>
                  <a:lnTo>
                    <a:pt x="396" y="2"/>
                  </a:lnTo>
                  <a:lnTo>
                    <a:pt x="352" y="0"/>
                  </a:lnTo>
                  <a:lnTo>
                    <a:pt x="308" y="2"/>
                  </a:lnTo>
                  <a:lnTo>
                    <a:pt x="263" y="6"/>
                  </a:lnTo>
                  <a:lnTo>
                    <a:pt x="221" y="11"/>
                  </a:lnTo>
                  <a:lnTo>
                    <a:pt x="204" y="13"/>
                  </a:lnTo>
                  <a:lnTo>
                    <a:pt x="202" y="15"/>
                  </a:lnTo>
                  <a:lnTo>
                    <a:pt x="202" y="17"/>
                  </a:lnTo>
                  <a:lnTo>
                    <a:pt x="202" y="17"/>
                  </a:lnTo>
                  <a:lnTo>
                    <a:pt x="202" y="19"/>
                  </a:lnTo>
                  <a:lnTo>
                    <a:pt x="200" y="21"/>
                  </a:lnTo>
                  <a:lnTo>
                    <a:pt x="200" y="23"/>
                  </a:lnTo>
                  <a:lnTo>
                    <a:pt x="200" y="23"/>
                  </a:lnTo>
                  <a:lnTo>
                    <a:pt x="198" y="25"/>
                  </a:lnTo>
                  <a:lnTo>
                    <a:pt x="223" y="21"/>
                  </a:lnTo>
                  <a:lnTo>
                    <a:pt x="265" y="15"/>
                  </a:lnTo>
                  <a:lnTo>
                    <a:pt x="308" y="13"/>
                  </a:lnTo>
                  <a:lnTo>
                    <a:pt x="352" y="11"/>
                  </a:lnTo>
                  <a:lnTo>
                    <a:pt x="396" y="13"/>
                  </a:lnTo>
                  <a:lnTo>
                    <a:pt x="438" y="15"/>
                  </a:lnTo>
                  <a:lnTo>
                    <a:pt x="482" y="21"/>
                  </a:lnTo>
                  <a:lnTo>
                    <a:pt x="524" y="29"/>
                  </a:lnTo>
                  <a:lnTo>
                    <a:pt x="542" y="32"/>
                  </a:lnTo>
                  <a:lnTo>
                    <a:pt x="544" y="32"/>
                  </a:lnTo>
                  <a:lnTo>
                    <a:pt x="544" y="31"/>
                  </a:lnTo>
                  <a:lnTo>
                    <a:pt x="546" y="29"/>
                  </a:lnTo>
                  <a:lnTo>
                    <a:pt x="546" y="29"/>
                  </a:lnTo>
                  <a:lnTo>
                    <a:pt x="547" y="27"/>
                  </a:lnTo>
                  <a:lnTo>
                    <a:pt x="547" y="27"/>
                  </a:lnTo>
                  <a:lnTo>
                    <a:pt x="549" y="25"/>
                  </a:lnTo>
                  <a:lnTo>
                    <a:pt x="549" y="23"/>
                  </a:lnTo>
                  <a:close/>
                  <a:moveTo>
                    <a:pt x="2" y="1650"/>
                  </a:moveTo>
                  <a:lnTo>
                    <a:pt x="16" y="1658"/>
                  </a:lnTo>
                  <a:lnTo>
                    <a:pt x="56" y="1673"/>
                  </a:lnTo>
                  <a:lnTo>
                    <a:pt x="95" y="1686"/>
                  </a:lnTo>
                  <a:lnTo>
                    <a:pt x="137" y="1698"/>
                  </a:lnTo>
                  <a:lnTo>
                    <a:pt x="179" y="1707"/>
                  </a:lnTo>
                  <a:lnTo>
                    <a:pt x="221" y="1715"/>
                  </a:lnTo>
                  <a:lnTo>
                    <a:pt x="263" y="1721"/>
                  </a:lnTo>
                  <a:lnTo>
                    <a:pt x="308" y="1725"/>
                  </a:lnTo>
                  <a:lnTo>
                    <a:pt x="352" y="1725"/>
                  </a:lnTo>
                  <a:lnTo>
                    <a:pt x="396" y="1725"/>
                  </a:lnTo>
                  <a:lnTo>
                    <a:pt x="440" y="1721"/>
                  </a:lnTo>
                  <a:lnTo>
                    <a:pt x="482" y="1715"/>
                  </a:lnTo>
                  <a:lnTo>
                    <a:pt x="526" y="1707"/>
                  </a:lnTo>
                  <a:lnTo>
                    <a:pt x="567" y="1698"/>
                  </a:lnTo>
                  <a:lnTo>
                    <a:pt x="572" y="1696"/>
                  </a:lnTo>
                  <a:lnTo>
                    <a:pt x="572" y="1696"/>
                  </a:lnTo>
                  <a:lnTo>
                    <a:pt x="571" y="1694"/>
                  </a:lnTo>
                  <a:lnTo>
                    <a:pt x="571" y="1692"/>
                  </a:lnTo>
                  <a:lnTo>
                    <a:pt x="569" y="1692"/>
                  </a:lnTo>
                  <a:lnTo>
                    <a:pt x="569" y="1690"/>
                  </a:lnTo>
                  <a:lnTo>
                    <a:pt x="567" y="1690"/>
                  </a:lnTo>
                  <a:lnTo>
                    <a:pt x="567" y="1688"/>
                  </a:lnTo>
                  <a:lnTo>
                    <a:pt x="565" y="1688"/>
                  </a:lnTo>
                  <a:lnTo>
                    <a:pt x="565" y="1688"/>
                  </a:lnTo>
                  <a:lnTo>
                    <a:pt x="524" y="1698"/>
                  </a:lnTo>
                  <a:lnTo>
                    <a:pt x="482" y="1704"/>
                  </a:lnTo>
                  <a:lnTo>
                    <a:pt x="438" y="1709"/>
                  </a:lnTo>
                  <a:lnTo>
                    <a:pt x="396" y="1713"/>
                  </a:lnTo>
                  <a:lnTo>
                    <a:pt x="352" y="1715"/>
                  </a:lnTo>
                  <a:lnTo>
                    <a:pt x="308" y="1713"/>
                  </a:lnTo>
                  <a:lnTo>
                    <a:pt x="265" y="1709"/>
                  </a:lnTo>
                  <a:lnTo>
                    <a:pt x="223" y="1704"/>
                  </a:lnTo>
                  <a:lnTo>
                    <a:pt x="181" y="1698"/>
                  </a:lnTo>
                  <a:lnTo>
                    <a:pt x="139" y="1688"/>
                  </a:lnTo>
                  <a:lnTo>
                    <a:pt x="98" y="1677"/>
                  </a:lnTo>
                  <a:lnTo>
                    <a:pt x="60" y="1663"/>
                  </a:lnTo>
                  <a:lnTo>
                    <a:pt x="20" y="1648"/>
                  </a:lnTo>
                  <a:lnTo>
                    <a:pt x="0" y="1638"/>
                  </a:lnTo>
                  <a:lnTo>
                    <a:pt x="0" y="1640"/>
                  </a:lnTo>
                  <a:lnTo>
                    <a:pt x="0" y="1642"/>
                  </a:lnTo>
                  <a:lnTo>
                    <a:pt x="0" y="1642"/>
                  </a:lnTo>
                  <a:lnTo>
                    <a:pt x="0" y="1644"/>
                  </a:lnTo>
                  <a:lnTo>
                    <a:pt x="0" y="1646"/>
                  </a:lnTo>
                  <a:lnTo>
                    <a:pt x="0" y="1648"/>
                  </a:lnTo>
                  <a:lnTo>
                    <a:pt x="2" y="1650"/>
                  </a:lnTo>
                  <a:lnTo>
                    <a:pt x="2" y="1650"/>
                  </a:lnTo>
                  <a:close/>
                </a:path>
              </a:pathLst>
            </a:custGeom>
            <a:solidFill>
              <a:srgbClr val="5eb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Freeform 367"/>
            <p:cNvSpPr/>
            <p:nvPr/>
          </p:nvSpPr>
          <p:spPr>
            <a:xfrm>
              <a:off x="5887440" y="1820160"/>
              <a:ext cx="959760" cy="2884320"/>
            </a:xfrm>
            <a:custGeom>
              <a:avLst/>
              <a:gdLst>
                <a:gd name="textAreaLeft" fmla="*/ 0 w 959760"/>
                <a:gd name="textAreaRight" fmla="*/ 960120 w 959760"/>
                <a:gd name="textAreaTop" fmla="*/ 0 h 2884320"/>
                <a:gd name="textAreaBottom" fmla="*/ 2884680 h 2884320"/>
              </a:gdLst>
              <a:ahLst/>
              <a:rect l="textAreaLeft" t="textAreaTop" r="textAreaRight" b="textAreaBottom"/>
              <a:pathLst>
                <a:path w="570" h="1713">
                  <a:moveTo>
                    <a:pt x="547" y="23"/>
                  </a:moveTo>
                  <a:lnTo>
                    <a:pt x="525" y="17"/>
                  </a:lnTo>
                  <a:lnTo>
                    <a:pt x="483" y="9"/>
                  </a:lnTo>
                  <a:lnTo>
                    <a:pt x="441" y="3"/>
                  </a:lnTo>
                  <a:lnTo>
                    <a:pt x="397" y="2"/>
                  </a:lnTo>
                  <a:lnTo>
                    <a:pt x="353" y="0"/>
                  </a:lnTo>
                  <a:lnTo>
                    <a:pt x="309" y="2"/>
                  </a:lnTo>
                  <a:lnTo>
                    <a:pt x="264" y="3"/>
                  </a:lnTo>
                  <a:lnTo>
                    <a:pt x="222" y="9"/>
                  </a:lnTo>
                  <a:lnTo>
                    <a:pt x="203" y="13"/>
                  </a:lnTo>
                  <a:lnTo>
                    <a:pt x="201" y="15"/>
                  </a:lnTo>
                  <a:lnTo>
                    <a:pt x="201" y="17"/>
                  </a:lnTo>
                  <a:lnTo>
                    <a:pt x="201" y="17"/>
                  </a:lnTo>
                  <a:lnTo>
                    <a:pt x="199" y="19"/>
                  </a:lnTo>
                  <a:lnTo>
                    <a:pt x="199" y="21"/>
                  </a:lnTo>
                  <a:lnTo>
                    <a:pt x="199" y="23"/>
                  </a:lnTo>
                  <a:lnTo>
                    <a:pt x="199" y="23"/>
                  </a:lnTo>
                  <a:lnTo>
                    <a:pt x="197" y="25"/>
                  </a:lnTo>
                  <a:lnTo>
                    <a:pt x="224" y="21"/>
                  </a:lnTo>
                  <a:lnTo>
                    <a:pt x="266" y="15"/>
                  </a:lnTo>
                  <a:lnTo>
                    <a:pt x="309" y="11"/>
                  </a:lnTo>
                  <a:lnTo>
                    <a:pt x="353" y="11"/>
                  </a:lnTo>
                  <a:lnTo>
                    <a:pt x="397" y="11"/>
                  </a:lnTo>
                  <a:lnTo>
                    <a:pt x="439" y="15"/>
                  </a:lnTo>
                  <a:lnTo>
                    <a:pt x="481" y="21"/>
                  </a:lnTo>
                  <a:lnTo>
                    <a:pt x="524" y="28"/>
                  </a:lnTo>
                  <a:lnTo>
                    <a:pt x="539" y="32"/>
                  </a:lnTo>
                  <a:lnTo>
                    <a:pt x="541" y="30"/>
                  </a:lnTo>
                  <a:lnTo>
                    <a:pt x="541" y="28"/>
                  </a:lnTo>
                  <a:lnTo>
                    <a:pt x="543" y="28"/>
                  </a:lnTo>
                  <a:lnTo>
                    <a:pt x="543" y="26"/>
                  </a:lnTo>
                  <a:lnTo>
                    <a:pt x="545" y="26"/>
                  </a:lnTo>
                  <a:lnTo>
                    <a:pt x="545" y="25"/>
                  </a:lnTo>
                  <a:lnTo>
                    <a:pt x="547" y="23"/>
                  </a:lnTo>
                  <a:lnTo>
                    <a:pt x="547" y="23"/>
                  </a:lnTo>
                  <a:close/>
                  <a:moveTo>
                    <a:pt x="1" y="1638"/>
                  </a:moveTo>
                  <a:lnTo>
                    <a:pt x="19" y="1646"/>
                  </a:lnTo>
                  <a:lnTo>
                    <a:pt x="59" y="1661"/>
                  </a:lnTo>
                  <a:lnTo>
                    <a:pt x="97" y="1675"/>
                  </a:lnTo>
                  <a:lnTo>
                    <a:pt x="140" y="1686"/>
                  </a:lnTo>
                  <a:lnTo>
                    <a:pt x="180" y="1696"/>
                  </a:lnTo>
                  <a:lnTo>
                    <a:pt x="222" y="1703"/>
                  </a:lnTo>
                  <a:lnTo>
                    <a:pt x="264" y="1709"/>
                  </a:lnTo>
                  <a:lnTo>
                    <a:pt x="309" y="1713"/>
                  </a:lnTo>
                  <a:lnTo>
                    <a:pt x="353" y="1713"/>
                  </a:lnTo>
                  <a:lnTo>
                    <a:pt x="397" y="1713"/>
                  </a:lnTo>
                  <a:lnTo>
                    <a:pt x="441" y="1709"/>
                  </a:lnTo>
                  <a:lnTo>
                    <a:pt x="483" y="1703"/>
                  </a:lnTo>
                  <a:lnTo>
                    <a:pt x="525" y="1696"/>
                  </a:lnTo>
                  <a:lnTo>
                    <a:pt x="568" y="1686"/>
                  </a:lnTo>
                  <a:lnTo>
                    <a:pt x="570" y="1686"/>
                  </a:lnTo>
                  <a:lnTo>
                    <a:pt x="570" y="1684"/>
                  </a:lnTo>
                  <a:lnTo>
                    <a:pt x="568" y="1684"/>
                  </a:lnTo>
                  <a:lnTo>
                    <a:pt x="568" y="1682"/>
                  </a:lnTo>
                  <a:lnTo>
                    <a:pt x="566" y="1682"/>
                  </a:lnTo>
                  <a:lnTo>
                    <a:pt x="566" y="1680"/>
                  </a:lnTo>
                  <a:lnTo>
                    <a:pt x="564" y="1678"/>
                  </a:lnTo>
                  <a:lnTo>
                    <a:pt x="564" y="1678"/>
                  </a:lnTo>
                  <a:lnTo>
                    <a:pt x="562" y="1677"/>
                  </a:lnTo>
                  <a:lnTo>
                    <a:pt x="524" y="1686"/>
                  </a:lnTo>
                  <a:lnTo>
                    <a:pt x="481" y="1694"/>
                  </a:lnTo>
                  <a:lnTo>
                    <a:pt x="439" y="1700"/>
                  </a:lnTo>
                  <a:lnTo>
                    <a:pt x="397" y="1701"/>
                  </a:lnTo>
                  <a:lnTo>
                    <a:pt x="353" y="1703"/>
                  </a:lnTo>
                  <a:lnTo>
                    <a:pt x="309" y="1701"/>
                  </a:lnTo>
                  <a:lnTo>
                    <a:pt x="266" y="1700"/>
                  </a:lnTo>
                  <a:lnTo>
                    <a:pt x="224" y="1694"/>
                  </a:lnTo>
                  <a:lnTo>
                    <a:pt x="182" y="1686"/>
                  </a:lnTo>
                  <a:lnTo>
                    <a:pt x="142" y="1677"/>
                  </a:lnTo>
                  <a:lnTo>
                    <a:pt x="101" y="1665"/>
                  </a:lnTo>
                  <a:lnTo>
                    <a:pt x="61" y="1652"/>
                  </a:lnTo>
                  <a:lnTo>
                    <a:pt x="23" y="1636"/>
                  </a:lnTo>
                  <a:lnTo>
                    <a:pt x="0" y="1627"/>
                  </a:lnTo>
                  <a:lnTo>
                    <a:pt x="1" y="1629"/>
                  </a:lnTo>
                  <a:lnTo>
                    <a:pt x="1" y="1629"/>
                  </a:lnTo>
                  <a:lnTo>
                    <a:pt x="1" y="1630"/>
                  </a:lnTo>
                  <a:lnTo>
                    <a:pt x="1" y="1632"/>
                  </a:lnTo>
                  <a:lnTo>
                    <a:pt x="1" y="1634"/>
                  </a:lnTo>
                  <a:lnTo>
                    <a:pt x="1" y="1636"/>
                  </a:lnTo>
                  <a:lnTo>
                    <a:pt x="1" y="1636"/>
                  </a:lnTo>
                  <a:lnTo>
                    <a:pt x="1" y="1638"/>
                  </a:lnTo>
                  <a:close/>
                </a:path>
              </a:pathLst>
            </a:custGeom>
            <a:solidFill>
              <a:srgbClr val="5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Freeform 368"/>
            <p:cNvSpPr/>
            <p:nvPr/>
          </p:nvSpPr>
          <p:spPr>
            <a:xfrm>
              <a:off x="5887440" y="1828440"/>
              <a:ext cx="952920" cy="2869200"/>
            </a:xfrm>
            <a:custGeom>
              <a:avLst/>
              <a:gdLst>
                <a:gd name="textAreaLeft" fmla="*/ 0 w 952920"/>
                <a:gd name="textAreaRight" fmla="*/ 953280 w 952920"/>
                <a:gd name="textAreaTop" fmla="*/ 0 h 2869200"/>
                <a:gd name="textAreaBottom" fmla="*/ 2869560 h 2869200"/>
              </a:gdLst>
              <a:ahLst/>
              <a:rect l="textAreaLeft" t="textAreaTop" r="textAreaRight" b="textAreaBottom"/>
              <a:pathLst>
                <a:path w="566" h="1704">
                  <a:moveTo>
                    <a:pt x="543" y="21"/>
                  </a:moveTo>
                  <a:lnTo>
                    <a:pt x="525" y="18"/>
                  </a:lnTo>
                  <a:lnTo>
                    <a:pt x="483" y="10"/>
                  </a:lnTo>
                  <a:lnTo>
                    <a:pt x="439" y="4"/>
                  </a:lnTo>
                  <a:lnTo>
                    <a:pt x="397" y="2"/>
                  </a:lnTo>
                  <a:lnTo>
                    <a:pt x="353" y="0"/>
                  </a:lnTo>
                  <a:lnTo>
                    <a:pt x="309" y="2"/>
                  </a:lnTo>
                  <a:lnTo>
                    <a:pt x="266" y="4"/>
                  </a:lnTo>
                  <a:lnTo>
                    <a:pt x="224" y="10"/>
                  </a:lnTo>
                  <a:lnTo>
                    <a:pt x="199" y="14"/>
                  </a:lnTo>
                  <a:lnTo>
                    <a:pt x="199" y="16"/>
                  </a:lnTo>
                  <a:lnTo>
                    <a:pt x="199" y="18"/>
                  </a:lnTo>
                  <a:lnTo>
                    <a:pt x="199" y="18"/>
                  </a:lnTo>
                  <a:lnTo>
                    <a:pt x="197" y="20"/>
                  </a:lnTo>
                  <a:lnTo>
                    <a:pt x="197" y="21"/>
                  </a:lnTo>
                  <a:lnTo>
                    <a:pt x="197" y="23"/>
                  </a:lnTo>
                  <a:lnTo>
                    <a:pt x="195" y="25"/>
                  </a:lnTo>
                  <a:lnTo>
                    <a:pt x="195" y="25"/>
                  </a:lnTo>
                  <a:lnTo>
                    <a:pt x="224" y="21"/>
                  </a:lnTo>
                  <a:lnTo>
                    <a:pt x="266" y="16"/>
                  </a:lnTo>
                  <a:lnTo>
                    <a:pt x="310" y="12"/>
                  </a:lnTo>
                  <a:lnTo>
                    <a:pt x="353" y="10"/>
                  </a:lnTo>
                  <a:lnTo>
                    <a:pt x="397" y="12"/>
                  </a:lnTo>
                  <a:lnTo>
                    <a:pt x="439" y="16"/>
                  </a:lnTo>
                  <a:lnTo>
                    <a:pt x="481" y="21"/>
                  </a:lnTo>
                  <a:lnTo>
                    <a:pt x="522" y="27"/>
                  </a:lnTo>
                  <a:lnTo>
                    <a:pt x="535" y="31"/>
                  </a:lnTo>
                  <a:lnTo>
                    <a:pt x="537" y="29"/>
                  </a:lnTo>
                  <a:lnTo>
                    <a:pt x="537" y="29"/>
                  </a:lnTo>
                  <a:lnTo>
                    <a:pt x="539" y="27"/>
                  </a:lnTo>
                  <a:lnTo>
                    <a:pt x="539" y="27"/>
                  </a:lnTo>
                  <a:lnTo>
                    <a:pt x="541" y="25"/>
                  </a:lnTo>
                  <a:lnTo>
                    <a:pt x="541" y="23"/>
                  </a:lnTo>
                  <a:lnTo>
                    <a:pt x="543" y="23"/>
                  </a:lnTo>
                  <a:lnTo>
                    <a:pt x="543" y="21"/>
                  </a:lnTo>
                  <a:close/>
                  <a:moveTo>
                    <a:pt x="1" y="1627"/>
                  </a:moveTo>
                  <a:lnTo>
                    <a:pt x="21" y="1637"/>
                  </a:lnTo>
                  <a:lnTo>
                    <a:pt x="61" y="1652"/>
                  </a:lnTo>
                  <a:lnTo>
                    <a:pt x="99" y="1666"/>
                  </a:lnTo>
                  <a:lnTo>
                    <a:pt x="140" y="1677"/>
                  </a:lnTo>
                  <a:lnTo>
                    <a:pt x="182" y="1687"/>
                  </a:lnTo>
                  <a:lnTo>
                    <a:pt x="224" y="1693"/>
                  </a:lnTo>
                  <a:lnTo>
                    <a:pt x="266" y="1698"/>
                  </a:lnTo>
                  <a:lnTo>
                    <a:pt x="309" y="1702"/>
                  </a:lnTo>
                  <a:lnTo>
                    <a:pt x="353" y="1704"/>
                  </a:lnTo>
                  <a:lnTo>
                    <a:pt x="397" y="1702"/>
                  </a:lnTo>
                  <a:lnTo>
                    <a:pt x="439" y="1698"/>
                  </a:lnTo>
                  <a:lnTo>
                    <a:pt x="483" y="1693"/>
                  </a:lnTo>
                  <a:lnTo>
                    <a:pt x="525" y="1687"/>
                  </a:lnTo>
                  <a:lnTo>
                    <a:pt x="566" y="1677"/>
                  </a:lnTo>
                  <a:lnTo>
                    <a:pt x="566" y="1677"/>
                  </a:lnTo>
                  <a:lnTo>
                    <a:pt x="566" y="1675"/>
                  </a:lnTo>
                  <a:lnTo>
                    <a:pt x="564" y="1673"/>
                  </a:lnTo>
                  <a:lnTo>
                    <a:pt x="564" y="1673"/>
                  </a:lnTo>
                  <a:lnTo>
                    <a:pt x="562" y="1672"/>
                  </a:lnTo>
                  <a:lnTo>
                    <a:pt x="562" y="1672"/>
                  </a:lnTo>
                  <a:lnTo>
                    <a:pt x="560" y="1670"/>
                  </a:lnTo>
                  <a:lnTo>
                    <a:pt x="560" y="1668"/>
                  </a:lnTo>
                  <a:lnTo>
                    <a:pt x="558" y="1668"/>
                  </a:lnTo>
                  <a:lnTo>
                    <a:pt x="522" y="1675"/>
                  </a:lnTo>
                  <a:lnTo>
                    <a:pt x="481" y="1683"/>
                  </a:lnTo>
                  <a:lnTo>
                    <a:pt x="439" y="1689"/>
                  </a:lnTo>
                  <a:lnTo>
                    <a:pt x="397" y="1691"/>
                  </a:lnTo>
                  <a:lnTo>
                    <a:pt x="353" y="1693"/>
                  </a:lnTo>
                  <a:lnTo>
                    <a:pt x="310" y="1691"/>
                  </a:lnTo>
                  <a:lnTo>
                    <a:pt x="266" y="1689"/>
                  </a:lnTo>
                  <a:lnTo>
                    <a:pt x="224" y="1683"/>
                  </a:lnTo>
                  <a:lnTo>
                    <a:pt x="184" y="1675"/>
                  </a:lnTo>
                  <a:lnTo>
                    <a:pt x="143" y="1666"/>
                  </a:lnTo>
                  <a:lnTo>
                    <a:pt x="103" y="1654"/>
                  </a:lnTo>
                  <a:lnTo>
                    <a:pt x="63" y="1641"/>
                  </a:lnTo>
                  <a:lnTo>
                    <a:pt x="26" y="1627"/>
                  </a:lnTo>
                  <a:lnTo>
                    <a:pt x="0" y="1614"/>
                  </a:lnTo>
                  <a:lnTo>
                    <a:pt x="0" y="1616"/>
                  </a:lnTo>
                  <a:lnTo>
                    <a:pt x="0" y="1618"/>
                  </a:lnTo>
                  <a:lnTo>
                    <a:pt x="0" y="1620"/>
                  </a:lnTo>
                  <a:lnTo>
                    <a:pt x="0" y="1622"/>
                  </a:lnTo>
                  <a:lnTo>
                    <a:pt x="1" y="1624"/>
                  </a:lnTo>
                  <a:lnTo>
                    <a:pt x="1" y="1624"/>
                  </a:lnTo>
                  <a:lnTo>
                    <a:pt x="1" y="1625"/>
                  </a:lnTo>
                  <a:lnTo>
                    <a:pt x="1" y="1627"/>
                  </a:lnTo>
                  <a:close/>
                </a:path>
              </a:pathLst>
            </a:custGeom>
            <a:solidFill>
              <a:srgbClr val="60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Freeform 369"/>
            <p:cNvSpPr/>
            <p:nvPr/>
          </p:nvSpPr>
          <p:spPr>
            <a:xfrm>
              <a:off x="5887440" y="1838880"/>
              <a:ext cx="946080" cy="2849040"/>
            </a:xfrm>
            <a:custGeom>
              <a:avLst/>
              <a:gdLst>
                <a:gd name="textAreaLeft" fmla="*/ 0 w 946080"/>
                <a:gd name="textAreaRight" fmla="*/ 946440 w 946080"/>
                <a:gd name="textAreaTop" fmla="*/ 0 h 2849040"/>
                <a:gd name="textAreaBottom" fmla="*/ 2849400 h 2849040"/>
              </a:gdLst>
              <a:ahLst/>
              <a:rect l="textAreaLeft" t="textAreaTop" r="textAreaRight" b="textAreaBottom"/>
              <a:pathLst>
                <a:path w="562" h="1692">
                  <a:moveTo>
                    <a:pt x="539" y="21"/>
                  </a:moveTo>
                  <a:lnTo>
                    <a:pt x="524" y="17"/>
                  </a:lnTo>
                  <a:lnTo>
                    <a:pt x="481" y="10"/>
                  </a:lnTo>
                  <a:lnTo>
                    <a:pt x="439" y="4"/>
                  </a:lnTo>
                  <a:lnTo>
                    <a:pt x="397" y="0"/>
                  </a:lnTo>
                  <a:lnTo>
                    <a:pt x="353" y="0"/>
                  </a:lnTo>
                  <a:lnTo>
                    <a:pt x="309" y="0"/>
                  </a:lnTo>
                  <a:lnTo>
                    <a:pt x="266" y="4"/>
                  </a:lnTo>
                  <a:lnTo>
                    <a:pt x="224" y="10"/>
                  </a:lnTo>
                  <a:lnTo>
                    <a:pt x="197" y="14"/>
                  </a:lnTo>
                  <a:lnTo>
                    <a:pt x="197" y="15"/>
                  </a:lnTo>
                  <a:lnTo>
                    <a:pt x="197" y="17"/>
                  </a:lnTo>
                  <a:lnTo>
                    <a:pt x="195" y="19"/>
                  </a:lnTo>
                  <a:lnTo>
                    <a:pt x="195" y="19"/>
                  </a:lnTo>
                  <a:lnTo>
                    <a:pt x="195" y="21"/>
                  </a:lnTo>
                  <a:lnTo>
                    <a:pt x="195" y="23"/>
                  </a:lnTo>
                  <a:lnTo>
                    <a:pt x="193" y="25"/>
                  </a:lnTo>
                  <a:lnTo>
                    <a:pt x="193" y="25"/>
                  </a:lnTo>
                  <a:lnTo>
                    <a:pt x="226" y="19"/>
                  </a:lnTo>
                  <a:lnTo>
                    <a:pt x="268" y="14"/>
                  </a:lnTo>
                  <a:lnTo>
                    <a:pt x="310" y="12"/>
                  </a:lnTo>
                  <a:lnTo>
                    <a:pt x="353" y="10"/>
                  </a:lnTo>
                  <a:lnTo>
                    <a:pt x="395" y="12"/>
                  </a:lnTo>
                  <a:lnTo>
                    <a:pt x="439" y="14"/>
                  </a:lnTo>
                  <a:lnTo>
                    <a:pt x="479" y="19"/>
                  </a:lnTo>
                  <a:lnTo>
                    <a:pt x="522" y="27"/>
                  </a:lnTo>
                  <a:lnTo>
                    <a:pt x="531" y="29"/>
                  </a:lnTo>
                  <a:lnTo>
                    <a:pt x="533" y="29"/>
                  </a:lnTo>
                  <a:lnTo>
                    <a:pt x="533" y="27"/>
                  </a:lnTo>
                  <a:lnTo>
                    <a:pt x="535" y="27"/>
                  </a:lnTo>
                  <a:lnTo>
                    <a:pt x="535" y="25"/>
                  </a:lnTo>
                  <a:lnTo>
                    <a:pt x="537" y="23"/>
                  </a:lnTo>
                  <a:lnTo>
                    <a:pt x="537" y="23"/>
                  </a:lnTo>
                  <a:lnTo>
                    <a:pt x="539" y="21"/>
                  </a:lnTo>
                  <a:lnTo>
                    <a:pt x="539" y="21"/>
                  </a:lnTo>
                  <a:close/>
                  <a:moveTo>
                    <a:pt x="0" y="1616"/>
                  </a:moveTo>
                  <a:lnTo>
                    <a:pt x="23" y="1625"/>
                  </a:lnTo>
                  <a:lnTo>
                    <a:pt x="61" y="1641"/>
                  </a:lnTo>
                  <a:lnTo>
                    <a:pt x="101" y="1654"/>
                  </a:lnTo>
                  <a:lnTo>
                    <a:pt x="142" y="1666"/>
                  </a:lnTo>
                  <a:lnTo>
                    <a:pt x="182" y="1675"/>
                  </a:lnTo>
                  <a:lnTo>
                    <a:pt x="224" y="1683"/>
                  </a:lnTo>
                  <a:lnTo>
                    <a:pt x="266" y="1689"/>
                  </a:lnTo>
                  <a:lnTo>
                    <a:pt x="309" y="1690"/>
                  </a:lnTo>
                  <a:lnTo>
                    <a:pt x="353" y="1692"/>
                  </a:lnTo>
                  <a:lnTo>
                    <a:pt x="397" y="1690"/>
                  </a:lnTo>
                  <a:lnTo>
                    <a:pt x="439" y="1689"/>
                  </a:lnTo>
                  <a:lnTo>
                    <a:pt x="481" y="1683"/>
                  </a:lnTo>
                  <a:lnTo>
                    <a:pt x="524" y="1675"/>
                  </a:lnTo>
                  <a:lnTo>
                    <a:pt x="562" y="1666"/>
                  </a:lnTo>
                  <a:lnTo>
                    <a:pt x="562" y="1666"/>
                  </a:lnTo>
                  <a:lnTo>
                    <a:pt x="560" y="1664"/>
                  </a:lnTo>
                  <a:lnTo>
                    <a:pt x="560" y="1662"/>
                  </a:lnTo>
                  <a:lnTo>
                    <a:pt x="558" y="1662"/>
                  </a:lnTo>
                  <a:lnTo>
                    <a:pt x="558" y="1660"/>
                  </a:lnTo>
                  <a:lnTo>
                    <a:pt x="556" y="1660"/>
                  </a:lnTo>
                  <a:lnTo>
                    <a:pt x="556" y="1658"/>
                  </a:lnTo>
                  <a:lnTo>
                    <a:pt x="554" y="1656"/>
                  </a:lnTo>
                  <a:lnTo>
                    <a:pt x="522" y="1664"/>
                  </a:lnTo>
                  <a:lnTo>
                    <a:pt x="479" y="1671"/>
                  </a:lnTo>
                  <a:lnTo>
                    <a:pt x="439" y="1677"/>
                  </a:lnTo>
                  <a:lnTo>
                    <a:pt x="395" y="1681"/>
                  </a:lnTo>
                  <a:lnTo>
                    <a:pt x="353" y="1681"/>
                  </a:lnTo>
                  <a:lnTo>
                    <a:pt x="310" y="1681"/>
                  </a:lnTo>
                  <a:lnTo>
                    <a:pt x="268" y="1677"/>
                  </a:lnTo>
                  <a:lnTo>
                    <a:pt x="226" y="1671"/>
                  </a:lnTo>
                  <a:lnTo>
                    <a:pt x="184" y="1664"/>
                  </a:lnTo>
                  <a:lnTo>
                    <a:pt x="143" y="1656"/>
                  </a:lnTo>
                  <a:lnTo>
                    <a:pt x="105" y="1644"/>
                  </a:lnTo>
                  <a:lnTo>
                    <a:pt x="65" y="1631"/>
                  </a:lnTo>
                  <a:lnTo>
                    <a:pt x="28" y="1616"/>
                  </a:lnTo>
                  <a:lnTo>
                    <a:pt x="0" y="1602"/>
                  </a:lnTo>
                  <a:lnTo>
                    <a:pt x="0" y="1604"/>
                  </a:lnTo>
                  <a:lnTo>
                    <a:pt x="0" y="1606"/>
                  </a:lnTo>
                  <a:lnTo>
                    <a:pt x="0" y="1608"/>
                  </a:lnTo>
                  <a:lnTo>
                    <a:pt x="0" y="1608"/>
                  </a:lnTo>
                  <a:lnTo>
                    <a:pt x="0" y="1610"/>
                  </a:lnTo>
                  <a:lnTo>
                    <a:pt x="0" y="1612"/>
                  </a:lnTo>
                  <a:lnTo>
                    <a:pt x="0" y="1614"/>
                  </a:lnTo>
                  <a:lnTo>
                    <a:pt x="0" y="1616"/>
                  </a:lnTo>
                  <a:close/>
                </a:path>
              </a:pathLst>
            </a:custGeom>
            <a:solidFill>
              <a:srgbClr val="61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Freeform 370"/>
            <p:cNvSpPr/>
            <p:nvPr/>
          </p:nvSpPr>
          <p:spPr>
            <a:xfrm>
              <a:off x="5883840" y="1845360"/>
              <a:ext cx="943200" cy="2833920"/>
            </a:xfrm>
            <a:custGeom>
              <a:avLst/>
              <a:gdLst>
                <a:gd name="textAreaLeft" fmla="*/ 0 w 943200"/>
                <a:gd name="textAreaRight" fmla="*/ 943560 w 943200"/>
                <a:gd name="textAreaTop" fmla="*/ 0 h 2833920"/>
                <a:gd name="textAreaBottom" fmla="*/ 2834280 h 2833920"/>
              </a:gdLst>
              <a:ahLst/>
              <a:rect l="textAreaLeft" t="textAreaTop" r="textAreaRight" b="textAreaBottom"/>
              <a:pathLst>
                <a:path w="560" h="1683">
                  <a:moveTo>
                    <a:pt x="537" y="21"/>
                  </a:moveTo>
                  <a:lnTo>
                    <a:pt x="524" y="17"/>
                  </a:lnTo>
                  <a:lnTo>
                    <a:pt x="483" y="11"/>
                  </a:lnTo>
                  <a:lnTo>
                    <a:pt x="441" y="6"/>
                  </a:lnTo>
                  <a:lnTo>
                    <a:pt x="399" y="2"/>
                  </a:lnTo>
                  <a:lnTo>
                    <a:pt x="355" y="0"/>
                  </a:lnTo>
                  <a:lnTo>
                    <a:pt x="312" y="2"/>
                  </a:lnTo>
                  <a:lnTo>
                    <a:pt x="268" y="6"/>
                  </a:lnTo>
                  <a:lnTo>
                    <a:pt x="226" y="11"/>
                  </a:lnTo>
                  <a:lnTo>
                    <a:pt x="197" y="15"/>
                  </a:lnTo>
                  <a:lnTo>
                    <a:pt x="197" y="17"/>
                  </a:lnTo>
                  <a:lnTo>
                    <a:pt x="197" y="19"/>
                  </a:lnTo>
                  <a:lnTo>
                    <a:pt x="195" y="21"/>
                  </a:lnTo>
                  <a:lnTo>
                    <a:pt x="195" y="21"/>
                  </a:lnTo>
                  <a:lnTo>
                    <a:pt x="195" y="23"/>
                  </a:lnTo>
                  <a:lnTo>
                    <a:pt x="193" y="25"/>
                  </a:lnTo>
                  <a:lnTo>
                    <a:pt x="193" y="27"/>
                  </a:lnTo>
                  <a:lnTo>
                    <a:pt x="193" y="27"/>
                  </a:lnTo>
                  <a:lnTo>
                    <a:pt x="228" y="21"/>
                  </a:lnTo>
                  <a:lnTo>
                    <a:pt x="270" y="15"/>
                  </a:lnTo>
                  <a:lnTo>
                    <a:pt x="312" y="13"/>
                  </a:lnTo>
                  <a:lnTo>
                    <a:pt x="355" y="11"/>
                  </a:lnTo>
                  <a:lnTo>
                    <a:pt x="397" y="13"/>
                  </a:lnTo>
                  <a:lnTo>
                    <a:pt x="439" y="15"/>
                  </a:lnTo>
                  <a:lnTo>
                    <a:pt x="481" y="21"/>
                  </a:lnTo>
                  <a:lnTo>
                    <a:pt x="522" y="29"/>
                  </a:lnTo>
                  <a:lnTo>
                    <a:pt x="531" y="31"/>
                  </a:lnTo>
                  <a:lnTo>
                    <a:pt x="531" y="29"/>
                  </a:lnTo>
                  <a:lnTo>
                    <a:pt x="531" y="29"/>
                  </a:lnTo>
                  <a:lnTo>
                    <a:pt x="533" y="27"/>
                  </a:lnTo>
                  <a:lnTo>
                    <a:pt x="533" y="25"/>
                  </a:lnTo>
                  <a:lnTo>
                    <a:pt x="535" y="25"/>
                  </a:lnTo>
                  <a:lnTo>
                    <a:pt x="535" y="23"/>
                  </a:lnTo>
                  <a:lnTo>
                    <a:pt x="537" y="23"/>
                  </a:lnTo>
                  <a:lnTo>
                    <a:pt x="537" y="21"/>
                  </a:lnTo>
                  <a:close/>
                  <a:moveTo>
                    <a:pt x="2" y="1604"/>
                  </a:moveTo>
                  <a:lnTo>
                    <a:pt x="28" y="1617"/>
                  </a:lnTo>
                  <a:lnTo>
                    <a:pt x="65" y="1631"/>
                  </a:lnTo>
                  <a:lnTo>
                    <a:pt x="105" y="1644"/>
                  </a:lnTo>
                  <a:lnTo>
                    <a:pt x="145" y="1656"/>
                  </a:lnTo>
                  <a:lnTo>
                    <a:pt x="186" y="1665"/>
                  </a:lnTo>
                  <a:lnTo>
                    <a:pt x="226" y="1673"/>
                  </a:lnTo>
                  <a:lnTo>
                    <a:pt x="268" y="1679"/>
                  </a:lnTo>
                  <a:lnTo>
                    <a:pt x="312" y="1681"/>
                  </a:lnTo>
                  <a:lnTo>
                    <a:pt x="355" y="1683"/>
                  </a:lnTo>
                  <a:lnTo>
                    <a:pt x="399" y="1681"/>
                  </a:lnTo>
                  <a:lnTo>
                    <a:pt x="441" y="1679"/>
                  </a:lnTo>
                  <a:lnTo>
                    <a:pt x="483" y="1673"/>
                  </a:lnTo>
                  <a:lnTo>
                    <a:pt x="524" y="1665"/>
                  </a:lnTo>
                  <a:lnTo>
                    <a:pt x="560" y="1658"/>
                  </a:lnTo>
                  <a:lnTo>
                    <a:pt x="560" y="1656"/>
                  </a:lnTo>
                  <a:lnTo>
                    <a:pt x="558" y="1656"/>
                  </a:lnTo>
                  <a:lnTo>
                    <a:pt x="558" y="1654"/>
                  </a:lnTo>
                  <a:lnTo>
                    <a:pt x="556" y="1652"/>
                  </a:lnTo>
                  <a:lnTo>
                    <a:pt x="556" y="1652"/>
                  </a:lnTo>
                  <a:lnTo>
                    <a:pt x="554" y="1650"/>
                  </a:lnTo>
                  <a:lnTo>
                    <a:pt x="554" y="1650"/>
                  </a:lnTo>
                  <a:lnTo>
                    <a:pt x="552" y="1648"/>
                  </a:lnTo>
                  <a:lnTo>
                    <a:pt x="522" y="1656"/>
                  </a:lnTo>
                  <a:lnTo>
                    <a:pt x="481" y="1663"/>
                  </a:lnTo>
                  <a:lnTo>
                    <a:pt x="439" y="1667"/>
                  </a:lnTo>
                  <a:lnTo>
                    <a:pt x="397" y="1671"/>
                  </a:lnTo>
                  <a:lnTo>
                    <a:pt x="355" y="1671"/>
                  </a:lnTo>
                  <a:lnTo>
                    <a:pt x="312" y="1671"/>
                  </a:lnTo>
                  <a:lnTo>
                    <a:pt x="270" y="1667"/>
                  </a:lnTo>
                  <a:lnTo>
                    <a:pt x="228" y="1663"/>
                  </a:lnTo>
                  <a:lnTo>
                    <a:pt x="188" y="1656"/>
                  </a:lnTo>
                  <a:lnTo>
                    <a:pt x="147" y="1646"/>
                  </a:lnTo>
                  <a:lnTo>
                    <a:pt x="107" y="1635"/>
                  </a:lnTo>
                  <a:lnTo>
                    <a:pt x="69" y="1621"/>
                  </a:lnTo>
                  <a:lnTo>
                    <a:pt x="32" y="1606"/>
                  </a:lnTo>
                  <a:lnTo>
                    <a:pt x="0" y="1592"/>
                  </a:lnTo>
                  <a:lnTo>
                    <a:pt x="0" y="1594"/>
                  </a:lnTo>
                  <a:lnTo>
                    <a:pt x="0" y="1596"/>
                  </a:lnTo>
                  <a:lnTo>
                    <a:pt x="2" y="1596"/>
                  </a:lnTo>
                  <a:lnTo>
                    <a:pt x="2" y="1598"/>
                  </a:lnTo>
                  <a:lnTo>
                    <a:pt x="2" y="1600"/>
                  </a:lnTo>
                  <a:lnTo>
                    <a:pt x="2" y="1602"/>
                  </a:lnTo>
                  <a:lnTo>
                    <a:pt x="2" y="1604"/>
                  </a:lnTo>
                  <a:lnTo>
                    <a:pt x="2" y="1604"/>
                  </a:lnTo>
                  <a:close/>
                </a:path>
              </a:pathLst>
            </a:custGeom>
            <a:solidFill>
              <a:srgbClr val="62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Freeform 371"/>
            <p:cNvSpPr/>
            <p:nvPr/>
          </p:nvSpPr>
          <p:spPr>
            <a:xfrm>
              <a:off x="5883840" y="1855800"/>
              <a:ext cx="936360" cy="2813400"/>
            </a:xfrm>
            <a:custGeom>
              <a:avLst/>
              <a:gdLst>
                <a:gd name="textAreaLeft" fmla="*/ 0 w 936360"/>
                <a:gd name="textAreaRight" fmla="*/ 936720 w 936360"/>
                <a:gd name="textAreaTop" fmla="*/ 0 h 2813400"/>
                <a:gd name="textAreaBottom" fmla="*/ 2813760 h 2813400"/>
              </a:gdLst>
              <a:ahLst/>
              <a:rect l="textAreaLeft" t="textAreaTop" r="textAreaRight" b="textAreaBottom"/>
              <a:pathLst>
                <a:path w="556" h="1671">
                  <a:moveTo>
                    <a:pt x="533" y="19"/>
                  </a:moveTo>
                  <a:lnTo>
                    <a:pt x="524" y="17"/>
                  </a:lnTo>
                  <a:lnTo>
                    <a:pt x="481" y="9"/>
                  </a:lnTo>
                  <a:lnTo>
                    <a:pt x="441" y="4"/>
                  </a:lnTo>
                  <a:lnTo>
                    <a:pt x="397" y="2"/>
                  </a:lnTo>
                  <a:lnTo>
                    <a:pt x="355" y="0"/>
                  </a:lnTo>
                  <a:lnTo>
                    <a:pt x="312" y="2"/>
                  </a:lnTo>
                  <a:lnTo>
                    <a:pt x="270" y="4"/>
                  </a:lnTo>
                  <a:lnTo>
                    <a:pt x="228" y="9"/>
                  </a:lnTo>
                  <a:lnTo>
                    <a:pt x="195" y="15"/>
                  </a:lnTo>
                  <a:lnTo>
                    <a:pt x="195" y="17"/>
                  </a:lnTo>
                  <a:lnTo>
                    <a:pt x="193" y="19"/>
                  </a:lnTo>
                  <a:lnTo>
                    <a:pt x="193" y="21"/>
                  </a:lnTo>
                  <a:lnTo>
                    <a:pt x="193" y="21"/>
                  </a:lnTo>
                  <a:lnTo>
                    <a:pt x="193" y="23"/>
                  </a:lnTo>
                  <a:lnTo>
                    <a:pt x="192" y="25"/>
                  </a:lnTo>
                  <a:lnTo>
                    <a:pt x="192" y="27"/>
                  </a:lnTo>
                  <a:lnTo>
                    <a:pt x="192" y="27"/>
                  </a:lnTo>
                  <a:lnTo>
                    <a:pt x="230" y="21"/>
                  </a:lnTo>
                  <a:lnTo>
                    <a:pt x="270" y="15"/>
                  </a:lnTo>
                  <a:lnTo>
                    <a:pt x="312" y="11"/>
                  </a:lnTo>
                  <a:lnTo>
                    <a:pt x="355" y="11"/>
                  </a:lnTo>
                  <a:lnTo>
                    <a:pt x="397" y="11"/>
                  </a:lnTo>
                  <a:lnTo>
                    <a:pt x="439" y="15"/>
                  </a:lnTo>
                  <a:lnTo>
                    <a:pt x="481" y="21"/>
                  </a:lnTo>
                  <a:lnTo>
                    <a:pt x="522" y="28"/>
                  </a:lnTo>
                  <a:lnTo>
                    <a:pt x="527" y="28"/>
                  </a:lnTo>
                  <a:lnTo>
                    <a:pt x="527" y="28"/>
                  </a:lnTo>
                  <a:lnTo>
                    <a:pt x="529" y="27"/>
                  </a:lnTo>
                  <a:lnTo>
                    <a:pt x="529" y="25"/>
                  </a:lnTo>
                  <a:lnTo>
                    <a:pt x="529" y="25"/>
                  </a:lnTo>
                  <a:lnTo>
                    <a:pt x="531" y="23"/>
                  </a:lnTo>
                  <a:lnTo>
                    <a:pt x="531" y="23"/>
                  </a:lnTo>
                  <a:lnTo>
                    <a:pt x="533" y="21"/>
                  </a:lnTo>
                  <a:lnTo>
                    <a:pt x="533" y="19"/>
                  </a:lnTo>
                  <a:close/>
                  <a:moveTo>
                    <a:pt x="2" y="1592"/>
                  </a:moveTo>
                  <a:lnTo>
                    <a:pt x="30" y="1606"/>
                  </a:lnTo>
                  <a:lnTo>
                    <a:pt x="67" y="1621"/>
                  </a:lnTo>
                  <a:lnTo>
                    <a:pt x="107" y="1634"/>
                  </a:lnTo>
                  <a:lnTo>
                    <a:pt x="145" y="1646"/>
                  </a:lnTo>
                  <a:lnTo>
                    <a:pt x="186" y="1654"/>
                  </a:lnTo>
                  <a:lnTo>
                    <a:pt x="228" y="1661"/>
                  </a:lnTo>
                  <a:lnTo>
                    <a:pt x="270" y="1667"/>
                  </a:lnTo>
                  <a:lnTo>
                    <a:pt x="312" y="1671"/>
                  </a:lnTo>
                  <a:lnTo>
                    <a:pt x="355" y="1671"/>
                  </a:lnTo>
                  <a:lnTo>
                    <a:pt x="397" y="1671"/>
                  </a:lnTo>
                  <a:lnTo>
                    <a:pt x="441" y="1667"/>
                  </a:lnTo>
                  <a:lnTo>
                    <a:pt x="481" y="1661"/>
                  </a:lnTo>
                  <a:lnTo>
                    <a:pt x="524" y="1654"/>
                  </a:lnTo>
                  <a:lnTo>
                    <a:pt x="556" y="1646"/>
                  </a:lnTo>
                  <a:lnTo>
                    <a:pt x="556" y="1646"/>
                  </a:lnTo>
                  <a:lnTo>
                    <a:pt x="554" y="1644"/>
                  </a:lnTo>
                  <a:lnTo>
                    <a:pt x="554" y="1644"/>
                  </a:lnTo>
                  <a:lnTo>
                    <a:pt x="552" y="1642"/>
                  </a:lnTo>
                  <a:lnTo>
                    <a:pt x="552" y="1640"/>
                  </a:lnTo>
                  <a:lnTo>
                    <a:pt x="550" y="1640"/>
                  </a:lnTo>
                  <a:lnTo>
                    <a:pt x="550" y="1638"/>
                  </a:lnTo>
                  <a:lnTo>
                    <a:pt x="549" y="1638"/>
                  </a:lnTo>
                  <a:lnTo>
                    <a:pt x="522" y="1644"/>
                  </a:lnTo>
                  <a:lnTo>
                    <a:pt x="481" y="1652"/>
                  </a:lnTo>
                  <a:lnTo>
                    <a:pt x="439" y="1656"/>
                  </a:lnTo>
                  <a:lnTo>
                    <a:pt x="397" y="1659"/>
                  </a:lnTo>
                  <a:lnTo>
                    <a:pt x="355" y="1661"/>
                  </a:lnTo>
                  <a:lnTo>
                    <a:pt x="312" y="1659"/>
                  </a:lnTo>
                  <a:lnTo>
                    <a:pt x="270" y="1656"/>
                  </a:lnTo>
                  <a:lnTo>
                    <a:pt x="230" y="1652"/>
                  </a:lnTo>
                  <a:lnTo>
                    <a:pt x="188" y="1644"/>
                  </a:lnTo>
                  <a:lnTo>
                    <a:pt x="149" y="1634"/>
                  </a:lnTo>
                  <a:lnTo>
                    <a:pt x="109" y="1623"/>
                  </a:lnTo>
                  <a:lnTo>
                    <a:pt x="71" y="1611"/>
                  </a:lnTo>
                  <a:lnTo>
                    <a:pt x="34" y="1596"/>
                  </a:lnTo>
                  <a:lnTo>
                    <a:pt x="0" y="1581"/>
                  </a:lnTo>
                  <a:lnTo>
                    <a:pt x="0" y="1583"/>
                  </a:lnTo>
                  <a:lnTo>
                    <a:pt x="0" y="1583"/>
                  </a:lnTo>
                  <a:lnTo>
                    <a:pt x="0" y="1585"/>
                  </a:lnTo>
                  <a:lnTo>
                    <a:pt x="0" y="1586"/>
                  </a:lnTo>
                  <a:lnTo>
                    <a:pt x="0" y="1588"/>
                  </a:lnTo>
                  <a:lnTo>
                    <a:pt x="0" y="1590"/>
                  </a:lnTo>
                  <a:lnTo>
                    <a:pt x="2" y="1590"/>
                  </a:lnTo>
                  <a:lnTo>
                    <a:pt x="2" y="1592"/>
                  </a:lnTo>
                  <a:close/>
                </a:path>
              </a:pathLst>
            </a:custGeom>
            <a:solidFill>
              <a:srgbClr val="63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Freeform 372"/>
            <p:cNvSpPr/>
            <p:nvPr/>
          </p:nvSpPr>
          <p:spPr>
            <a:xfrm>
              <a:off x="5880600" y="1864080"/>
              <a:ext cx="932760" cy="2795040"/>
            </a:xfrm>
            <a:custGeom>
              <a:avLst/>
              <a:gdLst>
                <a:gd name="textAreaLeft" fmla="*/ 0 w 932760"/>
                <a:gd name="textAreaRight" fmla="*/ 933120 w 932760"/>
                <a:gd name="textAreaTop" fmla="*/ 0 h 2795040"/>
                <a:gd name="textAreaBottom" fmla="*/ 2795400 h 2795040"/>
              </a:gdLst>
              <a:ahLst/>
              <a:rect l="textAreaLeft" t="textAreaTop" r="textAreaRight" b="textAreaBottom"/>
              <a:pathLst>
                <a:path w="554" h="1660">
                  <a:moveTo>
                    <a:pt x="533" y="20"/>
                  </a:moveTo>
                  <a:lnTo>
                    <a:pt x="524" y="18"/>
                  </a:lnTo>
                  <a:lnTo>
                    <a:pt x="483" y="10"/>
                  </a:lnTo>
                  <a:lnTo>
                    <a:pt x="441" y="4"/>
                  </a:lnTo>
                  <a:lnTo>
                    <a:pt x="399" y="2"/>
                  </a:lnTo>
                  <a:lnTo>
                    <a:pt x="357" y="0"/>
                  </a:lnTo>
                  <a:lnTo>
                    <a:pt x="314" y="2"/>
                  </a:lnTo>
                  <a:lnTo>
                    <a:pt x="272" y="4"/>
                  </a:lnTo>
                  <a:lnTo>
                    <a:pt x="230" y="10"/>
                  </a:lnTo>
                  <a:lnTo>
                    <a:pt x="195" y="16"/>
                  </a:lnTo>
                  <a:lnTo>
                    <a:pt x="195" y="18"/>
                  </a:lnTo>
                  <a:lnTo>
                    <a:pt x="194" y="20"/>
                  </a:lnTo>
                  <a:lnTo>
                    <a:pt x="194" y="22"/>
                  </a:lnTo>
                  <a:lnTo>
                    <a:pt x="194" y="22"/>
                  </a:lnTo>
                  <a:lnTo>
                    <a:pt x="192" y="23"/>
                  </a:lnTo>
                  <a:lnTo>
                    <a:pt x="192" y="25"/>
                  </a:lnTo>
                  <a:lnTo>
                    <a:pt x="192" y="27"/>
                  </a:lnTo>
                  <a:lnTo>
                    <a:pt x="192" y="27"/>
                  </a:lnTo>
                  <a:lnTo>
                    <a:pt x="192" y="27"/>
                  </a:lnTo>
                  <a:lnTo>
                    <a:pt x="232" y="20"/>
                  </a:lnTo>
                  <a:lnTo>
                    <a:pt x="272" y="16"/>
                  </a:lnTo>
                  <a:lnTo>
                    <a:pt x="314" y="12"/>
                  </a:lnTo>
                  <a:lnTo>
                    <a:pt x="357" y="12"/>
                  </a:lnTo>
                  <a:lnTo>
                    <a:pt x="399" y="12"/>
                  </a:lnTo>
                  <a:lnTo>
                    <a:pt x="441" y="16"/>
                  </a:lnTo>
                  <a:lnTo>
                    <a:pt x="481" y="20"/>
                  </a:lnTo>
                  <a:lnTo>
                    <a:pt x="522" y="27"/>
                  </a:lnTo>
                  <a:lnTo>
                    <a:pt x="526" y="29"/>
                  </a:lnTo>
                  <a:lnTo>
                    <a:pt x="526" y="27"/>
                  </a:lnTo>
                  <a:lnTo>
                    <a:pt x="528" y="25"/>
                  </a:lnTo>
                  <a:lnTo>
                    <a:pt x="528" y="25"/>
                  </a:lnTo>
                  <a:lnTo>
                    <a:pt x="529" y="23"/>
                  </a:lnTo>
                  <a:lnTo>
                    <a:pt x="529" y="23"/>
                  </a:lnTo>
                  <a:lnTo>
                    <a:pt x="531" y="22"/>
                  </a:lnTo>
                  <a:lnTo>
                    <a:pt x="531" y="20"/>
                  </a:lnTo>
                  <a:lnTo>
                    <a:pt x="533" y="20"/>
                  </a:lnTo>
                  <a:close/>
                  <a:moveTo>
                    <a:pt x="2" y="1581"/>
                  </a:moveTo>
                  <a:lnTo>
                    <a:pt x="34" y="1595"/>
                  </a:lnTo>
                  <a:lnTo>
                    <a:pt x="71" y="1610"/>
                  </a:lnTo>
                  <a:lnTo>
                    <a:pt x="109" y="1624"/>
                  </a:lnTo>
                  <a:lnTo>
                    <a:pt x="149" y="1635"/>
                  </a:lnTo>
                  <a:lnTo>
                    <a:pt x="190" y="1645"/>
                  </a:lnTo>
                  <a:lnTo>
                    <a:pt x="230" y="1652"/>
                  </a:lnTo>
                  <a:lnTo>
                    <a:pt x="272" y="1656"/>
                  </a:lnTo>
                  <a:lnTo>
                    <a:pt x="314" y="1660"/>
                  </a:lnTo>
                  <a:lnTo>
                    <a:pt x="357" y="1660"/>
                  </a:lnTo>
                  <a:lnTo>
                    <a:pt x="399" y="1660"/>
                  </a:lnTo>
                  <a:lnTo>
                    <a:pt x="441" y="1656"/>
                  </a:lnTo>
                  <a:lnTo>
                    <a:pt x="483" y="1652"/>
                  </a:lnTo>
                  <a:lnTo>
                    <a:pt x="524" y="1645"/>
                  </a:lnTo>
                  <a:lnTo>
                    <a:pt x="554" y="1637"/>
                  </a:lnTo>
                  <a:lnTo>
                    <a:pt x="554" y="1635"/>
                  </a:lnTo>
                  <a:lnTo>
                    <a:pt x="552" y="1635"/>
                  </a:lnTo>
                  <a:lnTo>
                    <a:pt x="552" y="1633"/>
                  </a:lnTo>
                  <a:lnTo>
                    <a:pt x="551" y="1633"/>
                  </a:lnTo>
                  <a:lnTo>
                    <a:pt x="551" y="1631"/>
                  </a:lnTo>
                  <a:lnTo>
                    <a:pt x="549" y="1629"/>
                  </a:lnTo>
                  <a:lnTo>
                    <a:pt x="549" y="1629"/>
                  </a:lnTo>
                  <a:lnTo>
                    <a:pt x="547" y="1627"/>
                  </a:lnTo>
                  <a:lnTo>
                    <a:pt x="522" y="1633"/>
                  </a:lnTo>
                  <a:lnTo>
                    <a:pt x="481" y="1641"/>
                  </a:lnTo>
                  <a:lnTo>
                    <a:pt x="441" y="1647"/>
                  </a:lnTo>
                  <a:lnTo>
                    <a:pt x="399" y="1649"/>
                  </a:lnTo>
                  <a:lnTo>
                    <a:pt x="357" y="1651"/>
                  </a:lnTo>
                  <a:lnTo>
                    <a:pt x="314" y="1649"/>
                  </a:lnTo>
                  <a:lnTo>
                    <a:pt x="272" y="1647"/>
                  </a:lnTo>
                  <a:lnTo>
                    <a:pt x="232" y="1641"/>
                  </a:lnTo>
                  <a:lnTo>
                    <a:pt x="192" y="1633"/>
                  </a:lnTo>
                  <a:lnTo>
                    <a:pt x="151" y="1624"/>
                  </a:lnTo>
                  <a:lnTo>
                    <a:pt x="113" y="1614"/>
                  </a:lnTo>
                  <a:lnTo>
                    <a:pt x="75" y="1601"/>
                  </a:lnTo>
                  <a:lnTo>
                    <a:pt x="38" y="1585"/>
                  </a:lnTo>
                  <a:lnTo>
                    <a:pt x="2" y="1570"/>
                  </a:lnTo>
                  <a:lnTo>
                    <a:pt x="0" y="1570"/>
                  </a:lnTo>
                  <a:lnTo>
                    <a:pt x="2" y="1570"/>
                  </a:lnTo>
                  <a:lnTo>
                    <a:pt x="2" y="1572"/>
                  </a:lnTo>
                  <a:lnTo>
                    <a:pt x="2" y="1574"/>
                  </a:lnTo>
                  <a:lnTo>
                    <a:pt x="2" y="1576"/>
                  </a:lnTo>
                  <a:lnTo>
                    <a:pt x="2" y="1578"/>
                  </a:lnTo>
                  <a:lnTo>
                    <a:pt x="2" y="1578"/>
                  </a:lnTo>
                  <a:lnTo>
                    <a:pt x="2" y="1580"/>
                  </a:lnTo>
                  <a:lnTo>
                    <a:pt x="2" y="1581"/>
                  </a:lnTo>
                  <a:close/>
                </a:path>
              </a:pathLst>
            </a:custGeom>
            <a:solidFill>
              <a:srgbClr val="64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Freeform 373"/>
            <p:cNvSpPr/>
            <p:nvPr/>
          </p:nvSpPr>
          <p:spPr>
            <a:xfrm>
              <a:off x="5880600" y="1873800"/>
              <a:ext cx="927720" cy="2778120"/>
            </a:xfrm>
            <a:custGeom>
              <a:avLst/>
              <a:gdLst>
                <a:gd name="textAreaLeft" fmla="*/ 0 w 927720"/>
                <a:gd name="textAreaRight" fmla="*/ 928080 w 927720"/>
                <a:gd name="textAreaTop" fmla="*/ 0 h 2778120"/>
                <a:gd name="textAreaBottom" fmla="*/ 2778480 h 2778120"/>
              </a:gdLst>
              <a:ahLst/>
              <a:rect l="textAreaLeft" t="textAreaTop" r="textAreaRight" b="textAreaBottom"/>
              <a:pathLst>
                <a:path w="551" h="1650">
                  <a:moveTo>
                    <a:pt x="529" y="17"/>
                  </a:moveTo>
                  <a:lnTo>
                    <a:pt x="524" y="17"/>
                  </a:lnTo>
                  <a:lnTo>
                    <a:pt x="483" y="10"/>
                  </a:lnTo>
                  <a:lnTo>
                    <a:pt x="441" y="4"/>
                  </a:lnTo>
                  <a:lnTo>
                    <a:pt x="399" y="0"/>
                  </a:lnTo>
                  <a:lnTo>
                    <a:pt x="357" y="0"/>
                  </a:lnTo>
                  <a:lnTo>
                    <a:pt x="314" y="0"/>
                  </a:lnTo>
                  <a:lnTo>
                    <a:pt x="272" y="4"/>
                  </a:lnTo>
                  <a:lnTo>
                    <a:pt x="232" y="10"/>
                  </a:lnTo>
                  <a:lnTo>
                    <a:pt x="194" y="16"/>
                  </a:lnTo>
                  <a:lnTo>
                    <a:pt x="192" y="17"/>
                  </a:lnTo>
                  <a:lnTo>
                    <a:pt x="192" y="19"/>
                  </a:lnTo>
                  <a:lnTo>
                    <a:pt x="192" y="21"/>
                  </a:lnTo>
                  <a:lnTo>
                    <a:pt x="192" y="21"/>
                  </a:lnTo>
                  <a:lnTo>
                    <a:pt x="190" y="23"/>
                  </a:lnTo>
                  <a:lnTo>
                    <a:pt x="190" y="25"/>
                  </a:lnTo>
                  <a:lnTo>
                    <a:pt x="190" y="27"/>
                  </a:lnTo>
                  <a:lnTo>
                    <a:pt x="188" y="27"/>
                  </a:lnTo>
                  <a:lnTo>
                    <a:pt x="194" y="27"/>
                  </a:lnTo>
                  <a:lnTo>
                    <a:pt x="232" y="19"/>
                  </a:lnTo>
                  <a:lnTo>
                    <a:pt x="274" y="16"/>
                  </a:lnTo>
                  <a:lnTo>
                    <a:pt x="314" y="12"/>
                  </a:lnTo>
                  <a:lnTo>
                    <a:pt x="357" y="10"/>
                  </a:lnTo>
                  <a:lnTo>
                    <a:pt x="399" y="12"/>
                  </a:lnTo>
                  <a:lnTo>
                    <a:pt x="439" y="16"/>
                  </a:lnTo>
                  <a:lnTo>
                    <a:pt x="481" y="19"/>
                  </a:lnTo>
                  <a:lnTo>
                    <a:pt x="522" y="27"/>
                  </a:lnTo>
                  <a:lnTo>
                    <a:pt x="522" y="27"/>
                  </a:lnTo>
                  <a:lnTo>
                    <a:pt x="522" y="25"/>
                  </a:lnTo>
                  <a:lnTo>
                    <a:pt x="524" y="25"/>
                  </a:lnTo>
                  <a:lnTo>
                    <a:pt x="524" y="23"/>
                  </a:lnTo>
                  <a:lnTo>
                    <a:pt x="526" y="23"/>
                  </a:lnTo>
                  <a:lnTo>
                    <a:pt x="526" y="21"/>
                  </a:lnTo>
                  <a:lnTo>
                    <a:pt x="528" y="19"/>
                  </a:lnTo>
                  <a:lnTo>
                    <a:pt x="528" y="19"/>
                  </a:lnTo>
                  <a:lnTo>
                    <a:pt x="529" y="17"/>
                  </a:lnTo>
                  <a:close/>
                  <a:moveTo>
                    <a:pt x="2" y="1570"/>
                  </a:moveTo>
                  <a:lnTo>
                    <a:pt x="36" y="1585"/>
                  </a:lnTo>
                  <a:lnTo>
                    <a:pt x="73" y="1600"/>
                  </a:lnTo>
                  <a:lnTo>
                    <a:pt x="111" y="1612"/>
                  </a:lnTo>
                  <a:lnTo>
                    <a:pt x="151" y="1623"/>
                  </a:lnTo>
                  <a:lnTo>
                    <a:pt x="190" y="1633"/>
                  </a:lnTo>
                  <a:lnTo>
                    <a:pt x="232" y="1641"/>
                  </a:lnTo>
                  <a:lnTo>
                    <a:pt x="272" y="1645"/>
                  </a:lnTo>
                  <a:lnTo>
                    <a:pt x="314" y="1648"/>
                  </a:lnTo>
                  <a:lnTo>
                    <a:pt x="357" y="1650"/>
                  </a:lnTo>
                  <a:lnTo>
                    <a:pt x="399" y="1648"/>
                  </a:lnTo>
                  <a:lnTo>
                    <a:pt x="441" y="1645"/>
                  </a:lnTo>
                  <a:lnTo>
                    <a:pt x="483" y="1641"/>
                  </a:lnTo>
                  <a:lnTo>
                    <a:pt x="524" y="1633"/>
                  </a:lnTo>
                  <a:lnTo>
                    <a:pt x="551" y="1627"/>
                  </a:lnTo>
                  <a:lnTo>
                    <a:pt x="551" y="1625"/>
                  </a:lnTo>
                  <a:lnTo>
                    <a:pt x="549" y="1623"/>
                  </a:lnTo>
                  <a:lnTo>
                    <a:pt x="549" y="1623"/>
                  </a:lnTo>
                  <a:lnTo>
                    <a:pt x="547" y="1621"/>
                  </a:lnTo>
                  <a:lnTo>
                    <a:pt x="547" y="1621"/>
                  </a:lnTo>
                  <a:lnTo>
                    <a:pt x="545" y="1620"/>
                  </a:lnTo>
                  <a:lnTo>
                    <a:pt x="545" y="1618"/>
                  </a:lnTo>
                  <a:lnTo>
                    <a:pt x="543" y="1618"/>
                  </a:lnTo>
                  <a:lnTo>
                    <a:pt x="522" y="1623"/>
                  </a:lnTo>
                  <a:lnTo>
                    <a:pt x="481" y="1629"/>
                  </a:lnTo>
                  <a:lnTo>
                    <a:pt x="439" y="1635"/>
                  </a:lnTo>
                  <a:lnTo>
                    <a:pt x="399" y="1639"/>
                  </a:lnTo>
                  <a:lnTo>
                    <a:pt x="357" y="1639"/>
                  </a:lnTo>
                  <a:lnTo>
                    <a:pt x="314" y="1639"/>
                  </a:lnTo>
                  <a:lnTo>
                    <a:pt x="274" y="1635"/>
                  </a:lnTo>
                  <a:lnTo>
                    <a:pt x="232" y="1629"/>
                  </a:lnTo>
                  <a:lnTo>
                    <a:pt x="194" y="1623"/>
                  </a:lnTo>
                  <a:lnTo>
                    <a:pt x="153" y="1614"/>
                  </a:lnTo>
                  <a:lnTo>
                    <a:pt x="115" y="1602"/>
                  </a:lnTo>
                  <a:lnTo>
                    <a:pt x="76" y="1589"/>
                  </a:lnTo>
                  <a:lnTo>
                    <a:pt x="40" y="1575"/>
                  </a:lnTo>
                  <a:lnTo>
                    <a:pt x="4" y="1558"/>
                  </a:lnTo>
                  <a:lnTo>
                    <a:pt x="0" y="1556"/>
                  </a:lnTo>
                  <a:lnTo>
                    <a:pt x="0" y="1558"/>
                  </a:lnTo>
                  <a:lnTo>
                    <a:pt x="0" y="1560"/>
                  </a:lnTo>
                  <a:lnTo>
                    <a:pt x="0" y="1562"/>
                  </a:lnTo>
                  <a:lnTo>
                    <a:pt x="0" y="1564"/>
                  </a:lnTo>
                  <a:lnTo>
                    <a:pt x="2" y="1564"/>
                  </a:lnTo>
                  <a:lnTo>
                    <a:pt x="2" y="1566"/>
                  </a:lnTo>
                  <a:lnTo>
                    <a:pt x="2" y="1568"/>
                  </a:lnTo>
                  <a:lnTo>
                    <a:pt x="2" y="1570"/>
                  </a:lnTo>
                  <a:close/>
                </a:path>
              </a:pathLst>
            </a:custGeom>
            <a:solidFill>
              <a:srgbClr val="65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Freeform 374"/>
            <p:cNvSpPr/>
            <p:nvPr/>
          </p:nvSpPr>
          <p:spPr>
            <a:xfrm>
              <a:off x="5880600" y="1884240"/>
              <a:ext cx="921240" cy="2759400"/>
            </a:xfrm>
            <a:custGeom>
              <a:avLst/>
              <a:gdLst>
                <a:gd name="textAreaLeft" fmla="*/ 0 w 921240"/>
                <a:gd name="textAreaRight" fmla="*/ 921600 w 921240"/>
                <a:gd name="textAreaTop" fmla="*/ 0 h 2759400"/>
                <a:gd name="textAreaBottom" fmla="*/ 2759760 h 2759400"/>
              </a:gdLst>
              <a:ahLst/>
              <a:rect l="textAreaLeft" t="textAreaTop" r="textAreaRight" b="textAreaBottom"/>
              <a:pathLst>
                <a:path w="547" h="1639">
                  <a:moveTo>
                    <a:pt x="526" y="17"/>
                  </a:moveTo>
                  <a:lnTo>
                    <a:pt x="522" y="15"/>
                  </a:lnTo>
                  <a:lnTo>
                    <a:pt x="481" y="8"/>
                  </a:lnTo>
                  <a:lnTo>
                    <a:pt x="441" y="4"/>
                  </a:lnTo>
                  <a:lnTo>
                    <a:pt x="399" y="0"/>
                  </a:lnTo>
                  <a:lnTo>
                    <a:pt x="357" y="0"/>
                  </a:lnTo>
                  <a:lnTo>
                    <a:pt x="314" y="0"/>
                  </a:lnTo>
                  <a:lnTo>
                    <a:pt x="272" y="4"/>
                  </a:lnTo>
                  <a:lnTo>
                    <a:pt x="232" y="8"/>
                  </a:lnTo>
                  <a:lnTo>
                    <a:pt x="192" y="15"/>
                  </a:lnTo>
                  <a:lnTo>
                    <a:pt x="192" y="15"/>
                  </a:lnTo>
                  <a:lnTo>
                    <a:pt x="190" y="17"/>
                  </a:lnTo>
                  <a:lnTo>
                    <a:pt x="190" y="19"/>
                  </a:lnTo>
                  <a:lnTo>
                    <a:pt x="190" y="21"/>
                  </a:lnTo>
                  <a:lnTo>
                    <a:pt x="188" y="21"/>
                  </a:lnTo>
                  <a:lnTo>
                    <a:pt x="188" y="23"/>
                  </a:lnTo>
                  <a:lnTo>
                    <a:pt x="188" y="25"/>
                  </a:lnTo>
                  <a:lnTo>
                    <a:pt x="188" y="27"/>
                  </a:lnTo>
                  <a:lnTo>
                    <a:pt x="186" y="29"/>
                  </a:lnTo>
                  <a:lnTo>
                    <a:pt x="194" y="27"/>
                  </a:lnTo>
                  <a:lnTo>
                    <a:pt x="234" y="19"/>
                  </a:lnTo>
                  <a:lnTo>
                    <a:pt x="274" y="13"/>
                  </a:lnTo>
                  <a:lnTo>
                    <a:pt x="314" y="11"/>
                  </a:lnTo>
                  <a:lnTo>
                    <a:pt x="357" y="10"/>
                  </a:lnTo>
                  <a:lnTo>
                    <a:pt x="399" y="11"/>
                  </a:lnTo>
                  <a:lnTo>
                    <a:pt x="439" y="13"/>
                  </a:lnTo>
                  <a:lnTo>
                    <a:pt x="480" y="19"/>
                  </a:lnTo>
                  <a:lnTo>
                    <a:pt x="518" y="25"/>
                  </a:lnTo>
                  <a:lnTo>
                    <a:pt x="518" y="25"/>
                  </a:lnTo>
                  <a:lnTo>
                    <a:pt x="520" y="23"/>
                  </a:lnTo>
                  <a:lnTo>
                    <a:pt x="520" y="23"/>
                  </a:lnTo>
                  <a:lnTo>
                    <a:pt x="522" y="21"/>
                  </a:lnTo>
                  <a:lnTo>
                    <a:pt x="522" y="19"/>
                  </a:lnTo>
                  <a:lnTo>
                    <a:pt x="524" y="19"/>
                  </a:lnTo>
                  <a:lnTo>
                    <a:pt x="524" y="17"/>
                  </a:lnTo>
                  <a:lnTo>
                    <a:pt x="526" y="17"/>
                  </a:lnTo>
                  <a:close/>
                  <a:moveTo>
                    <a:pt x="0" y="1558"/>
                  </a:moveTo>
                  <a:lnTo>
                    <a:pt x="2" y="1558"/>
                  </a:lnTo>
                  <a:lnTo>
                    <a:pt x="38" y="1573"/>
                  </a:lnTo>
                  <a:lnTo>
                    <a:pt x="75" y="1589"/>
                  </a:lnTo>
                  <a:lnTo>
                    <a:pt x="113" y="1602"/>
                  </a:lnTo>
                  <a:lnTo>
                    <a:pt x="151" y="1612"/>
                  </a:lnTo>
                  <a:lnTo>
                    <a:pt x="192" y="1621"/>
                  </a:lnTo>
                  <a:lnTo>
                    <a:pt x="232" y="1629"/>
                  </a:lnTo>
                  <a:lnTo>
                    <a:pt x="272" y="1635"/>
                  </a:lnTo>
                  <a:lnTo>
                    <a:pt x="314" y="1637"/>
                  </a:lnTo>
                  <a:lnTo>
                    <a:pt x="357" y="1639"/>
                  </a:lnTo>
                  <a:lnTo>
                    <a:pt x="399" y="1637"/>
                  </a:lnTo>
                  <a:lnTo>
                    <a:pt x="441" y="1635"/>
                  </a:lnTo>
                  <a:lnTo>
                    <a:pt x="481" y="1629"/>
                  </a:lnTo>
                  <a:lnTo>
                    <a:pt x="522" y="1621"/>
                  </a:lnTo>
                  <a:lnTo>
                    <a:pt x="547" y="1615"/>
                  </a:lnTo>
                  <a:lnTo>
                    <a:pt x="547" y="1615"/>
                  </a:lnTo>
                  <a:lnTo>
                    <a:pt x="545" y="1614"/>
                  </a:lnTo>
                  <a:lnTo>
                    <a:pt x="545" y="1612"/>
                  </a:lnTo>
                  <a:lnTo>
                    <a:pt x="543" y="1612"/>
                  </a:lnTo>
                  <a:lnTo>
                    <a:pt x="543" y="1610"/>
                  </a:lnTo>
                  <a:lnTo>
                    <a:pt x="541" y="1610"/>
                  </a:lnTo>
                  <a:lnTo>
                    <a:pt x="541" y="1608"/>
                  </a:lnTo>
                  <a:lnTo>
                    <a:pt x="539" y="1606"/>
                  </a:lnTo>
                  <a:lnTo>
                    <a:pt x="520" y="1612"/>
                  </a:lnTo>
                  <a:lnTo>
                    <a:pt x="480" y="1619"/>
                  </a:lnTo>
                  <a:lnTo>
                    <a:pt x="439" y="1623"/>
                  </a:lnTo>
                  <a:lnTo>
                    <a:pt x="399" y="1627"/>
                  </a:lnTo>
                  <a:lnTo>
                    <a:pt x="357" y="1627"/>
                  </a:lnTo>
                  <a:lnTo>
                    <a:pt x="314" y="1627"/>
                  </a:lnTo>
                  <a:lnTo>
                    <a:pt x="274" y="1623"/>
                  </a:lnTo>
                  <a:lnTo>
                    <a:pt x="234" y="1619"/>
                  </a:lnTo>
                  <a:lnTo>
                    <a:pt x="194" y="1612"/>
                  </a:lnTo>
                  <a:lnTo>
                    <a:pt x="155" y="1602"/>
                  </a:lnTo>
                  <a:lnTo>
                    <a:pt x="117" y="1591"/>
                  </a:lnTo>
                  <a:lnTo>
                    <a:pt x="78" y="1579"/>
                  </a:lnTo>
                  <a:lnTo>
                    <a:pt x="42" y="1564"/>
                  </a:lnTo>
                  <a:lnTo>
                    <a:pt x="5" y="1548"/>
                  </a:lnTo>
                  <a:lnTo>
                    <a:pt x="0" y="1545"/>
                  </a:lnTo>
                  <a:lnTo>
                    <a:pt x="0" y="1546"/>
                  </a:lnTo>
                  <a:lnTo>
                    <a:pt x="0" y="1548"/>
                  </a:lnTo>
                  <a:lnTo>
                    <a:pt x="0" y="1548"/>
                  </a:lnTo>
                  <a:lnTo>
                    <a:pt x="0" y="1550"/>
                  </a:lnTo>
                  <a:lnTo>
                    <a:pt x="0" y="1552"/>
                  </a:lnTo>
                  <a:lnTo>
                    <a:pt x="0" y="1554"/>
                  </a:lnTo>
                  <a:lnTo>
                    <a:pt x="0" y="1556"/>
                  </a:lnTo>
                  <a:lnTo>
                    <a:pt x="0" y="1558"/>
                  </a:lnTo>
                  <a:close/>
                </a:path>
              </a:pathLst>
            </a:custGeom>
            <a:solidFill>
              <a:srgbClr val="66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Freeform 375"/>
            <p:cNvSpPr/>
            <p:nvPr/>
          </p:nvSpPr>
          <p:spPr>
            <a:xfrm>
              <a:off x="5877360" y="1890720"/>
              <a:ext cx="917640" cy="2743200"/>
            </a:xfrm>
            <a:custGeom>
              <a:avLst/>
              <a:gdLst>
                <a:gd name="textAreaLeft" fmla="*/ 0 w 917640"/>
                <a:gd name="textAreaRight" fmla="*/ 918000 w 917640"/>
                <a:gd name="textAreaTop" fmla="*/ 0 h 2743200"/>
                <a:gd name="textAreaBottom" fmla="*/ 2743560 h 2743200"/>
              </a:gdLst>
              <a:ahLst/>
              <a:rect l="textAreaLeft" t="textAreaTop" r="textAreaRight" b="textAreaBottom"/>
              <a:pathLst>
                <a:path w="545" h="1629">
                  <a:moveTo>
                    <a:pt x="524" y="17"/>
                  </a:moveTo>
                  <a:lnTo>
                    <a:pt x="524" y="17"/>
                  </a:lnTo>
                  <a:lnTo>
                    <a:pt x="483" y="9"/>
                  </a:lnTo>
                  <a:lnTo>
                    <a:pt x="441" y="6"/>
                  </a:lnTo>
                  <a:lnTo>
                    <a:pt x="401" y="2"/>
                  </a:lnTo>
                  <a:lnTo>
                    <a:pt x="359" y="0"/>
                  </a:lnTo>
                  <a:lnTo>
                    <a:pt x="316" y="2"/>
                  </a:lnTo>
                  <a:lnTo>
                    <a:pt x="276" y="6"/>
                  </a:lnTo>
                  <a:lnTo>
                    <a:pt x="234" y="9"/>
                  </a:lnTo>
                  <a:lnTo>
                    <a:pt x="196" y="17"/>
                  </a:lnTo>
                  <a:lnTo>
                    <a:pt x="190" y="17"/>
                  </a:lnTo>
                  <a:lnTo>
                    <a:pt x="190" y="19"/>
                  </a:lnTo>
                  <a:lnTo>
                    <a:pt x="190" y="21"/>
                  </a:lnTo>
                  <a:lnTo>
                    <a:pt x="190" y="23"/>
                  </a:lnTo>
                  <a:lnTo>
                    <a:pt x="188" y="25"/>
                  </a:lnTo>
                  <a:lnTo>
                    <a:pt x="188" y="25"/>
                  </a:lnTo>
                  <a:lnTo>
                    <a:pt x="188" y="27"/>
                  </a:lnTo>
                  <a:lnTo>
                    <a:pt x="186" y="29"/>
                  </a:lnTo>
                  <a:lnTo>
                    <a:pt x="186" y="30"/>
                  </a:lnTo>
                  <a:lnTo>
                    <a:pt x="197" y="27"/>
                  </a:lnTo>
                  <a:lnTo>
                    <a:pt x="236" y="21"/>
                  </a:lnTo>
                  <a:lnTo>
                    <a:pt x="276" y="15"/>
                  </a:lnTo>
                  <a:lnTo>
                    <a:pt x="318" y="11"/>
                  </a:lnTo>
                  <a:lnTo>
                    <a:pt x="359" y="11"/>
                  </a:lnTo>
                  <a:lnTo>
                    <a:pt x="401" y="11"/>
                  </a:lnTo>
                  <a:lnTo>
                    <a:pt x="441" y="15"/>
                  </a:lnTo>
                  <a:lnTo>
                    <a:pt x="482" y="21"/>
                  </a:lnTo>
                  <a:lnTo>
                    <a:pt x="516" y="27"/>
                  </a:lnTo>
                  <a:lnTo>
                    <a:pt x="518" y="25"/>
                  </a:lnTo>
                  <a:lnTo>
                    <a:pt x="518" y="25"/>
                  </a:lnTo>
                  <a:lnTo>
                    <a:pt x="520" y="23"/>
                  </a:lnTo>
                  <a:lnTo>
                    <a:pt x="520" y="23"/>
                  </a:lnTo>
                  <a:lnTo>
                    <a:pt x="520" y="21"/>
                  </a:lnTo>
                  <a:lnTo>
                    <a:pt x="522" y="19"/>
                  </a:lnTo>
                  <a:lnTo>
                    <a:pt x="522" y="19"/>
                  </a:lnTo>
                  <a:lnTo>
                    <a:pt x="524" y="17"/>
                  </a:lnTo>
                  <a:close/>
                  <a:moveTo>
                    <a:pt x="2" y="1546"/>
                  </a:moveTo>
                  <a:lnTo>
                    <a:pt x="6" y="1548"/>
                  </a:lnTo>
                  <a:lnTo>
                    <a:pt x="42" y="1565"/>
                  </a:lnTo>
                  <a:lnTo>
                    <a:pt x="78" y="1579"/>
                  </a:lnTo>
                  <a:lnTo>
                    <a:pt x="117" y="1592"/>
                  </a:lnTo>
                  <a:lnTo>
                    <a:pt x="155" y="1604"/>
                  </a:lnTo>
                  <a:lnTo>
                    <a:pt x="196" y="1613"/>
                  </a:lnTo>
                  <a:lnTo>
                    <a:pt x="234" y="1619"/>
                  </a:lnTo>
                  <a:lnTo>
                    <a:pt x="276" y="1625"/>
                  </a:lnTo>
                  <a:lnTo>
                    <a:pt x="316" y="1629"/>
                  </a:lnTo>
                  <a:lnTo>
                    <a:pt x="359" y="1629"/>
                  </a:lnTo>
                  <a:lnTo>
                    <a:pt x="401" y="1629"/>
                  </a:lnTo>
                  <a:lnTo>
                    <a:pt x="441" y="1625"/>
                  </a:lnTo>
                  <a:lnTo>
                    <a:pt x="483" y="1619"/>
                  </a:lnTo>
                  <a:lnTo>
                    <a:pt x="524" y="1613"/>
                  </a:lnTo>
                  <a:lnTo>
                    <a:pt x="545" y="1608"/>
                  </a:lnTo>
                  <a:lnTo>
                    <a:pt x="545" y="1606"/>
                  </a:lnTo>
                  <a:lnTo>
                    <a:pt x="543" y="1606"/>
                  </a:lnTo>
                  <a:lnTo>
                    <a:pt x="543" y="1604"/>
                  </a:lnTo>
                  <a:lnTo>
                    <a:pt x="541" y="1602"/>
                  </a:lnTo>
                  <a:lnTo>
                    <a:pt x="541" y="1602"/>
                  </a:lnTo>
                  <a:lnTo>
                    <a:pt x="539" y="1600"/>
                  </a:lnTo>
                  <a:lnTo>
                    <a:pt x="539" y="1600"/>
                  </a:lnTo>
                  <a:lnTo>
                    <a:pt x="537" y="1598"/>
                  </a:lnTo>
                  <a:lnTo>
                    <a:pt x="520" y="1602"/>
                  </a:lnTo>
                  <a:lnTo>
                    <a:pt x="482" y="1610"/>
                  </a:lnTo>
                  <a:lnTo>
                    <a:pt x="441" y="1613"/>
                  </a:lnTo>
                  <a:lnTo>
                    <a:pt x="401" y="1617"/>
                  </a:lnTo>
                  <a:lnTo>
                    <a:pt x="359" y="1619"/>
                  </a:lnTo>
                  <a:lnTo>
                    <a:pt x="318" y="1617"/>
                  </a:lnTo>
                  <a:lnTo>
                    <a:pt x="276" y="1613"/>
                  </a:lnTo>
                  <a:lnTo>
                    <a:pt x="236" y="1610"/>
                  </a:lnTo>
                  <a:lnTo>
                    <a:pt x="197" y="1602"/>
                  </a:lnTo>
                  <a:lnTo>
                    <a:pt x="157" y="1592"/>
                  </a:lnTo>
                  <a:lnTo>
                    <a:pt x="121" y="1583"/>
                  </a:lnTo>
                  <a:lnTo>
                    <a:pt x="82" y="1569"/>
                  </a:lnTo>
                  <a:lnTo>
                    <a:pt x="46" y="1556"/>
                  </a:lnTo>
                  <a:lnTo>
                    <a:pt x="11" y="1539"/>
                  </a:lnTo>
                  <a:lnTo>
                    <a:pt x="0" y="1535"/>
                  </a:lnTo>
                  <a:lnTo>
                    <a:pt x="0" y="1535"/>
                  </a:lnTo>
                  <a:lnTo>
                    <a:pt x="0" y="1537"/>
                  </a:lnTo>
                  <a:lnTo>
                    <a:pt x="2" y="1539"/>
                  </a:lnTo>
                  <a:lnTo>
                    <a:pt x="2" y="1541"/>
                  </a:lnTo>
                  <a:lnTo>
                    <a:pt x="2" y="1542"/>
                  </a:lnTo>
                  <a:lnTo>
                    <a:pt x="2" y="1544"/>
                  </a:lnTo>
                  <a:lnTo>
                    <a:pt x="2" y="1544"/>
                  </a:lnTo>
                  <a:lnTo>
                    <a:pt x="2" y="1546"/>
                  </a:lnTo>
                  <a:close/>
                </a:path>
              </a:pathLst>
            </a:custGeom>
            <a:solidFill>
              <a:srgbClr val="67c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Freeform 376"/>
            <p:cNvSpPr/>
            <p:nvPr/>
          </p:nvSpPr>
          <p:spPr>
            <a:xfrm>
              <a:off x="5877360" y="1901160"/>
              <a:ext cx="910800" cy="2722320"/>
            </a:xfrm>
            <a:custGeom>
              <a:avLst/>
              <a:gdLst>
                <a:gd name="textAreaLeft" fmla="*/ 0 w 910800"/>
                <a:gd name="textAreaRight" fmla="*/ 911160 w 910800"/>
                <a:gd name="textAreaTop" fmla="*/ 0 h 2722320"/>
                <a:gd name="textAreaBottom" fmla="*/ 2722680 h 2722320"/>
              </a:gdLst>
              <a:ahLst/>
              <a:rect l="textAreaLeft" t="textAreaTop" r="textAreaRight" b="textAreaBottom"/>
              <a:pathLst>
                <a:path w="541" h="1617">
                  <a:moveTo>
                    <a:pt x="520" y="15"/>
                  </a:moveTo>
                  <a:lnTo>
                    <a:pt x="482" y="9"/>
                  </a:lnTo>
                  <a:lnTo>
                    <a:pt x="441" y="3"/>
                  </a:lnTo>
                  <a:lnTo>
                    <a:pt x="401" y="1"/>
                  </a:lnTo>
                  <a:lnTo>
                    <a:pt x="359" y="0"/>
                  </a:lnTo>
                  <a:lnTo>
                    <a:pt x="316" y="1"/>
                  </a:lnTo>
                  <a:lnTo>
                    <a:pt x="276" y="3"/>
                  </a:lnTo>
                  <a:lnTo>
                    <a:pt x="236" y="9"/>
                  </a:lnTo>
                  <a:lnTo>
                    <a:pt x="196" y="17"/>
                  </a:lnTo>
                  <a:lnTo>
                    <a:pt x="188" y="19"/>
                  </a:lnTo>
                  <a:lnTo>
                    <a:pt x="188" y="19"/>
                  </a:lnTo>
                  <a:lnTo>
                    <a:pt x="188" y="21"/>
                  </a:lnTo>
                  <a:lnTo>
                    <a:pt x="186" y="23"/>
                  </a:lnTo>
                  <a:lnTo>
                    <a:pt x="186" y="24"/>
                  </a:lnTo>
                  <a:lnTo>
                    <a:pt x="186" y="24"/>
                  </a:lnTo>
                  <a:lnTo>
                    <a:pt x="186" y="26"/>
                  </a:lnTo>
                  <a:lnTo>
                    <a:pt x="184" y="28"/>
                  </a:lnTo>
                  <a:lnTo>
                    <a:pt x="184" y="30"/>
                  </a:lnTo>
                  <a:lnTo>
                    <a:pt x="197" y="26"/>
                  </a:lnTo>
                  <a:lnTo>
                    <a:pt x="238" y="19"/>
                  </a:lnTo>
                  <a:lnTo>
                    <a:pt x="278" y="15"/>
                  </a:lnTo>
                  <a:lnTo>
                    <a:pt x="318" y="11"/>
                  </a:lnTo>
                  <a:lnTo>
                    <a:pt x="359" y="11"/>
                  </a:lnTo>
                  <a:lnTo>
                    <a:pt x="399" y="11"/>
                  </a:lnTo>
                  <a:lnTo>
                    <a:pt x="441" y="15"/>
                  </a:lnTo>
                  <a:lnTo>
                    <a:pt x="480" y="19"/>
                  </a:lnTo>
                  <a:lnTo>
                    <a:pt x="512" y="24"/>
                  </a:lnTo>
                  <a:lnTo>
                    <a:pt x="514" y="24"/>
                  </a:lnTo>
                  <a:lnTo>
                    <a:pt x="514" y="23"/>
                  </a:lnTo>
                  <a:lnTo>
                    <a:pt x="516" y="23"/>
                  </a:lnTo>
                  <a:lnTo>
                    <a:pt x="516" y="21"/>
                  </a:lnTo>
                  <a:lnTo>
                    <a:pt x="518" y="19"/>
                  </a:lnTo>
                  <a:lnTo>
                    <a:pt x="518" y="19"/>
                  </a:lnTo>
                  <a:lnTo>
                    <a:pt x="518" y="17"/>
                  </a:lnTo>
                  <a:lnTo>
                    <a:pt x="520" y="15"/>
                  </a:lnTo>
                  <a:close/>
                  <a:moveTo>
                    <a:pt x="2" y="1535"/>
                  </a:moveTo>
                  <a:lnTo>
                    <a:pt x="7" y="1538"/>
                  </a:lnTo>
                  <a:lnTo>
                    <a:pt x="44" y="1554"/>
                  </a:lnTo>
                  <a:lnTo>
                    <a:pt x="80" y="1569"/>
                  </a:lnTo>
                  <a:lnTo>
                    <a:pt x="119" y="1581"/>
                  </a:lnTo>
                  <a:lnTo>
                    <a:pt x="157" y="1592"/>
                  </a:lnTo>
                  <a:lnTo>
                    <a:pt x="196" y="1602"/>
                  </a:lnTo>
                  <a:lnTo>
                    <a:pt x="236" y="1609"/>
                  </a:lnTo>
                  <a:lnTo>
                    <a:pt x="276" y="1613"/>
                  </a:lnTo>
                  <a:lnTo>
                    <a:pt x="316" y="1617"/>
                  </a:lnTo>
                  <a:lnTo>
                    <a:pt x="359" y="1617"/>
                  </a:lnTo>
                  <a:lnTo>
                    <a:pt x="401" y="1617"/>
                  </a:lnTo>
                  <a:lnTo>
                    <a:pt x="441" y="1613"/>
                  </a:lnTo>
                  <a:lnTo>
                    <a:pt x="482" y="1609"/>
                  </a:lnTo>
                  <a:lnTo>
                    <a:pt x="522" y="1602"/>
                  </a:lnTo>
                  <a:lnTo>
                    <a:pt x="541" y="1596"/>
                  </a:lnTo>
                  <a:lnTo>
                    <a:pt x="541" y="1596"/>
                  </a:lnTo>
                  <a:lnTo>
                    <a:pt x="539" y="1594"/>
                  </a:lnTo>
                  <a:lnTo>
                    <a:pt x="539" y="1594"/>
                  </a:lnTo>
                  <a:lnTo>
                    <a:pt x="537" y="1592"/>
                  </a:lnTo>
                  <a:lnTo>
                    <a:pt x="537" y="1590"/>
                  </a:lnTo>
                  <a:lnTo>
                    <a:pt x="537" y="1590"/>
                  </a:lnTo>
                  <a:lnTo>
                    <a:pt x="535" y="1588"/>
                  </a:lnTo>
                  <a:lnTo>
                    <a:pt x="535" y="1588"/>
                  </a:lnTo>
                  <a:lnTo>
                    <a:pt x="520" y="1590"/>
                  </a:lnTo>
                  <a:lnTo>
                    <a:pt x="480" y="1598"/>
                  </a:lnTo>
                  <a:lnTo>
                    <a:pt x="441" y="1604"/>
                  </a:lnTo>
                  <a:lnTo>
                    <a:pt x="399" y="1605"/>
                  </a:lnTo>
                  <a:lnTo>
                    <a:pt x="359" y="1607"/>
                  </a:lnTo>
                  <a:lnTo>
                    <a:pt x="318" y="1605"/>
                  </a:lnTo>
                  <a:lnTo>
                    <a:pt x="278" y="1604"/>
                  </a:lnTo>
                  <a:lnTo>
                    <a:pt x="238" y="1598"/>
                  </a:lnTo>
                  <a:lnTo>
                    <a:pt x="197" y="1590"/>
                  </a:lnTo>
                  <a:lnTo>
                    <a:pt x="159" y="1582"/>
                  </a:lnTo>
                  <a:lnTo>
                    <a:pt x="121" y="1571"/>
                  </a:lnTo>
                  <a:lnTo>
                    <a:pt x="84" y="1559"/>
                  </a:lnTo>
                  <a:lnTo>
                    <a:pt x="48" y="1544"/>
                  </a:lnTo>
                  <a:lnTo>
                    <a:pt x="13" y="1529"/>
                  </a:lnTo>
                  <a:lnTo>
                    <a:pt x="0" y="1521"/>
                  </a:lnTo>
                  <a:lnTo>
                    <a:pt x="0" y="1523"/>
                  </a:lnTo>
                  <a:lnTo>
                    <a:pt x="0" y="1525"/>
                  </a:lnTo>
                  <a:lnTo>
                    <a:pt x="0" y="1527"/>
                  </a:lnTo>
                  <a:lnTo>
                    <a:pt x="0" y="1529"/>
                  </a:lnTo>
                  <a:lnTo>
                    <a:pt x="0" y="1529"/>
                  </a:lnTo>
                  <a:lnTo>
                    <a:pt x="0" y="1531"/>
                  </a:lnTo>
                  <a:lnTo>
                    <a:pt x="2" y="1533"/>
                  </a:lnTo>
                  <a:lnTo>
                    <a:pt x="2" y="1535"/>
                  </a:lnTo>
                  <a:close/>
                </a:path>
              </a:pathLst>
            </a:custGeom>
            <a:solidFill>
              <a:srgbClr val="68c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Freeform 377"/>
            <p:cNvSpPr/>
            <p:nvPr/>
          </p:nvSpPr>
          <p:spPr>
            <a:xfrm>
              <a:off x="5877360" y="1909440"/>
              <a:ext cx="904320" cy="2707560"/>
            </a:xfrm>
            <a:custGeom>
              <a:avLst/>
              <a:gdLst>
                <a:gd name="textAreaLeft" fmla="*/ 0 w 904320"/>
                <a:gd name="textAreaRight" fmla="*/ 904680 w 904320"/>
                <a:gd name="textAreaTop" fmla="*/ 0 h 2707560"/>
                <a:gd name="textAreaBottom" fmla="*/ 2707560 h 2707560"/>
              </a:gdLst>
              <a:ahLst/>
              <a:rect l="textAreaLeft" t="textAreaTop" r="textAreaRight" b="textAreaBottom"/>
              <a:pathLst>
                <a:path w="537" h="1608">
                  <a:moveTo>
                    <a:pt x="516" y="16"/>
                  </a:moveTo>
                  <a:lnTo>
                    <a:pt x="482" y="10"/>
                  </a:lnTo>
                  <a:lnTo>
                    <a:pt x="441" y="4"/>
                  </a:lnTo>
                  <a:lnTo>
                    <a:pt x="401" y="0"/>
                  </a:lnTo>
                  <a:lnTo>
                    <a:pt x="359" y="0"/>
                  </a:lnTo>
                  <a:lnTo>
                    <a:pt x="318" y="0"/>
                  </a:lnTo>
                  <a:lnTo>
                    <a:pt x="276" y="4"/>
                  </a:lnTo>
                  <a:lnTo>
                    <a:pt x="236" y="10"/>
                  </a:lnTo>
                  <a:lnTo>
                    <a:pt x="197" y="16"/>
                  </a:lnTo>
                  <a:lnTo>
                    <a:pt x="186" y="19"/>
                  </a:lnTo>
                  <a:lnTo>
                    <a:pt x="186" y="19"/>
                  </a:lnTo>
                  <a:lnTo>
                    <a:pt x="186" y="21"/>
                  </a:lnTo>
                  <a:lnTo>
                    <a:pt x="184" y="23"/>
                  </a:lnTo>
                  <a:lnTo>
                    <a:pt x="184" y="25"/>
                  </a:lnTo>
                  <a:lnTo>
                    <a:pt x="184" y="27"/>
                  </a:lnTo>
                  <a:lnTo>
                    <a:pt x="182" y="27"/>
                  </a:lnTo>
                  <a:lnTo>
                    <a:pt x="182" y="29"/>
                  </a:lnTo>
                  <a:lnTo>
                    <a:pt x="182" y="31"/>
                  </a:lnTo>
                  <a:lnTo>
                    <a:pt x="199" y="27"/>
                  </a:lnTo>
                  <a:lnTo>
                    <a:pt x="238" y="19"/>
                  </a:lnTo>
                  <a:lnTo>
                    <a:pt x="278" y="16"/>
                  </a:lnTo>
                  <a:lnTo>
                    <a:pt x="318" y="12"/>
                  </a:lnTo>
                  <a:lnTo>
                    <a:pt x="359" y="10"/>
                  </a:lnTo>
                  <a:lnTo>
                    <a:pt x="399" y="12"/>
                  </a:lnTo>
                  <a:lnTo>
                    <a:pt x="439" y="16"/>
                  </a:lnTo>
                  <a:lnTo>
                    <a:pt x="480" y="19"/>
                  </a:lnTo>
                  <a:lnTo>
                    <a:pt x="508" y="25"/>
                  </a:lnTo>
                  <a:lnTo>
                    <a:pt x="510" y="23"/>
                  </a:lnTo>
                  <a:lnTo>
                    <a:pt x="510" y="23"/>
                  </a:lnTo>
                  <a:lnTo>
                    <a:pt x="512" y="21"/>
                  </a:lnTo>
                  <a:lnTo>
                    <a:pt x="512" y="19"/>
                  </a:lnTo>
                  <a:lnTo>
                    <a:pt x="514" y="19"/>
                  </a:lnTo>
                  <a:lnTo>
                    <a:pt x="514" y="18"/>
                  </a:lnTo>
                  <a:lnTo>
                    <a:pt x="516" y="18"/>
                  </a:lnTo>
                  <a:lnTo>
                    <a:pt x="516" y="16"/>
                  </a:lnTo>
                  <a:close/>
                  <a:moveTo>
                    <a:pt x="0" y="1524"/>
                  </a:moveTo>
                  <a:lnTo>
                    <a:pt x="11" y="1528"/>
                  </a:lnTo>
                  <a:lnTo>
                    <a:pt x="46" y="1545"/>
                  </a:lnTo>
                  <a:lnTo>
                    <a:pt x="82" y="1558"/>
                  </a:lnTo>
                  <a:lnTo>
                    <a:pt x="121" y="1572"/>
                  </a:lnTo>
                  <a:lnTo>
                    <a:pt x="157" y="1581"/>
                  </a:lnTo>
                  <a:lnTo>
                    <a:pt x="197" y="1591"/>
                  </a:lnTo>
                  <a:lnTo>
                    <a:pt x="236" y="1599"/>
                  </a:lnTo>
                  <a:lnTo>
                    <a:pt x="276" y="1602"/>
                  </a:lnTo>
                  <a:lnTo>
                    <a:pt x="318" y="1606"/>
                  </a:lnTo>
                  <a:lnTo>
                    <a:pt x="359" y="1608"/>
                  </a:lnTo>
                  <a:lnTo>
                    <a:pt x="401" y="1606"/>
                  </a:lnTo>
                  <a:lnTo>
                    <a:pt x="441" y="1602"/>
                  </a:lnTo>
                  <a:lnTo>
                    <a:pt x="482" y="1599"/>
                  </a:lnTo>
                  <a:lnTo>
                    <a:pt x="520" y="1591"/>
                  </a:lnTo>
                  <a:lnTo>
                    <a:pt x="537" y="1587"/>
                  </a:lnTo>
                  <a:lnTo>
                    <a:pt x="537" y="1585"/>
                  </a:lnTo>
                  <a:lnTo>
                    <a:pt x="537" y="1585"/>
                  </a:lnTo>
                  <a:lnTo>
                    <a:pt x="535" y="1583"/>
                  </a:lnTo>
                  <a:lnTo>
                    <a:pt x="535" y="1583"/>
                  </a:lnTo>
                  <a:lnTo>
                    <a:pt x="533" y="1581"/>
                  </a:lnTo>
                  <a:lnTo>
                    <a:pt x="533" y="1579"/>
                  </a:lnTo>
                  <a:lnTo>
                    <a:pt x="531" y="1579"/>
                  </a:lnTo>
                  <a:lnTo>
                    <a:pt x="531" y="1577"/>
                  </a:lnTo>
                  <a:lnTo>
                    <a:pt x="518" y="1581"/>
                  </a:lnTo>
                  <a:lnTo>
                    <a:pt x="480" y="1587"/>
                  </a:lnTo>
                  <a:lnTo>
                    <a:pt x="439" y="1593"/>
                  </a:lnTo>
                  <a:lnTo>
                    <a:pt x="399" y="1597"/>
                  </a:lnTo>
                  <a:lnTo>
                    <a:pt x="359" y="1597"/>
                  </a:lnTo>
                  <a:lnTo>
                    <a:pt x="318" y="1597"/>
                  </a:lnTo>
                  <a:lnTo>
                    <a:pt x="278" y="1593"/>
                  </a:lnTo>
                  <a:lnTo>
                    <a:pt x="238" y="1587"/>
                  </a:lnTo>
                  <a:lnTo>
                    <a:pt x="199" y="1581"/>
                  </a:lnTo>
                  <a:lnTo>
                    <a:pt x="161" y="1572"/>
                  </a:lnTo>
                  <a:lnTo>
                    <a:pt x="123" y="1560"/>
                  </a:lnTo>
                  <a:lnTo>
                    <a:pt x="86" y="1549"/>
                  </a:lnTo>
                  <a:lnTo>
                    <a:pt x="50" y="1535"/>
                  </a:lnTo>
                  <a:lnTo>
                    <a:pt x="15" y="1518"/>
                  </a:lnTo>
                  <a:lnTo>
                    <a:pt x="0" y="1510"/>
                  </a:lnTo>
                  <a:lnTo>
                    <a:pt x="0" y="1512"/>
                  </a:lnTo>
                  <a:lnTo>
                    <a:pt x="0" y="1514"/>
                  </a:lnTo>
                  <a:lnTo>
                    <a:pt x="0" y="1514"/>
                  </a:lnTo>
                  <a:lnTo>
                    <a:pt x="0" y="1516"/>
                  </a:lnTo>
                  <a:lnTo>
                    <a:pt x="0" y="1518"/>
                  </a:lnTo>
                  <a:lnTo>
                    <a:pt x="0" y="1520"/>
                  </a:lnTo>
                  <a:lnTo>
                    <a:pt x="0" y="1522"/>
                  </a:lnTo>
                  <a:lnTo>
                    <a:pt x="0" y="1524"/>
                  </a:lnTo>
                  <a:close/>
                </a:path>
              </a:pathLst>
            </a:custGeom>
            <a:solidFill>
              <a:srgbClr val="69c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Freeform 378"/>
            <p:cNvSpPr/>
            <p:nvPr/>
          </p:nvSpPr>
          <p:spPr>
            <a:xfrm>
              <a:off x="5874120" y="1919520"/>
              <a:ext cx="904320" cy="2687400"/>
            </a:xfrm>
            <a:custGeom>
              <a:avLst/>
              <a:gdLst>
                <a:gd name="textAreaLeft" fmla="*/ 0 w 904320"/>
                <a:gd name="textAreaRight" fmla="*/ 904680 w 904320"/>
                <a:gd name="textAreaTop" fmla="*/ 0 h 2687400"/>
                <a:gd name="textAreaBottom" fmla="*/ 2687400 h 2687400"/>
              </a:gdLst>
              <a:ahLst/>
              <a:rect l="textAreaLeft" t="textAreaTop" r="textAreaRight" b="textAreaBottom"/>
              <a:pathLst>
                <a:path w="537" h="1596">
                  <a:moveTo>
                    <a:pt x="514" y="13"/>
                  </a:moveTo>
                  <a:lnTo>
                    <a:pt x="482" y="8"/>
                  </a:lnTo>
                  <a:lnTo>
                    <a:pt x="443" y="4"/>
                  </a:lnTo>
                  <a:lnTo>
                    <a:pt x="401" y="0"/>
                  </a:lnTo>
                  <a:lnTo>
                    <a:pt x="361" y="0"/>
                  </a:lnTo>
                  <a:lnTo>
                    <a:pt x="320" y="0"/>
                  </a:lnTo>
                  <a:lnTo>
                    <a:pt x="280" y="4"/>
                  </a:lnTo>
                  <a:lnTo>
                    <a:pt x="240" y="8"/>
                  </a:lnTo>
                  <a:lnTo>
                    <a:pt x="199" y="15"/>
                  </a:lnTo>
                  <a:lnTo>
                    <a:pt x="186" y="19"/>
                  </a:lnTo>
                  <a:lnTo>
                    <a:pt x="186" y="21"/>
                  </a:lnTo>
                  <a:lnTo>
                    <a:pt x="184" y="21"/>
                  </a:lnTo>
                  <a:lnTo>
                    <a:pt x="184" y="23"/>
                  </a:lnTo>
                  <a:lnTo>
                    <a:pt x="184" y="25"/>
                  </a:lnTo>
                  <a:lnTo>
                    <a:pt x="184" y="27"/>
                  </a:lnTo>
                  <a:lnTo>
                    <a:pt x="182" y="27"/>
                  </a:lnTo>
                  <a:lnTo>
                    <a:pt x="182" y="29"/>
                  </a:lnTo>
                  <a:lnTo>
                    <a:pt x="182" y="31"/>
                  </a:lnTo>
                  <a:lnTo>
                    <a:pt x="201" y="27"/>
                  </a:lnTo>
                  <a:lnTo>
                    <a:pt x="242" y="19"/>
                  </a:lnTo>
                  <a:lnTo>
                    <a:pt x="280" y="13"/>
                  </a:lnTo>
                  <a:lnTo>
                    <a:pt x="320" y="12"/>
                  </a:lnTo>
                  <a:lnTo>
                    <a:pt x="361" y="10"/>
                  </a:lnTo>
                  <a:lnTo>
                    <a:pt x="401" y="12"/>
                  </a:lnTo>
                  <a:lnTo>
                    <a:pt x="441" y="13"/>
                  </a:lnTo>
                  <a:lnTo>
                    <a:pt x="482" y="19"/>
                  </a:lnTo>
                  <a:lnTo>
                    <a:pt x="508" y="23"/>
                  </a:lnTo>
                  <a:lnTo>
                    <a:pt x="508" y="23"/>
                  </a:lnTo>
                  <a:lnTo>
                    <a:pt x="510" y="21"/>
                  </a:lnTo>
                  <a:lnTo>
                    <a:pt x="510" y="21"/>
                  </a:lnTo>
                  <a:lnTo>
                    <a:pt x="510" y="19"/>
                  </a:lnTo>
                  <a:lnTo>
                    <a:pt x="512" y="17"/>
                  </a:lnTo>
                  <a:lnTo>
                    <a:pt x="512" y="17"/>
                  </a:lnTo>
                  <a:lnTo>
                    <a:pt x="514" y="15"/>
                  </a:lnTo>
                  <a:lnTo>
                    <a:pt x="514" y="13"/>
                  </a:lnTo>
                  <a:close/>
                  <a:moveTo>
                    <a:pt x="2" y="1510"/>
                  </a:moveTo>
                  <a:lnTo>
                    <a:pt x="15" y="1518"/>
                  </a:lnTo>
                  <a:lnTo>
                    <a:pt x="50" y="1533"/>
                  </a:lnTo>
                  <a:lnTo>
                    <a:pt x="86" y="1548"/>
                  </a:lnTo>
                  <a:lnTo>
                    <a:pt x="123" y="1560"/>
                  </a:lnTo>
                  <a:lnTo>
                    <a:pt x="161" y="1571"/>
                  </a:lnTo>
                  <a:lnTo>
                    <a:pt x="199" y="1579"/>
                  </a:lnTo>
                  <a:lnTo>
                    <a:pt x="240" y="1587"/>
                  </a:lnTo>
                  <a:lnTo>
                    <a:pt x="280" y="1593"/>
                  </a:lnTo>
                  <a:lnTo>
                    <a:pt x="320" y="1594"/>
                  </a:lnTo>
                  <a:lnTo>
                    <a:pt x="361" y="1596"/>
                  </a:lnTo>
                  <a:lnTo>
                    <a:pt x="401" y="1594"/>
                  </a:lnTo>
                  <a:lnTo>
                    <a:pt x="443" y="1593"/>
                  </a:lnTo>
                  <a:lnTo>
                    <a:pt x="482" y="1587"/>
                  </a:lnTo>
                  <a:lnTo>
                    <a:pt x="522" y="1579"/>
                  </a:lnTo>
                  <a:lnTo>
                    <a:pt x="537" y="1577"/>
                  </a:lnTo>
                  <a:lnTo>
                    <a:pt x="535" y="1575"/>
                  </a:lnTo>
                  <a:lnTo>
                    <a:pt x="535" y="1573"/>
                  </a:lnTo>
                  <a:lnTo>
                    <a:pt x="533" y="1573"/>
                  </a:lnTo>
                  <a:lnTo>
                    <a:pt x="533" y="1571"/>
                  </a:lnTo>
                  <a:lnTo>
                    <a:pt x="532" y="1571"/>
                  </a:lnTo>
                  <a:lnTo>
                    <a:pt x="532" y="1570"/>
                  </a:lnTo>
                  <a:lnTo>
                    <a:pt x="530" y="1568"/>
                  </a:lnTo>
                  <a:lnTo>
                    <a:pt x="530" y="1568"/>
                  </a:lnTo>
                  <a:lnTo>
                    <a:pt x="520" y="1570"/>
                  </a:lnTo>
                  <a:lnTo>
                    <a:pt x="482" y="1577"/>
                  </a:lnTo>
                  <a:lnTo>
                    <a:pt x="441" y="1581"/>
                  </a:lnTo>
                  <a:lnTo>
                    <a:pt x="401" y="1585"/>
                  </a:lnTo>
                  <a:lnTo>
                    <a:pt x="361" y="1585"/>
                  </a:lnTo>
                  <a:lnTo>
                    <a:pt x="320" y="1585"/>
                  </a:lnTo>
                  <a:lnTo>
                    <a:pt x="280" y="1581"/>
                  </a:lnTo>
                  <a:lnTo>
                    <a:pt x="242" y="1577"/>
                  </a:lnTo>
                  <a:lnTo>
                    <a:pt x="201" y="1570"/>
                  </a:lnTo>
                  <a:lnTo>
                    <a:pt x="165" y="1560"/>
                  </a:lnTo>
                  <a:lnTo>
                    <a:pt x="127" y="1550"/>
                  </a:lnTo>
                  <a:lnTo>
                    <a:pt x="90" y="1537"/>
                  </a:lnTo>
                  <a:lnTo>
                    <a:pt x="54" y="1524"/>
                  </a:lnTo>
                  <a:lnTo>
                    <a:pt x="19" y="1508"/>
                  </a:lnTo>
                  <a:lnTo>
                    <a:pt x="0" y="1499"/>
                  </a:lnTo>
                  <a:lnTo>
                    <a:pt x="0" y="1500"/>
                  </a:lnTo>
                  <a:lnTo>
                    <a:pt x="0" y="1500"/>
                  </a:lnTo>
                  <a:lnTo>
                    <a:pt x="0" y="1502"/>
                  </a:lnTo>
                  <a:lnTo>
                    <a:pt x="2" y="1504"/>
                  </a:lnTo>
                  <a:lnTo>
                    <a:pt x="2" y="1506"/>
                  </a:lnTo>
                  <a:lnTo>
                    <a:pt x="2" y="1508"/>
                  </a:lnTo>
                  <a:lnTo>
                    <a:pt x="2" y="1508"/>
                  </a:lnTo>
                  <a:lnTo>
                    <a:pt x="2" y="1510"/>
                  </a:lnTo>
                  <a:close/>
                </a:path>
              </a:pathLst>
            </a:custGeom>
            <a:solidFill>
              <a:srgbClr val="6ac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Freeform 379"/>
            <p:cNvSpPr/>
            <p:nvPr/>
          </p:nvSpPr>
          <p:spPr>
            <a:xfrm>
              <a:off x="5874120" y="1926360"/>
              <a:ext cx="897120" cy="2671920"/>
            </a:xfrm>
            <a:custGeom>
              <a:avLst/>
              <a:gdLst>
                <a:gd name="textAreaLeft" fmla="*/ 0 w 897120"/>
                <a:gd name="textAreaRight" fmla="*/ 897480 w 897120"/>
                <a:gd name="textAreaTop" fmla="*/ 0 h 2671920"/>
                <a:gd name="textAreaBottom" fmla="*/ 2672280 h 2671920"/>
              </a:gdLst>
              <a:ahLst/>
              <a:rect l="textAreaLeft" t="textAreaTop" r="textAreaRight" b="textAreaBottom"/>
              <a:pathLst>
                <a:path w="533" h="1587">
                  <a:moveTo>
                    <a:pt x="510" y="15"/>
                  </a:moveTo>
                  <a:lnTo>
                    <a:pt x="482" y="9"/>
                  </a:lnTo>
                  <a:lnTo>
                    <a:pt x="441" y="6"/>
                  </a:lnTo>
                  <a:lnTo>
                    <a:pt x="401" y="2"/>
                  </a:lnTo>
                  <a:lnTo>
                    <a:pt x="361" y="0"/>
                  </a:lnTo>
                  <a:lnTo>
                    <a:pt x="320" y="2"/>
                  </a:lnTo>
                  <a:lnTo>
                    <a:pt x="280" y="6"/>
                  </a:lnTo>
                  <a:lnTo>
                    <a:pt x="240" y="9"/>
                  </a:lnTo>
                  <a:lnTo>
                    <a:pt x="201" y="17"/>
                  </a:lnTo>
                  <a:lnTo>
                    <a:pt x="184" y="21"/>
                  </a:lnTo>
                  <a:lnTo>
                    <a:pt x="184" y="23"/>
                  </a:lnTo>
                  <a:lnTo>
                    <a:pt x="182" y="23"/>
                  </a:lnTo>
                  <a:lnTo>
                    <a:pt x="182" y="25"/>
                  </a:lnTo>
                  <a:lnTo>
                    <a:pt x="182" y="27"/>
                  </a:lnTo>
                  <a:lnTo>
                    <a:pt x="180" y="29"/>
                  </a:lnTo>
                  <a:lnTo>
                    <a:pt x="180" y="31"/>
                  </a:lnTo>
                  <a:lnTo>
                    <a:pt x="180" y="31"/>
                  </a:lnTo>
                  <a:lnTo>
                    <a:pt x="180" y="33"/>
                  </a:lnTo>
                  <a:lnTo>
                    <a:pt x="203" y="27"/>
                  </a:lnTo>
                  <a:lnTo>
                    <a:pt x="242" y="21"/>
                  </a:lnTo>
                  <a:lnTo>
                    <a:pt x="280" y="15"/>
                  </a:lnTo>
                  <a:lnTo>
                    <a:pt x="320" y="13"/>
                  </a:lnTo>
                  <a:lnTo>
                    <a:pt x="361" y="11"/>
                  </a:lnTo>
                  <a:lnTo>
                    <a:pt x="401" y="13"/>
                  </a:lnTo>
                  <a:lnTo>
                    <a:pt x="441" y="15"/>
                  </a:lnTo>
                  <a:lnTo>
                    <a:pt x="480" y="21"/>
                  </a:lnTo>
                  <a:lnTo>
                    <a:pt x="505" y="25"/>
                  </a:lnTo>
                  <a:lnTo>
                    <a:pt x="505" y="23"/>
                  </a:lnTo>
                  <a:lnTo>
                    <a:pt x="507" y="23"/>
                  </a:lnTo>
                  <a:lnTo>
                    <a:pt x="507" y="21"/>
                  </a:lnTo>
                  <a:lnTo>
                    <a:pt x="508" y="19"/>
                  </a:lnTo>
                  <a:lnTo>
                    <a:pt x="508" y="19"/>
                  </a:lnTo>
                  <a:lnTo>
                    <a:pt x="510" y="17"/>
                  </a:lnTo>
                  <a:lnTo>
                    <a:pt x="510" y="17"/>
                  </a:lnTo>
                  <a:lnTo>
                    <a:pt x="510" y="15"/>
                  </a:lnTo>
                  <a:close/>
                  <a:moveTo>
                    <a:pt x="2" y="1500"/>
                  </a:moveTo>
                  <a:lnTo>
                    <a:pt x="17" y="1508"/>
                  </a:lnTo>
                  <a:lnTo>
                    <a:pt x="52" y="1525"/>
                  </a:lnTo>
                  <a:lnTo>
                    <a:pt x="88" y="1539"/>
                  </a:lnTo>
                  <a:lnTo>
                    <a:pt x="125" y="1550"/>
                  </a:lnTo>
                  <a:lnTo>
                    <a:pt x="163" y="1562"/>
                  </a:lnTo>
                  <a:lnTo>
                    <a:pt x="201" y="1571"/>
                  </a:lnTo>
                  <a:lnTo>
                    <a:pt x="240" y="1577"/>
                  </a:lnTo>
                  <a:lnTo>
                    <a:pt x="280" y="1583"/>
                  </a:lnTo>
                  <a:lnTo>
                    <a:pt x="320" y="1587"/>
                  </a:lnTo>
                  <a:lnTo>
                    <a:pt x="361" y="1587"/>
                  </a:lnTo>
                  <a:lnTo>
                    <a:pt x="401" y="1587"/>
                  </a:lnTo>
                  <a:lnTo>
                    <a:pt x="441" y="1583"/>
                  </a:lnTo>
                  <a:lnTo>
                    <a:pt x="482" y="1577"/>
                  </a:lnTo>
                  <a:lnTo>
                    <a:pt x="520" y="1571"/>
                  </a:lnTo>
                  <a:lnTo>
                    <a:pt x="533" y="1567"/>
                  </a:lnTo>
                  <a:lnTo>
                    <a:pt x="532" y="1567"/>
                  </a:lnTo>
                  <a:lnTo>
                    <a:pt x="532" y="1566"/>
                  </a:lnTo>
                  <a:lnTo>
                    <a:pt x="530" y="1564"/>
                  </a:lnTo>
                  <a:lnTo>
                    <a:pt x="530" y="1564"/>
                  </a:lnTo>
                  <a:lnTo>
                    <a:pt x="528" y="1562"/>
                  </a:lnTo>
                  <a:lnTo>
                    <a:pt x="528" y="1562"/>
                  </a:lnTo>
                  <a:lnTo>
                    <a:pt x="528" y="1560"/>
                  </a:lnTo>
                  <a:lnTo>
                    <a:pt x="526" y="1558"/>
                  </a:lnTo>
                  <a:lnTo>
                    <a:pt x="518" y="1560"/>
                  </a:lnTo>
                  <a:lnTo>
                    <a:pt x="480" y="1567"/>
                  </a:lnTo>
                  <a:lnTo>
                    <a:pt x="441" y="1571"/>
                  </a:lnTo>
                  <a:lnTo>
                    <a:pt x="401" y="1575"/>
                  </a:lnTo>
                  <a:lnTo>
                    <a:pt x="361" y="1577"/>
                  </a:lnTo>
                  <a:lnTo>
                    <a:pt x="320" y="1575"/>
                  </a:lnTo>
                  <a:lnTo>
                    <a:pt x="280" y="1571"/>
                  </a:lnTo>
                  <a:lnTo>
                    <a:pt x="242" y="1567"/>
                  </a:lnTo>
                  <a:lnTo>
                    <a:pt x="203" y="1560"/>
                  </a:lnTo>
                  <a:lnTo>
                    <a:pt x="165" y="1552"/>
                  </a:lnTo>
                  <a:lnTo>
                    <a:pt x="128" y="1541"/>
                  </a:lnTo>
                  <a:lnTo>
                    <a:pt x="92" y="1529"/>
                  </a:lnTo>
                  <a:lnTo>
                    <a:pt x="56" y="1514"/>
                  </a:lnTo>
                  <a:lnTo>
                    <a:pt x="21" y="1498"/>
                  </a:lnTo>
                  <a:lnTo>
                    <a:pt x="0" y="1487"/>
                  </a:lnTo>
                  <a:lnTo>
                    <a:pt x="0" y="1489"/>
                  </a:lnTo>
                  <a:lnTo>
                    <a:pt x="0" y="1491"/>
                  </a:lnTo>
                  <a:lnTo>
                    <a:pt x="0" y="1493"/>
                  </a:lnTo>
                  <a:lnTo>
                    <a:pt x="0" y="1495"/>
                  </a:lnTo>
                  <a:lnTo>
                    <a:pt x="0" y="1496"/>
                  </a:lnTo>
                  <a:lnTo>
                    <a:pt x="0" y="1496"/>
                  </a:lnTo>
                  <a:lnTo>
                    <a:pt x="0" y="1498"/>
                  </a:lnTo>
                  <a:lnTo>
                    <a:pt x="2" y="1500"/>
                  </a:lnTo>
                  <a:close/>
                </a:path>
              </a:pathLst>
            </a:custGeom>
            <a:solidFill>
              <a:srgbClr val="6bc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Freeform 380"/>
            <p:cNvSpPr/>
            <p:nvPr/>
          </p:nvSpPr>
          <p:spPr>
            <a:xfrm>
              <a:off x="5870520" y="1936080"/>
              <a:ext cx="895680" cy="2652120"/>
            </a:xfrm>
            <a:custGeom>
              <a:avLst/>
              <a:gdLst>
                <a:gd name="textAreaLeft" fmla="*/ 0 w 895680"/>
                <a:gd name="textAreaRight" fmla="*/ 896040 w 895680"/>
                <a:gd name="textAreaTop" fmla="*/ 0 h 2652120"/>
                <a:gd name="textAreaBottom" fmla="*/ 2652480 h 2652120"/>
              </a:gdLst>
              <a:ahLst/>
              <a:rect l="textAreaLeft" t="textAreaTop" r="textAreaRight" b="textAreaBottom"/>
              <a:pathLst>
                <a:path w="532" h="1575">
                  <a:moveTo>
                    <a:pt x="510" y="13"/>
                  </a:moveTo>
                  <a:lnTo>
                    <a:pt x="484" y="9"/>
                  </a:lnTo>
                  <a:lnTo>
                    <a:pt x="443" y="3"/>
                  </a:lnTo>
                  <a:lnTo>
                    <a:pt x="403" y="2"/>
                  </a:lnTo>
                  <a:lnTo>
                    <a:pt x="363" y="0"/>
                  </a:lnTo>
                  <a:lnTo>
                    <a:pt x="322" y="2"/>
                  </a:lnTo>
                  <a:lnTo>
                    <a:pt x="282" y="3"/>
                  </a:lnTo>
                  <a:lnTo>
                    <a:pt x="244" y="9"/>
                  </a:lnTo>
                  <a:lnTo>
                    <a:pt x="203" y="17"/>
                  </a:lnTo>
                  <a:lnTo>
                    <a:pt x="184" y="21"/>
                  </a:lnTo>
                  <a:lnTo>
                    <a:pt x="182" y="23"/>
                  </a:lnTo>
                  <a:lnTo>
                    <a:pt x="182" y="25"/>
                  </a:lnTo>
                  <a:lnTo>
                    <a:pt x="182" y="25"/>
                  </a:lnTo>
                  <a:lnTo>
                    <a:pt x="182" y="27"/>
                  </a:lnTo>
                  <a:lnTo>
                    <a:pt x="180" y="28"/>
                  </a:lnTo>
                  <a:lnTo>
                    <a:pt x="180" y="30"/>
                  </a:lnTo>
                  <a:lnTo>
                    <a:pt x="180" y="30"/>
                  </a:lnTo>
                  <a:lnTo>
                    <a:pt x="180" y="32"/>
                  </a:lnTo>
                  <a:lnTo>
                    <a:pt x="205" y="27"/>
                  </a:lnTo>
                  <a:lnTo>
                    <a:pt x="244" y="19"/>
                  </a:lnTo>
                  <a:lnTo>
                    <a:pt x="284" y="15"/>
                  </a:lnTo>
                  <a:lnTo>
                    <a:pt x="322" y="11"/>
                  </a:lnTo>
                  <a:lnTo>
                    <a:pt x="363" y="11"/>
                  </a:lnTo>
                  <a:lnTo>
                    <a:pt x="403" y="11"/>
                  </a:lnTo>
                  <a:lnTo>
                    <a:pt x="441" y="15"/>
                  </a:lnTo>
                  <a:lnTo>
                    <a:pt x="482" y="19"/>
                  </a:lnTo>
                  <a:lnTo>
                    <a:pt x="503" y="23"/>
                  </a:lnTo>
                  <a:lnTo>
                    <a:pt x="503" y="23"/>
                  </a:lnTo>
                  <a:lnTo>
                    <a:pt x="505" y="21"/>
                  </a:lnTo>
                  <a:lnTo>
                    <a:pt x="505" y="21"/>
                  </a:lnTo>
                  <a:lnTo>
                    <a:pt x="507" y="19"/>
                  </a:lnTo>
                  <a:lnTo>
                    <a:pt x="507" y="17"/>
                  </a:lnTo>
                  <a:lnTo>
                    <a:pt x="509" y="17"/>
                  </a:lnTo>
                  <a:lnTo>
                    <a:pt x="509" y="15"/>
                  </a:lnTo>
                  <a:lnTo>
                    <a:pt x="510" y="13"/>
                  </a:lnTo>
                  <a:close/>
                  <a:moveTo>
                    <a:pt x="2" y="1489"/>
                  </a:moveTo>
                  <a:lnTo>
                    <a:pt x="21" y="1498"/>
                  </a:lnTo>
                  <a:lnTo>
                    <a:pt x="56" y="1514"/>
                  </a:lnTo>
                  <a:lnTo>
                    <a:pt x="92" y="1527"/>
                  </a:lnTo>
                  <a:lnTo>
                    <a:pt x="129" y="1540"/>
                  </a:lnTo>
                  <a:lnTo>
                    <a:pt x="167" y="1550"/>
                  </a:lnTo>
                  <a:lnTo>
                    <a:pt x="203" y="1560"/>
                  </a:lnTo>
                  <a:lnTo>
                    <a:pt x="244" y="1567"/>
                  </a:lnTo>
                  <a:lnTo>
                    <a:pt x="282" y="1571"/>
                  </a:lnTo>
                  <a:lnTo>
                    <a:pt x="322" y="1575"/>
                  </a:lnTo>
                  <a:lnTo>
                    <a:pt x="363" y="1575"/>
                  </a:lnTo>
                  <a:lnTo>
                    <a:pt x="403" y="1575"/>
                  </a:lnTo>
                  <a:lnTo>
                    <a:pt x="443" y="1571"/>
                  </a:lnTo>
                  <a:lnTo>
                    <a:pt x="484" y="1567"/>
                  </a:lnTo>
                  <a:lnTo>
                    <a:pt x="522" y="1560"/>
                  </a:lnTo>
                  <a:lnTo>
                    <a:pt x="532" y="1558"/>
                  </a:lnTo>
                  <a:lnTo>
                    <a:pt x="532" y="1556"/>
                  </a:lnTo>
                  <a:lnTo>
                    <a:pt x="530" y="1556"/>
                  </a:lnTo>
                  <a:lnTo>
                    <a:pt x="530" y="1554"/>
                  </a:lnTo>
                  <a:lnTo>
                    <a:pt x="528" y="1552"/>
                  </a:lnTo>
                  <a:lnTo>
                    <a:pt x="528" y="1552"/>
                  </a:lnTo>
                  <a:lnTo>
                    <a:pt x="526" y="1550"/>
                  </a:lnTo>
                  <a:lnTo>
                    <a:pt x="526" y="1550"/>
                  </a:lnTo>
                  <a:lnTo>
                    <a:pt x="524" y="1548"/>
                  </a:lnTo>
                  <a:lnTo>
                    <a:pt x="520" y="1550"/>
                  </a:lnTo>
                  <a:lnTo>
                    <a:pt x="482" y="1556"/>
                  </a:lnTo>
                  <a:lnTo>
                    <a:pt x="441" y="1561"/>
                  </a:lnTo>
                  <a:lnTo>
                    <a:pt x="403" y="1563"/>
                  </a:lnTo>
                  <a:lnTo>
                    <a:pt x="363" y="1565"/>
                  </a:lnTo>
                  <a:lnTo>
                    <a:pt x="322" y="1563"/>
                  </a:lnTo>
                  <a:lnTo>
                    <a:pt x="284" y="1561"/>
                  </a:lnTo>
                  <a:lnTo>
                    <a:pt x="244" y="1556"/>
                  </a:lnTo>
                  <a:lnTo>
                    <a:pt x="205" y="1550"/>
                  </a:lnTo>
                  <a:lnTo>
                    <a:pt x="169" y="1540"/>
                  </a:lnTo>
                  <a:lnTo>
                    <a:pt x="132" y="1531"/>
                  </a:lnTo>
                  <a:lnTo>
                    <a:pt x="96" y="1517"/>
                  </a:lnTo>
                  <a:lnTo>
                    <a:pt x="59" y="1504"/>
                  </a:lnTo>
                  <a:lnTo>
                    <a:pt x="27" y="1489"/>
                  </a:lnTo>
                  <a:lnTo>
                    <a:pt x="0" y="1475"/>
                  </a:lnTo>
                  <a:lnTo>
                    <a:pt x="2" y="1477"/>
                  </a:lnTo>
                  <a:lnTo>
                    <a:pt x="2" y="1479"/>
                  </a:lnTo>
                  <a:lnTo>
                    <a:pt x="2" y="1481"/>
                  </a:lnTo>
                  <a:lnTo>
                    <a:pt x="2" y="1481"/>
                  </a:lnTo>
                  <a:lnTo>
                    <a:pt x="2" y="1483"/>
                  </a:lnTo>
                  <a:lnTo>
                    <a:pt x="2" y="1485"/>
                  </a:lnTo>
                  <a:lnTo>
                    <a:pt x="2" y="1487"/>
                  </a:lnTo>
                  <a:lnTo>
                    <a:pt x="2" y="1489"/>
                  </a:lnTo>
                  <a:close/>
                </a:path>
              </a:pathLst>
            </a:custGeom>
            <a:solidFill>
              <a:srgbClr val="6cc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Freeform 381"/>
            <p:cNvSpPr/>
            <p:nvPr/>
          </p:nvSpPr>
          <p:spPr>
            <a:xfrm>
              <a:off x="5870520" y="1944720"/>
              <a:ext cx="888840" cy="2637000"/>
            </a:xfrm>
            <a:custGeom>
              <a:avLst/>
              <a:gdLst>
                <a:gd name="textAreaLeft" fmla="*/ 0 w 888840"/>
                <a:gd name="textAreaRight" fmla="*/ 889200 w 888840"/>
                <a:gd name="textAreaTop" fmla="*/ 0 h 2637000"/>
                <a:gd name="textAreaBottom" fmla="*/ 2637360 h 2637000"/>
              </a:gdLst>
              <a:ahLst/>
              <a:rect l="textAreaLeft" t="textAreaTop" r="textAreaRight" b="textAreaBottom"/>
              <a:pathLst>
                <a:path w="528" h="1566">
                  <a:moveTo>
                    <a:pt x="507" y="14"/>
                  </a:moveTo>
                  <a:lnTo>
                    <a:pt x="482" y="10"/>
                  </a:lnTo>
                  <a:lnTo>
                    <a:pt x="443" y="4"/>
                  </a:lnTo>
                  <a:lnTo>
                    <a:pt x="403" y="2"/>
                  </a:lnTo>
                  <a:lnTo>
                    <a:pt x="363" y="0"/>
                  </a:lnTo>
                  <a:lnTo>
                    <a:pt x="322" y="2"/>
                  </a:lnTo>
                  <a:lnTo>
                    <a:pt x="282" y="4"/>
                  </a:lnTo>
                  <a:lnTo>
                    <a:pt x="244" y="10"/>
                  </a:lnTo>
                  <a:lnTo>
                    <a:pt x="205" y="16"/>
                  </a:lnTo>
                  <a:lnTo>
                    <a:pt x="182" y="22"/>
                  </a:lnTo>
                  <a:lnTo>
                    <a:pt x="180" y="23"/>
                  </a:lnTo>
                  <a:lnTo>
                    <a:pt x="180" y="25"/>
                  </a:lnTo>
                  <a:lnTo>
                    <a:pt x="180" y="25"/>
                  </a:lnTo>
                  <a:lnTo>
                    <a:pt x="180" y="27"/>
                  </a:lnTo>
                  <a:lnTo>
                    <a:pt x="178" y="29"/>
                  </a:lnTo>
                  <a:lnTo>
                    <a:pt x="178" y="31"/>
                  </a:lnTo>
                  <a:lnTo>
                    <a:pt x="178" y="33"/>
                  </a:lnTo>
                  <a:lnTo>
                    <a:pt x="177" y="33"/>
                  </a:lnTo>
                  <a:lnTo>
                    <a:pt x="207" y="27"/>
                  </a:lnTo>
                  <a:lnTo>
                    <a:pt x="246" y="20"/>
                  </a:lnTo>
                  <a:lnTo>
                    <a:pt x="284" y="16"/>
                  </a:lnTo>
                  <a:lnTo>
                    <a:pt x="322" y="12"/>
                  </a:lnTo>
                  <a:lnTo>
                    <a:pt x="363" y="12"/>
                  </a:lnTo>
                  <a:lnTo>
                    <a:pt x="403" y="12"/>
                  </a:lnTo>
                  <a:lnTo>
                    <a:pt x="441" y="16"/>
                  </a:lnTo>
                  <a:lnTo>
                    <a:pt x="480" y="20"/>
                  </a:lnTo>
                  <a:lnTo>
                    <a:pt x="499" y="23"/>
                  </a:lnTo>
                  <a:lnTo>
                    <a:pt x="501" y="22"/>
                  </a:lnTo>
                  <a:lnTo>
                    <a:pt x="501" y="22"/>
                  </a:lnTo>
                  <a:lnTo>
                    <a:pt x="503" y="20"/>
                  </a:lnTo>
                  <a:lnTo>
                    <a:pt x="503" y="18"/>
                  </a:lnTo>
                  <a:lnTo>
                    <a:pt x="503" y="18"/>
                  </a:lnTo>
                  <a:lnTo>
                    <a:pt x="505" y="16"/>
                  </a:lnTo>
                  <a:lnTo>
                    <a:pt x="505" y="16"/>
                  </a:lnTo>
                  <a:lnTo>
                    <a:pt x="507" y="14"/>
                  </a:lnTo>
                  <a:close/>
                  <a:moveTo>
                    <a:pt x="2" y="1476"/>
                  </a:moveTo>
                  <a:lnTo>
                    <a:pt x="23" y="1487"/>
                  </a:lnTo>
                  <a:lnTo>
                    <a:pt x="58" y="1503"/>
                  </a:lnTo>
                  <a:lnTo>
                    <a:pt x="94" y="1518"/>
                  </a:lnTo>
                  <a:lnTo>
                    <a:pt x="130" y="1530"/>
                  </a:lnTo>
                  <a:lnTo>
                    <a:pt x="167" y="1541"/>
                  </a:lnTo>
                  <a:lnTo>
                    <a:pt x="205" y="1549"/>
                  </a:lnTo>
                  <a:lnTo>
                    <a:pt x="244" y="1556"/>
                  </a:lnTo>
                  <a:lnTo>
                    <a:pt x="282" y="1560"/>
                  </a:lnTo>
                  <a:lnTo>
                    <a:pt x="322" y="1564"/>
                  </a:lnTo>
                  <a:lnTo>
                    <a:pt x="363" y="1566"/>
                  </a:lnTo>
                  <a:lnTo>
                    <a:pt x="403" y="1564"/>
                  </a:lnTo>
                  <a:lnTo>
                    <a:pt x="443" y="1560"/>
                  </a:lnTo>
                  <a:lnTo>
                    <a:pt x="482" y="1556"/>
                  </a:lnTo>
                  <a:lnTo>
                    <a:pt x="520" y="1549"/>
                  </a:lnTo>
                  <a:lnTo>
                    <a:pt x="528" y="1547"/>
                  </a:lnTo>
                  <a:lnTo>
                    <a:pt x="528" y="1547"/>
                  </a:lnTo>
                  <a:lnTo>
                    <a:pt x="526" y="1545"/>
                  </a:lnTo>
                  <a:lnTo>
                    <a:pt x="526" y="1545"/>
                  </a:lnTo>
                  <a:lnTo>
                    <a:pt x="524" y="1543"/>
                  </a:lnTo>
                  <a:lnTo>
                    <a:pt x="524" y="1541"/>
                  </a:lnTo>
                  <a:lnTo>
                    <a:pt x="522" y="1541"/>
                  </a:lnTo>
                  <a:lnTo>
                    <a:pt x="522" y="1539"/>
                  </a:lnTo>
                  <a:lnTo>
                    <a:pt x="522" y="1537"/>
                  </a:lnTo>
                  <a:lnTo>
                    <a:pt x="518" y="1539"/>
                  </a:lnTo>
                  <a:lnTo>
                    <a:pt x="480" y="1545"/>
                  </a:lnTo>
                  <a:lnTo>
                    <a:pt x="441" y="1551"/>
                  </a:lnTo>
                  <a:lnTo>
                    <a:pt x="403" y="1553"/>
                  </a:lnTo>
                  <a:lnTo>
                    <a:pt x="363" y="1555"/>
                  </a:lnTo>
                  <a:lnTo>
                    <a:pt x="322" y="1553"/>
                  </a:lnTo>
                  <a:lnTo>
                    <a:pt x="284" y="1551"/>
                  </a:lnTo>
                  <a:lnTo>
                    <a:pt x="246" y="1545"/>
                  </a:lnTo>
                  <a:lnTo>
                    <a:pt x="207" y="1539"/>
                  </a:lnTo>
                  <a:lnTo>
                    <a:pt x="171" y="1530"/>
                  </a:lnTo>
                  <a:lnTo>
                    <a:pt x="134" y="1520"/>
                  </a:lnTo>
                  <a:lnTo>
                    <a:pt x="98" y="1509"/>
                  </a:lnTo>
                  <a:lnTo>
                    <a:pt x="63" y="1493"/>
                  </a:lnTo>
                  <a:lnTo>
                    <a:pt x="29" y="1478"/>
                  </a:lnTo>
                  <a:lnTo>
                    <a:pt x="0" y="1464"/>
                  </a:lnTo>
                  <a:lnTo>
                    <a:pt x="0" y="1466"/>
                  </a:lnTo>
                  <a:lnTo>
                    <a:pt x="0" y="1466"/>
                  </a:lnTo>
                  <a:lnTo>
                    <a:pt x="0" y="1468"/>
                  </a:lnTo>
                  <a:lnTo>
                    <a:pt x="0" y="1470"/>
                  </a:lnTo>
                  <a:lnTo>
                    <a:pt x="2" y="1472"/>
                  </a:lnTo>
                  <a:lnTo>
                    <a:pt x="2" y="1474"/>
                  </a:lnTo>
                  <a:lnTo>
                    <a:pt x="2" y="1476"/>
                  </a:lnTo>
                  <a:lnTo>
                    <a:pt x="2" y="1476"/>
                  </a:lnTo>
                  <a:close/>
                </a:path>
              </a:pathLst>
            </a:custGeom>
            <a:solidFill>
              <a:srgbClr val="6dc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Freeform 382"/>
            <p:cNvSpPr/>
            <p:nvPr/>
          </p:nvSpPr>
          <p:spPr>
            <a:xfrm>
              <a:off x="5870520" y="1954800"/>
              <a:ext cx="882360" cy="2616840"/>
            </a:xfrm>
            <a:custGeom>
              <a:avLst/>
              <a:gdLst>
                <a:gd name="textAreaLeft" fmla="*/ 0 w 882360"/>
                <a:gd name="textAreaRight" fmla="*/ 882720 w 882360"/>
                <a:gd name="textAreaTop" fmla="*/ 0 h 2616840"/>
                <a:gd name="textAreaBottom" fmla="*/ 2616840 h 2616840"/>
              </a:gdLst>
              <a:ahLst/>
              <a:rect l="textAreaLeft" t="textAreaTop" r="textAreaRight" b="textAreaBottom"/>
              <a:pathLst>
                <a:path w="524" h="1554">
                  <a:moveTo>
                    <a:pt x="503" y="12"/>
                  </a:moveTo>
                  <a:lnTo>
                    <a:pt x="482" y="8"/>
                  </a:lnTo>
                  <a:lnTo>
                    <a:pt x="441" y="4"/>
                  </a:lnTo>
                  <a:lnTo>
                    <a:pt x="403" y="0"/>
                  </a:lnTo>
                  <a:lnTo>
                    <a:pt x="363" y="0"/>
                  </a:lnTo>
                  <a:lnTo>
                    <a:pt x="322" y="0"/>
                  </a:lnTo>
                  <a:lnTo>
                    <a:pt x="284" y="4"/>
                  </a:lnTo>
                  <a:lnTo>
                    <a:pt x="244" y="8"/>
                  </a:lnTo>
                  <a:lnTo>
                    <a:pt x="205" y="16"/>
                  </a:lnTo>
                  <a:lnTo>
                    <a:pt x="180" y="21"/>
                  </a:lnTo>
                  <a:lnTo>
                    <a:pt x="178" y="23"/>
                  </a:lnTo>
                  <a:lnTo>
                    <a:pt x="178" y="25"/>
                  </a:lnTo>
                  <a:lnTo>
                    <a:pt x="178" y="27"/>
                  </a:lnTo>
                  <a:lnTo>
                    <a:pt x="177" y="27"/>
                  </a:lnTo>
                  <a:lnTo>
                    <a:pt x="177" y="29"/>
                  </a:lnTo>
                  <a:lnTo>
                    <a:pt x="177" y="31"/>
                  </a:lnTo>
                  <a:lnTo>
                    <a:pt x="177" y="33"/>
                  </a:lnTo>
                  <a:lnTo>
                    <a:pt x="175" y="33"/>
                  </a:lnTo>
                  <a:lnTo>
                    <a:pt x="209" y="25"/>
                  </a:lnTo>
                  <a:lnTo>
                    <a:pt x="246" y="19"/>
                  </a:lnTo>
                  <a:lnTo>
                    <a:pt x="284" y="14"/>
                  </a:lnTo>
                  <a:lnTo>
                    <a:pt x="324" y="12"/>
                  </a:lnTo>
                  <a:lnTo>
                    <a:pt x="363" y="10"/>
                  </a:lnTo>
                  <a:lnTo>
                    <a:pt x="403" y="12"/>
                  </a:lnTo>
                  <a:lnTo>
                    <a:pt x="441" y="14"/>
                  </a:lnTo>
                  <a:lnTo>
                    <a:pt x="480" y="19"/>
                  </a:lnTo>
                  <a:lnTo>
                    <a:pt x="497" y="21"/>
                  </a:lnTo>
                  <a:lnTo>
                    <a:pt x="497" y="21"/>
                  </a:lnTo>
                  <a:lnTo>
                    <a:pt x="497" y="19"/>
                  </a:lnTo>
                  <a:lnTo>
                    <a:pt x="499" y="19"/>
                  </a:lnTo>
                  <a:lnTo>
                    <a:pt x="499" y="17"/>
                  </a:lnTo>
                  <a:lnTo>
                    <a:pt x="501" y="16"/>
                  </a:lnTo>
                  <a:lnTo>
                    <a:pt x="501" y="16"/>
                  </a:lnTo>
                  <a:lnTo>
                    <a:pt x="503" y="14"/>
                  </a:lnTo>
                  <a:lnTo>
                    <a:pt x="503" y="12"/>
                  </a:lnTo>
                  <a:close/>
                  <a:moveTo>
                    <a:pt x="0" y="1464"/>
                  </a:moveTo>
                  <a:lnTo>
                    <a:pt x="27" y="1478"/>
                  </a:lnTo>
                  <a:lnTo>
                    <a:pt x="59" y="1493"/>
                  </a:lnTo>
                  <a:lnTo>
                    <a:pt x="96" y="1506"/>
                  </a:lnTo>
                  <a:lnTo>
                    <a:pt x="132" y="1520"/>
                  </a:lnTo>
                  <a:lnTo>
                    <a:pt x="169" y="1529"/>
                  </a:lnTo>
                  <a:lnTo>
                    <a:pt x="205" y="1539"/>
                  </a:lnTo>
                  <a:lnTo>
                    <a:pt x="244" y="1545"/>
                  </a:lnTo>
                  <a:lnTo>
                    <a:pt x="284" y="1550"/>
                  </a:lnTo>
                  <a:lnTo>
                    <a:pt x="322" y="1552"/>
                  </a:lnTo>
                  <a:lnTo>
                    <a:pt x="363" y="1554"/>
                  </a:lnTo>
                  <a:lnTo>
                    <a:pt x="403" y="1552"/>
                  </a:lnTo>
                  <a:lnTo>
                    <a:pt x="441" y="1550"/>
                  </a:lnTo>
                  <a:lnTo>
                    <a:pt x="482" y="1545"/>
                  </a:lnTo>
                  <a:lnTo>
                    <a:pt x="520" y="1539"/>
                  </a:lnTo>
                  <a:lnTo>
                    <a:pt x="524" y="1537"/>
                  </a:lnTo>
                  <a:lnTo>
                    <a:pt x="524" y="1535"/>
                  </a:lnTo>
                  <a:lnTo>
                    <a:pt x="522" y="1535"/>
                  </a:lnTo>
                  <a:lnTo>
                    <a:pt x="522" y="1533"/>
                  </a:lnTo>
                  <a:lnTo>
                    <a:pt x="522" y="1531"/>
                  </a:lnTo>
                  <a:lnTo>
                    <a:pt x="520" y="1531"/>
                  </a:lnTo>
                  <a:lnTo>
                    <a:pt x="520" y="1529"/>
                  </a:lnTo>
                  <a:lnTo>
                    <a:pt x="518" y="1529"/>
                  </a:lnTo>
                  <a:lnTo>
                    <a:pt x="518" y="1527"/>
                  </a:lnTo>
                  <a:lnTo>
                    <a:pt x="518" y="1527"/>
                  </a:lnTo>
                  <a:lnTo>
                    <a:pt x="480" y="1535"/>
                  </a:lnTo>
                  <a:lnTo>
                    <a:pt x="441" y="1539"/>
                  </a:lnTo>
                  <a:lnTo>
                    <a:pt x="403" y="1543"/>
                  </a:lnTo>
                  <a:lnTo>
                    <a:pt x="363" y="1543"/>
                  </a:lnTo>
                  <a:lnTo>
                    <a:pt x="324" y="1543"/>
                  </a:lnTo>
                  <a:lnTo>
                    <a:pt x="284" y="1539"/>
                  </a:lnTo>
                  <a:lnTo>
                    <a:pt x="246" y="1535"/>
                  </a:lnTo>
                  <a:lnTo>
                    <a:pt x="209" y="1527"/>
                  </a:lnTo>
                  <a:lnTo>
                    <a:pt x="171" y="1520"/>
                  </a:lnTo>
                  <a:lnTo>
                    <a:pt x="134" y="1508"/>
                  </a:lnTo>
                  <a:lnTo>
                    <a:pt x="100" y="1497"/>
                  </a:lnTo>
                  <a:lnTo>
                    <a:pt x="65" y="1483"/>
                  </a:lnTo>
                  <a:lnTo>
                    <a:pt x="31" y="1468"/>
                  </a:lnTo>
                  <a:lnTo>
                    <a:pt x="0" y="1453"/>
                  </a:lnTo>
                  <a:lnTo>
                    <a:pt x="0" y="1453"/>
                  </a:lnTo>
                  <a:lnTo>
                    <a:pt x="0" y="1455"/>
                  </a:lnTo>
                  <a:lnTo>
                    <a:pt x="0" y="1456"/>
                  </a:lnTo>
                  <a:lnTo>
                    <a:pt x="0" y="1458"/>
                  </a:lnTo>
                  <a:lnTo>
                    <a:pt x="0" y="1460"/>
                  </a:lnTo>
                  <a:lnTo>
                    <a:pt x="0" y="1460"/>
                  </a:lnTo>
                  <a:lnTo>
                    <a:pt x="0" y="1462"/>
                  </a:lnTo>
                  <a:lnTo>
                    <a:pt x="0" y="1464"/>
                  </a:lnTo>
                  <a:close/>
                </a:path>
              </a:pathLst>
            </a:custGeom>
            <a:solidFill>
              <a:srgbClr val="6ec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Freeform 383"/>
            <p:cNvSpPr/>
            <p:nvPr/>
          </p:nvSpPr>
          <p:spPr>
            <a:xfrm>
              <a:off x="5867280" y="1964880"/>
              <a:ext cx="882360" cy="2598120"/>
            </a:xfrm>
            <a:custGeom>
              <a:avLst/>
              <a:gdLst>
                <a:gd name="textAreaLeft" fmla="*/ 0 w 882360"/>
                <a:gd name="textAreaRight" fmla="*/ 882720 w 882360"/>
                <a:gd name="textAreaTop" fmla="*/ 0 h 2598120"/>
                <a:gd name="textAreaBottom" fmla="*/ 2598480 h 2598120"/>
              </a:gdLst>
              <a:ahLst/>
              <a:rect l="textAreaLeft" t="textAreaTop" r="textAreaRight" b="textAreaBottom"/>
              <a:pathLst>
                <a:path w="524" h="1543">
                  <a:moveTo>
                    <a:pt x="501" y="11"/>
                  </a:moveTo>
                  <a:lnTo>
                    <a:pt x="482" y="8"/>
                  </a:lnTo>
                  <a:lnTo>
                    <a:pt x="443" y="4"/>
                  </a:lnTo>
                  <a:lnTo>
                    <a:pt x="405" y="0"/>
                  </a:lnTo>
                  <a:lnTo>
                    <a:pt x="365" y="0"/>
                  </a:lnTo>
                  <a:lnTo>
                    <a:pt x="324" y="0"/>
                  </a:lnTo>
                  <a:lnTo>
                    <a:pt x="286" y="4"/>
                  </a:lnTo>
                  <a:lnTo>
                    <a:pt x="248" y="8"/>
                  </a:lnTo>
                  <a:lnTo>
                    <a:pt x="209" y="15"/>
                  </a:lnTo>
                  <a:lnTo>
                    <a:pt x="179" y="21"/>
                  </a:lnTo>
                  <a:lnTo>
                    <a:pt x="179" y="23"/>
                  </a:lnTo>
                  <a:lnTo>
                    <a:pt x="179" y="25"/>
                  </a:lnTo>
                  <a:lnTo>
                    <a:pt x="179" y="27"/>
                  </a:lnTo>
                  <a:lnTo>
                    <a:pt x="177" y="27"/>
                  </a:lnTo>
                  <a:lnTo>
                    <a:pt x="177" y="29"/>
                  </a:lnTo>
                  <a:lnTo>
                    <a:pt x="177" y="31"/>
                  </a:lnTo>
                  <a:lnTo>
                    <a:pt x="175" y="33"/>
                  </a:lnTo>
                  <a:lnTo>
                    <a:pt x="175" y="34"/>
                  </a:lnTo>
                  <a:lnTo>
                    <a:pt x="211" y="25"/>
                  </a:lnTo>
                  <a:lnTo>
                    <a:pt x="250" y="19"/>
                  </a:lnTo>
                  <a:lnTo>
                    <a:pt x="288" y="13"/>
                  </a:lnTo>
                  <a:lnTo>
                    <a:pt x="326" y="11"/>
                  </a:lnTo>
                  <a:lnTo>
                    <a:pt x="365" y="10"/>
                  </a:lnTo>
                  <a:lnTo>
                    <a:pt x="403" y="11"/>
                  </a:lnTo>
                  <a:lnTo>
                    <a:pt x="443" y="13"/>
                  </a:lnTo>
                  <a:lnTo>
                    <a:pt x="480" y="19"/>
                  </a:lnTo>
                  <a:lnTo>
                    <a:pt x="495" y="21"/>
                  </a:lnTo>
                  <a:lnTo>
                    <a:pt x="495" y="19"/>
                  </a:lnTo>
                  <a:lnTo>
                    <a:pt x="497" y="19"/>
                  </a:lnTo>
                  <a:lnTo>
                    <a:pt x="497" y="17"/>
                  </a:lnTo>
                  <a:lnTo>
                    <a:pt x="499" y="15"/>
                  </a:lnTo>
                  <a:lnTo>
                    <a:pt x="499" y="15"/>
                  </a:lnTo>
                  <a:lnTo>
                    <a:pt x="499" y="13"/>
                  </a:lnTo>
                  <a:lnTo>
                    <a:pt x="501" y="13"/>
                  </a:lnTo>
                  <a:lnTo>
                    <a:pt x="501" y="11"/>
                  </a:lnTo>
                  <a:close/>
                  <a:moveTo>
                    <a:pt x="2" y="1452"/>
                  </a:moveTo>
                  <a:lnTo>
                    <a:pt x="31" y="1466"/>
                  </a:lnTo>
                  <a:lnTo>
                    <a:pt x="65" y="1481"/>
                  </a:lnTo>
                  <a:lnTo>
                    <a:pt x="100" y="1497"/>
                  </a:lnTo>
                  <a:lnTo>
                    <a:pt x="136" y="1508"/>
                  </a:lnTo>
                  <a:lnTo>
                    <a:pt x="173" y="1518"/>
                  </a:lnTo>
                  <a:lnTo>
                    <a:pt x="209" y="1527"/>
                  </a:lnTo>
                  <a:lnTo>
                    <a:pt x="248" y="1533"/>
                  </a:lnTo>
                  <a:lnTo>
                    <a:pt x="286" y="1539"/>
                  </a:lnTo>
                  <a:lnTo>
                    <a:pt x="324" y="1541"/>
                  </a:lnTo>
                  <a:lnTo>
                    <a:pt x="365" y="1543"/>
                  </a:lnTo>
                  <a:lnTo>
                    <a:pt x="405" y="1541"/>
                  </a:lnTo>
                  <a:lnTo>
                    <a:pt x="443" y="1539"/>
                  </a:lnTo>
                  <a:lnTo>
                    <a:pt x="482" y="1533"/>
                  </a:lnTo>
                  <a:lnTo>
                    <a:pt x="520" y="1527"/>
                  </a:lnTo>
                  <a:lnTo>
                    <a:pt x="524" y="1525"/>
                  </a:lnTo>
                  <a:lnTo>
                    <a:pt x="522" y="1525"/>
                  </a:lnTo>
                  <a:lnTo>
                    <a:pt x="522" y="1523"/>
                  </a:lnTo>
                  <a:lnTo>
                    <a:pt x="520" y="1523"/>
                  </a:lnTo>
                  <a:lnTo>
                    <a:pt x="520" y="1521"/>
                  </a:lnTo>
                  <a:lnTo>
                    <a:pt x="518" y="1520"/>
                  </a:lnTo>
                  <a:lnTo>
                    <a:pt x="518" y="1520"/>
                  </a:lnTo>
                  <a:lnTo>
                    <a:pt x="516" y="1518"/>
                  </a:lnTo>
                  <a:lnTo>
                    <a:pt x="516" y="1518"/>
                  </a:lnTo>
                  <a:lnTo>
                    <a:pt x="480" y="1523"/>
                  </a:lnTo>
                  <a:lnTo>
                    <a:pt x="443" y="1527"/>
                  </a:lnTo>
                  <a:lnTo>
                    <a:pt x="403" y="1531"/>
                  </a:lnTo>
                  <a:lnTo>
                    <a:pt x="365" y="1531"/>
                  </a:lnTo>
                  <a:lnTo>
                    <a:pt x="326" y="1531"/>
                  </a:lnTo>
                  <a:lnTo>
                    <a:pt x="288" y="1527"/>
                  </a:lnTo>
                  <a:lnTo>
                    <a:pt x="250" y="1523"/>
                  </a:lnTo>
                  <a:lnTo>
                    <a:pt x="211" y="1516"/>
                  </a:lnTo>
                  <a:lnTo>
                    <a:pt x="175" y="1508"/>
                  </a:lnTo>
                  <a:lnTo>
                    <a:pt x="138" y="1498"/>
                  </a:lnTo>
                  <a:lnTo>
                    <a:pt x="104" y="1485"/>
                  </a:lnTo>
                  <a:lnTo>
                    <a:pt x="69" y="1472"/>
                  </a:lnTo>
                  <a:lnTo>
                    <a:pt x="35" y="1456"/>
                  </a:lnTo>
                  <a:lnTo>
                    <a:pt x="2" y="1441"/>
                  </a:lnTo>
                  <a:lnTo>
                    <a:pt x="0" y="1439"/>
                  </a:lnTo>
                  <a:lnTo>
                    <a:pt x="0" y="1441"/>
                  </a:lnTo>
                  <a:lnTo>
                    <a:pt x="2" y="1443"/>
                  </a:lnTo>
                  <a:lnTo>
                    <a:pt x="2" y="1445"/>
                  </a:lnTo>
                  <a:lnTo>
                    <a:pt x="2" y="1445"/>
                  </a:lnTo>
                  <a:lnTo>
                    <a:pt x="2" y="1447"/>
                  </a:lnTo>
                  <a:lnTo>
                    <a:pt x="2" y="1449"/>
                  </a:lnTo>
                  <a:lnTo>
                    <a:pt x="2" y="1450"/>
                  </a:lnTo>
                  <a:lnTo>
                    <a:pt x="2" y="1452"/>
                  </a:lnTo>
                  <a:close/>
                </a:path>
              </a:pathLst>
            </a:custGeom>
            <a:solidFill>
              <a:srgbClr val="6fc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Freeform 384"/>
            <p:cNvSpPr/>
            <p:nvPr/>
          </p:nvSpPr>
          <p:spPr>
            <a:xfrm>
              <a:off x="5867280" y="1971720"/>
              <a:ext cx="875520" cy="2581200"/>
            </a:xfrm>
            <a:custGeom>
              <a:avLst/>
              <a:gdLst>
                <a:gd name="textAreaLeft" fmla="*/ 0 w 875520"/>
                <a:gd name="textAreaRight" fmla="*/ 875880 w 875520"/>
                <a:gd name="textAreaTop" fmla="*/ 0 h 2581200"/>
                <a:gd name="textAreaBottom" fmla="*/ 2581200 h 2581200"/>
              </a:gdLst>
              <a:ahLst/>
              <a:rect l="textAreaLeft" t="textAreaTop" r="textAreaRight" b="textAreaBottom"/>
              <a:pathLst>
                <a:path w="520" h="1533">
                  <a:moveTo>
                    <a:pt x="499" y="11"/>
                  </a:moveTo>
                  <a:lnTo>
                    <a:pt x="482" y="9"/>
                  </a:lnTo>
                  <a:lnTo>
                    <a:pt x="443" y="4"/>
                  </a:lnTo>
                  <a:lnTo>
                    <a:pt x="405" y="2"/>
                  </a:lnTo>
                  <a:lnTo>
                    <a:pt x="365" y="0"/>
                  </a:lnTo>
                  <a:lnTo>
                    <a:pt x="326" y="2"/>
                  </a:lnTo>
                  <a:lnTo>
                    <a:pt x="286" y="4"/>
                  </a:lnTo>
                  <a:lnTo>
                    <a:pt x="248" y="9"/>
                  </a:lnTo>
                  <a:lnTo>
                    <a:pt x="211" y="15"/>
                  </a:lnTo>
                  <a:lnTo>
                    <a:pt x="177" y="23"/>
                  </a:lnTo>
                  <a:lnTo>
                    <a:pt x="177" y="25"/>
                  </a:lnTo>
                  <a:lnTo>
                    <a:pt x="177" y="27"/>
                  </a:lnTo>
                  <a:lnTo>
                    <a:pt x="175" y="29"/>
                  </a:lnTo>
                  <a:lnTo>
                    <a:pt x="175" y="30"/>
                  </a:lnTo>
                  <a:lnTo>
                    <a:pt x="175" y="30"/>
                  </a:lnTo>
                  <a:lnTo>
                    <a:pt x="175" y="32"/>
                  </a:lnTo>
                  <a:lnTo>
                    <a:pt x="173" y="34"/>
                  </a:lnTo>
                  <a:lnTo>
                    <a:pt x="173" y="36"/>
                  </a:lnTo>
                  <a:lnTo>
                    <a:pt x="177" y="34"/>
                  </a:lnTo>
                  <a:lnTo>
                    <a:pt x="213" y="27"/>
                  </a:lnTo>
                  <a:lnTo>
                    <a:pt x="250" y="19"/>
                  </a:lnTo>
                  <a:lnTo>
                    <a:pt x="288" y="15"/>
                  </a:lnTo>
                  <a:lnTo>
                    <a:pt x="326" y="11"/>
                  </a:lnTo>
                  <a:lnTo>
                    <a:pt x="365" y="11"/>
                  </a:lnTo>
                  <a:lnTo>
                    <a:pt x="403" y="11"/>
                  </a:lnTo>
                  <a:lnTo>
                    <a:pt x="441" y="15"/>
                  </a:lnTo>
                  <a:lnTo>
                    <a:pt x="480" y="19"/>
                  </a:lnTo>
                  <a:lnTo>
                    <a:pt x="491" y="21"/>
                  </a:lnTo>
                  <a:lnTo>
                    <a:pt x="491" y="21"/>
                  </a:lnTo>
                  <a:lnTo>
                    <a:pt x="493" y="19"/>
                  </a:lnTo>
                  <a:lnTo>
                    <a:pt x="493" y="19"/>
                  </a:lnTo>
                  <a:lnTo>
                    <a:pt x="495" y="17"/>
                  </a:lnTo>
                  <a:lnTo>
                    <a:pt x="495" y="15"/>
                  </a:lnTo>
                  <a:lnTo>
                    <a:pt x="497" y="15"/>
                  </a:lnTo>
                  <a:lnTo>
                    <a:pt x="497" y="13"/>
                  </a:lnTo>
                  <a:lnTo>
                    <a:pt x="499" y="11"/>
                  </a:lnTo>
                  <a:close/>
                  <a:moveTo>
                    <a:pt x="2" y="1443"/>
                  </a:moveTo>
                  <a:lnTo>
                    <a:pt x="33" y="1458"/>
                  </a:lnTo>
                  <a:lnTo>
                    <a:pt x="67" y="1473"/>
                  </a:lnTo>
                  <a:lnTo>
                    <a:pt x="102" y="1487"/>
                  </a:lnTo>
                  <a:lnTo>
                    <a:pt x="136" y="1498"/>
                  </a:lnTo>
                  <a:lnTo>
                    <a:pt x="173" y="1510"/>
                  </a:lnTo>
                  <a:lnTo>
                    <a:pt x="211" y="1517"/>
                  </a:lnTo>
                  <a:lnTo>
                    <a:pt x="248" y="1525"/>
                  </a:lnTo>
                  <a:lnTo>
                    <a:pt x="286" y="1529"/>
                  </a:lnTo>
                  <a:lnTo>
                    <a:pt x="326" y="1533"/>
                  </a:lnTo>
                  <a:lnTo>
                    <a:pt x="365" y="1533"/>
                  </a:lnTo>
                  <a:lnTo>
                    <a:pt x="405" y="1533"/>
                  </a:lnTo>
                  <a:lnTo>
                    <a:pt x="443" y="1529"/>
                  </a:lnTo>
                  <a:lnTo>
                    <a:pt x="482" y="1525"/>
                  </a:lnTo>
                  <a:lnTo>
                    <a:pt x="520" y="1517"/>
                  </a:lnTo>
                  <a:lnTo>
                    <a:pt x="520" y="1517"/>
                  </a:lnTo>
                  <a:lnTo>
                    <a:pt x="518" y="1516"/>
                  </a:lnTo>
                  <a:lnTo>
                    <a:pt x="518" y="1516"/>
                  </a:lnTo>
                  <a:lnTo>
                    <a:pt x="516" y="1514"/>
                  </a:lnTo>
                  <a:lnTo>
                    <a:pt x="516" y="1514"/>
                  </a:lnTo>
                  <a:lnTo>
                    <a:pt x="516" y="1512"/>
                  </a:lnTo>
                  <a:lnTo>
                    <a:pt x="514" y="1510"/>
                  </a:lnTo>
                  <a:lnTo>
                    <a:pt x="514" y="1510"/>
                  </a:lnTo>
                  <a:lnTo>
                    <a:pt x="512" y="1508"/>
                  </a:lnTo>
                  <a:lnTo>
                    <a:pt x="480" y="1514"/>
                  </a:lnTo>
                  <a:lnTo>
                    <a:pt x="441" y="1519"/>
                  </a:lnTo>
                  <a:lnTo>
                    <a:pt x="403" y="1521"/>
                  </a:lnTo>
                  <a:lnTo>
                    <a:pt x="365" y="1523"/>
                  </a:lnTo>
                  <a:lnTo>
                    <a:pt x="326" y="1521"/>
                  </a:lnTo>
                  <a:lnTo>
                    <a:pt x="288" y="1519"/>
                  </a:lnTo>
                  <a:lnTo>
                    <a:pt x="250" y="1514"/>
                  </a:lnTo>
                  <a:lnTo>
                    <a:pt x="213" y="1508"/>
                  </a:lnTo>
                  <a:lnTo>
                    <a:pt x="177" y="1498"/>
                  </a:lnTo>
                  <a:lnTo>
                    <a:pt x="140" y="1489"/>
                  </a:lnTo>
                  <a:lnTo>
                    <a:pt x="106" y="1477"/>
                  </a:lnTo>
                  <a:lnTo>
                    <a:pt x="71" y="1464"/>
                  </a:lnTo>
                  <a:lnTo>
                    <a:pt x="36" y="1448"/>
                  </a:lnTo>
                  <a:lnTo>
                    <a:pt x="4" y="1431"/>
                  </a:lnTo>
                  <a:lnTo>
                    <a:pt x="0" y="1429"/>
                  </a:lnTo>
                  <a:lnTo>
                    <a:pt x="0" y="1431"/>
                  </a:lnTo>
                  <a:lnTo>
                    <a:pt x="0" y="1431"/>
                  </a:lnTo>
                  <a:lnTo>
                    <a:pt x="0" y="1433"/>
                  </a:lnTo>
                  <a:lnTo>
                    <a:pt x="0" y="1435"/>
                  </a:lnTo>
                  <a:lnTo>
                    <a:pt x="0" y="1437"/>
                  </a:lnTo>
                  <a:lnTo>
                    <a:pt x="2" y="1439"/>
                  </a:lnTo>
                  <a:lnTo>
                    <a:pt x="2" y="1441"/>
                  </a:lnTo>
                  <a:lnTo>
                    <a:pt x="2" y="1443"/>
                  </a:lnTo>
                  <a:close/>
                </a:path>
              </a:pathLst>
            </a:custGeom>
            <a:solidFill>
              <a:srgbClr val="70c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Freeform 385"/>
            <p:cNvSpPr/>
            <p:nvPr/>
          </p:nvSpPr>
          <p:spPr>
            <a:xfrm>
              <a:off x="5867280" y="1981800"/>
              <a:ext cx="869040" cy="2561400"/>
            </a:xfrm>
            <a:custGeom>
              <a:avLst/>
              <a:gdLst>
                <a:gd name="textAreaLeft" fmla="*/ 0 w 869040"/>
                <a:gd name="textAreaRight" fmla="*/ 869400 w 869040"/>
                <a:gd name="textAreaTop" fmla="*/ 0 h 2561400"/>
                <a:gd name="textAreaBottom" fmla="*/ 2561760 h 2561400"/>
              </a:gdLst>
              <a:ahLst/>
              <a:rect l="textAreaLeft" t="textAreaTop" r="textAreaRight" b="textAreaBottom"/>
              <a:pathLst>
                <a:path w="516" h="1521">
                  <a:moveTo>
                    <a:pt x="495" y="11"/>
                  </a:moveTo>
                  <a:lnTo>
                    <a:pt x="480" y="9"/>
                  </a:lnTo>
                  <a:lnTo>
                    <a:pt x="443" y="3"/>
                  </a:lnTo>
                  <a:lnTo>
                    <a:pt x="403" y="1"/>
                  </a:lnTo>
                  <a:lnTo>
                    <a:pt x="365" y="0"/>
                  </a:lnTo>
                  <a:lnTo>
                    <a:pt x="326" y="1"/>
                  </a:lnTo>
                  <a:lnTo>
                    <a:pt x="288" y="3"/>
                  </a:lnTo>
                  <a:lnTo>
                    <a:pt x="250" y="9"/>
                  </a:lnTo>
                  <a:lnTo>
                    <a:pt x="211" y="15"/>
                  </a:lnTo>
                  <a:lnTo>
                    <a:pt x="175" y="24"/>
                  </a:lnTo>
                  <a:lnTo>
                    <a:pt x="175" y="24"/>
                  </a:lnTo>
                  <a:lnTo>
                    <a:pt x="175" y="26"/>
                  </a:lnTo>
                  <a:lnTo>
                    <a:pt x="173" y="28"/>
                  </a:lnTo>
                  <a:lnTo>
                    <a:pt x="173" y="30"/>
                  </a:lnTo>
                  <a:lnTo>
                    <a:pt x="173" y="32"/>
                  </a:lnTo>
                  <a:lnTo>
                    <a:pt x="171" y="32"/>
                  </a:lnTo>
                  <a:lnTo>
                    <a:pt x="171" y="34"/>
                  </a:lnTo>
                  <a:lnTo>
                    <a:pt x="171" y="36"/>
                  </a:lnTo>
                  <a:lnTo>
                    <a:pt x="177" y="34"/>
                  </a:lnTo>
                  <a:lnTo>
                    <a:pt x="213" y="26"/>
                  </a:lnTo>
                  <a:lnTo>
                    <a:pt x="251" y="19"/>
                  </a:lnTo>
                  <a:lnTo>
                    <a:pt x="288" y="15"/>
                  </a:lnTo>
                  <a:lnTo>
                    <a:pt x="326" y="11"/>
                  </a:lnTo>
                  <a:lnTo>
                    <a:pt x="365" y="11"/>
                  </a:lnTo>
                  <a:lnTo>
                    <a:pt x="403" y="11"/>
                  </a:lnTo>
                  <a:lnTo>
                    <a:pt x="441" y="15"/>
                  </a:lnTo>
                  <a:lnTo>
                    <a:pt x="480" y="19"/>
                  </a:lnTo>
                  <a:lnTo>
                    <a:pt x="488" y="21"/>
                  </a:lnTo>
                  <a:lnTo>
                    <a:pt x="489" y="19"/>
                  </a:lnTo>
                  <a:lnTo>
                    <a:pt x="489" y="19"/>
                  </a:lnTo>
                  <a:lnTo>
                    <a:pt x="491" y="17"/>
                  </a:lnTo>
                  <a:lnTo>
                    <a:pt x="491" y="15"/>
                  </a:lnTo>
                  <a:lnTo>
                    <a:pt x="491" y="15"/>
                  </a:lnTo>
                  <a:lnTo>
                    <a:pt x="493" y="13"/>
                  </a:lnTo>
                  <a:lnTo>
                    <a:pt x="493" y="13"/>
                  </a:lnTo>
                  <a:lnTo>
                    <a:pt x="495" y="11"/>
                  </a:lnTo>
                  <a:close/>
                  <a:moveTo>
                    <a:pt x="0" y="1429"/>
                  </a:moveTo>
                  <a:lnTo>
                    <a:pt x="2" y="1431"/>
                  </a:lnTo>
                  <a:lnTo>
                    <a:pt x="35" y="1446"/>
                  </a:lnTo>
                  <a:lnTo>
                    <a:pt x="69" y="1462"/>
                  </a:lnTo>
                  <a:lnTo>
                    <a:pt x="104" y="1475"/>
                  </a:lnTo>
                  <a:lnTo>
                    <a:pt x="138" y="1488"/>
                  </a:lnTo>
                  <a:lnTo>
                    <a:pt x="175" y="1498"/>
                  </a:lnTo>
                  <a:lnTo>
                    <a:pt x="211" y="1506"/>
                  </a:lnTo>
                  <a:lnTo>
                    <a:pt x="250" y="1513"/>
                  </a:lnTo>
                  <a:lnTo>
                    <a:pt x="288" y="1517"/>
                  </a:lnTo>
                  <a:lnTo>
                    <a:pt x="326" y="1521"/>
                  </a:lnTo>
                  <a:lnTo>
                    <a:pt x="365" y="1521"/>
                  </a:lnTo>
                  <a:lnTo>
                    <a:pt x="403" y="1521"/>
                  </a:lnTo>
                  <a:lnTo>
                    <a:pt x="443" y="1517"/>
                  </a:lnTo>
                  <a:lnTo>
                    <a:pt x="480" y="1513"/>
                  </a:lnTo>
                  <a:lnTo>
                    <a:pt x="516" y="1508"/>
                  </a:lnTo>
                  <a:lnTo>
                    <a:pt x="516" y="1506"/>
                  </a:lnTo>
                  <a:lnTo>
                    <a:pt x="514" y="1504"/>
                  </a:lnTo>
                  <a:lnTo>
                    <a:pt x="514" y="1504"/>
                  </a:lnTo>
                  <a:lnTo>
                    <a:pt x="512" y="1502"/>
                  </a:lnTo>
                  <a:lnTo>
                    <a:pt x="512" y="1500"/>
                  </a:lnTo>
                  <a:lnTo>
                    <a:pt x="511" y="1500"/>
                  </a:lnTo>
                  <a:lnTo>
                    <a:pt x="511" y="1498"/>
                  </a:lnTo>
                  <a:lnTo>
                    <a:pt x="509" y="1498"/>
                  </a:lnTo>
                  <a:lnTo>
                    <a:pt x="480" y="1502"/>
                  </a:lnTo>
                  <a:lnTo>
                    <a:pt x="441" y="1508"/>
                  </a:lnTo>
                  <a:lnTo>
                    <a:pt x="403" y="1510"/>
                  </a:lnTo>
                  <a:lnTo>
                    <a:pt x="365" y="1511"/>
                  </a:lnTo>
                  <a:lnTo>
                    <a:pt x="326" y="1510"/>
                  </a:lnTo>
                  <a:lnTo>
                    <a:pt x="288" y="1508"/>
                  </a:lnTo>
                  <a:lnTo>
                    <a:pt x="251" y="1502"/>
                  </a:lnTo>
                  <a:lnTo>
                    <a:pt x="213" y="1496"/>
                  </a:lnTo>
                  <a:lnTo>
                    <a:pt x="177" y="1488"/>
                  </a:lnTo>
                  <a:lnTo>
                    <a:pt x="142" y="1477"/>
                  </a:lnTo>
                  <a:lnTo>
                    <a:pt x="108" y="1465"/>
                  </a:lnTo>
                  <a:lnTo>
                    <a:pt x="73" y="1452"/>
                  </a:lnTo>
                  <a:lnTo>
                    <a:pt x="40" y="1437"/>
                  </a:lnTo>
                  <a:lnTo>
                    <a:pt x="8" y="1421"/>
                  </a:lnTo>
                  <a:lnTo>
                    <a:pt x="0" y="1416"/>
                  </a:lnTo>
                  <a:lnTo>
                    <a:pt x="0" y="1417"/>
                  </a:lnTo>
                  <a:lnTo>
                    <a:pt x="0" y="1419"/>
                  </a:lnTo>
                  <a:lnTo>
                    <a:pt x="0" y="1421"/>
                  </a:lnTo>
                  <a:lnTo>
                    <a:pt x="0" y="1423"/>
                  </a:lnTo>
                  <a:lnTo>
                    <a:pt x="0" y="1425"/>
                  </a:lnTo>
                  <a:lnTo>
                    <a:pt x="0" y="1425"/>
                  </a:lnTo>
                  <a:lnTo>
                    <a:pt x="0" y="1427"/>
                  </a:lnTo>
                  <a:lnTo>
                    <a:pt x="0" y="1429"/>
                  </a:lnTo>
                  <a:close/>
                </a:path>
              </a:pathLst>
            </a:custGeom>
            <a:solidFill>
              <a:srgbClr val="71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Freeform 386"/>
            <p:cNvSpPr/>
            <p:nvPr/>
          </p:nvSpPr>
          <p:spPr>
            <a:xfrm>
              <a:off x="5863680" y="1990080"/>
              <a:ext cx="865440" cy="2545920"/>
            </a:xfrm>
            <a:custGeom>
              <a:avLst/>
              <a:gdLst>
                <a:gd name="textAreaLeft" fmla="*/ 0 w 865440"/>
                <a:gd name="textAreaRight" fmla="*/ 865800 w 865440"/>
                <a:gd name="textAreaTop" fmla="*/ 0 h 2545920"/>
                <a:gd name="textAreaBottom" fmla="*/ 2546280 h 2545920"/>
              </a:gdLst>
              <a:ahLst/>
              <a:rect l="textAreaLeft" t="textAreaTop" r="textAreaRight" b="textAreaBottom"/>
              <a:pathLst>
                <a:path w="514" h="1512">
                  <a:moveTo>
                    <a:pt x="493" y="10"/>
                  </a:moveTo>
                  <a:lnTo>
                    <a:pt x="482" y="8"/>
                  </a:lnTo>
                  <a:lnTo>
                    <a:pt x="443" y="4"/>
                  </a:lnTo>
                  <a:lnTo>
                    <a:pt x="405" y="0"/>
                  </a:lnTo>
                  <a:lnTo>
                    <a:pt x="367" y="0"/>
                  </a:lnTo>
                  <a:lnTo>
                    <a:pt x="328" y="0"/>
                  </a:lnTo>
                  <a:lnTo>
                    <a:pt x="290" y="4"/>
                  </a:lnTo>
                  <a:lnTo>
                    <a:pt x="252" y="8"/>
                  </a:lnTo>
                  <a:lnTo>
                    <a:pt x="215" y="16"/>
                  </a:lnTo>
                  <a:lnTo>
                    <a:pt x="179" y="23"/>
                  </a:lnTo>
                  <a:lnTo>
                    <a:pt x="175" y="25"/>
                  </a:lnTo>
                  <a:lnTo>
                    <a:pt x="175" y="27"/>
                  </a:lnTo>
                  <a:lnTo>
                    <a:pt x="173" y="27"/>
                  </a:lnTo>
                  <a:lnTo>
                    <a:pt x="173" y="29"/>
                  </a:lnTo>
                  <a:lnTo>
                    <a:pt x="173" y="31"/>
                  </a:lnTo>
                  <a:lnTo>
                    <a:pt x="173" y="33"/>
                  </a:lnTo>
                  <a:lnTo>
                    <a:pt x="171" y="35"/>
                  </a:lnTo>
                  <a:lnTo>
                    <a:pt x="171" y="35"/>
                  </a:lnTo>
                  <a:lnTo>
                    <a:pt x="171" y="37"/>
                  </a:lnTo>
                  <a:lnTo>
                    <a:pt x="181" y="35"/>
                  </a:lnTo>
                  <a:lnTo>
                    <a:pt x="217" y="25"/>
                  </a:lnTo>
                  <a:lnTo>
                    <a:pt x="253" y="19"/>
                  </a:lnTo>
                  <a:lnTo>
                    <a:pt x="290" y="14"/>
                  </a:lnTo>
                  <a:lnTo>
                    <a:pt x="328" y="12"/>
                  </a:lnTo>
                  <a:lnTo>
                    <a:pt x="367" y="10"/>
                  </a:lnTo>
                  <a:lnTo>
                    <a:pt x="405" y="12"/>
                  </a:lnTo>
                  <a:lnTo>
                    <a:pt x="443" y="14"/>
                  </a:lnTo>
                  <a:lnTo>
                    <a:pt x="480" y="19"/>
                  </a:lnTo>
                  <a:lnTo>
                    <a:pt x="488" y="19"/>
                  </a:lnTo>
                  <a:lnTo>
                    <a:pt x="488" y="19"/>
                  </a:lnTo>
                  <a:lnTo>
                    <a:pt x="488" y="18"/>
                  </a:lnTo>
                  <a:lnTo>
                    <a:pt x="490" y="18"/>
                  </a:lnTo>
                  <a:lnTo>
                    <a:pt x="490" y="16"/>
                  </a:lnTo>
                  <a:lnTo>
                    <a:pt x="491" y="14"/>
                  </a:lnTo>
                  <a:lnTo>
                    <a:pt x="491" y="14"/>
                  </a:lnTo>
                  <a:lnTo>
                    <a:pt x="493" y="12"/>
                  </a:lnTo>
                  <a:lnTo>
                    <a:pt x="493" y="10"/>
                  </a:lnTo>
                  <a:close/>
                  <a:moveTo>
                    <a:pt x="2" y="1418"/>
                  </a:moveTo>
                  <a:lnTo>
                    <a:pt x="6" y="1420"/>
                  </a:lnTo>
                  <a:lnTo>
                    <a:pt x="38" y="1437"/>
                  </a:lnTo>
                  <a:lnTo>
                    <a:pt x="73" y="1453"/>
                  </a:lnTo>
                  <a:lnTo>
                    <a:pt x="108" y="1466"/>
                  </a:lnTo>
                  <a:lnTo>
                    <a:pt x="142" y="1478"/>
                  </a:lnTo>
                  <a:lnTo>
                    <a:pt x="179" y="1487"/>
                  </a:lnTo>
                  <a:lnTo>
                    <a:pt x="215" y="1497"/>
                  </a:lnTo>
                  <a:lnTo>
                    <a:pt x="252" y="1503"/>
                  </a:lnTo>
                  <a:lnTo>
                    <a:pt x="290" y="1508"/>
                  </a:lnTo>
                  <a:lnTo>
                    <a:pt x="328" y="1510"/>
                  </a:lnTo>
                  <a:lnTo>
                    <a:pt x="367" y="1512"/>
                  </a:lnTo>
                  <a:lnTo>
                    <a:pt x="405" y="1510"/>
                  </a:lnTo>
                  <a:lnTo>
                    <a:pt x="443" y="1508"/>
                  </a:lnTo>
                  <a:lnTo>
                    <a:pt x="482" y="1503"/>
                  </a:lnTo>
                  <a:lnTo>
                    <a:pt x="514" y="1497"/>
                  </a:lnTo>
                  <a:lnTo>
                    <a:pt x="514" y="1495"/>
                  </a:lnTo>
                  <a:lnTo>
                    <a:pt x="513" y="1495"/>
                  </a:lnTo>
                  <a:lnTo>
                    <a:pt x="513" y="1493"/>
                  </a:lnTo>
                  <a:lnTo>
                    <a:pt x="511" y="1493"/>
                  </a:lnTo>
                  <a:lnTo>
                    <a:pt x="511" y="1491"/>
                  </a:lnTo>
                  <a:lnTo>
                    <a:pt x="511" y="1489"/>
                  </a:lnTo>
                  <a:lnTo>
                    <a:pt x="509" y="1489"/>
                  </a:lnTo>
                  <a:lnTo>
                    <a:pt x="509" y="1487"/>
                  </a:lnTo>
                  <a:lnTo>
                    <a:pt x="480" y="1493"/>
                  </a:lnTo>
                  <a:lnTo>
                    <a:pt x="443" y="1497"/>
                  </a:lnTo>
                  <a:lnTo>
                    <a:pt x="405" y="1501"/>
                  </a:lnTo>
                  <a:lnTo>
                    <a:pt x="367" y="1501"/>
                  </a:lnTo>
                  <a:lnTo>
                    <a:pt x="328" y="1501"/>
                  </a:lnTo>
                  <a:lnTo>
                    <a:pt x="290" y="1497"/>
                  </a:lnTo>
                  <a:lnTo>
                    <a:pt x="253" y="1493"/>
                  </a:lnTo>
                  <a:lnTo>
                    <a:pt x="217" y="1485"/>
                  </a:lnTo>
                  <a:lnTo>
                    <a:pt x="181" y="1478"/>
                  </a:lnTo>
                  <a:lnTo>
                    <a:pt x="146" y="1468"/>
                  </a:lnTo>
                  <a:lnTo>
                    <a:pt x="111" y="1457"/>
                  </a:lnTo>
                  <a:lnTo>
                    <a:pt x="77" y="1443"/>
                  </a:lnTo>
                  <a:lnTo>
                    <a:pt x="44" y="1428"/>
                  </a:lnTo>
                  <a:lnTo>
                    <a:pt x="12" y="1411"/>
                  </a:lnTo>
                  <a:lnTo>
                    <a:pt x="0" y="1405"/>
                  </a:lnTo>
                  <a:lnTo>
                    <a:pt x="0" y="1407"/>
                  </a:lnTo>
                  <a:lnTo>
                    <a:pt x="2" y="1409"/>
                  </a:lnTo>
                  <a:lnTo>
                    <a:pt x="2" y="1411"/>
                  </a:lnTo>
                  <a:lnTo>
                    <a:pt x="2" y="1411"/>
                  </a:lnTo>
                  <a:lnTo>
                    <a:pt x="2" y="1412"/>
                  </a:lnTo>
                  <a:lnTo>
                    <a:pt x="2" y="1414"/>
                  </a:lnTo>
                  <a:lnTo>
                    <a:pt x="2" y="1416"/>
                  </a:lnTo>
                  <a:lnTo>
                    <a:pt x="2" y="1418"/>
                  </a:lnTo>
                  <a:close/>
                </a:path>
              </a:pathLst>
            </a:custGeom>
            <a:solidFill>
              <a:srgbClr val="72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Freeform 387"/>
            <p:cNvSpPr/>
            <p:nvPr/>
          </p:nvSpPr>
          <p:spPr>
            <a:xfrm>
              <a:off x="5863680" y="2000520"/>
              <a:ext cx="860760" cy="2525400"/>
            </a:xfrm>
            <a:custGeom>
              <a:avLst/>
              <a:gdLst>
                <a:gd name="textAreaLeft" fmla="*/ 0 w 860760"/>
                <a:gd name="textAreaRight" fmla="*/ 861120 w 860760"/>
                <a:gd name="textAreaTop" fmla="*/ 0 h 2525400"/>
                <a:gd name="textAreaBottom" fmla="*/ 2525760 h 2525400"/>
              </a:gdLst>
              <a:ahLst/>
              <a:rect l="textAreaLeft" t="textAreaTop" r="textAreaRight" b="textAreaBottom"/>
              <a:pathLst>
                <a:path w="511" h="1500">
                  <a:moveTo>
                    <a:pt x="490" y="10"/>
                  </a:moveTo>
                  <a:lnTo>
                    <a:pt x="482" y="8"/>
                  </a:lnTo>
                  <a:lnTo>
                    <a:pt x="443" y="4"/>
                  </a:lnTo>
                  <a:lnTo>
                    <a:pt x="405" y="0"/>
                  </a:lnTo>
                  <a:lnTo>
                    <a:pt x="367" y="0"/>
                  </a:lnTo>
                  <a:lnTo>
                    <a:pt x="328" y="0"/>
                  </a:lnTo>
                  <a:lnTo>
                    <a:pt x="290" y="4"/>
                  </a:lnTo>
                  <a:lnTo>
                    <a:pt x="253" y="8"/>
                  </a:lnTo>
                  <a:lnTo>
                    <a:pt x="215" y="15"/>
                  </a:lnTo>
                  <a:lnTo>
                    <a:pt x="179" y="23"/>
                  </a:lnTo>
                  <a:lnTo>
                    <a:pt x="173" y="25"/>
                  </a:lnTo>
                  <a:lnTo>
                    <a:pt x="173" y="27"/>
                  </a:lnTo>
                  <a:lnTo>
                    <a:pt x="171" y="29"/>
                  </a:lnTo>
                  <a:lnTo>
                    <a:pt x="171" y="29"/>
                  </a:lnTo>
                  <a:lnTo>
                    <a:pt x="171" y="31"/>
                  </a:lnTo>
                  <a:lnTo>
                    <a:pt x="171" y="33"/>
                  </a:lnTo>
                  <a:lnTo>
                    <a:pt x="169" y="35"/>
                  </a:lnTo>
                  <a:lnTo>
                    <a:pt x="169" y="36"/>
                  </a:lnTo>
                  <a:lnTo>
                    <a:pt x="169" y="36"/>
                  </a:lnTo>
                  <a:lnTo>
                    <a:pt x="182" y="33"/>
                  </a:lnTo>
                  <a:lnTo>
                    <a:pt x="217" y="25"/>
                  </a:lnTo>
                  <a:lnTo>
                    <a:pt x="253" y="19"/>
                  </a:lnTo>
                  <a:lnTo>
                    <a:pt x="292" y="13"/>
                  </a:lnTo>
                  <a:lnTo>
                    <a:pt x="328" y="12"/>
                  </a:lnTo>
                  <a:lnTo>
                    <a:pt x="367" y="10"/>
                  </a:lnTo>
                  <a:lnTo>
                    <a:pt x="405" y="12"/>
                  </a:lnTo>
                  <a:lnTo>
                    <a:pt x="442" y="13"/>
                  </a:lnTo>
                  <a:lnTo>
                    <a:pt x="480" y="19"/>
                  </a:lnTo>
                  <a:lnTo>
                    <a:pt x="484" y="19"/>
                  </a:lnTo>
                  <a:lnTo>
                    <a:pt x="484" y="17"/>
                  </a:lnTo>
                  <a:lnTo>
                    <a:pt x="486" y="17"/>
                  </a:lnTo>
                  <a:lnTo>
                    <a:pt x="486" y="15"/>
                  </a:lnTo>
                  <a:lnTo>
                    <a:pt x="488" y="13"/>
                  </a:lnTo>
                  <a:lnTo>
                    <a:pt x="488" y="13"/>
                  </a:lnTo>
                  <a:lnTo>
                    <a:pt x="488" y="12"/>
                  </a:lnTo>
                  <a:lnTo>
                    <a:pt x="490" y="12"/>
                  </a:lnTo>
                  <a:lnTo>
                    <a:pt x="490" y="10"/>
                  </a:lnTo>
                  <a:close/>
                  <a:moveTo>
                    <a:pt x="2" y="1405"/>
                  </a:moveTo>
                  <a:lnTo>
                    <a:pt x="10" y="1410"/>
                  </a:lnTo>
                  <a:lnTo>
                    <a:pt x="42" y="1426"/>
                  </a:lnTo>
                  <a:lnTo>
                    <a:pt x="75" y="1441"/>
                  </a:lnTo>
                  <a:lnTo>
                    <a:pt x="110" y="1454"/>
                  </a:lnTo>
                  <a:lnTo>
                    <a:pt x="144" y="1466"/>
                  </a:lnTo>
                  <a:lnTo>
                    <a:pt x="179" y="1477"/>
                  </a:lnTo>
                  <a:lnTo>
                    <a:pt x="215" y="1485"/>
                  </a:lnTo>
                  <a:lnTo>
                    <a:pt x="253" y="1491"/>
                  </a:lnTo>
                  <a:lnTo>
                    <a:pt x="290" y="1497"/>
                  </a:lnTo>
                  <a:lnTo>
                    <a:pt x="328" y="1499"/>
                  </a:lnTo>
                  <a:lnTo>
                    <a:pt x="367" y="1500"/>
                  </a:lnTo>
                  <a:lnTo>
                    <a:pt x="405" y="1499"/>
                  </a:lnTo>
                  <a:lnTo>
                    <a:pt x="443" y="1497"/>
                  </a:lnTo>
                  <a:lnTo>
                    <a:pt x="482" y="1491"/>
                  </a:lnTo>
                  <a:lnTo>
                    <a:pt x="511" y="1487"/>
                  </a:lnTo>
                  <a:lnTo>
                    <a:pt x="511" y="1485"/>
                  </a:lnTo>
                  <a:lnTo>
                    <a:pt x="511" y="1483"/>
                  </a:lnTo>
                  <a:lnTo>
                    <a:pt x="509" y="1483"/>
                  </a:lnTo>
                  <a:lnTo>
                    <a:pt x="509" y="1481"/>
                  </a:lnTo>
                  <a:lnTo>
                    <a:pt x="507" y="1479"/>
                  </a:lnTo>
                  <a:lnTo>
                    <a:pt x="507" y="1479"/>
                  </a:lnTo>
                  <a:lnTo>
                    <a:pt x="505" y="1477"/>
                  </a:lnTo>
                  <a:lnTo>
                    <a:pt x="505" y="1477"/>
                  </a:lnTo>
                  <a:lnTo>
                    <a:pt x="480" y="1481"/>
                  </a:lnTo>
                  <a:lnTo>
                    <a:pt x="442" y="1485"/>
                  </a:lnTo>
                  <a:lnTo>
                    <a:pt x="405" y="1489"/>
                  </a:lnTo>
                  <a:lnTo>
                    <a:pt x="367" y="1489"/>
                  </a:lnTo>
                  <a:lnTo>
                    <a:pt x="328" y="1489"/>
                  </a:lnTo>
                  <a:lnTo>
                    <a:pt x="292" y="1485"/>
                  </a:lnTo>
                  <a:lnTo>
                    <a:pt x="253" y="1481"/>
                  </a:lnTo>
                  <a:lnTo>
                    <a:pt x="217" y="1476"/>
                  </a:lnTo>
                  <a:lnTo>
                    <a:pt x="182" y="1466"/>
                  </a:lnTo>
                  <a:lnTo>
                    <a:pt x="146" y="1456"/>
                  </a:lnTo>
                  <a:lnTo>
                    <a:pt x="113" y="1445"/>
                  </a:lnTo>
                  <a:lnTo>
                    <a:pt x="79" y="1431"/>
                  </a:lnTo>
                  <a:lnTo>
                    <a:pt x="46" y="1416"/>
                  </a:lnTo>
                  <a:lnTo>
                    <a:pt x="14" y="1401"/>
                  </a:lnTo>
                  <a:lnTo>
                    <a:pt x="0" y="1393"/>
                  </a:lnTo>
                  <a:lnTo>
                    <a:pt x="0" y="1393"/>
                  </a:lnTo>
                  <a:lnTo>
                    <a:pt x="0" y="1395"/>
                  </a:lnTo>
                  <a:lnTo>
                    <a:pt x="0" y="1397"/>
                  </a:lnTo>
                  <a:lnTo>
                    <a:pt x="0" y="1399"/>
                  </a:lnTo>
                  <a:lnTo>
                    <a:pt x="0" y="1401"/>
                  </a:lnTo>
                  <a:lnTo>
                    <a:pt x="2" y="1403"/>
                  </a:lnTo>
                  <a:lnTo>
                    <a:pt x="2" y="1405"/>
                  </a:lnTo>
                  <a:lnTo>
                    <a:pt x="2" y="1405"/>
                  </a:lnTo>
                  <a:close/>
                </a:path>
              </a:pathLst>
            </a:custGeom>
            <a:solidFill>
              <a:srgbClr val="73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Freeform 388"/>
            <p:cNvSpPr/>
            <p:nvPr/>
          </p:nvSpPr>
          <p:spPr>
            <a:xfrm>
              <a:off x="5863680" y="2007360"/>
              <a:ext cx="857160" cy="2510280"/>
            </a:xfrm>
            <a:custGeom>
              <a:avLst/>
              <a:gdLst>
                <a:gd name="textAreaLeft" fmla="*/ 0 w 857160"/>
                <a:gd name="textAreaRight" fmla="*/ 857520 w 857160"/>
                <a:gd name="textAreaTop" fmla="*/ 0 h 2510280"/>
                <a:gd name="textAreaBottom" fmla="*/ 2510640 h 2510280"/>
              </a:gdLst>
              <a:ahLst/>
              <a:rect l="textAreaLeft" t="textAreaTop" r="textAreaRight" b="textAreaBottom"/>
              <a:pathLst>
                <a:path w="509" h="1491">
                  <a:moveTo>
                    <a:pt x="488" y="9"/>
                  </a:moveTo>
                  <a:lnTo>
                    <a:pt x="480" y="9"/>
                  </a:lnTo>
                  <a:lnTo>
                    <a:pt x="443" y="4"/>
                  </a:lnTo>
                  <a:lnTo>
                    <a:pt x="405" y="2"/>
                  </a:lnTo>
                  <a:lnTo>
                    <a:pt x="367" y="0"/>
                  </a:lnTo>
                  <a:lnTo>
                    <a:pt x="328" y="2"/>
                  </a:lnTo>
                  <a:lnTo>
                    <a:pt x="290" y="4"/>
                  </a:lnTo>
                  <a:lnTo>
                    <a:pt x="253" y="9"/>
                  </a:lnTo>
                  <a:lnTo>
                    <a:pt x="217" y="15"/>
                  </a:lnTo>
                  <a:lnTo>
                    <a:pt x="181" y="25"/>
                  </a:lnTo>
                  <a:lnTo>
                    <a:pt x="171" y="27"/>
                  </a:lnTo>
                  <a:lnTo>
                    <a:pt x="171" y="29"/>
                  </a:lnTo>
                  <a:lnTo>
                    <a:pt x="169" y="31"/>
                  </a:lnTo>
                  <a:lnTo>
                    <a:pt x="169" y="32"/>
                  </a:lnTo>
                  <a:lnTo>
                    <a:pt x="169" y="32"/>
                  </a:lnTo>
                  <a:lnTo>
                    <a:pt x="167" y="34"/>
                  </a:lnTo>
                  <a:lnTo>
                    <a:pt x="167" y="36"/>
                  </a:lnTo>
                  <a:lnTo>
                    <a:pt x="167" y="38"/>
                  </a:lnTo>
                  <a:lnTo>
                    <a:pt x="167" y="40"/>
                  </a:lnTo>
                  <a:lnTo>
                    <a:pt x="182" y="34"/>
                  </a:lnTo>
                  <a:lnTo>
                    <a:pt x="219" y="27"/>
                  </a:lnTo>
                  <a:lnTo>
                    <a:pt x="255" y="19"/>
                  </a:lnTo>
                  <a:lnTo>
                    <a:pt x="292" y="15"/>
                  </a:lnTo>
                  <a:lnTo>
                    <a:pt x="328" y="11"/>
                  </a:lnTo>
                  <a:lnTo>
                    <a:pt x="367" y="11"/>
                  </a:lnTo>
                  <a:lnTo>
                    <a:pt x="405" y="11"/>
                  </a:lnTo>
                  <a:lnTo>
                    <a:pt x="442" y="15"/>
                  </a:lnTo>
                  <a:lnTo>
                    <a:pt x="478" y="19"/>
                  </a:lnTo>
                  <a:lnTo>
                    <a:pt x="480" y="21"/>
                  </a:lnTo>
                  <a:lnTo>
                    <a:pt x="482" y="19"/>
                  </a:lnTo>
                  <a:lnTo>
                    <a:pt x="482" y="17"/>
                  </a:lnTo>
                  <a:lnTo>
                    <a:pt x="484" y="17"/>
                  </a:lnTo>
                  <a:lnTo>
                    <a:pt x="484" y="15"/>
                  </a:lnTo>
                  <a:lnTo>
                    <a:pt x="484" y="13"/>
                  </a:lnTo>
                  <a:lnTo>
                    <a:pt x="486" y="13"/>
                  </a:lnTo>
                  <a:lnTo>
                    <a:pt x="486" y="11"/>
                  </a:lnTo>
                  <a:lnTo>
                    <a:pt x="488" y="9"/>
                  </a:lnTo>
                  <a:close/>
                  <a:moveTo>
                    <a:pt x="0" y="1395"/>
                  </a:moveTo>
                  <a:lnTo>
                    <a:pt x="12" y="1401"/>
                  </a:lnTo>
                  <a:lnTo>
                    <a:pt x="44" y="1418"/>
                  </a:lnTo>
                  <a:lnTo>
                    <a:pt x="77" y="1433"/>
                  </a:lnTo>
                  <a:lnTo>
                    <a:pt x="111" y="1447"/>
                  </a:lnTo>
                  <a:lnTo>
                    <a:pt x="146" y="1458"/>
                  </a:lnTo>
                  <a:lnTo>
                    <a:pt x="181" y="1468"/>
                  </a:lnTo>
                  <a:lnTo>
                    <a:pt x="217" y="1475"/>
                  </a:lnTo>
                  <a:lnTo>
                    <a:pt x="253" y="1483"/>
                  </a:lnTo>
                  <a:lnTo>
                    <a:pt x="290" y="1487"/>
                  </a:lnTo>
                  <a:lnTo>
                    <a:pt x="328" y="1491"/>
                  </a:lnTo>
                  <a:lnTo>
                    <a:pt x="367" y="1491"/>
                  </a:lnTo>
                  <a:lnTo>
                    <a:pt x="405" y="1491"/>
                  </a:lnTo>
                  <a:lnTo>
                    <a:pt x="443" y="1487"/>
                  </a:lnTo>
                  <a:lnTo>
                    <a:pt x="480" y="1483"/>
                  </a:lnTo>
                  <a:lnTo>
                    <a:pt x="509" y="1477"/>
                  </a:lnTo>
                  <a:lnTo>
                    <a:pt x="507" y="1475"/>
                  </a:lnTo>
                  <a:lnTo>
                    <a:pt x="507" y="1475"/>
                  </a:lnTo>
                  <a:lnTo>
                    <a:pt x="505" y="1473"/>
                  </a:lnTo>
                  <a:lnTo>
                    <a:pt x="505" y="1473"/>
                  </a:lnTo>
                  <a:lnTo>
                    <a:pt x="505" y="1472"/>
                  </a:lnTo>
                  <a:lnTo>
                    <a:pt x="503" y="1470"/>
                  </a:lnTo>
                  <a:lnTo>
                    <a:pt x="503" y="1470"/>
                  </a:lnTo>
                  <a:lnTo>
                    <a:pt x="501" y="1468"/>
                  </a:lnTo>
                  <a:lnTo>
                    <a:pt x="478" y="1472"/>
                  </a:lnTo>
                  <a:lnTo>
                    <a:pt x="442" y="1477"/>
                  </a:lnTo>
                  <a:lnTo>
                    <a:pt x="405" y="1479"/>
                  </a:lnTo>
                  <a:lnTo>
                    <a:pt x="367" y="1481"/>
                  </a:lnTo>
                  <a:lnTo>
                    <a:pt x="328" y="1479"/>
                  </a:lnTo>
                  <a:lnTo>
                    <a:pt x="292" y="1477"/>
                  </a:lnTo>
                  <a:lnTo>
                    <a:pt x="255" y="1472"/>
                  </a:lnTo>
                  <a:lnTo>
                    <a:pt x="219" y="1466"/>
                  </a:lnTo>
                  <a:lnTo>
                    <a:pt x="182" y="1458"/>
                  </a:lnTo>
                  <a:lnTo>
                    <a:pt x="148" y="1447"/>
                  </a:lnTo>
                  <a:lnTo>
                    <a:pt x="115" y="1435"/>
                  </a:lnTo>
                  <a:lnTo>
                    <a:pt x="81" y="1422"/>
                  </a:lnTo>
                  <a:lnTo>
                    <a:pt x="48" y="1408"/>
                  </a:lnTo>
                  <a:lnTo>
                    <a:pt x="17" y="1391"/>
                  </a:lnTo>
                  <a:lnTo>
                    <a:pt x="0" y="1381"/>
                  </a:lnTo>
                  <a:lnTo>
                    <a:pt x="0" y="1383"/>
                  </a:lnTo>
                  <a:lnTo>
                    <a:pt x="0" y="1385"/>
                  </a:lnTo>
                  <a:lnTo>
                    <a:pt x="0" y="1387"/>
                  </a:lnTo>
                  <a:lnTo>
                    <a:pt x="0" y="1389"/>
                  </a:lnTo>
                  <a:lnTo>
                    <a:pt x="0" y="1389"/>
                  </a:lnTo>
                  <a:lnTo>
                    <a:pt x="0" y="1391"/>
                  </a:lnTo>
                  <a:lnTo>
                    <a:pt x="0" y="1393"/>
                  </a:lnTo>
                  <a:lnTo>
                    <a:pt x="0" y="1395"/>
                  </a:lnTo>
                  <a:close/>
                </a:path>
              </a:pathLst>
            </a:custGeom>
            <a:solidFill>
              <a:srgbClr val="74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Freeform 389"/>
            <p:cNvSpPr/>
            <p:nvPr/>
          </p:nvSpPr>
          <p:spPr>
            <a:xfrm>
              <a:off x="5860800" y="2017080"/>
              <a:ext cx="853200" cy="2490480"/>
            </a:xfrm>
            <a:custGeom>
              <a:avLst/>
              <a:gdLst>
                <a:gd name="textAreaLeft" fmla="*/ 0 w 853200"/>
                <a:gd name="textAreaRight" fmla="*/ 853560 w 853200"/>
                <a:gd name="textAreaTop" fmla="*/ 0 h 2490480"/>
                <a:gd name="textAreaBottom" fmla="*/ 2490840 h 2490480"/>
              </a:gdLst>
              <a:ahLst/>
              <a:rect l="textAreaLeft" t="textAreaTop" r="textAreaRight" b="textAreaBottom"/>
              <a:pathLst>
                <a:path w="507" h="1479">
                  <a:moveTo>
                    <a:pt x="486" y="9"/>
                  </a:moveTo>
                  <a:lnTo>
                    <a:pt x="482" y="9"/>
                  </a:lnTo>
                  <a:lnTo>
                    <a:pt x="444" y="3"/>
                  </a:lnTo>
                  <a:lnTo>
                    <a:pt x="407" y="2"/>
                  </a:lnTo>
                  <a:lnTo>
                    <a:pt x="369" y="0"/>
                  </a:lnTo>
                  <a:lnTo>
                    <a:pt x="330" y="2"/>
                  </a:lnTo>
                  <a:lnTo>
                    <a:pt x="294" y="3"/>
                  </a:lnTo>
                  <a:lnTo>
                    <a:pt x="255" y="9"/>
                  </a:lnTo>
                  <a:lnTo>
                    <a:pt x="219" y="15"/>
                  </a:lnTo>
                  <a:lnTo>
                    <a:pt x="184" y="23"/>
                  </a:lnTo>
                  <a:lnTo>
                    <a:pt x="171" y="26"/>
                  </a:lnTo>
                  <a:lnTo>
                    <a:pt x="169" y="28"/>
                  </a:lnTo>
                  <a:lnTo>
                    <a:pt x="169" y="30"/>
                  </a:lnTo>
                  <a:lnTo>
                    <a:pt x="169" y="32"/>
                  </a:lnTo>
                  <a:lnTo>
                    <a:pt x="169" y="34"/>
                  </a:lnTo>
                  <a:lnTo>
                    <a:pt x="167" y="34"/>
                  </a:lnTo>
                  <a:lnTo>
                    <a:pt x="167" y="36"/>
                  </a:lnTo>
                  <a:lnTo>
                    <a:pt x="167" y="38"/>
                  </a:lnTo>
                  <a:lnTo>
                    <a:pt x="167" y="40"/>
                  </a:lnTo>
                  <a:lnTo>
                    <a:pt x="186" y="34"/>
                  </a:lnTo>
                  <a:lnTo>
                    <a:pt x="223" y="25"/>
                  </a:lnTo>
                  <a:lnTo>
                    <a:pt x="257" y="19"/>
                  </a:lnTo>
                  <a:lnTo>
                    <a:pt x="294" y="15"/>
                  </a:lnTo>
                  <a:lnTo>
                    <a:pt x="332" y="11"/>
                  </a:lnTo>
                  <a:lnTo>
                    <a:pt x="369" y="11"/>
                  </a:lnTo>
                  <a:lnTo>
                    <a:pt x="407" y="11"/>
                  </a:lnTo>
                  <a:lnTo>
                    <a:pt x="444" y="15"/>
                  </a:lnTo>
                  <a:lnTo>
                    <a:pt x="480" y="19"/>
                  </a:lnTo>
                  <a:lnTo>
                    <a:pt x="480" y="17"/>
                  </a:lnTo>
                  <a:lnTo>
                    <a:pt x="482" y="17"/>
                  </a:lnTo>
                  <a:lnTo>
                    <a:pt x="482" y="15"/>
                  </a:lnTo>
                  <a:lnTo>
                    <a:pt x="482" y="15"/>
                  </a:lnTo>
                  <a:lnTo>
                    <a:pt x="484" y="13"/>
                  </a:lnTo>
                  <a:lnTo>
                    <a:pt x="484" y="11"/>
                  </a:lnTo>
                  <a:lnTo>
                    <a:pt x="486" y="11"/>
                  </a:lnTo>
                  <a:lnTo>
                    <a:pt x="486" y="9"/>
                  </a:lnTo>
                  <a:close/>
                  <a:moveTo>
                    <a:pt x="2" y="1383"/>
                  </a:moveTo>
                  <a:lnTo>
                    <a:pt x="16" y="1391"/>
                  </a:lnTo>
                  <a:lnTo>
                    <a:pt x="48" y="1406"/>
                  </a:lnTo>
                  <a:lnTo>
                    <a:pt x="81" y="1421"/>
                  </a:lnTo>
                  <a:lnTo>
                    <a:pt x="115" y="1435"/>
                  </a:lnTo>
                  <a:lnTo>
                    <a:pt x="148" y="1446"/>
                  </a:lnTo>
                  <a:lnTo>
                    <a:pt x="184" y="1456"/>
                  </a:lnTo>
                  <a:lnTo>
                    <a:pt x="219" y="1466"/>
                  </a:lnTo>
                  <a:lnTo>
                    <a:pt x="255" y="1471"/>
                  </a:lnTo>
                  <a:lnTo>
                    <a:pt x="294" y="1475"/>
                  </a:lnTo>
                  <a:lnTo>
                    <a:pt x="330" y="1479"/>
                  </a:lnTo>
                  <a:lnTo>
                    <a:pt x="369" y="1479"/>
                  </a:lnTo>
                  <a:lnTo>
                    <a:pt x="407" y="1479"/>
                  </a:lnTo>
                  <a:lnTo>
                    <a:pt x="444" y="1475"/>
                  </a:lnTo>
                  <a:lnTo>
                    <a:pt x="482" y="1471"/>
                  </a:lnTo>
                  <a:lnTo>
                    <a:pt x="507" y="1467"/>
                  </a:lnTo>
                  <a:lnTo>
                    <a:pt x="507" y="1466"/>
                  </a:lnTo>
                  <a:lnTo>
                    <a:pt x="505" y="1464"/>
                  </a:lnTo>
                  <a:lnTo>
                    <a:pt x="505" y="1464"/>
                  </a:lnTo>
                  <a:lnTo>
                    <a:pt x="503" y="1462"/>
                  </a:lnTo>
                  <a:lnTo>
                    <a:pt x="503" y="1460"/>
                  </a:lnTo>
                  <a:lnTo>
                    <a:pt x="501" y="1460"/>
                  </a:lnTo>
                  <a:lnTo>
                    <a:pt x="501" y="1458"/>
                  </a:lnTo>
                  <a:lnTo>
                    <a:pt x="501" y="1458"/>
                  </a:lnTo>
                  <a:lnTo>
                    <a:pt x="480" y="1460"/>
                  </a:lnTo>
                  <a:lnTo>
                    <a:pt x="444" y="1466"/>
                  </a:lnTo>
                  <a:lnTo>
                    <a:pt x="407" y="1467"/>
                  </a:lnTo>
                  <a:lnTo>
                    <a:pt x="369" y="1469"/>
                  </a:lnTo>
                  <a:lnTo>
                    <a:pt x="332" y="1467"/>
                  </a:lnTo>
                  <a:lnTo>
                    <a:pt x="294" y="1466"/>
                  </a:lnTo>
                  <a:lnTo>
                    <a:pt x="257" y="1460"/>
                  </a:lnTo>
                  <a:lnTo>
                    <a:pt x="223" y="1454"/>
                  </a:lnTo>
                  <a:lnTo>
                    <a:pt x="186" y="1446"/>
                  </a:lnTo>
                  <a:lnTo>
                    <a:pt x="152" y="1437"/>
                  </a:lnTo>
                  <a:lnTo>
                    <a:pt x="117" y="1425"/>
                  </a:lnTo>
                  <a:lnTo>
                    <a:pt x="85" y="1412"/>
                  </a:lnTo>
                  <a:lnTo>
                    <a:pt x="52" y="1396"/>
                  </a:lnTo>
                  <a:lnTo>
                    <a:pt x="21" y="1381"/>
                  </a:lnTo>
                  <a:lnTo>
                    <a:pt x="0" y="1370"/>
                  </a:lnTo>
                  <a:lnTo>
                    <a:pt x="0" y="1371"/>
                  </a:lnTo>
                  <a:lnTo>
                    <a:pt x="2" y="1373"/>
                  </a:lnTo>
                  <a:lnTo>
                    <a:pt x="2" y="1373"/>
                  </a:lnTo>
                  <a:lnTo>
                    <a:pt x="2" y="1375"/>
                  </a:lnTo>
                  <a:lnTo>
                    <a:pt x="2" y="1377"/>
                  </a:lnTo>
                  <a:lnTo>
                    <a:pt x="2" y="1379"/>
                  </a:lnTo>
                  <a:lnTo>
                    <a:pt x="2" y="1381"/>
                  </a:lnTo>
                  <a:lnTo>
                    <a:pt x="2" y="1383"/>
                  </a:lnTo>
                  <a:close/>
                </a:path>
              </a:pathLst>
            </a:custGeom>
            <a:solidFill>
              <a:srgbClr val="75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Freeform 390"/>
            <p:cNvSpPr/>
            <p:nvPr/>
          </p:nvSpPr>
          <p:spPr>
            <a:xfrm>
              <a:off x="5860800" y="2025720"/>
              <a:ext cx="846720" cy="2475000"/>
            </a:xfrm>
            <a:custGeom>
              <a:avLst/>
              <a:gdLst>
                <a:gd name="textAreaLeft" fmla="*/ 0 w 846720"/>
                <a:gd name="textAreaRight" fmla="*/ 847080 w 846720"/>
                <a:gd name="textAreaTop" fmla="*/ 0 h 2475000"/>
                <a:gd name="textAreaBottom" fmla="*/ 2475360 h 2475000"/>
              </a:gdLst>
              <a:ahLst/>
              <a:rect l="textAreaLeft" t="textAreaTop" r="textAreaRight" b="textAreaBottom"/>
              <a:pathLst>
                <a:path w="503" h="1470">
                  <a:moveTo>
                    <a:pt x="482" y="10"/>
                  </a:moveTo>
                  <a:lnTo>
                    <a:pt x="480" y="8"/>
                  </a:lnTo>
                  <a:lnTo>
                    <a:pt x="444" y="4"/>
                  </a:lnTo>
                  <a:lnTo>
                    <a:pt x="407" y="0"/>
                  </a:lnTo>
                  <a:lnTo>
                    <a:pt x="369" y="0"/>
                  </a:lnTo>
                  <a:lnTo>
                    <a:pt x="330" y="0"/>
                  </a:lnTo>
                  <a:lnTo>
                    <a:pt x="294" y="4"/>
                  </a:lnTo>
                  <a:lnTo>
                    <a:pt x="257" y="8"/>
                  </a:lnTo>
                  <a:lnTo>
                    <a:pt x="221" y="16"/>
                  </a:lnTo>
                  <a:lnTo>
                    <a:pt x="184" y="23"/>
                  </a:lnTo>
                  <a:lnTo>
                    <a:pt x="169" y="29"/>
                  </a:lnTo>
                  <a:lnTo>
                    <a:pt x="167" y="29"/>
                  </a:lnTo>
                  <a:lnTo>
                    <a:pt x="167" y="31"/>
                  </a:lnTo>
                  <a:lnTo>
                    <a:pt x="167" y="33"/>
                  </a:lnTo>
                  <a:lnTo>
                    <a:pt x="167" y="35"/>
                  </a:lnTo>
                  <a:lnTo>
                    <a:pt x="165" y="37"/>
                  </a:lnTo>
                  <a:lnTo>
                    <a:pt x="165" y="37"/>
                  </a:lnTo>
                  <a:lnTo>
                    <a:pt x="165" y="39"/>
                  </a:lnTo>
                  <a:lnTo>
                    <a:pt x="163" y="41"/>
                  </a:lnTo>
                  <a:lnTo>
                    <a:pt x="188" y="33"/>
                  </a:lnTo>
                  <a:lnTo>
                    <a:pt x="223" y="25"/>
                  </a:lnTo>
                  <a:lnTo>
                    <a:pt x="259" y="20"/>
                  </a:lnTo>
                  <a:lnTo>
                    <a:pt x="296" y="14"/>
                  </a:lnTo>
                  <a:lnTo>
                    <a:pt x="332" y="12"/>
                  </a:lnTo>
                  <a:lnTo>
                    <a:pt x="369" y="10"/>
                  </a:lnTo>
                  <a:lnTo>
                    <a:pt x="405" y="12"/>
                  </a:lnTo>
                  <a:lnTo>
                    <a:pt x="444" y="14"/>
                  </a:lnTo>
                  <a:lnTo>
                    <a:pt x="476" y="20"/>
                  </a:lnTo>
                  <a:lnTo>
                    <a:pt x="476" y="18"/>
                  </a:lnTo>
                  <a:lnTo>
                    <a:pt x="478" y="16"/>
                  </a:lnTo>
                  <a:lnTo>
                    <a:pt x="478" y="16"/>
                  </a:lnTo>
                  <a:lnTo>
                    <a:pt x="480" y="14"/>
                  </a:lnTo>
                  <a:lnTo>
                    <a:pt x="480" y="12"/>
                  </a:lnTo>
                  <a:lnTo>
                    <a:pt x="482" y="12"/>
                  </a:lnTo>
                  <a:lnTo>
                    <a:pt x="482" y="10"/>
                  </a:lnTo>
                  <a:lnTo>
                    <a:pt x="482" y="10"/>
                  </a:lnTo>
                  <a:close/>
                  <a:moveTo>
                    <a:pt x="2" y="1370"/>
                  </a:moveTo>
                  <a:lnTo>
                    <a:pt x="19" y="1380"/>
                  </a:lnTo>
                  <a:lnTo>
                    <a:pt x="50" y="1397"/>
                  </a:lnTo>
                  <a:lnTo>
                    <a:pt x="83" y="1411"/>
                  </a:lnTo>
                  <a:lnTo>
                    <a:pt x="117" y="1424"/>
                  </a:lnTo>
                  <a:lnTo>
                    <a:pt x="150" y="1436"/>
                  </a:lnTo>
                  <a:lnTo>
                    <a:pt x="184" y="1447"/>
                  </a:lnTo>
                  <a:lnTo>
                    <a:pt x="221" y="1455"/>
                  </a:lnTo>
                  <a:lnTo>
                    <a:pt x="257" y="1461"/>
                  </a:lnTo>
                  <a:lnTo>
                    <a:pt x="294" y="1466"/>
                  </a:lnTo>
                  <a:lnTo>
                    <a:pt x="330" y="1468"/>
                  </a:lnTo>
                  <a:lnTo>
                    <a:pt x="369" y="1470"/>
                  </a:lnTo>
                  <a:lnTo>
                    <a:pt x="407" y="1468"/>
                  </a:lnTo>
                  <a:lnTo>
                    <a:pt x="444" y="1466"/>
                  </a:lnTo>
                  <a:lnTo>
                    <a:pt x="480" y="1461"/>
                  </a:lnTo>
                  <a:lnTo>
                    <a:pt x="503" y="1457"/>
                  </a:lnTo>
                  <a:lnTo>
                    <a:pt x="503" y="1455"/>
                  </a:lnTo>
                  <a:lnTo>
                    <a:pt x="501" y="1455"/>
                  </a:lnTo>
                  <a:lnTo>
                    <a:pt x="501" y="1453"/>
                  </a:lnTo>
                  <a:lnTo>
                    <a:pt x="501" y="1453"/>
                  </a:lnTo>
                  <a:lnTo>
                    <a:pt x="499" y="1451"/>
                  </a:lnTo>
                  <a:lnTo>
                    <a:pt x="499" y="1449"/>
                  </a:lnTo>
                  <a:lnTo>
                    <a:pt x="497" y="1449"/>
                  </a:lnTo>
                  <a:lnTo>
                    <a:pt x="497" y="1447"/>
                  </a:lnTo>
                  <a:lnTo>
                    <a:pt x="480" y="1451"/>
                  </a:lnTo>
                  <a:lnTo>
                    <a:pt x="444" y="1455"/>
                  </a:lnTo>
                  <a:lnTo>
                    <a:pt x="405" y="1459"/>
                  </a:lnTo>
                  <a:lnTo>
                    <a:pt x="369" y="1459"/>
                  </a:lnTo>
                  <a:lnTo>
                    <a:pt x="332" y="1459"/>
                  </a:lnTo>
                  <a:lnTo>
                    <a:pt x="296" y="1455"/>
                  </a:lnTo>
                  <a:lnTo>
                    <a:pt x="259" y="1451"/>
                  </a:lnTo>
                  <a:lnTo>
                    <a:pt x="223" y="1443"/>
                  </a:lnTo>
                  <a:lnTo>
                    <a:pt x="188" y="1436"/>
                  </a:lnTo>
                  <a:lnTo>
                    <a:pt x="154" y="1426"/>
                  </a:lnTo>
                  <a:lnTo>
                    <a:pt x="119" y="1414"/>
                  </a:lnTo>
                  <a:lnTo>
                    <a:pt x="87" y="1401"/>
                  </a:lnTo>
                  <a:lnTo>
                    <a:pt x="56" y="1388"/>
                  </a:lnTo>
                  <a:lnTo>
                    <a:pt x="23" y="1370"/>
                  </a:lnTo>
                  <a:lnTo>
                    <a:pt x="0" y="1357"/>
                  </a:lnTo>
                  <a:lnTo>
                    <a:pt x="0" y="1359"/>
                  </a:lnTo>
                  <a:lnTo>
                    <a:pt x="0" y="1361"/>
                  </a:lnTo>
                  <a:lnTo>
                    <a:pt x="0" y="1363"/>
                  </a:lnTo>
                  <a:lnTo>
                    <a:pt x="0" y="1365"/>
                  </a:lnTo>
                  <a:lnTo>
                    <a:pt x="0" y="1366"/>
                  </a:lnTo>
                  <a:lnTo>
                    <a:pt x="2" y="1368"/>
                  </a:lnTo>
                  <a:lnTo>
                    <a:pt x="2" y="1368"/>
                  </a:lnTo>
                  <a:lnTo>
                    <a:pt x="2" y="1370"/>
                  </a:lnTo>
                  <a:close/>
                </a:path>
              </a:pathLst>
            </a:custGeom>
            <a:solidFill>
              <a:srgbClr val="76c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Freeform 391"/>
            <p:cNvSpPr/>
            <p:nvPr/>
          </p:nvSpPr>
          <p:spPr>
            <a:xfrm>
              <a:off x="5860800" y="2035800"/>
              <a:ext cx="843480" cy="2454840"/>
            </a:xfrm>
            <a:custGeom>
              <a:avLst/>
              <a:gdLst>
                <a:gd name="textAreaLeft" fmla="*/ 0 w 843480"/>
                <a:gd name="textAreaRight" fmla="*/ 843840 w 843480"/>
                <a:gd name="textAreaTop" fmla="*/ 0 h 2454840"/>
                <a:gd name="textAreaBottom" fmla="*/ 2455200 h 2454840"/>
              </a:gdLst>
              <a:ahLst/>
              <a:rect l="textAreaLeft" t="textAreaTop" r="textAreaRight" b="textAreaBottom"/>
              <a:pathLst>
                <a:path w="501" h="1458">
                  <a:moveTo>
                    <a:pt x="480" y="8"/>
                  </a:moveTo>
                  <a:lnTo>
                    <a:pt x="444" y="4"/>
                  </a:lnTo>
                  <a:lnTo>
                    <a:pt x="407" y="0"/>
                  </a:lnTo>
                  <a:lnTo>
                    <a:pt x="369" y="0"/>
                  </a:lnTo>
                  <a:lnTo>
                    <a:pt x="332" y="0"/>
                  </a:lnTo>
                  <a:lnTo>
                    <a:pt x="294" y="4"/>
                  </a:lnTo>
                  <a:lnTo>
                    <a:pt x="257" y="8"/>
                  </a:lnTo>
                  <a:lnTo>
                    <a:pt x="223" y="14"/>
                  </a:lnTo>
                  <a:lnTo>
                    <a:pt x="186" y="23"/>
                  </a:lnTo>
                  <a:lnTo>
                    <a:pt x="167" y="29"/>
                  </a:lnTo>
                  <a:lnTo>
                    <a:pt x="165" y="31"/>
                  </a:lnTo>
                  <a:lnTo>
                    <a:pt x="165" y="31"/>
                  </a:lnTo>
                  <a:lnTo>
                    <a:pt x="165" y="33"/>
                  </a:lnTo>
                  <a:lnTo>
                    <a:pt x="163" y="35"/>
                  </a:lnTo>
                  <a:lnTo>
                    <a:pt x="163" y="37"/>
                  </a:lnTo>
                  <a:lnTo>
                    <a:pt x="163" y="39"/>
                  </a:lnTo>
                  <a:lnTo>
                    <a:pt x="163" y="39"/>
                  </a:lnTo>
                  <a:lnTo>
                    <a:pt x="161" y="40"/>
                  </a:lnTo>
                  <a:lnTo>
                    <a:pt x="190" y="33"/>
                  </a:lnTo>
                  <a:lnTo>
                    <a:pt x="225" y="25"/>
                  </a:lnTo>
                  <a:lnTo>
                    <a:pt x="259" y="19"/>
                  </a:lnTo>
                  <a:lnTo>
                    <a:pt x="296" y="14"/>
                  </a:lnTo>
                  <a:lnTo>
                    <a:pt x="332" y="12"/>
                  </a:lnTo>
                  <a:lnTo>
                    <a:pt x="369" y="10"/>
                  </a:lnTo>
                  <a:lnTo>
                    <a:pt x="405" y="12"/>
                  </a:lnTo>
                  <a:lnTo>
                    <a:pt x="442" y="14"/>
                  </a:lnTo>
                  <a:lnTo>
                    <a:pt x="472" y="17"/>
                  </a:lnTo>
                  <a:lnTo>
                    <a:pt x="474" y="17"/>
                  </a:lnTo>
                  <a:lnTo>
                    <a:pt x="474" y="15"/>
                  </a:lnTo>
                  <a:lnTo>
                    <a:pt x="476" y="14"/>
                  </a:lnTo>
                  <a:lnTo>
                    <a:pt x="476" y="14"/>
                  </a:lnTo>
                  <a:lnTo>
                    <a:pt x="476" y="12"/>
                  </a:lnTo>
                  <a:lnTo>
                    <a:pt x="478" y="10"/>
                  </a:lnTo>
                  <a:lnTo>
                    <a:pt x="478" y="10"/>
                  </a:lnTo>
                  <a:lnTo>
                    <a:pt x="480" y="8"/>
                  </a:lnTo>
                  <a:close/>
                  <a:moveTo>
                    <a:pt x="0" y="1359"/>
                  </a:moveTo>
                  <a:lnTo>
                    <a:pt x="21" y="1370"/>
                  </a:lnTo>
                  <a:lnTo>
                    <a:pt x="52" y="1385"/>
                  </a:lnTo>
                  <a:lnTo>
                    <a:pt x="85" y="1401"/>
                  </a:lnTo>
                  <a:lnTo>
                    <a:pt x="117" y="1414"/>
                  </a:lnTo>
                  <a:lnTo>
                    <a:pt x="152" y="1426"/>
                  </a:lnTo>
                  <a:lnTo>
                    <a:pt x="186" y="1435"/>
                  </a:lnTo>
                  <a:lnTo>
                    <a:pt x="223" y="1443"/>
                  </a:lnTo>
                  <a:lnTo>
                    <a:pt x="257" y="1449"/>
                  </a:lnTo>
                  <a:lnTo>
                    <a:pt x="294" y="1455"/>
                  </a:lnTo>
                  <a:lnTo>
                    <a:pt x="332" y="1456"/>
                  </a:lnTo>
                  <a:lnTo>
                    <a:pt x="369" y="1458"/>
                  </a:lnTo>
                  <a:lnTo>
                    <a:pt x="407" y="1456"/>
                  </a:lnTo>
                  <a:lnTo>
                    <a:pt x="444" y="1455"/>
                  </a:lnTo>
                  <a:lnTo>
                    <a:pt x="480" y="1449"/>
                  </a:lnTo>
                  <a:lnTo>
                    <a:pt x="501" y="1447"/>
                  </a:lnTo>
                  <a:lnTo>
                    <a:pt x="499" y="1445"/>
                  </a:lnTo>
                  <a:lnTo>
                    <a:pt x="499" y="1443"/>
                  </a:lnTo>
                  <a:lnTo>
                    <a:pt x="497" y="1443"/>
                  </a:lnTo>
                  <a:lnTo>
                    <a:pt x="497" y="1441"/>
                  </a:lnTo>
                  <a:lnTo>
                    <a:pt x="497" y="1439"/>
                  </a:lnTo>
                  <a:lnTo>
                    <a:pt x="495" y="1439"/>
                  </a:lnTo>
                  <a:lnTo>
                    <a:pt x="495" y="1437"/>
                  </a:lnTo>
                  <a:lnTo>
                    <a:pt x="493" y="1435"/>
                  </a:lnTo>
                  <a:lnTo>
                    <a:pt x="478" y="1439"/>
                  </a:lnTo>
                  <a:lnTo>
                    <a:pt x="442" y="1443"/>
                  </a:lnTo>
                  <a:lnTo>
                    <a:pt x="405" y="1447"/>
                  </a:lnTo>
                  <a:lnTo>
                    <a:pt x="369" y="1447"/>
                  </a:lnTo>
                  <a:lnTo>
                    <a:pt x="332" y="1447"/>
                  </a:lnTo>
                  <a:lnTo>
                    <a:pt x="296" y="1443"/>
                  </a:lnTo>
                  <a:lnTo>
                    <a:pt x="259" y="1439"/>
                  </a:lnTo>
                  <a:lnTo>
                    <a:pt x="225" y="1433"/>
                  </a:lnTo>
                  <a:lnTo>
                    <a:pt x="190" y="1424"/>
                  </a:lnTo>
                  <a:lnTo>
                    <a:pt x="156" y="1414"/>
                  </a:lnTo>
                  <a:lnTo>
                    <a:pt x="121" y="1405"/>
                  </a:lnTo>
                  <a:lnTo>
                    <a:pt x="88" y="1391"/>
                  </a:lnTo>
                  <a:lnTo>
                    <a:pt x="58" y="1376"/>
                  </a:lnTo>
                  <a:lnTo>
                    <a:pt x="27" y="1360"/>
                  </a:lnTo>
                  <a:lnTo>
                    <a:pt x="0" y="1345"/>
                  </a:lnTo>
                  <a:lnTo>
                    <a:pt x="0" y="1347"/>
                  </a:lnTo>
                  <a:lnTo>
                    <a:pt x="0" y="1349"/>
                  </a:lnTo>
                  <a:lnTo>
                    <a:pt x="0" y="1351"/>
                  </a:lnTo>
                  <a:lnTo>
                    <a:pt x="0" y="1351"/>
                  </a:lnTo>
                  <a:lnTo>
                    <a:pt x="0" y="1353"/>
                  </a:lnTo>
                  <a:lnTo>
                    <a:pt x="0" y="1355"/>
                  </a:lnTo>
                  <a:lnTo>
                    <a:pt x="0" y="1357"/>
                  </a:lnTo>
                  <a:lnTo>
                    <a:pt x="0" y="1359"/>
                  </a:lnTo>
                  <a:close/>
                </a:path>
              </a:pathLst>
            </a:custGeom>
            <a:solidFill>
              <a:srgbClr val="77c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Freeform 392"/>
            <p:cNvSpPr/>
            <p:nvPr/>
          </p:nvSpPr>
          <p:spPr>
            <a:xfrm>
              <a:off x="5857200" y="2045880"/>
              <a:ext cx="839880" cy="2436480"/>
            </a:xfrm>
            <a:custGeom>
              <a:avLst/>
              <a:gdLst>
                <a:gd name="textAreaLeft" fmla="*/ 0 w 839880"/>
                <a:gd name="textAreaRight" fmla="*/ 840240 w 839880"/>
                <a:gd name="textAreaTop" fmla="*/ 0 h 2436480"/>
                <a:gd name="textAreaBottom" fmla="*/ 2436480 h 2436480"/>
              </a:gdLst>
              <a:ahLst/>
              <a:rect l="textAreaLeft" t="textAreaTop" r="textAreaRight" b="textAreaBottom"/>
              <a:pathLst>
                <a:path w="499" h="1447">
                  <a:moveTo>
                    <a:pt x="478" y="8"/>
                  </a:moveTo>
                  <a:lnTo>
                    <a:pt x="446" y="2"/>
                  </a:lnTo>
                  <a:lnTo>
                    <a:pt x="407" y="0"/>
                  </a:lnTo>
                  <a:lnTo>
                    <a:pt x="371" y="0"/>
                  </a:lnTo>
                  <a:lnTo>
                    <a:pt x="334" y="0"/>
                  </a:lnTo>
                  <a:lnTo>
                    <a:pt x="298" y="2"/>
                  </a:lnTo>
                  <a:lnTo>
                    <a:pt x="261" y="8"/>
                  </a:lnTo>
                  <a:lnTo>
                    <a:pt x="225" y="13"/>
                  </a:lnTo>
                  <a:lnTo>
                    <a:pt x="190" y="21"/>
                  </a:lnTo>
                  <a:lnTo>
                    <a:pt x="165" y="29"/>
                  </a:lnTo>
                  <a:lnTo>
                    <a:pt x="165" y="31"/>
                  </a:lnTo>
                  <a:lnTo>
                    <a:pt x="165" y="33"/>
                  </a:lnTo>
                  <a:lnTo>
                    <a:pt x="165" y="33"/>
                  </a:lnTo>
                  <a:lnTo>
                    <a:pt x="163" y="34"/>
                  </a:lnTo>
                  <a:lnTo>
                    <a:pt x="163" y="36"/>
                  </a:lnTo>
                  <a:lnTo>
                    <a:pt x="163" y="38"/>
                  </a:lnTo>
                  <a:lnTo>
                    <a:pt x="161" y="40"/>
                  </a:lnTo>
                  <a:lnTo>
                    <a:pt x="161" y="40"/>
                  </a:lnTo>
                  <a:lnTo>
                    <a:pt x="192" y="33"/>
                  </a:lnTo>
                  <a:lnTo>
                    <a:pt x="227" y="25"/>
                  </a:lnTo>
                  <a:lnTo>
                    <a:pt x="261" y="17"/>
                  </a:lnTo>
                  <a:lnTo>
                    <a:pt x="298" y="13"/>
                  </a:lnTo>
                  <a:lnTo>
                    <a:pt x="334" y="11"/>
                  </a:lnTo>
                  <a:lnTo>
                    <a:pt x="371" y="9"/>
                  </a:lnTo>
                  <a:lnTo>
                    <a:pt x="407" y="11"/>
                  </a:lnTo>
                  <a:lnTo>
                    <a:pt x="444" y="13"/>
                  </a:lnTo>
                  <a:lnTo>
                    <a:pt x="472" y="17"/>
                  </a:lnTo>
                  <a:lnTo>
                    <a:pt x="472" y="15"/>
                  </a:lnTo>
                  <a:lnTo>
                    <a:pt x="474" y="15"/>
                  </a:lnTo>
                  <a:lnTo>
                    <a:pt x="474" y="13"/>
                  </a:lnTo>
                  <a:lnTo>
                    <a:pt x="474" y="11"/>
                  </a:lnTo>
                  <a:lnTo>
                    <a:pt x="476" y="11"/>
                  </a:lnTo>
                  <a:lnTo>
                    <a:pt x="476" y="9"/>
                  </a:lnTo>
                  <a:lnTo>
                    <a:pt x="478" y="8"/>
                  </a:lnTo>
                  <a:lnTo>
                    <a:pt x="478" y="8"/>
                  </a:lnTo>
                  <a:close/>
                  <a:moveTo>
                    <a:pt x="2" y="1345"/>
                  </a:moveTo>
                  <a:lnTo>
                    <a:pt x="25" y="1358"/>
                  </a:lnTo>
                  <a:lnTo>
                    <a:pt x="58" y="1376"/>
                  </a:lnTo>
                  <a:lnTo>
                    <a:pt x="89" y="1389"/>
                  </a:lnTo>
                  <a:lnTo>
                    <a:pt x="121" y="1402"/>
                  </a:lnTo>
                  <a:lnTo>
                    <a:pt x="156" y="1414"/>
                  </a:lnTo>
                  <a:lnTo>
                    <a:pt x="190" y="1424"/>
                  </a:lnTo>
                  <a:lnTo>
                    <a:pt x="225" y="1431"/>
                  </a:lnTo>
                  <a:lnTo>
                    <a:pt x="261" y="1439"/>
                  </a:lnTo>
                  <a:lnTo>
                    <a:pt x="298" y="1443"/>
                  </a:lnTo>
                  <a:lnTo>
                    <a:pt x="334" y="1447"/>
                  </a:lnTo>
                  <a:lnTo>
                    <a:pt x="371" y="1447"/>
                  </a:lnTo>
                  <a:lnTo>
                    <a:pt x="407" y="1447"/>
                  </a:lnTo>
                  <a:lnTo>
                    <a:pt x="446" y="1443"/>
                  </a:lnTo>
                  <a:lnTo>
                    <a:pt x="482" y="1439"/>
                  </a:lnTo>
                  <a:lnTo>
                    <a:pt x="499" y="1435"/>
                  </a:lnTo>
                  <a:lnTo>
                    <a:pt x="499" y="1433"/>
                  </a:lnTo>
                  <a:lnTo>
                    <a:pt x="497" y="1433"/>
                  </a:lnTo>
                  <a:lnTo>
                    <a:pt x="497" y="1431"/>
                  </a:lnTo>
                  <a:lnTo>
                    <a:pt x="495" y="1429"/>
                  </a:lnTo>
                  <a:lnTo>
                    <a:pt x="495" y="1429"/>
                  </a:lnTo>
                  <a:lnTo>
                    <a:pt x="494" y="1427"/>
                  </a:lnTo>
                  <a:lnTo>
                    <a:pt x="494" y="1427"/>
                  </a:lnTo>
                  <a:lnTo>
                    <a:pt x="494" y="1425"/>
                  </a:lnTo>
                  <a:lnTo>
                    <a:pt x="480" y="1427"/>
                  </a:lnTo>
                  <a:lnTo>
                    <a:pt x="444" y="1433"/>
                  </a:lnTo>
                  <a:lnTo>
                    <a:pt x="407" y="1435"/>
                  </a:lnTo>
                  <a:lnTo>
                    <a:pt x="371" y="1435"/>
                  </a:lnTo>
                  <a:lnTo>
                    <a:pt x="334" y="1435"/>
                  </a:lnTo>
                  <a:lnTo>
                    <a:pt x="298" y="1433"/>
                  </a:lnTo>
                  <a:lnTo>
                    <a:pt x="261" y="1427"/>
                  </a:lnTo>
                  <a:lnTo>
                    <a:pt x="227" y="1422"/>
                  </a:lnTo>
                  <a:lnTo>
                    <a:pt x="192" y="1414"/>
                  </a:lnTo>
                  <a:lnTo>
                    <a:pt x="160" y="1404"/>
                  </a:lnTo>
                  <a:lnTo>
                    <a:pt x="125" y="1393"/>
                  </a:lnTo>
                  <a:lnTo>
                    <a:pt x="92" y="1379"/>
                  </a:lnTo>
                  <a:lnTo>
                    <a:pt x="62" y="1366"/>
                  </a:lnTo>
                  <a:lnTo>
                    <a:pt x="31" y="1351"/>
                  </a:lnTo>
                  <a:lnTo>
                    <a:pt x="0" y="1333"/>
                  </a:lnTo>
                  <a:lnTo>
                    <a:pt x="2" y="1335"/>
                  </a:lnTo>
                  <a:lnTo>
                    <a:pt x="2" y="1335"/>
                  </a:lnTo>
                  <a:lnTo>
                    <a:pt x="2" y="1337"/>
                  </a:lnTo>
                  <a:lnTo>
                    <a:pt x="2" y="1339"/>
                  </a:lnTo>
                  <a:lnTo>
                    <a:pt x="2" y="1341"/>
                  </a:lnTo>
                  <a:lnTo>
                    <a:pt x="2" y="1343"/>
                  </a:lnTo>
                  <a:lnTo>
                    <a:pt x="2" y="1345"/>
                  </a:lnTo>
                  <a:lnTo>
                    <a:pt x="2" y="1345"/>
                  </a:lnTo>
                  <a:close/>
                </a:path>
              </a:pathLst>
            </a:custGeom>
            <a:solidFill>
              <a:srgbClr val="78c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Freeform 393"/>
            <p:cNvSpPr/>
            <p:nvPr/>
          </p:nvSpPr>
          <p:spPr>
            <a:xfrm>
              <a:off x="5857200" y="2052720"/>
              <a:ext cx="833400" cy="241920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2419200"/>
                <a:gd name="textAreaBottom" fmla="*/ 2419560 h 2419200"/>
              </a:gdLst>
              <a:ahLst/>
              <a:rect l="textAreaLeft" t="textAreaTop" r="textAreaRight" b="textAreaBottom"/>
              <a:pathLst>
                <a:path w="495" h="1437">
                  <a:moveTo>
                    <a:pt x="474" y="7"/>
                  </a:moveTo>
                  <a:lnTo>
                    <a:pt x="444" y="4"/>
                  </a:lnTo>
                  <a:lnTo>
                    <a:pt x="407" y="2"/>
                  </a:lnTo>
                  <a:lnTo>
                    <a:pt x="371" y="0"/>
                  </a:lnTo>
                  <a:lnTo>
                    <a:pt x="334" y="2"/>
                  </a:lnTo>
                  <a:lnTo>
                    <a:pt x="298" y="4"/>
                  </a:lnTo>
                  <a:lnTo>
                    <a:pt x="261" y="9"/>
                  </a:lnTo>
                  <a:lnTo>
                    <a:pt x="227" y="15"/>
                  </a:lnTo>
                  <a:lnTo>
                    <a:pt x="192" y="23"/>
                  </a:lnTo>
                  <a:lnTo>
                    <a:pt x="163" y="30"/>
                  </a:lnTo>
                  <a:lnTo>
                    <a:pt x="163" y="32"/>
                  </a:lnTo>
                  <a:lnTo>
                    <a:pt x="163" y="34"/>
                  </a:lnTo>
                  <a:lnTo>
                    <a:pt x="161" y="36"/>
                  </a:lnTo>
                  <a:lnTo>
                    <a:pt x="161" y="36"/>
                  </a:lnTo>
                  <a:lnTo>
                    <a:pt x="161" y="38"/>
                  </a:lnTo>
                  <a:lnTo>
                    <a:pt x="161" y="40"/>
                  </a:lnTo>
                  <a:lnTo>
                    <a:pt x="160" y="42"/>
                  </a:lnTo>
                  <a:lnTo>
                    <a:pt x="160" y="42"/>
                  </a:lnTo>
                  <a:lnTo>
                    <a:pt x="160" y="42"/>
                  </a:lnTo>
                  <a:lnTo>
                    <a:pt x="194" y="32"/>
                  </a:lnTo>
                  <a:lnTo>
                    <a:pt x="229" y="25"/>
                  </a:lnTo>
                  <a:lnTo>
                    <a:pt x="263" y="19"/>
                  </a:lnTo>
                  <a:lnTo>
                    <a:pt x="298" y="15"/>
                  </a:lnTo>
                  <a:lnTo>
                    <a:pt x="334" y="11"/>
                  </a:lnTo>
                  <a:lnTo>
                    <a:pt x="371" y="11"/>
                  </a:lnTo>
                  <a:lnTo>
                    <a:pt x="407" y="11"/>
                  </a:lnTo>
                  <a:lnTo>
                    <a:pt x="444" y="15"/>
                  </a:lnTo>
                  <a:lnTo>
                    <a:pt x="469" y="17"/>
                  </a:lnTo>
                  <a:lnTo>
                    <a:pt x="471" y="17"/>
                  </a:lnTo>
                  <a:lnTo>
                    <a:pt x="471" y="15"/>
                  </a:lnTo>
                  <a:lnTo>
                    <a:pt x="471" y="13"/>
                  </a:lnTo>
                  <a:lnTo>
                    <a:pt x="472" y="13"/>
                  </a:lnTo>
                  <a:lnTo>
                    <a:pt x="472" y="11"/>
                  </a:lnTo>
                  <a:lnTo>
                    <a:pt x="474" y="11"/>
                  </a:lnTo>
                  <a:lnTo>
                    <a:pt x="474" y="9"/>
                  </a:lnTo>
                  <a:lnTo>
                    <a:pt x="474" y="7"/>
                  </a:lnTo>
                  <a:close/>
                  <a:moveTo>
                    <a:pt x="2" y="1335"/>
                  </a:moveTo>
                  <a:lnTo>
                    <a:pt x="29" y="1350"/>
                  </a:lnTo>
                  <a:lnTo>
                    <a:pt x="60" y="1366"/>
                  </a:lnTo>
                  <a:lnTo>
                    <a:pt x="90" y="1381"/>
                  </a:lnTo>
                  <a:lnTo>
                    <a:pt x="123" y="1395"/>
                  </a:lnTo>
                  <a:lnTo>
                    <a:pt x="158" y="1404"/>
                  </a:lnTo>
                  <a:lnTo>
                    <a:pt x="192" y="1414"/>
                  </a:lnTo>
                  <a:lnTo>
                    <a:pt x="227" y="1423"/>
                  </a:lnTo>
                  <a:lnTo>
                    <a:pt x="261" y="1429"/>
                  </a:lnTo>
                  <a:lnTo>
                    <a:pt x="298" y="1433"/>
                  </a:lnTo>
                  <a:lnTo>
                    <a:pt x="334" y="1437"/>
                  </a:lnTo>
                  <a:lnTo>
                    <a:pt x="371" y="1437"/>
                  </a:lnTo>
                  <a:lnTo>
                    <a:pt x="407" y="1437"/>
                  </a:lnTo>
                  <a:lnTo>
                    <a:pt x="444" y="1433"/>
                  </a:lnTo>
                  <a:lnTo>
                    <a:pt x="480" y="1429"/>
                  </a:lnTo>
                  <a:lnTo>
                    <a:pt x="495" y="1425"/>
                  </a:lnTo>
                  <a:lnTo>
                    <a:pt x="495" y="1425"/>
                  </a:lnTo>
                  <a:lnTo>
                    <a:pt x="494" y="1423"/>
                  </a:lnTo>
                  <a:lnTo>
                    <a:pt x="494" y="1423"/>
                  </a:lnTo>
                  <a:lnTo>
                    <a:pt x="494" y="1421"/>
                  </a:lnTo>
                  <a:lnTo>
                    <a:pt x="492" y="1420"/>
                  </a:lnTo>
                  <a:lnTo>
                    <a:pt x="492" y="1420"/>
                  </a:lnTo>
                  <a:lnTo>
                    <a:pt x="490" y="1418"/>
                  </a:lnTo>
                  <a:lnTo>
                    <a:pt x="490" y="1416"/>
                  </a:lnTo>
                  <a:lnTo>
                    <a:pt x="478" y="1418"/>
                  </a:lnTo>
                  <a:lnTo>
                    <a:pt x="444" y="1423"/>
                  </a:lnTo>
                  <a:lnTo>
                    <a:pt x="407" y="1425"/>
                  </a:lnTo>
                  <a:lnTo>
                    <a:pt x="371" y="1427"/>
                  </a:lnTo>
                  <a:lnTo>
                    <a:pt x="334" y="1425"/>
                  </a:lnTo>
                  <a:lnTo>
                    <a:pt x="298" y="1423"/>
                  </a:lnTo>
                  <a:lnTo>
                    <a:pt x="263" y="1418"/>
                  </a:lnTo>
                  <a:lnTo>
                    <a:pt x="229" y="1412"/>
                  </a:lnTo>
                  <a:lnTo>
                    <a:pt x="194" y="1404"/>
                  </a:lnTo>
                  <a:lnTo>
                    <a:pt x="160" y="1395"/>
                  </a:lnTo>
                  <a:lnTo>
                    <a:pt x="127" y="1383"/>
                  </a:lnTo>
                  <a:lnTo>
                    <a:pt x="96" y="1372"/>
                  </a:lnTo>
                  <a:lnTo>
                    <a:pt x="64" y="1356"/>
                  </a:lnTo>
                  <a:lnTo>
                    <a:pt x="33" y="1341"/>
                  </a:lnTo>
                  <a:lnTo>
                    <a:pt x="4" y="1324"/>
                  </a:lnTo>
                  <a:lnTo>
                    <a:pt x="0" y="1322"/>
                  </a:lnTo>
                  <a:lnTo>
                    <a:pt x="0" y="1324"/>
                  </a:lnTo>
                  <a:lnTo>
                    <a:pt x="0" y="1326"/>
                  </a:lnTo>
                  <a:lnTo>
                    <a:pt x="0" y="1327"/>
                  </a:lnTo>
                  <a:lnTo>
                    <a:pt x="0" y="1329"/>
                  </a:lnTo>
                  <a:lnTo>
                    <a:pt x="2" y="1329"/>
                  </a:lnTo>
                  <a:lnTo>
                    <a:pt x="2" y="1331"/>
                  </a:lnTo>
                  <a:lnTo>
                    <a:pt x="2" y="1333"/>
                  </a:lnTo>
                  <a:lnTo>
                    <a:pt x="2" y="1335"/>
                  </a:lnTo>
                  <a:close/>
                </a:path>
              </a:pathLst>
            </a:custGeom>
            <a:solidFill>
              <a:srgbClr val="79c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Freeform 394"/>
            <p:cNvSpPr/>
            <p:nvPr/>
          </p:nvSpPr>
          <p:spPr>
            <a:xfrm>
              <a:off x="5857200" y="2061000"/>
              <a:ext cx="831600" cy="2400840"/>
            </a:xfrm>
            <a:custGeom>
              <a:avLst/>
              <a:gdLst>
                <a:gd name="textAreaLeft" fmla="*/ 0 w 831600"/>
                <a:gd name="textAreaRight" fmla="*/ 831960 w 831600"/>
                <a:gd name="textAreaTop" fmla="*/ 0 h 2400840"/>
                <a:gd name="textAreaBottom" fmla="*/ 2401200 h 2400840"/>
              </a:gdLst>
              <a:ahLst/>
              <a:rect l="textAreaLeft" t="textAreaTop" r="textAreaRight" b="textAreaBottom"/>
              <a:pathLst>
                <a:path w="494" h="1426">
                  <a:moveTo>
                    <a:pt x="472" y="8"/>
                  </a:moveTo>
                  <a:lnTo>
                    <a:pt x="444" y="4"/>
                  </a:lnTo>
                  <a:lnTo>
                    <a:pt x="407" y="2"/>
                  </a:lnTo>
                  <a:lnTo>
                    <a:pt x="371" y="0"/>
                  </a:lnTo>
                  <a:lnTo>
                    <a:pt x="334" y="2"/>
                  </a:lnTo>
                  <a:lnTo>
                    <a:pt x="298" y="4"/>
                  </a:lnTo>
                  <a:lnTo>
                    <a:pt x="261" y="8"/>
                  </a:lnTo>
                  <a:lnTo>
                    <a:pt x="227" y="16"/>
                  </a:lnTo>
                  <a:lnTo>
                    <a:pt x="192" y="24"/>
                  </a:lnTo>
                  <a:lnTo>
                    <a:pt x="161" y="31"/>
                  </a:lnTo>
                  <a:lnTo>
                    <a:pt x="161" y="33"/>
                  </a:lnTo>
                  <a:lnTo>
                    <a:pt x="161" y="35"/>
                  </a:lnTo>
                  <a:lnTo>
                    <a:pt x="160" y="37"/>
                  </a:lnTo>
                  <a:lnTo>
                    <a:pt x="160" y="39"/>
                  </a:lnTo>
                  <a:lnTo>
                    <a:pt x="160" y="39"/>
                  </a:lnTo>
                  <a:lnTo>
                    <a:pt x="160" y="41"/>
                  </a:lnTo>
                  <a:lnTo>
                    <a:pt x="158" y="43"/>
                  </a:lnTo>
                  <a:lnTo>
                    <a:pt x="158" y="45"/>
                  </a:lnTo>
                  <a:lnTo>
                    <a:pt x="161" y="43"/>
                  </a:lnTo>
                  <a:lnTo>
                    <a:pt x="196" y="33"/>
                  </a:lnTo>
                  <a:lnTo>
                    <a:pt x="229" y="25"/>
                  </a:lnTo>
                  <a:lnTo>
                    <a:pt x="263" y="20"/>
                  </a:lnTo>
                  <a:lnTo>
                    <a:pt x="300" y="14"/>
                  </a:lnTo>
                  <a:lnTo>
                    <a:pt x="334" y="12"/>
                  </a:lnTo>
                  <a:lnTo>
                    <a:pt x="371" y="12"/>
                  </a:lnTo>
                  <a:lnTo>
                    <a:pt x="407" y="12"/>
                  </a:lnTo>
                  <a:lnTo>
                    <a:pt x="444" y="14"/>
                  </a:lnTo>
                  <a:lnTo>
                    <a:pt x="467" y="18"/>
                  </a:lnTo>
                  <a:lnTo>
                    <a:pt x="467" y="16"/>
                  </a:lnTo>
                  <a:lnTo>
                    <a:pt x="467" y="16"/>
                  </a:lnTo>
                  <a:lnTo>
                    <a:pt x="469" y="14"/>
                  </a:lnTo>
                  <a:lnTo>
                    <a:pt x="469" y="12"/>
                  </a:lnTo>
                  <a:lnTo>
                    <a:pt x="471" y="12"/>
                  </a:lnTo>
                  <a:lnTo>
                    <a:pt x="471" y="10"/>
                  </a:lnTo>
                  <a:lnTo>
                    <a:pt x="471" y="8"/>
                  </a:lnTo>
                  <a:lnTo>
                    <a:pt x="472" y="8"/>
                  </a:lnTo>
                  <a:close/>
                  <a:moveTo>
                    <a:pt x="0" y="1324"/>
                  </a:moveTo>
                  <a:lnTo>
                    <a:pt x="31" y="1342"/>
                  </a:lnTo>
                  <a:lnTo>
                    <a:pt x="62" y="1357"/>
                  </a:lnTo>
                  <a:lnTo>
                    <a:pt x="92" y="1370"/>
                  </a:lnTo>
                  <a:lnTo>
                    <a:pt x="125" y="1384"/>
                  </a:lnTo>
                  <a:lnTo>
                    <a:pt x="160" y="1395"/>
                  </a:lnTo>
                  <a:lnTo>
                    <a:pt x="192" y="1405"/>
                  </a:lnTo>
                  <a:lnTo>
                    <a:pt x="227" y="1413"/>
                  </a:lnTo>
                  <a:lnTo>
                    <a:pt x="261" y="1418"/>
                  </a:lnTo>
                  <a:lnTo>
                    <a:pt x="298" y="1424"/>
                  </a:lnTo>
                  <a:lnTo>
                    <a:pt x="334" y="1426"/>
                  </a:lnTo>
                  <a:lnTo>
                    <a:pt x="371" y="1426"/>
                  </a:lnTo>
                  <a:lnTo>
                    <a:pt x="407" y="1426"/>
                  </a:lnTo>
                  <a:lnTo>
                    <a:pt x="444" y="1424"/>
                  </a:lnTo>
                  <a:lnTo>
                    <a:pt x="480" y="1418"/>
                  </a:lnTo>
                  <a:lnTo>
                    <a:pt x="494" y="1416"/>
                  </a:lnTo>
                  <a:lnTo>
                    <a:pt x="492" y="1415"/>
                  </a:lnTo>
                  <a:lnTo>
                    <a:pt x="492" y="1415"/>
                  </a:lnTo>
                  <a:lnTo>
                    <a:pt x="490" y="1413"/>
                  </a:lnTo>
                  <a:lnTo>
                    <a:pt x="490" y="1411"/>
                  </a:lnTo>
                  <a:lnTo>
                    <a:pt x="490" y="1411"/>
                  </a:lnTo>
                  <a:lnTo>
                    <a:pt x="488" y="1409"/>
                  </a:lnTo>
                  <a:lnTo>
                    <a:pt x="488" y="1409"/>
                  </a:lnTo>
                  <a:lnTo>
                    <a:pt x="486" y="1407"/>
                  </a:lnTo>
                  <a:lnTo>
                    <a:pt x="478" y="1409"/>
                  </a:lnTo>
                  <a:lnTo>
                    <a:pt x="444" y="1413"/>
                  </a:lnTo>
                  <a:lnTo>
                    <a:pt x="407" y="1415"/>
                  </a:lnTo>
                  <a:lnTo>
                    <a:pt x="371" y="1416"/>
                  </a:lnTo>
                  <a:lnTo>
                    <a:pt x="334" y="1415"/>
                  </a:lnTo>
                  <a:lnTo>
                    <a:pt x="300" y="1413"/>
                  </a:lnTo>
                  <a:lnTo>
                    <a:pt x="263" y="1409"/>
                  </a:lnTo>
                  <a:lnTo>
                    <a:pt x="229" y="1401"/>
                  </a:lnTo>
                  <a:lnTo>
                    <a:pt x="196" y="1393"/>
                  </a:lnTo>
                  <a:lnTo>
                    <a:pt x="161" y="1384"/>
                  </a:lnTo>
                  <a:lnTo>
                    <a:pt x="129" y="1374"/>
                  </a:lnTo>
                  <a:lnTo>
                    <a:pt x="98" y="1361"/>
                  </a:lnTo>
                  <a:lnTo>
                    <a:pt x="66" y="1347"/>
                  </a:lnTo>
                  <a:lnTo>
                    <a:pt x="37" y="1332"/>
                  </a:lnTo>
                  <a:lnTo>
                    <a:pt x="6" y="1315"/>
                  </a:lnTo>
                  <a:lnTo>
                    <a:pt x="0" y="1311"/>
                  </a:lnTo>
                  <a:lnTo>
                    <a:pt x="0" y="1313"/>
                  </a:lnTo>
                  <a:lnTo>
                    <a:pt x="0" y="1313"/>
                  </a:lnTo>
                  <a:lnTo>
                    <a:pt x="0" y="1315"/>
                  </a:lnTo>
                  <a:lnTo>
                    <a:pt x="0" y="1317"/>
                  </a:lnTo>
                  <a:lnTo>
                    <a:pt x="0" y="1319"/>
                  </a:lnTo>
                  <a:lnTo>
                    <a:pt x="0" y="1321"/>
                  </a:lnTo>
                  <a:lnTo>
                    <a:pt x="0" y="1322"/>
                  </a:lnTo>
                  <a:lnTo>
                    <a:pt x="0" y="1324"/>
                  </a:lnTo>
                  <a:close/>
                </a:path>
              </a:pathLst>
            </a:custGeom>
            <a:solidFill>
              <a:srgbClr val="7ac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Freeform 395"/>
            <p:cNvSpPr/>
            <p:nvPr/>
          </p:nvSpPr>
          <p:spPr>
            <a:xfrm>
              <a:off x="5857200" y="2071080"/>
              <a:ext cx="825120" cy="2384280"/>
            </a:xfrm>
            <a:custGeom>
              <a:avLst/>
              <a:gdLst>
                <a:gd name="textAreaLeft" fmla="*/ 0 w 825120"/>
                <a:gd name="textAreaRight" fmla="*/ 825480 w 825120"/>
                <a:gd name="textAreaTop" fmla="*/ 0 h 2384280"/>
                <a:gd name="textAreaBottom" fmla="*/ 2384640 h 2384280"/>
              </a:gdLst>
              <a:ahLst/>
              <a:rect l="textAreaLeft" t="textAreaTop" r="textAreaRight" b="textAreaBottom"/>
              <a:pathLst>
                <a:path w="490" h="1416">
                  <a:moveTo>
                    <a:pt x="469" y="6"/>
                  </a:moveTo>
                  <a:lnTo>
                    <a:pt x="444" y="4"/>
                  </a:lnTo>
                  <a:lnTo>
                    <a:pt x="407" y="0"/>
                  </a:lnTo>
                  <a:lnTo>
                    <a:pt x="371" y="0"/>
                  </a:lnTo>
                  <a:lnTo>
                    <a:pt x="334" y="0"/>
                  </a:lnTo>
                  <a:lnTo>
                    <a:pt x="298" y="4"/>
                  </a:lnTo>
                  <a:lnTo>
                    <a:pt x="263" y="8"/>
                  </a:lnTo>
                  <a:lnTo>
                    <a:pt x="229" y="14"/>
                  </a:lnTo>
                  <a:lnTo>
                    <a:pt x="194" y="21"/>
                  </a:lnTo>
                  <a:lnTo>
                    <a:pt x="160" y="31"/>
                  </a:lnTo>
                  <a:lnTo>
                    <a:pt x="160" y="31"/>
                  </a:lnTo>
                  <a:lnTo>
                    <a:pt x="160" y="33"/>
                  </a:lnTo>
                  <a:lnTo>
                    <a:pt x="160" y="35"/>
                  </a:lnTo>
                  <a:lnTo>
                    <a:pt x="158" y="37"/>
                  </a:lnTo>
                  <a:lnTo>
                    <a:pt x="158" y="39"/>
                  </a:lnTo>
                  <a:lnTo>
                    <a:pt x="158" y="41"/>
                  </a:lnTo>
                  <a:lnTo>
                    <a:pt x="158" y="41"/>
                  </a:lnTo>
                  <a:lnTo>
                    <a:pt x="156" y="42"/>
                  </a:lnTo>
                  <a:lnTo>
                    <a:pt x="156" y="44"/>
                  </a:lnTo>
                  <a:lnTo>
                    <a:pt x="163" y="42"/>
                  </a:lnTo>
                  <a:lnTo>
                    <a:pt x="196" y="33"/>
                  </a:lnTo>
                  <a:lnTo>
                    <a:pt x="231" y="25"/>
                  </a:lnTo>
                  <a:lnTo>
                    <a:pt x="265" y="19"/>
                  </a:lnTo>
                  <a:lnTo>
                    <a:pt x="300" y="14"/>
                  </a:lnTo>
                  <a:lnTo>
                    <a:pt x="334" y="12"/>
                  </a:lnTo>
                  <a:lnTo>
                    <a:pt x="371" y="10"/>
                  </a:lnTo>
                  <a:lnTo>
                    <a:pt x="407" y="12"/>
                  </a:lnTo>
                  <a:lnTo>
                    <a:pt x="442" y="14"/>
                  </a:lnTo>
                  <a:lnTo>
                    <a:pt x="463" y="18"/>
                  </a:lnTo>
                  <a:lnTo>
                    <a:pt x="463" y="16"/>
                  </a:lnTo>
                  <a:lnTo>
                    <a:pt x="465" y="14"/>
                  </a:lnTo>
                  <a:lnTo>
                    <a:pt x="465" y="14"/>
                  </a:lnTo>
                  <a:lnTo>
                    <a:pt x="467" y="12"/>
                  </a:lnTo>
                  <a:lnTo>
                    <a:pt x="467" y="10"/>
                  </a:lnTo>
                  <a:lnTo>
                    <a:pt x="467" y="10"/>
                  </a:lnTo>
                  <a:lnTo>
                    <a:pt x="469" y="8"/>
                  </a:lnTo>
                  <a:lnTo>
                    <a:pt x="469" y="6"/>
                  </a:lnTo>
                  <a:close/>
                  <a:moveTo>
                    <a:pt x="0" y="1311"/>
                  </a:moveTo>
                  <a:lnTo>
                    <a:pt x="4" y="1313"/>
                  </a:lnTo>
                  <a:lnTo>
                    <a:pt x="33" y="1330"/>
                  </a:lnTo>
                  <a:lnTo>
                    <a:pt x="64" y="1345"/>
                  </a:lnTo>
                  <a:lnTo>
                    <a:pt x="96" y="1361"/>
                  </a:lnTo>
                  <a:lnTo>
                    <a:pt x="127" y="1372"/>
                  </a:lnTo>
                  <a:lnTo>
                    <a:pt x="160" y="1384"/>
                  </a:lnTo>
                  <a:lnTo>
                    <a:pt x="194" y="1393"/>
                  </a:lnTo>
                  <a:lnTo>
                    <a:pt x="229" y="1401"/>
                  </a:lnTo>
                  <a:lnTo>
                    <a:pt x="263" y="1407"/>
                  </a:lnTo>
                  <a:lnTo>
                    <a:pt x="298" y="1412"/>
                  </a:lnTo>
                  <a:lnTo>
                    <a:pt x="334" y="1414"/>
                  </a:lnTo>
                  <a:lnTo>
                    <a:pt x="371" y="1416"/>
                  </a:lnTo>
                  <a:lnTo>
                    <a:pt x="407" y="1414"/>
                  </a:lnTo>
                  <a:lnTo>
                    <a:pt x="444" y="1412"/>
                  </a:lnTo>
                  <a:lnTo>
                    <a:pt x="478" y="1407"/>
                  </a:lnTo>
                  <a:lnTo>
                    <a:pt x="490" y="1405"/>
                  </a:lnTo>
                  <a:lnTo>
                    <a:pt x="490" y="1405"/>
                  </a:lnTo>
                  <a:lnTo>
                    <a:pt x="488" y="1403"/>
                  </a:lnTo>
                  <a:lnTo>
                    <a:pt x="488" y="1403"/>
                  </a:lnTo>
                  <a:lnTo>
                    <a:pt x="486" y="1401"/>
                  </a:lnTo>
                  <a:lnTo>
                    <a:pt x="486" y="1399"/>
                  </a:lnTo>
                  <a:lnTo>
                    <a:pt x="486" y="1399"/>
                  </a:lnTo>
                  <a:lnTo>
                    <a:pt x="484" y="1397"/>
                  </a:lnTo>
                  <a:lnTo>
                    <a:pt x="484" y="1395"/>
                  </a:lnTo>
                  <a:lnTo>
                    <a:pt x="476" y="1397"/>
                  </a:lnTo>
                  <a:lnTo>
                    <a:pt x="442" y="1401"/>
                  </a:lnTo>
                  <a:lnTo>
                    <a:pt x="407" y="1405"/>
                  </a:lnTo>
                  <a:lnTo>
                    <a:pt x="371" y="1405"/>
                  </a:lnTo>
                  <a:lnTo>
                    <a:pt x="334" y="1405"/>
                  </a:lnTo>
                  <a:lnTo>
                    <a:pt x="300" y="1401"/>
                  </a:lnTo>
                  <a:lnTo>
                    <a:pt x="265" y="1397"/>
                  </a:lnTo>
                  <a:lnTo>
                    <a:pt x="231" y="1391"/>
                  </a:lnTo>
                  <a:lnTo>
                    <a:pt x="196" y="1384"/>
                  </a:lnTo>
                  <a:lnTo>
                    <a:pt x="163" y="1374"/>
                  </a:lnTo>
                  <a:lnTo>
                    <a:pt x="131" y="1363"/>
                  </a:lnTo>
                  <a:lnTo>
                    <a:pt x="100" y="1351"/>
                  </a:lnTo>
                  <a:lnTo>
                    <a:pt x="69" y="1336"/>
                  </a:lnTo>
                  <a:lnTo>
                    <a:pt x="39" y="1320"/>
                  </a:lnTo>
                  <a:lnTo>
                    <a:pt x="10" y="1305"/>
                  </a:lnTo>
                  <a:lnTo>
                    <a:pt x="0" y="1297"/>
                  </a:lnTo>
                  <a:lnTo>
                    <a:pt x="0" y="1299"/>
                  </a:lnTo>
                  <a:lnTo>
                    <a:pt x="0" y="1301"/>
                  </a:lnTo>
                  <a:lnTo>
                    <a:pt x="0" y="1303"/>
                  </a:lnTo>
                  <a:lnTo>
                    <a:pt x="0" y="1305"/>
                  </a:lnTo>
                  <a:lnTo>
                    <a:pt x="0" y="1307"/>
                  </a:lnTo>
                  <a:lnTo>
                    <a:pt x="0" y="1307"/>
                  </a:lnTo>
                  <a:lnTo>
                    <a:pt x="0" y="1309"/>
                  </a:lnTo>
                  <a:lnTo>
                    <a:pt x="0" y="1311"/>
                  </a:lnTo>
                  <a:close/>
                </a:path>
              </a:pathLst>
            </a:custGeom>
            <a:solidFill>
              <a:srgbClr val="7bc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Freeform 396"/>
            <p:cNvSpPr/>
            <p:nvPr/>
          </p:nvSpPr>
          <p:spPr>
            <a:xfrm>
              <a:off x="5853960" y="2081160"/>
              <a:ext cx="821520" cy="2363760"/>
            </a:xfrm>
            <a:custGeom>
              <a:avLst/>
              <a:gdLst>
                <a:gd name="textAreaLeft" fmla="*/ 0 w 821520"/>
                <a:gd name="textAreaRight" fmla="*/ 821880 w 821520"/>
                <a:gd name="textAreaTop" fmla="*/ 0 h 2363760"/>
                <a:gd name="textAreaBottom" fmla="*/ 2364120 h 2363760"/>
              </a:gdLst>
              <a:ahLst/>
              <a:rect l="textAreaLeft" t="textAreaTop" r="textAreaRight" b="textAreaBottom"/>
              <a:pathLst>
                <a:path w="488" h="1404">
                  <a:moveTo>
                    <a:pt x="469" y="6"/>
                  </a:moveTo>
                  <a:lnTo>
                    <a:pt x="446" y="2"/>
                  </a:lnTo>
                  <a:lnTo>
                    <a:pt x="409" y="0"/>
                  </a:lnTo>
                  <a:lnTo>
                    <a:pt x="373" y="0"/>
                  </a:lnTo>
                  <a:lnTo>
                    <a:pt x="336" y="0"/>
                  </a:lnTo>
                  <a:lnTo>
                    <a:pt x="302" y="2"/>
                  </a:lnTo>
                  <a:lnTo>
                    <a:pt x="265" y="8"/>
                  </a:lnTo>
                  <a:lnTo>
                    <a:pt x="231" y="13"/>
                  </a:lnTo>
                  <a:lnTo>
                    <a:pt x="198" y="21"/>
                  </a:lnTo>
                  <a:lnTo>
                    <a:pt x="163" y="31"/>
                  </a:lnTo>
                  <a:lnTo>
                    <a:pt x="160" y="33"/>
                  </a:lnTo>
                  <a:lnTo>
                    <a:pt x="160" y="35"/>
                  </a:lnTo>
                  <a:lnTo>
                    <a:pt x="160" y="35"/>
                  </a:lnTo>
                  <a:lnTo>
                    <a:pt x="158" y="36"/>
                  </a:lnTo>
                  <a:lnTo>
                    <a:pt x="158" y="38"/>
                  </a:lnTo>
                  <a:lnTo>
                    <a:pt x="158" y="40"/>
                  </a:lnTo>
                  <a:lnTo>
                    <a:pt x="156" y="42"/>
                  </a:lnTo>
                  <a:lnTo>
                    <a:pt x="156" y="44"/>
                  </a:lnTo>
                  <a:lnTo>
                    <a:pt x="156" y="44"/>
                  </a:lnTo>
                  <a:lnTo>
                    <a:pt x="167" y="40"/>
                  </a:lnTo>
                  <a:lnTo>
                    <a:pt x="200" y="33"/>
                  </a:lnTo>
                  <a:lnTo>
                    <a:pt x="233" y="23"/>
                  </a:lnTo>
                  <a:lnTo>
                    <a:pt x="267" y="17"/>
                  </a:lnTo>
                  <a:lnTo>
                    <a:pt x="302" y="13"/>
                  </a:lnTo>
                  <a:lnTo>
                    <a:pt x="338" y="12"/>
                  </a:lnTo>
                  <a:lnTo>
                    <a:pt x="373" y="10"/>
                  </a:lnTo>
                  <a:lnTo>
                    <a:pt x="409" y="12"/>
                  </a:lnTo>
                  <a:lnTo>
                    <a:pt x="444" y="13"/>
                  </a:lnTo>
                  <a:lnTo>
                    <a:pt x="461" y="15"/>
                  </a:lnTo>
                  <a:lnTo>
                    <a:pt x="463" y="15"/>
                  </a:lnTo>
                  <a:lnTo>
                    <a:pt x="463" y="13"/>
                  </a:lnTo>
                  <a:lnTo>
                    <a:pt x="465" y="12"/>
                  </a:lnTo>
                  <a:lnTo>
                    <a:pt x="465" y="12"/>
                  </a:lnTo>
                  <a:lnTo>
                    <a:pt x="465" y="10"/>
                  </a:lnTo>
                  <a:lnTo>
                    <a:pt x="467" y="8"/>
                  </a:lnTo>
                  <a:lnTo>
                    <a:pt x="467" y="8"/>
                  </a:lnTo>
                  <a:lnTo>
                    <a:pt x="469" y="6"/>
                  </a:lnTo>
                  <a:close/>
                  <a:moveTo>
                    <a:pt x="2" y="1299"/>
                  </a:moveTo>
                  <a:lnTo>
                    <a:pt x="8" y="1303"/>
                  </a:lnTo>
                  <a:lnTo>
                    <a:pt x="39" y="1320"/>
                  </a:lnTo>
                  <a:lnTo>
                    <a:pt x="68" y="1335"/>
                  </a:lnTo>
                  <a:lnTo>
                    <a:pt x="100" y="1349"/>
                  </a:lnTo>
                  <a:lnTo>
                    <a:pt x="131" y="1362"/>
                  </a:lnTo>
                  <a:lnTo>
                    <a:pt x="163" y="1372"/>
                  </a:lnTo>
                  <a:lnTo>
                    <a:pt x="198" y="1381"/>
                  </a:lnTo>
                  <a:lnTo>
                    <a:pt x="231" y="1389"/>
                  </a:lnTo>
                  <a:lnTo>
                    <a:pt x="265" y="1397"/>
                  </a:lnTo>
                  <a:lnTo>
                    <a:pt x="302" y="1401"/>
                  </a:lnTo>
                  <a:lnTo>
                    <a:pt x="336" y="1403"/>
                  </a:lnTo>
                  <a:lnTo>
                    <a:pt x="373" y="1404"/>
                  </a:lnTo>
                  <a:lnTo>
                    <a:pt x="409" y="1403"/>
                  </a:lnTo>
                  <a:lnTo>
                    <a:pt x="446" y="1401"/>
                  </a:lnTo>
                  <a:lnTo>
                    <a:pt x="480" y="1397"/>
                  </a:lnTo>
                  <a:lnTo>
                    <a:pt x="488" y="1395"/>
                  </a:lnTo>
                  <a:lnTo>
                    <a:pt x="488" y="1393"/>
                  </a:lnTo>
                  <a:lnTo>
                    <a:pt x="488" y="1393"/>
                  </a:lnTo>
                  <a:lnTo>
                    <a:pt x="486" y="1391"/>
                  </a:lnTo>
                  <a:lnTo>
                    <a:pt x="486" y="1389"/>
                  </a:lnTo>
                  <a:lnTo>
                    <a:pt x="484" y="1389"/>
                  </a:lnTo>
                  <a:lnTo>
                    <a:pt x="484" y="1387"/>
                  </a:lnTo>
                  <a:lnTo>
                    <a:pt x="484" y="1385"/>
                  </a:lnTo>
                  <a:lnTo>
                    <a:pt x="482" y="1385"/>
                  </a:lnTo>
                  <a:lnTo>
                    <a:pt x="478" y="1385"/>
                  </a:lnTo>
                  <a:lnTo>
                    <a:pt x="444" y="1391"/>
                  </a:lnTo>
                  <a:lnTo>
                    <a:pt x="409" y="1393"/>
                  </a:lnTo>
                  <a:lnTo>
                    <a:pt x="373" y="1393"/>
                  </a:lnTo>
                  <a:lnTo>
                    <a:pt x="338" y="1393"/>
                  </a:lnTo>
                  <a:lnTo>
                    <a:pt x="302" y="1391"/>
                  </a:lnTo>
                  <a:lnTo>
                    <a:pt x="267" y="1385"/>
                  </a:lnTo>
                  <a:lnTo>
                    <a:pt x="233" y="1380"/>
                  </a:lnTo>
                  <a:lnTo>
                    <a:pt x="200" y="1372"/>
                  </a:lnTo>
                  <a:lnTo>
                    <a:pt x="167" y="1362"/>
                  </a:lnTo>
                  <a:lnTo>
                    <a:pt x="135" y="1351"/>
                  </a:lnTo>
                  <a:lnTo>
                    <a:pt x="104" y="1339"/>
                  </a:lnTo>
                  <a:lnTo>
                    <a:pt x="73" y="1326"/>
                  </a:lnTo>
                  <a:lnTo>
                    <a:pt x="43" y="1310"/>
                  </a:lnTo>
                  <a:lnTo>
                    <a:pt x="14" y="1293"/>
                  </a:lnTo>
                  <a:lnTo>
                    <a:pt x="0" y="1286"/>
                  </a:lnTo>
                  <a:lnTo>
                    <a:pt x="0" y="1287"/>
                  </a:lnTo>
                  <a:lnTo>
                    <a:pt x="0" y="1287"/>
                  </a:lnTo>
                  <a:lnTo>
                    <a:pt x="0" y="1289"/>
                  </a:lnTo>
                  <a:lnTo>
                    <a:pt x="2" y="1291"/>
                  </a:lnTo>
                  <a:lnTo>
                    <a:pt x="2" y="1293"/>
                  </a:lnTo>
                  <a:lnTo>
                    <a:pt x="2" y="1295"/>
                  </a:lnTo>
                  <a:lnTo>
                    <a:pt x="2" y="1297"/>
                  </a:lnTo>
                  <a:lnTo>
                    <a:pt x="2" y="1299"/>
                  </a:lnTo>
                  <a:close/>
                </a:path>
              </a:pathLst>
            </a:custGeom>
            <a:solidFill>
              <a:srgbClr val="7cc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Freeform 397"/>
            <p:cNvSpPr/>
            <p:nvPr/>
          </p:nvSpPr>
          <p:spPr>
            <a:xfrm>
              <a:off x="5853960" y="2087640"/>
              <a:ext cx="818280" cy="2349000"/>
            </a:xfrm>
            <a:custGeom>
              <a:avLst/>
              <a:gdLst>
                <a:gd name="textAreaLeft" fmla="*/ 0 w 818280"/>
                <a:gd name="textAreaRight" fmla="*/ 818640 w 818280"/>
                <a:gd name="textAreaTop" fmla="*/ 0 h 2349000"/>
                <a:gd name="textAreaBottom" fmla="*/ 2349360 h 2349000"/>
              </a:gdLst>
              <a:ahLst/>
              <a:rect l="textAreaLeft" t="textAreaTop" r="textAreaRight" b="textAreaBottom"/>
              <a:pathLst>
                <a:path w="486" h="1395">
                  <a:moveTo>
                    <a:pt x="465" y="8"/>
                  </a:moveTo>
                  <a:lnTo>
                    <a:pt x="444" y="4"/>
                  </a:lnTo>
                  <a:lnTo>
                    <a:pt x="409" y="2"/>
                  </a:lnTo>
                  <a:lnTo>
                    <a:pt x="373" y="0"/>
                  </a:lnTo>
                  <a:lnTo>
                    <a:pt x="336" y="2"/>
                  </a:lnTo>
                  <a:lnTo>
                    <a:pt x="302" y="4"/>
                  </a:lnTo>
                  <a:lnTo>
                    <a:pt x="267" y="9"/>
                  </a:lnTo>
                  <a:lnTo>
                    <a:pt x="233" y="15"/>
                  </a:lnTo>
                  <a:lnTo>
                    <a:pt x="198" y="23"/>
                  </a:lnTo>
                  <a:lnTo>
                    <a:pt x="165" y="32"/>
                  </a:lnTo>
                  <a:lnTo>
                    <a:pt x="158" y="34"/>
                  </a:lnTo>
                  <a:lnTo>
                    <a:pt x="158" y="36"/>
                  </a:lnTo>
                  <a:lnTo>
                    <a:pt x="156" y="38"/>
                  </a:lnTo>
                  <a:lnTo>
                    <a:pt x="156" y="40"/>
                  </a:lnTo>
                  <a:lnTo>
                    <a:pt x="156" y="40"/>
                  </a:lnTo>
                  <a:lnTo>
                    <a:pt x="156" y="42"/>
                  </a:lnTo>
                  <a:lnTo>
                    <a:pt x="154" y="44"/>
                  </a:lnTo>
                  <a:lnTo>
                    <a:pt x="154" y="46"/>
                  </a:lnTo>
                  <a:lnTo>
                    <a:pt x="154" y="48"/>
                  </a:lnTo>
                  <a:lnTo>
                    <a:pt x="169" y="42"/>
                  </a:lnTo>
                  <a:lnTo>
                    <a:pt x="202" y="32"/>
                  </a:lnTo>
                  <a:lnTo>
                    <a:pt x="235" y="25"/>
                  </a:lnTo>
                  <a:lnTo>
                    <a:pt x="269" y="19"/>
                  </a:lnTo>
                  <a:lnTo>
                    <a:pt x="304" y="15"/>
                  </a:lnTo>
                  <a:lnTo>
                    <a:pt x="338" y="11"/>
                  </a:lnTo>
                  <a:lnTo>
                    <a:pt x="373" y="11"/>
                  </a:lnTo>
                  <a:lnTo>
                    <a:pt x="407" y="11"/>
                  </a:lnTo>
                  <a:lnTo>
                    <a:pt x="444" y="15"/>
                  </a:lnTo>
                  <a:lnTo>
                    <a:pt x="459" y="17"/>
                  </a:lnTo>
                  <a:lnTo>
                    <a:pt x="459" y="15"/>
                  </a:lnTo>
                  <a:lnTo>
                    <a:pt x="461" y="15"/>
                  </a:lnTo>
                  <a:lnTo>
                    <a:pt x="461" y="13"/>
                  </a:lnTo>
                  <a:lnTo>
                    <a:pt x="461" y="11"/>
                  </a:lnTo>
                  <a:lnTo>
                    <a:pt x="463" y="11"/>
                  </a:lnTo>
                  <a:lnTo>
                    <a:pt x="463" y="9"/>
                  </a:lnTo>
                  <a:lnTo>
                    <a:pt x="465" y="8"/>
                  </a:lnTo>
                  <a:lnTo>
                    <a:pt x="465" y="8"/>
                  </a:lnTo>
                  <a:close/>
                  <a:moveTo>
                    <a:pt x="2" y="1287"/>
                  </a:moveTo>
                  <a:lnTo>
                    <a:pt x="12" y="1295"/>
                  </a:lnTo>
                  <a:lnTo>
                    <a:pt x="41" y="1310"/>
                  </a:lnTo>
                  <a:lnTo>
                    <a:pt x="71" y="1326"/>
                  </a:lnTo>
                  <a:lnTo>
                    <a:pt x="102" y="1341"/>
                  </a:lnTo>
                  <a:lnTo>
                    <a:pt x="133" y="1353"/>
                  </a:lnTo>
                  <a:lnTo>
                    <a:pt x="165" y="1364"/>
                  </a:lnTo>
                  <a:lnTo>
                    <a:pt x="198" y="1374"/>
                  </a:lnTo>
                  <a:lnTo>
                    <a:pt x="233" y="1381"/>
                  </a:lnTo>
                  <a:lnTo>
                    <a:pt x="267" y="1387"/>
                  </a:lnTo>
                  <a:lnTo>
                    <a:pt x="302" y="1391"/>
                  </a:lnTo>
                  <a:lnTo>
                    <a:pt x="336" y="1395"/>
                  </a:lnTo>
                  <a:lnTo>
                    <a:pt x="373" y="1395"/>
                  </a:lnTo>
                  <a:lnTo>
                    <a:pt x="409" y="1395"/>
                  </a:lnTo>
                  <a:lnTo>
                    <a:pt x="444" y="1391"/>
                  </a:lnTo>
                  <a:lnTo>
                    <a:pt x="478" y="1387"/>
                  </a:lnTo>
                  <a:lnTo>
                    <a:pt x="486" y="1385"/>
                  </a:lnTo>
                  <a:lnTo>
                    <a:pt x="484" y="1385"/>
                  </a:lnTo>
                  <a:lnTo>
                    <a:pt x="484" y="1383"/>
                  </a:lnTo>
                  <a:lnTo>
                    <a:pt x="484" y="1381"/>
                  </a:lnTo>
                  <a:lnTo>
                    <a:pt x="482" y="1381"/>
                  </a:lnTo>
                  <a:lnTo>
                    <a:pt x="482" y="1379"/>
                  </a:lnTo>
                  <a:lnTo>
                    <a:pt x="480" y="1379"/>
                  </a:lnTo>
                  <a:lnTo>
                    <a:pt x="480" y="1377"/>
                  </a:lnTo>
                  <a:lnTo>
                    <a:pt x="480" y="1376"/>
                  </a:lnTo>
                  <a:lnTo>
                    <a:pt x="478" y="1376"/>
                  </a:lnTo>
                  <a:lnTo>
                    <a:pt x="444" y="1381"/>
                  </a:lnTo>
                  <a:lnTo>
                    <a:pt x="407" y="1383"/>
                  </a:lnTo>
                  <a:lnTo>
                    <a:pt x="373" y="1385"/>
                  </a:lnTo>
                  <a:lnTo>
                    <a:pt x="338" y="1383"/>
                  </a:lnTo>
                  <a:lnTo>
                    <a:pt x="304" y="1381"/>
                  </a:lnTo>
                  <a:lnTo>
                    <a:pt x="269" y="1376"/>
                  </a:lnTo>
                  <a:lnTo>
                    <a:pt x="235" y="1370"/>
                  </a:lnTo>
                  <a:lnTo>
                    <a:pt x="202" y="1362"/>
                  </a:lnTo>
                  <a:lnTo>
                    <a:pt x="169" y="1354"/>
                  </a:lnTo>
                  <a:lnTo>
                    <a:pt x="137" y="1343"/>
                  </a:lnTo>
                  <a:lnTo>
                    <a:pt x="106" y="1329"/>
                  </a:lnTo>
                  <a:lnTo>
                    <a:pt x="75" y="1316"/>
                  </a:lnTo>
                  <a:lnTo>
                    <a:pt x="46" y="1301"/>
                  </a:lnTo>
                  <a:lnTo>
                    <a:pt x="18" y="1285"/>
                  </a:lnTo>
                  <a:lnTo>
                    <a:pt x="0" y="1274"/>
                  </a:lnTo>
                  <a:lnTo>
                    <a:pt x="0" y="1276"/>
                  </a:lnTo>
                  <a:lnTo>
                    <a:pt x="0" y="1278"/>
                  </a:lnTo>
                  <a:lnTo>
                    <a:pt x="0" y="1280"/>
                  </a:lnTo>
                  <a:lnTo>
                    <a:pt x="0" y="1282"/>
                  </a:lnTo>
                  <a:lnTo>
                    <a:pt x="0" y="1283"/>
                  </a:lnTo>
                  <a:lnTo>
                    <a:pt x="0" y="1283"/>
                  </a:lnTo>
                  <a:lnTo>
                    <a:pt x="0" y="1285"/>
                  </a:lnTo>
                  <a:lnTo>
                    <a:pt x="2" y="1287"/>
                  </a:lnTo>
                  <a:close/>
                </a:path>
              </a:pathLst>
            </a:custGeom>
            <a:solidFill>
              <a:srgbClr val="7dc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Freeform 398"/>
            <p:cNvSpPr/>
            <p:nvPr/>
          </p:nvSpPr>
          <p:spPr>
            <a:xfrm>
              <a:off x="5853960" y="2098080"/>
              <a:ext cx="811440" cy="2328480"/>
            </a:xfrm>
            <a:custGeom>
              <a:avLst/>
              <a:gdLst>
                <a:gd name="textAreaLeft" fmla="*/ 0 w 811440"/>
                <a:gd name="textAreaRight" fmla="*/ 811800 w 811440"/>
                <a:gd name="textAreaTop" fmla="*/ 0 h 2328480"/>
                <a:gd name="textAreaBottom" fmla="*/ 2328840 h 2328480"/>
              </a:gdLst>
              <a:ahLst/>
              <a:rect l="textAreaLeft" t="textAreaTop" r="textAreaRight" b="textAreaBottom"/>
              <a:pathLst>
                <a:path w="482" h="1383">
                  <a:moveTo>
                    <a:pt x="461" y="5"/>
                  </a:moveTo>
                  <a:lnTo>
                    <a:pt x="444" y="3"/>
                  </a:lnTo>
                  <a:lnTo>
                    <a:pt x="409" y="2"/>
                  </a:lnTo>
                  <a:lnTo>
                    <a:pt x="373" y="0"/>
                  </a:lnTo>
                  <a:lnTo>
                    <a:pt x="338" y="2"/>
                  </a:lnTo>
                  <a:lnTo>
                    <a:pt x="302" y="3"/>
                  </a:lnTo>
                  <a:lnTo>
                    <a:pt x="267" y="7"/>
                  </a:lnTo>
                  <a:lnTo>
                    <a:pt x="233" y="13"/>
                  </a:lnTo>
                  <a:lnTo>
                    <a:pt x="200" y="23"/>
                  </a:lnTo>
                  <a:lnTo>
                    <a:pt x="167" y="30"/>
                  </a:lnTo>
                  <a:lnTo>
                    <a:pt x="156" y="34"/>
                  </a:lnTo>
                  <a:lnTo>
                    <a:pt x="156" y="36"/>
                  </a:lnTo>
                  <a:lnTo>
                    <a:pt x="154" y="38"/>
                  </a:lnTo>
                  <a:lnTo>
                    <a:pt x="154" y="40"/>
                  </a:lnTo>
                  <a:lnTo>
                    <a:pt x="154" y="42"/>
                  </a:lnTo>
                  <a:lnTo>
                    <a:pt x="152" y="44"/>
                  </a:lnTo>
                  <a:lnTo>
                    <a:pt x="152" y="44"/>
                  </a:lnTo>
                  <a:lnTo>
                    <a:pt x="152" y="46"/>
                  </a:lnTo>
                  <a:lnTo>
                    <a:pt x="152" y="48"/>
                  </a:lnTo>
                  <a:lnTo>
                    <a:pt x="171" y="42"/>
                  </a:lnTo>
                  <a:lnTo>
                    <a:pt x="202" y="32"/>
                  </a:lnTo>
                  <a:lnTo>
                    <a:pt x="236" y="25"/>
                  </a:lnTo>
                  <a:lnTo>
                    <a:pt x="269" y="19"/>
                  </a:lnTo>
                  <a:lnTo>
                    <a:pt x="304" y="15"/>
                  </a:lnTo>
                  <a:lnTo>
                    <a:pt x="338" y="11"/>
                  </a:lnTo>
                  <a:lnTo>
                    <a:pt x="373" y="11"/>
                  </a:lnTo>
                  <a:lnTo>
                    <a:pt x="407" y="11"/>
                  </a:lnTo>
                  <a:lnTo>
                    <a:pt x="442" y="15"/>
                  </a:lnTo>
                  <a:lnTo>
                    <a:pt x="455" y="15"/>
                  </a:lnTo>
                  <a:lnTo>
                    <a:pt x="457" y="15"/>
                  </a:lnTo>
                  <a:lnTo>
                    <a:pt x="457" y="13"/>
                  </a:lnTo>
                  <a:lnTo>
                    <a:pt x="457" y="11"/>
                  </a:lnTo>
                  <a:lnTo>
                    <a:pt x="459" y="11"/>
                  </a:lnTo>
                  <a:lnTo>
                    <a:pt x="459" y="9"/>
                  </a:lnTo>
                  <a:lnTo>
                    <a:pt x="461" y="9"/>
                  </a:lnTo>
                  <a:lnTo>
                    <a:pt x="461" y="7"/>
                  </a:lnTo>
                  <a:lnTo>
                    <a:pt x="461" y="5"/>
                  </a:lnTo>
                  <a:close/>
                  <a:moveTo>
                    <a:pt x="0" y="1276"/>
                  </a:moveTo>
                  <a:lnTo>
                    <a:pt x="14" y="1283"/>
                  </a:lnTo>
                  <a:lnTo>
                    <a:pt x="43" y="1300"/>
                  </a:lnTo>
                  <a:lnTo>
                    <a:pt x="73" y="1316"/>
                  </a:lnTo>
                  <a:lnTo>
                    <a:pt x="104" y="1329"/>
                  </a:lnTo>
                  <a:lnTo>
                    <a:pt x="135" y="1341"/>
                  </a:lnTo>
                  <a:lnTo>
                    <a:pt x="167" y="1352"/>
                  </a:lnTo>
                  <a:lnTo>
                    <a:pt x="200" y="1362"/>
                  </a:lnTo>
                  <a:lnTo>
                    <a:pt x="233" y="1370"/>
                  </a:lnTo>
                  <a:lnTo>
                    <a:pt x="267" y="1375"/>
                  </a:lnTo>
                  <a:lnTo>
                    <a:pt x="302" y="1381"/>
                  </a:lnTo>
                  <a:lnTo>
                    <a:pt x="338" y="1383"/>
                  </a:lnTo>
                  <a:lnTo>
                    <a:pt x="373" y="1383"/>
                  </a:lnTo>
                  <a:lnTo>
                    <a:pt x="409" y="1383"/>
                  </a:lnTo>
                  <a:lnTo>
                    <a:pt x="444" y="1381"/>
                  </a:lnTo>
                  <a:lnTo>
                    <a:pt x="478" y="1375"/>
                  </a:lnTo>
                  <a:lnTo>
                    <a:pt x="482" y="1375"/>
                  </a:lnTo>
                  <a:lnTo>
                    <a:pt x="482" y="1373"/>
                  </a:lnTo>
                  <a:lnTo>
                    <a:pt x="480" y="1373"/>
                  </a:lnTo>
                  <a:lnTo>
                    <a:pt x="480" y="1371"/>
                  </a:lnTo>
                  <a:lnTo>
                    <a:pt x="480" y="1370"/>
                  </a:lnTo>
                  <a:lnTo>
                    <a:pt x="478" y="1370"/>
                  </a:lnTo>
                  <a:lnTo>
                    <a:pt x="478" y="1368"/>
                  </a:lnTo>
                  <a:lnTo>
                    <a:pt x="476" y="1366"/>
                  </a:lnTo>
                  <a:lnTo>
                    <a:pt x="476" y="1366"/>
                  </a:lnTo>
                  <a:lnTo>
                    <a:pt x="442" y="1370"/>
                  </a:lnTo>
                  <a:lnTo>
                    <a:pt x="407" y="1371"/>
                  </a:lnTo>
                  <a:lnTo>
                    <a:pt x="373" y="1373"/>
                  </a:lnTo>
                  <a:lnTo>
                    <a:pt x="338" y="1371"/>
                  </a:lnTo>
                  <a:lnTo>
                    <a:pt x="304" y="1370"/>
                  </a:lnTo>
                  <a:lnTo>
                    <a:pt x="269" y="1366"/>
                  </a:lnTo>
                  <a:lnTo>
                    <a:pt x="236" y="1360"/>
                  </a:lnTo>
                  <a:lnTo>
                    <a:pt x="202" y="1352"/>
                  </a:lnTo>
                  <a:lnTo>
                    <a:pt x="171" y="1343"/>
                  </a:lnTo>
                  <a:lnTo>
                    <a:pt x="139" y="1331"/>
                  </a:lnTo>
                  <a:lnTo>
                    <a:pt x="108" y="1320"/>
                  </a:lnTo>
                  <a:lnTo>
                    <a:pt x="77" y="1306"/>
                  </a:lnTo>
                  <a:lnTo>
                    <a:pt x="48" y="1291"/>
                  </a:lnTo>
                  <a:lnTo>
                    <a:pt x="20" y="1274"/>
                  </a:lnTo>
                  <a:lnTo>
                    <a:pt x="0" y="1262"/>
                  </a:lnTo>
                  <a:lnTo>
                    <a:pt x="0" y="1264"/>
                  </a:lnTo>
                  <a:lnTo>
                    <a:pt x="0" y="1266"/>
                  </a:lnTo>
                  <a:lnTo>
                    <a:pt x="0" y="1266"/>
                  </a:lnTo>
                  <a:lnTo>
                    <a:pt x="0" y="1268"/>
                  </a:lnTo>
                  <a:lnTo>
                    <a:pt x="0" y="1270"/>
                  </a:lnTo>
                  <a:lnTo>
                    <a:pt x="0" y="1272"/>
                  </a:lnTo>
                  <a:lnTo>
                    <a:pt x="0" y="1274"/>
                  </a:lnTo>
                  <a:lnTo>
                    <a:pt x="0" y="1276"/>
                  </a:lnTo>
                  <a:close/>
                </a:path>
              </a:pathLst>
            </a:custGeom>
            <a:solidFill>
              <a:srgbClr val="7ec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Freeform 399"/>
            <p:cNvSpPr/>
            <p:nvPr/>
          </p:nvSpPr>
          <p:spPr>
            <a:xfrm>
              <a:off x="5850360" y="2106360"/>
              <a:ext cx="811800" cy="2313360"/>
            </a:xfrm>
            <a:custGeom>
              <a:avLst/>
              <a:gdLst>
                <a:gd name="textAreaLeft" fmla="*/ 0 w 811800"/>
                <a:gd name="textAreaRight" fmla="*/ 812160 w 811800"/>
                <a:gd name="textAreaTop" fmla="*/ 0 h 2313360"/>
                <a:gd name="textAreaBottom" fmla="*/ 2313720 h 2313360"/>
              </a:gdLst>
              <a:ahLst/>
              <a:rect l="textAreaLeft" t="textAreaTop" r="textAreaRight" b="textAreaBottom"/>
              <a:pathLst>
                <a:path w="482" h="1374">
                  <a:moveTo>
                    <a:pt x="461" y="6"/>
                  </a:moveTo>
                  <a:lnTo>
                    <a:pt x="446" y="4"/>
                  </a:lnTo>
                  <a:lnTo>
                    <a:pt x="409" y="0"/>
                  </a:lnTo>
                  <a:lnTo>
                    <a:pt x="375" y="0"/>
                  </a:lnTo>
                  <a:lnTo>
                    <a:pt x="340" y="0"/>
                  </a:lnTo>
                  <a:lnTo>
                    <a:pt x="306" y="4"/>
                  </a:lnTo>
                  <a:lnTo>
                    <a:pt x="271" y="8"/>
                  </a:lnTo>
                  <a:lnTo>
                    <a:pt x="237" y="14"/>
                  </a:lnTo>
                  <a:lnTo>
                    <a:pt x="204" y="21"/>
                  </a:lnTo>
                  <a:lnTo>
                    <a:pt x="171" y="31"/>
                  </a:lnTo>
                  <a:lnTo>
                    <a:pt x="156" y="37"/>
                  </a:lnTo>
                  <a:lnTo>
                    <a:pt x="154" y="39"/>
                  </a:lnTo>
                  <a:lnTo>
                    <a:pt x="154" y="39"/>
                  </a:lnTo>
                  <a:lnTo>
                    <a:pt x="154" y="41"/>
                  </a:lnTo>
                  <a:lnTo>
                    <a:pt x="154" y="43"/>
                  </a:lnTo>
                  <a:lnTo>
                    <a:pt x="152" y="44"/>
                  </a:lnTo>
                  <a:lnTo>
                    <a:pt x="152" y="46"/>
                  </a:lnTo>
                  <a:lnTo>
                    <a:pt x="152" y="46"/>
                  </a:lnTo>
                  <a:lnTo>
                    <a:pt x="152" y="48"/>
                  </a:lnTo>
                  <a:lnTo>
                    <a:pt x="173" y="41"/>
                  </a:lnTo>
                  <a:lnTo>
                    <a:pt x="206" y="33"/>
                  </a:lnTo>
                  <a:lnTo>
                    <a:pt x="238" y="25"/>
                  </a:lnTo>
                  <a:lnTo>
                    <a:pt x="271" y="20"/>
                  </a:lnTo>
                  <a:lnTo>
                    <a:pt x="306" y="14"/>
                  </a:lnTo>
                  <a:lnTo>
                    <a:pt x="340" y="12"/>
                  </a:lnTo>
                  <a:lnTo>
                    <a:pt x="375" y="10"/>
                  </a:lnTo>
                  <a:lnTo>
                    <a:pt x="409" y="12"/>
                  </a:lnTo>
                  <a:lnTo>
                    <a:pt x="444" y="14"/>
                  </a:lnTo>
                  <a:lnTo>
                    <a:pt x="455" y="16"/>
                  </a:lnTo>
                  <a:lnTo>
                    <a:pt x="455" y="14"/>
                  </a:lnTo>
                  <a:lnTo>
                    <a:pt x="457" y="14"/>
                  </a:lnTo>
                  <a:lnTo>
                    <a:pt x="457" y="12"/>
                  </a:lnTo>
                  <a:lnTo>
                    <a:pt x="457" y="10"/>
                  </a:lnTo>
                  <a:lnTo>
                    <a:pt x="459" y="10"/>
                  </a:lnTo>
                  <a:lnTo>
                    <a:pt x="459" y="8"/>
                  </a:lnTo>
                  <a:lnTo>
                    <a:pt x="459" y="6"/>
                  </a:lnTo>
                  <a:lnTo>
                    <a:pt x="461" y="6"/>
                  </a:lnTo>
                  <a:close/>
                  <a:moveTo>
                    <a:pt x="2" y="1263"/>
                  </a:moveTo>
                  <a:lnTo>
                    <a:pt x="20" y="1274"/>
                  </a:lnTo>
                  <a:lnTo>
                    <a:pt x="48" y="1290"/>
                  </a:lnTo>
                  <a:lnTo>
                    <a:pt x="77" y="1305"/>
                  </a:lnTo>
                  <a:lnTo>
                    <a:pt x="108" y="1318"/>
                  </a:lnTo>
                  <a:lnTo>
                    <a:pt x="139" y="1332"/>
                  </a:lnTo>
                  <a:lnTo>
                    <a:pt x="171" y="1343"/>
                  </a:lnTo>
                  <a:lnTo>
                    <a:pt x="204" y="1351"/>
                  </a:lnTo>
                  <a:lnTo>
                    <a:pt x="237" y="1359"/>
                  </a:lnTo>
                  <a:lnTo>
                    <a:pt x="271" y="1365"/>
                  </a:lnTo>
                  <a:lnTo>
                    <a:pt x="306" y="1370"/>
                  </a:lnTo>
                  <a:lnTo>
                    <a:pt x="340" y="1372"/>
                  </a:lnTo>
                  <a:lnTo>
                    <a:pt x="375" y="1374"/>
                  </a:lnTo>
                  <a:lnTo>
                    <a:pt x="409" y="1372"/>
                  </a:lnTo>
                  <a:lnTo>
                    <a:pt x="446" y="1370"/>
                  </a:lnTo>
                  <a:lnTo>
                    <a:pt x="480" y="1365"/>
                  </a:lnTo>
                  <a:lnTo>
                    <a:pt x="482" y="1365"/>
                  </a:lnTo>
                  <a:lnTo>
                    <a:pt x="480" y="1365"/>
                  </a:lnTo>
                  <a:lnTo>
                    <a:pt x="480" y="1363"/>
                  </a:lnTo>
                  <a:lnTo>
                    <a:pt x="478" y="1361"/>
                  </a:lnTo>
                  <a:lnTo>
                    <a:pt x="478" y="1361"/>
                  </a:lnTo>
                  <a:lnTo>
                    <a:pt x="478" y="1359"/>
                  </a:lnTo>
                  <a:lnTo>
                    <a:pt x="476" y="1357"/>
                  </a:lnTo>
                  <a:lnTo>
                    <a:pt x="476" y="1357"/>
                  </a:lnTo>
                  <a:lnTo>
                    <a:pt x="476" y="1355"/>
                  </a:lnTo>
                  <a:lnTo>
                    <a:pt x="444" y="1359"/>
                  </a:lnTo>
                  <a:lnTo>
                    <a:pt x="409" y="1363"/>
                  </a:lnTo>
                  <a:lnTo>
                    <a:pt x="375" y="1363"/>
                  </a:lnTo>
                  <a:lnTo>
                    <a:pt x="340" y="1363"/>
                  </a:lnTo>
                  <a:lnTo>
                    <a:pt x="306" y="1359"/>
                  </a:lnTo>
                  <a:lnTo>
                    <a:pt x="271" y="1355"/>
                  </a:lnTo>
                  <a:lnTo>
                    <a:pt x="238" y="1349"/>
                  </a:lnTo>
                  <a:lnTo>
                    <a:pt x="206" y="1342"/>
                  </a:lnTo>
                  <a:lnTo>
                    <a:pt x="173" y="1332"/>
                  </a:lnTo>
                  <a:lnTo>
                    <a:pt x="142" y="1322"/>
                  </a:lnTo>
                  <a:lnTo>
                    <a:pt x="112" y="1309"/>
                  </a:lnTo>
                  <a:lnTo>
                    <a:pt x="81" y="1295"/>
                  </a:lnTo>
                  <a:lnTo>
                    <a:pt x="52" y="1282"/>
                  </a:lnTo>
                  <a:lnTo>
                    <a:pt x="23" y="1265"/>
                  </a:lnTo>
                  <a:lnTo>
                    <a:pt x="0" y="1249"/>
                  </a:lnTo>
                  <a:lnTo>
                    <a:pt x="0" y="1251"/>
                  </a:lnTo>
                  <a:lnTo>
                    <a:pt x="2" y="1253"/>
                  </a:lnTo>
                  <a:lnTo>
                    <a:pt x="2" y="1255"/>
                  </a:lnTo>
                  <a:lnTo>
                    <a:pt x="2" y="1257"/>
                  </a:lnTo>
                  <a:lnTo>
                    <a:pt x="2" y="1259"/>
                  </a:lnTo>
                  <a:lnTo>
                    <a:pt x="2" y="1261"/>
                  </a:lnTo>
                  <a:lnTo>
                    <a:pt x="2" y="1261"/>
                  </a:lnTo>
                  <a:lnTo>
                    <a:pt x="2" y="1263"/>
                  </a:lnTo>
                  <a:close/>
                </a:path>
              </a:pathLst>
            </a:custGeom>
            <a:solidFill>
              <a:srgbClr val="7fc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Freeform 400"/>
            <p:cNvSpPr/>
            <p:nvPr/>
          </p:nvSpPr>
          <p:spPr>
            <a:xfrm>
              <a:off x="5850360" y="2116440"/>
              <a:ext cx="804960" cy="2293200"/>
            </a:xfrm>
            <a:custGeom>
              <a:avLst/>
              <a:gdLst>
                <a:gd name="textAreaLeft" fmla="*/ 0 w 804960"/>
                <a:gd name="textAreaRight" fmla="*/ 805320 w 804960"/>
                <a:gd name="textAreaTop" fmla="*/ 0 h 2293200"/>
                <a:gd name="textAreaBottom" fmla="*/ 2293560 h 2293200"/>
              </a:gdLst>
              <a:ahLst/>
              <a:rect l="textAreaLeft" t="textAreaTop" r="textAreaRight" b="textAreaBottom"/>
              <a:pathLst>
                <a:path w="478" h="1362">
                  <a:moveTo>
                    <a:pt x="457" y="4"/>
                  </a:moveTo>
                  <a:lnTo>
                    <a:pt x="444" y="4"/>
                  </a:lnTo>
                  <a:lnTo>
                    <a:pt x="409" y="0"/>
                  </a:lnTo>
                  <a:lnTo>
                    <a:pt x="375" y="0"/>
                  </a:lnTo>
                  <a:lnTo>
                    <a:pt x="340" y="0"/>
                  </a:lnTo>
                  <a:lnTo>
                    <a:pt x="306" y="4"/>
                  </a:lnTo>
                  <a:lnTo>
                    <a:pt x="271" y="8"/>
                  </a:lnTo>
                  <a:lnTo>
                    <a:pt x="238" y="14"/>
                  </a:lnTo>
                  <a:lnTo>
                    <a:pt x="204" y="21"/>
                  </a:lnTo>
                  <a:lnTo>
                    <a:pt x="173" y="31"/>
                  </a:lnTo>
                  <a:lnTo>
                    <a:pt x="154" y="37"/>
                  </a:lnTo>
                  <a:lnTo>
                    <a:pt x="152" y="38"/>
                  </a:lnTo>
                  <a:lnTo>
                    <a:pt x="152" y="40"/>
                  </a:lnTo>
                  <a:lnTo>
                    <a:pt x="152" y="40"/>
                  </a:lnTo>
                  <a:lnTo>
                    <a:pt x="152" y="42"/>
                  </a:lnTo>
                  <a:lnTo>
                    <a:pt x="150" y="44"/>
                  </a:lnTo>
                  <a:lnTo>
                    <a:pt x="150" y="46"/>
                  </a:lnTo>
                  <a:lnTo>
                    <a:pt x="150" y="48"/>
                  </a:lnTo>
                  <a:lnTo>
                    <a:pt x="150" y="50"/>
                  </a:lnTo>
                  <a:lnTo>
                    <a:pt x="175" y="40"/>
                  </a:lnTo>
                  <a:lnTo>
                    <a:pt x="208" y="31"/>
                  </a:lnTo>
                  <a:lnTo>
                    <a:pt x="240" y="23"/>
                  </a:lnTo>
                  <a:lnTo>
                    <a:pt x="273" y="17"/>
                  </a:lnTo>
                  <a:lnTo>
                    <a:pt x="306" y="14"/>
                  </a:lnTo>
                  <a:lnTo>
                    <a:pt x="340" y="12"/>
                  </a:lnTo>
                  <a:lnTo>
                    <a:pt x="375" y="10"/>
                  </a:lnTo>
                  <a:lnTo>
                    <a:pt x="409" y="12"/>
                  </a:lnTo>
                  <a:lnTo>
                    <a:pt x="444" y="14"/>
                  </a:lnTo>
                  <a:lnTo>
                    <a:pt x="451" y="15"/>
                  </a:lnTo>
                  <a:lnTo>
                    <a:pt x="453" y="14"/>
                  </a:lnTo>
                  <a:lnTo>
                    <a:pt x="453" y="12"/>
                  </a:lnTo>
                  <a:lnTo>
                    <a:pt x="453" y="12"/>
                  </a:lnTo>
                  <a:lnTo>
                    <a:pt x="455" y="10"/>
                  </a:lnTo>
                  <a:lnTo>
                    <a:pt x="455" y="8"/>
                  </a:lnTo>
                  <a:lnTo>
                    <a:pt x="457" y="8"/>
                  </a:lnTo>
                  <a:lnTo>
                    <a:pt x="457" y="6"/>
                  </a:lnTo>
                  <a:lnTo>
                    <a:pt x="457" y="4"/>
                  </a:lnTo>
                  <a:close/>
                  <a:moveTo>
                    <a:pt x="2" y="1251"/>
                  </a:moveTo>
                  <a:lnTo>
                    <a:pt x="22" y="1263"/>
                  </a:lnTo>
                  <a:lnTo>
                    <a:pt x="50" y="1280"/>
                  </a:lnTo>
                  <a:lnTo>
                    <a:pt x="79" y="1295"/>
                  </a:lnTo>
                  <a:lnTo>
                    <a:pt x="110" y="1309"/>
                  </a:lnTo>
                  <a:lnTo>
                    <a:pt x="141" y="1320"/>
                  </a:lnTo>
                  <a:lnTo>
                    <a:pt x="173" y="1332"/>
                  </a:lnTo>
                  <a:lnTo>
                    <a:pt x="204" y="1341"/>
                  </a:lnTo>
                  <a:lnTo>
                    <a:pt x="238" y="1349"/>
                  </a:lnTo>
                  <a:lnTo>
                    <a:pt x="271" y="1355"/>
                  </a:lnTo>
                  <a:lnTo>
                    <a:pt x="306" y="1359"/>
                  </a:lnTo>
                  <a:lnTo>
                    <a:pt x="340" y="1360"/>
                  </a:lnTo>
                  <a:lnTo>
                    <a:pt x="375" y="1362"/>
                  </a:lnTo>
                  <a:lnTo>
                    <a:pt x="409" y="1360"/>
                  </a:lnTo>
                  <a:lnTo>
                    <a:pt x="444" y="1359"/>
                  </a:lnTo>
                  <a:lnTo>
                    <a:pt x="478" y="1355"/>
                  </a:lnTo>
                  <a:lnTo>
                    <a:pt x="478" y="1353"/>
                  </a:lnTo>
                  <a:lnTo>
                    <a:pt x="476" y="1351"/>
                  </a:lnTo>
                  <a:lnTo>
                    <a:pt x="476" y="1351"/>
                  </a:lnTo>
                  <a:lnTo>
                    <a:pt x="476" y="1349"/>
                  </a:lnTo>
                  <a:lnTo>
                    <a:pt x="475" y="1347"/>
                  </a:lnTo>
                  <a:lnTo>
                    <a:pt x="475" y="1347"/>
                  </a:lnTo>
                  <a:lnTo>
                    <a:pt x="473" y="1345"/>
                  </a:lnTo>
                  <a:lnTo>
                    <a:pt x="473" y="1345"/>
                  </a:lnTo>
                  <a:lnTo>
                    <a:pt x="444" y="1347"/>
                  </a:lnTo>
                  <a:lnTo>
                    <a:pt x="409" y="1351"/>
                  </a:lnTo>
                  <a:lnTo>
                    <a:pt x="375" y="1351"/>
                  </a:lnTo>
                  <a:lnTo>
                    <a:pt x="340" y="1351"/>
                  </a:lnTo>
                  <a:lnTo>
                    <a:pt x="306" y="1347"/>
                  </a:lnTo>
                  <a:lnTo>
                    <a:pt x="273" y="1343"/>
                  </a:lnTo>
                  <a:lnTo>
                    <a:pt x="240" y="1337"/>
                  </a:lnTo>
                  <a:lnTo>
                    <a:pt x="208" y="1330"/>
                  </a:lnTo>
                  <a:lnTo>
                    <a:pt x="175" y="1322"/>
                  </a:lnTo>
                  <a:lnTo>
                    <a:pt x="144" y="1311"/>
                  </a:lnTo>
                  <a:lnTo>
                    <a:pt x="114" y="1299"/>
                  </a:lnTo>
                  <a:lnTo>
                    <a:pt x="85" y="1286"/>
                  </a:lnTo>
                  <a:lnTo>
                    <a:pt x="56" y="1270"/>
                  </a:lnTo>
                  <a:lnTo>
                    <a:pt x="27" y="1255"/>
                  </a:lnTo>
                  <a:lnTo>
                    <a:pt x="0" y="1238"/>
                  </a:lnTo>
                  <a:lnTo>
                    <a:pt x="0" y="1240"/>
                  </a:lnTo>
                  <a:lnTo>
                    <a:pt x="0" y="1241"/>
                  </a:lnTo>
                  <a:lnTo>
                    <a:pt x="0" y="1241"/>
                  </a:lnTo>
                  <a:lnTo>
                    <a:pt x="0" y="1243"/>
                  </a:lnTo>
                  <a:lnTo>
                    <a:pt x="0" y="1245"/>
                  </a:lnTo>
                  <a:lnTo>
                    <a:pt x="2" y="1247"/>
                  </a:lnTo>
                  <a:lnTo>
                    <a:pt x="2" y="1249"/>
                  </a:lnTo>
                  <a:lnTo>
                    <a:pt x="2" y="1251"/>
                  </a:lnTo>
                  <a:close/>
                </a:path>
              </a:pathLst>
            </a:custGeom>
            <a:solidFill>
              <a:srgbClr val="8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Freeform 401"/>
            <p:cNvSpPr/>
            <p:nvPr/>
          </p:nvSpPr>
          <p:spPr>
            <a:xfrm>
              <a:off x="5850360" y="2123280"/>
              <a:ext cx="801360" cy="2278080"/>
            </a:xfrm>
            <a:custGeom>
              <a:avLst/>
              <a:gdLst>
                <a:gd name="textAreaLeft" fmla="*/ 0 w 801360"/>
                <a:gd name="textAreaRight" fmla="*/ 801720 w 801360"/>
                <a:gd name="textAreaTop" fmla="*/ 0 h 2278080"/>
                <a:gd name="textAreaBottom" fmla="*/ 2278440 h 2278080"/>
              </a:gdLst>
              <a:ahLst/>
              <a:rect l="textAreaLeft" t="textAreaTop" r="textAreaRight" b="textAreaBottom"/>
              <a:pathLst>
                <a:path w="476" h="1353">
                  <a:moveTo>
                    <a:pt x="455" y="6"/>
                  </a:moveTo>
                  <a:lnTo>
                    <a:pt x="444" y="4"/>
                  </a:lnTo>
                  <a:lnTo>
                    <a:pt x="409" y="2"/>
                  </a:lnTo>
                  <a:lnTo>
                    <a:pt x="375" y="0"/>
                  </a:lnTo>
                  <a:lnTo>
                    <a:pt x="340" y="2"/>
                  </a:lnTo>
                  <a:lnTo>
                    <a:pt x="306" y="4"/>
                  </a:lnTo>
                  <a:lnTo>
                    <a:pt x="271" y="10"/>
                  </a:lnTo>
                  <a:lnTo>
                    <a:pt x="238" y="15"/>
                  </a:lnTo>
                  <a:lnTo>
                    <a:pt x="206" y="23"/>
                  </a:lnTo>
                  <a:lnTo>
                    <a:pt x="173" y="31"/>
                  </a:lnTo>
                  <a:lnTo>
                    <a:pt x="152" y="38"/>
                  </a:lnTo>
                  <a:lnTo>
                    <a:pt x="150" y="40"/>
                  </a:lnTo>
                  <a:lnTo>
                    <a:pt x="150" y="42"/>
                  </a:lnTo>
                  <a:lnTo>
                    <a:pt x="150" y="44"/>
                  </a:lnTo>
                  <a:lnTo>
                    <a:pt x="150" y="46"/>
                  </a:lnTo>
                  <a:lnTo>
                    <a:pt x="148" y="46"/>
                  </a:lnTo>
                  <a:lnTo>
                    <a:pt x="148" y="48"/>
                  </a:lnTo>
                  <a:lnTo>
                    <a:pt x="148" y="50"/>
                  </a:lnTo>
                  <a:lnTo>
                    <a:pt x="146" y="52"/>
                  </a:lnTo>
                  <a:lnTo>
                    <a:pt x="177" y="42"/>
                  </a:lnTo>
                  <a:lnTo>
                    <a:pt x="208" y="33"/>
                  </a:lnTo>
                  <a:lnTo>
                    <a:pt x="240" y="25"/>
                  </a:lnTo>
                  <a:lnTo>
                    <a:pt x="273" y="19"/>
                  </a:lnTo>
                  <a:lnTo>
                    <a:pt x="308" y="15"/>
                  </a:lnTo>
                  <a:lnTo>
                    <a:pt x="340" y="11"/>
                  </a:lnTo>
                  <a:lnTo>
                    <a:pt x="375" y="11"/>
                  </a:lnTo>
                  <a:lnTo>
                    <a:pt x="409" y="11"/>
                  </a:lnTo>
                  <a:lnTo>
                    <a:pt x="444" y="15"/>
                  </a:lnTo>
                  <a:lnTo>
                    <a:pt x="450" y="15"/>
                  </a:lnTo>
                  <a:lnTo>
                    <a:pt x="450" y="15"/>
                  </a:lnTo>
                  <a:lnTo>
                    <a:pt x="451" y="13"/>
                  </a:lnTo>
                  <a:lnTo>
                    <a:pt x="451" y="11"/>
                  </a:lnTo>
                  <a:lnTo>
                    <a:pt x="451" y="11"/>
                  </a:lnTo>
                  <a:lnTo>
                    <a:pt x="453" y="10"/>
                  </a:lnTo>
                  <a:lnTo>
                    <a:pt x="453" y="8"/>
                  </a:lnTo>
                  <a:lnTo>
                    <a:pt x="453" y="8"/>
                  </a:lnTo>
                  <a:lnTo>
                    <a:pt x="455" y="6"/>
                  </a:lnTo>
                  <a:close/>
                  <a:moveTo>
                    <a:pt x="0" y="1239"/>
                  </a:moveTo>
                  <a:lnTo>
                    <a:pt x="23" y="1255"/>
                  </a:lnTo>
                  <a:lnTo>
                    <a:pt x="52" y="1272"/>
                  </a:lnTo>
                  <a:lnTo>
                    <a:pt x="81" y="1285"/>
                  </a:lnTo>
                  <a:lnTo>
                    <a:pt x="112" y="1299"/>
                  </a:lnTo>
                  <a:lnTo>
                    <a:pt x="142" y="1312"/>
                  </a:lnTo>
                  <a:lnTo>
                    <a:pt x="173" y="1322"/>
                  </a:lnTo>
                  <a:lnTo>
                    <a:pt x="206" y="1332"/>
                  </a:lnTo>
                  <a:lnTo>
                    <a:pt x="238" y="1339"/>
                  </a:lnTo>
                  <a:lnTo>
                    <a:pt x="271" y="1345"/>
                  </a:lnTo>
                  <a:lnTo>
                    <a:pt x="306" y="1349"/>
                  </a:lnTo>
                  <a:lnTo>
                    <a:pt x="340" y="1353"/>
                  </a:lnTo>
                  <a:lnTo>
                    <a:pt x="375" y="1353"/>
                  </a:lnTo>
                  <a:lnTo>
                    <a:pt x="409" y="1353"/>
                  </a:lnTo>
                  <a:lnTo>
                    <a:pt x="444" y="1349"/>
                  </a:lnTo>
                  <a:lnTo>
                    <a:pt x="476" y="1345"/>
                  </a:lnTo>
                  <a:lnTo>
                    <a:pt x="475" y="1343"/>
                  </a:lnTo>
                  <a:lnTo>
                    <a:pt x="475" y="1343"/>
                  </a:lnTo>
                  <a:lnTo>
                    <a:pt x="473" y="1341"/>
                  </a:lnTo>
                  <a:lnTo>
                    <a:pt x="473" y="1341"/>
                  </a:lnTo>
                  <a:lnTo>
                    <a:pt x="473" y="1339"/>
                  </a:lnTo>
                  <a:lnTo>
                    <a:pt x="471" y="1337"/>
                  </a:lnTo>
                  <a:lnTo>
                    <a:pt x="471" y="1337"/>
                  </a:lnTo>
                  <a:lnTo>
                    <a:pt x="469" y="1335"/>
                  </a:lnTo>
                  <a:lnTo>
                    <a:pt x="444" y="1339"/>
                  </a:lnTo>
                  <a:lnTo>
                    <a:pt x="409" y="1341"/>
                  </a:lnTo>
                  <a:lnTo>
                    <a:pt x="375" y="1341"/>
                  </a:lnTo>
                  <a:lnTo>
                    <a:pt x="340" y="1341"/>
                  </a:lnTo>
                  <a:lnTo>
                    <a:pt x="308" y="1339"/>
                  </a:lnTo>
                  <a:lnTo>
                    <a:pt x="273" y="1335"/>
                  </a:lnTo>
                  <a:lnTo>
                    <a:pt x="240" y="1328"/>
                  </a:lnTo>
                  <a:lnTo>
                    <a:pt x="208" y="1322"/>
                  </a:lnTo>
                  <a:lnTo>
                    <a:pt x="177" y="1312"/>
                  </a:lnTo>
                  <a:lnTo>
                    <a:pt x="146" y="1301"/>
                  </a:lnTo>
                  <a:lnTo>
                    <a:pt x="116" y="1289"/>
                  </a:lnTo>
                  <a:lnTo>
                    <a:pt x="87" y="1276"/>
                  </a:lnTo>
                  <a:lnTo>
                    <a:pt x="58" y="1262"/>
                  </a:lnTo>
                  <a:lnTo>
                    <a:pt x="29" y="1245"/>
                  </a:lnTo>
                  <a:lnTo>
                    <a:pt x="2" y="1228"/>
                  </a:lnTo>
                  <a:lnTo>
                    <a:pt x="0" y="1226"/>
                  </a:lnTo>
                  <a:lnTo>
                    <a:pt x="0" y="1228"/>
                  </a:lnTo>
                  <a:lnTo>
                    <a:pt x="0" y="1230"/>
                  </a:lnTo>
                  <a:lnTo>
                    <a:pt x="0" y="1232"/>
                  </a:lnTo>
                  <a:lnTo>
                    <a:pt x="0" y="1234"/>
                  </a:lnTo>
                  <a:lnTo>
                    <a:pt x="0" y="1236"/>
                  </a:lnTo>
                  <a:lnTo>
                    <a:pt x="0" y="1237"/>
                  </a:lnTo>
                  <a:lnTo>
                    <a:pt x="0" y="1237"/>
                  </a:lnTo>
                  <a:lnTo>
                    <a:pt x="0" y="1239"/>
                  </a:lnTo>
                  <a:close/>
                </a:path>
              </a:pathLst>
            </a:custGeom>
            <a:solidFill>
              <a:srgbClr val="81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Freeform 402"/>
            <p:cNvSpPr/>
            <p:nvPr/>
          </p:nvSpPr>
          <p:spPr>
            <a:xfrm>
              <a:off x="5850360" y="2133360"/>
              <a:ext cx="796320" cy="2258280"/>
            </a:xfrm>
            <a:custGeom>
              <a:avLst/>
              <a:gdLst>
                <a:gd name="textAreaLeft" fmla="*/ 0 w 796320"/>
                <a:gd name="textAreaRight" fmla="*/ 796680 w 796320"/>
                <a:gd name="textAreaTop" fmla="*/ 0 h 2258280"/>
                <a:gd name="textAreaBottom" fmla="*/ 2258640 h 2258280"/>
              </a:gdLst>
              <a:ahLst/>
              <a:rect l="textAreaLeft" t="textAreaTop" r="textAreaRight" b="textAreaBottom"/>
              <a:pathLst>
                <a:path w="473" h="1341">
                  <a:moveTo>
                    <a:pt x="451" y="5"/>
                  </a:moveTo>
                  <a:lnTo>
                    <a:pt x="444" y="4"/>
                  </a:lnTo>
                  <a:lnTo>
                    <a:pt x="409" y="2"/>
                  </a:lnTo>
                  <a:lnTo>
                    <a:pt x="375" y="0"/>
                  </a:lnTo>
                  <a:lnTo>
                    <a:pt x="340" y="2"/>
                  </a:lnTo>
                  <a:lnTo>
                    <a:pt x="306" y="4"/>
                  </a:lnTo>
                  <a:lnTo>
                    <a:pt x="273" y="7"/>
                  </a:lnTo>
                  <a:lnTo>
                    <a:pt x="240" y="13"/>
                  </a:lnTo>
                  <a:lnTo>
                    <a:pt x="208" y="21"/>
                  </a:lnTo>
                  <a:lnTo>
                    <a:pt x="175" y="30"/>
                  </a:lnTo>
                  <a:lnTo>
                    <a:pt x="150" y="40"/>
                  </a:lnTo>
                  <a:lnTo>
                    <a:pt x="148" y="40"/>
                  </a:lnTo>
                  <a:lnTo>
                    <a:pt x="148" y="42"/>
                  </a:lnTo>
                  <a:lnTo>
                    <a:pt x="148" y="44"/>
                  </a:lnTo>
                  <a:lnTo>
                    <a:pt x="146" y="46"/>
                  </a:lnTo>
                  <a:lnTo>
                    <a:pt x="146" y="48"/>
                  </a:lnTo>
                  <a:lnTo>
                    <a:pt x="146" y="50"/>
                  </a:lnTo>
                  <a:lnTo>
                    <a:pt x="146" y="50"/>
                  </a:lnTo>
                  <a:lnTo>
                    <a:pt x="144" y="52"/>
                  </a:lnTo>
                  <a:lnTo>
                    <a:pt x="148" y="52"/>
                  </a:lnTo>
                  <a:lnTo>
                    <a:pt x="179" y="40"/>
                  </a:lnTo>
                  <a:lnTo>
                    <a:pt x="210" y="32"/>
                  </a:lnTo>
                  <a:lnTo>
                    <a:pt x="242" y="25"/>
                  </a:lnTo>
                  <a:lnTo>
                    <a:pt x="275" y="19"/>
                  </a:lnTo>
                  <a:lnTo>
                    <a:pt x="308" y="15"/>
                  </a:lnTo>
                  <a:lnTo>
                    <a:pt x="340" y="11"/>
                  </a:lnTo>
                  <a:lnTo>
                    <a:pt x="375" y="11"/>
                  </a:lnTo>
                  <a:lnTo>
                    <a:pt x="409" y="11"/>
                  </a:lnTo>
                  <a:lnTo>
                    <a:pt x="442" y="15"/>
                  </a:lnTo>
                  <a:lnTo>
                    <a:pt x="446" y="15"/>
                  </a:lnTo>
                  <a:lnTo>
                    <a:pt x="448" y="13"/>
                  </a:lnTo>
                  <a:lnTo>
                    <a:pt x="448" y="13"/>
                  </a:lnTo>
                  <a:lnTo>
                    <a:pt x="448" y="11"/>
                  </a:lnTo>
                  <a:lnTo>
                    <a:pt x="450" y="9"/>
                  </a:lnTo>
                  <a:lnTo>
                    <a:pt x="450" y="9"/>
                  </a:lnTo>
                  <a:lnTo>
                    <a:pt x="451" y="7"/>
                  </a:lnTo>
                  <a:lnTo>
                    <a:pt x="451" y="5"/>
                  </a:lnTo>
                  <a:lnTo>
                    <a:pt x="451" y="5"/>
                  </a:lnTo>
                  <a:close/>
                  <a:moveTo>
                    <a:pt x="0" y="1228"/>
                  </a:moveTo>
                  <a:lnTo>
                    <a:pt x="27" y="1245"/>
                  </a:lnTo>
                  <a:lnTo>
                    <a:pt x="56" y="1260"/>
                  </a:lnTo>
                  <a:lnTo>
                    <a:pt x="85" y="1276"/>
                  </a:lnTo>
                  <a:lnTo>
                    <a:pt x="114" y="1289"/>
                  </a:lnTo>
                  <a:lnTo>
                    <a:pt x="144" y="1301"/>
                  </a:lnTo>
                  <a:lnTo>
                    <a:pt x="175" y="1312"/>
                  </a:lnTo>
                  <a:lnTo>
                    <a:pt x="208" y="1320"/>
                  </a:lnTo>
                  <a:lnTo>
                    <a:pt x="240" y="1327"/>
                  </a:lnTo>
                  <a:lnTo>
                    <a:pt x="273" y="1333"/>
                  </a:lnTo>
                  <a:lnTo>
                    <a:pt x="306" y="1337"/>
                  </a:lnTo>
                  <a:lnTo>
                    <a:pt x="340" y="1341"/>
                  </a:lnTo>
                  <a:lnTo>
                    <a:pt x="375" y="1341"/>
                  </a:lnTo>
                  <a:lnTo>
                    <a:pt x="409" y="1341"/>
                  </a:lnTo>
                  <a:lnTo>
                    <a:pt x="444" y="1337"/>
                  </a:lnTo>
                  <a:lnTo>
                    <a:pt x="473" y="1335"/>
                  </a:lnTo>
                  <a:lnTo>
                    <a:pt x="473" y="1333"/>
                  </a:lnTo>
                  <a:lnTo>
                    <a:pt x="471" y="1331"/>
                  </a:lnTo>
                  <a:lnTo>
                    <a:pt x="471" y="1331"/>
                  </a:lnTo>
                  <a:lnTo>
                    <a:pt x="469" y="1329"/>
                  </a:lnTo>
                  <a:lnTo>
                    <a:pt x="469" y="1327"/>
                  </a:lnTo>
                  <a:lnTo>
                    <a:pt x="469" y="1327"/>
                  </a:lnTo>
                  <a:lnTo>
                    <a:pt x="467" y="1326"/>
                  </a:lnTo>
                  <a:lnTo>
                    <a:pt x="467" y="1324"/>
                  </a:lnTo>
                  <a:lnTo>
                    <a:pt x="442" y="1327"/>
                  </a:lnTo>
                  <a:lnTo>
                    <a:pt x="409" y="1329"/>
                  </a:lnTo>
                  <a:lnTo>
                    <a:pt x="375" y="1331"/>
                  </a:lnTo>
                  <a:lnTo>
                    <a:pt x="340" y="1329"/>
                  </a:lnTo>
                  <a:lnTo>
                    <a:pt x="308" y="1327"/>
                  </a:lnTo>
                  <a:lnTo>
                    <a:pt x="275" y="1324"/>
                  </a:lnTo>
                  <a:lnTo>
                    <a:pt x="242" y="1318"/>
                  </a:lnTo>
                  <a:lnTo>
                    <a:pt x="210" y="1310"/>
                  </a:lnTo>
                  <a:lnTo>
                    <a:pt x="179" y="1301"/>
                  </a:lnTo>
                  <a:lnTo>
                    <a:pt x="148" y="1291"/>
                  </a:lnTo>
                  <a:lnTo>
                    <a:pt x="118" y="1279"/>
                  </a:lnTo>
                  <a:lnTo>
                    <a:pt x="89" y="1266"/>
                  </a:lnTo>
                  <a:lnTo>
                    <a:pt x="60" y="1251"/>
                  </a:lnTo>
                  <a:lnTo>
                    <a:pt x="33" y="1235"/>
                  </a:lnTo>
                  <a:lnTo>
                    <a:pt x="6" y="1218"/>
                  </a:lnTo>
                  <a:lnTo>
                    <a:pt x="0" y="1214"/>
                  </a:lnTo>
                  <a:lnTo>
                    <a:pt x="0" y="1216"/>
                  </a:lnTo>
                  <a:lnTo>
                    <a:pt x="0" y="1216"/>
                  </a:lnTo>
                  <a:lnTo>
                    <a:pt x="0" y="1218"/>
                  </a:lnTo>
                  <a:lnTo>
                    <a:pt x="0" y="1220"/>
                  </a:lnTo>
                  <a:lnTo>
                    <a:pt x="0" y="1222"/>
                  </a:lnTo>
                  <a:lnTo>
                    <a:pt x="0" y="1224"/>
                  </a:lnTo>
                  <a:lnTo>
                    <a:pt x="0" y="1226"/>
                  </a:lnTo>
                  <a:lnTo>
                    <a:pt x="0" y="1228"/>
                  </a:lnTo>
                  <a:close/>
                </a:path>
              </a:pathLst>
            </a:custGeom>
            <a:solidFill>
              <a:srgbClr val="82c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Freeform 403"/>
            <p:cNvSpPr/>
            <p:nvPr/>
          </p:nvSpPr>
          <p:spPr>
            <a:xfrm>
              <a:off x="5848920" y="2141640"/>
              <a:ext cx="791280" cy="2242800"/>
            </a:xfrm>
            <a:custGeom>
              <a:avLst/>
              <a:gdLst>
                <a:gd name="textAreaLeft" fmla="*/ 0 w 791280"/>
                <a:gd name="textAreaRight" fmla="*/ 791640 w 791280"/>
                <a:gd name="textAreaTop" fmla="*/ 0 h 2242800"/>
                <a:gd name="textAreaBottom" fmla="*/ 2243160 h 2242800"/>
              </a:gdLst>
              <a:ahLst/>
              <a:rect l="textAreaLeft" t="textAreaTop" r="textAreaRight" b="textAreaBottom"/>
              <a:pathLst>
                <a:path w="470" h="1332">
                  <a:moveTo>
                    <a:pt x="451" y="4"/>
                  </a:moveTo>
                  <a:lnTo>
                    <a:pt x="445" y="4"/>
                  </a:lnTo>
                  <a:lnTo>
                    <a:pt x="410" y="0"/>
                  </a:lnTo>
                  <a:lnTo>
                    <a:pt x="376" y="0"/>
                  </a:lnTo>
                  <a:lnTo>
                    <a:pt x="341" y="0"/>
                  </a:lnTo>
                  <a:lnTo>
                    <a:pt x="309" y="4"/>
                  </a:lnTo>
                  <a:lnTo>
                    <a:pt x="274" y="8"/>
                  </a:lnTo>
                  <a:lnTo>
                    <a:pt x="241" y="14"/>
                  </a:lnTo>
                  <a:lnTo>
                    <a:pt x="209" y="22"/>
                  </a:lnTo>
                  <a:lnTo>
                    <a:pt x="178" y="31"/>
                  </a:lnTo>
                  <a:lnTo>
                    <a:pt x="147" y="41"/>
                  </a:lnTo>
                  <a:lnTo>
                    <a:pt x="147" y="43"/>
                  </a:lnTo>
                  <a:lnTo>
                    <a:pt x="147" y="45"/>
                  </a:lnTo>
                  <a:lnTo>
                    <a:pt x="147" y="45"/>
                  </a:lnTo>
                  <a:lnTo>
                    <a:pt x="145" y="47"/>
                  </a:lnTo>
                  <a:lnTo>
                    <a:pt x="145" y="48"/>
                  </a:lnTo>
                  <a:lnTo>
                    <a:pt x="145" y="50"/>
                  </a:lnTo>
                  <a:lnTo>
                    <a:pt x="145" y="52"/>
                  </a:lnTo>
                  <a:lnTo>
                    <a:pt x="143" y="54"/>
                  </a:lnTo>
                  <a:lnTo>
                    <a:pt x="151" y="50"/>
                  </a:lnTo>
                  <a:lnTo>
                    <a:pt x="182" y="41"/>
                  </a:lnTo>
                  <a:lnTo>
                    <a:pt x="213" y="31"/>
                  </a:lnTo>
                  <a:lnTo>
                    <a:pt x="243" y="23"/>
                  </a:lnTo>
                  <a:lnTo>
                    <a:pt x="276" y="18"/>
                  </a:lnTo>
                  <a:lnTo>
                    <a:pt x="309" y="14"/>
                  </a:lnTo>
                  <a:lnTo>
                    <a:pt x="343" y="12"/>
                  </a:lnTo>
                  <a:lnTo>
                    <a:pt x="376" y="12"/>
                  </a:lnTo>
                  <a:lnTo>
                    <a:pt x="410" y="12"/>
                  </a:lnTo>
                  <a:lnTo>
                    <a:pt x="443" y="14"/>
                  </a:lnTo>
                  <a:lnTo>
                    <a:pt x="445" y="14"/>
                  </a:lnTo>
                  <a:lnTo>
                    <a:pt x="445" y="14"/>
                  </a:lnTo>
                  <a:lnTo>
                    <a:pt x="447" y="12"/>
                  </a:lnTo>
                  <a:lnTo>
                    <a:pt x="447" y="10"/>
                  </a:lnTo>
                  <a:lnTo>
                    <a:pt x="447" y="10"/>
                  </a:lnTo>
                  <a:lnTo>
                    <a:pt x="449" y="8"/>
                  </a:lnTo>
                  <a:lnTo>
                    <a:pt x="449" y="8"/>
                  </a:lnTo>
                  <a:lnTo>
                    <a:pt x="449" y="6"/>
                  </a:lnTo>
                  <a:lnTo>
                    <a:pt x="451" y="4"/>
                  </a:lnTo>
                  <a:close/>
                  <a:moveTo>
                    <a:pt x="1" y="1215"/>
                  </a:moveTo>
                  <a:lnTo>
                    <a:pt x="3" y="1217"/>
                  </a:lnTo>
                  <a:lnTo>
                    <a:pt x="30" y="1234"/>
                  </a:lnTo>
                  <a:lnTo>
                    <a:pt x="59" y="1251"/>
                  </a:lnTo>
                  <a:lnTo>
                    <a:pt x="88" y="1265"/>
                  </a:lnTo>
                  <a:lnTo>
                    <a:pt x="117" y="1278"/>
                  </a:lnTo>
                  <a:lnTo>
                    <a:pt x="147" y="1290"/>
                  </a:lnTo>
                  <a:lnTo>
                    <a:pt x="178" y="1301"/>
                  </a:lnTo>
                  <a:lnTo>
                    <a:pt x="209" y="1311"/>
                  </a:lnTo>
                  <a:lnTo>
                    <a:pt x="241" y="1317"/>
                  </a:lnTo>
                  <a:lnTo>
                    <a:pt x="274" y="1324"/>
                  </a:lnTo>
                  <a:lnTo>
                    <a:pt x="309" y="1328"/>
                  </a:lnTo>
                  <a:lnTo>
                    <a:pt x="341" y="1330"/>
                  </a:lnTo>
                  <a:lnTo>
                    <a:pt x="376" y="1332"/>
                  </a:lnTo>
                  <a:lnTo>
                    <a:pt x="410" y="1330"/>
                  </a:lnTo>
                  <a:lnTo>
                    <a:pt x="445" y="1328"/>
                  </a:lnTo>
                  <a:lnTo>
                    <a:pt x="470" y="1324"/>
                  </a:lnTo>
                  <a:lnTo>
                    <a:pt x="470" y="1322"/>
                  </a:lnTo>
                  <a:lnTo>
                    <a:pt x="470" y="1322"/>
                  </a:lnTo>
                  <a:lnTo>
                    <a:pt x="468" y="1321"/>
                  </a:lnTo>
                  <a:lnTo>
                    <a:pt x="468" y="1319"/>
                  </a:lnTo>
                  <a:lnTo>
                    <a:pt x="468" y="1319"/>
                  </a:lnTo>
                  <a:lnTo>
                    <a:pt x="466" y="1317"/>
                  </a:lnTo>
                  <a:lnTo>
                    <a:pt x="466" y="1315"/>
                  </a:lnTo>
                  <a:lnTo>
                    <a:pt x="464" y="1315"/>
                  </a:lnTo>
                  <a:lnTo>
                    <a:pt x="443" y="1317"/>
                  </a:lnTo>
                  <a:lnTo>
                    <a:pt x="410" y="1321"/>
                  </a:lnTo>
                  <a:lnTo>
                    <a:pt x="376" y="1321"/>
                  </a:lnTo>
                  <a:lnTo>
                    <a:pt x="343" y="1321"/>
                  </a:lnTo>
                  <a:lnTo>
                    <a:pt x="309" y="1317"/>
                  </a:lnTo>
                  <a:lnTo>
                    <a:pt x="276" y="1313"/>
                  </a:lnTo>
                  <a:lnTo>
                    <a:pt x="243" y="1307"/>
                  </a:lnTo>
                  <a:lnTo>
                    <a:pt x="213" y="1299"/>
                  </a:lnTo>
                  <a:lnTo>
                    <a:pt x="182" y="1292"/>
                  </a:lnTo>
                  <a:lnTo>
                    <a:pt x="151" y="1280"/>
                  </a:lnTo>
                  <a:lnTo>
                    <a:pt x="120" y="1269"/>
                  </a:lnTo>
                  <a:lnTo>
                    <a:pt x="92" y="1255"/>
                  </a:lnTo>
                  <a:lnTo>
                    <a:pt x="63" y="1242"/>
                  </a:lnTo>
                  <a:lnTo>
                    <a:pt x="36" y="1226"/>
                  </a:lnTo>
                  <a:lnTo>
                    <a:pt x="9" y="1209"/>
                  </a:lnTo>
                  <a:lnTo>
                    <a:pt x="0" y="1202"/>
                  </a:lnTo>
                  <a:lnTo>
                    <a:pt x="0" y="1203"/>
                  </a:lnTo>
                  <a:lnTo>
                    <a:pt x="0" y="1205"/>
                  </a:lnTo>
                  <a:lnTo>
                    <a:pt x="1" y="1207"/>
                  </a:lnTo>
                  <a:lnTo>
                    <a:pt x="1" y="1209"/>
                  </a:lnTo>
                  <a:lnTo>
                    <a:pt x="1" y="1211"/>
                  </a:lnTo>
                  <a:lnTo>
                    <a:pt x="1" y="1211"/>
                  </a:lnTo>
                  <a:lnTo>
                    <a:pt x="1" y="1213"/>
                  </a:lnTo>
                  <a:lnTo>
                    <a:pt x="1" y="1215"/>
                  </a:lnTo>
                  <a:close/>
                </a:path>
              </a:pathLst>
            </a:custGeom>
            <a:solidFill>
              <a:srgbClr val="83c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Freeform 404"/>
            <p:cNvSpPr/>
            <p:nvPr/>
          </p:nvSpPr>
          <p:spPr>
            <a:xfrm>
              <a:off x="5848920" y="2152080"/>
              <a:ext cx="787680" cy="2222640"/>
            </a:xfrm>
            <a:custGeom>
              <a:avLst/>
              <a:gdLst>
                <a:gd name="textAreaLeft" fmla="*/ 0 w 787680"/>
                <a:gd name="textAreaRight" fmla="*/ 788040 w 787680"/>
                <a:gd name="textAreaTop" fmla="*/ 0 h 2222640"/>
                <a:gd name="textAreaBottom" fmla="*/ 2223000 h 2222640"/>
              </a:gdLst>
              <a:ahLst/>
              <a:rect l="textAreaLeft" t="textAreaTop" r="textAreaRight" b="textAreaBottom"/>
              <a:pathLst>
                <a:path w="468" h="1320">
                  <a:moveTo>
                    <a:pt x="447" y="4"/>
                  </a:moveTo>
                  <a:lnTo>
                    <a:pt x="443" y="4"/>
                  </a:lnTo>
                  <a:lnTo>
                    <a:pt x="410" y="0"/>
                  </a:lnTo>
                  <a:lnTo>
                    <a:pt x="376" y="0"/>
                  </a:lnTo>
                  <a:lnTo>
                    <a:pt x="341" y="0"/>
                  </a:lnTo>
                  <a:lnTo>
                    <a:pt x="309" y="4"/>
                  </a:lnTo>
                  <a:lnTo>
                    <a:pt x="276" y="8"/>
                  </a:lnTo>
                  <a:lnTo>
                    <a:pt x="243" y="14"/>
                  </a:lnTo>
                  <a:lnTo>
                    <a:pt x="211" y="21"/>
                  </a:lnTo>
                  <a:lnTo>
                    <a:pt x="180" y="29"/>
                  </a:lnTo>
                  <a:lnTo>
                    <a:pt x="149" y="41"/>
                  </a:lnTo>
                  <a:lnTo>
                    <a:pt x="145" y="41"/>
                  </a:lnTo>
                  <a:lnTo>
                    <a:pt x="145" y="42"/>
                  </a:lnTo>
                  <a:lnTo>
                    <a:pt x="145" y="44"/>
                  </a:lnTo>
                  <a:lnTo>
                    <a:pt x="145" y="46"/>
                  </a:lnTo>
                  <a:lnTo>
                    <a:pt x="143" y="48"/>
                  </a:lnTo>
                  <a:lnTo>
                    <a:pt x="143" y="50"/>
                  </a:lnTo>
                  <a:lnTo>
                    <a:pt x="143" y="50"/>
                  </a:lnTo>
                  <a:lnTo>
                    <a:pt x="142" y="52"/>
                  </a:lnTo>
                  <a:lnTo>
                    <a:pt x="142" y="54"/>
                  </a:lnTo>
                  <a:lnTo>
                    <a:pt x="153" y="50"/>
                  </a:lnTo>
                  <a:lnTo>
                    <a:pt x="182" y="41"/>
                  </a:lnTo>
                  <a:lnTo>
                    <a:pt x="214" y="31"/>
                  </a:lnTo>
                  <a:lnTo>
                    <a:pt x="245" y="23"/>
                  </a:lnTo>
                  <a:lnTo>
                    <a:pt x="278" y="17"/>
                  </a:lnTo>
                  <a:lnTo>
                    <a:pt x="309" y="14"/>
                  </a:lnTo>
                  <a:lnTo>
                    <a:pt x="343" y="12"/>
                  </a:lnTo>
                  <a:lnTo>
                    <a:pt x="376" y="10"/>
                  </a:lnTo>
                  <a:lnTo>
                    <a:pt x="408" y="12"/>
                  </a:lnTo>
                  <a:lnTo>
                    <a:pt x="441" y="14"/>
                  </a:lnTo>
                  <a:lnTo>
                    <a:pt x="443" y="12"/>
                  </a:lnTo>
                  <a:lnTo>
                    <a:pt x="443" y="12"/>
                  </a:lnTo>
                  <a:lnTo>
                    <a:pt x="445" y="10"/>
                  </a:lnTo>
                  <a:lnTo>
                    <a:pt x="445" y="8"/>
                  </a:lnTo>
                  <a:lnTo>
                    <a:pt x="445" y="8"/>
                  </a:lnTo>
                  <a:lnTo>
                    <a:pt x="447" y="6"/>
                  </a:lnTo>
                  <a:lnTo>
                    <a:pt x="447" y="4"/>
                  </a:lnTo>
                  <a:lnTo>
                    <a:pt x="447" y="4"/>
                  </a:lnTo>
                  <a:close/>
                  <a:moveTo>
                    <a:pt x="1" y="1203"/>
                  </a:moveTo>
                  <a:lnTo>
                    <a:pt x="7" y="1207"/>
                  </a:lnTo>
                  <a:lnTo>
                    <a:pt x="34" y="1224"/>
                  </a:lnTo>
                  <a:lnTo>
                    <a:pt x="61" y="1240"/>
                  </a:lnTo>
                  <a:lnTo>
                    <a:pt x="90" y="1255"/>
                  </a:lnTo>
                  <a:lnTo>
                    <a:pt x="119" y="1268"/>
                  </a:lnTo>
                  <a:lnTo>
                    <a:pt x="149" y="1280"/>
                  </a:lnTo>
                  <a:lnTo>
                    <a:pt x="180" y="1290"/>
                  </a:lnTo>
                  <a:lnTo>
                    <a:pt x="211" y="1299"/>
                  </a:lnTo>
                  <a:lnTo>
                    <a:pt x="243" y="1307"/>
                  </a:lnTo>
                  <a:lnTo>
                    <a:pt x="276" y="1313"/>
                  </a:lnTo>
                  <a:lnTo>
                    <a:pt x="309" y="1316"/>
                  </a:lnTo>
                  <a:lnTo>
                    <a:pt x="341" y="1318"/>
                  </a:lnTo>
                  <a:lnTo>
                    <a:pt x="376" y="1320"/>
                  </a:lnTo>
                  <a:lnTo>
                    <a:pt x="410" y="1318"/>
                  </a:lnTo>
                  <a:lnTo>
                    <a:pt x="443" y="1316"/>
                  </a:lnTo>
                  <a:lnTo>
                    <a:pt x="468" y="1313"/>
                  </a:lnTo>
                  <a:lnTo>
                    <a:pt x="468" y="1313"/>
                  </a:lnTo>
                  <a:lnTo>
                    <a:pt x="466" y="1311"/>
                  </a:lnTo>
                  <a:lnTo>
                    <a:pt x="466" y="1309"/>
                  </a:lnTo>
                  <a:lnTo>
                    <a:pt x="464" y="1309"/>
                  </a:lnTo>
                  <a:lnTo>
                    <a:pt x="464" y="1307"/>
                  </a:lnTo>
                  <a:lnTo>
                    <a:pt x="464" y="1305"/>
                  </a:lnTo>
                  <a:lnTo>
                    <a:pt x="462" y="1305"/>
                  </a:lnTo>
                  <a:lnTo>
                    <a:pt x="462" y="1303"/>
                  </a:lnTo>
                  <a:lnTo>
                    <a:pt x="443" y="1305"/>
                  </a:lnTo>
                  <a:lnTo>
                    <a:pt x="408" y="1309"/>
                  </a:lnTo>
                  <a:lnTo>
                    <a:pt x="376" y="1309"/>
                  </a:lnTo>
                  <a:lnTo>
                    <a:pt x="343" y="1309"/>
                  </a:lnTo>
                  <a:lnTo>
                    <a:pt x="309" y="1305"/>
                  </a:lnTo>
                  <a:lnTo>
                    <a:pt x="278" y="1301"/>
                  </a:lnTo>
                  <a:lnTo>
                    <a:pt x="245" y="1295"/>
                  </a:lnTo>
                  <a:lnTo>
                    <a:pt x="214" y="1290"/>
                  </a:lnTo>
                  <a:lnTo>
                    <a:pt x="182" y="1280"/>
                  </a:lnTo>
                  <a:lnTo>
                    <a:pt x="153" y="1270"/>
                  </a:lnTo>
                  <a:lnTo>
                    <a:pt x="122" y="1259"/>
                  </a:lnTo>
                  <a:lnTo>
                    <a:pt x="94" y="1245"/>
                  </a:lnTo>
                  <a:lnTo>
                    <a:pt x="67" y="1230"/>
                  </a:lnTo>
                  <a:lnTo>
                    <a:pt x="40" y="1215"/>
                  </a:lnTo>
                  <a:lnTo>
                    <a:pt x="13" y="1197"/>
                  </a:lnTo>
                  <a:lnTo>
                    <a:pt x="0" y="1190"/>
                  </a:lnTo>
                  <a:lnTo>
                    <a:pt x="0" y="1190"/>
                  </a:lnTo>
                  <a:lnTo>
                    <a:pt x="0" y="1192"/>
                  </a:lnTo>
                  <a:lnTo>
                    <a:pt x="0" y="1194"/>
                  </a:lnTo>
                  <a:lnTo>
                    <a:pt x="0" y="1196"/>
                  </a:lnTo>
                  <a:lnTo>
                    <a:pt x="0" y="1197"/>
                  </a:lnTo>
                  <a:lnTo>
                    <a:pt x="0" y="1199"/>
                  </a:lnTo>
                  <a:lnTo>
                    <a:pt x="1" y="1201"/>
                  </a:lnTo>
                  <a:lnTo>
                    <a:pt x="1" y="1203"/>
                  </a:lnTo>
                  <a:close/>
                </a:path>
              </a:pathLst>
            </a:custGeom>
            <a:solidFill>
              <a:srgbClr val="84c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Freeform 405"/>
            <p:cNvSpPr/>
            <p:nvPr/>
          </p:nvSpPr>
          <p:spPr>
            <a:xfrm>
              <a:off x="5848920" y="2161800"/>
              <a:ext cx="781200" cy="2204280"/>
            </a:xfrm>
            <a:custGeom>
              <a:avLst/>
              <a:gdLst>
                <a:gd name="textAreaLeft" fmla="*/ 0 w 781200"/>
                <a:gd name="textAreaRight" fmla="*/ 781560 w 781200"/>
                <a:gd name="textAreaTop" fmla="*/ 0 h 2204280"/>
                <a:gd name="textAreaBottom" fmla="*/ 2204640 h 2204280"/>
              </a:gdLst>
              <a:ahLst/>
              <a:rect l="textAreaLeft" t="textAreaTop" r="textAreaRight" b="textAreaBottom"/>
              <a:pathLst>
                <a:path w="464" h="1309">
                  <a:moveTo>
                    <a:pt x="445" y="2"/>
                  </a:moveTo>
                  <a:lnTo>
                    <a:pt x="443" y="2"/>
                  </a:lnTo>
                  <a:lnTo>
                    <a:pt x="410" y="0"/>
                  </a:lnTo>
                  <a:lnTo>
                    <a:pt x="376" y="0"/>
                  </a:lnTo>
                  <a:lnTo>
                    <a:pt x="343" y="0"/>
                  </a:lnTo>
                  <a:lnTo>
                    <a:pt x="309" y="2"/>
                  </a:lnTo>
                  <a:lnTo>
                    <a:pt x="276" y="6"/>
                  </a:lnTo>
                  <a:lnTo>
                    <a:pt x="243" y="11"/>
                  </a:lnTo>
                  <a:lnTo>
                    <a:pt x="213" y="19"/>
                  </a:lnTo>
                  <a:lnTo>
                    <a:pt x="182" y="29"/>
                  </a:lnTo>
                  <a:lnTo>
                    <a:pt x="151" y="38"/>
                  </a:lnTo>
                  <a:lnTo>
                    <a:pt x="143" y="42"/>
                  </a:lnTo>
                  <a:lnTo>
                    <a:pt x="143" y="44"/>
                  </a:lnTo>
                  <a:lnTo>
                    <a:pt x="143" y="44"/>
                  </a:lnTo>
                  <a:lnTo>
                    <a:pt x="142" y="46"/>
                  </a:lnTo>
                  <a:lnTo>
                    <a:pt x="142" y="48"/>
                  </a:lnTo>
                  <a:lnTo>
                    <a:pt x="142" y="50"/>
                  </a:lnTo>
                  <a:lnTo>
                    <a:pt x="142" y="52"/>
                  </a:lnTo>
                  <a:lnTo>
                    <a:pt x="140" y="54"/>
                  </a:lnTo>
                  <a:lnTo>
                    <a:pt x="140" y="54"/>
                  </a:lnTo>
                  <a:lnTo>
                    <a:pt x="155" y="48"/>
                  </a:lnTo>
                  <a:lnTo>
                    <a:pt x="184" y="38"/>
                  </a:lnTo>
                  <a:lnTo>
                    <a:pt x="214" y="31"/>
                  </a:lnTo>
                  <a:lnTo>
                    <a:pt x="245" y="23"/>
                  </a:lnTo>
                  <a:lnTo>
                    <a:pt x="278" y="17"/>
                  </a:lnTo>
                  <a:lnTo>
                    <a:pt x="310" y="13"/>
                  </a:lnTo>
                  <a:lnTo>
                    <a:pt x="343" y="11"/>
                  </a:lnTo>
                  <a:lnTo>
                    <a:pt x="376" y="10"/>
                  </a:lnTo>
                  <a:lnTo>
                    <a:pt x="408" y="11"/>
                  </a:lnTo>
                  <a:lnTo>
                    <a:pt x="439" y="13"/>
                  </a:lnTo>
                  <a:lnTo>
                    <a:pt x="439" y="11"/>
                  </a:lnTo>
                  <a:lnTo>
                    <a:pt x="441" y="10"/>
                  </a:lnTo>
                  <a:lnTo>
                    <a:pt x="441" y="10"/>
                  </a:lnTo>
                  <a:lnTo>
                    <a:pt x="441" y="8"/>
                  </a:lnTo>
                  <a:lnTo>
                    <a:pt x="443" y="6"/>
                  </a:lnTo>
                  <a:lnTo>
                    <a:pt x="443" y="6"/>
                  </a:lnTo>
                  <a:lnTo>
                    <a:pt x="445" y="4"/>
                  </a:lnTo>
                  <a:lnTo>
                    <a:pt x="445" y="2"/>
                  </a:lnTo>
                  <a:close/>
                  <a:moveTo>
                    <a:pt x="0" y="1190"/>
                  </a:moveTo>
                  <a:lnTo>
                    <a:pt x="9" y="1197"/>
                  </a:lnTo>
                  <a:lnTo>
                    <a:pt x="36" y="1214"/>
                  </a:lnTo>
                  <a:lnTo>
                    <a:pt x="63" y="1230"/>
                  </a:lnTo>
                  <a:lnTo>
                    <a:pt x="92" y="1243"/>
                  </a:lnTo>
                  <a:lnTo>
                    <a:pt x="120" y="1257"/>
                  </a:lnTo>
                  <a:lnTo>
                    <a:pt x="151" y="1268"/>
                  </a:lnTo>
                  <a:lnTo>
                    <a:pt x="182" y="1280"/>
                  </a:lnTo>
                  <a:lnTo>
                    <a:pt x="213" y="1287"/>
                  </a:lnTo>
                  <a:lnTo>
                    <a:pt x="243" y="1295"/>
                  </a:lnTo>
                  <a:lnTo>
                    <a:pt x="276" y="1301"/>
                  </a:lnTo>
                  <a:lnTo>
                    <a:pt x="309" y="1305"/>
                  </a:lnTo>
                  <a:lnTo>
                    <a:pt x="343" y="1309"/>
                  </a:lnTo>
                  <a:lnTo>
                    <a:pt x="376" y="1309"/>
                  </a:lnTo>
                  <a:lnTo>
                    <a:pt x="410" y="1309"/>
                  </a:lnTo>
                  <a:lnTo>
                    <a:pt x="443" y="1305"/>
                  </a:lnTo>
                  <a:lnTo>
                    <a:pt x="464" y="1303"/>
                  </a:lnTo>
                  <a:lnTo>
                    <a:pt x="464" y="1301"/>
                  </a:lnTo>
                  <a:lnTo>
                    <a:pt x="464" y="1299"/>
                  </a:lnTo>
                  <a:lnTo>
                    <a:pt x="462" y="1299"/>
                  </a:lnTo>
                  <a:lnTo>
                    <a:pt x="462" y="1297"/>
                  </a:lnTo>
                  <a:lnTo>
                    <a:pt x="462" y="1295"/>
                  </a:lnTo>
                  <a:lnTo>
                    <a:pt x="460" y="1295"/>
                  </a:lnTo>
                  <a:lnTo>
                    <a:pt x="460" y="1293"/>
                  </a:lnTo>
                  <a:lnTo>
                    <a:pt x="458" y="1293"/>
                  </a:lnTo>
                  <a:lnTo>
                    <a:pt x="441" y="1295"/>
                  </a:lnTo>
                  <a:lnTo>
                    <a:pt x="408" y="1297"/>
                  </a:lnTo>
                  <a:lnTo>
                    <a:pt x="376" y="1297"/>
                  </a:lnTo>
                  <a:lnTo>
                    <a:pt x="343" y="1297"/>
                  </a:lnTo>
                  <a:lnTo>
                    <a:pt x="310" y="1295"/>
                  </a:lnTo>
                  <a:lnTo>
                    <a:pt x="278" y="1291"/>
                  </a:lnTo>
                  <a:lnTo>
                    <a:pt x="245" y="1285"/>
                  </a:lnTo>
                  <a:lnTo>
                    <a:pt x="214" y="1278"/>
                  </a:lnTo>
                  <a:lnTo>
                    <a:pt x="184" y="1268"/>
                  </a:lnTo>
                  <a:lnTo>
                    <a:pt x="155" y="1259"/>
                  </a:lnTo>
                  <a:lnTo>
                    <a:pt x="124" y="1247"/>
                  </a:lnTo>
                  <a:lnTo>
                    <a:pt x="97" y="1234"/>
                  </a:lnTo>
                  <a:lnTo>
                    <a:pt x="69" y="1220"/>
                  </a:lnTo>
                  <a:lnTo>
                    <a:pt x="42" y="1205"/>
                  </a:lnTo>
                  <a:lnTo>
                    <a:pt x="15" y="1188"/>
                  </a:lnTo>
                  <a:lnTo>
                    <a:pt x="0" y="1176"/>
                  </a:lnTo>
                  <a:lnTo>
                    <a:pt x="0" y="1178"/>
                  </a:lnTo>
                  <a:lnTo>
                    <a:pt x="0" y="1180"/>
                  </a:lnTo>
                  <a:lnTo>
                    <a:pt x="0" y="1182"/>
                  </a:lnTo>
                  <a:lnTo>
                    <a:pt x="0" y="1184"/>
                  </a:lnTo>
                  <a:lnTo>
                    <a:pt x="0" y="1184"/>
                  </a:lnTo>
                  <a:lnTo>
                    <a:pt x="0" y="1186"/>
                  </a:lnTo>
                  <a:lnTo>
                    <a:pt x="0" y="1188"/>
                  </a:lnTo>
                  <a:lnTo>
                    <a:pt x="0" y="1190"/>
                  </a:lnTo>
                  <a:close/>
                </a:path>
              </a:pathLst>
            </a:custGeom>
            <a:solidFill>
              <a:srgbClr val="85c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Freeform 406"/>
            <p:cNvSpPr/>
            <p:nvPr/>
          </p:nvSpPr>
          <p:spPr>
            <a:xfrm>
              <a:off x="5848920" y="2168640"/>
              <a:ext cx="777600" cy="2187000"/>
            </a:xfrm>
            <a:custGeom>
              <a:avLst/>
              <a:gdLst>
                <a:gd name="textAreaLeft" fmla="*/ 0 w 777600"/>
                <a:gd name="textAreaRight" fmla="*/ 777960 w 777600"/>
                <a:gd name="textAreaTop" fmla="*/ 0 h 2187000"/>
                <a:gd name="textAreaBottom" fmla="*/ 2187000 h 2187000"/>
              </a:gdLst>
              <a:ahLst/>
              <a:rect l="textAreaLeft" t="textAreaTop" r="textAreaRight" b="textAreaBottom"/>
              <a:pathLst>
                <a:path w="462" h="1299">
                  <a:moveTo>
                    <a:pt x="441" y="4"/>
                  </a:moveTo>
                  <a:lnTo>
                    <a:pt x="408" y="2"/>
                  </a:lnTo>
                  <a:lnTo>
                    <a:pt x="376" y="0"/>
                  </a:lnTo>
                  <a:lnTo>
                    <a:pt x="343" y="2"/>
                  </a:lnTo>
                  <a:lnTo>
                    <a:pt x="309" y="4"/>
                  </a:lnTo>
                  <a:lnTo>
                    <a:pt x="278" y="7"/>
                  </a:lnTo>
                  <a:lnTo>
                    <a:pt x="245" y="13"/>
                  </a:lnTo>
                  <a:lnTo>
                    <a:pt x="214" y="21"/>
                  </a:lnTo>
                  <a:lnTo>
                    <a:pt x="182" y="31"/>
                  </a:lnTo>
                  <a:lnTo>
                    <a:pt x="153" y="40"/>
                  </a:lnTo>
                  <a:lnTo>
                    <a:pt x="142" y="44"/>
                  </a:lnTo>
                  <a:lnTo>
                    <a:pt x="142" y="46"/>
                  </a:lnTo>
                  <a:lnTo>
                    <a:pt x="142" y="48"/>
                  </a:lnTo>
                  <a:lnTo>
                    <a:pt x="140" y="50"/>
                  </a:lnTo>
                  <a:lnTo>
                    <a:pt x="140" y="50"/>
                  </a:lnTo>
                  <a:lnTo>
                    <a:pt x="140" y="52"/>
                  </a:lnTo>
                  <a:lnTo>
                    <a:pt x="140" y="54"/>
                  </a:lnTo>
                  <a:lnTo>
                    <a:pt x="138" y="55"/>
                  </a:lnTo>
                  <a:lnTo>
                    <a:pt x="138" y="57"/>
                  </a:lnTo>
                  <a:lnTo>
                    <a:pt x="157" y="50"/>
                  </a:lnTo>
                  <a:lnTo>
                    <a:pt x="186" y="40"/>
                  </a:lnTo>
                  <a:lnTo>
                    <a:pt x="216" y="31"/>
                  </a:lnTo>
                  <a:lnTo>
                    <a:pt x="247" y="25"/>
                  </a:lnTo>
                  <a:lnTo>
                    <a:pt x="278" y="19"/>
                  </a:lnTo>
                  <a:lnTo>
                    <a:pt x="310" y="15"/>
                  </a:lnTo>
                  <a:lnTo>
                    <a:pt x="343" y="11"/>
                  </a:lnTo>
                  <a:lnTo>
                    <a:pt x="376" y="11"/>
                  </a:lnTo>
                  <a:lnTo>
                    <a:pt x="408" y="11"/>
                  </a:lnTo>
                  <a:lnTo>
                    <a:pt x="437" y="13"/>
                  </a:lnTo>
                  <a:lnTo>
                    <a:pt x="437" y="13"/>
                  </a:lnTo>
                  <a:lnTo>
                    <a:pt x="437" y="11"/>
                  </a:lnTo>
                  <a:lnTo>
                    <a:pt x="439" y="9"/>
                  </a:lnTo>
                  <a:lnTo>
                    <a:pt x="439" y="9"/>
                  </a:lnTo>
                  <a:lnTo>
                    <a:pt x="439" y="7"/>
                  </a:lnTo>
                  <a:lnTo>
                    <a:pt x="441" y="6"/>
                  </a:lnTo>
                  <a:lnTo>
                    <a:pt x="441" y="6"/>
                  </a:lnTo>
                  <a:lnTo>
                    <a:pt x="441" y="4"/>
                  </a:lnTo>
                  <a:close/>
                  <a:moveTo>
                    <a:pt x="0" y="1180"/>
                  </a:moveTo>
                  <a:lnTo>
                    <a:pt x="13" y="1187"/>
                  </a:lnTo>
                  <a:lnTo>
                    <a:pt x="40" y="1205"/>
                  </a:lnTo>
                  <a:lnTo>
                    <a:pt x="67" y="1220"/>
                  </a:lnTo>
                  <a:lnTo>
                    <a:pt x="94" y="1235"/>
                  </a:lnTo>
                  <a:lnTo>
                    <a:pt x="122" y="1249"/>
                  </a:lnTo>
                  <a:lnTo>
                    <a:pt x="153" y="1260"/>
                  </a:lnTo>
                  <a:lnTo>
                    <a:pt x="182" y="1270"/>
                  </a:lnTo>
                  <a:lnTo>
                    <a:pt x="214" y="1280"/>
                  </a:lnTo>
                  <a:lnTo>
                    <a:pt x="245" y="1285"/>
                  </a:lnTo>
                  <a:lnTo>
                    <a:pt x="278" y="1291"/>
                  </a:lnTo>
                  <a:lnTo>
                    <a:pt x="309" y="1295"/>
                  </a:lnTo>
                  <a:lnTo>
                    <a:pt x="343" y="1299"/>
                  </a:lnTo>
                  <a:lnTo>
                    <a:pt x="376" y="1299"/>
                  </a:lnTo>
                  <a:lnTo>
                    <a:pt x="408" y="1299"/>
                  </a:lnTo>
                  <a:lnTo>
                    <a:pt x="443" y="1295"/>
                  </a:lnTo>
                  <a:lnTo>
                    <a:pt x="462" y="1293"/>
                  </a:lnTo>
                  <a:lnTo>
                    <a:pt x="462" y="1291"/>
                  </a:lnTo>
                  <a:lnTo>
                    <a:pt x="460" y="1291"/>
                  </a:lnTo>
                  <a:lnTo>
                    <a:pt x="460" y="1289"/>
                  </a:lnTo>
                  <a:lnTo>
                    <a:pt x="458" y="1289"/>
                  </a:lnTo>
                  <a:lnTo>
                    <a:pt x="458" y="1287"/>
                  </a:lnTo>
                  <a:lnTo>
                    <a:pt x="458" y="1285"/>
                  </a:lnTo>
                  <a:lnTo>
                    <a:pt x="456" y="1285"/>
                  </a:lnTo>
                  <a:lnTo>
                    <a:pt x="456" y="1283"/>
                  </a:lnTo>
                  <a:lnTo>
                    <a:pt x="441" y="1285"/>
                  </a:lnTo>
                  <a:lnTo>
                    <a:pt x="408" y="1287"/>
                  </a:lnTo>
                  <a:lnTo>
                    <a:pt x="376" y="1289"/>
                  </a:lnTo>
                  <a:lnTo>
                    <a:pt x="343" y="1287"/>
                  </a:lnTo>
                  <a:lnTo>
                    <a:pt x="310" y="1285"/>
                  </a:lnTo>
                  <a:lnTo>
                    <a:pt x="278" y="1281"/>
                  </a:lnTo>
                  <a:lnTo>
                    <a:pt x="247" y="1276"/>
                  </a:lnTo>
                  <a:lnTo>
                    <a:pt x="216" y="1268"/>
                  </a:lnTo>
                  <a:lnTo>
                    <a:pt x="186" y="1260"/>
                  </a:lnTo>
                  <a:lnTo>
                    <a:pt x="157" y="1249"/>
                  </a:lnTo>
                  <a:lnTo>
                    <a:pt x="128" y="1237"/>
                  </a:lnTo>
                  <a:lnTo>
                    <a:pt x="99" y="1226"/>
                  </a:lnTo>
                  <a:lnTo>
                    <a:pt x="71" y="1210"/>
                  </a:lnTo>
                  <a:lnTo>
                    <a:pt x="46" y="1195"/>
                  </a:lnTo>
                  <a:lnTo>
                    <a:pt x="19" y="1180"/>
                  </a:lnTo>
                  <a:lnTo>
                    <a:pt x="0" y="1164"/>
                  </a:lnTo>
                  <a:lnTo>
                    <a:pt x="0" y="1166"/>
                  </a:lnTo>
                  <a:lnTo>
                    <a:pt x="0" y="1168"/>
                  </a:lnTo>
                  <a:lnTo>
                    <a:pt x="0" y="1170"/>
                  </a:lnTo>
                  <a:lnTo>
                    <a:pt x="0" y="1172"/>
                  </a:lnTo>
                  <a:lnTo>
                    <a:pt x="0" y="1174"/>
                  </a:lnTo>
                  <a:lnTo>
                    <a:pt x="0" y="1176"/>
                  </a:lnTo>
                  <a:lnTo>
                    <a:pt x="0" y="1178"/>
                  </a:lnTo>
                  <a:lnTo>
                    <a:pt x="0" y="1180"/>
                  </a:lnTo>
                  <a:close/>
                </a:path>
              </a:pathLst>
            </a:custGeom>
            <a:solidFill>
              <a:srgbClr val="86c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Freeform 407"/>
            <p:cNvSpPr/>
            <p:nvPr/>
          </p:nvSpPr>
          <p:spPr>
            <a:xfrm>
              <a:off x="5845320" y="2178720"/>
              <a:ext cx="774360" cy="2167200"/>
            </a:xfrm>
            <a:custGeom>
              <a:avLst/>
              <a:gdLst>
                <a:gd name="textAreaLeft" fmla="*/ 0 w 774360"/>
                <a:gd name="textAreaRight" fmla="*/ 774720 w 774360"/>
                <a:gd name="textAreaTop" fmla="*/ 0 h 2167200"/>
                <a:gd name="textAreaBottom" fmla="*/ 2167560 h 2167200"/>
              </a:gdLst>
              <a:ahLst/>
              <a:rect l="textAreaLeft" t="textAreaTop" r="textAreaRight" b="textAreaBottom"/>
              <a:pathLst>
                <a:path w="460" h="1287">
                  <a:moveTo>
                    <a:pt x="441" y="3"/>
                  </a:moveTo>
                  <a:lnTo>
                    <a:pt x="410" y="1"/>
                  </a:lnTo>
                  <a:lnTo>
                    <a:pt x="378" y="0"/>
                  </a:lnTo>
                  <a:lnTo>
                    <a:pt x="345" y="1"/>
                  </a:lnTo>
                  <a:lnTo>
                    <a:pt x="312" y="3"/>
                  </a:lnTo>
                  <a:lnTo>
                    <a:pt x="280" y="7"/>
                  </a:lnTo>
                  <a:lnTo>
                    <a:pt x="247" y="13"/>
                  </a:lnTo>
                  <a:lnTo>
                    <a:pt x="216" y="21"/>
                  </a:lnTo>
                  <a:lnTo>
                    <a:pt x="186" y="28"/>
                  </a:lnTo>
                  <a:lnTo>
                    <a:pt x="157" y="38"/>
                  </a:lnTo>
                  <a:lnTo>
                    <a:pt x="142" y="44"/>
                  </a:lnTo>
                  <a:lnTo>
                    <a:pt x="142" y="46"/>
                  </a:lnTo>
                  <a:lnTo>
                    <a:pt x="142" y="48"/>
                  </a:lnTo>
                  <a:lnTo>
                    <a:pt x="140" y="49"/>
                  </a:lnTo>
                  <a:lnTo>
                    <a:pt x="140" y="51"/>
                  </a:lnTo>
                  <a:lnTo>
                    <a:pt x="140" y="53"/>
                  </a:lnTo>
                  <a:lnTo>
                    <a:pt x="140" y="55"/>
                  </a:lnTo>
                  <a:lnTo>
                    <a:pt x="138" y="55"/>
                  </a:lnTo>
                  <a:lnTo>
                    <a:pt x="138" y="57"/>
                  </a:lnTo>
                  <a:lnTo>
                    <a:pt x="161" y="49"/>
                  </a:lnTo>
                  <a:lnTo>
                    <a:pt x="190" y="40"/>
                  </a:lnTo>
                  <a:lnTo>
                    <a:pt x="220" y="30"/>
                  </a:lnTo>
                  <a:lnTo>
                    <a:pt x="251" y="23"/>
                  </a:lnTo>
                  <a:lnTo>
                    <a:pt x="282" y="17"/>
                  </a:lnTo>
                  <a:lnTo>
                    <a:pt x="312" y="13"/>
                  </a:lnTo>
                  <a:lnTo>
                    <a:pt x="345" y="11"/>
                  </a:lnTo>
                  <a:lnTo>
                    <a:pt x="378" y="11"/>
                  </a:lnTo>
                  <a:lnTo>
                    <a:pt x="410" y="11"/>
                  </a:lnTo>
                  <a:lnTo>
                    <a:pt x="435" y="13"/>
                  </a:lnTo>
                  <a:lnTo>
                    <a:pt x="437" y="11"/>
                  </a:lnTo>
                  <a:lnTo>
                    <a:pt x="437" y="11"/>
                  </a:lnTo>
                  <a:lnTo>
                    <a:pt x="437" y="9"/>
                  </a:lnTo>
                  <a:lnTo>
                    <a:pt x="439" y="7"/>
                  </a:lnTo>
                  <a:lnTo>
                    <a:pt x="439" y="7"/>
                  </a:lnTo>
                  <a:lnTo>
                    <a:pt x="439" y="5"/>
                  </a:lnTo>
                  <a:lnTo>
                    <a:pt x="441" y="3"/>
                  </a:lnTo>
                  <a:lnTo>
                    <a:pt x="441" y="3"/>
                  </a:lnTo>
                  <a:close/>
                  <a:moveTo>
                    <a:pt x="2" y="1166"/>
                  </a:moveTo>
                  <a:lnTo>
                    <a:pt x="17" y="1178"/>
                  </a:lnTo>
                  <a:lnTo>
                    <a:pt x="44" y="1195"/>
                  </a:lnTo>
                  <a:lnTo>
                    <a:pt x="71" y="1210"/>
                  </a:lnTo>
                  <a:lnTo>
                    <a:pt x="99" y="1224"/>
                  </a:lnTo>
                  <a:lnTo>
                    <a:pt x="126" y="1237"/>
                  </a:lnTo>
                  <a:lnTo>
                    <a:pt x="157" y="1249"/>
                  </a:lnTo>
                  <a:lnTo>
                    <a:pt x="186" y="1258"/>
                  </a:lnTo>
                  <a:lnTo>
                    <a:pt x="216" y="1268"/>
                  </a:lnTo>
                  <a:lnTo>
                    <a:pt x="247" y="1275"/>
                  </a:lnTo>
                  <a:lnTo>
                    <a:pt x="280" y="1281"/>
                  </a:lnTo>
                  <a:lnTo>
                    <a:pt x="312" y="1285"/>
                  </a:lnTo>
                  <a:lnTo>
                    <a:pt x="345" y="1287"/>
                  </a:lnTo>
                  <a:lnTo>
                    <a:pt x="378" y="1287"/>
                  </a:lnTo>
                  <a:lnTo>
                    <a:pt x="410" y="1287"/>
                  </a:lnTo>
                  <a:lnTo>
                    <a:pt x="443" y="1285"/>
                  </a:lnTo>
                  <a:lnTo>
                    <a:pt x="460" y="1283"/>
                  </a:lnTo>
                  <a:lnTo>
                    <a:pt x="460" y="1281"/>
                  </a:lnTo>
                  <a:lnTo>
                    <a:pt x="460" y="1279"/>
                  </a:lnTo>
                  <a:lnTo>
                    <a:pt x="458" y="1279"/>
                  </a:lnTo>
                  <a:lnTo>
                    <a:pt x="458" y="1277"/>
                  </a:lnTo>
                  <a:lnTo>
                    <a:pt x="458" y="1275"/>
                  </a:lnTo>
                  <a:lnTo>
                    <a:pt x="456" y="1275"/>
                  </a:lnTo>
                  <a:lnTo>
                    <a:pt x="456" y="1274"/>
                  </a:lnTo>
                  <a:lnTo>
                    <a:pt x="456" y="1272"/>
                  </a:lnTo>
                  <a:lnTo>
                    <a:pt x="443" y="1274"/>
                  </a:lnTo>
                  <a:lnTo>
                    <a:pt x="410" y="1275"/>
                  </a:lnTo>
                  <a:lnTo>
                    <a:pt x="378" y="1277"/>
                  </a:lnTo>
                  <a:lnTo>
                    <a:pt x="345" y="1275"/>
                  </a:lnTo>
                  <a:lnTo>
                    <a:pt x="312" y="1274"/>
                  </a:lnTo>
                  <a:lnTo>
                    <a:pt x="282" y="1270"/>
                  </a:lnTo>
                  <a:lnTo>
                    <a:pt x="251" y="1264"/>
                  </a:lnTo>
                  <a:lnTo>
                    <a:pt x="220" y="1256"/>
                  </a:lnTo>
                  <a:lnTo>
                    <a:pt x="190" y="1249"/>
                  </a:lnTo>
                  <a:lnTo>
                    <a:pt x="161" y="1239"/>
                  </a:lnTo>
                  <a:lnTo>
                    <a:pt x="132" y="1228"/>
                  </a:lnTo>
                  <a:lnTo>
                    <a:pt x="103" y="1214"/>
                  </a:lnTo>
                  <a:lnTo>
                    <a:pt x="76" y="1201"/>
                  </a:lnTo>
                  <a:lnTo>
                    <a:pt x="49" y="1185"/>
                  </a:lnTo>
                  <a:lnTo>
                    <a:pt x="25" y="1168"/>
                  </a:lnTo>
                  <a:lnTo>
                    <a:pt x="0" y="1153"/>
                  </a:lnTo>
                  <a:lnTo>
                    <a:pt x="0" y="1155"/>
                  </a:lnTo>
                  <a:lnTo>
                    <a:pt x="2" y="1157"/>
                  </a:lnTo>
                  <a:lnTo>
                    <a:pt x="2" y="1158"/>
                  </a:lnTo>
                  <a:lnTo>
                    <a:pt x="2" y="1158"/>
                  </a:lnTo>
                  <a:lnTo>
                    <a:pt x="2" y="1160"/>
                  </a:lnTo>
                  <a:lnTo>
                    <a:pt x="2" y="1162"/>
                  </a:lnTo>
                  <a:lnTo>
                    <a:pt x="2" y="1164"/>
                  </a:lnTo>
                  <a:lnTo>
                    <a:pt x="2" y="1166"/>
                  </a:lnTo>
                  <a:close/>
                </a:path>
              </a:pathLst>
            </a:custGeom>
            <a:solidFill>
              <a:srgbClr val="87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Freeform 408"/>
            <p:cNvSpPr/>
            <p:nvPr/>
          </p:nvSpPr>
          <p:spPr>
            <a:xfrm>
              <a:off x="5845320" y="2187000"/>
              <a:ext cx="771120" cy="2152080"/>
            </a:xfrm>
            <a:custGeom>
              <a:avLst/>
              <a:gdLst>
                <a:gd name="textAreaLeft" fmla="*/ 0 w 771120"/>
                <a:gd name="textAreaRight" fmla="*/ 771480 w 771120"/>
                <a:gd name="textAreaTop" fmla="*/ 0 h 2152080"/>
                <a:gd name="textAreaBottom" fmla="*/ 2152440 h 2152080"/>
              </a:gdLst>
              <a:ahLst/>
              <a:rect l="textAreaLeft" t="textAreaTop" r="textAreaRight" b="textAreaBottom"/>
              <a:pathLst>
                <a:path w="458" h="1278">
                  <a:moveTo>
                    <a:pt x="439" y="2"/>
                  </a:moveTo>
                  <a:lnTo>
                    <a:pt x="410" y="0"/>
                  </a:lnTo>
                  <a:lnTo>
                    <a:pt x="378" y="0"/>
                  </a:lnTo>
                  <a:lnTo>
                    <a:pt x="345" y="0"/>
                  </a:lnTo>
                  <a:lnTo>
                    <a:pt x="312" y="4"/>
                  </a:lnTo>
                  <a:lnTo>
                    <a:pt x="280" y="8"/>
                  </a:lnTo>
                  <a:lnTo>
                    <a:pt x="249" y="14"/>
                  </a:lnTo>
                  <a:lnTo>
                    <a:pt x="218" y="20"/>
                  </a:lnTo>
                  <a:lnTo>
                    <a:pt x="188" y="29"/>
                  </a:lnTo>
                  <a:lnTo>
                    <a:pt x="159" y="39"/>
                  </a:lnTo>
                  <a:lnTo>
                    <a:pt x="140" y="46"/>
                  </a:lnTo>
                  <a:lnTo>
                    <a:pt x="140" y="48"/>
                  </a:lnTo>
                  <a:lnTo>
                    <a:pt x="140" y="50"/>
                  </a:lnTo>
                  <a:lnTo>
                    <a:pt x="138" y="50"/>
                  </a:lnTo>
                  <a:lnTo>
                    <a:pt x="138" y="52"/>
                  </a:lnTo>
                  <a:lnTo>
                    <a:pt x="138" y="54"/>
                  </a:lnTo>
                  <a:lnTo>
                    <a:pt x="136" y="56"/>
                  </a:lnTo>
                  <a:lnTo>
                    <a:pt x="136" y="58"/>
                  </a:lnTo>
                  <a:lnTo>
                    <a:pt x="136" y="60"/>
                  </a:lnTo>
                  <a:lnTo>
                    <a:pt x="163" y="48"/>
                  </a:lnTo>
                  <a:lnTo>
                    <a:pt x="192" y="39"/>
                  </a:lnTo>
                  <a:lnTo>
                    <a:pt x="220" y="31"/>
                  </a:lnTo>
                  <a:lnTo>
                    <a:pt x="251" y="23"/>
                  </a:lnTo>
                  <a:lnTo>
                    <a:pt x="282" y="18"/>
                  </a:lnTo>
                  <a:lnTo>
                    <a:pt x="314" y="14"/>
                  </a:lnTo>
                  <a:lnTo>
                    <a:pt x="345" y="12"/>
                  </a:lnTo>
                  <a:lnTo>
                    <a:pt x="378" y="10"/>
                  </a:lnTo>
                  <a:lnTo>
                    <a:pt x="410" y="12"/>
                  </a:lnTo>
                  <a:lnTo>
                    <a:pt x="433" y="14"/>
                  </a:lnTo>
                  <a:lnTo>
                    <a:pt x="433" y="12"/>
                  </a:lnTo>
                  <a:lnTo>
                    <a:pt x="433" y="10"/>
                  </a:lnTo>
                  <a:lnTo>
                    <a:pt x="435" y="10"/>
                  </a:lnTo>
                  <a:lnTo>
                    <a:pt x="435" y="8"/>
                  </a:lnTo>
                  <a:lnTo>
                    <a:pt x="437" y="6"/>
                  </a:lnTo>
                  <a:lnTo>
                    <a:pt x="437" y="6"/>
                  </a:lnTo>
                  <a:lnTo>
                    <a:pt x="437" y="4"/>
                  </a:lnTo>
                  <a:lnTo>
                    <a:pt x="439" y="2"/>
                  </a:lnTo>
                  <a:close/>
                  <a:moveTo>
                    <a:pt x="2" y="1153"/>
                  </a:moveTo>
                  <a:lnTo>
                    <a:pt x="21" y="1169"/>
                  </a:lnTo>
                  <a:lnTo>
                    <a:pt x="48" y="1184"/>
                  </a:lnTo>
                  <a:lnTo>
                    <a:pt x="73" y="1199"/>
                  </a:lnTo>
                  <a:lnTo>
                    <a:pt x="101" y="1215"/>
                  </a:lnTo>
                  <a:lnTo>
                    <a:pt x="130" y="1226"/>
                  </a:lnTo>
                  <a:lnTo>
                    <a:pt x="159" y="1238"/>
                  </a:lnTo>
                  <a:lnTo>
                    <a:pt x="188" y="1249"/>
                  </a:lnTo>
                  <a:lnTo>
                    <a:pt x="218" y="1257"/>
                  </a:lnTo>
                  <a:lnTo>
                    <a:pt x="249" y="1265"/>
                  </a:lnTo>
                  <a:lnTo>
                    <a:pt x="280" y="1270"/>
                  </a:lnTo>
                  <a:lnTo>
                    <a:pt x="312" y="1274"/>
                  </a:lnTo>
                  <a:lnTo>
                    <a:pt x="345" y="1276"/>
                  </a:lnTo>
                  <a:lnTo>
                    <a:pt x="378" y="1278"/>
                  </a:lnTo>
                  <a:lnTo>
                    <a:pt x="410" y="1276"/>
                  </a:lnTo>
                  <a:lnTo>
                    <a:pt x="443" y="1274"/>
                  </a:lnTo>
                  <a:lnTo>
                    <a:pt x="458" y="1272"/>
                  </a:lnTo>
                  <a:lnTo>
                    <a:pt x="458" y="1270"/>
                  </a:lnTo>
                  <a:lnTo>
                    <a:pt x="456" y="1270"/>
                  </a:lnTo>
                  <a:lnTo>
                    <a:pt x="456" y="1269"/>
                  </a:lnTo>
                  <a:lnTo>
                    <a:pt x="456" y="1267"/>
                  </a:lnTo>
                  <a:lnTo>
                    <a:pt x="454" y="1267"/>
                  </a:lnTo>
                  <a:lnTo>
                    <a:pt x="454" y="1265"/>
                  </a:lnTo>
                  <a:lnTo>
                    <a:pt x="453" y="1263"/>
                  </a:lnTo>
                  <a:lnTo>
                    <a:pt x="453" y="1263"/>
                  </a:lnTo>
                  <a:lnTo>
                    <a:pt x="443" y="1263"/>
                  </a:lnTo>
                  <a:lnTo>
                    <a:pt x="410" y="1267"/>
                  </a:lnTo>
                  <a:lnTo>
                    <a:pt x="378" y="1267"/>
                  </a:lnTo>
                  <a:lnTo>
                    <a:pt x="345" y="1267"/>
                  </a:lnTo>
                  <a:lnTo>
                    <a:pt x="314" y="1263"/>
                  </a:lnTo>
                  <a:lnTo>
                    <a:pt x="282" y="1259"/>
                  </a:lnTo>
                  <a:lnTo>
                    <a:pt x="251" y="1253"/>
                  </a:lnTo>
                  <a:lnTo>
                    <a:pt x="220" y="1247"/>
                  </a:lnTo>
                  <a:lnTo>
                    <a:pt x="192" y="1238"/>
                  </a:lnTo>
                  <a:lnTo>
                    <a:pt x="163" y="1228"/>
                  </a:lnTo>
                  <a:lnTo>
                    <a:pt x="134" y="1217"/>
                  </a:lnTo>
                  <a:lnTo>
                    <a:pt x="105" y="1205"/>
                  </a:lnTo>
                  <a:lnTo>
                    <a:pt x="78" y="1192"/>
                  </a:lnTo>
                  <a:lnTo>
                    <a:pt x="51" y="1176"/>
                  </a:lnTo>
                  <a:lnTo>
                    <a:pt x="26" y="1159"/>
                  </a:lnTo>
                  <a:lnTo>
                    <a:pt x="2" y="1142"/>
                  </a:lnTo>
                  <a:lnTo>
                    <a:pt x="0" y="1140"/>
                  </a:lnTo>
                  <a:lnTo>
                    <a:pt x="0" y="1142"/>
                  </a:lnTo>
                  <a:lnTo>
                    <a:pt x="0" y="1144"/>
                  </a:lnTo>
                  <a:lnTo>
                    <a:pt x="0" y="1146"/>
                  </a:lnTo>
                  <a:lnTo>
                    <a:pt x="0" y="1148"/>
                  </a:lnTo>
                  <a:lnTo>
                    <a:pt x="0" y="1150"/>
                  </a:lnTo>
                  <a:lnTo>
                    <a:pt x="2" y="1152"/>
                  </a:lnTo>
                  <a:lnTo>
                    <a:pt x="2" y="1152"/>
                  </a:lnTo>
                  <a:lnTo>
                    <a:pt x="2" y="1153"/>
                  </a:lnTo>
                  <a:close/>
                </a:path>
              </a:pathLst>
            </a:custGeom>
            <a:solidFill>
              <a:srgbClr val="88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Freeform 409"/>
            <p:cNvSpPr/>
            <p:nvPr/>
          </p:nvSpPr>
          <p:spPr>
            <a:xfrm>
              <a:off x="5845320" y="2197440"/>
              <a:ext cx="767880" cy="2131920"/>
            </a:xfrm>
            <a:custGeom>
              <a:avLst/>
              <a:gdLst>
                <a:gd name="textAreaLeft" fmla="*/ 0 w 767880"/>
                <a:gd name="textAreaRight" fmla="*/ 768240 w 767880"/>
                <a:gd name="textAreaTop" fmla="*/ 0 h 2131920"/>
                <a:gd name="textAreaBottom" fmla="*/ 2132280 h 2131920"/>
              </a:gdLst>
              <a:ahLst/>
              <a:rect l="textAreaLeft" t="textAreaTop" r="textAreaRight" b="textAreaBottom"/>
              <a:pathLst>
                <a:path w="456" h="1266">
                  <a:moveTo>
                    <a:pt x="435" y="2"/>
                  </a:moveTo>
                  <a:lnTo>
                    <a:pt x="410" y="0"/>
                  </a:lnTo>
                  <a:lnTo>
                    <a:pt x="378" y="0"/>
                  </a:lnTo>
                  <a:lnTo>
                    <a:pt x="345" y="0"/>
                  </a:lnTo>
                  <a:lnTo>
                    <a:pt x="312" y="2"/>
                  </a:lnTo>
                  <a:lnTo>
                    <a:pt x="282" y="6"/>
                  </a:lnTo>
                  <a:lnTo>
                    <a:pt x="251" y="12"/>
                  </a:lnTo>
                  <a:lnTo>
                    <a:pt x="220" y="19"/>
                  </a:lnTo>
                  <a:lnTo>
                    <a:pt x="190" y="29"/>
                  </a:lnTo>
                  <a:lnTo>
                    <a:pt x="161" y="38"/>
                  </a:lnTo>
                  <a:lnTo>
                    <a:pt x="138" y="46"/>
                  </a:lnTo>
                  <a:lnTo>
                    <a:pt x="138" y="48"/>
                  </a:lnTo>
                  <a:lnTo>
                    <a:pt x="136" y="50"/>
                  </a:lnTo>
                  <a:lnTo>
                    <a:pt x="136" y="52"/>
                  </a:lnTo>
                  <a:lnTo>
                    <a:pt x="136" y="54"/>
                  </a:lnTo>
                  <a:lnTo>
                    <a:pt x="136" y="56"/>
                  </a:lnTo>
                  <a:lnTo>
                    <a:pt x="134" y="56"/>
                  </a:lnTo>
                  <a:lnTo>
                    <a:pt x="134" y="58"/>
                  </a:lnTo>
                  <a:lnTo>
                    <a:pt x="134" y="60"/>
                  </a:lnTo>
                  <a:lnTo>
                    <a:pt x="136" y="60"/>
                  </a:lnTo>
                  <a:lnTo>
                    <a:pt x="165" y="48"/>
                  </a:lnTo>
                  <a:lnTo>
                    <a:pt x="193" y="38"/>
                  </a:lnTo>
                  <a:lnTo>
                    <a:pt x="222" y="29"/>
                  </a:lnTo>
                  <a:lnTo>
                    <a:pt x="253" y="23"/>
                  </a:lnTo>
                  <a:lnTo>
                    <a:pt x="284" y="17"/>
                  </a:lnTo>
                  <a:lnTo>
                    <a:pt x="314" y="14"/>
                  </a:lnTo>
                  <a:lnTo>
                    <a:pt x="345" y="12"/>
                  </a:lnTo>
                  <a:lnTo>
                    <a:pt x="378" y="10"/>
                  </a:lnTo>
                  <a:lnTo>
                    <a:pt x="410" y="12"/>
                  </a:lnTo>
                  <a:lnTo>
                    <a:pt x="430" y="12"/>
                  </a:lnTo>
                  <a:lnTo>
                    <a:pt x="431" y="12"/>
                  </a:lnTo>
                  <a:lnTo>
                    <a:pt x="431" y="10"/>
                  </a:lnTo>
                  <a:lnTo>
                    <a:pt x="431" y="8"/>
                  </a:lnTo>
                  <a:lnTo>
                    <a:pt x="433" y="8"/>
                  </a:lnTo>
                  <a:lnTo>
                    <a:pt x="433" y="6"/>
                  </a:lnTo>
                  <a:lnTo>
                    <a:pt x="433" y="4"/>
                  </a:lnTo>
                  <a:lnTo>
                    <a:pt x="435" y="4"/>
                  </a:lnTo>
                  <a:lnTo>
                    <a:pt x="435" y="2"/>
                  </a:lnTo>
                  <a:close/>
                  <a:moveTo>
                    <a:pt x="0" y="1142"/>
                  </a:moveTo>
                  <a:lnTo>
                    <a:pt x="25" y="1157"/>
                  </a:lnTo>
                  <a:lnTo>
                    <a:pt x="49" y="1174"/>
                  </a:lnTo>
                  <a:lnTo>
                    <a:pt x="76" y="1190"/>
                  </a:lnTo>
                  <a:lnTo>
                    <a:pt x="103" y="1203"/>
                  </a:lnTo>
                  <a:lnTo>
                    <a:pt x="132" y="1217"/>
                  </a:lnTo>
                  <a:lnTo>
                    <a:pt x="161" y="1228"/>
                  </a:lnTo>
                  <a:lnTo>
                    <a:pt x="190" y="1238"/>
                  </a:lnTo>
                  <a:lnTo>
                    <a:pt x="220" y="1245"/>
                  </a:lnTo>
                  <a:lnTo>
                    <a:pt x="251" y="1253"/>
                  </a:lnTo>
                  <a:lnTo>
                    <a:pt x="282" y="1259"/>
                  </a:lnTo>
                  <a:lnTo>
                    <a:pt x="312" y="1263"/>
                  </a:lnTo>
                  <a:lnTo>
                    <a:pt x="345" y="1264"/>
                  </a:lnTo>
                  <a:lnTo>
                    <a:pt x="378" y="1266"/>
                  </a:lnTo>
                  <a:lnTo>
                    <a:pt x="410" y="1264"/>
                  </a:lnTo>
                  <a:lnTo>
                    <a:pt x="443" y="1263"/>
                  </a:lnTo>
                  <a:lnTo>
                    <a:pt x="456" y="1261"/>
                  </a:lnTo>
                  <a:lnTo>
                    <a:pt x="454" y="1261"/>
                  </a:lnTo>
                  <a:lnTo>
                    <a:pt x="454" y="1259"/>
                  </a:lnTo>
                  <a:lnTo>
                    <a:pt x="453" y="1257"/>
                  </a:lnTo>
                  <a:lnTo>
                    <a:pt x="453" y="1257"/>
                  </a:lnTo>
                  <a:lnTo>
                    <a:pt x="453" y="1255"/>
                  </a:lnTo>
                  <a:lnTo>
                    <a:pt x="451" y="1253"/>
                  </a:lnTo>
                  <a:lnTo>
                    <a:pt x="451" y="1253"/>
                  </a:lnTo>
                  <a:lnTo>
                    <a:pt x="451" y="1251"/>
                  </a:lnTo>
                  <a:lnTo>
                    <a:pt x="441" y="1253"/>
                  </a:lnTo>
                  <a:lnTo>
                    <a:pt x="410" y="1255"/>
                  </a:lnTo>
                  <a:lnTo>
                    <a:pt x="378" y="1255"/>
                  </a:lnTo>
                  <a:lnTo>
                    <a:pt x="345" y="1255"/>
                  </a:lnTo>
                  <a:lnTo>
                    <a:pt x="314" y="1253"/>
                  </a:lnTo>
                  <a:lnTo>
                    <a:pt x="284" y="1249"/>
                  </a:lnTo>
                  <a:lnTo>
                    <a:pt x="253" y="1243"/>
                  </a:lnTo>
                  <a:lnTo>
                    <a:pt x="222" y="1236"/>
                  </a:lnTo>
                  <a:lnTo>
                    <a:pt x="193" y="1228"/>
                  </a:lnTo>
                  <a:lnTo>
                    <a:pt x="165" y="1218"/>
                  </a:lnTo>
                  <a:lnTo>
                    <a:pt x="136" y="1207"/>
                  </a:lnTo>
                  <a:lnTo>
                    <a:pt x="107" y="1193"/>
                  </a:lnTo>
                  <a:lnTo>
                    <a:pt x="80" y="1180"/>
                  </a:lnTo>
                  <a:lnTo>
                    <a:pt x="55" y="1165"/>
                  </a:lnTo>
                  <a:lnTo>
                    <a:pt x="30" y="1149"/>
                  </a:lnTo>
                  <a:lnTo>
                    <a:pt x="5" y="1132"/>
                  </a:lnTo>
                  <a:lnTo>
                    <a:pt x="0" y="1126"/>
                  </a:lnTo>
                  <a:lnTo>
                    <a:pt x="0" y="1128"/>
                  </a:lnTo>
                  <a:lnTo>
                    <a:pt x="0" y="1130"/>
                  </a:lnTo>
                  <a:lnTo>
                    <a:pt x="0" y="1132"/>
                  </a:lnTo>
                  <a:lnTo>
                    <a:pt x="0" y="1134"/>
                  </a:lnTo>
                  <a:lnTo>
                    <a:pt x="0" y="1136"/>
                  </a:lnTo>
                  <a:lnTo>
                    <a:pt x="0" y="1138"/>
                  </a:lnTo>
                  <a:lnTo>
                    <a:pt x="0" y="1140"/>
                  </a:lnTo>
                  <a:lnTo>
                    <a:pt x="0" y="1142"/>
                  </a:lnTo>
                  <a:close/>
                </a:path>
              </a:pathLst>
            </a:custGeom>
            <a:solidFill>
              <a:srgbClr val="89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Freeform 411"/>
            <p:cNvSpPr/>
            <p:nvPr/>
          </p:nvSpPr>
          <p:spPr>
            <a:xfrm>
              <a:off x="5845320" y="2203920"/>
              <a:ext cx="762480" cy="2116440"/>
            </a:xfrm>
            <a:custGeom>
              <a:avLst/>
              <a:gdLst>
                <a:gd name="textAreaLeft" fmla="*/ 0 w 762480"/>
                <a:gd name="textAreaRight" fmla="*/ 762840 w 762480"/>
                <a:gd name="textAreaTop" fmla="*/ 0 h 2116440"/>
                <a:gd name="textAreaBottom" fmla="*/ 2116800 h 2116440"/>
              </a:gdLst>
              <a:ahLst/>
              <a:rect l="textAreaLeft" t="textAreaTop" r="textAreaRight" b="textAreaBottom"/>
              <a:pathLst>
                <a:path w="453" h="1257">
                  <a:moveTo>
                    <a:pt x="433" y="4"/>
                  </a:moveTo>
                  <a:lnTo>
                    <a:pt x="410" y="2"/>
                  </a:lnTo>
                  <a:lnTo>
                    <a:pt x="378" y="0"/>
                  </a:lnTo>
                  <a:lnTo>
                    <a:pt x="345" y="2"/>
                  </a:lnTo>
                  <a:lnTo>
                    <a:pt x="314" y="4"/>
                  </a:lnTo>
                  <a:lnTo>
                    <a:pt x="282" y="8"/>
                  </a:lnTo>
                  <a:lnTo>
                    <a:pt x="251" y="13"/>
                  </a:lnTo>
                  <a:lnTo>
                    <a:pt x="220" y="21"/>
                  </a:lnTo>
                  <a:lnTo>
                    <a:pt x="192" y="29"/>
                  </a:lnTo>
                  <a:lnTo>
                    <a:pt x="163" y="38"/>
                  </a:lnTo>
                  <a:lnTo>
                    <a:pt x="136" y="50"/>
                  </a:lnTo>
                  <a:lnTo>
                    <a:pt x="136" y="52"/>
                  </a:lnTo>
                  <a:lnTo>
                    <a:pt x="134" y="52"/>
                  </a:lnTo>
                  <a:lnTo>
                    <a:pt x="134" y="54"/>
                  </a:lnTo>
                  <a:lnTo>
                    <a:pt x="134" y="56"/>
                  </a:lnTo>
                  <a:lnTo>
                    <a:pt x="134" y="57"/>
                  </a:lnTo>
                  <a:lnTo>
                    <a:pt x="132" y="59"/>
                  </a:lnTo>
                  <a:lnTo>
                    <a:pt x="132" y="61"/>
                  </a:lnTo>
                  <a:lnTo>
                    <a:pt x="132" y="63"/>
                  </a:lnTo>
                  <a:lnTo>
                    <a:pt x="138" y="59"/>
                  </a:lnTo>
                  <a:lnTo>
                    <a:pt x="165" y="50"/>
                  </a:lnTo>
                  <a:lnTo>
                    <a:pt x="193" y="38"/>
                  </a:lnTo>
                  <a:lnTo>
                    <a:pt x="224" y="31"/>
                  </a:lnTo>
                  <a:lnTo>
                    <a:pt x="253" y="25"/>
                  </a:lnTo>
                  <a:lnTo>
                    <a:pt x="284" y="19"/>
                  </a:lnTo>
                  <a:lnTo>
                    <a:pt x="314" y="15"/>
                  </a:lnTo>
                  <a:lnTo>
                    <a:pt x="347" y="11"/>
                  </a:lnTo>
                  <a:lnTo>
                    <a:pt x="378" y="11"/>
                  </a:lnTo>
                  <a:lnTo>
                    <a:pt x="410" y="11"/>
                  </a:lnTo>
                  <a:lnTo>
                    <a:pt x="428" y="13"/>
                  </a:lnTo>
                  <a:lnTo>
                    <a:pt x="428" y="11"/>
                  </a:lnTo>
                  <a:lnTo>
                    <a:pt x="430" y="11"/>
                  </a:lnTo>
                  <a:lnTo>
                    <a:pt x="430" y="10"/>
                  </a:lnTo>
                  <a:lnTo>
                    <a:pt x="430" y="8"/>
                  </a:lnTo>
                  <a:lnTo>
                    <a:pt x="431" y="8"/>
                  </a:lnTo>
                  <a:lnTo>
                    <a:pt x="431" y="6"/>
                  </a:lnTo>
                  <a:lnTo>
                    <a:pt x="431" y="4"/>
                  </a:lnTo>
                  <a:lnTo>
                    <a:pt x="433" y="4"/>
                  </a:lnTo>
                  <a:close/>
                  <a:moveTo>
                    <a:pt x="0" y="1130"/>
                  </a:moveTo>
                  <a:lnTo>
                    <a:pt x="2" y="1132"/>
                  </a:lnTo>
                  <a:lnTo>
                    <a:pt x="26" y="1149"/>
                  </a:lnTo>
                  <a:lnTo>
                    <a:pt x="51" y="1166"/>
                  </a:lnTo>
                  <a:lnTo>
                    <a:pt x="78" y="1182"/>
                  </a:lnTo>
                  <a:lnTo>
                    <a:pt x="105" y="1195"/>
                  </a:lnTo>
                  <a:lnTo>
                    <a:pt x="134" y="1207"/>
                  </a:lnTo>
                  <a:lnTo>
                    <a:pt x="163" y="1218"/>
                  </a:lnTo>
                  <a:lnTo>
                    <a:pt x="192" y="1228"/>
                  </a:lnTo>
                  <a:lnTo>
                    <a:pt x="220" y="1237"/>
                  </a:lnTo>
                  <a:lnTo>
                    <a:pt x="251" y="1243"/>
                  </a:lnTo>
                  <a:lnTo>
                    <a:pt x="282" y="1249"/>
                  </a:lnTo>
                  <a:lnTo>
                    <a:pt x="314" y="1253"/>
                  </a:lnTo>
                  <a:lnTo>
                    <a:pt x="345" y="1257"/>
                  </a:lnTo>
                  <a:lnTo>
                    <a:pt x="378" y="1257"/>
                  </a:lnTo>
                  <a:lnTo>
                    <a:pt x="410" y="1257"/>
                  </a:lnTo>
                  <a:lnTo>
                    <a:pt x="443" y="1253"/>
                  </a:lnTo>
                  <a:lnTo>
                    <a:pt x="453" y="1253"/>
                  </a:lnTo>
                  <a:lnTo>
                    <a:pt x="453" y="1251"/>
                  </a:lnTo>
                  <a:lnTo>
                    <a:pt x="451" y="1249"/>
                  </a:lnTo>
                  <a:lnTo>
                    <a:pt x="451" y="1249"/>
                  </a:lnTo>
                  <a:lnTo>
                    <a:pt x="451" y="1247"/>
                  </a:lnTo>
                  <a:lnTo>
                    <a:pt x="449" y="1245"/>
                  </a:lnTo>
                  <a:lnTo>
                    <a:pt x="449" y="1245"/>
                  </a:lnTo>
                  <a:lnTo>
                    <a:pt x="449" y="1243"/>
                  </a:lnTo>
                  <a:lnTo>
                    <a:pt x="447" y="1241"/>
                  </a:lnTo>
                  <a:lnTo>
                    <a:pt x="441" y="1243"/>
                  </a:lnTo>
                  <a:lnTo>
                    <a:pt x="410" y="1245"/>
                  </a:lnTo>
                  <a:lnTo>
                    <a:pt x="378" y="1247"/>
                  </a:lnTo>
                  <a:lnTo>
                    <a:pt x="347" y="1245"/>
                  </a:lnTo>
                  <a:lnTo>
                    <a:pt x="314" y="1243"/>
                  </a:lnTo>
                  <a:lnTo>
                    <a:pt x="284" y="1239"/>
                  </a:lnTo>
                  <a:lnTo>
                    <a:pt x="253" y="1234"/>
                  </a:lnTo>
                  <a:lnTo>
                    <a:pt x="224" y="1226"/>
                  </a:lnTo>
                  <a:lnTo>
                    <a:pt x="193" y="1218"/>
                  </a:lnTo>
                  <a:lnTo>
                    <a:pt x="165" y="1209"/>
                  </a:lnTo>
                  <a:lnTo>
                    <a:pt x="138" y="1197"/>
                  </a:lnTo>
                  <a:lnTo>
                    <a:pt x="111" y="1186"/>
                  </a:lnTo>
                  <a:lnTo>
                    <a:pt x="84" y="1172"/>
                  </a:lnTo>
                  <a:lnTo>
                    <a:pt x="57" y="1157"/>
                  </a:lnTo>
                  <a:lnTo>
                    <a:pt x="32" y="1142"/>
                  </a:lnTo>
                  <a:lnTo>
                    <a:pt x="9" y="1124"/>
                  </a:lnTo>
                  <a:lnTo>
                    <a:pt x="0" y="1117"/>
                  </a:lnTo>
                  <a:lnTo>
                    <a:pt x="0" y="1119"/>
                  </a:lnTo>
                  <a:lnTo>
                    <a:pt x="0" y="1120"/>
                  </a:lnTo>
                  <a:lnTo>
                    <a:pt x="0" y="1122"/>
                  </a:lnTo>
                  <a:lnTo>
                    <a:pt x="0" y="1122"/>
                  </a:lnTo>
                  <a:lnTo>
                    <a:pt x="0" y="1124"/>
                  </a:lnTo>
                  <a:lnTo>
                    <a:pt x="0" y="1126"/>
                  </a:lnTo>
                  <a:lnTo>
                    <a:pt x="0" y="1128"/>
                  </a:lnTo>
                  <a:lnTo>
                    <a:pt x="0" y="1130"/>
                  </a:lnTo>
                  <a:close/>
                </a:path>
              </a:pathLst>
            </a:custGeom>
            <a:solidFill>
              <a:srgbClr val="8ad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Freeform 412"/>
            <p:cNvSpPr/>
            <p:nvPr/>
          </p:nvSpPr>
          <p:spPr>
            <a:xfrm>
              <a:off x="5845320" y="2214360"/>
              <a:ext cx="759600" cy="2096280"/>
            </a:xfrm>
            <a:custGeom>
              <a:avLst/>
              <a:gdLst>
                <a:gd name="textAreaLeft" fmla="*/ 0 w 759600"/>
                <a:gd name="textAreaRight" fmla="*/ 759960 w 759600"/>
                <a:gd name="textAreaTop" fmla="*/ 0 h 2096280"/>
                <a:gd name="textAreaBottom" fmla="*/ 2096640 h 2096280"/>
              </a:gdLst>
              <a:ahLst/>
              <a:rect l="textAreaLeft" t="textAreaTop" r="textAreaRight" b="textAreaBottom"/>
              <a:pathLst>
                <a:path w="451" h="1245">
                  <a:moveTo>
                    <a:pt x="430" y="2"/>
                  </a:moveTo>
                  <a:lnTo>
                    <a:pt x="410" y="2"/>
                  </a:lnTo>
                  <a:lnTo>
                    <a:pt x="378" y="0"/>
                  </a:lnTo>
                  <a:lnTo>
                    <a:pt x="345" y="2"/>
                  </a:lnTo>
                  <a:lnTo>
                    <a:pt x="314" y="4"/>
                  </a:lnTo>
                  <a:lnTo>
                    <a:pt x="284" y="7"/>
                  </a:lnTo>
                  <a:lnTo>
                    <a:pt x="253" y="13"/>
                  </a:lnTo>
                  <a:lnTo>
                    <a:pt x="222" y="19"/>
                  </a:lnTo>
                  <a:lnTo>
                    <a:pt x="193" y="28"/>
                  </a:lnTo>
                  <a:lnTo>
                    <a:pt x="165" y="38"/>
                  </a:lnTo>
                  <a:lnTo>
                    <a:pt x="136" y="50"/>
                  </a:lnTo>
                  <a:lnTo>
                    <a:pt x="134" y="50"/>
                  </a:lnTo>
                  <a:lnTo>
                    <a:pt x="134" y="51"/>
                  </a:lnTo>
                  <a:lnTo>
                    <a:pt x="132" y="53"/>
                  </a:lnTo>
                  <a:lnTo>
                    <a:pt x="132" y="55"/>
                  </a:lnTo>
                  <a:lnTo>
                    <a:pt x="132" y="57"/>
                  </a:lnTo>
                  <a:lnTo>
                    <a:pt x="132" y="59"/>
                  </a:lnTo>
                  <a:lnTo>
                    <a:pt x="130" y="59"/>
                  </a:lnTo>
                  <a:lnTo>
                    <a:pt x="130" y="61"/>
                  </a:lnTo>
                  <a:lnTo>
                    <a:pt x="130" y="63"/>
                  </a:lnTo>
                  <a:lnTo>
                    <a:pt x="140" y="59"/>
                  </a:lnTo>
                  <a:lnTo>
                    <a:pt x="167" y="48"/>
                  </a:lnTo>
                  <a:lnTo>
                    <a:pt x="195" y="38"/>
                  </a:lnTo>
                  <a:lnTo>
                    <a:pt x="224" y="30"/>
                  </a:lnTo>
                  <a:lnTo>
                    <a:pt x="255" y="23"/>
                  </a:lnTo>
                  <a:lnTo>
                    <a:pt x="286" y="17"/>
                  </a:lnTo>
                  <a:lnTo>
                    <a:pt x="314" y="13"/>
                  </a:lnTo>
                  <a:lnTo>
                    <a:pt x="347" y="11"/>
                  </a:lnTo>
                  <a:lnTo>
                    <a:pt x="378" y="11"/>
                  </a:lnTo>
                  <a:lnTo>
                    <a:pt x="408" y="11"/>
                  </a:lnTo>
                  <a:lnTo>
                    <a:pt x="426" y="13"/>
                  </a:lnTo>
                  <a:lnTo>
                    <a:pt x="426" y="11"/>
                  </a:lnTo>
                  <a:lnTo>
                    <a:pt x="426" y="9"/>
                  </a:lnTo>
                  <a:lnTo>
                    <a:pt x="428" y="9"/>
                  </a:lnTo>
                  <a:lnTo>
                    <a:pt x="428" y="7"/>
                  </a:lnTo>
                  <a:lnTo>
                    <a:pt x="428" y="5"/>
                  </a:lnTo>
                  <a:lnTo>
                    <a:pt x="430" y="5"/>
                  </a:lnTo>
                  <a:lnTo>
                    <a:pt x="430" y="4"/>
                  </a:lnTo>
                  <a:lnTo>
                    <a:pt x="430" y="2"/>
                  </a:lnTo>
                  <a:close/>
                  <a:moveTo>
                    <a:pt x="0" y="1116"/>
                  </a:moveTo>
                  <a:lnTo>
                    <a:pt x="5" y="1122"/>
                  </a:lnTo>
                  <a:lnTo>
                    <a:pt x="30" y="1139"/>
                  </a:lnTo>
                  <a:lnTo>
                    <a:pt x="55" y="1155"/>
                  </a:lnTo>
                  <a:lnTo>
                    <a:pt x="80" y="1170"/>
                  </a:lnTo>
                  <a:lnTo>
                    <a:pt x="107" y="1183"/>
                  </a:lnTo>
                  <a:lnTo>
                    <a:pt x="136" y="1197"/>
                  </a:lnTo>
                  <a:lnTo>
                    <a:pt x="165" y="1208"/>
                  </a:lnTo>
                  <a:lnTo>
                    <a:pt x="193" y="1218"/>
                  </a:lnTo>
                  <a:lnTo>
                    <a:pt x="222" y="1226"/>
                  </a:lnTo>
                  <a:lnTo>
                    <a:pt x="253" y="1233"/>
                  </a:lnTo>
                  <a:lnTo>
                    <a:pt x="284" y="1239"/>
                  </a:lnTo>
                  <a:lnTo>
                    <a:pt x="314" y="1243"/>
                  </a:lnTo>
                  <a:lnTo>
                    <a:pt x="345" y="1245"/>
                  </a:lnTo>
                  <a:lnTo>
                    <a:pt x="378" y="1245"/>
                  </a:lnTo>
                  <a:lnTo>
                    <a:pt x="410" y="1245"/>
                  </a:lnTo>
                  <a:lnTo>
                    <a:pt x="441" y="1243"/>
                  </a:lnTo>
                  <a:lnTo>
                    <a:pt x="451" y="1241"/>
                  </a:lnTo>
                  <a:lnTo>
                    <a:pt x="449" y="1239"/>
                  </a:lnTo>
                  <a:lnTo>
                    <a:pt x="449" y="1239"/>
                  </a:lnTo>
                  <a:lnTo>
                    <a:pt x="449" y="1237"/>
                  </a:lnTo>
                  <a:lnTo>
                    <a:pt x="447" y="1235"/>
                  </a:lnTo>
                  <a:lnTo>
                    <a:pt x="447" y="1235"/>
                  </a:lnTo>
                  <a:lnTo>
                    <a:pt x="447" y="1233"/>
                  </a:lnTo>
                  <a:lnTo>
                    <a:pt x="445" y="1231"/>
                  </a:lnTo>
                  <a:lnTo>
                    <a:pt x="445" y="1231"/>
                  </a:lnTo>
                  <a:lnTo>
                    <a:pt x="441" y="1231"/>
                  </a:lnTo>
                  <a:lnTo>
                    <a:pt x="408" y="1233"/>
                  </a:lnTo>
                  <a:lnTo>
                    <a:pt x="378" y="1235"/>
                  </a:lnTo>
                  <a:lnTo>
                    <a:pt x="347" y="1233"/>
                  </a:lnTo>
                  <a:lnTo>
                    <a:pt x="314" y="1231"/>
                  </a:lnTo>
                  <a:lnTo>
                    <a:pt x="286" y="1228"/>
                  </a:lnTo>
                  <a:lnTo>
                    <a:pt x="255" y="1222"/>
                  </a:lnTo>
                  <a:lnTo>
                    <a:pt x="224" y="1216"/>
                  </a:lnTo>
                  <a:lnTo>
                    <a:pt x="195" y="1207"/>
                  </a:lnTo>
                  <a:lnTo>
                    <a:pt x="167" y="1197"/>
                  </a:lnTo>
                  <a:lnTo>
                    <a:pt x="140" y="1187"/>
                  </a:lnTo>
                  <a:lnTo>
                    <a:pt x="113" y="1174"/>
                  </a:lnTo>
                  <a:lnTo>
                    <a:pt x="86" y="1160"/>
                  </a:lnTo>
                  <a:lnTo>
                    <a:pt x="61" y="1147"/>
                  </a:lnTo>
                  <a:lnTo>
                    <a:pt x="36" y="1130"/>
                  </a:lnTo>
                  <a:lnTo>
                    <a:pt x="11" y="1113"/>
                  </a:lnTo>
                  <a:lnTo>
                    <a:pt x="0" y="1103"/>
                  </a:lnTo>
                  <a:lnTo>
                    <a:pt x="0" y="1105"/>
                  </a:lnTo>
                  <a:lnTo>
                    <a:pt x="0" y="1107"/>
                  </a:lnTo>
                  <a:lnTo>
                    <a:pt x="0" y="1109"/>
                  </a:lnTo>
                  <a:lnTo>
                    <a:pt x="0" y="1111"/>
                  </a:lnTo>
                  <a:lnTo>
                    <a:pt x="0" y="1113"/>
                  </a:lnTo>
                  <a:lnTo>
                    <a:pt x="0" y="1114"/>
                  </a:lnTo>
                  <a:lnTo>
                    <a:pt x="0" y="1116"/>
                  </a:lnTo>
                  <a:lnTo>
                    <a:pt x="0" y="1116"/>
                  </a:lnTo>
                  <a:close/>
                </a:path>
              </a:pathLst>
            </a:custGeom>
            <a:solidFill>
              <a:srgbClr val="8bd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Freeform 413"/>
            <p:cNvSpPr/>
            <p:nvPr/>
          </p:nvSpPr>
          <p:spPr>
            <a:xfrm>
              <a:off x="5842080" y="2222640"/>
              <a:ext cx="756000" cy="2080800"/>
            </a:xfrm>
            <a:custGeom>
              <a:avLst/>
              <a:gdLst>
                <a:gd name="textAreaLeft" fmla="*/ 0 w 756000"/>
                <a:gd name="textAreaRight" fmla="*/ 756360 w 756000"/>
                <a:gd name="textAreaTop" fmla="*/ 0 h 2080800"/>
                <a:gd name="textAreaBottom" fmla="*/ 2081160 h 2080800"/>
              </a:gdLst>
              <a:ahLst/>
              <a:rect l="textAreaLeft" t="textAreaTop" r="textAreaRight" b="textAreaBottom"/>
              <a:pathLst>
                <a:path w="449" h="1236">
                  <a:moveTo>
                    <a:pt x="430" y="2"/>
                  </a:moveTo>
                  <a:lnTo>
                    <a:pt x="412" y="0"/>
                  </a:lnTo>
                  <a:lnTo>
                    <a:pt x="380" y="0"/>
                  </a:lnTo>
                  <a:lnTo>
                    <a:pt x="349" y="0"/>
                  </a:lnTo>
                  <a:lnTo>
                    <a:pt x="316" y="4"/>
                  </a:lnTo>
                  <a:lnTo>
                    <a:pt x="286" y="8"/>
                  </a:lnTo>
                  <a:lnTo>
                    <a:pt x="255" y="14"/>
                  </a:lnTo>
                  <a:lnTo>
                    <a:pt x="226" y="20"/>
                  </a:lnTo>
                  <a:lnTo>
                    <a:pt x="195" y="27"/>
                  </a:lnTo>
                  <a:lnTo>
                    <a:pt x="167" y="39"/>
                  </a:lnTo>
                  <a:lnTo>
                    <a:pt x="140" y="48"/>
                  </a:lnTo>
                  <a:lnTo>
                    <a:pt x="134" y="52"/>
                  </a:lnTo>
                  <a:lnTo>
                    <a:pt x="134" y="54"/>
                  </a:lnTo>
                  <a:lnTo>
                    <a:pt x="132" y="54"/>
                  </a:lnTo>
                  <a:lnTo>
                    <a:pt x="132" y="56"/>
                  </a:lnTo>
                  <a:lnTo>
                    <a:pt x="132" y="58"/>
                  </a:lnTo>
                  <a:lnTo>
                    <a:pt x="130" y="60"/>
                  </a:lnTo>
                  <a:lnTo>
                    <a:pt x="130" y="62"/>
                  </a:lnTo>
                  <a:lnTo>
                    <a:pt x="130" y="64"/>
                  </a:lnTo>
                  <a:lnTo>
                    <a:pt x="130" y="66"/>
                  </a:lnTo>
                  <a:lnTo>
                    <a:pt x="144" y="58"/>
                  </a:lnTo>
                  <a:lnTo>
                    <a:pt x="170" y="48"/>
                  </a:lnTo>
                  <a:lnTo>
                    <a:pt x="199" y="39"/>
                  </a:lnTo>
                  <a:lnTo>
                    <a:pt x="228" y="29"/>
                  </a:lnTo>
                  <a:lnTo>
                    <a:pt x="257" y="23"/>
                  </a:lnTo>
                  <a:lnTo>
                    <a:pt x="288" y="18"/>
                  </a:lnTo>
                  <a:lnTo>
                    <a:pt x="318" y="14"/>
                  </a:lnTo>
                  <a:lnTo>
                    <a:pt x="349" y="12"/>
                  </a:lnTo>
                  <a:lnTo>
                    <a:pt x="380" y="12"/>
                  </a:lnTo>
                  <a:lnTo>
                    <a:pt x="410" y="12"/>
                  </a:lnTo>
                  <a:lnTo>
                    <a:pt x="424" y="12"/>
                  </a:lnTo>
                  <a:lnTo>
                    <a:pt x="426" y="12"/>
                  </a:lnTo>
                  <a:lnTo>
                    <a:pt x="426" y="10"/>
                  </a:lnTo>
                  <a:lnTo>
                    <a:pt x="426" y="8"/>
                  </a:lnTo>
                  <a:lnTo>
                    <a:pt x="428" y="8"/>
                  </a:lnTo>
                  <a:lnTo>
                    <a:pt x="428" y="6"/>
                  </a:lnTo>
                  <a:lnTo>
                    <a:pt x="428" y="4"/>
                  </a:lnTo>
                  <a:lnTo>
                    <a:pt x="430" y="4"/>
                  </a:lnTo>
                  <a:lnTo>
                    <a:pt x="430" y="2"/>
                  </a:lnTo>
                  <a:close/>
                  <a:moveTo>
                    <a:pt x="2" y="1106"/>
                  </a:moveTo>
                  <a:lnTo>
                    <a:pt x="11" y="1113"/>
                  </a:lnTo>
                  <a:lnTo>
                    <a:pt x="34" y="1131"/>
                  </a:lnTo>
                  <a:lnTo>
                    <a:pt x="59" y="1146"/>
                  </a:lnTo>
                  <a:lnTo>
                    <a:pt x="86" y="1161"/>
                  </a:lnTo>
                  <a:lnTo>
                    <a:pt x="113" y="1175"/>
                  </a:lnTo>
                  <a:lnTo>
                    <a:pt x="140" y="1186"/>
                  </a:lnTo>
                  <a:lnTo>
                    <a:pt x="167" y="1198"/>
                  </a:lnTo>
                  <a:lnTo>
                    <a:pt x="195" y="1207"/>
                  </a:lnTo>
                  <a:lnTo>
                    <a:pt x="226" y="1215"/>
                  </a:lnTo>
                  <a:lnTo>
                    <a:pt x="255" y="1223"/>
                  </a:lnTo>
                  <a:lnTo>
                    <a:pt x="286" y="1228"/>
                  </a:lnTo>
                  <a:lnTo>
                    <a:pt x="316" y="1232"/>
                  </a:lnTo>
                  <a:lnTo>
                    <a:pt x="349" y="1234"/>
                  </a:lnTo>
                  <a:lnTo>
                    <a:pt x="380" y="1236"/>
                  </a:lnTo>
                  <a:lnTo>
                    <a:pt x="412" y="1234"/>
                  </a:lnTo>
                  <a:lnTo>
                    <a:pt x="443" y="1232"/>
                  </a:lnTo>
                  <a:lnTo>
                    <a:pt x="449" y="1230"/>
                  </a:lnTo>
                  <a:lnTo>
                    <a:pt x="449" y="1230"/>
                  </a:lnTo>
                  <a:lnTo>
                    <a:pt x="449" y="1228"/>
                  </a:lnTo>
                  <a:lnTo>
                    <a:pt x="447" y="1226"/>
                  </a:lnTo>
                  <a:lnTo>
                    <a:pt x="447" y="1226"/>
                  </a:lnTo>
                  <a:lnTo>
                    <a:pt x="447" y="1225"/>
                  </a:lnTo>
                  <a:lnTo>
                    <a:pt x="445" y="1225"/>
                  </a:lnTo>
                  <a:lnTo>
                    <a:pt x="445" y="1223"/>
                  </a:lnTo>
                  <a:lnTo>
                    <a:pt x="445" y="1221"/>
                  </a:lnTo>
                  <a:lnTo>
                    <a:pt x="441" y="1221"/>
                  </a:lnTo>
                  <a:lnTo>
                    <a:pt x="410" y="1225"/>
                  </a:lnTo>
                  <a:lnTo>
                    <a:pt x="380" y="1225"/>
                  </a:lnTo>
                  <a:lnTo>
                    <a:pt x="349" y="1225"/>
                  </a:lnTo>
                  <a:lnTo>
                    <a:pt x="318" y="1221"/>
                  </a:lnTo>
                  <a:lnTo>
                    <a:pt x="288" y="1217"/>
                  </a:lnTo>
                  <a:lnTo>
                    <a:pt x="257" y="1213"/>
                  </a:lnTo>
                  <a:lnTo>
                    <a:pt x="228" y="1205"/>
                  </a:lnTo>
                  <a:lnTo>
                    <a:pt x="199" y="1198"/>
                  </a:lnTo>
                  <a:lnTo>
                    <a:pt x="170" y="1188"/>
                  </a:lnTo>
                  <a:lnTo>
                    <a:pt x="144" y="1177"/>
                  </a:lnTo>
                  <a:lnTo>
                    <a:pt x="117" y="1165"/>
                  </a:lnTo>
                  <a:lnTo>
                    <a:pt x="90" y="1152"/>
                  </a:lnTo>
                  <a:lnTo>
                    <a:pt x="65" y="1136"/>
                  </a:lnTo>
                  <a:lnTo>
                    <a:pt x="40" y="1121"/>
                  </a:lnTo>
                  <a:lnTo>
                    <a:pt x="17" y="1104"/>
                  </a:lnTo>
                  <a:lnTo>
                    <a:pt x="0" y="1090"/>
                  </a:lnTo>
                  <a:lnTo>
                    <a:pt x="0" y="1092"/>
                  </a:lnTo>
                  <a:lnTo>
                    <a:pt x="0" y="1094"/>
                  </a:lnTo>
                  <a:lnTo>
                    <a:pt x="0" y="1096"/>
                  </a:lnTo>
                  <a:lnTo>
                    <a:pt x="2" y="1098"/>
                  </a:lnTo>
                  <a:lnTo>
                    <a:pt x="2" y="1100"/>
                  </a:lnTo>
                  <a:lnTo>
                    <a:pt x="2" y="1102"/>
                  </a:lnTo>
                  <a:lnTo>
                    <a:pt x="2" y="1104"/>
                  </a:lnTo>
                  <a:lnTo>
                    <a:pt x="2" y="1106"/>
                  </a:lnTo>
                  <a:close/>
                </a:path>
              </a:pathLst>
            </a:custGeom>
            <a:solidFill>
              <a:srgbClr val="8c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Freeform 414"/>
            <p:cNvSpPr/>
            <p:nvPr/>
          </p:nvSpPr>
          <p:spPr>
            <a:xfrm>
              <a:off x="5842080" y="2232360"/>
              <a:ext cx="752400" cy="2061000"/>
            </a:xfrm>
            <a:custGeom>
              <a:avLst/>
              <a:gdLst>
                <a:gd name="textAreaLeft" fmla="*/ 0 w 752400"/>
                <a:gd name="textAreaRight" fmla="*/ 752760 w 752400"/>
                <a:gd name="textAreaTop" fmla="*/ 0 h 2061000"/>
                <a:gd name="textAreaBottom" fmla="*/ 2061360 h 2061000"/>
              </a:gdLst>
              <a:ahLst/>
              <a:rect l="textAreaLeft" t="textAreaTop" r="textAreaRight" b="textAreaBottom"/>
              <a:pathLst>
                <a:path w="447" h="1224">
                  <a:moveTo>
                    <a:pt x="428" y="2"/>
                  </a:moveTo>
                  <a:lnTo>
                    <a:pt x="410" y="0"/>
                  </a:lnTo>
                  <a:lnTo>
                    <a:pt x="380" y="0"/>
                  </a:lnTo>
                  <a:lnTo>
                    <a:pt x="349" y="0"/>
                  </a:lnTo>
                  <a:lnTo>
                    <a:pt x="316" y="2"/>
                  </a:lnTo>
                  <a:lnTo>
                    <a:pt x="288" y="6"/>
                  </a:lnTo>
                  <a:lnTo>
                    <a:pt x="257" y="12"/>
                  </a:lnTo>
                  <a:lnTo>
                    <a:pt x="226" y="19"/>
                  </a:lnTo>
                  <a:lnTo>
                    <a:pt x="197" y="27"/>
                  </a:lnTo>
                  <a:lnTo>
                    <a:pt x="169" y="37"/>
                  </a:lnTo>
                  <a:lnTo>
                    <a:pt x="142" y="48"/>
                  </a:lnTo>
                  <a:lnTo>
                    <a:pt x="132" y="52"/>
                  </a:lnTo>
                  <a:lnTo>
                    <a:pt x="130" y="54"/>
                  </a:lnTo>
                  <a:lnTo>
                    <a:pt x="130" y="56"/>
                  </a:lnTo>
                  <a:lnTo>
                    <a:pt x="130" y="58"/>
                  </a:lnTo>
                  <a:lnTo>
                    <a:pt x="130" y="60"/>
                  </a:lnTo>
                  <a:lnTo>
                    <a:pt x="128" y="62"/>
                  </a:lnTo>
                  <a:lnTo>
                    <a:pt x="128" y="62"/>
                  </a:lnTo>
                  <a:lnTo>
                    <a:pt x="128" y="63"/>
                  </a:lnTo>
                  <a:lnTo>
                    <a:pt x="128" y="65"/>
                  </a:lnTo>
                  <a:lnTo>
                    <a:pt x="146" y="58"/>
                  </a:lnTo>
                  <a:lnTo>
                    <a:pt x="172" y="46"/>
                  </a:lnTo>
                  <a:lnTo>
                    <a:pt x="201" y="37"/>
                  </a:lnTo>
                  <a:lnTo>
                    <a:pt x="230" y="29"/>
                  </a:lnTo>
                  <a:lnTo>
                    <a:pt x="259" y="23"/>
                  </a:lnTo>
                  <a:lnTo>
                    <a:pt x="288" y="17"/>
                  </a:lnTo>
                  <a:lnTo>
                    <a:pt x="318" y="14"/>
                  </a:lnTo>
                  <a:lnTo>
                    <a:pt x="349" y="12"/>
                  </a:lnTo>
                  <a:lnTo>
                    <a:pt x="380" y="10"/>
                  </a:lnTo>
                  <a:lnTo>
                    <a:pt x="410" y="12"/>
                  </a:lnTo>
                  <a:lnTo>
                    <a:pt x="422" y="12"/>
                  </a:lnTo>
                  <a:lnTo>
                    <a:pt x="422" y="10"/>
                  </a:lnTo>
                  <a:lnTo>
                    <a:pt x="424" y="10"/>
                  </a:lnTo>
                  <a:lnTo>
                    <a:pt x="424" y="8"/>
                  </a:lnTo>
                  <a:lnTo>
                    <a:pt x="424" y="6"/>
                  </a:lnTo>
                  <a:lnTo>
                    <a:pt x="426" y="6"/>
                  </a:lnTo>
                  <a:lnTo>
                    <a:pt x="426" y="4"/>
                  </a:lnTo>
                  <a:lnTo>
                    <a:pt x="426" y="2"/>
                  </a:lnTo>
                  <a:lnTo>
                    <a:pt x="428" y="2"/>
                  </a:lnTo>
                  <a:close/>
                  <a:moveTo>
                    <a:pt x="2" y="1092"/>
                  </a:moveTo>
                  <a:lnTo>
                    <a:pt x="13" y="1102"/>
                  </a:lnTo>
                  <a:lnTo>
                    <a:pt x="38" y="1119"/>
                  </a:lnTo>
                  <a:lnTo>
                    <a:pt x="63" y="1136"/>
                  </a:lnTo>
                  <a:lnTo>
                    <a:pt x="88" y="1149"/>
                  </a:lnTo>
                  <a:lnTo>
                    <a:pt x="115" y="1163"/>
                  </a:lnTo>
                  <a:lnTo>
                    <a:pt x="142" y="1176"/>
                  </a:lnTo>
                  <a:lnTo>
                    <a:pt x="169" y="1186"/>
                  </a:lnTo>
                  <a:lnTo>
                    <a:pt x="197" y="1196"/>
                  </a:lnTo>
                  <a:lnTo>
                    <a:pt x="226" y="1205"/>
                  </a:lnTo>
                  <a:lnTo>
                    <a:pt x="257" y="1211"/>
                  </a:lnTo>
                  <a:lnTo>
                    <a:pt x="288" y="1217"/>
                  </a:lnTo>
                  <a:lnTo>
                    <a:pt x="316" y="1220"/>
                  </a:lnTo>
                  <a:lnTo>
                    <a:pt x="349" y="1222"/>
                  </a:lnTo>
                  <a:lnTo>
                    <a:pt x="380" y="1224"/>
                  </a:lnTo>
                  <a:lnTo>
                    <a:pt x="410" y="1222"/>
                  </a:lnTo>
                  <a:lnTo>
                    <a:pt x="443" y="1220"/>
                  </a:lnTo>
                  <a:lnTo>
                    <a:pt x="447" y="1220"/>
                  </a:lnTo>
                  <a:lnTo>
                    <a:pt x="447" y="1219"/>
                  </a:lnTo>
                  <a:lnTo>
                    <a:pt x="445" y="1219"/>
                  </a:lnTo>
                  <a:lnTo>
                    <a:pt x="445" y="1217"/>
                  </a:lnTo>
                  <a:lnTo>
                    <a:pt x="445" y="1215"/>
                  </a:lnTo>
                  <a:lnTo>
                    <a:pt x="443" y="1215"/>
                  </a:lnTo>
                  <a:lnTo>
                    <a:pt x="443" y="1213"/>
                  </a:lnTo>
                  <a:lnTo>
                    <a:pt x="441" y="1211"/>
                  </a:lnTo>
                  <a:lnTo>
                    <a:pt x="441" y="1211"/>
                  </a:lnTo>
                  <a:lnTo>
                    <a:pt x="441" y="1211"/>
                  </a:lnTo>
                  <a:lnTo>
                    <a:pt x="410" y="1213"/>
                  </a:lnTo>
                  <a:lnTo>
                    <a:pt x="380" y="1213"/>
                  </a:lnTo>
                  <a:lnTo>
                    <a:pt x="349" y="1213"/>
                  </a:lnTo>
                  <a:lnTo>
                    <a:pt x="318" y="1211"/>
                  </a:lnTo>
                  <a:lnTo>
                    <a:pt x="288" y="1207"/>
                  </a:lnTo>
                  <a:lnTo>
                    <a:pt x="259" y="1201"/>
                  </a:lnTo>
                  <a:lnTo>
                    <a:pt x="230" y="1194"/>
                  </a:lnTo>
                  <a:lnTo>
                    <a:pt x="201" y="1186"/>
                  </a:lnTo>
                  <a:lnTo>
                    <a:pt x="172" y="1176"/>
                  </a:lnTo>
                  <a:lnTo>
                    <a:pt x="146" y="1167"/>
                  </a:lnTo>
                  <a:lnTo>
                    <a:pt x="119" y="1153"/>
                  </a:lnTo>
                  <a:lnTo>
                    <a:pt x="94" y="1140"/>
                  </a:lnTo>
                  <a:lnTo>
                    <a:pt x="69" y="1126"/>
                  </a:lnTo>
                  <a:lnTo>
                    <a:pt x="44" y="1111"/>
                  </a:lnTo>
                  <a:lnTo>
                    <a:pt x="21" y="1094"/>
                  </a:lnTo>
                  <a:lnTo>
                    <a:pt x="0" y="1078"/>
                  </a:lnTo>
                  <a:lnTo>
                    <a:pt x="0" y="1080"/>
                  </a:lnTo>
                  <a:lnTo>
                    <a:pt x="0" y="1082"/>
                  </a:lnTo>
                  <a:lnTo>
                    <a:pt x="0" y="1084"/>
                  </a:lnTo>
                  <a:lnTo>
                    <a:pt x="0" y="1084"/>
                  </a:lnTo>
                  <a:lnTo>
                    <a:pt x="0" y="1086"/>
                  </a:lnTo>
                  <a:lnTo>
                    <a:pt x="0" y="1088"/>
                  </a:lnTo>
                  <a:lnTo>
                    <a:pt x="2" y="1090"/>
                  </a:lnTo>
                  <a:lnTo>
                    <a:pt x="2" y="1092"/>
                  </a:lnTo>
                  <a:close/>
                </a:path>
              </a:pathLst>
            </a:custGeom>
            <a:solidFill>
              <a:srgbClr val="8d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Freeform 415"/>
            <p:cNvSpPr/>
            <p:nvPr/>
          </p:nvSpPr>
          <p:spPr>
            <a:xfrm>
              <a:off x="5842080" y="2242800"/>
              <a:ext cx="749160" cy="204228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2042280"/>
                <a:gd name="textAreaBottom" fmla="*/ 2042640 h 2042280"/>
              </a:gdLst>
              <a:ahLst/>
              <a:rect l="textAreaLeft" t="textAreaTop" r="textAreaRight" b="textAreaBottom"/>
              <a:pathLst>
                <a:path w="445" h="1213">
                  <a:moveTo>
                    <a:pt x="424" y="0"/>
                  </a:moveTo>
                  <a:lnTo>
                    <a:pt x="410" y="0"/>
                  </a:lnTo>
                  <a:lnTo>
                    <a:pt x="380" y="0"/>
                  </a:lnTo>
                  <a:lnTo>
                    <a:pt x="349" y="0"/>
                  </a:lnTo>
                  <a:lnTo>
                    <a:pt x="318" y="2"/>
                  </a:lnTo>
                  <a:lnTo>
                    <a:pt x="288" y="6"/>
                  </a:lnTo>
                  <a:lnTo>
                    <a:pt x="257" y="11"/>
                  </a:lnTo>
                  <a:lnTo>
                    <a:pt x="228" y="17"/>
                  </a:lnTo>
                  <a:lnTo>
                    <a:pt x="199" y="27"/>
                  </a:lnTo>
                  <a:lnTo>
                    <a:pt x="170" y="36"/>
                  </a:lnTo>
                  <a:lnTo>
                    <a:pt x="144" y="46"/>
                  </a:lnTo>
                  <a:lnTo>
                    <a:pt x="130" y="54"/>
                  </a:lnTo>
                  <a:lnTo>
                    <a:pt x="128" y="56"/>
                  </a:lnTo>
                  <a:lnTo>
                    <a:pt x="128" y="56"/>
                  </a:lnTo>
                  <a:lnTo>
                    <a:pt x="128" y="57"/>
                  </a:lnTo>
                  <a:lnTo>
                    <a:pt x="128" y="59"/>
                  </a:lnTo>
                  <a:lnTo>
                    <a:pt x="126" y="61"/>
                  </a:lnTo>
                  <a:lnTo>
                    <a:pt x="126" y="63"/>
                  </a:lnTo>
                  <a:lnTo>
                    <a:pt x="126" y="65"/>
                  </a:lnTo>
                  <a:lnTo>
                    <a:pt x="126" y="67"/>
                  </a:lnTo>
                  <a:lnTo>
                    <a:pt x="147" y="56"/>
                  </a:lnTo>
                  <a:lnTo>
                    <a:pt x="174" y="46"/>
                  </a:lnTo>
                  <a:lnTo>
                    <a:pt x="203" y="36"/>
                  </a:lnTo>
                  <a:lnTo>
                    <a:pt x="230" y="29"/>
                  </a:lnTo>
                  <a:lnTo>
                    <a:pt x="259" y="21"/>
                  </a:lnTo>
                  <a:lnTo>
                    <a:pt x="289" y="17"/>
                  </a:lnTo>
                  <a:lnTo>
                    <a:pt x="318" y="13"/>
                  </a:lnTo>
                  <a:lnTo>
                    <a:pt x="349" y="10"/>
                  </a:lnTo>
                  <a:lnTo>
                    <a:pt x="380" y="10"/>
                  </a:lnTo>
                  <a:lnTo>
                    <a:pt x="410" y="10"/>
                  </a:lnTo>
                  <a:lnTo>
                    <a:pt x="420" y="11"/>
                  </a:lnTo>
                  <a:lnTo>
                    <a:pt x="420" y="10"/>
                  </a:lnTo>
                  <a:lnTo>
                    <a:pt x="420" y="8"/>
                  </a:lnTo>
                  <a:lnTo>
                    <a:pt x="422" y="8"/>
                  </a:lnTo>
                  <a:lnTo>
                    <a:pt x="422" y="6"/>
                  </a:lnTo>
                  <a:lnTo>
                    <a:pt x="422" y="4"/>
                  </a:lnTo>
                  <a:lnTo>
                    <a:pt x="424" y="4"/>
                  </a:lnTo>
                  <a:lnTo>
                    <a:pt x="424" y="2"/>
                  </a:lnTo>
                  <a:lnTo>
                    <a:pt x="424" y="0"/>
                  </a:lnTo>
                  <a:close/>
                  <a:moveTo>
                    <a:pt x="0" y="1078"/>
                  </a:moveTo>
                  <a:lnTo>
                    <a:pt x="17" y="1092"/>
                  </a:lnTo>
                  <a:lnTo>
                    <a:pt x="40" y="1109"/>
                  </a:lnTo>
                  <a:lnTo>
                    <a:pt x="65" y="1124"/>
                  </a:lnTo>
                  <a:lnTo>
                    <a:pt x="90" y="1140"/>
                  </a:lnTo>
                  <a:lnTo>
                    <a:pt x="117" y="1153"/>
                  </a:lnTo>
                  <a:lnTo>
                    <a:pt x="144" y="1165"/>
                  </a:lnTo>
                  <a:lnTo>
                    <a:pt x="170" y="1176"/>
                  </a:lnTo>
                  <a:lnTo>
                    <a:pt x="199" y="1186"/>
                  </a:lnTo>
                  <a:lnTo>
                    <a:pt x="228" y="1193"/>
                  </a:lnTo>
                  <a:lnTo>
                    <a:pt x="257" y="1201"/>
                  </a:lnTo>
                  <a:lnTo>
                    <a:pt x="288" y="1205"/>
                  </a:lnTo>
                  <a:lnTo>
                    <a:pt x="318" y="1209"/>
                  </a:lnTo>
                  <a:lnTo>
                    <a:pt x="349" y="1213"/>
                  </a:lnTo>
                  <a:lnTo>
                    <a:pt x="380" y="1213"/>
                  </a:lnTo>
                  <a:lnTo>
                    <a:pt x="410" y="1213"/>
                  </a:lnTo>
                  <a:lnTo>
                    <a:pt x="441" y="1209"/>
                  </a:lnTo>
                  <a:lnTo>
                    <a:pt x="445" y="1209"/>
                  </a:lnTo>
                  <a:lnTo>
                    <a:pt x="443" y="1209"/>
                  </a:lnTo>
                  <a:lnTo>
                    <a:pt x="443" y="1207"/>
                  </a:lnTo>
                  <a:lnTo>
                    <a:pt x="441" y="1205"/>
                  </a:lnTo>
                  <a:lnTo>
                    <a:pt x="441" y="1205"/>
                  </a:lnTo>
                  <a:lnTo>
                    <a:pt x="441" y="1203"/>
                  </a:lnTo>
                  <a:lnTo>
                    <a:pt x="439" y="1201"/>
                  </a:lnTo>
                  <a:lnTo>
                    <a:pt x="439" y="1201"/>
                  </a:lnTo>
                  <a:lnTo>
                    <a:pt x="439" y="1199"/>
                  </a:lnTo>
                  <a:lnTo>
                    <a:pt x="410" y="1201"/>
                  </a:lnTo>
                  <a:lnTo>
                    <a:pt x="380" y="1201"/>
                  </a:lnTo>
                  <a:lnTo>
                    <a:pt x="349" y="1201"/>
                  </a:lnTo>
                  <a:lnTo>
                    <a:pt x="318" y="1199"/>
                  </a:lnTo>
                  <a:lnTo>
                    <a:pt x="289" y="1195"/>
                  </a:lnTo>
                  <a:lnTo>
                    <a:pt x="259" y="1190"/>
                  </a:lnTo>
                  <a:lnTo>
                    <a:pt x="230" y="1184"/>
                  </a:lnTo>
                  <a:lnTo>
                    <a:pt x="203" y="1174"/>
                  </a:lnTo>
                  <a:lnTo>
                    <a:pt x="174" y="1166"/>
                  </a:lnTo>
                  <a:lnTo>
                    <a:pt x="147" y="1155"/>
                  </a:lnTo>
                  <a:lnTo>
                    <a:pt x="121" y="1143"/>
                  </a:lnTo>
                  <a:lnTo>
                    <a:pt x="96" y="1130"/>
                  </a:lnTo>
                  <a:lnTo>
                    <a:pt x="71" y="1115"/>
                  </a:lnTo>
                  <a:lnTo>
                    <a:pt x="46" y="1099"/>
                  </a:lnTo>
                  <a:lnTo>
                    <a:pt x="23" y="1084"/>
                  </a:lnTo>
                  <a:lnTo>
                    <a:pt x="2" y="1065"/>
                  </a:lnTo>
                  <a:lnTo>
                    <a:pt x="0" y="1065"/>
                  </a:lnTo>
                  <a:lnTo>
                    <a:pt x="0" y="1067"/>
                  </a:lnTo>
                  <a:lnTo>
                    <a:pt x="0" y="1069"/>
                  </a:lnTo>
                  <a:lnTo>
                    <a:pt x="0" y="1071"/>
                  </a:lnTo>
                  <a:lnTo>
                    <a:pt x="0" y="1072"/>
                  </a:lnTo>
                  <a:lnTo>
                    <a:pt x="0" y="1074"/>
                  </a:lnTo>
                  <a:lnTo>
                    <a:pt x="0" y="1076"/>
                  </a:lnTo>
                  <a:lnTo>
                    <a:pt x="0" y="1076"/>
                  </a:lnTo>
                  <a:lnTo>
                    <a:pt x="0" y="1078"/>
                  </a:lnTo>
                  <a:close/>
                </a:path>
              </a:pathLst>
            </a:custGeom>
            <a:solidFill>
              <a:srgbClr val="8e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Freeform 416"/>
            <p:cNvSpPr/>
            <p:nvPr/>
          </p:nvSpPr>
          <p:spPr>
            <a:xfrm>
              <a:off x="5842080" y="2249640"/>
              <a:ext cx="742680" cy="2025360"/>
            </a:xfrm>
            <a:custGeom>
              <a:avLst/>
              <a:gdLst>
                <a:gd name="textAreaLeft" fmla="*/ 0 w 742680"/>
                <a:gd name="textAreaRight" fmla="*/ 743040 w 742680"/>
                <a:gd name="textAreaTop" fmla="*/ 0 h 2025360"/>
                <a:gd name="textAreaBottom" fmla="*/ 2025720 h 2025360"/>
              </a:gdLst>
              <a:ahLst/>
              <a:rect l="textAreaLeft" t="textAreaTop" r="textAreaRight" b="textAreaBottom"/>
              <a:pathLst>
                <a:path w="441" h="1203">
                  <a:moveTo>
                    <a:pt x="422" y="2"/>
                  </a:moveTo>
                  <a:lnTo>
                    <a:pt x="410" y="2"/>
                  </a:lnTo>
                  <a:lnTo>
                    <a:pt x="380" y="0"/>
                  </a:lnTo>
                  <a:lnTo>
                    <a:pt x="349" y="2"/>
                  </a:lnTo>
                  <a:lnTo>
                    <a:pt x="318" y="4"/>
                  </a:lnTo>
                  <a:lnTo>
                    <a:pt x="288" y="7"/>
                  </a:lnTo>
                  <a:lnTo>
                    <a:pt x="259" y="13"/>
                  </a:lnTo>
                  <a:lnTo>
                    <a:pt x="230" y="19"/>
                  </a:lnTo>
                  <a:lnTo>
                    <a:pt x="201" y="27"/>
                  </a:lnTo>
                  <a:lnTo>
                    <a:pt x="172" y="36"/>
                  </a:lnTo>
                  <a:lnTo>
                    <a:pt x="146" y="48"/>
                  </a:lnTo>
                  <a:lnTo>
                    <a:pt x="128" y="55"/>
                  </a:lnTo>
                  <a:lnTo>
                    <a:pt x="126" y="57"/>
                  </a:lnTo>
                  <a:lnTo>
                    <a:pt x="126" y="59"/>
                  </a:lnTo>
                  <a:lnTo>
                    <a:pt x="126" y="61"/>
                  </a:lnTo>
                  <a:lnTo>
                    <a:pt x="126" y="63"/>
                  </a:lnTo>
                  <a:lnTo>
                    <a:pt x="124" y="65"/>
                  </a:lnTo>
                  <a:lnTo>
                    <a:pt x="124" y="67"/>
                  </a:lnTo>
                  <a:lnTo>
                    <a:pt x="124" y="67"/>
                  </a:lnTo>
                  <a:lnTo>
                    <a:pt x="124" y="69"/>
                  </a:lnTo>
                  <a:lnTo>
                    <a:pt x="124" y="69"/>
                  </a:lnTo>
                  <a:lnTo>
                    <a:pt x="149" y="57"/>
                  </a:lnTo>
                  <a:lnTo>
                    <a:pt x="176" y="48"/>
                  </a:lnTo>
                  <a:lnTo>
                    <a:pt x="205" y="38"/>
                  </a:lnTo>
                  <a:lnTo>
                    <a:pt x="232" y="30"/>
                  </a:lnTo>
                  <a:lnTo>
                    <a:pt x="261" y="23"/>
                  </a:lnTo>
                  <a:lnTo>
                    <a:pt x="289" y="17"/>
                  </a:lnTo>
                  <a:lnTo>
                    <a:pt x="320" y="13"/>
                  </a:lnTo>
                  <a:lnTo>
                    <a:pt x="349" y="11"/>
                  </a:lnTo>
                  <a:lnTo>
                    <a:pt x="380" y="11"/>
                  </a:lnTo>
                  <a:lnTo>
                    <a:pt x="410" y="11"/>
                  </a:lnTo>
                  <a:lnTo>
                    <a:pt x="416" y="13"/>
                  </a:lnTo>
                  <a:lnTo>
                    <a:pt x="418" y="11"/>
                  </a:lnTo>
                  <a:lnTo>
                    <a:pt x="418" y="9"/>
                  </a:lnTo>
                  <a:lnTo>
                    <a:pt x="418" y="7"/>
                  </a:lnTo>
                  <a:lnTo>
                    <a:pt x="420" y="7"/>
                  </a:lnTo>
                  <a:lnTo>
                    <a:pt x="420" y="6"/>
                  </a:lnTo>
                  <a:lnTo>
                    <a:pt x="420" y="4"/>
                  </a:lnTo>
                  <a:lnTo>
                    <a:pt x="422" y="4"/>
                  </a:lnTo>
                  <a:lnTo>
                    <a:pt x="422" y="2"/>
                  </a:lnTo>
                  <a:close/>
                  <a:moveTo>
                    <a:pt x="0" y="1068"/>
                  </a:moveTo>
                  <a:lnTo>
                    <a:pt x="21" y="1084"/>
                  </a:lnTo>
                  <a:lnTo>
                    <a:pt x="44" y="1101"/>
                  </a:lnTo>
                  <a:lnTo>
                    <a:pt x="69" y="1116"/>
                  </a:lnTo>
                  <a:lnTo>
                    <a:pt x="94" y="1130"/>
                  </a:lnTo>
                  <a:lnTo>
                    <a:pt x="119" y="1143"/>
                  </a:lnTo>
                  <a:lnTo>
                    <a:pt x="146" y="1157"/>
                  </a:lnTo>
                  <a:lnTo>
                    <a:pt x="172" y="1166"/>
                  </a:lnTo>
                  <a:lnTo>
                    <a:pt x="201" y="1176"/>
                  </a:lnTo>
                  <a:lnTo>
                    <a:pt x="230" y="1184"/>
                  </a:lnTo>
                  <a:lnTo>
                    <a:pt x="259" y="1191"/>
                  </a:lnTo>
                  <a:lnTo>
                    <a:pt x="288" y="1197"/>
                  </a:lnTo>
                  <a:lnTo>
                    <a:pt x="318" y="1201"/>
                  </a:lnTo>
                  <a:lnTo>
                    <a:pt x="349" y="1203"/>
                  </a:lnTo>
                  <a:lnTo>
                    <a:pt x="380" y="1203"/>
                  </a:lnTo>
                  <a:lnTo>
                    <a:pt x="410" y="1203"/>
                  </a:lnTo>
                  <a:lnTo>
                    <a:pt x="441" y="1201"/>
                  </a:lnTo>
                  <a:lnTo>
                    <a:pt x="441" y="1201"/>
                  </a:lnTo>
                  <a:lnTo>
                    <a:pt x="441" y="1199"/>
                  </a:lnTo>
                  <a:lnTo>
                    <a:pt x="439" y="1197"/>
                  </a:lnTo>
                  <a:lnTo>
                    <a:pt x="439" y="1197"/>
                  </a:lnTo>
                  <a:lnTo>
                    <a:pt x="439" y="1195"/>
                  </a:lnTo>
                  <a:lnTo>
                    <a:pt x="437" y="1193"/>
                  </a:lnTo>
                  <a:lnTo>
                    <a:pt x="437" y="1193"/>
                  </a:lnTo>
                  <a:lnTo>
                    <a:pt x="437" y="1191"/>
                  </a:lnTo>
                  <a:lnTo>
                    <a:pt x="435" y="1189"/>
                  </a:lnTo>
                  <a:lnTo>
                    <a:pt x="410" y="1191"/>
                  </a:lnTo>
                  <a:lnTo>
                    <a:pt x="380" y="1193"/>
                  </a:lnTo>
                  <a:lnTo>
                    <a:pt x="349" y="1191"/>
                  </a:lnTo>
                  <a:lnTo>
                    <a:pt x="320" y="1189"/>
                  </a:lnTo>
                  <a:lnTo>
                    <a:pt x="289" y="1186"/>
                  </a:lnTo>
                  <a:lnTo>
                    <a:pt x="261" y="1180"/>
                  </a:lnTo>
                  <a:lnTo>
                    <a:pt x="232" y="1174"/>
                  </a:lnTo>
                  <a:lnTo>
                    <a:pt x="205" y="1166"/>
                  </a:lnTo>
                  <a:lnTo>
                    <a:pt x="176" y="1157"/>
                  </a:lnTo>
                  <a:lnTo>
                    <a:pt x="149" y="1145"/>
                  </a:lnTo>
                  <a:lnTo>
                    <a:pt x="124" y="1134"/>
                  </a:lnTo>
                  <a:lnTo>
                    <a:pt x="98" y="1120"/>
                  </a:lnTo>
                  <a:lnTo>
                    <a:pt x="73" y="1107"/>
                  </a:lnTo>
                  <a:lnTo>
                    <a:pt x="50" y="1092"/>
                  </a:lnTo>
                  <a:lnTo>
                    <a:pt x="27" y="1074"/>
                  </a:lnTo>
                  <a:lnTo>
                    <a:pt x="4" y="1057"/>
                  </a:lnTo>
                  <a:lnTo>
                    <a:pt x="0" y="1053"/>
                  </a:lnTo>
                  <a:lnTo>
                    <a:pt x="0" y="1055"/>
                  </a:lnTo>
                  <a:lnTo>
                    <a:pt x="0" y="1057"/>
                  </a:lnTo>
                  <a:lnTo>
                    <a:pt x="0" y="1059"/>
                  </a:lnTo>
                  <a:lnTo>
                    <a:pt x="0" y="1061"/>
                  </a:lnTo>
                  <a:lnTo>
                    <a:pt x="0" y="1063"/>
                  </a:lnTo>
                  <a:lnTo>
                    <a:pt x="0" y="1065"/>
                  </a:lnTo>
                  <a:lnTo>
                    <a:pt x="0" y="1067"/>
                  </a:lnTo>
                  <a:lnTo>
                    <a:pt x="0" y="1068"/>
                  </a:lnTo>
                  <a:close/>
                </a:path>
              </a:pathLst>
            </a:custGeom>
            <a:solidFill>
              <a:srgbClr val="8fd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Freeform 417"/>
            <p:cNvSpPr/>
            <p:nvPr/>
          </p:nvSpPr>
          <p:spPr>
            <a:xfrm>
              <a:off x="5842080" y="2259720"/>
              <a:ext cx="739080" cy="2005200"/>
            </a:xfrm>
            <a:custGeom>
              <a:avLst/>
              <a:gdLst>
                <a:gd name="textAreaLeft" fmla="*/ 0 w 739080"/>
                <a:gd name="textAreaRight" fmla="*/ 739440 w 739080"/>
                <a:gd name="textAreaTop" fmla="*/ 0 h 2005200"/>
                <a:gd name="textAreaBottom" fmla="*/ 2005560 h 2005200"/>
              </a:gdLst>
              <a:ahLst/>
              <a:rect l="textAreaLeft" t="textAreaTop" r="textAreaRight" b="textAreaBottom"/>
              <a:pathLst>
                <a:path w="439" h="1191">
                  <a:moveTo>
                    <a:pt x="420" y="1"/>
                  </a:moveTo>
                  <a:lnTo>
                    <a:pt x="410" y="0"/>
                  </a:lnTo>
                  <a:lnTo>
                    <a:pt x="380" y="0"/>
                  </a:lnTo>
                  <a:lnTo>
                    <a:pt x="349" y="0"/>
                  </a:lnTo>
                  <a:lnTo>
                    <a:pt x="318" y="3"/>
                  </a:lnTo>
                  <a:lnTo>
                    <a:pt x="289" y="7"/>
                  </a:lnTo>
                  <a:lnTo>
                    <a:pt x="259" y="11"/>
                  </a:lnTo>
                  <a:lnTo>
                    <a:pt x="230" y="19"/>
                  </a:lnTo>
                  <a:lnTo>
                    <a:pt x="203" y="26"/>
                  </a:lnTo>
                  <a:lnTo>
                    <a:pt x="174" y="36"/>
                  </a:lnTo>
                  <a:lnTo>
                    <a:pt x="147" y="46"/>
                  </a:lnTo>
                  <a:lnTo>
                    <a:pt x="126" y="57"/>
                  </a:lnTo>
                  <a:lnTo>
                    <a:pt x="124" y="59"/>
                  </a:lnTo>
                  <a:lnTo>
                    <a:pt x="124" y="61"/>
                  </a:lnTo>
                  <a:lnTo>
                    <a:pt x="124" y="61"/>
                  </a:lnTo>
                  <a:lnTo>
                    <a:pt x="123" y="63"/>
                  </a:lnTo>
                  <a:lnTo>
                    <a:pt x="123" y="65"/>
                  </a:lnTo>
                  <a:lnTo>
                    <a:pt x="123" y="67"/>
                  </a:lnTo>
                  <a:lnTo>
                    <a:pt x="123" y="69"/>
                  </a:lnTo>
                  <a:lnTo>
                    <a:pt x="121" y="71"/>
                  </a:lnTo>
                  <a:lnTo>
                    <a:pt x="126" y="69"/>
                  </a:lnTo>
                  <a:lnTo>
                    <a:pt x="151" y="57"/>
                  </a:lnTo>
                  <a:lnTo>
                    <a:pt x="178" y="46"/>
                  </a:lnTo>
                  <a:lnTo>
                    <a:pt x="205" y="36"/>
                  </a:lnTo>
                  <a:lnTo>
                    <a:pt x="234" y="28"/>
                  </a:lnTo>
                  <a:lnTo>
                    <a:pt x="263" y="23"/>
                  </a:lnTo>
                  <a:lnTo>
                    <a:pt x="291" y="17"/>
                  </a:lnTo>
                  <a:lnTo>
                    <a:pt x="320" y="13"/>
                  </a:lnTo>
                  <a:lnTo>
                    <a:pt x="349" y="11"/>
                  </a:lnTo>
                  <a:lnTo>
                    <a:pt x="380" y="11"/>
                  </a:lnTo>
                  <a:lnTo>
                    <a:pt x="410" y="11"/>
                  </a:lnTo>
                  <a:lnTo>
                    <a:pt x="414" y="11"/>
                  </a:lnTo>
                  <a:lnTo>
                    <a:pt x="414" y="11"/>
                  </a:lnTo>
                  <a:lnTo>
                    <a:pt x="416" y="9"/>
                  </a:lnTo>
                  <a:lnTo>
                    <a:pt x="416" y="7"/>
                  </a:lnTo>
                  <a:lnTo>
                    <a:pt x="416" y="7"/>
                  </a:lnTo>
                  <a:lnTo>
                    <a:pt x="418" y="5"/>
                  </a:lnTo>
                  <a:lnTo>
                    <a:pt x="418" y="3"/>
                  </a:lnTo>
                  <a:lnTo>
                    <a:pt x="418" y="1"/>
                  </a:lnTo>
                  <a:lnTo>
                    <a:pt x="420" y="1"/>
                  </a:lnTo>
                  <a:close/>
                  <a:moveTo>
                    <a:pt x="0" y="1055"/>
                  </a:moveTo>
                  <a:lnTo>
                    <a:pt x="2" y="1055"/>
                  </a:lnTo>
                  <a:lnTo>
                    <a:pt x="23" y="1074"/>
                  </a:lnTo>
                  <a:lnTo>
                    <a:pt x="46" y="1089"/>
                  </a:lnTo>
                  <a:lnTo>
                    <a:pt x="71" y="1105"/>
                  </a:lnTo>
                  <a:lnTo>
                    <a:pt x="96" y="1120"/>
                  </a:lnTo>
                  <a:lnTo>
                    <a:pt x="121" y="1133"/>
                  </a:lnTo>
                  <a:lnTo>
                    <a:pt x="147" y="1145"/>
                  </a:lnTo>
                  <a:lnTo>
                    <a:pt x="174" y="1156"/>
                  </a:lnTo>
                  <a:lnTo>
                    <a:pt x="203" y="1164"/>
                  </a:lnTo>
                  <a:lnTo>
                    <a:pt x="230" y="1174"/>
                  </a:lnTo>
                  <a:lnTo>
                    <a:pt x="259" y="1180"/>
                  </a:lnTo>
                  <a:lnTo>
                    <a:pt x="289" y="1185"/>
                  </a:lnTo>
                  <a:lnTo>
                    <a:pt x="318" y="1189"/>
                  </a:lnTo>
                  <a:lnTo>
                    <a:pt x="349" y="1191"/>
                  </a:lnTo>
                  <a:lnTo>
                    <a:pt x="380" y="1191"/>
                  </a:lnTo>
                  <a:lnTo>
                    <a:pt x="410" y="1191"/>
                  </a:lnTo>
                  <a:lnTo>
                    <a:pt x="439" y="1189"/>
                  </a:lnTo>
                  <a:lnTo>
                    <a:pt x="437" y="1187"/>
                  </a:lnTo>
                  <a:lnTo>
                    <a:pt x="437" y="1187"/>
                  </a:lnTo>
                  <a:lnTo>
                    <a:pt x="437" y="1185"/>
                  </a:lnTo>
                  <a:lnTo>
                    <a:pt x="435" y="1183"/>
                  </a:lnTo>
                  <a:lnTo>
                    <a:pt x="435" y="1183"/>
                  </a:lnTo>
                  <a:lnTo>
                    <a:pt x="435" y="1181"/>
                  </a:lnTo>
                  <a:lnTo>
                    <a:pt x="433" y="1180"/>
                  </a:lnTo>
                  <a:lnTo>
                    <a:pt x="433" y="1180"/>
                  </a:lnTo>
                  <a:lnTo>
                    <a:pt x="410" y="1180"/>
                  </a:lnTo>
                  <a:lnTo>
                    <a:pt x="380" y="1181"/>
                  </a:lnTo>
                  <a:lnTo>
                    <a:pt x="349" y="1180"/>
                  </a:lnTo>
                  <a:lnTo>
                    <a:pt x="320" y="1178"/>
                  </a:lnTo>
                  <a:lnTo>
                    <a:pt x="291" y="1174"/>
                  </a:lnTo>
                  <a:lnTo>
                    <a:pt x="263" y="1170"/>
                  </a:lnTo>
                  <a:lnTo>
                    <a:pt x="234" y="1162"/>
                  </a:lnTo>
                  <a:lnTo>
                    <a:pt x="205" y="1155"/>
                  </a:lnTo>
                  <a:lnTo>
                    <a:pt x="178" y="1145"/>
                  </a:lnTo>
                  <a:lnTo>
                    <a:pt x="151" y="1135"/>
                  </a:lnTo>
                  <a:lnTo>
                    <a:pt x="126" y="1124"/>
                  </a:lnTo>
                  <a:lnTo>
                    <a:pt x="101" y="1110"/>
                  </a:lnTo>
                  <a:lnTo>
                    <a:pt x="76" y="1097"/>
                  </a:lnTo>
                  <a:lnTo>
                    <a:pt x="53" y="1082"/>
                  </a:lnTo>
                  <a:lnTo>
                    <a:pt x="30" y="1064"/>
                  </a:lnTo>
                  <a:lnTo>
                    <a:pt x="7" y="1047"/>
                  </a:lnTo>
                  <a:lnTo>
                    <a:pt x="0" y="1039"/>
                  </a:lnTo>
                  <a:lnTo>
                    <a:pt x="0" y="1041"/>
                  </a:lnTo>
                  <a:lnTo>
                    <a:pt x="0" y="1043"/>
                  </a:lnTo>
                  <a:lnTo>
                    <a:pt x="0" y="1045"/>
                  </a:lnTo>
                  <a:lnTo>
                    <a:pt x="0" y="1047"/>
                  </a:lnTo>
                  <a:lnTo>
                    <a:pt x="0" y="1049"/>
                  </a:lnTo>
                  <a:lnTo>
                    <a:pt x="0" y="1051"/>
                  </a:lnTo>
                  <a:lnTo>
                    <a:pt x="0" y="1053"/>
                  </a:lnTo>
                  <a:lnTo>
                    <a:pt x="0" y="1055"/>
                  </a:lnTo>
                  <a:close/>
                </a:path>
              </a:pathLst>
            </a:custGeom>
            <a:solidFill>
              <a:srgbClr val="90d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Freeform 418"/>
            <p:cNvSpPr/>
            <p:nvPr/>
          </p:nvSpPr>
          <p:spPr>
            <a:xfrm>
              <a:off x="5838480" y="2268000"/>
              <a:ext cx="735840" cy="1990080"/>
            </a:xfrm>
            <a:custGeom>
              <a:avLst/>
              <a:gdLst>
                <a:gd name="textAreaLeft" fmla="*/ 0 w 735840"/>
                <a:gd name="textAreaRight" fmla="*/ 735840 w 735840"/>
                <a:gd name="textAreaTop" fmla="*/ 0 h 1990080"/>
                <a:gd name="textAreaBottom" fmla="*/ 1990440 h 1990080"/>
              </a:gdLst>
              <a:ahLst/>
              <a:rect l="textAreaLeft" t="textAreaTop" r="textAreaRight" b="textAreaBottom"/>
              <a:pathLst>
                <a:path w="437" h="1182">
                  <a:moveTo>
                    <a:pt x="418" y="2"/>
                  </a:moveTo>
                  <a:lnTo>
                    <a:pt x="412" y="0"/>
                  </a:lnTo>
                  <a:lnTo>
                    <a:pt x="382" y="0"/>
                  </a:lnTo>
                  <a:lnTo>
                    <a:pt x="351" y="0"/>
                  </a:lnTo>
                  <a:lnTo>
                    <a:pt x="322" y="2"/>
                  </a:lnTo>
                  <a:lnTo>
                    <a:pt x="291" y="6"/>
                  </a:lnTo>
                  <a:lnTo>
                    <a:pt x="263" y="12"/>
                  </a:lnTo>
                  <a:lnTo>
                    <a:pt x="234" y="19"/>
                  </a:lnTo>
                  <a:lnTo>
                    <a:pt x="207" y="27"/>
                  </a:lnTo>
                  <a:lnTo>
                    <a:pt x="178" y="37"/>
                  </a:lnTo>
                  <a:lnTo>
                    <a:pt x="151" y="46"/>
                  </a:lnTo>
                  <a:lnTo>
                    <a:pt x="126" y="58"/>
                  </a:lnTo>
                  <a:lnTo>
                    <a:pt x="126" y="58"/>
                  </a:lnTo>
                  <a:lnTo>
                    <a:pt x="125" y="60"/>
                  </a:lnTo>
                  <a:lnTo>
                    <a:pt x="125" y="62"/>
                  </a:lnTo>
                  <a:lnTo>
                    <a:pt x="125" y="64"/>
                  </a:lnTo>
                  <a:lnTo>
                    <a:pt x="123" y="66"/>
                  </a:lnTo>
                  <a:lnTo>
                    <a:pt x="123" y="67"/>
                  </a:lnTo>
                  <a:lnTo>
                    <a:pt x="123" y="69"/>
                  </a:lnTo>
                  <a:lnTo>
                    <a:pt x="123" y="71"/>
                  </a:lnTo>
                  <a:lnTo>
                    <a:pt x="121" y="73"/>
                  </a:lnTo>
                  <a:lnTo>
                    <a:pt x="130" y="67"/>
                  </a:lnTo>
                  <a:lnTo>
                    <a:pt x="155" y="56"/>
                  </a:lnTo>
                  <a:lnTo>
                    <a:pt x="182" y="46"/>
                  </a:lnTo>
                  <a:lnTo>
                    <a:pt x="209" y="37"/>
                  </a:lnTo>
                  <a:lnTo>
                    <a:pt x="238" y="29"/>
                  </a:lnTo>
                  <a:lnTo>
                    <a:pt x="265" y="23"/>
                  </a:lnTo>
                  <a:lnTo>
                    <a:pt x="293" y="18"/>
                  </a:lnTo>
                  <a:lnTo>
                    <a:pt x="322" y="14"/>
                  </a:lnTo>
                  <a:lnTo>
                    <a:pt x="353" y="12"/>
                  </a:lnTo>
                  <a:lnTo>
                    <a:pt x="382" y="10"/>
                  </a:lnTo>
                  <a:lnTo>
                    <a:pt x="412" y="12"/>
                  </a:lnTo>
                  <a:lnTo>
                    <a:pt x="414" y="12"/>
                  </a:lnTo>
                  <a:lnTo>
                    <a:pt x="414" y="10"/>
                  </a:lnTo>
                  <a:lnTo>
                    <a:pt x="414" y="10"/>
                  </a:lnTo>
                  <a:lnTo>
                    <a:pt x="416" y="8"/>
                  </a:lnTo>
                  <a:lnTo>
                    <a:pt x="416" y="6"/>
                  </a:lnTo>
                  <a:lnTo>
                    <a:pt x="416" y="6"/>
                  </a:lnTo>
                  <a:lnTo>
                    <a:pt x="418" y="4"/>
                  </a:lnTo>
                  <a:lnTo>
                    <a:pt x="418" y="2"/>
                  </a:lnTo>
                  <a:lnTo>
                    <a:pt x="418" y="2"/>
                  </a:lnTo>
                  <a:close/>
                  <a:moveTo>
                    <a:pt x="2" y="1042"/>
                  </a:moveTo>
                  <a:lnTo>
                    <a:pt x="6" y="1046"/>
                  </a:lnTo>
                  <a:lnTo>
                    <a:pt x="29" y="1063"/>
                  </a:lnTo>
                  <a:lnTo>
                    <a:pt x="52" y="1081"/>
                  </a:lnTo>
                  <a:lnTo>
                    <a:pt x="75" y="1096"/>
                  </a:lnTo>
                  <a:lnTo>
                    <a:pt x="100" y="1111"/>
                  </a:lnTo>
                  <a:lnTo>
                    <a:pt x="126" y="1123"/>
                  </a:lnTo>
                  <a:lnTo>
                    <a:pt x="151" y="1134"/>
                  </a:lnTo>
                  <a:lnTo>
                    <a:pt x="178" y="1146"/>
                  </a:lnTo>
                  <a:lnTo>
                    <a:pt x="207" y="1155"/>
                  </a:lnTo>
                  <a:lnTo>
                    <a:pt x="234" y="1163"/>
                  </a:lnTo>
                  <a:lnTo>
                    <a:pt x="263" y="1169"/>
                  </a:lnTo>
                  <a:lnTo>
                    <a:pt x="291" y="1175"/>
                  </a:lnTo>
                  <a:lnTo>
                    <a:pt x="322" y="1178"/>
                  </a:lnTo>
                  <a:lnTo>
                    <a:pt x="351" y="1180"/>
                  </a:lnTo>
                  <a:lnTo>
                    <a:pt x="382" y="1182"/>
                  </a:lnTo>
                  <a:lnTo>
                    <a:pt x="412" y="1180"/>
                  </a:lnTo>
                  <a:lnTo>
                    <a:pt x="437" y="1178"/>
                  </a:lnTo>
                  <a:lnTo>
                    <a:pt x="437" y="1178"/>
                  </a:lnTo>
                  <a:lnTo>
                    <a:pt x="437" y="1176"/>
                  </a:lnTo>
                  <a:lnTo>
                    <a:pt x="435" y="1175"/>
                  </a:lnTo>
                  <a:lnTo>
                    <a:pt x="435" y="1175"/>
                  </a:lnTo>
                  <a:lnTo>
                    <a:pt x="435" y="1173"/>
                  </a:lnTo>
                  <a:lnTo>
                    <a:pt x="434" y="1171"/>
                  </a:lnTo>
                  <a:lnTo>
                    <a:pt x="434" y="1171"/>
                  </a:lnTo>
                  <a:lnTo>
                    <a:pt x="434" y="1169"/>
                  </a:lnTo>
                  <a:lnTo>
                    <a:pt x="412" y="1171"/>
                  </a:lnTo>
                  <a:lnTo>
                    <a:pt x="382" y="1171"/>
                  </a:lnTo>
                  <a:lnTo>
                    <a:pt x="353" y="1171"/>
                  </a:lnTo>
                  <a:lnTo>
                    <a:pt x="322" y="1169"/>
                  </a:lnTo>
                  <a:lnTo>
                    <a:pt x="293" y="1165"/>
                  </a:lnTo>
                  <a:lnTo>
                    <a:pt x="265" y="1159"/>
                  </a:lnTo>
                  <a:lnTo>
                    <a:pt x="238" y="1153"/>
                  </a:lnTo>
                  <a:lnTo>
                    <a:pt x="209" y="1146"/>
                  </a:lnTo>
                  <a:lnTo>
                    <a:pt x="182" y="1136"/>
                  </a:lnTo>
                  <a:lnTo>
                    <a:pt x="155" y="1125"/>
                  </a:lnTo>
                  <a:lnTo>
                    <a:pt x="130" y="1113"/>
                  </a:lnTo>
                  <a:lnTo>
                    <a:pt x="105" y="1102"/>
                  </a:lnTo>
                  <a:lnTo>
                    <a:pt x="80" y="1086"/>
                  </a:lnTo>
                  <a:lnTo>
                    <a:pt x="57" y="1071"/>
                  </a:lnTo>
                  <a:lnTo>
                    <a:pt x="34" y="1056"/>
                  </a:lnTo>
                  <a:lnTo>
                    <a:pt x="13" y="1038"/>
                  </a:lnTo>
                  <a:lnTo>
                    <a:pt x="0" y="1029"/>
                  </a:lnTo>
                  <a:lnTo>
                    <a:pt x="2" y="1031"/>
                  </a:lnTo>
                  <a:lnTo>
                    <a:pt x="2" y="1031"/>
                  </a:lnTo>
                  <a:lnTo>
                    <a:pt x="2" y="1033"/>
                  </a:lnTo>
                  <a:lnTo>
                    <a:pt x="2" y="1034"/>
                  </a:lnTo>
                  <a:lnTo>
                    <a:pt x="2" y="1036"/>
                  </a:lnTo>
                  <a:lnTo>
                    <a:pt x="2" y="1038"/>
                  </a:lnTo>
                  <a:lnTo>
                    <a:pt x="2" y="1040"/>
                  </a:lnTo>
                  <a:lnTo>
                    <a:pt x="2" y="1042"/>
                  </a:lnTo>
                  <a:close/>
                </a:path>
              </a:pathLst>
            </a:custGeom>
            <a:solidFill>
              <a:srgbClr val="91d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Freeform 419"/>
            <p:cNvSpPr/>
            <p:nvPr/>
          </p:nvSpPr>
          <p:spPr>
            <a:xfrm>
              <a:off x="5838480" y="2278440"/>
              <a:ext cx="732240" cy="1969920"/>
            </a:xfrm>
            <a:custGeom>
              <a:avLst/>
              <a:gdLst>
                <a:gd name="textAreaLeft" fmla="*/ 0 w 732240"/>
                <a:gd name="textAreaRight" fmla="*/ 732600 w 732240"/>
                <a:gd name="textAreaTop" fmla="*/ 0 h 1969920"/>
                <a:gd name="textAreaBottom" fmla="*/ 1970280 h 1969920"/>
              </a:gdLst>
              <a:ahLst/>
              <a:rect l="textAreaLeft" t="textAreaTop" r="textAreaRight" b="textAreaBottom"/>
              <a:pathLst>
                <a:path w="435" h="1170">
                  <a:moveTo>
                    <a:pt x="416" y="0"/>
                  </a:moveTo>
                  <a:lnTo>
                    <a:pt x="412" y="0"/>
                  </a:lnTo>
                  <a:lnTo>
                    <a:pt x="382" y="0"/>
                  </a:lnTo>
                  <a:lnTo>
                    <a:pt x="351" y="0"/>
                  </a:lnTo>
                  <a:lnTo>
                    <a:pt x="322" y="2"/>
                  </a:lnTo>
                  <a:lnTo>
                    <a:pt x="293" y="6"/>
                  </a:lnTo>
                  <a:lnTo>
                    <a:pt x="265" y="12"/>
                  </a:lnTo>
                  <a:lnTo>
                    <a:pt x="236" y="17"/>
                  </a:lnTo>
                  <a:lnTo>
                    <a:pt x="207" y="25"/>
                  </a:lnTo>
                  <a:lnTo>
                    <a:pt x="180" y="35"/>
                  </a:lnTo>
                  <a:lnTo>
                    <a:pt x="153" y="46"/>
                  </a:lnTo>
                  <a:lnTo>
                    <a:pt x="128" y="58"/>
                  </a:lnTo>
                  <a:lnTo>
                    <a:pt x="123" y="60"/>
                  </a:lnTo>
                  <a:lnTo>
                    <a:pt x="123" y="61"/>
                  </a:lnTo>
                  <a:lnTo>
                    <a:pt x="123" y="63"/>
                  </a:lnTo>
                  <a:lnTo>
                    <a:pt x="123" y="65"/>
                  </a:lnTo>
                  <a:lnTo>
                    <a:pt x="121" y="67"/>
                  </a:lnTo>
                  <a:lnTo>
                    <a:pt x="121" y="69"/>
                  </a:lnTo>
                  <a:lnTo>
                    <a:pt x="121" y="69"/>
                  </a:lnTo>
                  <a:lnTo>
                    <a:pt x="121" y="71"/>
                  </a:lnTo>
                  <a:lnTo>
                    <a:pt x="119" y="73"/>
                  </a:lnTo>
                  <a:lnTo>
                    <a:pt x="132" y="67"/>
                  </a:lnTo>
                  <a:lnTo>
                    <a:pt x="159" y="56"/>
                  </a:lnTo>
                  <a:lnTo>
                    <a:pt x="184" y="44"/>
                  </a:lnTo>
                  <a:lnTo>
                    <a:pt x="211" y="36"/>
                  </a:lnTo>
                  <a:lnTo>
                    <a:pt x="238" y="29"/>
                  </a:lnTo>
                  <a:lnTo>
                    <a:pt x="267" y="21"/>
                  </a:lnTo>
                  <a:lnTo>
                    <a:pt x="293" y="17"/>
                  </a:lnTo>
                  <a:lnTo>
                    <a:pt x="322" y="13"/>
                  </a:lnTo>
                  <a:lnTo>
                    <a:pt x="353" y="12"/>
                  </a:lnTo>
                  <a:lnTo>
                    <a:pt x="382" y="10"/>
                  </a:lnTo>
                  <a:lnTo>
                    <a:pt x="410" y="12"/>
                  </a:lnTo>
                  <a:lnTo>
                    <a:pt x="412" y="12"/>
                  </a:lnTo>
                  <a:lnTo>
                    <a:pt x="412" y="10"/>
                  </a:lnTo>
                  <a:lnTo>
                    <a:pt x="412" y="8"/>
                  </a:lnTo>
                  <a:lnTo>
                    <a:pt x="412" y="8"/>
                  </a:lnTo>
                  <a:lnTo>
                    <a:pt x="414" y="6"/>
                  </a:lnTo>
                  <a:lnTo>
                    <a:pt x="414" y="4"/>
                  </a:lnTo>
                  <a:lnTo>
                    <a:pt x="414" y="4"/>
                  </a:lnTo>
                  <a:lnTo>
                    <a:pt x="416" y="2"/>
                  </a:lnTo>
                  <a:lnTo>
                    <a:pt x="416" y="0"/>
                  </a:lnTo>
                  <a:close/>
                  <a:moveTo>
                    <a:pt x="2" y="1028"/>
                  </a:moveTo>
                  <a:lnTo>
                    <a:pt x="9" y="1036"/>
                  </a:lnTo>
                  <a:lnTo>
                    <a:pt x="32" y="1053"/>
                  </a:lnTo>
                  <a:lnTo>
                    <a:pt x="55" y="1071"/>
                  </a:lnTo>
                  <a:lnTo>
                    <a:pt x="78" y="1086"/>
                  </a:lnTo>
                  <a:lnTo>
                    <a:pt x="103" y="1099"/>
                  </a:lnTo>
                  <a:lnTo>
                    <a:pt x="128" y="1113"/>
                  </a:lnTo>
                  <a:lnTo>
                    <a:pt x="153" y="1124"/>
                  </a:lnTo>
                  <a:lnTo>
                    <a:pt x="180" y="1134"/>
                  </a:lnTo>
                  <a:lnTo>
                    <a:pt x="207" y="1144"/>
                  </a:lnTo>
                  <a:lnTo>
                    <a:pt x="236" y="1151"/>
                  </a:lnTo>
                  <a:lnTo>
                    <a:pt x="265" y="1159"/>
                  </a:lnTo>
                  <a:lnTo>
                    <a:pt x="293" y="1163"/>
                  </a:lnTo>
                  <a:lnTo>
                    <a:pt x="322" y="1167"/>
                  </a:lnTo>
                  <a:lnTo>
                    <a:pt x="351" y="1169"/>
                  </a:lnTo>
                  <a:lnTo>
                    <a:pt x="382" y="1170"/>
                  </a:lnTo>
                  <a:lnTo>
                    <a:pt x="412" y="1169"/>
                  </a:lnTo>
                  <a:lnTo>
                    <a:pt x="435" y="1169"/>
                  </a:lnTo>
                  <a:lnTo>
                    <a:pt x="435" y="1167"/>
                  </a:lnTo>
                  <a:lnTo>
                    <a:pt x="434" y="1165"/>
                  </a:lnTo>
                  <a:lnTo>
                    <a:pt x="434" y="1165"/>
                  </a:lnTo>
                  <a:lnTo>
                    <a:pt x="434" y="1163"/>
                  </a:lnTo>
                  <a:lnTo>
                    <a:pt x="432" y="1161"/>
                  </a:lnTo>
                  <a:lnTo>
                    <a:pt x="432" y="1161"/>
                  </a:lnTo>
                  <a:lnTo>
                    <a:pt x="432" y="1159"/>
                  </a:lnTo>
                  <a:lnTo>
                    <a:pt x="430" y="1157"/>
                  </a:lnTo>
                  <a:lnTo>
                    <a:pt x="410" y="1159"/>
                  </a:lnTo>
                  <a:lnTo>
                    <a:pt x="382" y="1159"/>
                  </a:lnTo>
                  <a:lnTo>
                    <a:pt x="353" y="1159"/>
                  </a:lnTo>
                  <a:lnTo>
                    <a:pt x="322" y="1157"/>
                  </a:lnTo>
                  <a:lnTo>
                    <a:pt x="293" y="1153"/>
                  </a:lnTo>
                  <a:lnTo>
                    <a:pt x="267" y="1147"/>
                  </a:lnTo>
                  <a:lnTo>
                    <a:pt x="238" y="1142"/>
                  </a:lnTo>
                  <a:lnTo>
                    <a:pt x="211" y="1134"/>
                  </a:lnTo>
                  <a:lnTo>
                    <a:pt x="184" y="1124"/>
                  </a:lnTo>
                  <a:lnTo>
                    <a:pt x="159" y="1115"/>
                  </a:lnTo>
                  <a:lnTo>
                    <a:pt x="132" y="1103"/>
                  </a:lnTo>
                  <a:lnTo>
                    <a:pt x="107" y="1090"/>
                  </a:lnTo>
                  <a:lnTo>
                    <a:pt x="84" y="1076"/>
                  </a:lnTo>
                  <a:lnTo>
                    <a:pt x="61" y="1061"/>
                  </a:lnTo>
                  <a:lnTo>
                    <a:pt x="38" y="1046"/>
                  </a:lnTo>
                  <a:lnTo>
                    <a:pt x="17" y="1028"/>
                  </a:lnTo>
                  <a:lnTo>
                    <a:pt x="0" y="1015"/>
                  </a:lnTo>
                  <a:lnTo>
                    <a:pt x="0" y="1017"/>
                  </a:lnTo>
                  <a:lnTo>
                    <a:pt x="0" y="1019"/>
                  </a:lnTo>
                  <a:lnTo>
                    <a:pt x="0" y="1021"/>
                  </a:lnTo>
                  <a:lnTo>
                    <a:pt x="0" y="1023"/>
                  </a:lnTo>
                  <a:lnTo>
                    <a:pt x="2" y="1025"/>
                  </a:lnTo>
                  <a:lnTo>
                    <a:pt x="2" y="1025"/>
                  </a:lnTo>
                  <a:lnTo>
                    <a:pt x="2" y="1027"/>
                  </a:lnTo>
                  <a:lnTo>
                    <a:pt x="2" y="1028"/>
                  </a:lnTo>
                  <a:close/>
                </a:path>
              </a:pathLst>
            </a:custGeom>
            <a:solidFill>
              <a:srgbClr val="92d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Freeform 420"/>
            <p:cNvSpPr/>
            <p:nvPr/>
          </p:nvSpPr>
          <p:spPr>
            <a:xfrm>
              <a:off x="5838480" y="2284920"/>
              <a:ext cx="730800" cy="1954800"/>
            </a:xfrm>
            <a:custGeom>
              <a:avLst/>
              <a:gdLst>
                <a:gd name="textAreaLeft" fmla="*/ 0 w 730800"/>
                <a:gd name="textAreaRight" fmla="*/ 731160 w 730800"/>
                <a:gd name="textAreaTop" fmla="*/ 0 h 1954800"/>
                <a:gd name="textAreaBottom" fmla="*/ 1955160 h 1954800"/>
              </a:gdLst>
              <a:ahLst/>
              <a:rect l="textAreaLeft" t="textAreaTop" r="textAreaRight" b="textAreaBottom"/>
              <a:pathLst>
                <a:path w="434" h="1161">
                  <a:moveTo>
                    <a:pt x="414" y="2"/>
                  </a:moveTo>
                  <a:lnTo>
                    <a:pt x="412" y="2"/>
                  </a:lnTo>
                  <a:lnTo>
                    <a:pt x="382" y="0"/>
                  </a:lnTo>
                  <a:lnTo>
                    <a:pt x="353" y="2"/>
                  </a:lnTo>
                  <a:lnTo>
                    <a:pt x="322" y="4"/>
                  </a:lnTo>
                  <a:lnTo>
                    <a:pt x="293" y="8"/>
                  </a:lnTo>
                  <a:lnTo>
                    <a:pt x="265" y="13"/>
                  </a:lnTo>
                  <a:lnTo>
                    <a:pt x="238" y="19"/>
                  </a:lnTo>
                  <a:lnTo>
                    <a:pt x="209" y="27"/>
                  </a:lnTo>
                  <a:lnTo>
                    <a:pt x="182" y="36"/>
                  </a:lnTo>
                  <a:lnTo>
                    <a:pt x="155" y="46"/>
                  </a:lnTo>
                  <a:lnTo>
                    <a:pt x="130" y="57"/>
                  </a:lnTo>
                  <a:lnTo>
                    <a:pt x="121" y="63"/>
                  </a:lnTo>
                  <a:lnTo>
                    <a:pt x="121" y="65"/>
                  </a:lnTo>
                  <a:lnTo>
                    <a:pt x="121" y="65"/>
                  </a:lnTo>
                  <a:lnTo>
                    <a:pt x="121" y="67"/>
                  </a:lnTo>
                  <a:lnTo>
                    <a:pt x="119" y="69"/>
                  </a:lnTo>
                  <a:lnTo>
                    <a:pt x="119" y="71"/>
                  </a:lnTo>
                  <a:lnTo>
                    <a:pt x="119" y="73"/>
                  </a:lnTo>
                  <a:lnTo>
                    <a:pt x="117" y="75"/>
                  </a:lnTo>
                  <a:lnTo>
                    <a:pt x="117" y="77"/>
                  </a:lnTo>
                  <a:lnTo>
                    <a:pt x="134" y="67"/>
                  </a:lnTo>
                  <a:lnTo>
                    <a:pt x="161" y="56"/>
                  </a:lnTo>
                  <a:lnTo>
                    <a:pt x="186" y="46"/>
                  </a:lnTo>
                  <a:lnTo>
                    <a:pt x="213" y="36"/>
                  </a:lnTo>
                  <a:lnTo>
                    <a:pt x="240" y="29"/>
                  </a:lnTo>
                  <a:lnTo>
                    <a:pt x="267" y="23"/>
                  </a:lnTo>
                  <a:lnTo>
                    <a:pt x="295" y="17"/>
                  </a:lnTo>
                  <a:lnTo>
                    <a:pt x="324" y="13"/>
                  </a:lnTo>
                  <a:lnTo>
                    <a:pt x="353" y="11"/>
                  </a:lnTo>
                  <a:lnTo>
                    <a:pt x="382" y="11"/>
                  </a:lnTo>
                  <a:lnTo>
                    <a:pt x="409" y="11"/>
                  </a:lnTo>
                  <a:lnTo>
                    <a:pt x="410" y="11"/>
                  </a:lnTo>
                  <a:lnTo>
                    <a:pt x="410" y="9"/>
                  </a:lnTo>
                  <a:lnTo>
                    <a:pt x="410" y="8"/>
                  </a:lnTo>
                  <a:lnTo>
                    <a:pt x="412" y="8"/>
                  </a:lnTo>
                  <a:lnTo>
                    <a:pt x="412" y="6"/>
                  </a:lnTo>
                  <a:lnTo>
                    <a:pt x="412" y="4"/>
                  </a:lnTo>
                  <a:lnTo>
                    <a:pt x="412" y="4"/>
                  </a:lnTo>
                  <a:lnTo>
                    <a:pt x="414" y="2"/>
                  </a:lnTo>
                  <a:close/>
                  <a:moveTo>
                    <a:pt x="0" y="1019"/>
                  </a:moveTo>
                  <a:lnTo>
                    <a:pt x="13" y="1028"/>
                  </a:lnTo>
                  <a:lnTo>
                    <a:pt x="34" y="1046"/>
                  </a:lnTo>
                  <a:lnTo>
                    <a:pt x="57" y="1061"/>
                  </a:lnTo>
                  <a:lnTo>
                    <a:pt x="80" y="1076"/>
                  </a:lnTo>
                  <a:lnTo>
                    <a:pt x="105" y="1092"/>
                  </a:lnTo>
                  <a:lnTo>
                    <a:pt x="130" y="1103"/>
                  </a:lnTo>
                  <a:lnTo>
                    <a:pt x="155" y="1115"/>
                  </a:lnTo>
                  <a:lnTo>
                    <a:pt x="182" y="1126"/>
                  </a:lnTo>
                  <a:lnTo>
                    <a:pt x="209" y="1136"/>
                  </a:lnTo>
                  <a:lnTo>
                    <a:pt x="238" y="1143"/>
                  </a:lnTo>
                  <a:lnTo>
                    <a:pt x="265" y="1149"/>
                  </a:lnTo>
                  <a:lnTo>
                    <a:pt x="293" y="1155"/>
                  </a:lnTo>
                  <a:lnTo>
                    <a:pt x="322" y="1159"/>
                  </a:lnTo>
                  <a:lnTo>
                    <a:pt x="353" y="1161"/>
                  </a:lnTo>
                  <a:lnTo>
                    <a:pt x="382" y="1161"/>
                  </a:lnTo>
                  <a:lnTo>
                    <a:pt x="412" y="1161"/>
                  </a:lnTo>
                  <a:lnTo>
                    <a:pt x="434" y="1159"/>
                  </a:lnTo>
                  <a:lnTo>
                    <a:pt x="432" y="1157"/>
                  </a:lnTo>
                  <a:lnTo>
                    <a:pt x="432" y="1157"/>
                  </a:lnTo>
                  <a:lnTo>
                    <a:pt x="432" y="1155"/>
                  </a:lnTo>
                  <a:lnTo>
                    <a:pt x="430" y="1153"/>
                  </a:lnTo>
                  <a:lnTo>
                    <a:pt x="430" y="1153"/>
                  </a:lnTo>
                  <a:lnTo>
                    <a:pt x="430" y="1151"/>
                  </a:lnTo>
                  <a:lnTo>
                    <a:pt x="428" y="1149"/>
                  </a:lnTo>
                  <a:lnTo>
                    <a:pt x="428" y="1149"/>
                  </a:lnTo>
                  <a:lnTo>
                    <a:pt x="410" y="1149"/>
                  </a:lnTo>
                  <a:lnTo>
                    <a:pt x="382" y="1151"/>
                  </a:lnTo>
                  <a:lnTo>
                    <a:pt x="353" y="1149"/>
                  </a:lnTo>
                  <a:lnTo>
                    <a:pt x="324" y="1147"/>
                  </a:lnTo>
                  <a:lnTo>
                    <a:pt x="295" y="1143"/>
                  </a:lnTo>
                  <a:lnTo>
                    <a:pt x="267" y="1140"/>
                  </a:lnTo>
                  <a:lnTo>
                    <a:pt x="240" y="1132"/>
                  </a:lnTo>
                  <a:lnTo>
                    <a:pt x="213" y="1124"/>
                  </a:lnTo>
                  <a:lnTo>
                    <a:pt x="186" y="1117"/>
                  </a:lnTo>
                  <a:lnTo>
                    <a:pt x="161" y="1105"/>
                  </a:lnTo>
                  <a:lnTo>
                    <a:pt x="134" y="1094"/>
                  </a:lnTo>
                  <a:lnTo>
                    <a:pt x="111" y="1082"/>
                  </a:lnTo>
                  <a:lnTo>
                    <a:pt x="86" y="1069"/>
                  </a:lnTo>
                  <a:lnTo>
                    <a:pt x="63" y="1053"/>
                  </a:lnTo>
                  <a:lnTo>
                    <a:pt x="42" y="1038"/>
                  </a:lnTo>
                  <a:lnTo>
                    <a:pt x="19" y="1021"/>
                  </a:lnTo>
                  <a:lnTo>
                    <a:pt x="0" y="1003"/>
                  </a:lnTo>
                  <a:lnTo>
                    <a:pt x="0" y="1005"/>
                  </a:lnTo>
                  <a:lnTo>
                    <a:pt x="0" y="1007"/>
                  </a:lnTo>
                  <a:lnTo>
                    <a:pt x="0" y="1009"/>
                  </a:lnTo>
                  <a:lnTo>
                    <a:pt x="0" y="1011"/>
                  </a:lnTo>
                  <a:lnTo>
                    <a:pt x="0" y="1013"/>
                  </a:lnTo>
                  <a:lnTo>
                    <a:pt x="0" y="1015"/>
                  </a:lnTo>
                  <a:lnTo>
                    <a:pt x="0" y="1017"/>
                  </a:lnTo>
                  <a:lnTo>
                    <a:pt x="0" y="1019"/>
                  </a:lnTo>
                  <a:close/>
                </a:path>
              </a:pathLst>
            </a:custGeom>
            <a:solidFill>
              <a:srgbClr val="93d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Freeform 421"/>
            <p:cNvSpPr/>
            <p:nvPr/>
          </p:nvSpPr>
          <p:spPr>
            <a:xfrm>
              <a:off x="5838480" y="2295000"/>
              <a:ext cx="723960" cy="1934280"/>
            </a:xfrm>
            <a:custGeom>
              <a:avLst/>
              <a:gdLst>
                <a:gd name="textAreaLeft" fmla="*/ 0 w 723960"/>
                <a:gd name="textAreaRight" fmla="*/ 724320 w 723960"/>
                <a:gd name="textAreaTop" fmla="*/ 0 h 1934280"/>
                <a:gd name="textAreaBottom" fmla="*/ 1934640 h 1934280"/>
              </a:gdLst>
              <a:ahLst/>
              <a:rect l="textAreaLeft" t="textAreaTop" r="textAreaRight" b="textAreaBottom"/>
              <a:pathLst>
                <a:path w="430" h="1149">
                  <a:moveTo>
                    <a:pt x="412" y="2"/>
                  </a:moveTo>
                  <a:lnTo>
                    <a:pt x="410" y="2"/>
                  </a:lnTo>
                  <a:lnTo>
                    <a:pt x="382" y="0"/>
                  </a:lnTo>
                  <a:lnTo>
                    <a:pt x="353" y="2"/>
                  </a:lnTo>
                  <a:lnTo>
                    <a:pt x="322" y="3"/>
                  </a:lnTo>
                  <a:lnTo>
                    <a:pt x="293" y="7"/>
                  </a:lnTo>
                  <a:lnTo>
                    <a:pt x="267" y="11"/>
                  </a:lnTo>
                  <a:lnTo>
                    <a:pt x="238" y="19"/>
                  </a:lnTo>
                  <a:lnTo>
                    <a:pt x="211" y="26"/>
                  </a:lnTo>
                  <a:lnTo>
                    <a:pt x="184" y="34"/>
                  </a:lnTo>
                  <a:lnTo>
                    <a:pt x="159" y="46"/>
                  </a:lnTo>
                  <a:lnTo>
                    <a:pt x="132" y="57"/>
                  </a:lnTo>
                  <a:lnTo>
                    <a:pt x="119" y="63"/>
                  </a:lnTo>
                  <a:lnTo>
                    <a:pt x="119" y="65"/>
                  </a:lnTo>
                  <a:lnTo>
                    <a:pt x="119" y="67"/>
                  </a:lnTo>
                  <a:lnTo>
                    <a:pt x="117" y="69"/>
                  </a:lnTo>
                  <a:lnTo>
                    <a:pt x="117" y="71"/>
                  </a:lnTo>
                  <a:lnTo>
                    <a:pt x="117" y="73"/>
                  </a:lnTo>
                  <a:lnTo>
                    <a:pt x="117" y="74"/>
                  </a:lnTo>
                  <a:lnTo>
                    <a:pt x="115" y="76"/>
                  </a:lnTo>
                  <a:lnTo>
                    <a:pt x="115" y="78"/>
                  </a:lnTo>
                  <a:lnTo>
                    <a:pt x="138" y="67"/>
                  </a:lnTo>
                  <a:lnTo>
                    <a:pt x="163" y="55"/>
                  </a:lnTo>
                  <a:lnTo>
                    <a:pt x="188" y="46"/>
                  </a:lnTo>
                  <a:lnTo>
                    <a:pt x="215" y="36"/>
                  </a:lnTo>
                  <a:lnTo>
                    <a:pt x="242" y="28"/>
                  </a:lnTo>
                  <a:lnTo>
                    <a:pt x="268" y="23"/>
                  </a:lnTo>
                  <a:lnTo>
                    <a:pt x="295" y="17"/>
                  </a:lnTo>
                  <a:lnTo>
                    <a:pt x="324" y="13"/>
                  </a:lnTo>
                  <a:lnTo>
                    <a:pt x="353" y="11"/>
                  </a:lnTo>
                  <a:lnTo>
                    <a:pt x="382" y="11"/>
                  </a:lnTo>
                  <a:lnTo>
                    <a:pt x="407" y="11"/>
                  </a:lnTo>
                  <a:lnTo>
                    <a:pt x="407" y="9"/>
                  </a:lnTo>
                  <a:lnTo>
                    <a:pt x="409" y="9"/>
                  </a:lnTo>
                  <a:lnTo>
                    <a:pt x="409" y="7"/>
                  </a:lnTo>
                  <a:lnTo>
                    <a:pt x="409" y="5"/>
                  </a:lnTo>
                  <a:lnTo>
                    <a:pt x="410" y="5"/>
                  </a:lnTo>
                  <a:lnTo>
                    <a:pt x="410" y="3"/>
                  </a:lnTo>
                  <a:lnTo>
                    <a:pt x="410" y="2"/>
                  </a:lnTo>
                  <a:lnTo>
                    <a:pt x="412" y="2"/>
                  </a:lnTo>
                  <a:close/>
                  <a:moveTo>
                    <a:pt x="0" y="1005"/>
                  </a:moveTo>
                  <a:lnTo>
                    <a:pt x="17" y="1018"/>
                  </a:lnTo>
                  <a:lnTo>
                    <a:pt x="38" y="1036"/>
                  </a:lnTo>
                  <a:lnTo>
                    <a:pt x="61" y="1051"/>
                  </a:lnTo>
                  <a:lnTo>
                    <a:pt x="84" y="1066"/>
                  </a:lnTo>
                  <a:lnTo>
                    <a:pt x="107" y="1080"/>
                  </a:lnTo>
                  <a:lnTo>
                    <a:pt x="132" y="1093"/>
                  </a:lnTo>
                  <a:lnTo>
                    <a:pt x="159" y="1105"/>
                  </a:lnTo>
                  <a:lnTo>
                    <a:pt x="184" y="1114"/>
                  </a:lnTo>
                  <a:lnTo>
                    <a:pt x="211" y="1124"/>
                  </a:lnTo>
                  <a:lnTo>
                    <a:pt x="238" y="1132"/>
                  </a:lnTo>
                  <a:lnTo>
                    <a:pt x="267" y="1137"/>
                  </a:lnTo>
                  <a:lnTo>
                    <a:pt x="293" y="1143"/>
                  </a:lnTo>
                  <a:lnTo>
                    <a:pt x="322" y="1147"/>
                  </a:lnTo>
                  <a:lnTo>
                    <a:pt x="353" y="1149"/>
                  </a:lnTo>
                  <a:lnTo>
                    <a:pt x="382" y="1149"/>
                  </a:lnTo>
                  <a:lnTo>
                    <a:pt x="410" y="1149"/>
                  </a:lnTo>
                  <a:lnTo>
                    <a:pt x="430" y="1147"/>
                  </a:lnTo>
                  <a:lnTo>
                    <a:pt x="430" y="1147"/>
                  </a:lnTo>
                  <a:lnTo>
                    <a:pt x="430" y="1145"/>
                  </a:lnTo>
                  <a:lnTo>
                    <a:pt x="428" y="1143"/>
                  </a:lnTo>
                  <a:lnTo>
                    <a:pt x="428" y="1143"/>
                  </a:lnTo>
                  <a:lnTo>
                    <a:pt x="428" y="1141"/>
                  </a:lnTo>
                  <a:lnTo>
                    <a:pt x="426" y="1139"/>
                  </a:lnTo>
                  <a:lnTo>
                    <a:pt x="426" y="1139"/>
                  </a:lnTo>
                  <a:lnTo>
                    <a:pt x="426" y="1137"/>
                  </a:lnTo>
                  <a:lnTo>
                    <a:pt x="410" y="1137"/>
                  </a:lnTo>
                  <a:lnTo>
                    <a:pt x="382" y="1139"/>
                  </a:lnTo>
                  <a:lnTo>
                    <a:pt x="353" y="1137"/>
                  </a:lnTo>
                  <a:lnTo>
                    <a:pt x="324" y="1135"/>
                  </a:lnTo>
                  <a:lnTo>
                    <a:pt x="295" y="1132"/>
                  </a:lnTo>
                  <a:lnTo>
                    <a:pt x="268" y="1128"/>
                  </a:lnTo>
                  <a:lnTo>
                    <a:pt x="242" y="1122"/>
                  </a:lnTo>
                  <a:lnTo>
                    <a:pt x="215" y="1114"/>
                  </a:lnTo>
                  <a:lnTo>
                    <a:pt x="188" y="1105"/>
                  </a:lnTo>
                  <a:lnTo>
                    <a:pt x="163" y="1095"/>
                  </a:lnTo>
                  <a:lnTo>
                    <a:pt x="138" y="1084"/>
                  </a:lnTo>
                  <a:lnTo>
                    <a:pt x="113" y="1070"/>
                  </a:lnTo>
                  <a:lnTo>
                    <a:pt x="90" y="1057"/>
                  </a:lnTo>
                  <a:lnTo>
                    <a:pt x="67" y="1043"/>
                  </a:lnTo>
                  <a:lnTo>
                    <a:pt x="44" y="1026"/>
                  </a:lnTo>
                  <a:lnTo>
                    <a:pt x="23" y="1011"/>
                  </a:lnTo>
                  <a:lnTo>
                    <a:pt x="2" y="992"/>
                  </a:lnTo>
                  <a:lnTo>
                    <a:pt x="0" y="990"/>
                  </a:lnTo>
                  <a:lnTo>
                    <a:pt x="0" y="992"/>
                  </a:lnTo>
                  <a:lnTo>
                    <a:pt x="0" y="994"/>
                  </a:lnTo>
                  <a:lnTo>
                    <a:pt x="0" y="995"/>
                  </a:lnTo>
                  <a:lnTo>
                    <a:pt x="0" y="997"/>
                  </a:lnTo>
                  <a:lnTo>
                    <a:pt x="0" y="999"/>
                  </a:lnTo>
                  <a:lnTo>
                    <a:pt x="0" y="1001"/>
                  </a:lnTo>
                  <a:lnTo>
                    <a:pt x="0" y="1003"/>
                  </a:lnTo>
                  <a:lnTo>
                    <a:pt x="0" y="1005"/>
                  </a:lnTo>
                  <a:close/>
                </a:path>
              </a:pathLst>
            </a:custGeom>
            <a:solidFill>
              <a:srgbClr val="94d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Freeform 422"/>
            <p:cNvSpPr/>
            <p:nvPr/>
          </p:nvSpPr>
          <p:spPr>
            <a:xfrm>
              <a:off x="5838480" y="2303640"/>
              <a:ext cx="720720" cy="191952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1919520"/>
                <a:gd name="textAreaBottom" fmla="*/ 1919880 h 1919520"/>
              </a:gdLst>
              <a:ahLst/>
              <a:rect l="textAreaLeft" t="textAreaTop" r="textAreaRight" b="textAreaBottom"/>
              <a:pathLst>
                <a:path w="428" h="1140">
                  <a:moveTo>
                    <a:pt x="409" y="0"/>
                  </a:moveTo>
                  <a:lnTo>
                    <a:pt x="382" y="0"/>
                  </a:lnTo>
                  <a:lnTo>
                    <a:pt x="353" y="0"/>
                  </a:lnTo>
                  <a:lnTo>
                    <a:pt x="324" y="2"/>
                  </a:lnTo>
                  <a:lnTo>
                    <a:pt x="295" y="6"/>
                  </a:lnTo>
                  <a:lnTo>
                    <a:pt x="267" y="12"/>
                  </a:lnTo>
                  <a:lnTo>
                    <a:pt x="240" y="18"/>
                  </a:lnTo>
                  <a:lnTo>
                    <a:pt x="213" y="25"/>
                  </a:lnTo>
                  <a:lnTo>
                    <a:pt x="186" y="35"/>
                  </a:lnTo>
                  <a:lnTo>
                    <a:pt x="161" y="45"/>
                  </a:lnTo>
                  <a:lnTo>
                    <a:pt x="134" y="56"/>
                  </a:lnTo>
                  <a:lnTo>
                    <a:pt x="117" y="66"/>
                  </a:lnTo>
                  <a:lnTo>
                    <a:pt x="117" y="68"/>
                  </a:lnTo>
                  <a:lnTo>
                    <a:pt x="117" y="69"/>
                  </a:lnTo>
                  <a:lnTo>
                    <a:pt x="115" y="71"/>
                  </a:lnTo>
                  <a:lnTo>
                    <a:pt x="115" y="73"/>
                  </a:lnTo>
                  <a:lnTo>
                    <a:pt x="115" y="75"/>
                  </a:lnTo>
                  <a:lnTo>
                    <a:pt x="115" y="75"/>
                  </a:lnTo>
                  <a:lnTo>
                    <a:pt x="113" y="77"/>
                  </a:lnTo>
                  <a:lnTo>
                    <a:pt x="113" y="79"/>
                  </a:lnTo>
                  <a:lnTo>
                    <a:pt x="115" y="79"/>
                  </a:lnTo>
                  <a:lnTo>
                    <a:pt x="140" y="66"/>
                  </a:lnTo>
                  <a:lnTo>
                    <a:pt x="165" y="54"/>
                  </a:lnTo>
                  <a:lnTo>
                    <a:pt x="190" y="45"/>
                  </a:lnTo>
                  <a:lnTo>
                    <a:pt x="215" y="37"/>
                  </a:lnTo>
                  <a:lnTo>
                    <a:pt x="242" y="29"/>
                  </a:lnTo>
                  <a:lnTo>
                    <a:pt x="268" y="21"/>
                  </a:lnTo>
                  <a:lnTo>
                    <a:pt x="297" y="18"/>
                  </a:lnTo>
                  <a:lnTo>
                    <a:pt x="324" y="14"/>
                  </a:lnTo>
                  <a:lnTo>
                    <a:pt x="353" y="12"/>
                  </a:lnTo>
                  <a:lnTo>
                    <a:pt x="382" y="10"/>
                  </a:lnTo>
                  <a:lnTo>
                    <a:pt x="405" y="12"/>
                  </a:lnTo>
                  <a:lnTo>
                    <a:pt x="405" y="10"/>
                  </a:lnTo>
                  <a:lnTo>
                    <a:pt x="405" y="8"/>
                  </a:lnTo>
                  <a:lnTo>
                    <a:pt x="407" y="8"/>
                  </a:lnTo>
                  <a:lnTo>
                    <a:pt x="407" y="6"/>
                  </a:lnTo>
                  <a:lnTo>
                    <a:pt x="407" y="4"/>
                  </a:lnTo>
                  <a:lnTo>
                    <a:pt x="409" y="4"/>
                  </a:lnTo>
                  <a:lnTo>
                    <a:pt x="409" y="2"/>
                  </a:lnTo>
                  <a:lnTo>
                    <a:pt x="409" y="0"/>
                  </a:lnTo>
                  <a:close/>
                  <a:moveTo>
                    <a:pt x="0" y="992"/>
                  </a:moveTo>
                  <a:lnTo>
                    <a:pt x="19" y="1010"/>
                  </a:lnTo>
                  <a:lnTo>
                    <a:pt x="42" y="1027"/>
                  </a:lnTo>
                  <a:lnTo>
                    <a:pt x="63" y="1042"/>
                  </a:lnTo>
                  <a:lnTo>
                    <a:pt x="86" y="1058"/>
                  </a:lnTo>
                  <a:lnTo>
                    <a:pt x="111" y="1071"/>
                  </a:lnTo>
                  <a:lnTo>
                    <a:pt x="134" y="1083"/>
                  </a:lnTo>
                  <a:lnTo>
                    <a:pt x="161" y="1094"/>
                  </a:lnTo>
                  <a:lnTo>
                    <a:pt x="186" y="1106"/>
                  </a:lnTo>
                  <a:lnTo>
                    <a:pt x="213" y="1113"/>
                  </a:lnTo>
                  <a:lnTo>
                    <a:pt x="240" y="1121"/>
                  </a:lnTo>
                  <a:lnTo>
                    <a:pt x="267" y="1129"/>
                  </a:lnTo>
                  <a:lnTo>
                    <a:pt x="295" y="1132"/>
                  </a:lnTo>
                  <a:lnTo>
                    <a:pt x="324" y="1136"/>
                  </a:lnTo>
                  <a:lnTo>
                    <a:pt x="353" y="1138"/>
                  </a:lnTo>
                  <a:lnTo>
                    <a:pt x="382" y="1140"/>
                  </a:lnTo>
                  <a:lnTo>
                    <a:pt x="410" y="1138"/>
                  </a:lnTo>
                  <a:lnTo>
                    <a:pt x="428" y="1138"/>
                  </a:lnTo>
                  <a:lnTo>
                    <a:pt x="428" y="1136"/>
                  </a:lnTo>
                  <a:lnTo>
                    <a:pt x="426" y="1134"/>
                  </a:lnTo>
                  <a:lnTo>
                    <a:pt x="426" y="1134"/>
                  </a:lnTo>
                  <a:lnTo>
                    <a:pt x="426" y="1132"/>
                  </a:lnTo>
                  <a:lnTo>
                    <a:pt x="426" y="1130"/>
                  </a:lnTo>
                  <a:lnTo>
                    <a:pt x="424" y="1129"/>
                  </a:lnTo>
                  <a:lnTo>
                    <a:pt x="424" y="1129"/>
                  </a:lnTo>
                  <a:lnTo>
                    <a:pt x="424" y="1127"/>
                  </a:lnTo>
                  <a:lnTo>
                    <a:pt x="410" y="1129"/>
                  </a:lnTo>
                  <a:lnTo>
                    <a:pt x="382" y="1129"/>
                  </a:lnTo>
                  <a:lnTo>
                    <a:pt x="353" y="1129"/>
                  </a:lnTo>
                  <a:lnTo>
                    <a:pt x="324" y="1127"/>
                  </a:lnTo>
                  <a:lnTo>
                    <a:pt x="297" y="1123"/>
                  </a:lnTo>
                  <a:lnTo>
                    <a:pt x="268" y="1117"/>
                  </a:lnTo>
                  <a:lnTo>
                    <a:pt x="242" y="1111"/>
                  </a:lnTo>
                  <a:lnTo>
                    <a:pt x="215" y="1104"/>
                  </a:lnTo>
                  <a:lnTo>
                    <a:pt x="190" y="1094"/>
                  </a:lnTo>
                  <a:lnTo>
                    <a:pt x="165" y="1084"/>
                  </a:lnTo>
                  <a:lnTo>
                    <a:pt x="140" y="1073"/>
                  </a:lnTo>
                  <a:lnTo>
                    <a:pt x="115" y="1061"/>
                  </a:lnTo>
                  <a:lnTo>
                    <a:pt x="92" y="1048"/>
                  </a:lnTo>
                  <a:lnTo>
                    <a:pt x="69" y="1033"/>
                  </a:lnTo>
                  <a:lnTo>
                    <a:pt x="48" y="1017"/>
                  </a:lnTo>
                  <a:lnTo>
                    <a:pt x="27" y="1002"/>
                  </a:lnTo>
                  <a:lnTo>
                    <a:pt x="6" y="983"/>
                  </a:lnTo>
                  <a:lnTo>
                    <a:pt x="0" y="977"/>
                  </a:lnTo>
                  <a:lnTo>
                    <a:pt x="0" y="979"/>
                  </a:lnTo>
                  <a:lnTo>
                    <a:pt x="0" y="981"/>
                  </a:lnTo>
                  <a:lnTo>
                    <a:pt x="0" y="983"/>
                  </a:lnTo>
                  <a:lnTo>
                    <a:pt x="0" y="985"/>
                  </a:lnTo>
                  <a:lnTo>
                    <a:pt x="0" y="987"/>
                  </a:lnTo>
                  <a:lnTo>
                    <a:pt x="0" y="989"/>
                  </a:lnTo>
                  <a:lnTo>
                    <a:pt x="0" y="990"/>
                  </a:lnTo>
                  <a:lnTo>
                    <a:pt x="0" y="992"/>
                  </a:lnTo>
                  <a:close/>
                </a:path>
              </a:pathLst>
            </a:custGeom>
            <a:solidFill>
              <a:srgbClr val="95d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Freeform 423"/>
            <p:cNvSpPr/>
            <p:nvPr/>
          </p:nvSpPr>
          <p:spPr>
            <a:xfrm>
              <a:off x="5838480" y="2313360"/>
              <a:ext cx="717480" cy="1899360"/>
            </a:xfrm>
            <a:custGeom>
              <a:avLst/>
              <a:gdLst>
                <a:gd name="textAreaLeft" fmla="*/ 0 w 717480"/>
                <a:gd name="textAreaRight" fmla="*/ 717840 w 717480"/>
                <a:gd name="textAreaTop" fmla="*/ 0 h 1899360"/>
                <a:gd name="textAreaBottom" fmla="*/ 1899720 h 1899360"/>
              </a:gdLst>
              <a:ahLst/>
              <a:rect l="textAreaLeft" t="textAreaTop" r="textAreaRight" b="textAreaBottom"/>
              <a:pathLst>
                <a:path w="426" h="1128">
                  <a:moveTo>
                    <a:pt x="407" y="0"/>
                  </a:moveTo>
                  <a:lnTo>
                    <a:pt x="382" y="0"/>
                  </a:lnTo>
                  <a:lnTo>
                    <a:pt x="353" y="0"/>
                  </a:lnTo>
                  <a:lnTo>
                    <a:pt x="324" y="2"/>
                  </a:lnTo>
                  <a:lnTo>
                    <a:pt x="295" y="6"/>
                  </a:lnTo>
                  <a:lnTo>
                    <a:pt x="268" y="12"/>
                  </a:lnTo>
                  <a:lnTo>
                    <a:pt x="242" y="17"/>
                  </a:lnTo>
                  <a:lnTo>
                    <a:pt x="215" y="25"/>
                  </a:lnTo>
                  <a:lnTo>
                    <a:pt x="188" y="35"/>
                  </a:lnTo>
                  <a:lnTo>
                    <a:pt x="163" y="44"/>
                  </a:lnTo>
                  <a:lnTo>
                    <a:pt x="138" y="56"/>
                  </a:lnTo>
                  <a:lnTo>
                    <a:pt x="115" y="67"/>
                  </a:lnTo>
                  <a:lnTo>
                    <a:pt x="115" y="69"/>
                  </a:lnTo>
                  <a:lnTo>
                    <a:pt x="115" y="69"/>
                  </a:lnTo>
                  <a:lnTo>
                    <a:pt x="113" y="71"/>
                  </a:lnTo>
                  <a:lnTo>
                    <a:pt x="113" y="73"/>
                  </a:lnTo>
                  <a:lnTo>
                    <a:pt x="113" y="75"/>
                  </a:lnTo>
                  <a:lnTo>
                    <a:pt x="113" y="77"/>
                  </a:lnTo>
                  <a:lnTo>
                    <a:pt x="111" y="79"/>
                  </a:lnTo>
                  <a:lnTo>
                    <a:pt x="111" y="81"/>
                  </a:lnTo>
                  <a:lnTo>
                    <a:pt x="119" y="77"/>
                  </a:lnTo>
                  <a:lnTo>
                    <a:pt x="142" y="65"/>
                  </a:lnTo>
                  <a:lnTo>
                    <a:pt x="167" y="54"/>
                  </a:lnTo>
                  <a:lnTo>
                    <a:pt x="192" y="44"/>
                  </a:lnTo>
                  <a:lnTo>
                    <a:pt x="217" y="35"/>
                  </a:lnTo>
                  <a:lnTo>
                    <a:pt x="244" y="27"/>
                  </a:lnTo>
                  <a:lnTo>
                    <a:pt x="270" y="21"/>
                  </a:lnTo>
                  <a:lnTo>
                    <a:pt x="297" y="17"/>
                  </a:lnTo>
                  <a:lnTo>
                    <a:pt x="326" y="14"/>
                  </a:lnTo>
                  <a:lnTo>
                    <a:pt x="353" y="12"/>
                  </a:lnTo>
                  <a:lnTo>
                    <a:pt x="382" y="10"/>
                  </a:lnTo>
                  <a:lnTo>
                    <a:pt x="403" y="12"/>
                  </a:lnTo>
                  <a:lnTo>
                    <a:pt x="403" y="10"/>
                  </a:lnTo>
                  <a:lnTo>
                    <a:pt x="403" y="8"/>
                  </a:lnTo>
                  <a:lnTo>
                    <a:pt x="403" y="6"/>
                  </a:lnTo>
                  <a:lnTo>
                    <a:pt x="405" y="6"/>
                  </a:lnTo>
                  <a:lnTo>
                    <a:pt x="405" y="4"/>
                  </a:lnTo>
                  <a:lnTo>
                    <a:pt x="405" y="2"/>
                  </a:lnTo>
                  <a:lnTo>
                    <a:pt x="407" y="2"/>
                  </a:lnTo>
                  <a:lnTo>
                    <a:pt x="407" y="0"/>
                  </a:lnTo>
                  <a:close/>
                  <a:moveTo>
                    <a:pt x="0" y="979"/>
                  </a:moveTo>
                  <a:lnTo>
                    <a:pt x="2" y="981"/>
                  </a:lnTo>
                  <a:lnTo>
                    <a:pt x="23" y="1000"/>
                  </a:lnTo>
                  <a:lnTo>
                    <a:pt x="44" y="1015"/>
                  </a:lnTo>
                  <a:lnTo>
                    <a:pt x="67" y="1032"/>
                  </a:lnTo>
                  <a:lnTo>
                    <a:pt x="90" y="1046"/>
                  </a:lnTo>
                  <a:lnTo>
                    <a:pt x="113" y="1059"/>
                  </a:lnTo>
                  <a:lnTo>
                    <a:pt x="138" y="1073"/>
                  </a:lnTo>
                  <a:lnTo>
                    <a:pt x="163" y="1084"/>
                  </a:lnTo>
                  <a:lnTo>
                    <a:pt x="188" y="1094"/>
                  </a:lnTo>
                  <a:lnTo>
                    <a:pt x="215" y="1103"/>
                  </a:lnTo>
                  <a:lnTo>
                    <a:pt x="242" y="1111"/>
                  </a:lnTo>
                  <a:lnTo>
                    <a:pt x="268" y="1117"/>
                  </a:lnTo>
                  <a:lnTo>
                    <a:pt x="295" y="1121"/>
                  </a:lnTo>
                  <a:lnTo>
                    <a:pt x="324" y="1124"/>
                  </a:lnTo>
                  <a:lnTo>
                    <a:pt x="353" y="1126"/>
                  </a:lnTo>
                  <a:lnTo>
                    <a:pt x="382" y="1128"/>
                  </a:lnTo>
                  <a:lnTo>
                    <a:pt x="410" y="1126"/>
                  </a:lnTo>
                  <a:lnTo>
                    <a:pt x="426" y="1126"/>
                  </a:lnTo>
                  <a:lnTo>
                    <a:pt x="426" y="1124"/>
                  </a:lnTo>
                  <a:lnTo>
                    <a:pt x="424" y="1123"/>
                  </a:lnTo>
                  <a:lnTo>
                    <a:pt x="424" y="1123"/>
                  </a:lnTo>
                  <a:lnTo>
                    <a:pt x="424" y="1121"/>
                  </a:lnTo>
                  <a:lnTo>
                    <a:pt x="422" y="1119"/>
                  </a:lnTo>
                  <a:lnTo>
                    <a:pt x="422" y="1119"/>
                  </a:lnTo>
                  <a:lnTo>
                    <a:pt x="422" y="1117"/>
                  </a:lnTo>
                  <a:lnTo>
                    <a:pt x="420" y="1115"/>
                  </a:lnTo>
                  <a:lnTo>
                    <a:pt x="410" y="1117"/>
                  </a:lnTo>
                  <a:lnTo>
                    <a:pt x="382" y="1117"/>
                  </a:lnTo>
                  <a:lnTo>
                    <a:pt x="353" y="1117"/>
                  </a:lnTo>
                  <a:lnTo>
                    <a:pt x="326" y="1115"/>
                  </a:lnTo>
                  <a:lnTo>
                    <a:pt x="297" y="1111"/>
                  </a:lnTo>
                  <a:lnTo>
                    <a:pt x="270" y="1105"/>
                  </a:lnTo>
                  <a:lnTo>
                    <a:pt x="244" y="1100"/>
                  </a:lnTo>
                  <a:lnTo>
                    <a:pt x="217" y="1092"/>
                  </a:lnTo>
                  <a:lnTo>
                    <a:pt x="192" y="1084"/>
                  </a:lnTo>
                  <a:lnTo>
                    <a:pt x="167" y="1075"/>
                  </a:lnTo>
                  <a:lnTo>
                    <a:pt x="142" y="1063"/>
                  </a:lnTo>
                  <a:lnTo>
                    <a:pt x="119" y="1050"/>
                  </a:lnTo>
                  <a:lnTo>
                    <a:pt x="96" y="1036"/>
                  </a:lnTo>
                  <a:lnTo>
                    <a:pt x="73" y="1023"/>
                  </a:lnTo>
                  <a:lnTo>
                    <a:pt x="52" y="1007"/>
                  </a:lnTo>
                  <a:lnTo>
                    <a:pt x="30" y="990"/>
                  </a:lnTo>
                  <a:lnTo>
                    <a:pt x="9" y="973"/>
                  </a:lnTo>
                  <a:lnTo>
                    <a:pt x="0" y="963"/>
                  </a:lnTo>
                  <a:lnTo>
                    <a:pt x="0" y="965"/>
                  </a:lnTo>
                  <a:lnTo>
                    <a:pt x="0" y="967"/>
                  </a:lnTo>
                  <a:lnTo>
                    <a:pt x="0" y="969"/>
                  </a:lnTo>
                  <a:lnTo>
                    <a:pt x="0" y="971"/>
                  </a:lnTo>
                  <a:lnTo>
                    <a:pt x="0" y="973"/>
                  </a:lnTo>
                  <a:lnTo>
                    <a:pt x="0" y="975"/>
                  </a:lnTo>
                  <a:lnTo>
                    <a:pt x="0" y="977"/>
                  </a:lnTo>
                  <a:lnTo>
                    <a:pt x="0" y="979"/>
                  </a:lnTo>
                  <a:close/>
                </a:path>
              </a:pathLst>
            </a:custGeom>
            <a:solidFill>
              <a:srgbClr val="96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Freeform 424"/>
            <p:cNvSpPr/>
            <p:nvPr/>
          </p:nvSpPr>
          <p:spPr>
            <a:xfrm>
              <a:off x="5838480" y="2320200"/>
              <a:ext cx="713880" cy="1883880"/>
            </a:xfrm>
            <a:custGeom>
              <a:avLst/>
              <a:gdLst>
                <a:gd name="textAreaLeft" fmla="*/ 0 w 713880"/>
                <a:gd name="textAreaRight" fmla="*/ 714240 w 713880"/>
                <a:gd name="textAreaTop" fmla="*/ 0 h 1883880"/>
                <a:gd name="textAreaBottom" fmla="*/ 1884240 h 1883880"/>
              </a:gdLst>
              <a:ahLst/>
              <a:rect l="textAreaLeft" t="textAreaTop" r="textAreaRight" b="textAreaBottom"/>
              <a:pathLst>
                <a:path w="424" h="1119">
                  <a:moveTo>
                    <a:pt x="405" y="2"/>
                  </a:moveTo>
                  <a:lnTo>
                    <a:pt x="382" y="0"/>
                  </a:lnTo>
                  <a:lnTo>
                    <a:pt x="353" y="2"/>
                  </a:lnTo>
                  <a:lnTo>
                    <a:pt x="324" y="4"/>
                  </a:lnTo>
                  <a:lnTo>
                    <a:pt x="297" y="8"/>
                  </a:lnTo>
                  <a:lnTo>
                    <a:pt x="268" y="11"/>
                  </a:lnTo>
                  <a:lnTo>
                    <a:pt x="242" y="19"/>
                  </a:lnTo>
                  <a:lnTo>
                    <a:pt x="215" y="27"/>
                  </a:lnTo>
                  <a:lnTo>
                    <a:pt x="190" y="35"/>
                  </a:lnTo>
                  <a:lnTo>
                    <a:pt x="165" y="44"/>
                  </a:lnTo>
                  <a:lnTo>
                    <a:pt x="140" y="56"/>
                  </a:lnTo>
                  <a:lnTo>
                    <a:pt x="115" y="69"/>
                  </a:lnTo>
                  <a:lnTo>
                    <a:pt x="113" y="69"/>
                  </a:lnTo>
                  <a:lnTo>
                    <a:pt x="113" y="71"/>
                  </a:lnTo>
                  <a:lnTo>
                    <a:pt x="113" y="73"/>
                  </a:lnTo>
                  <a:lnTo>
                    <a:pt x="111" y="75"/>
                  </a:lnTo>
                  <a:lnTo>
                    <a:pt x="111" y="77"/>
                  </a:lnTo>
                  <a:lnTo>
                    <a:pt x="111" y="79"/>
                  </a:lnTo>
                  <a:lnTo>
                    <a:pt x="111" y="81"/>
                  </a:lnTo>
                  <a:lnTo>
                    <a:pt x="109" y="82"/>
                  </a:lnTo>
                  <a:lnTo>
                    <a:pt x="109" y="84"/>
                  </a:lnTo>
                  <a:lnTo>
                    <a:pt x="121" y="79"/>
                  </a:lnTo>
                  <a:lnTo>
                    <a:pt x="144" y="65"/>
                  </a:lnTo>
                  <a:lnTo>
                    <a:pt x="169" y="54"/>
                  </a:lnTo>
                  <a:lnTo>
                    <a:pt x="194" y="44"/>
                  </a:lnTo>
                  <a:lnTo>
                    <a:pt x="219" y="36"/>
                  </a:lnTo>
                  <a:lnTo>
                    <a:pt x="245" y="29"/>
                  </a:lnTo>
                  <a:lnTo>
                    <a:pt x="272" y="23"/>
                  </a:lnTo>
                  <a:lnTo>
                    <a:pt x="299" y="17"/>
                  </a:lnTo>
                  <a:lnTo>
                    <a:pt x="326" y="15"/>
                  </a:lnTo>
                  <a:lnTo>
                    <a:pt x="353" y="11"/>
                  </a:lnTo>
                  <a:lnTo>
                    <a:pt x="382" y="11"/>
                  </a:lnTo>
                  <a:lnTo>
                    <a:pt x="399" y="11"/>
                  </a:lnTo>
                  <a:lnTo>
                    <a:pt x="401" y="11"/>
                  </a:lnTo>
                  <a:lnTo>
                    <a:pt x="401" y="10"/>
                  </a:lnTo>
                  <a:lnTo>
                    <a:pt x="401" y="8"/>
                  </a:lnTo>
                  <a:lnTo>
                    <a:pt x="403" y="8"/>
                  </a:lnTo>
                  <a:lnTo>
                    <a:pt x="403" y="6"/>
                  </a:lnTo>
                  <a:lnTo>
                    <a:pt x="403" y="4"/>
                  </a:lnTo>
                  <a:lnTo>
                    <a:pt x="403" y="2"/>
                  </a:lnTo>
                  <a:lnTo>
                    <a:pt x="405" y="2"/>
                  </a:lnTo>
                  <a:close/>
                  <a:moveTo>
                    <a:pt x="0" y="967"/>
                  </a:moveTo>
                  <a:lnTo>
                    <a:pt x="6" y="973"/>
                  </a:lnTo>
                  <a:lnTo>
                    <a:pt x="27" y="992"/>
                  </a:lnTo>
                  <a:lnTo>
                    <a:pt x="48" y="1007"/>
                  </a:lnTo>
                  <a:lnTo>
                    <a:pt x="69" y="1023"/>
                  </a:lnTo>
                  <a:lnTo>
                    <a:pt x="92" y="1038"/>
                  </a:lnTo>
                  <a:lnTo>
                    <a:pt x="115" y="1051"/>
                  </a:lnTo>
                  <a:lnTo>
                    <a:pt x="140" y="1063"/>
                  </a:lnTo>
                  <a:lnTo>
                    <a:pt x="165" y="1074"/>
                  </a:lnTo>
                  <a:lnTo>
                    <a:pt x="190" y="1084"/>
                  </a:lnTo>
                  <a:lnTo>
                    <a:pt x="215" y="1094"/>
                  </a:lnTo>
                  <a:lnTo>
                    <a:pt x="242" y="1101"/>
                  </a:lnTo>
                  <a:lnTo>
                    <a:pt x="268" y="1107"/>
                  </a:lnTo>
                  <a:lnTo>
                    <a:pt x="297" y="1113"/>
                  </a:lnTo>
                  <a:lnTo>
                    <a:pt x="324" y="1117"/>
                  </a:lnTo>
                  <a:lnTo>
                    <a:pt x="353" y="1119"/>
                  </a:lnTo>
                  <a:lnTo>
                    <a:pt x="382" y="1119"/>
                  </a:lnTo>
                  <a:lnTo>
                    <a:pt x="410" y="1119"/>
                  </a:lnTo>
                  <a:lnTo>
                    <a:pt x="424" y="1117"/>
                  </a:lnTo>
                  <a:lnTo>
                    <a:pt x="422" y="1115"/>
                  </a:lnTo>
                  <a:lnTo>
                    <a:pt x="422" y="1115"/>
                  </a:lnTo>
                  <a:lnTo>
                    <a:pt x="422" y="1113"/>
                  </a:lnTo>
                  <a:lnTo>
                    <a:pt x="420" y="1111"/>
                  </a:lnTo>
                  <a:lnTo>
                    <a:pt x="420" y="1111"/>
                  </a:lnTo>
                  <a:lnTo>
                    <a:pt x="420" y="1109"/>
                  </a:lnTo>
                  <a:lnTo>
                    <a:pt x="418" y="1107"/>
                  </a:lnTo>
                  <a:lnTo>
                    <a:pt x="418" y="1107"/>
                  </a:lnTo>
                  <a:lnTo>
                    <a:pt x="410" y="1107"/>
                  </a:lnTo>
                  <a:lnTo>
                    <a:pt x="382" y="1107"/>
                  </a:lnTo>
                  <a:lnTo>
                    <a:pt x="353" y="1107"/>
                  </a:lnTo>
                  <a:lnTo>
                    <a:pt x="326" y="1105"/>
                  </a:lnTo>
                  <a:lnTo>
                    <a:pt x="299" y="1101"/>
                  </a:lnTo>
                  <a:lnTo>
                    <a:pt x="272" y="1097"/>
                  </a:lnTo>
                  <a:lnTo>
                    <a:pt x="245" y="1090"/>
                  </a:lnTo>
                  <a:lnTo>
                    <a:pt x="219" y="1084"/>
                  </a:lnTo>
                  <a:lnTo>
                    <a:pt x="194" y="1074"/>
                  </a:lnTo>
                  <a:lnTo>
                    <a:pt x="169" y="1065"/>
                  </a:lnTo>
                  <a:lnTo>
                    <a:pt x="144" y="1053"/>
                  </a:lnTo>
                  <a:lnTo>
                    <a:pt x="121" y="1042"/>
                  </a:lnTo>
                  <a:lnTo>
                    <a:pt x="98" y="1028"/>
                  </a:lnTo>
                  <a:lnTo>
                    <a:pt x="75" y="1015"/>
                  </a:lnTo>
                  <a:lnTo>
                    <a:pt x="53" y="1000"/>
                  </a:lnTo>
                  <a:lnTo>
                    <a:pt x="32" y="982"/>
                  </a:lnTo>
                  <a:lnTo>
                    <a:pt x="13" y="965"/>
                  </a:lnTo>
                  <a:lnTo>
                    <a:pt x="0" y="952"/>
                  </a:lnTo>
                  <a:lnTo>
                    <a:pt x="0" y="954"/>
                  </a:lnTo>
                  <a:lnTo>
                    <a:pt x="0" y="955"/>
                  </a:lnTo>
                  <a:lnTo>
                    <a:pt x="0" y="957"/>
                  </a:lnTo>
                  <a:lnTo>
                    <a:pt x="0" y="959"/>
                  </a:lnTo>
                  <a:lnTo>
                    <a:pt x="0" y="961"/>
                  </a:lnTo>
                  <a:lnTo>
                    <a:pt x="0" y="963"/>
                  </a:lnTo>
                  <a:lnTo>
                    <a:pt x="0" y="965"/>
                  </a:lnTo>
                  <a:lnTo>
                    <a:pt x="0" y="967"/>
                  </a:lnTo>
                  <a:close/>
                </a:path>
              </a:pathLst>
            </a:custGeom>
            <a:solidFill>
              <a:srgbClr val="97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Freeform 425"/>
            <p:cNvSpPr/>
            <p:nvPr/>
          </p:nvSpPr>
          <p:spPr>
            <a:xfrm>
              <a:off x="5838480" y="2330280"/>
              <a:ext cx="707040" cy="1864080"/>
            </a:xfrm>
            <a:custGeom>
              <a:avLst/>
              <a:gdLst>
                <a:gd name="textAreaLeft" fmla="*/ 0 w 707040"/>
                <a:gd name="textAreaRight" fmla="*/ 707400 w 707040"/>
                <a:gd name="textAreaTop" fmla="*/ 0 h 1864080"/>
                <a:gd name="textAreaBottom" fmla="*/ 1864440 h 1864080"/>
              </a:gdLst>
              <a:ahLst/>
              <a:rect l="textAreaLeft" t="textAreaTop" r="textAreaRight" b="textAreaBottom"/>
              <a:pathLst>
                <a:path w="420" h="1107">
                  <a:moveTo>
                    <a:pt x="403" y="2"/>
                  </a:moveTo>
                  <a:lnTo>
                    <a:pt x="382" y="0"/>
                  </a:lnTo>
                  <a:lnTo>
                    <a:pt x="353" y="2"/>
                  </a:lnTo>
                  <a:lnTo>
                    <a:pt x="326" y="4"/>
                  </a:lnTo>
                  <a:lnTo>
                    <a:pt x="297" y="7"/>
                  </a:lnTo>
                  <a:lnTo>
                    <a:pt x="270" y="11"/>
                  </a:lnTo>
                  <a:lnTo>
                    <a:pt x="244" y="17"/>
                  </a:lnTo>
                  <a:lnTo>
                    <a:pt x="217" y="25"/>
                  </a:lnTo>
                  <a:lnTo>
                    <a:pt x="192" y="34"/>
                  </a:lnTo>
                  <a:lnTo>
                    <a:pt x="167" y="44"/>
                  </a:lnTo>
                  <a:lnTo>
                    <a:pt x="142" y="55"/>
                  </a:lnTo>
                  <a:lnTo>
                    <a:pt x="119" y="67"/>
                  </a:lnTo>
                  <a:lnTo>
                    <a:pt x="111" y="71"/>
                  </a:lnTo>
                  <a:lnTo>
                    <a:pt x="111" y="73"/>
                  </a:lnTo>
                  <a:lnTo>
                    <a:pt x="111" y="75"/>
                  </a:lnTo>
                  <a:lnTo>
                    <a:pt x="109" y="76"/>
                  </a:lnTo>
                  <a:lnTo>
                    <a:pt x="109" y="78"/>
                  </a:lnTo>
                  <a:lnTo>
                    <a:pt x="109" y="80"/>
                  </a:lnTo>
                  <a:lnTo>
                    <a:pt x="107" y="82"/>
                  </a:lnTo>
                  <a:lnTo>
                    <a:pt x="107" y="84"/>
                  </a:lnTo>
                  <a:lnTo>
                    <a:pt x="107" y="86"/>
                  </a:lnTo>
                  <a:lnTo>
                    <a:pt x="123" y="76"/>
                  </a:lnTo>
                  <a:lnTo>
                    <a:pt x="146" y="65"/>
                  </a:lnTo>
                  <a:lnTo>
                    <a:pt x="171" y="53"/>
                  </a:lnTo>
                  <a:lnTo>
                    <a:pt x="196" y="44"/>
                  </a:lnTo>
                  <a:lnTo>
                    <a:pt x="220" y="36"/>
                  </a:lnTo>
                  <a:lnTo>
                    <a:pt x="245" y="29"/>
                  </a:lnTo>
                  <a:lnTo>
                    <a:pt x="272" y="23"/>
                  </a:lnTo>
                  <a:lnTo>
                    <a:pt x="299" y="17"/>
                  </a:lnTo>
                  <a:lnTo>
                    <a:pt x="326" y="13"/>
                  </a:lnTo>
                  <a:lnTo>
                    <a:pt x="355" y="11"/>
                  </a:lnTo>
                  <a:lnTo>
                    <a:pt x="382" y="11"/>
                  </a:lnTo>
                  <a:lnTo>
                    <a:pt x="397" y="11"/>
                  </a:lnTo>
                  <a:lnTo>
                    <a:pt x="397" y="9"/>
                  </a:lnTo>
                  <a:lnTo>
                    <a:pt x="399" y="9"/>
                  </a:lnTo>
                  <a:lnTo>
                    <a:pt x="399" y="7"/>
                  </a:lnTo>
                  <a:lnTo>
                    <a:pt x="399" y="5"/>
                  </a:lnTo>
                  <a:lnTo>
                    <a:pt x="401" y="5"/>
                  </a:lnTo>
                  <a:lnTo>
                    <a:pt x="401" y="4"/>
                  </a:lnTo>
                  <a:lnTo>
                    <a:pt x="401" y="2"/>
                  </a:lnTo>
                  <a:lnTo>
                    <a:pt x="403" y="2"/>
                  </a:lnTo>
                  <a:close/>
                  <a:moveTo>
                    <a:pt x="0" y="953"/>
                  </a:moveTo>
                  <a:lnTo>
                    <a:pt x="9" y="963"/>
                  </a:lnTo>
                  <a:lnTo>
                    <a:pt x="30" y="980"/>
                  </a:lnTo>
                  <a:lnTo>
                    <a:pt x="52" y="997"/>
                  </a:lnTo>
                  <a:lnTo>
                    <a:pt x="73" y="1013"/>
                  </a:lnTo>
                  <a:lnTo>
                    <a:pt x="96" y="1026"/>
                  </a:lnTo>
                  <a:lnTo>
                    <a:pt x="119" y="1040"/>
                  </a:lnTo>
                  <a:lnTo>
                    <a:pt x="142" y="1053"/>
                  </a:lnTo>
                  <a:lnTo>
                    <a:pt x="167" y="1065"/>
                  </a:lnTo>
                  <a:lnTo>
                    <a:pt x="192" y="1074"/>
                  </a:lnTo>
                  <a:lnTo>
                    <a:pt x="217" y="1082"/>
                  </a:lnTo>
                  <a:lnTo>
                    <a:pt x="244" y="1090"/>
                  </a:lnTo>
                  <a:lnTo>
                    <a:pt x="270" y="1095"/>
                  </a:lnTo>
                  <a:lnTo>
                    <a:pt x="297" y="1101"/>
                  </a:lnTo>
                  <a:lnTo>
                    <a:pt x="326" y="1105"/>
                  </a:lnTo>
                  <a:lnTo>
                    <a:pt x="353" y="1107"/>
                  </a:lnTo>
                  <a:lnTo>
                    <a:pt x="382" y="1107"/>
                  </a:lnTo>
                  <a:lnTo>
                    <a:pt x="410" y="1107"/>
                  </a:lnTo>
                  <a:lnTo>
                    <a:pt x="420" y="1105"/>
                  </a:lnTo>
                  <a:lnTo>
                    <a:pt x="420" y="1105"/>
                  </a:lnTo>
                  <a:lnTo>
                    <a:pt x="420" y="1103"/>
                  </a:lnTo>
                  <a:lnTo>
                    <a:pt x="418" y="1101"/>
                  </a:lnTo>
                  <a:lnTo>
                    <a:pt x="418" y="1101"/>
                  </a:lnTo>
                  <a:lnTo>
                    <a:pt x="418" y="1099"/>
                  </a:lnTo>
                  <a:lnTo>
                    <a:pt x="416" y="1097"/>
                  </a:lnTo>
                  <a:lnTo>
                    <a:pt x="416" y="1097"/>
                  </a:lnTo>
                  <a:lnTo>
                    <a:pt x="416" y="1095"/>
                  </a:lnTo>
                  <a:lnTo>
                    <a:pt x="410" y="1095"/>
                  </a:lnTo>
                  <a:lnTo>
                    <a:pt x="382" y="1097"/>
                  </a:lnTo>
                  <a:lnTo>
                    <a:pt x="355" y="1095"/>
                  </a:lnTo>
                  <a:lnTo>
                    <a:pt x="326" y="1093"/>
                  </a:lnTo>
                  <a:lnTo>
                    <a:pt x="299" y="1090"/>
                  </a:lnTo>
                  <a:lnTo>
                    <a:pt x="272" y="1086"/>
                  </a:lnTo>
                  <a:lnTo>
                    <a:pt x="245" y="1080"/>
                  </a:lnTo>
                  <a:lnTo>
                    <a:pt x="220" y="1072"/>
                  </a:lnTo>
                  <a:lnTo>
                    <a:pt x="196" y="1065"/>
                  </a:lnTo>
                  <a:lnTo>
                    <a:pt x="171" y="1053"/>
                  </a:lnTo>
                  <a:lnTo>
                    <a:pt x="146" y="1044"/>
                  </a:lnTo>
                  <a:lnTo>
                    <a:pt x="123" y="1032"/>
                  </a:lnTo>
                  <a:lnTo>
                    <a:pt x="100" y="1019"/>
                  </a:lnTo>
                  <a:lnTo>
                    <a:pt x="78" y="1003"/>
                  </a:lnTo>
                  <a:lnTo>
                    <a:pt x="57" y="988"/>
                  </a:lnTo>
                  <a:lnTo>
                    <a:pt x="36" y="973"/>
                  </a:lnTo>
                  <a:lnTo>
                    <a:pt x="17" y="955"/>
                  </a:lnTo>
                  <a:lnTo>
                    <a:pt x="0" y="938"/>
                  </a:lnTo>
                  <a:lnTo>
                    <a:pt x="0" y="940"/>
                  </a:lnTo>
                  <a:lnTo>
                    <a:pt x="0" y="942"/>
                  </a:lnTo>
                  <a:lnTo>
                    <a:pt x="0" y="944"/>
                  </a:lnTo>
                  <a:lnTo>
                    <a:pt x="0" y="946"/>
                  </a:lnTo>
                  <a:lnTo>
                    <a:pt x="0" y="948"/>
                  </a:lnTo>
                  <a:lnTo>
                    <a:pt x="0" y="949"/>
                  </a:lnTo>
                  <a:lnTo>
                    <a:pt x="0" y="951"/>
                  </a:lnTo>
                  <a:lnTo>
                    <a:pt x="0" y="953"/>
                  </a:lnTo>
                  <a:close/>
                </a:path>
              </a:pathLst>
            </a:custGeom>
            <a:solidFill>
              <a:srgbClr val="98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Freeform 426"/>
            <p:cNvSpPr/>
            <p:nvPr/>
          </p:nvSpPr>
          <p:spPr>
            <a:xfrm>
              <a:off x="5838480" y="2338560"/>
              <a:ext cx="704160" cy="1845360"/>
            </a:xfrm>
            <a:custGeom>
              <a:avLst/>
              <a:gdLst>
                <a:gd name="textAreaLeft" fmla="*/ 0 w 704160"/>
                <a:gd name="textAreaRight" fmla="*/ 704520 w 704160"/>
                <a:gd name="textAreaTop" fmla="*/ 0 h 1845360"/>
                <a:gd name="textAreaBottom" fmla="*/ 1845720 h 1845360"/>
              </a:gdLst>
              <a:ahLst/>
              <a:rect l="textAreaLeft" t="textAreaTop" r="textAreaRight" b="textAreaBottom"/>
              <a:pathLst>
                <a:path w="418" h="1096">
                  <a:moveTo>
                    <a:pt x="399" y="0"/>
                  </a:moveTo>
                  <a:lnTo>
                    <a:pt x="382" y="0"/>
                  </a:lnTo>
                  <a:lnTo>
                    <a:pt x="353" y="0"/>
                  </a:lnTo>
                  <a:lnTo>
                    <a:pt x="326" y="4"/>
                  </a:lnTo>
                  <a:lnTo>
                    <a:pt x="299" y="6"/>
                  </a:lnTo>
                  <a:lnTo>
                    <a:pt x="272" y="12"/>
                  </a:lnTo>
                  <a:lnTo>
                    <a:pt x="245" y="18"/>
                  </a:lnTo>
                  <a:lnTo>
                    <a:pt x="219" y="25"/>
                  </a:lnTo>
                  <a:lnTo>
                    <a:pt x="194" y="33"/>
                  </a:lnTo>
                  <a:lnTo>
                    <a:pt x="169" y="43"/>
                  </a:lnTo>
                  <a:lnTo>
                    <a:pt x="144" y="54"/>
                  </a:lnTo>
                  <a:lnTo>
                    <a:pt x="121" y="68"/>
                  </a:lnTo>
                  <a:lnTo>
                    <a:pt x="109" y="73"/>
                  </a:lnTo>
                  <a:lnTo>
                    <a:pt x="109" y="75"/>
                  </a:lnTo>
                  <a:lnTo>
                    <a:pt x="107" y="77"/>
                  </a:lnTo>
                  <a:lnTo>
                    <a:pt x="107" y="79"/>
                  </a:lnTo>
                  <a:lnTo>
                    <a:pt x="107" y="81"/>
                  </a:lnTo>
                  <a:lnTo>
                    <a:pt x="107" y="83"/>
                  </a:lnTo>
                  <a:lnTo>
                    <a:pt x="105" y="85"/>
                  </a:lnTo>
                  <a:lnTo>
                    <a:pt x="105" y="87"/>
                  </a:lnTo>
                  <a:lnTo>
                    <a:pt x="105" y="89"/>
                  </a:lnTo>
                  <a:lnTo>
                    <a:pt x="126" y="75"/>
                  </a:lnTo>
                  <a:lnTo>
                    <a:pt x="149" y="64"/>
                  </a:lnTo>
                  <a:lnTo>
                    <a:pt x="172" y="54"/>
                  </a:lnTo>
                  <a:lnTo>
                    <a:pt x="197" y="45"/>
                  </a:lnTo>
                  <a:lnTo>
                    <a:pt x="222" y="35"/>
                  </a:lnTo>
                  <a:lnTo>
                    <a:pt x="247" y="27"/>
                  </a:lnTo>
                  <a:lnTo>
                    <a:pt x="274" y="22"/>
                  </a:lnTo>
                  <a:lnTo>
                    <a:pt x="299" y="18"/>
                  </a:lnTo>
                  <a:lnTo>
                    <a:pt x="326" y="14"/>
                  </a:lnTo>
                  <a:lnTo>
                    <a:pt x="355" y="12"/>
                  </a:lnTo>
                  <a:lnTo>
                    <a:pt x="382" y="12"/>
                  </a:lnTo>
                  <a:lnTo>
                    <a:pt x="395" y="12"/>
                  </a:lnTo>
                  <a:lnTo>
                    <a:pt x="395" y="10"/>
                  </a:lnTo>
                  <a:lnTo>
                    <a:pt x="397" y="8"/>
                  </a:lnTo>
                  <a:lnTo>
                    <a:pt x="397" y="8"/>
                  </a:lnTo>
                  <a:lnTo>
                    <a:pt x="397" y="6"/>
                  </a:lnTo>
                  <a:lnTo>
                    <a:pt x="397" y="4"/>
                  </a:lnTo>
                  <a:lnTo>
                    <a:pt x="399" y="4"/>
                  </a:lnTo>
                  <a:lnTo>
                    <a:pt x="399" y="2"/>
                  </a:lnTo>
                  <a:lnTo>
                    <a:pt x="399" y="0"/>
                  </a:lnTo>
                  <a:close/>
                  <a:moveTo>
                    <a:pt x="0" y="941"/>
                  </a:moveTo>
                  <a:lnTo>
                    <a:pt x="13" y="954"/>
                  </a:lnTo>
                  <a:lnTo>
                    <a:pt x="32" y="971"/>
                  </a:lnTo>
                  <a:lnTo>
                    <a:pt x="53" y="989"/>
                  </a:lnTo>
                  <a:lnTo>
                    <a:pt x="75" y="1004"/>
                  </a:lnTo>
                  <a:lnTo>
                    <a:pt x="98" y="1017"/>
                  </a:lnTo>
                  <a:lnTo>
                    <a:pt x="121" y="1031"/>
                  </a:lnTo>
                  <a:lnTo>
                    <a:pt x="144" y="1042"/>
                  </a:lnTo>
                  <a:lnTo>
                    <a:pt x="169" y="1054"/>
                  </a:lnTo>
                  <a:lnTo>
                    <a:pt x="194" y="1063"/>
                  </a:lnTo>
                  <a:lnTo>
                    <a:pt x="219" y="1073"/>
                  </a:lnTo>
                  <a:lnTo>
                    <a:pt x="245" y="1079"/>
                  </a:lnTo>
                  <a:lnTo>
                    <a:pt x="272" y="1086"/>
                  </a:lnTo>
                  <a:lnTo>
                    <a:pt x="299" y="1090"/>
                  </a:lnTo>
                  <a:lnTo>
                    <a:pt x="326" y="1094"/>
                  </a:lnTo>
                  <a:lnTo>
                    <a:pt x="353" y="1096"/>
                  </a:lnTo>
                  <a:lnTo>
                    <a:pt x="382" y="1096"/>
                  </a:lnTo>
                  <a:lnTo>
                    <a:pt x="410" y="1096"/>
                  </a:lnTo>
                  <a:lnTo>
                    <a:pt x="418" y="1096"/>
                  </a:lnTo>
                  <a:lnTo>
                    <a:pt x="418" y="1094"/>
                  </a:lnTo>
                  <a:lnTo>
                    <a:pt x="416" y="1092"/>
                  </a:lnTo>
                  <a:lnTo>
                    <a:pt x="416" y="1092"/>
                  </a:lnTo>
                  <a:lnTo>
                    <a:pt x="416" y="1090"/>
                  </a:lnTo>
                  <a:lnTo>
                    <a:pt x="416" y="1088"/>
                  </a:lnTo>
                  <a:lnTo>
                    <a:pt x="414" y="1088"/>
                  </a:lnTo>
                  <a:lnTo>
                    <a:pt x="414" y="1086"/>
                  </a:lnTo>
                  <a:lnTo>
                    <a:pt x="414" y="1085"/>
                  </a:lnTo>
                  <a:lnTo>
                    <a:pt x="409" y="1086"/>
                  </a:lnTo>
                  <a:lnTo>
                    <a:pt x="382" y="1086"/>
                  </a:lnTo>
                  <a:lnTo>
                    <a:pt x="355" y="1086"/>
                  </a:lnTo>
                  <a:lnTo>
                    <a:pt x="326" y="1083"/>
                  </a:lnTo>
                  <a:lnTo>
                    <a:pt x="299" y="1081"/>
                  </a:lnTo>
                  <a:lnTo>
                    <a:pt x="274" y="1075"/>
                  </a:lnTo>
                  <a:lnTo>
                    <a:pt x="247" y="1069"/>
                  </a:lnTo>
                  <a:lnTo>
                    <a:pt x="222" y="1062"/>
                  </a:lnTo>
                  <a:lnTo>
                    <a:pt x="197" y="1054"/>
                  </a:lnTo>
                  <a:lnTo>
                    <a:pt x="172" y="1044"/>
                  </a:lnTo>
                  <a:lnTo>
                    <a:pt x="149" y="1033"/>
                  </a:lnTo>
                  <a:lnTo>
                    <a:pt x="126" y="1021"/>
                  </a:lnTo>
                  <a:lnTo>
                    <a:pt x="103" y="1008"/>
                  </a:lnTo>
                  <a:lnTo>
                    <a:pt x="80" y="994"/>
                  </a:lnTo>
                  <a:lnTo>
                    <a:pt x="59" y="979"/>
                  </a:lnTo>
                  <a:lnTo>
                    <a:pt x="40" y="964"/>
                  </a:lnTo>
                  <a:lnTo>
                    <a:pt x="21" y="946"/>
                  </a:lnTo>
                  <a:lnTo>
                    <a:pt x="2" y="929"/>
                  </a:lnTo>
                  <a:lnTo>
                    <a:pt x="0" y="925"/>
                  </a:lnTo>
                  <a:lnTo>
                    <a:pt x="0" y="927"/>
                  </a:lnTo>
                  <a:lnTo>
                    <a:pt x="0" y="929"/>
                  </a:lnTo>
                  <a:lnTo>
                    <a:pt x="0" y="931"/>
                  </a:lnTo>
                  <a:lnTo>
                    <a:pt x="0" y="933"/>
                  </a:lnTo>
                  <a:lnTo>
                    <a:pt x="0" y="935"/>
                  </a:lnTo>
                  <a:lnTo>
                    <a:pt x="0" y="937"/>
                  </a:lnTo>
                  <a:lnTo>
                    <a:pt x="0" y="939"/>
                  </a:lnTo>
                  <a:lnTo>
                    <a:pt x="0" y="941"/>
                  </a:lnTo>
                  <a:close/>
                </a:path>
              </a:pathLst>
            </a:custGeom>
            <a:solidFill>
              <a:srgbClr val="99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Freeform 427"/>
            <p:cNvSpPr/>
            <p:nvPr/>
          </p:nvSpPr>
          <p:spPr>
            <a:xfrm>
              <a:off x="5835240" y="2349000"/>
              <a:ext cx="704160" cy="1828440"/>
            </a:xfrm>
            <a:custGeom>
              <a:avLst/>
              <a:gdLst>
                <a:gd name="textAreaLeft" fmla="*/ 0 w 704160"/>
                <a:gd name="textAreaRight" fmla="*/ 704520 w 704160"/>
                <a:gd name="textAreaTop" fmla="*/ 0 h 1828440"/>
                <a:gd name="textAreaBottom" fmla="*/ 1828800 h 1828440"/>
              </a:gdLst>
              <a:ahLst/>
              <a:rect l="textAreaLeft" t="textAreaTop" r="textAreaRight" b="textAreaBottom"/>
              <a:pathLst>
                <a:path w="418" h="1086">
                  <a:moveTo>
                    <a:pt x="399" y="0"/>
                  </a:moveTo>
                  <a:lnTo>
                    <a:pt x="384" y="0"/>
                  </a:lnTo>
                  <a:lnTo>
                    <a:pt x="357" y="0"/>
                  </a:lnTo>
                  <a:lnTo>
                    <a:pt x="328" y="2"/>
                  </a:lnTo>
                  <a:lnTo>
                    <a:pt x="301" y="6"/>
                  </a:lnTo>
                  <a:lnTo>
                    <a:pt x="274" y="12"/>
                  </a:lnTo>
                  <a:lnTo>
                    <a:pt x="247" y="18"/>
                  </a:lnTo>
                  <a:lnTo>
                    <a:pt x="222" y="25"/>
                  </a:lnTo>
                  <a:lnTo>
                    <a:pt x="198" y="33"/>
                  </a:lnTo>
                  <a:lnTo>
                    <a:pt x="173" y="42"/>
                  </a:lnTo>
                  <a:lnTo>
                    <a:pt x="148" y="54"/>
                  </a:lnTo>
                  <a:lnTo>
                    <a:pt x="125" y="65"/>
                  </a:lnTo>
                  <a:lnTo>
                    <a:pt x="109" y="75"/>
                  </a:lnTo>
                  <a:lnTo>
                    <a:pt x="109" y="77"/>
                  </a:lnTo>
                  <a:lnTo>
                    <a:pt x="107" y="79"/>
                  </a:lnTo>
                  <a:lnTo>
                    <a:pt x="107" y="81"/>
                  </a:lnTo>
                  <a:lnTo>
                    <a:pt x="107" y="83"/>
                  </a:lnTo>
                  <a:lnTo>
                    <a:pt x="107" y="85"/>
                  </a:lnTo>
                  <a:lnTo>
                    <a:pt x="105" y="87"/>
                  </a:lnTo>
                  <a:lnTo>
                    <a:pt x="105" y="87"/>
                  </a:lnTo>
                  <a:lnTo>
                    <a:pt x="105" y="89"/>
                  </a:lnTo>
                  <a:lnTo>
                    <a:pt x="107" y="89"/>
                  </a:lnTo>
                  <a:lnTo>
                    <a:pt x="130" y="75"/>
                  </a:lnTo>
                  <a:lnTo>
                    <a:pt x="153" y="64"/>
                  </a:lnTo>
                  <a:lnTo>
                    <a:pt x="176" y="52"/>
                  </a:lnTo>
                  <a:lnTo>
                    <a:pt x="201" y="42"/>
                  </a:lnTo>
                  <a:lnTo>
                    <a:pt x="226" y="35"/>
                  </a:lnTo>
                  <a:lnTo>
                    <a:pt x="251" y="27"/>
                  </a:lnTo>
                  <a:lnTo>
                    <a:pt x="276" y="21"/>
                  </a:lnTo>
                  <a:lnTo>
                    <a:pt x="303" y="18"/>
                  </a:lnTo>
                  <a:lnTo>
                    <a:pt x="330" y="14"/>
                  </a:lnTo>
                  <a:lnTo>
                    <a:pt x="357" y="12"/>
                  </a:lnTo>
                  <a:lnTo>
                    <a:pt x="384" y="10"/>
                  </a:lnTo>
                  <a:lnTo>
                    <a:pt x="395" y="12"/>
                  </a:lnTo>
                  <a:lnTo>
                    <a:pt x="395" y="10"/>
                  </a:lnTo>
                  <a:lnTo>
                    <a:pt x="395" y="8"/>
                  </a:lnTo>
                  <a:lnTo>
                    <a:pt x="397" y="6"/>
                  </a:lnTo>
                  <a:lnTo>
                    <a:pt x="397" y="6"/>
                  </a:lnTo>
                  <a:lnTo>
                    <a:pt x="397" y="4"/>
                  </a:lnTo>
                  <a:lnTo>
                    <a:pt x="399" y="2"/>
                  </a:lnTo>
                  <a:lnTo>
                    <a:pt x="399" y="2"/>
                  </a:lnTo>
                  <a:lnTo>
                    <a:pt x="399" y="0"/>
                  </a:lnTo>
                  <a:close/>
                  <a:moveTo>
                    <a:pt x="2" y="927"/>
                  </a:moveTo>
                  <a:lnTo>
                    <a:pt x="19" y="944"/>
                  </a:lnTo>
                  <a:lnTo>
                    <a:pt x="38" y="962"/>
                  </a:lnTo>
                  <a:lnTo>
                    <a:pt x="59" y="977"/>
                  </a:lnTo>
                  <a:lnTo>
                    <a:pt x="80" y="992"/>
                  </a:lnTo>
                  <a:lnTo>
                    <a:pt x="102" y="1008"/>
                  </a:lnTo>
                  <a:lnTo>
                    <a:pt x="125" y="1021"/>
                  </a:lnTo>
                  <a:lnTo>
                    <a:pt x="148" y="1033"/>
                  </a:lnTo>
                  <a:lnTo>
                    <a:pt x="173" y="1042"/>
                  </a:lnTo>
                  <a:lnTo>
                    <a:pt x="198" y="1054"/>
                  </a:lnTo>
                  <a:lnTo>
                    <a:pt x="222" y="1061"/>
                  </a:lnTo>
                  <a:lnTo>
                    <a:pt x="247" y="1069"/>
                  </a:lnTo>
                  <a:lnTo>
                    <a:pt x="274" y="1075"/>
                  </a:lnTo>
                  <a:lnTo>
                    <a:pt x="301" y="1079"/>
                  </a:lnTo>
                  <a:lnTo>
                    <a:pt x="328" y="1082"/>
                  </a:lnTo>
                  <a:lnTo>
                    <a:pt x="357" y="1084"/>
                  </a:lnTo>
                  <a:lnTo>
                    <a:pt x="384" y="1086"/>
                  </a:lnTo>
                  <a:lnTo>
                    <a:pt x="412" y="1084"/>
                  </a:lnTo>
                  <a:lnTo>
                    <a:pt x="418" y="1084"/>
                  </a:lnTo>
                  <a:lnTo>
                    <a:pt x="416" y="1082"/>
                  </a:lnTo>
                  <a:lnTo>
                    <a:pt x="416" y="1082"/>
                  </a:lnTo>
                  <a:lnTo>
                    <a:pt x="416" y="1080"/>
                  </a:lnTo>
                  <a:lnTo>
                    <a:pt x="416" y="1079"/>
                  </a:lnTo>
                  <a:lnTo>
                    <a:pt x="414" y="1079"/>
                  </a:lnTo>
                  <a:lnTo>
                    <a:pt x="414" y="1077"/>
                  </a:lnTo>
                  <a:lnTo>
                    <a:pt x="414" y="1075"/>
                  </a:lnTo>
                  <a:lnTo>
                    <a:pt x="412" y="1075"/>
                  </a:lnTo>
                  <a:lnTo>
                    <a:pt x="411" y="1075"/>
                  </a:lnTo>
                  <a:lnTo>
                    <a:pt x="384" y="1075"/>
                  </a:lnTo>
                  <a:lnTo>
                    <a:pt x="357" y="1075"/>
                  </a:lnTo>
                  <a:lnTo>
                    <a:pt x="330" y="1073"/>
                  </a:lnTo>
                  <a:lnTo>
                    <a:pt x="303" y="1069"/>
                  </a:lnTo>
                  <a:lnTo>
                    <a:pt x="276" y="1065"/>
                  </a:lnTo>
                  <a:lnTo>
                    <a:pt x="251" y="1057"/>
                  </a:lnTo>
                  <a:lnTo>
                    <a:pt x="226" y="1052"/>
                  </a:lnTo>
                  <a:lnTo>
                    <a:pt x="201" y="1042"/>
                  </a:lnTo>
                  <a:lnTo>
                    <a:pt x="176" y="1033"/>
                  </a:lnTo>
                  <a:lnTo>
                    <a:pt x="153" y="1023"/>
                  </a:lnTo>
                  <a:lnTo>
                    <a:pt x="130" y="1011"/>
                  </a:lnTo>
                  <a:lnTo>
                    <a:pt x="107" y="998"/>
                  </a:lnTo>
                  <a:lnTo>
                    <a:pt x="86" y="985"/>
                  </a:lnTo>
                  <a:lnTo>
                    <a:pt x="65" y="969"/>
                  </a:lnTo>
                  <a:lnTo>
                    <a:pt x="46" y="954"/>
                  </a:lnTo>
                  <a:lnTo>
                    <a:pt x="27" y="937"/>
                  </a:lnTo>
                  <a:lnTo>
                    <a:pt x="8" y="919"/>
                  </a:lnTo>
                  <a:lnTo>
                    <a:pt x="0" y="912"/>
                  </a:lnTo>
                  <a:lnTo>
                    <a:pt x="0" y="914"/>
                  </a:lnTo>
                  <a:lnTo>
                    <a:pt x="0" y="915"/>
                  </a:lnTo>
                  <a:lnTo>
                    <a:pt x="0" y="917"/>
                  </a:lnTo>
                  <a:lnTo>
                    <a:pt x="0" y="919"/>
                  </a:lnTo>
                  <a:lnTo>
                    <a:pt x="2" y="921"/>
                  </a:lnTo>
                  <a:lnTo>
                    <a:pt x="2" y="923"/>
                  </a:lnTo>
                  <a:lnTo>
                    <a:pt x="2" y="925"/>
                  </a:lnTo>
                  <a:lnTo>
                    <a:pt x="2" y="927"/>
                  </a:lnTo>
                  <a:close/>
                </a:path>
              </a:pathLst>
            </a:custGeom>
            <a:solidFill>
              <a:srgbClr val="9a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Freeform 428"/>
            <p:cNvSpPr/>
            <p:nvPr/>
          </p:nvSpPr>
          <p:spPr>
            <a:xfrm>
              <a:off x="5835240" y="2359080"/>
              <a:ext cx="700560" cy="1808280"/>
            </a:xfrm>
            <a:custGeom>
              <a:avLst/>
              <a:gdLst>
                <a:gd name="textAreaLeft" fmla="*/ 0 w 700560"/>
                <a:gd name="textAreaRight" fmla="*/ 700920 w 700560"/>
                <a:gd name="textAreaTop" fmla="*/ 0 h 1808280"/>
                <a:gd name="textAreaBottom" fmla="*/ 1808640 h 1808280"/>
              </a:gdLst>
              <a:ahLst/>
              <a:rect l="textAreaLeft" t="textAreaTop" r="textAreaRight" b="textAreaBottom"/>
              <a:pathLst>
                <a:path w="416" h="1074">
                  <a:moveTo>
                    <a:pt x="397" y="0"/>
                  </a:moveTo>
                  <a:lnTo>
                    <a:pt x="384" y="0"/>
                  </a:lnTo>
                  <a:lnTo>
                    <a:pt x="357" y="0"/>
                  </a:lnTo>
                  <a:lnTo>
                    <a:pt x="328" y="2"/>
                  </a:lnTo>
                  <a:lnTo>
                    <a:pt x="301" y="6"/>
                  </a:lnTo>
                  <a:lnTo>
                    <a:pt x="276" y="10"/>
                  </a:lnTo>
                  <a:lnTo>
                    <a:pt x="249" y="15"/>
                  </a:lnTo>
                  <a:lnTo>
                    <a:pt x="224" y="23"/>
                  </a:lnTo>
                  <a:lnTo>
                    <a:pt x="199" y="33"/>
                  </a:lnTo>
                  <a:lnTo>
                    <a:pt x="174" y="42"/>
                  </a:lnTo>
                  <a:lnTo>
                    <a:pt x="151" y="52"/>
                  </a:lnTo>
                  <a:lnTo>
                    <a:pt x="128" y="63"/>
                  </a:lnTo>
                  <a:lnTo>
                    <a:pt x="107" y="77"/>
                  </a:lnTo>
                  <a:lnTo>
                    <a:pt x="107" y="79"/>
                  </a:lnTo>
                  <a:lnTo>
                    <a:pt x="105" y="81"/>
                  </a:lnTo>
                  <a:lnTo>
                    <a:pt x="105" y="83"/>
                  </a:lnTo>
                  <a:lnTo>
                    <a:pt x="105" y="83"/>
                  </a:lnTo>
                  <a:lnTo>
                    <a:pt x="105" y="84"/>
                  </a:lnTo>
                  <a:lnTo>
                    <a:pt x="103" y="86"/>
                  </a:lnTo>
                  <a:lnTo>
                    <a:pt x="103" y="88"/>
                  </a:lnTo>
                  <a:lnTo>
                    <a:pt x="103" y="90"/>
                  </a:lnTo>
                  <a:lnTo>
                    <a:pt x="111" y="86"/>
                  </a:lnTo>
                  <a:lnTo>
                    <a:pt x="132" y="73"/>
                  </a:lnTo>
                  <a:lnTo>
                    <a:pt x="155" y="61"/>
                  </a:lnTo>
                  <a:lnTo>
                    <a:pt x="178" y="52"/>
                  </a:lnTo>
                  <a:lnTo>
                    <a:pt x="203" y="42"/>
                  </a:lnTo>
                  <a:lnTo>
                    <a:pt x="226" y="33"/>
                  </a:lnTo>
                  <a:lnTo>
                    <a:pt x="251" y="27"/>
                  </a:lnTo>
                  <a:lnTo>
                    <a:pt x="278" y="21"/>
                  </a:lnTo>
                  <a:lnTo>
                    <a:pt x="303" y="15"/>
                  </a:lnTo>
                  <a:lnTo>
                    <a:pt x="330" y="13"/>
                  </a:lnTo>
                  <a:lnTo>
                    <a:pt x="357" y="10"/>
                  </a:lnTo>
                  <a:lnTo>
                    <a:pt x="384" y="10"/>
                  </a:lnTo>
                  <a:lnTo>
                    <a:pt x="393" y="10"/>
                  </a:lnTo>
                  <a:lnTo>
                    <a:pt x="393" y="10"/>
                  </a:lnTo>
                  <a:lnTo>
                    <a:pt x="393" y="8"/>
                  </a:lnTo>
                  <a:lnTo>
                    <a:pt x="395" y="6"/>
                  </a:lnTo>
                  <a:lnTo>
                    <a:pt x="395" y="6"/>
                  </a:lnTo>
                  <a:lnTo>
                    <a:pt x="395" y="4"/>
                  </a:lnTo>
                  <a:lnTo>
                    <a:pt x="395" y="2"/>
                  </a:lnTo>
                  <a:lnTo>
                    <a:pt x="397" y="0"/>
                  </a:lnTo>
                  <a:lnTo>
                    <a:pt x="397" y="0"/>
                  </a:lnTo>
                  <a:close/>
                  <a:moveTo>
                    <a:pt x="2" y="913"/>
                  </a:moveTo>
                  <a:lnTo>
                    <a:pt x="4" y="917"/>
                  </a:lnTo>
                  <a:lnTo>
                    <a:pt x="23" y="934"/>
                  </a:lnTo>
                  <a:lnTo>
                    <a:pt x="42" y="952"/>
                  </a:lnTo>
                  <a:lnTo>
                    <a:pt x="61" y="967"/>
                  </a:lnTo>
                  <a:lnTo>
                    <a:pt x="82" y="982"/>
                  </a:lnTo>
                  <a:lnTo>
                    <a:pt x="105" y="996"/>
                  </a:lnTo>
                  <a:lnTo>
                    <a:pt x="128" y="1009"/>
                  </a:lnTo>
                  <a:lnTo>
                    <a:pt x="151" y="1021"/>
                  </a:lnTo>
                  <a:lnTo>
                    <a:pt x="174" y="1032"/>
                  </a:lnTo>
                  <a:lnTo>
                    <a:pt x="199" y="1042"/>
                  </a:lnTo>
                  <a:lnTo>
                    <a:pt x="224" y="1050"/>
                  </a:lnTo>
                  <a:lnTo>
                    <a:pt x="249" y="1057"/>
                  </a:lnTo>
                  <a:lnTo>
                    <a:pt x="276" y="1063"/>
                  </a:lnTo>
                  <a:lnTo>
                    <a:pt x="301" y="1069"/>
                  </a:lnTo>
                  <a:lnTo>
                    <a:pt x="328" y="1071"/>
                  </a:lnTo>
                  <a:lnTo>
                    <a:pt x="357" y="1074"/>
                  </a:lnTo>
                  <a:lnTo>
                    <a:pt x="384" y="1074"/>
                  </a:lnTo>
                  <a:lnTo>
                    <a:pt x="411" y="1074"/>
                  </a:lnTo>
                  <a:lnTo>
                    <a:pt x="416" y="1073"/>
                  </a:lnTo>
                  <a:lnTo>
                    <a:pt x="414" y="1073"/>
                  </a:lnTo>
                  <a:lnTo>
                    <a:pt x="414" y="1071"/>
                  </a:lnTo>
                  <a:lnTo>
                    <a:pt x="414" y="1069"/>
                  </a:lnTo>
                  <a:lnTo>
                    <a:pt x="412" y="1069"/>
                  </a:lnTo>
                  <a:lnTo>
                    <a:pt x="412" y="1067"/>
                  </a:lnTo>
                  <a:lnTo>
                    <a:pt x="412" y="1065"/>
                  </a:lnTo>
                  <a:lnTo>
                    <a:pt x="412" y="1065"/>
                  </a:lnTo>
                  <a:lnTo>
                    <a:pt x="411" y="1063"/>
                  </a:lnTo>
                  <a:lnTo>
                    <a:pt x="411" y="1063"/>
                  </a:lnTo>
                  <a:lnTo>
                    <a:pt x="384" y="1063"/>
                  </a:lnTo>
                  <a:lnTo>
                    <a:pt x="357" y="1063"/>
                  </a:lnTo>
                  <a:lnTo>
                    <a:pt x="330" y="1061"/>
                  </a:lnTo>
                  <a:lnTo>
                    <a:pt x="303" y="1057"/>
                  </a:lnTo>
                  <a:lnTo>
                    <a:pt x="278" y="1053"/>
                  </a:lnTo>
                  <a:lnTo>
                    <a:pt x="251" y="1048"/>
                  </a:lnTo>
                  <a:lnTo>
                    <a:pt x="226" y="1040"/>
                  </a:lnTo>
                  <a:lnTo>
                    <a:pt x="203" y="1032"/>
                  </a:lnTo>
                  <a:lnTo>
                    <a:pt x="178" y="1023"/>
                  </a:lnTo>
                  <a:lnTo>
                    <a:pt x="155" y="1011"/>
                  </a:lnTo>
                  <a:lnTo>
                    <a:pt x="132" y="1000"/>
                  </a:lnTo>
                  <a:lnTo>
                    <a:pt x="111" y="988"/>
                  </a:lnTo>
                  <a:lnTo>
                    <a:pt x="90" y="973"/>
                  </a:lnTo>
                  <a:lnTo>
                    <a:pt x="69" y="959"/>
                  </a:lnTo>
                  <a:lnTo>
                    <a:pt x="48" y="944"/>
                  </a:lnTo>
                  <a:lnTo>
                    <a:pt x="29" y="927"/>
                  </a:lnTo>
                  <a:lnTo>
                    <a:pt x="11" y="909"/>
                  </a:lnTo>
                  <a:lnTo>
                    <a:pt x="0" y="898"/>
                  </a:lnTo>
                  <a:lnTo>
                    <a:pt x="0" y="900"/>
                  </a:lnTo>
                  <a:lnTo>
                    <a:pt x="0" y="902"/>
                  </a:lnTo>
                  <a:lnTo>
                    <a:pt x="0" y="904"/>
                  </a:lnTo>
                  <a:lnTo>
                    <a:pt x="0" y="906"/>
                  </a:lnTo>
                  <a:lnTo>
                    <a:pt x="0" y="908"/>
                  </a:lnTo>
                  <a:lnTo>
                    <a:pt x="0" y="909"/>
                  </a:lnTo>
                  <a:lnTo>
                    <a:pt x="0" y="911"/>
                  </a:lnTo>
                  <a:lnTo>
                    <a:pt x="2" y="913"/>
                  </a:lnTo>
                  <a:close/>
                </a:path>
              </a:pathLst>
            </a:custGeom>
            <a:solidFill>
              <a:srgbClr val="9bd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Freeform 429"/>
            <p:cNvSpPr/>
            <p:nvPr/>
          </p:nvSpPr>
          <p:spPr>
            <a:xfrm>
              <a:off x="5835240" y="2365920"/>
              <a:ext cx="693720" cy="1793160"/>
            </a:xfrm>
            <a:custGeom>
              <a:avLst/>
              <a:gdLst>
                <a:gd name="textAreaLeft" fmla="*/ 0 w 693720"/>
                <a:gd name="textAreaRight" fmla="*/ 693720 w 693720"/>
                <a:gd name="textAreaTop" fmla="*/ 0 h 1793160"/>
                <a:gd name="textAreaBottom" fmla="*/ 1793520 h 1793160"/>
              </a:gdLst>
              <a:ahLst/>
              <a:rect l="textAreaLeft" t="textAreaTop" r="textAreaRight" b="textAreaBottom"/>
              <a:pathLst>
                <a:path w="412" h="1065">
                  <a:moveTo>
                    <a:pt x="395" y="2"/>
                  </a:moveTo>
                  <a:lnTo>
                    <a:pt x="384" y="0"/>
                  </a:lnTo>
                  <a:lnTo>
                    <a:pt x="357" y="2"/>
                  </a:lnTo>
                  <a:lnTo>
                    <a:pt x="330" y="4"/>
                  </a:lnTo>
                  <a:lnTo>
                    <a:pt x="303" y="8"/>
                  </a:lnTo>
                  <a:lnTo>
                    <a:pt x="276" y="11"/>
                  </a:lnTo>
                  <a:lnTo>
                    <a:pt x="251" y="17"/>
                  </a:lnTo>
                  <a:lnTo>
                    <a:pt x="226" y="25"/>
                  </a:lnTo>
                  <a:lnTo>
                    <a:pt x="201" y="32"/>
                  </a:lnTo>
                  <a:lnTo>
                    <a:pt x="176" y="42"/>
                  </a:lnTo>
                  <a:lnTo>
                    <a:pt x="153" y="54"/>
                  </a:lnTo>
                  <a:lnTo>
                    <a:pt x="130" y="65"/>
                  </a:lnTo>
                  <a:lnTo>
                    <a:pt x="107" y="79"/>
                  </a:lnTo>
                  <a:lnTo>
                    <a:pt x="105" y="79"/>
                  </a:lnTo>
                  <a:lnTo>
                    <a:pt x="105" y="80"/>
                  </a:lnTo>
                  <a:lnTo>
                    <a:pt x="103" y="82"/>
                  </a:lnTo>
                  <a:lnTo>
                    <a:pt x="103" y="84"/>
                  </a:lnTo>
                  <a:lnTo>
                    <a:pt x="103" y="86"/>
                  </a:lnTo>
                  <a:lnTo>
                    <a:pt x="103" y="88"/>
                  </a:lnTo>
                  <a:lnTo>
                    <a:pt x="102" y="90"/>
                  </a:lnTo>
                  <a:lnTo>
                    <a:pt x="102" y="92"/>
                  </a:lnTo>
                  <a:lnTo>
                    <a:pt x="102" y="94"/>
                  </a:lnTo>
                  <a:lnTo>
                    <a:pt x="113" y="86"/>
                  </a:lnTo>
                  <a:lnTo>
                    <a:pt x="136" y="75"/>
                  </a:lnTo>
                  <a:lnTo>
                    <a:pt x="157" y="63"/>
                  </a:lnTo>
                  <a:lnTo>
                    <a:pt x="180" y="52"/>
                  </a:lnTo>
                  <a:lnTo>
                    <a:pt x="205" y="42"/>
                  </a:lnTo>
                  <a:lnTo>
                    <a:pt x="228" y="34"/>
                  </a:lnTo>
                  <a:lnTo>
                    <a:pt x="253" y="27"/>
                  </a:lnTo>
                  <a:lnTo>
                    <a:pt x="278" y="21"/>
                  </a:lnTo>
                  <a:lnTo>
                    <a:pt x="305" y="17"/>
                  </a:lnTo>
                  <a:lnTo>
                    <a:pt x="330" y="13"/>
                  </a:lnTo>
                  <a:lnTo>
                    <a:pt x="357" y="11"/>
                  </a:lnTo>
                  <a:lnTo>
                    <a:pt x="384" y="11"/>
                  </a:lnTo>
                  <a:lnTo>
                    <a:pt x="391" y="11"/>
                  </a:lnTo>
                  <a:lnTo>
                    <a:pt x="391" y="9"/>
                  </a:lnTo>
                  <a:lnTo>
                    <a:pt x="391" y="9"/>
                  </a:lnTo>
                  <a:lnTo>
                    <a:pt x="391" y="8"/>
                  </a:lnTo>
                  <a:lnTo>
                    <a:pt x="393" y="6"/>
                  </a:lnTo>
                  <a:lnTo>
                    <a:pt x="393" y="6"/>
                  </a:lnTo>
                  <a:lnTo>
                    <a:pt x="393" y="4"/>
                  </a:lnTo>
                  <a:lnTo>
                    <a:pt x="395" y="2"/>
                  </a:lnTo>
                  <a:lnTo>
                    <a:pt x="395" y="2"/>
                  </a:lnTo>
                  <a:close/>
                  <a:moveTo>
                    <a:pt x="0" y="902"/>
                  </a:moveTo>
                  <a:lnTo>
                    <a:pt x="8" y="909"/>
                  </a:lnTo>
                  <a:lnTo>
                    <a:pt x="27" y="927"/>
                  </a:lnTo>
                  <a:lnTo>
                    <a:pt x="46" y="944"/>
                  </a:lnTo>
                  <a:lnTo>
                    <a:pt x="65" y="959"/>
                  </a:lnTo>
                  <a:lnTo>
                    <a:pt x="86" y="975"/>
                  </a:lnTo>
                  <a:lnTo>
                    <a:pt x="107" y="988"/>
                  </a:lnTo>
                  <a:lnTo>
                    <a:pt x="130" y="1001"/>
                  </a:lnTo>
                  <a:lnTo>
                    <a:pt x="153" y="1013"/>
                  </a:lnTo>
                  <a:lnTo>
                    <a:pt x="176" y="1023"/>
                  </a:lnTo>
                  <a:lnTo>
                    <a:pt x="201" y="1032"/>
                  </a:lnTo>
                  <a:lnTo>
                    <a:pt x="226" y="1042"/>
                  </a:lnTo>
                  <a:lnTo>
                    <a:pt x="251" y="1047"/>
                  </a:lnTo>
                  <a:lnTo>
                    <a:pt x="276" y="1055"/>
                  </a:lnTo>
                  <a:lnTo>
                    <a:pt x="303" y="1059"/>
                  </a:lnTo>
                  <a:lnTo>
                    <a:pt x="330" y="1063"/>
                  </a:lnTo>
                  <a:lnTo>
                    <a:pt x="357" y="1065"/>
                  </a:lnTo>
                  <a:lnTo>
                    <a:pt x="384" y="1065"/>
                  </a:lnTo>
                  <a:lnTo>
                    <a:pt x="411" y="1065"/>
                  </a:lnTo>
                  <a:lnTo>
                    <a:pt x="412" y="1065"/>
                  </a:lnTo>
                  <a:lnTo>
                    <a:pt x="412" y="1063"/>
                  </a:lnTo>
                  <a:lnTo>
                    <a:pt x="412" y="1061"/>
                  </a:lnTo>
                  <a:lnTo>
                    <a:pt x="412" y="1061"/>
                  </a:lnTo>
                  <a:lnTo>
                    <a:pt x="411" y="1059"/>
                  </a:lnTo>
                  <a:lnTo>
                    <a:pt x="411" y="1057"/>
                  </a:lnTo>
                  <a:lnTo>
                    <a:pt x="411" y="1057"/>
                  </a:lnTo>
                  <a:lnTo>
                    <a:pt x="409" y="1055"/>
                  </a:lnTo>
                  <a:lnTo>
                    <a:pt x="409" y="1053"/>
                  </a:lnTo>
                  <a:lnTo>
                    <a:pt x="384" y="1055"/>
                  </a:lnTo>
                  <a:lnTo>
                    <a:pt x="357" y="1053"/>
                  </a:lnTo>
                  <a:lnTo>
                    <a:pt x="330" y="1051"/>
                  </a:lnTo>
                  <a:lnTo>
                    <a:pt x="305" y="1047"/>
                  </a:lnTo>
                  <a:lnTo>
                    <a:pt x="278" y="1044"/>
                  </a:lnTo>
                  <a:lnTo>
                    <a:pt x="253" y="1038"/>
                  </a:lnTo>
                  <a:lnTo>
                    <a:pt x="228" y="1030"/>
                  </a:lnTo>
                  <a:lnTo>
                    <a:pt x="205" y="1023"/>
                  </a:lnTo>
                  <a:lnTo>
                    <a:pt x="180" y="1013"/>
                  </a:lnTo>
                  <a:lnTo>
                    <a:pt x="157" y="1003"/>
                  </a:lnTo>
                  <a:lnTo>
                    <a:pt x="136" y="992"/>
                  </a:lnTo>
                  <a:lnTo>
                    <a:pt x="113" y="978"/>
                  </a:lnTo>
                  <a:lnTo>
                    <a:pt x="92" y="965"/>
                  </a:lnTo>
                  <a:lnTo>
                    <a:pt x="71" y="952"/>
                  </a:lnTo>
                  <a:lnTo>
                    <a:pt x="52" y="936"/>
                  </a:lnTo>
                  <a:lnTo>
                    <a:pt x="32" y="919"/>
                  </a:lnTo>
                  <a:lnTo>
                    <a:pt x="15" y="902"/>
                  </a:lnTo>
                  <a:lnTo>
                    <a:pt x="0" y="886"/>
                  </a:lnTo>
                  <a:lnTo>
                    <a:pt x="0" y="888"/>
                  </a:lnTo>
                  <a:lnTo>
                    <a:pt x="0" y="890"/>
                  </a:lnTo>
                  <a:lnTo>
                    <a:pt x="0" y="892"/>
                  </a:lnTo>
                  <a:lnTo>
                    <a:pt x="0" y="894"/>
                  </a:lnTo>
                  <a:lnTo>
                    <a:pt x="0" y="896"/>
                  </a:lnTo>
                  <a:lnTo>
                    <a:pt x="0" y="898"/>
                  </a:lnTo>
                  <a:lnTo>
                    <a:pt x="0" y="900"/>
                  </a:lnTo>
                  <a:lnTo>
                    <a:pt x="0" y="902"/>
                  </a:lnTo>
                  <a:close/>
                </a:path>
              </a:pathLst>
            </a:custGeom>
            <a:solidFill>
              <a:srgbClr val="9cd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Freeform 430"/>
            <p:cNvSpPr/>
            <p:nvPr/>
          </p:nvSpPr>
          <p:spPr>
            <a:xfrm>
              <a:off x="5835240" y="2375640"/>
              <a:ext cx="692280" cy="1773000"/>
            </a:xfrm>
            <a:custGeom>
              <a:avLst/>
              <a:gdLst>
                <a:gd name="textAreaLeft" fmla="*/ 0 w 692280"/>
                <a:gd name="textAreaRight" fmla="*/ 692640 w 692280"/>
                <a:gd name="textAreaTop" fmla="*/ 0 h 1773000"/>
                <a:gd name="textAreaBottom" fmla="*/ 1773360 h 1773000"/>
              </a:gdLst>
              <a:ahLst/>
              <a:rect l="textAreaLeft" t="textAreaTop" r="textAreaRight" b="textAreaBottom"/>
              <a:pathLst>
                <a:path w="411" h="1053">
                  <a:moveTo>
                    <a:pt x="393" y="0"/>
                  </a:moveTo>
                  <a:lnTo>
                    <a:pt x="384" y="0"/>
                  </a:lnTo>
                  <a:lnTo>
                    <a:pt x="357" y="0"/>
                  </a:lnTo>
                  <a:lnTo>
                    <a:pt x="330" y="3"/>
                  </a:lnTo>
                  <a:lnTo>
                    <a:pt x="303" y="5"/>
                  </a:lnTo>
                  <a:lnTo>
                    <a:pt x="278" y="11"/>
                  </a:lnTo>
                  <a:lnTo>
                    <a:pt x="251" y="17"/>
                  </a:lnTo>
                  <a:lnTo>
                    <a:pt x="226" y="23"/>
                  </a:lnTo>
                  <a:lnTo>
                    <a:pt x="203" y="32"/>
                  </a:lnTo>
                  <a:lnTo>
                    <a:pt x="178" y="42"/>
                  </a:lnTo>
                  <a:lnTo>
                    <a:pt x="155" y="51"/>
                  </a:lnTo>
                  <a:lnTo>
                    <a:pt x="132" y="63"/>
                  </a:lnTo>
                  <a:lnTo>
                    <a:pt x="111" y="76"/>
                  </a:lnTo>
                  <a:lnTo>
                    <a:pt x="103" y="80"/>
                  </a:lnTo>
                  <a:lnTo>
                    <a:pt x="103" y="82"/>
                  </a:lnTo>
                  <a:lnTo>
                    <a:pt x="102" y="84"/>
                  </a:lnTo>
                  <a:lnTo>
                    <a:pt x="102" y="86"/>
                  </a:lnTo>
                  <a:lnTo>
                    <a:pt x="102" y="88"/>
                  </a:lnTo>
                  <a:lnTo>
                    <a:pt x="100" y="90"/>
                  </a:lnTo>
                  <a:lnTo>
                    <a:pt x="100" y="92"/>
                  </a:lnTo>
                  <a:lnTo>
                    <a:pt x="100" y="94"/>
                  </a:lnTo>
                  <a:lnTo>
                    <a:pt x="100" y="96"/>
                  </a:lnTo>
                  <a:lnTo>
                    <a:pt x="117" y="86"/>
                  </a:lnTo>
                  <a:lnTo>
                    <a:pt x="138" y="73"/>
                  </a:lnTo>
                  <a:lnTo>
                    <a:pt x="159" y="61"/>
                  </a:lnTo>
                  <a:lnTo>
                    <a:pt x="182" y="51"/>
                  </a:lnTo>
                  <a:lnTo>
                    <a:pt x="207" y="42"/>
                  </a:lnTo>
                  <a:lnTo>
                    <a:pt x="230" y="34"/>
                  </a:lnTo>
                  <a:lnTo>
                    <a:pt x="255" y="26"/>
                  </a:lnTo>
                  <a:lnTo>
                    <a:pt x="280" y="21"/>
                  </a:lnTo>
                  <a:lnTo>
                    <a:pt x="305" y="17"/>
                  </a:lnTo>
                  <a:lnTo>
                    <a:pt x="332" y="13"/>
                  </a:lnTo>
                  <a:lnTo>
                    <a:pt x="357" y="11"/>
                  </a:lnTo>
                  <a:lnTo>
                    <a:pt x="384" y="11"/>
                  </a:lnTo>
                  <a:lnTo>
                    <a:pt x="388" y="11"/>
                  </a:lnTo>
                  <a:lnTo>
                    <a:pt x="389" y="9"/>
                  </a:lnTo>
                  <a:lnTo>
                    <a:pt x="389" y="7"/>
                  </a:lnTo>
                  <a:lnTo>
                    <a:pt x="389" y="7"/>
                  </a:lnTo>
                  <a:lnTo>
                    <a:pt x="391" y="5"/>
                  </a:lnTo>
                  <a:lnTo>
                    <a:pt x="391" y="3"/>
                  </a:lnTo>
                  <a:lnTo>
                    <a:pt x="391" y="3"/>
                  </a:lnTo>
                  <a:lnTo>
                    <a:pt x="391" y="2"/>
                  </a:lnTo>
                  <a:lnTo>
                    <a:pt x="393" y="0"/>
                  </a:lnTo>
                  <a:close/>
                  <a:moveTo>
                    <a:pt x="0" y="888"/>
                  </a:moveTo>
                  <a:lnTo>
                    <a:pt x="11" y="899"/>
                  </a:lnTo>
                  <a:lnTo>
                    <a:pt x="29" y="917"/>
                  </a:lnTo>
                  <a:lnTo>
                    <a:pt x="48" y="934"/>
                  </a:lnTo>
                  <a:lnTo>
                    <a:pt x="69" y="949"/>
                  </a:lnTo>
                  <a:lnTo>
                    <a:pt x="90" y="963"/>
                  </a:lnTo>
                  <a:lnTo>
                    <a:pt x="111" y="978"/>
                  </a:lnTo>
                  <a:lnTo>
                    <a:pt x="132" y="990"/>
                  </a:lnTo>
                  <a:lnTo>
                    <a:pt x="155" y="1001"/>
                  </a:lnTo>
                  <a:lnTo>
                    <a:pt x="178" y="1013"/>
                  </a:lnTo>
                  <a:lnTo>
                    <a:pt x="203" y="1022"/>
                  </a:lnTo>
                  <a:lnTo>
                    <a:pt x="226" y="1030"/>
                  </a:lnTo>
                  <a:lnTo>
                    <a:pt x="251" y="1038"/>
                  </a:lnTo>
                  <a:lnTo>
                    <a:pt x="278" y="1043"/>
                  </a:lnTo>
                  <a:lnTo>
                    <a:pt x="303" y="1047"/>
                  </a:lnTo>
                  <a:lnTo>
                    <a:pt x="330" y="1051"/>
                  </a:lnTo>
                  <a:lnTo>
                    <a:pt x="357" y="1053"/>
                  </a:lnTo>
                  <a:lnTo>
                    <a:pt x="384" y="1053"/>
                  </a:lnTo>
                  <a:lnTo>
                    <a:pt x="411" y="1053"/>
                  </a:lnTo>
                  <a:lnTo>
                    <a:pt x="411" y="1053"/>
                  </a:lnTo>
                  <a:lnTo>
                    <a:pt x="411" y="1051"/>
                  </a:lnTo>
                  <a:lnTo>
                    <a:pt x="411" y="1051"/>
                  </a:lnTo>
                  <a:lnTo>
                    <a:pt x="409" y="1049"/>
                  </a:lnTo>
                  <a:lnTo>
                    <a:pt x="409" y="1047"/>
                  </a:lnTo>
                  <a:lnTo>
                    <a:pt x="409" y="1047"/>
                  </a:lnTo>
                  <a:lnTo>
                    <a:pt x="407" y="1045"/>
                  </a:lnTo>
                  <a:lnTo>
                    <a:pt x="407" y="1043"/>
                  </a:lnTo>
                  <a:lnTo>
                    <a:pt x="407" y="1043"/>
                  </a:lnTo>
                  <a:lnTo>
                    <a:pt x="384" y="1043"/>
                  </a:lnTo>
                  <a:lnTo>
                    <a:pt x="357" y="1041"/>
                  </a:lnTo>
                  <a:lnTo>
                    <a:pt x="332" y="1040"/>
                  </a:lnTo>
                  <a:lnTo>
                    <a:pt x="305" y="1038"/>
                  </a:lnTo>
                  <a:lnTo>
                    <a:pt x="280" y="1032"/>
                  </a:lnTo>
                  <a:lnTo>
                    <a:pt x="255" y="1026"/>
                  </a:lnTo>
                  <a:lnTo>
                    <a:pt x="230" y="1020"/>
                  </a:lnTo>
                  <a:lnTo>
                    <a:pt x="207" y="1013"/>
                  </a:lnTo>
                  <a:lnTo>
                    <a:pt x="182" y="1003"/>
                  </a:lnTo>
                  <a:lnTo>
                    <a:pt x="159" y="992"/>
                  </a:lnTo>
                  <a:lnTo>
                    <a:pt x="138" y="980"/>
                  </a:lnTo>
                  <a:lnTo>
                    <a:pt x="117" y="969"/>
                  </a:lnTo>
                  <a:lnTo>
                    <a:pt x="96" y="955"/>
                  </a:lnTo>
                  <a:lnTo>
                    <a:pt x="75" y="940"/>
                  </a:lnTo>
                  <a:lnTo>
                    <a:pt x="55" y="924"/>
                  </a:lnTo>
                  <a:lnTo>
                    <a:pt x="36" y="909"/>
                  </a:lnTo>
                  <a:lnTo>
                    <a:pt x="19" y="892"/>
                  </a:lnTo>
                  <a:lnTo>
                    <a:pt x="2" y="875"/>
                  </a:lnTo>
                  <a:lnTo>
                    <a:pt x="0" y="873"/>
                  </a:lnTo>
                  <a:lnTo>
                    <a:pt x="0" y="875"/>
                  </a:lnTo>
                  <a:lnTo>
                    <a:pt x="0" y="876"/>
                  </a:lnTo>
                  <a:lnTo>
                    <a:pt x="0" y="878"/>
                  </a:lnTo>
                  <a:lnTo>
                    <a:pt x="0" y="880"/>
                  </a:lnTo>
                  <a:lnTo>
                    <a:pt x="0" y="882"/>
                  </a:lnTo>
                  <a:lnTo>
                    <a:pt x="0" y="884"/>
                  </a:lnTo>
                  <a:lnTo>
                    <a:pt x="0" y="886"/>
                  </a:lnTo>
                  <a:lnTo>
                    <a:pt x="0" y="888"/>
                  </a:lnTo>
                  <a:close/>
                </a:path>
              </a:pathLst>
            </a:custGeom>
            <a:solidFill>
              <a:srgbClr val="9dd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Freeform 431"/>
            <p:cNvSpPr/>
            <p:nvPr/>
          </p:nvSpPr>
          <p:spPr>
            <a:xfrm>
              <a:off x="5835240" y="2384280"/>
              <a:ext cx="688680" cy="1757880"/>
            </a:xfrm>
            <a:custGeom>
              <a:avLst/>
              <a:gdLst>
                <a:gd name="textAreaLeft" fmla="*/ 0 w 688680"/>
                <a:gd name="textAreaRight" fmla="*/ 689040 w 688680"/>
                <a:gd name="textAreaTop" fmla="*/ 0 h 1757880"/>
                <a:gd name="textAreaBottom" fmla="*/ 1758240 h 1757880"/>
              </a:gdLst>
              <a:ahLst/>
              <a:rect l="textAreaLeft" t="textAreaTop" r="textAreaRight" b="textAreaBottom"/>
              <a:pathLst>
                <a:path w="409" h="1044">
                  <a:moveTo>
                    <a:pt x="391" y="0"/>
                  </a:moveTo>
                  <a:lnTo>
                    <a:pt x="384" y="0"/>
                  </a:lnTo>
                  <a:lnTo>
                    <a:pt x="357" y="0"/>
                  </a:lnTo>
                  <a:lnTo>
                    <a:pt x="330" y="2"/>
                  </a:lnTo>
                  <a:lnTo>
                    <a:pt x="305" y="6"/>
                  </a:lnTo>
                  <a:lnTo>
                    <a:pt x="278" y="10"/>
                  </a:lnTo>
                  <a:lnTo>
                    <a:pt x="253" y="16"/>
                  </a:lnTo>
                  <a:lnTo>
                    <a:pt x="228" y="23"/>
                  </a:lnTo>
                  <a:lnTo>
                    <a:pt x="205" y="31"/>
                  </a:lnTo>
                  <a:lnTo>
                    <a:pt x="180" y="41"/>
                  </a:lnTo>
                  <a:lnTo>
                    <a:pt x="157" y="52"/>
                  </a:lnTo>
                  <a:lnTo>
                    <a:pt x="136" y="64"/>
                  </a:lnTo>
                  <a:lnTo>
                    <a:pt x="113" y="75"/>
                  </a:lnTo>
                  <a:lnTo>
                    <a:pt x="102" y="83"/>
                  </a:lnTo>
                  <a:lnTo>
                    <a:pt x="100" y="85"/>
                  </a:lnTo>
                  <a:lnTo>
                    <a:pt x="100" y="87"/>
                  </a:lnTo>
                  <a:lnTo>
                    <a:pt x="100" y="89"/>
                  </a:lnTo>
                  <a:lnTo>
                    <a:pt x="100" y="91"/>
                  </a:lnTo>
                  <a:lnTo>
                    <a:pt x="98" y="92"/>
                  </a:lnTo>
                  <a:lnTo>
                    <a:pt x="98" y="94"/>
                  </a:lnTo>
                  <a:lnTo>
                    <a:pt x="98" y="96"/>
                  </a:lnTo>
                  <a:lnTo>
                    <a:pt x="98" y="98"/>
                  </a:lnTo>
                  <a:lnTo>
                    <a:pt x="98" y="98"/>
                  </a:lnTo>
                  <a:lnTo>
                    <a:pt x="119" y="85"/>
                  </a:lnTo>
                  <a:lnTo>
                    <a:pt x="140" y="73"/>
                  </a:lnTo>
                  <a:lnTo>
                    <a:pt x="163" y="62"/>
                  </a:lnTo>
                  <a:lnTo>
                    <a:pt x="184" y="50"/>
                  </a:lnTo>
                  <a:lnTo>
                    <a:pt x="209" y="43"/>
                  </a:lnTo>
                  <a:lnTo>
                    <a:pt x="232" y="33"/>
                  </a:lnTo>
                  <a:lnTo>
                    <a:pt x="257" y="27"/>
                  </a:lnTo>
                  <a:lnTo>
                    <a:pt x="280" y="21"/>
                  </a:lnTo>
                  <a:lnTo>
                    <a:pt x="307" y="18"/>
                  </a:lnTo>
                  <a:lnTo>
                    <a:pt x="332" y="14"/>
                  </a:lnTo>
                  <a:lnTo>
                    <a:pt x="357" y="12"/>
                  </a:lnTo>
                  <a:lnTo>
                    <a:pt x="384" y="10"/>
                  </a:lnTo>
                  <a:lnTo>
                    <a:pt x="386" y="10"/>
                  </a:lnTo>
                  <a:lnTo>
                    <a:pt x="388" y="10"/>
                  </a:lnTo>
                  <a:lnTo>
                    <a:pt x="388" y="8"/>
                  </a:lnTo>
                  <a:lnTo>
                    <a:pt x="388" y="6"/>
                  </a:lnTo>
                  <a:lnTo>
                    <a:pt x="388" y="6"/>
                  </a:lnTo>
                  <a:lnTo>
                    <a:pt x="389" y="4"/>
                  </a:lnTo>
                  <a:lnTo>
                    <a:pt x="389" y="2"/>
                  </a:lnTo>
                  <a:lnTo>
                    <a:pt x="389" y="2"/>
                  </a:lnTo>
                  <a:lnTo>
                    <a:pt x="391" y="0"/>
                  </a:lnTo>
                  <a:close/>
                  <a:moveTo>
                    <a:pt x="0" y="875"/>
                  </a:moveTo>
                  <a:lnTo>
                    <a:pt x="15" y="891"/>
                  </a:lnTo>
                  <a:lnTo>
                    <a:pt x="32" y="908"/>
                  </a:lnTo>
                  <a:lnTo>
                    <a:pt x="52" y="925"/>
                  </a:lnTo>
                  <a:lnTo>
                    <a:pt x="71" y="941"/>
                  </a:lnTo>
                  <a:lnTo>
                    <a:pt x="92" y="954"/>
                  </a:lnTo>
                  <a:lnTo>
                    <a:pt x="113" y="967"/>
                  </a:lnTo>
                  <a:lnTo>
                    <a:pt x="136" y="981"/>
                  </a:lnTo>
                  <a:lnTo>
                    <a:pt x="157" y="992"/>
                  </a:lnTo>
                  <a:lnTo>
                    <a:pt x="180" y="1002"/>
                  </a:lnTo>
                  <a:lnTo>
                    <a:pt x="205" y="1012"/>
                  </a:lnTo>
                  <a:lnTo>
                    <a:pt x="228" y="1019"/>
                  </a:lnTo>
                  <a:lnTo>
                    <a:pt x="253" y="1027"/>
                  </a:lnTo>
                  <a:lnTo>
                    <a:pt x="278" y="1033"/>
                  </a:lnTo>
                  <a:lnTo>
                    <a:pt x="305" y="1036"/>
                  </a:lnTo>
                  <a:lnTo>
                    <a:pt x="330" y="1040"/>
                  </a:lnTo>
                  <a:lnTo>
                    <a:pt x="357" y="1042"/>
                  </a:lnTo>
                  <a:lnTo>
                    <a:pt x="384" y="1044"/>
                  </a:lnTo>
                  <a:lnTo>
                    <a:pt x="409" y="1042"/>
                  </a:lnTo>
                  <a:lnTo>
                    <a:pt x="409" y="1042"/>
                  </a:lnTo>
                  <a:lnTo>
                    <a:pt x="407" y="1040"/>
                  </a:lnTo>
                  <a:lnTo>
                    <a:pt x="407" y="1038"/>
                  </a:lnTo>
                  <a:lnTo>
                    <a:pt x="407" y="1038"/>
                  </a:lnTo>
                  <a:lnTo>
                    <a:pt x="407" y="1036"/>
                  </a:lnTo>
                  <a:lnTo>
                    <a:pt x="405" y="1035"/>
                  </a:lnTo>
                  <a:lnTo>
                    <a:pt x="405" y="1033"/>
                  </a:lnTo>
                  <a:lnTo>
                    <a:pt x="405" y="1033"/>
                  </a:lnTo>
                  <a:lnTo>
                    <a:pt x="384" y="1033"/>
                  </a:lnTo>
                  <a:lnTo>
                    <a:pt x="357" y="1033"/>
                  </a:lnTo>
                  <a:lnTo>
                    <a:pt x="332" y="1031"/>
                  </a:lnTo>
                  <a:lnTo>
                    <a:pt x="307" y="1027"/>
                  </a:lnTo>
                  <a:lnTo>
                    <a:pt x="280" y="1023"/>
                  </a:lnTo>
                  <a:lnTo>
                    <a:pt x="257" y="1017"/>
                  </a:lnTo>
                  <a:lnTo>
                    <a:pt x="232" y="1010"/>
                  </a:lnTo>
                  <a:lnTo>
                    <a:pt x="209" y="1002"/>
                  </a:lnTo>
                  <a:lnTo>
                    <a:pt x="184" y="992"/>
                  </a:lnTo>
                  <a:lnTo>
                    <a:pt x="163" y="983"/>
                  </a:lnTo>
                  <a:lnTo>
                    <a:pt x="140" y="971"/>
                  </a:lnTo>
                  <a:lnTo>
                    <a:pt x="119" y="960"/>
                  </a:lnTo>
                  <a:lnTo>
                    <a:pt x="98" y="946"/>
                  </a:lnTo>
                  <a:lnTo>
                    <a:pt x="79" y="931"/>
                  </a:lnTo>
                  <a:lnTo>
                    <a:pt x="59" y="916"/>
                  </a:lnTo>
                  <a:lnTo>
                    <a:pt x="40" y="900"/>
                  </a:lnTo>
                  <a:lnTo>
                    <a:pt x="23" y="883"/>
                  </a:lnTo>
                  <a:lnTo>
                    <a:pt x="6" y="866"/>
                  </a:lnTo>
                  <a:lnTo>
                    <a:pt x="0" y="860"/>
                  </a:lnTo>
                  <a:lnTo>
                    <a:pt x="0" y="862"/>
                  </a:lnTo>
                  <a:lnTo>
                    <a:pt x="0" y="864"/>
                  </a:lnTo>
                  <a:lnTo>
                    <a:pt x="0" y="866"/>
                  </a:lnTo>
                  <a:lnTo>
                    <a:pt x="0" y="868"/>
                  </a:lnTo>
                  <a:lnTo>
                    <a:pt x="0" y="870"/>
                  </a:lnTo>
                  <a:lnTo>
                    <a:pt x="0" y="871"/>
                  </a:lnTo>
                  <a:lnTo>
                    <a:pt x="0" y="873"/>
                  </a:lnTo>
                  <a:lnTo>
                    <a:pt x="0" y="875"/>
                  </a:lnTo>
                  <a:close/>
                </a:path>
              </a:pathLst>
            </a:custGeom>
            <a:solidFill>
              <a:srgbClr val="9ed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Freeform 432"/>
            <p:cNvSpPr/>
            <p:nvPr/>
          </p:nvSpPr>
          <p:spPr>
            <a:xfrm>
              <a:off x="5835240" y="2394360"/>
              <a:ext cx="685440" cy="1737720"/>
            </a:xfrm>
            <a:custGeom>
              <a:avLst/>
              <a:gdLst>
                <a:gd name="textAreaLeft" fmla="*/ 0 w 685440"/>
                <a:gd name="textAreaRight" fmla="*/ 685800 w 685440"/>
                <a:gd name="textAreaTop" fmla="*/ 0 h 1737720"/>
                <a:gd name="textAreaBottom" fmla="*/ 1738080 h 1737720"/>
              </a:gdLst>
              <a:ahLst/>
              <a:rect l="textAreaLeft" t="textAreaTop" r="textAreaRight" b="textAreaBottom"/>
              <a:pathLst>
                <a:path w="407" h="1032">
                  <a:moveTo>
                    <a:pt x="388" y="0"/>
                  </a:moveTo>
                  <a:lnTo>
                    <a:pt x="384" y="0"/>
                  </a:lnTo>
                  <a:lnTo>
                    <a:pt x="357" y="0"/>
                  </a:lnTo>
                  <a:lnTo>
                    <a:pt x="332" y="2"/>
                  </a:lnTo>
                  <a:lnTo>
                    <a:pt x="305" y="6"/>
                  </a:lnTo>
                  <a:lnTo>
                    <a:pt x="280" y="10"/>
                  </a:lnTo>
                  <a:lnTo>
                    <a:pt x="255" y="15"/>
                  </a:lnTo>
                  <a:lnTo>
                    <a:pt x="230" y="23"/>
                  </a:lnTo>
                  <a:lnTo>
                    <a:pt x="207" y="31"/>
                  </a:lnTo>
                  <a:lnTo>
                    <a:pt x="182" y="40"/>
                  </a:lnTo>
                  <a:lnTo>
                    <a:pt x="159" y="50"/>
                  </a:lnTo>
                  <a:lnTo>
                    <a:pt x="138" y="62"/>
                  </a:lnTo>
                  <a:lnTo>
                    <a:pt x="117" y="75"/>
                  </a:lnTo>
                  <a:lnTo>
                    <a:pt x="100" y="85"/>
                  </a:lnTo>
                  <a:lnTo>
                    <a:pt x="98" y="86"/>
                  </a:lnTo>
                  <a:lnTo>
                    <a:pt x="98" y="88"/>
                  </a:lnTo>
                  <a:lnTo>
                    <a:pt x="98" y="90"/>
                  </a:lnTo>
                  <a:lnTo>
                    <a:pt x="98" y="92"/>
                  </a:lnTo>
                  <a:lnTo>
                    <a:pt x="96" y="94"/>
                  </a:lnTo>
                  <a:lnTo>
                    <a:pt x="96" y="98"/>
                  </a:lnTo>
                  <a:lnTo>
                    <a:pt x="96" y="100"/>
                  </a:lnTo>
                  <a:lnTo>
                    <a:pt x="96" y="102"/>
                  </a:lnTo>
                  <a:lnTo>
                    <a:pt x="102" y="96"/>
                  </a:lnTo>
                  <a:lnTo>
                    <a:pt x="121" y="83"/>
                  </a:lnTo>
                  <a:lnTo>
                    <a:pt x="144" y="71"/>
                  </a:lnTo>
                  <a:lnTo>
                    <a:pt x="165" y="60"/>
                  </a:lnTo>
                  <a:lnTo>
                    <a:pt x="188" y="50"/>
                  </a:lnTo>
                  <a:lnTo>
                    <a:pt x="211" y="40"/>
                  </a:lnTo>
                  <a:lnTo>
                    <a:pt x="234" y="33"/>
                  </a:lnTo>
                  <a:lnTo>
                    <a:pt x="257" y="27"/>
                  </a:lnTo>
                  <a:lnTo>
                    <a:pt x="282" y="21"/>
                  </a:lnTo>
                  <a:lnTo>
                    <a:pt x="307" y="15"/>
                  </a:lnTo>
                  <a:lnTo>
                    <a:pt x="332" y="14"/>
                  </a:lnTo>
                  <a:lnTo>
                    <a:pt x="359" y="12"/>
                  </a:lnTo>
                  <a:lnTo>
                    <a:pt x="384" y="10"/>
                  </a:lnTo>
                  <a:lnTo>
                    <a:pt x="384" y="10"/>
                  </a:lnTo>
                  <a:lnTo>
                    <a:pt x="386" y="10"/>
                  </a:lnTo>
                  <a:lnTo>
                    <a:pt x="386" y="8"/>
                  </a:lnTo>
                  <a:lnTo>
                    <a:pt x="386" y="6"/>
                  </a:lnTo>
                  <a:lnTo>
                    <a:pt x="386" y="4"/>
                  </a:lnTo>
                  <a:lnTo>
                    <a:pt x="388" y="4"/>
                  </a:lnTo>
                  <a:lnTo>
                    <a:pt x="388" y="2"/>
                  </a:lnTo>
                  <a:lnTo>
                    <a:pt x="388" y="0"/>
                  </a:lnTo>
                  <a:lnTo>
                    <a:pt x="388" y="0"/>
                  </a:lnTo>
                  <a:close/>
                  <a:moveTo>
                    <a:pt x="0" y="862"/>
                  </a:moveTo>
                  <a:lnTo>
                    <a:pt x="2" y="864"/>
                  </a:lnTo>
                  <a:lnTo>
                    <a:pt x="19" y="881"/>
                  </a:lnTo>
                  <a:lnTo>
                    <a:pt x="36" y="898"/>
                  </a:lnTo>
                  <a:lnTo>
                    <a:pt x="55" y="913"/>
                  </a:lnTo>
                  <a:lnTo>
                    <a:pt x="75" y="929"/>
                  </a:lnTo>
                  <a:lnTo>
                    <a:pt x="96" y="944"/>
                  </a:lnTo>
                  <a:lnTo>
                    <a:pt x="117" y="958"/>
                  </a:lnTo>
                  <a:lnTo>
                    <a:pt x="138" y="969"/>
                  </a:lnTo>
                  <a:lnTo>
                    <a:pt x="159" y="981"/>
                  </a:lnTo>
                  <a:lnTo>
                    <a:pt x="182" y="992"/>
                  </a:lnTo>
                  <a:lnTo>
                    <a:pt x="207" y="1002"/>
                  </a:lnTo>
                  <a:lnTo>
                    <a:pt x="230" y="1009"/>
                  </a:lnTo>
                  <a:lnTo>
                    <a:pt x="255" y="1015"/>
                  </a:lnTo>
                  <a:lnTo>
                    <a:pt x="280" y="1021"/>
                  </a:lnTo>
                  <a:lnTo>
                    <a:pt x="305" y="1027"/>
                  </a:lnTo>
                  <a:lnTo>
                    <a:pt x="332" y="1029"/>
                  </a:lnTo>
                  <a:lnTo>
                    <a:pt x="357" y="1030"/>
                  </a:lnTo>
                  <a:lnTo>
                    <a:pt x="384" y="1032"/>
                  </a:lnTo>
                  <a:lnTo>
                    <a:pt x="407" y="1032"/>
                  </a:lnTo>
                  <a:lnTo>
                    <a:pt x="407" y="1030"/>
                  </a:lnTo>
                  <a:lnTo>
                    <a:pt x="405" y="1029"/>
                  </a:lnTo>
                  <a:lnTo>
                    <a:pt x="405" y="1027"/>
                  </a:lnTo>
                  <a:lnTo>
                    <a:pt x="405" y="1027"/>
                  </a:lnTo>
                  <a:lnTo>
                    <a:pt x="403" y="1025"/>
                  </a:lnTo>
                  <a:lnTo>
                    <a:pt x="403" y="1023"/>
                  </a:lnTo>
                  <a:lnTo>
                    <a:pt x="403" y="1023"/>
                  </a:lnTo>
                  <a:lnTo>
                    <a:pt x="403" y="1021"/>
                  </a:lnTo>
                  <a:lnTo>
                    <a:pt x="384" y="1021"/>
                  </a:lnTo>
                  <a:lnTo>
                    <a:pt x="359" y="1021"/>
                  </a:lnTo>
                  <a:lnTo>
                    <a:pt x="332" y="1019"/>
                  </a:lnTo>
                  <a:lnTo>
                    <a:pt x="307" y="1015"/>
                  </a:lnTo>
                  <a:lnTo>
                    <a:pt x="282" y="1011"/>
                  </a:lnTo>
                  <a:lnTo>
                    <a:pt x="257" y="1006"/>
                  </a:lnTo>
                  <a:lnTo>
                    <a:pt x="234" y="998"/>
                  </a:lnTo>
                  <a:lnTo>
                    <a:pt x="211" y="990"/>
                  </a:lnTo>
                  <a:lnTo>
                    <a:pt x="188" y="982"/>
                  </a:lnTo>
                  <a:lnTo>
                    <a:pt x="165" y="971"/>
                  </a:lnTo>
                  <a:lnTo>
                    <a:pt x="144" y="959"/>
                  </a:lnTo>
                  <a:lnTo>
                    <a:pt x="121" y="948"/>
                  </a:lnTo>
                  <a:lnTo>
                    <a:pt x="102" y="935"/>
                  </a:lnTo>
                  <a:lnTo>
                    <a:pt x="80" y="921"/>
                  </a:lnTo>
                  <a:lnTo>
                    <a:pt x="63" y="906"/>
                  </a:lnTo>
                  <a:lnTo>
                    <a:pt x="44" y="890"/>
                  </a:lnTo>
                  <a:lnTo>
                    <a:pt x="27" y="873"/>
                  </a:lnTo>
                  <a:lnTo>
                    <a:pt x="9" y="856"/>
                  </a:lnTo>
                  <a:lnTo>
                    <a:pt x="0" y="844"/>
                  </a:lnTo>
                  <a:lnTo>
                    <a:pt x="0" y="846"/>
                  </a:lnTo>
                  <a:lnTo>
                    <a:pt x="0" y="848"/>
                  </a:lnTo>
                  <a:lnTo>
                    <a:pt x="0" y="850"/>
                  </a:lnTo>
                  <a:lnTo>
                    <a:pt x="0" y="854"/>
                  </a:lnTo>
                  <a:lnTo>
                    <a:pt x="0" y="856"/>
                  </a:lnTo>
                  <a:lnTo>
                    <a:pt x="0" y="858"/>
                  </a:lnTo>
                  <a:lnTo>
                    <a:pt x="0" y="860"/>
                  </a:lnTo>
                  <a:lnTo>
                    <a:pt x="0" y="862"/>
                  </a:lnTo>
                  <a:close/>
                </a:path>
              </a:pathLst>
            </a:custGeom>
            <a:solidFill>
              <a:srgbClr val="9fd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Freeform 433"/>
            <p:cNvSpPr/>
            <p:nvPr/>
          </p:nvSpPr>
          <p:spPr>
            <a:xfrm>
              <a:off x="5835240" y="2400840"/>
              <a:ext cx="681840" cy="1722600"/>
            </a:xfrm>
            <a:custGeom>
              <a:avLst/>
              <a:gdLst>
                <a:gd name="textAreaLeft" fmla="*/ 0 w 681840"/>
                <a:gd name="textAreaRight" fmla="*/ 682200 w 681840"/>
                <a:gd name="textAreaTop" fmla="*/ 0 h 1722600"/>
                <a:gd name="textAreaBottom" fmla="*/ 1722960 h 1722600"/>
              </a:gdLst>
              <a:ahLst/>
              <a:rect l="textAreaLeft" t="textAreaTop" r="textAreaRight" b="textAreaBottom"/>
              <a:pathLst>
                <a:path w="405" h="1023">
                  <a:moveTo>
                    <a:pt x="386" y="0"/>
                  </a:moveTo>
                  <a:lnTo>
                    <a:pt x="384" y="0"/>
                  </a:lnTo>
                  <a:lnTo>
                    <a:pt x="357" y="2"/>
                  </a:lnTo>
                  <a:lnTo>
                    <a:pt x="332" y="4"/>
                  </a:lnTo>
                  <a:lnTo>
                    <a:pt x="307" y="8"/>
                  </a:lnTo>
                  <a:lnTo>
                    <a:pt x="280" y="11"/>
                  </a:lnTo>
                  <a:lnTo>
                    <a:pt x="257" y="17"/>
                  </a:lnTo>
                  <a:lnTo>
                    <a:pt x="232" y="23"/>
                  </a:lnTo>
                  <a:lnTo>
                    <a:pt x="209" y="33"/>
                  </a:lnTo>
                  <a:lnTo>
                    <a:pt x="184" y="40"/>
                  </a:lnTo>
                  <a:lnTo>
                    <a:pt x="163" y="52"/>
                  </a:lnTo>
                  <a:lnTo>
                    <a:pt x="140" y="63"/>
                  </a:lnTo>
                  <a:lnTo>
                    <a:pt x="119" y="75"/>
                  </a:lnTo>
                  <a:lnTo>
                    <a:pt x="98" y="88"/>
                  </a:lnTo>
                  <a:lnTo>
                    <a:pt x="98" y="88"/>
                  </a:lnTo>
                  <a:lnTo>
                    <a:pt x="96" y="90"/>
                  </a:lnTo>
                  <a:lnTo>
                    <a:pt x="96" y="92"/>
                  </a:lnTo>
                  <a:lnTo>
                    <a:pt x="96" y="96"/>
                  </a:lnTo>
                  <a:lnTo>
                    <a:pt x="96" y="98"/>
                  </a:lnTo>
                  <a:lnTo>
                    <a:pt x="94" y="100"/>
                  </a:lnTo>
                  <a:lnTo>
                    <a:pt x="94" y="102"/>
                  </a:lnTo>
                  <a:lnTo>
                    <a:pt x="94" y="104"/>
                  </a:lnTo>
                  <a:lnTo>
                    <a:pt x="92" y="105"/>
                  </a:lnTo>
                  <a:lnTo>
                    <a:pt x="103" y="98"/>
                  </a:lnTo>
                  <a:lnTo>
                    <a:pt x="125" y="84"/>
                  </a:lnTo>
                  <a:lnTo>
                    <a:pt x="146" y="71"/>
                  </a:lnTo>
                  <a:lnTo>
                    <a:pt x="167" y="61"/>
                  </a:lnTo>
                  <a:lnTo>
                    <a:pt x="190" y="52"/>
                  </a:lnTo>
                  <a:lnTo>
                    <a:pt x="211" y="42"/>
                  </a:lnTo>
                  <a:lnTo>
                    <a:pt x="236" y="34"/>
                  </a:lnTo>
                  <a:lnTo>
                    <a:pt x="259" y="27"/>
                  </a:lnTo>
                  <a:lnTo>
                    <a:pt x="284" y="21"/>
                  </a:lnTo>
                  <a:lnTo>
                    <a:pt x="307" y="17"/>
                  </a:lnTo>
                  <a:lnTo>
                    <a:pt x="332" y="13"/>
                  </a:lnTo>
                  <a:lnTo>
                    <a:pt x="359" y="11"/>
                  </a:lnTo>
                  <a:lnTo>
                    <a:pt x="382" y="11"/>
                  </a:lnTo>
                  <a:lnTo>
                    <a:pt x="382" y="10"/>
                  </a:lnTo>
                  <a:lnTo>
                    <a:pt x="384" y="10"/>
                  </a:lnTo>
                  <a:lnTo>
                    <a:pt x="384" y="8"/>
                  </a:lnTo>
                  <a:lnTo>
                    <a:pt x="384" y="6"/>
                  </a:lnTo>
                  <a:lnTo>
                    <a:pt x="386" y="6"/>
                  </a:lnTo>
                  <a:lnTo>
                    <a:pt x="386" y="4"/>
                  </a:lnTo>
                  <a:lnTo>
                    <a:pt x="386" y="2"/>
                  </a:lnTo>
                  <a:lnTo>
                    <a:pt x="386" y="0"/>
                  </a:lnTo>
                  <a:close/>
                  <a:moveTo>
                    <a:pt x="0" y="850"/>
                  </a:moveTo>
                  <a:lnTo>
                    <a:pt x="6" y="856"/>
                  </a:lnTo>
                  <a:lnTo>
                    <a:pt x="23" y="873"/>
                  </a:lnTo>
                  <a:lnTo>
                    <a:pt x="40" y="890"/>
                  </a:lnTo>
                  <a:lnTo>
                    <a:pt x="59" y="906"/>
                  </a:lnTo>
                  <a:lnTo>
                    <a:pt x="79" y="921"/>
                  </a:lnTo>
                  <a:lnTo>
                    <a:pt x="98" y="936"/>
                  </a:lnTo>
                  <a:lnTo>
                    <a:pt x="119" y="950"/>
                  </a:lnTo>
                  <a:lnTo>
                    <a:pt x="140" y="961"/>
                  </a:lnTo>
                  <a:lnTo>
                    <a:pt x="163" y="973"/>
                  </a:lnTo>
                  <a:lnTo>
                    <a:pt x="184" y="982"/>
                  </a:lnTo>
                  <a:lnTo>
                    <a:pt x="209" y="992"/>
                  </a:lnTo>
                  <a:lnTo>
                    <a:pt x="232" y="1000"/>
                  </a:lnTo>
                  <a:lnTo>
                    <a:pt x="257" y="1007"/>
                  </a:lnTo>
                  <a:lnTo>
                    <a:pt x="280" y="1013"/>
                  </a:lnTo>
                  <a:lnTo>
                    <a:pt x="307" y="1017"/>
                  </a:lnTo>
                  <a:lnTo>
                    <a:pt x="332" y="1021"/>
                  </a:lnTo>
                  <a:lnTo>
                    <a:pt x="357" y="1023"/>
                  </a:lnTo>
                  <a:lnTo>
                    <a:pt x="384" y="1023"/>
                  </a:lnTo>
                  <a:lnTo>
                    <a:pt x="405" y="1023"/>
                  </a:lnTo>
                  <a:lnTo>
                    <a:pt x="403" y="1021"/>
                  </a:lnTo>
                  <a:lnTo>
                    <a:pt x="403" y="1019"/>
                  </a:lnTo>
                  <a:lnTo>
                    <a:pt x="403" y="1019"/>
                  </a:lnTo>
                  <a:lnTo>
                    <a:pt x="403" y="1017"/>
                  </a:lnTo>
                  <a:lnTo>
                    <a:pt x="401" y="1015"/>
                  </a:lnTo>
                  <a:lnTo>
                    <a:pt x="401" y="1015"/>
                  </a:lnTo>
                  <a:lnTo>
                    <a:pt x="401" y="1013"/>
                  </a:lnTo>
                  <a:lnTo>
                    <a:pt x="399" y="1011"/>
                  </a:lnTo>
                  <a:lnTo>
                    <a:pt x="384" y="1013"/>
                  </a:lnTo>
                  <a:lnTo>
                    <a:pt x="359" y="1011"/>
                  </a:lnTo>
                  <a:lnTo>
                    <a:pt x="332" y="1009"/>
                  </a:lnTo>
                  <a:lnTo>
                    <a:pt x="307" y="1007"/>
                  </a:lnTo>
                  <a:lnTo>
                    <a:pt x="284" y="1002"/>
                  </a:lnTo>
                  <a:lnTo>
                    <a:pt x="259" y="996"/>
                  </a:lnTo>
                  <a:lnTo>
                    <a:pt x="236" y="990"/>
                  </a:lnTo>
                  <a:lnTo>
                    <a:pt x="211" y="982"/>
                  </a:lnTo>
                  <a:lnTo>
                    <a:pt x="190" y="973"/>
                  </a:lnTo>
                  <a:lnTo>
                    <a:pt x="167" y="963"/>
                  </a:lnTo>
                  <a:lnTo>
                    <a:pt x="146" y="952"/>
                  </a:lnTo>
                  <a:lnTo>
                    <a:pt x="125" y="940"/>
                  </a:lnTo>
                  <a:lnTo>
                    <a:pt x="103" y="927"/>
                  </a:lnTo>
                  <a:lnTo>
                    <a:pt x="84" y="913"/>
                  </a:lnTo>
                  <a:lnTo>
                    <a:pt x="65" y="898"/>
                  </a:lnTo>
                  <a:lnTo>
                    <a:pt x="48" y="883"/>
                  </a:lnTo>
                  <a:lnTo>
                    <a:pt x="31" y="865"/>
                  </a:lnTo>
                  <a:lnTo>
                    <a:pt x="13" y="848"/>
                  </a:lnTo>
                  <a:lnTo>
                    <a:pt x="0" y="833"/>
                  </a:lnTo>
                  <a:lnTo>
                    <a:pt x="0" y="835"/>
                  </a:lnTo>
                  <a:lnTo>
                    <a:pt x="0" y="836"/>
                  </a:lnTo>
                  <a:lnTo>
                    <a:pt x="0" y="838"/>
                  </a:lnTo>
                  <a:lnTo>
                    <a:pt x="0" y="840"/>
                  </a:lnTo>
                  <a:lnTo>
                    <a:pt x="0" y="842"/>
                  </a:lnTo>
                  <a:lnTo>
                    <a:pt x="0" y="844"/>
                  </a:lnTo>
                  <a:lnTo>
                    <a:pt x="0" y="846"/>
                  </a:lnTo>
                  <a:lnTo>
                    <a:pt x="0" y="850"/>
                  </a:lnTo>
                  <a:close/>
                </a:path>
              </a:pathLst>
            </a:custGeom>
            <a:solidFill>
              <a:srgbClr val="a0d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Freeform 434"/>
            <p:cNvSpPr/>
            <p:nvPr/>
          </p:nvSpPr>
          <p:spPr>
            <a:xfrm>
              <a:off x="5835240" y="2411280"/>
              <a:ext cx="678960" cy="1702080"/>
            </a:xfrm>
            <a:custGeom>
              <a:avLst/>
              <a:gdLst>
                <a:gd name="textAreaLeft" fmla="*/ 0 w 678960"/>
                <a:gd name="textAreaRight" fmla="*/ 678960 w 678960"/>
                <a:gd name="textAreaTop" fmla="*/ 0 h 1702080"/>
                <a:gd name="textAreaBottom" fmla="*/ 1702440 h 1702080"/>
              </a:gdLst>
              <a:ahLst/>
              <a:rect l="textAreaLeft" t="textAreaTop" r="textAreaRight" b="textAreaBottom"/>
              <a:pathLst>
                <a:path w="403" h="1011">
                  <a:moveTo>
                    <a:pt x="384" y="0"/>
                  </a:moveTo>
                  <a:lnTo>
                    <a:pt x="384" y="0"/>
                  </a:lnTo>
                  <a:lnTo>
                    <a:pt x="359" y="2"/>
                  </a:lnTo>
                  <a:lnTo>
                    <a:pt x="332" y="4"/>
                  </a:lnTo>
                  <a:lnTo>
                    <a:pt x="307" y="5"/>
                  </a:lnTo>
                  <a:lnTo>
                    <a:pt x="282" y="11"/>
                  </a:lnTo>
                  <a:lnTo>
                    <a:pt x="257" y="17"/>
                  </a:lnTo>
                  <a:lnTo>
                    <a:pt x="234" y="23"/>
                  </a:lnTo>
                  <a:lnTo>
                    <a:pt x="211" y="30"/>
                  </a:lnTo>
                  <a:lnTo>
                    <a:pt x="188" y="40"/>
                  </a:lnTo>
                  <a:lnTo>
                    <a:pt x="165" y="50"/>
                  </a:lnTo>
                  <a:lnTo>
                    <a:pt x="144" y="61"/>
                  </a:lnTo>
                  <a:lnTo>
                    <a:pt x="121" y="73"/>
                  </a:lnTo>
                  <a:lnTo>
                    <a:pt x="102" y="86"/>
                  </a:lnTo>
                  <a:lnTo>
                    <a:pt x="96" y="92"/>
                  </a:lnTo>
                  <a:lnTo>
                    <a:pt x="94" y="94"/>
                  </a:lnTo>
                  <a:lnTo>
                    <a:pt x="94" y="96"/>
                  </a:lnTo>
                  <a:lnTo>
                    <a:pt x="94" y="98"/>
                  </a:lnTo>
                  <a:lnTo>
                    <a:pt x="92" y="99"/>
                  </a:lnTo>
                  <a:lnTo>
                    <a:pt x="92" y="101"/>
                  </a:lnTo>
                  <a:lnTo>
                    <a:pt x="92" y="103"/>
                  </a:lnTo>
                  <a:lnTo>
                    <a:pt x="92" y="105"/>
                  </a:lnTo>
                  <a:lnTo>
                    <a:pt x="90" y="107"/>
                  </a:lnTo>
                  <a:lnTo>
                    <a:pt x="107" y="96"/>
                  </a:lnTo>
                  <a:lnTo>
                    <a:pt x="127" y="82"/>
                  </a:lnTo>
                  <a:lnTo>
                    <a:pt x="148" y="71"/>
                  </a:lnTo>
                  <a:lnTo>
                    <a:pt x="169" y="59"/>
                  </a:lnTo>
                  <a:lnTo>
                    <a:pt x="192" y="50"/>
                  </a:lnTo>
                  <a:lnTo>
                    <a:pt x="213" y="40"/>
                  </a:lnTo>
                  <a:lnTo>
                    <a:pt x="236" y="32"/>
                  </a:lnTo>
                  <a:lnTo>
                    <a:pt x="261" y="27"/>
                  </a:lnTo>
                  <a:lnTo>
                    <a:pt x="284" y="21"/>
                  </a:lnTo>
                  <a:lnTo>
                    <a:pt x="309" y="17"/>
                  </a:lnTo>
                  <a:lnTo>
                    <a:pt x="334" y="13"/>
                  </a:lnTo>
                  <a:lnTo>
                    <a:pt x="359" y="11"/>
                  </a:lnTo>
                  <a:lnTo>
                    <a:pt x="380" y="11"/>
                  </a:lnTo>
                  <a:lnTo>
                    <a:pt x="380" y="9"/>
                  </a:lnTo>
                  <a:lnTo>
                    <a:pt x="382" y="7"/>
                  </a:lnTo>
                  <a:lnTo>
                    <a:pt x="382" y="7"/>
                  </a:lnTo>
                  <a:lnTo>
                    <a:pt x="382" y="5"/>
                  </a:lnTo>
                  <a:lnTo>
                    <a:pt x="382" y="4"/>
                  </a:lnTo>
                  <a:lnTo>
                    <a:pt x="384" y="4"/>
                  </a:lnTo>
                  <a:lnTo>
                    <a:pt x="384" y="2"/>
                  </a:lnTo>
                  <a:lnTo>
                    <a:pt x="384" y="0"/>
                  </a:lnTo>
                  <a:close/>
                  <a:moveTo>
                    <a:pt x="0" y="834"/>
                  </a:moveTo>
                  <a:lnTo>
                    <a:pt x="9" y="846"/>
                  </a:lnTo>
                  <a:lnTo>
                    <a:pt x="27" y="863"/>
                  </a:lnTo>
                  <a:lnTo>
                    <a:pt x="44" y="880"/>
                  </a:lnTo>
                  <a:lnTo>
                    <a:pt x="63" y="896"/>
                  </a:lnTo>
                  <a:lnTo>
                    <a:pt x="80" y="911"/>
                  </a:lnTo>
                  <a:lnTo>
                    <a:pt x="102" y="925"/>
                  </a:lnTo>
                  <a:lnTo>
                    <a:pt x="121" y="938"/>
                  </a:lnTo>
                  <a:lnTo>
                    <a:pt x="144" y="949"/>
                  </a:lnTo>
                  <a:lnTo>
                    <a:pt x="165" y="961"/>
                  </a:lnTo>
                  <a:lnTo>
                    <a:pt x="188" y="972"/>
                  </a:lnTo>
                  <a:lnTo>
                    <a:pt x="211" y="980"/>
                  </a:lnTo>
                  <a:lnTo>
                    <a:pt x="234" y="988"/>
                  </a:lnTo>
                  <a:lnTo>
                    <a:pt x="257" y="996"/>
                  </a:lnTo>
                  <a:lnTo>
                    <a:pt x="282" y="1001"/>
                  </a:lnTo>
                  <a:lnTo>
                    <a:pt x="307" y="1005"/>
                  </a:lnTo>
                  <a:lnTo>
                    <a:pt x="332" y="1009"/>
                  </a:lnTo>
                  <a:lnTo>
                    <a:pt x="359" y="1011"/>
                  </a:lnTo>
                  <a:lnTo>
                    <a:pt x="384" y="1011"/>
                  </a:lnTo>
                  <a:lnTo>
                    <a:pt x="403" y="1011"/>
                  </a:lnTo>
                  <a:lnTo>
                    <a:pt x="401" y="1009"/>
                  </a:lnTo>
                  <a:lnTo>
                    <a:pt x="401" y="1009"/>
                  </a:lnTo>
                  <a:lnTo>
                    <a:pt x="401" y="1007"/>
                  </a:lnTo>
                  <a:lnTo>
                    <a:pt x="399" y="1005"/>
                  </a:lnTo>
                  <a:lnTo>
                    <a:pt x="399" y="1005"/>
                  </a:lnTo>
                  <a:lnTo>
                    <a:pt x="399" y="1003"/>
                  </a:lnTo>
                  <a:lnTo>
                    <a:pt x="399" y="1001"/>
                  </a:lnTo>
                  <a:lnTo>
                    <a:pt x="397" y="1001"/>
                  </a:lnTo>
                  <a:lnTo>
                    <a:pt x="384" y="1001"/>
                  </a:lnTo>
                  <a:lnTo>
                    <a:pt x="359" y="999"/>
                  </a:lnTo>
                  <a:lnTo>
                    <a:pt x="334" y="997"/>
                  </a:lnTo>
                  <a:lnTo>
                    <a:pt x="309" y="996"/>
                  </a:lnTo>
                  <a:lnTo>
                    <a:pt x="284" y="990"/>
                  </a:lnTo>
                  <a:lnTo>
                    <a:pt x="261" y="986"/>
                  </a:lnTo>
                  <a:lnTo>
                    <a:pt x="236" y="978"/>
                  </a:lnTo>
                  <a:lnTo>
                    <a:pt x="213" y="971"/>
                  </a:lnTo>
                  <a:lnTo>
                    <a:pt x="192" y="961"/>
                  </a:lnTo>
                  <a:lnTo>
                    <a:pt x="169" y="951"/>
                  </a:lnTo>
                  <a:lnTo>
                    <a:pt x="148" y="942"/>
                  </a:lnTo>
                  <a:lnTo>
                    <a:pt x="127" y="928"/>
                  </a:lnTo>
                  <a:lnTo>
                    <a:pt x="107" y="917"/>
                  </a:lnTo>
                  <a:lnTo>
                    <a:pt x="88" y="901"/>
                  </a:lnTo>
                  <a:lnTo>
                    <a:pt x="69" y="888"/>
                  </a:lnTo>
                  <a:lnTo>
                    <a:pt x="52" y="873"/>
                  </a:lnTo>
                  <a:lnTo>
                    <a:pt x="34" y="855"/>
                  </a:lnTo>
                  <a:lnTo>
                    <a:pt x="17" y="838"/>
                  </a:lnTo>
                  <a:lnTo>
                    <a:pt x="2" y="821"/>
                  </a:lnTo>
                  <a:lnTo>
                    <a:pt x="0" y="819"/>
                  </a:lnTo>
                  <a:lnTo>
                    <a:pt x="0" y="821"/>
                  </a:lnTo>
                  <a:lnTo>
                    <a:pt x="0" y="823"/>
                  </a:lnTo>
                  <a:lnTo>
                    <a:pt x="0" y="825"/>
                  </a:lnTo>
                  <a:lnTo>
                    <a:pt x="0" y="827"/>
                  </a:lnTo>
                  <a:lnTo>
                    <a:pt x="0" y="829"/>
                  </a:lnTo>
                  <a:lnTo>
                    <a:pt x="0" y="830"/>
                  </a:lnTo>
                  <a:lnTo>
                    <a:pt x="0" y="832"/>
                  </a:lnTo>
                  <a:lnTo>
                    <a:pt x="0" y="834"/>
                  </a:lnTo>
                  <a:close/>
                </a:path>
              </a:pathLst>
            </a:custGeom>
            <a:solidFill>
              <a:srgbClr val="a1d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Freeform 435"/>
            <p:cNvSpPr/>
            <p:nvPr/>
          </p:nvSpPr>
          <p:spPr>
            <a:xfrm>
              <a:off x="5835240" y="2419560"/>
              <a:ext cx="672120" cy="1686960"/>
            </a:xfrm>
            <a:custGeom>
              <a:avLst/>
              <a:gdLst>
                <a:gd name="textAreaLeft" fmla="*/ 0 w 672120"/>
                <a:gd name="textAreaRight" fmla="*/ 672480 w 672120"/>
                <a:gd name="textAreaTop" fmla="*/ 0 h 1686960"/>
                <a:gd name="textAreaBottom" fmla="*/ 1687320 h 1686960"/>
              </a:gdLst>
              <a:ahLst/>
              <a:rect l="textAreaLeft" t="textAreaTop" r="textAreaRight" b="textAreaBottom"/>
              <a:pathLst>
                <a:path w="399" h="1002">
                  <a:moveTo>
                    <a:pt x="382" y="0"/>
                  </a:moveTo>
                  <a:lnTo>
                    <a:pt x="359" y="0"/>
                  </a:lnTo>
                  <a:lnTo>
                    <a:pt x="332" y="2"/>
                  </a:lnTo>
                  <a:lnTo>
                    <a:pt x="307" y="6"/>
                  </a:lnTo>
                  <a:lnTo>
                    <a:pt x="284" y="10"/>
                  </a:lnTo>
                  <a:lnTo>
                    <a:pt x="259" y="16"/>
                  </a:lnTo>
                  <a:lnTo>
                    <a:pt x="236" y="23"/>
                  </a:lnTo>
                  <a:lnTo>
                    <a:pt x="211" y="31"/>
                  </a:lnTo>
                  <a:lnTo>
                    <a:pt x="190" y="41"/>
                  </a:lnTo>
                  <a:lnTo>
                    <a:pt x="167" y="50"/>
                  </a:lnTo>
                  <a:lnTo>
                    <a:pt x="146" y="60"/>
                  </a:lnTo>
                  <a:lnTo>
                    <a:pt x="125" y="73"/>
                  </a:lnTo>
                  <a:lnTo>
                    <a:pt x="103" y="87"/>
                  </a:lnTo>
                  <a:lnTo>
                    <a:pt x="92" y="94"/>
                  </a:lnTo>
                  <a:lnTo>
                    <a:pt x="92" y="96"/>
                  </a:lnTo>
                  <a:lnTo>
                    <a:pt x="92" y="98"/>
                  </a:lnTo>
                  <a:lnTo>
                    <a:pt x="92" y="100"/>
                  </a:lnTo>
                  <a:lnTo>
                    <a:pt x="90" y="102"/>
                  </a:lnTo>
                  <a:lnTo>
                    <a:pt x="90" y="104"/>
                  </a:lnTo>
                  <a:lnTo>
                    <a:pt x="90" y="106"/>
                  </a:lnTo>
                  <a:lnTo>
                    <a:pt x="90" y="108"/>
                  </a:lnTo>
                  <a:lnTo>
                    <a:pt x="88" y="110"/>
                  </a:lnTo>
                  <a:lnTo>
                    <a:pt x="90" y="108"/>
                  </a:lnTo>
                  <a:lnTo>
                    <a:pt x="109" y="94"/>
                  </a:lnTo>
                  <a:lnTo>
                    <a:pt x="130" y="83"/>
                  </a:lnTo>
                  <a:lnTo>
                    <a:pt x="150" y="70"/>
                  </a:lnTo>
                  <a:lnTo>
                    <a:pt x="171" y="60"/>
                  </a:lnTo>
                  <a:lnTo>
                    <a:pt x="194" y="50"/>
                  </a:lnTo>
                  <a:lnTo>
                    <a:pt x="215" y="41"/>
                  </a:lnTo>
                  <a:lnTo>
                    <a:pt x="238" y="33"/>
                  </a:lnTo>
                  <a:lnTo>
                    <a:pt x="261" y="27"/>
                  </a:lnTo>
                  <a:lnTo>
                    <a:pt x="286" y="22"/>
                  </a:lnTo>
                  <a:lnTo>
                    <a:pt x="309" y="16"/>
                  </a:lnTo>
                  <a:lnTo>
                    <a:pt x="334" y="14"/>
                  </a:lnTo>
                  <a:lnTo>
                    <a:pt x="359" y="12"/>
                  </a:lnTo>
                  <a:lnTo>
                    <a:pt x="378" y="12"/>
                  </a:lnTo>
                  <a:lnTo>
                    <a:pt x="378" y="10"/>
                  </a:lnTo>
                  <a:lnTo>
                    <a:pt x="380" y="8"/>
                  </a:lnTo>
                  <a:lnTo>
                    <a:pt x="380" y="8"/>
                  </a:lnTo>
                  <a:lnTo>
                    <a:pt x="380" y="6"/>
                  </a:lnTo>
                  <a:lnTo>
                    <a:pt x="380" y="4"/>
                  </a:lnTo>
                  <a:lnTo>
                    <a:pt x="382" y="2"/>
                  </a:lnTo>
                  <a:lnTo>
                    <a:pt x="382" y="2"/>
                  </a:lnTo>
                  <a:lnTo>
                    <a:pt x="382" y="0"/>
                  </a:lnTo>
                  <a:close/>
                  <a:moveTo>
                    <a:pt x="0" y="822"/>
                  </a:moveTo>
                  <a:lnTo>
                    <a:pt x="13" y="837"/>
                  </a:lnTo>
                  <a:lnTo>
                    <a:pt x="31" y="854"/>
                  </a:lnTo>
                  <a:lnTo>
                    <a:pt x="48" y="872"/>
                  </a:lnTo>
                  <a:lnTo>
                    <a:pt x="65" y="887"/>
                  </a:lnTo>
                  <a:lnTo>
                    <a:pt x="84" y="902"/>
                  </a:lnTo>
                  <a:lnTo>
                    <a:pt x="103" y="916"/>
                  </a:lnTo>
                  <a:lnTo>
                    <a:pt x="125" y="929"/>
                  </a:lnTo>
                  <a:lnTo>
                    <a:pt x="146" y="941"/>
                  </a:lnTo>
                  <a:lnTo>
                    <a:pt x="167" y="952"/>
                  </a:lnTo>
                  <a:lnTo>
                    <a:pt x="190" y="962"/>
                  </a:lnTo>
                  <a:lnTo>
                    <a:pt x="211" y="971"/>
                  </a:lnTo>
                  <a:lnTo>
                    <a:pt x="236" y="979"/>
                  </a:lnTo>
                  <a:lnTo>
                    <a:pt x="259" y="985"/>
                  </a:lnTo>
                  <a:lnTo>
                    <a:pt x="284" y="991"/>
                  </a:lnTo>
                  <a:lnTo>
                    <a:pt x="307" y="996"/>
                  </a:lnTo>
                  <a:lnTo>
                    <a:pt x="332" y="998"/>
                  </a:lnTo>
                  <a:lnTo>
                    <a:pt x="359" y="1000"/>
                  </a:lnTo>
                  <a:lnTo>
                    <a:pt x="384" y="1002"/>
                  </a:lnTo>
                  <a:lnTo>
                    <a:pt x="399" y="1000"/>
                  </a:lnTo>
                  <a:lnTo>
                    <a:pt x="399" y="1000"/>
                  </a:lnTo>
                  <a:lnTo>
                    <a:pt x="399" y="998"/>
                  </a:lnTo>
                  <a:lnTo>
                    <a:pt x="399" y="996"/>
                  </a:lnTo>
                  <a:lnTo>
                    <a:pt x="397" y="996"/>
                  </a:lnTo>
                  <a:lnTo>
                    <a:pt x="397" y="994"/>
                  </a:lnTo>
                  <a:lnTo>
                    <a:pt x="397" y="992"/>
                  </a:lnTo>
                  <a:lnTo>
                    <a:pt x="395" y="991"/>
                  </a:lnTo>
                  <a:lnTo>
                    <a:pt x="395" y="991"/>
                  </a:lnTo>
                  <a:lnTo>
                    <a:pt x="384" y="991"/>
                  </a:lnTo>
                  <a:lnTo>
                    <a:pt x="359" y="991"/>
                  </a:lnTo>
                  <a:lnTo>
                    <a:pt x="334" y="989"/>
                  </a:lnTo>
                  <a:lnTo>
                    <a:pt x="309" y="985"/>
                  </a:lnTo>
                  <a:lnTo>
                    <a:pt x="286" y="981"/>
                  </a:lnTo>
                  <a:lnTo>
                    <a:pt x="261" y="975"/>
                  </a:lnTo>
                  <a:lnTo>
                    <a:pt x="238" y="967"/>
                  </a:lnTo>
                  <a:lnTo>
                    <a:pt x="215" y="960"/>
                  </a:lnTo>
                  <a:lnTo>
                    <a:pt x="194" y="952"/>
                  </a:lnTo>
                  <a:lnTo>
                    <a:pt x="171" y="943"/>
                  </a:lnTo>
                  <a:lnTo>
                    <a:pt x="150" y="931"/>
                  </a:lnTo>
                  <a:lnTo>
                    <a:pt x="130" y="920"/>
                  </a:lnTo>
                  <a:lnTo>
                    <a:pt x="109" y="906"/>
                  </a:lnTo>
                  <a:lnTo>
                    <a:pt x="90" y="893"/>
                  </a:lnTo>
                  <a:lnTo>
                    <a:pt x="73" y="879"/>
                  </a:lnTo>
                  <a:lnTo>
                    <a:pt x="55" y="864"/>
                  </a:lnTo>
                  <a:lnTo>
                    <a:pt x="38" y="847"/>
                  </a:lnTo>
                  <a:lnTo>
                    <a:pt x="21" y="829"/>
                  </a:lnTo>
                  <a:lnTo>
                    <a:pt x="6" y="812"/>
                  </a:lnTo>
                  <a:lnTo>
                    <a:pt x="0" y="804"/>
                  </a:lnTo>
                  <a:lnTo>
                    <a:pt x="0" y="806"/>
                  </a:lnTo>
                  <a:lnTo>
                    <a:pt x="0" y="808"/>
                  </a:lnTo>
                  <a:lnTo>
                    <a:pt x="0" y="810"/>
                  </a:lnTo>
                  <a:lnTo>
                    <a:pt x="0" y="814"/>
                  </a:lnTo>
                  <a:lnTo>
                    <a:pt x="0" y="816"/>
                  </a:lnTo>
                  <a:lnTo>
                    <a:pt x="0" y="818"/>
                  </a:lnTo>
                  <a:lnTo>
                    <a:pt x="0" y="820"/>
                  </a:lnTo>
                  <a:lnTo>
                    <a:pt x="0" y="822"/>
                  </a:lnTo>
                  <a:close/>
                </a:path>
              </a:pathLst>
            </a:custGeom>
            <a:solidFill>
              <a:srgbClr val="a2d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Freeform 436"/>
            <p:cNvSpPr/>
            <p:nvPr/>
          </p:nvSpPr>
          <p:spPr>
            <a:xfrm>
              <a:off x="5835240" y="2429640"/>
              <a:ext cx="668520" cy="1667160"/>
            </a:xfrm>
            <a:custGeom>
              <a:avLst/>
              <a:gdLst>
                <a:gd name="textAreaLeft" fmla="*/ 0 w 668520"/>
                <a:gd name="textAreaRight" fmla="*/ 668880 w 668520"/>
                <a:gd name="textAreaTop" fmla="*/ 0 h 1667160"/>
                <a:gd name="textAreaBottom" fmla="*/ 1667520 h 1667160"/>
              </a:gdLst>
              <a:ahLst/>
              <a:rect l="textAreaLeft" t="textAreaTop" r="textAreaRight" b="textAreaBottom"/>
              <a:pathLst>
                <a:path w="397" h="990">
                  <a:moveTo>
                    <a:pt x="380" y="0"/>
                  </a:moveTo>
                  <a:lnTo>
                    <a:pt x="359" y="0"/>
                  </a:lnTo>
                  <a:lnTo>
                    <a:pt x="334" y="2"/>
                  </a:lnTo>
                  <a:lnTo>
                    <a:pt x="309" y="6"/>
                  </a:lnTo>
                  <a:lnTo>
                    <a:pt x="284" y="10"/>
                  </a:lnTo>
                  <a:lnTo>
                    <a:pt x="261" y="16"/>
                  </a:lnTo>
                  <a:lnTo>
                    <a:pt x="236" y="21"/>
                  </a:lnTo>
                  <a:lnTo>
                    <a:pt x="213" y="29"/>
                  </a:lnTo>
                  <a:lnTo>
                    <a:pt x="192" y="39"/>
                  </a:lnTo>
                  <a:lnTo>
                    <a:pt x="169" y="48"/>
                  </a:lnTo>
                  <a:lnTo>
                    <a:pt x="148" y="60"/>
                  </a:lnTo>
                  <a:lnTo>
                    <a:pt x="127" y="71"/>
                  </a:lnTo>
                  <a:lnTo>
                    <a:pt x="107" y="85"/>
                  </a:lnTo>
                  <a:lnTo>
                    <a:pt x="90" y="96"/>
                  </a:lnTo>
                  <a:lnTo>
                    <a:pt x="90" y="98"/>
                  </a:lnTo>
                  <a:lnTo>
                    <a:pt x="90" y="100"/>
                  </a:lnTo>
                  <a:lnTo>
                    <a:pt x="90" y="102"/>
                  </a:lnTo>
                  <a:lnTo>
                    <a:pt x="88" y="104"/>
                  </a:lnTo>
                  <a:lnTo>
                    <a:pt x="88" y="106"/>
                  </a:lnTo>
                  <a:lnTo>
                    <a:pt x="88" y="108"/>
                  </a:lnTo>
                  <a:lnTo>
                    <a:pt x="86" y="110"/>
                  </a:lnTo>
                  <a:lnTo>
                    <a:pt x="86" y="113"/>
                  </a:lnTo>
                  <a:lnTo>
                    <a:pt x="94" y="106"/>
                  </a:lnTo>
                  <a:lnTo>
                    <a:pt x="113" y="92"/>
                  </a:lnTo>
                  <a:lnTo>
                    <a:pt x="132" y="81"/>
                  </a:lnTo>
                  <a:lnTo>
                    <a:pt x="153" y="69"/>
                  </a:lnTo>
                  <a:lnTo>
                    <a:pt x="174" y="58"/>
                  </a:lnTo>
                  <a:lnTo>
                    <a:pt x="196" y="48"/>
                  </a:lnTo>
                  <a:lnTo>
                    <a:pt x="217" y="41"/>
                  </a:lnTo>
                  <a:lnTo>
                    <a:pt x="240" y="33"/>
                  </a:lnTo>
                  <a:lnTo>
                    <a:pt x="263" y="25"/>
                  </a:lnTo>
                  <a:lnTo>
                    <a:pt x="286" y="19"/>
                  </a:lnTo>
                  <a:lnTo>
                    <a:pt x="311" y="16"/>
                  </a:lnTo>
                  <a:lnTo>
                    <a:pt x="334" y="14"/>
                  </a:lnTo>
                  <a:lnTo>
                    <a:pt x="359" y="12"/>
                  </a:lnTo>
                  <a:lnTo>
                    <a:pt x="376" y="10"/>
                  </a:lnTo>
                  <a:lnTo>
                    <a:pt x="376" y="10"/>
                  </a:lnTo>
                  <a:lnTo>
                    <a:pt x="378" y="8"/>
                  </a:lnTo>
                  <a:lnTo>
                    <a:pt x="378" y="6"/>
                  </a:lnTo>
                  <a:lnTo>
                    <a:pt x="378" y="6"/>
                  </a:lnTo>
                  <a:lnTo>
                    <a:pt x="378" y="4"/>
                  </a:lnTo>
                  <a:lnTo>
                    <a:pt x="380" y="2"/>
                  </a:lnTo>
                  <a:lnTo>
                    <a:pt x="380" y="2"/>
                  </a:lnTo>
                  <a:lnTo>
                    <a:pt x="380" y="0"/>
                  </a:lnTo>
                  <a:close/>
                  <a:moveTo>
                    <a:pt x="0" y="808"/>
                  </a:moveTo>
                  <a:lnTo>
                    <a:pt x="2" y="810"/>
                  </a:lnTo>
                  <a:lnTo>
                    <a:pt x="17" y="827"/>
                  </a:lnTo>
                  <a:lnTo>
                    <a:pt x="34" y="844"/>
                  </a:lnTo>
                  <a:lnTo>
                    <a:pt x="52" y="862"/>
                  </a:lnTo>
                  <a:lnTo>
                    <a:pt x="69" y="877"/>
                  </a:lnTo>
                  <a:lnTo>
                    <a:pt x="88" y="890"/>
                  </a:lnTo>
                  <a:lnTo>
                    <a:pt x="107" y="906"/>
                  </a:lnTo>
                  <a:lnTo>
                    <a:pt x="127" y="917"/>
                  </a:lnTo>
                  <a:lnTo>
                    <a:pt x="148" y="931"/>
                  </a:lnTo>
                  <a:lnTo>
                    <a:pt x="169" y="940"/>
                  </a:lnTo>
                  <a:lnTo>
                    <a:pt x="192" y="950"/>
                  </a:lnTo>
                  <a:lnTo>
                    <a:pt x="213" y="960"/>
                  </a:lnTo>
                  <a:lnTo>
                    <a:pt x="236" y="967"/>
                  </a:lnTo>
                  <a:lnTo>
                    <a:pt x="261" y="975"/>
                  </a:lnTo>
                  <a:lnTo>
                    <a:pt x="284" y="979"/>
                  </a:lnTo>
                  <a:lnTo>
                    <a:pt x="309" y="985"/>
                  </a:lnTo>
                  <a:lnTo>
                    <a:pt x="334" y="986"/>
                  </a:lnTo>
                  <a:lnTo>
                    <a:pt x="359" y="988"/>
                  </a:lnTo>
                  <a:lnTo>
                    <a:pt x="384" y="990"/>
                  </a:lnTo>
                  <a:lnTo>
                    <a:pt x="397" y="990"/>
                  </a:lnTo>
                  <a:lnTo>
                    <a:pt x="397" y="988"/>
                  </a:lnTo>
                  <a:lnTo>
                    <a:pt x="397" y="986"/>
                  </a:lnTo>
                  <a:lnTo>
                    <a:pt x="395" y="985"/>
                  </a:lnTo>
                  <a:lnTo>
                    <a:pt x="395" y="985"/>
                  </a:lnTo>
                  <a:lnTo>
                    <a:pt x="395" y="983"/>
                  </a:lnTo>
                  <a:lnTo>
                    <a:pt x="395" y="981"/>
                  </a:lnTo>
                  <a:lnTo>
                    <a:pt x="393" y="981"/>
                  </a:lnTo>
                  <a:lnTo>
                    <a:pt x="393" y="979"/>
                  </a:lnTo>
                  <a:lnTo>
                    <a:pt x="384" y="979"/>
                  </a:lnTo>
                  <a:lnTo>
                    <a:pt x="359" y="979"/>
                  </a:lnTo>
                  <a:lnTo>
                    <a:pt x="334" y="977"/>
                  </a:lnTo>
                  <a:lnTo>
                    <a:pt x="311" y="973"/>
                  </a:lnTo>
                  <a:lnTo>
                    <a:pt x="286" y="969"/>
                  </a:lnTo>
                  <a:lnTo>
                    <a:pt x="263" y="963"/>
                  </a:lnTo>
                  <a:lnTo>
                    <a:pt x="240" y="958"/>
                  </a:lnTo>
                  <a:lnTo>
                    <a:pt x="217" y="950"/>
                  </a:lnTo>
                  <a:lnTo>
                    <a:pt x="196" y="940"/>
                  </a:lnTo>
                  <a:lnTo>
                    <a:pt x="174" y="931"/>
                  </a:lnTo>
                  <a:lnTo>
                    <a:pt x="153" y="921"/>
                  </a:lnTo>
                  <a:lnTo>
                    <a:pt x="132" y="910"/>
                  </a:lnTo>
                  <a:lnTo>
                    <a:pt x="113" y="896"/>
                  </a:lnTo>
                  <a:lnTo>
                    <a:pt x="94" y="883"/>
                  </a:lnTo>
                  <a:lnTo>
                    <a:pt x="77" y="869"/>
                  </a:lnTo>
                  <a:lnTo>
                    <a:pt x="57" y="854"/>
                  </a:lnTo>
                  <a:lnTo>
                    <a:pt x="42" y="837"/>
                  </a:lnTo>
                  <a:lnTo>
                    <a:pt x="25" y="819"/>
                  </a:lnTo>
                  <a:lnTo>
                    <a:pt x="9" y="802"/>
                  </a:lnTo>
                  <a:lnTo>
                    <a:pt x="0" y="791"/>
                  </a:lnTo>
                  <a:lnTo>
                    <a:pt x="0" y="793"/>
                  </a:lnTo>
                  <a:lnTo>
                    <a:pt x="0" y="795"/>
                  </a:lnTo>
                  <a:lnTo>
                    <a:pt x="0" y="796"/>
                  </a:lnTo>
                  <a:lnTo>
                    <a:pt x="0" y="798"/>
                  </a:lnTo>
                  <a:lnTo>
                    <a:pt x="0" y="800"/>
                  </a:lnTo>
                  <a:lnTo>
                    <a:pt x="0" y="802"/>
                  </a:lnTo>
                  <a:lnTo>
                    <a:pt x="0" y="806"/>
                  </a:lnTo>
                  <a:lnTo>
                    <a:pt x="0" y="808"/>
                  </a:lnTo>
                  <a:close/>
                </a:path>
              </a:pathLst>
            </a:custGeom>
            <a:solidFill>
              <a:srgbClr val="a3d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Freeform 437"/>
            <p:cNvSpPr/>
            <p:nvPr/>
          </p:nvSpPr>
          <p:spPr>
            <a:xfrm>
              <a:off x="5835240" y="2439720"/>
              <a:ext cx="664920" cy="1648440"/>
            </a:xfrm>
            <a:custGeom>
              <a:avLst/>
              <a:gdLst>
                <a:gd name="textAreaLeft" fmla="*/ 0 w 664920"/>
                <a:gd name="textAreaRight" fmla="*/ 665280 w 664920"/>
                <a:gd name="textAreaTop" fmla="*/ 0 h 1648440"/>
                <a:gd name="textAreaBottom" fmla="*/ 1648800 h 1648440"/>
              </a:gdLst>
              <a:ahLst/>
              <a:rect l="textAreaLeft" t="textAreaTop" r="textAreaRight" b="textAreaBottom"/>
              <a:pathLst>
                <a:path w="395" h="979">
                  <a:moveTo>
                    <a:pt x="378" y="0"/>
                  </a:moveTo>
                  <a:lnTo>
                    <a:pt x="359" y="0"/>
                  </a:lnTo>
                  <a:lnTo>
                    <a:pt x="334" y="2"/>
                  </a:lnTo>
                  <a:lnTo>
                    <a:pt x="309" y="4"/>
                  </a:lnTo>
                  <a:lnTo>
                    <a:pt x="286" y="10"/>
                  </a:lnTo>
                  <a:lnTo>
                    <a:pt x="261" y="15"/>
                  </a:lnTo>
                  <a:lnTo>
                    <a:pt x="238" y="21"/>
                  </a:lnTo>
                  <a:lnTo>
                    <a:pt x="215" y="29"/>
                  </a:lnTo>
                  <a:lnTo>
                    <a:pt x="194" y="38"/>
                  </a:lnTo>
                  <a:lnTo>
                    <a:pt x="171" y="48"/>
                  </a:lnTo>
                  <a:lnTo>
                    <a:pt x="150" y="58"/>
                  </a:lnTo>
                  <a:lnTo>
                    <a:pt x="130" y="71"/>
                  </a:lnTo>
                  <a:lnTo>
                    <a:pt x="109" y="82"/>
                  </a:lnTo>
                  <a:lnTo>
                    <a:pt x="90" y="96"/>
                  </a:lnTo>
                  <a:lnTo>
                    <a:pt x="88" y="98"/>
                  </a:lnTo>
                  <a:lnTo>
                    <a:pt x="88" y="100"/>
                  </a:lnTo>
                  <a:lnTo>
                    <a:pt x="88" y="102"/>
                  </a:lnTo>
                  <a:lnTo>
                    <a:pt x="86" y="104"/>
                  </a:lnTo>
                  <a:lnTo>
                    <a:pt x="86" y="107"/>
                  </a:lnTo>
                  <a:lnTo>
                    <a:pt x="86" y="109"/>
                  </a:lnTo>
                  <a:lnTo>
                    <a:pt x="86" y="111"/>
                  </a:lnTo>
                  <a:lnTo>
                    <a:pt x="84" y="113"/>
                  </a:lnTo>
                  <a:lnTo>
                    <a:pt x="84" y="115"/>
                  </a:lnTo>
                  <a:lnTo>
                    <a:pt x="98" y="106"/>
                  </a:lnTo>
                  <a:lnTo>
                    <a:pt x="117" y="92"/>
                  </a:lnTo>
                  <a:lnTo>
                    <a:pt x="136" y="79"/>
                  </a:lnTo>
                  <a:lnTo>
                    <a:pt x="155" y="67"/>
                  </a:lnTo>
                  <a:lnTo>
                    <a:pt x="176" y="58"/>
                  </a:lnTo>
                  <a:lnTo>
                    <a:pt x="198" y="48"/>
                  </a:lnTo>
                  <a:lnTo>
                    <a:pt x="219" y="38"/>
                  </a:lnTo>
                  <a:lnTo>
                    <a:pt x="242" y="31"/>
                  </a:lnTo>
                  <a:lnTo>
                    <a:pt x="265" y="25"/>
                  </a:lnTo>
                  <a:lnTo>
                    <a:pt x="288" y="19"/>
                  </a:lnTo>
                  <a:lnTo>
                    <a:pt x="311" y="15"/>
                  </a:lnTo>
                  <a:lnTo>
                    <a:pt x="336" y="11"/>
                  </a:lnTo>
                  <a:lnTo>
                    <a:pt x="359" y="10"/>
                  </a:lnTo>
                  <a:lnTo>
                    <a:pt x="374" y="10"/>
                  </a:lnTo>
                  <a:lnTo>
                    <a:pt x="374" y="10"/>
                  </a:lnTo>
                  <a:lnTo>
                    <a:pt x="374" y="8"/>
                  </a:lnTo>
                  <a:lnTo>
                    <a:pt x="376" y="6"/>
                  </a:lnTo>
                  <a:lnTo>
                    <a:pt x="376" y="4"/>
                  </a:lnTo>
                  <a:lnTo>
                    <a:pt x="376" y="4"/>
                  </a:lnTo>
                  <a:lnTo>
                    <a:pt x="376" y="2"/>
                  </a:lnTo>
                  <a:lnTo>
                    <a:pt x="378" y="0"/>
                  </a:lnTo>
                  <a:lnTo>
                    <a:pt x="378" y="0"/>
                  </a:lnTo>
                  <a:close/>
                  <a:moveTo>
                    <a:pt x="0" y="792"/>
                  </a:moveTo>
                  <a:lnTo>
                    <a:pt x="6" y="800"/>
                  </a:lnTo>
                  <a:lnTo>
                    <a:pt x="21" y="817"/>
                  </a:lnTo>
                  <a:lnTo>
                    <a:pt x="38" y="835"/>
                  </a:lnTo>
                  <a:lnTo>
                    <a:pt x="55" y="852"/>
                  </a:lnTo>
                  <a:lnTo>
                    <a:pt x="73" y="867"/>
                  </a:lnTo>
                  <a:lnTo>
                    <a:pt x="90" y="881"/>
                  </a:lnTo>
                  <a:lnTo>
                    <a:pt x="109" y="894"/>
                  </a:lnTo>
                  <a:lnTo>
                    <a:pt x="130" y="908"/>
                  </a:lnTo>
                  <a:lnTo>
                    <a:pt x="150" y="919"/>
                  </a:lnTo>
                  <a:lnTo>
                    <a:pt x="171" y="931"/>
                  </a:lnTo>
                  <a:lnTo>
                    <a:pt x="194" y="940"/>
                  </a:lnTo>
                  <a:lnTo>
                    <a:pt x="215" y="948"/>
                  </a:lnTo>
                  <a:lnTo>
                    <a:pt x="238" y="955"/>
                  </a:lnTo>
                  <a:lnTo>
                    <a:pt x="261" y="963"/>
                  </a:lnTo>
                  <a:lnTo>
                    <a:pt x="286" y="969"/>
                  </a:lnTo>
                  <a:lnTo>
                    <a:pt x="309" y="973"/>
                  </a:lnTo>
                  <a:lnTo>
                    <a:pt x="334" y="977"/>
                  </a:lnTo>
                  <a:lnTo>
                    <a:pt x="359" y="979"/>
                  </a:lnTo>
                  <a:lnTo>
                    <a:pt x="384" y="979"/>
                  </a:lnTo>
                  <a:lnTo>
                    <a:pt x="395" y="979"/>
                  </a:lnTo>
                  <a:lnTo>
                    <a:pt x="395" y="977"/>
                  </a:lnTo>
                  <a:lnTo>
                    <a:pt x="395" y="975"/>
                  </a:lnTo>
                  <a:lnTo>
                    <a:pt x="393" y="975"/>
                  </a:lnTo>
                  <a:lnTo>
                    <a:pt x="393" y="973"/>
                  </a:lnTo>
                  <a:lnTo>
                    <a:pt x="393" y="971"/>
                  </a:lnTo>
                  <a:lnTo>
                    <a:pt x="391" y="971"/>
                  </a:lnTo>
                  <a:lnTo>
                    <a:pt x="391" y="969"/>
                  </a:lnTo>
                  <a:lnTo>
                    <a:pt x="391" y="967"/>
                  </a:lnTo>
                  <a:lnTo>
                    <a:pt x="384" y="967"/>
                  </a:lnTo>
                  <a:lnTo>
                    <a:pt x="359" y="967"/>
                  </a:lnTo>
                  <a:lnTo>
                    <a:pt x="336" y="965"/>
                  </a:lnTo>
                  <a:lnTo>
                    <a:pt x="311" y="963"/>
                  </a:lnTo>
                  <a:lnTo>
                    <a:pt x="288" y="957"/>
                  </a:lnTo>
                  <a:lnTo>
                    <a:pt x="265" y="954"/>
                  </a:lnTo>
                  <a:lnTo>
                    <a:pt x="242" y="946"/>
                  </a:lnTo>
                  <a:lnTo>
                    <a:pt x="219" y="938"/>
                  </a:lnTo>
                  <a:lnTo>
                    <a:pt x="198" y="931"/>
                  </a:lnTo>
                  <a:lnTo>
                    <a:pt x="176" y="921"/>
                  </a:lnTo>
                  <a:lnTo>
                    <a:pt x="155" y="909"/>
                  </a:lnTo>
                  <a:lnTo>
                    <a:pt x="136" y="898"/>
                  </a:lnTo>
                  <a:lnTo>
                    <a:pt x="117" y="886"/>
                  </a:lnTo>
                  <a:lnTo>
                    <a:pt x="98" y="873"/>
                  </a:lnTo>
                  <a:lnTo>
                    <a:pt x="79" y="858"/>
                  </a:lnTo>
                  <a:lnTo>
                    <a:pt x="61" y="844"/>
                  </a:lnTo>
                  <a:lnTo>
                    <a:pt x="46" y="827"/>
                  </a:lnTo>
                  <a:lnTo>
                    <a:pt x="29" y="812"/>
                  </a:lnTo>
                  <a:lnTo>
                    <a:pt x="13" y="794"/>
                  </a:lnTo>
                  <a:lnTo>
                    <a:pt x="0" y="775"/>
                  </a:lnTo>
                  <a:lnTo>
                    <a:pt x="0" y="777"/>
                  </a:lnTo>
                  <a:lnTo>
                    <a:pt x="0" y="779"/>
                  </a:lnTo>
                  <a:lnTo>
                    <a:pt x="0" y="783"/>
                  </a:lnTo>
                  <a:lnTo>
                    <a:pt x="0" y="785"/>
                  </a:lnTo>
                  <a:lnTo>
                    <a:pt x="0" y="787"/>
                  </a:lnTo>
                  <a:lnTo>
                    <a:pt x="0" y="789"/>
                  </a:lnTo>
                  <a:lnTo>
                    <a:pt x="0" y="790"/>
                  </a:lnTo>
                  <a:lnTo>
                    <a:pt x="0" y="792"/>
                  </a:lnTo>
                  <a:close/>
                </a:path>
              </a:pathLst>
            </a:custGeom>
            <a:solidFill>
              <a:srgbClr val="a4d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Freeform 438"/>
            <p:cNvSpPr/>
            <p:nvPr/>
          </p:nvSpPr>
          <p:spPr>
            <a:xfrm>
              <a:off x="5835240" y="2446200"/>
              <a:ext cx="661680" cy="1631520"/>
            </a:xfrm>
            <a:custGeom>
              <a:avLst/>
              <a:gdLst>
                <a:gd name="textAreaLeft" fmla="*/ 0 w 661680"/>
                <a:gd name="textAreaRight" fmla="*/ 661680 w 661680"/>
                <a:gd name="textAreaTop" fmla="*/ 0 h 1631520"/>
                <a:gd name="textAreaBottom" fmla="*/ 1631880 h 1631520"/>
              </a:gdLst>
              <a:ahLst/>
              <a:rect l="textAreaLeft" t="textAreaTop" r="textAreaRight" b="textAreaBottom"/>
              <a:pathLst>
                <a:path w="393" h="969">
                  <a:moveTo>
                    <a:pt x="376" y="0"/>
                  </a:moveTo>
                  <a:lnTo>
                    <a:pt x="359" y="2"/>
                  </a:lnTo>
                  <a:lnTo>
                    <a:pt x="334" y="4"/>
                  </a:lnTo>
                  <a:lnTo>
                    <a:pt x="311" y="6"/>
                  </a:lnTo>
                  <a:lnTo>
                    <a:pt x="286" y="9"/>
                  </a:lnTo>
                  <a:lnTo>
                    <a:pt x="263" y="15"/>
                  </a:lnTo>
                  <a:lnTo>
                    <a:pt x="240" y="23"/>
                  </a:lnTo>
                  <a:lnTo>
                    <a:pt x="217" y="31"/>
                  </a:lnTo>
                  <a:lnTo>
                    <a:pt x="196" y="38"/>
                  </a:lnTo>
                  <a:lnTo>
                    <a:pt x="174" y="48"/>
                  </a:lnTo>
                  <a:lnTo>
                    <a:pt x="153" y="59"/>
                  </a:lnTo>
                  <a:lnTo>
                    <a:pt x="132" y="71"/>
                  </a:lnTo>
                  <a:lnTo>
                    <a:pt x="113" y="82"/>
                  </a:lnTo>
                  <a:lnTo>
                    <a:pt x="94" y="96"/>
                  </a:lnTo>
                  <a:lnTo>
                    <a:pt x="86" y="103"/>
                  </a:lnTo>
                  <a:lnTo>
                    <a:pt x="86" y="105"/>
                  </a:lnTo>
                  <a:lnTo>
                    <a:pt x="86" y="107"/>
                  </a:lnTo>
                  <a:lnTo>
                    <a:pt x="84" y="109"/>
                  </a:lnTo>
                  <a:lnTo>
                    <a:pt x="84" y="111"/>
                  </a:lnTo>
                  <a:lnTo>
                    <a:pt x="84" y="113"/>
                  </a:lnTo>
                  <a:lnTo>
                    <a:pt x="84" y="115"/>
                  </a:lnTo>
                  <a:lnTo>
                    <a:pt x="82" y="117"/>
                  </a:lnTo>
                  <a:lnTo>
                    <a:pt x="82" y="119"/>
                  </a:lnTo>
                  <a:lnTo>
                    <a:pt x="100" y="105"/>
                  </a:lnTo>
                  <a:lnTo>
                    <a:pt x="119" y="92"/>
                  </a:lnTo>
                  <a:lnTo>
                    <a:pt x="138" y="80"/>
                  </a:lnTo>
                  <a:lnTo>
                    <a:pt x="157" y="69"/>
                  </a:lnTo>
                  <a:lnTo>
                    <a:pt x="178" y="57"/>
                  </a:lnTo>
                  <a:lnTo>
                    <a:pt x="199" y="48"/>
                  </a:lnTo>
                  <a:lnTo>
                    <a:pt x="221" y="40"/>
                  </a:lnTo>
                  <a:lnTo>
                    <a:pt x="244" y="32"/>
                  </a:lnTo>
                  <a:lnTo>
                    <a:pt x="265" y="27"/>
                  </a:lnTo>
                  <a:lnTo>
                    <a:pt x="288" y="21"/>
                  </a:lnTo>
                  <a:lnTo>
                    <a:pt x="311" y="17"/>
                  </a:lnTo>
                  <a:lnTo>
                    <a:pt x="336" y="13"/>
                  </a:lnTo>
                  <a:lnTo>
                    <a:pt x="359" y="11"/>
                  </a:lnTo>
                  <a:lnTo>
                    <a:pt x="372" y="11"/>
                  </a:lnTo>
                  <a:lnTo>
                    <a:pt x="372" y="9"/>
                  </a:lnTo>
                  <a:lnTo>
                    <a:pt x="372" y="9"/>
                  </a:lnTo>
                  <a:lnTo>
                    <a:pt x="374" y="7"/>
                  </a:lnTo>
                  <a:lnTo>
                    <a:pt x="374" y="6"/>
                  </a:lnTo>
                  <a:lnTo>
                    <a:pt x="374" y="6"/>
                  </a:lnTo>
                  <a:lnTo>
                    <a:pt x="374" y="4"/>
                  </a:lnTo>
                  <a:lnTo>
                    <a:pt x="376" y="2"/>
                  </a:lnTo>
                  <a:lnTo>
                    <a:pt x="376" y="0"/>
                  </a:lnTo>
                  <a:close/>
                  <a:moveTo>
                    <a:pt x="0" y="781"/>
                  </a:moveTo>
                  <a:lnTo>
                    <a:pt x="9" y="792"/>
                  </a:lnTo>
                  <a:lnTo>
                    <a:pt x="25" y="809"/>
                  </a:lnTo>
                  <a:lnTo>
                    <a:pt x="42" y="827"/>
                  </a:lnTo>
                  <a:lnTo>
                    <a:pt x="57" y="844"/>
                  </a:lnTo>
                  <a:lnTo>
                    <a:pt x="77" y="859"/>
                  </a:lnTo>
                  <a:lnTo>
                    <a:pt x="94" y="873"/>
                  </a:lnTo>
                  <a:lnTo>
                    <a:pt x="113" y="886"/>
                  </a:lnTo>
                  <a:lnTo>
                    <a:pt x="132" y="900"/>
                  </a:lnTo>
                  <a:lnTo>
                    <a:pt x="153" y="911"/>
                  </a:lnTo>
                  <a:lnTo>
                    <a:pt x="174" y="921"/>
                  </a:lnTo>
                  <a:lnTo>
                    <a:pt x="196" y="930"/>
                  </a:lnTo>
                  <a:lnTo>
                    <a:pt x="217" y="940"/>
                  </a:lnTo>
                  <a:lnTo>
                    <a:pt x="240" y="948"/>
                  </a:lnTo>
                  <a:lnTo>
                    <a:pt x="263" y="953"/>
                  </a:lnTo>
                  <a:lnTo>
                    <a:pt x="286" y="959"/>
                  </a:lnTo>
                  <a:lnTo>
                    <a:pt x="311" y="963"/>
                  </a:lnTo>
                  <a:lnTo>
                    <a:pt x="334" y="967"/>
                  </a:lnTo>
                  <a:lnTo>
                    <a:pt x="359" y="969"/>
                  </a:lnTo>
                  <a:lnTo>
                    <a:pt x="384" y="969"/>
                  </a:lnTo>
                  <a:lnTo>
                    <a:pt x="393" y="969"/>
                  </a:lnTo>
                  <a:lnTo>
                    <a:pt x="393" y="967"/>
                  </a:lnTo>
                  <a:lnTo>
                    <a:pt x="391" y="967"/>
                  </a:lnTo>
                  <a:lnTo>
                    <a:pt x="391" y="965"/>
                  </a:lnTo>
                  <a:lnTo>
                    <a:pt x="391" y="963"/>
                  </a:lnTo>
                  <a:lnTo>
                    <a:pt x="391" y="963"/>
                  </a:lnTo>
                  <a:lnTo>
                    <a:pt x="389" y="961"/>
                  </a:lnTo>
                  <a:lnTo>
                    <a:pt x="389" y="959"/>
                  </a:lnTo>
                  <a:lnTo>
                    <a:pt x="389" y="959"/>
                  </a:lnTo>
                  <a:lnTo>
                    <a:pt x="384" y="959"/>
                  </a:lnTo>
                  <a:lnTo>
                    <a:pt x="359" y="957"/>
                  </a:lnTo>
                  <a:lnTo>
                    <a:pt x="336" y="955"/>
                  </a:lnTo>
                  <a:lnTo>
                    <a:pt x="311" y="953"/>
                  </a:lnTo>
                  <a:lnTo>
                    <a:pt x="288" y="950"/>
                  </a:lnTo>
                  <a:lnTo>
                    <a:pt x="265" y="944"/>
                  </a:lnTo>
                  <a:lnTo>
                    <a:pt x="244" y="938"/>
                  </a:lnTo>
                  <a:lnTo>
                    <a:pt x="221" y="930"/>
                  </a:lnTo>
                  <a:lnTo>
                    <a:pt x="199" y="921"/>
                  </a:lnTo>
                  <a:lnTo>
                    <a:pt x="178" y="911"/>
                  </a:lnTo>
                  <a:lnTo>
                    <a:pt x="157" y="902"/>
                  </a:lnTo>
                  <a:lnTo>
                    <a:pt x="138" y="890"/>
                  </a:lnTo>
                  <a:lnTo>
                    <a:pt x="119" y="877"/>
                  </a:lnTo>
                  <a:lnTo>
                    <a:pt x="100" y="865"/>
                  </a:lnTo>
                  <a:lnTo>
                    <a:pt x="82" y="850"/>
                  </a:lnTo>
                  <a:lnTo>
                    <a:pt x="65" y="836"/>
                  </a:lnTo>
                  <a:lnTo>
                    <a:pt x="50" y="819"/>
                  </a:lnTo>
                  <a:lnTo>
                    <a:pt x="32" y="804"/>
                  </a:lnTo>
                  <a:lnTo>
                    <a:pt x="19" y="786"/>
                  </a:lnTo>
                  <a:lnTo>
                    <a:pt x="4" y="767"/>
                  </a:lnTo>
                  <a:lnTo>
                    <a:pt x="0" y="763"/>
                  </a:lnTo>
                  <a:lnTo>
                    <a:pt x="0" y="765"/>
                  </a:lnTo>
                  <a:lnTo>
                    <a:pt x="0" y="767"/>
                  </a:lnTo>
                  <a:lnTo>
                    <a:pt x="0" y="769"/>
                  </a:lnTo>
                  <a:lnTo>
                    <a:pt x="0" y="771"/>
                  </a:lnTo>
                  <a:lnTo>
                    <a:pt x="0" y="773"/>
                  </a:lnTo>
                  <a:lnTo>
                    <a:pt x="0" y="775"/>
                  </a:lnTo>
                  <a:lnTo>
                    <a:pt x="0" y="779"/>
                  </a:lnTo>
                  <a:lnTo>
                    <a:pt x="0" y="781"/>
                  </a:lnTo>
                  <a:close/>
                </a:path>
              </a:pathLst>
            </a:custGeom>
            <a:solidFill>
              <a:srgbClr val="a5d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Freeform 439"/>
            <p:cNvSpPr/>
            <p:nvPr/>
          </p:nvSpPr>
          <p:spPr>
            <a:xfrm>
              <a:off x="5835240" y="2456640"/>
              <a:ext cx="658440" cy="1611360"/>
            </a:xfrm>
            <a:custGeom>
              <a:avLst/>
              <a:gdLst>
                <a:gd name="textAreaLeft" fmla="*/ 0 w 658440"/>
                <a:gd name="textAreaRight" fmla="*/ 658800 w 658440"/>
                <a:gd name="textAreaTop" fmla="*/ 0 h 1611360"/>
                <a:gd name="textAreaBottom" fmla="*/ 1611720 h 1611360"/>
              </a:gdLst>
              <a:ahLst/>
              <a:rect l="textAreaLeft" t="textAreaTop" r="textAreaRight" b="textAreaBottom"/>
              <a:pathLst>
                <a:path w="391" h="957">
                  <a:moveTo>
                    <a:pt x="374" y="0"/>
                  </a:moveTo>
                  <a:lnTo>
                    <a:pt x="359" y="0"/>
                  </a:lnTo>
                  <a:lnTo>
                    <a:pt x="336" y="1"/>
                  </a:lnTo>
                  <a:lnTo>
                    <a:pt x="311" y="5"/>
                  </a:lnTo>
                  <a:lnTo>
                    <a:pt x="288" y="9"/>
                  </a:lnTo>
                  <a:lnTo>
                    <a:pt x="265" y="15"/>
                  </a:lnTo>
                  <a:lnTo>
                    <a:pt x="242" y="21"/>
                  </a:lnTo>
                  <a:lnTo>
                    <a:pt x="219" y="28"/>
                  </a:lnTo>
                  <a:lnTo>
                    <a:pt x="198" y="38"/>
                  </a:lnTo>
                  <a:lnTo>
                    <a:pt x="176" y="48"/>
                  </a:lnTo>
                  <a:lnTo>
                    <a:pt x="155" y="57"/>
                  </a:lnTo>
                  <a:lnTo>
                    <a:pt x="136" y="69"/>
                  </a:lnTo>
                  <a:lnTo>
                    <a:pt x="117" y="82"/>
                  </a:lnTo>
                  <a:lnTo>
                    <a:pt x="98" y="96"/>
                  </a:lnTo>
                  <a:lnTo>
                    <a:pt x="84" y="105"/>
                  </a:lnTo>
                  <a:lnTo>
                    <a:pt x="84" y="107"/>
                  </a:lnTo>
                  <a:lnTo>
                    <a:pt x="84" y="109"/>
                  </a:lnTo>
                  <a:lnTo>
                    <a:pt x="82" y="111"/>
                  </a:lnTo>
                  <a:lnTo>
                    <a:pt x="82" y="113"/>
                  </a:lnTo>
                  <a:lnTo>
                    <a:pt x="82" y="117"/>
                  </a:lnTo>
                  <a:lnTo>
                    <a:pt x="82" y="119"/>
                  </a:lnTo>
                  <a:lnTo>
                    <a:pt x="80" y="120"/>
                  </a:lnTo>
                  <a:lnTo>
                    <a:pt x="80" y="122"/>
                  </a:lnTo>
                  <a:lnTo>
                    <a:pt x="86" y="117"/>
                  </a:lnTo>
                  <a:lnTo>
                    <a:pt x="103" y="103"/>
                  </a:lnTo>
                  <a:lnTo>
                    <a:pt x="123" y="90"/>
                  </a:lnTo>
                  <a:lnTo>
                    <a:pt x="142" y="78"/>
                  </a:lnTo>
                  <a:lnTo>
                    <a:pt x="161" y="67"/>
                  </a:lnTo>
                  <a:lnTo>
                    <a:pt x="180" y="57"/>
                  </a:lnTo>
                  <a:lnTo>
                    <a:pt x="201" y="48"/>
                  </a:lnTo>
                  <a:lnTo>
                    <a:pt x="222" y="38"/>
                  </a:lnTo>
                  <a:lnTo>
                    <a:pt x="246" y="32"/>
                  </a:lnTo>
                  <a:lnTo>
                    <a:pt x="267" y="25"/>
                  </a:lnTo>
                  <a:lnTo>
                    <a:pt x="290" y="21"/>
                  </a:lnTo>
                  <a:lnTo>
                    <a:pt x="313" y="15"/>
                  </a:lnTo>
                  <a:lnTo>
                    <a:pt x="336" y="13"/>
                  </a:lnTo>
                  <a:lnTo>
                    <a:pt x="361" y="11"/>
                  </a:lnTo>
                  <a:lnTo>
                    <a:pt x="370" y="11"/>
                  </a:lnTo>
                  <a:lnTo>
                    <a:pt x="370" y="9"/>
                  </a:lnTo>
                  <a:lnTo>
                    <a:pt x="370" y="7"/>
                  </a:lnTo>
                  <a:lnTo>
                    <a:pt x="372" y="7"/>
                  </a:lnTo>
                  <a:lnTo>
                    <a:pt x="372" y="5"/>
                  </a:lnTo>
                  <a:lnTo>
                    <a:pt x="372" y="3"/>
                  </a:lnTo>
                  <a:lnTo>
                    <a:pt x="372" y="3"/>
                  </a:lnTo>
                  <a:lnTo>
                    <a:pt x="374" y="1"/>
                  </a:lnTo>
                  <a:lnTo>
                    <a:pt x="374" y="0"/>
                  </a:lnTo>
                  <a:close/>
                  <a:moveTo>
                    <a:pt x="0" y="765"/>
                  </a:moveTo>
                  <a:lnTo>
                    <a:pt x="13" y="784"/>
                  </a:lnTo>
                  <a:lnTo>
                    <a:pt x="29" y="802"/>
                  </a:lnTo>
                  <a:lnTo>
                    <a:pt x="46" y="817"/>
                  </a:lnTo>
                  <a:lnTo>
                    <a:pt x="61" y="834"/>
                  </a:lnTo>
                  <a:lnTo>
                    <a:pt x="79" y="848"/>
                  </a:lnTo>
                  <a:lnTo>
                    <a:pt x="98" y="863"/>
                  </a:lnTo>
                  <a:lnTo>
                    <a:pt x="117" y="876"/>
                  </a:lnTo>
                  <a:lnTo>
                    <a:pt x="136" y="888"/>
                  </a:lnTo>
                  <a:lnTo>
                    <a:pt x="155" y="899"/>
                  </a:lnTo>
                  <a:lnTo>
                    <a:pt x="176" y="911"/>
                  </a:lnTo>
                  <a:lnTo>
                    <a:pt x="198" y="921"/>
                  </a:lnTo>
                  <a:lnTo>
                    <a:pt x="219" y="928"/>
                  </a:lnTo>
                  <a:lnTo>
                    <a:pt x="242" y="936"/>
                  </a:lnTo>
                  <a:lnTo>
                    <a:pt x="265" y="944"/>
                  </a:lnTo>
                  <a:lnTo>
                    <a:pt x="288" y="947"/>
                  </a:lnTo>
                  <a:lnTo>
                    <a:pt x="311" y="953"/>
                  </a:lnTo>
                  <a:lnTo>
                    <a:pt x="336" y="955"/>
                  </a:lnTo>
                  <a:lnTo>
                    <a:pt x="359" y="957"/>
                  </a:lnTo>
                  <a:lnTo>
                    <a:pt x="384" y="957"/>
                  </a:lnTo>
                  <a:lnTo>
                    <a:pt x="391" y="957"/>
                  </a:lnTo>
                  <a:lnTo>
                    <a:pt x="391" y="957"/>
                  </a:lnTo>
                  <a:lnTo>
                    <a:pt x="389" y="955"/>
                  </a:lnTo>
                  <a:lnTo>
                    <a:pt x="389" y="953"/>
                  </a:lnTo>
                  <a:lnTo>
                    <a:pt x="389" y="953"/>
                  </a:lnTo>
                  <a:lnTo>
                    <a:pt x="389" y="951"/>
                  </a:lnTo>
                  <a:lnTo>
                    <a:pt x="388" y="949"/>
                  </a:lnTo>
                  <a:lnTo>
                    <a:pt x="388" y="949"/>
                  </a:lnTo>
                  <a:lnTo>
                    <a:pt x="388" y="947"/>
                  </a:lnTo>
                  <a:lnTo>
                    <a:pt x="384" y="947"/>
                  </a:lnTo>
                  <a:lnTo>
                    <a:pt x="361" y="947"/>
                  </a:lnTo>
                  <a:lnTo>
                    <a:pt x="336" y="945"/>
                  </a:lnTo>
                  <a:lnTo>
                    <a:pt x="313" y="942"/>
                  </a:lnTo>
                  <a:lnTo>
                    <a:pt x="290" y="938"/>
                  </a:lnTo>
                  <a:lnTo>
                    <a:pt x="267" y="932"/>
                  </a:lnTo>
                  <a:lnTo>
                    <a:pt x="246" y="926"/>
                  </a:lnTo>
                  <a:lnTo>
                    <a:pt x="222" y="919"/>
                  </a:lnTo>
                  <a:lnTo>
                    <a:pt x="201" y="911"/>
                  </a:lnTo>
                  <a:lnTo>
                    <a:pt x="180" y="901"/>
                  </a:lnTo>
                  <a:lnTo>
                    <a:pt x="161" y="890"/>
                  </a:lnTo>
                  <a:lnTo>
                    <a:pt x="142" y="880"/>
                  </a:lnTo>
                  <a:lnTo>
                    <a:pt x="123" y="867"/>
                  </a:lnTo>
                  <a:lnTo>
                    <a:pt x="103" y="853"/>
                  </a:lnTo>
                  <a:lnTo>
                    <a:pt x="86" y="840"/>
                  </a:lnTo>
                  <a:lnTo>
                    <a:pt x="69" y="825"/>
                  </a:lnTo>
                  <a:lnTo>
                    <a:pt x="54" y="809"/>
                  </a:lnTo>
                  <a:lnTo>
                    <a:pt x="36" y="794"/>
                  </a:lnTo>
                  <a:lnTo>
                    <a:pt x="23" y="777"/>
                  </a:lnTo>
                  <a:lnTo>
                    <a:pt x="9" y="759"/>
                  </a:lnTo>
                  <a:lnTo>
                    <a:pt x="0" y="748"/>
                  </a:lnTo>
                  <a:lnTo>
                    <a:pt x="0" y="750"/>
                  </a:lnTo>
                  <a:lnTo>
                    <a:pt x="0" y="752"/>
                  </a:lnTo>
                  <a:lnTo>
                    <a:pt x="0" y="754"/>
                  </a:lnTo>
                  <a:lnTo>
                    <a:pt x="0" y="757"/>
                  </a:lnTo>
                  <a:lnTo>
                    <a:pt x="0" y="759"/>
                  </a:lnTo>
                  <a:lnTo>
                    <a:pt x="0" y="761"/>
                  </a:lnTo>
                  <a:lnTo>
                    <a:pt x="0" y="763"/>
                  </a:lnTo>
                  <a:lnTo>
                    <a:pt x="0" y="765"/>
                  </a:lnTo>
                  <a:close/>
                </a:path>
              </a:pathLst>
            </a:custGeom>
            <a:solidFill>
              <a:srgbClr val="a6d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Freeform 440"/>
            <p:cNvSpPr/>
            <p:nvPr/>
          </p:nvSpPr>
          <p:spPr>
            <a:xfrm>
              <a:off x="5835240" y="2464920"/>
              <a:ext cx="655200" cy="1595880"/>
            </a:xfrm>
            <a:custGeom>
              <a:avLst/>
              <a:gdLst>
                <a:gd name="textAreaLeft" fmla="*/ 0 w 655200"/>
                <a:gd name="textAreaRight" fmla="*/ 655560 w 655200"/>
                <a:gd name="textAreaTop" fmla="*/ 0 h 1595880"/>
                <a:gd name="textAreaBottom" fmla="*/ 1596240 h 1595880"/>
              </a:gdLst>
              <a:ahLst/>
              <a:rect l="textAreaLeft" t="textAreaTop" r="textAreaRight" b="textAreaBottom"/>
              <a:pathLst>
                <a:path w="389" h="948">
                  <a:moveTo>
                    <a:pt x="372" y="0"/>
                  </a:moveTo>
                  <a:lnTo>
                    <a:pt x="359" y="0"/>
                  </a:lnTo>
                  <a:lnTo>
                    <a:pt x="336" y="2"/>
                  </a:lnTo>
                  <a:lnTo>
                    <a:pt x="311" y="6"/>
                  </a:lnTo>
                  <a:lnTo>
                    <a:pt x="288" y="10"/>
                  </a:lnTo>
                  <a:lnTo>
                    <a:pt x="265" y="16"/>
                  </a:lnTo>
                  <a:lnTo>
                    <a:pt x="244" y="21"/>
                  </a:lnTo>
                  <a:lnTo>
                    <a:pt x="221" y="29"/>
                  </a:lnTo>
                  <a:lnTo>
                    <a:pt x="199" y="37"/>
                  </a:lnTo>
                  <a:lnTo>
                    <a:pt x="178" y="46"/>
                  </a:lnTo>
                  <a:lnTo>
                    <a:pt x="157" y="58"/>
                  </a:lnTo>
                  <a:lnTo>
                    <a:pt x="138" y="69"/>
                  </a:lnTo>
                  <a:lnTo>
                    <a:pt x="119" y="81"/>
                  </a:lnTo>
                  <a:lnTo>
                    <a:pt x="100" y="94"/>
                  </a:lnTo>
                  <a:lnTo>
                    <a:pt x="82" y="108"/>
                  </a:lnTo>
                  <a:lnTo>
                    <a:pt x="82" y="110"/>
                  </a:lnTo>
                  <a:lnTo>
                    <a:pt x="82" y="114"/>
                  </a:lnTo>
                  <a:lnTo>
                    <a:pt x="80" y="115"/>
                  </a:lnTo>
                  <a:lnTo>
                    <a:pt x="80" y="117"/>
                  </a:lnTo>
                  <a:lnTo>
                    <a:pt x="80" y="119"/>
                  </a:lnTo>
                  <a:lnTo>
                    <a:pt x="79" y="121"/>
                  </a:lnTo>
                  <a:lnTo>
                    <a:pt x="79" y="123"/>
                  </a:lnTo>
                  <a:lnTo>
                    <a:pt x="79" y="127"/>
                  </a:lnTo>
                  <a:lnTo>
                    <a:pt x="90" y="117"/>
                  </a:lnTo>
                  <a:lnTo>
                    <a:pt x="107" y="102"/>
                  </a:lnTo>
                  <a:lnTo>
                    <a:pt x="125" y="91"/>
                  </a:lnTo>
                  <a:lnTo>
                    <a:pt x="144" y="77"/>
                  </a:lnTo>
                  <a:lnTo>
                    <a:pt x="163" y="67"/>
                  </a:lnTo>
                  <a:lnTo>
                    <a:pt x="182" y="56"/>
                  </a:lnTo>
                  <a:lnTo>
                    <a:pt x="203" y="46"/>
                  </a:lnTo>
                  <a:lnTo>
                    <a:pt x="224" y="39"/>
                  </a:lnTo>
                  <a:lnTo>
                    <a:pt x="246" y="31"/>
                  </a:lnTo>
                  <a:lnTo>
                    <a:pt x="269" y="25"/>
                  </a:lnTo>
                  <a:lnTo>
                    <a:pt x="290" y="20"/>
                  </a:lnTo>
                  <a:lnTo>
                    <a:pt x="313" y="16"/>
                  </a:lnTo>
                  <a:lnTo>
                    <a:pt x="336" y="14"/>
                  </a:lnTo>
                  <a:lnTo>
                    <a:pt x="361" y="12"/>
                  </a:lnTo>
                  <a:lnTo>
                    <a:pt x="368" y="12"/>
                  </a:lnTo>
                  <a:lnTo>
                    <a:pt x="368" y="10"/>
                  </a:lnTo>
                  <a:lnTo>
                    <a:pt x="368" y="8"/>
                  </a:lnTo>
                  <a:lnTo>
                    <a:pt x="370" y="8"/>
                  </a:lnTo>
                  <a:lnTo>
                    <a:pt x="370" y="6"/>
                  </a:lnTo>
                  <a:lnTo>
                    <a:pt x="370" y="4"/>
                  </a:lnTo>
                  <a:lnTo>
                    <a:pt x="370" y="2"/>
                  </a:lnTo>
                  <a:lnTo>
                    <a:pt x="372" y="2"/>
                  </a:lnTo>
                  <a:lnTo>
                    <a:pt x="372" y="0"/>
                  </a:lnTo>
                  <a:close/>
                  <a:moveTo>
                    <a:pt x="0" y="752"/>
                  </a:moveTo>
                  <a:lnTo>
                    <a:pt x="4" y="756"/>
                  </a:lnTo>
                  <a:lnTo>
                    <a:pt x="19" y="775"/>
                  </a:lnTo>
                  <a:lnTo>
                    <a:pt x="32" y="793"/>
                  </a:lnTo>
                  <a:lnTo>
                    <a:pt x="50" y="808"/>
                  </a:lnTo>
                  <a:lnTo>
                    <a:pt x="65" y="825"/>
                  </a:lnTo>
                  <a:lnTo>
                    <a:pt x="82" y="839"/>
                  </a:lnTo>
                  <a:lnTo>
                    <a:pt x="100" y="854"/>
                  </a:lnTo>
                  <a:lnTo>
                    <a:pt x="119" y="866"/>
                  </a:lnTo>
                  <a:lnTo>
                    <a:pt x="138" y="879"/>
                  </a:lnTo>
                  <a:lnTo>
                    <a:pt x="157" y="891"/>
                  </a:lnTo>
                  <a:lnTo>
                    <a:pt x="178" y="900"/>
                  </a:lnTo>
                  <a:lnTo>
                    <a:pt x="199" y="910"/>
                  </a:lnTo>
                  <a:lnTo>
                    <a:pt x="221" y="919"/>
                  </a:lnTo>
                  <a:lnTo>
                    <a:pt x="244" y="927"/>
                  </a:lnTo>
                  <a:lnTo>
                    <a:pt x="265" y="933"/>
                  </a:lnTo>
                  <a:lnTo>
                    <a:pt x="288" y="939"/>
                  </a:lnTo>
                  <a:lnTo>
                    <a:pt x="311" y="942"/>
                  </a:lnTo>
                  <a:lnTo>
                    <a:pt x="336" y="944"/>
                  </a:lnTo>
                  <a:lnTo>
                    <a:pt x="359" y="946"/>
                  </a:lnTo>
                  <a:lnTo>
                    <a:pt x="384" y="948"/>
                  </a:lnTo>
                  <a:lnTo>
                    <a:pt x="389" y="948"/>
                  </a:lnTo>
                  <a:lnTo>
                    <a:pt x="389" y="946"/>
                  </a:lnTo>
                  <a:lnTo>
                    <a:pt x="388" y="944"/>
                  </a:lnTo>
                  <a:lnTo>
                    <a:pt x="388" y="944"/>
                  </a:lnTo>
                  <a:lnTo>
                    <a:pt x="388" y="942"/>
                  </a:lnTo>
                  <a:lnTo>
                    <a:pt x="388" y="940"/>
                  </a:lnTo>
                  <a:lnTo>
                    <a:pt x="386" y="939"/>
                  </a:lnTo>
                  <a:lnTo>
                    <a:pt x="386" y="939"/>
                  </a:lnTo>
                  <a:lnTo>
                    <a:pt x="386" y="937"/>
                  </a:lnTo>
                  <a:lnTo>
                    <a:pt x="384" y="937"/>
                  </a:lnTo>
                  <a:lnTo>
                    <a:pt x="361" y="937"/>
                  </a:lnTo>
                  <a:lnTo>
                    <a:pt x="336" y="935"/>
                  </a:lnTo>
                  <a:lnTo>
                    <a:pt x="313" y="931"/>
                  </a:lnTo>
                  <a:lnTo>
                    <a:pt x="290" y="927"/>
                  </a:lnTo>
                  <a:lnTo>
                    <a:pt x="269" y="921"/>
                  </a:lnTo>
                  <a:lnTo>
                    <a:pt x="246" y="916"/>
                  </a:lnTo>
                  <a:lnTo>
                    <a:pt x="224" y="908"/>
                  </a:lnTo>
                  <a:lnTo>
                    <a:pt x="203" y="900"/>
                  </a:lnTo>
                  <a:lnTo>
                    <a:pt x="182" y="891"/>
                  </a:lnTo>
                  <a:lnTo>
                    <a:pt x="163" y="881"/>
                  </a:lnTo>
                  <a:lnTo>
                    <a:pt x="144" y="869"/>
                  </a:lnTo>
                  <a:lnTo>
                    <a:pt x="125" y="858"/>
                  </a:lnTo>
                  <a:lnTo>
                    <a:pt x="107" y="845"/>
                  </a:lnTo>
                  <a:lnTo>
                    <a:pt x="90" y="831"/>
                  </a:lnTo>
                  <a:lnTo>
                    <a:pt x="73" y="816"/>
                  </a:lnTo>
                  <a:lnTo>
                    <a:pt x="55" y="800"/>
                  </a:lnTo>
                  <a:lnTo>
                    <a:pt x="40" y="785"/>
                  </a:lnTo>
                  <a:lnTo>
                    <a:pt x="27" y="768"/>
                  </a:lnTo>
                  <a:lnTo>
                    <a:pt x="13" y="751"/>
                  </a:lnTo>
                  <a:lnTo>
                    <a:pt x="0" y="733"/>
                  </a:lnTo>
                  <a:lnTo>
                    <a:pt x="0" y="735"/>
                  </a:lnTo>
                  <a:lnTo>
                    <a:pt x="0" y="739"/>
                  </a:lnTo>
                  <a:lnTo>
                    <a:pt x="0" y="741"/>
                  </a:lnTo>
                  <a:lnTo>
                    <a:pt x="0" y="743"/>
                  </a:lnTo>
                  <a:lnTo>
                    <a:pt x="0" y="745"/>
                  </a:lnTo>
                  <a:lnTo>
                    <a:pt x="0" y="747"/>
                  </a:lnTo>
                  <a:lnTo>
                    <a:pt x="0" y="749"/>
                  </a:lnTo>
                  <a:lnTo>
                    <a:pt x="0" y="752"/>
                  </a:lnTo>
                  <a:close/>
                </a:path>
              </a:pathLst>
            </a:custGeom>
            <a:solidFill>
              <a:srgbClr val="a7d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Freeform 441"/>
            <p:cNvSpPr/>
            <p:nvPr/>
          </p:nvSpPr>
          <p:spPr>
            <a:xfrm>
              <a:off x="5835240" y="2475000"/>
              <a:ext cx="653400" cy="1576080"/>
            </a:xfrm>
            <a:custGeom>
              <a:avLst/>
              <a:gdLst>
                <a:gd name="textAreaLeft" fmla="*/ 0 w 653400"/>
                <a:gd name="textAreaRight" fmla="*/ 653760 w 653400"/>
                <a:gd name="textAreaTop" fmla="*/ 0 h 1576080"/>
                <a:gd name="textAreaBottom" fmla="*/ 1576440 h 1576080"/>
              </a:gdLst>
              <a:ahLst/>
              <a:rect l="textAreaLeft" t="textAreaTop" r="textAreaRight" b="textAreaBottom"/>
              <a:pathLst>
                <a:path w="388" h="936">
                  <a:moveTo>
                    <a:pt x="370" y="0"/>
                  </a:moveTo>
                  <a:lnTo>
                    <a:pt x="361" y="0"/>
                  </a:lnTo>
                  <a:lnTo>
                    <a:pt x="336" y="2"/>
                  </a:lnTo>
                  <a:lnTo>
                    <a:pt x="313" y="4"/>
                  </a:lnTo>
                  <a:lnTo>
                    <a:pt x="290" y="10"/>
                  </a:lnTo>
                  <a:lnTo>
                    <a:pt x="267" y="14"/>
                  </a:lnTo>
                  <a:lnTo>
                    <a:pt x="246" y="21"/>
                  </a:lnTo>
                  <a:lnTo>
                    <a:pt x="222" y="27"/>
                  </a:lnTo>
                  <a:lnTo>
                    <a:pt x="201" y="37"/>
                  </a:lnTo>
                  <a:lnTo>
                    <a:pt x="180" y="46"/>
                  </a:lnTo>
                  <a:lnTo>
                    <a:pt x="161" y="56"/>
                  </a:lnTo>
                  <a:lnTo>
                    <a:pt x="142" y="67"/>
                  </a:lnTo>
                  <a:lnTo>
                    <a:pt x="123" y="79"/>
                  </a:lnTo>
                  <a:lnTo>
                    <a:pt x="103" y="92"/>
                  </a:lnTo>
                  <a:lnTo>
                    <a:pt x="86" y="106"/>
                  </a:lnTo>
                  <a:lnTo>
                    <a:pt x="80" y="111"/>
                  </a:lnTo>
                  <a:lnTo>
                    <a:pt x="80" y="113"/>
                  </a:lnTo>
                  <a:lnTo>
                    <a:pt x="79" y="115"/>
                  </a:lnTo>
                  <a:lnTo>
                    <a:pt x="79" y="117"/>
                  </a:lnTo>
                  <a:lnTo>
                    <a:pt x="79" y="121"/>
                  </a:lnTo>
                  <a:lnTo>
                    <a:pt x="79" y="123"/>
                  </a:lnTo>
                  <a:lnTo>
                    <a:pt x="77" y="125"/>
                  </a:lnTo>
                  <a:lnTo>
                    <a:pt x="77" y="127"/>
                  </a:lnTo>
                  <a:lnTo>
                    <a:pt x="77" y="129"/>
                  </a:lnTo>
                  <a:lnTo>
                    <a:pt x="92" y="115"/>
                  </a:lnTo>
                  <a:lnTo>
                    <a:pt x="109" y="102"/>
                  </a:lnTo>
                  <a:lnTo>
                    <a:pt x="128" y="88"/>
                  </a:lnTo>
                  <a:lnTo>
                    <a:pt x="146" y="77"/>
                  </a:lnTo>
                  <a:lnTo>
                    <a:pt x="165" y="65"/>
                  </a:lnTo>
                  <a:lnTo>
                    <a:pt x="186" y="56"/>
                  </a:lnTo>
                  <a:lnTo>
                    <a:pt x="205" y="46"/>
                  </a:lnTo>
                  <a:lnTo>
                    <a:pt x="226" y="38"/>
                  </a:lnTo>
                  <a:lnTo>
                    <a:pt x="247" y="31"/>
                  </a:lnTo>
                  <a:lnTo>
                    <a:pt x="269" y="25"/>
                  </a:lnTo>
                  <a:lnTo>
                    <a:pt x="292" y="19"/>
                  </a:lnTo>
                  <a:lnTo>
                    <a:pt x="315" y="15"/>
                  </a:lnTo>
                  <a:lnTo>
                    <a:pt x="338" y="12"/>
                  </a:lnTo>
                  <a:lnTo>
                    <a:pt x="361" y="12"/>
                  </a:lnTo>
                  <a:lnTo>
                    <a:pt x="366" y="10"/>
                  </a:lnTo>
                  <a:lnTo>
                    <a:pt x="366" y="10"/>
                  </a:lnTo>
                  <a:lnTo>
                    <a:pt x="366" y="8"/>
                  </a:lnTo>
                  <a:lnTo>
                    <a:pt x="368" y="6"/>
                  </a:lnTo>
                  <a:lnTo>
                    <a:pt x="368" y="6"/>
                  </a:lnTo>
                  <a:lnTo>
                    <a:pt x="368" y="4"/>
                  </a:lnTo>
                  <a:lnTo>
                    <a:pt x="368" y="2"/>
                  </a:lnTo>
                  <a:lnTo>
                    <a:pt x="370" y="2"/>
                  </a:lnTo>
                  <a:lnTo>
                    <a:pt x="370" y="0"/>
                  </a:lnTo>
                  <a:close/>
                  <a:moveTo>
                    <a:pt x="0" y="737"/>
                  </a:moveTo>
                  <a:lnTo>
                    <a:pt x="9" y="748"/>
                  </a:lnTo>
                  <a:lnTo>
                    <a:pt x="23" y="766"/>
                  </a:lnTo>
                  <a:lnTo>
                    <a:pt x="36" y="783"/>
                  </a:lnTo>
                  <a:lnTo>
                    <a:pt x="54" y="798"/>
                  </a:lnTo>
                  <a:lnTo>
                    <a:pt x="69" y="814"/>
                  </a:lnTo>
                  <a:lnTo>
                    <a:pt x="86" y="829"/>
                  </a:lnTo>
                  <a:lnTo>
                    <a:pt x="103" y="842"/>
                  </a:lnTo>
                  <a:lnTo>
                    <a:pt x="123" y="856"/>
                  </a:lnTo>
                  <a:lnTo>
                    <a:pt x="142" y="869"/>
                  </a:lnTo>
                  <a:lnTo>
                    <a:pt x="161" y="879"/>
                  </a:lnTo>
                  <a:lnTo>
                    <a:pt x="180" y="890"/>
                  </a:lnTo>
                  <a:lnTo>
                    <a:pt x="201" y="900"/>
                  </a:lnTo>
                  <a:lnTo>
                    <a:pt x="222" y="908"/>
                  </a:lnTo>
                  <a:lnTo>
                    <a:pt x="246" y="915"/>
                  </a:lnTo>
                  <a:lnTo>
                    <a:pt x="267" y="921"/>
                  </a:lnTo>
                  <a:lnTo>
                    <a:pt x="290" y="927"/>
                  </a:lnTo>
                  <a:lnTo>
                    <a:pt x="313" y="931"/>
                  </a:lnTo>
                  <a:lnTo>
                    <a:pt x="336" y="934"/>
                  </a:lnTo>
                  <a:lnTo>
                    <a:pt x="361" y="936"/>
                  </a:lnTo>
                  <a:lnTo>
                    <a:pt x="384" y="936"/>
                  </a:lnTo>
                  <a:lnTo>
                    <a:pt x="388" y="936"/>
                  </a:lnTo>
                  <a:lnTo>
                    <a:pt x="388" y="934"/>
                  </a:lnTo>
                  <a:lnTo>
                    <a:pt x="386" y="933"/>
                  </a:lnTo>
                  <a:lnTo>
                    <a:pt x="386" y="933"/>
                  </a:lnTo>
                  <a:lnTo>
                    <a:pt x="386" y="931"/>
                  </a:lnTo>
                  <a:lnTo>
                    <a:pt x="384" y="929"/>
                  </a:lnTo>
                  <a:lnTo>
                    <a:pt x="384" y="929"/>
                  </a:lnTo>
                  <a:lnTo>
                    <a:pt x="384" y="927"/>
                  </a:lnTo>
                  <a:lnTo>
                    <a:pt x="384" y="925"/>
                  </a:lnTo>
                  <a:lnTo>
                    <a:pt x="361" y="925"/>
                  </a:lnTo>
                  <a:lnTo>
                    <a:pt x="338" y="923"/>
                  </a:lnTo>
                  <a:lnTo>
                    <a:pt x="315" y="921"/>
                  </a:lnTo>
                  <a:lnTo>
                    <a:pt x="292" y="915"/>
                  </a:lnTo>
                  <a:lnTo>
                    <a:pt x="269" y="911"/>
                  </a:lnTo>
                  <a:lnTo>
                    <a:pt x="247" y="906"/>
                  </a:lnTo>
                  <a:lnTo>
                    <a:pt x="226" y="898"/>
                  </a:lnTo>
                  <a:lnTo>
                    <a:pt x="205" y="890"/>
                  </a:lnTo>
                  <a:lnTo>
                    <a:pt x="186" y="881"/>
                  </a:lnTo>
                  <a:lnTo>
                    <a:pt x="165" y="871"/>
                  </a:lnTo>
                  <a:lnTo>
                    <a:pt x="146" y="860"/>
                  </a:lnTo>
                  <a:lnTo>
                    <a:pt x="128" y="848"/>
                  </a:lnTo>
                  <a:lnTo>
                    <a:pt x="109" y="835"/>
                  </a:lnTo>
                  <a:lnTo>
                    <a:pt x="92" y="821"/>
                  </a:lnTo>
                  <a:lnTo>
                    <a:pt x="77" y="806"/>
                  </a:lnTo>
                  <a:lnTo>
                    <a:pt x="59" y="791"/>
                  </a:lnTo>
                  <a:lnTo>
                    <a:pt x="46" y="775"/>
                  </a:lnTo>
                  <a:lnTo>
                    <a:pt x="31" y="760"/>
                  </a:lnTo>
                  <a:lnTo>
                    <a:pt x="17" y="741"/>
                  </a:lnTo>
                  <a:lnTo>
                    <a:pt x="4" y="723"/>
                  </a:lnTo>
                  <a:lnTo>
                    <a:pt x="0" y="718"/>
                  </a:lnTo>
                  <a:lnTo>
                    <a:pt x="0" y="720"/>
                  </a:lnTo>
                  <a:lnTo>
                    <a:pt x="0" y="723"/>
                  </a:lnTo>
                  <a:lnTo>
                    <a:pt x="0" y="725"/>
                  </a:lnTo>
                  <a:lnTo>
                    <a:pt x="0" y="727"/>
                  </a:lnTo>
                  <a:lnTo>
                    <a:pt x="0" y="729"/>
                  </a:lnTo>
                  <a:lnTo>
                    <a:pt x="0" y="731"/>
                  </a:lnTo>
                  <a:lnTo>
                    <a:pt x="0" y="735"/>
                  </a:lnTo>
                  <a:lnTo>
                    <a:pt x="0" y="737"/>
                  </a:lnTo>
                  <a:close/>
                </a:path>
              </a:pathLst>
            </a:custGeom>
            <a:solidFill>
              <a:srgbClr val="a8d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Freeform 442"/>
            <p:cNvSpPr/>
            <p:nvPr/>
          </p:nvSpPr>
          <p:spPr>
            <a:xfrm>
              <a:off x="5835240" y="2485440"/>
              <a:ext cx="650160" cy="1557360"/>
            </a:xfrm>
            <a:custGeom>
              <a:avLst/>
              <a:gdLst>
                <a:gd name="textAreaLeft" fmla="*/ 0 w 650160"/>
                <a:gd name="textAreaRight" fmla="*/ 650520 w 650160"/>
                <a:gd name="textAreaTop" fmla="*/ 0 h 1557360"/>
                <a:gd name="textAreaBottom" fmla="*/ 1557720 h 1557360"/>
              </a:gdLst>
              <a:ahLst/>
              <a:rect l="textAreaLeft" t="textAreaTop" r="textAreaRight" b="textAreaBottom"/>
              <a:pathLst>
                <a:path w="386" h="925">
                  <a:moveTo>
                    <a:pt x="368" y="0"/>
                  </a:moveTo>
                  <a:lnTo>
                    <a:pt x="361" y="0"/>
                  </a:lnTo>
                  <a:lnTo>
                    <a:pt x="336" y="2"/>
                  </a:lnTo>
                  <a:lnTo>
                    <a:pt x="313" y="4"/>
                  </a:lnTo>
                  <a:lnTo>
                    <a:pt x="290" y="8"/>
                  </a:lnTo>
                  <a:lnTo>
                    <a:pt x="269" y="13"/>
                  </a:lnTo>
                  <a:lnTo>
                    <a:pt x="246" y="19"/>
                  </a:lnTo>
                  <a:lnTo>
                    <a:pt x="224" y="27"/>
                  </a:lnTo>
                  <a:lnTo>
                    <a:pt x="203" y="34"/>
                  </a:lnTo>
                  <a:lnTo>
                    <a:pt x="182" y="44"/>
                  </a:lnTo>
                  <a:lnTo>
                    <a:pt x="163" y="55"/>
                  </a:lnTo>
                  <a:lnTo>
                    <a:pt x="144" y="65"/>
                  </a:lnTo>
                  <a:lnTo>
                    <a:pt x="125" y="79"/>
                  </a:lnTo>
                  <a:lnTo>
                    <a:pt x="107" y="90"/>
                  </a:lnTo>
                  <a:lnTo>
                    <a:pt x="90" y="105"/>
                  </a:lnTo>
                  <a:lnTo>
                    <a:pt x="79" y="115"/>
                  </a:lnTo>
                  <a:lnTo>
                    <a:pt x="79" y="117"/>
                  </a:lnTo>
                  <a:lnTo>
                    <a:pt x="77" y="119"/>
                  </a:lnTo>
                  <a:lnTo>
                    <a:pt x="77" y="121"/>
                  </a:lnTo>
                  <a:lnTo>
                    <a:pt x="77" y="123"/>
                  </a:lnTo>
                  <a:lnTo>
                    <a:pt x="75" y="125"/>
                  </a:lnTo>
                  <a:lnTo>
                    <a:pt x="75" y="128"/>
                  </a:lnTo>
                  <a:lnTo>
                    <a:pt x="75" y="130"/>
                  </a:lnTo>
                  <a:lnTo>
                    <a:pt x="75" y="132"/>
                  </a:lnTo>
                  <a:lnTo>
                    <a:pt x="80" y="126"/>
                  </a:lnTo>
                  <a:lnTo>
                    <a:pt x="96" y="113"/>
                  </a:lnTo>
                  <a:lnTo>
                    <a:pt x="113" y="100"/>
                  </a:lnTo>
                  <a:lnTo>
                    <a:pt x="130" y="86"/>
                  </a:lnTo>
                  <a:lnTo>
                    <a:pt x="150" y="75"/>
                  </a:lnTo>
                  <a:lnTo>
                    <a:pt x="169" y="63"/>
                  </a:lnTo>
                  <a:lnTo>
                    <a:pt x="188" y="54"/>
                  </a:lnTo>
                  <a:lnTo>
                    <a:pt x="207" y="46"/>
                  </a:lnTo>
                  <a:lnTo>
                    <a:pt x="228" y="36"/>
                  </a:lnTo>
                  <a:lnTo>
                    <a:pt x="249" y="31"/>
                  </a:lnTo>
                  <a:lnTo>
                    <a:pt x="270" y="23"/>
                  </a:lnTo>
                  <a:lnTo>
                    <a:pt x="293" y="19"/>
                  </a:lnTo>
                  <a:lnTo>
                    <a:pt x="315" y="15"/>
                  </a:lnTo>
                  <a:lnTo>
                    <a:pt x="338" y="11"/>
                  </a:lnTo>
                  <a:lnTo>
                    <a:pt x="361" y="9"/>
                  </a:lnTo>
                  <a:lnTo>
                    <a:pt x="365" y="9"/>
                  </a:lnTo>
                  <a:lnTo>
                    <a:pt x="365" y="9"/>
                  </a:lnTo>
                  <a:lnTo>
                    <a:pt x="366" y="8"/>
                  </a:lnTo>
                  <a:lnTo>
                    <a:pt x="366" y="6"/>
                  </a:lnTo>
                  <a:lnTo>
                    <a:pt x="366" y="4"/>
                  </a:lnTo>
                  <a:lnTo>
                    <a:pt x="366" y="4"/>
                  </a:lnTo>
                  <a:lnTo>
                    <a:pt x="366" y="2"/>
                  </a:lnTo>
                  <a:lnTo>
                    <a:pt x="368" y="0"/>
                  </a:lnTo>
                  <a:lnTo>
                    <a:pt x="368" y="0"/>
                  </a:lnTo>
                  <a:close/>
                  <a:moveTo>
                    <a:pt x="0" y="721"/>
                  </a:moveTo>
                  <a:lnTo>
                    <a:pt x="13" y="739"/>
                  </a:lnTo>
                  <a:lnTo>
                    <a:pt x="27" y="756"/>
                  </a:lnTo>
                  <a:lnTo>
                    <a:pt x="40" y="773"/>
                  </a:lnTo>
                  <a:lnTo>
                    <a:pt x="55" y="788"/>
                  </a:lnTo>
                  <a:lnTo>
                    <a:pt x="73" y="804"/>
                  </a:lnTo>
                  <a:lnTo>
                    <a:pt x="90" y="819"/>
                  </a:lnTo>
                  <a:lnTo>
                    <a:pt x="107" y="833"/>
                  </a:lnTo>
                  <a:lnTo>
                    <a:pt x="125" y="846"/>
                  </a:lnTo>
                  <a:lnTo>
                    <a:pt x="144" y="857"/>
                  </a:lnTo>
                  <a:lnTo>
                    <a:pt x="163" y="869"/>
                  </a:lnTo>
                  <a:lnTo>
                    <a:pt x="182" y="879"/>
                  </a:lnTo>
                  <a:lnTo>
                    <a:pt x="203" y="888"/>
                  </a:lnTo>
                  <a:lnTo>
                    <a:pt x="224" y="896"/>
                  </a:lnTo>
                  <a:lnTo>
                    <a:pt x="246" y="904"/>
                  </a:lnTo>
                  <a:lnTo>
                    <a:pt x="269" y="909"/>
                  </a:lnTo>
                  <a:lnTo>
                    <a:pt x="290" y="915"/>
                  </a:lnTo>
                  <a:lnTo>
                    <a:pt x="313" y="919"/>
                  </a:lnTo>
                  <a:lnTo>
                    <a:pt x="336" y="923"/>
                  </a:lnTo>
                  <a:lnTo>
                    <a:pt x="361" y="925"/>
                  </a:lnTo>
                  <a:lnTo>
                    <a:pt x="384" y="925"/>
                  </a:lnTo>
                  <a:lnTo>
                    <a:pt x="386" y="925"/>
                  </a:lnTo>
                  <a:lnTo>
                    <a:pt x="384" y="923"/>
                  </a:lnTo>
                  <a:lnTo>
                    <a:pt x="384" y="923"/>
                  </a:lnTo>
                  <a:lnTo>
                    <a:pt x="384" y="921"/>
                  </a:lnTo>
                  <a:lnTo>
                    <a:pt x="384" y="919"/>
                  </a:lnTo>
                  <a:lnTo>
                    <a:pt x="382" y="919"/>
                  </a:lnTo>
                  <a:lnTo>
                    <a:pt x="382" y="917"/>
                  </a:lnTo>
                  <a:lnTo>
                    <a:pt x="382" y="915"/>
                  </a:lnTo>
                  <a:lnTo>
                    <a:pt x="382" y="915"/>
                  </a:lnTo>
                  <a:lnTo>
                    <a:pt x="361" y="913"/>
                  </a:lnTo>
                  <a:lnTo>
                    <a:pt x="338" y="911"/>
                  </a:lnTo>
                  <a:lnTo>
                    <a:pt x="315" y="909"/>
                  </a:lnTo>
                  <a:lnTo>
                    <a:pt x="293" y="905"/>
                  </a:lnTo>
                  <a:lnTo>
                    <a:pt x="270" y="900"/>
                  </a:lnTo>
                  <a:lnTo>
                    <a:pt x="249" y="894"/>
                  </a:lnTo>
                  <a:lnTo>
                    <a:pt x="228" y="886"/>
                  </a:lnTo>
                  <a:lnTo>
                    <a:pt x="207" y="879"/>
                  </a:lnTo>
                  <a:lnTo>
                    <a:pt x="188" y="869"/>
                  </a:lnTo>
                  <a:lnTo>
                    <a:pt x="169" y="859"/>
                  </a:lnTo>
                  <a:lnTo>
                    <a:pt x="150" y="848"/>
                  </a:lnTo>
                  <a:lnTo>
                    <a:pt x="130" y="836"/>
                  </a:lnTo>
                  <a:lnTo>
                    <a:pt x="113" y="825"/>
                  </a:lnTo>
                  <a:lnTo>
                    <a:pt x="96" y="811"/>
                  </a:lnTo>
                  <a:lnTo>
                    <a:pt x="80" y="796"/>
                  </a:lnTo>
                  <a:lnTo>
                    <a:pt x="63" y="781"/>
                  </a:lnTo>
                  <a:lnTo>
                    <a:pt x="50" y="765"/>
                  </a:lnTo>
                  <a:lnTo>
                    <a:pt x="34" y="750"/>
                  </a:lnTo>
                  <a:lnTo>
                    <a:pt x="21" y="733"/>
                  </a:lnTo>
                  <a:lnTo>
                    <a:pt x="9" y="716"/>
                  </a:lnTo>
                  <a:lnTo>
                    <a:pt x="2" y="702"/>
                  </a:lnTo>
                  <a:lnTo>
                    <a:pt x="2" y="706"/>
                  </a:lnTo>
                  <a:lnTo>
                    <a:pt x="2" y="708"/>
                  </a:lnTo>
                  <a:lnTo>
                    <a:pt x="0" y="710"/>
                  </a:lnTo>
                  <a:lnTo>
                    <a:pt x="0" y="712"/>
                  </a:lnTo>
                  <a:lnTo>
                    <a:pt x="0" y="714"/>
                  </a:lnTo>
                  <a:lnTo>
                    <a:pt x="0" y="717"/>
                  </a:lnTo>
                  <a:lnTo>
                    <a:pt x="0" y="719"/>
                  </a:lnTo>
                  <a:lnTo>
                    <a:pt x="0" y="721"/>
                  </a:lnTo>
                  <a:close/>
                </a:path>
              </a:pathLst>
            </a:custGeom>
            <a:solidFill>
              <a:srgbClr val="a9d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Freeform 443"/>
            <p:cNvSpPr/>
            <p:nvPr/>
          </p:nvSpPr>
          <p:spPr>
            <a:xfrm>
              <a:off x="5835240" y="2492280"/>
              <a:ext cx="646920" cy="1540080"/>
            </a:xfrm>
            <a:custGeom>
              <a:avLst/>
              <a:gdLst>
                <a:gd name="textAreaLeft" fmla="*/ 0 w 646920"/>
                <a:gd name="textAreaRight" fmla="*/ 647280 w 646920"/>
                <a:gd name="textAreaTop" fmla="*/ 0 h 1540080"/>
                <a:gd name="textAreaBottom" fmla="*/ 1540440 h 1540080"/>
              </a:gdLst>
              <a:ahLst/>
              <a:rect l="textAreaLeft" t="textAreaTop" r="textAreaRight" b="textAreaBottom"/>
              <a:pathLst>
                <a:path w="384" h="915">
                  <a:moveTo>
                    <a:pt x="366" y="0"/>
                  </a:moveTo>
                  <a:lnTo>
                    <a:pt x="361" y="2"/>
                  </a:lnTo>
                  <a:lnTo>
                    <a:pt x="338" y="2"/>
                  </a:lnTo>
                  <a:lnTo>
                    <a:pt x="315" y="5"/>
                  </a:lnTo>
                  <a:lnTo>
                    <a:pt x="292" y="9"/>
                  </a:lnTo>
                  <a:lnTo>
                    <a:pt x="269" y="15"/>
                  </a:lnTo>
                  <a:lnTo>
                    <a:pt x="247" y="21"/>
                  </a:lnTo>
                  <a:lnTo>
                    <a:pt x="226" y="28"/>
                  </a:lnTo>
                  <a:lnTo>
                    <a:pt x="205" y="36"/>
                  </a:lnTo>
                  <a:lnTo>
                    <a:pt x="186" y="46"/>
                  </a:lnTo>
                  <a:lnTo>
                    <a:pt x="165" y="55"/>
                  </a:lnTo>
                  <a:lnTo>
                    <a:pt x="146" y="67"/>
                  </a:lnTo>
                  <a:lnTo>
                    <a:pt x="128" y="78"/>
                  </a:lnTo>
                  <a:lnTo>
                    <a:pt x="109" y="92"/>
                  </a:lnTo>
                  <a:lnTo>
                    <a:pt x="92" y="105"/>
                  </a:lnTo>
                  <a:lnTo>
                    <a:pt x="77" y="119"/>
                  </a:lnTo>
                  <a:lnTo>
                    <a:pt x="77" y="121"/>
                  </a:lnTo>
                  <a:lnTo>
                    <a:pt x="75" y="124"/>
                  </a:lnTo>
                  <a:lnTo>
                    <a:pt x="75" y="126"/>
                  </a:lnTo>
                  <a:lnTo>
                    <a:pt x="75" y="128"/>
                  </a:lnTo>
                  <a:lnTo>
                    <a:pt x="73" y="130"/>
                  </a:lnTo>
                  <a:lnTo>
                    <a:pt x="73" y="132"/>
                  </a:lnTo>
                  <a:lnTo>
                    <a:pt x="73" y="136"/>
                  </a:lnTo>
                  <a:lnTo>
                    <a:pt x="73" y="138"/>
                  </a:lnTo>
                  <a:lnTo>
                    <a:pt x="82" y="126"/>
                  </a:lnTo>
                  <a:lnTo>
                    <a:pt x="100" y="113"/>
                  </a:lnTo>
                  <a:lnTo>
                    <a:pt x="117" y="99"/>
                  </a:lnTo>
                  <a:lnTo>
                    <a:pt x="134" y="88"/>
                  </a:lnTo>
                  <a:lnTo>
                    <a:pt x="151" y="75"/>
                  </a:lnTo>
                  <a:lnTo>
                    <a:pt x="171" y="65"/>
                  </a:lnTo>
                  <a:lnTo>
                    <a:pt x="190" y="55"/>
                  </a:lnTo>
                  <a:lnTo>
                    <a:pt x="209" y="46"/>
                  </a:lnTo>
                  <a:lnTo>
                    <a:pt x="230" y="38"/>
                  </a:lnTo>
                  <a:lnTo>
                    <a:pt x="251" y="30"/>
                  </a:lnTo>
                  <a:lnTo>
                    <a:pt x="272" y="25"/>
                  </a:lnTo>
                  <a:lnTo>
                    <a:pt x="293" y="19"/>
                  </a:lnTo>
                  <a:lnTo>
                    <a:pt x="317" y="15"/>
                  </a:lnTo>
                  <a:lnTo>
                    <a:pt x="338" y="13"/>
                  </a:lnTo>
                  <a:lnTo>
                    <a:pt x="361" y="11"/>
                  </a:lnTo>
                  <a:lnTo>
                    <a:pt x="363" y="11"/>
                  </a:lnTo>
                  <a:lnTo>
                    <a:pt x="363" y="9"/>
                  </a:lnTo>
                  <a:lnTo>
                    <a:pt x="365" y="9"/>
                  </a:lnTo>
                  <a:lnTo>
                    <a:pt x="365" y="7"/>
                  </a:lnTo>
                  <a:lnTo>
                    <a:pt x="365" y="5"/>
                  </a:lnTo>
                  <a:lnTo>
                    <a:pt x="365" y="5"/>
                  </a:lnTo>
                  <a:lnTo>
                    <a:pt x="365" y="4"/>
                  </a:lnTo>
                  <a:lnTo>
                    <a:pt x="366" y="2"/>
                  </a:lnTo>
                  <a:lnTo>
                    <a:pt x="366" y="0"/>
                  </a:lnTo>
                  <a:close/>
                  <a:moveTo>
                    <a:pt x="0" y="708"/>
                  </a:moveTo>
                  <a:lnTo>
                    <a:pt x="4" y="713"/>
                  </a:lnTo>
                  <a:lnTo>
                    <a:pt x="17" y="731"/>
                  </a:lnTo>
                  <a:lnTo>
                    <a:pt x="31" y="750"/>
                  </a:lnTo>
                  <a:lnTo>
                    <a:pt x="46" y="765"/>
                  </a:lnTo>
                  <a:lnTo>
                    <a:pt x="59" y="781"/>
                  </a:lnTo>
                  <a:lnTo>
                    <a:pt x="77" y="796"/>
                  </a:lnTo>
                  <a:lnTo>
                    <a:pt x="92" y="811"/>
                  </a:lnTo>
                  <a:lnTo>
                    <a:pt x="109" y="825"/>
                  </a:lnTo>
                  <a:lnTo>
                    <a:pt x="128" y="838"/>
                  </a:lnTo>
                  <a:lnTo>
                    <a:pt x="146" y="850"/>
                  </a:lnTo>
                  <a:lnTo>
                    <a:pt x="165" y="861"/>
                  </a:lnTo>
                  <a:lnTo>
                    <a:pt x="186" y="871"/>
                  </a:lnTo>
                  <a:lnTo>
                    <a:pt x="205" y="880"/>
                  </a:lnTo>
                  <a:lnTo>
                    <a:pt x="226" y="888"/>
                  </a:lnTo>
                  <a:lnTo>
                    <a:pt x="247" y="896"/>
                  </a:lnTo>
                  <a:lnTo>
                    <a:pt x="269" y="901"/>
                  </a:lnTo>
                  <a:lnTo>
                    <a:pt x="292" y="905"/>
                  </a:lnTo>
                  <a:lnTo>
                    <a:pt x="315" y="911"/>
                  </a:lnTo>
                  <a:lnTo>
                    <a:pt x="338" y="913"/>
                  </a:lnTo>
                  <a:lnTo>
                    <a:pt x="361" y="915"/>
                  </a:lnTo>
                  <a:lnTo>
                    <a:pt x="384" y="915"/>
                  </a:lnTo>
                  <a:lnTo>
                    <a:pt x="382" y="915"/>
                  </a:lnTo>
                  <a:lnTo>
                    <a:pt x="382" y="913"/>
                  </a:lnTo>
                  <a:lnTo>
                    <a:pt x="382" y="911"/>
                  </a:lnTo>
                  <a:lnTo>
                    <a:pt x="382" y="911"/>
                  </a:lnTo>
                  <a:lnTo>
                    <a:pt x="380" y="909"/>
                  </a:lnTo>
                  <a:lnTo>
                    <a:pt x="380" y="907"/>
                  </a:lnTo>
                  <a:lnTo>
                    <a:pt x="380" y="905"/>
                  </a:lnTo>
                  <a:lnTo>
                    <a:pt x="380" y="905"/>
                  </a:lnTo>
                  <a:lnTo>
                    <a:pt x="361" y="903"/>
                  </a:lnTo>
                  <a:lnTo>
                    <a:pt x="338" y="903"/>
                  </a:lnTo>
                  <a:lnTo>
                    <a:pt x="317" y="900"/>
                  </a:lnTo>
                  <a:lnTo>
                    <a:pt x="293" y="896"/>
                  </a:lnTo>
                  <a:lnTo>
                    <a:pt x="272" y="890"/>
                  </a:lnTo>
                  <a:lnTo>
                    <a:pt x="251" y="884"/>
                  </a:lnTo>
                  <a:lnTo>
                    <a:pt x="230" y="878"/>
                  </a:lnTo>
                  <a:lnTo>
                    <a:pt x="209" y="869"/>
                  </a:lnTo>
                  <a:lnTo>
                    <a:pt x="190" y="861"/>
                  </a:lnTo>
                  <a:lnTo>
                    <a:pt x="171" y="852"/>
                  </a:lnTo>
                  <a:lnTo>
                    <a:pt x="151" y="840"/>
                  </a:lnTo>
                  <a:lnTo>
                    <a:pt x="134" y="829"/>
                  </a:lnTo>
                  <a:lnTo>
                    <a:pt x="117" y="815"/>
                  </a:lnTo>
                  <a:lnTo>
                    <a:pt x="100" y="804"/>
                  </a:lnTo>
                  <a:lnTo>
                    <a:pt x="82" y="788"/>
                  </a:lnTo>
                  <a:lnTo>
                    <a:pt x="67" y="775"/>
                  </a:lnTo>
                  <a:lnTo>
                    <a:pt x="54" y="758"/>
                  </a:lnTo>
                  <a:lnTo>
                    <a:pt x="38" y="742"/>
                  </a:lnTo>
                  <a:lnTo>
                    <a:pt x="25" y="725"/>
                  </a:lnTo>
                  <a:lnTo>
                    <a:pt x="13" y="708"/>
                  </a:lnTo>
                  <a:lnTo>
                    <a:pt x="2" y="690"/>
                  </a:lnTo>
                  <a:lnTo>
                    <a:pt x="2" y="688"/>
                  </a:lnTo>
                  <a:lnTo>
                    <a:pt x="2" y="692"/>
                  </a:lnTo>
                  <a:lnTo>
                    <a:pt x="2" y="694"/>
                  </a:lnTo>
                  <a:lnTo>
                    <a:pt x="2" y="696"/>
                  </a:lnTo>
                  <a:lnTo>
                    <a:pt x="2" y="698"/>
                  </a:lnTo>
                  <a:lnTo>
                    <a:pt x="2" y="702"/>
                  </a:lnTo>
                  <a:lnTo>
                    <a:pt x="2" y="704"/>
                  </a:lnTo>
                  <a:lnTo>
                    <a:pt x="0" y="706"/>
                  </a:lnTo>
                  <a:lnTo>
                    <a:pt x="0" y="708"/>
                  </a:lnTo>
                  <a:close/>
                </a:path>
              </a:pathLst>
            </a:custGeom>
            <a:solidFill>
              <a:srgbClr val="aa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Freeform 444"/>
            <p:cNvSpPr/>
            <p:nvPr/>
          </p:nvSpPr>
          <p:spPr>
            <a:xfrm>
              <a:off x="5838480" y="2500560"/>
              <a:ext cx="639720" cy="1525320"/>
            </a:xfrm>
            <a:custGeom>
              <a:avLst/>
              <a:gdLst>
                <a:gd name="textAreaLeft" fmla="*/ 0 w 639720"/>
                <a:gd name="textAreaRight" fmla="*/ 640080 w 639720"/>
                <a:gd name="textAreaTop" fmla="*/ 0 h 1525320"/>
                <a:gd name="textAreaBottom" fmla="*/ 1525680 h 1525320"/>
              </a:gdLst>
              <a:ahLst/>
              <a:rect l="textAreaLeft" t="textAreaTop" r="textAreaRight" b="textAreaBottom"/>
              <a:pathLst>
                <a:path w="380" h="906">
                  <a:moveTo>
                    <a:pt x="363" y="0"/>
                  </a:moveTo>
                  <a:lnTo>
                    <a:pt x="359" y="0"/>
                  </a:lnTo>
                  <a:lnTo>
                    <a:pt x="336" y="2"/>
                  </a:lnTo>
                  <a:lnTo>
                    <a:pt x="313" y="6"/>
                  </a:lnTo>
                  <a:lnTo>
                    <a:pt x="291" y="10"/>
                  </a:lnTo>
                  <a:lnTo>
                    <a:pt x="268" y="14"/>
                  </a:lnTo>
                  <a:lnTo>
                    <a:pt x="247" y="22"/>
                  </a:lnTo>
                  <a:lnTo>
                    <a:pt x="226" y="27"/>
                  </a:lnTo>
                  <a:lnTo>
                    <a:pt x="205" y="37"/>
                  </a:lnTo>
                  <a:lnTo>
                    <a:pt x="186" y="45"/>
                  </a:lnTo>
                  <a:lnTo>
                    <a:pt x="167" y="54"/>
                  </a:lnTo>
                  <a:lnTo>
                    <a:pt x="148" y="66"/>
                  </a:lnTo>
                  <a:lnTo>
                    <a:pt x="128" y="77"/>
                  </a:lnTo>
                  <a:lnTo>
                    <a:pt x="111" y="91"/>
                  </a:lnTo>
                  <a:lnTo>
                    <a:pt x="94" y="104"/>
                  </a:lnTo>
                  <a:lnTo>
                    <a:pt x="78" y="117"/>
                  </a:lnTo>
                  <a:lnTo>
                    <a:pt x="73" y="123"/>
                  </a:lnTo>
                  <a:lnTo>
                    <a:pt x="71" y="125"/>
                  </a:lnTo>
                  <a:lnTo>
                    <a:pt x="71" y="127"/>
                  </a:lnTo>
                  <a:lnTo>
                    <a:pt x="71" y="131"/>
                  </a:lnTo>
                  <a:lnTo>
                    <a:pt x="71" y="133"/>
                  </a:lnTo>
                  <a:lnTo>
                    <a:pt x="69" y="135"/>
                  </a:lnTo>
                  <a:lnTo>
                    <a:pt x="69" y="137"/>
                  </a:lnTo>
                  <a:lnTo>
                    <a:pt x="69" y="140"/>
                  </a:lnTo>
                  <a:lnTo>
                    <a:pt x="67" y="142"/>
                  </a:lnTo>
                  <a:lnTo>
                    <a:pt x="69" y="140"/>
                  </a:lnTo>
                  <a:lnTo>
                    <a:pt x="84" y="125"/>
                  </a:lnTo>
                  <a:lnTo>
                    <a:pt x="101" y="112"/>
                  </a:lnTo>
                  <a:lnTo>
                    <a:pt x="117" y="98"/>
                  </a:lnTo>
                  <a:lnTo>
                    <a:pt x="134" y="87"/>
                  </a:lnTo>
                  <a:lnTo>
                    <a:pt x="153" y="75"/>
                  </a:lnTo>
                  <a:lnTo>
                    <a:pt x="171" y="64"/>
                  </a:lnTo>
                  <a:lnTo>
                    <a:pt x="190" y="54"/>
                  </a:lnTo>
                  <a:lnTo>
                    <a:pt x="209" y="46"/>
                  </a:lnTo>
                  <a:lnTo>
                    <a:pt x="230" y="37"/>
                  </a:lnTo>
                  <a:lnTo>
                    <a:pt x="251" y="31"/>
                  </a:lnTo>
                  <a:lnTo>
                    <a:pt x="272" y="25"/>
                  </a:lnTo>
                  <a:lnTo>
                    <a:pt x="293" y="20"/>
                  </a:lnTo>
                  <a:lnTo>
                    <a:pt x="315" y="16"/>
                  </a:lnTo>
                  <a:lnTo>
                    <a:pt x="338" y="14"/>
                  </a:lnTo>
                  <a:lnTo>
                    <a:pt x="359" y="12"/>
                  </a:lnTo>
                  <a:lnTo>
                    <a:pt x="359" y="10"/>
                  </a:lnTo>
                  <a:lnTo>
                    <a:pt x="361" y="8"/>
                  </a:lnTo>
                  <a:lnTo>
                    <a:pt x="361" y="8"/>
                  </a:lnTo>
                  <a:lnTo>
                    <a:pt x="361" y="6"/>
                  </a:lnTo>
                  <a:lnTo>
                    <a:pt x="361" y="4"/>
                  </a:lnTo>
                  <a:lnTo>
                    <a:pt x="363" y="4"/>
                  </a:lnTo>
                  <a:lnTo>
                    <a:pt x="363" y="2"/>
                  </a:lnTo>
                  <a:lnTo>
                    <a:pt x="363" y="0"/>
                  </a:lnTo>
                  <a:close/>
                  <a:moveTo>
                    <a:pt x="0" y="693"/>
                  </a:moveTo>
                  <a:lnTo>
                    <a:pt x="7" y="707"/>
                  </a:lnTo>
                  <a:lnTo>
                    <a:pt x="19" y="724"/>
                  </a:lnTo>
                  <a:lnTo>
                    <a:pt x="32" y="741"/>
                  </a:lnTo>
                  <a:lnTo>
                    <a:pt x="48" y="756"/>
                  </a:lnTo>
                  <a:lnTo>
                    <a:pt x="61" y="772"/>
                  </a:lnTo>
                  <a:lnTo>
                    <a:pt x="78" y="787"/>
                  </a:lnTo>
                  <a:lnTo>
                    <a:pt x="94" y="802"/>
                  </a:lnTo>
                  <a:lnTo>
                    <a:pt x="111" y="816"/>
                  </a:lnTo>
                  <a:lnTo>
                    <a:pt x="128" y="827"/>
                  </a:lnTo>
                  <a:lnTo>
                    <a:pt x="148" y="839"/>
                  </a:lnTo>
                  <a:lnTo>
                    <a:pt x="167" y="850"/>
                  </a:lnTo>
                  <a:lnTo>
                    <a:pt x="186" y="860"/>
                  </a:lnTo>
                  <a:lnTo>
                    <a:pt x="205" y="870"/>
                  </a:lnTo>
                  <a:lnTo>
                    <a:pt x="226" y="877"/>
                  </a:lnTo>
                  <a:lnTo>
                    <a:pt x="247" y="885"/>
                  </a:lnTo>
                  <a:lnTo>
                    <a:pt x="268" y="891"/>
                  </a:lnTo>
                  <a:lnTo>
                    <a:pt x="291" y="896"/>
                  </a:lnTo>
                  <a:lnTo>
                    <a:pt x="313" y="900"/>
                  </a:lnTo>
                  <a:lnTo>
                    <a:pt x="336" y="902"/>
                  </a:lnTo>
                  <a:lnTo>
                    <a:pt x="359" y="904"/>
                  </a:lnTo>
                  <a:lnTo>
                    <a:pt x="380" y="906"/>
                  </a:lnTo>
                  <a:lnTo>
                    <a:pt x="378" y="904"/>
                  </a:lnTo>
                  <a:lnTo>
                    <a:pt x="378" y="902"/>
                  </a:lnTo>
                  <a:lnTo>
                    <a:pt x="378" y="900"/>
                  </a:lnTo>
                  <a:lnTo>
                    <a:pt x="378" y="900"/>
                  </a:lnTo>
                  <a:lnTo>
                    <a:pt x="376" y="898"/>
                  </a:lnTo>
                  <a:lnTo>
                    <a:pt x="376" y="896"/>
                  </a:lnTo>
                  <a:lnTo>
                    <a:pt x="376" y="896"/>
                  </a:lnTo>
                  <a:lnTo>
                    <a:pt x="376" y="895"/>
                  </a:lnTo>
                  <a:lnTo>
                    <a:pt x="359" y="895"/>
                  </a:lnTo>
                  <a:lnTo>
                    <a:pt x="338" y="893"/>
                  </a:lnTo>
                  <a:lnTo>
                    <a:pt x="315" y="889"/>
                  </a:lnTo>
                  <a:lnTo>
                    <a:pt x="293" y="885"/>
                  </a:lnTo>
                  <a:lnTo>
                    <a:pt x="272" y="881"/>
                  </a:lnTo>
                  <a:lnTo>
                    <a:pt x="251" y="875"/>
                  </a:lnTo>
                  <a:lnTo>
                    <a:pt x="230" y="868"/>
                  </a:lnTo>
                  <a:lnTo>
                    <a:pt x="209" y="860"/>
                  </a:lnTo>
                  <a:lnTo>
                    <a:pt x="190" y="850"/>
                  </a:lnTo>
                  <a:lnTo>
                    <a:pt x="171" y="841"/>
                  </a:lnTo>
                  <a:lnTo>
                    <a:pt x="153" y="831"/>
                  </a:lnTo>
                  <a:lnTo>
                    <a:pt x="134" y="820"/>
                  </a:lnTo>
                  <a:lnTo>
                    <a:pt x="117" y="806"/>
                  </a:lnTo>
                  <a:lnTo>
                    <a:pt x="101" y="793"/>
                  </a:lnTo>
                  <a:lnTo>
                    <a:pt x="84" y="779"/>
                  </a:lnTo>
                  <a:lnTo>
                    <a:pt x="69" y="766"/>
                  </a:lnTo>
                  <a:lnTo>
                    <a:pt x="55" y="751"/>
                  </a:lnTo>
                  <a:lnTo>
                    <a:pt x="40" y="733"/>
                  </a:lnTo>
                  <a:lnTo>
                    <a:pt x="29" y="718"/>
                  </a:lnTo>
                  <a:lnTo>
                    <a:pt x="15" y="699"/>
                  </a:lnTo>
                  <a:lnTo>
                    <a:pt x="4" y="682"/>
                  </a:lnTo>
                  <a:lnTo>
                    <a:pt x="0" y="674"/>
                  </a:lnTo>
                  <a:lnTo>
                    <a:pt x="0" y="676"/>
                  </a:lnTo>
                  <a:lnTo>
                    <a:pt x="0" y="680"/>
                  </a:lnTo>
                  <a:lnTo>
                    <a:pt x="0" y="682"/>
                  </a:lnTo>
                  <a:lnTo>
                    <a:pt x="0" y="683"/>
                  </a:lnTo>
                  <a:lnTo>
                    <a:pt x="0" y="685"/>
                  </a:lnTo>
                  <a:lnTo>
                    <a:pt x="0" y="689"/>
                  </a:lnTo>
                  <a:lnTo>
                    <a:pt x="0" y="691"/>
                  </a:lnTo>
                  <a:lnTo>
                    <a:pt x="0" y="693"/>
                  </a:lnTo>
                  <a:close/>
                </a:path>
              </a:pathLst>
            </a:custGeom>
            <a:solidFill>
              <a:srgbClr val="ab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Freeform 445"/>
            <p:cNvSpPr/>
            <p:nvPr/>
          </p:nvSpPr>
          <p:spPr>
            <a:xfrm>
              <a:off x="5838480" y="2510640"/>
              <a:ext cx="636480" cy="1505160"/>
            </a:xfrm>
            <a:custGeom>
              <a:avLst/>
              <a:gdLst>
                <a:gd name="textAreaLeft" fmla="*/ 0 w 636480"/>
                <a:gd name="textAreaRight" fmla="*/ 636480 w 636480"/>
                <a:gd name="textAreaTop" fmla="*/ 0 h 1505160"/>
                <a:gd name="textAreaBottom" fmla="*/ 1505520 h 1505160"/>
              </a:gdLst>
              <a:ahLst/>
              <a:rect l="textAreaLeft" t="textAreaTop" r="textAreaRight" b="textAreaBottom"/>
              <a:pathLst>
                <a:path w="378" h="894">
                  <a:moveTo>
                    <a:pt x="361" y="0"/>
                  </a:moveTo>
                  <a:lnTo>
                    <a:pt x="359" y="0"/>
                  </a:lnTo>
                  <a:lnTo>
                    <a:pt x="336" y="2"/>
                  </a:lnTo>
                  <a:lnTo>
                    <a:pt x="315" y="4"/>
                  </a:lnTo>
                  <a:lnTo>
                    <a:pt x="291" y="8"/>
                  </a:lnTo>
                  <a:lnTo>
                    <a:pt x="270" y="14"/>
                  </a:lnTo>
                  <a:lnTo>
                    <a:pt x="249" y="19"/>
                  </a:lnTo>
                  <a:lnTo>
                    <a:pt x="228" y="27"/>
                  </a:lnTo>
                  <a:lnTo>
                    <a:pt x="207" y="35"/>
                  </a:lnTo>
                  <a:lnTo>
                    <a:pt x="188" y="44"/>
                  </a:lnTo>
                  <a:lnTo>
                    <a:pt x="169" y="54"/>
                  </a:lnTo>
                  <a:lnTo>
                    <a:pt x="149" y="64"/>
                  </a:lnTo>
                  <a:lnTo>
                    <a:pt x="132" y="77"/>
                  </a:lnTo>
                  <a:lnTo>
                    <a:pt x="115" y="88"/>
                  </a:lnTo>
                  <a:lnTo>
                    <a:pt x="98" y="102"/>
                  </a:lnTo>
                  <a:lnTo>
                    <a:pt x="80" y="115"/>
                  </a:lnTo>
                  <a:lnTo>
                    <a:pt x="71" y="127"/>
                  </a:lnTo>
                  <a:lnTo>
                    <a:pt x="69" y="129"/>
                  </a:lnTo>
                  <a:lnTo>
                    <a:pt x="69" y="131"/>
                  </a:lnTo>
                  <a:lnTo>
                    <a:pt x="69" y="134"/>
                  </a:lnTo>
                  <a:lnTo>
                    <a:pt x="67" y="136"/>
                  </a:lnTo>
                  <a:lnTo>
                    <a:pt x="67" y="138"/>
                  </a:lnTo>
                  <a:lnTo>
                    <a:pt x="67" y="142"/>
                  </a:lnTo>
                  <a:lnTo>
                    <a:pt x="67" y="144"/>
                  </a:lnTo>
                  <a:lnTo>
                    <a:pt x="65" y="146"/>
                  </a:lnTo>
                  <a:lnTo>
                    <a:pt x="73" y="138"/>
                  </a:lnTo>
                  <a:lnTo>
                    <a:pt x="88" y="123"/>
                  </a:lnTo>
                  <a:lnTo>
                    <a:pt x="103" y="110"/>
                  </a:lnTo>
                  <a:lnTo>
                    <a:pt x="121" y="96"/>
                  </a:lnTo>
                  <a:lnTo>
                    <a:pt x="138" y="85"/>
                  </a:lnTo>
                  <a:lnTo>
                    <a:pt x="155" y="73"/>
                  </a:lnTo>
                  <a:lnTo>
                    <a:pt x="174" y="64"/>
                  </a:lnTo>
                  <a:lnTo>
                    <a:pt x="192" y="54"/>
                  </a:lnTo>
                  <a:lnTo>
                    <a:pt x="213" y="44"/>
                  </a:lnTo>
                  <a:lnTo>
                    <a:pt x="232" y="37"/>
                  </a:lnTo>
                  <a:lnTo>
                    <a:pt x="251" y="31"/>
                  </a:lnTo>
                  <a:lnTo>
                    <a:pt x="272" y="23"/>
                  </a:lnTo>
                  <a:lnTo>
                    <a:pt x="293" y="19"/>
                  </a:lnTo>
                  <a:lnTo>
                    <a:pt x="315" y="16"/>
                  </a:lnTo>
                  <a:lnTo>
                    <a:pt x="338" y="12"/>
                  </a:lnTo>
                  <a:lnTo>
                    <a:pt x="357" y="12"/>
                  </a:lnTo>
                  <a:lnTo>
                    <a:pt x="357" y="10"/>
                  </a:lnTo>
                  <a:lnTo>
                    <a:pt x="359" y="8"/>
                  </a:lnTo>
                  <a:lnTo>
                    <a:pt x="359" y="8"/>
                  </a:lnTo>
                  <a:lnTo>
                    <a:pt x="359" y="6"/>
                  </a:lnTo>
                  <a:lnTo>
                    <a:pt x="359" y="4"/>
                  </a:lnTo>
                  <a:lnTo>
                    <a:pt x="361" y="2"/>
                  </a:lnTo>
                  <a:lnTo>
                    <a:pt x="361" y="2"/>
                  </a:lnTo>
                  <a:lnTo>
                    <a:pt x="361" y="0"/>
                  </a:lnTo>
                  <a:close/>
                  <a:moveTo>
                    <a:pt x="0" y="677"/>
                  </a:moveTo>
                  <a:lnTo>
                    <a:pt x="0" y="679"/>
                  </a:lnTo>
                  <a:lnTo>
                    <a:pt x="11" y="697"/>
                  </a:lnTo>
                  <a:lnTo>
                    <a:pt x="23" y="714"/>
                  </a:lnTo>
                  <a:lnTo>
                    <a:pt x="36" y="731"/>
                  </a:lnTo>
                  <a:lnTo>
                    <a:pt x="52" y="747"/>
                  </a:lnTo>
                  <a:lnTo>
                    <a:pt x="65" y="764"/>
                  </a:lnTo>
                  <a:lnTo>
                    <a:pt x="80" y="777"/>
                  </a:lnTo>
                  <a:lnTo>
                    <a:pt x="98" y="793"/>
                  </a:lnTo>
                  <a:lnTo>
                    <a:pt x="115" y="804"/>
                  </a:lnTo>
                  <a:lnTo>
                    <a:pt x="132" y="818"/>
                  </a:lnTo>
                  <a:lnTo>
                    <a:pt x="149" y="829"/>
                  </a:lnTo>
                  <a:lnTo>
                    <a:pt x="169" y="841"/>
                  </a:lnTo>
                  <a:lnTo>
                    <a:pt x="188" y="850"/>
                  </a:lnTo>
                  <a:lnTo>
                    <a:pt x="207" y="858"/>
                  </a:lnTo>
                  <a:lnTo>
                    <a:pt x="228" y="867"/>
                  </a:lnTo>
                  <a:lnTo>
                    <a:pt x="249" y="873"/>
                  </a:lnTo>
                  <a:lnTo>
                    <a:pt x="270" y="879"/>
                  </a:lnTo>
                  <a:lnTo>
                    <a:pt x="291" y="885"/>
                  </a:lnTo>
                  <a:lnTo>
                    <a:pt x="315" y="889"/>
                  </a:lnTo>
                  <a:lnTo>
                    <a:pt x="336" y="892"/>
                  </a:lnTo>
                  <a:lnTo>
                    <a:pt x="359" y="892"/>
                  </a:lnTo>
                  <a:lnTo>
                    <a:pt x="378" y="894"/>
                  </a:lnTo>
                  <a:lnTo>
                    <a:pt x="376" y="892"/>
                  </a:lnTo>
                  <a:lnTo>
                    <a:pt x="376" y="890"/>
                  </a:lnTo>
                  <a:lnTo>
                    <a:pt x="376" y="890"/>
                  </a:lnTo>
                  <a:lnTo>
                    <a:pt x="376" y="889"/>
                  </a:lnTo>
                  <a:lnTo>
                    <a:pt x="374" y="887"/>
                  </a:lnTo>
                  <a:lnTo>
                    <a:pt x="374" y="887"/>
                  </a:lnTo>
                  <a:lnTo>
                    <a:pt x="374" y="885"/>
                  </a:lnTo>
                  <a:lnTo>
                    <a:pt x="374" y="883"/>
                  </a:lnTo>
                  <a:lnTo>
                    <a:pt x="359" y="883"/>
                  </a:lnTo>
                  <a:lnTo>
                    <a:pt x="338" y="881"/>
                  </a:lnTo>
                  <a:lnTo>
                    <a:pt x="315" y="879"/>
                  </a:lnTo>
                  <a:lnTo>
                    <a:pt x="293" y="875"/>
                  </a:lnTo>
                  <a:lnTo>
                    <a:pt x="272" y="869"/>
                  </a:lnTo>
                  <a:lnTo>
                    <a:pt x="251" y="864"/>
                  </a:lnTo>
                  <a:lnTo>
                    <a:pt x="232" y="856"/>
                  </a:lnTo>
                  <a:lnTo>
                    <a:pt x="213" y="848"/>
                  </a:lnTo>
                  <a:lnTo>
                    <a:pt x="192" y="841"/>
                  </a:lnTo>
                  <a:lnTo>
                    <a:pt x="174" y="831"/>
                  </a:lnTo>
                  <a:lnTo>
                    <a:pt x="155" y="819"/>
                  </a:lnTo>
                  <a:lnTo>
                    <a:pt x="138" y="808"/>
                  </a:lnTo>
                  <a:lnTo>
                    <a:pt x="121" y="796"/>
                  </a:lnTo>
                  <a:lnTo>
                    <a:pt x="103" y="783"/>
                  </a:lnTo>
                  <a:lnTo>
                    <a:pt x="88" y="770"/>
                  </a:lnTo>
                  <a:lnTo>
                    <a:pt x="73" y="756"/>
                  </a:lnTo>
                  <a:lnTo>
                    <a:pt x="59" y="741"/>
                  </a:lnTo>
                  <a:lnTo>
                    <a:pt x="46" y="724"/>
                  </a:lnTo>
                  <a:lnTo>
                    <a:pt x="32" y="708"/>
                  </a:lnTo>
                  <a:lnTo>
                    <a:pt x="21" y="691"/>
                  </a:lnTo>
                  <a:lnTo>
                    <a:pt x="9" y="674"/>
                  </a:lnTo>
                  <a:lnTo>
                    <a:pt x="0" y="658"/>
                  </a:lnTo>
                  <a:lnTo>
                    <a:pt x="0" y="660"/>
                  </a:lnTo>
                  <a:lnTo>
                    <a:pt x="0" y="662"/>
                  </a:lnTo>
                  <a:lnTo>
                    <a:pt x="0" y="666"/>
                  </a:lnTo>
                  <a:lnTo>
                    <a:pt x="0" y="668"/>
                  </a:lnTo>
                  <a:lnTo>
                    <a:pt x="0" y="670"/>
                  </a:lnTo>
                  <a:lnTo>
                    <a:pt x="0" y="674"/>
                  </a:lnTo>
                  <a:lnTo>
                    <a:pt x="0" y="676"/>
                  </a:lnTo>
                  <a:lnTo>
                    <a:pt x="0" y="677"/>
                  </a:lnTo>
                  <a:close/>
                </a:path>
              </a:pathLst>
            </a:custGeom>
            <a:solidFill>
              <a:srgbClr val="ac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Freeform 446"/>
            <p:cNvSpPr/>
            <p:nvPr/>
          </p:nvSpPr>
          <p:spPr>
            <a:xfrm>
              <a:off x="5838480" y="2520720"/>
              <a:ext cx="632880" cy="1486440"/>
            </a:xfrm>
            <a:custGeom>
              <a:avLst/>
              <a:gdLst>
                <a:gd name="textAreaLeft" fmla="*/ 0 w 632880"/>
                <a:gd name="textAreaRight" fmla="*/ 633240 w 632880"/>
                <a:gd name="textAreaTop" fmla="*/ 0 h 1486440"/>
                <a:gd name="textAreaBottom" fmla="*/ 1486800 h 1486440"/>
              </a:gdLst>
              <a:ahLst/>
              <a:rect l="textAreaLeft" t="textAreaTop" r="textAreaRight" b="textAreaBottom"/>
              <a:pathLst>
                <a:path w="376" h="883">
                  <a:moveTo>
                    <a:pt x="359" y="0"/>
                  </a:moveTo>
                  <a:lnTo>
                    <a:pt x="338" y="2"/>
                  </a:lnTo>
                  <a:lnTo>
                    <a:pt x="315" y="4"/>
                  </a:lnTo>
                  <a:lnTo>
                    <a:pt x="293" y="8"/>
                  </a:lnTo>
                  <a:lnTo>
                    <a:pt x="272" y="13"/>
                  </a:lnTo>
                  <a:lnTo>
                    <a:pt x="251" y="19"/>
                  </a:lnTo>
                  <a:lnTo>
                    <a:pt x="230" y="25"/>
                  </a:lnTo>
                  <a:lnTo>
                    <a:pt x="209" y="34"/>
                  </a:lnTo>
                  <a:lnTo>
                    <a:pt x="190" y="42"/>
                  </a:lnTo>
                  <a:lnTo>
                    <a:pt x="171" y="52"/>
                  </a:lnTo>
                  <a:lnTo>
                    <a:pt x="153" y="63"/>
                  </a:lnTo>
                  <a:lnTo>
                    <a:pt x="134" y="75"/>
                  </a:lnTo>
                  <a:lnTo>
                    <a:pt x="117" y="86"/>
                  </a:lnTo>
                  <a:lnTo>
                    <a:pt x="101" y="100"/>
                  </a:lnTo>
                  <a:lnTo>
                    <a:pt x="84" y="113"/>
                  </a:lnTo>
                  <a:lnTo>
                    <a:pt x="69" y="128"/>
                  </a:lnTo>
                  <a:lnTo>
                    <a:pt x="67" y="130"/>
                  </a:lnTo>
                  <a:lnTo>
                    <a:pt x="67" y="132"/>
                  </a:lnTo>
                  <a:lnTo>
                    <a:pt x="67" y="136"/>
                  </a:lnTo>
                  <a:lnTo>
                    <a:pt x="67" y="138"/>
                  </a:lnTo>
                  <a:lnTo>
                    <a:pt x="65" y="140"/>
                  </a:lnTo>
                  <a:lnTo>
                    <a:pt x="65" y="142"/>
                  </a:lnTo>
                  <a:lnTo>
                    <a:pt x="65" y="146"/>
                  </a:lnTo>
                  <a:lnTo>
                    <a:pt x="63" y="148"/>
                  </a:lnTo>
                  <a:lnTo>
                    <a:pt x="63" y="150"/>
                  </a:lnTo>
                  <a:lnTo>
                    <a:pt x="77" y="136"/>
                  </a:lnTo>
                  <a:lnTo>
                    <a:pt x="92" y="121"/>
                  </a:lnTo>
                  <a:lnTo>
                    <a:pt x="107" y="107"/>
                  </a:lnTo>
                  <a:lnTo>
                    <a:pt x="125" y="96"/>
                  </a:lnTo>
                  <a:lnTo>
                    <a:pt x="140" y="82"/>
                  </a:lnTo>
                  <a:lnTo>
                    <a:pt x="159" y="73"/>
                  </a:lnTo>
                  <a:lnTo>
                    <a:pt x="176" y="61"/>
                  </a:lnTo>
                  <a:lnTo>
                    <a:pt x="196" y="52"/>
                  </a:lnTo>
                  <a:lnTo>
                    <a:pt x="215" y="44"/>
                  </a:lnTo>
                  <a:lnTo>
                    <a:pt x="234" y="36"/>
                  </a:lnTo>
                  <a:lnTo>
                    <a:pt x="253" y="29"/>
                  </a:lnTo>
                  <a:lnTo>
                    <a:pt x="274" y="23"/>
                  </a:lnTo>
                  <a:lnTo>
                    <a:pt x="295" y="19"/>
                  </a:lnTo>
                  <a:lnTo>
                    <a:pt x="316" y="15"/>
                  </a:lnTo>
                  <a:lnTo>
                    <a:pt x="338" y="11"/>
                  </a:lnTo>
                  <a:lnTo>
                    <a:pt x="355" y="11"/>
                  </a:lnTo>
                  <a:lnTo>
                    <a:pt x="357" y="10"/>
                  </a:lnTo>
                  <a:lnTo>
                    <a:pt x="357" y="8"/>
                  </a:lnTo>
                  <a:lnTo>
                    <a:pt x="357" y="6"/>
                  </a:lnTo>
                  <a:lnTo>
                    <a:pt x="357" y="6"/>
                  </a:lnTo>
                  <a:lnTo>
                    <a:pt x="357" y="4"/>
                  </a:lnTo>
                  <a:lnTo>
                    <a:pt x="359" y="2"/>
                  </a:lnTo>
                  <a:lnTo>
                    <a:pt x="359" y="2"/>
                  </a:lnTo>
                  <a:lnTo>
                    <a:pt x="359" y="0"/>
                  </a:lnTo>
                  <a:close/>
                  <a:moveTo>
                    <a:pt x="0" y="662"/>
                  </a:moveTo>
                  <a:lnTo>
                    <a:pt x="4" y="670"/>
                  </a:lnTo>
                  <a:lnTo>
                    <a:pt x="15" y="687"/>
                  </a:lnTo>
                  <a:lnTo>
                    <a:pt x="29" y="706"/>
                  </a:lnTo>
                  <a:lnTo>
                    <a:pt x="40" y="721"/>
                  </a:lnTo>
                  <a:lnTo>
                    <a:pt x="55" y="739"/>
                  </a:lnTo>
                  <a:lnTo>
                    <a:pt x="69" y="754"/>
                  </a:lnTo>
                  <a:lnTo>
                    <a:pt x="84" y="767"/>
                  </a:lnTo>
                  <a:lnTo>
                    <a:pt x="101" y="781"/>
                  </a:lnTo>
                  <a:lnTo>
                    <a:pt x="117" y="794"/>
                  </a:lnTo>
                  <a:lnTo>
                    <a:pt x="134" y="808"/>
                  </a:lnTo>
                  <a:lnTo>
                    <a:pt x="153" y="819"/>
                  </a:lnTo>
                  <a:lnTo>
                    <a:pt x="171" y="829"/>
                  </a:lnTo>
                  <a:lnTo>
                    <a:pt x="190" y="838"/>
                  </a:lnTo>
                  <a:lnTo>
                    <a:pt x="209" y="848"/>
                  </a:lnTo>
                  <a:lnTo>
                    <a:pt x="230" y="856"/>
                  </a:lnTo>
                  <a:lnTo>
                    <a:pt x="251" y="863"/>
                  </a:lnTo>
                  <a:lnTo>
                    <a:pt x="272" y="869"/>
                  </a:lnTo>
                  <a:lnTo>
                    <a:pt x="293" y="873"/>
                  </a:lnTo>
                  <a:lnTo>
                    <a:pt x="315" y="877"/>
                  </a:lnTo>
                  <a:lnTo>
                    <a:pt x="338" y="881"/>
                  </a:lnTo>
                  <a:lnTo>
                    <a:pt x="359" y="883"/>
                  </a:lnTo>
                  <a:lnTo>
                    <a:pt x="376" y="883"/>
                  </a:lnTo>
                  <a:lnTo>
                    <a:pt x="374" y="881"/>
                  </a:lnTo>
                  <a:lnTo>
                    <a:pt x="374" y="881"/>
                  </a:lnTo>
                  <a:lnTo>
                    <a:pt x="374" y="879"/>
                  </a:lnTo>
                  <a:lnTo>
                    <a:pt x="374" y="877"/>
                  </a:lnTo>
                  <a:lnTo>
                    <a:pt x="372" y="875"/>
                  </a:lnTo>
                  <a:lnTo>
                    <a:pt x="372" y="875"/>
                  </a:lnTo>
                  <a:lnTo>
                    <a:pt x="372" y="873"/>
                  </a:lnTo>
                  <a:lnTo>
                    <a:pt x="372" y="871"/>
                  </a:lnTo>
                  <a:lnTo>
                    <a:pt x="361" y="871"/>
                  </a:lnTo>
                  <a:lnTo>
                    <a:pt x="338" y="869"/>
                  </a:lnTo>
                  <a:lnTo>
                    <a:pt x="316" y="867"/>
                  </a:lnTo>
                  <a:lnTo>
                    <a:pt x="295" y="863"/>
                  </a:lnTo>
                  <a:lnTo>
                    <a:pt x="274" y="858"/>
                  </a:lnTo>
                  <a:lnTo>
                    <a:pt x="253" y="852"/>
                  </a:lnTo>
                  <a:lnTo>
                    <a:pt x="234" y="846"/>
                  </a:lnTo>
                  <a:lnTo>
                    <a:pt x="215" y="838"/>
                  </a:lnTo>
                  <a:lnTo>
                    <a:pt x="196" y="829"/>
                  </a:lnTo>
                  <a:lnTo>
                    <a:pt x="176" y="819"/>
                  </a:lnTo>
                  <a:lnTo>
                    <a:pt x="159" y="810"/>
                  </a:lnTo>
                  <a:lnTo>
                    <a:pt x="140" y="798"/>
                  </a:lnTo>
                  <a:lnTo>
                    <a:pt x="125" y="787"/>
                  </a:lnTo>
                  <a:lnTo>
                    <a:pt x="107" y="773"/>
                  </a:lnTo>
                  <a:lnTo>
                    <a:pt x="92" y="760"/>
                  </a:lnTo>
                  <a:lnTo>
                    <a:pt x="77" y="746"/>
                  </a:lnTo>
                  <a:lnTo>
                    <a:pt x="63" y="731"/>
                  </a:lnTo>
                  <a:lnTo>
                    <a:pt x="50" y="716"/>
                  </a:lnTo>
                  <a:lnTo>
                    <a:pt x="36" y="698"/>
                  </a:lnTo>
                  <a:lnTo>
                    <a:pt x="25" y="681"/>
                  </a:lnTo>
                  <a:lnTo>
                    <a:pt x="13" y="664"/>
                  </a:lnTo>
                  <a:lnTo>
                    <a:pt x="4" y="647"/>
                  </a:lnTo>
                  <a:lnTo>
                    <a:pt x="0" y="641"/>
                  </a:lnTo>
                  <a:lnTo>
                    <a:pt x="0" y="645"/>
                  </a:lnTo>
                  <a:lnTo>
                    <a:pt x="0" y="647"/>
                  </a:lnTo>
                  <a:lnTo>
                    <a:pt x="0" y="648"/>
                  </a:lnTo>
                  <a:lnTo>
                    <a:pt x="0" y="652"/>
                  </a:lnTo>
                  <a:lnTo>
                    <a:pt x="0" y="654"/>
                  </a:lnTo>
                  <a:lnTo>
                    <a:pt x="0" y="656"/>
                  </a:lnTo>
                  <a:lnTo>
                    <a:pt x="0" y="660"/>
                  </a:lnTo>
                  <a:lnTo>
                    <a:pt x="0" y="662"/>
                  </a:lnTo>
                  <a:close/>
                </a:path>
              </a:pathLst>
            </a:custGeom>
            <a:solidFill>
              <a:srgbClr val="ad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Freeform 447"/>
            <p:cNvSpPr/>
            <p:nvPr/>
          </p:nvSpPr>
          <p:spPr>
            <a:xfrm>
              <a:off x="5838480" y="2530800"/>
              <a:ext cx="629640" cy="1466640"/>
            </a:xfrm>
            <a:custGeom>
              <a:avLst/>
              <a:gdLst>
                <a:gd name="textAreaLeft" fmla="*/ 0 w 629640"/>
                <a:gd name="textAreaRight" fmla="*/ 629640 w 629640"/>
                <a:gd name="textAreaTop" fmla="*/ 0 h 1466640"/>
                <a:gd name="textAreaBottom" fmla="*/ 1467000 h 1466640"/>
              </a:gdLst>
              <a:ahLst/>
              <a:rect l="textAreaLeft" t="textAreaTop" r="textAreaRight" b="textAreaBottom"/>
              <a:pathLst>
                <a:path w="374" h="871">
                  <a:moveTo>
                    <a:pt x="357" y="0"/>
                  </a:moveTo>
                  <a:lnTo>
                    <a:pt x="338" y="0"/>
                  </a:lnTo>
                  <a:lnTo>
                    <a:pt x="315" y="4"/>
                  </a:lnTo>
                  <a:lnTo>
                    <a:pt x="293" y="7"/>
                  </a:lnTo>
                  <a:lnTo>
                    <a:pt x="272" y="11"/>
                  </a:lnTo>
                  <a:lnTo>
                    <a:pt x="251" y="19"/>
                  </a:lnTo>
                  <a:lnTo>
                    <a:pt x="232" y="25"/>
                  </a:lnTo>
                  <a:lnTo>
                    <a:pt x="213" y="32"/>
                  </a:lnTo>
                  <a:lnTo>
                    <a:pt x="192" y="42"/>
                  </a:lnTo>
                  <a:lnTo>
                    <a:pt x="174" y="52"/>
                  </a:lnTo>
                  <a:lnTo>
                    <a:pt x="155" y="61"/>
                  </a:lnTo>
                  <a:lnTo>
                    <a:pt x="138" y="73"/>
                  </a:lnTo>
                  <a:lnTo>
                    <a:pt x="121" y="84"/>
                  </a:lnTo>
                  <a:lnTo>
                    <a:pt x="103" y="98"/>
                  </a:lnTo>
                  <a:lnTo>
                    <a:pt x="88" y="111"/>
                  </a:lnTo>
                  <a:lnTo>
                    <a:pt x="73" y="126"/>
                  </a:lnTo>
                  <a:lnTo>
                    <a:pt x="65" y="134"/>
                  </a:lnTo>
                  <a:lnTo>
                    <a:pt x="65" y="136"/>
                  </a:lnTo>
                  <a:lnTo>
                    <a:pt x="65" y="140"/>
                  </a:lnTo>
                  <a:lnTo>
                    <a:pt x="63" y="142"/>
                  </a:lnTo>
                  <a:lnTo>
                    <a:pt x="63" y="146"/>
                  </a:lnTo>
                  <a:lnTo>
                    <a:pt x="63" y="147"/>
                  </a:lnTo>
                  <a:lnTo>
                    <a:pt x="63" y="149"/>
                  </a:lnTo>
                  <a:lnTo>
                    <a:pt x="61" y="153"/>
                  </a:lnTo>
                  <a:lnTo>
                    <a:pt x="61" y="155"/>
                  </a:lnTo>
                  <a:lnTo>
                    <a:pt x="67" y="149"/>
                  </a:lnTo>
                  <a:lnTo>
                    <a:pt x="80" y="134"/>
                  </a:lnTo>
                  <a:lnTo>
                    <a:pt x="96" y="119"/>
                  </a:lnTo>
                  <a:lnTo>
                    <a:pt x="111" y="107"/>
                  </a:lnTo>
                  <a:lnTo>
                    <a:pt x="126" y="94"/>
                  </a:lnTo>
                  <a:lnTo>
                    <a:pt x="144" y="82"/>
                  </a:lnTo>
                  <a:lnTo>
                    <a:pt x="161" y="71"/>
                  </a:lnTo>
                  <a:lnTo>
                    <a:pt x="178" y="61"/>
                  </a:lnTo>
                  <a:lnTo>
                    <a:pt x="197" y="52"/>
                  </a:lnTo>
                  <a:lnTo>
                    <a:pt x="217" y="42"/>
                  </a:lnTo>
                  <a:lnTo>
                    <a:pt x="236" y="34"/>
                  </a:lnTo>
                  <a:lnTo>
                    <a:pt x="255" y="28"/>
                  </a:lnTo>
                  <a:lnTo>
                    <a:pt x="276" y="23"/>
                  </a:lnTo>
                  <a:lnTo>
                    <a:pt x="295" y="17"/>
                  </a:lnTo>
                  <a:lnTo>
                    <a:pt x="316" y="13"/>
                  </a:lnTo>
                  <a:lnTo>
                    <a:pt x="338" y="11"/>
                  </a:lnTo>
                  <a:lnTo>
                    <a:pt x="353" y="9"/>
                  </a:lnTo>
                  <a:lnTo>
                    <a:pt x="355" y="9"/>
                  </a:lnTo>
                  <a:lnTo>
                    <a:pt x="355" y="7"/>
                  </a:lnTo>
                  <a:lnTo>
                    <a:pt x="355" y="5"/>
                  </a:lnTo>
                  <a:lnTo>
                    <a:pt x="355" y="5"/>
                  </a:lnTo>
                  <a:lnTo>
                    <a:pt x="357" y="4"/>
                  </a:lnTo>
                  <a:lnTo>
                    <a:pt x="357" y="2"/>
                  </a:lnTo>
                  <a:lnTo>
                    <a:pt x="357" y="0"/>
                  </a:lnTo>
                  <a:lnTo>
                    <a:pt x="357" y="0"/>
                  </a:lnTo>
                  <a:close/>
                  <a:moveTo>
                    <a:pt x="0" y="646"/>
                  </a:moveTo>
                  <a:lnTo>
                    <a:pt x="9" y="662"/>
                  </a:lnTo>
                  <a:lnTo>
                    <a:pt x="21" y="679"/>
                  </a:lnTo>
                  <a:lnTo>
                    <a:pt x="32" y="696"/>
                  </a:lnTo>
                  <a:lnTo>
                    <a:pt x="46" y="712"/>
                  </a:lnTo>
                  <a:lnTo>
                    <a:pt x="59" y="729"/>
                  </a:lnTo>
                  <a:lnTo>
                    <a:pt x="73" y="744"/>
                  </a:lnTo>
                  <a:lnTo>
                    <a:pt x="88" y="758"/>
                  </a:lnTo>
                  <a:lnTo>
                    <a:pt x="103" y="771"/>
                  </a:lnTo>
                  <a:lnTo>
                    <a:pt x="121" y="784"/>
                  </a:lnTo>
                  <a:lnTo>
                    <a:pt x="138" y="796"/>
                  </a:lnTo>
                  <a:lnTo>
                    <a:pt x="155" y="807"/>
                  </a:lnTo>
                  <a:lnTo>
                    <a:pt x="174" y="819"/>
                  </a:lnTo>
                  <a:lnTo>
                    <a:pt x="192" y="829"/>
                  </a:lnTo>
                  <a:lnTo>
                    <a:pt x="213" y="836"/>
                  </a:lnTo>
                  <a:lnTo>
                    <a:pt x="232" y="844"/>
                  </a:lnTo>
                  <a:lnTo>
                    <a:pt x="251" y="852"/>
                  </a:lnTo>
                  <a:lnTo>
                    <a:pt x="272" y="857"/>
                  </a:lnTo>
                  <a:lnTo>
                    <a:pt x="293" y="863"/>
                  </a:lnTo>
                  <a:lnTo>
                    <a:pt x="315" y="867"/>
                  </a:lnTo>
                  <a:lnTo>
                    <a:pt x="338" y="869"/>
                  </a:lnTo>
                  <a:lnTo>
                    <a:pt x="359" y="871"/>
                  </a:lnTo>
                  <a:lnTo>
                    <a:pt x="374" y="871"/>
                  </a:lnTo>
                  <a:lnTo>
                    <a:pt x="372" y="869"/>
                  </a:lnTo>
                  <a:lnTo>
                    <a:pt x="372" y="869"/>
                  </a:lnTo>
                  <a:lnTo>
                    <a:pt x="372" y="867"/>
                  </a:lnTo>
                  <a:lnTo>
                    <a:pt x="372" y="865"/>
                  </a:lnTo>
                  <a:lnTo>
                    <a:pt x="370" y="865"/>
                  </a:lnTo>
                  <a:lnTo>
                    <a:pt x="370" y="863"/>
                  </a:lnTo>
                  <a:lnTo>
                    <a:pt x="370" y="861"/>
                  </a:lnTo>
                  <a:lnTo>
                    <a:pt x="370" y="861"/>
                  </a:lnTo>
                  <a:lnTo>
                    <a:pt x="361" y="859"/>
                  </a:lnTo>
                  <a:lnTo>
                    <a:pt x="338" y="859"/>
                  </a:lnTo>
                  <a:lnTo>
                    <a:pt x="316" y="855"/>
                  </a:lnTo>
                  <a:lnTo>
                    <a:pt x="295" y="852"/>
                  </a:lnTo>
                  <a:lnTo>
                    <a:pt x="276" y="848"/>
                  </a:lnTo>
                  <a:lnTo>
                    <a:pt x="255" y="842"/>
                  </a:lnTo>
                  <a:lnTo>
                    <a:pt x="236" y="834"/>
                  </a:lnTo>
                  <a:lnTo>
                    <a:pt x="217" y="827"/>
                  </a:lnTo>
                  <a:lnTo>
                    <a:pt x="197" y="819"/>
                  </a:lnTo>
                  <a:lnTo>
                    <a:pt x="178" y="809"/>
                  </a:lnTo>
                  <a:lnTo>
                    <a:pt x="161" y="800"/>
                  </a:lnTo>
                  <a:lnTo>
                    <a:pt x="144" y="788"/>
                  </a:lnTo>
                  <a:lnTo>
                    <a:pt x="126" y="777"/>
                  </a:lnTo>
                  <a:lnTo>
                    <a:pt x="111" y="763"/>
                  </a:lnTo>
                  <a:lnTo>
                    <a:pt x="96" y="750"/>
                  </a:lnTo>
                  <a:lnTo>
                    <a:pt x="80" y="736"/>
                  </a:lnTo>
                  <a:lnTo>
                    <a:pt x="67" y="721"/>
                  </a:lnTo>
                  <a:lnTo>
                    <a:pt x="53" y="706"/>
                  </a:lnTo>
                  <a:lnTo>
                    <a:pt x="40" y="690"/>
                  </a:lnTo>
                  <a:lnTo>
                    <a:pt x="29" y="673"/>
                  </a:lnTo>
                  <a:lnTo>
                    <a:pt x="17" y="656"/>
                  </a:lnTo>
                  <a:lnTo>
                    <a:pt x="7" y="639"/>
                  </a:lnTo>
                  <a:lnTo>
                    <a:pt x="0" y="625"/>
                  </a:lnTo>
                  <a:lnTo>
                    <a:pt x="0" y="627"/>
                  </a:lnTo>
                  <a:lnTo>
                    <a:pt x="0" y="629"/>
                  </a:lnTo>
                  <a:lnTo>
                    <a:pt x="0" y="633"/>
                  </a:lnTo>
                  <a:lnTo>
                    <a:pt x="0" y="635"/>
                  </a:lnTo>
                  <a:lnTo>
                    <a:pt x="0" y="639"/>
                  </a:lnTo>
                  <a:lnTo>
                    <a:pt x="0" y="641"/>
                  </a:lnTo>
                  <a:lnTo>
                    <a:pt x="0" y="642"/>
                  </a:lnTo>
                  <a:lnTo>
                    <a:pt x="0" y="646"/>
                  </a:lnTo>
                  <a:close/>
                </a:path>
              </a:pathLst>
            </a:custGeom>
            <a:solidFill>
              <a:srgbClr val="ae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Freeform 448"/>
            <p:cNvSpPr/>
            <p:nvPr/>
          </p:nvSpPr>
          <p:spPr>
            <a:xfrm>
              <a:off x="5838480" y="2539080"/>
              <a:ext cx="626400" cy="1447920"/>
            </a:xfrm>
            <a:custGeom>
              <a:avLst/>
              <a:gdLst>
                <a:gd name="textAreaLeft" fmla="*/ 0 w 626400"/>
                <a:gd name="textAreaRight" fmla="*/ 626400 w 626400"/>
                <a:gd name="textAreaTop" fmla="*/ 0 h 1447920"/>
                <a:gd name="textAreaBottom" fmla="*/ 1448280 h 1447920"/>
              </a:gdLst>
              <a:ahLst/>
              <a:rect l="textAreaLeft" t="textAreaTop" r="textAreaRight" b="textAreaBottom"/>
              <a:pathLst>
                <a:path w="372" h="860">
                  <a:moveTo>
                    <a:pt x="355" y="0"/>
                  </a:moveTo>
                  <a:lnTo>
                    <a:pt x="338" y="0"/>
                  </a:lnTo>
                  <a:lnTo>
                    <a:pt x="316" y="4"/>
                  </a:lnTo>
                  <a:lnTo>
                    <a:pt x="295" y="8"/>
                  </a:lnTo>
                  <a:lnTo>
                    <a:pt x="274" y="12"/>
                  </a:lnTo>
                  <a:lnTo>
                    <a:pt x="253" y="18"/>
                  </a:lnTo>
                  <a:lnTo>
                    <a:pt x="234" y="25"/>
                  </a:lnTo>
                  <a:lnTo>
                    <a:pt x="215" y="33"/>
                  </a:lnTo>
                  <a:lnTo>
                    <a:pt x="196" y="41"/>
                  </a:lnTo>
                  <a:lnTo>
                    <a:pt x="176" y="50"/>
                  </a:lnTo>
                  <a:lnTo>
                    <a:pt x="159" y="62"/>
                  </a:lnTo>
                  <a:lnTo>
                    <a:pt x="140" y="71"/>
                  </a:lnTo>
                  <a:lnTo>
                    <a:pt x="125" y="85"/>
                  </a:lnTo>
                  <a:lnTo>
                    <a:pt x="107" y="96"/>
                  </a:lnTo>
                  <a:lnTo>
                    <a:pt x="92" y="110"/>
                  </a:lnTo>
                  <a:lnTo>
                    <a:pt x="77" y="125"/>
                  </a:lnTo>
                  <a:lnTo>
                    <a:pt x="63" y="139"/>
                  </a:lnTo>
                  <a:lnTo>
                    <a:pt x="63" y="142"/>
                  </a:lnTo>
                  <a:lnTo>
                    <a:pt x="63" y="144"/>
                  </a:lnTo>
                  <a:lnTo>
                    <a:pt x="61" y="148"/>
                  </a:lnTo>
                  <a:lnTo>
                    <a:pt x="61" y="150"/>
                  </a:lnTo>
                  <a:lnTo>
                    <a:pt x="61" y="152"/>
                  </a:lnTo>
                  <a:lnTo>
                    <a:pt x="59" y="156"/>
                  </a:lnTo>
                  <a:lnTo>
                    <a:pt x="59" y="158"/>
                  </a:lnTo>
                  <a:lnTo>
                    <a:pt x="59" y="162"/>
                  </a:lnTo>
                  <a:lnTo>
                    <a:pt x="71" y="146"/>
                  </a:lnTo>
                  <a:lnTo>
                    <a:pt x="84" y="133"/>
                  </a:lnTo>
                  <a:lnTo>
                    <a:pt x="100" y="119"/>
                  </a:lnTo>
                  <a:lnTo>
                    <a:pt x="115" y="106"/>
                  </a:lnTo>
                  <a:lnTo>
                    <a:pt x="130" y="93"/>
                  </a:lnTo>
                  <a:lnTo>
                    <a:pt x="148" y="81"/>
                  </a:lnTo>
                  <a:lnTo>
                    <a:pt x="163" y="70"/>
                  </a:lnTo>
                  <a:lnTo>
                    <a:pt x="182" y="60"/>
                  </a:lnTo>
                  <a:lnTo>
                    <a:pt x="199" y="50"/>
                  </a:lnTo>
                  <a:lnTo>
                    <a:pt x="219" y="43"/>
                  </a:lnTo>
                  <a:lnTo>
                    <a:pt x="238" y="35"/>
                  </a:lnTo>
                  <a:lnTo>
                    <a:pt x="257" y="27"/>
                  </a:lnTo>
                  <a:lnTo>
                    <a:pt x="276" y="23"/>
                  </a:lnTo>
                  <a:lnTo>
                    <a:pt x="297" y="18"/>
                  </a:lnTo>
                  <a:lnTo>
                    <a:pt x="318" y="14"/>
                  </a:lnTo>
                  <a:lnTo>
                    <a:pt x="339" y="12"/>
                  </a:lnTo>
                  <a:lnTo>
                    <a:pt x="353" y="10"/>
                  </a:lnTo>
                  <a:lnTo>
                    <a:pt x="353" y="10"/>
                  </a:lnTo>
                  <a:lnTo>
                    <a:pt x="353" y="8"/>
                  </a:lnTo>
                  <a:lnTo>
                    <a:pt x="353" y="6"/>
                  </a:lnTo>
                  <a:lnTo>
                    <a:pt x="353" y="4"/>
                  </a:lnTo>
                  <a:lnTo>
                    <a:pt x="355" y="4"/>
                  </a:lnTo>
                  <a:lnTo>
                    <a:pt x="355" y="2"/>
                  </a:lnTo>
                  <a:lnTo>
                    <a:pt x="355" y="0"/>
                  </a:lnTo>
                  <a:lnTo>
                    <a:pt x="355" y="0"/>
                  </a:lnTo>
                  <a:close/>
                  <a:moveTo>
                    <a:pt x="0" y="630"/>
                  </a:moveTo>
                  <a:lnTo>
                    <a:pt x="4" y="636"/>
                  </a:lnTo>
                  <a:lnTo>
                    <a:pt x="13" y="653"/>
                  </a:lnTo>
                  <a:lnTo>
                    <a:pt x="25" y="670"/>
                  </a:lnTo>
                  <a:lnTo>
                    <a:pt x="36" y="687"/>
                  </a:lnTo>
                  <a:lnTo>
                    <a:pt x="50" y="705"/>
                  </a:lnTo>
                  <a:lnTo>
                    <a:pt x="63" y="720"/>
                  </a:lnTo>
                  <a:lnTo>
                    <a:pt x="77" y="735"/>
                  </a:lnTo>
                  <a:lnTo>
                    <a:pt x="92" y="749"/>
                  </a:lnTo>
                  <a:lnTo>
                    <a:pt x="107" y="762"/>
                  </a:lnTo>
                  <a:lnTo>
                    <a:pt x="125" y="776"/>
                  </a:lnTo>
                  <a:lnTo>
                    <a:pt x="140" y="787"/>
                  </a:lnTo>
                  <a:lnTo>
                    <a:pt x="159" y="799"/>
                  </a:lnTo>
                  <a:lnTo>
                    <a:pt x="176" y="808"/>
                  </a:lnTo>
                  <a:lnTo>
                    <a:pt x="196" y="818"/>
                  </a:lnTo>
                  <a:lnTo>
                    <a:pt x="215" y="827"/>
                  </a:lnTo>
                  <a:lnTo>
                    <a:pt x="234" y="835"/>
                  </a:lnTo>
                  <a:lnTo>
                    <a:pt x="253" y="841"/>
                  </a:lnTo>
                  <a:lnTo>
                    <a:pt x="274" y="847"/>
                  </a:lnTo>
                  <a:lnTo>
                    <a:pt x="295" y="852"/>
                  </a:lnTo>
                  <a:lnTo>
                    <a:pt x="316" y="856"/>
                  </a:lnTo>
                  <a:lnTo>
                    <a:pt x="338" y="858"/>
                  </a:lnTo>
                  <a:lnTo>
                    <a:pt x="361" y="860"/>
                  </a:lnTo>
                  <a:lnTo>
                    <a:pt x="372" y="860"/>
                  </a:lnTo>
                  <a:lnTo>
                    <a:pt x="370" y="860"/>
                  </a:lnTo>
                  <a:lnTo>
                    <a:pt x="370" y="858"/>
                  </a:lnTo>
                  <a:lnTo>
                    <a:pt x="370" y="856"/>
                  </a:lnTo>
                  <a:lnTo>
                    <a:pt x="370" y="856"/>
                  </a:lnTo>
                  <a:lnTo>
                    <a:pt x="368" y="854"/>
                  </a:lnTo>
                  <a:lnTo>
                    <a:pt x="368" y="852"/>
                  </a:lnTo>
                  <a:lnTo>
                    <a:pt x="368" y="850"/>
                  </a:lnTo>
                  <a:lnTo>
                    <a:pt x="368" y="850"/>
                  </a:lnTo>
                  <a:lnTo>
                    <a:pt x="361" y="850"/>
                  </a:lnTo>
                  <a:lnTo>
                    <a:pt x="339" y="849"/>
                  </a:lnTo>
                  <a:lnTo>
                    <a:pt x="318" y="845"/>
                  </a:lnTo>
                  <a:lnTo>
                    <a:pt x="297" y="841"/>
                  </a:lnTo>
                  <a:lnTo>
                    <a:pt x="276" y="837"/>
                  </a:lnTo>
                  <a:lnTo>
                    <a:pt x="257" y="831"/>
                  </a:lnTo>
                  <a:lnTo>
                    <a:pt x="238" y="825"/>
                  </a:lnTo>
                  <a:lnTo>
                    <a:pt x="219" y="818"/>
                  </a:lnTo>
                  <a:lnTo>
                    <a:pt x="199" y="808"/>
                  </a:lnTo>
                  <a:lnTo>
                    <a:pt x="182" y="799"/>
                  </a:lnTo>
                  <a:lnTo>
                    <a:pt x="163" y="789"/>
                  </a:lnTo>
                  <a:lnTo>
                    <a:pt x="148" y="778"/>
                  </a:lnTo>
                  <a:lnTo>
                    <a:pt x="130" y="766"/>
                  </a:lnTo>
                  <a:lnTo>
                    <a:pt x="115" y="754"/>
                  </a:lnTo>
                  <a:lnTo>
                    <a:pt x="100" y="741"/>
                  </a:lnTo>
                  <a:lnTo>
                    <a:pt x="84" y="728"/>
                  </a:lnTo>
                  <a:lnTo>
                    <a:pt x="71" y="712"/>
                  </a:lnTo>
                  <a:lnTo>
                    <a:pt x="57" y="697"/>
                  </a:lnTo>
                  <a:lnTo>
                    <a:pt x="46" y="682"/>
                  </a:lnTo>
                  <a:lnTo>
                    <a:pt x="32" y="664"/>
                  </a:lnTo>
                  <a:lnTo>
                    <a:pt x="23" y="647"/>
                  </a:lnTo>
                  <a:lnTo>
                    <a:pt x="11" y="630"/>
                  </a:lnTo>
                  <a:lnTo>
                    <a:pt x="4" y="613"/>
                  </a:lnTo>
                  <a:lnTo>
                    <a:pt x="2" y="609"/>
                  </a:lnTo>
                  <a:lnTo>
                    <a:pt x="2" y="611"/>
                  </a:lnTo>
                  <a:lnTo>
                    <a:pt x="2" y="614"/>
                  </a:lnTo>
                  <a:lnTo>
                    <a:pt x="2" y="616"/>
                  </a:lnTo>
                  <a:lnTo>
                    <a:pt x="0" y="620"/>
                  </a:lnTo>
                  <a:lnTo>
                    <a:pt x="0" y="622"/>
                  </a:lnTo>
                  <a:lnTo>
                    <a:pt x="0" y="624"/>
                  </a:lnTo>
                  <a:lnTo>
                    <a:pt x="0" y="628"/>
                  </a:lnTo>
                  <a:lnTo>
                    <a:pt x="0" y="630"/>
                  </a:lnTo>
                  <a:close/>
                </a:path>
              </a:pathLst>
            </a:custGeom>
            <a:solidFill>
              <a:srgbClr val="a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Freeform 449"/>
            <p:cNvSpPr/>
            <p:nvPr/>
          </p:nvSpPr>
          <p:spPr>
            <a:xfrm>
              <a:off x="5838480" y="2545920"/>
              <a:ext cx="623160" cy="1434600"/>
            </a:xfrm>
            <a:custGeom>
              <a:avLst/>
              <a:gdLst>
                <a:gd name="textAreaLeft" fmla="*/ 0 w 623160"/>
                <a:gd name="textAreaRight" fmla="*/ 623520 w 623160"/>
                <a:gd name="textAreaTop" fmla="*/ 0 h 1434600"/>
                <a:gd name="textAreaBottom" fmla="*/ 1434960 h 1434600"/>
              </a:gdLst>
              <a:ahLst/>
              <a:rect l="textAreaLeft" t="textAreaTop" r="textAreaRight" b="textAreaBottom"/>
              <a:pathLst>
                <a:path w="370" h="852">
                  <a:moveTo>
                    <a:pt x="353" y="0"/>
                  </a:moveTo>
                  <a:lnTo>
                    <a:pt x="338" y="2"/>
                  </a:lnTo>
                  <a:lnTo>
                    <a:pt x="316" y="4"/>
                  </a:lnTo>
                  <a:lnTo>
                    <a:pt x="295" y="8"/>
                  </a:lnTo>
                  <a:lnTo>
                    <a:pt x="276" y="14"/>
                  </a:lnTo>
                  <a:lnTo>
                    <a:pt x="255" y="19"/>
                  </a:lnTo>
                  <a:lnTo>
                    <a:pt x="236" y="25"/>
                  </a:lnTo>
                  <a:lnTo>
                    <a:pt x="217" y="33"/>
                  </a:lnTo>
                  <a:lnTo>
                    <a:pt x="197" y="43"/>
                  </a:lnTo>
                  <a:lnTo>
                    <a:pt x="178" y="52"/>
                  </a:lnTo>
                  <a:lnTo>
                    <a:pt x="161" y="62"/>
                  </a:lnTo>
                  <a:lnTo>
                    <a:pt x="144" y="73"/>
                  </a:lnTo>
                  <a:lnTo>
                    <a:pt x="126" y="85"/>
                  </a:lnTo>
                  <a:lnTo>
                    <a:pt x="111" y="98"/>
                  </a:lnTo>
                  <a:lnTo>
                    <a:pt x="96" y="110"/>
                  </a:lnTo>
                  <a:lnTo>
                    <a:pt x="80" y="125"/>
                  </a:lnTo>
                  <a:lnTo>
                    <a:pt x="67" y="140"/>
                  </a:lnTo>
                  <a:lnTo>
                    <a:pt x="61" y="146"/>
                  </a:lnTo>
                  <a:lnTo>
                    <a:pt x="61" y="148"/>
                  </a:lnTo>
                  <a:lnTo>
                    <a:pt x="59" y="152"/>
                  </a:lnTo>
                  <a:lnTo>
                    <a:pt x="59" y="154"/>
                  </a:lnTo>
                  <a:lnTo>
                    <a:pt x="59" y="158"/>
                  </a:lnTo>
                  <a:lnTo>
                    <a:pt x="57" y="160"/>
                  </a:lnTo>
                  <a:lnTo>
                    <a:pt x="57" y="163"/>
                  </a:lnTo>
                  <a:lnTo>
                    <a:pt x="57" y="165"/>
                  </a:lnTo>
                  <a:lnTo>
                    <a:pt x="55" y="169"/>
                  </a:lnTo>
                  <a:lnTo>
                    <a:pt x="61" y="161"/>
                  </a:lnTo>
                  <a:lnTo>
                    <a:pt x="88" y="133"/>
                  </a:lnTo>
                  <a:lnTo>
                    <a:pt x="117" y="106"/>
                  </a:lnTo>
                  <a:lnTo>
                    <a:pt x="149" y="81"/>
                  </a:lnTo>
                  <a:lnTo>
                    <a:pt x="167" y="71"/>
                  </a:lnTo>
                  <a:lnTo>
                    <a:pt x="184" y="62"/>
                  </a:lnTo>
                  <a:lnTo>
                    <a:pt x="201" y="52"/>
                  </a:lnTo>
                  <a:lnTo>
                    <a:pt x="220" y="43"/>
                  </a:lnTo>
                  <a:lnTo>
                    <a:pt x="240" y="37"/>
                  </a:lnTo>
                  <a:lnTo>
                    <a:pt x="259" y="29"/>
                  </a:lnTo>
                  <a:lnTo>
                    <a:pt x="278" y="23"/>
                  </a:lnTo>
                  <a:lnTo>
                    <a:pt x="297" y="19"/>
                  </a:lnTo>
                  <a:lnTo>
                    <a:pt x="318" y="16"/>
                  </a:lnTo>
                  <a:lnTo>
                    <a:pt x="339" y="14"/>
                  </a:lnTo>
                  <a:lnTo>
                    <a:pt x="351" y="12"/>
                  </a:lnTo>
                  <a:lnTo>
                    <a:pt x="351" y="10"/>
                  </a:lnTo>
                  <a:lnTo>
                    <a:pt x="351" y="10"/>
                  </a:lnTo>
                  <a:lnTo>
                    <a:pt x="351" y="8"/>
                  </a:lnTo>
                  <a:lnTo>
                    <a:pt x="353" y="6"/>
                  </a:lnTo>
                  <a:lnTo>
                    <a:pt x="353" y="6"/>
                  </a:lnTo>
                  <a:lnTo>
                    <a:pt x="353" y="4"/>
                  </a:lnTo>
                  <a:lnTo>
                    <a:pt x="353" y="2"/>
                  </a:lnTo>
                  <a:lnTo>
                    <a:pt x="353" y="0"/>
                  </a:lnTo>
                  <a:close/>
                  <a:moveTo>
                    <a:pt x="0" y="616"/>
                  </a:moveTo>
                  <a:lnTo>
                    <a:pt x="7" y="630"/>
                  </a:lnTo>
                  <a:lnTo>
                    <a:pt x="17" y="647"/>
                  </a:lnTo>
                  <a:lnTo>
                    <a:pt x="29" y="664"/>
                  </a:lnTo>
                  <a:lnTo>
                    <a:pt x="40" y="681"/>
                  </a:lnTo>
                  <a:lnTo>
                    <a:pt x="53" y="697"/>
                  </a:lnTo>
                  <a:lnTo>
                    <a:pt x="67" y="712"/>
                  </a:lnTo>
                  <a:lnTo>
                    <a:pt x="80" y="727"/>
                  </a:lnTo>
                  <a:lnTo>
                    <a:pt x="96" y="741"/>
                  </a:lnTo>
                  <a:lnTo>
                    <a:pt x="111" y="754"/>
                  </a:lnTo>
                  <a:lnTo>
                    <a:pt x="126" y="768"/>
                  </a:lnTo>
                  <a:lnTo>
                    <a:pt x="144" y="779"/>
                  </a:lnTo>
                  <a:lnTo>
                    <a:pt x="161" y="791"/>
                  </a:lnTo>
                  <a:lnTo>
                    <a:pt x="178" y="800"/>
                  </a:lnTo>
                  <a:lnTo>
                    <a:pt x="197" y="810"/>
                  </a:lnTo>
                  <a:lnTo>
                    <a:pt x="217" y="818"/>
                  </a:lnTo>
                  <a:lnTo>
                    <a:pt x="236" y="825"/>
                  </a:lnTo>
                  <a:lnTo>
                    <a:pt x="255" y="833"/>
                  </a:lnTo>
                  <a:lnTo>
                    <a:pt x="276" y="839"/>
                  </a:lnTo>
                  <a:lnTo>
                    <a:pt x="295" y="843"/>
                  </a:lnTo>
                  <a:lnTo>
                    <a:pt x="316" y="846"/>
                  </a:lnTo>
                  <a:lnTo>
                    <a:pt x="338" y="850"/>
                  </a:lnTo>
                  <a:lnTo>
                    <a:pt x="361" y="850"/>
                  </a:lnTo>
                  <a:lnTo>
                    <a:pt x="370" y="852"/>
                  </a:lnTo>
                  <a:lnTo>
                    <a:pt x="368" y="850"/>
                  </a:lnTo>
                  <a:lnTo>
                    <a:pt x="368" y="848"/>
                  </a:lnTo>
                  <a:lnTo>
                    <a:pt x="368" y="846"/>
                  </a:lnTo>
                  <a:lnTo>
                    <a:pt x="368" y="846"/>
                  </a:lnTo>
                  <a:lnTo>
                    <a:pt x="366" y="845"/>
                  </a:lnTo>
                  <a:lnTo>
                    <a:pt x="366" y="843"/>
                  </a:lnTo>
                  <a:lnTo>
                    <a:pt x="366" y="843"/>
                  </a:lnTo>
                  <a:lnTo>
                    <a:pt x="366" y="841"/>
                  </a:lnTo>
                  <a:lnTo>
                    <a:pt x="361" y="841"/>
                  </a:lnTo>
                  <a:lnTo>
                    <a:pt x="339" y="839"/>
                  </a:lnTo>
                  <a:lnTo>
                    <a:pt x="318" y="837"/>
                  </a:lnTo>
                  <a:lnTo>
                    <a:pt x="297" y="833"/>
                  </a:lnTo>
                  <a:lnTo>
                    <a:pt x="278" y="827"/>
                  </a:lnTo>
                  <a:lnTo>
                    <a:pt x="259" y="821"/>
                  </a:lnTo>
                  <a:lnTo>
                    <a:pt x="240" y="816"/>
                  </a:lnTo>
                  <a:lnTo>
                    <a:pt x="220" y="808"/>
                  </a:lnTo>
                  <a:lnTo>
                    <a:pt x="201" y="800"/>
                  </a:lnTo>
                  <a:lnTo>
                    <a:pt x="184" y="791"/>
                  </a:lnTo>
                  <a:lnTo>
                    <a:pt x="167" y="781"/>
                  </a:lnTo>
                  <a:lnTo>
                    <a:pt x="149" y="770"/>
                  </a:lnTo>
                  <a:lnTo>
                    <a:pt x="117" y="747"/>
                  </a:lnTo>
                  <a:lnTo>
                    <a:pt x="88" y="720"/>
                  </a:lnTo>
                  <a:lnTo>
                    <a:pt x="61" y="689"/>
                  </a:lnTo>
                  <a:lnTo>
                    <a:pt x="38" y="658"/>
                  </a:lnTo>
                  <a:lnTo>
                    <a:pt x="27" y="641"/>
                  </a:lnTo>
                  <a:lnTo>
                    <a:pt x="17" y="624"/>
                  </a:lnTo>
                  <a:lnTo>
                    <a:pt x="7" y="607"/>
                  </a:lnTo>
                  <a:lnTo>
                    <a:pt x="2" y="593"/>
                  </a:lnTo>
                  <a:lnTo>
                    <a:pt x="2" y="595"/>
                  </a:lnTo>
                  <a:lnTo>
                    <a:pt x="2" y="599"/>
                  </a:lnTo>
                  <a:lnTo>
                    <a:pt x="2" y="601"/>
                  </a:lnTo>
                  <a:lnTo>
                    <a:pt x="2" y="605"/>
                  </a:lnTo>
                  <a:lnTo>
                    <a:pt x="2" y="607"/>
                  </a:lnTo>
                  <a:lnTo>
                    <a:pt x="2" y="610"/>
                  </a:lnTo>
                  <a:lnTo>
                    <a:pt x="2" y="612"/>
                  </a:lnTo>
                  <a:lnTo>
                    <a:pt x="0" y="616"/>
                  </a:lnTo>
                  <a:close/>
                </a:path>
              </a:pathLst>
            </a:custGeom>
            <a:solidFill>
              <a:srgbClr val="b0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Freeform 450"/>
            <p:cNvSpPr/>
            <p:nvPr/>
          </p:nvSpPr>
          <p:spPr>
            <a:xfrm>
              <a:off x="5842080" y="2556000"/>
              <a:ext cx="616320" cy="1414080"/>
            </a:xfrm>
            <a:custGeom>
              <a:avLst/>
              <a:gdLst>
                <a:gd name="textAreaLeft" fmla="*/ 0 w 616320"/>
                <a:gd name="textAreaRight" fmla="*/ 616680 w 616320"/>
                <a:gd name="textAreaTop" fmla="*/ 0 h 1414080"/>
                <a:gd name="textAreaBottom" fmla="*/ 1414440 h 1414080"/>
              </a:gdLst>
              <a:ahLst/>
              <a:rect l="textAreaLeft" t="textAreaTop" r="textAreaRight" b="textAreaBottom"/>
              <a:pathLst>
                <a:path w="366" h="840">
                  <a:moveTo>
                    <a:pt x="351" y="0"/>
                  </a:moveTo>
                  <a:lnTo>
                    <a:pt x="337" y="2"/>
                  </a:lnTo>
                  <a:lnTo>
                    <a:pt x="316" y="4"/>
                  </a:lnTo>
                  <a:lnTo>
                    <a:pt x="295" y="8"/>
                  </a:lnTo>
                  <a:lnTo>
                    <a:pt x="274" y="13"/>
                  </a:lnTo>
                  <a:lnTo>
                    <a:pt x="255" y="17"/>
                  </a:lnTo>
                  <a:lnTo>
                    <a:pt x="236" y="25"/>
                  </a:lnTo>
                  <a:lnTo>
                    <a:pt x="217" y="33"/>
                  </a:lnTo>
                  <a:lnTo>
                    <a:pt x="197" y="40"/>
                  </a:lnTo>
                  <a:lnTo>
                    <a:pt x="180" y="50"/>
                  </a:lnTo>
                  <a:lnTo>
                    <a:pt x="161" y="60"/>
                  </a:lnTo>
                  <a:lnTo>
                    <a:pt x="146" y="71"/>
                  </a:lnTo>
                  <a:lnTo>
                    <a:pt x="128" y="83"/>
                  </a:lnTo>
                  <a:lnTo>
                    <a:pt x="113" y="96"/>
                  </a:lnTo>
                  <a:lnTo>
                    <a:pt x="98" y="109"/>
                  </a:lnTo>
                  <a:lnTo>
                    <a:pt x="82" y="123"/>
                  </a:lnTo>
                  <a:lnTo>
                    <a:pt x="69" y="136"/>
                  </a:lnTo>
                  <a:lnTo>
                    <a:pt x="57" y="152"/>
                  </a:lnTo>
                  <a:lnTo>
                    <a:pt x="55" y="154"/>
                  </a:lnTo>
                  <a:lnTo>
                    <a:pt x="55" y="157"/>
                  </a:lnTo>
                  <a:lnTo>
                    <a:pt x="55" y="159"/>
                  </a:lnTo>
                  <a:lnTo>
                    <a:pt x="53" y="163"/>
                  </a:lnTo>
                  <a:lnTo>
                    <a:pt x="53" y="165"/>
                  </a:lnTo>
                  <a:lnTo>
                    <a:pt x="53" y="169"/>
                  </a:lnTo>
                  <a:lnTo>
                    <a:pt x="51" y="173"/>
                  </a:lnTo>
                  <a:lnTo>
                    <a:pt x="51" y="175"/>
                  </a:lnTo>
                  <a:lnTo>
                    <a:pt x="63" y="159"/>
                  </a:lnTo>
                  <a:lnTo>
                    <a:pt x="90" y="131"/>
                  </a:lnTo>
                  <a:lnTo>
                    <a:pt x="119" y="104"/>
                  </a:lnTo>
                  <a:lnTo>
                    <a:pt x="151" y="81"/>
                  </a:lnTo>
                  <a:lnTo>
                    <a:pt x="167" y="69"/>
                  </a:lnTo>
                  <a:lnTo>
                    <a:pt x="184" y="60"/>
                  </a:lnTo>
                  <a:lnTo>
                    <a:pt x="203" y="50"/>
                  </a:lnTo>
                  <a:lnTo>
                    <a:pt x="220" y="42"/>
                  </a:lnTo>
                  <a:lnTo>
                    <a:pt x="240" y="35"/>
                  </a:lnTo>
                  <a:lnTo>
                    <a:pt x="259" y="29"/>
                  </a:lnTo>
                  <a:lnTo>
                    <a:pt x="278" y="23"/>
                  </a:lnTo>
                  <a:lnTo>
                    <a:pt x="297" y="19"/>
                  </a:lnTo>
                  <a:lnTo>
                    <a:pt x="318" y="15"/>
                  </a:lnTo>
                  <a:lnTo>
                    <a:pt x="337" y="12"/>
                  </a:lnTo>
                  <a:lnTo>
                    <a:pt x="347" y="12"/>
                  </a:lnTo>
                  <a:lnTo>
                    <a:pt x="347" y="10"/>
                  </a:lnTo>
                  <a:lnTo>
                    <a:pt x="347" y="10"/>
                  </a:lnTo>
                  <a:lnTo>
                    <a:pt x="347" y="8"/>
                  </a:lnTo>
                  <a:lnTo>
                    <a:pt x="349" y="6"/>
                  </a:lnTo>
                  <a:lnTo>
                    <a:pt x="349" y="4"/>
                  </a:lnTo>
                  <a:lnTo>
                    <a:pt x="349" y="4"/>
                  </a:lnTo>
                  <a:lnTo>
                    <a:pt x="349" y="2"/>
                  </a:lnTo>
                  <a:lnTo>
                    <a:pt x="351" y="0"/>
                  </a:lnTo>
                  <a:close/>
                  <a:moveTo>
                    <a:pt x="0" y="599"/>
                  </a:moveTo>
                  <a:lnTo>
                    <a:pt x="2" y="603"/>
                  </a:lnTo>
                  <a:lnTo>
                    <a:pt x="9" y="620"/>
                  </a:lnTo>
                  <a:lnTo>
                    <a:pt x="21" y="637"/>
                  </a:lnTo>
                  <a:lnTo>
                    <a:pt x="30" y="654"/>
                  </a:lnTo>
                  <a:lnTo>
                    <a:pt x="44" y="672"/>
                  </a:lnTo>
                  <a:lnTo>
                    <a:pt x="55" y="687"/>
                  </a:lnTo>
                  <a:lnTo>
                    <a:pt x="69" y="702"/>
                  </a:lnTo>
                  <a:lnTo>
                    <a:pt x="82" y="718"/>
                  </a:lnTo>
                  <a:lnTo>
                    <a:pt x="98" y="731"/>
                  </a:lnTo>
                  <a:lnTo>
                    <a:pt x="113" y="744"/>
                  </a:lnTo>
                  <a:lnTo>
                    <a:pt x="128" y="756"/>
                  </a:lnTo>
                  <a:lnTo>
                    <a:pt x="146" y="768"/>
                  </a:lnTo>
                  <a:lnTo>
                    <a:pt x="161" y="779"/>
                  </a:lnTo>
                  <a:lnTo>
                    <a:pt x="180" y="789"/>
                  </a:lnTo>
                  <a:lnTo>
                    <a:pt x="197" y="798"/>
                  </a:lnTo>
                  <a:lnTo>
                    <a:pt x="217" y="808"/>
                  </a:lnTo>
                  <a:lnTo>
                    <a:pt x="236" y="815"/>
                  </a:lnTo>
                  <a:lnTo>
                    <a:pt x="255" y="821"/>
                  </a:lnTo>
                  <a:lnTo>
                    <a:pt x="274" y="827"/>
                  </a:lnTo>
                  <a:lnTo>
                    <a:pt x="295" y="831"/>
                  </a:lnTo>
                  <a:lnTo>
                    <a:pt x="316" y="835"/>
                  </a:lnTo>
                  <a:lnTo>
                    <a:pt x="337" y="839"/>
                  </a:lnTo>
                  <a:lnTo>
                    <a:pt x="359" y="840"/>
                  </a:lnTo>
                  <a:lnTo>
                    <a:pt x="366" y="840"/>
                  </a:lnTo>
                  <a:lnTo>
                    <a:pt x="364" y="839"/>
                  </a:lnTo>
                  <a:lnTo>
                    <a:pt x="364" y="837"/>
                  </a:lnTo>
                  <a:lnTo>
                    <a:pt x="364" y="837"/>
                  </a:lnTo>
                  <a:lnTo>
                    <a:pt x="364" y="835"/>
                  </a:lnTo>
                  <a:lnTo>
                    <a:pt x="362" y="833"/>
                  </a:lnTo>
                  <a:lnTo>
                    <a:pt x="362" y="833"/>
                  </a:lnTo>
                  <a:lnTo>
                    <a:pt x="362" y="831"/>
                  </a:lnTo>
                  <a:lnTo>
                    <a:pt x="362" y="829"/>
                  </a:lnTo>
                  <a:lnTo>
                    <a:pt x="359" y="829"/>
                  </a:lnTo>
                  <a:lnTo>
                    <a:pt x="337" y="827"/>
                  </a:lnTo>
                  <a:lnTo>
                    <a:pt x="318" y="825"/>
                  </a:lnTo>
                  <a:lnTo>
                    <a:pt x="297" y="821"/>
                  </a:lnTo>
                  <a:lnTo>
                    <a:pt x="278" y="817"/>
                  </a:lnTo>
                  <a:lnTo>
                    <a:pt x="259" y="812"/>
                  </a:lnTo>
                  <a:lnTo>
                    <a:pt x="240" y="804"/>
                  </a:lnTo>
                  <a:lnTo>
                    <a:pt x="220" y="798"/>
                  </a:lnTo>
                  <a:lnTo>
                    <a:pt x="203" y="789"/>
                  </a:lnTo>
                  <a:lnTo>
                    <a:pt x="184" y="781"/>
                  </a:lnTo>
                  <a:lnTo>
                    <a:pt x="167" y="769"/>
                  </a:lnTo>
                  <a:lnTo>
                    <a:pt x="151" y="760"/>
                  </a:lnTo>
                  <a:lnTo>
                    <a:pt x="119" y="737"/>
                  </a:lnTo>
                  <a:lnTo>
                    <a:pt x="90" y="710"/>
                  </a:lnTo>
                  <a:lnTo>
                    <a:pt x="63" y="681"/>
                  </a:lnTo>
                  <a:lnTo>
                    <a:pt x="40" y="649"/>
                  </a:lnTo>
                  <a:lnTo>
                    <a:pt x="28" y="633"/>
                  </a:lnTo>
                  <a:lnTo>
                    <a:pt x="19" y="616"/>
                  </a:lnTo>
                  <a:lnTo>
                    <a:pt x="11" y="597"/>
                  </a:lnTo>
                  <a:lnTo>
                    <a:pt x="2" y="579"/>
                  </a:lnTo>
                  <a:lnTo>
                    <a:pt x="0" y="574"/>
                  </a:lnTo>
                  <a:lnTo>
                    <a:pt x="0" y="578"/>
                  </a:lnTo>
                  <a:lnTo>
                    <a:pt x="0" y="581"/>
                  </a:lnTo>
                  <a:lnTo>
                    <a:pt x="0" y="583"/>
                  </a:lnTo>
                  <a:lnTo>
                    <a:pt x="0" y="587"/>
                  </a:lnTo>
                  <a:lnTo>
                    <a:pt x="0" y="589"/>
                  </a:lnTo>
                  <a:lnTo>
                    <a:pt x="0" y="593"/>
                  </a:lnTo>
                  <a:lnTo>
                    <a:pt x="0" y="595"/>
                  </a:lnTo>
                  <a:lnTo>
                    <a:pt x="0" y="599"/>
                  </a:lnTo>
                  <a:close/>
                </a:path>
              </a:pathLst>
            </a:custGeom>
            <a:solidFill>
              <a:srgbClr val="b1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Freeform 451"/>
            <p:cNvSpPr/>
            <p:nvPr/>
          </p:nvSpPr>
          <p:spPr>
            <a:xfrm>
              <a:off x="5842080" y="2566440"/>
              <a:ext cx="612720" cy="1395360"/>
            </a:xfrm>
            <a:custGeom>
              <a:avLst/>
              <a:gdLst>
                <a:gd name="textAreaLeft" fmla="*/ 0 w 612720"/>
                <a:gd name="textAreaRight" fmla="*/ 613080 w 612720"/>
                <a:gd name="textAreaTop" fmla="*/ 0 h 1395360"/>
                <a:gd name="textAreaBottom" fmla="*/ 1395720 h 1395360"/>
              </a:gdLst>
              <a:ahLst/>
              <a:rect l="textAreaLeft" t="textAreaTop" r="textAreaRight" b="textAreaBottom"/>
              <a:pathLst>
                <a:path w="364" h="829">
                  <a:moveTo>
                    <a:pt x="349" y="0"/>
                  </a:moveTo>
                  <a:lnTo>
                    <a:pt x="337" y="2"/>
                  </a:lnTo>
                  <a:lnTo>
                    <a:pt x="316" y="4"/>
                  </a:lnTo>
                  <a:lnTo>
                    <a:pt x="295" y="7"/>
                  </a:lnTo>
                  <a:lnTo>
                    <a:pt x="276" y="11"/>
                  </a:lnTo>
                  <a:lnTo>
                    <a:pt x="257" y="17"/>
                  </a:lnTo>
                  <a:lnTo>
                    <a:pt x="238" y="25"/>
                  </a:lnTo>
                  <a:lnTo>
                    <a:pt x="218" y="31"/>
                  </a:lnTo>
                  <a:lnTo>
                    <a:pt x="199" y="40"/>
                  </a:lnTo>
                  <a:lnTo>
                    <a:pt x="182" y="50"/>
                  </a:lnTo>
                  <a:lnTo>
                    <a:pt x="165" y="59"/>
                  </a:lnTo>
                  <a:lnTo>
                    <a:pt x="147" y="69"/>
                  </a:lnTo>
                  <a:lnTo>
                    <a:pt x="115" y="94"/>
                  </a:lnTo>
                  <a:lnTo>
                    <a:pt x="86" y="121"/>
                  </a:lnTo>
                  <a:lnTo>
                    <a:pt x="59" y="149"/>
                  </a:lnTo>
                  <a:lnTo>
                    <a:pt x="53" y="157"/>
                  </a:lnTo>
                  <a:lnTo>
                    <a:pt x="53" y="159"/>
                  </a:lnTo>
                  <a:lnTo>
                    <a:pt x="53" y="163"/>
                  </a:lnTo>
                  <a:lnTo>
                    <a:pt x="51" y="167"/>
                  </a:lnTo>
                  <a:lnTo>
                    <a:pt x="51" y="169"/>
                  </a:lnTo>
                  <a:lnTo>
                    <a:pt x="51" y="172"/>
                  </a:lnTo>
                  <a:lnTo>
                    <a:pt x="51" y="174"/>
                  </a:lnTo>
                  <a:lnTo>
                    <a:pt x="50" y="178"/>
                  </a:lnTo>
                  <a:lnTo>
                    <a:pt x="50" y="180"/>
                  </a:lnTo>
                  <a:lnTo>
                    <a:pt x="67" y="157"/>
                  </a:lnTo>
                  <a:lnTo>
                    <a:pt x="94" y="128"/>
                  </a:lnTo>
                  <a:lnTo>
                    <a:pt x="123" y="101"/>
                  </a:lnTo>
                  <a:lnTo>
                    <a:pt x="153" y="78"/>
                  </a:lnTo>
                  <a:lnTo>
                    <a:pt x="188" y="57"/>
                  </a:lnTo>
                  <a:lnTo>
                    <a:pt x="222" y="42"/>
                  </a:lnTo>
                  <a:lnTo>
                    <a:pt x="242" y="34"/>
                  </a:lnTo>
                  <a:lnTo>
                    <a:pt x="259" y="27"/>
                  </a:lnTo>
                  <a:lnTo>
                    <a:pt x="278" y="23"/>
                  </a:lnTo>
                  <a:lnTo>
                    <a:pt x="299" y="17"/>
                  </a:lnTo>
                  <a:lnTo>
                    <a:pt x="318" y="13"/>
                  </a:lnTo>
                  <a:lnTo>
                    <a:pt x="339" y="11"/>
                  </a:lnTo>
                  <a:lnTo>
                    <a:pt x="345" y="11"/>
                  </a:lnTo>
                  <a:lnTo>
                    <a:pt x="345" y="9"/>
                  </a:lnTo>
                  <a:lnTo>
                    <a:pt x="345" y="7"/>
                  </a:lnTo>
                  <a:lnTo>
                    <a:pt x="347" y="7"/>
                  </a:lnTo>
                  <a:lnTo>
                    <a:pt x="347" y="6"/>
                  </a:lnTo>
                  <a:lnTo>
                    <a:pt x="347" y="4"/>
                  </a:lnTo>
                  <a:lnTo>
                    <a:pt x="347" y="4"/>
                  </a:lnTo>
                  <a:lnTo>
                    <a:pt x="347" y="2"/>
                  </a:lnTo>
                  <a:lnTo>
                    <a:pt x="349" y="0"/>
                  </a:lnTo>
                  <a:close/>
                  <a:moveTo>
                    <a:pt x="0" y="581"/>
                  </a:moveTo>
                  <a:lnTo>
                    <a:pt x="5" y="595"/>
                  </a:lnTo>
                  <a:lnTo>
                    <a:pt x="15" y="612"/>
                  </a:lnTo>
                  <a:lnTo>
                    <a:pt x="25" y="629"/>
                  </a:lnTo>
                  <a:lnTo>
                    <a:pt x="36" y="646"/>
                  </a:lnTo>
                  <a:lnTo>
                    <a:pt x="59" y="677"/>
                  </a:lnTo>
                  <a:lnTo>
                    <a:pt x="86" y="708"/>
                  </a:lnTo>
                  <a:lnTo>
                    <a:pt x="115" y="735"/>
                  </a:lnTo>
                  <a:lnTo>
                    <a:pt x="147" y="758"/>
                  </a:lnTo>
                  <a:lnTo>
                    <a:pt x="165" y="769"/>
                  </a:lnTo>
                  <a:lnTo>
                    <a:pt x="182" y="779"/>
                  </a:lnTo>
                  <a:lnTo>
                    <a:pt x="199" y="788"/>
                  </a:lnTo>
                  <a:lnTo>
                    <a:pt x="218" y="796"/>
                  </a:lnTo>
                  <a:lnTo>
                    <a:pt x="238" y="804"/>
                  </a:lnTo>
                  <a:lnTo>
                    <a:pt x="257" y="809"/>
                  </a:lnTo>
                  <a:lnTo>
                    <a:pt x="276" y="815"/>
                  </a:lnTo>
                  <a:lnTo>
                    <a:pt x="295" y="821"/>
                  </a:lnTo>
                  <a:lnTo>
                    <a:pt x="316" y="825"/>
                  </a:lnTo>
                  <a:lnTo>
                    <a:pt x="337" y="827"/>
                  </a:lnTo>
                  <a:lnTo>
                    <a:pt x="359" y="829"/>
                  </a:lnTo>
                  <a:lnTo>
                    <a:pt x="364" y="829"/>
                  </a:lnTo>
                  <a:lnTo>
                    <a:pt x="364" y="827"/>
                  </a:lnTo>
                  <a:lnTo>
                    <a:pt x="362" y="827"/>
                  </a:lnTo>
                  <a:lnTo>
                    <a:pt x="362" y="825"/>
                  </a:lnTo>
                  <a:lnTo>
                    <a:pt x="362" y="823"/>
                  </a:lnTo>
                  <a:lnTo>
                    <a:pt x="362" y="821"/>
                  </a:lnTo>
                  <a:lnTo>
                    <a:pt x="361" y="821"/>
                  </a:lnTo>
                  <a:lnTo>
                    <a:pt x="361" y="819"/>
                  </a:lnTo>
                  <a:lnTo>
                    <a:pt x="361" y="817"/>
                  </a:lnTo>
                  <a:lnTo>
                    <a:pt x="359" y="817"/>
                  </a:lnTo>
                  <a:lnTo>
                    <a:pt x="339" y="815"/>
                  </a:lnTo>
                  <a:lnTo>
                    <a:pt x="318" y="813"/>
                  </a:lnTo>
                  <a:lnTo>
                    <a:pt x="299" y="809"/>
                  </a:lnTo>
                  <a:lnTo>
                    <a:pt x="278" y="806"/>
                  </a:lnTo>
                  <a:lnTo>
                    <a:pt x="259" y="800"/>
                  </a:lnTo>
                  <a:lnTo>
                    <a:pt x="242" y="794"/>
                  </a:lnTo>
                  <a:lnTo>
                    <a:pt x="222" y="786"/>
                  </a:lnTo>
                  <a:lnTo>
                    <a:pt x="188" y="769"/>
                  </a:lnTo>
                  <a:lnTo>
                    <a:pt x="153" y="750"/>
                  </a:lnTo>
                  <a:lnTo>
                    <a:pt x="123" y="725"/>
                  </a:lnTo>
                  <a:lnTo>
                    <a:pt x="94" y="700"/>
                  </a:lnTo>
                  <a:lnTo>
                    <a:pt x="67" y="671"/>
                  </a:lnTo>
                  <a:lnTo>
                    <a:pt x="44" y="641"/>
                  </a:lnTo>
                  <a:lnTo>
                    <a:pt x="25" y="606"/>
                  </a:lnTo>
                  <a:lnTo>
                    <a:pt x="7" y="572"/>
                  </a:lnTo>
                  <a:lnTo>
                    <a:pt x="2" y="556"/>
                  </a:lnTo>
                  <a:lnTo>
                    <a:pt x="2" y="558"/>
                  </a:lnTo>
                  <a:lnTo>
                    <a:pt x="2" y="562"/>
                  </a:lnTo>
                  <a:lnTo>
                    <a:pt x="0" y="566"/>
                  </a:lnTo>
                  <a:lnTo>
                    <a:pt x="0" y="568"/>
                  </a:lnTo>
                  <a:lnTo>
                    <a:pt x="0" y="572"/>
                  </a:lnTo>
                  <a:lnTo>
                    <a:pt x="0" y="575"/>
                  </a:lnTo>
                  <a:lnTo>
                    <a:pt x="0" y="577"/>
                  </a:lnTo>
                  <a:lnTo>
                    <a:pt x="0" y="581"/>
                  </a:lnTo>
                  <a:close/>
                </a:path>
              </a:pathLst>
            </a:custGeom>
            <a:solidFill>
              <a:srgbClr val="b2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Freeform 452"/>
            <p:cNvSpPr/>
            <p:nvPr/>
          </p:nvSpPr>
          <p:spPr>
            <a:xfrm>
              <a:off x="5842080" y="2576160"/>
              <a:ext cx="609480" cy="1375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375560"/>
                <a:gd name="textAreaBottom" fmla="*/ 1375920 h 1375560"/>
              </a:gdLst>
              <a:ahLst/>
              <a:rect l="textAreaLeft" t="textAreaTop" r="textAreaRight" b="textAreaBottom"/>
              <a:pathLst>
                <a:path w="362" h="817">
                  <a:moveTo>
                    <a:pt x="347" y="0"/>
                  </a:moveTo>
                  <a:lnTo>
                    <a:pt x="337" y="0"/>
                  </a:lnTo>
                  <a:lnTo>
                    <a:pt x="318" y="3"/>
                  </a:lnTo>
                  <a:lnTo>
                    <a:pt x="297" y="7"/>
                  </a:lnTo>
                  <a:lnTo>
                    <a:pt x="278" y="11"/>
                  </a:lnTo>
                  <a:lnTo>
                    <a:pt x="259" y="17"/>
                  </a:lnTo>
                  <a:lnTo>
                    <a:pt x="240" y="23"/>
                  </a:lnTo>
                  <a:lnTo>
                    <a:pt x="220" y="30"/>
                  </a:lnTo>
                  <a:lnTo>
                    <a:pt x="203" y="38"/>
                  </a:lnTo>
                  <a:lnTo>
                    <a:pt x="184" y="48"/>
                  </a:lnTo>
                  <a:lnTo>
                    <a:pt x="167" y="57"/>
                  </a:lnTo>
                  <a:lnTo>
                    <a:pt x="151" y="69"/>
                  </a:lnTo>
                  <a:lnTo>
                    <a:pt x="119" y="92"/>
                  </a:lnTo>
                  <a:lnTo>
                    <a:pt x="90" y="119"/>
                  </a:lnTo>
                  <a:lnTo>
                    <a:pt x="63" y="147"/>
                  </a:lnTo>
                  <a:lnTo>
                    <a:pt x="51" y="163"/>
                  </a:lnTo>
                  <a:lnTo>
                    <a:pt x="51" y="166"/>
                  </a:lnTo>
                  <a:lnTo>
                    <a:pt x="51" y="168"/>
                  </a:lnTo>
                  <a:lnTo>
                    <a:pt x="50" y="172"/>
                  </a:lnTo>
                  <a:lnTo>
                    <a:pt x="50" y="176"/>
                  </a:lnTo>
                  <a:lnTo>
                    <a:pt x="50" y="178"/>
                  </a:lnTo>
                  <a:lnTo>
                    <a:pt x="48" y="182"/>
                  </a:lnTo>
                  <a:lnTo>
                    <a:pt x="48" y="184"/>
                  </a:lnTo>
                  <a:lnTo>
                    <a:pt x="48" y="188"/>
                  </a:lnTo>
                  <a:lnTo>
                    <a:pt x="50" y="184"/>
                  </a:lnTo>
                  <a:lnTo>
                    <a:pt x="73" y="153"/>
                  </a:lnTo>
                  <a:lnTo>
                    <a:pt x="98" y="126"/>
                  </a:lnTo>
                  <a:lnTo>
                    <a:pt x="126" y="99"/>
                  </a:lnTo>
                  <a:lnTo>
                    <a:pt x="157" y="76"/>
                  </a:lnTo>
                  <a:lnTo>
                    <a:pt x="190" y="57"/>
                  </a:lnTo>
                  <a:lnTo>
                    <a:pt x="224" y="40"/>
                  </a:lnTo>
                  <a:lnTo>
                    <a:pt x="243" y="32"/>
                  </a:lnTo>
                  <a:lnTo>
                    <a:pt x="261" y="26"/>
                  </a:lnTo>
                  <a:lnTo>
                    <a:pt x="280" y="21"/>
                  </a:lnTo>
                  <a:lnTo>
                    <a:pt x="299" y="17"/>
                  </a:lnTo>
                  <a:lnTo>
                    <a:pt x="318" y="13"/>
                  </a:lnTo>
                  <a:lnTo>
                    <a:pt x="339" y="11"/>
                  </a:lnTo>
                  <a:lnTo>
                    <a:pt x="343" y="11"/>
                  </a:lnTo>
                  <a:lnTo>
                    <a:pt x="343" y="9"/>
                  </a:lnTo>
                  <a:lnTo>
                    <a:pt x="343" y="7"/>
                  </a:lnTo>
                  <a:lnTo>
                    <a:pt x="345" y="5"/>
                  </a:lnTo>
                  <a:lnTo>
                    <a:pt x="345" y="5"/>
                  </a:lnTo>
                  <a:lnTo>
                    <a:pt x="345" y="3"/>
                  </a:lnTo>
                  <a:lnTo>
                    <a:pt x="345" y="1"/>
                  </a:lnTo>
                  <a:lnTo>
                    <a:pt x="347" y="1"/>
                  </a:lnTo>
                  <a:lnTo>
                    <a:pt x="347" y="0"/>
                  </a:lnTo>
                  <a:close/>
                  <a:moveTo>
                    <a:pt x="0" y="562"/>
                  </a:moveTo>
                  <a:lnTo>
                    <a:pt x="2" y="567"/>
                  </a:lnTo>
                  <a:lnTo>
                    <a:pt x="11" y="585"/>
                  </a:lnTo>
                  <a:lnTo>
                    <a:pt x="19" y="604"/>
                  </a:lnTo>
                  <a:lnTo>
                    <a:pt x="28" y="621"/>
                  </a:lnTo>
                  <a:lnTo>
                    <a:pt x="40" y="637"/>
                  </a:lnTo>
                  <a:lnTo>
                    <a:pt x="63" y="669"/>
                  </a:lnTo>
                  <a:lnTo>
                    <a:pt x="90" y="698"/>
                  </a:lnTo>
                  <a:lnTo>
                    <a:pt x="119" y="725"/>
                  </a:lnTo>
                  <a:lnTo>
                    <a:pt x="151" y="748"/>
                  </a:lnTo>
                  <a:lnTo>
                    <a:pt x="167" y="757"/>
                  </a:lnTo>
                  <a:lnTo>
                    <a:pt x="184" y="769"/>
                  </a:lnTo>
                  <a:lnTo>
                    <a:pt x="203" y="777"/>
                  </a:lnTo>
                  <a:lnTo>
                    <a:pt x="220" y="786"/>
                  </a:lnTo>
                  <a:lnTo>
                    <a:pt x="240" y="792"/>
                  </a:lnTo>
                  <a:lnTo>
                    <a:pt x="259" y="800"/>
                  </a:lnTo>
                  <a:lnTo>
                    <a:pt x="278" y="805"/>
                  </a:lnTo>
                  <a:lnTo>
                    <a:pt x="297" y="809"/>
                  </a:lnTo>
                  <a:lnTo>
                    <a:pt x="318" y="813"/>
                  </a:lnTo>
                  <a:lnTo>
                    <a:pt x="337" y="815"/>
                  </a:lnTo>
                  <a:lnTo>
                    <a:pt x="359" y="817"/>
                  </a:lnTo>
                  <a:lnTo>
                    <a:pt x="362" y="817"/>
                  </a:lnTo>
                  <a:lnTo>
                    <a:pt x="362" y="815"/>
                  </a:lnTo>
                  <a:lnTo>
                    <a:pt x="361" y="815"/>
                  </a:lnTo>
                  <a:lnTo>
                    <a:pt x="361" y="813"/>
                  </a:lnTo>
                  <a:lnTo>
                    <a:pt x="361" y="811"/>
                  </a:lnTo>
                  <a:lnTo>
                    <a:pt x="361" y="811"/>
                  </a:lnTo>
                  <a:lnTo>
                    <a:pt x="359" y="809"/>
                  </a:lnTo>
                  <a:lnTo>
                    <a:pt x="359" y="807"/>
                  </a:lnTo>
                  <a:lnTo>
                    <a:pt x="359" y="807"/>
                  </a:lnTo>
                  <a:lnTo>
                    <a:pt x="339" y="805"/>
                  </a:lnTo>
                  <a:lnTo>
                    <a:pt x="318" y="802"/>
                  </a:lnTo>
                  <a:lnTo>
                    <a:pt x="299" y="800"/>
                  </a:lnTo>
                  <a:lnTo>
                    <a:pt x="280" y="794"/>
                  </a:lnTo>
                  <a:lnTo>
                    <a:pt x="261" y="788"/>
                  </a:lnTo>
                  <a:lnTo>
                    <a:pt x="243" y="782"/>
                  </a:lnTo>
                  <a:lnTo>
                    <a:pt x="224" y="775"/>
                  </a:lnTo>
                  <a:lnTo>
                    <a:pt x="190" y="759"/>
                  </a:lnTo>
                  <a:lnTo>
                    <a:pt x="157" y="738"/>
                  </a:lnTo>
                  <a:lnTo>
                    <a:pt x="126" y="715"/>
                  </a:lnTo>
                  <a:lnTo>
                    <a:pt x="98" y="690"/>
                  </a:lnTo>
                  <a:lnTo>
                    <a:pt x="73" y="662"/>
                  </a:lnTo>
                  <a:lnTo>
                    <a:pt x="50" y="631"/>
                  </a:lnTo>
                  <a:lnTo>
                    <a:pt x="28" y="598"/>
                  </a:lnTo>
                  <a:lnTo>
                    <a:pt x="11" y="564"/>
                  </a:lnTo>
                  <a:lnTo>
                    <a:pt x="5" y="544"/>
                  </a:lnTo>
                  <a:lnTo>
                    <a:pt x="2" y="537"/>
                  </a:lnTo>
                  <a:lnTo>
                    <a:pt x="2" y="541"/>
                  </a:lnTo>
                  <a:lnTo>
                    <a:pt x="2" y="543"/>
                  </a:lnTo>
                  <a:lnTo>
                    <a:pt x="2" y="546"/>
                  </a:lnTo>
                  <a:lnTo>
                    <a:pt x="2" y="550"/>
                  </a:lnTo>
                  <a:lnTo>
                    <a:pt x="2" y="552"/>
                  </a:lnTo>
                  <a:lnTo>
                    <a:pt x="2" y="556"/>
                  </a:lnTo>
                  <a:lnTo>
                    <a:pt x="0" y="560"/>
                  </a:lnTo>
                  <a:lnTo>
                    <a:pt x="0" y="562"/>
                  </a:lnTo>
                  <a:close/>
                </a:path>
              </a:pathLst>
            </a:custGeom>
            <a:solidFill>
              <a:srgbClr val="b3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Freeform 453"/>
            <p:cNvSpPr/>
            <p:nvPr/>
          </p:nvSpPr>
          <p:spPr>
            <a:xfrm>
              <a:off x="5845320" y="2584440"/>
              <a:ext cx="604440" cy="1356840"/>
            </a:xfrm>
            <a:custGeom>
              <a:avLst/>
              <a:gdLst>
                <a:gd name="textAreaLeft" fmla="*/ 0 w 604440"/>
                <a:gd name="textAreaRight" fmla="*/ 604800 w 604440"/>
                <a:gd name="textAreaTop" fmla="*/ 0 h 1356840"/>
                <a:gd name="textAreaBottom" fmla="*/ 1357200 h 1356840"/>
              </a:gdLst>
              <a:ahLst/>
              <a:rect l="textAreaLeft" t="textAreaTop" r="textAreaRight" b="textAreaBottom"/>
              <a:pathLst>
                <a:path w="359" h="806">
                  <a:moveTo>
                    <a:pt x="343" y="0"/>
                  </a:moveTo>
                  <a:lnTo>
                    <a:pt x="337" y="0"/>
                  </a:lnTo>
                  <a:lnTo>
                    <a:pt x="316" y="2"/>
                  </a:lnTo>
                  <a:lnTo>
                    <a:pt x="297" y="6"/>
                  </a:lnTo>
                  <a:lnTo>
                    <a:pt x="276" y="12"/>
                  </a:lnTo>
                  <a:lnTo>
                    <a:pt x="257" y="16"/>
                  </a:lnTo>
                  <a:lnTo>
                    <a:pt x="240" y="23"/>
                  </a:lnTo>
                  <a:lnTo>
                    <a:pt x="220" y="31"/>
                  </a:lnTo>
                  <a:lnTo>
                    <a:pt x="186" y="46"/>
                  </a:lnTo>
                  <a:lnTo>
                    <a:pt x="151" y="67"/>
                  </a:lnTo>
                  <a:lnTo>
                    <a:pt x="121" y="90"/>
                  </a:lnTo>
                  <a:lnTo>
                    <a:pt x="92" y="117"/>
                  </a:lnTo>
                  <a:lnTo>
                    <a:pt x="65" y="146"/>
                  </a:lnTo>
                  <a:lnTo>
                    <a:pt x="48" y="169"/>
                  </a:lnTo>
                  <a:lnTo>
                    <a:pt x="48" y="173"/>
                  </a:lnTo>
                  <a:lnTo>
                    <a:pt x="46" y="177"/>
                  </a:lnTo>
                  <a:lnTo>
                    <a:pt x="46" y="181"/>
                  </a:lnTo>
                  <a:lnTo>
                    <a:pt x="46" y="185"/>
                  </a:lnTo>
                  <a:lnTo>
                    <a:pt x="44" y="186"/>
                  </a:lnTo>
                  <a:lnTo>
                    <a:pt x="44" y="190"/>
                  </a:lnTo>
                  <a:lnTo>
                    <a:pt x="42" y="194"/>
                  </a:lnTo>
                  <a:lnTo>
                    <a:pt x="42" y="198"/>
                  </a:lnTo>
                  <a:lnTo>
                    <a:pt x="51" y="183"/>
                  </a:lnTo>
                  <a:lnTo>
                    <a:pt x="74" y="152"/>
                  </a:lnTo>
                  <a:lnTo>
                    <a:pt x="99" y="125"/>
                  </a:lnTo>
                  <a:lnTo>
                    <a:pt x="128" y="98"/>
                  </a:lnTo>
                  <a:lnTo>
                    <a:pt x="157" y="77"/>
                  </a:lnTo>
                  <a:lnTo>
                    <a:pt x="190" y="56"/>
                  </a:lnTo>
                  <a:lnTo>
                    <a:pt x="224" y="41"/>
                  </a:lnTo>
                  <a:lnTo>
                    <a:pt x="243" y="33"/>
                  </a:lnTo>
                  <a:lnTo>
                    <a:pt x="261" y="27"/>
                  </a:lnTo>
                  <a:lnTo>
                    <a:pt x="280" y="21"/>
                  </a:lnTo>
                  <a:lnTo>
                    <a:pt x="299" y="18"/>
                  </a:lnTo>
                  <a:lnTo>
                    <a:pt x="318" y="14"/>
                  </a:lnTo>
                  <a:lnTo>
                    <a:pt x="337" y="12"/>
                  </a:lnTo>
                  <a:lnTo>
                    <a:pt x="339" y="10"/>
                  </a:lnTo>
                  <a:lnTo>
                    <a:pt x="339" y="10"/>
                  </a:lnTo>
                  <a:lnTo>
                    <a:pt x="341" y="8"/>
                  </a:lnTo>
                  <a:lnTo>
                    <a:pt x="341" y="6"/>
                  </a:lnTo>
                  <a:lnTo>
                    <a:pt x="341" y="6"/>
                  </a:lnTo>
                  <a:lnTo>
                    <a:pt x="341" y="4"/>
                  </a:lnTo>
                  <a:lnTo>
                    <a:pt x="343" y="2"/>
                  </a:lnTo>
                  <a:lnTo>
                    <a:pt x="343" y="0"/>
                  </a:lnTo>
                  <a:lnTo>
                    <a:pt x="343" y="0"/>
                  </a:lnTo>
                  <a:close/>
                  <a:moveTo>
                    <a:pt x="0" y="545"/>
                  </a:moveTo>
                  <a:lnTo>
                    <a:pt x="5" y="561"/>
                  </a:lnTo>
                  <a:lnTo>
                    <a:pt x="23" y="595"/>
                  </a:lnTo>
                  <a:lnTo>
                    <a:pt x="42" y="630"/>
                  </a:lnTo>
                  <a:lnTo>
                    <a:pt x="65" y="660"/>
                  </a:lnTo>
                  <a:lnTo>
                    <a:pt x="92" y="689"/>
                  </a:lnTo>
                  <a:lnTo>
                    <a:pt x="121" y="714"/>
                  </a:lnTo>
                  <a:lnTo>
                    <a:pt x="151" y="739"/>
                  </a:lnTo>
                  <a:lnTo>
                    <a:pt x="186" y="758"/>
                  </a:lnTo>
                  <a:lnTo>
                    <a:pt x="220" y="775"/>
                  </a:lnTo>
                  <a:lnTo>
                    <a:pt x="240" y="783"/>
                  </a:lnTo>
                  <a:lnTo>
                    <a:pt x="257" y="789"/>
                  </a:lnTo>
                  <a:lnTo>
                    <a:pt x="276" y="795"/>
                  </a:lnTo>
                  <a:lnTo>
                    <a:pt x="297" y="798"/>
                  </a:lnTo>
                  <a:lnTo>
                    <a:pt x="316" y="802"/>
                  </a:lnTo>
                  <a:lnTo>
                    <a:pt x="337" y="804"/>
                  </a:lnTo>
                  <a:lnTo>
                    <a:pt x="357" y="806"/>
                  </a:lnTo>
                  <a:lnTo>
                    <a:pt x="359" y="806"/>
                  </a:lnTo>
                  <a:lnTo>
                    <a:pt x="359" y="806"/>
                  </a:lnTo>
                  <a:lnTo>
                    <a:pt x="357" y="804"/>
                  </a:lnTo>
                  <a:lnTo>
                    <a:pt x="357" y="802"/>
                  </a:lnTo>
                  <a:lnTo>
                    <a:pt x="357" y="800"/>
                  </a:lnTo>
                  <a:lnTo>
                    <a:pt x="357" y="800"/>
                  </a:lnTo>
                  <a:lnTo>
                    <a:pt x="355" y="798"/>
                  </a:lnTo>
                  <a:lnTo>
                    <a:pt x="355" y="797"/>
                  </a:lnTo>
                  <a:lnTo>
                    <a:pt x="355" y="797"/>
                  </a:lnTo>
                  <a:lnTo>
                    <a:pt x="337" y="795"/>
                  </a:lnTo>
                  <a:lnTo>
                    <a:pt x="318" y="793"/>
                  </a:lnTo>
                  <a:lnTo>
                    <a:pt x="299" y="789"/>
                  </a:lnTo>
                  <a:lnTo>
                    <a:pt x="280" y="785"/>
                  </a:lnTo>
                  <a:lnTo>
                    <a:pt x="261" y="779"/>
                  </a:lnTo>
                  <a:lnTo>
                    <a:pt x="243" y="774"/>
                  </a:lnTo>
                  <a:lnTo>
                    <a:pt x="224" y="766"/>
                  </a:lnTo>
                  <a:lnTo>
                    <a:pt x="190" y="749"/>
                  </a:lnTo>
                  <a:lnTo>
                    <a:pt x="157" y="729"/>
                  </a:lnTo>
                  <a:lnTo>
                    <a:pt x="128" y="706"/>
                  </a:lnTo>
                  <a:lnTo>
                    <a:pt x="99" y="681"/>
                  </a:lnTo>
                  <a:lnTo>
                    <a:pt x="74" y="653"/>
                  </a:lnTo>
                  <a:lnTo>
                    <a:pt x="51" y="624"/>
                  </a:lnTo>
                  <a:lnTo>
                    <a:pt x="32" y="591"/>
                  </a:lnTo>
                  <a:lnTo>
                    <a:pt x="15" y="557"/>
                  </a:lnTo>
                  <a:lnTo>
                    <a:pt x="7" y="538"/>
                  </a:lnTo>
                  <a:lnTo>
                    <a:pt x="2" y="520"/>
                  </a:lnTo>
                  <a:lnTo>
                    <a:pt x="2" y="516"/>
                  </a:lnTo>
                  <a:lnTo>
                    <a:pt x="2" y="520"/>
                  </a:lnTo>
                  <a:lnTo>
                    <a:pt x="0" y="524"/>
                  </a:lnTo>
                  <a:lnTo>
                    <a:pt x="0" y="528"/>
                  </a:lnTo>
                  <a:lnTo>
                    <a:pt x="0" y="532"/>
                  </a:lnTo>
                  <a:lnTo>
                    <a:pt x="0" y="534"/>
                  </a:lnTo>
                  <a:lnTo>
                    <a:pt x="0" y="538"/>
                  </a:lnTo>
                  <a:lnTo>
                    <a:pt x="0" y="541"/>
                  </a:lnTo>
                  <a:lnTo>
                    <a:pt x="0" y="545"/>
                  </a:lnTo>
                  <a:close/>
                </a:path>
              </a:pathLst>
            </a:custGeom>
            <a:solidFill>
              <a:srgbClr val="b4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Freeform 454"/>
            <p:cNvSpPr/>
            <p:nvPr/>
          </p:nvSpPr>
          <p:spPr>
            <a:xfrm>
              <a:off x="5845320" y="2594880"/>
              <a:ext cx="600840" cy="1340280"/>
            </a:xfrm>
            <a:custGeom>
              <a:avLst/>
              <a:gdLst>
                <a:gd name="textAreaLeft" fmla="*/ 0 w 600840"/>
                <a:gd name="textAreaRight" fmla="*/ 601200 w 600840"/>
                <a:gd name="textAreaTop" fmla="*/ 0 h 1340280"/>
                <a:gd name="textAreaBottom" fmla="*/ 1340640 h 1340280"/>
              </a:gdLst>
              <a:ahLst/>
              <a:rect l="textAreaLeft" t="textAreaTop" r="textAreaRight" b="textAreaBottom"/>
              <a:pathLst>
                <a:path w="357" h="796">
                  <a:moveTo>
                    <a:pt x="341" y="0"/>
                  </a:moveTo>
                  <a:lnTo>
                    <a:pt x="337" y="0"/>
                  </a:lnTo>
                  <a:lnTo>
                    <a:pt x="316" y="2"/>
                  </a:lnTo>
                  <a:lnTo>
                    <a:pt x="297" y="6"/>
                  </a:lnTo>
                  <a:lnTo>
                    <a:pt x="278" y="10"/>
                  </a:lnTo>
                  <a:lnTo>
                    <a:pt x="259" y="15"/>
                  </a:lnTo>
                  <a:lnTo>
                    <a:pt x="241" y="21"/>
                  </a:lnTo>
                  <a:lnTo>
                    <a:pt x="222" y="29"/>
                  </a:lnTo>
                  <a:lnTo>
                    <a:pt x="188" y="46"/>
                  </a:lnTo>
                  <a:lnTo>
                    <a:pt x="155" y="65"/>
                  </a:lnTo>
                  <a:lnTo>
                    <a:pt x="124" y="88"/>
                  </a:lnTo>
                  <a:lnTo>
                    <a:pt x="96" y="115"/>
                  </a:lnTo>
                  <a:lnTo>
                    <a:pt x="71" y="142"/>
                  </a:lnTo>
                  <a:lnTo>
                    <a:pt x="48" y="173"/>
                  </a:lnTo>
                  <a:lnTo>
                    <a:pt x="46" y="177"/>
                  </a:lnTo>
                  <a:lnTo>
                    <a:pt x="44" y="180"/>
                  </a:lnTo>
                  <a:lnTo>
                    <a:pt x="44" y="184"/>
                  </a:lnTo>
                  <a:lnTo>
                    <a:pt x="44" y="188"/>
                  </a:lnTo>
                  <a:lnTo>
                    <a:pt x="42" y="192"/>
                  </a:lnTo>
                  <a:lnTo>
                    <a:pt x="42" y="196"/>
                  </a:lnTo>
                  <a:lnTo>
                    <a:pt x="40" y="200"/>
                  </a:lnTo>
                  <a:lnTo>
                    <a:pt x="40" y="203"/>
                  </a:lnTo>
                  <a:lnTo>
                    <a:pt x="40" y="207"/>
                  </a:lnTo>
                  <a:lnTo>
                    <a:pt x="55" y="180"/>
                  </a:lnTo>
                  <a:lnTo>
                    <a:pt x="78" y="150"/>
                  </a:lnTo>
                  <a:lnTo>
                    <a:pt x="103" y="123"/>
                  </a:lnTo>
                  <a:lnTo>
                    <a:pt x="130" y="98"/>
                  </a:lnTo>
                  <a:lnTo>
                    <a:pt x="161" y="75"/>
                  </a:lnTo>
                  <a:lnTo>
                    <a:pt x="193" y="56"/>
                  </a:lnTo>
                  <a:lnTo>
                    <a:pt x="226" y="38"/>
                  </a:lnTo>
                  <a:lnTo>
                    <a:pt x="263" y="25"/>
                  </a:lnTo>
                  <a:lnTo>
                    <a:pt x="299" y="15"/>
                  </a:lnTo>
                  <a:lnTo>
                    <a:pt x="318" y="14"/>
                  </a:lnTo>
                  <a:lnTo>
                    <a:pt x="337" y="10"/>
                  </a:lnTo>
                  <a:lnTo>
                    <a:pt x="337" y="10"/>
                  </a:lnTo>
                  <a:lnTo>
                    <a:pt x="339" y="10"/>
                  </a:lnTo>
                  <a:lnTo>
                    <a:pt x="339" y="8"/>
                  </a:lnTo>
                  <a:lnTo>
                    <a:pt x="339" y="6"/>
                  </a:lnTo>
                  <a:lnTo>
                    <a:pt x="339" y="4"/>
                  </a:lnTo>
                  <a:lnTo>
                    <a:pt x="339" y="4"/>
                  </a:lnTo>
                  <a:lnTo>
                    <a:pt x="341" y="2"/>
                  </a:lnTo>
                  <a:lnTo>
                    <a:pt x="341" y="0"/>
                  </a:lnTo>
                  <a:lnTo>
                    <a:pt x="341" y="0"/>
                  </a:lnTo>
                  <a:close/>
                  <a:moveTo>
                    <a:pt x="0" y="526"/>
                  </a:moveTo>
                  <a:lnTo>
                    <a:pt x="3" y="533"/>
                  </a:lnTo>
                  <a:lnTo>
                    <a:pt x="9" y="553"/>
                  </a:lnTo>
                  <a:lnTo>
                    <a:pt x="26" y="587"/>
                  </a:lnTo>
                  <a:lnTo>
                    <a:pt x="48" y="620"/>
                  </a:lnTo>
                  <a:lnTo>
                    <a:pt x="71" y="651"/>
                  </a:lnTo>
                  <a:lnTo>
                    <a:pt x="96" y="679"/>
                  </a:lnTo>
                  <a:lnTo>
                    <a:pt x="124" y="704"/>
                  </a:lnTo>
                  <a:lnTo>
                    <a:pt x="155" y="727"/>
                  </a:lnTo>
                  <a:lnTo>
                    <a:pt x="188" y="748"/>
                  </a:lnTo>
                  <a:lnTo>
                    <a:pt x="222" y="764"/>
                  </a:lnTo>
                  <a:lnTo>
                    <a:pt x="241" y="771"/>
                  </a:lnTo>
                  <a:lnTo>
                    <a:pt x="259" y="777"/>
                  </a:lnTo>
                  <a:lnTo>
                    <a:pt x="278" y="783"/>
                  </a:lnTo>
                  <a:lnTo>
                    <a:pt x="297" y="789"/>
                  </a:lnTo>
                  <a:lnTo>
                    <a:pt x="316" y="791"/>
                  </a:lnTo>
                  <a:lnTo>
                    <a:pt x="337" y="794"/>
                  </a:lnTo>
                  <a:lnTo>
                    <a:pt x="357" y="796"/>
                  </a:lnTo>
                  <a:lnTo>
                    <a:pt x="357" y="794"/>
                  </a:lnTo>
                  <a:lnTo>
                    <a:pt x="357" y="792"/>
                  </a:lnTo>
                  <a:lnTo>
                    <a:pt x="355" y="791"/>
                  </a:lnTo>
                  <a:lnTo>
                    <a:pt x="355" y="791"/>
                  </a:lnTo>
                  <a:lnTo>
                    <a:pt x="355" y="789"/>
                  </a:lnTo>
                  <a:lnTo>
                    <a:pt x="355" y="787"/>
                  </a:lnTo>
                  <a:lnTo>
                    <a:pt x="353" y="787"/>
                  </a:lnTo>
                  <a:lnTo>
                    <a:pt x="353" y="785"/>
                  </a:lnTo>
                  <a:lnTo>
                    <a:pt x="337" y="783"/>
                  </a:lnTo>
                  <a:lnTo>
                    <a:pt x="318" y="781"/>
                  </a:lnTo>
                  <a:lnTo>
                    <a:pt x="299" y="777"/>
                  </a:lnTo>
                  <a:lnTo>
                    <a:pt x="263" y="768"/>
                  </a:lnTo>
                  <a:lnTo>
                    <a:pt x="226" y="754"/>
                  </a:lnTo>
                  <a:lnTo>
                    <a:pt x="193" y="739"/>
                  </a:lnTo>
                  <a:lnTo>
                    <a:pt x="161" y="720"/>
                  </a:lnTo>
                  <a:lnTo>
                    <a:pt x="130" y="697"/>
                  </a:lnTo>
                  <a:lnTo>
                    <a:pt x="103" y="672"/>
                  </a:lnTo>
                  <a:lnTo>
                    <a:pt x="78" y="645"/>
                  </a:lnTo>
                  <a:lnTo>
                    <a:pt x="55" y="614"/>
                  </a:lnTo>
                  <a:lnTo>
                    <a:pt x="36" y="581"/>
                  </a:lnTo>
                  <a:lnTo>
                    <a:pt x="21" y="549"/>
                  </a:lnTo>
                  <a:lnTo>
                    <a:pt x="7" y="512"/>
                  </a:lnTo>
                  <a:lnTo>
                    <a:pt x="2" y="495"/>
                  </a:lnTo>
                  <a:lnTo>
                    <a:pt x="2" y="499"/>
                  </a:lnTo>
                  <a:lnTo>
                    <a:pt x="2" y="503"/>
                  </a:lnTo>
                  <a:lnTo>
                    <a:pt x="2" y="507"/>
                  </a:lnTo>
                  <a:lnTo>
                    <a:pt x="2" y="510"/>
                  </a:lnTo>
                  <a:lnTo>
                    <a:pt x="2" y="514"/>
                  </a:lnTo>
                  <a:lnTo>
                    <a:pt x="0" y="518"/>
                  </a:lnTo>
                  <a:lnTo>
                    <a:pt x="0" y="522"/>
                  </a:lnTo>
                  <a:lnTo>
                    <a:pt x="0" y="526"/>
                  </a:lnTo>
                  <a:close/>
                </a:path>
              </a:pathLst>
            </a:custGeom>
            <a:solidFill>
              <a:srgbClr val="b5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Freeform 455"/>
            <p:cNvSpPr/>
            <p:nvPr/>
          </p:nvSpPr>
          <p:spPr>
            <a:xfrm>
              <a:off x="5848920" y="2601360"/>
              <a:ext cx="594000" cy="1325160"/>
            </a:xfrm>
            <a:custGeom>
              <a:avLst/>
              <a:gdLst>
                <a:gd name="textAreaLeft" fmla="*/ 0 w 594000"/>
                <a:gd name="textAreaRight" fmla="*/ 594360 w 594000"/>
                <a:gd name="textAreaTop" fmla="*/ 0 h 1325160"/>
                <a:gd name="textAreaBottom" fmla="*/ 1325520 h 1325160"/>
              </a:gdLst>
              <a:ahLst/>
              <a:rect l="textAreaLeft" t="textAreaTop" r="textAreaRight" b="textAreaBottom"/>
              <a:pathLst>
                <a:path w="353" h="787">
                  <a:moveTo>
                    <a:pt x="337" y="0"/>
                  </a:moveTo>
                  <a:lnTo>
                    <a:pt x="335" y="2"/>
                  </a:lnTo>
                  <a:lnTo>
                    <a:pt x="316" y="4"/>
                  </a:lnTo>
                  <a:lnTo>
                    <a:pt x="297" y="8"/>
                  </a:lnTo>
                  <a:lnTo>
                    <a:pt x="278" y="11"/>
                  </a:lnTo>
                  <a:lnTo>
                    <a:pt x="259" y="17"/>
                  </a:lnTo>
                  <a:lnTo>
                    <a:pt x="241" y="23"/>
                  </a:lnTo>
                  <a:lnTo>
                    <a:pt x="222" y="31"/>
                  </a:lnTo>
                  <a:lnTo>
                    <a:pt x="188" y="46"/>
                  </a:lnTo>
                  <a:lnTo>
                    <a:pt x="155" y="67"/>
                  </a:lnTo>
                  <a:lnTo>
                    <a:pt x="126" y="88"/>
                  </a:lnTo>
                  <a:lnTo>
                    <a:pt x="97" y="115"/>
                  </a:lnTo>
                  <a:lnTo>
                    <a:pt x="72" y="142"/>
                  </a:lnTo>
                  <a:lnTo>
                    <a:pt x="49" y="173"/>
                  </a:lnTo>
                  <a:lnTo>
                    <a:pt x="40" y="188"/>
                  </a:lnTo>
                  <a:lnTo>
                    <a:pt x="40" y="192"/>
                  </a:lnTo>
                  <a:lnTo>
                    <a:pt x="38" y="196"/>
                  </a:lnTo>
                  <a:lnTo>
                    <a:pt x="38" y="199"/>
                  </a:lnTo>
                  <a:lnTo>
                    <a:pt x="38" y="203"/>
                  </a:lnTo>
                  <a:lnTo>
                    <a:pt x="36" y="207"/>
                  </a:lnTo>
                  <a:lnTo>
                    <a:pt x="36" y="211"/>
                  </a:lnTo>
                  <a:lnTo>
                    <a:pt x="36" y="215"/>
                  </a:lnTo>
                  <a:lnTo>
                    <a:pt x="34" y="219"/>
                  </a:lnTo>
                  <a:lnTo>
                    <a:pt x="40" y="211"/>
                  </a:lnTo>
                  <a:lnTo>
                    <a:pt x="59" y="178"/>
                  </a:lnTo>
                  <a:lnTo>
                    <a:pt x="80" y="150"/>
                  </a:lnTo>
                  <a:lnTo>
                    <a:pt x="105" y="123"/>
                  </a:lnTo>
                  <a:lnTo>
                    <a:pt x="132" y="98"/>
                  </a:lnTo>
                  <a:lnTo>
                    <a:pt x="161" y="75"/>
                  </a:lnTo>
                  <a:lnTo>
                    <a:pt x="193" y="56"/>
                  </a:lnTo>
                  <a:lnTo>
                    <a:pt x="226" y="40"/>
                  </a:lnTo>
                  <a:lnTo>
                    <a:pt x="262" y="27"/>
                  </a:lnTo>
                  <a:lnTo>
                    <a:pt x="299" y="17"/>
                  </a:lnTo>
                  <a:lnTo>
                    <a:pt x="318" y="13"/>
                  </a:lnTo>
                  <a:lnTo>
                    <a:pt x="335" y="11"/>
                  </a:lnTo>
                  <a:lnTo>
                    <a:pt x="335" y="10"/>
                  </a:lnTo>
                  <a:lnTo>
                    <a:pt x="335" y="10"/>
                  </a:lnTo>
                  <a:lnTo>
                    <a:pt x="335" y="8"/>
                  </a:lnTo>
                  <a:lnTo>
                    <a:pt x="335" y="6"/>
                  </a:lnTo>
                  <a:lnTo>
                    <a:pt x="337" y="6"/>
                  </a:lnTo>
                  <a:lnTo>
                    <a:pt x="337" y="4"/>
                  </a:lnTo>
                  <a:lnTo>
                    <a:pt x="337" y="2"/>
                  </a:lnTo>
                  <a:lnTo>
                    <a:pt x="337" y="0"/>
                  </a:lnTo>
                  <a:close/>
                  <a:moveTo>
                    <a:pt x="0" y="506"/>
                  </a:moveTo>
                  <a:lnTo>
                    <a:pt x="0" y="510"/>
                  </a:lnTo>
                  <a:lnTo>
                    <a:pt x="5" y="528"/>
                  </a:lnTo>
                  <a:lnTo>
                    <a:pt x="13" y="547"/>
                  </a:lnTo>
                  <a:lnTo>
                    <a:pt x="30" y="581"/>
                  </a:lnTo>
                  <a:lnTo>
                    <a:pt x="49" y="614"/>
                  </a:lnTo>
                  <a:lnTo>
                    <a:pt x="72" y="643"/>
                  </a:lnTo>
                  <a:lnTo>
                    <a:pt x="97" y="671"/>
                  </a:lnTo>
                  <a:lnTo>
                    <a:pt x="126" y="696"/>
                  </a:lnTo>
                  <a:lnTo>
                    <a:pt x="155" y="719"/>
                  </a:lnTo>
                  <a:lnTo>
                    <a:pt x="188" y="739"/>
                  </a:lnTo>
                  <a:lnTo>
                    <a:pt x="222" y="756"/>
                  </a:lnTo>
                  <a:lnTo>
                    <a:pt x="241" y="764"/>
                  </a:lnTo>
                  <a:lnTo>
                    <a:pt x="259" y="769"/>
                  </a:lnTo>
                  <a:lnTo>
                    <a:pt x="278" y="775"/>
                  </a:lnTo>
                  <a:lnTo>
                    <a:pt x="297" y="779"/>
                  </a:lnTo>
                  <a:lnTo>
                    <a:pt x="316" y="783"/>
                  </a:lnTo>
                  <a:lnTo>
                    <a:pt x="335" y="785"/>
                  </a:lnTo>
                  <a:lnTo>
                    <a:pt x="353" y="787"/>
                  </a:lnTo>
                  <a:lnTo>
                    <a:pt x="353" y="785"/>
                  </a:lnTo>
                  <a:lnTo>
                    <a:pt x="353" y="783"/>
                  </a:lnTo>
                  <a:lnTo>
                    <a:pt x="351" y="783"/>
                  </a:lnTo>
                  <a:lnTo>
                    <a:pt x="351" y="781"/>
                  </a:lnTo>
                  <a:lnTo>
                    <a:pt x="351" y="779"/>
                  </a:lnTo>
                  <a:lnTo>
                    <a:pt x="351" y="777"/>
                  </a:lnTo>
                  <a:lnTo>
                    <a:pt x="349" y="777"/>
                  </a:lnTo>
                  <a:lnTo>
                    <a:pt x="349" y="775"/>
                  </a:lnTo>
                  <a:lnTo>
                    <a:pt x="337" y="773"/>
                  </a:lnTo>
                  <a:lnTo>
                    <a:pt x="318" y="771"/>
                  </a:lnTo>
                  <a:lnTo>
                    <a:pt x="299" y="767"/>
                  </a:lnTo>
                  <a:lnTo>
                    <a:pt x="262" y="760"/>
                  </a:lnTo>
                  <a:lnTo>
                    <a:pt x="226" y="746"/>
                  </a:lnTo>
                  <a:lnTo>
                    <a:pt x="193" y="729"/>
                  </a:lnTo>
                  <a:lnTo>
                    <a:pt x="161" y="710"/>
                  </a:lnTo>
                  <a:lnTo>
                    <a:pt x="132" y="689"/>
                  </a:lnTo>
                  <a:lnTo>
                    <a:pt x="105" y="664"/>
                  </a:lnTo>
                  <a:lnTo>
                    <a:pt x="80" y="637"/>
                  </a:lnTo>
                  <a:lnTo>
                    <a:pt x="59" y="606"/>
                  </a:lnTo>
                  <a:lnTo>
                    <a:pt x="40" y="576"/>
                  </a:lnTo>
                  <a:lnTo>
                    <a:pt x="23" y="541"/>
                  </a:lnTo>
                  <a:lnTo>
                    <a:pt x="9" y="506"/>
                  </a:lnTo>
                  <a:lnTo>
                    <a:pt x="1" y="474"/>
                  </a:lnTo>
                  <a:lnTo>
                    <a:pt x="1" y="478"/>
                  </a:lnTo>
                  <a:lnTo>
                    <a:pt x="1" y="481"/>
                  </a:lnTo>
                  <a:lnTo>
                    <a:pt x="0" y="487"/>
                  </a:lnTo>
                  <a:lnTo>
                    <a:pt x="0" y="491"/>
                  </a:lnTo>
                  <a:lnTo>
                    <a:pt x="0" y="495"/>
                  </a:lnTo>
                  <a:lnTo>
                    <a:pt x="0" y="499"/>
                  </a:lnTo>
                  <a:lnTo>
                    <a:pt x="0" y="503"/>
                  </a:lnTo>
                  <a:lnTo>
                    <a:pt x="0" y="506"/>
                  </a:lnTo>
                  <a:close/>
                </a:path>
              </a:pathLst>
            </a:custGeom>
            <a:solidFill>
              <a:srgbClr val="b6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Freeform 456"/>
            <p:cNvSpPr/>
            <p:nvPr/>
          </p:nvSpPr>
          <p:spPr>
            <a:xfrm>
              <a:off x="5848920" y="2611800"/>
              <a:ext cx="591120" cy="1304640"/>
            </a:xfrm>
            <a:custGeom>
              <a:avLst/>
              <a:gdLst>
                <a:gd name="textAreaLeft" fmla="*/ 0 w 591120"/>
                <a:gd name="textAreaRight" fmla="*/ 591480 w 591120"/>
                <a:gd name="textAreaTop" fmla="*/ 0 h 1304640"/>
                <a:gd name="textAreaBottom" fmla="*/ 1305000 h 1304640"/>
              </a:gdLst>
              <a:ahLst/>
              <a:rect l="textAreaLeft" t="textAreaTop" r="textAreaRight" b="textAreaBottom"/>
              <a:pathLst>
                <a:path w="351" h="775">
                  <a:moveTo>
                    <a:pt x="335" y="0"/>
                  </a:moveTo>
                  <a:lnTo>
                    <a:pt x="335" y="0"/>
                  </a:lnTo>
                  <a:lnTo>
                    <a:pt x="316" y="4"/>
                  </a:lnTo>
                  <a:lnTo>
                    <a:pt x="297" y="5"/>
                  </a:lnTo>
                  <a:lnTo>
                    <a:pt x="261" y="15"/>
                  </a:lnTo>
                  <a:lnTo>
                    <a:pt x="224" y="28"/>
                  </a:lnTo>
                  <a:lnTo>
                    <a:pt x="191" y="46"/>
                  </a:lnTo>
                  <a:lnTo>
                    <a:pt x="159" y="65"/>
                  </a:lnTo>
                  <a:lnTo>
                    <a:pt x="128" y="88"/>
                  </a:lnTo>
                  <a:lnTo>
                    <a:pt x="101" y="113"/>
                  </a:lnTo>
                  <a:lnTo>
                    <a:pt x="76" y="140"/>
                  </a:lnTo>
                  <a:lnTo>
                    <a:pt x="53" y="170"/>
                  </a:lnTo>
                  <a:lnTo>
                    <a:pt x="38" y="197"/>
                  </a:lnTo>
                  <a:lnTo>
                    <a:pt x="36" y="201"/>
                  </a:lnTo>
                  <a:lnTo>
                    <a:pt x="36" y="205"/>
                  </a:lnTo>
                  <a:lnTo>
                    <a:pt x="34" y="211"/>
                  </a:lnTo>
                  <a:lnTo>
                    <a:pt x="34" y="215"/>
                  </a:lnTo>
                  <a:lnTo>
                    <a:pt x="34" y="218"/>
                  </a:lnTo>
                  <a:lnTo>
                    <a:pt x="32" y="224"/>
                  </a:lnTo>
                  <a:lnTo>
                    <a:pt x="32" y="228"/>
                  </a:lnTo>
                  <a:lnTo>
                    <a:pt x="30" y="234"/>
                  </a:lnTo>
                  <a:lnTo>
                    <a:pt x="44" y="207"/>
                  </a:lnTo>
                  <a:lnTo>
                    <a:pt x="63" y="176"/>
                  </a:lnTo>
                  <a:lnTo>
                    <a:pt x="84" y="145"/>
                  </a:lnTo>
                  <a:lnTo>
                    <a:pt x="109" y="119"/>
                  </a:lnTo>
                  <a:lnTo>
                    <a:pt x="136" y="96"/>
                  </a:lnTo>
                  <a:lnTo>
                    <a:pt x="165" y="73"/>
                  </a:lnTo>
                  <a:lnTo>
                    <a:pt x="195" y="55"/>
                  </a:lnTo>
                  <a:lnTo>
                    <a:pt x="228" y="38"/>
                  </a:lnTo>
                  <a:lnTo>
                    <a:pt x="264" y="27"/>
                  </a:lnTo>
                  <a:lnTo>
                    <a:pt x="299" y="17"/>
                  </a:lnTo>
                  <a:lnTo>
                    <a:pt x="318" y="13"/>
                  </a:lnTo>
                  <a:lnTo>
                    <a:pt x="333" y="11"/>
                  </a:lnTo>
                  <a:lnTo>
                    <a:pt x="333" y="9"/>
                  </a:lnTo>
                  <a:lnTo>
                    <a:pt x="333" y="9"/>
                  </a:lnTo>
                  <a:lnTo>
                    <a:pt x="333" y="7"/>
                  </a:lnTo>
                  <a:lnTo>
                    <a:pt x="335" y="5"/>
                  </a:lnTo>
                  <a:lnTo>
                    <a:pt x="335" y="4"/>
                  </a:lnTo>
                  <a:lnTo>
                    <a:pt x="335" y="4"/>
                  </a:lnTo>
                  <a:lnTo>
                    <a:pt x="335" y="2"/>
                  </a:lnTo>
                  <a:lnTo>
                    <a:pt x="335" y="0"/>
                  </a:lnTo>
                  <a:close/>
                  <a:moveTo>
                    <a:pt x="0" y="485"/>
                  </a:moveTo>
                  <a:lnTo>
                    <a:pt x="5" y="502"/>
                  </a:lnTo>
                  <a:lnTo>
                    <a:pt x="19" y="539"/>
                  </a:lnTo>
                  <a:lnTo>
                    <a:pt x="34" y="571"/>
                  </a:lnTo>
                  <a:lnTo>
                    <a:pt x="53" y="604"/>
                  </a:lnTo>
                  <a:lnTo>
                    <a:pt x="76" y="635"/>
                  </a:lnTo>
                  <a:lnTo>
                    <a:pt x="101" y="662"/>
                  </a:lnTo>
                  <a:lnTo>
                    <a:pt x="128" y="687"/>
                  </a:lnTo>
                  <a:lnTo>
                    <a:pt x="159" y="710"/>
                  </a:lnTo>
                  <a:lnTo>
                    <a:pt x="191" y="729"/>
                  </a:lnTo>
                  <a:lnTo>
                    <a:pt x="224" y="744"/>
                  </a:lnTo>
                  <a:lnTo>
                    <a:pt x="261" y="758"/>
                  </a:lnTo>
                  <a:lnTo>
                    <a:pt x="297" y="767"/>
                  </a:lnTo>
                  <a:lnTo>
                    <a:pt x="316" y="771"/>
                  </a:lnTo>
                  <a:lnTo>
                    <a:pt x="335" y="773"/>
                  </a:lnTo>
                  <a:lnTo>
                    <a:pt x="351" y="775"/>
                  </a:lnTo>
                  <a:lnTo>
                    <a:pt x="351" y="773"/>
                  </a:lnTo>
                  <a:lnTo>
                    <a:pt x="351" y="771"/>
                  </a:lnTo>
                  <a:lnTo>
                    <a:pt x="349" y="771"/>
                  </a:lnTo>
                  <a:lnTo>
                    <a:pt x="349" y="769"/>
                  </a:lnTo>
                  <a:lnTo>
                    <a:pt x="349" y="767"/>
                  </a:lnTo>
                  <a:lnTo>
                    <a:pt x="349" y="767"/>
                  </a:lnTo>
                  <a:lnTo>
                    <a:pt x="349" y="765"/>
                  </a:lnTo>
                  <a:lnTo>
                    <a:pt x="347" y="763"/>
                  </a:lnTo>
                  <a:lnTo>
                    <a:pt x="337" y="763"/>
                  </a:lnTo>
                  <a:lnTo>
                    <a:pt x="318" y="759"/>
                  </a:lnTo>
                  <a:lnTo>
                    <a:pt x="299" y="758"/>
                  </a:lnTo>
                  <a:lnTo>
                    <a:pt x="264" y="748"/>
                  </a:lnTo>
                  <a:lnTo>
                    <a:pt x="228" y="735"/>
                  </a:lnTo>
                  <a:lnTo>
                    <a:pt x="195" y="719"/>
                  </a:lnTo>
                  <a:lnTo>
                    <a:pt x="165" y="700"/>
                  </a:lnTo>
                  <a:lnTo>
                    <a:pt x="136" y="679"/>
                  </a:lnTo>
                  <a:lnTo>
                    <a:pt x="109" y="654"/>
                  </a:lnTo>
                  <a:lnTo>
                    <a:pt x="84" y="627"/>
                  </a:lnTo>
                  <a:lnTo>
                    <a:pt x="63" y="598"/>
                  </a:lnTo>
                  <a:lnTo>
                    <a:pt x="44" y="568"/>
                  </a:lnTo>
                  <a:lnTo>
                    <a:pt x="28" y="533"/>
                  </a:lnTo>
                  <a:lnTo>
                    <a:pt x="15" y="499"/>
                  </a:lnTo>
                  <a:lnTo>
                    <a:pt x="5" y="462"/>
                  </a:lnTo>
                  <a:lnTo>
                    <a:pt x="3" y="449"/>
                  </a:lnTo>
                  <a:lnTo>
                    <a:pt x="3" y="452"/>
                  </a:lnTo>
                  <a:lnTo>
                    <a:pt x="1" y="458"/>
                  </a:lnTo>
                  <a:lnTo>
                    <a:pt x="1" y="462"/>
                  </a:lnTo>
                  <a:lnTo>
                    <a:pt x="1" y="466"/>
                  </a:lnTo>
                  <a:lnTo>
                    <a:pt x="1" y="472"/>
                  </a:lnTo>
                  <a:lnTo>
                    <a:pt x="1" y="475"/>
                  </a:lnTo>
                  <a:lnTo>
                    <a:pt x="1" y="479"/>
                  </a:lnTo>
                  <a:lnTo>
                    <a:pt x="0" y="485"/>
                  </a:lnTo>
                  <a:close/>
                </a:path>
              </a:pathLst>
            </a:custGeom>
            <a:solidFill>
              <a:srgbClr val="b7e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Freeform 457"/>
            <p:cNvSpPr/>
            <p:nvPr/>
          </p:nvSpPr>
          <p:spPr>
            <a:xfrm>
              <a:off x="5850360" y="2620080"/>
              <a:ext cx="586080" cy="1286280"/>
            </a:xfrm>
            <a:custGeom>
              <a:avLst/>
              <a:gdLst>
                <a:gd name="textAreaLeft" fmla="*/ 0 w 586080"/>
                <a:gd name="textAreaRight" fmla="*/ 586440 w 586080"/>
                <a:gd name="textAreaTop" fmla="*/ 0 h 1286280"/>
                <a:gd name="textAreaBottom" fmla="*/ 1286280 h 1286280"/>
              </a:gdLst>
              <a:ahLst/>
              <a:rect l="textAreaLeft" t="textAreaTop" r="textAreaRight" b="textAreaBottom"/>
              <a:pathLst>
                <a:path w="348" h="764">
                  <a:moveTo>
                    <a:pt x="334" y="0"/>
                  </a:moveTo>
                  <a:lnTo>
                    <a:pt x="317" y="2"/>
                  </a:lnTo>
                  <a:lnTo>
                    <a:pt x="298" y="6"/>
                  </a:lnTo>
                  <a:lnTo>
                    <a:pt x="261" y="16"/>
                  </a:lnTo>
                  <a:lnTo>
                    <a:pt x="225" y="29"/>
                  </a:lnTo>
                  <a:lnTo>
                    <a:pt x="192" y="45"/>
                  </a:lnTo>
                  <a:lnTo>
                    <a:pt x="160" y="64"/>
                  </a:lnTo>
                  <a:lnTo>
                    <a:pt x="131" y="87"/>
                  </a:lnTo>
                  <a:lnTo>
                    <a:pt x="104" y="112"/>
                  </a:lnTo>
                  <a:lnTo>
                    <a:pt x="79" y="139"/>
                  </a:lnTo>
                  <a:lnTo>
                    <a:pt x="58" y="167"/>
                  </a:lnTo>
                  <a:lnTo>
                    <a:pt x="39" y="200"/>
                  </a:lnTo>
                  <a:lnTo>
                    <a:pt x="33" y="208"/>
                  </a:lnTo>
                  <a:lnTo>
                    <a:pt x="33" y="213"/>
                  </a:lnTo>
                  <a:lnTo>
                    <a:pt x="31" y="219"/>
                  </a:lnTo>
                  <a:lnTo>
                    <a:pt x="31" y="225"/>
                  </a:lnTo>
                  <a:lnTo>
                    <a:pt x="29" y="231"/>
                  </a:lnTo>
                  <a:lnTo>
                    <a:pt x="29" y="236"/>
                  </a:lnTo>
                  <a:lnTo>
                    <a:pt x="27" y="240"/>
                  </a:lnTo>
                  <a:lnTo>
                    <a:pt x="27" y="246"/>
                  </a:lnTo>
                  <a:lnTo>
                    <a:pt x="25" y="252"/>
                  </a:lnTo>
                  <a:lnTo>
                    <a:pt x="31" y="236"/>
                  </a:lnTo>
                  <a:lnTo>
                    <a:pt x="46" y="204"/>
                  </a:lnTo>
                  <a:lnTo>
                    <a:pt x="66" y="173"/>
                  </a:lnTo>
                  <a:lnTo>
                    <a:pt x="87" y="144"/>
                  </a:lnTo>
                  <a:lnTo>
                    <a:pt x="112" y="117"/>
                  </a:lnTo>
                  <a:lnTo>
                    <a:pt x="139" y="94"/>
                  </a:lnTo>
                  <a:lnTo>
                    <a:pt x="167" y="73"/>
                  </a:lnTo>
                  <a:lnTo>
                    <a:pt x="198" y="54"/>
                  </a:lnTo>
                  <a:lnTo>
                    <a:pt x="231" y="39"/>
                  </a:lnTo>
                  <a:lnTo>
                    <a:pt x="263" y="25"/>
                  </a:lnTo>
                  <a:lnTo>
                    <a:pt x="300" y="18"/>
                  </a:lnTo>
                  <a:lnTo>
                    <a:pt x="331" y="12"/>
                  </a:lnTo>
                  <a:lnTo>
                    <a:pt x="331" y="10"/>
                  </a:lnTo>
                  <a:lnTo>
                    <a:pt x="331" y="10"/>
                  </a:lnTo>
                  <a:lnTo>
                    <a:pt x="332" y="8"/>
                  </a:lnTo>
                  <a:lnTo>
                    <a:pt x="332" y="6"/>
                  </a:lnTo>
                  <a:lnTo>
                    <a:pt x="332" y="4"/>
                  </a:lnTo>
                  <a:lnTo>
                    <a:pt x="332" y="4"/>
                  </a:lnTo>
                  <a:lnTo>
                    <a:pt x="332" y="2"/>
                  </a:lnTo>
                  <a:lnTo>
                    <a:pt x="334" y="0"/>
                  </a:lnTo>
                  <a:close/>
                  <a:moveTo>
                    <a:pt x="0" y="463"/>
                  </a:moveTo>
                  <a:lnTo>
                    <a:pt x="8" y="495"/>
                  </a:lnTo>
                  <a:lnTo>
                    <a:pt x="22" y="530"/>
                  </a:lnTo>
                  <a:lnTo>
                    <a:pt x="39" y="565"/>
                  </a:lnTo>
                  <a:lnTo>
                    <a:pt x="58" y="595"/>
                  </a:lnTo>
                  <a:lnTo>
                    <a:pt x="79" y="626"/>
                  </a:lnTo>
                  <a:lnTo>
                    <a:pt x="104" y="653"/>
                  </a:lnTo>
                  <a:lnTo>
                    <a:pt x="131" y="678"/>
                  </a:lnTo>
                  <a:lnTo>
                    <a:pt x="160" y="699"/>
                  </a:lnTo>
                  <a:lnTo>
                    <a:pt x="192" y="718"/>
                  </a:lnTo>
                  <a:lnTo>
                    <a:pt x="225" y="735"/>
                  </a:lnTo>
                  <a:lnTo>
                    <a:pt x="261" y="749"/>
                  </a:lnTo>
                  <a:lnTo>
                    <a:pt x="298" y="756"/>
                  </a:lnTo>
                  <a:lnTo>
                    <a:pt x="317" y="760"/>
                  </a:lnTo>
                  <a:lnTo>
                    <a:pt x="336" y="762"/>
                  </a:lnTo>
                  <a:lnTo>
                    <a:pt x="348" y="764"/>
                  </a:lnTo>
                  <a:lnTo>
                    <a:pt x="348" y="762"/>
                  </a:lnTo>
                  <a:lnTo>
                    <a:pt x="348" y="762"/>
                  </a:lnTo>
                  <a:lnTo>
                    <a:pt x="348" y="760"/>
                  </a:lnTo>
                  <a:lnTo>
                    <a:pt x="346" y="758"/>
                  </a:lnTo>
                  <a:lnTo>
                    <a:pt x="346" y="756"/>
                  </a:lnTo>
                  <a:lnTo>
                    <a:pt x="346" y="756"/>
                  </a:lnTo>
                  <a:lnTo>
                    <a:pt x="346" y="754"/>
                  </a:lnTo>
                  <a:lnTo>
                    <a:pt x="346" y="753"/>
                  </a:lnTo>
                  <a:lnTo>
                    <a:pt x="336" y="753"/>
                  </a:lnTo>
                  <a:lnTo>
                    <a:pt x="300" y="747"/>
                  </a:lnTo>
                  <a:lnTo>
                    <a:pt x="263" y="737"/>
                  </a:lnTo>
                  <a:lnTo>
                    <a:pt x="231" y="726"/>
                  </a:lnTo>
                  <a:lnTo>
                    <a:pt x="198" y="708"/>
                  </a:lnTo>
                  <a:lnTo>
                    <a:pt x="167" y="691"/>
                  </a:lnTo>
                  <a:lnTo>
                    <a:pt x="139" y="670"/>
                  </a:lnTo>
                  <a:lnTo>
                    <a:pt x="112" y="645"/>
                  </a:lnTo>
                  <a:lnTo>
                    <a:pt x="87" y="618"/>
                  </a:lnTo>
                  <a:lnTo>
                    <a:pt x="66" y="589"/>
                  </a:lnTo>
                  <a:lnTo>
                    <a:pt x="46" y="559"/>
                  </a:lnTo>
                  <a:lnTo>
                    <a:pt x="31" y="526"/>
                  </a:lnTo>
                  <a:lnTo>
                    <a:pt x="20" y="492"/>
                  </a:lnTo>
                  <a:lnTo>
                    <a:pt x="10" y="457"/>
                  </a:lnTo>
                  <a:lnTo>
                    <a:pt x="4" y="421"/>
                  </a:lnTo>
                  <a:lnTo>
                    <a:pt x="4" y="426"/>
                  </a:lnTo>
                  <a:lnTo>
                    <a:pt x="2" y="430"/>
                  </a:lnTo>
                  <a:lnTo>
                    <a:pt x="2" y="436"/>
                  </a:lnTo>
                  <a:lnTo>
                    <a:pt x="2" y="442"/>
                  </a:lnTo>
                  <a:lnTo>
                    <a:pt x="2" y="447"/>
                  </a:lnTo>
                  <a:lnTo>
                    <a:pt x="0" y="453"/>
                  </a:lnTo>
                  <a:lnTo>
                    <a:pt x="0" y="457"/>
                  </a:lnTo>
                  <a:lnTo>
                    <a:pt x="0" y="463"/>
                  </a:lnTo>
                  <a:close/>
                </a:path>
              </a:pathLst>
            </a:custGeom>
            <a:solidFill>
              <a:srgbClr val="b8e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Freeform 458"/>
            <p:cNvSpPr/>
            <p:nvPr/>
          </p:nvSpPr>
          <p:spPr>
            <a:xfrm>
              <a:off x="5853960" y="2630160"/>
              <a:ext cx="579240" cy="1266120"/>
            </a:xfrm>
            <a:custGeom>
              <a:avLst/>
              <a:gdLst>
                <a:gd name="textAreaLeft" fmla="*/ 0 w 579240"/>
                <a:gd name="textAreaRight" fmla="*/ 579600 w 579240"/>
                <a:gd name="textAreaTop" fmla="*/ 0 h 1266120"/>
                <a:gd name="textAreaBottom" fmla="*/ 1266480 h 1266120"/>
              </a:gdLst>
              <a:ahLst/>
              <a:rect l="textAreaLeft" t="textAreaTop" r="textAreaRight" b="textAreaBottom"/>
              <a:pathLst>
                <a:path w="344" h="752">
                  <a:moveTo>
                    <a:pt x="330" y="0"/>
                  </a:moveTo>
                  <a:lnTo>
                    <a:pt x="315" y="2"/>
                  </a:lnTo>
                  <a:lnTo>
                    <a:pt x="296" y="6"/>
                  </a:lnTo>
                  <a:lnTo>
                    <a:pt x="261" y="16"/>
                  </a:lnTo>
                  <a:lnTo>
                    <a:pt x="225" y="27"/>
                  </a:lnTo>
                  <a:lnTo>
                    <a:pt x="192" y="44"/>
                  </a:lnTo>
                  <a:lnTo>
                    <a:pt x="162" y="62"/>
                  </a:lnTo>
                  <a:lnTo>
                    <a:pt x="133" y="85"/>
                  </a:lnTo>
                  <a:lnTo>
                    <a:pt x="106" y="108"/>
                  </a:lnTo>
                  <a:lnTo>
                    <a:pt x="81" y="134"/>
                  </a:lnTo>
                  <a:lnTo>
                    <a:pt x="60" y="165"/>
                  </a:lnTo>
                  <a:lnTo>
                    <a:pt x="41" y="196"/>
                  </a:lnTo>
                  <a:lnTo>
                    <a:pt x="27" y="223"/>
                  </a:lnTo>
                  <a:lnTo>
                    <a:pt x="27" y="229"/>
                  </a:lnTo>
                  <a:lnTo>
                    <a:pt x="25" y="236"/>
                  </a:lnTo>
                  <a:lnTo>
                    <a:pt x="25" y="244"/>
                  </a:lnTo>
                  <a:lnTo>
                    <a:pt x="23" y="250"/>
                  </a:lnTo>
                  <a:lnTo>
                    <a:pt x="21" y="257"/>
                  </a:lnTo>
                  <a:lnTo>
                    <a:pt x="21" y="265"/>
                  </a:lnTo>
                  <a:lnTo>
                    <a:pt x="20" y="271"/>
                  </a:lnTo>
                  <a:lnTo>
                    <a:pt x="20" y="278"/>
                  </a:lnTo>
                  <a:lnTo>
                    <a:pt x="21" y="267"/>
                  </a:lnTo>
                  <a:lnTo>
                    <a:pt x="35" y="232"/>
                  </a:lnTo>
                  <a:lnTo>
                    <a:pt x="50" y="202"/>
                  </a:lnTo>
                  <a:lnTo>
                    <a:pt x="68" y="171"/>
                  </a:lnTo>
                  <a:lnTo>
                    <a:pt x="89" y="142"/>
                  </a:lnTo>
                  <a:lnTo>
                    <a:pt x="114" y="115"/>
                  </a:lnTo>
                  <a:lnTo>
                    <a:pt x="139" y="92"/>
                  </a:lnTo>
                  <a:lnTo>
                    <a:pt x="167" y="71"/>
                  </a:lnTo>
                  <a:lnTo>
                    <a:pt x="198" y="52"/>
                  </a:lnTo>
                  <a:lnTo>
                    <a:pt x="231" y="37"/>
                  </a:lnTo>
                  <a:lnTo>
                    <a:pt x="263" y="25"/>
                  </a:lnTo>
                  <a:lnTo>
                    <a:pt x="300" y="16"/>
                  </a:lnTo>
                  <a:lnTo>
                    <a:pt x="327" y="12"/>
                  </a:lnTo>
                  <a:lnTo>
                    <a:pt x="327" y="10"/>
                  </a:lnTo>
                  <a:lnTo>
                    <a:pt x="329" y="10"/>
                  </a:lnTo>
                  <a:lnTo>
                    <a:pt x="329" y="8"/>
                  </a:lnTo>
                  <a:lnTo>
                    <a:pt x="329" y="6"/>
                  </a:lnTo>
                  <a:lnTo>
                    <a:pt x="329" y="4"/>
                  </a:lnTo>
                  <a:lnTo>
                    <a:pt x="329" y="4"/>
                  </a:lnTo>
                  <a:lnTo>
                    <a:pt x="330" y="2"/>
                  </a:lnTo>
                  <a:lnTo>
                    <a:pt x="330" y="0"/>
                  </a:lnTo>
                  <a:close/>
                  <a:moveTo>
                    <a:pt x="0" y="438"/>
                  </a:moveTo>
                  <a:lnTo>
                    <a:pt x="2" y="451"/>
                  </a:lnTo>
                  <a:lnTo>
                    <a:pt x="12" y="488"/>
                  </a:lnTo>
                  <a:lnTo>
                    <a:pt x="25" y="522"/>
                  </a:lnTo>
                  <a:lnTo>
                    <a:pt x="41" y="557"/>
                  </a:lnTo>
                  <a:lnTo>
                    <a:pt x="60" y="587"/>
                  </a:lnTo>
                  <a:lnTo>
                    <a:pt x="81" y="616"/>
                  </a:lnTo>
                  <a:lnTo>
                    <a:pt x="106" y="643"/>
                  </a:lnTo>
                  <a:lnTo>
                    <a:pt x="133" y="668"/>
                  </a:lnTo>
                  <a:lnTo>
                    <a:pt x="162" y="689"/>
                  </a:lnTo>
                  <a:lnTo>
                    <a:pt x="192" y="708"/>
                  </a:lnTo>
                  <a:lnTo>
                    <a:pt x="225" y="724"/>
                  </a:lnTo>
                  <a:lnTo>
                    <a:pt x="261" y="737"/>
                  </a:lnTo>
                  <a:lnTo>
                    <a:pt x="296" y="747"/>
                  </a:lnTo>
                  <a:lnTo>
                    <a:pt x="315" y="748"/>
                  </a:lnTo>
                  <a:lnTo>
                    <a:pt x="334" y="752"/>
                  </a:lnTo>
                  <a:lnTo>
                    <a:pt x="344" y="752"/>
                  </a:lnTo>
                  <a:lnTo>
                    <a:pt x="344" y="750"/>
                  </a:lnTo>
                  <a:lnTo>
                    <a:pt x="344" y="750"/>
                  </a:lnTo>
                  <a:lnTo>
                    <a:pt x="344" y="748"/>
                  </a:lnTo>
                  <a:lnTo>
                    <a:pt x="344" y="747"/>
                  </a:lnTo>
                  <a:lnTo>
                    <a:pt x="342" y="747"/>
                  </a:lnTo>
                  <a:lnTo>
                    <a:pt x="342" y="745"/>
                  </a:lnTo>
                  <a:lnTo>
                    <a:pt x="342" y="743"/>
                  </a:lnTo>
                  <a:lnTo>
                    <a:pt x="342" y="741"/>
                  </a:lnTo>
                  <a:lnTo>
                    <a:pt x="336" y="741"/>
                  </a:lnTo>
                  <a:lnTo>
                    <a:pt x="300" y="735"/>
                  </a:lnTo>
                  <a:lnTo>
                    <a:pt x="263" y="727"/>
                  </a:lnTo>
                  <a:lnTo>
                    <a:pt x="231" y="714"/>
                  </a:lnTo>
                  <a:lnTo>
                    <a:pt x="198" y="699"/>
                  </a:lnTo>
                  <a:lnTo>
                    <a:pt x="167" y="679"/>
                  </a:lnTo>
                  <a:lnTo>
                    <a:pt x="139" y="658"/>
                  </a:lnTo>
                  <a:lnTo>
                    <a:pt x="114" y="635"/>
                  </a:lnTo>
                  <a:lnTo>
                    <a:pt x="89" y="610"/>
                  </a:lnTo>
                  <a:lnTo>
                    <a:pt x="68" y="582"/>
                  </a:lnTo>
                  <a:lnTo>
                    <a:pt x="50" y="551"/>
                  </a:lnTo>
                  <a:lnTo>
                    <a:pt x="35" y="518"/>
                  </a:lnTo>
                  <a:lnTo>
                    <a:pt x="21" y="486"/>
                  </a:lnTo>
                  <a:lnTo>
                    <a:pt x="14" y="449"/>
                  </a:lnTo>
                  <a:lnTo>
                    <a:pt x="8" y="413"/>
                  </a:lnTo>
                  <a:lnTo>
                    <a:pt x="6" y="380"/>
                  </a:lnTo>
                  <a:lnTo>
                    <a:pt x="4" y="388"/>
                  </a:lnTo>
                  <a:lnTo>
                    <a:pt x="4" y="395"/>
                  </a:lnTo>
                  <a:lnTo>
                    <a:pt x="4" y="401"/>
                  </a:lnTo>
                  <a:lnTo>
                    <a:pt x="2" y="409"/>
                  </a:lnTo>
                  <a:lnTo>
                    <a:pt x="2" y="417"/>
                  </a:lnTo>
                  <a:lnTo>
                    <a:pt x="2" y="424"/>
                  </a:lnTo>
                  <a:lnTo>
                    <a:pt x="0" y="430"/>
                  </a:lnTo>
                  <a:lnTo>
                    <a:pt x="0" y="438"/>
                  </a:lnTo>
                  <a:close/>
                </a:path>
              </a:pathLst>
            </a:custGeom>
            <a:solidFill>
              <a:srgbClr val="b9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Freeform 459"/>
            <p:cNvSpPr/>
            <p:nvPr/>
          </p:nvSpPr>
          <p:spPr>
            <a:xfrm>
              <a:off x="5857200" y="2640240"/>
              <a:ext cx="575640" cy="1247400"/>
            </a:xfrm>
            <a:custGeom>
              <a:avLst/>
              <a:gdLst>
                <a:gd name="textAreaLeft" fmla="*/ 0 w 575640"/>
                <a:gd name="textAreaRight" fmla="*/ 576000 w 575640"/>
                <a:gd name="textAreaTop" fmla="*/ 0 h 1247400"/>
                <a:gd name="textAreaBottom" fmla="*/ 1247760 h 1247400"/>
              </a:gdLst>
              <a:ahLst/>
              <a:rect l="textAreaLeft" t="textAreaTop" r="textAreaRight" b="textAreaBottom"/>
              <a:pathLst>
                <a:path w="342" h="741">
                  <a:moveTo>
                    <a:pt x="327" y="0"/>
                  </a:moveTo>
                  <a:lnTo>
                    <a:pt x="296" y="6"/>
                  </a:lnTo>
                  <a:lnTo>
                    <a:pt x="259" y="13"/>
                  </a:lnTo>
                  <a:lnTo>
                    <a:pt x="227" y="27"/>
                  </a:lnTo>
                  <a:lnTo>
                    <a:pt x="194" y="42"/>
                  </a:lnTo>
                  <a:lnTo>
                    <a:pt x="163" y="61"/>
                  </a:lnTo>
                  <a:lnTo>
                    <a:pt x="135" y="82"/>
                  </a:lnTo>
                  <a:lnTo>
                    <a:pt x="108" y="105"/>
                  </a:lnTo>
                  <a:lnTo>
                    <a:pt x="83" y="132"/>
                  </a:lnTo>
                  <a:lnTo>
                    <a:pt x="62" y="161"/>
                  </a:lnTo>
                  <a:lnTo>
                    <a:pt x="42" y="192"/>
                  </a:lnTo>
                  <a:lnTo>
                    <a:pt x="27" y="224"/>
                  </a:lnTo>
                  <a:lnTo>
                    <a:pt x="21" y="240"/>
                  </a:lnTo>
                  <a:lnTo>
                    <a:pt x="19" y="261"/>
                  </a:lnTo>
                  <a:lnTo>
                    <a:pt x="16" y="282"/>
                  </a:lnTo>
                  <a:lnTo>
                    <a:pt x="12" y="303"/>
                  </a:lnTo>
                  <a:lnTo>
                    <a:pt x="10" y="324"/>
                  </a:lnTo>
                  <a:lnTo>
                    <a:pt x="8" y="345"/>
                  </a:lnTo>
                  <a:lnTo>
                    <a:pt x="4" y="366"/>
                  </a:lnTo>
                  <a:lnTo>
                    <a:pt x="2" y="388"/>
                  </a:lnTo>
                  <a:lnTo>
                    <a:pt x="0" y="409"/>
                  </a:lnTo>
                  <a:lnTo>
                    <a:pt x="6" y="445"/>
                  </a:lnTo>
                  <a:lnTo>
                    <a:pt x="16" y="480"/>
                  </a:lnTo>
                  <a:lnTo>
                    <a:pt x="27" y="514"/>
                  </a:lnTo>
                  <a:lnTo>
                    <a:pt x="42" y="547"/>
                  </a:lnTo>
                  <a:lnTo>
                    <a:pt x="62" y="577"/>
                  </a:lnTo>
                  <a:lnTo>
                    <a:pt x="83" y="606"/>
                  </a:lnTo>
                  <a:lnTo>
                    <a:pt x="108" y="633"/>
                  </a:lnTo>
                  <a:lnTo>
                    <a:pt x="135" y="658"/>
                  </a:lnTo>
                  <a:lnTo>
                    <a:pt x="163" y="679"/>
                  </a:lnTo>
                  <a:lnTo>
                    <a:pt x="194" y="696"/>
                  </a:lnTo>
                  <a:lnTo>
                    <a:pt x="227" y="714"/>
                  </a:lnTo>
                  <a:lnTo>
                    <a:pt x="259" y="725"/>
                  </a:lnTo>
                  <a:lnTo>
                    <a:pt x="296" y="735"/>
                  </a:lnTo>
                  <a:lnTo>
                    <a:pt x="332" y="741"/>
                  </a:lnTo>
                  <a:lnTo>
                    <a:pt x="342" y="741"/>
                  </a:lnTo>
                  <a:lnTo>
                    <a:pt x="340" y="739"/>
                  </a:lnTo>
                  <a:lnTo>
                    <a:pt x="340" y="739"/>
                  </a:lnTo>
                  <a:lnTo>
                    <a:pt x="340" y="737"/>
                  </a:lnTo>
                  <a:lnTo>
                    <a:pt x="340" y="735"/>
                  </a:lnTo>
                  <a:lnTo>
                    <a:pt x="338" y="735"/>
                  </a:lnTo>
                  <a:lnTo>
                    <a:pt x="338" y="733"/>
                  </a:lnTo>
                  <a:lnTo>
                    <a:pt x="338" y="731"/>
                  </a:lnTo>
                  <a:lnTo>
                    <a:pt x="338" y="731"/>
                  </a:lnTo>
                  <a:lnTo>
                    <a:pt x="334" y="729"/>
                  </a:lnTo>
                  <a:lnTo>
                    <a:pt x="298" y="725"/>
                  </a:lnTo>
                  <a:lnTo>
                    <a:pt x="263" y="716"/>
                  </a:lnTo>
                  <a:lnTo>
                    <a:pt x="231" y="704"/>
                  </a:lnTo>
                  <a:lnTo>
                    <a:pt x="198" y="689"/>
                  </a:lnTo>
                  <a:lnTo>
                    <a:pt x="169" y="670"/>
                  </a:lnTo>
                  <a:lnTo>
                    <a:pt x="140" y="648"/>
                  </a:lnTo>
                  <a:lnTo>
                    <a:pt x="115" y="625"/>
                  </a:lnTo>
                  <a:lnTo>
                    <a:pt x="92" y="600"/>
                  </a:lnTo>
                  <a:lnTo>
                    <a:pt x="71" y="572"/>
                  </a:lnTo>
                  <a:lnTo>
                    <a:pt x="52" y="543"/>
                  </a:lnTo>
                  <a:lnTo>
                    <a:pt x="37" y="510"/>
                  </a:lnTo>
                  <a:lnTo>
                    <a:pt x="25" y="478"/>
                  </a:lnTo>
                  <a:lnTo>
                    <a:pt x="16" y="443"/>
                  </a:lnTo>
                  <a:lnTo>
                    <a:pt x="10" y="407"/>
                  </a:lnTo>
                  <a:lnTo>
                    <a:pt x="10" y="370"/>
                  </a:lnTo>
                  <a:lnTo>
                    <a:pt x="10" y="332"/>
                  </a:lnTo>
                  <a:lnTo>
                    <a:pt x="16" y="297"/>
                  </a:lnTo>
                  <a:lnTo>
                    <a:pt x="25" y="263"/>
                  </a:lnTo>
                  <a:lnTo>
                    <a:pt x="37" y="228"/>
                  </a:lnTo>
                  <a:lnTo>
                    <a:pt x="52" y="198"/>
                  </a:lnTo>
                  <a:lnTo>
                    <a:pt x="71" y="167"/>
                  </a:lnTo>
                  <a:lnTo>
                    <a:pt x="92" y="140"/>
                  </a:lnTo>
                  <a:lnTo>
                    <a:pt x="115" y="113"/>
                  </a:lnTo>
                  <a:lnTo>
                    <a:pt x="140" y="90"/>
                  </a:lnTo>
                  <a:lnTo>
                    <a:pt x="169" y="69"/>
                  </a:lnTo>
                  <a:lnTo>
                    <a:pt x="198" y="52"/>
                  </a:lnTo>
                  <a:lnTo>
                    <a:pt x="231" y="36"/>
                  </a:lnTo>
                  <a:lnTo>
                    <a:pt x="263" y="25"/>
                  </a:lnTo>
                  <a:lnTo>
                    <a:pt x="298" y="15"/>
                  </a:lnTo>
                  <a:lnTo>
                    <a:pt x="325" y="11"/>
                  </a:lnTo>
                  <a:lnTo>
                    <a:pt x="325" y="10"/>
                  </a:lnTo>
                  <a:lnTo>
                    <a:pt x="325" y="8"/>
                  </a:lnTo>
                  <a:lnTo>
                    <a:pt x="325" y="8"/>
                  </a:lnTo>
                  <a:lnTo>
                    <a:pt x="325" y="6"/>
                  </a:lnTo>
                  <a:lnTo>
                    <a:pt x="325" y="4"/>
                  </a:lnTo>
                  <a:lnTo>
                    <a:pt x="327" y="4"/>
                  </a:lnTo>
                  <a:lnTo>
                    <a:pt x="327" y="2"/>
                  </a:lnTo>
                  <a:lnTo>
                    <a:pt x="327" y="0"/>
                  </a:lnTo>
                  <a:close/>
                </a:path>
              </a:pathLst>
            </a:custGeom>
            <a:solidFill>
              <a:srgbClr val="ba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Freeform 460"/>
            <p:cNvSpPr/>
            <p:nvPr/>
          </p:nvSpPr>
          <p:spPr>
            <a:xfrm>
              <a:off x="5863680" y="2650320"/>
              <a:ext cx="565920" cy="1227600"/>
            </a:xfrm>
            <a:custGeom>
              <a:avLst/>
              <a:gdLst>
                <a:gd name="textAreaLeft" fmla="*/ 0 w 565920"/>
                <a:gd name="textAreaRight" fmla="*/ 565920 w 565920"/>
                <a:gd name="textAreaTop" fmla="*/ 0 h 1227600"/>
                <a:gd name="textAreaBottom" fmla="*/ 1227960 h 1227600"/>
              </a:gdLst>
              <a:ahLst/>
              <a:rect l="textAreaLeft" t="textAreaTop" r="textAreaRight" b="textAreaBottom"/>
              <a:pathLst>
                <a:path w="336" h="729">
                  <a:moveTo>
                    <a:pt x="321" y="0"/>
                  </a:moveTo>
                  <a:lnTo>
                    <a:pt x="294" y="4"/>
                  </a:lnTo>
                  <a:lnTo>
                    <a:pt x="257" y="13"/>
                  </a:lnTo>
                  <a:lnTo>
                    <a:pt x="225" y="25"/>
                  </a:lnTo>
                  <a:lnTo>
                    <a:pt x="192" y="40"/>
                  </a:lnTo>
                  <a:lnTo>
                    <a:pt x="161" y="59"/>
                  </a:lnTo>
                  <a:lnTo>
                    <a:pt x="133" y="80"/>
                  </a:lnTo>
                  <a:lnTo>
                    <a:pt x="108" y="103"/>
                  </a:lnTo>
                  <a:lnTo>
                    <a:pt x="83" y="130"/>
                  </a:lnTo>
                  <a:lnTo>
                    <a:pt x="62" y="159"/>
                  </a:lnTo>
                  <a:lnTo>
                    <a:pt x="44" y="190"/>
                  </a:lnTo>
                  <a:lnTo>
                    <a:pt x="29" y="220"/>
                  </a:lnTo>
                  <a:lnTo>
                    <a:pt x="15" y="255"/>
                  </a:lnTo>
                  <a:lnTo>
                    <a:pt x="14" y="266"/>
                  </a:lnTo>
                  <a:lnTo>
                    <a:pt x="12" y="280"/>
                  </a:lnTo>
                  <a:lnTo>
                    <a:pt x="10" y="291"/>
                  </a:lnTo>
                  <a:lnTo>
                    <a:pt x="8" y="305"/>
                  </a:lnTo>
                  <a:lnTo>
                    <a:pt x="6" y="318"/>
                  </a:lnTo>
                  <a:lnTo>
                    <a:pt x="4" y="330"/>
                  </a:lnTo>
                  <a:lnTo>
                    <a:pt x="2" y="343"/>
                  </a:lnTo>
                  <a:lnTo>
                    <a:pt x="2" y="357"/>
                  </a:lnTo>
                  <a:lnTo>
                    <a:pt x="0" y="368"/>
                  </a:lnTo>
                  <a:lnTo>
                    <a:pt x="2" y="401"/>
                  </a:lnTo>
                  <a:lnTo>
                    <a:pt x="8" y="437"/>
                  </a:lnTo>
                  <a:lnTo>
                    <a:pt x="15" y="474"/>
                  </a:lnTo>
                  <a:lnTo>
                    <a:pt x="29" y="506"/>
                  </a:lnTo>
                  <a:lnTo>
                    <a:pt x="44" y="539"/>
                  </a:lnTo>
                  <a:lnTo>
                    <a:pt x="62" y="570"/>
                  </a:lnTo>
                  <a:lnTo>
                    <a:pt x="83" y="598"/>
                  </a:lnTo>
                  <a:lnTo>
                    <a:pt x="108" y="623"/>
                  </a:lnTo>
                  <a:lnTo>
                    <a:pt x="133" y="646"/>
                  </a:lnTo>
                  <a:lnTo>
                    <a:pt x="161" y="667"/>
                  </a:lnTo>
                  <a:lnTo>
                    <a:pt x="192" y="687"/>
                  </a:lnTo>
                  <a:lnTo>
                    <a:pt x="225" y="702"/>
                  </a:lnTo>
                  <a:lnTo>
                    <a:pt x="257" y="715"/>
                  </a:lnTo>
                  <a:lnTo>
                    <a:pt x="294" y="723"/>
                  </a:lnTo>
                  <a:lnTo>
                    <a:pt x="330" y="729"/>
                  </a:lnTo>
                  <a:lnTo>
                    <a:pt x="336" y="729"/>
                  </a:lnTo>
                  <a:lnTo>
                    <a:pt x="334" y="729"/>
                  </a:lnTo>
                  <a:lnTo>
                    <a:pt x="334" y="727"/>
                  </a:lnTo>
                  <a:lnTo>
                    <a:pt x="334" y="725"/>
                  </a:lnTo>
                  <a:lnTo>
                    <a:pt x="334" y="725"/>
                  </a:lnTo>
                  <a:lnTo>
                    <a:pt x="334" y="723"/>
                  </a:lnTo>
                  <a:lnTo>
                    <a:pt x="332" y="721"/>
                  </a:lnTo>
                  <a:lnTo>
                    <a:pt x="332" y="719"/>
                  </a:lnTo>
                  <a:lnTo>
                    <a:pt x="332" y="719"/>
                  </a:lnTo>
                  <a:lnTo>
                    <a:pt x="330" y="719"/>
                  </a:lnTo>
                  <a:lnTo>
                    <a:pt x="296" y="713"/>
                  </a:lnTo>
                  <a:lnTo>
                    <a:pt x="261" y="704"/>
                  </a:lnTo>
                  <a:lnTo>
                    <a:pt x="229" y="692"/>
                  </a:lnTo>
                  <a:lnTo>
                    <a:pt x="198" y="677"/>
                  </a:lnTo>
                  <a:lnTo>
                    <a:pt x="167" y="660"/>
                  </a:lnTo>
                  <a:lnTo>
                    <a:pt x="140" y="639"/>
                  </a:lnTo>
                  <a:lnTo>
                    <a:pt x="115" y="616"/>
                  </a:lnTo>
                  <a:lnTo>
                    <a:pt x="92" y="591"/>
                  </a:lnTo>
                  <a:lnTo>
                    <a:pt x="71" y="564"/>
                  </a:lnTo>
                  <a:lnTo>
                    <a:pt x="54" y="533"/>
                  </a:lnTo>
                  <a:lnTo>
                    <a:pt x="38" y="502"/>
                  </a:lnTo>
                  <a:lnTo>
                    <a:pt x="27" y="470"/>
                  </a:lnTo>
                  <a:lnTo>
                    <a:pt x="17" y="435"/>
                  </a:lnTo>
                  <a:lnTo>
                    <a:pt x="12" y="401"/>
                  </a:lnTo>
                  <a:lnTo>
                    <a:pt x="10" y="364"/>
                  </a:lnTo>
                  <a:lnTo>
                    <a:pt x="12" y="328"/>
                  </a:lnTo>
                  <a:lnTo>
                    <a:pt x="17" y="291"/>
                  </a:lnTo>
                  <a:lnTo>
                    <a:pt x="27" y="257"/>
                  </a:lnTo>
                  <a:lnTo>
                    <a:pt x="38" y="224"/>
                  </a:lnTo>
                  <a:lnTo>
                    <a:pt x="54" y="193"/>
                  </a:lnTo>
                  <a:lnTo>
                    <a:pt x="71" y="165"/>
                  </a:lnTo>
                  <a:lnTo>
                    <a:pt x="92" y="138"/>
                  </a:lnTo>
                  <a:lnTo>
                    <a:pt x="115" y="111"/>
                  </a:lnTo>
                  <a:lnTo>
                    <a:pt x="140" y="88"/>
                  </a:lnTo>
                  <a:lnTo>
                    <a:pt x="167" y="69"/>
                  </a:lnTo>
                  <a:lnTo>
                    <a:pt x="198" y="50"/>
                  </a:lnTo>
                  <a:lnTo>
                    <a:pt x="229" y="36"/>
                  </a:lnTo>
                  <a:lnTo>
                    <a:pt x="261" y="23"/>
                  </a:lnTo>
                  <a:lnTo>
                    <a:pt x="296" y="15"/>
                  </a:lnTo>
                  <a:lnTo>
                    <a:pt x="319" y="11"/>
                  </a:lnTo>
                  <a:lnTo>
                    <a:pt x="319" y="9"/>
                  </a:lnTo>
                  <a:lnTo>
                    <a:pt x="319" y="7"/>
                  </a:lnTo>
                  <a:lnTo>
                    <a:pt x="319" y="7"/>
                  </a:lnTo>
                  <a:lnTo>
                    <a:pt x="321" y="5"/>
                  </a:lnTo>
                  <a:lnTo>
                    <a:pt x="321" y="4"/>
                  </a:lnTo>
                  <a:lnTo>
                    <a:pt x="321" y="2"/>
                  </a:lnTo>
                  <a:lnTo>
                    <a:pt x="321" y="2"/>
                  </a:lnTo>
                  <a:lnTo>
                    <a:pt x="321" y="0"/>
                  </a:lnTo>
                  <a:close/>
                </a:path>
              </a:pathLst>
            </a:custGeom>
            <a:solidFill>
              <a:srgbClr val="bb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Freeform 461"/>
            <p:cNvSpPr/>
            <p:nvPr/>
          </p:nvSpPr>
          <p:spPr>
            <a:xfrm>
              <a:off x="5874120" y="2658600"/>
              <a:ext cx="551880" cy="121212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1212120"/>
                <a:gd name="textAreaBottom" fmla="*/ 1212480 h 1212120"/>
              </a:gdLst>
              <a:ahLst/>
              <a:rect l="textAreaLeft" t="textAreaTop" r="textAreaRight" b="textAreaBottom"/>
              <a:pathLst>
                <a:path w="328" h="720">
                  <a:moveTo>
                    <a:pt x="315" y="0"/>
                  </a:moveTo>
                  <a:lnTo>
                    <a:pt x="288" y="4"/>
                  </a:lnTo>
                  <a:lnTo>
                    <a:pt x="253" y="14"/>
                  </a:lnTo>
                  <a:lnTo>
                    <a:pt x="221" y="25"/>
                  </a:lnTo>
                  <a:lnTo>
                    <a:pt x="188" y="41"/>
                  </a:lnTo>
                  <a:lnTo>
                    <a:pt x="159" y="58"/>
                  </a:lnTo>
                  <a:lnTo>
                    <a:pt x="130" y="79"/>
                  </a:lnTo>
                  <a:lnTo>
                    <a:pt x="105" y="102"/>
                  </a:lnTo>
                  <a:lnTo>
                    <a:pt x="82" y="129"/>
                  </a:lnTo>
                  <a:lnTo>
                    <a:pt x="61" y="156"/>
                  </a:lnTo>
                  <a:lnTo>
                    <a:pt x="42" y="187"/>
                  </a:lnTo>
                  <a:lnTo>
                    <a:pt x="27" y="217"/>
                  </a:lnTo>
                  <a:lnTo>
                    <a:pt x="15" y="252"/>
                  </a:lnTo>
                  <a:lnTo>
                    <a:pt x="6" y="286"/>
                  </a:lnTo>
                  <a:lnTo>
                    <a:pt x="0" y="321"/>
                  </a:lnTo>
                  <a:lnTo>
                    <a:pt x="0" y="359"/>
                  </a:lnTo>
                  <a:lnTo>
                    <a:pt x="0" y="396"/>
                  </a:lnTo>
                  <a:lnTo>
                    <a:pt x="6" y="432"/>
                  </a:lnTo>
                  <a:lnTo>
                    <a:pt x="15" y="467"/>
                  </a:lnTo>
                  <a:lnTo>
                    <a:pt x="27" y="499"/>
                  </a:lnTo>
                  <a:lnTo>
                    <a:pt x="42" y="532"/>
                  </a:lnTo>
                  <a:lnTo>
                    <a:pt x="61" y="561"/>
                  </a:lnTo>
                  <a:lnTo>
                    <a:pt x="82" y="589"/>
                  </a:lnTo>
                  <a:lnTo>
                    <a:pt x="105" y="614"/>
                  </a:lnTo>
                  <a:lnTo>
                    <a:pt x="130" y="637"/>
                  </a:lnTo>
                  <a:lnTo>
                    <a:pt x="159" y="659"/>
                  </a:lnTo>
                  <a:lnTo>
                    <a:pt x="188" y="678"/>
                  </a:lnTo>
                  <a:lnTo>
                    <a:pt x="221" y="693"/>
                  </a:lnTo>
                  <a:lnTo>
                    <a:pt x="253" y="705"/>
                  </a:lnTo>
                  <a:lnTo>
                    <a:pt x="288" y="714"/>
                  </a:lnTo>
                  <a:lnTo>
                    <a:pt x="324" y="718"/>
                  </a:lnTo>
                  <a:lnTo>
                    <a:pt x="328" y="720"/>
                  </a:lnTo>
                  <a:lnTo>
                    <a:pt x="328" y="718"/>
                  </a:lnTo>
                  <a:lnTo>
                    <a:pt x="326" y="716"/>
                  </a:lnTo>
                  <a:lnTo>
                    <a:pt x="326" y="714"/>
                  </a:lnTo>
                  <a:lnTo>
                    <a:pt x="326" y="714"/>
                  </a:lnTo>
                  <a:lnTo>
                    <a:pt x="326" y="712"/>
                  </a:lnTo>
                  <a:lnTo>
                    <a:pt x="326" y="710"/>
                  </a:lnTo>
                  <a:lnTo>
                    <a:pt x="324" y="710"/>
                  </a:lnTo>
                  <a:lnTo>
                    <a:pt x="324" y="708"/>
                  </a:lnTo>
                  <a:lnTo>
                    <a:pt x="290" y="703"/>
                  </a:lnTo>
                  <a:lnTo>
                    <a:pt x="257" y="695"/>
                  </a:lnTo>
                  <a:lnTo>
                    <a:pt x="224" y="682"/>
                  </a:lnTo>
                  <a:lnTo>
                    <a:pt x="194" y="668"/>
                  </a:lnTo>
                  <a:lnTo>
                    <a:pt x="165" y="651"/>
                  </a:lnTo>
                  <a:lnTo>
                    <a:pt x="138" y="630"/>
                  </a:lnTo>
                  <a:lnTo>
                    <a:pt x="113" y="607"/>
                  </a:lnTo>
                  <a:lnTo>
                    <a:pt x="90" y="582"/>
                  </a:lnTo>
                  <a:lnTo>
                    <a:pt x="69" y="555"/>
                  </a:lnTo>
                  <a:lnTo>
                    <a:pt x="52" y="526"/>
                  </a:lnTo>
                  <a:lnTo>
                    <a:pt x="36" y="495"/>
                  </a:lnTo>
                  <a:lnTo>
                    <a:pt x="25" y="463"/>
                  </a:lnTo>
                  <a:lnTo>
                    <a:pt x="17" y="430"/>
                  </a:lnTo>
                  <a:lnTo>
                    <a:pt x="11" y="394"/>
                  </a:lnTo>
                  <a:lnTo>
                    <a:pt x="9" y="359"/>
                  </a:lnTo>
                  <a:lnTo>
                    <a:pt x="11" y="323"/>
                  </a:lnTo>
                  <a:lnTo>
                    <a:pt x="17" y="288"/>
                  </a:lnTo>
                  <a:lnTo>
                    <a:pt x="25" y="254"/>
                  </a:lnTo>
                  <a:lnTo>
                    <a:pt x="36" y="221"/>
                  </a:lnTo>
                  <a:lnTo>
                    <a:pt x="52" y="190"/>
                  </a:lnTo>
                  <a:lnTo>
                    <a:pt x="69" y="162"/>
                  </a:lnTo>
                  <a:lnTo>
                    <a:pt x="90" y="135"/>
                  </a:lnTo>
                  <a:lnTo>
                    <a:pt x="113" y="110"/>
                  </a:lnTo>
                  <a:lnTo>
                    <a:pt x="138" y="87"/>
                  </a:lnTo>
                  <a:lnTo>
                    <a:pt x="165" y="68"/>
                  </a:lnTo>
                  <a:lnTo>
                    <a:pt x="194" y="50"/>
                  </a:lnTo>
                  <a:lnTo>
                    <a:pt x="224" y="35"/>
                  </a:lnTo>
                  <a:lnTo>
                    <a:pt x="257" y="23"/>
                  </a:lnTo>
                  <a:lnTo>
                    <a:pt x="290" y="14"/>
                  </a:lnTo>
                  <a:lnTo>
                    <a:pt x="311" y="12"/>
                  </a:lnTo>
                  <a:lnTo>
                    <a:pt x="311" y="10"/>
                  </a:lnTo>
                  <a:lnTo>
                    <a:pt x="311" y="8"/>
                  </a:lnTo>
                  <a:lnTo>
                    <a:pt x="313" y="8"/>
                  </a:lnTo>
                  <a:lnTo>
                    <a:pt x="313" y="6"/>
                  </a:lnTo>
                  <a:lnTo>
                    <a:pt x="313" y="4"/>
                  </a:lnTo>
                  <a:lnTo>
                    <a:pt x="313" y="2"/>
                  </a:lnTo>
                  <a:lnTo>
                    <a:pt x="313" y="2"/>
                  </a:lnTo>
                  <a:lnTo>
                    <a:pt x="315" y="0"/>
                  </a:lnTo>
                  <a:close/>
                </a:path>
              </a:pathLst>
            </a:custGeom>
            <a:solidFill>
              <a:srgbClr val="bce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Freeform 462"/>
            <p:cNvSpPr/>
            <p:nvPr/>
          </p:nvSpPr>
          <p:spPr>
            <a:xfrm>
              <a:off x="5880600" y="2669040"/>
              <a:ext cx="542160" cy="1191960"/>
            </a:xfrm>
            <a:custGeom>
              <a:avLst/>
              <a:gdLst>
                <a:gd name="textAreaLeft" fmla="*/ 0 w 542160"/>
                <a:gd name="textAreaRight" fmla="*/ 542520 w 542160"/>
                <a:gd name="textAreaTop" fmla="*/ 0 h 1191960"/>
                <a:gd name="textAreaBottom" fmla="*/ 1192320 h 1191960"/>
              </a:gdLst>
              <a:ahLst/>
              <a:rect l="textAreaLeft" t="textAreaTop" r="textAreaRight" b="textAreaBottom"/>
              <a:pathLst>
                <a:path w="322" h="708">
                  <a:moveTo>
                    <a:pt x="309" y="0"/>
                  </a:moveTo>
                  <a:lnTo>
                    <a:pt x="286" y="4"/>
                  </a:lnTo>
                  <a:lnTo>
                    <a:pt x="251" y="12"/>
                  </a:lnTo>
                  <a:lnTo>
                    <a:pt x="219" y="25"/>
                  </a:lnTo>
                  <a:lnTo>
                    <a:pt x="188" y="39"/>
                  </a:lnTo>
                  <a:lnTo>
                    <a:pt x="157" y="58"/>
                  </a:lnTo>
                  <a:lnTo>
                    <a:pt x="130" y="77"/>
                  </a:lnTo>
                  <a:lnTo>
                    <a:pt x="105" y="100"/>
                  </a:lnTo>
                  <a:lnTo>
                    <a:pt x="82" y="127"/>
                  </a:lnTo>
                  <a:lnTo>
                    <a:pt x="61" y="154"/>
                  </a:lnTo>
                  <a:lnTo>
                    <a:pt x="44" y="182"/>
                  </a:lnTo>
                  <a:lnTo>
                    <a:pt x="28" y="213"/>
                  </a:lnTo>
                  <a:lnTo>
                    <a:pt x="17" y="246"/>
                  </a:lnTo>
                  <a:lnTo>
                    <a:pt x="7" y="280"/>
                  </a:lnTo>
                  <a:lnTo>
                    <a:pt x="2" y="317"/>
                  </a:lnTo>
                  <a:lnTo>
                    <a:pt x="0" y="353"/>
                  </a:lnTo>
                  <a:lnTo>
                    <a:pt x="2" y="390"/>
                  </a:lnTo>
                  <a:lnTo>
                    <a:pt x="7" y="424"/>
                  </a:lnTo>
                  <a:lnTo>
                    <a:pt x="17" y="459"/>
                  </a:lnTo>
                  <a:lnTo>
                    <a:pt x="28" y="491"/>
                  </a:lnTo>
                  <a:lnTo>
                    <a:pt x="44" y="522"/>
                  </a:lnTo>
                  <a:lnTo>
                    <a:pt x="61" y="553"/>
                  </a:lnTo>
                  <a:lnTo>
                    <a:pt x="82" y="580"/>
                  </a:lnTo>
                  <a:lnTo>
                    <a:pt x="105" y="605"/>
                  </a:lnTo>
                  <a:lnTo>
                    <a:pt x="130" y="628"/>
                  </a:lnTo>
                  <a:lnTo>
                    <a:pt x="157" y="649"/>
                  </a:lnTo>
                  <a:lnTo>
                    <a:pt x="188" y="666"/>
                  </a:lnTo>
                  <a:lnTo>
                    <a:pt x="219" y="681"/>
                  </a:lnTo>
                  <a:lnTo>
                    <a:pt x="251" y="693"/>
                  </a:lnTo>
                  <a:lnTo>
                    <a:pt x="286" y="702"/>
                  </a:lnTo>
                  <a:lnTo>
                    <a:pt x="320" y="708"/>
                  </a:lnTo>
                  <a:lnTo>
                    <a:pt x="322" y="708"/>
                  </a:lnTo>
                  <a:lnTo>
                    <a:pt x="322" y="706"/>
                  </a:lnTo>
                  <a:lnTo>
                    <a:pt x="322" y="704"/>
                  </a:lnTo>
                  <a:lnTo>
                    <a:pt x="320" y="704"/>
                  </a:lnTo>
                  <a:lnTo>
                    <a:pt x="320" y="702"/>
                  </a:lnTo>
                  <a:lnTo>
                    <a:pt x="320" y="701"/>
                  </a:lnTo>
                  <a:lnTo>
                    <a:pt x="320" y="699"/>
                  </a:lnTo>
                  <a:lnTo>
                    <a:pt x="320" y="699"/>
                  </a:lnTo>
                  <a:lnTo>
                    <a:pt x="318" y="697"/>
                  </a:lnTo>
                  <a:lnTo>
                    <a:pt x="288" y="691"/>
                  </a:lnTo>
                  <a:lnTo>
                    <a:pt x="253" y="683"/>
                  </a:lnTo>
                  <a:lnTo>
                    <a:pt x="222" y="672"/>
                  </a:lnTo>
                  <a:lnTo>
                    <a:pt x="192" y="656"/>
                  </a:lnTo>
                  <a:lnTo>
                    <a:pt x="163" y="639"/>
                  </a:lnTo>
                  <a:lnTo>
                    <a:pt x="136" y="620"/>
                  </a:lnTo>
                  <a:lnTo>
                    <a:pt x="113" y="597"/>
                  </a:lnTo>
                  <a:lnTo>
                    <a:pt x="90" y="572"/>
                  </a:lnTo>
                  <a:lnTo>
                    <a:pt x="71" y="547"/>
                  </a:lnTo>
                  <a:lnTo>
                    <a:pt x="53" y="518"/>
                  </a:lnTo>
                  <a:lnTo>
                    <a:pt x="38" y="488"/>
                  </a:lnTo>
                  <a:lnTo>
                    <a:pt x="27" y="455"/>
                  </a:lnTo>
                  <a:lnTo>
                    <a:pt x="17" y="422"/>
                  </a:lnTo>
                  <a:lnTo>
                    <a:pt x="13" y="388"/>
                  </a:lnTo>
                  <a:lnTo>
                    <a:pt x="11" y="353"/>
                  </a:lnTo>
                  <a:lnTo>
                    <a:pt x="13" y="317"/>
                  </a:lnTo>
                  <a:lnTo>
                    <a:pt x="17" y="282"/>
                  </a:lnTo>
                  <a:lnTo>
                    <a:pt x="27" y="250"/>
                  </a:lnTo>
                  <a:lnTo>
                    <a:pt x="38" y="219"/>
                  </a:lnTo>
                  <a:lnTo>
                    <a:pt x="53" y="188"/>
                  </a:lnTo>
                  <a:lnTo>
                    <a:pt x="71" y="159"/>
                  </a:lnTo>
                  <a:lnTo>
                    <a:pt x="90" y="133"/>
                  </a:lnTo>
                  <a:lnTo>
                    <a:pt x="113" y="108"/>
                  </a:lnTo>
                  <a:lnTo>
                    <a:pt x="136" y="87"/>
                  </a:lnTo>
                  <a:lnTo>
                    <a:pt x="163" y="65"/>
                  </a:lnTo>
                  <a:lnTo>
                    <a:pt x="192" y="48"/>
                  </a:lnTo>
                  <a:lnTo>
                    <a:pt x="222" y="35"/>
                  </a:lnTo>
                  <a:lnTo>
                    <a:pt x="253" y="23"/>
                  </a:lnTo>
                  <a:lnTo>
                    <a:pt x="288" y="14"/>
                  </a:lnTo>
                  <a:lnTo>
                    <a:pt x="305" y="12"/>
                  </a:lnTo>
                  <a:lnTo>
                    <a:pt x="307" y="10"/>
                  </a:lnTo>
                  <a:lnTo>
                    <a:pt x="307" y="8"/>
                  </a:lnTo>
                  <a:lnTo>
                    <a:pt x="307" y="6"/>
                  </a:lnTo>
                  <a:lnTo>
                    <a:pt x="307" y="6"/>
                  </a:lnTo>
                  <a:lnTo>
                    <a:pt x="307" y="4"/>
                  </a:lnTo>
                  <a:lnTo>
                    <a:pt x="307" y="2"/>
                  </a:lnTo>
                  <a:lnTo>
                    <a:pt x="309" y="2"/>
                  </a:lnTo>
                  <a:lnTo>
                    <a:pt x="309" y="0"/>
                  </a:lnTo>
                  <a:close/>
                </a:path>
              </a:pathLst>
            </a:custGeom>
            <a:solidFill>
              <a:srgbClr val="bde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Freeform 463"/>
            <p:cNvSpPr/>
            <p:nvPr/>
          </p:nvSpPr>
          <p:spPr>
            <a:xfrm>
              <a:off x="5889240" y="2678760"/>
              <a:ext cx="530280" cy="1171800"/>
            </a:xfrm>
            <a:custGeom>
              <a:avLst/>
              <a:gdLst>
                <a:gd name="textAreaLeft" fmla="*/ 0 w 530280"/>
                <a:gd name="textAreaRight" fmla="*/ 530640 w 530280"/>
                <a:gd name="textAreaTop" fmla="*/ 0 h 1171800"/>
                <a:gd name="textAreaBottom" fmla="*/ 1172160 h 1171800"/>
              </a:gdLst>
              <a:ahLst/>
              <a:rect l="textAreaLeft" t="textAreaTop" r="textAreaRight" b="textAreaBottom"/>
              <a:pathLst>
                <a:path w="315" h="696">
                  <a:moveTo>
                    <a:pt x="302" y="0"/>
                  </a:moveTo>
                  <a:lnTo>
                    <a:pt x="281" y="2"/>
                  </a:lnTo>
                  <a:lnTo>
                    <a:pt x="248" y="11"/>
                  </a:lnTo>
                  <a:lnTo>
                    <a:pt x="215" y="23"/>
                  </a:lnTo>
                  <a:lnTo>
                    <a:pt x="185" y="38"/>
                  </a:lnTo>
                  <a:lnTo>
                    <a:pt x="156" y="56"/>
                  </a:lnTo>
                  <a:lnTo>
                    <a:pt x="129" y="75"/>
                  </a:lnTo>
                  <a:lnTo>
                    <a:pt x="104" y="98"/>
                  </a:lnTo>
                  <a:lnTo>
                    <a:pt x="81" y="123"/>
                  </a:lnTo>
                  <a:lnTo>
                    <a:pt x="60" y="150"/>
                  </a:lnTo>
                  <a:lnTo>
                    <a:pt x="43" y="178"/>
                  </a:lnTo>
                  <a:lnTo>
                    <a:pt x="27" y="209"/>
                  </a:lnTo>
                  <a:lnTo>
                    <a:pt x="16" y="242"/>
                  </a:lnTo>
                  <a:lnTo>
                    <a:pt x="8" y="276"/>
                  </a:lnTo>
                  <a:lnTo>
                    <a:pt x="2" y="311"/>
                  </a:lnTo>
                  <a:lnTo>
                    <a:pt x="0" y="347"/>
                  </a:lnTo>
                  <a:lnTo>
                    <a:pt x="2" y="382"/>
                  </a:lnTo>
                  <a:lnTo>
                    <a:pt x="8" y="418"/>
                  </a:lnTo>
                  <a:lnTo>
                    <a:pt x="16" y="451"/>
                  </a:lnTo>
                  <a:lnTo>
                    <a:pt x="27" y="483"/>
                  </a:lnTo>
                  <a:lnTo>
                    <a:pt x="43" y="514"/>
                  </a:lnTo>
                  <a:lnTo>
                    <a:pt x="60" y="543"/>
                  </a:lnTo>
                  <a:lnTo>
                    <a:pt x="81" y="570"/>
                  </a:lnTo>
                  <a:lnTo>
                    <a:pt x="104" y="595"/>
                  </a:lnTo>
                  <a:lnTo>
                    <a:pt x="129" y="618"/>
                  </a:lnTo>
                  <a:lnTo>
                    <a:pt x="156" y="639"/>
                  </a:lnTo>
                  <a:lnTo>
                    <a:pt x="185" y="656"/>
                  </a:lnTo>
                  <a:lnTo>
                    <a:pt x="215" y="670"/>
                  </a:lnTo>
                  <a:lnTo>
                    <a:pt x="248" y="683"/>
                  </a:lnTo>
                  <a:lnTo>
                    <a:pt x="281" y="691"/>
                  </a:lnTo>
                  <a:lnTo>
                    <a:pt x="315" y="696"/>
                  </a:lnTo>
                  <a:lnTo>
                    <a:pt x="315" y="695"/>
                  </a:lnTo>
                  <a:lnTo>
                    <a:pt x="315" y="693"/>
                  </a:lnTo>
                  <a:lnTo>
                    <a:pt x="315" y="693"/>
                  </a:lnTo>
                  <a:lnTo>
                    <a:pt x="313" y="691"/>
                  </a:lnTo>
                  <a:lnTo>
                    <a:pt x="313" y="689"/>
                  </a:lnTo>
                  <a:lnTo>
                    <a:pt x="313" y="687"/>
                  </a:lnTo>
                  <a:lnTo>
                    <a:pt x="313" y="687"/>
                  </a:lnTo>
                  <a:lnTo>
                    <a:pt x="313" y="685"/>
                  </a:lnTo>
                  <a:lnTo>
                    <a:pt x="283" y="681"/>
                  </a:lnTo>
                  <a:lnTo>
                    <a:pt x="250" y="671"/>
                  </a:lnTo>
                  <a:lnTo>
                    <a:pt x="219" y="660"/>
                  </a:lnTo>
                  <a:lnTo>
                    <a:pt x="189" y="647"/>
                  </a:lnTo>
                  <a:lnTo>
                    <a:pt x="162" y="629"/>
                  </a:lnTo>
                  <a:lnTo>
                    <a:pt x="135" y="610"/>
                  </a:lnTo>
                  <a:lnTo>
                    <a:pt x="112" y="587"/>
                  </a:lnTo>
                  <a:lnTo>
                    <a:pt x="89" y="564"/>
                  </a:lnTo>
                  <a:lnTo>
                    <a:pt x="70" y="537"/>
                  </a:lnTo>
                  <a:lnTo>
                    <a:pt x="52" y="508"/>
                  </a:lnTo>
                  <a:lnTo>
                    <a:pt x="39" y="480"/>
                  </a:lnTo>
                  <a:lnTo>
                    <a:pt x="27" y="449"/>
                  </a:lnTo>
                  <a:lnTo>
                    <a:pt x="18" y="416"/>
                  </a:lnTo>
                  <a:lnTo>
                    <a:pt x="14" y="382"/>
                  </a:lnTo>
                  <a:lnTo>
                    <a:pt x="12" y="347"/>
                  </a:lnTo>
                  <a:lnTo>
                    <a:pt x="14" y="313"/>
                  </a:lnTo>
                  <a:lnTo>
                    <a:pt x="18" y="278"/>
                  </a:lnTo>
                  <a:lnTo>
                    <a:pt x="27" y="246"/>
                  </a:lnTo>
                  <a:lnTo>
                    <a:pt x="39" y="215"/>
                  </a:lnTo>
                  <a:lnTo>
                    <a:pt x="52" y="184"/>
                  </a:lnTo>
                  <a:lnTo>
                    <a:pt x="70" y="157"/>
                  </a:lnTo>
                  <a:lnTo>
                    <a:pt x="89" y="130"/>
                  </a:lnTo>
                  <a:lnTo>
                    <a:pt x="112" y="105"/>
                  </a:lnTo>
                  <a:lnTo>
                    <a:pt x="135" y="84"/>
                  </a:lnTo>
                  <a:lnTo>
                    <a:pt x="162" y="65"/>
                  </a:lnTo>
                  <a:lnTo>
                    <a:pt x="189" y="48"/>
                  </a:lnTo>
                  <a:lnTo>
                    <a:pt x="219" y="33"/>
                  </a:lnTo>
                  <a:lnTo>
                    <a:pt x="250" y="21"/>
                  </a:lnTo>
                  <a:lnTo>
                    <a:pt x="283" y="13"/>
                  </a:lnTo>
                  <a:lnTo>
                    <a:pt x="300" y="11"/>
                  </a:lnTo>
                  <a:lnTo>
                    <a:pt x="300" y="10"/>
                  </a:lnTo>
                  <a:lnTo>
                    <a:pt x="300" y="8"/>
                  </a:lnTo>
                  <a:lnTo>
                    <a:pt x="300" y="6"/>
                  </a:lnTo>
                  <a:lnTo>
                    <a:pt x="300" y="6"/>
                  </a:lnTo>
                  <a:lnTo>
                    <a:pt x="302" y="4"/>
                  </a:lnTo>
                  <a:lnTo>
                    <a:pt x="302" y="2"/>
                  </a:lnTo>
                  <a:lnTo>
                    <a:pt x="302" y="0"/>
                  </a:lnTo>
                  <a:lnTo>
                    <a:pt x="302" y="0"/>
                  </a:lnTo>
                  <a:close/>
                </a:path>
              </a:pathLst>
            </a:custGeom>
            <a:solidFill>
              <a:srgbClr val="be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Freeform 464"/>
            <p:cNvSpPr/>
            <p:nvPr/>
          </p:nvSpPr>
          <p:spPr>
            <a:xfrm>
              <a:off x="5899320" y="2688840"/>
              <a:ext cx="516960" cy="1153440"/>
            </a:xfrm>
            <a:custGeom>
              <a:avLst/>
              <a:gdLst>
                <a:gd name="textAreaLeft" fmla="*/ 0 w 516960"/>
                <a:gd name="textAreaRight" fmla="*/ 517320 w 516960"/>
                <a:gd name="textAreaTop" fmla="*/ 0 h 1153440"/>
                <a:gd name="textAreaBottom" fmla="*/ 1153800 h 1153440"/>
              </a:gdLst>
              <a:ahLst/>
              <a:rect l="textAreaLeft" t="textAreaTop" r="textAreaRight" b="textAreaBottom"/>
              <a:pathLst>
                <a:path w="307" h="685">
                  <a:moveTo>
                    <a:pt x="294" y="0"/>
                  </a:moveTo>
                  <a:lnTo>
                    <a:pt x="277" y="2"/>
                  </a:lnTo>
                  <a:lnTo>
                    <a:pt x="242" y="11"/>
                  </a:lnTo>
                  <a:lnTo>
                    <a:pt x="211" y="23"/>
                  </a:lnTo>
                  <a:lnTo>
                    <a:pt x="181" y="36"/>
                  </a:lnTo>
                  <a:lnTo>
                    <a:pt x="152" y="53"/>
                  </a:lnTo>
                  <a:lnTo>
                    <a:pt x="125" y="75"/>
                  </a:lnTo>
                  <a:lnTo>
                    <a:pt x="102" y="96"/>
                  </a:lnTo>
                  <a:lnTo>
                    <a:pt x="79" y="121"/>
                  </a:lnTo>
                  <a:lnTo>
                    <a:pt x="60" y="147"/>
                  </a:lnTo>
                  <a:lnTo>
                    <a:pt x="42" y="176"/>
                  </a:lnTo>
                  <a:lnTo>
                    <a:pt x="27" y="207"/>
                  </a:lnTo>
                  <a:lnTo>
                    <a:pt x="16" y="238"/>
                  </a:lnTo>
                  <a:lnTo>
                    <a:pt x="6" y="270"/>
                  </a:lnTo>
                  <a:lnTo>
                    <a:pt x="2" y="305"/>
                  </a:lnTo>
                  <a:lnTo>
                    <a:pt x="0" y="341"/>
                  </a:lnTo>
                  <a:lnTo>
                    <a:pt x="2" y="376"/>
                  </a:lnTo>
                  <a:lnTo>
                    <a:pt x="6" y="410"/>
                  </a:lnTo>
                  <a:lnTo>
                    <a:pt x="16" y="443"/>
                  </a:lnTo>
                  <a:lnTo>
                    <a:pt x="27" y="476"/>
                  </a:lnTo>
                  <a:lnTo>
                    <a:pt x="42" y="506"/>
                  </a:lnTo>
                  <a:lnTo>
                    <a:pt x="60" y="535"/>
                  </a:lnTo>
                  <a:lnTo>
                    <a:pt x="79" y="560"/>
                  </a:lnTo>
                  <a:lnTo>
                    <a:pt x="102" y="585"/>
                  </a:lnTo>
                  <a:lnTo>
                    <a:pt x="125" y="608"/>
                  </a:lnTo>
                  <a:lnTo>
                    <a:pt x="152" y="627"/>
                  </a:lnTo>
                  <a:lnTo>
                    <a:pt x="181" y="644"/>
                  </a:lnTo>
                  <a:lnTo>
                    <a:pt x="211" y="660"/>
                  </a:lnTo>
                  <a:lnTo>
                    <a:pt x="242" y="671"/>
                  </a:lnTo>
                  <a:lnTo>
                    <a:pt x="277" y="679"/>
                  </a:lnTo>
                  <a:lnTo>
                    <a:pt x="307" y="685"/>
                  </a:lnTo>
                  <a:lnTo>
                    <a:pt x="307" y="683"/>
                  </a:lnTo>
                  <a:lnTo>
                    <a:pt x="307" y="681"/>
                  </a:lnTo>
                  <a:lnTo>
                    <a:pt x="307" y="681"/>
                  </a:lnTo>
                  <a:lnTo>
                    <a:pt x="307" y="679"/>
                  </a:lnTo>
                  <a:lnTo>
                    <a:pt x="305" y="677"/>
                  </a:lnTo>
                  <a:lnTo>
                    <a:pt x="305" y="677"/>
                  </a:lnTo>
                  <a:lnTo>
                    <a:pt x="305" y="675"/>
                  </a:lnTo>
                  <a:lnTo>
                    <a:pt x="305" y="673"/>
                  </a:lnTo>
                  <a:lnTo>
                    <a:pt x="279" y="669"/>
                  </a:lnTo>
                  <a:lnTo>
                    <a:pt x="246" y="662"/>
                  </a:lnTo>
                  <a:lnTo>
                    <a:pt x="215" y="650"/>
                  </a:lnTo>
                  <a:lnTo>
                    <a:pt x="186" y="635"/>
                  </a:lnTo>
                  <a:lnTo>
                    <a:pt x="158" y="619"/>
                  </a:lnTo>
                  <a:lnTo>
                    <a:pt x="133" y="600"/>
                  </a:lnTo>
                  <a:lnTo>
                    <a:pt x="110" y="577"/>
                  </a:lnTo>
                  <a:lnTo>
                    <a:pt x="87" y="554"/>
                  </a:lnTo>
                  <a:lnTo>
                    <a:pt x="67" y="527"/>
                  </a:lnTo>
                  <a:lnTo>
                    <a:pt x="50" y="500"/>
                  </a:lnTo>
                  <a:lnTo>
                    <a:pt x="37" y="472"/>
                  </a:lnTo>
                  <a:lnTo>
                    <a:pt x="25" y="441"/>
                  </a:lnTo>
                  <a:lnTo>
                    <a:pt x="17" y="408"/>
                  </a:lnTo>
                  <a:lnTo>
                    <a:pt x="12" y="376"/>
                  </a:lnTo>
                  <a:lnTo>
                    <a:pt x="10" y="341"/>
                  </a:lnTo>
                  <a:lnTo>
                    <a:pt x="12" y="307"/>
                  </a:lnTo>
                  <a:lnTo>
                    <a:pt x="17" y="274"/>
                  </a:lnTo>
                  <a:lnTo>
                    <a:pt x="25" y="241"/>
                  </a:lnTo>
                  <a:lnTo>
                    <a:pt x="37" y="211"/>
                  </a:lnTo>
                  <a:lnTo>
                    <a:pt x="50" y="180"/>
                  </a:lnTo>
                  <a:lnTo>
                    <a:pt x="67" y="153"/>
                  </a:lnTo>
                  <a:lnTo>
                    <a:pt x="87" y="128"/>
                  </a:lnTo>
                  <a:lnTo>
                    <a:pt x="110" y="103"/>
                  </a:lnTo>
                  <a:lnTo>
                    <a:pt x="133" y="82"/>
                  </a:lnTo>
                  <a:lnTo>
                    <a:pt x="158" y="63"/>
                  </a:lnTo>
                  <a:lnTo>
                    <a:pt x="186" y="46"/>
                  </a:lnTo>
                  <a:lnTo>
                    <a:pt x="215" y="32"/>
                  </a:lnTo>
                  <a:lnTo>
                    <a:pt x="246" y="21"/>
                  </a:lnTo>
                  <a:lnTo>
                    <a:pt x="279" y="13"/>
                  </a:lnTo>
                  <a:lnTo>
                    <a:pt x="292" y="9"/>
                  </a:lnTo>
                  <a:lnTo>
                    <a:pt x="292" y="9"/>
                  </a:lnTo>
                  <a:lnTo>
                    <a:pt x="292" y="7"/>
                  </a:lnTo>
                  <a:lnTo>
                    <a:pt x="292" y="5"/>
                  </a:lnTo>
                  <a:lnTo>
                    <a:pt x="294" y="5"/>
                  </a:lnTo>
                  <a:lnTo>
                    <a:pt x="294" y="4"/>
                  </a:lnTo>
                  <a:lnTo>
                    <a:pt x="294" y="2"/>
                  </a:lnTo>
                  <a:lnTo>
                    <a:pt x="294" y="0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bf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Freeform 465"/>
            <p:cNvSpPr/>
            <p:nvPr/>
          </p:nvSpPr>
          <p:spPr>
            <a:xfrm>
              <a:off x="5909040" y="2697480"/>
              <a:ext cx="506880" cy="1134720"/>
            </a:xfrm>
            <a:custGeom>
              <a:avLst/>
              <a:gdLst>
                <a:gd name="textAreaLeft" fmla="*/ 0 w 506880"/>
                <a:gd name="textAreaRight" fmla="*/ 507240 w 506880"/>
                <a:gd name="textAreaTop" fmla="*/ 0 h 1134720"/>
                <a:gd name="textAreaBottom" fmla="*/ 1135080 h 1134720"/>
              </a:gdLst>
              <a:ahLst/>
              <a:rect l="textAreaLeft" t="textAreaTop" r="textAreaRight" b="textAreaBottom"/>
              <a:pathLst>
                <a:path w="301" h="674">
                  <a:moveTo>
                    <a:pt x="288" y="0"/>
                  </a:moveTo>
                  <a:lnTo>
                    <a:pt x="271" y="2"/>
                  </a:lnTo>
                  <a:lnTo>
                    <a:pt x="238" y="10"/>
                  </a:lnTo>
                  <a:lnTo>
                    <a:pt x="207" y="22"/>
                  </a:lnTo>
                  <a:lnTo>
                    <a:pt x="177" y="37"/>
                  </a:lnTo>
                  <a:lnTo>
                    <a:pt x="150" y="54"/>
                  </a:lnTo>
                  <a:lnTo>
                    <a:pt x="123" y="73"/>
                  </a:lnTo>
                  <a:lnTo>
                    <a:pt x="100" y="94"/>
                  </a:lnTo>
                  <a:lnTo>
                    <a:pt x="77" y="119"/>
                  </a:lnTo>
                  <a:lnTo>
                    <a:pt x="58" y="146"/>
                  </a:lnTo>
                  <a:lnTo>
                    <a:pt x="40" y="173"/>
                  </a:lnTo>
                  <a:lnTo>
                    <a:pt x="27" y="204"/>
                  </a:lnTo>
                  <a:lnTo>
                    <a:pt x="15" y="235"/>
                  </a:lnTo>
                  <a:lnTo>
                    <a:pt x="6" y="267"/>
                  </a:lnTo>
                  <a:lnTo>
                    <a:pt x="2" y="302"/>
                  </a:lnTo>
                  <a:lnTo>
                    <a:pt x="0" y="336"/>
                  </a:lnTo>
                  <a:lnTo>
                    <a:pt x="2" y="371"/>
                  </a:lnTo>
                  <a:lnTo>
                    <a:pt x="6" y="405"/>
                  </a:lnTo>
                  <a:lnTo>
                    <a:pt x="15" y="438"/>
                  </a:lnTo>
                  <a:lnTo>
                    <a:pt x="27" y="469"/>
                  </a:lnTo>
                  <a:lnTo>
                    <a:pt x="40" y="497"/>
                  </a:lnTo>
                  <a:lnTo>
                    <a:pt x="58" y="526"/>
                  </a:lnTo>
                  <a:lnTo>
                    <a:pt x="77" y="553"/>
                  </a:lnTo>
                  <a:lnTo>
                    <a:pt x="100" y="576"/>
                  </a:lnTo>
                  <a:lnTo>
                    <a:pt x="123" y="599"/>
                  </a:lnTo>
                  <a:lnTo>
                    <a:pt x="150" y="618"/>
                  </a:lnTo>
                  <a:lnTo>
                    <a:pt x="177" y="636"/>
                  </a:lnTo>
                  <a:lnTo>
                    <a:pt x="207" y="649"/>
                  </a:lnTo>
                  <a:lnTo>
                    <a:pt x="238" y="660"/>
                  </a:lnTo>
                  <a:lnTo>
                    <a:pt x="271" y="670"/>
                  </a:lnTo>
                  <a:lnTo>
                    <a:pt x="301" y="674"/>
                  </a:lnTo>
                  <a:lnTo>
                    <a:pt x="299" y="672"/>
                  </a:lnTo>
                  <a:lnTo>
                    <a:pt x="299" y="672"/>
                  </a:lnTo>
                  <a:lnTo>
                    <a:pt x="299" y="670"/>
                  </a:lnTo>
                  <a:lnTo>
                    <a:pt x="299" y="668"/>
                  </a:lnTo>
                  <a:lnTo>
                    <a:pt x="299" y="666"/>
                  </a:lnTo>
                  <a:lnTo>
                    <a:pt x="297" y="666"/>
                  </a:lnTo>
                  <a:lnTo>
                    <a:pt x="297" y="664"/>
                  </a:lnTo>
                  <a:lnTo>
                    <a:pt x="297" y="662"/>
                  </a:lnTo>
                  <a:lnTo>
                    <a:pt x="273" y="659"/>
                  </a:lnTo>
                  <a:lnTo>
                    <a:pt x="242" y="651"/>
                  </a:lnTo>
                  <a:lnTo>
                    <a:pt x="211" y="639"/>
                  </a:lnTo>
                  <a:lnTo>
                    <a:pt x="182" y="626"/>
                  </a:lnTo>
                  <a:lnTo>
                    <a:pt x="155" y="609"/>
                  </a:lnTo>
                  <a:lnTo>
                    <a:pt x="130" y="590"/>
                  </a:lnTo>
                  <a:lnTo>
                    <a:pt x="107" y="568"/>
                  </a:lnTo>
                  <a:lnTo>
                    <a:pt x="84" y="545"/>
                  </a:lnTo>
                  <a:lnTo>
                    <a:pt x="67" y="520"/>
                  </a:lnTo>
                  <a:lnTo>
                    <a:pt x="50" y="494"/>
                  </a:lnTo>
                  <a:lnTo>
                    <a:pt x="36" y="465"/>
                  </a:lnTo>
                  <a:lnTo>
                    <a:pt x="25" y="434"/>
                  </a:lnTo>
                  <a:lnTo>
                    <a:pt x="17" y="401"/>
                  </a:lnTo>
                  <a:lnTo>
                    <a:pt x="11" y="369"/>
                  </a:lnTo>
                  <a:lnTo>
                    <a:pt x="10" y="336"/>
                  </a:lnTo>
                  <a:lnTo>
                    <a:pt x="11" y="302"/>
                  </a:lnTo>
                  <a:lnTo>
                    <a:pt x="17" y="269"/>
                  </a:lnTo>
                  <a:lnTo>
                    <a:pt x="25" y="238"/>
                  </a:lnTo>
                  <a:lnTo>
                    <a:pt x="36" y="208"/>
                  </a:lnTo>
                  <a:lnTo>
                    <a:pt x="50" y="179"/>
                  </a:lnTo>
                  <a:lnTo>
                    <a:pt x="67" y="152"/>
                  </a:lnTo>
                  <a:lnTo>
                    <a:pt x="84" y="125"/>
                  </a:lnTo>
                  <a:lnTo>
                    <a:pt x="107" y="102"/>
                  </a:lnTo>
                  <a:lnTo>
                    <a:pt x="130" y="81"/>
                  </a:lnTo>
                  <a:lnTo>
                    <a:pt x="155" y="62"/>
                  </a:lnTo>
                  <a:lnTo>
                    <a:pt x="182" y="47"/>
                  </a:lnTo>
                  <a:lnTo>
                    <a:pt x="211" y="31"/>
                  </a:lnTo>
                  <a:lnTo>
                    <a:pt x="242" y="22"/>
                  </a:lnTo>
                  <a:lnTo>
                    <a:pt x="273" y="12"/>
                  </a:lnTo>
                  <a:lnTo>
                    <a:pt x="284" y="10"/>
                  </a:lnTo>
                  <a:lnTo>
                    <a:pt x="284" y="10"/>
                  </a:lnTo>
                  <a:lnTo>
                    <a:pt x="286" y="8"/>
                  </a:lnTo>
                  <a:lnTo>
                    <a:pt x="286" y="6"/>
                  </a:lnTo>
                  <a:lnTo>
                    <a:pt x="286" y="4"/>
                  </a:lnTo>
                  <a:lnTo>
                    <a:pt x="286" y="4"/>
                  </a:lnTo>
                  <a:lnTo>
                    <a:pt x="286" y="2"/>
                  </a:lnTo>
                  <a:lnTo>
                    <a:pt x="288" y="0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c0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Freeform 466"/>
            <p:cNvSpPr/>
            <p:nvPr/>
          </p:nvSpPr>
          <p:spPr>
            <a:xfrm>
              <a:off x="5916240" y="2703960"/>
              <a:ext cx="496800" cy="1117800"/>
            </a:xfrm>
            <a:custGeom>
              <a:avLst/>
              <a:gdLst>
                <a:gd name="textAreaLeft" fmla="*/ 0 w 496800"/>
                <a:gd name="textAreaRight" fmla="*/ 497160 w 496800"/>
                <a:gd name="textAreaTop" fmla="*/ 0 h 1117800"/>
                <a:gd name="textAreaBottom" fmla="*/ 1118160 h 1117800"/>
              </a:gdLst>
              <a:ahLst/>
              <a:rect l="textAreaLeft" t="textAreaTop" r="textAreaRight" b="textAreaBottom"/>
              <a:pathLst>
                <a:path w="295" h="664">
                  <a:moveTo>
                    <a:pt x="282" y="0"/>
                  </a:moveTo>
                  <a:lnTo>
                    <a:pt x="269" y="4"/>
                  </a:lnTo>
                  <a:lnTo>
                    <a:pt x="236" y="12"/>
                  </a:lnTo>
                  <a:lnTo>
                    <a:pt x="205" y="23"/>
                  </a:lnTo>
                  <a:lnTo>
                    <a:pt x="176" y="37"/>
                  </a:lnTo>
                  <a:lnTo>
                    <a:pt x="148" y="54"/>
                  </a:lnTo>
                  <a:lnTo>
                    <a:pt x="123" y="73"/>
                  </a:lnTo>
                  <a:lnTo>
                    <a:pt x="100" y="94"/>
                  </a:lnTo>
                  <a:lnTo>
                    <a:pt x="77" y="119"/>
                  </a:lnTo>
                  <a:lnTo>
                    <a:pt x="57" y="144"/>
                  </a:lnTo>
                  <a:lnTo>
                    <a:pt x="40" y="171"/>
                  </a:lnTo>
                  <a:lnTo>
                    <a:pt x="27" y="202"/>
                  </a:lnTo>
                  <a:lnTo>
                    <a:pt x="15" y="232"/>
                  </a:lnTo>
                  <a:lnTo>
                    <a:pt x="7" y="265"/>
                  </a:lnTo>
                  <a:lnTo>
                    <a:pt x="2" y="298"/>
                  </a:lnTo>
                  <a:lnTo>
                    <a:pt x="0" y="332"/>
                  </a:lnTo>
                  <a:lnTo>
                    <a:pt x="2" y="367"/>
                  </a:lnTo>
                  <a:lnTo>
                    <a:pt x="7" y="399"/>
                  </a:lnTo>
                  <a:lnTo>
                    <a:pt x="15" y="432"/>
                  </a:lnTo>
                  <a:lnTo>
                    <a:pt x="27" y="463"/>
                  </a:lnTo>
                  <a:lnTo>
                    <a:pt x="40" y="491"/>
                  </a:lnTo>
                  <a:lnTo>
                    <a:pt x="57" y="518"/>
                  </a:lnTo>
                  <a:lnTo>
                    <a:pt x="77" y="545"/>
                  </a:lnTo>
                  <a:lnTo>
                    <a:pt x="100" y="568"/>
                  </a:lnTo>
                  <a:lnTo>
                    <a:pt x="123" y="591"/>
                  </a:lnTo>
                  <a:lnTo>
                    <a:pt x="148" y="610"/>
                  </a:lnTo>
                  <a:lnTo>
                    <a:pt x="176" y="626"/>
                  </a:lnTo>
                  <a:lnTo>
                    <a:pt x="205" y="641"/>
                  </a:lnTo>
                  <a:lnTo>
                    <a:pt x="236" y="653"/>
                  </a:lnTo>
                  <a:lnTo>
                    <a:pt x="269" y="660"/>
                  </a:lnTo>
                  <a:lnTo>
                    <a:pt x="295" y="664"/>
                  </a:lnTo>
                  <a:lnTo>
                    <a:pt x="295" y="662"/>
                  </a:lnTo>
                  <a:lnTo>
                    <a:pt x="293" y="662"/>
                  </a:lnTo>
                  <a:lnTo>
                    <a:pt x="293" y="660"/>
                  </a:lnTo>
                  <a:lnTo>
                    <a:pt x="293" y="658"/>
                  </a:lnTo>
                  <a:lnTo>
                    <a:pt x="293" y="656"/>
                  </a:lnTo>
                  <a:lnTo>
                    <a:pt x="293" y="656"/>
                  </a:lnTo>
                  <a:lnTo>
                    <a:pt x="292" y="655"/>
                  </a:lnTo>
                  <a:lnTo>
                    <a:pt x="292" y="653"/>
                  </a:lnTo>
                  <a:lnTo>
                    <a:pt x="270" y="651"/>
                  </a:lnTo>
                  <a:lnTo>
                    <a:pt x="240" y="641"/>
                  </a:lnTo>
                  <a:lnTo>
                    <a:pt x="209" y="632"/>
                  </a:lnTo>
                  <a:lnTo>
                    <a:pt x="180" y="618"/>
                  </a:lnTo>
                  <a:lnTo>
                    <a:pt x="155" y="601"/>
                  </a:lnTo>
                  <a:lnTo>
                    <a:pt x="128" y="582"/>
                  </a:lnTo>
                  <a:lnTo>
                    <a:pt x="105" y="561"/>
                  </a:lnTo>
                  <a:lnTo>
                    <a:pt x="86" y="538"/>
                  </a:lnTo>
                  <a:lnTo>
                    <a:pt x="67" y="513"/>
                  </a:lnTo>
                  <a:lnTo>
                    <a:pt x="50" y="486"/>
                  </a:lnTo>
                  <a:lnTo>
                    <a:pt x="36" y="459"/>
                  </a:lnTo>
                  <a:lnTo>
                    <a:pt x="27" y="428"/>
                  </a:lnTo>
                  <a:lnTo>
                    <a:pt x="17" y="397"/>
                  </a:lnTo>
                  <a:lnTo>
                    <a:pt x="13" y="365"/>
                  </a:lnTo>
                  <a:lnTo>
                    <a:pt x="11" y="332"/>
                  </a:lnTo>
                  <a:lnTo>
                    <a:pt x="13" y="298"/>
                  </a:lnTo>
                  <a:lnTo>
                    <a:pt x="17" y="267"/>
                  </a:lnTo>
                  <a:lnTo>
                    <a:pt x="27" y="234"/>
                  </a:lnTo>
                  <a:lnTo>
                    <a:pt x="36" y="206"/>
                  </a:lnTo>
                  <a:lnTo>
                    <a:pt x="50" y="177"/>
                  </a:lnTo>
                  <a:lnTo>
                    <a:pt x="67" y="150"/>
                  </a:lnTo>
                  <a:lnTo>
                    <a:pt x="86" y="125"/>
                  </a:lnTo>
                  <a:lnTo>
                    <a:pt x="105" y="102"/>
                  </a:lnTo>
                  <a:lnTo>
                    <a:pt x="128" y="81"/>
                  </a:lnTo>
                  <a:lnTo>
                    <a:pt x="155" y="62"/>
                  </a:lnTo>
                  <a:lnTo>
                    <a:pt x="180" y="46"/>
                  </a:lnTo>
                  <a:lnTo>
                    <a:pt x="209" y="33"/>
                  </a:lnTo>
                  <a:lnTo>
                    <a:pt x="240" y="21"/>
                  </a:lnTo>
                  <a:lnTo>
                    <a:pt x="270" y="14"/>
                  </a:lnTo>
                  <a:lnTo>
                    <a:pt x="280" y="12"/>
                  </a:lnTo>
                  <a:lnTo>
                    <a:pt x="280" y="12"/>
                  </a:lnTo>
                  <a:lnTo>
                    <a:pt x="280" y="10"/>
                  </a:lnTo>
                  <a:lnTo>
                    <a:pt x="280" y="8"/>
                  </a:lnTo>
                  <a:lnTo>
                    <a:pt x="280" y="6"/>
                  </a:lnTo>
                  <a:lnTo>
                    <a:pt x="280" y="6"/>
                  </a:lnTo>
                  <a:lnTo>
                    <a:pt x="282" y="4"/>
                  </a:lnTo>
                  <a:lnTo>
                    <a:pt x="282" y="2"/>
                  </a:lnTo>
                  <a:lnTo>
                    <a:pt x="282" y="0"/>
                  </a:lnTo>
                  <a:close/>
                </a:path>
              </a:pathLst>
            </a:custGeom>
            <a:solidFill>
              <a:srgbClr val="c1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Freeform 467"/>
            <p:cNvSpPr/>
            <p:nvPr/>
          </p:nvSpPr>
          <p:spPr>
            <a:xfrm>
              <a:off x="5926320" y="2714400"/>
              <a:ext cx="482760" cy="109764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097640"/>
                <a:gd name="textAreaBottom" fmla="*/ 1098000 h 1097640"/>
              </a:gdLst>
              <a:ahLst/>
              <a:rect l="textAreaLeft" t="textAreaTop" r="textAreaRight" b="textAreaBottom"/>
              <a:pathLst>
                <a:path w="287" h="652">
                  <a:moveTo>
                    <a:pt x="274" y="0"/>
                  </a:moveTo>
                  <a:lnTo>
                    <a:pt x="263" y="2"/>
                  </a:lnTo>
                  <a:lnTo>
                    <a:pt x="232" y="12"/>
                  </a:lnTo>
                  <a:lnTo>
                    <a:pt x="201" y="21"/>
                  </a:lnTo>
                  <a:lnTo>
                    <a:pt x="172" y="37"/>
                  </a:lnTo>
                  <a:lnTo>
                    <a:pt x="145" y="52"/>
                  </a:lnTo>
                  <a:lnTo>
                    <a:pt x="120" y="71"/>
                  </a:lnTo>
                  <a:lnTo>
                    <a:pt x="97" y="92"/>
                  </a:lnTo>
                  <a:lnTo>
                    <a:pt x="74" y="115"/>
                  </a:lnTo>
                  <a:lnTo>
                    <a:pt x="57" y="142"/>
                  </a:lnTo>
                  <a:lnTo>
                    <a:pt x="40" y="169"/>
                  </a:lnTo>
                  <a:lnTo>
                    <a:pt x="26" y="198"/>
                  </a:lnTo>
                  <a:lnTo>
                    <a:pt x="15" y="228"/>
                  </a:lnTo>
                  <a:lnTo>
                    <a:pt x="7" y="259"/>
                  </a:lnTo>
                  <a:lnTo>
                    <a:pt x="1" y="292"/>
                  </a:lnTo>
                  <a:lnTo>
                    <a:pt x="0" y="326"/>
                  </a:lnTo>
                  <a:lnTo>
                    <a:pt x="1" y="359"/>
                  </a:lnTo>
                  <a:lnTo>
                    <a:pt x="7" y="391"/>
                  </a:lnTo>
                  <a:lnTo>
                    <a:pt x="15" y="424"/>
                  </a:lnTo>
                  <a:lnTo>
                    <a:pt x="26" y="455"/>
                  </a:lnTo>
                  <a:lnTo>
                    <a:pt x="40" y="484"/>
                  </a:lnTo>
                  <a:lnTo>
                    <a:pt x="57" y="510"/>
                  </a:lnTo>
                  <a:lnTo>
                    <a:pt x="74" y="535"/>
                  </a:lnTo>
                  <a:lnTo>
                    <a:pt x="97" y="558"/>
                  </a:lnTo>
                  <a:lnTo>
                    <a:pt x="120" y="580"/>
                  </a:lnTo>
                  <a:lnTo>
                    <a:pt x="145" y="599"/>
                  </a:lnTo>
                  <a:lnTo>
                    <a:pt x="172" y="616"/>
                  </a:lnTo>
                  <a:lnTo>
                    <a:pt x="201" y="629"/>
                  </a:lnTo>
                  <a:lnTo>
                    <a:pt x="232" y="641"/>
                  </a:lnTo>
                  <a:lnTo>
                    <a:pt x="263" y="649"/>
                  </a:lnTo>
                  <a:lnTo>
                    <a:pt x="287" y="652"/>
                  </a:lnTo>
                  <a:lnTo>
                    <a:pt x="287" y="650"/>
                  </a:lnTo>
                  <a:lnTo>
                    <a:pt x="287" y="650"/>
                  </a:lnTo>
                  <a:lnTo>
                    <a:pt x="286" y="649"/>
                  </a:lnTo>
                  <a:lnTo>
                    <a:pt x="286" y="647"/>
                  </a:lnTo>
                  <a:lnTo>
                    <a:pt x="286" y="647"/>
                  </a:lnTo>
                  <a:lnTo>
                    <a:pt x="286" y="645"/>
                  </a:lnTo>
                  <a:lnTo>
                    <a:pt x="286" y="643"/>
                  </a:lnTo>
                  <a:lnTo>
                    <a:pt x="286" y="641"/>
                  </a:lnTo>
                  <a:lnTo>
                    <a:pt x="266" y="639"/>
                  </a:lnTo>
                  <a:lnTo>
                    <a:pt x="236" y="631"/>
                  </a:lnTo>
                  <a:lnTo>
                    <a:pt x="205" y="620"/>
                  </a:lnTo>
                  <a:lnTo>
                    <a:pt x="178" y="606"/>
                  </a:lnTo>
                  <a:lnTo>
                    <a:pt x="151" y="591"/>
                  </a:lnTo>
                  <a:lnTo>
                    <a:pt x="126" y="572"/>
                  </a:lnTo>
                  <a:lnTo>
                    <a:pt x="103" y="551"/>
                  </a:lnTo>
                  <a:lnTo>
                    <a:pt x="84" y="530"/>
                  </a:lnTo>
                  <a:lnTo>
                    <a:pt x="65" y="505"/>
                  </a:lnTo>
                  <a:lnTo>
                    <a:pt x="49" y="478"/>
                  </a:lnTo>
                  <a:lnTo>
                    <a:pt x="36" y="451"/>
                  </a:lnTo>
                  <a:lnTo>
                    <a:pt x="25" y="420"/>
                  </a:lnTo>
                  <a:lnTo>
                    <a:pt x="17" y="390"/>
                  </a:lnTo>
                  <a:lnTo>
                    <a:pt x="13" y="359"/>
                  </a:lnTo>
                  <a:lnTo>
                    <a:pt x="11" y="326"/>
                  </a:lnTo>
                  <a:lnTo>
                    <a:pt x="13" y="294"/>
                  </a:lnTo>
                  <a:lnTo>
                    <a:pt x="17" y="261"/>
                  </a:lnTo>
                  <a:lnTo>
                    <a:pt x="25" y="230"/>
                  </a:lnTo>
                  <a:lnTo>
                    <a:pt x="36" y="202"/>
                  </a:lnTo>
                  <a:lnTo>
                    <a:pt x="49" y="173"/>
                  </a:lnTo>
                  <a:lnTo>
                    <a:pt x="65" y="148"/>
                  </a:lnTo>
                  <a:lnTo>
                    <a:pt x="84" y="123"/>
                  </a:lnTo>
                  <a:lnTo>
                    <a:pt x="103" y="100"/>
                  </a:lnTo>
                  <a:lnTo>
                    <a:pt x="126" y="79"/>
                  </a:lnTo>
                  <a:lnTo>
                    <a:pt x="151" y="61"/>
                  </a:lnTo>
                  <a:lnTo>
                    <a:pt x="178" y="44"/>
                  </a:lnTo>
                  <a:lnTo>
                    <a:pt x="205" y="31"/>
                  </a:lnTo>
                  <a:lnTo>
                    <a:pt x="236" y="21"/>
                  </a:lnTo>
                  <a:lnTo>
                    <a:pt x="266" y="13"/>
                  </a:lnTo>
                  <a:lnTo>
                    <a:pt x="272" y="12"/>
                  </a:lnTo>
                  <a:lnTo>
                    <a:pt x="272" y="10"/>
                  </a:lnTo>
                  <a:lnTo>
                    <a:pt x="272" y="10"/>
                  </a:lnTo>
                  <a:lnTo>
                    <a:pt x="274" y="8"/>
                  </a:lnTo>
                  <a:lnTo>
                    <a:pt x="274" y="6"/>
                  </a:lnTo>
                  <a:lnTo>
                    <a:pt x="274" y="6"/>
                  </a:lnTo>
                  <a:lnTo>
                    <a:pt x="274" y="4"/>
                  </a:lnTo>
                  <a:lnTo>
                    <a:pt x="274" y="2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c2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Freeform 468"/>
            <p:cNvSpPr/>
            <p:nvPr/>
          </p:nvSpPr>
          <p:spPr>
            <a:xfrm>
              <a:off x="5934960" y="2724480"/>
              <a:ext cx="473040" cy="1079280"/>
            </a:xfrm>
            <a:custGeom>
              <a:avLst/>
              <a:gdLst>
                <a:gd name="textAreaLeft" fmla="*/ 0 w 473040"/>
                <a:gd name="textAreaRight" fmla="*/ 473400 w 473040"/>
                <a:gd name="textAreaTop" fmla="*/ 0 h 1079280"/>
                <a:gd name="textAreaBottom" fmla="*/ 1079640 h 1079280"/>
              </a:gdLst>
              <a:ahLst/>
              <a:rect l="textAreaLeft" t="textAreaTop" r="textAreaRight" b="textAreaBottom"/>
              <a:pathLst>
                <a:path w="281" h="641">
                  <a:moveTo>
                    <a:pt x="269" y="0"/>
                  </a:moveTo>
                  <a:lnTo>
                    <a:pt x="259" y="2"/>
                  </a:lnTo>
                  <a:lnTo>
                    <a:pt x="229" y="9"/>
                  </a:lnTo>
                  <a:lnTo>
                    <a:pt x="198" y="21"/>
                  </a:lnTo>
                  <a:lnTo>
                    <a:pt x="169" y="34"/>
                  </a:lnTo>
                  <a:lnTo>
                    <a:pt x="144" y="50"/>
                  </a:lnTo>
                  <a:lnTo>
                    <a:pt x="117" y="69"/>
                  </a:lnTo>
                  <a:lnTo>
                    <a:pt x="94" y="90"/>
                  </a:lnTo>
                  <a:lnTo>
                    <a:pt x="75" y="113"/>
                  </a:lnTo>
                  <a:lnTo>
                    <a:pt x="56" y="138"/>
                  </a:lnTo>
                  <a:lnTo>
                    <a:pt x="39" y="165"/>
                  </a:lnTo>
                  <a:lnTo>
                    <a:pt x="25" y="194"/>
                  </a:lnTo>
                  <a:lnTo>
                    <a:pt x="16" y="222"/>
                  </a:lnTo>
                  <a:lnTo>
                    <a:pt x="6" y="255"/>
                  </a:lnTo>
                  <a:lnTo>
                    <a:pt x="2" y="286"/>
                  </a:lnTo>
                  <a:lnTo>
                    <a:pt x="0" y="320"/>
                  </a:lnTo>
                  <a:lnTo>
                    <a:pt x="2" y="353"/>
                  </a:lnTo>
                  <a:lnTo>
                    <a:pt x="6" y="385"/>
                  </a:lnTo>
                  <a:lnTo>
                    <a:pt x="16" y="416"/>
                  </a:lnTo>
                  <a:lnTo>
                    <a:pt x="25" y="447"/>
                  </a:lnTo>
                  <a:lnTo>
                    <a:pt x="39" y="474"/>
                  </a:lnTo>
                  <a:lnTo>
                    <a:pt x="56" y="501"/>
                  </a:lnTo>
                  <a:lnTo>
                    <a:pt x="75" y="526"/>
                  </a:lnTo>
                  <a:lnTo>
                    <a:pt x="94" y="549"/>
                  </a:lnTo>
                  <a:lnTo>
                    <a:pt x="117" y="570"/>
                  </a:lnTo>
                  <a:lnTo>
                    <a:pt x="144" y="589"/>
                  </a:lnTo>
                  <a:lnTo>
                    <a:pt x="169" y="606"/>
                  </a:lnTo>
                  <a:lnTo>
                    <a:pt x="198" y="620"/>
                  </a:lnTo>
                  <a:lnTo>
                    <a:pt x="229" y="629"/>
                  </a:lnTo>
                  <a:lnTo>
                    <a:pt x="259" y="639"/>
                  </a:lnTo>
                  <a:lnTo>
                    <a:pt x="281" y="641"/>
                  </a:lnTo>
                  <a:lnTo>
                    <a:pt x="281" y="641"/>
                  </a:lnTo>
                  <a:lnTo>
                    <a:pt x="281" y="639"/>
                  </a:lnTo>
                  <a:lnTo>
                    <a:pt x="281" y="637"/>
                  </a:lnTo>
                  <a:lnTo>
                    <a:pt x="281" y="635"/>
                  </a:lnTo>
                  <a:lnTo>
                    <a:pt x="279" y="635"/>
                  </a:lnTo>
                  <a:lnTo>
                    <a:pt x="279" y="633"/>
                  </a:lnTo>
                  <a:lnTo>
                    <a:pt x="279" y="631"/>
                  </a:lnTo>
                  <a:lnTo>
                    <a:pt x="279" y="629"/>
                  </a:lnTo>
                  <a:lnTo>
                    <a:pt x="261" y="627"/>
                  </a:lnTo>
                  <a:lnTo>
                    <a:pt x="231" y="620"/>
                  </a:lnTo>
                  <a:lnTo>
                    <a:pt x="202" y="610"/>
                  </a:lnTo>
                  <a:lnTo>
                    <a:pt x="175" y="597"/>
                  </a:lnTo>
                  <a:lnTo>
                    <a:pt x="150" y="579"/>
                  </a:lnTo>
                  <a:lnTo>
                    <a:pt x="125" y="562"/>
                  </a:lnTo>
                  <a:lnTo>
                    <a:pt x="102" y="541"/>
                  </a:lnTo>
                  <a:lnTo>
                    <a:pt x="83" y="520"/>
                  </a:lnTo>
                  <a:lnTo>
                    <a:pt x="64" y="495"/>
                  </a:lnTo>
                  <a:lnTo>
                    <a:pt x="48" y="470"/>
                  </a:lnTo>
                  <a:lnTo>
                    <a:pt x="35" y="441"/>
                  </a:lnTo>
                  <a:lnTo>
                    <a:pt x="25" y="412"/>
                  </a:lnTo>
                  <a:lnTo>
                    <a:pt x="18" y="384"/>
                  </a:lnTo>
                  <a:lnTo>
                    <a:pt x="12" y="351"/>
                  </a:lnTo>
                  <a:lnTo>
                    <a:pt x="10" y="320"/>
                  </a:lnTo>
                  <a:lnTo>
                    <a:pt x="12" y="288"/>
                  </a:lnTo>
                  <a:lnTo>
                    <a:pt x="18" y="257"/>
                  </a:lnTo>
                  <a:lnTo>
                    <a:pt x="25" y="226"/>
                  </a:lnTo>
                  <a:lnTo>
                    <a:pt x="35" y="197"/>
                  </a:lnTo>
                  <a:lnTo>
                    <a:pt x="48" y="171"/>
                  </a:lnTo>
                  <a:lnTo>
                    <a:pt x="64" y="144"/>
                  </a:lnTo>
                  <a:lnTo>
                    <a:pt x="83" y="121"/>
                  </a:lnTo>
                  <a:lnTo>
                    <a:pt x="102" y="98"/>
                  </a:lnTo>
                  <a:lnTo>
                    <a:pt x="125" y="77"/>
                  </a:lnTo>
                  <a:lnTo>
                    <a:pt x="150" y="59"/>
                  </a:lnTo>
                  <a:lnTo>
                    <a:pt x="175" y="44"/>
                  </a:lnTo>
                  <a:lnTo>
                    <a:pt x="202" y="31"/>
                  </a:lnTo>
                  <a:lnTo>
                    <a:pt x="231" y="19"/>
                  </a:lnTo>
                  <a:lnTo>
                    <a:pt x="261" y="11"/>
                  </a:lnTo>
                  <a:lnTo>
                    <a:pt x="265" y="11"/>
                  </a:lnTo>
                  <a:lnTo>
                    <a:pt x="267" y="9"/>
                  </a:lnTo>
                  <a:lnTo>
                    <a:pt x="267" y="9"/>
                  </a:lnTo>
                  <a:lnTo>
                    <a:pt x="267" y="7"/>
                  </a:lnTo>
                  <a:lnTo>
                    <a:pt x="267" y="6"/>
                  </a:lnTo>
                  <a:lnTo>
                    <a:pt x="267" y="4"/>
                  </a:lnTo>
                  <a:lnTo>
                    <a:pt x="267" y="4"/>
                  </a:lnTo>
                  <a:lnTo>
                    <a:pt x="269" y="2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c3e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Freeform 469"/>
            <p:cNvSpPr/>
            <p:nvPr/>
          </p:nvSpPr>
          <p:spPr>
            <a:xfrm>
              <a:off x="5944680" y="2734560"/>
              <a:ext cx="462960" cy="1058760"/>
            </a:xfrm>
            <a:custGeom>
              <a:avLst/>
              <a:gdLst>
                <a:gd name="textAreaLeft" fmla="*/ 0 w 462960"/>
                <a:gd name="textAreaRight" fmla="*/ 463320 w 462960"/>
                <a:gd name="textAreaTop" fmla="*/ 0 h 1058760"/>
                <a:gd name="textAreaBottom" fmla="*/ 1059120 h 1058760"/>
              </a:gdLst>
              <a:ahLst/>
              <a:rect l="textAreaLeft" t="textAreaTop" r="textAreaRight" b="textAreaBottom"/>
              <a:pathLst>
                <a:path w="275" h="629">
                  <a:moveTo>
                    <a:pt x="261" y="0"/>
                  </a:moveTo>
                  <a:lnTo>
                    <a:pt x="255" y="1"/>
                  </a:lnTo>
                  <a:lnTo>
                    <a:pt x="225" y="9"/>
                  </a:lnTo>
                  <a:lnTo>
                    <a:pt x="194" y="19"/>
                  </a:lnTo>
                  <a:lnTo>
                    <a:pt x="167" y="32"/>
                  </a:lnTo>
                  <a:lnTo>
                    <a:pt x="140" y="49"/>
                  </a:lnTo>
                  <a:lnTo>
                    <a:pt x="115" y="67"/>
                  </a:lnTo>
                  <a:lnTo>
                    <a:pt x="92" y="88"/>
                  </a:lnTo>
                  <a:lnTo>
                    <a:pt x="73" y="111"/>
                  </a:lnTo>
                  <a:lnTo>
                    <a:pt x="54" y="136"/>
                  </a:lnTo>
                  <a:lnTo>
                    <a:pt x="38" y="161"/>
                  </a:lnTo>
                  <a:lnTo>
                    <a:pt x="25" y="190"/>
                  </a:lnTo>
                  <a:lnTo>
                    <a:pt x="14" y="218"/>
                  </a:lnTo>
                  <a:lnTo>
                    <a:pt x="6" y="249"/>
                  </a:lnTo>
                  <a:lnTo>
                    <a:pt x="2" y="282"/>
                  </a:lnTo>
                  <a:lnTo>
                    <a:pt x="0" y="314"/>
                  </a:lnTo>
                  <a:lnTo>
                    <a:pt x="2" y="347"/>
                  </a:lnTo>
                  <a:lnTo>
                    <a:pt x="6" y="378"/>
                  </a:lnTo>
                  <a:lnTo>
                    <a:pt x="14" y="408"/>
                  </a:lnTo>
                  <a:lnTo>
                    <a:pt x="25" y="439"/>
                  </a:lnTo>
                  <a:lnTo>
                    <a:pt x="38" y="466"/>
                  </a:lnTo>
                  <a:lnTo>
                    <a:pt x="54" y="493"/>
                  </a:lnTo>
                  <a:lnTo>
                    <a:pt x="73" y="518"/>
                  </a:lnTo>
                  <a:lnTo>
                    <a:pt x="92" y="539"/>
                  </a:lnTo>
                  <a:lnTo>
                    <a:pt x="115" y="560"/>
                  </a:lnTo>
                  <a:lnTo>
                    <a:pt x="140" y="579"/>
                  </a:lnTo>
                  <a:lnTo>
                    <a:pt x="167" y="594"/>
                  </a:lnTo>
                  <a:lnTo>
                    <a:pt x="194" y="608"/>
                  </a:lnTo>
                  <a:lnTo>
                    <a:pt x="225" y="619"/>
                  </a:lnTo>
                  <a:lnTo>
                    <a:pt x="255" y="627"/>
                  </a:lnTo>
                  <a:lnTo>
                    <a:pt x="275" y="629"/>
                  </a:lnTo>
                  <a:lnTo>
                    <a:pt x="273" y="629"/>
                  </a:lnTo>
                  <a:lnTo>
                    <a:pt x="273" y="627"/>
                  </a:lnTo>
                  <a:lnTo>
                    <a:pt x="273" y="625"/>
                  </a:lnTo>
                  <a:lnTo>
                    <a:pt x="273" y="623"/>
                  </a:lnTo>
                  <a:lnTo>
                    <a:pt x="273" y="623"/>
                  </a:lnTo>
                  <a:lnTo>
                    <a:pt x="271" y="621"/>
                  </a:lnTo>
                  <a:lnTo>
                    <a:pt x="271" y="619"/>
                  </a:lnTo>
                  <a:lnTo>
                    <a:pt x="271" y="619"/>
                  </a:lnTo>
                  <a:lnTo>
                    <a:pt x="257" y="615"/>
                  </a:lnTo>
                  <a:lnTo>
                    <a:pt x="227" y="608"/>
                  </a:lnTo>
                  <a:lnTo>
                    <a:pt x="198" y="598"/>
                  </a:lnTo>
                  <a:lnTo>
                    <a:pt x="171" y="585"/>
                  </a:lnTo>
                  <a:lnTo>
                    <a:pt x="146" y="569"/>
                  </a:lnTo>
                  <a:lnTo>
                    <a:pt x="123" y="552"/>
                  </a:lnTo>
                  <a:lnTo>
                    <a:pt x="100" y="533"/>
                  </a:lnTo>
                  <a:lnTo>
                    <a:pt x="81" y="510"/>
                  </a:lnTo>
                  <a:lnTo>
                    <a:pt x="63" y="487"/>
                  </a:lnTo>
                  <a:lnTo>
                    <a:pt x="48" y="460"/>
                  </a:lnTo>
                  <a:lnTo>
                    <a:pt x="35" y="433"/>
                  </a:lnTo>
                  <a:lnTo>
                    <a:pt x="23" y="406"/>
                  </a:lnTo>
                  <a:lnTo>
                    <a:pt x="17" y="376"/>
                  </a:lnTo>
                  <a:lnTo>
                    <a:pt x="12" y="345"/>
                  </a:lnTo>
                  <a:lnTo>
                    <a:pt x="10" y="314"/>
                  </a:lnTo>
                  <a:lnTo>
                    <a:pt x="12" y="282"/>
                  </a:lnTo>
                  <a:lnTo>
                    <a:pt x="17" y="251"/>
                  </a:lnTo>
                  <a:lnTo>
                    <a:pt x="23" y="222"/>
                  </a:lnTo>
                  <a:lnTo>
                    <a:pt x="35" y="193"/>
                  </a:lnTo>
                  <a:lnTo>
                    <a:pt x="48" y="167"/>
                  </a:lnTo>
                  <a:lnTo>
                    <a:pt x="63" y="142"/>
                  </a:lnTo>
                  <a:lnTo>
                    <a:pt x="81" y="117"/>
                  </a:lnTo>
                  <a:lnTo>
                    <a:pt x="100" y="96"/>
                  </a:lnTo>
                  <a:lnTo>
                    <a:pt x="123" y="76"/>
                  </a:lnTo>
                  <a:lnTo>
                    <a:pt x="146" y="57"/>
                  </a:lnTo>
                  <a:lnTo>
                    <a:pt x="171" y="42"/>
                  </a:lnTo>
                  <a:lnTo>
                    <a:pt x="198" y="30"/>
                  </a:lnTo>
                  <a:lnTo>
                    <a:pt x="227" y="19"/>
                  </a:lnTo>
                  <a:lnTo>
                    <a:pt x="257" y="11"/>
                  </a:lnTo>
                  <a:lnTo>
                    <a:pt x="259" y="11"/>
                  </a:lnTo>
                  <a:lnTo>
                    <a:pt x="259" y="9"/>
                  </a:lnTo>
                  <a:lnTo>
                    <a:pt x="259" y="9"/>
                  </a:lnTo>
                  <a:lnTo>
                    <a:pt x="259" y="7"/>
                  </a:lnTo>
                  <a:lnTo>
                    <a:pt x="259" y="5"/>
                  </a:lnTo>
                  <a:lnTo>
                    <a:pt x="261" y="3"/>
                  </a:lnTo>
                  <a:lnTo>
                    <a:pt x="261" y="3"/>
                  </a:lnTo>
                  <a:lnTo>
                    <a:pt x="261" y="1"/>
                  </a:lnTo>
                  <a:lnTo>
                    <a:pt x="261" y="0"/>
                  </a:lnTo>
                  <a:close/>
                </a:path>
              </a:pathLst>
            </a:custGeom>
            <a:solidFill>
              <a:srgbClr val="c4e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Freeform 470"/>
            <p:cNvSpPr/>
            <p:nvPr/>
          </p:nvSpPr>
          <p:spPr>
            <a:xfrm>
              <a:off x="5951520" y="2743200"/>
              <a:ext cx="452880" cy="1040400"/>
            </a:xfrm>
            <a:custGeom>
              <a:avLst/>
              <a:gdLst>
                <a:gd name="textAreaLeft" fmla="*/ 0 w 452880"/>
                <a:gd name="textAreaRight" fmla="*/ 453240 w 452880"/>
                <a:gd name="textAreaTop" fmla="*/ 0 h 1040400"/>
                <a:gd name="textAreaBottom" fmla="*/ 1040760 h 1040400"/>
              </a:gdLst>
              <a:ahLst/>
              <a:rect l="textAreaLeft" t="textAreaTop" r="textAreaRight" b="textAreaBottom"/>
              <a:pathLst>
                <a:path w="269" h="618">
                  <a:moveTo>
                    <a:pt x="255" y="0"/>
                  </a:moveTo>
                  <a:lnTo>
                    <a:pt x="251" y="0"/>
                  </a:lnTo>
                  <a:lnTo>
                    <a:pt x="221" y="8"/>
                  </a:lnTo>
                  <a:lnTo>
                    <a:pt x="192" y="20"/>
                  </a:lnTo>
                  <a:lnTo>
                    <a:pt x="165" y="33"/>
                  </a:lnTo>
                  <a:lnTo>
                    <a:pt x="140" y="48"/>
                  </a:lnTo>
                  <a:lnTo>
                    <a:pt x="115" y="66"/>
                  </a:lnTo>
                  <a:lnTo>
                    <a:pt x="92" y="87"/>
                  </a:lnTo>
                  <a:lnTo>
                    <a:pt x="73" y="110"/>
                  </a:lnTo>
                  <a:lnTo>
                    <a:pt x="54" y="133"/>
                  </a:lnTo>
                  <a:lnTo>
                    <a:pt x="38" y="160"/>
                  </a:lnTo>
                  <a:lnTo>
                    <a:pt x="25" y="186"/>
                  </a:lnTo>
                  <a:lnTo>
                    <a:pt x="15" y="215"/>
                  </a:lnTo>
                  <a:lnTo>
                    <a:pt x="8" y="246"/>
                  </a:lnTo>
                  <a:lnTo>
                    <a:pt x="2" y="277"/>
                  </a:lnTo>
                  <a:lnTo>
                    <a:pt x="0" y="309"/>
                  </a:lnTo>
                  <a:lnTo>
                    <a:pt x="2" y="340"/>
                  </a:lnTo>
                  <a:lnTo>
                    <a:pt x="8" y="373"/>
                  </a:lnTo>
                  <a:lnTo>
                    <a:pt x="15" y="401"/>
                  </a:lnTo>
                  <a:lnTo>
                    <a:pt x="25" y="430"/>
                  </a:lnTo>
                  <a:lnTo>
                    <a:pt x="38" y="459"/>
                  </a:lnTo>
                  <a:lnTo>
                    <a:pt x="54" y="484"/>
                  </a:lnTo>
                  <a:lnTo>
                    <a:pt x="73" y="509"/>
                  </a:lnTo>
                  <a:lnTo>
                    <a:pt x="92" y="530"/>
                  </a:lnTo>
                  <a:lnTo>
                    <a:pt x="115" y="551"/>
                  </a:lnTo>
                  <a:lnTo>
                    <a:pt x="140" y="568"/>
                  </a:lnTo>
                  <a:lnTo>
                    <a:pt x="165" y="586"/>
                  </a:lnTo>
                  <a:lnTo>
                    <a:pt x="192" y="599"/>
                  </a:lnTo>
                  <a:lnTo>
                    <a:pt x="221" y="609"/>
                  </a:lnTo>
                  <a:lnTo>
                    <a:pt x="251" y="616"/>
                  </a:lnTo>
                  <a:lnTo>
                    <a:pt x="269" y="618"/>
                  </a:lnTo>
                  <a:lnTo>
                    <a:pt x="269" y="618"/>
                  </a:lnTo>
                  <a:lnTo>
                    <a:pt x="267" y="616"/>
                  </a:lnTo>
                  <a:lnTo>
                    <a:pt x="267" y="614"/>
                  </a:lnTo>
                  <a:lnTo>
                    <a:pt x="267" y="614"/>
                  </a:lnTo>
                  <a:lnTo>
                    <a:pt x="267" y="612"/>
                  </a:lnTo>
                  <a:lnTo>
                    <a:pt x="267" y="610"/>
                  </a:lnTo>
                  <a:lnTo>
                    <a:pt x="267" y="609"/>
                  </a:lnTo>
                  <a:lnTo>
                    <a:pt x="265" y="609"/>
                  </a:lnTo>
                  <a:lnTo>
                    <a:pt x="253" y="607"/>
                  </a:lnTo>
                  <a:lnTo>
                    <a:pt x="224" y="599"/>
                  </a:lnTo>
                  <a:lnTo>
                    <a:pt x="198" y="587"/>
                  </a:lnTo>
                  <a:lnTo>
                    <a:pt x="171" y="576"/>
                  </a:lnTo>
                  <a:lnTo>
                    <a:pt x="146" y="561"/>
                  </a:lnTo>
                  <a:lnTo>
                    <a:pt x="123" y="543"/>
                  </a:lnTo>
                  <a:lnTo>
                    <a:pt x="100" y="524"/>
                  </a:lnTo>
                  <a:lnTo>
                    <a:pt x="81" y="501"/>
                  </a:lnTo>
                  <a:lnTo>
                    <a:pt x="63" y="478"/>
                  </a:lnTo>
                  <a:lnTo>
                    <a:pt x="48" y="453"/>
                  </a:lnTo>
                  <a:lnTo>
                    <a:pt x="34" y="426"/>
                  </a:lnTo>
                  <a:lnTo>
                    <a:pt x="25" y="399"/>
                  </a:lnTo>
                  <a:lnTo>
                    <a:pt x="17" y="371"/>
                  </a:lnTo>
                  <a:lnTo>
                    <a:pt x="13" y="340"/>
                  </a:lnTo>
                  <a:lnTo>
                    <a:pt x="11" y="309"/>
                  </a:lnTo>
                  <a:lnTo>
                    <a:pt x="13" y="279"/>
                  </a:lnTo>
                  <a:lnTo>
                    <a:pt x="17" y="248"/>
                  </a:lnTo>
                  <a:lnTo>
                    <a:pt x="25" y="219"/>
                  </a:lnTo>
                  <a:lnTo>
                    <a:pt x="34" y="190"/>
                  </a:lnTo>
                  <a:lnTo>
                    <a:pt x="48" y="163"/>
                  </a:lnTo>
                  <a:lnTo>
                    <a:pt x="63" y="138"/>
                  </a:lnTo>
                  <a:lnTo>
                    <a:pt x="81" y="115"/>
                  </a:lnTo>
                  <a:lnTo>
                    <a:pt x="100" y="94"/>
                  </a:lnTo>
                  <a:lnTo>
                    <a:pt x="123" y="75"/>
                  </a:lnTo>
                  <a:lnTo>
                    <a:pt x="146" y="58"/>
                  </a:lnTo>
                  <a:lnTo>
                    <a:pt x="171" y="43"/>
                  </a:lnTo>
                  <a:lnTo>
                    <a:pt x="198" y="29"/>
                  </a:lnTo>
                  <a:lnTo>
                    <a:pt x="224" y="20"/>
                  </a:lnTo>
                  <a:lnTo>
                    <a:pt x="253" y="12"/>
                  </a:lnTo>
                  <a:lnTo>
                    <a:pt x="253" y="10"/>
                  </a:lnTo>
                  <a:lnTo>
                    <a:pt x="253" y="8"/>
                  </a:lnTo>
                  <a:lnTo>
                    <a:pt x="255" y="8"/>
                  </a:lnTo>
                  <a:lnTo>
                    <a:pt x="255" y="6"/>
                  </a:lnTo>
                  <a:lnTo>
                    <a:pt x="255" y="4"/>
                  </a:lnTo>
                  <a:lnTo>
                    <a:pt x="255" y="4"/>
                  </a:lnTo>
                  <a:lnTo>
                    <a:pt x="255" y="2"/>
                  </a:lnTo>
                  <a:lnTo>
                    <a:pt x="255" y="0"/>
                  </a:lnTo>
                  <a:close/>
                </a:path>
              </a:pathLst>
            </a:custGeom>
            <a:solidFill>
              <a:srgbClr val="c5e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Freeform 471"/>
            <p:cNvSpPr/>
            <p:nvPr/>
          </p:nvSpPr>
          <p:spPr>
            <a:xfrm>
              <a:off x="5961600" y="2752920"/>
              <a:ext cx="439560" cy="1023480"/>
            </a:xfrm>
            <a:custGeom>
              <a:avLst/>
              <a:gdLst>
                <a:gd name="textAreaLeft" fmla="*/ 0 w 439560"/>
                <a:gd name="textAreaRight" fmla="*/ 439920 w 439560"/>
                <a:gd name="textAreaTop" fmla="*/ 0 h 1023480"/>
                <a:gd name="textAreaBottom" fmla="*/ 1023840 h 1023480"/>
              </a:gdLst>
              <a:ahLst/>
              <a:rect l="textAreaLeft" t="textAreaTop" r="textAreaRight" b="textAreaBottom"/>
              <a:pathLst>
                <a:path w="261" h="608">
                  <a:moveTo>
                    <a:pt x="249" y="0"/>
                  </a:moveTo>
                  <a:lnTo>
                    <a:pt x="247" y="0"/>
                  </a:lnTo>
                  <a:lnTo>
                    <a:pt x="217" y="8"/>
                  </a:lnTo>
                  <a:lnTo>
                    <a:pt x="188" y="19"/>
                  </a:lnTo>
                  <a:lnTo>
                    <a:pt x="161" y="31"/>
                  </a:lnTo>
                  <a:lnTo>
                    <a:pt x="136" y="46"/>
                  </a:lnTo>
                  <a:lnTo>
                    <a:pt x="113" y="65"/>
                  </a:lnTo>
                  <a:lnTo>
                    <a:pt x="90" y="85"/>
                  </a:lnTo>
                  <a:lnTo>
                    <a:pt x="71" y="106"/>
                  </a:lnTo>
                  <a:lnTo>
                    <a:pt x="53" y="131"/>
                  </a:lnTo>
                  <a:lnTo>
                    <a:pt x="38" y="156"/>
                  </a:lnTo>
                  <a:lnTo>
                    <a:pt x="25" y="182"/>
                  </a:lnTo>
                  <a:lnTo>
                    <a:pt x="13" y="211"/>
                  </a:lnTo>
                  <a:lnTo>
                    <a:pt x="7" y="240"/>
                  </a:lnTo>
                  <a:lnTo>
                    <a:pt x="2" y="271"/>
                  </a:lnTo>
                  <a:lnTo>
                    <a:pt x="0" y="303"/>
                  </a:lnTo>
                  <a:lnTo>
                    <a:pt x="2" y="334"/>
                  </a:lnTo>
                  <a:lnTo>
                    <a:pt x="7" y="365"/>
                  </a:lnTo>
                  <a:lnTo>
                    <a:pt x="13" y="395"/>
                  </a:lnTo>
                  <a:lnTo>
                    <a:pt x="25" y="422"/>
                  </a:lnTo>
                  <a:lnTo>
                    <a:pt x="38" y="449"/>
                  </a:lnTo>
                  <a:lnTo>
                    <a:pt x="53" y="476"/>
                  </a:lnTo>
                  <a:lnTo>
                    <a:pt x="71" y="499"/>
                  </a:lnTo>
                  <a:lnTo>
                    <a:pt x="90" y="522"/>
                  </a:lnTo>
                  <a:lnTo>
                    <a:pt x="113" y="541"/>
                  </a:lnTo>
                  <a:lnTo>
                    <a:pt x="136" y="558"/>
                  </a:lnTo>
                  <a:lnTo>
                    <a:pt x="161" y="574"/>
                  </a:lnTo>
                  <a:lnTo>
                    <a:pt x="188" y="587"/>
                  </a:lnTo>
                  <a:lnTo>
                    <a:pt x="217" y="597"/>
                  </a:lnTo>
                  <a:lnTo>
                    <a:pt x="247" y="604"/>
                  </a:lnTo>
                  <a:lnTo>
                    <a:pt x="261" y="608"/>
                  </a:lnTo>
                  <a:lnTo>
                    <a:pt x="261" y="606"/>
                  </a:lnTo>
                  <a:lnTo>
                    <a:pt x="261" y="604"/>
                  </a:lnTo>
                  <a:lnTo>
                    <a:pt x="261" y="603"/>
                  </a:lnTo>
                  <a:lnTo>
                    <a:pt x="259" y="603"/>
                  </a:lnTo>
                  <a:lnTo>
                    <a:pt x="259" y="601"/>
                  </a:lnTo>
                  <a:lnTo>
                    <a:pt x="259" y="599"/>
                  </a:lnTo>
                  <a:lnTo>
                    <a:pt x="259" y="597"/>
                  </a:lnTo>
                  <a:lnTo>
                    <a:pt x="259" y="597"/>
                  </a:lnTo>
                  <a:lnTo>
                    <a:pt x="249" y="595"/>
                  </a:lnTo>
                  <a:lnTo>
                    <a:pt x="220" y="587"/>
                  </a:lnTo>
                  <a:lnTo>
                    <a:pt x="194" y="578"/>
                  </a:lnTo>
                  <a:lnTo>
                    <a:pt x="167" y="564"/>
                  </a:lnTo>
                  <a:lnTo>
                    <a:pt x="142" y="551"/>
                  </a:lnTo>
                  <a:lnTo>
                    <a:pt x="119" y="533"/>
                  </a:lnTo>
                  <a:lnTo>
                    <a:pt x="98" y="514"/>
                  </a:lnTo>
                  <a:lnTo>
                    <a:pt x="78" y="493"/>
                  </a:lnTo>
                  <a:lnTo>
                    <a:pt x="61" y="470"/>
                  </a:lnTo>
                  <a:lnTo>
                    <a:pt x="48" y="445"/>
                  </a:lnTo>
                  <a:lnTo>
                    <a:pt x="34" y="418"/>
                  </a:lnTo>
                  <a:lnTo>
                    <a:pt x="25" y="391"/>
                  </a:lnTo>
                  <a:lnTo>
                    <a:pt x="17" y="363"/>
                  </a:lnTo>
                  <a:lnTo>
                    <a:pt x="13" y="334"/>
                  </a:lnTo>
                  <a:lnTo>
                    <a:pt x="11" y="303"/>
                  </a:lnTo>
                  <a:lnTo>
                    <a:pt x="13" y="273"/>
                  </a:lnTo>
                  <a:lnTo>
                    <a:pt x="17" y="242"/>
                  </a:lnTo>
                  <a:lnTo>
                    <a:pt x="25" y="215"/>
                  </a:lnTo>
                  <a:lnTo>
                    <a:pt x="34" y="186"/>
                  </a:lnTo>
                  <a:lnTo>
                    <a:pt x="48" y="161"/>
                  </a:lnTo>
                  <a:lnTo>
                    <a:pt x="61" y="136"/>
                  </a:lnTo>
                  <a:lnTo>
                    <a:pt x="78" y="113"/>
                  </a:lnTo>
                  <a:lnTo>
                    <a:pt x="98" y="92"/>
                  </a:lnTo>
                  <a:lnTo>
                    <a:pt x="119" y="73"/>
                  </a:lnTo>
                  <a:lnTo>
                    <a:pt x="142" y="56"/>
                  </a:lnTo>
                  <a:lnTo>
                    <a:pt x="167" y="40"/>
                  </a:lnTo>
                  <a:lnTo>
                    <a:pt x="194" y="29"/>
                  </a:lnTo>
                  <a:lnTo>
                    <a:pt x="220" y="17"/>
                  </a:lnTo>
                  <a:lnTo>
                    <a:pt x="247" y="12"/>
                  </a:lnTo>
                  <a:lnTo>
                    <a:pt x="247" y="10"/>
                  </a:lnTo>
                  <a:lnTo>
                    <a:pt x="247" y="8"/>
                  </a:lnTo>
                  <a:lnTo>
                    <a:pt x="247" y="8"/>
                  </a:lnTo>
                  <a:lnTo>
                    <a:pt x="247" y="6"/>
                  </a:lnTo>
                  <a:lnTo>
                    <a:pt x="247" y="4"/>
                  </a:lnTo>
                  <a:lnTo>
                    <a:pt x="247" y="2"/>
                  </a:lnTo>
                  <a:lnTo>
                    <a:pt x="249" y="2"/>
                  </a:lnTo>
                  <a:lnTo>
                    <a:pt x="249" y="0"/>
                  </a:lnTo>
                  <a:close/>
                </a:path>
              </a:pathLst>
            </a:custGeom>
            <a:solidFill>
              <a:srgbClr val="c6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Freeform 472"/>
            <p:cNvSpPr/>
            <p:nvPr/>
          </p:nvSpPr>
          <p:spPr>
            <a:xfrm>
              <a:off x="5969880" y="2763360"/>
              <a:ext cx="427680" cy="1004760"/>
            </a:xfrm>
            <a:custGeom>
              <a:avLst/>
              <a:gdLst>
                <a:gd name="textAreaLeft" fmla="*/ 0 w 427680"/>
                <a:gd name="textAreaRight" fmla="*/ 428040 w 427680"/>
                <a:gd name="textAreaTop" fmla="*/ 0 h 1004760"/>
                <a:gd name="textAreaBottom" fmla="*/ 1005120 h 1004760"/>
              </a:gdLst>
              <a:ahLst/>
              <a:rect l="textAreaLeft" t="textAreaTop" r="textAreaRight" b="textAreaBottom"/>
              <a:pathLst>
                <a:path w="254" h="597">
                  <a:moveTo>
                    <a:pt x="242" y="0"/>
                  </a:moveTo>
                  <a:lnTo>
                    <a:pt x="213" y="8"/>
                  </a:lnTo>
                  <a:lnTo>
                    <a:pt x="187" y="17"/>
                  </a:lnTo>
                  <a:lnTo>
                    <a:pt x="160" y="31"/>
                  </a:lnTo>
                  <a:lnTo>
                    <a:pt x="135" y="46"/>
                  </a:lnTo>
                  <a:lnTo>
                    <a:pt x="112" y="63"/>
                  </a:lnTo>
                  <a:lnTo>
                    <a:pt x="89" y="82"/>
                  </a:lnTo>
                  <a:lnTo>
                    <a:pt x="70" y="103"/>
                  </a:lnTo>
                  <a:lnTo>
                    <a:pt x="52" y="126"/>
                  </a:lnTo>
                  <a:lnTo>
                    <a:pt x="37" y="151"/>
                  </a:lnTo>
                  <a:lnTo>
                    <a:pt x="23" y="178"/>
                  </a:lnTo>
                  <a:lnTo>
                    <a:pt x="14" y="207"/>
                  </a:lnTo>
                  <a:lnTo>
                    <a:pt x="6" y="236"/>
                  </a:lnTo>
                  <a:lnTo>
                    <a:pt x="2" y="267"/>
                  </a:lnTo>
                  <a:lnTo>
                    <a:pt x="0" y="297"/>
                  </a:lnTo>
                  <a:lnTo>
                    <a:pt x="2" y="328"/>
                  </a:lnTo>
                  <a:lnTo>
                    <a:pt x="6" y="359"/>
                  </a:lnTo>
                  <a:lnTo>
                    <a:pt x="14" y="387"/>
                  </a:lnTo>
                  <a:lnTo>
                    <a:pt x="23" y="414"/>
                  </a:lnTo>
                  <a:lnTo>
                    <a:pt x="37" y="441"/>
                  </a:lnTo>
                  <a:lnTo>
                    <a:pt x="52" y="466"/>
                  </a:lnTo>
                  <a:lnTo>
                    <a:pt x="70" y="489"/>
                  </a:lnTo>
                  <a:lnTo>
                    <a:pt x="89" y="512"/>
                  </a:lnTo>
                  <a:lnTo>
                    <a:pt x="112" y="531"/>
                  </a:lnTo>
                  <a:lnTo>
                    <a:pt x="135" y="549"/>
                  </a:lnTo>
                  <a:lnTo>
                    <a:pt x="160" y="564"/>
                  </a:lnTo>
                  <a:lnTo>
                    <a:pt x="187" y="575"/>
                  </a:lnTo>
                  <a:lnTo>
                    <a:pt x="213" y="587"/>
                  </a:lnTo>
                  <a:lnTo>
                    <a:pt x="242" y="595"/>
                  </a:lnTo>
                  <a:lnTo>
                    <a:pt x="254" y="597"/>
                  </a:lnTo>
                  <a:lnTo>
                    <a:pt x="254" y="595"/>
                  </a:lnTo>
                  <a:lnTo>
                    <a:pt x="254" y="593"/>
                  </a:lnTo>
                  <a:lnTo>
                    <a:pt x="254" y="591"/>
                  </a:lnTo>
                  <a:lnTo>
                    <a:pt x="254" y="591"/>
                  </a:lnTo>
                  <a:lnTo>
                    <a:pt x="252" y="589"/>
                  </a:lnTo>
                  <a:lnTo>
                    <a:pt x="252" y="587"/>
                  </a:lnTo>
                  <a:lnTo>
                    <a:pt x="252" y="587"/>
                  </a:lnTo>
                  <a:lnTo>
                    <a:pt x="252" y="585"/>
                  </a:lnTo>
                  <a:lnTo>
                    <a:pt x="244" y="583"/>
                  </a:lnTo>
                  <a:lnTo>
                    <a:pt x="217" y="575"/>
                  </a:lnTo>
                  <a:lnTo>
                    <a:pt x="190" y="566"/>
                  </a:lnTo>
                  <a:lnTo>
                    <a:pt x="164" y="554"/>
                  </a:lnTo>
                  <a:lnTo>
                    <a:pt x="141" y="539"/>
                  </a:lnTo>
                  <a:lnTo>
                    <a:pt x="118" y="522"/>
                  </a:lnTo>
                  <a:lnTo>
                    <a:pt x="96" y="504"/>
                  </a:lnTo>
                  <a:lnTo>
                    <a:pt x="77" y="483"/>
                  </a:lnTo>
                  <a:lnTo>
                    <a:pt x="62" y="460"/>
                  </a:lnTo>
                  <a:lnTo>
                    <a:pt x="47" y="435"/>
                  </a:lnTo>
                  <a:lnTo>
                    <a:pt x="35" y="410"/>
                  </a:lnTo>
                  <a:lnTo>
                    <a:pt x="23" y="384"/>
                  </a:lnTo>
                  <a:lnTo>
                    <a:pt x="18" y="357"/>
                  </a:lnTo>
                  <a:lnTo>
                    <a:pt x="12" y="326"/>
                  </a:lnTo>
                  <a:lnTo>
                    <a:pt x="12" y="297"/>
                  </a:lnTo>
                  <a:lnTo>
                    <a:pt x="12" y="267"/>
                  </a:lnTo>
                  <a:lnTo>
                    <a:pt x="18" y="238"/>
                  </a:lnTo>
                  <a:lnTo>
                    <a:pt x="23" y="209"/>
                  </a:lnTo>
                  <a:lnTo>
                    <a:pt x="35" y="182"/>
                  </a:lnTo>
                  <a:lnTo>
                    <a:pt x="47" y="157"/>
                  </a:lnTo>
                  <a:lnTo>
                    <a:pt x="62" y="132"/>
                  </a:lnTo>
                  <a:lnTo>
                    <a:pt x="77" y="111"/>
                  </a:lnTo>
                  <a:lnTo>
                    <a:pt x="96" y="90"/>
                  </a:lnTo>
                  <a:lnTo>
                    <a:pt x="118" y="71"/>
                  </a:lnTo>
                  <a:lnTo>
                    <a:pt x="141" y="54"/>
                  </a:lnTo>
                  <a:lnTo>
                    <a:pt x="164" y="40"/>
                  </a:lnTo>
                  <a:lnTo>
                    <a:pt x="190" y="27"/>
                  </a:lnTo>
                  <a:lnTo>
                    <a:pt x="217" y="17"/>
                  </a:lnTo>
                  <a:lnTo>
                    <a:pt x="240" y="11"/>
                  </a:lnTo>
                  <a:lnTo>
                    <a:pt x="240" y="9"/>
                  </a:lnTo>
                  <a:lnTo>
                    <a:pt x="240" y="8"/>
                  </a:lnTo>
                  <a:lnTo>
                    <a:pt x="240" y="8"/>
                  </a:lnTo>
                  <a:lnTo>
                    <a:pt x="242" y="6"/>
                  </a:lnTo>
                  <a:lnTo>
                    <a:pt x="242" y="4"/>
                  </a:lnTo>
                  <a:lnTo>
                    <a:pt x="242" y="2"/>
                  </a:lnTo>
                  <a:lnTo>
                    <a:pt x="242" y="2"/>
                  </a:lnTo>
                  <a:lnTo>
                    <a:pt x="242" y="0"/>
                  </a:lnTo>
                  <a:close/>
                </a:path>
              </a:pathLst>
            </a:custGeom>
            <a:solidFill>
              <a:srgbClr val="c7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Freeform 473"/>
            <p:cNvSpPr/>
            <p:nvPr/>
          </p:nvSpPr>
          <p:spPr>
            <a:xfrm>
              <a:off x="5980320" y="2773080"/>
              <a:ext cx="417240" cy="984960"/>
            </a:xfrm>
            <a:custGeom>
              <a:avLst/>
              <a:gdLst>
                <a:gd name="textAreaLeft" fmla="*/ 0 w 417240"/>
                <a:gd name="textAreaRight" fmla="*/ 417600 w 417240"/>
                <a:gd name="textAreaTop" fmla="*/ 0 h 984960"/>
                <a:gd name="textAreaBottom" fmla="*/ 985320 h 984960"/>
              </a:gdLst>
              <a:ahLst/>
              <a:rect l="textAreaLeft" t="textAreaTop" r="textAreaRight" b="textAreaBottom"/>
              <a:pathLst>
                <a:path w="248" h="585">
                  <a:moveTo>
                    <a:pt x="236" y="0"/>
                  </a:moveTo>
                  <a:lnTo>
                    <a:pt x="209" y="5"/>
                  </a:lnTo>
                  <a:lnTo>
                    <a:pt x="183" y="17"/>
                  </a:lnTo>
                  <a:lnTo>
                    <a:pt x="156" y="28"/>
                  </a:lnTo>
                  <a:lnTo>
                    <a:pt x="131" y="44"/>
                  </a:lnTo>
                  <a:lnTo>
                    <a:pt x="108" y="61"/>
                  </a:lnTo>
                  <a:lnTo>
                    <a:pt x="87" y="80"/>
                  </a:lnTo>
                  <a:lnTo>
                    <a:pt x="67" y="101"/>
                  </a:lnTo>
                  <a:lnTo>
                    <a:pt x="50" y="124"/>
                  </a:lnTo>
                  <a:lnTo>
                    <a:pt x="37" y="149"/>
                  </a:lnTo>
                  <a:lnTo>
                    <a:pt x="23" y="174"/>
                  </a:lnTo>
                  <a:lnTo>
                    <a:pt x="14" y="203"/>
                  </a:lnTo>
                  <a:lnTo>
                    <a:pt x="6" y="230"/>
                  </a:lnTo>
                  <a:lnTo>
                    <a:pt x="2" y="261"/>
                  </a:lnTo>
                  <a:lnTo>
                    <a:pt x="0" y="291"/>
                  </a:lnTo>
                  <a:lnTo>
                    <a:pt x="2" y="322"/>
                  </a:lnTo>
                  <a:lnTo>
                    <a:pt x="6" y="351"/>
                  </a:lnTo>
                  <a:lnTo>
                    <a:pt x="14" y="379"/>
                  </a:lnTo>
                  <a:lnTo>
                    <a:pt x="23" y="406"/>
                  </a:lnTo>
                  <a:lnTo>
                    <a:pt x="37" y="433"/>
                  </a:lnTo>
                  <a:lnTo>
                    <a:pt x="50" y="458"/>
                  </a:lnTo>
                  <a:lnTo>
                    <a:pt x="67" y="481"/>
                  </a:lnTo>
                  <a:lnTo>
                    <a:pt x="87" y="502"/>
                  </a:lnTo>
                  <a:lnTo>
                    <a:pt x="108" y="521"/>
                  </a:lnTo>
                  <a:lnTo>
                    <a:pt x="131" y="539"/>
                  </a:lnTo>
                  <a:lnTo>
                    <a:pt x="156" y="552"/>
                  </a:lnTo>
                  <a:lnTo>
                    <a:pt x="183" y="566"/>
                  </a:lnTo>
                  <a:lnTo>
                    <a:pt x="209" y="575"/>
                  </a:lnTo>
                  <a:lnTo>
                    <a:pt x="238" y="583"/>
                  </a:lnTo>
                  <a:lnTo>
                    <a:pt x="248" y="585"/>
                  </a:lnTo>
                  <a:lnTo>
                    <a:pt x="246" y="583"/>
                  </a:lnTo>
                  <a:lnTo>
                    <a:pt x="246" y="581"/>
                  </a:lnTo>
                  <a:lnTo>
                    <a:pt x="246" y="581"/>
                  </a:lnTo>
                  <a:lnTo>
                    <a:pt x="246" y="579"/>
                  </a:lnTo>
                  <a:lnTo>
                    <a:pt x="246" y="577"/>
                  </a:lnTo>
                  <a:lnTo>
                    <a:pt x="246" y="575"/>
                  </a:lnTo>
                  <a:lnTo>
                    <a:pt x="244" y="575"/>
                  </a:lnTo>
                  <a:lnTo>
                    <a:pt x="244" y="573"/>
                  </a:lnTo>
                  <a:lnTo>
                    <a:pt x="240" y="573"/>
                  </a:lnTo>
                  <a:lnTo>
                    <a:pt x="213" y="566"/>
                  </a:lnTo>
                  <a:lnTo>
                    <a:pt x="186" y="556"/>
                  </a:lnTo>
                  <a:lnTo>
                    <a:pt x="161" y="543"/>
                  </a:lnTo>
                  <a:lnTo>
                    <a:pt x="136" y="529"/>
                  </a:lnTo>
                  <a:lnTo>
                    <a:pt x="115" y="512"/>
                  </a:lnTo>
                  <a:lnTo>
                    <a:pt x="94" y="495"/>
                  </a:lnTo>
                  <a:lnTo>
                    <a:pt x="77" y="474"/>
                  </a:lnTo>
                  <a:lnTo>
                    <a:pt x="60" y="452"/>
                  </a:lnTo>
                  <a:lnTo>
                    <a:pt x="44" y="427"/>
                  </a:lnTo>
                  <a:lnTo>
                    <a:pt x="33" y="403"/>
                  </a:lnTo>
                  <a:lnTo>
                    <a:pt x="23" y="376"/>
                  </a:lnTo>
                  <a:lnTo>
                    <a:pt x="16" y="349"/>
                  </a:lnTo>
                  <a:lnTo>
                    <a:pt x="12" y="320"/>
                  </a:lnTo>
                  <a:lnTo>
                    <a:pt x="10" y="291"/>
                  </a:lnTo>
                  <a:lnTo>
                    <a:pt x="12" y="261"/>
                  </a:lnTo>
                  <a:lnTo>
                    <a:pt x="16" y="234"/>
                  </a:lnTo>
                  <a:lnTo>
                    <a:pt x="23" y="205"/>
                  </a:lnTo>
                  <a:lnTo>
                    <a:pt x="33" y="178"/>
                  </a:lnTo>
                  <a:lnTo>
                    <a:pt x="44" y="153"/>
                  </a:lnTo>
                  <a:lnTo>
                    <a:pt x="60" y="130"/>
                  </a:lnTo>
                  <a:lnTo>
                    <a:pt x="77" y="107"/>
                  </a:lnTo>
                  <a:lnTo>
                    <a:pt x="94" y="88"/>
                  </a:lnTo>
                  <a:lnTo>
                    <a:pt x="115" y="69"/>
                  </a:lnTo>
                  <a:lnTo>
                    <a:pt x="136" y="53"/>
                  </a:lnTo>
                  <a:lnTo>
                    <a:pt x="161" y="38"/>
                  </a:lnTo>
                  <a:lnTo>
                    <a:pt x="186" y="26"/>
                  </a:lnTo>
                  <a:lnTo>
                    <a:pt x="213" y="17"/>
                  </a:lnTo>
                  <a:lnTo>
                    <a:pt x="232" y="11"/>
                  </a:lnTo>
                  <a:lnTo>
                    <a:pt x="234" y="9"/>
                  </a:lnTo>
                  <a:lnTo>
                    <a:pt x="234" y="7"/>
                  </a:lnTo>
                  <a:lnTo>
                    <a:pt x="234" y="7"/>
                  </a:lnTo>
                  <a:lnTo>
                    <a:pt x="234" y="5"/>
                  </a:lnTo>
                  <a:lnTo>
                    <a:pt x="234" y="3"/>
                  </a:lnTo>
                  <a:lnTo>
                    <a:pt x="234" y="2"/>
                  </a:lnTo>
                  <a:lnTo>
                    <a:pt x="234" y="2"/>
                  </a:lnTo>
                  <a:lnTo>
                    <a:pt x="236" y="0"/>
                  </a:lnTo>
                  <a:close/>
                </a:path>
              </a:pathLst>
            </a:custGeom>
            <a:solidFill>
              <a:srgbClr val="c8e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Freeform 474"/>
            <p:cNvSpPr/>
            <p:nvPr/>
          </p:nvSpPr>
          <p:spPr>
            <a:xfrm>
              <a:off x="5990040" y="2781720"/>
              <a:ext cx="403920" cy="966240"/>
            </a:xfrm>
            <a:custGeom>
              <a:avLst/>
              <a:gdLst>
                <a:gd name="textAreaLeft" fmla="*/ 0 w 403920"/>
                <a:gd name="textAreaRight" fmla="*/ 404280 w 403920"/>
                <a:gd name="textAreaTop" fmla="*/ 0 h 966240"/>
                <a:gd name="textAreaBottom" fmla="*/ 966600 h 966240"/>
              </a:gdLst>
              <a:ahLst/>
              <a:rect l="textAreaLeft" t="textAreaTop" r="textAreaRight" b="textAreaBottom"/>
              <a:pathLst>
                <a:path w="240" h="574">
                  <a:moveTo>
                    <a:pt x="228" y="0"/>
                  </a:moveTo>
                  <a:lnTo>
                    <a:pt x="205" y="6"/>
                  </a:lnTo>
                  <a:lnTo>
                    <a:pt x="178" y="16"/>
                  </a:lnTo>
                  <a:lnTo>
                    <a:pt x="152" y="29"/>
                  </a:lnTo>
                  <a:lnTo>
                    <a:pt x="129" y="43"/>
                  </a:lnTo>
                  <a:lnTo>
                    <a:pt x="106" y="60"/>
                  </a:lnTo>
                  <a:lnTo>
                    <a:pt x="84" y="79"/>
                  </a:lnTo>
                  <a:lnTo>
                    <a:pt x="65" y="100"/>
                  </a:lnTo>
                  <a:lnTo>
                    <a:pt x="50" y="121"/>
                  </a:lnTo>
                  <a:lnTo>
                    <a:pt x="35" y="146"/>
                  </a:lnTo>
                  <a:lnTo>
                    <a:pt x="23" y="171"/>
                  </a:lnTo>
                  <a:lnTo>
                    <a:pt x="11" y="198"/>
                  </a:lnTo>
                  <a:lnTo>
                    <a:pt x="6" y="227"/>
                  </a:lnTo>
                  <a:lnTo>
                    <a:pt x="0" y="256"/>
                  </a:lnTo>
                  <a:lnTo>
                    <a:pt x="0" y="286"/>
                  </a:lnTo>
                  <a:lnTo>
                    <a:pt x="0" y="315"/>
                  </a:lnTo>
                  <a:lnTo>
                    <a:pt x="6" y="346"/>
                  </a:lnTo>
                  <a:lnTo>
                    <a:pt x="11" y="373"/>
                  </a:lnTo>
                  <a:lnTo>
                    <a:pt x="23" y="399"/>
                  </a:lnTo>
                  <a:lnTo>
                    <a:pt x="35" y="424"/>
                  </a:lnTo>
                  <a:lnTo>
                    <a:pt x="50" y="449"/>
                  </a:lnTo>
                  <a:lnTo>
                    <a:pt x="65" y="472"/>
                  </a:lnTo>
                  <a:lnTo>
                    <a:pt x="84" y="493"/>
                  </a:lnTo>
                  <a:lnTo>
                    <a:pt x="106" y="511"/>
                  </a:lnTo>
                  <a:lnTo>
                    <a:pt x="129" y="528"/>
                  </a:lnTo>
                  <a:lnTo>
                    <a:pt x="152" y="543"/>
                  </a:lnTo>
                  <a:lnTo>
                    <a:pt x="178" y="555"/>
                  </a:lnTo>
                  <a:lnTo>
                    <a:pt x="205" y="564"/>
                  </a:lnTo>
                  <a:lnTo>
                    <a:pt x="232" y="572"/>
                  </a:lnTo>
                  <a:lnTo>
                    <a:pt x="240" y="574"/>
                  </a:lnTo>
                  <a:lnTo>
                    <a:pt x="240" y="572"/>
                  </a:lnTo>
                  <a:lnTo>
                    <a:pt x="240" y="570"/>
                  </a:lnTo>
                  <a:lnTo>
                    <a:pt x="238" y="570"/>
                  </a:lnTo>
                  <a:lnTo>
                    <a:pt x="238" y="568"/>
                  </a:lnTo>
                  <a:lnTo>
                    <a:pt x="238" y="566"/>
                  </a:lnTo>
                  <a:lnTo>
                    <a:pt x="238" y="564"/>
                  </a:lnTo>
                  <a:lnTo>
                    <a:pt x="238" y="564"/>
                  </a:lnTo>
                  <a:lnTo>
                    <a:pt x="238" y="563"/>
                  </a:lnTo>
                  <a:lnTo>
                    <a:pt x="234" y="563"/>
                  </a:lnTo>
                  <a:lnTo>
                    <a:pt x="207" y="555"/>
                  </a:lnTo>
                  <a:lnTo>
                    <a:pt x="182" y="545"/>
                  </a:lnTo>
                  <a:lnTo>
                    <a:pt x="157" y="534"/>
                  </a:lnTo>
                  <a:lnTo>
                    <a:pt x="134" y="520"/>
                  </a:lnTo>
                  <a:lnTo>
                    <a:pt x="113" y="503"/>
                  </a:lnTo>
                  <a:lnTo>
                    <a:pt x="92" y="486"/>
                  </a:lnTo>
                  <a:lnTo>
                    <a:pt x="75" y="465"/>
                  </a:lnTo>
                  <a:lnTo>
                    <a:pt x="58" y="444"/>
                  </a:lnTo>
                  <a:lnTo>
                    <a:pt x="44" y="421"/>
                  </a:lnTo>
                  <a:lnTo>
                    <a:pt x="33" y="396"/>
                  </a:lnTo>
                  <a:lnTo>
                    <a:pt x="23" y="369"/>
                  </a:lnTo>
                  <a:lnTo>
                    <a:pt x="15" y="342"/>
                  </a:lnTo>
                  <a:lnTo>
                    <a:pt x="11" y="315"/>
                  </a:lnTo>
                  <a:lnTo>
                    <a:pt x="10" y="286"/>
                  </a:lnTo>
                  <a:lnTo>
                    <a:pt x="11" y="257"/>
                  </a:lnTo>
                  <a:lnTo>
                    <a:pt x="15" y="229"/>
                  </a:lnTo>
                  <a:lnTo>
                    <a:pt x="23" y="202"/>
                  </a:lnTo>
                  <a:lnTo>
                    <a:pt x="33" y="177"/>
                  </a:lnTo>
                  <a:lnTo>
                    <a:pt x="44" y="152"/>
                  </a:lnTo>
                  <a:lnTo>
                    <a:pt x="58" y="129"/>
                  </a:lnTo>
                  <a:lnTo>
                    <a:pt x="75" y="106"/>
                  </a:lnTo>
                  <a:lnTo>
                    <a:pt x="92" y="87"/>
                  </a:lnTo>
                  <a:lnTo>
                    <a:pt x="113" y="68"/>
                  </a:lnTo>
                  <a:lnTo>
                    <a:pt x="134" y="52"/>
                  </a:lnTo>
                  <a:lnTo>
                    <a:pt x="157" y="37"/>
                  </a:lnTo>
                  <a:lnTo>
                    <a:pt x="182" y="25"/>
                  </a:lnTo>
                  <a:lnTo>
                    <a:pt x="207" y="16"/>
                  </a:lnTo>
                  <a:lnTo>
                    <a:pt x="226" y="12"/>
                  </a:lnTo>
                  <a:lnTo>
                    <a:pt x="226" y="10"/>
                  </a:lnTo>
                  <a:lnTo>
                    <a:pt x="226" y="8"/>
                  </a:lnTo>
                  <a:lnTo>
                    <a:pt x="226" y="8"/>
                  </a:lnTo>
                  <a:lnTo>
                    <a:pt x="226" y="6"/>
                  </a:lnTo>
                  <a:lnTo>
                    <a:pt x="228" y="4"/>
                  </a:lnTo>
                  <a:lnTo>
                    <a:pt x="228" y="2"/>
                  </a:lnTo>
                  <a:lnTo>
                    <a:pt x="228" y="2"/>
                  </a:lnTo>
                  <a:lnTo>
                    <a:pt x="228" y="0"/>
                  </a:lnTo>
                  <a:close/>
                </a:path>
              </a:pathLst>
            </a:custGeom>
            <a:solidFill>
              <a:srgbClr val="c9e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Freeform 475"/>
            <p:cNvSpPr/>
            <p:nvPr/>
          </p:nvSpPr>
          <p:spPr>
            <a:xfrm>
              <a:off x="5996880" y="2791440"/>
              <a:ext cx="393840" cy="946440"/>
            </a:xfrm>
            <a:custGeom>
              <a:avLst/>
              <a:gdLst>
                <a:gd name="textAreaLeft" fmla="*/ 0 w 393840"/>
                <a:gd name="textAreaRight" fmla="*/ 394200 w 393840"/>
                <a:gd name="textAreaTop" fmla="*/ 0 h 946440"/>
                <a:gd name="textAreaBottom" fmla="*/ 946800 h 946440"/>
              </a:gdLst>
              <a:ahLst/>
              <a:rect l="textAreaLeft" t="textAreaTop" r="textAreaRight" b="textAreaBottom"/>
              <a:pathLst>
                <a:path w="234" h="562">
                  <a:moveTo>
                    <a:pt x="222" y="0"/>
                  </a:moveTo>
                  <a:lnTo>
                    <a:pt x="203" y="6"/>
                  </a:lnTo>
                  <a:lnTo>
                    <a:pt x="176" y="15"/>
                  </a:lnTo>
                  <a:lnTo>
                    <a:pt x="151" y="27"/>
                  </a:lnTo>
                  <a:lnTo>
                    <a:pt x="126" y="42"/>
                  </a:lnTo>
                  <a:lnTo>
                    <a:pt x="105" y="58"/>
                  </a:lnTo>
                  <a:lnTo>
                    <a:pt x="84" y="77"/>
                  </a:lnTo>
                  <a:lnTo>
                    <a:pt x="67" y="96"/>
                  </a:lnTo>
                  <a:lnTo>
                    <a:pt x="50" y="119"/>
                  </a:lnTo>
                  <a:lnTo>
                    <a:pt x="34" y="142"/>
                  </a:lnTo>
                  <a:lnTo>
                    <a:pt x="23" y="167"/>
                  </a:lnTo>
                  <a:lnTo>
                    <a:pt x="13" y="194"/>
                  </a:lnTo>
                  <a:lnTo>
                    <a:pt x="6" y="223"/>
                  </a:lnTo>
                  <a:lnTo>
                    <a:pt x="2" y="250"/>
                  </a:lnTo>
                  <a:lnTo>
                    <a:pt x="0" y="280"/>
                  </a:lnTo>
                  <a:lnTo>
                    <a:pt x="2" y="309"/>
                  </a:lnTo>
                  <a:lnTo>
                    <a:pt x="6" y="338"/>
                  </a:lnTo>
                  <a:lnTo>
                    <a:pt x="13" y="365"/>
                  </a:lnTo>
                  <a:lnTo>
                    <a:pt x="23" y="392"/>
                  </a:lnTo>
                  <a:lnTo>
                    <a:pt x="34" y="416"/>
                  </a:lnTo>
                  <a:lnTo>
                    <a:pt x="50" y="441"/>
                  </a:lnTo>
                  <a:lnTo>
                    <a:pt x="67" y="463"/>
                  </a:lnTo>
                  <a:lnTo>
                    <a:pt x="84" y="484"/>
                  </a:lnTo>
                  <a:lnTo>
                    <a:pt x="105" y="501"/>
                  </a:lnTo>
                  <a:lnTo>
                    <a:pt x="126" y="518"/>
                  </a:lnTo>
                  <a:lnTo>
                    <a:pt x="151" y="532"/>
                  </a:lnTo>
                  <a:lnTo>
                    <a:pt x="176" y="545"/>
                  </a:lnTo>
                  <a:lnTo>
                    <a:pt x="203" y="555"/>
                  </a:lnTo>
                  <a:lnTo>
                    <a:pt x="230" y="562"/>
                  </a:lnTo>
                  <a:lnTo>
                    <a:pt x="234" y="562"/>
                  </a:lnTo>
                  <a:lnTo>
                    <a:pt x="234" y="560"/>
                  </a:lnTo>
                  <a:lnTo>
                    <a:pt x="234" y="558"/>
                  </a:lnTo>
                  <a:lnTo>
                    <a:pt x="234" y="558"/>
                  </a:lnTo>
                  <a:lnTo>
                    <a:pt x="234" y="557"/>
                  </a:lnTo>
                  <a:lnTo>
                    <a:pt x="232" y="555"/>
                  </a:lnTo>
                  <a:lnTo>
                    <a:pt x="232" y="555"/>
                  </a:lnTo>
                  <a:lnTo>
                    <a:pt x="232" y="553"/>
                  </a:lnTo>
                  <a:lnTo>
                    <a:pt x="232" y="551"/>
                  </a:lnTo>
                  <a:lnTo>
                    <a:pt x="205" y="545"/>
                  </a:lnTo>
                  <a:lnTo>
                    <a:pt x="180" y="535"/>
                  </a:lnTo>
                  <a:lnTo>
                    <a:pt x="155" y="524"/>
                  </a:lnTo>
                  <a:lnTo>
                    <a:pt x="132" y="509"/>
                  </a:lnTo>
                  <a:lnTo>
                    <a:pt x="111" y="493"/>
                  </a:lnTo>
                  <a:lnTo>
                    <a:pt x="92" y="476"/>
                  </a:lnTo>
                  <a:lnTo>
                    <a:pt x="75" y="457"/>
                  </a:lnTo>
                  <a:lnTo>
                    <a:pt x="59" y="434"/>
                  </a:lnTo>
                  <a:lnTo>
                    <a:pt x="44" y="413"/>
                  </a:lnTo>
                  <a:lnTo>
                    <a:pt x="32" y="388"/>
                  </a:lnTo>
                  <a:lnTo>
                    <a:pt x="23" y="363"/>
                  </a:lnTo>
                  <a:lnTo>
                    <a:pt x="17" y="336"/>
                  </a:lnTo>
                  <a:lnTo>
                    <a:pt x="13" y="309"/>
                  </a:lnTo>
                  <a:lnTo>
                    <a:pt x="11" y="280"/>
                  </a:lnTo>
                  <a:lnTo>
                    <a:pt x="13" y="251"/>
                  </a:lnTo>
                  <a:lnTo>
                    <a:pt x="17" y="225"/>
                  </a:lnTo>
                  <a:lnTo>
                    <a:pt x="23" y="198"/>
                  </a:lnTo>
                  <a:lnTo>
                    <a:pt x="32" y="173"/>
                  </a:lnTo>
                  <a:lnTo>
                    <a:pt x="44" y="148"/>
                  </a:lnTo>
                  <a:lnTo>
                    <a:pt x="59" y="125"/>
                  </a:lnTo>
                  <a:lnTo>
                    <a:pt x="75" y="104"/>
                  </a:lnTo>
                  <a:lnTo>
                    <a:pt x="92" y="85"/>
                  </a:lnTo>
                  <a:lnTo>
                    <a:pt x="111" y="65"/>
                  </a:lnTo>
                  <a:lnTo>
                    <a:pt x="132" y="50"/>
                  </a:lnTo>
                  <a:lnTo>
                    <a:pt x="155" y="37"/>
                  </a:lnTo>
                  <a:lnTo>
                    <a:pt x="180" y="25"/>
                  </a:lnTo>
                  <a:lnTo>
                    <a:pt x="205" y="15"/>
                  </a:lnTo>
                  <a:lnTo>
                    <a:pt x="221" y="12"/>
                  </a:lnTo>
                  <a:lnTo>
                    <a:pt x="221" y="10"/>
                  </a:lnTo>
                  <a:lnTo>
                    <a:pt x="222" y="8"/>
                  </a:lnTo>
                  <a:lnTo>
                    <a:pt x="222" y="8"/>
                  </a:lnTo>
                  <a:lnTo>
                    <a:pt x="222" y="6"/>
                  </a:lnTo>
                  <a:lnTo>
                    <a:pt x="222" y="4"/>
                  </a:lnTo>
                  <a:lnTo>
                    <a:pt x="222" y="2"/>
                  </a:lnTo>
                  <a:lnTo>
                    <a:pt x="222" y="2"/>
                  </a:lnTo>
                  <a:lnTo>
                    <a:pt x="222" y="0"/>
                  </a:lnTo>
                  <a:close/>
                </a:path>
              </a:pathLst>
            </a:custGeom>
            <a:solidFill>
              <a:srgbClr val="cae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Freeform 476"/>
            <p:cNvSpPr/>
            <p:nvPr/>
          </p:nvSpPr>
          <p:spPr>
            <a:xfrm>
              <a:off x="6006960" y="2801880"/>
              <a:ext cx="384120" cy="927720"/>
            </a:xfrm>
            <a:custGeom>
              <a:avLst/>
              <a:gdLst>
                <a:gd name="textAreaLeft" fmla="*/ 0 w 384120"/>
                <a:gd name="textAreaRight" fmla="*/ 384480 w 384120"/>
                <a:gd name="textAreaTop" fmla="*/ 0 h 927720"/>
                <a:gd name="textAreaBottom" fmla="*/ 928080 h 927720"/>
              </a:gdLst>
              <a:ahLst/>
              <a:rect l="textAreaLeft" t="textAreaTop" r="textAreaRight" b="textAreaBottom"/>
              <a:pathLst>
                <a:path w="228" h="551">
                  <a:moveTo>
                    <a:pt x="216" y="0"/>
                  </a:moveTo>
                  <a:lnTo>
                    <a:pt x="197" y="4"/>
                  </a:lnTo>
                  <a:lnTo>
                    <a:pt x="172" y="13"/>
                  </a:lnTo>
                  <a:lnTo>
                    <a:pt x="147" y="25"/>
                  </a:lnTo>
                  <a:lnTo>
                    <a:pt x="124" y="40"/>
                  </a:lnTo>
                  <a:lnTo>
                    <a:pt x="103" y="56"/>
                  </a:lnTo>
                  <a:lnTo>
                    <a:pt x="82" y="75"/>
                  </a:lnTo>
                  <a:lnTo>
                    <a:pt x="65" y="94"/>
                  </a:lnTo>
                  <a:lnTo>
                    <a:pt x="48" y="117"/>
                  </a:lnTo>
                  <a:lnTo>
                    <a:pt x="34" y="140"/>
                  </a:lnTo>
                  <a:lnTo>
                    <a:pt x="23" y="165"/>
                  </a:lnTo>
                  <a:lnTo>
                    <a:pt x="13" y="190"/>
                  </a:lnTo>
                  <a:lnTo>
                    <a:pt x="5" y="217"/>
                  </a:lnTo>
                  <a:lnTo>
                    <a:pt x="1" y="245"/>
                  </a:lnTo>
                  <a:lnTo>
                    <a:pt x="0" y="274"/>
                  </a:lnTo>
                  <a:lnTo>
                    <a:pt x="1" y="303"/>
                  </a:lnTo>
                  <a:lnTo>
                    <a:pt x="5" y="330"/>
                  </a:lnTo>
                  <a:lnTo>
                    <a:pt x="13" y="357"/>
                  </a:lnTo>
                  <a:lnTo>
                    <a:pt x="23" y="384"/>
                  </a:lnTo>
                  <a:lnTo>
                    <a:pt x="34" y="409"/>
                  </a:lnTo>
                  <a:lnTo>
                    <a:pt x="48" y="432"/>
                  </a:lnTo>
                  <a:lnTo>
                    <a:pt x="65" y="453"/>
                  </a:lnTo>
                  <a:lnTo>
                    <a:pt x="82" y="474"/>
                  </a:lnTo>
                  <a:lnTo>
                    <a:pt x="103" y="491"/>
                  </a:lnTo>
                  <a:lnTo>
                    <a:pt x="124" y="508"/>
                  </a:lnTo>
                  <a:lnTo>
                    <a:pt x="147" y="522"/>
                  </a:lnTo>
                  <a:lnTo>
                    <a:pt x="172" y="533"/>
                  </a:lnTo>
                  <a:lnTo>
                    <a:pt x="197" y="543"/>
                  </a:lnTo>
                  <a:lnTo>
                    <a:pt x="224" y="551"/>
                  </a:lnTo>
                  <a:lnTo>
                    <a:pt x="228" y="551"/>
                  </a:lnTo>
                  <a:lnTo>
                    <a:pt x="226" y="549"/>
                  </a:lnTo>
                  <a:lnTo>
                    <a:pt x="226" y="547"/>
                  </a:lnTo>
                  <a:lnTo>
                    <a:pt x="226" y="547"/>
                  </a:lnTo>
                  <a:lnTo>
                    <a:pt x="226" y="545"/>
                  </a:lnTo>
                  <a:lnTo>
                    <a:pt x="226" y="543"/>
                  </a:lnTo>
                  <a:lnTo>
                    <a:pt x="226" y="543"/>
                  </a:lnTo>
                  <a:lnTo>
                    <a:pt x="224" y="541"/>
                  </a:lnTo>
                  <a:lnTo>
                    <a:pt x="224" y="539"/>
                  </a:lnTo>
                  <a:lnTo>
                    <a:pt x="201" y="533"/>
                  </a:lnTo>
                  <a:lnTo>
                    <a:pt x="176" y="524"/>
                  </a:lnTo>
                  <a:lnTo>
                    <a:pt x="153" y="512"/>
                  </a:lnTo>
                  <a:lnTo>
                    <a:pt x="130" y="499"/>
                  </a:lnTo>
                  <a:lnTo>
                    <a:pt x="109" y="483"/>
                  </a:lnTo>
                  <a:lnTo>
                    <a:pt x="90" y="466"/>
                  </a:lnTo>
                  <a:lnTo>
                    <a:pt x="72" y="447"/>
                  </a:lnTo>
                  <a:lnTo>
                    <a:pt x="57" y="426"/>
                  </a:lnTo>
                  <a:lnTo>
                    <a:pt x="44" y="403"/>
                  </a:lnTo>
                  <a:lnTo>
                    <a:pt x="32" y="380"/>
                  </a:lnTo>
                  <a:lnTo>
                    <a:pt x="23" y="355"/>
                  </a:lnTo>
                  <a:lnTo>
                    <a:pt x="17" y="328"/>
                  </a:lnTo>
                  <a:lnTo>
                    <a:pt x="11" y="301"/>
                  </a:lnTo>
                  <a:lnTo>
                    <a:pt x="11" y="274"/>
                  </a:lnTo>
                  <a:lnTo>
                    <a:pt x="11" y="245"/>
                  </a:lnTo>
                  <a:lnTo>
                    <a:pt x="17" y="219"/>
                  </a:lnTo>
                  <a:lnTo>
                    <a:pt x="23" y="194"/>
                  </a:lnTo>
                  <a:lnTo>
                    <a:pt x="32" y="169"/>
                  </a:lnTo>
                  <a:lnTo>
                    <a:pt x="44" y="144"/>
                  </a:lnTo>
                  <a:lnTo>
                    <a:pt x="57" y="123"/>
                  </a:lnTo>
                  <a:lnTo>
                    <a:pt x="72" y="102"/>
                  </a:lnTo>
                  <a:lnTo>
                    <a:pt x="90" y="82"/>
                  </a:lnTo>
                  <a:lnTo>
                    <a:pt x="109" y="65"/>
                  </a:lnTo>
                  <a:lnTo>
                    <a:pt x="130" y="48"/>
                  </a:lnTo>
                  <a:lnTo>
                    <a:pt x="153" y="34"/>
                  </a:lnTo>
                  <a:lnTo>
                    <a:pt x="176" y="23"/>
                  </a:lnTo>
                  <a:lnTo>
                    <a:pt x="201" y="15"/>
                  </a:lnTo>
                  <a:lnTo>
                    <a:pt x="215" y="11"/>
                  </a:lnTo>
                  <a:lnTo>
                    <a:pt x="215" y="9"/>
                  </a:lnTo>
                  <a:lnTo>
                    <a:pt x="215" y="8"/>
                  </a:lnTo>
                  <a:lnTo>
                    <a:pt x="215" y="8"/>
                  </a:lnTo>
                  <a:lnTo>
                    <a:pt x="215" y="6"/>
                  </a:lnTo>
                  <a:lnTo>
                    <a:pt x="215" y="4"/>
                  </a:lnTo>
                  <a:lnTo>
                    <a:pt x="216" y="2"/>
                  </a:lnTo>
                  <a:lnTo>
                    <a:pt x="216" y="2"/>
                  </a:lnTo>
                  <a:lnTo>
                    <a:pt x="216" y="0"/>
                  </a:lnTo>
                  <a:close/>
                </a:path>
              </a:pathLst>
            </a:custGeom>
            <a:solidFill>
              <a:srgbClr val="cbe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Freeform 477"/>
            <p:cNvSpPr/>
            <p:nvPr/>
          </p:nvSpPr>
          <p:spPr>
            <a:xfrm>
              <a:off x="6015240" y="2811960"/>
              <a:ext cx="372240" cy="907560"/>
            </a:xfrm>
            <a:custGeom>
              <a:avLst/>
              <a:gdLst>
                <a:gd name="textAreaLeft" fmla="*/ 0 w 372240"/>
                <a:gd name="textAreaRight" fmla="*/ 372600 w 372240"/>
                <a:gd name="textAreaTop" fmla="*/ 0 h 907560"/>
                <a:gd name="textAreaBottom" fmla="*/ 907920 h 907560"/>
              </a:gdLst>
              <a:ahLst/>
              <a:rect l="textAreaLeft" t="textAreaTop" r="textAreaRight" b="textAreaBottom"/>
              <a:pathLst>
                <a:path w="221" h="539">
                  <a:moveTo>
                    <a:pt x="210" y="0"/>
                  </a:moveTo>
                  <a:lnTo>
                    <a:pt x="194" y="3"/>
                  </a:lnTo>
                  <a:lnTo>
                    <a:pt x="169" y="13"/>
                  </a:lnTo>
                  <a:lnTo>
                    <a:pt x="144" y="25"/>
                  </a:lnTo>
                  <a:lnTo>
                    <a:pt x="121" y="38"/>
                  </a:lnTo>
                  <a:lnTo>
                    <a:pt x="100" y="53"/>
                  </a:lnTo>
                  <a:lnTo>
                    <a:pt x="81" y="73"/>
                  </a:lnTo>
                  <a:lnTo>
                    <a:pt x="64" y="92"/>
                  </a:lnTo>
                  <a:lnTo>
                    <a:pt x="48" y="113"/>
                  </a:lnTo>
                  <a:lnTo>
                    <a:pt x="33" y="136"/>
                  </a:lnTo>
                  <a:lnTo>
                    <a:pt x="21" y="161"/>
                  </a:lnTo>
                  <a:lnTo>
                    <a:pt x="12" y="186"/>
                  </a:lnTo>
                  <a:lnTo>
                    <a:pt x="6" y="213"/>
                  </a:lnTo>
                  <a:lnTo>
                    <a:pt x="2" y="239"/>
                  </a:lnTo>
                  <a:lnTo>
                    <a:pt x="0" y="268"/>
                  </a:lnTo>
                  <a:lnTo>
                    <a:pt x="2" y="297"/>
                  </a:lnTo>
                  <a:lnTo>
                    <a:pt x="6" y="324"/>
                  </a:lnTo>
                  <a:lnTo>
                    <a:pt x="12" y="351"/>
                  </a:lnTo>
                  <a:lnTo>
                    <a:pt x="21" y="376"/>
                  </a:lnTo>
                  <a:lnTo>
                    <a:pt x="33" y="401"/>
                  </a:lnTo>
                  <a:lnTo>
                    <a:pt x="48" y="422"/>
                  </a:lnTo>
                  <a:lnTo>
                    <a:pt x="64" y="445"/>
                  </a:lnTo>
                  <a:lnTo>
                    <a:pt x="81" y="464"/>
                  </a:lnTo>
                  <a:lnTo>
                    <a:pt x="100" y="481"/>
                  </a:lnTo>
                  <a:lnTo>
                    <a:pt x="121" y="497"/>
                  </a:lnTo>
                  <a:lnTo>
                    <a:pt x="144" y="512"/>
                  </a:lnTo>
                  <a:lnTo>
                    <a:pt x="169" y="523"/>
                  </a:lnTo>
                  <a:lnTo>
                    <a:pt x="194" y="533"/>
                  </a:lnTo>
                  <a:lnTo>
                    <a:pt x="221" y="539"/>
                  </a:lnTo>
                  <a:lnTo>
                    <a:pt x="221" y="537"/>
                  </a:lnTo>
                  <a:lnTo>
                    <a:pt x="221" y="537"/>
                  </a:lnTo>
                  <a:lnTo>
                    <a:pt x="221" y="535"/>
                  </a:lnTo>
                  <a:lnTo>
                    <a:pt x="219" y="533"/>
                  </a:lnTo>
                  <a:lnTo>
                    <a:pt x="219" y="531"/>
                  </a:lnTo>
                  <a:lnTo>
                    <a:pt x="219" y="531"/>
                  </a:lnTo>
                  <a:lnTo>
                    <a:pt x="219" y="529"/>
                  </a:lnTo>
                  <a:lnTo>
                    <a:pt x="219" y="527"/>
                  </a:lnTo>
                  <a:lnTo>
                    <a:pt x="198" y="522"/>
                  </a:lnTo>
                  <a:lnTo>
                    <a:pt x="173" y="514"/>
                  </a:lnTo>
                  <a:lnTo>
                    <a:pt x="150" y="502"/>
                  </a:lnTo>
                  <a:lnTo>
                    <a:pt x="129" y="489"/>
                  </a:lnTo>
                  <a:lnTo>
                    <a:pt x="108" y="474"/>
                  </a:lnTo>
                  <a:lnTo>
                    <a:pt x="89" y="456"/>
                  </a:lnTo>
                  <a:lnTo>
                    <a:pt x="71" y="437"/>
                  </a:lnTo>
                  <a:lnTo>
                    <a:pt x="56" y="416"/>
                  </a:lnTo>
                  <a:lnTo>
                    <a:pt x="43" y="395"/>
                  </a:lnTo>
                  <a:lnTo>
                    <a:pt x="31" y="372"/>
                  </a:lnTo>
                  <a:lnTo>
                    <a:pt x="23" y="347"/>
                  </a:lnTo>
                  <a:lnTo>
                    <a:pt x="16" y="322"/>
                  </a:lnTo>
                  <a:lnTo>
                    <a:pt x="12" y="295"/>
                  </a:lnTo>
                  <a:lnTo>
                    <a:pt x="10" y="268"/>
                  </a:lnTo>
                  <a:lnTo>
                    <a:pt x="12" y="241"/>
                  </a:lnTo>
                  <a:lnTo>
                    <a:pt x="16" y="215"/>
                  </a:lnTo>
                  <a:lnTo>
                    <a:pt x="23" y="190"/>
                  </a:lnTo>
                  <a:lnTo>
                    <a:pt x="31" y="165"/>
                  </a:lnTo>
                  <a:lnTo>
                    <a:pt x="43" y="142"/>
                  </a:lnTo>
                  <a:lnTo>
                    <a:pt x="56" y="119"/>
                  </a:lnTo>
                  <a:lnTo>
                    <a:pt x="71" y="99"/>
                  </a:lnTo>
                  <a:lnTo>
                    <a:pt x="89" y="80"/>
                  </a:lnTo>
                  <a:lnTo>
                    <a:pt x="108" y="63"/>
                  </a:lnTo>
                  <a:lnTo>
                    <a:pt x="129" y="48"/>
                  </a:lnTo>
                  <a:lnTo>
                    <a:pt x="150" y="34"/>
                  </a:lnTo>
                  <a:lnTo>
                    <a:pt x="173" y="23"/>
                  </a:lnTo>
                  <a:lnTo>
                    <a:pt x="198" y="13"/>
                  </a:lnTo>
                  <a:lnTo>
                    <a:pt x="208" y="11"/>
                  </a:lnTo>
                  <a:lnTo>
                    <a:pt x="208" y="9"/>
                  </a:lnTo>
                  <a:lnTo>
                    <a:pt x="208" y="7"/>
                  </a:lnTo>
                  <a:lnTo>
                    <a:pt x="210" y="7"/>
                  </a:lnTo>
                  <a:lnTo>
                    <a:pt x="210" y="5"/>
                  </a:lnTo>
                  <a:lnTo>
                    <a:pt x="210" y="3"/>
                  </a:lnTo>
                  <a:lnTo>
                    <a:pt x="210" y="2"/>
                  </a:lnTo>
                  <a:lnTo>
                    <a:pt x="210" y="2"/>
                  </a:lnTo>
                  <a:lnTo>
                    <a:pt x="210" y="0"/>
                  </a:lnTo>
                  <a:close/>
                </a:path>
              </a:pathLst>
            </a:custGeom>
            <a:solidFill>
              <a:srgbClr val="cce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Freeform 478"/>
            <p:cNvSpPr/>
            <p:nvPr/>
          </p:nvSpPr>
          <p:spPr>
            <a:xfrm>
              <a:off x="6025680" y="2820240"/>
              <a:ext cx="358560" cy="88920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889200"/>
                <a:gd name="textAreaBottom" fmla="*/ 889560 h 889200"/>
              </a:gdLst>
              <a:ahLst/>
              <a:rect l="textAreaLeft" t="textAreaTop" r="textAreaRight" b="textAreaBottom"/>
              <a:pathLst>
                <a:path w="213" h="528">
                  <a:moveTo>
                    <a:pt x="204" y="0"/>
                  </a:moveTo>
                  <a:lnTo>
                    <a:pt x="190" y="4"/>
                  </a:lnTo>
                  <a:lnTo>
                    <a:pt x="165" y="12"/>
                  </a:lnTo>
                  <a:lnTo>
                    <a:pt x="142" y="23"/>
                  </a:lnTo>
                  <a:lnTo>
                    <a:pt x="119" y="37"/>
                  </a:lnTo>
                  <a:lnTo>
                    <a:pt x="98" y="54"/>
                  </a:lnTo>
                  <a:lnTo>
                    <a:pt x="79" y="71"/>
                  </a:lnTo>
                  <a:lnTo>
                    <a:pt x="61" y="91"/>
                  </a:lnTo>
                  <a:lnTo>
                    <a:pt x="46" y="112"/>
                  </a:lnTo>
                  <a:lnTo>
                    <a:pt x="33" y="133"/>
                  </a:lnTo>
                  <a:lnTo>
                    <a:pt x="21" y="158"/>
                  </a:lnTo>
                  <a:lnTo>
                    <a:pt x="12" y="183"/>
                  </a:lnTo>
                  <a:lnTo>
                    <a:pt x="6" y="208"/>
                  </a:lnTo>
                  <a:lnTo>
                    <a:pt x="0" y="234"/>
                  </a:lnTo>
                  <a:lnTo>
                    <a:pt x="0" y="263"/>
                  </a:lnTo>
                  <a:lnTo>
                    <a:pt x="0" y="290"/>
                  </a:lnTo>
                  <a:lnTo>
                    <a:pt x="6" y="317"/>
                  </a:lnTo>
                  <a:lnTo>
                    <a:pt x="12" y="344"/>
                  </a:lnTo>
                  <a:lnTo>
                    <a:pt x="21" y="369"/>
                  </a:lnTo>
                  <a:lnTo>
                    <a:pt x="33" y="392"/>
                  </a:lnTo>
                  <a:lnTo>
                    <a:pt x="46" y="415"/>
                  </a:lnTo>
                  <a:lnTo>
                    <a:pt x="61" y="436"/>
                  </a:lnTo>
                  <a:lnTo>
                    <a:pt x="79" y="455"/>
                  </a:lnTo>
                  <a:lnTo>
                    <a:pt x="98" y="472"/>
                  </a:lnTo>
                  <a:lnTo>
                    <a:pt x="119" y="488"/>
                  </a:lnTo>
                  <a:lnTo>
                    <a:pt x="142" y="501"/>
                  </a:lnTo>
                  <a:lnTo>
                    <a:pt x="165" y="513"/>
                  </a:lnTo>
                  <a:lnTo>
                    <a:pt x="190" y="522"/>
                  </a:lnTo>
                  <a:lnTo>
                    <a:pt x="213" y="528"/>
                  </a:lnTo>
                  <a:lnTo>
                    <a:pt x="213" y="526"/>
                  </a:lnTo>
                  <a:lnTo>
                    <a:pt x="213" y="526"/>
                  </a:lnTo>
                  <a:lnTo>
                    <a:pt x="213" y="524"/>
                  </a:lnTo>
                  <a:lnTo>
                    <a:pt x="213" y="522"/>
                  </a:lnTo>
                  <a:lnTo>
                    <a:pt x="213" y="520"/>
                  </a:lnTo>
                  <a:lnTo>
                    <a:pt x="211" y="520"/>
                  </a:lnTo>
                  <a:lnTo>
                    <a:pt x="211" y="518"/>
                  </a:lnTo>
                  <a:lnTo>
                    <a:pt x="211" y="517"/>
                  </a:lnTo>
                  <a:lnTo>
                    <a:pt x="194" y="513"/>
                  </a:lnTo>
                  <a:lnTo>
                    <a:pt x="169" y="503"/>
                  </a:lnTo>
                  <a:lnTo>
                    <a:pt x="146" y="492"/>
                  </a:lnTo>
                  <a:lnTo>
                    <a:pt x="125" y="478"/>
                  </a:lnTo>
                  <a:lnTo>
                    <a:pt x="106" y="465"/>
                  </a:lnTo>
                  <a:lnTo>
                    <a:pt x="86" y="447"/>
                  </a:lnTo>
                  <a:lnTo>
                    <a:pt x="69" y="428"/>
                  </a:lnTo>
                  <a:lnTo>
                    <a:pt x="54" y="409"/>
                  </a:lnTo>
                  <a:lnTo>
                    <a:pt x="42" y="388"/>
                  </a:lnTo>
                  <a:lnTo>
                    <a:pt x="31" y="365"/>
                  </a:lnTo>
                  <a:lnTo>
                    <a:pt x="21" y="340"/>
                  </a:lnTo>
                  <a:lnTo>
                    <a:pt x="15" y="315"/>
                  </a:lnTo>
                  <a:lnTo>
                    <a:pt x="12" y="290"/>
                  </a:lnTo>
                  <a:lnTo>
                    <a:pt x="10" y="263"/>
                  </a:lnTo>
                  <a:lnTo>
                    <a:pt x="12" y="236"/>
                  </a:lnTo>
                  <a:lnTo>
                    <a:pt x="15" y="210"/>
                  </a:lnTo>
                  <a:lnTo>
                    <a:pt x="21" y="185"/>
                  </a:lnTo>
                  <a:lnTo>
                    <a:pt x="31" y="162"/>
                  </a:lnTo>
                  <a:lnTo>
                    <a:pt x="42" y="139"/>
                  </a:lnTo>
                  <a:lnTo>
                    <a:pt x="54" y="117"/>
                  </a:lnTo>
                  <a:lnTo>
                    <a:pt x="69" y="96"/>
                  </a:lnTo>
                  <a:lnTo>
                    <a:pt x="86" y="79"/>
                  </a:lnTo>
                  <a:lnTo>
                    <a:pt x="106" y="62"/>
                  </a:lnTo>
                  <a:lnTo>
                    <a:pt x="125" y="46"/>
                  </a:lnTo>
                  <a:lnTo>
                    <a:pt x="146" y="33"/>
                  </a:lnTo>
                  <a:lnTo>
                    <a:pt x="169" y="23"/>
                  </a:lnTo>
                  <a:lnTo>
                    <a:pt x="194" y="14"/>
                  </a:lnTo>
                  <a:lnTo>
                    <a:pt x="202" y="12"/>
                  </a:lnTo>
                  <a:lnTo>
                    <a:pt x="202" y="10"/>
                  </a:lnTo>
                  <a:lnTo>
                    <a:pt x="202" y="8"/>
                  </a:lnTo>
                  <a:lnTo>
                    <a:pt x="202" y="8"/>
                  </a:lnTo>
                  <a:lnTo>
                    <a:pt x="202" y="6"/>
                  </a:lnTo>
                  <a:lnTo>
                    <a:pt x="202" y="4"/>
                  </a:lnTo>
                  <a:lnTo>
                    <a:pt x="202" y="2"/>
                  </a:lnTo>
                  <a:lnTo>
                    <a:pt x="204" y="2"/>
                  </a:lnTo>
                  <a:lnTo>
                    <a:pt x="204" y="0"/>
                  </a:lnTo>
                  <a:close/>
                </a:path>
              </a:pathLst>
            </a:custGeom>
            <a:solidFill>
              <a:srgbClr val="cde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Freeform 479"/>
            <p:cNvSpPr/>
            <p:nvPr/>
          </p:nvSpPr>
          <p:spPr>
            <a:xfrm>
              <a:off x="6032160" y="2830680"/>
              <a:ext cx="352080" cy="868680"/>
            </a:xfrm>
            <a:custGeom>
              <a:avLst/>
              <a:gdLst>
                <a:gd name="textAreaLeft" fmla="*/ 0 w 352080"/>
                <a:gd name="textAreaRight" fmla="*/ 352440 w 352080"/>
                <a:gd name="textAreaTop" fmla="*/ 0 h 868680"/>
                <a:gd name="textAreaBottom" fmla="*/ 869040 h 868680"/>
              </a:gdLst>
              <a:ahLst/>
              <a:rect l="textAreaLeft" t="textAreaTop" r="textAreaRight" b="textAreaBottom"/>
              <a:pathLst>
                <a:path w="209" h="516">
                  <a:moveTo>
                    <a:pt x="198" y="0"/>
                  </a:moveTo>
                  <a:lnTo>
                    <a:pt x="188" y="2"/>
                  </a:lnTo>
                  <a:lnTo>
                    <a:pt x="163" y="12"/>
                  </a:lnTo>
                  <a:lnTo>
                    <a:pt x="140" y="23"/>
                  </a:lnTo>
                  <a:lnTo>
                    <a:pt x="119" y="37"/>
                  </a:lnTo>
                  <a:lnTo>
                    <a:pt x="98" y="52"/>
                  </a:lnTo>
                  <a:lnTo>
                    <a:pt x="79" y="69"/>
                  </a:lnTo>
                  <a:lnTo>
                    <a:pt x="61" y="88"/>
                  </a:lnTo>
                  <a:lnTo>
                    <a:pt x="46" y="108"/>
                  </a:lnTo>
                  <a:lnTo>
                    <a:pt x="33" y="131"/>
                  </a:lnTo>
                  <a:lnTo>
                    <a:pt x="21" y="154"/>
                  </a:lnTo>
                  <a:lnTo>
                    <a:pt x="13" y="179"/>
                  </a:lnTo>
                  <a:lnTo>
                    <a:pt x="6" y="204"/>
                  </a:lnTo>
                  <a:lnTo>
                    <a:pt x="2" y="230"/>
                  </a:lnTo>
                  <a:lnTo>
                    <a:pt x="0" y="257"/>
                  </a:lnTo>
                  <a:lnTo>
                    <a:pt x="2" y="284"/>
                  </a:lnTo>
                  <a:lnTo>
                    <a:pt x="6" y="311"/>
                  </a:lnTo>
                  <a:lnTo>
                    <a:pt x="13" y="336"/>
                  </a:lnTo>
                  <a:lnTo>
                    <a:pt x="21" y="361"/>
                  </a:lnTo>
                  <a:lnTo>
                    <a:pt x="33" y="384"/>
                  </a:lnTo>
                  <a:lnTo>
                    <a:pt x="46" y="405"/>
                  </a:lnTo>
                  <a:lnTo>
                    <a:pt x="61" y="426"/>
                  </a:lnTo>
                  <a:lnTo>
                    <a:pt x="79" y="445"/>
                  </a:lnTo>
                  <a:lnTo>
                    <a:pt x="98" y="463"/>
                  </a:lnTo>
                  <a:lnTo>
                    <a:pt x="119" y="478"/>
                  </a:lnTo>
                  <a:lnTo>
                    <a:pt x="140" y="491"/>
                  </a:lnTo>
                  <a:lnTo>
                    <a:pt x="163" y="503"/>
                  </a:lnTo>
                  <a:lnTo>
                    <a:pt x="188" y="511"/>
                  </a:lnTo>
                  <a:lnTo>
                    <a:pt x="209" y="516"/>
                  </a:lnTo>
                  <a:lnTo>
                    <a:pt x="209" y="514"/>
                  </a:lnTo>
                  <a:lnTo>
                    <a:pt x="207" y="514"/>
                  </a:lnTo>
                  <a:lnTo>
                    <a:pt x="207" y="512"/>
                  </a:lnTo>
                  <a:lnTo>
                    <a:pt x="207" y="511"/>
                  </a:lnTo>
                  <a:lnTo>
                    <a:pt x="207" y="509"/>
                  </a:lnTo>
                  <a:lnTo>
                    <a:pt x="207" y="507"/>
                  </a:lnTo>
                  <a:lnTo>
                    <a:pt x="207" y="507"/>
                  </a:lnTo>
                  <a:lnTo>
                    <a:pt x="205" y="505"/>
                  </a:lnTo>
                  <a:lnTo>
                    <a:pt x="190" y="501"/>
                  </a:lnTo>
                  <a:lnTo>
                    <a:pt x="167" y="491"/>
                  </a:lnTo>
                  <a:lnTo>
                    <a:pt x="146" y="482"/>
                  </a:lnTo>
                  <a:lnTo>
                    <a:pt x="125" y="468"/>
                  </a:lnTo>
                  <a:lnTo>
                    <a:pt x="104" y="455"/>
                  </a:lnTo>
                  <a:lnTo>
                    <a:pt x="86" y="438"/>
                  </a:lnTo>
                  <a:lnTo>
                    <a:pt x="69" y="418"/>
                  </a:lnTo>
                  <a:lnTo>
                    <a:pt x="56" y="399"/>
                  </a:lnTo>
                  <a:lnTo>
                    <a:pt x="42" y="378"/>
                  </a:lnTo>
                  <a:lnTo>
                    <a:pt x="31" y="357"/>
                  </a:lnTo>
                  <a:lnTo>
                    <a:pt x="23" y="332"/>
                  </a:lnTo>
                  <a:lnTo>
                    <a:pt x="17" y="309"/>
                  </a:lnTo>
                  <a:lnTo>
                    <a:pt x="13" y="282"/>
                  </a:lnTo>
                  <a:lnTo>
                    <a:pt x="11" y="257"/>
                  </a:lnTo>
                  <a:lnTo>
                    <a:pt x="13" y="230"/>
                  </a:lnTo>
                  <a:lnTo>
                    <a:pt x="17" y="205"/>
                  </a:lnTo>
                  <a:lnTo>
                    <a:pt x="23" y="180"/>
                  </a:lnTo>
                  <a:lnTo>
                    <a:pt x="31" y="157"/>
                  </a:lnTo>
                  <a:lnTo>
                    <a:pt x="42" y="134"/>
                  </a:lnTo>
                  <a:lnTo>
                    <a:pt x="56" y="113"/>
                  </a:lnTo>
                  <a:lnTo>
                    <a:pt x="69" y="94"/>
                  </a:lnTo>
                  <a:lnTo>
                    <a:pt x="86" y="77"/>
                  </a:lnTo>
                  <a:lnTo>
                    <a:pt x="104" y="60"/>
                  </a:lnTo>
                  <a:lnTo>
                    <a:pt x="125" y="44"/>
                  </a:lnTo>
                  <a:lnTo>
                    <a:pt x="146" y="33"/>
                  </a:lnTo>
                  <a:lnTo>
                    <a:pt x="167" y="21"/>
                  </a:lnTo>
                  <a:lnTo>
                    <a:pt x="190" y="14"/>
                  </a:lnTo>
                  <a:lnTo>
                    <a:pt x="196" y="12"/>
                  </a:lnTo>
                  <a:lnTo>
                    <a:pt x="196" y="10"/>
                  </a:lnTo>
                  <a:lnTo>
                    <a:pt x="196" y="8"/>
                  </a:lnTo>
                  <a:lnTo>
                    <a:pt x="198" y="8"/>
                  </a:lnTo>
                  <a:lnTo>
                    <a:pt x="198" y="6"/>
                  </a:lnTo>
                  <a:lnTo>
                    <a:pt x="198" y="4"/>
                  </a:lnTo>
                  <a:lnTo>
                    <a:pt x="198" y="2"/>
                  </a:lnTo>
                  <a:lnTo>
                    <a:pt x="198" y="2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cee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Freeform 480"/>
            <p:cNvSpPr/>
            <p:nvPr/>
          </p:nvSpPr>
          <p:spPr>
            <a:xfrm>
              <a:off x="6042600" y="2840400"/>
              <a:ext cx="338040" cy="850320"/>
            </a:xfrm>
            <a:custGeom>
              <a:avLst/>
              <a:gdLst>
                <a:gd name="textAreaLeft" fmla="*/ 0 w 338040"/>
                <a:gd name="textAreaRight" fmla="*/ 338040 w 338040"/>
                <a:gd name="textAreaTop" fmla="*/ 0 h 850320"/>
                <a:gd name="textAreaBottom" fmla="*/ 850680 h 850320"/>
              </a:gdLst>
              <a:ahLst/>
              <a:rect l="textAreaLeft" t="textAreaTop" r="textAreaRight" b="textAreaBottom"/>
              <a:pathLst>
                <a:path w="201" h="505">
                  <a:moveTo>
                    <a:pt x="192" y="0"/>
                  </a:moveTo>
                  <a:lnTo>
                    <a:pt x="184" y="2"/>
                  </a:lnTo>
                  <a:lnTo>
                    <a:pt x="159" y="11"/>
                  </a:lnTo>
                  <a:lnTo>
                    <a:pt x="136" y="21"/>
                  </a:lnTo>
                  <a:lnTo>
                    <a:pt x="115" y="34"/>
                  </a:lnTo>
                  <a:lnTo>
                    <a:pt x="96" y="50"/>
                  </a:lnTo>
                  <a:lnTo>
                    <a:pt x="76" y="67"/>
                  </a:lnTo>
                  <a:lnTo>
                    <a:pt x="59" y="84"/>
                  </a:lnTo>
                  <a:lnTo>
                    <a:pt x="44" y="105"/>
                  </a:lnTo>
                  <a:lnTo>
                    <a:pt x="32" y="127"/>
                  </a:lnTo>
                  <a:lnTo>
                    <a:pt x="21" y="150"/>
                  </a:lnTo>
                  <a:lnTo>
                    <a:pt x="11" y="173"/>
                  </a:lnTo>
                  <a:lnTo>
                    <a:pt x="5" y="198"/>
                  </a:lnTo>
                  <a:lnTo>
                    <a:pt x="2" y="224"/>
                  </a:lnTo>
                  <a:lnTo>
                    <a:pt x="0" y="251"/>
                  </a:lnTo>
                  <a:lnTo>
                    <a:pt x="2" y="278"/>
                  </a:lnTo>
                  <a:lnTo>
                    <a:pt x="5" y="303"/>
                  </a:lnTo>
                  <a:lnTo>
                    <a:pt x="11" y="328"/>
                  </a:lnTo>
                  <a:lnTo>
                    <a:pt x="21" y="353"/>
                  </a:lnTo>
                  <a:lnTo>
                    <a:pt x="32" y="376"/>
                  </a:lnTo>
                  <a:lnTo>
                    <a:pt x="44" y="397"/>
                  </a:lnTo>
                  <a:lnTo>
                    <a:pt x="59" y="416"/>
                  </a:lnTo>
                  <a:lnTo>
                    <a:pt x="76" y="435"/>
                  </a:lnTo>
                  <a:lnTo>
                    <a:pt x="96" y="453"/>
                  </a:lnTo>
                  <a:lnTo>
                    <a:pt x="115" y="466"/>
                  </a:lnTo>
                  <a:lnTo>
                    <a:pt x="136" y="480"/>
                  </a:lnTo>
                  <a:lnTo>
                    <a:pt x="159" y="491"/>
                  </a:lnTo>
                  <a:lnTo>
                    <a:pt x="184" y="501"/>
                  </a:lnTo>
                  <a:lnTo>
                    <a:pt x="201" y="505"/>
                  </a:lnTo>
                  <a:lnTo>
                    <a:pt x="201" y="503"/>
                  </a:lnTo>
                  <a:lnTo>
                    <a:pt x="201" y="501"/>
                  </a:lnTo>
                  <a:lnTo>
                    <a:pt x="201" y="501"/>
                  </a:lnTo>
                  <a:lnTo>
                    <a:pt x="199" y="499"/>
                  </a:lnTo>
                  <a:lnTo>
                    <a:pt x="199" y="497"/>
                  </a:lnTo>
                  <a:lnTo>
                    <a:pt x="199" y="495"/>
                  </a:lnTo>
                  <a:lnTo>
                    <a:pt x="199" y="495"/>
                  </a:lnTo>
                  <a:lnTo>
                    <a:pt x="199" y="493"/>
                  </a:lnTo>
                  <a:lnTo>
                    <a:pt x="186" y="489"/>
                  </a:lnTo>
                  <a:lnTo>
                    <a:pt x="163" y="481"/>
                  </a:lnTo>
                  <a:lnTo>
                    <a:pt x="142" y="470"/>
                  </a:lnTo>
                  <a:lnTo>
                    <a:pt x="121" y="458"/>
                  </a:lnTo>
                  <a:lnTo>
                    <a:pt x="101" y="443"/>
                  </a:lnTo>
                  <a:lnTo>
                    <a:pt x="84" y="428"/>
                  </a:lnTo>
                  <a:lnTo>
                    <a:pt x="69" y="410"/>
                  </a:lnTo>
                  <a:lnTo>
                    <a:pt x="53" y="391"/>
                  </a:lnTo>
                  <a:lnTo>
                    <a:pt x="40" y="370"/>
                  </a:lnTo>
                  <a:lnTo>
                    <a:pt x="30" y="349"/>
                  </a:lnTo>
                  <a:lnTo>
                    <a:pt x="23" y="326"/>
                  </a:lnTo>
                  <a:lnTo>
                    <a:pt x="15" y="301"/>
                  </a:lnTo>
                  <a:lnTo>
                    <a:pt x="11" y="276"/>
                  </a:lnTo>
                  <a:lnTo>
                    <a:pt x="11" y="251"/>
                  </a:lnTo>
                  <a:lnTo>
                    <a:pt x="11" y="224"/>
                  </a:lnTo>
                  <a:lnTo>
                    <a:pt x="15" y="199"/>
                  </a:lnTo>
                  <a:lnTo>
                    <a:pt x="23" y="176"/>
                  </a:lnTo>
                  <a:lnTo>
                    <a:pt x="30" y="153"/>
                  </a:lnTo>
                  <a:lnTo>
                    <a:pt x="40" y="132"/>
                  </a:lnTo>
                  <a:lnTo>
                    <a:pt x="53" y="111"/>
                  </a:lnTo>
                  <a:lnTo>
                    <a:pt x="69" y="92"/>
                  </a:lnTo>
                  <a:lnTo>
                    <a:pt x="84" y="75"/>
                  </a:lnTo>
                  <a:lnTo>
                    <a:pt x="101" y="57"/>
                  </a:lnTo>
                  <a:lnTo>
                    <a:pt x="121" y="44"/>
                  </a:lnTo>
                  <a:lnTo>
                    <a:pt x="142" y="31"/>
                  </a:lnTo>
                  <a:lnTo>
                    <a:pt x="163" y="21"/>
                  </a:lnTo>
                  <a:lnTo>
                    <a:pt x="186" y="11"/>
                  </a:lnTo>
                  <a:lnTo>
                    <a:pt x="190" y="11"/>
                  </a:lnTo>
                  <a:lnTo>
                    <a:pt x="190" y="9"/>
                  </a:lnTo>
                  <a:lnTo>
                    <a:pt x="190" y="8"/>
                  </a:lnTo>
                  <a:lnTo>
                    <a:pt x="190" y="8"/>
                  </a:lnTo>
                  <a:lnTo>
                    <a:pt x="190" y="6"/>
                  </a:lnTo>
                  <a:lnTo>
                    <a:pt x="190" y="4"/>
                  </a:lnTo>
                  <a:lnTo>
                    <a:pt x="190" y="2"/>
                  </a:lnTo>
                  <a:lnTo>
                    <a:pt x="192" y="2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cfe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Freeform 481"/>
            <p:cNvSpPr/>
            <p:nvPr/>
          </p:nvSpPr>
          <p:spPr>
            <a:xfrm>
              <a:off x="6050880" y="2850840"/>
              <a:ext cx="326520" cy="830160"/>
            </a:xfrm>
            <a:custGeom>
              <a:avLst/>
              <a:gdLst>
                <a:gd name="textAreaLeft" fmla="*/ 0 w 326520"/>
                <a:gd name="textAreaRight" fmla="*/ 326880 w 326520"/>
                <a:gd name="textAreaTop" fmla="*/ 0 h 830160"/>
                <a:gd name="textAreaBottom" fmla="*/ 830520 h 830160"/>
              </a:gdLst>
              <a:ahLst/>
              <a:rect l="textAreaLeft" t="textAreaTop" r="textAreaRight" b="textAreaBottom"/>
              <a:pathLst>
                <a:path w="194" h="493">
                  <a:moveTo>
                    <a:pt x="185" y="0"/>
                  </a:moveTo>
                  <a:lnTo>
                    <a:pt x="179" y="2"/>
                  </a:lnTo>
                  <a:lnTo>
                    <a:pt x="156" y="9"/>
                  </a:lnTo>
                  <a:lnTo>
                    <a:pt x="135" y="21"/>
                  </a:lnTo>
                  <a:lnTo>
                    <a:pt x="114" y="32"/>
                  </a:lnTo>
                  <a:lnTo>
                    <a:pt x="93" y="48"/>
                  </a:lnTo>
                  <a:lnTo>
                    <a:pt x="75" y="65"/>
                  </a:lnTo>
                  <a:lnTo>
                    <a:pt x="58" y="82"/>
                  </a:lnTo>
                  <a:lnTo>
                    <a:pt x="45" y="101"/>
                  </a:lnTo>
                  <a:lnTo>
                    <a:pt x="31" y="122"/>
                  </a:lnTo>
                  <a:lnTo>
                    <a:pt x="20" y="145"/>
                  </a:lnTo>
                  <a:lnTo>
                    <a:pt x="12" y="168"/>
                  </a:lnTo>
                  <a:lnTo>
                    <a:pt x="6" y="193"/>
                  </a:lnTo>
                  <a:lnTo>
                    <a:pt x="2" y="218"/>
                  </a:lnTo>
                  <a:lnTo>
                    <a:pt x="0" y="245"/>
                  </a:lnTo>
                  <a:lnTo>
                    <a:pt x="2" y="270"/>
                  </a:lnTo>
                  <a:lnTo>
                    <a:pt x="6" y="297"/>
                  </a:lnTo>
                  <a:lnTo>
                    <a:pt x="12" y="320"/>
                  </a:lnTo>
                  <a:lnTo>
                    <a:pt x="20" y="345"/>
                  </a:lnTo>
                  <a:lnTo>
                    <a:pt x="31" y="366"/>
                  </a:lnTo>
                  <a:lnTo>
                    <a:pt x="45" y="387"/>
                  </a:lnTo>
                  <a:lnTo>
                    <a:pt x="58" y="406"/>
                  </a:lnTo>
                  <a:lnTo>
                    <a:pt x="75" y="426"/>
                  </a:lnTo>
                  <a:lnTo>
                    <a:pt x="93" y="443"/>
                  </a:lnTo>
                  <a:lnTo>
                    <a:pt x="114" y="456"/>
                  </a:lnTo>
                  <a:lnTo>
                    <a:pt x="135" y="470"/>
                  </a:lnTo>
                  <a:lnTo>
                    <a:pt x="156" y="479"/>
                  </a:lnTo>
                  <a:lnTo>
                    <a:pt x="179" y="489"/>
                  </a:lnTo>
                  <a:lnTo>
                    <a:pt x="194" y="493"/>
                  </a:lnTo>
                  <a:lnTo>
                    <a:pt x="194" y="491"/>
                  </a:lnTo>
                  <a:lnTo>
                    <a:pt x="194" y="489"/>
                  </a:lnTo>
                  <a:lnTo>
                    <a:pt x="194" y="489"/>
                  </a:lnTo>
                  <a:lnTo>
                    <a:pt x="194" y="487"/>
                  </a:lnTo>
                  <a:lnTo>
                    <a:pt x="194" y="485"/>
                  </a:lnTo>
                  <a:lnTo>
                    <a:pt x="194" y="483"/>
                  </a:lnTo>
                  <a:lnTo>
                    <a:pt x="192" y="483"/>
                  </a:lnTo>
                  <a:lnTo>
                    <a:pt x="192" y="481"/>
                  </a:lnTo>
                  <a:lnTo>
                    <a:pt x="183" y="479"/>
                  </a:lnTo>
                  <a:lnTo>
                    <a:pt x="160" y="470"/>
                  </a:lnTo>
                  <a:lnTo>
                    <a:pt x="139" y="460"/>
                  </a:lnTo>
                  <a:lnTo>
                    <a:pt x="119" y="449"/>
                  </a:lnTo>
                  <a:lnTo>
                    <a:pt x="100" y="433"/>
                  </a:lnTo>
                  <a:lnTo>
                    <a:pt x="83" y="418"/>
                  </a:lnTo>
                  <a:lnTo>
                    <a:pt x="68" y="401"/>
                  </a:lnTo>
                  <a:lnTo>
                    <a:pt x="52" y="381"/>
                  </a:lnTo>
                  <a:lnTo>
                    <a:pt x="41" y="362"/>
                  </a:lnTo>
                  <a:lnTo>
                    <a:pt x="31" y="339"/>
                  </a:lnTo>
                  <a:lnTo>
                    <a:pt x="22" y="318"/>
                  </a:lnTo>
                  <a:lnTo>
                    <a:pt x="16" y="293"/>
                  </a:lnTo>
                  <a:lnTo>
                    <a:pt x="12" y="270"/>
                  </a:lnTo>
                  <a:lnTo>
                    <a:pt x="12" y="245"/>
                  </a:lnTo>
                  <a:lnTo>
                    <a:pt x="12" y="220"/>
                  </a:lnTo>
                  <a:lnTo>
                    <a:pt x="16" y="195"/>
                  </a:lnTo>
                  <a:lnTo>
                    <a:pt x="22" y="172"/>
                  </a:lnTo>
                  <a:lnTo>
                    <a:pt x="31" y="149"/>
                  </a:lnTo>
                  <a:lnTo>
                    <a:pt x="41" y="128"/>
                  </a:lnTo>
                  <a:lnTo>
                    <a:pt x="52" y="107"/>
                  </a:lnTo>
                  <a:lnTo>
                    <a:pt x="68" y="90"/>
                  </a:lnTo>
                  <a:lnTo>
                    <a:pt x="83" y="73"/>
                  </a:lnTo>
                  <a:lnTo>
                    <a:pt x="100" y="55"/>
                  </a:lnTo>
                  <a:lnTo>
                    <a:pt x="119" y="42"/>
                  </a:lnTo>
                  <a:lnTo>
                    <a:pt x="139" y="30"/>
                  </a:lnTo>
                  <a:lnTo>
                    <a:pt x="160" y="19"/>
                  </a:lnTo>
                  <a:lnTo>
                    <a:pt x="183" y="11"/>
                  </a:lnTo>
                  <a:lnTo>
                    <a:pt x="183" y="11"/>
                  </a:lnTo>
                  <a:lnTo>
                    <a:pt x="183" y="9"/>
                  </a:lnTo>
                  <a:lnTo>
                    <a:pt x="183" y="7"/>
                  </a:lnTo>
                  <a:lnTo>
                    <a:pt x="185" y="7"/>
                  </a:lnTo>
                  <a:lnTo>
                    <a:pt x="185" y="5"/>
                  </a:lnTo>
                  <a:lnTo>
                    <a:pt x="185" y="3"/>
                  </a:lnTo>
                  <a:lnTo>
                    <a:pt x="185" y="2"/>
                  </a:lnTo>
                  <a:lnTo>
                    <a:pt x="185" y="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d0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Freeform 482"/>
            <p:cNvSpPr/>
            <p:nvPr/>
          </p:nvSpPr>
          <p:spPr>
            <a:xfrm>
              <a:off x="6060960" y="2859120"/>
              <a:ext cx="316440" cy="811440"/>
            </a:xfrm>
            <a:custGeom>
              <a:avLst/>
              <a:gdLst>
                <a:gd name="textAreaLeft" fmla="*/ 0 w 316440"/>
                <a:gd name="textAreaRight" fmla="*/ 316800 w 316440"/>
                <a:gd name="textAreaTop" fmla="*/ 0 h 811440"/>
                <a:gd name="textAreaBottom" fmla="*/ 811800 h 811440"/>
              </a:gdLst>
              <a:ahLst/>
              <a:rect l="textAreaLeft" t="textAreaTop" r="textAreaRight" b="textAreaBottom"/>
              <a:pathLst>
                <a:path w="188" h="482">
                  <a:moveTo>
                    <a:pt x="179" y="0"/>
                  </a:moveTo>
                  <a:lnTo>
                    <a:pt x="175" y="0"/>
                  </a:lnTo>
                  <a:lnTo>
                    <a:pt x="152" y="10"/>
                  </a:lnTo>
                  <a:lnTo>
                    <a:pt x="131" y="20"/>
                  </a:lnTo>
                  <a:lnTo>
                    <a:pt x="110" y="33"/>
                  </a:lnTo>
                  <a:lnTo>
                    <a:pt x="90" y="46"/>
                  </a:lnTo>
                  <a:lnTo>
                    <a:pt x="73" y="64"/>
                  </a:lnTo>
                  <a:lnTo>
                    <a:pt x="58" y="81"/>
                  </a:lnTo>
                  <a:lnTo>
                    <a:pt x="42" y="100"/>
                  </a:lnTo>
                  <a:lnTo>
                    <a:pt x="29" y="121"/>
                  </a:lnTo>
                  <a:lnTo>
                    <a:pt x="19" y="142"/>
                  </a:lnTo>
                  <a:lnTo>
                    <a:pt x="12" y="165"/>
                  </a:lnTo>
                  <a:lnTo>
                    <a:pt x="4" y="188"/>
                  </a:lnTo>
                  <a:lnTo>
                    <a:pt x="0" y="213"/>
                  </a:lnTo>
                  <a:lnTo>
                    <a:pt x="0" y="240"/>
                  </a:lnTo>
                  <a:lnTo>
                    <a:pt x="0" y="265"/>
                  </a:lnTo>
                  <a:lnTo>
                    <a:pt x="4" y="290"/>
                  </a:lnTo>
                  <a:lnTo>
                    <a:pt x="12" y="315"/>
                  </a:lnTo>
                  <a:lnTo>
                    <a:pt x="19" y="338"/>
                  </a:lnTo>
                  <a:lnTo>
                    <a:pt x="29" y="359"/>
                  </a:lnTo>
                  <a:lnTo>
                    <a:pt x="42" y="380"/>
                  </a:lnTo>
                  <a:lnTo>
                    <a:pt x="58" y="399"/>
                  </a:lnTo>
                  <a:lnTo>
                    <a:pt x="73" y="417"/>
                  </a:lnTo>
                  <a:lnTo>
                    <a:pt x="90" y="432"/>
                  </a:lnTo>
                  <a:lnTo>
                    <a:pt x="110" y="447"/>
                  </a:lnTo>
                  <a:lnTo>
                    <a:pt x="131" y="459"/>
                  </a:lnTo>
                  <a:lnTo>
                    <a:pt x="152" y="470"/>
                  </a:lnTo>
                  <a:lnTo>
                    <a:pt x="175" y="478"/>
                  </a:lnTo>
                  <a:lnTo>
                    <a:pt x="188" y="482"/>
                  </a:lnTo>
                  <a:lnTo>
                    <a:pt x="188" y="480"/>
                  </a:lnTo>
                  <a:lnTo>
                    <a:pt x="188" y="478"/>
                  </a:lnTo>
                  <a:lnTo>
                    <a:pt x="186" y="478"/>
                  </a:lnTo>
                  <a:lnTo>
                    <a:pt x="186" y="476"/>
                  </a:lnTo>
                  <a:lnTo>
                    <a:pt x="186" y="474"/>
                  </a:lnTo>
                  <a:lnTo>
                    <a:pt x="186" y="472"/>
                  </a:lnTo>
                  <a:lnTo>
                    <a:pt x="186" y="472"/>
                  </a:lnTo>
                  <a:lnTo>
                    <a:pt x="186" y="470"/>
                  </a:lnTo>
                  <a:lnTo>
                    <a:pt x="179" y="469"/>
                  </a:lnTo>
                  <a:lnTo>
                    <a:pt x="158" y="461"/>
                  </a:lnTo>
                  <a:lnTo>
                    <a:pt x="136" y="451"/>
                  </a:lnTo>
                  <a:lnTo>
                    <a:pt x="115" y="438"/>
                  </a:lnTo>
                  <a:lnTo>
                    <a:pt x="98" y="424"/>
                  </a:lnTo>
                  <a:lnTo>
                    <a:pt x="81" y="409"/>
                  </a:lnTo>
                  <a:lnTo>
                    <a:pt x="65" y="392"/>
                  </a:lnTo>
                  <a:lnTo>
                    <a:pt x="52" y="375"/>
                  </a:lnTo>
                  <a:lnTo>
                    <a:pt x="39" y="353"/>
                  </a:lnTo>
                  <a:lnTo>
                    <a:pt x="29" y="332"/>
                  </a:lnTo>
                  <a:lnTo>
                    <a:pt x="21" y="311"/>
                  </a:lnTo>
                  <a:lnTo>
                    <a:pt x="16" y="288"/>
                  </a:lnTo>
                  <a:lnTo>
                    <a:pt x="12" y="265"/>
                  </a:lnTo>
                  <a:lnTo>
                    <a:pt x="10" y="240"/>
                  </a:lnTo>
                  <a:lnTo>
                    <a:pt x="12" y="215"/>
                  </a:lnTo>
                  <a:lnTo>
                    <a:pt x="16" y="192"/>
                  </a:lnTo>
                  <a:lnTo>
                    <a:pt x="21" y="169"/>
                  </a:lnTo>
                  <a:lnTo>
                    <a:pt x="29" y="146"/>
                  </a:lnTo>
                  <a:lnTo>
                    <a:pt x="39" y="125"/>
                  </a:lnTo>
                  <a:lnTo>
                    <a:pt x="52" y="106"/>
                  </a:lnTo>
                  <a:lnTo>
                    <a:pt x="65" y="87"/>
                  </a:lnTo>
                  <a:lnTo>
                    <a:pt x="81" y="69"/>
                  </a:lnTo>
                  <a:lnTo>
                    <a:pt x="98" y="54"/>
                  </a:lnTo>
                  <a:lnTo>
                    <a:pt x="115" y="41"/>
                  </a:lnTo>
                  <a:lnTo>
                    <a:pt x="136" y="29"/>
                  </a:lnTo>
                  <a:lnTo>
                    <a:pt x="158" y="20"/>
                  </a:lnTo>
                  <a:lnTo>
                    <a:pt x="177" y="12"/>
                  </a:lnTo>
                  <a:lnTo>
                    <a:pt x="177" y="10"/>
                  </a:lnTo>
                  <a:lnTo>
                    <a:pt x="177" y="8"/>
                  </a:lnTo>
                  <a:lnTo>
                    <a:pt x="177" y="8"/>
                  </a:lnTo>
                  <a:lnTo>
                    <a:pt x="177" y="6"/>
                  </a:lnTo>
                  <a:lnTo>
                    <a:pt x="177" y="4"/>
                  </a:lnTo>
                  <a:lnTo>
                    <a:pt x="177" y="2"/>
                  </a:lnTo>
                  <a:lnTo>
                    <a:pt x="179" y="2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d1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Freeform 483"/>
            <p:cNvSpPr/>
            <p:nvPr/>
          </p:nvSpPr>
          <p:spPr>
            <a:xfrm>
              <a:off x="6071040" y="2869200"/>
              <a:ext cx="303120" cy="791280"/>
            </a:xfrm>
            <a:custGeom>
              <a:avLst/>
              <a:gdLst>
                <a:gd name="textAreaLeft" fmla="*/ 0 w 303120"/>
                <a:gd name="textAreaRight" fmla="*/ 303480 w 303120"/>
                <a:gd name="textAreaTop" fmla="*/ 0 h 791280"/>
                <a:gd name="textAreaBottom" fmla="*/ 791640 h 791280"/>
              </a:gdLst>
              <a:ahLst/>
              <a:rect l="textAreaLeft" t="textAreaTop" r="textAreaRight" b="textAreaBottom"/>
              <a:pathLst>
                <a:path w="180" h="470">
                  <a:moveTo>
                    <a:pt x="171" y="0"/>
                  </a:moveTo>
                  <a:lnTo>
                    <a:pt x="171" y="0"/>
                  </a:lnTo>
                  <a:lnTo>
                    <a:pt x="148" y="8"/>
                  </a:lnTo>
                  <a:lnTo>
                    <a:pt x="127" y="19"/>
                  </a:lnTo>
                  <a:lnTo>
                    <a:pt x="107" y="31"/>
                  </a:lnTo>
                  <a:lnTo>
                    <a:pt x="88" y="44"/>
                  </a:lnTo>
                  <a:lnTo>
                    <a:pt x="71" y="62"/>
                  </a:lnTo>
                  <a:lnTo>
                    <a:pt x="56" y="79"/>
                  </a:lnTo>
                  <a:lnTo>
                    <a:pt x="40" y="96"/>
                  </a:lnTo>
                  <a:lnTo>
                    <a:pt x="29" y="117"/>
                  </a:lnTo>
                  <a:lnTo>
                    <a:pt x="19" y="138"/>
                  </a:lnTo>
                  <a:lnTo>
                    <a:pt x="10" y="161"/>
                  </a:lnTo>
                  <a:lnTo>
                    <a:pt x="4" y="184"/>
                  </a:lnTo>
                  <a:lnTo>
                    <a:pt x="0" y="209"/>
                  </a:lnTo>
                  <a:lnTo>
                    <a:pt x="0" y="234"/>
                  </a:lnTo>
                  <a:lnTo>
                    <a:pt x="0" y="259"/>
                  </a:lnTo>
                  <a:lnTo>
                    <a:pt x="4" y="282"/>
                  </a:lnTo>
                  <a:lnTo>
                    <a:pt x="10" y="307"/>
                  </a:lnTo>
                  <a:lnTo>
                    <a:pt x="19" y="328"/>
                  </a:lnTo>
                  <a:lnTo>
                    <a:pt x="29" y="351"/>
                  </a:lnTo>
                  <a:lnTo>
                    <a:pt x="40" y="370"/>
                  </a:lnTo>
                  <a:lnTo>
                    <a:pt x="56" y="390"/>
                  </a:lnTo>
                  <a:lnTo>
                    <a:pt x="71" y="407"/>
                  </a:lnTo>
                  <a:lnTo>
                    <a:pt x="88" y="422"/>
                  </a:lnTo>
                  <a:lnTo>
                    <a:pt x="107" y="438"/>
                  </a:lnTo>
                  <a:lnTo>
                    <a:pt x="127" y="449"/>
                  </a:lnTo>
                  <a:lnTo>
                    <a:pt x="148" y="459"/>
                  </a:lnTo>
                  <a:lnTo>
                    <a:pt x="171" y="468"/>
                  </a:lnTo>
                  <a:lnTo>
                    <a:pt x="180" y="470"/>
                  </a:lnTo>
                  <a:lnTo>
                    <a:pt x="180" y="468"/>
                  </a:lnTo>
                  <a:lnTo>
                    <a:pt x="180" y="466"/>
                  </a:lnTo>
                  <a:lnTo>
                    <a:pt x="180" y="466"/>
                  </a:lnTo>
                  <a:lnTo>
                    <a:pt x="180" y="464"/>
                  </a:lnTo>
                  <a:lnTo>
                    <a:pt x="180" y="463"/>
                  </a:lnTo>
                  <a:lnTo>
                    <a:pt x="178" y="461"/>
                  </a:lnTo>
                  <a:lnTo>
                    <a:pt x="178" y="461"/>
                  </a:lnTo>
                  <a:lnTo>
                    <a:pt x="178" y="459"/>
                  </a:lnTo>
                  <a:lnTo>
                    <a:pt x="175" y="457"/>
                  </a:lnTo>
                  <a:lnTo>
                    <a:pt x="153" y="449"/>
                  </a:lnTo>
                  <a:lnTo>
                    <a:pt x="132" y="440"/>
                  </a:lnTo>
                  <a:lnTo>
                    <a:pt x="113" y="428"/>
                  </a:lnTo>
                  <a:lnTo>
                    <a:pt x="94" y="415"/>
                  </a:lnTo>
                  <a:lnTo>
                    <a:pt x="79" y="399"/>
                  </a:lnTo>
                  <a:lnTo>
                    <a:pt x="63" y="382"/>
                  </a:lnTo>
                  <a:lnTo>
                    <a:pt x="50" y="365"/>
                  </a:lnTo>
                  <a:lnTo>
                    <a:pt x="38" y="346"/>
                  </a:lnTo>
                  <a:lnTo>
                    <a:pt x="29" y="324"/>
                  </a:lnTo>
                  <a:lnTo>
                    <a:pt x="21" y="303"/>
                  </a:lnTo>
                  <a:lnTo>
                    <a:pt x="15" y="280"/>
                  </a:lnTo>
                  <a:lnTo>
                    <a:pt x="11" y="257"/>
                  </a:lnTo>
                  <a:lnTo>
                    <a:pt x="10" y="234"/>
                  </a:lnTo>
                  <a:lnTo>
                    <a:pt x="11" y="209"/>
                  </a:lnTo>
                  <a:lnTo>
                    <a:pt x="15" y="186"/>
                  </a:lnTo>
                  <a:lnTo>
                    <a:pt x="21" y="163"/>
                  </a:lnTo>
                  <a:lnTo>
                    <a:pt x="29" y="142"/>
                  </a:lnTo>
                  <a:lnTo>
                    <a:pt x="38" y="123"/>
                  </a:lnTo>
                  <a:lnTo>
                    <a:pt x="50" y="104"/>
                  </a:lnTo>
                  <a:lnTo>
                    <a:pt x="63" y="85"/>
                  </a:lnTo>
                  <a:lnTo>
                    <a:pt x="79" y="67"/>
                  </a:lnTo>
                  <a:lnTo>
                    <a:pt x="94" y="54"/>
                  </a:lnTo>
                  <a:lnTo>
                    <a:pt x="113" y="40"/>
                  </a:lnTo>
                  <a:lnTo>
                    <a:pt x="132" y="27"/>
                  </a:lnTo>
                  <a:lnTo>
                    <a:pt x="153" y="17"/>
                  </a:lnTo>
                  <a:lnTo>
                    <a:pt x="169" y="12"/>
                  </a:lnTo>
                  <a:lnTo>
                    <a:pt x="169" y="10"/>
                  </a:lnTo>
                  <a:lnTo>
                    <a:pt x="171" y="10"/>
                  </a:lnTo>
                  <a:lnTo>
                    <a:pt x="171" y="8"/>
                  </a:lnTo>
                  <a:lnTo>
                    <a:pt x="171" y="6"/>
                  </a:lnTo>
                  <a:lnTo>
                    <a:pt x="171" y="4"/>
                  </a:lnTo>
                  <a:lnTo>
                    <a:pt x="171" y="2"/>
                  </a:lnTo>
                  <a:lnTo>
                    <a:pt x="171" y="2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d2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Freeform 484"/>
            <p:cNvSpPr/>
            <p:nvPr/>
          </p:nvSpPr>
          <p:spPr>
            <a:xfrm>
              <a:off x="6077520" y="2879280"/>
              <a:ext cx="296640" cy="770760"/>
            </a:xfrm>
            <a:custGeom>
              <a:avLst/>
              <a:gdLst>
                <a:gd name="textAreaLeft" fmla="*/ 0 w 296640"/>
                <a:gd name="textAreaRight" fmla="*/ 297000 w 296640"/>
                <a:gd name="textAreaTop" fmla="*/ 0 h 770760"/>
                <a:gd name="textAreaBottom" fmla="*/ 771120 h 770760"/>
              </a:gdLst>
              <a:ahLst/>
              <a:rect l="textAreaLeft" t="textAreaTop" r="textAreaRight" b="textAreaBottom"/>
              <a:pathLst>
                <a:path w="176" h="458">
                  <a:moveTo>
                    <a:pt x="167" y="0"/>
                  </a:moveTo>
                  <a:lnTo>
                    <a:pt x="148" y="8"/>
                  </a:lnTo>
                  <a:lnTo>
                    <a:pt x="126" y="17"/>
                  </a:lnTo>
                  <a:lnTo>
                    <a:pt x="105" y="29"/>
                  </a:lnTo>
                  <a:lnTo>
                    <a:pt x="88" y="42"/>
                  </a:lnTo>
                  <a:lnTo>
                    <a:pt x="71" y="57"/>
                  </a:lnTo>
                  <a:lnTo>
                    <a:pt x="55" y="75"/>
                  </a:lnTo>
                  <a:lnTo>
                    <a:pt x="42" y="94"/>
                  </a:lnTo>
                  <a:lnTo>
                    <a:pt x="29" y="113"/>
                  </a:lnTo>
                  <a:lnTo>
                    <a:pt x="19" y="134"/>
                  </a:lnTo>
                  <a:lnTo>
                    <a:pt x="11" y="157"/>
                  </a:lnTo>
                  <a:lnTo>
                    <a:pt x="6" y="180"/>
                  </a:lnTo>
                  <a:lnTo>
                    <a:pt x="2" y="203"/>
                  </a:lnTo>
                  <a:lnTo>
                    <a:pt x="0" y="228"/>
                  </a:lnTo>
                  <a:lnTo>
                    <a:pt x="2" y="253"/>
                  </a:lnTo>
                  <a:lnTo>
                    <a:pt x="6" y="276"/>
                  </a:lnTo>
                  <a:lnTo>
                    <a:pt x="11" y="299"/>
                  </a:lnTo>
                  <a:lnTo>
                    <a:pt x="19" y="320"/>
                  </a:lnTo>
                  <a:lnTo>
                    <a:pt x="29" y="341"/>
                  </a:lnTo>
                  <a:lnTo>
                    <a:pt x="42" y="363"/>
                  </a:lnTo>
                  <a:lnTo>
                    <a:pt x="55" y="380"/>
                  </a:lnTo>
                  <a:lnTo>
                    <a:pt x="71" y="397"/>
                  </a:lnTo>
                  <a:lnTo>
                    <a:pt x="88" y="412"/>
                  </a:lnTo>
                  <a:lnTo>
                    <a:pt x="105" y="426"/>
                  </a:lnTo>
                  <a:lnTo>
                    <a:pt x="126" y="439"/>
                  </a:lnTo>
                  <a:lnTo>
                    <a:pt x="148" y="449"/>
                  </a:lnTo>
                  <a:lnTo>
                    <a:pt x="169" y="457"/>
                  </a:lnTo>
                  <a:lnTo>
                    <a:pt x="176" y="458"/>
                  </a:lnTo>
                  <a:lnTo>
                    <a:pt x="176" y="457"/>
                  </a:lnTo>
                  <a:lnTo>
                    <a:pt x="174" y="455"/>
                  </a:lnTo>
                  <a:lnTo>
                    <a:pt x="174" y="455"/>
                  </a:lnTo>
                  <a:lnTo>
                    <a:pt x="174" y="453"/>
                  </a:lnTo>
                  <a:lnTo>
                    <a:pt x="174" y="451"/>
                  </a:lnTo>
                  <a:lnTo>
                    <a:pt x="174" y="449"/>
                  </a:lnTo>
                  <a:lnTo>
                    <a:pt x="174" y="449"/>
                  </a:lnTo>
                  <a:lnTo>
                    <a:pt x="174" y="447"/>
                  </a:lnTo>
                  <a:lnTo>
                    <a:pt x="173" y="447"/>
                  </a:lnTo>
                  <a:lnTo>
                    <a:pt x="151" y="439"/>
                  </a:lnTo>
                  <a:lnTo>
                    <a:pt x="130" y="430"/>
                  </a:lnTo>
                  <a:lnTo>
                    <a:pt x="111" y="418"/>
                  </a:lnTo>
                  <a:lnTo>
                    <a:pt x="94" y="405"/>
                  </a:lnTo>
                  <a:lnTo>
                    <a:pt x="78" y="389"/>
                  </a:lnTo>
                  <a:lnTo>
                    <a:pt x="63" y="374"/>
                  </a:lnTo>
                  <a:lnTo>
                    <a:pt x="50" y="355"/>
                  </a:lnTo>
                  <a:lnTo>
                    <a:pt x="38" y="338"/>
                  </a:lnTo>
                  <a:lnTo>
                    <a:pt x="29" y="316"/>
                  </a:lnTo>
                  <a:lnTo>
                    <a:pt x="21" y="295"/>
                  </a:lnTo>
                  <a:lnTo>
                    <a:pt x="15" y="274"/>
                  </a:lnTo>
                  <a:lnTo>
                    <a:pt x="11" y="251"/>
                  </a:lnTo>
                  <a:lnTo>
                    <a:pt x="11" y="228"/>
                  </a:lnTo>
                  <a:lnTo>
                    <a:pt x="11" y="205"/>
                  </a:lnTo>
                  <a:lnTo>
                    <a:pt x="15" y="182"/>
                  </a:lnTo>
                  <a:lnTo>
                    <a:pt x="21" y="159"/>
                  </a:lnTo>
                  <a:lnTo>
                    <a:pt x="29" y="138"/>
                  </a:lnTo>
                  <a:lnTo>
                    <a:pt x="38" y="119"/>
                  </a:lnTo>
                  <a:lnTo>
                    <a:pt x="50" y="100"/>
                  </a:lnTo>
                  <a:lnTo>
                    <a:pt x="63" y="82"/>
                  </a:lnTo>
                  <a:lnTo>
                    <a:pt x="78" y="65"/>
                  </a:lnTo>
                  <a:lnTo>
                    <a:pt x="94" y="52"/>
                  </a:lnTo>
                  <a:lnTo>
                    <a:pt x="111" y="38"/>
                  </a:lnTo>
                  <a:lnTo>
                    <a:pt x="130" y="27"/>
                  </a:lnTo>
                  <a:lnTo>
                    <a:pt x="151" y="17"/>
                  </a:lnTo>
                  <a:lnTo>
                    <a:pt x="165" y="11"/>
                  </a:lnTo>
                  <a:lnTo>
                    <a:pt x="165" y="10"/>
                  </a:lnTo>
                  <a:lnTo>
                    <a:pt x="165" y="10"/>
                  </a:lnTo>
                  <a:lnTo>
                    <a:pt x="165" y="8"/>
                  </a:lnTo>
                  <a:lnTo>
                    <a:pt x="165" y="6"/>
                  </a:lnTo>
                  <a:lnTo>
                    <a:pt x="165" y="4"/>
                  </a:lnTo>
                  <a:lnTo>
                    <a:pt x="167" y="4"/>
                  </a:lnTo>
                  <a:lnTo>
                    <a:pt x="167" y="2"/>
                  </a:lnTo>
                  <a:lnTo>
                    <a:pt x="167" y="0"/>
                  </a:lnTo>
                  <a:close/>
                </a:path>
              </a:pathLst>
            </a:custGeom>
            <a:solidFill>
              <a:srgbClr val="d3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Freeform 485"/>
            <p:cNvSpPr/>
            <p:nvPr/>
          </p:nvSpPr>
          <p:spPr>
            <a:xfrm>
              <a:off x="6087960" y="2889360"/>
              <a:ext cx="282960" cy="752400"/>
            </a:xfrm>
            <a:custGeom>
              <a:avLst/>
              <a:gdLst>
                <a:gd name="textAreaLeft" fmla="*/ 0 w 282960"/>
                <a:gd name="textAreaRight" fmla="*/ 283320 w 282960"/>
                <a:gd name="textAreaTop" fmla="*/ 0 h 752400"/>
                <a:gd name="textAreaBottom" fmla="*/ 752760 h 752400"/>
              </a:gdLst>
              <a:ahLst/>
              <a:rect l="textAreaLeft" t="textAreaTop" r="textAreaRight" b="textAreaBottom"/>
              <a:pathLst>
                <a:path w="168" h="447">
                  <a:moveTo>
                    <a:pt x="159" y="0"/>
                  </a:moveTo>
                  <a:lnTo>
                    <a:pt x="143" y="5"/>
                  </a:lnTo>
                  <a:lnTo>
                    <a:pt x="122" y="15"/>
                  </a:lnTo>
                  <a:lnTo>
                    <a:pt x="103" y="28"/>
                  </a:lnTo>
                  <a:lnTo>
                    <a:pt x="84" y="42"/>
                  </a:lnTo>
                  <a:lnTo>
                    <a:pt x="69" y="55"/>
                  </a:lnTo>
                  <a:lnTo>
                    <a:pt x="53" y="73"/>
                  </a:lnTo>
                  <a:lnTo>
                    <a:pt x="40" y="92"/>
                  </a:lnTo>
                  <a:lnTo>
                    <a:pt x="28" y="111"/>
                  </a:lnTo>
                  <a:lnTo>
                    <a:pt x="19" y="130"/>
                  </a:lnTo>
                  <a:lnTo>
                    <a:pt x="11" y="151"/>
                  </a:lnTo>
                  <a:lnTo>
                    <a:pt x="5" y="174"/>
                  </a:lnTo>
                  <a:lnTo>
                    <a:pt x="1" y="197"/>
                  </a:lnTo>
                  <a:lnTo>
                    <a:pt x="0" y="222"/>
                  </a:lnTo>
                  <a:lnTo>
                    <a:pt x="1" y="245"/>
                  </a:lnTo>
                  <a:lnTo>
                    <a:pt x="5" y="268"/>
                  </a:lnTo>
                  <a:lnTo>
                    <a:pt x="11" y="291"/>
                  </a:lnTo>
                  <a:lnTo>
                    <a:pt x="19" y="312"/>
                  </a:lnTo>
                  <a:lnTo>
                    <a:pt x="28" y="334"/>
                  </a:lnTo>
                  <a:lnTo>
                    <a:pt x="40" y="353"/>
                  </a:lnTo>
                  <a:lnTo>
                    <a:pt x="53" y="370"/>
                  </a:lnTo>
                  <a:lnTo>
                    <a:pt x="69" y="387"/>
                  </a:lnTo>
                  <a:lnTo>
                    <a:pt x="84" y="403"/>
                  </a:lnTo>
                  <a:lnTo>
                    <a:pt x="103" y="416"/>
                  </a:lnTo>
                  <a:lnTo>
                    <a:pt x="122" y="428"/>
                  </a:lnTo>
                  <a:lnTo>
                    <a:pt x="143" y="437"/>
                  </a:lnTo>
                  <a:lnTo>
                    <a:pt x="165" y="445"/>
                  </a:lnTo>
                  <a:lnTo>
                    <a:pt x="168" y="447"/>
                  </a:lnTo>
                  <a:lnTo>
                    <a:pt x="168" y="445"/>
                  </a:lnTo>
                  <a:lnTo>
                    <a:pt x="168" y="443"/>
                  </a:lnTo>
                  <a:lnTo>
                    <a:pt x="168" y="443"/>
                  </a:lnTo>
                  <a:lnTo>
                    <a:pt x="168" y="441"/>
                  </a:lnTo>
                  <a:lnTo>
                    <a:pt x="167" y="439"/>
                  </a:lnTo>
                  <a:lnTo>
                    <a:pt x="167" y="437"/>
                  </a:lnTo>
                  <a:lnTo>
                    <a:pt x="167" y="437"/>
                  </a:lnTo>
                  <a:lnTo>
                    <a:pt x="167" y="435"/>
                  </a:lnTo>
                  <a:lnTo>
                    <a:pt x="147" y="428"/>
                  </a:lnTo>
                  <a:lnTo>
                    <a:pt x="128" y="418"/>
                  </a:lnTo>
                  <a:lnTo>
                    <a:pt x="109" y="406"/>
                  </a:lnTo>
                  <a:lnTo>
                    <a:pt x="92" y="395"/>
                  </a:lnTo>
                  <a:lnTo>
                    <a:pt x="76" y="380"/>
                  </a:lnTo>
                  <a:lnTo>
                    <a:pt x="61" y="364"/>
                  </a:lnTo>
                  <a:lnTo>
                    <a:pt x="48" y="347"/>
                  </a:lnTo>
                  <a:lnTo>
                    <a:pt x="38" y="328"/>
                  </a:lnTo>
                  <a:lnTo>
                    <a:pt x="28" y="309"/>
                  </a:lnTo>
                  <a:lnTo>
                    <a:pt x="21" y="287"/>
                  </a:lnTo>
                  <a:lnTo>
                    <a:pt x="15" y="266"/>
                  </a:lnTo>
                  <a:lnTo>
                    <a:pt x="11" y="245"/>
                  </a:lnTo>
                  <a:lnTo>
                    <a:pt x="11" y="222"/>
                  </a:lnTo>
                  <a:lnTo>
                    <a:pt x="11" y="199"/>
                  </a:lnTo>
                  <a:lnTo>
                    <a:pt x="15" y="176"/>
                  </a:lnTo>
                  <a:lnTo>
                    <a:pt x="21" y="155"/>
                  </a:lnTo>
                  <a:lnTo>
                    <a:pt x="28" y="134"/>
                  </a:lnTo>
                  <a:lnTo>
                    <a:pt x="38" y="115"/>
                  </a:lnTo>
                  <a:lnTo>
                    <a:pt x="48" y="98"/>
                  </a:lnTo>
                  <a:lnTo>
                    <a:pt x="61" y="80"/>
                  </a:lnTo>
                  <a:lnTo>
                    <a:pt x="76" y="63"/>
                  </a:lnTo>
                  <a:lnTo>
                    <a:pt x="92" y="50"/>
                  </a:lnTo>
                  <a:lnTo>
                    <a:pt x="109" y="36"/>
                  </a:lnTo>
                  <a:lnTo>
                    <a:pt x="128" y="25"/>
                  </a:lnTo>
                  <a:lnTo>
                    <a:pt x="147" y="15"/>
                  </a:lnTo>
                  <a:lnTo>
                    <a:pt x="157" y="11"/>
                  </a:lnTo>
                  <a:lnTo>
                    <a:pt x="159" y="11"/>
                  </a:lnTo>
                  <a:lnTo>
                    <a:pt x="159" y="9"/>
                  </a:lnTo>
                  <a:lnTo>
                    <a:pt x="159" y="7"/>
                  </a:lnTo>
                  <a:lnTo>
                    <a:pt x="159" y="5"/>
                  </a:lnTo>
                  <a:lnTo>
                    <a:pt x="159" y="4"/>
                  </a:lnTo>
                  <a:lnTo>
                    <a:pt x="159" y="4"/>
                  </a:lnTo>
                  <a:lnTo>
                    <a:pt x="159" y="2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d4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Freeform 486"/>
            <p:cNvSpPr/>
            <p:nvPr/>
          </p:nvSpPr>
          <p:spPr>
            <a:xfrm>
              <a:off x="6096240" y="2897640"/>
              <a:ext cx="274320" cy="734040"/>
            </a:xfrm>
            <a:custGeom>
              <a:avLst/>
              <a:gdLst>
                <a:gd name="textAreaLeft" fmla="*/ 0 w 274320"/>
                <a:gd name="textAreaRight" fmla="*/ 274680 w 274320"/>
                <a:gd name="textAreaTop" fmla="*/ 0 h 734040"/>
                <a:gd name="textAreaBottom" fmla="*/ 734400 h 734040"/>
              </a:gdLst>
              <a:ahLst/>
              <a:rect l="textAreaLeft" t="textAreaTop" r="textAreaRight" b="textAreaBottom"/>
              <a:pathLst>
                <a:path w="163" h="436">
                  <a:moveTo>
                    <a:pt x="154" y="0"/>
                  </a:moveTo>
                  <a:lnTo>
                    <a:pt x="140" y="6"/>
                  </a:lnTo>
                  <a:lnTo>
                    <a:pt x="119" y="16"/>
                  </a:lnTo>
                  <a:lnTo>
                    <a:pt x="100" y="27"/>
                  </a:lnTo>
                  <a:lnTo>
                    <a:pt x="83" y="41"/>
                  </a:lnTo>
                  <a:lnTo>
                    <a:pt x="67" y="54"/>
                  </a:lnTo>
                  <a:lnTo>
                    <a:pt x="52" y="71"/>
                  </a:lnTo>
                  <a:lnTo>
                    <a:pt x="39" y="89"/>
                  </a:lnTo>
                  <a:lnTo>
                    <a:pt x="27" y="108"/>
                  </a:lnTo>
                  <a:lnTo>
                    <a:pt x="18" y="127"/>
                  </a:lnTo>
                  <a:lnTo>
                    <a:pt x="10" y="148"/>
                  </a:lnTo>
                  <a:lnTo>
                    <a:pt x="4" y="171"/>
                  </a:lnTo>
                  <a:lnTo>
                    <a:pt x="0" y="194"/>
                  </a:lnTo>
                  <a:lnTo>
                    <a:pt x="0" y="217"/>
                  </a:lnTo>
                  <a:lnTo>
                    <a:pt x="0" y="240"/>
                  </a:lnTo>
                  <a:lnTo>
                    <a:pt x="4" y="263"/>
                  </a:lnTo>
                  <a:lnTo>
                    <a:pt x="10" y="284"/>
                  </a:lnTo>
                  <a:lnTo>
                    <a:pt x="18" y="305"/>
                  </a:lnTo>
                  <a:lnTo>
                    <a:pt x="27" y="327"/>
                  </a:lnTo>
                  <a:lnTo>
                    <a:pt x="39" y="344"/>
                  </a:lnTo>
                  <a:lnTo>
                    <a:pt x="52" y="363"/>
                  </a:lnTo>
                  <a:lnTo>
                    <a:pt x="67" y="378"/>
                  </a:lnTo>
                  <a:lnTo>
                    <a:pt x="83" y="394"/>
                  </a:lnTo>
                  <a:lnTo>
                    <a:pt x="100" y="407"/>
                  </a:lnTo>
                  <a:lnTo>
                    <a:pt x="119" y="419"/>
                  </a:lnTo>
                  <a:lnTo>
                    <a:pt x="140" y="428"/>
                  </a:lnTo>
                  <a:lnTo>
                    <a:pt x="162" y="436"/>
                  </a:lnTo>
                  <a:lnTo>
                    <a:pt x="163" y="436"/>
                  </a:lnTo>
                  <a:lnTo>
                    <a:pt x="162" y="434"/>
                  </a:lnTo>
                  <a:lnTo>
                    <a:pt x="162" y="432"/>
                  </a:lnTo>
                  <a:lnTo>
                    <a:pt x="162" y="432"/>
                  </a:lnTo>
                  <a:lnTo>
                    <a:pt x="162" y="430"/>
                  </a:lnTo>
                  <a:lnTo>
                    <a:pt x="162" y="428"/>
                  </a:lnTo>
                  <a:lnTo>
                    <a:pt x="162" y="426"/>
                  </a:lnTo>
                  <a:lnTo>
                    <a:pt x="162" y="426"/>
                  </a:lnTo>
                  <a:lnTo>
                    <a:pt x="160" y="424"/>
                  </a:lnTo>
                  <a:lnTo>
                    <a:pt x="144" y="419"/>
                  </a:lnTo>
                  <a:lnTo>
                    <a:pt x="125" y="409"/>
                  </a:lnTo>
                  <a:lnTo>
                    <a:pt x="108" y="398"/>
                  </a:lnTo>
                  <a:lnTo>
                    <a:pt x="91" y="386"/>
                  </a:lnTo>
                  <a:lnTo>
                    <a:pt x="75" y="371"/>
                  </a:lnTo>
                  <a:lnTo>
                    <a:pt x="60" y="355"/>
                  </a:lnTo>
                  <a:lnTo>
                    <a:pt x="48" y="338"/>
                  </a:lnTo>
                  <a:lnTo>
                    <a:pt x="37" y="321"/>
                  </a:lnTo>
                  <a:lnTo>
                    <a:pt x="27" y="302"/>
                  </a:lnTo>
                  <a:lnTo>
                    <a:pt x="19" y="282"/>
                  </a:lnTo>
                  <a:lnTo>
                    <a:pt x="16" y="261"/>
                  </a:lnTo>
                  <a:lnTo>
                    <a:pt x="12" y="238"/>
                  </a:lnTo>
                  <a:lnTo>
                    <a:pt x="10" y="217"/>
                  </a:lnTo>
                  <a:lnTo>
                    <a:pt x="12" y="194"/>
                  </a:lnTo>
                  <a:lnTo>
                    <a:pt x="16" y="173"/>
                  </a:lnTo>
                  <a:lnTo>
                    <a:pt x="19" y="152"/>
                  </a:lnTo>
                  <a:lnTo>
                    <a:pt x="27" y="131"/>
                  </a:lnTo>
                  <a:lnTo>
                    <a:pt x="37" y="114"/>
                  </a:lnTo>
                  <a:lnTo>
                    <a:pt x="48" y="94"/>
                  </a:lnTo>
                  <a:lnTo>
                    <a:pt x="60" y="77"/>
                  </a:lnTo>
                  <a:lnTo>
                    <a:pt x="75" y="62"/>
                  </a:lnTo>
                  <a:lnTo>
                    <a:pt x="91" y="48"/>
                  </a:lnTo>
                  <a:lnTo>
                    <a:pt x="108" y="35"/>
                  </a:lnTo>
                  <a:lnTo>
                    <a:pt x="125" y="25"/>
                  </a:lnTo>
                  <a:lnTo>
                    <a:pt x="144" y="16"/>
                  </a:lnTo>
                  <a:lnTo>
                    <a:pt x="152" y="12"/>
                  </a:lnTo>
                  <a:lnTo>
                    <a:pt x="152" y="12"/>
                  </a:lnTo>
                  <a:lnTo>
                    <a:pt x="152" y="10"/>
                  </a:lnTo>
                  <a:lnTo>
                    <a:pt x="152" y="8"/>
                  </a:lnTo>
                  <a:lnTo>
                    <a:pt x="152" y="6"/>
                  </a:lnTo>
                  <a:lnTo>
                    <a:pt x="154" y="6"/>
                  </a:lnTo>
                  <a:lnTo>
                    <a:pt x="154" y="4"/>
                  </a:lnTo>
                  <a:lnTo>
                    <a:pt x="154" y="2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d5e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Freeform 487"/>
            <p:cNvSpPr/>
            <p:nvPr/>
          </p:nvSpPr>
          <p:spPr>
            <a:xfrm>
              <a:off x="6106320" y="2908080"/>
              <a:ext cx="262440" cy="713520"/>
            </a:xfrm>
            <a:custGeom>
              <a:avLst/>
              <a:gdLst>
                <a:gd name="textAreaLeft" fmla="*/ 0 w 262440"/>
                <a:gd name="textAreaRight" fmla="*/ 262800 w 262440"/>
                <a:gd name="textAreaTop" fmla="*/ 0 h 713520"/>
                <a:gd name="textAreaBottom" fmla="*/ 713880 h 713520"/>
              </a:gdLst>
              <a:ahLst/>
              <a:rect l="textAreaLeft" t="textAreaTop" r="textAreaRight" b="textAreaBottom"/>
              <a:pathLst>
                <a:path w="156" h="424">
                  <a:moveTo>
                    <a:pt x="146" y="0"/>
                  </a:moveTo>
                  <a:lnTo>
                    <a:pt x="136" y="4"/>
                  </a:lnTo>
                  <a:lnTo>
                    <a:pt x="117" y="14"/>
                  </a:lnTo>
                  <a:lnTo>
                    <a:pt x="98" y="25"/>
                  </a:lnTo>
                  <a:lnTo>
                    <a:pt x="81" y="39"/>
                  </a:lnTo>
                  <a:lnTo>
                    <a:pt x="65" y="52"/>
                  </a:lnTo>
                  <a:lnTo>
                    <a:pt x="50" y="69"/>
                  </a:lnTo>
                  <a:lnTo>
                    <a:pt x="37" y="87"/>
                  </a:lnTo>
                  <a:lnTo>
                    <a:pt x="27" y="104"/>
                  </a:lnTo>
                  <a:lnTo>
                    <a:pt x="17" y="123"/>
                  </a:lnTo>
                  <a:lnTo>
                    <a:pt x="10" y="144"/>
                  </a:lnTo>
                  <a:lnTo>
                    <a:pt x="4" y="165"/>
                  </a:lnTo>
                  <a:lnTo>
                    <a:pt x="0" y="188"/>
                  </a:lnTo>
                  <a:lnTo>
                    <a:pt x="0" y="211"/>
                  </a:lnTo>
                  <a:lnTo>
                    <a:pt x="0" y="234"/>
                  </a:lnTo>
                  <a:lnTo>
                    <a:pt x="4" y="255"/>
                  </a:lnTo>
                  <a:lnTo>
                    <a:pt x="10" y="276"/>
                  </a:lnTo>
                  <a:lnTo>
                    <a:pt x="17" y="298"/>
                  </a:lnTo>
                  <a:lnTo>
                    <a:pt x="27" y="317"/>
                  </a:lnTo>
                  <a:lnTo>
                    <a:pt x="37" y="336"/>
                  </a:lnTo>
                  <a:lnTo>
                    <a:pt x="50" y="353"/>
                  </a:lnTo>
                  <a:lnTo>
                    <a:pt x="65" y="369"/>
                  </a:lnTo>
                  <a:lnTo>
                    <a:pt x="81" y="384"/>
                  </a:lnTo>
                  <a:lnTo>
                    <a:pt x="98" y="395"/>
                  </a:lnTo>
                  <a:lnTo>
                    <a:pt x="117" y="407"/>
                  </a:lnTo>
                  <a:lnTo>
                    <a:pt x="136" y="417"/>
                  </a:lnTo>
                  <a:lnTo>
                    <a:pt x="156" y="424"/>
                  </a:lnTo>
                  <a:lnTo>
                    <a:pt x="156" y="422"/>
                  </a:lnTo>
                  <a:lnTo>
                    <a:pt x="156" y="420"/>
                  </a:lnTo>
                  <a:lnTo>
                    <a:pt x="156" y="420"/>
                  </a:lnTo>
                  <a:lnTo>
                    <a:pt x="154" y="418"/>
                  </a:lnTo>
                  <a:lnTo>
                    <a:pt x="154" y="417"/>
                  </a:lnTo>
                  <a:lnTo>
                    <a:pt x="154" y="415"/>
                  </a:lnTo>
                  <a:lnTo>
                    <a:pt x="154" y="413"/>
                  </a:lnTo>
                  <a:lnTo>
                    <a:pt x="154" y="413"/>
                  </a:lnTo>
                  <a:lnTo>
                    <a:pt x="140" y="407"/>
                  </a:lnTo>
                  <a:lnTo>
                    <a:pt x="121" y="397"/>
                  </a:lnTo>
                  <a:lnTo>
                    <a:pt x="104" y="388"/>
                  </a:lnTo>
                  <a:lnTo>
                    <a:pt x="88" y="374"/>
                  </a:lnTo>
                  <a:lnTo>
                    <a:pt x="73" y="361"/>
                  </a:lnTo>
                  <a:lnTo>
                    <a:pt x="58" y="346"/>
                  </a:lnTo>
                  <a:lnTo>
                    <a:pt x="46" y="330"/>
                  </a:lnTo>
                  <a:lnTo>
                    <a:pt x="37" y="313"/>
                  </a:lnTo>
                  <a:lnTo>
                    <a:pt x="27" y="294"/>
                  </a:lnTo>
                  <a:lnTo>
                    <a:pt x="19" y="275"/>
                  </a:lnTo>
                  <a:lnTo>
                    <a:pt x="13" y="253"/>
                  </a:lnTo>
                  <a:lnTo>
                    <a:pt x="12" y="232"/>
                  </a:lnTo>
                  <a:lnTo>
                    <a:pt x="10" y="211"/>
                  </a:lnTo>
                  <a:lnTo>
                    <a:pt x="12" y="188"/>
                  </a:lnTo>
                  <a:lnTo>
                    <a:pt x="13" y="167"/>
                  </a:lnTo>
                  <a:lnTo>
                    <a:pt x="19" y="148"/>
                  </a:lnTo>
                  <a:lnTo>
                    <a:pt x="27" y="129"/>
                  </a:lnTo>
                  <a:lnTo>
                    <a:pt x="37" y="110"/>
                  </a:lnTo>
                  <a:lnTo>
                    <a:pt x="46" y="92"/>
                  </a:lnTo>
                  <a:lnTo>
                    <a:pt x="58" y="75"/>
                  </a:lnTo>
                  <a:lnTo>
                    <a:pt x="73" y="60"/>
                  </a:lnTo>
                  <a:lnTo>
                    <a:pt x="88" y="46"/>
                  </a:lnTo>
                  <a:lnTo>
                    <a:pt x="104" y="35"/>
                  </a:lnTo>
                  <a:lnTo>
                    <a:pt x="121" y="23"/>
                  </a:lnTo>
                  <a:lnTo>
                    <a:pt x="140" y="16"/>
                  </a:lnTo>
                  <a:lnTo>
                    <a:pt x="146" y="14"/>
                  </a:lnTo>
                  <a:lnTo>
                    <a:pt x="146" y="12"/>
                  </a:lnTo>
                  <a:lnTo>
                    <a:pt x="146" y="10"/>
                  </a:lnTo>
                  <a:lnTo>
                    <a:pt x="146" y="8"/>
                  </a:lnTo>
                  <a:lnTo>
                    <a:pt x="146" y="6"/>
                  </a:lnTo>
                  <a:lnTo>
                    <a:pt x="146" y="6"/>
                  </a:lnTo>
                  <a:lnTo>
                    <a:pt x="146" y="4"/>
                  </a:lnTo>
                  <a:lnTo>
                    <a:pt x="146" y="2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d6e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Freeform 488"/>
            <p:cNvSpPr/>
            <p:nvPr/>
          </p:nvSpPr>
          <p:spPr>
            <a:xfrm>
              <a:off x="6113160" y="2917800"/>
              <a:ext cx="252360" cy="69372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693720"/>
                <a:gd name="textAreaBottom" fmla="*/ 693720 h 693720"/>
              </a:gdLst>
              <a:ahLst/>
              <a:rect l="textAreaLeft" t="textAreaTop" r="textAreaRight" b="textAreaBottom"/>
              <a:pathLst>
                <a:path w="150" h="412">
                  <a:moveTo>
                    <a:pt x="142" y="0"/>
                  </a:moveTo>
                  <a:lnTo>
                    <a:pt x="134" y="4"/>
                  </a:lnTo>
                  <a:lnTo>
                    <a:pt x="115" y="13"/>
                  </a:lnTo>
                  <a:lnTo>
                    <a:pt x="98" y="23"/>
                  </a:lnTo>
                  <a:lnTo>
                    <a:pt x="81" y="36"/>
                  </a:lnTo>
                  <a:lnTo>
                    <a:pt x="65" y="50"/>
                  </a:lnTo>
                  <a:lnTo>
                    <a:pt x="50" y="65"/>
                  </a:lnTo>
                  <a:lnTo>
                    <a:pt x="38" y="82"/>
                  </a:lnTo>
                  <a:lnTo>
                    <a:pt x="27" y="102"/>
                  </a:lnTo>
                  <a:lnTo>
                    <a:pt x="17" y="119"/>
                  </a:lnTo>
                  <a:lnTo>
                    <a:pt x="9" y="140"/>
                  </a:lnTo>
                  <a:lnTo>
                    <a:pt x="6" y="161"/>
                  </a:lnTo>
                  <a:lnTo>
                    <a:pt x="2" y="182"/>
                  </a:lnTo>
                  <a:lnTo>
                    <a:pt x="0" y="205"/>
                  </a:lnTo>
                  <a:lnTo>
                    <a:pt x="2" y="226"/>
                  </a:lnTo>
                  <a:lnTo>
                    <a:pt x="6" y="249"/>
                  </a:lnTo>
                  <a:lnTo>
                    <a:pt x="9" y="270"/>
                  </a:lnTo>
                  <a:lnTo>
                    <a:pt x="17" y="290"/>
                  </a:lnTo>
                  <a:lnTo>
                    <a:pt x="27" y="309"/>
                  </a:lnTo>
                  <a:lnTo>
                    <a:pt x="38" y="326"/>
                  </a:lnTo>
                  <a:lnTo>
                    <a:pt x="50" y="343"/>
                  </a:lnTo>
                  <a:lnTo>
                    <a:pt x="65" y="359"/>
                  </a:lnTo>
                  <a:lnTo>
                    <a:pt x="81" y="374"/>
                  </a:lnTo>
                  <a:lnTo>
                    <a:pt x="98" y="386"/>
                  </a:lnTo>
                  <a:lnTo>
                    <a:pt x="115" y="397"/>
                  </a:lnTo>
                  <a:lnTo>
                    <a:pt x="134" y="407"/>
                  </a:lnTo>
                  <a:lnTo>
                    <a:pt x="150" y="412"/>
                  </a:lnTo>
                  <a:lnTo>
                    <a:pt x="150" y="411"/>
                  </a:lnTo>
                  <a:lnTo>
                    <a:pt x="150" y="409"/>
                  </a:lnTo>
                  <a:lnTo>
                    <a:pt x="150" y="407"/>
                  </a:lnTo>
                  <a:lnTo>
                    <a:pt x="150" y="407"/>
                  </a:lnTo>
                  <a:lnTo>
                    <a:pt x="150" y="405"/>
                  </a:lnTo>
                  <a:lnTo>
                    <a:pt x="150" y="403"/>
                  </a:lnTo>
                  <a:lnTo>
                    <a:pt x="150" y="401"/>
                  </a:lnTo>
                  <a:lnTo>
                    <a:pt x="148" y="399"/>
                  </a:lnTo>
                  <a:lnTo>
                    <a:pt x="138" y="395"/>
                  </a:lnTo>
                  <a:lnTo>
                    <a:pt x="121" y="388"/>
                  </a:lnTo>
                  <a:lnTo>
                    <a:pt x="104" y="376"/>
                  </a:lnTo>
                  <a:lnTo>
                    <a:pt x="86" y="364"/>
                  </a:lnTo>
                  <a:lnTo>
                    <a:pt x="73" y="351"/>
                  </a:lnTo>
                  <a:lnTo>
                    <a:pt x="59" y="338"/>
                  </a:lnTo>
                  <a:lnTo>
                    <a:pt x="46" y="320"/>
                  </a:lnTo>
                  <a:lnTo>
                    <a:pt x="36" y="303"/>
                  </a:lnTo>
                  <a:lnTo>
                    <a:pt x="27" y="286"/>
                  </a:lnTo>
                  <a:lnTo>
                    <a:pt x="21" y="267"/>
                  </a:lnTo>
                  <a:lnTo>
                    <a:pt x="15" y="247"/>
                  </a:lnTo>
                  <a:lnTo>
                    <a:pt x="11" y="226"/>
                  </a:lnTo>
                  <a:lnTo>
                    <a:pt x="11" y="205"/>
                  </a:lnTo>
                  <a:lnTo>
                    <a:pt x="11" y="184"/>
                  </a:lnTo>
                  <a:lnTo>
                    <a:pt x="15" y="163"/>
                  </a:lnTo>
                  <a:lnTo>
                    <a:pt x="21" y="144"/>
                  </a:lnTo>
                  <a:lnTo>
                    <a:pt x="27" y="125"/>
                  </a:lnTo>
                  <a:lnTo>
                    <a:pt x="36" y="105"/>
                  </a:lnTo>
                  <a:lnTo>
                    <a:pt x="46" y="88"/>
                  </a:lnTo>
                  <a:lnTo>
                    <a:pt x="59" y="73"/>
                  </a:lnTo>
                  <a:lnTo>
                    <a:pt x="73" y="58"/>
                  </a:lnTo>
                  <a:lnTo>
                    <a:pt x="86" y="44"/>
                  </a:lnTo>
                  <a:lnTo>
                    <a:pt x="104" y="33"/>
                  </a:lnTo>
                  <a:lnTo>
                    <a:pt x="121" y="23"/>
                  </a:lnTo>
                  <a:lnTo>
                    <a:pt x="138" y="13"/>
                  </a:lnTo>
                  <a:lnTo>
                    <a:pt x="140" y="13"/>
                  </a:lnTo>
                  <a:lnTo>
                    <a:pt x="140" y="11"/>
                  </a:lnTo>
                  <a:lnTo>
                    <a:pt x="140" y="10"/>
                  </a:lnTo>
                  <a:lnTo>
                    <a:pt x="142" y="8"/>
                  </a:lnTo>
                  <a:lnTo>
                    <a:pt x="142" y="8"/>
                  </a:lnTo>
                  <a:lnTo>
                    <a:pt x="142" y="6"/>
                  </a:lnTo>
                  <a:lnTo>
                    <a:pt x="142" y="4"/>
                  </a:lnTo>
                  <a:lnTo>
                    <a:pt x="142" y="2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d7e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Freeform 489"/>
            <p:cNvSpPr/>
            <p:nvPr/>
          </p:nvSpPr>
          <p:spPr>
            <a:xfrm>
              <a:off x="6123240" y="2931480"/>
              <a:ext cx="242280" cy="671760"/>
            </a:xfrm>
            <a:custGeom>
              <a:avLst/>
              <a:gdLst>
                <a:gd name="textAreaLeft" fmla="*/ 0 w 242280"/>
                <a:gd name="textAreaRight" fmla="*/ 242640 w 242280"/>
                <a:gd name="textAreaTop" fmla="*/ 0 h 671760"/>
                <a:gd name="textAreaBottom" fmla="*/ 672120 h 671760"/>
              </a:gdLst>
              <a:ahLst/>
              <a:rect l="textAreaLeft" t="textAreaTop" r="textAreaRight" b="textAreaBottom"/>
              <a:pathLst>
                <a:path w="144" h="399">
                  <a:moveTo>
                    <a:pt x="136" y="0"/>
                  </a:moveTo>
                  <a:lnTo>
                    <a:pt x="130" y="2"/>
                  </a:lnTo>
                  <a:lnTo>
                    <a:pt x="111" y="9"/>
                  </a:lnTo>
                  <a:lnTo>
                    <a:pt x="94" y="21"/>
                  </a:lnTo>
                  <a:lnTo>
                    <a:pt x="78" y="32"/>
                  </a:lnTo>
                  <a:lnTo>
                    <a:pt x="63" y="46"/>
                  </a:lnTo>
                  <a:lnTo>
                    <a:pt x="48" y="61"/>
                  </a:lnTo>
                  <a:lnTo>
                    <a:pt x="36" y="78"/>
                  </a:lnTo>
                  <a:lnTo>
                    <a:pt x="27" y="96"/>
                  </a:lnTo>
                  <a:lnTo>
                    <a:pt x="17" y="115"/>
                  </a:lnTo>
                  <a:lnTo>
                    <a:pt x="9" y="134"/>
                  </a:lnTo>
                  <a:lnTo>
                    <a:pt x="3" y="153"/>
                  </a:lnTo>
                  <a:lnTo>
                    <a:pt x="2" y="174"/>
                  </a:lnTo>
                  <a:lnTo>
                    <a:pt x="0" y="197"/>
                  </a:lnTo>
                  <a:lnTo>
                    <a:pt x="2" y="218"/>
                  </a:lnTo>
                  <a:lnTo>
                    <a:pt x="3" y="239"/>
                  </a:lnTo>
                  <a:lnTo>
                    <a:pt x="9" y="261"/>
                  </a:lnTo>
                  <a:lnTo>
                    <a:pt x="17" y="280"/>
                  </a:lnTo>
                  <a:lnTo>
                    <a:pt x="27" y="299"/>
                  </a:lnTo>
                  <a:lnTo>
                    <a:pt x="36" y="316"/>
                  </a:lnTo>
                  <a:lnTo>
                    <a:pt x="48" y="332"/>
                  </a:lnTo>
                  <a:lnTo>
                    <a:pt x="63" y="347"/>
                  </a:lnTo>
                  <a:lnTo>
                    <a:pt x="78" y="360"/>
                  </a:lnTo>
                  <a:lnTo>
                    <a:pt x="94" y="374"/>
                  </a:lnTo>
                  <a:lnTo>
                    <a:pt x="111" y="383"/>
                  </a:lnTo>
                  <a:lnTo>
                    <a:pt x="130" y="393"/>
                  </a:lnTo>
                  <a:lnTo>
                    <a:pt x="144" y="399"/>
                  </a:lnTo>
                  <a:lnTo>
                    <a:pt x="144" y="397"/>
                  </a:lnTo>
                  <a:lnTo>
                    <a:pt x="144" y="395"/>
                  </a:lnTo>
                  <a:lnTo>
                    <a:pt x="144" y="393"/>
                  </a:lnTo>
                  <a:lnTo>
                    <a:pt x="142" y="391"/>
                  </a:lnTo>
                  <a:lnTo>
                    <a:pt x="142" y="391"/>
                  </a:lnTo>
                  <a:lnTo>
                    <a:pt x="142" y="389"/>
                  </a:lnTo>
                  <a:lnTo>
                    <a:pt x="142" y="387"/>
                  </a:lnTo>
                  <a:lnTo>
                    <a:pt x="142" y="385"/>
                  </a:lnTo>
                  <a:lnTo>
                    <a:pt x="134" y="383"/>
                  </a:lnTo>
                  <a:lnTo>
                    <a:pt x="117" y="374"/>
                  </a:lnTo>
                  <a:lnTo>
                    <a:pt x="99" y="364"/>
                  </a:lnTo>
                  <a:lnTo>
                    <a:pt x="84" y="353"/>
                  </a:lnTo>
                  <a:lnTo>
                    <a:pt x="71" y="339"/>
                  </a:lnTo>
                  <a:lnTo>
                    <a:pt x="57" y="326"/>
                  </a:lnTo>
                  <a:lnTo>
                    <a:pt x="46" y="310"/>
                  </a:lnTo>
                  <a:lnTo>
                    <a:pt x="34" y="293"/>
                  </a:lnTo>
                  <a:lnTo>
                    <a:pt x="27" y="276"/>
                  </a:lnTo>
                  <a:lnTo>
                    <a:pt x="19" y="257"/>
                  </a:lnTo>
                  <a:lnTo>
                    <a:pt x="15" y="238"/>
                  </a:lnTo>
                  <a:lnTo>
                    <a:pt x="11" y="218"/>
                  </a:lnTo>
                  <a:lnTo>
                    <a:pt x="11" y="197"/>
                  </a:lnTo>
                  <a:lnTo>
                    <a:pt x="11" y="176"/>
                  </a:lnTo>
                  <a:lnTo>
                    <a:pt x="15" y="157"/>
                  </a:lnTo>
                  <a:lnTo>
                    <a:pt x="19" y="136"/>
                  </a:lnTo>
                  <a:lnTo>
                    <a:pt x="27" y="119"/>
                  </a:lnTo>
                  <a:lnTo>
                    <a:pt x="34" y="101"/>
                  </a:lnTo>
                  <a:lnTo>
                    <a:pt x="46" y="84"/>
                  </a:lnTo>
                  <a:lnTo>
                    <a:pt x="57" y="69"/>
                  </a:lnTo>
                  <a:lnTo>
                    <a:pt x="71" y="53"/>
                  </a:lnTo>
                  <a:lnTo>
                    <a:pt x="84" y="40"/>
                  </a:lnTo>
                  <a:lnTo>
                    <a:pt x="99" y="28"/>
                  </a:lnTo>
                  <a:lnTo>
                    <a:pt x="117" y="19"/>
                  </a:lnTo>
                  <a:lnTo>
                    <a:pt x="134" y="11"/>
                  </a:lnTo>
                  <a:lnTo>
                    <a:pt x="134" y="9"/>
                  </a:lnTo>
                  <a:lnTo>
                    <a:pt x="134" y="7"/>
                  </a:lnTo>
                  <a:lnTo>
                    <a:pt x="134" y="5"/>
                  </a:lnTo>
                  <a:lnTo>
                    <a:pt x="134" y="5"/>
                  </a:lnTo>
                  <a:lnTo>
                    <a:pt x="134" y="3"/>
                  </a:lnTo>
                  <a:lnTo>
                    <a:pt x="134" y="2"/>
                  </a:lnTo>
                  <a:lnTo>
                    <a:pt x="136" y="0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d8e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Freeform 490"/>
            <p:cNvSpPr/>
            <p:nvPr/>
          </p:nvSpPr>
          <p:spPr>
            <a:xfrm>
              <a:off x="6131880" y="2940120"/>
              <a:ext cx="230400" cy="649800"/>
            </a:xfrm>
            <a:custGeom>
              <a:avLst/>
              <a:gdLst>
                <a:gd name="textAreaLeft" fmla="*/ 0 w 230400"/>
                <a:gd name="textAreaRight" fmla="*/ 230760 w 230400"/>
                <a:gd name="textAreaTop" fmla="*/ 0 h 649800"/>
                <a:gd name="textAreaBottom" fmla="*/ 650160 h 649800"/>
              </a:gdLst>
              <a:ahLst/>
              <a:rect l="textAreaLeft" t="textAreaTop" r="textAreaRight" b="textAreaBottom"/>
              <a:pathLst>
                <a:path w="137" h="386">
                  <a:moveTo>
                    <a:pt x="129" y="0"/>
                  </a:moveTo>
                  <a:lnTo>
                    <a:pt x="127" y="0"/>
                  </a:lnTo>
                  <a:lnTo>
                    <a:pt x="110" y="10"/>
                  </a:lnTo>
                  <a:lnTo>
                    <a:pt x="93" y="20"/>
                  </a:lnTo>
                  <a:lnTo>
                    <a:pt x="75" y="31"/>
                  </a:lnTo>
                  <a:lnTo>
                    <a:pt x="62" y="45"/>
                  </a:lnTo>
                  <a:lnTo>
                    <a:pt x="48" y="60"/>
                  </a:lnTo>
                  <a:lnTo>
                    <a:pt x="35" y="75"/>
                  </a:lnTo>
                  <a:lnTo>
                    <a:pt x="25" y="92"/>
                  </a:lnTo>
                  <a:lnTo>
                    <a:pt x="16" y="112"/>
                  </a:lnTo>
                  <a:lnTo>
                    <a:pt x="10" y="131"/>
                  </a:lnTo>
                  <a:lnTo>
                    <a:pt x="4" y="150"/>
                  </a:lnTo>
                  <a:lnTo>
                    <a:pt x="0" y="171"/>
                  </a:lnTo>
                  <a:lnTo>
                    <a:pt x="0" y="192"/>
                  </a:lnTo>
                  <a:lnTo>
                    <a:pt x="0" y="213"/>
                  </a:lnTo>
                  <a:lnTo>
                    <a:pt x="4" y="234"/>
                  </a:lnTo>
                  <a:lnTo>
                    <a:pt x="10" y="254"/>
                  </a:lnTo>
                  <a:lnTo>
                    <a:pt x="16" y="273"/>
                  </a:lnTo>
                  <a:lnTo>
                    <a:pt x="25" y="290"/>
                  </a:lnTo>
                  <a:lnTo>
                    <a:pt x="35" y="307"/>
                  </a:lnTo>
                  <a:lnTo>
                    <a:pt x="48" y="325"/>
                  </a:lnTo>
                  <a:lnTo>
                    <a:pt x="62" y="338"/>
                  </a:lnTo>
                  <a:lnTo>
                    <a:pt x="75" y="351"/>
                  </a:lnTo>
                  <a:lnTo>
                    <a:pt x="93" y="363"/>
                  </a:lnTo>
                  <a:lnTo>
                    <a:pt x="110" y="375"/>
                  </a:lnTo>
                  <a:lnTo>
                    <a:pt x="127" y="382"/>
                  </a:lnTo>
                  <a:lnTo>
                    <a:pt x="137" y="386"/>
                  </a:lnTo>
                  <a:lnTo>
                    <a:pt x="137" y="386"/>
                  </a:lnTo>
                  <a:lnTo>
                    <a:pt x="137" y="384"/>
                  </a:lnTo>
                  <a:lnTo>
                    <a:pt x="137" y="382"/>
                  </a:lnTo>
                  <a:lnTo>
                    <a:pt x="137" y="380"/>
                  </a:lnTo>
                  <a:lnTo>
                    <a:pt x="137" y="380"/>
                  </a:lnTo>
                  <a:lnTo>
                    <a:pt x="137" y="378"/>
                  </a:lnTo>
                  <a:lnTo>
                    <a:pt x="137" y="376"/>
                  </a:lnTo>
                  <a:lnTo>
                    <a:pt x="135" y="375"/>
                  </a:lnTo>
                  <a:lnTo>
                    <a:pt x="131" y="373"/>
                  </a:lnTo>
                  <a:lnTo>
                    <a:pt x="114" y="365"/>
                  </a:lnTo>
                  <a:lnTo>
                    <a:pt x="98" y="355"/>
                  </a:lnTo>
                  <a:lnTo>
                    <a:pt x="83" y="344"/>
                  </a:lnTo>
                  <a:lnTo>
                    <a:pt x="70" y="330"/>
                  </a:lnTo>
                  <a:lnTo>
                    <a:pt x="56" y="317"/>
                  </a:lnTo>
                  <a:lnTo>
                    <a:pt x="45" y="302"/>
                  </a:lnTo>
                  <a:lnTo>
                    <a:pt x="35" y="286"/>
                  </a:lnTo>
                  <a:lnTo>
                    <a:pt x="27" y="269"/>
                  </a:lnTo>
                  <a:lnTo>
                    <a:pt x="20" y="250"/>
                  </a:lnTo>
                  <a:lnTo>
                    <a:pt x="16" y="231"/>
                  </a:lnTo>
                  <a:lnTo>
                    <a:pt x="12" y="211"/>
                  </a:lnTo>
                  <a:lnTo>
                    <a:pt x="10" y="192"/>
                  </a:lnTo>
                  <a:lnTo>
                    <a:pt x="12" y="171"/>
                  </a:lnTo>
                  <a:lnTo>
                    <a:pt x="16" y="152"/>
                  </a:lnTo>
                  <a:lnTo>
                    <a:pt x="20" y="133"/>
                  </a:lnTo>
                  <a:lnTo>
                    <a:pt x="27" y="115"/>
                  </a:lnTo>
                  <a:lnTo>
                    <a:pt x="35" y="98"/>
                  </a:lnTo>
                  <a:lnTo>
                    <a:pt x="45" y="81"/>
                  </a:lnTo>
                  <a:lnTo>
                    <a:pt x="56" y="66"/>
                  </a:lnTo>
                  <a:lnTo>
                    <a:pt x="70" y="52"/>
                  </a:lnTo>
                  <a:lnTo>
                    <a:pt x="83" y="41"/>
                  </a:lnTo>
                  <a:lnTo>
                    <a:pt x="98" y="29"/>
                  </a:lnTo>
                  <a:lnTo>
                    <a:pt x="114" y="20"/>
                  </a:lnTo>
                  <a:lnTo>
                    <a:pt x="129" y="12"/>
                  </a:lnTo>
                  <a:lnTo>
                    <a:pt x="129" y="10"/>
                  </a:lnTo>
                  <a:lnTo>
                    <a:pt x="129" y="8"/>
                  </a:lnTo>
                  <a:lnTo>
                    <a:pt x="129" y="8"/>
                  </a:lnTo>
                  <a:lnTo>
                    <a:pt x="129" y="6"/>
                  </a:lnTo>
                  <a:lnTo>
                    <a:pt x="129" y="4"/>
                  </a:lnTo>
                  <a:lnTo>
                    <a:pt x="129" y="2"/>
                  </a:lnTo>
                  <a:lnTo>
                    <a:pt x="129" y="0"/>
                  </a:lnTo>
                  <a:lnTo>
                    <a:pt x="129" y="0"/>
                  </a:lnTo>
                  <a:close/>
                </a:path>
              </a:pathLst>
            </a:custGeom>
            <a:solidFill>
              <a:srgbClr val="d9e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Freeform 491"/>
            <p:cNvSpPr/>
            <p:nvPr/>
          </p:nvSpPr>
          <p:spPr>
            <a:xfrm>
              <a:off x="6141600" y="2950200"/>
              <a:ext cx="220680" cy="62964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629640"/>
                <a:gd name="textAreaBottom" fmla="*/ 629640 h 629640"/>
              </a:gdLst>
              <a:ahLst/>
              <a:rect l="textAreaLeft" t="textAreaTop" r="textAreaRight" b="textAreaBottom"/>
              <a:pathLst>
                <a:path w="131" h="374">
                  <a:moveTo>
                    <a:pt x="123" y="0"/>
                  </a:moveTo>
                  <a:lnTo>
                    <a:pt x="106" y="8"/>
                  </a:lnTo>
                  <a:lnTo>
                    <a:pt x="88" y="17"/>
                  </a:lnTo>
                  <a:lnTo>
                    <a:pt x="73" y="29"/>
                  </a:lnTo>
                  <a:lnTo>
                    <a:pt x="60" y="42"/>
                  </a:lnTo>
                  <a:lnTo>
                    <a:pt x="46" y="58"/>
                  </a:lnTo>
                  <a:lnTo>
                    <a:pt x="35" y="73"/>
                  </a:lnTo>
                  <a:lnTo>
                    <a:pt x="23" y="90"/>
                  </a:lnTo>
                  <a:lnTo>
                    <a:pt x="16" y="108"/>
                  </a:lnTo>
                  <a:lnTo>
                    <a:pt x="8" y="125"/>
                  </a:lnTo>
                  <a:lnTo>
                    <a:pt x="4" y="146"/>
                  </a:lnTo>
                  <a:lnTo>
                    <a:pt x="0" y="165"/>
                  </a:lnTo>
                  <a:lnTo>
                    <a:pt x="0" y="186"/>
                  </a:lnTo>
                  <a:lnTo>
                    <a:pt x="0" y="207"/>
                  </a:lnTo>
                  <a:lnTo>
                    <a:pt x="4" y="227"/>
                  </a:lnTo>
                  <a:lnTo>
                    <a:pt x="8" y="246"/>
                  </a:lnTo>
                  <a:lnTo>
                    <a:pt x="16" y="265"/>
                  </a:lnTo>
                  <a:lnTo>
                    <a:pt x="23" y="282"/>
                  </a:lnTo>
                  <a:lnTo>
                    <a:pt x="35" y="299"/>
                  </a:lnTo>
                  <a:lnTo>
                    <a:pt x="46" y="315"/>
                  </a:lnTo>
                  <a:lnTo>
                    <a:pt x="60" y="328"/>
                  </a:lnTo>
                  <a:lnTo>
                    <a:pt x="73" y="342"/>
                  </a:lnTo>
                  <a:lnTo>
                    <a:pt x="88" y="353"/>
                  </a:lnTo>
                  <a:lnTo>
                    <a:pt x="106" y="363"/>
                  </a:lnTo>
                  <a:lnTo>
                    <a:pt x="123" y="372"/>
                  </a:lnTo>
                  <a:lnTo>
                    <a:pt x="131" y="374"/>
                  </a:lnTo>
                  <a:lnTo>
                    <a:pt x="131" y="374"/>
                  </a:lnTo>
                  <a:lnTo>
                    <a:pt x="131" y="372"/>
                  </a:lnTo>
                  <a:lnTo>
                    <a:pt x="131" y="370"/>
                  </a:lnTo>
                  <a:lnTo>
                    <a:pt x="129" y="369"/>
                  </a:lnTo>
                  <a:lnTo>
                    <a:pt x="129" y="367"/>
                  </a:lnTo>
                  <a:lnTo>
                    <a:pt x="129" y="367"/>
                  </a:lnTo>
                  <a:lnTo>
                    <a:pt x="129" y="365"/>
                  </a:lnTo>
                  <a:lnTo>
                    <a:pt x="129" y="363"/>
                  </a:lnTo>
                  <a:lnTo>
                    <a:pt x="127" y="363"/>
                  </a:lnTo>
                  <a:lnTo>
                    <a:pt x="110" y="355"/>
                  </a:lnTo>
                  <a:lnTo>
                    <a:pt x="94" y="345"/>
                  </a:lnTo>
                  <a:lnTo>
                    <a:pt x="81" y="334"/>
                  </a:lnTo>
                  <a:lnTo>
                    <a:pt x="65" y="321"/>
                  </a:lnTo>
                  <a:lnTo>
                    <a:pt x="54" y="307"/>
                  </a:lnTo>
                  <a:lnTo>
                    <a:pt x="42" y="294"/>
                  </a:lnTo>
                  <a:lnTo>
                    <a:pt x="33" y="276"/>
                  </a:lnTo>
                  <a:lnTo>
                    <a:pt x="25" y="261"/>
                  </a:lnTo>
                  <a:lnTo>
                    <a:pt x="19" y="242"/>
                  </a:lnTo>
                  <a:lnTo>
                    <a:pt x="14" y="225"/>
                  </a:lnTo>
                  <a:lnTo>
                    <a:pt x="12" y="205"/>
                  </a:lnTo>
                  <a:lnTo>
                    <a:pt x="10" y="186"/>
                  </a:lnTo>
                  <a:lnTo>
                    <a:pt x="12" y="167"/>
                  </a:lnTo>
                  <a:lnTo>
                    <a:pt x="14" y="148"/>
                  </a:lnTo>
                  <a:lnTo>
                    <a:pt x="19" y="129"/>
                  </a:lnTo>
                  <a:lnTo>
                    <a:pt x="25" y="111"/>
                  </a:lnTo>
                  <a:lnTo>
                    <a:pt x="33" y="94"/>
                  </a:lnTo>
                  <a:lnTo>
                    <a:pt x="42" y="79"/>
                  </a:lnTo>
                  <a:lnTo>
                    <a:pt x="54" y="63"/>
                  </a:lnTo>
                  <a:lnTo>
                    <a:pt x="65" y="50"/>
                  </a:lnTo>
                  <a:lnTo>
                    <a:pt x="81" y="39"/>
                  </a:lnTo>
                  <a:lnTo>
                    <a:pt x="94" y="27"/>
                  </a:lnTo>
                  <a:lnTo>
                    <a:pt x="110" y="17"/>
                  </a:lnTo>
                  <a:lnTo>
                    <a:pt x="121" y="12"/>
                  </a:lnTo>
                  <a:lnTo>
                    <a:pt x="121" y="10"/>
                  </a:lnTo>
                  <a:lnTo>
                    <a:pt x="121" y="10"/>
                  </a:lnTo>
                  <a:lnTo>
                    <a:pt x="121" y="8"/>
                  </a:lnTo>
                  <a:lnTo>
                    <a:pt x="123" y="6"/>
                  </a:lnTo>
                  <a:lnTo>
                    <a:pt x="123" y="4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daf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Freeform 492"/>
            <p:cNvSpPr/>
            <p:nvPr/>
          </p:nvSpPr>
          <p:spPr>
            <a:xfrm>
              <a:off x="6148800" y="2959920"/>
              <a:ext cx="210240" cy="611280"/>
            </a:xfrm>
            <a:custGeom>
              <a:avLst/>
              <a:gdLst>
                <a:gd name="textAreaLeft" fmla="*/ 0 w 210240"/>
                <a:gd name="textAreaRight" fmla="*/ 210600 w 210240"/>
                <a:gd name="textAreaTop" fmla="*/ 0 h 611280"/>
                <a:gd name="textAreaBottom" fmla="*/ 611640 h 611280"/>
              </a:gdLst>
              <a:ahLst/>
              <a:rect l="textAreaLeft" t="textAreaTop" r="textAreaRight" b="textAreaBottom"/>
              <a:pathLst>
                <a:path w="125" h="363">
                  <a:moveTo>
                    <a:pt x="119" y="0"/>
                  </a:moveTo>
                  <a:lnTo>
                    <a:pt x="104" y="8"/>
                  </a:lnTo>
                  <a:lnTo>
                    <a:pt x="88" y="17"/>
                  </a:lnTo>
                  <a:lnTo>
                    <a:pt x="73" y="29"/>
                  </a:lnTo>
                  <a:lnTo>
                    <a:pt x="60" y="40"/>
                  </a:lnTo>
                  <a:lnTo>
                    <a:pt x="46" y="54"/>
                  </a:lnTo>
                  <a:lnTo>
                    <a:pt x="35" y="69"/>
                  </a:lnTo>
                  <a:lnTo>
                    <a:pt x="25" y="86"/>
                  </a:lnTo>
                  <a:lnTo>
                    <a:pt x="17" y="103"/>
                  </a:lnTo>
                  <a:lnTo>
                    <a:pt x="10" y="121"/>
                  </a:lnTo>
                  <a:lnTo>
                    <a:pt x="6" y="140"/>
                  </a:lnTo>
                  <a:lnTo>
                    <a:pt x="2" y="159"/>
                  </a:lnTo>
                  <a:lnTo>
                    <a:pt x="0" y="180"/>
                  </a:lnTo>
                  <a:lnTo>
                    <a:pt x="2" y="199"/>
                  </a:lnTo>
                  <a:lnTo>
                    <a:pt x="6" y="219"/>
                  </a:lnTo>
                  <a:lnTo>
                    <a:pt x="10" y="238"/>
                  </a:lnTo>
                  <a:lnTo>
                    <a:pt x="17" y="257"/>
                  </a:lnTo>
                  <a:lnTo>
                    <a:pt x="25" y="274"/>
                  </a:lnTo>
                  <a:lnTo>
                    <a:pt x="35" y="290"/>
                  </a:lnTo>
                  <a:lnTo>
                    <a:pt x="46" y="305"/>
                  </a:lnTo>
                  <a:lnTo>
                    <a:pt x="60" y="318"/>
                  </a:lnTo>
                  <a:lnTo>
                    <a:pt x="73" y="332"/>
                  </a:lnTo>
                  <a:lnTo>
                    <a:pt x="88" y="343"/>
                  </a:lnTo>
                  <a:lnTo>
                    <a:pt x="104" y="353"/>
                  </a:lnTo>
                  <a:lnTo>
                    <a:pt x="121" y="361"/>
                  </a:lnTo>
                  <a:lnTo>
                    <a:pt x="125" y="363"/>
                  </a:lnTo>
                  <a:lnTo>
                    <a:pt x="125" y="361"/>
                  </a:lnTo>
                  <a:lnTo>
                    <a:pt x="125" y="361"/>
                  </a:lnTo>
                  <a:lnTo>
                    <a:pt x="125" y="359"/>
                  </a:lnTo>
                  <a:lnTo>
                    <a:pt x="125" y="357"/>
                  </a:lnTo>
                  <a:lnTo>
                    <a:pt x="125" y="355"/>
                  </a:lnTo>
                  <a:lnTo>
                    <a:pt x="125" y="353"/>
                  </a:lnTo>
                  <a:lnTo>
                    <a:pt x="125" y="353"/>
                  </a:lnTo>
                  <a:lnTo>
                    <a:pt x="123" y="351"/>
                  </a:lnTo>
                  <a:lnTo>
                    <a:pt x="109" y="343"/>
                  </a:lnTo>
                  <a:lnTo>
                    <a:pt x="94" y="334"/>
                  </a:lnTo>
                  <a:lnTo>
                    <a:pt x="79" y="324"/>
                  </a:lnTo>
                  <a:lnTo>
                    <a:pt x="65" y="311"/>
                  </a:lnTo>
                  <a:lnTo>
                    <a:pt x="54" y="299"/>
                  </a:lnTo>
                  <a:lnTo>
                    <a:pt x="44" y="284"/>
                  </a:lnTo>
                  <a:lnTo>
                    <a:pt x="35" y="268"/>
                  </a:lnTo>
                  <a:lnTo>
                    <a:pt x="27" y="253"/>
                  </a:lnTo>
                  <a:lnTo>
                    <a:pt x="19" y="236"/>
                  </a:lnTo>
                  <a:lnTo>
                    <a:pt x="15" y="217"/>
                  </a:lnTo>
                  <a:lnTo>
                    <a:pt x="13" y="199"/>
                  </a:lnTo>
                  <a:lnTo>
                    <a:pt x="12" y="180"/>
                  </a:lnTo>
                  <a:lnTo>
                    <a:pt x="13" y="161"/>
                  </a:lnTo>
                  <a:lnTo>
                    <a:pt x="15" y="142"/>
                  </a:lnTo>
                  <a:lnTo>
                    <a:pt x="19" y="125"/>
                  </a:lnTo>
                  <a:lnTo>
                    <a:pt x="27" y="107"/>
                  </a:lnTo>
                  <a:lnTo>
                    <a:pt x="35" y="90"/>
                  </a:lnTo>
                  <a:lnTo>
                    <a:pt x="44" y="75"/>
                  </a:lnTo>
                  <a:lnTo>
                    <a:pt x="54" y="61"/>
                  </a:lnTo>
                  <a:lnTo>
                    <a:pt x="65" y="48"/>
                  </a:lnTo>
                  <a:lnTo>
                    <a:pt x="79" y="36"/>
                  </a:lnTo>
                  <a:lnTo>
                    <a:pt x="94" y="25"/>
                  </a:lnTo>
                  <a:lnTo>
                    <a:pt x="109" y="15"/>
                  </a:lnTo>
                  <a:lnTo>
                    <a:pt x="117" y="11"/>
                  </a:lnTo>
                  <a:lnTo>
                    <a:pt x="117" y="11"/>
                  </a:lnTo>
                  <a:lnTo>
                    <a:pt x="117" y="9"/>
                  </a:lnTo>
                  <a:lnTo>
                    <a:pt x="117" y="8"/>
                  </a:lnTo>
                  <a:lnTo>
                    <a:pt x="117" y="6"/>
                  </a:lnTo>
                  <a:lnTo>
                    <a:pt x="117" y="4"/>
                  </a:lnTo>
                  <a:lnTo>
                    <a:pt x="117" y="4"/>
                  </a:lnTo>
                  <a:lnTo>
                    <a:pt x="117" y="2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dbf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Freeform 493"/>
            <p:cNvSpPr/>
            <p:nvPr/>
          </p:nvSpPr>
          <p:spPr>
            <a:xfrm>
              <a:off x="6158520" y="2970360"/>
              <a:ext cx="200160" cy="59076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590760"/>
                <a:gd name="textAreaBottom" fmla="*/ 590760 h 590760"/>
              </a:gdLst>
              <a:ahLst/>
              <a:rect l="textAreaLeft" t="textAreaTop" r="textAreaRight" b="textAreaBottom"/>
              <a:pathLst>
                <a:path w="119" h="351">
                  <a:moveTo>
                    <a:pt x="111" y="0"/>
                  </a:moveTo>
                  <a:lnTo>
                    <a:pt x="100" y="5"/>
                  </a:lnTo>
                  <a:lnTo>
                    <a:pt x="84" y="15"/>
                  </a:lnTo>
                  <a:lnTo>
                    <a:pt x="71" y="27"/>
                  </a:lnTo>
                  <a:lnTo>
                    <a:pt x="55" y="38"/>
                  </a:lnTo>
                  <a:lnTo>
                    <a:pt x="44" y="51"/>
                  </a:lnTo>
                  <a:lnTo>
                    <a:pt x="32" y="67"/>
                  </a:lnTo>
                  <a:lnTo>
                    <a:pt x="23" y="82"/>
                  </a:lnTo>
                  <a:lnTo>
                    <a:pt x="15" y="99"/>
                  </a:lnTo>
                  <a:lnTo>
                    <a:pt x="9" y="117"/>
                  </a:lnTo>
                  <a:lnTo>
                    <a:pt x="4" y="136"/>
                  </a:lnTo>
                  <a:lnTo>
                    <a:pt x="2" y="155"/>
                  </a:lnTo>
                  <a:lnTo>
                    <a:pt x="0" y="174"/>
                  </a:lnTo>
                  <a:lnTo>
                    <a:pt x="2" y="193"/>
                  </a:lnTo>
                  <a:lnTo>
                    <a:pt x="4" y="213"/>
                  </a:lnTo>
                  <a:lnTo>
                    <a:pt x="9" y="230"/>
                  </a:lnTo>
                  <a:lnTo>
                    <a:pt x="15" y="249"/>
                  </a:lnTo>
                  <a:lnTo>
                    <a:pt x="23" y="264"/>
                  </a:lnTo>
                  <a:lnTo>
                    <a:pt x="32" y="282"/>
                  </a:lnTo>
                  <a:lnTo>
                    <a:pt x="44" y="295"/>
                  </a:lnTo>
                  <a:lnTo>
                    <a:pt x="55" y="309"/>
                  </a:lnTo>
                  <a:lnTo>
                    <a:pt x="71" y="322"/>
                  </a:lnTo>
                  <a:lnTo>
                    <a:pt x="84" y="333"/>
                  </a:lnTo>
                  <a:lnTo>
                    <a:pt x="100" y="343"/>
                  </a:lnTo>
                  <a:lnTo>
                    <a:pt x="117" y="351"/>
                  </a:lnTo>
                  <a:lnTo>
                    <a:pt x="119" y="351"/>
                  </a:lnTo>
                  <a:lnTo>
                    <a:pt x="119" y="349"/>
                  </a:lnTo>
                  <a:lnTo>
                    <a:pt x="119" y="347"/>
                  </a:lnTo>
                  <a:lnTo>
                    <a:pt x="119" y="347"/>
                  </a:lnTo>
                  <a:lnTo>
                    <a:pt x="119" y="345"/>
                  </a:lnTo>
                  <a:lnTo>
                    <a:pt x="117" y="343"/>
                  </a:lnTo>
                  <a:lnTo>
                    <a:pt x="117" y="341"/>
                  </a:lnTo>
                  <a:lnTo>
                    <a:pt x="117" y="339"/>
                  </a:lnTo>
                  <a:lnTo>
                    <a:pt x="117" y="339"/>
                  </a:lnTo>
                  <a:lnTo>
                    <a:pt x="105" y="333"/>
                  </a:lnTo>
                  <a:lnTo>
                    <a:pt x="90" y="324"/>
                  </a:lnTo>
                  <a:lnTo>
                    <a:pt x="77" y="314"/>
                  </a:lnTo>
                  <a:lnTo>
                    <a:pt x="63" y="301"/>
                  </a:lnTo>
                  <a:lnTo>
                    <a:pt x="52" y="289"/>
                  </a:lnTo>
                  <a:lnTo>
                    <a:pt x="42" y="274"/>
                  </a:lnTo>
                  <a:lnTo>
                    <a:pt x="32" y="261"/>
                  </a:lnTo>
                  <a:lnTo>
                    <a:pt x="25" y="243"/>
                  </a:lnTo>
                  <a:lnTo>
                    <a:pt x="19" y="228"/>
                  </a:lnTo>
                  <a:lnTo>
                    <a:pt x="15" y="211"/>
                  </a:lnTo>
                  <a:lnTo>
                    <a:pt x="11" y="192"/>
                  </a:lnTo>
                  <a:lnTo>
                    <a:pt x="11" y="174"/>
                  </a:lnTo>
                  <a:lnTo>
                    <a:pt x="11" y="155"/>
                  </a:lnTo>
                  <a:lnTo>
                    <a:pt x="15" y="138"/>
                  </a:lnTo>
                  <a:lnTo>
                    <a:pt x="19" y="121"/>
                  </a:lnTo>
                  <a:lnTo>
                    <a:pt x="25" y="103"/>
                  </a:lnTo>
                  <a:lnTo>
                    <a:pt x="32" y="88"/>
                  </a:lnTo>
                  <a:lnTo>
                    <a:pt x="42" y="73"/>
                  </a:lnTo>
                  <a:lnTo>
                    <a:pt x="52" y="59"/>
                  </a:lnTo>
                  <a:lnTo>
                    <a:pt x="63" y="46"/>
                  </a:lnTo>
                  <a:lnTo>
                    <a:pt x="77" y="34"/>
                  </a:lnTo>
                  <a:lnTo>
                    <a:pt x="90" y="25"/>
                  </a:lnTo>
                  <a:lnTo>
                    <a:pt x="105" y="15"/>
                  </a:lnTo>
                  <a:lnTo>
                    <a:pt x="109" y="13"/>
                  </a:lnTo>
                  <a:lnTo>
                    <a:pt x="111" y="11"/>
                  </a:lnTo>
                  <a:lnTo>
                    <a:pt x="111" y="9"/>
                  </a:lnTo>
                  <a:lnTo>
                    <a:pt x="111" y="7"/>
                  </a:lnTo>
                  <a:lnTo>
                    <a:pt x="111" y="5"/>
                  </a:lnTo>
                  <a:lnTo>
                    <a:pt x="111" y="5"/>
                  </a:lnTo>
                  <a:lnTo>
                    <a:pt x="111" y="3"/>
                  </a:lnTo>
                  <a:lnTo>
                    <a:pt x="111" y="2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dcf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Freeform 494"/>
            <p:cNvSpPr/>
            <p:nvPr/>
          </p:nvSpPr>
          <p:spPr>
            <a:xfrm>
              <a:off x="6168960" y="2978640"/>
              <a:ext cx="186480" cy="572400"/>
            </a:xfrm>
            <a:custGeom>
              <a:avLst/>
              <a:gdLst>
                <a:gd name="textAreaLeft" fmla="*/ 0 w 186480"/>
                <a:gd name="textAreaRight" fmla="*/ 186840 w 186480"/>
                <a:gd name="textAreaTop" fmla="*/ 0 h 572400"/>
                <a:gd name="textAreaBottom" fmla="*/ 572760 h 572400"/>
              </a:gdLst>
              <a:ahLst/>
              <a:rect l="textAreaLeft" t="textAreaTop" r="textAreaRight" b="textAreaBottom"/>
              <a:pathLst>
                <a:path w="111" h="340">
                  <a:moveTo>
                    <a:pt x="105" y="0"/>
                  </a:moveTo>
                  <a:lnTo>
                    <a:pt x="97" y="4"/>
                  </a:lnTo>
                  <a:lnTo>
                    <a:pt x="82" y="14"/>
                  </a:lnTo>
                  <a:lnTo>
                    <a:pt x="67" y="25"/>
                  </a:lnTo>
                  <a:lnTo>
                    <a:pt x="53" y="37"/>
                  </a:lnTo>
                  <a:lnTo>
                    <a:pt x="42" y="50"/>
                  </a:lnTo>
                  <a:lnTo>
                    <a:pt x="32" y="64"/>
                  </a:lnTo>
                  <a:lnTo>
                    <a:pt x="23" y="79"/>
                  </a:lnTo>
                  <a:lnTo>
                    <a:pt x="15" y="96"/>
                  </a:lnTo>
                  <a:lnTo>
                    <a:pt x="7" y="114"/>
                  </a:lnTo>
                  <a:lnTo>
                    <a:pt x="3" y="131"/>
                  </a:lnTo>
                  <a:lnTo>
                    <a:pt x="1" y="150"/>
                  </a:lnTo>
                  <a:lnTo>
                    <a:pt x="0" y="169"/>
                  </a:lnTo>
                  <a:lnTo>
                    <a:pt x="1" y="188"/>
                  </a:lnTo>
                  <a:lnTo>
                    <a:pt x="3" y="206"/>
                  </a:lnTo>
                  <a:lnTo>
                    <a:pt x="7" y="225"/>
                  </a:lnTo>
                  <a:lnTo>
                    <a:pt x="15" y="242"/>
                  </a:lnTo>
                  <a:lnTo>
                    <a:pt x="23" y="257"/>
                  </a:lnTo>
                  <a:lnTo>
                    <a:pt x="32" y="273"/>
                  </a:lnTo>
                  <a:lnTo>
                    <a:pt x="42" y="288"/>
                  </a:lnTo>
                  <a:lnTo>
                    <a:pt x="53" y="300"/>
                  </a:lnTo>
                  <a:lnTo>
                    <a:pt x="67" y="313"/>
                  </a:lnTo>
                  <a:lnTo>
                    <a:pt x="82" y="323"/>
                  </a:lnTo>
                  <a:lnTo>
                    <a:pt x="97" y="332"/>
                  </a:lnTo>
                  <a:lnTo>
                    <a:pt x="111" y="340"/>
                  </a:lnTo>
                  <a:lnTo>
                    <a:pt x="111" y="338"/>
                  </a:lnTo>
                  <a:lnTo>
                    <a:pt x="111" y="336"/>
                  </a:lnTo>
                  <a:lnTo>
                    <a:pt x="111" y="334"/>
                  </a:lnTo>
                  <a:lnTo>
                    <a:pt x="111" y="334"/>
                  </a:lnTo>
                  <a:lnTo>
                    <a:pt x="111" y="332"/>
                  </a:lnTo>
                  <a:lnTo>
                    <a:pt x="111" y="330"/>
                  </a:lnTo>
                  <a:lnTo>
                    <a:pt x="111" y="328"/>
                  </a:lnTo>
                  <a:lnTo>
                    <a:pt x="111" y="327"/>
                  </a:lnTo>
                  <a:lnTo>
                    <a:pt x="101" y="323"/>
                  </a:lnTo>
                  <a:lnTo>
                    <a:pt x="88" y="315"/>
                  </a:lnTo>
                  <a:lnTo>
                    <a:pt x="74" y="304"/>
                  </a:lnTo>
                  <a:lnTo>
                    <a:pt x="61" y="292"/>
                  </a:lnTo>
                  <a:lnTo>
                    <a:pt x="49" y="281"/>
                  </a:lnTo>
                  <a:lnTo>
                    <a:pt x="40" y="267"/>
                  </a:lnTo>
                  <a:lnTo>
                    <a:pt x="32" y="252"/>
                  </a:lnTo>
                  <a:lnTo>
                    <a:pt x="24" y="236"/>
                  </a:lnTo>
                  <a:lnTo>
                    <a:pt x="19" y="221"/>
                  </a:lnTo>
                  <a:lnTo>
                    <a:pt x="13" y="204"/>
                  </a:lnTo>
                  <a:lnTo>
                    <a:pt x="11" y="187"/>
                  </a:lnTo>
                  <a:lnTo>
                    <a:pt x="11" y="169"/>
                  </a:lnTo>
                  <a:lnTo>
                    <a:pt x="11" y="150"/>
                  </a:lnTo>
                  <a:lnTo>
                    <a:pt x="13" y="133"/>
                  </a:lnTo>
                  <a:lnTo>
                    <a:pt x="19" y="117"/>
                  </a:lnTo>
                  <a:lnTo>
                    <a:pt x="24" y="100"/>
                  </a:lnTo>
                  <a:lnTo>
                    <a:pt x="32" y="85"/>
                  </a:lnTo>
                  <a:lnTo>
                    <a:pt x="40" y="71"/>
                  </a:lnTo>
                  <a:lnTo>
                    <a:pt x="49" y="58"/>
                  </a:lnTo>
                  <a:lnTo>
                    <a:pt x="61" y="45"/>
                  </a:lnTo>
                  <a:lnTo>
                    <a:pt x="74" y="33"/>
                  </a:lnTo>
                  <a:lnTo>
                    <a:pt x="88" y="23"/>
                  </a:lnTo>
                  <a:lnTo>
                    <a:pt x="101" y="14"/>
                  </a:lnTo>
                  <a:lnTo>
                    <a:pt x="103" y="14"/>
                  </a:lnTo>
                  <a:lnTo>
                    <a:pt x="103" y="12"/>
                  </a:lnTo>
                  <a:lnTo>
                    <a:pt x="103" y="10"/>
                  </a:lnTo>
                  <a:lnTo>
                    <a:pt x="103" y="10"/>
                  </a:lnTo>
                  <a:lnTo>
                    <a:pt x="103" y="8"/>
                  </a:lnTo>
                  <a:lnTo>
                    <a:pt x="105" y="6"/>
                  </a:lnTo>
                  <a:lnTo>
                    <a:pt x="105" y="4"/>
                  </a:lnTo>
                  <a:lnTo>
                    <a:pt x="105" y="2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ddf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Freeform 495"/>
            <p:cNvSpPr/>
            <p:nvPr/>
          </p:nvSpPr>
          <p:spPr>
            <a:xfrm>
              <a:off x="6177240" y="2991960"/>
              <a:ext cx="178200" cy="549000"/>
            </a:xfrm>
            <a:custGeom>
              <a:avLst/>
              <a:gdLst>
                <a:gd name="textAreaLeft" fmla="*/ 0 w 178200"/>
                <a:gd name="textAreaRight" fmla="*/ 178560 w 17820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106" h="326">
                  <a:moveTo>
                    <a:pt x="98" y="0"/>
                  </a:moveTo>
                  <a:lnTo>
                    <a:pt x="94" y="2"/>
                  </a:lnTo>
                  <a:lnTo>
                    <a:pt x="79" y="12"/>
                  </a:lnTo>
                  <a:lnTo>
                    <a:pt x="66" y="21"/>
                  </a:lnTo>
                  <a:lnTo>
                    <a:pt x="52" y="33"/>
                  </a:lnTo>
                  <a:lnTo>
                    <a:pt x="41" y="46"/>
                  </a:lnTo>
                  <a:lnTo>
                    <a:pt x="31" y="60"/>
                  </a:lnTo>
                  <a:lnTo>
                    <a:pt x="21" y="75"/>
                  </a:lnTo>
                  <a:lnTo>
                    <a:pt x="14" y="90"/>
                  </a:lnTo>
                  <a:lnTo>
                    <a:pt x="8" y="108"/>
                  </a:lnTo>
                  <a:lnTo>
                    <a:pt x="4" y="125"/>
                  </a:lnTo>
                  <a:lnTo>
                    <a:pt x="0" y="142"/>
                  </a:lnTo>
                  <a:lnTo>
                    <a:pt x="0" y="161"/>
                  </a:lnTo>
                  <a:lnTo>
                    <a:pt x="0" y="179"/>
                  </a:lnTo>
                  <a:lnTo>
                    <a:pt x="4" y="198"/>
                  </a:lnTo>
                  <a:lnTo>
                    <a:pt x="8" y="215"/>
                  </a:lnTo>
                  <a:lnTo>
                    <a:pt x="14" y="230"/>
                  </a:lnTo>
                  <a:lnTo>
                    <a:pt x="21" y="248"/>
                  </a:lnTo>
                  <a:lnTo>
                    <a:pt x="31" y="261"/>
                  </a:lnTo>
                  <a:lnTo>
                    <a:pt x="41" y="276"/>
                  </a:lnTo>
                  <a:lnTo>
                    <a:pt x="52" y="288"/>
                  </a:lnTo>
                  <a:lnTo>
                    <a:pt x="66" y="301"/>
                  </a:lnTo>
                  <a:lnTo>
                    <a:pt x="79" y="311"/>
                  </a:lnTo>
                  <a:lnTo>
                    <a:pt x="94" y="320"/>
                  </a:lnTo>
                  <a:lnTo>
                    <a:pt x="106" y="326"/>
                  </a:lnTo>
                  <a:lnTo>
                    <a:pt x="106" y="324"/>
                  </a:lnTo>
                  <a:lnTo>
                    <a:pt x="106" y="322"/>
                  </a:lnTo>
                  <a:lnTo>
                    <a:pt x="106" y="320"/>
                  </a:lnTo>
                  <a:lnTo>
                    <a:pt x="106" y="319"/>
                  </a:lnTo>
                  <a:lnTo>
                    <a:pt x="104" y="317"/>
                  </a:lnTo>
                  <a:lnTo>
                    <a:pt x="104" y="317"/>
                  </a:lnTo>
                  <a:lnTo>
                    <a:pt x="104" y="315"/>
                  </a:lnTo>
                  <a:lnTo>
                    <a:pt x="104" y="313"/>
                  </a:lnTo>
                  <a:lnTo>
                    <a:pt x="100" y="311"/>
                  </a:lnTo>
                  <a:lnTo>
                    <a:pt x="85" y="301"/>
                  </a:lnTo>
                  <a:lnTo>
                    <a:pt x="73" y="292"/>
                  </a:lnTo>
                  <a:lnTo>
                    <a:pt x="60" y="282"/>
                  </a:lnTo>
                  <a:lnTo>
                    <a:pt x="50" y="269"/>
                  </a:lnTo>
                  <a:lnTo>
                    <a:pt x="39" y="255"/>
                  </a:lnTo>
                  <a:lnTo>
                    <a:pt x="31" y="242"/>
                  </a:lnTo>
                  <a:lnTo>
                    <a:pt x="23" y="226"/>
                  </a:lnTo>
                  <a:lnTo>
                    <a:pt x="18" y="211"/>
                  </a:lnTo>
                  <a:lnTo>
                    <a:pt x="14" y="196"/>
                  </a:lnTo>
                  <a:lnTo>
                    <a:pt x="12" y="179"/>
                  </a:lnTo>
                  <a:lnTo>
                    <a:pt x="10" y="161"/>
                  </a:lnTo>
                  <a:lnTo>
                    <a:pt x="12" y="144"/>
                  </a:lnTo>
                  <a:lnTo>
                    <a:pt x="14" y="127"/>
                  </a:lnTo>
                  <a:lnTo>
                    <a:pt x="18" y="109"/>
                  </a:lnTo>
                  <a:lnTo>
                    <a:pt x="23" y="94"/>
                  </a:lnTo>
                  <a:lnTo>
                    <a:pt x="31" y="79"/>
                  </a:lnTo>
                  <a:lnTo>
                    <a:pt x="39" y="65"/>
                  </a:lnTo>
                  <a:lnTo>
                    <a:pt x="50" y="52"/>
                  </a:lnTo>
                  <a:lnTo>
                    <a:pt x="60" y="40"/>
                  </a:lnTo>
                  <a:lnTo>
                    <a:pt x="73" y="29"/>
                  </a:lnTo>
                  <a:lnTo>
                    <a:pt x="85" y="19"/>
                  </a:lnTo>
                  <a:lnTo>
                    <a:pt x="98" y="12"/>
                  </a:lnTo>
                  <a:lnTo>
                    <a:pt x="98" y="10"/>
                  </a:lnTo>
                  <a:lnTo>
                    <a:pt x="98" y="10"/>
                  </a:lnTo>
                  <a:lnTo>
                    <a:pt x="98" y="8"/>
                  </a:lnTo>
                  <a:lnTo>
                    <a:pt x="98" y="6"/>
                  </a:lnTo>
                  <a:lnTo>
                    <a:pt x="98" y="4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def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Freeform 496"/>
            <p:cNvSpPr/>
            <p:nvPr/>
          </p:nvSpPr>
          <p:spPr>
            <a:xfrm>
              <a:off x="6187320" y="3002400"/>
              <a:ext cx="168120" cy="52668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526680"/>
                <a:gd name="textAreaBottom" fmla="*/ 527040 h 526680"/>
              </a:gdLst>
              <a:ahLst/>
              <a:rect l="textAreaLeft" t="textAreaTop" r="textAreaRight" b="textAreaBottom"/>
              <a:pathLst>
                <a:path w="100" h="313">
                  <a:moveTo>
                    <a:pt x="92" y="0"/>
                  </a:moveTo>
                  <a:lnTo>
                    <a:pt x="90" y="0"/>
                  </a:lnTo>
                  <a:lnTo>
                    <a:pt x="77" y="9"/>
                  </a:lnTo>
                  <a:lnTo>
                    <a:pt x="63" y="19"/>
                  </a:lnTo>
                  <a:lnTo>
                    <a:pt x="50" y="31"/>
                  </a:lnTo>
                  <a:lnTo>
                    <a:pt x="38" y="44"/>
                  </a:lnTo>
                  <a:lnTo>
                    <a:pt x="29" y="57"/>
                  </a:lnTo>
                  <a:lnTo>
                    <a:pt x="21" y="71"/>
                  </a:lnTo>
                  <a:lnTo>
                    <a:pt x="13" y="86"/>
                  </a:lnTo>
                  <a:lnTo>
                    <a:pt x="8" y="103"/>
                  </a:lnTo>
                  <a:lnTo>
                    <a:pt x="2" y="119"/>
                  </a:lnTo>
                  <a:lnTo>
                    <a:pt x="0" y="136"/>
                  </a:lnTo>
                  <a:lnTo>
                    <a:pt x="0" y="155"/>
                  </a:lnTo>
                  <a:lnTo>
                    <a:pt x="0" y="173"/>
                  </a:lnTo>
                  <a:lnTo>
                    <a:pt x="2" y="190"/>
                  </a:lnTo>
                  <a:lnTo>
                    <a:pt x="8" y="207"/>
                  </a:lnTo>
                  <a:lnTo>
                    <a:pt x="13" y="222"/>
                  </a:lnTo>
                  <a:lnTo>
                    <a:pt x="21" y="238"/>
                  </a:lnTo>
                  <a:lnTo>
                    <a:pt x="29" y="253"/>
                  </a:lnTo>
                  <a:lnTo>
                    <a:pt x="38" y="267"/>
                  </a:lnTo>
                  <a:lnTo>
                    <a:pt x="50" y="278"/>
                  </a:lnTo>
                  <a:lnTo>
                    <a:pt x="63" y="290"/>
                  </a:lnTo>
                  <a:lnTo>
                    <a:pt x="77" y="301"/>
                  </a:lnTo>
                  <a:lnTo>
                    <a:pt x="90" y="309"/>
                  </a:lnTo>
                  <a:lnTo>
                    <a:pt x="100" y="313"/>
                  </a:lnTo>
                  <a:lnTo>
                    <a:pt x="98" y="311"/>
                  </a:lnTo>
                  <a:lnTo>
                    <a:pt x="98" y="311"/>
                  </a:lnTo>
                  <a:lnTo>
                    <a:pt x="98" y="309"/>
                  </a:lnTo>
                  <a:lnTo>
                    <a:pt x="98" y="307"/>
                  </a:lnTo>
                  <a:lnTo>
                    <a:pt x="98" y="305"/>
                  </a:lnTo>
                  <a:lnTo>
                    <a:pt x="98" y="303"/>
                  </a:lnTo>
                  <a:lnTo>
                    <a:pt x="98" y="303"/>
                  </a:lnTo>
                  <a:lnTo>
                    <a:pt x="98" y="301"/>
                  </a:lnTo>
                  <a:lnTo>
                    <a:pt x="96" y="299"/>
                  </a:lnTo>
                  <a:lnTo>
                    <a:pt x="83" y="291"/>
                  </a:lnTo>
                  <a:lnTo>
                    <a:pt x="69" y="282"/>
                  </a:lnTo>
                  <a:lnTo>
                    <a:pt x="58" y="272"/>
                  </a:lnTo>
                  <a:lnTo>
                    <a:pt x="48" y="259"/>
                  </a:lnTo>
                  <a:lnTo>
                    <a:pt x="38" y="247"/>
                  </a:lnTo>
                  <a:lnTo>
                    <a:pt x="29" y="234"/>
                  </a:lnTo>
                  <a:lnTo>
                    <a:pt x="23" y="219"/>
                  </a:lnTo>
                  <a:lnTo>
                    <a:pt x="17" y="203"/>
                  </a:lnTo>
                  <a:lnTo>
                    <a:pt x="13" y="188"/>
                  </a:lnTo>
                  <a:lnTo>
                    <a:pt x="12" y="173"/>
                  </a:lnTo>
                  <a:lnTo>
                    <a:pt x="10" y="155"/>
                  </a:lnTo>
                  <a:lnTo>
                    <a:pt x="12" y="138"/>
                  </a:lnTo>
                  <a:lnTo>
                    <a:pt x="13" y="121"/>
                  </a:lnTo>
                  <a:lnTo>
                    <a:pt x="17" y="105"/>
                  </a:lnTo>
                  <a:lnTo>
                    <a:pt x="23" y="90"/>
                  </a:lnTo>
                  <a:lnTo>
                    <a:pt x="29" y="77"/>
                  </a:lnTo>
                  <a:lnTo>
                    <a:pt x="38" y="63"/>
                  </a:lnTo>
                  <a:lnTo>
                    <a:pt x="48" y="50"/>
                  </a:lnTo>
                  <a:lnTo>
                    <a:pt x="58" y="38"/>
                  </a:lnTo>
                  <a:lnTo>
                    <a:pt x="69" y="27"/>
                  </a:lnTo>
                  <a:lnTo>
                    <a:pt x="83" y="17"/>
                  </a:lnTo>
                  <a:lnTo>
                    <a:pt x="92" y="13"/>
                  </a:lnTo>
                  <a:lnTo>
                    <a:pt x="92" y="11"/>
                  </a:lnTo>
                  <a:lnTo>
                    <a:pt x="92" y="9"/>
                  </a:lnTo>
                  <a:lnTo>
                    <a:pt x="92" y="8"/>
                  </a:lnTo>
                  <a:lnTo>
                    <a:pt x="92" y="6"/>
                  </a:lnTo>
                  <a:lnTo>
                    <a:pt x="92" y="4"/>
                  </a:lnTo>
                  <a:lnTo>
                    <a:pt x="92" y="4"/>
                  </a:lnTo>
                  <a:lnTo>
                    <a:pt x="92" y="2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df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Freeform 497"/>
            <p:cNvSpPr/>
            <p:nvPr/>
          </p:nvSpPr>
          <p:spPr>
            <a:xfrm>
              <a:off x="6194160" y="3012120"/>
              <a:ext cx="158040" cy="506520"/>
            </a:xfrm>
            <a:custGeom>
              <a:avLst/>
              <a:gdLst>
                <a:gd name="textAreaLeft" fmla="*/ 0 w 158040"/>
                <a:gd name="textAreaRight" fmla="*/ 158400 w 15804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94" h="301">
                  <a:moveTo>
                    <a:pt x="88" y="0"/>
                  </a:moveTo>
                  <a:lnTo>
                    <a:pt x="75" y="7"/>
                  </a:lnTo>
                  <a:lnTo>
                    <a:pt x="63" y="17"/>
                  </a:lnTo>
                  <a:lnTo>
                    <a:pt x="50" y="28"/>
                  </a:lnTo>
                  <a:lnTo>
                    <a:pt x="40" y="40"/>
                  </a:lnTo>
                  <a:lnTo>
                    <a:pt x="29" y="53"/>
                  </a:lnTo>
                  <a:lnTo>
                    <a:pt x="21" y="67"/>
                  </a:lnTo>
                  <a:lnTo>
                    <a:pt x="13" y="82"/>
                  </a:lnTo>
                  <a:lnTo>
                    <a:pt x="8" y="97"/>
                  </a:lnTo>
                  <a:lnTo>
                    <a:pt x="4" y="115"/>
                  </a:lnTo>
                  <a:lnTo>
                    <a:pt x="2" y="132"/>
                  </a:lnTo>
                  <a:lnTo>
                    <a:pt x="0" y="149"/>
                  </a:lnTo>
                  <a:lnTo>
                    <a:pt x="2" y="167"/>
                  </a:lnTo>
                  <a:lnTo>
                    <a:pt x="4" y="184"/>
                  </a:lnTo>
                  <a:lnTo>
                    <a:pt x="8" y="199"/>
                  </a:lnTo>
                  <a:lnTo>
                    <a:pt x="13" y="214"/>
                  </a:lnTo>
                  <a:lnTo>
                    <a:pt x="21" y="230"/>
                  </a:lnTo>
                  <a:lnTo>
                    <a:pt x="29" y="243"/>
                  </a:lnTo>
                  <a:lnTo>
                    <a:pt x="40" y="257"/>
                  </a:lnTo>
                  <a:lnTo>
                    <a:pt x="50" y="270"/>
                  </a:lnTo>
                  <a:lnTo>
                    <a:pt x="63" y="280"/>
                  </a:lnTo>
                  <a:lnTo>
                    <a:pt x="75" y="289"/>
                  </a:lnTo>
                  <a:lnTo>
                    <a:pt x="90" y="299"/>
                  </a:lnTo>
                  <a:lnTo>
                    <a:pt x="94" y="301"/>
                  </a:lnTo>
                  <a:lnTo>
                    <a:pt x="94" y="299"/>
                  </a:lnTo>
                  <a:lnTo>
                    <a:pt x="94" y="297"/>
                  </a:lnTo>
                  <a:lnTo>
                    <a:pt x="94" y="295"/>
                  </a:lnTo>
                  <a:lnTo>
                    <a:pt x="94" y="295"/>
                  </a:lnTo>
                  <a:lnTo>
                    <a:pt x="94" y="293"/>
                  </a:lnTo>
                  <a:lnTo>
                    <a:pt x="94" y="291"/>
                  </a:lnTo>
                  <a:lnTo>
                    <a:pt x="92" y="289"/>
                  </a:lnTo>
                  <a:lnTo>
                    <a:pt x="92" y="287"/>
                  </a:lnTo>
                  <a:lnTo>
                    <a:pt x="82" y="282"/>
                  </a:lnTo>
                  <a:lnTo>
                    <a:pt x="69" y="272"/>
                  </a:lnTo>
                  <a:lnTo>
                    <a:pt x="57" y="262"/>
                  </a:lnTo>
                  <a:lnTo>
                    <a:pt x="48" y="251"/>
                  </a:lnTo>
                  <a:lnTo>
                    <a:pt x="38" y="237"/>
                  </a:lnTo>
                  <a:lnTo>
                    <a:pt x="31" y="224"/>
                  </a:lnTo>
                  <a:lnTo>
                    <a:pt x="23" y="211"/>
                  </a:lnTo>
                  <a:lnTo>
                    <a:pt x="19" y="197"/>
                  </a:lnTo>
                  <a:lnTo>
                    <a:pt x="15" y="182"/>
                  </a:lnTo>
                  <a:lnTo>
                    <a:pt x="11" y="165"/>
                  </a:lnTo>
                  <a:lnTo>
                    <a:pt x="11" y="149"/>
                  </a:lnTo>
                  <a:lnTo>
                    <a:pt x="11" y="132"/>
                  </a:lnTo>
                  <a:lnTo>
                    <a:pt x="15" y="117"/>
                  </a:lnTo>
                  <a:lnTo>
                    <a:pt x="19" y="101"/>
                  </a:lnTo>
                  <a:lnTo>
                    <a:pt x="23" y="86"/>
                  </a:lnTo>
                  <a:lnTo>
                    <a:pt x="31" y="72"/>
                  </a:lnTo>
                  <a:lnTo>
                    <a:pt x="38" y="59"/>
                  </a:lnTo>
                  <a:lnTo>
                    <a:pt x="48" y="48"/>
                  </a:lnTo>
                  <a:lnTo>
                    <a:pt x="57" y="36"/>
                  </a:lnTo>
                  <a:lnTo>
                    <a:pt x="69" y="26"/>
                  </a:lnTo>
                  <a:lnTo>
                    <a:pt x="82" y="17"/>
                  </a:lnTo>
                  <a:lnTo>
                    <a:pt x="86" y="13"/>
                  </a:lnTo>
                  <a:lnTo>
                    <a:pt x="86" y="11"/>
                  </a:lnTo>
                  <a:lnTo>
                    <a:pt x="86" y="9"/>
                  </a:lnTo>
                  <a:lnTo>
                    <a:pt x="88" y="9"/>
                  </a:lnTo>
                  <a:lnTo>
                    <a:pt x="88" y="7"/>
                  </a:lnTo>
                  <a:lnTo>
                    <a:pt x="88" y="5"/>
                  </a:lnTo>
                  <a:lnTo>
                    <a:pt x="88" y="3"/>
                  </a:lnTo>
                  <a:lnTo>
                    <a:pt x="88" y="2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e0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Freeform 498"/>
            <p:cNvSpPr/>
            <p:nvPr/>
          </p:nvSpPr>
          <p:spPr>
            <a:xfrm>
              <a:off x="6203880" y="3024000"/>
              <a:ext cx="147960" cy="484920"/>
            </a:xfrm>
            <a:custGeom>
              <a:avLst/>
              <a:gdLst>
                <a:gd name="textAreaLeft" fmla="*/ 0 w 147960"/>
                <a:gd name="textAreaRight" fmla="*/ 148320 w 147960"/>
                <a:gd name="textAreaTop" fmla="*/ 0 h 484920"/>
                <a:gd name="textAreaBottom" fmla="*/ 485280 h 484920"/>
              </a:gdLst>
              <a:ahLst/>
              <a:rect l="textAreaLeft" t="textAreaTop" r="textAreaRight" b="textAreaBottom"/>
              <a:pathLst>
                <a:path w="88" h="288">
                  <a:moveTo>
                    <a:pt x="82" y="0"/>
                  </a:moveTo>
                  <a:lnTo>
                    <a:pt x="73" y="4"/>
                  </a:lnTo>
                  <a:lnTo>
                    <a:pt x="59" y="14"/>
                  </a:lnTo>
                  <a:lnTo>
                    <a:pt x="48" y="25"/>
                  </a:lnTo>
                  <a:lnTo>
                    <a:pt x="38" y="37"/>
                  </a:lnTo>
                  <a:lnTo>
                    <a:pt x="28" y="50"/>
                  </a:lnTo>
                  <a:lnTo>
                    <a:pt x="19" y="64"/>
                  </a:lnTo>
                  <a:lnTo>
                    <a:pt x="13" y="77"/>
                  </a:lnTo>
                  <a:lnTo>
                    <a:pt x="7" y="92"/>
                  </a:lnTo>
                  <a:lnTo>
                    <a:pt x="3" y="108"/>
                  </a:lnTo>
                  <a:lnTo>
                    <a:pt x="2" y="125"/>
                  </a:lnTo>
                  <a:lnTo>
                    <a:pt x="0" y="142"/>
                  </a:lnTo>
                  <a:lnTo>
                    <a:pt x="2" y="160"/>
                  </a:lnTo>
                  <a:lnTo>
                    <a:pt x="3" y="175"/>
                  </a:lnTo>
                  <a:lnTo>
                    <a:pt x="7" y="190"/>
                  </a:lnTo>
                  <a:lnTo>
                    <a:pt x="13" y="206"/>
                  </a:lnTo>
                  <a:lnTo>
                    <a:pt x="19" y="221"/>
                  </a:lnTo>
                  <a:lnTo>
                    <a:pt x="28" y="234"/>
                  </a:lnTo>
                  <a:lnTo>
                    <a:pt x="38" y="246"/>
                  </a:lnTo>
                  <a:lnTo>
                    <a:pt x="48" y="259"/>
                  </a:lnTo>
                  <a:lnTo>
                    <a:pt x="59" y="269"/>
                  </a:lnTo>
                  <a:lnTo>
                    <a:pt x="73" y="278"/>
                  </a:lnTo>
                  <a:lnTo>
                    <a:pt x="86" y="286"/>
                  </a:lnTo>
                  <a:lnTo>
                    <a:pt x="88" y="288"/>
                  </a:lnTo>
                  <a:lnTo>
                    <a:pt x="88" y="286"/>
                  </a:lnTo>
                  <a:lnTo>
                    <a:pt x="88" y="284"/>
                  </a:lnTo>
                  <a:lnTo>
                    <a:pt x="86" y="282"/>
                  </a:lnTo>
                  <a:lnTo>
                    <a:pt x="86" y="280"/>
                  </a:lnTo>
                  <a:lnTo>
                    <a:pt x="86" y="278"/>
                  </a:lnTo>
                  <a:lnTo>
                    <a:pt x="86" y="277"/>
                  </a:lnTo>
                  <a:lnTo>
                    <a:pt x="86" y="277"/>
                  </a:lnTo>
                  <a:lnTo>
                    <a:pt x="86" y="275"/>
                  </a:lnTo>
                  <a:lnTo>
                    <a:pt x="78" y="269"/>
                  </a:lnTo>
                  <a:lnTo>
                    <a:pt x="67" y="261"/>
                  </a:lnTo>
                  <a:lnTo>
                    <a:pt x="55" y="252"/>
                  </a:lnTo>
                  <a:lnTo>
                    <a:pt x="46" y="240"/>
                  </a:lnTo>
                  <a:lnTo>
                    <a:pt x="36" y="229"/>
                  </a:lnTo>
                  <a:lnTo>
                    <a:pt x="28" y="215"/>
                  </a:lnTo>
                  <a:lnTo>
                    <a:pt x="23" y="202"/>
                  </a:lnTo>
                  <a:lnTo>
                    <a:pt x="17" y="188"/>
                  </a:lnTo>
                  <a:lnTo>
                    <a:pt x="13" y="173"/>
                  </a:lnTo>
                  <a:lnTo>
                    <a:pt x="11" y="158"/>
                  </a:lnTo>
                  <a:lnTo>
                    <a:pt x="11" y="142"/>
                  </a:lnTo>
                  <a:lnTo>
                    <a:pt x="11" y="127"/>
                  </a:lnTo>
                  <a:lnTo>
                    <a:pt x="13" y="112"/>
                  </a:lnTo>
                  <a:lnTo>
                    <a:pt x="17" y="96"/>
                  </a:lnTo>
                  <a:lnTo>
                    <a:pt x="23" y="81"/>
                  </a:lnTo>
                  <a:lnTo>
                    <a:pt x="28" y="67"/>
                  </a:lnTo>
                  <a:lnTo>
                    <a:pt x="36" y="56"/>
                  </a:lnTo>
                  <a:lnTo>
                    <a:pt x="46" y="44"/>
                  </a:lnTo>
                  <a:lnTo>
                    <a:pt x="55" y="33"/>
                  </a:lnTo>
                  <a:lnTo>
                    <a:pt x="67" y="23"/>
                  </a:lnTo>
                  <a:lnTo>
                    <a:pt x="78" y="14"/>
                  </a:lnTo>
                  <a:lnTo>
                    <a:pt x="80" y="14"/>
                  </a:lnTo>
                  <a:lnTo>
                    <a:pt x="80" y="12"/>
                  </a:lnTo>
                  <a:lnTo>
                    <a:pt x="80" y="10"/>
                  </a:lnTo>
                  <a:lnTo>
                    <a:pt x="80" y="8"/>
                  </a:lnTo>
                  <a:lnTo>
                    <a:pt x="80" y="6"/>
                  </a:lnTo>
                  <a:lnTo>
                    <a:pt x="80" y="4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e1f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Freeform 499"/>
            <p:cNvSpPr/>
            <p:nvPr/>
          </p:nvSpPr>
          <p:spPr>
            <a:xfrm>
              <a:off x="6212520" y="3034080"/>
              <a:ext cx="136080" cy="461520"/>
            </a:xfrm>
            <a:custGeom>
              <a:avLst/>
              <a:gdLst>
                <a:gd name="textAreaLeft" fmla="*/ 0 w 136080"/>
                <a:gd name="textAreaRight" fmla="*/ 136440 w 136080"/>
                <a:gd name="textAreaTop" fmla="*/ 0 h 461520"/>
                <a:gd name="textAreaBottom" fmla="*/ 461880 h 461520"/>
              </a:gdLst>
              <a:ahLst/>
              <a:rect l="textAreaLeft" t="textAreaTop" r="textAreaRight" b="textAreaBottom"/>
              <a:pathLst>
                <a:path w="81" h="274">
                  <a:moveTo>
                    <a:pt x="75" y="0"/>
                  </a:moveTo>
                  <a:lnTo>
                    <a:pt x="71" y="4"/>
                  </a:lnTo>
                  <a:lnTo>
                    <a:pt x="58" y="13"/>
                  </a:lnTo>
                  <a:lnTo>
                    <a:pt x="46" y="23"/>
                  </a:lnTo>
                  <a:lnTo>
                    <a:pt x="37" y="35"/>
                  </a:lnTo>
                  <a:lnTo>
                    <a:pt x="27" y="46"/>
                  </a:lnTo>
                  <a:lnTo>
                    <a:pt x="20" y="59"/>
                  </a:lnTo>
                  <a:lnTo>
                    <a:pt x="12" y="73"/>
                  </a:lnTo>
                  <a:lnTo>
                    <a:pt x="8" y="88"/>
                  </a:lnTo>
                  <a:lnTo>
                    <a:pt x="4" y="104"/>
                  </a:lnTo>
                  <a:lnTo>
                    <a:pt x="0" y="119"/>
                  </a:lnTo>
                  <a:lnTo>
                    <a:pt x="0" y="136"/>
                  </a:lnTo>
                  <a:lnTo>
                    <a:pt x="0" y="152"/>
                  </a:lnTo>
                  <a:lnTo>
                    <a:pt x="4" y="169"/>
                  </a:lnTo>
                  <a:lnTo>
                    <a:pt x="8" y="184"/>
                  </a:lnTo>
                  <a:lnTo>
                    <a:pt x="12" y="198"/>
                  </a:lnTo>
                  <a:lnTo>
                    <a:pt x="20" y="211"/>
                  </a:lnTo>
                  <a:lnTo>
                    <a:pt x="27" y="224"/>
                  </a:lnTo>
                  <a:lnTo>
                    <a:pt x="37" y="238"/>
                  </a:lnTo>
                  <a:lnTo>
                    <a:pt x="46" y="249"/>
                  </a:lnTo>
                  <a:lnTo>
                    <a:pt x="58" y="259"/>
                  </a:lnTo>
                  <a:lnTo>
                    <a:pt x="71" y="269"/>
                  </a:lnTo>
                  <a:lnTo>
                    <a:pt x="81" y="274"/>
                  </a:lnTo>
                  <a:lnTo>
                    <a:pt x="81" y="272"/>
                  </a:lnTo>
                  <a:lnTo>
                    <a:pt x="81" y="272"/>
                  </a:lnTo>
                  <a:lnTo>
                    <a:pt x="81" y="271"/>
                  </a:lnTo>
                  <a:lnTo>
                    <a:pt x="81" y="269"/>
                  </a:lnTo>
                  <a:lnTo>
                    <a:pt x="81" y="267"/>
                  </a:lnTo>
                  <a:lnTo>
                    <a:pt x="81" y="265"/>
                  </a:lnTo>
                  <a:lnTo>
                    <a:pt x="81" y="263"/>
                  </a:lnTo>
                  <a:lnTo>
                    <a:pt x="81" y="261"/>
                  </a:lnTo>
                  <a:lnTo>
                    <a:pt x="77" y="259"/>
                  </a:lnTo>
                  <a:lnTo>
                    <a:pt x="66" y="251"/>
                  </a:lnTo>
                  <a:lnTo>
                    <a:pt x="54" y="242"/>
                  </a:lnTo>
                  <a:lnTo>
                    <a:pt x="45" y="230"/>
                  </a:lnTo>
                  <a:lnTo>
                    <a:pt x="37" y="219"/>
                  </a:lnTo>
                  <a:lnTo>
                    <a:pt x="29" y="207"/>
                  </a:lnTo>
                  <a:lnTo>
                    <a:pt x="23" y="194"/>
                  </a:lnTo>
                  <a:lnTo>
                    <a:pt x="18" y="180"/>
                  </a:lnTo>
                  <a:lnTo>
                    <a:pt x="14" y="165"/>
                  </a:lnTo>
                  <a:lnTo>
                    <a:pt x="12" y="152"/>
                  </a:lnTo>
                  <a:lnTo>
                    <a:pt x="10" y="136"/>
                  </a:lnTo>
                  <a:lnTo>
                    <a:pt x="12" y="121"/>
                  </a:lnTo>
                  <a:lnTo>
                    <a:pt x="14" y="106"/>
                  </a:lnTo>
                  <a:lnTo>
                    <a:pt x="18" y="92"/>
                  </a:lnTo>
                  <a:lnTo>
                    <a:pt x="23" y="79"/>
                  </a:lnTo>
                  <a:lnTo>
                    <a:pt x="29" y="65"/>
                  </a:lnTo>
                  <a:lnTo>
                    <a:pt x="37" y="52"/>
                  </a:lnTo>
                  <a:lnTo>
                    <a:pt x="45" y="40"/>
                  </a:lnTo>
                  <a:lnTo>
                    <a:pt x="54" y="31"/>
                  </a:lnTo>
                  <a:lnTo>
                    <a:pt x="66" y="21"/>
                  </a:lnTo>
                  <a:lnTo>
                    <a:pt x="75" y="13"/>
                  </a:lnTo>
                  <a:lnTo>
                    <a:pt x="75" y="12"/>
                  </a:lnTo>
                  <a:lnTo>
                    <a:pt x="75" y="10"/>
                  </a:lnTo>
                  <a:lnTo>
                    <a:pt x="75" y="8"/>
                  </a:lnTo>
                  <a:lnTo>
                    <a:pt x="75" y="8"/>
                  </a:lnTo>
                  <a:lnTo>
                    <a:pt x="75" y="6"/>
                  </a:lnTo>
                  <a:lnTo>
                    <a:pt x="75" y="4"/>
                  </a:lnTo>
                  <a:lnTo>
                    <a:pt x="75" y="2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e2f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Freeform 500"/>
            <p:cNvSpPr/>
            <p:nvPr/>
          </p:nvSpPr>
          <p:spPr>
            <a:xfrm>
              <a:off x="6222600" y="3047760"/>
              <a:ext cx="126000" cy="43920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439200"/>
                <a:gd name="textAreaBottom" fmla="*/ 439560 h 439200"/>
              </a:gdLst>
              <a:ahLst/>
              <a:rect l="textAreaLeft" t="textAreaTop" r="textAreaRight" b="textAreaBottom"/>
              <a:pathLst>
                <a:path w="75" h="261">
                  <a:moveTo>
                    <a:pt x="69" y="0"/>
                  </a:moveTo>
                  <a:lnTo>
                    <a:pt x="67" y="0"/>
                  </a:lnTo>
                  <a:lnTo>
                    <a:pt x="56" y="9"/>
                  </a:lnTo>
                  <a:lnTo>
                    <a:pt x="44" y="19"/>
                  </a:lnTo>
                  <a:lnTo>
                    <a:pt x="35" y="30"/>
                  </a:lnTo>
                  <a:lnTo>
                    <a:pt x="25" y="42"/>
                  </a:lnTo>
                  <a:lnTo>
                    <a:pt x="17" y="53"/>
                  </a:lnTo>
                  <a:lnTo>
                    <a:pt x="12" y="67"/>
                  </a:lnTo>
                  <a:lnTo>
                    <a:pt x="6" y="82"/>
                  </a:lnTo>
                  <a:lnTo>
                    <a:pt x="2" y="98"/>
                  </a:lnTo>
                  <a:lnTo>
                    <a:pt x="0" y="113"/>
                  </a:lnTo>
                  <a:lnTo>
                    <a:pt x="0" y="128"/>
                  </a:lnTo>
                  <a:lnTo>
                    <a:pt x="0" y="144"/>
                  </a:lnTo>
                  <a:lnTo>
                    <a:pt x="2" y="159"/>
                  </a:lnTo>
                  <a:lnTo>
                    <a:pt x="6" y="174"/>
                  </a:lnTo>
                  <a:lnTo>
                    <a:pt x="12" y="188"/>
                  </a:lnTo>
                  <a:lnTo>
                    <a:pt x="17" y="201"/>
                  </a:lnTo>
                  <a:lnTo>
                    <a:pt x="25" y="215"/>
                  </a:lnTo>
                  <a:lnTo>
                    <a:pt x="35" y="226"/>
                  </a:lnTo>
                  <a:lnTo>
                    <a:pt x="44" y="238"/>
                  </a:lnTo>
                  <a:lnTo>
                    <a:pt x="56" y="247"/>
                  </a:lnTo>
                  <a:lnTo>
                    <a:pt x="67" y="255"/>
                  </a:lnTo>
                  <a:lnTo>
                    <a:pt x="75" y="261"/>
                  </a:lnTo>
                  <a:lnTo>
                    <a:pt x="75" y="259"/>
                  </a:lnTo>
                  <a:lnTo>
                    <a:pt x="75" y="257"/>
                  </a:lnTo>
                  <a:lnTo>
                    <a:pt x="75" y="255"/>
                  </a:lnTo>
                  <a:lnTo>
                    <a:pt x="75" y="253"/>
                  </a:lnTo>
                  <a:lnTo>
                    <a:pt x="73" y="251"/>
                  </a:lnTo>
                  <a:lnTo>
                    <a:pt x="73" y="251"/>
                  </a:lnTo>
                  <a:lnTo>
                    <a:pt x="73" y="249"/>
                  </a:lnTo>
                  <a:lnTo>
                    <a:pt x="73" y="247"/>
                  </a:lnTo>
                  <a:lnTo>
                    <a:pt x="62" y="240"/>
                  </a:lnTo>
                  <a:lnTo>
                    <a:pt x="52" y="230"/>
                  </a:lnTo>
                  <a:lnTo>
                    <a:pt x="42" y="218"/>
                  </a:lnTo>
                  <a:lnTo>
                    <a:pt x="35" y="209"/>
                  </a:lnTo>
                  <a:lnTo>
                    <a:pt x="27" y="195"/>
                  </a:lnTo>
                  <a:lnTo>
                    <a:pt x="21" y="184"/>
                  </a:lnTo>
                  <a:lnTo>
                    <a:pt x="17" y="170"/>
                  </a:lnTo>
                  <a:lnTo>
                    <a:pt x="14" y="157"/>
                  </a:lnTo>
                  <a:lnTo>
                    <a:pt x="12" y="142"/>
                  </a:lnTo>
                  <a:lnTo>
                    <a:pt x="10" y="128"/>
                  </a:lnTo>
                  <a:lnTo>
                    <a:pt x="12" y="113"/>
                  </a:lnTo>
                  <a:lnTo>
                    <a:pt x="14" y="99"/>
                  </a:lnTo>
                  <a:lnTo>
                    <a:pt x="17" y="84"/>
                  </a:lnTo>
                  <a:lnTo>
                    <a:pt x="21" y="73"/>
                  </a:lnTo>
                  <a:lnTo>
                    <a:pt x="27" y="59"/>
                  </a:lnTo>
                  <a:lnTo>
                    <a:pt x="35" y="48"/>
                  </a:lnTo>
                  <a:lnTo>
                    <a:pt x="42" y="36"/>
                  </a:lnTo>
                  <a:lnTo>
                    <a:pt x="52" y="27"/>
                  </a:lnTo>
                  <a:lnTo>
                    <a:pt x="62" y="17"/>
                  </a:lnTo>
                  <a:lnTo>
                    <a:pt x="69" y="13"/>
                  </a:lnTo>
                  <a:lnTo>
                    <a:pt x="69" y="11"/>
                  </a:lnTo>
                  <a:lnTo>
                    <a:pt x="69" y="9"/>
                  </a:lnTo>
                  <a:lnTo>
                    <a:pt x="69" y="7"/>
                  </a:lnTo>
                  <a:lnTo>
                    <a:pt x="69" y="5"/>
                  </a:lnTo>
                  <a:lnTo>
                    <a:pt x="69" y="4"/>
                  </a:lnTo>
                  <a:lnTo>
                    <a:pt x="69" y="2"/>
                  </a:lnTo>
                  <a:lnTo>
                    <a:pt x="69" y="0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e3f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Freeform 501"/>
            <p:cNvSpPr/>
            <p:nvPr/>
          </p:nvSpPr>
          <p:spPr>
            <a:xfrm>
              <a:off x="6229080" y="3056040"/>
              <a:ext cx="119520" cy="417240"/>
            </a:xfrm>
            <a:custGeom>
              <a:avLst/>
              <a:gdLst>
                <a:gd name="textAreaLeft" fmla="*/ 0 w 119520"/>
                <a:gd name="textAreaRight" fmla="*/ 119880 w 119520"/>
                <a:gd name="textAreaTop" fmla="*/ 0 h 417240"/>
                <a:gd name="textAreaBottom" fmla="*/ 417600 h 417240"/>
              </a:gdLst>
              <a:ahLst/>
              <a:rect l="textAreaLeft" t="textAreaTop" r="textAreaRight" b="textAreaBottom"/>
              <a:pathLst>
                <a:path w="71" h="248">
                  <a:moveTo>
                    <a:pt x="65" y="0"/>
                  </a:moveTo>
                  <a:lnTo>
                    <a:pt x="56" y="8"/>
                  </a:lnTo>
                  <a:lnTo>
                    <a:pt x="44" y="18"/>
                  </a:lnTo>
                  <a:lnTo>
                    <a:pt x="35" y="27"/>
                  </a:lnTo>
                  <a:lnTo>
                    <a:pt x="27" y="39"/>
                  </a:lnTo>
                  <a:lnTo>
                    <a:pt x="19" y="52"/>
                  </a:lnTo>
                  <a:lnTo>
                    <a:pt x="13" y="66"/>
                  </a:lnTo>
                  <a:lnTo>
                    <a:pt x="8" y="79"/>
                  </a:lnTo>
                  <a:lnTo>
                    <a:pt x="4" y="93"/>
                  </a:lnTo>
                  <a:lnTo>
                    <a:pt x="2" y="108"/>
                  </a:lnTo>
                  <a:lnTo>
                    <a:pt x="0" y="123"/>
                  </a:lnTo>
                  <a:lnTo>
                    <a:pt x="2" y="139"/>
                  </a:lnTo>
                  <a:lnTo>
                    <a:pt x="4" y="152"/>
                  </a:lnTo>
                  <a:lnTo>
                    <a:pt x="8" y="167"/>
                  </a:lnTo>
                  <a:lnTo>
                    <a:pt x="13" y="181"/>
                  </a:lnTo>
                  <a:lnTo>
                    <a:pt x="19" y="194"/>
                  </a:lnTo>
                  <a:lnTo>
                    <a:pt x="27" y="206"/>
                  </a:lnTo>
                  <a:lnTo>
                    <a:pt x="35" y="217"/>
                  </a:lnTo>
                  <a:lnTo>
                    <a:pt x="44" y="229"/>
                  </a:lnTo>
                  <a:lnTo>
                    <a:pt x="56" y="238"/>
                  </a:lnTo>
                  <a:lnTo>
                    <a:pt x="67" y="246"/>
                  </a:lnTo>
                  <a:lnTo>
                    <a:pt x="71" y="248"/>
                  </a:lnTo>
                  <a:lnTo>
                    <a:pt x="69" y="246"/>
                  </a:lnTo>
                  <a:lnTo>
                    <a:pt x="69" y="244"/>
                  </a:lnTo>
                  <a:lnTo>
                    <a:pt x="69" y="244"/>
                  </a:lnTo>
                  <a:lnTo>
                    <a:pt x="69" y="242"/>
                  </a:lnTo>
                  <a:lnTo>
                    <a:pt x="69" y="240"/>
                  </a:lnTo>
                  <a:lnTo>
                    <a:pt x="69" y="238"/>
                  </a:lnTo>
                  <a:lnTo>
                    <a:pt x="69" y="236"/>
                  </a:lnTo>
                  <a:lnTo>
                    <a:pt x="69" y="235"/>
                  </a:lnTo>
                  <a:lnTo>
                    <a:pt x="61" y="229"/>
                  </a:lnTo>
                  <a:lnTo>
                    <a:pt x="52" y="221"/>
                  </a:lnTo>
                  <a:lnTo>
                    <a:pt x="42" y="211"/>
                  </a:lnTo>
                  <a:lnTo>
                    <a:pt x="35" y="200"/>
                  </a:lnTo>
                  <a:lnTo>
                    <a:pt x="29" y="188"/>
                  </a:lnTo>
                  <a:lnTo>
                    <a:pt x="23" y="177"/>
                  </a:lnTo>
                  <a:lnTo>
                    <a:pt x="17" y="164"/>
                  </a:lnTo>
                  <a:lnTo>
                    <a:pt x="13" y="150"/>
                  </a:lnTo>
                  <a:lnTo>
                    <a:pt x="12" y="137"/>
                  </a:lnTo>
                  <a:lnTo>
                    <a:pt x="12" y="123"/>
                  </a:lnTo>
                  <a:lnTo>
                    <a:pt x="12" y="108"/>
                  </a:lnTo>
                  <a:lnTo>
                    <a:pt x="13" y="94"/>
                  </a:lnTo>
                  <a:lnTo>
                    <a:pt x="17" y="81"/>
                  </a:lnTo>
                  <a:lnTo>
                    <a:pt x="23" y="70"/>
                  </a:lnTo>
                  <a:lnTo>
                    <a:pt x="29" y="56"/>
                  </a:lnTo>
                  <a:lnTo>
                    <a:pt x="35" y="45"/>
                  </a:lnTo>
                  <a:lnTo>
                    <a:pt x="42" y="35"/>
                  </a:lnTo>
                  <a:lnTo>
                    <a:pt x="52" y="25"/>
                  </a:lnTo>
                  <a:lnTo>
                    <a:pt x="61" y="16"/>
                  </a:lnTo>
                  <a:lnTo>
                    <a:pt x="63" y="14"/>
                  </a:lnTo>
                  <a:lnTo>
                    <a:pt x="63" y="12"/>
                  </a:lnTo>
                  <a:lnTo>
                    <a:pt x="63" y="10"/>
                  </a:lnTo>
                  <a:lnTo>
                    <a:pt x="63" y="10"/>
                  </a:lnTo>
                  <a:lnTo>
                    <a:pt x="65" y="8"/>
                  </a:lnTo>
                  <a:lnTo>
                    <a:pt x="65" y="6"/>
                  </a:lnTo>
                  <a:lnTo>
                    <a:pt x="65" y="4"/>
                  </a:lnTo>
                  <a:lnTo>
                    <a:pt x="65" y="2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e4f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Freeform 502"/>
            <p:cNvSpPr/>
            <p:nvPr/>
          </p:nvSpPr>
          <p:spPr>
            <a:xfrm>
              <a:off x="6239520" y="3069720"/>
              <a:ext cx="105840" cy="39384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393840"/>
                <a:gd name="textAreaBottom" fmla="*/ 394200 h 393840"/>
              </a:gdLst>
              <a:ahLst/>
              <a:rect l="textAreaLeft" t="textAreaTop" r="textAreaRight" b="textAreaBottom"/>
              <a:pathLst>
                <a:path w="63" h="234">
                  <a:moveTo>
                    <a:pt x="59" y="0"/>
                  </a:moveTo>
                  <a:lnTo>
                    <a:pt x="52" y="4"/>
                  </a:lnTo>
                  <a:lnTo>
                    <a:pt x="42" y="14"/>
                  </a:lnTo>
                  <a:lnTo>
                    <a:pt x="32" y="23"/>
                  </a:lnTo>
                  <a:lnTo>
                    <a:pt x="25" y="35"/>
                  </a:lnTo>
                  <a:lnTo>
                    <a:pt x="17" y="46"/>
                  </a:lnTo>
                  <a:lnTo>
                    <a:pt x="11" y="60"/>
                  </a:lnTo>
                  <a:lnTo>
                    <a:pt x="7" y="71"/>
                  </a:lnTo>
                  <a:lnTo>
                    <a:pt x="4" y="86"/>
                  </a:lnTo>
                  <a:lnTo>
                    <a:pt x="2" y="100"/>
                  </a:lnTo>
                  <a:lnTo>
                    <a:pt x="0" y="115"/>
                  </a:lnTo>
                  <a:lnTo>
                    <a:pt x="2" y="129"/>
                  </a:lnTo>
                  <a:lnTo>
                    <a:pt x="4" y="144"/>
                  </a:lnTo>
                  <a:lnTo>
                    <a:pt x="7" y="157"/>
                  </a:lnTo>
                  <a:lnTo>
                    <a:pt x="11" y="171"/>
                  </a:lnTo>
                  <a:lnTo>
                    <a:pt x="17" y="182"/>
                  </a:lnTo>
                  <a:lnTo>
                    <a:pt x="25" y="196"/>
                  </a:lnTo>
                  <a:lnTo>
                    <a:pt x="32" y="205"/>
                  </a:lnTo>
                  <a:lnTo>
                    <a:pt x="42" y="217"/>
                  </a:lnTo>
                  <a:lnTo>
                    <a:pt x="52" y="227"/>
                  </a:lnTo>
                  <a:lnTo>
                    <a:pt x="63" y="234"/>
                  </a:lnTo>
                  <a:lnTo>
                    <a:pt x="63" y="232"/>
                  </a:lnTo>
                  <a:lnTo>
                    <a:pt x="63" y="230"/>
                  </a:lnTo>
                  <a:lnTo>
                    <a:pt x="63" y="228"/>
                  </a:lnTo>
                  <a:lnTo>
                    <a:pt x="63" y="227"/>
                  </a:lnTo>
                  <a:lnTo>
                    <a:pt x="63" y="225"/>
                  </a:lnTo>
                  <a:lnTo>
                    <a:pt x="63" y="223"/>
                  </a:lnTo>
                  <a:lnTo>
                    <a:pt x="61" y="221"/>
                  </a:lnTo>
                  <a:lnTo>
                    <a:pt x="61" y="219"/>
                  </a:lnTo>
                  <a:lnTo>
                    <a:pt x="59" y="217"/>
                  </a:lnTo>
                  <a:lnTo>
                    <a:pt x="50" y="209"/>
                  </a:lnTo>
                  <a:lnTo>
                    <a:pt x="42" y="200"/>
                  </a:lnTo>
                  <a:lnTo>
                    <a:pt x="34" y="190"/>
                  </a:lnTo>
                  <a:lnTo>
                    <a:pt x="27" y="179"/>
                  </a:lnTo>
                  <a:lnTo>
                    <a:pt x="21" y="167"/>
                  </a:lnTo>
                  <a:lnTo>
                    <a:pt x="17" y="154"/>
                  </a:lnTo>
                  <a:lnTo>
                    <a:pt x="13" y="142"/>
                  </a:lnTo>
                  <a:lnTo>
                    <a:pt x="11" y="129"/>
                  </a:lnTo>
                  <a:lnTo>
                    <a:pt x="11" y="115"/>
                  </a:lnTo>
                  <a:lnTo>
                    <a:pt x="11" y="102"/>
                  </a:lnTo>
                  <a:lnTo>
                    <a:pt x="13" y="88"/>
                  </a:lnTo>
                  <a:lnTo>
                    <a:pt x="17" y="75"/>
                  </a:lnTo>
                  <a:lnTo>
                    <a:pt x="21" y="63"/>
                  </a:lnTo>
                  <a:lnTo>
                    <a:pt x="27" y="52"/>
                  </a:lnTo>
                  <a:lnTo>
                    <a:pt x="34" y="40"/>
                  </a:lnTo>
                  <a:lnTo>
                    <a:pt x="42" y="31"/>
                  </a:lnTo>
                  <a:lnTo>
                    <a:pt x="50" y="21"/>
                  </a:lnTo>
                  <a:lnTo>
                    <a:pt x="57" y="14"/>
                  </a:lnTo>
                  <a:lnTo>
                    <a:pt x="57" y="12"/>
                  </a:lnTo>
                  <a:lnTo>
                    <a:pt x="57" y="10"/>
                  </a:lnTo>
                  <a:lnTo>
                    <a:pt x="57" y="8"/>
                  </a:lnTo>
                  <a:lnTo>
                    <a:pt x="57" y="6"/>
                  </a:lnTo>
                  <a:lnTo>
                    <a:pt x="57" y="4"/>
                  </a:lnTo>
                  <a:lnTo>
                    <a:pt x="57" y="4"/>
                  </a:lnTo>
                  <a:lnTo>
                    <a:pt x="57" y="2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e5f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Freeform 503"/>
            <p:cNvSpPr/>
            <p:nvPr/>
          </p:nvSpPr>
          <p:spPr>
            <a:xfrm>
              <a:off x="6249600" y="3079800"/>
              <a:ext cx="96120" cy="371880"/>
            </a:xfrm>
            <a:custGeom>
              <a:avLst/>
              <a:gdLst>
                <a:gd name="textAreaLeft" fmla="*/ 0 w 96120"/>
                <a:gd name="textAreaRight" fmla="*/ 96480 w 96120"/>
                <a:gd name="textAreaTop" fmla="*/ 0 h 371880"/>
                <a:gd name="textAreaBottom" fmla="*/ 372240 h 371880"/>
              </a:gdLst>
              <a:ahLst/>
              <a:rect l="textAreaLeft" t="textAreaTop" r="textAreaRight" b="textAreaBottom"/>
              <a:pathLst>
                <a:path w="57" h="221">
                  <a:moveTo>
                    <a:pt x="51" y="0"/>
                  </a:moveTo>
                  <a:lnTo>
                    <a:pt x="49" y="2"/>
                  </a:lnTo>
                  <a:lnTo>
                    <a:pt x="40" y="11"/>
                  </a:lnTo>
                  <a:lnTo>
                    <a:pt x="30" y="21"/>
                  </a:lnTo>
                  <a:lnTo>
                    <a:pt x="23" y="31"/>
                  </a:lnTo>
                  <a:lnTo>
                    <a:pt x="17" y="42"/>
                  </a:lnTo>
                  <a:lnTo>
                    <a:pt x="11" y="56"/>
                  </a:lnTo>
                  <a:lnTo>
                    <a:pt x="5" y="67"/>
                  </a:lnTo>
                  <a:lnTo>
                    <a:pt x="1" y="80"/>
                  </a:lnTo>
                  <a:lnTo>
                    <a:pt x="0" y="94"/>
                  </a:lnTo>
                  <a:lnTo>
                    <a:pt x="0" y="109"/>
                  </a:lnTo>
                  <a:lnTo>
                    <a:pt x="0" y="123"/>
                  </a:lnTo>
                  <a:lnTo>
                    <a:pt x="1" y="136"/>
                  </a:lnTo>
                  <a:lnTo>
                    <a:pt x="5" y="150"/>
                  </a:lnTo>
                  <a:lnTo>
                    <a:pt x="11" y="163"/>
                  </a:lnTo>
                  <a:lnTo>
                    <a:pt x="17" y="174"/>
                  </a:lnTo>
                  <a:lnTo>
                    <a:pt x="23" y="186"/>
                  </a:lnTo>
                  <a:lnTo>
                    <a:pt x="30" y="197"/>
                  </a:lnTo>
                  <a:lnTo>
                    <a:pt x="40" y="207"/>
                  </a:lnTo>
                  <a:lnTo>
                    <a:pt x="49" y="215"/>
                  </a:lnTo>
                  <a:lnTo>
                    <a:pt x="57" y="221"/>
                  </a:lnTo>
                  <a:lnTo>
                    <a:pt x="57" y="219"/>
                  </a:lnTo>
                  <a:lnTo>
                    <a:pt x="57" y="217"/>
                  </a:lnTo>
                  <a:lnTo>
                    <a:pt x="55" y="215"/>
                  </a:lnTo>
                  <a:lnTo>
                    <a:pt x="55" y="213"/>
                  </a:lnTo>
                  <a:lnTo>
                    <a:pt x="55" y="211"/>
                  </a:lnTo>
                  <a:lnTo>
                    <a:pt x="55" y="209"/>
                  </a:lnTo>
                  <a:lnTo>
                    <a:pt x="55" y="207"/>
                  </a:lnTo>
                  <a:lnTo>
                    <a:pt x="55" y="205"/>
                  </a:lnTo>
                  <a:lnTo>
                    <a:pt x="47" y="199"/>
                  </a:lnTo>
                  <a:lnTo>
                    <a:pt x="40" y="190"/>
                  </a:lnTo>
                  <a:lnTo>
                    <a:pt x="32" y="180"/>
                  </a:lnTo>
                  <a:lnTo>
                    <a:pt x="26" y="169"/>
                  </a:lnTo>
                  <a:lnTo>
                    <a:pt x="21" y="159"/>
                  </a:lnTo>
                  <a:lnTo>
                    <a:pt x="17" y="148"/>
                  </a:lnTo>
                  <a:lnTo>
                    <a:pt x="13" y="134"/>
                  </a:lnTo>
                  <a:lnTo>
                    <a:pt x="11" y="123"/>
                  </a:lnTo>
                  <a:lnTo>
                    <a:pt x="11" y="109"/>
                  </a:lnTo>
                  <a:lnTo>
                    <a:pt x="11" y="96"/>
                  </a:lnTo>
                  <a:lnTo>
                    <a:pt x="13" y="82"/>
                  </a:lnTo>
                  <a:lnTo>
                    <a:pt x="17" y="71"/>
                  </a:lnTo>
                  <a:lnTo>
                    <a:pt x="21" y="59"/>
                  </a:lnTo>
                  <a:lnTo>
                    <a:pt x="26" y="48"/>
                  </a:lnTo>
                  <a:lnTo>
                    <a:pt x="32" y="38"/>
                  </a:lnTo>
                  <a:lnTo>
                    <a:pt x="40" y="27"/>
                  </a:lnTo>
                  <a:lnTo>
                    <a:pt x="47" y="19"/>
                  </a:lnTo>
                  <a:lnTo>
                    <a:pt x="51" y="15"/>
                  </a:lnTo>
                  <a:lnTo>
                    <a:pt x="51" y="13"/>
                  </a:lnTo>
                  <a:lnTo>
                    <a:pt x="51" y="11"/>
                  </a:lnTo>
                  <a:lnTo>
                    <a:pt x="51" y="9"/>
                  </a:lnTo>
                  <a:lnTo>
                    <a:pt x="51" y="8"/>
                  </a:lnTo>
                  <a:lnTo>
                    <a:pt x="51" y="6"/>
                  </a:lnTo>
                  <a:lnTo>
                    <a:pt x="51" y="4"/>
                  </a:lnTo>
                  <a:lnTo>
                    <a:pt x="51" y="2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e6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Freeform 504"/>
            <p:cNvSpPr/>
            <p:nvPr/>
          </p:nvSpPr>
          <p:spPr>
            <a:xfrm>
              <a:off x="6257880" y="3093120"/>
              <a:ext cx="84240" cy="34488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344880"/>
                <a:gd name="textAreaBottom" fmla="*/ 344880 h 344880"/>
              </a:gdLst>
              <a:ahLst/>
              <a:rect l="textAreaLeft" t="textAreaTop" r="textAreaRight" b="textAreaBottom"/>
              <a:pathLst>
                <a:path w="50" h="205">
                  <a:moveTo>
                    <a:pt x="46" y="0"/>
                  </a:moveTo>
                  <a:lnTo>
                    <a:pt x="39" y="7"/>
                  </a:lnTo>
                  <a:lnTo>
                    <a:pt x="31" y="17"/>
                  </a:lnTo>
                  <a:lnTo>
                    <a:pt x="23" y="26"/>
                  </a:lnTo>
                  <a:lnTo>
                    <a:pt x="16" y="38"/>
                  </a:lnTo>
                  <a:lnTo>
                    <a:pt x="10" y="49"/>
                  </a:lnTo>
                  <a:lnTo>
                    <a:pt x="6" y="61"/>
                  </a:lnTo>
                  <a:lnTo>
                    <a:pt x="2" y="74"/>
                  </a:lnTo>
                  <a:lnTo>
                    <a:pt x="0" y="88"/>
                  </a:lnTo>
                  <a:lnTo>
                    <a:pt x="0" y="101"/>
                  </a:lnTo>
                  <a:lnTo>
                    <a:pt x="0" y="115"/>
                  </a:lnTo>
                  <a:lnTo>
                    <a:pt x="2" y="128"/>
                  </a:lnTo>
                  <a:lnTo>
                    <a:pt x="6" y="140"/>
                  </a:lnTo>
                  <a:lnTo>
                    <a:pt x="10" y="153"/>
                  </a:lnTo>
                  <a:lnTo>
                    <a:pt x="16" y="165"/>
                  </a:lnTo>
                  <a:lnTo>
                    <a:pt x="23" y="176"/>
                  </a:lnTo>
                  <a:lnTo>
                    <a:pt x="31" y="186"/>
                  </a:lnTo>
                  <a:lnTo>
                    <a:pt x="39" y="195"/>
                  </a:lnTo>
                  <a:lnTo>
                    <a:pt x="48" y="203"/>
                  </a:lnTo>
                  <a:lnTo>
                    <a:pt x="50" y="205"/>
                  </a:lnTo>
                  <a:lnTo>
                    <a:pt x="50" y="203"/>
                  </a:lnTo>
                  <a:lnTo>
                    <a:pt x="50" y="201"/>
                  </a:lnTo>
                  <a:lnTo>
                    <a:pt x="50" y="199"/>
                  </a:lnTo>
                  <a:lnTo>
                    <a:pt x="50" y="197"/>
                  </a:lnTo>
                  <a:lnTo>
                    <a:pt x="50" y="195"/>
                  </a:lnTo>
                  <a:lnTo>
                    <a:pt x="50" y="193"/>
                  </a:lnTo>
                  <a:lnTo>
                    <a:pt x="50" y="191"/>
                  </a:lnTo>
                  <a:lnTo>
                    <a:pt x="50" y="189"/>
                  </a:lnTo>
                  <a:lnTo>
                    <a:pt x="46" y="188"/>
                  </a:lnTo>
                  <a:lnTo>
                    <a:pt x="39" y="178"/>
                  </a:lnTo>
                  <a:lnTo>
                    <a:pt x="31" y="168"/>
                  </a:lnTo>
                  <a:lnTo>
                    <a:pt x="25" y="159"/>
                  </a:lnTo>
                  <a:lnTo>
                    <a:pt x="19" y="149"/>
                  </a:lnTo>
                  <a:lnTo>
                    <a:pt x="16" y="138"/>
                  </a:lnTo>
                  <a:lnTo>
                    <a:pt x="14" y="126"/>
                  </a:lnTo>
                  <a:lnTo>
                    <a:pt x="12" y="113"/>
                  </a:lnTo>
                  <a:lnTo>
                    <a:pt x="10" y="101"/>
                  </a:lnTo>
                  <a:lnTo>
                    <a:pt x="12" y="88"/>
                  </a:lnTo>
                  <a:lnTo>
                    <a:pt x="14" y="76"/>
                  </a:lnTo>
                  <a:lnTo>
                    <a:pt x="16" y="65"/>
                  </a:lnTo>
                  <a:lnTo>
                    <a:pt x="19" y="53"/>
                  </a:lnTo>
                  <a:lnTo>
                    <a:pt x="25" y="42"/>
                  </a:lnTo>
                  <a:lnTo>
                    <a:pt x="31" y="32"/>
                  </a:lnTo>
                  <a:lnTo>
                    <a:pt x="39" y="23"/>
                  </a:lnTo>
                  <a:lnTo>
                    <a:pt x="46" y="15"/>
                  </a:lnTo>
                  <a:lnTo>
                    <a:pt x="46" y="13"/>
                  </a:lnTo>
                  <a:lnTo>
                    <a:pt x="46" y="11"/>
                  </a:lnTo>
                  <a:lnTo>
                    <a:pt x="46" y="9"/>
                  </a:lnTo>
                  <a:lnTo>
                    <a:pt x="46" y="7"/>
                  </a:lnTo>
                  <a:lnTo>
                    <a:pt x="46" y="5"/>
                  </a:lnTo>
                  <a:lnTo>
                    <a:pt x="46" y="3"/>
                  </a:lnTo>
                  <a:lnTo>
                    <a:pt x="46" y="1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e7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Freeform 505"/>
            <p:cNvSpPr/>
            <p:nvPr/>
          </p:nvSpPr>
          <p:spPr>
            <a:xfrm>
              <a:off x="6268320" y="3105000"/>
              <a:ext cx="73800" cy="3196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19680"/>
                <a:gd name="textAreaBottom" fmla="*/ 320040 h 319680"/>
              </a:gdLst>
              <a:ahLst/>
              <a:rect l="textAreaLeft" t="textAreaTop" r="textAreaRight" b="textAreaBottom"/>
              <a:pathLst>
                <a:path w="44" h="190">
                  <a:moveTo>
                    <a:pt x="40" y="0"/>
                  </a:moveTo>
                  <a:lnTo>
                    <a:pt x="36" y="4"/>
                  </a:lnTo>
                  <a:lnTo>
                    <a:pt x="29" y="12"/>
                  </a:lnTo>
                  <a:lnTo>
                    <a:pt x="21" y="23"/>
                  </a:lnTo>
                  <a:lnTo>
                    <a:pt x="15" y="33"/>
                  </a:lnTo>
                  <a:lnTo>
                    <a:pt x="10" y="44"/>
                  </a:lnTo>
                  <a:lnTo>
                    <a:pt x="6" y="56"/>
                  </a:lnTo>
                  <a:lnTo>
                    <a:pt x="2" y="67"/>
                  </a:lnTo>
                  <a:lnTo>
                    <a:pt x="0" y="81"/>
                  </a:lnTo>
                  <a:lnTo>
                    <a:pt x="0" y="94"/>
                  </a:lnTo>
                  <a:lnTo>
                    <a:pt x="0" y="108"/>
                  </a:lnTo>
                  <a:lnTo>
                    <a:pt x="2" y="119"/>
                  </a:lnTo>
                  <a:lnTo>
                    <a:pt x="6" y="133"/>
                  </a:lnTo>
                  <a:lnTo>
                    <a:pt x="10" y="144"/>
                  </a:lnTo>
                  <a:lnTo>
                    <a:pt x="15" y="154"/>
                  </a:lnTo>
                  <a:lnTo>
                    <a:pt x="21" y="165"/>
                  </a:lnTo>
                  <a:lnTo>
                    <a:pt x="29" y="175"/>
                  </a:lnTo>
                  <a:lnTo>
                    <a:pt x="36" y="184"/>
                  </a:lnTo>
                  <a:lnTo>
                    <a:pt x="44" y="190"/>
                  </a:lnTo>
                  <a:lnTo>
                    <a:pt x="44" y="188"/>
                  </a:lnTo>
                  <a:lnTo>
                    <a:pt x="44" y="186"/>
                  </a:lnTo>
                  <a:lnTo>
                    <a:pt x="44" y="184"/>
                  </a:lnTo>
                  <a:lnTo>
                    <a:pt x="44" y="182"/>
                  </a:lnTo>
                  <a:lnTo>
                    <a:pt x="44" y="181"/>
                  </a:lnTo>
                  <a:lnTo>
                    <a:pt x="44" y="179"/>
                  </a:lnTo>
                  <a:lnTo>
                    <a:pt x="42" y="177"/>
                  </a:lnTo>
                  <a:lnTo>
                    <a:pt x="42" y="175"/>
                  </a:lnTo>
                  <a:lnTo>
                    <a:pt x="36" y="169"/>
                  </a:lnTo>
                  <a:lnTo>
                    <a:pt x="29" y="159"/>
                  </a:lnTo>
                  <a:lnTo>
                    <a:pt x="23" y="150"/>
                  </a:lnTo>
                  <a:lnTo>
                    <a:pt x="19" y="140"/>
                  </a:lnTo>
                  <a:lnTo>
                    <a:pt x="15" y="129"/>
                  </a:lnTo>
                  <a:lnTo>
                    <a:pt x="12" y="117"/>
                  </a:lnTo>
                  <a:lnTo>
                    <a:pt x="10" y="106"/>
                  </a:lnTo>
                  <a:lnTo>
                    <a:pt x="10" y="94"/>
                  </a:lnTo>
                  <a:lnTo>
                    <a:pt x="10" y="83"/>
                  </a:lnTo>
                  <a:lnTo>
                    <a:pt x="12" y="69"/>
                  </a:lnTo>
                  <a:lnTo>
                    <a:pt x="15" y="60"/>
                  </a:lnTo>
                  <a:lnTo>
                    <a:pt x="19" y="48"/>
                  </a:lnTo>
                  <a:lnTo>
                    <a:pt x="23" y="39"/>
                  </a:lnTo>
                  <a:lnTo>
                    <a:pt x="29" y="29"/>
                  </a:lnTo>
                  <a:lnTo>
                    <a:pt x="36" y="19"/>
                  </a:lnTo>
                  <a:lnTo>
                    <a:pt x="40" y="16"/>
                  </a:lnTo>
                  <a:lnTo>
                    <a:pt x="40" y="14"/>
                  </a:lnTo>
                  <a:lnTo>
                    <a:pt x="40" y="12"/>
                  </a:lnTo>
                  <a:lnTo>
                    <a:pt x="40" y="10"/>
                  </a:lnTo>
                  <a:lnTo>
                    <a:pt x="40" y="8"/>
                  </a:lnTo>
                  <a:lnTo>
                    <a:pt x="40" y="6"/>
                  </a:lnTo>
                  <a:lnTo>
                    <a:pt x="40" y="4"/>
                  </a:lnTo>
                  <a:lnTo>
                    <a:pt x="40" y="2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e8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Freeform 506"/>
            <p:cNvSpPr/>
            <p:nvPr/>
          </p:nvSpPr>
          <p:spPr>
            <a:xfrm>
              <a:off x="6274800" y="3118320"/>
              <a:ext cx="67320" cy="292680"/>
            </a:xfrm>
            <a:custGeom>
              <a:avLst/>
              <a:gdLst>
                <a:gd name="textAreaLeft" fmla="*/ 0 w 67320"/>
                <a:gd name="textAreaRight" fmla="*/ 67680 w 67320"/>
                <a:gd name="textAreaTop" fmla="*/ 0 h 292680"/>
                <a:gd name="textAreaBottom" fmla="*/ 293040 h 292680"/>
              </a:gdLst>
              <a:ahLst/>
              <a:rect l="textAreaLeft" t="textAreaTop" r="textAreaRight" b="textAreaBottom"/>
              <a:pathLst>
                <a:path w="40" h="174">
                  <a:moveTo>
                    <a:pt x="36" y="0"/>
                  </a:moveTo>
                  <a:lnTo>
                    <a:pt x="29" y="8"/>
                  </a:lnTo>
                  <a:lnTo>
                    <a:pt x="21" y="17"/>
                  </a:lnTo>
                  <a:lnTo>
                    <a:pt x="15" y="27"/>
                  </a:lnTo>
                  <a:lnTo>
                    <a:pt x="9" y="38"/>
                  </a:lnTo>
                  <a:lnTo>
                    <a:pt x="6" y="50"/>
                  </a:lnTo>
                  <a:lnTo>
                    <a:pt x="4" y="61"/>
                  </a:lnTo>
                  <a:lnTo>
                    <a:pt x="2" y="73"/>
                  </a:lnTo>
                  <a:lnTo>
                    <a:pt x="0" y="86"/>
                  </a:lnTo>
                  <a:lnTo>
                    <a:pt x="2" y="98"/>
                  </a:lnTo>
                  <a:lnTo>
                    <a:pt x="4" y="111"/>
                  </a:lnTo>
                  <a:lnTo>
                    <a:pt x="6" y="123"/>
                  </a:lnTo>
                  <a:lnTo>
                    <a:pt x="9" y="134"/>
                  </a:lnTo>
                  <a:lnTo>
                    <a:pt x="15" y="144"/>
                  </a:lnTo>
                  <a:lnTo>
                    <a:pt x="21" y="153"/>
                  </a:lnTo>
                  <a:lnTo>
                    <a:pt x="29" y="163"/>
                  </a:lnTo>
                  <a:lnTo>
                    <a:pt x="36" y="173"/>
                  </a:lnTo>
                  <a:lnTo>
                    <a:pt x="40" y="174"/>
                  </a:lnTo>
                  <a:lnTo>
                    <a:pt x="40" y="173"/>
                  </a:lnTo>
                  <a:lnTo>
                    <a:pt x="38" y="171"/>
                  </a:lnTo>
                  <a:lnTo>
                    <a:pt x="38" y="169"/>
                  </a:lnTo>
                  <a:lnTo>
                    <a:pt x="38" y="167"/>
                  </a:lnTo>
                  <a:lnTo>
                    <a:pt x="38" y="165"/>
                  </a:lnTo>
                  <a:lnTo>
                    <a:pt x="38" y="163"/>
                  </a:lnTo>
                  <a:lnTo>
                    <a:pt x="38" y="161"/>
                  </a:lnTo>
                  <a:lnTo>
                    <a:pt x="38" y="159"/>
                  </a:lnTo>
                  <a:lnTo>
                    <a:pt x="36" y="157"/>
                  </a:lnTo>
                  <a:lnTo>
                    <a:pt x="31" y="148"/>
                  </a:lnTo>
                  <a:lnTo>
                    <a:pt x="25" y="140"/>
                  </a:lnTo>
                  <a:lnTo>
                    <a:pt x="19" y="128"/>
                  </a:lnTo>
                  <a:lnTo>
                    <a:pt x="15" y="119"/>
                  </a:lnTo>
                  <a:lnTo>
                    <a:pt x="13" y="107"/>
                  </a:lnTo>
                  <a:lnTo>
                    <a:pt x="11" y="98"/>
                  </a:lnTo>
                  <a:lnTo>
                    <a:pt x="11" y="86"/>
                  </a:lnTo>
                  <a:lnTo>
                    <a:pt x="11" y="75"/>
                  </a:lnTo>
                  <a:lnTo>
                    <a:pt x="13" y="63"/>
                  </a:lnTo>
                  <a:lnTo>
                    <a:pt x="15" y="52"/>
                  </a:lnTo>
                  <a:lnTo>
                    <a:pt x="19" y="42"/>
                  </a:lnTo>
                  <a:lnTo>
                    <a:pt x="25" y="33"/>
                  </a:lnTo>
                  <a:lnTo>
                    <a:pt x="31" y="23"/>
                  </a:lnTo>
                  <a:lnTo>
                    <a:pt x="34" y="17"/>
                  </a:lnTo>
                  <a:lnTo>
                    <a:pt x="34" y="15"/>
                  </a:lnTo>
                  <a:lnTo>
                    <a:pt x="34" y="13"/>
                  </a:lnTo>
                  <a:lnTo>
                    <a:pt x="36" y="9"/>
                  </a:lnTo>
                  <a:lnTo>
                    <a:pt x="36" y="8"/>
                  </a:lnTo>
                  <a:lnTo>
                    <a:pt x="36" y="6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e9f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Freeform 507"/>
            <p:cNvSpPr/>
            <p:nvPr/>
          </p:nvSpPr>
          <p:spPr>
            <a:xfrm>
              <a:off x="6284880" y="3131640"/>
              <a:ext cx="53640" cy="2674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267480"/>
                <a:gd name="textAreaBottom" fmla="*/ 267840 h 267480"/>
              </a:gdLst>
              <a:ahLst/>
              <a:rect l="textAreaLeft" t="textAreaTop" r="textAreaRight" b="textAreaBottom"/>
              <a:pathLst>
                <a:path w="32" h="159">
                  <a:moveTo>
                    <a:pt x="30" y="0"/>
                  </a:moveTo>
                  <a:lnTo>
                    <a:pt x="26" y="3"/>
                  </a:lnTo>
                  <a:lnTo>
                    <a:pt x="19" y="13"/>
                  </a:lnTo>
                  <a:lnTo>
                    <a:pt x="13" y="23"/>
                  </a:lnTo>
                  <a:lnTo>
                    <a:pt x="9" y="32"/>
                  </a:lnTo>
                  <a:lnTo>
                    <a:pt x="5" y="44"/>
                  </a:lnTo>
                  <a:lnTo>
                    <a:pt x="2" y="53"/>
                  </a:lnTo>
                  <a:lnTo>
                    <a:pt x="0" y="67"/>
                  </a:lnTo>
                  <a:lnTo>
                    <a:pt x="0" y="78"/>
                  </a:lnTo>
                  <a:lnTo>
                    <a:pt x="0" y="90"/>
                  </a:lnTo>
                  <a:lnTo>
                    <a:pt x="2" y="101"/>
                  </a:lnTo>
                  <a:lnTo>
                    <a:pt x="5" y="113"/>
                  </a:lnTo>
                  <a:lnTo>
                    <a:pt x="9" y="124"/>
                  </a:lnTo>
                  <a:lnTo>
                    <a:pt x="13" y="134"/>
                  </a:lnTo>
                  <a:lnTo>
                    <a:pt x="19" y="143"/>
                  </a:lnTo>
                  <a:lnTo>
                    <a:pt x="26" y="153"/>
                  </a:lnTo>
                  <a:lnTo>
                    <a:pt x="32" y="159"/>
                  </a:lnTo>
                  <a:lnTo>
                    <a:pt x="32" y="157"/>
                  </a:lnTo>
                  <a:lnTo>
                    <a:pt x="32" y="155"/>
                  </a:lnTo>
                  <a:lnTo>
                    <a:pt x="32" y="153"/>
                  </a:lnTo>
                  <a:lnTo>
                    <a:pt x="32" y="151"/>
                  </a:lnTo>
                  <a:lnTo>
                    <a:pt x="32" y="147"/>
                  </a:lnTo>
                  <a:lnTo>
                    <a:pt x="32" y="145"/>
                  </a:lnTo>
                  <a:lnTo>
                    <a:pt x="32" y="143"/>
                  </a:lnTo>
                  <a:lnTo>
                    <a:pt x="32" y="142"/>
                  </a:lnTo>
                  <a:lnTo>
                    <a:pt x="28" y="138"/>
                  </a:lnTo>
                  <a:lnTo>
                    <a:pt x="23" y="128"/>
                  </a:lnTo>
                  <a:lnTo>
                    <a:pt x="19" y="119"/>
                  </a:lnTo>
                  <a:lnTo>
                    <a:pt x="15" y="109"/>
                  </a:lnTo>
                  <a:lnTo>
                    <a:pt x="13" y="99"/>
                  </a:lnTo>
                  <a:lnTo>
                    <a:pt x="11" y="88"/>
                  </a:lnTo>
                  <a:lnTo>
                    <a:pt x="11" y="78"/>
                  </a:lnTo>
                  <a:lnTo>
                    <a:pt x="11" y="67"/>
                  </a:lnTo>
                  <a:lnTo>
                    <a:pt x="13" y="57"/>
                  </a:lnTo>
                  <a:lnTo>
                    <a:pt x="15" y="46"/>
                  </a:lnTo>
                  <a:lnTo>
                    <a:pt x="19" y="36"/>
                  </a:lnTo>
                  <a:lnTo>
                    <a:pt x="23" y="26"/>
                  </a:lnTo>
                  <a:lnTo>
                    <a:pt x="28" y="19"/>
                  </a:lnTo>
                  <a:lnTo>
                    <a:pt x="28" y="19"/>
                  </a:lnTo>
                  <a:lnTo>
                    <a:pt x="28" y="15"/>
                  </a:lnTo>
                  <a:lnTo>
                    <a:pt x="28" y="13"/>
                  </a:lnTo>
                  <a:lnTo>
                    <a:pt x="28" y="11"/>
                  </a:lnTo>
                  <a:lnTo>
                    <a:pt x="28" y="9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30" y="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eaf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Freeform 508"/>
            <p:cNvSpPr/>
            <p:nvPr/>
          </p:nvSpPr>
          <p:spPr>
            <a:xfrm>
              <a:off x="6293520" y="3147120"/>
              <a:ext cx="45360" cy="239040"/>
            </a:xfrm>
            <a:custGeom>
              <a:avLst/>
              <a:gdLst>
                <a:gd name="textAreaLeft" fmla="*/ 0 w 45360"/>
                <a:gd name="textAreaRight" fmla="*/ 45360 w 4536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7" h="142">
                  <a:moveTo>
                    <a:pt x="23" y="0"/>
                  </a:moveTo>
                  <a:lnTo>
                    <a:pt x="20" y="6"/>
                  </a:lnTo>
                  <a:lnTo>
                    <a:pt x="14" y="16"/>
                  </a:lnTo>
                  <a:lnTo>
                    <a:pt x="8" y="25"/>
                  </a:lnTo>
                  <a:lnTo>
                    <a:pt x="4" y="35"/>
                  </a:lnTo>
                  <a:lnTo>
                    <a:pt x="2" y="46"/>
                  </a:lnTo>
                  <a:lnTo>
                    <a:pt x="0" y="58"/>
                  </a:lnTo>
                  <a:lnTo>
                    <a:pt x="0" y="69"/>
                  </a:lnTo>
                  <a:lnTo>
                    <a:pt x="0" y="81"/>
                  </a:lnTo>
                  <a:lnTo>
                    <a:pt x="2" y="90"/>
                  </a:lnTo>
                  <a:lnTo>
                    <a:pt x="4" y="102"/>
                  </a:lnTo>
                  <a:lnTo>
                    <a:pt x="8" y="111"/>
                  </a:lnTo>
                  <a:lnTo>
                    <a:pt x="14" y="123"/>
                  </a:lnTo>
                  <a:lnTo>
                    <a:pt x="20" y="131"/>
                  </a:lnTo>
                  <a:lnTo>
                    <a:pt x="25" y="140"/>
                  </a:lnTo>
                  <a:lnTo>
                    <a:pt x="27" y="142"/>
                  </a:lnTo>
                  <a:lnTo>
                    <a:pt x="27" y="138"/>
                  </a:lnTo>
                  <a:lnTo>
                    <a:pt x="27" y="136"/>
                  </a:lnTo>
                  <a:lnTo>
                    <a:pt x="27" y="134"/>
                  </a:lnTo>
                  <a:lnTo>
                    <a:pt x="27" y="131"/>
                  </a:lnTo>
                  <a:lnTo>
                    <a:pt x="27" y="129"/>
                  </a:lnTo>
                  <a:lnTo>
                    <a:pt x="25" y="127"/>
                  </a:lnTo>
                  <a:lnTo>
                    <a:pt x="25" y="125"/>
                  </a:lnTo>
                  <a:lnTo>
                    <a:pt x="25" y="121"/>
                  </a:lnTo>
                  <a:lnTo>
                    <a:pt x="20" y="108"/>
                  </a:lnTo>
                  <a:lnTo>
                    <a:pt x="16" y="98"/>
                  </a:lnTo>
                  <a:lnTo>
                    <a:pt x="12" y="88"/>
                  </a:lnTo>
                  <a:lnTo>
                    <a:pt x="12" y="79"/>
                  </a:lnTo>
                  <a:lnTo>
                    <a:pt x="10" y="69"/>
                  </a:lnTo>
                  <a:lnTo>
                    <a:pt x="12" y="58"/>
                  </a:lnTo>
                  <a:lnTo>
                    <a:pt x="12" y="48"/>
                  </a:lnTo>
                  <a:lnTo>
                    <a:pt x="16" y="39"/>
                  </a:lnTo>
                  <a:lnTo>
                    <a:pt x="20" y="29"/>
                  </a:lnTo>
                  <a:lnTo>
                    <a:pt x="23" y="19"/>
                  </a:lnTo>
                  <a:lnTo>
                    <a:pt x="23" y="17"/>
                  </a:lnTo>
                  <a:lnTo>
                    <a:pt x="23" y="16"/>
                  </a:lnTo>
                  <a:lnTo>
                    <a:pt x="23" y="12"/>
                  </a:lnTo>
                  <a:lnTo>
                    <a:pt x="23" y="10"/>
                  </a:lnTo>
                  <a:lnTo>
                    <a:pt x="23" y="8"/>
                  </a:lnTo>
                  <a:lnTo>
                    <a:pt x="23" y="4"/>
                  </a:lnTo>
                  <a:lnTo>
                    <a:pt x="23" y="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eb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Freeform 509"/>
            <p:cNvSpPr/>
            <p:nvPr/>
          </p:nvSpPr>
          <p:spPr>
            <a:xfrm>
              <a:off x="6303240" y="3164040"/>
              <a:ext cx="35280" cy="20664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21" h="123">
                  <a:moveTo>
                    <a:pt x="17" y="0"/>
                  </a:moveTo>
                  <a:lnTo>
                    <a:pt x="17" y="0"/>
                  </a:lnTo>
                  <a:lnTo>
                    <a:pt x="12" y="7"/>
                  </a:lnTo>
                  <a:lnTo>
                    <a:pt x="8" y="17"/>
                  </a:lnTo>
                  <a:lnTo>
                    <a:pt x="4" y="27"/>
                  </a:lnTo>
                  <a:lnTo>
                    <a:pt x="2" y="38"/>
                  </a:lnTo>
                  <a:lnTo>
                    <a:pt x="0" y="48"/>
                  </a:lnTo>
                  <a:lnTo>
                    <a:pt x="0" y="59"/>
                  </a:lnTo>
                  <a:lnTo>
                    <a:pt x="0" y="69"/>
                  </a:lnTo>
                  <a:lnTo>
                    <a:pt x="2" y="80"/>
                  </a:lnTo>
                  <a:lnTo>
                    <a:pt x="4" y="90"/>
                  </a:lnTo>
                  <a:lnTo>
                    <a:pt x="8" y="100"/>
                  </a:lnTo>
                  <a:lnTo>
                    <a:pt x="12" y="109"/>
                  </a:lnTo>
                  <a:lnTo>
                    <a:pt x="17" y="119"/>
                  </a:lnTo>
                  <a:lnTo>
                    <a:pt x="21" y="123"/>
                  </a:lnTo>
                  <a:lnTo>
                    <a:pt x="21" y="119"/>
                  </a:lnTo>
                  <a:lnTo>
                    <a:pt x="19" y="117"/>
                  </a:lnTo>
                  <a:lnTo>
                    <a:pt x="19" y="113"/>
                  </a:lnTo>
                  <a:lnTo>
                    <a:pt x="19" y="111"/>
                  </a:lnTo>
                  <a:lnTo>
                    <a:pt x="19" y="107"/>
                  </a:lnTo>
                  <a:lnTo>
                    <a:pt x="19" y="105"/>
                  </a:lnTo>
                  <a:lnTo>
                    <a:pt x="19" y="101"/>
                  </a:lnTo>
                  <a:lnTo>
                    <a:pt x="19" y="100"/>
                  </a:lnTo>
                  <a:lnTo>
                    <a:pt x="17" y="96"/>
                  </a:lnTo>
                  <a:lnTo>
                    <a:pt x="12" y="78"/>
                  </a:lnTo>
                  <a:lnTo>
                    <a:pt x="10" y="59"/>
                  </a:lnTo>
                  <a:lnTo>
                    <a:pt x="12" y="40"/>
                  </a:lnTo>
                  <a:lnTo>
                    <a:pt x="17" y="21"/>
                  </a:lnTo>
                  <a:lnTo>
                    <a:pt x="17" y="21"/>
                  </a:lnTo>
                  <a:lnTo>
                    <a:pt x="17" y="19"/>
                  </a:lnTo>
                  <a:lnTo>
                    <a:pt x="17" y="15"/>
                  </a:lnTo>
                  <a:lnTo>
                    <a:pt x="17" y="13"/>
                  </a:lnTo>
                  <a:lnTo>
                    <a:pt x="17" y="9"/>
                  </a:lnTo>
                  <a:lnTo>
                    <a:pt x="17" y="7"/>
                  </a:lnTo>
                  <a:lnTo>
                    <a:pt x="17" y="4"/>
                  </a:lnTo>
                  <a:lnTo>
                    <a:pt x="17" y="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Freeform 510"/>
            <p:cNvSpPr/>
            <p:nvPr/>
          </p:nvSpPr>
          <p:spPr>
            <a:xfrm>
              <a:off x="6310080" y="3179160"/>
              <a:ext cx="25200" cy="1713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5" h="102">
                  <a:moveTo>
                    <a:pt x="13" y="0"/>
                  </a:moveTo>
                  <a:lnTo>
                    <a:pt x="10" y="10"/>
                  </a:lnTo>
                  <a:lnTo>
                    <a:pt x="6" y="20"/>
                  </a:lnTo>
                  <a:lnTo>
                    <a:pt x="2" y="29"/>
                  </a:lnTo>
                  <a:lnTo>
                    <a:pt x="2" y="39"/>
                  </a:lnTo>
                  <a:lnTo>
                    <a:pt x="0" y="50"/>
                  </a:lnTo>
                  <a:lnTo>
                    <a:pt x="2" y="60"/>
                  </a:lnTo>
                  <a:lnTo>
                    <a:pt x="2" y="69"/>
                  </a:lnTo>
                  <a:lnTo>
                    <a:pt x="6" y="79"/>
                  </a:lnTo>
                  <a:lnTo>
                    <a:pt x="10" y="89"/>
                  </a:lnTo>
                  <a:lnTo>
                    <a:pt x="15" y="102"/>
                  </a:lnTo>
                  <a:lnTo>
                    <a:pt x="15" y="98"/>
                  </a:lnTo>
                  <a:lnTo>
                    <a:pt x="15" y="94"/>
                  </a:lnTo>
                  <a:lnTo>
                    <a:pt x="15" y="91"/>
                  </a:lnTo>
                  <a:lnTo>
                    <a:pt x="15" y="87"/>
                  </a:lnTo>
                  <a:lnTo>
                    <a:pt x="15" y="83"/>
                  </a:lnTo>
                  <a:lnTo>
                    <a:pt x="15" y="79"/>
                  </a:lnTo>
                  <a:lnTo>
                    <a:pt x="15" y="75"/>
                  </a:lnTo>
                  <a:lnTo>
                    <a:pt x="15" y="71"/>
                  </a:lnTo>
                  <a:lnTo>
                    <a:pt x="13" y="68"/>
                  </a:lnTo>
                  <a:lnTo>
                    <a:pt x="11" y="50"/>
                  </a:lnTo>
                  <a:lnTo>
                    <a:pt x="13" y="31"/>
                  </a:lnTo>
                  <a:lnTo>
                    <a:pt x="13" y="31"/>
                  </a:lnTo>
                  <a:lnTo>
                    <a:pt x="13" y="27"/>
                  </a:lnTo>
                  <a:lnTo>
                    <a:pt x="13" y="23"/>
                  </a:lnTo>
                  <a:lnTo>
                    <a:pt x="13" y="20"/>
                  </a:lnTo>
                  <a:lnTo>
                    <a:pt x="13" y="16"/>
                  </a:lnTo>
                  <a:lnTo>
                    <a:pt x="13" y="12"/>
                  </a:lnTo>
                  <a:lnTo>
                    <a:pt x="13" y="8"/>
                  </a:lnTo>
                  <a:lnTo>
                    <a:pt x="13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d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Freeform 511"/>
            <p:cNvSpPr/>
            <p:nvPr/>
          </p:nvSpPr>
          <p:spPr>
            <a:xfrm>
              <a:off x="6320160" y="3199320"/>
              <a:ext cx="15120" cy="13284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132840"/>
                <a:gd name="textAreaBottom" fmla="*/ 133200 h 132840"/>
              </a:gdLst>
              <a:ahLst/>
              <a:rect l="textAreaLeft" t="textAreaTop" r="textAreaRight" b="textAreaBottom"/>
              <a:pathLst>
                <a:path w="9" h="79">
                  <a:moveTo>
                    <a:pt x="7" y="0"/>
                  </a:moveTo>
                  <a:lnTo>
                    <a:pt x="7" y="0"/>
                  </a:lnTo>
                  <a:lnTo>
                    <a:pt x="2" y="19"/>
                  </a:lnTo>
                  <a:lnTo>
                    <a:pt x="0" y="38"/>
                  </a:lnTo>
                  <a:lnTo>
                    <a:pt x="2" y="57"/>
                  </a:lnTo>
                  <a:lnTo>
                    <a:pt x="7" y="75"/>
                  </a:lnTo>
                  <a:lnTo>
                    <a:pt x="9" y="79"/>
                  </a:lnTo>
                  <a:lnTo>
                    <a:pt x="9" y="69"/>
                  </a:lnTo>
                  <a:lnTo>
                    <a:pt x="9" y="59"/>
                  </a:lnTo>
                  <a:lnTo>
                    <a:pt x="7" y="50"/>
                  </a:lnTo>
                  <a:lnTo>
                    <a:pt x="7" y="40"/>
                  </a:lnTo>
                  <a:lnTo>
                    <a:pt x="7" y="31"/>
                  </a:lnTo>
                  <a:lnTo>
                    <a:pt x="7" y="19"/>
                  </a:lnTo>
                  <a:lnTo>
                    <a:pt x="7" y="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ef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Freeform 512"/>
            <p:cNvSpPr/>
            <p:nvPr/>
          </p:nvSpPr>
          <p:spPr>
            <a:xfrm>
              <a:off x="6328440" y="3231000"/>
              <a:ext cx="6840" cy="6732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4" h="40">
                  <a:moveTo>
                    <a:pt x="2" y="0"/>
                  </a:moveTo>
                  <a:lnTo>
                    <a:pt x="2" y="0"/>
                  </a:lnTo>
                  <a:lnTo>
                    <a:pt x="0" y="19"/>
                  </a:lnTo>
                  <a:lnTo>
                    <a:pt x="2" y="37"/>
                  </a:lnTo>
                  <a:lnTo>
                    <a:pt x="4" y="40"/>
                  </a:lnTo>
                  <a:lnTo>
                    <a:pt x="2" y="37"/>
                  </a:lnTo>
                  <a:lnTo>
                    <a:pt x="2" y="31"/>
                  </a:lnTo>
                  <a:lnTo>
                    <a:pt x="2" y="25"/>
                  </a:lnTo>
                  <a:lnTo>
                    <a:pt x="2" y="21"/>
                  </a:lnTo>
                  <a:lnTo>
                    <a:pt x="2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ff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Freeform 513"/>
            <p:cNvSpPr/>
            <p:nvPr/>
          </p:nvSpPr>
          <p:spPr>
            <a:xfrm>
              <a:off x="6532560" y="1121400"/>
              <a:ext cx="695160" cy="13320"/>
            </a:xfrm>
            <a:custGeom>
              <a:avLst/>
              <a:gdLst>
                <a:gd name="textAreaLeft" fmla="*/ 0 w 695160"/>
                <a:gd name="textAreaRight" fmla="*/ 695520 w 69516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413" h="8">
                  <a:moveTo>
                    <a:pt x="411" y="6"/>
                  </a:moveTo>
                  <a:lnTo>
                    <a:pt x="407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407" y="8"/>
                  </a:lnTo>
                  <a:lnTo>
                    <a:pt x="403" y="4"/>
                  </a:lnTo>
                  <a:lnTo>
                    <a:pt x="411" y="6"/>
                  </a:lnTo>
                  <a:lnTo>
                    <a:pt x="413" y="0"/>
                  </a:lnTo>
                  <a:lnTo>
                    <a:pt x="407" y="0"/>
                  </a:lnTo>
                  <a:lnTo>
                    <a:pt x="41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Freeform 514"/>
            <p:cNvSpPr/>
            <p:nvPr/>
          </p:nvSpPr>
          <p:spPr>
            <a:xfrm>
              <a:off x="6946920" y="1128240"/>
              <a:ext cx="277560" cy="575640"/>
            </a:xfrm>
            <a:custGeom>
              <a:avLst/>
              <a:gdLst>
                <a:gd name="textAreaLeft" fmla="*/ 0 w 277560"/>
                <a:gd name="textAreaRight" fmla="*/ 277920 w 277560"/>
                <a:gd name="textAreaTop" fmla="*/ 0 h 575640"/>
                <a:gd name="textAreaBottom" fmla="*/ 576000 h 575640"/>
              </a:gdLst>
              <a:ahLst/>
              <a:rect l="textAreaLeft" t="textAreaTop" r="textAreaRight" b="textAreaBottom"/>
              <a:pathLst>
                <a:path w="165" h="342">
                  <a:moveTo>
                    <a:pt x="8" y="342"/>
                  </a:moveTo>
                  <a:lnTo>
                    <a:pt x="10" y="340"/>
                  </a:lnTo>
                  <a:lnTo>
                    <a:pt x="12" y="328"/>
                  </a:lnTo>
                  <a:lnTo>
                    <a:pt x="17" y="313"/>
                  </a:lnTo>
                  <a:lnTo>
                    <a:pt x="25" y="297"/>
                  </a:lnTo>
                  <a:lnTo>
                    <a:pt x="33" y="278"/>
                  </a:lnTo>
                  <a:lnTo>
                    <a:pt x="54" y="236"/>
                  </a:lnTo>
                  <a:lnTo>
                    <a:pt x="79" y="190"/>
                  </a:lnTo>
                  <a:lnTo>
                    <a:pt x="106" y="142"/>
                  </a:lnTo>
                  <a:lnTo>
                    <a:pt x="129" y="92"/>
                  </a:lnTo>
                  <a:lnTo>
                    <a:pt x="140" y="69"/>
                  </a:lnTo>
                  <a:lnTo>
                    <a:pt x="150" y="46"/>
                  </a:lnTo>
                  <a:lnTo>
                    <a:pt x="159" y="23"/>
                  </a:lnTo>
                  <a:lnTo>
                    <a:pt x="165" y="2"/>
                  </a:lnTo>
                  <a:lnTo>
                    <a:pt x="157" y="0"/>
                  </a:lnTo>
                  <a:lnTo>
                    <a:pt x="152" y="21"/>
                  </a:lnTo>
                  <a:lnTo>
                    <a:pt x="142" y="42"/>
                  </a:lnTo>
                  <a:lnTo>
                    <a:pt x="133" y="65"/>
                  </a:lnTo>
                  <a:lnTo>
                    <a:pt x="123" y="90"/>
                  </a:lnTo>
                  <a:lnTo>
                    <a:pt x="98" y="138"/>
                  </a:lnTo>
                  <a:lnTo>
                    <a:pt x="73" y="186"/>
                  </a:lnTo>
                  <a:lnTo>
                    <a:pt x="48" y="232"/>
                  </a:lnTo>
                  <a:lnTo>
                    <a:pt x="25" y="274"/>
                  </a:lnTo>
                  <a:lnTo>
                    <a:pt x="17" y="294"/>
                  </a:lnTo>
                  <a:lnTo>
                    <a:pt x="10" y="311"/>
                  </a:lnTo>
                  <a:lnTo>
                    <a:pt x="4" y="326"/>
                  </a:lnTo>
                  <a:lnTo>
                    <a:pt x="0" y="338"/>
                  </a:lnTo>
                  <a:lnTo>
                    <a:pt x="2" y="336"/>
                  </a:lnTo>
                  <a:lnTo>
                    <a:pt x="8" y="3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Freeform 515"/>
            <p:cNvSpPr/>
            <p:nvPr/>
          </p:nvSpPr>
          <p:spPr>
            <a:xfrm>
              <a:off x="6327000" y="1693800"/>
              <a:ext cx="756000" cy="3191040"/>
            </a:xfrm>
            <a:custGeom>
              <a:avLst/>
              <a:gdLst>
                <a:gd name="textAreaLeft" fmla="*/ 0 w 756000"/>
                <a:gd name="textAreaRight" fmla="*/ 756360 w 756000"/>
                <a:gd name="textAreaTop" fmla="*/ 0 h 3191040"/>
                <a:gd name="textAreaBottom" fmla="*/ 3191400 h 3191040"/>
              </a:gdLst>
              <a:ahLst/>
              <a:rect l="textAreaLeft" t="textAreaTop" r="textAreaRight" b="textAreaBottom"/>
              <a:pathLst>
                <a:path w="449" h="1895">
                  <a:moveTo>
                    <a:pt x="449" y="1890"/>
                  </a:moveTo>
                  <a:lnTo>
                    <a:pt x="447" y="1888"/>
                  </a:lnTo>
                  <a:lnTo>
                    <a:pt x="401" y="1849"/>
                  </a:lnTo>
                  <a:lnTo>
                    <a:pt x="357" y="1807"/>
                  </a:lnTo>
                  <a:lnTo>
                    <a:pt x="314" y="1761"/>
                  </a:lnTo>
                  <a:lnTo>
                    <a:pt x="276" y="1715"/>
                  </a:lnTo>
                  <a:lnTo>
                    <a:pt x="239" y="1665"/>
                  </a:lnTo>
                  <a:lnTo>
                    <a:pt x="205" y="1611"/>
                  </a:lnTo>
                  <a:lnTo>
                    <a:pt x="172" y="1558"/>
                  </a:lnTo>
                  <a:lnTo>
                    <a:pt x="144" y="1500"/>
                  </a:lnTo>
                  <a:lnTo>
                    <a:pt x="117" y="1443"/>
                  </a:lnTo>
                  <a:lnTo>
                    <a:pt x="94" y="1383"/>
                  </a:lnTo>
                  <a:lnTo>
                    <a:pt x="73" y="1322"/>
                  </a:lnTo>
                  <a:lnTo>
                    <a:pt x="53" y="1260"/>
                  </a:lnTo>
                  <a:lnTo>
                    <a:pt x="38" y="1197"/>
                  </a:lnTo>
                  <a:lnTo>
                    <a:pt x="26" y="1132"/>
                  </a:lnTo>
                  <a:lnTo>
                    <a:pt x="17" y="1067"/>
                  </a:lnTo>
                  <a:lnTo>
                    <a:pt x="11" y="1001"/>
                  </a:lnTo>
                  <a:lnTo>
                    <a:pt x="7" y="934"/>
                  </a:lnTo>
                  <a:lnTo>
                    <a:pt x="7" y="869"/>
                  </a:lnTo>
                  <a:lnTo>
                    <a:pt x="11" y="802"/>
                  </a:lnTo>
                  <a:lnTo>
                    <a:pt x="19" y="735"/>
                  </a:lnTo>
                  <a:lnTo>
                    <a:pt x="28" y="669"/>
                  </a:lnTo>
                  <a:lnTo>
                    <a:pt x="42" y="604"/>
                  </a:lnTo>
                  <a:lnTo>
                    <a:pt x="59" y="539"/>
                  </a:lnTo>
                  <a:lnTo>
                    <a:pt x="78" y="474"/>
                  </a:lnTo>
                  <a:lnTo>
                    <a:pt x="103" y="410"/>
                  </a:lnTo>
                  <a:lnTo>
                    <a:pt x="130" y="347"/>
                  </a:lnTo>
                  <a:lnTo>
                    <a:pt x="145" y="316"/>
                  </a:lnTo>
                  <a:lnTo>
                    <a:pt x="163" y="288"/>
                  </a:lnTo>
                  <a:lnTo>
                    <a:pt x="178" y="257"/>
                  </a:lnTo>
                  <a:lnTo>
                    <a:pt x="197" y="226"/>
                  </a:lnTo>
                  <a:lnTo>
                    <a:pt x="216" y="197"/>
                  </a:lnTo>
                  <a:lnTo>
                    <a:pt x="236" y="169"/>
                  </a:lnTo>
                  <a:lnTo>
                    <a:pt x="257" y="140"/>
                  </a:lnTo>
                  <a:lnTo>
                    <a:pt x="278" y="113"/>
                  </a:lnTo>
                  <a:lnTo>
                    <a:pt x="301" y="84"/>
                  </a:lnTo>
                  <a:lnTo>
                    <a:pt x="326" y="57"/>
                  </a:lnTo>
                  <a:lnTo>
                    <a:pt x="351" y="32"/>
                  </a:lnTo>
                  <a:lnTo>
                    <a:pt x="376" y="6"/>
                  </a:lnTo>
                  <a:lnTo>
                    <a:pt x="370" y="0"/>
                  </a:lnTo>
                  <a:lnTo>
                    <a:pt x="345" y="27"/>
                  </a:lnTo>
                  <a:lnTo>
                    <a:pt x="320" y="53"/>
                  </a:lnTo>
                  <a:lnTo>
                    <a:pt x="295" y="80"/>
                  </a:lnTo>
                  <a:lnTo>
                    <a:pt x="272" y="107"/>
                  </a:lnTo>
                  <a:lnTo>
                    <a:pt x="251" y="136"/>
                  </a:lnTo>
                  <a:lnTo>
                    <a:pt x="230" y="165"/>
                  </a:lnTo>
                  <a:lnTo>
                    <a:pt x="209" y="194"/>
                  </a:lnTo>
                  <a:lnTo>
                    <a:pt x="190" y="222"/>
                  </a:lnTo>
                  <a:lnTo>
                    <a:pt x="172" y="253"/>
                  </a:lnTo>
                  <a:lnTo>
                    <a:pt x="155" y="284"/>
                  </a:lnTo>
                  <a:lnTo>
                    <a:pt x="138" y="314"/>
                  </a:lnTo>
                  <a:lnTo>
                    <a:pt x="122" y="345"/>
                  </a:lnTo>
                  <a:lnTo>
                    <a:pt x="96" y="407"/>
                  </a:lnTo>
                  <a:lnTo>
                    <a:pt x="71" y="472"/>
                  </a:lnTo>
                  <a:lnTo>
                    <a:pt x="51" y="535"/>
                  </a:lnTo>
                  <a:lnTo>
                    <a:pt x="34" y="602"/>
                  </a:lnTo>
                  <a:lnTo>
                    <a:pt x="21" y="667"/>
                  </a:lnTo>
                  <a:lnTo>
                    <a:pt x="9" y="735"/>
                  </a:lnTo>
                  <a:lnTo>
                    <a:pt x="3" y="802"/>
                  </a:lnTo>
                  <a:lnTo>
                    <a:pt x="0" y="869"/>
                  </a:lnTo>
                  <a:lnTo>
                    <a:pt x="0" y="934"/>
                  </a:lnTo>
                  <a:lnTo>
                    <a:pt x="3" y="1001"/>
                  </a:lnTo>
                  <a:lnTo>
                    <a:pt x="9" y="1068"/>
                  </a:lnTo>
                  <a:lnTo>
                    <a:pt x="19" y="1134"/>
                  </a:lnTo>
                  <a:lnTo>
                    <a:pt x="30" y="1197"/>
                  </a:lnTo>
                  <a:lnTo>
                    <a:pt x="46" y="1262"/>
                  </a:lnTo>
                  <a:lnTo>
                    <a:pt x="65" y="1324"/>
                  </a:lnTo>
                  <a:lnTo>
                    <a:pt x="86" y="1385"/>
                  </a:lnTo>
                  <a:lnTo>
                    <a:pt x="109" y="1446"/>
                  </a:lnTo>
                  <a:lnTo>
                    <a:pt x="136" y="1504"/>
                  </a:lnTo>
                  <a:lnTo>
                    <a:pt x="165" y="1562"/>
                  </a:lnTo>
                  <a:lnTo>
                    <a:pt x="197" y="1615"/>
                  </a:lnTo>
                  <a:lnTo>
                    <a:pt x="232" y="1669"/>
                  </a:lnTo>
                  <a:lnTo>
                    <a:pt x="268" y="1719"/>
                  </a:lnTo>
                  <a:lnTo>
                    <a:pt x="309" y="1767"/>
                  </a:lnTo>
                  <a:lnTo>
                    <a:pt x="351" y="1813"/>
                  </a:lnTo>
                  <a:lnTo>
                    <a:pt x="395" y="1855"/>
                  </a:lnTo>
                  <a:lnTo>
                    <a:pt x="441" y="1895"/>
                  </a:lnTo>
                  <a:lnTo>
                    <a:pt x="441" y="1893"/>
                  </a:lnTo>
                  <a:lnTo>
                    <a:pt x="449" y="18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Freeform 516"/>
            <p:cNvSpPr/>
            <p:nvPr/>
          </p:nvSpPr>
          <p:spPr>
            <a:xfrm>
              <a:off x="7069680" y="4876560"/>
              <a:ext cx="264240" cy="525240"/>
            </a:xfrm>
            <a:custGeom>
              <a:avLst/>
              <a:gdLst>
                <a:gd name="textAreaLeft" fmla="*/ 0 w 264240"/>
                <a:gd name="textAreaRight" fmla="*/ 264240 w 264240"/>
                <a:gd name="textAreaTop" fmla="*/ 0 h 525240"/>
                <a:gd name="textAreaBottom" fmla="*/ 525600 h 525240"/>
              </a:gdLst>
              <a:ahLst/>
              <a:rect l="textAreaLeft" t="textAreaTop" r="textAreaRight" b="textAreaBottom"/>
              <a:pathLst>
                <a:path w="157" h="312">
                  <a:moveTo>
                    <a:pt x="152" y="312"/>
                  </a:moveTo>
                  <a:lnTo>
                    <a:pt x="155" y="307"/>
                  </a:lnTo>
                  <a:lnTo>
                    <a:pt x="8" y="0"/>
                  </a:lnTo>
                  <a:lnTo>
                    <a:pt x="0" y="3"/>
                  </a:lnTo>
                  <a:lnTo>
                    <a:pt x="148" y="310"/>
                  </a:lnTo>
                  <a:lnTo>
                    <a:pt x="152" y="305"/>
                  </a:lnTo>
                  <a:lnTo>
                    <a:pt x="152" y="312"/>
                  </a:lnTo>
                  <a:lnTo>
                    <a:pt x="157" y="312"/>
                  </a:lnTo>
                  <a:lnTo>
                    <a:pt x="155" y="307"/>
                  </a:lnTo>
                  <a:lnTo>
                    <a:pt x="152" y="3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Freeform 517"/>
            <p:cNvSpPr/>
            <p:nvPr/>
          </p:nvSpPr>
          <p:spPr>
            <a:xfrm>
              <a:off x="6012000" y="5390280"/>
              <a:ext cx="1313640" cy="11520"/>
            </a:xfrm>
            <a:custGeom>
              <a:avLst/>
              <a:gdLst>
                <a:gd name="textAreaLeft" fmla="*/ 0 w 1313640"/>
                <a:gd name="textAreaRight" fmla="*/ 1314000 w 131364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780" h="7">
                  <a:moveTo>
                    <a:pt x="0" y="4"/>
                  </a:moveTo>
                  <a:lnTo>
                    <a:pt x="4" y="7"/>
                  </a:lnTo>
                  <a:lnTo>
                    <a:pt x="780" y="7"/>
                  </a:lnTo>
                  <a:lnTo>
                    <a:pt x="780" y="0"/>
                  </a:lnTo>
                  <a:lnTo>
                    <a:pt x="4" y="0"/>
                  </a:lnTo>
                  <a:lnTo>
                    <a:pt x="8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Freeform 518"/>
            <p:cNvSpPr/>
            <p:nvPr/>
          </p:nvSpPr>
          <p:spPr>
            <a:xfrm>
              <a:off x="5828760" y="1121400"/>
              <a:ext cx="710640" cy="4275000"/>
            </a:xfrm>
            <a:custGeom>
              <a:avLst/>
              <a:gdLst>
                <a:gd name="textAreaLeft" fmla="*/ 0 w 710640"/>
                <a:gd name="textAreaRight" fmla="*/ 711000 w 710640"/>
                <a:gd name="textAreaTop" fmla="*/ 0 h 4275000"/>
                <a:gd name="textAreaBottom" fmla="*/ 4275360 h 4275000"/>
              </a:gdLst>
              <a:ahLst/>
              <a:rect l="textAreaLeft" t="textAreaTop" r="textAreaRight" b="textAreaBottom"/>
              <a:pathLst>
                <a:path w="422" h="2539">
                  <a:moveTo>
                    <a:pt x="418" y="0"/>
                  </a:moveTo>
                  <a:lnTo>
                    <a:pt x="415" y="4"/>
                  </a:lnTo>
                  <a:lnTo>
                    <a:pt x="367" y="108"/>
                  </a:lnTo>
                  <a:lnTo>
                    <a:pt x="322" y="209"/>
                  </a:lnTo>
                  <a:lnTo>
                    <a:pt x="280" y="307"/>
                  </a:lnTo>
                  <a:lnTo>
                    <a:pt x="244" y="401"/>
                  </a:lnTo>
                  <a:lnTo>
                    <a:pt x="207" y="495"/>
                  </a:lnTo>
                  <a:lnTo>
                    <a:pt x="177" y="585"/>
                  </a:lnTo>
                  <a:lnTo>
                    <a:pt x="148" y="672"/>
                  </a:lnTo>
                  <a:lnTo>
                    <a:pt x="123" y="758"/>
                  </a:lnTo>
                  <a:lnTo>
                    <a:pt x="100" y="841"/>
                  </a:lnTo>
                  <a:lnTo>
                    <a:pt x="79" y="923"/>
                  </a:lnTo>
                  <a:lnTo>
                    <a:pt x="61" y="1002"/>
                  </a:lnTo>
                  <a:lnTo>
                    <a:pt x="46" y="1080"/>
                  </a:lnTo>
                  <a:lnTo>
                    <a:pt x="33" y="1157"/>
                  </a:lnTo>
                  <a:lnTo>
                    <a:pt x="21" y="1232"/>
                  </a:lnTo>
                  <a:lnTo>
                    <a:pt x="13" y="1305"/>
                  </a:lnTo>
                  <a:lnTo>
                    <a:pt x="8" y="1380"/>
                  </a:lnTo>
                  <a:lnTo>
                    <a:pt x="4" y="1451"/>
                  </a:lnTo>
                  <a:lnTo>
                    <a:pt x="0" y="1522"/>
                  </a:lnTo>
                  <a:lnTo>
                    <a:pt x="0" y="1595"/>
                  </a:lnTo>
                  <a:lnTo>
                    <a:pt x="2" y="1664"/>
                  </a:lnTo>
                  <a:lnTo>
                    <a:pt x="4" y="1735"/>
                  </a:lnTo>
                  <a:lnTo>
                    <a:pt x="8" y="1806"/>
                  </a:lnTo>
                  <a:lnTo>
                    <a:pt x="13" y="1875"/>
                  </a:lnTo>
                  <a:lnTo>
                    <a:pt x="21" y="1946"/>
                  </a:lnTo>
                  <a:lnTo>
                    <a:pt x="38" y="2090"/>
                  </a:lnTo>
                  <a:lnTo>
                    <a:pt x="59" y="2235"/>
                  </a:lnTo>
                  <a:lnTo>
                    <a:pt x="83" y="2385"/>
                  </a:lnTo>
                  <a:lnTo>
                    <a:pt x="109" y="2539"/>
                  </a:lnTo>
                  <a:lnTo>
                    <a:pt x="117" y="2539"/>
                  </a:lnTo>
                  <a:lnTo>
                    <a:pt x="90" y="2383"/>
                  </a:lnTo>
                  <a:lnTo>
                    <a:pt x="67" y="2233"/>
                  </a:lnTo>
                  <a:lnTo>
                    <a:pt x="46" y="2088"/>
                  </a:lnTo>
                  <a:lnTo>
                    <a:pt x="29" y="1946"/>
                  </a:lnTo>
                  <a:lnTo>
                    <a:pt x="21" y="1875"/>
                  </a:lnTo>
                  <a:lnTo>
                    <a:pt x="15" y="1804"/>
                  </a:lnTo>
                  <a:lnTo>
                    <a:pt x="12" y="1735"/>
                  </a:lnTo>
                  <a:lnTo>
                    <a:pt x="10" y="1664"/>
                  </a:lnTo>
                  <a:lnTo>
                    <a:pt x="8" y="1595"/>
                  </a:lnTo>
                  <a:lnTo>
                    <a:pt x="10" y="1524"/>
                  </a:lnTo>
                  <a:lnTo>
                    <a:pt x="12" y="1451"/>
                  </a:lnTo>
                  <a:lnTo>
                    <a:pt x="15" y="1380"/>
                  </a:lnTo>
                  <a:lnTo>
                    <a:pt x="21" y="1307"/>
                  </a:lnTo>
                  <a:lnTo>
                    <a:pt x="31" y="1232"/>
                  </a:lnTo>
                  <a:lnTo>
                    <a:pt x="40" y="1157"/>
                  </a:lnTo>
                  <a:lnTo>
                    <a:pt x="54" y="1082"/>
                  </a:lnTo>
                  <a:lnTo>
                    <a:pt x="69" y="1004"/>
                  </a:lnTo>
                  <a:lnTo>
                    <a:pt x="86" y="925"/>
                  </a:lnTo>
                  <a:lnTo>
                    <a:pt x="107" y="842"/>
                  </a:lnTo>
                  <a:lnTo>
                    <a:pt x="131" y="760"/>
                  </a:lnTo>
                  <a:lnTo>
                    <a:pt x="155" y="676"/>
                  </a:lnTo>
                  <a:lnTo>
                    <a:pt x="184" y="587"/>
                  </a:lnTo>
                  <a:lnTo>
                    <a:pt x="215" y="497"/>
                  </a:lnTo>
                  <a:lnTo>
                    <a:pt x="250" y="405"/>
                  </a:lnTo>
                  <a:lnTo>
                    <a:pt x="288" y="309"/>
                  </a:lnTo>
                  <a:lnTo>
                    <a:pt x="330" y="211"/>
                  </a:lnTo>
                  <a:lnTo>
                    <a:pt x="374" y="111"/>
                  </a:lnTo>
                  <a:lnTo>
                    <a:pt x="422" y="6"/>
                  </a:lnTo>
                  <a:lnTo>
                    <a:pt x="418" y="8"/>
                  </a:lnTo>
                  <a:lnTo>
                    <a:pt x="418" y="0"/>
                  </a:lnTo>
                  <a:lnTo>
                    <a:pt x="416" y="0"/>
                  </a:lnTo>
                  <a:lnTo>
                    <a:pt x="415" y="4"/>
                  </a:lnTo>
                  <a:lnTo>
                    <a:pt x="4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Freeform 519"/>
            <p:cNvSpPr/>
            <p:nvPr/>
          </p:nvSpPr>
          <p:spPr>
            <a:xfrm>
              <a:off x="2755080" y="4862880"/>
              <a:ext cx="3056400" cy="25560"/>
            </a:xfrm>
            <a:custGeom>
              <a:avLst/>
              <a:gdLst>
                <a:gd name="textAreaLeft" fmla="*/ 0 w 3056400"/>
                <a:gd name="textAreaRight" fmla="*/ 3056760 w 305640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815" h="15">
                  <a:moveTo>
                    <a:pt x="1815" y="8"/>
                  </a:moveTo>
                  <a:lnTo>
                    <a:pt x="1815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1815" y="15"/>
                  </a:lnTo>
                  <a:lnTo>
                    <a:pt x="1815" y="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Freeform 520"/>
            <p:cNvSpPr/>
            <p:nvPr/>
          </p:nvSpPr>
          <p:spPr>
            <a:xfrm>
              <a:off x="7133400" y="4862880"/>
              <a:ext cx="136440" cy="2556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81" h="15">
                  <a:moveTo>
                    <a:pt x="0" y="8"/>
                  </a:moveTo>
                  <a:lnTo>
                    <a:pt x="0" y="15"/>
                  </a:lnTo>
                  <a:lnTo>
                    <a:pt x="81" y="15"/>
                  </a:lnTo>
                  <a:lnTo>
                    <a:pt x="81" y="0"/>
                  </a:lnTo>
                  <a:lnTo>
                    <a:pt x="0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Freeform 521"/>
            <p:cNvSpPr/>
            <p:nvPr/>
          </p:nvSpPr>
          <p:spPr>
            <a:xfrm>
              <a:off x="5931360" y="4879800"/>
              <a:ext cx="1394280" cy="516600"/>
            </a:xfrm>
            <a:custGeom>
              <a:avLst/>
              <a:gdLst>
                <a:gd name="textAreaLeft" fmla="*/ 0 w 1394280"/>
                <a:gd name="textAreaRight" fmla="*/ 1394640 w 1394280"/>
                <a:gd name="textAreaTop" fmla="*/ 0 h 516600"/>
                <a:gd name="textAreaBottom" fmla="*/ 516960 h 516600"/>
              </a:gdLst>
              <a:ahLst/>
              <a:rect l="textAreaLeft" t="textAreaTop" r="textAreaRight" b="textAreaBottom"/>
              <a:pathLst>
                <a:path w="828" h="307">
                  <a:moveTo>
                    <a:pt x="680" y="0"/>
                  </a:moveTo>
                  <a:lnTo>
                    <a:pt x="828" y="307"/>
                  </a:lnTo>
                  <a:lnTo>
                    <a:pt x="52" y="307"/>
                  </a:lnTo>
                  <a:lnTo>
                    <a:pt x="0" y="0"/>
                  </a:lnTo>
                  <a:lnTo>
                    <a:pt x="680" y="0"/>
                  </a:ln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Freeform 522"/>
            <p:cNvSpPr/>
            <p:nvPr/>
          </p:nvSpPr>
          <p:spPr>
            <a:xfrm>
              <a:off x="7069680" y="4876560"/>
              <a:ext cx="264240" cy="525240"/>
            </a:xfrm>
            <a:custGeom>
              <a:avLst/>
              <a:gdLst>
                <a:gd name="textAreaLeft" fmla="*/ 0 w 264240"/>
                <a:gd name="textAreaRight" fmla="*/ 264240 w 264240"/>
                <a:gd name="textAreaTop" fmla="*/ 0 h 525240"/>
                <a:gd name="textAreaBottom" fmla="*/ 525600 h 525240"/>
              </a:gdLst>
              <a:ahLst/>
              <a:rect l="textAreaLeft" t="textAreaTop" r="textAreaRight" b="textAreaBottom"/>
              <a:pathLst>
                <a:path w="157" h="312">
                  <a:moveTo>
                    <a:pt x="152" y="312"/>
                  </a:moveTo>
                  <a:lnTo>
                    <a:pt x="155" y="307"/>
                  </a:lnTo>
                  <a:lnTo>
                    <a:pt x="8" y="0"/>
                  </a:lnTo>
                  <a:lnTo>
                    <a:pt x="0" y="3"/>
                  </a:lnTo>
                  <a:lnTo>
                    <a:pt x="148" y="310"/>
                  </a:lnTo>
                  <a:lnTo>
                    <a:pt x="152" y="305"/>
                  </a:lnTo>
                  <a:lnTo>
                    <a:pt x="152" y="312"/>
                  </a:lnTo>
                  <a:lnTo>
                    <a:pt x="157" y="312"/>
                  </a:lnTo>
                  <a:lnTo>
                    <a:pt x="155" y="307"/>
                  </a:lnTo>
                  <a:lnTo>
                    <a:pt x="152" y="3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Freeform 523"/>
            <p:cNvSpPr/>
            <p:nvPr/>
          </p:nvSpPr>
          <p:spPr>
            <a:xfrm>
              <a:off x="6012000" y="5390280"/>
              <a:ext cx="1313640" cy="11520"/>
            </a:xfrm>
            <a:custGeom>
              <a:avLst/>
              <a:gdLst>
                <a:gd name="textAreaLeft" fmla="*/ 0 w 1313640"/>
                <a:gd name="textAreaRight" fmla="*/ 1314000 w 131364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780" h="7">
                  <a:moveTo>
                    <a:pt x="0" y="4"/>
                  </a:moveTo>
                  <a:lnTo>
                    <a:pt x="4" y="7"/>
                  </a:lnTo>
                  <a:lnTo>
                    <a:pt x="780" y="7"/>
                  </a:lnTo>
                  <a:lnTo>
                    <a:pt x="780" y="0"/>
                  </a:lnTo>
                  <a:lnTo>
                    <a:pt x="4" y="0"/>
                  </a:lnTo>
                  <a:lnTo>
                    <a:pt x="8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Freeform 524"/>
            <p:cNvSpPr/>
            <p:nvPr/>
          </p:nvSpPr>
          <p:spPr>
            <a:xfrm>
              <a:off x="5926320" y="4872960"/>
              <a:ext cx="99000" cy="523440"/>
            </a:xfrm>
            <a:custGeom>
              <a:avLst/>
              <a:gdLst>
                <a:gd name="textAreaLeft" fmla="*/ 0 w 99000"/>
                <a:gd name="textAreaRight" fmla="*/ 99360 w 99000"/>
                <a:gd name="textAreaTop" fmla="*/ 0 h 523440"/>
                <a:gd name="textAreaBottom" fmla="*/ 523800 h 523440"/>
              </a:gdLst>
              <a:ahLst/>
              <a:rect l="textAreaLeft" t="textAreaTop" r="textAreaRight" b="textAreaBottom"/>
              <a:pathLst>
                <a:path w="59" h="311">
                  <a:moveTo>
                    <a:pt x="3" y="0"/>
                  </a:moveTo>
                  <a:lnTo>
                    <a:pt x="0" y="4"/>
                  </a:lnTo>
                  <a:lnTo>
                    <a:pt x="51" y="311"/>
                  </a:lnTo>
                  <a:lnTo>
                    <a:pt x="59" y="311"/>
                  </a:lnTo>
                  <a:lnTo>
                    <a:pt x="7" y="2"/>
                  </a:lnTo>
                  <a:lnTo>
                    <a:pt x="3" y="7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Freeform 525"/>
            <p:cNvSpPr/>
            <p:nvPr/>
          </p:nvSpPr>
          <p:spPr>
            <a:xfrm>
              <a:off x="5931360" y="4872960"/>
              <a:ext cx="1151640" cy="11520"/>
            </a:xfrm>
            <a:custGeom>
              <a:avLst/>
              <a:gdLst>
                <a:gd name="textAreaLeft" fmla="*/ 0 w 1151640"/>
                <a:gd name="textAreaRight" fmla="*/ 1152000 w 115164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684" h="7">
                  <a:moveTo>
                    <a:pt x="684" y="2"/>
                  </a:moveTo>
                  <a:lnTo>
                    <a:pt x="68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680" y="7"/>
                  </a:lnTo>
                  <a:lnTo>
                    <a:pt x="676" y="5"/>
                  </a:lnTo>
                  <a:lnTo>
                    <a:pt x="684" y="2"/>
                  </a:lnTo>
                  <a:lnTo>
                    <a:pt x="682" y="0"/>
                  </a:lnTo>
                  <a:lnTo>
                    <a:pt x="680" y="0"/>
                  </a:lnTo>
                  <a:lnTo>
                    <a:pt x="68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Freeform 526"/>
            <p:cNvSpPr/>
            <p:nvPr/>
          </p:nvSpPr>
          <p:spPr>
            <a:xfrm>
              <a:off x="6116400" y="1128240"/>
              <a:ext cx="429120" cy="4273560"/>
            </a:xfrm>
            <a:custGeom>
              <a:avLst/>
              <a:gdLst>
                <a:gd name="textAreaLeft" fmla="*/ 0 w 429120"/>
                <a:gd name="textAreaRight" fmla="*/ 429480 w 429120"/>
                <a:gd name="textAreaTop" fmla="*/ 0 h 4273560"/>
                <a:gd name="textAreaBottom" fmla="*/ 4273920 h 4273560"/>
              </a:gdLst>
              <a:ahLst/>
              <a:rect l="textAreaLeft" t="textAreaTop" r="textAreaRight" b="textAreaBottom"/>
              <a:pathLst>
                <a:path w="255" h="2538">
                  <a:moveTo>
                    <a:pt x="226" y="2535"/>
                  </a:moveTo>
                  <a:lnTo>
                    <a:pt x="215" y="2521"/>
                  </a:lnTo>
                  <a:lnTo>
                    <a:pt x="203" y="2506"/>
                  </a:lnTo>
                  <a:lnTo>
                    <a:pt x="192" y="2490"/>
                  </a:lnTo>
                  <a:lnTo>
                    <a:pt x="182" y="2473"/>
                  </a:lnTo>
                  <a:lnTo>
                    <a:pt x="161" y="2433"/>
                  </a:lnTo>
                  <a:lnTo>
                    <a:pt x="140" y="2387"/>
                  </a:lnTo>
                  <a:lnTo>
                    <a:pt x="123" y="2335"/>
                  </a:lnTo>
                  <a:lnTo>
                    <a:pt x="103" y="2279"/>
                  </a:lnTo>
                  <a:lnTo>
                    <a:pt x="88" y="2218"/>
                  </a:lnTo>
                  <a:lnTo>
                    <a:pt x="73" y="2153"/>
                  </a:lnTo>
                  <a:lnTo>
                    <a:pt x="59" y="2082"/>
                  </a:lnTo>
                  <a:lnTo>
                    <a:pt x="48" y="2007"/>
                  </a:lnTo>
                  <a:lnTo>
                    <a:pt x="36" y="1928"/>
                  </a:lnTo>
                  <a:lnTo>
                    <a:pt x="29" y="1848"/>
                  </a:lnTo>
                  <a:lnTo>
                    <a:pt x="21" y="1763"/>
                  </a:lnTo>
                  <a:lnTo>
                    <a:pt x="15" y="1677"/>
                  </a:lnTo>
                  <a:lnTo>
                    <a:pt x="11" y="1587"/>
                  </a:lnTo>
                  <a:lnTo>
                    <a:pt x="9" y="1495"/>
                  </a:lnTo>
                  <a:lnTo>
                    <a:pt x="9" y="1403"/>
                  </a:lnTo>
                  <a:lnTo>
                    <a:pt x="9" y="1307"/>
                  </a:lnTo>
                  <a:lnTo>
                    <a:pt x="13" y="1211"/>
                  </a:lnTo>
                  <a:lnTo>
                    <a:pt x="19" y="1115"/>
                  </a:lnTo>
                  <a:lnTo>
                    <a:pt x="27" y="1017"/>
                  </a:lnTo>
                  <a:lnTo>
                    <a:pt x="36" y="919"/>
                  </a:lnTo>
                  <a:lnTo>
                    <a:pt x="48" y="823"/>
                  </a:lnTo>
                  <a:lnTo>
                    <a:pt x="61" y="725"/>
                  </a:lnTo>
                  <a:lnTo>
                    <a:pt x="77" y="629"/>
                  </a:lnTo>
                  <a:lnTo>
                    <a:pt x="96" y="533"/>
                  </a:lnTo>
                  <a:lnTo>
                    <a:pt x="115" y="439"/>
                  </a:lnTo>
                  <a:lnTo>
                    <a:pt x="138" y="347"/>
                  </a:lnTo>
                  <a:lnTo>
                    <a:pt x="163" y="257"/>
                  </a:lnTo>
                  <a:lnTo>
                    <a:pt x="192" y="171"/>
                  </a:lnTo>
                  <a:lnTo>
                    <a:pt x="222" y="84"/>
                  </a:lnTo>
                  <a:lnTo>
                    <a:pt x="255" y="2"/>
                  </a:lnTo>
                  <a:lnTo>
                    <a:pt x="247" y="0"/>
                  </a:lnTo>
                  <a:lnTo>
                    <a:pt x="215" y="82"/>
                  </a:lnTo>
                  <a:lnTo>
                    <a:pt x="184" y="167"/>
                  </a:lnTo>
                  <a:lnTo>
                    <a:pt x="155" y="255"/>
                  </a:lnTo>
                  <a:lnTo>
                    <a:pt x="130" y="345"/>
                  </a:lnTo>
                  <a:lnTo>
                    <a:pt x="107" y="437"/>
                  </a:lnTo>
                  <a:lnTo>
                    <a:pt x="86" y="531"/>
                  </a:lnTo>
                  <a:lnTo>
                    <a:pt x="69" y="627"/>
                  </a:lnTo>
                  <a:lnTo>
                    <a:pt x="54" y="723"/>
                  </a:lnTo>
                  <a:lnTo>
                    <a:pt x="38" y="821"/>
                  </a:lnTo>
                  <a:lnTo>
                    <a:pt x="27" y="919"/>
                  </a:lnTo>
                  <a:lnTo>
                    <a:pt x="17" y="1017"/>
                  </a:lnTo>
                  <a:lnTo>
                    <a:pt x="11" y="1115"/>
                  </a:lnTo>
                  <a:lnTo>
                    <a:pt x="6" y="1211"/>
                  </a:lnTo>
                  <a:lnTo>
                    <a:pt x="2" y="1307"/>
                  </a:lnTo>
                  <a:lnTo>
                    <a:pt x="0" y="1403"/>
                  </a:lnTo>
                  <a:lnTo>
                    <a:pt x="2" y="1495"/>
                  </a:lnTo>
                  <a:lnTo>
                    <a:pt x="4" y="1587"/>
                  </a:lnTo>
                  <a:lnTo>
                    <a:pt x="7" y="1677"/>
                  </a:lnTo>
                  <a:lnTo>
                    <a:pt x="13" y="1763"/>
                  </a:lnTo>
                  <a:lnTo>
                    <a:pt x="21" y="1848"/>
                  </a:lnTo>
                  <a:lnTo>
                    <a:pt x="29" y="1930"/>
                  </a:lnTo>
                  <a:lnTo>
                    <a:pt x="40" y="2009"/>
                  </a:lnTo>
                  <a:lnTo>
                    <a:pt x="52" y="2084"/>
                  </a:lnTo>
                  <a:lnTo>
                    <a:pt x="65" y="2153"/>
                  </a:lnTo>
                  <a:lnTo>
                    <a:pt x="80" y="2220"/>
                  </a:lnTo>
                  <a:lnTo>
                    <a:pt x="96" y="2281"/>
                  </a:lnTo>
                  <a:lnTo>
                    <a:pt x="115" y="2339"/>
                  </a:lnTo>
                  <a:lnTo>
                    <a:pt x="132" y="2391"/>
                  </a:lnTo>
                  <a:lnTo>
                    <a:pt x="153" y="2437"/>
                  </a:lnTo>
                  <a:lnTo>
                    <a:pt x="174" y="2477"/>
                  </a:lnTo>
                  <a:lnTo>
                    <a:pt x="186" y="2494"/>
                  </a:lnTo>
                  <a:lnTo>
                    <a:pt x="198" y="2512"/>
                  </a:lnTo>
                  <a:lnTo>
                    <a:pt x="209" y="2527"/>
                  </a:lnTo>
                  <a:lnTo>
                    <a:pt x="221" y="2538"/>
                  </a:lnTo>
                  <a:lnTo>
                    <a:pt x="226" y="25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Freeform 527"/>
            <p:cNvSpPr/>
            <p:nvPr/>
          </p:nvSpPr>
          <p:spPr>
            <a:xfrm>
              <a:off x="2072880" y="4869720"/>
              <a:ext cx="693720" cy="449280"/>
            </a:xfrm>
            <a:custGeom>
              <a:avLst/>
              <a:gdLst>
                <a:gd name="textAreaLeft" fmla="*/ 0 w 693720"/>
                <a:gd name="textAreaRight" fmla="*/ 693720 w 6937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412" h="267">
                  <a:moveTo>
                    <a:pt x="368" y="0"/>
                  </a:moveTo>
                  <a:lnTo>
                    <a:pt x="370" y="19"/>
                  </a:lnTo>
                  <a:lnTo>
                    <a:pt x="374" y="44"/>
                  </a:lnTo>
                  <a:lnTo>
                    <a:pt x="380" y="77"/>
                  </a:lnTo>
                  <a:lnTo>
                    <a:pt x="386" y="113"/>
                  </a:lnTo>
                  <a:lnTo>
                    <a:pt x="391" y="151"/>
                  </a:lnTo>
                  <a:lnTo>
                    <a:pt x="397" y="192"/>
                  </a:lnTo>
                  <a:lnTo>
                    <a:pt x="405" y="230"/>
                  </a:lnTo>
                  <a:lnTo>
                    <a:pt x="412" y="267"/>
                  </a:lnTo>
                  <a:lnTo>
                    <a:pt x="370" y="267"/>
                  </a:lnTo>
                  <a:lnTo>
                    <a:pt x="330" y="267"/>
                  </a:lnTo>
                  <a:lnTo>
                    <a:pt x="290" y="267"/>
                  </a:lnTo>
                  <a:lnTo>
                    <a:pt x="251" y="267"/>
                  </a:lnTo>
                  <a:lnTo>
                    <a:pt x="211" y="267"/>
                  </a:lnTo>
                  <a:lnTo>
                    <a:pt x="172" y="267"/>
                  </a:lnTo>
                  <a:lnTo>
                    <a:pt x="130" y="267"/>
                  </a:lnTo>
                  <a:lnTo>
                    <a:pt x="88" y="267"/>
                  </a:lnTo>
                  <a:lnTo>
                    <a:pt x="0" y="0"/>
                  </a:lnTo>
                  <a:lnTo>
                    <a:pt x="368" y="0"/>
                  </a:ln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Freeform 528"/>
            <p:cNvSpPr/>
            <p:nvPr/>
          </p:nvSpPr>
          <p:spPr>
            <a:xfrm>
              <a:off x="2072880" y="4869720"/>
              <a:ext cx="693720" cy="449280"/>
            </a:xfrm>
            <a:custGeom>
              <a:avLst/>
              <a:gdLst>
                <a:gd name="textAreaLeft" fmla="*/ 0 w 693720"/>
                <a:gd name="textAreaRight" fmla="*/ 693720 w 6937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412" h="267">
                  <a:moveTo>
                    <a:pt x="368" y="0"/>
                  </a:moveTo>
                  <a:lnTo>
                    <a:pt x="370" y="19"/>
                  </a:lnTo>
                  <a:lnTo>
                    <a:pt x="374" y="44"/>
                  </a:lnTo>
                  <a:lnTo>
                    <a:pt x="380" y="77"/>
                  </a:lnTo>
                  <a:lnTo>
                    <a:pt x="386" y="113"/>
                  </a:lnTo>
                  <a:lnTo>
                    <a:pt x="391" y="151"/>
                  </a:lnTo>
                  <a:lnTo>
                    <a:pt x="397" y="192"/>
                  </a:lnTo>
                  <a:lnTo>
                    <a:pt x="405" y="230"/>
                  </a:lnTo>
                  <a:lnTo>
                    <a:pt x="412" y="267"/>
                  </a:lnTo>
                  <a:lnTo>
                    <a:pt x="370" y="267"/>
                  </a:lnTo>
                  <a:lnTo>
                    <a:pt x="330" y="267"/>
                  </a:lnTo>
                  <a:lnTo>
                    <a:pt x="290" y="267"/>
                  </a:lnTo>
                  <a:lnTo>
                    <a:pt x="251" y="267"/>
                  </a:lnTo>
                  <a:lnTo>
                    <a:pt x="211" y="267"/>
                  </a:lnTo>
                  <a:lnTo>
                    <a:pt x="172" y="267"/>
                  </a:lnTo>
                  <a:lnTo>
                    <a:pt x="130" y="267"/>
                  </a:lnTo>
                  <a:lnTo>
                    <a:pt x="88" y="267"/>
                  </a:lnTo>
                  <a:lnTo>
                    <a:pt x="0" y="0"/>
                  </a:lnTo>
                  <a:lnTo>
                    <a:pt x="368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5" name="Text Box 531"/>
          <p:cNvSpPr/>
          <p:nvPr/>
        </p:nvSpPr>
        <p:spPr>
          <a:xfrm>
            <a:off x="7279560" y="4667400"/>
            <a:ext cx="1665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UNCAG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692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TÓRICAS DE SUPERFÍCIE POSTERIOR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-360" y="779040"/>
            <a:ext cx="10287000" cy="6078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3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m muitos casos um cilíndrico corneal de  2.50 D ou menos pode ser adaptado com lente esférica com os parâmetros apropriado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Quando uma lente esférica é incapaz de prover uma satisfatória adaptação física/fisiológica, exige-se o uso de uma lente tórica de superfície posterior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770040" y="-360"/>
            <a:ext cx="8743680" cy="749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ÓPTICA DA LENTE TÓRICA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-360" y="969840"/>
            <a:ext cx="10287000" cy="5888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e uma córnea tórica de 3.00 D é adaptada com uma lente tórica de superfície posterior com a parte anterior esférica, o cilíndrico total não será totalmente corrigido.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Um cilíndrico residual é INDUZIDO pela forma da superfície posterior da lent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828360" y="-360"/>
            <a:ext cx="8744040" cy="709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ÓPTICA DAS LENTES TÓRICAS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-360" y="830160"/>
            <a:ext cx="10287000" cy="6027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1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O efeito do astigmatismo é criado no sistema da lentes de contato/fluido lacrimal pela zona óptica toroidal limitando duas superfícies de diferentes índices de refraçã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O montante do cilíndrico induzido é ditado pelo índice de refração do material da lente e o fluido pré-corneal, e o montante do cilíndrico da lente na superfície posterior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856800" y="301680"/>
            <a:ext cx="8744040" cy="5666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ÓPTICA DAS LENTES TÓRICAS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1273320" y="1403280"/>
            <a:ext cx="8029440" cy="3516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60000"/>
              </a:lnSpc>
              <a:spcAft>
                <a:spcPts val="1125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 cilíndrico induzido por qualquer toricidade de superficie anterior é sempre um cilíndrico negativo do mesmo eixo que o meridiano principal mais plan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856800" y="374400"/>
            <a:ext cx="8744040" cy="493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FORÇA CILÍNDRICA INDUZIDA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079360" y="1071720"/>
            <a:ext cx="6226200" cy="50306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5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Índice refrativo(n)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Lente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= 1.49 (PMMA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r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= 1.0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Lágrimas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= 1.336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eratômetro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= 1.3375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843120" y="288720"/>
            <a:ext cx="8743680" cy="493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FORÇA CILÍNDRICA INDUZIDA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021" name="Text Box 9"/>
          <p:cNvSpPr/>
          <p:nvPr/>
        </p:nvSpPr>
        <p:spPr>
          <a:xfrm>
            <a:off x="3093480" y="971640"/>
            <a:ext cx="41752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lágrimas) -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len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Text Box 10"/>
          <p:cNvSpPr/>
          <p:nvPr/>
        </p:nvSpPr>
        <p:spPr>
          <a:xfrm>
            <a:off x="3065040" y="1592280"/>
            <a:ext cx="4379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r) -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ceratometri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Line 11"/>
          <p:cNvSpPr/>
          <p:nvPr/>
        </p:nvSpPr>
        <p:spPr>
          <a:xfrm>
            <a:off x="3105000" y="1589040"/>
            <a:ext cx="42865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Text Box 12"/>
          <p:cNvSpPr/>
          <p:nvPr/>
        </p:nvSpPr>
        <p:spPr>
          <a:xfrm>
            <a:off x="3232800" y="2459160"/>
            <a:ext cx="23464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336 - 1.4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13"/>
          <p:cNvSpPr/>
          <p:nvPr/>
        </p:nvSpPr>
        <p:spPr>
          <a:xfrm>
            <a:off x="3232800" y="3051000"/>
            <a:ext cx="23464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0 - 1.337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Text Box 14"/>
          <p:cNvSpPr/>
          <p:nvPr/>
        </p:nvSpPr>
        <p:spPr>
          <a:xfrm>
            <a:off x="5941800" y="2733840"/>
            <a:ext cx="1546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0.45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Line 15"/>
          <p:cNvSpPr/>
          <p:nvPr/>
        </p:nvSpPr>
        <p:spPr>
          <a:xfrm>
            <a:off x="3133800" y="3048120"/>
            <a:ext cx="25826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Text Box 16"/>
          <p:cNvSpPr/>
          <p:nvPr/>
        </p:nvSpPr>
        <p:spPr>
          <a:xfrm>
            <a:off x="2394360" y="3809880"/>
            <a:ext cx="57232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il induzido = 0.456 x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K (L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Text Box 17"/>
          <p:cNvSpPr/>
          <p:nvPr/>
        </p:nvSpPr>
        <p:spPr>
          <a:xfrm>
            <a:off x="1515960" y="4772160"/>
            <a:ext cx="631512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 lentes de n 1.47 = 0.39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43 = 0.27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843120" y="201600"/>
            <a:ext cx="8743680" cy="581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FORÇA CILÍNDRICA INDUZIDA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035" name="Text Box 7"/>
          <p:cNvSpPr/>
          <p:nvPr/>
        </p:nvSpPr>
        <p:spPr>
          <a:xfrm>
            <a:off x="2989440" y="971640"/>
            <a:ext cx="43797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lágrimas) -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lent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Text Box 8"/>
          <p:cNvSpPr/>
          <p:nvPr/>
        </p:nvSpPr>
        <p:spPr>
          <a:xfrm>
            <a:off x="3623040" y="1592280"/>
            <a:ext cx="32061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r) -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lent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Line 9"/>
          <p:cNvSpPr/>
          <p:nvPr/>
        </p:nvSpPr>
        <p:spPr>
          <a:xfrm>
            <a:off x="3105000" y="1589040"/>
            <a:ext cx="42865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Text Box 10"/>
          <p:cNvSpPr/>
          <p:nvPr/>
        </p:nvSpPr>
        <p:spPr>
          <a:xfrm>
            <a:off x="3232800" y="2459160"/>
            <a:ext cx="23464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336 - 1.4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Text Box 11"/>
          <p:cNvSpPr/>
          <p:nvPr/>
        </p:nvSpPr>
        <p:spPr>
          <a:xfrm>
            <a:off x="3458160" y="3051000"/>
            <a:ext cx="189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0 - 1.4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Text Box 12"/>
          <p:cNvSpPr/>
          <p:nvPr/>
        </p:nvSpPr>
        <p:spPr>
          <a:xfrm>
            <a:off x="5941800" y="2733840"/>
            <a:ext cx="1546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0.3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Line 13"/>
          <p:cNvSpPr/>
          <p:nvPr/>
        </p:nvSpPr>
        <p:spPr>
          <a:xfrm>
            <a:off x="3133800" y="3048120"/>
            <a:ext cx="25826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Text Box 14"/>
          <p:cNvSpPr/>
          <p:nvPr/>
        </p:nvSpPr>
        <p:spPr>
          <a:xfrm>
            <a:off x="971280" y="3757680"/>
            <a:ext cx="85903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il induzido = 0.314 x Poder cil focômetro (L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Text Box 15"/>
          <p:cNvSpPr/>
          <p:nvPr/>
        </p:nvSpPr>
        <p:spPr>
          <a:xfrm>
            <a:off x="1081080" y="4670280"/>
            <a:ext cx="670716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 lentes de 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47 = 0.28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43 = 0.21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856800" y="244440"/>
            <a:ext cx="8744040" cy="49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FORÇA CILÍNDRICA INDUZIDA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852120" y="1358640"/>
            <a:ext cx="8723160" cy="3516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76000"/>
          </a:bodyPr>
          <a:p>
            <a:pPr marL="260640" indent="0">
              <a:lnSpc>
                <a:spcPct val="120000"/>
              </a:lnSpc>
              <a:spcAft>
                <a:spcPts val="119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ratometria 7.50 mm @ 180  (45.00 D)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.89 mm @ 90    (49.00 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0640" indent="0">
              <a:lnSpc>
                <a:spcPct val="120000"/>
              </a:lnSpc>
              <a:spcAft>
                <a:spcPts val="119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ZOP da lente esférica de superfície anterior 7.50/6.89 mm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0640" indent="0">
              <a:lnSpc>
                <a:spcPct val="120000"/>
              </a:lnSpc>
              <a:spcAft>
                <a:spcPts val="119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 (LC) = 4.00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0640" indent="0">
              <a:lnSpc>
                <a:spcPct val="120000"/>
              </a:lnSpc>
              <a:spcAft>
                <a:spcPts val="119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ça cilíndrica induzida = -(0.456 x 4) x 180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-1.80 D x 18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Rectangle 8"/>
          <p:cNvSpPr/>
          <p:nvPr/>
        </p:nvSpPr>
        <p:spPr>
          <a:xfrm>
            <a:off x="755640" y="750960"/>
            <a:ext cx="8744040" cy="493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EXEMPLO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Rectangle 6"/>
          <p:cNvSpPr/>
          <p:nvPr/>
        </p:nvSpPr>
        <p:spPr>
          <a:xfrm>
            <a:off x="826920" y="806400"/>
            <a:ext cx="8633160" cy="4973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Rectangle 7"/>
          <p:cNvSpPr/>
          <p:nvPr/>
        </p:nvSpPr>
        <p:spPr>
          <a:xfrm>
            <a:off x="1708200" y="1951200"/>
            <a:ext cx="7072200" cy="1920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ADAPTAÇÃO DE LENTES TÓRICAS DE SUPERFÍCIE ANTER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71120" y="453600"/>
            <a:ext cx="8744040" cy="392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LENTES TÓRICAS RGP 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630080" y="1374840"/>
            <a:ext cx="7203960" cy="42609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6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órica de superfície anterior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órica de superfície posterior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Bitóric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órica periféric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740880" y="244440"/>
            <a:ext cx="8744040" cy="49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SELEÇÃO DO MATERIAL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960120" y="941040"/>
            <a:ext cx="7343640" cy="4800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5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Necessário considerar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stabilidade dimensiona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ransmissibilidade de oxigêni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stabilidade óptic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roblemas de fabricaçã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856800" y="374400"/>
            <a:ext cx="8744040" cy="493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FILOSOFIA DE DESENHO DA LENTE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3424320" y="1662120"/>
            <a:ext cx="4363920" cy="3516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21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edido empíric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este de adaptaçã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740880" y="244440"/>
            <a:ext cx="8744040" cy="49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PEDIDO EMPÍRICO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2873160" y="998280"/>
            <a:ext cx="5849640" cy="4800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5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Necessita fornecer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etalhes da refraçã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eratometri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HIV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bertura palpebra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740880" y="244440"/>
            <a:ext cx="8744040" cy="49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PEDIDO EMPÍRICO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342720" y="853560"/>
            <a:ext cx="9389880" cy="4800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5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roblemas com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eratometria imprecis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Valor limitado dos dados queratométrico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esconhecimento da forma corneal periféric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empo perdido em novos pedidos p/ pacient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6"/>
          <p:cNvSpPr/>
          <p:nvPr/>
        </p:nvSpPr>
        <p:spPr>
          <a:xfrm>
            <a:off x="826920" y="806400"/>
            <a:ext cx="8633160" cy="4973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7"/>
          <p:cNvSpPr/>
          <p:nvPr/>
        </p:nvSpPr>
        <p:spPr>
          <a:xfrm>
            <a:off x="1708200" y="1951200"/>
            <a:ext cx="7072200" cy="1920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ADAPTANDO LENTE TÓRICA RGP DE SUPERFÍCIE POSTERIO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740880" y="244440"/>
            <a:ext cx="8744040" cy="49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MODELO DE ALINHAMENTO TOTAL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58840" y="839520"/>
            <a:ext cx="10028160" cy="4800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4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daptação paralela (alinhada) provê estabilidade em cada meridian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4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roporciona uma adaptação mais ajustad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4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ais otimizado em toricidade corneal baixa (1.75 - 2.50 D) para manter estabilidade rotaciona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4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equer diâmetros menores (8.60 - 9.20 mm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/>
          </p:nvPr>
        </p:nvSpPr>
        <p:spPr>
          <a:xfrm>
            <a:off x="263520" y="1661760"/>
            <a:ext cx="9577440" cy="5195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21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roporciona resistência à rotaçã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Óptica simples da lent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adrão de fluoresceína alinhad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 type="title"/>
          </p:nvPr>
        </p:nvSpPr>
        <p:spPr>
          <a:xfrm>
            <a:off x="798120" y="374400"/>
            <a:ext cx="8744040" cy="493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MODELO DE ALINHAMENTO TOTAL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099" name="Rectangle 10"/>
          <p:cNvSpPr/>
          <p:nvPr/>
        </p:nvSpPr>
        <p:spPr>
          <a:xfrm>
            <a:off x="798480" y="952560"/>
            <a:ext cx="8744040" cy="493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VANTAGEN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/>
          </p:nvPr>
        </p:nvSpPr>
        <p:spPr>
          <a:xfrm>
            <a:off x="-360" y="1519200"/>
            <a:ext cx="10287000" cy="5006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roca inadequada de lágrima e remoção de depósito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equer máximo poder na lent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s lentes são mais espessas e pesadas que os desenhos tóricos (baixos) simulado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 type="title"/>
          </p:nvPr>
        </p:nvSpPr>
        <p:spPr>
          <a:xfrm>
            <a:off x="740880" y="244440"/>
            <a:ext cx="8744040" cy="49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MODELO DE ALINHAMENTO TOTAL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106" name="Rectangle 11"/>
          <p:cNvSpPr/>
          <p:nvPr/>
        </p:nvSpPr>
        <p:spPr>
          <a:xfrm>
            <a:off x="798480" y="865080"/>
            <a:ext cx="8744040" cy="49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DESVANTAGEN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740880" y="317160"/>
            <a:ext cx="8744040" cy="493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MODELO DE SIMULAÇÃO DE BAIXA TORICIDADE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982440" y="1444680"/>
            <a:ext cx="8605800" cy="5083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6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O raio de superfície posterior da lente escolhida converte a alta toricidade corneal no equivalente de uma toricidade corneal baixa adaptada com um desenho de lente de superfície posterior esféric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727200" y="261720"/>
            <a:ext cx="8743680" cy="780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MODELO DE SIMULAÇÃO DE BAIXA TORICIDADE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-360" y="941400"/>
            <a:ext cx="10287000" cy="55706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6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Otimizada para elevada toricidade cornea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O meridiano mais plano com adaptação próxima ao alinhamento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O meridiano mais curvo adaptado mais plano em torno de 1/4 a 1/3 do que o raio corneal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iâmetro total da lente entre 9.0 a 9.4 mm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87360"/>
            <a:ext cx="8167680" cy="465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LENTES RGP TÓRICAS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-360" y="1063440"/>
            <a:ext cx="10287000" cy="4633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94000"/>
          </a:bodyPr>
          <a:p>
            <a:pPr marL="322200" indent="-322200" algn="just">
              <a:lnSpc>
                <a:spcPct val="14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daptação estabilizad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just">
              <a:lnSpc>
                <a:spcPct val="14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elação de adaptação lente à cornea melhorad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just">
              <a:lnSpc>
                <a:spcPct val="14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orreção cilíndrica pode ser menor do que com as lentes tóricas gelatinosa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just">
              <a:lnSpc>
                <a:spcPct val="14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Fisiologia corneal melhor do que as lentes tóricas gelatinosa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740880" y="287280"/>
            <a:ext cx="8744040" cy="49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MODELO DE SIMULAÇÃO DE BAIXA TORICIDADE 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183960" y="1317240"/>
            <a:ext cx="10102680" cy="5240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22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elhora o intercâmbio lacrimal e a remoção de depósito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2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Lentes são levemente mais finas e lev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2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aior Dk/t que os desenhos de alinhamento tota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Rectangle 8"/>
          <p:cNvSpPr/>
          <p:nvPr/>
        </p:nvSpPr>
        <p:spPr>
          <a:xfrm>
            <a:off x="552600" y="1096920"/>
            <a:ext cx="8743680" cy="49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VANTAGEN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740880" y="388800"/>
            <a:ext cx="8744040" cy="49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TÓRICA DE SUPERFÍCIE POSTERIOR COM ESFÉRICO ANTERIOR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1109160" y="1199880"/>
            <a:ext cx="8597880" cy="4165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9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plicação limitad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9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O cilíndrico induzido corrige o astigmatismo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9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ode ser útil em casos de astigmatismo corneal CR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-360" y="160200"/>
            <a:ext cx="10287000" cy="49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TÓRICO POSTERIOR/ESFÉRICO ANTERIOR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1093320" y="1143000"/>
            <a:ext cx="8487000" cy="4772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120000"/>
              </a:lnSpc>
              <a:spcAft>
                <a:spcPts val="119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1.00/-3.00 x 9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120000"/>
              </a:lnSpc>
              <a:spcAft>
                <a:spcPts val="119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4.00 @ 180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2.00 @ 9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120000"/>
              </a:lnSpc>
              <a:spcAft>
                <a:spcPts val="119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il residual calculad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1.00 x 9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120000"/>
              </a:lnSpc>
              <a:spcAft>
                <a:spcPts val="119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il induzido calculad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0.75 x 9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120000"/>
              </a:lnSpc>
              <a:spcAft>
                <a:spcPts val="119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cilíndrico induzido atuará como uma lente corretiva para o astigmatismo fisiológico do paci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Rectangle 8"/>
          <p:cNvSpPr/>
          <p:nvPr/>
        </p:nvSpPr>
        <p:spPr>
          <a:xfrm>
            <a:off x="768240" y="720720"/>
            <a:ext cx="8744040" cy="493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EXEMPLO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740880" y="317160"/>
            <a:ext cx="8744040" cy="493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LENTES BITÓRICAS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738000" y="966960"/>
            <a:ext cx="9096120" cy="35733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76000"/>
          </a:bodyPr>
          <a:p>
            <a:pPr marL="260640" indent="-260640">
              <a:lnSpc>
                <a:spcPct val="17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e o astigmatismo residual é induzido quando a superfície posterior da lente é tórica, a correção cilíndrica pode ser desenvolvida na superfície anterior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17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Isso resulta em superfícies tóricas posterior e anterior ou desenho de lente bitóric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770040" y="314280"/>
            <a:ext cx="8743680" cy="509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ADAPTAÇÃO DE LENTES BITÓRICAS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953640" y="1401480"/>
            <a:ext cx="8837640" cy="445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6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Lentes bitóricas são essencialmente duas lentes esféricas de diferentes desenhos e poderes: uma para o meridiano mais plano da córnea e outra para o meridiano mais curv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740880" y="201240"/>
            <a:ext cx="8744040" cy="60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OPÇÕES DE ADAPTAÇÃO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861480" y="1141560"/>
            <a:ext cx="8363160" cy="4627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álculo empírico baseado em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Leituras queratométricas precisa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Lentes esféricas com sobre-refraçã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Lentes de teste tóricas de superfície posterior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883800" y="189000"/>
            <a:ext cx="8744040" cy="465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ADAPTANDO BITÓRICAS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209240" y="1244520"/>
            <a:ext cx="8487000" cy="4772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Aft>
                <a:spcPts val="104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ratometri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2.00 @ 180 (8.04 mm)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6.50 @ 90   (7.26 mm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Aft>
                <a:spcPts val="104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raçã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2.00/-5.00 x 18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Aft>
                <a:spcPts val="104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tância vérti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2m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Aft>
                <a:spcPts val="104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x no plano corne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2.00/4.50 x 18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Aft>
                <a:spcPts val="104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VP exigido na lent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2.00 D @ 180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6.50 D @ 9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Aft>
                <a:spcPts val="104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enho de lente para alinhamento to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Aft>
                <a:spcPts val="104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04 mm ao longo de 180 com  -2.00 D PV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Aft>
                <a:spcPts val="104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.26 mm ao longo de  90  com  -6.50 D PV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Aft>
                <a:spcPts val="104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Rectangle 8"/>
          <p:cNvSpPr/>
          <p:nvPr/>
        </p:nvSpPr>
        <p:spPr>
          <a:xfrm>
            <a:off x="798480" y="649440"/>
            <a:ext cx="8744040" cy="493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EXEMPLO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783720" y="185760"/>
            <a:ext cx="8744040" cy="465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LENTES DE TESTE ESFÉRICAS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735120" y="1127160"/>
            <a:ext cx="8864640" cy="4627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11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daptar o meridiano mais plano alinhad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1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eterminar melhor RZOP e o desenho periférico da lente para o meridian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1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Usar o desenho da lente e o PVP aproximando-o à lente exigida fina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1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ealizar uma sobre-refração esfero-cilíndric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1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eterminar PVP exigido para o meridiano mais plan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Rectangle 8"/>
          <p:cNvSpPr/>
          <p:nvPr/>
        </p:nvSpPr>
        <p:spPr>
          <a:xfrm>
            <a:off x="727200" y="638280"/>
            <a:ext cx="8743680" cy="493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MÉTODO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783720" y="0"/>
            <a:ext cx="8744040" cy="650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LENTES DE TESTE ESFÉRICAS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382680" y="1329840"/>
            <a:ext cx="9693360" cy="5280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daptar no meridiano mais curvo 25 a 33% mais plano que K do que a toricidade cornea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ealizar uma sobre-refração esfero-cilíndric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etermine PVP exigido no meridiano mais curv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Rectangle 8"/>
          <p:cNvSpPr/>
          <p:nvPr/>
        </p:nvSpPr>
        <p:spPr>
          <a:xfrm>
            <a:off x="727200" y="636480"/>
            <a:ext cx="8743680" cy="536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MÉTODO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783720" y="0"/>
            <a:ext cx="8744040" cy="650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LENTES DE TESTE ESFÉRICAS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223560" y="1660320"/>
            <a:ext cx="10063080" cy="3346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17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nviar os detalhes do desenho de lente para o laboratóri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7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etermine o RZOP e o PVP exigido para cada meridian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Rectangle 8"/>
          <p:cNvSpPr/>
          <p:nvPr/>
        </p:nvSpPr>
        <p:spPr>
          <a:xfrm>
            <a:off x="727200" y="650880"/>
            <a:ext cx="8743680" cy="550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MÉTODO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17440" y="270000"/>
            <a:ext cx="8167680" cy="466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LENTES RGP TÓRICAS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30200" y="1666440"/>
            <a:ext cx="9509040" cy="4838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8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Lentes relativamente grossa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8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enor controle sobre perfil de bord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8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ossível desalinhamento do eixo da córnea e do cilíndrico da Rx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Rectangle 55"/>
          <p:cNvSpPr/>
          <p:nvPr/>
        </p:nvSpPr>
        <p:spPr>
          <a:xfrm>
            <a:off x="1030320" y="893880"/>
            <a:ext cx="8167680" cy="466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DESVANTAGEN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783720" y="0"/>
            <a:ext cx="8744040" cy="650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LENTES DE TESTE ESFÉRICAS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744480" y="1273320"/>
            <a:ext cx="8888400" cy="4627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ode mudar cada meridiano do desenho da lente independentement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álculo do poder meridional é baseado na sobre-refraçã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justes da lente lacrimal são geralmente de um poder baix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Rectangle 8"/>
          <p:cNvSpPr/>
          <p:nvPr/>
        </p:nvSpPr>
        <p:spPr>
          <a:xfrm>
            <a:off x="727200" y="665280"/>
            <a:ext cx="8743680" cy="493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VANTAGEN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812520" y="258840"/>
            <a:ext cx="8744040" cy="565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LENTES DE TESTE ESFÉRICAS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1093680" y="1257480"/>
            <a:ext cx="8461440" cy="5163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5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e a sobre-refração com lentes esféricas em uma córnea tórica produz nenhum ou mínimo cilíndrico residual, então apenas o cilíndrico residual induzido (da superfície posterior tórica) necessitará de correçã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812520" y="214200"/>
            <a:ext cx="8744040" cy="565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LENTES DE TESTE ESFÉRICAS 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1456920" y="1084320"/>
            <a:ext cx="7883640" cy="4627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Um cilíndrico positivo igual, cujo eixo é o mesmo que o cilíndrico induzido aplicado à superfície anterior da lente corrigirá o poder do cilíndrico residual (neste caso cilíndrico induzido)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ssa lente tem o EFEITO DE PODER ESFÉRICO no olh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783720" y="183960"/>
            <a:ext cx="8744040" cy="580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EFEITO DO PODER ESFÉRICO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1168200" y="939960"/>
            <a:ext cx="8483400" cy="4627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3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omo a toricidade da superfície posterior é conhecida, a magnitude do cilíndrico induzido pode ser calculada (eg. 0.456 x </a:t>
            </a:r>
            <a:r>
              <a:rPr b="0" lang="en-US" sz="3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K (LC) para lentes PMMA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3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O fabricante pode então desenvolver um cilíndrico de superfície anterior para anular o poder do cilíndrico induzid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783720" y="0"/>
            <a:ext cx="8744040" cy="650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LENTES DE PODER ESFÉRICO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1717560" y="1157400"/>
            <a:ext cx="7521840" cy="4627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ode girar na córnea sem comprometimento da visã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O poder do cilíndrico no ar é 1 x a toricidade da superfície posterior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ode avaliar o astigmatismo residua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Rectangle 8"/>
          <p:cNvSpPr/>
          <p:nvPr/>
        </p:nvSpPr>
        <p:spPr>
          <a:xfrm>
            <a:off x="727200" y="665280"/>
            <a:ext cx="8743680" cy="493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VANTAGEN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783720" y="185760"/>
            <a:ext cx="8744040" cy="565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TÓRICA PERIFÉRICA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750600" y="461880"/>
            <a:ext cx="9093240" cy="490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12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m alguns casos uma lente esférica pode proporcionar um adequado padrão de adaptação central e periférico. Entretanto a toricidade da córnea periférica pode causar excessiva claridade de borda no meridiano mais curvo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2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 adaptação periférica pode ser melhorada adaptando a lente com uma apropriada curva periférica tórica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Freeform 8"/>
          <p:cNvSpPr/>
          <p:nvPr/>
        </p:nvSpPr>
        <p:spPr>
          <a:xfrm>
            <a:off x="3224160" y="1290600"/>
            <a:ext cx="4097520" cy="3919680"/>
          </a:xfrm>
          <a:custGeom>
            <a:avLst/>
            <a:gdLst>
              <a:gd name="textAreaLeft" fmla="*/ 0 w 4097520"/>
              <a:gd name="textAreaRight" fmla="*/ 4097880 w 4097520"/>
              <a:gd name="textAreaTop" fmla="*/ 0 h 3919680"/>
              <a:gd name="textAreaBottom" fmla="*/ 3920040 h 3919680"/>
            </a:gdLst>
            <a:ahLst/>
            <a:rect l="textAreaLeft" t="textAreaTop" r="textAreaRight" b="textAreaBottom"/>
            <a:pathLst>
              <a:path w="2581" h="2469">
                <a:moveTo>
                  <a:pt x="1290" y="0"/>
                </a:moveTo>
                <a:lnTo>
                  <a:pt x="1357" y="1"/>
                </a:lnTo>
                <a:lnTo>
                  <a:pt x="1422" y="7"/>
                </a:lnTo>
                <a:lnTo>
                  <a:pt x="1487" y="15"/>
                </a:lnTo>
                <a:lnTo>
                  <a:pt x="1551" y="26"/>
                </a:lnTo>
                <a:lnTo>
                  <a:pt x="1612" y="40"/>
                </a:lnTo>
                <a:lnTo>
                  <a:pt x="1673" y="55"/>
                </a:lnTo>
                <a:lnTo>
                  <a:pt x="1733" y="76"/>
                </a:lnTo>
                <a:lnTo>
                  <a:pt x="1792" y="97"/>
                </a:lnTo>
                <a:lnTo>
                  <a:pt x="1848" y="122"/>
                </a:lnTo>
                <a:lnTo>
                  <a:pt x="1904" y="149"/>
                </a:lnTo>
                <a:lnTo>
                  <a:pt x="1959" y="180"/>
                </a:lnTo>
                <a:lnTo>
                  <a:pt x="2011" y="213"/>
                </a:lnTo>
                <a:lnTo>
                  <a:pt x="2061" y="245"/>
                </a:lnTo>
                <a:lnTo>
                  <a:pt x="2111" y="284"/>
                </a:lnTo>
                <a:lnTo>
                  <a:pt x="2157" y="322"/>
                </a:lnTo>
                <a:lnTo>
                  <a:pt x="2201" y="362"/>
                </a:lnTo>
                <a:lnTo>
                  <a:pt x="2245" y="406"/>
                </a:lnTo>
                <a:lnTo>
                  <a:pt x="2285" y="450"/>
                </a:lnTo>
                <a:lnTo>
                  <a:pt x="2324" y="496"/>
                </a:lnTo>
                <a:lnTo>
                  <a:pt x="2360" y="544"/>
                </a:lnTo>
                <a:lnTo>
                  <a:pt x="2393" y="596"/>
                </a:lnTo>
                <a:lnTo>
                  <a:pt x="2424" y="648"/>
                </a:lnTo>
                <a:lnTo>
                  <a:pt x="2452" y="700"/>
                </a:lnTo>
                <a:lnTo>
                  <a:pt x="2479" y="756"/>
                </a:lnTo>
                <a:lnTo>
                  <a:pt x="2502" y="811"/>
                </a:lnTo>
                <a:lnTo>
                  <a:pt x="2522" y="869"/>
                </a:lnTo>
                <a:lnTo>
                  <a:pt x="2541" y="926"/>
                </a:lnTo>
                <a:lnTo>
                  <a:pt x="2554" y="986"/>
                </a:lnTo>
                <a:lnTo>
                  <a:pt x="2566" y="1047"/>
                </a:lnTo>
                <a:lnTo>
                  <a:pt x="2573" y="1109"/>
                </a:lnTo>
                <a:lnTo>
                  <a:pt x="2579" y="1172"/>
                </a:lnTo>
                <a:lnTo>
                  <a:pt x="2581" y="1235"/>
                </a:lnTo>
                <a:lnTo>
                  <a:pt x="2579" y="1298"/>
                </a:lnTo>
                <a:lnTo>
                  <a:pt x="2573" y="1360"/>
                </a:lnTo>
                <a:lnTo>
                  <a:pt x="2566" y="1421"/>
                </a:lnTo>
                <a:lnTo>
                  <a:pt x="2554" y="1483"/>
                </a:lnTo>
                <a:lnTo>
                  <a:pt x="2541" y="1542"/>
                </a:lnTo>
                <a:lnTo>
                  <a:pt x="2522" y="1602"/>
                </a:lnTo>
                <a:lnTo>
                  <a:pt x="2502" y="1659"/>
                </a:lnTo>
                <a:lnTo>
                  <a:pt x="2479" y="1715"/>
                </a:lnTo>
                <a:lnTo>
                  <a:pt x="2452" y="1769"/>
                </a:lnTo>
                <a:lnTo>
                  <a:pt x="2424" y="1822"/>
                </a:lnTo>
                <a:lnTo>
                  <a:pt x="2393" y="1874"/>
                </a:lnTo>
                <a:lnTo>
                  <a:pt x="2360" y="1924"/>
                </a:lnTo>
                <a:lnTo>
                  <a:pt x="2324" y="1972"/>
                </a:lnTo>
                <a:lnTo>
                  <a:pt x="2285" y="2020"/>
                </a:lnTo>
                <a:lnTo>
                  <a:pt x="2245" y="2064"/>
                </a:lnTo>
                <a:lnTo>
                  <a:pt x="2201" y="2106"/>
                </a:lnTo>
                <a:lnTo>
                  <a:pt x="2157" y="2148"/>
                </a:lnTo>
                <a:lnTo>
                  <a:pt x="2111" y="2187"/>
                </a:lnTo>
                <a:lnTo>
                  <a:pt x="2061" y="2223"/>
                </a:lnTo>
                <a:lnTo>
                  <a:pt x="2011" y="2258"/>
                </a:lnTo>
                <a:lnTo>
                  <a:pt x="1959" y="2290"/>
                </a:lnTo>
                <a:lnTo>
                  <a:pt x="1904" y="2319"/>
                </a:lnTo>
                <a:lnTo>
                  <a:pt x="1848" y="2346"/>
                </a:lnTo>
                <a:lnTo>
                  <a:pt x="1792" y="2371"/>
                </a:lnTo>
                <a:lnTo>
                  <a:pt x="1733" y="2394"/>
                </a:lnTo>
                <a:lnTo>
                  <a:pt x="1673" y="2413"/>
                </a:lnTo>
                <a:lnTo>
                  <a:pt x="1612" y="2431"/>
                </a:lnTo>
                <a:lnTo>
                  <a:pt x="1551" y="2444"/>
                </a:lnTo>
                <a:lnTo>
                  <a:pt x="1487" y="2455"/>
                </a:lnTo>
                <a:lnTo>
                  <a:pt x="1422" y="2463"/>
                </a:lnTo>
                <a:lnTo>
                  <a:pt x="1357" y="2467"/>
                </a:lnTo>
                <a:lnTo>
                  <a:pt x="1290" y="2469"/>
                </a:lnTo>
                <a:lnTo>
                  <a:pt x="1224" y="2467"/>
                </a:lnTo>
                <a:lnTo>
                  <a:pt x="1159" y="2463"/>
                </a:lnTo>
                <a:lnTo>
                  <a:pt x="1094" y="2455"/>
                </a:lnTo>
                <a:lnTo>
                  <a:pt x="1031" y="2444"/>
                </a:lnTo>
                <a:lnTo>
                  <a:pt x="969" y="2431"/>
                </a:lnTo>
                <a:lnTo>
                  <a:pt x="908" y="2413"/>
                </a:lnTo>
                <a:lnTo>
                  <a:pt x="848" y="2394"/>
                </a:lnTo>
                <a:lnTo>
                  <a:pt x="789" y="2371"/>
                </a:lnTo>
                <a:lnTo>
                  <a:pt x="731" y="2346"/>
                </a:lnTo>
                <a:lnTo>
                  <a:pt x="676" y="2319"/>
                </a:lnTo>
                <a:lnTo>
                  <a:pt x="622" y="2290"/>
                </a:lnTo>
                <a:lnTo>
                  <a:pt x="570" y="2258"/>
                </a:lnTo>
                <a:lnTo>
                  <a:pt x="520" y="2223"/>
                </a:lnTo>
                <a:lnTo>
                  <a:pt x="470" y="2187"/>
                </a:lnTo>
                <a:lnTo>
                  <a:pt x="424" y="2148"/>
                </a:lnTo>
                <a:lnTo>
                  <a:pt x="378" y="2106"/>
                </a:lnTo>
                <a:lnTo>
                  <a:pt x="336" y="2064"/>
                </a:lnTo>
                <a:lnTo>
                  <a:pt x="296" y="2020"/>
                </a:lnTo>
                <a:lnTo>
                  <a:pt x="257" y="1972"/>
                </a:lnTo>
                <a:lnTo>
                  <a:pt x="221" y="1924"/>
                </a:lnTo>
                <a:lnTo>
                  <a:pt x="188" y="1874"/>
                </a:lnTo>
                <a:lnTo>
                  <a:pt x="156" y="1822"/>
                </a:lnTo>
                <a:lnTo>
                  <a:pt x="129" y="1769"/>
                </a:lnTo>
                <a:lnTo>
                  <a:pt x="102" y="1715"/>
                </a:lnTo>
                <a:lnTo>
                  <a:pt x="79" y="1659"/>
                </a:lnTo>
                <a:lnTo>
                  <a:pt x="58" y="1602"/>
                </a:lnTo>
                <a:lnTo>
                  <a:pt x="40" y="1542"/>
                </a:lnTo>
                <a:lnTo>
                  <a:pt x="27" y="1483"/>
                </a:lnTo>
                <a:lnTo>
                  <a:pt x="15" y="1421"/>
                </a:lnTo>
                <a:lnTo>
                  <a:pt x="8" y="1360"/>
                </a:lnTo>
                <a:lnTo>
                  <a:pt x="2" y="1298"/>
                </a:lnTo>
                <a:lnTo>
                  <a:pt x="0" y="1235"/>
                </a:lnTo>
                <a:lnTo>
                  <a:pt x="2" y="1172"/>
                </a:lnTo>
                <a:lnTo>
                  <a:pt x="8" y="1109"/>
                </a:lnTo>
                <a:lnTo>
                  <a:pt x="15" y="1047"/>
                </a:lnTo>
                <a:lnTo>
                  <a:pt x="27" y="986"/>
                </a:lnTo>
                <a:lnTo>
                  <a:pt x="40" y="926"/>
                </a:lnTo>
                <a:lnTo>
                  <a:pt x="58" y="869"/>
                </a:lnTo>
                <a:lnTo>
                  <a:pt x="79" y="811"/>
                </a:lnTo>
                <a:lnTo>
                  <a:pt x="102" y="756"/>
                </a:lnTo>
                <a:lnTo>
                  <a:pt x="129" y="700"/>
                </a:lnTo>
                <a:lnTo>
                  <a:pt x="156" y="648"/>
                </a:lnTo>
                <a:lnTo>
                  <a:pt x="188" y="596"/>
                </a:lnTo>
                <a:lnTo>
                  <a:pt x="221" y="544"/>
                </a:lnTo>
                <a:lnTo>
                  <a:pt x="257" y="496"/>
                </a:lnTo>
                <a:lnTo>
                  <a:pt x="296" y="450"/>
                </a:lnTo>
                <a:lnTo>
                  <a:pt x="336" y="406"/>
                </a:lnTo>
                <a:lnTo>
                  <a:pt x="378" y="362"/>
                </a:lnTo>
                <a:lnTo>
                  <a:pt x="424" y="322"/>
                </a:lnTo>
                <a:lnTo>
                  <a:pt x="470" y="284"/>
                </a:lnTo>
                <a:lnTo>
                  <a:pt x="520" y="245"/>
                </a:lnTo>
                <a:lnTo>
                  <a:pt x="570" y="213"/>
                </a:lnTo>
                <a:lnTo>
                  <a:pt x="622" y="180"/>
                </a:lnTo>
                <a:lnTo>
                  <a:pt x="676" y="149"/>
                </a:lnTo>
                <a:lnTo>
                  <a:pt x="731" y="122"/>
                </a:lnTo>
                <a:lnTo>
                  <a:pt x="789" y="97"/>
                </a:lnTo>
                <a:lnTo>
                  <a:pt x="848" y="76"/>
                </a:lnTo>
                <a:lnTo>
                  <a:pt x="908" y="55"/>
                </a:lnTo>
                <a:lnTo>
                  <a:pt x="969" y="40"/>
                </a:lnTo>
                <a:lnTo>
                  <a:pt x="1031" y="26"/>
                </a:lnTo>
                <a:lnTo>
                  <a:pt x="1094" y="15"/>
                </a:lnTo>
                <a:lnTo>
                  <a:pt x="1159" y="7"/>
                </a:lnTo>
                <a:lnTo>
                  <a:pt x="1224" y="1"/>
                </a:lnTo>
                <a:lnTo>
                  <a:pt x="1290" y="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Freeform 9"/>
          <p:cNvSpPr/>
          <p:nvPr/>
        </p:nvSpPr>
        <p:spPr>
          <a:xfrm>
            <a:off x="5272200" y="1278000"/>
            <a:ext cx="2062080" cy="1973160"/>
          </a:xfrm>
          <a:custGeom>
            <a:avLst/>
            <a:gdLst>
              <a:gd name="textAreaLeft" fmla="*/ 0 w 2062080"/>
              <a:gd name="textAreaRight" fmla="*/ 2062440 w 2062080"/>
              <a:gd name="textAreaTop" fmla="*/ 0 h 1973160"/>
              <a:gd name="textAreaBottom" fmla="*/ 1973520 h 1973160"/>
            </a:gdLst>
            <a:ahLst/>
            <a:rect l="textAreaLeft" t="textAreaTop" r="textAreaRight" b="textAreaBottom"/>
            <a:pathLst>
              <a:path w="1299" h="1243">
                <a:moveTo>
                  <a:pt x="1299" y="1243"/>
                </a:moveTo>
                <a:lnTo>
                  <a:pt x="1297" y="1178"/>
                </a:lnTo>
                <a:lnTo>
                  <a:pt x="1291" y="1117"/>
                </a:lnTo>
                <a:lnTo>
                  <a:pt x="1283" y="1053"/>
                </a:lnTo>
                <a:lnTo>
                  <a:pt x="1272" y="992"/>
                </a:lnTo>
                <a:lnTo>
                  <a:pt x="1258" y="932"/>
                </a:lnTo>
                <a:lnTo>
                  <a:pt x="1239" y="873"/>
                </a:lnTo>
                <a:lnTo>
                  <a:pt x="1220" y="815"/>
                </a:lnTo>
                <a:lnTo>
                  <a:pt x="1197" y="760"/>
                </a:lnTo>
                <a:lnTo>
                  <a:pt x="1170" y="704"/>
                </a:lnTo>
                <a:lnTo>
                  <a:pt x="1141" y="650"/>
                </a:lnTo>
                <a:lnTo>
                  <a:pt x="1111" y="598"/>
                </a:lnTo>
                <a:lnTo>
                  <a:pt x="1076" y="549"/>
                </a:lnTo>
                <a:lnTo>
                  <a:pt x="1040" y="501"/>
                </a:lnTo>
                <a:lnTo>
                  <a:pt x="1001" y="453"/>
                </a:lnTo>
                <a:lnTo>
                  <a:pt x="961" y="409"/>
                </a:lnTo>
                <a:lnTo>
                  <a:pt x="917" y="364"/>
                </a:lnTo>
                <a:lnTo>
                  <a:pt x="873" y="324"/>
                </a:lnTo>
                <a:lnTo>
                  <a:pt x="825" y="284"/>
                </a:lnTo>
                <a:lnTo>
                  <a:pt x="777" y="247"/>
                </a:lnTo>
                <a:lnTo>
                  <a:pt x="725" y="213"/>
                </a:lnTo>
                <a:lnTo>
                  <a:pt x="673" y="180"/>
                </a:lnTo>
                <a:lnTo>
                  <a:pt x="617" y="151"/>
                </a:lnTo>
                <a:lnTo>
                  <a:pt x="562" y="123"/>
                </a:lnTo>
                <a:lnTo>
                  <a:pt x="504" y="98"/>
                </a:lnTo>
                <a:lnTo>
                  <a:pt x="447" y="77"/>
                </a:lnTo>
                <a:lnTo>
                  <a:pt x="385" y="56"/>
                </a:lnTo>
                <a:lnTo>
                  <a:pt x="324" y="40"/>
                </a:lnTo>
                <a:lnTo>
                  <a:pt x="261" y="25"/>
                </a:lnTo>
                <a:lnTo>
                  <a:pt x="197" y="15"/>
                </a:lnTo>
                <a:lnTo>
                  <a:pt x="132" y="8"/>
                </a:lnTo>
                <a:lnTo>
                  <a:pt x="67" y="2"/>
                </a:lnTo>
                <a:lnTo>
                  <a:pt x="0" y="0"/>
                </a:lnTo>
                <a:lnTo>
                  <a:pt x="0" y="17"/>
                </a:lnTo>
                <a:lnTo>
                  <a:pt x="67" y="17"/>
                </a:lnTo>
                <a:lnTo>
                  <a:pt x="132" y="23"/>
                </a:lnTo>
                <a:lnTo>
                  <a:pt x="195" y="31"/>
                </a:lnTo>
                <a:lnTo>
                  <a:pt x="259" y="42"/>
                </a:lnTo>
                <a:lnTo>
                  <a:pt x="320" y="56"/>
                </a:lnTo>
                <a:lnTo>
                  <a:pt x="381" y="71"/>
                </a:lnTo>
                <a:lnTo>
                  <a:pt x="441" y="92"/>
                </a:lnTo>
                <a:lnTo>
                  <a:pt x="498" y="113"/>
                </a:lnTo>
                <a:lnTo>
                  <a:pt x="556" y="138"/>
                </a:lnTo>
                <a:lnTo>
                  <a:pt x="612" y="165"/>
                </a:lnTo>
                <a:lnTo>
                  <a:pt x="664" y="194"/>
                </a:lnTo>
                <a:lnTo>
                  <a:pt x="717" y="226"/>
                </a:lnTo>
                <a:lnTo>
                  <a:pt x="767" y="261"/>
                </a:lnTo>
                <a:lnTo>
                  <a:pt x="815" y="297"/>
                </a:lnTo>
                <a:lnTo>
                  <a:pt x="861" y="336"/>
                </a:lnTo>
                <a:lnTo>
                  <a:pt x="907" y="376"/>
                </a:lnTo>
                <a:lnTo>
                  <a:pt x="949" y="418"/>
                </a:lnTo>
                <a:lnTo>
                  <a:pt x="990" y="464"/>
                </a:lnTo>
                <a:lnTo>
                  <a:pt x="1028" y="510"/>
                </a:lnTo>
                <a:lnTo>
                  <a:pt x="1063" y="558"/>
                </a:lnTo>
                <a:lnTo>
                  <a:pt x="1097" y="608"/>
                </a:lnTo>
                <a:lnTo>
                  <a:pt x="1128" y="660"/>
                </a:lnTo>
                <a:lnTo>
                  <a:pt x="1157" y="712"/>
                </a:lnTo>
                <a:lnTo>
                  <a:pt x="1182" y="765"/>
                </a:lnTo>
                <a:lnTo>
                  <a:pt x="1205" y="821"/>
                </a:lnTo>
                <a:lnTo>
                  <a:pt x="1224" y="879"/>
                </a:lnTo>
                <a:lnTo>
                  <a:pt x="1241" y="936"/>
                </a:lnTo>
                <a:lnTo>
                  <a:pt x="1256" y="996"/>
                </a:lnTo>
                <a:lnTo>
                  <a:pt x="1268" y="1057"/>
                </a:lnTo>
                <a:lnTo>
                  <a:pt x="1276" y="1118"/>
                </a:lnTo>
                <a:lnTo>
                  <a:pt x="1281" y="1180"/>
                </a:lnTo>
                <a:lnTo>
                  <a:pt x="1283" y="1243"/>
                </a:lnTo>
                <a:lnTo>
                  <a:pt x="1299" y="124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Freeform 10"/>
          <p:cNvSpPr/>
          <p:nvPr/>
        </p:nvSpPr>
        <p:spPr>
          <a:xfrm>
            <a:off x="5272200" y="3251160"/>
            <a:ext cx="2062080" cy="1971720"/>
          </a:xfrm>
          <a:custGeom>
            <a:avLst/>
            <a:gdLst>
              <a:gd name="textAreaLeft" fmla="*/ 0 w 2062080"/>
              <a:gd name="textAreaRight" fmla="*/ 2062440 w 2062080"/>
              <a:gd name="textAreaTop" fmla="*/ 0 h 1971720"/>
              <a:gd name="textAreaBottom" fmla="*/ 1972080 h 1971720"/>
            </a:gdLst>
            <a:ahLst/>
            <a:rect l="textAreaLeft" t="textAreaTop" r="textAreaRight" b="textAreaBottom"/>
            <a:pathLst>
              <a:path w="1299" h="1242">
                <a:moveTo>
                  <a:pt x="0" y="1242"/>
                </a:moveTo>
                <a:lnTo>
                  <a:pt x="67" y="1240"/>
                </a:lnTo>
                <a:lnTo>
                  <a:pt x="132" y="1236"/>
                </a:lnTo>
                <a:lnTo>
                  <a:pt x="197" y="1228"/>
                </a:lnTo>
                <a:lnTo>
                  <a:pt x="261" y="1217"/>
                </a:lnTo>
                <a:lnTo>
                  <a:pt x="324" y="1203"/>
                </a:lnTo>
                <a:lnTo>
                  <a:pt x="385" y="1186"/>
                </a:lnTo>
                <a:lnTo>
                  <a:pt x="447" y="1167"/>
                </a:lnTo>
                <a:lnTo>
                  <a:pt x="504" y="1144"/>
                </a:lnTo>
                <a:lnTo>
                  <a:pt x="562" y="1119"/>
                </a:lnTo>
                <a:lnTo>
                  <a:pt x="617" y="1092"/>
                </a:lnTo>
                <a:lnTo>
                  <a:pt x="673" y="1061"/>
                </a:lnTo>
                <a:lnTo>
                  <a:pt x="725" y="1029"/>
                </a:lnTo>
                <a:lnTo>
                  <a:pt x="777" y="994"/>
                </a:lnTo>
                <a:lnTo>
                  <a:pt x="825" y="958"/>
                </a:lnTo>
                <a:lnTo>
                  <a:pt x="873" y="919"/>
                </a:lnTo>
                <a:lnTo>
                  <a:pt x="917" y="877"/>
                </a:lnTo>
                <a:lnTo>
                  <a:pt x="961" y="835"/>
                </a:lnTo>
                <a:lnTo>
                  <a:pt x="1001" y="789"/>
                </a:lnTo>
                <a:lnTo>
                  <a:pt x="1040" y="743"/>
                </a:lnTo>
                <a:lnTo>
                  <a:pt x="1076" y="693"/>
                </a:lnTo>
                <a:lnTo>
                  <a:pt x="1111" y="643"/>
                </a:lnTo>
                <a:lnTo>
                  <a:pt x="1141" y="591"/>
                </a:lnTo>
                <a:lnTo>
                  <a:pt x="1170" y="537"/>
                </a:lnTo>
                <a:lnTo>
                  <a:pt x="1197" y="482"/>
                </a:lnTo>
                <a:lnTo>
                  <a:pt x="1220" y="426"/>
                </a:lnTo>
                <a:lnTo>
                  <a:pt x="1239" y="369"/>
                </a:lnTo>
                <a:lnTo>
                  <a:pt x="1258" y="309"/>
                </a:lnTo>
                <a:lnTo>
                  <a:pt x="1272" y="250"/>
                </a:lnTo>
                <a:lnTo>
                  <a:pt x="1283" y="188"/>
                </a:lnTo>
                <a:lnTo>
                  <a:pt x="1291" y="127"/>
                </a:lnTo>
                <a:lnTo>
                  <a:pt x="1297" y="63"/>
                </a:lnTo>
                <a:lnTo>
                  <a:pt x="1299" y="0"/>
                </a:lnTo>
                <a:lnTo>
                  <a:pt x="1283" y="0"/>
                </a:lnTo>
                <a:lnTo>
                  <a:pt x="1281" y="63"/>
                </a:lnTo>
                <a:lnTo>
                  <a:pt x="1276" y="125"/>
                </a:lnTo>
                <a:lnTo>
                  <a:pt x="1268" y="186"/>
                </a:lnTo>
                <a:lnTo>
                  <a:pt x="1256" y="246"/>
                </a:lnTo>
                <a:lnTo>
                  <a:pt x="1241" y="305"/>
                </a:lnTo>
                <a:lnTo>
                  <a:pt x="1224" y="363"/>
                </a:lnTo>
                <a:lnTo>
                  <a:pt x="1205" y="420"/>
                </a:lnTo>
                <a:lnTo>
                  <a:pt x="1182" y="476"/>
                </a:lnTo>
                <a:lnTo>
                  <a:pt x="1157" y="530"/>
                </a:lnTo>
                <a:lnTo>
                  <a:pt x="1128" y="583"/>
                </a:lnTo>
                <a:lnTo>
                  <a:pt x="1097" y="635"/>
                </a:lnTo>
                <a:lnTo>
                  <a:pt x="1063" y="685"/>
                </a:lnTo>
                <a:lnTo>
                  <a:pt x="1028" y="733"/>
                </a:lnTo>
                <a:lnTo>
                  <a:pt x="990" y="779"/>
                </a:lnTo>
                <a:lnTo>
                  <a:pt x="949" y="823"/>
                </a:lnTo>
                <a:lnTo>
                  <a:pt x="907" y="866"/>
                </a:lnTo>
                <a:lnTo>
                  <a:pt x="861" y="906"/>
                </a:lnTo>
                <a:lnTo>
                  <a:pt x="815" y="946"/>
                </a:lnTo>
                <a:lnTo>
                  <a:pt x="767" y="983"/>
                </a:lnTo>
                <a:lnTo>
                  <a:pt x="717" y="1015"/>
                </a:lnTo>
                <a:lnTo>
                  <a:pt x="664" y="1048"/>
                </a:lnTo>
                <a:lnTo>
                  <a:pt x="612" y="1077"/>
                </a:lnTo>
                <a:lnTo>
                  <a:pt x="556" y="1105"/>
                </a:lnTo>
                <a:lnTo>
                  <a:pt x="498" y="1128"/>
                </a:lnTo>
                <a:lnTo>
                  <a:pt x="441" y="1151"/>
                </a:lnTo>
                <a:lnTo>
                  <a:pt x="381" y="1171"/>
                </a:lnTo>
                <a:lnTo>
                  <a:pt x="320" y="1188"/>
                </a:lnTo>
                <a:lnTo>
                  <a:pt x="259" y="1201"/>
                </a:lnTo>
                <a:lnTo>
                  <a:pt x="195" y="1211"/>
                </a:lnTo>
                <a:lnTo>
                  <a:pt x="132" y="1220"/>
                </a:lnTo>
                <a:lnTo>
                  <a:pt x="67" y="1224"/>
                </a:lnTo>
                <a:lnTo>
                  <a:pt x="0" y="1226"/>
                </a:lnTo>
                <a:lnTo>
                  <a:pt x="0" y="12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Freeform 11"/>
          <p:cNvSpPr/>
          <p:nvPr/>
        </p:nvSpPr>
        <p:spPr>
          <a:xfrm>
            <a:off x="3211560" y="3251160"/>
            <a:ext cx="2060640" cy="1971720"/>
          </a:xfrm>
          <a:custGeom>
            <a:avLst/>
            <a:gdLst>
              <a:gd name="textAreaLeft" fmla="*/ 0 w 2060640"/>
              <a:gd name="textAreaRight" fmla="*/ 2061000 w 2060640"/>
              <a:gd name="textAreaTop" fmla="*/ 0 h 1971720"/>
              <a:gd name="textAreaBottom" fmla="*/ 1972080 h 1971720"/>
            </a:gdLst>
            <a:ahLst/>
            <a:rect l="textAreaLeft" t="textAreaTop" r="textAreaRight" b="textAreaBottom"/>
            <a:pathLst>
              <a:path w="1298" h="1242">
                <a:moveTo>
                  <a:pt x="0" y="0"/>
                </a:moveTo>
                <a:lnTo>
                  <a:pt x="2" y="63"/>
                </a:lnTo>
                <a:lnTo>
                  <a:pt x="6" y="127"/>
                </a:lnTo>
                <a:lnTo>
                  <a:pt x="16" y="188"/>
                </a:lnTo>
                <a:lnTo>
                  <a:pt x="27" y="250"/>
                </a:lnTo>
                <a:lnTo>
                  <a:pt x="41" y="309"/>
                </a:lnTo>
                <a:lnTo>
                  <a:pt x="58" y="369"/>
                </a:lnTo>
                <a:lnTo>
                  <a:pt x="79" y="426"/>
                </a:lnTo>
                <a:lnTo>
                  <a:pt x="102" y="482"/>
                </a:lnTo>
                <a:lnTo>
                  <a:pt x="129" y="537"/>
                </a:lnTo>
                <a:lnTo>
                  <a:pt x="158" y="591"/>
                </a:lnTo>
                <a:lnTo>
                  <a:pt x="188" y="643"/>
                </a:lnTo>
                <a:lnTo>
                  <a:pt x="223" y="693"/>
                </a:lnTo>
                <a:lnTo>
                  <a:pt x="259" y="743"/>
                </a:lnTo>
                <a:lnTo>
                  <a:pt x="298" y="789"/>
                </a:lnTo>
                <a:lnTo>
                  <a:pt x="338" y="835"/>
                </a:lnTo>
                <a:lnTo>
                  <a:pt x="382" y="877"/>
                </a:lnTo>
                <a:lnTo>
                  <a:pt x="426" y="919"/>
                </a:lnTo>
                <a:lnTo>
                  <a:pt x="474" y="958"/>
                </a:lnTo>
                <a:lnTo>
                  <a:pt x="522" y="994"/>
                </a:lnTo>
                <a:lnTo>
                  <a:pt x="574" y="1029"/>
                </a:lnTo>
                <a:lnTo>
                  <a:pt x="626" y="1061"/>
                </a:lnTo>
                <a:lnTo>
                  <a:pt x="680" y="1092"/>
                </a:lnTo>
                <a:lnTo>
                  <a:pt x="737" y="1119"/>
                </a:lnTo>
                <a:lnTo>
                  <a:pt x="795" y="1144"/>
                </a:lnTo>
                <a:lnTo>
                  <a:pt x="852" y="1167"/>
                </a:lnTo>
                <a:lnTo>
                  <a:pt x="914" y="1186"/>
                </a:lnTo>
                <a:lnTo>
                  <a:pt x="975" y="1203"/>
                </a:lnTo>
                <a:lnTo>
                  <a:pt x="1037" y="1217"/>
                </a:lnTo>
                <a:lnTo>
                  <a:pt x="1102" y="1228"/>
                </a:lnTo>
                <a:lnTo>
                  <a:pt x="1165" y="1236"/>
                </a:lnTo>
                <a:lnTo>
                  <a:pt x="1232" y="1240"/>
                </a:lnTo>
                <a:lnTo>
                  <a:pt x="1298" y="1242"/>
                </a:lnTo>
                <a:lnTo>
                  <a:pt x="1298" y="1226"/>
                </a:lnTo>
                <a:lnTo>
                  <a:pt x="1232" y="1224"/>
                </a:lnTo>
                <a:lnTo>
                  <a:pt x="1167" y="1220"/>
                </a:lnTo>
                <a:lnTo>
                  <a:pt x="1104" y="1211"/>
                </a:lnTo>
                <a:lnTo>
                  <a:pt x="1040" y="1201"/>
                </a:lnTo>
                <a:lnTo>
                  <a:pt x="979" y="1188"/>
                </a:lnTo>
                <a:lnTo>
                  <a:pt x="918" y="1171"/>
                </a:lnTo>
                <a:lnTo>
                  <a:pt x="858" y="1151"/>
                </a:lnTo>
                <a:lnTo>
                  <a:pt x="801" y="1128"/>
                </a:lnTo>
                <a:lnTo>
                  <a:pt x="743" y="1105"/>
                </a:lnTo>
                <a:lnTo>
                  <a:pt x="687" y="1077"/>
                </a:lnTo>
                <a:lnTo>
                  <a:pt x="634" y="1048"/>
                </a:lnTo>
                <a:lnTo>
                  <a:pt x="582" y="1015"/>
                </a:lnTo>
                <a:lnTo>
                  <a:pt x="532" y="983"/>
                </a:lnTo>
                <a:lnTo>
                  <a:pt x="484" y="946"/>
                </a:lnTo>
                <a:lnTo>
                  <a:pt x="438" y="906"/>
                </a:lnTo>
                <a:lnTo>
                  <a:pt x="392" y="866"/>
                </a:lnTo>
                <a:lnTo>
                  <a:pt x="350" y="823"/>
                </a:lnTo>
                <a:lnTo>
                  <a:pt x="309" y="779"/>
                </a:lnTo>
                <a:lnTo>
                  <a:pt x="271" y="733"/>
                </a:lnTo>
                <a:lnTo>
                  <a:pt x="236" y="685"/>
                </a:lnTo>
                <a:lnTo>
                  <a:pt x="202" y="635"/>
                </a:lnTo>
                <a:lnTo>
                  <a:pt x="171" y="583"/>
                </a:lnTo>
                <a:lnTo>
                  <a:pt x="142" y="530"/>
                </a:lnTo>
                <a:lnTo>
                  <a:pt x="117" y="476"/>
                </a:lnTo>
                <a:lnTo>
                  <a:pt x="94" y="420"/>
                </a:lnTo>
                <a:lnTo>
                  <a:pt x="73" y="363"/>
                </a:lnTo>
                <a:lnTo>
                  <a:pt x="56" y="305"/>
                </a:lnTo>
                <a:lnTo>
                  <a:pt x="43" y="246"/>
                </a:lnTo>
                <a:lnTo>
                  <a:pt x="31" y="186"/>
                </a:lnTo>
                <a:lnTo>
                  <a:pt x="23" y="125"/>
                </a:lnTo>
                <a:lnTo>
                  <a:pt x="18" y="63"/>
                </a:lnTo>
                <a:lnTo>
                  <a:pt x="16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Freeform 12"/>
          <p:cNvSpPr/>
          <p:nvPr/>
        </p:nvSpPr>
        <p:spPr>
          <a:xfrm>
            <a:off x="3211560" y="1278000"/>
            <a:ext cx="2060640" cy="1973160"/>
          </a:xfrm>
          <a:custGeom>
            <a:avLst/>
            <a:gdLst>
              <a:gd name="textAreaLeft" fmla="*/ 0 w 2060640"/>
              <a:gd name="textAreaRight" fmla="*/ 2061000 w 2060640"/>
              <a:gd name="textAreaTop" fmla="*/ 0 h 1973160"/>
              <a:gd name="textAreaBottom" fmla="*/ 1973520 h 1973160"/>
            </a:gdLst>
            <a:ahLst/>
            <a:rect l="textAreaLeft" t="textAreaTop" r="textAreaRight" b="textAreaBottom"/>
            <a:pathLst>
              <a:path w="1298" h="1243">
                <a:moveTo>
                  <a:pt x="1298" y="0"/>
                </a:moveTo>
                <a:lnTo>
                  <a:pt x="1232" y="2"/>
                </a:lnTo>
                <a:lnTo>
                  <a:pt x="1165" y="8"/>
                </a:lnTo>
                <a:lnTo>
                  <a:pt x="1102" y="15"/>
                </a:lnTo>
                <a:lnTo>
                  <a:pt x="1037" y="25"/>
                </a:lnTo>
                <a:lnTo>
                  <a:pt x="975" y="40"/>
                </a:lnTo>
                <a:lnTo>
                  <a:pt x="914" y="56"/>
                </a:lnTo>
                <a:lnTo>
                  <a:pt x="852" y="77"/>
                </a:lnTo>
                <a:lnTo>
                  <a:pt x="795" y="98"/>
                </a:lnTo>
                <a:lnTo>
                  <a:pt x="737" y="123"/>
                </a:lnTo>
                <a:lnTo>
                  <a:pt x="680" y="151"/>
                </a:lnTo>
                <a:lnTo>
                  <a:pt x="626" y="180"/>
                </a:lnTo>
                <a:lnTo>
                  <a:pt x="574" y="213"/>
                </a:lnTo>
                <a:lnTo>
                  <a:pt x="522" y="247"/>
                </a:lnTo>
                <a:lnTo>
                  <a:pt x="474" y="284"/>
                </a:lnTo>
                <a:lnTo>
                  <a:pt x="426" y="324"/>
                </a:lnTo>
                <a:lnTo>
                  <a:pt x="382" y="364"/>
                </a:lnTo>
                <a:lnTo>
                  <a:pt x="338" y="409"/>
                </a:lnTo>
                <a:lnTo>
                  <a:pt x="298" y="453"/>
                </a:lnTo>
                <a:lnTo>
                  <a:pt x="259" y="501"/>
                </a:lnTo>
                <a:lnTo>
                  <a:pt x="223" y="549"/>
                </a:lnTo>
                <a:lnTo>
                  <a:pt x="188" y="598"/>
                </a:lnTo>
                <a:lnTo>
                  <a:pt x="158" y="650"/>
                </a:lnTo>
                <a:lnTo>
                  <a:pt x="129" y="704"/>
                </a:lnTo>
                <a:lnTo>
                  <a:pt x="102" y="760"/>
                </a:lnTo>
                <a:lnTo>
                  <a:pt x="79" y="815"/>
                </a:lnTo>
                <a:lnTo>
                  <a:pt x="58" y="873"/>
                </a:lnTo>
                <a:lnTo>
                  <a:pt x="41" y="932"/>
                </a:lnTo>
                <a:lnTo>
                  <a:pt x="27" y="992"/>
                </a:lnTo>
                <a:lnTo>
                  <a:pt x="16" y="1053"/>
                </a:lnTo>
                <a:lnTo>
                  <a:pt x="6" y="1117"/>
                </a:lnTo>
                <a:lnTo>
                  <a:pt x="2" y="1178"/>
                </a:lnTo>
                <a:lnTo>
                  <a:pt x="0" y="1243"/>
                </a:lnTo>
                <a:lnTo>
                  <a:pt x="16" y="1243"/>
                </a:lnTo>
                <a:lnTo>
                  <a:pt x="18" y="1180"/>
                </a:lnTo>
                <a:lnTo>
                  <a:pt x="23" y="1118"/>
                </a:lnTo>
                <a:lnTo>
                  <a:pt x="31" y="1057"/>
                </a:lnTo>
                <a:lnTo>
                  <a:pt x="43" y="996"/>
                </a:lnTo>
                <a:lnTo>
                  <a:pt x="56" y="936"/>
                </a:lnTo>
                <a:lnTo>
                  <a:pt x="73" y="879"/>
                </a:lnTo>
                <a:lnTo>
                  <a:pt x="94" y="821"/>
                </a:lnTo>
                <a:lnTo>
                  <a:pt x="117" y="765"/>
                </a:lnTo>
                <a:lnTo>
                  <a:pt x="142" y="712"/>
                </a:lnTo>
                <a:lnTo>
                  <a:pt x="171" y="660"/>
                </a:lnTo>
                <a:lnTo>
                  <a:pt x="202" y="608"/>
                </a:lnTo>
                <a:lnTo>
                  <a:pt x="236" y="558"/>
                </a:lnTo>
                <a:lnTo>
                  <a:pt x="271" y="510"/>
                </a:lnTo>
                <a:lnTo>
                  <a:pt x="309" y="464"/>
                </a:lnTo>
                <a:lnTo>
                  <a:pt x="350" y="418"/>
                </a:lnTo>
                <a:lnTo>
                  <a:pt x="392" y="376"/>
                </a:lnTo>
                <a:lnTo>
                  <a:pt x="438" y="336"/>
                </a:lnTo>
                <a:lnTo>
                  <a:pt x="484" y="297"/>
                </a:lnTo>
                <a:lnTo>
                  <a:pt x="532" y="261"/>
                </a:lnTo>
                <a:lnTo>
                  <a:pt x="582" y="226"/>
                </a:lnTo>
                <a:lnTo>
                  <a:pt x="634" y="194"/>
                </a:lnTo>
                <a:lnTo>
                  <a:pt x="687" y="165"/>
                </a:lnTo>
                <a:lnTo>
                  <a:pt x="743" y="138"/>
                </a:lnTo>
                <a:lnTo>
                  <a:pt x="801" y="113"/>
                </a:lnTo>
                <a:lnTo>
                  <a:pt x="858" y="92"/>
                </a:lnTo>
                <a:lnTo>
                  <a:pt x="918" y="71"/>
                </a:lnTo>
                <a:lnTo>
                  <a:pt x="979" y="56"/>
                </a:lnTo>
                <a:lnTo>
                  <a:pt x="1040" y="42"/>
                </a:lnTo>
                <a:lnTo>
                  <a:pt x="1104" y="31"/>
                </a:lnTo>
                <a:lnTo>
                  <a:pt x="1167" y="23"/>
                </a:lnTo>
                <a:lnTo>
                  <a:pt x="1232" y="17"/>
                </a:lnTo>
                <a:lnTo>
                  <a:pt x="1298" y="17"/>
                </a:lnTo>
                <a:lnTo>
                  <a:pt x="129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Freeform 13"/>
          <p:cNvSpPr/>
          <p:nvPr/>
        </p:nvSpPr>
        <p:spPr>
          <a:xfrm>
            <a:off x="3433680" y="1494000"/>
            <a:ext cx="3751200" cy="3514680"/>
          </a:xfrm>
          <a:custGeom>
            <a:avLst/>
            <a:gdLst>
              <a:gd name="textAreaLeft" fmla="*/ 0 w 3751200"/>
              <a:gd name="textAreaRight" fmla="*/ 3751560 w 3751200"/>
              <a:gd name="textAreaTop" fmla="*/ 0 h 3514680"/>
              <a:gd name="textAreaBottom" fmla="*/ 3515040 h 3514680"/>
            </a:gdLst>
            <a:ahLst/>
            <a:rect l="textAreaLeft" t="textAreaTop" r="textAreaRight" b="textAreaBottom"/>
            <a:pathLst>
              <a:path w="2363" h="2214">
                <a:moveTo>
                  <a:pt x="1183" y="0"/>
                </a:moveTo>
                <a:lnTo>
                  <a:pt x="1242" y="2"/>
                </a:lnTo>
                <a:lnTo>
                  <a:pt x="1303" y="6"/>
                </a:lnTo>
                <a:lnTo>
                  <a:pt x="1361" y="12"/>
                </a:lnTo>
                <a:lnTo>
                  <a:pt x="1420" y="23"/>
                </a:lnTo>
                <a:lnTo>
                  <a:pt x="1476" y="35"/>
                </a:lnTo>
                <a:lnTo>
                  <a:pt x="1532" y="50"/>
                </a:lnTo>
                <a:lnTo>
                  <a:pt x="1587" y="67"/>
                </a:lnTo>
                <a:lnTo>
                  <a:pt x="1641" y="86"/>
                </a:lnTo>
                <a:lnTo>
                  <a:pt x="1693" y="109"/>
                </a:lnTo>
                <a:lnTo>
                  <a:pt x="1745" y="134"/>
                </a:lnTo>
                <a:lnTo>
                  <a:pt x="1795" y="161"/>
                </a:lnTo>
                <a:lnTo>
                  <a:pt x="1841" y="190"/>
                </a:lnTo>
                <a:lnTo>
                  <a:pt x="1889" y="221"/>
                </a:lnTo>
                <a:lnTo>
                  <a:pt x="1933" y="253"/>
                </a:lnTo>
                <a:lnTo>
                  <a:pt x="1975" y="288"/>
                </a:lnTo>
                <a:lnTo>
                  <a:pt x="2017" y="324"/>
                </a:lnTo>
                <a:lnTo>
                  <a:pt x="2056" y="363"/>
                </a:lnTo>
                <a:lnTo>
                  <a:pt x="2092" y="403"/>
                </a:lnTo>
                <a:lnTo>
                  <a:pt x="2129" y="445"/>
                </a:lnTo>
                <a:lnTo>
                  <a:pt x="2161" y="489"/>
                </a:lnTo>
                <a:lnTo>
                  <a:pt x="2192" y="533"/>
                </a:lnTo>
                <a:lnTo>
                  <a:pt x="2221" y="580"/>
                </a:lnTo>
                <a:lnTo>
                  <a:pt x="2246" y="628"/>
                </a:lnTo>
                <a:lnTo>
                  <a:pt x="2271" y="677"/>
                </a:lnTo>
                <a:lnTo>
                  <a:pt x="2292" y="727"/>
                </a:lnTo>
                <a:lnTo>
                  <a:pt x="2311" y="779"/>
                </a:lnTo>
                <a:lnTo>
                  <a:pt x="2326" y="831"/>
                </a:lnTo>
                <a:lnTo>
                  <a:pt x="2340" y="885"/>
                </a:lnTo>
                <a:lnTo>
                  <a:pt x="2349" y="938"/>
                </a:lnTo>
                <a:lnTo>
                  <a:pt x="2357" y="994"/>
                </a:lnTo>
                <a:lnTo>
                  <a:pt x="2361" y="1050"/>
                </a:lnTo>
                <a:lnTo>
                  <a:pt x="2363" y="1107"/>
                </a:lnTo>
                <a:lnTo>
                  <a:pt x="2361" y="1163"/>
                </a:lnTo>
                <a:lnTo>
                  <a:pt x="2357" y="1220"/>
                </a:lnTo>
                <a:lnTo>
                  <a:pt x="2349" y="1276"/>
                </a:lnTo>
                <a:lnTo>
                  <a:pt x="2340" y="1330"/>
                </a:lnTo>
                <a:lnTo>
                  <a:pt x="2326" y="1383"/>
                </a:lnTo>
                <a:lnTo>
                  <a:pt x="2311" y="1435"/>
                </a:lnTo>
                <a:lnTo>
                  <a:pt x="2292" y="1487"/>
                </a:lnTo>
                <a:lnTo>
                  <a:pt x="2271" y="1537"/>
                </a:lnTo>
                <a:lnTo>
                  <a:pt x="2246" y="1587"/>
                </a:lnTo>
                <a:lnTo>
                  <a:pt x="2221" y="1635"/>
                </a:lnTo>
                <a:lnTo>
                  <a:pt x="2192" y="1681"/>
                </a:lnTo>
                <a:lnTo>
                  <a:pt x="2161" y="1725"/>
                </a:lnTo>
                <a:lnTo>
                  <a:pt x="2129" y="1769"/>
                </a:lnTo>
                <a:lnTo>
                  <a:pt x="2092" y="1811"/>
                </a:lnTo>
                <a:lnTo>
                  <a:pt x="2056" y="1852"/>
                </a:lnTo>
                <a:lnTo>
                  <a:pt x="2017" y="1890"/>
                </a:lnTo>
                <a:lnTo>
                  <a:pt x="1975" y="1926"/>
                </a:lnTo>
                <a:lnTo>
                  <a:pt x="1933" y="1961"/>
                </a:lnTo>
                <a:lnTo>
                  <a:pt x="1889" y="1994"/>
                </a:lnTo>
                <a:lnTo>
                  <a:pt x="1841" y="2024"/>
                </a:lnTo>
                <a:lnTo>
                  <a:pt x="1795" y="2053"/>
                </a:lnTo>
                <a:lnTo>
                  <a:pt x="1745" y="2080"/>
                </a:lnTo>
                <a:lnTo>
                  <a:pt x="1693" y="2105"/>
                </a:lnTo>
                <a:lnTo>
                  <a:pt x="1641" y="2126"/>
                </a:lnTo>
                <a:lnTo>
                  <a:pt x="1587" y="2147"/>
                </a:lnTo>
                <a:lnTo>
                  <a:pt x="1532" y="2164"/>
                </a:lnTo>
                <a:lnTo>
                  <a:pt x="1476" y="2180"/>
                </a:lnTo>
                <a:lnTo>
                  <a:pt x="1420" y="2191"/>
                </a:lnTo>
                <a:lnTo>
                  <a:pt x="1361" y="2201"/>
                </a:lnTo>
                <a:lnTo>
                  <a:pt x="1303" y="2208"/>
                </a:lnTo>
                <a:lnTo>
                  <a:pt x="1242" y="2212"/>
                </a:lnTo>
                <a:lnTo>
                  <a:pt x="1183" y="2214"/>
                </a:lnTo>
                <a:lnTo>
                  <a:pt x="1121" y="2212"/>
                </a:lnTo>
                <a:lnTo>
                  <a:pt x="1062" y="2208"/>
                </a:lnTo>
                <a:lnTo>
                  <a:pt x="1002" y="2201"/>
                </a:lnTo>
                <a:lnTo>
                  <a:pt x="945" y="2191"/>
                </a:lnTo>
                <a:lnTo>
                  <a:pt x="887" y="2180"/>
                </a:lnTo>
                <a:lnTo>
                  <a:pt x="831" y="2164"/>
                </a:lnTo>
                <a:lnTo>
                  <a:pt x="776" y="2147"/>
                </a:lnTo>
                <a:lnTo>
                  <a:pt x="724" y="2126"/>
                </a:lnTo>
                <a:lnTo>
                  <a:pt x="670" y="2105"/>
                </a:lnTo>
                <a:lnTo>
                  <a:pt x="620" y="2080"/>
                </a:lnTo>
                <a:lnTo>
                  <a:pt x="570" y="2053"/>
                </a:lnTo>
                <a:lnTo>
                  <a:pt x="522" y="2024"/>
                </a:lnTo>
                <a:lnTo>
                  <a:pt x="476" y="1994"/>
                </a:lnTo>
                <a:lnTo>
                  <a:pt x="432" y="1961"/>
                </a:lnTo>
                <a:lnTo>
                  <a:pt x="388" y="1926"/>
                </a:lnTo>
                <a:lnTo>
                  <a:pt x="348" y="1890"/>
                </a:lnTo>
                <a:lnTo>
                  <a:pt x="308" y="1852"/>
                </a:lnTo>
                <a:lnTo>
                  <a:pt x="271" y="1811"/>
                </a:lnTo>
                <a:lnTo>
                  <a:pt x="237" y="1769"/>
                </a:lnTo>
                <a:lnTo>
                  <a:pt x="204" y="1725"/>
                </a:lnTo>
                <a:lnTo>
                  <a:pt x="173" y="1681"/>
                </a:lnTo>
                <a:lnTo>
                  <a:pt x="144" y="1635"/>
                </a:lnTo>
                <a:lnTo>
                  <a:pt x="118" y="1587"/>
                </a:lnTo>
                <a:lnTo>
                  <a:pt x="95" y="1537"/>
                </a:lnTo>
                <a:lnTo>
                  <a:pt x="73" y="1487"/>
                </a:lnTo>
                <a:lnTo>
                  <a:pt x="54" y="1435"/>
                </a:lnTo>
                <a:lnTo>
                  <a:pt x="39" y="1383"/>
                </a:lnTo>
                <a:lnTo>
                  <a:pt x="25" y="1330"/>
                </a:lnTo>
                <a:lnTo>
                  <a:pt x="14" y="1276"/>
                </a:lnTo>
                <a:lnTo>
                  <a:pt x="6" y="1220"/>
                </a:lnTo>
                <a:lnTo>
                  <a:pt x="2" y="1163"/>
                </a:lnTo>
                <a:lnTo>
                  <a:pt x="0" y="1107"/>
                </a:lnTo>
                <a:lnTo>
                  <a:pt x="2" y="1050"/>
                </a:lnTo>
                <a:lnTo>
                  <a:pt x="6" y="994"/>
                </a:lnTo>
                <a:lnTo>
                  <a:pt x="14" y="938"/>
                </a:lnTo>
                <a:lnTo>
                  <a:pt x="25" y="885"/>
                </a:lnTo>
                <a:lnTo>
                  <a:pt x="39" y="831"/>
                </a:lnTo>
                <a:lnTo>
                  <a:pt x="54" y="779"/>
                </a:lnTo>
                <a:lnTo>
                  <a:pt x="73" y="727"/>
                </a:lnTo>
                <a:lnTo>
                  <a:pt x="95" y="677"/>
                </a:lnTo>
                <a:lnTo>
                  <a:pt x="118" y="628"/>
                </a:lnTo>
                <a:lnTo>
                  <a:pt x="144" y="580"/>
                </a:lnTo>
                <a:lnTo>
                  <a:pt x="173" y="533"/>
                </a:lnTo>
                <a:lnTo>
                  <a:pt x="204" y="489"/>
                </a:lnTo>
                <a:lnTo>
                  <a:pt x="237" y="445"/>
                </a:lnTo>
                <a:lnTo>
                  <a:pt x="271" y="403"/>
                </a:lnTo>
                <a:lnTo>
                  <a:pt x="308" y="363"/>
                </a:lnTo>
                <a:lnTo>
                  <a:pt x="348" y="324"/>
                </a:lnTo>
                <a:lnTo>
                  <a:pt x="388" y="288"/>
                </a:lnTo>
                <a:lnTo>
                  <a:pt x="432" y="253"/>
                </a:lnTo>
                <a:lnTo>
                  <a:pt x="476" y="221"/>
                </a:lnTo>
                <a:lnTo>
                  <a:pt x="522" y="190"/>
                </a:lnTo>
                <a:lnTo>
                  <a:pt x="570" y="161"/>
                </a:lnTo>
                <a:lnTo>
                  <a:pt x="620" y="134"/>
                </a:lnTo>
                <a:lnTo>
                  <a:pt x="670" y="109"/>
                </a:lnTo>
                <a:lnTo>
                  <a:pt x="724" y="86"/>
                </a:lnTo>
                <a:lnTo>
                  <a:pt x="776" y="67"/>
                </a:lnTo>
                <a:lnTo>
                  <a:pt x="831" y="50"/>
                </a:lnTo>
                <a:lnTo>
                  <a:pt x="887" y="35"/>
                </a:lnTo>
                <a:lnTo>
                  <a:pt x="945" y="23"/>
                </a:lnTo>
                <a:lnTo>
                  <a:pt x="1002" y="12"/>
                </a:lnTo>
                <a:lnTo>
                  <a:pt x="1062" y="6"/>
                </a:lnTo>
                <a:lnTo>
                  <a:pt x="1121" y="2"/>
                </a:lnTo>
                <a:lnTo>
                  <a:pt x="1183" y="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Freeform 14"/>
          <p:cNvSpPr/>
          <p:nvPr/>
        </p:nvSpPr>
        <p:spPr>
          <a:xfrm>
            <a:off x="5311800" y="1484280"/>
            <a:ext cx="1881000" cy="1766880"/>
          </a:xfrm>
          <a:custGeom>
            <a:avLst/>
            <a:gdLst>
              <a:gd name="textAreaLeft" fmla="*/ 0 w 1881000"/>
              <a:gd name="textAreaRight" fmla="*/ 1881360 w 1881000"/>
              <a:gd name="textAreaTop" fmla="*/ 0 h 1766880"/>
              <a:gd name="textAreaBottom" fmla="*/ 1767240 h 1766880"/>
            </a:gdLst>
            <a:ahLst/>
            <a:rect l="textAreaLeft" t="textAreaTop" r="textAreaRight" b="textAreaBottom"/>
            <a:pathLst>
              <a:path w="1185" h="1113">
                <a:moveTo>
                  <a:pt x="1185" y="1113"/>
                </a:moveTo>
                <a:lnTo>
                  <a:pt x="1185" y="1056"/>
                </a:lnTo>
                <a:lnTo>
                  <a:pt x="1180" y="1000"/>
                </a:lnTo>
                <a:lnTo>
                  <a:pt x="1172" y="944"/>
                </a:lnTo>
                <a:lnTo>
                  <a:pt x="1162" y="889"/>
                </a:lnTo>
                <a:lnTo>
                  <a:pt x="1149" y="835"/>
                </a:lnTo>
                <a:lnTo>
                  <a:pt x="1134" y="783"/>
                </a:lnTo>
                <a:lnTo>
                  <a:pt x="1114" y="731"/>
                </a:lnTo>
                <a:lnTo>
                  <a:pt x="1093" y="680"/>
                </a:lnTo>
                <a:lnTo>
                  <a:pt x="1068" y="632"/>
                </a:lnTo>
                <a:lnTo>
                  <a:pt x="1043" y="584"/>
                </a:lnTo>
                <a:lnTo>
                  <a:pt x="1015" y="536"/>
                </a:lnTo>
                <a:lnTo>
                  <a:pt x="982" y="492"/>
                </a:lnTo>
                <a:lnTo>
                  <a:pt x="949" y="447"/>
                </a:lnTo>
                <a:lnTo>
                  <a:pt x="915" y="405"/>
                </a:lnTo>
                <a:lnTo>
                  <a:pt x="876" y="365"/>
                </a:lnTo>
                <a:lnTo>
                  <a:pt x="838" y="327"/>
                </a:lnTo>
                <a:lnTo>
                  <a:pt x="796" y="290"/>
                </a:lnTo>
                <a:lnTo>
                  <a:pt x="754" y="254"/>
                </a:lnTo>
                <a:lnTo>
                  <a:pt x="708" y="221"/>
                </a:lnTo>
                <a:lnTo>
                  <a:pt x="662" y="190"/>
                </a:lnTo>
                <a:lnTo>
                  <a:pt x="614" y="162"/>
                </a:lnTo>
                <a:lnTo>
                  <a:pt x="564" y="135"/>
                </a:lnTo>
                <a:lnTo>
                  <a:pt x="512" y="110"/>
                </a:lnTo>
                <a:lnTo>
                  <a:pt x="460" y="87"/>
                </a:lnTo>
                <a:lnTo>
                  <a:pt x="406" y="67"/>
                </a:lnTo>
                <a:lnTo>
                  <a:pt x="351" y="50"/>
                </a:lnTo>
                <a:lnTo>
                  <a:pt x="295" y="35"/>
                </a:lnTo>
                <a:lnTo>
                  <a:pt x="237" y="21"/>
                </a:lnTo>
                <a:lnTo>
                  <a:pt x="180" y="12"/>
                </a:lnTo>
                <a:lnTo>
                  <a:pt x="120" y="6"/>
                </a:lnTo>
                <a:lnTo>
                  <a:pt x="59" y="0"/>
                </a:lnTo>
                <a:lnTo>
                  <a:pt x="0" y="0"/>
                </a:lnTo>
                <a:lnTo>
                  <a:pt x="0" y="12"/>
                </a:lnTo>
                <a:lnTo>
                  <a:pt x="59" y="14"/>
                </a:lnTo>
                <a:lnTo>
                  <a:pt x="118" y="18"/>
                </a:lnTo>
                <a:lnTo>
                  <a:pt x="178" y="25"/>
                </a:lnTo>
                <a:lnTo>
                  <a:pt x="236" y="35"/>
                </a:lnTo>
                <a:lnTo>
                  <a:pt x="293" y="46"/>
                </a:lnTo>
                <a:lnTo>
                  <a:pt x="349" y="62"/>
                </a:lnTo>
                <a:lnTo>
                  <a:pt x="402" y="79"/>
                </a:lnTo>
                <a:lnTo>
                  <a:pt x="456" y="98"/>
                </a:lnTo>
                <a:lnTo>
                  <a:pt x="508" y="121"/>
                </a:lnTo>
                <a:lnTo>
                  <a:pt x="558" y="144"/>
                </a:lnTo>
                <a:lnTo>
                  <a:pt x="608" y="171"/>
                </a:lnTo>
                <a:lnTo>
                  <a:pt x="656" y="200"/>
                </a:lnTo>
                <a:lnTo>
                  <a:pt x="702" y="231"/>
                </a:lnTo>
                <a:lnTo>
                  <a:pt x="746" y="263"/>
                </a:lnTo>
                <a:lnTo>
                  <a:pt x="788" y="298"/>
                </a:lnTo>
                <a:lnTo>
                  <a:pt x="830" y="334"/>
                </a:lnTo>
                <a:lnTo>
                  <a:pt x="869" y="373"/>
                </a:lnTo>
                <a:lnTo>
                  <a:pt x="905" y="413"/>
                </a:lnTo>
                <a:lnTo>
                  <a:pt x="940" y="455"/>
                </a:lnTo>
                <a:lnTo>
                  <a:pt x="972" y="497"/>
                </a:lnTo>
                <a:lnTo>
                  <a:pt x="1003" y="543"/>
                </a:lnTo>
                <a:lnTo>
                  <a:pt x="1032" y="589"/>
                </a:lnTo>
                <a:lnTo>
                  <a:pt x="1059" y="635"/>
                </a:lnTo>
                <a:lnTo>
                  <a:pt x="1082" y="685"/>
                </a:lnTo>
                <a:lnTo>
                  <a:pt x="1103" y="735"/>
                </a:lnTo>
                <a:lnTo>
                  <a:pt x="1122" y="787"/>
                </a:lnTo>
                <a:lnTo>
                  <a:pt x="1137" y="839"/>
                </a:lnTo>
                <a:lnTo>
                  <a:pt x="1151" y="891"/>
                </a:lnTo>
                <a:lnTo>
                  <a:pt x="1160" y="946"/>
                </a:lnTo>
                <a:lnTo>
                  <a:pt x="1168" y="1000"/>
                </a:lnTo>
                <a:lnTo>
                  <a:pt x="1172" y="1056"/>
                </a:lnTo>
                <a:lnTo>
                  <a:pt x="1174" y="1113"/>
                </a:lnTo>
                <a:lnTo>
                  <a:pt x="1185" y="11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Freeform 15"/>
          <p:cNvSpPr/>
          <p:nvPr/>
        </p:nvSpPr>
        <p:spPr>
          <a:xfrm>
            <a:off x="5311800" y="3251160"/>
            <a:ext cx="1881000" cy="1766880"/>
          </a:xfrm>
          <a:custGeom>
            <a:avLst/>
            <a:gdLst>
              <a:gd name="textAreaLeft" fmla="*/ 0 w 1881000"/>
              <a:gd name="textAreaRight" fmla="*/ 1881360 w 1881000"/>
              <a:gd name="textAreaTop" fmla="*/ 0 h 1766880"/>
              <a:gd name="textAreaBottom" fmla="*/ 1767240 h 1766880"/>
            </a:gdLst>
            <a:ahLst/>
            <a:rect l="textAreaLeft" t="textAreaTop" r="textAreaRight" b="textAreaBottom"/>
            <a:pathLst>
              <a:path w="1185" h="1113">
                <a:moveTo>
                  <a:pt x="0" y="1113"/>
                </a:moveTo>
                <a:lnTo>
                  <a:pt x="59" y="1111"/>
                </a:lnTo>
                <a:lnTo>
                  <a:pt x="120" y="1107"/>
                </a:lnTo>
                <a:lnTo>
                  <a:pt x="180" y="1100"/>
                </a:lnTo>
                <a:lnTo>
                  <a:pt x="237" y="1090"/>
                </a:lnTo>
                <a:lnTo>
                  <a:pt x="295" y="1078"/>
                </a:lnTo>
                <a:lnTo>
                  <a:pt x="351" y="1063"/>
                </a:lnTo>
                <a:lnTo>
                  <a:pt x="406" y="1046"/>
                </a:lnTo>
                <a:lnTo>
                  <a:pt x="460" y="1025"/>
                </a:lnTo>
                <a:lnTo>
                  <a:pt x="512" y="1004"/>
                </a:lnTo>
                <a:lnTo>
                  <a:pt x="564" y="979"/>
                </a:lnTo>
                <a:lnTo>
                  <a:pt x="614" y="952"/>
                </a:lnTo>
                <a:lnTo>
                  <a:pt x="662" y="923"/>
                </a:lnTo>
                <a:lnTo>
                  <a:pt x="708" y="892"/>
                </a:lnTo>
                <a:lnTo>
                  <a:pt x="754" y="858"/>
                </a:lnTo>
                <a:lnTo>
                  <a:pt x="796" y="823"/>
                </a:lnTo>
                <a:lnTo>
                  <a:pt x="838" y="787"/>
                </a:lnTo>
                <a:lnTo>
                  <a:pt x="876" y="748"/>
                </a:lnTo>
                <a:lnTo>
                  <a:pt x="915" y="708"/>
                </a:lnTo>
                <a:lnTo>
                  <a:pt x="949" y="666"/>
                </a:lnTo>
                <a:lnTo>
                  <a:pt x="982" y="622"/>
                </a:lnTo>
                <a:lnTo>
                  <a:pt x="1015" y="576"/>
                </a:lnTo>
                <a:lnTo>
                  <a:pt x="1043" y="530"/>
                </a:lnTo>
                <a:lnTo>
                  <a:pt x="1068" y="482"/>
                </a:lnTo>
                <a:lnTo>
                  <a:pt x="1093" y="432"/>
                </a:lnTo>
                <a:lnTo>
                  <a:pt x="1114" y="382"/>
                </a:lnTo>
                <a:lnTo>
                  <a:pt x="1134" y="330"/>
                </a:lnTo>
                <a:lnTo>
                  <a:pt x="1149" y="278"/>
                </a:lnTo>
                <a:lnTo>
                  <a:pt x="1162" y="225"/>
                </a:lnTo>
                <a:lnTo>
                  <a:pt x="1172" y="169"/>
                </a:lnTo>
                <a:lnTo>
                  <a:pt x="1180" y="113"/>
                </a:lnTo>
                <a:lnTo>
                  <a:pt x="1185" y="58"/>
                </a:lnTo>
                <a:lnTo>
                  <a:pt x="1185" y="0"/>
                </a:lnTo>
                <a:lnTo>
                  <a:pt x="1174" y="0"/>
                </a:lnTo>
                <a:lnTo>
                  <a:pt x="1172" y="56"/>
                </a:lnTo>
                <a:lnTo>
                  <a:pt x="1168" y="111"/>
                </a:lnTo>
                <a:lnTo>
                  <a:pt x="1160" y="167"/>
                </a:lnTo>
                <a:lnTo>
                  <a:pt x="1151" y="221"/>
                </a:lnTo>
                <a:lnTo>
                  <a:pt x="1137" y="275"/>
                </a:lnTo>
                <a:lnTo>
                  <a:pt x="1122" y="326"/>
                </a:lnTo>
                <a:lnTo>
                  <a:pt x="1103" y="378"/>
                </a:lnTo>
                <a:lnTo>
                  <a:pt x="1082" y="428"/>
                </a:lnTo>
                <a:lnTo>
                  <a:pt x="1059" y="476"/>
                </a:lnTo>
                <a:lnTo>
                  <a:pt x="1032" y="524"/>
                </a:lnTo>
                <a:lnTo>
                  <a:pt x="1003" y="570"/>
                </a:lnTo>
                <a:lnTo>
                  <a:pt x="972" y="614"/>
                </a:lnTo>
                <a:lnTo>
                  <a:pt x="940" y="658"/>
                </a:lnTo>
                <a:lnTo>
                  <a:pt x="905" y="700"/>
                </a:lnTo>
                <a:lnTo>
                  <a:pt x="869" y="739"/>
                </a:lnTo>
                <a:lnTo>
                  <a:pt x="830" y="777"/>
                </a:lnTo>
                <a:lnTo>
                  <a:pt x="788" y="814"/>
                </a:lnTo>
                <a:lnTo>
                  <a:pt x="746" y="848"/>
                </a:lnTo>
                <a:lnTo>
                  <a:pt x="702" y="881"/>
                </a:lnTo>
                <a:lnTo>
                  <a:pt x="656" y="913"/>
                </a:lnTo>
                <a:lnTo>
                  <a:pt x="608" y="940"/>
                </a:lnTo>
                <a:lnTo>
                  <a:pt x="558" y="967"/>
                </a:lnTo>
                <a:lnTo>
                  <a:pt x="508" y="992"/>
                </a:lnTo>
                <a:lnTo>
                  <a:pt x="456" y="1015"/>
                </a:lnTo>
                <a:lnTo>
                  <a:pt x="402" y="1034"/>
                </a:lnTo>
                <a:lnTo>
                  <a:pt x="349" y="1052"/>
                </a:lnTo>
                <a:lnTo>
                  <a:pt x="293" y="1067"/>
                </a:lnTo>
                <a:lnTo>
                  <a:pt x="236" y="1078"/>
                </a:lnTo>
                <a:lnTo>
                  <a:pt x="178" y="1088"/>
                </a:lnTo>
                <a:lnTo>
                  <a:pt x="118" y="1096"/>
                </a:lnTo>
                <a:lnTo>
                  <a:pt x="59" y="1100"/>
                </a:lnTo>
                <a:lnTo>
                  <a:pt x="0" y="1101"/>
                </a:lnTo>
                <a:lnTo>
                  <a:pt x="0" y="11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Freeform 16"/>
          <p:cNvSpPr/>
          <p:nvPr/>
        </p:nvSpPr>
        <p:spPr>
          <a:xfrm>
            <a:off x="3425760" y="3251160"/>
            <a:ext cx="1886040" cy="1766880"/>
          </a:xfrm>
          <a:custGeom>
            <a:avLst/>
            <a:gdLst>
              <a:gd name="textAreaLeft" fmla="*/ 0 w 1886040"/>
              <a:gd name="textAreaRight" fmla="*/ 1886400 w 1886040"/>
              <a:gd name="textAreaTop" fmla="*/ 0 h 1766880"/>
              <a:gd name="textAreaBottom" fmla="*/ 1767240 h 1766880"/>
            </a:gdLst>
            <a:ahLst/>
            <a:rect l="textAreaLeft" t="textAreaTop" r="textAreaRight" b="textAreaBottom"/>
            <a:pathLst>
              <a:path w="1188" h="1113">
                <a:moveTo>
                  <a:pt x="0" y="0"/>
                </a:moveTo>
                <a:lnTo>
                  <a:pt x="2" y="58"/>
                </a:lnTo>
                <a:lnTo>
                  <a:pt x="5" y="113"/>
                </a:lnTo>
                <a:lnTo>
                  <a:pt x="13" y="169"/>
                </a:lnTo>
                <a:lnTo>
                  <a:pt x="25" y="225"/>
                </a:lnTo>
                <a:lnTo>
                  <a:pt x="38" y="278"/>
                </a:lnTo>
                <a:lnTo>
                  <a:pt x="53" y="330"/>
                </a:lnTo>
                <a:lnTo>
                  <a:pt x="73" y="382"/>
                </a:lnTo>
                <a:lnTo>
                  <a:pt x="94" y="432"/>
                </a:lnTo>
                <a:lnTo>
                  <a:pt x="117" y="482"/>
                </a:lnTo>
                <a:lnTo>
                  <a:pt x="144" y="530"/>
                </a:lnTo>
                <a:lnTo>
                  <a:pt x="172" y="576"/>
                </a:lnTo>
                <a:lnTo>
                  <a:pt x="203" y="622"/>
                </a:lnTo>
                <a:lnTo>
                  <a:pt x="236" y="666"/>
                </a:lnTo>
                <a:lnTo>
                  <a:pt x="272" y="708"/>
                </a:lnTo>
                <a:lnTo>
                  <a:pt x="309" y="748"/>
                </a:lnTo>
                <a:lnTo>
                  <a:pt x="349" y="787"/>
                </a:lnTo>
                <a:lnTo>
                  <a:pt x="389" y="823"/>
                </a:lnTo>
                <a:lnTo>
                  <a:pt x="433" y="858"/>
                </a:lnTo>
                <a:lnTo>
                  <a:pt x="478" y="892"/>
                </a:lnTo>
                <a:lnTo>
                  <a:pt x="524" y="923"/>
                </a:lnTo>
                <a:lnTo>
                  <a:pt x="572" y="952"/>
                </a:lnTo>
                <a:lnTo>
                  <a:pt x="621" y="979"/>
                </a:lnTo>
                <a:lnTo>
                  <a:pt x="673" y="1004"/>
                </a:lnTo>
                <a:lnTo>
                  <a:pt x="725" y="1025"/>
                </a:lnTo>
                <a:lnTo>
                  <a:pt x="779" y="1046"/>
                </a:lnTo>
                <a:lnTo>
                  <a:pt x="834" y="1063"/>
                </a:lnTo>
                <a:lnTo>
                  <a:pt x="890" y="1078"/>
                </a:lnTo>
                <a:lnTo>
                  <a:pt x="948" y="1090"/>
                </a:lnTo>
                <a:lnTo>
                  <a:pt x="1007" y="1100"/>
                </a:lnTo>
                <a:lnTo>
                  <a:pt x="1067" y="1107"/>
                </a:lnTo>
                <a:lnTo>
                  <a:pt x="1126" y="1111"/>
                </a:lnTo>
                <a:lnTo>
                  <a:pt x="1188" y="1113"/>
                </a:lnTo>
                <a:lnTo>
                  <a:pt x="1188" y="1101"/>
                </a:lnTo>
                <a:lnTo>
                  <a:pt x="1126" y="1100"/>
                </a:lnTo>
                <a:lnTo>
                  <a:pt x="1067" y="1096"/>
                </a:lnTo>
                <a:lnTo>
                  <a:pt x="1009" y="1088"/>
                </a:lnTo>
                <a:lnTo>
                  <a:pt x="952" y="1078"/>
                </a:lnTo>
                <a:lnTo>
                  <a:pt x="894" y="1067"/>
                </a:lnTo>
                <a:lnTo>
                  <a:pt x="838" y="1052"/>
                </a:lnTo>
                <a:lnTo>
                  <a:pt x="783" y="1034"/>
                </a:lnTo>
                <a:lnTo>
                  <a:pt x="731" y="1015"/>
                </a:lnTo>
                <a:lnTo>
                  <a:pt x="679" y="992"/>
                </a:lnTo>
                <a:lnTo>
                  <a:pt x="627" y="967"/>
                </a:lnTo>
                <a:lnTo>
                  <a:pt x="579" y="940"/>
                </a:lnTo>
                <a:lnTo>
                  <a:pt x="531" y="913"/>
                </a:lnTo>
                <a:lnTo>
                  <a:pt x="485" y="881"/>
                </a:lnTo>
                <a:lnTo>
                  <a:pt x="439" y="848"/>
                </a:lnTo>
                <a:lnTo>
                  <a:pt x="397" y="814"/>
                </a:lnTo>
                <a:lnTo>
                  <a:pt x="357" y="777"/>
                </a:lnTo>
                <a:lnTo>
                  <a:pt x="318" y="739"/>
                </a:lnTo>
                <a:lnTo>
                  <a:pt x="280" y="700"/>
                </a:lnTo>
                <a:lnTo>
                  <a:pt x="245" y="658"/>
                </a:lnTo>
                <a:lnTo>
                  <a:pt x="213" y="614"/>
                </a:lnTo>
                <a:lnTo>
                  <a:pt x="182" y="570"/>
                </a:lnTo>
                <a:lnTo>
                  <a:pt x="153" y="524"/>
                </a:lnTo>
                <a:lnTo>
                  <a:pt x="128" y="476"/>
                </a:lnTo>
                <a:lnTo>
                  <a:pt x="105" y="428"/>
                </a:lnTo>
                <a:lnTo>
                  <a:pt x="84" y="378"/>
                </a:lnTo>
                <a:lnTo>
                  <a:pt x="65" y="326"/>
                </a:lnTo>
                <a:lnTo>
                  <a:pt x="50" y="275"/>
                </a:lnTo>
                <a:lnTo>
                  <a:pt x="36" y="221"/>
                </a:lnTo>
                <a:lnTo>
                  <a:pt x="25" y="167"/>
                </a:lnTo>
                <a:lnTo>
                  <a:pt x="17" y="111"/>
                </a:lnTo>
                <a:lnTo>
                  <a:pt x="13" y="56"/>
                </a:lnTo>
                <a:lnTo>
                  <a:pt x="1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Freeform 17"/>
          <p:cNvSpPr/>
          <p:nvPr/>
        </p:nvSpPr>
        <p:spPr>
          <a:xfrm>
            <a:off x="3425760" y="1484280"/>
            <a:ext cx="1886040" cy="1766880"/>
          </a:xfrm>
          <a:custGeom>
            <a:avLst/>
            <a:gdLst>
              <a:gd name="textAreaLeft" fmla="*/ 0 w 1886040"/>
              <a:gd name="textAreaRight" fmla="*/ 1886400 w 1886040"/>
              <a:gd name="textAreaTop" fmla="*/ 0 h 1766880"/>
              <a:gd name="textAreaBottom" fmla="*/ 1767240 h 1766880"/>
            </a:gdLst>
            <a:ahLst/>
            <a:rect l="textAreaLeft" t="textAreaTop" r="textAreaRight" b="textAreaBottom"/>
            <a:pathLst>
              <a:path w="1188" h="1113">
                <a:moveTo>
                  <a:pt x="1188" y="0"/>
                </a:moveTo>
                <a:lnTo>
                  <a:pt x="1126" y="0"/>
                </a:lnTo>
                <a:lnTo>
                  <a:pt x="1067" y="6"/>
                </a:lnTo>
                <a:lnTo>
                  <a:pt x="1007" y="12"/>
                </a:lnTo>
                <a:lnTo>
                  <a:pt x="948" y="21"/>
                </a:lnTo>
                <a:lnTo>
                  <a:pt x="890" y="35"/>
                </a:lnTo>
                <a:lnTo>
                  <a:pt x="834" y="50"/>
                </a:lnTo>
                <a:lnTo>
                  <a:pt x="779" y="67"/>
                </a:lnTo>
                <a:lnTo>
                  <a:pt x="725" y="87"/>
                </a:lnTo>
                <a:lnTo>
                  <a:pt x="673" y="110"/>
                </a:lnTo>
                <a:lnTo>
                  <a:pt x="621" y="135"/>
                </a:lnTo>
                <a:lnTo>
                  <a:pt x="572" y="162"/>
                </a:lnTo>
                <a:lnTo>
                  <a:pt x="524" y="190"/>
                </a:lnTo>
                <a:lnTo>
                  <a:pt x="478" y="221"/>
                </a:lnTo>
                <a:lnTo>
                  <a:pt x="433" y="254"/>
                </a:lnTo>
                <a:lnTo>
                  <a:pt x="389" y="290"/>
                </a:lnTo>
                <a:lnTo>
                  <a:pt x="349" y="327"/>
                </a:lnTo>
                <a:lnTo>
                  <a:pt x="309" y="365"/>
                </a:lnTo>
                <a:lnTo>
                  <a:pt x="272" y="405"/>
                </a:lnTo>
                <a:lnTo>
                  <a:pt x="236" y="447"/>
                </a:lnTo>
                <a:lnTo>
                  <a:pt x="203" y="492"/>
                </a:lnTo>
                <a:lnTo>
                  <a:pt x="172" y="536"/>
                </a:lnTo>
                <a:lnTo>
                  <a:pt x="144" y="584"/>
                </a:lnTo>
                <a:lnTo>
                  <a:pt x="117" y="632"/>
                </a:lnTo>
                <a:lnTo>
                  <a:pt x="94" y="680"/>
                </a:lnTo>
                <a:lnTo>
                  <a:pt x="73" y="731"/>
                </a:lnTo>
                <a:lnTo>
                  <a:pt x="53" y="783"/>
                </a:lnTo>
                <a:lnTo>
                  <a:pt x="38" y="835"/>
                </a:lnTo>
                <a:lnTo>
                  <a:pt x="25" y="889"/>
                </a:lnTo>
                <a:lnTo>
                  <a:pt x="13" y="944"/>
                </a:lnTo>
                <a:lnTo>
                  <a:pt x="5" y="1000"/>
                </a:lnTo>
                <a:lnTo>
                  <a:pt x="2" y="1056"/>
                </a:lnTo>
                <a:lnTo>
                  <a:pt x="0" y="1113"/>
                </a:lnTo>
                <a:lnTo>
                  <a:pt x="11" y="1113"/>
                </a:lnTo>
                <a:lnTo>
                  <a:pt x="13" y="1056"/>
                </a:lnTo>
                <a:lnTo>
                  <a:pt x="17" y="1000"/>
                </a:lnTo>
                <a:lnTo>
                  <a:pt x="25" y="946"/>
                </a:lnTo>
                <a:lnTo>
                  <a:pt x="36" y="891"/>
                </a:lnTo>
                <a:lnTo>
                  <a:pt x="50" y="839"/>
                </a:lnTo>
                <a:lnTo>
                  <a:pt x="65" y="787"/>
                </a:lnTo>
                <a:lnTo>
                  <a:pt x="84" y="735"/>
                </a:lnTo>
                <a:lnTo>
                  <a:pt x="105" y="685"/>
                </a:lnTo>
                <a:lnTo>
                  <a:pt x="128" y="635"/>
                </a:lnTo>
                <a:lnTo>
                  <a:pt x="153" y="589"/>
                </a:lnTo>
                <a:lnTo>
                  <a:pt x="182" y="543"/>
                </a:lnTo>
                <a:lnTo>
                  <a:pt x="213" y="497"/>
                </a:lnTo>
                <a:lnTo>
                  <a:pt x="245" y="455"/>
                </a:lnTo>
                <a:lnTo>
                  <a:pt x="280" y="413"/>
                </a:lnTo>
                <a:lnTo>
                  <a:pt x="318" y="373"/>
                </a:lnTo>
                <a:lnTo>
                  <a:pt x="357" y="334"/>
                </a:lnTo>
                <a:lnTo>
                  <a:pt x="397" y="298"/>
                </a:lnTo>
                <a:lnTo>
                  <a:pt x="439" y="263"/>
                </a:lnTo>
                <a:lnTo>
                  <a:pt x="485" y="231"/>
                </a:lnTo>
                <a:lnTo>
                  <a:pt x="531" y="200"/>
                </a:lnTo>
                <a:lnTo>
                  <a:pt x="579" y="171"/>
                </a:lnTo>
                <a:lnTo>
                  <a:pt x="627" y="144"/>
                </a:lnTo>
                <a:lnTo>
                  <a:pt x="679" y="121"/>
                </a:lnTo>
                <a:lnTo>
                  <a:pt x="731" y="98"/>
                </a:lnTo>
                <a:lnTo>
                  <a:pt x="783" y="79"/>
                </a:lnTo>
                <a:lnTo>
                  <a:pt x="838" y="62"/>
                </a:lnTo>
                <a:lnTo>
                  <a:pt x="894" y="46"/>
                </a:lnTo>
                <a:lnTo>
                  <a:pt x="952" y="35"/>
                </a:lnTo>
                <a:lnTo>
                  <a:pt x="1009" y="25"/>
                </a:lnTo>
                <a:lnTo>
                  <a:pt x="1067" y="18"/>
                </a:lnTo>
                <a:lnTo>
                  <a:pt x="1126" y="14"/>
                </a:lnTo>
                <a:lnTo>
                  <a:pt x="1188" y="12"/>
                </a:lnTo>
                <a:lnTo>
                  <a:pt x="118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Freeform 18"/>
          <p:cNvSpPr/>
          <p:nvPr/>
        </p:nvSpPr>
        <p:spPr>
          <a:xfrm>
            <a:off x="4348080" y="1871640"/>
            <a:ext cx="1849680" cy="2755800"/>
          </a:xfrm>
          <a:custGeom>
            <a:avLst/>
            <a:gdLst>
              <a:gd name="textAreaLeft" fmla="*/ 0 w 1849680"/>
              <a:gd name="textAreaRight" fmla="*/ 1850040 w 1849680"/>
              <a:gd name="textAreaTop" fmla="*/ 0 h 2755800"/>
              <a:gd name="textAreaBottom" fmla="*/ 2756160 h 2755800"/>
            </a:gdLst>
            <a:ahLst/>
            <a:rect l="textAreaLeft" t="textAreaTop" r="textAreaRight" b="textAreaBottom"/>
            <a:pathLst>
              <a:path w="1165" h="1736">
                <a:moveTo>
                  <a:pt x="584" y="0"/>
                </a:moveTo>
                <a:lnTo>
                  <a:pt x="612" y="2"/>
                </a:lnTo>
                <a:lnTo>
                  <a:pt x="643" y="6"/>
                </a:lnTo>
                <a:lnTo>
                  <a:pt x="672" y="12"/>
                </a:lnTo>
                <a:lnTo>
                  <a:pt x="701" y="19"/>
                </a:lnTo>
                <a:lnTo>
                  <a:pt x="727" y="29"/>
                </a:lnTo>
                <a:lnTo>
                  <a:pt x="756" y="40"/>
                </a:lnTo>
                <a:lnTo>
                  <a:pt x="783" y="54"/>
                </a:lnTo>
                <a:lnTo>
                  <a:pt x="810" y="69"/>
                </a:lnTo>
                <a:lnTo>
                  <a:pt x="835" y="86"/>
                </a:lnTo>
                <a:lnTo>
                  <a:pt x="860" y="106"/>
                </a:lnTo>
                <a:lnTo>
                  <a:pt x="885" y="127"/>
                </a:lnTo>
                <a:lnTo>
                  <a:pt x="908" y="150"/>
                </a:lnTo>
                <a:lnTo>
                  <a:pt x="931" y="173"/>
                </a:lnTo>
                <a:lnTo>
                  <a:pt x="954" y="200"/>
                </a:lnTo>
                <a:lnTo>
                  <a:pt x="975" y="226"/>
                </a:lnTo>
                <a:lnTo>
                  <a:pt x="994" y="255"/>
                </a:lnTo>
                <a:lnTo>
                  <a:pt x="1013" y="286"/>
                </a:lnTo>
                <a:lnTo>
                  <a:pt x="1033" y="317"/>
                </a:lnTo>
                <a:lnTo>
                  <a:pt x="1050" y="349"/>
                </a:lnTo>
                <a:lnTo>
                  <a:pt x="1065" y="384"/>
                </a:lnTo>
                <a:lnTo>
                  <a:pt x="1080" y="420"/>
                </a:lnTo>
                <a:lnTo>
                  <a:pt x="1096" y="455"/>
                </a:lnTo>
                <a:lnTo>
                  <a:pt x="1107" y="493"/>
                </a:lnTo>
                <a:lnTo>
                  <a:pt x="1121" y="531"/>
                </a:lnTo>
                <a:lnTo>
                  <a:pt x="1130" y="572"/>
                </a:lnTo>
                <a:lnTo>
                  <a:pt x="1140" y="612"/>
                </a:lnTo>
                <a:lnTo>
                  <a:pt x="1148" y="652"/>
                </a:lnTo>
                <a:lnTo>
                  <a:pt x="1153" y="695"/>
                </a:lnTo>
                <a:lnTo>
                  <a:pt x="1159" y="737"/>
                </a:lnTo>
                <a:lnTo>
                  <a:pt x="1163" y="781"/>
                </a:lnTo>
                <a:lnTo>
                  <a:pt x="1165" y="825"/>
                </a:lnTo>
                <a:lnTo>
                  <a:pt x="1165" y="869"/>
                </a:lnTo>
                <a:lnTo>
                  <a:pt x="1165" y="913"/>
                </a:lnTo>
                <a:lnTo>
                  <a:pt x="1163" y="957"/>
                </a:lnTo>
                <a:lnTo>
                  <a:pt x="1159" y="1002"/>
                </a:lnTo>
                <a:lnTo>
                  <a:pt x="1153" y="1044"/>
                </a:lnTo>
                <a:lnTo>
                  <a:pt x="1148" y="1086"/>
                </a:lnTo>
                <a:lnTo>
                  <a:pt x="1140" y="1126"/>
                </a:lnTo>
                <a:lnTo>
                  <a:pt x="1130" y="1167"/>
                </a:lnTo>
                <a:lnTo>
                  <a:pt x="1121" y="1207"/>
                </a:lnTo>
                <a:lnTo>
                  <a:pt x="1107" y="1245"/>
                </a:lnTo>
                <a:lnTo>
                  <a:pt x="1096" y="1282"/>
                </a:lnTo>
                <a:lnTo>
                  <a:pt x="1080" y="1318"/>
                </a:lnTo>
                <a:lnTo>
                  <a:pt x="1065" y="1355"/>
                </a:lnTo>
                <a:lnTo>
                  <a:pt x="1050" y="1387"/>
                </a:lnTo>
                <a:lnTo>
                  <a:pt x="1033" y="1420"/>
                </a:lnTo>
                <a:lnTo>
                  <a:pt x="1013" y="1452"/>
                </a:lnTo>
                <a:lnTo>
                  <a:pt x="994" y="1483"/>
                </a:lnTo>
                <a:lnTo>
                  <a:pt x="975" y="1512"/>
                </a:lnTo>
                <a:lnTo>
                  <a:pt x="954" y="1539"/>
                </a:lnTo>
                <a:lnTo>
                  <a:pt x="931" y="1564"/>
                </a:lnTo>
                <a:lnTo>
                  <a:pt x="908" y="1589"/>
                </a:lnTo>
                <a:lnTo>
                  <a:pt x="885" y="1612"/>
                </a:lnTo>
                <a:lnTo>
                  <a:pt x="860" y="1633"/>
                </a:lnTo>
                <a:lnTo>
                  <a:pt x="835" y="1652"/>
                </a:lnTo>
                <a:lnTo>
                  <a:pt x="810" y="1669"/>
                </a:lnTo>
                <a:lnTo>
                  <a:pt x="783" y="1685"/>
                </a:lnTo>
                <a:lnTo>
                  <a:pt x="756" y="1698"/>
                </a:lnTo>
                <a:lnTo>
                  <a:pt x="727" y="1710"/>
                </a:lnTo>
                <a:lnTo>
                  <a:pt x="701" y="1719"/>
                </a:lnTo>
                <a:lnTo>
                  <a:pt x="672" y="1727"/>
                </a:lnTo>
                <a:lnTo>
                  <a:pt x="643" y="1733"/>
                </a:lnTo>
                <a:lnTo>
                  <a:pt x="612" y="1736"/>
                </a:lnTo>
                <a:lnTo>
                  <a:pt x="584" y="1736"/>
                </a:lnTo>
                <a:lnTo>
                  <a:pt x="553" y="1736"/>
                </a:lnTo>
                <a:lnTo>
                  <a:pt x="524" y="1733"/>
                </a:lnTo>
                <a:lnTo>
                  <a:pt x="495" y="1727"/>
                </a:lnTo>
                <a:lnTo>
                  <a:pt x="466" y="1719"/>
                </a:lnTo>
                <a:lnTo>
                  <a:pt x="438" y="1710"/>
                </a:lnTo>
                <a:lnTo>
                  <a:pt x="411" y="1698"/>
                </a:lnTo>
                <a:lnTo>
                  <a:pt x="382" y="1685"/>
                </a:lnTo>
                <a:lnTo>
                  <a:pt x="357" y="1669"/>
                </a:lnTo>
                <a:lnTo>
                  <a:pt x="330" y="1652"/>
                </a:lnTo>
                <a:lnTo>
                  <a:pt x="305" y="1633"/>
                </a:lnTo>
                <a:lnTo>
                  <a:pt x="280" y="1612"/>
                </a:lnTo>
                <a:lnTo>
                  <a:pt x="257" y="1589"/>
                </a:lnTo>
                <a:lnTo>
                  <a:pt x="234" y="1564"/>
                </a:lnTo>
                <a:lnTo>
                  <a:pt x="213" y="1539"/>
                </a:lnTo>
                <a:lnTo>
                  <a:pt x="192" y="1512"/>
                </a:lnTo>
                <a:lnTo>
                  <a:pt x="171" y="1483"/>
                </a:lnTo>
                <a:lnTo>
                  <a:pt x="152" y="1452"/>
                </a:lnTo>
                <a:lnTo>
                  <a:pt x="134" y="1420"/>
                </a:lnTo>
                <a:lnTo>
                  <a:pt x="115" y="1387"/>
                </a:lnTo>
                <a:lnTo>
                  <a:pt x="100" y="1355"/>
                </a:lnTo>
                <a:lnTo>
                  <a:pt x="85" y="1318"/>
                </a:lnTo>
                <a:lnTo>
                  <a:pt x="71" y="1282"/>
                </a:lnTo>
                <a:lnTo>
                  <a:pt x="58" y="1245"/>
                </a:lnTo>
                <a:lnTo>
                  <a:pt x="46" y="1207"/>
                </a:lnTo>
                <a:lnTo>
                  <a:pt x="35" y="1167"/>
                </a:lnTo>
                <a:lnTo>
                  <a:pt x="27" y="1126"/>
                </a:lnTo>
                <a:lnTo>
                  <a:pt x="19" y="1086"/>
                </a:lnTo>
                <a:lnTo>
                  <a:pt x="12" y="1044"/>
                </a:lnTo>
                <a:lnTo>
                  <a:pt x="8" y="1002"/>
                </a:lnTo>
                <a:lnTo>
                  <a:pt x="4" y="957"/>
                </a:lnTo>
                <a:lnTo>
                  <a:pt x="0" y="913"/>
                </a:lnTo>
                <a:lnTo>
                  <a:pt x="0" y="869"/>
                </a:lnTo>
                <a:lnTo>
                  <a:pt x="0" y="825"/>
                </a:lnTo>
                <a:lnTo>
                  <a:pt x="4" y="781"/>
                </a:lnTo>
                <a:lnTo>
                  <a:pt x="8" y="737"/>
                </a:lnTo>
                <a:lnTo>
                  <a:pt x="12" y="695"/>
                </a:lnTo>
                <a:lnTo>
                  <a:pt x="19" y="652"/>
                </a:lnTo>
                <a:lnTo>
                  <a:pt x="27" y="612"/>
                </a:lnTo>
                <a:lnTo>
                  <a:pt x="35" y="572"/>
                </a:lnTo>
                <a:lnTo>
                  <a:pt x="46" y="531"/>
                </a:lnTo>
                <a:lnTo>
                  <a:pt x="58" y="493"/>
                </a:lnTo>
                <a:lnTo>
                  <a:pt x="71" y="455"/>
                </a:lnTo>
                <a:lnTo>
                  <a:pt x="85" y="420"/>
                </a:lnTo>
                <a:lnTo>
                  <a:pt x="100" y="384"/>
                </a:lnTo>
                <a:lnTo>
                  <a:pt x="115" y="349"/>
                </a:lnTo>
                <a:lnTo>
                  <a:pt x="134" y="317"/>
                </a:lnTo>
                <a:lnTo>
                  <a:pt x="152" y="286"/>
                </a:lnTo>
                <a:lnTo>
                  <a:pt x="171" y="255"/>
                </a:lnTo>
                <a:lnTo>
                  <a:pt x="192" y="226"/>
                </a:lnTo>
                <a:lnTo>
                  <a:pt x="213" y="200"/>
                </a:lnTo>
                <a:lnTo>
                  <a:pt x="234" y="173"/>
                </a:lnTo>
                <a:lnTo>
                  <a:pt x="257" y="150"/>
                </a:lnTo>
                <a:lnTo>
                  <a:pt x="280" y="127"/>
                </a:lnTo>
                <a:lnTo>
                  <a:pt x="305" y="106"/>
                </a:lnTo>
                <a:lnTo>
                  <a:pt x="330" y="86"/>
                </a:lnTo>
                <a:lnTo>
                  <a:pt x="357" y="69"/>
                </a:lnTo>
                <a:lnTo>
                  <a:pt x="382" y="54"/>
                </a:lnTo>
                <a:lnTo>
                  <a:pt x="411" y="40"/>
                </a:lnTo>
                <a:lnTo>
                  <a:pt x="438" y="29"/>
                </a:lnTo>
                <a:lnTo>
                  <a:pt x="466" y="19"/>
                </a:lnTo>
                <a:lnTo>
                  <a:pt x="495" y="12"/>
                </a:lnTo>
                <a:lnTo>
                  <a:pt x="524" y="6"/>
                </a:lnTo>
                <a:lnTo>
                  <a:pt x="553" y="2"/>
                </a:lnTo>
                <a:lnTo>
                  <a:pt x="58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Freeform 19"/>
          <p:cNvSpPr/>
          <p:nvPr/>
        </p:nvSpPr>
        <p:spPr>
          <a:xfrm>
            <a:off x="5275440" y="1862280"/>
            <a:ext cx="934920" cy="1388880"/>
          </a:xfrm>
          <a:custGeom>
            <a:avLst/>
            <a:gdLst>
              <a:gd name="textAreaLeft" fmla="*/ 0 w 934920"/>
              <a:gd name="textAreaRight" fmla="*/ 935280 w 934920"/>
              <a:gd name="textAreaTop" fmla="*/ 0 h 1388880"/>
              <a:gd name="textAreaBottom" fmla="*/ 1389240 h 1388880"/>
            </a:gdLst>
            <a:ahLst/>
            <a:rect l="textAreaLeft" t="textAreaTop" r="textAreaRight" b="textAreaBottom"/>
            <a:pathLst>
              <a:path w="589" h="875">
                <a:moveTo>
                  <a:pt x="589" y="875"/>
                </a:moveTo>
                <a:lnTo>
                  <a:pt x="587" y="831"/>
                </a:lnTo>
                <a:lnTo>
                  <a:pt x="585" y="787"/>
                </a:lnTo>
                <a:lnTo>
                  <a:pt x="581" y="743"/>
                </a:lnTo>
                <a:lnTo>
                  <a:pt x="575" y="699"/>
                </a:lnTo>
                <a:lnTo>
                  <a:pt x="569" y="656"/>
                </a:lnTo>
                <a:lnTo>
                  <a:pt x="562" y="616"/>
                </a:lnTo>
                <a:lnTo>
                  <a:pt x="552" y="576"/>
                </a:lnTo>
                <a:lnTo>
                  <a:pt x="543" y="536"/>
                </a:lnTo>
                <a:lnTo>
                  <a:pt x="529" y="497"/>
                </a:lnTo>
                <a:lnTo>
                  <a:pt x="518" y="459"/>
                </a:lnTo>
                <a:lnTo>
                  <a:pt x="502" y="422"/>
                </a:lnTo>
                <a:lnTo>
                  <a:pt x="487" y="388"/>
                </a:lnTo>
                <a:lnTo>
                  <a:pt x="472" y="353"/>
                </a:lnTo>
                <a:lnTo>
                  <a:pt x="454" y="321"/>
                </a:lnTo>
                <a:lnTo>
                  <a:pt x="435" y="288"/>
                </a:lnTo>
                <a:lnTo>
                  <a:pt x="416" y="257"/>
                </a:lnTo>
                <a:lnTo>
                  <a:pt x="395" y="229"/>
                </a:lnTo>
                <a:lnTo>
                  <a:pt x="374" y="202"/>
                </a:lnTo>
                <a:lnTo>
                  <a:pt x="353" y="175"/>
                </a:lnTo>
                <a:lnTo>
                  <a:pt x="330" y="152"/>
                </a:lnTo>
                <a:lnTo>
                  <a:pt x="305" y="129"/>
                </a:lnTo>
                <a:lnTo>
                  <a:pt x="280" y="108"/>
                </a:lnTo>
                <a:lnTo>
                  <a:pt x="255" y="89"/>
                </a:lnTo>
                <a:lnTo>
                  <a:pt x="228" y="69"/>
                </a:lnTo>
                <a:lnTo>
                  <a:pt x="201" y="54"/>
                </a:lnTo>
                <a:lnTo>
                  <a:pt x="174" y="41"/>
                </a:lnTo>
                <a:lnTo>
                  <a:pt x="147" y="29"/>
                </a:lnTo>
                <a:lnTo>
                  <a:pt x="118" y="19"/>
                </a:lnTo>
                <a:lnTo>
                  <a:pt x="90" y="10"/>
                </a:lnTo>
                <a:lnTo>
                  <a:pt x="59" y="6"/>
                </a:lnTo>
                <a:lnTo>
                  <a:pt x="30" y="2"/>
                </a:lnTo>
                <a:lnTo>
                  <a:pt x="0" y="0"/>
                </a:lnTo>
                <a:lnTo>
                  <a:pt x="0" y="12"/>
                </a:lnTo>
                <a:lnTo>
                  <a:pt x="28" y="14"/>
                </a:lnTo>
                <a:lnTo>
                  <a:pt x="57" y="18"/>
                </a:lnTo>
                <a:lnTo>
                  <a:pt x="86" y="23"/>
                </a:lnTo>
                <a:lnTo>
                  <a:pt x="115" y="31"/>
                </a:lnTo>
                <a:lnTo>
                  <a:pt x="141" y="41"/>
                </a:lnTo>
                <a:lnTo>
                  <a:pt x="170" y="52"/>
                </a:lnTo>
                <a:lnTo>
                  <a:pt x="195" y="65"/>
                </a:lnTo>
                <a:lnTo>
                  <a:pt x="222" y="81"/>
                </a:lnTo>
                <a:lnTo>
                  <a:pt x="247" y="98"/>
                </a:lnTo>
                <a:lnTo>
                  <a:pt x="272" y="117"/>
                </a:lnTo>
                <a:lnTo>
                  <a:pt x="297" y="136"/>
                </a:lnTo>
                <a:lnTo>
                  <a:pt x="320" y="160"/>
                </a:lnTo>
                <a:lnTo>
                  <a:pt x="343" y="184"/>
                </a:lnTo>
                <a:lnTo>
                  <a:pt x="364" y="209"/>
                </a:lnTo>
                <a:lnTo>
                  <a:pt x="385" y="236"/>
                </a:lnTo>
                <a:lnTo>
                  <a:pt x="406" y="265"/>
                </a:lnTo>
                <a:lnTo>
                  <a:pt x="425" y="296"/>
                </a:lnTo>
                <a:lnTo>
                  <a:pt x="443" y="326"/>
                </a:lnTo>
                <a:lnTo>
                  <a:pt x="460" y="359"/>
                </a:lnTo>
                <a:lnTo>
                  <a:pt x="477" y="392"/>
                </a:lnTo>
                <a:lnTo>
                  <a:pt x="491" y="428"/>
                </a:lnTo>
                <a:lnTo>
                  <a:pt x="506" y="465"/>
                </a:lnTo>
                <a:lnTo>
                  <a:pt x="518" y="501"/>
                </a:lnTo>
                <a:lnTo>
                  <a:pt x="531" y="539"/>
                </a:lnTo>
                <a:lnTo>
                  <a:pt x="541" y="578"/>
                </a:lnTo>
                <a:lnTo>
                  <a:pt x="550" y="618"/>
                </a:lnTo>
                <a:lnTo>
                  <a:pt x="558" y="660"/>
                </a:lnTo>
                <a:lnTo>
                  <a:pt x="564" y="701"/>
                </a:lnTo>
                <a:lnTo>
                  <a:pt x="569" y="743"/>
                </a:lnTo>
                <a:lnTo>
                  <a:pt x="573" y="787"/>
                </a:lnTo>
                <a:lnTo>
                  <a:pt x="575" y="831"/>
                </a:lnTo>
                <a:lnTo>
                  <a:pt x="575" y="875"/>
                </a:lnTo>
                <a:lnTo>
                  <a:pt x="589" y="87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Freeform 20"/>
          <p:cNvSpPr/>
          <p:nvPr/>
        </p:nvSpPr>
        <p:spPr>
          <a:xfrm>
            <a:off x="5275440" y="3251160"/>
            <a:ext cx="934920" cy="1389240"/>
          </a:xfrm>
          <a:custGeom>
            <a:avLst/>
            <a:gdLst>
              <a:gd name="textAreaLeft" fmla="*/ 0 w 934920"/>
              <a:gd name="textAreaRight" fmla="*/ 935280 w 934920"/>
              <a:gd name="textAreaTop" fmla="*/ 0 h 1389240"/>
              <a:gd name="textAreaBottom" fmla="*/ 1389240 h 1389240"/>
            </a:gdLst>
            <a:ahLst/>
            <a:rect l="textAreaLeft" t="textAreaTop" r="textAreaRight" b="textAreaBottom"/>
            <a:pathLst>
              <a:path w="589" h="875">
                <a:moveTo>
                  <a:pt x="0" y="875"/>
                </a:moveTo>
                <a:lnTo>
                  <a:pt x="30" y="873"/>
                </a:lnTo>
                <a:lnTo>
                  <a:pt x="59" y="869"/>
                </a:lnTo>
                <a:lnTo>
                  <a:pt x="90" y="864"/>
                </a:lnTo>
                <a:lnTo>
                  <a:pt x="118" y="856"/>
                </a:lnTo>
                <a:lnTo>
                  <a:pt x="147" y="846"/>
                </a:lnTo>
                <a:lnTo>
                  <a:pt x="174" y="835"/>
                </a:lnTo>
                <a:lnTo>
                  <a:pt x="201" y="821"/>
                </a:lnTo>
                <a:lnTo>
                  <a:pt x="228" y="804"/>
                </a:lnTo>
                <a:lnTo>
                  <a:pt x="255" y="787"/>
                </a:lnTo>
                <a:lnTo>
                  <a:pt x="280" y="768"/>
                </a:lnTo>
                <a:lnTo>
                  <a:pt x="305" y="747"/>
                </a:lnTo>
                <a:lnTo>
                  <a:pt x="330" y="724"/>
                </a:lnTo>
                <a:lnTo>
                  <a:pt x="353" y="699"/>
                </a:lnTo>
                <a:lnTo>
                  <a:pt x="374" y="674"/>
                </a:lnTo>
                <a:lnTo>
                  <a:pt x="395" y="645"/>
                </a:lnTo>
                <a:lnTo>
                  <a:pt x="416" y="616"/>
                </a:lnTo>
                <a:lnTo>
                  <a:pt x="435" y="587"/>
                </a:lnTo>
                <a:lnTo>
                  <a:pt x="454" y="555"/>
                </a:lnTo>
                <a:lnTo>
                  <a:pt x="472" y="522"/>
                </a:lnTo>
                <a:lnTo>
                  <a:pt x="487" y="488"/>
                </a:lnTo>
                <a:lnTo>
                  <a:pt x="502" y="451"/>
                </a:lnTo>
                <a:lnTo>
                  <a:pt x="518" y="415"/>
                </a:lnTo>
                <a:lnTo>
                  <a:pt x="529" y="378"/>
                </a:lnTo>
                <a:lnTo>
                  <a:pt x="543" y="340"/>
                </a:lnTo>
                <a:lnTo>
                  <a:pt x="552" y="299"/>
                </a:lnTo>
                <a:lnTo>
                  <a:pt x="562" y="259"/>
                </a:lnTo>
                <a:lnTo>
                  <a:pt x="569" y="217"/>
                </a:lnTo>
                <a:lnTo>
                  <a:pt x="575" y="175"/>
                </a:lnTo>
                <a:lnTo>
                  <a:pt x="581" y="133"/>
                </a:lnTo>
                <a:lnTo>
                  <a:pt x="585" y="88"/>
                </a:lnTo>
                <a:lnTo>
                  <a:pt x="587" y="44"/>
                </a:lnTo>
                <a:lnTo>
                  <a:pt x="589" y="0"/>
                </a:lnTo>
                <a:lnTo>
                  <a:pt x="575" y="0"/>
                </a:lnTo>
                <a:lnTo>
                  <a:pt x="575" y="44"/>
                </a:lnTo>
                <a:lnTo>
                  <a:pt x="573" y="88"/>
                </a:lnTo>
                <a:lnTo>
                  <a:pt x="569" y="131"/>
                </a:lnTo>
                <a:lnTo>
                  <a:pt x="564" y="173"/>
                </a:lnTo>
                <a:lnTo>
                  <a:pt x="558" y="215"/>
                </a:lnTo>
                <a:lnTo>
                  <a:pt x="550" y="257"/>
                </a:lnTo>
                <a:lnTo>
                  <a:pt x="541" y="296"/>
                </a:lnTo>
                <a:lnTo>
                  <a:pt x="531" y="336"/>
                </a:lnTo>
                <a:lnTo>
                  <a:pt x="518" y="374"/>
                </a:lnTo>
                <a:lnTo>
                  <a:pt x="506" y="411"/>
                </a:lnTo>
                <a:lnTo>
                  <a:pt x="491" y="447"/>
                </a:lnTo>
                <a:lnTo>
                  <a:pt x="477" y="482"/>
                </a:lnTo>
                <a:lnTo>
                  <a:pt x="460" y="516"/>
                </a:lnTo>
                <a:lnTo>
                  <a:pt x="443" y="549"/>
                </a:lnTo>
                <a:lnTo>
                  <a:pt x="425" y="580"/>
                </a:lnTo>
                <a:lnTo>
                  <a:pt x="406" y="610"/>
                </a:lnTo>
                <a:lnTo>
                  <a:pt x="385" y="639"/>
                </a:lnTo>
                <a:lnTo>
                  <a:pt x="364" y="666"/>
                </a:lnTo>
                <a:lnTo>
                  <a:pt x="343" y="691"/>
                </a:lnTo>
                <a:lnTo>
                  <a:pt x="320" y="716"/>
                </a:lnTo>
                <a:lnTo>
                  <a:pt x="297" y="737"/>
                </a:lnTo>
                <a:lnTo>
                  <a:pt x="272" y="758"/>
                </a:lnTo>
                <a:lnTo>
                  <a:pt x="247" y="777"/>
                </a:lnTo>
                <a:lnTo>
                  <a:pt x="222" y="795"/>
                </a:lnTo>
                <a:lnTo>
                  <a:pt x="195" y="810"/>
                </a:lnTo>
                <a:lnTo>
                  <a:pt x="170" y="823"/>
                </a:lnTo>
                <a:lnTo>
                  <a:pt x="141" y="835"/>
                </a:lnTo>
                <a:lnTo>
                  <a:pt x="115" y="844"/>
                </a:lnTo>
                <a:lnTo>
                  <a:pt x="86" y="852"/>
                </a:lnTo>
                <a:lnTo>
                  <a:pt x="57" y="858"/>
                </a:lnTo>
                <a:lnTo>
                  <a:pt x="28" y="862"/>
                </a:lnTo>
                <a:lnTo>
                  <a:pt x="0" y="862"/>
                </a:lnTo>
                <a:lnTo>
                  <a:pt x="0" y="87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Freeform 21"/>
          <p:cNvSpPr/>
          <p:nvPr/>
        </p:nvSpPr>
        <p:spPr>
          <a:xfrm>
            <a:off x="4338720" y="3251160"/>
            <a:ext cx="936720" cy="1389240"/>
          </a:xfrm>
          <a:custGeom>
            <a:avLst/>
            <a:gdLst>
              <a:gd name="textAreaLeft" fmla="*/ 0 w 936720"/>
              <a:gd name="textAreaRight" fmla="*/ 937080 w 936720"/>
              <a:gd name="textAreaTop" fmla="*/ 0 h 1389240"/>
              <a:gd name="textAreaBottom" fmla="*/ 1389240 h 1389240"/>
            </a:gdLst>
            <a:ahLst/>
            <a:rect l="textAreaLeft" t="textAreaTop" r="textAreaRight" b="textAreaBottom"/>
            <a:pathLst>
              <a:path w="590" h="875">
                <a:moveTo>
                  <a:pt x="0" y="0"/>
                </a:moveTo>
                <a:lnTo>
                  <a:pt x="0" y="44"/>
                </a:lnTo>
                <a:lnTo>
                  <a:pt x="2" y="88"/>
                </a:lnTo>
                <a:lnTo>
                  <a:pt x="6" y="133"/>
                </a:lnTo>
                <a:lnTo>
                  <a:pt x="12" y="175"/>
                </a:lnTo>
                <a:lnTo>
                  <a:pt x="18" y="217"/>
                </a:lnTo>
                <a:lnTo>
                  <a:pt x="27" y="259"/>
                </a:lnTo>
                <a:lnTo>
                  <a:pt x="35" y="299"/>
                </a:lnTo>
                <a:lnTo>
                  <a:pt x="46" y="340"/>
                </a:lnTo>
                <a:lnTo>
                  <a:pt x="58" y="378"/>
                </a:lnTo>
                <a:lnTo>
                  <a:pt x="71" y="415"/>
                </a:lnTo>
                <a:lnTo>
                  <a:pt x="85" y="451"/>
                </a:lnTo>
                <a:lnTo>
                  <a:pt x="100" y="488"/>
                </a:lnTo>
                <a:lnTo>
                  <a:pt x="117" y="522"/>
                </a:lnTo>
                <a:lnTo>
                  <a:pt x="135" y="555"/>
                </a:lnTo>
                <a:lnTo>
                  <a:pt x="152" y="587"/>
                </a:lnTo>
                <a:lnTo>
                  <a:pt x="173" y="616"/>
                </a:lnTo>
                <a:lnTo>
                  <a:pt x="192" y="645"/>
                </a:lnTo>
                <a:lnTo>
                  <a:pt x="213" y="674"/>
                </a:lnTo>
                <a:lnTo>
                  <a:pt x="236" y="699"/>
                </a:lnTo>
                <a:lnTo>
                  <a:pt x="259" y="724"/>
                </a:lnTo>
                <a:lnTo>
                  <a:pt x="282" y="747"/>
                </a:lnTo>
                <a:lnTo>
                  <a:pt x="307" y="768"/>
                </a:lnTo>
                <a:lnTo>
                  <a:pt x="332" y="787"/>
                </a:lnTo>
                <a:lnTo>
                  <a:pt x="359" y="804"/>
                </a:lnTo>
                <a:lnTo>
                  <a:pt x="386" y="821"/>
                </a:lnTo>
                <a:lnTo>
                  <a:pt x="413" y="835"/>
                </a:lnTo>
                <a:lnTo>
                  <a:pt x="442" y="846"/>
                </a:lnTo>
                <a:lnTo>
                  <a:pt x="471" y="856"/>
                </a:lnTo>
                <a:lnTo>
                  <a:pt x="499" y="864"/>
                </a:lnTo>
                <a:lnTo>
                  <a:pt x="528" y="869"/>
                </a:lnTo>
                <a:lnTo>
                  <a:pt x="559" y="873"/>
                </a:lnTo>
                <a:lnTo>
                  <a:pt x="590" y="875"/>
                </a:lnTo>
                <a:lnTo>
                  <a:pt x="590" y="862"/>
                </a:lnTo>
                <a:lnTo>
                  <a:pt x="559" y="862"/>
                </a:lnTo>
                <a:lnTo>
                  <a:pt x="530" y="858"/>
                </a:lnTo>
                <a:lnTo>
                  <a:pt x="501" y="852"/>
                </a:lnTo>
                <a:lnTo>
                  <a:pt x="474" y="844"/>
                </a:lnTo>
                <a:lnTo>
                  <a:pt x="446" y="835"/>
                </a:lnTo>
                <a:lnTo>
                  <a:pt x="419" y="823"/>
                </a:lnTo>
                <a:lnTo>
                  <a:pt x="392" y="810"/>
                </a:lnTo>
                <a:lnTo>
                  <a:pt x="365" y="795"/>
                </a:lnTo>
                <a:lnTo>
                  <a:pt x="340" y="777"/>
                </a:lnTo>
                <a:lnTo>
                  <a:pt x="315" y="758"/>
                </a:lnTo>
                <a:lnTo>
                  <a:pt x="292" y="737"/>
                </a:lnTo>
                <a:lnTo>
                  <a:pt x="267" y="716"/>
                </a:lnTo>
                <a:lnTo>
                  <a:pt x="246" y="691"/>
                </a:lnTo>
                <a:lnTo>
                  <a:pt x="223" y="666"/>
                </a:lnTo>
                <a:lnTo>
                  <a:pt x="202" y="639"/>
                </a:lnTo>
                <a:lnTo>
                  <a:pt x="183" y="610"/>
                </a:lnTo>
                <a:lnTo>
                  <a:pt x="164" y="580"/>
                </a:lnTo>
                <a:lnTo>
                  <a:pt x="144" y="549"/>
                </a:lnTo>
                <a:lnTo>
                  <a:pt x="127" y="516"/>
                </a:lnTo>
                <a:lnTo>
                  <a:pt x="112" y="482"/>
                </a:lnTo>
                <a:lnTo>
                  <a:pt x="96" y="447"/>
                </a:lnTo>
                <a:lnTo>
                  <a:pt x="83" y="411"/>
                </a:lnTo>
                <a:lnTo>
                  <a:pt x="69" y="374"/>
                </a:lnTo>
                <a:lnTo>
                  <a:pt x="58" y="336"/>
                </a:lnTo>
                <a:lnTo>
                  <a:pt x="48" y="296"/>
                </a:lnTo>
                <a:lnTo>
                  <a:pt x="39" y="257"/>
                </a:lnTo>
                <a:lnTo>
                  <a:pt x="31" y="215"/>
                </a:lnTo>
                <a:lnTo>
                  <a:pt x="23" y="173"/>
                </a:lnTo>
                <a:lnTo>
                  <a:pt x="20" y="131"/>
                </a:lnTo>
                <a:lnTo>
                  <a:pt x="16" y="88"/>
                </a:lnTo>
                <a:lnTo>
                  <a:pt x="14" y="44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Freeform 22"/>
          <p:cNvSpPr/>
          <p:nvPr/>
        </p:nvSpPr>
        <p:spPr>
          <a:xfrm>
            <a:off x="4338720" y="1862280"/>
            <a:ext cx="936720" cy="1388880"/>
          </a:xfrm>
          <a:custGeom>
            <a:avLst/>
            <a:gdLst>
              <a:gd name="textAreaLeft" fmla="*/ 0 w 936720"/>
              <a:gd name="textAreaRight" fmla="*/ 937080 w 936720"/>
              <a:gd name="textAreaTop" fmla="*/ 0 h 1388880"/>
              <a:gd name="textAreaBottom" fmla="*/ 1389240 h 1388880"/>
            </a:gdLst>
            <a:ahLst/>
            <a:rect l="textAreaLeft" t="textAreaTop" r="textAreaRight" b="textAreaBottom"/>
            <a:pathLst>
              <a:path w="590" h="875">
                <a:moveTo>
                  <a:pt x="590" y="0"/>
                </a:moveTo>
                <a:lnTo>
                  <a:pt x="559" y="2"/>
                </a:lnTo>
                <a:lnTo>
                  <a:pt x="528" y="6"/>
                </a:lnTo>
                <a:lnTo>
                  <a:pt x="499" y="10"/>
                </a:lnTo>
                <a:lnTo>
                  <a:pt x="471" y="19"/>
                </a:lnTo>
                <a:lnTo>
                  <a:pt x="442" y="29"/>
                </a:lnTo>
                <a:lnTo>
                  <a:pt x="413" y="41"/>
                </a:lnTo>
                <a:lnTo>
                  <a:pt x="386" y="54"/>
                </a:lnTo>
                <a:lnTo>
                  <a:pt x="359" y="69"/>
                </a:lnTo>
                <a:lnTo>
                  <a:pt x="332" y="89"/>
                </a:lnTo>
                <a:lnTo>
                  <a:pt x="307" y="108"/>
                </a:lnTo>
                <a:lnTo>
                  <a:pt x="282" y="129"/>
                </a:lnTo>
                <a:lnTo>
                  <a:pt x="259" y="152"/>
                </a:lnTo>
                <a:lnTo>
                  <a:pt x="236" y="175"/>
                </a:lnTo>
                <a:lnTo>
                  <a:pt x="213" y="202"/>
                </a:lnTo>
                <a:lnTo>
                  <a:pt x="192" y="229"/>
                </a:lnTo>
                <a:lnTo>
                  <a:pt x="173" y="257"/>
                </a:lnTo>
                <a:lnTo>
                  <a:pt x="152" y="288"/>
                </a:lnTo>
                <a:lnTo>
                  <a:pt x="135" y="321"/>
                </a:lnTo>
                <a:lnTo>
                  <a:pt x="117" y="353"/>
                </a:lnTo>
                <a:lnTo>
                  <a:pt x="100" y="388"/>
                </a:lnTo>
                <a:lnTo>
                  <a:pt x="85" y="422"/>
                </a:lnTo>
                <a:lnTo>
                  <a:pt x="71" y="459"/>
                </a:lnTo>
                <a:lnTo>
                  <a:pt x="58" y="497"/>
                </a:lnTo>
                <a:lnTo>
                  <a:pt x="46" y="536"/>
                </a:lnTo>
                <a:lnTo>
                  <a:pt x="35" y="576"/>
                </a:lnTo>
                <a:lnTo>
                  <a:pt x="27" y="616"/>
                </a:lnTo>
                <a:lnTo>
                  <a:pt x="18" y="656"/>
                </a:lnTo>
                <a:lnTo>
                  <a:pt x="12" y="699"/>
                </a:lnTo>
                <a:lnTo>
                  <a:pt x="6" y="743"/>
                </a:lnTo>
                <a:lnTo>
                  <a:pt x="2" y="787"/>
                </a:lnTo>
                <a:lnTo>
                  <a:pt x="0" y="831"/>
                </a:lnTo>
                <a:lnTo>
                  <a:pt x="0" y="875"/>
                </a:lnTo>
                <a:lnTo>
                  <a:pt x="12" y="875"/>
                </a:lnTo>
                <a:lnTo>
                  <a:pt x="14" y="831"/>
                </a:lnTo>
                <a:lnTo>
                  <a:pt x="16" y="787"/>
                </a:lnTo>
                <a:lnTo>
                  <a:pt x="20" y="743"/>
                </a:lnTo>
                <a:lnTo>
                  <a:pt x="23" y="701"/>
                </a:lnTo>
                <a:lnTo>
                  <a:pt x="31" y="660"/>
                </a:lnTo>
                <a:lnTo>
                  <a:pt x="39" y="618"/>
                </a:lnTo>
                <a:lnTo>
                  <a:pt x="48" y="578"/>
                </a:lnTo>
                <a:lnTo>
                  <a:pt x="58" y="539"/>
                </a:lnTo>
                <a:lnTo>
                  <a:pt x="69" y="501"/>
                </a:lnTo>
                <a:lnTo>
                  <a:pt x="83" y="465"/>
                </a:lnTo>
                <a:lnTo>
                  <a:pt x="96" y="428"/>
                </a:lnTo>
                <a:lnTo>
                  <a:pt x="112" y="392"/>
                </a:lnTo>
                <a:lnTo>
                  <a:pt x="127" y="359"/>
                </a:lnTo>
                <a:lnTo>
                  <a:pt x="144" y="326"/>
                </a:lnTo>
                <a:lnTo>
                  <a:pt x="164" y="296"/>
                </a:lnTo>
                <a:lnTo>
                  <a:pt x="183" y="265"/>
                </a:lnTo>
                <a:lnTo>
                  <a:pt x="202" y="236"/>
                </a:lnTo>
                <a:lnTo>
                  <a:pt x="223" y="209"/>
                </a:lnTo>
                <a:lnTo>
                  <a:pt x="246" y="184"/>
                </a:lnTo>
                <a:lnTo>
                  <a:pt x="267" y="160"/>
                </a:lnTo>
                <a:lnTo>
                  <a:pt x="292" y="136"/>
                </a:lnTo>
                <a:lnTo>
                  <a:pt x="315" y="117"/>
                </a:lnTo>
                <a:lnTo>
                  <a:pt x="340" y="98"/>
                </a:lnTo>
                <a:lnTo>
                  <a:pt x="365" y="81"/>
                </a:lnTo>
                <a:lnTo>
                  <a:pt x="392" y="65"/>
                </a:lnTo>
                <a:lnTo>
                  <a:pt x="419" y="52"/>
                </a:lnTo>
                <a:lnTo>
                  <a:pt x="446" y="41"/>
                </a:lnTo>
                <a:lnTo>
                  <a:pt x="474" y="31"/>
                </a:lnTo>
                <a:lnTo>
                  <a:pt x="501" y="23"/>
                </a:lnTo>
                <a:lnTo>
                  <a:pt x="530" y="18"/>
                </a:lnTo>
                <a:lnTo>
                  <a:pt x="559" y="14"/>
                </a:lnTo>
                <a:lnTo>
                  <a:pt x="590" y="12"/>
                </a:lnTo>
                <a:lnTo>
                  <a:pt x="59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Freeform 23"/>
          <p:cNvSpPr/>
          <p:nvPr/>
        </p:nvSpPr>
        <p:spPr>
          <a:xfrm>
            <a:off x="6654960" y="2136600"/>
            <a:ext cx="706320" cy="878040"/>
          </a:xfrm>
          <a:custGeom>
            <a:avLst/>
            <a:gdLst>
              <a:gd name="textAreaLeft" fmla="*/ 0 w 706320"/>
              <a:gd name="textAreaRight" fmla="*/ 706320 w 706320"/>
              <a:gd name="textAreaTop" fmla="*/ 0 h 878040"/>
              <a:gd name="textAreaBottom" fmla="*/ 878400 h 878040"/>
            </a:gdLst>
            <a:ahLst/>
            <a:rect l="textAreaLeft" t="textAreaTop" r="textAreaRight" b="textAreaBottom"/>
            <a:pathLst>
              <a:path w="445" h="553">
                <a:moveTo>
                  <a:pt x="7" y="547"/>
                </a:moveTo>
                <a:lnTo>
                  <a:pt x="13" y="553"/>
                </a:lnTo>
                <a:lnTo>
                  <a:pt x="445" y="10"/>
                </a:lnTo>
                <a:lnTo>
                  <a:pt x="432" y="0"/>
                </a:lnTo>
                <a:lnTo>
                  <a:pt x="0" y="543"/>
                </a:lnTo>
                <a:lnTo>
                  <a:pt x="7" y="547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Freeform 24"/>
          <p:cNvSpPr/>
          <p:nvPr/>
        </p:nvSpPr>
        <p:spPr>
          <a:xfrm>
            <a:off x="6566040" y="2901960"/>
            <a:ext cx="215640" cy="227160"/>
          </a:xfrm>
          <a:custGeom>
            <a:avLst/>
            <a:gdLst>
              <a:gd name="textAreaLeft" fmla="*/ 0 w 215640"/>
              <a:gd name="textAreaRight" fmla="*/ 216000 w 215640"/>
              <a:gd name="textAreaTop" fmla="*/ 0 h 227160"/>
              <a:gd name="textAreaBottom" fmla="*/ 227160 h 227160"/>
            </a:gdLst>
            <a:ahLst/>
            <a:rect l="textAreaLeft" t="textAreaTop" r="textAreaRight" b="textAreaBottom"/>
            <a:pathLst>
              <a:path w="136" h="143">
                <a:moveTo>
                  <a:pt x="0" y="143"/>
                </a:moveTo>
                <a:lnTo>
                  <a:pt x="136" y="92"/>
                </a:lnTo>
                <a:lnTo>
                  <a:pt x="19" y="0"/>
                </a:lnTo>
                <a:lnTo>
                  <a:pt x="0" y="143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Freeform 25"/>
          <p:cNvSpPr/>
          <p:nvPr/>
        </p:nvSpPr>
        <p:spPr>
          <a:xfrm>
            <a:off x="7324560" y="2757600"/>
            <a:ext cx="319320" cy="380880"/>
          </a:xfrm>
          <a:custGeom>
            <a:avLst/>
            <a:gdLst>
              <a:gd name="textAreaLeft" fmla="*/ 0 w 319320"/>
              <a:gd name="textAreaRight" fmla="*/ 319680 w 3193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01" h="240">
                <a:moveTo>
                  <a:pt x="6" y="234"/>
                </a:moveTo>
                <a:lnTo>
                  <a:pt x="11" y="240"/>
                </a:lnTo>
                <a:lnTo>
                  <a:pt x="201" y="10"/>
                </a:lnTo>
                <a:lnTo>
                  <a:pt x="190" y="0"/>
                </a:lnTo>
                <a:lnTo>
                  <a:pt x="0" y="229"/>
                </a:lnTo>
                <a:lnTo>
                  <a:pt x="6" y="234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Freeform 26"/>
          <p:cNvSpPr/>
          <p:nvPr/>
        </p:nvSpPr>
        <p:spPr>
          <a:xfrm>
            <a:off x="7229520" y="3022560"/>
            <a:ext cx="220680" cy="228600"/>
          </a:xfrm>
          <a:custGeom>
            <a:avLst/>
            <a:gdLst>
              <a:gd name="textAreaLeft" fmla="*/ 0 w 220680"/>
              <a:gd name="textAreaRight" fmla="*/ 221040 w 2206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39" h="144">
                <a:moveTo>
                  <a:pt x="2" y="144"/>
                </a:moveTo>
                <a:lnTo>
                  <a:pt x="0" y="144"/>
                </a:lnTo>
                <a:lnTo>
                  <a:pt x="139" y="96"/>
                </a:lnTo>
                <a:lnTo>
                  <a:pt x="23" y="0"/>
                </a:lnTo>
                <a:lnTo>
                  <a:pt x="0" y="144"/>
                </a:lnTo>
                <a:lnTo>
                  <a:pt x="2" y="144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Freeform 27"/>
          <p:cNvSpPr/>
          <p:nvPr/>
        </p:nvSpPr>
        <p:spPr>
          <a:xfrm>
            <a:off x="5389560" y="988920"/>
            <a:ext cx="463680" cy="557280"/>
          </a:xfrm>
          <a:custGeom>
            <a:avLst/>
            <a:gdLst>
              <a:gd name="textAreaLeft" fmla="*/ 0 w 463680"/>
              <a:gd name="textAreaRight" fmla="*/ 464040 w 463680"/>
              <a:gd name="textAreaTop" fmla="*/ 0 h 557280"/>
              <a:gd name="textAreaBottom" fmla="*/ 557640 h 557280"/>
            </a:gdLst>
            <a:ahLst/>
            <a:rect l="textAreaLeft" t="textAreaTop" r="textAreaRight" b="textAreaBottom"/>
            <a:pathLst>
              <a:path w="292" h="351">
                <a:moveTo>
                  <a:pt x="6" y="345"/>
                </a:moveTo>
                <a:lnTo>
                  <a:pt x="12" y="351"/>
                </a:lnTo>
                <a:lnTo>
                  <a:pt x="292" y="9"/>
                </a:lnTo>
                <a:lnTo>
                  <a:pt x="279" y="0"/>
                </a:lnTo>
                <a:lnTo>
                  <a:pt x="0" y="341"/>
                </a:lnTo>
                <a:lnTo>
                  <a:pt x="6" y="34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Freeform 28"/>
          <p:cNvSpPr/>
          <p:nvPr/>
        </p:nvSpPr>
        <p:spPr>
          <a:xfrm>
            <a:off x="5299200" y="1430280"/>
            <a:ext cx="215640" cy="231840"/>
          </a:xfrm>
          <a:custGeom>
            <a:avLst/>
            <a:gdLst>
              <a:gd name="textAreaLeft" fmla="*/ 0 w 215640"/>
              <a:gd name="textAreaRight" fmla="*/ 216000 w 21564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136" h="146">
                <a:moveTo>
                  <a:pt x="0" y="146"/>
                </a:moveTo>
                <a:lnTo>
                  <a:pt x="0" y="144"/>
                </a:lnTo>
                <a:lnTo>
                  <a:pt x="136" y="96"/>
                </a:lnTo>
                <a:lnTo>
                  <a:pt x="21" y="0"/>
                </a:lnTo>
                <a:lnTo>
                  <a:pt x="0" y="144"/>
                </a:lnTo>
                <a:lnTo>
                  <a:pt x="0" y="14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Freeform 29"/>
          <p:cNvSpPr/>
          <p:nvPr/>
        </p:nvSpPr>
        <p:spPr>
          <a:xfrm>
            <a:off x="5240160" y="992160"/>
            <a:ext cx="28800" cy="285840"/>
          </a:xfrm>
          <a:custGeom>
            <a:avLst/>
            <a:gdLst>
              <a:gd name="textAreaLeft" fmla="*/ 0 w 28800"/>
              <a:gd name="textAreaRight" fmla="*/ 29160 w 2880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18" h="180">
                <a:moveTo>
                  <a:pt x="8" y="180"/>
                </a:moveTo>
                <a:lnTo>
                  <a:pt x="18" y="180"/>
                </a:lnTo>
                <a:lnTo>
                  <a:pt x="18" y="0"/>
                </a:lnTo>
                <a:lnTo>
                  <a:pt x="0" y="0"/>
                </a:lnTo>
                <a:lnTo>
                  <a:pt x="0" y="180"/>
                </a:lnTo>
                <a:lnTo>
                  <a:pt x="8" y="18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Freeform 30"/>
          <p:cNvSpPr/>
          <p:nvPr/>
        </p:nvSpPr>
        <p:spPr>
          <a:xfrm>
            <a:off x="5133960" y="1238400"/>
            <a:ext cx="238320" cy="198360"/>
          </a:xfrm>
          <a:custGeom>
            <a:avLst/>
            <a:gdLst>
              <a:gd name="textAreaLeft" fmla="*/ 0 w 238320"/>
              <a:gd name="textAreaRight" fmla="*/ 238680 w 23832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150" h="125">
                <a:moveTo>
                  <a:pt x="75" y="125"/>
                </a:moveTo>
                <a:lnTo>
                  <a:pt x="150" y="0"/>
                </a:lnTo>
                <a:lnTo>
                  <a:pt x="0" y="0"/>
                </a:lnTo>
                <a:lnTo>
                  <a:pt x="75" y="12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Freeform 31"/>
          <p:cNvSpPr/>
          <p:nvPr/>
        </p:nvSpPr>
        <p:spPr>
          <a:xfrm>
            <a:off x="2905200" y="3224160"/>
            <a:ext cx="681120" cy="23760"/>
          </a:xfrm>
          <a:custGeom>
            <a:avLst/>
            <a:gdLst>
              <a:gd name="textAreaLeft" fmla="*/ 0 w 681120"/>
              <a:gd name="textAreaRight" fmla="*/ 681480 w 68112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429" h="15">
                <a:moveTo>
                  <a:pt x="429" y="8"/>
                </a:moveTo>
                <a:lnTo>
                  <a:pt x="429" y="0"/>
                </a:lnTo>
                <a:lnTo>
                  <a:pt x="0" y="0"/>
                </a:lnTo>
                <a:lnTo>
                  <a:pt x="0" y="15"/>
                </a:lnTo>
                <a:lnTo>
                  <a:pt x="429" y="15"/>
                </a:lnTo>
                <a:lnTo>
                  <a:pt x="429" y="8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Freeform 32"/>
          <p:cNvSpPr/>
          <p:nvPr/>
        </p:nvSpPr>
        <p:spPr>
          <a:xfrm>
            <a:off x="3546360" y="3117960"/>
            <a:ext cx="201600" cy="236520"/>
          </a:xfrm>
          <a:custGeom>
            <a:avLst/>
            <a:gdLst>
              <a:gd name="textAreaLeft" fmla="*/ 0 w 201600"/>
              <a:gd name="textAreaRight" fmla="*/ 201960 w 20160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7" h="149">
                <a:moveTo>
                  <a:pt x="127" y="75"/>
                </a:moveTo>
                <a:lnTo>
                  <a:pt x="0" y="0"/>
                </a:lnTo>
                <a:lnTo>
                  <a:pt x="0" y="149"/>
                </a:lnTo>
                <a:lnTo>
                  <a:pt x="127" y="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Freeform 33"/>
          <p:cNvSpPr/>
          <p:nvPr/>
        </p:nvSpPr>
        <p:spPr>
          <a:xfrm>
            <a:off x="5286240" y="4998960"/>
            <a:ext cx="25560" cy="490680"/>
          </a:xfrm>
          <a:custGeom>
            <a:avLst/>
            <a:gdLst>
              <a:gd name="textAreaLeft" fmla="*/ 0 w 25560"/>
              <a:gd name="textAreaRight" fmla="*/ 25920 w 25560"/>
              <a:gd name="textAreaTop" fmla="*/ 0 h 490680"/>
              <a:gd name="textAreaBottom" fmla="*/ 491040 h 490680"/>
            </a:gdLst>
            <a:ahLst/>
            <a:rect l="textAreaLeft" t="textAreaTop" r="textAreaRight" b="textAreaBottom"/>
            <a:pathLst>
              <a:path w="16" h="309">
                <a:moveTo>
                  <a:pt x="8" y="0"/>
                </a:moveTo>
                <a:lnTo>
                  <a:pt x="0" y="0"/>
                </a:lnTo>
                <a:lnTo>
                  <a:pt x="0" y="309"/>
                </a:lnTo>
                <a:lnTo>
                  <a:pt x="16" y="309"/>
                </a:lnTo>
                <a:lnTo>
                  <a:pt x="16" y="0"/>
                </a:lnTo>
                <a:lnTo>
                  <a:pt x="8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Freeform 34"/>
          <p:cNvSpPr/>
          <p:nvPr/>
        </p:nvSpPr>
        <p:spPr>
          <a:xfrm>
            <a:off x="5180040" y="4842000"/>
            <a:ext cx="241200" cy="196560"/>
          </a:xfrm>
          <a:custGeom>
            <a:avLst/>
            <a:gdLst>
              <a:gd name="textAreaLeft" fmla="*/ 0 w 241200"/>
              <a:gd name="textAreaRight" fmla="*/ 241560 w 241200"/>
              <a:gd name="textAreaTop" fmla="*/ 0 h 196560"/>
              <a:gd name="textAreaBottom" fmla="*/ 196920 h 196560"/>
            </a:gdLst>
            <a:ahLst/>
            <a:rect l="textAreaLeft" t="textAreaTop" r="textAreaRight" b="textAreaBottom"/>
            <a:pathLst>
              <a:path w="152" h="124">
                <a:moveTo>
                  <a:pt x="75" y="0"/>
                </a:moveTo>
                <a:lnTo>
                  <a:pt x="0" y="124"/>
                </a:lnTo>
                <a:lnTo>
                  <a:pt x="152" y="124"/>
                </a:lnTo>
                <a:lnTo>
                  <a:pt x="75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Text Box 35"/>
          <p:cNvSpPr/>
          <p:nvPr/>
        </p:nvSpPr>
        <p:spPr>
          <a:xfrm>
            <a:off x="4880880" y="584280"/>
            <a:ext cx="750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.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Text Box 36"/>
          <p:cNvSpPr/>
          <p:nvPr/>
        </p:nvSpPr>
        <p:spPr>
          <a:xfrm>
            <a:off x="5792760" y="584280"/>
            <a:ext cx="6429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8.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Text Box 37"/>
          <p:cNvSpPr/>
          <p:nvPr/>
        </p:nvSpPr>
        <p:spPr>
          <a:xfrm>
            <a:off x="7337520" y="1854360"/>
            <a:ext cx="6429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9.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Text Box 38"/>
          <p:cNvSpPr/>
          <p:nvPr/>
        </p:nvSpPr>
        <p:spPr>
          <a:xfrm>
            <a:off x="7467480" y="2503440"/>
            <a:ext cx="10321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.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Text Box 39"/>
          <p:cNvSpPr/>
          <p:nvPr/>
        </p:nvSpPr>
        <p:spPr>
          <a:xfrm>
            <a:off x="2603520" y="5533920"/>
            <a:ext cx="51609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urva secundária e periférica mais cur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Text Box 40"/>
          <p:cNvSpPr/>
          <p:nvPr/>
        </p:nvSpPr>
        <p:spPr>
          <a:xfrm>
            <a:off x="1044720" y="2733840"/>
            <a:ext cx="237312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urva secundária e periférica mais pla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856800" y="-360"/>
            <a:ext cx="8744040" cy="7239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TÓRICA PERIFÉRICA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1615680" y="852480"/>
            <a:ext cx="7504200" cy="5291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Útil par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ricidade corneal baixa a moder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órneas com maior toricidade periférica que centra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lhor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99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ntralização da l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99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bilidade da l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99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imento da l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99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oca lacrim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712440" y="-360"/>
            <a:ext cx="8744040" cy="709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TÓRICA PERIFÉRICA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347400" y="666720"/>
            <a:ext cx="9753480" cy="4772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12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Necessita curvas periféricas amplas para estabilidad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2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 toricidade periférica da lente é 65 a 75% da toricidade central cornea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2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antém a toricidade através de cada uma de suas curvas periférica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2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roduz uma zona óptica posterior ova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2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xcessiva rotação pode causar dano epitelia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783720" y="0"/>
            <a:ext cx="8744040" cy="650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TÓRICA PERIFÉRICA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610920" y="1446120"/>
            <a:ext cx="8775720" cy="402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21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Fácil solução para um problem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imples de fabricar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eprodutibilidade relativ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8" name="Rectangle 8"/>
          <p:cNvSpPr/>
          <p:nvPr/>
        </p:nvSpPr>
        <p:spPr>
          <a:xfrm>
            <a:off x="727200" y="681120"/>
            <a:ext cx="8743680" cy="493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VANTAGEN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7680" y="417600"/>
            <a:ext cx="8167680" cy="379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LENTES TÓRICAS DE SUPERFÍCIE ANTERIOR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68080" y="1319040"/>
            <a:ext cx="8318520" cy="55389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21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risma de lastr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21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ircular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21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runcad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20680" y="415440"/>
            <a:ext cx="8167680" cy="422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TÓRICA DE SUPERFÍCIE ANTERIOR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9480" y="1100160"/>
            <a:ext cx="8488080" cy="3262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82000"/>
          </a:bodyPr>
          <a:p>
            <a:pPr marL="281160" indent="-281160" algn="just">
              <a:lnSpc>
                <a:spcPct val="14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xigido quando uma lente RGP esférica não corrige adequadamente a visão devido à presença de astigmatismo residual significant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 algn="just">
              <a:lnSpc>
                <a:spcPct val="14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 superfície anterior cilíndrica deve manter uma orientação meridional está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05T01:34:08Z</dcterms:created>
  <dc:creator>Bbro</dc:creator>
  <dc:description>Any questions, contact Graphics on x331</dc:description>
  <cp:keywords/>
  <dc:language>en-US</dc:language>
  <cp:lastModifiedBy>Siobhan</cp:lastModifiedBy>
  <cp:lastPrinted>1998-09-05T05:14:48Z</cp:lastPrinted>
  <dcterms:modified xsi:type="dcterms:W3CDTF">2013-02-20T03:00:48Z</dcterms:modified>
  <cp:revision>147</cp:revision>
  <dc:subject/>
  <dc:title>No Slide Title</dc:title>
</cp:coreProperties>
</file>