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288588" cy="6858000"/>
  <p:notesSz cx="6386513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386400" cy="98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619440" y="9000"/>
            <a:ext cx="2766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46EA-8D2A-4DA2-9625-0D0122500E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Img"/>
          </p:nvPr>
        </p:nvSpPr>
        <p:spPr>
          <a:xfrm>
            <a:off x="620280" y="858600"/>
            <a:ext cx="514692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4067-76F8-4DF4-B511-F727B67D6C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F0A7-AB06-43FF-B3F8-A393802FDE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4338-192C-4C7E-A1DA-012634EF2A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20FF-1895-43F9-ACD7-C7B05FA9D7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F237-C02F-4EB2-8A18-40790BA836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050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051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052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053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054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055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2056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057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85D6-3616-45F4-A8F9-0576FCE13D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7D02-396E-4F4F-AA3C-15B2A8405B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8C63-5ACB-4C1A-BA66-5EEC1759BB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3FCA-B602-456A-BFCD-CB329FA457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392-7DF9-410F-8A78-516209708B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F545-DB92-4C09-B661-266A978D2D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435D-637D-4906-937D-1C780FB98E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C938-E7FE-4229-B05D-311F0F058C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619440" y="9345600"/>
            <a:ext cx="2766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6999-FD93-42CE-AC25-549D22307D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61944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61944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93441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480"/>
            <a:ext cx="276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3618000" y="32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618000" y="9342360"/>
            <a:ext cx="27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-1440" y="9342360"/>
            <a:ext cx="27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-1440" y="3240"/>
            <a:ext cx="276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20640" y="858960"/>
            <a:ext cx="5146920" cy="3430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48880" y="4676760"/>
            <a:ext cx="46846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B50-3B3C-452D-8C2D-964DB5C3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61A-D8D0-4363-B335-021F03D0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1DA-2FA4-4D7F-9D62-82692840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464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70960" y="1765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32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464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70960" y="3915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7B7-84B8-4081-B495-2D7E0FE6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0C1-C6BD-4F6C-83E8-51272C6D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1D6-4D49-4411-A99F-E54AE0A7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7CC-AF1D-455D-B64C-0A939E18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3A8-3D63-42CF-99C9-DB668336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495000"/>
            <a:ext cx="874404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E5B-6621-4519-8A66-BCBB62D7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0E0-E612-4AAE-9348-53CA024C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39240" y="3915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275-D0B4-48ED-AE90-CADA75A3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32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39240" y="1765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320" y="3915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841-2833-4986-B2D9-296BFB24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3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581-11C4-4472-83DC-1663EE515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71120" y="495000"/>
            <a:ext cx="8744040" cy="8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58320" y="1765440"/>
            <a:ext cx="874404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358640" indent="-19872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1723320" indent="-19872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1723320" indent="-198720">
              <a:spcAft>
                <a:spcPts val="1276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339440" y="6261120"/>
            <a:ext cx="1798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96114-</a:t>
            </a:r>
            <a:fld id="{6BEAA045-5CA0-4B63-9088-81858C8DE8E3}" type="slidenum">
              <a:rPr b="0" lang="en-US" sz="1200" spc="-1" strike="noStrike">
                <a:solidFill>
                  <a:srgbClr val="e3be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e3beff"/>
                </a:solidFill>
                <a:latin typeface="Arial"/>
              </a:rPr>
              <a:t>S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IACLEBW"/>
          <p:cNvPicPr/>
          <p:nvPr/>
        </p:nvPicPr>
        <p:blipFill>
          <a:blip r:embed="rId2"/>
          <a:stretch/>
        </p:blipFill>
        <p:spPr>
          <a:xfrm>
            <a:off x="9288360" y="5862600"/>
            <a:ext cx="52704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826920" y="806400"/>
            <a:ext cx="8633160" cy="49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708200" y="2370240"/>
            <a:ext cx="6986520" cy="158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INTRODUÇÃO À ADAPTAÇÃO DE LENTES DE CONT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3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0" y="47160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ESTE DE ADAPTAÇÃO: SELEÇÃO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99960"/>
            <a:ext cx="6176880" cy="455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aio da zona óptica anterio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iâmetro tot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spessura centr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nteúdo de águ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843520" y="1287360"/>
            <a:ext cx="4443480" cy="4556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7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esenho da len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ipo da len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aterial da len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Aft>
                <a:spcPts val="123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oder do vértice posterio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13000" y="399600"/>
            <a:ext cx="75168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ESTE DE ADAPTAÇÃO: PROCEDIMENTO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35080"/>
            <a:ext cx="10287000" cy="475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leção da lente inici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ção da lente de teste e avaliação visu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leção subseqüente da lente de tes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390760" y="966600"/>
            <a:ext cx="6081840" cy="501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pecificaçõe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râmetros d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ipo e material d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igências especia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ata programada de entreg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138320" y="283680"/>
            <a:ext cx="835488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ESTE DE ADAPTAÇÃO: PEDIDO FINAL DA L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6280" y="371520"/>
            <a:ext cx="874404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DISPENSAÇÃO DAS LENTE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054080"/>
            <a:ext cx="10287000" cy="580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necer informação sobre regime de cuidado d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aticar técnicas de inserção e remoção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necer informação sobre adapt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necer informação dos sinais de complicaçõ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endar visitas de contro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050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51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5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05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7600" y="267840"/>
            <a:ext cx="874404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COMPANHAMENT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858600"/>
            <a:ext cx="9364680" cy="570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vestigue as reclamaçõ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alize um exame geral ocula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bre-ref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iomicroscopia com lâmpada de fen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276"/>
              </a:spcAft>
              <a:buClr>
                <a:srgbClr val="e3be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utros exames particulares para o paci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valiar adaptação da l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ver o regime de cuidado d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endar visitas de control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26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27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28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29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" y="105840"/>
            <a:ext cx="9369360" cy="66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DAPTAÇÃO DE LENTES DE CONTATO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4720" y="1403280"/>
            <a:ext cx="8634240" cy="441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álise do paci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e e mediçõ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ção de lentes de tes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pensação d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companhamento e contro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Aft>
                <a:spcPts val="12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033"/>
          <p:cNvSpPr/>
          <p:nvPr/>
        </p:nvSpPr>
        <p:spPr>
          <a:xfrm>
            <a:off x="743040" y="770040"/>
            <a:ext cx="8744040" cy="6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PROTOCOL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720" y="149400"/>
            <a:ext cx="8744040" cy="6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O PACIENTE 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08040" y="1351080"/>
            <a:ext cx="7826400" cy="462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icar por que paciente deseja usar L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 paciente é indicado para usar LC 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ter informações bás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1125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onselhar paciente sobre suas opçõ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757080" y="770040"/>
            <a:ext cx="8744040" cy="6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BJETIV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4320" y="237600"/>
            <a:ext cx="9869400" cy="53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O PACIENT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9880" y="1030320"/>
            <a:ext cx="9777600" cy="547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ores a considerar na análise  do pa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tômico e fisi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ic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sidades pessoais e ocupacion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199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Aft>
                <a:spcPts val="1199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249120"/>
            <a:ext cx="9291600" cy="565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cfeb9"/>
                </a:solidFill>
                <a:latin typeface="Arial"/>
              </a:rPr>
              <a:t>HISTÓRIA</a:t>
            </a:r>
            <a:endParaRPr b="1" lang="en-US" sz="3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9200" y="985680"/>
            <a:ext cx="9595080" cy="4764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aúde ge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aúde oc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dic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istória oc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atores ocupacionais, recreativos, ambienta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337680"/>
            <a:ext cx="8744040" cy="94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VALIAÇÃO DO PACIENTE E RESULTADOS DO EXAME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8520" y="1848960"/>
            <a:ext cx="9001080" cy="4815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Aft>
                <a:spcPts val="12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conselhe o paciente sobr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veniência do us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sultados que podem ser esperados das len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080" y="220680"/>
            <a:ext cx="7272360" cy="120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EXAME E MEDIDAS PRELIMINARES</a:t>
            </a:r>
            <a:endParaRPr b="1" lang="en-US" sz="3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5240" y="1563480"/>
            <a:ext cx="9852120" cy="497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e com lâmpada de fenda do segmento 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didas das dimensões ocular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valiação lacrim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fração (óculo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1040" y="428760"/>
            <a:ext cx="8743680" cy="536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500" spc="-1" strike="noStrike">
                <a:solidFill>
                  <a:srgbClr val="fcfeb9"/>
                </a:solidFill>
                <a:latin typeface="Arial"/>
              </a:rPr>
              <a:t>TESTE DE ADAPTAÇÃO: ROTINA</a:t>
            </a:r>
            <a:endParaRPr b="1" lang="en-US" sz="35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5040" y="1863720"/>
            <a:ext cx="9298080" cy="3984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aptação diagnóstic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dido da lente fin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5200" y="188640"/>
            <a:ext cx="8743680" cy="73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cfeb9"/>
                </a:solidFill>
                <a:latin typeface="Arial"/>
              </a:rPr>
              <a:t>TESTE DE ADAPTAÇÃO: EXIGÊNCIAS</a:t>
            </a:r>
            <a:endParaRPr b="1" lang="en-US" sz="3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98440" y="1228320"/>
            <a:ext cx="8002800" cy="531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ntes de tes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luções de lentes de conta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âmpada de fen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luoresceinograf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1276"/>
              </a:spcAft>
              <a:buClr>
                <a:srgbClr val="e3be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scritu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5T01:34:08Z</dcterms:created>
  <dc:creator>Bbro</dc:creator>
  <dc:description>Any questions, contact Graphics on x331</dc:description>
  <cp:keywords/>
  <dc:language>en-US</dc:language>
  <cp:lastModifiedBy>Siobhan</cp:lastModifiedBy>
  <cp:lastPrinted>1998-09-05T05:14:48Z</cp:lastPrinted>
  <dcterms:modified xsi:type="dcterms:W3CDTF">2013-02-20T02:57:51Z</dcterms:modified>
  <cp:revision>59</cp:revision>
  <dc:subject/>
  <dc:title>No Slide Title</dc:title>
</cp:coreProperties>
</file>